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4ED-9304-4ABD-9005-BAD91BE1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7DF-6308-44B6-945D-1E3F5CC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BB7-9306-41A8-9C39-AD424BD7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3184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13880"/>
            <a:ext cx="264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9A8-EE69-496C-9389-BC4BA364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0EC-4370-400E-AF2D-BAB39615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02D-81C4-44ED-8559-0EAA3BC4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753-FEF8-4BB1-A2C8-3AF305F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A58-908C-420C-9406-605D146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0AF-3D33-430E-B6B9-E443C86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F72-7EBE-417D-BA41-7959D75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1388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FA0-2763-48C4-A310-860A210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31840"/>
            <a:ext cx="40158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3880"/>
            <a:ext cx="822960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39E-A95E-43BD-A456-97AC637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3184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BD7-7841-40CA-8D85-227463C1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00040" y="35049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apitulo lll.II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Formalmemte una asignación es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933480" y="2217600"/>
            <a:ext cx="63054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Una colección de canastas ( una para cada consumido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90720" y="4267080"/>
            <a:ext cx="76960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Una colección de vectores de producciones  netas (una para cada empresa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33480" y="6019920"/>
            <a:ext cx="75247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ff0000"/>
                </a:solidFill>
                <a:latin typeface="Times New Roman"/>
              </a:rPr>
              <a:t>Un conjunto de precios (utilizados por empresas y consumidores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807400" y="5884920"/>
            <a:ext cx="561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534520" y="2178000"/>
            <a:ext cx="1447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400080"/>
                </a:solidFill>
                <a:latin typeface="Times New Roman"/>
              </a:rPr>
              <a:t>[x</a:t>
            </a:r>
            <a:r>
              <a:rPr b="0" i="1" lang="en-GB" sz="7200" spc="-1" strike="noStrike" baseline="30000">
                <a:solidFill>
                  <a:srgbClr val="400080"/>
                </a:solidFill>
                <a:latin typeface="Times New Roman"/>
              </a:rPr>
              <a:t>h</a:t>
            </a:r>
            <a:r>
              <a:rPr b="1" lang="en-GB" sz="7200" spc="-1" strike="noStrike">
                <a:solidFill>
                  <a:srgbClr val="400080"/>
                </a:solidFill>
                <a:latin typeface="Times New Roman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610480" y="3902040"/>
            <a:ext cx="1251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400080"/>
                </a:solidFill>
                <a:latin typeface="Times New Roman"/>
              </a:rPr>
              <a:t>[y</a:t>
            </a:r>
            <a:r>
              <a:rPr b="0" i="1" lang="en-GB" sz="7200" spc="-1" strike="noStrike" baseline="30000">
                <a:solidFill>
                  <a:srgbClr val="400080"/>
                </a:solidFill>
                <a:latin typeface="Times New Roman"/>
              </a:rPr>
              <a:t>f</a:t>
            </a:r>
            <a:r>
              <a:rPr b="1" lang="en-GB" sz="7200" spc="-1" strike="noStrike">
                <a:solidFill>
                  <a:srgbClr val="400080"/>
                </a:solidFill>
                <a:latin typeface="Times New Roman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83808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y una asignación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 es...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200400" y="3886200"/>
            <a:ext cx="3400200" cy="1101600"/>
            <a:chOff x="3200400" y="3886200"/>
            <a:chExt cx="3400200" cy="1101600"/>
          </a:xfrm>
        </p:grpSpPr>
        <p:sp>
          <p:nvSpPr>
            <p:cNvPr id="1026" name=""/>
            <p:cNvSpPr/>
            <p:nvPr/>
          </p:nvSpPr>
          <p:spPr>
            <a:xfrm>
              <a:off x="3200400" y="3886200"/>
              <a:ext cx="340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Brush738 BT"/>
                </a:rPr>
                <a:t>Maximiza Benefic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3555720" y="4485960"/>
              <a:ext cx="244440" cy="501840"/>
              <a:chOff x="3555720" y="4485960"/>
              <a:chExt cx="244440" cy="501840"/>
            </a:xfrm>
          </p:grpSpPr>
          <p:sp>
            <p:nvSpPr>
              <p:cNvPr id="1028" name=""/>
              <p:cNvSpPr/>
              <p:nvPr/>
            </p:nvSpPr>
            <p:spPr>
              <a:xfrm>
                <a:off x="3555720" y="4485960"/>
                <a:ext cx="216000" cy="501840"/>
              </a:xfrm>
              <a:custGeom>
                <a:avLst/>
                <a:gdLst/>
                <a:ahLst/>
                <a:rect l="l" t="t" r="r" b="b"/>
                <a:pathLst>
                  <a:path w="136" h="316">
                    <a:moveTo>
                      <a:pt x="135" y="0"/>
                    </a:moveTo>
                    <a:lnTo>
                      <a:pt x="133" y="3"/>
                    </a:lnTo>
                    <a:lnTo>
                      <a:pt x="129" y="13"/>
                    </a:lnTo>
                    <a:lnTo>
                      <a:pt x="121" y="30"/>
                    </a:lnTo>
                    <a:lnTo>
                      <a:pt x="112" y="49"/>
                    </a:lnTo>
                    <a:lnTo>
                      <a:pt x="100" y="73"/>
                    </a:lnTo>
                    <a:lnTo>
                      <a:pt x="89" y="98"/>
                    </a:lnTo>
                    <a:lnTo>
                      <a:pt x="75" y="127"/>
                    </a:lnTo>
                    <a:lnTo>
                      <a:pt x="63" y="155"/>
                    </a:lnTo>
                    <a:lnTo>
                      <a:pt x="50" y="185"/>
                    </a:lnTo>
                    <a:lnTo>
                      <a:pt x="37" y="213"/>
                    </a:lnTo>
                    <a:lnTo>
                      <a:pt x="25" y="240"/>
                    </a:lnTo>
                    <a:lnTo>
                      <a:pt x="16" y="263"/>
                    </a:lnTo>
                    <a:lnTo>
                      <a:pt x="7" y="284"/>
                    </a:lnTo>
                    <a:lnTo>
                      <a:pt x="3" y="300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2" y="315"/>
                    </a:lnTo>
                    <a:lnTo>
                      <a:pt x="3" y="314"/>
                    </a:lnTo>
                    <a:lnTo>
                      <a:pt x="5" y="312"/>
                    </a:lnTo>
                    <a:lnTo>
                      <a:pt x="7" y="309"/>
                    </a:lnTo>
                    <a:lnTo>
                      <a:pt x="9" y="305"/>
                    </a:lnTo>
                    <a:lnTo>
                      <a:pt x="12" y="301"/>
                    </a:lnTo>
                    <a:lnTo>
                      <a:pt x="15" y="297"/>
                    </a:lnTo>
                    <a:lnTo>
                      <a:pt x="19" y="292"/>
                    </a:lnTo>
                    <a:lnTo>
                      <a:pt x="21" y="288"/>
                    </a:lnTo>
                    <a:lnTo>
                      <a:pt x="25" y="283"/>
                    </a:lnTo>
                    <a:lnTo>
                      <a:pt x="28" y="279"/>
                    </a:lnTo>
                    <a:lnTo>
                      <a:pt x="32" y="273"/>
                    </a:lnTo>
                    <a:lnTo>
                      <a:pt x="33" y="269"/>
                    </a:lnTo>
                    <a:lnTo>
                      <a:pt x="36" y="265"/>
                    </a:lnTo>
                    <a:lnTo>
                      <a:pt x="38" y="261"/>
                    </a:lnTo>
                    <a:lnTo>
                      <a:pt x="40" y="257"/>
                    </a:lnTo>
                    <a:lnTo>
                      <a:pt x="40" y="254"/>
                    </a:lnTo>
                    <a:lnTo>
                      <a:pt x="42" y="249"/>
                    </a:lnTo>
                    <a:lnTo>
                      <a:pt x="42" y="244"/>
                    </a:lnTo>
                    <a:lnTo>
                      <a:pt x="43" y="238"/>
                    </a:lnTo>
                    <a:lnTo>
                      <a:pt x="43" y="233"/>
                    </a:lnTo>
                    <a:lnTo>
                      <a:pt x="45" y="226"/>
                    </a:lnTo>
                    <a:lnTo>
                      <a:pt x="45" y="220"/>
                    </a:lnTo>
                    <a:lnTo>
                      <a:pt x="47" y="213"/>
                    </a:lnTo>
                    <a:lnTo>
                      <a:pt x="47" y="207"/>
                    </a:lnTo>
                    <a:lnTo>
                      <a:pt x="47" y="201"/>
                    </a:lnTo>
                    <a:lnTo>
                      <a:pt x="47" y="196"/>
                    </a:lnTo>
                    <a:lnTo>
                      <a:pt x="49" y="191"/>
                    </a:lnTo>
                    <a:lnTo>
                      <a:pt x="49" y="187"/>
                    </a:lnTo>
                    <a:lnTo>
                      <a:pt x="49" y="184"/>
                    </a:lnTo>
                    <a:lnTo>
                      <a:pt x="49" y="182"/>
                    </a:lnTo>
                    <a:lnTo>
                      <a:pt x="50" y="181"/>
                    </a:ln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79560" y="4697280"/>
                <a:ext cx="120600" cy="25704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0" name=""/>
          <p:cNvGrpSpPr/>
          <p:nvPr/>
        </p:nvGrpSpPr>
        <p:grpSpPr>
          <a:xfrm>
            <a:off x="3200400" y="1752480"/>
            <a:ext cx="3544560" cy="1087200"/>
            <a:chOff x="3200400" y="1752480"/>
            <a:chExt cx="3544560" cy="1087200"/>
          </a:xfrm>
        </p:grpSpPr>
        <p:sp>
          <p:nvSpPr>
            <p:cNvPr id="1031" name=""/>
            <p:cNvSpPr/>
            <p:nvPr/>
          </p:nvSpPr>
          <p:spPr>
            <a:xfrm>
              <a:off x="3200400" y="1752480"/>
              <a:ext cx="3544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Brush738 BT"/>
                </a:rPr>
                <a:t>Maximiza Utilida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3570120" y="2336400"/>
              <a:ext cx="244440" cy="503280"/>
              <a:chOff x="3570120" y="2336400"/>
              <a:chExt cx="244440" cy="503280"/>
            </a:xfrm>
          </p:grpSpPr>
          <p:sp>
            <p:nvSpPr>
              <p:cNvPr id="1033" name=""/>
              <p:cNvSpPr/>
              <p:nvPr/>
            </p:nvSpPr>
            <p:spPr>
              <a:xfrm>
                <a:off x="3570120" y="2336400"/>
                <a:ext cx="217440" cy="503280"/>
              </a:xfrm>
              <a:custGeom>
                <a:avLst/>
                <a:gdLst/>
                <a:ahLst/>
                <a:rect l="l" t="t" r="r" b="b"/>
                <a:pathLst>
                  <a:path w="137" h="317">
                    <a:moveTo>
                      <a:pt x="136" y="0"/>
                    </a:moveTo>
                    <a:lnTo>
                      <a:pt x="134" y="4"/>
                    </a:lnTo>
                    <a:lnTo>
                      <a:pt x="129" y="14"/>
                    </a:lnTo>
                    <a:lnTo>
                      <a:pt x="121" y="30"/>
                    </a:lnTo>
                    <a:lnTo>
                      <a:pt x="112" y="49"/>
                    </a:lnTo>
                    <a:lnTo>
                      <a:pt x="101" y="74"/>
                    </a:lnTo>
                    <a:lnTo>
                      <a:pt x="89" y="99"/>
                    </a:lnTo>
                    <a:lnTo>
                      <a:pt x="76" y="128"/>
                    </a:lnTo>
                    <a:lnTo>
                      <a:pt x="63" y="156"/>
                    </a:lnTo>
                    <a:lnTo>
                      <a:pt x="50" y="186"/>
                    </a:lnTo>
                    <a:lnTo>
                      <a:pt x="38" y="214"/>
                    </a:lnTo>
                    <a:lnTo>
                      <a:pt x="26" y="241"/>
                    </a:lnTo>
                    <a:lnTo>
                      <a:pt x="16" y="264"/>
                    </a:lnTo>
                    <a:lnTo>
                      <a:pt x="8" y="284"/>
                    </a:lnTo>
                    <a:lnTo>
                      <a:pt x="3" y="301"/>
                    </a:lnTo>
                    <a:lnTo>
                      <a:pt x="0" y="311"/>
                    </a:lnTo>
                    <a:lnTo>
                      <a:pt x="2" y="315"/>
                    </a:lnTo>
                    <a:lnTo>
                      <a:pt x="2" y="316"/>
                    </a:lnTo>
                    <a:lnTo>
                      <a:pt x="3" y="314"/>
                    </a:lnTo>
                    <a:lnTo>
                      <a:pt x="5" y="312"/>
                    </a:lnTo>
                    <a:lnTo>
                      <a:pt x="8" y="309"/>
                    </a:lnTo>
                    <a:lnTo>
                      <a:pt x="10" y="306"/>
                    </a:lnTo>
                    <a:lnTo>
                      <a:pt x="13" y="302"/>
                    </a:lnTo>
                    <a:lnTo>
                      <a:pt x="16" y="298"/>
                    </a:lnTo>
                    <a:lnTo>
                      <a:pt x="20" y="292"/>
                    </a:lnTo>
                    <a:lnTo>
                      <a:pt x="22" y="289"/>
                    </a:lnTo>
                    <a:lnTo>
                      <a:pt x="25" y="283"/>
                    </a:lnTo>
                    <a:lnTo>
                      <a:pt x="28" y="280"/>
                    </a:lnTo>
                    <a:lnTo>
                      <a:pt x="32" y="274"/>
                    </a:lnTo>
                    <a:lnTo>
                      <a:pt x="34" y="270"/>
                    </a:lnTo>
                    <a:lnTo>
                      <a:pt x="36" y="266"/>
                    </a:lnTo>
                    <a:lnTo>
                      <a:pt x="38" y="262"/>
                    </a:lnTo>
                    <a:lnTo>
                      <a:pt x="40" y="258"/>
                    </a:lnTo>
                    <a:lnTo>
                      <a:pt x="40" y="254"/>
                    </a:lnTo>
                    <a:lnTo>
                      <a:pt x="42" y="250"/>
                    </a:lnTo>
                    <a:lnTo>
                      <a:pt x="42" y="244"/>
                    </a:lnTo>
                    <a:lnTo>
                      <a:pt x="44" y="239"/>
                    </a:lnTo>
                    <a:lnTo>
                      <a:pt x="44" y="233"/>
                    </a:lnTo>
                    <a:lnTo>
                      <a:pt x="45" y="226"/>
                    </a:lnTo>
                    <a:lnTo>
                      <a:pt x="45" y="221"/>
                    </a:lnTo>
                    <a:lnTo>
                      <a:pt x="47" y="213"/>
                    </a:lnTo>
                    <a:lnTo>
                      <a:pt x="47" y="208"/>
                    </a:lnTo>
                    <a:lnTo>
                      <a:pt x="47" y="202"/>
                    </a:lnTo>
                    <a:lnTo>
                      <a:pt x="47" y="197"/>
                    </a:lnTo>
                    <a:lnTo>
                      <a:pt x="49" y="192"/>
                    </a:lnTo>
                    <a:lnTo>
                      <a:pt x="49" y="188"/>
                    </a:lnTo>
                    <a:lnTo>
                      <a:pt x="49" y="184"/>
                    </a:lnTo>
                    <a:lnTo>
                      <a:pt x="49" y="183"/>
                    </a:lnTo>
                    <a:lnTo>
                      <a:pt x="50" y="182"/>
                    </a:ln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693960" y="2549160"/>
                <a:ext cx="120600" cy="25740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Cómo funciona una asignación competitiv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670040" y="3581280"/>
            <a:ext cx="1074600" cy="893880"/>
            <a:chOff x="1670040" y="3581280"/>
            <a:chExt cx="1074600" cy="893880"/>
          </a:xfrm>
        </p:grpSpPr>
        <p:sp>
          <p:nvSpPr>
            <p:cNvPr id="1037" name=""/>
            <p:cNvSpPr/>
            <p:nvPr/>
          </p:nvSpPr>
          <p:spPr>
            <a:xfrm>
              <a:off x="1752480" y="3581280"/>
              <a:ext cx="992160" cy="836640"/>
            </a:xfrm>
            <a:custGeom>
              <a:avLst/>
              <a:gdLst/>
              <a:ahLst/>
              <a:rect l="l" t="t" r="r" b="b"/>
              <a:pathLst>
                <a:path w="625" h="527">
                  <a:moveTo>
                    <a:pt x="534" y="368"/>
                  </a:moveTo>
                  <a:lnTo>
                    <a:pt x="534" y="368"/>
                  </a:lnTo>
                  <a:lnTo>
                    <a:pt x="398" y="526"/>
                  </a:lnTo>
                  <a:lnTo>
                    <a:pt x="398" y="408"/>
                  </a:lnTo>
                  <a:lnTo>
                    <a:pt x="0" y="408"/>
                  </a:lnTo>
                  <a:lnTo>
                    <a:pt x="0" y="117"/>
                  </a:lnTo>
                  <a:lnTo>
                    <a:pt x="398" y="117"/>
                  </a:lnTo>
                  <a:lnTo>
                    <a:pt x="398" y="0"/>
                  </a:lnTo>
                  <a:lnTo>
                    <a:pt x="624" y="265"/>
                  </a:lnTo>
                  <a:lnTo>
                    <a:pt x="534" y="368"/>
                  </a:lnTo>
                  <a:lnTo>
                    <a:pt x="534" y="36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70040" y="3767040"/>
              <a:ext cx="719280" cy="708120"/>
            </a:xfrm>
            <a:custGeom>
              <a:avLst/>
              <a:gdLst/>
              <a:ahLst/>
              <a:rect l="l" t="t" r="r" b="b"/>
              <a:pathLst>
                <a:path w="453" h="446">
                  <a:moveTo>
                    <a:pt x="452" y="291"/>
                  </a:moveTo>
                  <a:lnTo>
                    <a:pt x="452" y="291"/>
                  </a:lnTo>
                  <a:lnTo>
                    <a:pt x="452" y="409"/>
                  </a:lnTo>
                  <a:lnTo>
                    <a:pt x="399" y="445"/>
                  </a:lnTo>
                  <a:lnTo>
                    <a:pt x="399" y="331"/>
                  </a:lnTo>
                  <a:lnTo>
                    <a:pt x="0" y="331"/>
                  </a:lnTo>
                  <a:lnTo>
                    <a:pt x="0" y="40"/>
                  </a:lnTo>
                  <a:lnTo>
                    <a:pt x="54" y="0"/>
                  </a:lnTo>
                  <a:lnTo>
                    <a:pt x="54" y="291"/>
                  </a:lnTo>
                  <a:lnTo>
                    <a:pt x="452" y="291"/>
                  </a:lnTo>
                  <a:lnTo>
                    <a:pt x="452" y="407"/>
                  </a:lnTo>
                  <a:lnTo>
                    <a:pt x="452" y="291"/>
                  </a:lnTo>
                  <a:lnTo>
                    <a:pt x="452" y="29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09760" y="3581280"/>
              <a:ext cx="76320" cy="18756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47" y="0"/>
                  </a:moveTo>
                  <a:lnTo>
                    <a:pt x="47" y="0"/>
                  </a:lnTo>
                  <a:lnTo>
                    <a:pt x="47" y="117"/>
                  </a:lnTo>
                  <a:lnTo>
                    <a:pt x="0" y="117"/>
                  </a:lnTo>
                  <a:lnTo>
                    <a:pt x="0" y="40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260280" y="3359160"/>
            <a:ext cx="561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076560" y="3406680"/>
            <a:ext cx="2443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5813280" y="3201120"/>
            <a:ext cx="3529080" cy="1522440"/>
          </a:xfrm>
          <a:prstGeom prst="roundRect">
            <a:avLst>
              <a:gd name="adj" fmla="val 0"/>
            </a:avLst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280"/>
                </a:solidFill>
                <a:latin typeface="Times New Roman"/>
              </a:rPr>
              <a:t>maximiz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280"/>
                </a:solidFill>
                <a:latin typeface="Times New Roman"/>
              </a:rPr>
              <a:t>benefici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08360" y="3276720"/>
            <a:ext cx="7250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0" y="5425560"/>
            <a:ext cx="9887040" cy="1889280"/>
          </a:xfrm>
          <a:prstGeom prst="roundRect">
            <a:avLst>
              <a:gd name="adj" fmla="val 6245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La respuesta de cada empresa a los precios determina las producciones net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5664240"/>
            <a:ext cx="1922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48000" y="5526000"/>
            <a:ext cx="2443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828800" y="5735520"/>
            <a:ext cx="1074600" cy="893880"/>
            <a:chOff x="1828800" y="5735520"/>
            <a:chExt cx="1074600" cy="893880"/>
          </a:xfrm>
        </p:grpSpPr>
        <p:sp>
          <p:nvSpPr>
            <p:cNvPr id="1048" name=""/>
            <p:cNvSpPr/>
            <p:nvPr/>
          </p:nvSpPr>
          <p:spPr>
            <a:xfrm>
              <a:off x="1911240" y="5735520"/>
              <a:ext cx="992160" cy="838440"/>
            </a:xfrm>
            <a:custGeom>
              <a:avLst/>
              <a:gdLst/>
              <a:ahLst/>
              <a:rect l="l" t="t" r="r" b="b"/>
              <a:pathLst>
                <a:path w="625" h="528">
                  <a:moveTo>
                    <a:pt x="534" y="369"/>
                  </a:moveTo>
                  <a:lnTo>
                    <a:pt x="534" y="369"/>
                  </a:lnTo>
                  <a:lnTo>
                    <a:pt x="398" y="527"/>
                  </a:lnTo>
                  <a:lnTo>
                    <a:pt x="398" y="409"/>
                  </a:lnTo>
                  <a:lnTo>
                    <a:pt x="0" y="409"/>
                  </a:lnTo>
                  <a:lnTo>
                    <a:pt x="0" y="117"/>
                  </a:lnTo>
                  <a:lnTo>
                    <a:pt x="398" y="117"/>
                  </a:lnTo>
                  <a:lnTo>
                    <a:pt x="398" y="0"/>
                  </a:lnTo>
                  <a:lnTo>
                    <a:pt x="624" y="265"/>
                  </a:lnTo>
                  <a:lnTo>
                    <a:pt x="534" y="369"/>
                  </a:lnTo>
                  <a:lnTo>
                    <a:pt x="534" y="36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28800" y="5921280"/>
              <a:ext cx="719280" cy="708120"/>
            </a:xfrm>
            <a:custGeom>
              <a:avLst/>
              <a:gdLst/>
              <a:ahLst/>
              <a:rect l="l" t="t" r="r" b="b"/>
              <a:pathLst>
                <a:path w="453" h="446">
                  <a:moveTo>
                    <a:pt x="452" y="292"/>
                  </a:moveTo>
                  <a:lnTo>
                    <a:pt x="452" y="292"/>
                  </a:lnTo>
                  <a:lnTo>
                    <a:pt x="452" y="409"/>
                  </a:lnTo>
                  <a:lnTo>
                    <a:pt x="399" y="445"/>
                  </a:lnTo>
                  <a:lnTo>
                    <a:pt x="399" y="332"/>
                  </a:lnTo>
                  <a:lnTo>
                    <a:pt x="0" y="332"/>
                  </a:lnTo>
                  <a:lnTo>
                    <a:pt x="0" y="40"/>
                  </a:lnTo>
                  <a:lnTo>
                    <a:pt x="54" y="0"/>
                  </a:lnTo>
                  <a:lnTo>
                    <a:pt x="54" y="292"/>
                  </a:lnTo>
                  <a:lnTo>
                    <a:pt x="452" y="292"/>
                  </a:lnTo>
                  <a:lnTo>
                    <a:pt x="452" y="408"/>
                  </a:lnTo>
                  <a:lnTo>
                    <a:pt x="452" y="292"/>
                  </a:lnTo>
                  <a:lnTo>
                    <a:pt x="452" y="29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68520" y="5735520"/>
              <a:ext cx="76320" cy="18756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47" y="0"/>
                  </a:moveTo>
                  <a:lnTo>
                    <a:pt x="47" y="0"/>
                  </a:lnTo>
                  <a:lnTo>
                    <a:pt x="47" y="117"/>
                  </a:lnTo>
                  <a:lnTo>
                    <a:pt x="0" y="117"/>
                  </a:lnTo>
                  <a:lnTo>
                    <a:pt x="0" y="41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V="1">
            <a:off x="6172200" y="5257080"/>
            <a:ext cx="3529080" cy="1522440"/>
          </a:xfrm>
          <a:prstGeom prst="roundRect">
            <a:avLst>
              <a:gd name="adj" fmla="val 0"/>
            </a:avLst>
          </a:pr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280"/>
                </a:solidFill>
                <a:latin typeface="Times New Roman"/>
              </a:rPr>
              <a:t>(maximiz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280"/>
                </a:solidFill>
                <a:latin typeface="Times New Roman"/>
              </a:rPr>
              <a:t>de utilida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95480" y="5562720"/>
            <a:ext cx="716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0" y="3428640"/>
            <a:ext cx="9887040" cy="1889280"/>
          </a:xfrm>
          <a:prstGeom prst="roundRect">
            <a:avLst>
              <a:gd name="adj" fmla="val 6245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Brush738 BT"/>
              </a:rPr>
              <a:t>La respuesta de cada consumidor a precios e ingreso determina las demandas de c\u de ell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914560" y="2133360"/>
            <a:ext cx="7143840" cy="5049360"/>
            <a:chOff x="2914560" y="2133360"/>
            <a:chExt cx="7143840" cy="5049360"/>
          </a:xfrm>
        </p:grpSpPr>
        <p:sp>
          <p:nvSpPr>
            <p:cNvPr id="1055" name=""/>
            <p:cNvSpPr/>
            <p:nvPr/>
          </p:nvSpPr>
          <p:spPr>
            <a:xfrm flipV="1">
              <a:off x="2914560" y="2853000"/>
              <a:ext cx="7143840" cy="4329000"/>
            </a:xfrm>
            <a:prstGeom prst="roundRect">
              <a:avLst>
                <a:gd name="adj" fmla="val 0"/>
              </a:avLst>
            </a:prstGeom>
            <a:noFill/>
            <a:ln w="4752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745880" y="2132640"/>
              <a:ext cx="3800880" cy="766440"/>
            </a:xfrm>
            <a:prstGeom prst="roundRect">
              <a:avLst>
                <a:gd name="adj" fmla="val 0"/>
              </a:avLst>
            </a:prstGeom>
            <a:solidFill>
              <a:srgbClr val="ffffc2"/>
            </a:solidFill>
            <a:ln w="3168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La asignación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33520" y="762120"/>
            <a:ext cx="7918200" cy="6323760"/>
            <a:chOff x="533520" y="762120"/>
            <a:chExt cx="7918200" cy="6323760"/>
          </a:xfrm>
        </p:grpSpPr>
        <p:sp>
          <p:nvSpPr>
            <p:cNvPr id="1058" name=""/>
            <p:cNvSpPr/>
            <p:nvPr/>
          </p:nvSpPr>
          <p:spPr>
            <a:xfrm>
              <a:off x="533520" y="5430960"/>
              <a:ext cx="1593720" cy="1654920"/>
            </a:xfrm>
            <a:custGeom>
              <a:avLst/>
              <a:gdLst/>
              <a:ahLst/>
              <a:rect l="l" t="t" r="r" b="b"/>
              <a:pathLst>
                <a:path w="1004" h="815">
                  <a:moveTo>
                    <a:pt x="73" y="157"/>
                  </a:moveTo>
                  <a:lnTo>
                    <a:pt x="36" y="223"/>
                  </a:lnTo>
                  <a:lnTo>
                    <a:pt x="12" y="286"/>
                  </a:lnTo>
                  <a:lnTo>
                    <a:pt x="0" y="351"/>
                  </a:lnTo>
                  <a:lnTo>
                    <a:pt x="1" y="414"/>
                  </a:lnTo>
                  <a:lnTo>
                    <a:pt x="12" y="477"/>
                  </a:lnTo>
                  <a:lnTo>
                    <a:pt x="34" y="535"/>
                  </a:lnTo>
                  <a:lnTo>
                    <a:pt x="64" y="591"/>
                  </a:lnTo>
                  <a:lnTo>
                    <a:pt x="104" y="642"/>
                  </a:lnTo>
                  <a:lnTo>
                    <a:pt x="150" y="689"/>
                  </a:lnTo>
                  <a:lnTo>
                    <a:pt x="203" y="729"/>
                  </a:lnTo>
                  <a:lnTo>
                    <a:pt x="263" y="763"/>
                  </a:lnTo>
                  <a:lnTo>
                    <a:pt x="329" y="789"/>
                  </a:lnTo>
                  <a:lnTo>
                    <a:pt x="399" y="806"/>
                  </a:lnTo>
                  <a:lnTo>
                    <a:pt x="474" y="814"/>
                  </a:lnTo>
                  <a:lnTo>
                    <a:pt x="552" y="812"/>
                  </a:lnTo>
                  <a:lnTo>
                    <a:pt x="634" y="798"/>
                  </a:lnTo>
                  <a:lnTo>
                    <a:pt x="710" y="775"/>
                  </a:lnTo>
                  <a:lnTo>
                    <a:pt x="778" y="743"/>
                  </a:lnTo>
                  <a:lnTo>
                    <a:pt x="838" y="703"/>
                  </a:lnTo>
                  <a:lnTo>
                    <a:pt x="889" y="657"/>
                  </a:lnTo>
                  <a:lnTo>
                    <a:pt x="930" y="607"/>
                  </a:lnTo>
                  <a:lnTo>
                    <a:pt x="963" y="551"/>
                  </a:lnTo>
                  <a:lnTo>
                    <a:pt x="986" y="493"/>
                  </a:lnTo>
                  <a:lnTo>
                    <a:pt x="1000" y="432"/>
                  </a:lnTo>
                  <a:lnTo>
                    <a:pt x="1003" y="371"/>
                  </a:lnTo>
                  <a:lnTo>
                    <a:pt x="996" y="310"/>
                  </a:lnTo>
                  <a:lnTo>
                    <a:pt x="980" y="249"/>
                  </a:lnTo>
                  <a:lnTo>
                    <a:pt x="954" y="191"/>
                  </a:lnTo>
                  <a:lnTo>
                    <a:pt x="916" y="136"/>
                  </a:lnTo>
                  <a:lnTo>
                    <a:pt x="870" y="85"/>
                  </a:lnTo>
                  <a:lnTo>
                    <a:pt x="812" y="40"/>
                  </a:lnTo>
                  <a:lnTo>
                    <a:pt x="745" y="0"/>
                  </a:lnTo>
                </a:path>
              </a:pathLst>
            </a:custGeom>
            <a:noFill/>
            <a:ln w="9216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89360" y="762120"/>
              <a:ext cx="5562360" cy="4483800"/>
            </a:xfrm>
            <a:prstGeom prst="wedgeEllipseCallout">
              <a:avLst>
                <a:gd name="adj1" fmla="val -65296"/>
                <a:gd name="adj2" fmla="val 73097"/>
              </a:avLst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Brush738 BT"/>
                </a:rPr>
                <a:t>¡Momento! ¿de donde vienen estos ingresos?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91120" y="2133720"/>
            <a:ext cx="2035080" cy="119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economía de mucha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1067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zación e intercamb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ñia multi-person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2743200" y="5257800"/>
            <a:ext cx="4540320" cy="552600"/>
            <a:chOff x="2743200" y="5257800"/>
            <a:chExt cx="4540320" cy="552600"/>
          </a:xfrm>
        </p:grpSpPr>
        <p:sp>
          <p:nvSpPr>
            <p:cNvPr id="1084" name=""/>
            <p:cNvSpPr/>
            <p:nvPr/>
          </p:nvSpPr>
          <p:spPr>
            <a:xfrm>
              <a:off x="5027760" y="52578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43200" y="555624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1156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28172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43200" y="55562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94120" y="55562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11560" y="55562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962520" y="5791320"/>
            <a:ext cx="2038320" cy="119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21320" y="579132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523880" y="5796000"/>
            <a:ext cx="22640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ign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71600" y="5791320"/>
            <a:ext cx="234324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ign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00800" y="5715000"/>
            <a:ext cx="203508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86200" y="5257800"/>
            <a:ext cx="248616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De donde vino el ingreso de R. Crusoe...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7013520" y="2818440"/>
            <a:ext cx="3044880" cy="4384440"/>
          </a:xfrm>
          <a:custGeom>
            <a:avLst/>
            <a:gdLst>
              <a:gd name="textAreaLeft" fmla="*/ 0 w 3044880"/>
              <a:gd name="textAreaRight" fmla="*/ 3045240 w 3044880"/>
              <a:gd name="textAreaTop" fmla="*/ -360 h 4384440"/>
              <a:gd name="textAreaBottom" fmla="*/ 4384440 h 4384440"/>
            </a:gdLst>
            <a:ahLst/>
            <a:rect l="textAreaLeft" t="textAreaTop" r="textAreaRight" b="textAreaBottom"/>
            <a:pathLst>
              <a:path w="21600" h="31102">
                <a:moveTo>
                  <a:pt x="0" y="0"/>
                </a:moveTo>
                <a:arcTo wR="0" hR="0" stAng="16200000" swAng="-5400000"/>
                <a:lnTo>
                  <a:pt x="0" y="31102"/>
                </a:lnTo>
                <a:arcTo wR="0" hR="0" stAng="10800000" swAng="-5400000"/>
                <a:lnTo>
                  <a:pt x="21600" y="3110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-303120" y="2638440"/>
            <a:ext cx="7924680" cy="4869000"/>
            <a:chOff x="-303120" y="2638440"/>
            <a:chExt cx="7924680" cy="4869000"/>
          </a:xfrm>
        </p:grpSpPr>
        <p:sp>
          <p:nvSpPr>
            <p:cNvPr id="1100" name=""/>
            <p:cNvSpPr/>
            <p:nvPr/>
          </p:nvSpPr>
          <p:spPr>
            <a:xfrm>
              <a:off x="-303120" y="2638440"/>
              <a:ext cx="7924680" cy="4869000"/>
            </a:xfrm>
            <a:custGeom>
              <a:avLst/>
              <a:gdLst/>
              <a:ahLst/>
              <a:rect l="l" t="t" r="r" b="b"/>
              <a:pathLst>
                <a:path w="4992" h="3067">
                  <a:moveTo>
                    <a:pt x="1003" y="441"/>
                  </a:moveTo>
                  <a:lnTo>
                    <a:pt x="649" y="626"/>
                  </a:lnTo>
                  <a:lnTo>
                    <a:pt x="376" y="828"/>
                  </a:lnTo>
                  <a:lnTo>
                    <a:pt x="180" y="1046"/>
                  </a:lnTo>
                  <a:lnTo>
                    <a:pt x="55" y="1272"/>
                  </a:lnTo>
                  <a:lnTo>
                    <a:pt x="0" y="1506"/>
                  </a:lnTo>
                  <a:lnTo>
                    <a:pt x="10" y="1739"/>
                  </a:lnTo>
                  <a:lnTo>
                    <a:pt x="81" y="1967"/>
                  </a:lnTo>
                  <a:lnTo>
                    <a:pt x="210" y="2186"/>
                  </a:lnTo>
                  <a:lnTo>
                    <a:pt x="394" y="2392"/>
                  </a:lnTo>
                  <a:lnTo>
                    <a:pt x="631" y="2578"/>
                  </a:lnTo>
                  <a:lnTo>
                    <a:pt x="915" y="2742"/>
                  </a:lnTo>
                  <a:lnTo>
                    <a:pt x="1244" y="2877"/>
                  </a:lnTo>
                  <a:lnTo>
                    <a:pt x="1613" y="2980"/>
                  </a:lnTo>
                  <a:lnTo>
                    <a:pt x="2020" y="3044"/>
                  </a:lnTo>
                  <a:lnTo>
                    <a:pt x="2461" y="3066"/>
                  </a:lnTo>
                  <a:lnTo>
                    <a:pt x="2933" y="3041"/>
                  </a:lnTo>
                  <a:lnTo>
                    <a:pt x="3389" y="2971"/>
                  </a:lnTo>
                  <a:lnTo>
                    <a:pt x="3790" y="2862"/>
                  </a:lnTo>
                  <a:lnTo>
                    <a:pt x="4135" y="2720"/>
                  </a:lnTo>
                  <a:lnTo>
                    <a:pt x="4422" y="2550"/>
                  </a:lnTo>
                  <a:lnTo>
                    <a:pt x="4651" y="2358"/>
                  </a:lnTo>
                  <a:lnTo>
                    <a:pt x="4823" y="2148"/>
                  </a:lnTo>
                  <a:lnTo>
                    <a:pt x="4936" y="1925"/>
                  </a:lnTo>
                  <a:lnTo>
                    <a:pt x="4991" y="1694"/>
                  </a:lnTo>
                  <a:lnTo>
                    <a:pt x="4983" y="1462"/>
                  </a:lnTo>
                  <a:lnTo>
                    <a:pt x="4917" y="1233"/>
                  </a:lnTo>
                  <a:lnTo>
                    <a:pt x="4790" y="1012"/>
                  </a:lnTo>
                  <a:lnTo>
                    <a:pt x="4602" y="804"/>
                  </a:lnTo>
                  <a:lnTo>
                    <a:pt x="4350" y="616"/>
                  </a:lnTo>
                  <a:lnTo>
                    <a:pt x="4038" y="450"/>
                  </a:lnTo>
                  <a:lnTo>
                    <a:pt x="3661" y="314"/>
                  </a:lnTo>
                  <a:lnTo>
                    <a:pt x="3223" y="212"/>
                  </a:lnTo>
                  <a:lnTo>
                    <a:pt x="3136" y="147"/>
                  </a:lnTo>
                  <a:lnTo>
                    <a:pt x="3024" y="93"/>
                  </a:lnTo>
                  <a:lnTo>
                    <a:pt x="2891" y="53"/>
                  </a:lnTo>
                  <a:lnTo>
                    <a:pt x="2741" y="23"/>
                  </a:lnTo>
                  <a:lnTo>
                    <a:pt x="2576" y="6"/>
                  </a:lnTo>
                  <a:lnTo>
                    <a:pt x="2402" y="0"/>
                  </a:lnTo>
                  <a:lnTo>
                    <a:pt x="2222" y="3"/>
                  </a:lnTo>
                  <a:lnTo>
                    <a:pt x="2041" y="17"/>
                  </a:lnTo>
                  <a:lnTo>
                    <a:pt x="1861" y="42"/>
                  </a:lnTo>
                  <a:lnTo>
                    <a:pt x="1688" y="74"/>
                  </a:lnTo>
                  <a:lnTo>
                    <a:pt x="1524" y="117"/>
                  </a:lnTo>
                  <a:lnTo>
                    <a:pt x="1377" y="166"/>
                  </a:lnTo>
                  <a:lnTo>
                    <a:pt x="1245" y="225"/>
                  </a:lnTo>
                  <a:lnTo>
                    <a:pt x="1137" y="290"/>
                  </a:lnTo>
                  <a:lnTo>
                    <a:pt x="1055" y="363"/>
                  </a:lnTo>
                  <a:lnTo>
                    <a:pt x="1003" y="441"/>
                  </a:lnTo>
                  <a:lnTo>
                    <a:pt x="1003" y="44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614520" y="3390840"/>
              <a:ext cx="5924520" cy="3198960"/>
              <a:chOff x="614520" y="3390840"/>
              <a:chExt cx="5924520" cy="319896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2266920" y="4299120"/>
                <a:ext cx="1851120" cy="2092320"/>
                <a:chOff x="2266920" y="4299120"/>
                <a:chExt cx="1851120" cy="209232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2549520" y="5859360"/>
                  <a:ext cx="1568520" cy="532080"/>
                </a:xfrm>
                <a:custGeom>
                  <a:avLst/>
                  <a:gdLst/>
                  <a:ahLst/>
                  <a:rect l="l" t="t" r="r" b="b"/>
                  <a:pathLst>
                    <a:path w="988" h="335">
                      <a:moveTo>
                        <a:pt x="0" y="334"/>
                      </a:moveTo>
                      <a:lnTo>
                        <a:pt x="987" y="334"/>
                      </a:lnTo>
                      <a:lnTo>
                        <a:pt x="824" y="228"/>
                      </a:lnTo>
                      <a:lnTo>
                        <a:pt x="887" y="59"/>
                      </a:lnTo>
                      <a:lnTo>
                        <a:pt x="794" y="213"/>
                      </a:lnTo>
                      <a:lnTo>
                        <a:pt x="782" y="252"/>
                      </a:lnTo>
                      <a:lnTo>
                        <a:pt x="792" y="176"/>
                      </a:lnTo>
                      <a:lnTo>
                        <a:pt x="803" y="97"/>
                      </a:lnTo>
                      <a:lnTo>
                        <a:pt x="828" y="31"/>
                      </a:lnTo>
                      <a:lnTo>
                        <a:pt x="784" y="85"/>
                      </a:lnTo>
                      <a:lnTo>
                        <a:pt x="747" y="199"/>
                      </a:lnTo>
                      <a:lnTo>
                        <a:pt x="739" y="261"/>
                      </a:lnTo>
                      <a:lnTo>
                        <a:pt x="555" y="59"/>
                      </a:lnTo>
                      <a:lnTo>
                        <a:pt x="524" y="126"/>
                      </a:lnTo>
                      <a:lnTo>
                        <a:pt x="438" y="67"/>
                      </a:lnTo>
                      <a:lnTo>
                        <a:pt x="360" y="0"/>
                      </a:lnTo>
                      <a:lnTo>
                        <a:pt x="414" y="85"/>
                      </a:lnTo>
                      <a:lnTo>
                        <a:pt x="547" y="155"/>
                      </a:lnTo>
                      <a:lnTo>
                        <a:pt x="414" y="105"/>
                      </a:lnTo>
                      <a:lnTo>
                        <a:pt x="276" y="97"/>
                      </a:lnTo>
                      <a:lnTo>
                        <a:pt x="242" y="113"/>
                      </a:lnTo>
                      <a:lnTo>
                        <a:pt x="317" y="113"/>
                      </a:lnTo>
                      <a:lnTo>
                        <a:pt x="425" y="140"/>
                      </a:lnTo>
                      <a:lnTo>
                        <a:pt x="266" y="142"/>
                      </a:lnTo>
                      <a:lnTo>
                        <a:pt x="367" y="167"/>
                      </a:lnTo>
                      <a:lnTo>
                        <a:pt x="477" y="157"/>
                      </a:lnTo>
                      <a:lnTo>
                        <a:pt x="520" y="167"/>
                      </a:lnTo>
                      <a:lnTo>
                        <a:pt x="588" y="221"/>
                      </a:lnTo>
                      <a:lnTo>
                        <a:pt x="466" y="180"/>
                      </a:lnTo>
                      <a:lnTo>
                        <a:pt x="527" y="247"/>
                      </a:lnTo>
                      <a:lnTo>
                        <a:pt x="406" y="210"/>
                      </a:lnTo>
                      <a:lnTo>
                        <a:pt x="317" y="192"/>
                      </a:lnTo>
                      <a:lnTo>
                        <a:pt x="270" y="192"/>
                      </a:lnTo>
                      <a:lnTo>
                        <a:pt x="420" y="241"/>
                      </a:lnTo>
                      <a:lnTo>
                        <a:pt x="490" y="300"/>
                      </a:lnTo>
                      <a:lnTo>
                        <a:pt x="317" y="241"/>
                      </a:lnTo>
                      <a:lnTo>
                        <a:pt x="420" y="295"/>
                      </a:lnTo>
                      <a:lnTo>
                        <a:pt x="239" y="252"/>
                      </a:lnTo>
                      <a:lnTo>
                        <a:pt x="317" y="286"/>
                      </a:lnTo>
                      <a:lnTo>
                        <a:pt x="161" y="261"/>
                      </a:lnTo>
                      <a:lnTo>
                        <a:pt x="329" y="309"/>
                      </a:lnTo>
                      <a:lnTo>
                        <a:pt x="98" y="296"/>
                      </a:lnTo>
                      <a:lnTo>
                        <a:pt x="0" y="334"/>
                      </a:lnTo>
                      <a:lnTo>
                        <a:pt x="0" y="33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106800" y="4576680"/>
                  <a:ext cx="689040" cy="1725840"/>
                </a:xfrm>
                <a:custGeom>
                  <a:avLst/>
                  <a:gdLst/>
                  <a:ahLst/>
                  <a:rect l="l" t="t" r="r" b="b"/>
                  <a:pathLst>
                    <a:path w="434" h="1087">
                      <a:moveTo>
                        <a:pt x="415" y="1049"/>
                      </a:moveTo>
                      <a:lnTo>
                        <a:pt x="405" y="867"/>
                      </a:lnTo>
                      <a:lnTo>
                        <a:pt x="355" y="657"/>
                      </a:lnTo>
                      <a:lnTo>
                        <a:pt x="309" y="681"/>
                      </a:lnTo>
                      <a:lnTo>
                        <a:pt x="343" y="618"/>
                      </a:lnTo>
                      <a:lnTo>
                        <a:pt x="332" y="557"/>
                      </a:lnTo>
                      <a:lnTo>
                        <a:pt x="266" y="608"/>
                      </a:lnTo>
                      <a:lnTo>
                        <a:pt x="318" y="508"/>
                      </a:lnTo>
                      <a:lnTo>
                        <a:pt x="287" y="415"/>
                      </a:lnTo>
                      <a:lnTo>
                        <a:pt x="215" y="463"/>
                      </a:lnTo>
                      <a:lnTo>
                        <a:pt x="266" y="376"/>
                      </a:lnTo>
                      <a:lnTo>
                        <a:pt x="237" y="315"/>
                      </a:lnTo>
                      <a:lnTo>
                        <a:pt x="139" y="145"/>
                      </a:lnTo>
                      <a:lnTo>
                        <a:pt x="19" y="0"/>
                      </a:lnTo>
                      <a:lnTo>
                        <a:pt x="0" y="66"/>
                      </a:lnTo>
                      <a:lnTo>
                        <a:pt x="87" y="208"/>
                      </a:lnTo>
                      <a:lnTo>
                        <a:pt x="136" y="315"/>
                      </a:lnTo>
                      <a:lnTo>
                        <a:pt x="169" y="440"/>
                      </a:lnTo>
                      <a:lnTo>
                        <a:pt x="214" y="402"/>
                      </a:lnTo>
                      <a:lnTo>
                        <a:pt x="177" y="471"/>
                      </a:lnTo>
                      <a:lnTo>
                        <a:pt x="197" y="593"/>
                      </a:lnTo>
                      <a:lnTo>
                        <a:pt x="239" y="569"/>
                      </a:lnTo>
                      <a:lnTo>
                        <a:pt x="214" y="636"/>
                      </a:lnTo>
                      <a:lnTo>
                        <a:pt x="223" y="695"/>
                      </a:lnTo>
                      <a:lnTo>
                        <a:pt x="282" y="672"/>
                      </a:lnTo>
                      <a:lnTo>
                        <a:pt x="226" y="729"/>
                      </a:lnTo>
                      <a:lnTo>
                        <a:pt x="226" y="788"/>
                      </a:lnTo>
                      <a:lnTo>
                        <a:pt x="318" y="729"/>
                      </a:lnTo>
                      <a:lnTo>
                        <a:pt x="226" y="815"/>
                      </a:lnTo>
                      <a:lnTo>
                        <a:pt x="237" y="950"/>
                      </a:lnTo>
                      <a:lnTo>
                        <a:pt x="350" y="1086"/>
                      </a:lnTo>
                      <a:lnTo>
                        <a:pt x="433" y="1029"/>
                      </a:lnTo>
                      <a:lnTo>
                        <a:pt x="415" y="1049"/>
                      </a:lnTo>
                      <a:lnTo>
                        <a:pt x="415" y="1049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70280" y="4524480"/>
                  <a:ext cx="855720" cy="741240"/>
                </a:xfrm>
                <a:custGeom>
                  <a:avLst/>
                  <a:gdLst/>
                  <a:ahLst/>
                  <a:rect l="l" t="t" r="r" b="b"/>
                  <a:pathLst>
                    <a:path w="539" h="467">
                      <a:moveTo>
                        <a:pt x="114" y="60"/>
                      </a:moveTo>
                      <a:lnTo>
                        <a:pt x="44" y="109"/>
                      </a:lnTo>
                      <a:lnTo>
                        <a:pt x="74" y="109"/>
                      </a:lnTo>
                      <a:lnTo>
                        <a:pt x="0" y="161"/>
                      </a:lnTo>
                      <a:lnTo>
                        <a:pt x="14" y="228"/>
                      </a:lnTo>
                      <a:lnTo>
                        <a:pt x="31" y="178"/>
                      </a:lnTo>
                      <a:lnTo>
                        <a:pt x="90" y="302"/>
                      </a:lnTo>
                      <a:lnTo>
                        <a:pt x="122" y="248"/>
                      </a:lnTo>
                      <a:lnTo>
                        <a:pt x="158" y="359"/>
                      </a:lnTo>
                      <a:lnTo>
                        <a:pt x="233" y="412"/>
                      </a:lnTo>
                      <a:lnTo>
                        <a:pt x="222" y="316"/>
                      </a:lnTo>
                      <a:lnTo>
                        <a:pt x="291" y="427"/>
                      </a:lnTo>
                      <a:lnTo>
                        <a:pt x="374" y="466"/>
                      </a:lnTo>
                      <a:lnTo>
                        <a:pt x="305" y="397"/>
                      </a:lnTo>
                      <a:lnTo>
                        <a:pt x="297" y="280"/>
                      </a:lnTo>
                      <a:lnTo>
                        <a:pt x="415" y="466"/>
                      </a:lnTo>
                      <a:lnTo>
                        <a:pt x="453" y="309"/>
                      </a:lnTo>
                      <a:lnTo>
                        <a:pt x="516" y="412"/>
                      </a:lnTo>
                      <a:lnTo>
                        <a:pt x="499" y="284"/>
                      </a:lnTo>
                      <a:lnTo>
                        <a:pt x="448" y="204"/>
                      </a:lnTo>
                      <a:lnTo>
                        <a:pt x="538" y="284"/>
                      </a:lnTo>
                      <a:lnTo>
                        <a:pt x="506" y="191"/>
                      </a:lnTo>
                      <a:lnTo>
                        <a:pt x="472" y="137"/>
                      </a:lnTo>
                      <a:lnTo>
                        <a:pt x="408" y="90"/>
                      </a:lnTo>
                      <a:lnTo>
                        <a:pt x="526" y="148"/>
                      </a:lnTo>
                      <a:lnTo>
                        <a:pt x="467" y="82"/>
                      </a:lnTo>
                      <a:lnTo>
                        <a:pt x="374" y="37"/>
                      </a:lnTo>
                      <a:lnTo>
                        <a:pt x="233" y="0"/>
                      </a:lnTo>
                      <a:lnTo>
                        <a:pt x="107" y="60"/>
                      </a:lnTo>
                      <a:lnTo>
                        <a:pt x="114" y="60"/>
                      </a:lnTo>
                      <a:lnTo>
                        <a:pt x="114" y="60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2266920" y="4299120"/>
                  <a:ext cx="1795320" cy="1234800"/>
                </a:xfrm>
                <a:custGeom>
                  <a:avLst/>
                  <a:gdLst/>
                  <a:ahLst/>
                  <a:rect l="l" t="t" r="r" b="b"/>
                  <a:pathLst>
                    <a:path w="1131" h="778">
                      <a:moveTo>
                        <a:pt x="596" y="198"/>
                      </a:moveTo>
                      <a:lnTo>
                        <a:pt x="424" y="148"/>
                      </a:lnTo>
                      <a:lnTo>
                        <a:pt x="266" y="142"/>
                      </a:lnTo>
                      <a:lnTo>
                        <a:pt x="142" y="165"/>
                      </a:lnTo>
                      <a:lnTo>
                        <a:pt x="31" y="224"/>
                      </a:lnTo>
                      <a:lnTo>
                        <a:pt x="142" y="198"/>
                      </a:lnTo>
                      <a:lnTo>
                        <a:pt x="266" y="157"/>
                      </a:lnTo>
                      <a:lnTo>
                        <a:pt x="389" y="165"/>
                      </a:lnTo>
                      <a:lnTo>
                        <a:pt x="249" y="179"/>
                      </a:lnTo>
                      <a:lnTo>
                        <a:pt x="121" y="232"/>
                      </a:lnTo>
                      <a:lnTo>
                        <a:pt x="31" y="320"/>
                      </a:lnTo>
                      <a:lnTo>
                        <a:pt x="0" y="383"/>
                      </a:lnTo>
                      <a:lnTo>
                        <a:pt x="18" y="532"/>
                      </a:lnTo>
                      <a:lnTo>
                        <a:pt x="109" y="303"/>
                      </a:lnTo>
                      <a:lnTo>
                        <a:pt x="31" y="595"/>
                      </a:lnTo>
                      <a:lnTo>
                        <a:pt x="56" y="627"/>
                      </a:lnTo>
                      <a:lnTo>
                        <a:pt x="130" y="320"/>
                      </a:lnTo>
                      <a:lnTo>
                        <a:pt x="121" y="586"/>
                      </a:lnTo>
                      <a:lnTo>
                        <a:pt x="246" y="422"/>
                      </a:lnTo>
                      <a:lnTo>
                        <a:pt x="246" y="256"/>
                      </a:lnTo>
                      <a:lnTo>
                        <a:pt x="276" y="413"/>
                      </a:lnTo>
                      <a:lnTo>
                        <a:pt x="310" y="272"/>
                      </a:lnTo>
                      <a:lnTo>
                        <a:pt x="380" y="279"/>
                      </a:lnTo>
                      <a:lnTo>
                        <a:pt x="310" y="346"/>
                      </a:lnTo>
                      <a:lnTo>
                        <a:pt x="238" y="523"/>
                      </a:lnTo>
                      <a:lnTo>
                        <a:pt x="220" y="608"/>
                      </a:lnTo>
                      <a:lnTo>
                        <a:pt x="226" y="678"/>
                      </a:lnTo>
                      <a:lnTo>
                        <a:pt x="266" y="777"/>
                      </a:lnTo>
                      <a:lnTo>
                        <a:pt x="294" y="722"/>
                      </a:lnTo>
                      <a:lnTo>
                        <a:pt x="249" y="580"/>
                      </a:lnTo>
                      <a:lnTo>
                        <a:pt x="266" y="539"/>
                      </a:lnTo>
                      <a:lnTo>
                        <a:pt x="326" y="683"/>
                      </a:lnTo>
                      <a:lnTo>
                        <a:pt x="368" y="635"/>
                      </a:lnTo>
                      <a:lnTo>
                        <a:pt x="378" y="506"/>
                      </a:lnTo>
                      <a:lnTo>
                        <a:pt x="411" y="602"/>
                      </a:lnTo>
                      <a:lnTo>
                        <a:pt x="434" y="569"/>
                      </a:lnTo>
                      <a:lnTo>
                        <a:pt x="394" y="422"/>
                      </a:lnTo>
                      <a:lnTo>
                        <a:pt x="475" y="569"/>
                      </a:lnTo>
                      <a:lnTo>
                        <a:pt x="446" y="328"/>
                      </a:lnTo>
                      <a:lnTo>
                        <a:pt x="576" y="198"/>
                      </a:lnTo>
                      <a:lnTo>
                        <a:pt x="881" y="320"/>
                      </a:lnTo>
                      <a:lnTo>
                        <a:pt x="972" y="370"/>
                      </a:lnTo>
                      <a:lnTo>
                        <a:pt x="925" y="251"/>
                      </a:lnTo>
                      <a:lnTo>
                        <a:pt x="965" y="279"/>
                      </a:lnTo>
                      <a:lnTo>
                        <a:pt x="1012" y="405"/>
                      </a:lnTo>
                      <a:lnTo>
                        <a:pt x="1096" y="468"/>
                      </a:lnTo>
                      <a:lnTo>
                        <a:pt x="1007" y="266"/>
                      </a:lnTo>
                      <a:lnTo>
                        <a:pt x="1124" y="444"/>
                      </a:lnTo>
                      <a:lnTo>
                        <a:pt x="1130" y="390"/>
                      </a:lnTo>
                      <a:lnTo>
                        <a:pt x="1007" y="232"/>
                      </a:lnTo>
                      <a:lnTo>
                        <a:pt x="1130" y="303"/>
                      </a:lnTo>
                      <a:lnTo>
                        <a:pt x="1037" y="202"/>
                      </a:lnTo>
                      <a:lnTo>
                        <a:pt x="879" y="142"/>
                      </a:lnTo>
                      <a:lnTo>
                        <a:pt x="771" y="148"/>
                      </a:lnTo>
                      <a:lnTo>
                        <a:pt x="847" y="120"/>
                      </a:lnTo>
                      <a:lnTo>
                        <a:pt x="763" y="100"/>
                      </a:lnTo>
                      <a:lnTo>
                        <a:pt x="685" y="131"/>
                      </a:lnTo>
                      <a:lnTo>
                        <a:pt x="715" y="63"/>
                      </a:lnTo>
                      <a:lnTo>
                        <a:pt x="771" y="24"/>
                      </a:lnTo>
                      <a:lnTo>
                        <a:pt x="821" y="0"/>
                      </a:lnTo>
                      <a:lnTo>
                        <a:pt x="738" y="0"/>
                      </a:lnTo>
                      <a:lnTo>
                        <a:pt x="643" y="15"/>
                      </a:lnTo>
                      <a:lnTo>
                        <a:pt x="624" y="90"/>
                      </a:lnTo>
                      <a:lnTo>
                        <a:pt x="596" y="41"/>
                      </a:lnTo>
                      <a:lnTo>
                        <a:pt x="560" y="63"/>
                      </a:lnTo>
                      <a:lnTo>
                        <a:pt x="607" y="120"/>
                      </a:lnTo>
                      <a:lnTo>
                        <a:pt x="502" y="100"/>
                      </a:lnTo>
                      <a:lnTo>
                        <a:pt x="368" y="100"/>
                      </a:lnTo>
                      <a:lnTo>
                        <a:pt x="504" y="148"/>
                      </a:lnTo>
                      <a:lnTo>
                        <a:pt x="596" y="198"/>
                      </a:lnTo>
                      <a:lnTo>
                        <a:pt x="596" y="198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4562640" y="3390840"/>
                <a:ext cx="1417320" cy="1663920"/>
                <a:chOff x="4562640" y="3390840"/>
                <a:chExt cx="1417320" cy="1663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597560" y="3425760"/>
                  <a:ext cx="1382400" cy="1629000"/>
                </a:xfrm>
                <a:custGeom>
                  <a:avLst/>
                  <a:gdLst/>
                  <a:ahLst/>
                  <a:rect l="l" t="t" r="r" b="b"/>
                  <a:pathLst>
                    <a:path w="871" h="1026">
                      <a:moveTo>
                        <a:pt x="432" y="314"/>
                      </a:moveTo>
                      <a:lnTo>
                        <a:pt x="432" y="314"/>
                      </a:lnTo>
                      <a:lnTo>
                        <a:pt x="313" y="238"/>
                      </a:lnTo>
                      <a:lnTo>
                        <a:pt x="292" y="344"/>
                      </a:lnTo>
                      <a:lnTo>
                        <a:pt x="34" y="219"/>
                      </a:lnTo>
                      <a:lnTo>
                        <a:pt x="223" y="468"/>
                      </a:lnTo>
                      <a:lnTo>
                        <a:pt x="73" y="507"/>
                      </a:lnTo>
                      <a:lnTo>
                        <a:pt x="211" y="613"/>
                      </a:lnTo>
                      <a:lnTo>
                        <a:pt x="0" y="773"/>
                      </a:lnTo>
                      <a:lnTo>
                        <a:pt x="278" y="698"/>
                      </a:lnTo>
                      <a:lnTo>
                        <a:pt x="201" y="861"/>
                      </a:lnTo>
                      <a:lnTo>
                        <a:pt x="367" y="791"/>
                      </a:lnTo>
                      <a:lnTo>
                        <a:pt x="409" y="1025"/>
                      </a:lnTo>
                      <a:lnTo>
                        <a:pt x="454" y="791"/>
                      </a:lnTo>
                      <a:lnTo>
                        <a:pt x="579" y="891"/>
                      </a:lnTo>
                      <a:lnTo>
                        <a:pt x="600" y="748"/>
                      </a:lnTo>
                      <a:lnTo>
                        <a:pt x="870" y="910"/>
                      </a:lnTo>
                      <a:lnTo>
                        <a:pt x="649" y="637"/>
                      </a:lnTo>
                      <a:lnTo>
                        <a:pt x="774" y="570"/>
                      </a:lnTo>
                      <a:lnTo>
                        <a:pt x="678" y="486"/>
                      </a:lnTo>
                      <a:lnTo>
                        <a:pt x="810" y="313"/>
                      </a:lnTo>
                      <a:lnTo>
                        <a:pt x="611" y="362"/>
                      </a:lnTo>
                      <a:lnTo>
                        <a:pt x="610" y="236"/>
                      </a:lnTo>
                      <a:lnTo>
                        <a:pt x="527" y="292"/>
                      </a:lnTo>
                      <a:lnTo>
                        <a:pt x="492" y="0"/>
                      </a:lnTo>
                      <a:lnTo>
                        <a:pt x="432" y="314"/>
                      </a:lnTo>
                      <a:lnTo>
                        <a:pt x="432" y="31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562640" y="3390840"/>
                  <a:ext cx="1379520" cy="1625760"/>
                </a:xfrm>
                <a:custGeom>
                  <a:avLst/>
                  <a:gdLst/>
                  <a:ahLst/>
                  <a:rect l="l" t="t" r="r" b="b"/>
                  <a:pathLst>
                    <a:path w="869" h="1024">
                      <a:moveTo>
                        <a:pt x="431" y="308"/>
                      </a:moveTo>
                      <a:lnTo>
                        <a:pt x="431" y="308"/>
                      </a:lnTo>
                      <a:lnTo>
                        <a:pt x="308" y="236"/>
                      </a:lnTo>
                      <a:lnTo>
                        <a:pt x="293" y="341"/>
                      </a:lnTo>
                      <a:lnTo>
                        <a:pt x="33" y="217"/>
                      </a:lnTo>
                      <a:lnTo>
                        <a:pt x="223" y="460"/>
                      </a:lnTo>
                      <a:lnTo>
                        <a:pt x="74" y="500"/>
                      </a:lnTo>
                      <a:lnTo>
                        <a:pt x="210" y="610"/>
                      </a:lnTo>
                      <a:lnTo>
                        <a:pt x="0" y="765"/>
                      </a:lnTo>
                      <a:lnTo>
                        <a:pt x="275" y="692"/>
                      </a:lnTo>
                      <a:lnTo>
                        <a:pt x="196" y="856"/>
                      </a:lnTo>
                      <a:lnTo>
                        <a:pt x="364" y="790"/>
                      </a:lnTo>
                      <a:lnTo>
                        <a:pt x="410" y="1023"/>
                      </a:lnTo>
                      <a:lnTo>
                        <a:pt x="451" y="790"/>
                      </a:lnTo>
                      <a:lnTo>
                        <a:pt x="578" y="888"/>
                      </a:lnTo>
                      <a:lnTo>
                        <a:pt x="599" y="747"/>
                      </a:lnTo>
                      <a:lnTo>
                        <a:pt x="868" y="905"/>
                      </a:lnTo>
                      <a:lnTo>
                        <a:pt x="644" y="631"/>
                      </a:lnTo>
                      <a:lnTo>
                        <a:pt x="771" y="566"/>
                      </a:lnTo>
                      <a:lnTo>
                        <a:pt x="672" y="482"/>
                      </a:lnTo>
                      <a:lnTo>
                        <a:pt x="809" y="308"/>
                      </a:lnTo>
                      <a:lnTo>
                        <a:pt x="610" y="356"/>
                      </a:lnTo>
                      <a:lnTo>
                        <a:pt x="608" y="232"/>
                      </a:lnTo>
                      <a:lnTo>
                        <a:pt x="526" y="287"/>
                      </a:lnTo>
                      <a:lnTo>
                        <a:pt x="490" y="0"/>
                      </a:lnTo>
                      <a:lnTo>
                        <a:pt x="431" y="308"/>
                      </a:lnTo>
                      <a:lnTo>
                        <a:pt x="431" y="3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951440" y="3895560"/>
                  <a:ext cx="633240" cy="700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984920" y="3924360"/>
                  <a:ext cx="572760" cy="636480"/>
                </a:xfrm>
                <a:prstGeom prst="ellipse">
                  <a:avLst/>
                </a:prstGeom>
                <a:solidFill>
                  <a:srgbClr val="ff8100"/>
                </a:solidFill>
                <a:ln w="9360">
                  <a:solidFill>
                    <a:srgbClr val="ff8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2" name=""/>
              <p:cNvSpPr/>
              <p:nvPr/>
            </p:nvSpPr>
            <p:spPr>
              <a:xfrm>
                <a:off x="614520" y="6357960"/>
                <a:ext cx="5924520" cy="231840"/>
              </a:xfrm>
              <a:prstGeom prst="ellipse">
                <a:avLst/>
              </a:prstGeom>
              <a:solidFill>
                <a:srgbClr val="400080"/>
              </a:solidFill>
              <a:ln w="19080">
                <a:solidFill>
                  <a:srgbClr val="4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-303120" y="2975040"/>
              <a:ext cx="7924680" cy="4532400"/>
            </a:xfrm>
            <a:custGeom>
              <a:avLst/>
              <a:gdLst/>
              <a:ahLst/>
              <a:rect l="l" t="t" r="r" b="b"/>
              <a:pathLst>
                <a:path w="4992" h="2855">
                  <a:moveTo>
                    <a:pt x="1003" y="229"/>
                  </a:moveTo>
                  <a:lnTo>
                    <a:pt x="649" y="414"/>
                  </a:lnTo>
                  <a:lnTo>
                    <a:pt x="376" y="616"/>
                  </a:lnTo>
                  <a:lnTo>
                    <a:pt x="180" y="834"/>
                  </a:lnTo>
                  <a:lnTo>
                    <a:pt x="55" y="1060"/>
                  </a:lnTo>
                  <a:lnTo>
                    <a:pt x="0" y="1294"/>
                  </a:lnTo>
                  <a:lnTo>
                    <a:pt x="10" y="1527"/>
                  </a:lnTo>
                  <a:lnTo>
                    <a:pt x="81" y="1755"/>
                  </a:lnTo>
                  <a:lnTo>
                    <a:pt x="210" y="1974"/>
                  </a:lnTo>
                  <a:lnTo>
                    <a:pt x="394" y="2180"/>
                  </a:lnTo>
                  <a:lnTo>
                    <a:pt x="631" y="2366"/>
                  </a:lnTo>
                  <a:lnTo>
                    <a:pt x="915" y="2530"/>
                  </a:lnTo>
                  <a:lnTo>
                    <a:pt x="1244" y="2665"/>
                  </a:lnTo>
                  <a:lnTo>
                    <a:pt x="1613" y="2768"/>
                  </a:lnTo>
                  <a:lnTo>
                    <a:pt x="2020" y="2832"/>
                  </a:lnTo>
                  <a:lnTo>
                    <a:pt x="2461" y="2854"/>
                  </a:lnTo>
                  <a:lnTo>
                    <a:pt x="2933" y="2829"/>
                  </a:lnTo>
                  <a:lnTo>
                    <a:pt x="3389" y="2759"/>
                  </a:lnTo>
                  <a:lnTo>
                    <a:pt x="3790" y="2650"/>
                  </a:lnTo>
                  <a:lnTo>
                    <a:pt x="4135" y="2508"/>
                  </a:lnTo>
                  <a:lnTo>
                    <a:pt x="4422" y="2338"/>
                  </a:lnTo>
                  <a:lnTo>
                    <a:pt x="4651" y="2146"/>
                  </a:lnTo>
                  <a:lnTo>
                    <a:pt x="4823" y="1936"/>
                  </a:lnTo>
                  <a:lnTo>
                    <a:pt x="4936" y="1713"/>
                  </a:lnTo>
                  <a:lnTo>
                    <a:pt x="4991" y="1482"/>
                  </a:lnTo>
                  <a:lnTo>
                    <a:pt x="4983" y="1250"/>
                  </a:lnTo>
                  <a:lnTo>
                    <a:pt x="4917" y="1021"/>
                  </a:lnTo>
                  <a:lnTo>
                    <a:pt x="4790" y="800"/>
                  </a:lnTo>
                  <a:lnTo>
                    <a:pt x="4602" y="592"/>
                  </a:lnTo>
                  <a:lnTo>
                    <a:pt x="4350" y="404"/>
                  </a:lnTo>
                  <a:lnTo>
                    <a:pt x="4038" y="238"/>
                  </a:lnTo>
                  <a:lnTo>
                    <a:pt x="3661" y="102"/>
                  </a:lnTo>
                  <a:lnTo>
                    <a:pt x="3223" y="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7165800" y="3048120"/>
            <a:ext cx="28926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ush738 BT"/>
              </a:rPr>
              <a:t>Derechos de propiedad de todo lo que hay en la is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es lo que tiene el h -avo consumido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57160" y="3049560"/>
            <a:ext cx="38862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951360" y="2374920"/>
            <a:ext cx="3678120" cy="1649520"/>
            <a:chOff x="3951360" y="2374920"/>
            <a:chExt cx="3678120" cy="1649520"/>
          </a:xfrm>
        </p:grpSpPr>
        <p:sp>
          <p:nvSpPr>
            <p:cNvPr id="1118" name=""/>
            <p:cNvSpPr/>
            <p:nvPr/>
          </p:nvSpPr>
          <p:spPr>
            <a:xfrm>
              <a:off x="4687920" y="2998800"/>
              <a:ext cx="2322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810000"/>
                  </a:solidFill>
                  <a:latin typeface="Times New Roman"/>
                </a:rPr>
                <a:t>R</a:t>
              </a:r>
              <a:r>
                <a:rPr b="0" lang="en-US" sz="3800" spc="-1" strike="noStrike" baseline="-25000">
                  <a:solidFill>
                    <a:srgbClr val="81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810000"/>
                  </a:solidFill>
                  <a:latin typeface="Times New Roman"/>
                </a:rPr>
                <a:t>h</a:t>
              </a:r>
              <a:r>
                <a:rPr b="0" i="1" lang="en-US" sz="3800" spc="-1" strike="noStrike">
                  <a:solidFill>
                    <a:srgbClr val="810000"/>
                  </a:solidFill>
                  <a:latin typeface="Times New Roman"/>
                </a:rPr>
                <a:t>, R</a:t>
              </a:r>
              <a:r>
                <a:rPr b="0" lang="en-US" sz="3800" spc="-1" strike="noStrike" baseline="-25000">
                  <a:solidFill>
                    <a:srgbClr val="81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810000"/>
                  </a:solidFill>
                  <a:latin typeface="Times New Roman"/>
                </a:rPr>
                <a:t>h</a:t>
              </a:r>
              <a:r>
                <a:rPr b="0" i="1" lang="en-US" sz="3800" spc="-1" strike="noStrike">
                  <a:solidFill>
                    <a:srgbClr val="810000"/>
                  </a:solidFill>
                  <a:latin typeface="Times New Roman"/>
                </a:rPr>
                <a:t>, ...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51360" y="2374920"/>
              <a:ext cx="3678120" cy="1649520"/>
            </a:xfrm>
            <a:custGeom>
              <a:avLst/>
              <a:gdLst/>
              <a:ahLst/>
              <a:rect l="l" t="t" r="r" b="b"/>
              <a:pathLst>
                <a:path w="2317" h="1039">
                  <a:moveTo>
                    <a:pt x="947" y="0"/>
                  </a:moveTo>
                  <a:lnTo>
                    <a:pt x="699" y="36"/>
                  </a:lnTo>
                  <a:lnTo>
                    <a:pt x="491" y="86"/>
                  </a:lnTo>
                  <a:lnTo>
                    <a:pt x="319" y="149"/>
                  </a:lnTo>
                  <a:lnTo>
                    <a:pt x="187" y="222"/>
                  </a:lnTo>
                  <a:lnTo>
                    <a:pt x="88" y="304"/>
                  </a:lnTo>
                  <a:lnTo>
                    <a:pt x="27" y="392"/>
                  </a:lnTo>
                  <a:lnTo>
                    <a:pt x="0" y="482"/>
                  </a:lnTo>
                  <a:lnTo>
                    <a:pt x="9" y="572"/>
                  </a:lnTo>
                  <a:lnTo>
                    <a:pt x="49" y="662"/>
                  </a:lnTo>
                  <a:lnTo>
                    <a:pt x="123" y="748"/>
                  </a:lnTo>
                  <a:lnTo>
                    <a:pt x="229" y="827"/>
                  </a:lnTo>
                  <a:lnTo>
                    <a:pt x="369" y="896"/>
                  </a:lnTo>
                  <a:lnTo>
                    <a:pt x="538" y="956"/>
                  </a:lnTo>
                  <a:lnTo>
                    <a:pt x="738" y="1000"/>
                  </a:lnTo>
                  <a:lnTo>
                    <a:pt x="968" y="1029"/>
                  </a:lnTo>
                  <a:lnTo>
                    <a:pt x="1227" y="1038"/>
                  </a:lnTo>
                  <a:lnTo>
                    <a:pt x="1483" y="1029"/>
                  </a:lnTo>
                  <a:lnTo>
                    <a:pt x="1705" y="1002"/>
                  </a:lnTo>
                  <a:lnTo>
                    <a:pt x="1891" y="961"/>
                  </a:lnTo>
                  <a:lnTo>
                    <a:pt x="2045" y="906"/>
                  </a:lnTo>
                  <a:lnTo>
                    <a:pt x="2163" y="842"/>
                  </a:lnTo>
                  <a:lnTo>
                    <a:pt x="2247" y="769"/>
                  </a:lnTo>
                  <a:lnTo>
                    <a:pt x="2298" y="690"/>
                  </a:lnTo>
                  <a:lnTo>
                    <a:pt x="2316" y="606"/>
                  </a:lnTo>
                  <a:lnTo>
                    <a:pt x="2298" y="522"/>
                  </a:lnTo>
                  <a:lnTo>
                    <a:pt x="2247" y="437"/>
                  </a:lnTo>
                  <a:lnTo>
                    <a:pt x="2163" y="356"/>
                  </a:lnTo>
                  <a:lnTo>
                    <a:pt x="2046" y="278"/>
                  </a:lnTo>
                  <a:lnTo>
                    <a:pt x="1895" y="210"/>
                  </a:lnTo>
                  <a:lnTo>
                    <a:pt x="1710" y="149"/>
                  </a:lnTo>
                  <a:lnTo>
                    <a:pt x="1493" y="101"/>
                  </a:lnTo>
                  <a:lnTo>
                    <a:pt x="1244" y="66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981600" y="4748040"/>
            <a:ext cx="3678120" cy="1651320"/>
            <a:chOff x="3981600" y="4748040"/>
            <a:chExt cx="3678120" cy="1651320"/>
          </a:xfrm>
        </p:grpSpPr>
        <p:sp>
          <p:nvSpPr>
            <p:cNvPr id="1121" name=""/>
            <p:cNvSpPr/>
            <p:nvPr/>
          </p:nvSpPr>
          <p:spPr>
            <a:xfrm>
              <a:off x="3981600" y="4748040"/>
              <a:ext cx="3678120" cy="1651320"/>
            </a:xfrm>
            <a:custGeom>
              <a:avLst/>
              <a:gdLst/>
              <a:ahLst/>
              <a:rect l="l" t="t" r="r" b="b"/>
              <a:pathLst>
                <a:path w="2317" h="1040">
                  <a:moveTo>
                    <a:pt x="947" y="0"/>
                  </a:moveTo>
                  <a:lnTo>
                    <a:pt x="699" y="37"/>
                  </a:lnTo>
                  <a:lnTo>
                    <a:pt x="491" y="87"/>
                  </a:lnTo>
                  <a:lnTo>
                    <a:pt x="320" y="150"/>
                  </a:lnTo>
                  <a:lnTo>
                    <a:pt x="187" y="223"/>
                  </a:lnTo>
                  <a:lnTo>
                    <a:pt x="88" y="305"/>
                  </a:lnTo>
                  <a:lnTo>
                    <a:pt x="27" y="392"/>
                  </a:lnTo>
                  <a:lnTo>
                    <a:pt x="0" y="483"/>
                  </a:lnTo>
                  <a:lnTo>
                    <a:pt x="9" y="573"/>
                  </a:lnTo>
                  <a:lnTo>
                    <a:pt x="50" y="663"/>
                  </a:lnTo>
                  <a:lnTo>
                    <a:pt x="124" y="749"/>
                  </a:lnTo>
                  <a:lnTo>
                    <a:pt x="230" y="828"/>
                  </a:lnTo>
                  <a:lnTo>
                    <a:pt x="369" y="897"/>
                  </a:lnTo>
                  <a:lnTo>
                    <a:pt x="538" y="956"/>
                  </a:lnTo>
                  <a:lnTo>
                    <a:pt x="738" y="1001"/>
                  </a:lnTo>
                  <a:lnTo>
                    <a:pt x="968" y="1029"/>
                  </a:lnTo>
                  <a:lnTo>
                    <a:pt x="1228" y="1039"/>
                  </a:lnTo>
                  <a:lnTo>
                    <a:pt x="1483" y="1030"/>
                  </a:lnTo>
                  <a:lnTo>
                    <a:pt x="1705" y="1003"/>
                  </a:lnTo>
                  <a:lnTo>
                    <a:pt x="1892" y="962"/>
                  </a:lnTo>
                  <a:lnTo>
                    <a:pt x="2045" y="907"/>
                  </a:lnTo>
                  <a:lnTo>
                    <a:pt x="2163" y="843"/>
                  </a:lnTo>
                  <a:lnTo>
                    <a:pt x="2248" y="770"/>
                  </a:lnTo>
                  <a:lnTo>
                    <a:pt x="2298" y="691"/>
                  </a:lnTo>
                  <a:lnTo>
                    <a:pt x="2316" y="607"/>
                  </a:lnTo>
                  <a:lnTo>
                    <a:pt x="2298" y="523"/>
                  </a:lnTo>
                  <a:lnTo>
                    <a:pt x="2248" y="438"/>
                  </a:lnTo>
                  <a:lnTo>
                    <a:pt x="2164" y="357"/>
                  </a:lnTo>
                  <a:lnTo>
                    <a:pt x="2046" y="279"/>
                  </a:lnTo>
                  <a:lnTo>
                    <a:pt x="1895" y="211"/>
                  </a:lnTo>
                  <a:lnTo>
                    <a:pt x="1711" y="150"/>
                  </a:lnTo>
                  <a:lnTo>
                    <a:pt x="1494" y="102"/>
                  </a:lnTo>
                  <a:lnTo>
                    <a:pt x="1244" y="67"/>
                  </a:lnTo>
                </a:path>
              </a:pathLst>
            </a:custGeom>
            <a:noFill/>
            <a:ln w="127080">
              <a:solidFill>
                <a:srgbClr val="ff81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724280" y="5257800"/>
              <a:ext cx="2322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800" spc="-1" strike="noStrike">
                  <a:solidFill>
                    <a:srgbClr val="810000"/>
                  </a:solidFill>
                  <a:latin typeface="Symbol"/>
                  <a:ea typeface="Symbol"/>
                </a:rPr>
                <a:t></a:t>
              </a:r>
              <a:r>
                <a:rPr b="0" lang="en-US" sz="3800" spc="-1" strike="noStrike" baseline="-25000">
                  <a:solidFill>
                    <a:srgbClr val="81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810000"/>
                  </a:solidFill>
                  <a:latin typeface="Times New Roman"/>
                </a:rPr>
                <a:t>h</a:t>
              </a:r>
              <a:r>
                <a:rPr b="0" i="1" lang="en-US" sz="3800" spc="-1" strike="noStrike">
                  <a:solidFill>
                    <a:srgbClr val="810000"/>
                  </a:solidFill>
                  <a:latin typeface="Times New Roman"/>
                </a:rPr>
                <a:t>, </a:t>
              </a:r>
              <a:r>
                <a:rPr b="0" lang="en-US" sz="3800" spc="-1" strike="noStrike">
                  <a:solidFill>
                    <a:srgbClr val="810000"/>
                  </a:solidFill>
                  <a:latin typeface="Symbol"/>
                  <a:ea typeface="Symbol"/>
                </a:rPr>
                <a:t></a:t>
              </a:r>
              <a:r>
                <a:rPr b="0" lang="en-US" sz="3800" spc="-1" strike="noStrike" baseline="-25000">
                  <a:solidFill>
                    <a:srgbClr val="81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810000"/>
                  </a:solidFill>
                  <a:latin typeface="Times New Roman"/>
                </a:rPr>
                <a:t>h</a:t>
              </a:r>
              <a:r>
                <a:rPr b="0" i="1" lang="en-US" sz="3800" spc="-1" strike="noStrike">
                  <a:solidFill>
                    <a:srgbClr val="810000"/>
                  </a:solidFill>
                  <a:latin typeface="Times New Roman"/>
                </a:rPr>
                <a:t>, ...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857160" y="4952880"/>
            <a:ext cx="3886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articipación en los beneficios de las empre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380880" y="12816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33480" y="2217600"/>
            <a:ext cx="842652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articipaciones en empresas</a:t>
            </a:r>
            <a:br>
              <a:rPr sz="3300"/>
            </a:br>
            <a:br>
              <a:rPr sz="3300"/>
            </a:b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roducciones net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00200" y="6095880"/>
            <a:ext cx="3225960" cy="1452600"/>
          </a:xfrm>
          <a:prstGeom prst="roundRect">
            <a:avLst>
              <a:gd name="adj" fmla="val 0"/>
            </a:avLst>
          </a:prstGeom>
          <a:solidFill>
            <a:srgbClr val="ffffc2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Benefi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848720" y="2590920"/>
            <a:ext cx="1855800" cy="758880"/>
          </a:xfrm>
          <a:prstGeom prst="rect">
            <a:avLst/>
          </a:prstGeom>
          <a:solidFill>
            <a:srgbClr val="ffffc2"/>
          </a:solidFill>
          <a:ln w="572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Ren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41600" y="2536920"/>
            <a:ext cx="4197600" cy="933480"/>
          </a:xfrm>
          <a:prstGeom prst="line">
            <a:avLst/>
          </a:prstGeom>
          <a:ln w="127080">
            <a:solidFill>
              <a:srgbClr val="ff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2771640" y="3800520"/>
            <a:ext cx="5031000" cy="1301760"/>
          </a:xfrm>
          <a:prstGeom prst="line">
            <a:avLst/>
          </a:prstGeom>
          <a:ln w="127080">
            <a:solidFill>
              <a:srgbClr val="ff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743200"/>
            <a:ext cx="617220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85960" y="4986360"/>
            <a:ext cx="743040" cy="1185840"/>
          </a:xfrm>
          <a:prstGeom prst="line">
            <a:avLst/>
          </a:prstGeom>
          <a:ln w="127080">
            <a:solidFill>
              <a:srgbClr val="41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52680" y="3352680"/>
            <a:ext cx="533520" cy="2590920"/>
          </a:xfrm>
          <a:prstGeom prst="line">
            <a:avLst/>
          </a:prstGeom>
          <a:ln w="127080">
            <a:solidFill>
              <a:srgbClr val="41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620720" y="5484960"/>
            <a:ext cx="1084320" cy="761760"/>
          </a:xfrm>
          <a:prstGeom prst="line">
            <a:avLst/>
          </a:prstGeom>
          <a:ln w="127080">
            <a:solidFill>
              <a:srgbClr val="418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04920" y="1600200"/>
            <a:ext cx="304776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064120" y="3913200"/>
            <a:ext cx="4854600" cy="3724560"/>
            <a:chOff x="5064120" y="3913200"/>
            <a:chExt cx="4854600" cy="3724560"/>
          </a:xfrm>
        </p:grpSpPr>
        <p:sp>
          <p:nvSpPr>
            <p:cNvPr id="1136" name=""/>
            <p:cNvSpPr/>
            <p:nvPr/>
          </p:nvSpPr>
          <p:spPr>
            <a:xfrm flipV="1">
              <a:off x="5064120" y="4080960"/>
              <a:ext cx="3521160" cy="2256120"/>
            </a:xfrm>
            <a:prstGeom prst="line">
              <a:avLst/>
            </a:prstGeom>
            <a:ln w="127080">
              <a:solidFill>
                <a:srgbClr val="0082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9620000">
              <a:off x="5257800" y="5064120"/>
              <a:ext cx="464832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8280"/>
                  </a:solidFill>
                  <a:latin typeface="Times New Roman"/>
                </a:rPr>
                <a:t>Los componentes del Ingres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724280" y="2590920"/>
            <a:ext cx="6095520" cy="5485680"/>
            <a:chOff x="4724280" y="2590920"/>
            <a:chExt cx="6095520" cy="5485680"/>
          </a:xfrm>
        </p:grpSpPr>
        <p:grpSp>
          <p:nvGrpSpPr>
            <p:cNvPr id="1139" name=""/>
            <p:cNvGrpSpPr/>
            <p:nvPr/>
          </p:nvGrpSpPr>
          <p:grpSpPr>
            <a:xfrm>
              <a:off x="4724280" y="2590920"/>
              <a:ext cx="6095520" cy="5485680"/>
              <a:chOff x="4724280" y="2590920"/>
              <a:chExt cx="6095520" cy="5485680"/>
            </a:xfrm>
          </p:grpSpPr>
          <p:sp>
            <p:nvSpPr>
              <p:cNvPr id="1140" name=""/>
              <p:cNvSpPr/>
              <p:nvPr/>
            </p:nvSpPr>
            <p:spPr>
              <a:xfrm>
                <a:off x="4994640" y="2590920"/>
                <a:ext cx="5204160" cy="5476680"/>
              </a:xfrm>
              <a:custGeom>
                <a:avLst/>
                <a:gdLst/>
                <a:ahLst/>
                <a:rect l="l" t="t" r="r" b="b"/>
                <a:pathLst>
                  <a:path w="2657" h="2987">
                    <a:moveTo>
                      <a:pt x="1322" y="904"/>
                    </a:moveTo>
                    <a:lnTo>
                      <a:pt x="949" y="696"/>
                    </a:lnTo>
                    <a:lnTo>
                      <a:pt x="892" y="997"/>
                    </a:lnTo>
                    <a:lnTo>
                      <a:pt x="105" y="632"/>
                    </a:lnTo>
                    <a:lnTo>
                      <a:pt x="676" y="1357"/>
                    </a:lnTo>
                    <a:lnTo>
                      <a:pt x="231" y="1474"/>
                    </a:lnTo>
                    <a:lnTo>
                      <a:pt x="647" y="1784"/>
                    </a:lnTo>
                    <a:lnTo>
                      <a:pt x="0" y="2236"/>
                    </a:lnTo>
                    <a:lnTo>
                      <a:pt x="847" y="2024"/>
                    </a:lnTo>
                    <a:lnTo>
                      <a:pt x="609" y="2511"/>
                    </a:lnTo>
                    <a:lnTo>
                      <a:pt x="1109" y="2303"/>
                    </a:lnTo>
                    <a:lnTo>
                      <a:pt x="1248" y="2986"/>
                    </a:lnTo>
                    <a:lnTo>
                      <a:pt x="1383" y="2303"/>
                    </a:lnTo>
                    <a:lnTo>
                      <a:pt x="1768" y="2600"/>
                    </a:lnTo>
                    <a:lnTo>
                      <a:pt x="1831" y="2172"/>
                    </a:lnTo>
                    <a:lnTo>
                      <a:pt x="2656" y="2649"/>
                    </a:lnTo>
                    <a:lnTo>
                      <a:pt x="1973" y="1848"/>
                    </a:lnTo>
                    <a:lnTo>
                      <a:pt x="2354" y="1652"/>
                    </a:lnTo>
                    <a:lnTo>
                      <a:pt x="2058" y="1414"/>
                    </a:lnTo>
                    <a:lnTo>
                      <a:pt x="2468" y="900"/>
                    </a:lnTo>
                    <a:lnTo>
                      <a:pt x="1867" y="1043"/>
                    </a:lnTo>
                    <a:lnTo>
                      <a:pt x="1857" y="682"/>
                    </a:lnTo>
                    <a:lnTo>
                      <a:pt x="1609" y="844"/>
                    </a:lnTo>
                    <a:lnTo>
                      <a:pt x="1502" y="0"/>
                    </a:lnTo>
                    <a:lnTo>
                      <a:pt x="1322" y="904"/>
                    </a:lnTo>
                    <a:lnTo>
                      <a:pt x="1322" y="9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724280" y="2911320"/>
                <a:ext cx="6095520" cy="5165280"/>
              </a:xfrm>
              <a:custGeom>
                <a:avLst/>
                <a:gdLst/>
                <a:ahLst/>
                <a:rect l="l" t="t" r="r" b="b"/>
                <a:pathLst>
                  <a:path w="3112" h="2817">
                    <a:moveTo>
                      <a:pt x="949" y="812"/>
                    </a:moveTo>
                    <a:lnTo>
                      <a:pt x="346" y="813"/>
                    </a:lnTo>
                    <a:lnTo>
                      <a:pt x="791" y="1251"/>
                    </a:lnTo>
                    <a:lnTo>
                      <a:pt x="0" y="1570"/>
                    </a:lnTo>
                    <a:lnTo>
                      <a:pt x="861" y="1674"/>
                    </a:lnTo>
                    <a:lnTo>
                      <a:pt x="608" y="2092"/>
                    </a:lnTo>
                    <a:lnTo>
                      <a:pt x="1104" y="2010"/>
                    </a:lnTo>
                    <a:lnTo>
                      <a:pt x="913" y="2816"/>
                    </a:lnTo>
                    <a:lnTo>
                      <a:pt x="1403" y="2035"/>
                    </a:lnTo>
                    <a:lnTo>
                      <a:pt x="1531" y="2567"/>
                    </a:lnTo>
                    <a:lnTo>
                      <a:pt x="1769" y="2044"/>
                    </a:lnTo>
                    <a:lnTo>
                      <a:pt x="2291" y="2437"/>
                    </a:lnTo>
                    <a:lnTo>
                      <a:pt x="1965" y="1839"/>
                    </a:lnTo>
                    <a:lnTo>
                      <a:pt x="2431" y="1769"/>
                    </a:lnTo>
                    <a:lnTo>
                      <a:pt x="2212" y="1407"/>
                    </a:lnTo>
                    <a:lnTo>
                      <a:pt x="3111" y="1137"/>
                    </a:lnTo>
                    <a:lnTo>
                      <a:pt x="2111" y="1062"/>
                    </a:lnTo>
                    <a:lnTo>
                      <a:pt x="2271" y="632"/>
                    </a:lnTo>
                    <a:lnTo>
                      <a:pt x="1906" y="683"/>
                    </a:lnTo>
                    <a:lnTo>
                      <a:pt x="1886" y="0"/>
                    </a:lnTo>
                    <a:lnTo>
                      <a:pt x="1537" y="685"/>
                    </a:lnTo>
                    <a:lnTo>
                      <a:pt x="1304" y="297"/>
                    </a:lnTo>
                    <a:lnTo>
                      <a:pt x="1226" y="599"/>
                    </a:lnTo>
                    <a:lnTo>
                      <a:pt x="619" y="64"/>
                    </a:lnTo>
                    <a:lnTo>
                      <a:pt x="949" y="812"/>
                    </a:lnTo>
                    <a:lnTo>
                      <a:pt x="949" y="81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6383160" y="4474080"/>
              <a:ext cx="2593800" cy="19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600" spc="-1" strike="noStrike">
                  <a:solidFill>
                    <a:srgbClr val="810000"/>
                  </a:solidFill>
                  <a:latin typeface="Brush738 BT"/>
                </a:rPr>
                <a:t>miremos al papel desempeñado por los prec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3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producción neta depende de los preci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760840" y="2216520"/>
            <a:ext cx="4017960" cy="1227240"/>
          </a:xfrm>
          <a:prstGeom prst="roundRect">
            <a:avLst>
              <a:gd name="adj" fmla="val 16324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53280" y="2193840"/>
            <a:ext cx="2805120" cy="16160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rush738 BT"/>
              </a:rPr>
              <a:t>(oferta de producto net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00200" y="1905120"/>
            <a:ext cx="8458200" cy="198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380880" y="3505320"/>
            <a:ext cx="5257800" cy="1557360"/>
            <a:chOff x="380880" y="3505320"/>
            <a:chExt cx="5257800" cy="1557360"/>
          </a:xfrm>
        </p:grpSpPr>
        <p:sp>
          <p:nvSpPr>
            <p:cNvPr id="1148" name=""/>
            <p:cNvSpPr/>
            <p:nvPr/>
          </p:nvSpPr>
          <p:spPr>
            <a:xfrm flipV="1">
              <a:off x="380880" y="3614760"/>
              <a:ext cx="5257800" cy="1371600"/>
            </a:xfrm>
            <a:prstGeom prst="roundRect">
              <a:avLst>
                <a:gd name="adj" fmla="val 16324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456840" y="3505320"/>
              <a:ext cx="5105160" cy="1557360"/>
              <a:chOff x="456840" y="3505320"/>
              <a:chExt cx="5105160" cy="1557360"/>
            </a:xfrm>
          </p:grpSpPr>
          <p:sp>
            <p:nvSpPr>
              <p:cNvPr id="1150" name=""/>
              <p:cNvSpPr/>
              <p:nvPr/>
            </p:nvSpPr>
            <p:spPr>
              <a:xfrm>
                <a:off x="456840" y="3733920"/>
                <a:ext cx="5105160" cy="13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):=</a:t>
                </a: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</a:t>
                </a:r>
                <a:r>
                  <a:rPr b="0" i="1" lang="en-GB" sz="5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y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66520" y="3505320"/>
                <a:ext cx="722160" cy="14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2" name=""/>
          <p:cNvSpPr/>
          <p:nvPr/>
        </p:nvSpPr>
        <p:spPr>
          <a:xfrm>
            <a:off x="380880" y="533520"/>
            <a:ext cx="930780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entonces los beneficios dependen de los precio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-1219320" y="4343040"/>
            <a:ext cx="5104800" cy="3428640"/>
            <a:chOff x="-1219320" y="4343040"/>
            <a:chExt cx="5104800" cy="3428640"/>
          </a:xfrm>
        </p:grpSpPr>
        <p:sp>
          <p:nvSpPr>
            <p:cNvPr id="1154" name=""/>
            <p:cNvSpPr/>
            <p:nvPr/>
          </p:nvSpPr>
          <p:spPr>
            <a:xfrm flipV="1">
              <a:off x="1301760" y="4343040"/>
              <a:ext cx="2578320" cy="2418120"/>
            </a:xfrm>
            <a:prstGeom prst="line">
              <a:avLst/>
            </a:prstGeom>
            <a:ln w="69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1219320" y="6469200"/>
              <a:ext cx="5104800" cy="13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8000"/>
                  </a:solidFill>
                  <a:latin typeface="Brush738 BT"/>
                </a:rPr>
                <a:t>    </a:t>
              </a:r>
              <a:r>
                <a:rPr b="1" lang="en-GB" sz="4800" spc="-1" strike="noStrike">
                  <a:solidFill>
                    <a:srgbClr val="008000"/>
                  </a:solidFill>
                  <a:latin typeface="Brush738 BT"/>
                </a:rPr>
                <a:t>directament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4876920" y="4419720"/>
            <a:ext cx="9166320" cy="1904400"/>
            <a:chOff x="4876920" y="4419720"/>
            <a:chExt cx="9166320" cy="1904400"/>
          </a:xfrm>
        </p:grpSpPr>
        <p:sp>
          <p:nvSpPr>
            <p:cNvPr id="1157" name=""/>
            <p:cNvSpPr/>
            <p:nvPr/>
          </p:nvSpPr>
          <p:spPr>
            <a:xfrm flipH="1" flipV="1">
              <a:off x="4876920" y="4419720"/>
              <a:ext cx="3245040" cy="1180080"/>
            </a:xfrm>
            <a:prstGeom prst="line">
              <a:avLst/>
            </a:prstGeom>
            <a:ln w="69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0480" y="5667840"/>
              <a:ext cx="786276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8000"/>
                  </a:solidFill>
                  <a:latin typeface="Brush738 BT"/>
                </a:rPr>
                <a:t>indirecta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8000"/>
                  </a:solidFill>
                  <a:latin typeface="Brush738 BT"/>
                </a:rPr>
                <a:t>-ment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446040" y="22824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ncomes = resource rents + profi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914400" y="3581280"/>
            <a:ext cx="8839080" cy="1893960"/>
            <a:chOff x="914400" y="3581280"/>
            <a:chExt cx="8839080" cy="1893960"/>
          </a:xfrm>
        </p:grpSpPr>
        <p:sp>
          <p:nvSpPr>
            <p:cNvPr id="1161" name=""/>
            <p:cNvSpPr/>
            <p:nvPr/>
          </p:nvSpPr>
          <p:spPr>
            <a:xfrm flipV="1">
              <a:off x="914400" y="3685680"/>
              <a:ext cx="8153280" cy="1789200"/>
            </a:xfrm>
            <a:prstGeom prst="roundRect">
              <a:avLst>
                <a:gd name="adj" fmla="val 6245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990720" y="3581280"/>
              <a:ext cx="8762760" cy="1752480"/>
              <a:chOff x="990720" y="3581280"/>
              <a:chExt cx="8762760" cy="1752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990720" y="3885840"/>
                <a:ext cx="8762760" cy="13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GB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GB" sz="8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R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GB" sz="8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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h 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514600" y="3581280"/>
                <a:ext cx="37940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3000" spc="-1" strike="noStrike">
                    <a:solidFill>
                      <a:srgbClr val="000000"/>
                    </a:solidFill>
                    <a:latin typeface="Times New Roman"/>
                  </a:rPr>
                  <a:t>n                             n</a:t>
                </a:r>
                <a:r>
                  <a:rPr b="0" i="1" lang="en-GB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3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=1                         </a:t>
                </a:r>
                <a:r>
                  <a:rPr b="0" i="1" lang="en-GB" sz="3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5" name=""/>
          <p:cNvGrpSpPr/>
          <p:nvPr/>
        </p:nvGrpSpPr>
        <p:grpSpPr>
          <a:xfrm>
            <a:off x="2362320" y="1828800"/>
            <a:ext cx="5257800" cy="1557360"/>
            <a:chOff x="2362320" y="1828800"/>
            <a:chExt cx="5257800" cy="1557360"/>
          </a:xfrm>
        </p:grpSpPr>
        <p:sp>
          <p:nvSpPr>
            <p:cNvPr id="1166" name=""/>
            <p:cNvSpPr/>
            <p:nvPr/>
          </p:nvSpPr>
          <p:spPr>
            <a:xfrm flipV="1">
              <a:off x="2362320" y="1937880"/>
              <a:ext cx="5257800" cy="1371600"/>
            </a:xfrm>
            <a:prstGeom prst="roundRect">
              <a:avLst>
                <a:gd name="adj" fmla="val 16324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2438280" y="1828800"/>
              <a:ext cx="5105160" cy="1557360"/>
              <a:chOff x="2438280" y="1828800"/>
              <a:chExt cx="5105160" cy="1557360"/>
            </a:xfrm>
          </p:grpSpPr>
          <p:sp>
            <p:nvSpPr>
              <p:cNvPr id="1168" name=""/>
              <p:cNvSpPr/>
              <p:nvPr/>
            </p:nvSpPr>
            <p:spPr>
              <a:xfrm>
                <a:off x="2438280" y="2057400"/>
                <a:ext cx="5105160" cy="13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):=</a:t>
                </a: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</a:t>
                </a:r>
                <a:r>
                  <a:rPr b="0" i="1" lang="en-GB" sz="5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 y</a:t>
                </a:r>
                <a:r>
                  <a:rPr b="0" i="1" lang="en-GB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5400" spc="-1" strike="noStrike" baseline="30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GB" sz="5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GB" sz="5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647960" y="1828800"/>
                <a:ext cx="722160" cy="14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0" name=""/>
          <p:cNvSpPr/>
          <p:nvPr/>
        </p:nvSpPr>
        <p:spPr>
          <a:xfrm>
            <a:off x="914400" y="1828800"/>
            <a:ext cx="891540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46040" y="380880"/>
            <a:ext cx="945360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es asi que el ingreso depende de los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520" y="3581280"/>
            <a:ext cx="891540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438280" y="5666400"/>
            <a:ext cx="5410440" cy="1788840"/>
          </a:xfrm>
          <a:prstGeom prst="roundRect">
            <a:avLst>
              <a:gd name="adj" fmla="val 6245"/>
            </a:avLst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GB" sz="6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6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2863800" y="3406680"/>
            <a:ext cx="7250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916360" y="5543640"/>
            <a:ext cx="7250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=1,2,...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7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ntonces tome la asignación como una colección de respuest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1828800" y="3657600"/>
            <a:ext cx="1074600" cy="893880"/>
            <a:chOff x="1828800" y="3657600"/>
            <a:chExt cx="1074600" cy="893880"/>
          </a:xfrm>
        </p:grpSpPr>
        <p:sp>
          <p:nvSpPr>
            <p:cNvPr id="1178" name=""/>
            <p:cNvSpPr/>
            <p:nvPr/>
          </p:nvSpPr>
          <p:spPr>
            <a:xfrm>
              <a:off x="1911240" y="3657600"/>
              <a:ext cx="992160" cy="836640"/>
            </a:xfrm>
            <a:custGeom>
              <a:avLst/>
              <a:gdLst/>
              <a:ahLst/>
              <a:rect l="l" t="t" r="r" b="b"/>
              <a:pathLst>
                <a:path w="625" h="527">
                  <a:moveTo>
                    <a:pt x="534" y="368"/>
                  </a:moveTo>
                  <a:lnTo>
                    <a:pt x="534" y="368"/>
                  </a:lnTo>
                  <a:lnTo>
                    <a:pt x="398" y="526"/>
                  </a:lnTo>
                  <a:lnTo>
                    <a:pt x="398" y="408"/>
                  </a:lnTo>
                  <a:lnTo>
                    <a:pt x="0" y="408"/>
                  </a:lnTo>
                  <a:lnTo>
                    <a:pt x="0" y="117"/>
                  </a:lnTo>
                  <a:lnTo>
                    <a:pt x="398" y="117"/>
                  </a:lnTo>
                  <a:lnTo>
                    <a:pt x="398" y="0"/>
                  </a:lnTo>
                  <a:lnTo>
                    <a:pt x="624" y="265"/>
                  </a:lnTo>
                  <a:lnTo>
                    <a:pt x="534" y="368"/>
                  </a:lnTo>
                  <a:lnTo>
                    <a:pt x="534" y="36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28800" y="3843360"/>
              <a:ext cx="719280" cy="708120"/>
            </a:xfrm>
            <a:custGeom>
              <a:avLst/>
              <a:gdLst/>
              <a:ahLst/>
              <a:rect l="l" t="t" r="r" b="b"/>
              <a:pathLst>
                <a:path w="453" h="446">
                  <a:moveTo>
                    <a:pt x="452" y="291"/>
                  </a:moveTo>
                  <a:lnTo>
                    <a:pt x="452" y="291"/>
                  </a:lnTo>
                  <a:lnTo>
                    <a:pt x="452" y="409"/>
                  </a:lnTo>
                  <a:lnTo>
                    <a:pt x="399" y="445"/>
                  </a:lnTo>
                  <a:lnTo>
                    <a:pt x="399" y="331"/>
                  </a:lnTo>
                  <a:lnTo>
                    <a:pt x="0" y="331"/>
                  </a:lnTo>
                  <a:lnTo>
                    <a:pt x="0" y="40"/>
                  </a:lnTo>
                  <a:lnTo>
                    <a:pt x="54" y="0"/>
                  </a:lnTo>
                  <a:lnTo>
                    <a:pt x="54" y="291"/>
                  </a:lnTo>
                  <a:lnTo>
                    <a:pt x="452" y="291"/>
                  </a:lnTo>
                  <a:lnTo>
                    <a:pt x="452" y="407"/>
                  </a:lnTo>
                  <a:lnTo>
                    <a:pt x="452" y="291"/>
                  </a:lnTo>
                  <a:lnTo>
                    <a:pt x="452" y="29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68520" y="3657600"/>
              <a:ext cx="76320" cy="18756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47" y="0"/>
                  </a:moveTo>
                  <a:lnTo>
                    <a:pt x="47" y="0"/>
                  </a:lnTo>
                  <a:lnTo>
                    <a:pt x="47" y="117"/>
                  </a:lnTo>
                  <a:lnTo>
                    <a:pt x="0" y="117"/>
                  </a:lnTo>
                  <a:lnTo>
                    <a:pt x="0" y="40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961920" y="3359160"/>
            <a:ext cx="561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5664240"/>
            <a:ext cx="1922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7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828800" y="5735520"/>
            <a:ext cx="1074600" cy="893880"/>
            <a:chOff x="1828800" y="5735520"/>
            <a:chExt cx="1074600" cy="893880"/>
          </a:xfrm>
        </p:grpSpPr>
        <p:sp>
          <p:nvSpPr>
            <p:cNvPr id="1184" name=""/>
            <p:cNvSpPr/>
            <p:nvPr/>
          </p:nvSpPr>
          <p:spPr>
            <a:xfrm>
              <a:off x="1911240" y="5735520"/>
              <a:ext cx="992160" cy="838440"/>
            </a:xfrm>
            <a:custGeom>
              <a:avLst/>
              <a:gdLst/>
              <a:ahLst/>
              <a:rect l="l" t="t" r="r" b="b"/>
              <a:pathLst>
                <a:path w="625" h="528">
                  <a:moveTo>
                    <a:pt x="534" y="369"/>
                  </a:moveTo>
                  <a:lnTo>
                    <a:pt x="534" y="369"/>
                  </a:lnTo>
                  <a:lnTo>
                    <a:pt x="398" y="527"/>
                  </a:lnTo>
                  <a:lnTo>
                    <a:pt x="398" y="409"/>
                  </a:lnTo>
                  <a:lnTo>
                    <a:pt x="0" y="409"/>
                  </a:lnTo>
                  <a:lnTo>
                    <a:pt x="0" y="117"/>
                  </a:lnTo>
                  <a:lnTo>
                    <a:pt x="398" y="117"/>
                  </a:lnTo>
                  <a:lnTo>
                    <a:pt x="398" y="0"/>
                  </a:lnTo>
                  <a:lnTo>
                    <a:pt x="624" y="265"/>
                  </a:lnTo>
                  <a:lnTo>
                    <a:pt x="534" y="369"/>
                  </a:lnTo>
                  <a:lnTo>
                    <a:pt x="534" y="36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28800" y="5921280"/>
              <a:ext cx="719280" cy="708120"/>
            </a:xfrm>
            <a:custGeom>
              <a:avLst/>
              <a:gdLst/>
              <a:ahLst/>
              <a:rect l="l" t="t" r="r" b="b"/>
              <a:pathLst>
                <a:path w="453" h="446">
                  <a:moveTo>
                    <a:pt x="452" y="292"/>
                  </a:moveTo>
                  <a:lnTo>
                    <a:pt x="452" y="292"/>
                  </a:lnTo>
                  <a:lnTo>
                    <a:pt x="452" y="409"/>
                  </a:lnTo>
                  <a:lnTo>
                    <a:pt x="399" y="445"/>
                  </a:lnTo>
                  <a:lnTo>
                    <a:pt x="399" y="332"/>
                  </a:lnTo>
                  <a:lnTo>
                    <a:pt x="0" y="332"/>
                  </a:lnTo>
                  <a:lnTo>
                    <a:pt x="0" y="40"/>
                  </a:lnTo>
                  <a:lnTo>
                    <a:pt x="54" y="0"/>
                  </a:lnTo>
                  <a:lnTo>
                    <a:pt x="54" y="292"/>
                  </a:lnTo>
                  <a:lnTo>
                    <a:pt x="452" y="292"/>
                  </a:lnTo>
                  <a:lnTo>
                    <a:pt x="452" y="408"/>
                  </a:lnTo>
                  <a:lnTo>
                    <a:pt x="452" y="292"/>
                  </a:lnTo>
                  <a:lnTo>
                    <a:pt x="452" y="29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68520" y="5735520"/>
              <a:ext cx="76320" cy="18756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47" y="0"/>
                  </a:moveTo>
                  <a:lnTo>
                    <a:pt x="47" y="0"/>
                  </a:lnTo>
                  <a:lnTo>
                    <a:pt x="47" y="117"/>
                  </a:lnTo>
                  <a:lnTo>
                    <a:pt x="0" y="117"/>
                  </a:lnTo>
                  <a:lnTo>
                    <a:pt x="0" y="41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14560" y="2133360"/>
            <a:ext cx="6991560" cy="5049360"/>
            <a:chOff x="2914560" y="2133360"/>
            <a:chExt cx="6991560" cy="5049360"/>
          </a:xfrm>
        </p:grpSpPr>
        <p:sp>
          <p:nvSpPr>
            <p:cNvPr id="1188" name=""/>
            <p:cNvSpPr/>
            <p:nvPr/>
          </p:nvSpPr>
          <p:spPr>
            <a:xfrm flipV="1">
              <a:off x="2914560" y="2853000"/>
              <a:ext cx="6991560" cy="4329000"/>
            </a:xfrm>
            <a:prstGeom prst="roundRect">
              <a:avLst>
                <a:gd name="adj" fmla="val 0"/>
              </a:avLst>
            </a:prstGeom>
            <a:noFill/>
            <a:ln w="4752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707000" y="2132640"/>
              <a:ext cx="3719880" cy="766440"/>
            </a:xfrm>
            <a:prstGeom prst="roundRect">
              <a:avLst>
                <a:gd name="adj" fmla="val 0"/>
              </a:avLst>
            </a:prstGeom>
            <a:solidFill>
              <a:srgbClr val="ffffc2"/>
            </a:solidFill>
            <a:ln w="3168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a asignación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676520" y="3428640"/>
            <a:ext cx="5794200" cy="2227680"/>
            <a:chOff x="1676520" y="3428640"/>
            <a:chExt cx="5794200" cy="2227680"/>
          </a:xfrm>
        </p:grpSpPr>
        <p:sp>
          <p:nvSpPr>
            <p:cNvPr id="1191" name=""/>
            <p:cNvSpPr/>
            <p:nvPr/>
          </p:nvSpPr>
          <p:spPr>
            <a:xfrm flipV="1">
              <a:off x="2168640" y="3428280"/>
              <a:ext cx="5302080" cy="1407960"/>
            </a:xfrm>
            <a:prstGeom prst="roundRect">
              <a:avLst>
                <a:gd name="adj" fmla="val 6921"/>
              </a:avLst>
            </a:prstGeom>
            <a:solidFill>
              <a:srgbClr val="ffffff"/>
            </a:solidFill>
            <a:ln w="4752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66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GB" sz="6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6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GB" sz="6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66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6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6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6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1676520" y="4859280"/>
              <a:ext cx="766800" cy="7970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-225360" y="0"/>
            <a:ext cx="10283760" cy="18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sustituyendo la relación ingreso-precios en la respuesta de los consumidor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304920" y="0"/>
            <a:ext cx="10363320" cy="15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lo que implica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410080"/>
            <a:ext cx="182880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4419720" y="3429000"/>
            <a:ext cx="3689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 )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40240" y="5543640"/>
            <a:ext cx="2951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72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scrito mas simplement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990720" y="4648320"/>
            <a:ext cx="1599480" cy="1329480"/>
            <a:chOff x="990720" y="4648320"/>
            <a:chExt cx="1599480" cy="1329480"/>
          </a:xfrm>
        </p:grpSpPr>
        <p:sp>
          <p:nvSpPr>
            <p:cNvPr id="1200" name=""/>
            <p:cNvSpPr/>
            <p:nvPr/>
          </p:nvSpPr>
          <p:spPr>
            <a:xfrm>
              <a:off x="1113120" y="4648320"/>
              <a:ext cx="1477080" cy="1247400"/>
            </a:xfrm>
            <a:custGeom>
              <a:avLst/>
              <a:gdLst/>
              <a:ahLst/>
              <a:rect l="l" t="t" r="r" b="b"/>
              <a:pathLst>
                <a:path w="625" h="528">
                  <a:moveTo>
                    <a:pt x="534" y="369"/>
                  </a:moveTo>
                  <a:lnTo>
                    <a:pt x="534" y="369"/>
                  </a:lnTo>
                  <a:lnTo>
                    <a:pt x="398" y="527"/>
                  </a:lnTo>
                  <a:lnTo>
                    <a:pt x="398" y="409"/>
                  </a:lnTo>
                  <a:lnTo>
                    <a:pt x="0" y="409"/>
                  </a:lnTo>
                  <a:lnTo>
                    <a:pt x="0" y="117"/>
                  </a:lnTo>
                  <a:lnTo>
                    <a:pt x="398" y="117"/>
                  </a:lnTo>
                  <a:lnTo>
                    <a:pt x="398" y="0"/>
                  </a:lnTo>
                  <a:lnTo>
                    <a:pt x="624" y="265"/>
                  </a:lnTo>
                  <a:lnTo>
                    <a:pt x="534" y="369"/>
                  </a:lnTo>
                  <a:lnTo>
                    <a:pt x="534" y="36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990720" y="4924440"/>
              <a:ext cx="1070640" cy="1053360"/>
            </a:xfrm>
            <a:custGeom>
              <a:avLst/>
              <a:gdLst/>
              <a:ahLst/>
              <a:rect l="l" t="t" r="r" b="b"/>
              <a:pathLst>
                <a:path w="453" h="446">
                  <a:moveTo>
                    <a:pt x="452" y="292"/>
                  </a:moveTo>
                  <a:lnTo>
                    <a:pt x="452" y="292"/>
                  </a:lnTo>
                  <a:lnTo>
                    <a:pt x="452" y="409"/>
                  </a:lnTo>
                  <a:lnTo>
                    <a:pt x="399" y="445"/>
                  </a:lnTo>
                  <a:lnTo>
                    <a:pt x="399" y="332"/>
                  </a:lnTo>
                  <a:lnTo>
                    <a:pt x="0" y="332"/>
                  </a:lnTo>
                  <a:lnTo>
                    <a:pt x="0" y="40"/>
                  </a:lnTo>
                  <a:lnTo>
                    <a:pt x="54" y="0"/>
                  </a:lnTo>
                  <a:lnTo>
                    <a:pt x="54" y="292"/>
                  </a:lnTo>
                  <a:lnTo>
                    <a:pt x="452" y="292"/>
                  </a:lnTo>
                  <a:lnTo>
                    <a:pt x="452" y="408"/>
                  </a:lnTo>
                  <a:lnTo>
                    <a:pt x="452" y="292"/>
                  </a:lnTo>
                  <a:lnTo>
                    <a:pt x="452" y="292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42920" y="4648320"/>
              <a:ext cx="113400" cy="2790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47" y="0"/>
                  </a:moveTo>
                  <a:lnTo>
                    <a:pt x="47" y="0"/>
                  </a:lnTo>
                  <a:lnTo>
                    <a:pt x="47" y="117"/>
                  </a:lnTo>
                  <a:lnTo>
                    <a:pt x="0" y="117"/>
                  </a:lnTo>
                  <a:lnTo>
                    <a:pt x="0" y="41"/>
                  </a:lnTo>
                  <a:lnTo>
                    <a:pt x="47" y="0"/>
                  </a:lnTo>
                  <a:lnTo>
                    <a:pt x="47" y="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914560" y="2133360"/>
            <a:ext cx="6991560" cy="5049360"/>
            <a:chOff x="2914560" y="2133360"/>
            <a:chExt cx="6991560" cy="5049360"/>
          </a:xfrm>
        </p:grpSpPr>
        <p:sp>
          <p:nvSpPr>
            <p:cNvPr id="1204" name=""/>
            <p:cNvSpPr/>
            <p:nvPr/>
          </p:nvSpPr>
          <p:spPr>
            <a:xfrm flipV="1">
              <a:off x="2914560" y="2853000"/>
              <a:ext cx="6991560" cy="4329000"/>
            </a:xfrm>
            <a:prstGeom prst="roundRect">
              <a:avLst>
                <a:gd name="adj" fmla="val 0"/>
              </a:avLst>
            </a:prstGeom>
            <a:noFill/>
            <a:ln w="4752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707000" y="2132640"/>
              <a:ext cx="3719880" cy="766440"/>
            </a:xfrm>
            <a:prstGeom prst="roundRect">
              <a:avLst>
                <a:gd name="adj" fmla="val 0"/>
              </a:avLst>
            </a:prstGeom>
            <a:solidFill>
              <a:srgbClr val="ffffc2"/>
            </a:solidFill>
            <a:ln w="3168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a asignació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200160" y="4564080"/>
            <a:ext cx="561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1208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94160" y="3935520"/>
              <a:ext cx="386424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4800" spc="-1" strike="noStrike">
                  <a:solidFill>
                    <a:srgbClr val="ffffff"/>
                  </a:solidFill>
                  <a:latin typeface="Times New Roman"/>
                </a:rPr>
                <a:t>Miremos a todo este proceso</a:t>
              </a:r>
              <a:r>
                <a:rPr b="1" i="1" lang="en-GB" sz="4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47360" y="4287960"/>
            <a:ext cx="8821800" cy="10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quilibrio General . Una economía con muchas perso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8680" y="1681200"/>
            <a:ext cx="775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Microeconomía II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5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GB" sz="5200" spc="-1" strike="noStrike">
                <a:solidFill>
                  <a:srgbClr val="000000"/>
                </a:solidFill>
                <a:latin typeface="Arial"/>
              </a:rPr>
              <a:t>1998-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19240" y="5383080"/>
            <a:ext cx="4499280" cy="2300400"/>
            <a:chOff x="2919240" y="5383080"/>
            <a:chExt cx="4499280" cy="2300400"/>
          </a:xfrm>
        </p:grpSpPr>
        <p:sp>
          <p:nvSpPr>
            <p:cNvPr id="45" name=""/>
            <p:cNvSpPr/>
            <p:nvPr/>
          </p:nvSpPr>
          <p:spPr>
            <a:xfrm>
              <a:off x="2919240" y="5497560"/>
              <a:ext cx="1195560" cy="1512720"/>
            </a:xfrm>
            <a:custGeom>
              <a:avLst/>
              <a:gdLst/>
              <a:ahLst/>
              <a:rect l="l" t="t" r="r" b="b"/>
              <a:pathLst>
                <a:path w="753" h="953">
                  <a:moveTo>
                    <a:pt x="0" y="952"/>
                  </a:moveTo>
                  <a:lnTo>
                    <a:pt x="7" y="593"/>
                  </a:lnTo>
                  <a:lnTo>
                    <a:pt x="40" y="485"/>
                  </a:lnTo>
                  <a:lnTo>
                    <a:pt x="98" y="436"/>
                  </a:lnTo>
                  <a:lnTo>
                    <a:pt x="173" y="427"/>
                  </a:lnTo>
                  <a:lnTo>
                    <a:pt x="239" y="411"/>
                  </a:lnTo>
                  <a:lnTo>
                    <a:pt x="267" y="376"/>
                  </a:lnTo>
                  <a:lnTo>
                    <a:pt x="269" y="324"/>
                  </a:lnTo>
                  <a:lnTo>
                    <a:pt x="244" y="295"/>
                  </a:lnTo>
                  <a:lnTo>
                    <a:pt x="244" y="279"/>
                  </a:lnTo>
                  <a:lnTo>
                    <a:pt x="221" y="259"/>
                  </a:lnTo>
                  <a:lnTo>
                    <a:pt x="203" y="213"/>
                  </a:lnTo>
                  <a:lnTo>
                    <a:pt x="205" y="204"/>
                  </a:lnTo>
                  <a:lnTo>
                    <a:pt x="186" y="169"/>
                  </a:lnTo>
                  <a:lnTo>
                    <a:pt x="205" y="99"/>
                  </a:lnTo>
                  <a:lnTo>
                    <a:pt x="249" y="66"/>
                  </a:lnTo>
                  <a:lnTo>
                    <a:pt x="297" y="20"/>
                  </a:lnTo>
                  <a:lnTo>
                    <a:pt x="393" y="0"/>
                  </a:lnTo>
                  <a:lnTo>
                    <a:pt x="467" y="35"/>
                  </a:lnTo>
                  <a:lnTo>
                    <a:pt x="491" y="61"/>
                  </a:lnTo>
                  <a:lnTo>
                    <a:pt x="535" y="76"/>
                  </a:lnTo>
                  <a:lnTo>
                    <a:pt x="535" y="107"/>
                  </a:lnTo>
                  <a:lnTo>
                    <a:pt x="541" y="126"/>
                  </a:lnTo>
                  <a:lnTo>
                    <a:pt x="569" y="162"/>
                  </a:lnTo>
                  <a:lnTo>
                    <a:pt x="547" y="210"/>
                  </a:lnTo>
                  <a:lnTo>
                    <a:pt x="549" y="243"/>
                  </a:lnTo>
                  <a:lnTo>
                    <a:pt x="526" y="279"/>
                  </a:lnTo>
                  <a:lnTo>
                    <a:pt x="507" y="289"/>
                  </a:lnTo>
                  <a:lnTo>
                    <a:pt x="507" y="306"/>
                  </a:lnTo>
                  <a:lnTo>
                    <a:pt x="485" y="345"/>
                  </a:lnTo>
                  <a:lnTo>
                    <a:pt x="468" y="376"/>
                  </a:lnTo>
                  <a:lnTo>
                    <a:pt x="517" y="411"/>
                  </a:lnTo>
                  <a:lnTo>
                    <a:pt x="598" y="446"/>
                  </a:lnTo>
                  <a:lnTo>
                    <a:pt x="681" y="481"/>
                  </a:lnTo>
                  <a:lnTo>
                    <a:pt x="719" y="523"/>
                  </a:lnTo>
                  <a:lnTo>
                    <a:pt x="735" y="579"/>
                  </a:lnTo>
                  <a:lnTo>
                    <a:pt x="747" y="663"/>
                  </a:lnTo>
                  <a:lnTo>
                    <a:pt x="752" y="911"/>
                  </a:lnTo>
                  <a:lnTo>
                    <a:pt x="0" y="952"/>
                  </a:lnTo>
                  <a:lnTo>
                    <a:pt x="0" y="952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5405400"/>
              <a:ext cx="1274760" cy="1454040"/>
            </a:xfrm>
            <a:custGeom>
              <a:avLst/>
              <a:gdLst/>
              <a:ahLst/>
              <a:rect l="l" t="t" r="r" b="b"/>
              <a:pathLst>
                <a:path w="803" h="916">
                  <a:moveTo>
                    <a:pt x="16" y="904"/>
                  </a:moveTo>
                  <a:lnTo>
                    <a:pt x="11" y="901"/>
                  </a:lnTo>
                  <a:lnTo>
                    <a:pt x="8" y="894"/>
                  </a:lnTo>
                  <a:lnTo>
                    <a:pt x="4" y="883"/>
                  </a:lnTo>
                  <a:lnTo>
                    <a:pt x="2" y="865"/>
                  </a:lnTo>
                  <a:lnTo>
                    <a:pt x="1" y="847"/>
                  </a:lnTo>
                  <a:lnTo>
                    <a:pt x="0" y="825"/>
                  </a:lnTo>
                  <a:lnTo>
                    <a:pt x="0" y="802"/>
                  </a:lnTo>
                  <a:lnTo>
                    <a:pt x="0" y="777"/>
                  </a:lnTo>
                  <a:lnTo>
                    <a:pt x="0" y="754"/>
                  </a:lnTo>
                  <a:lnTo>
                    <a:pt x="0" y="729"/>
                  </a:lnTo>
                  <a:lnTo>
                    <a:pt x="0" y="707"/>
                  </a:lnTo>
                  <a:lnTo>
                    <a:pt x="1" y="685"/>
                  </a:lnTo>
                  <a:lnTo>
                    <a:pt x="2" y="667"/>
                  </a:lnTo>
                  <a:lnTo>
                    <a:pt x="4" y="650"/>
                  </a:lnTo>
                  <a:lnTo>
                    <a:pt x="6" y="639"/>
                  </a:lnTo>
                  <a:lnTo>
                    <a:pt x="8" y="630"/>
                  </a:lnTo>
                  <a:lnTo>
                    <a:pt x="8" y="627"/>
                  </a:lnTo>
                  <a:lnTo>
                    <a:pt x="9" y="623"/>
                  </a:lnTo>
                  <a:lnTo>
                    <a:pt x="9" y="620"/>
                  </a:lnTo>
                  <a:lnTo>
                    <a:pt x="11" y="615"/>
                  </a:lnTo>
                  <a:lnTo>
                    <a:pt x="11" y="611"/>
                  </a:lnTo>
                  <a:lnTo>
                    <a:pt x="12" y="605"/>
                  </a:lnTo>
                  <a:lnTo>
                    <a:pt x="13" y="600"/>
                  </a:lnTo>
                  <a:lnTo>
                    <a:pt x="15" y="595"/>
                  </a:lnTo>
                  <a:lnTo>
                    <a:pt x="16" y="591"/>
                  </a:lnTo>
                  <a:lnTo>
                    <a:pt x="18" y="585"/>
                  </a:lnTo>
                  <a:lnTo>
                    <a:pt x="20" y="582"/>
                  </a:lnTo>
                  <a:lnTo>
                    <a:pt x="21" y="576"/>
                  </a:lnTo>
                  <a:lnTo>
                    <a:pt x="23" y="572"/>
                  </a:lnTo>
                  <a:lnTo>
                    <a:pt x="25" y="569"/>
                  </a:lnTo>
                  <a:lnTo>
                    <a:pt x="27" y="565"/>
                  </a:lnTo>
                  <a:lnTo>
                    <a:pt x="30" y="562"/>
                  </a:lnTo>
                  <a:lnTo>
                    <a:pt x="33" y="558"/>
                  </a:lnTo>
                  <a:lnTo>
                    <a:pt x="37" y="554"/>
                  </a:lnTo>
                  <a:lnTo>
                    <a:pt x="41" y="551"/>
                  </a:lnTo>
                  <a:lnTo>
                    <a:pt x="45" y="546"/>
                  </a:lnTo>
                  <a:lnTo>
                    <a:pt x="49" y="542"/>
                  </a:lnTo>
                  <a:lnTo>
                    <a:pt x="52" y="537"/>
                  </a:lnTo>
                  <a:lnTo>
                    <a:pt x="56" y="533"/>
                  </a:lnTo>
                  <a:lnTo>
                    <a:pt x="62" y="528"/>
                  </a:lnTo>
                  <a:lnTo>
                    <a:pt x="66" y="524"/>
                  </a:lnTo>
                  <a:lnTo>
                    <a:pt x="70" y="520"/>
                  </a:lnTo>
                  <a:lnTo>
                    <a:pt x="74" y="516"/>
                  </a:lnTo>
                  <a:lnTo>
                    <a:pt x="79" y="511"/>
                  </a:lnTo>
                  <a:lnTo>
                    <a:pt x="83" y="507"/>
                  </a:lnTo>
                  <a:lnTo>
                    <a:pt x="88" y="503"/>
                  </a:lnTo>
                  <a:lnTo>
                    <a:pt x="91" y="499"/>
                  </a:lnTo>
                  <a:lnTo>
                    <a:pt x="97" y="494"/>
                  </a:lnTo>
                  <a:lnTo>
                    <a:pt x="98" y="494"/>
                  </a:lnTo>
                  <a:lnTo>
                    <a:pt x="101" y="493"/>
                  </a:lnTo>
                  <a:lnTo>
                    <a:pt x="105" y="491"/>
                  </a:lnTo>
                  <a:lnTo>
                    <a:pt x="110" y="489"/>
                  </a:lnTo>
                  <a:lnTo>
                    <a:pt x="115" y="487"/>
                  </a:lnTo>
                  <a:lnTo>
                    <a:pt x="120" y="485"/>
                  </a:lnTo>
                  <a:lnTo>
                    <a:pt x="126" y="484"/>
                  </a:lnTo>
                  <a:lnTo>
                    <a:pt x="132" y="482"/>
                  </a:lnTo>
                  <a:lnTo>
                    <a:pt x="137" y="480"/>
                  </a:lnTo>
                  <a:lnTo>
                    <a:pt x="142" y="478"/>
                  </a:lnTo>
                  <a:lnTo>
                    <a:pt x="147" y="476"/>
                  </a:lnTo>
                  <a:lnTo>
                    <a:pt x="152" y="474"/>
                  </a:lnTo>
                  <a:lnTo>
                    <a:pt x="155" y="473"/>
                  </a:lnTo>
                  <a:lnTo>
                    <a:pt x="158" y="471"/>
                  </a:lnTo>
                  <a:lnTo>
                    <a:pt x="160" y="469"/>
                  </a:lnTo>
                  <a:lnTo>
                    <a:pt x="161" y="465"/>
                  </a:lnTo>
                  <a:lnTo>
                    <a:pt x="160" y="463"/>
                  </a:lnTo>
                  <a:lnTo>
                    <a:pt x="159" y="461"/>
                  </a:lnTo>
                  <a:lnTo>
                    <a:pt x="157" y="459"/>
                  </a:lnTo>
                  <a:lnTo>
                    <a:pt x="156" y="455"/>
                  </a:lnTo>
                  <a:lnTo>
                    <a:pt x="153" y="454"/>
                  </a:lnTo>
                  <a:lnTo>
                    <a:pt x="151" y="451"/>
                  </a:lnTo>
                  <a:lnTo>
                    <a:pt x="148" y="449"/>
                  </a:lnTo>
                  <a:lnTo>
                    <a:pt x="147" y="445"/>
                  </a:lnTo>
                  <a:lnTo>
                    <a:pt x="143" y="443"/>
                  </a:lnTo>
                  <a:lnTo>
                    <a:pt x="141" y="440"/>
                  </a:lnTo>
                  <a:lnTo>
                    <a:pt x="139" y="438"/>
                  </a:lnTo>
                  <a:lnTo>
                    <a:pt x="137" y="434"/>
                  </a:lnTo>
                  <a:lnTo>
                    <a:pt x="135" y="433"/>
                  </a:lnTo>
                  <a:lnTo>
                    <a:pt x="134" y="429"/>
                  </a:lnTo>
                  <a:lnTo>
                    <a:pt x="133" y="427"/>
                  </a:lnTo>
                  <a:lnTo>
                    <a:pt x="133" y="424"/>
                  </a:lnTo>
                  <a:lnTo>
                    <a:pt x="132" y="420"/>
                  </a:lnTo>
                  <a:lnTo>
                    <a:pt x="133" y="415"/>
                  </a:lnTo>
                  <a:lnTo>
                    <a:pt x="134" y="410"/>
                  </a:lnTo>
                  <a:lnTo>
                    <a:pt x="136" y="405"/>
                  </a:lnTo>
                  <a:lnTo>
                    <a:pt x="138" y="399"/>
                  </a:lnTo>
                  <a:lnTo>
                    <a:pt x="140" y="393"/>
                  </a:lnTo>
                  <a:lnTo>
                    <a:pt x="142" y="387"/>
                  </a:lnTo>
                  <a:lnTo>
                    <a:pt x="146" y="381"/>
                  </a:lnTo>
                  <a:lnTo>
                    <a:pt x="148" y="375"/>
                  </a:lnTo>
                  <a:lnTo>
                    <a:pt x="152" y="369"/>
                  </a:lnTo>
                  <a:lnTo>
                    <a:pt x="154" y="364"/>
                  </a:lnTo>
                  <a:lnTo>
                    <a:pt x="157" y="357"/>
                  </a:lnTo>
                  <a:lnTo>
                    <a:pt x="159" y="353"/>
                  </a:lnTo>
                  <a:lnTo>
                    <a:pt x="162" y="347"/>
                  </a:lnTo>
                  <a:lnTo>
                    <a:pt x="163" y="342"/>
                  </a:lnTo>
                  <a:lnTo>
                    <a:pt x="165" y="337"/>
                  </a:lnTo>
                  <a:lnTo>
                    <a:pt x="165" y="333"/>
                  </a:lnTo>
                  <a:lnTo>
                    <a:pt x="166" y="328"/>
                  </a:lnTo>
                  <a:lnTo>
                    <a:pt x="166" y="322"/>
                  </a:lnTo>
                  <a:lnTo>
                    <a:pt x="167" y="316"/>
                  </a:lnTo>
                  <a:lnTo>
                    <a:pt x="167" y="310"/>
                  </a:lnTo>
                  <a:lnTo>
                    <a:pt x="167" y="303"/>
                  </a:lnTo>
                  <a:lnTo>
                    <a:pt x="167" y="297"/>
                  </a:lnTo>
                  <a:lnTo>
                    <a:pt x="167" y="290"/>
                  </a:lnTo>
                  <a:lnTo>
                    <a:pt x="166" y="284"/>
                  </a:lnTo>
                  <a:lnTo>
                    <a:pt x="166" y="277"/>
                  </a:lnTo>
                  <a:lnTo>
                    <a:pt x="166" y="271"/>
                  </a:lnTo>
                  <a:lnTo>
                    <a:pt x="166" y="264"/>
                  </a:lnTo>
                  <a:lnTo>
                    <a:pt x="165" y="259"/>
                  </a:lnTo>
                  <a:lnTo>
                    <a:pt x="165" y="252"/>
                  </a:lnTo>
                  <a:lnTo>
                    <a:pt x="165" y="247"/>
                  </a:lnTo>
                  <a:lnTo>
                    <a:pt x="165" y="241"/>
                  </a:lnTo>
                  <a:lnTo>
                    <a:pt x="163" y="238"/>
                  </a:lnTo>
                  <a:lnTo>
                    <a:pt x="163" y="233"/>
                  </a:lnTo>
                  <a:lnTo>
                    <a:pt x="161" y="229"/>
                  </a:lnTo>
                  <a:lnTo>
                    <a:pt x="161" y="223"/>
                  </a:lnTo>
                  <a:lnTo>
                    <a:pt x="159" y="217"/>
                  </a:lnTo>
                  <a:lnTo>
                    <a:pt x="157" y="212"/>
                  </a:lnTo>
                  <a:lnTo>
                    <a:pt x="156" y="206"/>
                  </a:lnTo>
                  <a:lnTo>
                    <a:pt x="154" y="199"/>
                  </a:lnTo>
                  <a:lnTo>
                    <a:pt x="152" y="193"/>
                  </a:lnTo>
                  <a:lnTo>
                    <a:pt x="150" y="188"/>
                  </a:lnTo>
                  <a:lnTo>
                    <a:pt x="148" y="182"/>
                  </a:lnTo>
                  <a:lnTo>
                    <a:pt x="148" y="177"/>
                  </a:lnTo>
                  <a:lnTo>
                    <a:pt x="147" y="172"/>
                  </a:lnTo>
                  <a:lnTo>
                    <a:pt x="147" y="167"/>
                  </a:lnTo>
                  <a:lnTo>
                    <a:pt x="147" y="162"/>
                  </a:lnTo>
                  <a:lnTo>
                    <a:pt x="147" y="157"/>
                  </a:lnTo>
                  <a:lnTo>
                    <a:pt x="147" y="153"/>
                  </a:lnTo>
                  <a:lnTo>
                    <a:pt x="148" y="147"/>
                  </a:lnTo>
                  <a:lnTo>
                    <a:pt x="150" y="142"/>
                  </a:lnTo>
                  <a:lnTo>
                    <a:pt x="152" y="135"/>
                  </a:lnTo>
                  <a:lnTo>
                    <a:pt x="154" y="129"/>
                  </a:lnTo>
                  <a:lnTo>
                    <a:pt x="156" y="122"/>
                  </a:lnTo>
                  <a:lnTo>
                    <a:pt x="158" y="115"/>
                  </a:lnTo>
                  <a:lnTo>
                    <a:pt x="162" y="107"/>
                  </a:lnTo>
                  <a:lnTo>
                    <a:pt x="164" y="102"/>
                  </a:lnTo>
                  <a:lnTo>
                    <a:pt x="167" y="94"/>
                  </a:lnTo>
                  <a:lnTo>
                    <a:pt x="170" y="89"/>
                  </a:lnTo>
                  <a:lnTo>
                    <a:pt x="174" y="81"/>
                  </a:lnTo>
                  <a:lnTo>
                    <a:pt x="177" y="75"/>
                  </a:lnTo>
                  <a:lnTo>
                    <a:pt x="181" y="70"/>
                  </a:lnTo>
                  <a:lnTo>
                    <a:pt x="185" y="65"/>
                  </a:lnTo>
                  <a:lnTo>
                    <a:pt x="188" y="60"/>
                  </a:lnTo>
                  <a:lnTo>
                    <a:pt x="192" y="57"/>
                  </a:lnTo>
                  <a:lnTo>
                    <a:pt x="195" y="53"/>
                  </a:lnTo>
                  <a:lnTo>
                    <a:pt x="200" y="49"/>
                  </a:lnTo>
                  <a:lnTo>
                    <a:pt x="205" y="44"/>
                  </a:lnTo>
                  <a:lnTo>
                    <a:pt x="211" y="40"/>
                  </a:lnTo>
                  <a:lnTo>
                    <a:pt x="217" y="34"/>
                  </a:lnTo>
                  <a:lnTo>
                    <a:pt x="224" y="31"/>
                  </a:lnTo>
                  <a:lnTo>
                    <a:pt x="231" y="25"/>
                  </a:lnTo>
                  <a:lnTo>
                    <a:pt x="236" y="21"/>
                  </a:lnTo>
                  <a:lnTo>
                    <a:pt x="244" y="17"/>
                  </a:lnTo>
                  <a:lnTo>
                    <a:pt x="250" y="13"/>
                  </a:lnTo>
                  <a:lnTo>
                    <a:pt x="258" y="9"/>
                  </a:lnTo>
                  <a:lnTo>
                    <a:pt x="264" y="7"/>
                  </a:lnTo>
                  <a:lnTo>
                    <a:pt x="271" y="4"/>
                  </a:lnTo>
                  <a:lnTo>
                    <a:pt x="276" y="2"/>
                  </a:lnTo>
                  <a:lnTo>
                    <a:pt x="283" y="0"/>
                  </a:lnTo>
                  <a:lnTo>
                    <a:pt x="283" y="1"/>
                  </a:lnTo>
                  <a:lnTo>
                    <a:pt x="285" y="1"/>
                  </a:lnTo>
                  <a:lnTo>
                    <a:pt x="287" y="2"/>
                  </a:lnTo>
                  <a:lnTo>
                    <a:pt x="289" y="2"/>
                  </a:lnTo>
                  <a:lnTo>
                    <a:pt x="291" y="4"/>
                  </a:lnTo>
                  <a:lnTo>
                    <a:pt x="293" y="4"/>
                  </a:lnTo>
                  <a:lnTo>
                    <a:pt x="295" y="5"/>
                  </a:lnTo>
                  <a:lnTo>
                    <a:pt x="298" y="5"/>
                  </a:lnTo>
                  <a:lnTo>
                    <a:pt x="300" y="7"/>
                  </a:lnTo>
                  <a:lnTo>
                    <a:pt x="302" y="7"/>
                  </a:lnTo>
                  <a:lnTo>
                    <a:pt x="303" y="9"/>
                  </a:lnTo>
                  <a:lnTo>
                    <a:pt x="305" y="9"/>
                  </a:lnTo>
                  <a:lnTo>
                    <a:pt x="307" y="10"/>
                  </a:lnTo>
                  <a:lnTo>
                    <a:pt x="309" y="10"/>
                  </a:lnTo>
                  <a:lnTo>
                    <a:pt x="311" y="10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6" y="13"/>
                  </a:lnTo>
                  <a:lnTo>
                    <a:pt x="318" y="15"/>
                  </a:lnTo>
                  <a:lnTo>
                    <a:pt x="321" y="15"/>
                  </a:lnTo>
                  <a:lnTo>
                    <a:pt x="323" y="17"/>
                  </a:lnTo>
                  <a:lnTo>
                    <a:pt x="326" y="17"/>
                  </a:lnTo>
                  <a:lnTo>
                    <a:pt x="328" y="19"/>
                  </a:lnTo>
                  <a:lnTo>
                    <a:pt x="332" y="19"/>
                  </a:lnTo>
                  <a:lnTo>
                    <a:pt x="334" y="21"/>
                  </a:lnTo>
                  <a:lnTo>
                    <a:pt x="338" y="21"/>
                  </a:lnTo>
                  <a:lnTo>
                    <a:pt x="340" y="23"/>
                  </a:lnTo>
                  <a:lnTo>
                    <a:pt x="343" y="23"/>
                  </a:lnTo>
                  <a:lnTo>
                    <a:pt x="345" y="25"/>
                  </a:lnTo>
                  <a:lnTo>
                    <a:pt x="348" y="25"/>
                  </a:lnTo>
                  <a:lnTo>
                    <a:pt x="350" y="25"/>
                  </a:lnTo>
                  <a:lnTo>
                    <a:pt x="354" y="25"/>
                  </a:lnTo>
                  <a:lnTo>
                    <a:pt x="354" y="25"/>
                  </a:lnTo>
                  <a:lnTo>
                    <a:pt x="356" y="25"/>
                  </a:lnTo>
                  <a:lnTo>
                    <a:pt x="358" y="25"/>
                  </a:lnTo>
                  <a:lnTo>
                    <a:pt x="360" y="24"/>
                  </a:lnTo>
                  <a:lnTo>
                    <a:pt x="361" y="24"/>
                  </a:lnTo>
                  <a:lnTo>
                    <a:pt x="363" y="23"/>
                  </a:lnTo>
                  <a:lnTo>
                    <a:pt x="365" y="23"/>
                  </a:lnTo>
                  <a:lnTo>
                    <a:pt x="368" y="21"/>
                  </a:lnTo>
                  <a:lnTo>
                    <a:pt x="370" y="21"/>
                  </a:lnTo>
                  <a:lnTo>
                    <a:pt x="372" y="21"/>
                  </a:lnTo>
                  <a:lnTo>
                    <a:pt x="374" y="21"/>
                  </a:lnTo>
                  <a:lnTo>
                    <a:pt x="377" y="19"/>
                  </a:lnTo>
                  <a:lnTo>
                    <a:pt x="379" y="19"/>
                  </a:lnTo>
                  <a:lnTo>
                    <a:pt x="381" y="19"/>
                  </a:lnTo>
                  <a:lnTo>
                    <a:pt x="382" y="19"/>
                  </a:lnTo>
                  <a:lnTo>
                    <a:pt x="384" y="19"/>
                  </a:lnTo>
                  <a:lnTo>
                    <a:pt x="389" y="21"/>
                  </a:lnTo>
                  <a:lnTo>
                    <a:pt x="394" y="23"/>
                  </a:lnTo>
                  <a:lnTo>
                    <a:pt x="400" y="27"/>
                  </a:lnTo>
                  <a:lnTo>
                    <a:pt x="406" y="30"/>
                  </a:lnTo>
                  <a:lnTo>
                    <a:pt x="412" y="35"/>
                  </a:lnTo>
                  <a:lnTo>
                    <a:pt x="420" y="39"/>
                  </a:lnTo>
                  <a:lnTo>
                    <a:pt x="425" y="45"/>
                  </a:lnTo>
                  <a:lnTo>
                    <a:pt x="432" y="49"/>
                  </a:lnTo>
                  <a:lnTo>
                    <a:pt x="438" y="54"/>
                  </a:lnTo>
                  <a:lnTo>
                    <a:pt x="444" y="60"/>
                  </a:lnTo>
                  <a:lnTo>
                    <a:pt x="449" y="65"/>
                  </a:lnTo>
                  <a:lnTo>
                    <a:pt x="456" y="71"/>
                  </a:lnTo>
                  <a:lnTo>
                    <a:pt x="460" y="77"/>
                  </a:lnTo>
                  <a:lnTo>
                    <a:pt x="466" y="82"/>
                  </a:lnTo>
                  <a:lnTo>
                    <a:pt x="469" y="87"/>
                  </a:lnTo>
                  <a:lnTo>
                    <a:pt x="474" y="91"/>
                  </a:lnTo>
                  <a:lnTo>
                    <a:pt x="476" y="96"/>
                  </a:lnTo>
                  <a:lnTo>
                    <a:pt x="479" y="101"/>
                  </a:lnTo>
                  <a:lnTo>
                    <a:pt x="482" y="106"/>
                  </a:lnTo>
                  <a:lnTo>
                    <a:pt x="486" y="112"/>
                  </a:lnTo>
                  <a:lnTo>
                    <a:pt x="488" y="119"/>
                  </a:lnTo>
                  <a:lnTo>
                    <a:pt x="492" y="125"/>
                  </a:lnTo>
                  <a:lnTo>
                    <a:pt x="495" y="133"/>
                  </a:lnTo>
                  <a:lnTo>
                    <a:pt x="499" y="139"/>
                  </a:lnTo>
                  <a:lnTo>
                    <a:pt x="500" y="146"/>
                  </a:lnTo>
                  <a:lnTo>
                    <a:pt x="503" y="153"/>
                  </a:lnTo>
                  <a:lnTo>
                    <a:pt x="505" y="161"/>
                  </a:lnTo>
                  <a:lnTo>
                    <a:pt x="509" y="166"/>
                  </a:lnTo>
                  <a:lnTo>
                    <a:pt x="510" y="173"/>
                  </a:lnTo>
                  <a:lnTo>
                    <a:pt x="512" y="179"/>
                  </a:lnTo>
                  <a:lnTo>
                    <a:pt x="514" y="184"/>
                  </a:lnTo>
                  <a:lnTo>
                    <a:pt x="517" y="188"/>
                  </a:lnTo>
                  <a:lnTo>
                    <a:pt x="517" y="194"/>
                  </a:lnTo>
                  <a:lnTo>
                    <a:pt x="519" y="200"/>
                  </a:lnTo>
                  <a:lnTo>
                    <a:pt x="520" y="207"/>
                  </a:lnTo>
                  <a:lnTo>
                    <a:pt x="522" y="213"/>
                  </a:lnTo>
                  <a:lnTo>
                    <a:pt x="523" y="220"/>
                  </a:lnTo>
                  <a:lnTo>
                    <a:pt x="525" y="227"/>
                  </a:lnTo>
                  <a:lnTo>
                    <a:pt x="527" y="235"/>
                  </a:lnTo>
                  <a:lnTo>
                    <a:pt x="529" y="241"/>
                  </a:lnTo>
                  <a:lnTo>
                    <a:pt x="529" y="249"/>
                  </a:lnTo>
                  <a:lnTo>
                    <a:pt x="530" y="256"/>
                  </a:lnTo>
                  <a:lnTo>
                    <a:pt x="532" y="263"/>
                  </a:lnTo>
                  <a:lnTo>
                    <a:pt x="534" y="269"/>
                  </a:lnTo>
                  <a:lnTo>
                    <a:pt x="534" y="276"/>
                  </a:lnTo>
                  <a:lnTo>
                    <a:pt x="536" y="281"/>
                  </a:lnTo>
                  <a:lnTo>
                    <a:pt x="536" y="287"/>
                  </a:lnTo>
                  <a:lnTo>
                    <a:pt x="538" y="291"/>
                  </a:lnTo>
                  <a:lnTo>
                    <a:pt x="538" y="297"/>
                  </a:lnTo>
                  <a:lnTo>
                    <a:pt x="538" y="301"/>
                  </a:lnTo>
                  <a:lnTo>
                    <a:pt x="538" y="307"/>
                  </a:lnTo>
                  <a:lnTo>
                    <a:pt x="538" y="311"/>
                  </a:lnTo>
                  <a:lnTo>
                    <a:pt x="538" y="317"/>
                  </a:lnTo>
                  <a:lnTo>
                    <a:pt x="538" y="322"/>
                  </a:lnTo>
                  <a:lnTo>
                    <a:pt x="538" y="328"/>
                  </a:lnTo>
                  <a:lnTo>
                    <a:pt x="539" y="333"/>
                  </a:lnTo>
                  <a:lnTo>
                    <a:pt x="539" y="338"/>
                  </a:lnTo>
                  <a:lnTo>
                    <a:pt x="539" y="344"/>
                  </a:lnTo>
                  <a:lnTo>
                    <a:pt x="539" y="349"/>
                  </a:lnTo>
                  <a:lnTo>
                    <a:pt x="540" y="355"/>
                  </a:lnTo>
                  <a:lnTo>
                    <a:pt x="540" y="360"/>
                  </a:lnTo>
                  <a:lnTo>
                    <a:pt x="541" y="365"/>
                  </a:lnTo>
                  <a:lnTo>
                    <a:pt x="541" y="369"/>
                  </a:lnTo>
                  <a:lnTo>
                    <a:pt x="543" y="372"/>
                  </a:lnTo>
                  <a:lnTo>
                    <a:pt x="543" y="376"/>
                  </a:lnTo>
                  <a:lnTo>
                    <a:pt x="543" y="379"/>
                  </a:lnTo>
                  <a:lnTo>
                    <a:pt x="543" y="383"/>
                  </a:lnTo>
                  <a:lnTo>
                    <a:pt x="543" y="386"/>
                  </a:lnTo>
                  <a:lnTo>
                    <a:pt x="543" y="391"/>
                  </a:lnTo>
                  <a:lnTo>
                    <a:pt x="543" y="395"/>
                  </a:lnTo>
                  <a:lnTo>
                    <a:pt x="543" y="398"/>
                  </a:lnTo>
                  <a:lnTo>
                    <a:pt x="544" y="402"/>
                  </a:lnTo>
                  <a:lnTo>
                    <a:pt x="544" y="407"/>
                  </a:lnTo>
                  <a:lnTo>
                    <a:pt x="544" y="411"/>
                  </a:lnTo>
                  <a:lnTo>
                    <a:pt x="544" y="415"/>
                  </a:lnTo>
                  <a:lnTo>
                    <a:pt x="544" y="418"/>
                  </a:lnTo>
                  <a:lnTo>
                    <a:pt x="544" y="422"/>
                  </a:lnTo>
                  <a:lnTo>
                    <a:pt x="544" y="425"/>
                  </a:lnTo>
                  <a:lnTo>
                    <a:pt x="544" y="428"/>
                  </a:lnTo>
                  <a:lnTo>
                    <a:pt x="545" y="430"/>
                  </a:lnTo>
                  <a:lnTo>
                    <a:pt x="544" y="432"/>
                  </a:lnTo>
                  <a:lnTo>
                    <a:pt x="544" y="434"/>
                  </a:lnTo>
                  <a:lnTo>
                    <a:pt x="543" y="436"/>
                  </a:lnTo>
                  <a:lnTo>
                    <a:pt x="543" y="436"/>
                  </a:lnTo>
                  <a:lnTo>
                    <a:pt x="541" y="438"/>
                  </a:lnTo>
                  <a:lnTo>
                    <a:pt x="541" y="440"/>
                  </a:lnTo>
                  <a:lnTo>
                    <a:pt x="540" y="442"/>
                  </a:lnTo>
                  <a:lnTo>
                    <a:pt x="540" y="442"/>
                  </a:lnTo>
                  <a:lnTo>
                    <a:pt x="538" y="444"/>
                  </a:lnTo>
                  <a:lnTo>
                    <a:pt x="538" y="446"/>
                  </a:lnTo>
                  <a:lnTo>
                    <a:pt x="537" y="447"/>
                  </a:lnTo>
                  <a:lnTo>
                    <a:pt x="537" y="447"/>
                  </a:lnTo>
                  <a:lnTo>
                    <a:pt x="537" y="449"/>
                  </a:lnTo>
                  <a:lnTo>
                    <a:pt x="537" y="451"/>
                  </a:lnTo>
                  <a:lnTo>
                    <a:pt x="537" y="453"/>
                  </a:lnTo>
                  <a:lnTo>
                    <a:pt x="538" y="453"/>
                  </a:lnTo>
                  <a:lnTo>
                    <a:pt x="538" y="456"/>
                  </a:lnTo>
                  <a:lnTo>
                    <a:pt x="540" y="458"/>
                  </a:lnTo>
                  <a:lnTo>
                    <a:pt x="542" y="461"/>
                  </a:lnTo>
                  <a:lnTo>
                    <a:pt x="546" y="463"/>
                  </a:lnTo>
                  <a:lnTo>
                    <a:pt x="548" y="467"/>
                  </a:lnTo>
                  <a:lnTo>
                    <a:pt x="552" y="469"/>
                  </a:lnTo>
                  <a:lnTo>
                    <a:pt x="556" y="471"/>
                  </a:lnTo>
                  <a:lnTo>
                    <a:pt x="560" y="473"/>
                  </a:lnTo>
                  <a:lnTo>
                    <a:pt x="564" y="476"/>
                  </a:lnTo>
                  <a:lnTo>
                    <a:pt x="568" y="478"/>
                  </a:lnTo>
                  <a:lnTo>
                    <a:pt x="572" y="480"/>
                  </a:lnTo>
                  <a:lnTo>
                    <a:pt x="577" y="482"/>
                  </a:lnTo>
                  <a:lnTo>
                    <a:pt x="580" y="484"/>
                  </a:lnTo>
                  <a:lnTo>
                    <a:pt x="584" y="485"/>
                  </a:lnTo>
                  <a:lnTo>
                    <a:pt x="587" y="487"/>
                  </a:lnTo>
                  <a:lnTo>
                    <a:pt x="590" y="487"/>
                  </a:lnTo>
                  <a:lnTo>
                    <a:pt x="594" y="491"/>
                  </a:lnTo>
                  <a:lnTo>
                    <a:pt x="598" y="493"/>
                  </a:lnTo>
                  <a:lnTo>
                    <a:pt x="602" y="494"/>
                  </a:lnTo>
                  <a:lnTo>
                    <a:pt x="608" y="496"/>
                  </a:lnTo>
                  <a:lnTo>
                    <a:pt x="612" y="500"/>
                  </a:lnTo>
                  <a:lnTo>
                    <a:pt x="617" y="502"/>
                  </a:lnTo>
                  <a:lnTo>
                    <a:pt x="621" y="504"/>
                  </a:lnTo>
                  <a:lnTo>
                    <a:pt x="626" y="506"/>
                  </a:lnTo>
                  <a:lnTo>
                    <a:pt x="630" y="510"/>
                  </a:lnTo>
                  <a:lnTo>
                    <a:pt x="636" y="512"/>
                  </a:lnTo>
                  <a:lnTo>
                    <a:pt x="640" y="515"/>
                  </a:lnTo>
                  <a:lnTo>
                    <a:pt x="645" y="517"/>
                  </a:lnTo>
                  <a:lnTo>
                    <a:pt x="649" y="519"/>
                  </a:lnTo>
                  <a:lnTo>
                    <a:pt x="655" y="521"/>
                  </a:lnTo>
                  <a:lnTo>
                    <a:pt x="659" y="523"/>
                  </a:lnTo>
                  <a:lnTo>
                    <a:pt x="665" y="525"/>
                  </a:lnTo>
                  <a:lnTo>
                    <a:pt x="666" y="527"/>
                  </a:lnTo>
                  <a:lnTo>
                    <a:pt x="672" y="532"/>
                  </a:lnTo>
                  <a:lnTo>
                    <a:pt x="678" y="541"/>
                  </a:lnTo>
                  <a:lnTo>
                    <a:pt x="686" y="551"/>
                  </a:lnTo>
                  <a:lnTo>
                    <a:pt x="696" y="563"/>
                  </a:lnTo>
                  <a:lnTo>
                    <a:pt x="707" y="576"/>
                  </a:lnTo>
                  <a:lnTo>
                    <a:pt x="718" y="590"/>
                  </a:lnTo>
                  <a:lnTo>
                    <a:pt x="731" y="603"/>
                  </a:lnTo>
                  <a:lnTo>
                    <a:pt x="742" y="619"/>
                  </a:lnTo>
                  <a:lnTo>
                    <a:pt x="753" y="633"/>
                  </a:lnTo>
                  <a:lnTo>
                    <a:pt x="763" y="646"/>
                  </a:lnTo>
                  <a:lnTo>
                    <a:pt x="774" y="658"/>
                  </a:lnTo>
                  <a:lnTo>
                    <a:pt x="782" y="669"/>
                  </a:lnTo>
                  <a:lnTo>
                    <a:pt x="788" y="677"/>
                  </a:lnTo>
                  <a:lnTo>
                    <a:pt x="792" y="683"/>
                  </a:lnTo>
                  <a:lnTo>
                    <a:pt x="795" y="685"/>
                  </a:lnTo>
                  <a:lnTo>
                    <a:pt x="796" y="696"/>
                  </a:lnTo>
                  <a:lnTo>
                    <a:pt x="798" y="703"/>
                  </a:lnTo>
                  <a:lnTo>
                    <a:pt x="798" y="709"/>
                  </a:lnTo>
                  <a:lnTo>
                    <a:pt x="800" y="713"/>
                  </a:lnTo>
                  <a:lnTo>
                    <a:pt x="799" y="715"/>
                  </a:lnTo>
                  <a:lnTo>
                    <a:pt x="799" y="717"/>
                  </a:lnTo>
                  <a:lnTo>
                    <a:pt x="798" y="717"/>
                  </a:lnTo>
                  <a:lnTo>
                    <a:pt x="798" y="717"/>
                  </a:lnTo>
                  <a:lnTo>
                    <a:pt x="796" y="719"/>
                  </a:lnTo>
                  <a:lnTo>
                    <a:pt x="796" y="719"/>
                  </a:lnTo>
                  <a:lnTo>
                    <a:pt x="794" y="721"/>
                  </a:lnTo>
                  <a:lnTo>
                    <a:pt x="794" y="723"/>
                  </a:lnTo>
                  <a:lnTo>
                    <a:pt x="794" y="727"/>
                  </a:lnTo>
                  <a:lnTo>
                    <a:pt x="794" y="733"/>
                  </a:lnTo>
                  <a:lnTo>
                    <a:pt x="794" y="741"/>
                  </a:lnTo>
                  <a:lnTo>
                    <a:pt x="795" y="750"/>
                  </a:lnTo>
                  <a:lnTo>
                    <a:pt x="795" y="761"/>
                  </a:lnTo>
                  <a:lnTo>
                    <a:pt x="796" y="773"/>
                  </a:lnTo>
                  <a:lnTo>
                    <a:pt x="796" y="785"/>
                  </a:lnTo>
                  <a:lnTo>
                    <a:pt x="798" y="797"/>
                  </a:lnTo>
                  <a:lnTo>
                    <a:pt x="798" y="811"/>
                  </a:lnTo>
                  <a:lnTo>
                    <a:pt x="800" y="824"/>
                  </a:lnTo>
                  <a:lnTo>
                    <a:pt x="800" y="837"/>
                  </a:lnTo>
                  <a:lnTo>
                    <a:pt x="801" y="849"/>
                  </a:lnTo>
                  <a:lnTo>
                    <a:pt x="801" y="863"/>
                  </a:lnTo>
                  <a:lnTo>
                    <a:pt x="801" y="874"/>
                  </a:lnTo>
                  <a:lnTo>
                    <a:pt x="801" y="884"/>
                  </a:lnTo>
                  <a:lnTo>
                    <a:pt x="802" y="893"/>
                  </a:lnTo>
                  <a:lnTo>
                    <a:pt x="800" y="901"/>
                  </a:lnTo>
                  <a:lnTo>
                    <a:pt x="800" y="906"/>
                  </a:lnTo>
                  <a:lnTo>
                    <a:pt x="798" y="909"/>
                  </a:lnTo>
                  <a:lnTo>
                    <a:pt x="798" y="910"/>
                  </a:lnTo>
                  <a:lnTo>
                    <a:pt x="750" y="912"/>
                  </a:lnTo>
                  <a:lnTo>
                    <a:pt x="700" y="912"/>
                  </a:lnTo>
                  <a:lnTo>
                    <a:pt x="649" y="914"/>
                  </a:lnTo>
                  <a:lnTo>
                    <a:pt x="598" y="914"/>
                  </a:lnTo>
                  <a:lnTo>
                    <a:pt x="544" y="915"/>
                  </a:lnTo>
                  <a:lnTo>
                    <a:pt x="492" y="915"/>
                  </a:lnTo>
                  <a:lnTo>
                    <a:pt x="439" y="915"/>
                  </a:lnTo>
                  <a:lnTo>
                    <a:pt x="387" y="915"/>
                  </a:lnTo>
                  <a:lnTo>
                    <a:pt x="334" y="915"/>
                  </a:lnTo>
                  <a:lnTo>
                    <a:pt x="283" y="915"/>
                  </a:lnTo>
                  <a:lnTo>
                    <a:pt x="233" y="915"/>
                  </a:lnTo>
                  <a:lnTo>
                    <a:pt x="186" y="913"/>
                  </a:lnTo>
                  <a:lnTo>
                    <a:pt x="139" y="912"/>
                  </a:lnTo>
                  <a:lnTo>
                    <a:pt x="95" y="910"/>
                  </a:lnTo>
                  <a:lnTo>
                    <a:pt x="54" y="907"/>
                  </a:lnTo>
                  <a:lnTo>
                    <a:pt x="16" y="904"/>
                  </a:lnTo>
                  <a:lnTo>
                    <a:pt x="16" y="904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21280" y="5383080"/>
              <a:ext cx="1311120" cy="1495440"/>
            </a:xfrm>
            <a:custGeom>
              <a:avLst/>
              <a:gdLst/>
              <a:ahLst/>
              <a:rect l="l" t="t" r="r" b="b"/>
              <a:pathLst>
                <a:path w="826" h="942">
                  <a:moveTo>
                    <a:pt x="783" y="925"/>
                  </a:moveTo>
                  <a:lnTo>
                    <a:pt x="799" y="922"/>
                  </a:lnTo>
                  <a:lnTo>
                    <a:pt x="811" y="911"/>
                  </a:lnTo>
                  <a:lnTo>
                    <a:pt x="819" y="893"/>
                  </a:lnTo>
                  <a:lnTo>
                    <a:pt x="824" y="869"/>
                  </a:lnTo>
                  <a:lnTo>
                    <a:pt x="825" y="843"/>
                  </a:lnTo>
                  <a:lnTo>
                    <a:pt x="824" y="811"/>
                  </a:lnTo>
                  <a:lnTo>
                    <a:pt x="820" y="777"/>
                  </a:lnTo>
                  <a:lnTo>
                    <a:pt x="814" y="741"/>
                  </a:lnTo>
                  <a:lnTo>
                    <a:pt x="805" y="705"/>
                  </a:lnTo>
                  <a:lnTo>
                    <a:pt x="796" y="667"/>
                  </a:lnTo>
                  <a:lnTo>
                    <a:pt x="785" y="632"/>
                  </a:lnTo>
                  <a:lnTo>
                    <a:pt x="774" y="597"/>
                  </a:lnTo>
                  <a:lnTo>
                    <a:pt x="761" y="567"/>
                  </a:lnTo>
                  <a:lnTo>
                    <a:pt x="750" y="539"/>
                  </a:lnTo>
                  <a:lnTo>
                    <a:pt x="738" y="516"/>
                  </a:lnTo>
                  <a:lnTo>
                    <a:pt x="727" y="498"/>
                  </a:lnTo>
                  <a:lnTo>
                    <a:pt x="724" y="497"/>
                  </a:lnTo>
                  <a:lnTo>
                    <a:pt x="722" y="495"/>
                  </a:lnTo>
                  <a:lnTo>
                    <a:pt x="718" y="493"/>
                  </a:lnTo>
                  <a:lnTo>
                    <a:pt x="715" y="491"/>
                  </a:lnTo>
                  <a:lnTo>
                    <a:pt x="710" y="489"/>
                  </a:lnTo>
                  <a:lnTo>
                    <a:pt x="706" y="488"/>
                  </a:lnTo>
                  <a:lnTo>
                    <a:pt x="701" y="486"/>
                  </a:lnTo>
                  <a:lnTo>
                    <a:pt x="697" y="484"/>
                  </a:lnTo>
                  <a:lnTo>
                    <a:pt x="692" y="484"/>
                  </a:lnTo>
                  <a:lnTo>
                    <a:pt x="687" y="482"/>
                  </a:lnTo>
                  <a:lnTo>
                    <a:pt x="683" y="481"/>
                  </a:lnTo>
                  <a:lnTo>
                    <a:pt x="679" y="479"/>
                  </a:lnTo>
                  <a:lnTo>
                    <a:pt x="675" y="479"/>
                  </a:lnTo>
                  <a:lnTo>
                    <a:pt x="671" y="478"/>
                  </a:lnTo>
                  <a:lnTo>
                    <a:pt x="667" y="477"/>
                  </a:lnTo>
                  <a:lnTo>
                    <a:pt x="665" y="475"/>
                  </a:lnTo>
                  <a:lnTo>
                    <a:pt x="660" y="474"/>
                  </a:lnTo>
                  <a:lnTo>
                    <a:pt x="656" y="472"/>
                  </a:lnTo>
                  <a:lnTo>
                    <a:pt x="650" y="470"/>
                  </a:lnTo>
                  <a:lnTo>
                    <a:pt x="645" y="468"/>
                  </a:lnTo>
                  <a:lnTo>
                    <a:pt x="638" y="466"/>
                  </a:lnTo>
                  <a:lnTo>
                    <a:pt x="633" y="464"/>
                  </a:lnTo>
                  <a:lnTo>
                    <a:pt x="626" y="462"/>
                  </a:lnTo>
                  <a:lnTo>
                    <a:pt x="620" y="458"/>
                  </a:lnTo>
                  <a:lnTo>
                    <a:pt x="613" y="457"/>
                  </a:lnTo>
                  <a:lnTo>
                    <a:pt x="607" y="455"/>
                  </a:lnTo>
                  <a:lnTo>
                    <a:pt x="601" y="453"/>
                  </a:lnTo>
                  <a:lnTo>
                    <a:pt x="595" y="449"/>
                  </a:lnTo>
                  <a:lnTo>
                    <a:pt x="589" y="447"/>
                  </a:lnTo>
                  <a:lnTo>
                    <a:pt x="584" y="445"/>
                  </a:lnTo>
                  <a:lnTo>
                    <a:pt x="579" y="443"/>
                  </a:lnTo>
                  <a:lnTo>
                    <a:pt x="576" y="440"/>
                  </a:lnTo>
                  <a:lnTo>
                    <a:pt x="569" y="438"/>
                  </a:lnTo>
                  <a:lnTo>
                    <a:pt x="564" y="437"/>
                  </a:lnTo>
                  <a:lnTo>
                    <a:pt x="557" y="435"/>
                  </a:lnTo>
                  <a:lnTo>
                    <a:pt x="550" y="432"/>
                  </a:lnTo>
                  <a:lnTo>
                    <a:pt x="543" y="430"/>
                  </a:lnTo>
                  <a:lnTo>
                    <a:pt x="535" y="427"/>
                  </a:lnTo>
                  <a:lnTo>
                    <a:pt x="528" y="425"/>
                  </a:lnTo>
                  <a:lnTo>
                    <a:pt x="520" y="421"/>
                  </a:lnTo>
                  <a:lnTo>
                    <a:pt x="512" y="419"/>
                  </a:lnTo>
                  <a:lnTo>
                    <a:pt x="505" y="415"/>
                  </a:lnTo>
                  <a:lnTo>
                    <a:pt x="497" y="412"/>
                  </a:lnTo>
                  <a:lnTo>
                    <a:pt x="491" y="409"/>
                  </a:lnTo>
                  <a:lnTo>
                    <a:pt x="485" y="405"/>
                  </a:lnTo>
                  <a:lnTo>
                    <a:pt x="480" y="401"/>
                  </a:lnTo>
                  <a:lnTo>
                    <a:pt x="476" y="397"/>
                  </a:lnTo>
                  <a:lnTo>
                    <a:pt x="473" y="392"/>
                  </a:lnTo>
                  <a:lnTo>
                    <a:pt x="471" y="390"/>
                  </a:lnTo>
                  <a:lnTo>
                    <a:pt x="469" y="387"/>
                  </a:lnTo>
                  <a:lnTo>
                    <a:pt x="467" y="384"/>
                  </a:lnTo>
                  <a:lnTo>
                    <a:pt x="466" y="380"/>
                  </a:lnTo>
                  <a:lnTo>
                    <a:pt x="464" y="377"/>
                  </a:lnTo>
                  <a:lnTo>
                    <a:pt x="464" y="373"/>
                  </a:lnTo>
                  <a:lnTo>
                    <a:pt x="464" y="369"/>
                  </a:lnTo>
                  <a:lnTo>
                    <a:pt x="464" y="365"/>
                  </a:lnTo>
                  <a:lnTo>
                    <a:pt x="463" y="361"/>
                  </a:lnTo>
                  <a:lnTo>
                    <a:pt x="463" y="357"/>
                  </a:lnTo>
                  <a:lnTo>
                    <a:pt x="463" y="353"/>
                  </a:lnTo>
                  <a:lnTo>
                    <a:pt x="465" y="350"/>
                  </a:lnTo>
                  <a:lnTo>
                    <a:pt x="465" y="347"/>
                  </a:lnTo>
                  <a:lnTo>
                    <a:pt x="467" y="343"/>
                  </a:lnTo>
                  <a:lnTo>
                    <a:pt x="469" y="341"/>
                  </a:lnTo>
                  <a:lnTo>
                    <a:pt x="470" y="337"/>
                  </a:lnTo>
                  <a:lnTo>
                    <a:pt x="470" y="337"/>
                  </a:lnTo>
                  <a:lnTo>
                    <a:pt x="470" y="335"/>
                  </a:lnTo>
                  <a:lnTo>
                    <a:pt x="470" y="335"/>
                  </a:lnTo>
                  <a:lnTo>
                    <a:pt x="472" y="333"/>
                  </a:lnTo>
                  <a:lnTo>
                    <a:pt x="472" y="332"/>
                  </a:lnTo>
                  <a:lnTo>
                    <a:pt x="472" y="330"/>
                  </a:lnTo>
                  <a:lnTo>
                    <a:pt x="472" y="328"/>
                  </a:lnTo>
                  <a:lnTo>
                    <a:pt x="473" y="326"/>
                  </a:lnTo>
                  <a:lnTo>
                    <a:pt x="473" y="324"/>
                  </a:lnTo>
                  <a:lnTo>
                    <a:pt x="475" y="322"/>
                  </a:lnTo>
                  <a:lnTo>
                    <a:pt x="475" y="321"/>
                  </a:lnTo>
                  <a:lnTo>
                    <a:pt x="477" y="317"/>
                  </a:lnTo>
                  <a:lnTo>
                    <a:pt x="479" y="315"/>
                  </a:lnTo>
                  <a:lnTo>
                    <a:pt x="480" y="311"/>
                  </a:lnTo>
                  <a:lnTo>
                    <a:pt x="482" y="307"/>
                  </a:lnTo>
                  <a:lnTo>
                    <a:pt x="485" y="304"/>
                  </a:lnTo>
                  <a:lnTo>
                    <a:pt x="485" y="304"/>
                  </a:lnTo>
                  <a:lnTo>
                    <a:pt x="485" y="302"/>
                  </a:lnTo>
                  <a:lnTo>
                    <a:pt x="487" y="301"/>
                  </a:lnTo>
                  <a:lnTo>
                    <a:pt x="489" y="299"/>
                  </a:lnTo>
                  <a:lnTo>
                    <a:pt x="491" y="297"/>
                  </a:lnTo>
                  <a:lnTo>
                    <a:pt x="494" y="295"/>
                  </a:lnTo>
                  <a:lnTo>
                    <a:pt x="496" y="293"/>
                  </a:lnTo>
                  <a:lnTo>
                    <a:pt x="500" y="291"/>
                  </a:lnTo>
                  <a:lnTo>
                    <a:pt x="501" y="291"/>
                  </a:lnTo>
                  <a:lnTo>
                    <a:pt x="505" y="289"/>
                  </a:lnTo>
                  <a:lnTo>
                    <a:pt x="507" y="287"/>
                  </a:lnTo>
                  <a:lnTo>
                    <a:pt x="510" y="285"/>
                  </a:lnTo>
                  <a:lnTo>
                    <a:pt x="511" y="285"/>
                  </a:lnTo>
                  <a:lnTo>
                    <a:pt x="513" y="283"/>
                  </a:lnTo>
                  <a:lnTo>
                    <a:pt x="515" y="282"/>
                  </a:lnTo>
                  <a:lnTo>
                    <a:pt x="517" y="281"/>
                  </a:lnTo>
                  <a:lnTo>
                    <a:pt x="517" y="279"/>
                  </a:lnTo>
                  <a:lnTo>
                    <a:pt x="519" y="275"/>
                  </a:lnTo>
                  <a:lnTo>
                    <a:pt x="520" y="271"/>
                  </a:lnTo>
                  <a:lnTo>
                    <a:pt x="522" y="266"/>
                  </a:lnTo>
                  <a:lnTo>
                    <a:pt x="522" y="262"/>
                  </a:lnTo>
                  <a:lnTo>
                    <a:pt x="524" y="256"/>
                  </a:lnTo>
                  <a:lnTo>
                    <a:pt x="525" y="251"/>
                  </a:lnTo>
                  <a:lnTo>
                    <a:pt x="527" y="245"/>
                  </a:lnTo>
                  <a:lnTo>
                    <a:pt x="527" y="240"/>
                  </a:lnTo>
                  <a:lnTo>
                    <a:pt x="528" y="234"/>
                  </a:lnTo>
                  <a:lnTo>
                    <a:pt x="528" y="229"/>
                  </a:lnTo>
                  <a:lnTo>
                    <a:pt x="530" y="224"/>
                  </a:lnTo>
                  <a:lnTo>
                    <a:pt x="530" y="220"/>
                  </a:lnTo>
                  <a:lnTo>
                    <a:pt x="530" y="214"/>
                  </a:lnTo>
                  <a:lnTo>
                    <a:pt x="530" y="211"/>
                  </a:lnTo>
                  <a:lnTo>
                    <a:pt x="531" y="206"/>
                  </a:lnTo>
                  <a:lnTo>
                    <a:pt x="531" y="204"/>
                  </a:lnTo>
                  <a:lnTo>
                    <a:pt x="531" y="202"/>
                  </a:lnTo>
                  <a:lnTo>
                    <a:pt x="530" y="200"/>
                  </a:lnTo>
                  <a:lnTo>
                    <a:pt x="530" y="197"/>
                  </a:lnTo>
                  <a:lnTo>
                    <a:pt x="528" y="197"/>
                  </a:lnTo>
                  <a:lnTo>
                    <a:pt x="528" y="195"/>
                  </a:lnTo>
                  <a:lnTo>
                    <a:pt x="526" y="193"/>
                  </a:lnTo>
                  <a:lnTo>
                    <a:pt x="526" y="191"/>
                  </a:lnTo>
                  <a:lnTo>
                    <a:pt x="524" y="191"/>
                  </a:lnTo>
                  <a:lnTo>
                    <a:pt x="522" y="189"/>
                  </a:lnTo>
                  <a:lnTo>
                    <a:pt x="520" y="187"/>
                  </a:lnTo>
                  <a:lnTo>
                    <a:pt x="520" y="185"/>
                  </a:lnTo>
                  <a:lnTo>
                    <a:pt x="519" y="183"/>
                  </a:lnTo>
                  <a:lnTo>
                    <a:pt x="519" y="181"/>
                  </a:lnTo>
                  <a:lnTo>
                    <a:pt x="519" y="179"/>
                  </a:lnTo>
                  <a:lnTo>
                    <a:pt x="519" y="175"/>
                  </a:lnTo>
                  <a:lnTo>
                    <a:pt x="517" y="171"/>
                  </a:lnTo>
                  <a:lnTo>
                    <a:pt x="517" y="166"/>
                  </a:lnTo>
                  <a:lnTo>
                    <a:pt x="517" y="160"/>
                  </a:lnTo>
                  <a:lnTo>
                    <a:pt x="517" y="154"/>
                  </a:lnTo>
                  <a:lnTo>
                    <a:pt x="516" y="148"/>
                  </a:lnTo>
                  <a:lnTo>
                    <a:pt x="516" y="141"/>
                  </a:lnTo>
                  <a:lnTo>
                    <a:pt x="515" y="133"/>
                  </a:lnTo>
                  <a:lnTo>
                    <a:pt x="515" y="126"/>
                  </a:lnTo>
                  <a:lnTo>
                    <a:pt x="513" y="120"/>
                  </a:lnTo>
                  <a:lnTo>
                    <a:pt x="513" y="113"/>
                  </a:lnTo>
                  <a:lnTo>
                    <a:pt x="511" y="106"/>
                  </a:lnTo>
                  <a:lnTo>
                    <a:pt x="510" y="98"/>
                  </a:lnTo>
                  <a:lnTo>
                    <a:pt x="509" y="93"/>
                  </a:lnTo>
                  <a:lnTo>
                    <a:pt x="507" y="87"/>
                  </a:lnTo>
                  <a:lnTo>
                    <a:pt x="505" y="81"/>
                  </a:lnTo>
                  <a:lnTo>
                    <a:pt x="503" y="76"/>
                  </a:lnTo>
                  <a:lnTo>
                    <a:pt x="499" y="72"/>
                  </a:lnTo>
                  <a:lnTo>
                    <a:pt x="495" y="68"/>
                  </a:lnTo>
                  <a:lnTo>
                    <a:pt x="490" y="65"/>
                  </a:lnTo>
                  <a:lnTo>
                    <a:pt x="486" y="60"/>
                  </a:lnTo>
                  <a:lnTo>
                    <a:pt x="480" y="56"/>
                  </a:lnTo>
                  <a:lnTo>
                    <a:pt x="474" y="51"/>
                  </a:lnTo>
                  <a:lnTo>
                    <a:pt x="469" y="47"/>
                  </a:lnTo>
                  <a:lnTo>
                    <a:pt x="463" y="41"/>
                  </a:lnTo>
                  <a:lnTo>
                    <a:pt x="455" y="38"/>
                  </a:lnTo>
                  <a:lnTo>
                    <a:pt x="450" y="34"/>
                  </a:lnTo>
                  <a:lnTo>
                    <a:pt x="443" y="30"/>
                  </a:lnTo>
                  <a:lnTo>
                    <a:pt x="437" y="27"/>
                  </a:lnTo>
                  <a:lnTo>
                    <a:pt x="431" y="25"/>
                  </a:lnTo>
                  <a:lnTo>
                    <a:pt x="425" y="21"/>
                  </a:lnTo>
                  <a:lnTo>
                    <a:pt x="420" y="19"/>
                  </a:lnTo>
                  <a:lnTo>
                    <a:pt x="415" y="16"/>
                  </a:lnTo>
                  <a:lnTo>
                    <a:pt x="410" y="15"/>
                  </a:lnTo>
                  <a:lnTo>
                    <a:pt x="405" y="13"/>
                  </a:lnTo>
                  <a:lnTo>
                    <a:pt x="400" y="11"/>
                  </a:lnTo>
                  <a:lnTo>
                    <a:pt x="394" y="10"/>
                  </a:lnTo>
                  <a:lnTo>
                    <a:pt x="387" y="10"/>
                  </a:lnTo>
                  <a:lnTo>
                    <a:pt x="381" y="8"/>
                  </a:lnTo>
                  <a:lnTo>
                    <a:pt x="374" y="7"/>
                  </a:lnTo>
                  <a:lnTo>
                    <a:pt x="368" y="5"/>
                  </a:lnTo>
                  <a:lnTo>
                    <a:pt x="361" y="5"/>
                  </a:lnTo>
                  <a:lnTo>
                    <a:pt x="354" y="4"/>
                  </a:lnTo>
                  <a:lnTo>
                    <a:pt x="347" y="4"/>
                  </a:lnTo>
                  <a:lnTo>
                    <a:pt x="341" y="2"/>
                  </a:lnTo>
                  <a:lnTo>
                    <a:pt x="335" y="2"/>
                  </a:lnTo>
                  <a:lnTo>
                    <a:pt x="329" y="1"/>
                  </a:lnTo>
                  <a:lnTo>
                    <a:pt x="324" y="1"/>
                  </a:lnTo>
                  <a:lnTo>
                    <a:pt x="321" y="0"/>
                  </a:lnTo>
                  <a:lnTo>
                    <a:pt x="315" y="1"/>
                  </a:lnTo>
                  <a:lnTo>
                    <a:pt x="311" y="1"/>
                  </a:lnTo>
                  <a:lnTo>
                    <a:pt x="306" y="3"/>
                  </a:lnTo>
                  <a:lnTo>
                    <a:pt x="302" y="4"/>
                  </a:lnTo>
                  <a:lnTo>
                    <a:pt x="296" y="6"/>
                  </a:lnTo>
                  <a:lnTo>
                    <a:pt x="291" y="8"/>
                  </a:lnTo>
                  <a:lnTo>
                    <a:pt x="286" y="10"/>
                  </a:lnTo>
                  <a:lnTo>
                    <a:pt x="282" y="11"/>
                  </a:lnTo>
                  <a:lnTo>
                    <a:pt x="276" y="15"/>
                  </a:lnTo>
                  <a:lnTo>
                    <a:pt x="271" y="17"/>
                  </a:lnTo>
                  <a:lnTo>
                    <a:pt x="265" y="20"/>
                  </a:lnTo>
                  <a:lnTo>
                    <a:pt x="261" y="21"/>
                  </a:lnTo>
                  <a:lnTo>
                    <a:pt x="256" y="25"/>
                  </a:lnTo>
                  <a:lnTo>
                    <a:pt x="252" y="27"/>
                  </a:lnTo>
                  <a:lnTo>
                    <a:pt x="248" y="29"/>
                  </a:lnTo>
                  <a:lnTo>
                    <a:pt x="245" y="30"/>
                  </a:lnTo>
                  <a:lnTo>
                    <a:pt x="241" y="34"/>
                  </a:lnTo>
                  <a:lnTo>
                    <a:pt x="239" y="37"/>
                  </a:lnTo>
                  <a:lnTo>
                    <a:pt x="238" y="40"/>
                  </a:lnTo>
                  <a:lnTo>
                    <a:pt x="236" y="44"/>
                  </a:lnTo>
                  <a:lnTo>
                    <a:pt x="232" y="50"/>
                  </a:lnTo>
                  <a:lnTo>
                    <a:pt x="230" y="53"/>
                  </a:lnTo>
                  <a:lnTo>
                    <a:pt x="228" y="58"/>
                  </a:lnTo>
                  <a:lnTo>
                    <a:pt x="226" y="62"/>
                  </a:lnTo>
                  <a:lnTo>
                    <a:pt x="224" y="68"/>
                  </a:lnTo>
                  <a:lnTo>
                    <a:pt x="222" y="73"/>
                  </a:lnTo>
                  <a:lnTo>
                    <a:pt x="220" y="78"/>
                  </a:lnTo>
                  <a:lnTo>
                    <a:pt x="218" y="81"/>
                  </a:lnTo>
                  <a:lnTo>
                    <a:pt x="216" y="86"/>
                  </a:lnTo>
                  <a:lnTo>
                    <a:pt x="215" y="89"/>
                  </a:lnTo>
                  <a:lnTo>
                    <a:pt x="213" y="93"/>
                  </a:lnTo>
                  <a:lnTo>
                    <a:pt x="213" y="95"/>
                  </a:lnTo>
                  <a:lnTo>
                    <a:pt x="211" y="99"/>
                  </a:lnTo>
                  <a:lnTo>
                    <a:pt x="209" y="103"/>
                  </a:lnTo>
                  <a:lnTo>
                    <a:pt x="209" y="109"/>
                  </a:lnTo>
                  <a:lnTo>
                    <a:pt x="209" y="114"/>
                  </a:lnTo>
                  <a:lnTo>
                    <a:pt x="209" y="121"/>
                  </a:lnTo>
                  <a:lnTo>
                    <a:pt x="210" y="126"/>
                  </a:lnTo>
                  <a:lnTo>
                    <a:pt x="210" y="134"/>
                  </a:lnTo>
                  <a:lnTo>
                    <a:pt x="212" y="139"/>
                  </a:lnTo>
                  <a:lnTo>
                    <a:pt x="212" y="147"/>
                  </a:lnTo>
                  <a:lnTo>
                    <a:pt x="213" y="154"/>
                  </a:lnTo>
                  <a:lnTo>
                    <a:pt x="213" y="161"/>
                  </a:lnTo>
                  <a:lnTo>
                    <a:pt x="215" y="166"/>
                  </a:lnTo>
                  <a:lnTo>
                    <a:pt x="215" y="172"/>
                  </a:lnTo>
                  <a:lnTo>
                    <a:pt x="215" y="177"/>
                  </a:lnTo>
                  <a:lnTo>
                    <a:pt x="215" y="182"/>
                  </a:lnTo>
                  <a:lnTo>
                    <a:pt x="216" y="185"/>
                  </a:lnTo>
                  <a:lnTo>
                    <a:pt x="215" y="187"/>
                  </a:lnTo>
                  <a:lnTo>
                    <a:pt x="215" y="189"/>
                  </a:lnTo>
                  <a:lnTo>
                    <a:pt x="213" y="191"/>
                  </a:lnTo>
                  <a:lnTo>
                    <a:pt x="213" y="191"/>
                  </a:lnTo>
                  <a:lnTo>
                    <a:pt x="211" y="193"/>
                  </a:lnTo>
                  <a:lnTo>
                    <a:pt x="210" y="193"/>
                  </a:lnTo>
                  <a:lnTo>
                    <a:pt x="208" y="193"/>
                  </a:lnTo>
                  <a:lnTo>
                    <a:pt x="208" y="193"/>
                  </a:lnTo>
                  <a:lnTo>
                    <a:pt x="207" y="195"/>
                  </a:lnTo>
                  <a:lnTo>
                    <a:pt x="205" y="195"/>
                  </a:lnTo>
                  <a:lnTo>
                    <a:pt x="203" y="195"/>
                  </a:lnTo>
                  <a:lnTo>
                    <a:pt x="203" y="195"/>
                  </a:lnTo>
                  <a:lnTo>
                    <a:pt x="201" y="196"/>
                  </a:lnTo>
                  <a:lnTo>
                    <a:pt x="201" y="196"/>
                  </a:lnTo>
                  <a:lnTo>
                    <a:pt x="201" y="198"/>
                  </a:lnTo>
                  <a:lnTo>
                    <a:pt x="201" y="198"/>
                  </a:lnTo>
                  <a:lnTo>
                    <a:pt x="201" y="203"/>
                  </a:lnTo>
                  <a:lnTo>
                    <a:pt x="201" y="206"/>
                  </a:lnTo>
                  <a:lnTo>
                    <a:pt x="201" y="211"/>
                  </a:lnTo>
                  <a:lnTo>
                    <a:pt x="202" y="214"/>
                  </a:lnTo>
                  <a:lnTo>
                    <a:pt x="202" y="220"/>
                  </a:lnTo>
                  <a:lnTo>
                    <a:pt x="204" y="224"/>
                  </a:lnTo>
                  <a:lnTo>
                    <a:pt x="205" y="230"/>
                  </a:lnTo>
                  <a:lnTo>
                    <a:pt x="207" y="234"/>
                  </a:lnTo>
                  <a:lnTo>
                    <a:pt x="207" y="239"/>
                  </a:lnTo>
                  <a:lnTo>
                    <a:pt x="208" y="244"/>
                  </a:lnTo>
                  <a:lnTo>
                    <a:pt x="209" y="250"/>
                  </a:lnTo>
                  <a:lnTo>
                    <a:pt x="211" y="254"/>
                  </a:lnTo>
                  <a:lnTo>
                    <a:pt x="211" y="259"/>
                  </a:lnTo>
                  <a:lnTo>
                    <a:pt x="213" y="263"/>
                  </a:lnTo>
                  <a:lnTo>
                    <a:pt x="214" y="266"/>
                  </a:lnTo>
                  <a:lnTo>
                    <a:pt x="216" y="269"/>
                  </a:lnTo>
                  <a:lnTo>
                    <a:pt x="216" y="272"/>
                  </a:lnTo>
                  <a:lnTo>
                    <a:pt x="216" y="274"/>
                  </a:lnTo>
                  <a:lnTo>
                    <a:pt x="218" y="275"/>
                  </a:lnTo>
                  <a:lnTo>
                    <a:pt x="220" y="277"/>
                  </a:lnTo>
                  <a:lnTo>
                    <a:pt x="222" y="281"/>
                  </a:lnTo>
                  <a:lnTo>
                    <a:pt x="225" y="282"/>
                  </a:lnTo>
                  <a:lnTo>
                    <a:pt x="228" y="284"/>
                  </a:lnTo>
                  <a:lnTo>
                    <a:pt x="231" y="286"/>
                  </a:lnTo>
                  <a:lnTo>
                    <a:pt x="233" y="289"/>
                  </a:lnTo>
                  <a:lnTo>
                    <a:pt x="237" y="291"/>
                  </a:lnTo>
                  <a:lnTo>
                    <a:pt x="239" y="292"/>
                  </a:lnTo>
                  <a:lnTo>
                    <a:pt x="243" y="294"/>
                  </a:lnTo>
                  <a:lnTo>
                    <a:pt x="245" y="296"/>
                  </a:lnTo>
                  <a:lnTo>
                    <a:pt x="247" y="297"/>
                  </a:lnTo>
                  <a:lnTo>
                    <a:pt x="247" y="299"/>
                  </a:lnTo>
                  <a:lnTo>
                    <a:pt x="249" y="299"/>
                  </a:lnTo>
                  <a:lnTo>
                    <a:pt x="253" y="307"/>
                  </a:lnTo>
                  <a:lnTo>
                    <a:pt x="257" y="312"/>
                  </a:lnTo>
                  <a:lnTo>
                    <a:pt x="259" y="317"/>
                  </a:lnTo>
                  <a:lnTo>
                    <a:pt x="262" y="321"/>
                  </a:lnTo>
                  <a:lnTo>
                    <a:pt x="263" y="324"/>
                  </a:lnTo>
                  <a:lnTo>
                    <a:pt x="265" y="326"/>
                  </a:lnTo>
                  <a:lnTo>
                    <a:pt x="266" y="328"/>
                  </a:lnTo>
                  <a:lnTo>
                    <a:pt x="267" y="328"/>
                  </a:lnTo>
                  <a:lnTo>
                    <a:pt x="267" y="330"/>
                  </a:lnTo>
                  <a:lnTo>
                    <a:pt x="267" y="330"/>
                  </a:lnTo>
                  <a:lnTo>
                    <a:pt x="267" y="330"/>
                  </a:lnTo>
                  <a:lnTo>
                    <a:pt x="269" y="330"/>
                  </a:lnTo>
                  <a:lnTo>
                    <a:pt x="269" y="332"/>
                  </a:lnTo>
                  <a:lnTo>
                    <a:pt x="270" y="332"/>
                  </a:lnTo>
                  <a:lnTo>
                    <a:pt x="271" y="333"/>
                  </a:lnTo>
                  <a:lnTo>
                    <a:pt x="273" y="333"/>
                  </a:lnTo>
                  <a:lnTo>
                    <a:pt x="273" y="337"/>
                  </a:lnTo>
                  <a:lnTo>
                    <a:pt x="274" y="341"/>
                  </a:lnTo>
                  <a:lnTo>
                    <a:pt x="274" y="344"/>
                  </a:lnTo>
                  <a:lnTo>
                    <a:pt x="276" y="347"/>
                  </a:lnTo>
                  <a:lnTo>
                    <a:pt x="276" y="352"/>
                  </a:lnTo>
                  <a:lnTo>
                    <a:pt x="276" y="355"/>
                  </a:lnTo>
                  <a:lnTo>
                    <a:pt x="276" y="359"/>
                  </a:lnTo>
                  <a:lnTo>
                    <a:pt x="276" y="363"/>
                  </a:lnTo>
                  <a:lnTo>
                    <a:pt x="276" y="368"/>
                  </a:lnTo>
                  <a:lnTo>
                    <a:pt x="276" y="372"/>
                  </a:lnTo>
                  <a:lnTo>
                    <a:pt x="276" y="375"/>
                  </a:lnTo>
                  <a:lnTo>
                    <a:pt x="276" y="379"/>
                  </a:lnTo>
                  <a:lnTo>
                    <a:pt x="276" y="382"/>
                  </a:lnTo>
                  <a:lnTo>
                    <a:pt x="276" y="385"/>
                  </a:lnTo>
                  <a:lnTo>
                    <a:pt x="276" y="387"/>
                  </a:lnTo>
                  <a:lnTo>
                    <a:pt x="277" y="389"/>
                  </a:lnTo>
                  <a:lnTo>
                    <a:pt x="276" y="390"/>
                  </a:lnTo>
                  <a:lnTo>
                    <a:pt x="276" y="392"/>
                  </a:lnTo>
                  <a:lnTo>
                    <a:pt x="274" y="394"/>
                  </a:lnTo>
                  <a:lnTo>
                    <a:pt x="272" y="394"/>
                  </a:lnTo>
                  <a:lnTo>
                    <a:pt x="268" y="396"/>
                  </a:lnTo>
                  <a:lnTo>
                    <a:pt x="266" y="398"/>
                  </a:lnTo>
                  <a:lnTo>
                    <a:pt x="262" y="400"/>
                  </a:lnTo>
                  <a:lnTo>
                    <a:pt x="258" y="400"/>
                  </a:lnTo>
                  <a:lnTo>
                    <a:pt x="253" y="401"/>
                  </a:lnTo>
                  <a:lnTo>
                    <a:pt x="249" y="403"/>
                  </a:lnTo>
                  <a:lnTo>
                    <a:pt x="245" y="405"/>
                  </a:lnTo>
                  <a:lnTo>
                    <a:pt x="241" y="405"/>
                  </a:lnTo>
                  <a:lnTo>
                    <a:pt x="236" y="407"/>
                  </a:lnTo>
                  <a:lnTo>
                    <a:pt x="233" y="407"/>
                  </a:lnTo>
                  <a:lnTo>
                    <a:pt x="229" y="409"/>
                  </a:lnTo>
                  <a:lnTo>
                    <a:pt x="226" y="409"/>
                  </a:lnTo>
                  <a:lnTo>
                    <a:pt x="223" y="411"/>
                  </a:lnTo>
                  <a:lnTo>
                    <a:pt x="219" y="411"/>
                  </a:lnTo>
                  <a:lnTo>
                    <a:pt x="215" y="412"/>
                  </a:lnTo>
                  <a:lnTo>
                    <a:pt x="211" y="412"/>
                  </a:lnTo>
                  <a:lnTo>
                    <a:pt x="206" y="412"/>
                  </a:lnTo>
                  <a:lnTo>
                    <a:pt x="201" y="412"/>
                  </a:lnTo>
                  <a:lnTo>
                    <a:pt x="196" y="412"/>
                  </a:lnTo>
                  <a:lnTo>
                    <a:pt x="192" y="411"/>
                  </a:lnTo>
                  <a:lnTo>
                    <a:pt x="187" y="411"/>
                  </a:lnTo>
                  <a:lnTo>
                    <a:pt x="181" y="411"/>
                  </a:lnTo>
                  <a:lnTo>
                    <a:pt x="176" y="411"/>
                  </a:lnTo>
                  <a:lnTo>
                    <a:pt x="172" y="410"/>
                  </a:lnTo>
                  <a:lnTo>
                    <a:pt x="167" y="411"/>
                  </a:lnTo>
                  <a:lnTo>
                    <a:pt x="163" y="411"/>
                  </a:lnTo>
                  <a:lnTo>
                    <a:pt x="160" y="411"/>
                  </a:lnTo>
                  <a:lnTo>
                    <a:pt x="157" y="411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2" y="412"/>
                  </a:lnTo>
                  <a:lnTo>
                    <a:pt x="137" y="411"/>
                  </a:lnTo>
                  <a:lnTo>
                    <a:pt x="129" y="411"/>
                  </a:lnTo>
                  <a:lnTo>
                    <a:pt x="123" y="410"/>
                  </a:lnTo>
                  <a:lnTo>
                    <a:pt x="115" y="410"/>
                  </a:lnTo>
                  <a:lnTo>
                    <a:pt x="109" y="408"/>
                  </a:lnTo>
                  <a:lnTo>
                    <a:pt x="101" y="408"/>
                  </a:lnTo>
                  <a:lnTo>
                    <a:pt x="94" y="407"/>
                  </a:lnTo>
                  <a:lnTo>
                    <a:pt x="87" y="407"/>
                  </a:lnTo>
                  <a:lnTo>
                    <a:pt x="80" y="405"/>
                  </a:lnTo>
                  <a:lnTo>
                    <a:pt x="74" y="405"/>
                  </a:lnTo>
                  <a:lnTo>
                    <a:pt x="69" y="405"/>
                  </a:lnTo>
                  <a:lnTo>
                    <a:pt x="64" y="405"/>
                  </a:lnTo>
                  <a:lnTo>
                    <a:pt x="61" y="405"/>
                  </a:lnTo>
                  <a:lnTo>
                    <a:pt x="59" y="407"/>
                  </a:lnTo>
                  <a:lnTo>
                    <a:pt x="57" y="409"/>
                  </a:lnTo>
                  <a:lnTo>
                    <a:pt x="55" y="413"/>
                  </a:lnTo>
                  <a:lnTo>
                    <a:pt x="55" y="416"/>
                  </a:lnTo>
                  <a:lnTo>
                    <a:pt x="53" y="421"/>
                  </a:lnTo>
                  <a:lnTo>
                    <a:pt x="53" y="425"/>
                  </a:lnTo>
                  <a:lnTo>
                    <a:pt x="53" y="431"/>
                  </a:lnTo>
                  <a:lnTo>
                    <a:pt x="53" y="435"/>
                  </a:lnTo>
                  <a:lnTo>
                    <a:pt x="51" y="440"/>
                  </a:lnTo>
                  <a:lnTo>
                    <a:pt x="51" y="446"/>
                  </a:lnTo>
                  <a:lnTo>
                    <a:pt x="51" y="451"/>
                  </a:lnTo>
                  <a:lnTo>
                    <a:pt x="51" y="455"/>
                  </a:lnTo>
                  <a:lnTo>
                    <a:pt x="49" y="459"/>
                  </a:lnTo>
                  <a:lnTo>
                    <a:pt x="48" y="463"/>
                  </a:lnTo>
                  <a:lnTo>
                    <a:pt x="46" y="465"/>
                  </a:lnTo>
                  <a:lnTo>
                    <a:pt x="45" y="467"/>
                  </a:lnTo>
                  <a:lnTo>
                    <a:pt x="43" y="469"/>
                  </a:lnTo>
                  <a:lnTo>
                    <a:pt x="42" y="472"/>
                  </a:lnTo>
                  <a:lnTo>
                    <a:pt x="40" y="476"/>
                  </a:lnTo>
                  <a:lnTo>
                    <a:pt x="38" y="478"/>
                  </a:lnTo>
                  <a:lnTo>
                    <a:pt x="36" y="483"/>
                  </a:lnTo>
                  <a:lnTo>
                    <a:pt x="34" y="487"/>
                  </a:lnTo>
                  <a:lnTo>
                    <a:pt x="32" y="491"/>
                  </a:lnTo>
                  <a:lnTo>
                    <a:pt x="31" y="495"/>
                  </a:lnTo>
                  <a:lnTo>
                    <a:pt x="29" y="500"/>
                  </a:lnTo>
                  <a:lnTo>
                    <a:pt x="27" y="504"/>
                  </a:lnTo>
                  <a:lnTo>
                    <a:pt x="25" y="508"/>
                  </a:lnTo>
                  <a:lnTo>
                    <a:pt x="25" y="512"/>
                  </a:lnTo>
                  <a:lnTo>
                    <a:pt x="23" y="516"/>
                  </a:lnTo>
                  <a:lnTo>
                    <a:pt x="23" y="519"/>
                  </a:lnTo>
                  <a:lnTo>
                    <a:pt x="22" y="523"/>
                  </a:lnTo>
                  <a:lnTo>
                    <a:pt x="22" y="525"/>
                  </a:lnTo>
                  <a:lnTo>
                    <a:pt x="21" y="533"/>
                  </a:lnTo>
                  <a:lnTo>
                    <a:pt x="19" y="541"/>
                  </a:lnTo>
                  <a:lnTo>
                    <a:pt x="17" y="550"/>
                  </a:lnTo>
                  <a:lnTo>
                    <a:pt x="15" y="559"/>
                  </a:lnTo>
                  <a:lnTo>
                    <a:pt x="13" y="571"/>
                  </a:lnTo>
                  <a:lnTo>
                    <a:pt x="12" y="581"/>
                  </a:lnTo>
                  <a:lnTo>
                    <a:pt x="10" y="592"/>
                  </a:lnTo>
                  <a:lnTo>
                    <a:pt x="9" y="603"/>
                  </a:lnTo>
                  <a:lnTo>
                    <a:pt x="7" y="614"/>
                  </a:lnTo>
                  <a:lnTo>
                    <a:pt x="5" y="625"/>
                  </a:lnTo>
                  <a:lnTo>
                    <a:pt x="4" y="636"/>
                  </a:lnTo>
                  <a:lnTo>
                    <a:pt x="4" y="646"/>
                  </a:lnTo>
                  <a:lnTo>
                    <a:pt x="2" y="656"/>
                  </a:lnTo>
                  <a:lnTo>
                    <a:pt x="2" y="665"/>
                  </a:lnTo>
                  <a:lnTo>
                    <a:pt x="2" y="672"/>
                  </a:lnTo>
                  <a:lnTo>
                    <a:pt x="2" y="679"/>
                  </a:lnTo>
                  <a:lnTo>
                    <a:pt x="0" y="692"/>
                  </a:lnTo>
                  <a:lnTo>
                    <a:pt x="0" y="707"/>
                  </a:lnTo>
                  <a:lnTo>
                    <a:pt x="0" y="724"/>
                  </a:lnTo>
                  <a:lnTo>
                    <a:pt x="0" y="742"/>
                  </a:lnTo>
                  <a:lnTo>
                    <a:pt x="0" y="763"/>
                  </a:lnTo>
                  <a:lnTo>
                    <a:pt x="0" y="784"/>
                  </a:lnTo>
                  <a:lnTo>
                    <a:pt x="0" y="805"/>
                  </a:lnTo>
                  <a:lnTo>
                    <a:pt x="0" y="826"/>
                  </a:lnTo>
                  <a:lnTo>
                    <a:pt x="0" y="847"/>
                  </a:lnTo>
                  <a:lnTo>
                    <a:pt x="0" y="867"/>
                  </a:lnTo>
                  <a:lnTo>
                    <a:pt x="0" y="885"/>
                  </a:lnTo>
                  <a:lnTo>
                    <a:pt x="0" y="900"/>
                  </a:lnTo>
                  <a:lnTo>
                    <a:pt x="0" y="915"/>
                  </a:lnTo>
                  <a:lnTo>
                    <a:pt x="0" y="924"/>
                  </a:lnTo>
                  <a:lnTo>
                    <a:pt x="0" y="929"/>
                  </a:lnTo>
                  <a:lnTo>
                    <a:pt x="2" y="931"/>
                  </a:lnTo>
                  <a:lnTo>
                    <a:pt x="37" y="935"/>
                  </a:lnTo>
                  <a:lnTo>
                    <a:pt x="75" y="936"/>
                  </a:lnTo>
                  <a:lnTo>
                    <a:pt x="115" y="938"/>
                  </a:lnTo>
                  <a:lnTo>
                    <a:pt x="157" y="939"/>
                  </a:lnTo>
                  <a:lnTo>
                    <a:pt x="199" y="941"/>
                  </a:lnTo>
                  <a:lnTo>
                    <a:pt x="243" y="941"/>
                  </a:lnTo>
                  <a:lnTo>
                    <a:pt x="289" y="941"/>
                  </a:lnTo>
                  <a:lnTo>
                    <a:pt x="338" y="940"/>
                  </a:lnTo>
                  <a:lnTo>
                    <a:pt x="387" y="940"/>
                  </a:lnTo>
                  <a:lnTo>
                    <a:pt x="439" y="939"/>
                  </a:lnTo>
                  <a:lnTo>
                    <a:pt x="491" y="937"/>
                  </a:lnTo>
                  <a:lnTo>
                    <a:pt x="547" y="936"/>
                  </a:lnTo>
                  <a:lnTo>
                    <a:pt x="603" y="934"/>
                  </a:lnTo>
                  <a:lnTo>
                    <a:pt x="661" y="931"/>
                  </a:lnTo>
                  <a:lnTo>
                    <a:pt x="721" y="929"/>
                  </a:lnTo>
                  <a:lnTo>
                    <a:pt x="783" y="925"/>
                  </a:lnTo>
                  <a:lnTo>
                    <a:pt x="783" y="925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32440" y="5419800"/>
              <a:ext cx="1255680" cy="1488960"/>
            </a:xfrm>
            <a:custGeom>
              <a:avLst/>
              <a:gdLst/>
              <a:ahLst/>
              <a:rect l="l" t="t" r="r" b="b"/>
              <a:pathLst>
                <a:path w="791" h="938">
                  <a:moveTo>
                    <a:pt x="756" y="934"/>
                  </a:moveTo>
                  <a:lnTo>
                    <a:pt x="769" y="930"/>
                  </a:lnTo>
                  <a:lnTo>
                    <a:pt x="781" y="918"/>
                  </a:lnTo>
                  <a:lnTo>
                    <a:pt x="786" y="900"/>
                  </a:lnTo>
                  <a:lnTo>
                    <a:pt x="790" y="876"/>
                  </a:lnTo>
                  <a:lnTo>
                    <a:pt x="789" y="848"/>
                  </a:lnTo>
                  <a:lnTo>
                    <a:pt x="785" y="815"/>
                  </a:lnTo>
                  <a:lnTo>
                    <a:pt x="779" y="780"/>
                  </a:lnTo>
                  <a:lnTo>
                    <a:pt x="771" y="743"/>
                  </a:lnTo>
                  <a:lnTo>
                    <a:pt x="760" y="706"/>
                  </a:lnTo>
                  <a:lnTo>
                    <a:pt x="749" y="669"/>
                  </a:lnTo>
                  <a:lnTo>
                    <a:pt x="736" y="632"/>
                  </a:lnTo>
                  <a:lnTo>
                    <a:pt x="723" y="597"/>
                  </a:lnTo>
                  <a:lnTo>
                    <a:pt x="709" y="565"/>
                  </a:lnTo>
                  <a:lnTo>
                    <a:pt x="696" y="537"/>
                  </a:lnTo>
                  <a:lnTo>
                    <a:pt x="684" y="514"/>
                  </a:lnTo>
                  <a:lnTo>
                    <a:pt x="673" y="495"/>
                  </a:lnTo>
                  <a:lnTo>
                    <a:pt x="669" y="494"/>
                  </a:lnTo>
                  <a:lnTo>
                    <a:pt x="668" y="492"/>
                  </a:lnTo>
                  <a:lnTo>
                    <a:pt x="665" y="490"/>
                  </a:lnTo>
                  <a:lnTo>
                    <a:pt x="663" y="488"/>
                  </a:lnTo>
                  <a:lnTo>
                    <a:pt x="659" y="488"/>
                  </a:lnTo>
                  <a:lnTo>
                    <a:pt x="657" y="486"/>
                  </a:lnTo>
                  <a:lnTo>
                    <a:pt x="653" y="485"/>
                  </a:lnTo>
                  <a:lnTo>
                    <a:pt x="651" y="484"/>
                  </a:lnTo>
                  <a:lnTo>
                    <a:pt x="648" y="484"/>
                  </a:lnTo>
                  <a:lnTo>
                    <a:pt x="644" y="482"/>
                  </a:lnTo>
                  <a:lnTo>
                    <a:pt x="640" y="482"/>
                  </a:lnTo>
                  <a:lnTo>
                    <a:pt x="638" y="480"/>
                  </a:lnTo>
                  <a:lnTo>
                    <a:pt x="635" y="480"/>
                  </a:lnTo>
                  <a:lnTo>
                    <a:pt x="632" y="478"/>
                  </a:lnTo>
                  <a:lnTo>
                    <a:pt x="628" y="476"/>
                  </a:lnTo>
                  <a:lnTo>
                    <a:pt x="627" y="475"/>
                  </a:lnTo>
                  <a:lnTo>
                    <a:pt x="621" y="474"/>
                  </a:lnTo>
                  <a:lnTo>
                    <a:pt x="616" y="472"/>
                  </a:lnTo>
                  <a:lnTo>
                    <a:pt x="609" y="470"/>
                  </a:lnTo>
                  <a:lnTo>
                    <a:pt x="603" y="468"/>
                  </a:lnTo>
                  <a:lnTo>
                    <a:pt x="595" y="466"/>
                  </a:lnTo>
                  <a:lnTo>
                    <a:pt x="588" y="465"/>
                  </a:lnTo>
                  <a:lnTo>
                    <a:pt x="580" y="463"/>
                  </a:lnTo>
                  <a:lnTo>
                    <a:pt x="573" y="460"/>
                  </a:lnTo>
                  <a:lnTo>
                    <a:pt x="564" y="458"/>
                  </a:lnTo>
                  <a:lnTo>
                    <a:pt x="557" y="456"/>
                  </a:lnTo>
                  <a:lnTo>
                    <a:pt x="549" y="455"/>
                  </a:lnTo>
                  <a:lnTo>
                    <a:pt x="542" y="452"/>
                  </a:lnTo>
                  <a:lnTo>
                    <a:pt x="535" y="450"/>
                  </a:lnTo>
                  <a:lnTo>
                    <a:pt x="530" y="448"/>
                  </a:lnTo>
                  <a:lnTo>
                    <a:pt x="525" y="446"/>
                  </a:lnTo>
                  <a:lnTo>
                    <a:pt x="521" y="444"/>
                  </a:lnTo>
                  <a:lnTo>
                    <a:pt x="516" y="443"/>
                  </a:lnTo>
                  <a:lnTo>
                    <a:pt x="512" y="441"/>
                  </a:lnTo>
                  <a:lnTo>
                    <a:pt x="509" y="439"/>
                  </a:lnTo>
                  <a:lnTo>
                    <a:pt x="505" y="437"/>
                  </a:lnTo>
                  <a:lnTo>
                    <a:pt x="502" y="435"/>
                  </a:lnTo>
                  <a:lnTo>
                    <a:pt x="499" y="434"/>
                  </a:lnTo>
                  <a:lnTo>
                    <a:pt x="497" y="432"/>
                  </a:lnTo>
                  <a:lnTo>
                    <a:pt x="495" y="428"/>
                  </a:lnTo>
                  <a:lnTo>
                    <a:pt x="491" y="427"/>
                  </a:lnTo>
                  <a:lnTo>
                    <a:pt x="489" y="424"/>
                  </a:lnTo>
                  <a:lnTo>
                    <a:pt x="487" y="421"/>
                  </a:lnTo>
                  <a:lnTo>
                    <a:pt x="485" y="417"/>
                  </a:lnTo>
                  <a:lnTo>
                    <a:pt x="482" y="414"/>
                  </a:lnTo>
                  <a:lnTo>
                    <a:pt x="480" y="410"/>
                  </a:lnTo>
                  <a:lnTo>
                    <a:pt x="477" y="407"/>
                  </a:lnTo>
                  <a:lnTo>
                    <a:pt x="475" y="402"/>
                  </a:lnTo>
                  <a:lnTo>
                    <a:pt x="473" y="400"/>
                  </a:lnTo>
                  <a:lnTo>
                    <a:pt x="472" y="398"/>
                  </a:lnTo>
                  <a:lnTo>
                    <a:pt x="470" y="396"/>
                  </a:lnTo>
                  <a:lnTo>
                    <a:pt x="469" y="394"/>
                  </a:lnTo>
                  <a:lnTo>
                    <a:pt x="467" y="392"/>
                  </a:lnTo>
                  <a:lnTo>
                    <a:pt x="467" y="390"/>
                  </a:lnTo>
                  <a:lnTo>
                    <a:pt x="467" y="388"/>
                  </a:lnTo>
                  <a:lnTo>
                    <a:pt x="467" y="386"/>
                  </a:lnTo>
                  <a:lnTo>
                    <a:pt x="467" y="384"/>
                  </a:lnTo>
                  <a:lnTo>
                    <a:pt x="467" y="382"/>
                  </a:lnTo>
                  <a:lnTo>
                    <a:pt x="467" y="380"/>
                  </a:lnTo>
                  <a:lnTo>
                    <a:pt x="468" y="378"/>
                  </a:lnTo>
                  <a:lnTo>
                    <a:pt x="468" y="377"/>
                  </a:lnTo>
                  <a:lnTo>
                    <a:pt x="470" y="374"/>
                  </a:lnTo>
                  <a:lnTo>
                    <a:pt x="471" y="371"/>
                  </a:lnTo>
                  <a:lnTo>
                    <a:pt x="473" y="367"/>
                  </a:lnTo>
                  <a:lnTo>
                    <a:pt x="473" y="366"/>
                  </a:lnTo>
                  <a:lnTo>
                    <a:pt x="475" y="363"/>
                  </a:lnTo>
                  <a:lnTo>
                    <a:pt x="477" y="359"/>
                  </a:lnTo>
                  <a:lnTo>
                    <a:pt x="481" y="356"/>
                  </a:lnTo>
                  <a:lnTo>
                    <a:pt x="483" y="352"/>
                  </a:lnTo>
                  <a:lnTo>
                    <a:pt x="487" y="347"/>
                  </a:lnTo>
                  <a:lnTo>
                    <a:pt x="491" y="343"/>
                  </a:lnTo>
                  <a:lnTo>
                    <a:pt x="495" y="337"/>
                  </a:lnTo>
                  <a:lnTo>
                    <a:pt x="499" y="334"/>
                  </a:lnTo>
                  <a:lnTo>
                    <a:pt x="502" y="330"/>
                  </a:lnTo>
                  <a:lnTo>
                    <a:pt x="506" y="326"/>
                  </a:lnTo>
                  <a:lnTo>
                    <a:pt x="510" y="321"/>
                  </a:lnTo>
                  <a:lnTo>
                    <a:pt x="512" y="319"/>
                  </a:lnTo>
                  <a:lnTo>
                    <a:pt x="515" y="315"/>
                  </a:lnTo>
                  <a:lnTo>
                    <a:pt x="517" y="312"/>
                  </a:lnTo>
                  <a:lnTo>
                    <a:pt x="519" y="309"/>
                  </a:lnTo>
                  <a:lnTo>
                    <a:pt x="519" y="307"/>
                  </a:lnTo>
                  <a:lnTo>
                    <a:pt x="521" y="303"/>
                  </a:lnTo>
                  <a:lnTo>
                    <a:pt x="523" y="299"/>
                  </a:lnTo>
                  <a:lnTo>
                    <a:pt x="525" y="294"/>
                  </a:lnTo>
                  <a:lnTo>
                    <a:pt x="527" y="290"/>
                  </a:lnTo>
                  <a:lnTo>
                    <a:pt x="529" y="285"/>
                  </a:lnTo>
                  <a:lnTo>
                    <a:pt x="531" y="280"/>
                  </a:lnTo>
                  <a:lnTo>
                    <a:pt x="535" y="274"/>
                  </a:lnTo>
                  <a:lnTo>
                    <a:pt x="537" y="271"/>
                  </a:lnTo>
                  <a:lnTo>
                    <a:pt x="539" y="265"/>
                  </a:lnTo>
                  <a:lnTo>
                    <a:pt x="540" y="260"/>
                  </a:lnTo>
                  <a:lnTo>
                    <a:pt x="542" y="254"/>
                  </a:lnTo>
                  <a:lnTo>
                    <a:pt x="543" y="251"/>
                  </a:lnTo>
                  <a:lnTo>
                    <a:pt x="545" y="246"/>
                  </a:lnTo>
                  <a:lnTo>
                    <a:pt x="545" y="243"/>
                  </a:lnTo>
                  <a:lnTo>
                    <a:pt x="547" y="240"/>
                  </a:lnTo>
                  <a:lnTo>
                    <a:pt x="545" y="234"/>
                  </a:lnTo>
                  <a:lnTo>
                    <a:pt x="545" y="227"/>
                  </a:lnTo>
                  <a:lnTo>
                    <a:pt x="545" y="219"/>
                  </a:lnTo>
                  <a:lnTo>
                    <a:pt x="545" y="209"/>
                  </a:lnTo>
                  <a:lnTo>
                    <a:pt x="543" y="198"/>
                  </a:lnTo>
                  <a:lnTo>
                    <a:pt x="543" y="187"/>
                  </a:lnTo>
                  <a:lnTo>
                    <a:pt x="541" y="176"/>
                  </a:lnTo>
                  <a:lnTo>
                    <a:pt x="541" y="163"/>
                  </a:lnTo>
                  <a:lnTo>
                    <a:pt x="539" y="152"/>
                  </a:lnTo>
                  <a:lnTo>
                    <a:pt x="537" y="141"/>
                  </a:lnTo>
                  <a:lnTo>
                    <a:pt x="535" y="130"/>
                  </a:lnTo>
                  <a:lnTo>
                    <a:pt x="534" y="119"/>
                  </a:lnTo>
                  <a:lnTo>
                    <a:pt x="531" y="111"/>
                  </a:lnTo>
                  <a:lnTo>
                    <a:pt x="529" y="102"/>
                  </a:lnTo>
                  <a:lnTo>
                    <a:pt x="527" y="96"/>
                  </a:lnTo>
                  <a:lnTo>
                    <a:pt x="525" y="90"/>
                  </a:lnTo>
                  <a:lnTo>
                    <a:pt x="521" y="86"/>
                  </a:lnTo>
                  <a:lnTo>
                    <a:pt x="517" y="81"/>
                  </a:lnTo>
                  <a:lnTo>
                    <a:pt x="512" y="75"/>
                  </a:lnTo>
                  <a:lnTo>
                    <a:pt x="506" y="69"/>
                  </a:lnTo>
                  <a:lnTo>
                    <a:pt x="499" y="64"/>
                  </a:lnTo>
                  <a:lnTo>
                    <a:pt x="492" y="56"/>
                  </a:lnTo>
                  <a:lnTo>
                    <a:pt x="484" y="49"/>
                  </a:lnTo>
                  <a:lnTo>
                    <a:pt x="477" y="42"/>
                  </a:lnTo>
                  <a:lnTo>
                    <a:pt x="467" y="36"/>
                  </a:lnTo>
                  <a:lnTo>
                    <a:pt x="460" y="29"/>
                  </a:lnTo>
                  <a:lnTo>
                    <a:pt x="452" y="24"/>
                  </a:lnTo>
                  <a:lnTo>
                    <a:pt x="445" y="17"/>
                  </a:lnTo>
                  <a:lnTo>
                    <a:pt x="437" y="13"/>
                  </a:lnTo>
                  <a:lnTo>
                    <a:pt x="431" y="8"/>
                  </a:lnTo>
                  <a:lnTo>
                    <a:pt x="425" y="5"/>
                  </a:lnTo>
                  <a:lnTo>
                    <a:pt x="420" y="1"/>
                  </a:lnTo>
                  <a:lnTo>
                    <a:pt x="415" y="1"/>
                  </a:lnTo>
                  <a:lnTo>
                    <a:pt x="411" y="0"/>
                  </a:lnTo>
                  <a:lnTo>
                    <a:pt x="405" y="0"/>
                  </a:lnTo>
                  <a:lnTo>
                    <a:pt x="400" y="0"/>
                  </a:lnTo>
                  <a:lnTo>
                    <a:pt x="394" y="2"/>
                  </a:lnTo>
                  <a:lnTo>
                    <a:pt x="389" y="3"/>
                  </a:lnTo>
                  <a:lnTo>
                    <a:pt x="383" y="5"/>
                  </a:lnTo>
                  <a:lnTo>
                    <a:pt x="379" y="5"/>
                  </a:lnTo>
                  <a:lnTo>
                    <a:pt x="374" y="7"/>
                  </a:lnTo>
                  <a:lnTo>
                    <a:pt x="371" y="8"/>
                  </a:lnTo>
                  <a:lnTo>
                    <a:pt x="367" y="10"/>
                  </a:lnTo>
                  <a:lnTo>
                    <a:pt x="366" y="12"/>
                  </a:lnTo>
                  <a:lnTo>
                    <a:pt x="364" y="14"/>
                  </a:lnTo>
                  <a:lnTo>
                    <a:pt x="364" y="16"/>
                  </a:lnTo>
                  <a:lnTo>
                    <a:pt x="366" y="18"/>
                  </a:lnTo>
                  <a:lnTo>
                    <a:pt x="369" y="18"/>
                  </a:lnTo>
                  <a:lnTo>
                    <a:pt x="369" y="18"/>
                  </a:lnTo>
                  <a:lnTo>
                    <a:pt x="369" y="18"/>
                  </a:lnTo>
                  <a:lnTo>
                    <a:pt x="368" y="17"/>
                  </a:lnTo>
                  <a:lnTo>
                    <a:pt x="367" y="16"/>
                  </a:lnTo>
                  <a:lnTo>
                    <a:pt x="364" y="14"/>
                  </a:lnTo>
                  <a:lnTo>
                    <a:pt x="361" y="12"/>
                  </a:lnTo>
                  <a:lnTo>
                    <a:pt x="357" y="10"/>
                  </a:lnTo>
                  <a:lnTo>
                    <a:pt x="354" y="7"/>
                  </a:lnTo>
                  <a:lnTo>
                    <a:pt x="348" y="6"/>
                  </a:lnTo>
                  <a:lnTo>
                    <a:pt x="344" y="4"/>
                  </a:lnTo>
                  <a:lnTo>
                    <a:pt x="339" y="4"/>
                  </a:lnTo>
                  <a:lnTo>
                    <a:pt x="335" y="2"/>
                  </a:lnTo>
                  <a:lnTo>
                    <a:pt x="329" y="2"/>
                  </a:lnTo>
                  <a:lnTo>
                    <a:pt x="326" y="2"/>
                  </a:lnTo>
                  <a:lnTo>
                    <a:pt x="322" y="3"/>
                  </a:lnTo>
                  <a:lnTo>
                    <a:pt x="319" y="4"/>
                  </a:lnTo>
                  <a:lnTo>
                    <a:pt x="315" y="7"/>
                  </a:lnTo>
                  <a:lnTo>
                    <a:pt x="311" y="9"/>
                  </a:lnTo>
                  <a:lnTo>
                    <a:pt x="305" y="13"/>
                  </a:lnTo>
                  <a:lnTo>
                    <a:pt x="300" y="17"/>
                  </a:lnTo>
                  <a:lnTo>
                    <a:pt x="293" y="22"/>
                  </a:lnTo>
                  <a:lnTo>
                    <a:pt x="287" y="27"/>
                  </a:lnTo>
                  <a:lnTo>
                    <a:pt x="279" y="32"/>
                  </a:lnTo>
                  <a:lnTo>
                    <a:pt x="274" y="36"/>
                  </a:lnTo>
                  <a:lnTo>
                    <a:pt x="266" y="42"/>
                  </a:lnTo>
                  <a:lnTo>
                    <a:pt x="259" y="47"/>
                  </a:lnTo>
                  <a:lnTo>
                    <a:pt x="253" y="53"/>
                  </a:lnTo>
                  <a:lnTo>
                    <a:pt x="248" y="57"/>
                  </a:lnTo>
                  <a:lnTo>
                    <a:pt x="242" y="62"/>
                  </a:lnTo>
                  <a:lnTo>
                    <a:pt x="238" y="66"/>
                  </a:lnTo>
                  <a:lnTo>
                    <a:pt x="236" y="70"/>
                  </a:lnTo>
                  <a:lnTo>
                    <a:pt x="235" y="72"/>
                  </a:lnTo>
                  <a:lnTo>
                    <a:pt x="233" y="76"/>
                  </a:lnTo>
                  <a:lnTo>
                    <a:pt x="231" y="82"/>
                  </a:lnTo>
                  <a:lnTo>
                    <a:pt x="229" y="89"/>
                  </a:lnTo>
                  <a:lnTo>
                    <a:pt x="229" y="96"/>
                  </a:lnTo>
                  <a:lnTo>
                    <a:pt x="228" y="106"/>
                  </a:lnTo>
                  <a:lnTo>
                    <a:pt x="228" y="115"/>
                  </a:lnTo>
                  <a:lnTo>
                    <a:pt x="228" y="126"/>
                  </a:lnTo>
                  <a:lnTo>
                    <a:pt x="228" y="136"/>
                  </a:lnTo>
                  <a:lnTo>
                    <a:pt x="228" y="147"/>
                  </a:lnTo>
                  <a:lnTo>
                    <a:pt x="228" y="158"/>
                  </a:lnTo>
                  <a:lnTo>
                    <a:pt x="228" y="168"/>
                  </a:lnTo>
                  <a:lnTo>
                    <a:pt x="228" y="176"/>
                  </a:lnTo>
                  <a:lnTo>
                    <a:pt x="228" y="185"/>
                  </a:lnTo>
                  <a:lnTo>
                    <a:pt x="228" y="192"/>
                  </a:lnTo>
                  <a:lnTo>
                    <a:pt x="228" y="198"/>
                  </a:lnTo>
                  <a:lnTo>
                    <a:pt x="228" y="201"/>
                  </a:lnTo>
                  <a:lnTo>
                    <a:pt x="226" y="203"/>
                  </a:lnTo>
                  <a:lnTo>
                    <a:pt x="225" y="205"/>
                  </a:lnTo>
                  <a:lnTo>
                    <a:pt x="223" y="207"/>
                  </a:lnTo>
                  <a:lnTo>
                    <a:pt x="223" y="209"/>
                  </a:lnTo>
                  <a:lnTo>
                    <a:pt x="221" y="211"/>
                  </a:lnTo>
                  <a:lnTo>
                    <a:pt x="219" y="212"/>
                  </a:lnTo>
                  <a:lnTo>
                    <a:pt x="218" y="214"/>
                  </a:lnTo>
                  <a:lnTo>
                    <a:pt x="218" y="214"/>
                  </a:lnTo>
                  <a:lnTo>
                    <a:pt x="216" y="216"/>
                  </a:lnTo>
                  <a:lnTo>
                    <a:pt x="215" y="218"/>
                  </a:lnTo>
                  <a:lnTo>
                    <a:pt x="213" y="220"/>
                  </a:lnTo>
                  <a:lnTo>
                    <a:pt x="213" y="221"/>
                  </a:lnTo>
                  <a:lnTo>
                    <a:pt x="211" y="223"/>
                  </a:lnTo>
                  <a:lnTo>
                    <a:pt x="211" y="225"/>
                  </a:lnTo>
                  <a:lnTo>
                    <a:pt x="211" y="227"/>
                  </a:lnTo>
                  <a:lnTo>
                    <a:pt x="211" y="229"/>
                  </a:lnTo>
                  <a:lnTo>
                    <a:pt x="210" y="232"/>
                  </a:lnTo>
                  <a:lnTo>
                    <a:pt x="210" y="234"/>
                  </a:lnTo>
                  <a:lnTo>
                    <a:pt x="210" y="236"/>
                  </a:lnTo>
                  <a:lnTo>
                    <a:pt x="210" y="238"/>
                  </a:lnTo>
                  <a:lnTo>
                    <a:pt x="210" y="240"/>
                  </a:lnTo>
                  <a:lnTo>
                    <a:pt x="210" y="241"/>
                  </a:lnTo>
                  <a:lnTo>
                    <a:pt x="210" y="243"/>
                  </a:lnTo>
                  <a:lnTo>
                    <a:pt x="210" y="244"/>
                  </a:lnTo>
                  <a:lnTo>
                    <a:pt x="210" y="246"/>
                  </a:lnTo>
                  <a:lnTo>
                    <a:pt x="210" y="248"/>
                  </a:lnTo>
                  <a:lnTo>
                    <a:pt x="210" y="250"/>
                  </a:lnTo>
                  <a:lnTo>
                    <a:pt x="210" y="251"/>
                  </a:lnTo>
                  <a:lnTo>
                    <a:pt x="210" y="254"/>
                  </a:lnTo>
                  <a:lnTo>
                    <a:pt x="210" y="256"/>
                  </a:lnTo>
                  <a:lnTo>
                    <a:pt x="210" y="258"/>
                  </a:lnTo>
                  <a:lnTo>
                    <a:pt x="211" y="259"/>
                  </a:lnTo>
                  <a:lnTo>
                    <a:pt x="211" y="263"/>
                  </a:lnTo>
                  <a:lnTo>
                    <a:pt x="212" y="265"/>
                  </a:lnTo>
                  <a:lnTo>
                    <a:pt x="214" y="269"/>
                  </a:lnTo>
                  <a:lnTo>
                    <a:pt x="217" y="271"/>
                  </a:lnTo>
                  <a:lnTo>
                    <a:pt x="218" y="274"/>
                  </a:lnTo>
                  <a:lnTo>
                    <a:pt x="222" y="278"/>
                  </a:lnTo>
                  <a:lnTo>
                    <a:pt x="225" y="281"/>
                  </a:lnTo>
                  <a:lnTo>
                    <a:pt x="229" y="283"/>
                  </a:lnTo>
                  <a:lnTo>
                    <a:pt x="231" y="287"/>
                  </a:lnTo>
                  <a:lnTo>
                    <a:pt x="235" y="290"/>
                  </a:lnTo>
                  <a:lnTo>
                    <a:pt x="237" y="294"/>
                  </a:lnTo>
                  <a:lnTo>
                    <a:pt x="241" y="296"/>
                  </a:lnTo>
                  <a:lnTo>
                    <a:pt x="243" y="299"/>
                  </a:lnTo>
                  <a:lnTo>
                    <a:pt x="245" y="301"/>
                  </a:lnTo>
                  <a:lnTo>
                    <a:pt x="246" y="303"/>
                  </a:lnTo>
                  <a:lnTo>
                    <a:pt x="248" y="305"/>
                  </a:lnTo>
                  <a:lnTo>
                    <a:pt x="248" y="309"/>
                  </a:lnTo>
                  <a:lnTo>
                    <a:pt x="249" y="310"/>
                  </a:lnTo>
                  <a:lnTo>
                    <a:pt x="251" y="314"/>
                  </a:lnTo>
                  <a:lnTo>
                    <a:pt x="253" y="316"/>
                  </a:lnTo>
                  <a:lnTo>
                    <a:pt x="255" y="319"/>
                  </a:lnTo>
                  <a:lnTo>
                    <a:pt x="257" y="322"/>
                  </a:lnTo>
                  <a:lnTo>
                    <a:pt x="258" y="326"/>
                  </a:lnTo>
                  <a:lnTo>
                    <a:pt x="260" y="328"/>
                  </a:lnTo>
                  <a:lnTo>
                    <a:pt x="261" y="331"/>
                  </a:lnTo>
                  <a:lnTo>
                    <a:pt x="263" y="334"/>
                  </a:lnTo>
                  <a:lnTo>
                    <a:pt x="265" y="337"/>
                  </a:lnTo>
                  <a:lnTo>
                    <a:pt x="267" y="339"/>
                  </a:lnTo>
                  <a:lnTo>
                    <a:pt x="268" y="342"/>
                  </a:lnTo>
                  <a:lnTo>
                    <a:pt x="270" y="344"/>
                  </a:lnTo>
                  <a:lnTo>
                    <a:pt x="271" y="346"/>
                  </a:lnTo>
                  <a:lnTo>
                    <a:pt x="273" y="346"/>
                  </a:lnTo>
                  <a:lnTo>
                    <a:pt x="275" y="350"/>
                  </a:lnTo>
                  <a:lnTo>
                    <a:pt x="276" y="354"/>
                  </a:lnTo>
                  <a:lnTo>
                    <a:pt x="277" y="357"/>
                  </a:lnTo>
                  <a:lnTo>
                    <a:pt x="279" y="359"/>
                  </a:lnTo>
                  <a:lnTo>
                    <a:pt x="279" y="362"/>
                  </a:lnTo>
                  <a:lnTo>
                    <a:pt x="279" y="364"/>
                  </a:lnTo>
                  <a:lnTo>
                    <a:pt x="279" y="366"/>
                  </a:lnTo>
                  <a:lnTo>
                    <a:pt x="279" y="367"/>
                  </a:lnTo>
                  <a:lnTo>
                    <a:pt x="278" y="368"/>
                  </a:lnTo>
                  <a:lnTo>
                    <a:pt x="278" y="370"/>
                  </a:lnTo>
                  <a:lnTo>
                    <a:pt x="278" y="372"/>
                  </a:lnTo>
                  <a:lnTo>
                    <a:pt x="278" y="372"/>
                  </a:lnTo>
                  <a:lnTo>
                    <a:pt x="278" y="374"/>
                  </a:lnTo>
                  <a:lnTo>
                    <a:pt x="278" y="374"/>
                  </a:lnTo>
                  <a:lnTo>
                    <a:pt x="278" y="375"/>
                  </a:lnTo>
                  <a:lnTo>
                    <a:pt x="280" y="375"/>
                  </a:lnTo>
                  <a:lnTo>
                    <a:pt x="279" y="378"/>
                  </a:lnTo>
                  <a:lnTo>
                    <a:pt x="279" y="380"/>
                  </a:lnTo>
                  <a:lnTo>
                    <a:pt x="279" y="383"/>
                  </a:lnTo>
                  <a:lnTo>
                    <a:pt x="279" y="385"/>
                  </a:lnTo>
                  <a:lnTo>
                    <a:pt x="279" y="388"/>
                  </a:lnTo>
                  <a:lnTo>
                    <a:pt x="279" y="392"/>
                  </a:lnTo>
                  <a:lnTo>
                    <a:pt x="279" y="396"/>
                  </a:lnTo>
                  <a:lnTo>
                    <a:pt x="279" y="397"/>
                  </a:lnTo>
                  <a:lnTo>
                    <a:pt x="277" y="401"/>
                  </a:lnTo>
                  <a:lnTo>
                    <a:pt x="277" y="404"/>
                  </a:lnTo>
                  <a:lnTo>
                    <a:pt x="275" y="408"/>
                  </a:lnTo>
                  <a:lnTo>
                    <a:pt x="275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0" y="417"/>
                  </a:lnTo>
                  <a:lnTo>
                    <a:pt x="268" y="417"/>
                  </a:lnTo>
                  <a:lnTo>
                    <a:pt x="265" y="419"/>
                  </a:lnTo>
                  <a:lnTo>
                    <a:pt x="261" y="420"/>
                  </a:lnTo>
                  <a:lnTo>
                    <a:pt x="258" y="422"/>
                  </a:lnTo>
                  <a:lnTo>
                    <a:pt x="256" y="423"/>
                  </a:lnTo>
                  <a:lnTo>
                    <a:pt x="252" y="426"/>
                  </a:lnTo>
                  <a:lnTo>
                    <a:pt x="248" y="428"/>
                  </a:lnTo>
                  <a:lnTo>
                    <a:pt x="245" y="430"/>
                  </a:lnTo>
                  <a:lnTo>
                    <a:pt x="241" y="432"/>
                  </a:lnTo>
                  <a:lnTo>
                    <a:pt x="237" y="435"/>
                  </a:lnTo>
                  <a:lnTo>
                    <a:pt x="233" y="437"/>
                  </a:lnTo>
                  <a:lnTo>
                    <a:pt x="229" y="438"/>
                  </a:lnTo>
                  <a:lnTo>
                    <a:pt x="226" y="440"/>
                  </a:lnTo>
                  <a:lnTo>
                    <a:pt x="222" y="442"/>
                  </a:lnTo>
                  <a:lnTo>
                    <a:pt x="218" y="443"/>
                  </a:lnTo>
                  <a:lnTo>
                    <a:pt x="215" y="444"/>
                  </a:lnTo>
                  <a:lnTo>
                    <a:pt x="213" y="444"/>
                  </a:lnTo>
                  <a:lnTo>
                    <a:pt x="208" y="445"/>
                  </a:lnTo>
                  <a:lnTo>
                    <a:pt x="203" y="445"/>
                  </a:lnTo>
                  <a:lnTo>
                    <a:pt x="198" y="445"/>
                  </a:lnTo>
                  <a:lnTo>
                    <a:pt x="192" y="445"/>
                  </a:lnTo>
                  <a:lnTo>
                    <a:pt x="185" y="446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4" y="446"/>
                  </a:lnTo>
                  <a:lnTo>
                    <a:pt x="155" y="448"/>
                  </a:lnTo>
                  <a:lnTo>
                    <a:pt x="147" y="448"/>
                  </a:lnTo>
                  <a:lnTo>
                    <a:pt x="140" y="448"/>
                  </a:lnTo>
                  <a:lnTo>
                    <a:pt x="132" y="448"/>
                  </a:lnTo>
                  <a:lnTo>
                    <a:pt x="125" y="450"/>
                  </a:lnTo>
                  <a:lnTo>
                    <a:pt x="117" y="450"/>
                  </a:lnTo>
                  <a:lnTo>
                    <a:pt x="110" y="452"/>
                  </a:lnTo>
                  <a:lnTo>
                    <a:pt x="105" y="452"/>
                  </a:lnTo>
                  <a:lnTo>
                    <a:pt x="101" y="454"/>
                  </a:lnTo>
                  <a:lnTo>
                    <a:pt x="97" y="455"/>
                  </a:lnTo>
                  <a:lnTo>
                    <a:pt x="93" y="457"/>
                  </a:lnTo>
                  <a:lnTo>
                    <a:pt x="89" y="458"/>
                  </a:lnTo>
                  <a:lnTo>
                    <a:pt x="83" y="460"/>
                  </a:lnTo>
                  <a:lnTo>
                    <a:pt x="80" y="462"/>
                  </a:lnTo>
                  <a:lnTo>
                    <a:pt x="75" y="464"/>
                  </a:lnTo>
                  <a:lnTo>
                    <a:pt x="71" y="466"/>
                  </a:lnTo>
                  <a:lnTo>
                    <a:pt x="65" y="470"/>
                  </a:lnTo>
                  <a:lnTo>
                    <a:pt x="62" y="472"/>
                  </a:lnTo>
                  <a:lnTo>
                    <a:pt x="58" y="474"/>
                  </a:lnTo>
                  <a:lnTo>
                    <a:pt x="54" y="476"/>
                  </a:lnTo>
                  <a:lnTo>
                    <a:pt x="51" y="478"/>
                  </a:lnTo>
                  <a:lnTo>
                    <a:pt x="47" y="480"/>
                  </a:lnTo>
                  <a:lnTo>
                    <a:pt x="45" y="482"/>
                  </a:lnTo>
                  <a:lnTo>
                    <a:pt x="44" y="483"/>
                  </a:lnTo>
                  <a:lnTo>
                    <a:pt x="40" y="486"/>
                  </a:lnTo>
                  <a:lnTo>
                    <a:pt x="38" y="490"/>
                  </a:lnTo>
                  <a:lnTo>
                    <a:pt x="36" y="495"/>
                  </a:lnTo>
                  <a:lnTo>
                    <a:pt x="34" y="500"/>
                  </a:lnTo>
                  <a:lnTo>
                    <a:pt x="31" y="506"/>
                  </a:lnTo>
                  <a:lnTo>
                    <a:pt x="29" y="513"/>
                  </a:lnTo>
                  <a:lnTo>
                    <a:pt x="27" y="520"/>
                  </a:lnTo>
                  <a:lnTo>
                    <a:pt x="25" y="526"/>
                  </a:lnTo>
                  <a:lnTo>
                    <a:pt x="24" y="533"/>
                  </a:lnTo>
                  <a:lnTo>
                    <a:pt x="22" y="541"/>
                  </a:lnTo>
                  <a:lnTo>
                    <a:pt x="20" y="548"/>
                  </a:lnTo>
                  <a:lnTo>
                    <a:pt x="19" y="553"/>
                  </a:lnTo>
                  <a:lnTo>
                    <a:pt x="17" y="560"/>
                  </a:lnTo>
                  <a:lnTo>
                    <a:pt x="16" y="564"/>
                  </a:lnTo>
                  <a:lnTo>
                    <a:pt x="15" y="569"/>
                  </a:lnTo>
                  <a:lnTo>
                    <a:pt x="15" y="572"/>
                  </a:lnTo>
                  <a:lnTo>
                    <a:pt x="13" y="580"/>
                  </a:lnTo>
                  <a:lnTo>
                    <a:pt x="11" y="590"/>
                  </a:lnTo>
                  <a:lnTo>
                    <a:pt x="9" y="601"/>
                  </a:lnTo>
                  <a:lnTo>
                    <a:pt x="9" y="612"/>
                  </a:lnTo>
                  <a:lnTo>
                    <a:pt x="7" y="627"/>
                  </a:lnTo>
                  <a:lnTo>
                    <a:pt x="7" y="640"/>
                  </a:lnTo>
                  <a:lnTo>
                    <a:pt x="5" y="655"/>
                  </a:lnTo>
                  <a:lnTo>
                    <a:pt x="5" y="669"/>
                  </a:lnTo>
                  <a:lnTo>
                    <a:pt x="4" y="684"/>
                  </a:lnTo>
                  <a:lnTo>
                    <a:pt x="4" y="699"/>
                  </a:lnTo>
                  <a:lnTo>
                    <a:pt x="3" y="713"/>
                  </a:lnTo>
                  <a:lnTo>
                    <a:pt x="3" y="726"/>
                  </a:lnTo>
                  <a:lnTo>
                    <a:pt x="2" y="739"/>
                  </a:lnTo>
                  <a:lnTo>
                    <a:pt x="2" y="749"/>
                  </a:lnTo>
                  <a:lnTo>
                    <a:pt x="2" y="758"/>
                  </a:lnTo>
                  <a:lnTo>
                    <a:pt x="2" y="766"/>
                  </a:lnTo>
                  <a:lnTo>
                    <a:pt x="0" y="777"/>
                  </a:lnTo>
                  <a:lnTo>
                    <a:pt x="0" y="787"/>
                  </a:lnTo>
                  <a:lnTo>
                    <a:pt x="0" y="797"/>
                  </a:lnTo>
                  <a:lnTo>
                    <a:pt x="0" y="807"/>
                  </a:lnTo>
                  <a:lnTo>
                    <a:pt x="0" y="817"/>
                  </a:lnTo>
                  <a:lnTo>
                    <a:pt x="0" y="826"/>
                  </a:lnTo>
                  <a:lnTo>
                    <a:pt x="0" y="835"/>
                  </a:lnTo>
                  <a:lnTo>
                    <a:pt x="0" y="845"/>
                  </a:lnTo>
                  <a:lnTo>
                    <a:pt x="0" y="855"/>
                  </a:lnTo>
                  <a:lnTo>
                    <a:pt x="0" y="865"/>
                  </a:lnTo>
                  <a:lnTo>
                    <a:pt x="0" y="874"/>
                  </a:lnTo>
                  <a:lnTo>
                    <a:pt x="0" y="883"/>
                  </a:lnTo>
                  <a:lnTo>
                    <a:pt x="0" y="895"/>
                  </a:lnTo>
                  <a:lnTo>
                    <a:pt x="0" y="904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4" y="925"/>
                  </a:lnTo>
                  <a:lnTo>
                    <a:pt x="17" y="927"/>
                  </a:lnTo>
                  <a:lnTo>
                    <a:pt x="37" y="929"/>
                  </a:lnTo>
                  <a:lnTo>
                    <a:pt x="65" y="930"/>
                  </a:lnTo>
                  <a:lnTo>
                    <a:pt x="100" y="932"/>
                  </a:lnTo>
                  <a:lnTo>
                    <a:pt x="141" y="933"/>
                  </a:lnTo>
                  <a:lnTo>
                    <a:pt x="187" y="934"/>
                  </a:lnTo>
                  <a:lnTo>
                    <a:pt x="239" y="934"/>
                  </a:lnTo>
                  <a:lnTo>
                    <a:pt x="294" y="936"/>
                  </a:lnTo>
                  <a:lnTo>
                    <a:pt x="354" y="936"/>
                  </a:lnTo>
                  <a:lnTo>
                    <a:pt x="415" y="937"/>
                  </a:lnTo>
                  <a:lnTo>
                    <a:pt x="482" y="937"/>
                  </a:lnTo>
                  <a:lnTo>
                    <a:pt x="548" y="937"/>
                  </a:lnTo>
                  <a:lnTo>
                    <a:pt x="617" y="937"/>
                  </a:lnTo>
                  <a:lnTo>
                    <a:pt x="686" y="936"/>
                  </a:lnTo>
                  <a:lnTo>
                    <a:pt x="756" y="934"/>
                  </a:lnTo>
                  <a:lnTo>
                    <a:pt x="756" y="934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22480" y="5851440"/>
              <a:ext cx="1327320" cy="1551240"/>
            </a:xfrm>
            <a:custGeom>
              <a:avLst/>
              <a:gdLst/>
              <a:ahLst/>
              <a:rect l="l" t="t" r="r" b="b"/>
              <a:pathLst>
                <a:path w="836" h="977">
                  <a:moveTo>
                    <a:pt x="78" y="976"/>
                  </a:moveTo>
                  <a:lnTo>
                    <a:pt x="2" y="958"/>
                  </a:lnTo>
                  <a:lnTo>
                    <a:pt x="0" y="614"/>
                  </a:lnTo>
                  <a:lnTo>
                    <a:pt x="60" y="542"/>
                  </a:lnTo>
                  <a:lnTo>
                    <a:pt x="161" y="509"/>
                  </a:lnTo>
                  <a:lnTo>
                    <a:pt x="216" y="482"/>
                  </a:lnTo>
                  <a:lnTo>
                    <a:pt x="279" y="457"/>
                  </a:lnTo>
                  <a:lnTo>
                    <a:pt x="304" y="424"/>
                  </a:lnTo>
                  <a:lnTo>
                    <a:pt x="308" y="406"/>
                  </a:lnTo>
                  <a:lnTo>
                    <a:pt x="299" y="382"/>
                  </a:lnTo>
                  <a:lnTo>
                    <a:pt x="253" y="374"/>
                  </a:lnTo>
                  <a:lnTo>
                    <a:pt x="219" y="286"/>
                  </a:lnTo>
                  <a:lnTo>
                    <a:pt x="240" y="165"/>
                  </a:lnTo>
                  <a:lnTo>
                    <a:pt x="255" y="78"/>
                  </a:lnTo>
                  <a:lnTo>
                    <a:pt x="316" y="19"/>
                  </a:lnTo>
                  <a:lnTo>
                    <a:pt x="355" y="0"/>
                  </a:lnTo>
                  <a:lnTo>
                    <a:pt x="391" y="4"/>
                  </a:lnTo>
                  <a:lnTo>
                    <a:pt x="425" y="9"/>
                  </a:lnTo>
                  <a:lnTo>
                    <a:pt x="441" y="0"/>
                  </a:lnTo>
                  <a:lnTo>
                    <a:pt x="517" y="37"/>
                  </a:lnTo>
                  <a:lnTo>
                    <a:pt x="577" y="146"/>
                  </a:lnTo>
                  <a:lnTo>
                    <a:pt x="616" y="243"/>
                  </a:lnTo>
                  <a:lnTo>
                    <a:pt x="616" y="326"/>
                  </a:lnTo>
                  <a:lnTo>
                    <a:pt x="577" y="384"/>
                  </a:lnTo>
                  <a:lnTo>
                    <a:pt x="533" y="407"/>
                  </a:lnTo>
                  <a:lnTo>
                    <a:pt x="549" y="432"/>
                  </a:lnTo>
                  <a:lnTo>
                    <a:pt x="623" y="474"/>
                  </a:lnTo>
                  <a:lnTo>
                    <a:pt x="720" y="482"/>
                  </a:lnTo>
                  <a:lnTo>
                    <a:pt x="770" y="504"/>
                  </a:lnTo>
                  <a:lnTo>
                    <a:pt x="814" y="527"/>
                  </a:lnTo>
                  <a:lnTo>
                    <a:pt x="829" y="583"/>
                  </a:lnTo>
                  <a:lnTo>
                    <a:pt x="835" y="629"/>
                  </a:lnTo>
                  <a:lnTo>
                    <a:pt x="777" y="976"/>
                  </a:lnTo>
                  <a:lnTo>
                    <a:pt x="78" y="976"/>
                  </a:lnTo>
                  <a:lnTo>
                    <a:pt x="78" y="976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84720" y="5648400"/>
              <a:ext cx="1422360" cy="1430280"/>
            </a:xfrm>
            <a:custGeom>
              <a:avLst/>
              <a:gdLst/>
              <a:ahLst/>
              <a:rect l="l" t="t" r="r" b="b"/>
              <a:pathLst>
                <a:path w="896" h="901">
                  <a:moveTo>
                    <a:pt x="0" y="883"/>
                  </a:moveTo>
                  <a:lnTo>
                    <a:pt x="39" y="597"/>
                  </a:lnTo>
                  <a:lnTo>
                    <a:pt x="64" y="554"/>
                  </a:lnTo>
                  <a:lnTo>
                    <a:pt x="97" y="497"/>
                  </a:lnTo>
                  <a:lnTo>
                    <a:pt x="142" y="488"/>
                  </a:lnTo>
                  <a:lnTo>
                    <a:pt x="224" y="477"/>
                  </a:lnTo>
                  <a:lnTo>
                    <a:pt x="267" y="460"/>
                  </a:lnTo>
                  <a:lnTo>
                    <a:pt x="300" y="442"/>
                  </a:lnTo>
                  <a:lnTo>
                    <a:pt x="312" y="393"/>
                  </a:lnTo>
                  <a:lnTo>
                    <a:pt x="273" y="322"/>
                  </a:lnTo>
                  <a:lnTo>
                    <a:pt x="244" y="316"/>
                  </a:lnTo>
                  <a:lnTo>
                    <a:pt x="222" y="242"/>
                  </a:lnTo>
                  <a:lnTo>
                    <a:pt x="236" y="223"/>
                  </a:lnTo>
                  <a:lnTo>
                    <a:pt x="229" y="150"/>
                  </a:lnTo>
                  <a:lnTo>
                    <a:pt x="231" y="80"/>
                  </a:lnTo>
                  <a:lnTo>
                    <a:pt x="261" y="54"/>
                  </a:lnTo>
                  <a:lnTo>
                    <a:pt x="320" y="8"/>
                  </a:lnTo>
                  <a:lnTo>
                    <a:pt x="367" y="0"/>
                  </a:lnTo>
                  <a:lnTo>
                    <a:pt x="432" y="0"/>
                  </a:lnTo>
                  <a:lnTo>
                    <a:pt x="479" y="18"/>
                  </a:lnTo>
                  <a:lnTo>
                    <a:pt x="518" y="54"/>
                  </a:lnTo>
                  <a:lnTo>
                    <a:pt x="546" y="112"/>
                  </a:lnTo>
                  <a:lnTo>
                    <a:pt x="553" y="161"/>
                  </a:lnTo>
                  <a:lnTo>
                    <a:pt x="553" y="202"/>
                  </a:lnTo>
                  <a:lnTo>
                    <a:pt x="579" y="211"/>
                  </a:lnTo>
                  <a:lnTo>
                    <a:pt x="569" y="281"/>
                  </a:lnTo>
                  <a:lnTo>
                    <a:pt x="534" y="293"/>
                  </a:lnTo>
                  <a:lnTo>
                    <a:pt x="525" y="334"/>
                  </a:lnTo>
                  <a:lnTo>
                    <a:pt x="515" y="382"/>
                  </a:lnTo>
                  <a:lnTo>
                    <a:pt x="523" y="419"/>
                  </a:lnTo>
                  <a:lnTo>
                    <a:pt x="567" y="442"/>
                  </a:lnTo>
                  <a:lnTo>
                    <a:pt x="624" y="457"/>
                  </a:lnTo>
                  <a:lnTo>
                    <a:pt x="709" y="469"/>
                  </a:lnTo>
                  <a:lnTo>
                    <a:pt x="769" y="474"/>
                  </a:lnTo>
                  <a:lnTo>
                    <a:pt x="798" y="510"/>
                  </a:lnTo>
                  <a:lnTo>
                    <a:pt x="824" y="545"/>
                  </a:lnTo>
                  <a:lnTo>
                    <a:pt x="895" y="900"/>
                  </a:lnTo>
                  <a:lnTo>
                    <a:pt x="0" y="883"/>
                  </a:lnTo>
                  <a:lnTo>
                    <a:pt x="0" y="883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49880" y="5838840"/>
              <a:ext cx="1252800" cy="1511280"/>
            </a:xfrm>
            <a:custGeom>
              <a:avLst/>
              <a:gdLst/>
              <a:ahLst/>
              <a:rect l="l" t="t" r="r" b="b"/>
              <a:pathLst>
                <a:path w="789" h="952">
                  <a:moveTo>
                    <a:pt x="0" y="855"/>
                  </a:moveTo>
                  <a:lnTo>
                    <a:pt x="22" y="606"/>
                  </a:lnTo>
                  <a:lnTo>
                    <a:pt x="53" y="517"/>
                  </a:lnTo>
                  <a:lnTo>
                    <a:pt x="136" y="482"/>
                  </a:lnTo>
                  <a:lnTo>
                    <a:pt x="214" y="475"/>
                  </a:lnTo>
                  <a:lnTo>
                    <a:pt x="283" y="455"/>
                  </a:lnTo>
                  <a:lnTo>
                    <a:pt x="310" y="417"/>
                  </a:lnTo>
                  <a:lnTo>
                    <a:pt x="315" y="360"/>
                  </a:lnTo>
                  <a:lnTo>
                    <a:pt x="288" y="329"/>
                  </a:lnTo>
                  <a:lnTo>
                    <a:pt x="288" y="310"/>
                  </a:lnTo>
                  <a:lnTo>
                    <a:pt x="263" y="288"/>
                  </a:lnTo>
                  <a:lnTo>
                    <a:pt x="244" y="235"/>
                  </a:lnTo>
                  <a:lnTo>
                    <a:pt x="246" y="228"/>
                  </a:lnTo>
                  <a:lnTo>
                    <a:pt x="228" y="190"/>
                  </a:lnTo>
                  <a:lnTo>
                    <a:pt x="246" y="111"/>
                  </a:lnTo>
                  <a:lnTo>
                    <a:pt x="292" y="74"/>
                  </a:lnTo>
                  <a:lnTo>
                    <a:pt x="340" y="22"/>
                  </a:lnTo>
                  <a:lnTo>
                    <a:pt x="441" y="0"/>
                  </a:lnTo>
                  <a:lnTo>
                    <a:pt x="514" y="39"/>
                  </a:lnTo>
                  <a:lnTo>
                    <a:pt x="545" y="70"/>
                  </a:lnTo>
                  <a:lnTo>
                    <a:pt x="586" y="86"/>
                  </a:lnTo>
                  <a:lnTo>
                    <a:pt x="586" y="120"/>
                  </a:lnTo>
                  <a:lnTo>
                    <a:pt x="590" y="140"/>
                  </a:lnTo>
                  <a:lnTo>
                    <a:pt x="622" y="180"/>
                  </a:lnTo>
                  <a:lnTo>
                    <a:pt x="600" y="231"/>
                  </a:lnTo>
                  <a:lnTo>
                    <a:pt x="602" y="270"/>
                  </a:lnTo>
                  <a:lnTo>
                    <a:pt x="579" y="310"/>
                  </a:lnTo>
                  <a:lnTo>
                    <a:pt x="559" y="322"/>
                  </a:lnTo>
                  <a:lnTo>
                    <a:pt x="559" y="340"/>
                  </a:lnTo>
                  <a:lnTo>
                    <a:pt x="536" y="382"/>
                  </a:lnTo>
                  <a:lnTo>
                    <a:pt x="519" y="417"/>
                  </a:lnTo>
                  <a:lnTo>
                    <a:pt x="568" y="455"/>
                  </a:lnTo>
                  <a:lnTo>
                    <a:pt x="650" y="494"/>
                  </a:lnTo>
                  <a:lnTo>
                    <a:pt x="737" y="530"/>
                  </a:lnTo>
                  <a:lnTo>
                    <a:pt x="776" y="579"/>
                  </a:lnTo>
                  <a:lnTo>
                    <a:pt x="788" y="641"/>
                  </a:lnTo>
                  <a:lnTo>
                    <a:pt x="788" y="729"/>
                  </a:lnTo>
                  <a:lnTo>
                    <a:pt x="786" y="951"/>
                  </a:lnTo>
                  <a:lnTo>
                    <a:pt x="0" y="855"/>
                  </a:lnTo>
                  <a:lnTo>
                    <a:pt x="0" y="855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03880" y="6026040"/>
              <a:ext cx="1315800" cy="1600200"/>
            </a:xfrm>
            <a:custGeom>
              <a:avLst/>
              <a:gdLst/>
              <a:ahLst/>
              <a:rect l="l" t="t" r="r" b="b"/>
              <a:pathLst>
                <a:path w="829" h="1008">
                  <a:moveTo>
                    <a:pt x="16" y="996"/>
                  </a:moveTo>
                  <a:lnTo>
                    <a:pt x="11" y="994"/>
                  </a:lnTo>
                  <a:lnTo>
                    <a:pt x="7" y="984"/>
                  </a:lnTo>
                  <a:lnTo>
                    <a:pt x="4" y="971"/>
                  </a:lnTo>
                  <a:lnTo>
                    <a:pt x="3" y="952"/>
                  </a:lnTo>
                  <a:lnTo>
                    <a:pt x="1" y="932"/>
                  </a:lnTo>
                  <a:lnTo>
                    <a:pt x="0" y="908"/>
                  </a:lnTo>
                  <a:lnTo>
                    <a:pt x="0" y="882"/>
                  </a:lnTo>
                  <a:lnTo>
                    <a:pt x="0" y="854"/>
                  </a:lnTo>
                  <a:lnTo>
                    <a:pt x="0" y="828"/>
                  </a:lnTo>
                  <a:lnTo>
                    <a:pt x="0" y="802"/>
                  </a:lnTo>
                  <a:lnTo>
                    <a:pt x="0" y="776"/>
                  </a:lnTo>
                  <a:lnTo>
                    <a:pt x="2" y="752"/>
                  </a:lnTo>
                  <a:lnTo>
                    <a:pt x="2" y="732"/>
                  </a:lnTo>
                  <a:lnTo>
                    <a:pt x="4" y="714"/>
                  </a:lnTo>
                  <a:lnTo>
                    <a:pt x="5" y="701"/>
                  </a:lnTo>
                  <a:lnTo>
                    <a:pt x="7" y="692"/>
                  </a:lnTo>
                  <a:lnTo>
                    <a:pt x="7" y="688"/>
                  </a:lnTo>
                  <a:lnTo>
                    <a:pt x="8" y="685"/>
                  </a:lnTo>
                  <a:lnTo>
                    <a:pt x="8" y="681"/>
                  </a:lnTo>
                  <a:lnTo>
                    <a:pt x="10" y="676"/>
                  </a:lnTo>
                  <a:lnTo>
                    <a:pt x="10" y="670"/>
                  </a:lnTo>
                  <a:lnTo>
                    <a:pt x="12" y="665"/>
                  </a:lnTo>
                  <a:lnTo>
                    <a:pt x="14" y="659"/>
                  </a:lnTo>
                  <a:lnTo>
                    <a:pt x="16" y="654"/>
                  </a:lnTo>
                  <a:lnTo>
                    <a:pt x="16" y="650"/>
                  </a:lnTo>
                  <a:lnTo>
                    <a:pt x="18" y="644"/>
                  </a:lnTo>
                  <a:lnTo>
                    <a:pt x="20" y="639"/>
                  </a:lnTo>
                  <a:lnTo>
                    <a:pt x="22" y="634"/>
                  </a:lnTo>
                  <a:lnTo>
                    <a:pt x="24" y="630"/>
                  </a:lnTo>
                  <a:lnTo>
                    <a:pt x="26" y="625"/>
                  </a:lnTo>
                  <a:lnTo>
                    <a:pt x="28" y="621"/>
                  </a:lnTo>
                  <a:lnTo>
                    <a:pt x="30" y="618"/>
                  </a:lnTo>
                  <a:lnTo>
                    <a:pt x="34" y="614"/>
                  </a:lnTo>
                  <a:lnTo>
                    <a:pt x="43" y="608"/>
                  </a:lnTo>
                  <a:lnTo>
                    <a:pt x="54" y="601"/>
                  </a:lnTo>
                  <a:lnTo>
                    <a:pt x="69" y="594"/>
                  </a:lnTo>
                  <a:lnTo>
                    <a:pt x="84" y="586"/>
                  </a:lnTo>
                  <a:lnTo>
                    <a:pt x="100" y="578"/>
                  </a:lnTo>
                  <a:lnTo>
                    <a:pt x="119" y="570"/>
                  </a:lnTo>
                  <a:lnTo>
                    <a:pt x="137" y="561"/>
                  </a:lnTo>
                  <a:lnTo>
                    <a:pt x="154" y="553"/>
                  </a:lnTo>
                  <a:lnTo>
                    <a:pt x="172" y="544"/>
                  </a:lnTo>
                  <a:lnTo>
                    <a:pt x="189" y="537"/>
                  </a:lnTo>
                  <a:lnTo>
                    <a:pt x="206" y="528"/>
                  </a:lnTo>
                  <a:lnTo>
                    <a:pt x="219" y="522"/>
                  </a:lnTo>
                  <a:lnTo>
                    <a:pt x="231" y="515"/>
                  </a:lnTo>
                  <a:lnTo>
                    <a:pt x="240" y="510"/>
                  </a:lnTo>
                  <a:lnTo>
                    <a:pt x="245" y="504"/>
                  </a:lnTo>
                  <a:lnTo>
                    <a:pt x="245" y="503"/>
                  </a:lnTo>
                  <a:lnTo>
                    <a:pt x="243" y="500"/>
                  </a:lnTo>
                  <a:lnTo>
                    <a:pt x="238" y="496"/>
                  </a:lnTo>
                  <a:lnTo>
                    <a:pt x="232" y="492"/>
                  </a:lnTo>
                  <a:lnTo>
                    <a:pt x="224" y="488"/>
                  </a:lnTo>
                  <a:lnTo>
                    <a:pt x="214" y="482"/>
                  </a:lnTo>
                  <a:lnTo>
                    <a:pt x="204" y="476"/>
                  </a:lnTo>
                  <a:lnTo>
                    <a:pt x="194" y="471"/>
                  </a:lnTo>
                  <a:lnTo>
                    <a:pt x="183" y="465"/>
                  </a:lnTo>
                  <a:lnTo>
                    <a:pt x="172" y="460"/>
                  </a:lnTo>
                  <a:lnTo>
                    <a:pt x="162" y="454"/>
                  </a:lnTo>
                  <a:lnTo>
                    <a:pt x="154" y="448"/>
                  </a:lnTo>
                  <a:lnTo>
                    <a:pt x="146" y="445"/>
                  </a:lnTo>
                  <a:lnTo>
                    <a:pt x="140" y="440"/>
                  </a:lnTo>
                  <a:lnTo>
                    <a:pt x="136" y="436"/>
                  </a:lnTo>
                  <a:lnTo>
                    <a:pt x="136" y="432"/>
                  </a:lnTo>
                  <a:lnTo>
                    <a:pt x="136" y="430"/>
                  </a:lnTo>
                  <a:lnTo>
                    <a:pt x="136" y="428"/>
                  </a:lnTo>
                  <a:lnTo>
                    <a:pt x="137" y="428"/>
                  </a:lnTo>
                  <a:lnTo>
                    <a:pt x="139" y="426"/>
                  </a:lnTo>
                  <a:lnTo>
                    <a:pt x="140" y="426"/>
                  </a:lnTo>
                  <a:lnTo>
                    <a:pt x="142" y="425"/>
                  </a:lnTo>
                  <a:lnTo>
                    <a:pt x="144" y="425"/>
                  </a:lnTo>
                  <a:lnTo>
                    <a:pt x="146" y="425"/>
                  </a:lnTo>
                  <a:lnTo>
                    <a:pt x="147" y="425"/>
                  </a:lnTo>
                  <a:lnTo>
                    <a:pt x="149" y="425"/>
                  </a:lnTo>
                  <a:lnTo>
                    <a:pt x="151" y="425"/>
                  </a:lnTo>
                  <a:lnTo>
                    <a:pt x="153" y="424"/>
                  </a:lnTo>
                  <a:lnTo>
                    <a:pt x="154" y="424"/>
                  </a:lnTo>
                  <a:lnTo>
                    <a:pt x="156" y="422"/>
                  </a:lnTo>
                  <a:lnTo>
                    <a:pt x="156" y="420"/>
                  </a:lnTo>
                  <a:lnTo>
                    <a:pt x="156" y="417"/>
                  </a:lnTo>
                  <a:lnTo>
                    <a:pt x="154" y="415"/>
                  </a:lnTo>
                  <a:lnTo>
                    <a:pt x="154" y="411"/>
                  </a:lnTo>
                  <a:lnTo>
                    <a:pt x="152" y="409"/>
                  </a:lnTo>
                  <a:lnTo>
                    <a:pt x="152" y="406"/>
                  </a:lnTo>
                  <a:lnTo>
                    <a:pt x="150" y="406"/>
                  </a:lnTo>
                  <a:lnTo>
                    <a:pt x="150" y="405"/>
                  </a:lnTo>
                  <a:lnTo>
                    <a:pt x="148" y="405"/>
                  </a:lnTo>
                  <a:lnTo>
                    <a:pt x="148" y="404"/>
                  </a:lnTo>
                  <a:lnTo>
                    <a:pt x="146" y="404"/>
                  </a:lnTo>
                  <a:lnTo>
                    <a:pt x="146" y="404"/>
                  </a:lnTo>
                  <a:lnTo>
                    <a:pt x="144" y="404"/>
                  </a:lnTo>
                  <a:lnTo>
                    <a:pt x="144" y="402"/>
                  </a:lnTo>
                  <a:lnTo>
                    <a:pt x="143" y="400"/>
                  </a:lnTo>
                  <a:lnTo>
                    <a:pt x="143" y="398"/>
                  </a:lnTo>
                  <a:lnTo>
                    <a:pt x="143" y="395"/>
                  </a:lnTo>
                  <a:lnTo>
                    <a:pt x="144" y="391"/>
                  </a:lnTo>
                  <a:lnTo>
                    <a:pt x="145" y="386"/>
                  </a:lnTo>
                  <a:lnTo>
                    <a:pt x="147" y="380"/>
                  </a:lnTo>
                  <a:lnTo>
                    <a:pt x="149" y="373"/>
                  </a:lnTo>
                  <a:lnTo>
                    <a:pt x="150" y="365"/>
                  </a:lnTo>
                  <a:lnTo>
                    <a:pt x="152" y="357"/>
                  </a:lnTo>
                  <a:lnTo>
                    <a:pt x="155" y="347"/>
                  </a:lnTo>
                  <a:lnTo>
                    <a:pt x="157" y="338"/>
                  </a:lnTo>
                  <a:lnTo>
                    <a:pt x="160" y="328"/>
                  </a:lnTo>
                  <a:lnTo>
                    <a:pt x="162" y="320"/>
                  </a:lnTo>
                  <a:lnTo>
                    <a:pt x="164" y="311"/>
                  </a:lnTo>
                  <a:lnTo>
                    <a:pt x="166" y="303"/>
                  </a:lnTo>
                  <a:lnTo>
                    <a:pt x="169" y="294"/>
                  </a:lnTo>
                  <a:lnTo>
                    <a:pt x="170" y="286"/>
                  </a:lnTo>
                  <a:lnTo>
                    <a:pt x="172" y="279"/>
                  </a:lnTo>
                  <a:lnTo>
                    <a:pt x="172" y="273"/>
                  </a:lnTo>
                  <a:lnTo>
                    <a:pt x="173" y="267"/>
                  </a:lnTo>
                  <a:lnTo>
                    <a:pt x="171" y="262"/>
                  </a:lnTo>
                  <a:lnTo>
                    <a:pt x="170" y="257"/>
                  </a:lnTo>
                  <a:lnTo>
                    <a:pt x="168" y="251"/>
                  </a:lnTo>
                  <a:lnTo>
                    <a:pt x="167" y="246"/>
                  </a:lnTo>
                  <a:lnTo>
                    <a:pt x="165" y="240"/>
                  </a:lnTo>
                  <a:lnTo>
                    <a:pt x="163" y="233"/>
                  </a:lnTo>
                  <a:lnTo>
                    <a:pt x="161" y="228"/>
                  </a:lnTo>
                  <a:lnTo>
                    <a:pt x="159" y="220"/>
                  </a:lnTo>
                  <a:lnTo>
                    <a:pt x="157" y="214"/>
                  </a:lnTo>
                  <a:lnTo>
                    <a:pt x="156" y="208"/>
                  </a:lnTo>
                  <a:lnTo>
                    <a:pt x="154" y="202"/>
                  </a:lnTo>
                  <a:lnTo>
                    <a:pt x="153" y="195"/>
                  </a:lnTo>
                  <a:lnTo>
                    <a:pt x="151" y="189"/>
                  </a:lnTo>
                  <a:lnTo>
                    <a:pt x="151" y="184"/>
                  </a:lnTo>
                  <a:lnTo>
                    <a:pt x="151" y="179"/>
                  </a:lnTo>
                  <a:lnTo>
                    <a:pt x="152" y="173"/>
                  </a:lnTo>
                  <a:lnTo>
                    <a:pt x="152" y="168"/>
                  </a:lnTo>
                  <a:lnTo>
                    <a:pt x="153" y="162"/>
                  </a:lnTo>
                  <a:lnTo>
                    <a:pt x="155" y="156"/>
                  </a:lnTo>
                  <a:lnTo>
                    <a:pt x="157" y="148"/>
                  </a:lnTo>
                  <a:lnTo>
                    <a:pt x="159" y="141"/>
                  </a:lnTo>
                  <a:lnTo>
                    <a:pt x="161" y="133"/>
                  </a:lnTo>
                  <a:lnTo>
                    <a:pt x="163" y="126"/>
                  </a:lnTo>
                  <a:lnTo>
                    <a:pt x="167" y="118"/>
                  </a:lnTo>
                  <a:lnTo>
                    <a:pt x="168" y="111"/>
                  </a:lnTo>
                  <a:lnTo>
                    <a:pt x="172" y="103"/>
                  </a:lnTo>
                  <a:lnTo>
                    <a:pt x="176" y="96"/>
                  </a:lnTo>
                  <a:lnTo>
                    <a:pt x="179" y="89"/>
                  </a:lnTo>
                  <a:lnTo>
                    <a:pt x="182" y="83"/>
                  </a:lnTo>
                  <a:lnTo>
                    <a:pt x="186" y="76"/>
                  </a:lnTo>
                  <a:lnTo>
                    <a:pt x="189" y="72"/>
                  </a:lnTo>
                  <a:lnTo>
                    <a:pt x="193" y="66"/>
                  </a:lnTo>
                  <a:lnTo>
                    <a:pt x="196" y="62"/>
                  </a:lnTo>
                  <a:lnTo>
                    <a:pt x="200" y="57"/>
                  </a:lnTo>
                  <a:lnTo>
                    <a:pt x="206" y="52"/>
                  </a:lnTo>
                  <a:lnTo>
                    <a:pt x="211" y="46"/>
                  </a:lnTo>
                  <a:lnTo>
                    <a:pt x="217" y="42"/>
                  </a:lnTo>
                  <a:lnTo>
                    <a:pt x="224" y="36"/>
                  </a:lnTo>
                  <a:lnTo>
                    <a:pt x="230" y="31"/>
                  </a:lnTo>
                  <a:lnTo>
                    <a:pt x="238" y="25"/>
                  </a:lnTo>
                  <a:lnTo>
                    <a:pt x="244" y="22"/>
                  </a:lnTo>
                  <a:lnTo>
                    <a:pt x="251" y="16"/>
                  </a:lnTo>
                  <a:lnTo>
                    <a:pt x="258" y="13"/>
                  </a:lnTo>
                  <a:lnTo>
                    <a:pt x="266" y="8"/>
                  </a:lnTo>
                  <a:lnTo>
                    <a:pt x="272" y="6"/>
                  </a:lnTo>
                  <a:lnTo>
                    <a:pt x="279" y="4"/>
                  </a:lnTo>
                  <a:lnTo>
                    <a:pt x="285" y="2"/>
                  </a:lnTo>
                  <a:lnTo>
                    <a:pt x="292" y="0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6" y="1"/>
                  </a:lnTo>
                  <a:lnTo>
                    <a:pt x="298" y="1"/>
                  </a:lnTo>
                  <a:lnTo>
                    <a:pt x="300" y="3"/>
                  </a:lnTo>
                  <a:lnTo>
                    <a:pt x="302" y="3"/>
                  </a:lnTo>
                  <a:lnTo>
                    <a:pt x="303" y="4"/>
                  </a:lnTo>
                  <a:lnTo>
                    <a:pt x="306" y="4"/>
                  </a:lnTo>
                  <a:lnTo>
                    <a:pt x="308" y="6"/>
                  </a:lnTo>
                  <a:lnTo>
                    <a:pt x="310" y="7"/>
                  </a:lnTo>
                  <a:lnTo>
                    <a:pt x="312" y="9"/>
                  </a:lnTo>
                  <a:lnTo>
                    <a:pt x="314" y="9"/>
                  </a:lnTo>
                  <a:lnTo>
                    <a:pt x="316" y="11"/>
                  </a:lnTo>
                  <a:lnTo>
                    <a:pt x="318" y="11"/>
                  </a:lnTo>
                  <a:lnTo>
                    <a:pt x="320" y="12"/>
                  </a:lnTo>
                  <a:lnTo>
                    <a:pt x="322" y="12"/>
                  </a:lnTo>
                  <a:lnTo>
                    <a:pt x="323" y="14"/>
                  </a:lnTo>
                  <a:lnTo>
                    <a:pt x="325" y="14"/>
                  </a:lnTo>
                  <a:lnTo>
                    <a:pt x="327" y="16"/>
                  </a:lnTo>
                  <a:lnTo>
                    <a:pt x="331" y="16"/>
                  </a:lnTo>
                  <a:lnTo>
                    <a:pt x="333" y="18"/>
                  </a:lnTo>
                  <a:lnTo>
                    <a:pt x="336" y="18"/>
                  </a:lnTo>
                  <a:lnTo>
                    <a:pt x="340" y="20"/>
                  </a:lnTo>
                  <a:lnTo>
                    <a:pt x="343" y="20"/>
                  </a:lnTo>
                  <a:lnTo>
                    <a:pt x="345" y="22"/>
                  </a:lnTo>
                  <a:lnTo>
                    <a:pt x="349" y="24"/>
                  </a:lnTo>
                  <a:lnTo>
                    <a:pt x="351" y="25"/>
                  </a:lnTo>
                  <a:lnTo>
                    <a:pt x="354" y="25"/>
                  </a:lnTo>
                  <a:lnTo>
                    <a:pt x="356" y="26"/>
                  </a:lnTo>
                  <a:lnTo>
                    <a:pt x="360" y="26"/>
                  </a:lnTo>
                  <a:lnTo>
                    <a:pt x="362" y="26"/>
                  </a:lnTo>
                  <a:lnTo>
                    <a:pt x="365" y="26"/>
                  </a:lnTo>
                  <a:lnTo>
                    <a:pt x="365" y="26"/>
                  </a:lnTo>
                  <a:lnTo>
                    <a:pt x="367" y="26"/>
                  </a:lnTo>
                  <a:lnTo>
                    <a:pt x="369" y="26"/>
                  </a:lnTo>
                  <a:lnTo>
                    <a:pt x="371" y="26"/>
                  </a:lnTo>
                  <a:lnTo>
                    <a:pt x="373" y="26"/>
                  </a:lnTo>
                  <a:lnTo>
                    <a:pt x="374" y="25"/>
                  </a:lnTo>
                  <a:lnTo>
                    <a:pt x="376" y="25"/>
                  </a:lnTo>
                  <a:lnTo>
                    <a:pt x="380" y="23"/>
                  </a:lnTo>
                  <a:lnTo>
                    <a:pt x="381" y="23"/>
                  </a:lnTo>
                  <a:lnTo>
                    <a:pt x="383" y="22"/>
                  </a:lnTo>
                  <a:lnTo>
                    <a:pt x="385" y="22"/>
                  </a:lnTo>
                  <a:lnTo>
                    <a:pt x="388" y="20"/>
                  </a:lnTo>
                  <a:lnTo>
                    <a:pt x="390" y="20"/>
                  </a:lnTo>
                  <a:lnTo>
                    <a:pt x="392" y="20"/>
                  </a:lnTo>
                  <a:lnTo>
                    <a:pt x="394" y="20"/>
                  </a:lnTo>
                  <a:lnTo>
                    <a:pt x="396" y="18"/>
                  </a:lnTo>
                  <a:lnTo>
                    <a:pt x="401" y="22"/>
                  </a:lnTo>
                  <a:lnTo>
                    <a:pt x="406" y="24"/>
                  </a:lnTo>
                  <a:lnTo>
                    <a:pt x="412" y="28"/>
                  </a:lnTo>
                  <a:lnTo>
                    <a:pt x="420" y="32"/>
                  </a:lnTo>
                  <a:lnTo>
                    <a:pt x="425" y="37"/>
                  </a:lnTo>
                  <a:lnTo>
                    <a:pt x="432" y="42"/>
                  </a:lnTo>
                  <a:lnTo>
                    <a:pt x="440" y="47"/>
                  </a:lnTo>
                  <a:lnTo>
                    <a:pt x="447" y="52"/>
                  </a:lnTo>
                  <a:lnTo>
                    <a:pt x="452" y="58"/>
                  </a:lnTo>
                  <a:lnTo>
                    <a:pt x="459" y="64"/>
                  </a:lnTo>
                  <a:lnTo>
                    <a:pt x="464" y="70"/>
                  </a:lnTo>
                  <a:lnTo>
                    <a:pt x="471" y="75"/>
                  </a:lnTo>
                  <a:lnTo>
                    <a:pt x="475" y="81"/>
                  </a:lnTo>
                  <a:lnTo>
                    <a:pt x="480" y="86"/>
                  </a:lnTo>
                  <a:lnTo>
                    <a:pt x="484" y="92"/>
                  </a:lnTo>
                  <a:lnTo>
                    <a:pt x="489" y="96"/>
                  </a:lnTo>
                  <a:lnTo>
                    <a:pt x="490" y="103"/>
                  </a:lnTo>
                  <a:lnTo>
                    <a:pt x="494" y="108"/>
                  </a:lnTo>
                  <a:lnTo>
                    <a:pt x="497" y="116"/>
                  </a:lnTo>
                  <a:lnTo>
                    <a:pt x="500" y="121"/>
                  </a:lnTo>
                  <a:lnTo>
                    <a:pt x="502" y="129"/>
                  </a:lnTo>
                  <a:lnTo>
                    <a:pt x="506" y="136"/>
                  </a:lnTo>
                  <a:lnTo>
                    <a:pt x="509" y="144"/>
                  </a:lnTo>
                  <a:lnTo>
                    <a:pt x="513" y="151"/>
                  </a:lnTo>
                  <a:lnTo>
                    <a:pt x="515" y="160"/>
                  </a:lnTo>
                  <a:lnTo>
                    <a:pt x="518" y="168"/>
                  </a:lnTo>
                  <a:lnTo>
                    <a:pt x="520" y="175"/>
                  </a:lnTo>
                  <a:lnTo>
                    <a:pt x="524" y="182"/>
                  </a:lnTo>
                  <a:lnTo>
                    <a:pt x="526" y="189"/>
                  </a:lnTo>
                  <a:lnTo>
                    <a:pt x="528" y="196"/>
                  </a:lnTo>
                  <a:lnTo>
                    <a:pt x="530" y="202"/>
                  </a:lnTo>
                  <a:lnTo>
                    <a:pt x="533" y="207"/>
                  </a:lnTo>
                  <a:lnTo>
                    <a:pt x="533" y="213"/>
                  </a:lnTo>
                  <a:lnTo>
                    <a:pt x="535" y="219"/>
                  </a:lnTo>
                  <a:lnTo>
                    <a:pt x="536" y="226"/>
                  </a:lnTo>
                  <a:lnTo>
                    <a:pt x="538" y="232"/>
                  </a:lnTo>
                  <a:lnTo>
                    <a:pt x="540" y="240"/>
                  </a:lnTo>
                  <a:lnTo>
                    <a:pt x="542" y="248"/>
                  </a:lnTo>
                  <a:lnTo>
                    <a:pt x="544" y="256"/>
                  </a:lnTo>
                  <a:lnTo>
                    <a:pt x="546" y="263"/>
                  </a:lnTo>
                  <a:lnTo>
                    <a:pt x="546" y="272"/>
                  </a:lnTo>
                  <a:lnTo>
                    <a:pt x="548" y="279"/>
                  </a:lnTo>
                  <a:lnTo>
                    <a:pt x="549" y="287"/>
                  </a:lnTo>
                  <a:lnTo>
                    <a:pt x="551" y="294"/>
                  </a:lnTo>
                  <a:lnTo>
                    <a:pt x="551" y="302"/>
                  </a:lnTo>
                  <a:lnTo>
                    <a:pt x="553" y="308"/>
                  </a:lnTo>
                  <a:lnTo>
                    <a:pt x="553" y="315"/>
                  </a:lnTo>
                  <a:lnTo>
                    <a:pt x="554" y="320"/>
                  </a:lnTo>
                  <a:lnTo>
                    <a:pt x="554" y="326"/>
                  </a:lnTo>
                  <a:lnTo>
                    <a:pt x="554" y="330"/>
                  </a:lnTo>
                  <a:lnTo>
                    <a:pt x="554" y="336"/>
                  </a:lnTo>
                  <a:lnTo>
                    <a:pt x="556" y="341"/>
                  </a:lnTo>
                  <a:lnTo>
                    <a:pt x="556" y="348"/>
                  </a:lnTo>
                  <a:lnTo>
                    <a:pt x="556" y="354"/>
                  </a:lnTo>
                  <a:lnTo>
                    <a:pt x="556" y="360"/>
                  </a:lnTo>
                  <a:lnTo>
                    <a:pt x="557" y="366"/>
                  </a:lnTo>
                  <a:lnTo>
                    <a:pt x="557" y="374"/>
                  </a:lnTo>
                  <a:lnTo>
                    <a:pt x="557" y="379"/>
                  </a:lnTo>
                  <a:lnTo>
                    <a:pt x="557" y="385"/>
                  </a:lnTo>
                  <a:lnTo>
                    <a:pt x="557" y="391"/>
                  </a:lnTo>
                  <a:lnTo>
                    <a:pt x="557" y="396"/>
                  </a:lnTo>
                  <a:lnTo>
                    <a:pt x="557" y="402"/>
                  </a:lnTo>
                  <a:lnTo>
                    <a:pt x="557" y="407"/>
                  </a:lnTo>
                  <a:lnTo>
                    <a:pt x="558" y="411"/>
                  </a:lnTo>
                  <a:lnTo>
                    <a:pt x="558" y="415"/>
                  </a:lnTo>
                  <a:lnTo>
                    <a:pt x="558" y="418"/>
                  </a:lnTo>
                  <a:lnTo>
                    <a:pt x="558" y="422"/>
                  </a:lnTo>
                  <a:lnTo>
                    <a:pt x="560" y="425"/>
                  </a:lnTo>
                  <a:lnTo>
                    <a:pt x="560" y="431"/>
                  </a:lnTo>
                  <a:lnTo>
                    <a:pt x="560" y="435"/>
                  </a:lnTo>
                  <a:lnTo>
                    <a:pt x="560" y="438"/>
                  </a:lnTo>
                  <a:lnTo>
                    <a:pt x="562" y="442"/>
                  </a:lnTo>
                  <a:lnTo>
                    <a:pt x="562" y="448"/>
                  </a:lnTo>
                  <a:lnTo>
                    <a:pt x="562" y="452"/>
                  </a:lnTo>
                  <a:lnTo>
                    <a:pt x="562" y="456"/>
                  </a:lnTo>
                  <a:lnTo>
                    <a:pt x="562" y="460"/>
                  </a:lnTo>
                  <a:lnTo>
                    <a:pt x="562" y="464"/>
                  </a:lnTo>
                  <a:lnTo>
                    <a:pt x="562" y="468"/>
                  </a:lnTo>
                  <a:lnTo>
                    <a:pt x="562" y="472"/>
                  </a:lnTo>
                  <a:lnTo>
                    <a:pt x="563" y="473"/>
                  </a:lnTo>
                  <a:lnTo>
                    <a:pt x="562" y="475"/>
                  </a:lnTo>
                  <a:lnTo>
                    <a:pt x="562" y="477"/>
                  </a:lnTo>
                  <a:lnTo>
                    <a:pt x="561" y="479"/>
                  </a:lnTo>
                  <a:lnTo>
                    <a:pt x="561" y="480"/>
                  </a:lnTo>
                  <a:lnTo>
                    <a:pt x="559" y="482"/>
                  </a:lnTo>
                  <a:lnTo>
                    <a:pt x="559" y="483"/>
                  </a:lnTo>
                  <a:lnTo>
                    <a:pt x="558" y="485"/>
                  </a:lnTo>
                  <a:lnTo>
                    <a:pt x="558" y="486"/>
                  </a:lnTo>
                  <a:lnTo>
                    <a:pt x="556" y="488"/>
                  </a:lnTo>
                  <a:lnTo>
                    <a:pt x="556" y="490"/>
                  </a:lnTo>
                  <a:lnTo>
                    <a:pt x="555" y="492"/>
                  </a:lnTo>
                  <a:lnTo>
                    <a:pt x="555" y="493"/>
                  </a:lnTo>
                  <a:lnTo>
                    <a:pt x="554" y="494"/>
                  </a:lnTo>
                  <a:lnTo>
                    <a:pt x="554" y="496"/>
                  </a:lnTo>
                  <a:lnTo>
                    <a:pt x="554" y="498"/>
                  </a:lnTo>
                  <a:lnTo>
                    <a:pt x="554" y="498"/>
                  </a:lnTo>
                  <a:lnTo>
                    <a:pt x="555" y="501"/>
                  </a:lnTo>
                  <a:lnTo>
                    <a:pt x="557" y="504"/>
                  </a:lnTo>
                  <a:lnTo>
                    <a:pt x="559" y="508"/>
                  </a:lnTo>
                  <a:lnTo>
                    <a:pt x="563" y="510"/>
                  </a:lnTo>
                  <a:lnTo>
                    <a:pt x="566" y="513"/>
                  </a:lnTo>
                  <a:lnTo>
                    <a:pt x="570" y="515"/>
                  </a:lnTo>
                  <a:lnTo>
                    <a:pt x="574" y="518"/>
                  </a:lnTo>
                  <a:lnTo>
                    <a:pt x="578" y="520"/>
                  </a:lnTo>
                  <a:lnTo>
                    <a:pt x="582" y="524"/>
                  </a:lnTo>
                  <a:lnTo>
                    <a:pt x="586" y="526"/>
                  </a:lnTo>
                  <a:lnTo>
                    <a:pt x="590" y="528"/>
                  </a:lnTo>
                  <a:lnTo>
                    <a:pt x="595" y="530"/>
                  </a:lnTo>
                  <a:lnTo>
                    <a:pt x="598" y="532"/>
                  </a:lnTo>
                  <a:lnTo>
                    <a:pt x="602" y="534"/>
                  </a:lnTo>
                  <a:lnTo>
                    <a:pt x="605" y="536"/>
                  </a:lnTo>
                  <a:lnTo>
                    <a:pt x="608" y="536"/>
                  </a:lnTo>
                  <a:lnTo>
                    <a:pt x="612" y="539"/>
                  </a:lnTo>
                  <a:lnTo>
                    <a:pt x="618" y="541"/>
                  </a:lnTo>
                  <a:lnTo>
                    <a:pt x="622" y="543"/>
                  </a:lnTo>
                  <a:lnTo>
                    <a:pt x="627" y="545"/>
                  </a:lnTo>
                  <a:lnTo>
                    <a:pt x="631" y="549"/>
                  </a:lnTo>
                  <a:lnTo>
                    <a:pt x="636" y="551"/>
                  </a:lnTo>
                  <a:lnTo>
                    <a:pt x="641" y="554"/>
                  </a:lnTo>
                  <a:lnTo>
                    <a:pt x="646" y="556"/>
                  </a:lnTo>
                  <a:lnTo>
                    <a:pt x="650" y="560"/>
                  </a:lnTo>
                  <a:lnTo>
                    <a:pt x="656" y="562"/>
                  </a:lnTo>
                  <a:lnTo>
                    <a:pt x="660" y="566"/>
                  </a:lnTo>
                  <a:lnTo>
                    <a:pt x="666" y="568"/>
                  </a:lnTo>
                  <a:lnTo>
                    <a:pt x="670" y="571"/>
                  </a:lnTo>
                  <a:lnTo>
                    <a:pt x="676" y="572"/>
                  </a:lnTo>
                  <a:lnTo>
                    <a:pt x="682" y="574"/>
                  </a:lnTo>
                  <a:lnTo>
                    <a:pt x="687" y="576"/>
                  </a:lnTo>
                  <a:lnTo>
                    <a:pt x="689" y="579"/>
                  </a:lnTo>
                  <a:lnTo>
                    <a:pt x="694" y="585"/>
                  </a:lnTo>
                  <a:lnTo>
                    <a:pt x="700" y="594"/>
                  </a:lnTo>
                  <a:lnTo>
                    <a:pt x="710" y="605"/>
                  </a:lnTo>
                  <a:lnTo>
                    <a:pt x="720" y="619"/>
                  </a:lnTo>
                  <a:lnTo>
                    <a:pt x="731" y="632"/>
                  </a:lnTo>
                  <a:lnTo>
                    <a:pt x="742" y="649"/>
                  </a:lnTo>
                  <a:lnTo>
                    <a:pt x="755" y="664"/>
                  </a:lnTo>
                  <a:lnTo>
                    <a:pt x="766" y="680"/>
                  </a:lnTo>
                  <a:lnTo>
                    <a:pt x="778" y="696"/>
                  </a:lnTo>
                  <a:lnTo>
                    <a:pt x="788" y="711"/>
                  </a:lnTo>
                  <a:lnTo>
                    <a:pt x="799" y="724"/>
                  </a:lnTo>
                  <a:lnTo>
                    <a:pt x="807" y="735"/>
                  </a:lnTo>
                  <a:lnTo>
                    <a:pt x="813" y="744"/>
                  </a:lnTo>
                  <a:lnTo>
                    <a:pt x="818" y="750"/>
                  </a:lnTo>
                  <a:lnTo>
                    <a:pt x="820" y="752"/>
                  </a:lnTo>
                  <a:lnTo>
                    <a:pt x="821" y="764"/>
                  </a:lnTo>
                  <a:lnTo>
                    <a:pt x="823" y="772"/>
                  </a:lnTo>
                  <a:lnTo>
                    <a:pt x="823" y="779"/>
                  </a:lnTo>
                  <a:lnTo>
                    <a:pt x="824" y="783"/>
                  </a:lnTo>
                  <a:lnTo>
                    <a:pt x="824" y="786"/>
                  </a:lnTo>
                  <a:lnTo>
                    <a:pt x="824" y="787"/>
                  </a:lnTo>
                  <a:lnTo>
                    <a:pt x="823" y="788"/>
                  </a:lnTo>
                  <a:lnTo>
                    <a:pt x="823" y="788"/>
                  </a:lnTo>
                  <a:lnTo>
                    <a:pt x="821" y="790"/>
                  </a:lnTo>
                  <a:lnTo>
                    <a:pt x="821" y="790"/>
                  </a:lnTo>
                  <a:lnTo>
                    <a:pt x="820" y="792"/>
                  </a:lnTo>
                  <a:lnTo>
                    <a:pt x="820" y="794"/>
                  </a:lnTo>
                  <a:lnTo>
                    <a:pt x="818" y="799"/>
                  </a:lnTo>
                  <a:lnTo>
                    <a:pt x="818" y="805"/>
                  </a:lnTo>
                  <a:lnTo>
                    <a:pt x="818" y="813"/>
                  </a:lnTo>
                  <a:lnTo>
                    <a:pt x="820" y="825"/>
                  </a:lnTo>
                  <a:lnTo>
                    <a:pt x="820" y="837"/>
                  </a:lnTo>
                  <a:lnTo>
                    <a:pt x="820" y="849"/>
                  </a:lnTo>
                  <a:lnTo>
                    <a:pt x="820" y="863"/>
                  </a:lnTo>
                  <a:lnTo>
                    <a:pt x="821" y="876"/>
                  </a:lnTo>
                  <a:lnTo>
                    <a:pt x="821" y="891"/>
                  </a:lnTo>
                  <a:lnTo>
                    <a:pt x="823" y="906"/>
                  </a:lnTo>
                  <a:lnTo>
                    <a:pt x="824" y="921"/>
                  </a:lnTo>
                  <a:lnTo>
                    <a:pt x="826" y="934"/>
                  </a:lnTo>
                  <a:lnTo>
                    <a:pt x="826" y="949"/>
                  </a:lnTo>
                  <a:lnTo>
                    <a:pt x="826" y="961"/>
                  </a:lnTo>
                  <a:lnTo>
                    <a:pt x="826" y="973"/>
                  </a:lnTo>
                  <a:lnTo>
                    <a:pt x="828" y="983"/>
                  </a:lnTo>
                  <a:lnTo>
                    <a:pt x="826" y="992"/>
                  </a:lnTo>
                  <a:lnTo>
                    <a:pt x="826" y="998"/>
                  </a:lnTo>
                  <a:lnTo>
                    <a:pt x="825" y="1002"/>
                  </a:lnTo>
                  <a:lnTo>
                    <a:pt x="824" y="1002"/>
                  </a:lnTo>
                  <a:lnTo>
                    <a:pt x="775" y="1004"/>
                  </a:lnTo>
                  <a:lnTo>
                    <a:pt x="724" y="1004"/>
                  </a:lnTo>
                  <a:lnTo>
                    <a:pt x="672" y="1006"/>
                  </a:lnTo>
                  <a:lnTo>
                    <a:pt x="618" y="1006"/>
                  </a:lnTo>
                  <a:lnTo>
                    <a:pt x="563" y="1007"/>
                  </a:lnTo>
                  <a:lnTo>
                    <a:pt x="509" y="1007"/>
                  </a:lnTo>
                  <a:lnTo>
                    <a:pt x="454" y="1007"/>
                  </a:lnTo>
                  <a:lnTo>
                    <a:pt x="400" y="1007"/>
                  </a:lnTo>
                  <a:lnTo>
                    <a:pt x="346" y="1007"/>
                  </a:lnTo>
                  <a:lnTo>
                    <a:pt x="293" y="1007"/>
                  </a:lnTo>
                  <a:lnTo>
                    <a:pt x="240" y="1007"/>
                  </a:lnTo>
                  <a:lnTo>
                    <a:pt x="191" y="1006"/>
                  </a:lnTo>
                  <a:lnTo>
                    <a:pt x="143" y="1004"/>
                  </a:lnTo>
                  <a:lnTo>
                    <a:pt x="98" y="1002"/>
                  </a:lnTo>
                  <a:lnTo>
                    <a:pt x="54" y="1000"/>
                  </a:lnTo>
                  <a:lnTo>
                    <a:pt x="16" y="996"/>
                  </a:lnTo>
                  <a:lnTo>
                    <a:pt x="16" y="99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32560" y="6002280"/>
              <a:ext cx="1357200" cy="1652760"/>
            </a:xfrm>
            <a:custGeom>
              <a:avLst/>
              <a:gdLst/>
              <a:ahLst/>
              <a:rect l="l" t="t" r="r" b="b"/>
              <a:pathLst>
                <a:path w="855" h="1041">
                  <a:moveTo>
                    <a:pt x="808" y="1024"/>
                  </a:moveTo>
                  <a:lnTo>
                    <a:pt x="825" y="1019"/>
                  </a:lnTo>
                  <a:lnTo>
                    <a:pt x="838" y="1006"/>
                  </a:lnTo>
                  <a:lnTo>
                    <a:pt x="847" y="986"/>
                  </a:lnTo>
                  <a:lnTo>
                    <a:pt x="852" y="960"/>
                  </a:lnTo>
                  <a:lnTo>
                    <a:pt x="854" y="930"/>
                  </a:lnTo>
                  <a:lnTo>
                    <a:pt x="852" y="895"/>
                  </a:lnTo>
                  <a:lnTo>
                    <a:pt x="848" y="857"/>
                  </a:lnTo>
                  <a:lnTo>
                    <a:pt x="842" y="817"/>
                  </a:lnTo>
                  <a:lnTo>
                    <a:pt x="832" y="778"/>
                  </a:lnTo>
                  <a:lnTo>
                    <a:pt x="822" y="737"/>
                  </a:lnTo>
                  <a:lnTo>
                    <a:pt x="811" y="698"/>
                  </a:lnTo>
                  <a:lnTo>
                    <a:pt x="800" y="661"/>
                  </a:lnTo>
                  <a:lnTo>
                    <a:pt x="787" y="627"/>
                  </a:lnTo>
                  <a:lnTo>
                    <a:pt x="775" y="596"/>
                  </a:lnTo>
                  <a:lnTo>
                    <a:pt x="762" y="571"/>
                  </a:lnTo>
                  <a:lnTo>
                    <a:pt x="751" y="552"/>
                  </a:lnTo>
                  <a:lnTo>
                    <a:pt x="748" y="550"/>
                  </a:lnTo>
                  <a:lnTo>
                    <a:pt x="746" y="548"/>
                  </a:lnTo>
                  <a:lnTo>
                    <a:pt x="742" y="546"/>
                  </a:lnTo>
                  <a:lnTo>
                    <a:pt x="739" y="543"/>
                  </a:lnTo>
                  <a:lnTo>
                    <a:pt x="734" y="541"/>
                  </a:lnTo>
                  <a:lnTo>
                    <a:pt x="730" y="539"/>
                  </a:lnTo>
                  <a:lnTo>
                    <a:pt x="726" y="538"/>
                  </a:lnTo>
                  <a:lnTo>
                    <a:pt x="722" y="536"/>
                  </a:lnTo>
                  <a:lnTo>
                    <a:pt x="716" y="536"/>
                  </a:lnTo>
                  <a:lnTo>
                    <a:pt x="712" y="534"/>
                  </a:lnTo>
                  <a:lnTo>
                    <a:pt x="707" y="533"/>
                  </a:lnTo>
                  <a:lnTo>
                    <a:pt x="703" y="531"/>
                  </a:lnTo>
                  <a:lnTo>
                    <a:pt x="699" y="531"/>
                  </a:lnTo>
                  <a:lnTo>
                    <a:pt x="695" y="529"/>
                  </a:lnTo>
                  <a:lnTo>
                    <a:pt x="691" y="527"/>
                  </a:lnTo>
                  <a:lnTo>
                    <a:pt x="689" y="525"/>
                  </a:lnTo>
                  <a:lnTo>
                    <a:pt x="683" y="524"/>
                  </a:lnTo>
                  <a:lnTo>
                    <a:pt x="678" y="522"/>
                  </a:lnTo>
                  <a:lnTo>
                    <a:pt x="672" y="520"/>
                  </a:lnTo>
                  <a:lnTo>
                    <a:pt x="666" y="518"/>
                  </a:lnTo>
                  <a:lnTo>
                    <a:pt x="659" y="516"/>
                  </a:lnTo>
                  <a:lnTo>
                    <a:pt x="653" y="514"/>
                  </a:lnTo>
                  <a:lnTo>
                    <a:pt x="646" y="512"/>
                  </a:lnTo>
                  <a:lnTo>
                    <a:pt x="641" y="508"/>
                  </a:lnTo>
                  <a:lnTo>
                    <a:pt x="633" y="507"/>
                  </a:lnTo>
                  <a:lnTo>
                    <a:pt x="627" y="504"/>
                  </a:lnTo>
                  <a:lnTo>
                    <a:pt x="620" y="502"/>
                  </a:lnTo>
                  <a:lnTo>
                    <a:pt x="614" y="498"/>
                  </a:lnTo>
                  <a:lnTo>
                    <a:pt x="608" y="497"/>
                  </a:lnTo>
                  <a:lnTo>
                    <a:pt x="603" y="494"/>
                  </a:lnTo>
                  <a:lnTo>
                    <a:pt x="597" y="492"/>
                  </a:lnTo>
                  <a:lnTo>
                    <a:pt x="593" y="488"/>
                  </a:lnTo>
                  <a:lnTo>
                    <a:pt x="586" y="487"/>
                  </a:lnTo>
                  <a:lnTo>
                    <a:pt x="581" y="485"/>
                  </a:lnTo>
                  <a:lnTo>
                    <a:pt x="573" y="483"/>
                  </a:lnTo>
                  <a:lnTo>
                    <a:pt x="567" y="479"/>
                  </a:lnTo>
                  <a:lnTo>
                    <a:pt x="560" y="477"/>
                  </a:lnTo>
                  <a:lnTo>
                    <a:pt x="552" y="473"/>
                  </a:lnTo>
                  <a:lnTo>
                    <a:pt x="545" y="471"/>
                  </a:lnTo>
                  <a:lnTo>
                    <a:pt x="537" y="467"/>
                  </a:lnTo>
                  <a:lnTo>
                    <a:pt x="529" y="465"/>
                  </a:lnTo>
                  <a:lnTo>
                    <a:pt x="522" y="461"/>
                  </a:lnTo>
                  <a:lnTo>
                    <a:pt x="514" y="457"/>
                  </a:lnTo>
                  <a:lnTo>
                    <a:pt x="508" y="453"/>
                  </a:lnTo>
                  <a:lnTo>
                    <a:pt x="502" y="450"/>
                  </a:lnTo>
                  <a:lnTo>
                    <a:pt x="496" y="446"/>
                  </a:lnTo>
                  <a:lnTo>
                    <a:pt x="492" y="442"/>
                  </a:lnTo>
                  <a:lnTo>
                    <a:pt x="489" y="437"/>
                  </a:lnTo>
                  <a:lnTo>
                    <a:pt x="486" y="434"/>
                  </a:lnTo>
                  <a:lnTo>
                    <a:pt x="485" y="430"/>
                  </a:lnTo>
                  <a:lnTo>
                    <a:pt x="483" y="426"/>
                  </a:lnTo>
                  <a:lnTo>
                    <a:pt x="482" y="420"/>
                  </a:lnTo>
                  <a:lnTo>
                    <a:pt x="480" y="415"/>
                  </a:lnTo>
                  <a:lnTo>
                    <a:pt x="480" y="410"/>
                  </a:lnTo>
                  <a:lnTo>
                    <a:pt x="479" y="404"/>
                  </a:lnTo>
                  <a:lnTo>
                    <a:pt x="479" y="399"/>
                  </a:lnTo>
                  <a:lnTo>
                    <a:pt x="478" y="393"/>
                  </a:lnTo>
                  <a:lnTo>
                    <a:pt x="478" y="388"/>
                  </a:lnTo>
                  <a:lnTo>
                    <a:pt x="478" y="382"/>
                  </a:lnTo>
                  <a:lnTo>
                    <a:pt x="479" y="377"/>
                  </a:lnTo>
                  <a:lnTo>
                    <a:pt x="479" y="373"/>
                  </a:lnTo>
                  <a:lnTo>
                    <a:pt x="481" y="368"/>
                  </a:lnTo>
                  <a:lnTo>
                    <a:pt x="483" y="364"/>
                  </a:lnTo>
                  <a:lnTo>
                    <a:pt x="485" y="360"/>
                  </a:lnTo>
                  <a:lnTo>
                    <a:pt x="485" y="358"/>
                  </a:lnTo>
                  <a:lnTo>
                    <a:pt x="486" y="356"/>
                  </a:lnTo>
                  <a:lnTo>
                    <a:pt x="488" y="354"/>
                  </a:lnTo>
                  <a:lnTo>
                    <a:pt x="491" y="351"/>
                  </a:lnTo>
                  <a:lnTo>
                    <a:pt x="493" y="348"/>
                  </a:lnTo>
                  <a:lnTo>
                    <a:pt x="496" y="344"/>
                  </a:lnTo>
                  <a:lnTo>
                    <a:pt x="499" y="341"/>
                  </a:lnTo>
                  <a:lnTo>
                    <a:pt x="503" y="337"/>
                  </a:lnTo>
                  <a:lnTo>
                    <a:pt x="505" y="335"/>
                  </a:lnTo>
                  <a:lnTo>
                    <a:pt x="508" y="331"/>
                  </a:lnTo>
                  <a:lnTo>
                    <a:pt x="510" y="328"/>
                  </a:lnTo>
                  <a:lnTo>
                    <a:pt x="514" y="324"/>
                  </a:lnTo>
                  <a:lnTo>
                    <a:pt x="515" y="322"/>
                  </a:lnTo>
                  <a:lnTo>
                    <a:pt x="518" y="319"/>
                  </a:lnTo>
                  <a:lnTo>
                    <a:pt x="520" y="317"/>
                  </a:lnTo>
                  <a:lnTo>
                    <a:pt x="522" y="314"/>
                  </a:lnTo>
                  <a:lnTo>
                    <a:pt x="524" y="311"/>
                  </a:lnTo>
                  <a:lnTo>
                    <a:pt x="525" y="307"/>
                  </a:lnTo>
                  <a:lnTo>
                    <a:pt x="527" y="303"/>
                  </a:lnTo>
                  <a:lnTo>
                    <a:pt x="530" y="297"/>
                  </a:lnTo>
                  <a:lnTo>
                    <a:pt x="532" y="292"/>
                  </a:lnTo>
                  <a:lnTo>
                    <a:pt x="534" y="285"/>
                  </a:lnTo>
                  <a:lnTo>
                    <a:pt x="536" y="280"/>
                  </a:lnTo>
                  <a:lnTo>
                    <a:pt x="540" y="273"/>
                  </a:lnTo>
                  <a:lnTo>
                    <a:pt x="541" y="267"/>
                  </a:lnTo>
                  <a:lnTo>
                    <a:pt x="543" y="261"/>
                  </a:lnTo>
                  <a:lnTo>
                    <a:pt x="545" y="255"/>
                  </a:lnTo>
                  <a:lnTo>
                    <a:pt x="546" y="248"/>
                  </a:lnTo>
                  <a:lnTo>
                    <a:pt x="547" y="244"/>
                  </a:lnTo>
                  <a:lnTo>
                    <a:pt x="549" y="238"/>
                  </a:lnTo>
                  <a:lnTo>
                    <a:pt x="550" y="234"/>
                  </a:lnTo>
                  <a:lnTo>
                    <a:pt x="552" y="229"/>
                  </a:lnTo>
                  <a:lnTo>
                    <a:pt x="550" y="227"/>
                  </a:lnTo>
                  <a:lnTo>
                    <a:pt x="550" y="225"/>
                  </a:lnTo>
                  <a:lnTo>
                    <a:pt x="548" y="223"/>
                  </a:lnTo>
                  <a:lnTo>
                    <a:pt x="548" y="220"/>
                  </a:lnTo>
                  <a:lnTo>
                    <a:pt x="546" y="219"/>
                  </a:lnTo>
                  <a:lnTo>
                    <a:pt x="545" y="217"/>
                  </a:lnTo>
                  <a:lnTo>
                    <a:pt x="543" y="216"/>
                  </a:lnTo>
                  <a:lnTo>
                    <a:pt x="543" y="214"/>
                  </a:lnTo>
                  <a:lnTo>
                    <a:pt x="541" y="213"/>
                  </a:lnTo>
                  <a:lnTo>
                    <a:pt x="539" y="211"/>
                  </a:lnTo>
                  <a:lnTo>
                    <a:pt x="537" y="209"/>
                  </a:lnTo>
                  <a:lnTo>
                    <a:pt x="537" y="207"/>
                  </a:lnTo>
                  <a:lnTo>
                    <a:pt x="535" y="206"/>
                  </a:lnTo>
                  <a:lnTo>
                    <a:pt x="535" y="203"/>
                  </a:lnTo>
                  <a:lnTo>
                    <a:pt x="535" y="200"/>
                  </a:lnTo>
                  <a:lnTo>
                    <a:pt x="535" y="196"/>
                  </a:lnTo>
                  <a:lnTo>
                    <a:pt x="534" y="191"/>
                  </a:lnTo>
                  <a:lnTo>
                    <a:pt x="534" y="186"/>
                  </a:lnTo>
                  <a:lnTo>
                    <a:pt x="534" y="179"/>
                  </a:lnTo>
                  <a:lnTo>
                    <a:pt x="534" y="172"/>
                  </a:lnTo>
                  <a:lnTo>
                    <a:pt x="533" y="165"/>
                  </a:lnTo>
                  <a:lnTo>
                    <a:pt x="533" y="157"/>
                  </a:lnTo>
                  <a:lnTo>
                    <a:pt x="532" y="149"/>
                  </a:lnTo>
                  <a:lnTo>
                    <a:pt x="532" y="141"/>
                  </a:lnTo>
                  <a:lnTo>
                    <a:pt x="530" y="133"/>
                  </a:lnTo>
                  <a:lnTo>
                    <a:pt x="529" y="126"/>
                  </a:lnTo>
                  <a:lnTo>
                    <a:pt x="527" y="118"/>
                  </a:lnTo>
                  <a:lnTo>
                    <a:pt x="527" y="110"/>
                  </a:lnTo>
                  <a:lnTo>
                    <a:pt x="525" y="105"/>
                  </a:lnTo>
                  <a:lnTo>
                    <a:pt x="524" y="98"/>
                  </a:lnTo>
                  <a:lnTo>
                    <a:pt x="522" y="92"/>
                  </a:lnTo>
                  <a:lnTo>
                    <a:pt x="520" y="87"/>
                  </a:lnTo>
                  <a:lnTo>
                    <a:pt x="516" y="83"/>
                  </a:lnTo>
                  <a:lnTo>
                    <a:pt x="512" y="78"/>
                  </a:lnTo>
                  <a:lnTo>
                    <a:pt x="507" y="73"/>
                  </a:lnTo>
                  <a:lnTo>
                    <a:pt x="503" y="67"/>
                  </a:lnTo>
                  <a:lnTo>
                    <a:pt x="496" y="63"/>
                  </a:lnTo>
                  <a:lnTo>
                    <a:pt x="491" y="58"/>
                  </a:lnTo>
                  <a:lnTo>
                    <a:pt x="485" y="53"/>
                  </a:lnTo>
                  <a:lnTo>
                    <a:pt x="479" y="47"/>
                  </a:lnTo>
                  <a:lnTo>
                    <a:pt x="472" y="43"/>
                  </a:lnTo>
                  <a:lnTo>
                    <a:pt x="465" y="39"/>
                  </a:lnTo>
                  <a:lnTo>
                    <a:pt x="458" y="35"/>
                  </a:lnTo>
                  <a:lnTo>
                    <a:pt x="452" y="30"/>
                  </a:lnTo>
                  <a:lnTo>
                    <a:pt x="446" y="28"/>
                  </a:lnTo>
                  <a:lnTo>
                    <a:pt x="440" y="24"/>
                  </a:lnTo>
                  <a:lnTo>
                    <a:pt x="435" y="22"/>
                  </a:lnTo>
                  <a:lnTo>
                    <a:pt x="430" y="19"/>
                  </a:lnTo>
                  <a:lnTo>
                    <a:pt x="425" y="19"/>
                  </a:lnTo>
                  <a:lnTo>
                    <a:pt x="420" y="17"/>
                  </a:lnTo>
                  <a:lnTo>
                    <a:pt x="414" y="15"/>
                  </a:lnTo>
                  <a:lnTo>
                    <a:pt x="408" y="13"/>
                  </a:lnTo>
                  <a:lnTo>
                    <a:pt x="400" y="13"/>
                  </a:lnTo>
                  <a:lnTo>
                    <a:pt x="394" y="11"/>
                  </a:lnTo>
                  <a:lnTo>
                    <a:pt x="387" y="9"/>
                  </a:lnTo>
                  <a:lnTo>
                    <a:pt x="381" y="7"/>
                  </a:lnTo>
                  <a:lnTo>
                    <a:pt x="374" y="7"/>
                  </a:lnTo>
                  <a:lnTo>
                    <a:pt x="367" y="5"/>
                  </a:lnTo>
                  <a:lnTo>
                    <a:pt x="359" y="5"/>
                  </a:lnTo>
                  <a:lnTo>
                    <a:pt x="354" y="3"/>
                  </a:lnTo>
                  <a:lnTo>
                    <a:pt x="348" y="3"/>
                  </a:lnTo>
                  <a:lnTo>
                    <a:pt x="342" y="1"/>
                  </a:lnTo>
                  <a:lnTo>
                    <a:pt x="338" y="1"/>
                  </a:lnTo>
                  <a:lnTo>
                    <a:pt x="334" y="0"/>
                  </a:lnTo>
                  <a:lnTo>
                    <a:pt x="328" y="2"/>
                  </a:lnTo>
                  <a:lnTo>
                    <a:pt x="323" y="3"/>
                  </a:lnTo>
                  <a:lnTo>
                    <a:pt x="318" y="5"/>
                  </a:lnTo>
                  <a:lnTo>
                    <a:pt x="314" y="5"/>
                  </a:lnTo>
                  <a:lnTo>
                    <a:pt x="308" y="9"/>
                  </a:lnTo>
                  <a:lnTo>
                    <a:pt x="302" y="10"/>
                  </a:lnTo>
                  <a:lnTo>
                    <a:pt x="297" y="13"/>
                  </a:lnTo>
                  <a:lnTo>
                    <a:pt x="292" y="15"/>
                  </a:lnTo>
                  <a:lnTo>
                    <a:pt x="286" y="19"/>
                  </a:lnTo>
                  <a:lnTo>
                    <a:pt x="281" y="21"/>
                  </a:lnTo>
                  <a:lnTo>
                    <a:pt x="275" y="25"/>
                  </a:lnTo>
                  <a:lnTo>
                    <a:pt x="271" y="27"/>
                  </a:lnTo>
                  <a:lnTo>
                    <a:pt x="265" y="30"/>
                  </a:lnTo>
                  <a:lnTo>
                    <a:pt x="261" y="32"/>
                  </a:lnTo>
                  <a:lnTo>
                    <a:pt x="258" y="35"/>
                  </a:lnTo>
                  <a:lnTo>
                    <a:pt x="254" y="37"/>
                  </a:lnTo>
                  <a:lnTo>
                    <a:pt x="251" y="41"/>
                  </a:lnTo>
                  <a:lnTo>
                    <a:pt x="249" y="43"/>
                  </a:lnTo>
                  <a:lnTo>
                    <a:pt x="247" y="47"/>
                  </a:lnTo>
                  <a:lnTo>
                    <a:pt x="245" y="50"/>
                  </a:lnTo>
                  <a:lnTo>
                    <a:pt x="241" y="54"/>
                  </a:lnTo>
                  <a:lnTo>
                    <a:pt x="240" y="58"/>
                  </a:lnTo>
                  <a:lnTo>
                    <a:pt x="238" y="61"/>
                  </a:lnTo>
                  <a:lnTo>
                    <a:pt x="236" y="65"/>
                  </a:lnTo>
                  <a:lnTo>
                    <a:pt x="232" y="71"/>
                  </a:lnTo>
                  <a:lnTo>
                    <a:pt x="230" y="75"/>
                  </a:lnTo>
                  <a:lnTo>
                    <a:pt x="228" y="79"/>
                  </a:lnTo>
                  <a:lnTo>
                    <a:pt x="226" y="83"/>
                  </a:lnTo>
                  <a:lnTo>
                    <a:pt x="224" y="87"/>
                  </a:lnTo>
                  <a:lnTo>
                    <a:pt x="223" y="90"/>
                  </a:lnTo>
                  <a:lnTo>
                    <a:pt x="221" y="94"/>
                  </a:lnTo>
                  <a:lnTo>
                    <a:pt x="221" y="96"/>
                  </a:lnTo>
                  <a:lnTo>
                    <a:pt x="219" y="101"/>
                  </a:lnTo>
                  <a:lnTo>
                    <a:pt x="218" y="105"/>
                  </a:lnTo>
                  <a:lnTo>
                    <a:pt x="216" y="111"/>
                  </a:lnTo>
                  <a:lnTo>
                    <a:pt x="216" y="117"/>
                  </a:lnTo>
                  <a:lnTo>
                    <a:pt x="216" y="125"/>
                  </a:lnTo>
                  <a:lnTo>
                    <a:pt x="216" y="131"/>
                  </a:lnTo>
                  <a:lnTo>
                    <a:pt x="216" y="139"/>
                  </a:lnTo>
                  <a:lnTo>
                    <a:pt x="216" y="146"/>
                  </a:lnTo>
                  <a:lnTo>
                    <a:pt x="216" y="153"/>
                  </a:lnTo>
                  <a:lnTo>
                    <a:pt x="216" y="161"/>
                  </a:lnTo>
                  <a:lnTo>
                    <a:pt x="216" y="168"/>
                  </a:lnTo>
                  <a:lnTo>
                    <a:pt x="218" y="175"/>
                  </a:lnTo>
                  <a:lnTo>
                    <a:pt x="218" y="181"/>
                  </a:lnTo>
                  <a:lnTo>
                    <a:pt x="218" y="187"/>
                  </a:lnTo>
                  <a:lnTo>
                    <a:pt x="218" y="191"/>
                  </a:lnTo>
                  <a:lnTo>
                    <a:pt x="219" y="195"/>
                  </a:lnTo>
                  <a:lnTo>
                    <a:pt x="217" y="197"/>
                  </a:lnTo>
                  <a:lnTo>
                    <a:pt x="216" y="199"/>
                  </a:lnTo>
                  <a:lnTo>
                    <a:pt x="214" y="201"/>
                  </a:lnTo>
                  <a:lnTo>
                    <a:pt x="213" y="203"/>
                  </a:lnTo>
                  <a:lnTo>
                    <a:pt x="212" y="204"/>
                  </a:lnTo>
                  <a:lnTo>
                    <a:pt x="210" y="206"/>
                  </a:lnTo>
                  <a:lnTo>
                    <a:pt x="208" y="208"/>
                  </a:lnTo>
                  <a:lnTo>
                    <a:pt x="206" y="210"/>
                  </a:lnTo>
                  <a:lnTo>
                    <a:pt x="204" y="212"/>
                  </a:lnTo>
                  <a:lnTo>
                    <a:pt x="203" y="214"/>
                  </a:lnTo>
                  <a:lnTo>
                    <a:pt x="201" y="216"/>
                  </a:lnTo>
                  <a:lnTo>
                    <a:pt x="200" y="217"/>
                  </a:lnTo>
                  <a:lnTo>
                    <a:pt x="198" y="220"/>
                  </a:lnTo>
                  <a:lnTo>
                    <a:pt x="197" y="222"/>
                  </a:lnTo>
                  <a:lnTo>
                    <a:pt x="197" y="224"/>
                  </a:lnTo>
                  <a:lnTo>
                    <a:pt x="197" y="226"/>
                  </a:lnTo>
                  <a:lnTo>
                    <a:pt x="197" y="229"/>
                  </a:lnTo>
                  <a:lnTo>
                    <a:pt x="197" y="233"/>
                  </a:lnTo>
                  <a:lnTo>
                    <a:pt x="197" y="237"/>
                  </a:lnTo>
                  <a:lnTo>
                    <a:pt x="199" y="241"/>
                  </a:lnTo>
                  <a:lnTo>
                    <a:pt x="199" y="245"/>
                  </a:lnTo>
                  <a:lnTo>
                    <a:pt x="201" y="249"/>
                  </a:lnTo>
                  <a:lnTo>
                    <a:pt x="202" y="253"/>
                  </a:lnTo>
                  <a:lnTo>
                    <a:pt x="204" y="257"/>
                  </a:lnTo>
                  <a:lnTo>
                    <a:pt x="204" y="262"/>
                  </a:lnTo>
                  <a:lnTo>
                    <a:pt x="206" y="265"/>
                  </a:lnTo>
                  <a:lnTo>
                    <a:pt x="208" y="269"/>
                  </a:lnTo>
                  <a:lnTo>
                    <a:pt x="210" y="273"/>
                  </a:lnTo>
                  <a:lnTo>
                    <a:pt x="210" y="277"/>
                  </a:lnTo>
                  <a:lnTo>
                    <a:pt x="212" y="281"/>
                  </a:lnTo>
                  <a:lnTo>
                    <a:pt x="213" y="284"/>
                  </a:lnTo>
                  <a:lnTo>
                    <a:pt x="214" y="285"/>
                  </a:lnTo>
                  <a:lnTo>
                    <a:pt x="214" y="289"/>
                  </a:lnTo>
                  <a:lnTo>
                    <a:pt x="215" y="292"/>
                  </a:lnTo>
                  <a:lnTo>
                    <a:pt x="217" y="296"/>
                  </a:lnTo>
                  <a:lnTo>
                    <a:pt x="219" y="299"/>
                  </a:lnTo>
                  <a:lnTo>
                    <a:pt x="221" y="303"/>
                  </a:lnTo>
                  <a:lnTo>
                    <a:pt x="224" y="307"/>
                  </a:lnTo>
                  <a:lnTo>
                    <a:pt x="226" y="311"/>
                  </a:lnTo>
                  <a:lnTo>
                    <a:pt x="230" y="313"/>
                  </a:lnTo>
                  <a:lnTo>
                    <a:pt x="232" y="317"/>
                  </a:lnTo>
                  <a:lnTo>
                    <a:pt x="236" y="321"/>
                  </a:lnTo>
                  <a:lnTo>
                    <a:pt x="238" y="325"/>
                  </a:lnTo>
                  <a:lnTo>
                    <a:pt x="241" y="328"/>
                  </a:lnTo>
                  <a:lnTo>
                    <a:pt x="243" y="332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8" y="337"/>
                  </a:lnTo>
                  <a:lnTo>
                    <a:pt x="251" y="349"/>
                  </a:lnTo>
                  <a:lnTo>
                    <a:pt x="254" y="358"/>
                  </a:lnTo>
                  <a:lnTo>
                    <a:pt x="256" y="366"/>
                  </a:lnTo>
                  <a:lnTo>
                    <a:pt x="260" y="372"/>
                  </a:lnTo>
                  <a:lnTo>
                    <a:pt x="260" y="379"/>
                  </a:lnTo>
                  <a:lnTo>
                    <a:pt x="262" y="383"/>
                  </a:lnTo>
                  <a:lnTo>
                    <a:pt x="262" y="387"/>
                  </a:lnTo>
                  <a:lnTo>
                    <a:pt x="264" y="389"/>
                  </a:lnTo>
                  <a:lnTo>
                    <a:pt x="264" y="392"/>
                  </a:lnTo>
                  <a:lnTo>
                    <a:pt x="264" y="394"/>
                  </a:lnTo>
                  <a:lnTo>
                    <a:pt x="264" y="396"/>
                  </a:lnTo>
                  <a:lnTo>
                    <a:pt x="266" y="397"/>
                  </a:lnTo>
                  <a:lnTo>
                    <a:pt x="266" y="399"/>
                  </a:lnTo>
                  <a:lnTo>
                    <a:pt x="268" y="399"/>
                  </a:lnTo>
                  <a:lnTo>
                    <a:pt x="269" y="401"/>
                  </a:lnTo>
                  <a:lnTo>
                    <a:pt x="271" y="401"/>
                  </a:lnTo>
                  <a:lnTo>
                    <a:pt x="273" y="403"/>
                  </a:lnTo>
                  <a:lnTo>
                    <a:pt x="275" y="405"/>
                  </a:lnTo>
                  <a:lnTo>
                    <a:pt x="277" y="407"/>
                  </a:lnTo>
                  <a:lnTo>
                    <a:pt x="279" y="409"/>
                  </a:lnTo>
                  <a:lnTo>
                    <a:pt x="280" y="410"/>
                  </a:lnTo>
                  <a:lnTo>
                    <a:pt x="282" y="412"/>
                  </a:lnTo>
                  <a:lnTo>
                    <a:pt x="284" y="414"/>
                  </a:lnTo>
                  <a:lnTo>
                    <a:pt x="286" y="415"/>
                  </a:lnTo>
                  <a:lnTo>
                    <a:pt x="286" y="417"/>
                  </a:lnTo>
                  <a:lnTo>
                    <a:pt x="288" y="419"/>
                  </a:lnTo>
                  <a:lnTo>
                    <a:pt x="289" y="420"/>
                  </a:lnTo>
                  <a:lnTo>
                    <a:pt x="291" y="421"/>
                  </a:lnTo>
                  <a:lnTo>
                    <a:pt x="291" y="423"/>
                  </a:lnTo>
                  <a:lnTo>
                    <a:pt x="292" y="425"/>
                  </a:lnTo>
                  <a:lnTo>
                    <a:pt x="292" y="427"/>
                  </a:lnTo>
                  <a:lnTo>
                    <a:pt x="294" y="427"/>
                  </a:lnTo>
                  <a:lnTo>
                    <a:pt x="292" y="429"/>
                  </a:lnTo>
                  <a:lnTo>
                    <a:pt x="292" y="431"/>
                  </a:lnTo>
                  <a:lnTo>
                    <a:pt x="290" y="433"/>
                  </a:lnTo>
                  <a:lnTo>
                    <a:pt x="288" y="435"/>
                  </a:lnTo>
                  <a:lnTo>
                    <a:pt x="283" y="437"/>
                  </a:lnTo>
                  <a:lnTo>
                    <a:pt x="280" y="438"/>
                  </a:lnTo>
                  <a:lnTo>
                    <a:pt x="275" y="440"/>
                  </a:lnTo>
                  <a:lnTo>
                    <a:pt x="271" y="442"/>
                  </a:lnTo>
                  <a:lnTo>
                    <a:pt x="266" y="444"/>
                  </a:lnTo>
                  <a:lnTo>
                    <a:pt x="260" y="446"/>
                  </a:lnTo>
                  <a:lnTo>
                    <a:pt x="254" y="448"/>
                  </a:lnTo>
                  <a:lnTo>
                    <a:pt x="250" y="448"/>
                  </a:lnTo>
                  <a:lnTo>
                    <a:pt x="244" y="450"/>
                  </a:lnTo>
                  <a:lnTo>
                    <a:pt x="241" y="451"/>
                  </a:lnTo>
                  <a:lnTo>
                    <a:pt x="237" y="453"/>
                  </a:lnTo>
                  <a:lnTo>
                    <a:pt x="234" y="453"/>
                  </a:lnTo>
                  <a:lnTo>
                    <a:pt x="231" y="455"/>
                  </a:lnTo>
                  <a:lnTo>
                    <a:pt x="227" y="456"/>
                  </a:lnTo>
                  <a:lnTo>
                    <a:pt x="223" y="456"/>
                  </a:lnTo>
                  <a:lnTo>
                    <a:pt x="219" y="455"/>
                  </a:lnTo>
                  <a:lnTo>
                    <a:pt x="213" y="455"/>
                  </a:lnTo>
                  <a:lnTo>
                    <a:pt x="209" y="454"/>
                  </a:lnTo>
                  <a:lnTo>
                    <a:pt x="203" y="454"/>
                  </a:lnTo>
                  <a:lnTo>
                    <a:pt x="200" y="452"/>
                  </a:lnTo>
                  <a:lnTo>
                    <a:pt x="194" y="452"/>
                  </a:lnTo>
                  <a:lnTo>
                    <a:pt x="189" y="450"/>
                  </a:lnTo>
                  <a:lnTo>
                    <a:pt x="183" y="450"/>
                  </a:lnTo>
                  <a:lnTo>
                    <a:pt x="180" y="448"/>
                  </a:lnTo>
                  <a:lnTo>
                    <a:pt x="174" y="448"/>
                  </a:lnTo>
                  <a:lnTo>
                    <a:pt x="171" y="448"/>
                  </a:lnTo>
                  <a:lnTo>
                    <a:pt x="167" y="448"/>
                  </a:lnTo>
                  <a:lnTo>
                    <a:pt x="165" y="447"/>
                  </a:lnTo>
                  <a:lnTo>
                    <a:pt x="160" y="449"/>
                  </a:lnTo>
                  <a:lnTo>
                    <a:pt x="156" y="449"/>
                  </a:lnTo>
                  <a:lnTo>
                    <a:pt x="149" y="449"/>
                  </a:lnTo>
                  <a:lnTo>
                    <a:pt x="143" y="449"/>
                  </a:lnTo>
                  <a:lnTo>
                    <a:pt x="136" y="449"/>
                  </a:lnTo>
                  <a:lnTo>
                    <a:pt x="129" y="449"/>
                  </a:lnTo>
                  <a:lnTo>
                    <a:pt x="122" y="449"/>
                  </a:lnTo>
                  <a:lnTo>
                    <a:pt x="115" y="448"/>
                  </a:lnTo>
                  <a:lnTo>
                    <a:pt x="106" y="448"/>
                  </a:lnTo>
                  <a:lnTo>
                    <a:pt x="98" y="448"/>
                  </a:lnTo>
                  <a:lnTo>
                    <a:pt x="91" y="448"/>
                  </a:lnTo>
                  <a:lnTo>
                    <a:pt x="85" y="448"/>
                  </a:lnTo>
                  <a:lnTo>
                    <a:pt x="78" y="450"/>
                  </a:lnTo>
                  <a:lnTo>
                    <a:pt x="72" y="450"/>
                  </a:lnTo>
                  <a:lnTo>
                    <a:pt x="67" y="450"/>
                  </a:lnTo>
                  <a:lnTo>
                    <a:pt x="64" y="450"/>
                  </a:lnTo>
                  <a:lnTo>
                    <a:pt x="62" y="453"/>
                  </a:lnTo>
                  <a:lnTo>
                    <a:pt x="60" y="455"/>
                  </a:lnTo>
                  <a:lnTo>
                    <a:pt x="58" y="458"/>
                  </a:lnTo>
                  <a:lnTo>
                    <a:pt x="58" y="461"/>
                  </a:lnTo>
                  <a:lnTo>
                    <a:pt x="56" y="467"/>
                  </a:lnTo>
                  <a:lnTo>
                    <a:pt x="56" y="471"/>
                  </a:lnTo>
                  <a:lnTo>
                    <a:pt x="56" y="477"/>
                  </a:lnTo>
                  <a:lnTo>
                    <a:pt x="56" y="481"/>
                  </a:lnTo>
                  <a:lnTo>
                    <a:pt x="54" y="488"/>
                  </a:lnTo>
                  <a:lnTo>
                    <a:pt x="54" y="493"/>
                  </a:lnTo>
                  <a:lnTo>
                    <a:pt x="53" y="499"/>
                  </a:lnTo>
                  <a:lnTo>
                    <a:pt x="53" y="503"/>
                  </a:lnTo>
                  <a:lnTo>
                    <a:pt x="51" y="508"/>
                  </a:lnTo>
                  <a:lnTo>
                    <a:pt x="51" y="512"/>
                  </a:lnTo>
                  <a:lnTo>
                    <a:pt x="49" y="515"/>
                  </a:lnTo>
                  <a:lnTo>
                    <a:pt x="49" y="517"/>
                  </a:lnTo>
                  <a:lnTo>
                    <a:pt x="46" y="521"/>
                  </a:lnTo>
                  <a:lnTo>
                    <a:pt x="44" y="523"/>
                  </a:lnTo>
                  <a:lnTo>
                    <a:pt x="42" y="527"/>
                  </a:lnTo>
                  <a:lnTo>
                    <a:pt x="40" y="531"/>
                  </a:lnTo>
                  <a:lnTo>
                    <a:pt x="38" y="536"/>
                  </a:lnTo>
                  <a:lnTo>
                    <a:pt x="37" y="539"/>
                  </a:lnTo>
                  <a:lnTo>
                    <a:pt x="35" y="544"/>
                  </a:lnTo>
                  <a:lnTo>
                    <a:pt x="34" y="547"/>
                  </a:lnTo>
                  <a:lnTo>
                    <a:pt x="32" y="553"/>
                  </a:lnTo>
                  <a:lnTo>
                    <a:pt x="30" y="557"/>
                  </a:lnTo>
                  <a:lnTo>
                    <a:pt x="28" y="563"/>
                  </a:lnTo>
                  <a:lnTo>
                    <a:pt x="28" y="566"/>
                  </a:lnTo>
                  <a:lnTo>
                    <a:pt x="26" y="571"/>
                  </a:lnTo>
                  <a:lnTo>
                    <a:pt x="26" y="575"/>
                  </a:lnTo>
                  <a:lnTo>
                    <a:pt x="26" y="578"/>
                  </a:lnTo>
                  <a:lnTo>
                    <a:pt x="26" y="581"/>
                  </a:lnTo>
                  <a:lnTo>
                    <a:pt x="24" y="589"/>
                  </a:lnTo>
                  <a:lnTo>
                    <a:pt x="22" y="599"/>
                  </a:lnTo>
                  <a:lnTo>
                    <a:pt x="20" y="609"/>
                  </a:lnTo>
                  <a:lnTo>
                    <a:pt x="18" y="619"/>
                  </a:lnTo>
                  <a:lnTo>
                    <a:pt x="16" y="632"/>
                  </a:lnTo>
                  <a:lnTo>
                    <a:pt x="14" y="643"/>
                  </a:lnTo>
                  <a:lnTo>
                    <a:pt x="12" y="655"/>
                  </a:lnTo>
                  <a:lnTo>
                    <a:pt x="11" y="667"/>
                  </a:lnTo>
                  <a:lnTo>
                    <a:pt x="9" y="680"/>
                  </a:lnTo>
                  <a:lnTo>
                    <a:pt x="7" y="691"/>
                  </a:lnTo>
                  <a:lnTo>
                    <a:pt x="6" y="703"/>
                  </a:lnTo>
                  <a:lnTo>
                    <a:pt x="5" y="714"/>
                  </a:lnTo>
                  <a:lnTo>
                    <a:pt x="3" y="725"/>
                  </a:lnTo>
                  <a:lnTo>
                    <a:pt x="3" y="735"/>
                  </a:lnTo>
                  <a:lnTo>
                    <a:pt x="3" y="744"/>
                  </a:lnTo>
                  <a:lnTo>
                    <a:pt x="3" y="751"/>
                  </a:lnTo>
                  <a:lnTo>
                    <a:pt x="1" y="765"/>
                  </a:lnTo>
                  <a:lnTo>
                    <a:pt x="1" y="781"/>
                  </a:lnTo>
                  <a:lnTo>
                    <a:pt x="0" y="800"/>
                  </a:lnTo>
                  <a:lnTo>
                    <a:pt x="0" y="821"/>
                  </a:lnTo>
                  <a:lnTo>
                    <a:pt x="0" y="844"/>
                  </a:lnTo>
                  <a:lnTo>
                    <a:pt x="0" y="867"/>
                  </a:lnTo>
                  <a:lnTo>
                    <a:pt x="0" y="891"/>
                  </a:lnTo>
                  <a:lnTo>
                    <a:pt x="0" y="913"/>
                  </a:lnTo>
                  <a:lnTo>
                    <a:pt x="0" y="937"/>
                  </a:lnTo>
                  <a:lnTo>
                    <a:pt x="0" y="958"/>
                  </a:lnTo>
                  <a:lnTo>
                    <a:pt x="0" y="978"/>
                  </a:lnTo>
                  <a:lnTo>
                    <a:pt x="0" y="995"/>
                  </a:lnTo>
                  <a:lnTo>
                    <a:pt x="0" y="1010"/>
                  </a:lnTo>
                  <a:lnTo>
                    <a:pt x="1" y="1021"/>
                  </a:lnTo>
                  <a:lnTo>
                    <a:pt x="1" y="1027"/>
                  </a:lnTo>
                  <a:lnTo>
                    <a:pt x="3" y="1029"/>
                  </a:lnTo>
                  <a:lnTo>
                    <a:pt x="39" y="1033"/>
                  </a:lnTo>
                  <a:lnTo>
                    <a:pt x="78" y="1035"/>
                  </a:lnTo>
                  <a:lnTo>
                    <a:pt x="118" y="1037"/>
                  </a:lnTo>
                  <a:lnTo>
                    <a:pt x="162" y="1039"/>
                  </a:lnTo>
                  <a:lnTo>
                    <a:pt x="206" y="1040"/>
                  </a:lnTo>
                  <a:lnTo>
                    <a:pt x="252" y="1040"/>
                  </a:lnTo>
                  <a:lnTo>
                    <a:pt x="301" y="1040"/>
                  </a:lnTo>
                  <a:lnTo>
                    <a:pt x="351" y="1039"/>
                  </a:lnTo>
                  <a:lnTo>
                    <a:pt x="402" y="1039"/>
                  </a:lnTo>
                  <a:lnTo>
                    <a:pt x="455" y="1037"/>
                  </a:lnTo>
                  <a:lnTo>
                    <a:pt x="510" y="1035"/>
                  </a:lnTo>
                  <a:lnTo>
                    <a:pt x="566" y="1034"/>
                  </a:lnTo>
                  <a:lnTo>
                    <a:pt x="624" y="1032"/>
                  </a:lnTo>
                  <a:lnTo>
                    <a:pt x="684" y="1029"/>
                  </a:lnTo>
                  <a:lnTo>
                    <a:pt x="745" y="1027"/>
                  </a:lnTo>
                  <a:lnTo>
                    <a:pt x="808" y="1024"/>
                  </a:lnTo>
                  <a:lnTo>
                    <a:pt x="808" y="102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25720" y="6194520"/>
              <a:ext cx="1308240" cy="1488960"/>
            </a:xfrm>
            <a:custGeom>
              <a:avLst/>
              <a:gdLst/>
              <a:ahLst/>
              <a:rect l="l" t="t" r="r" b="b"/>
              <a:pathLst>
                <a:path w="824" h="938">
                  <a:moveTo>
                    <a:pt x="823" y="934"/>
                  </a:moveTo>
                  <a:lnTo>
                    <a:pt x="822" y="917"/>
                  </a:lnTo>
                  <a:lnTo>
                    <a:pt x="822" y="895"/>
                  </a:lnTo>
                  <a:lnTo>
                    <a:pt x="820" y="872"/>
                  </a:lnTo>
                  <a:lnTo>
                    <a:pt x="819" y="845"/>
                  </a:lnTo>
                  <a:lnTo>
                    <a:pt x="817" y="818"/>
                  </a:lnTo>
                  <a:lnTo>
                    <a:pt x="815" y="788"/>
                  </a:lnTo>
                  <a:lnTo>
                    <a:pt x="812" y="758"/>
                  </a:lnTo>
                  <a:lnTo>
                    <a:pt x="809" y="727"/>
                  </a:lnTo>
                  <a:lnTo>
                    <a:pt x="805" y="697"/>
                  </a:lnTo>
                  <a:lnTo>
                    <a:pt x="800" y="667"/>
                  </a:lnTo>
                  <a:lnTo>
                    <a:pt x="793" y="638"/>
                  </a:lnTo>
                  <a:lnTo>
                    <a:pt x="787" y="610"/>
                  </a:lnTo>
                  <a:lnTo>
                    <a:pt x="779" y="584"/>
                  </a:lnTo>
                  <a:lnTo>
                    <a:pt x="771" y="561"/>
                  </a:lnTo>
                  <a:lnTo>
                    <a:pt x="761" y="541"/>
                  </a:lnTo>
                  <a:lnTo>
                    <a:pt x="751" y="524"/>
                  </a:lnTo>
                  <a:lnTo>
                    <a:pt x="748" y="522"/>
                  </a:lnTo>
                  <a:lnTo>
                    <a:pt x="747" y="519"/>
                  </a:lnTo>
                  <a:lnTo>
                    <a:pt x="743" y="516"/>
                  </a:lnTo>
                  <a:lnTo>
                    <a:pt x="740" y="513"/>
                  </a:lnTo>
                  <a:lnTo>
                    <a:pt x="737" y="509"/>
                  </a:lnTo>
                  <a:lnTo>
                    <a:pt x="733" y="505"/>
                  </a:lnTo>
                  <a:lnTo>
                    <a:pt x="729" y="502"/>
                  </a:lnTo>
                  <a:lnTo>
                    <a:pt x="725" y="498"/>
                  </a:lnTo>
                  <a:lnTo>
                    <a:pt x="719" y="495"/>
                  </a:lnTo>
                  <a:lnTo>
                    <a:pt x="716" y="492"/>
                  </a:lnTo>
                  <a:lnTo>
                    <a:pt x="711" y="488"/>
                  </a:lnTo>
                  <a:lnTo>
                    <a:pt x="708" y="485"/>
                  </a:lnTo>
                  <a:lnTo>
                    <a:pt x="704" y="483"/>
                  </a:lnTo>
                  <a:lnTo>
                    <a:pt x="700" y="480"/>
                  </a:lnTo>
                  <a:lnTo>
                    <a:pt x="697" y="478"/>
                  </a:lnTo>
                  <a:lnTo>
                    <a:pt x="694" y="476"/>
                  </a:lnTo>
                  <a:lnTo>
                    <a:pt x="688" y="476"/>
                  </a:lnTo>
                  <a:lnTo>
                    <a:pt x="684" y="474"/>
                  </a:lnTo>
                  <a:lnTo>
                    <a:pt x="678" y="472"/>
                  </a:lnTo>
                  <a:lnTo>
                    <a:pt x="673" y="470"/>
                  </a:lnTo>
                  <a:lnTo>
                    <a:pt x="665" y="470"/>
                  </a:lnTo>
                  <a:lnTo>
                    <a:pt x="660" y="468"/>
                  </a:lnTo>
                  <a:lnTo>
                    <a:pt x="652" y="466"/>
                  </a:lnTo>
                  <a:lnTo>
                    <a:pt x="647" y="465"/>
                  </a:lnTo>
                  <a:lnTo>
                    <a:pt x="639" y="465"/>
                  </a:lnTo>
                  <a:lnTo>
                    <a:pt x="632" y="463"/>
                  </a:lnTo>
                  <a:lnTo>
                    <a:pt x="625" y="462"/>
                  </a:lnTo>
                  <a:lnTo>
                    <a:pt x="620" y="460"/>
                  </a:lnTo>
                  <a:lnTo>
                    <a:pt x="614" y="460"/>
                  </a:lnTo>
                  <a:lnTo>
                    <a:pt x="609" y="458"/>
                  </a:lnTo>
                  <a:lnTo>
                    <a:pt x="604" y="456"/>
                  </a:lnTo>
                  <a:lnTo>
                    <a:pt x="600" y="454"/>
                  </a:lnTo>
                  <a:lnTo>
                    <a:pt x="594" y="452"/>
                  </a:lnTo>
                  <a:lnTo>
                    <a:pt x="588" y="450"/>
                  </a:lnTo>
                  <a:lnTo>
                    <a:pt x="579" y="448"/>
                  </a:lnTo>
                  <a:lnTo>
                    <a:pt x="572" y="445"/>
                  </a:lnTo>
                  <a:lnTo>
                    <a:pt x="562" y="444"/>
                  </a:lnTo>
                  <a:lnTo>
                    <a:pt x="552" y="440"/>
                  </a:lnTo>
                  <a:lnTo>
                    <a:pt x="543" y="437"/>
                  </a:lnTo>
                  <a:lnTo>
                    <a:pt x="534" y="434"/>
                  </a:lnTo>
                  <a:lnTo>
                    <a:pt x="523" y="431"/>
                  </a:lnTo>
                  <a:lnTo>
                    <a:pt x="514" y="427"/>
                  </a:lnTo>
                  <a:lnTo>
                    <a:pt x="504" y="424"/>
                  </a:lnTo>
                  <a:lnTo>
                    <a:pt x="497" y="420"/>
                  </a:lnTo>
                  <a:lnTo>
                    <a:pt x="489" y="416"/>
                  </a:lnTo>
                  <a:lnTo>
                    <a:pt x="484" y="412"/>
                  </a:lnTo>
                  <a:lnTo>
                    <a:pt x="479" y="408"/>
                  </a:lnTo>
                  <a:lnTo>
                    <a:pt x="476" y="404"/>
                  </a:lnTo>
                  <a:lnTo>
                    <a:pt x="474" y="402"/>
                  </a:lnTo>
                  <a:lnTo>
                    <a:pt x="472" y="400"/>
                  </a:lnTo>
                  <a:lnTo>
                    <a:pt x="470" y="398"/>
                  </a:lnTo>
                  <a:lnTo>
                    <a:pt x="469" y="395"/>
                  </a:lnTo>
                  <a:lnTo>
                    <a:pt x="467" y="394"/>
                  </a:lnTo>
                  <a:lnTo>
                    <a:pt x="466" y="392"/>
                  </a:lnTo>
                  <a:lnTo>
                    <a:pt x="466" y="390"/>
                  </a:lnTo>
                  <a:lnTo>
                    <a:pt x="466" y="386"/>
                  </a:lnTo>
                  <a:lnTo>
                    <a:pt x="466" y="384"/>
                  </a:lnTo>
                  <a:lnTo>
                    <a:pt x="466" y="382"/>
                  </a:lnTo>
                  <a:lnTo>
                    <a:pt x="466" y="380"/>
                  </a:lnTo>
                  <a:lnTo>
                    <a:pt x="466" y="378"/>
                  </a:lnTo>
                  <a:lnTo>
                    <a:pt x="466" y="376"/>
                  </a:lnTo>
                  <a:lnTo>
                    <a:pt x="468" y="373"/>
                  </a:lnTo>
                  <a:lnTo>
                    <a:pt x="469" y="371"/>
                  </a:lnTo>
                  <a:lnTo>
                    <a:pt x="471" y="367"/>
                  </a:lnTo>
                  <a:lnTo>
                    <a:pt x="472" y="366"/>
                  </a:lnTo>
                  <a:lnTo>
                    <a:pt x="474" y="364"/>
                  </a:lnTo>
                  <a:lnTo>
                    <a:pt x="475" y="360"/>
                  </a:lnTo>
                  <a:lnTo>
                    <a:pt x="479" y="356"/>
                  </a:lnTo>
                  <a:lnTo>
                    <a:pt x="483" y="352"/>
                  </a:lnTo>
                  <a:lnTo>
                    <a:pt x="486" y="347"/>
                  </a:lnTo>
                  <a:lnTo>
                    <a:pt x="490" y="344"/>
                  </a:lnTo>
                  <a:lnTo>
                    <a:pt x="494" y="338"/>
                  </a:lnTo>
                  <a:lnTo>
                    <a:pt x="497" y="334"/>
                  </a:lnTo>
                  <a:lnTo>
                    <a:pt x="501" y="329"/>
                  </a:lnTo>
                  <a:lnTo>
                    <a:pt x="505" y="326"/>
                  </a:lnTo>
                  <a:lnTo>
                    <a:pt x="509" y="320"/>
                  </a:lnTo>
                  <a:lnTo>
                    <a:pt x="511" y="318"/>
                  </a:lnTo>
                  <a:lnTo>
                    <a:pt x="514" y="314"/>
                  </a:lnTo>
                  <a:lnTo>
                    <a:pt x="516" y="312"/>
                  </a:lnTo>
                  <a:lnTo>
                    <a:pt x="518" y="309"/>
                  </a:lnTo>
                  <a:lnTo>
                    <a:pt x="519" y="307"/>
                  </a:lnTo>
                  <a:lnTo>
                    <a:pt x="521" y="303"/>
                  </a:lnTo>
                  <a:lnTo>
                    <a:pt x="523" y="299"/>
                  </a:lnTo>
                  <a:lnTo>
                    <a:pt x="525" y="294"/>
                  </a:lnTo>
                  <a:lnTo>
                    <a:pt x="527" y="290"/>
                  </a:lnTo>
                  <a:lnTo>
                    <a:pt x="530" y="285"/>
                  </a:lnTo>
                  <a:lnTo>
                    <a:pt x="532" y="280"/>
                  </a:lnTo>
                  <a:lnTo>
                    <a:pt x="535" y="274"/>
                  </a:lnTo>
                  <a:lnTo>
                    <a:pt x="537" y="270"/>
                  </a:lnTo>
                  <a:lnTo>
                    <a:pt x="539" y="265"/>
                  </a:lnTo>
                  <a:lnTo>
                    <a:pt x="541" y="260"/>
                  </a:lnTo>
                  <a:lnTo>
                    <a:pt x="543" y="254"/>
                  </a:lnTo>
                  <a:lnTo>
                    <a:pt x="544" y="251"/>
                  </a:lnTo>
                  <a:lnTo>
                    <a:pt x="545" y="246"/>
                  </a:lnTo>
                  <a:lnTo>
                    <a:pt x="546" y="242"/>
                  </a:lnTo>
                  <a:lnTo>
                    <a:pt x="547" y="239"/>
                  </a:lnTo>
                  <a:lnTo>
                    <a:pt x="546" y="234"/>
                  </a:lnTo>
                  <a:lnTo>
                    <a:pt x="546" y="227"/>
                  </a:lnTo>
                  <a:lnTo>
                    <a:pt x="545" y="219"/>
                  </a:lnTo>
                  <a:lnTo>
                    <a:pt x="545" y="209"/>
                  </a:lnTo>
                  <a:lnTo>
                    <a:pt x="544" y="198"/>
                  </a:lnTo>
                  <a:lnTo>
                    <a:pt x="542" y="187"/>
                  </a:lnTo>
                  <a:lnTo>
                    <a:pt x="541" y="176"/>
                  </a:lnTo>
                  <a:lnTo>
                    <a:pt x="541" y="163"/>
                  </a:lnTo>
                  <a:lnTo>
                    <a:pt x="539" y="152"/>
                  </a:lnTo>
                  <a:lnTo>
                    <a:pt x="537" y="141"/>
                  </a:lnTo>
                  <a:lnTo>
                    <a:pt x="535" y="130"/>
                  </a:lnTo>
                  <a:lnTo>
                    <a:pt x="533" y="119"/>
                  </a:lnTo>
                  <a:lnTo>
                    <a:pt x="531" y="111"/>
                  </a:lnTo>
                  <a:lnTo>
                    <a:pt x="529" y="102"/>
                  </a:lnTo>
                  <a:lnTo>
                    <a:pt x="527" y="96"/>
                  </a:lnTo>
                  <a:lnTo>
                    <a:pt x="525" y="90"/>
                  </a:lnTo>
                  <a:lnTo>
                    <a:pt x="521" y="86"/>
                  </a:lnTo>
                  <a:lnTo>
                    <a:pt x="517" y="81"/>
                  </a:lnTo>
                  <a:lnTo>
                    <a:pt x="512" y="75"/>
                  </a:lnTo>
                  <a:lnTo>
                    <a:pt x="506" y="68"/>
                  </a:lnTo>
                  <a:lnTo>
                    <a:pt x="499" y="63"/>
                  </a:lnTo>
                  <a:lnTo>
                    <a:pt x="491" y="55"/>
                  </a:lnTo>
                  <a:lnTo>
                    <a:pt x="483" y="48"/>
                  </a:lnTo>
                  <a:lnTo>
                    <a:pt x="475" y="41"/>
                  </a:lnTo>
                  <a:lnTo>
                    <a:pt x="466" y="35"/>
                  </a:lnTo>
                  <a:lnTo>
                    <a:pt x="459" y="28"/>
                  </a:lnTo>
                  <a:lnTo>
                    <a:pt x="450" y="22"/>
                  </a:lnTo>
                  <a:lnTo>
                    <a:pt x="443" y="16"/>
                  </a:lnTo>
                  <a:lnTo>
                    <a:pt x="435" y="12"/>
                  </a:lnTo>
                  <a:lnTo>
                    <a:pt x="428" y="7"/>
                  </a:lnTo>
                  <a:lnTo>
                    <a:pt x="423" y="4"/>
                  </a:lnTo>
                  <a:lnTo>
                    <a:pt x="418" y="1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3" y="0"/>
                  </a:lnTo>
                  <a:lnTo>
                    <a:pt x="398" y="0"/>
                  </a:lnTo>
                  <a:lnTo>
                    <a:pt x="393" y="2"/>
                  </a:lnTo>
                  <a:lnTo>
                    <a:pt x="387" y="3"/>
                  </a:lnTo>
                  <a:lnTo>
                    <a:pt x="381" y="5"/>
                  </a:lnTo>
                  <a:lnTo>
                    <a:pt x="377" y="5"/>
                  </a:lnTo>
                  <a:lnTo>
                    <a:pt x="371" y="7"/>
                  </a:lnTo>
                  <a:lnTo>
                    <a:pt x="368" y="8"/>
                  </a:lnTo>
                  <a:lnTo>
                    <a:pt x="365" y="10"/>
                  </a:lnTo>
                  <a:lnTo>
                    <a:pt x="363" y="12"/>
                  </a:lnTo>
                  <a:lnTo>
                    <a:pt x="361" y="14"/>
                  </a:lnTo>
                  <a:lnTo>
                    <a:pt x="362" y="15"/>
                  </a:lnTo>
                  <a:lnTo>
                    <a:pt x="363" y="16"/>
                  </a:lnTo>
                  <a:lnTo>
                    <a:pt x="368" y="16"/>
                  </a:lnTo>
                  <a:lnTo>
                    <a:pt x="368" y="17"/>
                  </a:lnTo>
                  <a:lnTo>
                    <a:pt x="368" y="16"/>
                  </a:lnTo>
                  <a:lnTo>
                    <a:pt x="367" y="15"/>
                  </a:lnTo>
                  <a:lnTo>
                    <a:pt x="366" y="14"/>
                  </a:lnTo>
                  <a:lnTo>
                    <a:pt x="362" y="12"/>
                  </a:lnTo>
                  <a:lnTo>
                    <a:pt x="359" y="10"/>
                  </a:lnTo>
                  <a:lnTo>
                    <a:pt x="356" y="8"/>
                  </a:lnTo>
                  <a:lnTo>
                    <a:pt x="352" y="6"/>
                  </a:lnTo>
                  <a:lnTo>
                    <a:pt x="347" y="5"/>
                  </a:lnTo>
                  <a:lnTo>
                    <a:pt x="341" y="4"/>
                  </a:lnTo>
                  <a:lnTo>
                    <a:pt x="336" y="3"/>
                  </a:lnTo>
                  <a:lnTo>
                    <a:pt x="332" y="1"/>
                  </a:lnTo>
                  <a:lnTo>
                    <a:pt x="327" y="1"/>
                  </a:lnTo>
                  <a:lnTo>
                    <a:pt x="323" y="1"/>
                  </a:lnTo>
                  <a:lnTo>
                    <a:pt x="318" y="3"/>
                  </a:lnTo>
                  <a:lnTo>
                    <a:pt x="315" y="4"/>
                  </a:lnTo>
                  <a:lnTo>
                    <a:pt x="311" y="7"/>
                  </a:lnTo>
                  <a:lnTo>
                    <a:pt x="307" y="8"/>
                  </a:lnTo>
                  <a:lnTo>
                    <a:pt x="301" y="12"/>
                  </a:lnTo>
                  <a:lnTo>
                    <a:pt x="297" y="16"/>
                  </a:lnTo>
                  <a:lnTo>
                    <a:pt x="289" y="22"/>
                  </a:lnTo>
                  <a:lnTo>
                    <a:pt x="283" y="26"/>
                  </a:lnTo>
                  <a:lnTo>
                    <a:pt x="275" y="32"/>
                  </a:lnTo>
                  <a:lnTo>
                    <a:pt x="270" y="35"/>
                  </a:lnTo>
                  <a:lnTo>
                    <a:pt x="262" y="41"/>
                  </a:lnTo>
                  <a:lnTo>
                    <a:pt x="255" y="46"/>
                  </a:lnTo>
                  <a:lnTo>
                    <a:pt x="249" y="52"/>
                  </a:lnTo>
                  <a:lnTo>
                    <a:pt x="243" y="56"/>
                  </a:lnTo>
                  <a:lnTo>
                    <a:pt x="238" y="62"/>
                  </a:lnTo>
                  <a:lnTo>
                    <a:pt x="233" y="65"/>
                  </a:lnTo>
                  <a:lnTo>
                    <a:pt x="230" y="69"/>
                  </a:lnTo>
                  <a:lnTo>
                    <a:pt x="228" y="71"/>
                  </a:lnTo>
                  <a:lnTo>
                    <a:pt x="226" y="75"/>
                  </a:lnTo>
                  <a:lnTo>
                    <a:pt x="225" y="81"/>
                  </a:lnTo>
                  <a:lnTo>
                    <a:pt x="224" y="88"/>
                  </a:lnTo>
                  <a:lnTo>
                    <a:pt x="224" y="96"/>
                  </a:lnTo>
                  <a:lnTo>
                    <a:pt x="223" y="105"/>
                  </a:lnTo>
                  <a:lnTo>
                    <a:pt x="223" y="114"/>
                  </a:lnTo>
                  <a:lnTo>
                    <a:pt x="223" y="126"/>
                  </a:lnTo>
                  <a:lnTo>
                    <a:pt x="223" y="135"/>
                  </a:lnTo>
                  <a:lnTo>
                    <a:pt x="223" y="146"/>
                  </a:lnTo>
                  <a:lnTo>
                    <a:pt x="223" y="157"/>
                  </a:lnTo>
                  <a:lnTo>
                    <a:pt x="223" y="167"/>
                  </a:lnTo>
                  <a:lnTo>
                    <a:pt x="223" y="176"/>
                  </a:lnTo>
                  <a:lnTo>
                    <a:pt x="223" y="184"/>
                  </a:lnTo>
                  <a:lnTo>
                    <a:pt x="223" y="191"/>
                  </a:lnTo>
                  <a:lnTo>
                    <a:pt x="223" y="196"/>
                  </a:lnTo>
                  <a:lnTo>
                    <a:pt x="223" y="200"/>
                  </a:lnTo>
                  <a:lnTo>
                    <a:pt x="222" y="202"/>
                  </a:lnTo>
                  <a:lnTo>
                    <a:pt x="221" y="204"/>
                  </a:lnTo>
                  <a:lnTo>
                    <a:pt x="219" y="206"/>
                  </a:lnTo>
                  <a:lnTo>
                    <a:pt x="219" y="208"/>
                  </a:lnTo>
                  <a:lnTo>
                    <a:pt x="217" y="210"/>
                  </a:lnTo>
                  <a:lnTo>
                    <a:pt x="216" y="211"/>
                  </a:lnTo>
                  <a:lnTo>
                    <a:pt x="214" y="213"/>
                  </a:lnTo>
                  <a:lnTo>
                    <a:pt x="214" y="214"/>
                  </a:lnTo>
                  <a:lnTo>
                    <a:pt x="212" y="216"/>
                  </a:lnTo>
                  <a:lnTo>
                    <a:pt x="211" y="218"/>
                  </a:lnTo>
                  <a:lnTo>
                    <a:pt x="209" y="220"/>
                  </a:lnTo>
                  <a:lnTo>
                    <a:pt x="209" y="220"/>
                  </a:lnTo>
                  <a:lnTo>
                    <a:pt x="207" y="222"/>
                  </a:lnTo>
                  <a:lnTo>
                    <a:pt x="207" y="224"/>
                  </a:lnTo>
                  <a:lnTo>
                    <a:pt x="207" y="226"/>
                  </a:lnTo>
                  <a:lnTo>
                    <a:pt x="207" y="226"/>
                  </a:lnTo>
                  <a:lnTo>
                    <a:pt x="206" y="230"/>
                  </a:lnTo>
                  <a:lnTo>
                    <a:pt x="206" y="232"/>
                  </a:lnTo>
                  <a:lnTo>
                    <a:pt x="206" y="234"/>
                  </a:lnTo>
                  <a:lnTo>
                    <a:pt x="206" y="236"/>
                  </a:lnTo>
                  <a:lnTo>
                    <a:pt x="205" y="238"/>
                  </a:lnTo>
                  <a:lnTo>
                    <a:pt x="205" y="240"/>
                  </a:lnTo>
                  <a:lnTo>
                    <a:pt x="205" y="242"/>
                  </a:lnTo>
                  <a:lnTo>
                    <a:pt x="205" y="244"/>
                  </a:lnTo>
                  <a:lnTo>
                    <a:pt x="204" y="246"/>
                  </a:lnTo>
                  <a:lnTo>
                    <a:pt x="204" y="248"/>
                  </a:lnTo>
                  <a:lnTo>
                    <a:pt x="204" y="249"/>
                  </a:lnTo>
                  <a:lnTo>
                    <a:pt x="204" y="251"/>
                  </a:lnTo>
                  <a:lnTo>
                    <a:pt x="204" y="254"/>
                  </a:lnTo>
                  <a:lnTo>
                    <a:pt x="204" y="256"/>
                  </a:lnTo>
                  <a:lnTo>
                    <a:pt x="204" y="258"/>
                  </a:lnTo>
                  <a:lnTo>
                    <a:pt x="206" y="259"/>
                  </a:lnTo>
                  <a:lnTo>
                    <a:pt x="206" y="263"/>
                  </a:lnTo>
                  <a:lnTo>
                    <a:pt x="207" y="265"/>
                  </a:lnTo>
                  <a:lnTo>
                    <a:pt x="209" y="269"/>
                  </a:lnTo>
                  <a:lnTo>
                    <a:pt x="212" y="270"/>
                  </a:lnTo>
                  <a:lnTo>
                    <a:pt x="213" y="274"/>
                  </a:lnTo>
                  <a:lnTo>
                    <a:pt x="217" y="278"/>
                  </a:lnTo>
                  <a:lnTo>
                    <a:pt x="220" y="281"/>
                  </a:lnTo>
                  <a:lnTo>
                    <a:pt x="224" y="283"/>
                  </a:lnTo>
                  <a:lnTo>
                    <a:pt x="226" y="287"/>
                  </a:lnTo>
                  <a:lnTo>
                    <a:pt x="230" y="290"/>
                  </a:lnTo>
                  <a:lnTo>
                    <a:pt x="233" y="294"/>
                  </a:lnTo>
                  <a:lnTo>
                    <a:pt x="237" y="296"/>
                  </a:lnTo>
                  <a:lnTo>
                    <a:pt x="239" y="299"/>
                  </a:lnTo>
                  <a:lnTo>
                    <a:pt x="241" y="301"/>
                  </a:lnTo>
                  <a:lnTo>
                    <a:pt x="243" y="303"/>
                  </a:lnTo>
                  <a:lnTo>
                    <a:pt x="245" y="305"/>
                  </a:lnTo>
                  <a:lnTo>
                    <a:pt x="245" y="309"/>
                  </a:lnTo>
                  <a:lnTo>
                    <a:pt x="245" y="310"/>
                  </a:lnTo>
                  <a:lnTo>
                    <a:pt x="246" y="314"/>
                  </a:lnTo>
                  <a:lnTo>
                    <a:pt x="248" y="316"/>
                  </a:lnTo>
                  <a:lnTo>
                    <a:pt x="250" y="319"/>
                  </a:lnTo>
                  <a:lnTo>
                    <a:pt x="251" y="322"/>
                  </a:lnTo>
                  <a:lnTo>
                    <a:pt x="253" y="326"/>
                  </a:lnTo>
                  <a:lnTo>
                    <a:pt x="255" y="327"/>
                  </a:lnTo>
                  <a:lnTo>
                    <a:pt x="257" y="331"/>
                  </a:lnTo>
                  <a:lnTo>
                    <a:pt x="259" y="334"/>
                  </a:lnTo>
                  <a:lnTo>
                    <a:pt x="260" y="337"/>
                  </a:lnTo>
                  <a:lnTo>
                    <a:pt x="262" y="339"/>
                  </a:lnTo>
                  <a:lnTo>
                    <a:pt x="263" y="342"/>
                  </a:lnTo>
                  <a:lnTo>
                    <a:pt x="265" y="344"/>
                  </a:lnTo>
                  <a:lnTo>
                    <a:pt x="265" y="346"/>
                  </a:lnTo>
                  <a:lnTo>
                    <a:pt x="267" y="346"/>
                  </a:lnTo>
                  <a:lnTo>
                    <a:pt x="269" y="350"/>
                  </a:lnTo>
                  <a:lnTo>
                    <a:pt x="271" y="354"/>
                  </a:lnTo>
                  <a:lnTo>
                    <a:pt x="272" y="358"/>
                  </a:lnTo>
                  <a:lnTo>
                    <a:pt x="274" y="360"/>
                  </a:lnTo>
                  <a:lnTo>
                    <a:pt x="274" y="362"/>
                  </a:lnTo>
                  <a:lnTo>
                    <a:pt x="275" y="364"/>
                  </a:lnTo>
                  <a:lnTo>
                    <a:pt x="275" y="366"/>
                  </a:lnTo>
                  <a:lnTo>
                    <a:pt x="275" y="367"/>
                  </a:lnTo>
                  <a:lnTo>
                    <a:pt x="273" y="368"/>
                  </a:lnTo>
                  <a:lnTo>
                    <a:pt x="273" y="369"/>
                  </a:lnTo>
                  <a:lnTo>
                    <a:pt x="273" y="371"/>
                  </a:lnTo>
                  <a:lnTo>
                    <a:pt x="273" y="371"/>
                  </a:lnTo>
                  <a:lnTo>
                    <a:pt x="273" y="373"/>
                  </a:lnTo>
                  <a:lnTo>
                    <a:pt x="273" y="373"/>
                  </a:lnTo>
                  <a:lnTo>
                    <a:pt x="273" y="375"/>
                  </a:lnTo>
                  <a:lnTo>
                    <a:pt x="274" y="375"/>
                  </a:lnTo>
                  <a:lnTo>
                    <a:pt x="274" y="378"/>
                  </a:lnTo>
                  <a:lnTo>
                    <a:pt x="274" y="380"/>
                  </a:lnTo>
                  <a:lnTo>
                    <a:pt x="274" y="383"/>
                  </a:lnTo>
                  <a:lnTo>
                    <a:pt x="275" y="385"/>
                  </a:lnTo>
                  <a:lnTo>
                    <a:pt x="275" y="388"/>
                  </a:lnTo>
                  <a:lnTo>
                    <a:pt x="275" y="392"/>
                  </a:lnTo>
                  <a:lnTo>
                    <a:pt x="275" y="395"/>
                  </a:lnTo>
                  <a:lnTo>
                    <a:pt x="275" y="397"/>
                  </a:lnTo>
                  <a:lnTo>
                    <a:pt x="273" y="401"/>
                  </a:lnTo>
                  <a:lnTo>
                    <a:pt x="273" y="405"/>
                  </a:lnTo>
                  <a:lnTo>
                    <a:pt x="271" y="408"/>
                  </a:lnTo>
                  <a:lnTo>
                    <a:pt x="271" y="410"/>
                  </a:lnTo>
                  <a:lnTo>
                    <a:pt x="270" y="414"/>
                  </a:lnTo>
                  <a:lnTo>
                    <a:pt x="269" y="416"/>
                  </a:lnTo>
                  <a:lnTo>
                    <a:pt x="267" y="418"/>
                  </a:lnTo>
                  <a:lnTo>
                    <a:pt x="265" y="419"/>
                  </a:lnTo>
                  <a:lnTo>
                    <a:pt x="261" y="421"/>
                  </a:lnTo>
                  <a:lnTo>
                    <a:pt x="258" y="422"/>
                  </a:lnTo>
                  <a:lnTo>
                    <a:pt x="254" y="424"/>
                  </a:lnTo>
                  <a:lnTo>
                    <a:pt x="251" y="425"/>
                  </a:lnTo>
                  <a:lnTo>
                    <a:pt x="248" y="426"/>
                  </a:lnTo>
                  <a:lnTo>
                    <a:pt x="244" y="428"/>
                  </a:lnTo>
                  <a:lnTo>
                    <a:pt x="240" y="430"/>
                  </a:lnTo>
                  <a:lnTo>
                    <a:pt x="237" y="432"/>
                  </a:lnTo>
                  <a:lnTo>
                    <a:pt x="232" y="434"/>
                  </a:lnTo>
                  <a:lnTo>
                    <a:pt x="229" y="435"/>
                  </a:lnTo>
                  <a:lnTo>
                    <a:pt x="225" y="437"/>
                  </a:lnTo>
                  <a:lnTo>
                    <a:pt x="221" y="439"/>
                  </a:lnTo>
                  <a:lnTo>
                    <a:pt x="217" y="441"/>
                  </a:lnTo>
                  <a:lnTo>
                    <a:pt x="214" y="442"/>
                  </a:lnTo>
                  <a:lnTo>
                    <a:pt x="211" y="444"/>
                  </a:lnTo>
                  <a:lnTo>
                    <a:pt x="209" y="444"/>
                  </a:lnTo>
                  <a:lnTo>
                    <a:pt x="204" y="445"/>
                  </a:lnTo>
                  <a:lnTo>
                    <a:pt x="200" y="445"/>
                  </a:lnTo>
                  <a:lnTo>
                    <a:pt x="193" y="446"/>
                  </a:lnTo>
                  <a:lnTo>
                    <a:pt x="188" y="446"/>
                  </a:lnTo>
                  <a:lnTo>
                    <a:pt x="181" y="446"/>
                  </a:lnTo>
                  <a:lnTo>
                    <a:pt x="173" y="446"/>
                  </a:lnTo>
                  <a:lnTo>
                    <a:pt x="166" y="446"/>
                  </a:lnTo>
                  <a:lnTo>
                    <a:pt x="159" y="446"/>
                  </a:lnTo>
                  <a:lnTo>
                    <a:pt x="149" y="448"/>
                  </a:lnTo>
                  <a:lnTo>
                    <a:pt x="142" y="448"/>
                  </a:lnTo>
                  <a:lnTo>
                    <a:pt x="134" y="448"/>
                  </a:lnTo>
                  <a:lnTo>
                    <a:pt x="127" y="448"/>
                  </a:lnTo>
                  <a:lnTo>
                    <a:pt x="119" y="450"/>
                  </a:lnTo>
                  <a:lnTo>
                    <a:pt x="112" y="450"/>
                  </a:lnTo>
                  <a:lnTo>
                    <a:pt x="105" y="452"/>
                  </a:lnTo>
                  <a:lnTo>
                    <a:pt x="99" y="452"/>
                  </a:lnTo>
                  <a:lnTo>
                    <a:pt x="94" y="454"/>
                  </a:lnTo>
                  <a:lnTo>
                    <a:pt x="91" y="456"/>
                  </a:lnTo>
                  <a:lnTo>
                    <a:pt x="86" y="458"/>
                  </a:lnTo>
                  <a:lnTo>
                    <a:pt x="83" y="459"/>
                  </a:lnTo>
                  <a:lnTo>
                    <a:pt x="77" y="462"/>
                  </a:lnTo>
                  <a:lnTo>
                    <a:pt x="73" y="464"/>
                  </a:lnTo>
                  <a:lnTo>
                    <a:pt x="68" y="466"/>
                  </a:lnTo>
                  <a:lnTo>
                    <a:pt x="64" y="468"/>
                  </a:lnTo>
                  <a:lnTo>
                    <a:pt x="59" y="471"/>
                  </a:lnTo>
                  <a:lnTo>
                    <a:pt x="55" y="473"/>
                  </a:lnTo>
                  <a:lnTo>
                    <a:pt x="51" y="475"/>
                  </a:lnTo>
                  <a:lnTo>
                    <a:pt x="47" y="476"/>
                  </a:lnTo>
                  <a:lnTo>
                    <a:pt x="44" y="478"/>
                  </a:lnTo>
                  <a:lnTo>
                    <a:pt x="41" y="480"/>
                  </a:lnTo>
                  <a:lnTo>
                    <a:pt x="39" y="482"/>
                  </a:lnTo>
                  <a:lnTo>
                    <a:pt x="37" y="483"/>
                  </a:lnTo>
                  <a:lnTo>
                    <a:pt x="33" y="486"/>
                  </a:lnTo>
                  <a:lnTo>
                    <a:pt x="31" y="490"/>
                  </a:lnTo>
                  <a:lnTo>
                    <a:pt x="29" y="495"/>
                  </a:lnTo>
                  <a:lnTo>
                    <a:pt x="27" y="500"/>
                  </a:lnTo>
                  <a:lnTo>
                    <a:pt x="24" y="507"/>
                  </a:lnTo>
                  <a:lnTo>
                    <a:pt x="22" y="513"/>
                  </a:lnTo>
                  <a:lnTo>
                    <a:pt x="20" y="521"/>
                  </a:lnTo>
                  <a:lnTo>
                    <a:pt x="18" y="526"/>
                  </a:lnTo>
                  <a:lnTo>
                    <a:pt x="16" y="534"/>
                  </a:lnTo>
                  <a:lnTo>
                    <a:pt x="15" y="542"/>
                  </a:lnTo>
                  <a:lnTo>
                    <a:pt x="13" y="548"/>
                  </a:lnTo>
                  <a:lnTo>
                    <a:pt x="11" y="554"/>
                  </a:lnTo>
                  <a:lnTo>
                    <a:pt x="9" y="560"/>
                  </a:lnTo>
                  <a:lnTo>
                    <a:pt x="9" y="565"/>
                  </a:lnTo>
                  <a:lnTo>
                    <a:pt x="8" y="569"/>
                  </a:lnTo>
                  <a:lnTo>
                    <a:pt x="8" y="572"/>
                  </a:lnTo>
                  <a:lnTo>
                    <a:pt x="6" y="580"/>
                  </a:lnTo>
                  <a:lnTo>
                    <a:pt x="5" y="588"/>
                  </a:lnTo>
                  <a:lnTo>
                    <a:pt x="3" y="598"/>
                  </a:lnTo>
                  <a:lnTo>
                    <a:pt x="3" y="607"/>
                  </a:lnTo>
                  <a:lnTo>
                    <a:pt x="1" y="618"/>
                  </a:lnTo>
                  <a:lnTo>
                    <a:pt x="1" y="629"/>
                  </a:lnTo>
                  <a:lnTo>
                    <a:pt x="1" y="640"/>
                  </a:lnTo>
                  <a:lnTo>
                    <a:pt x="1" y="651"/>
                  </a:lnTo>
                  <a:lnTo>
                    <a:pt x="0" y="664"/>
                  </a:lnTo>
                  <a:lnTo>
                    <a:pt x="0" y="675"/>
                  </a:lnTo>
                  <a:lnTo>
                    <a:pt x="0" y="686"/>
                  </a:lnTo>
                  <a:lnTo>
                    <a:pt x="0" y="696"/>
                  </a:lnTo>
                  <a:lnTo>
                    <a:pt x="0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0"/>
                  </a:lnTo>
                  <a:lnTo>
                    <a:pt x="0" y="742"/>
                  </a:lnTo>
                  <a:lnTo>
                    <a:pt x="0" y="753"/>
                  </a:lnTo>
                  <a:lnTo>
                    <a:pt x="0" y="766"/>
                  </a:lnTo>
                  <a:lnTo>
                    <a:pt x="1" y="778"/>
                  </a:lnTo>
                  <a:lnTo>
                    <a:pt x="1" y="792"/>
                  </a:lnTo>
                  <a:lnTo>
                    <a:pt x="3" y="805"/>
                  </a:lnTo>
                  <a:lnTo>
                    <a:pt x="3" y="818"/>
                  </a:lnTo>
                  <a:lnTo>
                    <a:pt x="5" y="831"/>
                  </a:lnTo>
                  <a:lnTo>
                    <a:pt x="5" y="845"/>
                  </a:lnTo>
                  <a:lnTo>
                    <a:pt x="5" y="858"/>
                  </a:lnTo>
                  <a:lnTo>
                    <a:pt x="5" y="872"/>
                  </a:lnTo>
                  <a:lnTo>
                    <a:pt x="7" y="885"/>
                  </a:lnTo>
                  <a:lnTo>
                    <a:pt x="7" y="898"/>
                  </a:lnTo>
                  <a:lnTo>
                    <a:pt x="7" y="910"/>
                  </a:lnTo>
                  <a:lnTo>
                    <a:pt x="7" y="921"/>
                  </a:lnTo>
                  <a:lnTo>
                    <a:pt x="8" y="932"/>
                  </a:lnTo>
                  <a:lnTo>
                    <a:pt x="17" y="933"/>
                  </a:lnTo>
                  <a:lnTo>
                    <a:pt x="43" y="934"/>
                  </a:lnTo>
                  <a:lnTo>
                    <a:pt x="83" y="936"/>
                  </a:lnTo>
                  <a:lnTo>
                    <a:pt x="135" y="936"/>
                  </a:lnTo>
                  <a:lnTo>
                    <a:pt x="196" y="937"/>
                  </a:lnTo>
                  <a:lnTo>
                    <a:pt x="265" y="937"/>
                  </a:lnTo>
                  <a:lnTo>
                    <a:pt x="338" y="937"/>
                  </a:lnTo>
                  <a:lnTo>
                    <a:pt x="415" y="937"/>
                  </a:lnTo>
                  <a:lnTo>
                    <a:pt x="490" y="937"/>
                  </a:lnTo>
                  <a:lnTo>
                    <a:pt x="563" y="937"/>
                  </a:lnTo>
                  <a:lnTo>
                    <a:pt x="632" y="937"/>
                  </a:lnTo>
                  <a:lnTo>
                    <a:pt x="695" y="936"/>
                  </a:lnTo>
                  <a:lnTo>
                    <a:pt x="747" y="936"/>
                  </a:lnTo>
                  <a:lnTo>
                    <a:pt x="787" y="936"/>
                  </a:lnTo>
                  <a:lnTo>
                    <a:pt x="813" y="936"/>
                  </a:lnTo>
                  <a:lnTo>
                    <a:pt x="823" y="934"/>
                  </a:lnTo>
                  <a:lnTo>
                    <a:pt x="823" y="93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78120" y="6550200"/>
              <a:ext cx="1266840" cy="1131840"/>
            </a:xfrm>
            <a:custGeom>
              <a:avLst/>
              <a:gdLst/>
              <a:ahLst/>
              <a:rect l="l" t="t" r="r" b="b"/>
              <a:pathLst>
                <a:path w="798" h="713">
                  <a:moveTo>
                    <a:pt x="0" y="712"/>
                  </a:moveTo>
                  <a:lnTo>
                    <a:pt x="13" y="656"/>
                  </a:lnTo>
                  <a:lnTo>
                    <a:pt x="20" y="567"/>
                  </a:lnTo>
                  <a:lnTo>
                    <a:pt x="41" y="532"/>
                  </a:lnTo>
                  <a:lnTo>
                    <a:pt x="85" y="510"/>
                  </a:lnTo>
                  <a:lnTo>
                    <a:pt x="140" y="482"/>
                  </a:lnTo>
                  <a:lnTo>
                    <a:pt x="204" y="458"/>
                  </a:lnTo>
                  <a:lnTo>
                    <a:pt x="228" y="424"/>
                  </a:lnTo>
                  <a:lnTo>
                    <a:pt x="229" y="406"/>
                  </a:lnTo>
                  <a:lnTo>
                    <a:pt x="191" y="389"/>
                  </a:lnTo>
                  <a:lnTo>
                    <a:pt x="145" y="354"/>
                  </a:lnTo>
                  <a:lnTo>
                    <a:pt x="145" y="286"/>
                  </a:lnTo>
                  <a:lnTo>
                    <a:pt x="163" y="166"/>
                  </a:lnTo>
                  <a:lnTo>
                    <a:pt x="179" y="80"/>
                  </a:lnTo>
                  <a:lnTo>
                    <a:pt x="239" y="18"/>
                  </a:lnTo>
                  <a:lnTo>
                    <a:pt x="277" y="0"/>
                  </a:lnTo>
                  <a:lnTo>
                    <a:pt x="314" y="5"/>
                  </a:lnTo>
                  <a:lnTo>
                    <a:pt x="349" y="9"/>
                  </a:lnTo>
                  <a:lnTo>
                    <a:pt x="365" y="0"/>
                  </a:lnTo>
                  <a:lnTo>
                    <a:pt x="441" y="38"/>
                  </a:lnTo>
                  <a:lnTo>
                    <a:pt x="501" y="148"/>
                  </a:lnTo>
                  <a:lnTo>
                    <a:pt x="540" y="242"/>
                  </a:lnTo>
                  <a:lnTo>
                    <a:pt x="540" y="329"/>
                  </a:lnTo>
                  <a:lnTo>
                    <a:pt x="501" y="387"/>
                  </a:lnTo>
                  <a:lnTo>
                    <a:pt x="457" y="410"/>
                  </a:lnTo>
                  <a:lnTo>
                    <a:pt x="473" y="430"/>
                  </a:lnTo>
                  <a:lnTo>
                    <a:pt x="549" y="474"/>
                  </a:lnTo>
                  <a:lnTo>
                    <a:pt x="643" y="482"/>
                  </a:lnTo>
                  <a:lnTo>
                    <a:pt x="694" y="505"/>
                  </a:lnTo>
                  <a:lnTo>
                    <a:pt x="735" y="532"/>
                  </a:lnTo>
                  <a:lnTo>
                    <a:pt x="753" y="581"/>
                  </a:lnTo>
                  <a:lnTo>
                    <a:pt x="779" y="636"/>
                  </a:lnTo>
                  <a:lnTo>
                    <a:pt x="797" y="712"/>
                  </a:lnTo>
                  <a:lnTo>
                    <a:pt x="0" y="712"/>
                  </a:lnTo>
                  <a:lnTo>
                    <a:pt x="0" y="712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35600" y="6454800"/>
              <a:ext cx="1336680" cy="1224000"/>
            </a:xfrm>
            <a:custGeom>
              <a:avLst/>
              <a:gdLst/>
              <a:ahLst/>
              <a:rect l="l" t="t" r="r" b="b"/>
              <a:pathLst>
                <a:path w="842" h="771">
                  <a:moveTo>
                    <a:pt x="0" y="770"/>
                  </a:moveTo>
                  <a:lnTo>
                    <a:pt x="17" y="596"/>
                  </a:lnTo>
                  <a:lnTo>
                    <a:pt x="42" y="555"/>
                  </a:lnTo>
                  <a:lnTo>
                    <a:pt x="79" y="495"/>
                  </a:lnTo>
                  <a:lnTo>
                    <a:pt x="119" y="489"/>
                  </a:lnTo>
                  <a:lnTo>
                    <a:pt x="203" y="475"/>
                  </a:lnTo>
                  <a:lnTo>
                    <a:pt x="244" y="462"/>
                  </a:lnTo>
                  <a:lnTo>
                    <a:pt x="279" y="443"/>
                  </a:lnTo>
                  <a:lnTo>
                    <a:pt x="292" y="392"/>
                  </a:lnTo>
                  <a:lnTo>
                    <a:pt x="251" y="323"/>
                  </a:lnTo>
                  <a:lnTo>
                    <a:pt x="223" y="314"/>
                  </a:lnTo>
                  <a:lnTo>
                    <a:pt x="201" y="243"/>
                  </a:lnTo>
                  <a:lnTo>
                    <a:pt x="216" y="222"/>
                  </a:lnTo>
                  <a:lnTo>
                    <a:pt x="207" y="150"/>
                  </a:lnTo>
                  <a:lnTo>
                    <a:pt x="211" y="78"/>
                  </a:lnTo>
                  <a:lnTo>
                    <a:pt x="239" y="52"/>
                  </a:lnTo>
                  <a:lnTo>
                    <a:pt x="299" y="7"/>
                  </a:lnTo>
                  <a:lnTo>
                    <a:pt x="347" y="0"/>
                  </a:lnTo>
                  <a:lnTo>
                    <a:pt x="409" y="0"/>
                  </a:lnTo>
                  <a:lnTo>
                    <a:pt x="457" y="17"/>
                  </a:lnTo>
                  <a:lnTo>
                    <a:pt x="496" y="52"/>
                  </a:lnTo>
                  <a:lnTo>
                    <a:pt x="524" y="112"/>
                  </a:lnTo>
                  <a:lnTo>
                    <a:pt x="534" y="159"/>
                  </a:lnTo>
                  <a:lnTo>
                    <a:pt x="534" y="203"/>
                  </a:lnTo>
                  <a:lnTo>
                    <a:pt x="557" y="211"/>
                  </a:lnTo>
                  <a:lnTo>
                    <a:pt x="550" y="280"/>
                  </a:lnTo>
                  <a:lnTo>
                    <a:pt x="515" y="292"/>
                  </a:lnTo>
                  <a:lnTo>
                    <a:pt x="506" y="334"/>
                  </a:lnTo>
                  <a:lnTo>
                    <a:pt x="493" y="381"/>
                  </a:lnTo>
                  <a:lnTo>
                    <a:pt x="501" y="418"/>
                  </a:lnTo>
                  <a:lnTo>
                    <a:pt x="545" y="443"/>
                  </a:lnTo>
                  <a:lnTo>
                    <a:pt x="602" y="457"/>
                  </a:lnTo>
                  <a:lnTo>
                    <a:pt x="687" y="467"/>
                  </a:lnTo>
                  <a:lnTo>
                    <a:pt x="748" y="472"/>
                  </a:lnTo>
                  <a:lnTo>
                    <a:pt x="779" y="512"/>
                  </a:lnTo>
                  <a:lnTo>
                    <a:pt x="801" y="546"/>
                  </a:lnTo>
                  <a:lnTo>
                    <a:pt x="841" y="761"/>
                  </a:lnTo>
                  <a:lnTo>
                    <a:pt x="0" y="770"/>
                  </a:lnTo>
                  <a:lnTo>
                    <a:pt x="0" y="77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02440" y="6450120"/>
              <a:ext cx="1216080" cy="1217520"/>
            </a:xfrm>
            <a:custGeom>
              <a:avLst/>
              <a:gdLst/>
              <a:ahLst/>
              <a:rect l="l" t="t" r="r" b="b"/>
              <a:pathLst>
                <a:path w="766" h="767">
                  <a:moveTo>
                    <a:pt x="0" y="764"/>
                  </a:moveTo>
                  <a:lnTo>
                    <a:pt x="18" y="603"/>
                  </a:lnTo>
                  <a:lnTo>
                    <a:pt x="48" y="527"/>
                  </a:lnTo>
                  <a:lnTo>
                    <a:pt x="130" y="485"/>
                  </a:lnTo>
                  <a:lnTo>
                    <a:pt x="213" y="470"/>
                  </a:lnTo>
                  <a:lnTo>
                    <a:pt x="281" y="452"/>
                  </a:lnTo>
                  <a:lnTo>
                    <a:pt x="307" y="415"/>
                  </a:lnTo>
                  <a:lnTo>
                    <a:pt x="312" y="357"/>
                  </a:lnTo>
                  <a:lnTo>
                    <a:pt x="282" y="337"/>
                  </a:lnTo>
                  <a:lnTo>
                    <a:pt x="259" y="311"/>
                  </a:lnTo>
                  <a:lnTo>
                    <a:pt x="255" y="295"/>
                  </a:lnTo>
                  <a:lnTo>
                    <a:pt x="241" y="234"/>
                  </a:lnTo>
                  <a:lnTo>
                    <a:pt x="243" y="234"/>
                  </a:lnTo>
                  <a:lnTo>
                    <a:pt x="225" y="188"/>
                  </a:lnTo>
                  <a:lnTo>
                    <a:pt x="245" y="109"/>
                  </a:lnTo>
                  <a:lnTo>
                    <a:pt x="289" y="72"/>
                  </a:lnTo>
                  <a:lnTo>
                    <a:pt x="339" y="20"/>
                  </a:lnTo>
                  <a:lnTo>
                    <a:pt x="438" y="0"/>
                  </a:lnTo>
                  <a:lnTo>
                    <a:pt x="516" y="27"/>
                  </a:lnTo>
                  <a:lnTo>
                    <a:pt x="556" y="59"/>
                  </a:lnTo>
                  <a:lnTo>
                    <a:pt x="586" y="81"/>
                  </a:lnTo>
                  <a:lnTo>
                    <a:pt x="593" y="115"/>
                  </a:lnTo>
                  <a:lnTo>
                    <a:pt x="615" y="138"/>
                  </a:lnTo>
                  <a:lnTo>
                    <a:pt x="620" y="175"/>
                  </a:lnTo>
                  <a:lnTo>
                    <a:pt x="596" y="229"/>
                  </a:lnTo>
                  <a:lnTo>
                    <a:pt x="601" y="269"/>
                  </a:lnTo>
                  <a:lnTo>
                    <a:pt x="576" y="305"/>
                  </a:lnTo>
                  <a:lnTo>
                    <a:pt x="557" y="317"/>
                  </a:lnTo>
                  <a:lnTo>
                    <a:pt x="557" y="337"/>
                  </a:lnTo>
                  <a:lnTo>
                    <a:pt x="512" y="373"/>
                  </a:lnTo>
                  <a:lnTo>
                    <a:pt x="523" y="441"/>
                  </a:lnTo>
                  <a:lnTo>
                    <a:pt x="571" y="489"/>
                  </a:lnTo>
                  <a:lnTo>
                    <a:pt x="647" y="510"/>
                  </a:lnTo>
                  <a:lnTo>
                    <a:pt x="732" y="537"/>
                  </a:lnTo>
                  <a:lnTo>
                    <a:pt x="758" y="576"/>
                  </a:lnTo>
                  <a:lnTo>
                    <a:pt x="761" y="655"/>
                  </a:lnTo>
                  <a:lnTo>
                    <a:pt x="765" y="712"/>
                  </a:lnTo>
                  <a:lnTo>
                    <a:pt x="761" y="766"/>
                  </a:lnTo>
                  <a:lnTo>
                    <a:pt x="0" y="764"/>
                  </a:lnTo>
                  <a:lnTo>
                    <a:pt x="0" y="764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80880" y="369360"/>
            <a:ext cx="929664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sistema competitvo toma como dad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4181400" y="2155680"/>
            <a:ext cx="5724720" cy="2232000"/>
            <a:chOff x="4181400" y="2155680"/>
            <a:chExt cx="5724720" cy="2232000"/>
          </a:xfrm>
        </p:grpSpPr>
        <p:sp>
          <p:nvSpPr>
            <p:cNvPr id="1212" name=""/>
            <p:cNvSpPr/>
            <p:nvPr/>
          </p:nvSpPr>
          <p:spPr>
            <a:xfrm flipH="1">
              <a:off x="4181400" y="3346560"/>
              <a:ext cx="2046240" cy="1041120"/>
            </a:xfrm>
            <a:prstGeom prst="line">
              <a:avLst/>
            </a:prstGeom>
            <a:ln w="12708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6080040" y="2155680"/>
              <a:ext cx="3826080" cy="2192400"/>
              <a:chOff x="6080040" y="2155680"/>
              <a:chExt cx="3826080" cy="2192400"/>
            </a:xfrm>
          </p:grpSpPr>
          <p:sp>
            <p:nvSpPr>
              <p:cNvPr id="1214" name=""/>
              <p:cNvSpPr/>
              <p:nvPr/>
            </p:nvSpPr>
            <p:spPr>
              <a:xfrm flipV="1">
                <a:off x="6080040" y="2155320"/>
                <a:ext cx="3826080" cy="2192400"/>
              </a:xfrm>
              <a:prstGeom prst="roundRect">
                <a:avLst>
                  <a:gd name="adj" fmla="val 113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10000"/>
                  </a:gs>
                </a:gsLst>
                <a:lin ang="13500000"/>
              </a:gradFill>
              <a:ln w="19080">
                <a:solidFill>
                  <a:srgbClr val="810000"/>
                </a:solidFill>
                <a:miter/>
              </a:ln>
              <a:effectLst>
                <a:outerShdw dist="107932" dir="2700000" blurRad="0" rotWithShape="0">
                  <a:srgbClr val="40404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6681960" y="2957400"/>
                <a:ext cx="1819080" cy="64152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188040" y="2288520"/>
                <a:ext cx="1819440" cy="64116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7966080" y="3625200"/>
                <a:ext cx="1819440" cy="64116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8" name=""/>
          <p:cNvSpPr/>
          <p:nvPr/>
        </p:nvSpPr>
        <p:spPr>
          <a:xfrm>
            <a:off x="1273320" y="289080"/>
            <a:ext cx="324324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100" spc="-1" strike="noStrike">
                <a:solidFill>
                  <a:srgbClr val="ffcc99"/>
                </a:solidFill>
                <a:latin typeface="Times New Roman"/>
              </a:rPr>
              <a:t>d</a:t>
            </a:r>
            <a:endParaRPr b="0" lang="en-US" sz="46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4194000" y="4811760"/>
            <a:ext cx="5685120" cy="2192400"/>
            <a:chOff x="4194000" y="4811760"/>
            <a:chExt cx="5685120" cy="2192400"/>
          </a:xfrm>
        </p:grpSpPr>
        <p:sp>
          <p:nvSpPr>
            <p:cNvPr id="1220" name=""/>
            <p:cNvSpPr/>
            <p:nvPr/>
          </p:nvSpPr>
          <p:spPr>
            <a:xfrm flipH="1" flipV="1">
              <a:off x="4194000" y="5337000"/>
              <a:ext cx="1913040" cy="935280"/>
            </a:xfrm>
            <a:prstGeom prst="line">
              <a:avLst/>
            </a:prstGeom>
            <a:ln w="12708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054840" y="4811760"/>
              <a:ext cx="3824280" cy="2192400"/>
              <a:chOff x="6054840" y="4811760"/>
              <a:chExt cx="3824280" cy="2192400"/>
            </a:xfrm>
          </p:grpSpPr>
          <p:sp>
            <p:nvSpPr>
              <p:cNvPr id="1222" name=""/>
              <p:cNvSpPr/>
              <p:nvPr/>
            </p:nvSpPr>
            <p:spPr>
              <a:xfrm flipV="1">
                <a:off x="6054840" y="4811760"/>
                <a:ext cx="3824280" cy="2192400"/>
              </a:xfrm>
              <a:prstGeom prst="roundRect">
                <a:avLst>
                  <a:gd name="adj" fmla="val 113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10000"/>
                  </a:gs>
                </a:gsLst>
                <a:lin ang="13500000"/>
              </a:gradFill>
              <a:ln w="19080">
                <a:solidFill>
                  <a:srgbClr val="810000"/>
                </a:solidFill>
                <a:miter/>
              </a:ln>
              <a:effectLst>
                <a:outerShdw dist="107932" dir="2700000" blurRad="0" rotWithShape="0">
                  <a:srgbClr val="40404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6654960" y="5612760"/>
                <a:ext cx="1819080" cy="64116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6161040" y="4946040"/>
                <a:ext cx="1819440" cy="63972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7939080" y="6281640"/>
                <a:ext cx="1819440" cy="641520"/>
              </a:xfrm>
              <a:prstGeom prst="roundRect">
                <a:avLst>
                  <a:gd name="adj" fmla="val 34208"/>
                </a:avLst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6" name=""/>
          <p:cNvSpPr/>
          <p:nvPr/>
        </p:nvSpPr>
        <p:spPr>
          <a:xfrm>
            <a:off x="64008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0" y="3048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5029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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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58000" y="5638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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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68680" y="2291760"/>
            <a:ext cx="3088080" cy="1153800"/>
          </a:xfrm>
          <a:prstGeom prst="wedgeRoundRectCallout">
            <a:avLst>
              <a:gd name="adj1" fmla="val -88800"/>
              <a:gd name="adj2" fmla="val 117217"/>
              <a:gd name="adj3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tribu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95680" y="1295280"/>
            <a:ext cx="4953240" cy="6477120"/>
          </a:xfrm>
          <a:prstGeom prst="rect">
            <a:avLst/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buClr>
                <a:srgbClr val="ffff00"/>
              </a:buClr>
              <a:buSzPct val="9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la distribución de los recurs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Clr>
                <a:srgbClr val="ffff00"/>
              </a:buClr>
              <a:buSzPct val="9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la participación en la 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552240" y="460080"/>
            <a:ext cx="94532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y a travez del sistema de prec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73320" y="289080"/>
            <a:ext cx="324324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100" spc="-1" strike="noStrike">
                <a:solidFill>
                  <a:srgbClr val="ffcc99"/>
                </a:solidFill>
                <a:latin typeface="Times New Roman"/>
              </a:rPr>
              <a:t>d</a:t>
            </a:r>
            <a:endParaRPr b="0" lang="en-US" sz="4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 rot="10800000">
            <a:off x="63000" y="2589840"/>
            <a:ext cx="1552680" cy="4778280"/>
          </a:xfrm>
          <a:custGeom>
            <a:avLst/>
            <a:gdLst>
              <a:gd name="textAreaLeft" fmla="*/ 52920 w 1552680"/>
              <a:gd name="textAreaRight" fmla="*/ 1499760 w 1552680"/>
              <a:gd name="textAreaTop" fmla="*/ 52920 h 4778280"/>
              <a:gd name="textAreaBottom" fmla="*/ 4725360 h 4778280"/>
            </a:gdLst>
            <a:ahLst/>
            <a:rect l="textAreaLeft" t="textAreaTop" r="textAreaRight" b="textAreaBottom"/>
            <a:pathLst>
              <a:path w="21600" h="66462">
                <a:moveTo>
                  <a:pt x="2524" y="0"/>
                </a:moveTo>
                <a:arcTo wR="2524" hR="2524" stAng="16200000" swAng="-5400000"/>
                <a:lnTo>
                  <a:pt x="0" y="63938"/>
                </a:lnTo>
                <a:arcTo wR="2524" hR="2524" stAng="10800000" swAng="-5400000"/>
                <a:lnTo>
                  <a:pt x="19076" y="66462"/>
                </a:lnTo>
                <a:arcTo wR="2524" hR="2524" stAng="5400000" swAng="-5400000"/>
                <a:lnTo>
                  <a:pt x="21600" y="2524"/>
                </a:lnTo>
                <a:arcTo wR="2524" hR="2524" stAng="0" swAng="-5400000"/>
                <a:close/>
              </a:path>
            </a:pathLst>
          </a:cu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istribución de los recursos y participación en la propie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766880" y="5091120"/>
            <a:ext cx="4471920" cy="1635120"/>
            <a:chOff x="1766880" y="5091120"/>
            <a:chExt cx="4471920" cy="1635120"/>
          </a:xfrm>
        </p:grpSpPr>
        <p:sp>
          <p:nvSpPr>
            <p:cNvPr id="1236" name=""/>
            <p:cNvSpPr/>
            <p:nvPr/>
          </p:nvSpPr>
          <p:spPr>
            <a:xfrm>
              <a:off x="1766880" y="5091120"/>
              <a:ext cx="4471920" cy="1635120"/>
            </a:xfrm>
            <a:custGeom>
              <a:avLst/>
              <a:gdLst/>
              <a:ahLst/>
              <a:rect l="l" t="t" r="r" b="b"/>
              <a:pathLst>
                <a:path w="2817" h="1030">
                  <a:moveTo>
                    <a:pt x="0" y="840"/>
                  </a:moveTo>
                  <a:lnTo>
                    <a:pt x="0" y="840"/>
                  </a:lnTo>
                  <a:lnTo>
                    <a:pt x="2017" y="840"/>
                  </a:lnTo>
                  <a:lnTo>
                    <a:pt x="2017" y="1029"/>
                  </a:lnTo>
                  <a:lnTo>
                    <a:pt x="2816" y="516"/>
                  </a:lnTo>
                  <a:lnTo>
                    <a:pt x="2017" y="0"/>
                  </a:lnTo>
                  <a:lnTo>
                    <a:pt x="2017" y="179"/>
                  </a:lnTo>
                  <a:lnTo>
                    <a:pt x="0" y="179"/>
                  </a:lnTo>
                  <a:lnTo>
                    <a:pt x="0" y="840"/>
                  </a:lnTo>
                  <a:lnTo>
                    <a:pt x="0" y="84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35280" y="5535720"/>
              <a:ext cx="1957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Colonna MT"/>
                </a:rPr>
                <a:t>precio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5410080" y="2211480"/>
            <a:ext cx="4647960" cy="4784760"/>
            <a:chOff x="5410080" y="2211480"/>
            <a:chExt cx="4647960" cy="4784760"/>
          </a:xfrm>
        </p:grpSpPr>
        <p:sp>
          <p:nvSpPr>
            <p:cNvPr id="1239" name=""/>
            <p:cNvSpPr/>
            <p:nvPr/>
          </p:nvSpPr>
          <p:spPr>
            <a:xfrm>
              <a:off x="5410080" y="2211480"/>
              <a:ext cx="4647960" cy="4784760"/>
            </a:xfrm>
            <a:custGeom>
              <a:avLst/>
              <a:gdLst/>
              <a:ahLst/>
              <a:rect l="l" t="t" r="r" b="b"/>
              <a:pathLst>
                <a:path w="2433" h="3014">
                  <a:moveTo>
                    <a:pt x="0" y="0"/>
                  </a:moveTo>
                  <a:lnTo>
                    <a:pt x="0" y="3013"/>
                  </a:lnTo>
                  <a:lnTo>
                    <a:pt x="2432" y="3013"/>
                  </a:lnTo>
                  <a:lnTo>
                    <a:pt x="2432" y="0"/>
                  </a:lnTo>
                  <a:lnTo>
                    <a:pt x="0" y="0"/>
                  </a:lnTo>
                </a:path>
              </a:pathLst>
            </a:custGeom>
            <a:solidFill>
              <a:srgbClr val="ffffc2"/>
            </a:solidFill>
            <a:ln w="1908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54520" y="4025880"/>
              <a:ext cx="26859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Arial"/>
                </a:rPr>
                <a:t>ingresos de los consumido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457200" y="152280"/>
            <a:ext cx="9453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determina una asign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15160" y="1447920"/>
            <a:ext cx="324324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100" spc="-1" strike="noStrike">
                <a:solidFill>
                  <a:srgbClr val="ffcc99"/>
                </a:solidFill>
                <a:latin typeface="Times New Roman"/>
              </a:rPr>
              <a:t>a</a:t>
            </a:r>
            <a:endParaRPr b="0" lang="en-US" sz="4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 rot="10800000">
            <a:off x="6324120" y="3047040"/>
            <a:ext cx="1552680" cy="4314600"/>
          </a:xfrm>
          <a:custGeom>
            <a:avLst/>
            <a:gdLst>
              <a:gd name="textAreaLeft" fmla="*/ 52920 w 1552680"/>
              <a:gd name="textAreaRight" fmla="*/ 1499760 w 1552680"/>
              <a:gd name="textAreaTop" fmla="*/ 52920 h 4314600"/>
              <a:gd name="textAreaBottom" fmla="*/ 4261680 h 4314600"/>
            </a:gdLst>
            <a:ahLst/>
            <a:rect l="textAreaLeft" t="textAreaTop" r="textAreaRight" b="textAreaBottom"/>
            <a:pathLst>
              <a:path w="21600" h="60013">
                <a:moveTo>
                  <a:pt x="2524" y="0"/>
                </a:moveTo>
                <a:arcTo wR="2524" hR="2524" stAng="16200000" swAng="-5400000"/>
                <a:lnTo>
                  <a:pt x="0" y="57489"/>
                </a:lnTo>
                <a:arcTo wR="2524" hR="2524" stAng="10800000" swAng="-5400000"/>
                <a:lnTo>
                  <a:pt x="19076" y="60013"/>
                </a:lnTo>
                <a:arcTo wR="2524" hR="2524" stAng="5400000" swAng="-5400000"/>
                <a:lnTo>
                  <a:pt x="21600" y="2524"/>
                </a:lnTo>
                <a:arcTo wR="2524" hR="2524" stAng="0" swAng="-5400000"/>
                <a:close/>
              </a:path>
            </a:pathLst>
          </a:custGeom>
          <a:solidFill>
            <a:srgbClr val="ffffc2"/>
          </a:solidFill>
          <a:ln w="190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nastas de consumo y vector de  producciones net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52240" y="475920"/>
            <a:ext cx="94532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resumen del proces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14400" y="289080"/>
            <a:ext cx="380988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100" spc="-1" strike="noStrike">
                <a:solidFill>
                  <a:srgbClr val="810000"/>
                </a:solidFill>
                <a:latin typeface="Times New Roman"/>
              </a:rPr>
              <a:t>d</a:t>
            </a:r>
            <a:endParaRPr b="0" lang="en-US" sz="4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108920" y="214200"/>
            <a:ext cx="324324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100" spc="-1" strike="noStrike">
                <a:solidFill>
                  <a:srgbClr val="810000"/>
                </a:solidFill>
                <a:latin typeface="Times New Roman"/>
              </a:rPr>
              <a:t>a</a:t>
            </a:r>
            <a:endParaRPr b="0" lang="en-US" sz="46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4025880" y="4064040"/>
            <a:ext cx="3168720" cy="1473120"/>
            <a:chOff x="4025880" y="4064040"/>
            <a:chExt cx="3168720" cy="1473120"/>
          </a:xfrm>
        </p:grpSpPr>
        <p:sp>
          <p:nvSpPr>
            <p:cNvPr id="1248" name=""/>
            <p:cNvSpPr/>
            <p:nvPr/>
          </p:nvSpPr>
          <p:spPr>
            <a:xfrm>
              <a:off x="4025880" y="4064040"/>
              <a:ext cx="3168720" cy="1473120"/>
            </a:xfrm>
            <a:custGeom>
              <a:avLst/>
              <a:gdLst/>
              <a:ahLst/>
              <a:rect l="l" t="t" r="r" b="b"/>
              <a:pathLst>
                <a:path w="1996" h="928">
                  <a:moveTo>
                    <a:pt x="0" y="756"/>
                  </a:moveTo>
                  <a:lnTo>
                    <a:pt x="0" y="756"/>
                  </a:lnTo>
                  <a:lnTo>
                    <a:pt x="1428" y="756"/>
                  </a:lnTo>
                  <a:lnTo>
                    <a:pt x="1428" y="927"/>
                  </a:lnTo>
                  <a:lnTo>
                    <a:pt x="1995" y="464"/>
                  </a:lnTo>
                  <a:lnTo>
                    <a:pt x="1428" y="0"/>
                  </a:lnTo>
                  <a:lnTo>
                    <a:pt x="1428" y="160"/>
                  </a:lnTo>
                  <a:lnTo>
                    <a:pt x="0" y="160"/>
                  </a:lnTo>
                  <a:lnTo>
                    <a:pt x="0" y="756"/>
                  </a:lnTo>
                  <a:lnTo>
                    <a:pt x="0" y="75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1360" y="4479840"/>
              <a:ext cx="195588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Colonna MT"/>
                </a:rPr>
                <a:t>precio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economía con muchas person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1257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centrali-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zación e intercamb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conomía multi-peron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2743200" y="5257800"/>
            <a:ext cx="4540320" cy="552600"/>
            <a:chOff x="2743200" y="5257800"/>
            <a:chExt cx="4540320" cy="552600"/>
          </a:xfrm>
        </p:grpSpPr>
        <p:sp>
          <p:nvSpPr>
            <p:cNvPr id="1274" name=""/>
            <p:cNvSpPr/>
            <p:nvPr/>
          </p:nvSpPr>
          <p:spPr>
            <a:xfrm>
              <a:off x="5027760" y="52578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43200" y="555624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1156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8172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43200" y="55562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4120" y="55562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011560" y="55562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4098960" y="5796000"/>
            <a:ext cx="2038320" cy="119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421320" y="579132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95280" y="5796000"/>
            <a:ext cx="249264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ign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143000" y="5791320"/>
            <a:ext cx="25909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ign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114800" y="5791320"/>
            <a:ext cx="20350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324480" y="5334120"/>
            <a:ext cx="2486160" cy="205884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7680240" y="4419720"/>
            <a:ext cx="33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Times New Roman"/>
              </a:rPr>
              <a:t>Crusoe de nuev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clase de asignación constituye un equilibri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-303120" y="2638440"/>
            <a:ext cx="7924680" cy="4869000"/>
            <a:chOff x="-303120" y="2638440"/>
            <a:chExt cx="7924680" cy="4869000"/>
          </a:xfrm>
        </p:grpSpPr>
        <p:sp>
          <p:nvSpPr>
            <p:cNvPr id="1290" name=""/>
            <p:cNvSpPr/>
            <p:nvPr/>
          </p:nvSpPr>
          <p:spPr>
            <a:xfrm>
              <a:off x="-303120" y="2638440"/>
              <a:ext cx="7924680" cy="4869000"/>
            </a:xfrm>
            <a:custGeom>
              <a:avLst/>
              <a:gdLst/>
              <a:ahLst/>
              <a:rect l="l" t="t" r="r" b="b"/>
              <a:pathLst>
                <a:path w="4992" h="3067">
                  <a:moveTo>
                    <a:pt x="1003" y="441"/>
                  </a:moveTo>
                  <a:lnTo>
                    <a:pt x="649" y="626"/>
                  </a:lnTo>
                  <a:lnTo>
                    <a:pt x="376" y="828"/>
                  </a:lnTo>
                  <a:lnTo>
                    <a:pt x="180" y="1046"/>
                  </a:lnTo>
                  <a:lnTo>
                    <a:pt x="55" y="1272"/>
                  </a:lnTo>
                  <a:lnTo>
                    <a:pt x="0" y="1506"/>
                  </a:lnTo>
                  <a:lnTo>
                    <a:pt x="10" y="1739"/>
                  </a:lnTo>
                  <a:lnTo>
                    <a:pt x="81" y="1967"/>
                  </a:lnTo>
                  <a:lnTo>
                    <a:pt x="210" y="2186"/>
                  </a:lnTo>
                  <a:lnTo>
                    <a:pt x="394" y="2392"/>
                  </a:lnTo>
                  <a:lnTo>
                    <a:pt x="631" y="2578"/>
                  </a:lnTo>
                  <a:lnTo>
                    <a:pt x="915" y="2742"/>
                  </a:lnTo>
                  <a:lnTo>
                    <a:pt x="1244" y="2877"/>
                  </a:lnTo>
                  <a:lnTo>
                    <a:pt x="1613" y="2980"/>
                  </a:lnTo>
                  <a:lnTo>
                    <a:pt x="2020" y="3044"/>
                  </a:lnTo>
                  <a:lnTo>
                    <a:pt x="2461" y="3066"/>
                  </a:lnTo>
                  <a:lnTo>
                    <a:pt x="2933" y="3041"/>
                  </a:lnTo>
                  <a:lnTo>
                    <a:pt x="3389" y="2971"/>
                  </a:lnTo>
                  <a:lnTo>
                    <a:pt x="3790" y="2862"/>
                  </a:lnTo>
                  <a:lnTo>
                    <a:pt x="4135" y="2720"/>
                  </a:lnTo>
                  <a:lnTo>
                    <a:pt x="4422" y="2550"/>
                  </a:lnTo>
                  <a:lnTo>
                    <a:pt x="4651" y="2358"/>
                  </a:lnTo>
                  <a:lnTo>
                    <a:pt x="4823" y="2148"/>
                  </a:lnTo>
                  <a:lnTo>
                    <a:pt x="4936" y="1925"/>
                  </a:lnTo>
                  <a:lnTo>
                    <a:pt x="4991" y="1694"/>
                  </a:lnTo>
                  <a:lnTo>
                    <a:pt x="4983" y="1462"/>
                  </a:lnTo>
                  <a:lnTo>
                    <a:pt x="4917" y="1233"/>
                  </a:lnTo>
                  <a:lnTo>
                    <a:pt x="4790" y="1012"/>
                  </a:lnTo>
                  <a:lnTo>
                    <a:pt x="4602" y="804"/>
                  </a:lnTo>
                  <a:lnTo>
                    <a:pt x="4350" y="616"/>
                  </a:lnTo>
                  <a:lnTo>
                    <a:pt x="4038" y="450"/>
                  </a:lnTo>
                  <a:lnTo>
                    <a:pt x="3661" y="314"/>
                  </a:lnTo>
                  <a:lnTo>
                    <a:pt x="3223" y="212"/>
                  </a:lnTo>
                  <a:lnTo>
                    <a:pt x="3136" y="147"/>
                  </a:lnTo>
                  <a:lnTo>
                    <a:pt x="3024" y="93"/>
                  </a:lnTo>
                  <a:lnTo>
                    <a:pt x="2891" y="53"/>
                  </a:lnTo>
                  <a:lnTo>
                    <a:pt x="2741" y="23"/>
                  </a:lnTo>
                  <a:lnTo>
                    <a:pt x="2576" y="6"/>
                  </a:lnTo>
                  <a:lnTo>
                    <a:pt x="2402" y="0"/>
                  </a:lnTo>
                  <a:lnTo>
                    <a:pt x="2222" y="3"/>
                  </a:lnTo>
                  <a:lnTo>
                    <a:pt x="2041" y="17"/>
                  </a:lnTo>
                  <a:lnTo>
                    <a:pt x="1861" y="42"/>
                  </a:lnTo>
                  <a:lnTo>
                    <a:pt x="1688" y="74"/>
                  </a:lnTo>
                  <a:lnTo>
                    <a:pt x="1524" y="117"/>
                  </a:lnTo>
                  <a:lnTo>
                    <a:pt x="1377" y="166"/>
                  </a:lnTo>
                  <a:lnTo>
                    <a:pt x="1245" y="225"/>
                  </a:lnTo>
                  <a:lnTo>
                    <a:pt x="1137" y="290"/>
                  </a:lnTo>
                  <a:lnTo>
                    <a:pt x="1055" y="363"/>
                  </a:lnTo>
                  <a:lnTo>
                    <a:pt x="1003" y="441"/>
                  </a:lnTo>
                  <a:lnTo>
                    <a:pt x="1003" y="44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614520" y="3390840"/>
              <a:ext cx="5924520" cy="3198960"/>
              <a:chOff x="614520" y="3390840"/>
              <a:chExt cx="5924520" cy="3198960"/>
            </a:xfrm>
          </p:grpSpPr>
          <p:grpSp>
            <p:nvGrpSpPr>
              <p:cNvPr id="1292" name=""/>
              <p:cNvGrpSpPr/>
              <p:nvPr/>
            </p:nvGrpSpPr>
            <p:grpSpPr>
              <a:xfrm>
                <a:off x="2266920" y="4299120"/>
                <a:ext cx="1851120" cy="2092320"/>
                <a:chOff x="2266920" y="4299120"/>
                <a:chExt cx="1851120" cy="209232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2549520" y="5859360"/>
                  <a:ext cx="1568520" cy="532080"/>
                </a:xfrm>
                <a:custGeom>
                  <a:avLst/>
                  <a:gdLst/>
                  <a:ahLst/>
                  <a:rect l="l" t="t" r="r" b="b"/>
                  <a:pathLst>
                    <a:path w="988" h="335">
                      <a:moveTo>
                        <a:pt x="0" y="334"/>
                      </a:moveTo>
                      <a:lnTo>
                        <a:pt x="987" y="334"/>
                      </a:lnTo>
                      <a:lnTo>
                        <a:pt x="824" y="228"/>
                      </a:lnTo>
                      <a:lnTo>
                        <a:pt x="887" y="59"/>
                      </a:lnTo>
                      <a:lnTo>
                        <a:pt x="794" y="213"/>
                      </a:lnTo>
                      <a:lnTo>
                        <a:pt x="782" y="252"/>
                      </a:lnTo>
                      <a:lnTo>
                        <a:pt x="792" y="176"/>
                      </a:lnTo>
                      <a:lnTo>
                        <a:pt x="803" y="97"/>
                      </a:lnTo>
                      <a:lnTo>
                        <a:pt x="828" y="31"/>
                      </a:lnTo>
                      <a:lnTo>
                        <a:pt x="784" y="85"/>
                      </a:lnTo>
                      <a:lnTo>
                        <a:pt x="747" y="199"/>
                      </a:lnTo>
                      <a:lnTo>
                        <a:pt x="739" y="261"/>
                      </a:lnTo>
                      <a:lnTo>
                        <a:pt x="555" y="59"/>
                      </a:lnTo>
                      <a:lnTo>
                        <a:pt x="524" y="126"/>
                      </a:lnTo>
                      <a:lnTo>
                        <a:pt x="438" y="67"/>
                      </a:lnTo>
                      <a:lnTo>
                        <a:pt x="360" y="0"/>
                      </a:lnTo>
                      <a:lnTo>
                        <a:pt x="414" y="85"/>
                      </a:lnTo>
                      <a:lnTo>
                        <a:pt x="547" y="155"/>
                      </a:lnTo>
                      <a:lnTo>
                        <a:pt x="414" y="105"/>
                      </a:lnTo>
                      <a:lnTo>
                        <a:pt x="276" y="97"/>
                      </a:lnTo>
                      <a:lnTo>
                        <a:pt x="242" y="113"/>
                      </a:lnTo>
                      <a:lnTo>
                        <a:pt x="317" y="113"/>
                      </a:lnTo>
                      <a:lnTo>
                        <a:pt x="425" y="140"/>
                      </a:lnTo>
                      <a:lnTo>
                        <a:pt x="266" y="142"/>
                      </a:lnTo>
                      <a:lnTo>
                        <a:pt x="367" y="167"/>
                      </a:lnTo>
                      <a:lnTo>
                        <a:pt x="477" y="157"/>
                      </a:lnTo>
                      <a:lnTo>
                        <a:pt x="520" y="167"/>
                      </a:lnTo>
                      <a:lnTo>
                        <a:pt x="588" y="221"/>
                      </a:lnTo>
                      <a:lnTo>
                        <a:pt x="466" y="180"/>
                      </a:lnTo>
                      <a:lnTo>
                        <a:pt x="527" y="247"/>
                      </a:lnTo>
                      <a:lnTo>
                        <a:pt x="406" y="210"/>
                      </a:lnTo>
                      <a:lnTo>
                        <a:pt x="317" y="192"/>
                      </a:lnTo>
                      <a:lnTo>
                        <a:pt x="270" y="192"/>
                      </a:lnTo>
                      <a:lnTo>
                        <a:pt x="420" y="241"/>
                      </a:lnTo>
                      <a:lnTo>
                        <a:pt x="490" y="300"/>
                      </a:lnTo>
                      <a:lnTo>
                        <a:pt x="317" y="241"/>
                      </a:lnTo>
                      <a:lnTo>
                        <a:pt x="420" y="295"/>
                      </a:lnTo>
                      <a:lnTo>
                        <a:pt x="239" y="252"/>
                      </a:lnTo>
                      <a:lnTo>
                        <a:pt x="317" y="286"/>
                      </a:lnTo>
                      <a:lnTo>
                        <a:pt x="161" y="261"/>
                      </a:lnTo>
                      <a:lnTo>
                        <a:pt x="329" y="309"/>
                      </a:lnTo>
                      <a:lnTo>
                        <a:pt x="98" y="296"/>
                      </a:lnTo>
                      <a:lnTo>
                        <a:pt x="0" y="334"/>
                      </a:lnTo>
                      <a:lnTo>
                        <a:pt x="0" y="33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106800" y="4576680"/>
                  <a:ext cx="689040" cy="1725840"/>
                </a:xfrm>
                <a:custGeom>
                  <a:avLst/>
                  <a:gdLst/>
                  <a:ahLst/>
                  <a:rect l="l" t="t" r="r" b="b"/>
                  <a:pathLst>
                    <a:path w="434" h="1087">
                      <a:moveTo>
                        <a:pt x="415" y="1049"/>
                      </a:moveTo>
                      <a:lnTo>
                        <a:pt x="405" y="867"/>
                      </a:lnTo>
                      <a:lnTo>
                        <a:pt x="355" y="657"/>
                      </a:lnTo>
                      <a:lnTo>
                        <a:pt x="309" y="681"/>
                      </a:lnTo>
                      <a:lnTo>
                        <a:pt x="343" y="618"/>
                      </a:lnTo>
                      <a:lnTo>
                        <a:pt x="332" y="557"/>
                      </a:lnTo>
                      <a:lnTo>
                        <a:pt x="266" y="608"/>
                      </a:lnTo>
                      <a:lnTo>
                        <a:pt x="318" y="508"/>
                      </a:lnTo>
                      <a:lnTo>
                        <a:pt x="287" y="415"/>
                      </a:lnTo>
                      <a:lnTo>
                        <a:pt x="215" y="463"/>
                      </a:lnTo>
                      <a:lnTo>
                        <a:pt x="266" y="376"/>
                      </a:lnTo>
                      <a:lnTo>
                        <a:pt x="237" y="315"/>
                      </a:lnTo>
                      <a:lnTo>
                        <a:pt x="139" y="145"/>
                      </a:lnTo>
                      <a:lnTo>
                        <a:pt x="19" y="0"/>
                      </a:lnTo>
                      <a:lnTo>
                        <a:pt x="0" y="66"/>
                      </a:lnTo>
                      <a:lnTo>
                        <a:pt x="87" y="208"/>
                      </a:lnTo>
                      <a:lnTo>
                        <a:pt x="136" y="315"/>
                      </a:lnTo>
                      <a:lnTo>
                        <a:pt x="169" y="440"/>
                      </a:lnTo>
                      <a:lnTo>
                        <a:pt x="214" y="402"/>
                      </a:lnTo>
                      <a:lnTo>
                        <a:pt x="177" y="471"/>
                      </a:lnTo>
                      <a:lnTo>
                        <a:pt x="197" y="593"/>
                      </a:lnTo>
                      <a:lnTo>
                        <a:pt x="239" y="569"/>
                      </a:lnTo>
                      <a:lnTo>
                        <a:pt x="214" y="636"/>
                      </a:lnTo>
                      <a:lnTo>
                        <a:pt x="223" y="695"/>
                      </a:lnTo>
                      <a:lnTo>
                        <a:pt x="282" y="672"/>
                      </a:lnTo>
                      <a:lnTo>
                        <a:pt x="226" y="729"/>
                      </a:lnTo>
                      <a:lnTo>
                        <a:pt x="226" y="788"/>
                      </a:lnTo>
                      <a:lnTo>
                        <a:pt x="318" y="729"/>
                      </a:lnTo>
                      <a:lnTo>
                        <a:pt x="226" y="815"/>
                      </a:lnTo>
                      <a:lnTo>
                        <a:pt x="237" y="950"/>
                      </a:lnTo>
                      <a:lnTo>
                        <a:pt x="350" y="1086"/>
                      </a:lnTo>
                      <a:lnTo>
                        <a:pt x="433" y="1029"/>
                      </a:lnTo>
                      <a:lnTo>
                        <a:pt x="415" y="1049"/>
                      </a:lnTo>
                      <a:lnTo>
                        <a:pt x="415" y="1049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870280" y="4524480"/>
                  <a:ext cx="855720" cy="741240"/>
                </a:xfrm>
                <a:custGeom>
                  <a:avLst/>
                  <a:gdLst/>
                  <a:ahLst/>
                  <a:rect l="l" t="t" r="r" b="b"/>
                  <a:pathLst>
                    <a:path w="539" h="467">
                      <a:moveTo>
                        <a:pt x="114" y="60"/>
                      </a:moveTo>
                      <a:lnTo>
                        <a:pt x="44" y="109"/>
                      </a:lnTo>
                      <a:lnTo>
                        <a:pt x="74" y="109"/>
                      </a:lnTo>
                      <a:lnTo>
                        <a:pt x="0" y="161"/>
                      </a:lnTo>
                      <a:lnTo>
                        <a:pt x="14" y="228"/>
                      </a:lnTo>
                      <a:lnTo>
                        <a:pt x="31" y="178"/>
                      </a:lnTo>
                      <a:lnTo>
                        <a:pt x="90" y="302"/>
                      </a:lnTo>
                      <a:lnTo>
                        <a:pt x="122" y="248"/>
                      </a:lnTo>
                      <a:lnTo>
                        <a:pt x="158" y="359"/>
                      </a:lnTo>
                      <a:lnTo>
                        <a:pt x="233" y="412"/>
                      </a:lnTo>
                      <a:lnTo>
                        <a:pt x="222" y="316"/>
                      </a:lnTo>
                      <a:lnTo>
                        <a:pt x="291" y="427"/>
                      </a:lnTo>
                      <a:lnTo>
                        <a:pt x="374" y="466"/>
                      </a:lnTo>
                      <a:lnTo>
                        <a:pt x="305" y="397"/>
                      </a:lnTo>
                      <a:lnTo>
                        <a:pt x="297" y="280"/>
                      </a:lnTo>
                      <a:lnTo>
                        <a:pt x="415" y="466"/>
                      </a:lnTo>
                      <a:lnTo>
                        <a:pt x="453" y="309"/>
                      </a:lnTo>
                      <a:lnTo>
                        <a:pt x="516" y="412"/>
                      </a:lnTo>
                      <a:lnTo>
                        <a:pt x="499" y="284"/>
                      </a:lnTo>
                      <a:lnTo>
                        <a:pt x="448" y="204"/>
                      </a:lnTo>
                      <a:lnTo>
                        <a:pt x="538" y="284"/>
                      </a:lnTo>
                      <a:lnTo>
                        <a:pt x="506" y="191"/>
                      </a:lnTo>
                      <a:lnTo>
                        <a:pt x="472" y="137"/>
                      </a:lnTo>
                      <a:lnTo>
                        <a:pt x="408" y="90"/>
                      </a:lnTo>
                      <a:lnTo>
                        <a:pt x="526" y="148"/>
                      </a:lnTo>
                      <a:lnTo>
                        <a:pt x="467" y="82"/>
                      </a:lnTo>
                      <a:lnTo>
                        <a:pt x="374" y="37"/>
                      </a:lnTo>
                      <a:lnTo>
                        <a:pt x="233" y="0"/>
                      </a:lnTo>
                      <a:lnTo>
                        <a:pt x="107" y="60"/>
                      </a:lnTo>
                      <a:lnTo>
                        <a:pt x="114" y="60"/>
                      </a:lnTo>
                      <a:lnTo>
                        <a:pt x="114" y="60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266920" y="4299120"/>
                  <a:ext cx="1795320" cy="1234800"/>
                </a:xfrm>
                <a:custGeom>
                  <a:avLst/>
                  <a:gdLst/>
                  <a:ahLst/>
                  <a:rect l="l" t="t" r="r" b="b"/>
                  <a:pathLst>
                    <a:path w="1131" h="778">
                      <a:moveTo>
                        <a:pt x="596" y="198"/>
                      </a:moveTo>
                      <a:lnTo>
                        <a:pt x="424" y="148"/>
                      </a:lnTo>
                      <a:lnTo>
                        <a:pt x="266" y="142"/>
                      </a:lnTo>
                      <a:lnTo>
                        <a:pt x="142" y="165"/>
                      </a:lnTo>
                      <a:lnTo>
                        <a:pt x="31" y="224"/>
                      </a:lnTo>
                      <a:lnTo>
                        <a:pt x="142" y="198"/>
                      </a:lnTo>
                      <a:lnTo>
                        <a:pt x="266" y="157"/>
                      </a:lnTo>
                      <a:lnTo>
                        <a:pt x="389" y="165"/>
                      </a:lnTo>
                      <a:lnTo>
                        <a:pt x="249" y="179"/>
                      </a:lnTo>
                      <a:lnTo>
                        <a:pt x="121" y="232"/>
                      </a:lnTo>
                      <a:lnTo>
                        <a:pt x="31" y="320"/>
                      </a:lnTo>
                      <a:lnTo>
                        <a:pt x="0" y="383"/>
                      </a:lnTo>
                      <a:lnTo>
                        <a:pt x="18" y="532"/>
                      </a:lnTo>
                      <a:lnTo>
                        <a:pt x="109" y="303"/>
                      </a:lnTo>
                      <a:lnTo>
                        <a:pt x="31" y="595"/>
                      </a:lnTo>
                      <a:lnTo>
                        <a:pt x="56" y="627"/>
                      </a:lnTo>
                      <a:lnTo>
                        <a:pt x="130" y="320"/>
                      </a:lnTo>
                      <a:lnTo>
                        <a:pt x="121" y="586"/>
                      </a:lnTo>
                      <a:lnTo>
                        <a:pt x="246" y="422"/>
                      </a:lnTo>
                      <a:lnTo>
                        <a:pt x="246" y="256"/>
                      </a:lnTo>
                      <a:lnTo>
                        <a:pt x="276" y="413"/>
                      </a:lnTo>
                      <a:lnTo>
                        <a:pt x="310" y="272"/>
                      </a:lnTo>
                      <a:lnTo>
                        <a:pt x="380" y="279"/>
                      </a:lnTo>
                      <a:lnTo>
                        <a:pt x="310" y="346"/>
                      </a:lnTo>
                      <a:lnTo>
                        <a:pt x="238" y="523"/>
                      </a:lnTo>
                      <a:lnTo>
                        <a:pt x="220" y="608"/>
                      </a:lnTo>
                      <a:lnTo>
                        <a:pt x="226" y="678"/>
                      </a:lnTo>
                      <a:lnTo>
                        <a:pt x="266" y="777"/>
                      </a:lnTo>
                      <a:lnTo>
                        <a:pt x="294" y="722"/>
                      </a:lnTo>
                      <a:lnTo>
                        <a:pt x="249" y="580"/>
                      </a:lnTo>
                      <a:lnTo>
                        <a:pt x="266" y="539"/>
                      </a:lnTo>
                      <a:lnTo>
                        <a:pt x="326" y="683"/>
                      </a:lnTo>
                      <a:lnTo>
                        <a:pt x="368" y="635"/>
                      </a:lnTo>
                      <a:lnTo>
                        <a:pt x="378" y="506"/>
                      </a:lnTo>
                      <a:lnTo>
                        <a:pt x="411" y="602"/>
                      </a:lnTo>
                      <a:lnTo>
                        <a:pt x="434" y="569"/>
                      </a:lnTo>
                      <a:lnTo>
                        <a:pt x="394" y="422"/>
                      </a:lnTo>
                      <a:lnTo>
                        <a:pt x="475" y="569"/>
                      </a:lnTo>
                      <a:lnTo>
                        <a:pt x="446" y="328"/>
                      </a:lnTo>
                      <a:lnTo>
                        <a:pt x="576" y="198"/>
                      </a:lnTo>
                      <a:lnTo>
                        <a:pt x="881" y="320"/>
                      </a:lnTo>
                      <a:lnTo>
                        <a:pt x="972" y="370"/>
                      </a:lnTo>
                      <a:lnTo>
                        <a:pt x="925" y="251"/>
                      </a:lnTo>
                      <a:lnTo>
                        <a:pt x="965" y="279"/>
                      </a:lnTo>
                      <a:lnTo>
                        <a:pt x="1012" y="405"/>
                      </a:lnTo>
                      <a:lnTo>
                        <a:pt x="1096" y="468"/>
                      </a:lnTo>
                      <a:lnTo>
                        <a:pt x="1007" y="266"/>
                      </a:lnTo>
                      <a:lnTo>
                        <a:pt x="1124" y="444"/>
                      </a:lnTo>
                      <a:lnTo>
                        <a:pt x="1130" y="390"/>
                      </a:lnTo>
                      <a:lnTo>
                        <a:pt x="1007" y="232"/>
                      </a:lnTo>
                      <a:lnTo>
                        <a:pt x="1130" y="303"/>
                      </a:lnTo>
                      <a:lnTo>
                        <a:pt x="1037" y="202"/>
                      </a:lnTo>
                      <a:lnTo>
                        <a:pt x="879" y="142"/>
                      </a:lnTo>
                      <a:lnTo>
                        <a:pt x="771" y="148"/>
                      </a:lnTo>
                      <a:lnTo>
                        <a:pt x="847" y="120"/>
                      </a:lnTo>
                      <a:lnTo>
                        <a:pt x="763" y="100"/>
                      </a:lnTo>
                      <a:lnTo>
                        <a:pt x="685" y="131"/>
                      </a:lnTo>
                      <a:lnTo>
                        <a:pt x="715" y="63"/>
                      </a:lnTo>
                      <a:lnTo>
                        <a:pt x="771" y="24"/>
                      </a:lnTo>
                      <a:lnTo>
                        <a:pt x="821" y="0"/>
                      </a:lnTo>
                      <a:lnTo>
                        <a:pt x="738" y="0"/>
                      </a:lnTo>
                      <a:lnTo>
                        <a:pt x="643" y="15"/>
                      </a:lnTo>
                      <a:lnTo>
                        <a:pt x="624" y="90"/>
                      </a:lnTo>
                      <a:lnTo>
                        <a:pt x="596" y="41"/>
                      </a:lnTo>
                      <a:lnTo>
                        <a:pt x="560" y="63"/>
                      </a:lnTo>
                      <a:lnTo>
                        <a:pt x="607" y="120"/>
                      </a:lnTo>
                      <a:lnTo>
                        <a:pt x="502" y="100"/>
                      </a:lnTo>
                      <a:lnTo>
                        <a:pt x="368" y="100"/>
                      </a:lnTo>
                      <a:lnTo>
                        <a:pt x="504" y="148"/>
                      </a:lnTo>
                      <a:lnTo>
                        <a:pt x="596" y="198"/>
                      </a:lnTo>
                      <a:lnTo>
                        <a:pt x="596" y="198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4562640" y="3390840"/>
                <a:ext cx="1417320" cy="1663920"/>
                <a:chOff x="4562640" y="3390840"/>
                <a:chExt cx="1417320" cy="16639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4597560" y="3425760"/>
                  <a:ext cx="1382400" cy="1629000"/>
                </a:xfrm>
                <a:custGeom>
                  <a:avLst/>
                  <a:gdLst/>
                  <a:ahLst/>
                  <a:rect l="l" t="t" r="r" b="b"/>
                  <a:pathLst>
                    <a:path w="871" h="1026">
                      <a:moveTo>
                        <a:pt x="432" y="314"/>
                      </a:moveTo>
                      <a:lnTo>
                        <a:pt x="432" y="314"/>
                      </a:lnTo>
                      <a:lnTo>
                        <a:pt x="313" y="238"/>
                      </a:lnTo>
                      <a:lnTo>
                        <a:pt x="292" y="344"/>
                      </a:lnTo>
                      <a:lnTo>
                        <a:pt x="34" y="219"/>
                      </a:lnTo>
                      <a:lnTo>
                        <a:pt x="223" y="468"/>
                      </a:lnTo>
                      <a:lnTo>
                        <a:pt x="73" y="507"/>
                      </a:lnTo>
                      <a:lnTo>
                        <a:pt x="211" y="613"/>
                      </a:lnTo>
                      <a:lnTo>
                        <a:pt x="0" y="773"/>
                      </a:lnTo>
                      <a:lnTo>
                        <a:pt x="278" y="698"/>
                      </a:lnTo>
                      <a:lnTo>
                        <a:pt x="201" y="861"/>
                      </a:lnTo>
                      <a:lnTo>
                        <a:pt x="367" y="791"/>
                      </a:lnTo>
                      <a:lnTo>
                        <a:pt x="409" y="1025"/>
                      </a:lnTo>
                      <a:lnTo>
                        <a:pt x="454" y="791"/>
                      </a:lnTo>
                      <a:lnTo>
                        <a:pt x="579" y="891"/>
                      </a:lnTo>
                      <a:lnTo>
                        <a:pt x="600" y="748"/>
                      </a:lnTo>
                      <a:lnTo>
                        <a:pt x="870" y="910"/>
                      </a:lnTo>
                      <a:lnTo>
                        <a:pt x="649" y="637"/>
                      </a:lnTo>
                      <a:lnTo>
                        <a:pt x="774" y="570"/>
                      </a:lnTo>
                      <a:lnTo>
                        <a:pt x="678" y="486"/>
                      </a:lnTo>
                      <a:lnTo>
                        <a:pt x="810" y="313"/>
                      </a:lnTo>
                      <a:lnTo>
                        <a:pt x="611" y="362"/>
                      </a:lnTo>
                      <a:lnTo>
                        <a:pt x="610" y="236"/>
                      </a:lnTo>
                      <a:lnTo>
                        <a:pt x="527" y="292"/>
                      </a:lnTo>
                      <a:lnTo>
                        <a:pt x="492" y="0"/>
                      </a:lnTo>
                      <a:lnTo>
                        <a:pt x="432" y="314"/>
                      </a:lnTo>
                      <a:lnTo>
                        <a:pt x="432" y="31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562640" y="3390840"/>
                  <a:ext cx="1379520" cy="1625760"/>
                </a:xfrm>
                <a:custGeom>
                  <a:avLst/>
                  <a:gdLst/>
                  <a:ahLst/>
                  <a:rect l="l" t="t" r="r" b="b"/>
                  <a:pathLst>
                    <a:path w="869" h="1024">
                      <a:moveTo>
                        <a:pt x="431" y="308"/>
                      </a:moveTo>
                      <a:lnTo>
                        <a:pt x="431" y="308"/>
                      </a:lnTo>
                      <a:lnTo>
                        <a:pt x="308" y="236"/>
                      </a:lnTo>
                      <a:lnTo>
                        <a:pt x="293" y="341"/>
                      </a:lnTo>
                      <a:lnTo>
                        <a:pt x="33" y="217"/>
                      </a:lnTo>
                      <a:lnTo>
                        <a:pt x="223" y="460"/>
                      </a:lnTo>
                      <a:lnTo>
                        <a:pt x="74" y="500"/>
                      </a:lnTo>
                      <a:lnTo>
                        <a:pt x="210" y="610"/>
                      </a:lnTo>
                      <a:lnTo>
                        <a:pt x="0" y="765"/>
                      </a:lnTo>
                      <a:lnTo>
                        <a:pt x="275" y="692"/>
                      </a:lnTo>
                      <a:lnTo>
                        <a:pt x="196" y="856"/>
                      </a:lnTo>
                      <a:lnTo>
                        <a:pt x="364" y="790"/>
                      </a:lnTo>
                      <a:lnTo>
                        <a:pt x="410" y="1023"/>
                      </a:lnTo>
                      <a:lnTo>
                        <a:pt x="451" y="790"/>
                      </a:lnTo>
                      <a:lnTo>
                        <a:pt x="578" y="888"/>
                      </a:lnTo>
                      <a:lnTo>
                        <a:pt x="599" y="747"/>
                      </a:lnTo>
                      <a:lnTo>
                        <a:pt x="868" y="905"/>
                      </a:lnTo>
                      <a:lnTo>
                        <a:pt x="644" y="631"/>
                      </a:lnTo>
                      <a:lnTo>
                        <a:pt x="771" y="566"/>
                      </a:lnTo>
                      <a:lnTo>
                        <a:pt x="672" y="482"/>
                      </a:lnTo>
                      <a:lnTo>
                        <a:pt x="809" y="308"/>
                      </a:lnTo>
                      <a:lnTo>
                        <a:pt x="610" y="356"/>
                      </a:lnTo>
                      <a:lnTo>
                        <a:pt x="608" y="232"/>
                      </a:lnTo>
                      <a:lnTo>
                        <a:pt x="526" y="287"/>
                      </a:lnTo>
                      <a:lnTo>
                        <a:pt x="490" y="0"/>
                      </a:lnTo>
                      <a:lnTo>
                        <a:pt x="431" y="308"/>
                      </a:lnTo>
                      <a:lnTo>
                        <a:pt x="431" y="3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951440" y="3895560"/>
                  <a:ext cx="633240" cy="700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84920" y="3924360"/>
                  <a:ext cx="572760" cy="636480"/>
                </a:xfrm>
                <a:prstGeom prst="ellipse">
                  <a:avLst/>
                </a:prstGeom>
                <a:solidFill>
                  <a:srgbClr val="ff8100"/>
                </a:solidFill>
                <a:ln w="9360">
                  <a:solidFill>
                    <a:srgbClr val="ff81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>
                <a:off x="614520" y="6357960"/>
                <a:ext cx="5924520" cy="231840"/>
              </a:xfrm>
              <a:prstGeom prst="ellipse">
                <a:avLst/>
              </a:prstGeom>
              <a:solidFill>
                <a:srgbClr val="400080"/>
              </a:solidFill>
              <a:ln w="19080">
                <a:solidFill>
                  <a:srgbClr val="4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-303120" y="2975040"/>
              <a:ext cx="7924680" cy="4532400"/>
            </a:xfrm>
            <a:custGeom>
              <a:avLst/>
              <a:gdLst/>
              <a:ahLst/>
              <a:rect l="l" t="t" r="r" b="b"/>
              <a:pathLst>
                <a:path w="4992" h="2855">
                  <a:moveTo>
                    <a:pt x="1003" y="229"/>
                  </a:moveTo>
                  <a:lnTo>
                    <a:pt x="649" y="414"/>
                  </a:lnTo>
                  <a:lnTo>
                    <a:pt x="376" y="616"/>
                  </a:lnTo>
                  <a:lnTo>
                    <a:pt x="180" y="834"/>
                  </a:lnTo>
                  <a:lnTo>
                    <a:pt x="55" y="1060"/>
                  </a:lnTo>
                  <a:lnTo>
                    <a:pt x="0" y="1294"/>
                  </a:lnTo>
                  <a:lnTo>
                    <a:pt x="10" y="1527"/>
                  </a:lnTo>
                  <a:lnTo>
                    <a:pt x="81" y="1755"/>
                  </a:lnTo>
                  <a:lnTo>
                    <a:pt x="210" y="1974"/>
                  </a:lnTo>
                  <a:lnTo>
                    <a:pt x="394" y="2180"/>
                  </a:lnTo>
                  <a:lnTo>
                    <a:pt x="631" y="2366"/>
                  </a:lnTo>
                  <a:lnTo>
                    <a:pt x="915" y="2530"/>
                  </a:lnTo>
                  <a:lnTo>
                    <a:pt x="1244" y="2665"/>
                  </a:lnTo>
                  <a:lnTo>
                    <a:pt x="1613" y="2768"/>
                  </a:lnTo>
                  <a:lnTo>
                    <a:pt x="2020" y="2832"/>
                  </a:lnTo>
                  <a:lnTo>
                    <a:pt x="2461" y="2854"/>
                  </a:lnTo>
                  <a:lnTo>
                    <a:pt x="2933" y="2829"/>
                  </a:lnTo>
                  <a:lnTo>
                    <a:pt x="3389" y="2759"/>
                  </a:lnTo>
                  <a:lnTo>
                    <a:pt x="3790" y="2650"/>
                  </a:lnTo>
                  <a:lnTo>
                    <a:pt x="4135" y="2508"/>
                  </a:lnTo>
                  <a:lnTo>
                    <a:pt x="4422" y="2338"/>
                  </a:lnTo>
                  <a:lnTo>
                    <a:pt x="4651" y="2146"/>
                  </a:lnTo>
                  <a:lnTo>
                    <a:pt x="4823" y="1936"/>
                  </a:lnTo>
                  <a:lnTo>
                    <a:pt x="4936" y="1713"/>
                  </a:lnTo>
                  <a:lnTo>
                    <a:pt x="4991" y="1482"/>
                  </a:lnTo>
                  <a:lnTo>
                    <a:pt x="4983" y="1250"/>
                  </a:lnTo>
                  <a:lnTo>
                    <a:pt x="4917" y="1021"/>
                  </a:lnTo>
                  <a:lnTo>
                    <a:pt x="4790" y="800"/>
                  </a:lnTo>
                  <a:lnTo>
                    <a:pt x="4602" y="592"/>
                  </a:lnTo>
                  <a:lnTo>
                    <a:pt x="4350" y="404"/>
                  </a:lnTo>
                  <a:lnTo>
                    <a:pt x="4038" y="238"/>
                  </a:lnTo>
                  <a:lnTo>
                    <a:pt x="3661" y="102"/>
                  </a:lnTo>
                  <a:lnTo>
                    <a:pt x="3223" y="0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 flipV="1">
            <a:off x="3963960" y="2513520"/>
            <a:ext cx="6094440" cy="4282920"/>
          </a:xfrm>
          <a:prstGeom prst="roundRect">
            <a:avLst>
              <a:gd name="adj" fmla="val 6245"/>
            </a:avLst>
          </a:prstGeom>
          <a:gradFill rotWithShape="0">
            <a:gsLst>
              <a:gs pos="0">
                <a:srgbClr val="e1e1e1"/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Se debe maximizar la utilidad (en consumo)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Se debe maximizar beneficio (en la producc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8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....y se debe satisfacer las ecuaciones de balance (las cosas de la vi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984920" y="2581200"/>
            <a:ext cx="4940280" cy="4535640"/>
            <a:chOff x="4984920" y="2581200"/>
            <a:chExt cx="4940280" cy="4535640"/>
          </a:xfrm>
        </p:grpSpPr>
        <p:sp>
          <p:nvSpPr>
            <p:cNvPr id="1306" name=""/>
            <p:cNvSpPr/>
            <p:nvPr/>
          </p:nvSpPr>
          <p:spPr>
            <a:xfrm>
              <a:off x="4984920" y="2581200"/>
              <a:ext cx="4940280" cy="4535640"/>
            </a:xfrm>
            <a:custGeom>
              <a:avLst/>
              <a:gdLst/>
              <a:ahLst/>
              <a:rect l="l" t="t" r="r" b="b"/>
              <a:pathLst>
                <a:path w="3112" h="2857">
                  <a:moveTo>
                    <a:pt x="3111" y="1401"/>
                  </a:moveTo>
                  <a:lnTo>
                    <a:pt x="3111" y="1401"/>
                  </a:lnTo>
                  <a:lnTo>
                    <a:pt x="1278" y="0"/>
                  </a:lnTo>
                  <a:lnTo>
                    <a:pt x="1493" y="700"/>
                  </a:lnTo>
                  <a:lnTo>
                    <a:pt x="0" y="700"/>
                  </a:lnTo>
                  <a:lnTo>
                    <a:pt x="0" y="2201"/>
                  </a:lnTo>
                  <a:lnTo>
                    <a:pt x="1493" y="2201"/>
                  </a:lnTo>
                  <a:lnTo>
                    <a:pt x="1278" y="2856"/>
                  </a:lnTo>
                  <a:lnTo>
                    <a:pt x="3111" y="1401"/>
                  </a:lnTo>
                  <a:lnTo>
                    <a:pt x="3111" y="140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294160" y="3935520"/>
              <a:ext cx="386424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GB" sz="4000" spc="-1" strike="noStrike">
                  <a:solidFill>
                    <a:srgbClr val="ffffff"/>
                  </a:solidFill>
                  <a:latin typeface="Times New Roman"/>
                </a:rPr>
                <a:t>Hagamos esto para el caso de muchas persona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-431640" y="344160"/>
            <a:ext cx="11050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abc del equilibrio competitiv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63360" y="1641240"/>
            <a:ext cx="9931680" cy="6130800"/>
          </a:xfrm>
          <a:prstGeom prst="roundRect">
            <a:avLst>
              <a:gd name="adj" fmla="val 0"/>
            </a:avLst>
          </a:prstGeom>
          <a:solidFill>
            <a:srgbClr val="810000"/>
          </a:soli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62000" y="1706400"/>
            <a:ext cx="395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para cada consumid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76320" y="2209680"/>
            <a:ext cx="4346280" cy="3197160"/>
            <a:chOff x="76320" y="2209680"/>
            <a:chExt cx="4346280" cy="3197160"/>
          </a:xfrm>
        </p:grpSpPr>
        <p:sp>
          <p:nvSpPr>
            <p:cNvPr id="1312" name=""/>
            <p:cNvSpPr/>
            <p:nvPr/>
          </p:nvSpPr>
          <p:spPr>
            <a:xfrm flipV="1">
              <a:off x="76320" y="2209320"/>
              <a:ext cx="4346280" cy="31068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0280" y="3622320"/>
              <a:ext cx="231120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69520" y="2403360"/>
              <a:ext cx="18745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5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55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5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5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55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5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9080" y="2371680"/>
              <a:ext cx="8409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87000" y="4456080"/>
              <a:ext cx="960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982440" y="3979800"/>
              <a:ext cx="2818440" cy="1427040"/>
              <a:chOff x="982440" y="3979800"/>
              <a:chExt cx="2818440" cy="1427040"/>
            </a:xfrm>
          </p:grpSpPr>
          <p:sp>
            <p:nvSpPr>
              <p:cNvPr id="1318" name=""/>
              <p:cNvSpPr/>
              <p:nvPr/>
            </p:nvSpPr>
            <p:spPr>
              <a:xfrm>
                <a:off x="1147320" y="4078080"/>
                <a:ext cx="2653560" cy="13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GB" sz="5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GB" sz="4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GB" sz="4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4000" spc="-1" strike="noStrike">
                    <a:solidFill>
                      <a:srgbClr val="000000"/>
                    </a:solidFill>
                    <a:latin typeface="Times New Roman"/>
                  </a:rPr>
                  <a:t> x</a:t>
                </a:r>
                <a:r>
                  <a:rPr b="0" i="1" lang="en-GB" sz="4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GB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40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i="1" lang="en-GB" sz="4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GB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82440" y="3979800"/>
                <a:ext cx="722160" cy="14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0" name=""/>
          <p:cNvGrpSpPr/>
          <p:nvPr/>
        </p:nvGrpSpPr>
        <p:grpSpPr>
          <a:xfrm>
            <a:off x="5105520" y="2133720"/>
            <a:ext cx="4346280" cy="3259080"/>
            <a:chOff x="5105520" y="2133720"/>
            <a:chExt cx="4346280" cy="3259080"/>
          </a:xfrm>
        </p:grpSpPr>
        <p:sp>
          <p:nvSpPr>
            <p:cNvPr id="1321" name=""/>
            <p:cNvSpPr/>
            <p:nvPr/>
          </p:nvSpPr>
          <p:spPr>
            <a:xfrm flipV="1">
              <a:off x="5105520" y="2285640"/>
              <a:ext cx="4346280" cy="3106800"/>
            </a:xfrm>
            <a:prstGeom prst="roundRect">
              <a:avLst>
                <a:gd name="adj" fmla="val 6245"/>
              </a:avLst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49840" y="3699000"/>
              <a:ext cx="23115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suje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77120" y="4267080"/>
              <a:ext cx="289548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4000" spc="-1" strike="noStrike">
                  <a:solidFill>
                    <a:srgbClr val="000000"/>
                  </a:solidFill>
                  <a:latin typeface="WtlHebrew"/>
                  <a:ea typeface="WtlHebrew"/>
                </a:rPr>
                <a:t></a:t>
              </a: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678640" y="2448000"/>
              <a:ext cx="841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16560" y="4532400"/>
              <a:ext cx="96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66040" y="2384280"/>
              <a:ext cx="265428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en-GB" sz="5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4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i="1" lang="en-GB" sz="5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54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00800" y="2133720"/>
              <a:ext cx="72216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35520" y="1676520"/>
            <a:ext cx="317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ffff"/>
                </a:solidFill>
                <a:latin typeface="Times New Roman"/>
              </a:rPr>
              <a:t>para cada empre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61840" y="5996880"/>
            <a:ext cx="4872240" cy="1622520"/>
          </a:xfrm>
          <a:prstGeom prst="roundRect">
            <a:avLst>
              <a:gd name="adj" fmla="val 8310"/>
            </a:avLst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5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n-GB" sz="5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019160" y="5504040"/>
            <a:ext cx="351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y para cada bi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410080" y="3664080"/>
            <a:ext cx="3962520" cy="1878840"/>
          </a:xfrm>
          <a:prstGeom prst="wedgeRoundRectCallout">
            <a:avLst>
              <a:gd name="adj1" fmla="val -66175"/>
              <a:gd name="adj2" fmla="val 92412"/>
              <a:gd name="adj3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Pero qué determina a estos agregad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3200400" y="2666880"/>
            <a:ext cx="380988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446040" y="71712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consumo agregado del bien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?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33880" y="4724280"/>
            <a:ext cx="4702320" cy="289872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91120" y="5029200"/>
            <a:ext cx="5867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¿podemos sumar entre consumidores de este mod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287360" y="4456080"/>
            <a:ext cx="96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505320" y="2743200"/>
            <a:ext cx="3657600" cy="2057400"/>
            <a:chOff x="3505320" y="2743200"/>
            <a:chExt cx="3657600" cy="2057400"/>
          </a:xfrm>
        </p:grpSpPr>
        <p:sp>
          <p:nvSpPr>
            <p:cNvPr id="1338" name=""/>
            <p:cNvSpPr/>
            <p:nvPr/>
          </p:nvSpPr>
          <p:spPr>
            <a:xfrm>
              <a:off x="3670200" y="2993760"/>
              <a:ext cx="34927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GB" sz="6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GB" sz="6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1" i="1" lang="en-GB" sz="60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1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505320" y="2743200"/>
              <a:ext cx="761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GB" sz="2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5006880" y="5172120"/>
            <a:ext cx="326880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i , si </a:t>
            </a:r>
            <a:r>
              <a:rPr b="1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a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es un bien ri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3962520" y="4876200"/>
            <a:ext cx="5122800" cy="2895480"/>
          </a:xfrm>
          <a:prstGeom prst="roundRect">
            <a:avLst>
              <a:gd name="adj" fmla="val 6245"/>
            </a:avLst>
          </a:prstGeom>
          <a:solidFill>
            <a:srgbClr val="ccffff"/>
          </a:solidFill>
          <a:ln w="31680">
            <a:solidFill>
              <a:srgbClr val="4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Contraejemplo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productos tales 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la TV, la def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nacional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3352680" y="1981080"/>
            <a:ext cx="3081240" cy="3106800"/>
            <a:chOff x="3352680" y="1981080"/>
            <a:chExt cx="3081240" cy="3106800"/>
          </a:xfrm>
        </p:grpSpPr>
        <p:sp>
          <p:nvSpPr>
            <p:cNvPr id="1343" name=""/>
            <p:cNvSpPr/>
            <p:nvPr/>
          </p:nvSpPr>
          <p:spPr>
            <a:xfrm>
              <a:off x="3352680" y="1981080"/>
              <a:ext cx="3081240" cy="3106800"/>
            </a:xfrm>
            <a:custGeom>
              <a:avLst/>
              <a:gdLst/>
              <a:ahLst/>
              <a:rect l="l" t="t" r="r" b="b"/>
              <a:pathLst>
                <a:path w="1941" h="1957">
                  <a:moveTo>
                    <a:pt x="348" y="858"/>
                  </a:moveTo>
                  <a:lnTo>
                    <a:pt x="345" y="864"/>
                  </a:lnTo>
                  <a:lnTo>
                    <a:pt x="341" y="869"/>
                  </a:lnTo>
                  <a:lnTo>
                    <a:pt x="337" y="875"/>
                  </a:lnTo>
                  <a:lnTo>
                    <a:pt x="333" y="880"/>
                  </a:lnTo>
                  <a:lnTo>
                    <a:pt x="327" y="887"/>
                  </a:lnTo>
                  <a:lnTo>
                    <a:pt x="322" y="893"/>
                  </a:lnTo>
                  <a:lnTo>
                    <a:pt x="317" y="898"/>
                  </a:lnTo>
                  <a:lnTo>
                    <a:pt x="313" y="904"/>
                  </a:lnTo>
                  <a:lnTo>
                    <a:pt x="307" y="911"/>
                  </a:lnTo>
                  <a:lnTo>
                    <a:pt x="302" y="917"/>
                  </a:lnTo>
                  <a:lnTo>
                    <a:pt x="296" y="923"/>
                  </a:lnTo>
                  <a:lnTo>
                    <a:pt x="291" y="928"/>
                  </a:lnTo>
                  <a:lnTo>
                    <a:pt x="286" y="934"/>
                  </a:lnTo>
                  <a:lnTo>
                    <a:pt x="282" y="939"/>
                  </a:lnTo>
                  <a:lnTo>
                    <a:pt x="278" y="945"/>
                  </a:lnTo>
                  <a:lnTo>
                    <a:pt x="276" y="949"/>
                  </a:lnTo>
                  <a:lnTo>
                    <a:pt x="272" y="954"/>
                  </a:lnTo>
                  <a:lnTo>
                    <a:pt x="268" y="959"/>
                  </a:lnTo>
                  <a:lnTo>
                    <a:pt x="262" y="966"/>
                  </a:lnTo>
                  <a:lnTo>
                    <a:pt x="256" y="973"/>
                  </a:lnTo>
                  <a:lnTo>
                    <a:pt x="249" y="982"/>
                  </a:lnTo>
                  <a:lnTo>
                    <a:pt x="241" y="990"/>
                  </a:lnTo>
                  <a:lnTo>
                    <a:pt x="232" y="999"/>
                  </a:lnTo>
                  <a:lnTo>
                    <a:pt x="225" y="1008"/>
                  </a:lnTo>
                  <a:lnTo>
                    <a:pt x="216" y="1018"/>
                  </a:lnTo>
                  <a:lnTo>
                    <a:pt x="208" y="1027"/>
                  </a:lnTo>
                  <a:lnTo>
                    <a:pt x="201" y="1037"/>
                  </a:lnTo>
                  <a:lnTo>
                    <a:pt x="194" y="1044"/>
                  </a:lnTo>
                  <a:lnTo>
                    <a:pt x="188" y="1052"/>
                  </a:lnTo>
                  <a:lnTo>
                    <a:pt x="182" y="1058"/>
                  </a:lnTo>
                  <a:lnTo>
                    <a:pt x="178" y="1063"/>
                  </a:lnTo>
                  <a:lnTo>
                    <a:pt x="176" y="1065"/>
                  </a:lnTo>
                  <a:lnTo>
                    <a:pt x="171" y="1072"/>
                  </a:lnTo>
                  <a:lnTo>
                    <a:pt x="167" y="1079"/>
                  </a:lnTo>
                  <a:lnTo>
                    <a:pt x="160" y="1087"/>
                  </a:lnTo>
                  <a:lnTo>
                    <a:pt x="154" y="1097"/>
                  </a:lnTo>
                  <a:lnTo>
                    <a:pt x="146" y="1108"/>
                  </a:lnTo>
                  <a:lnTo>
                    <a:pt x="138" y="1119"/>
                  </a:lnTo>
                  <a:lnTo>
                    <a:pt x="130" y="1132"/>
                  </a:lnTo>
                  <a:lnTo>
                    <a:pt x="123" y="1143"/>
                  </a:lnTo>
                  <a:lnTo>
                    <a:pt x="114" y="1157"/>
                  </a:lnTo>
                  <a:lnTo>
                    <a:pt x="106" y="1169"/>
                  </a:lnTo>
                  <a:lnTo>
                    <a:pt x="99" y="1180"/>
                  </a:lnTo>
                  <a:lnTo>
                    <a:pt x="93" y="1191"/>
                  </a:lnTo>
                  <a:lnTo>
                    <a:pt x="88" y="1201"/>
                  </a:lnTo>
                  <a:lnTo>
                    <a:pt x="84" y="1210"/>
                  </a:lnTo>
                  <a:lnTo>
                    <a:pt x="82" y="1217"/>
                  </a:lnTo>
                  <a:lnTo>
                    <a:pt x="82" y="1221"/>
                  </a:lnTo>
                  <a:lnTo>
                    <a:pt x="82" y="1223"/>
                  </a:lnTo>
                  <a:lnTo>
                    <a:pt x="82" y="1224"/>
                  </a:lnTo>
                  <a:lnTo>
                    <a:pt x="82" y="1226"/>
                  </a:lnTo>
                  <a:lnTo>
                    <a:pt x="82" y="1228"/>
                  </a:lnTo>
                  <a:lnTo>
                    <a:pt x="82" y="1231"/>
                  </a:lnTo>
                  <a:lnTo>
                    <a:pt x="82" y="1233"/>
                  </a:lnTo>
                  <a:lnTo>
                    <a:pt x="82" y="1235"/>
                  </a:lnTo>
                  <a:lnTo>
                    <a:pt x="84" y="1237"/>
                  </a:lnTo>
                  <a:lnTo>
                    <a:pt x="84" y="1241"/>
                  </a:lnTo>
                  <a:lnTo>
                    <a:pt x="84" y="1243"/>
                  </a:lnTo>
                  <a:lnTo>
                    <a:pt x="84" y="1245"/>
                  </a:lnTo>
                  <a:lnTo>
                    <a:pt x="85" y="1247"/>
                  </a:lnTo>
                  <a:lnTo>
                    <a:pt x="83" y="1249"/>
                  </a:lnTo>
                  <a:lnTo>
                    <a:pt x="83" y="1251"/>
                  </a:lnTo>
                  <a:lnTo>
                    <a:pt x="83" y="1253"/>
                  </a:lnTo>
                  <a:lnTo>
                    <a:pt x="83" y="1253"/>
                  </a:lnTo>
                  <a:lnTo>
                    <a:pt x="80" y="1258"/>
                  </a:lnTo>
                  <a:lnTo>
                    <a:pt x="77" y="1263"/>
                  </a:lnTo>
                  <a:lnTo>
                    <a:pt x="73" y="1269"/>
                  </a:lnTo>
                  <a:lnTo>
                    <a:pt x="71" y="1277"/>
                  </a:lnTo>
                  <a:lnTo>
                    <a:pt x="66" y="1286"/>
                  </a:lnTo>
                  <a:lnTo>
                    <a:pt x="63" y="1296"/>
                  </a:lnTo>
                  <a:lnTo>
                    <a:pt x="59" y="1306"/>
                  </a:lnTo>
                  <a:lnTo>
                    <a:pt x="55" y="1315"/>
                  </a:lnTo>
                  <a:lnTo>
                    <a:pt x="51" y="1326"/>
                  </a:lnTo>
                  <a:lnTo>
                    <a:pt x="47" y="1336"/>
                  </a:lnTo>
                  <a:lnTo>
                    <a:pt x="44" y="1345"/>
                  </a:lnTo>
                  <a:lnTo>
                    <a:pt x="41" y="1353"/>
                  </a:lnTo>
                  <a:lnTo>
                    <a:pt x="38" y="1361"/>
                  </a:lnTo>
                  <a:lnTo>
                    <a:pt x="36" y="1367"/>
                  </a:lnTo>
                  <a:lnTo>
                    <a:pt x="34" y="1372"/>
                  </a:lnTo>
                  <a:lnTo>
                    <a:pt x="34" y="1374"/>
                  </a:lnTo>
                  <a:lnTo>
                    <a:pt x="32" y="1379"/>
                  </a:lnTo>
                  <a:lnTo>
                    <a:pt x="32" y="1383"/>
                  </a:lnTo>
                  <a:lnTo>
                    <a:pt x="29" y="1390"/>
                  </a:lnTo>
                  <a:lnTo>
                    <a:pt x="27" y="1396"/>
                  </a:lnTo>
                  <a:lnTo>
                    <a:pt x="24" y="1405"/>
                  </a:lnTo>
                  <a:lnTo>
                    <a:pt x="22" y="1414"/>
                  </a:lnTo>
                  <a:lnTo>
                    <a:pt x="18" y="1424"/>
                  </a:lnTo>
                  <a:lnTo>
                    <a:pt x="17" y="1432"/>
                  </a:lnTo>
                  <a:lnTo>
                    <a:pt x="13" y="1442"/>
                  </a:lnTo>
                  <a:lnTo>
                    <a:pt x="10" y="1451"/>
                  </a:lnTo>
                  <a:lnTo>
                    <a:pt x="7" y="1460"/>
                  </a:lnTo>
                  <a:lnTo>
                    <a:pt x="5" y="1467"/>
                  </a:lnTo>
                  <a:lnTo>
                    <a:pt x="2" y="1475"/>
                  </a:lnTo>
                  <a:lnTo>
                    <a:pt x="0" y="1480"/>
                  </a:lnTo>
                  <a:lnTo>
                    <a:pt x="0" y="1484"/>
                  </a:lnTo>
                  <a:lnTo>
                    <a:pt x="0" y="1485"/>
                  </a:lnTo>
                  <a:lnTo>
                    <a:pt x="0" y="1489"/>
                  </a:lnTo>
                  <a:lnTo>
                    <a:pt x="1" y="1492"/>
                  </a:lnTo>
                  <a:lnTo>
                    <a:pt x="3" y="1497"/>
                  </a:lnTo>
                  <a:lnTo>
                    <a:pt x="7" y="1501"/>
                  </a:lnTo>
                  <a:lnTo>
                    <a:pt x="10" y="1506"/>
                  </a:lnTo>
                  <a:lnTo>
                    <a:pt x="15" y="1511"/>
                  </a:lnTo>
                  <a:lnTo>
                    <a:pt x="20" y="1517"/>
                  </a:lnTo>
                  <a:lnTo>
                    <a:pt x="27" y="1522"/>
                  </a:lnTo>
                  <a:lnTo>
                    <a:pt x="34" y="1529"/>
                  </a:lnTo>
                  <a:lnTo>
                    <a:pt x="41" y="1535"/>
                  </a:lnTo>
                  <a:lnTo>
                    <a:pt x="50" y="1540"/>
                  </a:lnTo>
                  <a:lnTo>
                    <a:pt x="59" y="1545"/>
                  </a:lnTo>
                  <a:lnTo>
                    <a:pt x="68" y="1551"/>
                  </a:lnTo>
                  <a:lnTo>
                    <a:pt x="79" y="1555"/>
                  </a:lnTo>
                  <a:lnTo>
                    <a:pt x="90" y="1559"/>
                  </a:lnTo>
                  <a:lnTo>
                    <a:pt x="103" y="1560"/>
                  </a:lnTo>
                  <a:lnTo>
                    <a:pt x="103" y="1560"/>
                  </a:lnTo>
                  <a:lnTo>
                    <a:pt x="105" y="1559"/>
                  </a:lnTo>
                  <a:lnTo>
                    <a:pt x="107" y="1557"/>
                  </a:lnTo>
                  <a:lnTo>
                    <a:pt x="110" y="1554"/>
                  </a:lnTo>
                  <a:lnTo>
                    <a:pt x="112" y="1551"/>
                  </a:lnTo>
                  <a:lnTo>
                    <a:pt x="114" y="1548"/>
                  </a:lnTo>
                  <a:lnTo>
                    <a:pt x="117" y="1544"/>
                  </a:lnTo>
                  <a:lnTo>
                    <a:pt x="121" y="1539"/>
                  </a:lnTo>
                  <a:lnTo>
                    <a:pt x="123" y="1535"/>
                  </a:lnTo>
                  <a:lnTo>
                    <a:pt x="126" y="1530"/>
                  </a:lnTo>
                  <a:lnTo>
                    <a:pt x="128" y="1527"/>
                  </a:lnTo>
                  <a:lnTo>
                    <a:pt x="132" y="1521"/>
                  </a:lnTo>
                  <a:lnTo>
                    <a:pt x="134" y="1517"/>
                  </a:lnTo>
                  <a:lnTo>
                    <a:pt x="136" y="1513"/>
                  </a:lnTo>
                  <a:lnTo>
                    <a:pt x="138" y="1510"/>
                  </a:lnTo>
                  <a:lnTo>
                    <a:pt x="142" y="1507"/>
                  </a:lnTo>
                  <a:lnTo>
                    <a:pt x="143" y="1503"/>
                  </a:lnTo>
                  <a:lnTo>
                    <a:pt x="145" y="1500"/>
                  </a:lnTo>
                  <a:lnTo>
                    <a:pt x="149" y="1495"/>
                  </a:lnTo>
                  <a:lnTo>
                    <a:pt x="153" y="1490"/>
                  </a:lnTo>
                  <a:lnTo>
                    <a:pt x="157" y="1484"/>
                  </a:lnTo>
                  <a:lnTo>
                    <a:pt x="162" y="1478"/>
                  </a:lnTo>
                  <a:lnTo>
                    <a:pt x="167" y="1472"/>
                  </a:lnTo>
                  <a:lnTo>
                    <a:pt x="173" y="1465"/>
                  </a:lnTo>
                  <a:lnTo>
                    <a:pt x="176" y="1459"/>
                  </a:lnTo>
                  <a:lnTo>
                    <a:pt x="182" y="1452"/>
                  </a:lnTo>
                  <a:lnTo>
                    <a:pt x="187" y="1447"/>
                  </a:lnTo>
                  <a:lnTo>
                    <a:pt x="192" y="1440"/>
                  </a:lnTo>
                  <a:lnTo>
                    <a:pt x="196" y="1435"/>
                  </a:lnTo>
                  <a:lnTo>
                    <a:pt x="201" y="1430"/>
                  </a:lnTo>
                  <a:lnTo>
                    <a:pt x="203" y="1426"/>
                  </a:lnTo>
                  <a:lnTo>
                    <a:pt x="206" y="1423"/>
                  </a:lnTo>
                  <a:lnTo>
                    <a:pt x="210" y="1419"/>
                  </a:lnTo>
                  <a:lnTo>
                    <a:pt x="213" y="1413"/>
                  </a:lnTo>
                  <a:lnTo>
                    <a:pt x="218" y="1407"/>
                  </a:lnTo>
                  <a:lnTo>
                    <a:pt x="224" y="1400"/>
                  </a:lnTo>
                  <a:lnTo>
                    <a:pt x="229" y="1393"/>
                  </a:lnTo>
                  <a:lnTo>
                    <a:pt x="236" y="1385"/>
                  </a:lnTo>
                  <a:lnTo>
                    <a:pt x="243" y="1378"/>
                  </a:lnTo>
                  <a:lnTo>
                    <a:pt x="251" y="1370"/>
                  </a:lnTo>
                  <a:lnTo>
                    <a:pt x="256" y="1364"/>
                  </a:lnTo>
                  <a:lnTo>
                    <a:pt x="264" y="1356"/>
                  </a:lnTo>
                  <a:lnTo>
                    <a:pt x="270" y="1350"/>
                  </a:lnTo>
                  <a:lnTo>
                    <a:pt x="278" y="1343"/>
                  </a:lnTo>
                  <a:lnTo>
                    <a:pt x="283" y="1337"/>
                  </a:lnTo>
                  <a:lnTo>
                    <a:pt x="289" y="1332"/>
                  </a:lnTo>
                  <a:lnTo>
                    <a:pt x="293" y="1328"/>
                  </a:lnTo>
                  <a:lnTo>
                    <a:pt x="298" y="1324"/>
                  </a:lnTo>
                  <a:lnTo>
                    <a:pt x="300" y="1322"/>
                  </a:lnTo>
                  <a:lnTo>
                    <a:pt x="306" y="1317"/>
                  </a:lnTo>
                  <a:lnTo>
                    <a:pt x="313" y="1311"/>
                  </a:lnTo>
                  <a:lnTo>
                    <a:pt x="322" y="1301"/>
                  </a:lnTo>
                  <a:lnTo>
                    <a:pt x="332" y="1291"/>
                  </a:lnTo>
                  <a:lnTo>
                    <a:pt x="343" y="1280"/>
                  </a:lnTo>
                  <a:lnTo>
                    <a:pt x="354" y="1268"/>
                  </a:lnTo>
                  <a:lnTo>
                    <a:pt x="367" y="1255"/>
                  </a:lnTo>
                  <a:lnTo>
                    <a:pt x="378" y="1244"/>
                  </a:lnTo>
                  <a:lnTo>
                    <a:pt x="389" y="1231"/>
                  </a:lnTo>
                  <a:lnTo>
                    <a:pt x="400" y="1221"/>
                  </a:lnTo>
                  <a:lnTo>
                    <a:pt x="410" y="1210"/>
                  </a:lnTo>
                  <a:lnTo>
                    <a:pt x="418" y="1201"/>
                  </a:lnTo>
                  <a:lnTo>
                    <a:pt x="426" y="1194"/>
                  </a:lnTo>
                  <a:lnTo>
                    <a:pt x="431" y="1189"/>
                  </a:lnTo>
                  <a:lnTo>
                    <a:pt x="435" y="1185"/>
                  </a:lnTo>
                  <a:lnTo>
                    <a:pt x="436" y="1184"/>
                  </a:lnTo>
                  <a:lnTo>
                    <a:pt x="440" y="1182"/>
                  </a:lnTo>
                  <a:lnTo>
                    <a:pt x="445" y="1179"/>
                  </a:lnTo>
                  <a:lnTo>
                    <a:pt x="453" y="1175"/>
                  </a:lnTo>
                  <a:lnTo>
                    <a:pt x="460" y="1171"/>
                  </a:lnTo>
                  <a:lnTo>
                    <a:pt x="469" y="1167"/>
                  </a:lnTo>
                  <a:lnTo>
                    <a:pt x="478" y="1163"/>
                  </a:lnTo>
                  <a:lnTo>
                    <a:pt x="487" y="1157"/>
                  </a:lnTo>
                  <a:lnTo>
                    <a:pt x="494" y="1153"/>
                  </a:lnTo>
                  <a:lnTo>
                    <a:pt x="504" y="1149"/>
                  </a:lnTo>
                  <a:lnTo>
                    <a:pt x="512" y="1145"/>
                  </a:lnTo>
                  <a:lnTo>
                    <a:pt x="520" y="1140"/>
                  </a:lnTo>
                  <a:lnTo>
                    <a:pt x="526" y="1137"/>
                  </a:lnTo>
                  <a:lnTo>
                    <a:pt x="531" y="1133"/>
                  </a:lnTo>
                  <a:lnTo>
                    <a:pt x="534" y="1131"/>
                  </a:lnTo>
                  <a:lnTo>
                    <a:pt x="536" y="1128"/>
                  </a:lnTo>
                  <a:lnTo>
                    <a:pt x="537" y="1127"/>
                  </a:lnTo>
                  <a:lnTo>
                    <a:pt x="540" y="1125"/>
                  </a:lnTo>
                  <a:lnTo>
                    <a:pt x="543" y="1123"/>
                  </a:lnTo>
                  <a:lnTo>
                    <a:pt x="549" y="1119"/>
                  </a:lnTo>
                  <a:lnTo>
                    <a:pt x="554" y="1115"/>
                  </a:lnTo>
                  <a:lnTo>
                    <a:pt x="561" y="1111"/>
                  </a:lnTo>
                  <a:lnTo>
                    <a:pt x="569" y="1107"/>
                  </a:lnTo>
                  <a:lnTo>
                    <a:pt x="576" y="1102"/>
                  </a:lnTo>
                  <a:lnTo>
                    <a:pt x="582" y="1098"/>
                  </a:lnTo>
                  <a:lnTo>
                    <a:pt x="590" y="1093"/>
                  </a:lnTo>
                  <a:lnTo>
                    <a:pt x="596" y="1090"/>
                  </a:lnTo>
                  <a:lnTo>
                    <a:pt x="603" y="1085"/>
                  </a:lnTo>
                  <a:lnTo>
                    <a:pt x="608" y="1083"/>
                  </a:lnTo>
                  <a:lnTo>
                    <a:pt x="612" y="1079"/>
                  </a:lnTo>
                  <a:lnTo>
                    <a:pt x="614" y="1077"/>
                  </a:lnTo>
                  <a:lnTo>
                    <a:pt x="617" y="1075"/>
                  </a:lnTo>
                  <a:lnTo>
                    <a:pt x="617" y="1075"/>
                  </a:lnTo>
                  <a:lnTo>
                    <a:pt x="617" y="1072"/>
                  </a:lnTo>
                  <a:lnTo>
                    <a:pt x="617" y="1069"/>
                  </a:lnTo>
                  <a:lnTo>
                    <a:pt x="617" y="1064"/>
                  </a:lnTo>
                  <a:lnTo>
                    <a:pt x="616" y="1059"/>
                  </a:lnTo>
                  <a:lnTo>
                    <a:pt x="616" y="1054"/>
                  </a:lnTo>
                  <a:lnTo>
                    <a:pt x="616" y="1048"/>
                  </a:lnTo>
                  <a:lnTo>
                    <a:pt x="616" y="1041"/>
                  </a:lnTo>
                  <a:lnTo>
                    <a:pt x="614" y="1035"/>
                  </a:lnTo>
                  <a:lnTo>
                    <a:pt x="614" y="1029"/>
                  </a:lnTo>
                  <a:lnTo>
                    <a:pt x="614" y="1024"/>
                  </a:lnTo>
                  <a:lnTo>
                    <a:pt x="614" y="1019"/>
                  </a:lnTo>
                  <a:lnTo>
                    <a:pt x="614" y="1015"/>
                  </a:lnTo>
                  <a:lnTo>
                    <a:pt x="614" y="1011"/>
                  </a:lnTo>
                  <a:lnTo>
                    <a:pt x="614" y="1009"/>
                  </a:lnTo>
                  <a:lnTo>
                    <a:pt x="615" y="1008"/>
                  </a:lnTo>
                  <a:lnTo>
                    <a:pt x="619" y="1008"/>
                  </a:lnTo>
                  <a:lnTo>
                    <a:pt x="626" y="1004"/>
                  </a:lnTo>
                  <a:lnTo>
                    <a:pt x="636" y="998"/>
                  </a:lnTo>
                  <a:lnTo>
                    <a:pt x="650" y="989"/>
                  </a:lnTo>
                  <a:lnTo>
                    <a:pt x="664" y="980"/>
                  </a:lnTo>
                  <a:lnTo>
                    <a:pt x="680" y="968"/>
                  </a:lnTo>
                  <a:lnTo>
                    <a:pt x="697" y="956"/>
                  </a:lnTo>
                  <a:lnTo>
                    <a:pt x="714" y="943"/>
                  </a:lnTo>
                  <a:lnTo>
                    <a:pt x="730" y="931"/>
                  </a:lnTo>
                  <a:lnTo>
                    <a:pt x="747" y="917"/>
                  </a:lnTo>
                  <a:lnTo>
                    <a:pt x="762" y="906"/>
                  </a:lnTo>
                  <a:lnTo>
                    <a:pt x="776" y="895"/>
                  </a:lnTo>
                  <a:lnTo>
                    <a:pt x="787" y="887"/>
                  </a:lnTo>
                  <a:lnTo>
                    <a:pt x="796" y="879"/>
                  </a:lnTo>
                  <a:lnTo>
                    <a:pt x="802" y="875"/>
                  </a:lnTo>
                  <a:lnTo>
                    <a:pt x="805" y="873"/>
                  </a:lnTo>
                  <a:lnTo>
                    <a:pt x="809" y="877"/>
                  </a:lnTo>
                  <a:lnTo>
                    <a:pt x="816" y="882"/>
                  </a:lnTo>
                  <a:lnTo>
                    <a:pt x="825" y="892"/>
                  </a:lnTo>
                  <a:lnTo>
                    <a:pt x="837" y="905"/>
                  </a:lnTo>
                  <a:lnTo>
                    <a:pt x="849" y="921"/>
                  </a:lnTo>
                  <a:lnTo>
                    <a:pt x="862" y="938"/>
                  </a:lnTo>
                  <a:lnTo>
                    <a:pt x="875" y="958"/>
                  </a:lnTo>
                  <a:lnTo>
                    <a:pt x="890" y="977"/>
                  </a:lnTo>
                  <a:lnTo>
                    <a:pt x="903" y="997"/>
                  </a:lnTo>
                  <a:lnTo>
                    <a:pt x="917" y="1017"/>
                  </a:lnTo>
                  <a:lnTo>
                    <a:pt x="929" y="1035"/>
                  </a:lnTo>
                  <a:lnTo>
                    <a:pt x="941" y="1051"/>
                  </a:lnTo>
                  <a:lnTo>
                    <a:pt x="950" y="1066"/>
                  </a:lnTo>
                  <a:lnTo>
                    <a:pt x="958" y="1077"/>
                  </a:lnTo>
                  <a:lnTo>
                    <a:pt x="964" y="1084"/>
                  </a:lnTo>
                  <a:lnTo>
                    <a:pt x="969" y="1087"/>
                  </a:lnTo>
                  <a:lnTo>
                    <a:pt x="971" y="1089"/>
                  </a:lnTo>
                  <a:lnTo>
                    <a:pt x="973" y="1091"/>
                  </a:lnTo>
                  <a:lnTo>
                    <a:pt x="977" y="1092"/>
                  </a:lnTo>
                  <a:lnTo>
                    <a:pt x="981" y="1094"/>
                  </a:lnTo>
                  <a:lnTo>
                    <a:pt x="984" y="1097"/>
                  </a:lnTo>
                  <a:lnTo>
                    <a:pt x="990" y="1099"/>
                  </a:lnTo>
                  <a:lnTo>
                    <a:pt x="994" y="1101"/>
                  </a:lnTo>
                  <a:lnTo>
                    <a:pt x="1000" y="1103"/>
                  </a:lnTo>
                  <a:lnTo>
                    <a:pt x="1003" y="1106"/>
                  </a:lnTo>
                  <a:lnTo>
                    <a:pt x="1008" y="1108"/>
                  </a:lnTo>
                  <a:lnTo>
                    <a:pt x="1012" y="1110"/>
                  </a:lnTo>
                  <a:lnTo>
                    <a:pt x="1017" y="1112"/>
                  </a:lnTo>
                  <a:lnTo>
                    <a:pt x="1019" y="1113"/>
                  </a:lnTo>
                  <a:lnTo>
                    <a:pt x="1023" y="1115"/>
                  </a:lnTo>
                  <a:lnTo>
                    <a:pt x="1025" y="1117"/>
                  </a:lnTo>
                  <a:lnTo>
                    <a:pt x="1027" y="1117"/>
                  </a:lnTo>
                  <a:lnTo>
                    <a:pt x="1030" y="1120"/>
                  </a:lnTo>
                  <a:lnTo>
                    <a:pt x="1034" y="1122"/>
                  </a:lnTo>
                  <a:lnTo>
                    <a:pt x="1038" y="1126"/>
                  </a:lnTo>
                  <a:lnTo>
                    <a:pt x="1041" y="1130"/>
                  </a:lnTo>
                  <a:lnTo>
                    <a:pt x="1045" y="1135"/>
                  </a:lnTo>
                  <a:lnTo>
                    <a:pt x="1049" y="1140"/>
                  </a:lnTo>
                  <a:lnTo>
                    <a:pt x="1052" y="1145"/>
                  </a:lnTo>
                  <a:lnTo>
                    <a:pt x="1056" y="1149"/>
                  </a:lnTo>
                  <a:lnTo>
                    <a:pt x="1059" y="1155"/>
                  </a:lnTo>
                  <a:lnTo>
                    <a:pt x="1063" y="1160"/>
                  </a:lnTo>
                  <a:lnTo>
                    <a:pt x="1067" y="1166"/>
                  </a:lnTo>
                  <a:lnTo>
                    <a:pt x="1070" y="1170"/>
                  </a:lnTo>
                  <a:lnTo>
                    <a:pt x="1073" y="1176"/>
                  </a:lnTo>
                  <a:lnTo>
                    <a:pt x="1077" y="1180"/>
                  </a:lnTo>
                  <a:lnTo>
                    <a:pt x="1080" y="1183"/>
                  </a:lnTo>
                  <a:lnTo>
                    <a:pt x="1084" y="1186"/>
                  </a:lnTo>
                  <a:lnTo>
                    <a:pt x="1084" y="1189"/>
                  </a:lnTo>
                  <a:lnTo>
                    <a:pt x="1086" y="1190"/>
                  </a:lnTo>
                  <a:lnTo>
                    <a:pt x="1086" y="1193"/>
                  </a:lnTo>
                  <a:lnTo>
                    <a:pt x="1088" y="1195"/>
                  </a:lnTo>
                  <a:lnTo>
                    <a:pt x="1088" y="1198"/>
                  </a:lnTo>
                  <a:lnTo>
                    <a:pt x="1090" y="1200"/>
                  </a:lnTo>
                  <a:lnTo>
                    <a:pt x="1090" y="1203"/>
                  </a:lnTo>
                  <a:lnTo>
                    <a:pt x="1092" y="1205"/>
                  </a:lnTo>
                  <a:lnTo>
                    <a:pt x="1092" y="1209"/>
                  </a:lnTo>
                  <a:lnTo>
                    <a:pt x="1094" y="1211"/>
                  </a:lnTo>
                  <a:lnTo>
                    <a:pt x="1094" y="1215"/>
                  </a:lnTo>
                  <a:lnTo>
                    <a:pt x="1096" y="1217"/>
                  </a:lnTo>
                  <a:lnTo>
                    <a:pt x="1096" y="1220"/>
                  </a:lnTo>
                  <a:lnTo>
                    <a:pt x="1098" y="1222"/>
                  </a:lnTo>
                  <a:lnTo>
                    <a:pt x="1099" y="1224"/>
                  </a:lnTo>
                  <a:lnTo>
                    <a:pt x="1100" y="1226"/>
                  </a:lnTo>
                  <a:lnTo>
                    <a:pt x="1101" y="1229"/>
                  </a:lnTo>
                  <a:lnTo>
                    <a:pt x="1104" y="1233"/>
                  </a:lnTo>
                  <a:lnTo>
                    <a:pt x="1109" y="1239"/>
                  </a:lnTo>
                  <a:lnTo>
                    <a:pt x="1115" y="1245"/>
                  </a:lnTo>
                  <a:lnTo>
                    <a:pt x="1121" y="1254"/>
                  </a:lnTo>
                  <a:lnTo>
                    <a:pt x="1128" y="1261"/>
                  </a:lnTo>
                  <a:lnTo>
                    <a:pt x="1136" y="1271"/>
                  </a:lnTo>
                  <a:lnTo>
                    <a:pt x="1146" y="1279"/>
                  </a:lnTo>
                  <a:lnTo>
                    <a:pt x="1153" y="1289"/>
                  </a:lnTo>
                  <a:lnTo>
                    <a:pt x="1162" y="1298"/>
                  </a:lnTo>
                  <a:lnTo>
                    <a:pt x="1169" y="1307"/>
                  </a:lnTo>
                  <a:lnTo>
                    <a:pt x="1177" y="1315"/>
                  </a:lnTo>
                  <a:lnTo>
                    <a:pt x="1183" y="1323"/>
                  </a:lnTo>
                  <a:lnTo>
                    <a:pt x="1189" y="1329"/>
                  </a:lnTo>
                  <a:lnTo>
                    <a:pt x="1194" y="1334"/>
                  </a:lnTo>
                  <a:lnTo>
                    <a:pt x="1197" y="1337"/>
                  </a:lnTo>
                  <a:lnTo>
                    <a:pt x="1197" y="1339"/>
                  </a:lnTo>
                  <a:lnTo>
                    <a:pt x="1199" y="1340"/>
                  </a:lnTo>
                  <a:lnTo>
                    <a:pt x="1199" y="1342"/>
                  </a:lnTo>
                  <a:lnTo>
                    <a:pt x="1201" y="1343"/>
                  </a:lnTo>
                  <a:lnTo>
                    <a:pt x="1201" y="1346"/>
                  </a:lnTo>
                  <a:lnTo>
                    <a:pt x="1203" y="1348"/>
                  </a:lnTo>
                  <a:lnTo>
                    <a:pt x="1203" y="1350"/>
                  </a:lnTo>
                  <a:lnTo>
                    <a:pt x="1205" y="1352"/>
                  </a:lnTo>
                  <a:lnTo>
                    <a:pt x="1205" y="1355"/>
                  </a:lnTo>
                  <a:lnTo>
                    <a:pt x="1206" y="1357"/>
                  </a:lnTo>
                  <a:lnTo>
                    <a:pt x="1206" y="1359"/>
                  </a:lnTo>
                  <a:lnTo>
                    <a:pt x="1208" y="1361"/>
                  </a:lnTo>
                  <a:lnTo>
                    <a:pt x="1208" y="1363"/>
                  </a:lnTo>
                  <a:lnTo>
                    <a:pt x="1210" y="1364"/>
                  </a:lnTo>
                  <a:lnTo>
                    <a:pt x="1212" y="1366"/>
                  </a:lnTo>
                  <a:lnTo>
                    <a:pt x="1214" y="1366"/>
                  </a:lnTo>
                  <a:lnTo>
                    <a:pt x="1215" y="1367"/>
                  </a:lnTo>
                  <a:lnTo>
                    <a:pt x="1216" y="1369"/>
                  </a:lnTo>
                  <a:lnTo>
                    <a:pt x="1218" y="1371"/>
                  </a:lnTo>
                  <a:lnTo>
                    <a:pt x="1220" y="1371"/>
                  </a:lnTo>
                  <a:lnTo>
                    <a:pt x="1222" y="1373"/>
                  </a:lnTo>
                  <a:lnTo>
                    <a:pt x="1224" y="1374"/>
                  </a:lnTo>
                  <a:lnTo>
                    <a:pt x="1226" y="1376"/>
                  </a:lnTo>
                  <a:lnTo>
                    <a:pt x="1229" y="1376"/>
                  </a:lnTo>
                  <a:lnTo>
                    <a:pt x="1231" y="1378"/>
                  </a:lnTo>
                  <a:lnTo>
                    <a:pt x="1233" y="1379"/>
                  </a:lnTo>
                  <a:lnTo>
                    <a:pt x="1235" y="1381"/>
                  </a:lnTo>
                  <a:lnTo>
                    <a:pt x="1237" y="1381"/>
                  </a:lnTo>
                  <a:lnTo>
                    <a:pt x="1239" y="1383"/>
                  </a:lnTo>
                  <a:lnTo>
                    <a:pt x="1241" y="1383"/>
                  </a:lnTo>
                  <a:lnTo>
                    <a:pt x="1243" y="1383"/>
                  </a:lnTo>
                  <a:lnTo>
                    <a:pt x="1246" y="1383"/>
                  </a:lnTo>
                  <a:lnTo>
                    <a:pt x="1246" y="1383"/>
                  </a:lnTo>
                  <a:lnTo>
                    <a:pt x="1248" y="1383"/>
                  </a:lnTo>
                  <a:lnTo>
                    <a:pt x="1250" y="1383"/>
                  </a:lnTo>
                  <a:lnTo>
                    <a:pt x="1254" y="1382"/>
                  </a:lnTo>
                  <a:lnTo>
                    <a:pt x="1256" y="1382"/>
                  </a:lnTo>
                  <a:lnTo>
                    <a:pt x="1260" y="1380"/>
                  </a:lnTo>
                  <a:lnTo>
                    <a:pt x="1264" y="1380"/>
                  </a:lnTo>
                  <a:lnTo>
                    <a:pt x="1268" y="1378"/>
                  </a:lnTo>
                  <a:lnTo>
                    <a:pt x="1270" y="1378"/>
                  </a:lnTo>
                  <a:lnTo>
                    <a:pt x="1273" y="1377"/>
                  </a:lnTo>
                  <a:lnTo>
                    <a:pt x="1276" y="1377"/>
                  </a:lnTo>
                  <a:lnTo>
                    <a:pt x="1280" y="1375"/>
                  </a:lnTo>
                  <a:lnTo>
                    <a:pt x="1282" y="1375"/>
                  </a:lnTo>
                  <a:lnTo>
                    <a:pt x="1284" y="1374"/>
                  </a:lnTo>
                  <a:lnTo>
                    <a:pt x="1284" y="1374"/>
                  </a:lnTo>
                  <a:lnTo>
                    <a:pt x="1286" y="1373"/>
                  </a:lnTo>
                  <a:lnTo>
                    <a:pt x="1288" y="1376"/>
                  </a:lnTo>
                  <a:lnTo>
                    <a:pt x="1290" y="1378"/>
                  </a:lnTo>
                  <a:lnTo>
                    <a:pt x="1293" y="1381"/>
                  </a:lnTo>
                  <a:lnTo>
                    <a:pt x="1296" y="1383"/>
                  </a:lnTo>
                  <a:lnTo>
                    <a:pt x="1300" y="1387"/>
                  </a:lnTo>
                  <a:lnTo>
                    <a:pt x="1304" y="1389"/>
                  </a:lnTo>
                  <a:lnTo>
                    <a:pt x="1308" y="1391"/>
                  </a:lnTo>
                  <a:lnTo>
                    <a:pt x="1313" y="1393"/>
                  </a:lnTo>
                  <a:lnTo>
                    <a:pt x="1316" y="1397"/>
                  </a:lnTo>
                  <a:lnTo>
                    <a:pt x="1320" y="1399"/>
                  </a:lnTo>
                  <a:lnTo>
                    <a:pt x="1324" y="1401"/>
                  </a:lnTo>
                  <a:lnTo>
                    <a:pt x="1330" y="1403"/>
                  </a:lnTo>
                  <a:lnTo>
                    <a:pt x="1333" y="1405"/>
                  </a:lnTo>
                  <a:lnTo>
                    <a:pt x="1337" y="1407"/>
                  </a:lnTo>
                  <a:lnTo>
                    <a:pt x="1341" y="1409"/>
                  </a:lnTo>
                  <a:lnTo>
                    <a:pt x="1344" y="1411"/>
                  </a:lnTo>
                  <a:lnTo>
                    <a:pt x="1346" y="1413"/>
                  </a:lnTo>
                  <a:lnTo>
                    <a:pt x="1348" y="1414"/>
                  </a:lnTo>
                  <a:lnTo>
                    <a:pt x="1350" y="1416"/>
                  </a:lnTo>
                  <a:lnTo>
                    <a:pt x="1352" y="1417"/>
                  </a:lnTo>
                  <a:lnTo>
                    <a:pt x="1354" y="1419"/>
                  </a:lnTo>
                  <a:lnTo>
                    <a:pt x="1357" y="1421"/>
                  </a:lnTo>
                  <a:lnTo>
                    <a:pt x="1359" y="1423"/>
                  </a:lnTo>
                  <a:lnTo>
                    <a:pt x="1362" y="1425"/>
                  </a:lnTo>
                  <a:lnTo>
                    <a:pt x="1364" y="1428"/>
                  </a:lnTo>
                  <a:lnTo>
                    <a:pt x="1366" y="1430"/>
                  </a:lnTo>
                  <a:lnTo>
                    <a:pt x="1368" y="1432"/>
                  </a:lnTo>
                  <a:lnTo>
                    <a:pt x="1371" y="1434"/>
                  </a:lnTo>
                  <a:lnTo>
                    <a:pt x="1373" y="1435"/>
                  </a:lnTo>
                  <a:lnTo>
                    <a:pt x="1375" y="1437"/>
                  </a:lnTo>
                  <a:lnTo>
                    <a:pt x="1376" y="1439"/>
                  </a:lnTo>
                  <a:lnTo>
                    <a:pt x="1378" y="1441"/>
                  </a:lnTo>
                  <a:lnTo>
                    <a:pt x="1378" y="1442"/>
                  </a:lnTo>
                  <a:lnTo>
                    <a:pt x="1379" y="1443"/>
                  </a:lnTo>
                  <a:lnTo>
                    <a:pt x="1379" y="1445"/>
                  </a:lnTo>
                  <a:lnTo>
                    <a:pt x="1381" y="1446"/>
                  </a:lnTo>
                  <a:lnTo>
                    <a:pt x="1381" y="1450"/>
                  </a:lnTo>
                  <a:lnTo>
                    <a:pt x="1382" y="1452"/>
                  </a:lnTo>
                  <a:lnTo>
                    <a:pt x="1384" y="1455"/>
                  </a:lnTo>
                  <a:lnTo>
                    <a:pt x="1386" y="1457"/>
                  </a:lnTo>
                  <a:lnTo>
                    <a:pt x="1386" y="1461"/>
                  </a:lnTo>
                  <a:lnTo>
                    <a:pt x="1388" y="1463"/>
                  </a:lnTo>
                  <a:lnTo>
                    <a:pt x="1390" y="1467"/>
                  </a:lnTo>
                  <a:lnTo>
                    <a:pt x="1391" y="1469"/>
                  </a:lnTo>
                  <a:lnTo>
                    <a:pt x="1391" y="1472"/>
                  </a:lnTo>
                  <a:lnTo>
                    <a:pt x="1392" y="1474"/>
                  </a:lnTo>
                  <a:lnTo>
                    <a:pt x="1392" y="1476"/>
                  </a:lnTo>
                  <a:lnTo>
                    <a:pt x="1394" y="1477"/>
                  </a:lnTo>
                  <a:lnTo>
                    <a:pt x="1393" y="1481"/>
                  </a:lnTo>
                  <a:lnTo>
                    <a:pt x="1393" y="1483"/>
                  </a:lnTo>
                  <a:lnTo>
                    <a:pt x="1392" y="1485"/>
                  </a:lnTo>
                  <a:lnTo>
                    <a:pt x="1392" y="1486"/>
                  </a:lnTo>
                  <a:lnTo>
                    <a:pt x="1390" y="1488"/>
                  </a:lnTo>
                  <a:lnTo>
                    <a:pt x="1390" y="1489"/>
                  </a:lnTo>
                  <a:lnTo>
                    <a:pt x="1388" y="1489"/>
                  </a:lnTo>
                  <a:lnTo>
                    <a:pt x="1388" y="1489"/>
                  </a:lnTo>
                  <a:lnTo>
                    <a:pt x="1386" y="1489"/>
                  </a:lnTo>
                  <a:lnTo>
                    <a:pt x="1386" y="1489"/>
                  </a:lnTo>
                  <a:lnTo>
                    <a:pt x="1384" y="1489"/>
                  </a:lnTo>
                  <a:lnTo>
                    <a:pt x="1384" y="1489"/>
                  </a:lnTo>
                  <a:lnTo>
                    <a:pt x="1382" y="1489"/>
                  </a:lnTo>
                  <a:lnTo>
                    <a:pt x="1382" y="1489"/>
                  </a:lnTo>
                  <a:lnTo>
                    <a:pt x="1382" y="1489"/>
                  </a:lnTo>
                  <a:lnTo>
                    <a:pt x="1382" y="1489"/>
                  </a:lnTo>
                  <a:lnTo>
                    <a:pt x="1381" y="1490"/>
                  </a:lnTo>
                  <a:lnTo>
                    <a:pt x="1381" y="1489"/>
                  </a:lnTo>
                  <a:lnTo>
                    <a:pt x="1379" y="1487"/>
                  </a:lnTo>
                  <a:lnTo>
                    <a:pt x="1378" y="1485"/>
                  </a:lnTo>
                  <a:lnTo>
                    <a:pt x="1374" y="1483"/>
                  </a:lnTo>
                  <a:lnTo>
                    <a:pt x="1371" y="1479"/>
                  </a:lnTo>
                  <a:lnTo>
                    <a:pt x="1368" y="1475"/>
                  </a:lnTo>
                  <a:lnTo>
                    <a:pt x="1365" y="1472"/>
                  </a:lnTo>
                  <a:lnTo>
                    <a:pt x="1360" y="1468"/>
                  </a:lnTo>
                  <a:lnTo>
                    <a:pt x="1356" y="1464"/>
                  </a:lnTo>
                  <a:lnTo>
                    <a:pt x="1352" y="1461"/>
                  </a:lnTo>
                  <a:lnTo>
                    <a:pt x="1349" y="1456"/>
                  </a:lnTo>
                  <a:lnTo>
                    <a:pt x="1344" y="1453"/>
                  </a:lnTo>
                  <a:lnTo>
                    <a:pt x="1340" y="1449"/>
                  </a:lnTo>
                  <a:lnTo>
                    <a:pt x="1336" y="1447"/>
                  </a:lnTo>
                  <a:lnTo>
                    <a:pt x="1333" y="1443"/>
                  </a:lnTo>
                  <a:lnTo>
                    <a:pt x="1329" y="1442"/>
                  </a:lnTo>
                  <a:lnTo>
                    <a:pt x="1326" y="1440"/>
                  </a:lnTo>
                  <a:lnTo>
                    <a:pt x="1322" y="1439"/>
                  </a:lnTo>
                  <a:lnTo>
                    <a:pt x="1320" y="1437"/>
                  </a:lnTo>
                  <a:lnTo>
                    <a:pt x="1318" y="1437"/>
                  </a:lnTo>
                  <a:lnTo>
                    <a:pt x="1316" y="1437"/>
                  </a:lnTo>
                  <a:lnTo>
                    <a:pt x="1314" y="1437"/>
                  </a:lnTo>
                  <a:lnTo>
                    <a:pt x="1313" y="1436"/>
                  </a:lnTo>
                  <a:lnTo>
                    <a:pt x="1311" y="1438"/>
                  </a:lnTo>
                  <a:lnTo>
                    <a:pt x="1309" y="1438"/>
                  </a:lnTo>
                  <a:lnTo>
                    <a:pt x="1307" y="1439"/>
                  </a:lnTo>
                  <a:lnTo>
                    <a:pt x="1307" y="1439"/>
                  </a:lnTo>
                  <a:lnTo>
                    <a:pt x="1306" y="1440"/>
                  </a:lnTo>
                  <a:lnTo>
                    <a:pt x="1306" y="1440"/>
                  </a:lnTo>
                  <a:lnTo>
                    <a:pt x="1306" y="1440"/>
                  </a:lnTo>
                  <a:lnTo>
                    <a:pt x="1306" y="1440"/>
                  </a:lnTo>
                  <a:lnTo>
                    <a:pt x="1306" y="1442"/>
                  </a:lnTo>
                  <a:lnTo>
                    <a:pt x="1306" y="1444"/>
                  </a:lnTo>
                  <a:lnTo>
                    <a:pt x="1306" y="1445"/>
                  </a:lnTo>
                  <a:lnTo>
                    <a:pt x="1306" y="1445"/>
                  </a:lnTo>
                  <a:lnTo>
                    <a:pt x="1306" y="1447"/>
                  </a:lnTo>
                  <a:lnTo>
                    <a:pt x="1306" y="1449"/>
                  </a:lnTo>
                  <a:lnTo>
                    <a:pt x="1306" y="1451"/>
                  </a:lnTo>
                  <a:lnTo>
                    <a:pt x="1308" y="1451"/>
                  </a:lnTo>
                  <a:lnTo>
                    <a:pt x="1308" y="1453"/>
                  </a:lnTo>
                  <a:lnTo>
                    <a:pt x="1308" y="1454"/>
                  </a:lnTo>
                  <a:lnTo>
                    <a:pt x="1308" y="1455"/>
                  </a:lnTo>
                  <a:lnTo>
                    <a:pt x="1310" y="1455"/>
                  </a:lnTo>
                  <a:lnTo>
                    <a:pt x="1310" y="1457"/>
                  </a:lnTo>
                  <a:lnTo>
                    <a:pt x="1312" y="1457"/>
                  </a:lnTo>
                  <a:lnTo>
                    <a:pt x="1314" y="1458"/>
                  </a:lnTo>
                  <a:lnTo>
                    <a:pt x="1316" y="1458"/>
                  </a:lnTo>
                  <a:lnTo>
                    <a:pt x="1316" y="1460"/>
                  </a:lnTo>
                  <a:lnTo>
                    <a:pt x="1317" y="1461"/>
                  </a:lnTo>
                  <a:lnTo>
                    <a:pt x="1318" y="1463"/>
                  </a:lnTo>
                  <a:lnTo>
                    <a:pt x="1320" y="1465"/>
                  </a:lnTo>
                  <a:lnTo>
                    <a:pt x="1321" y="1469"/>
                  </a:lnTo>
                  <a:lnTo>
                    <a:pt x="1323" y="1471"/>
                  </a:lnTo>
                  <a:lnTo>
                    <a:pt x="1324" y="1475"/>
                  </a:lnTo>
                  <a:lnTo>
                    <a:pt x="1327" y="1478"/>
                  </a:lnTo>
                  <a:lnTo>
                    <a:pt x="1329" y="1483"/>
                  </a:lnTo>
                  <a:lnTo>
                    <a:pt x="1332" y="1488"/>
                  </a:lnTo>
                  <a:lnTo>
                    <a:pt x="1334" y="1493"/>
                  </a:lnTo>
                  <a:lnTo>
                    <a:pt x="1338" y="1497"/>
                  </a:lnTo>
                  <a:lnTo>
                    <a:pt x="1341" y="1503"/>
                  </a:lnTo>
                  <a:lnTo>
                    <a:pt x="1345" y="1507"/>
                  </a:lnTo>
                  <a:lnTo>
                    <a:pt x="1349" y="1513"/>
                  </a:lnTo>
                  <a:lnTo>
                    <a:pt x="1354" y="1517"/>
                  </a:lnTo>
                  <a:lnTo>
                    <a:pt x="1358" y="1524"/>
                  </a:lnTo>
                  <a:lnTo>
                    <a:pt x="1362" y="1532"/>
                  </a:lnTo>
                  <a:lnTo>
                    <a:pt x="1368" y="1539"/>
                  </a:lnTo>
                  <a:lnTo>
                    <a:pt x="1375" y="1547"/>
                  </a:lnTo>
                  <a:lnTo>
                    <a:pt x="1381" y="1554"/>
                  </a:lnTo>
                  <a:lnTo>
                    <a:pt x="1389" y="1561"/>
                  </a:lnTo>
                  <a:lnTo>
                    <a:pt x="1397" y="1569"/>
                  </a:lnTo>
                  <a:lnTo>
                    <a:pt x="1406" y="1576"/>
                  </a:lnTo>
                  <a:lnTo>
                    <a:pt x="1414" y="1583"/>
                  </a:lnTo>
                  <a:lnTo>
                    <a:pt x="1424" y="1591"/>
                  </a:lnTo>
                  <a:lnTo>
                    <a:pt x="1433" y="1598"/>
                  </a:lnTo>
                  <a:lnTo>
                    <a:pt x="1442" y="1606"/>
                  </a:lnTo>
                  <a:lnTo>
                    <a:pt x="1452" y="1613"/>
                  </a:lnTo>
                  <a:lnTo>
                    <a:pt x="1461" y="1621"/>
                  </a:lnTo>
                  <a:lnTo>
                    <a:pt x="1470" y="1628"/>
                  </a:lnTo>
                  <a:lnTo>
                    <a:pt x="1482" y="1636"/>
                  </a:lnTo>
                  <a:lnTo>
                    <a:pt x="1491" y="1646"/>
                  </a:lnTo>
                  <a:lnTo>
                    <a:pt x="1505" y="1657"/>
                  </a:lnTo>
                  <a:lnTo>
                    <a:pt x="1521" y="1669"/>
                  </a:lnTo>
                  <a:lnTo>
                    <a:pt x="1540" y="1682"/>
                  </a:lnTo>
                  <a:lnTo>
                    <a:pt x="1560" y="1697"/>
                  </a:lnTo>
                  <a:lnTo>
                    <a:pt x="1583" y="1712"/>
                  </a:lnTo>
                  <a:lnTo>
                    <a:pt x="1605" y="1727"/>
                  </a:lnTo>
                  <a:lnTo>
                    <a:pt x="1629" y="1742"/>
                  </a:lnTo>
                  <a:lnTo>
                    <a:pt x="1651" y="1757"/>
                  </a:lnTo>
                  <a:lnTo>
                    <a:pt x="1673" y="1771"/>
                  </a:lnTo>
                  <a:lnTo>
                    <a:pt x="1693" y="1785"/>
                  </a:lnTo>
                  <a:lnTo>
                    <a:pt x="1711" y="1796"/>
                  </a:lnTo>
                  <a:lnTo>
                    <a:pt x="1727" y="1807"/>
                  </a:lnTo>
                  <a:lnTo>
                    <a:pt x="1740" y="1814"/>
                  </a:lnTo>
                  <a:lnTo>
                    <a:pt x="1749" y="1821"/>
                  </a:lnTo>
                  <a:lnTo>
                    <a:pt x="1754" y="1823"/>
                  </a:lnTo>
                  <a:lnTo>
                    <a:pt x="1754" y="1825"/>
                  </a:lnTo>
                  <a:lnTo>
                    <a:pt x="1756" y="1827"/>
                  </a:lnTo>
                  <a:lnTo>
                    <a:pt x="1758" y="1829"/>
                  </a:lnTo>
                  <a:lnTo>
                    <a:pt x="1760" y="1831"/>
                  </a:lnTo>
                  <a:lnTo>
                    <a:pt x="1760" y="1834"/>
                  </a:lnTo>
                  <a:lnTo>
                    <a:pt x="1761" y="1836"/>
                  </a:lnTo>
                  <a:lnTo>
                    <a:pt x="1762" y="1839"/>
                  </a:lnTo>
                  <a:lnTo>
                    <a:pt x="1764" y="1841"/>
                  </a:lnTo>
                  <a:lnTo>
                    <a:pt x="1764" y="1845"/>
                  </a:lnTo>
                  <a:lnTo>
                    <a:pt x="1766" y="1847"/>
                  </a:lnTo>
                  <a:lnTo>
                    <a:pt x="1766" y="1850"/>
                  </a:lnTo>
                  <a:lnTo>
                    <a:pt x="1768" y="1852"/>
                  </a:lnTo>
                  <a:lnTo>
                    <a:pt x="1768" y="1855"/>
                  </a:lnTo>
                  <a:lnTo>
                    <a:pt x="1770" y="1857"/>
                  </a:lnTo>
                  <a:lnTo>
                    <a:pt x="1771" y="1859"/>
                  </a:lnTo>
                  <a:lnTo>
                    <a:pt x="1773" y="1860"/>
                  </a:lnTo>
                  <a:lnTo>
                    <a:pt x="1773" y="1862"/>
                  </a:lnTo>
                  <a:lnTo>
                    <a:pt x="1774" y="1862"/>
                  </a:lnTo>
                  <a:lnTo>
                    <a:pt x="1776" y="1862"/>
                  </a:lnTo>
                  <a:lnTo>
                    <a:pt x="1780" y="1861"/>
                  </a:lnTo>
                  <a:lnTo>
                    <a:pt x="1782" y="1861"/>
                  </a:lnTo>
                  <a:lnTo>
                    <a:pt x="1786" y="1860"/>
                  </a:lnTo>
                  <a:lnTo>
                    <a:pt x="1789" y="1860"/>
                  </a:lnTo>
                  <a:lnTo>
                    <a:pt x="1793" y="1858"/>
                  </a:lnTo>
                  <a:lnTo>
                    <a:pt x="1796" y="1858"/>
                  </a:lnTo>
                  <a:lnTo>
                    <a:pt x="1800" y="1856"/>
                  </a:lnTo>
                  <a:lnTo>
                    <a:pt x="1804" y="1856"/>
                  </a:lnTo>
                  <a:lnTo>
                    <a:pt x="1808" y="1854"/>
                  </a:lnTo>
                  <a:lnTo>
                    <a:pt x="1809" y="1854"/>
                  </a:lnTo>
                  <a:lnTo>
                    <a:pt x="1813" y="1853"/>
                  </a:lnTo>
                  <a:lnTo>
                    <a:pt x="1815" y="1853"/>
                  </a:lnTo>
                  <a:lnTo>
                    <a:pt x="1818" y="1852"/>
                  </a:lnTo>
                  <a:lnTo>
                    <a:pt x="1819" y="1853"/>
                  </a:lnTo>
                  <a:lnTo>
                    <a:pt x="1821" y="1853"/>
                  </a:lnTo>
                  <a:lnTo>
                    <a:pt x="1823" y="1855"/>
                  </a:lnTo>
                  <a:lnTo>
                    <a:pt x="1826" y="1855"/>
                  </a:lnTo>
                  <a:lnTo>
                    <a:pt x="1828" y="1857"/>
                  </a:lnTo>
                  <a:lnTo>
                    <a:pt x="1832" y="1857"/>
                  </a:lnTo>
                  <a:lnTo>
                    <a:pt x="1834" y="1859"/>
                  </a:lnTo>
                  <a:lnTo>
                    <a:pt x="1838" y="1859"/>
                  </a:lnTo>
                  <a:lnTo>
                    <a:pt x="1839" y="1861"/>
                  </a:lnTo>
                  <a:lnTo>
                    <a:pt x="1842" y="1863"/>
                  </a:lnTo>
                  <a:lnTo>
                    <a:pt x="1844" y="1865"/>
                  </a:lnTo>
                  <a:lnTo>
                    <a:pt x="1848" y="1865"/>
                  </a:lnTo>
                  <a:lnTo>
                    <a:pt x="1850" y="1867"/>
                  </a:lnTo>
                  <a:lnTo>
                    <a:pt x="1852" y="1867"/>
                  </a:lnTo>
                  <a:lnTo>
                    <a:pt x="1854" y="1869"/>
                  </a:lnTo>
                  <a:lnTo>
                    <a:pt x="1857" y="1869"/>
                  </a:lnTo>
                  <a:lnTo>
                    <a:pt x="1859" y="1871"/>
                  </a:lnTo>
                  <a:lnTo>
                    <a:pt x="1860" y="1873"/>
                  </a:lnTo>
                  <a:lnTo>
                    <a:pt x="1862" y="1875"/>
                  </a:lnTo>
                  <a:lnTo>
                    <a:pt x="1865" y="1877"/>
                  </a:lnTo>
                  <a:lnTo>
                    <a:pt x="1867" y="1880"/>
                  </a:lnTo>
                  <a:lnTo>
                    <a:pt x="1869" y="1882"/>
                  </a:lnTo>
                  <a:lnTo>
                    <a:pt x="1871" y="1883"/>
                  </a:lnTo>
                  <a:lnTo>
                    <a:pt x="1875" y="1885"/>
                  </a:lnTo>
                  <a:lnTo>
                    <a:pt x="1877" y="1889"/>
                  </a:lnTo>
                  <a:lnTo>
                    <a:pt x="1879" y="1891"/>
                  </a:lnTo>
                  <a:lnTo>
                    <a:pt x="1880" y="1894"/>
                  </a:lnTo>
                  <a:lnTo>
                    <a:pt x="1884" y="1896"/>
                  </a:lnTo>
                  <a:lnTo>
                    <a:pt x="1885" y="1899"/>
                  </a:lnTo>
                  <a:lnTo>
                    <a:pt x="1887" y="1901"/>
                  </a:lnTo>
                  <a:lnTo>
                    <a:pt x="1889" y="1903"/>
                  </a:lnTo>
                  <a:lnTo>
                    <a:pt x="1890" y="1904"/>
                  </a:lnTo>
                  <a:lnTo>
                    <a:pt x="1892" y="1908"/>
                  </a:lnTo>
                  <a:lnTo>
                    <a:pt x="1896" y="1910"/>
                  </a:lnTo>
                  <a:lnTo>
                    <a:pt x="1899" y="1914"/>
                  </a:lnTo>
                  <a:lnTo>
                    <a:pt x="1903" y="1918"/>
                  </a:lnTo>
                  <a:lnTo>
                    <a:pt x="1907" y="1923"/>
                  </a:lnTo>
                  <a:lnTo>
                    <a:pt x="1910" y="1927"/>
                  </a:lnTo>
                  <a:lnTo>
                    <a:pt x="1914" y="1931"/>
                  </a:lnTo>
                  <a:lnTo>
                    <a:pt x="1919" y="1935"/>
                  </a:lnTo>
                  <a:lnTo>
                    <a:pt x="1922" y="1940"/>
                  </a:lnTo>
                  <a:lnTo>
                    <a:pt x="1926" y="1944"/>
                  </a:lnTo>
                  <a:lnTo>
                    <a:pt x="1929" y="1948"/>
                  </a:lnTo>
                  <a:lnTo>
                    <a:pt x="1933" y="1950"/>
                  </a:lnTo>
                  <a:lnTo>
                    <a:pt x="1935" y="1953"/>
                  </a:lnTo>
                  <a:lnTo>
                    <a:pt x="1937" y="1955"/>
                  </a:lnTo>
                  <a:lnTo>
                    <a:pt x="1938" y="1956"/>
                  </a:lnTo>
                  <a:lnTo>
                    <a:pt x="1940" y="1955"/>
                  </a:lnTo>
                  <a:lnTo>
                    <a:pt x="1940" y="1955"/>
                  </a:lnTo>
                  <a:lnTo>
                    <a:pt x="1938" y="1951"/>
                  </a:lnTo>
                  <a:lnTo>
                    <a:pt x="1936" y="1946"/>
                  </a:lnTo>
                  <a:lnTo>
                    <a:pt x="1933" y="1939"/>
                  </a:lnTo>
                  <a:lnTo>
                    <a:pt x="1928" y="1932"/>
                  </a:lnTo>
                  <a:lnTo>
                    <a:pt x="1924" y="1923"/>
                  </a:lnTo>
                  <a:lnTo>
                    <a:pt x="1918" y="1914"/>
                  </a:lnTo>
                  <a:lnTo>
                    <a:pt x="1912" y="1903"/>
                  </a:lnTo>
                  <a:lnTo>
                    <a:pt x="1905" y="1894"/>
                  </a:lnTo>
                  <a:lnTo>
                    <a:pt x="1898" y="1883"/>
                  </a:lnTo>
                  <a:lnTo>
                    <a:pt x="1891" y="1874"/>
                  </a:lnTo>
                  <a:lnTo>
                    <a:pt x="1886" y="1863"/>
                  </a:lnTo>
                  <a:lnTo>
                    <a:pt x="1879" y="1855"/>
                  </a:lnTo>
                  <a:lnTo>
                    <a:pt x="1874" y="1847"/>
                  </a:lnTo>
                  <a:lnTo>
                    <a:pt x="1869" y="1841"/>
                  </a:lnTo>
                  <a:lnTo>
                    <a:pt x="1865" y="1834"/>
                  </a:lnTo>
                  <a:lnTo>
                    <a:pt x="1860" y="1831"/>
                  </a:lnTo>
                  <a:lnTo>
                    <a:pt x="1852" y="1822"/>
                  </a:lnTo>
                  <a:lnTo>
                    <a:pt x="1841" y="1812"/>
                  </a:lnTo>
                  <a:lnTo>
                    <a:pt x="1829" y="1798"/>
                  </a:lnTo>
                  <a:lnTo>
                    <a:pt x="1814" y="1784"/>
                  </a:lnTo>
                  <a:lnTo>
                    <a:pt x="1798" y="1768"/>
                  </a:lnTo>
                  <a:lnTo>
                    <a:pt x="1781" y="1751"/>
                  </a:lnTo>
                  <a:lnTo>
                    <a:pt x="1765" y="1733"/>
                  </a:lnTo>
                  <a:lnTo>
                    <a:pt x="1748" y="1716"/>
                  </a:lnTo>
                  <a:lnTo>
                    <a:pt x="1731" y="1699"/>
                  </a:lnTo>
                  <a:lnTo>
                    <a:pt x="1716" y="1684"/>
                  </a:lnTo>
                  <a:lnTo>
                    <a:pt x="1702" y="1668"/>
                  </a:lnTo>
                  <a:lnTo>
                    <a:pt x="1690" y="1656"/>
                  </a:lnTo>
                  <a:lnTo>
                    <a:pt x="1680" y="1645"/>
                  </a:lnTo>
                  <a:lnTo>
                    <a:pt x="1673" y="1636"/>
                  </a:lnTo>
                  <a:lnTo>
                    <a:pt x="1671" y="1629"/>
                  </a:lnTo>
                  <a:lnTo>
                    <a:pt x="1669" y="1628"/>
                  </a:lnTo>
                  <a:lnTo>
                    <a:pt x="1669" y="1625"/>
                  </a:lnTo>
                  <a:lnTo>
                    <a:pt x="1667" y="1622"/>
                  </a:lnTo>
                  <a:lnTo>
                    <a:pt x="1667" y="1618"/>
                  </a:lnTo>
                  <a:lnTo>
                    <a:pt x="1665" y="1615"/>
                  </a:lnTo>
                  <a:lnTo>
                    <a:pt x="1665" y="1611"/>
                  </a:lnTo>
                  <a:lnTo>
                    <a:pt x="1665" y="1608"/>
                  </a:lnTo>
                  <a:lnTo>
                    <a:pt x="1665" y="1604"/>
                  </a:lnTo>
                  <a:lnTo>
                    <a:pt x="1663" y="1600"/>
                  </a:lnTo>
                  <a:lnTo>
                    <a:pt x="1663" y="1597"/>
                  </a:lnTo>
                  <a:lnTo>
                    <a:pt x="1663" y="1593"/>
                  </a:lnTo>
                  <a:lnTo>
                    <a:pt x="1663" y="1588"/>
                  </a:lnTo>
                  <a:lnTo>
                    <a:pt x="1663" y="1585"/>
                  </a:lnTo>
                  <a:lnTo>
                    <a:pt x="1663" y="1581"/>
                  </a:lnTo>
                  <a:lnTo>
                    <a:pt x="1663" y="1578"/>
                  </a:lnTo>
                  <a:lnTo>
                    <a:pt x="1663" y="1574"/>
                  </a:lnTo>
                  <a:lnTo>
                    <a:pt x="1662" y="1572"/>
                  </a:lnTo>
                  <a:lnTo>
                    <a:pt x="1660" y="1568"/>
                  </a:lnTo>
                  <a:lnTo>
                    <a:pt x="1656" y="1563"/>
                  </a:lnTo>
                  <a:lnTo>
                    <a:pt x="1653" y="1557"/>
                  </a:lnTo>
                  <a:lnTo>
                    <a:pt x="1647" y="1550"/>
                  </a:lnTo>
                  <a:lnTo>
                    <a:pt x="1642" y="1542"/>
                  </a:lnTo>
                  <a:lnTo>
                    <a:pt x="1636" y="1535"/>
                  </a:lnTo>
                  <a:lnTo>
                    <a:pt x="1630" y="1525"/>
                  </a:lnTo>
                  <a:lnTo>
                    <a:pt x="1623" y="1518"/>
                  </a:lnTo>
                  <a:lnTo>
                    <a:pt x="1617" y="1510"/>
                  </a:lnTo>
                  <a:lnTo>
                    <a:pt x="1612" y="1502"/>
                  </a:lnTo>
                  <a:lnTo>
                    <a:pt x="1606" y="1495"/>
                  </a:lnTo>
                  <a:lnTo>
                    <a:pt x="1601" y="1489"/>
                  </a:lnTo>
                  <a:lnTo>
                    <a:pt x="1597" y="1483"/>
                  </a:lnTo>
                  <a:lnTo>
                    <a:pt x="1594" y="1479"/>
                  </a:lnTo>
                  <a:lnTo>
                    <a:pt x="1593" y="1476"/>
                  </a:lnTo>
                  <a:lnTo>
                    <a:pt x="1590" y="1474"/>
                  </a:lnTo>
                  <a:lnTo>
                    <a:pt x="1587" y="1471"/>
                  </a:lnTo>
                  <a:lnTo>
                    <a:pt x="1584" y="1465"/>
                  </a:lnTo>
                  <a:lnTo>
                    <a:pt x="1580" y="1460"/>
                  </a:lnTo>
                  <a:lnTo>
                    <a:pt x="1574" y="1454"/>
                  </a:lnTo>
                  <a:lnTo>
                    <a:pt x="1570" y="1448"/>
                  </a:lnTo>
                  <a:lnTo>
                    <a:pt x="1564" y="1442"/>
                  </a:lnTo>
                  <a:lnTo>
                    <a:pt x="1560" y="1434"/>
                  </a:lnTo>
                  <a:lnTo>
                    <a:pt x="1554" y="1429"/>
                  </a:lnTo>
                  <a:lnTo>
                    <a:pt x="1549" y="1422"/>
                  </a:lnTo>
                  <a:lnTo>
                    <a:pt x="1544" y="1416"/>
                  </a:lnTo>
                  <a:lnTo>
                    <a:pt x="1540" y="1410"/>
                  </a:lnTo>
                  <a:lnTo>
                    <a:pt x="1536" y="1405"/>
                  </a:lnTo>
                  <a:lnTo>
                    <a:pt x="1533" y="1401"/>
                  </a:lnTo>
                  <a:lnTo>
                    <a:pt x="1531" y="1397"/>
                  </a:lnTo>
                  <a:lnTo>
                    <a:pt x="1530" y="1394"/>
                  </a:lnTo>
                  <a:lnTo>
                    <a:pt x="1529" y="1393"/>
                  </a:lnTo>
                  <a:lnTo>
                    <a:pt x="1529" y="1389"/>
                  </a:lnTo>
                  <a:lnTo>
                    <a:pt x="1529" y="1385"/>
                  </a:lnTo>
                  <a:lnTo>
                    <a:pt x="1531" y="1382"/>
                  </a:lnTo>
                  <a:lnTo>
                    <a:pt x="1532" y="1378"/>
                  </a:lnTo>
                  <a:lnTo>
                    <a:pt x="1534" y="1374"/>
                  </a:lnTo>
                  <a:lnTo>
                    <a:pt x="1536" y="1371"/>
                  </a:lnTo>
                  <a:lnTo>
                    <a:pt x="1538" y="1367"/>
                  </a:lnTo>
                  <a:lnTo>
                    <a:pt x="1539" y="1364"/>
                  </a:lnTo>
                  <a:lnTo>
                    <a:pt x="1541" y="1360"/>
                  </a:lnTo>
                  <a:lnTo>
                    <a:pt x="1542" y="1356"/>
                  </a:lnTo>
                  <a:lnTo>
                    <a:pt x="1544" y="1353"/>
                  </a:lnTo>
                  <a:lnTo>
                    <a:pt x="1544" y="1350"/>
                  </a:lnTo>
                  <a:lnTo>
                    <a:pt x="1546" y="1346"/>
                  </a:lnTo>
                  <a:lnTo>
                    <a:pt x="1546" y="1343"/>
                  </a:lnTo>
                  <a:lnTo>
                    <a:pt x="1546" y="1339"/>
                  </a:lnTo>
                  <a:lnTo>
                    <a:pt x="1543" y="1336"/>
                  </a:lnTo>
                  <a:lnTo>
                    <a:pt x="1541" y="1332"/>
                  </a:lnTo>
                  <a:lnTo>
                    <a:pt x="1537" y="1328"/>
                  </a:lnTo>
                  <a:lnTo>
                    <a:pt x="1535" y="1323"/>
                  </a:lnTo>
                  <a:lnTo>
                    <a:pt x="1530" y="1319"/>
                  </a:lnTo>
                  <a:lnTo>
                    <a:pt x="1527" y="1313"/>
                  </a:lnTo>
                  <a:lnTo>
                    <a:pt x="1522" y="1309"/>
                  </a:lnTo>
                  <a:lnTo>
                    <a:pt x="1518" y="1304"/>
                  </a:lnTo>
                  <a:lnTo>
                    <a:pt x="1512" y="1300"/>
                  </a:lnTo>
                  <a:lnTo>
                    <a:pt x="1507" y="1296"/>
                  </a:lnTo>
                  <a:lnTo>
                    <a:pt x="1501" y="1293"/>
                  </a:lnTo>
                  <a:lnTo>
                    <a:pt x="1497" y="1288"/>
                  </a:lnTo>
                  <a:lnTo>
                    <a:pt x="1492" y="1286"/>
                  </a:lnTo>
                  <a:lnTo>
                    <a:pt x="1487" y="1282"/>
                  </a:lnTo>
                  <a:lnTo>
                    <a:pt x="1483" y="1280"/>
                  </a:lnTo>
                  <a:lnTo>
                    <a:pt x="1479" y="1278"/>
                  </a:lnTo>
                  <a:lnTo>
                    <a:pt x="1477" y="1278"/>
                  </a:lnTo>
                  <a:lnTo>
                    <a:pt x="1476" y="1276"/>
                  </a:lnTo>
                  <a:lnTo>
                    <a:pt x="1474" y="1275"/>
                  </a:lnTo>
                  <a:lnTo>
                    <a:pt x="1474" y="1271"/>
                  </a:lnTo>
                  <a:lnTo>
                    <a:pt x="1472" y="1268"/>
                  </a:lnTo>
                  <a:lnTo>
                    <a:pt x="1472" y="1264"/>
                  </a:lnTo>
                  <a:lnTo>
                    <a:pt x="1470" y="1260"/>
                  </a:lnTo>
                  <a:lnTo>
                    <a:pt x="1470" y="1255"/>
                  </a:lnTo>
                  <a:lnTo>
                    <a:pt x="1468" y="1251"/>
                  </a:lnTo>
                  <a:lnTo>
                    <a:pt x="1468" y="1247"/>
                  </a:lnTo>
                  <a:lnTo>
                    <a:pt x="1467" y="1243"/>
                  </a:lnTo>
                  <a:lnTo>
                    <a:pt x="1467" y="1238"/>
                  </a:lnTo>
                  <a:lnTo>
                    <a:pt x="1465" y="1235"/>
                  </a:lnTo>
                  <a:lnTo>
                    <a:pt x="1465" y="1231"/>
                  </a:lnTo>
                  <a:lnTo>
                    <a:pt x="1465" y="1229"/>
                  </a:lnTo>
                  <a:lnTo>
                    <a:pt x="1465" y="1226"/>
                  </a:lnTo>
                  <a:lnTo>
                    <a:pt x="1465" y="1226"/>
                  </a:lnTo>
                  <a:lnTo>
                    <a:pt x="1465" y="1225"/>
                  </a:lnTo>
                  <a:lnTo>
                    <a:pt x="1465" y="1225"/>
                  </a:lnTo>
                  <a:lnTo>
                    <a:pt x="1466" y="1223"/>
                  </a:lnTo>
                  <a:lnTo>
                    <a:pt x="1466" y="1223"/>
                  </a:lnTo>
                  <a:lnTo>
                    <a:pt x="1466" y="1221"/>
                  </a:lnTo>
                  <a:lnTo>
                    <a:pt x="1466" y="1220"/>
                  </a:lnTo>
                  <a:lnTo>
                    <a:pt x="1468" y="1218"/>
                  </a:lnTo>
                  <a:lnTo>
                    <a:pt x="1468" y="1218"/>
                  </a:lnTo>
                  <a:lnTo>
                    <a:pt x="1468" y="1217"/>
                  </a:lnTo>
                  <a:lnTo>
                    <a:pt x="1468" y="1215"/>
                  </a:lnTo>
                  <a:lnTo>
                    <a:pt x="1469" y="1213"/>
                  </a:lnTo>
                  <a:lnTo>
                    <a:pt x="1469" y="1213"/>
                  </a:lnTo>
                  <a:lnTo>
                    <a:pt x="1469" y="1211"/>
                  </a:lnTo>
                  <a:lnTo>
                    <a:pt x="1469" y="1211"/>
                  </a:lnTo>
                  <a:lnTo>
                    <a:pt x="1470" y="1209"/>
                  </a:lnTo>
                  <a:lnTo>
                    <a:pt x="1467" y="1204"/>
                  </a:lnTo>
                  <a:lnTo>
                    <a:pt x="1462" y="1197"/>
                  </a:lnTo>
                  <a:lnTo>
                    <a:pt x="1456" y="1188"/>
                  </a:lnTo>
                  <a:lnTo>
                    <a:pt x="1449" y="1178"/>
                  </a:lnTo>
                  <a:lnTo>
                    <a:pt x="1440" y="1168"/>
                  </a:lnTo>
                  <a:lnTo>
                    <a:pt x="1431" y="1157"/>
                  </a:lnTo>
                  <a:lnTo>
                    <a:pt x="1421" y="1145"/>
                  </a:lnTo>
                  <a:lnTo>
                    <a:pt x="1411" y="1133"/>
                  </a:lnTo>
                  <a:lnTo>
                    <a:pt x="1400" y="1123"/>
                  </a:lnTo>
                  <a:lnTo>
                    <a:pt x="1390" y="1112"/>
                  </a:lnTo>
                  <a:lnTo>
                    <a:pt x="1381" y="1103"/>
                  </a:lnTo>
                  <a:lnTo>
                    <a:pt x="1372" y="1093"/>
                  </a:lnTo>
                  <a:lnTo>
                    <a:pt x="1364" y="1086"/>
                  </a:lnTo>
                  <a:lnTo>
                    <a:pt x="1358" y="1079"/>
                  </a:lnTo>
                  <a:lnTo>
                    <a:pt x="1352" y="1075"/>
                  </a:lnTo>
                  <a:lnTo>
                    <a:pt x="1350" y="1071"/>
                  </a:lnTo>
                  <a:lnTo>
                    <a:pt x="1346" y="1067"/>
                  </a:lnTo>
                  <a:lnTo>
                    <a:pt x="1343" y="1064"/>
                  </a:lnTo>
                  <a:lnTo>
                    <a:pt x="1339" y="1060"/>
                  </a:lnTo>
                  <a:lnTo>
                    <a:pt x="1335" y="1055"/>
                  </a:lnTo>
                  <a:lnTo>
                    <a:pt x="1330" y="1052"/>
                  </a:lnTo>
                  <a:lnTo>
                    <a:pt x="1326" y="1047"/>
                  </a:lnTo>
                  <a:lnTo>
                    <a:pt x="1320" y="1043"/>
                  </a:lnTo>
                  <a:lnTo>
                    <a:pt x="1316" y="1037"/>
                  </a:lnTo>
                  <a:lnTo>
                    <a:pt x="1311" y="1034"/>
                  </a:lnTo>
                  <a:lnTo>
                    <a:pt x="1307" y="1028"/>
                  </a:lnTo>
                  <a:lnTo>
                    <a:pt x="1303" y="1024"/>
                  </a:lnTo>
                  <a:lnTo>
                    <a:pt x="1299" y="1019"/>
                  </a:lnTo>
                  <a:lnTo>
                    <a:pt x="1295" y="1015"/>
                  </a:lnTo>
                  <a:lnTo>
                    <a:pt x="1292" y="1010"/>
                  </a:lnTo>
                  <a:lnTo>
                    <a:pt x="1290" y="1006"/>
                  </a:lnTo>
                  <a:lnTo>
                    <a:pt x="1288" y="1001"/>
                  </a:lnTo>
                  <a:lnTo>
                    <a:pt x="1286" y="997"/>
                  </a:lnTo>
                  <a:lnTo>
                    <a:pt x="1286" y="994"/>
                  </a:lnTo>
                  <a:lnTo>
                    <a:pt x="1286" y="990"/>
                  </a:lnTo>
                  <a:lnTo>
                    <a:pt x="1287" y="984"/>
                  </a:lnTo>
                  <a:lnTo>
                    <a:pt x="1287" y="980"/>
                  </a:lnTo>
                  <a:lnTo>
                    <a:pt x="1288" y="974"/>
                  </a:lnTo>
                  <a:lnTo>
                    <a:pt x="1290" y="969"/>
                  </a:lnTo>
                  <a:lnTo>
                    <a:pt x="1292" y="963"/>
                  </a:lnTo>
                  <a:lnTo>
                    <a:pt x="1292" y="958"/>
                  </a:lnTo>
                  <a:lnTo>
                    <a:pt x="1293" y="953"/>
                  </a:lnTo>
                  <a:lnTo>
                    <a:pt x="1293" y="947"/>
                  </a:lnTo>
                  <a:lnTo>
                    <a:pt x="1294" y="942"/>
                  </a:lnTo>
                  <a:lnTo>
                    <a:pt x="1294" y="938"/>
                  </a:lnTo>
                  <a:lnTo>
                    <a:pt x="1294" y="933"/>
                  </a:lnTo>
                  <a:lnTo>
                    <a:pt x="1293" y="929"/>
                  </a:lnTo>
                  <a:lnTo>
                    <a:pt x="1293" y="925"/>
                  </a:lnTo>
                  <a:lnTo>
                    <a:pt x="1291" y="923"/>
                  </a:lnTo>
                  <a:lnTo>
                    <a:pt x="1289" y="919"/>
                  </a:lnTo>
                  <a:lnTo>
                    <a:pt x="1286" y="915"/>
                  </a:lnTo>
                  <a:lnTo>
                    <a:pt x="1284" y="909"/>
                  </a:lnTo>
                  <a:lnTo>
                    <a:pt x="1281" y="906"/>
                  </a:lnTo>
                  <a:lnTo>
                    <a:pt x="1279" y="900"/>
                  </a:lnTo>
                  <a:lnTo>
                    <a:pt x="1275" y="895"/>
                  </a:lnTo>
                  <a:lnTo>
                    <a:pt x="1273" y="889"/>
                  </a:lnTo>
                  <a:lnTo>
                    <a:pt x="1270" y="885"/>
                  </a:lnTo>
                  <a:lnTo>
                    <a:pt x="1266" y="879"/>
                  </a:lnTo>
                  <a:lnTo>
                    <a:pt x="1262" y="876"/>
                  </a:lnTo>
                  <a:lnTo>
                    <a:pt x="1260" y="870"/>
                  </a:lnTo>
                  <a:lnTo>
                    <a:pt x="1256" y="867"/>
                  </a:lnTo>
                  <a:lnTo>
                    <a:pt x="1254" y="863"/>
                  </a:lnTo>
                  <a:lnTo>
                    <a:pt x="1251" y="860"/>
                  </a:lnTo>
                  <a:lnTo>
                    <a:pt x="1249" y="857"/>
                  </a:lnTo>
                  <a:lnTo>
                    <a:pt x="1247" y="857"/>
                  </a:lnTo>
                  <a:lnTo>
                    <a:pt x="1246" y="857"/>
                  </a:lnTo>
                  <a:lnTo>
                    <a:pt x="1245" y="858"/>
                  </a:lnTo>
                  <a:lnTo>
                    <a:pt x="1244" y="858"/>
                  </a:lnTo>
                  <a:lnTo>
                    <a:pt x="1242" y="859"/>
                  </a:lnTo>
                  <a:lnTo>
                    <a:pt x="1240" y="860"/>
                  </a:lnTo>
                  <a:lnTo>
                    <a:pt x="1238" y="862"/>
                  </a:lnTo>
                  <a:lnTo>
                    <a:pt x="1237" y="862"/>
                  </a:lnTo>
                  <a:lnTo>
                    <a:pt x="1235" y="864"/>
                  </a:lnTo>
                  <a:lnTo>
                    <a:pt x="1233" y="865"/>
                  </a:lnTo>
                  <a:lnTo>
                    <a:pt x="1231" y="867"/>
                  </a:lnTo>
                  <a:lnTo>
                    <a:pt x="1229" y="867"/>
                  </a:lnTo>
                  <a:lnTo>
                    <a:pt x="1227" y="868"/>
                  </a:lnTo>
                  <a:lnTo>
                    <a:pt x="1226" y="868"/>
                  </a:lnTo>
                  <a:lnTo>
                    <a:pt x="1225" y="868"/>
                  </a:lnTo>
                  <a:lnTo>
                    <a:pt x="1225" y="868"/>
                  </a:lnTo>
                  <a:lnTo>
                    <a:pt x="1221" y="865"/>
                  </a:lnTo>
                  <a:lnTo>
                    <a:pt x="1219" y="861"/>
                  </a:lnTo>
                  <a:lnTo>
                    <a:pt x="1216" y="857"/>
                  </a:lnTo>
                  <a:lnTo>
                    <a:pt x="1214" y="851"/>
                  </a:lnTo>
                  <a:lnTo>
                    <a:pt x="1210" y="847"/>
                  </a:lnTo>
                  <a:lnTo>
                    <a:pt x="1207" y="841"/>
                  </a:lnTo>
                  <a:lnTo>
                    <a:pt x="1204" y="836"/>
                  </a:lnTo>
                  <a:lnTo>
                    <a:pt x="1202" y="830"/>
                  </a:lnTo>
                  <a:lnTo>
                    <a:pt x="1198" y="826"/>
                  </a:lnTo>
                  <a:lnTo>
                    <a:pt x="1195" y="820"/>
                  </a:lnTo>
                  <a:lnTo>
                    <a:pt x="1191" y="815"/>
                  </a:lnTo>
                  <a:lnTo>
                    <a:pt x="1189" y="810"/>
                  </a:lnTo>
                  <a:lnTo>
                    <a:pt x="1185" y="806"/>
                  </a:lnTo>
                  <a:lnTo>
                    <a:pt x="1184" y="800"/>
                  </a:lnTo>
                  <a:lnTo>
                    <a:pt x="1182" y="797"/>
                  </a:lnTo>
                  <a:lnTo>
                    <a:pt x="1180" y="792"/>
                  </a:lnTo>
                  <a:lnTo>
                    <a:pt x="1177" y="790"/>
                  </a:lnTo>
                  <a:lnTo>
                    <a:pt x="1174" y="786"/>
                  </a:lnTo>
                  <a:lnTo>
                    <a:pt x="1168" y="781"/>
                  </a:lnTo>
                  <a:lnTo>
                    <a:pt x="1164" y="775"/>
                  </a:lnTo>
                  <a:lnTo>
                    <a:pt x="1158" y="770"/>
                  </a:lnTo>
                  <a:lnTo>
                    <a:pt x="1152" y="763"/>
                  </a:lnTo>
                  <a:lnTo>
                    <a:pt x="1146" y="755"/>
                  </a:lnTo>
                  <a:lnTo>
                    <a:pt x="1140" y="748"/>
                  </a:lnTo>
                  <a:lnTo>
                    <a:pt x="1132" y="742"/>
                  </a:lnTo>
                  <a:lnTo>
                    <a:pt x="1127" y="735"/>
                  </a:lnTo>
                  <a:lnTo>
                    <a:pt x="1120" y="729"/>
                  </a:lnTo>
                  <a:lnTo>
                    <a:pt x="1115" y="722"/>
                  </a:lnTo>
                  <a:lnTo>
                    <a:pt x="1109" y="717"/>
                  </a:lnTo>
                  <a:lnTo>
                    <a:pt x="1106" y="712"/>
                  </a:lnTo>
                  <a:lnTo>
                    <a:pt x="1102" y="709"/>
                  </a:lnTo>
                  <a:lnTo>
                    <a:pt x="1100" y="705"/>
                  </a:lnTo>
                  <a:lnTo>
                    <a:pt x="1097" y="704"/>
                  </a:lnTo>
                  <a:lnTo>
                    <a:pt x="1095" y="702"/>
                  </a:lnTo>
                  <a:lnTo>
                    <a:pt x="1091" y="698"/>
                  </a:lnTo>
                  <a:lnTo>
                    <a:pt x="1088" y="693"/>
                  </a:lnTo>
                  <a:lnTo>
                    <a:pt x="1082" y="690"/>
                  </a:lnTo>
                  <a:lnTo>
                    <a:pt x="1079" y="684"/>
                  </a:lnTo>
                  <a:lnTo>
                    <a:pt x="1074" y="679"/>
                  </a:lnTo>
                  <a:lnTo>
                    <a:pt x="1070" y="674"/>
                  </a:lnTo>
                  <a:lnTo>
                    <a:pt x="1064" y="670"/>
                  </a:lnTo>
                  <a:lnTo>
                    <a:pt x="1060" y="664"/>
                  </a:lnTo>
                  <a:lnTo>
                    <a:pt x="1056" y="659"/>
                  </a:lnTo>
                  <a:lnTo>
                    <a:pt x="1053" y="654"/>
                  </a:lnTo>
                  <a:lnTo>
                    <a:pt x="1049" y="650"/>
                  </a:lnTo>
                  <a:lnTo>
                    <a:pt x="1048" y="645"/>
                  </a:lnTo>
                  <a:lnTo>
                    <a:pt x="1046" y="643"/>
                  </a:lnTo>
                  <a:lnTo>
                    <a:pt x="1046" y="639"/>
                  </a:lnTo>
                  <a:lnTo>
                    <a:pt x="1048" y="636"/>
                  </a:lnTo>
                  <a:lnTo>
                    <a:pt x="1053" y="629"/>
                  </a:lnTo>
                  <a:lnTo>
                    <a:pt x="1060" y="621"/>
                  </a:lnTo>
                  <a:lnTo>
                    <a:pt x="1072" y="610"/>
                  </a:lnTo>
                  <a:lnTo>
                    <a:pt x="1085" y="599"/>
                  </a:lnTo>
                  <a:lnTo>
                    <a:pt x="1100" y="586"/>
                  </a:lnTo>
                  <a:lnTo>
                    <a:pt x="1116" y="571"/>
                  </a:lnTo>
                  <a:lnTo>
                    <a:pt x="1133" y="556"/>
                  </a:lnTo>
                  <a:lnTo>
                    <a:pt x="1148" y="543"/>
                  </a:lnTo>
                  <a:lnTo>
                    <a:pt x="1165" y="529"/>
                  </a:lnTo>
                  <a:lnTo>
                    <a:pt x="1180" y="516"/>
                  </a:lnTo>
                  <a:lnTo>
                    <a:pt x="1195" y="503"/>
                  </a:lnTo>
                  <a:lnTo>
                    <a:pt x="1206" y="493"/>
                  </a:lnTo>
                  <a:lnTo>
                    <a:pt x="1216" y="485"/>
                  </a:lnTo>
                  <a:lnTo>
                    <a:pt x="1224" y="479"/>
                  </a:lnTo>
                  <a:lnTo>
                    <a:pt x="1228" y="475"/>
                  </a:lnTo>
                  <a:lnTo>
                    <a:pt x="1231" y="473"/>
                  </a:lnTo>
                  <a:lnTo>
                    <a:pt x="1235" y="469"/>
                  </a:lnTo>
                  <a:lnTo>
                    <a:pt x="1240" y="466"/>
                  </a:lnTo>
                  <a:lnTo>
                    <a:pt x="1247" y="460"/>
                  </a:lnTo>
                  <a:lnTo>
                    <a:pt x="1254" y="455"/>
                  </a:lnTo>
                  <a:lnTo>
                    <a:pt x="1262" y="448"/>
                  </a:lnTo>
                  <a:lnTo>
                    <a:pt x="1269" y="441"/>
                  </a:lnTo>
                  <a:lnTo>
                    <a:pt x="1278" y="434"/>
                  </a:lnTo>
                  <a:lnTo>
                    <a:pt x="1286" y="428"/>
                  </a:lnTo>
                  <a:lnTo>
                    <a:pt x="1293" y="421"/>
                  </a:lnTo>
                  <a:lnTo>
                    <a:pt x="1300" y="416"/>
                  </a:lnTo>
                  <a:lnTo>
                    <a:pt x="1307" y="409"/>
                  </a:lnTo>
                  <a:lnTo>
                    <a:pt x="1313" y="404"/>
                  </a:lnTo>
                  <a:lnTo>
                    <a:pt x="1318" y="399"/>
                  </a:lnTo>
                  <a:lnTo>
                    <a:pt x="1322" y="395"/>
                  </a:lnTo>
                  <a:lnTo>
                    <a:pt x="1325" y="391"/>
                  </a:lnTo>
                  <a:lnTo>
                    <a:pt x="1326" y="390"/>
                  </a:lnTo>
                  <a:lnTo>
                    <a:pt x="1329" y="387"/>
                  </a:lnTo>
                  <a:lnTo>
                    <a:pt x="1333" y="382"/>
                  </a:lnTo>
                  <a:lnTo>
                    <a:pt x="1338" y="377"/>
                  </a:lnTo>
                  <a:lnTo>
                    <a:pt x="1343" y="371"/>
                  </a:lnTo>
                  <a:lnTo>
                    <a:pt x="1350" y="365"/>
                  </a:lnTo>
                  <a:lnTo>
                    <a:pt x="1355" y="358"/>
                  </a:lnTo>
                  <a:lnTo>
                    <a:pt x="1362" y="350"/>
                  </a:lnTo>
                  <a:lnTo>
                    <a:pt x="1368" y="345"/>
                  </a:lnTo>
                  <a:lnTo>
                    <a:pt x="1374" y="337"/>
                  </a:lnTo>
                  <a:lnTo>
                    <a:pt x="1380" y="331"/>
                  </a:lnTo>
                  <a:lnTo>
                    <a:pt x="1385" y="324"/>
                  </a:lnTo>
                  <a:lnTo>
                    <a:pt x="1389" y="319"/>
                  </a:lnTo>
                  <a:lnTo>
                    <a:pt x="1392" y="314"/>
                  </a:lnTo>
                  <a:lnTo>
                    <a:pt x="1395" y="311"/>
                  </a:lnTo>
                  <a:lnTo>
                    <a:pt x="1398" y="307"/>
                  </a:lnTo>
                  <a:lnTo>
                    <a:pt x="1398" y="307"/>
                  </a:lnTo>
                  <a:lnTo>
                    <a:pt x="1399" y="305"/>
                  </a:lnTo>
                  <a:lnTo>
                    <a:pt x="1401" y="302"/>
                  </a:lnTo>
                  <a:lnTo>
                    <a:pt x="1404" y="299"/>
                  </a:lnTo>
                  <a:lnTo>
                    <a:pt x="1408" y="295"/>
                  </a:lnTo>
                  <a:lnTo>
                    <a:pt x="1411" y="290"/>
                  </a:lnTo>
                  <a:lnTo>
                    <a:pt x="1415" y="284"/>
                  </a:lnTo>
                  <a:lnTo>
                    <a:pt x="1421" y="279"/>
                  </a:lnTo>
                  <a:lnTo>
                    <a:pt x="1424" y="274"/>
                  </a:lnTo>
                  <a:lnTo>
                    <a:pt x="1429" y="268"/>
                  </a:lnTo>
                  <a:lnTo>
                    <a:pt x="1432" y="262"/>
                  </a:lnTo>
                  <a:lnTo>
                    <a:pt x="1438" y="257"/>
                  </a:lnTo>
                  <a:lnTo>
                    <a:pt x="1440" y="253"/>
                  </a:lnTo>
                  <a:lnTo>
                    <a:pt x="1444" y="248"/>
                  </a:lnTo>
                  <a:lnTo>
                    <a:pt x="1446" y="244"/>
                  </a:lnTo>
                  <a:lnTo>
                    <a:pt x="1448" y="241"/>
                  </a:lnTo>
                  <a:lnTo>
                    <a:pt x="1448" y="241"/>
                  </a:lnTo>
                  <a:lnTo>
                    <a:pt x="1448" y="239"/>
                  </a:lnTo>
                  <a:lnTo>
                    <a:pt x="1448" y="237"/>
                  </a:lnTo>
                  <a:lnTo>
                    <a:pt x="1449" y="235"/>
                  </a:lnTo>
                  <a:lnTo>
                    <a:pt x="1449" y="234"/>
                  </a:lnTo>
                  <a:lnTo>
                    <a:pt x="1449" y="233"/>
                  </a:lnTo>
                  <a:lnTo>
                    <a:pt x="1449" y="231"/>
                  </a:lnTo>
                  <a:lnTo>
                    <a:pt x="1450" y="229"/>
                  </a:lnTo>
                  <a:lnTo>
                    <a:pt x="1450" y="229"/>
                  </a:lnTo>
                  <a:lnTo>
                    <a:pt x="1450" y="227"/>
                  </a:lnTo>
                  <a:lnTo>
                    <a:pt x="1450" y="227"/>
                  </a:lnTo>
                  <a:lnTo>
                    <a:pt x="1452" y="225"/>
                  </a:lnTo>
                  <a:lnTo>
                    <a:pt x="1452" y="225"/>
                  </a:lnTo>
                  <a:lnTo>
                    <a:pt x="1453" y="224"/>
                  </a:lnTo>
                  <a:lnTo>
                    <a:pt x="1453" y="224"/>
                  </a:lnTo>
                  <a:lnTo>
                    <a:pt x="1454" y="223"/>
                  </a:lnTo>
                  <a:lnTo>
                    <a:pt x="1454" y="223"/>
                  </a:lnTo>
                  <a:lnTo>
                    <a:pt x="1454" y="223"/>
                  </a:lnTo>
                  <a:lnTo>
                    <a:pt x="1454" y="223"/>
                  </a:lnTo>
                  <a:lnTo>
                    <a:pt x="1456" y="221"/>
                  </a:lnTo>
                  <a:lnTo>
                    <a:pt x="1456" y="221"/>
                  </a:lnTo>
                  <a:lnTo>
                    <a:pt x="1458" y="220"/>
                  </a:lnTo>
                  <a:lnTo>
                    <a:pt x="1458" y="220"/>
                  </a:lnTo>
                  <a:lnTo>
                    <a:pt x="1460" y="218"/>
                  </a:lnTo>
                  <a:lnTo>
                    <a:pt x="1460" y="219"/>
                  </a:lnTo>
                  <a:lnTo>
                    <a:pt x="1462" y="219"/>
                  </a:lnTo>
                  <a:lnTo>
                    <a:pt x="1462" y="219"/>
                  </a:lnTo>
                  <a:lnTo>
                    <a:pt x="1464" y="219"/>
                  </a:lnTo>
                  <a:lnTo>
                    <a:pt x="1465" y="221"/>
                  </a:lnTo>
                  <a:lnTo>
                    <a:pt x="1467" y="221"/>
                  </a:lnTo>
                  <a:lnTo>
                    <a:pt x="1469" y="221"/>
                  </a:lnTo>
                  <a:lnTo>
                    <a:pt x="1470" y="221"/>
                  </a:lnTo>
                  <a:lnTo>
                    <a:pt x="1470" y="224"/>
                  </a:lnTo>
                  <a:lnTo>
                    <a:pt x="1472" y="225"/>
                  </a:lnTo>
                  <a:lnTo>
                    <a:pt x="1472" y="229"/>
                  </a:lnTo>
                  <a:lnTo>
                    <a:pt x="1472" y="231"/>
                  </a:lnTo>
                  <a:lnTo>
                    <a:pt x="1471" y="234"/>
                  </a:lnTo>
                  <a:lnTo>
                    <a:pt x="1471" y="237"/>
                  </a:lnTo>
                  <a:lnTo>
                    <a:pt x="1470" y="241"/>
                  </a:lnTo>
                  <a:lnTo>
                    <a:pt x="1470" y="244"/>
                  </a:lnTo>
                  <a:lnTo>
                    <a:pt x="1468" y="247"/>
                  </a:lnTo>
                  <a:lnTo>
                    <a:pt x="1468" y="251"/>
                  </a:lnTo>
                  <a:lnTo>
                    <a:pt x="1466" y="254"/>
                  </a:lnTo>
                  <a:lnTo>
                    <a:pt x="1466" y="255"/>
                  </a:lnTo>
                  <a:lnTo>
                    <a:pt x="1466" y="257"/>
                  </a:lnTo>
                  <a:lnTo>
                    <a:pt x="1466" y="259"/>
                  </a:lnTo>
                  <a:lnTo>
                    <a:pt x="1466" y="259"/>
                  </a:lnTo>
                  <a:lnTo>
                    <a:pt x="1467" y="259"/>
                  </a:lnTo>
                  <a:lnTo>
                    <a:pt x="1468" y="257"/>
                  </a:lnTo>
                  <a:lnTo>
                    <a:pt x="1470" y="254"/>
                  </a:lnTo>
                  <a:lnTo>
                    <a:pt x="1472" y="251"/>
                  </a:lnTo>
                  <a:lnTo>
                    <a:pt x="1476" y="245"/>
                  </a:lnTo>
                  <a:lnTo>
                    <a:pt x="1479" y="239"/>
                  </a:lnTo>
                  <a:lnTo>
                    <a:pt x="1482" y="233"/>
                  </a:lnTo>
                  <a:lnTo>
                    <a:pt x="1486" y="225"/>
                  </a:lnTo>
                  <a:lnTo>
                    <a:pt x="1490" y="218"/>
                  </a:lnTo>
                  <a:lnTo>
                    <a:pt x="1492" y="212"/>
                  </a:lnTo>
                  <a:lnTo>
                    <a:pt x="1496" y="204"/>
                  </a:lnTo>
                  <a:lnTo>
                    <a:pt x="1499" y="198"/>
                  </a:lnTo>
                  <a:lnTo>
                    <a:pt x="1502" y="191"/>
                  </a:lnTo>
                  <a:lnTo>
                    <a:pt x="1504" y="186"/>
                  </a:lnTo>
                  <a:lnTo>
                    <a:pt x="1508" y="180"/>
                  </a:lnTo>
                  <a:lnTo>
                    <a:pt x="1510" y="176"/>
                  </a:lnTo>
                  <a:lnTo>
                    <a:pt x="1512" y="173"/>
                  </a:lnTo>
                  <a:lnTo>
                    <a:pt x="1512" y="173"/>
                  </a:lnTo>
                  <a:lnTo>
                    <a:pt x="1513" y="171"/>
                  </a:lnTo>
                  <a:lnTo>
                    <a:pt x="1515" y="169"/>
                  </a:lnTo>
                  <a:lnTo>
                    <a:pt x="1517" y="167"/>
                  </a:lnTo>
                  <a:lnTo>
                    <a:pt x="1519" y="165"/>
                  </a:lnTo>
                  <a:lnTo>
                    <a:pt x="1522" y="162"/>
                  </a:lnTo>
                  <a:lnTo>
                    <a:pt x="1525" y="158"/>
                  </a:lnTo>
                  <a:lnTo>
                    <a:pt x="1528" y="155"/>
                  </a:lnTo>
                  <a:lnTo>
                    <a:pt x="1530" y="151"/>
                  </a:lnTo>
                  <a:lnTo>
                    <a:pt x="1534" y="147"/>
                  </a:lnTo>
                  <a:lnTo>
                    <a:pt x="1536" y="144"/>
                  </a:lnTo>
                  <a:lnTo>
                    <a:pt x="1540" y="139"/>
                  </a:lnTo>
                  <a:lnTo>
                    <a:pt x="1542" y="136"/>
                  </a:lnTo>
                  <a:lnTo>
                    <a:pt x="1544" y="131"/>
                  </a:lnTo>
                  <a:lnTo>
                    <a:pt x="1546" y="128"/>
                  </a:lnTo>
                  <a:lnTo>
                    <a:pt x="1548" y="122"/>
                  </a:lnTo>
                  <a:lnTo>
                    <a:pt x="1548" y="120"/>
                  </a:lnTo>
                  <a:lnTo>
                    <a:pt x="1550" y="116"/>
                  </a:lnTo>
                  <a:lnTo>
                    <a:pt x="1550" y="114"/>
                  </a:lnTo>
                  <a:lnTo>
                    <a:pt x="1552" y="110"/>
                  </a:lnTo>
                  <a:lnTo>
                    <a:pt x="1553" y="108"/>
                  </a:lnTo>
                  <a:lnTo>
                    <a:pt x="1555" y="105"/>
                  </a:lnTo>
                  <a:lnTo>
                    <a:pt x="1557" y="102"/>
                  </a:lnTo>
                  <a:lnTo>
                    <a:pt x="1558" y="98"/>
                  </a:lnTo>
                  <a:lnTo>
                    <a:pt x="1559" y="97"/>
                  </a:lnTo>
                  <a:lnTo>
                    <a:pt x="1561" y="95"/>
                  </a:lnTo>
                  <a:lnTo>
                    <a:pt x="1563" y="93"/>
                  </a:lnTo>
                  <a:lnTo>
                    <a:pt x="1565" y="89"/>
                  </a:lnTo>
                  <a:lnTo>
                    <a:pt x="1565" y="88"/>
                  </a:lnTo>
                  <a:lnTo>
                    <a:pt x="1567" y="87"/>
                  </a:lnTo>
                  <a:lnTo>
                    <a:pt x="1567" y="85"/>
                  </a:lnTo>
                  <a:lnTo>
                    <a:pt x="1568" y="83"/>
                  </a:lnTo>
                  <a:lnTo>
                    <a:pt x="1568" y="81"/>
                  </a:lnTo>
                  <a:lnTo>
                    <a:pt x="1569" y="79"/>
                  </a:lnTo>
                  <a:lnTo>
                    <a:pt x="1569" y="77"/>
                  </a:lnTo>
                  <a:lnTo>
                    <a:pt x="1569" y="73"/>
                  </a:lnTo>
                  <a:lnTo>
                    <a:pt x="1568" y="69"/>
                  </a:lnTo>
                  <a:lnTo>
                    <a:pt x="1568" y="65"/>
                  </a:lnTo>
                  <a:lnTo>
                    <a:pt x="1567" y="61"/>
                  </a:lnTo>
                  <a:lnTo>
                    <a:pt x="1567" y="57"/>
                  </a:lnTo>
                  <a:lnTo>
                    <a:pt x="1565" y="54"/>
                  </a:lnTo>
                  <a:lnTo>
                    <a:pt x="1563" y="50"/>
                  </a:lnTo>
                  <a:lnTo>
                    <a:pt x="1561" y="47"/>
                  </a:lnTo>
                  <a:lnTo>
                    <a:pt x="1560" y="43"/>
                  </a:lnTo>
                  <a:lnTo>
                    <a:pt x="1558" y="41"/>
                  </a:lnTo>
                  <a:lnTo>
                    <a:pt x="1557" y="37"/>
                  </a:lnTo>
                  <a:lnTo>
                    <a:pt x="1555" y="35"/>
                  </a:lnTo>
                  <a:lnTo>
                    <a:pt x="1554" y="32"/>
                  </a:lnTo>
                  <a:lnTo>
                    <a:pt x="1552" y="32"/>
                  </a:lnTo>
                  <a:lnTo>
                    <a:pt x="1551" y="31"/>
                  </a:lnTo>
                  <a:lnTo>
                    <a:pt x="1549" y="31"/>
                  </a:lnTo>
                  <a:lnTo>
                    <a:pt x="1549" y="29"/>
                  </a:lnTo>
                  <a:lnTo>
                    <a:pt x="1547" y="29"/>
                  </a:lnTo>
                  <a:lnTo>
                    <a:pt x="1546" y="27"/>
                  </a:lnTo>
                  <a:lnTo>
                    <a:pt x="1544" y="26"/>
                  </a:lnTo>
                  <a:lnTo>
                    <a:pt x="1542" y="24"/>
                  </a:lnTo>
                  <a:lnTo>
                    <a:pt x="1538" y="23"/>
                  </a:lnTo>
                  <a:lnTo>
                    <a:pt x="1536" y="21"/>
                  </a:lnTo>
                  <a:lnTo>
                    <a:pt x="1532" y="19"/>
                  </a:lnTo>
                  <a:lnTo>
                    <a:pt x="1530" y="17"/>
                  </a:lnTo>
                  <a:lnTo>
                    <a:pt x="1526" y="15"/>
                  </a:lnTo>
                  <a:lnTo>
                    <a:pt x="1522" y="11"/>
                  </a:lnTo>
                  <a:lnTo>
                    <a:pt x="1518" y="8"/>
                  </a:lnTo>
                  <a:lnTo>
                    <a:pt x="1514" y="4"/>
                  </a:lnTo>
                  <a:lnTo>
                    <a:pt x="1509" y="3"/>
                  </a:lnTo>
                  <a:lnTo>
                    <a:pt x="1506" y="1"/>
                  </a:lnTo>
                  <a:lnTo>
                    <a:pt x="1500" y="1"/>
                  </a:lnTo>
                  <a:lnTo>
                    <a:pt x="1495" y="0"/>
                  </a:lnTo>
                  <a:lnTo>
                    <a:pt x="1488" y="1"/>
                  </a:lnTo>
                  <a:lnTo>
                    <a:pt x="1482" y="1"/>
                  </a:lnTo>
                  <a:lnTo>
                    <a:pt x="1477" y="1"/>
                  </a:lnTo>
                  <a:lnTo>
                    <a:pt x="1471" y="1"/>
                  </a:lnTo>
                  <a:lnTo>
                    <a:pt x="1464" y="3"/>
                  </a:lnTo>
                  <a:lnTo>
                    <a:pt x="1459" y="3"/>
                  </a:lnTo>
                  <a:lnTo>
                    <a:pt x="1453" y="4"/>
                  </a:lnTo>
                  <a:lnTo>
                    <a:pt x="1449" y="4"/>
                  </a:lnTo>
                  <a:lnTo>
                    <a:pt x="1445" y="5"/>
                  </a:lnTo>
                  <a:lnTo>
                    <a:pt x="1442" y="5"/>
                  </a:lnTo>
                  <a:lnTo>
                    <a:pt x="1440" y="5"/>
                  </a:lnTo>
                  <a:lnTo>
                    <a:pt x="1439" y="5"/>
                  </a:lnTo>
                  <a:lnTo>
                    <a:pt x="1436" y="5"/>
                  </a:lnTo>
                  <a:lnTo>
                    <a:pt x="1432" y="3"/>
                  </a:lnTo>
                  <a:lnTo>
                    <a:pt x="1427" y="4"/>
                  </a:lnTo>
                  <a:lnTo>
                    <a:pt x="1422" y="4"/>
                  </a:lnTo>
                  <a:lnTo>
                    <a:pt x="1414" y="6"/>
                  </a:lnTo>
                  <a:lnTo>
                    <a:pt x="1408" y="7"/>
                  </a:lnTo>
                  <a:lnTo>
                    <a:pt x="1401" y="9"/>
                  </a:lnTo>
                  <a:lnTo>
                    <a:pt x="1394" y="10"/>
                  </a:lnTo>
                  <a:lnTo>
                    <a:pt x="1386" y="13"/>
                  </a:lnTo>
                  <a:lnTo>
                    <a:pt x="1379" y="15"/>
                  </a:lnTo>
                  <a:lnTo>
                    <a:pt x="1371" y="17"/>
                  </a:lnTo>
                  <a:lnTo>
                    <a:pt x="1365" y="19"/>
                  </a:lnTo>
                  <a:lnTo>
                    <a:pt x="1359" y="20"/>
                  </a:lnTo>
                  <a:lnTo>
                    <a:pt x="1354" y="22"/>
                  </a:lnTo>
                  <a:lnTo>
                    <a:pt x="1350" y="24"/>
                  </a:lnTo>
                  <a:lnTo>
                    <a:pt x="1348" y="25"/>
                  </a:lnTo>
                  <a:lnTo>
                    <a:pt x="1346" y="27"/>
                  </a:lnTo>
                  <a:lnTo>
                    <a:pt x="1344" y="27"/>
                  </a:lnTo>
                  <a:lnTo>
                    <a:pt x="1343" y="27"/>
                  </a:lnTo>
                  <a:lnTo>
                    <a:pt x="1342" y="27"/>
                  </a:lnTo>
                  <a:lnTo>
                    <a:pt x="1339" y="29"/>
                  </a:lnTo>
                  <a:lnTo>
                    <a:pt x="1337" y="30"/>
                  </a:lnTo>
                  <a:lnTo>
                    <a:pt x="1333" y="31"/>
                  </a:lnTo>
                  <a:lnTo>
                    <a:pt x="1331" y="31"/>
                  </a:lnTo>
                  <a:lnTo>
                    <a:pt x="1326" y="33"/>
                  </a:lnTo>
                  <a:lnTo>
                    <a:pt x="1323" y="35"/>
                  </a:lnTo>
                  <a:lnTo>
                    <a:pt x="1317" y="37"/>
                  </a:lnTo>
                  <a:lnTo>
                    <a:pt x="1313" y="39"/>
                  </a:lnTo>
                  <a:lnTo>
                    <a:pt x="1306" y="43"/>
                  </a:lnTo>
                  <a:lnTo>
                    <a:pt x="1301" y="45"/>
                  </a:lnTo>
                  <a:lnTo>
                    <a:pt x="1293" y="48"/>
                  </a:lnTo>
                  <a:lnTo>
                    <a:pt x="1286" y="50"/>
                  </a:lnTo>
                  <a:lnTo>
                    <a:pt x="1278" y="54"/>
                  </a:lnTo>
                  <a:lnTo>
                    <a:pt x="1271" y="58"/>
                  </a:lnTo>
                  <a:lnTo>
                    <a:pt x="1263" y="61"/>
                  </a:lnTo>
                  <a:lnTo>
                    <a:pt x="1256" y="65"/>
                  </a:lnTo>
                  <a:lnTo>
                    <a:pt x="1249" y="69"/>
                  </a:lnTo>
                  <a:lnTo>
                    <a:pt x="1243" y="73"/>
                  </a:lnTo>
                  <a:lnTo>
                    <a:pt x="1238" y="77"/>
                  </a:lnTo>
                  <a:lnTo>
                    <a:pt x="1232" y="80"/>
                  </a:lnTo>
                  <a:lnTo>
                    <a:pt x="1226" y="84"/>
                  </a:lnTo>
                  <a:lnTo>
                    <a:pt x="1221" y="88"/>
                  </a:lnTo>
                  <a:lnTo>
                    <a:pt x="1216" y="91"/>
                  </a:lnTo>
                  <a:lnTo>
                    <a:pt x="1213" y="93"/>
                  </a:lnTo>
                  <a:lnTo>
                    <a:pt x="1209" y="97"/>
                  </a:lnTo>
                  <a:lnTo>
                    <a:pt x="1206" y="98"/>
                  </a:lnTo>
                  <a:lnTo>
                    <a:pt x="1204" y="100"/>
                  </a:lnTo>
                  <a:lnTo>
                    <a:pt x="1202" y="101"/>
                  </a:lnTo>
                  <a:lnTo>
                    <a:pt x="1199" y="104"/>
                  </a:lnTo>
                  <a:lnTo>
                    <a:pt x="1195" y="106"/>
                  </a:lnTo>
                  <a:lnTo>
                    <a:pt x="1188" y="111"/>
                  </a:lnTo>
                  <a:lnTo>
                    <a:pt x="1182" y="115"/>
                  </a:lnTo>
                  <a:lnTo>
                    <a:pt x="1174" y="122"/>
                  </a:lnTo>
                  <a:lnTo>
                    <a:pt x="1165" y="128"/>
                  </a:lnTo>
                  <a:lnTo>
                    <a:pt x="1156" y="135"/>
                  </a:lnTo>
                  <a:lnTo>
                    <a:pt x="1146" y="141"/>
                  </a:lnTo>
                  <a:lnTo>
                    <a:pt x="1136" y="148"/>
                  </a:lnTo>
                  <a:lnTo>
                    <a:pt x="1126" y="155"/>
                  </a:lnTo>
                  <a:lnTo>
                    <a:pt x="1117" y="162"/>
                  </a:lnTo>
                  <a:lnTo>
                    <a:pt x="1109" y="167"/>
                  </a:lnTo>
                  <a:lnTo>
                    <a:pt x="1100" y="173"/>
                  </a:lnTo>
                  <a:lnTo>
                    <a:pt x="1095" y="177"/>
                  </a:lnTo>
                  <a:lnTo>
                    <a:pt x="1090" y="181"/>
                  </a:lnTo>
                  <a:lnTo>
                    <a:pt x="1089" y="183"/>
                  </a:lnTo>
                  <a:lnTo>
                    <a:pt x="1085" y="186"/>
                  </a:lnTo>
                  <a:lnTo>
                    <a:pt x="1080" y="191"/>
                  </a:lnTo>
                  <a:lnTo>
                    <a:pt x="1072" y="197"/>
                  </a:lnTo>
                  <a:lnTo>
                    <a:pt x="1065" y="204"/>
                  </a:lnTo>
                  <a:lnTo>
                    <a:pt x="1054" y="213"/>
                  </a:lnTo>
                  <a:lnTo>
                    <a:pt x="1045" y="221"/>
                  </a:lnTo>
                  <a:lnTo>
                    <a:pt x="1034" y="230"/>
                  </a:lnTo>
                  <a:lnTo>
                    <a:pt x="1023" y="239"/>
                  </a:lnTo>
                  <a:lnTo>
                    <a:pt x="1012" y="248"/>
                  </a:lnTo>
                  <a:lnTo>
                    <a:pt x="1001" y="257"/>
                  </a:lnTo>
                  <a:lnTo>
                    <a:pt x="990" y="266"/>
                  </a:lnTo>
                  <a:lnTo>
                    <a:pt x="981" y="274"/>
                  </a:lnTo>
                  <a:lnTo>
                    <a:pt x="973" y="281"/>
                  </a:lnTo>
                  <a:lnTo>
                    <a:pt x="967" y="286"/>
                  </a:lnTo>
                  <a:lnTo>
                    <a:pt x="962" y="290"/>
                  </a:lnTo>
                  <a:lnTo>
                    <a:pt x="960" y="291"/>
                  </a:lnTo>
                  <a:lnTo>
                    <a:pt x="958" y="293"/>
                  </a:lnTo>
                  <a:lnTo>
                    <a:pt x="953" y="296"/>
                  </a:lnTo>
                  <a:lnTo>
                    <a:pt x="946" y="301"/>
                  </a:lnTo>
                  <a:lnTo>
                    <a:pt x="940" y="307"/>
                  </a:lnTo>
                  <a:lnTo>
                    <a:pt x="930" y="314"/>
                  </a:lnTo>
                  <a:lnTo>
                    <a:pt x="921" y="322"/>
                  </a:lnTo>
                  <a:lnTo>
                    <a:pt x="910" y="331"/>
                  </a:lnTo>
                  <a:lnTo>
                    <a:pt x="900" y="338"/>
                  </a:lnTo>
                  <a:lnTo>
                    <a:pt x="889" y="347"/>
                  </a:lnTo>
                  <a:lnTo>
                    <a:pt x="878" y="355"/>
                  </a:lnTo>
                  <a:lnTo>
                    <a:pt x="869" y="362"/>
                  </a:lnTo>
                  <a:lnTo>
                    <a:pt x="861" y="368"/>
                  </a:lnTo>
                  <a:lnTo>
                    <a:pt x="853" y="373"/>
                  </a:lnTo>
                  <a:lnTo>
                    <a:pt x="848" y="377"/>
                  </a:lnTo>
                  <a:lnTo>
                    <a:pt x="844" y="380"/>
                  </a:lnTo>
                  <a:lnTo>
                    <a:pt x="843" y="379"/>
                  </a:lnTo>
                  <a:lnTo>
                    <a:pt x="833" y="371"/>
                  </a:lnTo>
                  <a:lnTo>
                    <a:pt x="824" y="363"/>
                  </a:lnTo>
                  <a:lnTo>
                    <a:pt x="814" y="355"/>
                  </a:lnTo>
                  <a:lnTo>
                    <a:pt x="804" y="345"/>
                  </a:lnTo>
                  <a:lnTo>
                    <a:pt x="793" y="337"/>
                  </a:lnTo>
                  <a:lnTo>
                    <a:pt x="784" y="327"/>
                  </a:lnTo>
                  <a:lnTo>
                    <a:pt x="773" y="319"/>
                  </a:lnTo>
                  <a:lnTo>
                    <a:pt x="764" y="309"/>
                  </a:lnTo>
                  <a:lnTo>
                    <a:pt x="754" y="302"/>
                  </a:lnTo>
                  <a:lnTo>
                    <a:pt x="744" y="293"/>
                  </a:lnTo>
                  <a:lnTo>
                    <a:pt x="736" y="287"/>
                  </a:lnTo>
                  <a:lnTo>
                    <a:pt x="728" y="281"/>
                  </a:lnTo>
                  <a:lnTo>
                    <a:pt x="720" y="276"/>
                  </a:lnTo>
                  <a:lnTo>
                    <a:pt x="715" y="271"/>
                  </a:lnTo>
                  <a:lnTo>
                    <a:pt x="710" y="268"/>
                  </a:lnTo>
                  <a:lnTo>
                    <a:pt x="708" y="265"/>
                  </a:lnTo>
                  <a:lnTo>
                    <a:pt x="702" y="262"/>
                  </a:lnTo>
                  <a:lnTo>
                    <a:pt x="694" y="257"/>
                  </a:lnTo>
                  <a:lnTo>
                    <a:pt x="684" y="251"/>
                  </a:lnTo>
                  <a:lnTo>
                    <a:pt x="674" y="243"/>
                  </a:lnTo>
                  <a:lnTo>
                    <a:pt x="660" y="234"/>
                  </a:lnTo>
                  <a:lnTo>
                    <a:pt x="648" y="225"/>
                  </a:lnTo>
                  <a:lnTo>
                    <a:pt x="634" y="215"/>
                  </a:lnTo>
                  <a:lnTo>
                    <a:pt x="621" y="205"/>
                  </a:lnTo>
                  <a:lnTo>
                    <a:pt x="606" y="196"/>
                  </a:lnTo>
                  <a:lnTo>
                    <a:pt x="592" y="186"/>
                  </a:lnTo>
                  <a:lnTo>
                    <a:pt x="580" y="177"/>
                  </a:lnTo>
                  <a:lnTo>
                    <a:pt x="568" y="169"/>
                  </a:lnTo>
                  <a:lnTo>
                    <a:pt x="556" y="163"/>
                  </a:lnTo>
                  <a:lnTo>
                    <a:pt x="547" y="156"/>
                  </a:lnTo>
                  <a:lnTo>
                    <a:pt x="539" y="152"/>
                  </a:lnTo>
                  <a:lnTo>
                    <a:pt x="534" y="149"/>
                  </a:lnTo>
                  <a:lnTo>
                    <a:pt x="529" y="149"/>
                  </a:lnTo>
                  <a:lnTo>
                    <a:pt x="524" y="147"/>
                  </a:lnTo>
                  <a:lnTo>
                    <a:pt x="518" y="146"/>
                  </a:lnTo>
                  <a:lnTo>
                    <a:pt x="512" y="144"/>
                  </a:lnTo>
                  <a:lnTo>
                    <a:pt x="504" y="142"/>
                  </a:lnTo>
                  <a:lnTo>
                    <a:pt x="498" y="140"/>
                  </a:lnTo>
                  <a:lnTo>
                    <a:pt x="490" y="138"/>
                  </a:lnTo>
                  <a:lnTo>
                    <a:pt x="485" y="136"/>
                  </a:lnTo>
                  <a:lnTo>
                    <a:pt x="477" y="136"/>
                  </a:lnTo>
                  <a:lnTo>
                    <a:pt x="470" y="135"/>
                  </a:lnTo>
                  <a:lnTo>
                    <a:pt x="462" y="133"/>
                  </a:lnTo>
                  <a:lnTo>
                    <a:pt x="456" y="131"/>
                  </a:lnTo>
                  <a:lnTo>
                    <a:pt x="450" y="131"/>
                  </a:lnTo>
                  <a:lnTo>
                    <a:pt x="444" y="129"/>
                  </a:lnTo>
                  <a:lnTo>
                    <a:pt x="438" y="129"/>
                  </a:lnTo>
                  <a:lnTo>
                    <a:pt x="435" y="128"/>
                  </a:lnTo>
                  <a:lnTo>
                    <a:pt x="427" y="128"/>
                  </a:lnTo>
                  <a:lnTo>
                    <a:pt x="418" y="127"/>
                  </a:lnTo>
                  <a:lnTo>
                    <a:pt x="406" y="127"/>
                  </a:lnTo>
                  <a:lnTo>
                    <a:pt x="393" y="125"/>
                  </a:lnTo>
                  <a:lnTo>
                    <a:pt x="377" y="125"/>
                  </a:lnTo>
                  <a:lnTo>
                    <a:pt x="362" y="123"/>
                  </a:lnTo>
                  <a:lnTo>
                    <a:pt x="345" y="123"/>
                  </a:lnTo>
                  <a:lnTo>
                    <a:pt x="328" y="121"/>
                  </a:lnTo>
                  <a:lnTo>
                    <a:pt x="310" y="121"/>
                  </a:lnTo>
                  <a:lnTo>
                    <a:pt x="294" y="121"/>
                  </a:lnTo>
                  <a:lnTo>
                    <a:pt x="278" y="121"/>
                  </a:lnTo>
                  <a:lnTo>
                    <a:pt x="264" y="119"/>
                  </a:lnTo>
                  <a:lnTo>
                    <a:pt x="251" y="119"/>
                  </a:lnTo>
                  <a:lnTo>
                    <a:pt x="241" y="118"/>
                  </a:lnTo>
                  <a:lnTo>
                    <a:pt x="232" y="118"/>
                  </a:lnTo>
                  <a:lnTo>
                    <a:pt x="228" y="117"/>
                  </a:lnTo>
                  <a:lnTo>
                    <a:pt x="223" y="117"/>
                  </a:lnTo>
                  <a:lnTo>
                    <a:pt x="220" y="117"/>
                  </a:lnTo>
                  <a:lnTo>
                    <a:pt x="214" y="117"/>
                  </a:lnTo>
                  <a:lnTo>
                    <a:pt x="210" y="117"/>
                  </a:lnTo>
                  <a:lnTo>
                    <a:pt x="204" y="117"/>
                  </a:lnTo>
                  <a:lnTo>
                    <a:pt x="200" y="117"/>
                  </a:lnTo>
                  <a:lnTo>
                    <a:pt x="194" y="117"/>
                  </a:lnTo>
                  <a:lnTo>
                    <a:pt x="190" y="115"/>
                  </a:lnTo>
                  <a:lnTo>
                    <a:pt x="184" y="115"/>
                  </a:lnTo>
                  <a:lnTo>
                    <a:pt x="178" y="115"/>
                  </a:lnTo>
                  <a:lnTo>
                    <a:pt x="173" y="115"/>
                  </a:lnTo>
                  <a:lnTo>
                    <a:pt x="170" y="115"/>
                  </a:lnTo>
                  <a:lnTo>
                    <a:pt x="165" y="116"/>
                  </a:lnTo>
                  <a:lnTo>
                    <a:pt x="161" y="116"/>
                  </a:lnTo>
                  <a:lnTo>
                    <a:pt x="159" y="116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53" y="119"/>
                  </a:lnTo>
                  <a:lnTo>
                    <a:pt x="151" y="121"/>
                  </a:lnTo>
                  <a:lnTo>
                    <a:pt x="149" y="122"/>
                  </a:lnTo>
                  <a:lnTo>
                    <a:pt x="145" y="125"/>
                  </a:lnTo>
                  <a:lnTo>
                    <a:pt x="143" y="127"/>
                  </a:lnTo>
                  <a:lnTo>
                    <a:pt x="142" y="129"/>
                  </a:lnTo>
                  <a:lnTo>
                    <a:pt x="140" y="131"/>
                  </a:lnTo>
                  <a:lnTo>
                    <a:pt x="136" y="134"/>
                  </a:lnTo>
                  <a:lnTo>
                    <a:pt x="134" y="136"/>
                  </a:lnTo>
                  <a:lnTo>
                    <a:pt x="132" y="137"/>
                  </a:lnTo>
                  <a:lnTo>
                    <a:pt x="130" y="139"/>
                  </a:lnTo>
                  <a:lnTo>
                    <a:pt x="128" y="141"/>
                  </a:lnTo>
                  <a:lnTo>
                    <a:pt x="126" y="143"/>
                  </a:lnTo>
                  <a:lnTo>
                    <a:pt x="124" y="144"/>
                  </a:lnTo>
                  <a:lnTo>
                    <a:pt x="123" y="144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2" y="145"/>
                  </a:lnTo>
                  <a:lnTo>
                    <a:pt x="110" y="145"/>
                  </a:lnTo>
                  <a:lnTo>
                    <a:pt x="108" y="143"/>
                  </a:lnTo>
                  <a:lnTo>
                    <a:pt x="106" y="143"/>
                  </a:lnTo>
                  <a:lnTo>
                    <a:pt x="104" y="143"/>
                  </a:lnTo>
                  <a:lnTo>
                    <a:pt x="103" y="143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5" y="142"/>
                  </a:lnTo>
                  <a:lnTo>
                    <a:pt x="91" y="144"/>
                  </a:lnTo>
                  <a:lnTo>
                    <a:pt x="88" y="145"/>
                  </a:lnTo>
                  <a:lnTo>
                    <a:pt x="84" y="146"/>
                  </a:lnTo>
                  <a:lnTo>
                    <a:pt x="82" y="146"/>
                  </a:lnTo>
                  <a:lnTo>
                    <a:pt x="78" y="147"/>
                  </a:lnTo>
                  <a:lnTo>
                    <a:pt x="75" y="147"/>
                  </a:lnTo>
                  <a:lnTo>
                    <a:pt x="71" y="147"/>
                  </a:lnTo>
                  <a:lnTo>
                    <a:pt x="68" y="147"/>
                  </a:lnTo>
                  <a:lnTo>
                    <a:pt x="64" y="149"/>
                  </a:lnTo>
                  <a:lnTo>
                    <a:pt x="60" y="149"/>
                  </a:lnTo>
                  <a:lnTo>
                    <a:pt x="56" y="150"/>
                  </a:lnTo>
                  <a:lnTo>
                    <a:pt x="54" y="150"/>
                  </a:lnTo>
                  <a:lnTo>
                    <a:pt x="50" y="152"/>
                  </a:lnTo>
                  <a:lnTo>
                    <a:pt x="47" y="153"/>
                  </a:lnTo>
                  <a:lnTo>
                    <a:pt x="45" y="155"/>
                  </a:lnTo>
                  <a:lnTo>
                    <a:pt x="43" y="156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40" y="157"/>
                  </a:lnTo>
                  <a:lnTo>
                    <a:pt x="40" y="157"/>
                  </a:lnTo>
                  <a:lnTo>
                    <a:pt x="38" y="159"/>
                  </a:lnTo>
                  <a:lnTo>
                    <a:pt x="36" y="159"/>
                  </a:lnTo>
                  <a:lnTo>
                    <a:pt x="35" y="161"/>
                  </a:lnTo>
                  <a:lnTo>
                    <a:pt x="35" y="161"/>
                  </a:lnTo>
                  <a:lnTo>
                    <a:pt x="33" y="163"/>
                  </a:lnTo>
                  <a:lnTo>
                    <a:pt x="31" y="165"/>
                  </a:lnTo>
                  <a:lnTo>
                    <a:pt x="29" y="167"/>
                  </a:lnTo>
                  <a:lnTo>
                    <a:pt x="28" y="168"/>
                  </a:lnTo>
                  <a:lnTo>
                    <a:pt x="26" y="171"/>
                  </a:lnTo>
                  <a:lnTo>
                    <a:pt x="25" y="173"/>
                  </a:lnTo>
                  <a:lnTo>
                    <a:pt x="23" y="175"/>
                  </a:lnTo>
                  <a:lnTo>
                    <a:pt x="23" y="176"/>
                  </a:lnTo>
                  <a:lnTo>
                    <a:pt x="21" y="179"/>
                  </a:lnTo>
                  <a:lnTo>
                    <a:pt x="21" y="181"/>
                  </a:lnTo>
                  <a:lnTo>
                    <a:pt x="19" y="183"/>
                  </a:lnTo>
                  <a:lnTo>
                    <a:pt x="19" y="184"/>
                  </a:lnTo>
                  <a:lnTo>
                    <a:pt x="17" y="187"/>
                  </a:lnTo>
                  <a:lnTo>
                    <a:pt x="17" y="189"/>
                  </a:lnTo>
                  <a:lnTo>
                    <a:pt x="17" y="191"/>
                  </a:lnTo>
                  <a:lnTo>
                    <a:pt x="17" y="193"/>
                  </a:lnTo>
                  <a:lnTo>
                    <a:pt x="15" y="195"/>
                  </a:lnTo>
                  <a:lnTo>
                    <a:pt x="15" y="197"/>
                  </a:lnTo>
                  <a:lnTo>
                    <a:pt x="15" y="199"/>
                  </a:lnTo>
                  <a:lnTo>
                    <a:pt x="15" y="201"/>
                  </a:lnTo>
                  <a:lnTo>
                    <a:pt x="14" y="203"/>
                  </a:lnTo>
                  <a:lnTo>
                    <a:pt x="14" y="203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3" y="207"/>
                  </a:lnTo>
                  <a:lnTo>
                    <a:pt x="13" y="210"/>
                  </a:lnTo>
                  <a:lnTo>
                    <a:pt x="13" y="214"/>
                  </a:lnTo>
                  <a:lnTo>
                    <a:pt x="15" y="217"/>
                  </a:lnTo>
                  <a:lnTo>
                    <a:pt x="15" y="223"/>
                  </a:lnTo>
                  <a:lnTo>
                    <a:pt x="17" y="227"/>
                  </a:lnTo>
                  <a:lnTo>
                    <a:pt x="18" y="233"/>
                  </a:lnTo>
                  <a:lnTo>
                    <a:pt x="20" y="237"/>
                  </a:lnTo>
                  <a:lnTo>
                    <a:pt x="22" y="243"/>
                  </a:lnTo>
                  <a:lnTo>
                    <a:pt x="24" y="249"/>
                  </a:lnTo>
                  <a:lnTo>
                    <a:pt x="25" y="254"/>
                  </a:lnTo>
                  <a:lnTo>
                    <a:pt x="27" y="258"/>
                  </a:lnTo>
                  <a:lnTo>
                    <a:pt x="27" y="262"/>
                  </a:lnTo>
                  <a:lnTo>
                    <a:pt x="29" y="265"/>
                  </a:lnTo>
                  <a:lnTo>
                    <a:pt x="30" y="267"/>
                  </a:lnTo>
                  <a:lnTo>
                    <a:pt x="32" y="269"/>
                  </a:lnTo>
                  <a:lnTo>
                    <a:pt x="30" y="271"/>
                  </a:lnTo>
                  <a:lnTo>
                    <a:pt x="30" y="273"/>
                  </a:lnTo>
                  <a:lnTo>
                    <a:pt x="30" y="277"/>
                  </a:lnTo>
                  <a:lnTo>
                    <a:pt x="30" y="279"/>
                  </a:lnTo>
                  <a:lnTo>
                    <a:pt x="28" y="284"/>
                  </a:lnTo>
                  <a:lnTo>
                    <a:pt x="27" y="287"/>
                  </a:lnTo>
                  <a:lnTo>
                    <a:pt x="25" y="291"/>
                  </a:lnTo>
                  <a:lnTo>
                    <a:pt x="25" y="295"/>
                  </a:lnTo>
                  <a:lnTo>
                    <a:pt x="24" y="300"/>
                  </a:lnTo>
                  <a:lnTo>
                    <a:pt x="22" y="303"/>
                  </a:lnTo>
                  <a:lnTo>
                    <a:pt x="20" y="307"/>
                  </a:lnTo>
                  <a:lnTo>
                    <a:pt x="20" y="311"/>
                  </a:lnTo>
                  <a:lnTo>
                    <a:pt x="19" y="314"/>
                  </a:lnTo>
                  <a:lnTo>
                    <a:pt x="19" y="317"/>
                  </a:lnTo>
                  <a:lnTo>
                    <a:pt x="19" y="319"/>
                  </a:lnTo>
                  <a:lnTo>
                    <a:pt x="19" y="319"/>
                  </a:lnTo>
                  <a:lnTo>
                    <a:pt x="19" y="322"/>
                  </a:lnTo>
                  <a:lnTo>
                    <a:pt x="20" y="323"/>
                  </a:lnTo>
                  <a:lnTo>
                    <a:pt x="21" y="327"/>
                  </a:lnTo>
                  <a:lnTo>
                    <a:pt x="23" y="331"/>
                  </a:lnTo>
                  <a:lnTo>
                    <a:pt x="25" y="335"/>
                  </a:lnTo>
                  <a:lnTo>
                    <a:pt x="26" y="339"/>
                  </a:lnTo>
                  <a:lnTo>
                    <a:pt x="28" y="344"/>
                  </a:lnTo>
                  <a:lnTo>
                    <a:pt x="32" y="348"/>
                  </a:lnTo>
                  <a:lnTo>
                    <a:pt x="34" y="353"/>
                  </a:lnTo>
                  <a:lnTo>
                    <a:pt x="36" y="358"/>
                  </a:lnTo>
                  <a:lnTo>
                    <a:pt x="38" y="363"/>
                  </a:lnTo>
                  <a:lnTo>
                    <a:pt x="42" y="367"/>
                  </a:lnTo>
                  <a:lnTo>
                    <a:pt x="44" y="370"/>
                  </a:lnTo>
                  <a:lnTo>
                    <a:pt x="45" y="373"/>
                  </a:lnTo>
                  <a:lnTo>
                    <a:pt x="47" y="376"/>
                  </a:lnTo>
                  <a:lnTo>
                    <a:pt x="49" y="377"/>
                  </a:lnTo>
                  <a:lnTo>
                    <a:pt x="50" y="380"/>
                  </a:lnTo>
                  <a:lnTo>
                    <a:pt x="52" y="382"/>
                  </a:lnTo>
                  <a:lnTo>
                    <a:pt x="54" y="386"/>
                  </a:lnTo>
                  <a:lnTo>
                    <a:pt x="57" y="389"/>
                  </a:lnTo>
                  <a:lnTo>
                    <a:pt x="60" y="395"/>
                  </a:lnTo>
                  <a:lnTo>
                    <a:pt x="64" y="399"/>
                  </a:lnTo>
                  <a:lnTo>
                    <a:pt x="68" y="404"/>
                  </a:lnTo>
                  <a:lnTo>
                    <a:pt x="73" y="408"/>
                  </a:lnTo>
                  <a:lnTo>
                    <a:pt x="76" y="413"/>
                  </a:lnTo>
                  <a:lnTo>
                    <a:pt x="80" y="418"/>
                  </a:lnTo>
                  <a:lnTo>
                    <a:pt x="83" y="422"/>
                  </a:lnTo>
                  <a:lnTo>
                    <a:pt x="87" y="426"/>
                  </a:lnTo>
                  <a:lnTo>
                    <a:pt x="89" y="430"/>
                  </a:lnTo>
                  <a:lnTo>
                    <a:pt x="93" y="433"/>
                  </a:lnTo>
                  <a:lnTo>
                    <a:pt x="95" y="435"/>
                  </a:lnTo>
                  <a:lnTo>
                    <a:pt x="97" y="435"/>
                  </a:lnTo>
                  <a:lnTo>
                    <a:pt x="98" y="437"/>
                  </a:lnTo>
                  <a:lnTo>
                    <a:pt x="100" y="438"/>
                  </a:lnTo>
                  <a:lnTo>
                    <a:pt x="103" y="441"/>
                  </a:lnTo>
                  <a:lnTo>
                    <a:pt x="107" y="444"/>
                  </a:lnTo>
                  <a:lnTo>
                    <a:pt x="111" y="448"/>
                  </a:lnTo>
                  <a:lnTo>
                    <a:pt x="115" y="452"/>
                  </a:lnTo>
                  <a:lnTo>
                    <a:pt x="119" y="456"/>
                  </a:lnTo>
                  <a:lnTo>
                    <a:pt x="124" y="459"/>
                  </a:lnTo>
                  <a:lnTo>
                    <a:pt x="128" y="465"/>
                  </a:lnTo>
                  <a:lnTo>
                    <a:pt x="133" y="469"/>
                  </a:lnTo>
                  <a:lnTo>
                    <a:pt x="137" y="473"/>
                  </a:lnTo>
                  <a:lnTo>
                    <a:pt x="143" y="477"/>
                  </a:lnTo>
                  <a:lnTo>
                    <a:pt x="146" y="481"/>
                  </a:lnTo>
                  <a:lnTo>
                    <a:pt x="150" y="483"/>
                  </a:lnTo>
                  <a:lnTo>
                    <a:pt x="153" y="485"/>
                  </a:lnTo>
                  <a:lnTo>
                    <a:pt x="156" y="486"/>
                  </a:lnTo>
                  <a:lnTo>
                    <a:pt x="158" y="488"/>
                  </a:lnTo>
                  <a:lnTo>
                    <a:pt x="162" y="489"/>
                  </a:lnTo>
                  <a:lnTo>
                    <a:pt x="168" y="493"/>
                  </a:lnTo>
                  <a:lnTo>
                    <a:pt x="175" y="496"/>
                  </a:lnTo>
                  <a:lnTo>
                    <a:pt x="182" y="501"/>
                  </a:lnTo>
                  <a:lnTo>
                    <a:pt x="192" y="506"/>
                  </a:lnTo>
                  <a:lnTo>
                    <a:pt x="201" y="511"/>
                  </a:lnTo>
                  <a:lnTo>
                    <a:pt x="212" y="515"/>
                  </a:lnTo>
                  <a:lnTo>
                    <a:pt x="221" y="521"/>
                  </a:lnTo>
                  <a:lnTo>
                    <a:pt x="231" y="526"/>
                  </a:lnTo>
                  <a:lnTo>
                    <a:pt x="239" y="532"/>
                  </a:lnTo>
                  <a:lnTo>
                    <a:pt x="249" y="536"/>
                  </a:lnTo>
                  <a:lnTo>
                    <a:pt x="255" y="540"/>
                  </a:lnTo>
                  <a:lnTo>
                    <a:pt x="262" y="544"/>
                  </a:lnTo>
                  <a:lnTo>
                    <a:pt x="266" y="547"/>
                  </a:lnTo>
                  <a:lnTo>
                    <a:pt x="270" y="549"/>
                  </a:lnTo>
                  <a:lnTo>
                    <a:pt x="271" y="552"/>
                  </a:lnTo>
                  <a:lnTo>
                    <a:pt x="276" y="554"/>
                  </a:lnTo>
                  <a:lnTo>
                    <a:pt x="280" y="557"/>
                  </a:lnTo>
                  <a:lnTo>
                    <a:pt x="287" y="559"/>
                  </a:lnTo>
                  <a:lnTo>
                    <a:pt x="294" y="563"/>
                  </a:lnTo>
                  <a:lnTo>
                    <a:pt x="301" y="565"/>
                  </a:lnTo>
                  <a:lnTo>
                    <a:pt x="309" y="569"/>
                  </a:lnTo>
                  <a:lnTo>
                    <a:pt x="318" y="571"/>
                  </a:lnTo>
                  <a:lnTo>
                    <a:pt x="326" y="574"/>
                  </a:lnTo>
                  <a:lnTo>
                    <a:pt x="333" y="576"/>
                  </a:lnTo>
                  <a:lnTo>
                    <a:pt x="340" y="579"/>
                  </a:lnTo>
                  <a:lnTo>
                    <a:pt x="347" y="581"/>
                  </a:lnTo>
                  <a:lnTo>
                    <a:pt x="352" y="583"/>
                  </a:lnTo>
                  <a:lnTo>
                    <a:pt x="357" y="584"/>
                  </a:lnTo>
                  <a:lnTo>
                    <a:pt x="359" y="585"/>
                  </a:lnTo>
                  <a:lnTo>
                    <a:pt x="362" y="584"/>
                  </a:lnTo>
                  <a:lnTo>
                    <a:pt x="360" y="584"/>
                  </a:lnTo>
                  <a:lnTo>
                    <a:pt x="358" y="583"/>
                  </a:lnTo>
                  <a:lnTo>
                    <a:pt x="354" y="579"/>
                  </a:lnTo>
                  <a:lnTo>
                    <a:pt x="350" y="576"/>
                  </a:lnTo>
                  <a:lnTo>
                    <a:pt x="343" y="572"/>
                  </a:lnTo>
                  <a:lnTo>
                    <a:pt x="337" y="566"/>
                  </a:lnTo>
                  <a:lnTo>
                    <a:pt x="329" y="561"/>
                  </a:lnTo>
                  <a:lnTo>
                    <a:pt x="322" y="555"/>
                  </a:lnTo>
                  <a:lnTo>
                    <a:pt x="314" y="549"/>
                  </a:lnTo>
                  <a:lnTo>
                    <a:pt x="306" y="544"/>
                  </a:lnTo>
                  <a:lnTo>
                    <a:pt x="299" y="538"/>
                  </a:lnTo>
                  <a:lnTo>
                    <a:pt x="292" y="532"/>
                  </a:lnTo>
                  <a:lnTo>
                    <a:pt x="286" y="527"/>
                  </a:lnTo>
                  <a:lnTo>
                    <a:pt x="281" y="522"/>
                  </a:lnTo>
                  <a:lnTo>
                    <a:pt x="277" y="518"/>
                  </a:lnTo>
                  <a:lnTo>
                    <a:pt x="276" y="514"/>
                  </a:lnTo>
                  <a:lnTo>
                    <a:pt x="273" y="512"/>
                  </a:lnTo>
                  <a:lnTo>
                    <a:pt x="271" y="509"/>
                  </a:lnTo>
                  <a:lnTo>
                    <a:pt x="268" y="506"/>
                  </a:lnTo>
                  <a:lnTo>
                    <a:pt x="265" y="503"/>
                  </a:lnTo>
                  <a:lnTo>
                    <a:pt x="261" y="499"/>
                  </a:lnTo>
                  <a:lnTo>
                    <a:pt x="258" y="495"/>
                  </a:lnTo>
                  <a:lnTo>
                    <a:pt x="254" y="491"/>
                  </a:lnTo>
                  <a:lnTo>
                    <a:pt x="250" y="487"/>
                  </a:lnTo>
                  <a:lnTo>
                    <a:pt x="246" y="483"/>
                  </a:lnTo>
                  <a:lnTo>
                    <a:pt x="242" y="479"/>
                  </a:lnTo>
                  <a:lnTo>
                    <a:pt x="239" y="475"/>
                  </a:lnTo>
                  <a:lnTo>
                    <a:pt x="236" y="470"/>
                  </a:lnTo>
                  <a:lnTo>
                    <a:pt x="232" y="468"/>
                  </a:lnTo>
                  <a:lnTo>
                    <a:pt x="230" y="464"/>
                  </a:lnTo>
                  <a:lnTo>
                    <a:pt x="228" y="461"/>
                  </a:lnTo>
                  <a:lnTo>
                    <a:pt x="228" y="457"/>
                  </a:lnTo>
                  <a:lnTo>
                    <a:pt x="226" y="455"/>
                  </a:lnTo>
                  <a:lnTo>
                    <a:pt x="226" y="453"/>
                  </a:lnTo>
                  <a:lnTo>
                    <a:pt x="226" y="451"/>
                  </a:lnTo>
                  <a:lnTo>
                    <a:pt x="226" y="449"/>
                  </a:lnTo>
                  <a:lnTo>
                    <a:pt x="226" y="447"/>
                  </a:lnTo>
                  <a:lnTo>
                    <a:pt x="226" y="444"/>
                  </a:lnTo>
                  <a:lnTo>
                    <a:pt x="226" y="442"/>
                  </a:lnTo>
                  <a:lnTo>
                    <a:pt x="226" y="438"/>
                  </a:lnTo>
                  <a:lnTo>
                    <a:pt x="226" y="437"/>
                  </a:lnTo>
                  <a:lnTo>
                    <a:pt x="226" y="435"/>
                  </a:lnTo>
                  <a:lnTo>
                    <a:pt x="226" y="433"/>
                  </a:lnTo>
                  <a:lnTo>
                    <a:pt x="227" y="429"/>
                  </a:lnTo>
                  <a:lnTo>
                    <a:pt x="227" y="427"/>
                  </a:lnTo>
                  <a:lnTo>
                    <a:pt x="229" y="425"/>
                  </a:lnTo>
                  <a:lnTo>
                    <a:pt x="231" y="423"/>
                  </a:lnTo>
                  <a:lnTo>
                    <a:pt x="232" y="421"/>
                  </a:lnTo>
                  <a:lnTo>
                    <a:pt x="234" y="421"/>
                  </a:lnTo>
                  <a:lnTo>
                    <a:pt x="236" y="421"/>
                  </a:lnTo>
                  <a:lnTo>
                    <a:pt x="238" y="421"/>
                  </a:lnTo>
                  <a:lnTo>
                    <a:pt x="239" y="419"/>
                  </a:lnTo>
                  <a:lnTo>
                    <a:pt x="241" y="419"/>
                  </a:lnTo>
                  <a:lnTo>
                    <a:pt x="244" y="419"/>
                  </a:lnTo>
                  <a:lnTo>
                    <a:pt x="246" y="419"/>
                  </a:lnTo>
                  <a:lnTo>
                    <a:pt x="250" y="418"/>
                  </a:lnTo>
                  <a:lnTo>
                    <a:pt x="252" y="420"/>
                  </a:lnTo>
                  <a:lnTo>
                    <a:pt x="255" y="420"/>
                  </a:lnTo>
                  <a:lnTo>
                    <a:pt x="257" y="420"/>
                  </a:lnTo>
                  <a:lnTo>
                    <a:pt x="260" y="420"/>
                  </a:lnTo>
                  <a:lnTo>
                    <a:pt x="262" y="422"/>
                  </a:lnTo>
                  <a:lnTo>
                    <a:pt x="265" y="422"/>
                  </a:lnTo>
                  <a:lnTo>
                    <a:pt x="267" y="423"/>
                  </a:lnTo>
                  <a:lnTo>
                    <a:pt x="270" y="423"/>
                  </a:lnTo>
                  <a:lnTo>
                    <a:pt x="272" y="425"/>
                  </a:lnTo>
                  <a:lnTo>
                    <a:pt x="275" y="426"/>
                  </a:lnTo>
                  <a:lnTo>
                    <a:pt x="279" y="428"/>
                  </a:lnTo>
                  <a:lnTo>
                    <a:pt x="282" y="429"/>
                  </a:lnTo>
                  <a:lnTo>
                    <a:pt x="286" y="432"/>
                  </a:lnTo>
                  <a:lnTo>
                    <a:pt x="290" y="434"/>
                  </a:lnTo>
                  <a:lnTo>
                    <a:pt x="294" y="437"/>
                  </a:lnTo>
                  <a:lnTo>
                    <a:pt x="299" y="438"/>
                  </a:lnTo>
                  <a:lnTo>
                    <a:pt x="302" y="442"/>
                  </a:lnTo>
                  <a:lnTo>
                    <a:pt x="306" y="444"/>
                  </a:lnTo>
                  <a:lnTo>
                    <a:pt x="310" y="447"/>
                  </a:lnTo>
                  <a:lnTo>
                    <a:pt x="314" y="449"/>
                  </a:lnTo>
                  <a:lnTo>
                    <a:pt x="317" y="452"/>
                  </a:lnTo>
                  <a:lnTo>
                    <a:pt x="320" y="454"/>
                  </a:lnTo>
                  <a:lnTo>
                    <a:pt x="323" y="456"/>
                  </a:lnTo>
                  <a:lnTo>
                    <a:pt x="326" y="457"/>
                  </a:lnTo>
                  <a:lnTo>
                    <a:pt x="327" y="459"/>
                  </a:lnTo>
                  <a:lnTo>
                    <a:pt x="329" y="460"/>
                  </a:lnTo>
                  <a:lnTo>
                    <a:pt x="332" y="462"/>
                  </a:lnTo>
                  <a:lnTo>
                    <a:pt x="337" y="463"/>
                  </a:lnTo>
                  <a:lnTo>
                    <a:pt x="342" y="467"/>
                  </a:lnTo>
                  <a:lnTo>
                    <a:pt x="348" y="468"/>
                  </a:lnTo>
                  <a:lnTo>
                    <a:pt x="354" y="471"/>
                  </a:lnTo>
                  <a:lnTo>
                    <a:pt x="360" y="473"/>
                  </a:lnTo>
                  <a:lnTo>
                    <a:pt x="366" y="477"/>
                  </a:lnTo>
                  <a:lnTo>
                    <a:pt x="372" y="478"/>
                  </a:lnTo>
                  <a:lnTo>
                    <a:pt x="377" y="481"/>
                  </a:lnTo>
                  <a:lnTo>
                    <a:pt x="383" y="483"/>
                  </a:lnTo>
                  <a:lnTo>
                    <a:pt x="387" y="487"/>
                  </a:lnTo>
                  <a:lnTo>
                    <a:pt x="390" y="488"/>
                  </a:lnTo>
                  <a:lnTo>
                    <a:pt x="393" y="490"/>
                  </a:lnTo>
                  <a:lnTo>
                    <a:pt x="395" y="491"/>
                  </a:lnTo>
                  <a:lnTo>
                    <a:pt x="396" y="494"/>
                  </a:lnTo>
                  <a:lnTo>
                    <a:pt x="399" y="496"/>
                  </a:lnTo>
                  <a:lnTo>
                    <a:pt x="404" y="501"/>
                  </a:lnTo>
                  <a:lnTo>
                    <a:pt x="410" y="505"/>
                  </a:lnTo>
                  <a:lnTo>
                    <a:pt x="416" y="511"/>
                  </a:lnTo>
                  <a:lnTo>
                    <a:pt x="424" y="517"/>
                  </a:lnTo>
                  <a:lnTo>
                    <a:pt x="431" y="524"/>
                  </a:lnTo>
                  <a:lnTo>
                    <a:pt x="440" y="529"/>
                  </a:lnTo>
                  <a:lnTo>
                    <a:pt x="448" y="537"/>
                  </a:lnTo>
                  <a:lnTo>
                    <a:pt x="456" y="544"/>
                  </a:lnTo>
                  <a:lnTo>
                    <a:pt x="464" y="551"/>
                  </a:lnTo>
                  <a:lnTo>
                    <a:pt x="472" y="556"/>
                  </a:lnTo>
                  <a:lnTo>
                    <a:pt x="477" y="563"/>
                  </a:lnTo>
                  <a:lnTo>
                    <a:pt x="483" y="567"/>
                  </a:lnTo>
                  <a:lnTo>
                    <a:pt x="488" y="571"/>
                  </a:lnTo>
                  <a:lnTo>
                    <a:pt x="492" y="574"/>
                  </a:lnTo>
                  <a:lnTo>
                    <a:pt x="493" y="577"/>
                  </a:lnTo>
                  <a:lnTo>
                    <a:pt x="496" y="580"/>
                  </a:lnTo>
                  <a:lnTo>
                    <a:pt x="500" y="584"/>
                  </a:lnTo>
                  <a:lnTo>
                    <a:pt x="505" y="588"/>
                  </a:lnTo>
                  <a:lnTo>
                    <a:pt x="510" y="594"/>
                  </a:lnTo>
                  <a:lnTo>
                    <a:pt x="516" y="599"/>
                  </a:lnTo>
                  <a:lnTo>
                    <a:pt x="522" y="604"/>
                  </a:lnTo>
                  <a:lnTo>
                    <a:pt x="530" y="609"/>
                  </a:lnTo>
                  <a:lnTo>
                    <a:pt x="535" y="615"/>
                  </a:lnTo>
                  <a:lnTo>
                    <a:pt x="541" y="621"/>
                  </a:lnTo>
                  <a:lnTo>
                    <a:pt x="546" y="626"/>
                  </a:lnTo>
                  <a:lnTo>
                    <a:pt x="552" y="631"/>
                  </a:lnTo>
                  <a:lnTo>
                    <a:pt x="556" y="635"/>
                  </a:lnTo>
                  <a:lnTo>
                    <a:pt x="560" y="639"/>
                  </a:lnTo>
                  <a:lnTo>
                    <a:pt x="563" y="643"/>
                  </a:lnTo>
                  <a:lnTo>
                    <a:pt x="565" y="644"/>
                  </a:lnTo>
                  <a:lnTo>
                    <a:pt x="563" y="645"/>
                  </a:lnTo>
                  <a:lnTo>
                    <a:pt x="558" y="650"/>
                  </a:lnTo>
                  <a:lnTo>
                    <a:pt x="550" y="657"/>
                  </a:lnTo>
                  <a:lnTo>
                    <a:pt x="541" y="666"/>
                  </a:lnTo>
                  <a:lnTo>
                    <a:pt x="529" y="678"/>
                  </a:lnTo>
                  <a:lnTo>
                    <a:pt x="517" y="690"/>
                  </a:lnTo>
                  <a:lnTo>
                    <a:pt x="503" y="703"/>
                  </a:lnTo>
                  <a:lnTo>
                    <a:pt x="490" y="715"/>
                  </a:lnTo>
                  <a:lnTo>
                    <a:pt x="475" y="730"/>
                  </a:lnTo>
                  <a:lnTo>
                    <a:pt x="461" y="743"/>
                  </a:lnTo>
                  <a:lnTo>
                    <a:pt x="448" y="756"/>
                  </a:lnTo>
                  <a:lnTo>
                    <a:pt x="436" y="767"/>
                  </a:lnTo>
                  <a:lnTo>
                    <a:pt x="426" y="779"/>
                  </a:lnTo>
                  <a:lnTo>
                    <a:pt x="418" y="787"/>
                  </a:lnTo>
                  <a:lnTo>
                    <a:pt x="413" y="793"/>
                  </a:lnTo>
                  <a:lnTo>
                    <a:pt x="411" y="797"/>
                  </a:lnTo>
                  <a:lnTo>
                    <a:pt x="409" y="799"/>
                  </a:lnTo>
                  <a:lnTo>
                    <a:pt x="407" y="801"/>
                  </a:lnTo>
                  <a:lnTo>
                    <a:pt x="404" y="805"/>
                  </a:lnTo>
                  <a:lnTo>
                    <a:pt x="400" y="808"/>
                  </a:lnTo>
                  <a:lnTo>
                    <a:pt x="395" y="813"/>
                  </a:lnTo>
                  <a:lnTo>
                    <a:pt x="390" y="818"/>
                  </a:lnTo>
                  <a:lnTo>
                    <a:pt x="385" y="823"/>
                  </a:lnTo>
                  <a:lnTo>
                    <a:pt x="380" y="828"/>
                  </a:lnTo>
                  <a:lnTo>
                    <a:pt x="374" y="833"/>
                  </a:lnTo>
                  <a:lnTo>
                    <a:pt x="368" y="839"/>
                  </a:lnTo>
                  <a:lnTo>
                    <a:pt x="363" y="845"/>
                  </a:lnTo>
                  <a:lnTo>
                    <a:pt x="358" y="848"/>
                  </a:lnTo>
                  <a:lnTo>
                    <a:pt x="354" y="853"/>
                  </a:lnTo>
                  <a:lnTo>
                    <a:pt x="351" y="856"/>
                  </a:lnTo>
                  <a:lnTo>
                    <a:pt x="349" y="858"/>
                  </a:lnTo>
                  <a:lnTo>
                    <a:pt x="348" y="858"/>
                  </a:lnTo>
                  <a:lnTo>
                    <a:pt x="348" y="858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44640" y="3786120"/>
              <a:ext cx="131760" cy="9684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5" y="26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27" y="39"/>
                  </a:lnTo>
                  <a:lnTo>
                    <a:pt x="29" y="41"/>
                  </a:lnTo>
                  <a:lnTo>
                    <a:pt x="32" y="43"/>
                  </a:lnTo>
                  <a:lnTo>
                    <a:pt x="34" y="45"/>
                  </a:lnTo>
                  <a:lnTo>
                    <a:pt x="37" y="47"/>
                  </a:lnTo>
                  <a:lnTo>
                    <a:pt x="39" y="49"/>
                  </a:lnTo>
                  <a:lnTo>
                    <a:pt x="43" y="51"/>
                  </a:lnTo>
                  <a:lnTo>
                    <a:pt x="45" y="53"/>
                  </a:lnTo>
                  <a:lnTo>
                    <a:pt x="48" y="54"/>
                  </a:lnTo>
                  <a:lnTo>
                    <a:pt x="50" y="56"/>
                  </a:lnTo>
                  <a:lnTo>
                    <a:pt x="54" y="58"/>
                  </a:lnTo>
                  <a:lnTo>
                    <a:pt x="55" y="60"/>
                  </a:lnTo>
                  <a:lnTo>
                    <a:pt x="59" y="60"/>
                  </a:lnTo>
                  <a:lnTo>
                    <a:pt x="61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71" y="58"/>
                  </a:lnTo>
                  <a:lnTo>
                    <a:pt x="73" y="5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76" y="54"/>
                  </a:lnTo>
                  <a:lnTo>
                    <a:pt x="77" y="53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1" y="49"/>
                  </a:lnTo>
                  <a:lnTo>
                    <a:pt x="82" y="47"/>
                  </a:lnTo>
                  <a:lnTo>
                    <a:pt x="81" y="46"/>
                  </a:lnTo>
                  <a:lnTo>
                    <a:pt x="81" y="44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7" y="36"/>
                  </a:lnTo>
                  <a:lnTo>
                    <a:pt x="75" y="34"/>
                  </a:lnTo>
                  <a:lnTo>
                    <a:pt x="75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69" y="26"/>
                  </a:lnTo>
                  <a:lnTo>
                    <a:pt x="67" y="23"/>
                  </a:lnTo>
                  <a:lnTo>
                    <a:pt x="65" y="23"/>
                  </a:lnTo>
                  <a:lnTo>
                    <a:pt x="64" y="21"/>
                  </a:lnTo>
                  <a:lnTo>
                    <a:pt x="62" y="20"/>
                  </a:lnTo>
                  <a:lnTo>
                    <a:pt x="61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5" y="21"/>
                  </a:lnTo>
                  <a:lnTo>
                    <a:pt x="54" y="21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33640" y="374940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1"/>
                  </a:lnTo>
                  <a:lnTo>
                    <a:pt x="22" y="25"/>
                  </a:lnTo>
                  <a:lnTo>
                    <a:pt x="25" y="29"/>
                  </a:lnTo>
                  <a:lnTo>
                    <a:pt x="30" y="33"/>
                  </a:lnTo>
                  <a:lnTo>
                    <a:pt x="34" y="37"/>
                  </a:lnTo>
                  <a:lnTo>
                    <a:pt x="40" y="41"/>
                  </a:lnTo>
                  <a:lnTo>
                    <a:pt x="43" y="45"/>
                  </a:lnTo>
                  <a:lnTo>
                    <a:pt x="48" y="48"/>
                  </a:lnTo>
                  <a:lnTo>
                    <a:pt x="52" y="51"/>
                  </a:lnTo>
                  <a:lnTo>
                    <a:pt x="55" y="53"/>
                  </a:lnTo>
                  <a:lnTo>
                    <a:pt x="58" y="56"/>
                  </a:lnTo>
                  <a:lnTo>
                    <a:pt x="61" y="60"/>
                  </a:lnTo>
                  <a:lnTo>
                    <a:pt x="65" y="65"/>
                  </a:lnTo>
                  <a:lnTo>
                    <a:pt x="71" y="68"/>
                  </a:lnTo>
                  <a:lnTo>
                    <a:pt x="74" y="74"/>
                  </a:lnTo>
                  <a:lnTo>
                    <a:pt x="80" y="77"/>
                  </a:lnTo>
                  <a:lnTo>
                    <a:pt x="86" y="83"/>
                  </a:lnTo>
                  <a:lnTo>
                    <a:pt x="91" y="87"/>
                  </a:lnTo>
                  <a:lnTo>
                    <a:pt x="96" y="93"/>
                  </a:lnTo>
                  <a:lnTo>
                    <a:pt x="101" y="96"/>
                  </a:lnTo>
                  <a:lnTo>
                    <a:pt x="107" y="100"/>
                  </a:lnTo>
                  <a:lnTo>
                    <a:pt x="112" y="103"/>
                  </a:lnTo>
                  <a:lnTo>
                    <a:pt x="116" y="106"/>
                  </a:lnTo>
                  <a:lnTo>
                    <a:pt x="122" y="107"/>
                  </a:lnTo>
                  <a:lnTo>
                    <a:pt x="126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1" y="104"/>
                  </a:lnTo>
                  <a:lnTo>
                    <a:pt x="141" y="104"/>
                  </a:lnTo>
                  <a:lnTo>
                    <a:pt x="142" y="102"/>
                  </a:lnTo>
                  <a:lnTo>
                    <a:pt x="141" y="102"/>
                  </a:lnTo>
                  <a:lnTo>
                    <a:pt x="141" y="100"/>
                  </a:lnTo>
                  <a:lnTo>
                    <a:pt x="141" y="99"/>
                  </a:lnTo>
                  <a:lnTo>
                    <a:pt x="141" y="97"/>
                  </a:lnTo>
                  <a:lnTo>
                    <a:pt x="139" y="95"/>
                  </a:lnTo>
                  <a:lnTo>
                    <a:pt x="139" y="93"/>
                  </a:lnTo>
                  <a:lnTo>
                    <a:pt x="139" y="91"/>
                  </a:lnTo>
                  <a:lnTo>
                    <a:pt x="139" y="89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4"/>
                  </a:lnTo>
                  <a:lnTo>
                    <a:pt x="135" y="83"/>
                  </a:lnTo>
                  <a:lnTo>
                    <a:pt x="133" y="82"/>
                  </a:lnTo>
                  <a:lnTo>
                    <a:pt x="133" y="80"/>
                  </a:lnTo>
                  <a:lnTo>
                    <a:pt x="131" y="79"/>
                  </a:lnTo>
                  <a:lnTo>
                    <a:pt x="131" y="77"/>
                  </a:lnTo>
                  <a:lnTo>
                    <a:pt x="130" y="77"/>
                  </a:lnTo>
                  <a:lnTo>
                    <a:pt x="129" y="75"/>
                  </a:lnTo>
                  <a:lnTo>
                    <a:pt x="127" y="75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1" y="70"/>
                  </a:lnTo>
                  <a:lnTo>
                    <a:pt x="121" y="68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08" y="61"/>
                  </a:lnTo>
                  <a:lnTo>
                    <a:pt x="108" y="61"/>
                  </a:lnTo>
                  <a:lnTo>
                    <a:pt x="106" y="61"/>
                  </a:lnTo>
                  <a:lnTo>
                    <a:pt x="106" y="59"/>
                  </a:lnTo>
                  <a:lnTo>
                    <a:pt x="104" y="59"/>
                  </a:lnTo>
                  <a:lnTo>
                    <a:pt x="104" y="57"/>
                  </a:lnTo>
                  <a:lnTo>
                    <a:pt x="102" y="57"/>
                  </a:lnTo>
                  <a:lnTo>
                    <a:pt x="102" y="56"/>
                  </a:lnTo>
                  <a:lnTo>
                    <a:pt x="101" y="56"/>
                  </a:lnTo>
                  <a:lnTo>
                    <a:pt x="100" y="55"/>
                  </a:lnTo>
                  <a:lnTo>
                    <a:pt x="98" y="55"/>
                  </a:lnTo>
                  <a:lnTo>
                    <a:pt x="98" y="53"/>
                  </a:lnTo>
                  <a:lnTo>
                    <a:pt x="96" y="53"/>
                  </a:lnTo>
                  <a:lnTo>
                    <a:pt x="96" y="53"/>
                  </a:lnTo>
                  <a:lnTo>
                    <a:pt x="95" y="53"/>
                  </a:lnTo>
                  <a:lnTo>
                    <a:pt x="95" y="51"/>
                  </a:lnTo>
                  <a:lnTo>
                    <a:pt x="93" y="51"/>
                  </a:lnTo>
                  <a:lnTo>
                    <a:pt x="92" y="51"/>
                  </a:lnTo>
                  <a:lnTo>
                    <a:pt x="90" y="51"/>
                  </a:lnTo>
                  <a:lnTo>
                    <a:pt x="90" y="49"/>
                  </a:lnTo>
                  <a:lnTo>
                    <a:pt x="88" y="49"/>
                  </a:lnTo>
                  <a:lnTo>
                    <a:pt x="86" y="49"/>
                  </a:lnTo>
                  <a:lnTo>
                    <a:pt x="84" y="49"/>
                  </a:lnTo>
                  <a:lnTo>
                    <a:pt x="83" y="47"/>
                  </a:lnTo>
                  <a:lnTo>
                    <a:pt x="81" y="47"/>
                  </a:lnTo>
                  <a:lnTo>
                    <a:pt x="80" y="47"/>
                  </a:lnTo>
                  <a:lnTo>
                    <a:pt x="78" y="47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2" y="44"/>
                  </a:lnTo>
                  <a:lnTo>
                    <a:pt x="68" y="43"/>
                  </a:lnTo>
                  <a:lnTo>
                    <a:pt x="64" y="41"/>
                  </a:lnTo>
                  <a:lnTo>
                    <a:pt x="61" y="39"/>
                  </a:lnTo>
                  <a:lnTo>
                    <a:pt x="57" y="36"/>
                  </a:lnTo>
                  <a:lnTo>
                    <a:pt x="52" y="35"/>
                  </a:lnTo>
                  <a:lnTo>
                    <a:pt x="48" y="31"/>
                  </a:lnTo>
                  <a:lnTo>
                    <a:pt x="44" y="28"/>
                  </a:lnTo>
                  <a:lnTo>
                    <a:pt x="40" y="24"/>
                  </a:lnTo>
                  <a:lnTo>
                    <a:pt x="34" y="22"/>
                  </a:lnTo>
                  <a:lnTo>
                    <a:pt x="31" y="18"/>
                  </a:lnTo>
                  <a:lnTo>
                    <a:pt x="26" y="16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4" y="8"/>
                  </a:lnTo>
                  <a:lnTo>
                    <a:pt x="11" y="6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38360" y="4410000"/>
              <a:ext cx="247680" cy="1364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8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6" y="33"/>
                  </a:lnTo>
                  <a:lnTo>
                    <a:pt x="27" y="35"/>
                  </a:lnTo>
                  <a:lnTo>
                    <a:pt x="30" y="37"/>
                  </a:lnTo>
                  <a:lnTo>
                    <a:pt x="30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2" y="55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6" y="58"/>
                  </a:lnTo>
                  <a:lnTo>
                    <a:pt x="47" y="60"/>
                  </a:lnTo>
                  <a:lnTo>
                    <a:pt x="49" y="60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3"/>
                  </a:lnTo>
                  <a:lnTo>
                    <a:pt x="55" y="63"/>
                  </a:lnTo>
                  <a:lnTo>
                    <a:pt x="57" y="65"/>
                  </a:lnTo>
                  <a:lnTo>
                    <a:pt x="58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8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0" y="70"/>
                  </a:lnTo>
                  <a:lnTo>
                    <a:pt x="71" y="72"/>
                  </a:lnTo>
                  <a:lnTo>
                    <a:pt x="73" y="72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7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0" y="75"/>
                  </a:lnTo>
                  <a:lnTo>
                    <a:pt x="80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4" y="77"/>
                  </a:lnTo>
                  <a:lnTo>
                    <a:pt x="84" y="79"/>
                  </a:lnTo>
                  <a:lnTo>
                    <a:pt x="85" y="79"/>
                  </a:lnTo>
                  <a:lnTo>
                    <a:pt x="85" y="80"/>
                  </a:lnTo>
                  <a:lnTo>
                    <a:pt x="87" y="80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91" y="81"/>
                  </a:lnTo>
                  <a:lnTo>
                    <a:pt x="91" y="82"/>
                  </a:lnTo>
                  <a:lnTo>
                    <a:pt x="93" y="82"/>
                  </a:lnTo>
                  <a:lnTo>
                    <a:pt x="94" y="82"/>
                  </a:lnTo>
                  <a:lnTo>
                    <a:pt x="95" y="82"/>
                  </a:lnTo>
                  <a:lnTo>
                    <a:pt x="96" y="82"/>
                  </a:lnTo>
                  <a:lnTo>
                    <a:pt x="98" y="82"/>
                  </a:lnTo>
                  <a:lnTo>
                    <a:pt x="100" y="8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104" y="80"/>
                  </a:lnTo>
                  <a:lnTo>
                    <a:pt x="106" y="80"/>
                  </a:lnTo>
                  <a:lnTo>
                    <a:pt x="108" y="79"/>
                  </a:lnTo>
                  <a:lnTo>
                    <a:pt x="108" y="79"/>
                  </a:lnTo>
                  <a:lnTo>
                    <a:pt x="110" y="79"/>
                  </a:lnTo>
                  <a:lnTo>
                    <a:pt x="112" y="79"/>
                  </a:lnTo>
                  <a:lnTo>
                    <a:pt x="114" y="78"/>
                  </a:lnTo>
                  <a:lnTo>
                    <a:pt x="114" y="79"/>
                  </a:lnTo>
                  <a:lnTo>
                    <a:pt x="116" y="79"/>
                  </a:lnTo>
                  <a:lnTo>
                    <a:pt x="117" y="80"/>
                  </a:lnTo>
                  <a:lnTo>
                    <a:pt x="119" y="80"/>
                  </a:lnTo>
                  <a:lnTo>
                    <a:pt x="121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6" y="81"/>
                  </a:lnTo>
                  <a:lnTo>
                    <a:pt x="128" y="83"/>
                  </a:lnTo>
                  <a:lnTo>
                    <a:pt x="130" y="83"/>
                  </a:lnTo>
                  <a:lnTo>
                    <a:pt x="132" y="84"/>
                  </a:lnTo>
                  <a:lnTo>
                    <a:pt x="134" y="84"/>
                  </a:lnTo>
                  <a:lnTo>
                    <a:pt x="135" y="85"/>
                  </a:lnTo>
                  <a:lnTo>
                    <a:pt x="137" y="85"/>
                  </a:lnTo>
                  <a:lnTo>
                    <a:pt x="139" y="85"/>
                  </a:lnTo>
                  <a:lnTo>
                    <a:pt x="141" y="85"/>
                  </a:lnTo>
                  <a:lnTo>
                    <a:pt x="141" y="85"/>
                  </a:lnTo>
                  <a:lnTo>
                    <a:pt x="142" y="85"/>
                  </a:lnTo>
                  <a:lnTo>
                    <a:pt x="142" y="85"/>
                  </a:lnTo>
                  <a:lnTo>
                    <a:pt x="143" y="85"/>
                  </a:lnTo>
                  <a:lnTo>
                    <a:pt x="143" y="85"/>
                  </a:lnTo>
                  <a:lnTo>
                    <a:pt x="145" y="85"/>
                  </a:lnTo>
                  <a:lnTo>
                    <a:pt x="146" y="85"/>
                  </a:lnTo>
                  <a:lnTo>
                    <a:pt x="148" y="85"/>
                  </a:lnTo>
                  <a:lnTo>
                    <a:pt x="148" y="85"/>
                  </a:lnTo>
                  <a:lnTo>
                    <a:pt x="150" y="85"/>
                  </a:lnTo>
                  <a:lnTo>
                    <a:pt x="150" y="85"/>
                  </a:lnTo>
                  <a:lnTo>
                    <a:pt x="152" y="85"/>
                  </a:lnTo>
                  <a:lnTo>
                    <a:pt x="152" y="85"/>
                  </a:lnTo>
                  <a:lnTo>
                    <a:pt x="153" y="85"/>
                  </a:lnTo>
                  <a:lnTo>
                    <a:pt x="153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3" y="83"/>
                  </a:lnTo>
                  <a:lnTo>
                    <a:pt x="151" y="83"/>
                  </a:lnTo>
                  <a:lnTo>
                    <a:pt x="149" y="81"/>
                  </a:lnTo>
                  <a:lnTo>
                    <a:pt x="145" y="81"/>
                  </a:lnTo>
                  <a:lnTo>
                    <a:pt x="143" y="80"/>
                  </a:lnTo>
                  <a:lnTo>
                    <a:pt x="139" y="78"/>
                  </a:lnTo>
                  <a:lnTo>
                    <a:pt x="137" y="76"/>
                  </a:lnTo>
                  <a:lnTo>
                    <a:pt x="133" y="76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8" y="69"/>
                  </a:lnTo>
                  <a:lnTo>
                    <a:pt x="115" y="68"/>
                  </a:lnTo>
                  <a:lnTo>
                    <a:pt x="114" y="66"/>
                  </a:lnTo>
                  <a:lnTo>
                    <a:pt x="111" y="66"/>
                  </a:lnTo>
                  <a:lnTo>
                    <a:pt x="109" y="65"/>
                  </a:lnTo>
                  <a:lnTo>
                    <a:pt x="106" y="65"/>
                  </a:lnTo>
                  <a:lnTo>
                    <a:pt x="105" y="63"/>
                  </a:lnTo>
                  <a:lnTo>
                    <a:pt x="101" y="63"/>
                  </a:lnTo>
                  <a:lnTo>
                    <a:pt x="99" y="61"/>
                  </a:lnTo>
                  <a:lnTo>
                    <a:pt x="97" y="59"/>
                  </a:lnTo>
                  <a:lnTo>
                    <a:pt x="95" y="57"/>
                  </a:lnTo>
                  <a:lnTo>
                    <a:pt x="92" y="57"/>
                  </a:lnTo>
                  <a:lnTo>
                    <a:pt x="90" y="55"/>
                  </a:lnTo>
                  <a:lnTo>
                    <a:pt x="87" y="54"/>
                  </a:lnTo>
                  <a:lnTo>
                    <a:pt x="85" y="52"/>
                  </a:lnTo>
                  <a:lnTo>
                    <a:pt x="83" y="52"/>
                  </a:lnTo>
                  <a:lnTo>
                    <a:pt x="81" y="50"/>
                  </a:lnTo>
                  <a:lnTo>
                    <a:pt x="79" y="49"/>
                  </a:lnTo>
                  <a:lnTo>
                    <a:pt x="78" y="47"/>
                  </a:lnTo>
                  <a:lnTo>
                    <a:pt x="76" y="47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4"/>
                  </a:lnTo>
                  <a:lnTo>
                    <a:pt x="70" y="42"/>
                  </a:lnTo>
                  <a:lnTo>
                    <a:pt x="68" y="41"/>
                  </a:lnTo>
                  <a:lnTo>
                    <a:pt x="68" y="39"/>
                  </a:lnTo>
                  <a:lnTo>
                    <a:pt x="67" y="39"/>
                  </a:lnTo>
                  <a:lnTo>
                    <a:pt x="65" y="37"/>
                  </a:lnTo>
                  <a:lnTo>
                    <a:pt x="63" y="37"/>
                  </a:lnTo>
                  <a:lnTo>
                    <a:pt x="63" y="35"/>
                  </a:lnTo>
                  <a:lnTo>
                    <a:pt x="61" y="35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9" y="31"/>
                  </a:lnTo>
                  <a:lnTo>
                    <a:pt x="57" y="31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276520" y="4246200"/>
              <a:ext cx="10152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8" y="44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3" y="43"/>
                  </a:lnTo>
                  <a:lnTo>
                    <a:pt x="45" y="43"/>
                  </a:lnTo>
                  <a:lnTo>
                    <a:pt x="47" y="43"/>
                  </a:lnTo>
                  <a:lnTo>
                    <a:pt x="48" y="43"/>
                  </a:lnTo>
                  <a:lnTo>
                    <a:pt x="50" y="43"/>
                  </a:lnTo>
                  <a:lnTo>
                    <a:pt x="51" y="43"/>
                  </a:lnTo>
                  <a:lnTo>
                    <a:pt x="53" y="42"/>
                  </a:lnTo>
                  <a:lnTo>
                    <a:pt x="53" y="42"/>
                  </a:lnTo>
                  <a:lnTo>
                    <a:pt x="53" y="42"/>
                  </a:lnTo>
                  <a:lnTo>
                    <a:pt x="53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3" y="38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58" y="33"/>
                  </a:lnTo>
                  <a:lnTo>
                    <a:pt x="57" y="31"/>
                  </a:lnTo>
                  <a:lnTo>
                    <a:pt x="55" y="29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50" y="25"/>
                  </a:lnTo>
                  <a:lnTo>
                    <a:pt x="48" y="24"/>
                  </a:lnTo>
                  <a:lnTo>
                    <a:pt x="46" y="22"/>
                  </a:lnTo>
                  <a:lnTo>
                    <a:pt x="44" y="22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39" y="18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3200400" y="2666880"/>
            <a:ext cx="380988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roducto neto agreg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3505320" y="2743200"/>
            <a:ext cx="3657600" cy="2057400"/>
            <a:chOff x="3505320" y="2743200"/>
            <a:chExt cx="3657600" cy="2057400"/>
          </a:xfrm>
        </p:grpSpPr>
        <p:sp>
          <p:nvSpPr>
            <p:cNvPr id="1351" name=""/>
            <p:cNvSpPr/>
            <p:nvPr/>
          </p:nvSpPr>
          <p:spPr>
            <a:xfrm>
              <a:off x="3670200" y="2993760"/>
              <a:ext cx="349272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GB" sz="6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GB" sz="6000" spc="-1" strike="noStrike" baseline="30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GB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6000" spc="-1" strike="noStrike">
                  <a:solidFill>
                    <a:srgbClr val="000000"/>
                  </a:solidFill>
                  <a:latin typeface="Times New Roman"/>
                </a:rPr>
                <a:t>=:</a:t>
              </a:r>
              <a:r>
                <a:rPr b="1" i="1" lang="en-GB" sz="60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1" i="1" lang="en-GB" sz="6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505320" y="2743200"/>
              <a:ext cx="761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GB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6539040" y="2139480"/>
            <a:ext cx="1929600" cy="594720"/>
          </a:xfrm>
          <a:prstGeom prst="wedgeRoundRectCallout">
            <a:avLst>
              <a:gd name="adj1" fmla="val -89282"/>
              <a:gd name="adj2" fmla="val 169416"/>
              <a:gd name="adj3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33880" y="4648320"/>
            <a:ext cx="4702320" cy="2974680"/>
          </a:xfrm>
          <a:prstGeom prst="ellipse">
            <a:avLst/>
          </a:prstGeom>
          <a:solidFill>
            <a:srgbClr val="ffffc2"/>
          </a:solidFill>
          <a:ln w="3168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76720" y="39625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i todas las  </a:t>
            </a:r>
            <a:r>
              <a:rPr b="1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y</a:t>
            </a:r>
            <a:r>
              <a:rPr b="1" lang="en-GB" sz="4800" spc="-1" strike="noStrike" u="sng" baseline="30000">
                <a:solidFill>
                  <a:srgbClr val="ff0000"/>
                </a:solidFill>
                <a:uFillTx/>
                <a:latin typeface="Brush738 BT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on factibles ¿ser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i="1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y</a:t>
            </a:r>
            <a:r>
              <a:rPr b="1" lang="en-GB" sz="4800" spc="-1" strike="noStrike" u="sng">
                <a:solidFill>
                  <a:srgbClr val="ff0000"/>
                </a:solidFill>
                <a:uFillTx/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factib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86200" y="4419720"/>
            <a:ext cx="6172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Brush738 BT"/>
              </a:rPr>
              <a:t>Sí, si no hay externalidades de p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886200" y="4647960"/>
            <a:ext cx="6172200" cy="3124080"/>
          </a:xfrm>
          <a:prstGeom prst="roundRect">
            <a:avLst>
              <a:gd name="adj" fmla="val 6245"/>
            </a:avLst>
          </a:prstGeom>
          <a:solidFill>
            <a:srgbClr val="ccffff"/>
          </a:solidFill>
          <a:ln w="31680">
            <a:solidFill>
              <a:srgbClr val="4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Contraejempl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producción c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 </a:t>
            </a:r>
            <a:r>
              <a:rPr b="1" lang="en-GB" sz="4800" spc="-1" strike="noStrike">
                <a:solidFill>
                  <a:srgbClr val="400080"/>
                </a:solidFill>
                <a:latin typeface="Brush738 BT"/>
              </a:rPr>
              <a:t>congestió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ra hacernos la vida mas simple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265400" y="1978200"/>
            <a:ext cx="8137440" cy="5225760"/>
            <a:chOff x="1265400" y="1978200"/>
            <a:chExt cx="8137440" cy="5225760"/>
          </a:xfrm>
        </p:grpSpPr>
        <p:grpSp>
          <p:nvGrpSpPr>
            <p:cNvPr id="1360" name=""/>
            <p:cNvGrpSpPr/>
            <p:nvPr/>
          </p:nvGrpSpPr>
          <p:grpSpPr>
            <a:xfrm>
              <a:off x="1265400" y="2120760"/>
              <a:ext cx="7756200" cy="5083200"/>
              <a:chOff x="1265400" y="2120760"/>
              <a:chExt cx="7756200" cy="5083200"/>
            </a:xfrm>
          </p:grpSpPr>
          <p:sp>
            <p:nvSpPr>
              <p:cNvPr id="1361" name=""/>
              <p:cNvSpPr/>
              <p:nvPr/>
            </p:nvSpPr>
            <p:spPr>
              <a:xfrm>
                <a:off x="1265400" y="2455920"/>
                <a:ext cx="7756200" cy="4748040"/>
              </a:xfrm>
              <a:custGeom>
                <a:avLst/>
                <a:gdLst/>
                <a:ahLst/>
                <a:rect l="l" t="t" r="r" b="b"/>
                <a:pathLst>
                  <a:path w="4886" h="2991">
                    <a:moveTo>
                      <a:pt x="174" y="0"/>
                    </a:moveTo>
                    <a:lnTo>
                      <a:pt x="174" y="0"/>
                    </a:lnTo>
                    <a:lnTo>
                      <a:pt x="128" y="3"/>
                    </a:lnTo>
                    <a:lnTo>
                      <a:pt x="89" y="25"/>
                    </a:lnTo>
                    <a:lnTo>
                      <a:pt x="58" y="49"/>
                    </a:lnTo>
                    <a:lnTo>
                      <a:pt x="33" y="75"/>
                    </a:lnTo>
                    <a:lnTo>
                      <a:pt x="12" y="105"/>
                    </a:lnTo>
                    <a:lnTo>
                      <a:pt x="3" y="139"/>
                    </a:lnTo>
                    <a:lnTo>
                      <a:pt x="0" y="175"/>
                    </a:lnTo>
                    <a:lnTo>
                      <a:pt x="3" y="191"/>
                    </a:lnTo>
                    <a:lnTo>
                      <a:pt x="3" y="203"/>
                    </a:lnTo>
                    <a:lnTo>
                      <a:pt x="3" y="2848"/>
                    </a:lnTo>
                    <a:lnTo>
                      <a:pt x="10" y="2881"/>
                    </a:lnTo>
                    <a:lnTo>
                      <a:pt x="23" y="2915"/>
                    </a:lnTo>
                    <a:lnTo>
                      <a:pt x="47" y="2941"/>
                    </a:lnTo>
                    <a:lnTo>
                      <a:pt x="80" y="2964"/>
                    </a:lnTo>
                    <a:lnTo>
                      <a:pt x="114" y="2983"/>
                    </a:lnTo>
                    <a:lnTo>
                      <a:pt x="154" y="2987"/>
                    </a:lnTo>
                    <a:lnTo>
                      <a:pt x="193" y="2990"/>
                    </a:lnTo>
                    <a:lnTo>
                      <a:pt x="4668" y="2990"/>
                    </a:lnTo>
                    <a:lnTo>
                      <a:pt x="4677" y="2990"/>
                    </a:lnTo>
                    <a:lnTo>
                      <a:pt x="4715" y="2987"/>
                    </a:lnTo>
                    <a:lnTo>
                      <a:pt x="4765" y="2983"/>
                    </a:lnTo>
                    <a:lnTo>
                      <a:pt x="4793" y="2973"/>
                    </a:lnTo>
                    <a:lnTo>
                      <a:pt x="4825" y="2954"/>
                    </a:lnTo>
                    <a:lnTo>
                      <a:pt x="4853" y="2927"/>
                    </a:lnTo>
                    <a:lnTo>
                      <a:pt x="4874" y="2898"/>
                    </a:lnTo>
                    <a:lnTo>
                      <a:pt x="4885" y="2863"/>
                    </a:lnTo>
                    <a:lnTo>
                      <a:pt x="4885" y="2830"/>
                    </a:lnTo>
                    <a:lnTo>
                      <a:pt x="4885" y="2809"/>
                    </a:lnTo>
                    <a:lnTo>
                      <a:pt x="4881" y="2809"/>
                    </a:lnTo>
                    <a:lnTo>
                      <a:pt x="4885" y="161"/>
                    </a:lnTo>
                    <a:lnTo>
                      <a:pt x="4879" y="128"/>
                    </a:lnTo>
                    <a:lnTo>
                      <a:pt x="4863" y="96"/>
                    </a:lnTo>
                    <a:lnTo>
                      <a:pt x="4839" y="67"/>
                    </a:lnTo>
                    <a:lnTo>
                      <a:pt x="4809" y="42"/>
                    </a:lnTo>
                    <a:lnTo>
                      <a:pt x="4772" y="25"/>
                    </a:lnTo>
                    <a:lnTo>
                      <a:pt x="4736" y="17"/>
                    </a:lnTo>
                    <a:lnTo>
                      <a:pt x="4695" y="12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334200" y="2179800"/>
                <a:ext cx="2502000" cy="295200"/>
              </a:xfrm>
              <a:custGeom>
                <a:avLst/>
                <a:gdLst/>
                <a:ahLst/>
                <a:rect l="l" t="t" r="r" b="b"/>
                <a:pathLst>
                  <a:path w="1576" h="186">
                    <a:moveTo>
                      <a:pt x="1430" y="25"/>
                    </a:moveTo>
                    <a:lnTo>
                      <a:pt x="1430" y="25"/>
                    </a:lnTo>
                    <a:lnTo>
                      <a:pt x="1405" y="10"/>
                    </a:lnTo>
                    <a:lnTo>
                      <a:pt x="1374" y="1"/>
                    </a:lnTo>
                    <a:lnTo>
                      <a:pt x="1351" y="0"/>
                    </a:lnTo>
                    <a:lnTo>
                      <a:pt x="1352" y="0"/>
                    </a:lnTo>
                    <a:lnTo>
                      <a:pt x="229" y="0"/>
                    </a:lnTo>
                    <a:lnTo>
                      <a:pt x="209" y="0"/>
                    </a:lnTo>
                    <a:lnTo>
                      <a:pt x="194" y="3"/>
                    </a:lnTo>
                    <a:lnTo>
                      <a:pt x="178" y="8"/>
                    </a:lnTo>
                    <a:lnTo>
                      <a:pt x="158" y="16"/>
                    </a:lnTo>
                    <a:lnTo>
                      <a:pt x="150" y="25"/>
                    </a:lnTo>
                    <a:lnTo>
                      <a:pt x="122" y="60"/>
                    </a:lnTo>
                    <a:lnTo>
                      <a:pt x="90" y="120"/>
                    </a:lnTo>
                    <a:lnTo>
                      <a:pt x="52" y="161"/>
                    </a:lnTo>
                    <a:lnTo>
                      <a:pt x="0" y="185"/>
                    </a:lnTo>
                    <a:lnTo>
                      <a:pt x="1575" y="185"/>
                    </a:lnTo>
                    <a:lnTo>
                      <a:pt x="1521" y="155"/>
                    </a:lnTo>
                    <a:lnTo>
                      <a:pt x="1491" y="120"/>
                    </a:lnTo>
                    <a:lnTo>
                      <a:pt x="1454" y="51"/>
                    </a:lnTo>
                    <a:lnTo>
                      <a:pt x="1430" y="25"/>
                    </a:lnTo>
                    <a:lnTo>
                      <a:pt x="1430" y="25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098960" y="2141640"/>
                <a:ext cx="2652840" cy="333360"/>
              </a:xfrm>
              <a:custGeom>
                <a:avLst/>
                <a:gdLst/>
                <a:ahLst/>
                <a:rect l="l" t="t" r="r" b="b"/>
                <a:pathLst>
                  <a:path w="1671" h="210">
                    <a:moveTo>
                      <a:pt x="1516" y="41"/>
                    </a:moveTo>
                    <a:lnTo>
                      <a:pt x="1516" y="41"/>
                    </a:lnTo>
                    <a:lnTo>
                      <a:pt x="1491" y="22"/>
                    </a:lnTo>
                    <a:lnTo>
                      <a:pt x="1457" y="4"/>
                    </a:lnTo>
                    <a:lnTo>
                      <a:pt x="1433" y="0"/>
                    </a:lnTo>
                    <a:lnTo>
                      <a:pt x="243" y="2"/>
                    </a:lnTo>
                    <a:lnTo>
                      <a:pt x="222" y="2"/>
                    </a:lnTo>
                    <a:lnTo>
                      <a:pt x="205" y="5"/>
                    </a:lnTo>
                    <a:lnTo>
                      <a:pt x="188" y="11"/>
                    </a:lnTo>
                    <a:lnTo>
                      <a:pt x="171" y="18"/>
                    </a:lnTo>
                    <a:lnTo>
                      <a:pt x="160" y="25"/>
                    </a:lnTo>
                    <a:lnTo>
                      <a:pt x="158" y="29"/>
                    </a:lnTo>
                    <a:lnTo>
                      <a:pt x="128" y="65"/>
                    </a:lnTo>
                    <a:lnTo>
                      <a:pt x="94" y="130"/>
                    </a:lnTo>
                    <a:lnTo>
                      <a:pt x="54" y="173"/>
                    </a:lnTo>
                    <a:lnTo>
                      <a:pt x="0" y="197"/>
                    </a:lnTo>
                    <a:lnTo>
                      <a:pt x="1670" y="209"/>
                    </a:lnTo>
                    <a:lnTo>
                      <a:pt x="1614" y="176"/>
                    </a:lnTo>
                    <a:lnTo>
                      <a:pt x="1581" y="141"/>
                    </a:lnTo>
                    <a:lnTo>
                      <a:pt x="1541" y="67"/>
                    </a:lnTo>
                    <a:lnTo>
                      <a:pt x="1516" y="41"/>
                    </a:lnTo>
                    <a:lnTo>
                      <a:pt x="1516" y="41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811160" y="2120760"/>
                <a:ext cx="2673360" cy="339840"/>
              </a:xfrm>
              <a:custGeom>
                <a:avLst/>
                <a:gdLst/>
                <a:ahLst/>
                <a:rect l="l" t="t" r="r" b="b"/>
                <a:pathLst>
                  <a:path w="1684" h="214">
                    <a:moveTo>
                      <a:pt x="1525" y="30"/>
                    </a:moveTo>
                    <a:lnTo>
                      <a:pt x="1525" y="30"/>
                    </a:lnTo>
                    <a:lnTo>
                      <a:pt x="1498" y="12"/>
                    </a:lnTo>
                    <a:lnTo>
                      <a:pt x="1465" y="1"/>
                    </a:lnTo>
                    <a:lnTo>
                      <a:pt x="1440" y="0"/>
                    </a:lnTo>
                    <a:lnTo>
                      <a:pt x="1441" y="0"/>
                    </a:lnTo>
                    <a:lnTo>
                      <a:pt x="251" y="0"/>
                    </a:lnTo>
                    <a:lnTo>
                      <a:pt x="229" y="0"/>
                    </a:lnTo>
                    <a:lnTo>
                      <a:pt x="214" y="2"/>
                    </a:lnTo>
                    <a:lnTo>
                      <a:pt x="197" y="9"/>
                    </a:lnTo>
                    <a:lnTo>
                      <a:pt x="181" y="16"/>
                    </a:lnTo>
                    <a:lnTo>
                      <a:pt x="168" y="26"/>
                    </a:lnTo>
                    <a:lnTo>
                      <a:pt x="167" y="30"/>
                    </a:lnTo>
                    <a:lnTo>
                      <a:pt x="137" y="72"/>
                    </a:lnTo>
                    <a:lnTo>
                      <a:pt x="103" y="147"/>
                    </a:lnTo>
                    <a:lnTo>
                      <a:pt x="0" y="210"/>
                    </a:lnTo>
                    <a:lnTo>
                      <a:pt x="1683" y="213"/>
                    </a:lnTo>
                    <a:lnTo>
                      <a:pt x="1589" y="147"/>
                    </a:lnTo>
                    <a:lnTo>
                      <a:pt x="1551" y="62"/>
                    </a:lnTo>
                    <a:lnTo>
                      <a:pt x="1525" y="30"/>
                    </a:lnTo>
                    <a:lnTo>
                      <a:pt x="1525" y="3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135396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7" y="4"/>
                  </a:lnTo>
                  <a:lnTo>
                    <a:pt x="89" y="23"/>
                  </a:lnTo>
                  <a:lnTo>
                    <a:pt x="58" y="51"/>
                  </a:lnTo>
                  <a:lnTo>
                    <a:pt x="33" y="76"/>
                  </a:lnTo>
                  <a:lnTo>
                    <a:pt x="11" y="106"/>
                  </a:lnTo>
                  <a:lnTo>
                    <a:pt x="2" y="141"/>
                  </a:lnTo>
                  <a:lnTo>
                    <a:pt x="0" y="177"/>
                  </a:lnTo>
                  <a:lnTo>
                    <a:pt x="2" y="193"/>
                  </a:lnTo>
                  <a:lnTo>
                    <a:pt x="2" y="205"/>
                  </a:lnTo>
                  <a:lnTo>
                    <a:pt x="2" y="2850"/>
                  </a:lnTo>
                  <a:lnTo>
                    <a:pt x="9" y="2883"/>
                  </a:lnTo>
                  <a:lnTo>
                    <a:pt x="23" y="2916"/>
                  </a:lnTo>
                  <a:lnTo>
                    <a:pt x="46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8" y="2991"/>
                  </a:lnTo>
                  <a:lnTo>
                    <a:pt x="4677" y="2991"/>
                  </a:lnTo>
                  <a:lnTo>
                    <a:pt x="4715" y="2989"/>
                  </a:lnTo>
                  <a:lnTo>
                    <a:pt x="4764" y="2985"/>
                  </a:lnTo>
                  <a:lnTo>
                    <a:pt x="4793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3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8" y="129"/>
                  </a:lnTo>
                  <a:lnTo>
                    <a:pt x="4862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1" y="27"/>
                  </a:lnTo>
                  <a:lnTo>
                    <a:pt x="4735" y="19"/>
                  </a:lnTo>
                  <a:lnTo>
                    <a:pt x="4693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6368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8" y="4"/>
                  </a:lnTo>
                  <a:lnTo>
                    <a:pt x="90" y="26"/>
                  </a:lnTo>
                  <a:lnTo>
                    <a:pt x="59" y="51"/>
                  </a:lnTo>
                  <a:lnTo>
                    <a:pt x="33" y="76"/>
                  </a:lnTo>
                  <a:lnTo>
                    <a:pt x="12" y="106"/>
                  </a:lnTo>
                  <a:lnTo>
                    <a:pt x="3" y="141"/>
                  </a:lnTo>
                  <a:lnTo>
                    <a:pt x="0" y="177"/>
                  </a:lnTo>
                  <a:lnTo>
                    <a:pt x="3" y="193"/>
                  </a:lnTo>
                  <a:lnTo>
                    <a:pt x="3" y="205"/>
                  </a:lnTo>
                  <a:lnTo>
                    <a:pt x="3" y="2850"/>
                  </a:lnTo>
                  <a:lnTo>
                    <a:pt x="10" y="2883"/>
                  </a:lnTo>
                  <a:lnTo>
                    <a:pt x="24" y="2916"/>
                  </a:lnTo>
                  <a:lnTo>
                    <a:pt x="46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8" y="2991"/>
                  </a:lnTo>
                  <a:lnTo>
                    <a:pt x="4677" y="2991"/>
                  </a:lnTo>
                  <a:lnTo>
                    <a:pt x="4715" y="2989"/>
                  </a:lnTo>
                  <a:lnTo>
                    <a:pt x="4764" y="2985"/>
                  </a:lnTo>
                  <a:lnTo>
                    <a:pt x="4794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4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9" y="129"/>
                  </a:lnTo>
                  <a:lnTo>
                    <a:pt x="4863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2" y="27"/>
                  </a:lnTo>
                  <a:lnTo>
                    <a:pt x="4735" y="19"/>
                  </a:lnTo>
                  <a:lnTo>
                    <a:pt x="4695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79600" y="2303640"/>
              <a:ext cx="7758000" cy="4781520"/>
            </a:xfrm>
            <a:custGeom>
              <a:avLst/>
              <a:gdLst/>
              <a:ahLst/>
              <a:rect l="l" t="t" r="r" b="b"/>
              <a:pathLst>
                <a:path w="4887" h="3012">
                  <a:moveTo>
                    <a:pt x="167" y="5"/>
                  </a:moveTo>
                  <a:lnTo>
                    <a:pt x="128" y="23"/>
                  </a:lnTo>
                  <a:lnTo>
                    <a:pt x="93" y="39"/>
                  </a:lnTo>
                  <a:lnTo>
                    <a:pt x="59" y="58"/>
                  </a:lnTo>
                  <a:lnTo>
                    <a:pt x="32" y="84"/>
                  </a:lnTo>
                  <a:lnTo>
                    <a:pt x="12" y="113"/>
                  </a:lnTo>
                  <a:lnTo>
                    <a:pt x="2" y="149"/>
                  </a:lnTo>
                  <a:lnTo>
                    <a:pt x="0" y="185"/>
                  </a:lnTo>
                  <a:lnTo>
                    <a:pt x="2" y="201"/>
                  </a:lnTo>
                  <a:lnTo>
                    <a:pt x="2" y="213"/>
                  </a:lnTo>
                  <a:lnTo>
                    <a:pt x="2" y="2869"/>
                  </a:lnTo>
                  <a:lnTo>
                    <a:pt x="10" y="2901"/>
                  </a:lnTo>
                  <a:lnTo>
                    <a:pt x="24" y="2935"/>
                  </a:lnTo>
                  <a:lnTo>
                    <a:pt x="47" y="2962"/>
                  </a:lnTo>
                  <a:lnTo>
                    <a:pt x="79" y="2985"/>
                  </a:lnTo>
                  <a:lnTo>
                    <a:pt x="114" y="3003"/>
                  </a:lnTo>
                  <a:lnTo>
                    <a:pt x="154" y="3008"/>
                  </a:lnTo>
                  <a:lnTo>
                    <a:pt x="194" y="3011"/>
                  </a:lnTo>
                  <a:lnTo>
                    <a:pt x="4668" y="3011"/>
                  </a:lnTo>
                  <a:lnTo>
                    <a:pt x="4677" y="3011"/>
                  </a:lnTo>
                  <a:lnTo>
                    <a:pt x="4715" y="3007"/>
                  </a:lnTo>
                  <a:lnTo>
                    <a:pt x="4765" y="3004"/>
                  </a:lnTo>
                  <a:lnTo>
                    <a:pt x="4794" y="2993"/>
                  </a:lnTo>
                  <a:lnTo>
                    <a:pt x="4826" y="2974"/>
                  </a:lnTo>
                  <a:lnTo>
                    <a:pt x="4854" y="2947"/>
                  </a:lnTo>
                  <a:lnTo>
                    <a:pt x="4874" y="2917"/>
                  </a:lnTo>
                  <a:lnTo>
                    <a:pt x="4886" y="2883"/>
                  </a:lnTo>
                  <a:lnTo>
                    <a:pt x="4886" y="2849"/>
                  </a:lnTo>
                  <a:lnTo>
                    <a:pt x="4886" y="183"/>
                  </a:lnTo>
                  <a:lnTo>
                    <a:pt x="4879" y="148"/>
                  </a:lnTo>
                  <a:lnTo>
                    <a:pt x="4863" y="116"/>
                  </a:lnTo>
                  <a:lnTo>
                    <a:pt x="4840" y="87"/>
                  </a:lnTo>
                  <a:lnTo>
                    <a:pt x="4810" y="63"/>
                  </a:lnTo>
                  <a:lnTo>
                    <a:pt x="4771" y="42"/>
                  </a:lnTo>
                  <a:lnTo>
                    <a:pt x="4735" y="25"/>
                  </a:lnTo>
                  <a:lnTo>
                    <a:pt x="4708" y="13"/>
                  </a:lnTo>
                  <a:lnTo>
                    <a:pt x="4681" y="5"/>
                  </a:lnTo>
                  <a:lnTo>
                    <a:pt x="4650" y="0"/>
                  </a:lnTo>
                  <a:lnTo>
                    <a:pt x="167" y="5"/>
                  </a:lnTo>
                  <a:lnTo>
                    <a:pt x="167" y="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96880" y="2309760"/>
              <a:ext cx="7756560" cy="4749840"/>
            </a:xfrm>
            <a:custGeom>
              <a:avLst/>
              <a:gdLst/>
              <a:ahLst/>
              <a:rect l="l" t="t" r="r" b="b"/>
              <a:pathLst>
                <a:path w="4886" h="2992">
                  <a:moveTo>
                    <a:pt x="174" y="0"/>
                  </a:moveTo>
                  <a:lnTo>
                    <a:pt x="174" y="0"/>
                  </a:lnTo>
                  <a:lnTo>
                    <a:pt x="128" y="4"/>
                  </a:lnTo>
                  <a:lnTo>
                    <a:pt x="93" y="19"/>
                  </a:lnTo>
                  <a:lnTo>
                    <a:pt x="58" y="38"/>
                  </a:lnTo>
                  <a:lnTo>
                    <a:pt x="32" y="65"/>
                  </a:lnTo>
                  <a:lnTo>
                    <a:pt x="11" y="106"/>
                  </a:lnTo>
                  <a:lnTo>
                    <a:pt x="2" y="141"/>
                  </a:lnTo>
                  <a:lnTo>
                    <a:pt x="0" y="177"/>
                  </a:lnTo>
                  <a:lnTo>
                    <a:pt x="2" y="193"/>
                  </a:lnTo>
                  <a:lnTo>
                    <a:pt x="2" y="205"/>
                  </a:lnTo>
                  <a:lnTo>
                    <a:pt x="2" y="2850"/>
                  </a:lnTo>
                  <a:lnTo>
                    <a:pt x="9" y="2883"/>
                  </a:lnTo>
                  <a:lnTo>
                    <a:pt x="23" y="2916"/>
                  </a:lnTo>
                  <a:lnTo>
                    <a:pt x="47" y="2942"/>
                  </a:lnTo>
                  <a:lnTo>
                    <a:pt x="79" y="2966"/>
                  </a:lnTo>
                  <a:lnTo>
                    <a:pt x="113" y="2984"/>
                  </a:lnTo>
                  <a:lnTo>
                    <a:pt x="153" y="2989"/>
                  </a:lnTo>
                  <a:lnTo>
                    <a:pt x="193" y="2991"/>
                  </a:lnTo>
                  <a:lnTo>
                    <a:pt x="4667" y="2991"/>
                  </a:lnTo>
                  <a:lnTo>
                    <a:pt x="4677" y="2991"/>
                  </a:lnTo>
                  <a:lnTo>
                    <a:pt x="4714" y="2989"/>
                  </a:lnTo>
                  <a:lnTo>
                    <a:pt x="4765" y="2985"/>
                  </a:lnTo>
                  <a:lnTo>
                    <a:pt x="4793" y="2973"/>
                  </a:lnTo>
                  <a:lnTo>
                    <a:pt x="4825" y="2955"/>
                  </a:lnTo>
                  <a:lnTo>
                    <a:pt x="4853" y="2929"/>
                  </a:lnTo>
                  <a:lnTo>
                    <a:pt x="4874" y="2899"/>
                  </a:lnTo>
                  <a:lnTo>
                    <a:pt x="4885" y="2864"/>
                  </a:lnTo>
                  <a:lnTo>
                    <a:pt x="4885" y="2831"/>
                  </a:lnTo>
                  <a:lnTo>
                    <a:pt x="4885" y="2811"/>
                  </a:lnTo>
                  <a:lnTo>
                    <a:pt x="4881" y="2811"/>
                  </a:lnTo>
                  <a:lnTo>
                    <a:pt x="4885" y="163"/>
                  </a:lnTo>
                  <a:lnTo>
                    <a:pt x="4878" y="129"/>
                  </a:lnTo>
                  <a:lnTo>
                    <a:pt x="4862" y="97"/>
                  </a:lnTo>
                  <a:lnTo>
                    <a:pt x="4839" y="67"/>
                  </a:lnTo>
                  <a:lnTo>
                    <a:pt x="4809" y="43"/>
                  </a:lnTo>
                  <a:lnTo>
                    <a:pt x="4771" y="27"/>
                  </a:lnTo>
                  <a:lnTo>
                    <a:pt x="4735" y="19"/>
                  </a:lnTo>
                  <a:lnTo>
                    <a:pt x="4693" y="14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627200" y="2303640"/>
              <a:ext cx="7759800" cy="4781520"/>
            </a:xfrm>
            <a:custGeom>
              <a:avLst/>
              <a:gdLst/>
              <a:ahLst/>
              <a:rect l="l" t="t" r="r" b="b"/>
              <a:pathLst>
                <a:path w="4888" h="3012">
                  <a:moveTo>
                    <a:pt x="167" y="5"/>
                  </a:moveTo>
                  <a:lnTo>
                    <a:pt x="128" y="23"/>
                  </a:lnTo>
                  <a:lnTo>
                    <a:pt x="94" y="39"/>
                  </a:lnTo>
                  <a:lnTo>
                    <a:pt x="59" y="58"/>
                  </a:lnTo>
                  <a:lnTo>
                    <a:pt x="33" y="84"/>
                  </a:lnTo>
                  <a:lnTo>
                    <a:pt x="13" y="113"/>
                  </a:lnTo>
                  <a:lnTo>
                    <a:pt x="3" y="149"/>
                  </a:lnTo>
                  <a:lnTo>
                    <a:pt x="0" y="185"/>
                  </a:lnTo>
                  <a:lnTo>
                    <a:pt x="3" y="201"/>
                  </a:lnTo>
                  <a:lnTo>
                    <a:pt x="3" y="213"/>
                  </a:lnTo>
                  <a:lnTo>
                    <a:pt x="3" y="2869"/>
                  </a:lnTo>
                  <a:lnTo>
                    <a:pt x="9" y="2901"/>
                  </a:lnTo>
                  <a:lnTo>
                    <a:pt x="23" y="2935"/>
                  </a:lnTo>
                  <a:lnTo>
                    <a:pt x="47" y="2962"/>
                  </a:lnTo>
                  <a:lnTo>
                    <a:pt x="80" y="2985"/>
                  </a:lnTo>
                  <a:lnTo>
                    <a:pt x="114" y="3003"/>
                  </a:lnTo>
                  <a:lnTo>
                    <a:pt x="153" y="3008"/>
                  </a:lnTo>
                  <a:lnTo>
                    <a:pt x="193" y="3011"/>
                  </a:lnTo>
                  <a:lnTo>
                    <a:pt x="4668" y="3011"/>
                  </a:lnTo>
                  <a:lnTo>
                    <a:pt x="4677" y="3011"/>
                  </a:lnTo>
                  <a:lnTo>
                    <a:pt x="4714" y="3007"/>
                  </a:lnTo>
                  <a:lnTo>
                    <a:pt x="4765" y="3004"/>
                  </a:lnTo>
                  <a:lnTo>
                    <a:pt x="4793" y="2993"/>
                  </a:lnTo>
                  <a:lnTo>
                    <a:pt x="4826" y="2974"/>
                  </a:lnTo>
                  <a:lnTo>
                    <a:pt x="4853" y="2947"/>
                  </a:lnTo>
                  <a:lnTo>
                    <a:pt x="4873" y="2917"/>
                  </a:lnTo>
                  <a:lnTo>
                    <a:pt x="4887" y="2883"/>
                  </a:lnTo>
                  <a:lnTo>
                    <a:pt x="4887" y="2849"/>
                  </a:lnTo>
                  <a:lnTo>
                    <a:pt x="4887" y="183"/>
                  </a:lnTo>
                  <a:lnTo>
                    <a:pt x="4879" y="148"/>
                  </a:lnTo>
                  <a:lnTo>
                    <a:pt x="4863" y="116"/>
                  </a:lnTo>
                  <a:lnTo>
                    <a:pt x="4840" y="87"/>
                  </a:lnTo>
                  <a:lnTo>
                    <a:pt x="4810" y="63"/>
                  </a:lnTo>
                  <a:lnTo>
                    <a:pt x="4772" y="42"/>
                  </a:lnTo>
                  <a:lnTo>
                    <a:pt x="4735" y="25"/>
                  </a:lnTo>
                  <a:lnTo>
                    <a:pt x="4708" y="13"/>
                  </a:lnTo>
                  <a:lnTo>
                    <a:pt x="4681" y="5"/>
                  </a:lnTo>
                  <a:lnTo>
                    <a:pt x="4649" y="0"/>
                  </a:lnTo>
                  <a:lnTo>
                    <a:pt x="167" y="5"/>
                  </a:lnTo>
                  <a:lnTo>
                    <a:pt x="167" y="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432480" y="2035080"/>
              <a:ext cx="2502000" cy="295200"/>
            </a:xfrm>
            <a:custGeom>
              <a:avLst/>
              <a:gdLst/>
              <a:ahLst/>
              <a:rect l="l" t="t" r="r" b="b"/>
              <a:pathLst>
                <a:path w="1576" h="186">
                  <a:moveTo>
                    <a:pt x="1430" y="25"/>
                  </a:moveTo>
                  <a:lnTo>
                    <a:pt x="1430" y="25"/>
                  </a:lnTo>
                  <a:lnTo>
                    <a:pt x="1405" y="10"/>
                  </a:lnTo>
                  <a:lnTo>
                    <a:pt x="1374" y="2"/>
                  </a:lnTo>
                  <a:lnTo>
                    <a:pt x="1350" y="0"/>
                  </a:lnTo>
                  <a:lnTo>
                    <a:pt x="1352" y="0"/>
                  </a:lnTo>
                  <a:lnTo>
                    <a:pt x="229" y="0"/>
                  </a:lnTo>
                  <a:lnTo>
                    <a:pt x="209" y="0"/>
                  </a:lnTo>
                  <a:lnTo>
                    <a:pt x="194" y="3"/>
                  </a:lnTo>
                  <a:lnTo>
                    <a:pt x="178" y="9"/>
                  </a:lnTo>
                  <a:lnTo>
                    <a:pt x="158" y="16"/>
                  </a:lnTo>
                  <a:lnTo>
                    <a:pt x="150" y="25"/>
                  </a:lnTo>
                  <a:lnTo>
                    <a:pt x="122" y="60"/>
                  </a:lnTo>
                  <a:lnTo>
                    <a:pt x="89" y="121"/>
                  </a:lnTo>
                  <a:lnTo>
                    <a:pt x="52" y="162"/>
                  </a:lnTo>
                  <a:lnTo>
                    <a:pt x="0" y="185"/>
                  </a:lnTo>
                  <a:lnTo>
                    <a:pt x="1575" y="185"/>
                  </a:lnTo>
                  <a:lnTo>
                    <a:pt x="1521" y="154"/>
                  </a:lnTo>
                  <a:lnTo>
                    <a:pt x="1490" y="121"/>
                  </a:lnTo>
                  <a:lnTo>
                    <a:pt x="1454" y="52"/>
                  </a:lnTo>
                  <a:lnTo>
                    <a:pt x="1430" y="25"/>
                  </a:lnTo>
                  <a:lnTo>
                    <a:pt x="1430" y="25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97240" y="1998720"/>
              <a:ext cx="2654280" cy="331560"/>
            </a:xfrm>
            <a:custGeom>
              <a:avLst/>
              <a:gdLst/>
              <a:ahLst/>
              <a:rect l="l" t="t" r="r" b="b"/>
              <a:pathLst>
                <a:path w="1672" h="209">
                  <a:moveTo>
                    <a:pt x="1516" y="40"/>
                  </a:moveTo>
                  <a:lnTo>
                    <a:pt x="1516" y="40"/>
                  </a:lnTo>
                  <a:lnTo>
                    <a:pt x="1490" y="21"/>
                  </a:lnTo>
                  <a:lnTo>
                    <a:pt x="1457" y="4"/>
                  </a:lnTo>
                  <a:lnTo>
                    <a:pt x="1433" y="0"/>
                  </a:lnTo>
                  <a:lnTo>
                    <a:pt x="243" y="2"/>
                  </a:lnTo>
                  <a:lnTo>
                    <a:pt x="222" y="2"/>
                  </a:lnTo>
                  <a:lnTo>
                    <a:pt x="205" y="5"/>
                  </a:lnTo>
                  <a:lnTo>
                    <a:pt x="188" y="9"/>
                  </a:lnTo>
                  <a:lnTo>
                    <a:pt x="171" y="18"/>
                  </a:lnTo>
                  <a:lnTo>
                    <a:pt x="160" y="25"/>
                  </a:lnTo>
                  <a:lnTo>
                    <a:pt x="158" y="28"/>
                  </a:lnTo>
                  <a:lnTo>
                    <a:pt x="129" y="64"/>
                  </a:lnTo>
                  <a:lnTo>
                    <a:pt x="94" y="129"/>
                  </a:lnTo>
                  <a:lnTo>
                    <a:pt x="55" y="172"/>
                  </a:lnTo>
                  <a:lnTo>
                    <a:pt x="0" y="196"/>
                  </a:lnTo>
                  <a:lnTo>
                    <a:pt x="1671" y="208"/>
                  </a:lnTo>
                  <a:lnTo>
                    <a:pt x="1613" y="175"/>
                  </a:lnTo>
                  <a:lnTo>
                    <a:pt x="1582" y="141"/>
                  </a:lnTo>
                  <a:lnTo>
                    <a:pt x="1542" y="66"/>
                  </a:lnTo>
                  <a:lnTo>
                    <a:pt x="1516" y="40"/>
                  </a:lnTo>
                  <a:lnTo>
                    <a:pt x="1516" y="40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644480" y="2303640"/>
              <a:ext cx="7758360" cy="4781520"/>
            </a:xfrm>
            <a:custGeom>
              <a:avLst/>
              <a:gdLst/>
              <a:ahLst/>
              <a:rect l="l" t="t" r="r" b="b"/>
              <a:pathLst>
                <a:path w="4887" h="3012">
                  <a:moveTo>
                    <a:pt x="166" y="5"/>
                  </a:moveTo>
                  <a:lnTo>
                    <a:pt x="128" y="23"/>
                  </a:lnTo>
                  <a:lnTo>
                    <a:pt x="92" y="39"/>
                  </a:lnTo>
                  <a:lnTo>
                    <a:pt x="57" y="58"/>
                  </a:lnTo>
                  <a:lnTo>
                    <a:pt x="32" y="84"/>
                  </a:lnTo>
                  <a:lnTo>
                    <a:pt x="11" y="113"/>
                  </a:lnTo>
                  <a:lnTo>
                    <a:pt x="3" y="149"/>
                  </a:lnTo>
                  <a:lnTo>
                    <a:pt x="0" y="185"/>
                  </a:lnTo>
                  <a:lnTo>
                    <a:pt x="3" y="201"/>
                  </a:lnTo>
                  <a:lnTo>
                    <a:pt x="3" y="213"/>
                  </a:lnTo>
                  <a:lnTo>
                    <a:pt x="3" y="2869"/>
                  </a:lnTo>
                  <a:lnTo>
                    <a:pt x="9" y="2901"/>
                  </a:lnTo>
                  <a:lnTo>
                    <a:pt x="23" y="2935"/>
                  </a:lnTo>
                  <a:lnTo>
                    <a:pt x="46" y="2962"/>
                  </a:lnTo>
                  <a:lnTo>
                    <a:pt x="79" y="2985"/>
                  </a:lnTo>
                  <a:lnTo>
                    <a:pt x="113" y="3003"/>
                  </a:lnTo>
                  <a:lnTo>
                    <a:pt x="152" y="3008"/>
                  </a:lnTo>
                  <a:lnTo>
                    <a:pt x="192" y="3011"/>
                  </a:lnTo>
                  <a:lnTo>
                    <a:pt x="4667" y="3011"/>
                  </a:lnTo>
                  <a:lnTo>
                    <a:pt x="4676" y="3011"/>
                  </a:lnTo>
                  <a:lnTo>
                    <a:pt x="4714" y="3007"/>
                  </a:lnTo>
                  <a:lnTo>
                    <a:pt x="4764" y="3004"/>
                  </a:lnTo>
                  <a:lnTo>
                    <a:pt x="4792" y="2993"/>
                  </a:lnTo>
                  <a:lnTo>
                    <a:pt x="4824" y="2974"/>
                  </a:lnTo>
                  <a:lnTo>
                    <a:pt x="4853" y="2947"/>
                  </a:lnTo>
                  <a:lnTo>
                    <a:pt x="4874" y="2917"/>
                  </a:lnTo>
                  <a:lnTo>
                    <a:pt x="4886" y="2883"/>
                  </a:lnTo>
                  <a:lnTo>
                    <a:pt x="4886" y="2849"/>
                  </a:lnTo>
                  <a:lnTo>
                    <a:pt x="4886" y="183"/>
                  </a:lnTo>
                  <a:lnTo>
                    <a:pt x="4878" y="148"/>
                  </a:lnTo>
                  <a:lnTo>
                    <a:pt x="4862" y="116"/>
                  </a:lnTo>
                  <a:lnTo>
                    <a:pt x="4839" y="87"/>
                  </a:lnTo>
                  <a:lnTo>
                    <a:pt x="4809" y="63"/>
                  </a:lnTo>
                  <a:lnTo>
                    <a:pt x="4771" y="42"/>
                  </a:lnTo>
                  <a:lnTo>
                    <a:pt x="4734" y="25"/>
                  </a:lnTo>
                  <a:lnTo>
                    <a:pt x="4707" y="13"/>
                  </a:lnTo>
                  <a:lnTo>
                    <a:pt x="4680" y="5"/>
                  </a:lnTo>
                  <a:lnTo>
                    <a:pt x="4648" y="0"/>
                  </a:lnTo>
                  <a:lnTo>
                    <a:pt x="166" y="5"/>
                  </a:lnTo>
                  <a:lnTo>
                    <a:pt x="166" y="5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89480" y="2070000"/>
              <a:ext cx="274680" cy="24624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0" y="28"/>
                  </a:moveTo>
                  <a:lnTo>
                    <a:pt x="28" y="89"/>
                  </a:lnTo>
                  <a:lnTo>
                    <a:pt x="120" y="154"/>
                  </a:lnTo>
                  <a:lnTo>
                    <a:pt x="172" y="154"/>
                  </a:lnTo>
                  <a:lnTo>
                    <a:pt x="78" y="88"/>
                  </a:lnTo>
                  <a:lnTo>
                    <a:pt x="48" y="59"/>
                  </a:lnTo>
                  <a:lnTo>
                    <a:pt x="22" y="0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911240" y="1978200"/>
              <a:ext cx="2671920" cy="338040"/>
            </a:xfrm>
            <a:custGeom>
              <a:avLst/>
              <a:gdLst/>
              <a:ahLst/>
              <a:rect l="l" t="t" r="r" b="b"/>
              <a:pathLst>
                <a:path w="1683" h="213">
                  <a:moveTo>
                    <a:pt x="1524" y="29"/>
                  </a:moveTo>
                  <a:lnTo>
                    <a:pt x="1524" y="29"/>
                  </a:lnTo>
                  <a:lnTo>
                    <a:pt x="1497" y="11"/>
                  </a:lnTo>
                  <a:lnTo>
                    <a:pt x="1464" y="1"/>
                  </a:lnTo>
                  <a:lnTo>
                    <a:pt x="1438" y="0"/>
                  </a:lnTo>
                  <a:lnTo>
                    <a:pt x="1440" y="0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13" y="2"/>
                  </a:lnTo>
                  <a:lnTo>
                    <a:pt x="196" y="8"/>
                  </a:lnTo>
                  <a:lnTo>
                    <a:pt x="179" y="16"/>
                  </a:lnTo>
                  <a:lnTo>
                    <a:pt x="167" y="24"/>
                  </a:lnTo>
                  <a:lnTo>
                    <a:pt x="165" y="29"/>
                  </a:lnTo>
                  <a:lnTo>
                    <a:pt x="136" y="71"/>
                  </a:lnTo>
                  <a:lnTo>
                    <a:pt x="101" y="146"/>
                  </a:lnTo>
                  <a:lnTo>
                    <a:pt x="0" y="208"/>
                  </a:lnTo>
                  <a:lnTo>
                    <a:pt x="1682" y="212"/>
                  </a:lnTo>
                  <a:lnTo>
                    <a:pt x="1588" y="146"/>
                  </a:lnTo>
                  <a:lnTo>
                    <a:pt x="1550" y="60"/>
                  </a:lnTo>
                  <a:lnTo>
                    <a:pt x="1524" y="29"/>
                  </a:lnTo>
                  <a:lnTo>
                    <a:pt x="1524" y="29"/>
                  </a:lnTo>
                </a:path>
              </a:pathLst>
            </a:custGeom>
            <a:solidFill>
              <a:srgbClr val="ffff80"/>
            </a:solidFill>
            <a:ln w="9360">
              <a:solidFill>
                <a:srgbClr val="818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45240" y="2063880"/>
              <a:ext cx="255600" cy="24120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0" y="25"/>
                  </a:moveTo>
                  <a:lnTo>
                    <a:pt x="17" y="60"/>
                  </a:lnTo>
                  <a:lnTo>
                    <a:pt x="36" y="93"/>
                  </a:lnTo>
                  <a:lnTo>
                    <a:pt x="70" y="134"/>
                  </a:lnTo>
                  <a:lnTo>
                    <a:pt x="100" y="151"/>
                  </a:lnTo>
                  <a:lnTo>
                    <a:pt x="160" y="151"/>
                  </a:lnTo>
                  <a:lnTo>
                    <a:pt x="94" y="111"/>
                  </a:lnTo>
                  <a:lnTo>
                    <a:pt x="55" y="63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bfbf00"/>
            </a:solidFill>
            <a:ln w="9360">
              <a:solidFill>
                <a:srgbClr val="bf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916280" y="2287440"/>
              <a:ext cx="6972120" cy="20880"/>
            </a:xfrm>
            <a:custGeom>
              <a:avLst/>
              <a:gdLst/>
              <a:ahLst/>
              <a:rect l="l" t="t" r="r" b="b"/>
              <a:pathLst>
                <a:path w="4392" h="13">
                  <a:moveTo>
                    <a:pt x="0" y="12"/>
                  </a:moveTo>
                  <a:lnTo>
                    <a:pt x="4391" y="10"/>
                  </a:lnTo>
                  <a:lnTo>
                    <a:pt x="4373" y="0"/>
                  </a:lnTo>
                  <a:lnTo>
                    <a:pt x="18" y="1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905120" y="2806560"/>
            <a:ext cx="72388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Supongamos que los ingresos son todos privados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todos los bienes son “rivales”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ourier New"/>
              </a:rPr>
              <a:t>No hay externa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 flipV="1">
            <a:off x="5145120" y="2172960"/>
            <a:ext cx="4849920" cy="5462640"/>
          </a:xfrm>
          <a:custGeom>
            <a:avLst/>
            <a:gdLst>
              <a:gd name="textAreaLeft" fmla="*/ 0 w 4849920"/>
              <a:gd name="textAreaRight" fmla="*/ 4850280 w 4849920"/>
              <a:gd name="textAreaTop" fmla="*/ 360 h 5462640"/>
              <a:gd name="textAreaBottom" fmla="*/ 5463360 h 5462640"/>
            </a:gdLst>
            <a:ahLst/>
            <a:rect l="textAreaLeft" t="textAreaTop" r="textAreaRight" b="textAreaBottom"/>
            <a:pathLst>
              <a:path w="21600" h="24329">
                <a:moveTo>
                  <a:pt x="0" y="0"/>
                </a:moveTo>
                <a:arcTo wR="0" hR="0" stAng="16200000" swAng="-5400000"/>
                <a:lnTo>
                  <a:pt x="0" y="24329"/>
                </a:lnTo>
                <a:arcTo wR="0" hR="0" stAng="10800000" swAng="-5400000"/>
                <a:lnTo>
                  <a:pt x="21600" y="2432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c2"/>
          </a:solidFill>
          <a:ln w="19080">
            <a:solidFill>
              <a:srgbClr val="fff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5333760" y="2219040"/>
            <a:ext cx="2305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46040" y="71748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quilibrio Competitivo: un resu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933480" y="2217600"/>
            <a:ext cx="407016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be ser una asignacion competitiva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73600" y="4191120"/>
            <a:ext cx="2784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x </a:t>
            </a:r>
            <a:r>
              <a:rPr b="1" lang="en-US" sz="4800" spc="-1" strike="noStrike">
                <a:solidFill>
                  <a:srgbClr val="000080"/>
                </a:solidFill>
                <a:latin typeface="Symbol"/>
                <a:ea typeface="Symbol"/>
              </a:rPr>
              <a:t></a:t>
            </a: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 y + 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933480" y="4191120"/>
            <a:ext cx="407016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La ecuación de balance debe cumplir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07084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za-ción e intercamb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4197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-person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Panorámica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457200" y="19051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 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9640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ces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495680"/>
            <a:ext cx="196200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ecentraliza-ción y comerc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0"/>
            <a:ext cx="1962000" cy="1981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 problema de Robinson Crus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84560" y="5257800"/>
            <a:ext cx="1942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325600"/>
            <a:ext cx="236232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3505320"/>
            <a:ext cx="9104400" cy="947520"/>
            <a:chOff x="609480" y="3505320"/>
            <a:chExt cx="9104400" cy="947520"/>
          </a:xfrm>
        </p:grpSpPr>
        <p:sp>
          <p:nvSpPr>
            <p:cNvPr id="71" name=""/>
            <p:cNvSpPr/>
            <p:nvPr/>
          </p:nvSpPr>
          <p:spPr>
            <a:xfrm>
              <a:off x="5145120" y="3505320"/>
              <a:ext cx="1440" cy="51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79640" y="4016520"/>
              <a:ext cx="180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4836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18520" y="401652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79640" y="401652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0560" y="4016520"/>
              <a:ext cx="1117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01652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712440" y="4008600"/>
              <a:ext cx="1440" cy="43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42280" y="400860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089760" y="4498920"/>
            <a:ext cx="1962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4495680"/>
            <a:ext cx="1962360" cy="1981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267080"/>
            <a:ext cx="2895840" cy="2573280"/>
          </a:xfrm>
          <a:custGeom>
            <a:avLst/>
            <a:gdLst/>
            <a:ahLst/>
            <a:rect l="l" t="t" r="r" b="b"/>
            <a:pathLst>
              <a:path w="2059" h="1756">
                <a:moveTo>
                  <a:pt x="175" y="390"/>
                </a:moveTo>
                <a:lnTo>
                  <a:pt x="82" y="536"/>
                </a:lnTo>
                <a:lnTo>
                  <a:pt x="25" y="681"/>
                </a:lnTo>
                <a:lnTo>
                  <a:pt x="0" y="827"/>
                </a:lnTo>
                <a:lnTo>
                  <a:pt x="5" y="969"/>
                </a:lnTo>
                <a:lnTo>
                  <a:pt x="36" y="1107"/>
                </a:lnTo>
                <a:lnTo>
                  <a:pt x="94" y="1236"/>
                </a:lnTo>
                <a:lnTo>
                  <a:pt x="174" y="1356"/>
                </a:lnTo>
                <a:lnTo>
                  <a:pt x="275" y="1464"/>
                </a:lnTo>
                <a:lnTo>
                  <a:pt x="392" y="1560"/>
                </a:lnTo>
                <a:lnTo>
                  <a:pt x="526" y="1638"/>
                </a:lnTo>
                <a:lnTo>
                  <a:pt x="673" y="1699"/>
                </a:lnTo>
                <a:lnTo>
                  <a:pt x="831" y="1737"/>
                </a:lnTo>
                <a:lnTo>
                  <a:pt x="997" y="1755"/>
                </a:lnTo>
                <a:lnTo>
                  <a:pt x="1169" y="1746"/>
                </a:lnTo>
                <a:lnTo>
                  <a:pt x="1344" y="1711"/>
                </a:lnTo>
                <a:lnTo>
                  <a:pt x="1522" y="1645"/>
                </a:lnTo>
                <a:lnTo>
                  <a:pt x="1682" y="1555"/>
                </a:lnTo>
                <a:lnTo>
                  <a:pt x="1813" y="1449"/>
                </a:lnTo>
                <a:lnTo>
                  <a:pt x="1915" y="1331"/>
                </a:lnTo>
                <a:lnTo>
                  <a:pt x="1990" y="1203"/>
                </a:lnTo>
                <a:lnTo>
                  <a:pt x="2036" y="1069"/>
                </a:lnTo>
                <a:lnTo>
                  <a:pt x="2058" y="931"/>
                </a:lnTo>
                <a:lnTo>
                  <a:pt x="2053" y="793"/>
                </a:lnTo>
                <a:lnTo>
                  <a:pt x="2025" y="655"/>
                </a:lnTo>
                <a:lnTo>
                  <a:pt x="1972" y="525"/>
                </a:lnTo>
                <a:lnTo>
                  <a:pt x="1897" y="401"/>
                </a:lnTo>
                <a:lnTo>
                  <a:pt x="1800" y="290"/>
                </a:lnTo>
                <a:lnTo>
                  <a:pt x="1684" y="192"/>
                </a:lnTo>
                <a:lnTo>
                  <a:pt x="1545" y="112"/>
                </a:lnTo>
                <a:lnTo>
                  <a:pt x="1389" y="51"/>
                </a:lnTo>
                <a:lnTo>
                  <a:pt x="1214" y="13"/>
                </a:lnTo>
                <a:lnTo>
                  <a:pt x="1022" y="0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/>
          </p:nvPr>
        </p:nvSpPr>
        <p:spPr>
          <a:xfrm>
            <a:off x="933120" y="2217240"/>
            <a:ext cx="8426520" cy="26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91160" indent="-19116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Una economía de intercambio  (no hay  producción)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1160" indent="-19116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 comerciantes (Juan, Pedro)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91160" indent="-191160">
              <a:buClr>
                <a:srgbClr val="c2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 Bien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 ejempl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Una descripción de Juan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33520" y="2327400"/>
            <a:ext cx="37335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dotación de recur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66680" y="4264200"/>
            <a:ext cx="30830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consu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43000" y="5614920"/>
            <a:ext cx="2514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uti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4332240" y="2298240"/>
            <a:ext cx="3643200" cy="4354560"/>
          </a:xfrm>
          <a:custGeom>
            <a:avLst/>
            <a:gdLst>
              <a:gd name="textAreaLeft" fmla="*/ 66600 w 3643200"/>
              <a:gd name="textAreaRight" fmla="*/ 3576600 w 3643200"/>
              <a:gd name="textAreaTop" fmla="*/ 66600 h 4354560"/>
              <a:gd name="textAreaBottom" fmla="*/ 4287960 h 4354560"/>
            </a:gdLst>
            <a:ahLst/>
            <a:rect l="textAreaLeft" t="textAreaTop" r="textAreaRight" b="textAreaBottom"/>
            <a:pathLst>
              <a:path w="21600" h="25817">
                <a:moveTo>
                  <a:pt x="1349" y="0"/>
                </a:moveTo>
                <a:arcTo wR="1349" hR="1349" stAng="16200000" swAng="-5400000"/>
                <a:lnTo>
                  <a:pt x="0" y="24468"/>
                </a:lnTo>
                <a:arcTo wR="1349" hR="1349" stAng="10800000" swAng="-5400000"/>
                <a:lnTo>
                  <a:pt x="20251" y="25817"/>
                </a:lnTo>
                <a:arcTo wR="1349" hR="1349" stAng="5400000" swAng="-5400000"/>
                <a:lnTo>
                  <a:pt x="21600" y="1349"/>
                </a:lnTo>
                <a:arcTo wR="1349" hR="1349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00600" y="5646600"/>
            <a:ext cx="25146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029200" y="4267080"/>
            <a:ext cx="25146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05520" y="2819520"/>
            <a:ext cx="2514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96880" y="6653160"/>
            <a:ext cx="8013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an vende parte de su dotacion del bien 2 para obtener mas del 1 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...y Pedr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8680" y="6819840"/>
            <a:ext cx="8967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edro,claro está , vende el bien 1 para obtener el bien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332240" y="2298240"/>
            <a:ext cx="3643200" cy="4354560"/>
          </a:xfrm>
          <a:custGeom>
            <a:avLst/>
            <a:gdLst>
              <a:gd name="textAreaLeft" fmla="*/ 66600 w 3643200"/>
              <a:gd name="textAreaRight" fmla="*/ 3576600 w 3643200"/>
              <a:gd name="textAreaTop" fmla="*/ 66600 h 4354560"/>
              <a:gd name="textAreaBottom" fmla="*/ 4287960 h 4354560"/>
            </a:gdLst>
            <a:ahLst/>
            <a:rect l="textAreaLeft" t="textAreaTop" r="textAreaRight" b="textAreaBottom"/>
            <a:pathLst>
              <a:path w="21600" h="25817">
                <a:moveTo>
                  <a:pt x="1349" y="0"/>
                </a:moveTo>
                <a:arcTo wR="1349" hR="1349" stAng="16200000" swAng="-5400000"/>
                <a:lnTo>
                  <a:pt x="0" y="24468"/>
                </a:lnTo>
                <a:arcTo wR="1349" hR="1349" stAng="10800000" swAng="-5400000"/>
                <a:lnTo>
                  <a:pt x="20251" y="25817"/>
                </a:lnTo>
                <a:arcTo wR="1349" hR="1349" stAng="5400000" swAng="-5400000"/>
                <a:lnTo>
                  <a:pt x="21600" y="1349"/>
                </a:lnTo>
                <a:arcTo wR="1349" hR="1349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800600" y="5646600"/>
            <a:ext cx="25146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29200" y="4267080"/>
            <a:ext cx="25146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105520" y="2819520"/>
            <a:ext cx="2514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0880" y="2327400"/>
            <a:ext cx="345132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dotación de recur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66680" y="4264200"/>
            <a:ext cx="30830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consu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143000" y="5614920"/>
            <a:ext cx="2514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0080"/>
                </a:solidFill>
                <a:latin typeface="Brush738 BT"/>
              </a:rPr>
              <a:t>uti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895320" y="1704960"/>
            <a:ext cx="5064120" cy="5359320"/>
          </a:xfrm>
          <a:custGeom>
            <a:avLst/>
            <a:gdLst/>
            <a:ahLst/>
            <a:rect l="l" t="t" r="r" b="b"/>
            <a:pathLst>
              <a:path w="3190" h="3376">
                <a:moveTo>
                  <a:pt x="3189" y="3375"/>
                </a:moveTo>
                <a:lnTo>
                  <a:pt x="1289" y="118"/>
                </a:lnTo>
                <a:lnTo>
                  <a:pt x="1198" y="118"/>
                </a:lnTo>
                <a:lnTo>
                  <a:pt x="1146" y="156"/>
                </a:lnTo>
                <a:lnTo>
                  <a:pt x="1120" y="313"/>
                </a:lnTo>
                <a:lnTo>
                  <a:pt x="1016" y="391"/>
                </a:lnTo>
                <a:lnTo>
                  <a:pt x="834" y="326"/>
                </a:lnTo>
                <a:lnTo>
                  <a:pt x="690" y="248"/>
                </a:lnTo>
                <a:lnTo>
                  <a:pt x="534" y="0"/>
                </a:lnTo>
                <a:lnTo>
                  <a:pt x="508" y="0"/>
                </a:lnTo>
                <a:lnTo>
                  <a:pt x="300" y="0"/>
                </a:lnTo>
                <a:lnTo>
                  <a:pt x="196" y="222"/>
                </a:lnTo>
                <a:lnTo>
                  <a:pt x="53" y="222"/>
                </a:lnTo>
                <a:lnTo>
                  <a:pt x="0" y="209"/>
                </a:lnTo>
                <a:lnTo>
                  <a:pt x="0" y="3362"/>
                </a:lnTo>
                <a:lnTo>
                  <a:pt x="3176" y="3362"/>
                </a:lnTo>
                <a:lnTo>
                  <a:pt x="3189" y="3375"/>
                </a:lnTo>
                <a:lnTo>
                  <a:pt x="3189" y="337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30560" y="2173320"/>
            <a:ext cx="2832120" cy="4887720"/>
          </a:xfrm>
          <a:prstGeom prst="line">
            <a:avLst/>
          </a:prstGeom>
          <a:ln w="507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431640" y="340920"/>
            <a:ext cx="9453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presupuestaria de Jua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917640" y="1577880"/>
            <a:ext cx="7102440" cy="5486400"/>
            <a:chOff x="917640" y="1577880"/>
            <a:chExt cx="7102440" cy="5486400"/>
          </a:xfrm>
        </p:grpSpPr>
        <p:sp>
          <p:nvSpPr>
            <p:cNvPr id="1408" name=""/>
            <p:cNvSpPr/>
            <p:nvPr/>
          </p:nvSpPr>
          <p:spPr>
            <a:xfrm>
              <a:off x="917640" y="7064280"/>
              <a:ext cx="710244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917640" y="1577880"/>
              <a:ext cx="0" cy="5486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917640" y="2614680"/>
            <a:ext cx="2458800" cy="4408560"/>
          </a:xfrm>
          <a:custGeom>
            <a:avLst/>
            <a:gdLst/>
            <a:ahLst/>
            <a:rect l="l" t="t" r="r" b="b"/>
            <a:pathLst>
              <a:path w="1549" h="2777">
                <a:moveTo>
                  <a:pt x="0" y="0"/>
                </a:moveTo>
                <a:lnTo>
                  <a:pt x="1548" y="0"/>
                </a:lnTo>
                <a:lnTo>
                  <a:pt x="1548" y="2776"/>
                </a:lnTo>
              </a:path>
            </a:pathLst>
          </a:custGeom>
          <a:noFill/>
          <a:ln w="63360">
            <a:solidFill>
              <a:srgbClr val="00c1c2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299440" y="6788160"/>
            <a:ext cx="53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048120" y="701028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8600" y="236232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9480" y="9144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80880" y="693432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63680" y="2133720"/>
            <a:ext cx="56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84280" y="762120"/>
            <a:ext cx="94536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 optimización de Jua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11600" y="2054160"/>
            <a:ext cx="2857320" cy="3279960"/>
          </a:xfrm>
          <a:custGeom>
            <a:avLst/>
            <a:gdLst/>
            <a:ahLst/>
            <a:rect l="l" t="t" r="r" b="b"/>
            <a:pathLst>
              <a:path w="1800" h="2066">
                <a:moveTo>
                  <a:pt x="0" y="0"/>
                </a:moveTo>
                <a:lnTo>
                  <a:pt x="0" y="18"/>
                </a:lnTo>
                <a:lnTo>
                  <a:pt x="2" y="31"/>
                </a:lnTo>
                <a:lnTo>
                  <a:pt x="2" y="42"/>
                </a:lnTo>
                <a:lnTo>
                  <a:pt x="4" y="51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1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7" y="84"/>
                </a:lnTo>
                <a:lnTo>
                  <a:pt x="7" y="91"/>
                </a:lnTo>
                <a:lnTo>
                  <a:pt x="9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7" y="157"/>
                </a:lnTo>
                <a:lnTo>
                  <a:pt x="20" y="178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7" y="274"/>
                </a:lnTo>
                <a:lnTo>
                  <a:pt x="43" y="300"/>
                </a:lnTo>
                <a:lnTo>
                  <a:pt x="48" y="327"/>
                </a:lnTo>
                <a:lnTo>
                  <a:pt x="54" y="353"/>
                </a:lnTo>
                <a:lnTo>
                  <a:pt x="59" y="381"/>
                </a:lnTo>
                <a:lnTo>
                  <a:pt x="65" y="407"/>
                </a:lnTo>
                <a:lnTo>
                  <a:pt x="70" y="432"/>
                </a:lnTo>
                <a:lnTo>
                  <a:pt x="76" y="457"/>
                </a:lnTo>
                <a:lnTo>
                  <a:pt x="81" y="482"/>
                </a:lnTo>
                <a:lnTo>
                  <a:pt x="86" y="509"/>
                </a:lnTo>
                <a:lnTo>
                  <a:pt x="93" y="536"/>
                </a:lnTo>
                <a:lnTo>
                  <a:pt x="100" y="563"/>
                </a:lnTo>
                <a:lnTo>
                  <a:pt x="107" y="592"/>
                </a:lnTo>
                <a:lnTo>
                  <a:pt x="115" y="620"/>
                </a:lnTo>
                <a:lnTo>
                  <a:pt x="122" y="648"/>
                </a:lnTo>
                <a:lnTo>
                  <a:pt x="130" y="675"/>
                </a:lnTo>
                <a:lnTo>
                  <a:pt x="137" y="703"/>
                </a:lnTo>
                <a:lnTo>
                  <a:pt x="144" y="729"/>
                </a:lnTo>
                <a:lnTo>
                  <a:pt x="152" y="754"/>
                </a:lnTo>
                <a:lnTo>
                  <a:pt x="160" y="776"/>
                </a:lnTo>
                <a:lnTo>
                  <a:pt x="165" y="798"/>
                </a:lnTo>
                <a:lnTo>
                  <a:pt x="172" y="816"/>
                </a:lnTo>
                <a:lnTo>
                  <a:pt x="178" y="832"/>
                </a:lnTo>
                <a:lnTo>
                  <a:pt x="184" y="846"/>
                </a:lnTo>
                <a:lnTo>
                  <a:pt x="188" y="859"/>
                </a:lnTo>
                <a:lnTo>
                  <a:pt x="194" y="874"/>
                </a:lnTo>
                <a:lnTo>
                  <a:pt x="200" y="890"/>
                </a:lnTo>
                <a:lnTo>
                  <a:pt x="208" y="907"/>
                </a:lnTo>
                <a:lnTo>
                  <a:pt x="215" y="927"/>
                </a:lnTo>
                <a:lnTo>
                  <a:pt x="223" y="947"/>
                </a:lnTo>
                <a:lnTo>
                  <a:pt x="231" y="967"/>
                </a:lnTo>
                <a:lnTo>
                  <a:pt x="241" y="987"/>
                </a:lnTo>
                <a:lnTo>
                  <a:pt x="248" y="1010"/>
                </a:lnTo>
                <a:lnTo>
                  <a:pt x="258" y="1031"/>
                </a:lnTo>
                <a:lnTo>
                  <a:pt x="266" y="1052"/>
                </a:lnTo>
                <a:lnTo>
                  <a:pt x="275" y="1073"/>
                </a:lnTo>
                <a:lnTo>
                  <a:pt x="282" y="1093"/>
                </a:lnTo>
                <a:lnTo>
                  <a:pt x="291" y="1112"/>
                </a:lnTo>
                <a:lnTo>
                  <a:pt x="299" y="1130"/>
                </a:lnTo>
                <a:lnTo>
                  <a:pt x="307" y="1146"/>
                </a:lnTo>
                <a:lnTo>
                  <a:pt x="313" y="1164"/>
                </a:lnTo>
                <a:lnTo>
                  <a:pt x="320" y="1181"/>
                </a:lnTo>
                <a:lnTo>
                  <a:pt x="328" y="1200"/>
                </a:lnTo>
                <a:lnTo>
                  <a:pt x="337" y="1219"/>
                </a:lnTo>
                <a:lnTo>
                  <a:pt x="345" y="1239"/>
                </a:lnTo>
                <a:lnTo>
                  <a:pt x="354" y="1259"/>
                </a:lnTo>
                <a:lnTo>
                  <a:pt x="363" y="1279"/>
                </a:lnTo>
                <a:lnTo>
                  <a:pt x="372" y="1298"/>
                </a:lnTo>
                <a:lnTo>
                  <a:pt x="380" y="1318"/>
                </a:lnTo>
                <a:lnTo>
                  <a:pt x="388" y="1337"/>
                </a:lnTo>
                <a:lnTo>
                  <a:pt x="396" y="1356"/>
                </a:lnTo>
                <a:lnTo>
                  <a:pt x="405" y="1372"/>
                </a:lnTo>
                <a:lnTo>
                  <a:pt x="411" y="1388"/>
                </a:lnTo>
                <a:lnTo>
                  <a:pt x="418" y="1403"/>
                </a:lnTo>
                <a:lnTo>
                  <a:pt x="424" y="1416"/>
                </a:lnTo>
                <a:lnTo>
                  <a:pt x="431" y="1426"/>
                </a:lnTo>
                <a:lnTo>
                  <a:pt x="436" y="1438"/>
                </a:lnTo>
                <a:lnTo>
                  <a:pt x="442" y="1450"/>
                </a:lnTo>
                <a:lnTo>
                  <a:pt x="448" y="1463"/>
                </a:lnTo>
                <a:lnTo>
                  <a:pt x="456" y="1476"/>
                </a:lnTo>
                <a:lnTo>
                  <a:pt x="464" y="1492"/>
                </a:lnTo>
                <a:lnTo>
                  <a:pt x="474" y="1506"/>
                </a:lnTo>
                <a:lnTo>
                  <a:pt x="483" y="1522"/>
                </a:lnTo>
                <a:lnTo>
                  <a:pt x="493" y="1536"/>
                </a:lnTo>
                <a:lnTo>
                  <a:pt x="502" y="1553"/>
                </a:lnTo>
                <a:lnTo>
                  <a:pt x="512" y="1568"/>
                </a:lnTo>
                <a:lnTo>
                  <a:pt x="522" y="1582"/>
                </a:lnTo>
                <a:lnTo>
                  <a:pt x="533" y="1596"/>
                </a:lnTo>
                <a:lnTo>
                  <a:pt x="542" y="1611"/>
                </a:lnTo>
                <a:lnTo>
                  <a:pt x="552" y="1623"/>
                </a:lnTo>
                <a:lnTo>
                  <a:pt x="561" y="1635"/>
                </a:lnTo>
                <a:lnTo>
                  <a:pt x="570" y="1646"/>
                </a:lnTo>
                <a:lnTo>
                  <a:pt x="578" y="1657"/>
                </a:lnTo>
                <a:lnTo>
                  <a:pt x="588" y="1668"/>
                </a:lnTo>
                <a:lnTo>
                  <a:pt x="598" y="1680"/>
                </a:lnTo>
                <a:lnTo>
                  <a:pt x="610" y="1692"/>
                </a:lnTo>
                <a:lnTo>
                  <a:pt x="621" y="1705"/>
                </a:lnTo>
                <a:lnTo>
                  <a:pt x="632" y="1717"/>
                </a:lnTo>
                <a:lnTo>
                  <a:pt x="644" y="1730"/>
                </a:lnTo>
                <a:lnTo>
                  <a:pt x="657" y="1741"/>
                </a:lnTo>
                <a:lnTo>
                  <a:pt x="668" y="1754"/>
                </a:lnTo>
                <a:lnTo>
                  <a:pt x="680" y="1766"/>
                </a:lnTo>
                <a:lnTo>
                  <a:pt x="692" y="1777"/>
                </a:lnTo>
                <a:lnTo>
                  <a:pt x="704" y="1788"/>
                </a:lnTo>
                <a:lnTo>
                  <a:pt x="714" y="1798"/>
                </a:lnTo>
                <a:lnTo>
                  <a:pt x="726" y="1807"/>
                </a:lnTo>
                <a:lnTo>
                  <a:pt x="735" y="1815"/>
                </a:lnTo>
                <a:lnTo>
                  <a:pt x="745" y="1822"/>
                </a:lnTo>
                <a:lnTo>
                  <a:pt x="752" y="1830"/>
                </a:lnTo>
                <a:lnTo>
                  <a:pt x="761" y="1836"/>
                </a:lnTo>
                <a:lnTo>
                  <a:pt x="768" y="1843"/>
                </a:lnTo>
                <a:lnTo>
                  <a:pt x="778" y="1849"/>
                </a:lnTo>
                <a:lnTo>
                  <a:pt x="786" y="1856"/>
                </a:lnTo>
                <a:lnTo>
                  <a:pt x="795" y="1862"/>
                </a:lnTo>
                <a:lnTo>
                  <a:pt x="804" y="1869"/>
                </a:lnTo>
                <a:lnTo>
                  <a:pt x="813" y="1874"/>
                </a:lnTo>
                <a:lnTo>
                  <a:pt x="820" y="1881"/>
                </a:lnTo>
                <a:lnTo>
                  <a:pt x="828" y="1886"/>
                </a:lnTo>
                <a:lnTo>
                  <a:pt x="835" y="1892"/>
                </a:lnTo>
                <a:lnTo>
                  <a:pt x="843" y="1896"/>
                </a:lnTo>
                <a:lnTo>
                  <a:pt x="848" y="1902"/>
                </a:lnTo>
                <a:lnTo>
                  <a:pt x="854" y="1905"/>
                </a:lnTo>
                <a:lnTo>
                  <a:pt x="858" y="1908"/>
                </a:lnTo>
                <a:lnTo>
                  <a:pt x="863" y="1910"/>
                </a:lnTo>
                <a:lnTo>
                  <a:pt x="865" y="1913"/>
                </a:lnTo>
                <a:lnTo>
                  <a:pt x="869" y="1915"/>
                </a:lnTo>
                <a:lnTo>
                  <a:pt x="873" y="1918"/>
                </a:lnTo>
                <a:lnTo>
                  <a:pt x="879" y="1920"/>
                </a:lnTo>
                <a:lnTo>
                  <a:pt x="884" y="1924"/>
                </a:lnTo>
                <a:lnTo>
                  <a:pt x="890" y="1926"/>
                </a:lnTo>
                <a:lnTo>
                  <a:pt x="896" y="1930"/>
                </a:lnTo>
                <a:lnTo>
                  <a:pt x="904" y="1932"/>
                </a:lnTo>
                <a:lnTo>
                  <a:pt x="910" y="1936"/>
                </a:lnTo>
                <a:lnTo>
                  <a:pt x="917" y="1940"/>
                </a:lnTo>
                <a:lnTo>
                  <a:pt x="924" y="1943"/>
                </a:lnTo>
                <a:lnTo>
                  <a:pt x="932" y="1945"/>
                </a:lnTo>
                <a:lnTo>
                  <a:pt x="938" y="1949"/>
                </a:lnTo>
                <a:lnTo>
                  <a:pt x="946" y="1951"/>
                </a:lnTo>
                <a:lnTo>
                  <a:pt x="953" y="1955"/>
                </a:lnTo>
                <a:lnTo>
                  <a:pt x="960" y="1957"/>
                </a:lnTo>
                <a:lnTo>
                  <a:pt x="966" y="1961"/>
                </a:lnTo>
                <a:lnTo>
                  <a:pt x="974" y="1963"/>
                </a:lnTo>
                <a:lnTo>
                  <a:pt x="982" y="1967"/>
                </a:lnTo>
                <a:lnTo>
                  <a:pt x="992" y="1969"/>
                </a:lnTo>
                <a:lnTo>
                  <a:pt x="1002" y="1972"/>
                </a:lnTo>
                <a:lnTo>
                  <a:pt x="1013" y="1976"/>
                </a:lnTo>
                <a:lnTo>
                  <a:pt x="1024" y="1980"/>
                </a:lnTo>
                <a:lnTo>
                  <a:pt x="1038" y="1982"/>
                </a:lnTo>
                <a:lnTo>
                  <a:pt x="1049" y="1986"/>
                </a:lnTo>
                <a:lnTo>
                  <a:pt x="1060" y="1990"/>
                </a:lnTo>
                <a:lnTo>
                  <a:pt x="1072" y="1994"/>
                </a:lnTo>
                <a:lnTo>
                  <a:pt x="1085" y="1997"/>
                </a:lnTo>
                <a:lnTo>
                  <a:pt x="1096" y="2001"/>
                </a:lnTo>
                <a:lnTo>
                  <a:pt x="1108" y="2004"/>
                </a:lnTo>
                <a:lnTo>
                  <a:pt x="1119" y="2007"/>
                </a:lnTo>
                <a:lnTo>
                  <a:pt x="1130" y="2009"/>
                </a:lnTo>
                <a:lnTo>
                  <a:pt x="1139" y="2012"/>
                </a:lnTo>
                <a:lnTo>
                  <a:pt x="1150" y="2014"/>
                </a:lnTo>
                <a:lnTo>
                  <a:pt x="1162" y="2018"/>
                </a:lnTo>
                <a:lnTo>
                  <a:pt x="1175" y="2019"/>
                </a:lnTo>
                <a:lnTo>
                  <a:pt x="1187" y="2023"/>
                </a:lnTo>
                <a:lnTo>
                  <a:pt x="1200" y="2025"/>
                </a:lnTo>
                <a:lnTo>
                  <a:pt x="1214" y="2028"/>
                </a:lnTo>
                <a:lnTo>
                  <a:pt x="1228" y="2029"/>
                </a:lnTo>
                <a:lnTo>
                  <a:pt x="1240" y="2033"/>
                </a:lnTo>
                <a:lnTo>
                  <a:pt x="1254" y="2035"/>
                </a:lnTo>
                <a:lnTo>
                  <a:pt x="1266" y="2038"/>
                </a:lnTo>
                <a:lnTo>
                  <a:pt x="1279" y="2039"/>
                </a:lnTo>
                <a:lnTo>
                  <a:pt x="1290" y="2041"/>
                </a:lnTo>
                <a:lnTo>
                  <a:pt x="1302" y="2043"/>
                </a:lnTo>
                <a:lnTo>
                  <a:pt x="1311" y="2045"/>
                </a:lnTo>
                <a:lnTo>
                  <a:pt x="1321" y="2045"/>
                </a:lnTo>
                <a:lnTo>
                  <a:pt x="1329" y="2047"/>
                </a:lnTo>
                <a:lnTo>
                  <a:pt x="1339" y="2048"/>
                </a:lnTo>
                <a:lnTo>
                  <a:pt x="1350" y="2049"/>
                </a:lnTo>
                <a:lnTo>
                  <a:pt x="1361" y="2049"/>
                </a:lnTo>
                <a:lnTo>
                  <a:pt x="1373" y="2051"/>
                </a:lnTo>
                <a:lnTo>
                  <a:pt x="1386" y="2051"/>
                </a:lnTo>
                <a:lnTo>
                  <a:pt x="1400" y="2053"/>
                </a:lnTo>
                <a:lnTo>
                  <a:pt x="1414" y="2053"/>
                </a:lnTo>
                <a:lnTo>
                  <a:pt x="1428" y="2055"/>
                </a:lnTo>
                <a:lnTo>
                  <a:pt x="1441" y="2056"/>
                </a:lnTo>
                <a:lnTo>
                  <a:pt x="1454" y="2058"/>
                </a:lnTo>
                <a:lnTo>
                  <a:pt x="1469" y="2058"/>
                </a:lnTo>
                <a:lnTo>
                  <a:pt x="1480" y="2059"/>
                </a:lnTo>
                <a:lnTo>
                  <a:pt x="1494" y="2059"/>
                </a:lnTo>
                <a:lnTo>
                  <a:pt x="1505" y="2060"/>
                </a:lnTo>
                <a:lnTo>
                  <a:pt x="1517" y="2060"/>
                </a:lnTo>
                <a:lnTo>
                  <a:pt x="1527" y="2062"/>
                </a:lnTo>
                <a:lnTo>
                  <a:pt x="1538" y="2062"/>
                </a:lnTo>
                <a:lnTo>
                  <a:pt x="1550" y="2062"/>
                </a:lnTo>
                <a:lnTo>
                  <a:pt x="1563" y="2062"/>
                </a:lnTo>
                <a:lnTo>
                  <a:pt x="1576" y="2064"/>
                </a:lnTo>
                <a:lnTo>
                  <a:pt x="1589" y="2064"/>
                </a:lnTo>
                <a:lnTo>
                  <a:pt x="1602" y="2064"/>
                </a:lnTo>
                <a:lnTo>
                  <a:pt x="1617" y="2064"/>
                </a:lnTo>
                <a:lnTo>
                  <a:pt x="1630" y="2065"/>
                </a:lnTo>
                <a:lnTo>
                  <a:pt x="1644" y="2065"/>
                </a:lnTo>
                <a:lnTo>
                  <a:pt x="1656" y="2065"/>
                </a:lnTo>
                <a:lnTo>
                  <a:pt x="1670" y="2065"/>
                </a:lnTo>
                <a:lnTo>
                  <a:pt x="1681" y="2065"/>
                </a:lnTo>
                <a:lnTo>
                  <a:pt x="1692" y="2065"/>
                </a:lnTo>
                <a:lnTo>
                  <a:pt x="1702" y="2065"/>
                </a:lnTo>
                <a:lnTo>
                  <a:pt x="1712" y="2065"/>
                </a:lnTo>
                <a:lnTo>
                  <a:pt x="1718" y="2065"/>
                </a:lnTo>
                <a:lnTo>
                  <a:pt x="1724" y="2065"/>
                </a:lnTo>
                <a:lnTo>
                  <a:pt x="1727" y="2065"/>
                </a:lnTo>
                <a:lnTo>
                  <a:pt x="1731" y="2065"/>
                </a:lnTo>
                <a:lnTo>
                  <a:pt x="1733" y="2065"/>
                </a:lnTo>
                <a:lnTo>
                  <a:pt x="1734" y="2065"/>
                </a:lnTo>
                <a:lnTo>
                  <a:pt x="1736" y="2065"/>
                </a:lnTo>
                <a:lnTo>
                  <a:pt x="1738" y="2065"/>
                </a:lnTo>
                <a:lnTo>
                  <a:pt x="1740" y="2065"/>
                </a:lnTo>
                <a:lnTo>
                  <a:pt x="1743" y="2065"/>
                </a:lnTo>
                <a:lnTo>
                  <a:pt x="1748" y="2065"/>
                </a:lnTo>
                <a:lnTo>
                  <a:pt x="1754" y="2065"/>
                </a:lnTo>
                <a:lnTo>
                  <a:pt x="1761" y="2065"/>
                </a:lnTo>
                <a:lnTo>
                  <a:pt x="1771" y="2065"/>
                </a:lnTo>
                <a:lnTo>
                  <a:pt x="1783" y="2065"/>
                </a:lnTo>
                <a:lnTo>
                  <a:pt x="1799" y="2065"/>
                </a:lnTo>
              </a:path>
            </a:pathLst>
          </a:custGeom>
          <a:noFill/>
          <a:ln w="5724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352680" y="2317680"/>
            <a:ext cx="3121200" cy="3592440"/>
          </a:xfrm>
          <a:custGeom>
            <a:avLst/>
            <a:gdLst/>
            <a:ahLst/>
            <a:rect l="l" t="t" r="r" b="b"/>
            <a:pathLst>
              <a:path w="1966" h="2263">
                <a:moveTo>
                  <a:pt x="0" y="0"/>
                </a:moveTo>
                <a:lnTo>
                  <a:pt x="0" y="19"/>
                </a:lnTo>
                <a:lnTo>
                  <a:pt x="2" y="34"/>
                </a:lnTo>
                <a:lnTo>
                  <a:pt x="2" y="46"/>
                </a:lnTo>
                <a:lnTo>
                  <a:pt x="4" y="55"/>
                </a:lnTo>
                <a:lnTo>
                  <a:pt x="4" y="62"/>
                </a:lnTo>
                <a:lnTo>
                  <a:pt x="5" y="68"/>
                </a:lnTo>
                <a:lnTo>
                  <a:pt x="5" y="72"/>
                </a:lnTo>
                <a:lnTo>
                  <a:pt x="7" y="74"/>
                </a:lnTo>
                <a:lnTo>
                  <a:pt x="7" y="77"/>
                </a:lnTo>
                <a:lnTo>
                  <a:pt x="7" y="79"/>
                </a:lnTo>
                <a:lnTo>
                  <a:pt x="7" y="81"/>
                </a:lnTo>
                <a:lnTo>
                  <a:pt x="7" y="83"/>
                </a:lnTo>
                <a:lnTo>
                  <a:pt x="7" y="88"/>
                </a:lnTo>
                <a:lnTo>
                  <a:pt x="8" y="92"/>
                </a:lnTo>
                <a:lnTo>
                  <a:pt x="9" y="99"/>
                </a:lnTo>
                <a:lnTo>
                  <a:pt x="10" y="107"/>
                </a:lnTo>
                <a:lnTo>
                  <a:pt x="11" y="119"/>
                </a:lnTo>
                <a:lnTo>
                  <a:pt x="13" y="134"/>
                </a:lnTo>
                <a:lnTo>
                  <a:pt x="16" y="152"/>
                </a:lnTo>
                <a:lnTo>
                  <a:pt x="19" y="171"/>
                </a:lnTo>
                <a:lnTo>
                  <a:pt x="22" y="194"/>
                </a:lnTo>
                <a:lnTo>
                  <a:pt x="27" y="218"/>
                </a:lnTo>
                <a:lnTo>
                  <a:pt x="31" y="244"/>
                </a:lnTo>
                <a:lnTo>
                  <a:pt x="37" y="270"/>
                </a:lnTo>
                <a:lnTo>
                  <a:pt x="42" y="299"/>
                </a:lnTo>
                <a:lnTo>
                  <a:pt x="47" y="327"/>
                </a:lnTo>
                <a:lnTo>
                  <a:pt x="53" y="357"/>
                </a:lnTo>
                <a:lnTo>
                  <a:pt x="58" y="386"/>
                </a:lnTo>
                <a:lnTo>
                  <a:pt x="64" y="416"/>
                </a:lnTo>
                <a:lnTo>
                  <a:pt x="70" y="445"/>
                </a:lnTo>
                <a:lnTo>
                  <a:pt x="76" y="473"/>
                </a:lnTo>
                <a:lnTo>
                  <a:pt x="83" y="500"/>
                </a:lnTo>
                <a:lnTo>
                  <a:pt x="88" y="528"/>
                </a:lnTo>
                <a:lnTo>
                  <a:pt x="95" y="557"/>
                </a:lnTo>
                <a:lnTo>
                  <a:pt x="102" y="587"/>
                </a:lnTo>
                <a:lnTo>
                  <a:pt x="110" y="617"/>
                </a:lnTo>
                <a:lnTo>
                  <a:pt x="117" y="649"/>
                </a:lnTo>
                <a:lnTo>
                  <a:pt x="126" y="680"/>
                </a:lnTo>
                <a:lnTo>
                  <a:pt x="134" y="710"/>
                </a:lnTo>
                <a:lnTo>
                  <a:pt x="143" y="740"/>
                </a:lnTo>
                <a:lnTo>
                  <a:pt x="150" y="770"/>
                </a:lnTo>
                <a:lnTo>
                  <a:pt x="158" y="799"/>
                </a:lnTo>
                <a:lnTo>
                  <a:pt x="166" y="826"/>
                </a:lnTo>
                <a:lnTo>
                  <a:pt x="175" y="850"/>
                </a:lnTo>
                <a:lnTo>
                  <a:pt x="181" y="874"/>
                </a:lnTo>
                <a:lnTo>
                  <a:pt x="188" y="894"/>
                </a:lnTo>
                <a:lnTo>
                  <a:pt x="194" y="912"/>
                </a:lnTo>
                <a:lnTo>
                  <a:pt x="202" y="926"/>
                </a:lnTo>
                <a:lnTo>
                  <a:pt x="206" y="942"/>
                </a:lnTo>
                <a:lnTo>
                  <a:pt x="213" y="958"/>
                </a:lnTo>
                <a:lnTo>
                  <a:pt x="220" y="976"/>
                </a:lnTo>
                <a:lnTo>
                  <a:pt x="228" y="995"/>
                </a:lnTo>
                <a:lnTo>
                  <a:pt x="236" y="1017"/>
                </a:lnTo>
                <a:lnTo>
                  <a:pt x="245" y="1038"/>
                </a:lnTo>
                <a:lnTo>
                  <a:pt x="254" y="1061"/>
                </a:lnTo>
                <a:lnTo>
                  <a:pt x="264" y="1083"/>
                </a:lnTo>
                <a:lnTo>
                  <a:pt x="273" y="1107"/>
                </a:lnTo>
                <a:lnTo>
                  <a:pt x="282" y="1130"/>
                </a:lnTo>
                <a:lnTo>
                  <a:pt x="292" y="1152"/>
                </a:lnTo>
                <a:lnTo>
                  <a:pt x="302" y="1175"/>
                </a:lnTo>
                <a:lnTo>
                  <a:pt x="310" y="1198"/>
                </a:lnTo>
                <a:lnTo>
                  <a:pt x="319" y="1218"/>
                </a:lnTo>
                <a:lnTo>
                  <a:pt x="328" y="1238"/>
                </a:lnTo>
                <a:lnTo>
                  <a:pt x="336" y="1255"/>
                </a:lnTo>
                <a:lnTo>
                  <a:pt x="343" y="1274"/>
                </a:lnTo>
                <a:lnTo>
                  <a:pt x="351" y="1294"/>
                </a:lnTo>
                <a:lnTo>
                  <a:pt x="359" y="1314"/>
                </a:lnTo>
                <a:lnTo>
                  <a:pt x="369" y="1335"/>
                </a:lnTo>
                <a:lnTo>
                  <a:pt x="378" y="1357"/>
                </a:lnTo>
                <a:lnTo>
                  <a:pt x="388" y="1378"/>
                </a:lnTo>
                <a:lnTo>
                  <a:pt x="397" y="1401"/>
                </a:lnTo>
                <a:lnTo>
                  <a:pt x="407" y="1422"/>
                </a:lnTo>
                <a:lnTo>
                  <a:pt x="416" y="1443"/>
                </a:lnTo>
                <a:lnTo>
                  <a:pt x="426" y="1464"/>
                </a:lnTo>
                <a:lnTo>
                  <a:pt x="434" y="1484"/>
                </a:lnTo>
                <a:lnTo>
                  <a:pt x="443" y="1503"/>
                </a:lnTo>
                <a:lnTo>
                  <a:pt x="450" y="1520"/>
                </a:lnTo>
                <a:lnTo>
                  <a:pt x="458" y="1536"/>
                </a:lnTo>
                <a:lnTo>
                  <a:pt x="465" y="1550"/>
                </a:lnTo>
                <a:lnTo>
                  <a:pt x="472" y="1562"/>
                </a:lnTo>
                <a:lnTo>
                  <a:pt x="477" y="1574"/>
                </a:lnTo>
                <a:lnTo>
                  <a:pt x="483" y="1588"/>
                </a:lnTo>
                <a:lnTo>
                  <a:pt x="490" y="1602"/>
                </a:lnTo>
                <a:lnTo>
                  <a:pt x="500" y="1616"/>
                </a:lnTo>
                <a:lnTo>
                  <a:pt x="508" y="1633"/>
                </a:lnTo>
                <a:lnTo>
                  <a:pt x="518" y="1649"/>
                </a:lnTo>
                <a:lnTo>
                  <a:pt x="528" y="1666"/>
                </a:lnTo>
                <a:lnTo>
                  <a:pt x="540" y="1682"/>
                </a:lnTo>
                <a:lnTo>
                  <a:pt x="550" y="1698"/>
                </a:lnTo>
                <a:lnTo>
                  <a:pt x="561" y="1716"/>
                </a:lnTo>
                <a:lnTo>
                  <a:pt x="572" y="1732"/>
                </a:lnTo>
                <a:lnTo>
                  <a:pt x="583" y="1748"/>
                </a:lnTo>
                <a:lnTo>
                  <a:pt x="593" y="1764"/>
                </a:lnTo>
                <a:lnTo>
                  <a:pt x="604" y="1778"/>
                </a:lnTo>
                <a:lnTo>
                  <a:pt x="613" y="1791"/>
                </a:lnTo>
                <a:lnTo>
                  <a:pt x="624" y="1802"/>
                </a:lnTo>
                <a:lnTo>
                  <a:pt x="633" y="1815"/>
                </a:lnTo>
                <a:lnTo>
                  <a:pt x="643" y="1826"/>
                </a:lnTo>
                <a:lnTo>
                  <a:pt x="654" y="1840"/>
                </a:lnTo>
                <a:lnTo>
                  <a:pt x="666" y="1853"/>
                </a:lnTo>
                <a:lnTo>
                  <a:pt x="678" y="1867"/>
                </a:lnTo>
                <a:lnTo>
                  <a:pt x="691" y="1880"/>
                </a:lnTo>
                <a:lnTo>
                  <a:pt x="704" y="1894"/>
                </a:lnTo>
                <a:lnTo>
                  <a:pt x="719" y="1907"/>
                </a:lnTo>
                <a:lnTo>
                  <a:pt x="731" y="1921"/>
                </a:lnTo>
                <a:lnTo>
                  <a:pt x="744" y="1934"/>
                </a:lnTo>
                <a:lnTo>
                  <a:pt x="757" y="1947"/>
                </a:lnTo>
                <a:lnTo>
                  <a:pt x="770" y="1958"/>
                </a:lnTo>
                <a:lnTo>
                  <a:pt x="781" y="1970"/>
                </a:lnTo>
                <a:lnTo>
                  <a:pt x="794" y="1980"/>
                </a:lnTo>
                <a:lnTo>
                  <a:pt x="804" y="1989"/>
                </a:lnTo>
                <a:lnTo>
                  <a:pt x="814" y="1996"/>
                </a:lnTo>
                <a:lnTo>
                  <a:pt x="822" y="2004"/>
                </a:lnTo>
                <a:lnTo>
                  <a:pt x="832" y="2011"/>
                </a:lnTo>
                <a:lnTo>
                  <a:pt x="841" y="2019"/>
                </a:lnTo>
                <a:lnTo>
                  <a:pt x="850" y="2026"/>
                </a:lnTo>
                <a:lnTo>
                  <a:pt x="860" y="2033"/>
                </a:lnTo>
                <a:lnTo>
                  <a:pt x="869" y="2040"/>
                </a:lnTo>
                <a:lnTo>
                  <a:pt x="878" y="2048"/>
                </a:lnTo>
                <a:lnTo>
                  <a:pt x="889" y="2054"/>
                </a:lnTo>
                <a:lnTo>
                  <a:pt x="896" y="2061"/>
                </a:lnTo>
                <a:lnTo>
                  <a:pt x="906" y="2067"/>
                </a:lnTo>
                <a:lnTo>
                  <a:pt x="914" y="2072"/>
                </a:lnTo>
                <a:lnTo>
                  <a:pt x="922" y="2077"/>
                </a:lnTo>
                <a:lnTo>
                  <a:pt x="927" y="2083"/>
                </a:lnTo>
                <a:lnTo>
                  <a:pt x="934" y="2087"/>
                </a:lnTo>
                <a:lnTo>
                  <a:pt x="938" y="2090"/>
                </a:lnTo>
                <a:lnTo>
                  <a:pt x="943" y="2092"/>
                </a:lnTo>
                <a:lnTo>
                  <a:pt x="946" y="2095"/>
                </a:lnTo>
                <a:lnTo>
                  <a:pt x="950" y="2097"/>
                </a:lnTo>
                <a:lnTo>
                  <a:pt x="955" y="2100"/>
                </a:lnTo>
                <a:lnTo>
                  <a:pt x="960" y="2102"/>
                </a:lnTo>
                <a:lnTo>
                  <a:pt x="966" y="2106"/>
                </a:lnTo>
                <a:lnTo>
                  <a:pt x="973" y="2109"/>
                </a:lnTo>
                <a:lnTo>
                  <a:pt x="980" y="2113"/>
                </a:lnTo>
                <a:lnTo>
                  <a:pt x="988" y="2116"/>
                </a:lnTo>
                <a:lnTo>
                  <a:pt x="995" y="2119"/>
                </a:lnTo>
                <a:lnTo>
                  <a:pt x="1003" y="2123"/>
                </a:lnTo>
                <a:lnTo>
                  <a:pt x="1010" y="2127"/>
                </a:lnTo>
                <a:lnTo>
                  <a:pt x="1018" y="2130"/>
                </a:lnTo>
                <a:lnTo>
                  <a:pt x="1026" y="2134"/>
                </a:lnTo>
                <a:lnTo>
                  <a:pt x="1033" y="2137"/>
                </a:lnTo>
                <a:lnTo>
                  <a:pt x="1041" y="2141"/>
                </a:lnTo>
                <a:lnTo>
                  <a:pt x="1048" y="2143"/>
                </a:lnTo>
                <a:lnTo>
                  <a:pt x="1055" y="2147"/>
                </a:lnTo>
                <a:lnTo>
                  <a:pt x="1064" y="2150"/>
                </a:lnTo>
                <a:lnTo>
                  <a:pt x="1073" y="2154"/>
                </a:lnTo>
                <a:lnTo>
                  <a:pt x="1084" y="2156"/>
                </a:lnTo>
                <a:lnTo>
                  <a:pt x="1096" y="2160"/>
                </a:lnTo>
                <a:lnTo>
                  <a:pt x="1108" y="2164"/>
                </a:lnTo>
                <a:lnTo>
                  <a:pt x="1121" y="2167"/>
                </a:lnTo>
                <a:lnTo>
                  <a:pt x="1134" y="2171"/>
                </a:lnTo>
                <a:lnTo>
                  <a:pt x="1147" y="2175"/>
                </a:lnTo>
                <a:lnTo>
                  <a:pt x="1160" y="2179"/>
                </a:lnTo>
                <a:lnTo>
                  <a:pt x="1173" y="2183"/>
                </a:lnTo>
                <a:lnTo>
                  <a:pt x="1186" y="2186"/>
                </a:lnTo>
                <a:lnTo>
                  <a:pt x="1198" y="2190"/>
                </a:lnTo>
                <a:lnTo>
                  <a:pt x="1211" y="2194"/>
                </a:lnTo>
                <a:lnTo>
                  <a:pt x="1222" y="2197"/>
                </a:lnTo>
                <a:lnTo>
                  <a:pt x="1234" y="2199"/>
                </a:lnTo>
                <a:lnTo>
                  <a:pt x="1245" y="2203"/>
                </a:lnTo>
                <a:lnTo>
                  <a:pt x="1257" y="2205"/>
                </a:lnTo>
                <a:lnTo>
                  <a:pt x="1269" y="2208"/>
                </a:lnTo>
                <a:lnTo>
                  <a:pt x="1283" y="2210"/>
                </a:lnTo>
                <a:lnTo>
                  <a:pt x="1296" y="2214"/>
                </a:lnTo>
                <a:lnTo>
                  <a:pt x="1311" y="2216"/>
                </a:lnTo>
                <a:lnTo>
                  <a:pt x="1326" y="2220"/>
                </a:lnTo>
                <a:lnTo>
                  <a:pt x="1341" y="2222"/>
                </a:lnTo>
                <a:lnTo>
                  <a:pt x="1354" y="2225"/>
                </a:lnTo>
                <a:lnTo>
                  <a:pt x="1369" y="2227"/>
                </a:lnTo>
                <a:lnTo>
                  <a:pt x="1383" y="2230"/>
                </a:lnTo>
                <a:lnTo>
                  <a:pt x="1397" y="2232"/>
                </a:lnTo>
                <a:lnTo>
                  <a:pt x="1409" y="2235"/>
                </a:lnTo>
                <a:lnTo>
                  <a:pt x="1421" y="2236"/>
                </a:lnTo>
                <a:lnTo>
                  <a:pt x="1431" y="2238"/>
                </a:lnTo>
                <a:lnTo>
                  <a:pt x="1442" y="2239"/>
                </a:lnTo>
                <a:lnTo>
                  <a:pt x="1451" y="2241"/>
                </a:lnTo>
                <a:lnTo>
                  <a:pt x="1462" y="2242"/>
                </a:lnTo>
                <a:lnTo>
                  <a:pt x="1474" y="2244"/>
                </a:lnTo>
                <a:lnTo>
                  <a:pt x="1487" y="2244"/>
                </a:lnTo>
                <a:lnTo>
                  <a:pt x="1500" y="2246"/>
                </a:lnTo>
                <a:lnTo>
                  <a:pt x="1514" y="2247"/>
                </a:lnTo>
                <a:lnTo>
                  <a:pt x="1529" y="2249"/>
                </a:lnTo>
                <a:lnTo>
                  <a:pt x="1544" y="2249"/>
                </a:lnTo>
                <a:lnTo>
                  <a:pt x="1559" y="2251"/>
                </a:lnTo>
                <a:lnTo>
                  <a:pt x="1574" y="2252"/>
                </a:lnTo>
                <a:lnTo>
                  <a:pt x="1589" y="2254"/>
                </a:lnTo>
                <a:lnTo>
                  <a:pt x="1604" y="2254"/>
                </a:lnTo>
                <a:lnTo>
                  <a:pt x="1617" y="2256"/>
                </a:lnTo>
                <a:lnTo>
                  <a:pt x="1631" y="2256"/>
                </a:lnTo>
                <a:lnTo>
                  <a:pt x="1644" y="2256"/>
                </a:lnTo>
                <a:lnTo>
                  <a:pt x="1656" y="2256"/>
                </a:lnTo>
                <a:lnTo>
                  <a:pt x="1667" y="2258"/>
                </a:lnTo>
                <a:lnTo>
                  <a:pt x="1679" y="2258"/>
                </a:lnTo>
                <a:lnTo>
                  <a:pt x="1692" y="2259"/>
                </a:lnTo>
                <a:lnTo>
                  <a:pt x="1706" y="2259"/>
                </a:lnTo>
                <a:lnTo>
                  <a:pt x="1720" y="2261"/>
                </a:lnTo>
                <a:lnTo>
                  <a:pt x="1735" y="2261"/>
                </a:lnTo>
                <a:lnTo>
                  <a:pt x="1750" y="2261"/>
                </a:lnTo>
                <a:lnTo>
                  <a:pt x="1765" y="2261"/>
                </a:lnTo>
                <a:lnTo>
                  <a:pt x="1779" y="2262"/>
                </a:lnTo>
                <a:lnTo>
                  <a:pt x="1794" y="2262"/>
                </a:lnTo>
                <a:lnTo>
                  <a:pt x="1808" y="2262"/>
                </a:lnTo>
                <a:lnTo>
                  <a:pt x="1822" y="2262"/>
                </a:lnTo>
                <a:lnTo>
                  <a:pt x="1834" y="2262"/>
                </a:lnTo>
                <a:lnTo>
                  <a:pt x="1846" y="2262"/>
                </a:lnTo>
                <a:lnTo>
                  <a:pt x="1858" y="2262"/>
                </a:lnTo>
                <a:lnTo>
                  <a:pt x="1868" y="2262"/>
                </a:lnTo>
                <a:lnTo>
                  <a:pt x="1875" y="2262"/>
                </a:lnTo>
                <a:lnTo>
                  <a:pt x="1881" y="2262"/>
                </a:lnTo>
                <a:lnTo>
                  <a:pt x="1886" y="2262"/>
                </a:lnTo>
                <a:lnTo>
                  <a:pt x="1889" y="2262"/>
                </a:lnTo>
                <a:lnTo>
                  <a:pt x="1891" y="2262"/>
                </a:lnTo>
                <a:lnTo>
                  <a:pt x="1893" y="2262"/>
                </a:lnTo>
                <a:lnTo>
                  <a:pt x="1895" y="2262"/>
                </a:lnTo>
                <a:lnTo>
                  <a:pt x="1898" y="2262"/>
                </a:lnTo>
                <a:lnTo>
                  <a:pt x="1899" y="2262"/>
                </a:lnTo>
                <a:lnTo>
                  <a:pt x="1903" y="2262"/>
                </a:lnTo>
                <a:lnTo>
                  <a:pt x="1908" y="2262"/>
                </a:lnTo>
                <a:lnTo>
                  <a:pt x="1915" y="2262"/>
                </a:lnTo>
                <a:lnTo>
                  <a:pt x="1923" y="2262"/>
                </a:lnTo>
                <a:lnTo>
                  <a:pt x="1934" y="2262"/>
                </a:lnTo>
                <a:lnTo>
                  <a:pt x="1948" y="2262"/>
                </a:lnTo>
                <a:lnTo>
                  <a:pt x="1965" y="2262"/>
                </a:lnTo>
              </a:path>
            </a:pathLst>
          </a:custGeom>
          <a:noFill/>
          <a:ln w="5724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282920" y="1854360"/>
            <a:ext cx="2500560" cy="2869920"/>
          </a:xfrm>
          <a:custGeom>
            <a:avLst/>
            <a:gdLst/>
            <a:ahLst/>
            <a:rect l="l" t="t" r="r" b="b"/>
            <a:pathLst>
              <a:path w="1575" h="1808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8"/>
                </a:lnTo>
                <a:lnTo>
                  <a:pt x="4" y="45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1"/>
                </a:lnTo>
                <a:lnTo>
                  <a:pt x="6" y="75"/>
                </a:lnTo>
                <a:lnTo>
                  <a:pt x="6" y="80"/>
                </a:lnTo>
                <a:lnTo>
                  <a:pt x="8" y="87"/>
                </a:lnTo>
                <a:lnTo>
                  <a:pt x="8" y="97"/>
                </a:lnTo>
                <a:lnTo>
                  <a:pt x="10" y="109"/>
                </a:lnTo>
                <a:lnTo>
                  <a:pt x="12" y="122"/>
                </a:lnTo>
                <a:lnTo>
                  <a:pt x="14" y="138"/>
                </a:lnTo>
                <a:lnTo>
                  <a:pt x="17" y="156"/>
                </a:lnTo>
                <a:lnTo>
                  <a:pt x="20" y="175"/>
                </a:lnTo>
                <a:lnTo>
                  <a:pt x="24" y="196"/>
                </a:lnTo>
                <a:lnTo>
                  <a:pt x="28" y="217"/>
                </a:lnTo>
                <a:lnTo>
                  <a:pt x="32" y="241"/>
                </a:lnTo>
                <a:lnTo>
                  <a:pt x="37" y="263"/>
                </a:lnTo>
                <a:lnTo>
                  <a:pt x="40" y="287"/>
                </a:lnTo>
                <a:lnTo>
                  <a:pt x="46" y="310"/>
                </a:lnTo>
                <a:lnTo>
                  <a:pt x="50" y="334"/>
                </a:lnTo>
                <a:lnTo>
                  <a:pt x="55" y="356"/>
                </a:lnTo>
                <a:lnTo>
                  <a:pt x="60" y="379"/>
                </a:lnTo>
                <a:lnTo>
                  <a:pt x="66" y="401"/>
                </a:lnTo>
                <a:lnTo>
                  <a:pt x="70" y="423"/>
                </a:lnTo>
                <a:lnTo>
                  <a:pt x="76" y="446"/>
                </a:lnTo>
                <a:lnTo>
                  <a:pt x="82" y="470"/>
                </a:lnTo>
                <a:lnTo>
                  <a:pt x="88" y="494"/>
                </a:lnTo>
                <a:lnTo>
                  <a:pt x="94" y="518"/>
                </a:lnTo>
                <a:lnTo>
                  <a:pt x="100" y="543"/>
                </a:lnTo>
                <a:lnTo>
                  <a:pt x="106" y="567"/>
                </a:lnTo>
                <a:lnTo>
                  <a:pt x="114" y="591"/>
                </a:lnTo>
                <a:lnTo>
                  <a:pt x="120" y="615"/>
                </a:lnTo>
                <a:lnTo>
                  <a:pt x="126" y="638"/>
                </a:lnTo>
                <a:lnTo>
                  <a:pt x="132" y="660"/>
                </a:lnTo>
                <a:lnTo>
                  <a:pt x="140" y="679"/>
                </a:lnTo>
                <a:lnTo>
                  <a:pt x="145" y="698"/>
                </a:lnTo>
                <a:lnTo>
                  <a:pt x="152" y="714"/>
                </a:lnTo>
                <a:lnTo>
                  <a:pt x="156" y="728"/>
                </a:lnTo>
                <a:lnTo>
                  <a:pt x="162" y="740"/>
                </a:lnTo>
                <a:lnTo>
                  <a:pt x="165" y="752"/>
                </a:lnTo>
                <a:lnTo>
                  <a:pt x="171" y="765"/>
                </a:lnTo>
                <a:lnTo>
                  <a:pt x="176" y="780"/>
                </a:lnTo>
                <a:lnTo>
                  <a:pt x="183" y="795"/>
                </a:lnTo>
                <a:lnTo>
                  <a:pt x="190" y="812"/>
                </a:lnTo>
                <a:lnTo>
                  <a:pt x="197" y="829"/>
                </a:lnTo>
                <a:lnTo>
                  <a:pt x="204" y="848"/>
                </a:lnTo>
                <a:lnTo>
                  <a:pt x="212" y="866"/>
                </a:lnTo>
                <a:lnTo>
                  <a:pt x="220" y="885"/>
                </a:lnTo>
                <a:lnTo>
                  <a:pt x="227" y="904"/>
                </a:lnTo>
                <a:lnTo>
                  <a:pt x="234" y="922"/>
                </a:lnTo>
                <a:lnTo>
                  <a:pt x="242" y="940"/>
                </a:lnTo>
                <a:lnTo>
                  <a:pt x="249" y="958"/>
                </a:lnTo>
                <a:lnTo>
                  <a:pt x="256" y="974"/>
                </a:lnTo>
                <a:lnTo>
                  <a:pt x="262" y="990"/>
                </a:lnTo>
                <a:lnTo>
                  <a:pt x="270" y="1004"/>
                </a:lnTo>
                <a:lnTo>
                  <a:pt x="276" y="1020"/>
                </a:lnTo>
                <a:lnTo>
                  <a:pt x="282" y="1035"/>
                </a:lnTo>
                <a:lnTo>
                  <a:pt x="288" y="1052"/>
                </a:lnTo>
                <a:lnTo>
                  <a:pt x="296" y="1067"/>
                </a:lnTo>
                <a:lnTo>
                  <a:pt x="303" y="1085"/>
                </a:lnTo>
                <a:lnTo>
                  <a:pt x="310" y="1102"/>
                </a:lnTo>
                <a:lnTo>
                  <a:pt x="318" y="1120"/>
                </a:lnTo>
                <a:lnTo>
                  <a:pt x="326" y="1136"/>
                </a:lnTo>
                <a:lnTo>
                  <a:pt x="332" y="1154"/>
                </a:lnTo>
                <a:lnTo>
                  <a:pt x="340" y="1171"/>
                </a:lnTo>
                <a:lnTo>
                  <a:pt x="347" y="1187"/>
                </a:lnTo>
                <a:lnTo>
                  <a:pt x="354" y="1201"/>
                </a:lnTo>
                <a:lnTo>
                  <a:pt x="360" y="1216"/>
                </a:lnTo>
                <a:lnTo>
                  <a:pt x="366" y="1229"/>
                </a:lnTo>
                <a:lnTo>
                  <a:pt x="371" y="1240"/>
                </a:lnTo>
                <a:lnTo>
                  <a:pt x="377" y="1249"/>
                </a:lnTo>
                <a:lnTo>
                  <a:pt x="380" y="1260"/>
                </a:lnTo>
                <a:lnTo>
                  <a:pt x="386" y="1270"/>
                </a:lnTo>
                <a:lnTo>
                  <a:pt x="392" y="1282"/>
                </a:lnTo>
                <a:lnTo>
                  <a:pt x="399" y="1293"/>
                </a:lnTo>
                <a:lnTo>
                  <a:pt x="406" y="1306"/>
                </a:lnTo>
                <a:lnTo>
                  <a:pt x="414" y="1318"/>
                </a:lnTo>
                <a:lnTo>
                  <a:pt x="422" y="1332"/>
                </a:lnTo>
                <a:lnTo>
                  <a:pt x="431" y="1344"/>
                </a:lnTo>
                <a:lnTo>
                  <a:pt x="438" y="1358"/>
                </a:lnTo>
                <a:lnTo>
                  <a:pt x="448" y="1372"/>
                </a:lnTo>
                <a:lnTo>
                  <a:pt x="456" y="1385"/>
                </a:lnTo>
                <a:lnTo>
                  <a:pt x="465" y="1396"/>
                </a:lnTo>
                <a:lnTo>
                  <a:pt x="473" y="1409"/>
                </a:lnTo>
                <a:lnTo>
                  <a:pt x="482" y="1420"/>
                </a:lnTo>
                <a:lnTo>
                  <a:pt x="490" y="1431"/>
                </a:lnTo>
                <a:lnTo>
                  <a:pt x="498" y="1440"/>
                </a:lnTo>
                <a:lnTo>
                  <a:pt x="505" y="1450"/>
                </a:lnTo>
                <a:lnTo>
                  <a:pt x="513" y="1460"/>
                </a:lnTo>
                <a:lnTo>
                  <a:pt x="522" y="1471"/>
                </a:lnTo>
                <a:lnTo>
                  <a:pt x="532" y="1480"/>
                </a:lnTo>
                <a:lnTo>
                  <a:pt x="542" y="1491"/>
                </a:lnTo>
                <a:lnTo>
                  <a:pt x="552" y="1502"/>
                </a:lnTo>
                <a:lnTo>
                  <a:pt x="563" y="1513"/>
                </a:lnTo>
                <a:lnTo>
                  <a:pt x="574" y="1523"/>
                </a:lnTo>
                <a:lnTo>
                  <a:pt x="583" y="1534"/>
                </a:lnTo>
                <a:lnTo>
                  <a:pt x="594" y="1545"/>
                </a:lnTo>
                <a:lnTo>
                  <a:pt x="604" y="1555"/>
                </a:lnTo>
                <a:lnTo>
                  <a:pt x="616" y="1564"/>
                </a:lnTo>
                <a:lnTo>
                  <a:pt x="624" y="1574"/>
                </a:lnTo>
                <a:lnTo>
                  <a:pt x="634" y="1581"/>
                </a:lnTo>
                <a:lnTo>
                  <a:pt x="642" y="1588"/>
                </a:lnTo>
                <a:lnTo>
                  <a:pt x="651" y="1594"/>
                </a:lnTo>
                <a:lnTo>
                  <a:pt x="658" y="1600"/>
                </a:lnTo>
                <a:lnTo>
                  <a:pt x="665" y="1606"/>
                </a:lnTo>
                <a:lnTo>
                  <a:pt x="672" y="1612"/>
                </a:lnTo>
                <a:lnTo>
                  <a:pt x="681" y="1618"/>
                </a:lnTo>
                <a:lnTo>
                  <a:pt x="688" y="1623"/>
                </a:lnTo>
                <a:lnTo>
                  <a:pt x="696" y="1629"/>
                </a:lnTo>
                <a:lnTo>
                  <a:pt x="703" y="1634"/>
                </a:lnTo>
                <a:lnTo>
                  <a:pt x="712" y="1640"/>
                </a:lnTo>
                <a:lnTo>
                  <a:pt x="718" y="1646"/>
                </a:lnTo>
                <a:lnTo>
                  <a:pt x="726" y="1651"/>
                </a:lnTo>
                <a:lnTo>
                  <a:pt x="731" y="1656"/>
                </a:lnTo>
                <a:lnTo>
                  <a:pt x="738" y="1660"/>
                </a:lnTo>
                <a:lnTo>
                  <a:pt x="742" y="1664"/>
                </a:lnTo>
                <a:lnTo>
                  <a:pt x="747" y="1667"/>
                </a:lnTo>
                <a:lnTo>
                  <a:pt x="751" y="1669"/>
                </a:lnTo>
                <a:lnTo>
                  <a:pt x="755" y="1671"/>
                </a:lnTo>
                <a:lnTo>
                  <a:pt x="757" y="1674"/>
                </a:lnTo>
                <a:lnTo>
                  <a:pt x="760" y="1676"/>
                </a:lnTo>
                <a:lnTo>
                  <a:pt x="764" y="1678"/>
                </a:lnTo>
                <a:lnTo>
                  <a:pt x="769" y="1680"/>
                </a:lnTo>
                <a:lnTo>
                  <a:pt x="774" y="1684"/>
                </a:lnTo>
                <a:lnTo>
                  <a:pt x="779" y="1686"/>
                </a:lnTo>
                <a:lnTo>
                  <a:pt x="785" y="1688"/>
                </a:lnTo>
                <a:lnTo>
                  <a:pt x="791" y="1690"/>
                </a:lnTo>
                <a:lnTo>
                  <a:pt x="797" y="1694"/>
                </a:lnTo>
                <a:lnTo>
                  <a:pt x="802" y="1697"/>
                </a:lnTo>
                <a:lnTo>
                  <a:pt x="808" y="1700"/>
                </a:lnTo>
                <a:lnTo>
                  <a:pt x="816" y="1702"/>
                </a:lnTo>
                <a:lnTo>
                  <a:pt x="821" y="1706"/>
                </a:lnTo>
                <a:lnTo>
                  <a:pt x="828" y="1708"/>
                </a:lnTo>
                <a:lnTo>
                  <a:pt x="834" y="1710"/>
                </a:lnTo>
                <a:lnTo>
                  <a:pt x="840" y="1712"/>
                </a:lnTo>
                <a:lnTo>
                  <a:pt x="845" y="1716"/>
                </a:lnTo>
                <a:lnTo>
                  <a:pt x="852" y="1717"/>
                </a:lnTo>
                <a:lnTo>
                  <a:pt x="860" y="1720"/>
                </a:lnTo>
                <a:lnTo>
                  <a:pt x="868" y="1722"/>
                </a:lnTo>
                <a:lnTo>
                  <a:pt x="877" y="1726"/>
                </a:lnTo>
                <a:lnTo>
                  <a:pt x="887" y="1728"/>
                </a:lnTo>
                <a:lnTo>
                  <a:pt x="896" y="1732"/>
                </a:lnTo>
                <a:lnTo>
                  <a:pt x="908" y="1734"/>
                </a:lnTo>
                <a:lnTo>
                  <a:pt x="917" y="1738"/>
                </a:lnTo>
                <a:lnTo>
                  <a:pt x="928" y="1742"/>
                </a:lnTo>
                <a:lnTo>
                  <a:pt x="938" y="1745"/>
                </a:lnTo>
                <a:lnTo>
                  <a:pt x="950" y="1747"/>
                </a:lnTo>
                <a:lnTo>
                  <a:pt x="959" y="1751"/>
                </a:lnTo>
                <a:lnTo>
                  <a:pt x="970" y="1753"/>
                </a:lnTo>
                <a:lnTo>
                  <a:pt x="979" y="1756"/>
                </a:lnTo>
                <a:lnTo>
                  <a:pt x="989" y="1758"/>
                </a:lnTo>
                <a:lnTo>
                  <a:pt x="997" y="1762"/>
                </a:lnTo>
                <a:lnTo>
                  <a:pt x="1006" y="1764"/>
                </a:lnTo>
                <a:lnTo>
                  <a:pt x="1016" y="1765"/>
                </a:lnTo>
                <a:lnTo>
                  <a:pt x="1028" y="1767"/>
                </a:lnTo>
                <a:lnTo>
                  <a:pt x="1039" y="1771"/>
                </a:lnTo>
                <a:lnTo>
                  <a:pt x="1050" y="1773"/>
                </a:lnTo>
                <a:lnTo>
                  <a:pt x="1061" y="1775"/>
                </a:lnTo>
                <a:lnTo>
                  <a:pt x="1074" y="1776"/>
                </a:lnTo>
                <a:lnTo>
                  <a:pt x="1086" y="1779"/>
                </a:lnTo>
                <a:lnTo>
                  <a:pt x="1097" y="1781"/>
                </a:lnTo>
                <a:lnTo>
                  <a:pt x="1108" y="1783"/>
                </a:lnTo>
                <a:lnTo>
                  <a:pt x="1119" y="1785"/>
                </a:lnTo>
                <a:lnTo>
                  <a:pt x="1128" y="1786"/>
                </a:lnTo>
                <a:lnTo>
                  <a:pt x="1139" y="1788"/>
                </a:lnTo>
                <a:lnTo>
                  <a:pt x="1147" y="1790"/>
                </a:lnTo>
                <a:lnTo>
                  <a:pt x="1156" y="1790"/>
                </a:lnTo>
                <a:lnTo>
                  <a:pt x="1162" y="1792"/>
                </a:lnTo>
                <a:lnTo>
                  <a:pt x="1170" y="1792"/>
                </a:lnTo>
                <a:lnTo>
                  <a:pt x="1180" y="1794"/>
                </a:lnTo>
                <a:lnTo>
                  <a:pt x="1190" y="1794"/>
                </a:lnTo>
                <a:lnTo>
                  <a:pt x="1201" y="1795"/>
                </a:lnTo>
                <a:lnTo>
                  <a:pt x="1212" y="1795"/>
                </a:lnTo>
                <a:lnTo>
                  <a:pt x="1224" y="1796"/>
                </a:lnTo>
                <a:lnTo>
                  <a:pt x="1237" y="1796"/>
                </a:lnTo>
                <a:lnTo>
                  <a:pt x="1248" y="1798"/>
                </a:lnTo>
                <a:lnTo>
                  <a:pt x="1260" y="1798"/>
                </a:lnTo>
                <a:lnTo>
                  <a:pt x="1271" y="1800"/>
                </a:lnTo>
                <a:lnTo>
                  <a:pt x="1284" y="1800"/>
                </a:lnTo>
                <a:lnTo>
                  <a:pt x="1295" y="1802"/>
                </a:lnTo>
                <a:lnTo>
                  <a:pt x="1306" y="1802"/>
                </a:lnTo>
                <a:lnTo>
                  <a:pt x="1316" y="1803"/>
                </a:lnTo>
                <a:lnTo>
                  <a:pt x="1326" y="1803"/>
                </a:lnTo>
                <a:lnTo>
                  <a:pt x="1335" y="1805"/>
                </a:lnTo>
                <a:lnTo>
                  <a:pt x="1344" y="1805"/>
                </a:lnTo>
                <a:lnTo>
                  <a:pt x="1355" y="1805"/>
                </a:lnTo>
                <a:lnTo>
                  <a:pt x="1366" y="1805"/>
                </a:lnTo>
                <a:lnTo>
                  <a:pt x="1378" y="1806"/>
                </a:lnTo>
                <a:lnTo>
                  <a:pt x="1390" y="1806"/>
                </a:lnTo>
                <a:lnTo>
                  <a:pt x="1401" y="1806"/>
                </a:lnTo>
                <a:lnTo>
                  <a:pt x="1414" y="1806"/>
                </a:lnTo>
                <a:lnTo>
                  <a:pt x="1426" y="1807"/>
                </a:lnTo>
                <a:lnTo>
                  <a:pt x="1438" y="1807"/>
                </a:lnTo>
                <a:lnTo>
                  <a:pt x="1449" y="1807"/>
                </a:lnTo>
                <a:lnTo>
                  <a:pt x="1461" y="1807"/>
                </a:lnTo>
                <a:lnTo>
                  <a:pt x="1470" y="1807"/>
                </a:lnTo>
                <a:lnTo>
                  <a:pt x="1480" y="1807"/>
                </a:lnTo>
                <a:lnTo>
                  <a:pt x="1489" y="1807"/>
                </a:lnTo>
                <a:lnTo>
                  <a:pt x="1498" y="1807"/>
                </a:lnTo>
                <a:lnTo>
                  <a:pt x="1502" y="1807"/>
                </a:lnTo>
                <a:lnTo>
                  <a:pt x="1508" y="1807"/>
                </a:lnTo>
                <a:lnTo>
                  <a:pt x="1510" y="1807"/>
                </a:lnTo>
                <a:lnTo>
                  <a:pt x="1514" y="1807"/>
                </a:lnTo>
                <a:lnTo>
                  <a:pt x="1515" y="1807"/>
                </a:lnTo>
                <a:lnTo>
                  <a:pt x="1517" y="1807"/>
                </a:lnTo>
                <a:lnTo>
                  <a:pt x="1519" y="1807"/>
                </a:lnTo>
                <a:lnTo>
                  <a:pt x="1520" y="1807"/>
                </a:lnTo>
                <a:lnTo>
                  <a:pt x="1522" y="1807"/>
                </a:lnTo>
                <a:lnTo>
                  <a:pt x="1525" y="1807"/>
                </a:lnTo>
                <a:lnTo>
                  <a:pt x="1529" y="1807"/>
                </a:lnTo>
                <a:lnTo>
                  <a:pt x="1534" y="1807"/>
                </a:lnTo>
                <a:lnTo>
                  <a:pt x="1540" y="1807"/>
                </a:lnTo>
                <a:lnTo>
                  <a:pt x="1549" y="1807"/>
                </a:lnTo>
                <a:lnTo>
                  <a:pt x="1559" y="1807"/>
                </a:lnTo>
                <a:lnTo>
                  <a:pt x="1574" y="1807"/>
                </a:lnTo>
              </a:path>
            </a:pathLst>
          </a:custGeom>
          <a:noFill/>
          <a:ln w="5724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19817400">
            <a:off x="3789000" y="3962520"/>
            <a:ext cx="2819520" cy="1752480"/>
          </a:xfrm>
          <a:prstGeom prst="rightArrow">
            <a:avLst>
              <a:gd name="adj1" fmla="val 50000"/>
              <a:gd name="adj2" fmla="val 40222"/>
            </a:avLst>
          </a:prstGeom>
          <a:solidFill>
            <a:srgbClr val="cc99ff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preferencias cre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/>
          </p:nvPr>
        </p:nvSpPr>
        <p:spPr>
          <a:xfrm>
            <a:off x="650880" y="533520"/>
            <a:ext cx="94536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restricción de presupuesto de Pedr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080" y="0"/>
            <a:ext cx="106218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problema de optimización de Pedr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65080" y="1447920"/>
            <a:ext cx="5307120" cy="5614920"/>
          </a:xfrm>
          <a:custGeom>
            <a:avLst/>
            <a:gdLst/>
            <a:ahLst/>
            <a:rect l="l" t="t" r="r" b="b"/>
            <a:pathLst>
              <a:path w="3343" h="3537">
                <a:moveTo>
                  <a:pt x="3342" y="3536"/>
                </a:moveTo>
                <a:lnTo>
                  <a:pt x="1350" y="122"/>
                </a:lnTo>
                <a:lnTo>
                  <a:pt x="1255" y="122"/>
                </a:lnTo>
                <a:lnTo>
                  <a:pt x="1200" y="164"/>
                </a:lnTo>
                <a:lnTo>
                  <a:pt x="1173" y="327"/>
                </a:lnTo>
                <a:lnTo>
                  <a:pt x="1064" y="409"/>
                </a:lnTo>
                <a:lnTo>
                  <a:pt x="873" y="342"/>
                </a:lnTo>
                <a:lnTo>
                  <a:pt x="724" y="259"/>
                </a:lnTo>
                <a:lnTo>
                  <a:pt x="559" y="0"/>
                </a:lnTo>
                <a:lnTo>
                  <a:pt x="533" y="0"/>
                </a:lnTo>
                <a:lnTo>
                  <a:pt x="314" y="0"/>
                </a:lnTo>
                <a:lnTo>
                  <a:pt x="205" y="232"/>
                </a:lnTo>
                <a:lnTo>
                  <a:pt x="55" y="232"/>
                </a:lnTo>
                <a:lnTo>
                  <a:pt x="0" y="218"/>
                </a:lnTo>
                <a:lnTo>
                  <a:pt x="0" y="3523"/>
                </a:lnTo>
                <a:lnTo>
                  <a:pt x="3328" y="3523"/>
                </a:lnTo>
                <a:lnTo>
                  <a:pt x="3342" y="3536"/>
                </a:lnTo>
                <a:lnTo>
                  <a:pt x="3342" y="353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24280" y="1946160"/>
            <a:ext cx="2859120" cy="3281400"/>
          </a:xfrm>
          <a:custGeom>
            <a:avLst/>
            <a:gdLst/>
            <a:ahLst/>
            <a:rect l="l" t="t" r="r" b="b"/>
            <a:pathLst>
              <a:path w="1801" h="2067">
                <a:moveTo>
                  <a:pt x="0" y="0"/>
                </a:moveTo>
                <a:lnTo>
                  <a:pt x="0" y="18"/>
                </a:lnTo>
                <a:lnTo>
                  <a:pt x="2" y="31"/>
                </a:lnTo>
                <a:lnTo>
                  <a:pt x="2" y="42"/>
                </a:lnTo>
                <a:lnTo>
                  <a:pt x="4" y="50"/>
                </a:lnTo>
                <a:lnTo>
                  <a:pt x="4" y="57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79"/>
                </a:lnTo>
                <a:lnTo>
                  <a:pt x="8" y="84"/>
                </a:lnTo>
                <a:lnTo>
                  <a:pt x="8" y="90"/>
                </a:lnTo>
                <a:lnTo>
                  <a:pt x="10" y="98"/>
                </a:lnTo>
                <a:lnTo>
                  <a:pt x="10" y="109"/>
                </a:lnTo>
                <a:lnTo>
                  <a:pt x="12" y="122"/>
                </a:lnTo>
                <a:lnTo>
                  <a:pt x="14" y="138"/>
                </a:lnTo>
                <a:lnTo>
                  <a:pt x="18" y="156"/>
                </a:lnTo>
                <a:lnTo>
                  <a:pt x="21" y="177"/>
                </a:lnTo>
                <a:lnTo>
                  <a:pt x="25" y="198"/>
                </a:lnTo>
                <a:lnTo>
                  <a:pt x="28" y="222"/>
                </a:lnTo>
                <a:lnTo>
                  <a:pt x="34" y="246"/>
                </a:lnTo>
                <a:lnTo>
                  <a:pt x="38" y="272"/>
                </a:lnTo>
                <a:lnTo>
                  <a:pt x="43" y="298"/>
                </a:lnTo>
                <a:lnTo>
                  <a:pt x="48" y="325"/>
                </a:lnTo>
                <a:lnTo>
                  <a:pt x="54" y="351"/>
                </a:lnTo>
                <a:lnTo>
                  <a:pt x="60" y="378"/>
                </a:lnTo>
                <a:lnTo>
                  <a:pt x="65" y="404"/>
                </a:lnTo>
                <a:lnTo>
                  <a:pt x="71" y="430"/>
                </a:lnTo>
                <a:lnTo>
                  <a:pt x="76" y="454"/>
                </a:lnTo>
                <a:lnTo>
                  <a:pt x="81" y="480"/>
                </a:lnTo>
                <a:lnTo>
                  <a:pt x="86" y="506"/>
                </a:lnTo>
                <a:lnTo>
                  <a:pt x="93" y="534"/>
                </a:lnTo>
                <a:lnTo>
                  <a:pt x="100" y="562"/>
                </a:lnTo>
                <a:lnTo>
                  <a:pt x="107" y="590"/>
                </a:lnTo>
                <a:lnTo>
                  <a:pt x="114" y="618"/>
                </a:lnTo>
                <a:lnTo>
                  <a:pt x="122" y="646"/>
                </a:lnTo>
                <a:lnTo>
                  <a:pt x="130" y="674"/>
                </a:lnTo>
                <a:lnTo>
                  <a:pt x="137" y="702"/>
                </a:lnTo>
                <a:lnTo>
                  <a:pt x="144" y="728"/>
                </a:lnTo>
                <a:lnTo>
                  <a:pt x="152" y="753"/>
                </a:lnTo>
                <a:lnTo>
                  <a:pt x="159" y="774"/>
                </a:lnTo>
                <a:lnTo>
                  <a:pt x="166" y="796"/>
                </a:lnTo>
                <a:lnTo>
                  <a:pt x="173" y="815"/>
                </a:lnTo>
                <a:lnTo>
                  <a:pt x="179" y="831"/>
                </a:lnTo>
                <a:lnTo>
                  <a:pt x="185" y="844"/>
                </a:lnTo>
                <a:lnTo>
                  <a:pt x="189" y="859"/>
                </a:lnTo>
                <a:lnTo>
                  <a:pt x="194" y="874"/>
                </a:lnTo>
                <a:lnTo>
                  <a:pt x="201" y="890"/>
                </a:lnTo>
                <a:lnTo>
                  <a:pt x="209" y="908"/>
                </a:lnTo>
                <a:lnTo>
                  <a:pt x="216" y="928"/>
                </a:lnTo>
                <a:lnTo>
                  <a:pt x="224" y="947"/>
                </a:lnTo>
                <a:lnTo>
                  <a:pt x="232" y="968"/>
                </a:lnTo>
                <a:lnTo>
                  <a:pt x="242" y="988"/>
                </a:lnTo>
                <a:lnTo>
                  <a:pt x="249" y="1011"/>
                </a:lnTo>
                <a:lnTo>
                  <a:pt x="259" y="1032"/>
                </a:lnTo>
                <a:lnTo>
                  <a:pt x="267" y="1053"/>
                </a:lnTo>
                <a:lnTo>
                  <a:pt x="276" y="1073"/>
                </a:lnTo>
                <a:lnTo>
                  <a:pt x="284" y="1094"/>
                </a:lnTo>
                <a:lnTo>
                  <a:pt x="292" y="1113"/>
                </a:lnTo>
                <a:lnTo>
                  <a:pt x="300" y="1130"/>
                </a:lnTo>
                <a:lnTo>
                  <a:pt x="308" y="1146"/>
                </a:lnTo>
                <a:lnTo>
                  <a:pt x="314" y="1164"/>
                </a:lnTo>
                <a:lnTo>
                  <a:pt x="322" y="1182"/>
                </a:lnTo>
                <a:lnTo>
                  <a:pt x="329" y="1201"/>
                </a:lnTo>
                <a:lnTo>
                  <a:pt x="338" y="1219"/>
                </a:lnTo>
                <a:lnTo>
                  <a:pt x="346" y="1240"/>
                </a:lnTo>
                <a:lnTo>
                  <a:pt x="355" y="1259"/>
                </a:lnTo>
                <a:lnTo>
                  <a:pt x="364" y="1279"/>
                </a:lnTo>
                <a:lnTo>
                  <a:pt x="374" y="1298"/>
                </a:lnTo>
                <a:lnTo>
                  <a:pt x="381" y="1318"/>
                </a:lnTo>
                <a:lnTo>
                  <a:pt x="390" y="1337"/>
                </a:lnTo>
                <a:lnTo>
                  <a:pt x="397" y="1355"/>
                </a:lnTo>
                <a:lnTo>
                  <a:pt x="406" y="1371"/>
                </a:lnTo>
                <a:lnTo>
                  <a:pt x="412" y="1387"/>
                </a:lnTo>
                <a:lnTo>
                  <a:pt x="420" y="1402"/>
                </a:lnTo>
                <a:lnTo>
                  <a:pt x="425" y="1415"/>
                </a:lnTo>
                <a:lnTo>
                  <a:pt x="432" y="1425"/>
                </a:lnTo>
                <a:lnTo>
                  <a:pt x="436" y="1437"/>
                </a:lnTo>
                <a:lnTo>
                  <a:pt x="442" y="1449"/>
                </a:lnTo>
                <a:lnTo>
                  <a:pt x="449" y="1462"/>
                </a:lnTo>
                <a:lnTo>
                  <a:pt x="457" y="1475"/>
                </a:lnTo>
                <a:lnTo>
                  <a:pt x="464" y="1490"/>
                </a:lnTo>
                <a:lnTo>
                  <a:pt x="474" y="1505"/>
                </a:lnTo>
                <a:lnTo>
                  <a:pt x="483" y="1520"/>
                </a:lnTo>
                <a:lnTo>
                  <a:pt x="493" y="1535"/>
                </a:lnTo>
                <a:lnTo>
                  <a:pt x="502" y="1551"/>
                </a:lnTo>
                <a:lnTo>
                  <a:pt x="512" y="1566"/>
                </a:lnTo>
                <a:lnTo>
                  <a:pt x="522" y="1581"/>
                </a:lnTo>
                <a:lnTo>
                  <a:pt x="533" y="1595"/>
                </a:lnTo>
                <a:lnTo>
                  <a:pt x="542" y="1609"/>
                </a:lnTo>
                <a:lnTo>
                  <a:pt x="552" y="1622"/>
                </a:lnTo>
                <a:lnTo>
                  <a:pt x="561" y="1634"/>
                </a:lnTo>
                <a:lnTo>
                  <a:pt x="571" y="1644"/>
                </a:lnTo>
                <a:lnTo>
                  <a:pt x="579" y="1656"/>
                </a:lnTo>
                <a:lnTo>
                  <a:pt x="588" y="1667"/>
                </a:lnTo>
                <a:lnTo>
                  <a:pt x="598" y="1680"/>
                </a:lnTo>
                <a:lnTo>
                  <a:pt x="609" y="1691"/>
                </a:lnTo>
                <a:lnTo>
                  <a:pt x="620" y="1704"/>
                </a:lnTo>
                <a:lnTo>
                  <a:pt x="632" y="1717"/>
                </a:lnTo>
                <a:lnTo>
                  <a:pt x="644" y="1730"/>
                </a:lnTo>
                <a:lnTo>
                  <a:pt x="657" y="1741"/>
                </a:lnTo>
                <a:lnTo>
                  <a:pt x="668" y="1754"/>
                </a:lnTo>
                <a:lnTo>
                  <a:pt x="680" y="1766"/>
                </a:lnTo>
                <a:lnTo>
                  <a:pt x="692" y="1777"/>
                </a:lnTo>
                <a:lnTo>
                  <a:pt x="704" y="1787"/>
                </a:lnTo>
                <a:lnTo>
                  <a:pt x="714" y="1798"/>
                </a:lnTo>
                <a:lnTo>
                  <a:pt x="725" y="1806"/>
                </a:lnTo>
                <a:lnTo>
                  <a:pt x="735" y="1815"/>
                </a:lnTo>
                <a:lnTo>
                  <a:pt x="745" y="1821"/>
                </a:lnTo>
                <a:lnTo>
                  <a:pt x="752" y="1828"/>
                </a:lnTo>
                <a:lnTo>
                  <a:pt x="761" y="1835"/>
                </a:lnTo>
                <a:lnTo>
                  <a:pt x="768" y="1843"/>
                </a:lnTo>
                <a:lnTo>
                  <a:pt x="778" y="1848"/>
                </a:lnTo>
                <a:lnTo>
                  <a:pt x="785" y="1856"/>
                </a:lnTo>
                <a:lnTo>
                  <a:pt x="795" y="1862"/>
                </a:lnTo>
                <a:lnTo>
                  <a:pt x="803" y="1868"/>
                </a:lnTo>
                <a:lnTo>
                  <a:pt x="813" y="1874"/>
                </a:lnTo>
                <a:lnTo>
                  <a:pt x="820" y="1880"/>
                </a:lnTo>
                <a:lnTo>
                  <a:pt x="828" y="1886"/>
                </a:lnTo>
                <a:lnTo>
                  <a:pt x="834" y="1892"/>
                </a:lnTo>
                <a:lnTo>
                  <a:pt x="842" y="1896"/>
                </a:lnTo>
                <a:lnTo>
                  <a:pt x="848" y="1901"/>
                </a:lnTo>
                <a:lnTo>
                  <a:pt x="853" y="1904"/>
                </a:lnTo>
                <a:lnTo>
                  <a:pt x="857" y="1907"/>
                </a:lnTo>
                <a:lnTo>
                  <a:pt x="862" y="1909"/>
                </a:lnTo>
                <a:lnTo>
                  <a:pt x="864" y="1913"/>
                </a:lnTo>
                <a:lnTo>
                  <a:pt x="868" y="1914"/>
                </a:lnTo>
                <a:lnTo>
                  <a:pt x="873" y="1918"/>
                </a:lnTo>
                <a:lnTo>
                  <a:pt x="878" y="1920"/>
                </a:lnTo>
                <a:lnTo>
                  <a:pt x="884" y="1923"/>
                </a:lnTo>
                <a:lnTo>
                  <a:pt x="890" y="1926"/>
                </a:lnTo>
                <a:lnTo>
                  <a:pt x="896" y="1930"/>
                </a:lnTo>
                <a:lnTo>
                  <a:pt x="904" y="1932"/>
                </a:lnTo>
                <a:lnTo>
                  <a:pt x="910" y="1936"/>
                </a:lnTo>
                <a:lnTo>
                  <a:pt x="918" y="1940"/>
                </a:lnTo>
                <a:lnTo>
                  <a:pt x="925" y="1943"/>
                </a:lnTo>
                <a:lnTo>
                  <a:pt x="932" y="1945"/>
                </a:lnTo>
                <a:lnTo>
                  <a:pt x="939" y="1949"/>
                </a:lnTo>
                <a:lnTo>
                  <a:pt x="947" y="1951"/>
                </a:lnTo>
                <a:lnTo>
                  <a:pt x="954" y="1954"/>
                </a:lnTo>
                <a:lnTo>
                  <a:pt x="961" y="1956"/>
                </a:lnTo>
                <a:lnTo>
                  <a:pt x="967" y="1960"/>
                </a:lnTo>
                <a:lnTo>
                  <a:pt x="974" y="1962"/>
                </a:lnTo>
                <a:lnTo>
                  <a:pt x="983" y="1966"/>
                </a:lnTo>
                <a:lnTo>
                  <a:pt x="993" y="1968"/>
                </a:lnTo>
                <a:lnTo>
                  <a:pt x="1002" y="1972"/>
                </a:lnTo>
                <a:lnTo>
                  <a:pt x="1014" y="1976"/>
                </a:lnTo>
                <a:lnTo>
                  <a:pt x="1025" y="1979"/>
                </a:lnTo>
                <a:lnTo>
                  <a:pt x="1038" y="1982"/>
                </a:lnTo>
                <a:lnTo>
                  <a:pt x="1049" y="1986"/>
                </a:lnTo>
                <a:lnTo>
                  <a:pt x="1061" y="1990"/>
                </a:lnTo>
                <a:lnTo>
                  <a:pt x="1072" y="1994"/>
                </a:lnTo>
                <a:lnTo>
                  <a:pt x="1086" y="1997"/>
                </a:lnTo>
                <a:lnTo>
                  <a:pt x="1097" y="2001"/>
                </a:lnTo>
                <a:lnTo>
                  <a:pt x="1108" y="2002"/>
                </a:lnTo>
                <a:lnTo>
                  <a:pt x="1119" y="2006"/>
                </a:lnTo>
                <a:lnTo>
                  <a:pt x="1130" y="2008"/>
                </a:lnTo>
                <a:lnTo>
                  <a:pt x="1140" y="2011"/>
                </a:lnTo>
                <a:lnTo>
                  <a:pt x="1151" y="2013"/>
                </a:lnTo>
                <a:lnTo>
                  <a:pt x="1162" y="2016"/>
                </a:lnTo>
                <a:lnTo>
                  <a:pt x="1175" y="2018"/>
                </a:lnTo>
                <a:lnTo>
                  <a:pt x="1187" y="2022"/>
                </a:lnTo>
                <a:lnTo>
                  <a:pt x="1200" y="2024"/>
                </a:lnTo>
                <a:lnTo>
                  <a:pt x="1213" y="2027"/>
                </a:lnTo>
                <a:lnTo>
                  <a:pt x="1228" y="2029"/>
                </a:lnTo>
                <a:lnTo>
                  <a:pt x="1241" y="2032"/>
                </a:lnTo>
                <a:lnTo>
                  <a:pt x="1254" y="2034"/>
                </a:lnTo>
                <a:lnTo>
                  <a:pt x="1266" y="2036"/>
                </a:lnTo>
                <a:lnTo>
                  <a:pt x="1280" y="2038"/>
                </a:lnTo>
                <a:lnTo>
                  <a:pt x="1291" y="2040"/>
                </a:lnTo>
                <a:lnTo>
                  <a:pt x="1302" y="2042"/>
                </a:lnTo>
                <a:lnTo>
                  <a:pt x="1311" y="2044"/>
                </a:lnTo>
                <a:lnTo>
                  <a:pt x="1322" y="2044"/>
                </a:lnTo>
                <a:lnTo>
                  <a:pt x="1330" y="2046"/>
                </a:lnTo>
                <a:lnTo>
                  <a:pt x="1339" y="2048"/>
                </a:lnTo>
                <a:lnTo>
                  <a:pt x="1350" y="2049"/>
                </a:lnTo>
                <a:lnTo>
                  <a:pt x="1362" y="2049"/>
                </a:lnTo>
                <a:lnTo>
                  <a:pt x="1374" y="2051"/>
                </a:lnTo>
                <a:lnTo>
                  <a:pt x="1387" y="2052"/>
                </a:lnTo>
                <a:lnTo>
                  <a:pt x="1400" y="2054"/>
                </a:lnTo>
                <a:lnTo>
                  <a:pt x="1414" y="2054"/>
                </a:lnTo>
                <a:lnTo>
                  <a:pt x="1427" y="2056"/>
                </a:lnTo>
                <a:lnTo>
                  <a:pt x="1441" y="2056"/>
                </a:lnTo>
                <a:lnTo>
                  <a:pt x="1454" y="2057"/>
                </a:lnTo>
                <a:lnTo>
                  <a:pt x="1468" y="2057"/>
                </a:lnTo>
                <a:lnTo>
                  <a:pt x="1480" y="2059"/>
                </a:lnTo>
                <a:lnTo>
                  <a:pt x="1494" y="2059"/>
                </a:lnTo>
                <a:lnTo>
                  <a:pt x="1505" y="2060"/>
                </a:lnTo>
                <a:lnTo>
                  <a:pt x="1516" y="2060"/>
                </a:lnTo>
                <a:lnTo>
                  <a:pt x="1526" y="2062"/>
                </a:lnTo>
                <a:lnTo>
                  <a:pt x="1538" y="2062"/>
                </a:lnTo>
                <a:lnTo>
                  <a:pt x="1550" y="2062"/>
                </a:lnTo>
                <a:lnTo>
                  <a:pt x="1563" y="2062"/>
                </a:lnTo>
                <a:lnTo>
                  <a:pt x="1576" y="2064"/>
                </a:lnTo>
                <a:lnTo>
                  <a:pt x="1590" y="2064"/>
                </a:lnTo>
                <a:lnTo>
                  <a:pt x="1603" y="2064"/>
                </a:lnTo>
                <a:lnTo>
                  <a:pt x="1618" y="2064"/>
                </a:lnTo>
                <a:lnTo>
                  <a:pt x="1631" y="2066"/>
                </a:lnTo>
                <a:lnTo>
                  <a:pt x="1644" y="2066"/>
                </a:lnTo>
                <a:lnTo>
                  <a:pt x="1657" y="2066"/>
                </a:lnTo>
                <a:lnTo>
                  <a:pt x="1670" y="2066"/>
                </a:lnTo>
                <a:lnTo>
                  <a:pt x="1681" y="2066"/>
                </a:lnTo>
                <a:lnTo>
                  <a:pt x="1692" y="2066"/>
                </a:lnTo>
                <a:lnTo>
                  <a:pt x="1702" y="2066"/>
                </a:lnTo>
                <a:lnTo>
                  <a:pt x="1713" y="2066"/>
                </a:lnTo>
                <a:lnTo>
                  <a:pt x="1719" y="2066"/>
                </a:lnTo>
                <a:lnTo>
                  <a:pt x="1725" y="2066"/>
                </a:lnTo>
                <a:lnTo>
                  <a:pt x="1728" y="2066"/>
                </a:lnTo>
                <a:lnTo>
                  <a:pt x="1732" y="2066"/>
                </a:lnTo>
                <a:lnTo>
                  <a:pt x="1734" y="2066"/>
                </a:lnTo>
                <a:lnTo>
                  <a:pt x="1736" y="2066"/>
                </a:lnTo>
                <a:lnTo>
                  <a:pt x="1738" y="2066"/>
                </a:lnTo>
                <a:lnTo>
                  <a:pt x="1739" y="2066"/>
                </a:lnTo>
                <a:lnTo>
                  <a:pt x="1741" y="2066"/>
                </a:lnTo>
                <a:lnTo>
                  <a:pt x="1744" y="2066"/>
                </a:lnTo>
                <a:lnTo>
                  <a:pt x="1749" y="2066"/>
                </a:lnTo>
                <a:lnTo>
                  <a:pt x="1755" y="2066"/>
                </a:lnTo>
                <a:lnTo>
                  <a:pt x="1762" y="2066"/>
                </a:lnTo>
                <a:lnTo>
                  <a:pt x="1772" y="2066"/>
                </a:lnTo>
                <a:lnTo>
                  <a:pt x="1784" y="2066"/>
                </a:lnTo>
                <a:lnTo>
                  <a:pt x="1800" y="2066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14880" y="2749680"/>
            <a:ext cx="3416040" cy="3340080"/>
          </a:xfrm>
          <a:custGeom>
            <a:avLst/>
            <a:gdLst/>
            <a:ahLst/>
            <a:rect l="l" t="t" r="r" b="b"/>
            <a:pathLst>
              <a:path w="2152" h="2104">
                <a:moveTo>
                  <a:pt x="0" y="0"/>
                </a:moveTo>
                <a:lnTo>
                  <a:pt x="3" y="18"/>
                </a:lnTo>
                <a:lnTo>
                  <a:pt x="5" y="33"/>
                </a:lnTo>
                <a:lnTo>
                  <a:pt x="7" y="46"/>
                </a:lnTo>
                <a:lnTo>
                  <a:pt x="10" y="54"/>
                </a:lnTo>
                <a:lnTo>
                  <a:pt x="10" y="61"/>
                </a:lnTo>
                <a:lnTo>
                  <a:pt x="12" y="66"/>
                </a:lnTo>
                <a:lnTo>
                  <a:pt x="12" y="70"/>
                </a:lnTo>
                <a:lnTo>
                  <a:pt x="14" y="72"/>
                </a:lnTo>
                <a:lnTo>
                  <a:pt x="14" y="75"/>
                </a:lnTo>
                <a:lnTo>
                  <a:pt x="14" y="77"/>
                </a:lnTo>
                <a:lnTo>
                  <a:pt x="14" y="79"/>
                </a:lnTo>
                <a:lnTo>
                  <a:pt x="15" y="81"/>
                </a:lnTo>
                <a:lnTo>
                  <a:pt x="15" y="86"/>
                </a:lnTo>
                <a:lnTo>
                  <a:pt x="17" y="90"/>
                </a:lnTo>
                <a:lnTo>
                  <a:pt x="19" y="97"/>
                </a:lnTo>
                <a:lnTo>
                  <a:pt x="21" y="105"/>
                </a:lnTo>
                <a:lnTo>
                  <a:pt x="22" y="118"/>
                </a:lnTo>
                <a:lnTo>
                  <a:pt x="25" y="132"/>
                </a:lnTo>
                <a:lnTo>
                  <a:pt x="29" y="150"/>
                </a:lnTo>
                <a:lnTo>
                  <a:pt x="35" y="169"/>
                </a:lnTo>
                <a:lnTo>
                  <a:pt x="40" y="192"/>
                </a:lnTo>
                <a:lnTo>
                  <a:pt x="46" y="215"/>
                </a:lnTo>
                <a:lnTo>
                  <a:pt x="53" y="240"/>
                </a:lnTo>
                <a:lnTo>
                  <a:pt x="61" y="266"/>
                </a:lnTo>
                <a:lnTo>
                  <a:pt x="69" y="294"/>
                </a:lnTo>
                <a:lnTo>
                  <a:pt x="77" y="322"/>
                </a:lnTo>
                <a:lnTo>
                  <a:pt x="84" y="351"/>
                </a:lnTo>
                <a:lnTo>
                  <a:pt x="93" y="379"/>
                </a:lnTo>
                <a:lnTo>
                  <a:pt x="101" y="408"/>
                </a:lnTo>
                <a:lnTo>
                  <a:pt x="110" y="436"/>
                </a:lnTo>
                <a:lnTo>
                  <a:pt x="119" y="464"/>
                </a:lnTo>
                <a:lnTo>
                  <a:pt x="128" y="489"/>
                </a:lnTo>
                <a:lnTo>
                  <a:pt x="135" y="517"/>
                </a:lnTo>
                <a:lnTo>
                  <a:pt x="144" y="545"/>
                </a:lnTo>
                <a:lnTo>
                  <a:pt x="153" y="575"/>
                </a:lnTo>
                <a:lnTo>
                  <a:pt x="164" y="604"/>
                </a:lnTo>
                <a:lnTo>
                  <a:pt x="173" y="635"/>
                </a:lnTo>
                <a:lnTo>
                  <a:pt x="185" y="665"/>
                </a:lnTo>
                <a:lnTo>
                  <a:pt x="196" y="695"/>
                </a:lnTo>
                <a:lnTo>
                  <a:pt x="207" y="724"/>
                </a:lnTo>
                <a:lnTo>
                  <a:pt x="217" y="754"/>
                </a:lnTo>
                <a:lnTo>
                  <a:pt x="228" y="781"/>
                </a:lnTo>
                <a:lnTo>
                  <a:pt x="238" y="808"/>
                </a:lnTo>
                <a:lnTo>
                  <a:pt x="248" y="831"/>
                </a:lnTo>
                <a:lnTo>
                  <a:pt x="257" y="854"/>
                </a:lnTo>
                <a:lnTo>
                  <a:pt x="266" y="874"/>
                </a:lnTo>
                <a:lnTo>
                  <a:pt x="274" y="892"/>
                </a:lnTo>
                <a:lnTo>
                  <a:pt x="282" y="905"/>
                </a:lnTo>
                <a:lnTo>
                  <a:pt x="287" y="919"/>
                </a:lnTo>
                <a:lnTo>
                  <a:pt x="295" y="935"/>
                </a:lnTo>
                <a:lnTo>
                  <a:pt x="303" y="953"/>
                </a:lnTo>
                <a:lnTo>
                  <a:pt x="313" y="971"/>
                </a:lnTo>
                <a:lnTo>
                  <a:pt x="322" y="992"/>
                </a:lnTo>
                <a:lnTo>
                  <a:pt x="333" y="1012"/>
                </a:lnTo>
                <a:lnTo>
                  <a:pt x="344" y="1034"/>
                </a:lnTo>
                <a:lnTo>
                  <a:pt x="356" y="1055"/>
                </a:lnTo>
                <a:lnTo>
                  <a:pt x="367" y="1077"/>
                </a:lnTo>
                <a:lnTo>
                  <a:pt x="379" y="1100"/>
                </a:lnTo>
                <a:lnTo>
                  <a:pt x="390" y="1122"/>
                </a:lnTo>
                <a:lnTo>
                  <a:pt x="402" y="1143"/>
                </a:lnTo>
                <a:lnTo>
                  <a:pt x="412" y="1164"/>
                </a:lnTo>
                <a:lnTo>
                  <a:pt x="424" y="1184"/>
                </a:lnTo>
                <a:lnTo>
                  <a:pt x="433" y="1203"/>
                </a:lnTo>
                <a:lnTo>
                  <a:pt x="444" y="1220"/>
                </a:lnTo>
                <a:lnTo>
                  <a:pt x="453" y="1238"/>
                </a:lnTo>
                <a:lnTo>
                  <a:pt x="462" y="1257"/>
                </a:lnTo>
                <a:lnTo>
                  <a:pt x="472" y="1277"/>
                </a:lnTo>
                <a:lnTo>
                  <a:pt x="483" y="1296"/>
                </a:lnTo>
                <a:lnTo>
                  <a:pt x="495" y="1317"/>
                </a:lnTo>
                <a:lnTo>
                  <a:pt x="506" y="1338"/>
                </a:lnTo>
                <a:lnTo>
                  <a:pt x="517" y="1358"/>
                </a:lnTo>
                <a:lnTo>
                  <a:pt x="529" y="1379"/>
                </a:lnTo>
                <a:lnTo>
                  <a:pt x="539" y="1400"/>
                </a:lnTo>
                <a:lnTo>
                  <a:pt x="550" y="1420"/>
                </a:lnTo>
                <a:lnTo>
                  <a:pt x="560" y="1439"/>
                </a:lnTo>
                <a:lnTo>
                  <a:pt x="571" y="1456"/>
                </a:lnTo>
                <a:lnTo>
                  <a:pt x="580" y="1474"/>
                </a:lnTo>
                <a:lnTo>
                  <a:pt x="589" y="1489"/>
                </a:lnTo>
                <a:lnTo>
                  <a:pt x="597" y="1503"/>
                </a:lnTo>
                <a:lnTo>
                  <a:pt x="605" y="1513"/>
                </a:lnTo>
                <a:lnTo>
                  <a:pt x="611" y="1526"/>
                </a:lnTo>
                <a:lnTo>
                  <a:pt x="618" y="1538"/>
                </a:lnTo>
                <a:lnTo>
                  <a:pt x="627" y="1553"/>
                </a:lnTo>
                <a:lnTo>
                  <a:pt x="637" y="1566"/>
                </a:lnTo>
                <a:lnTo>
                  <a:pt x="646" y="1581"/>
                </a:lnTo>
                <a:lnTo>
                  <a:pt x="658" y="1596"/>
                </a:lnTo>
                <a:lnTo>
                  <a:pt x="669" y="1612"/>
                </a:lnTo>
                <a:lnTo>
                  <a:pt x="682" y="1628"/>
                </a:lnTo>
                <a:lnTo>
                  <a:pt x="693" y="1644"/>
                </a:lnTo>
                <a:lnTo>
                  <a:pt x="706" y="1659"/>
                </a:lnTo>
                <a:lnTo>
                  <a:pt x="717" y="1675"/>
                </a:lnTo>
                <a:lnTo>
                  <a:pt x="730" y="1689"/>
                </a:lnTo>
                <a:lnTo>
                  <a:pt x="741" y="1704"/>
                </a:lnTo>
                <a:lnTo>
                  <a:pt x="753" y="1717"/>
                </a:lnTo>
                <a:lnTo>
                  <a:pt x="764" y="1729"/>
                </a:lnTo>
                <a:lnTo>
                  <a:pt x="775" y="1739"/>
                </a:lnTo>
                <a:lnTo>
                  <a:pt x="785" y="1750"/>
                </a:lnTo>
                <a:lnTo>
                  <a:pt x="797" y="1762"/>
                </a:lnTo>
                <a:lnTo>
                  <a:pt x="809" y="1775"/>
                </a:lnTo>
                <a:lnTo>
                  <a:pt x="822" y="1786"/>
                </a:lnTo>
                <a:lnTo>
                  <a:pt x="835" y="1799"/>
                </a:lnTo>
                <a:lnTo>
                  <a:pt x="850" y="1812"/>
                </a:lnTo>
                <a:lnTo>
                  <a:pt x="864" y="1825"/>
                </a:lnTo>
                <a:lnTo>
                  <a:pt x="879" y="1836"/>
                </a:lnTo>
                <a:lnTo>
                  <a:pt x="892" y="1849"/>
                </a:lnTo>
                <a:lnTo>
                  <a:pt x="907" y="1861"/>
                </a:lnTo>
                <a:lnTo>
                  <a:pt x="921" y="1872"/>
                </a:lnTo>
                <a:lnTo>
                  <a:pt x="935" y="1882"/>
                </a:lnTo>
                <a:lnTo>
                  <a:pt x="948" y="1892"/>
                </a:lnTo>
                <a:lnTo>
                  <a:pt x="960" y="1901"/>
                </a:lnTo>
                <a:lnTo>
                  <a:pt x="971" y="1909"/>
                </a:lnTo>
                <a:lnTo>
                  <a:pt x="983" y="1914"/>
                </a:lnTo>
                <a:lnTo>
                  <a:pt x="992" y="1922"/>
                </a:lnTo>
                <a:lnTo>
                  <a:pt x="1001" y="1928"/>
                </a:lnTo>
                <a:lnTo>
                  <a:pt x="1011" y="1934"/>
                </a:lnTo>
                <a:lnTo>
                  <a:pt x="1022" y="1940"/>
                </a:lnTo>
                <a:lnTo>
                  <a:pt x="1031" y="1948"/>
                </a:lnTo>
                <a:lnTo>
                  <a:pt x="1042" y="1953"/>
                </a:lnTo>
                <a:lnTo>
                  <a:pt x="1051" y="1960"/>
                </a:lnTo>
                <a:lnTo>
                  <a:pt x="1062" y="1966"/>
                </a:lnTo>
                <a:lnTo>
                  <a:pt x="1070" y="1972"/>
                </a:lnTo>
                <a:lnTo>
                  <a:pt x="1079" y="1978"/>
                </a:lnTo>
                <a:lnTo>
                  <a:pt x="1087" y="1983"/>
                </a:lnTo>
                <a:lnTo>
                  <a:pt x="1096" y="1988"/>
                </a:lnTo>
                <a:lnTo>
                  <a:pt x="1103" y="1992"/>
                </a:lnTo>
                <a:lnTo>
                  <a:pt x="1109" y="1996"/>
                </a:lnTo>
                <a:lnTo>
                  <a:pt x="1114" y="1998"/>
                </a:lnTo>
                <a:lnTo>
                  <a:pt x="1119" y="2000"/>
                </a:lnTo>
                <a:lnTo>
                  <a:pt x="1123" y="2003"/>
                </a:lnTo>
                <a:lnTo>
                  <a:pt x="1126" y="2005"/>
                </a:lnTo>
                <a:lnTo>
                  <a:pt x="1131" y="2008"/>
                </a:lnTo>
                <a:lnTo>
                  <a:pt x="1137" y="2010"/>
                </a:lnTo>
                <a:lnTo>
                  <a:pt x="1144" y="2013"/>
                </a:lnTo>
                <a:lnTo>
                  <a:pt x="1151" y="2015"/>
                </a:lnTo>
                <a:lnTo>
                  <a:pt x="1159" y="2019"/>
                </a:lnTo>
                <a:lnTo>
                  <a:pt x="1167" y="2021"/>
                </a:lnTo>
                <a:lnTo>
                  <a:pt x="1174" y="2024"/>
                </a:lnTo>
                <a:lnTo>
                  <a:pt x="1182" y="2027"/>
                </a:lnTo>
                <a:lnTo>
                  <a:pt x="1190" y="2031"/>
                </a:lnTo>
                <a:lnTo>
                  <a:pt x="1199" y="2032"/>
                </a:lnTo>
                <a:lnTo>
                  <a:pt x="1207" y="2036"/>
                </a:lnTo>
                <a:lnTo>
                  <a:pt x="1215" y="2038"/>
                </a:lnTo>
                <a:lnTo>
                  <a:pt x="1223" y="2039"/>
                </a:lnTo>
                <a:lnTo>
                  <a:pt x="1232" y="2041"/>
                </a:lnTo>
                <a:lnTo>
                  <a:pt x="1239" y="2045"/>
                </a:lnTo>
                <a:lnTo>
                  <a:pt x="1247" y="2047"/>
                </a:lnTo>
                <a:lnTo>
                  <a:pt x="1256" y="2049"/>
                </a:lnTo>
                <a:lnTo>
                  <a:pt x="1267" y="2051"/>
                </a:lnTo>
                <a:lnTo>
                  <a:pt x="1279" y="2055"/>
                </a:lnTo>
                <a:lnTo>
                  <a:pt x="1290" y="2057"/>
                </a:lnTo>
                <a:lnTo>
                  <a:pt x="1303" y="2060"/>
                </a:lnTo>
                <a:lnTo>
                  <a:pt x="1317" y="2062"/>
                </a:lnTo>
                <a:lnTo>
                  <a:pt x="1330" y="2066"/>
                </a:lnTo>
                <a:lnTo>
                  <a:pt x="1343" y="2068"/>
                </a:lnTo>
                <a:lnTo>
                  <a:pt x="1357" y="2070"/>
                </a:lnTo>
                <a:lnTo>
                  <a:pt x="1371" y="2072"/>
                </a:lnTo>
                <a:lnTo>
                  <a:pt x="1383" y="2075"/>
                </a:lnTo>
                <a:lnTo>
                  <a:pt x="1397" y="2077"/>
                </a:lnTo>
                <a:lnTo>
                  <a:pt x="1408" y="2079"/>
                </a:lnTo>
                <a:lnTo>
                  <a:pt x="1421" y="2080"/>
                </a:lnTo>
                <a:lnTo>
                  <a:pt x="1431" y="2082"/>
                </a:lnTo>
                <a:lnTo>
                  <a:pt x="1443" y="2084"/>
                </a:lnTo>
                <a:lnTo>
                  <a:pt x="1456" y="2086"/>
                </a:lnTo>
                <a:lnTo>
                  <a:pt x="1470" y="2088"/>
                </a:lnTo>
                <a:lnTo>
                  <a:pt x="1484" y="2090"/>
                </a:lnTo>
                <a:lnTo>
                  <a:pt x="1499" y="2092"/>
                </a:lnTo>
                <a:lnTo>
                  <a:pt x="1514" y="2094"/>
                </a:lnTo>
                <a:lnTo>
                  <a:pt x="1529" y="2095"/>
                </a:lnTo>
                <a:lnTo>
                  <a:pt x="1542" y="2097"/>
                </a:lnTo>
                <a:lnTo>
                  <a:pt x="1557" y="2098"/>
                </a:lnTo>
                <a:lnTo>
                  <a:pt x="1571" y="2100"/>
                </a:lnTo>
                <a:lnTo>
                  <a:pt x="1585" y="2100"/>
                </a:lnTo>
                <a:lnTo>
                  <a:pt x="1597" y="2102"/>
                </a:lnTo>
                <a:lnTo>
                  <a:pt x="1609" y="2102"/>
                </a:lnTo>
                <a:lnTo>
                  <a:pt x="1620" y="2102"/>
                </a:lnTo>
                <a:lnTo>
                  <a:pt x="1631" y="2102"/>
                </a:lnTo>
                <a:lnTo>
                  <a:pt x="1639" y="2103"/>
                </a:lnTo>
                <a:lnTo>
                  <a:pt x="1650" y="2103"/>
                </a:lnTo>
                <a:lnTo>
                  <a:pt x="1662" y="2103"/>
                </a:lnTo>
                <a:lnTo>
                  <a:pt x="1675" y="2103"/>
                </a:lnTo>
                <a:lnTo>
                  <a:pt x="1689" y="2103"/>
                </a:lnTo>
                <a:lnTo>
                  <a:pt x="1703" y="2103"/>
                </a:lnTo>
                <a:lnTo>
                  <a:pt x="1718" y="2103"/>
                </a:lnTo>
                <a:lnTo>
                  <a:pt x="1733" y="2103"/>
                </a:lnTo>
                <a:lnTo>
                  <a:pt x="1748" y="2103"/>
                </a:lnTo>
                <a:lnTo>
                  <a:pt x="1763" y="2103"/>
                </a:lnTo>
                <a:lnTo>
                  <a:pt x="1778" y="2103"/>
                </a:lnTo>
                <a:lnTo>
                  <a:pt x="1793" y="2103"/>
                </a:lnTo>
                <a:lnTo>
                  <a:pt x="1806" y="2103"/>
                </a:lnTo>
                <a:lnTo>
                  <a:pt x="1821" y="2102"/>
                </a:lnTo>
                <a:lnTo>
                  <a:pt x="1833" y="2102"/>
                </a:lnTo>
                <a:lnTo>
                  <a:pt x="1846" y="2100"/>
                </a:lnTo>
                <a:lnTo>
                  <a:pt x="1856" y="2100"/>
                </a:lnTo>
                <a:lnTo>
                  <a:pt x="1868" y="2100"/>
                </a:lnTo>
                <a:lnTo>
                  <a:pt x="1881" y="2100"/>
                </a:lnTo>
                <a:lnTo>
                  <a:pt x="1896" y="2099"/>
                </a:lnTo>
                <a:lnTo>
                  <a:pt x="1909" y="2099"/>
                </a:lnTo>
                <a:lnTo>
                  <a:pt x="1924" y="2097"/>
                </a:lnTo>
                <a:lnTo>
                  <a:pt x="1939" y="2097"/>
                </a:lnTo>
                <a:lnTo>
                  <a:pt x="1955" y="2096"/>
                </a:lnTo>
                <a:lnTo>
                  <a:pt x="1969" y="2096"/>
                </a:lnTo>
                <a:lnTo>
                  <a:pt x="1984" y="2094"/>
                </a:lnTo>
                <a:lnTo>
                  <a:pt x="1997" y="2094"/>
                </a:lnTo>
                <a:lnTo>
                  <a:pt x="2012" y="2092"/>
                </a:lnTo>
                <a:lnTo>
                  <a:pt x="2023" y="2092"/>
                </a:lnTo>
                <a:lnTo>
                  <a:pt x="2036" y="2090"/>
                </a:lnTo>
                <a:lnTo>
                  <a:pt x="2047" y="2090"/>
                </a:lnTo>
                <a:lnTo>
                  <a:pt x="2058" y="2088"/>
                </a:lnTo>
                <a:lnTo>
                  <a:pt x="2065" y="2088"/>
                </a:lnTo>
                <a:lnTo>
                  <a:pt x="2070" y="2088"/>
                </a:lnTo>
                <a:lnTo>
                  <a:pt x="2074" y="2088"/>
                </a:lnTo>
                <a:lnTo>
                  <a:pt x="2078" y="2087"/>
                </a:lnTo>
                <a:lnTo>
                  <a:pt x="2080" y="2087"/>
                </a:lnTo>
                <a:lnTo>
                  <a:pt x="2081" y="2087"/>
                </a:lnTo>
                <a:lnTo>
                  <a:pt x="2083" y="2087"/>
                </a:lnTo>
                <a:lnTo>
                  <a:pt x="2086" y="2086"/>
                </a:lnTo>
                <a:lnTo>
                  <a:pt x="2088" y="2086"/>
                </a:lnTo>
                <a:lnTo>
                  <a:pt x="2091" y="2086"/>
                </a:lnTo>
                <a:lnTo>
                  <a:pt x="2096" y="2086"/>
                </a:lnTo>
                <a:lnTo>
                  <a:pt x="2103" y="2085"/>
                </a:lnTo>
                <a:lnTo>
                  <a:pt x="2111" y="2085"/>
                </a:lnTo>
                <a:lnTo>
                  <a:pt x="2121" y="2083"/>
                </a:lnTo>
                <a:lnTo>
                  <a:pt x="2135" y="2082"/>
                </a:lnTo>
                <a:lnTo>
                  <a:pt x="2151" y="208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30720" y="1809720"/>
            <a:ext cx="2498760" cy="2870280"/>
          </a:xfrm>
          <a:custGeom>
            <a:avLst/>
            <a:gdLst/>
            <a:ahLst/>
            <a:rect l="l" t="t" r="r" b="b"/>
            <a:pathLst>
              <a:path w="1574" h="1808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8"/>
                </a:lnTo>
                <a:lnTo>
                  <a:pt x="4" y="45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6"/>
                </a:lnTo>
                <a:lnTo>
                  <a:pt x="6" y="67"/>
                </a:lnTo>
                <a:lnTo>
                  <a:pt x="6" y="71"/>
                </a:lnTo>
                <a:lnTo>
                  <a:pt x="7" y="74"/>
                </a:lnTo>
                <a:lnTo>
                  <a:pt x="8" y="80"/>
                </a:lnTo>
                <a:lnTo>
                  <a:pt x="10" y="86"/>
                </a:lnTo>
                <a:lnTo>
                  <a:pt x="10" y="96"/>
                </a:lnTo>
                <a:lnTo>
                  <a:pt x="11" y="108"/>
                </a:lnTo>
                <a:lnTo>
                  <a:pt x="12" y="122"/>
                </a:lnTo>
                <a:lnTo>
                  <a:pt x="15" y="137"/>
                </a:lnTo>
                <a:lnTo>
                  <a:pt x="17" y="155"/>
                </a:lnTo>
                <a:lnTo>
                  <a:pt x="21" y="175"/>
                </a:lnTo>
                <a:lnTo>
                  <a:pt x="24" y="195"/>
                </a:lnTo>
                <a:lnTo>
                  <a:pt x="29" y="216"/>
                </a:lnTo>
                <a:lnTo>
                  <a:pt x="32" y="240"/>
                </a:lnTo>
                <a:lnTo>
                  <a:pt x="38" y="262"/>
                </a:lnTo>
                <a:lnTo>
                  <a:pt x="41" y="286"/>
                </a:lnTo>
                <a:lnTo>
                  <a:pt x="47" y="308"/>
                </a:lnTo>
                <a:lnTo>
                  <a:pt x="51" y="332"/>
                </a:lnTo>
                <a:lnTo>
                  <a:pt x="57" y="355"/>
                </a:lnTo>
                <a:lnTo>
                  <a:pt x="62" y="378"/>
                </a:lnTo>
                <a:lnTo>
                  <a:pt x="68" y="399"/>
                </a:lnTo>
                <a:lnTo>
                  <a:pt x="72" y="422"/>
                </a:lnTo>
                <a:lnTo>
                  <a:pt x="78" y="444"/>
                </a:lnTo>
                <a:lnTo>
                  <a:pt x="83" y="468"/>
                </a:lnTo>
                <a:lnTo>
                  <a:pt x="89" y="492"/>
                </a:lnTo>
                <a:lnTo>
                  <a:pt x="95" y="518"/>
                </a:lnTo>
                <a:lnTo>
                  <a:pt x="102" y="542"/>
                </a:lnTo>
                <a:lnTo>
                  <a:pt x="108" y="566"/>
                </a:lnTo>
                <a:lnTo>
                  <a:pt x="115" y="590"/>
                </a:lnTo>
                <a:lnTo>
                  <a:pt x="120" y="614"/>
                </a:lnTo>
                <a:lnTo>
                  <a:pt x="128" y="637"/>
                </a:lnTo>
                <a:lnTo>
                  <a:pt x="133" y="659"/>
                </a:lnTo>
                <a:lnTo>
                  <a:pt x="140" y="678"/>
                </a:lnTo>
                <a:lnTo>
                  <a:pt x="146" y="698"/>
                </a:lnTo>
                <a:lnTo>
                  <a:pt x="152" y="714"/>
                </a:lnTo>
                <a:lnTo>
                  <a:pt x="157" y="728"/>
                </a:lnTo>
                <a:lnTo>
                  <a:pt x="163" y="739"/>
                </a:lnTo>
                <a:lnTo>
                  <a:pt x="167" y="752"/>
                </a:lnTo>
                <a:lnTo>
                  <a:pt x="172" y="765"/>
                </a:lnTo>
                <a:lnTo>
                  <a:pt x="177" y="780"/>
                </a:lnTo>
                <a:lnTo>
                  <a:pt x="184" y="795"/>
                </a:lnTo>
                <a:lnTo>
                  <a:pt x="190" y="812"/>
                </a:lnTo>
                <a:lnTo>
                  <a:pt x="197" y="829"/>
                </a:lnTo>
                <a:lnTo>
                  <a:pt x="205" y="848"/>
                </a:lnTo>
                <a:lnTo>
                  <a:pt x="212" y="866"/>
                </a:lnTo>
                <a:lnTo>
                  <a:pt x="220" y="885"/>
                </a:lnTo>
                <a:lnTo>
                  <a:pt x="227" y="904"/>
                </a:lnTo>
                <a:lnTo>
                  <a:pt x="235" y="922"/>
                </a:lnTo>
                <a:lnTo>
                  <a:pt x="242" y="940"/>
                </a:lnTo>
                <a:lnTo>
                  <a:pt x="248" y="958"/>
                </a:lnTo>
                <a:lnTo>
                  <a:pt x="256" y="974"/>
                </a:lnTo>
                <a:lnTo>
                  <a:pt x="262" y="990"/>
                </a:lnTo>
                <a:lnTo>
                  <a:pt x="270" y="1004"/>
                </a:lnTo>
                <a:lnTo>
                  <a:pt x="275" y="1020"/>
                </a:lnTo>
                <a:lnTo>
                  <a:pt x="282" y="1034"/>
                </a:lnTo>
                <a:lnTo>
                  <a:pt x="288" y="1051"/>
                </a:lnTo>
                <a:lnTo>
                  <a:pt x="295" y="1068"/>
                </a:lnTo>
                <a:lnTo>
                  <a:pt x="303" y="1086"/>
                </a:lnTo>
                <a:lnTo>
                  <a:pt x="310" y="1102"/>
                </a:lnTo>
                <a:lnTo>
                  <a:pt x="318" y="1120"/>
                </a:lnTo>
                <a:lnTo>
                  <a:pt x="326" y="1137"/>
                </a:lnTo>
                <a:lnTo>
                  <a:pt x="333" y="1154"/>
                </a:lnTo>
                <a:lnTo>
                  <a:pt x="340" y="1171"/>
                </a:lnTo>
                <a:lnTo>
                  <a:pt x="347" y="1187"/>
                </a:lnTo>
                <a:lnTo>
                  <a:pt x="354" y="1201"/>
                </a:lnTo>
                <a:lnTo>
                  <a:pt x="360" y="1216"/>
                </a:lnTo>
                <a:lnTo>
                  <a:pt x="366" y="1228"/>
                </a:lnTo>
                <a:lnTo>
                  <a:pt x="372" y="1240"/>
                </a:lnTo>
                <a:lnTo>
                  <a:pt x="378" y="1248"/>
                </a:lnTo>
                <a:lnTo>
                  <a:pt x="381" y="1259"/>
                </a:lnTo>
                <a:lnTo>
                  <a:pt x="386" y="1269"/>
                </a:lnTo>
                <a:lnTo>
                  <a:pt x="392" y="1281"/>
                </a:lnTo>
                <a:lnTo>
                  <a:pt x="400" y="1292"/>
                </a:lnTo>
                <a:lnTo>
                  <a:pt x="406" y="1305"/>
                </a:lnTo>
                <a:lnTo>
                  <a:pt x="414" y="1318"/>
                </a:lnTo>
                <a:lnTo>
                  <a:pt x="421" y="1331"/>
                </a:lnTo>
                <a:lnTo>
                  <a:pt x="431" y="1344"/>
                </a:lnTo>
                <a:lnTo>
                  <a:pt x="438" y="1357"/>
                </a:lnTo>
                <a:lnTo>
                  <a:pt x="448" y="1370"/>
                </a:lnTo>
                <a:lnTo>
                  <a:pt x="456" y="1383"/>
                </a:lnTo>
                <a:lnTo>
                  <a:pt x="466" y="1395"/>
                </a:lnTo>
                <a:lnTo>
                  <a:pt x="473" y="1408"/>
                </a:lnTo>
                <a:lnTo>
                  <a:pt x="482" y="1419"/>
                </a:lnTo>
                <a:lnTo>
                  <a:pt x="490" y="1429"/>
                </a:lnTo>
                <a:lnTo>
                  <a:pt x="499" y="1438"/>
                </a:lnTo>
                <a:lnTo>
                  <a:pt x="506" y="1448"/>
                </a:lnTo>
                <a:lnTo>
                  <a:pt x="514" y="1458"/>
                </a:lnTo>
                <a:lnTo>
                  <a:pt x="523" y="1469"/>
                </a:lnTo>
                <a:lnTo>
                  <a:pt x="533" y="1478"/>
                </a:lnTo>
                <a:lnTo>
                  <a:pt x="542" y="1490"/>
                </a:lnTo>
                <a:lnTo>
                  <a:pt x="553" y="1501"/>
                </a:lnTo>
                <a:lnTo>
                  <a:pt x="564" y="1512"/>
                </a:lnTo>
                <a:lnTo>
                  <a:pt x="575" y="1522"/>
                </a:lnTo>
                <a:lnTo>
                  <a:pt x="584" y="1533"/>
                </a:lnTo>
                <a:lnTo>
                  <a:pt x="596" y="1543"/>
                </a:lnTo>
                <a:lnTo>
                  <a:pt x="605" y="1553"/>
                </a:lnTo>
                <a:lnTo>
                  <a:pt x="617" y="1562"/>
                </a:lnTo>
                <a:lnTo>
                  <a:pt x="625" y="1572"/>
                </a:lnTo>
                <a:lnTo>
                  <a:pt x="635" y="1579"/>
                </a:lnTo>
                <a:lnTo>
                  <a:pt x="643" y="1586"/>
                </a:lnTo>
                <a:lnTo>
                  <a:pt x="652" y="1592"/>
                </a:lnTo>
                <a:lnTo>
                  <a:pt x="658" y="1599"/>
                </a:lnTo>
                <a:lnTo>
                  <a:pt x="666" y="1604"/>
                </a:lnTo>
                <a:lnTo>
                  <a:pt x="674" y="1610"/>
                </a:lnTo>
                <a:lnTo>
                  <a:pt x="681" y="1616"/>
                </a:lnTo>
                <a:lnTo>
                  <a:pt x="688" y="1622"/>
                </a:lnTo>
                <a:lnTo>
                  <a:pt x="696" y="1627"/>
                </a:lnTo>
                <a:lnTo>
                  <a:pt x="703" y="1633"/>
                </a:lnTo>
                <a:lnTo>
                  <a:pt x="712" y="1638"/>
                </a:lnTo>
                <a:lnTo>
                  <a:pt x="718" y="1644"/>
                </a:lnTo>
                <a:lnTo>
                  <a:pt x="725" y="1650"/>
                </a:lnTo>
                <a:lnTo>
                  <a:pt x="731" y="1655"/>
                </a:lnTo>
                <a:lnTo>
                  <a:pt x="738" y="1658"/>
                </a:lnTo>
                <a:lnTo>
                  <a:pt x="742" y="1662"/>
                </a:lnTo>
                <a:lnTo>
                  <a:pt x="747" y="1666"/>
                </a:lnTo>
                <a:lnTo>
                  <a:pt x="751" y="1668"/>
                </a:lnTo>
                <a:lnTo>
                  <a:pt x="754" y="1669"/>
                </a:lnTo>
                <a:lnTo>
                  <a:pt x="756" y="1672"/>
                </a:lnTo>
                <a:lnTo>
                  <a:pt x="760" y="1674"/>
                </a:lnTo>
                <a:lnTo>
                  <a:pt x="764" y="1677"/>
                </a:lnTo>
                <a:lnTo>
                  <a:pt x="769" y="1678"/>
                </a:lnTo>
                <a:lnTo>
                  <a:pt x="773" y="1682"/>
                </a:lnTo>
                <a:lnTo>
                  <a:pt x="779" y="1684"/>
                </a:lnTo>
                <a:lnTo>
                  <a:pt x="784" y="1688"/>
                </a:lnTo>
                <a:lnTo>
                  <a:pt x="791" y="1690"/>
                </a:lnTo>
                <a:lnTo>
                  <a:pt x="796" y="1694"/>
                </a:lnTo>
                <a:lnTo>
                  <a:pt x="802" y="1697"/>
                </a:lnTo>
                <a:lnTo>
                  <a:pt x="808" y="1700"/>
                </a:lnTo>
                <a:lnTo>
                  <a:pt x="815" y="1702"/>
                </a:lnTo>
                <a:lnTo>
                  <a:pt x="821" y="1706"/>
                </a:lnTo>
                <a:lnTo>
                  <a:pt x="828" y="1708"/>
                </a:lnTo>
                <a:lnTo>
                  <a:pt x="833" y="1710"/>
                </a:lnTo>
                <a:lnTo>
                  <a:pt x="840" y="1712"/>
                </a:lnTo>
                <a:lnTo>
                  <a:pt x="845" y="1715"/>
                </a:lnTo>
                <a:lnTo>
                  <a:pt x="852" y="1717"/>
                </a:lnTo>
                <a:lnTo>
                  <a:pt x="859" y="1720"/>
                </a:lnTo>
                <a:lnTo>
                  <a:pt x="868" y="1722"/>
                </a:lnTo>
                <a:lnTo>
                  <a:pt x="877" y="1726"/>
                </a:lnTo>
                <a:lnTo>
                  <a:pt x="887" y="1729"/>
                </a:lnTo>
                <a:lnTo>
                  <a:pt x="897" y="1733"/>
                </a:lnTo>
                <a:lnTo>
                  <a:pt x="908" y="1735"/>
                </a:lnTo>
                <a:lnTo>
                  <a:pt x="917" y="1738"/>
                </a:lnTo>
                <a:lnTo>
                  <a:pt x="929" y="1742"/>
                </a:lnTo>
                <a:lnTo>
                  <a:pt x="939" y="1745"/>
                </a:lnTo>
                <a:lnTo>
                  <a:pt x="950" y="1747"/>
                </a:lnTo>
                <a:lnTo>
                  <a:pt x="959" y="1751"/>
                </a:lnTo>
                <a:lnTo>
                  <a:pt x="970" y="1753"/>
                </a:lnTo>
                <a:lnTo>
                  <a:pt x="980" y="1755"/>
                </a:lnTo>
                <a:lnTo>
                  <a:pt x="990" y="1757"/>
                </a:lnTo>
                <a:lnTo>
                  <a:pt x="997" y="1761"/>
                </a:lnTo>
                <a:lnTo>
                  <a:pt x="1007" y="1763"/>
                </a:lnTo>
                <a:lnTo>
                  <a:pt x="1017" y="1765"/>
                </a:lnTo>
                <a:lnTo>
                  <a:pt x="1028" y="1766"/>
                </a:lnTo>
                <a:lnTo>
                  <a:pt x="1039" y="1770"/>
                </a:lnTo>
                <a:lnTo>
                  <a:pt x="1050" y="1772"/>
                </a:lnTo>
                <a:lnTo>
                  <a:pt x="1062" y="1773"/>
                </a:lnTo>
                <a:lnTo>
                  <a:pt x="1075" y="1775"/>
                </a:lnTo>
                <a:lnTo>
                  <a:pt x="1086" y="1778"/>
                </a:lnTo>
                <a:lnTo>
                  <a:pt x="1097" y="1780"/>
                </a:lnTo>
                <a:lnTo>
                  <a:pt x="1108" y="1782"/>
                </a:lnTo>
                <a:lnTo>
                  <a:pt x="1119" y="1783"/>
                </a:lnTo>
                <a:lnTo>
                  <a:pt x="1128" y="1785"/>
                </a:lnTo>
                <a:lnTo>
                  <a:pt x="1139" y="1786"/>
                </a:lnTo>
                <a:lnTo>
                  <a:pt x="1148" y="1788"/>
                </a:lnTo>
                <a:lnTo>
                  <a:pt x="1156" y="1788"/>
                </a:lnTo>
                <a:lnTo>
                  <a:pt x="1163" y="1790"/>
                </a:lnTo>
                <a:lnTo>
                  <a:pt x="1171" y="1790"/>
                </a:lnTo>
                <a:lnTo>
                  <a:pt x="1181" y="1792"/>
                </a:lnTo>
                <a:lnTo>
                  <a:pt x="1191" y="1792"/>
                </a:lnTo>
                <a:lnTo>
                  <a:pt x="1202" y="1794"/>
                </a:lnTo>
                <a:lnTo>
                  <a:pt x="1213" y="1794"/>
                </a:lnTo>
                <a:lnTo>
                  <a:pt x="1224" y="1796"/>
                </a:lnTo>
                <a:lnTo>
                  <a:pt x="1238" y="1796"/>
                </a:lnTo>
                <a:lnTo>
                  <a:pt x="1249" y="1798"/>
                </a:lnTo>
                <a:lnTo>
                  <a:pt x="1260" y="1798"/>
                </a:lnTo>
                <a:lnTo>
                  <a:pt x="1272" y="1800"/>
                </a:lnTo>
                <a:lnTo>
                  <a:pt x="1285" y="1800"/>
                </a:lnTo>
                <a:lnTo>
                  <a:pt x="1296" y="1801"/>
                </a:lnTo>
                <a:lnTo>
                  <a:pt x="1307" y="1801"/>
                </a:lnTo>
                <a:lnTo>
                  <a:pt x="1317" y="1801"/>
                </a:lnTo>
                <a:lnTo>
                  <a:pt x="1327" y="1801"/>
                </a:lnTo>
                <a:lnTo>
                  <a:pt x="1336" y="1803"/>
                </a:lnTo>
                <a:lnTo>
                  <a:pt x="1346" y="1803"/>
                </a:lnTo>
                <a:lnTo>
                  <a:pt x="1356" y="1804"/>
                </a:lnTo>
                <a:lnTo>
                  <a:pt x="1367" y="1804"/>
                </a:lnTo>
                <a:lnTo>
                  <a:pt x="1378" y="1806"/>
                </a:lnTo>
                <a:lnTo>
                  <a:pt x="1390" y="1806"/>
                </a:lnTo>
                <a:lnTo>
                  <a:pt x="1401" y="1806"/>
                </a:lnTo>
                <a:lnTo>
                  <a:pt x="1414" y="1806"/>
                </a:lnTo>
                <a:lnTo>
                  <a:pt x="1425" y="1807"/>
                </a:lnTo>
                <a:lnTo>
                  <a:pt x="1437" y="1807"/>
                </a:lnTo>
                <a:lnTo>
                  <a:pt x="1448" y="1807"/>
                </a:lnTo>
                <a:lnTo>
                  <a:pt x="1460" y="1807"/>
                </a:lnTo>
                <a:lnTo>
                  <a:pt x="1470" y="1807"/>
                </a:lnTo>
                <a:lnTo>
                  <a:pt x="1480" y="1807"/>
                </a:lnTo>
                <a:lnTo>
                  <a:pt x="1488" y="1807"/>
                </a:lnTo>
                <a:lnTo>
                  <a:pt x="1497" y="1807"/>
                </a:lnTo>
                <a:lnTo>
                  <a:pt x="1502" y="1807"/>
                </a:lnTo>
                <a:lnTo>
                  <a:pt x="1507" y="1807"/>
                </a:lnTo>
                <a:lnTo>
                  <a:pt x="1510" y="1807"/>
                </a:lnTo>
                <a:lnTo>
                  <a:pt x="1513" y="1807"/>
                </a:lnTo>
                <a:lnTo>
                  <a:pt x="1514" y="1807"/>
                </a:lnTo>
                <a:lnTo>
                  <a:pt x="1516" y="1807"/>
                </a:lnTo>
                <a:lnTo>
                  <a:pt x="1518" y="1807"/>
                </a:lnTo>
                <a:lnTo>
                  <a:pt x="1520" y="1807"/>
                </a:lnTo>
                <a:lnTo>
                  <a:pt x="1522" y="1807"/>
                </a:lnTo>
                <a:lnTo>
                  <a:pt x="1524" y="1807"/>
                </a:lnTo>
                <a:lnTo>
                  <a:pt x="1528" y="1807"/>
                </a:lnTo>
                <a:lnTo>
                  <a:pt x="1534" y="1807"/>
                </a:lnTo>
                <a:lnTo>
                  <a:pt x="1540" y="1807"/>
                </a:lnTo>
                <a:lnTo>
                  <a:pt x="1549" y="1807"/>
                </a:lnTo>
                <a:lnTo>
                  <a:pt x="1559" y="1807"/>
                </a:lnTo>
                <a:lnTo>
                  <a:pt x="1573" y="1807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2841480" y="1352160"/>
            <a:ext cx="3260880" cy="5629320"/>
          </a:xfrm>
          <a:prstGeom prst="line">
            <a:avLst/>
          </a:prstGeom>
          <a:ln w="316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4400" y="7048440"/>
            <a:ext cx="712296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884160" y="1593720"/>
            <a:ext cx="0" cy="54547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96760" y="6053040"/>
            <a:ext cx="4681800" cy="1009800"/>
          </a:xfrm>
          <a:custGeom>
            <a:avLst/>
            <a:gdLst/>
            <a:ahLst/>
            <a:rect l="l" t="t" r="r" b="b"/>
            <a:pathLst>
              <a:path w="2949" h="636">
                <a:moveTo>
                  <a:pt x="2938" y="635"/>
                </a:moveTo>
                <a:lnTo>
                  <a:pt x="2948" y="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00c1c2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275680" y="655308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27560" y="70102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74680" y="56386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8520" y="11430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98360" y="693432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310360" y="5638680"/>
            <a:ext cx="70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898560" y="1577880"/>
            <a:ext cx="7102440" cy="5486400"/>
            <a:chOff x="898560" y="1577880"/>
            <a:chExt cx="7102440" cy="5486400"/>
          </a:xfrm>
        </p:grpSpPr>
        <p:sp>
          <p:nvSpPr>
            <p:cNvPr id="1439" name=""/>
            <p:cNvSpPr/>
            <p:nvPr/>
          </p:nvSpPr>
          <p:spPr>
            <a:xfrm>
              <a:off x="898560" y="7064280"/>
              <a:ext cx="710244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898560" y="1577880"/>
              <a:ext cx="0" cy="5486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 rot="19817400">
            <a:off x="3979440" y="3671640"/>
            <a:ext cx="3299040" cy="2038320"/>
          </a:xfrm>
          <a:prstGeom prst="rightArrow">
            <a:avLst>
              <a:gd name="adj1" fmla="val 50000"/>
              <a:gd name="adj2" fmla="val 40463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cc00"/>
                </a:solidFill>
                <a:latin typeface="Times New Roman"/>
              </a:rPr>
              <a:t>preferencias cre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129960" y="379080"/>
            <a:ext cx="94532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quilibrio de Jua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181320" y="2076480"/>
            <a:ext cx="2857680" cy="3279600"/>
          </a:xfrm>
          <a:custGeom>
            <a:avLst/>
            <a:gdLst/>
            <a:ahLst/>
            <a:rect l="l" t="t" r="r" b="b"/>
            <a:pathLst>
              <a:path w="1800" h="2066">
                <a:moveTo>
                  <a:pt x="0" y="0"/>
                </a:moveTo>
                <a:lnTo>
                  <a:pt x="0" y="18"/>
                </a:lnTo>
                <a:lnTo>
                  <a:pt x="2" y="31"/>
                </a:lnTo>
                <a:lnTo>
                  <a:pt x="2" y="42"/>
                </a:lnTo>
                <a:lnTo>
                  <a:pt x="4" y="51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1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7" y="84"/>
                </a:lnTo>
                <a:lnTo>
                  <a:pt x="7" y="91"/>
                </a:lnTo>
                <a:lnTo>
                  <a:pt x="9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7" y="157"/>
                </a:lnTo>
                <a:lnTo>
                  <a:pt x="20" y="178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7" y="274"/>
                </a:lnTo>
                <a:lnTo>
                  <a:pt x="43" y="300"/>
                </a:lnTo>
                <a:lnTo>
                  <a:pt x="48" y="327"/>
                </a:lnTo>
                <a:lnTo>
                  <a:pt x="54" y="353"/>
                </a:lnTo>
                <a:lnTo>
                  <a:pt x="59" y="381"/>
                </a:lnTo>
                <a:lnTo>
                  <a:pt x="65" y="407"/>
                </a:lnTo>
                <a:lnTo>
                  <a:pt x="70" y="432"/>
                </a:lnTo>
                <a:lnTo>
                  <a:pt x="76" y="457"/>
                </a:lnTo>
                <a:lnTo>
                  <a:pt x="81" y="482"/>
                </a:lnTo>
                <a:lnTo>
                  <a:pt x="86" y="509"/>
                </a:lnTo>
                <a:lnTo>
                  <a:pt x="93" y="536"/>
                </a:lnTo>
                <a:lnTo>
                  <a:pt x="100" y="563"/>
                </a:lnTo>
                <a:lnTo>
                  <a:pt x="107" y="592"/>
                </a:lnTo>
                <a:lnTo>
                  <a:pt x="115" y="620"/>
                </a:lnTo>
                <a:lnTo>
                  <a:pt x="122" y="648"/>
                </a:lnTo>
                <a:lnTo>
                  <a:pt x="130" y="675"/>
                </a:lnTo>
                <a:lnTo>
                  <a:pt x="137" y="703"/>
                </a:lnTo>
                <a:lnTo>
                  <a:pt x="144" y="729"/>
                </a:lnTo>
                <a:lnTo>
                  <a:pt x="152" y="754"/>
                </a:lnTo>
                <a:lnTo>
                  <a:pt x="160" y="776"/>
                </a:lnTo>
                <a:lnTo>
                  <a:pt x="165" y="798"/>
                </a:lnTo>
                <a:lnTo>
                  <a:pt x="172" y="816"/>
                </a:lnTo>
                <a:lnTo>
                  <a:pt x="178" y="832"/>
                </a:lnTo>
                <a:lnTo>
                  <a:pt x="184" y="846"/>
                </a:lnTo>
                <a:lnTo>
                  <a:pt x="188" y="859"/>
                </a:lnTo>
                <a:lnTo>
                  <a:pt x="194" y="874"/>
                </a:lnTo>
                <a:lnTo>
                  <a:pt x="200" y="890"/>
                </a:lnTo>
                <a:lnTo>
                  <a:pt x="208" y="907"/>
                </a:lnTo>
                <a:lnTo>
                  <a:pt x="215" y="927"/>
                </a:lnTo>
                <a:lnTo>
                  <a:pt x="223" y="947"/>
                </a:lnTo>
                <a:lnTo>
                  <a:pt x="231" y="967"/>
                </a:lnTo>
                <a:lnTo>
                  <a:pt x="241" y="987"/>
                </a:lnTo>
                <a:lnTo>
                  <a:pt x="248" y="1010"/>
                </a:lnTo>
                <a:lnTo>
                  <a:pt x="258" y="1031"/>
                </a:lnTo>
                <a:lnTo>
                  <a:pt x="266" y="1052"/>
                </a:lnTo>
                <a:lnTo>
                  <a:pt x="275" y="1073"/>
                </a:lnTo>
                <a:lnTo>
                  <a:pt x="282" y="1093"/>
                </a:lnTo>
                <a:lnTo>
                  <a:pt x="291" y="1112"/>
                </a:lnTo>
                <a:lnTo>
                  <a:pt x="299" y="1130"/>
                </a:lnTo>
                <a:lnTo>
                  <a:pt x="307" y="1146"/>
                </a:lnTo>
                <a:lnTo>
                  <a:pt x="313" y="1164"/>
                </a:lnTo>
                <a:lnTo>
                  <a:pt x="320" y="1181"/>
                </a:lnTo>
                <a:lnTo>
                  <a:pt x="328" y="1200"/>
                </a:lnTo>
                <a:lnTo>
                  <a:pt x="337" y="1219"/>
                </a:lnTo>
                <a:lnTo>
                  <a:pt x="345" y="1239"/>
                </a:lnTo>
                <a:lnTo>
                  <a:pt x="354" y="1259"/>
                </a:lnTo>
                <a:lnTo>
                  <a:pt x="363" y="1279"/>
                </a:lnTo>
                <a:lnTo>
                  <a:pt x="372" y="1298"/>
                </a:lnTo>
                <a:lnTo>
                  <a:pt x="380" y="1318"/>
                </a:lnTo>
                <a:lnTo>
                  <a:pt x="388" y="1337"/>
                </a:lnTo>
                <a:lnTo>
                  <a:pt x="396" y="1356"/>
                </a:lnTo>
                <a:lnTo>
                  <a:pt x="405" y="1372"/>
                </a:lnTo>
                <a:lnTo>
                  <a:pt x="411" y="1388"/>
                </a:lnTo>
                <a:lnTo>
                  <a:pt x="418" y="1403"/>
                </a:lnTo>
                <a:lnTo>
                  <a:pt x="424" y="1416"/>
                </a:lnTo>
                <a:lnTo>
                  <a:pt x="431" y="1426"/>
                </a:lnTo>
                <a:lnTo>
                  <a:pt x="436" y="1438"/>
                </a:lnTo>
                <a:lnTo>
                  <a:pt x="442" y="1450"/>
                </a:lnTo>
                <a:lnTo>
                  <a:pt x="448" y="1463"/>
                </a:lnTo>
                <a:lnTo>
                  <a:pt x="456" y="1476"/>
                </a:lnTo>
                <a:lnTo>
                  <a:pt x="464" y="1492"/>
                </a:lnTo>
                <a:lnTo>
                  <a:pt x="474" y="1506"/>
                </a:lnTo>
                <a:lnTo>
                  <a:pt x="483" y="1522"/>
                </a:lnTo>
                <a:lnTo>
                  <a:pt x="493" y="1536"/>
                </a:lnTo>
                <a:lnTo>
                  <a:pt x="502" y="1553"/>
                </a:lnTo>
                <a:lnTo>
                  <a:pt x="512" y="1568"/>
                </a:lnTo>
                <a:lnTo>
                  <a:pt x="522" y="1582"/>
                </a:lnTo>
                <a:lnTo>
                  <a:pt x="533" y="1596"/>
                </a:lnTo>
                <a:lnTo>
                  <a:pt x="542" y="1611"/>
                </a:lnTo>
                <a:lnTo>
                  <a:pt x="552" y="1623"/>
                </a:lnTo>
                <a:lnTo>
                  <a:pt x="561" y="1635"/>
                </a:lnTo>
                <a:lnTo>
                  <a:pt x="570" y="1646"/>
                </a:lnTo>
                <a:lnTo>
                  <a:pt x="578" y="1657"/>
                </a:lnTo>
                <a:lnTo>
                  <a:pt x="588" y="1668"/>
                </a:lnTo>
                <a:lnTo>
                  <a:pt x="598" y="1680"/>
                </a:lnTo>
                <a:lnTo>
                  <a:pt x="610" y="1692"/>
                </a:lnTo>
                <a:lnTo>
                  <a:pt x="621" y="1705"/>
                </a:lnTo>
                <a:lnTo>
                  <a:pt x="632" y="1717"/>
                </a:lnTo>
                <a:lnTo>
                  <a:pt x="644" y="1730"/>
                </a:lnTo>
                <a:lnTo>
                  <a:pt x="657" y="1741"/>
                </a:lnTo>
                <a:lnTo>
                  <a:pt x="668" y="1754"/>
                </a:lnTo>
                <a:lnTo>
                  <a:pt x="680" y="1766"/>
                </a:lnTo>
                <a:lnTo>
                  <a:pt x="692" y="1777"/>
                </a:lnTo>
                <a:lnTo>
                  <a:pt x="704" y="1788"/>
                </a:lnTo>
                <a:lnTo>
                  <a:pt x="714" y="1798"/>
                </a:lnTo>
                <a:lnTo>
                  <a:pt x="726" y="1807"/>
                </a:lnTo>
                <a:lnTo>
                  <a:pt x="735" y="1815"/>
                </a:lnTo>
                <a:lnTo>
                  <a:pt x="745" y="1822"/>
                </a:lnTo>
                <a:lnTo>
                  <a:pt x="752" y="1830"/>
                </a:lnTo>
                <a:lnTo>
                  <a:pt x="761" y="1836"/>
                </a:lnTo>
                <a:lnTo>
                  <a:pt x="768" y="1843"/>
                </a:lnTo>
                <a:lnTo>
                  <a:pt x="778" y="1849"/>
                </a:lnTo>
                <a:lnTo>
                  <a:pt x="786" y="1856"/>
                </a:lnTo>
                <a:lnTo>
                  <a:pt x="795" y="1862"/>
                </a:lnTo>
                <a:lnTo>
                  <a:pt x="804" y="1869"/>
                </a:lnTo>
                <a:lnTo>
                  <a:pt x="813" y="1874"/>
                </a:lnTo>
                <a:lnTo>
                  <a:pt x="820" y="1881"/>
                </a:lnTo>
                <a:lnTo>
                  <a:pt x="828" y="1886"/>
                </a:lnTo>
                <a:lnTo>
                  <a:pt x="835" y="1892"/>
                </a:lnTo>
                <a:lnTo>
                  <a:pt x="843" y="1896"/>
                </a:lnTo>
                <a:lnTo>
                  <a:pt x="848" y="1902"/>
                </a:lnTo>
                <a:lnTo>
                  <a:pt x="854" y="1905"/>
                </a:lnTo>
                <a:lnTo>
                  <a:pt x="858" y="1908"/>
                </a:lnTo>
                <a:lnTo>
                  <a:pt x="863" y="1910"/>
                </a:lnTo>
                <a:lnTo>
                  <a:pt x="865" y="1913"/>
                </a:lnTo>
                <a:lnTo>
                  <a:pt x="869" y="1915"/>
                </a:lnTo>
                <a:lnTo>
                  <a:pt x="873" y="1918"/>
                </a:lnTo>
                <a:lnTo>
                  <a:pt x="879" y="1920"/>
                </a:lnTo>
                <a:lnTo>
                  <a:pt x="884" y="1924"/>
                </a:lnTo>
                <a:lnTo>
                  <a:pt x="890" y="1926"/>
                </a:lnTo>
                <a:lnTo>
                  <a:pt x="896" y="1930"/>
                </a:lnTo>
                <a:lnTo>
                  <a:pt x="904" y="1932"/>
                </a:lnTo>
                <a:lnTo>
                  <a:pt x="910" y="1936"/>
                </a:lnTo>
                <a:lnTo>
                  <a:pt x="917" y="1940"/>
                </a:lnTo>
                <a:lnTo>
                  <a:pt x="924" y="1943"/>
                </a:lnTo>
                <a:lnTo>
                  <a:pt x="932" y="1945"/>
                </a:lnTo>
                <a:lnTo>
                  <a:pt x="938" y="1949"/>
                </a:lnTo>
                <a:lnTo>
                  <a:pt x="946" y="1951"/>
                </a:lnTo>
                <a:lnTo>
                  <a:pt x="953" y="1955"/>
                </a:lnTo>
                <a:lnTo>
                  <a:pt x="960" y="1957"/>
                </a:lnTo>
                <a:lnTo>
                  <a:pt x="966" y="1961"/>
                </a:lnTo>
                <a:lnTo>
                  <a:pt x="974" y="1963"/>
                </a:lnTo>
                <a:lnTo>
                  <a:pt x="982" y="1967"/>
                </a:lnTo>
                <a:lnTo>
                  <a:pt x="992" y="1969"/>
                </a:lnTo>
                <a:lnTo>
                  <a:pt x="1002" y="1972"/>
                </a:lnTo>
                <a:lnTo>
                  <a:pt x="1013" y="1976"/>
                </a:lnTo>
                <a:lnTo>
                  <a:pt x="1024" y="1980"/>
                </a:lnTo>
                <a:lnTo>
                  <a:pt x="1038" y="1982"/>
                </a:lnTo>
                <a:lnTo>
                  <a:pt x="1049" y="1986"/>
                </a:lnTo>
                <a:lnTo>
                  <a:pt x="1060" y="1990"/>
                </a:lnTo>
                <a:lnTo>
                  <a:pt x="1072" y="1994"/>
                </a:lnTo>
                <a:lnTo>
                  <a:pt x="1085" y="1997"/>
                </a:lnTo>
                <a:lnTo>
                  <a:pt x="1096" y="2001"/>
                </a:lnTo>
                <a:lnTo>
                  <a:pt x="1108" y="2004"/>
                </a:lnTo>
                <a:lnTo>
                  <a:pt x="1119" y="2007"/>
                </a:lnTo>
                <a:lnTo>
                  <a:pt x="1130" y="2009"/>
                </a:lnTo>
                <a:lnTo>
                  <a:pt x="1139" y="2012"/>
                </a:lnTo>
                <a:lnTo>
                  <a:pt x="1150" y="2014"/>
                </a:lnTo>
                <a:lnTo>
                  <a:pt x="1162" y="2018"/>
                </a:lnTo>
                <a:lnTo>
                  <a:pt x="1175" y="2019"/>
                </a:lnTo>
                <a:lnTo>
                  <a:pt x="1187" y="2023"/>
                </a:lnTo>
                <a:lnTo>
                  <a:pt x="1200" y="2025"/>
                </a:lnTo>
                <a:lnTo>
                  <a:pt x="1214" y="2028"/>
                </a:lnTo>
                <a:lnTo>
                  <a:pt x="1228" y="2029"/>
                </a:lnTo>
                <a:lnTo>
                  <a:pt x="1240" y="2033"/>
                </a:lnTo>
                <a:lnTo>
                  <a:pt x="1254" y="2035"/>
                </a:lnTo>
                <a:lnTo>
                  <a:pt x="1266" y="2038"/>
                </a:lnTo>
                <a:lnTo>
                  <a:pt x="1279" y="2039"/>
                </a:lnTo>
                <a:lnTo>
                  <a:pt x="1290" y="2041"/>
                </a:lnTo>
                <a:lnTo>
                  <a:pt x="1302" y="2043"/>
                </a:lnTo>
                <a:lnTo>
                  <a:pt x="1311" y="2045"/>
                </a:lnTo>
                <a:lnTo>
                  <a:pt x="1321" y="2045"/>
                </a:lnTo>
                <a:lnTo>
                  <a:pt x="1329" y="2047"/>
                </a:lnTo>
                <a:lnTo>
                  <a:pt x="1339" y="2048"/>
                </a:lnTo>
                <a:lnTo>
                  <a:pt x="1350" y="2049"/>
                </a:lnTo>
                <a:lnTo>
                  <a:pt x="1361" y="2049"/>
                </a:lnTo>
                <a:lnTo>
                  <a:pt x="1373" y="2051"/>
                </a:lnTo>
                <a:lnTo>
                  <a:pt x="1386" y="2051"/>
                </a:lnTo>
                <a:lnTo>
                  <a:pt x="1400" y="2053"/>
                </a:lnTo>
                <a:lnTo>
                  <a:pt x="1414" y="2053"/>
                </a:lnTo>
                <a:lnTo>
                  <a:pt x="1428" y="2055"/>
                </a:lnTo>
                <a:lnTo>
                  <a:pt x="1441" y="2056"/>
                </a:lnTo>
                <a:lnTo>
                  <a:pt x="1454" y="2058"/>
                </a:lnTo>
                <a:lnTo>
                  <a:pt x="1469" y="2058"/>
                </a:lnTo>
                <a:lnTo>
                  <a:pt x="1480" y="2059"/>
                </a:lnTo>
                <a:lnTo>
                  <a:pt x="1494" y="2059"/>
                </a:lnTo>
                <a:lnTo>
                  <a:pt x="1505" y="2060"/>
                </a:lnTo>
                <a:lnTo>
                  <a:pt x="1517" y="2060"/>
                </a:lnTo>
                <a:lnTo>
                  <a:pt x="1527" y="2062"/>
                </a:lnTo>
                <a:lnTo>
                  <a:pt x="1538" y="2062"/>
                </a:lnTo>
                <a:lnTo>
                  <a:pt x="1550" y="2062"/>
                </a:lnTo>
                <a:lnTo>
                  <a:pt x="1563" y="2062"/>
                </a:lnTo>
                <a:lnTo>
                  <a:pt x="1576" y="2064"/>
                </a:lnTo>
                <a:lnTo>
                  <a:pt x="1589" y="2064"/>
                </a:lnTo>
                <a:lnTo>
                  <a:pt x="1602" y="2064"/>
                </a:lnTo>
                <a:lnTo>
                  <a:pt x="1617" y="2064"/>
                </a:lnTo>
                <a:lnTo>
                  <a:pt x="1630" y="2065"/>
                </a:lnTo>
                <a:lnTo>
                  <a:pt x="1644" y="2065"/>
                </a:lnTo>
                <a:lnTo>
                  <a:pt x="1656" y="2065"/>
                </a:lnTo>
                <a:lnTo>
                  <a:pt x="1670" y="2065"/>
                </a:lnTo>
                <a:lnTo>
                  <a:pt x="1681" y="2065"/>
                </a:lnTo>
                <a:lnTo>
                  <a:pt x="1692" y="2065"/>
                </a:lnTo>
                <a:lnTo>
                  <a:pt x="1702" y="2065"/>
                </a:lnTo>
                <a:lnTo>
                  <a:pt x="1712" y="2065"/>
                </a:lnTo>
                <a:lnTo>
                  <a:pt x="1718" y="2065"/>
                </a:lnTo>
                <a:lnTo>
                  <a:pt x="1724" y="2065"/>
                </a:lnTo>
                <a:lnTo>
                  <a:pt x="1727" y="2065"/>
                </a:lnTo>
                <a:lnTo>
                  <a:pt x="1731" y="2065"/>
                </a:lnTo>
                <a:lnTo>
                  <a:pt x="1733" y="2065"/>
                </a:lnTo>
                <a:lnTo>
                  <a:pt x="1734" y="2065"/>
                </a:lnTo>
                <a:lnTo>
                  <a:pt x="1736" y="2065"/>
                </a:lnTo>
                <a:lnTo>
                  <a:pt x="1738" y="2065"/>
                </a:lnTo>
                <a:lnTo>
                  <a:pt x="1740" y="2065"/>
                </a:lnTo>
                <a:lnTo>
                  <a:pt x="1743" y="2065"/>
                </a:lnTo>
                <a:lnTo>
                  <a:pt x="1748" y="2065"/>
                </a:lnTo>
                <a:lnTo>
                  <a:pt x="1754" y="2065"/>
                </a:lnTo>
                <a:lnTo>
                  <a:pt x="1761" y="2065"/>
                </a:lnTo>
                <a:lnTo>
                  <a:pt x="1771" y="2065"/>
                </a:lnTo>
                <a:lnTo>
                  <a:pt x="1783" y="2065"/>
                </a:lnTo>
                <a:lnTo>
                  <a:pt x="1799" y="2065"/>
                </a:lnTo>
              </a:path>
            </a:pathLst>
          </a:custGeom>
          <a:noFill/>
          <a:ln w="442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822400" y="2355840"/>
            <a:ext cx="3121200" cy="3592440"/>
          </a:xfrm>
          <a:custGeom>
            <a:avLst/>
            <a:gdLst/>
            <a:ahLst/>
            <a:rect l="l" t="t" r="r" b="b"/>
            <a:pathLst>
              <a:path w="1966" h="2263">
                <a:moveTo>
                  <a:pt x="0" y="0"/>
                </a:moveTo>
                <a:lnTo>
                  <a:pt x="0" y="19"/>
                </a:lnTo>
                <a:lnTo>
                  <a:pt x="2" y="34"/>
                </a:lnTo>
                <a:lnTo>
                  <a:pt x="2" y="46"/>
                </a:lnTo>
                <a:lnTo>
                  <a:pt x="4" y="55"/>
                </a:lnTo>
                <a:lnTo>
                  <a:pt x="4" y="62"/>
                </a:lnTo>
                <a:lnTo>
                  <a:pt x="5" y="68"/>
                </a:lnTo>
                <a:lnTo>
                  <a:pt x="5" y="72"/>
                </a:lnTo>
                <a:lnTo>
                  <a:pt x="7" y="74"/>
                </a:lnTo>
                <a:lnTo>
                  <a:pt x="7" y="77"/>
                </a:lnTo>
                <a:lnTo>
                  <a:pt x="7" y="79"/>
                </a:lnTo>
                <a:lnTo>
                  <a:pt x="7" y="81"/>
                </a:lnTo>
                <a:lnTo>
                  <a:pt x="7" y="83"/>
                </a:lnTo>
                <a:lnTo>
                  <a:pt x="7" y="88"/>
                </a:lnTo>
                <a:lnTo>
                  <a:pt x="8" y="92"/>
                </a:lnTo>
                <a:lnTo>
                  <a:pt x="9" y="99"/>
                </a:lnTo>
                <a:lnTo>
                  <a:pt x="10" y="107"/>
                </a:lnTo>
                <a:lnTo>
                  <a:pt x="11" y="119"/>
                </a:lnTo>
                <a:lnTo>
                  <a:pt x="13" y="134"/>
                </a:lnTo>
                <a:lnTo>
                  <a:pt x="16" y="152"/>
                </a:lnTo>
                <a:lnTo>
                  <a:pt x="19" y="171"/>
                </a:lnTo>
                <a:lnTo>
                  <a:pt x="22" y="194"/>
                </a:lnTo>
                <a:lnTo>
                  <a:pt x="27" y="218"/>
                </a:lnTo>
                <a:lnTo>
                  <a:pt x="31" y="244"/>
                </a:lnTo>
                <a:lnTo>
                  <a:pt x="37" y="270"/>
                </a:lnTo>
                <a:lnTo>
                  <a:pt x="42" y="299"/>
                </a:lnTo>
                <a:lnTo>
                  <a:pt x="47" y="327"/>
                </a:lnTo>
                <a:lnTo>
                  <a:pt x="53" y="357"/>
                </a:lnTo>
                <a:lnTo>
                  <a:pt x="58" y="386"/>
                </a:lnTo>
                <a:lnTo>
                  <a:pt x="64" y="416"/>
                </a:lnTo>
                <a:lnTo>
                  <a:pt x="70" y="445"/>
                </a:lnTo>
                <a:lnTo>
                  <a:pt x="76" y="473"/>
                </a:lnTo>
                <a:lnTo>
                  <a:pt x="83" y="500"/>
                </a:lnTo>
                <a:lnTo>
                  <a:pt x="88" y="528"/>
                </a:lnTo>
                <a:lnTo>
                  <a:pt x="95" y="557"/>
                </a:lnTo>
                <a:lnTo>
                  <a:pt x="102" y="587"/>
                </a:lnTo>
                <a:lnTo>
                  <a:pt x="110" y="617"/>
                </a:lnTo>
                <a:lnTo>
                  <a:pt x="117" y="649"/>
                </a:lnTo>
                <a:lnTo>
                  <a:pt x="126" y="680"/>
                </a:lnTo>
                <a:lnTo>
                  <a:pt x="134" y="710"/>
                </a:lnTo>
                <a:lnTo>
                  <a:pt x="143" y="740"/>
                </a:lnTo>
                <a:lnTo>
                  <a:pt x="150" y="770"/>
                </a:lnTo>
                <a:lnTo>
                  <a:pt x="158" y="799"/>
                </a:lnTo>
                <a:lnTo>
                  <a:pt x="166" y="826"/>
                </a:lnTo>
                <a:lnTo>
                  <a:pt x="175" y="850"/>
                </a:lnTo>
                <a:lnTo>
                  <a:pt x="181" y="874"/>
                </a:lnTo>
                <a:lnTo>
                  <a:pt x="188" y="894"/>
                </a:lnTo>
                <a:lnTo>
                  <a:pt x="194" y="912"/>
                </a:lnTo>
                <a:lnTo>
                  <a:pt x="202" y="926"/>
                </a:lnTo>
                <a:lnTo>
                  <a:pt x="206" y="942"/>
                </a:lnTo>
                <a:lnTo>
                  <a:pt x="213" y="958"/>
                </a:lnTo>
                <a:lnTo>
                  <a:pt x="220" y="976"/>
                </a:lnTo>
                <a:lnTo>
                  <a:pt x="228" y="995"/>
                </a:lnTo>
                <a:lnTo>
                  <a:pt x="236" y="1017"/>
                </a:lnTo>
                <a:lnTo>
                  <a:pt x="245" y="1038"/>
                </a:lnTo>
                <a:lnTo>
                  <a:pt x="254" y="1061"/>
                </a:lnTo>
                <a:lnTo>
                  <a:pt x="264" y="1083"/>
                </a:lnTo>
                <a:lnTo>
                  <a:pt x="273" y="1107"/>
                </a:lnTo>
                <a:lnTo>
                  <a:pt x="282" y="1130"/>
                </a:lnTo>
                <a:lnTo>
                  <a:pt x="292" y="1152"/>
                </a:lnTo>
                <a:lnTo>
                  <a:pt x="302" y="1175"/>
                </a:lnTo>
                <a:lnTo>
                  <a:pt x="310" y="1198"/>
                </a:lnTo>
                <a:lnTo>
                  <a:pt x="319" y="1218"/>
                </a:lnTo>
                <a:lnTo>
                  <a:pt x="328" y="1238"/>
                </a:lnTo>
                <a:lnTo>
                  <a:pt x="336" y="1255"/>
                </a:lnTo>
                <a:lnTo>
                  <a:pt x="343" y="1274"/>
                </a:lnTo>
                <a:lnTo>
                  <a:pt x="351" y="1294"/>
                </a:lnTo>
                <a:lnTo>
                  <a:pt x="359" y="1314"/>
                </a:lnTo>
                <a:lnTo>
                  <a:pt x="369" y="1335"/>
                </a:lnTo>
                <a:lnTo>
                  <a:pt x="378" y="1357"/>
                </a:lnTo>
                <a:lnTo>
                  <a:pt x="388" y="1378"/>
                </a:lnTo>
                <a:lnTo>
                  <a:pt x="397" y="1401"/>
                </a:lnTo>
                <a:lnTo>
                  <a:pt x="407" y="1422"/>
                </a:lnTo>
                <a:lnTo>
                  <a:pt x="416" y="1443"/>
                </a:lnTo>
                <a:lnTo>
                  <a:pt x="426" y="1464"/>
                </a:lnTo>
                <a:lnTo>
                  <a:pt x="434" y="1484"/>
                </a:lnTo>
                <a:lnTo>
                  <a:pt x="443" y="1503"/>
                </a:lnTo>
                <a:lnTo>
                  <a:pt x="450" y="1520"/>
                </a:lnTo>
                <a:lnTo>
                  <a:pt x="458" y="1536"/>
                </a:lnTo>
                <a:lnTo>
                  <a:pt x="465" y="1550"/>
                </a:lnTo>
                <a:lnTo>
                  <a:pt x="472" y="1562"/>
                </a:lnTo>
                <a:lnTo>
                  <a:pt x="477" y="1574"/>
                </a:lnTo>
                <a:lnTo>
                  <a:pt x="483" y="1588"/>
                </a:lnTo>
                <a:lnTo>
                  <a:pt x="490" y="1602"/>
                </a:lnTo>
                <a:lnTo>
                  <a:pt x="500" y="1616"/>
                </a:lnTo>
                <a:lnTo>
                  <a:pt x="508" y="1633"/>
                </a:lnTo>
                <a:lnTo>
                  <a:pt x="518" y="1649"/>
                </a:lnTo>
                <a:lnTo>
                  <a:pt x="528" y="1666"/>
                </a:lnTo>
                <a:lnTo>
                  <a:pt x="540" y="1682"/>
                </a:lnTo>
                <a:lnTo>
                  <a:pt x="550" y="1698"/>
                </a:lnTo>
                <a:lnTo>
                  <a:pt x="561" y="1716"/>
                </a:lnTo>
                <a:lnTo>
                  <a:pt x="572" y="1732"/>
                </a:lnTo>
                <a:lnTo>
                  <a:pt x="583" y="1748"/>
                </a:lnTo>
                <a:lnTo>
                  <a:pt x="593" y="1764"/>
                </a:lnTo>
                <a:lnTo>
                  <a:pt x="604" y="1778"/>
                </a:lnTo>
                <a:lnTo>
                  <a:pt x="613" y="1791"/>
                </a:lnTo>
                <a:lnTo>
                  <a:pt x="624" y="1802"/>
                </a:lnTo>
                <a:lnTo>
                  <a:pt x="633" y="1815"/>
                </a:lnTo>
                <a:lnTo>
                  <a:pt x="643" y="1826"/>
                </a:lnTo>
                <a:lnTo>
                  <a:pt x="654" y="1840"/>
                </a:lnTo>
                <a:lnTo>
                  <a:pt x="666" y="1853"/>
                </a:lnTo>
                <a:lnTo>
                  <a:pt x="678" y="1867"/>
                </a:lnTo>
                <a:lnTo>
                  <a:pt x="691" y="1880"/>
                </a:lnTo>
                <a:lnTo>
                  <a:pt x="704" y="1894"/>
                </a:lnTo>
                <a:lnTo>
                  <a:pt x="719" y="1907"/>
                </a:lnTo>
                <a:lnTo>
                  <a:pt x="731" y="1921"/>
                </a:lnTo>
                <a:lnTo>
                  <a:pt x="744" y="1934"/>
                </a:lnTo>
                <a:lnTo>
                  <a:pt x="757" y="1947"/>
                </a:lnTo>
                <a:lnTo>
                  <a:pt x="770" y="1958"/>
                </a:lnTo>
                <a:lnTo>
                  <a:pt x="781" y="1970"/>
                </a:lnTo>
                <a:lnTo>
                  <a:pt x="794" y="1980"/>
                </a:lnTo>
                <a:lnTo>
                  <a:pt x="804" y="1989"/>
                </a:lnTo>
                <a:lnTo>
                  <a:pt x="814" y="1996"/>
                </a:lnTo>
                <a:lnTo>
                  <a:pt x="822" y="2004"/>
                </a:lnTo>
                <a:lnTo>
                  <a:pt x="832" y="2011"/>
                </a:lnTo>
                <a:lnTo>
                  <a:pt x="841" y="2019"/>
                </a:lnTo>
                <a:lnTo>
                  <a:pt x="850" y="2026"/>
                </a:lnTo>
                <a:lnTo>
                  <a:pt x="860" y="2033"/>
                </a:lnTo>
                <a:lnTo>
                  <a:pt x="869" y="2040"/>
                </a:lnTo>
                <a:lnTo>
                  <a:pt x="878" y="2048"/>
                </a:lnTo>
                <a:lnTo>
                  <a:pt x="889" y="2054"/>
                </a:lnTo>
                <a:lnTo>
                  <a:pt x="896" y="2061"/>
                </a:lnTo>
                <a:lnTo>
                  <a:pt x="906" y="2067"/>
                </a:lnTo>
                <a:lnTo>
                  <a:pt x="914" y="2072"/>
                </a:lnTo>
                <a:lnTo>
                  <a:pt x="922" y="2077"/>
                </a:lnTo>
                <a:lnTo>
                  <a:pt x="927" y="2083"/>
                </a:lnTo>
                <a:lnTo>
                  <a:pt x="934" y="2087"/>
                </a:lnTo>
                <a:lnTo>
                  <a:pt x="938" y="2090"/>
                </a:lnTo>
                <a:lnTo>
                  <a:pt x="943" y="2092"/>
                </a:lnTo>
                <a:lnTo>
                  <a:pt x="946" y="2095"/>
                </a:lnTo>
                <a:lnTo>
                  <a:pt x="950" y="2097"/>
                </a:lnTo>
                <a:lnTo>
                  <a:pt x="955" y="2100"/>
                </a:lnTo>
                <a:lnTo>
                  <a:pt x="960" y="2102"/>
                </a:lnTo>
                <a:lnTo>
                  <a:pt x="966" y="2106"/>
                </a:lnTo>
                <a:lnTo>
                  <a:pt x="973" y="2109"/>
                </a:lnTo>
                <a:lnTo>
                  <a:pt x="980" y="2113"/>
                </a:lnTo>
                <a:lnTo>
                  <a:pt x="988" y="2116"/>
                </a:lnTo>
                <a:lnTo>
                  <a:pt x="995" y="2119"/>
                </a:lnTo>
                <a:lnTo>
                  <a:pt x="1003" y="2123"/>
                </a:lnTo>
                <a:lnTo>
                  <a:pt x="1010" y="2127"/>
                </a:lnTo>
                <a:lnTo>
                  <a:pt x="1018" y="2130"/>
                </a:lnTo>
                <a:lnTo>
                  <a:pt x="1026" y="2134"/>
                </a:lnTo>
                <a:lnTo>
                  <a:pt x="1033" y="2137"/>
                </a:lnTo>
                <a:lnTo>
                  <a:pt x="1041" y="2141"/>
                </a:lnTo>
                <a:lnTo>
                  <a:pt x="1048" y="2143"/>
                </a:lnTo>
                <a:lnTo>
                  <a:pt x="1055" y="2147"/>
                </a:lnTo>
                <a:lnTo>
                  <a:pt x="1064" y="2150"/>
                </a:lnTo>
                <a:lnTo>
                  <a:pt x="1073" y="2154"/>
                </a:lnTo>
                <a:lnTo>
                  <a:pt x="1084" y="2156"/>
                </a:lnTo>
                <a:lnTo>
                  <a:pt x="1096" y="2160"/>
                </a:lnTo>
                <a:lnTo>
                  <a:pt x="1108" y="2164"/>
                </a:lnTo>
                <a:lnTo>
                  <a:pt x="1121" y="2167"/>
                </a:lnTo>
                <a:lnTo>
                  <a:pt x="1134" y="2171"/>
                </a:lnTo>
                <a:lnTo>
                  <a:pt x="1147" y="2175"/>
                </a:lnTo>
                <a:lnTo>
                  <a:pt x="1160" y="2179"/>
                </a:lnTo>
                <a:lnTo>
                  <a:pt x="1173" y="2183"/>
                </a:lnTo>
                <a:lnTo>
                  <a:pt x="1186" y="2186"/>
                </a:lnTo>
                <a:lnTo>
                  <a:pt x="1198" y="2190"/>
                </a:lnTo>
                <a:lnTo>
                  <a:pt x="1211" y="2194"/>
                </a:lnTo>
                <a:lnTo>
                  <a:pt x="1222" y="2197"/>
                </a:lnTo>
                <a:lnTo>
                  <a:pt x="1234" y="2199"/>
                </a:lnTo>
                <a:lnTo>
                  <a:pt x="1245" y="2203"/>
                </a:lnTo>
                <a:lnTo>
                  <a:pt x="1257" y="2205"/>
                </a:lnTo>
                <a:lnTo>
                  <a:pt x="1269" y="2208"/>
                </a:lnTo>
                <a:lnTo>
                  <a:pt x="1283" y="2210"/>
                </a:lnTo>
                <a:lnTo>
                  <a:pt x="1296" y="2214"/>
                </a:lnTo>
                <a:lnTo>
                  <a:pt x="1311" y="2216"/>
                </a:lnTo>
                <a:lnTo>
                  <a:pt x="1326" y="2220"/>
                </a:lnTo>
                <a:lnTo>
                  <a:pt x="1341" y="2222"/>
                </a:lnTo>
                <a:lnTo>
                  <a:pt x="1354" y="2225"/>
                </a:lnTo>
                <a:lnTo>
                  <a:pt x="1369" y="2227"/>
                </a:lnTo>
                <a:lnTo>
                  <a:pt x="1383" y="2230"/>
                </a:lnTo>
                <a:lnTo>
                  <a:pt x="1397" y="2232"/>
                </a:lnTo>
                <a:lnTo>
                  <a:pt x="1409" y="2235"/>
                </a:lnTo>
                <a:lnTo>
                  <a:pt x="1421" y="2236"/>
                </a:lnTo>
                <a:lnTo>
                  <a:pt x="1431" y="2238"/>
                </a:lnTo>
                <a:lnTo>
                  <a:pt x="1442" y="2239"/>
                </a:lnTo>
                <a:lnTo>
                  <a:pt x="1451" y="2241"/>
                </a:lnTo>
                <a:lnTo>
                  <a:pt x="1462" y="2242"/>
                </a:lnTo>
                <a:lnTo>
                  <a:pt x="1474" y="2244"/>
                </a:lnTo>
                <a:lnTo>
                  <a:pt x="1487" y="2244"/>
                </a:lnTo>
                <a:lnTo>
                  <a:pt x="1500" y="2246"/>
                </a:lnTo>
                <a:lnTo>
                  <a:pt x="1514" y="2247"/>
                </a:lnTo>
                <a:lnTo>
                  <a:pt x="1529" y="2249"/>
                </a:lnTo>
                <a:lnTo>
                  <a:pt x="1544" y="2249"/>
                </a:lnTo>
                <a:lnTo>
                  <a:pt x="1559" y="2251"/>
                </a:lnTo>
                <a:lnTo>
                  <a:pt x="1574" y="2252"/>
                </a:lnTo>
                <a:lnTo>
                  <a:pt x="1589" y="2254"/>
                </a:lnTo>
                <a:lnTo>
                  <a:pt x="1604" y="2254"/>
                </a:lnTo>
                <a:lnTo>
                  <a:pt x="1617" y="2256"/>
                </a:lnTo>
                <a:lnTo>
                  <a:pt x="1631" y="2256"/>
                </a:lnTo>
                <a:lnTo>
                  <a:pt x="1644" y="2256"/>
                </a:lnTo>
                <a:lnTo>
                  <a:pt x="1656" y="2256"/>
                </a:lnTo>
                <a:lnTo>
                  <a:pt x="1667" y="2258"/>
                </a:lnTo>
                <a:lnTo>
                  <a:pt x="1679" y="2258"/>
                </a:lnTo>
                <a:lnTo>
                  <a:pt x="1692" y="2259"/>
                </a:lnTo>
                <a:lnTo>
                  <a:pt x="1706" y="2259"/>
                </a:lnTo>
                <a:lnTo>
                  <a:pt x="1720" y="2261"/>
                </a:lnTo>
                <a:lnTo>
                  <a:pt x="1735" y="2261"/>
                </a:lnTo>
                <a:lnTo>
                  <a:pt x="1750" y="2261"/>
                </a:lnTo>
                <a:lnTo>
                  <a:pt x="1765" y="2261"/>
                </a:lnTo>
                <a:lnTo>
                  <a:pt x="1779" y="2262"/>
                </a:lnTo>
                <a:lnTo>
                  <a:pt x="1794" y="2262"/>
                </a:lnTo>
                <a:lnTo>
                  <a:pt x="1808" y="2262"/>
                </a:lnTo>
                <a:lnTo>
                  <a:pt x="1822" y="2262"/>
                </a:lnTo>
                <a:lnTo>
                  <a:pt x="1834" y="2262"/>
                </a:lnTo>
                <a:lnTo>
                  <a:pt x="1846" y="2262"/>
                </a:lnTo>
                <a:lnTo>
                  <a:pt x="1858" y="2262"/>
                </a:lnTo>
                <a:lnTo>
                  <a:pt x="1868" y="2262"/>
                </a:lnTo>
                <a:lnTo>
                  <a:pt x="1875" y="2262"/>
                </a:lnTo>
                <a:lnTo>
                  <a:pt x="1881" y="2262"/>
                </a:lnTo>
                <a:lnTo>
                  <a:pt x="1886" y="2262"/>
                </a:lnTo>
                <a:lnTo>
                  <a:pt x="1889" y="2262"/>
                </a:lnTo>
                <a:lnTo>
                  <a:pt x="1891" y="2262"/>
                </a:lnTo>
                <a:lnTo>
                  <a:pt x="1893" y="2262"/>
                </a:lnTo>
                <a:lnTo>
                  <a:pt x="1895" y="2262"/>
                </a:lnTo>
                <a:lnTo>
                  <a:pt x="1898" y="2262"/>
                </a:lnTo>
                <a:lnTo>
                  <a:pt x="1899" y="2262"/>
                </a:lnTo>
                <a:lnTo>
                  <a:pt x="1903" y="2262"/>
                </a:lnTo>
                <a:lnTo>
                  <a:pt x="1908" y="2262"/>
                </a:lnTo>
                <a:lnTo>
                  <a:pt x="1915" y="2262"/>
                </a:lnTo>
                <a:lnTo>
                  <a:pt x="1923" y="2262"/>
                </a:lnTo>
                <a:lnTo>
                  <a:pt x="1934" y="2262"/>
                </a:lnTo>
                <a:lnTo>
                  <a:pt x="1948" y="2262"/>
                </a:lnTo>
                <a:lnTo>
                  <a:pt x="1965" y="2262"/>
                </a:lnTo>
              </a:path>
            </a:pathLst>
          </a:custGeom>
          <a:noFill/>
          <a:ln w="442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753000" y="1892160"/>
            <a:ext cx="2500200" cy="2870280"/>
          </a:xfrm>
          <a:custGeom>
            <a:avLst/>
            <a:gdLst/>
            <a:ahLst/>
            <a:rect l="l" t="t" r="r" b="b"/>
            <a:pathLst>
              <a:path w="1575" h="1808">
                <a:moveTo>
                  <a:pt x="0" y="0"/>
                </a:moveTo>
                <a:lnTo>
                  <a:pt x="0" y="16"/>
                </a:lnTo>
                <a:lnTo>
                  <a:pt x="2" y="28"/>
                </a:lnTo>
                <a:lnTo>
                  <a:pt x="2" y="38"/>
                </a:lnTo>
                <a:lnTo>
                  <a:pt x="4" y="45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6" y="60"/>
                </a:lnTo>
                <a:lnTo>
                  <a:pt x="6" y="62"/>
                </a:lnTo>
                <a:lnTo>
                  <a:pt x="6" y="64"/>
                </a:lnTo>
                <a:lnTo>
                  <a:pt x="6" y="66"/>
                </a:lnTo>
                <a:lnTo>
                  <a:pt x="6" y="68"/>
                </a:lnTo>
                <a:lnTo>
                  <a:pt x="6" y="71"/>
                </a:lnTo>
                <a:lnTo>
                  <a:pt x="6" y="75"/>
                </a:lnTo>
                <a:lnTo>
                  <a:pt x="6" y="80"/>
                </a:lnTo>
                <a:lnTo>
                  <a:pt x="8" y="87"/>
                </a:lnTo>
                <a:lnTo>
                  <a:pt x="8" y="97"/>
                </a:lnTo>
                <a:lnTo>
                  <a:pt x="10" y="109"/>
                </a:lnTo>
                <a:lnTo>
                  <a:pt x="12" y="122"/>
                </a:lnTo>
                <a:lnTo>
                  <a:pt x="14" y="138"/>
                </a:lnTo>
                <a:lnTo>
                  <a:pt x="17" y="156"/>
                </a:lnTo>
                <a:lnTo>
                  <a:pt x="20" y="175"/>
                </a:lnTo>
                <a:lnTo>
                  <a:pt x="24" y="196"/>
                </a:lnTo>
                <a:lnTo>
                  <a:pt x="28" y="217"/>
                </a:lnTo>
                <a:lnTo>
                  <a:pt x="32" y="241"/>
                </a:lnTo>
                <a:lnTo>
                  <a:pt x="37" y="263"/>
                </a:lnTo>
                <a:lnTo>
                  <a:pt x="40" y="287"/>
                </a:lnTo>
                <a:lnTo>
                  <a:pt x="46" y="310"/>
                </a:lnTo>
                <a:lnTo>
                  <a:pt x="50" y="334"/>
                </a:lnTo>
                <a:lnTo>
                  <a:pt x="55" y="356"/>
                </a:lnTo>
                <a:lnTo>
                  <a:pt x="60" y="379"/>
                </a:lnTo>
                <a:lnTo>
                  <a:pt x="66" y="401"/>
                </a:lnTo>
                <a:lnTo>
                  <a:pt x="70" y="423"/>
                </a:lnTo>
                <a:lnTo>
                  <a:pt x="76" y="446"/>
                </a:lnTo>
                <a:lnTo>
                  <a:pt x="82" y="470"/>
                </a:lnTo>
                <a:lnTo>
                  <a:pt x="88" y="494"/>
                </a:lnTo>
                <a:lnTo>
                  <a:pt x="94" y="518"/>
                </a:lnTo>
                <a:lnTo>
                  <a:pt x="100" y="543"/>
                </a:lnTo>
                <a:lnTo>
                  <a:pt x="106" y="567"/>
                </a:lnTo>
                <a:lnTo>
                  <a:pt x="114" y="591"/>
                </a:lnTo>
                <a:lnTo>
                  <a:pt x="120" y="615"/>
                </a:lnTo>
                <a:lnTo>
                  <a:pt x="126" y="638"/>
                </a:lnTo>
                <a:lnTo>
                  <a:pt x="132" y="660"/>
                </a:lnTo>
                <a:lnTo>
                  <a:pt x="140" y="679"/>
                </a:lnTo>
                <a:lnTo>
                  <a:pt x="145" y="698"/>
                </a:lnTo>
                <a:lnTo>
                  <a:pt x="152" y="714"/>
                </a:lnTo>
                <a:lnTo>
                  <a:pt x="156" y="728"/>
                </a:lnTo>
                <a:lnTo>
                  <a:pt x="162" y="740"/>
                </a:lnTo>
                <a:lnTo>
                  <a:pt x="165" y="752"/>
                </a:lnTo>
                <a:lnTo>
                  <a:pt x="171" y="765"/>
                </a:lnTo>
                <a:lnTo>
                  <a:pt x="176" y="780"/>
                </a:lnTo>
                <a:lnTo>
                  <a:pt x="183" y="795"/>
                </a:lnTo>
                <a:lnTo>
                  <a:pt x="190" y="812"/>
                </a:lnTo>
                <a:lnTo>
                  <a:pt x="197" y="829"/>
                </a:lnTo>
                <a:lnTo>
                  <a:pt x="204" y="848"/>
                </a:lnTo>
                <a:lnTo>
                  <a:pt x="212" y="866"/>
                </a:lnTo>
                <a:lnTo>
                  <a:pt x="220" y="885"/>
                </a:lnTo>
                <a:lnTo>
                  <a:pt x="227" y="904"/>
                </a:lnTo>
                <a:lnTo>
                  <a:pt x="234" y="922"/>
                </a:lnTo>
                <a:lnTo>
                  <a:pt x="242" y="940"/>
                </a:lnTo>
                <a:lnTo>
                  <a:pt x="249" y="958"/>
                </a:lnTo>
                <a:lnTo>
                  <a:pt x="256" y="974"/>
                </a:lnTo>
                <a:lnTo>
                  <a:pt x="262" y="990"/>
                </a:lnTo>
                <a:lnTo>
                  <a:pt x="270" y="1004"/>
                </a:lnTo>
                <a:lnTo>
                  <a:pt x="276" y="1020"/>
                </a:lnTo>
                <a:lnTo>
                  <a:pt x="282" y="1035"/>
                </a:lnTo>
                <a:lnTo>
                  <a:pt x="288" y="1052"/>
                </a:lnTo>
                <a:lnTo>
                  <a:pt x="296" y="1067"/>
                </a:lnTo>
                <a:lnTo>
                  <a:pt x="303" y="1085"/>
                </a:lnTo>
                <a:lnTo>
                  <a:pt x="310" y="1102"/>
                </a:lnTo>
                <a:lnTo>
                  <a:pt x="318" y="1120"/>
                </a:lnTo>
                <a:lnTo>
                  <a:pt x="326" y="1136"/>
                </a:lnTo>
                <a:lnTo>
                  <a:pt x="332" y="1154"/>
                </a:lnTo>
                <a:lnTo>
                  <a:pt x="340" y="1171"/>
                </a:lnTo>
                <a:lnTo>
                  <a:pt x="347" y="1187"/>
                </a:lnTo>
                <a:lnTo>
                  <a:pt x="354" y="1201"/>
                </a:lnTo>
                <a:lnTo>
                  <a:pt x="360" y="1216"/>
                </a:lnTo>
                <a:lnTo>
                  <a:pt x="366" y="1229"/>
                </a:lnTo>
                <a:lnTo>
                  <a:pt x="371" y="1240"/>
                </a:lnTo>
                <a:lnTo>
                  <a:pt x="377" y="1249"/>
                </a:lnTo>
                <a:lnTo>
                  <a:pt x="380" y="1260"/>
                </a:lnTo>
                <a:lnTo>
                  <a:pt x="386" y="1270"/>
                </a:lnTo>
                <a:lnTo>
                  <a:pt x="392" y="1282"/>
                </a:lnTo>
                <a:lnTo>
                  <a:pt x="399" y="1293"/>
                </a:lnTo>
                <a:lnTo>
                  <a:pt x="406" y="1306"/>
                </a:lnTo>
                <a:lnTo>
                  <a:pt x="414" y="1318"/>
                </a:lnTo>
                <a:lnTo>
                  <a:pt x="422" y="1332"/>
                </a:lnTo>
                <a:lnTo>
                  <a:pt x="431" y="1344"/>
                </a:lnTo>
                <a:lnTo>
                  <a:pt x="438" y="1358"/>
                </a:lnTo>
                <a:lnTo>
                  <a:pt x="448" y="1372"/>
                </a:lnTo>
                <a:lnTo>
                  <a:pt x="456" y="1385"/>
                </a:lnTo>
                <a:lnTo>
                  <a:pt x="465" y="1396"/>
                </a:lnTo>
                <a:lnTo>
                  <a:pt x="473" y="1409"/>
                </a:lnTo>
                <a:lnTo>
                  <a:pt x="482" y="1420"/>
                </a:lnTo>
                <a:lnTo>
                  <a:pt x="490" y="1431"/>
                </a:lnTo>
                <a:lnTo>
                  <a:pt x="498" y="1440"/>
                </a:lnTo>
                <a:lnTo>
                  <a:pt x="505" y="1450"/>
                </a:lnTo>
                <a:lnTo>
                  <a:pt x="513" y="1460"/>
                </a:lnTo>
                <a:lnTo>
                  <a:pt x="522" y="1471"/>
                </a:lnTo>
                <a:lnTo>
                  <a:pt x="532" y="1480"/>
                </a:lnTo>
                <a:lnTo>
                  <a:pt x="542" y="1491"/>
                </a:lnTo>
                <a:lnTo>
                  <a:pt x="552" y="1502"/>
                </a:lnTo>
                <a:lnTo>
                  <a:pt x="563" y="1513"/>
                </a:lnTo>
                <a:lnTo>
                  <a:pt x="574" y="1523"/>
                </a:lnTo>
                <a:lnTo>
                  <a:pt x="583" y="1534"/>
                </a:lnTo>
                <a:lnTo>
                  <a:pt x="594" y="1545"/>
                </a:lnTo>
                <a:lnTo>
                  <a:pt x="604" y="1555"/>
                </a:lnTo>
                <a:lnTo>
                  <a:pt x="616" y="1564"/>
                </a:lnTo>
                <a:lnTo>
                  <a:pt x="624" y="1574"/>
                </a:lnTo>
                <a:lnTo>
                  <a:pt x="634" y="1581"/>
                </a:lnTo>
                <a:lnTo>
                  <a:pt x="642" y="1588"/>
                </a:lnTo>
                <a:lnTo>
                  <a:pt x="651" y="1594"/>
                </a:lnTo>
                <a:lnTo>
                  <a:pt x="658" y="1600"/>
                </a:lnTo>
                <a:lnTo>
                  <a:pt x="665" y="1606"/>
                </a:lnTo>
                <a:lnTo>
                  <a:pt x="672" y="1612"/>
                </a:lnTo>
                <a:lnTo>
                  <a:pt x="681" y="1618"/>
                </a:lnTo>
                <a:lnTo>
                  <a:pt x="688" y="1623"/>
                </a:lnTo>
                <a:lnTo>
                  <a:pt x="696" y="1629"/>
                </a:lnTo>
                <a:lnTo>
                  <a:pt x="703" y="1634"/>
                </a:lnTo>
                <a:lnTo>
                  <a:pt x="712" y="1640"/>
                </a:lnTo>
                <a:lnTo>
                  <a:pt x="718" y="1646"/>
                </a:lnTo>
                <a:lnTo>
                  <a:pt x="726" y="1651"/>
                </a:lnTo>
                <a:lnTo>
                  <a:pt x="731" y="1656"/>
                </a:lnTo>
                <a:lnTo>
                  <a:pt x="738" y="1660"/>
                </a:lnTo>
                <a:lnTo>
                  <a:pt x="742" y="1664"/>
                </a:lnTo>
                <a:lnTo>
                  <a:pt x="747" y="1667"/>
                </a:lnTo>
                <a:lnTo>
                  <a:pt x="751" y="1669"/>
                </a:lnTo>
                <a:lnTo>
                  <a:pt x="755" y="1671"/>
                </a:lnTo>
                <a:lnTo>
                  <a:pt x="757" y="1674"/>
                </a:lnTo>
                <a:lnTo>
                  <a:pt x="760" y="1676"/>
                </a:lnTo>
                <a:lnTo>
                  <a:pt x="764" y="1678"/>
                </a:lnTo>
                <a:lnTo>
                  <a:pt x="769" y="1680"/>
                </a:lnTo>
                <a:lnTo>
                  <a:pt x="774" y="1684"/>
                </a:lnTo>
                <a:lnTo>
                  <a:pt x="779" y="1686"/>
                </a:lnTo>
                <a:lnTo>
                  <a:pt x="785" y="1688"/>
                </a:lnTo>
                <a:lnTo>
                  <a:pt x="791" y="1690"/>
                </a:lnTo>
                <a:lnTo>
                  <a:pt x="797" y="1694"/>
                </a:lnTo>
                <a:lnTo>
                  <a:pt x="802" y="1697"/>
                </a:lnTo>
                <a:lnTo>
                  <a:pt x="808" y="1700"/>
                </a:lnTo>
                <a:lnTo>
                  <a:pt x="816" y="1702"/>
                </a:lnTo>
                <a:lnTo>
                  <a:pt x="821" y="1706"/>
                </a:lnTo>
                <a:lnTo>
                  <a:pt x="828" y="1708"/>
                </a:lnTo>
                <a:lnTo>
                  <a:pt x="834" y="1710"/>
                </a:lnTo>
                <a:lnTo>
                  <a:pt x="840" y="1712"/>
                </a:lnTo>
                <a:lnTo>
                  <a:pt x="845" y="1716"/>
                </a:lnTo>
                <a:lnTo>
                  <a:pt x="852" y="1717"/>
                </a:lnTo>
                <a:lnTo>
                  <a:pt x="860" y="1720"/>
                </a:lnTo>
                <a:lnTo>
                  <a:pt x="868" y="1722"/>
                </a:lnTo>
                <a:lnTo>
                  <a:pt x="877" y="1726"/>
                </a:lnTo>
                <a:lnTo>
                  <a:pt x="887" y="1728"/>
                </a:lnTo>
                <a:lnTo>
                  <a:pt x="896" y="1732"/>
                </a:lnTo>
                <a:lnTo>
                  <a:pt x="908" y="1734"/>
                </a:lnTo>
                <a:lnTo>
                  <a:pt x="917" y="1738"/>
                </a:lnTo>
                <a:lnTo>
                  <a:pt x="928" y="1742"/>
                </a:lnTo>
                <a:lnTo>
                  <a:pt x="938" y="1745"/>
                </a:lnTo>
                <a:lnTo>
                  <a:pt x="950" y="1747"/>
                </a:lnTo>
                <a:lnTo>
                  <a:pt x="959" y="1751"/>
                </a:lnTo>
                <a:lnTo>
                  <a:pt x="970" y="1753"/>
                </a:lnTo>
                <a:lnTo>
                  <a:pt x="979" y="1756"/>
                </a:lnTo>
                <a:lnTo>
                  <a:pt x="989" y="1758"/>
                </a:lnTo>
                <a:lnTo>
                  <a:pt x="997" y="1762"/>
                </a:lnTo>
                <a:lnTo>
                  <a:pt x="1006" y="1764"/>
                </a:lnTo>
                <a:lnTo>
                  <a:pt x="1016" y="1765"/>
                </a:lnTo>
                <a:lnTo>
                  <a:pt x="1028" y="1767"/>
                </a:lnTo>
                <a:lnTo>
                  <a:pt x="1039" y="1771"/>
                </a:lnTo>
                <a:lnTo>
                  <a:pt x="1050" y="1773"/>
                </a:lnTo>
                <a:lnTo>
                  <a:pt x="1061" y="1775"/>
                </a:lnTo>
                <a:lnTo>
                  <a:pt x="1074" y="1776"/>
                </a:lnTo>
                <a:lnTo>
                  <a:pt x="1086" y="1779"/>
                </a:lnTo>
                <a:lnTo>
                  <a:pt x="1097" y="1781"/>
                </a:lnTo>
                <a:lnTo>
                  <a:pt x="1108" y="1783"/>
                </a:lnTo>
                <a:lnTo>
                  <a:pt x="1119" y="1785"/>
                </a:lnTo>
                <a:lnTo>
                  <a:pt x="1128" y="1786"/>
                </a:lnTo>
                <a:lnTo>
                  <a:pt x="1139" y="1788"/>
                </a:lnTo>
                <a:lnTo>
                  <a:pt x="1147" y="1790"/>
                </a:lnTo>
                <a:lnTo>
                  <a:pt x="1156" y="1790"/>
                </a:lnTo>
                <a:lnTo>
                  <a:pt x="1162" y="1792"/>
                </a:lnTo>
                <a:lnTo>
                  <a:pt x="1170" y="1792"/>
                </a:lnTo>
                <a:lnTo>
                  <a:pt x="1180" y="1794"/>
                </a:lnTo>
                <a:lnTo>
                  <a:pt x="1190" y="1794"/>
                </a:lnTo>
                <a:lnTo>
                  <a:pt x="1201" y="1795"/>
                </a:lnTo>
                <a:lnTo>
                  <a:pt x="1212" y="1795"/>
                </a:lnTo>
                <a:lnTo>
                  <a:pt x="1224" y="1796"/>
                </a:lnTo>
                <a:lnTo>
                  <a:pt x="1237" y="1796"/>
                </a:lnTo>
                <a:lnTo>
                  <a:pt x="1248" y="1798"/>
                </a:lnTo>
                <a:lnTo>
                  <a:pt x="1260" y="1798"/>
                </a:lnTo>
                <a:lnTo>
                  <a:pt x="1271" y="1800"/>
                </a:lnTo>
                <a:lnTo>
                  <a:pt x="1284" y="1800"/>
                </a:lnTo>
                <a:lnTo>
                  <a:pt x="1295" y="1802"/>
                </a:lnTo>
                <a:lnTo>
                  <a:pt x="1306" y="1802"/>
                </a:lnTo>
                <a:lnTo>
                  <a:pt x="1316" y="1803"/>
                </a:lnTo>
                <a:lnTo>
                  <a:pt x="1326" y="1803"/>
                </a:lnTo>
                <a:lnTo>
                  <a:pt x="1335" y="1805"/>
                </a:lnTo>
                <a:lnTo>
                  <a:pt x="1344" y="1805"/>
                </a:lnTo>
                <a:lnTo>
                  <a:pt x="1355" y="1805"/>
                </a:lnTo>
                <a:lnTo>
                  <a:pt x="1366" y="1805"/>
                </a:lnTo>
                <a:lnTo>
                  <a:pt x="1378" y="1806"/>
                </a:lnTo>
                <a:lnTo>
                  <a:pt x="1390" y="1806"/>
                </a:lnTo>
                <a:lnTo>
                  <a:pt x="1401" y="1806"/>
                </a:lnTo>
                <a:lnTo>
                  <a:pt x="1414" y="1806"/>
                </a:lnTo>
                <a:lnTo>
                  <a:pt x="1426" y="1807"/>
                </a:lnTo>
                <a:lnTo>
                  <a:pt x="1438" y="1807"/>
                </a:lnTo>
                <a:lnTo>
                  <a:pt x="1449" y="1807"/>
                </a:lnTo>
                <a:lnTo>
                  <a:pt x="1461" y="1807"/>
                </a:lnTo>
                <a:lnTo>
                  <a:pt x="1470" y="1807"/>
                </a:lnTo>
                <a:lnTo>
                  <a:pt x="1480" y="1807"/>
                </a:lnTo>
                <a:lnTo>
                  <a:pt x="1489" y="1807"/>
                </a:lnTo>
                <a:lnTo>
                  <a:pt x="1498" y="1807"/>
                </a:lnTo>
                <a:lnTo>
                  <a:pt x="1502" y="1807"/>
                </a:lnTo>
                <a:lnTo>
                  <a:pt x="1508" y="1807"/>
                </a:lnTo>
                <a:lnTo>
                  <a:pt x="1510" y="1807"/>
                </a:lnTo>
                <a:lnTo>
                  <a:pt x="1514" y="1807"/>
                </a:lnTo>
                <a:lnTo>
                  <a:pt x="1515" y="1807"/>
                </a:lnTo>
                <a:lnTo>
                  <a:pt x="1517" y="1807"/>
                </a:lnTo>
                <a:lnTo>
                  <a:pt x="1519" y="1807"/>
                </a:lnTo>
                <a:lnTo>
                  <a:pt x="1520" y="1807"/>
                </a:lnTo>
                <a:lnTo>
                  <a:pt x="1522" y="1807"/>
                </a:lnTo>
                <a:lnTo>
                  <a:pt x="1525" y="1807"/>
                </a:lnTo>
                <a:lnTo>
                  <a:pt x="1529" y="1807"/>
                </a:lnTo>
                <a:lnTo>
                  <a:pt x="1534" y="1807"/>
                </a:lnTo>
                <a:lnTo>
                  <a:pt x="1540" y="1807"/>
                </a:lnTo>
                <a:lnTo>
                  <a:pt x="1549" y="1807"/>
                </a:lnTo>
                <a:lnTo>
                  <a:pt x="1559" y="1807"/>
                </a:lnTo>
                <a:lnTo>
                  <a:pt x="1574" y="1807"/>
                </a:lnTo>
              </a:path>
            </a:pathLst>
          </a:custGeom>
          <a:noFill/>
          <a:ln w="442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890800" y="2681280"/>
            <a:ext cx="2487600" cy="4294080"/>
          </a:xfrm>
          <a:prstGeom prst="line">
            <a:avLst/>
          </a:prstGeom>
          <a:ln w="63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314440" y="2160720"/>
            <a:ext cx="3859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1680" y="1569960"/>
            <a:ext cx="7708680" cy="6050160"/>
            <a:chOff x="301680" y="1569960"/>
            <a:chExt cx="7708680" cy="6050160"/>
          </a:xfrm>
        </p:grpSpPr>
        <p:sp>
          <p:nvSpPr>
            <p:cNvPr id="1449" name=""/>
            <p:cNvSpPr/>
            <p:nvPr/>
          </p:nvSpPr>
          <p:spPr>
            <a:xfrm>
              <a:off x="936720" y="7024680"/>
              <a:ext cx="706428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936720" y="1569960"/>
              <a:ext cx="0" cy="545472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01680" y="160020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77640" y="685800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GB" sz="3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70720" y="7048440"/>
              <a:ext cx="539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2629800" y="2400480"/>
            <a:ext cx="4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727440" y="4305240"/>
            <a:ext cx="1400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956120" y="3086280"/>
            <a:ext cx="2438280" cy="1143000"/>
          </a:xfrm>
          <a:prstGeom prst="wedgeRoundRectCallout">
            <a:avLst>
              <a:gd name="adj1" fmla="val -70898"/>
              <a:gd name="adj2" fmla="val 76666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5920" y="1181160"/>
            <a:ext cx="2438280" cy="1143000"/>
          </a:xfrm>
          <a:prstGeom prst="wedgeRoundRectCallout">
            <a:avLst>
              <a:gd name="adj1" fmla="val -70898"/>
              <a:gd name="adj2" fmla="val 76666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o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650880" y="533520"/>
            <a:ext cx="94536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quilibrio de Pedr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3314880" y="1809720"/>
            <a:ext cx="3416040" cy="4280040"/>
            <a:chOff x="3314880" y="1809720"/>
            <a:chExt cx="3416040" cy="4280040"/>
          </a:xfrm>
        </p:grpSpPr>
        <p:sp>
          <p:nvSpPr>
            <p:cNvPr id="1460" name=""/>
            <p:cNvSpPr/>
            <p:nvPr/>
          </p:nvSpPr>
          <p:spPr>
            <a:xfrm>
              <a:off x="3824280" y="1946160"/>
              <a:ext cx="2859120" cy="3281400"/>
            </a:xfrm>
            <a:custGeom>
              <a:avLst/>
              <a:gdLst/>
              <a:ahLst/>
              <a:rect l="l" t="t" r="r" b="b"/>
              <a:pathLst>
                <a:path w="1801" h="2067">
                  <a:moveTo>
                    <a:pt x="0" y="0"/>
                  </a:moveTo>
                  <a:lnTo>
                    <a:pt x="0" y="18"/>
                  </a:lnTo>
                  <a:lnTo>
                    <a:pt x="2" y="31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9"/>
                  </a:lnTo>
                  <a:lnTo>
                    <a:pt x="8" y="84"/>
                  </a:lnTo>
                  <a:lnTo>
                    <a:pt x="8" y="90"/>
                  </a:lnTo>
                  <a:lnTo>
                    <a:pt x="10" y="98"/>
                  </a:lnTo>
                  <a:lnTo>
                    <a:pt x="10" y="109"/>
                  </a:lnTo>
                  <a:lnTo>
                    <a:pt x="12" y="122"/>
                  </a:lnTo>
                  <a:lnTo>
                    <a:pt x="14" y="138"/>
                  </a:lnTo>
                  <a:lnTo>
                    <a:pt x="18" y="156"/>
                  </a:lnTo>
                  <a:lnTo>
                    <a:pt x="21" y="177"/>
                  </a:lnTo>
                  <a:lnTo>
                    <a:pt x="25" y="198"/>
                  </a:lnTo>
                  <a:lnTo>
                    <a:pt x="28" y="222"/>
                  </a:lnTo>
                  <a:lnTo>
                    <a:pt x="34" y="246"/>
                  </a:lnTo>
                  <a:lnTo>
                    <a:pt x="38" y="272"/>
                  </a:lnTo>
                  <a:lnTo>
                    <a:pt x="43" y="298"/>
                  </a:lnTo>
                  <a:lnTo>
                    <a:pt x="48" y="325"/>
                  </a:lnTo>
                  <a:lnTo>
                    <a:pt x="54" y="351"/>
                  </a:lnTo>
                  <a:lnTo>
                    <a:pt x="60" y="378"/>
                  </a:lnTo>
                  <a:lnTo>
                    <a:pt x="65" y="404"/>
                  </a:lnTo>
                  <a:lnTo>
                    <a:pt x="71" y="430"/>
                  </a:lnTo>
                  <a:lnTo>
                    <a:pt x="76" y="454"/>
                  </a:lnTo>
                  <a:lnTo>
                    <a:pt x="81" y="480"/>
                  </a:lnTo>
                  <a:lnTo>
                    <a:pt x="86" y="506"/>
                  </a:lnTo>
                  <a:lnTo>
                    <a:pt x="93" y="534"/>
                  </a:lnTo>
                  <a:lnTo>
                    <a:pt x="100" y="562"/>
                  </a:lnTo>
                  <a:lnTo>
                    <a:pt x="107" y="590"/>
                  </a:lnTo>
                  <a:lnTo>
                    <a:pt x="114" y="618"/>
                  </a:lnTo>
                  <a:lnTo>
                    <a:pt x="122" y="646"/>
                  </a:lnTo>
                  <a:lnTo>
                    <a:pt x="130" y="674"/>
                  </a:lnTo>
                  <a:lnTo>
                    <a:pt x="137" y="702"/>
                  </a:lnTo>
                  <a:lnTo>
                    <a:pt x="144" y="728"/>
                  </a:lnTo>
                  <a:lnTo>
                    <a:pt x="152" y="753"/>
                  </a:lnTo>
                  <a:lnTo>
                    <a:pt x="159" y="774"/>
                  </a:lnTo>
                  <a:lnTo>
                    <a:pt x="166" y="796"/>
                  </a:lnTo>
                  <a:lnTo>
                    <a:pt x="173" y="815"/>
                  </a:lnTo>
                  <a:lnTo>
                    <a:pt x="179" y="831"/>
                  </a:lnTo>
                  <a:lnTo>
                    <a:pt x="185" y="844"/>
                  </a:lnTo>
                  <a:lnTo>
                    <a:pt x="189" y="859"/>
                  </a:lnTo>
                  <a:lnTo>
                    <a:pt x="194" y="874"/>
                  </a:lnTo>
                  <a:lnTo>
                    <a:pt x="201" y="890"/>
                  </a:lnTo>
                  <a:lnTo>
                    <a:pt x="209" y="908"/>
                  </a:lnTo>
                  <a:lnTo>
                    <a:pt x="216" y="928"/>
                  </a:lnTo>
                  <a:lnTo>
                    <a:pt x="224" y="947"/>
                  </a:lnTo>
                  <a:lnTo>
                    <a:pt x="232" y="968"/>
                  </a:lnTo>
                  <a:lnTo>
                    <a:pt x="242" y="988"/>
                  </a:lnTo>
                  <a:lnTo>
                    <a:pt x="249" y="1011"/>
                  </a:lnTo>
                  <a:lnTo>
                    <a:pt x="259" y="1032"/>
                  </a:lnTo>
                  <a:lnTo>
                    <a:pt x="267" y="1053"/>
                  </a:lnTo>
                  <a:lnTo>
                    <a:pt x="276" y="1073"/>
                  </a:lnTo>
                  <a:lnTo>
                    <a:pt x="284" y="1094"/>
                  </a:lnTo>
                  <a:lnTo>
                    <a:pt x="292" y="1113"/>
                  </a:lnTo>
                  <a:lnTo>
                    <a:pt x="300" y="1130"/>
                  </a:lnTo>
                  <a:lnTo>
                    <a:pt x="308" y="1146"/>
                  </a:lnTo>
                  <a:lnTo>
                    <a:pt x="314" y="1164"/>
                  </a:lnTo>
                  <a:lnTo>
                    <a:pt x="322" y="1182"/>
                  </a:lnTo>
                  <a:lnTo>
                    <a:pt x="329" y="1201"/>
                  </a:lnTo>
                  <a:lnTo>
                    <a:pt x="338" y="1219"/>
                  </a:lnTo>
                  <a:lnTo>
                    <a:pt x="346" y="1240"/>
                  </a:lnTo>
                  <a:lnTo>
                    <a:pt x="355" y="1259"/>
                  </a:lnTo>
                  <a:lnTo>
                    <a:pt x="364" y="1279"/>
                  </a:lnTo>
                  <a:lnTo>
                    <a:pt x="374" y="1298"/>
                  </a:lnTo>
                  <a:lnTo>
                    <a:pt x="381" y="1318"/>
                  </a:lnTo>
                  <a:lnTo>
                    <a:pt x="390" y="1337"/>
                  </a:lnTo>
                  <a:lnTo>
                    <a:pt x="397" y="1355"/>
                  </a:lnTo>
                  <a:lnTo>
                    <a:pt x="406" y="1371"/>
                  </a:lnTo>
                  <a:lnTo>
                    <a:pt x="412" y="1387"/>
                  </a:lnTo>
                  <a:lnTo>
                    <a:pt x="420" y="1402"/>
                  </a:lnTo>
                  <a:lnTo>
                    <a:pt x="425" y="1415"/>
                  </a:lnTo>
                  <a:lnTo>
                    <a:pt x="432" y="1425"/>
                  </a:lnTo>
                  <a:lnTo>
                    <a:pt x="436" y="1437"/>
                  </a:lnTo>
                  <a:lnTo>
                    <a:pt x="442" y="1449"/>
                  </a:lnTo>
                  <a:lnTo>
                    <a:pt x="449" y="1462"/>
                  </a:lnTo>
                  <a:lnTo>
                    <a:pt x="457" y="1475"/>
                  </a:lnTo>
                  <a:lnTo>
                    <a:pt x="464" y="1490"/>
                  </a:lnTo>
                  <a:lnTo>
                    <a:pt x="474" y="1505"/>
                  </a:lnTo>
                  <a:lnTo>
                    <a:pt x="483" y="1520"/>
                  </a:lnTo>
                  <a:lnTo>
                    <a:pt x="493" y="1535"/>
                  </a:lnTo>
                  <a:lnTo>
                    <a:pt x="502" y="1551"/>
                  </a:lnTo>
                  <a:lnTo>
                    <a:pt x="512" y="1566"/>
                  </a:lnTo>
                  <a:lnTo>
                    <a:pt x="522" y="1581"/>
                  </a:lnTo>
                  <a:lnTo>
                    <a:pt x="533" y="1595"/>
                  </a:lnTo>
                  <a:lnTo>
                    <a:pt x="542" y="1609"/>
                  </a:lnTo>
                  <a:lnTo>
                    <a:pt x="552" y="1622"/>
                  </a:lnTo>
                  <a:lnTo>
                    <a:pt x="561" y="1634"/>
                  </a:lnTo>
                  <a:lnTo>
                    <a:pt x="571" y="1644"/>
                  </a:lnTo>
                  <a:lnTo>
                    <a:pt x="579" y="1656"/>
                  </a:lnTo>
                  <a:lnTo>
                    <a:pt x="588" y="1667"/>
                  </a:lnTo>
                  <a:lnTo>
                    <a:pt x="598" y="1680"/>
                  </a:lnTo>
                  <a:lnTo>
                    <a:pt x="609" y="1691"/>
                  </a:lnTo>
                  <a:lnTo>
                    <a:pt x="620" y="1704"/>
                  </a:lnTo>
                  <a:lnTo>
                    <a:pt x="632" y="1717"/>
                  </a:lnTo>
                  <a:lnTo>
                    <a:pt x="644" y="1730"/>
                  </a:lnTo>
                  <a:lnTo>
                    <a:pt x="657" y="1741"/>
                  </a:lnTo>
                  <a:lnTo>
                    <a:pt x="668" y="1754"/>
                  </a:lnTo>
                  <a:lnTo>
                    <a:pt x="680" y="1766"/>
                  </a:lnTo>
                  <a:lnTo>
                    <a:pt x="692" y="1777"/>
                  </a:lnTo>
                  <a:lnTo>
                    <a:pt x="704" y="1787"/>
                  </a:lnTo>
                  <a:lnTo>
                    <a:pt x="714" y="1798"/>
                  </a:lnTo>
                  <a:lnTo>
                    <a:pt x="725" y="1806"/>
                  </a:lnTo>
                  <a:lnTo>
                    <a:pt x="735" y="1815"/>
                  </a:lnTo>
                  <a:lnTo>
                    <a:pt x="745" y="1821"/>
                  </a:lnTo>
                  <a:lnTo>
                    <a:pt x="752" y="1828"/>
                  </a:lnTo>
                  <a:lnTo>
                    <a:pt x="761" y="1835"/>
                  </a:lnTo>
                  <a:lnTo>
                    <a:pt x="768" y="1843"/>
                  </a:lnTo>
                  <a:lnTo>
                    <a:pt x="778" y="1848"/>
                  </a:lnTo>
                  <a:lnTo>
                    <a:pt x="785" y="1856"/>
                  </a:lnTo>
                  <a:lnTo>
                    <a:pt x="795" y="1862"/>
                  </a:lnTo>
                  <a:lnTo>
                    <a:pt x="803" y="1868"/>
                  </a:lnTo>
                  <a:lnTo>
                    <a:pt x="813" y="1874"/>
                  </a:lnTo>
                  <a:lnTo>
                    <a:pt x="820" y="1880"/>
                  </a:lnTo>
                  <a:lnTo>
                    <a:pt x="828" y="1886"/>
                  </a:lnTo>
                  <a:lnTo>
                    <a:pt x="834" y="1892"/>
                  </a:lnTo>
                  <a:lnTo>
                    <a:pt x="842" y="1896"/>
                  </a:lnTo>
                  <a:lnTo>
                    <a:pt x="848" y="1901"/>
                  </a:lnTo>
                  <a:lnTo>
                    <a:pt x="853" y="1904"/>
                  </a:lnTo>
                  <a:lnTo>
                    <a:pt x="857" y="1907"/>
                  </a:lnTo>
                  <a:lnTo>
                    <a:pt x="862" y="1909"/>
                  </a:lnTo>
                  <a:lnTo>
                    <a:pt x="864" y="1913"/>
                  </a:lnTo>
                  <a:lnTo>
                    <a:pt x="868" y="1914"/>
                  </a:lnTo>
                  <a:lnTo>
                    <a:pt x="873" y="1918"/>
                  </a:lnTo>
                  <a:lnTo>
                    <a:pt x="878" y="1920"/>
                  </a:lnTo>
                  <a:lnTo>
                    <a:pt x="884" y="1923"/>
                  </a:lnTo>
                  <a:lnTo>
                    <a:pt x="890" y="1926"/>
                  </a:lnTo>
                  <a:lnTo>
                    <a:pt x="896" y="1930"/>
                  </a:lnTo>
                  <a:lnTo>
                    <a:pt x="904" y="1932"/>
                  </a:lnTo>
                  <a:lnTo>
                    <a:pt x="910" y="1936"/>
                  </a:lnTo>
                  <a:lnTo>
                    <a:pt x="918" y="1940"/>
                  </a:lnTo>
                  <a:lnTo>
                    <a:pt x="925" y="1943"/>
                  </a:lnTo>
                  <a:lnTo>
                    <a:pt x="932" y="1945"/>
                  </a:lnTo>
                  <a:lnTo>
                    <a:pt x="939" y="1949"/>
                  </a:lnTo>
                  <a:lnTo>
                    <a:pt x="947" y="1951"/>
                  </a:lnTo>
                  <a:lnTo>
                    <a:pt x="954" y="1954"/>
                  </a:lnTo>
                  <a:lnTo>
                    <a:pt x="961" y="1956"/>
                  </a:lnTo>
                  <a:lnTo>
                    <a:pt x="967" y="1960"/>
                  </a:lnTo>
                  <a:lnTo>
                    <a:pt x="974" y="1962"/>
                  </a:lnTo>
                  <a:lnTo>
                    <a:pt x="983" y="1966"/>
                  </a:lnTo>
                  <a:lnTo>
                    <a:pt x="993" y="1968"/>
                  </a:lnTo>
                  <a:lnTo>
                    <a:pt x="1002" y="1972"/>
                  </a:lnTo>
                  <a:lnTo>
                    <a:pt x="1014" y="1976"/>
                  </a:lnTo>
                  <a:lnTo>
                    <a:pt x="1025" y="1979"/>
                  </a:lnTo>
                  <a:lnTo>
                    <a:pt x="1038" y="1982"/>
                  </a:lnTo>
                  <a:lnTo>
                    <a:pt x="1049" y="1986"/>
                  </a:lnTo>
                  <a:lnTo>
                    <a:pt x="1061" y="1990"/>
                  </a:lnTo>
                  <a:lnTo>
                    <a:pt x="1072" y="1994"/>
                  </a:lnTo>
                  <a:lnTo>
                    <a:pt x="1086" y="1997"/>
                  </a:lnTo>
                  <a:lnTo>
                    <a:pt x="1097" y="2001"/>
                  </a:lnTo>
                  <a:lnTo>
                    <a:pt x="1108" y="2002"/>
                  </a:lnTo>
                  <a:lnTo>
                    <a:pt x="1119" y="2006"/>
                  </a:lnTo>
                  <a:lnTo>
                    <a:pt x="1130" y="2008"/>
                  </a:lnTo>
                  <a:lnTo>
                    <a:pt x="1140" y="2011"/>
                  </a:lnTo>
                  <a:lnTo>
                    <a:pt x="1151" y="2013"/>
                  </a:lnTo>
                  <a:lnTo>
                    <a:pt x="1162" y="2016"/>
                  </a:lnTo>
                  <a:lnTo>
                    <a:pt x="1175" y="2018"/>
                  </a:lnTo>
                  <a:lnTo>
                    <a:pt x="1187" y="2022"/>
                  </a:lnTo>
                  <a:lnTo>
                    <a:pt x="1200" y="2024"/>
                  </a:lnTo>
                  <a:lnTo>
                    <a:pt x="1213" y="2027"/>
                  </a:lnTo>
                  <a:lnTo>
                    <a:pt x="1228" y="2029"/>
                  </a:lnTo>
                  <a:lnTo>
                    <a:pt x="1241" y="2032"/>
                  </a:lnTo>
                  <a:lnTo>
                    <a:pt x="1254" y="2034"/>
                  </a:lnTo>
                  <a:lnTo>
                    <a:pt x="1266" y="2036"/>
                  </a:lnTo>
                  <a:lnTo>
                    <a:pt x="1280" y="2038"/>
                  </a:lnTo>
                  <a:lnTo>
                    <a:pt x="1291" y="2040"/>
                  </a:lnTo>
                  <a:lnTo>
                    <a:pt x="1302" y="2042"/>
                  </a:lnTo>
                  <a:lnTo>
                    <a:pt x="1311" y="2044"/>
                  </a:lnTo>
                  <a:lnTo>
                    <a:pt x="1322" y="2044"/>
                  </a:lnTo>
                  <a:lnTo>
                    <a:pt x="1330" y="2046"/>
                  </a:lnTo>
                  <a:lnTo>
                    <a:pt x="1339" y="2048"/>
                  </a:lnTo>
                  <a:lnTo>
                    <a:pt x="1350" y="2049"/>
                  </a:lnTo>
                  <a:lnTo>
                    <a:pt x="1362" y="2049"/>
                  </a:lnTo>
                  <a:lnTo>
                    <a:pt x="1374" y="2051"/>
                  </a:lnTo>
                  <a:lnTo>
                    <a:pt x="1387" y="2052"/>
                  </a:lnTo>
                  <a:lnTo>
                    <a:pt x="1400" y="2054"/>
                  </a:lnTo>
                  <a:lnTo>
                    <a:pt x="1414" y="2054"/>
                  </a:lnTo>
                  <a:lnTo>
                    <a:pt x="1427" y="2056"/>
                  </a:lnTo>
                  <a:lnTo>
                    <a:pt x="1441" y="2056"/>
                  </a:lnTo>
                  <a:lnTo>
                    <a:pt x="1454" y="2057"/>
                  </a:lnTo>
                  <a:lnTo>
                    <a:pt x="1468" y="2057"/>
                  </a:lnTo>
                  <a:lnTo>
                    <a:pt x="1480" y="2059"/>
                  </a:lnTo>
                  <a:lnTo>
                    <a:pt x="1494" y="2059"/>
                  </a:lnTo>
                  <a:lnTo>
                    <a:pt x="1505" y="2060"/>
                  </a:lnTo>
                  <a:lnTo>
                    <a:pt x="1516" y="2060"/>
                  </a:lnTo>
                  <a:lnTo>
                    <a:pt x="1526" y="2062"/>
                  </a:lnTo>
                  <a:lnTo>
                    <a:pt x="1538" y="2062"/>
                  </a:lnTo>
                  <a:lnTo>
                    <a:pt x="1550" y="2062"/>
                  </a:lnTo>
                  <a:lnTo>
                    <a:pt x="1563" y="2062"/>
                  </a:lnTo>
                  <a:lnTo>
                    <a:pt x="1576" y="2064"/>
                  </a:lnTo>
                  <a:lnTo>
                    <a:pt x="1590" y="2064"/>
                  </a:lnTo>
                  <a:lnTo>
                    <a:pt x="1603" y="2064"/>
                  </a:lnTo>
                  <a:lnTo>
                    <a:pt x="1618" y="2064"/>
                  </a:lnTo>
                  <a:lnTo>
                    <a:pt x="1631" y="2066"/>
                  </a:lnTo>
                  <a:lnTo>
                    <a:pt x="1644" y="2066"/>
                  </a:lnTo>
                  <a:lnTo>
                    <a:pt x="1657" y="2066"/>
                  </a:lnTo>
                  <a:lnTo>
                    <a:pt x="1670" y="2066"/>
                  </a:lnTo>
                  <a:lnTo>
                    <a:pt x="1681" y="2066"/>
                  </a:lnTo>
                  <a:lnTo>
                    <a:pt x="1692" y="2066"/>
                  </a:lnTo>
                  <a:lnTo>
                    <a:pt x="1702" y="2066"/>
                  </a:lnTo>
                  <a:lnTo>
                    <a:pt x="1713" y="2066"/>
                  </a:lnTo>
                  <a:lnTo>
                    <a:pt x="1719" y="2066"/>
                  </a:lnTo>
                  <a:lnTo>
                    <a:pt x="1725" y="2066"/>
                  </a:lnTo>
                  <a:lnTo>
                    <a:pt x="1728" y="2066"/>
                  </a:lnTo>
                  <a:lnTo>
                    <a:pt x="1732" y="2066"/>
                  </a:lnTo>
                  <a:lnTo>
                    <a:pt x="1734" y="2066"/>
                  </a:lnTo>
                  <a:lnTo>
                    <a:pt x="1736" y="2066"/>
                  </a:lnTo>
                  <a:lnTo>
                    <a:pt x="1738" y="2066"/>
                  </a:lnTo>
                  <a:lnTo>
                    <a:pt x="1739" y="2066"/>
                  </a:lnTo>
                  <a:lnTo>
                    <a:pt x="1741" y="2066"/>
                  </a:lnTo>
                  <a:lnTo>
                    <a:pt x="1744" y="2066"/>
                  </a:lnTo>
                  <a:lnTo>
                    <a:pt x="1749" y="2066"/>
                  </a:lnTo>
                  <a:lnTo>
                    <a:pt x="1755" y="2066"/>
                  </a:lnTo>
                  <a:lnTo>
                    <a:pt x="1762" y="2066"/>
                  </a:lnTo>
                  <a:lnTo>
                    <a:pt x="1772" y="2066"/>
                  </a:lnTo>
                  <a:lnTo>
                    <a:pt x="1784" y="2066"/>
                  </a:lnTo>
                  <a:lnTo>
                    <a:pt x="1800" y="2066"/>
                  </a:ln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14880" y="2749680"/>
              <a:ext cx="3416040" cy="3340080"/>
            </a:xfrm>
            <a:custGeom>
              <a:avLst/>
              <a:gdLst/>
              <a:ahLst/>
              <a:rect l="l" t="t" r="r" b="b"/>
              <a:pathLst>
                <a:path w="2152" h="2104">
                  <a:moveTo>
                    <a:pt x="0" y="0"/>
                  </a:moveTo>
                  <a:lnTo>
                    <a:pt x="3" y="18"/>
                  </a:lnTo>
                  <a:lnTo>
                    <a:pt x="5" y="33"/>
                  </a:lnTo>
                  <a:lnTo>
                    <a:pt x="7" y="46"/>
                  </a:lnTo>
                  <a:lnTo>
                    <a:pt x="10" y="54"/>
                  </a:lnTo>
                  <a:lnTo>
                    <a:pt x="10" y="61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4" y="79"/>
                  </a:lnTo>
                  <a:lnTo>
                    <a:pt x="15" y="81"/>
                  </a:lnTo>
                  <a:lnTo>
                    <a:pt x="15" y="86"/>
                  </a:lnTo>
                  <a:lnTo>
                    <a:pt x="17" y="90"/>
                  </a:lnTo>
                  <a:lnTo>
                    <a:pt x="19" y="97"/>
                  </a:lnTo>
                  <a:lnTo>
                    <a:pt x="21" y="105"/>
                  </a:lnTo>
                  <a:lnTo>
                    <a:pt x="22" y="118"/>
                  </a:lnTo>
                  <a:lnTo>
                    <a:pt x="25" y="132"/>
                  </a:lnTo>
                  <a:lnTo>
                    <a:pt x="29" y="150"/>
                  </a:lnTo>
                  <a:lnTo>
                    <a:pt x="35" y="169"/>
                  </a:lnTo>
                  <a:lnTo>
                    <a:pt x="40" y="192"/>
                  </a:lnTo>
                  <a:lnTo>
                    <a:pt x="46" y="215"/>
                  </a:lnTo>
                  <a:lnTo>
                    <a:pt x="53" y="240"/>
                  </a:lnTo>
                  <a:lnTo>
                    <a:pt x="61" y="266"/>
                  </a:lnTo>
                  <a:lnTo>
                    <a:pt x="69" y="294"/>
                  </a:lnTo>
                  <a:lnTo>
                    <a:pt x="77" y="322"/>
                  </a:lnTo>
                  <a:lnTo>
                    <a:pt x="84" y="351"/>
                  </a:lnTo>
                  <a:lnTo>
                    <a:pt x="93" y="379"/>
                  </a:lnTo>
                  <a:lnTo>
                    <a:pt x="101" y="408"/>
                  </a:lnTo>
                  <a:lnTo>
                    <a:pt x="110" y="436"/>
                  </a:lnTo>
                  <a:lnTo>
                    <a:pt x="119" y="464"/>
                  </a:lnTo>
                  <a:lnTo>
                    <a:pt x="128" y="489"/>
                  </a:lnTo>
                  <a:lnTo>
                    <a:pt x="135" y="517"/>
                  </a:lnTo>
                  <a:lnTo>
                    <a:pt x="144" y="545"/>
                  </a:lnTo>
                  <a:lnTo>
                    <a:pt x="153" y="575"/>
                  </a:lnTo>
                  <a:lnTo>
                    <a:pt x="164" y="604"/>
                  </a:lnTo>
                  <a:lnTo>
                    <a:pt x="173" y="635"/>
                  </a:lnTo>
                  <a:lnTo>
                    <a:pt x="185" y="665"/>
                  </a:lnTo>
                  <a:lnTo>
                    <a:pt x="196" y="695"/>
                  </a:lnTo>
                  <a:lnTo>
                    <a:pt x="207" y="724"/>
                  </a:lnTo>
                  <a:lnTo>
                    <a:pt x="217" y="754"/>
                  </a:lnTo>
                  <a:lnTo>
                    <a:pt x="228" y="781"/>
                  </a:lnTo>
                  <a:lnTo>
                    <a:pt x="238" y="808"/>
                  </a:lnTo>
                  <a:lnTo>
                    <a:pt x="248" y="831"/>
                  </a:lnTo>
                  <a:lnTo>
                    <a:pt x="257" y="854"/>
                  </a:lnTo>
                  <a:lnTo>
                    <a:pt x="266" y="874"/>
                  </a:lnTo>
                  <a:lnTo>
                    <a:pt x="274" y="892"/>
                  </a:lnTo>
                  <a:lnTo>
                    <a:pt x="282" y="905"/>
                  </a:lnTo>
                  <a:lnTo>
                    <a:pt x="287" y="919"/>
                  </a:lnTo>
                  <a:lnTo>
                    <a:pt x="295" y="935"/>
                  </a:lnTo>
                  <a:lnTo>
                    <a:pt x="303" y="953"/>
                  </a:lnTo>
                  <a:lnTo>
                    <a:pt x="313" y="971"/>
                  </a:lnTo>
                  <a:lnTo>
                    <a:pt x="322" y="992"/>
                  </a:lnTo>
                  <a:lnTo>
                    <a:pt x="333" y="1012"/>
                  </a:lnTo>
                  <a:lnTo>
                    <a:pt x="344" y="1034"/>
                  </a:lnTo>
                  <a:lnTo>
                    <a:pt x="356" y="1055"/>
                  </a:lnTo>
                  <a:lnTo>
                    <a:pt x="367" y="1077"/>
                  </a:lnTo>
                  <a:lnTo>
                    <a:pt x="379" y="1100"/>
                  </a:lnTo>
                  <a:lnTo>
                    <a:pt x="390" y="1122"/>
                  </a:lnTo>
                  <a:lnTo>
                    <a:pt x="402" y="1143"/>
                  </a:lnTo>
                  <a:lnTo>
                    <a:pt x="412" y="1164"/>
                  </a:lnTo>
                  <a:lnTo>
                    <a:pt x="424" y="1184"/>
                  </a:lnTo>
                  <a:lnTo>
                    <a:pt x="433" y="1203"/>
                  </a:lnTo>
                  <a:lnTo>
                    <a:pt x="444" y="1220"/>
                  </a:lnTo>
                  <a:lnTo>
                    <a:pt x="453" y="1238"/>
                  </a:lnTo>
                  <a:lnTo>
                    <a:pt x="462" y="1257"/>
                  </a:lnTo>
                  <a:lnTo>
                    <a:pt x="472" y="1277"/>
                  </a:lnTo>
                  <a:lnTo>
                    <a:pt x="483" y="1296"/>
                  </a:lnTo>
                  <a:lnTo>
                    <a:pt x="495" y="1317"/>
                  </a:lnTo>
                  <a:lnTo>
                    <a:pt x="506" y="1338"/>
                  </a:lnTo>
                  <a:lnTo>
                    <a:pt x="517" y="1358"/>
                  </a:lnTo>
                  <a:lnTo>
                    <a:pt x="529" y="1379"/>
                  </a:lnTo>
                  <a:lnTo>
                    <a:pt x="539" y="1400"/>
                  </a:lnTo>
                  <a:lnTo>
                    <a:pt x="550" y="1420"/>
                  </a:lnTo>
                  <a:lnTo>
                    <a:pt x="560" y="1439"/>
                  </a:lnTo>
                  <a:lnTo>
                    <a:pt x="571" y="1456"/>
                  </a:lnTo>
                  <a:lnTo>
                    <a:pt x="580" y="1474"/>
                  </a:lnTo>
                  <a:lnTo>
                    <a:pt x="589" y="1489"/>
                  </a:lnTo>
                  <a:lnTo>
                    <a:pt x="597" y="1503"/>
                  </a:lnTo>
                  <a:lnTo>
                    <a:pt x="605" y="1513"/>
                  </a:lnTo>
                  <a:lnTo>
                    <a:pt x="611" y="1526"/>
                  </a:lnTo>
                  <a:lnTo>
                    <a:pt x="618" y="1538"/>
                  </a:lnTo>
                  <a:lnTo>
                    <a:pt x="627" y="1553"/>
                  </a:lnTo>
                  <a:lnTo>
                    <a:pt x="637" y="1566"/>
                  </a:lnTo>
                  <a:lnTo>
                    <a:pt x="646" y="1581"/>
                  </a:lnTo>
                  <a:lnTo>
                    <a:pt x="658" y="1596"/>
                  </a:lnTo>
                  <a:lnTo>
                    <a:pt x="669" y="1612"/>
                  </a:lnTo>
                  <a:lnTo>
                    <a:pt x="682" y="1628"/>
                  </a:lnTo>
                  <a:lnTo>
                    <a:pt x="693" y="1644"/>
                  </a:lnTo>
                  <a:lnTo>
                    <a:pt x="706" y="1659"/>
                  </a:lnTo>
                  <a:lnTo>
                    <a:pt x="717" y="1675"/>
                  </a:lnTo>
                  <a:lnTo>
                    <a:pt x="730" y="1689"/>
                  </a:lnTo>
                  <a:lnTo>
                    <a:pt x="741" y="1704"/>
                  </a:lnTo>
                  <a:lnTo>
                    <a:pt x="753" y="1717"/>
                  </a:lnTo>
                  <a:lnTo>
                    <a:pt x="764" y="1729"/>
                  </a:lnTo>
                  <a:lnTo>
                    <a:pt x="775" y="1739"/>
                  </a:lnTo>
                  <a:lnTo>
                    <a:pt x="785" y="1750"/>
                  </a:lnTo>
                  <a:lnTo>
                    <a:pt x="797" y="1762"/>
                  </a:lnTo>
                  <a:lnTo>
                    <a:pt x="809" y="1775"/>
                  </a:lnTo>
                  <a:lnTo>
                    <a:pt x="822" y="1786"/>
                  </a:lnTo>
                  <a:lnTo>
                    <a:pt x="835" y="1799"/>
                  </a:lnTo>
                  <a:lnTo>
                    <a:pt x="850" y="1812"/>
                  </a:lnTo>
                  <a:lnTo>
                    <a:pt x="864" y="1825"/>
                  </a:lnTo>
                  <a:lnTo>
                    <a:pt x="879" y="1836"/>
                  </a:lnTo>
                  <a:lnTo>
                    <a:pt x="892" y="1849"/>
                  </a:lnTo>
                  <a:lnTo>
                    <a:pt x="907" y="1861"/>
                  </a:lnTo>
                  <a:lnTo>
                    <a:pt x="921" y="1872"/>
                  </a:lnTo>
                  <a:lnTo>
                    <a:pt x="935" y="1882"/>
                  </a:lnTo>
                  <a:lnTo>
                    <a:pt x="948" y="1892"/>
                  </a:lnTo>
                  <a:lnTo>
                    <a:pt x="960" y="1901"/>
                  </a:lnTo>
                  <a:lnTo>
                    <a:pt x="971" y="1909"/>
                  </a:lnTo>
                  <a:lnTo>
                    <a:pt x="983" y="1914"/>
                  </a:lnTo>
                  <a:lnTo>
                    <a:pt x="992" y="1922"/>
                  </a:lnTo>
                  <a:lnTo>
                    <a:pt x="1001" y="1928"/>
                  </a:lnTo>
                  <a:lnTo>
                    <a:pt x="1011" y="1934"/>
                  </a:lnTo>
                  <a:lnTo>
                    <a:pt x="1022" y="1940"/>
                  </a:lnTo>
                  <a:lnTo>
                    <a:pt x="1031" y="1948"/>
                  </a:lnTo>
                  <a:lnTo>
                    <a:pt x="1042" y="1953"/>
                  </a:lnTo>
                  <a:lnTo>
                    <a:pt x="1051" y="1960"/>
                  </a:lnTo>
                  <a:lnTo>
                    <a:pt x="1062" y="1966"/>
                  </a:lnTo>
                  <a:lnTo>
                    <a:pt x="1070" y="1972"/>
                  </a:lnTo>
                  <a:lnTo>
                    <a:pt x="1079" y="1978"/>
                  </a:lnTo>
                  <a:lnTo>
                    <a:pt x="1087" y="1983"/>
                  </a:lnTo>
                  <a:lnTo>
                    <a:pt x="1096" y="1988"/>
                  </a:lnTo>
                  <a:lnTo>
                    <a:pt x="1103" y="1992"/>
                  </a:lnTo>
                  <a:lnTo>
                    <a:pt x="1109" y="1996"/>
                  </a:lnTo>
                  <a:lnTo>
                    <a:pt x="1114" y="1998"/>
                  </a:lnTo>
                  <a:lnTo>
                    <a:pt x="1119" y="2000"/>
                  </a:lnTo>
                  <a:lnTo>
                    <a:pt x="1123" y="2003"/>
                  </a:lnTo>
                  <a:lnTo>
                    <a:pt x="1126" y="2005"/>
                  </a:lnTo>
                  <a:lnTo>
                    <a:pt x="1131" y="2008"/>
                  </a:lnTo>
                  <a:lnTo>
                    <a:pt x="1137" y="2010"/>
                  </a:lnTo>
                  <a:lnTo>
                    <a:pt x="1144" y="2013"/>
                  </a:lnTo>
                  <a:lnTo>
                    <a:pt x="1151" y="2015"/>
                  </a:lnTo>
                  <a:lnTo>
                    <a:pt x="1159" y="2019"/>
                  </a:lnTo>
                  <a:lnTo>
                    <a:pt x="1167" y="2021"/>
                  </a:lnTo>
                  <a:lnTo>
                    <a:pt x="1174" y="2024"/>
                  </a:lnTo>
                  <a:lnTo>
                    <a:pt x="1182" y="2027"/>
                  </a:lnTo>
                  <a:lnTo>
                    <a:pt x="1190" y="2031"/>
                  </a:lnTo>
                  <a:lnTo>
                    <a:pt x="1199" y="2032"/>
                  </a:lnTo>
                  <a:lnTo>
                    <a:pt x="1207" y="2036"/>
                  </a:lnTo>
                  <a:lnTo>
                    <a:pt x="1215" y="2038"/>
                  </a:lnTo>
                  <a:lnTo>
                    <a:pt x="1223" y="2039"/>
                  </a:lnTo>
                  <a:lnTo>
                    <a:pt x="1232" y="2041"/>
                  </a:lnTo>
                  <a:lnTo>
                    <a:pt x="1239" y="2045"/>
                  </a:lnTo>
                  <a:lnTo>
                    <a:pt x="1247" y="2047"/>
                  </a:lnTo>
                  <a:lnTo>
                    <a:pt x="1256" y="2049"/>
                  </a:lnTo>
                  <a:lnTo>
                    <a:pt x="1267" y="2051"/>
                  </a:lnTo>
                  <a:lnTo>
                    <a:pt x="1279" y="2055"/>
                  </a:lnTo>
                  <a:lnTo>
                    <a:pt x="1290" y="2057"/>
                  </a:lnTo>
                  <a:lnTo>
                    <a:pt x="1303" y="2060"/>
                  </a:lnTo>
                  <a:lnTo>
                    <a:pt x="1317" y="2062"/>
                  </a:lnTo>
                  <a:lnTo>
                    <a:pt x="1330" y="2066"/>
                  </a:lnTo>
                  <a:lnTo>
                    <a:pt x="1343" y="2068"/>
                  </a:lnTo>
                  <a:lnTo>
                    <a:pt x="1357" y="2070"/>
                  </a:lnTo>
                  <a:lnTo>
                    <a:pt x="1371" y="2072"/>
                  </a:lnTo>
                  <a:lnTo>
                    <a:pt x="1383" y="2075"/>
                  </a:lnTo>
                  <a:lnTo>
                    <a:pt x="1397" y="2077"/>
                  </a:lnTo>
                  <a:lnTo>
                    <a:pt x="1408" y="2079"/>
                  </a:lnTo>
                  <a:lnTo>
                    <a:pt x="1421" y="2080"/>
                  </a:lnTo>
                  <a:lnTo>
                    <a:pt x="1431" y="2082"/>
                  </a:lnTo>
                  <a:lnTo>
                    <a:pt x="1443" y="2084"/>
                  </a:lnTo>
                  <a:lnTo>
                    <a:pt x="1456" y="2086"/>
                  </a:lnTo>
                  <a:lnTo>
                    <a:pt x="1470" y="2088"/>
                  </a:lnTo>
                  <a:lnTo>
                    <a:pt x="1484" y="2090"/>
                  </a:lnTo>
                  <a:lnTo>
                    <a:pt x="1499" y="2092"/>
                  </a:lnTo>
                  <a:lnTo>
                    <a:pt x="1514" y="2094"/>
                  </a:lnTo>
                  <a:lnTo>
                    <a:pt x="1529" y="2095"/>
                  </a:lnTo>
                  <a:lnTo>
                    <a:pt x="1542" y="2097"/>
                  </a:lnTo>
                  <a:lnTo>
                    <a:pt x="1557" y="2098"/>
                  </a:lnTo>
                  <a:lnTo>
                    <a:pt x="1571" y="2100"/>
                  </a:lnTo>
                  <a:lnTo>
                    <a:pt x="1585" y="2100"/>
                  </a:lnTo>
                  <a:lnTo>
                    <a:pt x="1597" y="2102"/>
                  </a:lnTo>
                  <a:lnTo>
                    <a:pt x="1609" y="2102"/>
                  </a:lnTo>
                  <a:lnTo>
                    <a:pt x="1620" y="2102"/>
                  </a:lnTo>
                  <a:lnTo>
                    <a:pt x="1631" y="2102"/>
                  </a:lnTo>
                  <a:lnTo>
                    <a:pt x="1639" y="2103"/>
                  </a:lnTo>
                  <a:lnTo>
                    <a:pt x="1650" y="2103"/>
                  </a:lnTo>
                  <a:lnTo>
                    <a:pt x="1662" y="2103"/>
                  </a:lnTo>
                  <a:lnTo>
                    <a:pt x="1675" y="2103"/>
                  </a:lnTo>
                  <a:lnTo>
                    <a:pt x="1689" y="2103"/>
                  </a:lnTo>
                  <a:lnTo>
                    <a:pt x="1703" y="2103"/>
                  </a:lnTo>
                  <a:lnTo>
                    <a:pt x="1718" y="2103"/>
                  </a:lnTo>
                  <a:lnTo>
                    <a:pt x="1733" y="2103"/>
                  </a:lnTo>
                  <a:lnTo>
                    <a:pt x="1748" y="2103"/>
                  </a:lnTo>
                  <a:lnTo>
                    <a:pt x="1763" y="2103"/>
                  </a:lnTo>
                  <a:lnTo>
                    <a:pt x="1778" y="2103"/>
                  </a:lnTo>
                  <a:lnTo>
                    <a:pt x="1793" y="2103"/>
                  </a:lnTo>
                  <a:lnTo>
                    <a:pt x="1806" y="2103"/>
                  </a:lnTo>
                  <a:lnTo>
                    <a:pt x="1821" y="2102"/>
                  </a:lnTo>
                  <a:lnTo>
                    <a:pt x="1833" y="2102"/>
                  </a:lnTo>
                  <a:lnTo>
                    <a:pt x="1846" y="2100"/>
                  </a:lnTo>
                  <a:lnTo>
                    <a:pt x="1856" y="2100"/>
                  </a:lnTo>
                  <a:lnTo>
                    <a:pt x="1868" y="2100"/>
                  </a:lnTo>
                  <a:lnTo>
                    <a:pt x="1881" y="2100"/>
                  </a:lnTo>
                  <a:lnTo>
                    <a:pt x="1896" y="2099"/>
                  </a:lnTo>
                  <a:lnTo>
                    <a:pt x="1909" y="2099"/>
                  </a:lnTo>
                  <a:lnTo>
                    <a:pt x="1924" y="2097"/>
                  </a:lnTo>
                  <a:lnTo>
                    <a:pt x="1939" y="2097"/>
                  </a:lnTo>
                  <a:lnTo>
                    <a:pt x="1955" y="2096"/>
                  </a:lnTo>
                  <a:lnTo>
                    <a:pt x="1969" y="2096"/>
                  </a:lnTo>
                  <a:lnTo>
                    <a:pt x="1984" y="2094"/>
                  </a:lnTo>
                  <a:lnTo>
                    <a:pt x="1997" y="2094"/>
                  </a:lnTo>
                  <a:lnTo>
                    <a:pt x="2012" y="2092"/>
                  </a:lnTo>
                  <a:lnTo>
                    <a:pt x="2023" y="2092"/>
                  </a:lnTo>
                  <a:lnTo>
                    <a:pt x="2036" y="2090"/>
                  </a:lnTo>
                  <a:lnTo>
                    <a:pt x="2047" y="2090"/>
                  </a:lnTo>
                  <a:lnTo>
                    <a:pt x="2058" y="2088"/>
                  </a:lnTo>
                  <a:lnTo>
                    <a:pt x="2065" y="2088"/>
                  </a:lnTo>
                  <a:lnTo>
                    <a:pt x="2070" y="2088"/>
                  </a:lnTo>
                  <a:lnTo>
                    <a:pt x="2074" y="2088"/>
                  </a:lnTo>
                  <a:lnTo>
                    <a:pt x="2078" y="2087"/>
                  </a:lnTo>
                  <a:lnTo>
                    <a:pt x="2080" y="2087"/>
                  </a:lnTo>
                  <a:lnTo>
                    <a:pt x="2081" y="2087"/>
                  </a:lnTo>
                  <a:lnTo>
                    <a:pt x="2083" y="2087"/>
                  </a:lnTo>
                  <a:lnTo>
                    <a:pt x="2086" y="2086"/>
                  </a:lnTo>
                  <a:lnTo>
                    <a:pt x="2088" y="2086"/>
                  </a:lnTo>
                  <a:lnTo>
                    <a:pt x="2091" y="2086"/>
                  </a:lnTo>
                  <a:lnTo>
                    <a:pt x="2096" y="2086"/>
                  </a:lnTo>
                  <a:lnTo>
                    <a:pt x="2103" y="2085"/>
                  </a:lnTo>
                  <a:lnTo>
                    <a:pt x="2111" y="2085"/>
                  </a:lnTo>
                  <a:lnTo>
                    <a:pt x="2121" y="2083"/>
                  </a:lnTo>
                  <a:lnTo>
                    <a:pt x="2135" y="2082"/>
                  </a:lnTo>
                  <a:lnTo>
                    <a:pt x="2151" y="2080"/>
                  </a:ln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230720" y="1809720"/>
              <a:ext cx="2498760" cy="2870280"/>
            </a:xfrm>
            <a:custGeom>
              <a:avLst/>
              <a:gdLst/>
              <a:ahLst/>
              <a:rect l="l" t="t" r="r" b="b"/>
              <a:pathLst>
                <a:path w="1574" h="1808">
                  <a:moveTo>
                    <a:pt x="0" y="0"/>
                  </a:moveTo>
                  <a:lnTo>
                    <a:pt x="0" y="16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4" y="51"/>
                  </a:lnTo>
                  <a:lnTo>
                    <a:pt x="4" y="55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7" y="74"/>
                  </a:lnTo>
                  <a:lnTo>
                    <a:pt x="8" y="80"/>
                  </a:lnTo>
                  <a:lnTo>
                    <a:pt x="10" y="86"/>
                  </a:lnTo>
                  <a:lnTo>
                    <a:pt x="10" y="96"/>
                  </a:lnTo>
                  <a:lnTo>
                    <a:pt x="11" y="108"/>
                  </a:lnTo>
                  <a:lnTo>
                    <a:pt x="12" y="122"/>
                  </a:lnTo>
                  <a:lnTo>
                    <a:pt x="15" y="137"/>
                  </a:lnTo>
                  <a:lnTo>
                    <a:pt x="17" y="155"/>
                  </a:lnTo>
                  <a:lnTo>
                    <a:pt x="21" y="175"/>
                  </a:lnTo>
                  <a:lnTo>
                    <a:pt x="24" y="195"/>
                  </a:lnTo>
                  <a:lnTo>
                    <a:pt x="29" y="216"/>
                  </a:lnTo>
                  <a:lnTo>
                    <a:pt x="32" y="240"/>
                  </a:lnTo>
                  <a:lnTo>
                    <a:pt x="38" y="262"/>
                  </a:lnTo>
                  <a:lnTo>
                    <a:pt x="41" y="286"/>
                  </a:lnTo>
                  <a:lnTo>
                    <a:pt x="47" y="308"/>
                  </a:lnTo>
                  <a:lnTo>
                    <a:pt x="51" y="332"/>
                  </a:lnTo>
                  <a:lnTo>
                    <a:pt x="57" y="355"/>
                  </a:lnTo>
                  <a:lnTo>
                    <a:pt x="62" y="378"/>
                  </a:lnTo>
                  <a:lnTo>
                    <a:pt x="68" y="399"/>
                  </a:lnTo>
                  <a:lnTo>
                    <a:pt x="72" y="422"/>
                  </a:lnTo>
                  <a:lnTo>
                    <a:pt x="78" y="444"/>
                  </a:lnTo>
                  <a:lnTo>
                    <a:pt x="83" y="468"/>
                  </a:lnTo>
                  <a:lnTo>
                    <a:pt x="89" y="492"/>
                  </a:lnTo>
                  <a:lnTo>
                    <a:pt x="95" y="518"/>
                  </a:lnTo>
                  <a:lnTo>
                    <a:pt x="102" y="542"/>
                  </a:lnTo>
                  <a:lnTo>
                    <a:pt x="108" y="566"/>
                  </a:lnTo>
                  <a:lnTo>
                    <a:pt x="115" y="590"/>
                  </a:lnTo>
                  <a:lnTo>
                    <a:pt x="120" y="614"/>
                  </a:lnTo>
                  <a:lnTo>
                    <a:pt x="128" y="637"/>
                  </a:lnTo>
                  <a:lnTo>
                    <a:pt x="133" y="659"/>
                  </a:lnTo>
                  <a:lnTo>
                    <a:pt x="140" y="678"/>
                  </a:lnTo>
                  <a:lnTo>
                    <a:pt x="146" y="698"/>
                  </a:lnTo>
                  <a:lnTo>
                    <a:pt x="152" y="714"/>
                  </a:lnTo>
                  <a:lnTo>
                    <a:pt x="157" y="728"/>
                  </a:lnTo>
                  <a:lnTo>
                    <a:pt x="163" y="739"/>
                  </a:lnTo>
                  <a:lnTo>
                    <a:pt x="167" y="752"/>
                  </a:lnTo>
                  <a:lnTo>
                    <a:pt x="172" y="765"/>
                  </a:lnTo>
                  <a:lnTo>
                    <a:pt x="177" y="780"/>
                  </a:lnTo>
                  <a:lnTo>
                    <a:pt x="184" y="795"/>
                  </a:lnTo>
                  <a:lnTo>
                    <a:pt x="190" y="812"/>
                  </a:lnTo>
                  <a:lnTo>
                    <a:pt x="197" y="829"/>
                  </a:lnTo>
                  <a:lnTo>
                    <a:pt x="205" y="848"/>
                  </a:lnTo>
                  <a:lnTo>
                    <a:pt x="212" y="866"/>
                  </a:lnTo>
                  <a:lnTo>
                    <a:pt x="220" y="885"/>
                  </a:lnTo>
                  <a:lnTo>
                    <a:pt x="227" y="904"/>
                  </a:lnTo>
                  <a:lnTo>
                    <a:pt x="235" y="922"/>
                  </a:lnTo>
                  <a:lnTo>
                    <a:pt x="242" y="940"/>
                  </a:lnTo>
                  <a:lnTo>
                    <a:pt x="248" y="958"/>
                  </a:lnTo>
                  <a:lnTo>
                    <a:pt x="256" y="974"/>
                  </a:lnTo>
                  <a:lnTo>
                    <a:pt x="262" y="990"/>
                  </a:lnTo>
                  <a:lnTo>
                    <a:pt x="270" y="1004"/>
                  </a:lnTo>
                  <a:lnTo>
                    <a:pt x="275" y="1020"/>
                  </a:lnTo>
                  <a:lnTo>
                    <a:pt x="282" y="1034"/>
                  </a:lnTo>
                  <a:lnTo>
                    <a:pt x="288" y="1051"/>
                  </a:lnTo>
                  <a:lnTo>
                    <a:pt x="295" y="1068"/>
                  </a:lnTo>
                  <a:lnTo>
                    <a:pt x="303" y="1086"/>
                  </a:lnTo>
                  <a:lnTo>
                    <a:pt x="310" y="1102"/>
                  </a:lnTo>
                  <a:lnTo>
                    <a:pt x="318" y="1120"/>
                  </a:lnTo>
                  <a:lnTo>
                    <a:pt x="326" y="1137"/>
                  </a:lnTo>
                  <a:lnTo>
                    <a:pt x="333" y="1154"/>
                  </a:lnTo>
                  <a:lnTo>
                    <a:pt x="340" y="1171"/>
                  </a:lnTo>
                  <a:lnTo>
                    <a:pt x="347" y="1187"/>
                  </a:lnTo>
                  <a:lnTo>
                    <a:pt x="354" y="1201"/>
                  </a:lnTo>
                  <a:lnTo>
                    <a:pt x="360" y="1216"/>
                  </a:lnTo>
                  <a:lnTo>
                    <a:pt x="366" y="1228"/>
                  </a:lnTo>
                  <a:lnTo>
                    <a:pt x="372" y="1240"/>
                  </a:lnTo>
                  <a:lnTo>
                    <a:pt x="378" y="1248"/>
                  </a:lnTo>
                  <a:lnTo>
                    <a:pt x="381" y="1259"/>
                  </a:lnTo>
                  <a:lnTo>
                    <a:pt x="386" y="1269"/>
                  </a:lnTo>
                  <a:lnTo>
                    <a:pt x="392" y="1281"/>
                  </a:lnTo>
                  <a:lnTo>
                    <a:pt x="400" y="1292"/>
                  </a:lnTo>
                  <a:lnTo>
                    <a:pt x="406" y="1305"/>
                  </a:lnTo>
                  <a:lnTo>
                    <a:pt x="414" y="1318"/>
                  </a:lnTo>
                  <a:lnTo>
                    <a:pt x="421" y="1331"/>
                  </a:lnTo>
                  <a:lnTo>
                    <a:pt x="431" y="1344"/>
                  </a:lnTo>
                  <a:lnTo>
                    <a:pt x="438" y="1357"/>
                  </a:lnTo>
                  <a:lnTo>
                    <a:pt x="448" y="1370"/>
                  </a:lnTo>
                  <a:lnTo>
                    <a:pt x="456" y="1383"/>
                  </a:lnTo>
                  <a:lnTo>
                    <a:pt x="466" y="1395"/>
                  </a:lnTo>
                  <a:lnTo>
                    <a:pt x="473" y="1408"/>
                  </a:lnTo>
                  <a:lnTo>
                    <a:pt x="482" y="1419"/>
                  </a:lnTo>
                  <a:lnTo>
                    <a:pt x="490" y="1429"/>
                  </a:lnTo>
                  <a:lnTo>
                    <a:pt x="499" y="1438"/>
                  </a:lnTo>
                  <a:lnTo>
                    <a:pt x="506" y="1448"/>
                  </a:lnTo>
                  <a:lnTo>
                    <a:pt x="514" y="1458"/>
                  </a:lnTo>
                  <a:lnTo>
                    <a:pt x="523" y="1469"/>
                  </a:lnTo>
                  <a:lnTo>
                    <a:pt x="533" y="1478"/>
                  </a:lnTo>
                  <a:lnTo>
                    <a:pt x="542" y="1490"/>
                  </a:lnTo>
                  <a:lnTo>
                    <a:pt x="553" y="1501"/>
                  </a:lnTo>
                  <a:lnTo>
                    <a:pt x="564" y="1512"/>
                  </a:lnTo>
                  <a:lnTo>
                    <a:pt x="575" y="1522"/>
                  </a:lnTo>
                  <a:lnTo>
                    <a:pt x="584" y="1533"/>
                  </a:lnTo>
                  <a:lnTo>
                    <a:pt x="596" y="1543"/>
                  </a:lnTo>
                  <a:lnTo>
                    <a:pt x="605" y="1553"/>
                  </a:lnTo>
                  <a:lnTo>
                    <a:pt x="617" y="1562"/>
                  </a:lnTo>
                  <a:lnTo>
                    <a:pt x="625" y="1572"/>
                  </a:lnTo>
                  <a:lnTo>
                    <a:pt x="635" y="1579"/>
                  </a:lnTo>
                  <a:lnTo>
                    <a:pt x="643" y="1586"/>
                  </a:lnTo>
                  <a:lnTo>
                    <a:pt x="652" y="1592"/>
                  </a:lnTo>
                  <a:lnTo>
                    <a:pt x="658" y="1599"/>
                  </a:lnTo>
                  <a:lnTo>
                    <a:pt x="666" y="1604"/>
                  </a:lnTo>
                  <a:lnTo>
                    <a:pt x="674" y="1610"/>
                  </a:lnTo>
                  <a:lnTo>
                    <a:pt x="681" y="1616"/>
                  </a:lnTo>
                  <a:lnTo>
                    <a:pt x="688" y="1622"/>
                  </a:lnTo>
                  <a:lnTo>
                    <a:pt x="696" y="1627"/>
                  </a:lnTo>
                  <a:lnTo>
                    <a:pt x="703" y="1633"/>
                  </a:lnTo>
                  <a:lnTo>
                    <a:pt x="712" y="1638"/>
                  </a:lnTo>
                  <a:lnTo>
                    <a:pt x="718" y="1644"/>
                  </a:lnTo>
                  <a:lnTo>
                    <a:pt x="725" y="1650"/>
                  </a:lnTo>
                  <a:lnTo>
                    <a:pt x="731" y="1655"/>
                  </a:lnTo>
                  <a:lnTo>
                    <a:pt x="738" y="1658"/>
                  </a:lnTo>
                  <a:lnTo>
                    <a:pt x="742" y="1662"/>
                  </a:lnTo>
                  <a:lnTo>
                    <a:pt x="747" y="1666"/>
                  </a:lnTo>
                  <a:lnTo>
                    <a:pt x="751" y="1668"/>
                  </a:lnTo>
                  <a:lnTo>
                    <a:pt x="754" y="1669"/>
                  </a:lnTo>
                  <a:lnTo>
                    <a:pt x="756" y="1672"/>
                  </a:lnTo>
                  <a:lnTo>
                    <a:pt x="760" y="1674"/>
                  </a:lnTo>
                  <a:lnTo>
                    <a:pt x="764" y="1677"/>
                  </a:lnTo>
                  <a:lnTo>
                    <a:pt x="769" y="1678"/>
                  </a:lnTo>
                  <a:lnTo>
                    <a:pt x="773" y="1682"/>
                  </a:lnTo>
                  <a:lnTo>
                    <a:pt x="779" y="1684"/>
                  </a:lnTo>
                  <a:lnTo>
                    <a:pt x="784" y="1688"/>
                  </a:lnTo>
                  <a:lnTo>
                    <a:pt x="791" y="1690"/>
                  </a:lnTo>
                  <a:lnTo>
                    <a:pt x="796" y="1694"/>
                  </a:lnTo>
                  <a:lnTo>
                    <a:pt x="802" y="1697"/>
                  </a:lnTo>
                  <a:lnTo>
                    <a:pt x="808" y="1700"/>
                  </a:lnTo>
                  <a:lnTo>
                    <a:pt x="815" y="1702"/>
                  </a:lnTo>
                  <a:lnTo>
                    <a:pt x="821" y="1706"/>
                  </a:lnTo>
                  <a:lnTo>
                    <a:pt x="828" y="1708"/>
                  </a:lnTo>
                  <a:lnTo>
                    <a:pt x="833" y="1710"/>
                  </a:lnTo>
                  <a:lnTo>
                    <a:pt x="840" y="1712"/>
                  </a:lnTo>
                  <a:lnTo>
                    <a:pt x="845" y="1715"/>
                  </a:lnTo>
                  <a:lnTo>
                    <a:pt x="852" y="1717"/>
                  </a:lnTo>
                  <a:lnTo>
                    <a:pt x="859" y="1720"/>
                  </a:lnTo>
                  <a:lnTo>
                    <a:pt x="868" y="1722"/>
                  </a:lnTo>
                  <a:lnTo>
                    <a:pt x="877" y="1726"/>
                  </a:lnTo>
                  <a:lnTo>
                    <a:pt x="887" y="1729"/>
                  </a:lnTo>
                  <a:lnTo>
                    <a:pt x="897" y="1733"/>
                  </a:lnTo>
                  <a:lnTo>
                    <a:pt x="908" y="1735"/>
                  </a:lnTo>
                  <a:lnTo>
                    <a:pt x="917" y="1738"/>
                  </a:lnTo>
                  <a:lnTo>
                    <a:pt x="929" y="1742"/>
                  </a:lnTo>
                  <a:lnTo>
                    <a:pt x="939" y="1745"/>
                  </a:lnTo>
                  <a:lnTo>
                    <a:pt x="950" y="1747"/>
                  </a:lnTo>
                  <a:lnTo>
                    <a:pt x="959" y="1751"/>
                  </a:lnTo>
                  <a:lnTo>
                    <a:pt x="970" y="1753"/>
                  </a:lnTo>
                  <a:lnTo>
                    <a:pt x="980" y="1755"/>
                  </a:lnTo>
                  <a:lnTo>
                    <a:pt x="990" y="1757"/>
                  </a:lnTo>
                  <a:lnTo>
                    <a:pt x="997" y="1761"/>
                  </a:lnTo>
                  <a:lnTo>
                    <a:pt x="1007" y="1763"/>
                  </a:lnTo>
                  <a:lnTo>
                    <a:pt x="1017" y="1765"/>
                  </a:lnTo>
                  <a:lnTo>
                    <a:pt x="1028" y="1766"/>
                  </a:lnTo>
                  <a:lnTo>
                    <a:pt x="1039" y="1770"/>
                  </a:lnTo>
                  <a:lnTo>
                    <a:pt x="1050" y="1772"/>
                  </a:lnTo>
                  <a:lnTo>
                    <a:pt x="1062" y="1773"/>
                  </a:lnTo>
                  <a:lnTo>
                    <a:pt x="1075" y="1775"/>
                  </a:lnTo>
                  <a:lnTo>
                    <a:pt x="1086" y="1778"/>
                  </a:lnTo>
                  <a:lnTo>
                    <a:pt x="1097" y="1780"/>
                  </a:lnTo>
                  <a:lnTo>
                    <a:pt x="1108" y="1782"/>
                  </a:lnTo>
                  <a:lnTo>
                    <a:pt x="1119" y="1783"/>
                  </a:lnTo>
                  <a:lnTo>
                    <a:pt x="1128" y="1785"/>
                  </a:lnTo>
                  <a:lnTo>
                    <a:pt x="1139" y="1786"/>
                  </a:lnTo>
                  <a:lnTo>
                    <a:pt x="1148" y="1788"/>
                  </a:lnTo>
                  <a:lnTo>
                    <a:pt x="1156" y="1788"/>
                  </a:lnTo>
                  <a:lnTo>
                    <a:pt x="1163" y="1790"/>
                  </a:lnTo>
                  <a:lnTo>
                    <a:pt x="1171" y="1790"/>
                  </a:lnTo>
                  <a:lnTo>
                    <a:pt x="1181" y="1792"/>
                  </a:lnTo>
                  <a:lnTo>
                    <a:pt x="1191" y="1792"/>
                  </a:lnTo>
                  <a:lnTo>
                    <a:pt x="1202" y="1794"/>
                  </a:lnTo>
                  <a:lnTo>
                    <a:pt x="1213" y="1794"/>
                  </a:lnTo>
                  <a:lnTo>
                    <a:pt x="1224" y="1796"/>
                  </a:lnTo>
                  <a:lnTo>
                    <a:pt x="1238" y="1796"/>
                  </a:lnTo>
                  <a:lnTo>
                    <a:pt x="1249" y="1798"/>
                  </a:lnTo>
                  <a:lnTo>
                    <a:pt x="1260" y="1798"/>
                  </a:lnTo>
                  <a:lnTo>
                    <a:pt x="1272" y="1800"/>
                  </a:lnTo>
                  <a:lnTo>
                    <a:pt x="1285" y="1800"/>
                  </a:lnTo>
                  <a:lnTo>
                    <a:pt x="1296" y="1801"/>
                  </a:lnTo>
                  <a:lnTo>
                    <a:pt x="1307" y="1801"/>
                  </a:lnTo>
                  <a:lnTo>
                    <a:pt x="1317" y="1801"/>
                  </a:lnTo>
                  <a:lnTo>
                    <a:pt x="1327" y="1801"/>
                  </a:lnTo>
                  <a:lnTo>
                    <a:pt x="1336" y="1803"/>
                  </a:lnTo>
                  <a:lnTo>
                    <a:pt x="1346" y="1803"/>
                  </a:lnTo>
                  <a:lnTo>
                    <a:pt x="1356" y="1804"/>
                  </a:lnTo>
                  <a:lnTo>
                    <a:pt x="1367" y="1804"/>
                  </a:lnTo>
                  <a:lnTo>
                    <a:pt x="1378" y="1806"/>
                  </a:lnTo>
                  <a:lnTo>
                    <a:pt x="1390" y="1806"/>
                  </a:lnTo>
                  <a:lnTo>
                    <a:pt x="1401" y="1806"/>
                  </a:lnTo>
                  <a:lnTo>
                    <a:pt x="1414" y="1806"/>
                  </a:lnTo>
                  <a:lnTo>
                    <a:pt x="1425" y="1807"/>
                  </a:lnTo>
                  <a:lnTo>
                    <a:pt x="1437" y="1807"/>
                  </a:lnTo>
                  <a:lnTo>
                    <a:pt x="1448" y="1807"/>
                  </a:lnTo>
                  <a:lnTo>
                    <a:pt x="1460" y="1807"/>
                  </a:lnTo>
                  <a:lnTo>
                    <a:pt x="1470" y="1807"/>
                  </a:lnTo>
                  <a:lnTo>
                    <a:pt x="1480" y="1807"/>
                  </a:lnTo>
                  <a:lnTo>
                    <a:pt x="1488" y="1807"/>
                  </a:lnTo>
                  <a:lnTo>
                    <a:pt x="1497" y="1807"/>
                  </a:lnTo>
                  <a:lnTo>
                    <a:pt x="1502" y="1807"/>
                  </a:lnTo>
                  <a:lnTo>
                    <a:pt x="1507" y="1807"/>
                  </a:lnTo>
                  <a:lnTo>
                    <a:pt x="1510" y="1807"/>
                  </a:lnTo>
                  <a:lnTo>
                    <a:pt x="1513" y="1807"/>
                  </a:lnTo>
                  <a:lnTo>
                    <a:pt x="1514" y="1807"/>
                  </a:lnTo>
                  <a:lnTo>
                    <a:pt x="1516" y="1807"/>
                  </a:lnTo>
                  <a:lnTo>
                    <a:pt x="1518" y="1807"/>
                  </a:lnTo>
                  <a:lnTo>
                    <a:pt x="1520" y="1807"/>
                  </a:lnTo>
                  <a:lnTo>
                    <a:pt x="1522" y="1807"/>
                  </a:lnTo>
                  <a:lnTo>
                    <a:pt x="1524" y="1807"/>
                  </a:lnTo>
                  <a:lnTo>
                    <a:pt x="1528" y="1807"/>
                  </a:lnTo>
                  <a:lnTo>
                    <a:pt x="1534" y="1807"/>
                  </a:lnTo>
                  <a:lnTo>
                    <a:pt x="1540" y="1807"/>
                  </a:lnTo>
                  <a:lnTo>
                    <a:pt x="1549" y="1807"/>
                  </a:lnTo>
                  <a:lnTo>
                    <a:pt x="1559" y="1807"/>
                  </a:lnTo>
                  <a:lnTo>
                    <a:pt x="1573" y="1807"/>
                  </a:ln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 flipH="1" flipV="1">
            <a:off x="2841480" y="1352160"/>
            <a:ext cx="3260880" cy="5629320"/>
          </a:xfrm>
          <a:prstGeom prst="line">
            <a:avLst/>
          </a:prstGeom>
          <a:ln w="63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14400" y="7048440"/>
            <a:ext cx="712296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884160" y="1593720"/>
            <a:ext cx="0" cy="54547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275680" y="655308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227560" y="70102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680" y="563868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98520" y="11430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360" y="693432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42040" y="5638680"/>
            <a:ext cx="70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898560" y="1577880"/>
            <a:ext cx="7102440" cy="5486400"/>
            <a:chOff x="898560" y="1577880"/>
            <a:chExt cx="7102440" cy="5486400"/>
          </a:xfrm>
        </p:grpSpPr>
        <p:sp>
          <p:nvSpPr>
            <p:cNvPr id="1473" name=""/>
            <p:cNvSpPr/>
            <p:nvPr/>
          </p:nvSpPr>
          <p:spPr>
            <a:xfrm>
              <a:off x="898560" y="7064280"/>
              <a:ext cx="710244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898560" y="1577880"/>
              <a:ext cx="0" cy="5486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>
            <a:off x="4432320" y="4114800"/>
            <a:ext cx="9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867280" y="2743200"/>
            <a:ext cx="2438640" cy="1143000"/>
          </a:xfrm>
          <a:prstGeom prst="wedgeRoundRectCallout">
            <a:avLst>
              <a:gd name="adj1" fmla="val -76629"/>
              <a:gd name="adj2" fmla="val 96805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248520" y="4343400"/>
            <a:ext cx="2438280" cy="1143000"/>
          </a:xfrm>
          <a:prstGeom prst="wedgeRoundRectCallout">
            <a:avLst>
              <a:gd name="adj1" fmla="val -75388"/>
              <a:gd name="adj2" fmla="val 98750"/>
              <a:gd name="adj3" fmla="val 16667"/>
            </a:avLst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o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05520" y="5867280"/>
            <a:ext cx="385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/>
          </p:nvPr>
        </p:nvSpPr>
        <p:spPr>
          <a:xfrm>
            <a:off x="566640" y="125280"/>
            <a:ext cx="945360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otando el gráfic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434880" y="927000"/>
            <a:ext cx="8616960" cy="6438960"/>
            <a:chOff x="434880" y="927000"/>
            <a:chExt cx="8616960" cy="6438960"/>
          </a:xfrm>
        </p:grpSpPr>
        <p:grpSp>
          <p:nvGrpSpPr>
            <p:cNvPr id="1481" name=""/>
            <p:cNvGrpSpPr/>
            <p:nvPr/>
          </p:nvGrpSpPr>
          <p:grpSpPr>
            <a:xfrm>
              <a:off x="2519280" y="2419200"/>
              <a:ext cx="3416040" cy="4280040"/>
              <a:chOff x="2519280" y="2419200"/>
              <a:chExt cx="3416040" cy="4280040"/>
            </a:xfrm>
          </p:grpSpPr>
          <p:sp>
            <p:nvSpPr>
              <p:cNvPr id="1482" name=""/>
              <p:cNvSpPr/>
              <p:nvPr/>
            </p:nvSpPr>
            <p:spPr>
              <a:xfrm flipH="1" flipV="1">
                <a:off x="2566440" y="3281040"/>
                <a:ext cx="2859120" cy="3281400"/>
              </a:xfrm>
              <a:custGeom>
                <a:avLst/>
                <a:gdLst/>
                <a:ahLst/>
                <a:rect l="l" t="t" r="r" b="b"/>
                <a:pathLst>
                  <a:path w="1801" h="2067">
                    <a:moveTo>
                      <a:pt x="0" y="0"/>
                    </a:moveTo>
                    <a:lnTo>
                      <a:pt x="0" y="18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4" y="50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6" y="76"/>
                    </a:lnTo>
                    <a:lnTo>
                      <a:pt x="6" y="79"/>
                    </a:lnTo>
                    <a:lnTo>
                      <a:pt x="8" y="84"/>
                    </a:lnTo>
                    <a:lnTo>
                      <a:pt x="8" y="90"/>
                    </a:lnTo>
                    <a:lnTo>
                      <a:pt x="10" y="98"/>
                    </a:lnTo>
                    <a:lnTo>
                      <a:pt x="10" y="109"/>
                    </a:lnTo>
                    <a:lnTo>
                      <a:pt x="12" y="122"/>
                    </a:lnTo>
                    <a:lnTo>
                      <a:pt x="14" y="138"/>
                    </a:lnTo>
                    <a:lnTo>
                      <a:pt x="18" y="156"/>
                    </a:lnTo>
                    <a:lnTo>
                      <a:pt x="21" y="177"/>
                    </a:lnTo>
                    <a:lnTo>
                      <a:pt x="25" y="198"/>
                    </a:lnTo>
                    <a:lnTo>
                      <a:pt x="28" y="222"/>
                    </a:lnTo>
                    <a:lnTo>
                      <a:pt x="34" y="246"/>
                    </a:lnTo>
                    <a:lnTo>
                      <a:pt x="38" y="272"/>
                    </a:lnTo>
                    <a:lnTo>
                      <a:pt x="43" y="298"/>
                    </a:lnTo>
                    <a:lnTo>
                      <a:pt x="48" y="325"/>
                    </a:lnTo>
                    <a:lnTo>
                      <a:pt x="54" y="351"/>
                    </a:lnTo>
                    <a:lnTo>
                      <a:pt x="60" y="378"/>
                    </a:lnTo>
                    <a:lnTo>
                      <a:pt x="65" y="404"/>
                    </a:lnTo>
                    <a:lnTo>
                      <a:pt x="71" y="430"/>
                    </a:lnTo>
                    <a:lnTo>
                      <a:pt x="76" y="454"/>
                    </a:lnTo>
                    <a:lnTo>
                      <a:pt x="81" y="480"/>
                    </a:lnTo>
                    <a:lnTo>
                      <a:pt x="86" y="506"/>
                    </a:lnTo>
                    <a:lnTo>
                      <a:pt x="93" y="534"/>
                    </a:lnTo>
                    <a:lnTo>
                      <a:pt x="100" y="562"/>
                    </a:lnTo>
                    <a:lnTo>
                      <a:pt x="107" y="590"/>
                    </a:lnTo>
                    <a:lnTo>
                      <a:pt x="114" y="618"/>
                    </a:lnTo>
                    <a:lnTo>
                      <a:pt x="122" y="646"/>
                    </a:lnTo>
                    <a:lnTo>
                      <a:pt x="130" y="674"/>
                    </a:lnTo>
                    <a:lnTo>
                      <a:pt x="137" y="702"/>
                    </a:lnTo>
                    <a:lnTo>
                      <a:pt x="144" y="728"/>
                    </a:lnTo>
                    <a:lnTo>
                      <a:pt x="152" y="753"/>
                    </a:lnTo>
                    <a:lnTo>
                      <a:pt x="159" y="774"/>
                    </a:lnTo>
                    <a:lnTo>
                      <a:pt x="166" y="796"/>
                    </a:lnTo>
                    <a:lnTo>
                      <a:pt x="173" y="815"/>
                    </a:lnTo>
                    <a:lnTo>
                      <a:pt x="179" y="831"/>
                    </a:lnTo>
                    <a:lnTo>
                      <a:pt x="185" y="844"/>
                    </a:lnTo>
                    <a:lnTo>
                      <a:pt x="189" y="859"/>
                    </a:lnTo>
                    <a:lnTo>
                      <a:pt x="194" y="874"/>
                    </a:lnTo>
                    <a:lnTo>
                      <a:pt x="201" y="890"/>
                    </a:lnTo>
                    <a:lnTo>
                      <a:pt x="209" y="908"/>
                    </a:lnTo>
                    <a:lnTo>
                      <a:pt x="216" y="928"/>
                    </a:lnTo>
                    <a:lnTo>
                      <a:pt x="224" y="947"/>
                    </a:lnTo>
                    <a:lnTo>
                      <a:pt x="232" y="968"/>
                    </a:lnTo>
                    <a:lnTo>
                      <a:pt x="242" y="988"/>
                    </a:lnTo>
                    <a:lnTo>
                      <a:pt x="249" y="1011"/>
                    </a:lnTo>
                    <a:lnTo>
                      <a:pt x="259" y="1032"/>
                    </a:lnTo>
                    <a:lnTo>
                      <a:pt x="267" y="1053"/>
                    </a:lnTo>
                    <a:lnTo>
                      <a:pt x="276" y="1073"/>
                    </a:lnTo>
                    <a:lnTo>
                      <a:pt x="284" y="1094"/>
                    </a:lnTo>
                    <a:lnTo>
                      <a:pt x="292" y="1113"/>
                    </a:lnTo>
                    <a:lnTo>
                      <a:pt x="300" y="1130"/>
                    </a:lnTo>
                    <a:lnTo>
                      <a:pt x="308" y="1146"/>
                    </a:lnTo>
                    <a:lnTo>
                      <a:pt x="314" y="1164"/>
                    </a:lnTo>
                    <a:lnTo>
                      <a:pt x="322" y="1182"/>
                    </a:lnTo>
                    <a:lnTo>
                      <a:pt x="329" y="1201"/>
                    </a:lnTo>
                    <a:lnTo>
                      <a:pt x="338" y="1219"/>
                    </a:lnTo>
                    <a:lnTo>
                      <a:pt x="346" y="1240"/>
                    </a:lnTo>
                    <a:lnTo>
                      <a:pt x="355" y="1259"/>
                    </a:lnTo>
                    <a:lnTo>
                      <a:pt x="364" y="1279"/>
                    </a:lnTo>
                    <a:lnTo>
                      <a:pt x="374" y="1298"/>
                    </a:lnTo>
                    <a:lnTo>
                      <a:pt x="381" y="1318"/>
                    </a:lnTo>
                    <a:lnTo>
                      <a:pt x="390" y="1337"/>
                    </a:lnTo>
                    <a:lnTo>
                      <a:pt x="397" y="1355"/>
                    </a:lnTo>
                    <a:lnTo>
                      <a:pt x="406" y="1371"/>
                    </a:lnTo>
                    <a:lnTo>
                      <a:pt x="412" y="1387"/>
                    </a:lnTo>
                    <a:lnTo>
                      <a:pt x="420" y="1402"/>
                    </a:lnTo>
                    <a:lnTo>
                      <a:pt x="425" y="1415"/>
                    </a:lnTo>
                    <a:lnTo>
                      <a:pt x="432" y="1425"/>
                    </a:lnTo>
                    <a:lnTo>
                      <a:pt x="436" y="1437"/>
                    </a:lnTo>
                    <a:lnTo>
                      <a:pt x="442" y="1449"/>
                    </a:lnTo>
                    <a:lnTo>
                      <a:pt x="449" y="1462"/>
                    </a:lnTo>
                    <a:lnTo>
                      <a:pt x="457" y="1475"/>
                    </a:lnTo>
                    <a:lnTo>
                      <a:pt x="464" y="1490"/>
                    </a:lnTo>
                    <a:lnTo>
                      <a:pt x="474" y="1505"/>
                    </a:lnTo>
                    <a:lnTo>
                      <a:pt x="483" y="1520"/>
                    </a:lnTo>
                    <a:lnTo>
                      <a:pt x="493" y="1535"/>
                    </a:lnTo>
                    <a:lnTo>
                      <a:pt x="502" y="1551"/>
                    </a:lnTo>
                    <a:lnTo>
                      <a:pt x="512" y="1566"/>
                    </a:lnTo>
                    <a:lnTo>
                      <a:pt x="522" y="1581"/>
                    </a:lnTo>
                    <a:lnTo>
                      <a:pt x="533" y="1595"/>
                    </a:lnTo>
                    <a:lnTo>
                      <a:pt x="542" y="1609"/>
                    </a:lnTo>
                    <a:lnTo>
                      <a:pt x="552" y="1622"/>
                    </a:lnTo>
                    <a:lnTo>
                      <a:pt x="561" y="1634"/>
                    </a:lnTo>
                    <a:lnTo>
                      <a:pt x="571" y="1644"/>
                    </a:lnTo>
                    <a:lnTo>
                      <a:pt x="579" y="1656"/>
                    </a:lnTo>
                    <a:lnTo>
                      <a:pt x="588" y="1667"/>
                    </a:lnTo>
                    <a:lnTo>
                      <a:pt x="598" y="1680"/>
                    </a:lnTo>
                    <a:lnTo>
                      <a:pt x="609" y="1691"/>
                    </a:lnTo>
                    <a:lnTo>
                      <a:pt x="620" y="1704"/>
                    </a:lnTo>
                    <a:lnTo>
                      <a:pt x="632" y="1717"/>
                    </a:lnTo>
                    <a:lnTo>
                      <a:pt x="644" y="1730"/>
                    </a:lnTo>
                    <a:lnTo>
                      <a:pt x="657" y="1741"/>
                    </a:lnTo>
                    <a:lnTo>
                      <a:pt x="668" y="1754"/>
                    </a:lnTo>
                    <a:lnTo>
                      <a:pt x="680" y="1766"/>
                    </a:lnTo>
                    <a:lnTo>
                      <a:pt x="692" y="1777"/>
                    </a:lnTo>
                    <a:lnTo>
                      <a:pt x="704" y="1787"/>
                    </a:lnTo>
                    <a:lnTo>
                      <a:pt x="714" y="1798"/>
                    </a:lnTo>
                    <a:lnTo>
                      <a:pt x="725" y="1806"/>
                    </a:lnTo>
                    <a:lnTo>
                      <a:pt x="735" y="1815"/>
                    </a:lnTo>
                    <a:lnTo>
                      <a:pt x="745" y="1821"/>
                    </a:lnTo>
                    <a:lnTo>
                      <a:pt x="752" y="1828"/>
                    </a:lnTo>
                    <a:lnTo>
                      <a:pt x="761" y="1835"/>
                    </a:lnTo>
                    <a:lnTo>
                      <a:pt x="768" y="1843"/>
                    </a:lnTo>
                    <a:lnTo>
                      <a:pt x="778" y="1848"/>
                    </a:lnTo>
                    <a:lnTo>
                      <a:pt x="785" y="1856"/>
                    </a:lnTo>
                    <a:lnTo>
                      <a:pt x="795" y="1862"/>
                    </a:lnTo>
                    <a:lnTo>
                      <a:pt x="803" y="1868"/>
                    </a:lnTo>
                    <a:lnTo>
                      <a:pt x="813" y="1874"/>
                    </a:lnTo>
                    <a:lnTo>
                      <a:pt x="820" y="1880"/>
                    </a:lnTo>
                    <a:lnTo>
                      <a:pt x="828" y="1886"/>
                    </a:lnTo>
                    <a:lnTo>
                      <a:pt x="834" y="1892"/>
                    </a:lnTo>
                    <a:lnTo>
                      <a:pt x="842" y="1896"/>
                    </a:lnTo>
                    <a:lnTo>
                      <a:pt x="848" y="1901"/>
                    </a:lnTo>
                    <a:lnTo>
                      <a:pt x="853" y="1904"/>
                    </a:lnTo>
                    <a:lnTo>
                      <a:pt x="857" y="1907"/>
                    </a:lnTo>
                    <a:lnTo>
                      <a:pt x="862" y="1909"/>
                    </a:lnTo>
                    <a:lnTo>
                      <a:pt x="864" y="1913"/>
                    </a:lnTo>
                    <a:lnTo>
                      <a:pt x="868" y="1914"/>
                    </a:lnTo>
                    <a:lnTo>
                      <a:pt x="873" y="1918"/>
                    </a:lnTo>
                    <a:lnTo>
                      <a:pt x="878" y="1920"/>
                    </a:lnTo>
                    <a:lnTo>
                      <a:pt x="884" y="1923"/>
                    </a:lnTo>
                    <a:lnTo>
                      <a:pt x="890" y="1926"/>
                    </a:lnTo>
                    <a:lnTo>
                      <a:pt x="896" y="1930"/>
                    </a:lnTo>
                    <a:lnTo>
                      <a:pt x="904" y="1932"/>
                    </a:lnTo>
                    <a:lnTo>
                      <a:pt x="910" y="1936"/>
                    </a:lnTo>
                    <a:lnTo>
                      <a:pt x="918" y="1940"/>
                    </a:lnTo>
                    <a:lnTo>
                      <a:pt x="925" y="1943"/>
                    </a:lnTo>
                    <a:lnTo>
                      <a:pt x="932" y="1945"/>
                    </a:lnTo>
                    <a:lnTo>
                      <a:pt x="939" y="1949"/>
                    </a:lnTo>
                    <a:lnTo>
                      <a:pt x="947" y="1951"/>
                    </a:lnTo>
                    <a:lnTo>
                      <a:pt x="954" y="1954"/>
                    </a:lnTo>
                    <a:lnTo>
                      <a:pt x="961" y="1956"/>
                    </a:lnTo>
                    <a:lnTo>
                      <a:pt x="967" y="1960"/>
                    </a:lnTo>
                    <a:lnTo>
                      <a:pt x="974" y="1962"/>
                    </a:lnTo>
                    <a:lnTo>
                      <a:pt x="983" y="1966"/>
                    </a:lnTo>
                    <a:lnTo>
                      <a:pt x="993" y="1968"/>
                    </a:lnTo>
                    <a:lnTo>
                      <a:pt x="1002" y="1972"/>
                    </a:lnTo>
                    <a:lnTo>
                      <a:pt x="1014" y="1976"/>
                    </a:lnTo>
                    <a:lnTo>
                      <a:pt x="1025" y="1979"/>
                    </a:lnTo>
                    <a:lnTo>
                      <a:pt x="1038" y="1982"/>
                    </a:lnTo>
                    <a:lnTo>
                      <a:pt x="1049" y="1986"/>
                    </a:lnTo>
                    <a:lnTo>
                      <a:pt x="1061" y="1990"/>
                    </a:lnTo>
                    <a:lnTo>
                      <a:pt x="1072" y="1994"/>
                    </a:lnTo>
                    <a:lnTo>
                      <a:pt x="1086" y="1997"/>
                    </a:lnTo>
                    <a:lnTo>
                      <a:pt x="1097" y="2001"/>
                    </a:lnTo>
                    <a:lnTo>
                      <a:pt x="1108" y="2002"/>
                    </a:lnTo>
                    <a:lnTo>
                      <a:pt x="1119" y="2006"/>
                    </a:lnTo>
                    <a:lnTo>
                      <a:pt x="1130" y="2008"/>
                    </a:lnTo>
                    <a:lnTo>
                      <a:pt x="1140" y="2011"/>
                    </a:lnTo>
                    <a:lnTo>
                      <a:pt x="1151" y="2013"/>
                    </a:lnTo>
                    <a:lnTo>
                      <a:pt x="1162" y="2016"/>
                    </a:lnTo>
                    <a:lnTo>
                      <a:pt x="1175" y="2018"/>
                    </a:lnTo>
                    <a:lnTo>
                      <a:pt x="1187" y="2022"/>
                    </a:lnTo>
                    <a:lnTo>
                      <a:pt x="1200" y="2024"/>
                    </a:lnTo>
                    <a:lnTo>
                      <a:pt x="1213" y="2027"/>
                    </a:lnTo>
                    <a:lnTo>
                      <a:pt x="1228" y="2029"/>
                    </a:lnTo>
                    <a:lnTo>
                      <a:pt x="1241" y="2032"/>
                    </a:lnTo>
                    <a:lnTo>
                      <a:pt x="1254" y="2034"/>
                    </a:lnTo>
                    <a:lnTo>
                      <a:pt x="1266" y="2036"/>
                    </a:lnTo>
                    <a:lnTo>
                      <a:pt x="1280" y="2038"/>
                    </a:lnTo>
                    <a:lnTo>
                      <a:pt x="1291" y="2040"/>
                    </a:lnTo>
                    <a:lnTo>
                      <a:pt x="1302" y="2042"/>
                    </a:lnTo>
                    <a:lnTo>
                      <a:pt x="1311" y="2044"/>
                    </a:lnTo>
                    <a:lnTo>
                      <a:pt x="1322" y="2044"/>
                    </a:lnTo>
                    <a:lnTo>
                      <a:pt x="1330" y="2046"/>
                    </a:lnTo>
                    <a:lnTo>
                      <a:pt x="1339" y="2048"/>
                    </a:lnTo>
                    <a:lnTo>
                      <a:pt x="1350" y="2049"/>
                    </a:lnTo>
                    <a:lnTo>
                      <a:pt x="1362" y="2049"/>
                    </a:lnTo>
                    <a:lnTo>
                      <a:pt x="1374" y="2051"/>
                    </a:lnTo>
                    <a:lnTo>
                      <a:pt x="1387" y="2052"/>
                    </a:lnTo>
                    <a:lnTo>
                      <a:pt x="1400" y="2054"/>
                    </a:lnTo>
                    <a:lnTo>
                      <a:pt x="1414" y="2054"/>
                    </a:lnTo>
                    <a:lnTo>
                      <a:pt x="1427" y="2056"/>
                    </a:lnTo>
                    <a:lnTo>
                      <a:pt x="1441" y="2056"/>
                    </a:lnTo>
                    <a:lnTo>
                      <a:pt x="1454" y="2057"/>
                    </a:lnTo>
                    <a:lnTo>
                      <a:pt x="1468" y="2057"/>
                    </a:lnTo>
                    <a:lnTo>
                      <a:pt x="1480" y="2059"/>
                    </a:lnTo>
                    <a:lnTo>
                      <a:pt x="1494" y="2059"/>
                    </a:lnTo>
                    <a:lnTo>
                      <a:pt x="1505" y="2060"/>
                    </a:lnTo>
                    <a:lnTo>
                      <a:pt x="1516" y="2060"/>
                    </a:lnTo>
                    <a:lnTo>
                      <a:pt x="1526" y="2062"/>
                    </a:lnTo>
                    <a:lnTo>
                      <a:pt x="1538" y="2062"/>
                    </a:lnTo>
                    <a:lnTo>
                      <a:pt x="1550" y="2062"/>
                    </a:lnTo>
                    <a:lnTo>
                      <a:pt x="1563" y="2062"/>
                    </a:lnTo>
                    <a:lnTo>
                      <a:pt x="1576" y="2064"/>
                    </a:lnTo>
                    <a:lnTo>
                      <a:pt x="1590" y="2064"/>
                    </a:lnTo>
                    <a:lnTo>
                      <a:pt x="1603" y="2064"/>
                    </a:lnTo>
                    <a:lnTo>
                      <a:pt x="1618" y="2064"/>
                    </a:lnTo>
                    <a:lnTo>
                      <a:pt x="1631" y="2066"/>
                    </a:lnTo>
                    <a:lnTo>
                      <a:pt x="1644" y="2066"/>
                    </a:lnTo>
                    <a:lnTo>
                      <a:pt x="1657" y="2066"/>
                    </a:lnTo>
                    <a:lnTo>
                      <a:pt x="1670" y="2066"/>
                    </a:lnTo>
                    <a:lnTo>
                      <a:pt x="1681" y="2066"/>
                    </a:lnTo>
                    <a:lnTo>
                      <a:pt x="1692" y="2066"/>
                    </a:lnTo>
                    <a:lnTo>
                      <a:pt x="1702" y="2066"/>
                    </a:lnTo>
                    <a:lnTo>
                      <a:pt x="1713" y="2066"/>
                    </a:lnTo>
                    <a:lnTo>
                      <a:pt x="1719" y="2066"/>
                    </a:lnTo>
                    <a:lnTo>
                      <a:pt x="1725" y="2066"/>
                    </a:lnTo>
                    <a:lnTo>
                      <a:pt x="1728" y="2066"/>
                    </a:lnTo>
                    <a:lnTo>
                      <a:pt x="1732" y="2066"/>
                    </a:lnTo>
                    <a:lnTo>
                      <a:pt x="1734" y="2066"/>
                    </a:lnTo>
                    <a:lnTo>
                      <a:pt x="1736" y="2066"/>
                    </a:lnTo>
                    <a:lnTo>
                      <a:pt x="1738" y="2066"/>
                    </a:lnTo>
                    <a:lnTo>
                      <a:pt x="1739" y="2066"/>
                    </a:lnTo>
                    <a:lnTo>
                      <a:pt x="1741" y="2066"/>
                    </a:lnTo>
                    <a:lnTo>
                      <a:pt x="1744" y="2066"/>
                    </a:lnTo>
                    <a:lnTo>
                      <a:pt x="1749" y="2066"/>
                    </a:lnTo>
                    <a:lnTo>
                      <a:pt x="1755" y="2066"/>
                    </a:lnTo>
                    <a:lnTo>
                      <a:pt x="1762" y="2066"/>
                    </a:lnTo>
                    <a:lnTo>
                      <a:pt x="1772" y="2066"/>
                    </a:lnTo>
                    <a:lnTo>
                      <a:pt x="1784" y="2066"/>
                    </a:lnTo>
                    <a:lnTo>
                      <a:pt x="1800" y="2066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 flipV="1">
                <a:off x="2518560" y="2419200"/>
                <a:ext cx="3416040" cy="3340080"/>
              </a:xfrm>
              <a:custGeom>
                <a:avLst/>
                <a:gdLst/>
                <a:ahLst/>
                <a:rect l="l" t="t" r="r" b="b"/>
                <a:pathLst>
                  <a:path w="2152" h="2104">
                    <a:moveTo>
                      <a:pt x="0" y="0"/>
                    </a:moveTo>
                    <a:lnTo>
                      <a:pt x="3" y="18"/>
                    </a:lnTo>
                    <a:lnTo>
                      <a:pt x="5" y="33"/>
                    </a:lnTo>
                    <a:lnTo>
                      <a:pt x="7" y="46"/>
                    </a:lnTo>
                    <a:lnTo>
                      <a:pt x="10" y="54"/>
                    </a:lnTo>
                    <a:lnTo>
                      <a:pt x="10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4" y="75"/>
                    </a:lnTo>
                    <a:lnTo>
                      <a:pt x="14" y="77"/>
                    </a:lnTo>
                    <a:lnTo>
                      <a:pt x="14" y="79"/>
                    </a:lnTo>
                    <a:lnTo>
                      <a:pt x="15" y="81"/>
                    </a:lnTo>
                    <a:lnTo>
                      <a:pt x="15" y="86"/>
                    </a:lnTo>
                    <a:lnTo>
                      <a:pt x="17" y="90"/>
                    </a:lnTo>
                    <a:lnTo>
                      <a:pt x="19" y="97"/>
                    </a:lnTo>
                    <a:lnTo>
                      <a:pt x="21" y="105"/>
                    </a:lnTo>
                    <a:lnTo>
                      <a:pt x="22" y="118"/>
                    </a:lnTo>
                    <a:lnTo>
                      <a:pt x="25" y="132"/>
                    </a:lnTo>
                    <a:lnTo>
                      <a:pt x="29" y="150"/>
                    </a:lnTo>
                    <a:lnTo>
                      <a:pt x="35" y="169"/>
                    </a:lnTo>
                    <a:lnTo>
                      <a:pt x="40" y="192"/>
                    </a:lnTo>
                    <a:lnTo>
                      <a:pt x="46" y="215"/>
                    </a:lnTo>
                    <a:lnTo>
                      <a:pt x="53" y="240"/>
                    </a:lnTo>
                    <a:lnTo>
                      <a:pt x="61" y="266"/>
                    </a:lnTo>
                    <a:lnTo>
                      <a:pt x="69" y="294"/>
                    </a:lnTo>
                    <a:lnTo>
                      <a:pt x="77" y="322"/>
                    </a:lnTo>
                    <a:lnTo>
                      <a:pt x="84" y="351"/>
                    </a:lnTo>
                    <a:lnTo>
                      <a:pt x="93" y="379"/>
                    </a:lnTo>
                    <a:lnTo>
                      <a:pt x="101" y="408"/>
                    </a:lnTo>
                    <a:lnTo>
                      <a:pt x="110" y="436"/>
                    </a:lnTo>
                    <a:lnTo>
                      <a:pt x="119" y="464"/>
                    </a:lnTo>
                    <a:lnTo>
                      <a:pt x="128" y="489"/>
                    </a:lnTo>
                    <a:lnTo>
                      <a:pt x="135" y="517"/>
                    </a:lnTo>
                    <a:lnTo>
                      <a:pt x="144" y="545"/>
                    </a:lnTo>
                    <a:lnTo>
                      <a:pt x="153" y="575"/>
                    </a:lnTo>
                    <a:lnTo>
                      <a:pt x="164" y="604"/>
                    </a:lnTo>
                    <a:lnTo>
                      <a:pt x="173" y="635"/>
                    </a:lnTo>
                    <a:lnTo>
                      <a:pt x="185" y="665"/>
                    </a:lnTo>
                    <a:lnTo>
                      <a:pt x="196" y="695"/>
                    </a:lnTo>
                    <a:lnTo>
                      <a:pt x="207" y="724"/>
                    </a:lnTo>
                    <a:lnTo>
                      <a:pt x="217" y="754"/>
                    </a:lnTo>
                    <a:lnTo>
                      <a:pt x="228" y="781"/>
                    </a:lnTo>
                    <a:lnTo>
                      <a:pt x="238" y="808"/>
                    </a:lnTo>
                    <a:lnTo>
                      <a:pt x="248" y="831"/>
                    </a:lnTo>
                    <a:lnTo>
                      <a:pt x="257" y="854"/>
                    </a:lnTo>
                    <a:lnTo>
                      <a:pt x="266" y="874"/>
                    </a:lnTo>
                    <a:lnTo>
                      <a:pt x="274" y="892"/>
                    </a:lnTo>
                    <a:lnTo>
                      <a:pt x="282" y="905"/>
                    </a:lnTo>
                    <a:lnTo>
                      <a:pt x="287" y="919"/>
                    </a:lnTo>
                    <a:lnTo>
                      <a:pt x="295" y="935"/>
                    </a:lnTo>
                    <a:lnTo>
                      <a:pt x="303" y="953"/>
                    </a:lnTo>
                    <a:lnTo>
                      <a:pt x="313" y="971"/>
                    </a:lnTo>
                    <a:lnTo>
                      <a:pt x="322" y="992"/>
                    </a:lnTo>
                    <a:lnTo>
                      <a:pt x="333" y="1012"/>
                    </a:lnTo>
                    <a:lnTo>
                      <a:pt x="344" y="1034"/>
                    </a:lnTo>
                    <a:lnTo>
                      <a:pt x="356" y="1055"/>
                    </a:lnTo>
                    <a:lnTo>
                      <a:pt x="367" y="1077"/>
                    </a:lnTo>
                    <a:lnTo>
                      <a:pt x="379" y="1100"/>
                    </a:lnTo>
                    <a:lnTo>
                      <a:pt x="390" y="1122"/>
                    </a:lnTo>
                    <a:lnTo>
                      <a:pt x="402" y="1143"/>
                    </a:lnTo>
                    <a:lnTo>
                      <a:pt x="412" y="1164"/>
                    </a:lnTo>
                    <a:lnTo>
                      <a:pt x="424" y="1184"/>
                    </a:lnTo>
                    <a:lnTo>
                      <a:pt x="433" y="1203"/>
                    </a:lnTo>
                    <a:lnTo>
                      <a:pt x="444" y="1220"/>
                    </a:lnTo>
                    <a:lnTo>
                      <a:pt x="453" y="1238"/>
                    </a:lnTo>
                    <a:lnTo>
                      <a:pt x="462" y="1257"/>
                    </a:lnTo>
                    <a:lnTo>
                      <a:pt x="472" y="1277"/>
                    </a:lnTo>
                    <a:lnTo>
                      <a:pt x="483" y="1296"/>
                    </a:lnTo>
                    <a:lnTo>
                      <a:pt x="495" y="1317"/>
                    </a:lnTo>
                    <a:lnTo>
                      <a:pt x="506" y="1338"/>
                    </a:lnTo>
                    <a:lnTo>
                      <a:pt x="517" y="1358"/>
                    </a:lnTo>
                    <a:lnTo>
                      <a:pt x="529" y="1379"/>
                    </a:lnTo>
                    <a:lnTo>
                      <a:pt x="539" y="1400"/>
                    </a:lnTo>
                    <a:lnTo>
                      <a:pt x="550" y="1420"/>
                    </a:lnTo>
                    <a:lnTo>
                      <a:pt x="560" y="1439"/>
                    </a:lnTo>
                    <a:lnTo>
                      <a:pt x="571" y="1456"/>
                    </a:lnTo>
                    <a:lnTo>
                      <a:pt x="580" y="1474"/>
                    </a:lnTo>
                    <a:lnTo>
                      <a:pt x="589" y="1489"/>
                    </a:lnTo>
                    <a:lnTo>
                      <a:pt x="597" y="1503"/>
                    </a:lnTo>
                    <a:lnTo>
                      <a:pt x="605" y="1513"/>
                    </a:lnTo>
                    <a:lnTo>
                      <a:pt x="611" y="1526"/>
                    </a:lnTo>
                    <a:lnTo>
                      <a:pt x="618" y="1538"/>
                    </a:lnTo>
                    <a:lnTo>
                      <a:pt x="627" y="1553"/>
                    </a:lnTo>
                    <a:lnTo>
                      <a:pt x="637" y="1566"/>
                    </a:lnTo>
                    <a:lnTo>
                      <a:pt x="646" y="1581"/>
                    </a:lnTo>
                    <a:lnTo>
                      <a:pt x="658" y="1596"/>
                    </a:lnTo>
                    <a:lnTo>
                      <a:pt x="669" y="1612"/>
                    </a:lnTo>
                    <a:lnTo>
                      <a:pt x="682" y="1628"/>
                    </a:lnTo>
                    <a:lnTo>
                      <a:pt x="693" y="1644"/>
                    </a:lnTo>
                    <a:lnTo>
                      <a:pt x="706" y="1659"/>
                    </a:lnTo>
                    <a:lnTo>
                      <a:pt x="717" y="1675"/>
                    </a:lnTo>
                    <a:lnTo>
                      <a:pt x="730" y="1689"/>
                    </a:lnTo>
                    <a:lnTo>
                      <a:pt x="741" y="1704"/>
                    </a:lnTo>
                    <a:lnTo>
                      <a:pt x="753" y="1717"/>
                    </a:lnTo>
                    <a:lnTo>
                      <a:pt x="764" y="1729"/>
                    </a:lnTo>
                    <a:lnTo>
                      <a:pt x="775" y="1739"/>
                    </a:lnTo>
                    <a:lnTo>
                      <a:pt x="785" y="1750"/>
                    </a:lnTo>
                    <a:lnTo>
                      <a:pt x="797" y="1762"/>
                    </a:lnTo>
                    <a:lnTo>
                      <a:pt x="809" y="1775"/>
                    </a:lnTo>
                    <a:lnTo>
                      <a:pt x="822" y="1786"/>
                    </a:lnTo>
                    <a:lnTo>
                      <a:pt x="835" y="1799"/>
                    </a:lnTo>
                    <a:lnTo>
                      <a:pt x="850" y="1812"/>
                    </a:lnTo>
                    <a:lnTo>
                      <a:pt x="864" y="1825"/>
                    </a:lnTo>
                    <a:lnTo>
                      <a:pt x="879" y="1836"/>
                    </a:lnTo>
                    <a:lnTo>
                      <a:pt x="892" y="1849"/>
                    </a:lnTo>
                    <a:lnTo>
                      <a:pt x="907" y="1861"/>
                    </a:lnTo>
                    <a:lnTo>
                      <a:pt x="921" y="1872"/>
                    </a:lnTo>
                    <a:lnTo>
                      <a:pt x="935" y="1882"/>
                    </a:lnTo>
                    <a:lnTo>
                      <a:pt x="948" y="1892"/>
                    </a:lnTo>
                    <a:lnTo>
                      <a:pt x="960" y="1901"/>
                    </a:lnTo>
                    <a:lnTo>
                      <a:pt x="971" y="1909"/>
                    </a:lnTo>
                    <a:lnTo>
                      <a:pt x="983" y="1914"/>
                    </a:lnTo>
                    <a:lnTo>
                      <a:pt x="992" y="1922"/>
                    </a:lnTo>
                    <a:lnTo>
                      <a:pt x="1001" y="1928"/>
                    </a:lnTo>
                    <a:lnTo>
                      <a:pt x="1011" y="1934"/>
                    </a:lnTo>
                    <a:lnTo>
                      <a:pt x="1022" y="1940"/>
                    </a:lnTo>
                    <a:lnTo>
                      <a:pt x="1031" y="1948"/>
                    </a:lnTo>
                    <a:lnTo>
                      <a:pt x="1042" y="1953"/>
                    </a:lnTo>
                    <a:lnTo>
                      <a:pt x="1051" y="1960"/>
                    </a:lnTo>
                    <a:lnTo>
                      <a:pt x="1062" y="1966"/>
                    </a:lnTo>
                    <a:lnTo>
                      <a:pt x="1070" y="1972"/>
                    </a:lnTo>
                    <a:lnTo>
                      <a:pt x="1079" y="1978"/>
                    </a:lnTo>
                    <a:lnTo>
                      <a:pt x="1087" y="1983"/>
                    </a:lnTo>
                    <a:lnTo>
                      <a:pt x="1096" y="1988"/>
                    </a:lnTo>
                    <a:lnTo>
                      <a:pt x="1103" y="1992"/>
                    </a:lnTo>
                    <a:lnTo>
                      <a:pt x="1109" y="1996"/>
                    </a:lnTo>
                    <a:lnTo>
                      <a:pt x="1114" y="1998"/>
                    </a:lnTo>
                    <a:lnTo>
                      <a:pt x="1119" y="2000"/>
                    </a:lnTo>
                    <a:lnTo>
                      <a:pt x="1123" y="2003"/>
                    </a:lnTo>
                    <a:lnTo>
                      <a:pt x="1126" y="2005"/>
                    </a:lnTo>
                    <a:lnTo>
                      <a:pt x="1131" y="2008"/>
                    </a:lnTo>
                    <a:lnTo>
                      <a:pt x="1137" y="2010"/>
                    </a:lnTo>
                    <a:lnTo>
                      <a:pt x="1144" y="2013"/>
                    </a:lnTo>
                    <a:lnTo>
                      <a:pt x="1151" y="2015"/>
                    </a:lnTo>
                    <a:lnTo>
                      <a:pt x="1159" y="2019"/>
                    </a:lnTo>
                    <a:lnTo>
                      <a:pt x="1167" y="2021"/>
                    </a:lnTo>
                    <a:lnTo>
                      <a:pt x="1174" y="2024"/>
                    </a:lnTo>
                    <a:lnTo>
                      <a:pt x="1182" y="2027"/>
                    </a:lnTo>
                    <a:lnTo>
                      <a:pt x="1190" y="2031"/>
                    </a:lnTo>
                    <a:lnTo>
                      <a:pt x="1199" y="2032"/>
                    </a:lnTo>
                    <a:lnTo>
                      <a:pt x="1207" y="2036"/>
                    </a:lnTo>
                    <a:lnTo>
                      <a:pt x="1215" y="2038"/>
                    </a:lnTo>
                    <a:lnTo>
                      <a:pt x="1223" y="2039"/>
                    </a:lnTo>
                    <a:lnTo>
                      <a:pt x="1232" y="2041"/>
                    </a:lnTo>
                    <a:lnTo>
                      <a:pt x="1239" y="2045"/>
                    </a:lnTo>
                    <a:lnTo>
                      <a:pt x="1247" y="2047"/>
                    </a:lnTo>
                    <a:lnTo>
                      <a:pt x="1256" y="2049"/>
                    </a:lnTo>
                    <a:lnTo>
                      <a:pt x="1267" y="2051"/>
                    </a:lnTo>
                    <a:lnTo>
                      <a:pt x="1279" y="2055"/>
                    </a:lnTo>
                    <a:lnTo>
                      <a:pt x="1290" y="2057"/>
                    </a:lnTo>
                    <a:lnTo>
                      <a:pt x="1303" y="2060"/>
                    </a:lnTo>
                    <a:lnTo>
                      <a:pt x="1317" y="2062"/>
                    </a:lnTo>
                    <a:lnTo>
                      <a:pt x="1330" y="2066"/>
                    </a:lnTo>
                    <a:lnTo>
                      <a:pt x="1343" y="2068"/>
                    </a:lnTo>
                    <a:lnTo>
                      <a:pt x="1357" y="2070"/>
                    </a:lnTo>
                    <a:lnTo>
                      <a:pt x="1371" y="2072"/>
                    </a:lnTo>
                    <a:lnTo>
                      <a:pt x="1383" y="2075"/>
                    </a:lnTo>
                    <a:lnTo>
                      <a:pt x="1397" y="2077"/>
                    </a:lnTo>
                    <a:lnTo>
                      <a:pt x="1408" y="2079"/>
                    </a:lnTo>
                    <a:lnTo>
                      <a:pt x="1421" y="2080"/>
                    </a:lnTo>
                    <a:lnTo>
                      <a:pt x="1431" y="2082"/>
                    </a:lnTo>
                    <a:lnTo>
                      <a:pt x="1443" y="2084"/>
                    </a:lnTo>
                    <a:lnTo>
                      <a:pt x="1456" y="2086"/>
                    </a:lnTo>
                    <a:lnTo>
                      <a:pt x="1470" y="2088"/>
                    </a:lnTo>
                    <a:lnTo>
                      <a:pt x="1484" y="2090"/>
                    </a:lnTo>
                    <a:lnTo>
                      <a:pt x="1499" y="2092"/>
                    </a:lnTo>
                    <a:lnTo>
                      <a:pt x="1514" y="2094"/>
                    </a:lnTo>
                    <a:lnTo>
                      <a:pt x="1529" y="2095"/>
                    </a:lnTo>
                    <a:lnTo>
                      <a:pt x="1542" y="2097"/>
                    </a:lnTo>
                    <a:lnTo>
                      <a:pt x="1557" y="2098"/>
                    </a:lnTo>
                    <a:lnTo>
                      <a:pt x="1571" y="2100"/>
                    </a:lnTo>
                    <a:lnTo>
                      <a:pt x="1585" y="2100"/>
                    </a:lnTo>
                    <a:lnTo>
                      <a:pt x="1597" y="2102"/>
                    </a:lnTo>
                    <a:lnTo>
                      <a:pt x="1609" y="2102"/>
                    </a:lnTo>
                    <a:lnTo>
                      <a:pt x="1620" y="2102"/>
                    </a:lnTo>
                    <a:lnTo>
                      <a:pt x="1631" y="2102"/>
                    </a:lnTo>
                    <a:lnTo>
                      <a:pt x="1639" y="2103"/>
                    </a:lnTo>
                    <a:lnTo>
                      <a:pt x="1650" y="2103"/>
                    </a:lnTo>
                    <a:lnTo>
                      <a:pt x="1662" y="2103"/>
                    </a:lnTo>
                    <a:lnTo>
                      <a:pt x="1675" y="2103"/>
                    </a:lnTo>
                    <a:lnTo>
                      <a:pt x="1689" y="2103"/>
                    </a:lnTo>
                    <a:lnTo>
                      <a:pt x="1703" y="2103"/>
                    </a:lnTo>
                    <a:lnTo>
                      <a:pt x="1718" y="2103"/>
                    </a:lnTo>
                    <a:lnTo>
                      <a:pt x="1733" y="2103"/>
                    </a:lnTo>
                    <a:lnTo>
                      <a:pt x="1748" y="2103"/>
                    </a:lnTo>
                    <a:lnTo>
                      <a:pt x="1763" y="2103"/>
                    </a:lnTo>
                    <a:lnTo>
                      <a:pt x="1778" y="2103"/>
                    </a:lnTo>
                    <a:lnTo>
                      <a:pt x="1793" y="2103"/>
                    </a:lnTo>
                    <a:lnTo>
                      <a:pt x="1806" y="2103"/>
                    </a:lnTo>
                    <a:lnTo>
                      <a:pt x="1821" y="2102"/>
                    </a:lnTo>
                    <a:lnTo>
                      <a:pt x="1833" y="2102"/>
                    </a:lnTo>
                    <a:lnTo>
                      <a:pt x="1846" y="2100"/>
                    </a:lnTo>
                    <a:lnTo>
                      <a:pt x="1856" y="2100"/>
                    </a:lnTo>
                    <a:lnTo>
                      <a:pt x="1868" y="2100"/>
                    </a:lnTo>
                    <a:lnTo>
                      <a:pt x="1881" y="2100"/>
                    </a:lnTo>
                    <a:lnTo>
                      <a:pt x="1896" y="2099"/>
                    </a:lnTo>
                    <a:lnTo>
                      <a:pt x="1909" y="2099"/>
                    </a:lnTo>
                    <a:lnTo>
                      <a:pt x="1924" y="2097"/>
                    </a:lnTo>
                    <a:lnTo>
                      <a:pt x="1939" y="2097"/>
                    </a:lnTo>
                    <a:lnTo>
                      <a:pt x="1955" y="2096"/>
                    </a:lnTo>
                    <a:lnTo>
                      <a:pt x="1969" y="2096"/>
                    </a:lnTo>
                    <a:lnTo>
                      <a:pt x="1984" y="2094"/>
                    </a:lnTo>
                    <a:lnTo>
                      <a:pt x="1997" y="2094"/>
                    </a:lnTo>
                    <a:lnTo>
                      <a:pt x="2012" y="2092"/>
                    </a:lnTo>
                    <a:lnTo>
                      <a:pt x="2023" y="2092"/>
                    </a:lnTo>
                    <a:lnTo>
                      <a:pt x="2036" y="2090"/>
                    </a:lnTo>
                    <a:lnTo>
                      <a:pt x="2047" y="2090"/>
                    </a:lnTo>
                    <a:lnTo>
                      <a:pt x="2058" y="2088"/>
                    </a:lnTo>
                    <a:lnTo>
                      <a:pt x="2065" y="2088"/>
                    </a:lnTo>
                    <a:lnTo>
                      <a:pt x="2070" y="2088"/>
                    </a:lnTo>
                    <a:lnTo>
                      <a:pt x="2074" y="2088"/>
                    </a:lnTo>
                    <a:lnTo>
                      <a:pt x="2078" y="2087"/>
                    </a:lnTo>
                    <a:lnTo>
                      <a:pt x="2080" y="2087"/>
                    </a:lnTo>
                    <a:lnTo>
                      <a:pt x="2081" y="2087"/>
                    </a:lnTo>
                    <a:lnTo>
                      <a:pt x="2083" y="2087"/>
                    </a:lnTo>
                    <a:lnTo>
                      <a:pt x="2086" y="2086"/>
                    </a:lnTo>
                    <a:lnTo>
                      <a:pt x="2088" y="2086"/>
                    </a:lnTo>
                    <a:lnTo>
                      <a:pt x="2091" y="2086"/>
                    </a:lnTo>
                    <a:lnTo>
                      <a:pt x="2096" y="2086"/>
                    </a:lnTo>
                    <a:lnTo>
                      <a:pt x="2103" y="2085"/>
                    </a:lnTo>
                    <a:lnTo>
                      <a:pt x="2111" y="2085"/>
                    </a:lnTo>
                    <a:lnTo>
                      <a:pt x="2121" y="2083"/>
                    </a:lnTo>
                    <a:lnTo>
                      <a:pt x="2135" y="2082"/>
                    </a:lnTo>
                    <a:lnTo>
                      <a:pt x="2151" y="2080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2520000" y="3828600"/>
                <a:ext cx="2498760" cy="2870280"/>
              </a:xfrm>
              <a:custGeom>
                <a:avLst/>
                <a:gdLst/>
                <a:ahLst/>
                <a:rect l="l" t="t" r="r" b="b"/>
                <a:pathLst>
                  <a:path w="1574" h="1808">
                    <a:moveTo>
                      <a:pt x="0" y="0"/>
                    </a:moveTo>
                    <a:lnTo>
                      <a:pt x="0" y="16"/>
                    </a:lnTo>
                    <a:lnTo>
                      <a:pt x="2" y="28"/>
                    </a:lnTo>
                    <a:lnTo>
                      <a:pt x="2" y="38"/>
                    </a:lnTo>
                    <a:lnTo>
                      <a:pt x="4" y="45"/>
                    </a:lnTo>
                    <a:lnTo>
                      <a:pt x="4" y="51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6" y="60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7" y="74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0" y="96"/>
                    </a:lnTo>
                    <a:lnTo>
                      <a:pt x="11" y="108"/>
                    </a:lnTo>
                    <a:lnTo>
                      <a:pt x="12" y="122"/>
                    </a:lnTo>
                    <a:lnTo>
                      <a:pt x="15" y="137"/>
                    </a:lnTo>
                    <a:lnTo>
                      <a:pt x="17" y="155"/>
                    </a:lnTo>
                    <a:lnTo>
                      <a:pt x="21" y="175"/>
                    </a:lnTo>
                    <a:lnTo>
                      <a:pt x="24" y="195"/>
                    </a:lnTo>
                    <a:lnTo>
                      <a:pt x="29" y="216"/>
                    </a:lnTo>
                    <a:lnTo>
                      <a:pt x="32" y="240"/>
                    </a:lnTo>
                    <a:lnTo>
                      <a:pt x="38" y="262"/>
                    </a:lnTo>
                    <a:lnTo>
                      <a:pt x="41" y="286"/>
                    </a:lnTo>
                    <a:lnTo>
                      <a:pt x="47" y="308"/>
                    </a:lnTo>
                    <a:lnTo>
                      <a:pt x="51" y="332"/>
                    </a:lnTo>
                    <a:lnTo>
                      <a:pt x="57" y="355"/>
                    </a:lnTo>
                    <a:lnTo>
                      <a:pt x="62" y="378"/>
                    </a:lnTo>
                    <a:lnTo>
                      <a:pt x="68" y="399"/>
                    </a:lnTo>
                    <a:lnTo>
                      <a:pt x="72" y="422"/>
                    </a:lnTo>
                    <a:lnTo>
                      <a:pt x="78" y="444"/>
                    </a:lnTo>
                    <a:lnTo>
                      <a:pt x="83" y="468"/>
                    </a:lnTo>
                    <a:lnTo>
                      <a:pt x="89" y="492"/>
                    </a:lnTo>
                    <a:lnTo>
                      <a:pt x="95" y="518"/>
                    </a:lnTo>
                    <a:lnTo>
                      <a:pt x="102" y="542"/>
                    </a:lnTo>
                    <a:lnTo>
                      <a:pt x="108" y="566"/>
                    </a:lnTo>
                    <a:lnTo>
                      <a:pt x="115" y="590"/>
                    </a:lnTo>
                    <a:lnTo>
                      <a:pt x="120" y="614"/>
                    </a:lnTo>
                    <a:lnTo>
                      <a:pt x="128" y="637"/>
                    </a:lnTo>
                    <a:lnTo>
                      <a:pt x="133" y="659"/>
                    </a:lnTo>
                    <a:lnTo>
                      <a:pt x="140" y="678"/>
                    </a:lnTo>
                    <a:lnTo>
                      <a:pt x="146" y="698"/>
                    </a:lnTo>
                    <a:lnTo>
                      <a:pt x="152" y="714"/>
                    </a:lnTo>
                    <a:lnTo>
                      <a:pt x="157" y="728"/>
                    </a:lnTo>
                    <a:lnTo>
                      <a:pt x="163" y="739"/>
                    </a:lnTo>
                    <a:lnTo>
                      <a:pt x="167" y="752"/>
                    </a:lnTo>
                    <a:lnTo>
                      <a:pt x="172" y="765"/>
                    </a:lnTo>
                    <a:lnTo>
                      <a:pt x="177" y="780"/>
                    </a:lnTo>
                    <a:lnTo>
                      <a:pt x="184" y="795"/>
                    </a:lnTo>
                    <a:lnTo>
                      <a:pt x="190" y="812"/>
                    </a:lnTo>
                    <a:lnTo>
                      <a:pt x="197" y="829"/>
                    </a:lnTo>
                    <a:lnTo>
                      <a:pt x="205" y="848"/>
                    </a:lnTo>
                    <a:lnTo>
                      <a:pt x="212" y="866"/>
                    </a:lnTo>
                    <a:lnTo>
                      <a:pt x="220" y="885"/>
                    </a:lnTo>
                    <a:lnTo>
                      <a:pt x="227" y="904"/>
                    </a:lnTo>
                    <a:lnTo>
                      <a:pt x="235" y="922"/>
                    </a:lnTo>
                    <a:lnTo>
                      <a:pt x="242" y="940"/>
                    </a:lnTo>
                    <a:lnTo>
                      <a:pt x="248" y="958"/>
                    </a:lnTo>
                    <a:lnTo>
                      <a:pt x="256" y="974"/>
                    </a:lnTo>
                    <a:lnTo>
                      <a:pt x="262" y="990"/>
                    </a:lnTo>
                    <a:lnTo>
                      <a:pt x="270" y="1004"/>
                    </a:lnTo>
                    <a:lnTo>
                      <a:pt x="275" y="1020"/>
                    </a:lnTo>
                    <a:lnTo>
                      <a:pt x="282" y="1034"/>
                    </a:lnTo>
                    <a:lnTo>
                      <a:pt x="288" y="1051"/>
                    </a:lnTo>
                    <a:lnTo>
                      <a:pt x="295" y="1068"/>
                    </a:lnTo>
                    <a:lnTo>
                      <a:pt x="303" y="1086"/>
                    </a:lnTo>
                    <a:lnTo>
                      <a:pt x="310" y="1102"/>
                    </a:lnTo>
                    <a:lnTo>
                      <a:pt x="318" y="1120"/>
                    </a:lnTo>
                    <a:lnTo>
                      <a:pt x="326" y="1137"/>
                    </a:lnTo>
                    <a:lnTo>
                      <a:pt x="333" y="1154"/>
                    </a:lnTo>
                    <a:lnTo>
                      <a:pt x="340" y="1171"/>
                    </a:lnTo>
                    <a:lnTo>
                      <a:pt x="347" y="1187"/>
                    </a:lnTo>
                    <a:lnTo>
                      <a:pt x="354" y="1201"/>
                    </a:lnTo>
                    <a:lnTo>
                      <a:pt x="360" y="1216"/>
                    </a:lnTo>
                    <a:lnTo>
                      <a:pt x="366" y="1228"/>
                    </a:lnTo>
                    <a:lnTo>
                      <a:pt x="372" y="1240"/>
                    </a:lnTo>
                    <a:lnTo>
                      <a:pt x="378" y="1248"/>
                    </a:lnTo>
                    <a:lnTo>
                      <a:pt x="381" y="1259"/>
                    </a:lnTo>
                    <a:lnTo>
                      <a:pt x="386" y="1269"/>
                    </a:lnTo>
                    <a:lnTo>
                      <a:pt x="392" y="1281"/>
                    </a:lnTo>
                    <a:lnTo>
                      <a:pt x="400" y="1292"/>
                    </a:lnTo>
                    <a:lnTo>
                      <a:pt x="406" y="1305"/>
                    </a:lnTo>
                    <a:lnTo>
                      <a:pt x="414" y="1318"/>
                    </a:lnTo>
                    <a:lnTo>
                      <a:pt x="421" y="1331"/>
                    </a:lnTo>
                    <a:lnTo>
                      <a:pt x="431" y="1344"/>
                    </a:lnTo>
                    <a:lnTo>
                      <a:pt x="438" y="1357"/>
                    </a:lnTo>
                    <a:lnTo>
                      <a:pt x="448" y="1370"/>
                    </a:lnTo>
                    <a:lnTo>
                      <a:pt x="456" y="1383"/>
                    </a:lnTo>
                    <a:lnTo>
                      <a:pt x="466" y="1395"/>
                    </a:lnTo>
                    <a:lnTo>
                      <a:pt x="473" y="1408"/>
                    </a:lnTo>
                    <a:lnTo>
                      <a:pt x="482" y="1419"/>
                    </a:lnTo>
                    <a:lnTo>
                      <a:pt x="490" y="1429"/>
                    </a:lnTo>
                    <a:lnTo>
                      <a:pt x="499" y="1438"/>
                    </a:lnTo>
                    <a:lnTo>
                      <a:pt x="506" y="1448"/>
                    </a:lnTo>
                    <a:lnTo>
                      <a:pt x="514" y="1458"/>
                    </a:lnTo>
                    <a:lnTo>
                      <a:pt x="523" y="1469"/>
                    </a:lnTo>
                    <a:lnTo>
                      <a:pt x="533" y="1478"/>
                    </a:lnTo>
                    <a:lnTo>
                      <a:pt x="542" y="1490"/>
                    </a:lnTo>
                    <a:lnTo>
                      <a:pt x="553" y="1501"/>
                    </a:lnTo>
                    <a:lnTo>
                      <a:pt x="564" y="1512"/>
                    </a:lnTo>
                    <a:lnTo>
                      <a:pt x="575" y="1522"/>
                    </a:lnTo>
                    <a:lnTo>
                      <a:pt x="584" y="1533"/>
                    </a:lnTo>
                    <a:lnTo>
                      <a:pt x="596" y="1543"/>
                    </a:lnTo>
                    <a:lnTo>
                      <a:pt x="605" y="1553"/>
                    </a:lnTo>
                    <a:lnTo>
                      <a:pt x="617" y="1562"/>
                    </a:lnTo>
                    <a:lnTo>
                      <a:pt x="625" y="1572"/>
                    </a:lnTo>
                    <a:lnTo>
                      <a:pt x="635" y="1579"/>
                    </a:lnTo>
                    <a:lnTo>
                      <a:pt x="643" y="1586"/>
                    </a:lnTo>
                    <a:lnTo>
                      <a:pt x="652" y="1592"/>
                    </a:lnTo>
                    <a:lnTo>
                      <a:pt x="658" y="1599"/>
                    </a:lnTo>
                    <a:lnTo>
                      <a:pt x="666" y="1604"/>
                    </a:lnTo>
                    <a:lnTo>
                      <a:pt x="674" y="1610"/>
                    </a:lnTo>
                    <a:lnTo>
                      <a:pt x="681" y="1616"/>
                    </a:lnTo>
                    <a:lnTo>
                      <a:pt x="688" y="1622"/>
                    </a:lnTo>
                    <a:lnTo>
                      <a:pt x="696" y="1627"/>
                    </a:lnTo>
                    <a:lnTo>
                      <a:pt x="703" y="1633"/>
                    </a:lnTo>
                    <a:lnTo>
                      <a:pt x="712" y="1638"/>
                    </a:lnTo>
                    <a:lnTo>
                      <a:pt x="718" y="1644"/>
                    </a:lnTo>
                    <a:lnTo>
                      <a:pt x="725" y="1650"/>
                    </a:lnTo>
                    <a:lnTo>
                      <a:pt x="731" y="1655"/>
                    </a:lnTo>
                    <a:lnTo>
                      <a:pt x="738" y="1658"/>
                    </a:lnTo>
                    <a:lnTo>
                      <a:pt x="742" y="1662"/>
                    </a:lnTo>
                    <a:lnTo>
                      <a:pt x="747" y="1666"/>
                    </a:lnTo>
                    <a:lnTo>
                      <a:pt x="751" y="1668"/>
                    </a:lnTo>
                    <a:lnTo>
                      <a:pt x="754" y="1669"/>
                    </a:lnTo>
                    <a:lnTo>
                      <a:pt x="756" y="1672"/>
                    </a:lnTo>
                    <a:lnTo>
                      <a:pt x="760" y="1674"/>
                    </a:lnTo>
                    <a:lnTo>
                      <a:pt x="764" y="1677"/>
                    </a:lnTo>
                    <a:lnTo>
                      <a:pt x="769" y="1678"/>
                    </a:lnTo>
                    <a:lnTo>
                      <a:pt x="773" y="1682"/>
                    </a:lnTo>
                    <a:lnTo>
                      <a:pt x="779" y="1684"/>
                    </a:lnTo>
                    <a:lnTo>
                      <a:pt x="784" y="1688"/>
                    </a:lnTo>
                    <a:lnTo>
                      <a:pt x="791" y="1690"/>
                    </a:lnTo>
                    <a:lnTo>
                      <a:pt x="796" y="1694"/>
                    </a:lnTo>
                    <a:lnTo>
                      <a:pt x="802" y="1697"/>
                    </a:lnTo>
                    <a:lnTo>
                      <a:pt x="808" y="1700"/>
                    </a:lnTo>
                    <a:lnTo>
                      <a:pt x="815" y="1702"/>
                    </a:lnTo>
                    <a:lnTo>
                      <a:pt x="821" y="1706"/>
                    </a:lnTo>
                    <a:lnTo>
                      <a:pt x="828" y="1708"/>
                    </a:lnTo>
                    <a:lnTo>
                      <a:pt x="833" y="1710"/>
                    </a:lnTo>
                    <a:lnTo>
                      <a:pt x="840" y="1712"/>
                    </a:lnTo>
                    <a:lnTo>
                      <a:pt x="845" y="1715"/>
                    </a:lnTo>
                    <a:lnTo>
                      <a:pt x="852" y="1717"/>
                    </a:lnTo>
                    <a:lnTo>
                      <a:pt x="859" y="1720"/>
                    </a:lnTo>
                    <a:lnTo>
                      <a:pt x="868" y="1722"/>
                    </a:lnTo>
                    <a:lnTo>
                      <a:pt x="877" y="1726"/>
                    </a:lnTo>
                    <a:lnTo>
                      <a:pt x="887" y="1729"/>
                    </a:lnTo>
                    <a:lnTo>
                      <a:pt x="897" y="1733"/>
                    </a:lnTo>
                    <a:lnTo>
                      <a:pt x="908" y="1735"/>
                    </a:lnTo>
                    <a:lnTo>
                      <a:pt x="917" y="1738"/>
                    </a:lnTo>
                    <a:lnTo>
                      <a:pt x="929" y="1742"/>
                    </a:lnTo>
                    <a:lnTo>
                      <a:pt x="939" y="1745"/>
                    </a:lnTo>
                    <a:lnTo>
                      <a:pt x="950" y="1747"/>
                    </a:lnTo>
                    <a:lnTo>
                      <a:pt x="959" y="1751"/>
                    </a:lnTo>
                    <a:lnTo>
                      <a:pt x="970" y="1753"/>
                    </a:lnTo>
                    <a:lnTo>
                      <a:pt x="980" y="1755"/>
                    </a:lnTo>
                    <a:lnTo>
                      <a:pt x="990" y="1757"/>
                    </a:lnTo>
                    <a:lnTo>
                      <a:pt x="997" y="1761"/>
                    </a:lnTo>
                    <a:lnTo>
                      <a:pt x="1007" y="1763"/>
                    </a:lnTo>
                    <a:lnTo>
                      <a:pt x="1017" y="1765"/>
                    </a:lnTo>
                    <a:lnTo>
                      <a:pt x="1028" y="1766"/>
                    </a:lnTo>
                    <a:lnTo>
                      <a:pt x="1039" y="1770"/>
                    </a:lnTo>
                    <a:lnTo>
                      <a:pt x="1050" y="1772"/>
                    </a:lnTo>
                    <a:lnTo>
                      <a:pt x="1062" y="1773"/>
                    </a:lnTo>
                    <a:lnTo>
                      <a:pt x="1075" y="1775"/>
                    </a:lnTo>
                    <a:lnTo>
                      <a:pt x="1086" y="1778"/>
                    </a:lnTo>
                    <a:lnTo>
                      <a:pt x="1097" y="1780"/>
                    </a:lnTo>
                    <a:lnTo>
                      <a:pt x="1108" y="1782"/>
                    </a:lnTo>
                    <a:lnTo>
                      <a:pt x="1119" y="1783"/>
                    </a:lnTo>
                    <a:lnTo>
                      <a:pt x="1128" y="1785"/>
                    </a:lnTo>
                    <a:lnTo>
                      <a:pt x="1139" y="1786"/>
                    </a:lnTo>
                    <a:lnTo>
                      <a:pt x="1148" y="1788"/>
                    </a:lnTo>
                    <a:lnTo>
                      <a:pt x="1156" y="1788"/>
                    </a:lnTo>
                    <a:lnTo>
                      <a:pt x="1163" y="1790"/>
                    </a:lnTo>
                    <a:lnTo>
                      <a:pt x="1171" y="1790"/>
                    </a:lnTo>
                    <a:lnTo>
                      <a:pt x="1181" y="1792"/>
                    </a:lnTo>
                    <a:lnTo>
                      <a:pt x="1191" y="1792"/>
                    </a:lnTo>
                    <a:lnTo>
                      <a:pt x="1202" y="1794"/>
                    </a:lnTo>
                    <a:lnTo>
                      <a:pt x="1213" y="1794"/>
                    </a:lnTo>
                    <a:lnTo>
                      <a:pt x="1224" y="1796"/>
                    </a:lnTo>
                    <a:lnTo>
                      <a:pt x="1238" y="1796"/>
                    </a:lnTo>
                    <a:lnTo>
                      <a:pt x="1249" y="1798"/>
                    </a:lnTo>
                    <a:lnTo>
                      <a:pt x="1260" y="1798"/>
                    </a:lnTo>
                    <a:lnTo>
                      <a:pt x="1272" y="1800"/>
                    </a:lnTo>
                    <a:lnTo>
                      <a:pt x="1285" y="1800"/>
                    </a:lnTo>
                    <a:lnTo>
                      <a:pt x="1296" y="1801"/>
                    </a:lnTo>
                    <a:lnTo>
                      <a:pt x="1307" y="1801"/>
                    </a:lnTo>
                    <a:lnTo>
                      <a:pt x="1317" y="1801"/>
                    </a:lnTo>
                    <a:lnTo>
                      <a:pt x="1327" y="1801"/>
                    </a:lnTo>
                    <a:lnTo>
                      <a:pt x="1336" y="1803"/>
                    </a:lnTo>
                    <a:lnTo>
                      <a:pt x="1346" y="1803"/>
                    </a:lnTo>
                    <a:lnTo>
                      <a:pt x="1356" y="1804"/>
                    </a:lnTo>
                    <a:lnTo>
                      <a:pt x="1367" y="1804"/>
                    </a:lnTo>
                    <a:lnTo>
                      <a:pt x="1378" y="1806"/>
                    </a:lnTo>
                    <a:lnTo>
                      <a:pt x="1390" y="1806"/>
                    </a:lnTo>
                    <a:lnTo>
                      <a:pt x="1401" y="1806"/>
                    </a:lnTo>
                    <a:lnTo>
                      <a:pt x="1414" y="1806"/>
                    </a:lnTo>
                    <a:lnTo>
                      <a:pt x="1425" y="1807"/>
                    </a:lnTo>
                    <a:lnTo>
                      <a:pt x="1437" y="1807"/>
                    </a:lnTo>
                    <a:lnTo>
                      <a:pt x="1448" y="1807"/>
                    </a:lnTo>
                    <a:lnTo>
                      <a:pt x="1460" y="1807"/>
                    </a:lnTo>
                    <a:lnTo>
                      <a:pt x="1470" y="1807"/>
                    </a:lnTo>
                    <a:lnTo>
                      <a:pt x="1480" y="1807"/>
                    </a:lnTo>
                    <a:lnTo>
                      <a:pt x="1488" y="1807"/>
                    </a:lnTo>
                    <a:lnTo>
                      <a:pt x="1497" y="1807"/>
                    </a:lnTo>
                    <a:lnTo>
                      <a:pt x="1502" y="1807"/>
                    </a:lnTo>
                    <a:lnTo>
                      <a:pt x="1507" y="1807"/>
                    </a:lnTo>
                    <a:lnTo>
                      <a:pt x="1510" y="1807"/>
                    </a:lnTo>
                    <a:lnTo>
                      <a:pt x="1513" y="1807"/>
                    </a:lnTo>
                    <a:lnTo>
                      <a:pt x="1514" y="1807"/>
                    </a:lnTo>
                    <a:lnTo>
                      <a:pt x="1516" y="1807"/>
                    </a:lnTo>
                    <a:lnTo>
                      <a:pt x="1518" y="1807"/>
                    </a:lnTo>
                    <a:lnTo>
                      <a:pt x="1520" y="1807"/>
                    </a:lnTo>
                    <a:lnTo>
                      <a:pt x="1522" y="1807"/>
                    </a:lnTo>
                    <a:lnTo>
                      <a:pt x="1524" y="1807"/>
                    </a:lnTo>
                    <a:lnTo>
                      <a:pt x="1528" y="1807"/>
                    </a:lnTo>
                    <a:lnTo>
                      <a:pt x="1534" y="1807"/>
                    </a:lnTo>
                    <a:lnTo>
                      <a:pt x="1540" y="1807"/>
                    </a:lnTo>
                    <a:lnTo>
                      <a:pt x="1549" y="1807"/>
                    </a:lnTo>
                    <a:lnTo>
                      <a:pt x="1559" y="1807"/>
                    </a:lnTo>
                    <a:lnTo>
                      <a:pt x="1573" y="1807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3147840" y="1527480"/>
              <a:ext cx="3260880" cy="56293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1212840" y="1460520"/>
              <a:ext cx="712296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366040" y="1460520"/>
              <a:ext cx="0" cy="545472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434520" y="1384200"/>
              <a:ext cx="539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3260160" y="92700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8213040" y="229860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8089200" y="67942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8289360" y="10029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GB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flipV="1">
              <a:off x="3206880" y="2045160"/>
              <a:ext cx="70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SzPct val="8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"/>
            <p:cNvGrpSpPr/>
            <p:nvPr/>
          </p:nvGrpSpPr>
          <p:grpSpPr>
            <a:xfrm>
              <a:off x="1249200" y="1444680"/>
              <a:ext cx="7102440" cy="5486400"/>
              <a:chOff x="1249200" y="1444680"/>
              <a:chExt cx="7102440" cy="5486400"/>
            </a:xfrm>
          </p:grpSpPr>
          <p:sp>
            <p:nvSpPr>
              <p:cNvPr id="1495" name=""/>
              <p:cNvSpPr/>
              <p:nvPr/>
            </p:nvSpPr>
            <p:spPr>
              <a:xfrm flipH="1">
                <a:off x="1249200" y="1444680"/>
                <a:ext cx="7102440" cy="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351640" y="1444680"/>
                <a:ext cx="0" cy="5486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 flipH="1" flipV="1">
              <a:off x="4707000" y="3751200"/>
              <a:ext cx="92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flipV="1">
              <a:off x="3758760" y="2058480"/>
              <a:ext cx="3855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/>
          </p:nvPr>
        </p:nvSpPr>
        <p:spPr>
          <a:xfrm>
            <a:off x="566640" y="125280"/>
            <a:ext cx="945360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y enderezando las notacione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199680" y="68580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8534520" y="220968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8534520" y="11430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8609760" y="645480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136520" y="838080"/>
            <a:ext cx="540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1212840" y="1450800"/>
            <a:ext cx="7153200" cy="5711760"/>
            <a:chOff x="1212840" y="1450800"/>
            <a:chExt cx="7153200" cy="5711760"/>
          </a:xfrm>
        </p:grpSpPr>
        <p:grpSp>
          <p:nvGrpSpPr>
            <p:cNvPr id="1506" name=""/>
            <p:cNvGrpSpPr/>
            <p:nvPr/>
          </p:nvGrpSpPr>
          <p:grpSpPr>
            <a:xfrm>
              <a:off x="2519640" y="2424960"/>
              <a:ext cx="3416040" cy="4280040"/>
              <a:chOff x="2519640" y="2424960"/>
              <a:chExt cx="3416040" cy="4280040"/>
            </a:xfrm>
          </p:grpSpPr>
          <p:sp>
            <p:nvSpPr>
              <p:cNvPr id="1507" name=""/>
              <p:cNvSpPr/>
              <p:nvPr/>
            </p:nvSpPr>
            <p:spPr>
              <a:xfrm flipH="1" flipV="1">
                <a:off x="2566800" y="3286800"/>
                <a:ext cx="2859120" cy="3281400"/>
              </a:xfrm>
              <a:custGeom>
                <a:avLst/>
                <a:gdLst/>
                <a:ahLst/>
                <a:rect l="l" t="t" r="r" b="b"/>
                <a:pathLst>
                  <a:path w="1801" h="2067">
                    <a:moveTo>
                      <a:pt x="0" y="0"/>
                    </a:moveTo>
                    <a:lnTo>
                      <a:pt x="0" y="18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4" y="50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6" y="76"/>
                    </a:lnTo>
                    <a:lnTo>
                      <a:pt x="6" y="79"/>
                    </a:lnTo>
                    <a:lnTo>
                      <a:pt x="8" y="84"/>
                    </a:lnTo>
                    <a:lnTo>
                      <a:pt x="8" y="90"/>
                    </a:lnTo>
                    <a:lnTo>
                      <a:pt x="10" y="98"/>
                    </a:lnTo>
                    <a:lnTo>
                      <a:pt x="10" y="109"/>
                    </a:lnTo>
                    <a:lnTo>
                      <a:pt x="12" y="122"/>
                    </a:lnTo>
                    <a:lnTo>
                      <a:pt x="14" y="138"/>
                    </a:lnTo>
                    <a:lnTo>
                      <a:pt x="18" y="156"/>
                    </a:lnTo>
                    <a:lnTo>
                      <a:pt x="21" y="177"/>
                    </a:lnTo>
                    <a:lnTo>
                      <a:pt x="25" y="198"/>
                    </a:lnTo>
                    <a:lnTo>
                      <a:pt x="28" y="222"/>
                    </a:lnTo>
                    <a:lnTo>
                      <a:pt x="34" y="246"/>
                    </a:lnTo>
                    <a:lnTo>
                      <a:pt x="38" y="272"/>
                    </a:lnTo>
                    <a:lnTo>
                      <a:pt x="43" y="298"/>
                    </a:lnTo>
                    <a:lnTo>
                      <a:pt x="48" y="325"/>
                    </a:lnTo>
                    <a:lnTo>
                      <a:pt x="54" y="351"/>
                    </a:lnTo>
                    <a:lnTo>
                      <a:pt x="60" y="378"/>
                    </a:lnTo>
                    <a:lnTo>
                      <a:pt x="65" y="404"/>
                    </a:lnTo>
                    <a:lnTo>
                      <a:pt x="71" y="430"/>
                    </a:lnTo>
                    <a:lnTo>
                      <a:pt x="76" y="454"/>
                    </a:lnTo>
                    <a:lnTo>
                      <a:pt x="81" y="480"/>
                    </a:lnTo>
                    <a:lnTo>
                      <a:pt x="86" y="506"/>
                    </a:lnTo>
                    <a:lnTo>
                      <a:pt x="93" y="534"/>
                    </a:lnTo>
                    <a:lnTo>
                      <a:pt x="100" y="562"/>
                    </a:lnTo>
                    <a:lnTo>
                      <a:pt x="107" y="590"/>
                    </a:lnTo>
                    <a:lnTo>
                      <a:pt x="114" y="618"/>
                    </a:lnTo>
                    <a:lnTo>
                      <a:pt x="122" y="646"/>
                    </a:lnTo>
                    <a:lnTo>
                      <a:pt x="130" y="674"/>
                    </a:lnTo>
                    <a:lnTo>
                      <a:pt x="137" y="702"/>
                    </a:lnTo>
                    <a:lnTo>
                      <a:pt x="144" y="728"/>
                    </a:lnTo>
                    <a:lnTo>
                      <a:pt x="152" y="753"/>
                    </a:lnTo>
                    <a:lnTo>
                      <a:pt x="159" y="774"/>
                    </a:lnTo>
                    <a:lnTo>
                      <a:pt x="166" y="796"/>
                    </a:lnTo>
                    <a:lnTo>
                      <a:pt x="173" y="815"/>
                    </a:lnTo>
                    <a:lnTo>
                      <a:pt x="179" y="831"/>
                    </a:lnTo>
                    <a:lnTo>
                      <a:pt x="185" y="844"/>
                    </a:lnTo>
                    <a:lnTo>
                      <a:pt x="189" y="859"/>
                    </a:lnTo>
                    <a:lnTo>
                      <a:pt x="194" y="874"/>
                    </a:lnTo>
                    <a:lnTo>
                      <a:pt x="201" y="890"/>
                    </a:lnTo>
                    <a:lnTo>
                      <a:pt x="209" y="908"/>
                    </a:lnTo>
                    <a:lnTo>
                      <a:pt x="216" y="928"/>
                    </a:lnTo>
                    <a:lnTo>
                      <a:pt x="224" y="947"/>
                    </a:lnTo>
                    <a:lnTo>
                      <a:pt x="232" y="968"/>
                    </a:lnTo>
                    <a:lnTo>
                      <a:pt x="242" y="988"/>
                    </a:lnTo>
                    <a:lnTo>
                      <a:pt x="249" y="1011"/>
                    </a:lnTo>
                    <a:lnTo>
                      <a:pt x="259" y="1032"/>
                    </a:lnTo>
                    <a:lnTo>
                      <a:pt x="267" y="1053"/>
                    </a:lnTo>
                    <a:lnTo>
                      <a:pt x="276" y="1073"/>
                    </a:lnTo>
                    <a:lnTo>
                      <a:pt x="284" y="1094"/>
                    </a:lnTo>
                    <a:lnTo>
                      <a:pt x="292" y="1113"/>
                    </a:lnTo>
                    <a:lnTo>
                      <a:pt x="300" y="1130"/>
                    </a:lnTo>
                    <a:lnTo>
                      <a:pt x="308" y="1146"/>
                    </a:lnTo>
                    <a:lnTo>
                      <a:pt x="314" y="1164"/>
                    </a:lnTo>
                    <a:lnTo>
                      <a:pt x="322" y="1182"/>
                    </a:lnTo>
                    <a:lnTo>
                      <a:pt x="329" y="1201"/>
                    </a:lnTo>
                    <a:lnTo>
                      <a:pt x="338" y="1219"/>
                    </a:lnTo>
                    <a:lnTo>
                      <a:pt x="346" y="1240"/>
                    </a:lnTo>
                    <a:lnTo>
                      <a:pt x="355" y="1259"/>
                    </a:lnTo>
                    <a:lnTo>
                      <a:pt x="364" y="1279"/>
                    </a:lnTo>
                    <a:lnTo>
                      <a:pt x="374" y="1298"/>
                    </a:lnTo>
                    <a:lnTo>
                      <a:pt x="381" y="1318"/>
                    </a:lnTo>
                    <a:lnTo>
                      <a:pt x="390" y="1337"/>
                    </a:lnTo>
                    <a:lnTo>
                      <a:pt x="397" y="1355"/>
                    </a:lnTo>
                    <a:lnTo>
                      <a:pt x="406" y="1371"/>
                    </a:lnTo>
                    <a:lnTo>
                      <a:pt x="412" y="1387"/>
                    </a:lnTo>
                    <a:lnTo>
                      <a:pt x="420" y="1402"/>
                    </a:lnTo>
                    <a:lnTo>
                      <a:pt x="425" y="1415"/>
                    </a:lnTo>
                    <a:lnTo>
                      <a:pt x="432" y="1425"/>
                    </a:lnTo>
                    <a:lnTo>
                      <a:pt x="436" y="1437"/>
                    </a:lnTo>
                    <a:lnTo>
                      <a:pt x="442" y="1449"/>
                    </a:lnTo>
                    <a:lnTo>
                      <a:pt x="449" y="1462"/>
                    </a:lnTo>
                    <a:lnTo>
                      <a:pt x="457" y="1475"/>
                    </a:lnTo>
                    <a:lnTo>
                      <a:pt x="464" y="1490"/>
                    </a:lnTo>
                    <a:lnTo>
                      <a:pt x="474" y="1505"/>
                    </a:lnTo>
                    <a:lnTo>
                      <a:pt x="483" y="1520"/>
                    </a:lnTo>
                    <a:lnTo>
                      <a:pt x="493" y="1535"/>
                    </a:lnTo>
                    <a:lnTo>
                      <a:pt x="502" y="1551"/>
                    </a:lnTo>
                    <a:lnTo>
                      <a:pt x="512" y="1566"/>
                    </a:lnTo>
                    <a:lnTo>
                      <a:pt x="522" y="1581"/>
                    </a:lnTo>
                    <a:lnTo>
                      <a:pt x="533" y="1595"/>
                    </a:lnTo>
                    <a:lnTo>
                      <a:pt x="542" y="1609"/>
                    </a:lnTo>
                    <a:lnTo>
                      <a:pt x="552" y="1622"/>
                    </a:lnTo>
                    <a:lnTo>
                      <a:pt x="561" y="1634"/>
                    </a:lnTo>
                    <a:lnTo>
                      <a:pt x="571" y="1644"/>
                    </a:lnTo>
                    <a:lnTo>
                      <a:pt x="579" y="1656"/>
                    </a:lnTo>
                    <a:lnTo>
                      <a:pt x="588" y="1667"/>
                    </a:lnTo>
                    <a:lnTo>
                      <a:pt x="598" y="1680"/>
                    </a:lnTo>
                    <a:lnTo>
                      <a:pt x="609" y="1691"/>
                    </a:lnTo>
                    <a:lnTo>
                      <a:pt x="620" y="1704"/>
                    </a:lnTo>
                    <a:lnTo>
                      <a:pt x="632" y="1717"/>
                    </a:lnTo>
                    <a:lnTo>
                      <a:pt x="644" y="1730"/>
                    </a:lnTo>
                    <a:lnTo>
                      <a:pt x="657" y="1741"/>
                    </a:lnTo>
                    <a:lnTo>
                      <a:pt x="668" y="1754"/>
                    </a:lnTo>
                    <a:lnTo>
                      <a:pt x="680" y="1766"/>
                    </a:lnTo>
                    <a:lnTo>
                      <a:pt x="692" y="1777"/>
                    </a:lnTo>
                    <a:lnTo>
                      <a:pt x="704" y="1787"/>
                    </a:lnTo>
                    <a:lnTo>
                      <a:pt x="714" y="1798"/>
                    </a:lnTo>
                    <a:lnTo>
                      <a:pt x="725" y="1806"/>
                    </a:lnTo>
                    <a:lnTo>
                      <a:pt x="735" y="1815"/>
                    </a:lnTo>
                    <a:lnTo>
                      <a:pt x="745" y="1821"/>
                    </a:lnTo>
                    <a:lnTo>
                      <a:pt x="752" y="1828"/>
                    </a:lnTo>
                    <a:lnTo>
                      <a:pt x="761" y="1835"/>
                    </a:lnTo>
                    <a:lnTo>
                      <a:pt x="768" y="1843"/>
                    </a:lnTo>
                    <a:lnTo>
                      <a:pt x="778" y="1848"/>
                    </a:lnTo>
                    <a:lnTo>
                      <a:pt x="785" y="1856"/>
                    </a:lnTo>
                    <a:lnTo>
                      <a:pt x="795" y="1862"/>
                    </a:lnTo>
                    <a:lnTo>
                      <a:pt x="803" y="1868"/>
                    </a:lnTo>
                    <a:lnTo>
                      <a:pt x="813" y="1874"/>
                    </a:lnTo>
                    <a:lnTo>
                      <a:pt x="820" y="1880"/>
                    </a:lnTo>
                    <a:lnTo>
                      <a:pt x="828" y="1886"/>
                    </a:lnTo>
                    <a:lnTo>
                      <a:pt x="834" y="1892"/>
                    </a:lnTo>
                    <a:lnTo>
                      <a:pt x="842" y="1896"/>
                    </a:lnTo>
                    <a:lnTo>
                      <a:pt x="848" y="1901"/>
                    </a:lnTo>
                    <a:lnTo>
                      <a:pt x="853" y="1904"/>
                    </a:lnTo>
                    <a:lnTo>
                      <a:pt x="857" y="1907"/>
                    </a:lnTo>
                    <a:lnTo>
                      <a:pt x="862" y="1909"/>
                    </a:lnTo>
                    <a:lnTo>
                      <a:pt x="864" y="1913"/>
                    </a:lnTo>
                    <a:lnTo>
                      <a:pt x="868" y="1914"/>
                    </a:lnTo>
                    <a:lnTo>
                      <a:pt x="873" y="1918"/>
                    </a:lnTo>
                    <a:lnTo>
                      <a:pt x="878" y="1920"/>
                    </a:lnTo>
                    <a:lnTo>
                      <a:pt x="884" y="1923"/>
                    </a:lnTo>
                    <a:lnTo>
                      <a:pt x="890" y="1926"/>
                    </a:lnTo>
                    <a:lnTo>
                      <a:pt x="896" y="1930"/>
                    </a:lnTo>
                    <a:lnTo>
                      <a:pt x="904" y="1932"/>
                    </a:lnTo>
                    <a:lnTo>
                      <a:pt x="910" y="1936"/>
                    </a:lnTo>
                    <a:lnTo>
                      <a:pt x="918" y="1940"/>
                    </a:lnTo>
                    <a:lnTo>
                      <a:pt x="925" y="1943"/>
                    </a:lnTo>
                    <a:lnTo>
                      <a:pt x="932" y="1945"/>
                    </a:lnTo>
                    <a:lnTo>
                      <a:pt x="939" y="1949"/>
                    </a:lnTo>
                    <a:lnTo>
                      <a:pt x="947" y="1951"/>
                    </a:lnTo>
                    <a:lnTo>
                      <a:pt x="954" y="1954"/>
                    </a:lnTo>
                    <a:lnTo>
                      <a:pt x="961" y="1956"/>
                    </a:lnTo>
                    <a:lnTo>
                      <a:pt x="967" y="1960"/>
                    </a:lnTo>
                    <a:lnTo>
                      <a:pt x="974" y="1962"/>
                    </a:lnTo>
                    <a:lnTo>
                      <a:pt x="983" y="1966"/>
                    </a:lnTo>
                    <a:lnTo>
                      <a:pt x="993" y="1968"/>
                    </a:lnTo>
                    <a:lnTo>
                      <a:pt x="1002" y="1972"/>
                    </a:lnTo>
                    <a:lnTo>
                      <a:pt x="1014" y="1976"/>
                    </a:lnTo>
                    <a:lnTo>
                      <a:pt x="1025" y="1979"/>
                    </a:lnTo>
                    <a:lnTo>
                      <a:pt x="1038" y="1982"/>
                    </a:lnTo>
                    <a:lnTo>
                      <a:pt x="1049" y="1986"/>
                    </a:lnTo>
                    <a:lnTo>
                      <a:pt x="1061" y="1990"/>
                    </a:lnTo>
                    <a:lnTo>
                      <a:pt x="1072" y="1994"/>
                    </a:lnTo>
                    <a:lnTo>
                      <a:pt x="1086" y="1997"/>
                    </a:lnTo>
                    <a:lnTo>
                      <a:pt x="1097" y="2001"/>
                    </a:lnTo>
                    <a:lnTo>
                      <a:pt x="1108" y="2002"/>
                    </a:lnTo>
                    <a:lnTo>
                      <a:pt x="1119" y="2006"/>
                    </a:lnTo>
                    <a:lnTo>
                      <a:pt x="1130" y="2008"/>
                    </a:lnTo>
                    <a:lnTo>
                      <a:pt x="1140" y="2011"/>
                    </a:lnTo>
                    <a:lnTo>
                      <a:pt x="1151" y="2013"/>
                    </a:lnTo>
                    <a:lnTo>
                      <a:pt x="1162" y="2016"/>
                    </a:lnTo>
                    <a:lnTo>
                      <a:pt x="1175" y="2018"/>
                    </a:lnTo>
                    <a:lnTo>
                      <a:pt x="1187" y="2022"/>
                    </a:lnTo>
                    <a:lnTo>
                      <a:pt x="1200" y="2024"/>
                    </a:lnTo>
                    <a:lnTo>
                      <a:pt x="1213" y="2027"/>
                    </a:lnTo>
                    <a:lnTo>
                      <a:pt x="1228" y="2029"/>
                    </a:lnTo>
                    <a:lnTo>
                      <a:pt x="1241" y="2032"/>
                    </a:lnTo>
                    <a:lnTo>
                      <a:pt x="1254" y="2034"/>
                    </a:lnTo>
                    <a:lnTo>
                      <a:pt x="1266" y="2036"/>
                    </a:lnTo>
                    <a:lnTo>
                      <a:pt x="1280" y="2038"/>
                    </a:lnTo>
                    <a:lnTo>
                      <a:pt x="1291" y="2040"/>
                    </a:lnTo>
                    <a:lnTo>
                      <a:pt x="1302" y="2042"/>
                    </a:lnTo>
                    <a:lnTo>
                      <a:pt x="1311" y="2044"/>
                    </a:lnTo>
                    <a:lnTo>
                      <a:pt x="1322" y="2044"/>
                    </a:lnTo>
                    <a:lnTo>
                      <a:pt x="1330" y="2046"/>
                    </a:lnTo>
                    <a:lnTo>
                      <a:pt x="1339" y="2048"/>
                    </a:lnTo>
                    <a:lnTo>
                      <a:pt x="1350" y="2049"/>
                    </a:lnTo>
                    <a:lnTo>
                      <a:pt x="1362" y="2049"/>
                    </a:lnTo>
                    <a:lnTo>
                      <a:pt x="1374" y="2051"/>
                    </a:lnTo>
                    <a:lnTo>
                      <a:pt x="1387" y="2052"/>
                    </a:lnTo>
                    <a:lnTo>
                      <a:pt x="1400" y="2054"/>
                    </a:lnTo>
                    <a:lnTo>
                      <a:pt x="1414" y="2054"/>
                    </a:lnTo>
                    <a:lnTo>
                      <a:pt x="1427" y="2056"/>
                    </a:lnTo>
                    <a:lnTo>
                      <a:pt x="1441" y="2056"/>
                    </a:lnTo>
                    <a:lnTo>
                      <a:pt x="1454" y="2057"/>
                    </a:lnTo>
                    <a:lnTo>
                      <a:pt x="1468" y="2057"/>
                    </a:lnTo>
                    <a:lnTo>
                      <a:pt x="1480" y="2059"/>
                    </a:lnTo>
                    <a:lnTo>
                      <a:pt x="1494" y="2059"/>
                    </a:lnTo>
                    <a:lnTo>
                      <a:pt x="1505" y="2060"/>
                    </a:lnTo>
                    <a:lnTo>
                      <a:pt x="1516" y="2060"/>
                    </a:lnTo>
                    <a:lnTo>
                      <a:pt x="1526" y="2062"/>
                    </a:lnTo>
                    <a:lnTo>
                      <a:pt x="1538" y="2062"/>
                    </a:lnTo>
                    <a:lnTo>
                      <a:pt x="1550" y="2062"/>
                    </a:lnTo>
                    <a:lnTo>
                      <a:pt x="1563" y="2062"/>
                    </a:lnTo>
                    <a:lnTo>
                      <a:pt x="1576" y="2064"/>
                    </a:lnTo>
                    <a:lnTo>
                      <a:pt x="1590" y="2064"/>
                    </a:lnTo>
                    <a:lnTo>
                      <a:pt x="1603" y="2064"/>
                    </a:lnTo>
                    <a:lnTo>
                      <a:pt x="1618" y="2064"/>
                    </a:lnTo>
                    <a:lnTo>
                      <a:pt x="1631" y="2066"/>
                    </a:lnTo>
                    <a:lnTo>
                      <a:pt x="1644" y="2066"/>
                    </a:lnTo>
                    <a:lnTo>
                      <a:pt x="1657" y="2066"/>
                    </a:lnTo>
                    <a:lnTo>
                      <a:pt x="1670" y="2066"/>
                    </a:lnTo>
                    <a:lnTo>
                      <a:pt x="1681" y="2066"/>
                    </a:lnTo>
                    <a:lnTo>
                      <a:pt x="1692" y="2066"/>
                    </a:lnTo>
                    <a:lnTo>
                      <a:pt x="1702" y="2066"/>
                    </a:lnTo>
                    <a:lnTo>
                      <a:pt x="1713" y="2066"/>
                    </a:lnTo>
                    <a:lnTo>
                      <a:pt x="1719" y="2066"/>
                    </a:lnTo>
                    <a:lnTo>
                      <a:pt x="1725" y="2066"/>
                    </a:lnTo>
                    <a:lnTo>
                      <a:pt x="1728" y="2066"/>
                    </a:lnTo>
                    <a:lnTo>
                      <a:pt x="1732" y="2066"/>
                    </a:lnTo>
                    <a:lnTo>
                      <a:pt x="1734" y="2066"/>
                    </a:lnTo>
                    <a:lnTo>
                      <a:pt x="1736" y="2066"/>
                    </a:lnTo>
                    <a:lnTo>
                      <a:pt x="1738" y="2066"/>
                    </a:lnTo>
                    <a:lnTo>
                      <a:pt x="1739" y="2066"/>
                    </a:lnTo>
                    <a:lnTo>
                      <a:pt x="1741" y="2066"/>
                    </a:lnTo>
                    <a:lnTo>
                      <a:pt x="1744" y="2066"/>
                    </a:lnTo>
                    <a:lnTo>
                      <a:pt x="1749" y="2066"/>
                    </a:lnTo>
                    <a:lnTo>
                      <a:pt x="1755" y="2066"/>
                    </a:lnTo>
                    <a:lnTo>
                      <a:pt x="1762" y="2066"/>
                    </a:lnTo>
                    <a:lnTo>
                      <a:pt x="1772" y="2066"/>
                    </a:lnTo>
                    <a:lnTo>
                      <a:pt x="1784" y="2066"/>
                    </a:lnTo>
                    <a:lnTo>
                      <a:pt x="1800" y="2066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2518920" y="2424960"/>
                <a:ext cx="3416040" cy="3340080"/>
              </a:xfrm>
              <a:custGeom>
                <a:avLst/>
                <a:gdLst/>
                <a:ahLst/>
                <a:rect l="l" t="t" r="r" b="b"/>
                <a:pathLst>
                  <a:path w="2152" h="2104">
                    <a:moveTo>
                      <a:pt x="0" y="0"/>
                    </a:moveTo>
                    <a:lnTo>
                      <a:pt x="3" y="18"/>
                    </a:lnTo>
                    <a:lnTo>
                      <a:pt x="5" y="33"/>
                    </a:lnTo>
                    <a:lnTo>
                      <a:pt x="7" y="46"/>
                    </a:lnTo>
                    <a:lnTo>
                      <a:pt x="10" y="54"/>
                    </a:lnTo>
                    <a:lnTo>
                      <a:pt x="10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4" y="75"/>
                    </a:lnTo>
                    <a:lnTo>
                      <a:pt x="14" y="77"/>
                    </a:lnTo>
                    <a:lnTo>
                      <a:pt x="14" y="79"/>
                    </a:lnTo>
                    <a:lnTo>
                      <a:pt x="15" y="81"/>
                    </a:lnTo>
                    <a:lnTo>
                      <a:pt x="15" y="86"/>
                    </a:lnTo>
                    <a:lnTo>
                      <a:pt x="17" y="90"/>
                    </a:lnTo>
                    <a:lnTo>
                      <a:pt x="19" y="97"/>
                    </a:lnTo>
                    <a:lnTo>
                      <a:pt x="21" y="105"/>
                    </a:lnTo>
                    <a:lnTo>
                      <a:pt x="22" y="118"/>
                    </a:lnTo>
                    <a:lnTo>
                      <a:pt x="25" y="132"/>
                    </a:lnTo>
                    <a:lnTo>
                      <a:pt x="29" y="150"/>
                    </a:lnTo>
                    <a:lnTo>
                      <a:pt x="35" y="169"/>
                    </a:lnTo>
                    <a:lnTo>
                      <a:pt x="40" y="192"/>
                    </a:lnTo>
                    <a:lnTo>
                      <a:pt x="46" y="215"/>
                    </a:lnTo>
                    <a:lnTo>
                      <a:pt x="53" y="240"/>
                    </a:lnTo>
                    <a:lnTo>
                      <a:pt x="61" y="266"/>
                    </a:lnTo>
                    <a:lnTo>
                      <a:pt x="69" y="294"/>
                    </a:lnTo>
                    <a:lnTo>
                      <a:pt x="77" y="322"/>
                    </a:lnTo>
                    <a:lnTo>
                      <a:pt x="84" y="351"/>
                    </a:lnTo>
                    <a:lnTo>
                      <a:pt x="93" y="379"/>
                    </a:lnTo>
                    <a:lnTo>
                      <a:pt x="101" y="408"/>
                    </a:lnTo>
                    <a:lnTo>
                      <a:pt x="110" y="436"/>
                    </a:lnTo>
                    <a:lnTo>
                      <a:pt x="119" y="464"/>
                    </a:lnTo>
                    <a:lnTo>
                      <a:pt x="128" y="489"/>
                    </a:lnTo>
                    <a:lnTo>
                      <a:pt x="135" y="517"/>
                    </a:lnTo>
                    <a:lnTo>
                      <a:pt x="144" y="545"/>
                    </a:lnTo>
                    <a:lnTo>
                      <a:pt x="153" y="575"/>
                    </a:lnTo>
                    <a:lnTo>
                      <a:pt x="164" y="604"/>
                    </a:lnTo>
                    <a:lnTo>
                      <a:pt x="173" y="635"/>
                    </a:lnTo>
                    <a:lnTo>
                      <a:pt x="185" y="665"/>
                    </a:lnTo>
                    <a:lnTo>
                      <a:pt x="196" y="695"/>
                    </a:lnTo>
                    <a:lnTo>
                      <a:pt x="207" y="724"/>
                    </a:lnTo>
                    <a:lnTo>
                      <a:pt x="217" y="754"/>
                    </a:lnTo>
                    <a:lnTo>
                      <a:pt x="228" y="781"/>
                    </a:lnTo>
                    <a:lnTo>
                      <a:pt x="238" y="808"/>
                    </a:lnTo>
                    <a:lnTo>
                      <a:pt x="248" y="831"/>
                    </a:lnTo>
                    <a:lnTo>
                      <a:pt x="257" y="854"/>
                    </a:lnTo>
                    <a:lnTo>
                      <a:pt x="266" y="874"/>
                    </a:lnTo>
                    <a:lnTo>
                      <a:pt x="274" y="892"/>
                    </a:lnTo>
                    <a:lnTo>
                      <a:pt x="282" y="905"/>
                    </a:lnTo>
                    <a:lnTo>
                      <a:pt x="287" y="919"/>
                    </a:lnTo>
                    <a:lnTo>
                      <a:pt x="295" y="935"/>
                    </a:lnTo>
                    <a:lnTo>
                      <a:pt x="303" y="953"/>
                    </a:lnTo>
                    <a:lnTo>
                      <a:pt x="313" y="971"/>
                    </a:lnTo>
                    <a:lnTo>
                      <a:pt x="322" y="992"/>
                    </a:lnTo>
                    <a:lnTo>
                      <a:pt x="333" y="1012"/>
                    </a:lnTo>
                    <a:lnTo>
                      <a:pt x="344" y="1034"/>
                    </a:lnTo>
                    <a:lnTo>
                      <a:pt x="356" y="1055"/>
                    </a:lnTo>
                    <a:lnTo>
                      <a:pt x="367" y="1077"/>
                    </a:lnTo>
                    <a:lnTo>
                      <a:pt x="379" y="1100"/>
                    </a:lnTo>
                    <a:lnTo>
                      <a:pt x="390" y="1122"/>
                    </a:lnTo>
                    <a:lnTo>
                      <a:pt x="402" y="1143"/>
                    </a:lnTo>
                    <a:lnTo>
                      <a:pt x="412" y="1164"/>
                    </a:lnTo>
                    <a:lnTo>
                      <a:pt x="424" y="1184"/>
                    </a:lnTo>
                    <a:lnTo>
                      <a:pt x="433" y="1203"/>
                    </a:lnTo>
                    <a:lnTo>
                      <a:pt x="444" y="1220"/>
                    </a:lnTo>
                    <a:lnTo>
                      <a:pt x="453" y="1238"/>
                    </a:lnTo>
                    <a:lnTo>
                      <a:pt x="462" y="1257"/>
                    </a:lnTo>
                    <a:lnTo>
                      <a:pt x="472" y="1277"/>
                    </a:lnTo>
                    <a:lnTo>
                      <a:pt x="483" y="1296"/>
                    </a:lnTo>
                    <a:lnTo>
                      <a:pt x="495" y="1317"/>
                    </a:lnTo>
                    <a:lnTo>
                      <a:pt x="506" y="1338"/>
                    </a:lnTo>
                    <a:lnTo>
                      <a:pt x="517" y="1358"/>
                    </a:lnTo>
                    <a:lnTo>
                      <a:pt x="529" y="1379"/>
                    </a:lnTo>
                    <a:lnTo>
                      <a:pt x="539" y="1400"/>
                    </a:lnTo>
                    <a:lnTo>
                      <a:pt x="550" y="1420"/>
                    </a:lnTo>
                    <a:lnTo>
                      <a:pt x="560" y="1439"/>
                    </a:lnTo>
                    <a:lnTo>
                      <a:pt x="571" y="1456"/>
                    </a:lnTo>
                    <a:lnTo>
                      <a:pt x="580" y="1474"/>
                    </a:lnTo>
                    <a:lnTo>
                      <a:pt x="589" y="1489"/>
                    </a:lnTo>
                    <a:lnTo>
                      <a:pt x="597" y="1503"/>
                    </a:lnTo>
                    <a:lnTo>
                      <a:pt x="605" y="1513"/>
                    </a:lnTo>
                    <a:lnTo>
                      <a:pt x="611" y="1526"/>
                    </a:lnTo>
                    <a:lnTo>
                      <a:pt x="618" y="1538"/>
                    </a:lnTo>
                    <a:lnTo>
                      <a:pt x="627" y="1553"/>
                    </a:lnTo>
                    <a:lnTo>
                      <a:pt x="637" y="1566"/>
                    </a:lnTo>
                    <a:lnTo>
                      <a:pt x="646" y="1581"/>
                    </a:lnTo>
                    <a:lnTo>
                      <a:pt x="658" y="1596"/>
                    </a:lnTo>
                    <a:lnTo>
                      <a:pt x="669" y="1612"/>
                    </a:lnTo>
                    <a:lnTo>
                      <a:pt x="682" y="1628"/>
                    </a:lnTo>
                    <a:lnTo>
                      <a:pt x="693" y="1644"/>
                    </a:lnTo>
                    <a:lnTo>
                      <a:pt x="706" y="1659"/>
                    </a:lnTo>
                    <a:lnTo>
                      <a:pt x="717" y="1675"/>
                    </a:lnTo>
                    <a:lnTo>
                      <a:pt x="730" y="1689"/>
                    </a:lnTo>
                    <a:lnTo>
                      <a:pt x="741" y="1704"/>
                    </a:lnTo>
                    <a:lnTo>
                      <a:pt x="753" y="1717"/>
                    </a:lnTo>
                    <a:lnTo>
                      <a:pt x="764" y="1729"/>
                    </a:lnTo>
                    <a:lnTo>
                      <a:pt x="775" y="1739"/>
                    </a:lnTo>
                    <a:lnTo>
                      <a:pt x="785" y="1750"/>
                    </a:lnTo>
                    <a:lnTo>
                      <a:pt x="797" y="1762"/>
                    </a:lnTo>
                    <a:lnTo>
                      <a:pt x="809" y="1775"/>
                    </a:lnTo>
                    <a:lnTo>
                      <a:pt x="822" y="1786"/>
                    </a:lnTo>
                    <a:lnTo>
                      <a:pt x="835" y="1799"/>
                    </a:lnTo>
                    <a:lnTo>
                      <a:pt x="850" y="1812"/>
                    </a:lnTo>
                    <a:lnTo>
                      <a:pt x="864" y="1825"/>
                    </a:lnTo>
                    <a:lnTo>
                      <a:pt x="879" y="1836"/>
                    </a:lnTo>
                    <a:lnTo>
                      <a:pt x="892" y="1849"/>
                    </a:lnTo>
                    <a:lnTo>
                      <a:pt x="907" y="1861"/>
                    </a:lnTo>
                    <a:lnTo>
                      <a:pt x="921" y="1872"/>
                    </a:lnTo>
                    <a:lnTo>
                      <a:pt x="935" y="1882"/>
                    </a:lnTo>
                    <a:lnTo>
                      <a:pt x="948" y="1892"/>
                    </a:lnTo>
                    <a:lnTo>
                      <a:pt x="960" y="1901"/>
                    </a:lnTo>
                    <a:lnTo>
                      <a:pt x="971" y="1909"/>
                    </a:lnTo>
                    <a:lnTo>
                      <a:pt x="983" y="1914"/>
                    </a:lnTo>
                    <a:lnTo>
                      <a:pt x="992" y="1922"/>
                    </a:lnTo>
                    <a:lnTo>
                      <a:pt x="1001" y="1928"/>
                    </a:lnTo>
                    <a:lnTo>
                      <a:pt x="1011" y="1934"/>
                    </a:lnTo>
                    <a:lnTo>
                      <a:pt x="1022" y="1940"/>
                    </a:lnTo>
                    <a:lnTo>
                      <a:pt x="1031" y="1948"/>
                    </a:lnTo>
                    <a:lnTo>
                      <a:pt x="1042" y="1953"/>
                    </a:lnTo>
                    <a:lnTo>
                      <a:pt x="1051" y="1960"/>
                    </a:lnTo>
                    <a:lnTo>
                      <a:pt x="1062" y="1966"/>
                    </a:lnTo>
                    <a:lnTo>
                      <a:pt x="1070" y="1972"/>
                    </a:lnTo>
                    <a:lnTo>
                      <a:pt x="1079" y="1978"/>
                    </a:lnTo>
                    <a:lnTo>
                      <a:pt x="1087" y="1983"/>
                    </a:lnTo>
                    <a:lnTo>
                      <a:pt x="1096" y="1988"/>
                    </a:lnTo>
                    <a:lnTo>
                      <a:pt x="1103" y="1992"/>
                    </a:lnTo>
                    <a:lnTo>
                      <a:pt x="1109" y="1996"/>
                    </a:lnTo>
                    <a:lnTo>
                      <a:pt x="1114" y="1998"/>
                    </a:lnTo>
                    <a:lnTo>
                      <a:pt x="1119" y="2000"/>
                    </a:lnTo>
                    <a:lnTo>
                      <a:pt x="1123" y="2003"/>
                    </a:lnTo>
                    <a:lnTo>
                      <a:pt x="1126" y="2005"/>
                    </a:lnTo>
                    <a:lnTo>
                      <a:pt x="1131" y="2008"/>
                    </a:lnTo>
                    <a:lnTo>
                      <a:pt x="1137" y="2010"/>
                    </a:lnTo>
                    <a:lnTo>
                      <a:pt x="1144" y="2013"/>
                    </a:lnTo>
                    <a:lnTo>
                      <a:pt x="1151" y="2015"/>
                    </a:lnTo>
                    <a:lnTo>
                      <a:pt x="1159" y="2019"/>
                    </a:lnTo>
                    <a:lnTo>
                      <a:pt x="1167" y="2021"/>
                    </a:lnTo>
                    <a:lnTo>
                      <a:pt x="1174" y="2024"/>
                    </a:lnTo>
                    <a:lnTo>
                      <a:pt x="1182" y="2027"/>
                    </a:lnTo>
                    <a:lnTo>
                      <a:pt x="1190" y="2031"/>
                    </a:lnTo>
                    <a:lnTo>
                      <a:pt x="1199" y="2032"/>
                    </a:lnTo>
                    <a:lnTo>
                      <a:pt x="1207" y="2036"/>
                    </a:lnTo>
                    <a:lnTo>
                      <a:pt x="1215" y="2038"/>
                    </a:lnTo>
                    <a:lnTo>
                      <a:pt x="1223" y="2039"/>
                    </a:lnTo>
                    <a:lnTo>
                      <a:pt x="1232" y="2041"/>
                    </a:lnTo>
                    <a:lnTo>
                      <a:pt x="1239" y="2045"/>
                    </a:lnTo>
                    <a:lnTo>
                      <a:pt x="1247" y="2047"/>
                    </a:lnTo>
                    <a:lnTo>
                      <a:pt x="1256" y="2049"/>
                    </a:lnTo>
                    <a:lnTo>
                      <a:pt x="1267" y="2051"/>
                    </a:lnTo>
                    <a:lnTo>
                      <a:pt x="1279" y="2055"/>
                    </a:lnTo>
                    <a:lnTo>
                      <a:pt x="1290" y="2057"/>
                    </a:lnTo>
                    <a:lnTo>
                      <a:pt x="1303" y="2060"/>
                    </a:lnTo>
                    <a:lnTo>
                      <a:pt x="1317" y="2062"/>
                    </a:lnTo>
                    <a:lnTo>
                      <a:pt x="1330" y="2066"/>
                    </a:lnTo>
                    <a:lnTo>
                      <a:pt x="1343" y="2068"/>
                    </a:lnTo>
                    <a:lnTo>
                      <a:pt x="1357" y="2070"/>
                    </a:lnTo>
                    <a:lnTo>
                      <a:pt x="1371" y="2072"/>
                    </a:lnTo>
                    <a:lnTo>
                      <a:pt x="1383" y="2075"/>
                    </a:lnTo>
                    <a:lnTo>
                      <a:pt x="1397" y="2077"/>
                    </a:lnTo>
                    <a:lnTo>
                      <a:pt x="1408" y="2079"/>
                    </a:lnTo>
                    <a:lnTo>
                      <a:pt x="1421" y="2080"/>
                    </a:lnTo>
                    <a:lnTo>
                      <a:pt x="1431" y="2082"/>
                    </a:lnTo>
                    <a:lnTo>
                      <a:pt x="1443" y="2084"/>
                    </a:lnTo>
                    <a:lnTo>
                      <a:pt x="1456" y="2086"/>
                    </a:lnTo>
                    <a:lnTo>
                      <a:pt x="1470" y="2088"/>
                    </a:lnTo>
                    <a:lnTo>
                      <a:pt x="1484" y="2090"/>
                    </a:lnTo>
                    <a:lnTo>
                      <a:pt x="1499" y="2092"/>
                    </a:lnTo>
                    <a:lnTo>
                      <a:pt x="1514" y="2094"/>
                    </a:lnTo>
                    <a:lnTo>
                      <a:pt x="1529" y="2095"/>
                    </a:lnTo>
                    <a:lnTo>
                      <a:pt x="1542" y="2097"/>
                    </a:lnTo>
                    <a:lnTo>
                      <a:pt x="1557" y="2098"/>
                    </a:lnTo>
                    <a:lnTo>
                      <a:pt x="1571" y="2100"/>
                    </a:lnTo>
                    <a:lnTo>
                      <a:pt x="1585" y="2100"/>
                    </a:lnTo>
                    <a:lnTo>
                      <a:pt x="1597" y="2102"/>
                    </a:lnTo>
                    <a:lnTo>
                      <a:pt x="1609" y="2102"/>
                    </a:lnTo>
                    <a:lnTo>
                      <a:pt x="1620" y="2102"/>
                    </a:lnTo>
                    <a:lnTo>
                      <a:pt x="1631" y="2102"/>
                    </a:lnTo>
                    <a:lnTo>
                      <a:pt x="1639" y="2103"/>
                    </a:lnTo>
                    <a:lnTo>
                      <a:pt x="1650" y="2103"/>
                    </a:lnTo>
                    <a:lnTo>
                      <a:pt x="1662" y="2103"/>
                    </a:lnTo>
                    <a:lnTo>
                      <a:pt x="1675" y="2103"/>
                    </a:lnTo>
                    <a:lnTo>
                      <a:pt x="1689" y="2103"/>
                    </a:lnTo>
                    <a:lnTo>
                      <a:pt x="1703" y="2103"/>
                    </a:lnTo>
                    <a:lnTo>
                      <a:pt x="1718" y="2103"/>
                    </a:lnTo>
                    <a:lnTo>
                      <a:pt x="1733" y="2103"/>
                    </a:lnTo>
                    <a:lnTo>
                      <a:pt x="1748" y="2103"/>
                    </a:lnTo>
                    <a:lnTo>
                      <a:pt x="1763" y="2103"/>
                    </a:lnTo>
                    <a:lnTo>
                      <a:pt x="1778" y="2103"/>
                    </a:lnTo>
                    <a:lnTo>
                      <a:pt x="1793" y="2103"/>
                    </a:lnTo>
                    <a:lnTo>
                      <a:pt x="1806" y="2103"/>
                    </a:lnTo>
                    <a:lnTo>
                      <a:pt x="1821" y="2102"/>
                    </a:lnTo>
                    <a:lnTo>
                      <a:pt x="1833" y="2102"/>
                    </a:lnTo>
                    <a:lnTo>
                      <a:pt x="1846" y="2100"/>
                    </a:lnTo>
                    <a:lnTo>
                      <a:pt x="1856" y="2100"/>
                    </a:lnTo>
                    <a:lnTo>
                      <a:pt x="1868" y="2100"/>
                    </a:lnTo>
                    <a:lnTo>
                      <a:pt x="1881" y="2100"/>
                    </a:lnTo>
                    <a:lnTo>
                      <a:pt x="1896" y="2099"/>
                    </a:lnTo>
                    <a:lnTo>
                      <a:pt x="1909" y="2099"/>
                    </a:lnTo>
                    <a:lnTo>
                      <a:pt x="1924" y="2097"/>
                    </a:lnTo>
                    <a:lnTo>
                      <a:pt x="1939" y="2097"/>
                    </a:lnTo>
                    <a:lnTo>
                      <a:pt x="1955" y="2096"/>
                    </a:lnTo>
                    <a:lnTo>
                      <a:pt x="1969" y="2096"/>
                    </a:lnTo>
                    <a:lnTo>
                      <a:pt x="1984" y="2094"/>
                    </a:lnTo>
                    <a:lnTo>
                      <a:pt x="1997" y="2094"/>
                    </a:lnTo>
                    <a:lnTo>
                      <a:pt x="2012" y="2092"/>
                    </a:lnTo>
                    <a:lnTo>
                      <a:pt x="2023" y="2092"/>
                    </a:lnTo>
                    <a:lnTo>
                      <a:pt x="2036" y="2090"/>
                    </a:lnTo>
                    <a:lnTo>
                      <a:pt x="2047" y="2090"/>
                    </a:lnTo>
                    <a:lnTo>
                      <a:pt x="2058" y="2088"/>
                    </a:lnTo>
                    <a:lnTo>
                      <a:pt x="2065" y="2088"/>
                    </a:lnTo>
                    <a:lnTo>
                      <a:pt x="2070" y="2088"/>
                    </a:lnTo>
                    <a:lnTo>
                      <a:pt x="2074" y="2088"/>
                    </a:lnTo>
                    <a:lnTo>
                      <a:pt x="2078" y="2087"/>
                    </a:lnTo>
                    <a:lnTo>
                      <a:pt x="2080" y="2087"/>
                    </a:lnTo>
                    <a:lnTo>
                      <a:pt x="2081" y="2087"/>
                    </a:lnTo>
                    <a:lnTo>
                      <a:pt x="2083" y="2087"/>
                    </a:lnTo>
                    <a:lnTo>
                      <a:pt x="2086" y="2086"/>
                    </a:lnTo>
                    <a:lnTo>
                      <a:pt x="2088" y="2086"/>
                    </a:lnTo>
                    <a:lnTo>
                      <a:pt x="2091" y="2086"/>
                    </a:lnTo>
                    <a:lnTo>
                      <a:pt x="2096" y="2086"/>
                    </a:lnTo>
                    <a:lnTo>
                      <a:pt x="2103" y="2085"/>
                    </a:lnTo>
                    <a:lnTo>
                      <a:pt x="2111" y="2085"/>
                    </a:lnTo>
                    <a:lnTo>
                      <a:pt x="2121" y="2083"/>
                    </a:lnTo>
                    <a:lnTo>
                      <a:pt x="2135" y="2082"/>
                    </a:lnTo>
                    <a:lnTo>
                      <a:pt x="2151" y="2080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2520360" y="3834360"/>
                <a:ext cx="2498760" cy="2870280"/>
              </a:xfrm>
              <a:custGeom>
                <a:avLst/>
                <a:gdLst/>
                <a:ahLst/>
                <a:rect l="l" t="t" r="r" b="b"/>
                <a:pathLst>
                  <a:path w="1574" h="1808">
                    <a:moveTo>
                      <a:pt x="0" y="0"/>
                    </a:moveTo>
                    <a:lnTo>
                      <a:pt x="0" y="16"/>
                    </a:lnTo>
                    <a:lnTo>
                      <a:pt x="2" y="28"/>
                    </a:lnTo>
                    <a:lnTo>
                      <a:pt x="2" y="38"/>
                    </a:lnTo>
                    <a:lnTo>
                      <a:pt x="4" y="45"/>
                    </a:lnTo>
                    <a:lnTo>
                      <a:pt x="4" y="51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6" y="60"/>
                    </a:lnTo>
                    <a:lnTo>
                      <a:pt x="6" y="62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7" y="74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0" y="96"/>
                    </a:lnTo>
                    <a:lnTo>
                      <a:pt x="11" y="108"/>
                    </a:lnTo>
                    <a:lnTo>
                      <a:pt x="12" y="122"/>
                    </a:lnTo>
                    <a:lnTo>
                      <a:pt x="15" y="137"/>
                    </a:lnTo>
                    <a:lnTo>
                      <a:pt x="17" y="155"/>
                    </a:lnTo>
                    <a:lnTo>
                      <a:pt x="21" y="175"/>
                    </a:lnTo>
                    <a:lnTo>
                      <a:pt x="24" y="195"/>
                    </a:lnTo>
                    <a:lnTo>
                      <a:pt x="29" y="216"/>
                    </a:lnTo>
                    <a:lnTo>
                      <a:pt x="32" y="240"/>
                    </a:lnTo>
                    <a:lnTo>
                      <a:pt x="38" y="262"/>
                    </a:lnTo>
                    <a:lnTo>
                      <a:pt x="41" y="286"/>
                    </a:lnTo>
                    <a:lnTo>
                      <a:pt x="47" y="308"/>
                    </a:lnTo>
                    <a:lnTo>
                      <a:pt x="51" y="332"/>
                    </a:lnTo>
                    <a:lnTo>
                      <a:pt x="57" y="355"/>
                    </a:lnTo>
                    <a:lnTo>
                      <a:pt x="62" y="378"/>
                    </a:lnTo>
                    <a:lnTo>
                      <a:pt x="68" y="399"/>
                    </a:lnTo>
                    <a:lnTo>
                      <a:pt x="72" y="422"/>
                    </a:lnTo>
                    <a:lnTo>
                      <a:pt x="78" y="444"/>
                    </a:lnTo>
                    <a:lnTo>
                      <a:pt x="83" y="468"/>
                    </a:lnTo>
                    <a:lnTo>
                      <a:pt x="89" y="492"/>
                    </a:lnTo>
                    <a:lnTo>
                      <a:pt x="95" y="518"/>
                    </a:lnTo>
                    <a:lnTo>
                      <a:pt x="102" y="542"/>
                    </a:lnTo>
                    <a:lnTo>
                      <a:pt x="108" y="566"/>
                    </a:lnTo>
                    <a:lnTo>
                      <a:pt x="115" y="590"/>
                    </a:lnTo>
                    <a:lnTo>
                      <a:pt x="120" y="614"/>
                    </a:lnTo>
                    <a:lnTo>
                      <a:pt x="128" y="637"/>
                    </a:lnTo>
                    <a:lnTo>
                      <a:pt x="133" y="659"/>
                    </a:lnTo>
                    <a:lnTo>
                      <a:pt x="140" y="678"/>
                    </a:lnTo>
                    <a:lnTo>
                      <a:pt x="146" y="698"/>
                    </a:lnTo>
                    <a:lnTo>
                      <a:pt x="152" y="714"/>
                    </a:lnTo>
                    <a:lnTo>
                      <a:pt x="157" y="728"/>
                    </a:lnTo>
                    <a:lnTo>
                      <a:pt x="163" y="739"/>
                    </a:lnTo>
                    <a:lnTo>
                      <a:pt x="167" y="752"/>
                    </a:lnTo>
                    <a:lnTo>
                      <a:pt x="172" y="765"/>
                    </a:lnTo>
                    <a:lnTo>
                      <a:pt x="177" y="780"/>
                    </a:lnTo>
                    <a:lnTo>
                      <a:pt x="184" y="795"/>
                    </a:lnTo>
                    <a:lnTo>
                      <a:pt x="190" y="812"/>
                    </a:lnTo>
                    <a:lnTo>
                      <a:pt x="197" y="829"/>
                    </a:lnTo>
                    <a:lnTo>
                      <a:pt x="205" y="848"/>
                    </a:lnTo>
                    <a:lnTo>
                      <a:pt x="212" y="866"/>
                    </a:lnTo>
                    <a:lnTo>
                      <a:pt x="220" y="885"/>
                    </a:lnTo>
                    <a:lnTo>
                      <a:pt x="227" y="904"/>
                    </a:lnTo>
                    <a:lnTo>
                      <a:pt x="235" y="922"/>
                    </a:lnTo>
                    <a:lnTo>
                      <a:pt x="242" y="940"/>
                    </a:lnTo>
                    <a:lnTo>
                      <a:pt x="248" y="958"/>
                    </a:lnTo>
                    <a:lnTo>
                      <a:pt x="256" y="974"/>
                    </a:lnTo>
                    <a:lnTo>
                      <a:pt x="262" y="990"/>
                    </a:lnTo>
                    <a:lnTo>
                      <a:pt x="270" y="1004"/>
                    </a:lnTo>
                    <a:lnTo>
                      <a:pt x="275" y="1020"/>
                    </a:lnTo>
                    <a:lnTo>
                      <a:pt x="282" y="1034"/>
                    </a:lnTo>
                    <a:lnTo>
                      <a:pt x="288" y="1051"/>
                    </a:lnTo>
                    <a:lnTo>
                      <a:pt x="295" y="1068"/>
                    </a:lnTo>
                    <a:lnTo>
                      <a:pt x="303" y="1086"/>
                    </a:lnTo>
                    <a:lnTo>
                      <a:pt x="310" y="1102"/>
                    </a:lnTo>
                    <a:lnTo>
                      <a:pt x="318" y="1120"/>
                    </a:lnTo>
                    <a:lnTo>
                      <a:pt x="326" y="1137"/>
                    </a:lnTo>
                    <a:lnTo>
                      <a:pt x="333" y="1154"/>
                    </a:lnTo>
                    <a:lnTo>
                      <a:pt x="340" y="1171"/>
                    </a:lnTo>
                    <a:lnTo>
                      <a:pt x="347" y="1187"/>
                    </a:lnTo>
                    <a:lnTo>
                      <a:pt x="354" y="1201"/>
                    </a:lnTo>
                    <a:lnTo>
                      <a:pt x="360" y="1216"/>
                    </a:lnTo>
                    <a:lnTo>
                      <a:pt x="366" y="1228"/>
                    </a:lnTo>
                    <a:lnTo>
                      <a:pt x="372" y="1240"/>
                    </a:lnTo>
                    <a:lnTo>
                      <a:pt x="378" y="1248"/>
                    </a:lnTo>
                    <a:lnTo>
                      <a:pt x="381" y="1259"/>
                    </a:lnTo>
                    <a:lnTo>
                      <a:pt x="386" y="1269"/>
                    </a:lnTo>
                    <a:lnTo>
                      <a:pt x="392" y="1281"/>
                    </a:lnTo>
                    <a:lnTo>
                      <a:pt x="400" y="1292"/>
                    </a:lnTo>
                    <a:lnTo>
                      <a:pt x="406" y="1305"/>
                    </a:lnTo>
                    <a:lnTo>
                      <a:pt x="414" y="1318"/>
                    </a:lnTo>
                    <a:lnTo>
                      <a:pt x="421" y="1331"/>
                    </a:lnTo>
                    <a:lnTo>
                      <a:pt x="431" y="1344"/>
                    </a:lnTo>
                    <a:lnTo>
                      <a:pt x="438" y="1357"/>
                    </a:lnTo>
                    <a:lnTo>
                      <a:pt x="448" y="1370"/>
                    </a:lnTo>
                    <a:lnTo>
                      <a:pt x="456" y="1383"/>
                    </a:lnTo>
                    <a:lnTo>
                      <a:pt x="466" y="1395"/>
                    </a:lnTo>
                    <a:lnTo>
                      <a:pt x="473" y="1408"/>
                    </a:lnTo>
                    <a:lnTo>
                      <a:pt x="482" y="1419"/>
                    </a:lnTo>
                    <a:lnTo>
                      <a:pt x="490" y="1429"/>
                    </a:lnTo>
                    <a:lnTo>
                      <a:pt x="499" y="1438"/>
                    </a:lnTo>
                    <a:lnTo>
                      <a:pt x="506" y="1448"/>
                    </a:lnTo>
                    <a:lnTo>
                      <a:pt x="514" y="1458"/>
                    </a:lnTo>
                    <a:lnTo>
                      <a:pt x="523" y="1469"/>
                    </a:lnTo>
                    <a:lnTo>
                      <a:pt x="533" y="1478"/>
                    </a:lnTo>
                    <a:lnTo>
                      <a:pt x="542" y="1490"/>
                    </a:lnTo>
                    <a:lnTo>
                      <a:pt x="553" y="1501"/>
                    </a:lnTo>
                    <a:lnTo>
                      <a:pt x="564" y="1512"/>
                    </a:lnTo>
                    <a:lnTo>
                      <a:pt x="575" y="1522"/>
                    </a:lnTo>
                    <a:lnTo>
                      <a:pt x="584" y="1533"/>
                    </a:lnTo>
                    <a:lnTo>
                      <a:pt x="596" y="1543"/>
                    </a:lnTo>
                    <a:lnTo>
                      <a:pt x="605" y="1553"/>
                    </a:lnTo>
                    <a:lnTo>
                      <a:pt x="617" y="1562"/>
                    </a:lnTo>
                    <a:lnTo>
                      <a:pt x="625" y="1572"/>
                    </a:lnTo>
                    <a:lnTo>
                      <a:pt x="635" y="1579"/>
                    </a:lnTo>
                    <a:lnTo>
                      <a:pt x="643" y="1586"/>
                    </a:lnTo>
                    <a:lnTo>
                      <a:pt x="652" y="1592"/>
                    </a:lnTo>
                    <a:lnTo>
                      <a:pt x="658" y="1599"/>
                    </a:lnTo>
                    <a:lnTo>
                      <a:pt x="666" y="1604"/>
                    </a:lnTo>
                    <a:lnTo>
                      <a:pt x="674" y="1610"/>
                    </a:lnTo>
                    <a:lnTo>
                      <a:pt x="681" y="1616"/>
                    </a:lnTo>
                    <a:lnTo>
                      <a:pt x="688" y="1622"/>
                    </a:lnTo>
                    <a:lnTo>
                      <a:pt x="696" y="1627"/>
                    </a:lnTo>
                    <a:lnTo>
                      <a:pt x="703" y="1633"/>
                    </a:lnTo>
                    <a:lnTo>
                      <a:pt x="712" y="1638"/>
                    </a:lnTo>
                    <a:lnTo>
                      <a:pt x="718" y="1644"/>
                    </a:lnTo>
                    <a:lnTo>
                      <a:pt x="725" y="1650"/>
                    </a:lnTo>
                    <a:lnTo>
                      <a:pt x="731" y="1655"/>
                    </a:lnTo>
                    <a:lnTo>
                      <a:pt x="738" y="1658"/>
                    </a:lnTo>
                    <a:lnTo>
                      <a:pt x="742" y="1662"/>
                    </a:lnTo>
                    <a:lnTo>
                      <a:pt x="747" y="1666"/>
                    </a:lnTo>
                    <a:lnTo>
                      <a:pt x="751" y="1668"/>
                    </a:lnTo>
                    <a:lnTo>
                      <a:pt x="754" y="1669"/>
                    </a:lnTo>
                    <a:lnTo>
                      <a:pt x="756" y="1672"/>
                    </a:lnTo>
                    <a:lnTo>
                      <a:pt x="760" y="1674"/>
                    </a:lnTo>
                    <a:lnTo>
                      <a:pt x="764" y="1677"/>
                    </a:lnTo>
                    <a:lnTo>
                      <a:pt x="769" y="1678"/>
                    </a:lnTo>
                    <a:lnTo>
                      <a:pt x="773" y="1682"/>
                    </a:lnTo>
                    <a:lnTo>
                      <a:pt x="779" y="1684"/>
                    </a:lnTo>
                    <a:lnTo>
                      <a:pt x="784" y="1688"/>
                    </a:lnTo>
                    <a:lnTo>
                      <a:pt x="791" y="1690"/>
                    </a:lnTo>
                    <a:lnTo>
                      <a:pt x="796" y="1694"/>
                    </a:lnTo>
                    <a:lnTo>
                      <a:pt x="802" y="1697"/>
                    </a:lnTo>
                    <a:lnTo>
                      <a:pt x="808" y="1700"/>
                    </a:lnTo>
                    <a:lnTo>
                      <a:pt x="815" y="1702"/>
                    </a:lnTo>
                    <a:lnTo>
                      <a:pt x="821" y="1706"/>
                    </a:lnTo>
                    <a:lnTo>
                      <a:pt x="828" y="1708"/>
                    </a:lnTo>
                    <a:lnTo>
                      <a:pt x="833" y="1710"/>
                    </a:lnTo>
                    <a:lnTo>
                      <a:pt x="840" y="1712"/>
                    </a:lnTo>
                    <a:lnTo>
                      <a:pt x="845" y="1715"/>
                    </a:lnTo>
                    <a:lnTo>
                      <a:pt x="852" y="1717"/>
                    </a:lnTo>
                    <a:lnTo>
                      <a:pt x="859" y="1720"/>
                    </a:lnTo>
                    <a:lnTo>
                      <a:pt x="868" y="1722"/>
                    </a:lnTo>
                    <a:lnTo>
                      <a:pt x="877" y="1726"/>
                    </a:lnTo>
                    <a:lnTo>
                      <a:pt x="887" y="1729"/>
                    </a:lnTo>
                    <a:lnTo>
                      <a:pt x="897" y="1733"/>
                    </a:lnTo>
                    <a:lnTo>
                      <a:pt x="908" y="1735"/>
                    </a:lnTo>
                    <a:lnTo>
                      <a:pt x="917" y="1738"/>
                    </a:lnTo>
                    <a:lnTo>
                      <a:pt x="929" y="1742"/>
                    </a:lnTo>
                    <a:lnTo>
                      <a:pt x="939" y="1745"/>
                    </a:lnTo>
                    <a:lnTo>
                      <a:pt x="950" y="1747"/>
                    </a:lnTo>
                    <a:lnTo>
                      <a:pt x="959" y="1751"/>
                    </a:lnTo>
                    <a:lnTo>
                      <a:pt x="970" y="1753"/>
                    </a:lnTo>
                    <a:lnTo>
                      <a:pt x="980" y="1755"/>
                    </a:lnTo>
                    <a:lnTo>
                      <a:pt x="990" y="1757"/>
                    </a:lnTo>
                    <a:lnTo>
                      <a:pt x="997" y="1761"/>
                    </a:lnTo>
                    <a:lnTo>
                      <a:pt x="1007" y="1763"/>
                    </a:lnTo>
                    <a:lnTo>
                      <a:pt x="1017" y="1765"/>
                    </a:lnTo>
                    <a:lnTo>
                      <a:pt x="1028" y="1766"/>
                    </a:lnTo>
                    <a:lnTo>
                      <a:pt x="1039" y="1770"/>
                    </a:lnTo>
                    <a:lnTo>
                      <a:pt x="1050" y="1772"/>
                    </a:lnTo>
                    <a:lnTo>
                      <a:pt x="1062" y="1773"/>
                    </a:lnTo>
                    <a:lnTo>
                      <a:pt x="1075" y="1775"/>
                    </a:lnTo>
                    <a:lnTo>
                      <a:pt x="1086" y="1778"/>
                    </a:lnTo>
                    <a:lnTo>
                      <a:pt x="1097" y="1780"/>
                    </a:lnTo>
                    <a:lnTo>
                      <a:pt x="1108" y="1782"/>
                    </a:lnTo>
                    <a:lnTo>
                      <a:pt x="1119" y="1783"/>
                    </a:lnTo>
                    <a:lnTo>
                      <a:pt x="1128" y="1785"/>
                    </a:lnTo>
                    <a:lnTo>
                      <a:pt x="1139" y="1786"/>
                    </a:lnTo>
                    <a:lnTo>
                      <a:pt x="1148" y="1788"/>
                    </a:lnTo>
                    <a:lnTo>
                      <a:pt x="1156" y="1788"/>
                    </a:lnTo>
                    <a:lnTo>
                      <a:pt x="1163" y="1790"/>
                    </a:lnTo>
                    <a:lnTo>
                      <a:pt x="1171" y="1790"/>
                    </a:lnTo>
                    <a:lnTo>
                      <a:pt x="1181" y="1792"/>
                    </a:lnTo>
                    <a:lnTo>
                      <a:pt x="1191" y="1792"/>
                    </a:lnTo>
                    <a:lnTo>
                      <a:pt x="1202" y="1794"/>
                    </a:lnTo>
                    <a:lnTo>
                      <a:pt x="1213" y="1794"/>
                    </a:lnTo>
                    <a:lnTo>
                      <a:pt x="1224" y="1796"/>
                    </a:lnTo>
                    <a:lnTo>
                      <a:pt x="1238" y="1796"/>
                    </a:lnTo>
                    <a:lnTo>
                      <a:pt x="1249" y="1798"/>
                    </a:lnTo>
                    <a:lnTo>
                      <a:pt x="1260" y="1798"/>
                    </a:lnTo>
                    <a:lnTo>
                      <a:pt x="1272" y="1800"/>
                    </a:lnTo>
                    <a:lnTo>
                      <a:pt x="1285" y="1800"/>
                    </a:lnTo>
                    <a:lnTo>
                      <a:pt x="1296" y="1801"/>
                    </a:lnTo>
                    <a:lnTo>
                      <a:pt x="1307" y="1801"/>
                    </a:lnTo>
                    <a:lnTo>
                      <a:pt x="1317" y="1801"/>
                    </a:lnTo>
                    <a:lnTo>
                      <a:pt x="1327" y="1801"/>
                    </a:lnTo>
                    <a:lnTo>
                      <a:pt x="1336" y="1803"/>
                    </a:lnTo>
                    <a:lnTo>
                      <a:pt x="1346" y="1803"/>
                    </a:lnTo>
                    <a:lnTo>
                      <a:pt x="1356" y="1804"/>
                    </a:lnTo>
                    <a:lnTo>
                      <a:pt x="1367" y="1804"/>
                    </a:lnTo>
                    <a:lnTo>
                      <a:pt x="1378" y="1806"/>
                    </a:lnTo>
                    <a:lnTo>
                      <a:pt x="1390" y="1806"/>
                    </a:lnTo>
                    <a:lnTo>
                      <a:pt x="1401" y="1806"/>
                    </a:lnTo>
                    <a:lnTo>
                      <a:pt x="1414" y="1806"/>
                    </a:lnTo>
                    <a:lnTo>
                      <a:pt x="1425" y="1807"/>
                    </a:lnTo>
                    <a:lnTo>
                      <a:pt x="1437" y="1807"/>
                    </a:lnTo>
                    <a:lnTo>
                      <a:pt x="1448" y="1807"/>
                    </a:lnTo>
                    <a:lnTo>
                      <a:pt x="1460" y="1807"/>
                    </a:lnTo>
                    <a:lnTo>
                      <a:pt x="1470" y="1807"/>
                    </a:lnTo>
                    <a:lnTo>
                      <a:pt x="1480" y="1807"/>
                    </a:lnTo>
                    <a:lnTo>
                      <a:pt x="1488" y="1807"/>
                    </a:lnTo>
                    <a:lnTo>
                      <a:pt x="1497" y="1807"/>
                    </a:lnTo>
                    <a:lnTo>
                      <a:pt x="1502" y="1807"/>
                    </a:lnTo>
                    <a:lnTo>
                      <a:pt x="1507" y="1807"/>
                    </a:lnTo>
                    <a:lnTo>
                      <a:pt x="1510" y="1807"/>
                    </a:lnTo>
                    <a:lnTo>
                      <a:pt x="1513" y="1807"/>
                    </a:lnTo>
                    <a:lnTo>
                      <a:pt x="1514" y="1807"/>
                    </a:lnTo>
                    <a:lnTo>
                      <a:pt x="1516" y="1807"/>
                    </a:lnTo>
                    <a:lnTo>
                      <a:pt x="1518" y="1807"/>
                    </a:lnTo>
                    <a:lnTo>
                      <a:pt x="1520" y="1807"/>
                    </a:lnTo>
                    <a:lnTo>
                      <a:pt x="1522" y="1807"/>
                    </a:lnTo>
                    <a:lnTo>
                      <a:pt x="1524" y="1807"/>
                    </a:lnTo>
                    <a:lnTo>
                      <a:pt x="1528" y="1807"/>
                    </a:lnTo>
                    <a:lnTo>
                      <a:pt x="1534" y="1807"/>
                    </a:lnTo>
                    <a:lnTo>
                      <a:pt x="1540" y="1807"/>
                    </a:lnTo>
                    <a:lnTo>
                      <a:pt x="1549" y="1807"/>
                    </a:lnTo>
                    <a:lnTo>
                      <a:pt x="1559" y="1807"/>
                    </a:lnTo>
                    <a:lnTo>
                      <a:pt x="1573" y="1807"/>
                    </a:ln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0" name=""/>
            <p:cNvSpPr/>
            <p:nvPr/>
          </p:nvSpPr>
          <p:spPr>
            <a:xfrm>
              <a:off x="3147840" y="1533240"/>
              <a:ext cx="3260880" cy="56293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1212840" y="1466640"/>
              <a:ext cx="712296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66040" y="1466640"/>
              <a:ext cx="0" cy="545436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3206880" y="2050920"/>
              <a:ext cx="70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SzPct val="8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4" name=""/>
            <p:cNvGrpSpPr/>
            <p:nvPr/>
          </p:nvGrpSpPr>
          <p:grpSpPr>
            <a:xfrm>
              <a:off x="1249560" y="1450800"/>
              <a:ext cx="7102440" cy="5486400"/>
              <a:chOff x="1249560" y="1450800"/>
              <a:chExt cx="7102440" cy="5486400"/>
            </a:xfrm>
          </p:grpSpPr>
          <p:sp>
            <p:nvSpPr>
              <p:cNvPr id="1515" name=""/>
              <p:cNvSpPr/>
              <p:nvPr/>
            </p:nvSpPr>
            <p:spPr>
              <a:xfrm flipH="1">
                <a:off x="1249560" y="1450800"/>
                <a:ext cx="7102440" cy="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352000" y="1450800"/>
                <a:ext cx="0" cy="5486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 flipH="1">
              <a:off x="4446360" y="3758760"/>
              <a:ext cx="92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888720" y="2064960"/>
              <a:ext cx="3855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/>
          </p:nvPr>
        </p:nvSpPr>
        <p:spPr>
          <a:xfrm>
            <a:off x="380880" y="-152640"/>
            <a:ext cx="101124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nos da la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Caja de Edgeworth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571840" y="3228840"/>
            <a:ext cx="2841480" cy="3259440"/>
          </a:xfrm>
          <a:custGeom>
            <a:avLst/>
            <a:gdLst/>
            <a:ahLst/>
            <a:rect l="l" t="t" r="r" b="b"/>
            <a:pathLst>
              <a:path w="1790" h="2053">
                <a:moveTo>
                  <a:pt x="1789" y="2052"/>
                </a:moveTo>
                <a:lnTo>
                  <a:pt x="1788" y="2036"/>
                </a:lnTo>
                <a:lnTo>
                  <a:pt x="1786" y="2022"/>
                </a:lnTo>
                <a:lnTo>
                  <a:pt x="1784" y="2012"/>
                </a:lnTo>
                <a:lnTo>
                  <a:pt x="1784" y="2003"/>
                </a:lnTo>
                <a:lnTo>
                  <a:pt x="1782" y="1997"/>
                </a:lnTo>
                <a:lnTo>
                  <a:pt x="1782" y="1992"/>
                </a:lnTo>
                <a:lnTo>
                  <a:pt x="1782" y="1989"/>
                </a:lnTo>
                <a:lnTo>
                  <a:pt x="1782" y="1985"/>
                </a:lnTo>
                <a:lnTo>
                  <a:pt x="1782" y="1983"/>
                </a:lnTo>
                <a:lnTo>
                  <a:pt x="1782" y="1981"/>
                </a:lnTo>
                <a:lnTo>
                  <a:pt x="1782" y="1980"/>
                </a:lnTo>
                <a:lnTo>
                  <a:pt x="1782" y="1977"/>
                </a:lnTo>
                <a:lnTo>
                  <a:pt x="1781" y="1974"/>
                </a:lnTo>
                <a:lnTo>
                  <a:pt x="1781" y="1969"/>
                </a:lnTo>
                <a:lnTo>
                  <a:pt x="1780" y="1963"/>
                </a:lnTo>
                <a:lnTo>
                  <a:pt x="1780" y="1954"/>
                </a:lnTo>
                <a:lnTo>
                  <a:pt x="1778" y="1944"/>
                </a:lnTo>
                <a:lnTo>
                  <a:pt x="1776" y="1931"/>
                </a:lnTo>
                <a:lnTo>
                  <a:pt x="1772" y="1915"/>
                </a:lnTo>
                <a:lnTo>
                  <a:pt x="1770" y="1896"/>
                </a:lnTo>
                <a:lnTo>
                  <a:pt x="1766" y="1877"/>
                </a:lnTo>
                <a:lnTo>
                  <a:pt x="1762" y="1855"/>
                </a:lnTo>
                <a:lnTo>
                  <a:pt x="1758" y="1831"/>
                </a:lnTo>
                <a:lnTo>
                  <a:pt x="1754" y="1806"/>
                </a:lnTo>
                <a:lnTo>
                  <a:pt x="1748" y="1782"/>
                </a:lnTo>
                <a:lnTo>
                  <a:pt x="1743" y="1756"/>
                </a:lnTo>
                <a:lnTo>
                  <a:pt x="1738" y="1729"/>
                </a:lnTo>
                <a:lnTo>
                  <a:pt x="1733" y="1702"/>
                </a:lnTo>
                <a:lnTo>
                  <a:pt x="1728" y="1676"/>
                </a:lnTo>
                <a:lnTo>
                  <a:pt x="1722" y="1649"/>
                </a:lnTo>
                <a:lnTo>
                  <a:pt x="1716" y="1624"/>
                </a:lnTo>
                <a:lnTo>
                  <a:pt x="1712" y="1598"/>
                </a:lnTo>
                <a:lnTo>
                  <a:pt x="1706" y="1574"/>
                </a:lnTo>
                <a:lnTo>
                  <a:pt x="1701" y="1548"/>
                </a:lnTo>
                <a:lnTo>
                  <a:pt x="1693" y="1522"/>
                </a:lnTo>
                <a:lnTo>
                  <a:pt x="1688" y="1493"/>
                </a:lnTo>
                <a:lnTo>
                  <a:pt x="1680" y="1465"/>
                </a:lnTo>
                <a:lnTo>
                  <a:pt x="1673" y="1437"/>
                </a:lnTo>
                <a:lnTo>
                  <a:pt x="1665" y="1409"/>
                </a:lnTo>
                <a:lnTo>
                  <a:pt x="1658" y="1381"/>
                </a:lnTo>
                <a:lnTo>
                  <a:pt x="1651" y="1355"/>
                </a:lnTo>
                <a:lnTo>
                  <a:pt x="1643" y="1329"/>
                </a:lnTo>
                <a:lnTo>
                  <a:pt x="1636" y="1305"/>
                </a:lnTo>
                <a:lnTo>
                  <a:pt x="1629" y="1281"/>
                </a:lnTo>
                <a:lnTo>
                  <a:pt x="1622" y="1260"/>
                </a:lnTo>
                <a:lnTo>
                  <a:pt x="1615" y="1241"/>
                </a:lnTo>
                <a:lnTo>
                  <a:pt x="1610" y="1224"/>
                </a:lnTo>
                <a:lnTo>
                  <a:pt x="1605" y="1210"/>
                </a:lnTo>
                <a:lnTo>
                  <a:pt x="1599" y="1198"/>
                </a:lnTo>
                <a:lnTo>
                  <a:pt x="1594" y="1183"/>
                </a:lnTo>
                <a:lnTo>
                  <a:pt x="1586" y="1167"/>
                </a:lnTo>
                <a:lnTo>
                  <a:pt x="1580" y="1149"/>
                </a:lnTo>
                <a:lnTo>
                  <a:pt x="1571" y="1131"/>
                </a:lnTo>
                <a:lnTo>
                  <a:pt x="1564" y="1111"/>
                </a:lnTo>
                <a:lnTo>
                  <a:pt x="1554" y="1090"/>
                </a:lnTo>
                <a:lnTo>
                  <a:pt x="1547" y="1069"/>
                </a:lnTo>
                <a:lnTo>
                  <a:pt x="1537" y="1048"/>
                </a:lnTo>
                <a:lnTo>
                  <a:pt x="1528" y="1027"/>
                </a:lnTo>
                <a:lnTo>
                  <a:pt x="1519" y="1007"/>
                </a:lnTo>
                <a:lnTo>
                  <a:pt x="1512" y="986"/>
                </a:lnTo>
                <a:lnTo>
                  <a:pt x="1503" y="966"/>
                </a:lnTo>
                <a:lnTo>
                  <a:pt x="1496" y="946"/>
                </a:lnTo>
                <a:lnTo>
                  <a:pt x="1488" y="929"/>
                </a:lnTo>
                <a:lnTo>
                  <a:pt x="1482" y="910"/>
                </a:lnTo>
                <a:lnTo>
                  <a:pt x="1474" y="894"/>
                </a:lnTo>
                <a:lnTo>
                  <a:pt x="1466" y="877"/>
                </a:lnTo>
                <a:lnTo>
                  <a:pt x="1458" y="859"/>
                </a:lnTo>
                <a:lnTo>
                  <a:pt x="1450" y="840"/>
                </a:lnTo>
                <a:lnTo>
                  <a:pt x="1441" y="821"/>
                </a:lnTo>
                <a:lnTo>
                  <a:pt x="1433" y="801"/>
                </a:lnTo>
                <a:lnTo>
                  <a:pt x="1424" y="781"/>
                </a:lnTo>
                <a:lnTo>
                  <a:pt x="1416" y="761"/>
                </a:lnTo>
                <a:lnTo>
                  <a:pt x="1407" y="742"/>
                </a:lnTo>
                <a:lnTo>
                  <a:pt x="1399" y="723"/>
                </a:lnTo>
                <a:lnTo>
                  <a:pt x="1391" y="706"/>
                </a:lnTo>
                <a:lnTo>
                  <a:pt x="1383" y="688"/>
                </a:lnTo>
                <a:lnTo>
                  <a:pt x="1376" y="673"/>
                </a:lnTo>
                <a:lnTo>
                  <a:pt x="1369" y="658"/>
                </a:lnTo>
                <a:lnTo>
                  <a:pt x="1364" y="645"/>
                </a:lnTo>
                <a:lnTo>
                  <a:pt x="1360" y="634"/>
                </a:lnTo>
                <a:lnTo>
                  <a:pt x="1353" y="624"/>
                </a:lnTo>
                <a:lnTo>
                  <a:pt x="1348" y="612"/>
                </a:lnTo>
                <a:lnTo>
                  <a:pt x="1340" y="599"/>
                </a:lnTo>
                <a:lnTo>
                  <a:pt x="1333" y="586"/>
                </a:lnTo>
                <a:lnTo>
                  <a:pt x="1324" y="572"/>
                </a:lnTo>
                <a:lnTo>
                  <a:pt x="1316" y="557"/>
                </a:lnTo>
                <a:lnTo>
                  <a:pt x="1306" y="542"/>
                </a:lnTo>
                <a:lnTo>
                  <a:pt x="1298" y="526"/>
                </a:lnTo>
                <a:lnTo>
                  <a:pt x="1287" y="512"/>
                </a:lnTo>
                <a:lnTo>
                  <a:pt x="1278" y="497"/>
                </a:lnTo>
                <a:lnTo>
                  <a:pt x="1268" y="482"/>
                </a:lnTo>
                <a:lnTo>
                  <a:pt x="1258" y="468"/>
                </a:lnTo>
                <a:lnTo>
                  <a:pt x="1249" y="454"/>
                </a:lnTo>
                <a:lnTo>
                  <a:pt x="1240" y="441"/>
                </a:lnTo>
                <a:lnTo>
                  <a:pt x="1230" y="430"/>
                </a:lnTo>
                <a:lnTo>
                  <a:pt x="1222" y="418"/>
                </a:lnTo>
                <a:lnTo>
                  <a:pt x="1213" y="408"/>
                </a:lnTo>
                <a:lnTo>
                  <a:pt x="1204" y="397"/>
                </a:lnTo>
                <a:lnTo>
                  <a:pt x="1192" y="386"/>
                </a:lnTo>
                <a:lnTo>
                  <a:pt x="1182" y="373"/>
                </a:lnTo>
                <a:lnTo>
                  <a:pt x="1170" y="362"/>
                </a:lnTo>
                <a:lnTo>
                  <a:pt x="1158" y="348"/>
                </a:lnTo>
                <a:lnTo>
                  <a:pt x="1146" y="336"/>
                </a:lnTo>
                <a:lnTo>
                  <a:pt x="1135" y="323"/>
                </a:lnTo>
                <a:lnTo>
                  <a:pt x="1122" y="312"/>
                </a:lnTo>
                <a:lnTo>
                  <a:pt x="1110" y="300"/>
                </a:lnTo>
                <a:lnTo>
                  <a:pt x="1098" y="288"/>
                </a:lnTo>
                <a:lnTo>
                  <a:pt x="1087" y="277"/>
                </a:lnTo>
                <a:lnTo>
                  <a:pt x="1076" y="268"/>
                </a:lnTo>
                <a:lnTo>
                  <a:pt x="1065" y="258"/>
                </a:lnTo>
                <a:lnTo>
                  <a:pt x="1056" y="250"/>
                </a:lnTo>
                <a:lnTo>
                  <a:pt x="1047" y="242"/>
                </a:lnTo>
                <a:lnTo>
                  <a:pt x="1038" y="237"/>
                </a:lnTo>
                <a:lnTo>
                  <a:pt x="1029" y="230"/>
                </a:lnTo>
                <a:lnTo>
                  <a:pt x="1020" y="224"/>
                </a:lnTo>
                <a:lnTo>
                  <a:pt x="1012" y="217"/>
                </a:lnTo>
                <a:lnTo>
                  <a:pt x="1003" y="211"/>
                </a:lnTo>
                <a:lnTo>
                  <a:pt x="995" y="204"/>
                </a:lnTo>
                <a:lnTo>
                  <a:pt x="986" y="197"/>
                </a:lnTo>
                <a:lnTo>
                  <a:pt x="979" y="189"/>
                </a:lnTo>
                <a:lnTo>
                  <a:pt x="970" y="184"/>
                </a:lnTo>
                <a:lnTo>
                  <a:pt x="962" y="178"/>
                </a:lnTo>
                <a:lnTo>
                  <a:pt x="955" y="173"/>
                </a:lnTo>
                <a:lnTo>
                  <a:pt x="950" y="167"/>
                </a:lnTo>
                <a:lnTo>
                  <a:pt x="943" y="164"/>
                </a:lnTo>
                <a:lnTo>
                  <a:pt x="938" y="159"/>
                </a:lnTo>
                <a:lnTo>
                  <a:pt x="934" y="156"/>
                </a:lnTo>
                <a:lnTo>
                  <a:pt x="931" y="152"/>
                </a:lnTo>
                <a:lnTo>
                  <a:pt x="927" y="151"/>
                </a:lnTo>
                <a:lnTo>
                  <a:pt x="923" y="149"/>
                </a:lnTo>
                <a:lnTo>
                  <a:pt x="918" y="148"/>
                </a:lnTo>
                <a:lnTo>
                  <a:pt x="913" y="144"/>
                </a:lnTo>
                <a:lnTo>
                  <a:pt x="907" y="142"/>
                </a:lnTo>
                <a:lnTo>
                  <a:pt x="901" y="138"/>
                </a:lnTo>
                <a:lnTo>
                  <a:pt x="894" y="135"/>
                </a:lnTo>
                <a:lnTo>
                  <a:pt x="888" y="131"/>
                </a:lnTo>
                <a:lnTo>
                  <a:pt x="881" y="129"/>
                </a:lnTo>
                <a:lnTo>
                  <a:pt x="873" y="126"/>
                </a:lnTo>
                <a:lnTo>
                  <a:pt x="866" y="122"/>
                </a:lnTo>
                <a:lnTo>
                  <a:pt x="860" y="119"/>
                </a:lnTo>
                <a:lnTo>
                  <a:pt x="852" y="117"/>
                </a:lnTo>
                <a:lnTo>
                  <a:pt x="845" y="113"/>
                </a:lnTo>
                <a:lnTo>
                  <a:pt x="838" y="110"/>
                </a:lnTo>
                <a:lnTo>
                  <a:pt x="833" y="106"/>
                </a:lnTo>
                <a:lnTo>
                  <a:pt x="825" y="104"/>
                </a:lnTo>
                <a:lnTo>
                  <a:pt x="818" y="102"/>
                </a:lnTo>
                <a:lnTo>
                  <a:pt x="808" y="99"/>
                </a:lnTo>
                <a:lnTo>
                  <a:pt x="799" y="96"/>
                </a:lnTo>
                <a:lnTo>
                  <a:pt x="788" y="92"/>
                </a:lnTo>
                <a:lnTo>
                  <a:pt x="778" y="89"/>
                </a:lnTo>
                <a:lnTo>
                  <a:pt x="767" y="85"/>
                </a:lnTo>
                <a:lnTo>
                  <a:pt x="755" y="81"/>
                </a:lnTo>
                <a:lnTo>
                  <a:pt x="742" y="78"/>
                </a:lnTo>
                <a:lnTo>
                  <a:pt x="731" y="74"/>
                </a:lnTo>
                <a:lnTo>
                  <a:pt x="718" y="71"/>
                </a:lnTo>
                <a:lnTo>
                  <a:pt x="707" y="67"/>
                </a:lnTo>
                <a:lnTo>
                  <a:pt x="696" y="65"/>
                </a:lnTo>
                <a:lnTo>
                  <a:pt x="684" y="61"/>
                </a:lnTo>
                <a:lnTo>
                  <a:pt x="674" y="59"/>
                </a:lnTo>
                <a:lnTo>
                  <a:pt x="664" y="55"/>
                </a:lnTo>
                <a:lnTo>
                  <a:pt x="654" y="53"/>
                </a:lnTo>
                <a:lnTo>
                  <a:pt x="643" y="51"/>
                </a:lnTo>
                <a:lnTo>
                  <a:pt x="630" y="50"/>
                </a:lnTo>
                <a:lnTo>
                  <a:pt x="619" y="46"/>
                </a:lnTo>
                <a:lnTo>
                  <a:pt x="606" y="44"/>
                </a:lnTo>
                <a:lnTo>
                  <a:pt x="592" y="40"/>
                </a:lnTo>
                <a:lnTo>
                  <a:pt x="580" y="38"/>
                </a:lnTo>
                <a:lnTo>
                  <a:pt x="566" y="34"/>
                </a:lnTo>
                <a:lnTo>
                  <a:pt x="552" y="32"/>
                </a:lnTo>
                <a:lnTo>
                  <a:pt x="540" y="31"/>
                </a:lnTo>
                <a:lnTo>
                  <a:pt x="526" y="29"/>
                </a:lnTo>
                <a:lnTo>
                  <a:pt x="514" y="26"/>
                </a:lnTo>
                <a:lnTo>
                  <a:pt x="503" y="24"/>
                </a:lnTo>
                <a:lnTo>
                  <a:pt x="492" y="23"/>
                </a:lnTo>
                <a:lnTo>
                  <a:pt x="482" y="21"/>
                </a:lnTo>
                <a:lnTo>
                  <a:pt x="473" y="19"/>
                </a:lnTo>
                <a:lnTo>
                  <a:pt x="464" y="19"/>
                </a:lnTo>
                <a:lnTo>
                  <a:pt x="455" y="17"/>
                </a:lnTo>
                <a:lnTo>
                  <a:pt x="443" y="17"/>
                </a:lnTo>
                <a:lnTo>
                  <a:pt x="432" y="15"/>
                </a:lnTo>
                <a:lnTo>
                  <a:pt x="419" y="15"/>
                </a:lnTo>
                <a:lnTo>
                  <a:pt x="406" y="13"/>
                </a:lnTo>
                <a:lnTo>
                  <a:pt x="394" y="13"/>
                </a:lnTo>
                <a:lnTo>
                  <a:pt x="380" y="11"/>
                </a:lnTo>
                <a:lnTo>
                  <a:pt x="365" y="11"/>
                </a:lnTo>
                <a:lnTo>
                  <a:pt x="352" y="10"/>
                </a:lnTo>
                <a:lnTo>
                  <a:pt x="339" y="10"/>
                </a:lnTo>
                <a:lnTo>
                  <a:pt x="326" y="8"/>
                </a:lnTo>
                <a:lnTo>
                  <a:pt x="313" y="8"/>
                </a:lnTo>
                <a:lnTo>
                  <a:pt x="301" y="6"/>
                </a:lnTo>
                <a:lnTo>
                  <a:pt x="290" y="6"/>
                </a:lnTo>
                <a:lnTo>
                  <a:pt x="279" y="4"/>
                </a:lnTo>
                <a:lnTo>
                  <a:pt x="268" y="4"/>
                </a:lnTo>
                <a:lnTo>
                  <a:pt x="258" y="4"/>
                </a:lnTo>
                <a:lnTo>
                  <a:pt x="245" y="4"/>
                </a:lnTo>
                <a:lnTo>
                  <a:pt x="233" y="3"/>
                </a:lnTo>
                <a:lnTo>
                  <a:pt x="219" y="3"/>
                </a:lnTo>
                <a:lnTo>
                  <a:pt x="206" y="3"/>
                </a:lnTo>
                <a:lnTo>
                  <a:pt x="193" y="3"/>
                </a:lnTo>
                <a:lnTo>
                  <a:pt x="180" y="1"/>
                </a:lnTo>
                <a:lnTo>
                  <a:pt x="166" y="1"/>
                </a:lnTo>
                <a:lnTo>
                  <a:pt x="152" y="1"/>
                </a:lnTo>
                <a:lnTo>
                  <a:pt x="140" y="1"/>
                </a:lnTo>
                <a:lnTo>
                  <a:pt x="128" y="1"/>
                </a:lnTo>
                <a:lnTo>
                  <a:pt x="115" y="1"/>
                </a:lnTo>
                <a:lnTo>
                  <a:pt x="104" y="1"/>
                </a:lnTo>
                <a:lnTo>
                  <a:pt x="94" y="1"/>
                </a:lnTo>
                <a:lnTo>
                  <a:pt x="86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66" y="0"/>
                </a:lnTo>
                <a:lnTo>
                  <a:pt x="63" y="0"/>
                </a:lnTo>
                <a:lnTo>
                  <a:pt x="62" y="0"/>
                </a:lnTo>
                <a:lnTo>
                  <a:pt x="60" y="0"/>
                </a:lnTo>
                <a:lnTo>
                  <a:pt x="59" y="0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3" y="0"/>
                </a:lnTo>
                <a:lnTo>
                  <a:pt x="35" y="0"/>
                </a:lnTo>
                <a:lnTo>
                  <a:pt x="25" y="0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19280" y="2368440"/>
            <a:ext cx="3397320" cy="3322800"/>
          </a:xfrm>
          <a:custGeom>
            <a:avLst/>
            <a:gdLst/>
            <a:ahLst/>
            <a:rect l="l" t="t" r="r" b="b"/>
            <a:pathLst>
              <a:path w="2140" h="2093">
                <a:moveTo>
                  <a:pt x="2139" y="2092"/>
                </a:moveTo>
                <a:lnTo>
                  <a:pt x="2135" y="2075"/>
                </a:lnTo>
                <a:lnTo>
                  <a:pt x="2133" y="2060"/>
                </a:lnTo>
                <a:lnTo>
                  <a:pt x="2131" y="2049"/>
                </a:lnTo>
                <a:lnTo>
                  <a:pt x="2129" y="2039"/>
                </a:lnTo>
                <a:lnTo>
                  <a:pt x="2127" y="2033"/>
                </a:lnTo>
                <a:lnTo>
                  <a:pt x="2127" y="2027"/>
                </a:lnTo>
                <a:lnTo>
                  <a:pt x="2126" y="2024"/>
                </a:lnTo>
                <a:lnTo>
                  <a:pt x="2126" y="2020"/>
                </a:lnTo>
                <a:lnTo>
                  <a:pt x="2125" y="2018"/>
                </a:lnTo>
                <a:lnTo>
                  <a:pt x="2125" y="2017"/>
                </a:lnTo>
                <a:lnTo>
                  <a:pt x="2124" y="2015"/>
                </a:lnTo>
                <a:lnTo>
                  <a:pt x="2124" y="2012"/>
                </a:lnTo>
                <a:lnTo>
                  <a:pt x="2123" y="2008"/>
                </a:lnTo>
                <a:lnTo>
                  <a:pt x="2123" y="2004"/>
                </a:lnTo>
                <a:lnTo>
                  <a:pt x="2121" y="1997"/>
                </a:lnTo>
                <a:lnTo>
                  <a:pt x="2120" y="1987"/>
                </a:lnTo>
                <a:lnTo>
                  <a:pt x="2117" y="1977"/>
                </a:lnTo>
                <a:lnTo>
                  <a:pt x="2114" y="1962"/>
                </a:lnTo>
                <a:lnTo>
                  <a:pt x="2109" y="1945"/>
                </a:lnTo>
                <a:lnTo>
                  <a:pt x="2105" y="1925"/>
                </a:lnTo>
                <a:lnTo>
                  <a:pt x="2099" y="1904"/>
                </a:lnTo>
                <a:lnTo>
                  <a:pt x="2093" y="1880"/>
                </a:lnTo>
                <a:lnTo>
                  <a:pt x="2086" y="1855"/>
                </a:lnTo>
                <a:lnTo>
                  <a:pt x="2079" y="1828"/>
                </a:lnTo>
                <a:lnTo>
                  <a:pt x="2071" y="1801"/>
                </a:lnTo>
                <a:lnTo>
                  <a:pt x="2063" y="1773"/>
                </a:lnTo>
                <a:lnTo>
                  <a:pt x="2055" y="1745"/>
                </a:lnTo>
                <a:lnTo>
                  <a:pt x="2047" y="1716"/>
                </a:lnTo>
                <a:lnTo>
                  <a:pt x="2038" y="1688"/>
                </a:lnTo>
                <a:lnTo>
                  <a:pt x="2030" y="1659"/>
                </a:lnTo>
                <a:lnTo>
                  <a:pt x="2021" y="1632"/>
                </a:lnTo>
                <a:lnTo>
                  <a:pt x="2013" y="1604"/>
                </a:lnTo>
                <a:lnTo>
                  <a:pt x="2004" y="1579"/>
                </a:lnTo>
                <a:lnTo>
                  <a:pt x="1996" y="1550"/>
                </a:lnTo>
                <a:lnTo>
                  <a:pt x="1986" y="1522"/>
                </a:lnTo>
                <a:lnTo>
                  <a:pt x="1977" y="1492"/>
                </a:lnTo>
                <a:lnTo>
                  <a:pt x="1965" y="1462"/>
                </a:lnTo>
                <a:lnTo>
                  <a:pt x="1955" y="1432"/>
                </a:lnTo>
                <a:lnTo>
                  <a:pt x="1943" y="1403"/>
                </a:lnTo>
                <a:lnTo>
                  <a:pt x="1934" y="1373"/>
                </a:lnTo>
                <a:lnTo>
                  <a:pt x="1923" y="1345"/>
                </a:lnTo>
                <a:lnTo>
                  <a:pt x="1912" y="1317"/>
                </a:lnTo>
                <a:lnTo>
                  <a:pt x="1902" y="1292"/>
                </a:lnTo>
                <a:lnTo>
                  <a:pt x="1893" y="1267"/>
                </a:lnTo>
                <a:lnTo>
                  <a:pt x="1883" y="1245"/>
                </a:lnTo>
                <a:lnTo>
                  <a:pt x="1875" y="1225"/>
                </a:lnTo>
                <a:lnTo>
                  <a:pt x="1867" y="1207"/>
                </a:lnTo>
                <a:lnTo>
                  <a:pt x="1861" y="1192"/>
                </a:lnTo>
                <a:lnTo>
                  <a:pt x="1853" y="1180"/>
                </a:lnTo>
                <a:lnTo>
                  <a:pt x="1846" y="1164"/>
                </a:lnTo>
                <a:lnTo>
                  <a:pt x="1837" y="1148"/>
                </a:lnTo>
                <a:lnTo>
                  <a:pt x="1829" y="1128"/>
                </a:lnTo>
                <a:lnTo>
                  <a:pt x="1817" y="1109"/>
                </a:lnTo>
                <a:lnTo>
                  <a:pt x="1807" y="1088"/>
                </a:lnTo>
                <a:lnTo>
                  <a:pt x="1796" y="1066"/>
                </a:lnTo>
                <a:lnTo>
                  <a:pt x="1785" y="1044"/>
                </a:lnTo>
                <a:lnTo>
                  <a:pt x="1773" y="1022"/>
                </a:lnTo>
                <a:lnTo>
                  <a:pt x="1762" y="1000"/>
                </a:lnTo>
                <a:lnTo>
                  <a:pt x="1751" y="978"/>
                </a:lnTo>
                <a:lnTo>
                  <a:pt x="1739" y="955"/>
                </a:lnTo>
                <a:lnTo>
                  <a:pt x="1728" y="935"/>
                </a:lnTo>
                <a:lnTo>
                  <a:pt x="1717" y="914"/>
                </a:lnTo>
                <a:lnTo>
                  <a:pt x="1707" y="895"/>
                </a:lnTo>
                <a:lnTo>
                  <a:pt x="1699" y="877"/>
                </a:lnTo>
                <a:lnTo>
                  <a:pt x="1689" y="861"/>
                </a:lnTo>
                <a:lnTo>
                  <a:pt x="1679" y="842"/>
                </a:lnTo>
                <a:lnTo>
                  <a:pt x="1668" y="824"/>
                </a:lnTo>
                <a:lnTo>
                  <a:pt x="1658" y="803"/>
                </a:lnTo>
                <a:lnTo>
                  <a:pt x="1647" y="782"/>
                </a:lnTo>
                <a:lnTo>
                  <a:pt x="1636" y="762"/>
                </a:lnTo>
                <a:lnTo>
                  <a:pt x="1625" y="741"/>
                </a:lnTo>
                <a:lnTo>
                  <a:pt x="1614" y="719"/>
                </a:lnTo>
                <a:lnTo>
                  <a:pt x="1603" y="700"/>
                </a:lnTo>
                <a:lnTo>
                  <a:pt x="1591" y="680"/>
                </a:lnTo>
                <a:lnTo>
                  <a:pt x="1581" y="661"/>
                </a:lnTo>
                <a:lnTo>
                  <a:pt x="1571" y="643"/>
                </a:lnTo>
                <a:lnTo>
                  <a:pt x="1562" y="626"/>
                </a:lnTo>
                <a:lnTo>
                  <a:pt x="1553" y="610"/>
                </a:lnTo>
                <a:lnTo>
                  <a:pt x="1546" y="596"/>
                </a:lnTo>
                <a:lnTo>
                  <a:pt x="1540" y="584"/>
                </a:lnTo>
                <a:lnTo>
                  <a:pt x="1532" y="573"/>
                </a:lnTo>
                <a:lnTo>
                  <a:pt x="1525" y="562"/>
                </a:lnTo>
                <a:lnTo>
                  <a:pt x="1516" y="548"/>
                </a:lnTo>
                <a:lnTo>
                  <a:pt x="1507" y="534"/>
                </a:lnTo>
                <a:lnTo>
                  <a:pt x="1495" y="520"/>
                </a:lnTo>
                <a:lnTo>
                  <a:pt x="1485" y="505"/>
                </a:lnTo>
                <a:lnTo>
                  <a:pt x="1473" y="490"/>
                </a:lnTo>
                <a:lnTo>
                  <a:pt x="1462" y="473"/>
                </a:lnTo>
                <a:lnTo>
                  <a:pt x="1449" y="458"/>
                </a:lnTo>
                <a:lnTo>
                  <a:pt x="1437" y="443"/>
                </a:lnTo>
                <a:lnTo>
                  <a:pt x="1424" y="428"/>
                </a:lnTo>
                <a:lnTo>
                  <a:pt x="1413" y="412"/>
                </a:lnTo>
                <a:lnTo>
                  <a:pt x="1401" y="399"/>
                </a:lnTo>
                <a:lnTo>
                  <a:pt x="1389" y="386"/>
                </a:lnTo>
                <a:lnTo>
                  <a:pt x="1378" y="374"/>
                </a:lnTo>
                <a:lnTo>
                  <a:pt x="1369" y="361"/>
                </a:lnTo>
                <a:lnTo>
                  <a:pt x="1357" y="352"/>
                </a:lnTo>
                <a:lnTo>
                  <a:pt x="1346" y="340"/>
                </a:lnTo>
                <a:lnTo>
                  <a:pt x="1334" y="329"/>
                </a:lnTo>
                <a:lnTo>
                  <a:pt x="1321" y="316"/>
                </a:lnTo>
                <a:lnTo>
                  <a:pt x="1307" y="305"/>
                </a:lnTo>
                <a:lnTo>
                  <a:pt x="1293" y="292"/>
                </a:lnTo>
                <a:lnTo>
                  <a:pt x="1278" y="280"/>
                </a:lnTo>
                <a:lnTo>
                  <a:pt x="1265" y="266"/>
                </a:lnTo>
                <a:lnTo>
                  <a:pt x="1250" y="255"/>
                </a:lnTo>
                <a:lnTo>
                  <a:pt x="1236" y="243"/>
                </a:lnTo>
                <a:lnTo>
                  <a:pt x="1222" y="232"/>
                </a:lnTo>
                <a:lnTo>
                  <a:pt x="1209" y="221"/>
                </a:lnTo>
                <a:lnTo>
                  <a:pt x="1196" y="212"/>
                </a:lnTo>
                <a:lnTo>
                  <a:pt x="1183" y="202"/>
                </a:lnTo>
                <a:lnTo>
                  <a:pt x="1172" y="194"/>
                </a:lnTo>
                <a:lnTo>
                  <a:pt x="1162" y="186"/>
                </a:lnTo>
                <a:lnTo>
                  <a:pt x="1151" y="181"/>
                </a:lnTo>
                <a:lnTo>
                  <a:pt x="1142" y="175"/>
                </a:lnTo>
                <a:lnTo>
                  <a:pt x="1131" y="170"/>
                </a:lnTo>
                <a:lnTo>
                  <a:pt x="1122" y="162"/>
                </a:lnTo>
                <a:lnTo>
                  <a:pt x="1111" y="156"/>
                </a:lnTo>
                <a:lnTo>
                  <a:pt x="1102" y="150"/>
                </a:lnTo>
                <a:lnTo>
                  <a:pt x="1092" y="144"/>
                </a:lnTo>
                <a:lnTo>
                  <a:pt x="1083" y="136"/>
                </a:lnTo>
                <a:lnTo>
                  <a:pt x="1073" y="132"/>
                </a:lnTo>
                <a:lnTo>
                  <a:pt x="1063" y="126"/>
                </a:lnTo>
                <a:lnTo>
                  <a:pt x="1055" y="122"/>
                </a:lnTo>
                <a:lnTo>
                  <a:pt x="1049" y="116"/>
                </a:lnTo>
                <a:lnTo>
                  <a:pt x="1041" y="113"/>
                </a:lnTo>
                <a:lnTo>
                  <a:pt x="1035" y="109"/>
                </a:lnTo>
                <a:lnTo>
                  <a:pt x="1031" y="106"/>
                </a:lnTo>
                <a:lnTo>
                  <a:pt x="1028" y="104"/>
                </a:lnTo>
                <a:lnTo>
                  <a:pt x="1023" y="102"/>
                </a:lnTo>
                <a:lnTo>
                  <a:pt x="1019" y="100"/>
                </a:lnTo>
                <a:lnTo>
                  <a:pt x="1014" y="98"/>
                </a:lnTo>
                <a:lnTo>
                  <a:pt x="1008" y="94"/>
                </a:lnTo>
                <a:lnTo>
                  <a:pt x="1001" y="92"/>
                </a:lnTo>
                <a:lnTo>
                  <a:pt x="994" y="88"/>
                </a:lnTo>
                <a:lnTo>
                  <a:pt x="987" y="87"/>
                </a:lnTo>
                <a:lnTo>
                  <a:pt x="979" y="83"/>
                </a:lnTo>
                <a:lnTo>
                  <a:pt x="970" y="81"/>
                </a:lnTo>
                <a:lnTo>
                  <a:pt x="963" y="77"/>
                </a:lnTo>
                <a:lnTo>
                  <a:pt x="954" y="75"/>
                </a:lnTo>
                <a:lnTo>
                  <a:pt x="947" y="72"/>
                </a:lnTo>
                <a:lnTo>
                  <a:pt x="939" y="70"/>
                </a:lnTo>
                <a:lnTo>
                  <a:pt x="931" y="67"/>
                </a:lnTo>
                <a:lnTo>
                  <a:pt x="924" y="66"/>
                </a:lnTo>
                <a:lnTo>
                  <a:pt x="917" y="62"/>
                </a:lnTo>
                <a:lnTo>
                  <a:pt x="909" y="60"/>
                </a:lnTo>
                <a:lnTo>
                  <a:pt x="900" y="58"/>
                </a:lnTo>
                <a:lnTo>
                  <a:pt x="889" y="57"/>
                </a:lnTo>
                <a:lnTo>
                  <a:pt x="879" y="53"/>
                </a:lnTo>
                <a:lnTo>
                  <a:pt x="867" y="51"/>
                </a:lnTo>
                <a:lnTo>
                  <a:pt x="855" y="47"/>
                </a:lnTo>
                <a:lnTo>
                  <a:pt x="842" y="46"/>
                </a:lnTo>
                <a:lnTo>
                  <a:pt x="830" y="42"/>
                </a:lnTo>
                <a:lnTo>
                  <a:pt x="816" y="40"/>
                </a:lnTo>
                <a:lnTo>
                  <a:pt x="803" y="37"/>
                </a:lnTo>
                <a:lnTo>
                  <a:pt x="790" y="35"/>
                </a:lnTo>
                <a:lnTo>
                  <a:pt x="777" y="31"/>
                </a:lnTo>
                <a:lnTo>
                  <a:pt x="763" y="29"/>
                </a:lnTo>
                <a:lnTo>
                  <a:pt x="750" y="27"/>
                </a:lnTo>
                <a:lnTo>
                  <a:pt x="739" y="25"/>
                </a:lnTo>
                <a:lnTo>
                  <a:pt x="728" y="21"/>
                </a:lnTo>
                <a:lnTo>
                  <a:pt x="716" y="21"/>
                </a:lnTo>
                <a:lnTo>
                  <a:pt x="705" y="19"/>
                </a:lnTo>
                <a:lnTo>
                  <a:pt x="692" y="17"/>
                </a:lnTo>
                <a:lnTo>
                  <a:pt x="679" y="16"/>
                </a:lnTo>
                <a:lnTo>
                  <a:pt x="664" y="14"/>
                </a:lnTo>
                <a:lnTo>
                  <a:pt x="651" y="12"/>
                </a:lnTo>
                <a:lnTo>
                  <a:pt x="635" y="10"/>
                </a:lnTo>
                <a:lnTo>
                  <a:pt x="622" y="9"/>
                </a:lnTo>
                <a:lnTo>
                  <a:pt x="607" y="9"/>
                </a:lnTo>
                <a:lnTo>
                  <a:pt x="592" y="7"/>
                </a:lnTo>
                <a:lnTo>
                  <a:pt x="578" y="6"/>
                </a:lnTo>
                <a:lnTo>
                  <a:pt x="565" y="4"/>
                </a:lnTo>
                <a:lnTo>
                  <a:pt x="552" y="4"/>
                </a:lnTo>
                <a:lnTo>
                  <a:pt x="540" y="2"/>
                </a:lnTo>
                <a:lnTo>
                  <a:pt x="529" y="2"/>
                </a:lnTo>
                <a:lnTo>
                  <a:pt x="520" y="0"/>
                </a:lnTo>
                <a:lnTo>
                  <a:pt x="509" y="0"/>
                </a:lnTo>
                <a:lnTo>
                  <a:pt x="499" y="0"/>
                </a:lnTo>
                <a:lnTo>
                  <a:pt x="486" y="0"/>
                </a:lnTo>
                <a:lnTo>
                  <a:pt x="475" y="0"/>
                </a:lnTo>
                <a:lnTo>
                  <a:pt x="460" y="0"/>
                </a:lnTo>
                <a:lnTo>
                  <a:pt x="447" y="0"/>
                </a:lnTo>
                <a:lnTo>
                  <a:pt x="431" y="0"/>
                </a:lnTo>
                <a:lnTo>
                  <a:pt x="418" y="0"/>
                </a:lnTo>
                <a:lnTo>
                  <a:pt x="402" y="1"/>
                </a:lnTo>
                <a:lnTo>
                  <a:pt x="387" y="1"/>
                </a:lnTo>
                <a:lnTo>
                  <a:pt x="372" y="1"/>
                </a:lnTo>
                <a:lnTo>
                  <a:pt x="358" y="1"/>
                </a:lnTo>
                <a:lnTo>
                  <a:pt x="343" y="2"/>
                </a:lnTo>
                <a:lnTo>
                  <a:pt x="330" y="2"/>
                </a:lnTo>
                <a:lnTo>
                  <a:pt x="318" y="2"/>
                </a:lnTo>
                <a:lnTo>
                  <a:pt x="307" y="2"/>
                </a:lnTo>
                <a:lnTo>
                  <a:pt x="295" y="4"/>
                </a:lnTo>
                <a:lnTo>
                  <a:pt x="282" y="4"/>
                </a:lnTo>
                <a:lnTo>
                  <a:pt x="268" y="6"/>
                </a:lnTo>
                <a:lnTo>
                  <a:pt x="255" y="6"/>
                </a:lnTo>
                <a:lnTo>
                  <a:pt x="240" y="7"/>
                </a:lnTo>
                <a:lnTo>
                  <a:pt x="225" y="7"/>
                </a:lnTo>
                <a:lnTo>
                  <a:pt x="210" y="9"/>
                </a:lnTo>
                <a:lnTo>
                  <a:pt x="195" y="9"/>
                </a:lnTo>
                <a:lnTo>
                  <a:pt x="180" y="11"/>
                </a:lnTo>
                <a:lnTo>
                  <a:pt x="165" y="11"/>
                </a:lnTo>
                <a:lnTo>
                  <a:pt x="151" y="13"/>
                </a:lnTo>
                <a:lnTo>
                  <a:pt x="137" y="13"/>
                </a:lnTo>
                <a:lnTo>
                  <a:pt x="125" y="15"/>
                </a:lnTo>
                <a:lnTo>
                  <a:pt x="113" y="15"/>
                </a:lnTo>
                <a:lnTo>
                  <a:pt x="103" y="16"/>
                </a:lnTo>
                <a:lnTo>
                  <a:pt x="94" y="16"/>
                </a:lnTo>
                <a:lnTo>
                  <a:pt x="85" y="18"/>
                </a:lnTo>
                <a:lnTo>
                  <a:pt x="79" y="18"/>
                </a:lnTo>
                <a:lnTo>
                  <a:pt x="75" y="18"/>
                </a:lnTo>
                <a:lnTo>
                  <a:pt x="73" y="18"/>
                </a:lnTo>
                <a:lnTo>
                  <a:pt x="70" y="19"/>
                </a:lnTo>
                <a:lnTo>
                  <a:pt x="68" y="19"/>
                </a:lnTo>
                <a:lnTo>
                  <a:pt x="67" y="19"/>
                </a:lnTo>
                <a:lnTo>
                  <a:pt x="65" y="19"/>
                </a:lnTo>
                <a:lnTo>
                  <a:pt x="61" y="20"/>
                </a:lnTo>
                <a:lnTo>
                  <a:pt x="58" y="20"/>
                </a:lnTo>
                <a:lnTo>
                  <a:pt x="53" y="20"/>
                </a:lnTo>
                <a:lnTo>
                  <a:pt x="47" y="20"/>
                </a:lnTo>
                <a:lnTo>
                  <a:pt x="38" y="22"/>
                </a:lnTo>
                <a:lnTo>
                  <a:pt x="28" y="22"/>
                </a:lnTo>
                <a:lnTo>
                  <a:pt x="15" y="24"/>
                </a:lnTo>
                <a:lnTo>
                  <a:pt x="0" y="2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525760" y="3768840"/>
            <a:ext cx="2481120" cy="2855880"/>
          </a:xfrm>
          <a:custGeom>
            <a:avLst/>
            <a:gdLst/>
            <a:ahLst/>
            <a:rect l="l" t="t" r="r" b="b"/>
            <a:pathLst>
              <a:path w="1563" h="1799">
                <a:moveTo>
                  <a:pt x="1562" y="1798"/>
                </a:moveTo>
                <a:lnTo>
                  <a:pt x="1560" y="1784"/>
                </a:lnTo>
                <a:lnTo>
                  <a:pt x="1559" y="1772"/>
                </a:lnTo>
                <a:lnTo>
                  <a:pt x="1557" y="1764"/>
                </a:lnTo>
                <a:lnTo>
                  <a:pt x="1557" y="1756"/>
                </a:lnTo>
                <a:lnTo>
                  <a:pt x="1556" y="1750"/>
                </a:lnTo>
                <a:lnTo>
                  <a:pt x="1556" y="1746"/>
                </a:lnTo>
                <a:lnTo>
                  <a:pt x="1556" y="1743"/>
                </a:lnTo>
                <a:lnTo>
                  <a:pt x="1556" y="1740"/>
                </a:lnTo>
                <a:lnTo>
                  <a:pt x="1556" y="1739"/>
                </a:lnTo>
                <a:lnTo>
                  <a:pt x="1556" y="1738"/>
                </a:lnTo>
                <a:lnTo>
                  <a:pt x="1556" y="1736"/>
                </a:lnTo>
                <a:lnTo>
                  <a:pt x="1556" y="1733"/>
                </a:lnTo>
                <a:lnTo>
                  <a:pt x="1554" y="1730"/>
                </a:lnTo>
                <a:lnTo>
                  <a:pt x="1554" y="1726"/>
                </a:lnTo>
                <a:lnTo>
                  <a:pt x="1554" y="1720"/>
                </a:lnTo>
                <a:lnTo>
                  <a:pt x="1554" y="1712"/>
                </a:lnTo>
                <a:lnTo>
                  <a:pt x="1553" y="1704"/>
                </a:lnTo>
                <a:lnTo>
                  <a:pt x="1551" y="1692"/>
                </a:lnTo>
                <a:lnTo>
                  <a:pt x="1548" y="1678"/>
                </a:lnTo>
                <a:lnTo>
                  <a:pt x="1546" y="1661"/>
                </a:lnTo>
                <a:lnTo>
                  <a:pt x="1543" y="1644"/>
                </a:lnTo>
                <a:lnTo>
                  <a:pt x="1539" y="1625"/>
                </a:lnTo>
                <a:lnTo>
                  <a:pt x="1536" y="1605"/>
                </a:lnTo>
                <a:lnTo>
                  <a:pt x="1533" y="1583"/>
                </a:lnTo>
                <a:lnTo>
                  <a:pt x="1527" y="1561"/>
                </a:lnTo>
                <a:lnTo>
                  <a:pt x="1524" y="1538"/>
                </a:lnTo>
                <a:lnTo>
                  <a:pt x="1519" y="1515"/>
                </a:lnTo>
                <a:lnTo>
                  <a:pt x="1515" y="1491"/>
                </a:lnTo>
                <a:lnTo>
                  <a:pt x="1509" y="1468"/>
                </a:lnTo>
                <a:lnTo>
                  <a:pt x="1506" y="1445"/>
                </a:lnTo>
                <a:lnTo>
                  <a:pt x="1500" y="1423"/>
                </a:lnTo>
                <a:lnTo>
                  <a:pt x="1496" y="1400"/>
                </a:lnTo>
                <a:lnTo>
                  <a:pt x="1491" y="1379"/>
                </a:lnTo>
                <a:lnTo>
                  <a:pt x="1486" y="1356"/>
                </a:lnTo>
                <a:lnTo>
                  <a:pt x="1479" y="1332"/>
                </a:lnTo>
                <a:lnTo>
                  <a:pt x="1474" y="1308"/>
                </a:lnTo>
                <a:lnTo>
                  <a:pt x="1467" y="1283"/>
                </a:lnTo>
                <a:lnTo>
                  <a:pt x="1461" y="1259"/>
                </a:lnTo>
                <a:lnTo>
                  <a:pt x="1454" y="1234"/>
                </a:lnTo>
                <a:lnTo>
                  <a:pt x="1448" y="1210"/>
                </a:lnTo>
                <a:lnTo>
                  <a:pt x="1441" y="1187"/>
                </a:lnTo>
                <a:lnTo>
                  <a:pt x="1435" y="1165"/>
                </a:lnTo>
                <a:lnTo>
                  <a:pt x="1428" y="1143"/>
                </a:lnTo>
                <a:lnTo>
                  <a:pt x="1422" y="1124"/>
                </a:lnTo>
                <a:lnTo>
                  <a:pt x="1416" y="1106"/>
                </a:lnTo>
                <a:lnTo>
                  <a:pt x="1410" y="1089"/>
                </a:lnTo>
                <a:lnTo>
                  <a:pt x="1405" y="1075"/>
                </a:lnTo>
                <a:lnTo>
                  <a:pt x="1401" y="1062"/>
                </a:lnTo>
                <a:lnTo>
                  <a:pt x="1395" y="1052"/>
                </a:lnTo>
                <a:lnTo>
                  <a:pt x="1391" y="1039"/>
                </a:lnTo>
                <a:lnTo>
                  <a:pt x="1385" y="1025"/>
                </a:lnTo>
                <a:lnTo>
                  <a:pt x="1379" y="1009"/>
                </a:lnTo>
                <a:lnTo>
                  <a:pt x="1371" y="993"/>
                </a:lnTo>
                <a:lnTo>
                  <a:pt x="1365" y="976"/>
                </a:lnTo>
                <a:lnTo>
                  <a:pt x="1357" y="958"/>
                </a:lnTo>
                <a:lnTo>
                  <a:pt x="1351" y="939"/>
                </a:lnTo>
                <a:lnTo>
                  <a:pt x="1343" y="921"/>
                </a:lnTo>
                <a:lnTo>
                  <a:pt x="1336" y="902"/>
                </a:lnTo>
                <a:lnTo>
                  <a:pt x="1329" y="884"/>
                </a:lnTo>
                <a:lnTo>
                  <a:pt x="1321" y="866"/>
                </a:lnTo>
                <a:lnTo>
                  <a:pt x="1313" y="849"/>
                </a:lnTo>
                <a:lnTo>
                  <a:pt x="1307" y="831"/>
                </a:lnTo>
                <a:lnTo>
                  <a:pt x="1301" y="816"/>
                </a:lnTo>
                <a:lnTo>
                  <a:pt x="1295" y="800"/>
                </a:lnTo>
                <a:lnTo>
                  <a:pt x="1288" y="786"/>
                </a:lnTo>
                <a:lnTo>
                  <a:pt x="1282" y="772"/>
                </a:lnTo>
                <a:lnTo>
                  <a:pt x="1274" y="755"/>
                </a:lnTo>
                <a:lnTo>
                  <a:pt x="1268" y="738"/>
                </a:lnTo>
                <a:lnTo>
                  <a:pt x="1261" y="722"/>
                </a:lnTo>
                <a:lnTo>
                  <a:pt x="1253" y="704"/>
                </a:lnTo>
                <a:lnTo>
                  <a:pt x="1245" y="687"/>
                </a:lnTo>
                <a:lnTo>
                  <a:pt x="1239" y="668"/>
                </a:lnTo>
                <a:lnTo>
                  <a:pt x="1231" y="653"/>
                </a:lnTo>
                <a:lnTo>
                  <a:pt x="1224" y="636"/>
                </a:lnTo>
                <a:lnTo>
                  <a:pt x="1216" y="621"/>
                </a:lnTo>
                <a:lnTo>
                  <a:pt x="1210" y="605"/>
                </a:lnTo>
                <a:lnTo>
                  <a:pt x="1203" y="592"/>
                </a:lnTo>
                <a:lnTo>
                  <a:pt x="1197" y="579"/>
                </a:lnTo>
                <a:lnTo>
                  <a:pt x="1193" y="568"/>
                </a:lnTo>
                <a:lnTo>
                  <a:pt x="1189" y="557"/>
                </a:lnTo>
                <a:lnTo>
                  <a:pt x="1183" y="548"/>
                </a:lnTo>
                <a:lnTo>
                  <a:pt x="1177" y="538"/>
                </a:lnTo>
                <a:lnTo>
                  <a:pt x="1171" y="527"/>
                </a:lnTo>
                <a:lnTo>
                  <a:pt x="1164" y="514"/>
                </a:lnTo>
                <a:lnTo>
                  <a:pt x="1156" y="502"/>
                </a:lnTo>
                <a:lnTo>
                  <a:pt x="1149" y="490"/>
                </a:lnTo>
                <a:lnTo>
                  <a:pt x="1141" y="476"/>
                </a:lnTo>
                <a:lnTo>
                  <a:pt x="1133" y="462"/>
                </a:lnTo>
                <a:lnTo>
                  <a:pt x="1124" y="450"/>
                </a:lnTo>
                <a:lnTo>
                  <a:pt x="1115" y="436"/>
                </a:lnTo>
                <a:lnTo>
                  <a:pt x="1106" y="424"/>
                </a:lnTo>
                <a:lnTo>
                  <a:pt x="1098" y="411"/>
                </a:lnTo>
                <a:lnTo>
                  <a:pt x="1089" y="400"/>
                </a:lnTo>
                <a:lnTo>
                  <a:pt x="1081" y="388"/>
                </a:lnTo>
                <a:lnTo>
                  <a:pt x="1074" y="378"/>
                </a:lnTo>
                <a:lnTo>
                  <a:pt x="1067" y="367"/>
                </a:lnTo>
                <a:lnTo>
                  <a:pt x="1058" y="358"/>
                </a:lnTo>
                <a:lnTo>
                  <a:pt x="1051" y="348"/>
                </a:lnTo>
                <a:lnTo>
                  <a:pt x="1041" y="338"/>
                </a:lnTo>
                <a:lnTo>
                  <a:pt x="1033" y="327"/>
                </a:lnTo>
                <a:lnTo>
                  <a:pt x="1022" y="317"/>
                </a:lnTo>
                <a:lnTo>
                  <a:pt x="1013" y="306"/>
                </a:lnTo>
                <a:lnTo>
                  <a:pt x="1001" y="295"/>
                </a:lnTo>
                <a:lnTo>
                  <a:pt x="992" y="284"/>
                </a:lnTo>
                <a:lnTo>
                  <a:pt x="981" y="274"/>
                </a:lnTo>
                <a:lnTo>
                  <a:pt x="970" y="263"/>
                </a:lnTo>
                <a:lnTo>
                  <a:pt x="960" y="254"/>
                </a:lnTo>
                <a:lnTo>
                  <a:pt x="950" y="243"/>
                </a:lnTo>
                <a:lnTo>
                  <a:pt x="940" y="235"/>
                </a:lnTo>
                <a:lnTo>
                  <a:pt x="931" y="226"/>
                </a:lnTo>
                <a:lnTo>
                  <a:pt x="923" y="219"/>
                </a:lnTo>
                <a:lnTo>
                  <a:pt x="915" y="212"/>
                </a:lnTo>
                <a:lnTo>
                  <a:pt x="907" y="207"/>
                </a:lnTo>
                <a:lnTo>
                  <a:pt x="900" y="202"/>
                </a:lnTo>
                <a:lnTo>
                  <a:pt x="892" y="196"/>
                </a:lnTo>
                <a:lnTo>
                  <a:pt x="885" y="190"/>
                </a:lnTo>
                <a:lnTo>
                  <a:pt x="877" y="185"/>
                </a:lnTo>
                <a:lnTo>
                  <a:pt x="869" y="179"/>
                </a:lnTo>
                <a:lnTo>
                  <a:pt x="862" y="174"/>
                </a:lnTo>
                <a:lnTo>
                  <a:pt x="855" y="168"/>
                </a:lnTo>
                <a:lnTo>
                  <a:pt x="847" y="164"/>
                </a:lnTo>
                <a:lnTo>
                  <a:pt x="841" y="159"/>
                </a:lnTo>
                <a:lnTo>
                  <a:pt x="834" y="155"/>
                </a:lnTo>
                <a:lnTo>
                  <a:pt x="829" y="149"/>
                </a:lnTo>
                <a:lnTo>
                  <a:pt x="823" y="146"/>
                </a:lnTo>
                <a:lnTo>
                  <a:pt x="818" y="142"/>
                </a:lnTo>
                <a:lnTo>
                  <a:pt x="814" y="140"/>
                </a:lnTo>
                <a:lnTo>
                  <a:pt x="813" y="137"/>
                </a:lnTo>
                <a:lnTo>
                  <a:pt x="809" y="136"/>
                </a:lnTo>
                <a:lnTo>
                  <a:pt x="806" y="134"/>
                </a:lnTo>
                <a:lnTo>
                  <a:pt x="802" y="132"/>
                </a:lnTo>
                <a:lnTo>
                  <a:pt x="798" y="129"/>
                </a:lnTo>
                <a:lnTo>
                  <a:pt x="793" y="128"/>
                </a:lnTo>
                <a:lnTo>
                  <a:pt x="787" y="124"/>
                </a:lnTo>
                <a:lnTo>
                  <a:pt x="782" y="122"/>
                </a:lnTo>
                <a:lnTo>
                  <a:pt x="776" y="118"/>
                </a:lnTo>
                <a:lnTo>
                  <a:pt x="769" y="116"/>
                </a:lnTo>
                <a:lnTo>
                  <a:pt x="763" y="112"/>
                </a:lnTo>
                <a:lnTo>
                  <a:pt x="756" y="111"/>
                </a:lnTo>
                <a:lnTo>
                  <a:pt x="751" y="107"/>
                </a:lnTo>
                <a:lnTo>
                  <a:pt x="744" y="105"/>
                </a:lnTo>
                <a:lnTo>
                  <a:pt x="738" y="101"/>
                </a:lnTo>
                <a:lnTo>
                  <a:pt x="733" y="100"/>
                </a:lnTo>
                <a:lnTo>
                  <a:pt x="727" y="96"/>
                </a:lnTo>
                <a:lnTo>
                  <a:pt x="720" y="94"/>
                </a:lnTo>
                <a:lnTo>
                  <a:pt x="714" y="92"/>
                </a:lnTo>
                <a:lnTo>
                  <a:pt x="705" y="90"/>
                </a:lnTo>
                <a:lnTo>
                  <a:pt x="698" y="86"/>
                </a:lnTo>
                <a:lnTo>
                  <a:pt x="688" y="84"/>
                </a:lnTo>
                <a:lnTo>
                  <a:pt x="679" y="81"/>
                </a:lnTo>
                <a:lnTo>
                  <a:pt x="669" y="78"/>
                </a:lnTo>
                <a:lnTo>
                  <a:pt x="659" y="74"/>
                </a:lnTo>
                <a:lnTo>
                  <a:pt x="648" y="72"/>
                </a:lnTo>
                <a:lnTo>
                  <a:pt x="638" y="68"/>
                </a:lnTo>
                <a:lnTo>
                  <a:pt x="627" y="65"/>
                </a:lnTo>
                <a:lnTo>
                  <a:pt x="618" y="61"/>
                </a:lnTo>
                <a:lnTo>
                  <a:pt x="607" y="60"/>
                </a:lnTo>
                <a:lnTo>
                  <a:pt x="597" y="56"/>
                </a:lnTo>
                <a:lnTo>
                  <a:pt x="588" y="54"/>
                </a:lnTo>
                <a:lnTo>
                  <a:pt x="580" y="51"/>
                </a:lnTo>
                <a:lnTo>
                  <a:pt x="570" y="49"/>
                </a:lnTo>
                <a:lnTo>
                  <a:pt x="561" y="47"/>
                </a:lnTo>
                <a:lnTo>
                  <a:pt x="550" y="45"/>
                </a:lnTo>
                <a:lnTo>
                  <a:pt x="540" y="43"/>
                </a:lnTo>
                <a:lnTo>
                  <a:pt x="529" y="41"/>
                </a:lnTo>
                <a:lnTo>
                  <a:pt x="517" y="39"/>
                </a:lnTo>
                <a:lnTo>
                  <a:pt x="506" y="37"/>
                </a:lnTo>
                <a:lnTo>
                  <a:pt x="495" y="33"/>
                </a:lnTo>
                <a:lnTo>
                  <a:pt x="482" y="32"/>
                </a:lnTo>
                <a:lnTo>
                  <a:pt x="471" y="30"/>
                </a:lnTo>
                <a:lnTo>
                  <a:pt x="460" y="28"/>
                </a:lnTo>
                <a:lnTo>
                  <a:pt x="449" y="25"/>
                </a:lnTo>
                <a:lnTo>
                  <a:pt x="439" y="24"/>
                </a:lnTo>
                <a:lnTo>
                  <a:pt x="429" y="23"/>
                </a:lnTo>
                <a:lnTo>
                  <a:pt x="421" y="21"/>
                </a:lnTo>
                <a:lnTo>
                  <a:pt x="413" y="19"/>
                </a:lnTo>
                <a:lnTo>
                  <a:pt x="404" y="19"/>
                </a:lnTo>
                <a:lnTo>
                  <a:pt x="396" y="18"/>
                </a:lnTo>
                <a:lnTo>
                  <a:pt x="387" y="18"/>
                </a:lnTo>
                <a:lnTo>
                  <a:pt x="377" y="16"/>
                </a:lnTo>
                <a:lnTo>
                  <a:pt x="366" y="16"/>
                </a:lnTo>
                <a:lnTo>
                  <a:pt x="355" y="14"/>
                </a:lnTo>
                <a:lnTo>
                  <a:pt x="344" y="14"/>
                </a:lnTo>
                <a:lnTo>
                  <a:pt x="333" y="12"/>
                </a:lnTo>
                <a:lnTo>
                  <a:pt x="319" y="12"/>
                </a:lnTo>
                <a:lnTo>
                  <a:pt x="308" y="12"/>
                </a:lnTo>
                <a:lnTo>
                  <a:pt x="296" y="12"/>
                </a:lnTo>
                <a:lnTo>
                  <a:pt x="285" y="10"/>
                </a:lnTo>
                <a:lnTo>
                  <a:pt x="273" y="10"/>
                </a:lnTo>
                <a:lnTo>
                  <a:pt x="262" y="8"/>
                </a:lnTo>
                <a:lnTo>
                  <a:pt x="252" y="8"/>
                </a:lnTo>
                <a:lnTo>
                  <a:pt x="243" y="6"/>
                </a:lnTo>
                <a:lnTo>
                  <a:pt x="233" y="6"/>
                </a:lnTo>
                <a:lnTo>
                  <a:pt x="223" y="6"/>
                </a:lnTo>
                <a:lnTo>
                  <a:pt x="212" y="6"/>
                </a:lnTo>
                <a:lnTo>
                  <a:pt x="201" y="4"/>
                </a:lnTo>
                <a:lnTo>
                  <a:pt x="189" y="4"/>
                </a:lnTo>
                <a:lnTo>
                  <a:pt x="178" y="4"/>
                </a:lnTo>
                <a:lnTo>
                  <a:pt x="166" y="4"/>
                </a:lnTo>
                <a:lnTo>
                  <a:pt x="155" y="3"/>
                </a:lnTo>
                <a:lnTo>
                  <a:pt x="142" y="3"/>
                </a:lnTo>
                <a:lnTo>
                  <a:pt x="131" y="3"/>
                </a:lnTo>
                <a:lnTo>
                  <a:pt x="119" y="3"/>
                </a:lnTo>
                <a:lnTo>
                  <a:pt x="109" y="1"/>
                </a:lnTo>
                <a:lnTo>
                  <a:pt x="98" y="1"/>
                </a:lnTo>
                <a:lnTo>
                  <a:pt x="89" y="1"/>
                </a:lnTo>
                <a:lnTo>
                  <a:pt x="81" y="1"/>
                </a:lnTo>
                <a:lnTo>
                  <a:pt x="74" y="0"/>
                </a:lnTo>
                <a:lnTo>
                  <a:pt x="67" y="0"/>
                </a:lnTo>
                <a:lnTo>
                  <a:pt x="63" y="0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51" y="0"/>
                </a:lnTo>
                <a:lnTo>
                  <a:pt x="47" y="0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0" y="0"/>
                </a:lnTo>
                <a:lnTo>
                  <a:pt x="22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000680" y="1854360"/>
            <a:ext cx="2839680" cy="3260520"/>
          </a:xfrm>
          <a:custGeom>
            <a:avLst/>
            <a:gdLst/>
            <a:ahLst/>
            <a:rect l="l" t="t" r="r" b="b"/>
            <a:pathLst>
              <a:path w="1789" h="2054">
                <a:moveTo>
                  <a:pt x="0" y="0"/>
                </a:moveTo>
                <a:lnTo>
                  <a:pt x="1" y="18"/>
                </a:lnTo>
                <a:lnTo>
                  <a:pt x="3" y="31"/>
                </a:lnTo>
                <a:lnTo>
                  <a:pt x="3" y="42"/>
                </a:lnTo>
                <a:lnTo>
                  <a:pt x="4" y="50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8" y="84"/>
                </a:lnTo>
                <a:lnTo>
                  <a:pt x="8" y="91"/>
                </a:lnTo>
                <a:lnTo>
                  <a:pt x="10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8" y="158"/>
                </a:lnTo>
                <a:lnTo>
                  <a:pt x="21" y="179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8" y="273"/>
                </a:lnTo>
                <a:lnTo>
                  <a:pt x="43" y="300"/>
                </a:lnTo>
                <a:lnTo>
                  <a:pt x="48" y="326"/>
                </a:lnTo>
                <a:lnTo>
                  <a:pt x="54" y="352"/>
                </a:lnTo>
                <a:lnTo>
                  <a:pt x="60" y="380"/>
                </a:lnTo>
                <a:lnTo>
                  <a:pt x="65" y="406"/>
                </a:lnTo>
                <a:lnTo>
                  <a:pt x="71" y="431"/>
                </a:lnTo>
                <a:lnTo>
                  <a:pt x="76" y="455"/>
                </a:lnTo>
                <a:lnTo>
                  <a:pt x="81" y="480"/>
                </a:lnTo>
                <a:lnTo>
                  <a:pt x="87" y="507"/>
                </a:lnTo>
                <a:lnTo>
                  <a:pt x="93" y="534"/>
                </a:lnTo>
                <a:lnTo>
                  <a:pt x="101" y="561"/>
                </a:lnTo>
                <a:lnTo>
                  <a:pt x="108" y="590"/>
                </a:lnTo>
                <a:lnTo>
                  <a:pt x="115" y="618"/>
                </a:lnTo>
                <a:lnTo>
                  <a:pt x="122" y="646"/>
                </a:lnTo>
                <a:lnTo>
                  <a:pt x="130" y="673"/>
                </a:lnTo>
                <a:lnTo>
                  <a:pt x="138" y="700"/>
                </a:lnTo>
                <a:lnTo>
                  <a:pt x="145" y="726"/>
                </a:lnTo>
                <a:lnTo>
                  <a:pt x="152" y="751"/>
                </a:lnTo>
                <a:lnTo>
                  <a:pt x="159" y="772"/>
                </a:lnTo>
                <a:lnTo>
                  <a:pt x="165" y="794"/>
                </a:lnTo>
                <a:lnTo>
                  <a:pt x="172" y="813"/>
                </a:lnTo>
                <a:lnTo>
                  <a:pt x="177" y="829"/>
                </a:lnTo>
                <a:lnTo>
                  <a:pt x="183" y="842"/>
                </a:lnTo>
                <a:lnTo>
                  <a:pt x="187" y="856"/>
                </a:lnTo>
                <a:lnTo>
                  <a:pt x="193" y="870"/>
                </a:lnTo>
                <a:lnTo>
                  <a:pt x="200" y="887"/>
                </a:lnTo>
                <a:lnTo>
                  <a:pt x="207" y="904"/>
                </a:lnTo>
                <a:lnTo>
                  <a:pt x="215" y="924"/>
                </a:lnTo>
                <a:lnTo>
                  <a:pt x="223" y="943"/>
                </a:lnTo>
                <a:lnTo>
                  <a:pt x="231" y="964"/>
                </a:lnTo>
                <a:lnTo>
                  <a:pt x="240" y="984"/>
                </a:lnTo>
                <a:lnTo>
                  <a:pt x="248" y="1006"/>
                </a:lnTo>
                <a:lnTo>
                  <a:pt x="257" y="1026"/>
                </a:lnTo>
                <a:lnTo>
                  <a:pt x="265" y="1047"/>
                </a:lnTo>
                <a:lnTo>
                  <a:pt x="275" y="1068"/>
                </a:lnTo>
                <a:lnTo>
                  <a:pt x="282" y="1088"/>
                </a:lnTo>
                <a:lnTo>
                  <a:pt x="291" y="1107"/>
                </a:lnTo>
                <a:lnTo>
                  <a:pt x="298" y="1126"/>
                </a:lnTo>
                <a:lnTo>
                  <a:pt x="306" y="1142"/>
                </a:lnTo>
                <a:lnTo>
                  <a:pt x="313" y="1160"/>
                </a:lnTo>
                <a:lnTo>
                  <a:pt x="320" y="1176"/>
                </a:lnTo>
                <a:lnTo>
                  <a:pt x="328" y="1195"/>
                </a:lnTo>
                <a:lnTo>
                  <a:pt x="337" y="1213"/>
                </a:lnTo>
                <a:lnTo>
                  <a:pt x="344" y="1234"/>
                </a:lnTo>
                <a:lnTo>
                  <a:pt x="354" y="1252"/>
                </a:lnTo>
                <a:lnTo>
                  <a:pt x="362" y="1273"/>
                </a:lnTo>
                <a:lnTo>
                  <a:pt x="372" y="1292"/>
                </a:lnTo>
                <a:lnTo>
                  <a:pt x="379" y="1312"/>
                </a:lnTo>
                <a:lnTo>
                  <a:pt x="388" y="1330"/>
                </a:lnTo>
                <a:lnTo>
                  <a:pt x="395" y="1348"/>
                </a:lnTo>
                <a:lnTo>
                  <a:pt x="403" y="1365"/>
                </a:lnTo>
                <a:lnTo>
                  <a:pt x="410" y="1381"/>
                </a:lnTo>
                <a:lnTo>
                  <a:pt x="417" y="1395"/>
                </a:lnTo>
                <a:lnTo>
                  <a:pt x="422" y="1408"/>
                </a:lnTo>
                <a:lnTo>
                  <a:pt x="428" y="1418"/>
                </a:lnTo>
                <a:lnTo>
                  <a:pt x="433" y="1430"/>
                </a:lnTo>
                <a:lnTo>
                  <a:pt x="439" y="1442"/>
                </a:lnTo>
                <a:lnTo>
                  <a:pt x="446" y="1455"/>
                </a:lnTo>
                <a:lnTo>
                  <a:pt x="454" y="1468"/>
                </a:lnTo>
                <a:lnTo>
                  <a:pt x="461" y="1483"/>
                </a:lnTo>
                <a:lnTo>
                  <a:pt x="471" y="1498"/>
                </a:lnTo>
                <a:lnTo>
                  <a:pt x="480" y="1513"/>
                </a:lnTo>
                <a:lnTo>
                  <a:pt x="490" y="1528"/>
                </a:lnTo>
                <a:lnTo>
                  <a:pt x="499" y="1544"/>
                </a:lnTo>
                <a:lnTo>
                  <a:pt x="509" y="1559"/>
                </a:lnTo>
                <a:lnTo>
                  <a:pt x="519" y="1574"/>
                </a:lnTo>
                <a:lnTo>
                  <a:pt x="530" y="1588"/>
                </a:lnTo>
                <a:lnTo>
                  <a:pt x="539" y="1601"/>
                </a:lnTo>
                <a:lnTo>
                  <a:pt x="549" y="1614"/>
                </a:lnTo>
                <a:lnTo>
                  <a:pt x="558" y="1626"/>
                </a:lnTo>
                <a:lnTo>
                  <a:pt x="567" y="1636"/>
                </a:lnTo>
                <a:lnTo>
                  <a:pt x="576" y="1647"/>
                </a:lnTo>
                <a:lnTo>
                  <a:pt x="585" y="1659"/>
                </a:lnTo>
                <a:lnTo>
                  <a:pt x="595" y="1670"/>
                </a:lnTo>
                <a:lnTo>
                  <a:pt x="606" y="1682"/>
                </a:lnTo>
                <a:lnTo>
                  <a:pt x="617" y="1695"/>
                </a:lnTo>
                <a:lnTo>
                  <a:pt x="629" y="1707"/>
                </a:lnTo>
                <a:lnTo>
                  <a:pt x="640" y="1720"/>
                </a:lnTo>
                <a:lnTo>
                  <a:pt x="654" y="1731"/>
                </a:lnTo>
                <a:lnTo>
                  <a:pt x="665" y="1744"/>
                </a:lnTo>
                <a:lnTo>
                  <a:pt x="677" y="1756"/>
                </a:lnTo>
                <a:lnTo>
                  <a:pt x="688" y="1767"/>
                </a:lnTo>
                <a:lnTo>
                  <a:pt x="700" y="1778"/>
                </a:lnTo>
                <a:lnTo>
                  <a:pt x="710" y="1788"/>
                </a:lnTo>
                <a:lnTo>
                  <a:pt x="721" y="1797"/>
                </a:lnTo>
                <a:lnTo>
                  <a:pt x="730" y="1805"/>
                </a:lnTo>
                <a:lnTo>
                  <a:pt x="740" y="1812"/>
                </a:lnTo>
                <a:lnTo>
                  <a:pt x="747" y="1820"/>
                </a:lnTo>
                <a:lnTo>
                  <a:pt x="756" y="1825"/>
                </a:lnTo>
                <a:lnTo>
                  <a:pt x="764" y="1833"/>
                </a:lnTo>
                <a:lnTo>
                  <a:pt x="774" y="1838"/>
                </a:lnTo>
                <a:lnTo>
                  <a:pt x="782" y="1846"/>
                </a:lnTo>
                <a:lnTo>
                  <a:pt x="791" y="1852"/>
                </a:lnTo>
                <a:lnTo>
                  <a:pt x="800" y="1858"/>
                </a:lnTo>
                <a:lnTo>
                  <a:pt x="810" y="1864"/>
                </a:lnTo>
                <a:lnTo>
                  <a:pt x="817" y="1870"/>
                </a:lnTo>
                <a:lnTo>
                  <a:pt x="825" y="1876"/>
                </a:lnTo>
                <a:lnTo>
                  <a:pt x="831" y="1881"/>
                </a:lnTo>
                <a:lnTo>
                  <a:pt x="839" y="1886"/>
                </a:lnTo>
                <a:lnTo>
                  <a:pt x="844" y="1891"/>
                </a:lnTo>
                <a:lnTo>
                  <a:pt x="850" y="1894"/>
                </a:lnTo>
                <a:lnTo>
                  <a:pt x="854" y="1898"/>
                </a:lnTo>
                <a:lnTo>
                  <a:pt x="859" y="1900"/>
                </a:lnTo>
                <a:lnTo>
                  <a:pt x="861" y="1903"/>
                </a:lnTo>
                <a:lnTo>
                  <a:pt x="865" y="1904"/>
                </a:lnTo>
                <a:lnTo>
                  <a:pt x="869" y="1907"/>
                </a:lnTo>
                <a:lnTo>
                  <a:pt x="875" y="1909"/>
                </a:lnTo>
                <a:lnTo>
                  <a:pt x="881" y="1912"/>
                </a:lnTo>
                <a:lnTo>
                  <a:pt x="887" y="1916"/>
                </a:lnTo>
                <a:lnTo>
                  <a:pt x="893" y="1920"/>
                </a:lnTo>
                <a:lnTo>
                  <a:pt x="900" y="1921"/>
                </a:lnTo>
                <a:lnTo>
                  <a:pt x="906" y="1925"/>
                </a:lnTo>
                <a:lnTo>
                  <a:pt x="914" y="1929"/>
                </a:lnTo>
                <a:lnTo>
                  <a:pt x="920" y="1932"/>
                </a:lnTo>
                <a:lnTo>
                  <a:pt x="928" y="1935"/>
                </a:lnTo>
                <a:lnTo>
                  <a:pt x="934" y="1939"/>
                </a:lnTo>
                <a:lnTo>
                  <a:pt x="942" y="1941"/>
                </a:lnTo>
                <a:lnTo>
                  <a:pt x="949" y="1945"/>
                </a:lnTo>
                <a:lnTo>
                  <a:pt x="956" y="1947"/>
                </a:lnTo>
                <a:lnTo>
                  <a:pt x="962" y="1950"/>
                </a:lnTo>
                <a:lnTo>
                  <a:pt x="970" y="1952"/>
                </a:lnTo>
                <a:lnTo>
                  <a:pt x="978" y="1956"/>
                </a:lnTo>
                <a:lnTo>
                  <a:pt x="988" y="1958"/>
                </a:lnTo>
                <a:lnTo>
                  <a:pt x="998" y="1961"/>
                </a:lnTo>
                <a:lnTo>
                  <a:pt x="1009" y="1965"/>
                </a:lnTo>
                <a:lnTo>
                  <a:pt x="1020" y="1969"/>
                </a:lnTo>
                <a:lnTo>
                  <a:pt x="1033" y="1972"/>
                </a:lnTo>
                <a:lnTo>
                  <a:pt x="1044" y="1976"/>
                </a:lnTo>
                <a:lnTo>
                  <a:pt x="1056" y="1979"/>
                </a:lnTo>
                <a:lnTo>
                  <a:pt x="1067" y="1983"/>
                </a:lnTo>
                <a:lnTo>
                  <a:pt x="1080" y="1986"/>
                </a:lnTo>
                <a:lnTo>
                  <a:pt x="1092" y="1990"/>
                </a:lnTo>
                <a:lnTo>
                  <a:pt x="1103" y="1992"/>
                </a:lnTo>
                <a:lnTo>
                  <a:pt x="1114" y="1996"/>
                </a:lnTo>
                <a:lnTo>
                  <a:pt x="1125" y="1998"/>
                </a:lnTo>
                <a:lnTo>
                  <a:pt x="1134" y="2001"/>
                </a:lnTo>
                <a:lnTo>
                  <a:pt x="1145" y="2003"/>
                </a:lnTo>
                <a:lnTo>
                  <a:pt x="1156" y="2007"/>
                </a:lnTo>
                <a:lnTo>
                  <a:pt x="1169" y="2009"/>
                </a:lnTo>
                <a:lnTo>
                  <a:pt x="1181" y="2012"/>
                </a:lnTo>
                <a:lnTo>
                  <a:pt x="1194" y="2014"/>
                </a:lnTo>
                <a:lnTo>
                  <a:pt x="1208" y="2017"/>
                </a:lnTo>
                <a:lnTo>
                  <a:pt x="1221" y="2019"/>
                </a:lnTo>
                <a:lnTo>
                  <a:pt x="1234" y="2022"/>
                </a:lnTo>
                <a:lnTo>
                  <a:pt x="1247" y="2024"/>
                </a:lnTo>
                <a:lnTo>
                  <a:pt x="1259" y="2026"/>
                </a:lnTo>
                <a:lnTo>
                  <a:pt x="1272" y="2028"/>
                </a:lnTo>
                <a:lnTo>
                  <a:pt x="1284" y="2029"/>
                </a:lnTo>
                <a:lnTo>
                  <a:pt x="1295" y="2030"/>
                </a:lnTo>
                <a:lnTo>
                  <a:pt x="1304" y="2032"/>
                </a:lnTo>
                <a:lnTo>
                  <a:pt x="1314" y="2032"/>
                </a:lnTo>
                <a:lnTo>
                  <a:pt x="1322" y="2034"/>
                </a:lnTo>
                <a:lnTo>
                  <a:pt x="1332" y="2036"/>
                </a:lnTo>
                <a:lnTo>
                  <a:pt x="1342" y="2037"/>
                </a:lnTo>
                <a:lnTo>
                  <a:pt x="1354" y="2037"/>
                </a:lnTo>
                <a:lnTo>
                  <a:pt x="1366" y="2039"/>
                </a:lnTo>
                <a:lnTo>
                  <a:pt x="1379" y="2040"/>
                </a:lnTo>
                <a:lnTo>
                  <a:pt x="1392" y="2042"/>
                </a:lnTo>
                <a:lnTo>
                  <a:pt x="1407" y="2042"/>
                </a:lnTo>
                <a:lnTo>
                  <a:pt x="1420" y="2044"/>
                </a:lnTo>
                <a:lnTo>
                  <a:pt x="1433" y="2045"/>
                </a:lnTo>
                <a:lnTo>
                  <a:pt x="1446" y="2047"/>
                </a:lnTo>
                <a:lnTo>
                  <a:pt x="1460" y="2047"/>
                </a:lnTo>
                <a:lnTo>
                  <a:pt x="1472" y="2049"/>
                </a:lnTo>
                <a:lnTo>
                  <a:pt x="1485" y="2049"/>
                </a:lnTo>
                <a:lnTo>
                  <a:pt x="1496" y="2049"/>
                </a:lnTo>
                <a:lnTo>
                  <a:pt x="1508" y="2049"/>
                </a:lnTo>
                <a:lnTo>
                  <a:pt x="1518" y="2050"/>
                </a:lnTo>
                <a:lnTo>
                  <a:pt x="1530" y="2050"/>
                </a:lnTo>
                <a:lnTo>
                  <a:pt x="1542" y="2050"/>
                </a:lnTo>
                <a:lnTo>
                  <a:pt x="1554" y="2050"/>
                </a:lnTo>
                <a:lnTo>
                  <a:pt x="1568" y="2052"/>
                </a:lnTo>
                <a:lnTo>
                  <a:pt x="1581" y="2052"/>
                </a:lnTo>
                <a:lnTo>
                  <a:pt x="1594" y="2052"/>
                </a:lnTo>
                <a:lnTo>
                  <a:pt x="1609" y="2052"/>
                </a:lnTo>
                <a:lnTo>
                  <a:pt x="1622" y="2053"/>
                </a:lnTo>
                <a:lnTo>
                  <a:pt x="1635" y="2053"/>
                </a:lnTo>
                <a:lnTo>
                  <a:pt x="1648" y="2053"/>
                </a:lnTo>
                <a:lnTo>
                  <a:pt x="1661" y="2053"/>
                </a:lnTo>
                <a:lnTo>
                  <a:pt x="1672" y="2053"/>
                </a:lnTo>
                <a:lnTo>
                  <a:pt x="1684" y="2053"/>
                </a:lnTo>
                <a:lnTo>
                  <a:pt x="1693" y="2053"/>
                </a:lnTo>
                <a:lnTo>
                  <a:pt x="1703" y="2053"/>
                </a:lnTo>
                <a:lnTo>
                  <a:pt x="1709" y="2053"/>
                </a:lnTo>
                <a:lnTo>
                  <a:pt x="1714" y="2053"/>
                </a:lnTo>
                <a:lnTo>
                  <a:pt x="1717" y="2053"/>
                </a:lnTo>
                <a:lnTo>
                  <a:pt x="1721" y="2053"/>
                </a:lnTo>
                <a:lnTo>
                  <a:pt x="1723" y="2053"/>
                </a:lnTo>
                <a:lnTo>
                  <a:pt x="1725" y="2053"/>
                </a:lnTo>
                <a:lnTo>
                  <a:pt x="1727" y="2053"/>
                </a:lnTo>
                <a:lnTo>
                  <a:pt x="1729" y="2053"/>
                </a:lnTo>
                <a:lnTo>
                  <a:pt x="1730" y="2053"/>
                </a:lnTo>
                <a:lnTo>
                  <a:pt x="1734" y="2053"/>
                </a:lnTo>
                <a:lnTo>
                  <a:pt x="1738" y="2053"/>
                </a:lnTo>
                <a:lnTo>
                  <a:pt x="1744" y="2053"/>
                </a:lnTo>
                <a:lnTo>
                  <a:pt x="1751" y="2053"/>
                </a:lnTo>
                <a:lnTo>
                  <a:pt x="1761" y="2053"/>
                </a:lnTo>
                <a:lnTo>
                  <a:pt x="1773" y="2053"/>
                </a:lnTo>
                <a:lnTo>
                  <a:pt x="1788" y="2053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45000" y="2127240"/>
            <a:ext cx="3101760" cy="3576600"/>
          </a:xfrm>
          <a:custGeom>
            <a:avLst/>
            <a:gdLst/>
            <a:ahLst/>
            <a:rect l="l" t="t" r="r" b="b"/>
            <a:pathLst>
              <a:path w="1954" h="2253">
                <a:moveTo>
                  <a:pt x="0" y="0"/>
                </a:moveTo>
                <a:lnTo>
                  <a:pt x="0" y="20"/>
                </a:lnTo>
                <a:lnTo>
                  <a:pt x="2" y="34"/>
                </a:lnTo>
                <a:lnTo>
                  <a:pt x="3" y="47"/>
                </a:lnTo>
                <a:lnTo>
                  <a:pt x="4" y="56"/>
                </a:lnTo>
                <a:lnTo>
                  <a:pt x="4" y="64"/>
                </a:lnTo>
                <a:lnTo>
                  <a:pt x="5" y="69"/>
                </a:lnTo>
                <a:lnTo>
                  <a:pt x="5" y="73"/>
                </a:lnTo>
                <a:lnTo>
                  <a:pt x="7" y="75"/>
                </a:lnTo>
                <a:lnTo>
                  <a:pt x="7" y="78"/>
                </a:lnTo>
                <a:lnTo>
                  <a:pt x="7" y="80"/>
                </a:lnTo>
                <a:lnTo>
                  <a:pt x="7" y="83"/>
                </a:lnTo>
                <a:lnTo>
                  <a:pt x="8" y="84"/>
                </a:lnTo>
                <a:lnTo>
                  <a:pt x="8" y="89"/>
                </a:lnTo>
                <a:lnTo>
                  <a:pt x="9" y="93"/>
                </a:lnTo>
                <a:lnTo>
                  <a:pt x="10" y="100"/>
                </a:lnTo>
                <a:lnTo>
                  <a:pt x="11" y="108"/>
                </a:lnTo>
                <a:lnTo>
                  <a:pt x="11" y="121"/>
                </a:lnTo>
                <a:lnTo>
                  <a:pt x="13" y="136"/>
                </a:lnTo>
                <a:lnTo>
                  <a:pt x="16" y="153"/>
                </a:lnTo>
                <a:lnTo>
                  <a:pt x="20" y="172"/>
                </a:lnTo>
                <a:lnTo>
                  <a:pt x="22" y="196"/>
                </a:lnTo>
                <a:lnTo>
                  <a:pt x="26" y="219"/>
                </a:lnTo>
                <a:lnTo>
                  <a:pt x="31" y="245"/>
                </a:lnTo>
                <a:lnTo>
                  <a:pt x="36" y="271"/>
                </a:lnTo>
                <a:lnTo>
                  <a:pt x="41" y="300"/>
                </a:lnTo>
                <a:lnTo>
                  <a:pt x="47" y="328"/>
                </a:lnTo>
                <a:lnTo>
                  <a:pt x="52" y="358"/>
                </a:lnTo>
                <a:lnTo>
                  <a:pt x="59" y="386"/>
                </a:lnTo>
                <a:lnTo>
                  <a:pt x="64" y="416"/>
                </a:lnTo>
                <a:lnTo>
                  <a:pt x="70" y="444"/>
                </a:lnTo>
                <a:lnTo>
                  <a:pt x="76" y="473"/>
                </a:lnTo>
                <a:lnTo>
                  <a:pt x="83" y="500"/>
                </a:lnTo>
                <a:lnTo>
                  <a:pt x="89" y="527"/>
                </a:lnTo>
                <a:lnTo>
                  <a:pt x="95" y="556"/>
                </a:lnTo>
                <a:lnTo>
                  <a:pt x="102" y="586"/>
                </a:lnTo>
                <a:lnTo>
                  <a:pt x="109" y="616"/>
                </a:lnTo>
                <a:lnTo>
                  <a:pt x="117" y="647"/>
                </a:lnTo>
                <a:lnTo>
                  <a:pt x="125" y="677"/>
                </a:lnTo>
                <a:lnTo>
                  <a:pt x="132" y="708"/>
                </a:lnTo>
                <a:lnTo>
                  <a:pt x="142" y="738"/>
                </a:lnTo>
                <a:lnTo>
                  <a:pt x="149" y="768"/>
                </a:lnTo>
                <a:lnTo>
                  <a:pt x="158" y="796"/>
                </a:lnTo>
                <a:lnTo>
                  <a:pt x="166" y="823"/>
                </a:lnTo>
                <a:lnTo>
                  <a:pt x="174" y="848"/>
                </a:lnTo>
                <a:lnTo>
                  <a:pt x="180" y="871"/>
                </a:lnTo>
                <a:lnTo>
                  <a:pt x="188" y="892"/>
                </a:lnTo>
                <a:lnTo>
                  <a:pt x="194" y="910"/>
                </a:lnTo>
                <a:lnTo>
                  <a:pt x="201" y="924"/>
                </a:lnTo>
                <a:lnTo>
                  <a:pt x="206" y="939"/>
                </a:lnTo>
                <a:lnTo>
                  <a:pt x="212" y="955"/>
                </a:lnTo>
                <a:lnTo>
                  <a:pt x="218" y="973"/>
                </a:lnTo>
                <a:lnTo>
                  <a:pt x="227" y="992"/>
                </a:lnTo>
                <a:lnTo>
                  <a:pt x="234" y="1014"/>
                </a:lnTo>
                <a:lnTo>
                  <a:pt x="244" y="1035"/>
                </a:lnTo>
                <a:lnTo>
                  <a:pt x="253" y="1057"/>
                </a:lnTo>
                <a:lnTo>
                  <a:pt x="262" y="1079"/>
                </a:lnTo>
                <a:lnTo>
                  <a:pt x="272" y="1104"/>
                </a:lnTo>
                <a:lnTo>
                  <a:pt x="281" y="1126"/>
                </a:lnTo>
                <a:lnTo>
                  <a:pt x="290" y="1149"/>
                </a:lnTo>
                <a:lnTo>
                  <a:pt x="300" y="1172"/>
                </a:lnTo>
                <a:lnTo>
                  <a:pt x="308" y="1194"/>
                </a:lnTo>
                <a:lnTo>
                  <a:pt x="317" y="1214"/>
                </a:lnTo>
                <a:lnTo>
                  <a:pt x="325" y="1234"/>
                </a:lnTo>
                <a:lnTo>
                  <a:pt x="334" y="1251"/>
                </a:lnTo>
                <a:lnTo>
                  <a:pt x="342" y="1270"/>
                </a:lnTo>
                <a:lnTo>
                  <a:pt x="350" y="1290"/>
                </a:lnTo>
                <a:lnTo>
                  <a:pt x="358" y="1310"/>
                </a:lnTo>
                <a:lnTo>
                  <a:pt x="367" y="1331"/>
                </a:lnTo>
                <a:lnTo>
                  <a:pt x="376" y="1353"/>
                </a:lnTo>
                <a:lnTo>
                  <a:pt x="386" y="1374"/>
                </a:lnTo>
                <a:lnTo>
                  <a:pt x="395" y="1396"/>
                </a:lnTo>
                <a:lnTo>
                  <a:pt x="405" y="1417"/>
                </a:lnTo>
                <a:lnTo>
                  <a:pt x="414" y="1438"/>
                </a:lnTo>
                <a:lnTo>
                  <a:pt x="423" y="1459"/>
                </a:lnTo>
                <a:lnTo>
                  <a:pt x="431" y="1479"/>
                </a:lnTo>
                <a:lnTo>
                  <a:pt x="441" y="1497"/>
                </a:lnTo>
                <a:lnTo>
                  <a:pt x="448" y="1515"/>
                </a:lnTo>
                <a:lnTo>
                  <a:pt x="456" y="1530"/>
                </a:lnTo>
                <a:lnTo>
                  <a:pt x="462" y="1545"/>
                </a:lnTo>
                <a:lnTo>
                  <a:pt x="469" y="1556"/>
                </a:lnTo>
                <a:lnTo>
                  <a:pt x="474" y="1569"/>
                </a:lnTo>
                <a:lnTo>
                  <a:pt x="480" y="1582"/>
                </a:lnTo>
                <a:lnTo>
                  <a:pt x="488" y="1596"/>
                </a:lnTo>
                <a:lnTo>
                  <a:pt x="496" y="1610"/>
                </a:lnTo>
                <a:lnTo>
                  <a:pt x="505" y="1626"/>
                </a:lnTo>
                <a:lnTo>
                  <a:pt x="515" y="1642"/>
                </a:lnTo>
                <a:lnTo>
                  <a:pt x="525" y="1659"/>
                </a:lnTo>
                <a:lnTo>
                  <a:pt x="536" y="1674"/>
                </a:lnTo>
                <a:lnTo>
                  <a:pt x="546" y="1691"/>
                </a:lnTo>
                <a:lnTo>
                  <a:pt x="557" y="1708"/>
                </a:lnTo>
                <a:lnTo>
                  <a:pt x="568" y="1725"/>
                </a:lnTo>
                <a:lnTo>
                  <a:pt x="580" y="1740"/>
                </a:lnTo>
                <a:lnTo>
                  <a:pt x="589" y="1756"/>
                </a:lnTo>
                <a:lnTo>
                  <a:pt x="600" y="1770"/>
                </a:lnTo>
                <a:lnTo>
                  <a:pt x="610" y="1783"/>
                </a:lnTo>
                <a:lnTo>
                  <a:pt x="620" y="1794"/>
                </a:lnTo>
                <a:lnTo>
                  <a:pt x="629" y="1807"/>
                </a:lnTo>
                <a:lnTo>
                  <a:pt x="639" y="1818"/>
                </a:lnTo>
                <a:lnTo>
                  <a:pt x="650" y="1832"/>
                </a:lnTo>
                <a:lnTo>
                  <a:pt x="663" y="1844"/>
                </a:lnTo>
                <a:lnTo>
                  <a:pt x="675" y="1858"/>
                </a:lnTo>
                <a:lnTo>
                  <a:pt x="688" y="1872"/>
                </a:lnTo>
                <a:lnTo>
                  <a:pt x="701" y="1885"/>
                </a:lnTo>
                <a:lnTo>
                  <a:pt x="715" y="1898"/>
                </a:lnTo>
                <a:lnTo>
                  <a:pt x="727" y="1912"/>
                </a:lnTo>
                <a:lnTo>
                  <a:pt x="740" y="1925"/>
                </a:lnTo>
                <a:lnTo>
                  <a:pt x="753" y="1938"/>
                </a:lnTo>
                <a:lnTo>
                  <a:pt x="766" y="1950"/>
                </a:lnTo>
                <a:lnTo>
                  <a:pt x="777" y="1961"/>
                </a:lnTo>
                <a:lnTo>
                  <a:pt x="788" y="1970"/>
                </a:lnTo>
                <a:lnTo>
                  <a:pt x="798" y="1980"/>
                </a:lnTo>
                <a:lnTo>
                  <a:pt x="809" y="1986"/>
                </a:lnTo>
                <a:lnTo>
                  <a:pt x="817" y="1994"/>
                </a:lnTo>
                <a:lnTo>
                  <a:pt x="826" y="2002"/>
                </a:lnTo>
                <a:lnTo>
                  <a:pt x="836" y="2009"/>
                </a:lnTo>
                <a:lnTo>
                  <a:pt x="845" y="2016"/>
                </a:lnTo>
                <a:lnTo>
                  <a:pt x="854" y="2023"/>
                </a:lnTo>
                <a:lnTo>
                  <a:pt x="864" y="2031"/>
                </a:lnTo>
                <a:lnTo>
                  <a:pt x="873" y="2038"/>
                </a:lnTo>
                <a:lnTo>
                  <a:pt x="884" y="2044"/>
                </a:lnTo>
                <a:lnTo>
                  <a:pt x="891" y="2051"/>
                </a:lnTo>
                <a:lnTo>
                  <a:pt x="900" y="2057"/>
                </a:lnTo>
                <a:lnTo>
                  <a:pt x="908" y="2062"/>
                </a:lnTo>
                <a:lnTo>
                  <a:pt x="916" y="2068"/>
                </a:lnTo>
                <a:lnTo>
                  <a:pt x="922" y="2072"/>
                </a:lnTo>
                <a:lnTo>
                  <a:pt x="929" y="2076"/>
                </a:lnTo>
                <a:lnTo>
                  <a:pt x="933" y="2080"/>
                </a:lnTo>
                <a:lnTo>
                  <a:pt x="938" y="2081"/>
                </a:lnTo>
                <a:lnTo>
                  <a:pt x="941" y="2085"/>
                </a:lnTo>
                <a:lnTo>
                  <a:pt x="945" y="2088"/>
                </a:lnTo>
                <a:lnTo>
                  <a:pt x="950" y="2091"/>
                </a:lnTo>
                <a:lnTo>
                  <a:pt x="956" y="2093"/>
                </a:lnTo>
                <a:lnTo>
                  <a:pt x="961" y="2097"/>
                </a:lnTo>
                <a:lnTo>
                  <a:pt x="968" y="2101"/>
                </a:lnTo>
                <a:lnTo>
                  <a:pt x="976" y="2104"/>
                </a:lnTo>
                <a:lnTo>
                  <a:pt x="983" y="2108"/>
                </a:lnTo>
                <a:lnTo>
                  <a:pt x="990" y="2111"/>
                </a:lnTo>
                <a:lnTo>
                  <a:pt x="998" y="2115"/>
                </a:lnTo>
                <a:lnTo>
                  <a:pt x="1005" y="2119"/>
                </a:lnTo>
                <a:lnTo>
                  <a:pt x="1013" y="2122"/>
                </a:lnTo>
                <a:lnTo>
                  <a:pt x="1020" y="2126"/>
                </a:lnTo>
                <a:lnTo>
                  <a:pt x="1028" y="2129"/>
                </a:lnTo>
                <a:lnTo>
                  <a:pt x="1035" y="2132"/>
                </a:lnTo>
                <a:lnTo>
                  <a:pt x="1043" y="2134"/>
                </a:lnTo>
                <a:lnTo>
                  <a:pt x="1050" y="2138"/>
                </a:lnTo>
                <a:lnTo>
                  <a:pt x="1058" y="2140"/>
                </a:lnTo>
                <a:lnTo>
                  <a:pt x="1068" y="2144"/>
                </a:lnTo>
                <a:lnTo>
                  <a:pt x="1079" y="2147"/>
                </a:lnTo>
                <a:lnTo>
                  <a:pt x="1090" y="2151"/>
                </a:lnTo>
                <a:lnTo>
                  <a:pt x="1102" y="2155"/>
                </a:lnTo>
                <a:lnTo>
                  <a:pt x="1115" y="2159"/>
                </a:lnTo>
                <a:lnTo>
                  <a:pt x="1128" y="2162"/>
                </a:lnTo>
                <a:lnTo>
                  <a:pt x="1142" y="2168"/>
                </a:lnTo>
                <a:lnTo>
                  <a:pt x="1154" y="2171"/>
                </a:lnTo>
                <a:lnTo>
                  <a:pt x="1168" y="2175"/>
                </a:lnTo>
                <a:lnTo>
                  <a:pt x="1181" y="2179"/>
                </a:lnTo>
                <a:lnTo>
                  <a:pt x="1192" y="2182"/>
                </a:lnTo>
                <a:lnTo>
                  <a:pt x="1206" y="2186"/>
                </a:lnTo>
                <a:lnTo>
                  <a:pt x="1217" y="2189"/>
                </a:lnTo>
                <a:lnTo>
                  <a:pt x="1229" y="2190"/>
                </a:lnTo>
                <a:lnTo>
                  <a:pt x="1239" y="2194"/>
                </a:lnTo>
                <a:lnTo>
                  <a:pt x="1250" y="2196"/>
                </a:lnTo>
                <a:lnTo>
                  <a:pt x="1262" y="2200"/>
                </a:lnTo>
                <a:lnTo>
                  <a:pt x="1276" y="2202"/>
                </a:lnTo>
                <a:lnTo>
                  <a:pt x="1289" y="2206"/>
                </a:lnTo>
                <a:lnTo>
                  <a:pt x="1304" y="2207"/>
                </a:lnTo>
                <a:lnTo>
                  <a:pt x="1318" y="2211"/>
                </a:lnTo>
                <a:lnTo>
                  <a:pt x="1333" y="2213"/>
                </a:lnTo>
                <a:lnTo>
                  <a:pt x="1346" y="2217"/>
                </a:lnTo>
                <a:lnTo>
                  <a:pt x="1361" y="2218"/>
                </a:lnTo>
                <a:lnTo>
                  <a:pt x="1374" y="2222"/>
                </a:lnTo>
                <a:lnTo>
                  <a:pt x="1388" y="2224"/>
                </a:lnTo>
                <a:lnTo>
                  <a:pt x="1400" y="2226"/>
                </a:lnTo>
                <a:lnTo>
                  <a:pt x="1412" y="2228"/>
                </a:lnTo>
                <a:lnTo>
                  <a:pt x="1422" y="2230"/>
                </a:lnTo>
                <a:lnTo>
                  <a:pt x="1433" y="2231"/>
                </a:lnTo>
                <a:lnTo>
                  <a:pt x="1442" y="2233"/>
                </a:lnTo>
                <a:lnTo>
                  <a:pt x="1453" y="2234"/>
                </a:lnTo>
                <a:lnTo>
                  <a:pt x="1465" y="2236"/>
                </a:lnTo>
                <a:lnTo>
                  <a:pt x="1478" y="2236"/>
                </a:lnTo>
                <a:lnTo>
                  <a:pt x="1491" y="2237"/>
                </a:lnTo>
                <a:lnTo>
                  <a:pt x="1505" y="2238"/>
                </a:lnTo>
                <a:lnTo>
                  <a:pt x="1520" y="2240"/>
                </a:lnTo>
                <a:lnTo>
                  <a:pt x="1535" y="2240"/>
                </a:lnTo>
                <a:lnTo>
                  <a:pt x="1550" y="2242"/>
                </a:lnTo>
                <a:lnTo>
                  <a:pt x="1565" y="2242"/>
                </a:lnTo>
                <a:lnTo>
                  <a:pt x="1580" y="2244"/>
                </a:lnTo>
                <a:lnTo>
                  <a:pt x="1594" y="2244"/>
                </a:lnTo>
                <a:lnTo>
                  <a:pt x="1608" y="2246"/>
                </a:lnTo>
                <a:lnTo>
                  <a:pt x="1622" y="2246"/>
                </a:lnTo>
                <a:lnTo>
                  <a:pt x="1634" y="2246"/>
                </a:lnTo>
                <a:lnTo>
                  <a:pt x="1646" y="2246"/>
                </a:lnTo>
                <a:lnTo>
                  <a:pt x="1657" y="2248"/>
                </a:lnTo>
                <a:lnTo>
                  <a:pt x="1669" y="2248"/>
                </a:lnTo>
                <a:lnTo>
                  <a:pt x="1682" y="2248"/>
                </a:lnTo>
                <a:lnTo>
                  <a:pt x="1697" y="2248"/>
                </a:lnTo>
                <a:lnTo>
                  <a:pt x="1710" y="2250"/>
                </a:lnTo>
                <a:lnTo>
                  <a:pt x="1726" y="2250"/>
                </a:lnTo>
                <a:lnTo>
                  <a:pt x="1740" y="2250"/>
                </a:lnTo>
                <a:lnTo>
                  <a:pt x="1756" y="2250"/>
                </a:lnTo>
                <a:lnTo>
                  <a:pt x="1769" y="2252"/>
                </a:lnTo>
                <a:lnTo>
                  <a:pt x="1784" y="2252"/>
                </a:lnTo>
                <a:lnTo>
                  <a:pt x="1798" y="2252"/>
                </a:lnTo>
                <a:lnTo>
                  <a:pt x="1812" y="2252"/>
                </a:lnTo>
                <a:lnTo>
                  <a:pt x="1824" y="2252"/>
                </a:lnTo>
                <a:lnTo>
                  <a:pt x="1836" y="2252"/>
                </a:lnTo>
                <a:lnTo>
                  <a:pt x="1846" y="2252"/>
                </a:lnTo>
                <a:lnTo>
                  <a:pt x="1857" y="2252"/>
                </a:lnTo>
                <a:lnTo>
                  <a:pt x="1864" y="2252"/>
                </a:lnTo>
                <a:lnTo>
                  <a:pt x="1870" y="2252"/>
                </a:lnTo>
                <a:lnTo>
                  <a:pt x="1875" y="2252"/>
                </a:lnTo>
                <a:lnTo>
                  <a:pt x="1878" y="2252"/>
                </a:lnTo>
                <a:lnTo>
                  <a:pt x="1880" y="2252"/>
                </a:lnTo>
                <a:lnTo>
                  <a:pt x="1882" y="2252"/>
                </a:lnTo>
                <a:lnTo>
                  <a:pt x="1884" y="2252"/>
                </a:lnTo>
                <a:lnTo>
                  <a:pt x="1886" y="2252"/>
                </a:lnTo>
                <a:lnTo>
                  <a:pt x="1888" y="2252"/>
                </a:lnTo>
                <a:lnTo>
                  <a:pt x="1892" y="2252"/>
                </a:lnTo>
                <a:lnTo>
                  <a:pt x="1897" y="2252"/>
                </a:lnTo>
                <a:lnTo>
                  <a:pt x="1904" y="2252"/>
                </a:lnTo>
                <a:lnTo>
                  <a:pt x="1912" y="2252"/>
                </a:lnTo>
                <a:lnTo>
                  <a:pt x="1923" y="2252"/>
                </a:lnTo>
                <a:lnTo>
                  <a:pt x="1936" y="2252"/>
                </a:lnTo>
                <a:lnTo>
                  <a:pt x="1953" y="2252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570560" y="1673280"/>
            <a:ext cx="2484360" cy="2852640"/>
          </a:xfrm>
          <a:custGeom>
            <a:avLst/>
            <a:gdLst/>
            <a:ahLst/>
            <a:rect l="l" t="t" r="r" b="b"/>
            <a:pathLst>
              <a:path w="1565" h="1797">
                <a:moveTo>
                  <a:pt x="0" y="0"/>
                </a:moveTo>
                <a:lnTo>
                  <a:pt x="0" y="16"/>
                </a:lnTo>
                <a:lnTo>
                  <a:pt x="1" y="27"/>
                </a:lnTo>
                <a:lnTo>
                  <a:pt x="1" y="37"/>
                </a:lnTo>
                <a:lnTo>
                  <a:pt x="3" y="44"/>
                </a:lnTo>
                <a:lnTo>
                  <a:pt x="3" y="50"/>
                </a:lnTo>
                <a:lnTo>
                  <a:pt x="3" y="54"/>
                </a:lnTo>
                <a:lnTo>
                  <a:pt x="3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5" y="70"/>
                </a:lnTo>
                <a:lnTo>
                  <a:pt x="6" y="74"/>
                </a:lnTo>
                <a:lnTo>
                  <a:pt x="6" y="80"/>
                </a:lnTo>
                <a:lnTo>
                  <a:pt x="8" y="86"/>
                </a:lnTo>
                <a:lnTo>
                  <a:pt x="8" y="96"/>
                </a:lnTo>
                <a:lnTo>
                  <a:pt x="10" y="108"/>
                </a:lnTo>
                <a:lnTo>
                  <a:pt x="12" y="122"/>
                </a:lnTo>
                <a:lnTo>
                  <a:pt x="14" y="137"/>
                </a:lnTo>
                <a:lnTo>
                  <a:pt x="17" y="155"/>
                </a:lnTo>
                <a:lnTo>
                  <a:pt x="21" y="174"/>
                </a:lnTo>
                <a:lnTo>
                  <a:pt x="24" y="194"/>
                </a:lnTo>
                <a:lnTo>
                  <a:pt x="29" y="214"/>
                </a:lnTo>
                <a:lnTo>
                  <a:pt x="32" y="238"/>
                </a:lnTo>
                <a:lnTo>
                  <a:pt x="37" y="260"/>
                </a:lnTo>
                <a:lnTo>
                  <a:pt x="41" y="284"/>
                </a:lnTo>
                <a:lnTo>
                  <a:pt x="46" y="306"/>
                </a:lnTo>
                <a:lnTo>
                  <a:pt x="50" y="330"/>
                </a:lnTo>
                <a:lnTo>
                  <a:pt x="55" y="353"/>
                </a:lnTo>
                <a:lnTo>
                  <a:pt x="60" y="376"/>
                </a:lnTo>
                <a:lnTo>
                  <a:pt x="65" y="397"/>
                </a:lnTo>
                <a:lnTo>
                  <a:pt x="69" y="419"/>
                </a:lnTo>
                <a:lnTo>
                  <a:pt x="75" y="442"/>
                </a:lnTo>
                <a:lnTo>
                  <a:pt x="81" y="466"/>
                </a:lnTo>
                <a:lnTo>
                  <a:pt x="87" y="490"/>
                </a:lnTo>
                <a:lnTo>
                  <a:pt x="92" y="515"/>
                </a:lnTo>
                <a:lnTo>
                  <a:pt x="99" y="539"/>
                </a:lnTo>
                <a:lnTo>
                  <a:pt x="105" y="563"/>
                </a:lnTo>
                <a:lnTo>
                  <a:pt x="113" y="587"/>
                </a:lnTo>
                <a:lnTo>
                  <a:pt x="119" y="611"/>
                </a:lnTo>
                <a:lnTo>
                  <a:pt x="125" y="634"/>
                </a:lnTo>
                <a:lnTo>
                  <a:pt x="131" y="655"/>
                </a:lnTo>
                <a:lnTo>
                  <a:pt x="139" y="675"/>
                </a:lnTo>
                <a:lnTo>
                  <a:pt x="144" y="694"/>
                </a:lnTo>
                <a:lnTo>
                  <a:pt x="150" y="710"/>
                </a:lnTo>
                <a:lnTo>
                  <a:pt x="155" y="725"/>
                </a:lnTo>
                <a:lnTo>
                  <a:pt x="160" y="736"/>
                </a:lnTo>
                <a:lnTo>
                  <a:pt x="164" y="749"/>
                </a:lnTo>
                <a:lnTo>
                  <a:pt x="170" y="761"/>
                </a:lnTo>
                <a:lnTo>
                  <a:pt x="175" y="776"/>
                </a:lnTo>
                <a:lnTo>
                  <a:pt x="181" y="791"/>
                </a:lnTo>
                <a:lnTo>
                  <a:pt x="187" y="808"/>
                </a:lnTo>
                <a:lnTo>
                  <a:pt x="195" y="825"/>
                </a:lnTo>
                <a:lnTo>
                  <a:pt x="202" y="844"/>
                </a:lnTo>
                <a:lnTo>
                  <a:pt x="210" y="860"/>
                </a:lnTo>
                <a:lnTo>
                  <a:pt x="217" y="879"/>
                </a:lnTo>
                <a:lnTo>
                  <a:pt x="225" y="898"/>
                </a:lnTo>
                <a:lnTo>
                  <a:pt x="232" y="916"/>
                </a:lnTo>
                <a:lnTo>
                  <a:pt x="239" y="933"/>
                </a:lnTo>
                <a:lnTo>
                  <a:pt x="246" y="952"/>
                </a:lnTo>
                <a:lnTo>
                  <a:pt x="253" y="968"/>
                </a:lnTo>
                <a:lnTo>
                  <a:pt x="259" y="983"/>
                </a:lnTo>
                <a:lnTo>
                  <a:pt x="267" y="998"/>
                </a:lnTo>
                <a:lnTo>
                  <a:pt x="273" y="1013"/>
                </a:lnTo>
                <a:lnTo>
                  <a:pt x="279" y="1028"/>
                </a:lnTo>
                <a:lnTo>
                  <a:pt x="285" y="1045"/>
                </a:lnTo>
                <a:lnTo>
                  <a:pt x="293" y="1061"/>
                </a:lnTo>
                <a:lnTo>
                  <a:pt x="300" y="1079"/>
                </a:lnTo>
                <a:lnTo>
                  <a:pt x="307" y="1096"/>
                </a:lnTo>
                <a:lnTo>
                  <a:pt x="315" y="1113"/>
                </a:lnTo>
                <a:lnTo>
                  <a:pt x="323" y="1130"/>
                </a:lnTo>
                <a:lnTo>
                  <a:pt x="329" y="1147"/>
                </a:lnTo>
                <a:lnTo>
                  <a:pt x="337" y="1164"/>
                </a:lnTo>
                <a:lnTo>
                  <a:pt x="344" y="1179"/>
                </a:lnTo>
                <a:lnTo>
                  <a:pt x="351" y="1194"/>
                </a:lnTo>
                <a:lnTo>
                  <a:pt x="357" y="1207"/>
                </a:lnTo>
                <a:lnTo>
                  <a:pt x="363" y="1220"/>
                </a:lnTo>
                <a:lnTo>
                  <a:pt x="369" y="1231"/>
                </a:lnTo>
                <a:lnTo>
                  <a:pt x="374" y="1240"/>
                </a:lnTo>
                <a:lnTo>
                  <a:pt x="378" y="1250"/>
                </a:lnTo>
                <a:lnTo>
                  <a:pt x="384" y="1260"/>
                </a:lnTo>
                <a:lnTo>
                  <a:pt x="389" y="1272"/>
                </a:lnTo>
                <a:lnTo>
                  <a:pt x="397" y="1283"/>
                </a:lnTo>
                <a:lnTo>
                  <a:pt x="404" y="1296"/>
                </a:lnTo>
                <a:lnTo>
                  <a:pt x="411" y="1308"/>
                </a:lnTo>
                <a:lnTo>
                  <a:pt x="419" y="1322"/>
                </a:lnTo>
                <a:lnTo>
                  <a:pt x="428" y="1334"/>
                </a:lnTo>
                <a:lnTo>
                  <a:pt x="435" y="1348"/>
                </a:lnTo>
                <a:lnTo>
                  <a:pt x="445" y="1362"/>
                </a:lnTo>
                <a:lnTo>
                  <a:pt x="453" y="1374"/>
                </a:lnTo>
                <a:lnTo>
                  <a:pt x="462" y="1386"/>
                </a:lnTo>
                <a:lnTo>
                  <a:pt x="470" y="1399"/>
                </a:lnTo>
                <a:lnTo>
                  <a:pt x="479" y="1410"/>
                </a:lnTo>
                <a:lnTo>
                  <a:pt x="487" y="1421"/>
                </a:lnTo>
                <a:lnTo>
                  <a:pt x="495" y="1430"/>
                </a:lnTo>
                <a:lnTo>
                  <a:pt x="502" y="1440"/>
                </a:lnTo>
                <a:lnTo>
                  <a:pt x="510" y="1449"/>
                </a:lnTo>
                <a:lnTo>
                  <a:pt x="519" y="1461"/>
                </a:lnTo>
                <a:lnTo>
                  <a:pt x="529" y="1470"/>
                </a:lnTo>
                <a:lnTo>
                  <a:pt x="538" y="1481"/>
                </a:lnTo>
                <a:lnTo>
                  <a:pt x="549" y="1492"/>
                </a:lnTo>
                <a:lnTo>
                  <a:pt x="559" y="1504"/>
                </a:lnTo>
                <a:lnTo>
                  <a:pt x="570" y="1513"/>
                </a:lnTo>
                <a:lnTo>
                  <a:pt x="580" y="1524"/>
                </a:lnTo>
                <a:lnTo>
                  <a:pt x="591" y="1534"/>
                </a:lnTo>
                <a:lnTo>
                  <a:pt x="601" y="1544"/>
                </a:lnTo>
                <a:lnTo>
                  <a:pt x="612" y="1554"/>
                </a:lnTo>
                <a:lnTo>
                  <a:pt x="621" y="1563"/>
                </a:lnTo>
                <a:lnTo>
                  <a:pt x="630" y="1570"/>
                </a:lnTo>
                <a:lnTo>
                  <a:pt x="638" y="1577"/>
                </a:lnTo>
                <a:lnTo>
                  <a:pt x="647" y="1582"/>
                </a:lnTo>
                <a:lnTo>
                  <a:pt x="654" y="1589"/>
                </a:lnTo>
                <a:lnTo>
                  <a:pt x="661" y="1595"/>
                </a:lnTo>
                <a:lnTo>
                  <a:pt x="669" y="1600"/>
                </a:lnTo>
                <a:lnTo>
                  <a:pt x="678" y="1606"/>
                </a:lnTo>
                <a:lnTo>
                  <a:pt x="685" y="1612"/>
                </a:lnTo>
                <a:lnTo>
                  <a:pt x="693" y="1618"/>
                </a:lnTo>
                <a:lnTo>
                  <a:pt x="700" y="1624"/>
                </a:lnTo>
                <a:lnTo>
                  <a:pt x="709" y="1628"/>
                </a:lnTo>
                <a:lnTo>
                  <a:pt x="715" y="1634"/>
                </a:lnTo>
                <a:lnTo>
                  <a:pt x="722" y="1640"/>
                </a:lnTo>
                <a:lnTo>
                  <a:pt x="727" y="1645"/>
                </a:lnTo>
                <a:lnTo>
                  <a:pt x="734" y="1648"/>
                </a:lnTo>
                <a:lnTo>
                  <a:pt x="739" y="1652"/>
                </a:lnTo>
                <a:lnTo>
                  <a:pt x="744" y="1655"/>
                </a:lnTo>
                <a:lnTo>
                  <a:pt x="747" y="1658"/>
                </a:lnTo>
                <a:lnTo>
                  <a:pt x="751" y="1660"/>
                </a:lnTo>
                <a:lnTo>
                  <a:pt x="753" y="1662"/>
                </a:lnTo>
                <a:lnTo>
                  <a:pt x="756" y="1664"/>
                </a:lnTo>
                <a:lnTo>
                  <a:pt x="760" y="1666"/>
                </a:lnTo>
                <a:lnTo>
                  <a:pt x="765" y="1668"/>
                </a:lnTo>
                <a:lnTo>
                  <a:pt x="769" y="1672"/>
                </a:lnTo>
                <a:lnTo>
                  <a:pt x="775" y="1674"/>
                </a:lnTo>
                <a:lnTo>
                  <a:pt x="781" y="1677"/>
                </a:lnTo>
                <a:lnTo>
                  <a:pt x="787" y="1679"/>
                </a:lnTo>
                <a:lnTo>
                  <a:pt x="793" y="1683"/>
                </a:lnTo>
                <a:lnTo>
                  <a:pt x="798" y="1685"/>
                </a:lnTo>
                <a:lnTo>
                  <a:pt x="804" y="1689"/>
                </a:lnTo>
                <a:lnTo>
                  <a:pt x="811" y="1691"/>
                </a:lnTo>
                <a:lnTo>
                  <a:pt x="816" y="1695"/>
                </a:lnTo>
                <a:lnTo>
                  <a:pt x="822" y="1696"/>
                </a:lnTo>
                <a:lnTo>
                  <a:pt x="828" y="1699"/>
                </a:lnTo>
                <a:lnTo>
                  <a:pt x="835" y="1701"/>
                </a:lnTo>
                <a:lnTo>
                  <a:pt x="840" y="1705"/>
                </a:lnTo>
                <a:lnTo>
                  <a:pt x="847" y="1706"/>
                </a:lnTo>
                <a:lnTo>
                  <a:pt x="854" y="1710"/>
                </a:lnTo>
                <a:lnTo>
                  <a:pt x="863" y="1712"/>
                </a:lnTo>
                <a:lnTo>
                  <a:pt x="872" y="1715"/>
                </a:lnTo>
                <a:lnTo>
                  <a:pt x="882" y="1718"/>
                </a:lnTo>
                <a:lnTo>
                  <a:pt x="891" y="1722"/>
                </a:lnTo>
                <a:lnTo>
                  <a:pt x="902" y="1724"/>
                </a:lnTo>
                <a:lnTo>
                  <a:pt x="912" y="1728"/>
                </a:lnTo>
                <a:lnTo>
                  <a:pt x="923" y="1731"/>
                </a:lnTo>
                <a:lnTo>
                  <a:pt x="933" y="1734"/>
                </a:lnTo>
                <a:lnTo>
                  <a:pt x="944" y="1736"/>
                </a:lnTo>
                <a:lnTo>
                  <a:pt x="953" y="1740"/>
                </a:lnTo>
                <a:lnTo>
                  <a:pt x="964" y="1742"/>
                </a:lnTo>
                <a:lnTo>
                  <a:pt x="973" y="1744"/>
                </a:lnTo>
                <a:lnTo>
                  <a:pt x="983" y="1746"/>
                </a:lnTo>
                <a:lnTo>
                  <a:pt x="990" y="1750"/>
                </a:lnTo>
                <a:lnTo>
                  <a:pt x="999" y="1752"/>
                </a:lnTo>
                <a:lnTo>
                  <a:pt x="1009" y="1753"/>
                </a:lnTo>
                <a:lnTo>
                  <a:pt x="1021" y="1755"/>
                </a:lnTo>
                <a:lnTo>
                  <a:pt x="1032" y="1759"/>
                </a:lnTo>
                <a:lnTo>
                  <a:pt x="1043" y="1761"/>
                </a:lnTo>
                <a:lnTo>
                  <a:pt x="1055" y="1763"/>
                </a:lnTo>
                <a:lnTo>
                  <a:pt x="1067" y="1764"/>
                </a:lnTo>
                <a:lnTo>
                  <a:pt x="1078" y="1768"/>
                </a:lnTo>
                <a:lnTo>
                  <a:pt x="1089" y="1770"/>
                </a:lnTo>
                <a:lnTo>
                  <a:pt x="1100" y="1771"/>
                </a:lnTo>
                <a:lnTo>
                  <a:pt x="1111" y="1773"/>
                </a:lnTo>
                <a:lnTo>
                  <a:pt x="1121" y="1775"/>
                </a:lnTo>
                <a:lnTo>
                  <a:pt x="1131" y="1777"/>
                </a:lnTo>
                <a:lnTo>
                  <a:pt x="1139" y="1779"/>
                </a:lnTo>
                <a:lnTo>
                  <a:pt x="1148" y="1779"/>
                </a:lnTo>
                <a:lnTo>
                  <a:pt x="1155" y="1781"/>
                </a:lnTo>
                <a:lnTo>
                  <a:pt x="1164" y="1781"/>
                </a:lnTo>
                <a:lnTo>
                  <a:pt x="1173" y="1782"/>
                </a:lnTo>
                <a:lnTo>
                  <a:pt x="1184" y="1782"/>
                </a:lnTo>
                <a:lnTo>
                  <a:pt x="1195" y="1784"/>
                </a:lnTo>
                <a:lnTo>
                  <a:pt x="1206" y="1784"/>
                </a:lnTo>
                <a:lnTo>
                  <a:pt x="1217" y="1785"/>
                </a:lnTo>
                <a:lnTo>
                  <a:pt x="1231" y="1785"/>
                </a:lnTo>
                <a:lnTo>
                  <a:pt x="1242" y="1787"/>
                </a:lnTo>
                <a:lnTo>
                  <a:pt x="1253" y="1787"/>
                </a:lnTo>
                <a:lnTo>
                  <a:pt x="1265" y="1789"/>
                </a:lnTo>
                <a:lnTo>
                  <a:pt x="1277" y="1789"/>
                </a:lnTo>
                <a:lnTo>
                  <a:pt x="1287" y="1791"/>
                </a:lnTo>
                <a:lnTo>
                  <a:pt x="1299" y="1791"/>
                </a:lnTo>
                <a:lnTo>
                  <a:pt x="1308" y="1791"/>
                </a:lnTo>
                <a:lnTo>
                  <a:pt x="1319" y="1791"/>
                </a:lnTo>
                <a:lnTo>
                  <a:pt x="1327" y="1793"/>
                </a:lnTo>
                <a:lnTo>
                  <a:pt x="1337" y="1793"/>
                </a:lnTo>
                <a:lnTo>
                  <a:pt x="1347" y="1794"/>
                </a:lnTo>
                <a:lnTo>
                  <a:pt x="1358" y="1794"/>
                </a:lnTo>
                <a:lnTo>
                  <a:pt x="1370" y="1795"/>
                </a:lnTo>
                <a:lnTo>
                  <a:pt x="1381" y="1795"/>
                </a:lnTo>
                <a:lnTo>
                  <a:pt x="1393" y="1795"/>
                </a:lnTo>
                <a:lnTo>
                  <a:pt x="1406" y="1795"/>
                </a:lnTo>
                <a:lnTo>
                  <a:pt x="1417" y="1796"/>
                </a:lnTo>
                <a:lnTo>
                  <a:pt x="1429" y="1796"/>
                </a:lnTo>
                <a:lnTo>
                  <a:pt x="1440" y="1796"/>
                </a:lnTo>
                <a:lnTo>
                  <a:pt x="1452" y="1796"/>
                </a:lnTo>
                <a:lnTo>
                  <a:pt x="1461" y="1796"/>
                </a:lnTo>
                <a:lnTo>
                  <a:pt x="1472" y="1796"/>
                </a:lnTo>
                <a:lnTo>
                  <a:pt x="1480" y="1796"/>
                </a:lnTo>
                <a:lnTo>
                  <a:pt x="1489" y="1796"/>
                </a:lnTo>
                <a:lnTo>
                  <a:pt x="1494" y="1796"/>
                </a:lnTo>
                <a:lnTo>
                  <a:pt x="1499" y="1796"/>
                </a:lnTo>
                <a:lnTo>
                  <a:pt x="1501" y="1796"/>
                </a:lnTo>
                <a:lnTo>
                  <a:pt x="1505" y="1796"/>
                </a:lnTo>
                <a:lnTo>
                  <a:pt x="1506" y="1796"/>
                </a:lnTo>
                <a:lnTo>
                  <a:pt x="1507" y="1796"/>
                </a:lnTo>
                <a:lnTo>
                  <a:pt x="1509" y="1796"/>
                </a:lnTo>
                <a:lnTo>
                  <a:pt x="1511" y="1796"/>
                </a:lnTo>
                <a:lnTo>
                  <a:pt x="1513" y="1796"/>
                </a:lnTo>
                <a:lnTo>
                  <a:pt x="1516" y="1796"/>
                </a:lnTo>
                <a:lnTo>
                  <a:pt x="1519" y="1796"/>
                </a:lnTo>
                <a:lnTo>
                  <a:pt x="1525" y="1796"/>
                </a:lnTo>
                <a:lnTo>
                  <a:pt x="1531" y="1796"/>
                </a:lnTo>
                <a:lnTo>
                  <a:pt x="1540" y="1796"/>
                </a:lnTo>
                <a:lnTo>
                  <a:pt x="1550" y="1796"/>
                </a:lnTo>
                <a:lnTo>
                  <a:pt x="1564" y="1796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710160" y="2454120"/>
            <a:ext cx="2474640" cy="4272120"/>
          </a:xfrm>
          <a:prstGeom prst="line">
            <a:avLst/>
          </a:prstGeom>
          <a:ln w="316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485720" y="1546200"/>
            <a:ext cx="683892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335800" y="1544760"/>
            <a:ext cx="0" cy="527184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016080" y="2095560"/>
            <a:ext cx="384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c0c0c0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175360" y="4027320"/>
            <a:ext cx="353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c0c0c0"/>
                </a:solidFill>
                <a:latin typeface="Times New Roman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610480" y="6477120"/>
            <a:ext cx="762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534520" y="114300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143000" y="83808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38400" y="6986520"/>
            <a:ext cx="7064280" cy="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1238400" y="1531800"/>
            <a:ext cx="0" cy="5454720"/>
          </a:xfrm>
          <a:prstGeom prst="line">
            <a:avLst/>
          </a:prstGeom>
          <a:ln w="47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3360" y="1562040"/>
            <a:ext cx="761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79320" y="6819840"/>
            <a:ext cx="762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GB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772400" y="7010280"/>
            <a:ext cx="53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0160" y="3962520"/>
            <a:ext cx="5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219320" y="1731960"/>
            <a:ext cx="7086240" cy="985680"/>
            <a:chOff x="1219320" y="1731960"/>
            <a:chExt cx="7086240" cy="985680"/>
          </a:xfrm>
        </p:grpSpPr>
        <p:sp>
          <p:nvSpPr>
            <p:cNvPr id="1541" name=""/>
            <p:cNvSpPr/>
            <p:nvPr/>
          </p:nvSpPr>
          <p:spPr>
            <a:xfrm>
              <a:off x="1219320" y="2184480"/>
              <a:ext cx="7086240" cy="0"/>
            </a:xfrm>
            <a:prstGeom prst="line">
              <a:avLst/>
            </a:prstGeom>
            <a:ln w="127080">
              <a:solidFill>
                <a:srgbClr val="4181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3448080" y="1731960"/>
              <a:ext cx="1954800" cy="9856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1680">
              <a:solidFill>
                <a:srgbClr val="4181ff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+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1447920" y="1523880"/>
            <a:ext cx="1836720" cy="5410080"/>
            <a:chOff x="1447920" y="1523880"/>
            <a:chExt cx="1836720" cy="5410080"/>
          </a:xfrm>
        </p:grpSpPr>
        <p:sp>
          <p:nvSpPr>
            <p:cNvPr id="1544" name=""/>
            <p:cNvSpPr/>
            <p:nvPr/>
          </p:nvSpPr>
          <p:spPr>
            <a:xfrm>
              <a:off x="2400480" y="1523880"/>
              <a:ext cx="0" cy="5410080"/>
            </a:xfrm>
            <a:prstGeom prst="line">
              <a:avLst/>
            </a:prstGeom>
            <a:ln w="127080">
              <a:solidFill>
                <a:srgbClr val="c2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1447920" y="4018320"/>
              <a:ext cx="1836720" cy="106344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1680">
              <a:solidFill>
                <a:srgbClr val="c2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+R</a:t>
              </a:r>
              <a:r>
                <a:rPr b="0" lang="en-US" sz="3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800" spc="-1" strike="noStrike" baseline="30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0" y="0"/>
            <a:ext cx="1011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tamaño de la Caja de  Edgeworth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33120" y="2217600"/>
            <a:ext cx="842652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Hay solamente un actor económico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or lo tanto no hay interacciones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s precios o bien son exógenos (del continente? del mundo? de Marte?) o son hipotético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6040" y="71748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Porqué es la economía de Robinson Crusoe tan aburrid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/>
          </p:nvPr>
        </p:nvSpPr>
        <p:spPr>
          <a:xfrm>
            <a:off x="-336960" y="-98280"/>
            <a:ext cx="1039500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La competencia lleva a Juan y Pedro de aquí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571840" y="3228840"/>
            <a:ext cx="2841480" cy="3259440"/>
          </a:xfrm>
          <a:custGeom>
            <a:avLst/>
            <a:gdLst/>
            <a:ahLst/>
            <a:rect l="l" t="t" r="r" b="b"/>
            <a:pathLst>
              <a:path w="1790" h="2053">
                <a:moveTo>
                  <a:pt x="1789" y="2052"/>
                </a:moveTo>
                <a:lnTo>
                  <a:pt x="1788" y="2036"/>
                </a:lnTo>
                <a:lnTo>
                  <a:pt x="1786" y="2022"/>
                </a:lnTo>
                <a:lnTo>
                  <a:pt x="1784" y="2012"/>
                </a:lnTo>
                <a:lnTo>
                  <a:pt x="1784" y="2003"/>
                </a:lnTo>
                <a:lnTo>
                  <a:pt x="1782" y="1997"/>
                </a:lnTo>
                <a:lnTo>
                  <a:pt x="1782" y="1992"/>
                </a:lnTo>
                <a:lnTo>
                  <a:pt x="1782" y="1989"/>
                </a:lnTo>
                <a:lnTo>
                  <a:pt x="1782" y="1985"/>
                </a:lnTo>
                <a:lnTo>
                  <a:pt x="1782" y="1983"/>
                </a:lnTo>
                <a:lnTo>
                  <a:pt x="1782" y="1981"/>
                </a:lnTo>
                <a:lnTo>
                  <a:pt x="1782" y="1980"/>
                </a:lnTo>
                <a:lnTo>
                  <a:pt x="1782" y="1977"/>
                </a:lnTo>
                <a:lnTo>
                  <a:pt x="1781" y="1974"/>
                </a:lnTo>
                <a:lnTo>
                  <a:pt x="1781" y="1969"/>
                </a:lnTo>
                <a:lnTo>
                  <a:pt x="1780" y="1963"/>
                </a:lnTo>
                <a:lnTo>
                  <a:pt x="1780" y="1954"/>
                </a:lnTo>
                <a:lnTo>
                  <a:pt x="1778" y="1944"/>
                </a:lnTo>
                <a:lnTo>
                  <a:pt x="1776" y="1931"/>
                </a:lnTo>
                <a:lnTo>
                  <a:pt x="1772" y="1915"/>
                </a:lnTo>
                <a:lnTo>
                  <a:pt x="1770" y="1896"/>
                </a:lnTo>
                <a:lnTo>
                  <a:pt x="1766" y="1877"/>
                </a:lnTo>
                <a:lnTo>
                  <a:pt x="1762" y="1855"/>
                </a:lnTo>
                <a:lnTo>
                  <a:pt x="1758" y="1831"/>
                </a:lnTo>
                <a:lnTo>
                  <a:pt x="1754" y="1806"/>
                </a:lnTo>
                <a:lnTo>
                  <a:pt x="1748" y="1782"/>
                </a:lnTo>
                <a:lnTo>
                  <a:pt x="1743" y="1756"/>
                </a:lnTo>
                <a:lnTo>
                  <a:pt x="1738" y="1729"/>
                </a:lnTo>
                <a:lnTo>
                  <a:pt x="1733" y="1702"/>
                </a:lnTo>
                <a:lnTo>
                  <a:pt x="1728" y="1676"/>
                </a:lnTo>
                <a:lnTo>
                  <a:pt x="1722" y="1649"/>
                </a:lnTo>
                <a:lnTo>
                  <a:pt x="1716" y="1624"/>
                </a:lnTo>
                <a:lnTo>
                  <a:pt x="1712" y="1598"/>
                </a:lnTo>
                <a:lnTo>
                  <a:pt x="1706" y="1574"/>
                </a:lnTo>
                <a:lnTo>
                  <a:pt x="1701" y="1548"/>
                </a:lnTo>
                <a:lnTo>
                  <a:pt x="1693" y="1522"/>
                </a:lnTo>
                <a:lnTo>
                  <a:pt x="1688" y="1493"/>
                </a:lnTo>
                <a:lnTo>
                  <a:pt x="1680" y="1465"/>
                </a:lnTo>
                <a:lnTo>
                  <a:pt x="1673" y="1437"/>
                </a:lnTo>
                <a:lnTo>
                  <a:pt x="1665" y="1409"/>
                </a:lnTo>
                <a:lnTo>
                  <a:pt x="1658" y="1381"/>
                </a:lnTo>
                <a:lnTo>
                  <a:pt x="1651" y="1355"/>
                </a:lnTo>
                <a:lnTo>
                  <a:pt x="1643" y="1329"/>
                </a:lnTo>
                <a:lnTo>
                  <a:pt x="1636" y="1305"/>
                </a:lnTo>
                <a:lnTo>
                  <a:pt x="1629" y="1281"/>
                </a:lnTo>
                <a:lnTo>
                  <a:pt x="1622" y="1260"/>
                </a:lnTo>
                <a:lnTo>
                  <a:pt x="1615" y="1241"/>
                </a:lnTo>
                <a:lnTo>
                  <a:pt x="1610" y="1224"/>
                </a:lnTo>
                <a:lnTo>
                  <a:pt x="1605" y="1210"/>
                </a:lnTo>
                <a:lnTo>
                  <a:pt x="1599" y="1198"/>
                </a:lnTo>
                <a:lnTo>
                  <a:pt x="1594" y="1183"/>
                </a:lnTo>
                <a:lnTo>
                  <a:pt x="1586" y="1167"/>
                </a:lnTo>
                <a:lnTo>
                  <a:pt x="1580" y="1149"/>
                </a:lnTo>
                <a:lnTo>
                  <a:pt x="1571" y="1131"/>
                </a:lnTo>
                <a:lnTo>
                  <a:pt x="1564" y="1111"/>
                </a:lnTo>
                <a:lnTo>
                  <a:pt x="1554" y="1090"/>
                </a:lnTo>
                <a:lnTo>
                  <a:pt x="1547" y="1069"/>
                </a:lnTo>
                <a:lnTo>
                  <a:pt x="1537" y="1048"/>
                </a:lnTo>
                <a:lnTo>
                  <a:pt x="1528" y="1027"/>
                </a:lnTo>
                <a:lnTo>
                  <a:pt x="1519" y="1007"/>
                </a:lnTo>
                <a:lnTo>
                  <a:pt x="1512" y="986"/>
                </a:lnTo>
                <a:lnTo>
                  <a:pt x="1503" y="966"/>
                </a:lnTo>
                <a:lnTo>
                  <a:pt x="1496" y="946"/>
                </a:lnTo>
                <a:lnTo>
                  <a:pt x="1488" y="929"/>
                </a:lnTo>
                <a:lnTo>
                  <a:pt x="1482" y="910"/>
                </a:lnTo>
                <a:lnTo>
                  <a:pt x="1474" y="894"/>
                </a:lnTo>
                <a:lnTo>
                  <a:pt x="1466" y="877"/>
                </a:lnTo>
                <a:lnTo>
                  <a:pt x="1458" y="859"/>
                </a:lnTo>
                <a:lnTo>
                  <a:pt x="1450" y="840"/>
                </a:lnTo>
                <a:lnTo>
                  <a:pt x="1441" y="821"/>
                </a:lnTo>
                <a:lnTo>
                  <a:pt x="1433" y="801"/>
                </a:lnTo>
                <a:lnTo>
                  <a:pt x="1424" y="781"/>
                </a:lnTo>
                <a:lnTo>
                  <a:pt x="1416" y="761"/>
                </a:lnTo>
                <a:lnTo>
                  <a:pt x="1407" y="742"/>
                </a:lnTo>
                <a:lnTo>
                  <a:pt x="1399" y="723"/>
                </a:lnTo>
                <a:lnTo>
                  <a:pt x="1391" y="706"/>
                </a:lnTo>
                <a:lnTo>
                  <a:pt x="1383" y="688"/>
                </a:lnTo>
                <a:lnTo>
                  <a:pt x="1376" y="673"/>
                </a:lnTo>
                <a:lnTo>
                  <a:pt x="1369" y="658"/>
                </a:lnTo>
                <a:lnTo>
                  <a:pt x="1364" y="645"/>
                </a:lnTo>
                <a:lnTo>
                  <a:pt x="1360" y="634"/>
                </a:lnTo>
                <a:lnTo>
                  <a:pt x="1353" y="624"/>
                </a:lnTo>
                <a:lnTo>
                  <a:pt x="1348" y="612"/>
                </a:lnTo>
                <a:lnTo>
                  <a:pt x="1340" y="599"/>
                </a:lnTo>
                <a:lnTo>
                  <a:pt x="1333" y="586"/>
                </a:lnTo>
                <a:lnTo>
                  <a:pt x="1324" y="572"/>
                </a:lnTo>
                <a:lnTo>
                  <a:pt x="1316" y="557"/>
                </a:lnTo>
                <a:lnTo>
                  <a:pt x="1306" y="542"/>
                </a:lnTo>
                <a:lnTo>
                  <a:pt x="1298" y="526"/>
                </a:lnTo>
                <a:lnTo>
                  <a:pt x="1287" y="512"/>
                </a:lnTo>
                <a:lnTo>
                  <a:pt x="1278" y="497"/>
                </a:lnTo>
                <a:lnTo>
                  <a:pt x="1268" y="482"/>
                </a:lnTo>
                <a:lnTo>
                  <a:pt x="1258" y="468"/>
                </a:lnTo>
                <a:lnTo>
                  <a:pt x="1249" y="454"/>
                </a:lnTo>
                <a:lnTo>
                  <a:pt x="1240" y="441"/>
                </a:lnTo>
                <a:lnTo>
                  <a:pt x="1230" y="430"/>
                </a:lnTo>
                <a:lnTo>
                  <a:pt x="1222" y="418"/>
                </a:lnTo>
                <a:lnTo>
                  <a:pt x="1213" y="408"/>
                </a:lnTo>
                <a:lnTo>
                  <a:pt x="1204" y="397"/>
                </a:lnTo>
                <a:lnTo>
                  <a:pt x="1192" y="386"/>
                </a:lnTo>
                <a:lnTo>
                  <a:pt x="1182" y="373"/>
                </a:lnTo>
                <a:lnTo>
                  <a:pt x="1170" y="362"/>
                </a:lnTo>
                <a:lnTo>
                  <a:pt x="1158" y="348"/>
                </a:lnTo>
                <a:lnTo>
                  <a:pt x="1146" y="336"/>
                </a:lnTo>
                <a:lnTo>
                  <a:pt x="1135" y="323"/>
                </a:lnTo>
                <a:lnTo>
                  <a:pt x="1122" y="312"/>
                </a:lnTo>
                <a:lnTo>
                  <a:pt x="1110" y="300"/>
                </a:lnTo>
                <a:lnTo>
                  <a:pt x="1098" y="288"/>
                </a:lnTo>
                <a:lnTo>
                  <a:pt x="1087" y="277"/>
                </a:lnTo>
                <a:lnTo>
                  <a:pt x="1076" y="268"/>
                </a:lnTo>
                <a:lnTo>
                  <a:pt x="1065" y="258"/>
                </a:lnTo>
                <a:lnTo>
                  <a:pt x="1056" y="250"/>
                </a:lnTo>
                <a:lnTo>
                  <a:pt x="1047" y="242"/>
                </a:lnTo>
                <a:lnTo>
                  <a:pt x="1038" y="237"/>
                </a:lnTo>
                <a:lnTo>
                  <a:pt x="1029" y="230"/>
                </a:lnTo>
                <a:lnTo>
                  <a:pt x="1020" y="224"/>
                </a:lnTo>
                <a:lnTo>
                  <a:pt x="1012" y="217"/>
                </a:lnTo>
                <a:lnTo>
                  <a:pt x="1003" y="211"/>
                </a:lnTo>
                <a:lnTo>
                  <a:pt x="995" y="204"/>
                </a:lnTo>
                <a:lnTo>
                  <a:pt x="986" y="197"/>
                </a:lnTo>
                <a:lnTo>
                  <a:pt x="979" y="189"/>
                </a:lnTo>
                <a:lnTo>
                  <a:pt x="970" y="184"/>
                </a:lnTo>
                <a:lnTo>
                  <a:pt x="962" y="178"/>
                </a:lnTo>
                <a:lnTo>
                  <a:pt x="955" y="173"/>
                </a:lnTo>
                <a:lnTo>
                  <a:pt x="950" y="167"/>
                </a:lnTo>
                <a:lnTo>
                  <a:pt x="943" y="164"/>
                </a:lnTo>
                <a:lnTo>
                  <a:pt x="938" y="159"/>
                </a:lnTo>
                <a:lnTo>
                  <a:pt x="934" y="156"/>
                </a:lnTo>
                <a:lnTo>
                  <a:pt x="931" y="152"/>
                </a:lnTo>
                <a:lnTo>
                  <a:pt x="927" y="151"/>
                </a:lnTo>
                <a:lnTo>
                  <a:pt x="923" y="149"/>
                </a:lnTo>
                <a:lnTo>
                  <a:pt x="918" y="148"/>
                </a:lnTo>
                <a:lnTo>
                  <a:pt x="913" y="144"/>
                </a:lnTo>
                <a:lnTo>
                  <a:pt x="907" y="142"/>
                </a:lnTo>
                <a:lnTo>
                  <a:pt x="901" y="138"/>
                </a:lnTo>
                <a:lnTo>
                  <a:pt x="894" y="135"/>
                </a:lnTo>
                <a:lnTo>
                  <a:pt x="888" y="131"/>
                </a:lnTo>
                <a:lnTo>
                  <a:pt x="881" y="129"/>
                </a:lnTo>
                <a:lnTo>
                  <a:pt x="873" y="126"/>
                </a:lnTo>
                <a:lnTo>
                  <a:pt x="866" y="122"/>
                </a:lnTo>
                <a:lnTo>
                  <a:pt x="860" y="119"/>
                </a:lnTo>
                <a:lnTo>
                  <a:pt x="852" y="117"/>
                </a:lnTo>
                <a:lnTo>
                  <a:pt x="845" y="113"/>
                </a:lnTo>
                <a:lnTo>
                  <a:pt x="838" y="110"/>
                </a:lnTo>
                <a:lnTo>
                  <a:pt x="833" y="106"/>
                </a:lnTo>
                <a:lnTo>
                  <a:pt x="825" y="104"/>
                </a:lnTo>
                <a:lnTo>
                  <a:pt x="818" y="102"/>
                </a:lnTo>
                <a:lnTo>
                  <a:pt x="808" y="99"/>
                </a:lnTo>
                <a:lnTo>
                  <a:pt x="799" y="96"/>
                </a:lnTo>
                <a:lnTo>
                  <a:pt x="788" y="92"/>
                </a:lnTo>
                <a:lnTo>
                  <a:pt x="778" y="89"/>
                </a:lnTo>
                <a:lnTo>
                  <a:pt x="767" y="85"/>
                </a:lnTo>
                <a:lnTo>
                  <a:pt x="755" y="81"/>
                </a:lnTo>
                <a:lnTo>
                  <a:pt x="742" y="78"/>
                </a:lnTo>
                <a:lnTo>
                  <a:pt x="731" y="74"/>
                </a:lnTo>
                <a:lnTo>
                  <a:pt x="718" y="71"/>
                </a:lnTo>
                <a:lnTo>
                  <a:pt x="707" y="67"/>
                </a:lnTo>
                <a:lnTo>
                  <a:pt x="696" y="65"/>
                </a:lnTo>
                <a:lnTo>
                  <a:pt x="684" y="61"/>
                </a:lnTo>
                <a:lnTo>
                  <a:pt x="674" y="59"/>
                </a:lnTo>
                <a:lnTo>
                  <a:pt x="664" y="55"/>
                </a:lnTo>
                <a:lnTo>
                  <a:pt x="654" y="53"/>
                </a:lnTo>
                <a:lnTo>
                  <a:pt x="643" y="51"/>
                </a:lnTo>
                <a:lnTo>
                  <a:pt x="630" y="50"/>
                </a:lnTo>
                <a:lnTo>
                  <a:pt x="619" y="46"/>
                </a:lnTo>
                <a:lnTo>
                  <a:pt x="606" y="44"/>
                </a:lnTo>
                <a:lnTo>
                  <a:pt x="592" y="40"/>
                </a:lnTo>
                <a:lnTo>
                  <a:pt x="580" y="38"/>
                </a:lnTo>
                <a:lnTo>
                  <a:pt x="566" y="34"/>
                </a:lnTo>
                <a:lnTo>
                  <a:pt x="552" y="32"/>
                </a:lnTo>
                <a:lnTo>
                  <a:pt x="540" y="31"/>
                </a:lnTo>
                <a:lnTo>
                  <a:pt x="526" y="29"/>
                </a:lnTo>
                <a:lnTo>
                  <a:pt x="514" y="26"/>
                </a:lnTo>
                <a:lnTo>
                  <a:pt x="503" y="24"/>
                </a:lnTo>
                <a:lnTo>
                  <a:pt x="492" y="23"/>
                </a:lnTo>
                <a:lnTo>
                  <a:pt x="482" y="21"/>
                </a:lnTo>
                <a:lnTo>
                  <a:pt x="473" y="19"/>
                </a:lnTo>
                <a:lnTo>
                  <a:pt x="464" y="19"/>
                </a:lnTo>
                <a:lnTo>
                  <a:pt x="455" y="17"/>
                </a:lnTo>
                <a:lnTo>
                  <a:pt x="443" y="17"/>
                </a:lnTo>
                <a:lnTo>
                  <a:pt x="432" y="15"/>
                </a:lnTo>
                <a:lnTo>
                  <a:pt x="419" y="15"/>
                </a:lnTo>
                <a:lnTo>
                  <a:pt x="406" y="13"/>
                </a:lnTo>
                <a:lnTo>
                  <a:pt x="394" y="13"/>
                </a:lnTo>
                <a:lnTo>
                  <a:pt x="380" y="11"/>
                </a:lnTo>
                <a:lnTo>
                  <a:pt x="365" y="11"/>
                </a:lnTo>
                <a:lnTo>
                  <a:pt x="352" y="10"/>
                </a:lnTo>
                <a:lnTo>
                  <a:pt x="339" y="10"/>
                </a:lnTo>
                <a:lnTo>
                  <a:pt x="326" y="8"/>
                </a:lnTo>
                <a:lnTo>
                  <a:pt x="313" y="8"/>
                </a:lnTo>
                <a:lnTo>
                  <a:pt x="301" y="6"/>
                </a:lnTo>
                <a:lnTo>
                  <a:pt x="290" y="6"/>
                </a:lnTo>
                <a:lnTo>
                  <a:pt x="279" y="4"/>
                </a:lnTo>
                <a:lnTo>
                  <a:pt x="268" y="4"/>
                </a:lnTo>
                <a:lnTo>
                  <a:pt x="258" y="4"/>
                </a:lnTo>
                <a:lnTo>
                  <a:pt x="245" y="4"/>
                </a:lnTo>
                <a:lnTo>
                  <a:pt x="233" y="3"/>
                </a:lnTo>
                <a:lnTo>
                  <a:pt x="219" y="3"/>
                </a:lnTo>
                <a:lnTo>
                  <a:pt x="206" y="3"/>
                </a:lnTo>
                <a:lnTo>
                  <a:pt x="193" y="3"/>
                </a:lnTo>
                <a:lnTo>
                  <a:pt x="180" y="1"/>
                </a:lnTo>
                <a:lnTo>
                  <a:pt x="166" y="1"/>
                </a:lnTo>
                <a:lnTo>
                  <a:pt x="152" y="1"/>
                </a:lnTo>
                <a:lnTo>
                  <a:pt x="140" y="1"/>
                </a:lnTo>
                <a:lnTo>
                  <a:pt x="128" y="1"/>
                </a:lnTo>
                <a:lnTo>
                  <a:pt x="115" y="1"/>
                </a:lnTo>
                <a:lnTo>
                  <a:pt x="104" y="1"/>
                </a:lnTo>
                <a:lnTo>
                  <a:pt x="94" y="1"/>
                </a:lnTo>
                <a:lnTo>
                  <a:pt x="86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66" y="0"/>
                </a:lnTo>
                <a:lnTo>
                  <a:pt x="63" y="0"/>
                </a:lnTo>
                <a:lnTo>
                  <a:pt x="62" y="0"/>
                </a:lnTo>
                <a:lnTo>
                  <a:pt x="60" y="0"/>
                </a:lnTo>
                <a:lnTo>
                  <a:pt x="59" y="0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3" y="0"/>
                </a:lnTo>
                <a:lnTo>
                  <a:pt x="35" y="0"/>
                </a:lnTo>
                <a:lnTo>
                  <a:pt x="25" y="0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9280" y="2368440"/>
            <a:ext cx="3397320" cy="3322800"/>
          </a:xfrm>
          <a:custGeom>
            <a:avLst/>
            <a:gdLst/>
            <a:ahLst/>
            <a:rect l="l" t="t" r="r" b="b"/>
            <a:pathLst>
              <a:path w="2140" h="2093">
                <a:moveTo>
                  <a:pt x="2139" y="2092"/>
                </a:moveTo>
                <a:lnTo>
                  <a:pt x="2135" y="2075"/>
                </a:lnTo>
                <a:lnTo>
                  <a:pt x="2133" y="2060"/>
                </a:lnTo>
                <a:lnTo>
                  <a:pt x="2131" y="2049"/>
                </a:lnTo>
                <a:lnTo>
                  <a:pt x="2129" y="2039"/>
                </a:lnTo>
                <a:lnTo>
                  <a:pt x="2127" y="2033"/>
                </a:lnTo>
                <a:lnTo>
                  <a:pt x="2127" y="2027"/>
                </a:lnTo>
                <a:lnTo>
                  <a:pt x="2126" y="2024"/>
                </a:lnTo>
                <a:lnTo>
                  <a:pt x="2126" y="2020"/>
                </a:lnTo>
                <a:lnTo>
                  <a:pt x="2125" y="2018"/>
                </a:lnTo>
                <a:lnTo>
                  <a:pt x="2125" y="2017"/>
                </a:lnTo>
                <a:lnTo>
                  <a:pt x="2124" y="2015"/>
                </a:lnTo>
                <a:lnTo>
                  <a:pt x="2124" y="2012"/>
                </a:lnTo>
                <a:lnTo>
                  <a:pt x="2123" y="2008"/>
                </a:lnTo>
                <a:lnTo>
                  <a:pt x="2123" y="2004"/>
                </a:lnTo>
                <a:lnTo>
                  <a:pt x="2121" y="1997"/>
                </a:lnTo>
                <a:lnTo>
                  <a:pt x="2120" y="1987"/>
                </a:lnTo>
                <a:lnTo>
                  <a:pt x="2117" y="1977"/>
                </a:lnTo>
                <a:lnTo>
                  <a:pt x="2114" y="1962"/>
                </a:lnTo>
                <a:lnTo>
                  <a:pt x="2109" y="1945"/>
                </a:lnTo>
                <a:lnTo>
                  <a:pt x="2105" y="1925"/>
                </a:lnTo>
                <a:lnTo>
                  <a:pt x="2099" y="1904"/>
                </a:lnTo>
                <a:lnTo>
                  <a:pt x="2093" y="1880"/>
                </a:lnTo>
                <a:lnTo>
                  <a:pt x="2086" y="1855"/>
                </a:lnTo>
                <a:lnTo>
                  <a:pt x="2079" y="1828"/>
                </a:lnTo>
                <a:lnTo>
                  <a:pt x="2071" y="1801"/>
                </a:lnTo>
                <a:lnTo>
                  <a:pt x="2063" y="1773"/>
                </a:lnTo>
                <a:lnTo>
                  <a:pt x="2055" y="1745"/>
                </a:lnTo>
                <a:lnTo>
                  <a:pt x="2047" y="1716"/>
                </a:lnTo>
                <a:lnTo>
                  <a:pt x="2038" y="1688"/>
                </a:lnTo>
                <a:lnTo>
                  <a:pt x="2030" y="1659"/>
                </a:lnTo>
                <a:lnTo>
                  <a:pt x="2021" y="1632"/>
                </a:lnTo>
                <a:lnTo>
                  <a:pt x="2013" y="1604"/>
                </a:lnTo>
                <a:lnTo>
                  <a:pt x="2004" y="1579"/>
                </a:lnTo>
                <a:lnTo>
                  <a:pt x="1996" y="1550"/>
                </a:lnTo>
                <a:lnTo>
                  <a:pt x="1986" y="1522"/>
                </a:lnTo>
                <a:lnTo>
                  <a:pt x="1977" y="1492"/>
                </a:lnTo>
                <a:lnTo>
                  <a:pt x="1965" y="1462"/>
                </a:lnTo>
                <a:lnTo>
                  <a:pt x="1955" y="1432"/>
                </a:lnTo>
                <a:lnTo>
                  <a:pt x="1943" y="1403"/>
                </a:lnTo>
                <a:lnTo>
                  <a:pt x="1934" y="1373"/>
                </a:lnTo>
                <a:lnTo>
                  <a:pt x="1923" y="1345"/>
                </a:lnTo>
                <a:lnTo>
                  <a:pt x="1912" y="1317"/>
                </a:lnTo>
                <a:lnTo>
                  <a:pt x="1902" y="1292"/>
                </a:lnTo>
                <a:lnTo>
                  <a:pt x="1893" y="1267"/>
                </a:lnTo>
                <a:lnTo>
                  <a:pt x="1883" y="1245"/>
                </a:lnTo>
                <a:lnTo>
                  <a:pt x="1875" y="1225"/>
                </a:lnTo>
                <a:lnTo>
                  <a:pt x="1867" y="1207"/>
                </a:lnTo>
                <a:lnTo>
                  <a:pt x="1861" y="1192"/>
                </a:lnTo>
                <a:lnTo>
                  <a:pt x="1853" y="1180"/>
                </a:lnTo>
                <a:lnTo>
                  <a:pt x="1846" y="1164"/>
                </a:lnTo>
                <a:lnTo>
                  <a:pt x="1837" y="1148"/>
                </a:lnTo>
                <a:lnTo>
                  <a:pt x="1829" y="1128"/>
                </a:lnTo>
                <a:lnTo>
                  <a:pt x="1817" y="1109"/>
                </a:lnTo>
                <a:lnTo>
                  <a:pt x="1807" y="1088"/>
                </a:lnTo>
                <a:lnTo>
                  <a:pt x="1796" y="1066"/>
                </a:lnTo>
                <a:lnTo>
                  <a:pt x="1785" y="1044"/>
                </a:lnTo>
                <a:lnTo>
                  <a:pt x="1773" y="1022"/>
                </a:lnTo>
                <a:lnTo>
                  <a:pt x="1762" y="1000"/>
                </a:lnTo>
                <a:lnTo>
                  <a:pt x="1751" y="978"/>
                </a:lnTo>
                <a:lnTo>
                  <a:pt x="1739" y="955"/>
                </a:lnTo>
                <a:lnTo>
                  <a:pt x="1728" y="935"/>
                </a:lnTo>
                <a:lnTo>
                  <a:pt x="1717" y="914"/>
                </a:lnTo>
                <a:lnTo>
                  <a:pt x="1707" y="895"/>
                </a:lnTo>
                <a:lnTo>
                  <a:pt x="1699" y="877"/>
                </a:lnTo>
                <a:lnTo>
                  <a:pt x="1689" y="861"/>
                </a:lnTo>
                <a:lnTo>
                  <a:pt x="1679" y="842"/>
                </a:lnTo>
                <a:lnTo>
                  <a:pt x="1668" y="824"/>
                </a:lnTo>
                <a:lnTo>
                  <a:pt x="1658" y="803"/>
                </a:lnTo>
                <a:lnTo>
                  <a:pt x="1647" y="782"/>
                </a:lnTo>
                <a:lnTo>
                  <a:pt x="1636" y="762"/>
                </a:lnTo>
                <a:lnTo>
                  <a:pt x="1625" y="741"/>
                </a:lnTo>
                <a:lnTo>
                  <a:pt x="1614" y="719"/>
                </a:lnTo>
                <a:lnTo>
                  <a:pt x="1603" y="700"/>
                </a:lnTo>
                <a:lnTo>
                  <a:pt x="1591" y="680"/>
                </a:lnTo>
                <a:lnTo>
                  <a:pt x="1581" y="661"/>
                </a:lnTo>
                <a:lnTo>
                  <a:pt x="1571" y="643"/>
                </a:lnTo>
                <a:lnTo>
                  <a:pt x="1562" y="626"/>
                </a:lnTo>
                <a:lnTo>
                  <a:pt x="1553" y="610"/>
                </a:lnTo>
                <a:lnTo>
                  <a:pt x="1546" y="596"/>
                </a:lnTo>
                <a:lnTo>
                  <a:pt x="1540" y="584"/>
                </a:lnTo>
                <a:lnTo>
                  <a:pt x="1532" y="573"/>
                </a:lnTo>
                <a:lnTo>
                  <a:pt x="1525" y="562"/>
                </a:lnTo>
                <a:lnTo>
                  <a:pt x="1516" y="548"/>
                </a:lnTo>
                <a:lnTo>
                  <a:pt x="1507" y="534"/>
                </a:lnTo>
                <a:lnTo>
                  <a:pt x="1495" y="520"/>
                </a:lnTo>
                <a:lnTo>
                  <a:pt x="1485" y="505"/>
                </a:lnTo>
                <a:lnTo>
                  <a:pt x="1473" y="490"/>
                </a:lnTo>
                <a:lnTo>
                  <a:pt x="1462" y="473"/>
                </a:lnTo>
                <a:lnTo>
                  <a:pt x="1449" y="458"/>
                </a:lnTo>
                <a:lnTo>
                  <a:pt x="1437" y="443"/>
                </a:lnTo>
                <a:lnTo>
                  <a:pt x="1424" y="428"/>
                </a:lnTo>
                <a:lnTo>
                  <a:pt x="1413" y="412"/>
                </a:lnTo>
                <a:lnTo>
                  <a:pt x="1401" y="399"/>
                </a:lnTo>
                <a:lnTo>
                  <a:pt x="1389" y="386"/>
                </a:lnTo>
                <a:lnTo>
                  <a:pt x="1378" y="374"/>
                </a:lnTo>
                <a:lnTo>
                  <a:pt x="1369" y="361"/>
                </a:lnTo>
                <a:lnTo>
                  <a:pt x="1357" y="352"/>
                </a:lnTo>
                <a:lnTo>
                  <a:pt x="1346" y="340"/>
                </a:lnTo>
                <a:lnTo>
                  <a:pt x="1334" y="329"/>
                </a:lnTo>
                <a:lnTo>
                  <a:pt x="1321" y="316"/>
                </a:lnTo>
                <a:lnTo>
                  <a:pt x="1307" y="305"/>
                </a:lnTo>
                <a:lnTo>
                  <a:pt x="1293" y="292"/>
                </a:lnTo>
                <a:lnTo>
                  <a:pt x="1278" y="280"/>
                </a:lnTo>
                <a:lnTo>
                  <a:pt x="1265" y="266"/>
                </a:lnTo>
                <a:lnTo>
                  <a:pt x="1250" y="255"/>
                </a:lnTo>
                <a:lnTo>
                  <a:pt x="1236" y="243"/>
                </a:lnTo>
                <a:lnTo>
                  <a:pt x="1222" y="232"/>
                </a:lnTo>
                <a:lnTo>
                  <a:pt x="1209" y="221"/>
                </a:lnTo>
                <a:lnTo>
                  <a:pt x="1196" y="212"/>
                </a:lnTo>
                <a:lnTo>
                  <a:pt x="1183" y="202"/>
                </a:lnTo>
                <a:lnTo>
                  <a:pt x="1172" y="194"/>
                </a:lnTo>
                <a:lnTo>
                  <a:pt x="1162" y="186"/>
                </a:lnTo>
                <a:lnTo>
                  <a:pt x="1151" y="181"/>
                </a:lnTo>
                <a:lnTo>
                  <a:pt x="1142" y="175"/>
                </a:lnTo>
                <a:lnTo>
                  <a:pt x="1131" y="170"/>
                </a:lnTo>
                <a:lnTo>
                  <a:pt x="1122" y="162"/>
                </a:lnTo>
                <a:lnTo>
                  <a:pt x="1111" y="156"/>
                </a:lnTo>
                <a:lnTo>
                  <a:pt x="1102" y="150"/>
                </a:lnTo>
                <a:lnTo>
                  <a:pt x="1092" y="144"/>
                </a:lnTo>
                <a:lnTo>
                  <a:pt x="1083" y="136"/>
                </a:lnTo>
                <a:lnTo>
                  <a:pt x="1073" y="132"/>
                </a:lnTo>
                <a:lnTo>
                  <a:pt x="1063" y="126"/>
                </a:lnTo>
                <a:lnTo>
                  <a:pt x="1055" y="122"/>
                </a:lnTo>
                <a:lnTo>
                  <a:pt x="1049" y="116"/>
                </a:lnTo>
                <a:lnTo>
                  <a:pt x="1041" y="113"/>
                </a:lnTo>
                <a:lnTo>
                  <a:pt x="1035" y="109"/>
                </a:lnTo>
                <a:lnTo>
                  <a:pt x="1031" y="106"/>
                </a:lnTo>
                <a:lnTo>
                  <a:pt x="1028" y="104"/>
                </a:lnTo>
                <a:lnTo>
                  <a:pt x="1023" y="102"/>
                </a:lnTo>
                <a:lnTo>
                  <a:pt x="1019" y="100"/>
                </a:lnTo>
                <a:lnTo>
                  <a:pt x="1014" y="98"/>
                </a:lnTo>
                <a:lnTo>
                  <a:pt x="1008" y="94"/>
                </a:lnTo>
                <a:lnTo>
                  <a:pt x="1001" y="92"/>
                </a:lnTo>
                <a:lnTo>
                  <a:pt x="994" y="88"/>
                </a:lnTo>
                <a:lnTo>
                  <a:pt x="987" y="87"/>
                </a:lnTo>
                <a:lnTo>
                  <a:pt x="979" y="83"/>
                </a:lnTo>
                <a:lnTo>
                  <a:pt x="970" y="81"/>
                </a:lnTo>
                <a:lnTo>
                  <a:pt x="963" y="77"/>
                </a:lnTo>
                <a:lnTo>
                  <a:pt x="954" y="75"/>
                </a:lnTo>
                <a:lnTo>
                  <a:pt x="947" y="72"/>
                </a:lnTo>
                <a:lnTo>
                  <a:pt x="939" y="70"/>
                </a:lnTo>
                <a:lnTo>
                  <a:pt x="931" y="67"/>
                </a:lnTo>
                <a:lnTo>
                  <a:pt x="924" y="66"/>
                </a:lnTo>
                <a:lnTo>
                  <a:pt x="917" y="62"/>
                </a:lnTo>
                <a:lnTo>
                  <a:pt x="909" y="60"/>
                </a:lnTo>
                <a:lnTo>
                  <a:pt x="900" y="58"/>
                </a:lnTo>
                <a:lnTo>
                  <a:pt x="889" y="57"/>
                </a:lnTo>
                <a:lnTo>
                  <a:pt x="879" y="53"/>
                </a:lnTo>
                <a:lnTo>
                  <a:pt x="867" y="51"/>
                </a:lnTo>
                <a:lnTo>
                  <a:pt x="855" y="47"/>
                </a:lnTo>
                <a:lnTo>
                  <a:pt x="842" y="46"/>
                </a:lnTo>
                <a:lnTo>
                  <a:pt x="830" y="42"/>
                </a:lnTo>
                <a:lnTo>
                  <a:pt x="816" y="40"/>
                </a:lnTo>
                <a:lnTo>
                  <a:pt x="803" y="37"/>
                </a:lnTo>
                <a:lnTo>
                  <a:pt x="790" y="35"/>
                </a:lnTo>
                <a:lnTo>
                  <a:pt x="777" y="31"/>
                </a:lnTo>
                <a:lnTo>
                  <a:pt x="763" y="29"/>
                </a:lnTo>
                <a:lnTo>
                  <a:pt x="750" y="27"/>
                </a:lnTo>
                <a:lnTo>
                  <a:pt x="739" y="25"/>
                </a:lnTo>
                <a:lnTo>
                  <a:pt x="728" y="21"/>
                </a:lnTo>
                <a:lnTo>
                  <a:pt x="716" y="21"/>
                </a:lnTo>
                <a:lnTo>
                  <a:pt x="705" y="19"/>
                </a:lnTo>
                <a:lnTo>
                  <a:pt x="692" y="17"/>
                </a:lnTo>
                <a:lnTo>
                  <a:pt x="679" y="16"/>
                </a:lnTo>
                <a:lnTo>
                  <a:pt x="664" y="14"/>
                </a:lnTo>
                <a:lnTo>
                  <a:pt x="651" y="12"/>
                </a:lnTo>
                <a:lnTo>
                  <a:pt x="635" y="10"/>
                </a:lnTo>
                <a:lnTo>
                  <a:pt x="622" y="9"/>
                </a:lnTo>
                <a:lnTo>
                  <a:pt x="607" y="9"/>
                </a:lnTo>
                <a:lnTo>
                  <a:pt x="592" y="7"/>
                </a:lnTo>
                <a:lnTo>
                  <a:pt x="578" y="6"/>
                </a:lnTo>
                <a:lnTo>
                  <a:pt x="565" y="4"/>
                </a:lnTo>
                <a:lnTo>
                  <a:pt x="552" y="4"/>
                </a:lnTo>
                <a:lnTo>
                  <a:pt x="540" y="2"/>
                </a:lnTo>
                <a:lnTo>
                  <a:pt x="529" y="2"/>
                </a:lnTo>
                <a:lnTo>
                  <a:pt x="520" y="0"/>
                </a:lnTo>
                <a:lnTo>
                  <a:pt x="509" y="0"/>
                </a:lnTo>
                <a:lnTo>
                  <a:pt x="499" y="0"/>
                </a:lnTo>
                <a:lnTo>
                  <a:pt x="486" y="0"/>
                </a:lnTo>
                <a:lnTo>
                  <a:pt x="475" y="0"/>
                </a:lnTo>
                <a:lnTo>
                  <a:pt x="460" y="0"/>
                </a:lnTo>
                <a:lnTo>
                  <a:pt x="447" y="0"/>
                </a:lnTo>
                <a:lnTo>
                  <a:pt x="431" y="0"/>
                </a:lnTo>
                <a:lnTo>
                  <a:pt x="418" y="0"/>
                </a:lnTo>
                <a:lnTo>
                  <a:pt x="402" y="1"/>
                </a:lnTo>
                <a:lnTo>
                  <a:pt x="387" y="1"/>
                </a:lnTo>
                <a:lnTo>
                  <a:pt x="372" y="1"/>
                </a:lnTo>
                <a:lnTo>
                  <a:pt x="358" y="1"/>
                </a:lnTo>
                <a:lnTo>
                  <a:pt x="343" y="2"/>
                </a:lnTo>
                <a:lnTo>
                  <a:pt x="330" y="2"/>
                </a:lnTo>
                <a:lnTo>
                  <a:pt x="318" y="2"/>
                </a:lnTo>
                <a:lnTo>
                  <a:pt x="307" y="2"/>
                </a:lnTo>
                <a:lnTo>
                  <a:pt x="295" y="4"/>
                </a:lnTo>
                <a:lnTo>
                  <a:pt x="282" y="4"/>
                </a:lnTo>
                <a:lnTo>
                  <a:pt x="268" y="6"/>
                </a:lnTo>
                <a:lnTo>
                  <a:pt x="255" y="6"/>
                </a:lnTo>
                <a:lnTo>
                  <a:pt x="240" y="7"/>
                </a:lnTo>
                <a:lnTo>
                  <a:pt x="225" y="7"/>
                </a:lnTo>
                <a:lnTo>
                  <a:pt x="210" y="9"/>
                </a:lnTo>
                <a:lnTo>
                  <a:pt x="195" y="9"/>
                </a:lnTo>
                <a:lnTo>
                  <a:pt x="180" y="11"/>
                </a:lnTo>
                <a:lnTo>
                  <a:pt x="165" y="11"/>
                </a:lnTo>
                <a:lnTo>
                  <a:pt x="151" y="13"/>
                </a:lnTo>
                <a:lnTo>
                  <a:pt x="137" y="13"/>
                </a:lnTo>
                <a:lnTo>
                  <a:pt x="125" y="15"/>
                </a:lnTo>
                <a:lnTo>
                  <a:pt x="113" y="15"/>
                </a:lnTo>
                <a:lnTo>
                  <a:pt x="103" y="16"/>
                </a:lnTo>
                <a:lnTo>
                  <a:pt x="94" y="16"/>
                </a:lnTo>
                <a:lnTo>
                  <a:pt x="85" y="18"/>
                </a:lnTo>
                <a:lnTo>
                  <a:pt x="79" y="18"/>
                </a:lnTo>
                <a:lnTo>
                  <a:pt x="75" y="18"/>
                </a:lnTo>
                <a:lnTo>
                  <a:pt x="73" y="18"/>
                </a:lnTo>
                <a:lnTo>
                  <a:pt x="70" y="19"/>
                </a:lnTo>
                <a:lnTo>
                  <a:pt x="68" y="19"/>
                </a:lnTo>
                <a:lnTo>
                  <a:pt x="67" y="19"/>
                </a:lnTo>
                <a:lnTo>
                  <a:pt x="65" y="19"/>
                </a:lnTo>
                <a:lnTo>
                  <a:pt x="61" y="20"/>
                </a:lnTo>
                <a:lnTo>
                  <a:pt x="58" y="20"/>
                </a:lnTo>
                <a:lnTo>
                  <a:pt x="53" y="20"/>
                </a:lnTo>
                <a:lnTo>
                  <a:pt x="47" y="20"/>
                </a:lnTo>
                <a:lnTo>
                  <a:pt x="38" y="22"/>
                </a:lnTo>
                <a:lnTo>
                  <a:pt x="28" y="22"/>
                </a:lnTo>
                <a:lnTo>
                  <a:pt x="15" y="24"/>
                </a:lnTo>
                <a:lnTo>
                  <a:pt x="0" y="2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525760" y="3768840"/>
            <a:ext cx="2481120" cy="2855880"/>
          </a:xfrm>
          <a:custGeom>
            <a:avLst/>
            <a:gdLst/>
            <a:ahLst/>
            <a:rect l="l" t="t" r="r" b="b"/>
            <a:pathLst>
              <a:path w="1563" h="1799">
                <a:moveTo>
                  <a:pt x="1562" y="1798"/>
                </a:moveTo>
                <a:lnTo>
                  <a:pt x="1560" y="1784"/>
                </a:lnTo>
                <a:lnTo>
                  <a:pt x="1559" y="1772"/>
                </a:lnTo>
                <a:lnTo>
                  <a:pt x="1557" y="1764"/>
                </a:lnTo>
                <a:lnTo>
                  <a:pt x="1557" y="1756"/>
                </a:lnTo>
                <a:lnTo>
                  <a:pt x="1556" y="1750"/>
                </a:lnTo>
                <a:lnTo>
                  <a:pt x="1556" y="1746"/>
                </a:lnTo>
                <a:lnTo>
                  <a:pt x="1556" y="1743"/>
                </a:lnTo>
                <a:lnTo>
                  <a:pt x="1556" y="1740"/>
                </a:lnTo>
                <a:lnTo>
                  <a:pt x="1556" y="1739"/>
                </a:lnTo>
                <a:lnTo>
                  <a:pt x="1556" y="1738"/>
                </a:lnTo>
                <a:lnTo>
                  <a:pt x="1556" y="1736"/>
                </a:lnTo>
                <a:lnTo>
                  <a:pt x="1556" y="1733"/>
                </a:lnTo>
                <a:lnTo>
                  <a:pt x="1554" y="1730"/>
                </a:lnTo>
                <a:lnTo>
                  <a:pt x="1554" y="1726"/>
                </a:lnTo>
                <a:lnTo>
                  <a:pt x="1554" y="1720"/>
                </a:lnTo>
                <a:lnTo>
                  <a:pt x="1554" y="1712"/>
                </a:lnTo>
                <a:lnTo>
                  <a:pt x="1553" y="1704"/>
                </a:lnTo>
                <a:lnTo>
                  <a:pt x="1551" y="1692"/>
                </a:lnTo>
                <a:lnTo>
                  <a:pt x="1548" y="1678"/>
                </a:lnTo>
                <a:lnTo>
                  <a:pt x="1546" y="1661"/>
                </a:lnTo>
                <a:lnTo>
                  <a:pt x="1543" y="1644"/>
                </a:lnTo>
                <a:lnTo>
                  <a:pt x="1539" y="1625"/>
                </a:lnTo>
                <a:lnTo>
                  <a:pt x="1536" y="1605"/>
                </a:lnTo>
                <a:lnTo>
                  <a:pt x="1533" y="1583"/>
                </a:lnTo>
                <a:lnTo>
                  <a:pt x="1527" y="1561"/>
                </a:lnTo>
                <a:lnTo>
                  <a:pt x="1524" y="1538"/>
                </a:lnTo>
                <a:lnTo>
                  <a:pt x="1519" y="1515"/>
                </a:lnTo>
                <a:lnTo>
                  <a:pt x="1515" y="1491"/>
                </a:lnTo>
                <a:lnTo>
                  <a:pt x="1509" y="1468"/>
                </a:lnTo>
                <a:lnTo>
                  <a:pt x="1506" y="1445"/>
                </a:lnTo>
                <a:lnTo>
                  <a:pt x="1500" y="1423"/>
                </a:lnTo>
                <a:lnTo>
                  <a:pt x="1496" y="1400"/>
                </a:lnTo>
                <a:lnTo>
                  <a:pt x="1491" y="1379"/>
                </a:lnTo>
                <a:lnTo>
                  <a:pt x="1486" y="1356"/>
                </a:lnTo>
                <a:lnTo>
                  <a:pt x="1479" y="1332"/>
                </a:lnTo>
                <a:lnTo>
                  <a:pt x="1474" y="1308"/>
                </a:lnTo>
                <a:lnTo>
                  <a:pt x="1467" y="1283"/>
                </a:lnTo>
                <a:lnTo>
                  <a:pt x="1461" y="1259"/>
                </a:lnTo>
                <a:lnTo>
                  <a:pt x="1454" y="1234"/>
                </a:lnTo>
                <a:lnTo>
                  <a:pt x="1448" y="1210"/>
                </a:lnTo>
                <a:lnTo>
                  <a:pt x="1441" y="1187"/>
                </a:lnTo>
                <a:lnTo>
                  <a:pt x="1435" y="1165"/>
                </a:lnTo>
                <a:lnTo>
                  <a:pt x="1428" y="1143"/>
                </a:lnTo>
                <a:lnTo>
                  <a:pt x="1422" y="1124"/>
                </a:lnTo>
                <a:lnTo>
                  <a:pt x="1416" y="1106"/>
                </a:lnTo>
                <a:lnTo>
                  <a:pt x="1410" y="1089"/>
                </a:lnTo>
                <a:lnTo>
                  <a:pt x="1405" y="1075"/>
                </a:lnTo>
                <a:lnTo>
                  <a:pt x="1401" y="1062"/>
                </a:lnTo>
                <a:lnTo>
                  <a:pt x="1395" y="1052"/>
                </a:lnTo>
                <a:lnTo>
                  <a:pt x="1391" y="1039"/>
                </a:lnTo>
                <a:lnTo>
                  <a:pt x="1385" y="1025"/>
                </a:lnTo>
                <a:lnTo>
                  <a:pt x="1379" y="1009"/>
                </a:lnTo>
                <a:lnTo>
                  <a:pt x="1371" y="993"/>
                </a:lnTo>
                <a:lnTo>
                  <a:pt x="1365" y="976"/>
                </a:lnTo>
                <a:lnTo>
                  <a:pt x="1357" y="958"/>
                </a:lnTo>
                <a:lnTo>
                  <a:pt x="1351" y="939"/>
                </a:lnTo>
                <a:lnTo>
                  <a:pt x="1343" y="921"/>
                </a:lnTo>
                <a:lnTo>
                  <a:pt x="1336" y="902"/>
                </a:lnTo>
                <a:lnTo>
                  <a:pt x="1329" y="884"/>
                </a:lnTo>
                <a:lnTo>
                  <a:pt x="1321" y="866"/>
                </a:lnTo>
                <a:lnTo>
                  <a:pt x="1313" y="849"/>
                </a:lnTo>
                <a:lnTo>
                  <a:pt x="1307" y="831"/>
                </a:lnTo>
                <a:lnTo>
                  <a:pt x="1301" y="816"/>
                </a:lnTo>
                <a:lnTo>
                  <a:pt x="1295" y="800"/>
                </a:lnTo>
                <a:lnTo>
                  <a:pt x="1288" y="786"/>
                </a:lnTo>
                <a:lnTo>
                  <a:pt x="1282" y="772"/>
                </a:lnTo>
                <a:lnTo>
                  <a:pt x="1274" y="755"/>
                </a:lnTo>
                <a:lnTo>
                  <a:pt x="1268" y="738"/>
                </a:lnTo>
                <a:lnTo>
                  <a:pt x="1261" y="722"/>
                </a:lnTo>
                <a:lnTo>
                  <a:pt x="1253" y="704"/>
                </a:lnTo>
                <a:lnTo>
                  <a:pt x="1245" y="687"/>
                </a:lnTo>
                <a:lnTo>
                  <a:pt x="1239" y="668"/>
                </a:lnTo>
                <a:lnTo>
                  <a:pt x="1231" y="653"/>
                </a:lnTo>
                <a:lnTo>
                  <a:pt x="1224" y="636"/>
                </a:lnTo>
                <a:lnTo>
                  <a:pt x="1216" y="621"/>
                </a:lnTo>
                <a:lnTo>
                  <a:pt x="1210" y="605"/>
                </a:lnTo>
                <a:lnTo>
                  <a:pt x="1203" y="592"/>
                </a:lnTo>
                <a:lnTo>
                  <a:pt x="1197" y="579"/>
                </a:lnTo>
                <a:lnTo>
                  <a:pt x="1193" y="568"/>
                </a:lnTo>
                <a:lnTo>
                  <a:pt x="1189" y="557"/>
                </a:lnTo>
                <a:lnTo>
                  <a:pt x="1183" y="548"/>
                </a:lnTo>
                <a:lnTo>
                  <a:pt x="1177" y="538"/>
                </a:lnTo>
                <a:lnTo>
                  <a:pt x="1171" y="527"/>
                </a:lnTo>
                <a:lnTo>
                  <a:pt x="1164" y="514"/>
                </a:lnTo>
                <a:lnTo>
                  <a:pt x="1156" y="502"/>
                </a:lnTo>
                <a:lnTo>
                  <a:pt x="1149" y="490"/>
                </a:lnTo>
                <a:lnTo>
                  <a:pt x="1141" y="476"/>
                </a:lnTo>
                <a:lnTo>
                  <a:pt x="1133" y="462"/>
                </a:lnTo>
                <a:lnTo>
                  <a:pt x="1124" y="450"/>
                </a:lnTo>
                <a:lnTo>
                  <a:pt x="1115" y="436"/>
                </a:lnTo>
                <a:lnTo>
                  <a:pt x="1106" y="424"/>
                </a:lnTo>
                <a:lnTo>
                  <a:pt x="1098" y="411"/>
                </a:lnTo>
                <a:lnTo>
                  <a:pt x="1089" y="400"/>
                </a:lnTo>
                <a:lnTo>
                  <a:pt x="1081" y="388"/>
                </a:lnTo>
                <a:lnTo>
                  <a:pt x="1074" y="378"/>
                </a:lnTo>
                <a:lnTo>
                  <a:pt x="1067" y="367"/>
                </a:lnTo>
                <a:lnTo>
                  <a:pt x="1058" y="358"/>
                </a:lnTo>
                <a:lnTo>
                  <a:pt x="1051" y="348"/>
                </a:lnTo>
                <a:lnTo>
                  <a:pt x="1041" y="338"/>
                </a:lnTo>
                <a:lnTo>
                  <a:pt x="1033" y="327"/>
                </a:lnTo>
                <a:lnTo>
                  <a:pt x="1022" y="317"/>
                </a:lnTo>
                <a:lnTo>
                  <a:pt x="1013" y="306"/>
                </a:lnTo>
                <a:lnTo>
                  <a:pt x="1001" y="295"/>
                </a:lnTo>
                <a:lnTo>
                  <a:pt x="992" y="284"/>
                </a:lnTo>
                <a:lnTo>
                  <a:pt x="981" y="274"/>
                </a:lnTo>
                <a:lnTo>
                  <a:pt x="970" y="263"/>
                </a:lnTo>
                <a:lnTo>
                  <a:pt x="960" y="254"/>
                </a:lnTo>
                <a:lnTo>
                  <a:pt x="950" y="243"/>
                </a:lnTo>
                <a:lnTo>
                  <a:pt x="940" y="235"/>
                </a:lnTo>
                <a:lnTo>
                  <a:pt x="931" y="226"/>
                </a:lnTo>
                <a:lnTo>
                  <a:pt x="923" y="219"/>
                </a:lnTo>
                <a:lnTo>
                  <a:pt x="915" y="212"/>
                </a:lnTo>
                <a:lnTo>
                  <a:pt x="907" y="207"/>
                </a:lnTo>
                <a:lnTo>
                  <a:pt x="900" y="202"/>
                </a:lnTo>
                <a:lnTo>
                  <a:pt x="892" y="196"/>
                </a:lnTo>
                <a:lnTo>
                  <a:pt x="885" y="190"/>
                </a:lnTo>
                <a:lnTo>
                  <a:pt x="877" y="185"/>
                </a:lnTo>
                <a:lnTo>
                  <a:pt x="869" y="179"/>
                </a:lnTo>
                <a:lnTo>
                  <a:pt x="862" y="174"/>
                </a:lnTo>
                <a:lnTo>
                  <a:pt x="855" y="168"/>
                </a:lnTo>
                <a:lnTo>
                  <a:pt x="847" y="164"/>
                </a:lnTo>
                <a:lnTo>
                  <a:pt x="841" y="159"/>
                </a:lnTo>
                <a:lnTo>
                  <a:pt x="834" y="155"/>
                </a:lnTo>
                <a:lnTo>
                  <a:pt x="829" y="149"/>
                </a:lnTo>
                <a:lnTo>
                  <a:pt x="823" y="146"/>
                </a:lnTo>
                <a:lnTo>
                  <a:pt x="818" y="142"/>
                </a:lnTo>
                <a:lnTo>
                  <a:pt x="814" y="140"/>
                </a:lnTo>
                <a:lnTo>
                  <a:pt x="813" y="137"/>
                </a:lnTo>
                <a:lnTo>
                  <a:pt x="809" y="136"/>
                </a:lnTo>
                <a:lnTo>
                  <a:pt x="806" y="134"/>
                </a:lnTo>
                <a:lnTo>
                  <a:pt x="802" y="132"/>
                </a:lnTo>
                <a:lnTo>
                  <a:pt x="798" y="129"/>
                </a:lnTo>
                <a:lnTo>
                  <a:pt x="793" y="128"/>
                </a:lnTo>
                <a:lnTo>
                  <a:pt x="787" y="124"/>
                </a:lnTo>
                <a:lnTo>
                  <a:pt x="782" y="122"/>
                </a:lnTo>
                <a:lnTo>
                  <a:pt x="776" y="118"/>
                </a:lnTo>
                <a:lnTo>
                  <a:pt x="769" y="116"/>
                </a:lnTo>
                <a:lnTo>
                  <a:pt x="763" y="112"/>
                </a:lnTo>
                <a:lnTo>
                  <a:pt x="756" y="111"/>
                </a:lnTo>
                <a:lnTo>
                  <a:pt x="751" y="107"/>
                </a:lnTo>
                <a:lnTo>
                  <a:pt x="744" y="105"/>
                </a:lnTo>
                <a:lnTo>
                  <a:pt x="738" y="101"/>
                </a:lnTo>
                <a:lnTo>
                  <a:pt x="733" y="100"/>
                </a:lnTo>
                <a:lnTo>
                  <a:pt x="727" y="96"/>
                </a:lnTo>
                <a:lnTo>
                  <a:pt x="720" y="94"/>
                </a:lnTo>
                <a:lnTo>
                  <a:pt x="714" y="92"/>
                </a:lnTo>
                <a:lnTo>
                  <a:pt x="705" y="90"/>
                </a:lnTo>
                <a:lnTo>
                  <a:pt x="698" y="86"/>
                </a:lnTo>
                <a:lnTo>
                  <a:pt x="688" y="84"/>
                </a:lnTo>
                <a:lnTo>
                  <a:pt x="679" y="81"/>
                </a:lnTo>
                <a:lnTo>
                  <a:pt x="669" y="78"/>
                </a:lnTo>
                <a:lnTo>
                  <a:pt x="659" y="74"/>
                </a:lnTo>
                <a:lnTo>
                  <a:pt x="648" y="72"/>
                </a:lnTo>
                <a:lnTo>
                  <a:pt x="638" y="68"/>
                </a:lnTo>
                <a:lnTo>
                  <a:pt x="627" y="65"/>
                </a:lnTo>
                <a:lnTo>
                  <a:pt x="618" y="61"/>
                </a:lnTo>
                <a:lnTo>
                  <a:pt x="607" y="60"/>
                </a:lnTo>
                <a:lnTo>
                  <a:pt x="597" y="56"/>
                </a:lnTo>
                <a:lnTo>
                  <a:pt x="588" y="54"/>
                </a:lnTo>
                <a:lnTo>
                  <a:pt x="580" y="51"/>
                </a:lnTo>
                <a:lnTo>
                  <a:pt x="570" y="49"/>
                </a:lnTo>
                <a:lnTo>
                  <a:pt x="561" y="47"/>
                </a:lnTo>
                <a:lnTo>
                  <a:pt x="550" y="45"/>
                </a:lnTo>
                <a:lnTo>
                  <a:pt x="540" y="43"/>
                </a:lnTo>
                <a:lnTo>
                  <a:pt x="529" y="41"/>
                </a:lnTo>
                <a:lnTo>
                  <a:pt x="517" y="39"/>
                </a:lnTo>
                <a:lnTo>
                  <a:pt x="506" y="37"/>
                </a:lnTo>
                <a:lnTo>
                  <a:pt x="495" y="33"/>
                </a:lnTo>
                <a:lnTo>
                  <a:pt x="482" y="32"/>
                </a:lnTo>
                <a:lnTo>
                  <a:pt x="471" y="30"/>
                </a:lnTo>
                <a:lnTo>
                  <a:pt x="460" y="28"/>
                </a:lnTo>
                <a:lnTo>
                  <a:pt x="449" y="25"/>
                </a:lnTo>
                <a:lnTo>
                  <a:pt x="439" y="24"/>
                </a:lnTo>
                <a:lnTo>
                  <a:pt x="429" y="23"/>
                </a:lnTo>
                <a:lnTo>
                  <a:pt x="421" y="21"/>
                </a:lnTo>
                <a:lnTo>
                  <a:pt x="413" y="19"/>
                </a:lnTo>
                <a:lnTo>
                  <a:pt x="404" y="19"/>
                </a:lnTo>
                <a:lnTo>
                  <a:pt x="396" y="18"/>
                </a:lnTo>
                <a:lnTo>
                  <a:pt x="387" y="18"/>
                </a:lnTo>
                <a:lnTo>
                  <a:pt x="377" y="16"/>
                </a:lnTo>
                <a:lnTo>
                  <a:pt x="366" y="16"/>
                </a:lnTo>
                <a:lnTo>
                  <a:pt x="355" y="14"/>
                </a:lnTo>
                <a:lnTo>
                  <a:pt x="344" y="14"/>
                </a:lnTo>
                <a:lnTo>
                  <a:pt x="333" y="12"/>
                </a:lnTo>
                <a:lnTo>
                  <a:pt x="319" y="12"/>
                </a:lnTo>
                <a:lnTo>
                  <a:pt x="308" y="12"/>
                </a:lnTo>
                <a:lnTo>
                  <a:pt x="296" y="12"/>
                </a:lnTo>
                <a:lnTo>
                  <a:pt x="285" y="10"/>
                </a:lnTo>
                <a:lnTo>
                  <a:pt x="273" y="10"/>
                </a:lnTo>
                <a:lnTo>
                  <a:pt x="262" y="8"/>
                </a:lnTo>
                <a:lnTo>
                  <a:pt x="252" y="8"/>
                </a:lnTo>
                <a:lnTo>
                  <a:pt x="243" y="6"/>
                </a:lnTo>
                <a:lnTo>
                  <a:pt x="233" y="6"/>
                </a:lnTo>
                <a:lnTo>
                  <a:pt x="223" y="6"/>
                </a:lnTo>
                <a:lnTo>
                  <a:pt x="212" y="6"/>
                </a:lnTo>
                <a:lnTo>
                  <a:pt x="201" y="4"/>
                </a:lnTo>
                <a:lnTo>
                  <a:pt x="189" y="4"/>
                </a:lnTo>
                <a:lnTo>
                  <a:pt x="178" y="4"/>
                </a:lnTo>
                <a:lnTo>
                  <a:pt x="166" y="4"/>
                </a:lnTo>
                <a:lnTo>
                  <a:pt x="155" y="3"/>
                </a:lnTo>
                <a:lnTo>
                  <a:pt x="142" y="3"/>
                </a:lnTo>
                <a:lnTo>
                  <a:pt x="131" y="3"/>
                </a:lnTo>
                <a:lnTo>
                  <a:pt x="119" y="3"/>
                </a:lnTo>
                <a:lnTo>
                  <a:pt x="109" y="1"/>
                </a:lnTo>
                <a:lnTo>
                  <a:pt x="98" y="1"/>
                </a:lnTo>
                <a:lnTo>
                  <a:pt x="89" y="1"/>
                </a:lnTo>
                <a:lnTo>
                  <a:pt x="81" y="1"/>
                </a:lnTo>
                <a:lnTo>
                  <a:pt x="74" y="0"/>
                </a:lnTo>
                <a:lnTo>
                  <a:pt x="67" y="0"/>
                </a:lnTo>
                <a:lnTo>
                  <a:pt x="63" y="0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51" y="0"/>
                </a:lnTo>
                <a:lnTo>
                  <a:pt x="47" y="0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0" y="0"/>
                </a:lnTo>
                <a:lnTo>
                  <a:pt x="22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000680" y="1854360"/>
            <a:ext cx="2839680" cy="3260520"/>
          </a:xfrm>
          <a:custGeom>
            <a:avLst/>
            <a:gdLst/>
            <a:ahLst/>
            <a:rect l="l" t="t" r="r" b="b"/>
            <a:pathLst>
              <a:path w="1789" h="2054">
                <a:moveTo>
                  <a:pt x="0" y="0"/>
                </a:moveTo>
                <a:lnTo>
                  <a:pt x="1" y="18"/>
                </a:lnTo>
                <a:lnTo>
                  <a:pt x="3" y="31"/>
                </a:lnTo>
                <a:lnTo>
                  <a:pt x="3" y="42"/>
                </a:lnTo>
                <a:lnTo>
                  <a:pt x="4" y="50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8" y="84"/>
                </a:lnTo>
                <a:lnTo>
                  <a:pt x="8" y="91"/>
                </a:lnTo>
                <a:lnTo>
                  <a:pt x="10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8" y="158"/>
                </a:lnTo>
                <a:lnTo>
                  <a:pt x="21" y="179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8" y="273"/>
                </a:lnTo>
                <a:lnTo>
                  <a:pt x="43" y="300"/>
                </a:lnTo>
                <a:lnTo>
                  <a:pt x="48" y="326"/>
                </a:lnTo>
                <a:lnTo>
                  <a:pt x="54" y="352"/>
                </a:lnTo>
                <a:lnTo>
                  <a:pt x="60" y="380"/>
                </a:lnTo>
                <a:lnTo>
                  <a:pt x="65" y="406"/>
                </a:lnTo>
                <a:lnTo>
                  <a:pt x="71" y="431"/>
                </a:lnTo>
                <a:lnTo>
                  <a:pt x="76" y="455"/>
                </a:lnTo>
                <a:lnTo>
                  <a:pt x="81" y="480"/>
                </a:lnTo>
                <a:lnTo>
                  <a:pt x="87" y="507"/>
                </a:lnTo>
                <a:lnTo>
                  <a:pt x="93" y="534"/>
                </a:lnTo>
                <a:lnTo>
                  <a:pt x="101" y="561"/>
                </a:lnTo>
                <a:lnTo>
                  <a:pt x="108" y="590"/>
                </a:lnTo>
                <a:lnTo>
                  <a:pt x="115" y="618"/>
                </a:lnTo>
                <a:lnTo>
                  <a:pt x="122" y="646"/>
                </a:lnTo>
                <a:lnTo>
                  <a:pt x="130" y="673"/>
                </a:lnTo>
                <a:lnTo>
                  <a:pt x="138" y="700"/>
                </a:lnTo>
                <a:lnTo>
                  <a:pt x="145" y="726"/>
                </a:lnTo>
                <a:lnTo>
                  <a:pt x="152" y="751"/>
                </a:lnTo>
                <a:lnTo>
                  <a:pt x="159" y="772"/>
                </a:lnTo>
                <a:lnTo>
                  <a:pt x="165" y="794"/>
                </a:lnTo>
                <a:lnTo>
                  <a:pt x="172" y="813"/>
                </a:lnTo>
                <a:lnTo>
                  <a:pt x="177" y="829"/>
                </a:lnTo>
                <a:lnTo>
                  <a:pt x="183" y="842"/>
                </a:lnTo>
                <a:lnTo>
                  <a:pt x="187" y="856"/>
                </a:lnTo>
                <a:lnTo>
                  <a:pt x="193" y="870"/>
                </a:lnTo>
                <a:lnTo>
                  <a:pt x="200" y="887"/>
                </a:lnTo>
                <a:lnTo>
                  <a:pt x="207" y="904"/>
                </a:lnTo>
                <a:lnTo>
                  <a:pt x="215" y="924"/>
                </a:lnTo>
                <a:lnTo>
                  <a:pt x="223" y="943"/>
                </a:lnTo>
                <a:lnTo>
                  <a:pt x="231" y="964"/>
                </a:lnTo>
                <a:lnTo>
                  <a:pt x="240" y="984"/>
                </a:lnTo>
                <a:lnTo>
                  <a:pt x="248" y="1006"/>
                </a:lnTo>
                <a:lnTo>
                  <a:pt x="257" y="1026"/>
                </a:lnTo>
                <a:lnTo>
                  <a:pt x="265" y="1047"/>
                </a:lnTo>
                <a:lnTo>
                  <a:pt x="275" y="1068"/>
                </a:lnTo>
                <a:lnTo>
                  <a:pt x="282" y="1088"/>
                </a:lnTo>
                <a:lnTo>
                  <a:pt x="291" y="1107"/>
                </a:lnTo>
                <a:lnTo>
                  <a:pt x="298" y="1126"/>
                </a:lnTo>
                <a:lnTo>
                  <a:pt x="306" y="1142"/>
                </a:lnTo>
                <a:lnTo>
                  <a:pt x="313" y="1160"/>
                </a:lnTo>
                <a:lnTo>
                  <a:pt x="320" y="1176"/>
                </a:lnTo>
                <a:lnTo>
                  <a:pt x="328" y="1195"/>
                </a:lnTo>
                <a:lnTo>
                  <a:pt x="337" y="1213"/>
                </a:lnTo>
                <a:lnTo>
                  <a:pt x="344" y="1234"/>
                </a:lnTo>
                <a:lnTo>
                  <a:pt x="354" y="1252"/>
                </a:lnTo>
                <a:lnTo>
                  <a:pt x="362" y="1273"/>
                </a:lnTo>
                <a:lnTo>
                  <a:pt x="372" y="1292"/>
                </a:lnTo>
                <a:lnTo>
                  <a:pt x="379" y="1312"/>
                </a:lnTo>
                <a:lnTo>
                  <a:pt x="388" y="1330"/>
                </a:lnTo>
                <a:lnTo>
                  <a:pt x="395" y="1348"/>
                </a:lnTo>
                <a:lnTo>
                  <a:pt x="403" y="1365"/>
                </a:lnTo>
                <a:lnTo>
                  <a:pt x="410" y="1381"/>
                </a:lnTo>
                <a:lnTo>
                  <a:pt x="417" y="1395"/>
                </a:lnTo>
                <a:lnTo>
                  <a:pt x="422" y="1408"/>
                </a:lnTo>
                <a:lnTo>
                  <a:pt x="428" y="1418"/>
                </a:lnTo>
                <a:lnTo>
                  <a:pt x="433" y="1430"/>
                </a:lnTo>
                <a:lnTo>
                  <a:pt x="439" y="1442"/>
                </a:lnTo>
                <a:lnTo>
                  <a:pt x="446" y="1455"/>
                </a:lnTo>
                <a:lnTo>
                  <a:pt x="454" y="1468"/>
                </a:lnTo>
                <a:lnTo>
                  <a:pt x="461" y="1483"/>
                </a:lnTo>
                <a:lnTo>
                  <a:pt x="471" y="1498"/>
                </a:lnTo>
                <a:lnTo>
                  <a:pt x="480" y="1513"/>
                </a:lnTo>
                <a:lnTo>
                  <a:pt x="490" y="1528"/>
                </a:lnTo>
                <a:lnTo>
                  <a:pt x="499" y="1544"/>
                </a:lnTo>
                <a:lnTo>
                  <a:pt x="509" y="1559"/>
                </a:lnTo>
                <a:lnTo>
                  <a:pt x="519" y="1574"/>
                </a:lnTo>
                <a:lnTo>
                  <a:pt x="530" y="1588"/>
                </a:lnTo>
                <a:lnTo>
                  <a:pt x="539" y="1601"/>
                </a:lnTo>
                <a:lnTo>
                  <a:pt x="549" y="1614"/>
                </a:lnTo>
                <a:lnTo>
                  <a:pt x="558" y="1626"/>
                </a:lnTo>
                <a:lnTo>
                  <a:pt x="567" y="1636"/>
                </a:lnTo>
                <a:lnTo>
                  <a:pt x="576" y="1647"/>
                </a:lnTo>
                <a:lnTo>
                  <a:pt x="585" y="1659"/>
                </a:lnTo>
                <a:lnTo>
                  <a:pt x="595" y="1670"/>
                </a:lnTo>
                <a:lnTo>
                  <a:pt x="606" y="1682"/>
                </a:lnTo>
                <a:lnTo>
                  <a:pt x="617" y="1695"/>
                </a:lnTo>
                <a:lnTo>
                  <a:pt x="629" y="1707"/>
                </a:lnTo>
                <a:lnTo>
                  <a:pt x="640" y="1720"/>
                </a:lnTo>
                <a:lnTo>
                  <a:pt x="654" y="1731"/>
                </a:lnTo>
                <a:lnTo>
                  <a:pt x="665" y="1744"/>
                </a:lnTo>
                <a:lnTo>
                  <a:pt x="677" y="1756"/>
                </a:lnTo>
                <a:lnTo>
                  <a:pt x="688" y="1767"/>
                </a:lnTo>
                <a:lnTo>
                  <a:pt x="700" y="1778"/>
                </a:lnTo>
                <a:lnTo>
                  <a:pt x="710" y="1788"/>
                </a:lnTo>
                <a:lnTo>
                  <a:pt x="721" y="1797"/>
                </a:lnTo>
                <a:lnTo>
                  <a:pt x="730" y="1805"/>
                </a:lnTo>
                <a:lnTo>
                  <a:pt x="740" y="1812"/>
                </a:lnTo>
                <a:lnTo>
                  <a:pt x="747" y="1820"/>
                </a:lnTo>
                <a:lnTo>
                  <a:pt x="756" y="1825"/>
                </a:lnTo>
                <a:lnTo>
                  <a:pt x="764" y="1833"/>
                </a:lnTo>
                <a:lnTo>
                  <a:pt x="774" y="1838"/>
                </a:lnTo>
                <a:lnTo>
                  <a:pt x="782" y="1846"/>
                </a:lnTo>
                <a:lnTo>
                  <a:pt x="791" y="1852"/>
                </a:lnTo>
                <a:lnTo>
                  <a:pt x="800" y="1858"/>
                </a:lnTo>
                <a:lnTo>
                  <a:pt x="810" y="1864"/>
                </a:lnTo>
                <a:lnTo>
                  <a:pt x="817" y="1870"/>
                </a:lnTo>
                <a:lnTo>
                  <a:pt x="825" y="1876"/>
                </a:lnTo>
                <a:lnTo>
                  <a:pt x="831" y="1881"/>
                </a:lnTo>
                <a:lnTo>
                  <a:pt x="839" y="1886"/>
                </a:lnTo>
                <a:lnTo>
                  <a:pt x="844" y="1891"/>
                </a:lnTo>
                <a:lnTo>
                  <a:pt x="850" y="1894"/>
                </a:lnTo>
                <a:lnTo>
                  <a:pt x="854" y="1898"/>
                </a:lnTo>
                <a:lnTo>
                  <a:pt x="859" y="1900"/>
                </a:lnTo>
                <a:lnTo>
                  <a:pt x="861" y="1903"/>
                </a:lnTo>
                <a:lnTo>
                  <a:pt x="865" y="1904"/>
                </a:lnTo>
                <a:lnTo>
                  <a:pt x="869" y="1907"/>
                </a:lnTo>
                <a:lnTo>
                  <a:pt x="875" y="1909"/>
                </a:lnTo>
                <a:lnTo>
                  <a:pt x="881" y="1912"/>
                </a:lnTo>
                <a:lnTo>
                  <a:pt x="887" y="1916"/>
                </a:lnTo>
                <a:lnTo>
                  <a:pt x="893" y="1920"/>
                </a:lnTo>
                <a:lnTo>
                  <a:pt x="900" y="1921"/>
                </a:lnTo>
                <a:lnTo>
                  <a:pt x="906" y="1925"/>
                </a:lnTo>
                <a:lnTo>
                  <a:pt x="914" y="1929"/>
                </a:lnTo>
                <a:lnTo>
                  <a:pt x="920" y="1932"/>
                </a:lnTo>
                <a:lnTo>
                  <a:pt x="928" y="1935"/>
                </a:lnTo>
                <a:lnTo>
                  <a:pt x="934" y="1939"/>
                </a:lnTo>
                <a:lnTo>
                  <a:pt x="942" y="1941"/>
                </a:lnTo>
                <a:lnTo>
                  <a:pt x="949" y="1945"/>
                </a:lnTo>
                <a:lnTo>
                  <a:pt x="956" y="1947"/>
                </a:lnTo>
                <a:lnTo>
                  <a:pt x="962" y="1950"/>
                </a:lnTo>
                <a:lnTo>
                  <a:pt x="970" y="1952"/>
                </a:lnTo>
                <a:lnTo>
                  <a:pt x="978" y="1956"/>
                </a:lnTo>
                <a:lnTo>
                  <a:pt x="988" y="1958"/>
                </a:lnTo>
                <a:lnTo>
                  <a:pt x="998" y="1961"/>
                </a:lnTo>
                <a:lnTo>
                  <a:pt x="1009" y="1965"/>
                </a:lnTo>
                <a:lnTo>
                  <a:pt x="1020" y="1969"/>
                </a:lnTo>
                <a:lnTo>
                  <a:pt x="1033" y="1972"/>
                </a:lnTo>
                <a:lnTo>
                  <a:pt x="1044" y="1976"/>
                </a:lnTo>
                <a:lnTo>
                  <a:pt x="1056" y="1979"/>
                </a:lnTo>
                <a:lnTo>
                  <a:pt x="1067" y="1983"/>
                </a:lnTo>
                <a:lnTo>
                  <a:pt x="1080" y="1986"/>
                </a:lnTo>
                <a:lnTo>
                  <a:pt x="1092" y="1990"/>
                </a:lnTo>
                <a:lnTo>
                  <a:pt x="1103" y="1992"/>
                </a:lnTo>
                <a:lnTo>
                  <a:pt x="1114" y="1996"/>
                </a:lnTo>
                <a:lnTo>
                  <a:pt x="1125" y="1998"/>
                </a:lnTo>
                <a:lnTo>
                  <a:pt x="1134" y="2001"/>
                </a:lnTo>
                <a:lnTo>
                  <a:pt x="1145" y="2003"/>
                </a:lnTo>
                <a:lnTo>
                  <a:pt x="1156" y="2007"/>
                </a:lnTo>
                <a:lnTo>
                  <a:pt x="1169" y="2009"/>
                </a:lnTo>
                <a:lnTo>
                  <a:pt x="1181" y="2012"/>
                </a:lnTo>
                <a:lnTo>
                  <a:pt x="1194" y="2014"/>
                </a:lnTo>
                <a:lnTo>
                  <a:pt x="1208" y="2017"/>
                </a:lnTo>
                <a:lnTo>
                  <a:pt x="1221" y="2019"/>
                </a:lnTo>
                <a:lnTo>
                  <a:pt x="1234" y="2022"/>
                </a:lnTo>
                <a:lnTo>
                  <a:pt x="1247" y="2024"/>
                </a:lnTo>
                <a:lnTo>
                  <a:pt x="1259" y="2026"/>
                </a:lnTo>
                <a:lnTo>
                  <a:pt x="1272" y="2028"/>
                </a:lnTo>
                <a:lnTo>
                  <a:pt x="1284" y="2029"/>
                </a:lnTo>
                <a:lnTo>
                  <a:pt x="1295" y="2030"/>
                </a:lnTo>
                <a:lnTo>
                  <a:pt x="1304" y="2032"/>
                </a:lnTo>
                <a:lnTo>
                  <a:pt x="1314" y="2032"/>
                </a:lnTo>
                <a:lnTo>
                  <a:pt x="1322" y="2034"/>
                </a:lnTo>
                <a:lnTo>
                  <a:pt x="1332" y="2036"/>
                </a:lnTo>
                <a:lnTo>
                  <a:pt x="1342" y="2037"/>
                </a:lnTo>
                <a:lnTo>
                  <a:pt x="1354" y="2037"/>
                </a:lnTo>
                <a:lnTo>
                  <a:pt x="1366" y="2039"/>
                </a:lnTo>
                <a:lnTo>
                  <a:pt x="1379" y="2040"/>
                </a:lnTo>
                <a:lnTo>
                  <a:pt x="1392" y="2042"/>
                </a:lnTo>
                <a:lnTo>
                  <a:pt x="1407" y="2042"/>
                </a:lnTo>
                <a:lnTo>
                  <a:pt x="1420" y="2044"/>
                </a:lnTo>
                <a:lnTo>
                  <a:pt x="1433" y="2045"/>
                </a:lnTo>
                <a:lnTo>
                  <a:pt x="1446" y="2047"/>
                </a:lnTo>
                <a:lnTo>
                  <a:pt x="1460" y="2047"/>
                </a:lnTo>
                <a:lnTo>
                  <a:pt x="1472" y="2049"/>
                </a:lnTo>
                <a:lnTo>
                  <a:pt x="1485" y="2049"/>
                </a:lnTo>
                <a:lnTo>
                  <a:pt x="1496" y="2049"/>
                </a:lnTo>
                <a:lnTo>
                  <a:pt x="1508" y="2049"/>
                </a:lnTo>
                <a:lnTo>
                  <a:pt x="1518" y="2050"/>
                </a:lnTo>
                <a:lnTo>
                  <a:pt x="1530" y="2050"/>
                </a:lnTo>
                <a:lnTo>
                  <a:pt x="1542" y="2050"/>
                </a:lnTo>
                <a:lnTo>
                  <a:pt x="1554" y="2050"/>
                </a:lnTo>
                <a:lnTo>
                  <a:pt x="1568" y="2052"/>
                </a:lnTo>
                <a:lnTo>
                  <a:pt x="1581" y="2052"/>
                </a:lnTo>
                <a:lnTo>
                  <a:pt x="1594" y="2052"/>
                </a:lnTo>
                <a:lnTo>
                  <a:pt x="1609" y="2052"/>
                </a:lnTo>
                <a:lnTo>
                  <a:pt x="1622" y="2053"/>
                </a:lnTo>
                <a:lnTo>
                  <a:pt x="1635" y="2053"/>
                </a:lnTo>
                <a:lnTo>
                  <a:pt x="1648" y="2053"/>
                </a:lnTo>
                <a:lnTo>
                  <a:pt x="1661" y="2053"/>
                </a:lnTo>
                <a:lnTo>
                  <a:pt x="1672" y="2053"/>
                </a:lnTo>
                <a:lnTo>
                  <a:pt x="1684" y="2053"/>
                </a:lnTo>
                <a:lnTo>
                  <a:pt x="1693" y="2053"/>
                </a:lnTo>
                <a:lnTo>
                  <a:pt x="1703" y="2053"/>
                </a:lnTo>
                <a:lnTo>
                  <a:pt x="1709" y="2053"/>
                </a:lnTo>
                <a:lnTo>
                  <a:pt x="1714" y="2053"/>
                </a:lnTo>
                <a:lnTo>
                  <a:pt x="1717" y="2053"/>
                </a:lnTo>
                <a:lnTo>
                  <a:pt x="1721" y="2053"/>
                </a:lnTo>
                <a:lnTo>
                  <a:pt x="1723" y="2053"/>
                </a:lnTo>
                <a:lnTo>
                  <a:pt x="1725" y="2053"/>
                </a:lnTo>
                <a:lnTo>
                  <a:pt x="1727" y="2053"/>
                </a:lnTo>
                <a:lnTo>
                  <a:pt x="1729" y="2053"/>
                </a:lnTo>
                <a:lnTo>
                  <a:pt x="1730" y="2053"/>
                </a:lnTo>
                <a:lnTo>
                  <a:pt x="1734" y="2053"/>
                </a:lnTo>
                <a:lnTo>
                  <a:pt x="1738" y="2053"/>
                </a:lnTo>
                <a:lnTo>
                  <a:pt x="1744" y="2053"/>
                </a:lnTo>
                <a:lnTo>
                  <a:pt x="1751" y="2053"/>
                </a:lnTo>
                <a:lnTo>
                  <a:pt x="1761" y="2053"/>
                </a:lnTo>
                <a:lnTo>
                  <a:pt x="1773" y="2053"/>
                </a:lnTo>
                <a:lnTo>
                  <a:pt x="1788" y="2053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45000" y="2127240"/>
            <a:ext cx="3101760" cy="3576600"/>
          </a:xfrm>
          <a:custGeom>
            <a:avLst/>
            <a:gdLst/>
            <a:ahLst/>
            <a:rect l="l" t="t" r="r" b="b"/>
            <a:pathLst>
              <a:path w="1954" h="2253">
                <a:moveTo>
                  <a:pt x="0" y="0"/>
                </a:moveTo>
                <a:lnTo>
                  <a:pt x="0" y="20"/>
                </a:lnTo>
                <a:lnTo>
                  <a:pt x="2" y="34"/>
                </a:lnTo>
                <a:lnTo>
                  <a:pt x="3" y="47"/>
                </a:lnTo>
                <a:lnTo>
                  <a:pt x="4" y="56"/>
                </a:lnTo>
                <a:lnTo>
                  <a:pt x="4" y="64"/>
                </a:lnTo>
                <a:lnTo>
                  <a:pt x="5" y="69"/>
                </a:lnTo>
                <a:lnTo>
                  <a:pt x="5" y="73"/>
                </a:lnTo>
                <a:lnTo>
                  <a:pt x="7" y="75"/>
                </a:lnTo>
                <a:lnTo>
                  <a:pt x="7" y="78"/>
                </a:lnTo>
                <a:lnTo>
                  <a:pt x="7" y="80"/>
                </a:lnTo>
                <a:lnTo>
                  <a:pt x="7" y="83"/>
                </a:lnTo>
                <a:lnTo>
                  <a:pt x="8" y="84"/>
                </a:lnTo>
                <a:lnTo>
                  <a:pt x="8" y="89"/>
                </a:lnTo>
                <a:lnTo>
                  <a:pt x="9" y="93"/>
                </a:lnTo>
                <a:lnTo>
                  <a:pt x="10" y="100"/>
                </a:lnTo>
                <a:lnTo>
                  <a:pt x="11" y="108"/>
                </a:lnTo>
                <a:lnTo>
                  <a:pt x="11" y="121"/>
                </a:lnTo>
                <a:lnTo>
                  <a:pt x="13" y="136"/>
                </a:lnTo>
                <a:lnTo>
                  <a:pt x="16" y="153"/>
                </a:lnTo>
                <a:lnTo>
                  <a:pt x="20" y="172"/>
                </a:lnTo>
                <a:lnTo>
                  <a:pt x="22" y="196"/>
                </a:lnTo>
                <a:lnTo>
                  <a:pt x="26" y="219"/>
                </a:lnTo>
                <a:lnTo>
                  <a:pt x="31" y="245"/>
                </a:lnTo>
                <a:lnTo>
                  <a:pt x="36" y="271"/>
                </a:lnTo>
                <a:lnTo>
                  <a:pt x="41" y="300"/>
                </a:lnTo>
                <a:lnTo>
                  <a:pt x="47" y="328"/>
                </a:lnTo>
                <a:lnTo>
                  <a:pt x="52" y="358"/>
                </a:lnTo>
                <a:lnTo>
                  <a:pt x="59" y="386"/>
                </a:lnTo>
                <a:lnTo>
                  <a:pt x="64" y="416"/>
                </a:lnTo>
                <a:lnTo>
                  <a:pt x="70" y="444"/>
                </a:lnTo>
                <a:lnTo>
                  <a:pt x="76" y="473"/>
                </a:lnTo>
                <a:lnTo>
                  <a:pt x="83" y="500"/>
                </a:lnTo>
                <a:lnTo>
                  <a:pt x="89" y="527"/>
                </a:lnTo>
                <a:lnTo>
                  <a:pt x="95" y="556"/>
                </a:lnTo>
                <a:lnTo>
                  <a:pt x="102" y="586"/>
                </a:lnTo>
                <a:lnTo>
                  <a:pt x="109" y="616"/>
                </a:lnTo>
                <a:lnTo>
                  <a:pt x="117" y="647"/>
                </a:lnTo>
                <a:lnTo>
                  <a:pt x="125" y="677"/>
                </a:lnTo>
                <a:lnTo>
                  <a:pt x="132" y="708"/>
                </a:lnTo>
                <a:lnTo>
                  <a:pt x="142" y="738"/>
                </a:lnTo>
                <a:lnTo>
                  <a:pt x="149" y="768"/>
                </a:lnTo>
                <a:lnTo>
                  <a:pt x="158" y="796"/>
                </a:lnTo>
                <a:lnTo>
                  <a:pt x="166" y="823"/>
                </a:lnTo>
                <a:lnTo>
                  <a:pt x="174" y="848"/>
                </a:lnTo>
                <a:lnTo>
                  <a:pt x="180" y="871"/>
                </a:lnTo>
                <a:lnTo>
                  <a:pt x="188" y="892"/>
                </a:lnTo>
                <a:lnTo>
                  <a:pt x="194" y="910"/>
                </a:lnTo>
                <a:lnTo>
                  <a:pt x="201" y="924"/>
                </a:lnTo>
                <a:lnTo>
                  <a:pt x="206" y="939"/>
                </a:lnTo>
                <a:lnTo>
                  <a:pt x="212" y="955"/>
                </a:lnTo>
                <a:lnTo>
                  <a:pt x="218" y="973"/>
                </a:lnTo>
                <a:lnTo>
                  <a:pt x="227" y="992"/>
                </a:lnTo>
                <a:lnTo>
                  <a:pt x="234" y="1014"/>
                </a:lnTo>
                <a:lnTo>
                  <a:pt x="244" y="1035"/>
                </a:lnTo>
                <a:lnTo>
                  <a:pt x="253" y="1057"/>
                </a:lnTo>
                <a:lnTo>
                  <a:pt x="262" y="1079"/>
                </a:lnTo>
                <a:lnTo>
                  <a:pt x="272" y="1104"/>
                </a:lnTo>
                <a:lnTo>
                  <a:pt x="281" y="1126"/>
                </a:lnTo>
                <a:lnTo>
                  <a:pt x="290" y="1149"/>
                </a:lnTo>
                <a:lnTo>
                  <a:pt x="300" y="1172"/>
                </a:lnTo>
                <a:lnTo>
                  <a:pt x="308" y="1194"/>
                </a:lnTo>
                <a:lnTo>
                  <a:pt x="317" y="1214"/>
                </a:lnTo>
                <a:lnTo>
                  <a:pt x="325" y="1234"/>
                </a:lnTo>
                <a:lnTo>
                  <a:pt x="334" y="1251"/>
                </a:lnTo>
                <a:lnTo>
                  <a:pt x="342" y="1270"/>
                </a:lnTo>
                <a:lnTo>
                  <a:pt x="350" y="1290"/>
                </a:lnTo>
                <a:lnTo>
                  <a:pt x="358" y="1310"/>
                </a:lnTo>
                <a:lnTo>
                  <a:pt x="367" y="1331"/>
                </a:lnTo>
                <a:lnTo>
                  <a:pt x="376" y="1353"/>
                </a:lnTo>
                <a:lnTo>
                  <a:pt x="386" y="1374"/>
                </a:lnTo>
                <a:lnTo>
                  <a:pt x="395" y="1396"/>
                </a:lnTo>
                <a:lnTo>
                  <a:pt x="405" y="1417"/>
                </a:lnTo>
                <a:lnTo>
                  <a:pt x="414" y="1438"/>
                </a:lnTo>
                <a:lnTo>
                  <a:pt x="423" y="1459"/>
                </a:lnTo>
                <a:lnTo>
                  <a:pt x="431" y="1479"/>
                </a:lnTo>
                <a:lnTo>
                  <a:pt x="441" y="1497"/>
                </a:lnTo>
                <a:lnTo>
                  <a:pt x="448" y="1515"/>
                </a:lnTo>
                <a:lnTo>
                  <a:pt x="456" y="1530"/>
                </a:lnTo>
                <a:lnTo>
                  <a:pt x="462" y="1545"/>
                </a:lnTo>
                <a:lnTo>
                  <a:pt x="469" y="1556"/>
                </a:lnTo>
                <a:lnTo>
                  <a:pt x="474" y="1569"/>
                </a:lnTo>
                <a:lnTo>
                  <a:pt x="480" y="1582"/>
                </a:lnTo>
                <a:lnTo>
                  <a:pt x="488" y="1596"/>
                </a:lnTo>
                <a:lnTo>
                  <a:pt x="496" y="1610"/>
                </a:lnTo>
                <a:lnTo>
                  <a:pt x="505" y="1626"/>
                </a:lnTo>
                <a:lnTo>
                  <a:pt x="515" y="1642"/>
                </a:lnTo>
                <a:lnTo>
                  <a:pt x="525" y="1659"/>
                </a:lnTo>
                <a:lnTo>
                  <a:pt x="536" y="1674"/>
                </a:lnTo>
                <a:lnTo>
                  <a:pt x="546" y="1691"/>
                </a:lnTo>
                <a:lnTo>
                  <a:pt x="557" y="1708"/>
                </a:lnTo>
                <a:lnTo>
                  <a:pt x="568" y="1725"/>
                </a:lnTo>
                <a:lnTo>
                  <a:pt x="580" y="1740"/>
                </a:lnTo>
                <a:lnTo>
                  <a:pt x="589" y="1756"/>
                </a:lnTo>
                <a:lnTo>
                  <a:pt x="600" y="1770"/>
                </a:lnTo>
                <a:lnTo>
                  <a:pt x="610" y="1783"/>
                </a:lnTo>
                <a:lnTo>
                  <a:pt x="620" y="1794"/>
                </a:lnTo>
                <a:lnTo>
                  <a:pt x="629" y="1807"/>
                </a:lnTo>
                <a:lnTo>
                  <a:pt x="639" y="1818"/>
                </a:lnTo>
                <a:lnTo>
                  <a:pt x="650" y="1832"/>
                </a:lnTo>
                <a:lnTo>
                  <a:pt x="663" y="1844"/>
                </a:lnTo>
                <a:lnTo>
                  <a:pt x="675" y="1858"/>
                </a:lnTo>
                <a:lnTo>
                  <a:pt x="688" y="1872"/>
                </a:lnTo>
                <a:lnTo>
                  <a:pt x="701" y="1885"/>
                </a:lnTo>
                <a:lnTo>
                  <a:pt x="715" y="1898"/>
                </a:lnTo>
                <a:lnTo>
                  <a:pt x="727" y="1912"/>
                </a:lnTo>
                <a:lnTo>
                  <a:pt x="740" y="1925"/>
                </a:lnTo>
                <a:lnTo>
                  <a:pt x="753" y="1938"/>
                </a:lnTo>
                <a:lnTo>
                  <a:pt x="766" y="1950"/>
                </a:lnTo>
                <a:lnTo>
                  <a:pt x="777" y="1961"/>
                </a:lnTo>
                <a:lnTo>
                  <a:pt x="788" y="1970"/>
                </a:lnTo>
                <a:lnTo>
                  <a:pt x="798" y="1980"/>
                </a:lnTo>
                <a:lnTo>
                  <a:pt x="809" y="1986"/>
                </a:lnTo>
                <a:lnTo>
                  <a:pt x="817" y="1994"/>
                </a:lnTo>
                <a:lnTo>
                  <a:pt x="826" y="2002"/>
                </a:lnTo>
                <a:lnTo>
                  <a:pt x="836" y="2009"/>
                </a:lnTo>
                <a:lnTo>
                  <a:pt x="845" y="2016"/>
                </a:lnTo>
                <a:lnTo>
                  <a:pt x="854" y="2023"/>
                </a:lnTo>
                <a:lnTo>
                  <a:pt x="864" y="2031"/>
                </a:lnTo>
                <a:lnTo>
                  <a:pt x="873" y="2038"/>
                </a:lnTo>
                <a:lnTo>
                  <a:pt x="884" y="2044"/>
                </a:lnTo>
                <a:lnTo>
                  <a:pt x="891" y="2051"/>
                </a:lnTo>
                <a:lnTo>
                  <a:pt x="900" y="2057"/>
                </a:lnTo>
                <a:lnTo>
                  <a:pt x="908" y="2062"/>
                </a:lnTo>
                <a:lnTo>
                  <a:pt x="916" y="2068"/>
                </a:lnTo>
                <a:lnTo>
                  <a:pt x="922" y="2072"/>
                </a:lnTo>
                <a:lnTo>
                  <a:pt x="929" y="2076"/>
                </a:lnTo>
                <a:lnTo>
                  <a:pt x="933" y="2080"/>
                </a:lnTo>
                <a:lnTo>
                  <a:pt x="938" y="2081"/>
                </a:lnTo>
                <a:lnTo>
                  <a:pt x="941" y="2085"/>
                </a:lnTo>
                <a:lnTo>
                  <a:pt x="945" y="2088"/>
                </a:lnTo>
                <a:lnTo>
                  <a:pt x="950" y="2091"/>
                </a:lnTo>
                <a:lnTo>
                  <a:pt x="956" y="2093"/>
                </a:lnTo>
                <a:lnTo>
                  <a:pt x="961" y="2097"/>
                </a:lnTo>
                <a:lnTo>
                  <a:pt x="968" y="2101"/>
                </a:lnTo>
                <a:lnTo>
                  <a:pt x="976" y="2104"/>
                </a:lnTo>
                <a:lnTo>
                  <a:pt x="983" y="2108"/>
                </a:lnTo>
                <a:lnTo>
                  <a:pt x="990" y="2111"/>
                </a:lnTo>
                <a:lnTo>
                  <a:pt x="998" y="2115"/>
                </a:lnTo>
                <a:lnTo>
                  <a:pt x="1005" y="2119"/>
                </a:lnTo>
                <a:lnTo>
                  <a:pt x="1013" y="2122"/>
                </a:lnTo>
                <a:lnTo>
                  <a:pt x="1020" y="2126"/>
                </a:lnTo>
                <a:lnTo>
                  <a:pt x="1028" y="2129"/>
                </a:lnTo>
                <a:lnTo>
                  <a:pt x="1035" y="2132"/>
                </a:lnTo>
                <a:lnTo>
                  <a:pt x="1043" y="2134"/>
                </a:lnTo>
                <a:lnTo>
                  <a:pt x="1050" y="2138"/>
                </a:lnTo>
                <a:lnTo>
                  <a:pt x="1058" y="2140"/>
                </a:lnTo>
                <a:lnTo>
                  <a:pt x="1068" y="2144"/>
                </a:lnTo>
                <a:lnTo>
                  <a:pt x="1079" y="2147"/>
                </a:lnTo>
                <a:lnTo>
                  <a:pt x="1090" y="2151"/>
                </a:lnTo>
                <a:lnTo>
                  <a:pt x="1102" y="2155"/>
                </a:lnTo>
                <a:lnTo>
                  <a:pt x="1115" y="2159"/>
                </a:lnTo>
                <a:lnTo>
                  <a:pt x="1128" y="2162"/>
                </a:lnTo>
                <a:lnTo>
                  <a:pt x="1142" y="2168"/>
                </a:lnTo>
                <a:lnTo>
                  <a:pt x="1154" y="2171"/>
                </a:lnTo>
                <a:lnTo>
                  <a:pt x="1168" y="2175"/>
                </a:lnTo>
                <a:lnTo>
                  <a:pt x="1181" y="2179"/>
                </a:lnTo>
                <a:lnTo>
                  <a:pt x="1192" y="2182"/>
                </a:lnTo>
                <a:lnTo>
                  <a:pt x="1206" y="2186"/>
                </a:lnTo>
                <a:lnTo>
                  <a:pt x="1217" y="2189"/>
                </a:lnTo>
                <a:lnTo>
                  <a:pt x="1229" y="2190"/>
                </a:lnTo>
                <a:lnTo>
                  <a:pt x="1239" y="2194"/>
                </a:lnTo>
                <a:lnTo>
                  <a:pt x="1250" y="2196"/>
                </a:lnTo>
                <a:lnTo>
                  <a:pt x="1262" y="2200"/>
                </a:lnTo>
                <a:lnTo>
                  <a:pt x="1276" y="2202"/>
                </a:lnTo>
                <a:lnTo>
                  <a:pt x="1289" y="2206"/>
                </a:lnTo>
                <a:lnTo>
                  <a:pt x="1304" y="2207"/>
                </a:lnTo>
                <a:lnTo>
                  <a:pt x="1318" y="2211"/>
                </a:lnTo>
                <a:lnTo>
                  <a:pt x="1333" y="2213"/>
                </a:lnTo>
                <a:lnTo>
                  <a:pt x="1346" y="2217"/>
                </a:lnTo>
                <a:lnTo>
                  <a:pt x="1361" y="2218"/>
                </a:lnTo>
                <a:lnTo>
                  <a:pt x="1374" y="2222"/>
                </a:lnTo>
                <a:lnTo>
                  <a:pt x="1388" y="2224"/>
                </a:lnTo>
                <a:lnTo>
                  <a:pt x="1400" y="2226"/>
                </a:lnTo>
                <a:lnTo>
                  <a:pt x="1412" y="2228"/>
                </a:lnTo>
                <a:lnTo>
                  <a:pt x="1422" y="2230"/>
                </a:lnTo>
                <a:lnTo>
                  <a:pt x="1433" y="2231"/>
                </a:lnTo>
                <a:lnTo>
                  <a:pt x="1442" y="2233"/>
                </a:lnTo>
                <a:lnTo>
                  <a:pt x="1453" y="2234"/>
                </a:lnTo>
                <a:lnTo>
                  <a:pt x="1465" y="2236"/>
                </a:lnTo>
                <a:lnTo>
                  <a:pt x="1478" y="2236"/>
                </a:lnTo>
                <a:lnTo>
                  <a:pt x="1491" y="2237"/>
                </a:lnTo>
                <a:lnTo>
                  <a:pt x="1505" y="2238"/>
                </a:lnTo>
                <a:lnTo>
                  <a:pt x="1520" y="2240"/>
                </a:lnTo>
                <a:lnTo>
                  <a:pt x="1535" y="2240"/>
                </a:lnTo>
                <a:lnTo>
                  <a:pt x="1550" y="2242"/>
                </a:lnTo>
                <a:lnTo>
                  <a:pt x="1565" y="2242"/>
                </a:lnTo>
                <a:lnTo>
                  <a:pt x="1580" y="2244"/>
                </a:lnTo>
                <a:lnTo>
                  <a:pt x="1594" y="2244"/>
                </a:lnTo>
                <a:lnTo>
                  <a:pt x="1608" y="2246"/>
                </a:lnTo>
                <a:lnTo>
                  <a:pt x="1622" y="2246"/>
                </a:lnTo>
                <a:lnTo>
                  <a:pt x="1634" y="2246"/>
                </a:lnTo>
                <a:lnTo>
                  <a:pt x="1646" y="2246"/>
                </a:lnTo>
                <a:lnTo>
                  <a:pt x="1657" y="2248"/>
                </a:lnTo>
                <a:lnTo>
                  <a:pt x="1669" y="2248"/>
                </a:lnTo>
                <a:lnTo>
                  <a:pt x="1682" y="2248"/>
                </a:lnTo>
                <a:lnTo>
                  <a:pt x="1697" y="2248"/>
                </a:lnTo>
                <a:lnTo>
                  <a:pt x="1710" y="2250"/>
                </a:lnTo>
                <a:lnTo>
                  <a:pt x="1726" y="2250"/>
                </a:lnTo>
                <a:lnTo>
                  <a:pt x="1740" y="2250"/>
                </a:lnTo>
                <a:lnTo>
                  <a:pt x="1756" y="2250"/>
                </a:lnTo>
                <a:lnTo>
                  <a:pt x="1769" y="2252"/>
                </a:lnTo>
                <a:lnTo>
                  <a:pt x="1784" y="2252"/>
                </a:lnTo>
                <a:lnTo>
                  <a:pt x="1798" y="2252"/>
                </a:lnTo>
                <a:lnTo>
                  <a:pt x="1812" y="2252"/>
                </a:lnTo>
                <a:lnTo>
                  <a:pt x="1824" y="2252"/>
                </a:lnTo>
                <a:lnTo>
                  <a:pt x="1836" y="2252"/>
                </a:lnTo>
                <a:lnTo>
                  <a:pt x="1846" y="2252"/>
                </a:lnTo>
                <a:lnTo>
                  <a:pt x="1857" y="2252"/>
                </a:lnTo>
                <a:lnTo>
                  <a:pt x="1864" y="2252"/>
                </a:lnTo>
                <a:lnTo>
                  <a:pt x="1870" y="2252"/>
                </a:lnTo>
                <a:lnTo>
                  <a:pt x="1875" y="2252"/>
                </a:lnTo>
                <a:lnTo>
                  <a:pt x="1878" y="2252"/>
                </a:lnTo>
                <a:lnTo>
                  <a:pt x="1880" y="2252"/>
                </a:lnTo>
                <a:lnTo>
                  <a:pt x="1882" y="2252"/>
                </a:lnTo>
                <a:lnTo>
                  <a:pt x="1884" y="2252"/>
                </a:lnTo>
                <a:lnTo>
                  <a:pt x="1886" y="2252"/>
                </a:lnTo>
                <a:lnTo>
                  <a:pt x="1888" y="2252"/>
                </a:lnTo>
                <a:lnTo>
                  <a:pt x="1892" y="2252"/>
                </a:lnTo>
                <a:lnTo>
                  <a:pt x="1897" y="2252"/>
                </a:lnTo>
                <a:lnTo>
                  <a:pt x="1904" y="2252"/>
                </a:lnTo>
                <a:lnTo>
                  <a:pt x="1912" y="2252"/>
                </a:lnTo>
                <a:lnTo>
                  <a:pt x="1923" y="2252"/>
                </a:lnTo>
                <a:lnTo>
                  <a:pt x="1936" y="2252"/>
                </a:lnTo>
                <a:lnTo>
                  <a:pt x="1953" y="2252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570560" y="1673280"/>
            <a:ext cx="2484360" cy="2852640"/>
          </a:xfrm>
          <a:custGeom>
            <a:avLst/>
            <a:gdLst/>
            <a:ahLst/>
            <a:rect l="l" t="t" r="r" b="b"/>
            <a:pathLst>
              <a:path w="1565" h="1797">
                <a:moveTo>
                  <a:pt x="0" y="0"/>
                </a:moveTo>
                <a:lnTo>
                  <a:pt x="0" y="16"/>
                </a:lnTo>
                <a:lnTo>
                  <a:pt x="1" y="27"/>
                </a:lnTo>
                <a:lnTo>
                  <a:pt x="1" y="37"/>
                </a:lnTo>
                <a:lnTo>
                  <a:pt x="3" y="44"/>
                </a:lnTo>
                <a:lnTo>
                  <a:pt x="3" y="50"/>
                </a:lnTo>
                <a:lnTo>
                  <a:pt x="3" y="54"/>
                </a:lnTo>
                <a:lnTo>
                  <a:pt x="3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5" y="70"/>
                </a:lnTo>
                <a:lnTo>
                  <a:pt x="6" y="74"/>
                </a:lnTo>
                <a:lnTo>
                  <a:pt x="6" y="80"/>
                </a:lnTo>
                <a:lnTo>
                  <a:pt x="8" y="86"/>
                </a:lnTo>
                <a:lnTo>
                  <a:pt x="8" y="96"/>
                </a:lnTo>
                <a:lnTo>
                  <a:pt x="10" y="108"/>
                </a:lnTo>
                <a:lnTo>
                  <a:pt x="12" y="122"/>
                </a:lnTo>
                <a:lnTo>
                  <a:pt x="14" y="137"/>
                </a:lnTo>
                <a:lnTo>
                  <a:pt x="17" y="155"/>
                </a:lnTo>
                <a:lnTo>
                  <a:pt x="21" y="174"/>
                </a:lnTo>
                <a:lnTo>
                  <a:pt x="24" y="194"/>
                </a:lnTo>
                <a:lnTo>
                  <a:pt x="29" y="214"/>
                </a:lnTo>
                <a:lnTo>
                  <a:pt x="32" y="238"/>
                </a:lnTo>
                <a:lnTo>
                  <a:pt x="37" y="260"/>
                </a:lnTo>
                <a:lnTo>
                  <a:pt x="41" y="284"/>
                </a:lnTo>
                <a:lnTo>
                  <a:pt x="46" y="306"/>
                </a:lnTo>
                <a:lnTo>
                  <a:pt x="50" y="330"/>
                </a:lnTo>
                <a:lnTo>
                  <a:pt x="55" y="353"/>
                </a:lnTo>
                <a:lnTo>
                  <a:pt x="60" y="376"/>
                </a:lnTo>
                <a:lnTo>
                  <a:pt x="65" y="397"/>
                </a:lnTo>
                <a:lnTo>
                  <a:pt x="69" y="419"/>
                </a:lnTo>
                <a:lnTo>
                  <a:pt x="75" y="442"/>
                </a:lnTo>
                <a:lnTo>
                  <a:pt x="81" y="466"/>
                </a:lnTo>
                <a:lnTo>
                  <a:pt x="87" y="490"/>
                </a:lnTo>
                <a:lnTo>
                  <a:pt x="92" y="515"/>
                </a:lnTo>
                <a:lnTo>
                  <a:pt x="99" y="539"/>
                </a:lnTo>
                <a:lnTo>
                  <a:pt x="105" y="563"/>
                </a:lnTo>
                <a:lnTo>
                  <a:pt x="113" y="587"/>
                </a:lnTo>
                <a:lnTo>
                  <a:pt x="119" y="611"/>
                </a:lnTo>
                <a:lnTo>
                  <a:pt x="125" y="634"/>
                </a:lnTo>
                <a:lnTo>
                  <a:pt x="131" y="655"/>
                </a:lnTo>
                <a:lnTo>
                  <a:pt x="139" y="675"/>
                </a:lnTo>
                <a:lnTo>
                  <a:pt x="144" y="694"/>
                </a:lnTo>
                <a:lnTo>
                  <a:pt x="150" y="710"/>
                </a:lnTo>
                <a:lnTo>
                  <a:pt x="155" y="725"/>
                </a:lnTo>
                <a:lnTo>
                  <a:pt x="160" y="736"/>
                </a:lnTo>
                <a:lnTo>
                  <a:pt x="164" y="749"/>
                </a:lnTo>
                <a:lnTo>
                  <a:pt x="170" y="761"/>
                </a:lnTo>
                <a:lnTo>
                  <a:pt x="175" y="776"/>
                </a:lnTo>
                <a:lnTo>
                  <a:pt x="181" y="791"/>
                </a:lnTo>
                <a:lnTo>
                  <a:pt x="187" y="808"/>
                </a:lnTo>
                <a:lnTo>
                  <a:pt x="195" y="825"/>
                </a:lnTo>
                <a:lnTo>
                  <a:pt x="202" y="844"/>
                </a:lnTo>
                <a:lnTo>
                  <a:pt x="210" y="860"/>
                </a:lnTo>
                <a:lnTo>
                  <a:pt x="217" y="879"/>
                </a:lnTo>
                <a:lnTo>
                  <a:pt x="225" y="898"/>
                </a:lnTo>
                <a:lnTo>
                  <a:pt x="232" y="916"/>
                </a:lnTo>
                <a:lnTo>
                  <a:pt x="239" y="933"/>
                </a:lnTo>
                <a:lnTo>
                  <a:pt x="246" y="952"/>
                </a:lnTo>
                <a:lnTo>
                  <a:pt x="253" y="968"/>
                </a:lnTo>
                <a:lnTo>
                  <a:pt x="259" y="983"/>
                </a:lnTo>
                <a:lnTo>
                  <a:pt x="267" y="998"/>
                </a:lnTo>
                <a:lnTo>
                  <a:pt x="273" y="1013"/>
                </a:lnTo>
                <a:lnTo>
                  <a:pt x="279" y="1028"/>
                </a:lnTo>
                <a:lnTo>
                  <a:pt x="285" y="1045"/>
                </a:lnTo>
                <a:lnTo>
                  <a:pt x="293" y="1061"/>
                </a:lnTo>
                <a:lnTo>
                  <a:pt x="300" y="1079"/>
                </a:lnTo>
                <a:lnTo>
                  <a:pt x="307" y="1096"/>
                </a:lnTo>
                <a:lnTo>
                  <a:pt x="315" y="1113"/>
                </a:lnTo>
                <a:lnTo>
                  <a:pt x="323" y="1130"/>
                </a:lnTo>
                <a:lnTo>
                  <a:pt x="329" y="1147"/>
                </a:lnTo>
                <a:lnTo>
                  <a:pt x="337" y="1164"/>
                </a:lnTo>
                <a:lnTo>
                  <a:pt x="344" y="1179"/>
                </a:lnTo>
                <a:lnTo>
                  <a:pt x="351" y="1194"/>
                </a:lnTo>
                <a:lnTo>
                  <a:pt x="357" y="1207"/>
                </a:lnTo>
                <a:lnTo>
                  <a:pt x="363" y="1220"/>
                </a:lnTo>
                <a:lnTo>
                  <a:pt x="369" y="1231"/>
                </a:lnTo>
                <a:lnTo>
                  <a:pt x="374" y="1240"/>
                </a:lnTo>
                <a:lnTo>
                  <a:pt x="378" y="1250"/>
                </a:lnTo>
                <a:lnTo>
                  <a:pt x="384" y="1260"/>
                </a:lnTo>
                <a:lnTo>
                  <a:pt x="389" y="1272"/>
                </a:lnTo>
                <a:lnTo>
                  <a:pt x="397" y="1283"/>
                </a:lnTo>
                <a:lnTo>
                  <a:pt x="404" y="1296"/>
                </a:lnTo>
                <a:lnTo>
                  <a:pt x="411" y="1308"/>
                </a:lnTo>
                <a:lnTo>
                  <a:pt x="419" y="1322"/>
                </a:lnTo>
                <a:lnTo>
                  <a:pt x="428" y="1334"/>
                </a:lnTo>
                <a:lnTo>
                  <a:pt x="435" y="1348"/>
                </a:lnTo>
                <a:lnTo>
                  <a:pt x="445" y="1362"/>
                </a:lnTo>
                <a:lnTo>
                  <a:pt x="453" y="1374"/>
                </a:lnTo>
                <a:lnTo>
                  <a:pt x="462" y="1386"/>
                </a:lnTo>
                <a:lnTo>
                  <a:pt x="470" y="1399"/>
                </a:lnTo>
                <a:lnTo>
                  <a:pt x="479" y="1410"/>
                </a:lnTo>
                <a:lnTo>
                  <a:pt x="487" y="1421"/>
                </a:lnTo>
                <a:lnTo>
                  <a:pt x="495" y="1430"/>
                </a:lnTo>
                <a:lnTo>
                  <a:pt x="502" y="1440"/>
                </a:lnTo>
                <a:lnTo>
                  <a:pt x="510" y="1449"/>
                </a:lnTo>
                <a:lnTo>
                  <a:pt x="519" y="1461"/>
                </a:lnTo>
                <a:lnTo>
                  <a:pt x="529" y="1470"/>
                </a:lnTo>
                <a:lnTo>
                  <a:pt x="538" y="1481"/>
                </a:lnTo>
                <a:lnTo>
                  <a:pt x="549" y="1492"/>
                </a:lnTo>
                <a:lnTo>
                  <a:pt x="559" y="1504"/>
                </a:lnTo>
                <a:lnTo>
                  <a:pt x="570" y="1513"/>
                </a:lnTo>
                <a:lnTo>
                  <a:pt x="580" y="1524"/>
                </a:lnTo>
                <a:lnTo>
                  <a:pt x="591" y="1534"/>
                </a:lnTo>
                <a:lnTo>
                  <a:pt x="601" y="1544"/>
                </a:lnTo>
                <a:lnTo>
                  <a:pt x="612" y="1554"/>
                </a:lnTo>
                <a:lnTo>
                  <a:pt x="621" y="1563"/>
                </a:lnTo>
                <a:lnTo>
                  <a:pt x="630" y="1570"/>
                </a:lnTo>
                <a:lnTo>
                  <a:pt x="638" y="1577"/>
                </a:lnTo>
                <a:lnTo>
                  <a:pt x="647" y="1582"/>
                </a:lnTo>
                <a:lnTo>
                  <a:pt x="654" y="1589"/>
                </a:lnTo>
                <a:lnTo>
                  <a:pt x="661" y="1595"/>
                </a:lnTo>
                <a:lnTo>
                  <a:pt x="669" y="1600"/>
                </a:lnTo>
                <a:lnTo>
                  <a:pt x="678" y="1606"/>
                </a:lnTo>
                <a:lnTo>
                  <a:pt x="685" y="1612"/>
                </a:lnTo>
                <a:lnTo>
                  <a:pt x="693" y="1618"/>
                </a:lnTo>
                <a:lnTo>
                  <a:pt x="700" y="1624"/>
                </a:lnTo>
                <a:lnTo>
                  <a:pt x="709" y="1628"/>
                </a:lnTo>
                <a:lnTo>
                  <a:pt x="715" y="1634"/>
                </a:lnTo>
                <a:lnTo>
                  <a:pt x="722" y="1640"/>
                </a:lnTo>
                <a:lnTo>
                  <a:pt x="727" y="1645"/>
                </a:lnTo>
                <a:lnTo>
                  <a:pt x="734" y="1648"/>
                </a:lnTo>
                <a:lnTo>
                  <a:pt x="739" y="1652"/>
                </a:lnTo>
                <a:lnTo>
                  <a:pt x="744" y="1655"/>
                </a:lnTo>
                <a:lnTo>
                  <a:pt x="747" y="1658"/>
                </a:lnTo>
                <a:lnTo>
                  <a:pt x="751" y="1660"/>
                </a:lnTo>
                <a:lnTo>
                  <a:pt x="753" y="1662"/>
                </a:lnTo>
                <a:lnTo>
                  <a:pt x="756" y="1664"/>
                </a:lnTo>
                <a:lnTo>
                  <a:pt x="760" y="1666"/>
                </a:lnTo>
                <a:lnTo>
                  <a:pt x="765" y="1668"/>
                </a:lnTo>
                <a:lnTo>
                  <a:pt x="769" y="1672"/>
                </a:lnTo>
                <a:lnTo>
                  <a:pt x="775" y="1674"/>
                </a:lnTo>
                <a:lnTo>
                  <a:pt x="781" y="1677"/>
                </a:lnTo>
                <a:lnTo>
                  <a:pt x="787" y="1679"/>
                </a:lnTo>
                <a:lnTo>
                  <a:pt x="793" y="1683"/>
                </a:lnTo>
                <a:lnTo>
                  <a:pt x="798" y="1685"/>
                </a:lnTo>
                <a:lnTo>
                  <a:pt x="804" y="1689"/>
                </a:lnTo>
                <a:lnTo>
                  <a:pt x="811" y="1691"/>
                </a:lnTo>
                <a:lnTo>
                  <a:pt x="816" y="1695"/>
                </a:lnTo>
                <a:lnTo>
                  <a:pt x="822" y="1696"/>
                </a:lnTo>
                <a:lnTo>
                  <a:pt x="828" y="1699"/>
                </a:lnTo>
                <a:lnTo>
                  <a:pt x="835" y="1701"/>
                </a:lnTo>
                <a:lnTo>
                  <a:pt x="840" y="1705"/>
                </a:lnTo>
                <a:lnTo>
                  <a:pt x="847" y="1706"/>
                </a:lnTo>
                <a:lnTo>
                  <a:pt x="854" y="1710"/>
                </a:lnTo>
                <a:lnTo>
                  <a:pt x="863" y="1712"/>
                </a:lnTo>
                <a:lnTo>
                  <a:pt x="872" y="1715"/>
                </a:lnTo>
                <a:lnTo>
                  <a:pt x="882" y="1718"/>
                </a:lnTo>
                <a:lnTo>
                  <a:pt x="891" y="1722"/>
                </a:lnTo>
                <a:lnTo>
                  <a:pt x="902" y="1724"/>
                </a:lnTo>
                <a:lnTo>
                  <a:pt x="912" y="1728"/>
                </a:lnTo>
                <a:lnTo>
                  <a:pt x="923" y="1731"/>
                </a:lnTo>
                <a:lnTo>
                  <a:pt x="933" y="1734"/>
                </a:lnTo>
                <a:lnTo>
                  <a:pt x="944" y="1736"/>
                </a:lnTo>
                <a:lnTo>
                  <a:pt x="953" y="1740"/>
                </a:lnTo>
                <a:lnTo>
                  <a:pt x="964" y="1742"/>
                </a:lnTo>
                <a:lnTo>
                  <a:pt x="973" y="1744"/>
                </a:lnTo>
                <a:lnTo>
                  <a:pt x="983" y="1746"/>
                </a:lnTo>
                <a:lnTo>
                  <a:pt x="990" y="1750"/>
                </a:lnTo>
                <a:lnTo>
                  <a:pt x="999" y="1752"/>
                </a:lnTo>
                <a:lnTo>
                  <a:pt x="1009" y="1753"/>
                </a:lnTo>
                <a:lnTo>
                  <a:pt x="1021" y="1755"/>
                </a:lnTo>
                <a:lnTo>
                  <a:pt x="1032" y="1759"/>
                </a:lnTo>
                <a:lnTo>
                  <a:pt x="1043" y="1761"/>
                </a:lnTo>
                <a:lnTo>
                  <a:pt x="1055" y="1763"/>
                </a:lnTo>
                <a:lnTo>
                  <a:pt x="1067" y="1764"/>
                </a:lnTo>
                <a:lnTo>
                  <a:pt x="1078" y="1768"/>
                </a:lnTo>
                <a:lnTo>
                  <a:pt x="1089" y="1770"/>
                </a:lnTo>
                <a:lnTo>
                  <a:pt x="1100" y="1771"/>
                </a:lnTo>
                <a:lnTo>
                  <a:pt x="1111" y="1773"/>
                </a:lnTo>
                <a:lnTo>
                  <a:pt x="1121" y="1775"/>
                </a:lnTo>
                <a:lnTo>
                  <a:pt x="1131" y="1777"/>
                </a:lnTo>
                <a:lnTo>
                  <a:pt x="1139" y="1779"/>
                </a:lnTo>
                <a:lnTo>
                  <a:pt x="1148" y="1779"/>
                </a:lnTo>
                <a:lnTo>
                  <a:pt x="1155" y="1781"/>
                </a:lnTo>
                <a:lnTo>
                  <a:pt x="1164" y="1781"/>
                </a:lnTo>
                <a:lnTo>
                  <a:pt x="1173" y="1782"/>
                </a:lnTo>
                <a:lnTo>
                  <a:pt x="1184" y="1782"/>
                </a:lnTo>
                <a:lnTo>
                  <a:pt x="1195" y="1784"/>
                </a:lnTo>
                <a:lnTo>
                  <a:pt x="1206" y="1784"/>
                </a:lnTo>
                <a:lnTo>
                  <a:pt x="1217" y="1785"/>
                </a:lnTo>
                <a:lnTo>
                  <a:pt x="1231" y="1785"/>
                </a:lnTo>
                <a:lnTo>
                  <a:pt x="1242" y="1787"/>
                </a:lnTo>
                <a:lnTo>
                  <a:pt x="1253" y="1787"/>
                </a:lnTo>
                <a:lnTo>
                  <a:pt x="1265" y="1789"/>
                </a:lnTo>
                <a:lnTo>
                  <a:pt x="1277" y="1789"/>
                </a:lnTo>
                <a:lnTo>
                  <a:pt x="1287" y="1791"/>
                </a:lnTo>
                <a:lnTo>
                  <a:pt x="1299" y="1791"/>
                </a:lnTo>
                <a:lnTo>
                  <a:pt x="1308" y="1791"/>
                </a:lnTo>
                <a:lnTo>
                  <a:pt x="1319" y="1791"/>
                </a:lnTo>
                <a:lnTo>
                  <a:pt x="1327" y="1793"/>
                </a:lnTo>
                <a:lnTo>
                  <a:pt x="1337" y="1793"/>
                </a:lnTo>
                <a:lnTo>
                  <a:pt x="1347" y="1794"/>
                </a:lnTo>
                <a:lnTo>
                  <a:pt x="1358" y="1794"/>
                </a:lnTo>
                <a:lnTo>
                  <a:pt x="1370" y="1795"/>
                </a:lnTo>
                <a:lnTo>
                  <a:pt x="1381" y="1795"/>
                </a:lnTo>
                <a:lnTo>
                  <a:pt x="1393" y="1795"/>
                </a:lnTo>
                <a:lnTo>
                  <a:pt x="1406" y="1795"/>
                </a:lnTo>
                <a:lnTo>
                  <a:pt x="1417" y="1796"/>
                </a:lnTo>
                <a:lnTo>
                  <a:pt x="1429" y="1796"/>
                </a:lnTo>
                <a:lnTo>
                  <a:pt x="1440" y="1796"/>
                </a:lnTo>
                <a:lnTo>
                  <a:pt x="1452" y="1796"/>
                </a:lnTo>
                <a:lnTo>
                  <a:pt x="1461" y="1796"/>
                </a:lnTo>
                <a:lnTo>
                  <a:pt x="1472" y="1796"/>
                </a:lnTo>
                <a:lnTo>
                  <a:pt x="1480" y="1796"/>
                </a:lnTo>
                <a:lnTo>
                  <a:pt x="1489" y="1796"/>
                </a:lnTo>
                <a:lnTo>
                  <a:pt x="1494" y="1796"/>
                </a:lnTo>
                <a:lnTo>
                  <a:pt x="1499" y="1796"/>
                </a:lnTo>
                <a:lnTo>
                  <a:pt x="1501" y="1796"/>
                </a:lnTo>
                <a:lnTo>
                  <a:pt x="1505" y="1796"/>
                </a:lnTo>
                <a:lnTo>
                  <a:pt x="1506" y="1796"/>
                </a:lnTo>
                <a:lnTo>
                  <a:pt x="1507" y="1796"/>
                </a:lnTo>
                <a:lnTo>
                  <a:pt x="1509" y="1796"/>
                </a:lnTo>
                <a:lnTo>
                  <a:pt x="1511" y="1796"/>
                </a:lnTo>
                <a:lnTo>
                  <a:pt x="1513" y="1796"/>
                </a:lnTo>
                <a:lnTo>
                  <a:pt x="1516" y="1796"/>
                </a:lnTo>
                <a:lnTo>
                  <a:pt x="1519" y="1796"/>
                </a:lnTo>
                <a:lnTo>
                  <a:pt x="1525" y="1796"/>
                </a:lnTo>
                <a:lnTo>
                  <a:pt x="1531" y="1796"/>
                </a:lnTo>
                <a:lnTo>
                  <a:pt x="1540" y="1796"/>
                </a:lnTo>
                <a:lnTo>
                  <a:pt x="1550" y="1796"/>
                </a:lnTo>
                <a:lnTo>
                  <a:pt x="1564" y="1796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710160" y="2454120"/>
            <a:ext cx="2474640" cy="4272120"/>
          </a:xfrm>
          <a:prstGeom prst="line">
            <a:avLst/>
          </a:prstGeom>
          <a:ln w="316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38400" y="6986520"/>
            <a:ext cx="70642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238400" y="1531800"/>
            <a:ext cx="0" cy="54547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485720" y="1546200"/>
            <a:ext cx="68389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35800" y="1544760"/>
            <a:ext cx="0" cy="52718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016080" y="2095560"/>
            <a:ext cx="479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175360" y="4027320"/>
            <a:ext cx="353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c0c0c0"/>
                </a:solidFill>
                <a:latin typeface="Times New Roman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7475400" y="6912000"/>
            <a:ext cx="468360" cy="812880"/>
            <a:chOff x="7475400" y="6912000"/>
            <a:chExt cx="468360" cy="812880"/>
          </a:xfrm>
        </p:grpSpPr>
        <p:sp>
          <p:nvSpPr>
            <p:cNvPr id="1562" name=""/>
            <p:cNvSpPr/>
            <p:nvPr/>
          </p:nvSpPr>
          <p:spPr>
            <a:xfrm>
              <a:off x="7475400" y="700740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34240" y="7343640"/>
              <a:ext cx="198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46840" y="691200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422280" y="1982880"/>
            <a:ext cx="468360" cy="814320"/>
            <a:chOff x="422280" y="1982880"/>
            <a:chExt cx="468360" cy="814320"/>
          </a:xfrm>
        </p:grpSpPr>
        <p:sp>
          <p:nvSpPr>
            <p:cNvPr id="1566" name=""/>
            <p:cNvSpPr/>
            <p:nvPr/>
          </p:nvSpPr>
          <p:spPr>
            <a:xfrm>
              <a:off x="422280" y="207648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2560" y="241632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3720" y="19828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8812080" y="5799240"/>
            <a:ext cx="465120" cy="812520"/>
            <a:chOff x="8812080" y="5799240"/>
            <a:chExt cx="465120" cy="812520"/>
          </a:xfrm>
        </p:grpSpPr>
        <p:sp>
          <p:nvSpPr>
            <p:cNvPr id="1570" name=""/>
            <p:cNvSpPr/>
            <p:nvPr/>
          </p:nvSpPr>
          <p:spPr>
            <a:xfrm>
              <a:off x="8812080" y="5892840"/>
              <a:ext cx="2685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072720" y="623088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082080" y="579924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2043000" y="765000"/>
            <a:ext cx="466920" cy="806760"/>
            <a:chOff x="2043000" y="765000"/>
            <a:chExt cx="466920" cy="806760"/>
          </a:xfrm>
        </p:grpSpPr>
        <p:sp>
          <p:nvSpPr>
            <p:cNvPr id="1574" name=""/>
            <p:cNvSpPr/>
            <p:nvPr/>
          </p:nvSpPr>
          <p:spPr>
            <a:xfrm>
              <a:off x="2043000" y="852480"/>
              <a:ext cx="2653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301840" y="119052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313000" y="765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8439120" y="846000"/>
            <a:ext cx="620640" cy="720720"/>
            <a:chOff x="8439120" y="846000"/>
            <a:chExt cx="620640" cy="720720"/>
          </a:xfrm>
        </p:grpSpPr>
        <p:sp>
          <p:nvSpPr>
            <p:cNvPr id="1578" name=""/>
            <p:cNvSpPr/>
            <p:nvPr/>
          </p:nvSpPr>
          <p:spPr>
            <a:xfrm>
              <a:off x="8439120" y="1006560"/>
              <a:ext cx="41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862840" y="846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546120" y="7021440"/>
            <a:ext cx="619200" cy="720720"/>
            <a:chOff x="546120" y="7021440"/>
            <a:chExt cx="619200" cy="720720"/>
          </a:xfrm>
        </p:grpSpPr>
        <p:sp>
          <p:nvSpPr>
            <p:cNvPr id="1581" name=""/>
            <p:cNvSpPr/>
            <p:nvPr/>
          </p:nvSpPr>
          <p:spPr>
            <a:xfrm>
              <a:off x="546120" y="7182000"/>
              <a:ext cx="4125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68400" y="702144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3619440" y="1365120"/>
            <a:ext cx="2708280" cy="976320"/>
            <a:chOff x="3619440" y="1365120"/>
            <a:chExt cx="2708280" cy="976320"/>
          </a:xfrm>
        </p:grpSpPr>
        <p:sp>
          <p:nvSpPr>
            <p:cNvPr id="1584" name=""/>
            <p:cNvSpPr/>
            <p:nvPr/>
          </p:nvSpPr>
          <p:spPr>
            <a:xfrm>
              <a:off x="3619440" y="1365120"/>
              <a:ext cx="2708280" cy="976320"/>
            </a:xfrm>
            <a:custGeom>
              <a:avLst/>
              <a:gdLst/>
              <a:ahLst/>
              <a:rect l="l" t="t" r="r" b="b"/>
              <a:pathLst>
                <a:path w="1706" h="615">
                  <a:moveTo>
                    <a:pt x="452" y="510"/>
                  </a:moveTo>
                  <a:lnTo>
                    <a:pt x="562" y="528"/>
                  </a:lnTo>
                  <a:lnTo>
                    <a:pt x="672" y="539"/>
                  </a:lnTo>
                  <a:lnTo>
                    <a:pt x="783" y="544"/>
                  </a:lnTo>
                  <a:lnTo>
                    <a:pt x="894" y="544"/>
                  </a:lnTo>
                  <a:lnTo>
                    <a:pt x="1000" y="540"/>
                  </a:lnTo>
                  <a:lnTo>
                    <a:pt x="1105" y="530"/>
                  </a:lnTo>
                  <a:lnTo>
                    <a:pt x="1204" y="517"/>
                  </a:lnTo>
                  <a:lnTo>
                    <a:pt x="1298" y="500"/>
                  </a:lnTo>
                  <a:lnTo>
                    <a:pt x="1384" y="480"/>
                  </a:lnTo>
                  <a:lnTo>
                    <a:pt x="1463" y="456"/>
                  </a:lnTo>
                  <a:lnTo>
                    <a:pt x="1532" y="431"/>
                  </a:lnTo>
                  <a:lnTo>
                    <a:pt x="1592" y="402"/>
                  </a:lnTo>
                  <a:lnTo>
                    <a:pt x="1639" y="373"/>
                  </a:lnTo>
                  <a:lnTo>
                    <a:pt x="1675" y="341"/>
                  </a:lnTo>
                  <a:lnTo>
                    <a:pt x="1697" y="309"/>
                  </a:lnTo>
                  <a:lnTo>
                    <a:pt x="1705" y="275"/>
                  </a:lnTo>
                  <a:lnTo>
                    <a:pt x="1684" y="211"/>
                  </a:lnTo>
                  <a:lnTo>
                    <a:pt x="1630" y="154"/>
                  </a:lnTo>
                  <a:lnTo>
                    <a:pt x="1546" y="108"/>
                  </a:lnTo>
                  <a:lnTo>
                    <a:pt x="1440" y="68"/>
                  </a:lnTo>
                  <a:lnTo>
                    <a:pt x="1312" y="40"/>
                  </a:lnTo>
                  <a:lnTo>
                    <a:pt x="1170" y="18"/>
                  </a:lnTo>
                  <a:lnTo>
                    <a:pt x="1019" y="5"/>
                  </a:lnTo>
                  <a:lnTo>
                    <a:pt x="864" y="0"/>
                  </a:lnTo>
                  <a:lnTo>
                    <a:pt x="706" y="5"/>
                  </a:lnTo>
                  <a:lnTo>
                    <a:pt x="554" y="17"/>
                  </a:lnTo>
                  <a:lnTo>
                    <a:pt x="410" y="39"/>
                  </a:lnTo>
                  <a:lnTo>
                    <a:pt x="282" y="67"/>
                  </a:lnTo>
                  <a:lnTo>
                    <a:pt x="171" y="105"/>
                  </a:lnTo>
                  <a:lnTo>
                    <a:pt x="85" y="149"/>
                  </a:lnTo>
                  <a:lnTo>
                    <a:pt x="26" y="202"/>
                  </a:lnTo>
                  <a:lnTo>
                    <a:pt x="1" y="262"/>
                  </a:lnTo>
                  <a:lnTo>
                    <a:pt x="0" y="279"/>
                  </a:lnTo>
                  <a:lnTo>
                    <a:pt x="4" y="294"/>
                  </a:lnTo>
                  <a:lnTo>
                    <a:pt x="9" y="309"/>
                  </a:lnTo>
                  <a:lnTo>
                    <a:pt x="19" y="324"/>
                  </a:lnTo>
                  <a:lnTo>
                    <a:pt x="29" y="339"/>
                  </a:lnTo>
                  <a:lnTo>
                    <a:pt x="44" y="354"/>
                  </a:lnTo>
                  <a:lnTo>
                    <a:pt x="60" y="368"/>
                  </a:lnTo>
                  <a:lnTo>
                    <a:pt x="79" y="382"/>
                  </a:lnTo>
                  <a:lnTo>
                    <a:pt x="98" y="397"/>
                  </a:lnTo>
                  <a:lnTo>
                    <a:pt x="121" y="410"/>
                  </a:lnTo>
                  <a:lnTo>
                    <a:pt x="145" y="423"/>
                  </a:lnTo>
                  <a:lnTo>
                    <a:pt x="172" y="434"/>
                  </a:lnTo>
                  <a:lnTo>
                    <a:pt x="198" y="446"/>
                  </a:lnTo>
                  <a:lnTo>
                    <a:pt x="227" y="456"/>
                  </a:lnTo>
                  <a:lnTo>
                    <a:pt x="256" y="466"/>
                  </a:lnTo>
                  <a:lnTo>
                    <a:pt x="288" y="475"/>
                  </a:lnTo>
                  <a:lnTo>
                    <a:pt x="186" y="539"/>
                  </a:lnTo>
                  <a:lnTo>
                    <a:pt x="134" y="508"/>
                  </a:lnTo>
                  <a:lnTo>
                    <a:pt x="82" y="614"/>
                  </a:lnTo>
                  <a:lnTo>
                    <a:pt x="317" y="614"/>
                  </a:lnTo>
                  <a:lnTo>
                    <a:pt x="244" y="572"/>
                  </a:lnTo>
                  <a:lnTo>
                    <a:pt x="452" y="510"/>
                  </a:lnTo>
                  <a:lnTo>
                    <a:pt x="452" y="510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089240" y="1611360"/>
              <a:ext cx="1632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ota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/>
          </p:nvPr>
        </p:nvSpPr>
        <p:spPr>
          <a:xfrm>
            <a:off x="380880" y="-54360"/>
            <a:ext cx="101124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...a este punt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571840" y="3228840"/>
            <a:ext cx="2841480" cy="3259440"/>
          </a:xfrm>
          <a:custGeom>
            <a:avLst/>
            <a:gdLst/>
            <a:ahLst/>
            <a:rect l="l" t="t" r="r" b="b"/>
            <a:pathLst>
              <a:path w="1790" h="2053">
                <a:moveTo>
                  <a:pt x="1789" y="2052"/>
                </a:moveTo>
                <a:lnTo>
                  <a:pt x="1788" y="2036"/>
                </a:lnTo>
                <a:lnTo>
                  <a:pt x="1786" y="2022"/>
                </a:lnTo>
                <a:lnTo>
                  <a:pt x="1784" y="2012"/>
                </a:lnTo>
                <a:lnTo>
                  <a:pt x="1784" y="2003"/>
                </a:lnTo>
                <a:lnTo>
                  <a:pt x="1782" y="1997"/>
                </a:lnTo>
                <a:lnTo>
                  <a:pt x="1782" y="1992"/>
                </a:lnTo>
                <a:lnTo>
                  <a:pt x="1782" y="1989"/>
                </a:lnTo>
                <a:lnTo>
                  <a:pt x="1782" y="1985"/>
                </a:lnTo>
                <a:lnTo>
                  <a:pt x="1782" y="1983"/>
                </a:lnTo>
                <a:lnTo>
                  <a:pt x="1782" y="1981"/>
                </a:lnTo>
                <a:lnTo>
                  <a:pt x="1782" y="1980"/>
                </a:lnTo>
                <a:lnTo>
                  <a:pt x="1782" y="1977"/>
                </a:lnTo>
                <a:lnTo>
                  <a:pt x="1781" y="1974"/>
                </a:lnTo>
                <a:lnTo>
                  <a:pt x="1781" y="1969"/>
                </a:lnTo>
                <a:lnTo>
                  <a:pt x="1780" y="1963"/>
                </a:lnTo>
                <a:lnTo>
                  <a:pt x="1780" y="1954"/>
                </a:lnTo>
                <a:lnTo>
                  <a:pt x="1778" y="1944"/>
                </a:lnTo>
                <a:lnTo>
                  <a:pt x="1776" y="1931"/>
                </a:lnTo>
                <a:lnTo>
                  <a:pt x="1772" y="1915"/>
                </a:lnTo>
                <a:lnTo>
                  <a:pt x="1770" y="1896"/>
                </a:lnTo>
                <a:lnTo>
                  <a:pt x="1766" y="1877"/>
                </a:lnTo>
                <a:lnTo>
                  <a:pt x="1762" y="1855"/>
                </a:lnTo>
                <a:lnTo>
                  <a:pt x="1758" y="1831"/>
                </a:lnTo>
                <a:lnTo>
                  <a:pt x="1754" y="1806"/>
                </a:lnTo>
                <a:lnTo>
                  <a:pt x="1748" y="1782"/>
                </a:lnTo>
                <a:lnTo>
                  <a:pt x="1743" y="1756"/>
                </a:lnTo>
                <a:lnTo>
                  <a:pt x="1738" y="1729"/>
                </a:lnTo>
                <a:lnTo>
                  <a:pt x="1733" y="1702"/>
                </a:lnTo>
                <a:lnTo>
                  <a:pt x="1728" y="1676"/>
                </a:lnTo>
                <a:lnTo>
                  <a:pt x="1722" y="1649"/>
                </a:lnTo>
                <a:lnTo>
                  <a:pt x="1716" y="1624"/>
                </a:lnTo>
                <a:lnTo>
                  <a:pt x="1712" y="1598"/>
                </a:lnTo>
                <a:lnTo>
                  <a:pt x="1706" y="1574"/>
                </a:lnTo>
                <a:lnTo>
                  <a:pt x="1701" y="1548"/>
                </a:lnTo>
                <a:lnTo>
                  <a:pt x="1693" y="1522"/>
                </a:lnTo>
                <a:lnTo>
                  <a:pt x="1688" y="1493"/>
                </a:lnTo>
                <a:lnTo>
                  <a:pt x="1680" y="1465"/>
                </a:lnTo>
                <a:lnTo>
                  <a:pt x="1673" y="1437"/>
                </a:lnTo>
                <a:lnTo>
                  <a:pt x="1665" y="1409"/>
                </a:lnTo>
                <a:lnTo>
                  <a:pt x="1658" y="1381"/>
                </a:lnTo>
                <a:lnTo>
                  <a:pt x="1651" y="1355"/>
                </a:lnTo>
                <a:lnTo>
                  <a:pt x="1643" y="1329"/>
                </a:lnTo>
                <a:lnTo>
                  <a:pt x="1636" y="1305"/>
                </a:lnTo>
                <a:lnTo>
                  <a:pt x="1629" y="1281"/>
                </a:lnTo>
                <a:lnTo>
                  <a:pt x="1622" y="1260"/>
                </a:lnTo>
                <a:lnTo>
                  <a:pt x="1615" y="1241"/>
                </a:lnTo>
                <a:lnTo>
                  <a:pt x="1610" y="1224"/>
                </a:lnTo>
                <a:lnTo>
                  <a:pt x="1605" y="1210"/>
                </a:lnTo>
                <a:lnTo>
                  <a:pt x="1599" y="1198"/>
                </a:lnTo>
                <a:lnTo>
                  <a:pt x="1594" y="1183"/>
                </a:lnTo>
                <a:lnTo>
                  <a:pt x="1586" y="1167"/>
                </a:lnTo>
                <a:lnTo>
                  <a:pt x="1580" y="1149"/>
                </a:lnTo>
                <a:lnTo>
                  <a:pt x="1571" y="1131"/>
                </a:lnTo>
                <a:lnTo>
                  <a:pt x="1564" y="1111"/>
                </a:lnTo>
                <a:lnTo>
                  <a:pt x="1554" y="1090"/>
                </a:lnTo>
                <a:lnTo>
                  <a:pt x="1547" y="1069"/>
                </a:lnTo>
                <a:lnTo>
                  <a:pt x="1537" y="1048"/>
                </a:lnTo>
                <a:lnTo>
                  <a:pt x="1528" y="1027"/>
                </a:lnTo>
                <a:lnTo>
                  <a:pt x="1519" y="1007"/>
                </a:lnTo>
                <a:lnTo>
                  <a:pt x="1512" y="986"/>
                </a:lnTo>
                <a:lnTo>
                  <a:pt x="1503" y="966"/>
                </a:lnTo>
                <a:lnTo>
                  <a:pt x="1496" y="946"/>
                </a:lnTo>
                <a:lnTo>
                  <a:pt x="1488" y="929"/>
                </a:lnTo>
                <a:lnTo>
                  <a:pt x="1482" y="910"/>
                </a:lnTo>
                <a:lnTo>
                  <a:pt x="1474" y="894"/>
                </a:lnTo>
                <a:lnTo>
                  <a:pt x="1466" y="877"/>
                </a:lnTo>
                <a:lnTo>
                  <a:pt x="1458" y="859"/>
                </a:lnTo>
                <a:lnTo>
                  <a:pt x="1450" y="840"/>
                </a:lnTo>
                <a:lnTo>
                  <a:pt x="1441" y="821"/>
                </a:lnTo>
                <a:lnTo>
                  <a:pt x="1433" y="801"/>
                </a:lnTo>
                <a:lnTo>
                  <a:pt x="1424" y="781"/>
                </a:lnTo>
                <a:lnTo>
                  <a:pt x="1416" y="761"/>
                </a:lnTo>
                <a:lnTo>
                  <a:pt x="1407" y="742"/>
                </a:lnTo>
                <a:lnTo>
                  <a:pt x="1399" y="723"/>
                </a:lnTo>
                <a:lnTo>
                  <a:pt x="1391" y="706"/>
                </a:lnTo>
                <a:lnTo>
                  <a:pt x="1383" y="688"/>
                </a:lnTo>
                <a:lnTo>
                  <a:pt x="1376" y="673"/>
                </a:lnTo>
                <a:lnTo>
                  <a:pt x="1369" y="658"/>
                </a:lnTo>
                <a:lnTo>
                  <a:pt x="1364" y="645"/>
                </a:lnTo>
                <a:lnTo>
                  <a:pt x="1360" y="634"/>
                </a:lnTo>
                <a:lnTo>
                  <a:pt x="1353" y="624"/>
                </a:lnTo>
                <a:lnTo>
                  <a:pt x="1348" y="612"/>
                </a:lnTo>
                <a:lnTo>
                  <a:pt x="1340" y="599"/>
                </a:lnTo>
                <a:lnTo>
                  <a:pt x="1333" y="586"/>
                </a:lnTo>
                <a:lnTo>
                  <a:pt x="1324" y="572"/>
                </a:lnTo>
                <a:lnTo>
                  <a:pt x="1316" y="557"/>
                </a:lnTo>
                <a:lnTo>
                  <a:pt x="1306" y="542"/>
                </a:lnTo>
                <a:lnTo>
                  <a:pt x="1298" y="526"/>
                </a:lnTo>
                <a:lnTo>
                  <a:pt x="1287" y="512"/>
                </a:lnTo>
                <a:lnTo>
                  <a:pt x="1278" y="497"/>
                </a:lnTo>
                <a:lnTo>
                  <a:pt x="1268" y="482"/>
                </a:lnTo>
                <a:lnTo>
                  <a:pt x="1258" y="468"/>
                </a:lnTo>
                <a:lnTo>
                  <a:pt x="1249" y="454"/>
                </a:lnTo>
                <a:lnTo>
                  <a:pt x="1240" y="441"/>
                </a:lnTo>
                <a:lnTo>
                  <a:pt x="1230" y="430"/>
                </a:lnTo>
                <a:lnTo>
                  <a:pt x="1222" y="418"/>
                </a:lnTo>
                <a:lnTo>
                  <a:pt x="1213" y="408"/>
                </a:lnTo>
                <a:lnTo>
                  <a:pt x="1204" y="397"/>
                </a:lnTo>
                <a:lnTo>
                  <a:pt x="1192" y="386"/>
                </a:lnTo>
                <a:lnTo>
                  <a:pt x="1182" y="373"/>
                </a:lnTo>
                <a:lnTo>
                  <a:pt x="1170" y="362"/>
                </a:lnTo>
                <a:lnTo>
                  <a:pt x="1158" y="348"/>
                </a:lnTo>
                <a:lnTo>
                  <a:pt x="1146" y="336"/>
                </a:lnTo>
                <a:lnTo>
                  <a:pt x="1135" y="323"/>
                </a:lnTo>
                <a:lnTo>
                  <a:pt x="1122" y="312"/>
                </a:lnTo>
                <a:lnTo>
                  <a:pt x="1110" y="300"/>
                </a:lnTo>
                <a:lnTo>
                  <a:pt x="1098" y="288"/>
                </a:lnTo>
                <a:lnTo>
                  <a:pt x="1087" y="277"/>
                </a:lnTo>
                <a:lnTo>
                  <a:pt x="1076" y="268"/>
                </a:lnTo>
                <a:lnTo>
                  <a:pt x="1065" y="258"/>
                </a:lnTo>
                <a:lnTo>
                  <a:pt x="1056" y="250"/>
                </a:lnTo>
                <a:lnTo>
                  <a:pt x="1047" y="242"/>
                </a:lnTo>
                <a:lnTo>
                  <a:pt x="1038" y="237"/>
                </a:lnTo>
                <a:lnTo>
                  <a:pt x="1029" y="230"/>
                </a:lnTo>
                <a:lnTo>
                  <a:pt x="1020" y="224"/>
                </a:lnTo>
                <a:lnTo>
                  <a:pt x="1012" y="217"/>
                </a:lnTo>
                <a:lnTo>
                  <a:pt x="1003" y="211"/>
                </a:lnTo>
                <a:lnTo>
                  <a:pt x="995" y="204"/>
                </a:lnTo>
                <a:lnTo>
                  <a:pt x="986" y="197"/>
                </a:lnTo>
                <a:lnTo>
                  <a:pt x="979" y="189"/>
                </a:lnTo>
                <a:lnTo>
                  <a:pt x="970" y="184"/>
                </a:lnTo>
                <a:lnTo>
                  <a:pt x="962" y="178"/>
                </a:lnTo>
                <a:lnTo>
                  <a:pt x="955" y="173"/>
                </a:lnTo>
                <a:lnTo>
                  <a:pt x="950" y="167"/>
                </a:lnTo>
                <a:lnTo>
                  <a:pt x="943" y="164"/>
                </a:lnTo>
                <a:lnTo>
                  <a:pt x="938" y="159"/>
                </a:lnTo>
                <a:lnTo>
                  <a:pt x="934" y="156"/>
                </a:lnTo>
                <a:lnTo>
                  <a:pt x="931" y="152"/>
                </a:lnTo>
                <a:lnTo>
                  <a:pt x="927" y="151"/>
                </a:lnTo>
                <a:lnTo>
                  <a:pt x="923" y="149"/>
                </a:lnTo>
                <a:lnTo>
                  <a:pt x="918" y="148"/>
                </a:lnTo>
                <a:lnTo>
                  <a:pt x="913" y="144"/>
                </a:lnTo>
                <a:lnTo>
                  <a:pt x="907" y="142"/>
                </a:lnTo>
                <a:lnTo>
                  <a:pt x="901" y="138"/>
                </a:lnTo>
                <a:lnTo>
                  <a:pt x="894" y="135"/>
                </a:lnTo>
                <a:lnTo>
                  <a:pt x="888" y="131"/>
                </a:lnTo>
                <a:lnTo>
                  <a:pt x="881" y="129"/>
                </a:lnTo>
                <a:lnTo>
                  <a:pt x="873" y="126"/>
                </a:lnTo>
                <a:lnTo>
                  <a:pt x="866" y="122"/>
                </a:lnTo>
                <a:lnTo>
                  <a:pt x="860" y="119"/>
                </a:lnTo>
                <a:lnTo>
                  <a:pt x="852" y="117"/>
                </a:lnTo>
                <a:lnTo>
                  <a:pt x="845" y="113"/>
                </a:lnTo>
                <a:lnTo>
                  <a:pt x="838" y="110"/>
                </a:lnTo>
                <a:lnTo>
                  <a:pt x="833" y="106"/>
                </a:lnTo>
                <a:lnTo>
                  <a:pt x="825" y="104"/>
                </a:lnTo>
                <a:lnTo>
                  <a:pt x="818" y="102"/>
                </a:lnTo>
                <a:lnTo>
                  <a:pt x="808" y="99"/>
                </a:lnTo>
                <a:lnTo>
                  <a:pt x="799" y="96"/>
                </a:lnTo>
                <a:lnTo>
                  <a:pt x="788" y="92"/>
                </a:lnTo>
                <a:lnTo>
                  <a:pt x="778" y="89"/>
                </a:lnTo>
                <a:lnTo>
                  <a:pt x="767" y="85"/>
                </a:lnTo>
                <a:lnTo>
                  <a:pt x="755" y="81"/>
                </a:lnTo>
                <a:lnTo>
                  <a:pt x="742" y="78"/>
                </a:lnTo>
                <a:lnTo>
                  <a:pt x="731" y="74"/>
                </a:lnTo>
                <a:lnTo>
                  <a:pt x="718" y="71"/>
                </a:lnTo>
                <a:lnTo>
                  <a:pt x="707" y="67"/>
                </a:lnTo>
                <a:lnTo>
                  <a:pt x="696" y="65"/>
                </a:lnTo>
                <a:lnTo>
                  <a:pt x="684" y="61"/>
                </a:lnTo>
                <a:lnTo>
                  <a:pt x="674" y="59"/>
                </a:lnTo>
                <a:lnTo>
                  <a:pt x="664" y="55"/>
                </a:lnTo>
                <a:lnTo>
                  <a:pt x="654" y="53"/>
                </a:lnTo>
                <a:lnTo>
                  <a:pt x="643" y="51"/>
                </a:lnTo>
                <a:lnTo>
                  <a:pt x="630" y="50"/>
                </a:lnTo>
                <a:lnTo>
                  <a:pt x="619" y="46"/>
                </a:lnTo>
                <a:lnTo>
                  <a:pt x="606" y="44"/>
                </a:lnTo>
                <a:lnTo>
                  <a:pt x="592" y="40"/>
                </a:lnTo>
                <a:lnTo>
                  <a:pt x="580" y="38"/>
                </a:lnTo>
                <a:lnTo>
                  <a:pt x="566" y="34"/>
                </a:lnTo>
                <a:lnTo>
                  <a:pt x="552" y="32"/>
                </a:lnTo>
                <a:lnTo>
                  <a:pt x="540" y="31"/>
                </a:lnTo>
                <a:lnTo>
                  <a:pt x="526" y="29"/>
                </a:lnTo>
                <a:lnTo>
                  <a:pt x="514" y="26"/>
                </a:lnTo>
                <a:lnTo>
                  <a:pt x="503" y="24"/>
                </a:lnTo>
                <a:lnTo>
                  <a:pt x="492" y="23"/>
                </a:lnTo>
                <a:lnTo>
                  <a:pt x="482" y="21"/>
                </a:lnTo>
                <a:lnTo>
                  <a:pt x="473" y="19"/>
                </a:lnTo>
                <a:lnTo>
                  <a:pt x="464" y="19"/>
                </a:lnTo>
                <a:lnTo>
                  <a:pt x="455" y="17"/>
                </a:lnTo>
                <a:lnTo>
                  <a:pt x="443" y="17"/>
                </a:lnTo>
                <a:lnTo>
                  <a:pt x="432" y="15"/>
                </a:lnTo>
                <a:lnTo>
                  <a:pt x="419" y="15"/>
                </a:lnTo>
                <a:lnTo>
                  <a:pt x="406" y="13"/>
                </a:lnTo>
                <a:lnTo>
                  <a:pt x="394" y="13"/>
                </a:lnTo>
                <a:lnTo>
                  <a:pt x="380" y="11"/>
                </a:lnTo>
                <a:lnTo>
                  <a:pt x="365" y="11"/>
                </a:lnTo>
                <a:lnTo>
                  <a:pt x="352" y="10"/>
                </a:lnTo>
                <a:lnTo>
                  <a:pt x="339" y="10"/>
                </a:lnTo>
                <a:lnTo>
                  <a:pt x="326" y="8"/>
                </a:lnTo>
                <a:lnTo>
                  <a:pt x="313" y="8"/>
                </a:lnTo>
                <a:lnTo>
                  <a:pt x="301" y="6"/>
                </a:lnTo>
                <a:lnTo>
                  <a:pt x="290" y="6"/>
                </a:lnTo>
                <a:lnTo>
                  <a:pt x="279" y="4"/>
                </a:lnTo>
                <a:lnTo>
                  <a:pt x="268" y="4"/>
                </a:lnTo>
                <a:lnTo>
                  <a:pt x="258" y="4"/>
                </a:lnTo>
                <a:lnTo>
                  <a:pt x="245" y="4"/>
                </a:lnTo>
                <a:lnTo>
                  <a:pt x="233" y="3"/>
                </a:lnTo>
                <a:lnTo>
                  <a:pt x="219" y="3"/>
                </a:lnTo>
                <a:lnTo>
                  <a:pt x="206" y="3"/>
                </a:lnTo>
                <a:lnTo>
                  <a:pt x="193" y="3"/>
                </a:lnTo>
                <a:lnTo>
                  <a:pt x="180" y="1"/>
                </a:lnTo>
                <a:lnTo>
                  <a:pt x="166" y="1"/>
                </a:lnTo>
                <a:lnTo>
                  <a:pt x="152" y="1"/>
                </a:lnTo>
                <a:lnTo>
                  <a:pt x="140" y="1"/>
                </a:lnTo>
                <a:lnTo>
                  <a:pt x="128" y="1"/>
                </a:lnTo>
                <a:lnTo>
                  <a:pt x="115" y="1"/>
                </a:lnTo>
                <a:lnTo>
                  <a:pt x="104" y="1"/>
                </a:lnTo>
                <a:lnTo>
                  <a:pt x="94" y="1"/>
                </a:lnTo>
                <a:lnTo>
                  <a:pt x="86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66" y="0"/>
                </a:lnTo>
                <a:lnTo>
                  <a:pt x="63" y="0"/>
                </a:lnTo>
                <a:lnTo>
                  <a:pt x="62" y="0"/>
                </a:lnTo>
                <a:lnTo>
                  <a:pt x="60" y="0"/>
                </a:lnTo>
                <a:lnTo>
                  <a:pt x="59" y="0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3" y="0"/>
                </a:lnTo>
                <a:lnTo>
                  <a:pt x="35" y="0"/>
                </a:lnTo>
                <a:lnTo>
                  <a:pt x="25" y="0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519280" y="2368440"/>
            <a:ext cx="3397320" cy="3322800"/>
          </a:xfrm>
          <a:custGeom>
            <a:avLst/>
            <a:gdLst/>
            <a:ahLst/>
            <a:rect l="l" t="t" r="r" b="b"/>
            <a:pathLst>
              <a:path w="2140" h="2093">
                <a:moveTo>
                  <a:pt x="2139" y="2092"/>
                </a:moveTo>
                <a:lnTo>
                  <a:pt x="2135" y="2075"/>
                </a:lnTo>
                <a:lnTo>
                  <a:pt x="2133" y="2060"/>
                </a:lnTo>
                <a:lnTo>
                  <a:pt x="2131" y="2049"/>
                </a:lnTo>
                <a:lnTo>
                  <a:pt x="2129" y="2039"/>
                </a:lnTo>
                <a:lnTo>
                  <a:pt x="2127" y="2033"/>
                </a:lnTo>
                <a:lnTo>
                  <a:pt x="2127" y="2027"/>
                </a:lnTo>
                <a:lnTo>
                  <a:pt x="2126" y="2024"/>
                </a:lnTo>
                <a:lnTo>
                  <a:pt x="2126" y="2020"/>
                </a:lnTo>
                <a:lnTo>
                  <a:pt x="2125" y="2018"/>
                </a:lnTo>
                <a:lnTo>
                  <a:pt x="2125" y="2017"/>
                </a:lnTo>
                <a:lnTo>
                  <a:pt x="2124" y="2015"/>
                </a:lnTo>
                <a:lnTo>
                  <a:pt x="2124" y="2012"/>
                </a:lnTo>
                <a:lnTo>
                  <a:pt x="2123" y="2008"/>
                </a:lnTo>
                <a:lnTo>
                  <a:pt x="2123" y="2004"/>
                </a:lnTo>
                <a:lnTo>
                  <a:pt x="2121" y="1997"/>
                </a:lnTo>
                <a:lnTo>
                  <a:pt x="2120" y="1987"/>
                </a:lnTo>
                <a:lnTo>
                  <a:pt x="2117" y="1977"/>
                </a:lnTo>
                <a:lnTo>
                  <a:pt x="2114" y="1962"/>
                </a:lnTo>
                <a:lnTo>
                  <a:pt x="2109" y="1945"/>
                </a:lnTo>
                <a:lnTo>
                  <a:pt x="2105" y="1925"/>
                </a:lnTo>
                <a:lnTo>
                  <a:pt x="2099" y="1904"/>
                </a:lnTo>
                <a:lnTo>
                  <a:pt x="2093" y="1880"/>
                </a:lnTo>
                <a:lnTo>
                  <a:pt x="2086" y="1855"/>
                </a:lnTo>
                <a:lnTo>
                  <a:pt x="2079" y="1828"/>
                </a:lnTo>
                <a:lnTo>
                  <a:pt x="2071" y="1801"/>
                </a:lnTo>
                <a:lnTo>
                  <a:pt x="2063" y="1773"/>
                </a:lnTo>
                <a:lnTo>
                  <a:pt x="2055" y="1745"/>
                </a:lnTo>
                <a:lnTo>
                  <a:pt x="2047" y="1716"/>
                </a:lnTo>
                <a:lnTo>
                  <a:pt x="2038" y="1688"/>
                </a:lnTo>
                <a:lnTo>
                  <a:pt x="2030" y="1659"/>
                </a:lnTo>
                <a:lnTo>
                  <a:pt x="2021" y="1632"/>
                </a:lnTo>
                <a:lnTo>
                  <a:pt x="2013" y="1604"/>
                </a:lnTo>
                <a:lnTo>
                  <a:pt x="2004" y="1579"/>
                </a:lnTo>
                <a:lnTo>
                  <a:pt x="1996" y="1550"/>
                </a:lnTo>
                <a:lnTo>
                  <a:pt x="1986" y="1522"/>
                </a:lnTo>
                <a:lnTo>
                  <a:pt x="1977" y="1492"/>
                </a:lnTo>
                <a:lnTo>
                  <a:pt x="1965" y="1462"/>
                </a:lnTo>
                <a:lnTo>
                  <a:pt x="1955" y="1432"/>
                </a:lnTo>
                <a:lnTo>
                  <a:pt x="1943" y="1403"/>
                </a:lnTo>
                <a:lnTo>
                  <a:pt x="1934" y="1373"/>
                </a:lnTo>
                <a:lnTo>
                  <a:pt x="1923" y="1345"/>
                </a:lnTo>
                <a:lnTo>
                  <a:pt x="1912" y="1317"/>
                </a:lnTo>
                <a:lnTo>
                  <a:pt x="1902" y="1292"/>
                </a:lnTo>
                <a:lnTo>
                  <a:pt x="1893" y="1267"/>
                </a:lnTo>
                <a:lnTo>
                  <a:pt x="1883" y="1245"/>
                </a:lnTo>
                <a:lnTo>
                  <a:pt x="1875" y="1225"/>
                </a:lnTo>
                <a:lnTo>
                  <a:pt x="1867" y="1207"/>
                </a:lnTo>
                <a:lnTo>
                  <a:pt x="1861" y="1192"/>
                </a:lnTo>
                <a:lnTo>
                  <a:pt x="1853" y="1180"/>
                </a:lnTo>
                <a:lnTo>
                  <a:pt x="1846" y="1164"/>
                </a:lnTo>
                <a:lnTo>
                  <a:pt x="1837" y="1148"/>
                </a:lnTo>
                <a:lnTo>
                  <a:pt x="1829" y="1128"/>
                </a:lnTo>
                <a:lnTo>
                  <a:pt x="1817" y="1109"/>
                </a:lnTo>
                <a:lnTo>
                  <a:pt x="1807" y="1088"/>
                </a:lnTo>
                <a:lnTo>
                  <a:pt x="1796" y="1066"/>
                </a:lnTo>
                <a:lnTo>
                  <a:pt x="1785" y="1044"/>
                </a:lnTo>
                <a:lnTo>
                  <a:pt x="1773" y="1022"/>
                </a:lnTo>
                <a:lnTo>
                  <a:pt x="1762" y="1000"/>
                </a:lnTo>
                <a:lnTo>
                  <a:pt x="1751" y="978"/>
                </a:lnTo>
                <a:lnTo>
                  <a:pt x="1739" y="955"/>
                </a:lnTo>
                <a:lnTo>
                  <a:pt x="1728" y="935"/>
                </a:lnTo>
                <a:lnTo>
                  <a:pt x="1717" y="914"/>
                </a:lnTo>
                <a:lnTo>
                  <a:pt x="1707" y="895"/>
                </a:lnTo>
                <a:lnTo>
                  <a:pt x="1699" y="877"/>
                </a:lnTo>
                <a:lnTo>
                  <a:pt x="1689" y="861"/>
                </a:lnTo>
                <a:lnTo>
                  <a:pt x="1679" y="842"/>
                </a:lnTo>
                <a:lnTo>
                  <a:pt x="1668" y="824"/>
                </a:lnTo>
                <a:lnTo>
                  <a:pt x="1658" y="803"/>
                </a:lnTo>
                <a:lnTo>
                  <a:pt x="1647" y="782"/>
                </a:lnTo>
                <a:lnTo>
                  <a:pt x="1636" y="762"/>
                </a:lnTo>
                <a:lnTo>
                  <a:pt x="1625" y="741"/>
                </a:lnTo>
                <a:lnTo>
                  <a:pt x="1614" y="719"/>
                </a:lnTo>
                <a:lnTo>
                  <a:pt x="1603" y="700"/>
                </a:lnTo>
                <a:lnTo>
                  <a:pt x="1591" y="680"/>
                </a:lnTo>
                <a:lnTo>
                  <a:pt x="1581" y="661"/>
                </a:lnTo>
                <a:lnTo>
                  <a:pt x="1571" y="643"/>
                </a:lnTo>
                <a:lnTo>
                  <a:pt x="1562" y="626"/>
                </a:lnTo>
                <a:lnTo>
                  <a:pt x="1553" y="610"/>
                </a:lnTo>
                <a:lnTo>
                  <a:pt x="1546" y="596"/>
                </a:lnTo>
                <a:lnTo>
                  <a:pt x="1540" y="584"/>
                </a:lnTo>
                <a:lnTo>
                  <a:pt x="1532" y="573"/>
                </a:lnTo>
                <a:lnTo>
                  <a:pt x="1525" y="562"/>
                </a:lnTo>
                <a:lnTo>
                  <a:pt x="1516" y="548"/>
                </a:lnTo>
                <a:lnTo>
                  <a:pt x="1507" y="534"/>
                </a:lnTo>
                <a:lnTo>
                  <a:pt x="1495" y="520"/>
                </a:lnTo>
                <a:lnTo>
                  <a:pt x="1485" y="505"/>
                </a:lnTo>
                <a:lnTo>
                  <a:pt x="1473" y="490"/>
                </a:lnTo>
                <a:lnTo>
                  <a:pt x="1462" y="473"/>
                </a:lnTo>
                <a:lnTo>
                  <a:pt x="1449" y="458"/>
                </a:lnTo>
                <a:lnTo>
                  <a:pt x="1437" y="443"/>
                </a:lnTo>
                <a:lnTo>
                  <a:pt x="1424" y="428"/>
                </a:lnTo>
                <a:lnTo>
                  <a:pt x="1413" y="412"/>
                </a:lnTo>
                <a:lnTo>
                  <a:pt x="1401" y="399"/>
                </a:lnTo>
                <a:lnTo>
                  <a:pt x="1389" y="386"/>
                </a:lnTo>
                <a:lnTo>
                  <a:pt x="1378" y="374"/>
                </a:lnTo>
                <a:lnTo>
                  <a:pt x="1369" y="361"/>
                </a:lnTo>
                <a:lnTo>
                  <a:pt x="1357" y="352"/>
                </a:lnTo>
                <a:lnTo>
                  <a:pt x="1346" y="340"/>
                </a:lnTo>
                <a:lnTo>
                  <a:pt x="1334" y="329"/>
                </a:lnTo>
                <a:lnTo>
                  <a:pt x="1321" y="316"/>
                </a:lnTo>
                <a:lnTo>
                  <a:pt x="1307" y="305"/>
                </a:lnTo>
                <a:lnTo>
                  <a:pt x="1293" y="292"/>
                </a:lnTo>
                <a:lnTo>
                  <a:pt x="1278" y="280"/>
                </a:lnTo>
                <a:lnTo>
                  <a:pt x="1265" y="266"/>
                </a:lnTo>
                <a:lnTo>
                  <a:pt x="1250" y="255"/>
                </a:lnTo>
                <a:lnTo>
                  <a:pt x="1236" y="243"/>
                </a:lnTo>
                <a:lnTo>
                  <a:pt x="1222" y="232"/>
                </a:lnTo>
                <a:lnTo>
                  <a:pt x="1209" y="221"/>
                </a:lnTo>
                <a:lnTo>
                  <a:pt x="1196" y="212"/>
                </a:lnTo>
                <a:lnTo>
                  <a:pt x="1183" y="202"/>
                </a:lnTo>
                <a:lnTo>
                  <a:pt x="1172" y="194"/>
                </a:lnTo>
                <a:lnTo>
                  <a:pt x="1162" y="186"/>
                </a:lnTo>
                <a:lnTo>
                  <a:pt x="1151" y="181"/>
                </a:lnTo>
                <a:lnTo>
                  <a:pt x="1142" y="175"/>
                </a:lnTo>
                <a:lnTo>
                  <a:pt x="1131" y="170"/>
                </a:lnTo>
                <a:lnTo>
                  <a:pt x="1122" y="162"/>
                </a:lnTo>
                <a:lnTo>
                  <a:pt x="1111" y="156"/>
                </a:lnTo>
                <a:lnTo>
                  <a:pt x="1102" y="150"/>
                </a:lnTo>
                <a:lnTo>
                  <a:pt x="1092" y="144"/>
                </a:lnTo>
                <a:lnTo>
                  <a:pt x="1083" y="136"/>
                </a:lnTo>
                <a:lnTo>
                  <a:pt x="1073" y="132"/>
                </a:lnTo>
                <a:lnTo>
                  <a:pt x="1063" y="126"/>
                </a:lnTo>
                <a:lnTo>
                  <a:pt x="1055" y="122"/>
                </a:lnTo>
                <a:lnTo>
                  <a:pt x="1049" y="116"/>
                </a:lnTo>
                <a:lnTo>
                  <a:pt x="1041" y="113"/>
                </a:lnTo>
                <a:lnTo>
                  <a:pt x="1035" y="109"/>
                </a:lnTo>
                <a:lnTo>
                  <a:pt x="1031" y="106"/>
                </a:lnTo>
                <a:lnTo>
                  <a:pt x="1028" y="104"/>
                </a:lnTo>
                <a:lnTo>
                  <a:pt x="1023" y="102"/>
                </a:lnTo>
                <a:lnTo>
                  <a:pt x="1019" y="100"/>
                </a:lnTo>
                <a:lnTo>
                  <a:pt x="1014" y="98"/>
                </a:lnTo>
                <a:lnTo>
                  <a:pt x="1008" y="94"/>
                </a:lnTo>
                <a:lnTo>
                  <a:pt x="1001" y="92"/>
                </a:lnTo>
                <a:lnTo>
                  <a:pt x="994" y="88"/>
                </a:lnTo>
                <a:lnTo>
                  <a:pt x="987" y="87"/>
                </a:lnTo>
                <a:lnTo>
                  <a:pt x="979" y="83"/>
                </a:lnTo>
                <a:lnTo>
                  <a:pt x="970" y="81"/>
                </a:lnTo>
                <a:lnTo>
                  <a:pt x="963" y="77"/>
                </a:lnTo>
                <a:lnTo>
                  <a:pt x="954" y="75"/>
                </a:lnTo>
                <a:lnTo>
                  <a:pt x="947" y="72"/>
                </a:lnTo>
                <a:lnTo>
                  <a:pt x="939" y="70"/>
                </a:lnTo>
                <a:lnTo>
                  <a:pt x="931" y="67"/>
                </a:lnTo>
                <a:lnTo>
                  <a:pt x="924" y="66"/>
                </a:lnTo>
                <a:lnTo>
                  <a:pt x="917" y="62"/>
                </a:lnTo>
                <a:lnTo>
                  <a:pt x="909" y="60"/>
                </a:lnTo>
                <a:lnTo>
                  <a:pt x="900" y="58"/>
                </a:lnTo>
                <a:lnTo>
                  <a:pt x="889" y="57"/>
                </a:lnTo>
                <a:lnTo>
                  <a:pt x="879" y="53"/>
                </a:lnTo>
                <a:lnTo>
                  <a:pt x="867" y="51"/>
                </a:lnTo>
                <a:lnTo>
                  <a:pt x="855" y="47"/>
                </a:lnTo>
                <a:lnTo>
                  <a:pt x="842" y="46"/>
                </a:lnTo>
                <a:lnTo>
                  <a:pt x="830" y="42"/>
                </a:lnTo>
                <a:lnTo>
                  <a:pt x="816" y="40"/>
                </a:lnTo>
                <a:lnTo>
                  <a:pt x="803" y="37"/>
                </a:lnTo>
                <a:lnTo>
                  <a:pt x="790" y="35"/>
                </a:lnTo>
                <a:lnTo>
                  <a:pt x="777" y="31"/>
                </a:lnTo>
                <a:lnTo>
                  <a:pt x="763" y="29"/>
                </a:lnTo>
                <a:lnTo>
                  <a:pt x="750" y="27"/>
                </a:lnTo>
                <a:lnTo>
                  <a:pt x="739" y="25"/>
                </a:lnTo>
                <a:lnTo>
                  <a:pt x="728" y="21"/>
                </a:lnTo>
                <a:lnTo>
                  <a:pt x="716" y="21"/>
                </a:lnTo>
                <a:lnTo>
                  <a:pt x="705" y="19"/>
                </a:lnTo>
                <a:lnTo>
                  <a:pt x="692" y="17"/>
                </a:lnTo>
                <a:lnTo>
                  <a:pt x="679" y="16"/>
                </a:lnTo>
                <a:lnTo>
                  <a:pt x="664" y="14"/>
                </a:lnTo>
                <a:lnTo>
                  <a:pt x="651" y="12"/>
                </a:lnTo>
                <a:lnTo>
                  <a:pt x="635" y="10"/>
                </a:lnTo>
                <a:lnTo>
                  <a:pt x="622" y="9"/>
                </a:lnTo>
                <a:lnTo>
                  <a:pt x="607" y="9"/>
                </a:lnTo>
                <a:lnTo>
                  <a:pt x="592" y="7"/>
                </a:lnTo>
                <a:lnTo>
                  <a:pt x="578" y="6"/>
                </a:lnTo>
                <a:lnTo>
                  <a:pt x="565" y="4"/>
                </a:lnTo>
                <a:lnTo>
                  <a:pt x="552" y="4"/>
                </a:lnTo>
                <a:lnTo>
                  <a:pt x="540" y="2"/>
                </a:lnTo>
                <a:lnTo>
                  <a:pt x="529" y="2"/>
                </a:lnTo>
                <a:lnTo>
                  <a:pt x="520" y="0"/>
                </a:lnTo>
                <a:lnTo>
                  <a:pt x="509" y="0"/>
                </a:lnTo>
                <a:lnTo>
                  <a:pt x="499" y="0"/>
                </a:lnTo>
                <a:lnTo>
                  <a:pt x="486" y="0"/>
                </a:lnTo>
                <a:lnTo>
                  <a:pt x="475" y="0"/>
                </a:lnTo>
                <a:lnTo>
                  <a:pt x="460" y="0"/>
                </a:lnTo>
                <a:lnTo>
                  <a:pt x="447" y="0"/>
                </a:lnTo>
                <a:lnTo>
                  <a:pt x="431" y="0"/>
                </a:lnTo>
                <a:lnTo>
                  <a:pt x="418" y="0"/>
                </a:lnTo>
                <a:lnTo>
                  <a:pt x="402" y="1"/>
                </a:lnTo>
                <a:lnTo>
                  <a:pt x="387" y="1"/>
                </a:lnTo>
                <a:lnTo>
                  <a:pt x="372" y="1"/>
                </a:lnTo>
                <a:lnTo>
                  <a:pt x="358" y="1"/>
                </a:lnTo>
                <a:lnTo>
                  <a:pt x="343" y="2"/>
                </a:lnTo>
                <a:lnTo>
                  <a:pt x="330" y="2"/>
                </a:lnTo>
                <a:lnTo>
                  <a:pt x="318" y="2"/>
                </a:lnTo>
                <a:lnTo>
                  <a:pt x="307" y="2"/>
                </a:lnTo>
                <a:lnTo>
                  <a:pt x="295" y="4"/>
                </a:lnTo>
                <a:lnTo>
                  <a:pt x="282" y="4"/>
                </a:lnTo>
                <a:lnTo>
                  <a:pt x="268" y="6"/>
                </a:lnTo>
                <a:lnTo>
                  <a:pt x="255" y="6"/>
                </a:lnTo>
                <a:lnTo>
                  <a:pt x="240" y="7"/>
                </a:lnTo>
                <a:lnTo>
                  <a:pt x="225" y="7"/>
                </a:lnTo>
                <a:lnTo>
                  <a:pt x="210" y="9"/>
                </a:lnTo>
                <a:lnTo>
                  <a:pt x="195" y="9"/>
                </a:lnTo>
                <a:lnTo>
                  <a:pt x="180" y="11"/>
                </a:lnTo>
                <a:lnTo>
                  <a:pt x="165" y="11"/>
                </a:lnTo>
                <a:lnTo>
                  <a:pt x="151" y="13"/>
                </a:lnTo>
                <a:lnTo>
                  <a:pt x="137" y="13"/>
                </a:lnTo>
                <a:lnTo>
                  <a:pt x="125" y="15"/>
                </a:lnTo>
                <a:lnTo>
                  <a:pt x="113" y="15"/>
                </a:lnTo>
                <a:lnTo>
                  <a:pt x="103" y="16"/>
                </a:lnTo>
                <a:lnTo>
                  <a:pt x="94" y="16"/>
                </a:lnTo>
                <a:lnTo>
                  <a:pt x="85" y="18"/>
                </a:lnTo>
                <a:lnTo>
                  <a:pt x="79" y="18"/>
                </a:lnTo>
                <a:lnTo>
                  <a:pt x="75" y="18"/>
                </a:lnTo>
                <a:lnTo>
                  <a:pt x="73" y="18"/>
                </a:lnTo>
                <a:lnTo>
                  <a:pt x="70" y="19"/>
                </a:lnTo>
                <a:lnTo>
                  <a:pt x="68" y="19"/>
                </a:lnTo>
                <a:lnTo>
                  <a:pt x="67" y="19"/>
                </a:lnTo>
                <a:lnTo>
                  <a:pt x="65" y="19"/>
                </a:lnTo>
                <a:lnTo>
                  <a:pt x="61" y="20"/>
                </a:lnTo>
                <a:lnTo>
                  <a:pt x="58" y="20"/>
                </a:lnTo>
                <a:lnTo>
                  <a:pt x="53" y="20"/>
                </a:lnTo>
                <a:lnTo>
                  <a:pt x="47" y="20"/>
                </a:lnTo>
                <a:lnTo>
                  <a:pt x="38" y="22"/>
                </a:lnTo>
                <a:lnTo>
                  <a:pt x="28" y="22"/>
                </a:lnTo>
                <a:lnTo>
                  <a:pt x="15" y="24"/>
                </a:lnTo>
                <a:lnTo>
                  <a:pt x="0" y="2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525760" y="3768840"/>
            <a:ext cx="2481120" cy="2855880"/>
          </a:xfrm>
          <a:custGeom>
            <a:avLst/>
            <a:gdLst/>
            <a:ahLst/>
            <a:rect l="l" t="t" r="r" b="b"/>
            <a:pathLst>
              <a:path w="1563" h="1799">
                <a:moveTo>
                  <a:pt x="1562" y="1798"/>
                </a:moveTo>
                <a:lnTo>
                  <a:pt x="1560" y="1784"/>
                </a:lnTo>
                <a:lnTo>
                  <a:pt x="1559" y="1772"/>
                </a:lnTo>
                <a:lnTo>
                  <a:pt x="1557" y="1764"/>
                </a:lnTo>
                <a:lnTo>
                  <a:pt x="1557" y="1756"/>
                </a:lnTo>
                <a:lnTo>
                  <a:pt x="1556" y="1750"/>
                </a:lnTo>
                <a:lnTo>
                  <a:pt x="1556" y="1746"/>
                </a:lnTo>
                <a:lnTo>
                  <a:pt x="1556" y="1743"/>
                </a:lnTo>
                <a:lnTo>
                  <a:pt x="1556" y="1740"/>
                </a:lnTo>
                <a:lnTo>
                  <a:pt x="1556" y="1739"/>
                </a:lnTo>
                <a:lnTo>
                  <a:pt x="1556" y="1738"/>
                </a:lnTo>
                <a:lnTo>
                  <a:pt x="1556" y="1736"/>
                </a:lnTo>
                <a:lnTo>
                  <a:pt x="1556" y="1733"/>
                </a:lnTo>
                <a:lnTo>
                  <a:pt x="1554" y="1730"/>
                </a:lnTo>
                <a:lnTo>
                  <a:pt x="1554" y="1726"/>
                </a:lnTo>
                <a:lnTo>
                  <a:pt x="1554" y="1720"/>
                </a:lnTo>
                <a:lnTo>
                  <a:pt x="1554" y="1712"/>
                </a:lnTo>
                <a:lnTo>
                  <a:pt x="1553" y="1704"/>
                </a:lnTo>
                <a:lnTo>
                  <a:pt x="1551" y="1692"/>
                </a:lnTo>
                <a:lnTo>
                  <a:pt x="1548" y="1678"/>
                </a:lnTo>
                <a:lnTo>
                  <a:pt x="1546" y="1661"/>
                </a:lnTo>
                <a:lnTo>
                  <a:pt x="1543" y="1644"/>
                </a:lnTo>
                <a:lnTo>
                  <a:pt x="1539" y="1625"/>
                </a:lnTo>
                <a:lnTo>
                  <a:pt x="1536" y="1605"/>
                </a:lnTo>
                <a:lnTo>
                  <a:pt x="1533" y="1583"/>
                </a:lnTo>
                <a:lnTo>
                  <a:pt x="1527" y="1561"/>
                </a:lnTo>
                <a:lnTo>
                  <a:pt x="1524" y="1538"/>
                </a:lnTo>
                <a:lnTo>
                  <a:pt x="1519" y="1515"/>
                </a:lnTo>
                <a:lnTo>
                  <a:pt x="1515" y="1491"/>
                </a:lnTo>
                <a:lnTo>
                  <a:pt x="1509" y="1468"/>
                </a:lnTo>
                <a:lnTo>
                  <a:pt x="1506" y="1445"/>
                </a:lnTo>
                <a:lnTo>
                  <a:pt x="1500" y="1423"/>
                </a:lnTo>
                <a:lnTo>
                  <a:pt x="1496" y="1400"/>
                </a:lnTo>
                <a:lnTo>
                  <a:pt x="1491" y="1379"/>
                </a:lnTo>
                <a:lnTo>
                  <a:pt x="1486" y="1356"/>
                </a:lnTo>
                <a:lnTo>
                  <a:pt x="1479" y="1332"/>
                </a:lnTo>
                <a:lnTo>
                  <a:pt x="1474" y="1308"/>
                </a:lnTo>
                <a:lnTo>
                  <a:pt x="1467" y="1283"/>
                </a:lnTo>
                <a:lnTo>
                  <a:pt x="1461" y="1259"/>
                </a:lnTo>
                <a:lnTo>
                  <a:pt x="1454" y="1234"/>
                </a:lnTo>
                <a:lnTo>
                  <a:pt x="1448" y="1210"/>
                </a:lnTo>
                <a:lnTo>
                  <a:pt x="1441" y="1187"/>
                </a:lnTo>
                <a:lnTo>
                  <a:pt x="1435" y="1165"/>
                </a:lnTo>
                <a:lnTo>
                  <a:pt x="1428" y="1143"/>
                </a:lnTo>
                <a:lnTo>
                  <a:pt x="1422" y="1124"/>
                </a:lnTo>
                <a:lnTo>
                  <a:pt x="1416" y="1106"/>
                </a:lnTo>
                <a:lnTo>
                  <a:pt x="1410" y="1089"/>
                </a:lnTo>
                <a:lnTo>
                  <a:pt x="1405" y="1075"/>
                </a:lnTo>
                <a:lnTo>
                  <a:pt x="1401" y="1062"/>
                </a:lnTo>
                <a:lnTo>
                  <a:pt x="1395" y="1052"/>
                </a:lnTo>
                <a:lnTo>
                  <a:pt x="1391" y="1039"/>
                </a:lnTo>
                <a:lnTo>
                  <a:pt x="1385" y="1025"/>
                </a:lnTo>
                <a:lnTo>
                  <a:pt x="1379" y="1009"/>
                </a:lnTo>
                <a:lnTo>
                  <a:pt x="1371" y="993"/>
                </a:lnTo>
                <a:lnTo>
                  <a:pt x="1365" y="976"/>
                </a:lnTo>
                <a:lnTo>
                  <a:pt x="1357" y="958"/>
                </a:lnTo>
                <a:lnTo>
                  <a:pt x="1351" y="939"/>
                </a:lnTo>
                <a:lnTo>
                  <a:pt x="1343" y="921"/>
                </a:lnTo>
                <a:lnTo>
                  <a:pt x="1336" y="902"/>
                </a:lnTo>
                <a:lnTo>
                  <a:pt x="1329" y="884"/>
                </a:lnTo>
                <a:lnTo>
                  <a:pt x="1321" y="866"/>
                </a:lnTo>
                <a:lnTo>
                  <a:pt x="1313" y="849"/>
                </a:lnTo>
                <a:lnTo>
                  <a:pt x="1307" y="831"/>
                </a:lnTo>
                <a:lnTo>
                  <a:pt x="1301" y="816"/>
                </a:lnTo>
                <a:lnTo>
                  <a:pt x="1295" y="800"/>
                </a:lnTo>
                <a:lnTo>
                  <a:pt x="1288" y="786"/>
                </a:lnTo>
                <a:lnTo>
                  <a:pt x="1282" y="772"/>
                </a:lnTo>
                <a:lnTo>
                  <a:pt x="1274" y="755"/>
                </a:lnTo>
                <a:lnTo>
                  <a:pt x="1268" y="738"/>
                </a:lnTo>
                <a:lnTo>
                  <a:pt x="1261" y="722"/>
                </a:lnTo>
                <a:lnTo>
                  <a:pt x="1253" y="704"/>
                </a:lnTo>
                <a:lnTo>
                  <a:pt x="1245" y="687"/>
                </a:lnTo>
                <a:lnTo>
                  <a:pt x="1239" y="668"/>
                </a:lnTo>
                <a:lnTo>
                  <a:pt x="1231" y="653"/>
                </a:lnTo>
                <a:lnTo>
                  <a:pt x="1224" y="636"/>
                </a:lnTo>
                <a:lnTo>
                  <a:pt x="1216" y="621"/>
                </a:lnTo>
                <a:lnTo>
                  <a:pt x="1210" y="605"/>
                </a:lnTo>
                <a:lnTo>
                  <a:pt x="1203" y="592"/>
                </a:lnTo>
                <a:lnTo>
                  <a:pt x="1197" y="579"/>
                </a:lnTo>
                <a:lnTo>
                  <a:pt x="1193" y="568"/>
                </a:lnTo>
                <a:lnTo>
                  <a:pt x="1189" y="557"/>
                </a:lnTo>
                <a:lnTo>
                  <a:pt x="1183" y="548"/>
                </a:lnTo>
                <a:lnTo>
                  <a:pt x="1177" y="538"/>
                </a:lnTo>
                <a:lnTo>
                  <a:pt x="1171" y="527"/>
                </a:lnTo>
                <a:lnTo>
                  <a:pt x="1164" y="514"/>
                </a:lnTo>
                <a:lnTo>
                  <a:pt x="1156" y="502"/>
                </a:lnTo>
                <a:lnTo>
                  <a:pt x="1149" y="490"/>
                </a:lnTo>
                <a:lnTo>
                  <a:pt x="1141" y="476"/>
                </a:lnTo>
                <a:lnTo>
                  <a:pt x="1133" y="462"/>
                </a:lnTo>
                <a:lnTo>
                  <a:pt x="1124" y="450"/>
                </a:lnTo>
                <a:lnTo>
                  <a:pt x="1115" y="436"/>
                </a:lnTo>
                <a:lnTo>
                  <a:pt x="1106" y="424"/>
                </a:lnTo>
                <a:lnTo>
                  <a:pt x="1098" y="411"/>
                </a:lnTo>
                <a:lnTo>
                  <a:pt x="1089" y="400"/>
                </a:lnTo>
                <a:lnTo>
                  <a:pt x="1081" y="388"/>
                </a:lnTo>
                <a:lnTo>
                  <a:pt x="1074" y="378"/>
                </a:lnTo>
                <a:lnTo>
                  <a:pt x="1067" y="367"/>
                </a:lnTo>
                <a:lnTo>
                  <a:pt x="1058" y="358"/>
                </a:lnTo>
                <a:lnTo>
                  <a:pt x="1051" y="348"/>
                </a:lnTo>
                <a:lnTo>
                  <a:pt x="1041" y="338"/>
                </a:lnTo>
                <a:lnTo>
                  <a:pt x="1033" y="327"/>
                </a:lnTo>
                <a:lnTo>
                  <a:pt x="1022" y="317"/>
                </a:lnTo>
                <a:lnTo>
                  <a:pt x="1013" y="306"/>
                </a:lnTo>
                <a:lnTo>
                  <a:pt x="1001" y="295"/>
                </a:lnTo>
                <a:lnTo>
                  <a:pt x="992" y="284"/>
                </a:lnTo>
                <a:lnTo>
                  <a:pt x="981" y="274"/>
                </a:lnTo>
                <a:lnTo>
                  <a:pt x="970" y="263"/>
                </a:lnTo>
                <a:lnTo>
                  <a:pt x="960" y="254"/>
                </a:lnTo>
                <a:lnTo>
                  <a:pt x="950" y="243"/>
                </a:lnTo>
                <a:lnTo>
                  <a:pt x="940" y="235"/>
                </a:lnTo>
                <a:lnTo>
                  <a:pt x="931" y="226"/>
                </a:lnTo>
                <a:lnTo>
                  <a:pt x="923" y="219"/>
                </a:lnTo>
                <a:lnTo>
                  <a:pt x="915" y="212"/>
                </a:lnTo>
                <a:lnTo>
                  <a:pt x="907" y="207"/>
                </a:lnTo>
                <a:lnTo>
                  <a:pt x="900" y="202"/>
                </a:lnTo>
                <a:lnTo>
                  <a:pt x="892" y="196"/>
                </a:lnTo>
                <a:lnTo>
                  <a:pt x="885" y="190"/>
                </a:lnTo>
                <a:lnTo>
                  <a:pt x="877" y="185"/>
                </a:lnTo>
                <a:lnTo>
                  <a:pt x="869" y="179"/>
                </a:lnTo>
                <a:lnTo>
                  <a:pt x="862" y="174"/>
                </a:lnTo>
                <a:lnTo>
                  <a:pt x="855" y="168"/>
                </a:lnTo>
                <a:lnTo>
                  <a:pt x="847" y="164"/>
                </a:lnTo>
                <a:lnTo>
                  <a:pt x="841" y="159"/>
                </a:lnTo>
                <a:lnTo>
                  <a:pt x="834" y="155"/>
                </a:lnTo>
                <a:lnTo>
                  <a:pt x="829" y="149"/>
                </a:lnTo>
                <a:lnTo>
                  <a:pt x="823" y="146"/>
                </a:lnTo>
                <a:lnTo>
                  <a:pt x="818" y="142"/>
                </a:lnTo>
                <a:lnTo>
                  <a:pt x="814" y="140"/>
                </a:lnTo>
                <a:lnTo>
                  <a:pt x="813" y="137"/>
                </a:lnTo>
                <a:lnTo>
                  <a:pt x="809" y="136"/>
                </a:lnTo>
                <a:lnTo>
                  <a:pt x="806" y="134"/>
                </a:lnTo>
                <a:lnTo>
                  <a:pt x="802" y="132"/>
                </a:lnTo>
                <a:lnTo>
                  <a:pt x="798" y="129"/>
                </a:lnTo>
                <a:lnTo>
                  <a:pt x="793" y="128"/>
                </a:lnTo>
                <a:lnTo>
                  <a:pt x="787" y="124"/>
                </a:lnTo>
                <a:lnTo>
                  <a:pt x="782" y="122"/>
                </a:lnTo>
                <a:lnTo>
                  <a:pt x="776" y="118"/>
                </a:lnTo>
                <a:lnTo>
                  <a:pt x="769" y="116"/>
                </a:lnTo>
                <a:lnTo>
                  <a:pt x="763" y="112"/>
                </a:lnTo>
                <a:lnTo>
                  <a:pt x="756" y="111"/>
                </a:lnTo>
                <a:lnTo>
                  <a:pt x="751" y="107"/>
                </a:lnTo>
                <a:lnTo>
                  <a:pt x="744" y="105"/>
                </a:lnTo>
                <a:lnTo>
                  <a:pt x="738" y="101"/>
                </a:lnTo>
                <a:lnTo>
                  <a:pt x="733" y="100"/>
                </a:lnTo>
                <a:lnTo>
                  <a:pt x="727" y="96"/>
                </a:lnTo>
                <a:lnTo>
                  <a:pt x="720" y="94"/>
                </a:lnTo>
                <a:lnTo>
                  <a:pt x="714" y="92"/>
                </a:lnTo>
                <a:lnTo>
                  <a:pt x="705" y="90"/>
                </a:lnTo>
                <a:lnTo>
                  <a:pt x="698" y="86"/>
                </a:lnTo>
                <a:lnTo>
                  <a:pt x="688" y="84"/>
                </a:lnTo>
                <a:lnTo>
                  <a:pt x="679" y="81"/>
                </a:lnTo>
                <a:lnTo>
                  <a:pt x="669" y="78"/>
                </a:lnTo>
                <a:lnTo>
                  <a:pt x="659" y="74"/>
                </a:lnTo>
                <a:lnTo>
                  <a:pt x="648" y="72"/>
                </a:lnTo>
                <a:lnTo>
                  <a:pt x="638" y="68"/>
                </a:lnTo>
                <a:lnTo>
                  <a:pt x="627" y="65"/>
                </a:lnTo>
                <a:lnTo>
                  <a:pt x="618" y="61"/>
                </a:lnTo>
                <a:lnTo>
                  <a:pt x="607" y="60"/>
                </a:lnTo>
                <a:lnTo>
                  <a:pt x="597" y="56"/>
                </a:lnTo>
                <a:lnTo>
                  <a:pt x="588" y="54"/>
                </a:lnTo>
                <a:lnTo>
                  <a:pt x="580" y="51"/>
                </a:lnTo>
                <a:lnTo>
                  <a:pt x="570" y="49"/>
                </a:lnTo>
                <a:lnTo>
                  <a:pt x="561" y="47"/>
                </a:lnTo>
                <a:lnTo>
                  <a:pt x="550" y="45"/>
                </a:lnTo>
                <a:lnTo>
                  <a:pt x="540" y="43"/>
                </a:lnTo>
                <a:lnTo>
                  <a:pt x="529" y="41"/>
                </a:lnTo>
                <a:lnTo>
                  <a:pt x="517" y="39"/>
                </a:lnTo>
                <a:lnTo>
                  <a:pt x="506" y="37"/>
                </a:lnTo>
                <a:lnTo>
                  <a:pt x="495" y="33"/>
                </a:lnTo>
                <a:lnTo>
                  <a:pt x="482" y="32"/>
                </a:lnTo>
                <a:lnTo>
                  <a:pt x="471" y="30"/>
                </a:lnTo>
                <a:lnTo>
                  <a:pt x="460" y="28"/>
                </a:lnTo>
                <a:lnTo>
                  <a:pt x="449" y="25"/>
                </a:lnTo>
                <a:lnTo>
                  <a:pt x="439" y="24"/>
                </a:lnTo>
                <a:lnTo>
                  <a:pt x="429" y="23"/>
                </a:lnTo>
                <a:lnTo>
                  <a:pt x="421" y="21"/>
                </a:lnTo>
                <a:lnTo>
                  <a:pt x="413" y="19"/>
                </a:lnTo>
                <a:lnTo>
                  <a:pt x="404" y="19"/>
                </a:lnTo>
                <a:lnTo>
                  <a:pt x="396" y="18"/>
                </a:lnTo>
                <a:lnTo>
                  <a:pt x="387" y="18"/>
                </a:lnTo>
                <a:lnTo>
                  <a:pt x="377" y="16"/>
                </a:lnTo>
                <a:lnTo>
                  <a:pt x="366" y="16"/>
                </a:lnTo>
                <a:lnTo>
                  <a:pt x="355" y="14"/>
                </a:lnTo>
                <a:lnTo>
                  <a:pt x="344" y="14"/>
                </a:lnTo>
                <a:lnTo>
                  <a:pt x="333" y="12"/>
                </a:lnTo>
                <a:lnTo>
                  <a:pt x="319" y="12"/>
                </a:lnTo>
                <a:lnTo>
                  <a:pt x="308" y="12"/>
                </a:lnTo>
                <a:lnTo>
                  <a:pt x="296" y="12"/>
                </a:lnTo>
                <a:lnTo>
                  <a:pt x="285" y="10"/>
                </a:lnTo>
                <a:lnTo>
                  <a:pt x="273" y="10"/>
                </a:lnTo>
                <a:lnTo>
                  <a:pt x="262" y="8"/>
                </a:lnTo>
                <a:lnTo>
                  <a:pt x="252" y="8"/>
                </a:lnTo>
                <a:lnTo>
                  <a:pt x="243" y="6"/>
                </a:lnTo>
                <a:lnTo>
                  <a:pt x="233" y="6"/>
                </a:lnTo>
                <a:lnTo>
                  <a:pt x="223" y="6"/>
                </a:lnTo>
                <a:lnTo>
                  <a:pt x="212" y="6"/>
                </a:lnTo>
                <a:lnTo>
                  <a:pt x="201" y="4"/>
                </a:lnTo>
                <a:lnTo>
                  <a:pt x="189" y="4"/>
                </a:lnTo>
                <a:lnTo>
                  <a:pt x="178" y="4"/>
                </a:lnTo>
                <a:lnTo>
                  <a:pt x="166" y="4"/>
                </a:lnTo>
                <a:lnTo>
                  <a:pt x="155" y="3"/>
                </a:lnTo>
                <a:lnTo>
                  <a:pt x="142" y="3"/>
                </a:lnTo>
                <a:lnTo>
                  <a:pt x="131" y="3"/>
                </a:lnTo>
                <a:lnTo>
                  <a:pt x="119" y="3"/>
                </a:lnTo>
                <a:lnTo>
                  <a:pt x="109" y="1"/>
                </a:lnTo>
                <a:lnTo>
                  <a:pt x="98" y="1"/>
                </a:lnTo>
                <a:lnTo>
                  <a:pt x="89" y="1"/>
                </a:lnTo>
                <a:lnTo>
                  <a:pt x="81" y="1"/>
                </a:lnTo>
                <a:lnTo>
                  <a:pt x="74" y="0"/>
                </a:lnTo>
                <a:lnTo>
                  <a:pt x="67" y="0"/>
                </a:lnTo>
                <a:lnTo>
                  <a:pt x="63" y="0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51" y="0"/>
                </a:lnTo>
                <a:lnTo>
                  <a:pt x="47" y="0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0" y="0"/>
                </a:lnTo>
                <a:lnTo>
                  <a:pt x="22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000680" y="1854360"/>
            <a:ext cx="2839680" cy="3260520"/>
          </a:xfrm>
          <a:custGeom>
            <a:avLst/>
            <a:gdLst/>
            <a:ahLst/>
            <a:rect l="l" t="t" r="r" b="b"/>
            <a:pathLst>
              <a:path w="1789" h="2054">
                <a:moveTo>
                  <a:pt x="0" y="0"/>
                </a:moveTo>
                <a:lnTo>
                  <a:pt x="1" y="18"/>
                </a:lnTo>
                <a:lnTo>
                  <a:pt x="3" y="31"/>
                </a:lnTo>
                <a:lnTo>
                  <a:pt x="3" y="42"/>
                </a:lnTo>
                <a:lnTo>
                  <a:pt x="4" y="50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8" y="84"/>
                </a:lnTo>
                <a:lnTo>
                  <a:pt x="8" y="91"/>
                </a:lnTo>
                <a:lnTo>
                  <a:pt x="10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8" y="158"/>
                </a:lnTo>
                <a:lnTo>
                  <a:pt x="21" y="179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8" y="273"/>
                </a:lnTo>
                <a:lnTo>
                  <a:pt x="43" y="300"/>
                </a:lnTo>
                <a:lnTo>
                  <a:pt x="48" y="326"/>
                </a:lnTo>
                <a:lnTo>
                  <a:pt x="54" y="352"/>
                </a:lnTo>
                <a:lnTo>
                  <a:pt x="60" y="380"/>
                </a:lnTo>
                <a:lnTo>
                  <a:pt x="65" y="406"/>
                </a:lnTo>
                <a:lnTo>
                  <a:pt x="71" y="431"/>
                </a:lnTo>
                <a:lnTo>
                  <a:pt x="76" y="455"/>
                </a:lnTo>
                <a:lnTo>
                  <a:pt x="81" y="480"/>
                </a:lnTo>
                <a:lnTo>
                  <a:pt x="87" y="507"/>
                </a:lnTo>
                <a:lnTo>
                  <a:pt x="93" y="534"/>
                </a:lnTo>
                <a:lnTo>
                  <a:pt x="101" y="561"/>
                </a:lnTo>
                <a:lnTo>
                  <a:pt x="108" y="590"/>
                </a:lnTo>
                <a:lnTo>
                  <a:pt x="115" y="618"/>
                </a:lnTo>
                <a:lnTo>
                  <a:pt x="122" y="646"/>
                </a:lnTo>
                <a:lnTo>
                  <a:pt x="130" y="673"/>
                </a:lnTo>
                <a:lnTo>
                  <a:pt x="138" y="700"/>
                </a:lnTo>
                <a:lnTo>
                  <a:pt x="145" y="726"/>
                </a:lnTo>
                <a:lnTo>
                  <a:pt x="152" y="751"/>
                </a:lnTo>
                <a:lnTo>
                  <a:pt x="159" y="772"/>
                </a:lnTo>
                <a:lnTo>
                  <a:pt x="165" y="794"/>
                </a:lnTo>
                <a:lnTo>
                  <a:pt x="172" y="813"/>
                </a:lnTo>
                <a:lnTo>
                  <a:pt x="177" y="829"/>
                </a:lnTo>
                <a:lnTo>
                  <a:pt x="183" y="842"/>
                </a:lnTo>
                <a:lnTo>
                  <a:pt x="187" y="856"/>
                </a:lnTo>
                <a:lnTo>
                  <a:pt x="193" y="870"/>
                </a:lnTo>
                <a:lnTo>
                  <a:pt x="200" y="887"/>
                </a:lnTo>
                <a:lnTo>
                  <a:pt x="207" y="904"/>
                </a:lnTo>
                <a:lnTo>
                  <a:pt x="215" y="924"/>
                </a:lnTo>
                <a:lnTo>
                  <a:pt x="223" y="943"/>
                </a:lnTo>
                <a:lnTo>
                  <a:pt x="231" y="964"/>
                </a:lnTo>
                <a:lnTo>
                  <a:pt x="240" y="984"/>
                </a:lnTo>
                <a:lnTo>
                  <a:pt x="248" y="1006"/>
                </a:lnTo>
                <a:lnTo>
                  <a:pt x="257" y="1026"/>
                </a:lnTo>
                <a:lnTo>
                  <a:pt x="265" y="1047"/>
                </a:lnTo>
                <a:lnTo>
                  <a:pt x="275" y="1068"/>
                </a:lnTo>
                <a:lnTo>
                  <a:pt x="282" y="1088"/>
                </a:lnTo>
                <a:lnTo>
                  <a:pt x="291" y="1107"/>
                </a:lnTo>
                <a:lnTo>
                  <a:pt x="298" y="1126"/>
                </a:lnTo>
                <a:lnTo>
                  <a:pt x="306" y="1142"/>
                </a:lnTo>
                <a:lnTo>
                  <a:pt x="313" y="1160"/>
                </a:lnTo>
                <a:lnTo>
                  <a:pt x="320" y="1176"/>
                </a:lnTo>
                <a:lnTo>
                  <a:pt x="328" y="1195"/>
                </a:lnTo>
                <a:lnTo>
                  <a:pt x="337" y="1213"/>
                </a:lnTo>
                <a:lnTo>
                  <a:pt x="344" y="1234"/>
                </a:lnTo>
                <a:lnTo>
                  <a:pt x="354" y="1252"/>
                </a:lnTo>
                <a:lnTo>
                  <a:pt x="362" y="1273"/>
                </a:lnTo>
                <a:lnTo>
                  <a:pt x="372" y="1292"/>
                </a:lnTo>
                <a:lnTo>
                  <a:pt x="379" y="1312"/>
                </a:lnTo>
                <a:lnTo>
                  <a:pt x="388" y="1330"/>
                </a:lnTo>
                <a:lnTo>
                  <a:pt x="395" y="1348"/>
                </a:lnTo>
                <a:lnTo>
                  <a:pt x="403" y="1365"/>
                </a:lnTo>
                <a:lnTo>
                  <a:pt x="410" y="1381"/>
                </a:lnTo>
                <a:lnTo>
                  <a:pt x="417" y="1395"/>
                </a:lnTo>
                <a:lnTo>
                  <a:pt x="422" y="1408"/>
                </a:lnTo>
                <a:lnTo>
                  <a:pt x="428" y="1418"/>
                </a:lnTo>
                <a:lnTo>
                  <a:pt x="433" y="1430"/>
                </a:lnTo>
                <a:lnTo>
                  <a:pt x="439" y="1442"/>
                </a:lnTo>
                <a:lnTo>
                  <a:pt x="446" y="1455"/>
                </a:lnTo>
                <a:lnTo>
                  <a:pt x="454" y="1468"/>
                </a:lnTo>
                <a:lnTo>
                  <a:pt x="461" y="1483"/>
                </a:lnTo>
                <a:lnTo>
                  <a:pt x="471" y="1498"/>
                </a:lnTo>
                <a:lnTo>
                  <a:pt x="480" y="1513"/>
                </a:lnTo>
                <a:lnTo>
                  <a:pt x="490" y="1528"/>
                </a:lnTo>
                <a:lnTo>
                  <a:pt x="499" y="1544"/>
                </a:lnTo>
                <a:lnTo>
                  <a:pt x="509" y="1559"/>
                </a:lnTo>
                <a:lnTo>
                  <a:pt x="519" y="1574"/>
                </a:lnTo>
                <a:lnTo>
                  <a:pt x="530" y="1588"/>
                </a:lnTo>
                <a:lnTo>
                  <a:pt x="539" y="1601"/>
                </a:lnTo>
                <a:lnTo>
                  <a:pt x="549" y="1614"/>
                </a:lnTo>
                <a:lnTo>
                  <a:pt x="558" y="1626"/>
                </a:lnTo>
                <a:lnTo>
                  <a:pt x="567" y="1636"/>
                </a:lnTo>
                <a:lnTo>
                  <a:pt x="576" y="1647"/>
                </a:lnTo>
                <a:lnTo>
                  <a:pt x="585" y="1659"/>
                </a:lnTo>
                <a:lnTo>
                  <a:pt x="595" y="1670"/>
                </a:lnTo>
                <a:lnTo>
                  <a:pt x="606" y="1682"/>
                </a:lnTo>
                <a:lnTo>
                  <a:pt x="617" y="1695"/>
                </a:lnTo>
                <a:lnTo>
                  <a:pt x="629" y="1707"/>
                </a:lnTo>
                <a:lnTo>
                  <a:pt x="640" y="1720"/>
                </a:lnTo>
                <a:lnTo>
                  <a:pt x="654" y="1731"/>
                </a:lnTo>
                <a:lnTo>
                  <a:pt x="665" y="1744"/>
                </a:lnTo>
                <a:lnTo>
                  <a:pt x="677" y="1756"/>
                </a:lnTo>
                <a:lnTo>
                  <a:pt x="688" y="1767"/>
                </a:lnTo>
                <a:lnTo>
                  <a:pt x="700" y="1778"/>
                </a:lnTo>
                <a:lnTo>
                  <a:pt x="710" y="1788"/>
                </a:lnTo>
                <a:lnTo>
                  <a:pt x="721" y="1797"/>
                </a:lnTo>
                <a:lnTo>
                  <a:pt x="730" y="1805"/>
                </a:lnTo>
                <a:lnTo>
                  <a:pt x="740" y="1812"/>
                </a:lnTo>
                <a:lnTo>
                  <a:pt x="747" y="1820"/>
                </a:lnTo>
                <a:lnTo>
                  <a:pt x="756" y="1825"/>
                </a:lnTo>
                <a:lnTo>
                  <a:pt x="764" y="1833"/>
                </a:lnTo>
                <a:lnTo>
                  <a:pt x="774" y="1838"/>
                </a:lnTo>
                <a:lnTo>
                  <a:pt x="782" y="1846"/>
                </a:lnTo>
                <a:lnTo>
                  <a:pt x="791" y="1852"/>
                </a:lnTo>
                <a:lnTo>
                  <a:pt x="800" y="1858"/>
                </a:lnTo>
                <a:lnTo>
                  <a:pt x="810" y="1864"/>
                </a:lnTo>
                <a:lnTo>
                  <a:pt x="817" y="1870"/>
                </a:lnTo>
                <a:lnTo>
                  <a:pt x="825" y="1876"/>
                </a:lnTo>
                <a:lnTo>
                  <a:pt x="831" y="1881"/>
                </a:lnTo>
                <a:lnTo>
                  <a:pt x="839" y="1886"/>
                </a:lnTo>
                <a:lnTo>
                  <a:pt x="844" y="1891"/>
                </a:lnTo>
                <a:lnTo>
                  <a:pt x="850" y="1894"/>
                </a:lnTo>
                <a:lnTo>
                  <a:pt x="854" y="1898"/>
                </a:lnTo>
                <a:lnTo>
                  <a:pt x="859" y="1900"/>
                </a:lnTo>
                <a:lnTo>
                  <a:pt x="861" y="1903"/>
                </a:lnTo>
                <a:lnTo>
                  <a:pt x="865" y="1904"/>
                </a:lnTo>
                <a:lnTo>
                  <a:pt x="869" y="1907"/>
                </a:lnTo>
                <a:lnTo>
                  <a:pt x="875" y="1909"/>
                </a:lnTo>
                <a:lnTo>
                  <a:pt x="881" y="1912"/>
                </a:lnTo>
                <a:lnTo>
                  <a:pt x="887" y="1916"/>
                </a:lnTo>
                <a:lnTo>
                  <a:pt x="893" y="1920"/>
                </a:lnTo>
                <a:lnTo>
                  <a:pt x="900" y="1921"/>
                </a:lnTo>
                <a:lnTo>
                  <a:pt x="906" y="1925"/>
                </a:lnTo>
                <a:lnTo>
                  <a:pt x="914" y="1929"/>
                </a:lnTo>
                <a:lnTo>
                  <a:pt x="920" y="1932"/>
                </a:lnTo>
                <a:lnTo>
                  <a:pt x="928" y="1935"/>
                </a:lnTo>
                <a:lnTo>
                  <a:pt x="934" y="1939"/>
                </a:lnTo>
                <a:lnTo>
                  <a:pt x="942" y="1941"/>
                </a:lnTo>
                <a:lnTo>
                  <a:pt x="949" y="1945"/>
                </a:lnTo>
                <a:lnTo>
                  <a:pt x="956" y="1947"/>
                </a:lnTo>
                <a:lnTo>
                  <a:pt x="962" y="1950"/>
                </a:lnTo>
                <a:lnTo>
                  <a:pt x="970" y="1952"/>
                </a:lnTo>
                <a:lnTo>
                  <a:pt x="978" y="1956"/>
                </a:lnTo>
                <a:lnTo>
                  <a:pt x="988" y="1958"/>
                </a:lnTo>
                <a:lnTo>
                  <a:pt x="998" y="1961"/>
                </a:lnTo>
                <a:lnTo>
                  <a:pt x="1009" y="1965"/>
                </a:lnTo>
                <a:lnTo>
                  <a:pt x="1020" y="1969"/>
                </a:lnTo>
                <a:lnTo>
                  <a:pt x="1033" y="1972"/>
                </a:lnTo>
                <a:lnTo>
                  <a:pt x="1044" y="1976"/>
                </a:lnTo>
                <a:lnTo>
                  <a:pt x="1056" y="1979"/>
                </a:lnTo>
                <a:lnTo>
                  <a:pt x="1067" y="1983"/>
                </a:lnTo>
                <a:lnTo>
                  <a:pt x="1080" y="1986"/>
                </a:lnTo>
                <a:lnTo>
                  <a:pt x="1092" y="1990"/>
                </a:lnTo>
                <a:lnTo>
                  <a:pt x="1103" y="1992"/>
                </a:lnTo>
                <a:lnTo>
                  <a:pt x="1114" y="1996"/>
                </a:lnTo>
                <a:lnTo>
                  <a:pt x="1125" y="1998"/>
                </a:lnTo>
                <a:lnTo>
                  <a:pt x="1134" y="2001"/>
                </a:lnTo>
                <a:lnTo>
                  <a:pt x="1145" y="2003"/>
                </a:lnTo>
                <a:lnTo>
                  <a:pt x="1156" y="2007"/>
                </a:lnTo>
                <a:lnTo>
                  <a:pt x="1169" y="2009"/>
                </a:lnTo>
                <a:lnTo>
                  <a:pt x="1181" y="2012"/>
                </a:lnTo>
                <a:lnTo>
                  <a:pt x="1194" y="2014"/>
                </a:lnTo>
                <a:lnTo>
                  <a:pt x="1208" y="2017"/>
                </a:lnTo>
                <a:lnTo>
                  <a:pt x="1221" y="2019"/>
                </a:lnTo>
                <a:lnTo>
                  <a:pt x="1234" y="2022"/>
                </a:lnTo>
                <a:lnTo>
                  <a:pt x="1247" y="2024"/>
                </a:lnTo>
                <a:lnTo>
                  <a:pt x="1259" y="2026"/>
                </a:lnTo>
                <a:lnTo>
                  <a:pt x="1272" y="2028"/>
                </a:lnTo>
                <a:lnTo>
                  <a:pt x="1284" y="2029"/>
                </a:lnTo>
                <a:lnTo>
                  <a:pt x="1295" y="2030"/>
                </a:lnTo>
                <a:lnTo>
                  <a:pt x="1304" y="2032"/>
                </a:lnTo>
                <a:lnTo>
                  <a:pt x="1314" y="2032"/>
                </a:lnTo>
                <a:lnTo>
                  <a:pt x="1322" y="2034"/>
                </a:lnTo>
                <a:lnTo>
                  <a:pt x="1332" y="2036"/>
                </a:lnTo>
                <a:lnTo>
                  <a:pt x="1342" y="2037"/>
                </a:lnTo>
                <a:lnTo>
                  <a:pt x="1354" y="2037"/>
                </a:lnTo>
                <a:lnTo>
                  <a:pt x="1366" y="2039"/>
                </a:lnTo>
                <a:lnTo>
                  <a:pt x="1379" y="2040"/>
                </a:lnTo>
                <a:lnTo>
                  <a:pt x="1392" y="2042"/>
                </a:lnTo>
                <a:lnTo>
                  <a:pt x="1407" y="2042"/>
                </a:lnTo>
                <a:lnTo>
                  <a:pt x="1420" y="2044"/>
                </a:lnTo>
                <a:lnTo>
                  <a:pt x="1433" y="2045"/>
                </a:lnTo>
                <a:lnTo>
                  <a:pt x="1446" y="2047"/>
                </a:lnTo>
                <a:lnTo>
                  <a:pt x="1460" y="2047"/>
                </a:lnTo>
                <a:lnTo>
                  <a:pt x="1472" y="2049"/>
                </a:lnTo>
                <a:lnTo>
                  <a:pt x="1485" y="2049"/>
                </a:lnTo>
                <a:lnTo>
                  <a:pt x="1496" y="2049"/>
                </a:lnTo>
                <a:lnTo>
                  <a:pt x="1508" y="2049"/>
                </a:lnTo>
                <a:lnTo>
                  <a:pt x="1518" y="2050"/>
                </a:lnTo>
                <a:lnTo>
                  <a:pt x="1530" y="2050"/>
                </a:lnTo>
                <a:lnTo>
                  <a:pt x="1542" y="2050"/>
                </a:lnTo>
                <a:lnTo>
                  <a:pt x="1554" y="2050"/>
                </a:lnTo>
                <a:lnTo>
                  <a:pt x="1568" y="2052"/>
                </a:lnTo>
                <a:lnTo>
                  <a:pt x="1581" y="2052"/>
                </a:lnTo>
                <a:lnTo>
                  <a:pt x="1594" y="2052"/>
                </a:lnTo>
                <a:lnTo>
                  <a:pt x="1609" y="2052"/>
                </a:lnTo>
                <a:lnTo>
                  <a:pt x="1622" y="2053"/>
                </a:lnTo>
                <a:lnTo>
                  <a:pt x="1635" y="2053"/>
                </a:lnTo>
                <a:lnTo>
                  <a:pt x="1648" y="2053"/>
                </a:lnTo>
                <a:lnTo>
                  <a:pt x="1661" y="2053"/>
                </a:lnTo>
                <a:lnTo>
                  <a:pt x="1672" y="2053"/>
                </a:lnTo>
                <a:lnTo>
                  <a:pt x="1684" y="2053"/>
                </a:lnTo>
                <a:lnTo>
                  <a:pt x="1693" y="2053"/>
                </a:lnTo>
                <a:lnTo>
                  <a:pt x="1703" y="2053"/>
                </a:lnTo>
                <a:lnTo>
                  <a:pt x="1709" y="2053"/>
                </a:lnTo>
                <a:lnTo>
                  <a:pt x="1714" y="2053"/>
                </a:lnTo>
                <a:lnTo>
                  <a:pt x="1717" y="2053"/>
                </a:lnTo>
                <a:lnTo>
                  <a:pt x="1721" y="2053"/>
                </a:lnTo>
                <a:lnTo>
                  <a:pt x="1723" y="2053"/>
                </a:lnTo>
                <a:lnTo>
                  <a:pt x="1725" y="2053"/>
                </a:lnTo>
                <a:lnTo>
                  <a:pt x="1727" y="2053"/>
                </a:lnTo>
                <a:lnTo>
                  <a:pt x="1729" y="2053"/>
                </a:lnTo>
                <a:lnTo>
                  <a:pt x="1730" y="2053"/>
                </a:lnTo>
                <a:lnTo>
                  <a:pt x="1734" y="2053"/>
                </a:lnTo>
                <a:lnTo>
                  <a:pt x="1738" y="2053"/>
                </a:lnTo>
                <a:lnTo>
                  <a:pt x="1744" y="2053"/>
                </a:lnTo>
                <a:lnTo>
                  <a:pt x="1751" y="2053"/>
                </a:lnTo>
                <a:lnTo>
                  <a:pt x="1761" y="2053"/>
                </a:lnTo>
                <a:lnTo>
                  <a:pt x="1773" y="2053"/>
                </a:lnTo>
                <a:lnTo>
                  <a:pt x="1788" y="2053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645000" y="2127240"/>
            <a:ext cx="3101760" cy="3576600"/>
          </a:xfrm>
          <a:custGeom>
            <a:avLst/>
            <a:gdLst/>
            <a:ahLst/>
            <a:rect l="l" t="t" r="r" b="b"/>
            <a:pathLst>
              <a:path w="1954" h="2253">
                <a:moveTo>
                  <a:pt x="0" y="0"/>
                </a:moveTo>
                <a:lnTo>
                  <a:pt x="0" y="20"/>
                </a:lnTo>
                <a:lnTo>
                  <a:pt x="2" y="34"/>
                </a:lnTo>
                <a:lnTo>
                  <a:pt x="3" y="47"/>
                </a:lnTo>
                <a:lnTo>
                  <a:pt x="4" y="56"/>
                </a:lnTo>
                <a:lnTo>
                  <a:pt x="4" y="64"/>
                </a:lnTo>
                <a:lnTo>
                  <a:pt x="5" y="69"/>
                </a:lnTo>
                <a:lnTo>
                  <a:pt x="5" y="73"/>
                </a:lnTo>
                <a:lnTo>
                  <a:pt x="7" y="75"/>
                </a:lnTo>
                <a:lnTo>
                  <a:pt x="7" y="78"/>
                </a:lnTo>
                <a:lnTo>
                  <a:pt x="7" y="80"/>
                </a:lnTo>
                <a:lnTo>
                  <a:pt x="7" y="83"/>
                </a:lnTo>
                <a:lnTo>
                  <a:pt x="8" y="84"/>
                </a:lnTo>
                <a:lnTo>
                  <a:pt x="8" y="89"/>
                </a:lnTo>
                <a:lnTo>
                  <a:pt x="9" y="93"/>
                </a:lnTo>
                <a:lnTo>
                  <a:pt x="10" y="100"/>
                </a:lnTo>
                <a:lnTo>
                  <a:pt x="11" y="108"/>
                </a:lnTo>
                <a:lnTo>
                  <a:pt x="11" y="121"/>
                </a:lnTo>
                <a:lnTo>
                  <a:pt x="13" y="136"/>
                </a:lnTo>
                <a:lnTo>
                  <a:pt x="16" y="153"/>
                </a:lnTo>
                <a:lnTo>
                  <a:pt x="20" y="172"/>
                </a:lnTo>
                <a:lnTo>
                  <a:pt x="22" y="196"/>
                </a:lnTo>
                <a:lnTo>
                  <a:pt x="26" y="219"/>
                </a:lnTo>
                <a:lnTo>
                  <a:pt x="31" y="245"/>
                </a:lnTo>
                <a:lnTo>
                  <a:pt x="36" y="271"/>
                </a:lnTo>
                <a:lnTo>
                  <a:pt x="41" y="300"/>
                </a:lnTo>
                <a:lnTo>
                  <a:pt x="47" y="328"/>
                </a:lnTo>
                <a:lnTo>
                  <a:pt x="52" y="358"/>
                </a:lnTo>
                <a:lnTo>
                  <a:pt x="59" y="386"/>
                </a:lnTo>
                <a:lnTo>
                  <a:pt x="64" y="416"/>
                </a:lnTo>
                <a:lnTo>
                  <a:pt x="70" y="444"/>
                </a:lnTo>
                <a:lnTo>
                  <a:pt x="76" y="473"/>
                </a:lnTo>
                <a:lnTo>
                  <a:pt x="83" y="500"/>
                </a:lnTo>
                <a:lnTo>
                  <a:pt x="89" y="527"/>
                </a:lnTo>
                <a:lnTo>
                  <a:pt x="95" y="556"/>
                </a:lnTo>
                <a:lnTo>
                  <a:pt x="102" y="586"/>
                </a:lnTo>
                <a:lnTo>
                  <a:pt x="109" y="616"/>
                </a:lnTo>
                <a:lnTo>
                  <a:pt x="117" y="647"/>
                </a:lnTo>
                <a:lnTo>
                  <a:pt x="125" y="677"/>
                </a:lnTo>
                <a:lnTo>
                  <a:pt x="132" y="708"/>
                </a:lnTo>
                <a:lnTo>
                  <a:pt x="142" y="738"/>
                </a:lnTo>
                <a:lnTo>
                  <a:pt x="149" y="768"/>
                </a:lnTo>
                <a:lnTo>
                  <a:pt x="158" y="796"/>
                </a:lnTo>
                <a:lnTo>
                  <a:pt x="166" y="823"/>
                </a:lnTo>
                <a:lnTo>
                  <a:pt x="174" y="848"/>
                </a:lnTo>
                <a:lnTo>
                  <a:pt x="180" y="871"/>
                </a:lnTo>
                <a:lnTo>
                  <a:pt x="188" y="892"/>
                </a:lnTo>
                <a:lnTo>
                  <a:pt x="194" y="910"/>
                </a:lnTo>
                <a:lnTo>
                  <a:pt x="201" y="924"/>
                </a:lnTo>
                <a:lnTo>
                  <a:pt x="206" y="939"/>
                </a:lnTo>
                <a:lnTo>
                  <a:pt x="212" y="955"/>
                </a:lnTo>
                <a:lnTo>
                  <a:pt x="218" y="973"/>
                </a:lnTo>
                <a:lnTo>
                  <a:pt x="227" y="992"/>
                </a:lnTo>
                <a:lnTo>
                  <a:pt x="234" y="1014"/>
                </a:lnTo>
                <a:lnTo>
                  <a:pt x="244" y="1035"/>
                </a:lnTo>
                <a:lnTo>
                  <a:pt x="253" y="1057"/>
                </a:lnTo>
                <a:lnTo>
                  <a:pt x="262" y="1079"/>
                </a:lnTo>
                <a:lnTo>
                  <a:pt x="272" y="1104"/>
                </a:lnTo>
                <a:lnTo>
                  <a:pt x="281" y="1126"/>
                </a:lnTo>
                <a:lnTo>
                  <a:pt x="290" y="1149"/>
                </a:lnTo>
                <a:lnTo>
                  <a:pt x="300" y="1172"/>
                </a:lnTo>
                <a:lnTo>
                  <a:pt x="308" y="1194"/>
                </a:lnTo>
                <a:lnTo>
                  <a:pt x="317" y="1214"/>
                </a:lnTo>
                <a:lnTo>
                  <a:pt x="325" y="1234"/>
                </a:lnTo>
                <a:lnTo>
                  <a:pt x="334" y="1251"/>
                </a:lnTo>
                <a:lnTo>
                  <a:pt x="342" y="1270"/>
                </a:lnTo>
                <a:lnTo>
                  <a:pt x="350" y="1290"/>
                </a:lnTo>
                <a:lnTo>
                  <a:pt x="358" y="1310"/>
                </a:lnTo>
                <a:lnTo>
                  <a:pt x="367" y="1331"/>
                </a:lnTo>
                <a:lnTo>
                  <a:pt x="376" y="1353"/>
                </a:lnTo>
                <a:lnTo>
                  <a:pt x="386" y="1374"/>
                </a:lnTo>
                <a:lnTo>
                  <a:pt x="395" y="1396"/>
                </a:lnTo>
                <a:lnTo>
                  <a:pt x="405" y="1417"/>
                </a:lnTo>
                <a:lnTo>
                  <a:pt x="414" y="1438"/>
                </a:lnTo>
                <a:lnTo>
                  <a:pt x="423" y="1459"/>
                </a:lnTo>
                <a:lnTo>
                  <a:pt x="431" y="1479"/>
                </a:lnTo>
                <a:lnTo>
                  <a:pt x="441" y="1497"/>
                </a:lnTo>
                <a:lnTo>
                  <a:pt x="448" y="1515"/>
                </a:lnTo>
                <a:lnTo>
                  <a:pt x="456" y="1530"/>
                </a:lnTo>
                <a:lnTo>
                  <a:pt x="462" y="1545"/>
                </a:lnTo>
                <a:lnTo>
                  <a:pt x="469" y="1556"/>
                </a:lnTo>
                <a:lnTo>
                  <a:pt x="474" y="1569"/>
                </a:lnTo>
                <a:lnTo>
                  <a:pt x="480" y="1582"/>
                </a:lnTo>
                <a:lnTo>
                  <a:pt x="488" y="1596"/>
                </a:lnTo>
                <a:lnTo>
                  <a:pt x="496" y="1610"/>
                </a:lnTo>
                <a:lnTo>
                  <a:pt x="505" y="1626"/>
                </a:lnTo>
                <a:lnTo>
                  <a:pt x="515" y="1642"/>
                </a:lnTo>
                <a:lnTo>
                  <a:pt x="525" y="1659"/>
                </a:lnTo>
                <a:lnTo>
                  <a:pt x="536" y="1674"/>
                </a:lnTo>
                <a:lnTo>
                  <a:pt x="546" y="1691"/>
                </a:lnTo>
                <a:lnTo>
                  <a:pt x="557" y="1708"/>
                </a:lnTo>
                <a:lnTo>
                  <a:pt x="568" y="1725"/>
                </a:lnTo>
                <a:lnTo>
                  <a:pt x="580" y="1740"/>
                </a:lnTo>
                <a:lnTo>
                  <a:pt x="589" y="1756"/>
                </a:lnTo>
                <a:lnTo>
                  <a:pt x="600" y="1770"/>
                </a:lnTo>
                <a:lnTo>
                  <a:pt x="610" y="1783"/>
                </a:lnTo>
                <a:lnTo>
                  <a:pt x="620" y="1794"/>
                </a:lnTo>
                <a:lnTo>
                  <a:pt x="629" y="1807"/>
                </a:lnTo>
                <a:lnTo>
                  <a:pt x="639" y="1818"/>
                </a:lnTo>
                <a:lnTo>
                  <a:pt x="650" y="1832"/>
                </a:lnTo>
                <a:lnTo>
                  <a:pt x="663" y="1844"/>
                </a:lnTo>
                <a:lnTo>
                  <a:pt x="675" y="1858"/>
                </a:lnTo>
                <a:lnTo>
                  <a:pt x="688" y="1872"/>
                </a:lnTo>
                <a:lnTo>
                  <a:pt x="701" y="1885"/>
                </a:lnTo>
                <a:lnTo>
                  <a:pt x="715" y="1898"/>
                </a:lnTo>
                <a:lnTo>
                  <a:pt x="727" y="1912"/>
                </a:lnTo>
                <a:lnTo>
                  <a:pt x="740" y="1925"/>
                </a:lnTo>
                <a:lnTo>
                  <a:pt x="753" y="1938"/>
                </a:lnTo>
                <a:lnTo>
                  <a:pt x="766" y="1950"/>
                </a:lnTo>
                <a:lnTo>
                  <a:pt x="777" y="1961"/>
                </a:lnTo>
                <a:lnTo>
                  <a:pt x="788" y="1970"/>
                </a:lnTo>
                <a:lnTo>
                  <a:pt x="798" y="1980"/>
                </a:lnTo>
                <a:lnTo>
                  <a:pt x="809" y="1986"/>
                </a:lnTo>
                <a:lnTo>
                  <a:pt x="817" y="1994"/>
                </a:lnTo>
                <a:lnTo>
                  <a:pt x="826" y="2002"/>
                </a:lnTo>
                <a:lnTo>
                  <a:pt x="836" y="2009"/>
                </a:lnTo>
                <a:lnTo>
                  <a:pt x="845" y="2016"/>
                </a:lnTo>
                <a:lnTo>
                  <a:pt x="854" y="2023"/>
                </a:lnTo>
                <a:lnTo>
                  <a:pt x="864" y="2031"/>
                </a:lnTo>
                <a:lnTo>
                  <a:pt x="873" y="2038"/>
                </a:lnTo>
                <a:lnTo>
                  <a:pt x="884" y="2044"/>
                </a:lnTo>
                <a:lnTo>
                  <a:pt x="891" y="2051"/>
                </a:lnTo>
                <a:lnTo>
                  <a:pt x="900" y="2057"/>
                </a:lnTo>
                <a:lnTo>
                  <a:pt x="908" y="2062"/>
                </a:lnTo>
                <a:lnTo>
                  <a:pt x="916" y="2068"/>
                </a:lnTo>
                <a:lnTo>
                  <a:pt x="922" y="2072"/>
                </a:lnTo>
                <a:lnTo>
                  <a:pt x="929" y="2076"/>
                </a:lnTo>
                <a:lnTo>
                  <a:pt x="933" y="2080"/>
                </a:lnTo>
                <a:lnTo>
                  <a:pt x="938" y="2081"/>
                </a:lnTo>
                <a:lnTo>
                  <a:pt x="941" y="2085"/>
                </a:lnTo>
                <a:lnTo>
                  <a:pt x="945" y="2088"/>
                </a:lnTo>
                <a:lnTo>
                  <a:pt x="950" y="2091"/>
                </a:lnTo>
                <a:lnTo>
                  <a:pt x="956" y="2093"/>
                </a:lnTo>
                <a:lnTo>
                  <a:pt x="961" y="2097"/>
                </a:lnTo>
                <a:lnTo>
                  <a:pt x="968" y="2101"/>
                </a:lnTo>
                <a:lnTo>
                  <a:pt x="976" y="2104"/>
                </a:lnTo>
                <a:lnTo>
                  <a:pt x="983" y="2108"/>
                </a:lnTo>
                <a:lnTo>
                  <a:pt x="990" y="2111"/>
                </a:lnTo>
                <a:lnTo>
                  <a:pt x="998" y="2115"/>
                </a:lnTo>
                <a:lnTo>
                  <a:pt x="1005" y="2119"/>
                </a:lnTo>
                <a:lnTo>
                  <a:pt x="1013" y="2122"/>
                </a:lnTo>
                <a:lnTo>
                  <a:pt x="1020" y="2126"/>
                </a:lnTo>
                <a:lnTo>
                  <a:pt x="1028" y="2129"/>
                </a:lnTo>
                <a:lnTo>
                  <a:pt x="1035" y="2132"/>
                </a:lnTo>
                <a:lnTo>
                  <a:pt x="1043" y="2134"/>
                </a:lnTo>
                <a:lnTo>
                  <a:pt x="1050" y="2138"/>
                </a:lnTo>
                <a:lnTo>
                  <a:pt x="1058" y="2140"/>
                </a:lnTo>
                <a:lnTo>
                  <a:pt x="1068" y="2144"/>
                </a:lnTo>
                <a:lnTo>
                  <a:pt x="1079" y="2147"/>
                </a:lnTo>
                <a:lnTo>
                  <a:pt x="1090" y="2151"/>
                </a:lnTo>
                <a:lnTo>
                  <a:pt x="1102" y="2155"/>
                </a:lnTo>
                <a:lnTo>
                  <a:pt x="1115" y="2159"/>
                </a:lnTo>
                <a:lnTo>
                  <a:pt x="1128" y="2162"/>
                </a:lnTo>
                <a:lnTo>
                  <a:pt x="1142" y="2168"/>
                </a:lnTo>
                <a:lnTo>
                  <a:pt x="1154" y="2171"/>
                </a:lnTo>
                <a:lnTo>
                  <a:pt x="1168" y="2175"/>
                </a:lnTo>
                <a:lnTo>
                  <a:pt x="1181" y="2179"/>
                </a:lnTo>
                <a:lnTo>
                  <a:pt x="1192" y="2182"/>
                </a:lnTo>
                <a:lnTo>
                  <a:pt x="1206" y="2186"/>
                </a:lnTo>
                <a:lnTo>
                  <a:pt x="1217" y="2189"/>
                </a:lnTo>
                <a:lnTo>
                  <a:pt x="1229" y="2190"/>
                </a:lnTo>
                <a:lnTo>
                  <a:pt x="1239" y="2194"/>
                </a:lnTo>
                <a:lnTo>
                  <a:pt x="1250" y="2196"/>
                </a:lnTo>
                <a:lnTo>
                  <a:pt x="1262" y="2200"/>
                </a:lnTo>
                <a:lnTo>
                  <a:pt x="1276" y="2202"/>
                </a:lnTo>
                <a:lnTo>
                  <a:pt x="1289" y="2206"/>
                </a:lnTo>
                <a:lnTo>
                  <a:pt x="1304" y="2207"/>
                </a:lnTo>
                <a:lnTo>
                  <a:pt x="1318" y="2211"/>
                </a:lnTo>
                <a:lnTo>
                  <a:pt x="1333" y="2213"/>
                </a:lnTo>
                <a:lnTo>
                  <a:pt x="1346" y="2217"/>
                </a:lnTo>
                <a:lnTo>
                  <a:pt x="1361" y="2218"/>
                </a:lnTo>
                <a:lnTo>
                  <a:pt x="1374" y="2222"/>
                </a:lnTo>
                <a:lnTo>
                  <a:pt x="1388" y="2224"/>
                </a:lnTo>
                <a:lnTo>
                  <a:pt x="1400" y="2226"/>
                </a:lnTo>
                <a:lnTo>
                  <a:pt x="1412" y="2228"/>
                </a:lnTo>
                <a:lnTo>
                  <a:pt x="1422" y="2230"/>
                </a:lnTo>
                <a:lnTo>
                  <a:pt x="1433" y="2231"/>
                </a:lnTo>
                <a:lnTo>
                  <a:pt x="1442" y="2233"/>
                </a:lnTo>
                <a:lnTo>
                  <a:pt x="1453" y="2234"/>
                </a:lnTo>
                <a:lnTo>
                  <a:pt x="1465" y="2236"/>
                </a:lnTo>
                <a:lnTo>
                  <a:pt x="1478" y="2236"/>
                </a:lnTo>
                <a:lnTo>
                  <a:pt x="1491" y="2237"/>
                </a:lnTo>
                <a:lnTo>
                  <a:pt x="1505" y="2238"/>
                </a:lnTo>
                <a:lnTo>
                  <a:pt x="1520" y="2240"/>
                </a:lnTo>
                <a:lnTo>
                  <a:pt x="1535" y="2240"/>
                </a:lnTo>
                <a:lnTo>
                  <a:pt x="1550" y="2242"/>
                </a:lnTo>
                <a:lnTo>
                  <a:pt x="1565" y="2242"/>
                </a:lnTo>
                <a:lnTo>
                  <a:pt x="1580" y="2244"/>
                </a:lnTo>
                <a:lnTo>
                  <a:pt x="1594" y="2244"/>
                </a:lnTo>
                <a:lnTo>
                  <a:pt x="1608" y="2246"/>
                </a:lnTo>
                <a:lnTo>
                  <a:pt x="1622" y="2246"/>
                </a:lnTo>
                <a:lnTo>
                  <a:pt x="1634" y="2246"/>
                </a:lnTo>
                <a:lnTo>
                  <a:pt x="1646" y="2246"/>
                </a:lnTo>
                <a:lnTo>
                  <a:pt x="1657" y="2248"/>
                </a:lnTo>
                <a:lnTo>
                  <a:pt x="1669" y="2248"/>
                </a:lnTo>
                <a:lnTo>
                  <a:pt x="1682" y="2248"/>
                </a:lnTo>
                <a:lnTo>
                  <a:pt x="1697" y="2248"/>
                </a:lnTo>
                <a:lnTo>
                  <a:pt x="1710" y="2250"/>
                </a:lnTo>
                <a:lnTo>
                  <a:pt x="1726" y="2250"/>
                </a:lnTo>
                <a:lnTo>
                  <a:pt x="1740" y="2250"/>
                </a:lnTo>
                <a:lnTo>
                  <a:pt x="1756" y="2250"/>
                </a:lnTo>
                <a:lnTo>
                  <a:pt x="1769" y="2252"/>
                </a:lnTo>
                <a:lnTo>
                  <a:pt x="1784" y="2252"/>
                </a:lnTo>
                <a:lnTo>
                  <a:pt x="1798" y="2252"/>
                </a:lnTo>
                <a:lnTo>
                  <a:pt x="1812" y="2252"/>
                </a:lnTo>
                <a:lnTo>
                  <a:pt x="1824" y="2252"/>
                </a:lnTo>
                <a:lnTo>
                  <a:pt x="1836" y="2252"/>
                </a:lnTo>
                <a:lnTo>
                  <a:pt x="1846" y="2252"/>
                </a:lnTo>
                <a:lnTo>
                  <a:pt x="1857" y="2252"/>
                </a:lnTo>
                <a:lnTo>
                  <a:pt x="1864" y="2252"/>
                </a:lnTo>
                <a:lnTo>
                  <a:pt x="1870" y="2252"/>
                </a:lnTo>
                <a:lnTo>
                  <a:pt x="1875" y="2252"/>
                </a:lnTo>
                <a:lnTo>
                  <a:pt x="1878" y="2252"/>
                </a:lnTo>
                <a:lnTo>
                  <a:pt x="1880" y="2252"/>
                </a:lnTo>
                <a:lnTo>
                  <a:pt x="1882" y="2252"/>
                </a:lnTo>
                <a:lnTo>
                  <a:pt x="1884" y="2252"/>
                </a:lnTo>
                <a:lnTo>
                  <a:pt x="1886" y="2252"/>
                </a:lnTo>
                <a:lnTo>
                  <a:pt x="1888" y="2252"/>
                </a:lnTo>
                <a:lnTo>
                  <a:pt x="1892" y="2252"/>
                </a:lnTo>
                <a:lnTo>
                  <a:pt x="1897" y="2252"/>
                </a:lnTo>
                <a:lnTo>
                  <a:pt x="1904" y="2252"/>
                </a:lnTo>
                <a:lnTo>
                  <a:pt x="1912" y="2252"/>
                </a:lnTo>
                <a:lnTo>
                  <a:pt x="1923" y="2252"/>
                </a:lnTo>
                <a:lnTo>
                  <a:pt x="1936" y="2252"/>
                </a:lnTo>
                <a:lnTo>
                  <a:pt x="1953" y="2252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0560" y="1673280"/>
            <a:ext cx="2484360" cy="2852640"/>
          </a:xfrm>
          <a:custGeom>
            <a:avLst/>
            <a:gdLst/>
            <a:ahLst/>
            <a:rect l="l" t="t" r="r" b="b"/>
            <a:pathLst>
              <a:path w="1565" h="1797">
                <a:moveTo>
                  <a:pt x="0" y="0"/>
                </a:moveTo>
                <a:lnTo>
                  <a:pt x="0" y="16"/>
                </a:lnTo>
                <a:lnTo>
                  <a:pt x="1" y="27"/>
                </a:lnTo>
                <a:lnTo>
                  <a:pt x="1" y="37"/>
                </a:lnTo>
                <a:lnTo>
                  <a:pt x="3" y="44"/>
                </a:lnTo>
                <a:lnTo>
                  <a:pt x="3" y="50"/>
                </a:lnTo>
                <a:lnTo>
                  <a:pt x="3" y="54"/>
                </a:lnTo>
                <a:lnTo>
                  <a:pt x="3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5" y="70"/>
                </a:lnTo>
                <a:lnTo>
                  <a:pt x="6" y="74"/>
                </a:lnTo>
                <a:lnTo>
                  <a:pt x="6" y="80"/>
                </a:lnTo>
                <a:lnTo>
                  <a:pt x="8" y="86"/>
                </a:lnTo>
                <a:lnTo>
                  <a:pt x="8" y="96"/>
                </a:lnTo>
                <a:lnTo>
                  <a:pt x="10" y="108"/>
                </a:lnTo>
                <a:lnTo>
                  <a:pt x="12" y="122"/>
                </a:lnTo>
                <a:lnTo>
                  <a:pt x="14" y="137"/>
                </a:lnTo>
                <a:lnTo>
                  <a:pt x="17" y="155"/>
                </a:lnTo>
                <a:lnTo>
                  <a:pt x="21" y="174"/>
                </a:lnTo>
                <a:lnTo>
                  <a:pt x="24" y="194"/>
                </a:lnTo>
                <a:lnTo>
                  <a:pt x="29" y="214"/>
                </a:lnTo>
                <a:lnTo>
                  <a:pt x="32" y="238"/>
                </a:lnTo>
                <a:lnTo>
                  <a:pt x="37" y="260"/>
                </a:lnTo>
                <a:lnTo>
                  <a:pt x="41" y="284"/>
                </a:lnTo>
                <a:lnTo>
                  <a:pt x="46" y="306"/>
                </a:lnTo>
                <a:lnTo>
                  <a:pt x="50" y="330"/>
                </a:lnTo>
                <a:lnTo>
                  <a:pt x="55" y="353"/>
                </a:lnTo>
                <a:lnTo>
                  <a:pt x="60" y="376"/>
                </a:lnTo>
                <a:lnTo>
                  <a:pt x="65" y="397"/>
                </a:lnTo>
                <a:lnTo>
                  <a:pt x="69" y="419"/>
                </a:lnTo>
                <a:lnTo>
                  <a:pt x="75" y="442"/>
                </a:lnTo>
                <a:lnTo>
                  <a:pt x="81" y="466"/>
                </a:lnTo>
                <a:lnTo>
                  <a:pt x="87" y="490"/>
                </a:lnTo>
                <a:lnTo>
                  <a:pt x="92" y="515"/>
                </a:lnTo>
                <a:lnTo>
                  <a:pt x="99" y="539"/>
                </a:lnTo>
                <a:lnTo>
                  <a:pt x="105" y="563"/>
                </a:lnTo>
                <a:lnTo>
                  <a:pt x="113" y="587"/>
                </a:lnTo>
                <a:lnTo>
                  <a:pt x="119" y="611"/>
                </a:lnTo>
                <a:lnTo>
                  <a:pt x="125" y="634"/>
                </a:lnTo>
                <a:lnTo>
                  <a:pt x="131" y="655"/>
                </a:lnTo>
                <a:lnTo>
                  <a:pt x="139" y="675"/>
                </a:lnTo>
                <a:lnTo>
                  <a:pt x="144" y="694"/>
                </a:lnTo>
                <a:lnTo>
                  <a:pt x="150" y="710"/>
                </a:lnTo>
                <a:lnTo>
                  <a:pt x="155" y="725"/>
                </a:lnTo>
                <a:lnTo>
                  <a:pt x="160" y="736"/>
                </a:lnTo>
                <a:lnTo>
                  <a:pt x="164" y="749"/>
                </a:lnTo>
                <a:lnTo>
                  <a:pt x="170" y="761"/>
                </a:lnTo>
                <a:lnTo>
                  <a:pt x="175" y="776"/>
                </a:lnTo>
                <a:lnTo>
                  <a:pt x="181" y="791"/>
                </a:lnTo>
                <a:lnTo>
                  <a:pt x="187" y="808"/>
                </a:lnTo>
                <a:lnTo>
                  <a:pt x="195" y="825"/>
                </a:lnTo>
                <a:lnTo>
                  <a:pt x="202" y="844"/>
                </a:lnTo>
                <a:lnTo>
                  <a:pt x="210" y="860"/>
                </a:lnTo>
                <a:lnTo>
                  <a:pt x="217" y="879"/>
                </a:lnTo>
                <a:lnTo>
                  <a:pt x="225" y="898"/>
                </a:lnTo>
                <a:lnTo>
                  <a:pt x="232" y="916"/>
                </a:lnTo>
                <a:lnTo>
                  <a:pt x="239" y="933"/>
                </a:lnTo>
                <a:lnTo>
                  <a:pt x="246" y="952"/>
                </a:lnTo>
                <a:lnTo>
                  <a:pt x="253" y="968"/>
                </a:lnTo>
                <a:lnTo>
                  <a:pt x="259" y="983"/>
                </a:lnTo>
                <a:lnTo>
                  <a:pt x="267" y="998"/>
                </a:lnTo>
                <a:lnTo>
                  <a:pt x="273" y="1013"/>
                </a:lnTo>
                <a:lnTo>
                  <a:pt x="279" y="1028"/>
                </a:lnTo>
                <a:lnTo>
                  <a:pt x="285" y="1045"/>
                </a:lnTo>
                <a:lnTo>
                  <a:pt x="293" y="1061"/>
                </a:lnTo>
                <a:lnTo>
                  <a:pt x="300" y="1079"/>
                </a:lnTo>
                <a:lnTo>
                  <a:pt x="307" y="1096"/>
                </a:lnTo>
                <a:lnTo>
                  <a:pt x="315" y="1113"/>
                </a:lnTo>
                <a:lnTo>
                  <a:pt x="323" y="1130"/>
                </a:lnTo>
                <a:lnTo>
                  <a:pt x="329" y="1147"/>
                </a:lnTo>
                <a:lnTo>
                  <a:pt x="337" y="1164"/>
                </a:lnTo>
                <a:lnTo>
                  <a:pt x="344" y="1179"/>
                </a:lnTo>
                <a:lnTo>
                  <a:pt x="351" y="1194"/>
                </a:lnTo>
                <a:lnTo>
                  <a:pt x="357" y="1207"/>
                </a:lnTo>
                <a:lnTo>
                  <a:pt x="363" y="1220"/>
                </a:lnTo>
                <a:lnTo>
                  <a:pt x="369" y="1231"/>
                </a:lnTo>
                <a:lnTo>
                  <a:pt x="374" y="1240"/>
                </a:lnTo>
                <a:lnTo>
                  <a:pt x="378" y="1250"/>
                </a:lnTo>
                <a:lnTo>
                  <a:pt x="384" y="1260"/>
                </a:lnTo>
                <a:lnTo>
                  <a:pt x="389" y="1272"/>
                </a:lnTo>
                <a:lnTo>
                  <a:pt x="397" y="1283"/>
                </a:lnTo>
                <a:lnTo>
                  <a:pt x="404" y="1296"/>
                </a:lnTo>
                <a:lnTo>
                  <a:pt x="411" y="1308"/>
                </a:lnTo>
                <a:lnTo>
                  <a:pt x="419" y="1322"/>
                </a:lnTo>
                <a:lnTo>
                  <a:pt x="428" y="1334"/>
                </a:lnTo>
                <a:lnTo>
                  <a:pt x="435" y="1348"/>
                </a:lnTo>
                <a:lnTo>
                  <a:pt x="445" y="1362"/>
                </a:lnTo>
                <a:lnTo>
                  <a:pt x="453" y="1374"/>
                </a:lnTo>
                <a:lnTo>
                  <a:pt x="462" y="1386"/>
                </a:lnTo>
                <a:lnTo>
                  <a:pt x="470" y="1399"/>
                </a:lnTo>
                <a:lnTo>
                  <a:pt x="479" y="1410"/>
                </a:lnTo>
                <a:lnTo>
                  <a:pt x="487" y="1421"/>
                </a:lnTo>
                <a:lnTo>
                  <a:pt x="495" y="1430"/>
                </a:lnTo>
                <a:lnTo>
                  <a:pt x="502" y="1440"/>
                </a:lnTo>
                <a:lnTo>
                  <a:pt x="510" y="1449"/>
                </a:lnTo>
                <a:lnTo>
                  <a:pt x="519" y="1461"/>
                </a:lnTo>
                <a:lnTo>
                  <a:pt x="529" y="1470"/>
                </a:lnTo>
                <a:lnTo>
                  <a:pt x="538" y="1481"/>
                </a:lnTo>
                <a:lnTo>
                  <a:pt x="549" y="1492"/>
                </a:lnTo>
                <a:lnTo>
                  <a:pt x="559" y="1504"/>
                </a:lnTo>
                <a:lnTo>
                  <a:pt x="570" y="1513"/>
                </a:lnTo>
                <a:lnTo>
                  <a:pt x="580" y="1524"/>
                </a:lnTo>
                <a:lnTo>
                  <a:pt x="591" y="1534"/>
                </a:lnTo>
                <a:lnTo>
                  <a:pt x="601" y="1544"/>
                </a:lnTo>
                <a:lnTo>
                  <a:pt x="612" y="1554"/>
                </a:lnTo>
                <a:lnTo>
                  <a:pt x="621" y="1563"/>
                </a:lnTo>
                <a:lnTo>
                  <a:pt x="630" y="1570"/>
                </a:lnTo>
                <a:lnTo>
                  <a:pt x="638" y="1577"/>
                </a:lnTo>
                <a:lnTo>
                  <a:pt x="647" y="1582"/>
                </a:lnTo>
                <a:lnTo>
                  <a:pt x="654" y="1589"/>
                </a:lnTo>
                <a:lnTo>
                  <a:pt x="661" y="1595"/>
                </a:lnTo>
                <a:lnTo>
                  <a:pt x="669" y="1600"/>
                </a:lnTo>
                <a:lnTo>
                  <a:pt x="678" y="1606"/>
                </a:lnTo>
                <a:lnTo>
                  <a:pt x="685" y="1612"/>
                </a:lnTo>
                <a:lnTo>
                  <a:pt x="693" y="1618"/>
                </a:lnTo>
                <a:lnTo>
                  <a:pt x="700" y="1624"/>
                </a:lnTo>
                <a:lnTo>
                  <a:pt x="709" y="1628"/>
                </a:lnTo>
                <a:lnTo>
                  <a:pt x="715" y="1634"/>
                </a:lnTo>
                <a:lnTo>
                  <a:pt x="722" y="1640"/>
                </a:lnTo>
                <a:lnTo>
                  <a:pt x="727" y="1645"/>
                </a:lnTo>
                <a:lnTo>
                  <a:pt x="734" y="1648"/>
                </a:lnTo>
                <a:lnTo>
                  <a:pt x="739" y="1652"/>
                </a:lnTo>
                <a:lnTo>
                  <a:pt x="744" y="1655"/>
                </a:lnTo>
                <a:lnTo>
                  <a:pt x="747" y="1658"/>
                </a:lnTo>
                <a:lnTo>
                  <a:pt x="751" y="1660"/>
                </a:lnTo>
                <a:lnTo>
                  <a:pt x="753" y="1662"/>
                </a:lnTo>
                <a:lnTo>
                  <a:pt x="756" y="1664"/>
                </a:lnTo>
                <a:lnTo>
                  <a:pt x="760" y="1666"/>
                </a:lnTo>
                <a:lnTo>
                  <a:pt x="765" y="1668"/>
                </a:lnTo>
                <a:lnTo>
                  <a:pt x="769" y="1672"/>
                </a:lnTo>
                <a:lnTo>
                  <a:pt x="775" y="1674"/>
                </a:lnTo>
                <a:lnTo>
                  <a:pt x="781" y="1677"/>
                </a:lnTo>
                <a:lnTo>
                  <a:pt x="787" y="1679"/>
                </a:lnTo>
                <a:lnTo>
                  <a:pt x="793" y="1683"/>
                </a:lnTo>
                <a:lnTo>
                  <a:pt x="798" y="1685"/>
                </a:lnTo>
                <a:lnTo>
                  <a:pt x="804" y="1689"/>
                </a:lnTo>
                <a:lnTo>
                  <a:pt x="811" y="1691"/>
                </a:lnTo>
                <a:lnTo>
                  <a:pt x="816" y="1695"/>
                </a:lnTo>
                <a:lnTo>
                  <a:pt x="822" y="1696"/>
                </a:lnTo>
                <a:lnTo>
                  <a:pt x="828" y="1699"/>
                </a:lnTo>
                <a:lnTo>
                  <a:pt x="835" y="1701"/>
                </a:lnTo>
                <a:lnTo>
                  <a:pt x="840" y="1705"/>
                </a:lnTo>
                <a:lnTo>
                  <a:pt x="847" y="1706"/>
                </a:lnTo>
                <a:lnTo>
                  <a:pt x="854" y="1710"/>
                </a:lnTo>
                <a:lnTo>
                  <a:pt x="863" y="1712"/>
                </a:lnTo>
                <a:lnTo>
                  <a:pt x="872" y="1715"/>
                </a:lnTo>
                <a:lnTo>
                  <a:pt x="882" y="1718"/>
                </a:lnTo>
                <a:lnTo>
                  <a:pt x="891" y="1722"/>
                </a:lnTo>
                <a:lnTo>
                  <a:pt x="902" y="1724"/>
                </a:lnTo>
                <a:lnTo>
                  <a:pt x="912" y="1728"/>
                </a:lnTo>
                <a:lnTo>
                  <a:pt x="923" y="1731"/>
                </a:lnTo>
                <a:lnTo>
                  <a:pt x="933" y="1734"/>
                </a:lnTo>
                <a:lnTo>
                  <a:pt x="944" y="1736"/>
                </a:lnTo>
                <a:lnTo>
                  <a:pt x="953" y="1740"/>
                </a:lnTo>
                <a:lnTo>
                  <a:pt x="964" y="1742"/>
                </a:lnTo>
                <a:lnTo>
                  <a:pt x="973" y="1744"/>
                </a:lnTo>
                <a:lnTo>
                  <a:pt x="983" y="1746"/>
                </a:lnTo>
                <a:lnTo>
                  <a:pt x="990" y="1750"/>
                </a:lnTo>
                <a:lnTo>
                  <a:pt x="999" y="1752"/>
                </a:lnTo>
                <a:lnTo>
                  <a:pt x="1009" y="1753"/>
                </a:lnTo>
                <a:lnTo>
                  <a:pt x="1021" y="1755"/>
                </a:lnTo>
                <a:lnTo>
                  <a:pt x="1032" y="1759"/>
                </a:lnTo>
                <a:lnTo>
                  <a:pt x="1043" y="1761"/>
                </a:lnTo>
                <a:lnTo>
                  <a:pt x="1055" y="1763"/>
                </a:lnTo>
                <a:lnTo>
                  <a:pt x="1067" y="1764"/>
                </a:lnTo>
                <a:lnTo>
                  <a:pt x="1078" y="1768"/>
                </a:lnTo>
                <a:lnTo>
                  <a:pt x="1089" y="1770"/>
                </a:lnTo>
                <a:lnTo>
                  <a:pt x="1100" y="1771"/>
                </a:lnTo>
                <a:lnTo>
                  <a:pt x="1111" y="1773"/>
                </a:lnTo>
                <a:lnTo>
                  <a:pt x="1121" y="1775"/>
                </a:lnTo>
                <a:lnTo>
                  <a:pt x="1131" y="1777"/>
                </a:lnTo>
                <a:lnTo>
                  <a:pt x="1139" y="1779"/>
                </a:lnTo>
                <a:lnTo>
                  <a:pt x="1148" y="1779"/>
                </a:lnTo>
                <a:lnTo>
                  <a:pt x="1155" y="1781"/>
                </a:lnTo>
                <a:lnTo>
                  <a:pt x="1164" y="1781"/>
                </a:lnTo>
                <a:lnTo>
                  <a:pt x="1173" y="1782"/>
                </a:lnTo>
                <a:lnTo>
                  <a:pt x="1184" y="1782"/>
                </a:lnTo>
                <a:lnTo>
                  <a:pt x="1195" y="1784"/>
                </a:lnTo>
                <a:lnTo>
                  <a:pt x="1206" y="1784"/>
                </a:lnTo>
                <a:lnTo>
                  <a:pt x="1217" y="1785"/>
                </a:lnTo>
                <a:lnTo>
                  <a:pt x="1231" y="1785"/>
                </a:lnTo>
                <a:lnTo>
                  <a:pt x="1242" y="1787"/>
                </a:lnTo>
                <a:lnTo>
                  <a:pt x="1253" y="1787"/>
                </a:lnTo>
                <a:lnTo>
                  <a:pt x="1265" y="1789"/>
                </a:lnTo>
                <a:lnTo>
                  <a:pt x="1277" y="1789"/>
                </a:lnTo>
                <a:lnTo>
                  <a:pt x="1287" y="1791"/>
                </a:lnTo>
                <a:lnTo>
                  <a:pt x="1299" y="1791"/>
                </a:lnTo>
                <a:lnTo>
                  <a:pt x="1308" y="1791"/>
                </a:lnTo>
                <a:lnTo>
                  <a:pt x="1319" y="1791"/>
                </a:lnTo>
                <a:lnTo>
                  <a:pt x="1327" y="1793"/>
                </a:lnTo>
                <a:lnTo>
                  <a:pt x="1337" y="1793"/>
                </a:lnTo>
                <a:lnTo>
                  <a:pt x="1347" y="1794"/>
                </a:lnTo>
                <a:lnTo>
                  <a:pt x="1358" y="1794"/>
                </a:lnTo>
                <a:lnTo>
                  <a:pt x="1370" y="1795"/>
                </a:lnTo>
                <a:lnTo>
                  <a:pt x="1381" y="1795"/>
                </a:lnTo>
                <a:lnTo>
                  <a:pt x="1393" y="1795"/>
                </a:lnTo>
                <a:lnTo>
                  <a:pt x="1406" y="1795"/>
                </a:lnTo>
                <a:lnTo>
                  <a:pt x="1417" y="1796"/>
                </a:lnTo>
                <a:lnTo>
                  <a:pt x="1429" y="1796"/>
                </a:lnTo>
                <a:lnTo>
                  <a:pt x="1440" y="1796"/>
                </a:lnTo>
                <a:lnTo>
                  <a:pt x="1452" y="1796"/>
                </a:lnTo>
                <a:lnTo>
                  <a:pt x="1461" y="1796"/>
                </a:lnTo>
                <a:lnTo>
                  <a:pt x="1472" y="1796"/>
                </a:lnTo>
                <a:lnTo>
                  <a:pt x="1480" y="1796"/>
                </a:lnTo>
                <a:lnTo>
                  <a:pt x="1489" y="1796"/>
                </a:lnTo>
                <a:lnTo>
                  <a:pt x="1494" y="1796"/>
                </a:lnTo>
                <a:lnTo>
                  <a:pt x="1499" y="1796"/>
                </a:lnTo>
                <a:lnTo>
                  <a:pt x="1501" y="1796"/>
                </a:lnTo>
                <a:lnTo>
                  <a:pt x="1505" y="1796"/>
                </a:lnTo>
                <a:lnTo>
                  <a:pt x="1506" y="1796"/>
                </a:lnTo>
                <a:lnTo>
                  <a:pt x="1507" y="1796"/>
                </a:lnTo>
                <a:lnTo>
                  <a:pt x="1509" y="1796"/>
                </a:lnTo>
                <a:lnTo>
                  <a:pt x="1511" y="1796"/>
                </a:lnTo>
                <a:lnTo>
                  <a:pt x="1513" y="1796"/>
                </a:lnTo>
                <a:lnTo>
                  <a:pt x="1516" y="1796"/>
                </a:lnTo>
                <a:lnTo>
                  <a:pt x="1519" y="1796"/>
                </a:lnTo>
                <a:lnTo>
                  <a:pt x="1525" y="1796"/>
                </a:lnTo>
                <a:lnTo>
                  <a:pt x="1531" y="1796"/>
                </a:lnTo>
                <a:lnTo>
                  <a:pt x="1540" y="1796"/>
                </a:lnTo>
                <a:lnTo>
                  <a:pt x="1550" y="1796"/>
                </a:lnTo>
                <a:lnTo>
                  <a:pt x="1564" y="1796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710160" y="2454120"/>
            <a:ext cx="2474640" cy="4272120"/>
          </a:xfrm>
          <a:prstGeom prst="line">
            <a:avLst/>
          </a:prstGeom>
          <a:ln w="316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38400" y="6986520"/>
            <a:ext cx="70642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1238400" y="1531800"/>
            <a:ext cx="0" cy="54547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1485720" y="1546200"/>
            <a:ext cx="68389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335800" y="1544760"/>
            <a:ext cx="0" cy="52718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291280" y="4062240"/>
            <a:ext cx="476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220920" y="2085840"/>
            <a:ext cx="3812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c0c0c0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7475400" y="6912000"/>
            <a:ext cx="468360" cy="812880"/>
            <a:chOff x="7475400" y="6912000"/>
            <a:chExt cx="468360" cy="812880"/>
          </a:xfrm>
        </p:grpSpPr>
        <p:sp>
          <p:nvSpPr>
            <p:cNvPr id="1601" name=""/>
            <p:cNvSpPr/>
            <p:nvPr/>
          </p:nvSpPr>
          <p:spPr>
            <a:xfrm>
              <a:off x="7475400" y="700740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34240" y="7343640"/>
              <a:ext cx="198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46840" y="691200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22280" y="1982880"/>
            <a:ext cx="468360" cy="814320"/>
            <a:chOff x="422280" y="1982880"/>
            <a:chExt cx="468360" cy="814320"/>
          </a:xfrm>
        </p:grpSpPr>
        <p:sp>
          <p:nvSpPr>
            <p:cNvPr id="1605" name=""/>
            <p:cNvSpPr/>
            <p:nvPr/>
          </p:nvSpPr>
          <p:spPr>
            <a:xfrm>
              <a:off x="422280" y="207648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2560" y="241632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93720" y="19828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8812080" y="5799240"/>
            <a:ext cx="465120" cy="812520"/>
            <a:chOff x="8812080" y="5799240"/>
            <a:chExt cx="465120" cy="812520"/>
          </a:xfrm>
        </p:grpSpPr>
        <p:sp>
          <p:nvSpPr>
            <p:cNvPr id="1609" name=""/>
            <p:cNvSpPr/>
            <p:nvPr/>
          </p:nvSpPr>
          <p:spPr>
            <a:xfrm>
              <a:off x="8812080" y="5892840"/>
              <a:ext cx="2685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072720" y="623088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082080" y="579924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2043000" y="765000"/>
            <a:ext cx="466920" cy="806760"/>
            <a:chOff x="2043000" y="765000"/>
            <a:chExt cx="466920" cy="806760"/>
          </a:xfrm>
        </p:grpSpPr>
        <p:sp>
          <p:nvSpPr>
            <p:cNvPr id="1613" name=""/>
            <p:cNvSpPr/>
            <p:nvPr/>
          </p:nvSpPr>
          <p:spPr>
            <a:xfrm>
              <a:off x="2043000" y="852480"/>
              <a:ext cx="2653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01840" y="119052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13000" y="765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8439120" y="846000"/>
            <a:ext cx="620640" cy="720720"/>
            <a:chOff x="8439120" y="846000"/>
            <a:chExt cx="620640" cy="720720"/>
          </a:xfrm>
        </p:grpSpPr>
        <p:sp>
          <p:nvSpPr>
            <p:cNvPr id="1617" name=""/>
            <p:cNvSpPr/>
            <p:nvPr/>
          </p:nvSpPr>
          <p:spPr>
            <a:xfrm>
              <a:off x="8439120" y="1006560"/>
              <a:ext cx="41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862840" y="846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46120" y="7021440"/>
            <a:ext cx="619200" cy="720720"/>
            <a:chOff x="546120" y="7021440"/>
            <a:chExt cx="619200" cy="720720"/>
          </a:xfrm>
        </p:grpSpPr>
        <p:sp>
          <p:nvSpPr>
            <p:cNvPr id="1620" name=""/>
            <p:cNvSpPr/>
            <p:nvPr/>
          </p:nvSpPr>
          <p:spPr>
            <a:xfrm>
              <a:off x="546120" y="7182000"/>
              <a:ext cx="4125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68400" y="702144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640400" y="3129120"/>
            <a:ext cx="2706480" cy="974520"/>
            <a:chOff x="4640400" y="3129120"/>
            <a:chExt cx="2706480" cy="974520"/>
          </a:xfrm>
        </p:grpSpPr>
        <p:sp>
          <p:nvSpPr>
            <p:cNvPr id="1623" name=""/>
            <p:cNvSpPr/>
            <p:nvPr/>
          </p:nvSpPr>
          <p:spPr>
            <a:xfrm>
              <a:off x="4640400" y="3129120"/>
              <a:ext cx="2706480" cy="974520"/>
            </a:xfrm>
            <a:custGeom>
              <a:avLst/>
              <a:gdLst/>
              <a:ahLst/>
              <a:rect l="l" t="t" r="r" b="b"/>
              <a:pathLst>
                <a:path w="1705" h="614">
                  <a:moveTo>
                    <a:pt x="452" y="510"/>
                  </a:moveTo>
                  <a:lnTo>
                    <a:pt x="561" y="528"/>
                  </a:lnTo>
                  <a:lnTo>
                    <a:pt x="672" y="539"/>
                  </a:lnTo>
                  <a:lnTo>
                    <a:pt x="783" y="544"/>
                  </a:lnTo>
                  <a:lnTo>
                    <a:pt x="893" y="544"/>
                  </a:lnTo>
                  <a:lnTo>
                    <a:pt x="1000" y="539"/>
                  </a:lnTo>
                  <a:lnTo>
                    <a:pt x="1105" y="530"/>
                  </a:lnTo>
                  <a:lnTo>
                    <a:pt x="1204" y="517"/>
                  </a:lnTo>
                  <a:lnTo>
                    <a:pt x="1298" y="499"/>
                  </a:lnTo>
                  <a:lnTo>
                    <a:pt x="1384" y="480"/>
                  </a:lnTo>
                  <a:lnTo>
                    <a:pt x="1463" y="456"/>
                  </a:lnTo>
                  <a:lnTo>
                    <a:pt x="1532" y="431"/>
                  </a:lnTo>
                  <a:lnTo>
                    <a:pt x="1592" y="402"/>
                  </a:lnTo>
                  <a:lnTo>
                    <a:pt x="1639" y="373"/>
                  </a:lnTo>
                  <a:lnTo>
                    <a:pt x="1675" y="341"/>
                  </a:lnTo>
                  <a:lnTo>
                    <a:pt x="1697" y="308"/>
                  </a:lnTo>
                  <a:lnTo>
                    <a:pt x="1704" y="275"/>
                  </a:lnTo>
                  <a:lnTo>
                    <a:pt x="1683" y="211"/>
                  </a:lnTo>
                  <a:lnTo>
                    <a:pt x="1629" y="154"/>
                  </a:lnTo>
                  <a:lnTo>
                    <a:pt x="1546" y="107"/>
                  </a:lnTo>
                  <a:lnTo>
                    <a:pt x="1439" y="68"/>
                  </a:lnTo>
                  <a:lnTo>
                    <a:pt x="1312" y="39"/>
                  </a:lnTo>
                  <a:lnTo>
                    <a:pt x="1170" y="17"/>
                  </a:lnTo>
                  <a:lnTo>
                    <a:pt x="1019" y="5"/>
                  </a:lnTo>
                  <a:lnTo>
                    <a:pt x="863" y="0"/>
                  </a:lnTo>
                  <a:lnTo>
                    <a:pt x="706" y="5"/>
                  </a:lnTo>
                  <a:lnTo>
                    <a:pt x="554" y="17"/>
                  </a:lnTo>
                  <a:lnTo>
                    <a:pt x="410" y="39"/>
                  </a:lnTo>
                  <a:lnTo>
                    <a:pt x="282" y="67"/>
                  </a:lnTo>
                  <a:lnTo>
                    <a:pt x="171" y="104"/>
                  </a:lnTo>
                  <a:lnTo>
                    <a:pt x="85" y="149"/>
                  </a:lnTo>
                  <a:lnTo>
                    <a:pt x="26" y="202"/>
                  </a:lnTo>
                  <a:lnTo>
                    <a:pt x="1" y="261"/>
                  </a:lnTo>
                  <a:lnTo>
                    <a:pt x="0" y="279"/>
                  </a:lnTo>
                  <a:lnTo>
                    <a:pt x="3" y="293"/>
                  </a:lnTo>
                  <a:lnTo>
                    <a:pt x="9" y="308"/>
                  </a:lnTo>
                  <a:lnTo>
                    <a:pt x="18" y="323"/>
                  </a:lnTo>
                  <a:lnTo>
                    <a:pt x="29" y="338"/>
                  </a:lnTo>
                  <a:lnTo>
                    <a:pt x="43" y="353"/>
                  </a:lnTo>
                  <a:lnTo>
                    <a:pt x="59" y="368"/>
                  </a:lnTo>
                  <a:lnTo>
                    <a:pt x="79" y="381"/>
                  </a:lnTo>
                  <a:lnTo>
                    <a:pt x="98" y="396"/>
                  </a:lnTo>
                  <a:lnTo>
                    <a:pt x="121" y="409"/>
                  </a:lnTo>
                  <a:lnTo>
                    <a:pt x="144" y="423"/>
                  </a:lnTo>
                  <a:lnTo>
                    <a:pt x="171" y="434"/>
                  </a:lnTo>
                  <a:lnTo>
                    <a:pt x="198" y="446"/>
                  </a:lnTo>
                  <a:lnTo>
                    <a:pt x="227" y="456"/>
                  </a:lnTo>
                  <a:lnTo>
                    <a:pt x="256" y="466"/>
                  </a:lnTo>
                  <a:lnTo>
                    <a:pt x="288" y="474"/>
                  </a:lnTo>
                  <a:lnTo>
                    <a:pt x="186" y="539"/>
                  </a:lnTo>
                  <a:lnTo>
                    <a:pt x="134" y="508"/>
                  </a:lnTo>
                  <a:lnTo>
                    <a:pt x="81" y="613"/>
                  </a:lnTo>
                  <a:lnTo>
                    <a:pt x="317" y="613"/>
                  </a:lnTo>
                  <a:lnTo>
                    <a:pt x="244" y="572"/>
                  </a:lnTo>
                  <a:lnTo>
                    <a:pt x="452" y="510"/>
                  </a:lnTo>
                  <a:lnTo>
                    <a:pt x="452" y="510"/>
                  </a:lnTo>
                </a:path>
              </a:pathLst>
            </a:custGeom>
            <a:solidFill>
              <a:srgbClr val="ffffc2"/>
            </a:solidFill>
            <a:ln w="93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110200" y="3375000"/>
              <a:ext cx="1673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/>
          </p:nvPr>
        </p:nvSpPr>
        <p:spPr>
          <a:xfrm>
            <a:off x="380880" y="-54360"/>
            <a:ext cx="101124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he rol de los precios es central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71840" y="3228840"/>
            <a:ext cx="2841480" cy="3259440"/>
          </a:xfrm>
          <a:custGeom>
            <a:avLst/>
            <a:gdLst/>
            <a:ahLst/>
            <a:rect l="l" t="t" r="r" b="b"/>
            <a:pathLst>
              <a:path w="1790" h="2053">
                <a:moveTo>
                  <a:pt x="1789" y="2052"/>
                </a:moveTo>
                <a:lnTo>
                  <a:pt x="1788" y="2036"/>
                </a:lnTo>
                <a:lnTo>
                  <a:pt x="1786" y="2022"/>
                </a:lnTo>
                <a:lnTo>
                  <a:pt x="1784" y="2012"/>
                </a:lnTo>
                <a:lnTo>
                  <a:pt x="1784" y="2003"/>
                </a:lnTo>
                <a:lnTo>
                  <a:pt x="1782" y="1997"/>
                </a:lnTo>
                <a:lnTo>
                  <a:pt x="1782" y="1992"/>
                </a:lnTo>
                <a:lnTo>
                  <a:pt x="1782" y="1989"/>
                </a:lnTo>
                <a:lnTo>
                  <a:pt x="1782" y="1985"/>
                </a:lnTo>
                <a:lnTo>
                  <a:pt x="1782" y="1983"/>
                </a:lnTo>
                <a:lnTo>
                  <a:pt x="1782" y="1981"/>
                </a:lnTo>
                <a:lnTo>
                  <a:pt x="1782" y="1980"/>
                </a:lnTo>
                <a:lnTo>
                  <a:pt x="1782" y="1977"/>
                </a:lnTo>
                <a:lnTo>
                  <a:pt x="1781" y="1974"/>
                </a:lnTo>
                <a:lnTo>
                  <a:pt x="1781" y="1969"/>
                </a:lnTo>
                <a:lnTo>
                  <a:pt x="1780" y="1963"/>
                </a:lnTo>
                <a:lnTo>
                  <a:pt x="1780" y="1954"/>
                </a:lnTo>
                <a:lnTo>
                  <a:pt x="1778" y="1944"/>
                </a:lnTo>
                <a:lnTo>
                  <a:pt x="1776" y="1931"/>
                </a:lnTo>
                <a:lnTo>
                  <a:pt x="1772" y="1915"/>
                </a:lnTo>
                <a:lnTo>
                  <a:pt x="1770" y="1896"/>
                </a:lnTo>
                <a:lnTo>
                  <a:pt x="1766" y="1877"/>
                </a:lnTo>
                <a:lnTo>
                  <a:pt x="1762" y="1855"/>
                </a:lnTo>
                <a:lnTo>
                  <a:pt x="1758" y="1831"/>
                </a:lnTo>
                <a:lnTo>
                  <a:pt x="1754" y="1806"/>
                </a:lnTo>
                <a:lnTo>
                  <a:pt x="1748" y="1782"/>
                </a:lnTo>
                <a:lnTo>
                  <a:pt x="1743" y="1756"/>
                </a:lnTo>
                <a:lnTo>
                  <a:pt x="1738" y="1729"/>
                </a:lnTo>
                <a:lnTo>
                  <a:pt x="1733" y="1702"/>
                </a:lnTo>
                <a:lnTo>
                  <a:pt x="1728" y="1676"/>
                </a:lnTo>
                <a:lnTo>
                  <a:pt x="1722" y="1649"/>
                </a:lnTo>
                <a:lnTo>
                  <a:pt x="1716" y="1624"/>
                </a:lnTo>
                <a:lnTo>
                  <a:pt x="1712" y="1598"/>
                </a:lnTo>
                <a:lnTo>
                  <a:pt x="1706" y="1574"/>
                </a:lnTo>
                <a:lnTo>
                  <a:pt x="1701" y="1548"/>
                </a:lnTo>
                <a:lnTo>
                  <a:pt x="1693" y="1522"/>
                </a:lnTo>
                <a:lnTo>
                  <a:pt x="1688" y="1493"/>
                </a:lnTo>
                <a:lnTo>
                  <a:pt x="1680" y="1465"/>
                </a:lnTo>
                <a:lnTo>
                  <a:pt x="1673" y="1437"/>
                </a:lnTo>
                <a:lnTo>
                  <a:pt x="1665" y="1409"/>
                </a:lnTo>
                <a:lnTo>
                  <a:pt x="1658" y="1381"/>
                </a:lnTo>
                <a:lnTo>
                  <a:pt x="1651" y="1355"/>
                </a:lnTo>
                <a:lnTo>
                  <a:pt x="1643" y="1329"/>
                </a:lnTo>
                <a:lnTo>
                  <a:pt x="1636" y="1305"/>
                </a:lnTo>
                <a:lnTo>
                  <a:pt x="1629" y="1281"/>
                </a:lnTo>
                <a:lnTo>
                  <a:pt x="1622" y="1260"/>
                </a:lnTo>
                <a:lnTo>
                  <a:pt x="1615" y="1241"/>
                </a:lnTo>
                <a:lnTo>
                  <a:pt x="1610" y="1224"/>
                </a:lnTo>
                <a:lnTo>
                  <a:pt x="1605" y="1210"/>
                </a:lnTo>
                <a:lnTo>
                  <a:pt x="1599" y="1198"/>
                </a:lnTo>
                <a:lnTo>
                  <a:pt x="1594" y="1183"/>
                </a:lnTo>
                <a:lnTo>
                  <a:pt x="1586" y="1167"/>
                </a:lnTo>
                <a:lnTo>
                  <a:pt x="1580" y="1149"/>
                </a:lnTo>
                <a:lnTo>
                  <a:pt x="1571" y="1131"/>
                </a:lnTo>
                <a:lnTo>
                  <a:pt x="1564" y="1111"/>
                </a:lnTo>
                <a:lnTo>
                  <a:pt x="1554" y="1090"/>
                </a:lnTo>
                <a:lnTo>
                  <a:pt x="1547" y="1069"/>
                </a:lnTo>
                <a:lnTo>
                  <a:pt x="1537" y="1048"/>
                </a:lnTo>
                <a:lnTo>
                  <a:pt x="1528" y="1027"/>
                </a:lnTo>
                <a:lnTo>
                  <a:pt x="1519" y="1007"/>
                </a:lnTo>
                <a:lnTo>
                  <a:pt x="1512" y="986"/>
                </a:lnTo>
                <a:lnTo>
                  <a:pt x="1503" y="966"/>
                </a:lnTo>
                <a:lnTo>
                  <a:pt x="1496" y="946"/>
                </a:lnTo>
                <a:lnTo>
                  <a:pt x="1488" y="929"/>
                </a:lnTo>
                <a:lnTo>
                  <a:pt x="1482" y="910"/>
                </a:lnTo>
                <a:lnTo>
                  <a:pt x="1474" y="894"/>
                </a:lnTo>
                <a:lnTo>
                  <a:pt x="1466" y="877"/>
                </a:lnTo>
                <a:lnTo>
                  <a:pt x="1458" y="859"/>
                </a:lnTo>
                <a:lnTo>
                  <a:pt x="1450" y="840"/>
                </a:lnTo>
                <a:lnTo>
                  <a:pt x="1441" y="821"/>
                </a:lnTo>
                <a:lnTo>
                  <a:pt x="1433" y="801"/>
                </a:lnTo>
                <a:lnTo>
                  <a:pt x="1424" y="781"/>
                </a:lnTo>
                <a:lnTo>
                  <a:pt x="1416" y="761"/>
                </a:lnTo>
                <a:lnTo>
                  <a:pt x="1407" y="742"/>
                </a:lnTo>
                <a:lnTo>
                  <a:pt x="1399" y="723"/>
                </a:lnTo>
                <a:lnTo>
                  <a:pt x="1391" y="706"/>
                </a:lnTo>
                <a:lnTo>
                  <a:pt x="1383" y="688"/>
                </a:lnTo>
                <a:lnTo>
                  <a:pt x="1376" y="673"/>
                </a:lnTo>
                <a:lnTo>
                  <a:pt x="1369" y="658"/>
                </a:lnTo>
                <a:lnTo>
                  <a:pt x="1364" y="645"/>
                </a:lnTo>
                <a:lnTo>
                  <a:pt x="1360" y="634"/>
                </a:lnTo>
                <a:lnTo>
                  <a:pt x="1353" y="624"/>
                </a:lnTo>
                <a:lnTo>
                  <a:pt x="1348" y="612"/>
                </a:lnTo>
                <a:lnTo>
                  <a:pt x="1340" y="599"/>
                </a:lnTo>
                <a:lnTo>
                  <a:pt x="1333" y="586"/>
                </a:lnTo>
                <a:lnTo>
                  <a:pt x="1324" y="572"/>
                </a:lnTo>
                <a:lnTo>
                  <a:pt x="1316" y="557"/>
                </a:lnTo>
                <a:lnTo>
                  <a:pt x="1306" y="542"/>
                </a:lnTo>
                <a:lnTo>
                  <a:pt x="1298" y="526"/>
                </a:lnTo>
                <a:lnTo>
                  <a:pt x="1287" y="512"/>
                </a:lnTo>
                <a:lnTo>
                  <a:pt x="1278" y="497"/>
                </a:lnTo>
                <a:lnTo>
                  <a:pt x="1268" y="482"/>
                </a:lnTo>
                <a:lnTo>
                  <a:pt x="1258" y="468"/>
                </a:lnTo>
                <a:lnTo>
                  <a:pt x="1249" y="454"/>
                </a:lnTo>
                <a:lnTo>
                  <a:pt x="1240" y="441"/>
                </a:lnTo>
                <a:lnTo>
                  <a:pt x="1230" y="430"/>
                </a:lnTo>
                <a:lnTo>
                  <a:pt x="1222" y="418"/>
                </a:lnTo>
                <a:lnTo>
                  <a:pt x="1213" y="408"/>
                </a:lnTo>
                <a:lnTo>
                  <a:pt x="1204" y="397"/>
                </a:lnTo>
                <a:lnTo>
                  <a:pt x="1192" y="386"/>
                </a:lnTo>
                <a:lnTo>
                  <a:pt x="1182" y="373"/>
                </a:lnTo>
                <a:lnTo>
                  <a:pt x="1170" y="362"/>
                </a:lnTo>
                <a:lnTo>
                  <a:pt x="1158" y="348"/>
                </a:lnTo>
                <a:lnTo>
                  <a:pt x="1146" y="336"/>
                </a:lnTo>
                <a:lnTo>
                  <a:pt x="1135" y="323"/>
                </a:lnTo>
                <a:lnTo>
                  <a:pt x="1122" y="312"/>
                </a:lnTo>
                <a:lnTo>
                  <a:pt x="1110" y="300"/>
                </a:lnTo>
                <a:lnTo>
                  <a:pt x="1098" y="288"/>
                </a:lnTo>
                <a:lnTo>
                  <a:pt x="1087" y="277"/>
                </a:lnTo>
                <a:lnTo>
                  <a:pt x="1076" y="268"/>
                </a:lnTo>
                <a:lnTo>
                  <a:pt x="1065" y="258"/>
                </a:lnTo>
                <a:lnTo>
                  <a:pt x="1056" y="250"/>
                </a:lnTo>
                <a:lnTo>
                  <a:pt x="1047" y="242"/>
                </a:lnTo>
                <a:lnTo>
                  <a:pt x="1038" y="237"/>
                </a:lnTo>
                <a:lnTo>
                  <a:pt x="1029" y="230"/>
                </a:lnTo>
                <a:lnTo>
                  <a:pt x="1020" y="224"/>
                </a:lnTo>
                <a:lnTo>
                  <a:pt x="1012" y="217"/>
                </a:lnTo>
                <a:lnTo>
                  <a:pt x="1003" y="211"/>
                </a:lnTo>
                <a:lnTo>
                  <a:pt x="995" y="204"/>
                </a:lnTo>
                <a:lnTo>
                  <a:pt x="986" y="197"/>
                </a:lnTo>
                <a:lnTo>
                  <a:pt x="979" y="189"/>
                </a:lnTo>
                <a:lnTo>
                  <a:pt x="970" y="184"/>
                </a:lnTo>
                <a:lnTo>
                  <a:pt x="962" y="178"/>
                </a:lnTo>
                <a:lnTo>
                  <a:pt x="955" y="173"/>
                </a:lnTo>
                <a:lnTo>
                  <a:pt x="950" y="167"/>
                </a:lnTo>
                <a:lnTo>
                  <a:pt x="943" y="164"/>
                </a:lnTo>
                <a:lnTo>
                  <a:pt x="938" y="159"/>
                </a:lnTo>
                <a:lnTo>
                  <a:pt x="934" y="156"/>
                </a:lnTo>
                <a:lnTo>
                  <a:pt x="931" y="152"/>
                </a:lnTo>
                <a:lnTo>
                  <a:pt x="927" y="151"/>
                </a:lnTo>
                <a:lnTo>
                  <a:pt x="923" y="149"/>
                </a:lnTo>
                <a:lnTo>
                  <a:pt x="918" y="148"/>
                </a:lnTo>
                <a:lnTo>
                  <a:pt x="913" y="144"/>
                </a:lnTo>
                <a:lnTo>
                  <a:pt x="907" y="142"/>
                </a:lnTo>
                <a:lnTo>
                  <a:pt x="901" y="138"/>
                </a:lnTo>
                <a:lnTo>
                  <a:pt x="894" y="135"/>
                </a:lnTo>
                <a:lnTo>
                  <a:pt x="888" y="131"/>
                </a:lnTo>
                <a:lnTo>
                  <a:pt x="881" y="129"/>
                </a:lnTo>
                <a:lnTo>
                  <a:pt x="873" y="126"/>
                </a:lnTo>
                <a:lnTo>
                  <a:pt x="866" y="122"/>
                </a:lnTo>
                <a:lnTo>
                  <a:pt x="860" y="119"/>
                </a:lnTo>
                <a:lnTo>
                  <a:pt x="852" y="117"/>
                </a:lnTo>
                <a:lnTo>
                  <a:pt x="845" y="113"/>
                </a:lnTo>
                <a:lnTo>
                  <a:pt x="838" y="110"/>
                </a:lnTo>
                <a:lnTo>
                  <a:pt x="833" y="106"/>
                </a:lnTo>
                <a:lnTo>
                  <a:pt x="825" y="104"/>
                </a:lnTo>
                <a:lnTo>
                  <a:pt x="818" y="102"/>
                </a:lnTo>
                <a:lnTo>
                  <a:pt x="808" y="99"/>
                </a:lnTo>
                <a:lnTo>
                  <a:pt x="799" y="96"/>
                </a:lnTo>
                <a:lnTo>
                  <a:pt x="788" y="92"/>
                </a:lnTo>
                <a:lnTo>
                  <a:pt x="778" y="89"/>
                </a:lnTo>
                <a:lnTo>
                  <a:pt x="767" y="85"/>
                </a:lnTo>
                <a:lnTo>
                  <a:pt x="755" y="81"/>
                </a:lnTo>
                <a:lnTo>
                  <a:pt x="742" y="78"/>
                </a:lnTo>
                <a:lnTo>
                  <a:pt x="731" y="74"/>
                </a:lnTo>
                <a:lnTo>
                  <a:pt x="718" y="71"/>
                </a:lnTo>
                <a:lnTo>
                  <a:pt x="707" y="67"/>
                </a:lnTo>
                <a:lnTo>
                  <a:pt x="696" y="65"/>
                </a:lnTo>
                <a:lnTo>
                  <a:pt x="684" y="61"/>
                </a:lnTo>
                <a:lnTo>
                  <a:pt x="674" y="59"/>
                </a:lnTo>
                <a:lnTo>
                  <a:pt x="664" y="55"/>
                </a:lnTo>
                <a:lnTo>
                  <a:pt x="654" y="53"/>
                </a:lnTo>
                <a:lnTo>
                  <a:pt x="643" y="51"/>
                </a:lnTo>
                <a:lnTo>
                  <a:pt x="630" y="50"/>
                </a:lnTo>
                <a:lnTo>
                  <a:pt x="619" y="46"/>
                </a:lnTo>
                <a:lnTo>
                  <a:pt x="606" y="44"/>
                </a:lnTo>
                <a:lnTo>
                  <a:pt x="592" y="40"/>
                </a:lnTo>
                <a:lnTo>
                  <a:pt x="580" y="38"/>
                </a:lnTo>
                <a:lnTo>
                  <a:pt x="566" y="34"/>
                </a:lnTo>
                <a:lnTo>
                  <a:pt x="552" y="32"/>
                </a:lnTo>
                <a:lnTo>
                  <a:pt x="540" y="31"/>
                </a:lnTo>
                <a:lnTo>
                  <a:pt x="526" y="29"/>
                </a:lnTo>
                <a:lnTo>
                  <a:pt x="514" y="26"/>
                </a:lnTo>
                <a:lnTo>
                  <a:pt x="503" y="24"/>
                </a:lnTo>
                <a:lnTo>
                  <a:pt x="492" y="23"/>
                </a:lnTo>
                <a:lnTo>
                  <a:pt x="482" y="21"/>
                </a:lnTo>
                <a:lnTo>
                  <a:pt x="473" y="19"/>
                </a:lnTo>
                <a:lnTo>
                  <a:pt x="464" y="19"/>
                </a:lnTo>
                <a:lnTo>
                  <a:pt x="455" y="17"/>
                </a:lnTo>
                <a:lnTo>
                  <a:pt x="443" y="17"/>
                </a:lnTo>
                <a:lnTo>
                  <a:pt x="432" y="15"/>
                </a:lnTo>
                <a:lnTo>
                  <a:pt x="419" y="15"/>
                </a:lnTo>
                <a:lnTo>
                  <a:pt x="406" y="13"/>
                </a:lnTo>
                <a:lnTo>
                  <a:pt x="394" y="13"/>
                </a:lnTo>
                <a:lnTo>
                  <a:pt x="380" y="11"/>
                </a:lnTo>
                <a:lnTo>
                  <a:pt x="365" y="11"/>
                </a:lnTo>
                <a:lnTo>
                  <a:pt x="352" y="10"/>
                </a:lnTo>
                <a:lnTo>
                  <a:pt x="339" y="10"/>
                </a:lnTo>
                <a:lnTo>
                  <a:pt x="326" y="8"/>
                </a:lnTo>
                <a:lnTo>
                  <a:pt x="313" y="8"/>
                </a:lnTo>
                <a:lnTo>
                  <a:pt x="301" y="6"/>
                </a:lnTo>
                <a:lnTo>
                  <a:pt x="290" y="6"/>
                </a:lnTo>
                <a:lnTo>
                  <a:pt x="279" y="4"/>
                </a:lnTo>
                <a:lnTo>
                  <a:pt x="268" y="4"/>
                </a:lnTo>
                <a:lnTo>
                  <a:pt x="258" y="4"/>
                </a:lnTo>
                <a:lnTo>
                  <a:pt x="245" y="4"/>
                </a:lnTo>
                <a:lnTo>
                  <a:pt x="233" y="3"/>
                </a:lnTo>
                <a:lnTo>
                  <a:pt x="219" y="3"/>
                </a:lnTo>
                <a:lnTo>
                  <a:pt x="206" y="3"/>
                </a:lnTo>
                <a:lnTo>
                  <a:pt x="193" y="3"/>
                </a:lnTo>
                <a:lnTo>
                  <a:pt x="180" y="1"/>
                </a:lnTo>
                <a:lnTo>
                  <a:pt x="166" y="1"/>
                </a:lnTo>
                <a:lnTo>
                  <a:pt x="152" y="1"/>
                </a:lnTo>
                <a:lnTo>
                  <a:pt x="140" y="1"/>
                </a:lnTo>
                <a:lnTo>
                  <a:pt x="128" y="1"/>
                </a:lnTo>
                <a:lnTo>
                  <a:pt x="115" y="1"/>
                </a:lnTo>
                <a:lnTo>
                  <a:pt x="104" y="1"/>
                </a:lnTo>
                <a:lnTo>
                  <a:pt x="94" y="1"/>
                </a:lnTo>
                <a:lnTo>
                  <a:pt x="86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66" y="0"/>
                </a:lnTo>
                <a:lnTo>
                  <a:pt x="63" y="0"/>
                </a:lnTo>
                <a:lnTo>
                  <a:pt x="62" y="0"/>
                </a:lnTo>
                <a:lnTo>
                  <a:pt x="60" y="0"/>
                </a:lnTo>
                <a:lnTo>
                  <a:pt x="59" y="0"/>
                </a:lnTo>
                <a:lnTo>
                  <a:pt x="55" y="0"/>
                </a:lnTo>
                <a:lnTo>
                  <a:pt x="53" y="0"/>
                </a:lnTo>
                <a:lnTo>
                  <a:pt x="48" y="0"/>
                </a:lnTo>
                <a:lnTo>
                  <a:pt x="43" y="0"/>
                </a:lnTo>
                <a:lnTo>
                  <a:pt x="35" y="0"/>
                </a:lnTo>
                <a:lnTo>
                  <a:pt x="25" y="0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19280" y="2368440"/>
            <a:ext cx="3397320" cy="3322800"/>
          </a:xfrm>
          <a:custGeom>
            <a:avLst/>
            <a:gdLst/>
            <a:ahLst/>
            <a:rect l="l" t="t" r="r" b="b"/>
            <a:pathLst>
              <a:path w="2140" h="2093">
                <a:moveTo>
                  <a:pt x="2139" y="2092"/>
                </a:moveTo>
                <a:lnTo>
                  <a:pt x="2135" y="2075"/>
                </a:lnTo>
                <a:lnTo>
                  <a:pt x="2133" y="2060"/>
                </a:lnTo>
                <a:lnTo>
                  <a:pt x="2131" y="2049"/>
                </a:lnTo>
                <a:lnTo>
                  <a:pt x="2129" y="2039"/>
                </a:lnTo>
                <a:lnTo>
                  <a:pt x="2127" y="2033"/>
                </a:lnTo>
                <a:lnTo>
                  <a:pt x="2127" y="2027"/>
                </a:lnTo>
                <a:lnTo>
                  <a:pt x="2126" y="2024"/>
                </a:lnTo>
                <a:lnTo>
                  <a:pt x="2126" y="2020"/>
                </a:lnTo>
                <a:lnTo>
                  <a:pt x="2125" y="2018"/>
                </a:lnTo>
                <a:lnTo>
                  <a:pt x="2125" y="2017"/>
                </a:lnTo>
                <a:lnTo>
                  <a:pt x="2124" y="2015"/>
                </a:lnTo>
                <a:lnTo>
                  <a:pt x="2124" y="2012"/>
                </a:lnTo>
                <a:lnTo>
                  <a:pt x="2123" y="2008"/>
                </a:lnTo>
                <a:lnTo>
                  <a:pt x="2123" y="2004"/>
                </a:lnTo>
                <a:lnTo>
                  <a:pt x="2121" y="1997"/>
                </a:lnTo>
                <a:lnTo>
                  <a:pt x="2120" y="1987"/>
                </a:lnTo>
                <a:lnTo>
                  <a:pt x="2117" y="1977"/>
                </a:lnTo>
                <a:lnTo>
                  <a:pt x="2114" y="1962"/>
                </a:lnTo>
                <a:lnTo>
                  <a:pt x="2109" y="1945"/>
                </a:lnTo>
                <a:lnTo>
                  <a:pt x="2105" y="1925"/>
                </a:lnTo>
                <a:lnTo>
                  <a:pt x="2099" y="1904"/>
                </a:lnTo>
                <a:lnTo>
                  <a:pt x="2093" y="1880"/>
                </a:lnTo>
                <a:lnTo>
                  <a:pt x="2086" y="1855"/>
                </a:lnTo>
                <a:lnTo>
                  <a:pt x="2079" y="1828"/>
                </a:lnTo>
                <a:lnTo>
                  <a:pt x="2071" y="1801"/>
                </a:lnTo>
                <a:lnTo>
                  <a:pt x="2063" y="1773"/>
                </a:lnTo>
                <a:lnTo>
                  <a:pt x="2055" y="1745"/>
                </a:lnTo>
                <a:lnTo>
                  <a:pt x="2047" y="1716"/>
                </a:lnTo>
                <a:lnTo>
                  <a:pt x="2038" y="1688"/>
                </a:lnTo>
                <a:lnTo>
                  <a:pt x="2030" y="1659"/>
                </a:lnTo>
                <a:lnTo>
                  <a:pt x="2021" y="1632"/>
                </a:lnTo>
                <a:lnTo>
                  <a:pt x="2013" y="1604"/>
                </a:lnTo>
                <a:lnTo>
                  <a:pt x="2004" y="1579"/>
                </a:lnTo>
                <a:lnTo>
                  <a:pt x="1996" y="1550"/>
                </a:lnTo>
                <a:lnTo>
                  <a:pt x="1986" y="1522"/>
                </a:lnTo>
                <a:lnTo>
                  <a:pt x="1977" y="1492"/>
                </a:lnTo>
                <a:lnTo>
                  <a:pt x="1965" y="1462"/>
                </a:lnTo>
                <a:lnTo>
                  <a:pt x="1955" y="1432"/>
                </a:lnTo>
                <a:lnTo>
                  <a:pt x="1943" y="1403"/>
                </a:lnTo>
                <a:lnTo>
                  <a:pt x="1934" y="1373"/>
                </a:lnTo>
                <a:lnTo>
                  <a:pt x="1923" y="1345"/>
                </a:lnTo>
                <a:lnTo>
                  <a:pt x="1912" y="1317"/>
                </a:lnTo>
                <a:lnTo>
                  <a:pt x="1902" y="1292"/>
                </a:lnTo>
                <a:lnTo>
                  <a:pt x="1893" y="1267"/>
                </a:lnTo>
                <a:lnTo>
                  <a:pt x="1883" y="1245"/>
                </a:lnTo>
                <a:lnTo>
                  <a:pt x="1875" y="1225"/>
                </a:lnTo>
                <a:lnTo>
                  <a:pt x="1867" y="1207"/>
                </a:lnTo>
                <a:lnTo>
                  <a:pt x="1861" y="1192"/>
                </a:lnTo>
                <a:lnTo>
                  <a:pt x="1853" y="1180"/>
                </a:lnTo>
                <a:lnTo>
                  <a:pt x="1846" y="1164"/>
                </a:lnTo>
                <a:lnTo>
                  <a:pt x="1837" y="1148"/>
                </a:lnTo>
                <a:lnTo>
                  <a:pt x="1829" y="1128"/>
                </a:lnTo>
                <a:lnTo>
                  <a:pt x="1817" y="1109"/>
                </a:lnTo>
                <a:lnTo>
                  <a:pt x="1807" y="1088"/>
                </a:lnTo>
                <a:lnTo>
                  <a:pt x="1796" y="1066"/>
                </a:lnTo>
                <a:lnTo>
                  <a:pt x="1785" y="1044"/>
                </a:lnTo>
                <a:lnTo>
                  <a:pt x="1773" y="1022"/>
                </a:lnTo>
                <a:lnTo>
                  <a:pt x="1762" y="1000"/>
                </a:lnTo>
                <a:lnTo>
                  <a:pt x="1751" y="978"/>
                </a:lnTo>
                <a:lnTo>
                  <a:pt x="1739" y="955"/>
                </a:lnTo>
                <a:lnTo>
                  <a:pt x="1728" y="935"/>
                </a:lnTo>
                <a:lnTo>
                  <a:pt x="1717" y="914"/>
                </a:lnTo>
                <a:lnTo>
                  <a:pt x="1707" y="895"/>
                </a:lnTo>
                <a:lnTo>
                  <a:pt x="1699" y="877"/>
                </a:lnTo>
                <a:lnTo>
                  <a:pt x="1689" y="861"/>
                </a:lnTo>
                <a:lnTo>
                  <a:pt x="1679" y="842"/>
                </a:lnTo>
                <a:lnTo>
                  <a:pt x="1668" y="824"/>
                </a:lnTo>
                <a:lnTo>
                  <a:pt x="1658" y="803"/>
                </a:lnTo>
                <a:lnTo>
                  <a:pt x="1647" y="782"/>
                </a:lnTo>
                <a:lnTo>
                  <a:pt x="1636" y="762"/>
                </a:lnTo>
                <a:lnTo>
                  <a:pt x="1625" y="741"/>
                </a:lnTo>
                <a:lnTo>
                  <a:pt x="1614" y="719"/>
                </a:lnTo>
                <a:lnTo>
                  <a:pt x="1603" y="700"/>
                </a:lnTo>
                <a:lnTo>
                  <a:pt x="1591" y="680"/>
                </a:lnTo>
                <a:lnTo>
                  <a:pt x="1581" y="661"/>
                </a:lnTo>
                <a:lnTo>
                  <a:pt x="1571" y="643"/>
                </a:lnTo>
                <a:lnTo>
                  <a:pt x="1562" y="626"/>
                </a:lnTo>
                <a:lnTo>
                  <a:pt x="1553" y="610"/>
                </a:lnTo>
                <a:lnTo>
                  <a:pt x="1546" y="596"/>
                </a:lnTo>
                <a:lnTo>
                  <a:pt x="1540" y="584"/>
                </a:lnTo>
                <a:lnTo>
                  <a:pt x="1532" y="573"/>
                </a:lnTo>
                <a:lnTo>
                  <a:pt x="1525" y="562"/>
                </a:lnTo>
                <a:lnTo>
                  <a:pt x="1516" y="548"/>
                </a:lnTo>
                <a:lnTo>
                  <a:pt x="1507" y="534"/>
                </a:lnTo>
                <a:lnTo>
                  <a:pt x="1495" y="520"/>
                </a:lnTo>
                <a:lnTo>
                  <a:pt x="1485" y="505"/>
                </a:lnTo>
                <a:lnTo>
                  <a:pt x="1473" y="490"/>
                </a:lnTo>
                <a:lnTo>
                  <a:pt x="1462" y="473"/>
                </a:lnTo>
                <a:lnTo>
                  <a:pt x="1449" y="458"/>
                </a:lnTo>
                <a:lnTo>
                  <a:pt x="1437" y="443"/>
                </a:lnTo>
                <a:lnTo>
                  <a:pt x="1424" y="428"/>
                </a:lnTo>
                <a:lnTo>
                  <a:pt x="1413" y="412"/>
                </a:lnTo>
                <a:lnTo>
                  <a:pt x="1401" y="399"/>
                </a:lnTo>
                <a:lnTo>
                  <a:pt x="1389" y="386"/>
                </a:lnTo>
                <a:lnTo>
                  <a:pt x="1378" y="374"/>
                </a:lnTo>
                <a:lnTo>
                  <a:pt x="1369" y="361"/>
                </a:lnTo>
                <a:lnTo>
                  <a:pt x="1357" y="352"/>
                </a:lnTo>
                <a:lnTo>
                  <a:pt x="1346" y="340"/>
                </a:lnTo>
                <a:lnTo>
                  <a:pt x="1334" y="329"/>
                </a:lnTo>
                <a:lnTo>
                  <a:pt x="1321" y="316"/>
                </a:lnTo>
                <a:lnTo>
                  <a:pt x="1307" y="305"/>
                </a:lnTo>
                <a:lnTo>
                  <a:pt x="1293" y="292"/>
                </a:lnTo>
                <a:lnTo>
                  <a:pt x="1278" y="280"/>
                </a:lnTo>
                <a:lnTo>
                  <a:pt x="1265" y="266"/>
                </a:lnTo>
                <a:lnTo>
                  <a:pt x="1250" y="255"/>
                </a:lnTo>
                <a:lnTo>
                  <a:pt x="1236" y="243"/>
                </a:lnTo>
                <a:lnTo>
                  <a:pt x="1222" y="232"/>
                </a:lnTo>
                <a:lnTo>
                  <a:pt x="1209" y="221"/>
                </a:lnTo>
                <a:lnTo>
                  <a:pt x="1196" y="212"/>
                </a:lnTo>
                <a:lnTo>
                  <a:pt x="1183" y="202"/>
                </a:lnTo>
                <a:lnTo>
                  <a:pt x="1172" y="194"/>
                </a:lnTo>
                <a:lnTo>
                  <a:pt x="1162" y="186"/>
                </a:lnTo>
                <a:lnTo>
                  <a:pt x="1151" y="181"/>
                </a:lnTo>
                <a:lnTo>
                  <a:pt x="1142" y="175"/>
                </a:lnTo>
                <a:lnTo>
                  <a:pt x="1131" y="170"/>
                </a:lnTo>
                <a:lnTo>
                  <a:pt x="1122" y="162"/>
                </a:lnTo>
                <a:lnTo>
                  <a:pt x="1111" y="156"/>
                </a:lnTo>
                <a:lnTo>
                  <a:pt x="1102" y="150"/>
                </a:lnTo>
                <a:lnTo>
                  <a:pt x="1092" y="144"/>
                </a:lnTo>
                <a:lnTo>
                  <a:pt x="1083" y="136"/>
                </a:lnTo>
                <a:lnTo>
                  <a:pt x="1073" y="132"/>
                </a:lnTo>
                <a:lnTo>
                  <a:pt x="1063" y="126"/>
                </a:lnTo>
                <a:lnTo>
                  <a:pt x="1055" y="122"/>
                </a:lnTo>
                <a:lnTo>
                  <a:pt x="1049" y="116"/>
                </a:lnTo>
                <a:lnTo>
                  <a:pt x="1041" y="113"/>
                </a:lnTo>
                <a:lnTo>
                  <a:pt x="1035" y="109"/>
                </a:lnTo>
                <a:lnTo>
                  <a:pt x="1031" y="106"/>
                </a:lnTo>
                <a:lnTo>
                  <a:pt x="1028" y="104"/>
                </a:lnTo>
                <a:lnTo>
                  <a:pt x="1023" y="102"/>
                </a:lnTo>
                <a:lnTo>
                  <a:pt x="1019" y="100"/>
                </a:lnTo>
                <a:lnTo>
                  <a:pt x="1014" y="98"/>
                </a:lnTo>
                <a:lnTo>
                  <a:pt x="1008" y="94"/>
                </a:lnTo>
                <a:lnTo>
                  <a:pt x="1001" y="92"/>
                </a:lnTo>
                <a:lnTo>
                  <a:pt x="994" y="88"/>
                </a:lnTo>
                <a:lnTo>
                  <a:pt x="987" y="87"/>
                </a:lnTo>
                <a:lnTo>
                  <a:pt x="979" y="83"/>
                </a:lnTo>
                <a:lnTo>
                  <a:pt x="970" y="81"/>
                </a:lnTo>
                <a:lnTo>
                  <a:pt x="963" y="77"/>
                </a:lnTo>
                <a:lnTo>
                  <a:pt x="954" y="75"/>
                </a:lnTo>
                <a:lnTo>
                  <a:pt x="947" y="72"/>
                </a:lnTo>
                <a:lnTo>
                  <a:pt x="939" y="70"/>
                </a:lnTo>
                <a:lnTo>
                  <a:pt x="931" y="67"/>
                </a:lnTo>
                <a:lnTo>
                  <a:pt x="924" y="66"/>
                </a:lnTo>
                <a:lnTo>
                  <a:pt x="917" y="62"/>
                </a:lnTo>
                <a:lnTo>
                  <a:pt x="909" y="60"/>
                </a:lnTo>
                <a:lnTo>
                  <a:pt x="900" y="58"/>
                </a:lnTo>
                <a:lnTo>
                  <a:pt x="889" y="57"/>
                </a:lnTo>
                <a:lnTo>
                  <a:pt x="879" y="53"/>
                </a:lnTo>
                <a:lnTo>
                  <a:pt x="867" y="51"/>
                </a:lnTo>
                <a:lnTo>
                  <a:pt x="855" y="47"/>
                </a:lnTo>
                <a:lnTo>
                  <a:pt x="842" y="46"/>
                </a:lnTo>
                <a:lnTo>
                  <a:pt x="830" y="42"/>
                </a:lnTo>
                <a:lnTo>
                  <a:pt x="816" y="40"/>
                </a:lnTo>
                <a:lnTo>
                  <a:pt x="803" y="37"/>
                </a:lnTo>
                <a:lnTo>
                  <a:pt x="790" y="35"/>
                </a:lnTo>
                <a:lnTo>
                  <a:pt x="777" y="31"/>
                </a:lnTo>
                <a:lnTo>
                  <a:pt x="763" y="29"/>
                </a:lnTo>
                <a:lnTo>
                  <a:pt x="750" y="27"/>
                </a:lnTo>
                <a:lnTo>
                  <a:pt x="739" y="25"/>
                </a:lnTo>
                <a:lnTo>
                  <a:pt x="728" y="21"/>
                </a:lnTo>
                <a:lnTo>
                  <a:pt x="716" y="21"/>
                </a:lnTo>
                <a:lnTo>
                  <a:pt x="705" y="19"/>
                </a:lnTo>
                <a:lnTo>
                  <a:pt x="692" y="17"/>
                </a:lnTo>
                <a:lnTo>
                  <a:pt x="679" y="16"/>
                </a:lnTo>
                <a:lnTo>
                  <a:pt x="664" y="14"/>
                </a:lnTo>
                <a:lnTo>
                  <a:pt x="651" y="12"/>
                </a:lnTo>
                <a:lnTo>
                  <a:pt x="635" y="10"/>
                </a:lnTo>
                <a:lnTo>
                  <a:pt x="622" y="9"/>
                </a:lnTo>
                <a:lnTo>
                  <a:pt x="607" y="9"/>
                </a:lnTo>
                <a:lnTo>
                  <a:pt x="592" y="7"/>
                </a:lnTo>
                <a:lnTo>
                  <a:pt x="578" y="6"/>
                </a:lnTo>
                <a:lnTo>
                  <a:pt x="565" y="4"/>
                </a:lnTo>
                <a:lnTo>
                  <a:pt x="552" y="4"/>
                </a:lnTo>
                <a:lnTo>
                  <a:pt x="540" y="2"/>
                </a:lnTo>
                <a:lnTo>
                  <a:pt x="529" y="2"/>
                </a:lnTo>
                <a:lnTo>
                  <a:pt x="520" y="0"/>
                </a:lnTo>
                <a:lnTo>
                  <a:pt x="509" y="0"/>
                </a:lnTo>
                <a:lnTo>
                  <a:pt x="499" y="0"/>
                </a:lnTo>
                <a:lnTo>
                  <a:pt x="486" y="0"/>
                </a:lnTo>
                <a:lnTo>
                  <a:pt x="475" y="0"/>
                </a:lnTo>
                <a:lnTo>
                  <a:pt x="460" y="0"/>
                </a:lnTo>
                <a:lnTo>
                  <a:pt x="447" y="0"/>
                </a:lnTo>
                <a:lnTo>
                  <a:pt x="431" y="0"/>
                </a:lnTo>
                <a:lnTo>
                  <a:pt x="418" y="0"/>
                </a:lnTo>
                <a:lnTo>
                  <a:pt x="402" y="1"/>
                </a:lnTo>
                <a:lnTo>
                  <a:pt x="387" y="1"/>
                </a:lnTo>
                <a:lnTo>
                  <a:pt x="372" y="1"/>
                </a:lnTo>
                <a:lnTo>
                  <a:pt x="358" y="1"/>
                </a:lnTo>
                <a:lnTo>
                  <a:pt x="343" y="2"/>
                </a:lnTo>
                <a:lnTo>
                  <a:pt x="330" y="2"/>
                </a:lnTo>
                <a:lnTo>
                  <a:pt x="318" y="2"/>
                </a:lnTo>
                <a:lnTo>
                  <a:pt x="307" y="2"/>
                </a:lnTo>
                <a:lnTo>
                  <a:pt x="295" y="4"/>
                </a:lnTo>
                <a:lnTo>
                  <a:pt x="282" y="4"/>
                </a:lnTo>
                <a:lnTo>
                  <a:pt x="268" y="6"/>
                </a:lnTo>
                <a:lnTo>
                  <a:pt x="255" y="6"/>
                </a:lnTo>
                <a:lnTo>
                  <a:pt x="240" y="7"/>
                </a:lnTo>
                <a:lnTo>
                  <a:pt x="225" y="7"/>
                </a:lnTo>
                <a:lnTo>
                  <a:pt x="210" y="9"/>
                </a:lnTo>
                <a:lnTo>
                  <a:pt x="195" y="9"/>
                </a:lnTo>
                <a:lnTo>
                  <a:pt x="180" y="11"/>
                </a:lnTo>
                <a:lnTo>
                  <a:pt x="165" y="11"/>
                </a:lnTo>
                <a:lnTo>
                  <a:pt x="151" y="13"/>
                </a:lnTo>
                <a:lnTo>
                  <a:pt x="137" y="13"/>
                </a:lnTo>
                <a:lnTo>
                  <a:pt x="125" y="15"/>
                </a:lnTo>
                <a:lnTo>
                  <a:pt x="113" y="15"/>
                </a:lnTo>
                <a:lnTo>
                  <a:pt x="103" y="16"/>
                </a:lnTo>
                <a:lnTo>
                  <a:pt x="94" y="16"/>
                </a:lnTo>
                <a:lnTo>
                  <a:pt x="85" y="18"/>
                </a:lnTo>
                <a:lnTo>
                  <a:pt x="79" y="18"/>
                </a:lnTo>
                <a:lnTo>
                  <a:pt x="75" y="18"/>
                </a:lnTo>
                <a:lnTo>
                  <a:pt x="73" y="18"/>
                </a:lnTo>
                <a:lnTo>
                  <a:pt x="70" y="19"/>
                </a:lnTo>
                <a:lnTo>
                  <a:pt x="68" y="19"/>
                </a:lnTo>
                <a:lnTo>
                  <a:pt x="67" y="19"/>
                </a:lnTo>
                <a:lnTo>
                  <a:pt x="65" y="19"/>
                </a:lnTo>
                <a:lnTo>
                  <a:pt x="61" y="20"/>
                </a:lnTo>
                <a:lnTo>
                  <a:pt x="58" y="20"/>
                </a:lnTo>
                <a:lnTo>
                  <a:pt x="53" y="20"/>
                </a:lnTo>
                <a:lnTo>
                  <a:pt x="47" y="20"/>
                </a:lnTo>
                <a:lnTo>
                  <a:pt x="38" y="22"/>
                </a:lnTo>
                <a:lnTo>
                  <a:pt x="28" y="22"/>
                </a:lnTo>
                <a:lnTo>
                  <a:pt x="15" y="24"/>
                </a:lnTo>
                <a:lnTo>
                  <a:pt x="0" y="2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25760" y="3768840"/>
            <a:ext cx="2481120" cy="2855880"/>
          </a:xfrm>
          <a:custGeom>
            <a:avLst/>
            <a:gdLst/>
            <a:ahLst/>
            <a:rect l="l" t="t" r="r" b="b"/>
            <a:pathLst>
              <a:path w="1563" h="1799">
                <a:moveTo>
                  <a:pt x="1562" y="1798"/>
                </a:moveTo>
                <a:lnTo>
                  <a:pt x="1560" y="1784"/>
                </a:lnTo>
                <a:lnTo>
                  <a:pt x="1559" y="1772"/>
                </a:lnTo>
                <a:lnTo>
                  <a:pt x="1557" y="1764"/>
                </a:lnTo>
                <a:lnTo>
                  <a:pt x="1557" y="1756"/>
                </a:lnTo>
                <a:lnTo>
                  <a:pt x="1556" y="1750"/>
                </a:lnTo>
                <a:lnTo>
                  <a:pt x="1556" y="1746"/>
                </a:lnTo>
                <a:lnTo>
                  <a:pt x="1556" y="1743"/>
                </a:lnTo>
                <a:lnTo>
                  <a:pt x="1556" y="1740"/>
                </a:lnTo>
                <a:lnTo>
                  <a:pt x="1556" y="1739"/>
                </a:lnTo>
                <a:lnTo>
                  <a:pt x="1556" y="1738"/>
                </a:lnTo>
                <a:lnTo>
                  <a:pt x="1556" y="1736"/>
                </a:lnTo>
                <a:lnTo>
                  <a:pt x="1556" y="1733"/>
                </a:lnTo>
                <a:lnTo>
                  <a:pt x="1554" y="1730"/>
                </a:lnTo>
                <a:lnTo>
                  <a:pt x="1554" y="1726"/>
                </a:lnTo>
                <a:lnTo>
                  <a:pt x="1554" y="1720"/>
                </a:lnTo>
                <a:lnTo>
                  <a:pt x="1554" y="1712"/>
                </a:lnTo>
                <a:lnTo>
                  <a:pt x="1553" y="1704"/>
                </a:lnTo>
                <a:lnTo>
                  <a:pt x="1551" y="1692"/>
                </a:lnTo>
                <a:lnTo>
                  <a:pt x="1548" y="1678"/>
                </a:lnTo>
                <a:lnTo>
                  <a:pt x="1546" y="1661"/>
                </a:lnTo>
                <a:lnTo>
                  <a:pt x="1543" y="1644"/>
                </a:lnTo>
                <a:lnTo>
                  <a:pt x="1539" y="1625"/>
                </a:lnTo>
                <a:lnTo>
                  <a:pt x="1536" y="1605"/>
                </a:lnTo>
                <a:lnTo>
                  <a:pt x="1533" y="1583"/>
                </a:lnTo>
                <a:lnTo>
                  <a:pt x="1527" y="1561"/>
                </a:lnTo>
                <a:lnTo>
                  <a:pt x="1524" y="1538"/>
                </a:lnTo>
                <a:lnTo>
                  <a:pt x="1519" y="1515"/>
                </a:lnTo>
                <a:lnTo>
                  <a:pt x="1515" y="1491"/>
                </a:lnTo>
                <a:lnTo>
                  <a:pt x="1509" y="1468"/>
                </a:lnTo>
                <a:lnTo>
                  <a:pt x="1506" y="1445"/>
                </a:lnTo>
                <a:lnTo>
                  <a:pt x="1500" y="1423"/>
                </a:lnTo>
                <a:lnTo>
                  <a:pt x="1496" y="1400"/>
                </a:lnTo>
                <a:lnTo>
                  <a:pt x="1491" y="1379"/>
                </a:lnTo>
                <a:lnTo>
                  <a:pt x="1486" y="1356"/>
                </a:lnTo>
                <a:lnTo>
                  <a:pt x="1479" y="1332"/>
                </a:lnTo>
                <a:lnTo>
                  <a:pt x="1474" y="1308"/>
                </a:lnTo>
                <a:lnTo>
                  <a:pt x="1467" y="1283"/>
                </a:lnTo>
                <a:lnTo>
                  <a:pt x="1461" y="1259"/>
                </a:lnTo>
                <a:lnTo>
                  <a:pt x="1454" y="1234"/>
                </a:lnTo>
                <a:lnTo>
                  <a:pt x="1448" y="1210"/>
                </a:lnTo>
                <a:lnTo>
                  <a:pt x="1441" y="1187"/>
                </a:lnTo>
                <a:lnTo>
                  <a:pt x="1435" y="1165"/>
                </a:lnTo>
                <a:lnTo>
                  <a:pt x="1428" y="1143"/>
                </a:lnTo>
                <a:lnTo>
                  <a:pt x="1422" y="1124"/>
                </a:lnTo>
                <a:lnTo>
                  <a:pt x="1416" y="1106"/>
                </a:lnTo>
                <a:lnTo>
                  <a:pt x="1410" y="1089"/>
                </a:lnTo>
                <a:lnTo>
                  <a:pt x="1405" y="1075"/>
                </a:lnTo>
                <a:lnTo>
                  <a:pt x="1401" y="1062"/>
                </a:lnTo>
                <a:lnTo>
                  <a:pt x="1395" y="1052"/>
                </a:lnTo>
                <a:lnTo>
                  <a:pt x="1391" y="1039"/>
                </a:lnTo>
                <a:lnTo>
                  <a:pt x="1385" y="1025"/>
                </a:lnTo>
                <a:lnTo>
                  <a:pt x="1379" y="1009"/>
                </a:lnTo>
                <a:lnTo>
                  <a:pt x="1371" y="993"/>
                </a:lnTo>
                <a:lnTo>
                  <a:pt x="1365" y="976"/>
                </a:lnTo>
                <a:lnTo>
                  <a:pt x="1357" y="958"/>
                </a:lnTo>
                <a:lnTo>
                  <a:pt x="1351" y="939"/>
                </a:lnTo>
                <a:lnTo>
                  <a:pt x="1343" y="921"/>
                </a:lnTo>
                <a:lnTo>
                  <a:pt x="1336" y="902"/>
                </a:lnTo>
                <a:lnTo>
                  <a:pt x="1329" y="884"/>
                </a:lnTo>
                <a:lnTo>
                  <a:pt x="1321" y="866"/>
                </a:lnTo>
                <a:lnTo>
                  <a:pt x="1313" y="849"/>
                </a:lnTo>
                <a:lnTo>
                  <a:pt x="1307" y="831"/>
                </a:lnTo>
                <a:lnTo>
                  <a:pt x="1301" y="816"/>
                </a:lnTo>
                <a:lnTo>
                  <a:pt x="1295" y="800"/>
                </a:lnTo>
                <a:lnTo>
                  <a:pt x="1288" y="786"/>
                </a:lnTo>
                <a:lnTo>
                  <a:pt x="1282" y="772"/>
                </a:lnTo>
                <a:lnTo>
                  <a:pt x="1274" y="755"/>
                </a:lnTo>
                <a:lnTo>
                  <a:pt x="1268" y="738"/>
                </a:lnTo>
                <a:lnTo>
                  <a:pt x="1261" y="722"/>
                </a:lnTo>
                <a:lnTo>
                  <a:pt x="1253" y="704"/>
                </a:lnTo>
                <a:lnTo>
                  <a:pt x="1245" y="687"/>
                </a:lnTo>
                <a:lnTo>
                  <a:pt x="1239" y="668"/>
                </a:lnTo>
                <a:lnTo>
                  <a:pt x="1231" y="653"/>
                </a:lnTo>
                <a:lnTo>
                  <a:pt x="1224" y="636"/>
                </a:lnTo>
                <a:lnTo>
                  <a:pt x="1216" y="621"/>
                </a:lnTo>
                <a:lnTo>
                  <a:pt x="1210" y="605"/>
                </a:lnTo>
                <a:lnTo>
                  <a:pt x="1203" y="592"/>
                </a:lnTo>
                <a:lnTo>
                  <a:pt x="1197" y="579"/>
                </a:lnTo>
                <a:lnTo>
                  <a:pt x="1193" y="568"/>
                </a:lnTo>
                <a:lnTo>
                  <a:pt x="1189" y="557"/>
                </a:lnTo>
                <a:lnTo>
                  <a:pt x="1183" y="548"/>
                </a:lnTo>
                <a:lnTo>
                  <a:pt x="1177" y="538"/>
                </a:lnTo>
                <a:lnTo>
                  <a:pt x="1171" y="527"/>
                </a:lnTo>
                <a:lnTo>
                  <a:pt x="1164" y="514"/>
                </a:lnTo>
                <a:lnTo>
                  <a:pt x="1156" y="502"/>
                </a:lnTo>
                <a:lnTo>
                  <a:pt x="1149" y="490"/>
                </a:lnTo>
                <a:lnTo>
                  <a:pt x="1141" y="476"/>
                </a:lnTo>
                <a:lnTo>
                  <a:pt x="1133" y="462"/>
                </a:lnTo>
                <a:lnTo>
                  <a:pt x="1124" y="450"/>
                </a:lnTo>
                <a:lnTo>
                  <a:pt x="1115" y="436"/>
                </a:lnTo>
                <a:lnTo>
                  <a:pt x="1106" y="424"/>
                </a:lnTo>
                <a:lnTo>
                  <a:pt x="1098" y="411"/>
                </a:lnTo>
                <a:lnTo>
                  <a:pt x="1089" y="400"/>
                </a:lnTo>
                <a:lnTo>
                  <a:pt x="1081" y="388"/>
                </a:lnTo>
                <a:lnTo>
                  <a:pt x="1074" y="378"/>
                </a:lnTo>
                <a:lnTo>
                  <a:pt x="1067" y="367"/>
                </a:lnTo>
                <a:lnTo>
                  <a:pt x="1058" y="358"/>
                </a:lnTo>
                <a:lnTo>
                  <a:pt x="1051" y="348"/>
                </a:lnTo>
                <a:lnTo>
                  <a:pt x="1041" y="338"/>
                </a:lnTo>
                <a:lnTo>
                  <a:pt x="1033" y="327"/>
                </a:lnTo>
                <a:lnTo>
                  <a:pt x="1022" y="317"/>
                </a:lnTo>
                <a:lnTo>
                  <a:pt x="1013" y="306"/>
                </a:lnTo>
                <a:lnTo>
                  <a:pt x="1001" y="295"/>
                </a:lnTo>
                <a:lnTo>
                  <a:pt x="992" y="284"/>
                </a:lnTo>
                <a:lnTo>
                  <a:pt x="981" y="274"/>
                </a:lnTo>
                <a:lnTo>
                  <a:pt x="970" y="263"/>
                </a:lnTo>
                <a:lnTo>
                  <a:pt x="960" y="254"/>
                </a:lnTo>
                <a:lnTo>
                  <a:pt x="950" y="243"/>
                </a:lnTo>
                <a:lnTo>
                  <a:pt x="940" y="235"/>
                </a:lnTo>
                <a:lnTo>
                  <a:pt x="931" y="226"/>
                </a:lnTo>
                <a:lnTo>
                  <a:pt x="923" y="219"/>
                </a:lnTo>
                <a:lnTo>
                  <a:pt x="915" y="212"/>
                </a:lnTo>
                <a:lnTo>
                  <a:pt x="907" y="207"/>
                </a:lnTo>
                <a:lnTo>
                  <a:pt x="900" y="202"/>
                </a:lnTo>
                <a:lnTo>
                  <a:pt x="892" y="196"/>
                </a:lnTo>
                <a:lnTo>
                  <a:pt x="885" y="190"/>
                </a:lnTo>
                <a:lnTo>
                  <a:pt x="877" y="185"/>
                </a:lnTo>
                <a:lnTo>
                  <a:pt x="869" y="179"/>
                </a:lnTo>
                <a:lnTo>
                  <a:pt x="862" y="174"/>
                </a:lnTo>
                <a:lnTo>
                  <a:pt x="855" y="168"/>
                </a:lnTo>
                <a:lnTo>
                  <a:pt x="847" y="164"/>
                </a:lnTo>
                <a:lnTo>
                  <a:pt x="841" y="159"/>
                </a:lnTo>
                <a:lnTo>
                  <a:pt x="834" y="155"/>
                </a:lnTo>
                <a:lnTo>
                  <a:pt x="829" y="149"/>
                </a:lnTo>
                <a:lnTo>
                  <a:pt x="823" y="146"/>
                </a:lnTo>
                <a:lnTo>
                  <a:pt x="818" y="142"/>
                </a:lnTo>
                <a:lnTo>
                  <a:pt x="814" y="140"/>
                </a:lnTo>
                <a:lnTo>
                  <a:pt x="813" y="137"/>
                </a:lnTo>
                <a:lnTo>
                  <a:pt x="809" y="136"/>
                </a:lnTo>
                <a:lnTo>
                  <a:pt x="806" y="134"/>
                </a:lnTo>
                <a:lnTo>
                  <a:pt x="802" y="132"/>
                </a:lnTo>
                <a:lnTo>
                  <a:pt x="798" y="129"/>
                </a:lnTo>
                <a:lnTo>
                  <a:pt x="793" y="128"/>
                </a:lnTo>
                <a:lnTo>
                  <a:pt x="787" y="124"/>
                </a:lnTo>
                <a:lnTo>
                  <a:pt x="782" y="122"/>
                </a:lnTo>
                <a:lnTo>
                  <a:pt x="776" y="118"/>
                </a:lnTo>
                <a:lnTo>
                  <a:pt x="769" y="116"/>
                </a:lnTo>
                <a:lnTo>
                  <a:pt x="763" y="112"/>
                </a:lnTo>
                <a:lnTo>
                  <a:pt x="756" y="111"/>
                </a:lnTo>
                <a:lnTo>
                  <a:pt x="751" y="107"/>
                </a:lnTo>
                <a:lnTo>
                  <a:pt x="744" y="105"/>
                </a:lnTo>
                <a:lnTo>
                  <a:pt x="738" y="101"/>
                </a:lnTo>
                <a:lnTo>
                  <a:pt x="733" y="100"/>
                </a:lnTo>
                <a:lnTo>
                  <a:pt x="727" y="96"/>
                </a:lnTo>
                <a:lnTo>
                  <a:pt x="720" y="94"/>
                </a:lnTo>
                <a:lnTo>
                  <a:pt x="714" y="92"/>
                </a:lnTo>
                <a:lnTo>
                  <a:pt x="705" y="90"/>
                </a:lnTo>
                <a:lnTo>
                  <a:pt x="698" y="86"/>
                </a:lnTo>
                <a:lnTo>
                  <a:pt x="688" y="84"/>
                </a:lnTo>
                <a:lnTo>
                  <a:pt x="679" y="81"/>
                </a:lnTo>
                <a:lnTo>
                  <a:pt x="669" y="78"/>
                </a:lnTo>
                <a:lnTo>
                  <a:pt x="659" y="74"/>
                </a:lnTo>
                <a:lnTo>
                  <a:pt x="648" y="72"/>
                </a:lnTo>
                <a:lnTo>
                  <a:pt x="638" y="68"/>
                </a:lnTo>
                <a:lnTo>
                  <a:pt x="627" y="65"/>
                </a:lnTo>
                <a:lnTo>
                  <a:pt x="618" y="61"/>
                </a:lnTo>
                <a:lnTo>
                  <a:pt x="607" y="60"/>
                </a:lnTo>
                <a:lnTo>
                  <a:pt x="597" y="56"/>
                </a:lnTo>
                <a:lnTo>
                  <a:pt x="588" y="54"/>
                </a:lnTo>
                <a:lnTo>
                  <a:pt x="580" y="51"/>
                </a:lnTo>
                <a:lnTo>
                  <a:pt x="570" y="49"/>
                </a:lnTo>
                <a:lnTo>
                  <a:pt x="561" y="47"/>
                </a:lnTo>
                <a:lnTo>
                  <a:pt x="550" y="45"/>
                </a:lnTo>
                <a:lnTo>
                  <a:pt x="540" y="43"/>
                </a:lnTo>
                <a:lnTo>
                  <a:pt x="529" y="41"/>
                </a:lnTo>
                <a:lnTo>
                  <a:pt x="517" y="39"/>
                </a:lnTo>
                <a:lnTo>
                  <a:pt x="506" y="37"/>
                </a:lnTo>
                <a:lnTo>
                  <a:pt x="495" y="33"/>
                </a:lnTo>
                <a:lnTo>
                  <a:pt x="482" y="32"/>
                </a:lnTo>
                <a:lnTo>
                  <a:pt x="471" y="30"/>
                </a:lnTo>
                <a:lnTo>
                  <a:pt x="460" y="28"/>
                </a:lnTo>
                <a:lnTo>
                  <a:pt x="449" y="25"/>
                </a:lnTo>
                <a:lnTo>
                  <a:pt x="439" y="24"/>
                </a:lnTo>
                <a:lnTo>
                  <a:pt x="429" y="23"/>
                </a:lnTo>
                <a:lnTo>
                  <a:pt x="421" y="21"/>
                </a:lnTo>
                <a:lnTo>
                  <a:pt x="413" y="19"/>
                </a:lnTo>
                <a:lnTo>
                  <a:pt x="404" y="19"/>
                </a:lnTo>
                <a:lnTo>
                  <a:pt x="396" y="18"/>
                </a:lnTo>
                <a:lnTo>
                  <a:pt x="387" y="18"/>
                </a:lnTo>
                <a:lnTo>
                  <a:pt x="377" y="16"/>
                </a:lnTo>
                <a:lnTo>
                  <a:pt x="366" y="16"/>
                </a:lnTo>
                <a:lnTo>
                  <a:pt x="355" y="14"/>
                </a:lnTo>
                <a:lnTo>
                  <a:pt x="344" y="14"/>
                </a:lnTo>
                <a:lnTo>
                  <a:pt x="333" y="12"/>
                </a:lnTo>
                <a:lnTo>
                  <a:pt x="319" y="12"/>
                </a:lnTo>
                <a:lnTo>
                  <a:pt x="308" y="12"/>
                </a:lnTo>
                <a:lnTo>
                  <a:pt x="296" y="12"/>
                </a:lnTo>
                <a:lnTo>
                  <a:pt x="285" y="10"/>
                </a:lnTo>
                <a:lnTo>
                  <a:pt x="273" y="10"/>
                </a:lnTo>
                <a:lnTo>
                  <a:pt x="262" y="8"/>
                </a:lnTo>
                <a:lnTo>
                  <a:pt x="252" y="8"/>
                </a:lnTo>
                <a:lnTo>
                  <a:pt x="243" y="6"/>
                </a:lnTo>
                <a:lnTo>
                  <a:pt x="233" y="6"/>
                </a:lnTo>
                <a:lnTo>
                  <a:pt x="223" y="6"/>
                </a:lnTo>
                <a:lnTo>
                  <a:pt x="212" y="6"/>
                </a:lnTo>
                <a:lnTo>
                  <a:pt x="201" y="4"/>
                </a:lnTo>
                <a:lnTo>
                  <a:pt x="189" y="4"/>
                </a:lnTo>
                <a:lnTo>
                  <a:pt x="178" y="4"/>
                </a:lnTo>
                <a:lnTo>
                  <a:pt x="166" y="4"/>
                </a:lnTo>
                <a:lnTo>
                  <a:pt x="155" y="3"/>
                </a:lnTo>
                <a:lnTo>
                  <a:pt x="142" y="3"/>
                </a:lnTo>
                <a:lnTo>
                  <a:pt x="131" y="3"/>
                </a:lnTo>
                <a:lnTo>
                  <a:pt x="119" y="3"/>
                </a:lnTo>
                <a:lnTo>
                  <a:pt x="109" y="1"/>
                </a:lnTo>
                <a:lnTo>
                  <a:pt x="98" y="1"/>
                </a:lnTo>
                <a:lnTo>
                  <a:pt x="89" y="1"/>
                </a:lnTo>
                <a:lnTo>
                  <a:pt x="81" y="1"/>
                </a:lnTo>
                <a:lnTo>
                  <a:pt x="74" y="0"/>
                </a:lnTo>
                <a:lnTo>
                  <a:pt x="67" y="0"/>
                </a:lnTo>
                <a:lnTo>
                  <a:pt x="63" y="0"/>
                </a:lnTo>
                <a:lnTo>
                  <a:pt x="59" y="0"/>
                </a:lnTo>
                <a:lnTo>
                  <a:pt x="57" y="0"/>
                </a:lnTo>
                <a:lnTo>
                  <a:pt x="55" y="0"/>
                </a:lnTo>
                <a:lnTo>
                  <a:pt x="53" y="0"/>
                </a:lnTo>
                <a:lnTo>
                  <a:pt x="51" y="0"/>
                </a:lnTo>
                <a:lnTo>
                  <a:pt x="51" y="0"/>
                </a:lnTo>
                <a:lnTo>
                  <a:pt x="47" y="0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0" y="0"/>
                </a:lnTo>
                <a:lnTo>
                  <a:pt x="22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00680" y="1854360"/>
            <a:ext cx="2839680" cy="3260520"/>
          </a:xfrm>
          <a:custGeom>
            <a:avLst/>
            <a:gdLst/>
            <a:ahLst/>
            <a:rect l="l" t="t" r="r" b="b"/>
            <a:pathLst>
              <a:path w="1789" h="2054">
                <a:moveTo>
                  <a:pt x="0" y="0"/>
                </a:moveTo>
                <a:lnTo>
                  <a:pt x="1" y="18"/>
                </a:lnTo>
                <a:lnTo>
                  <a:pt x="3" y="31"/>
                </a:lnTo>
                <a:lnTo>
                  <a:pt x="3" y="42"/>
                </a:lnTo>
                <a:lnTo>
                  <a:pt x="4" y="50"/>
                </a:lnTo>
                <a:lnTo>
                  <a:pt x="4" y="58"/>
                </a:lnTo>
                <a:lnTo>
                  <a:pt x="4" y="62"/>
                </a:lnTo>
                <a:lnTo>
                  <a:pt x="4" y="66"/>
                </a:lnTo>
                <a:lnTo>
                  <a:pt x="6" y="68"/>
                </a:lnTo>
                <a:lnTo>
                  <a:pt x="6" y="70"/>
                </a:lnTo>
                <a:lnTo>
                  <a:pt x="6" y="72"/>
                </a:lnTo>
                <a:lnTo>
                  <a:pt x="6" y="74"/>
                </a:lnTo>
                <a:lnTo>
                  <a:pt x="6" y="76"/>
                </a:lnTo>
                <a:lnTo>
                  <a:pt x="6" y="80"/>
                </a:lnTo>
                <a:lnTo>
                  <a:pt x="8" y="84"/>
                </a:lnTo>
                <a:lnTo>
                  <a:pt x="8" y="91"/>
                </a:lnTo>
                <a:lnTo>
                  <a:pt x="10" y="99"/>
                </a:lnTo>
                <a:lnTo>
                  <a:pt x="10" y="110"/>
                </a:lnTo>
                <a:lnTo>
                  <a:pt x="12" y="124"/>
                </a:lnTo>
                <a:lnTo>
                  <a:pt x="14" y="140"/>
                </a:lnTo>
                <a:lnTo>
                  <a:pt x="18" y="158"/>
                </a:lnTo>
                <a:lnTo>
                  <a:pt x="21" y="179"/>
                </a:lnTo>
                <a:lnTo>
                  <a:pt x="24" y="200"/>
                </a:lnTo>
                <a:lnTo>
                  <a:pt x="28" y="224"/>
                </a:lnTo>
                <a:lnTo>
                  <a:pt x="34" y="247"/>
                </a:lnTo>
                <a:lnTo>
                  <a:pt x="38" y="273"/>
                </a:lnTo>
                <a:lnTo>
                  <a:pt x="43" y="300"/>
                </a:lnTo>
                <a:lnTo>
                  <a:pt x="48" y="326"/>
                </a:lnTo>
                <a:lnTo>
                  <a:pt x="54" y="352"/>
                </a:lnTo>
                <a:lnTo>
                  <a:pt x="60" y="380"/>
                </a:lnTo>
                <a:lnTo>
                  <a:pt x="65" y="406"/>
                </a:lnTo>
                <a:lnTo>
                  <a:pt x="71" y="431"/>
                </a:lnTo>
                <a:lnTo>
                  <a:pt x="76" y="455"/>
                </a:lnTo>
                <a:lnTo>
                  <a:pt x="81" y="480"/>
                </a:lnTo>
                <a:lnTo>
                  <a:pt x="87" y="507"/>
                </a:lnTo>
                <a:lnTo>
                  <a:pt x="93" y="534"/>
                </a:lnTo>
                <a:lnTo>
                  <a:pt x="101" y="561"/>
                </a:lnTo>
                <a:lnTo>
                  <a:pt x="108" y="590"/>
                </a:lnTo>
                <a:lnTo>
                  <a:pt x="115" y="618"/>
                </a:lnTo>
                <a:lnTo>
                  <a:pt x="122" y="646"/>
                </a:lnTo>
                <a:lnTo>
                  <a:pt x="130" y="673"/>
                </a:lnTo>
                <a:lnTo>
                  <a:pt x="138" y="700"/>
                </a:lnTo>
                <a:lnTo>
                  <a:pt x="145" y="726"/>
                </a:lnTo>
                <a:lnTo>
                  <a:pt x="152" y="751"/>
                </a:lnTo>
                <a:lnTo>
                  <a:pt x="159" y="772"/>
                </a:lnTo>
                <a:lnTo>
                  <a:pt x="165" y="794"/>
                </a:lnTo>
                <a:lnTo>
                  <a:pt x="172" y="813"/>
                </a:lnTo>
                <a:lnTo>
                  <a:pt x="177" y="829"/>
                </a:lnTo>
                <a:lnTo>
                  <a:pt x="183" y="842"/>
                </a:lnTo>
                <a:lnTo>
                  <a:pt x="187" y="856"/>
                </a:lnTo>
                <a:lnTo>
                  <a:pt x="193" y="870"/>
                </a:lnTo>
                <a:lnTo>
                  <a:pt x="200" y="887"/>
                </a:lnTo>
                <a:lnTo>
                  <a:pt x="207" y="904"/>
                </a:lnTo>
                <a:lnTo>
                  <a:pt x="215" y="924"/>
                </a:lnTo>
                <a:lnTo>
                  <a:pt x="223" y="943"/>
                </a:lnTo>
                <a:lnTo>
                  <a:pt x="231" y="964"/>
                </a:lnTo>
                <a:lnTo>
                  <a:pt x="240" y="984"/>
                </a:lnTo>
                <a:lnTo>
                  <a:pt x="248" y="1006"/>
                </a:lnTo>
                <a:lnTo>
                  <a:pt x="257" y="1026"/>
                </a:lnTo>
                <a:lnTo>
                  <a:pt x="265" y="1047"/>
                </a:lnTo>
                <a:lnTo>
                  <a:pt x="275" y="1068"/>
                </a:lnTo>
                <a:lnTo>
                  <a:pt x="282" y="1088"/>
                </a:lnTo>
                <a:lnTo>
                  <a:pt x="291" y="1107"/>
                </a:lnTo>
                <a:lnTo>
                  <a:pt x="298" y="1126"/>
                </a:lnTo>
                <a:lnTo>
                  <a:pt x="306" y="1142"/>
                </a:lnTo>
                <a:lnTo>
                  <a:pt x="313" y="1160"/>
                </a:lnTo>
                <a:lnTo>
                  <a:pt x="320" y="1176"/>
                </a:lnTo>
                <a:lnTo>
                  <a:pt x="328" y="1195"/>
                </a:lnTo>
                <a:lnTo>
                  <a:pt x="337" y="1213"/>
                </a:lnTo>
                <a:lnTo>
                  <a:pt x="344" y="1234"/>
                </a:lnTo>
                <a:lnTo>
                  <a:pt x="354" y="1252"/>
                </a:lnTo>
                <a:lnTo>
                  <a:pt x="362" y="1273"/>
                </a:lnTo>
                <a:lnTo>
                  <a:pt x="372" y="1292"/>
                </a:lnTo>
                <a:lnTo>
                  <a:pt x="379" y="1312"/>
                </a:lnTo>
                <a:lnTo>
                  <a:pt x="388" y="1330"/>
                </a:lnTo>
                <a:lnTo>
                  <a:pt x="395" y="1348"/>
                </a:lnTo>
                <a:lnTo>
                  <a:pt x="403" y="1365"/>
                </a:lnTo>
                <a:lnTo>
                  <a:pt x="410" y="1381"/>
                </a:lnTo>
                <a:lnTo>
                  <a:pt x="417" y="1395"/>
                </a:lnTo>
                <a:lnTo>
                  <a:pt x="422" y="1408"/>
                </a:lnTo>
                <a:lnTo>
                  <a:pt x="428" y="1418"/>
                </a:lnTo>
                <a:lnTo>
                  <a:pt x="433" y="1430"/>
                </a:lnTo>
                <a:lnTo>
                  <a:pt x="439" y="1442"/>
                </a:lnTo>
                <a:lnTo>
                  <a:pt x="446" y="1455"/>
                </a:lnTo>
                <a:lnTo>
                  <a:pt x="454" y="1468"/>
                </a:lnTo>
                <a:lnTo>
                  <a:pt x="461" y="1483"/>
                </a:lnTo>
                <a:lnTo>
                  <a:pt x="471" y="1498"/>
                </a:lnTo>
                <a:lnTo>
                  <a:pt x="480" y="1513"/>
                </a:lnTo>
                <a:lnTo>
                  <a:pt x="490" y="1528"/>
                </a:lnTo>
                <a:lnTo>
                  <a:pt x="499" y="1544"/>
                </a:lnTo>
                <a:lnTo>
                  <a:pt x="509" y="1559"/>
                </a:lnTo>
                <a:lnTo>
                  <a:pt x="519" y="1574"/>
                </a:lnTo>
                <a:lnTo>
                  <a:pt x="530" y="1588"/>
                </a:lnTo>
                <a:lnTo>
                  <a:pt x="539" y="1601"/>
                </a:lnTo>
                <a:lnTo>
                  <a:pt x="549" y="1614"/>
                </a:lnTo>
                <a:lnTo>
                  <a:pt x="558" y="1626"/>
                </a:lnTo>
                <a:lnTo>
                  <a:pt x="567" y="1636"/>
                </a:lnTo>
                <a:lnTo>
                  <a:pt x="576" y="1647"/>
                </a:lnTo>
                <a:lnTo>
                  <a:pt x="585" y="1659"/>
                </a:lnTo>
                <a:lnTo>
                  <a:pt x="595" y="1670"/>
                </a:lnTo>
                <a:lnTo>
                  <a:pt x="606" y="1682"/>
                </a:lnTo>
                <a:lnTo>
                  <a:pt x="617" y="1695"/>
                </a:lnTo>
                <a:lnTo>
                  <a:pt x="629" y="1707"/>
                </a:lnTo>
                <a:lnTo>
                  <a:pt x="640" y="1720"/>
                </a:lnTo>
                <a:lnTo>
                  <a:pt x="654" y="1731"/>
                </a:lnTo>
                <a:lnTo>
                  <a:pt x="665" y="1744"/>
                </a:lnTo>
                <a:lnTo>
                  <a:pt x="677" y="1756"/>
                </a:lnTo>
                <a:lnTo>
                  <a:pt x="688" y="1767"/>
                </a:lnTo>
                <a:lnTo>
                  <a:pt x="700" y="1778"/>
                </a:lnTo>
                <a:lnTo>
                  <a:pt x="710" y="1788"/>
                </a:lnTo>
                <a:lnTo>
                  <a:pt x="721" y="1797"/>
                </a:lnTo>
                <a:lnTo>
                  <a:pt x="730" y="1805"/>
                </a:lnTo>
                <a:lnTo>
                  <a:pt x="740" y="1812"/>
                </a:lnTo>
                <a:lnTo>
                  <a:pt x="747" y="1820"/>
                </a:lnTo>
                <a:lnTo>
                  <a:pt x="756" y="1825"/>
                </a:lnTo>
                <a:lnTo>
                  <a:pt x="764" y="1833"/>
                </a:lnTo>
                <a:lnTo>
                  <a:pt x="774" y="1838"/>
                </a:lnTo>
                <a:lnTo>
                  <a:pt x="782" y="1846"/>
                </a:lnTo>
                <a:lnTo>
                  <a:pt x="791" y="1852"/>
                </a:lnTo>
                <a:lnTo>
                  <a:pt x="800" y="1858"/>
                </a:lnTo>
                <a:lnTo>
                  <a:pt x="810" y="1864"/>
                </a:lnTo>
                <a:lnTo>
                  <a:pt x="817" y="1870"/>
                </a:lnTo>
                <a:lnTo>
                  <a:pt x="825" y="1876"/>
                </a:lnTo>
                <a:lnTo>
                  <a:pt x="831" y="1881"/>
                </a:lnTo>
                <a:lnTo>
                  <a:pt x="839" y="1886"/>
                </a:lnTo>
                <a:lnTo>
                  <a:pt x="844" y="1891"/>
                </a:lnTo>
                <a:lnTo>
                  <a:pt x="850" y="1894"/>
                </a:lnTo>
                <a:lnTo>
                  <a:pt x="854" y="1898"/>
                </a:lnTo>
                <a:lnTo>
                  <a:pt x="859" y="1900"/>
                </a:lnTo>
                <a:lnTo>
                  <a:pt x="861" y="1903"/>
                </a:lnTo>
                <a:lnTo>
                  <a:pt x="865" y="1904"/>
                </a:lnTo>
                <a:lnTo>
                  <a:pt x="869" y="1907"/>
                </a:lnTo>
                <a:lnTo>
                  <a:pt x="875" y="1909"/>
                </a:lnTo>
                <a:lnTo>
                  <a:pt x="881" y="1912"/>
                </a:lnTo>
                <a:lnTo>
                  <a:pt x="887" y="1916"/>
                </a:lnTo>
                <a:lnTo>
                  <a:pt x="893" y="1920"/>
                </a:lnTo>
                <a:lnTo>
                  <a:pt x="900" y="1921"/>
                </a:lnTo>
                <a:lnTo>
                  <a:pt x="906" y="1925"/>
                </a:lnTo>
                <a:lnTo>
                  <a:pt x="914" y="1929"/>
                </a:lnTo>
                <a:lnTo>
                  <a:pt x="920" y="1932"/>
                </a:lnTo>
                <a:lnTo>
                  <a:pt x="928" y="1935"/>
                </a:lnTo>
                <a:lnTo>
                  <a:pt x="934" y="1939"/>
                </a:lnTo>
                <a:lnTo>
                  <a:pt x="942" y="1941"/>
                </a:lnTo>
                <a:lnTo>
                  <a:pt x="949" y="1945"/>
                </a:lnTo>
                <a:lnTo>
                  <a:pt x="956" y="1947"/>
                </a:lnTo>
                <a:lnTo>
                  <a:pt x="962" y="1950"/>
                </a:lnTo>
                <a:lnTo>
                  <a:pt x="970" y="1952"/>
                </a:lnTo>
                <a:lnTo>
                  <a:pt x="978" y="1956"/>
                </a:lnTo>
                <a:lnTo>
                  <a:pt x="988" y="1958"/>
                </a:lnTo>
                <a:lnTo>
                  <a:pt x="998" y="1961"/>
                </a:lnTo>
                <a:lnTo>
                  <a:pt x="1009" y="1965"/>
                </a:lnTo>
                <a:lnTo>
                  <a:pt x="1020" y="1969"/>
                </a:lnTo>
                <a:lnTo>
                  <a:pt x="1033" y="1972"/>
                </a:lnTo>
                <a:lnTo>
                  <a:pt x="1044" y="1976"/>
                </a:lnTo>
                <a:lnTo>
                  <a:pt x="1056" y="1979"/>
                </a:lnTo>
                <a:lnTo>
                  <a:pt x="1067" y="1983"/>
                </a:lnTo>
                <a:lnTo>
                  <a:pt x="1080" y="1986"/>
                </a:lnTo>
                <a:lnTo>
                  <a:pt x="1092" y="1990"/>
                </a:lnTo>
                <a:lnTo>
                  <a:pt x="1103" y="1992"/>
                </a:lnTo>
                <a:lnTo>
                  <a:pt x="1114" y="1996"/>
                </a:lnTo>
                <a:lnTo>
                  <a:pt x="1125" y="1998"/>
                </a:lnTo>
                <a:lnTo>
                  <a:pt x="1134" y="2001"/>
                </a:lnTo>
                <a:lnTo>
                  <a:pt x="1145" y="2003"/>
                </a:lnTo>
                <a:lnTo>
                  <a:pt x="1156" y="2007"/>
                </a:lnTo>
                <a:lnTo>
                  <a:pt x="1169" y="2009"/>
                </a:lnTo>
                <a:lnTo>
                  <a:pt x="1181" y="2012"/>
                </a:lnTo>
                <a:lnTo>
                  <a:pt x="1194" y="2014"/>
                </a:lnTo>
                <a:lnTo>
                  <a:pt x="1208" y="2017"/>
                </a:lnTo>
                <a:lnTo>
                  <a:pt x="1221" y="2019"/>
                </a:lnTo>
                <a:lnTo>
                  <a:pt x="1234" y="2022"/>
                </a:lnTo>
                <a:lnTo>
                  <a:pt x="1247" y="2024"/>
                </a:lnTo>
                <a:lnTo>
                  <a:pt x="1259" y="2026"/>
                </a:lnTo>
                <a:lnTo>
                  <a:pt x="1272" y="2028"/>
                </a:lnTo>
                <a:lnTo>
                  <a:pt x="1284" y="2029"/>
                </a:lnTo>
                <a:lnTo>
                  <a:pt x="1295" y="2030"/>
                </a:lnTo>
                <a:lnTo>
                  <a:pt x="1304" y="2032"/>
                </a:lnTo>
                <a:lnTo>
                  <a:pt x="1314" y="2032"/>
                </a:lnTo>
                <a:lnTo>
                  <a:pt x="1322" y="2034"/>
                </a:lnTo>
                <a:lnTo>
                  <a:pt x="1332" y="2036"/>
                </a:lnTo>
                <a:lnTo>
                  <a:pt x="1342" y="2037"/>
                </a:lnTo>
                <a:lnTo>
                  <a:pt x="1354" y="2037"/>
                </a:lnTo>
                <a:lnTo>
                  <a:pt x="1366" y="2039"/>
                </a:lnTo>
                <a:lnTo>
                  <a:pt x="1379" y="2040"/>
                </a:lnTo>
                <a:lnTo>
                  <a:pt x="1392" y="2042"/>
                </a:lnTo>
                <a:lnTo>
                  <a:pt x="1407" y="2042"/>
                </a:lnTo>
                <a:lnTo>
                  <a:pt x="1420" y="2044"/>
                </a:lnTo>
                <a:lnTo>
                  <a:pt x="1433" y="2045"/>
                </a:lnTo>
                <a:lnTo>
                  <a:pt x="1446" y="2047"/>
                </a:lnTo>
                <a:lnTo>
                  <a:pt x="1460" y="2047"/>
                </a:lnTo>
                <a:lnTo>
                  <a:pt x="1472" y="2049"/>
                </a:lnTo>
                <a:lnTo>
                  <a:pt x="1485" y="2049"/>
                </a:lnTo>
                <a:lnTo>
                  <a:pt x="1496" y="2049"/>
                </a:lnTo>
                <a:lnTo>
                  <a:pt x="1508" y="2049"/>
                </a:lnTo>
                <a:lnTo>
                  <a:pt x="1518" y="2050"/>
                </a:lnTo>
                <a:lnTo>
                  <a:pt x="1530" y="2050"/>
                </a:lnTo>
                <a:lnTo>
                  <a:pt x="1542" y="2050"/>
                </a:lnTo>
                <a:lnTo>
                  <a:pt x="1554" y="2050"/>
                </a:lnTo>
                <a:lnTo>
                  <a:pt x="1568" y="2052"/>
                </a:lnTo>
                <a:lnTo>
                  <a:pt x="1581" y="2052"/>
                </a:lnTo>
                <a:lnTo>
                  <a:pt x="1594" y="2052"/>
                </a:lnTo>
                <a:lnTo>
                  <a:pt x="1609" y="2052"/>
                </a:lnTo>
                <a:lnTo>
                  <a:pt x="1622" y="2053"/>
                </a:lnTo>
                <a:lnTo>
                  <a:pt x="1635" y="2053"/>
                </a:lnTo>
                <a:lnTo>
                  <a:pt x="1648" y="2053"/>
                </a:lnTo>
                <a:lnTo>
                  <a:pt x="1661" y="2053"/>
                </a:lnTo>
                <a:lnTo>
                  <a:pt x="1672" y="2053"/>
                </a:lnTo>
                <a:lnTo>
                  <a:pt x="1684" y="2053"/>
                </a:lnTo>
                <a:lnTo>
                  <a:pt x="1693" y="2053"/>
                </a:lnTo>
                <a:lnTo>
                  <a:pt x="1703" y="2053"/>
                </a:lnTo>
                <a:lnTo>
                  <a:pt x="1709" y="2053"/>
                </a:lnTo>
                <a:lnTo>
                  <a:pt x="1714" y="2053"/>
                </a:lnTo>
                <a:lnTo>
                  <a:pt x="1717" y="2053"/>
                </a:lnTo>
                <a:lnTo>
                  <a:pt x="1721" y="2053"/>
                </a:lnTo>
                <a:lnTo>
                  <a:pt x="1723" y="2053"/>
                </a:lnTo>
                <a:lnTo>
                  <a:pt x="1725" y="2053"/>
                </a:lnTo>
                <a:lnTo>
                  <a:pt x="1727" y="2053"/>
                </a:lnTo>
                <a:lnTo>
                  <a:pt x="1729" y="2053"/>
                </a:lnTo>
                <a:lnTo>
                  <a:pt x="1730" y="2053"/>
                </a:lnTo>
                <a:lnTo>
                  <a:pt x="1734" y="2053"/>
                </a:lnTo>
                <a:lnTo>
                  <a:pt x="1738" y="2053"/>
                </a:lnTo>
                <a:lnTo>
                  <a:pt x="1744" y="2053"/>
                </a:lnTo>
                <a:lnTo>
                  <a:pt x="1751" y="2053"/>
                </a:lnTo>
                <a:lnTo>
                  <a:pt x="1761" y="2053"/>
                </a:lnTo>
                <a:lnTo>
                  <a:pt x="1773" y="2053"/>
                </a:lnTo>
                <a:lnTo>
                  <a:pt x="1788" y="2053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645000" y="2127240"/>
            <a:ext cx="3101760" cy="3576600"/>
          </a:xfrm>
          <a:custGeom>
            <a:avLst/>
            <a:gdLst/>
            <a:ahLst/>
            <a:rect l="l" t="t" r="r" b="b"/>
            <a:pathLst>
              <a:path w="1954" h="2253">
                <a:moveTo>
                  <a:pt x="0" y="0"/>
                </a:moveTo>
                <a:lnTo>
                  <a:pt x="0" y="20"/>
                </a:lnTo>
                <a:lnTo>
                  <a:pt x="2" y="34"/>
                </a:lnTo>
                <a:lnTo>
                  <a:pt x="3" y="47"/>
                </a:lnTo>
                <a:lnTo>
                  <a:pt x="4" y="56"/>
                </a:lnTo>
                <a:lnTo>
                  <a:pt x="4" y="64"/>
                </a:lnTo>
                <a:lnTo>
                  <a:pt x="5" y="69"/>
                </a:lnTo>
                <a:lnTo>
                  <a:pt x="5" y="73"/>
                </a:lnTo>
                <a:lnTo>
                  <a:pt x="7" y="75"/>
                </a:lnTo>
                <a:lnTo>
                  <a:pt x="7" y="78"/>
                </a:lnTo>
                <a:lnTo>
                  <a:pt x="7" y="80"/>
                </a:lnTo>
                <a:lnTo>
                  <a:pt x="7" y="83"/>
                </a:lnTo>
                <a:lnTo>
                  <a:pt x="8" y="84"/>
                </a:lnTo>
                <a:lnTo>
                  <a:pt x="8" y="89"/>
                </a:lnTo>
                <a:lnTo>
                  <a:pt x="9" y="93"/>
                </a:lnTo>
                <a:lnTo>
                  <a:pt x="10" y="100"/>
                </a:lnTo>
                <a:lnTo>
                  <a:pt x="11" y="108"/>
                </a:lnTo>
                <a:lnTo>
                  <a:pt x="11" y="121"/>
                </a:lnTo>
                <a:lnTo>
                  <a:pt x="13" y="136"/>
                </a:lnTo>
                <a:lnTo>
                  <a:pt x="16" y="153"/>
                </a:lnTo>
                <a:lnTo>
                  <a:pt x="20" y="172"/>
                </a:lnTo>
                <a:lnTo>
                  <a:pt x="22" y="196"/>
                </a:lnTo>
                <a:lnTo>
                  <a:pt x="26" y="219"/>
                </a:lnTo>
                <a:lnTo>
                  <a:pt x="31" y="245"/>
                </a:lnTo>
                <a:lnTo>
                  <a:pt x="36" y="271"/>
                </a:lnTo>
                <a:lnTo>
                  <a:pt x="41" y="300"/>
                </a:lnTo>
                <a:lnTo>
                  <a:pt x="47" y="328"/>
                </a:lnTo>
                <a:lnTo>
                  <a:pt x="52" y="358"/>
                </a:lnTo>
                <a:lnTo>
                  <a:pt x="59" y="386"/>
                </a:lnTo>
                <a:lnTo>
                  <a:pt x="64" y="416"/>
                </a:lnTo>
                <a:lnTo>
                  <a:pt x="70" y="444"/>
                </a:lnTo>
                <a:lnTo>
                  <a:pt x="76" y="473"/>
                </a:lnTo>
                <a:lnTo>
                  <a:pt x="83" y="500"/>
                </a:lnTo>
                <a:lnTo>
                  <a:pt x="89" y="527"/>
                </a:lnTo>
                <a:lnTo>
                  <a:pt x="95" y="556"/>
                </a:lnTo>
                <a:lnTo>
                  <a:pt x="102" y="586"/>
                </a:lnTo>
                <a:lnTo>
                  <a:pt x="109" y="616"/>
                </a:lnTo>
                <a:lnTo>
                  <a:pt x="117" y="647"/>
                </a:lnTo>
                <a:lnTo>
                  <a:pt x="125" y="677"/>
                </a:lnTo>
                <a:lnTo>
                  <a:pt x="132" y="708"/>
                </a:lnTo>
                <a:lnTo>
                  <a:pt x="142" y="738"/>
                </a:lnTo>
                <a:lnTo>
                  <a:pt x="149" y="768"/>
                </a:lnTo>
                <a:lnTo>
                  <a:pt x="158" y="796"/>
                </a:lnTo>
                <a:lnTo>
                  <a:pt x="166" y="823"/>
                </a:lnTo>
                <a:lnTo>
                  <a:pt x="174" y="848"/>
                </a:lnTo>
                <a:lnTo>
                  <a:pt x="180" y="871"/>
                </a:lnTo>
                <a:lnTo>
                  <a:pt x="188" y="892"/>
                </a:lnTo>
                <a:lnTo>
                  <a:pt x="194" y="910"/>
                </a:lnTo>
                <a:lnTo>
                  <a:pt x="201" y="924"/>
                </a:lnTo>
                <a:lnTo>
                  <a:pt x="206" y="939"/>
                </a:lnTo>
                <a:lnTo>
                  <a:pt x="212" y="955"/>
                </a:lnTo>
                <a:lnTo>
                  <a:pt x="218" y="973"/>
                </a:lnTo>
                <a:lnTo>
                  <a:pt x="227" y="992"/>
                </a:lnTo>
                <a:lnTo>
                  <a:pt x="234" y="1014"/>
                </a:lnTo>
                <a:lnTo>
                  <a:pt x="244" y="1035"/>
                </a:lnTo>
                <a:lnTo>
                  <a:pt x="253" y="1057"/>
                </a:lnTo>
                <a:lnTo>
                  <a:pt x="262" y="1079"/>
                </a:lnTo>
                <a:lnTo>
                  <a:pt x="272" y="1104"/>
                </a:lnTo>
                <a:lnTo>
                  <a:pt x="281" y="1126"/>
                </a:lnTo>
                <a:lnTo>
                  <a:pt x="290" y="1149"/>
                </a:lnTo>
                <a:lnTo>
                  <a:pt x="300" y="1172"/>
                </a:lnTo>
                <a:lnTo>
                  <a:pt x="308" y="1194"/>
                </a:lnTo>
                <a:lnTo>
                  <a:pt x="317" y="1214"/>
                </a:lnTo>
                <a:lnTo>
                  <a:pt x="325" y="1234"/>
                </a:lnTo>
                <a:lnTo>
                  <a:pt x="334" y="1251"/>
                </a:lnTo>
                <a:lnTo>
                  <a:pt x="342" y="1270"/>
                </a:lnTo>
                <a:lnTo>
                  <a:pt x="350" y="1290"/>
                </a:lnTo>
                <a:lnTo>
                  <a:pt x="358" y="1310"/>
                </a:lnTo>
                <a:lnTo>
                  <a:pt x="367" y="1331"/>
                </a:lnTo>
                <a:lnTo>
                  <a:pt x="376" y="1353"/>
                </a:lnTo>
                <a:lnTo>
                  <a:pt x="386" y="1374"/>
                </a:lnTo>
                <a:lnTo>
                  <a:pt x="395" y="1396"/>
                </a:lnTo>
                <a:lnTo>
                  <a:pt x="405" y="1417"/>
                </a:lnTo>
                <a:lnTo>
                  <a:pt x="414" y="1438"/>
                </a:lnTo>
                <a:lnTo>
                  <a:pt x="423" y="1459"/>
                </a:lnTo>
                <a:lnTo>
                  <a:pt x="431" y="1479"/>
                </a:lnTo>
                <a:lnTo>
                  <a:pt x="441" y="1497"/>
                </a:lnTo>
                <a:lnTo>
                  <a:pt x="448" y="1515"/>
                </a:lnTo>
                <a:lnTo>
                  <a:pt x="456" y="1530"/>
                </a:lnTo>
                <a:lnTo>
                  <a:pt x="462" y="1545"/>
                </a:lnTo>
                <a:lnTo>
                  <a:pt x="469" y="1556"/>
                </a:lnTo>
                <a:lnTo>
                  <a:pt x="474" y="1569"/>
                </a:lnTo>
                <a:lnTo>
                  <a:pt x="480" y="1582"/>
                </a:lnTo>
                <a:lnTo>
                  <a:pt x="488" y="1596"/>
                </a:lnTo>
                <a:lnTo>
                  <a:pt x="496" y="1610"/>
                </a:lnTo>
                <a:lnTo>
                  <a:pt x="505" y="1626"/>
                </a:lnTo>
                <a:lnTo>
                  <a:pt x="515" y="1642"/>
                </a:lnTo>
                <a:lnTo>
                  <a:pt x="525" y="1659"/>
                </a:lnTo>
                <a:lnTo>
                  <a:pt x="536" y="1674"/>
                </a:lnTo>
                <a:lnTo>
                  <a:pt x="546" y="1691"/>
                </a:lnTo>
                <a:lnTo>
                  <a:pt x="557" y="1708"/>
                </a:lnTo>
                <a:lnTo>
                  <a:pt x="568" y="1725"/>
                </a:lnTo>
                <a:lnTo>
                  <a:pt x="580" y="1740"/>
                </a:lnTo>
                <a:lnTo>
                  <a:pt x="589" y="1756"/>
                </a:lnTo>
                <a:lnTo>
                  <a:pt x="600" y="1770"/>
                </a:lnTo>
                <a:lnTo>
                  <a:pt x="610" y="1783"/>
                </a:lnTo>
                <a:lnTo>
                  <a:pt x="620" y="1794"/>
                </a:lnTo>
                <a:lnTo>
                  <a:pt x="629" y="1807"/>
                </a:lnTo>
                <a:lnTo>
                  <a:pt x="639" y="1818"/>
                </a:lnTo>
                <a:lnTo>
                  <a:pt x="650" y="1832"/>
                </a:lnTo>
                <a:lnTo>
                  <a:pt x="663" y="1844"/>
                </a:lnTo>
                <a:lnTo>
                  <a:pt x="675" y="1858"/>
                </a:lnTo>
                <a:lnTo>
                  <a:pt x="688" y="1872"/>
                </a:lnTo>
                <a:lnTo>
                  <a:pt x="701" y="1885"/>
                </a:lnTo>
                <a:lnTo>
                  <a:pt x="715" y="1898"/>
                </a:lnTo>
                <a:lnTo>
                  <a:pt x="727" y="1912"/>
                </a:lnTo>
                <a:lnTo>
                  <a:pt x="740" y="1925"/>
                </a:lnTo>
                <a:lnTo>
                  <a:pt x="753" y="1938"/>
                </a:lnTo>
                <a:lnTo>
                  <a:pt x="766" y="1950"/>
                </a:lnTo>
                <a:lnTo>
                  <a:pt x="777" y="1961"/>
                </a:lnTo>
                <a:lnTo>
                  <a:pt x="788" y="1970"/>
                </a:lnTo>
                <a:lnTo>
                  <a:pt x="798" y="1980"/>
                </a:lnTo>
                <a:lnTo>
                  <a:pt x="809" y="1986"/>
                </a:lnTo>
                <a:lnTo>
                  <a:pt x="817" y="1994"/>
                </a:lnTo>
                <a:lnTo>
                  <a:pt x="826" y="2002"/>
                </a:lnTo>
                <a:lnTo>
                  <a:pt x="836" y="2009"/>
                </a:lnTo>
                <a:lnTo>
                  <a:pt x="845" y="2016"/>
                </a:lnTo>
                <a:lnTo>
                  <a:pt x="854" y="2023"/>
                </a:lnTo>
                <a:lnTo>
                  <a:pt x="864" y="2031"/>
                </a:lnTo>
                <a:lnTo>
                  <a:pt x="873" y="2038"/>
                </a:lnTo>
                <a:lnTo>
                  <a:pt x="884" y="2044"/>
                </a:lnTo>
                <a:lnTo>
                  <a:pt x="891" y="2051"/>
                </a:lnTo>
                <a:lnTo>
                  <a:pt x="900" y="2057"/>
                </a:lnTo>
                <a:lnTo>
                  <a:pt x="908" y="2062"/>
                </a:lnTo>
                <a:lnTo>
                  <a:pt x="916" y="2068"/>
                </a:lnTo>
                <a:lnTo>
                  <a:pt x="922" y="2072"/>
                </a:lnTo>
                <a:lnTo>
                  <a:pt x="929" y="2076"/>
                </a:lnTo>
                <a:lnTo>
                  <a:pt x="933" y="2080"/>
                </a:lnTo>
                <a:lnTo>
                  <a:pt x="938" y="2081"/>
                </a:lnTo>
                <a:lnTo>
                  <a:pt x="941" y="2085"/>
                </a:lnTo>
                <a:lnTo>
                  <a:pt x="945" y="2088"/>
                </a:lnTo>
                <a:lnTo>
                  <a:pt x="950" y="2091"/>
                </a:lnTo>
                <a:lnTo>
                  <a:pt x="956" y="2093"/>
                </a:lnTo>
                <a:lnTo>
                  <a:pt x="961" y="2097"/>
                </a:lnTo>
                <a:lnTo>
                  <a:pt x="968" y="2101"/>
                </a:lnTo>
                <a:lnTo>
                  <a:pt x="976" y="2104"/>
                </a:lnTo>
                <a:lnTo>
                  <a:pt x="983" y="2108"/>
                </a:lnTo>
                <a:lnTo>
                  <a:pt x="990" y="2111"/>
                </a:lnTo>
                <a:lnTo>
                  <a:pt x="998" y="2115"/>
                </a:lnTo>
                <a:lnTo>
                  <a:pt x="1005" y="2119"/>
                </a:lnTo>
                <a:lnTo>
                  <a:pt x="1013" y="2122"/>
                </a:lnTo>
                <a:lnTo>
                  <a:pt x="1020" y="2126"/>
                </a:lnTo>
                <a:lnTo>
                  <a:pt x="1028" y="2129"/>
                </a:lnTo>
                <a:lnTo>
                  <a:pt x="1035" y="2132"/>
                </a:lnTo>
                <a:lnTo>
                  <a:pt x="1043" y="2134"/>
                </a:lnTo>
                <a:lnTo>
                  <a:pt x="1050" y="2138"/>
                </a:lnTo>
                <a:lnTo>
                  <a:pt x="1058" y="2140"/>
                </a:lnTo>
                <a:lnTo>
                  <a:pt x="1068" y="2144"/>
                </a:lnTo>
                <a:lnTo>
                  <a:pt x="1079" y="2147"/>
                </a:lnTo>
                <a:lnTo>
                  <a:pt x="1090" y="2151"/>
                </a:lnTo>
                <a:lnTo>
                  <a:pt x="1102" y="2155"/>
                </a:lnTo>
                <a:lnTo>
                  <a:pt x="1115" y="2159"/>
                </a:lnTo>
                <a:lnTo>
                  <a:pt x="1128" y="2162"/>
                </a:lnTo>
                <a:lnTo>
                  <a:pt x="1142" y="2168"/>
                </a:lnTo>
                <a:lnTo>
                  <a:pt x="1154" y="2171"/>
                </a:lnTo>
                <a:lnTo>
                  <a:pt x="1168" y="2175"/>
                </a:lnTo>
                <a:lnTo>
                  <a:pt x="1181" y="2179"/>
                </a:lnTo>
                <a:lnTo>
                  <a:pt x="1192" y="2182"/>
                </a:lnTo>
                <a:lnTo>
                  <a:pt x="1206" y="2186"/>
                </a:lnTo>
                <a:lnTo>
                  <a:pt x="1217" y="2189"/>
                </a:lnTo>
                <a:lnTo>
                  <a:pt x="1229" y="2190"/>
                </a:lnTo>
                <a:lnTo>
                  <a:pt x="1239" y="2194"/>
                </a:lnTo>
                <a:lnTo>
                  <a:pt x="1250" y="2196"/>
                </a:lnTo>
                <a:lnTo>
                  <a:pt x="1262" y="2200"/>
                </a:lnTo>
                <a:lnTo>
                  <a:pt x="1276" y="2202"/>
                </a:lnTo>
                <a:lnTo>
                  <a:pt x="1289" y="2206"/>
                </a:lnTo>
                <a:lnTo>
                  <a:pt x="1304" y="2207"/>
                </a:lnTo>
                <a:lnTo>
                  <a:pt x="1318" y="2211"/>
                </a:lnTo>
                <a:lnTo>
                  <a:pt x="1333" y="2213"/>
                </a:lnTo>
                <a:lnTo>
                  <a:pt x="1346" y="2217"/>
                </a:lnTo>
                <a:lnTo>
                  <a:pt x="1361" y="2218"/>
                </a:lnTo>
                <a:lnTo>
                  <a:pt x="1374" y="2222"/>
                </a:lnTo>
                <a:lnTo>
                  <a:pt x="1388" y="2224"/>
                </a:lnTo>
                <a:lnTo>
                  <a:pt x="1400" y="2226"/>
                </a:lnTo>
                <a:lnTo>
                  <a:pt x="1412" y="2228"/>
                </a:lnTo>
                <a:lnTo>
                  <a:pt x="1422" y="2230"/>
                </a:lnTo>
                <a:lnTo>
                  <a:pt x="1433" y="2231"/>
                </a:lnTo>
                <a:lnTo>
                  <a:pt x="1442" y="2233"/>
                </a:lnTo>
                <a:lnTo>
                  <a:pt x="1453" y="2234"/>
                </a:lnTo>
                <a:lnTo>
                  <a:pt x="1465" y="2236"/>
                </a:lnTo>
                <a:lnTo>
                  <a:pt x="1478" y="2236"/>
                </a:lnTo>
                <a:lnTo>
                  <a:pt x="1491" y="2237"/>
                </a:lnTo>
                <a:lnTo>
                  <a:pt x="1505" y="2238"/>
                </a:lnTo>
                <a:lnTo>
                  <a:pt x="1520" y="2240"/>
                </a:lnTo>
                <a:lnTo>
                  <a:pt x="1535" y="2240"/>
                </a:lnTo>
                <a:lnTo>
                  <a:pt x="1550" y="2242"/>
                </a:lnTo>
                <a:lnTo>
                  <a:pt x="1565" y="2242"/>
                </a:lnTo>
                <a:lnTo>
                  <a:pt x="1580" y="2244"/>
                </a:lnTo>
                <a:lnTo>
                  <a:pt x="1594" y="2244"/>
                </a:lnTo>
                <a:lnTo>
                  <a:pt x="1608" y="2246"/>
                </a:lnTo>
                <a:lnTo>
                  <a:pt x="1622" y="2246"/>
                </a:lnTo>
                <a:lnTo>
                  <a:pt x="1634" y="2246"/>
                </a:lnTo>
                <a:lnTo>
                  <a:pt x="1646" y="2246"/>
                </a:lnTo>
                <a:lnTo>
                  <a:pt x="1657" y="2248"/>
                </a:lnTo>
                <a:lnTo>
                  <a:pt x="1669" y="2248"/>
                </a:lnTo>
                <a:lnTo>
                  <a:pt x="1682" y="2248"/>
                </a:lnTo>
                <a:lnTo>
                  <a:pt x="1697" y="2248"/>
                </a:lnTo>
                <a:lnTo>
                  <a:pt x="1710" y="2250"/>
                </a:lnTo>
                <a:lnTo>
                  <a:pt x="1726" y="2250"/>
                </a:lnTo>
                <a:lnTo>
                  <a:pt x="1740" y="2250"/>
                </a:lnTo>
                <a:lnTo>
                  <a:pt x="1756" y="2250"/>
                </a:lnTo>
                <a:lnTo>
                  <a:pt x="1769" y="2252"/>
                </a:lnTo>
                <a:lnTo>
                  <a:pt x="1784" y="2252"/>
                </a:lnTo>
                <a:lnTo>
                  <a:pt x="1798" y="2252"/>
                </a:lnTo>
                <a:lnTo>
                  <a:pt x="1812" y="2252"/>
                </a:lnTo>
                <a:lnTo>
                  <a:pt x="1824" y="2252"/>
                </a:lnTo>
                <a:lnTo>
                  <a:pt x="1836" y="2252"/>
                </a:lnTo>
                <a:lnTo>
                  <a:pt x="1846" y="2252"/>
                </a:lnTo>
                <a:lnTo>
                  <a:pt x="1857" y="2252"/>
                </a:lnTo>
                <a:lnTo>
                  <a:pt x="1864" y="2252"/>
                </a:lnTo>
                <a:lnTo>
                  <a:pt x="1870" y="2252"/>
                </a:lnTo>
                <a:lnTo>
                  <a:pt x="1875" y="2252"/>
                </a:lnTo>
                <a:lnTo>
                  <a:pt x="1878" y="2252"/>
                </a:lnTo>
                <a:lnTo>
                  <a:pt x="1880" y="2252"/>
                </a:lnTo>
                <a:lnTo>
                  <a:pt x="1882" y="2252"/>
                </a:lnTo>
                <a:lnTo>
                  <a:pt x="1884" y="2252"/>
                </a:lnTo>
                <a:lnTo>
                  <a:pt x="1886" y="2252"/>
                </a:lnTo>
                <a:lnTo>
                  <a:pt x="1888" y="2252"/>
                </a:lnTo>
                <a:lnTo>
                  <a:pt x="1892" y="2252"/>
                </a:lnTo>
                <a:lnTo>
                  <a:pt x="1897" y="2252"/>
                </a:lnTo>
                <a:lnTo>
                  <a:pt x="1904" y="2252"/>
                </a:lnTo>
                <a:lnTo>
                  <a:pt x="1912" y="2252"/>
                </a:lnTo>
                <a:lnTo>
                  <a:pt x="1923" y="2252"/>
                </a:lnTo>
                <a:lnTo>
                  <a:pt x="1936" y="2252"/>
                </a:lnTo>
                <a:lnTo>
                  <a:pt x="1953" y="2252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70560" y="1673280"/>
            <a:ext cx="2484360" cy="2852640"/>
          </a:xfrm>
          <a:custGeom>
            <a:avLst/>
            <a:gdLst/>
            <a:ahLst/>
            <a:rect l="l" t="t" r="r" b="b"/>
            <a:pathLst>
              <a:path w="1565" h="1797">
                <a:moveTo>
                  <a:pt x="0" y="0"/>
                </a:moveTo>
                <a:lnTo>
                  <a:pt x="0" y="16"/>
                </a:lnTo>
                <a:lnTo>
                  <a:pt x="1" y="27"/>
                </a:lnTo>
                <a:lnTo>
                  <a:pt x="1" y="37"/>
                </a:lnTo>
                <a:lnTo>
                  <a:pt x="3" y="44"/>
                </a:lnTo>
                <a:lnTo>
                  <a:pt x="3" y="50"/>
                </a:lnTo>
                <a:lnTo>
                  <a:pt x="3" y="54"/>
                </a:lnTo>
                <a:lnTo>
                  <a:pt x="3" y="57"/>
                </a:lnTo>
                <a:lnTo>
                  <a:pt x="5" y="59"/>
                </a:lnTo>
                <a:lnTo>
                  <a:pt x="5" y="61"/>
                </a:lnTo>
                <a:lnTo>
                  <a:pt x="5" y="63"/>
                </a:lnTo>
                <a:lnTo>
                  <a:pt x="5" y="65"/>
                </a:lnTo>
                <a:lnTo>
                  <a:pt x="5" y="67"/>
                </a:lnTo>
                <a:lnTo>
                  <a:pt x="5" y="70"/>
                </a:lnTo>
                <a:lnTo>
                  <a:pt x="6" y="74"/>
                </a:lnTo>
                <a:lnTo>
                  <a:pt x="6" y="80"/>
                </a:lnTo>
                <a:lnTo>
                  <a:pt x="8" y="86"/>
                </a:lnTo>
                <a:lnTo>
                  <a:pt x="8" y="96"/>
                </a:lnTo>
                <a:lnTo>
                  <a:pt x="10" y="108"/>
                </a:lnTo>
                <a:lnTo>
                  <a:pt x="12" y="122"/>
                </a:lnTo>
                <a:lnTo>
                  <a:pt x="14" y="137"/>
                </a:lnTo>
                <a:lnTo>
                  <a:pt x="17" y="155"/>
                </a:lnTo>
                <a:lnTo>
                  <a:pt x="21" y="174"/>
                </a:lnTo>
                <a:lnTo>
                  <a:pt x="24" y="194"/>
                </a:lnTo>
                <a:lnTo>
                  <a:pt x="29" y="214"/>
                </a:lnTo>
                <a:lnTo>
                  <a:pt x="32" y="238"/>
                </a:lnTo>
                <a:lnTo>
                  <a:pt x="37" y="260"/>
                </a:lnTo>
                <a:lnTo>
                  <a:pt x="41" y="284"/>
                </a:lnTo>
                <a:lnTo>
                  <a:pt x="46" y="306"/>
                </a:lnTo>
                <a:lnTo>
                  <a:pt x="50" y="330"/>
                </a:lnTo>
                <a:lnTo>
                  <a:pt x="55" y="353"/>
                </a:lnTo>
                <a:lnTo>
                  <a:pt x="60" y="376"/>
                </a:lnTo>
                <a:lnTo>
                  <a:pt x="65" y="397"/>
                </a:lnTo>
                <a:lnTo>
                  <a:pt x="69" y="419"/>
                </a:lnTo>
                <a:lnTo>
                  <a:pt x="75" y="442"/>
                </a:lnTo>
                <a:lnTo>
                  <a:pt x="81" y="466"/>
                </a:lnTo>
                <a:lnTo>
                  <a:pt x="87" y="490"/>
                </a:lnTo>
                <a:lnTo>
                  <a:pt x="92" y="515"/>
                </a:lnTo>
                <a:lnTo>
                  <a:pt x="99" y="539"/>
                </a:lnTo>
                <a:lnTo>
                  <a:pt x="105" y="563"/>
                </a:lnTo>
                <a:lnTo>
                  <a:pt x="113" y="587"/>
                </a:lnTo>
                <a:lnTo>
                  <a:pt x="119" y="611"/>
                </a:lnTo>
                <a:lnTo>
                  <a:pt x="125" y="634"/>
                </a:lnTo>
                <a:lnTo>
                  <a:pt x="131" y="655"/>
                </a:lnTo>
                <a:lnTo>
                  <a:pt x="139" y="675"/>
                </a:lnTo>
                <a:lnTo>
                  <a:pt x="144" y="694"/>
                </a:lnTo>
                <a:lnTo>
                  <a:pt x="150" y="710"/>
                </a:lnTo>
                <a:lnTo>
                  <a:pt x="155" y="725"/>
                </a:lnTo>
                <a:lnTo>
                  <a:pt x="160" y="736"/>
                </a:lnTo>
                <a:lnTo>
                  <a:pt x="164" y="749"/>
                </a:lnTo>
                <a:lnTo>
                  <a:pt x="170" y="761"/>
                </a:lnTo>
                <a:lnTo>
                  <a:pt x="175" y="776"/>
                </a:lnTo>
                <a:lnTo>
                  <a:pt x="181" y="791"/>
                </a:lnTo>
                <a:lnTo>
                  <a:pt x="187" y="808"/>
                </a:lnTo>
                <a:lnTo>
                  <a:pt x="195" y="825"/>
                </a:lnTo>
                <a:lnTo>
                  <a:pt x="202" y="844"/>
                </a:lnTo>
                <a:lnTo>
                  <a:pt x="210" y="860"/>
                </a:lnTo>
                <a:lnTo>
                  <a:pt x="217" y="879"/>
                </a:lnTo>
                <a:lnTo>
                  <a:pt x="225" y="898"/>
                </a:lnTo>
                <a:lnTo>
                  <a:pt x="232" y="916"/>
                </a:lnTo>
                <a:lnTo>
                  <a:pt x="239" y="933"/>
                </a:lnTo>
                <a:lnTo>
                  <a:pt x="246" y="952"/>
                </a:lnTo>
                <a:lnTo>
                  <a:pt x="253" y="968"/>
                </a:lnTo>
                <a:lnTo>
                  <a:pt x="259" y="983"/>
                </a:lnTo>
                <a:lnTo>
                  <a:pt x="267" y="998"/>
                </a:lnTo>
                <a:lnTo>
                  <a:pt x="273" y="1013"/>
                </a:lnTo>
                <a:lnTo>
                  <a:pt x="279" y="1028"/>
                </a:lnTo>
                <a:lnTo>
                  <a:pt x="285" y="1045"/>
                </a:lnTo>
                <a:lnTo>
                  <a:pt x="293" y="1061"/>
                </a:lnTo>
                <a:lnTo>
                  <a:pt x="300" y="1079"/>
                </a:lnTo>
                <a:lnTo>
                  <a:pt x="307" y="1096"/>
                </a:lnTo>
                <a:lnTo>
                  <a:pt x="315" y="1113"/>
                </a:lnTo>
                <a:lnTo>
                  <a:pt x="323" y="1130"/>
                </a:lnTo>
                <a:lnTo>
                  <a:pt x="329" y="1147"/>
                </a:lnTo>
                <a:lnTo>
                  <a:pt x="337" y="1164"/>
                </a:lnTo>
                <a:lnTo>
                  <a:pt x="344" y="1179"/>
                </a:lnTo>
                <a:lnTo>
                  <a:pt x="351" y="1194"/>
                </a:lnTo>
                <a:lnTo>
                  <a:pt x="357" y="1207"/>
                </a:lnTo>
                <a:lnTo>
                  <a:pt x="363" y="1220"/>
                </a:lnTo>
                <a:lnTo>
                  <a:pt x="369" y="1231"/>
                </a:lnTo>
                <a:lnTo>
                  <a:pt x="374" y="1240"/>
                </a:lnTo>
                <a:lnTo>
                  <a:pt x="378" y="1250"/>
                </a:lnTo>
                <a:lnTo>
                  <a:pt x="384" y="1260"/>
                </a:lnTo>
                <a:lnTo>
                  <a:pt x="389" y="1272"/>
                </a:lnTo>
                <a:lnTo>
                  <a:pt x="397" y="1283"/>
                </a:lnTo>
                <a:lnTo>
                  <a:pt x="404" y="1296"/>
                </a:lnTo>
                <a:lnTo>
                  <a:pt x="411" y="1308"/>
                </a:lnTo>
                <a:lnTo>
                  <a:pt x="419" y="1322"/>
                </a:lnTo>
                <a:lnTo>
                  <a:pt x="428" y="1334"/>
                </a:lnTo>
                <a:lnTo>
                  <a:pt x="435" y="1348"/>
                </a:lnTo>
                <a:lnTo>
                  <a:pt x="445" y="1362"/>
                </a:lnTo>
                <a:lnTo>
                  <a:pt x="453" y="1374"/>
                </a:lnTo>
                <a:lnTo>
                  <a:pt x="462" y="1386"/>
                </a:lnTo>
                <a:lnTo>
                  <a:pt x="470" y="1399"/>
                </a:lnTo>
                <a:lnTo>
                  <a:pt x="479" y="1410"/>
                </a:lnTo>
                <a:lnTo>
                  <a:pt x="487" y="1421"/>
                </a:lnTo>
                <a:lnTo>
                  <a:pt x="495" y="1430"/>
                </a:lnTo>
                <a:lnTo>
                  <a:pt x="502" y="1440"/>
                </a:lnTo>
                <a:lnTo>
                  <a:pt x="510" y="1449"/>
                </a:lnTo>
                <a:lnTo>
                  <a:pt x="519" y="1461"/>
                </a:lnTo>
                <a:lnTo>
                  <a:pt x="529" y="1470"/>
                </a:lnTo>
                <a:lnTo>
                  <a:pt x="538" y="1481"/>
                </a:lnTo>
                <a:lnTo>
                  <a:pt x="549" y="1492"/>
                </a:lnTo>
                <a:lnTo>
                  <a:pt x="559" y="1504"/>
                </a:lnTo>
                <a:lnTo>
                  <a:pt x="570" y="1513"/>
                </a:lnTo>
                <a:lnTo>
                  <a:pt x="580" y="1524"/>
                </a:lnTo>
                <a:lnTo>
                  <a:pt x="591" y="1534"/>
                </a:lnTo>
                <a:lnTo>
                  <a:pt x="601" y="1544"/>
                </a:lnTo>
                <a:lnTo>
                  <a:pt x="612" y="1554"/>
                </a:lnTo>
                <a:lnTo>
                  <a:pt x="621" y="1563"/>
                </a:lnTo>
                <a:lnTo>
                  <a:pt x="630" y="1570"/>
                </a:lnTo>
                <a:lnTo>
                  <a:pt x="638" y="1577"/>
                </a:lnTo>
                <a:lnTo>
                  <a:pt x="647" y="1582"/>
                </a:lnTo>
                <a:lnTo>
                  <a:pt x="654" y="1589"/>
                </a:lnTo>
                <a:lnTo>
                  <a:pt x="661" y="1595"/>
                </a:lnTo>
                <a:lnTo>
                  <a:pt x="669" y="1600"/>
                </a:lnTo>
                <a:lnTo>
                  <a:pt x="678" y="1606"/>
                </a:lnTo>
                <a:lnTo>
                  <a:pt x="685" y="1612"/>
                </a:lnTo>
                <a:lnTo>
                  <a:pt x="693" y="1618"/>
                </a:lnTo>
                <a:lnTo>
                  <a:pt x="700" y="1624"/>
                </a:lnTo>
                <a:lnTo>
                  <a:pt x="709" y="1628"/>
                </a:lnTo>
                <a:lnTo>
                  <a:pt x="715" y="1634"/>
                </a:lnTo>
                <a:lnTo>
                  <a:pt x="722" y="1640"/>
                </a:lnTo>
                <a:lnTo>
                  <a:pt x="727" y="1645"/>
                </a:lnTo>
                <a:lnTo>
                  <a:pt x="734" y="1648"/>
                </a:lnTo>
                <a:lnTo>
                  <a:pt x="739" y="1652"/>
                </a:lnTo>
                <a:lnTo>
                  <a:pt x="744" y="1655"/>
                </a:lnTo>
                <a:lnTo>
                  <a:pt x="747" y="1658"/>
                </a:lnTo>
                <a:lnTo>
                  <a:pt x="751" y="1660"/>
                </a:lnTo>
                <a:lnTo>
                  <a:pt x="753" y="1662"/>
                </a:lnTo>
                <a:lnTo>
                  <a:pt x="756" y="1664"/>
                </a:lnTo>
                <a:lnTo>
                  <a:pt x="760" y="1666"/>
                </a:lnTo>
                <a:lnTo>
                  <a:pt x="765" y="1668"/>
                </a:lnTo>
                <a:lnTo>
                  <a:pt x="769" y="1672"/>
                </a:lnTo>
                <a:lnTo>
                  <a:pt x="775" y="1674"/>
                </a:lnTo>
                <a:lnTo>
                  <a:pt x="781" y="1677"/>
                </a:lnTo>
                <a:lnTo>
                  <a:pt x="787" y="1679"/>
                </a:lnTo>
                <a:lnTo>
                  <a:pt x="793" y="1683"/>
                </a:lnTo>
                <a:lnTo>
                  <a:pt x="798" y="1685"/>
                </a:lnTo>
                <a:lnTo>
                  <a:pt x="804" y="1689"/>
                </a:lnTo>
                <a:lnTo>
                  <a:pt x="811" y="1691"/>
                </a:lnTo>
                <a:lnTo>
                  <a:pt x="816" y="1695"/>
                </a:lnTo>
                <a:lnTo>
                  <a:pt x="822" y="1696"/>
                </a:lnTo>
                <a:lnTo>
                  <a:pt x="828" y="1699"/>
                </a:lnTo>
                <a:lnTo>
                  <a:pt x="835" y="1701"/>
                </a:lnTo>
                <a:lnTo>
                  <a:pt x="840" y="1705"/>
                </a:lnTo>
                <a:lnTo>
                  <a:pt x="847" y="1706"/>
                </a:lnTo>
                <a:lnTo>
                  <a:pt x="854" y="1710"/>
                </a:lnTo>
                <a:lnTo>
                  <a:pt x="863" y="1712"/>
                </a:lnTo>
                <a:lnTo>
                  <a:pt x="872" y="1715"/>
                </a:lnTo>
                <a:lnTo>
                  <a:pt x="882" y="1718"/>
                </a:lnTo>
                <a:lnTo>
                  <a:pt x="891" y="1722"/>
                </a:lnTo>
                <a:lnTo>
                  <a:pt x="902" y="1724"/>
                </a:lnTo>
                <a:lnTo>
                  <a:pt x="912" y="1728"/>
                </a:lnTo>
                <a:lnTo>
                  <a:pt x="923" y="1731"/>
                </a:lnTo>
                <a:lnTo>
                  <a:pt x="933" y="1734"/>
                </a:lnTo>
                <a:lnTo>
                  <a:pt x="944" y="1736"/>
                </a:lnTo>
                <a:lnTo>
                  <a:pt x="953" y="1740"/>
                </a:lnTo>
                <a:lnTo>
                  <a:pt x="964" y="1742"/>
                </a:lnTo>
                <a:lnTo>
                  <a:pt x="973" y="1744"/>
                </a:lnTo>
                <a:lnTo>
                  <a:pt x="983" y="1746"/>
                </a:lnTo>
                <a:lnTo>
                  <a:pt x="990" y="1750"/>
                </a:lnTo>
                <a:lnTo>
                  <a:pt x="999" y="1752"/>
                </a:lnTo>
                <a:lnTo>
                  <a:pt x="1009" y="1753"/>
                </a:lnTo>
                <a:lnTo>
                  <a:pt x="1021" y="1755"/>
                </a:lnTo>
                <a:lnTo>
                  <a:pt x="1032" y="1759"/>
                </a:lnTo>
                <a:lnTo>
                  <a:pt x="1043" y="1761"/>
                </a:lnTo>
                <a:lnTo>
                  <a:pt x="1055" y="1763"/>
                </a:lnTo>
                <a:lnTo>
                  <a:pt x="1067" y="1764"/>
                </a:lnTo>
                <a:lnTo>
                  <a:pt x="1078" y="1768"/>
                </a:lnTo>
                <a:lnTo>
                  <a:pt x="1089" y="1770"/>
                </a:lnTo>
                <a:lnTo>
                  <a:pt x="1100" y="1771"/>
                </a:lnTo>
                <a:lnTo>
                  <a:pt x="1111" y="1773"/>
                </a:lnTo>
                <a:lnTo>
                  <a:pt x="1121" y="1775"/>
                </a:lnTo>
                <a:lnTo>
                  <a:pt x="1131" y="1777"/>
                </a:lnTo>
                <a:lnTo>
                  <a:pt x="1139" y="1779"/>
                </a:lnTo>
                <a:lnTo>
                  <a:pt x="1148" y="1779"/>
                </a:lnTo>
                <a:lnTo>
                  <a:pt x="1155" y="1781"/>
                </a:lnTo>
                <a:lnTo>
                  <a:pt x="1164" y="1781"/>
                </a:lnTo>
                <a:lnTo>
                  <a:pt x="1173" y="1782"/>
                </a:lnTo>
                <a:lnTo>
                  <a:pt x="1184" y="1782"/>
                </a:lnTo>
                <a:lnTo>
                  <a:pt x="1195" y="1784"/>
                </a:lnTo>
                <a:lnTo>
                  <a:pt x="1206" y="1784"/>
                </a:lnTo>
                <a:lnTo>
                  <a:pt x="1217" y="1785"/>
                </a:lnTo>
                <a:lnTo>
                  <a:pt x="1231" y="1785"/>
                </a:lnTo>
                <a:lnTo>
                  <a:pt x="1242" y="1787"/>
                </a:lnTo>
                <a:lnTo>
                  <a:pt x="1253" y="1787"/>
                </a:lnTo>
                <a:lnTo>
                  <a:pt x="1265" y="1789"/>
                </a:lnTo>
                <a:lnTo>
                  <a:pt x="1277" y="1789"/>
                </a:lnTo>
                <a:lnTo>
                  <a:pt x="1287" y="1791"/>
                </a:lnTo>
                <a:lnTo>
                  <a:pt x="1299" y="1791"/>
                </a:lnTo>
                <a:lnTo>
                  <a:pt x="1308" y="1791"/>
                </a:lnTo>
                <a:lnTo>
                  <a:pt x="1319" y="1791"/>
                </a:lnTo>
                <a:lnTo>
                  <a:pt x="1327" y="1793"/>
                </a:lnTo>
                <a:lnTo>
                  <a:pt x="1337" y="1793"/>
                </a:lnTo>
                <a:lnTo>
                  <a:pt x="1347" y="1794"/>
                </a:lnTo>
                <a:lnTo>
                  <a:pt x="1358" y="1794"/>
                </a:lnTo>
                <a:lnTo>
                  <a:pt x="1370" y="1795"/>
                </a:lnTo>
                <a:lnTo>
                  <a:pt x="1381" y="1795"/>
                </a:lnTo>
                <a:lnTo>
                  <a:pt x="1393" y="1795"/>
                </a:lnTo>
                <a:lnTo>
                  <a:pt x="1406" y="1795"/>
                </a:lnTo>
                <a:lnTo>
                  <a:pt x="1417" y="1796"/>
                </a:lnTo>
                <a:lnTo>
                  <a:pt x="1429" y="1796"/>
                </a:lnTo>
                <a:lnTo>
                  <a:pt x="1440" y="1796"/>
                </a:lnTo>
                <a:lnTo>
                  <a:pt x="1452" y="1796"/>
                </a:lnTo>
                <a:lnTo>
                  <a:pt x="1461" y="1796"/>
                </a:lnTo>
                <a:lnTo>
                  <a:pt x="1472" y="1796"/>
                </a:lnTo>
                <a:lnTo>
                  <a:pt x="1480" y="1796"/>
                </a:lnTo>
                <a:lnTo>
                  <a:pt x="1489" y="1796"/>
                </a:lnTo>
                <a:lnTo>
                  <a:pt x="1494" y="1796"/>
                </a:lnTo>
                <a:lnTo>
                  <a:pt x="1499" y="1796"/>
                </a:lnTo>
                <a:lnTo>
                  <a:pt x="1501" y="1796"/>
                </a:lnTo>
                <a:lnTo>
                  <a:pt x="1505" y="1796"/>
                </a:lnTo>
                <a:lnTo>
                  <a:pt x="1506" y="1796"/>
                </a:lnTo>
                <a:lnTo>
                  <a:pt x="1507" y="1796"/>
                </a:lnTo>
                <a:lnTo>
                  <a:pt x="1509" y="1796"/>
                </a:lnTo>
                <a:lnTo>
                  <a:pt x="1511" y="1796"/>
                </a:lnTo>
                <a:lnTo>
                  <a:pt x="1513" y="1796"/>
                </a:lnTo>
                <a:lnTo>
                  <a:pt x="1516" y="1796"/>
                </a:lnTo>
                <a:lnTo>
                  <a:pt x="1519" y="1796"/>
                </a:lnTo>
                <a:lnTo>
                  <a:pt x="1525" y="1796"/>
                </a:lnTo>
                <a:lnTo>
                  <a:pt x="1531" y="1796"/>
                </a:lnTo>
                <a:lnTo>
                  <a:pt x="1540" y="1796"/>
                </a:lnTo>
                <a:lnTo>
                  <a:pt x="1550" y="1796"/>
                </a:lnTo>
                <a:lnTo>
                  <a:pt x="1564" y="1796"/>
                </a:lnTo>
              </a:path>
            </a:pathLst>
          </a:custGeom>
          <a:noFill/>
          <a:ln w="3168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710160" y="2454120"/>
            <a:ext cx="2474640" cy="4272120"/>
          </a:xfrm>
          <a:prstGeom prst="line">
            <a:avLst/>
          </a:prstGeom>
          <a:ln w="12708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238400" y="6986520"/>
            <a:ext cx="706428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1238400" y="1531800"/>
            <a:ext cx="0" cy="54547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1485720" y="1546200"/>
            <a:ext cx="683892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335800" y="1544760"/>
            <a:ext cx="0" cy="52718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967280" y="3857760"/>
            <a:ext cx="4762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20920" y="2085840"/>
            <a:ext cx="474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7475400" y="6912000"/>
            <a:ext cx="468360" cy="812880"/>
            <a:chOff x="7475400" y="6912000"/>
            <a:chExt cx="468360" cy="812880"/>
          </a:xfrm>
        </p:grpSpPr>
        <p:sp>
          <p:nvSpPr>
            <p:cNvPr id="1640" name=""/>
            <p:cNvSpPr/>
            <p:nvPr/>
          </p:nvSpPr>
          <p:spPr>
            <a:xfrm>
              <a:off x="7475400" y="700740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734240" y="7343640"/>
              <a:ext cx="198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746840" y="691200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22280" y="1982880"/>
            <a:ext cx="468360" cy="814320"/>
            <a:chOff x="422280" y="1982880"/>
            <a:chExt cx="468360" cy="814320"/>
          </a:xfrm>
        </p:grpSpPr>
        <p:sp>
          <p:nvSpPr>
            <p:cNvPr id="1644" name=""/>
            <p:cNvSpPr/>
            <p:nvPr/>
          </p:nvSpPr>
          <p:spPr>
            <a:xfrm>
              <a:off x="422280" y="2076480"/>
              <a:ext cx="270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82560" y="241632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93720" y="19828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8812080" y="5799240"/>
            <a:ext cx="465120" cy="812520"/>
            <a:chOff x="8812080" y="5799240"/>
            <a:chExt cx="465120" cy="812520"/>
          </a:xfrm>
        </p:grpSpPr>
        <p:sp>
          <p:nvSpPr>
            <p:cNvPr id="1648" name=""/>
            <p:cNvSpPr/>
            <p:nvPr/>
          </p:nvSpPr>
          <p:spPr>
            <a:xfrm>
              <a:off x="8812080" y="5892840"/>
              <a:ext cx="2685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072720" y="623088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9082080" y="5799240"/>
              <a:ext cx="19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2043000" y="765000"/>
            <a:ext cx="466920" cy="806760"/>
            <a:chOff x="2043000" y="765000"/>
            <a:chExt cx="466920" cy="806760"/>
          </a:xfrm>
        </p:grpSpPr>
        <p:sp>
          <p:nvSpPr>
            <p:cNvPr id="1652" name=""/>
            <p:cNvSpPr/>
            <p:nvPr/>
          </p:nvSpPr>
          <p:spPr>
            <a:xfrm>
              <a:off x="2043000" y="852480"/>
              <a:ext cx="2653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301840" y="119052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313000" y="765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8439120" y="846000"/>
            <a:ext cx="620640" cy="720720"/>
            <a:chOff x="8439120" y="846000"/>
            <a:chExt cx="620640" cy="720720"/>
          </a:xfrm>
        </p:grpSpPr>
        <p:sp>
          <p:nvSpPr>
            <p:cNvPr id="1656" name=""/>
            <p:cNvSpPr/>
            <p:nvPr/>
          </p:nvSpPr>
          <p:spPr>
            <a:xfrm>
              <a:off x="8439120" y="1006560"/>
              <a:ext cx="41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862840" y="84600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546120" y="7021440"/>
            <a:ext cx="619200" cy="720720"/>
            <a:chOff x="546120" y="7021440"/>
            <a:chExt cx="619200" cy="720720"/>
          </a:xfrm>
        </p:grpSpPr>
        <p:sp>
          <p:nvSpPr>
            <p:cNvPr id="1659" name=""/>
            <p:cNvSpPr/>
            <p:nvPr/>
          </p:nvSpPr>
          <p:spPr>
            <a:xfrm>
              <a:off x="546120" y="7182000"/>
              <a:ext cx="4125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68400" y="7021440"/>
              <a:ext cx="196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691240" y="1779480"/>
            <a:ext cx="4014720" cy="2513160"/>
          </a:xfrm>
          <a:prstGeom prst="rect">
            <a:avLst/>
          </a:prstGeom>
          <a:solidFill>
            <a:srgbClr val="ffffc2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73040" indent="-1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4800600" y="3581280"/>
            <a:ext cx="1217520" cy="654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3886200" y="2362320"/>
            <a:ext cx="2057400" cy="11088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943600" y="1828800"/>
            <a:ext cx="358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Ingresos en la distribu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58080" y="2819520"/>
            <a:ext cx="339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e corresponden con el gasto en la asign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/>
          </p:nvPr>
        </p:nvSpPr>
        <p:spPr>
          <a:xfrm>
            <a:off x="446040" y="15192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Juan y Pedro como un microcosm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1371600"/>
            <a:ext cx="9829800" cy="640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spcBef>
                <a:spcPts val="1125"/>
              </a:spcBef>
              <a:buClr>
                <a:srgbClr val="000000"/>
              </a:buClr>
              <a:buSzPct val="46000"/>
              <a:buFont typeface="Monotype Sorts" charset="2"/>
              <a:buChar char="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La historia de equilibrio de R.Crusoe puede traducirse a una economía con muchas person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125"/>
              </a:spcBef>
              <a:buClr>
                <a:srgbClr val="000000"/>
              </a:buClr>
              <a:buSzPct val="46000"/>
              <a:buFont typeface="Monotype Sorts" charset="2"/>
              <a:buChar char="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El rol de los precios en la asignación y en el equilibrio es cruc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125"/>
              </a:spcBef>
              <a:buClr>
                <a:srgbClr val="000000"/>
              </a:buClr>
              <a:buSzPct val="46000"/>
              <a:buFont typeface="Monotype Sorts" charset="2"/>
              <a:buChar char="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El equilibrio depende de la distribución original de los recur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125"/>
              </a:spcBef>
              <a:buClr>
                <a:srgbClr val="000000"/>
              </a:buClr>
              <a:buSzPct val="46000"/>
              <a:buFont typeface="Monotype Sorts" charset="2"/>
              <a:buChar char="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Los razgos salientes pueden ser vistos en el modelo de Juan y Ped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spcBef>
                <a:spcPts val="1125"/>
              </a:spcBef>
              <a:buClr>
                <a:srgbClr val="000000"/>
              </a:buClr>
              <a:buSzPct val="46000"/>
              <a:buFont typeface="Monotype Sorts" charset="2"/>
              <a:buChar char="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ero ¿porqué estos tipos habrían de aceptar los precios que se les ofrece.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33120" y="2217600"/>
            <a:ext cx="8426520" cy="472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47520">
            <a:solidFill>
              <a:srgbClr val="00008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/>
          </a:bodyPr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Muchos actores en la economía...</a:t>
            </a:r>
            <a:br>
              <a:rPr sz="3300"/>
            </a:b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...y la posibilidad de su interacción.</a:t>
            </a:r>
            <a:br>
              <a:rPr sz="3300"/>
            </a:b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La “endogenización” de los precios en la economía.</a:t>
            </a:r>
            <a:br>
              <a:rPr sz="3300"/>
            </a:b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80"/>
                </a:solidFill>
                <a:latin typeface="Times New Roman"/>
              </a:rPr>
              <a:t>Pero ¿qué queremos decir por “una economía”...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795240"/>
            <a:ext cx="9453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as allá de Crusoe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220000">
            <a:off x="0" y="1294920"/>
            <a:ext cx="9788400" cy="5027760"/>
          </a:xfrm>
          <a:prstGeom prst="rect">
            <a:avLst/>
          </a:prstGeom>
          <a:solidFill>
            <a:srgbClr val="ffff99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844560" indent="-38736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rush738 BT"/>
              </a:rPr>
              <a:t>requerimos esto para dar significado a la palabra ”equilibrio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63360" y="1576080"/>
            <a:ext cx="9931680" cy="6299280"/>
          </a:xfrm>
          <a:prstGeom prst="roundRect">
            <a:avLst>
              <a:gd name="adj" fmla="val 0"/>
            </a:avLst>
          </a:prstGeom>
          <a:solidFill>
            <a:srgbClr val="810000"/>
          </a:solidFill>
          <a:ln w="19080">
            <a:solidFill>
              <a:srgbClr val="8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2440" y="2044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res componentes mayo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848040"/>
            <a:ext cx="595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ffff"/>
                </a:solidFill>
                <a:latin typeface="ShelleyVolante BT"/>
              </a:rPr>
              <a:t>Estos encapsulan casi todos los pasos en el curso hasta aqu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0" y="4308480"/>
            <a:ext cx="4791240" cy="34639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4857840"/>
            <a:ext cx="4425840" cy="2914560"/>
            <a:chOff x="0" y="4857840"/>
            <a:chExt cx="4425840" cy="2914560"/>
          </a:xfrm>
        </p:grpSpPr>
        <p:sp>
          <p:nvSpPr>
            <p:cNvPr id="95" name=""/>
            <p:cNvSpPr/>
            <p:nvPr/>
          </p:nvSpPr>
          <p:spPr>
            <a:xfrm>
              <a:off x="0" y="4857840"/>
              <a:ext cx="4425840" cy="291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47520">
              <a:solidFill>
                <a:srgbClr val="ff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797040" y="5140440"/>
              <a:ext cx="3112920" cy="2419200"/>
              <a:chOff x="797040" y="5140440"/>
              <a:chExt cx="3112920" cy="2419200"/>
            </a:xfrm>
          </p:grpSpPr>
          <p:sp>
            <p:nvSpPr>
              <p:cNvPr id="97" name=""/>
              <p:cNvSpPr/>
              <p:nvPr/>
            </p:nvSpPr>
            <p:spPr>
              <a:xfrm>
                <a:off x="804960" y="6153120"/>
                <a:ext cx="3101760" cy="1365120"/>
              </a:xfrm>
              <a:custGeom>
                <a:avLst/>
                <a:gdLst/>
                <a:ahLst/>
                <a:rect l="l" t="t" r="r" b="b"/>
                <a:pathLst>
                  <a:path w="1954" h="860">
                    <a:moveTo>
                      <a:pt x="0" y="198"/>
                    </a:moveTo>
                    <a:lnTo>
                      <a:pt x="985" y="859"/>
                    </a:lnTo>
                    <a:lnTo>
                      <a:pt x="1953" y="215"/>
                    </a:lnTo>
                    <a:lnTo>
                      <a:pt x="901" y="0"/>
                    </a:lnTo>
                    <a:lnTo>
                      <a:pt x="0" y="198"/>
                    </a:lnTo>
                    <a:lnTo>
                      <a:pt x="0" y="198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3160" y="6467400"/>
                <a:ext cx="1568520" cy="1092240"/>
              </a:xfrm>
              <a:custGeom>
                <a:avLst/>
                <a:gdLst/>
                <a:ahLst/>
                <a:rect l="l" t="t" r="r" b="b"/>
                <a:pathLst>
                  <a:path w="988" h="688">
                    <a:moveTo>
                      <a:pt x="0" y="0"/>
                    </a:moveTo>
                    <a:lnTo>
                      <a:pt x="987" y="660"/>
                    </a:lnTo>
                    <a:lnTo>
                      <a:pt x="987" y="68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70240" y="6496200"/>
                <a:ext cx="1539720" cy="1063440"/>
              </a:xfrm>
              <a:custGeom>
                <a:avLst/>
                <a:gdLst/>
                <a:ahLst/>
                <a:rect l="l" t="t" r="r" b="b"/>
                <a:pathLst>
                  <a:path w="970" h="670">
                    <a:moveTo>
                      <a:pt x="0" y="642"/>
                    </a:moveTo>
                    <a:lnTo>
                      <a:pt x="969" y="0"/>
                    </a:lnTo>
                    <a:lnTo>
                      <a:pt x="969" y="24"/>
                    </a:lnTo>
                    <a:lnTo>
                      <a:pt x="0" y="669"/>
                    </a:lnTo>
                    <a:lnTo>
                      <a:pt x="0" y="642"/>
                    </a:lnTo>
                    <a:lnTo>
                      <a:pt x="0" y="642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8840" y="6421320"/>
                <a:ext cx="1519560" cy="1035000"/>
              </a:xfrm>
              <a:custGeom>
                <a:avLst/>
                <a:gdLst/>
                <a:ahLst/>
                <a:rect l="l" t="t" r="r" b="b"/>
                <a:pathLst>
                  <a:path w="957" h="652">
                    <a:moveTo>
                      <a:pt x="0" y="0"/>
                    </a:moveTo>
                    <a:lnTo>
                      <a:pt x="0" y="33"/>
                    </a:lnTo>
                    <a:lnTo>
                      <a:pt x="956" y="651"/>
                    </a:lnTo>
                    <a:lnTo>
                      <a:pt x="956" y="55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6600" y="7182000"/>
                <a:ext cx="208080" cy="280800"/>
              </a:xfrm>
              <a:custGeom>
                <a:avLst/>
                <a:gdLst/>
                <a:ahLst/>
                <a:rect l="l" t="t" r="r" b="b"/>
                <a:pathLst>
                  <a:path w="131" h="177">
                    <a:moveTo>
                      <a:pt x="0" y="74"/>
                    </a:moveTo>
                    <a:lnTo>
                      <a:pt x="130" y="0"/>
                    </a:lnTo>
                    <a:lnTo>
                      <a:pt x="130" y="94"/>
                    </a:lnTo>
                    <a:lnTo>
                      <a:pt x="0" y="176"/>
                    </a:lnTo>
                    <a:lnTo>
                      <a:pt x="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70240" y="6378480"/>
                <a:ext cx="1533240" cy="947880"/>
              </a:xfrm>
              <a:custGeom>
                <a:avLst/>
                <a:gdLst/>
                <a:ahLst/>
                <a:rect l="l" t="t" r="r" b="b"/>
                <a:pathLst>
                  <a:path w="966" h="597">
                    <a:moveTo>
                      <a:pt x="0" y="572"/>
                    </a:moveTo>
                    <a:lnTo>
                      <a:pt x="965" y="0"/>
                    </a:lnTo>
                    <a:lnTo>
                      <a:pt x="965" y="19"/>
                    </a:lnTo>
                    <a:lnTo>
                      <a:pt x="0" y="596"/>
                    </a:lnTo>
                    <a:lnTo>
                      <a:pt x="0" y="572"/>
                    </a:lnTo>
                    <a:lnTo>
                      <a:pt x="0" y="572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97040" y="6059520"/>
                <a:ext cx="3106440" cy="1228680"/>
              </a:xfrm>
              <a:custGeom>
                <a:avLst/>
                <a:gdLst/>
                <a:ahLst/>
                <a:rect l="l" t="t" r="r" b="b"/>
                <a:pathLst>
                  <a:path w="1957" h="774">
                    <a:moveTo>
                      <a:pt x="0" y="174"/>
                    </a:moveTo>
                    <a:lnTo>
                      <a:pt x="906" y="0"/>
                    </a:lnTo>
                    <a:lnTo>
                      <a:pt x="1956" y="201"/>
                    </a:lnTo>
                    <a:lnTo>
                      <a:pt x="991" y="773"/>
                    </a:lnTo>
                    <a:lnTo>
                      <a:pt x="0" y="174"/>
                    </a:lnTo>
                    <a:lnTo>
                      <a:pt x="0" y="174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87720" y="6775560"/>
                <a:ext cx="203040" cy="249120"/>
              </a:xfrm>
              <a:custGeom>
                <a:avLst/>
                <a:gdLst/>
                <a:ahLst/>
                <a:rect l="l" t="t" r="r" b="b"/>
                <a:pathLst>
                  <a:path w="128" h="157">
                    <a:moveTo>
                      <a:pt x="2" y="75"/>
                    </a:moveTo>
                    <a:lnTo>
                      <a:pt x="0" y="156"/>
                    </a:lnTo>
                    <a:lnTo>
                      <a:pt x="127" y="74"/>
                    </a:lnTo>
                    <a:lnTo>
                      <a:pt x="127" y="0"/>
                    </a:lnTo>
                    <a:lnTo>
                      <a:pt x="2" y="75"/>
                    </a:lnTo>
                    <a:lnTo>
                      <a:pt x="2" y="75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65320" y="6894360"/>
                <a:ext cx="127080" cy="12888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79" y="80"/>
                    </a:moveTo>
                    <a:lnTo>
                      <a:pt x="0" y="47"/>
                    </a:lnTo>
                    <a:lnTo>
                      <a:pt x="79" y="0"/>
                    </a:lnTo>
                    <a:lnTo>
                      <a:pt x="79" y="80"/>
                    </a:lnTo>
                    <a:lnTo>
                      <a:pt x="79" y="8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45080" y="643104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76" h="106">
                    <a:moveTo>
                      <a:pt x="75" y="0"/>
                    </a:moveTo>
                    <a:lnTo>
                      <a:pt x="75" y="55"/>
                    </a:lnTo>
                    <a:lnTo>
                      <a:pt x="0" y="105"/>
                    </a:lnTo>
                    <a:lnTo>
                      <a:pt x="0" y="45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41760" y="650232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65" y="60"/>
                    </a:moveTo>
                    <a:lnTo>
                      <a:pt x="0" y="38"/>
                    </a:lnTo>
                    <a:lnTo>
                      <a:pt x="65" y="0"/>
                    </a:lnTo>
                    <a:lnTo>
                      <a:pt x="65" y="60"/>
                    </a:lnTo>
                    <a:lnTo>
                      <a:pt x="65" y="6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040" y="6335640"/>
                <a:ext cx="1574640" cy="996840"/>
              </a:xfrm>
              <a:custGeom>
                <a:avLst/>
                <a:gdLst/>
                <a:ahLst/>
                <a:rect l="l" t="t" r="r" b="b"/>
                <a:pathLst>
                  <a:path w="992" h="628">
                    <a:moveTo>
                      <a:pt x="0" y="0"/>
                    </a:moveTo>
                    <a:lnTo>
                      <a:pt x="0" y="19"/>
                    </a:lnTo>
                    <a:lnTo>
                      <a:pt x="991" y="627"/>
                    </a:lnTo>
                    <a:lnTo>
                      <a:pt x="991" y="59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571760" y="6804000"/>
                <a:ext cx="79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28680" y="714204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62280" y="697860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7360" y="6627960"/>
                <a:ext cx="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39680" y="6475320"/>
                <a:ext cx="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09680" y="6265800"/>
                <a:ext cx="1693800" cy="793800"/>
              </a:xfrm>
              <a:custGeom>
                <a:avLst/>
                <a:gdLst/>
                <a:ahLst/>
                <a:rect l="l" t="t" r="r" b="b"/>
                <a:pathLst>
                  <a:path w="1067" h="500">
                    <a:moveTo>
                      <a:pt x="0" y="499"/>
                    </a:moveTo>
                    <a:lnTo>
                      <a:pt x="343" y="491"/>
                    </a:lnTo>
                    <a:lnTo>
                      <a:pt x="1066" y="70"/>
                    </a:lnTo>
                    <a:lnTo>
                      <a:pt x="740" y="0"/>
                    </a:lnTo>
                    <a:lnTo>
                      <a:pt x="0" y="499"/>
                    </a:lnTo>
                    <a:lnTo>
                      <a:pt x="0" y="499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7f60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0560" y="6130800"/>
                <a:ext cx="1843200" cy="569880"/>
              </a:xfrm>
              <a:custGeom>
                <a:avLst/>
                <a:gdLst/>
                <a:ahLst/>
                <a:rect l="l" t="t" r="r" b="b"/>
                <a:pathLst>
                  <a:path w="1161" h="359">
                    <a:moveTo>
                      <a:pt x="0" y="358"/>
                    </a:moveTo>
                    <a:lnTo>
                      <a:pt x="717" y="311"/>
                    </a:lnTo>
                    <a:lnTo>
                      <a:pt x="1160" y="132"/>
                    </a:lnTo>
                    <a:lnTo>
                      <a:pt x="1137" y="101"/>
                    </a:lnTo>
                    <a:lnTo>
                      <a:pt x="708" y="30"/>
                    </a:lnTo>
                    <a:lnTo>
                      <a:pt x="561" y="0"/>
                    </a:lnTo>
                    <a:lnTo>
                      <a:pt x="0" y="358"/>
                    </a:lnTo>
                    <a:lnTo>
                      <a:pt x="0" y="358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7f60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863360" y="6289560"/>
                <a:ext cx="1601640" cy="6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03080" y="6243480"/>
                <a:ext cx="157644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269720" y="6180120"/>
                <a:ext cx="16002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123640" y="6338880"/>
                <a:ext cx="159084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985320" y="6126120"/>
                <a:ext cx="1605240" cy="36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92360" y="5140440"/>
                <a:ext cx="892080" cy="1573200"/>
              </a:xfrm>
              <a:custGeom>
                <a:avLst/>
                <a:gdLst/>
                <a:ahLst/>
                <a:rect l="l" t="t" r="r" b="b"/>
                <a:pathLst>
                  <a:path w="562" h="991">
                    <a:moveTo>
                      <a:pt x="0" y="0"/>
                    </a:moveTo>
                    <a:lnTo>
                      <a:pt x="561" y="55"/>
                    </a:lnTo>
                    <a:lnTo>
                      <a:pt x="561" y="799"/>
                    </a:lnTo>
                    <a:lnTo>
                      <a:pt x="0" y="99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44720" y="5140440"/>
                <a:ext cx="649080" cy="1573200"/>
              </a:xfrm>
              <a:custGeom>
                <a:avLst/>
                <a:gdLst/>
                <a:ahLst/>
                <a:rect l="l" t="t" r="r" b="b"/>
                <a:pathLst>
                  <a:path w="409" h="991">
                    <a:moveTo>
                      <a:pt x="408" y="0"/>
                    </a:moveTo>
                    <a:lnTo>
                      <a:pt x="0" y="60"/>
                    </a:lnTo>
                    <a:lnTo>
                      <a:pt x="0" y="776"/>
                    </a:lnTo>
                    <a:lnTo>
                      <a:pt x="408" y="990"/>
                    </a:lnTo>
                    <a:lnTo>
                      <a:pt x="408" y="0"/>
                    </a:lnTo>
                    <a:lnTo>
                      <a:pt x="408" y="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95280" y="5921280"/>
                <a:ext cx="193680" cy="507960"/>
              </a:xfrm>
              <a:custGeom>
                <a:avLst/>
                <a:gdLst/>
                <a:ahLst/>
                <a:rect l="l" t="t" r="r" b="b"/>
                <a:pathLst>
                  <a:path w="122" h="320">
                    <a:moveTo>
                      <a:pt x="28" y="290"/>
                    </a:moveTo>
                    <a:lnTo>
                      <a:pt x="28" y="97"/>
                    </a:lnTo>
                    <a:lnTo>
                      <a:pt x="0" y="90"/>
                    </a:lnTo>
                    <a:lnTo>
                      <a:pt x="58" y="0"/>
                    </a:lnTo>
                    <a:lnTo>
                      <a:pt x="121" y="131"/>
                    </a:lnTo>
                    <a:lnTo>
                      <a:pt x="84" y="120"/>
                    </a:lnTo>
                    <a:lnTo>
                      <a:pt x="84" y="319"/>
                    </a:lnTo>
                    <a:lnTo>
                      <a:pt x="28" y="290"/>
                    </a:lnTo>
                    <a:lnTo>
                      <a:pt x="28" y="29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44720" y="5140440"/>
                <a:ext cx="649080" cy="152280"/>
              </a:xfrm>
              <a:custGeom>
                <a:avLst/>
                <a:gdLst/>
                <a:ahLst/>
                <a:rect l="l" t="t" r="r" b="b"/>
                <a:pathLst>
                  <a:path w="409" h="96">
                    <a:moveTo>
                      <a:pt x="0" y="60"/>
                    </a:moveTo>
                    <a:lnTo>
                      <a:pt x="0" y="95"/>
                    </a:lnTo>
                    <a:lnTo>
                      <a:pt x="408" y="44"/>
                    </a:lnTo>
                    <a:lnTo>
                      <a:pt x="408" y="0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92360" y="5140440"/>
                <a:ext cx="892080" cy="141120"/>
              </a:xfrm>
              <a:custGeom>
                <a:avLst/>
                <a:gdLst/>
                <a:ahLst/>
                <a:rect l="l" t="t" r="r" b="b"/>
                <a:pathLst>
                  <a:path w="562" h="89">
                    <a:moveTo>
                      <a:pt x="0" y="44"/>
                    </a:moveTo>
                    <a:lnTo>
                      <a:pt x="561" y="88"/>
                    </a:lnTo>
                    <a:lnTo>
                      <a:pt x="561" y="56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92360" y="5210280"/>
                <a:ext cx="149040" cy="1501560"/>
              </a:xfrm>
              <a:custGeom>
                <a:avLst/>
                <a:gdLst/>
                <a:ahLst/>
                <a:rect l="l" t="t" r="r" b="b"/>
                <a:pathLst>
                  <a:path w="94" h="946">
                    <a:moveTo>
                      <a:pt x="0" y="0"/>
                    </a:moveTo>
                    <a:lnTo>
                      <a:pt x="93" y="8"/>
                    </a:lnTo>
                    <a:lnTo>
                      <a:pt x="93" y="912"/>
                    </a:lnTo>
                    <a:lnTo>
                      <a:pt x="2" y="9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59160" y="5267160"/>
                <a:ext cx="125280" cy="1185840"/>
              </a:xfrm>
              <a:custGeom>
                <a:avLst/>
                <a:gdLst/>
                <a:ahLst/>
                <a:rect l="l" t="t" r="r" b="b"/>
                <a:pathLst>
                  <a:path w="79" h="747">
                    <a:moveTo>
                      <a:pt x="0" y="0"/>
                    </a:moveTo>
                    <a:lnTo>
                      <a:pt x="78" y="6"/>
                    </a:lnTo>
                    <a:lnTo>
                      <a:pt x="78" y="719"/>
                    </a:lnTo>
                    <a:lnTo>
                      <a:pt x="0" y="74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19200" y="5268960"/>
                <a:ext cx="41400" cy="1130400"/>
              </a:xfrm>
              <a:custGeom>
                <a:avLst/>
                <a:gdLst/>
                <a:ahLst/>
                <a:rect l="l" t="t" r="r" b="b"/>
                <a:pathLst>
                  <a:path w="26" h="712">
                    <a:moveTo>
                      <a:pt x="25" y="0"/>
                    </a:moveTo>
                    <a:lnTo>
                      <a:pt x="25" y="711"/>
                    </a:lnTo>
                    <a:lnTo>
                      <a:pt x="0" y="711"/>
                    </a:lnTo>
                    <a:lnTo>
                      <a:pt x="2" y="5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39960" y="5222880"/>
                <a:ext cx="620640" cy="5544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0" y="0"/>
                    </a:moveTo>
                    <a:lnTo>
                      <a:pt x="390" y="28"/>
                    </a:lnTo>
                    <a:lnTo>
                      <a:pt x="362" y="3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4720" y="5275080"/>
                <a:ext cx="131760" cy="1113120"/>
              </a:xfrm>
              <a:custGeom>
                <a:avLst/>
                <a:gdLst/>
                <a:ahLst/>
                <a:rect l="l" t="t" r="r" b="b"/>
                <a:pathLst>
                  <a:path w="83" h="701">
                    <a:moveTo>
                      <a:pt x="0" y="10"/>
                    </a:moveTo>
                    <a:lnTo>
                      <a:pt x="82" y="0"/>
                    </a:lnTo>
                    <a:lnTo>
                      <a:pt x="82" y="700"/>
                    </a:lnTo>
                    <a:lnTo>
                      <a:pt x="0" y="66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74680" y="5222880"/>
                <a:ext cx="407880" cy="63360"/>
              </a:xfrm>
              <a:custGeom>
                <a:avLst/>
                <a:gdLst/>
                <a:ahLst/>
                <a:rect l="l" t="t" r="r" b="b"/>
                <a:pathLst>
                  <a:path w="257" h="40">
                    <a:moveTo>
                      <a:pt x="0" y="33"/>
                    </a:moveTo>
                    <a:lnTo>
                      <a:pt x="21" y="39"/>
                    </a:lnTo>
                    <a:lnTo>
                      <a:pt x="256" y="11"/>
                    </a:lnTo>
                    <a:lnTo>
                      <a:pt x="256" y="0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81120" y="5210280"/>
                <a:ext cx="115920" cy="1501560"/>
              </a:xfrm>
              <a:custGeom>
                <a:avLst/>
                <a:gdLst/>
                <a:ahLst/>
                <a:rect l="l" t="t" r="r" b="b"/>
                <a:pathLst>
                  <a:path w="73" h="946">
                    <a:moveTo>
                      <a:pt x="0" y="8"/>
                    </a:moveTo>
                    <a:lnTo>
                      <a:pt x="70" y="0"/>
                    </a:lnTo>
                    <a:lnTo>
                      <a:pt x="72" y="945"/>
                    </a:lnTo>
                    <a:lnTo>
                      <a:pt x="0" y="90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74680" y="5275080"/>
                <a:ext cx="34920" cy="1111320"/>
              </a:xfrm>
              <a:custGeom>
                <a:avLst/>
                <a:gdLst/>
                <a:ahLst/>
                <a:rect l="l" t="t" r="r" b="b"/>
                <a:pathLst>
                  <a:path w="22" h="700">
                    <a:moveTo>
                      <a:pt x="0" y="0"/>
                    </a:moveTo>
                    <a:lnTo>
                      <a:pt x="21" y="6"/>
                    </a:lnTo>
                    <a:lnTo>
                      <a:pt x="21" y="695"/>
                    </a:lnTo>
                    <a:lnTo>
                      <a:pt x="0" y="69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74680" y="6378480"/>
                <a:ext cx="407880" cy="214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4"/>
                    </a:moveTo>
                    <a:lnTo>
                      <a:pt x="21" y="0"/>
                    </a:lnTo>
                    <a:lnTo>
                      <a:pt x="256" y="113"/>
                    </a:lnTo>
                    <a:lnTo>
                      <a:pt x="256" y="13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44720" y="6323040"/>
                <a:ext cx="652320" cy="390600"/>
              </a:xfrm>
              <a:custGeom>
                <a:avLst/>
                <a:gdLst/>
                <a:ahLst/>
                <a:rect l="l" t="t" r="r" b="b"/>
                <a:pathLst>
                  <a:path w="411" h="246">
                    <a:moveTo>
                      <a:pt x="0" y="0"/>
                    </a:moveTo>
                    <a:lnTo>
                      <a:pt x="0" y="30"/>
                    </a:lnTo>
                    <a:lnTo>
                      <a:pt x="410" y="245"/>
                    </a:lnTo>
                    <a:lnTo>
                      <a:pt x="410" y="20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960" y="6397560"/>
                <a:ext cx="620640" cy="195120"/>
              </a:xfrm>
              <a:custGeom>
                <a:avLst/>
                <a:gdLst/>
                <a:ahLst/>
                <a:rect l="l" t="t" r="r" b="b"/>
                <a:pathLst>
                  <a:path w="391" h="123">
                    <a:moveTo>
                      <a:pt x="390" y="0"/>
                    </a:moveTo>
                    <a:lnTo>
                      <a:pt x="365" y="0"/>
                    </a:lnTo>
                    <a:lnTo>
                      <a:pt x="0" y="112"/>
                    </a:lnTo>
                    <a:lnTo>
                      <a:pt x="0" y="122"/>
                    </a:lnTo>
                    <a:lnTo>
                      <a:pt x="390" y="0"/>
                    </a:lnTo>
                    <a:lnTo>
                      <a:pt x="39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38160" y="6399360"/>
                <a:ext cx="621000" cy="260280"/>
              </a:xfrm>
              <a:custGeom>
                <a:avLst/>
                <a:gdLst/>
                <a:ahLst/>
                <a:rect l="l" t="t" r="r" b="b"/>
                <a:pathLst>
                  <a:path w="391" h="164">
                    <a:moveTo>
                      <a:pt x="0" y="121"/>
                    </a:moveTo>
                    <a:lnTo>
                      <a:pt x="0" y="163"/>
                    </a:lnTo>
                    <a:lnTo>
                      <a:pt x="390" y="30"/>
                    </a:lnTo>
                    <a:lnTo>
                      <a:pt x="390" y="0"/>
                    </a:lnTo>
                    <a:lnTo>
                      <a:pt x="0" y="121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74880" y="5684760"/>
                <a:ext cx="598680" cy="1176480"/>
              </a:xfrm>
              <a:custGeom>
                <a:avLst/>
                <a:gdLst/>
                <a:ahLst/>
                <a:rect l="l" t="t" r="r" b="b"/>
                <a:pathLst>
                  <a:path w="377" h="741">
                    <a:moveTo>
                      <a:pt x="0" y="740"/>
                    </a:moveTo>
                    <a:lnTo>
                      <a:pt x="0" y="42"/>
                    </a:lnTo>
                    <a:lnTo>
                      <a:pt x="376" y="0"/>
                    </a:lnTo>
                    <a:lnTo>
                      <a:pt x="376" y="535"/>
                    </a:lnTo>
                    <a:lnTo>
                      <a:pt x="0" y="740"/>
                    </a:lnTo>
                    <a:lnTo>
                      <a:pt x="0" y="74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440" y="5656320"/>
                <a:ext cx="1113120" cy="96840"/>
              </a:xfrm>
              <a:custGeom>
                <a:avLst/>
                <a:gdLst/>
                <a:ahLst/>
                <a:rect l="l" t="t" r="r" b="b"/>
                <a:pathLst>
                  <a:path w="701" h="61">
                    <a:moveTo>
                      <a:pt x="324" y="60"/>
                    </a:moveTo>
                    <a:lnTo>
                      <a:pt x="700" y="18"/>
                    </a:lnTo>
                    <a:lnTo>
                      <a:pt x="356" y="0"/>
                    </a:lnTo>
                    <a:lnTo>
                      <a:pt x="0" y="32"/>
                    </a:lnTo>
                    <a:lnTo>
                      <a:pt x="324" y="60"/>
                    </a:lnTo>
                    <a:lnTo>
                      <a:pt x="324" y="6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0440" y="5707080"/>
                <a:ext cx="516240" cy="1154160"/>
              </a:xfrm>
              <a:custGeom>
                <a:avLst/>
                <a:gdLst/>
                <a:ahLst/>
                <a:rect l="l" t="t" r="r" b="b"/>
                <a:pathLst>
                  <a:path w="325" h="727">
                    <a:moveTo>
                      <a:pt x="0" y="0"/>
                    </a:moveTo>
                    <a:lnTo>
                      <a:pt x="0" y="595"/>
                    </a:lnTo>
                    <a:lnTo>
                      <a:pt x="324" y="726"/>
                    </a:lnTo>
                    <a:lnTo>
                      <a:pt x="324" y="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65440" y="6216480"/>
                <a:ext cx="893520" cy="260640"/>
              </a:xfrm>
              <a:custGeom>
                <a:avLst/>
                <a:gdLst/>
                <a:ahLst/>
                <a:rect l="l" t="t" r="r" b="b"/>
                <a:pathLst>
                  <a:path w="563" h="164">
                    <a:moveTo>
                      <a:pt x="0" y="65"/>
                    </a:moveTo>
                    <a:lnTo>
                      <a:pt x="260" y="0"/>
                    </a:lnTo>
                    <a:lnTo>
                      <a:pt x="562" y="74"/>
                    </a:lnTo>
                    <a:lnTo>
                      <a:pt x="279" y="163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65440" y="6319800"/>
                <a:ext cx="444240" cy="747720"/>
              </a:xfrm>
              <a:custGeom>
                <a:avLst/>
                <a:gdLst/>
                <a:ahLst/>
                <a:rect l="l" t="t" r="r" b="b"/>
                <a:pathLst>
                  <a:path w="280" h="471">
                    <a:moveTo>
                      <a:pt x="0" y="0"/>
                    </a:moveTo>
                    <a:lnTo>
                      <a:pt x="279" y="98"/>
                    </a:lnTo>
                    <a:lnTo>
                      <a:pt x="279" y="470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08240" y="6334200"/>
                <a:ext cx="450720" cy="733320"/>
              </a:xfrm>
              <a:custGeom>
                <a:avLst/>
                <a:gdLst/>
                <a:ahLst/>
                <a:rect l="l" t="t" r="r" b="b"/>
                <a:pathLst>
                  <a:path w="284" h="462">
                    <a:moveTo>
                      <a:pt x="0" y="89"/>
                    </a:moveTo>
                    <a:lnTo>
                      <a:pt x="283" y="0"/>
                    </a:lnTo>
                    <a:lnTo>
                      <a:pt x="283" y="307"/>
                    </a:lnTo>
                    <a:lnTo>
                      <a:pt x="0" y="461"/>
                    </a:lnTo>
                    <a:lnTo>
                      <a:pt x="0" y="89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380880" y="4343400"/>
            <a:ext cx="4303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700" spc="-1" strike="noStrike">
                <a:solidFill>
                  <a:srgbClr val="ff0080"/>
                </a:solidFill>
                <a:latin typeface="Times New Roman"/>
              </a:rPr>
              <a:t>recursos disponib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0" y="1141920"/>
            <a:ext cx="5259240" cy="3233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1523880"/>
            <a:ext cx="4119480" cy="2475000"/>
            <a:chOff x="0" y="1523880"/>
            <a:chExt cx="4119480" cy="2475000"/>
          </a:xfrm>
        </p:grpSpPr>
        <p:sp>
          <p:nvSpPr>
            <p:cNvPr id="147" name=""/>
            <p:cNvSpPr/>
            <p:nvPr/>
          </p:nvSpPr>
          <p:spPr>
            <a:xfrm>
              <a:off x="0" y="1523880"/>
              <a:ext cx="4119480" cy="2475000"/>
            </a:xfrm>
            <a:prstGeom prst="ellipse">
              <a:avLst/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858960" y="1828800"/>
              <a:ext cx="2484360" cy="1741320"/>
              <a:chOff x="858960" y="1828800"/>
              <a:chExt cx="2484360" cy="1741320"/>
            </a:xfrm>
          </p:grpSpPr>
          <p:sp>
            <p:nvSpPr>
              <p:cNvPr id="149" name=""/>
              <p:cNvSpPr/>
              <p:nvPr/>
            </p:nvSpPr>
            <p:spPr>
              <a:xfrm>
                <a:off x="2311560" y="2322360"/>
                <a:ext cx="1009440" cy="1022400"/>
              </a:xfrm>
              <a:custGeom>
                <a:avLst/>
                <a:gdLst/>
                <a:ahLst/>
                <a:rect l="l" t="t" r="r" b="b"/>
                <a:pathLst>
                  <a:path w="636" h="644">
                    <a:moveTo>
                      <a:pt x="71" y="90"/>
                    </a:moveTo>
                    <a:lnTo>
                      <a:pt x="147" y="51"/>
                    </a:lnTo>
                    <a:lnTo>
                      <a:pt x="168" y="46"/>
                    </a:lnTo>
                    <a:lnTo>
                      <a:pt x="210" y="25"/>
                    </a:lnTo>
                    <a:lnTo>
                      <a:pt x="330" y="0"/>
                    </a:lnTo>
                    <a:lnTo>
                      <a:pt x="359" y="17"/>
                    </a:lnTo>
                    <a:lnTo>
                      <a:pt x="424" y="41"/>
                    </a:lnTo>
                    <a:lnTo>
                      <a:pt x="525" y="85"/>
                    </a:lnTo>
                    <a:lnTo>
                      <a:pt x="561" y="137"/>
                    </a:lnTo>
                    <a:lnTo>
                      <a:pt x="578" y="217"/>
                    </a:lnTo>
                    <a:lnTo>
                      <a:pt x="607" y="266"/>
                    </a:lnTo>
                    <a:lnTo>
                      <a:pt x="622" y="327"/>
                    </a:lnTo>
                    <a:lnTo>
                      <a:pt x="635" y="352"/>
                    </a:lnTo>
                    <a:lnTo>
                      <a:pt x="631" y="405"/>
                    </a:lnTo>
                    <a:lnTo>
                      <a:pt x="623" y="450"/>
                    </a:lnTo>
                    <a:lnTo>
                      <a:pt x="555" y="590"/>
                    </a:lnTo>
                    <a:lnTo>
                      <a:pt x="543" y="598"/>
                    </a:lnTo>
                    <a:lnTo>
                      <a:pt x="503" y="598"/>
                    </a:lnTo>
                    <a:lnTo>
                      <a:pt x="267" y="643"/>
                    </a:lnTo>
                    <a:lnTo>
                      <a:pt x="114" y="588"/>
                    </a:lnTo>
                    <a:lnTo>
                      <a:pt x="78" y="543"/>
                    </a:lnTo>
                    <a:lnTo>
                      <a:pt x="0" y="384"/>
                    </a:lnTo>
                    <a:lnTo>
                      <a:pt x="44" y="119"/>
                    </a:lnTo>
                    <a:lnTo>
                      <a:pt x="71" y="90"/>
                    </a:lnTo>
                    <a:lnTo>
                      <a:pt x="71" y="9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92320" y="2395440"/>
                <a:ext cx="328680" cy="877680"/>
              </a:xfrm>
              <a:custGeom>
                <a:avLst/>
                <a:gdLst/>
                <a:ahLst/>
                <a:rect l="l" t="t" r="r" b="b"/>
                <a:pathLst>
                  <a:path w="207" h="553">
                    <a:moveTo>
                      <a:pt x="0" y="0"/>
                    </a:moveTo>
                    <a:lnTo>
                      <a:pt x="74" y="39"/>
                    </a:lnTo>
                    <a:lnTo>
                      <a:pt x="56" y="64"/>
                    </a:lnTo>
                    <a:lnTo>
                      <a:pt x="93" y="66"/>
                    </a:lnTo>
                    <a:lnTo>
                      <a:pt x="114" y="122"/>
                    </a:lnTo>
                    <a:lnTo>
                      <a:pt x="118" y="215"/>
                    </a:lnTo>
                    <a:lnTo>
                      <a:pt x="132" y="226"/>
                    </a:lnTo>
                    <a:lnTo>
                      <a:pt x="132" y="278"/>
                    </a:lnTo>
                    <a:lnTo>
                      <a:pt x="116" y="293"/>
                    </a:lnTo>
                    <a:lnTo>
                      <a:pt x="153" y="305"/>
                    </a:lnTo>
                    <a:lnTo>
                      <a:pt x="178" y="337"/>
                    </a:lnTo>
                    <a:lnTo>
                      <a:pt x="132" y="329"/>
                    </a:lnTo>
                    <a:lnTo>
                      <a:pt x="126" y="348"/>
                    </a:lnTo>
                    <a:lnTo>
                      <a:pt x="149" y="371"/>
                    </a:lnTo>
                    <a:lnTo>
                      <a:pt x="141" y="419"/>
                    </a:lnTo>
                    <a:lnTo>
                      <a:pt x="113" y="405"/>
                    </a:lnTo>
                    <a:lnTo>
                      <a:pt x="56" y="506"/>
                    </a:lnTo>
                    <a:lnTo>
                      <a:pt x="118" y="552"/>
                    </a:lnTo>
                    <a:lnTo>
                      <a:pt x="138" y="518"/>
                    </a:lnTo>
                    <a:lnTo>
                      <a:pt x="206" y="373"/>
                    </a:lnTo>
                    <a:lnTo>
                      <a:pt x="206" y="299"/>
                    </a:lnTo>
                    <a:lnTo>
                      <a:pt x="179" y="257"/>
                    </a:lnTo>
                    <a:lnTo>
                      <a:pt x="151" y="169"/>
                    </a:lnTo>
                    <a:lnTo>
                      <a:pt x="124" y="82"/>
                    </a:lnTo>
                    <a:lnTo>
                      <a:pt x="98" y="42"/>
                    </a:lnTo>
                    <a:lnTo>
                      <a:pt x="78" y="3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44640" y="2419200"/>
                <a:ext cx="449280" cy="803160"/>
              </a:xfrm>
              <a:custGeom>
                <a:avLst/>
                <a:gdLst/>
                <a:ahLst/>
                <a:rect l="l" t="t" r="r" b="b"/>
                <a:pathLst>
                  <a:path w="283" h="506">
                    <a:moveTo>
                      <a:pt x="108" y="0"/>
                    </a:moveTo>
                    <a:lnTo>
                      <a:pt x="124" y="72"/>
                    </a:lnTo>
                    <a:lnTo>
                      <a:pt x="64" y="242"/>
                    </a:lnTo>
                    <a:lnTo>
                      <a:pt x="0" y="431"/>
                    </a:lnTo>
                    <a:lnTo>
                      <a:pt x="104" y="228"/>
                    </a:lnTo>
                    <a:lnTo>
                      <a:pt x="130" y="288"/>
                    </a:lnTo>
                    <a:lnTo>
                      <a:pt x="68" y="491"/>
                    </a:lnTo>
                    <a:lnTo>
                      <a:pt x="173" y="362"/>
                    </a:lnTo>
                    <a:lnTo>
                      <a:pt x="182" y="419"/>
                    </a:lnTo>
                    <a:lnTo>
                      <a:pt x="148" y="499"/>
                    </a:lnTo>
                    <a:lnTo>
                      <a:pt x="198" y="505"/>
                    </a:lnTo>
                    <a:lnTo>
                      <a:pt x="181" y="467"/>
                    </a:lnTo>
                    <a:lnTo>
                      <a:pt x="214" y="398"/>
                    </a:lnTo>
                    <a:lnTo>
                      <a:pt x="219" y="331"/>
                    </a:lnTo>
                    <a:lnTo>
                      <a:pt x="240" y="308"/>
                    </a:lnTo>
                    <a:lnTo>
                      <a:pt x="282" y="280"/>
                    </a:lnTo>
                    <a:lnTo>
                      <a:pt x="277" y="264"/>
                    </a:lnTo>
                    <a:lnTo>
                      <a:pt x="236" y="266"/>
                    </a:lnTo>
                    <a:lnTo>
                      <a:pt x="192" y="148"/>
                    </a:lnTo>
                    <a:lnTo>
                      <a:pt x="198" y="61"/>
                    </a:lnTo>
                    <a:lnTo>
                      <a:pt x="158" y="134"/>
                    </a:lnTo>
                    <a:lnTo>
                      <a:pt x="148" y="91"/>
                    </a:lnTo>
                    <a:lnTo>
                      <a:pt x="144" y="51"/>
                    </a:lnTo>
                    <a:lnTo>
                      <a:pt x="122" y="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28840" y="2636640"/>
                <a:ext cx="182520" cy="503280"/>
              </a:xfrm>
              <a:custGeom>
                <a:avLst/>
                <a:gdLst/>
                <a:ahLst/>
                <a:rect l="l" t="t" r="r" b="b"/>
                <a:pathLst>
                  <a:path w="115" h="317">
                    <a:moveTo>
                      <a:pt x="48" y="42"/>
                    </a:moveTo>
                    <a:lnTo>
                      <a:pt x="79" y="96"/>
                    </a:lnTo>
                    <a:lnTo>
                      <a:pt x="58" y="105"/>
                    </a:lnTo>
                    <a:lnTo>
                      <a:pt x="75" y="149"/>
                    </a:lnTo>
                    <a:lnTo>
                      <a:pt x="22" y="144"/>
                    </a:lnTo>
                    <a:lnTo>
                      <a:pt x="0" y="160"/>
                    </a:lnTo>
                    <a:lnTo>
                      <a:pt x="6" y="191"/>
                    </a:lnTo>
                    <a:lnTo>
                      <a:pt x="65" y="200"/>
                    </a:lnTo>
                    <a:lnTo>
                      <a:pt x="29" y="243"/>
                    </a:lnTo>
                    <a:lnTo>
                      <a:pt x="77" y="239"/>
                    </a:lnTo>
                    <a:lnTo>
                      <a:pt x="58" y="283"/>
                    </a:lnTo>
                    <a:lnTo>
                      <a:pt x="65" y="301"/>
                    </a:lnTo>
                    <a:lnTo>
                      <a:pt x="80" y="252"/>
                    </a:lnTo>
                    <a:lnTo>
                      <a:pt x="111" y="316"/>
                    </a:lnTo>
                    <a:lnTo>
                      <a:pt x="114" y="236"/>
                    </a:lnTo>
                    <a:lnTo>
                      <a:pt x="111" y="164"/>
                    </a:lnTo>
                    <a:lnTo>
                      <a:pt x="98" y="129"/>
                    </a:lnTo>
                    <a:lnTo>
                      <a:pt x="107" y="97"/>
                    </a:lnTo>
                    <a:lnTo>
                      <a:pt x="56" y="0"/>
                    </a:lnTo>
                    <a:lnTo>
                      <a:pt x="48" y="42"/>
                    </a:lnTo>
                    <a:lnTo>
                      <a:pt x="48" y="42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60520" y="2465280"/>
                <a:ext cx="115920" cy="406440"/>
              </a:xfrm>
              <a:custGeom>
                <a:avLst/>
                <a:gdLst/>
                <a:ahLst/>
                <a:rect l="l" t="t" r="r" b="b"/>
                <a:pathLst>
                  <a:path w="73" h="256">
                    <a:moveTo>
                      <a:pt x="43" y="0"/>
                    </a:moveTo>
                    <a:lnTo>
                      <a:pt x="47" y="51"/>
                    </a:lnTo>
                    <a:lnTo>
                      <a:pt x="72" y="176"/>
                    </a:lnTo>
                    <a:lnTo>
                      <a:pt x="38" y="117"/>
                    </a:lnTo>
                    <a:lnTo>
                      <a:pt x="30" y="165"/>
                    </a:lnTo>
                    <a:lnTo>
                      <a:pt x="14" y="205"/>
                    </a:lnTo>
                    <a:lnTo>
                      <a:pt x="16" y="241"/>
                    </a:lnTo>
                    <a:lnTo>
                      <a:pt x="2" y="255"/>
                    </a:lnTo>
                    <a:lnTo>
                      <a:pt x="0" y="199"/>
                    </a:lnTo>
                    <a:lnTo>
                      <a:pt x="19" y="144"/>
                    </a:lnTo>
                    <a:lnTo>
                      <a:pt x="23" y="39"/>
                    </a:lnTo>
                    <a:lnTo>
                      <a:pt x="31" y="13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87600" y="3201840"/>
                <a:ext cx="673200" cy="365040"/>
              </a:xfrm>
              <a:custGeom>
                <a:avLst/>
                <a:gdLst/>
                <a:ahLst/>
                <a:rect l="l" t="t" r="r" b="b"/>
                <a:pathLst>
                  <a:path w="424" h="230">
                    <a:moveTo>
                      <a:pt x="423" y="229"/>
                    </a:moveTo>
                    <a:lnTo>
                      <a:pt x="406" y="55"/>
                    </a:lnTo>
                    <a:lnTo>
                      <a:pt x="362" y="0"/>
                    </a:lnTo>
                    <a:lnTo>
                      <a:pt x="270" y="15"/>
                    </a:lnTo>
                    <a:lnTo>
                      <a:pt x="205" y="34"/>
                    </a:lnTo>
                    <a:lnTo>
                      <a:pt x="154" y="34"/>
                    </a:lnTo>
                    <a:lnTo>
                      <a:pt x="78" y="38"/>
                    </a:lnTo>
                    <a:lnTo>
                      <a:pt x="24" y="19"/>
                    </a:lnTo>
                    <a:lnTo>
                      <a:pt x="11" y="72"/>
                    </a:lnTo>
                    <a:lnTo>
                      <a:pt x="6" y="114"/>
                    </a:lnTo>
                    <a:lnTo>
                      <a:pt x="0" y="229"/>
                    </a:lnTo>
                    <a:lnTo>
                      <a:pt x="423" y="229"/>
                    </a:lnTo>
                    <a:lnTo>
                      <a:pt x="423" y="229"/>
                    </a:lnTo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38360" y="2400120"/>
                <a:ext cx="165240" cy="930240"/>
              </a:xfrm>
              <a:custGeom>
                <a:avLst/>
                <a:gdLst/>
                <a:ahLst/>
                <a:rect l="l" t="t" r="r" b="b"/>
                <a:pathLst>
                  <a:path w="104" h="586">
                    <a:moveTo>
                      <a:pt x="72" y="6"/>
                    </a:moveTo>
                    <a:lnTo>
                      <a:pt x="72" y="16"/>
                    </a:lnTo>
                    <a:lnTo>
                      <a:pt x="80" y="41"/>
                    </a:lnTo>
                    <a:lnTo>
                      <a:pt x="67" y="73"/>
                    </a:lnTo>
                    <a:lnTo>
                      <a:pt x="44" y="146"/>
                    </a:lnTo>
                    <a:lnTo>
                      <a:pt x="34" y="223"/>
                    </a:lnTo>
                    <a:lnTo>
                      <a:pt x="27" y="371"/>
                    </a:lnTo>
                    <a:lnTo>
                      <a:pt x="19" y="436"/>
                    </a:lnTo>
                    <a:lnTo>
                      <a:pt x="7" y="501"/>
                    </a:lnTo>
                    <a:lnTo>
                      <a:pt x="0" y="536"/>
                    </a:lnTo>
                    <a:lnTo>
                      <a:pt x="52" y="585"/>
                    </a:lnTo>
                    <a:lnTo>
                      <a:pt x="101" y="532"/>
                    </a:lnTo>
                    <a:lnTo>
                      <a:pt x="84" y="385"/>
                    </a:lnTo>
                    <a:lnTo>
                      <a:pt x="75" y="276"/>
                    </a:lnTo>
                    <a:lnTo>
                      <a:pt x="78" y="202"/>
                    </a:lnTo>
                    <a:lnTo>
                      <a:pt x="90" y="119"/>
                    </a:lnTo>
                    <a:lnTo>
                      <a:pt x="90" y="77"/>
                    </a:lnTo>
                    <a:lnTo>
                      <a:pt x="86" y="48"/>
                    </a:lnTo>
                    <a:lnTo>
                      <a:pt x="88" y="31"/>
                    </a:lnTo>
                    <a:lnTo>
                      <a:pt x="103" y="21"/>
                    </a:lnTo>
                    <a:lnTo>
                      <a:pt x="103" y="8"/>
                    </a:lnTo>
                    <a:lnTo>
                      <a:pt x="101" y="0"/>
                    </a:lnTo>
                    <a:lnTo>
                      <a:pt x="72" y="6"/>
                    </a:lnTo>
                    <a:lnTo>
                      <a:pt x="72" y="6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5360" y="3195360"/>
                <a:ext cx="338040" cy="193680"/>
              </a:xfrm>
              <a:custGeom>
                <a:avLst/>
                <a:gdLst/>
                <a:ahLst/>
                <a:rect l="l" t="t" r="r" b="b"/>
                <a:pathLst>
                  <a:path w="213" h="122">
                    <a:moveTo>
                      <a:pt x="137" y="0"/>
                    </a:moveTo>
                    <a:lnTo>
                      <a:pt x="116" y="12"/>
                    </a:lnTo>
                    <a:lnTo>
                      <a:pt x="51" y="0"/>
                    </a:lnTo>
                    <a:lnTo>
                      <a:pt x="6" y="14"/>
                    </a:lnTo>
                    <a:lnTo>
                      <a:pt x="14" y="31"/>
                    </a:lnTo>
                    <a:lnTo>
                      <a:pt x="61" y="19"/>
                    </a:lnTo>
                    <a:lnTo>
                      <a:pt x="97" y="31"/>
                    </a:lnTo>
                    <a:lnTo>
                      <a:pt x="86" y="36"/>
                    </a:lnTo>
                    <a:lnTo>
                      <a:pt x="38" y="61"/>
                    </a:lnTo>
                    <a:lnTo>
                      <a:pt x="0" y="88"/>
                    </a:lnTo>
                    <a:lnTo>
                      <a:pt x="11" y="92"/>
                    </a:lnTo>
                    <a:lnTo>
                      <a:pt x="94" y="59"/>
                    </a:lnTo>
                    <a:lnTo>
                      <a:pt x="80" y="78"/>
                    </a:lnTo>
                    <a:lnTo>
                      <a:pt x="29" y="111"/>
                    </a:lnTo>
                    <a:lnTo>
                      <a:pt x="40" y="118"/>
                    </a:lnTo>
                    <a:lnTo>
                      <a:pt x="67" y="113"/>
                    </a:lnTo>
                    <a:lnTo>
                      <a:pt x="82" y="121"/>
                    </a:lnTo>
                    <a:lnTo>
                      <a:pt x="149" y="97"/>
                    </a:lnTo>
                    <a:lnTo>
                      <a:pt x="212" y="46"/>
                    </a:lnTo>
                    <a:lnTo>
                      <a:pt x="162" y="10"/>
                    </a:lnTo>
                    <a:lnTo>
                      <a:pt x="137" y="0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5920" y="3152520"/>
                <a:ext cx="71280" cy="181080"/>
              </a:xfrm>
              <a:custGeom>
                <a:avLst/>
                <a:gdLst/>
                <a:ahLst/>
                <a:rect l="l" t="t" r="r" b="b"/>
                <a:pathLst>
                  <a:path w="45" h="114">
                    <a:moveTo>
                      <a:pt x="29" y="0"/>
                    </a:moveTo>
                    <a:lnTo>
                      <a:pt x="29" y="37"/>
                    </a:lnTo>
                    <a:lnTo>
                      <a:pt x="44" y="54"/>
                    </a:lnTo>
                    <a:lnTo>
                      <a:pt x="27" y="113"/>
                    </a:lnTo>
                    <a:lnTo>
                      <a:pt x="4" y="86"/>
                    </a:lnTo>
                    <a:lnTo>
                      <a:pt x="0" y="62"/>
                    </a:lnTo>
                    <a:lnTo>
                      <a:pt x="4" y="18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57440" y="1958760"/>
                <a:ext cx="316080" cy="449280"/>
              </a:xfrm>
              <a:custGeom>
                <a:avLst/>
                <a:gdLst/>
                <a:ahLst/>
                <a:rect l="l" t="t" r="r" b="b"/>
                <a:pathLst>
                  <a:path w="199" h="283">
                    <a:moveTo>
                      <a:pt x="158" y="32"/>
                    </a:moveTo>
                    <a:lnTo>
                      <a:pt x="198" y="111"/>
                    </a:lnTo>
                    <a:lnTo>
                      <a:pt x="198" y="130"/>
                    </a:lnTo>
                    <a:lnTo>
                      <a:pt x="189" y="149"/>
                    </a:lnTo>
                    <a:lnTo>
                      <a:pt x="176" y="166"/>
                    </a:lnTo>
                    <a:lnTo>
                      <a:pt x="174" y="208"/>
                    </a:lnTo>
                    <a:lnTo>
                      <a:pt x="176" y="228"/>
                    </a:lnTo>
                    <a:lnTo>
                      <a:pt x="168" y="238"/>
                    </a:lnTo>
                    <a:lnTo>
                      <a:pt x="137" y="256"/>
                    </a:lnTo>
                    <a:lnTo>
                      <a:pt x="91" y="279"/>
                    </a:lnTo>
                    <a:lnTo>
                      <a:pt x="80" y="282"/>
                    </a:lnTo>
                    <a:lnTo>
                      <a:pt x="50" y="256"/>
                    </a:lnTo>
                    <a:lnTo>
                      <a:pt x="44" y="238"/>
                    </a:lnTo>
                    <a:lnTo>
                      <a:pt x="33" y="220"/>
                    </a:lnTo>
                    <a:lnTo>
                      <a:pt x="20" y="191"/>
                    </a:lnTo>
                    <a:lnTo>
                      <a:pt x="8" y="158"/>
                    </a:lnTo>
                    <a:lnTo>
                      <a:pt x="0" y="120"/>
                    </a:lnTo>
                    <a:lnTo>
                      <a:pt x="4" y="44"/>
                    </a:lnTo>
                    <a:lnTo>
                      <a:pt x="72" y="0"/>
                    </a:lnTo>
                    <a:lnTo>
                      <a:pt x="138" y="19"/>
                    </a:lnTo>
                    <a:lnTo>
                      <a:pt x="158" y="32"/>
                    </a:lnTo>
                    <a:lnTo>
                      <a:pt x="158" y="32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71840" y="1914480"/>
                <a:ext cx="114120" cy="118800"/>
              </a:xfrm>
              <a:custGeom>
                <a:avLst/>
                <a:gdLst/>
                <a:ahLst/>
                <a:rect l="l" t="t" r="r" b="b"/>
                <a:pathLst>
                  <a:path w="72" h="75">
                    <a:moveTo>
                      <a:pt x="0" y="74"/>
                    </a:moveTo>
                    <a:lnTo>
                      <a:pt x="44" y="66"/>
                    </a:lnTo>
                    <a:lnTo>
                      <a:pt x="59" y="55"/>
                    </a:lnTo>
                    <a:lnTo>
                      <a:pt x="69" y="27"/>
                    </a:lnTo>
                    <a:lnTo>
                      <a:pt x="71" y="2"/>
                    </a:lnTo>
                    <a:lnTo>
                      <a:pt x="56" y="0"/>
                    </a:lnTo>
                    <a:lnTo>
                      <a:pt x="0" y="44"/>
                    </a:lnTo>
                    <a:lnTo>
                      <a:pt x="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33760" y="2230200"/>
                <a:ext cx="92160" cy="28800"/>
              </a:xfrm>
              <a:custGeom>
                <a:avLst/>
                <a:gdLst/>
                <a:ahLst/>
                <a:rect l="l" t="t" r="r" b="b"/>
                <a:pathLst>
                  <a:path w="58" h="18">
                    <a:moveTo>
                      <a:pt x="0" y="11"/>
                    </a:moveTo>
                    <a:lnTo>
                      <a:pt x="12" y="17"/>
                    </a:lnTo>
                    <a:lnTo>
                      <a:pt x="40" y="17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34" y="0"/>
                    </a:lnTo>
                    <a:lnTo>
                      <a:pt x="10" y="5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93880" y="2114280"/>
                <a:ext cx="61920" cy="223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8"/>
                    </a:moveTo>
                    <a:lnTo>
                      <a:pt x="8" y="13"/>
                    </a:lnTo>
                    <a:lnTo>
                      <a:pt x="27" y="10"/>
                    </a:lnTo>
                    <a:lnTo>
                      <a:pt x="38" y="11"/>
                    </a:lnTo>
                    <a:lnTo>
                      <a:pt x="35" y="3"/>
                    </a:lnTo>
                    <a:lnTo>
                      <a:pt x="24" y="3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89120" y="21319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10"/>
                    </a:moveTo>
                    <a:lnTo>
                      <a:pt x="5" y="12"/>
                    </a:lnTo>
                    <a:lnTo>
                      <a:pt x="15" y="11"/>
                    </a:lnTo>
                    <a:lnTo>
                      <a:pt x="22" y="5"/>
                    </a:lnTo>
                    <a:lnTo>
                      <a:pt x="15" y="0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17720" y="3028680"/>
                <a:ext cx="584280" cy="541440"/>
              </a:xfrm>
              <a:custGeom>
                <a:avLst/>
                <a:gdLst/>
                <a:ahLst/>
                <a:rect l="l" t="t" r="r" b="b"/>
                <a:pathLst>
                  <a:path w="368" h="341">
                    <a:moveTo>
                      <a:pt x="367" y="340"/>
                    </a:moveTo>
                    <a:lnTo>
                      <a:pt x="17" y="340"/>
                    </a:lnTo>
                    <a:lnTo>
                      <a:pt x="0" y="151"/>
                    </a:lnTo>
                    <a:lnTo>
                      <a:pt x="34" y="5"/>
                    </a:lnTo>
                    <a:lnTo>
                      <a:pt x="267" y="0"/>
                    </a:lnTo>
                    <a:lnTo>
                      <a:pt x="367" y="249"/>
                    </a:lnTo>
                    <a:lnTo>
                      <a:pt x="367" y="340"/>
                    </a:lnTo>
                    <a:lnTo>
                      <a:pt x="367" y="340"/>
                    </a:lnTo>
                  </a:path>
                </a:pathLst>
              </a:custGeom>
              <a:solidFill>
                <a:srgbClr val="004200"/>
              </a:solidFill>
              <a:ln w="9360">
                <a:solidFill>
                  <a:srgbClr val="00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95400" y="2388960"/>
                <a:ext cx="606600" cy="1076400"/>
              </a:xfrm>
              <a:custGeom>
                <a:avLst/>
                <a:gdLst/>
                <a:ahLst/>
                <a:rect l="l" t="t" r="r" b="b"/>
                <a:pathLst>
                  <a:path w="382" h="678">
                    <a:moveTo>
                      <a:pt x="150" y="9"/>
                    </a:moveTo>
                    <a:lnTo>
                      <a:pt x="323" y="0"/>
                    </a:lnTo>
                    <a:lnTo>
                      <a:pt x="354" y="35"/>
                    </a:lnTo>
                    <a:lnTo>
                      <a:pt x="333" y="49"/>
                    </a:lnTo>
                    <a:lnTo>
                      <a:pt x="320" y="86"/>
                    </a:lnTo>
                    <a:lnTo>
                      <a:pt x="311" y="201"/>
                    </a:lnTo>
                    <a:lnTo>
                      <a:pt x="295" y="246"/>
                    </a:lnTo>
                    <a:lnTo>
                      <a:pt x="295" y="287"/>
                    </a:lnTo>
                    <a:lnTo>
                      <a:pt x="275" y="315"/>
                    </a:lnTo>
                    <a:lnTo>
                      <a:pt x="281" y="348"/>
                    </a:lnTo>
                    <a:lnTo>
                      <a:pt x="271" y="358"/>
                    </a:lnTo>
                    <a:lnTo>
                      <a:pt x="344" y="451"/>
                    </a:lnTo>
                    <a:lnTo>
                      <a:pt x="353" y="500"/>
                    </a:lnTo>
                    <a:lnTo>
                      <a:pt x="359" y="504"/>
                    </a:lnTo>
                    <a:lnTo>
                      <a:pt x="354" y="554"/>
                    </a:lnTo>
                    <a:lnTo>
                      <a:pt x="381" y="603"/>
                    </a:lnTo>
                    <a:lnTo>
                      <a:pt x="375" y="666"/>
                    </a:lnTo>
                    <a:lnTo>
                      <a:pt x="339" y="677"/>
                    </a:lnTo>
                    <a:lnTo>
                      <a:pt x="263" y="670"/>
                    </a:lnTo>
                    <a:lnTo>
                      <a:pt x="203" y="632"/>
                    </a:lnTo>
                    <a:lnTo>
                      <a:pt x="165" y="606"/>
                    </a:lnTo>
                    <a:lnTo>
                      <a:pt x="130" y="556"/>
                    </a:lnTo>
                    <a:lnTo>
                      <a:pt x="146" y="531"/>
                    </a:lnTo>
                    <a:lnTo>
                      <a:pt x="142" y="421"/>
                    </a:lnTo>
                    <a:lnTo>
                      <a:pt x="94" y="417"/>
                    </a:lnTo>
                    <a:lnTo>
                      <a:pt x="106" y="491"/>
                    </a:lnTo>
                    <a:lnTo>
                      <a:pt x="115" y="553"/>
                    </a:lnTo>
                    <a:lnTo>
                      <a:pt x="51" y="591"/>
                    </a:lnTo>
                    <a:lnTo>
                      <a:pt x="16" y="509"/>
                    </a:lnTo>
                    <a:lnTo>
                      <a:pt x="0" y="403"/>
                    </a:lnTo>
                    <a:lnTo>
                      <a:pt x="0" y="309"/>
                    </a:lnTo>
                    <a:lnTo>
                      <a:pt x="11" y="224"/>
                    </a:lnTo>
                    <a:lnTo>
                      <a:pt x="23" y="96"/>
                    </a:lnTo>
                    <a:lnTo>
                      <a:pt x="115" y="28"/>
                    </a:lnTo>
                    <a:lnTo>
                      <a:pt x="150" y="9"/>
                    </a:lnTo>
                    <a:lnTo>
                      <a:pt x="150" y="9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8320" y="2997000"/>
                <a:ext cx="93600" cy="69840"/>
              </a:xfrm>
              <a:custGeom>
                <a:avLst/>
                <a:gdLst/>
                <a:ahLst/>
                <a:rect l="l" t="t" r="r" b="b"/>
                <a:pathLst>
                  <a:path w="59" h="44">
                    <a:moveTo>
                      <a:pt x="0" y="0"/>
                    </a:moveTo>
                    <a:lnTo>
                      <a:pt x="21" y="12"/>
                    </a:lnTo>
                    <a:lnTo>
                      <a:pt x="58" y="12"/>
                    </a:lnTo>
                    <a:lnTo>
                      <a:pt x="56" y="42"/>
                    </a:lnTo>
                    <a:lnTo>
                      <a:pt x="29" y="43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33640" y="2435040"/>
                <a:ext cx="214200" cy="587520"/>
              </a:xfrm>
              <a:custGeom>
                <a:avLst/>
                <a:gdLst/>
                <a:ahLst/>
                <a:rect l="l" t="t" r="r" b="b"/>
                <a:pathLst>
                  <a:path w="135" h="370">
                    <a:moveTo>
                      <a:pt x="61" y="0"/>
                    </a:moveTo>
                    <a:lnTo>
                      <a:pt x="30" y="57"/>
                    </a:lnTo>
                    <a:lnTo>
                      <a:pt x="10" y="115"/>
                    </a:lnTo>
                    <a:lnTo>
                      <a:pt x="0" y="231"/>
                    </a:lnTo>
                    <a:lnTo>
                      <a:pt x="0" y="312"/>
                    </a:lnTo>
                    <a:lnTo>
                      <a:pt x="7" y="359"/>
                    </a:lnTo>
                    <a:lnTo>
                      <a:pt x="55" y="369"/>
                    </a:lnTo>
                    <a:lnTo>
                      <a:pt x="63" y="272"/>
                    </a:lnTo>
                    <a:lnTo>
                      <a:pt x="80" y="195"/>
                    </a:lnTo>
                    <a:lnTo>
                      <a:pt x="102" y="142"/>
                    </a:lnTo>
                    <a:lnTo>
                      <a:pt x="134" y="88"/>
                    </a:lnTo>
                    <a:lnTo>
                      <a:pt x="134" y="0"/>
                    </a:lnTo>
                    <a:lnTo>
                      <a:pt x="61" y="0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46160" y="3267000"/>
                <a:ext cx="238320" cy="23796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0" y="60"/>
                    </a:moveTo>
                    <a:lnTo>
                      <a:pt x="11" y="50"/>
                    </a:lnTo>
                    <a:lnTo>
                      <a:pt x="16" y="39"/>
                    </a:lnTo>
                    <a:lnTo>
                      <a:pt x="29" y="29"/>
                    </a:lnTo>
                    <a:lnTo>
                      <a:pt x="43" y="14"/>
                    </a:lnTo>
                    <a:lnTo>
                      <a:pt x="82" y="0"/>
                    </a:lnTo>
                    <a:lnTo>
                      <a:pt x="96" y="2"/>
                    </a:lnTo>
                    <a:lnTo>
                      <a:pt x="133" y="57"/>
                    </a:lnTo>
                    <a:lnTo>
                      <a:pt x="135" y="78"/>
                    </a:lnTo>
                    <a:lnTo>
                      <a:pt x="145" y="107"/>
                    </a:lnTo>
                    <a:lnTo>
                      <a:pt x="149" y="116"/>
                    </a:lnTo>
                    <a:lnTo>
                      <a:pt x="133" y="114"/>
                    </a:lnTo>
                    <a:lnTo>
                      <a:pt x="143" y="135"/>
                    </a:lnTo>
                    <a:lnTo>
                      <a:pt x="115" y="149"/>
                    </a:lnTo>
                    <a:lnTo>
                      <a:pt x="101" y="147"/>
                    </a:lnTo>
                    <a:lnTo>
                      <a:pt x="83" y="142"/>
                    </a:lnTo>
                    <a:lnTo>
                      <a:pt x="78" y="143"/>
                    </a:lnTo>
                    <a:lnTo>
                      <a:pt x="71" y="139"/>
                    </a:lnTo>
                    <a:lnTo>
                      <a:pt x="67" y="127"/>
                    </a:lnTo>
                    <a:lnTo>
                      <a:pt x="63" y="126"/>
                    </a:lnTo>
                    <a:lnTo>
                      <a:pt x="50" y="133"/>
                    </a:lnTo>
                    <a:lnTo>
                      <a:pt x="46" y="132"/>
                    </a:lnTo>
                    <a:lnTo>
                      <a:pt x="47" y="126"/>
                    </a:lnTo>
                    <a:lnTo>
                      <a:pt x="55" y="111"/>
                    </a:lnTo>
                    <a:lnTo>
                      <a:pt x="45" y="109"/>
                    </a:lnTo>
                    <a:lnTo>
                      <a:pt x="37" y="94"/>
                    </a:lnTo>
                    <a:lnTo>
                      <a:pt x="31" y="90"/>
                    </a:lnTo>
                    <a:lnTo>
                      <a:pt x="30" y="80"/>
                    </a:lnTo>
                    <a:lnTo>
                      <a:pt x="25" y="68"/>
                    </a:lnTo>
                    <a:lnTo>
                      <a:pt x="27" y="56"/>
                    </a:lnTo>
                    <a:lnTo>
                      <a:pt x="26" y="53"/>
                    </a:lnTo>
                    <a:lnTo>
                      <a:pt x="9" y="64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70000" y="2079360"/>
                <a:ext cx="282600" cy="514440"/>
              </a:xfrm>
              <a:custGeom>
                <a:avLst/>
                <a:gdLst/>
                <a:ahLst/>
                <a:rect l="l" t="t" r="r" b="b"/>
                <a:pathLst>
                  <a:path w="178" h="324">
                    <a:moveTo>
                      <a:pt x="32" y="0"/>
                    </a:moveTo>
                    <a:lnTo>
                      <a:pt x="11" y="20"/>
                    </a:lnTo>
                    <a:lnTo>
                      <a:pt x="0" y="126"/>
                    </a:lnTo>
                    <a:lnTo>
                      <a:pt x="4" y="157"/>
                    </a:lnTo>
                    <a:lnTo>
                      <a:pt x="40" y="226"/>
                    </a:lnTo>
                    <a:lnTo>
                      <a:pt x="47" y="261"/>
                    </a:lnTo>
                    <a:lnTo>
                      <a:pt x="44" y="307"/>
                    </a:lnTo>
                    <a:lnTo>
                      <a:pt x="40" y="323"/>
                    </a:lnTo>
                    <a:lnTo>
                      <a:pt x="77" y="284"/>
                    </a:lnTo>
                    <a:lnTo>
                      <a:pt x="119" y="258"/>
                    </a:lnTo>
                    <a:lnTo>
                      <a:pt x="161" y="167"/>
                    </a:lnTo>
                    <a:lnTo>
                      <a:pt x="177" y="94"/>
                    </a:lnTo>
                    <a:lnTo>
                      <a:pt x="93" y="1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97160" y="22906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3" y="0"/>
                    </a:moveTo>
                    <a:lnTo>
                      <a:pt x="0" y="13"/>
                    </a:lnTo>
                    <a:lnTo>
                      <a:pt x="6" y="20"/>
                    </a:lnTo>
                    <a:lnTo>
                      <a:pt x="16" y="13"/>
                    </a:lnTo>
                    <a:lnTo>
                      <a:pt x="14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33720" y="2311200"/>
                <a:ext cx="6336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6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9" y="4"/>
                    </a:lnTo>
                    <a:lnTo>
                      <a:pt x="31" y="1"/>
                    </a:lnTo>
                    <a:lnTo>
                      <a:pt x="17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93840" y="22143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6"/>
                    </a:moveTo>
                    <a:lnTo>
                      <a:pt x="5" y="9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17" y="3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0240" y="22129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8"/>
                    </a:moveTo>
                    <a:lnTo>
                      <a:pt x="4" y="11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22360" y="2172960"/>
                <a:ext cx="644760" cy="1392480"/>
              </a:xfrm>
              <a:custGeom>
                <a:avLst/>
                <a:gdLst/>
                <a:ahLst/>
                <a:rect l="l" t="t" r="r" b="b"/>
                <a:pathLst>
                  <a:path w="406" h="877">
                    <a:moveTo>
                      <a:pt x="251" y="0"/>
                    </a:moveTo>
                    <a:lnTo>
                      <a:pt x="276" y="39"/>
                    </a:lnTo>
                    <a:lnTo>
                      <a:pt x="371" y="70"/>
                    </a:lnTo>
                    <a:lnTo>
                      <a:pt x="405" y="110"/>
                    </a:lnTo>
                    <a:lnTo>
                      <a:pt x="386" y="188"/>
                    </a:lnTo>
                    <a:lnTo>
                      <a:pt x="321" y="234"/>
                    </a:lnTo>
                    <a:lnTo>
                      <a:pt x="315" y="280"/>
                    </a:lnTo>
                    <a:lnTo>
                      <a:pt x="317" y="329"/>
                    </a:lnTo>
                    <a:lnTo>
                      <a:pt x="303" y="373"/>
                    </a:lnTo>
                    <a:lnTo>
                      <a:pt x="303" y="433"/>
                    </a:lnTo>
                    <a:lnTo>
                      <a:pt x="295" y="486"/>
                    </a:lnTo>
                    <a:lnTo>
                      <a:pt x="302" y="552"/>
                    </a:lnTo>
                    <a:lnTo>
                      <a:pt x="310" y="601"/>
                    </a:lnTo>
                    <a:lnTo>
                      <a:pt x="331" y="687"/>
                    </a:lnTo>
                    <a:lnTo>
                      <a:pt x="350" y="727"/>
                    </a:lnTo>
                    <a:lnTo>
                      <a:pt x="338" y="725"/>
                    </a:lnTo>
                    <a:lnTo>
                      <a:pt x="325" y="722"/>
                    </a:lnTo>
                    <a:lnTo>
                      <a:pt x="325" y="769"/>
                    </a:lnTo>
                    <a:lnTo>
                      <a:pt x="336" y="786"/>
                    </a:lnTo>
                    <a:lnTo>
                      <a:pt x="333" y="876"/>
                    </a:lnTo>
                    <a:lnTo>
                      <a:pt x="0" y="876"/>
                    </a:lnTo>
                    <a:lnTo>
                      <a:pt x="61" y="243"/>
                    </a:lnTo>
                    <a:lnTo>
                      <a:pt x="61" y="209"/>
                    </a:lnTo>
                    <a:lnTo>
                      <a:pt x="59" y="163"/>
                    </a:lnTo>
                    <a:lnTo>
                      <a:pt x="95" y="119"/>
                    </a:lnTo>
                    <a:lnTo>
                      <a:pt x="143" y="79"/>
                    </a:lnTo>
                    <a:lnTo>
                      <a:pt x="226" y="11"/>
                    </a:lnTo>
                    <a:lnTo>
                      <a:pt x="251" y="0"/>
                    </a:lnTo>
                    <a:lnTo>
                      <a:pt x="251" y="0"/>
                    </a:lnTo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1840" y="2151000"/>
                <a:ext cx="150480" cy="266760"/>
              </a:xfrm>
              <a:custGeom>
                <a:avLst/>
                <a:gdLst/>
                <a:ahLst/>
                <a:rect l="l" t="t" r="r" b="b"/>
                <a:pathLst>
                  <a:path w="95" h="168">
                    <a:moveTo>
                      <a:pt x="90" y="0"/>
                    </a:moveTo>
                    <a:lnTo>
                      <a:pt x="94" y="26"/>
                    </a:lnTo>
                    <a:lnTo>
                      <a:pt x="81" y="51"/>
                    </a:lnTo>
                    <a:lnTo>
                      <a:pt x="70" y="73"/>
                    </a:lnTo>
                    <a:lnTo>
                      <a:pt x="38" y="121"/>
                    </a:lnTo>
                    <a:lnTo>
                      <a:pt x="24" y="148"/>
                    </a:lnTo>
                    <a:lnTo>
                      <a:pt x="17" y="167"/>
                    </a:lnTo>
                    <a:lnTo>
                      <a:pt x="0" y="57"/>
                    </a:lnTo>
                    <a:lnTo>
                      <a:pt x="9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60600" y="2255760"/>
                <a:ext cx="144360" cy="407880"/>
              </a:xfrm>
              <a:custGeom>
                <a:avLst/>
                <a:gdLst/>
                <a:ahLst/>
                <a:rect l="l" t="t" r="r" b="b"/>
                <a:pathLst>
                  <a:path w="91" h="257">
                    <a:moveTo>
                      <a:pt x="81" y="1"/>
                    </a:moveTo>
                    <a:lnTo>
                      <a:pt x="90" y="33"/>
                    </a:lnTo>
                    <a:lnTo>
                      <a:pt x="81" y="46"/>
                    </a:lnTo>
                    <a:lnTo>
                      <a:pt x="87" y="102"/>
                    </a:lnTo>
                    <a:lnTo>
                      <a:pt x="60" y="165"/>
                    </a:lnTo>
                    <a:lnTo>
                      <a:pt x="22" y="256"/>
                    </a:lnTo>
                    <a:lnTo>
                      <a:pt x="0" y="213"/>
                    </a:lnTo>
                    <a:lnTo>
                      <a:pt x="14" y="177"/>
                    </a:lnTo>
                    <a:lnTo>
                      <a:pt x="27" y="120"/>
                    </a:lnTo>
                    <a:lnTo>
                      <a:pt x="69" y="0"/>
                    </a:lnTo>
                    <a:lnTo>
                      <a:pt x="81" y="1"/>
                    </a:lnTo>
                    <a:lnTo>
                      <a:pt x="81" y="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98560" y="3284280"/>
                <a:ext cx="138240" cy="200160"/>
              </a:xfrm>
              <a:custGeom>
                <a:avLst/>
                <a:gdLst/>
                <a:ahLst/>
                <a:rect l="l" t="t" r="r" b="b"/>
                <a:pathLst>
                  <a:path w="87" h="126">
                    <a:moveTo>
                      <a:pt x="86" y="20"/>
                    </a:moveTo>
                    <a:lnTo>
                      <a:pt x="86" y="101"/>
                    </a:lnTo>
                    <a:lnTo>
                      <a:pt x="70" y="109"/>
                    </a:lnTo>
                    <a:lnTo>
                      <a:pt x="66" y="117"/>
                    </a:lnTo>
                    <a:lnTo>
                      <a:pt x="19" y="125"/>
                    </a:lnTo>
                    <a:lnTo>
                      <a:pt x="8" y="115"/>
                    </a:lnTo>
                    <a:lnTo>
                      <a:pt x="0" y="95"/>
                    </a:lnTo>
                    <a:lnTo>
                      <a:pt x="16" y="0"/>
                    </a:lnTo>
                    <a:lnTo>
                      <a:pt x="86" y="20"/>
                    </a:lnTo>
                    <a:lnTo>
                      <a:pt x="86" y="2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85800" y="1877760"/>
                <a:ext cx="279360" cy="349200"/>
              </a:xfrm>
              <a:custGeom>
                <a:avLst/>
                <a:gdLst/>
                <a:ahLst/>
                <a:rect l="l" t="t" r="r" b="b"/>
                <a:pathLst>
                  <a:path w="176" h="220">
                    <a:moveTo>
                      <a:pt x="17" y="26"/>
                    </a:moveTo>
                    <a:lnTo>
                      <a:pt x="3" y="51"/>
                    </a:lnTo>
                    <a:lnTo>
                      <a:pt x="0" y="80"/>
                    </a:lnTo>
                    <a:lnTo>
                      <a:pt x="3" y="113"/>
                    </a:lnTo>
                    <a:lnTo>
                      <a:pt x="5" y="137"/>
                    </a:lnTo>
                    <a:lnTo>
                      <a:pt x="10" y="175"/>
                    </a:lnTo>
                    <a:lnTo>
                      <a:pt x="36" y="211"/>
                    </a:lnTo>
                    <a:lnTo>
                      <a:pt x="76" y="219"/>
                    </a:lnTo>
                    <a:lnTo>
                      <a:pt x="139" y="165"/>
                    </a:lnTo>
                    <a:lnTo>
                      <a:pt x="164" y="146"/>
                    </a:lnTo>
                    <a:lnTo>
                      <a:pt x="170" y="124"/>
                    </a:lnTo>
                    <a:lnTo>
                      <a:pt x="175" y="107"/>
                    </a:lnTo>
                    <a:lnTo>
                      <a:pt x="172" y="93"/>
                    </a:lnTo>
                    <a:lnTo>
                      <a:pt x="101" y="5"/>
                    </a:lnTo>
                    <a:lnTo>
                      <a:pt x="52" y="0"/>
                    </a:lnTo>
                    <a:lnTo>
                      <a:pt x="17" y="26"/>
                    </a:lnTo>
                    <a:lnTo>
                      <a:pt x="17" y="26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79680" y="1833480"/>
                <a:ext cx="274680" cy="169920"/>
              </a:xfrm>
              <a:custGeom>
                <a:avLst/>
                <a:gdLst/>
                <a:ahLst/>
                <a:rect l="l" t="t" r="r" b="b"/>
                <a:pathLst>
                  <a:path w="173" h="107">
                    <a:moveTo>
                      <a:pt x="11" y="69"/>
                    </a:moveTo>
                    <a:lnTo>
                      <a:pt x="26" y="53"/>
                    </a:lnTo>
                    <a:lnTo>
                      <a:pt x="38" y="49"/>
                    </a:lnTo>
                    <a:lnTo>
                      <a:pt x="54" y="31"/>
                    </a:lnTo>
                    <a:lnTo>
                      <a:pt x="66" y="38"/>
                    </a:lnTo>
                    <a:lnTo>
                      <a:pt x="78" y="49"/>
                    </a:lnTo>
                    <a:lnTo>
                      <a:pt x="102" y="56"/>
                    </a:lnTo>
                    <a:lnTo>
                      <a:pt x="130" y="78"/>
                    </a:lnTo>
                    <a:lnTo>
                      <a:pt x="150" y="106"/>
                    </a:lnTo>
                    <a:lnTo>
                      <a:pt x="172" y="71"/>
                    </a:lnTo>
                    <a:lnTo>
                      <a:pt x="164" y="45"/>
                    </a:lnTo>
                    <a:lnTo>
                      <a:pt x="153" y="25"/>
                    </a:lnTo>
                    <a:lnTo>
                      <a:pt x="139" y="12"/>
                    </a:lnTo>
                    <a:lnTo>
                      <a:pt x="114" y="5"/>
                    </a:lnTo>
                    <a:lnTo>
                      <a:pt x="97" y="9"/>
                    </a:lnTo>
                    <a:lnTo>
                      <a:pt x="74" y="0"/>
                    </a:lnTo>
                    <a:lnTo>
                      <a:pt x="56" y="3"/>
                    </a:lnTo>
                    <a:lnTo>
                      <a:pt x="34" y="15"/>
                    </a:lnTo>
                    <a:lnTo>
                      <a:pt x="22" y="23"/>
                    </a:lnTo>
                    <a:lnTo>
                      <a:pt x="10" y="36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1" y="69"/>
                    </a:lnTo>
                    <a:lnTo>
                      <a:pt x="11" y="69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8960" y="2435040"/>
                <a:ext cx="788760" cy="1131840"/>
              </a:xfrm>
              <a:custGeom>
                <a:avLst/>
                <a:gdLst/>
                <a:ahLst/>
                <a:rect l="l" t="t" r="r" b="b"/>
                <a:pathLst>
                  <a:path w="497" h="713">
                    <a:moveTo>
                      <a:pt x="181" y="0"/>
                    </a:moveTo>
                    <a:lnTo>
                      <a:pt x="296" y="8"/>
                    </a:lnTo>
                    <a:lnTo>
                      <a:pt x="316" y="30"/>
                    </a:lnTo>
                    <a:lnTo>
                      <a:pt x="358" y="54"/>
                    </a:lnTo>
                    <a:lnTo>
                      <a:pt x="411" y="68"/>
                    </a:lnTo>
                    <a:lnTo>
                      <a:pt x="450" y="94"/>
                    </a:lnTo>
                    <a:lnTo>
                      <a:pt x="468" y="130"/>
                    </a:lnTo>
                    <a:lnTo>
                      <a:pt x="462" y="187"/>
                    </a:lnTo>
                    <a:lnTo>
                      <a:pt x="474" y="210"/>
                    </a:lnTo>
                    <a:lnTo>
                      <a:pt x="496" y="263"/>
                    </a:lnTo>
                    <a:lnTo>
                      <a:pt x="493" y="281"/>
                    </a:lnTo>
                    <a:lnTo>
                      <a:pt x="469" y="298"/>
                    </a:lnTo>
                    <a:lnTo>
                      <a:pt x="471" y="328"/>
                    </a:lnTo>
                    <a:lnTo>
                      <a:pt x="476" y="349"/>
                    </a:lnTo>
                    <a:lnTo>
                      <a:pt x="462" y="387"/>
                    </a:lnTo>
                    <a:lnTo>
                      <a:pt x="464" y="418"/>
                    </a:lnTo>
                    <a:lnTo>
                      <a:pt x="385" y="478"/>
                    </a:lnTo>
                    <a:lnTo>
                      <a:pt x="420" y="564"/>
                    </a:lnTo>
                    <a:lnTo>
                      <a:pt x="431" y="712"/>
                    </a:lnTo>
                    <a:lnTo>
                      <a:pt x="94" y="712"/>
                    </a:lnTo>
                    <a:lnTo>
                      <a:pt x="94" y="571"/>
                    </a:lnTo>
                    <a:lnTo>
                      <a:pt x="41" y="536"/>
                    </a:lnTo>
                    <a:lnTo>
                      <a:pt x="77" y="472"/>
                    </a:lnTo>
                    <a:lnTo>
                      <a:pt x="107" y="437"/>
                    </a:lnTo>
                    <a:lnTo>
                      <a:pt x="100" y="418"/>
                    </a:lnTo>
                    <a:lnTo>
                      <a:pt x="69" y="295"/>
                    </a:lnTo>
                    <a:lnTo>
                      <a:pt x="22" y="142"/>
                    </a:lnTo>
                    <a:lnTo>
                      <a:pt x="0" y="111"/>
                    </a:lnTo>
                    <a:lnTo>
                      <a:pt x="23" y="76"/>
                    </a:lnTo>
                    <a:lnTo>
                      <a:pt x="74" y="56"/>
                    </a:lnTo>
                    <a:lnTo>
                      <a:pt x="119" y="50"/>
                    </a:lnTo>
                    <a:lnTo>
                      <a:pt x="159" y="29"/>
                    </a:lnTo>
                    <a:lnTo>
                      <a:pt x="181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23840" y="3052440"/>
                <a:ext cx="563760" cy="486000"/>
              </a:xfrm>
              <a:custGeom>
                <a:avLst/>
                <a:gdLst/>
                <a:ahLst/>
                <a:rect l="l" t="t" r="r" b="b"/>
                <a:pathLst>
                  <a:path w="355" h="306">
                    <a:moveTo>
                      <a:pt x="292" y="8"/>
                    </a:moveTo>
                    <a:lnTo>
                      <a:pt x="290" y="62"/>
                    </a:lnTo>
                    <a:lnTo>
                      <a:pt x="271" y="143"/>
                    </a:lnTo>
                    <a:lnTo>
                      <a:pt x="213" y="193"/>
                    </a:lnTo>
                    <a:lnTo>
                      <a:pt x="173" y="153"/>
                    </a:lnTo>
                    <a:lnTo>
                      <a:pt x="153" y="119"/>
                    </a:lnTo>
                    <a:lnTo>
                      <a:pt x="112" y="62"/>
                    </a:lnTo>
                    <a:lnTo>
                      <a:pt x="79" y="26"/>
                    </a:lnTo>
                    <a:lnTo>
                      <a:pt x="0" y="35"/>
                    </a:lnTo>
                    <a:lnTo>
                      <a:pt x="18" y="85"/>
                    </a:lnTo>
                    <a:lnTo>
                      <a:pt x="68" y="131"/>
                    </a:lnTo>
                    <a:lnTo>
                      <a:pt x="136" y="194"/>
                    </a:lnTo>
                    <a:lnTo>
                      <a:pt x="156" y="241"/>
                    </a:lnTo>
                    <a:lnTo>
                      <a:pt x="200" y="305"/>
                    </a:lnTo>
                    <a:lnTo>
                      <a:pt x="234" y="302"/>
                    </a:lnTo>
                    <a:lnTo>
                      <a:pt x="262" y="271"/>
                    </a:lnTo>
                    <a:lnTo>
                      <a:pt x="274" y="246"/>
                    </a:lnTo>
                    <a:lnTo>
                      <a:pt x="297" y="208"/>
                    </a:lnTo>
                    <a:lnTo>
                      <a:pt x="311" y="175"/>
                    </a:lnTo>
                    <a:lnTo>
                      <a:pt x="329" y="135"/>
                    </a:lnTo>
                    <a:lnTo>
                      <a:pt x="347" y="83"/>
                    </a:lnTo>
                    <a:lnTo>
                      <a:pt x="352" y="41"/>
                    </a:lnTo>
                    <a:lnTo>
                      <a:pt x="354" y="16"/>
                    </a:lnTo>
                    <a:lnTo>
                      <a:pt x="330" y="0"/>
                    </a:lnTo>
                    <a:lnTo>
                      <a:pt x="292" y="8"/>
                    </a:lnTo>
                    <a:lnTo>
                      <a:pt x="292" y="8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4040" y="3281040"/>
                <a:ext cx="77760" cy="6984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" y="0"/>
                    </a:moveTo>
                    <a:lnTo>
                      <a:pt x="8" y="6"/>
                    </a:lnTo>
                    <a:lnTo>
                      <a:pt x="19" y="15"/>
                    </a:lnTo>
                    <a:lnTo>
                      <a:pt x="33" y="22"/>
                    </a:lnTo>
                    <a:lnTo>
                      <a:pt x="36" y="27"/>
                    </a:lnTo>
                    <a:lnTo>
                      <a:pt x="45" y="23"/>
                    </a:lnTo>
                    <a:lnTo>
                      <a:pt x="48" y="27"/>
                    </a:lnTo>
                    <a:lnTo>
                      <a:pt x="45" y="39"/>
                    </a:lnTo>
                    <a:lnTo>
                      <a:pt x="41" y="43"/>
                    </a:lnTo>
                    <a:lnTo>
                      <a:pt x="36" y="37"/>
                    </a:lnTo>
                    <a:lnTo>
                      <a:pt x="19" y="27"/>
                    </a:lnTo>
                    <a:lnTo>
                      <a:pt x="8" y="19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32000" y="329868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19"/>
                    </a:moveTo>
                    <a:lnTo>
                      <a:pt x="23" y="39"/>
                    </a:lnTo>
                    <a:lnTo>
                      <a:pt x="54" y="17"/>
                    </a:lnTo>
                    <a:lnTo>
                      <a:pt x="32" y="0"/>
                    </a:lnTo>
                    <a:lnTo>
                      <a:pt x="7" y="15"/>
                    </a:ln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76320" y="3136680"/>
                <a:ext cx="457200" cy="430200"/>
              </a:xfrm>
              <a:custGeom>
                <a:avLst/>
                <a:gdLst/>
                <a:ahLst/>
                <a:rect l="l" t="t" r="r" b="b"/>
                <a:pathLst>
                  <a:path w="288" h="271">
                    <a:moveTo>
                      <a:pt x="0" y="42"/>
                    </a:moveTo>
                    <a:lnTo>
                      <a:pt x="19" y="34"/>
                    </a:lnTo>
                    <a:lnTo>
                      <a:pt x="45" y="63"/>
                    </a:lnTo>
                    <a:lnTo>
                      <a:pt x="136" y="124"/>
                    </a:lnTo>
                    <a:lnTo>
                      <a:pt x="144" y="136"/>
                    </a:lnTo>
                    <a:lnTo>
                      <a:pt x="75" y="131"/>
                    </a:lnTo>
                    <a:lnTo>
                      <a:pt x="22" y="131"/>
                    </a:lnTo>
                    <a:lnTo>
                      <a:pt x="30" y="174"/>
                    </a:lnTo>
                    <a:lnTo>
                      <a:pt x="120" y="188"/>
                    </a:lnTo>
                    <a:lnTo>
                      <a:pt x="163" y="190"/>
                    </a:lnTo>
                    <a:lnTo>
                      <a:pt x="209" y="234"/>
                    </a:lnTo>
                    <a:lnTo>
                      <a:pt x="232" y="270"/>
                    </a:lnTo>
                    <a:lnTo>
                      <a:pt x="248" y="270"/>
                    </a:lnTo>
                    <a:lnTo>
                      <a:pt x="287" y="244"/>
                    </a:lnTo>
                    <a:lnTo>
                      <a:pt x="232" y="249"/>
                    </a:lnTo>
                    <a:lnTo>
                      <a:pt x="221" y="248"/>
                    </a:lnTo>
                    <a:lnTo>
                      <a:pt x="201" y="204"/>
                    </a:lnTo>
                    <a:lnTo>
                      <a:pt x="179" y="171"/>
                    </a:lnTo>
                    <a:lnTo>
                      <a:pt x="166" y="141"/>
                    </a:lnTo>
                    <a:lnTo>
                      <a:pt x="153" y="126"/>
                    </a:lnTo>
                    <a:lnTo>
                      <a:pt x="123" y="102"/>
                    </a:lnTo>
                    <a:lnTo>
                      <a:pt x="75" y="60"/>
                    </a:lnTo>
                    <a:lnTo>
                      <a:pt x="57" y="35"/>
                    </a:lnTo>
                    <a:lnTo>
                      <a:pt x="31" y="0"/>
                    </a:lnTo>
                    <a:lnTo>
                      <a:pt x="4" y="25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2960" y="2701800"/>
                <a:ext cx="150840" cy="412560"/>
              </a:xfrm>
              <a:custGeom>
                <a:avLst/>
                <a:gdLst/>
                <a:ahLst/>
                <a:rect l="l" t="t" r="r" b="b"/>
                <a:pathLst>
                  <a:path w="95" h="260">
                    <a:moveTo>
                      <a:pt x="35" y="82"/>
                    </a:moveTo>
                    <a:lnTo>
                      <a:pt x="44" y="132"/>
                    </a:lnTo>
                    <a:lnTo>
                      <a:pt x="60" y="158"/>
                    </a:lnTo>
                    <a:lnTo>
                      <a:pt x="55" y="181"/>
                    </a:lnTo>
                    <a:lnTo>
                      <a:pt x="66" y="214"/>
                    </a:lnTo>
                    <a:lnTo>
                      <a:pt x="94" y="247"/>
                    </a:lnTo>
                    <a:lnTo>
                      <a:pt x="64" y="259"/>
                    </a:lnTo>
                    <a:lnTo>
                      <a:pt x="47" y="249"/>
                    </a:lnTo>
                    <a:lnTo>
                      <a:pt x="36" y="208"/>
                    </a:lnTo>
                    <a:lnTo>
                      <a:pt x="36" y="184"/>
                    </a:lnTo>
                    <a:lnTo>
                      <a:pt x="27" y="164"/>
                    </a:lnTo>
                    <a:lnTo>
                      <a:pt x="29" y="134"/>
                    </a:lnTo>
                    <a:lnTo>
                      <a:pt x="16" y="106"/>
                    </a:lnTo>
                    <a:lnTo>
                      <a:pt x="0" y="0"/>
                    </a:lnTo>
                    <a:lnTo>
                      <a:pt x="35" y="82"/>
                    </a:lnTo>
                    <a:lnTo>
                      <a:pt x="35" y="82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68320" y="2525400"/>
                <a:ext cx="293760" cy="563760"/>
              </a:xfrm>
              <a:custGeom>
                <a:avLst/>
                <a:gdLst/>
                <a:ahLst/>
                <a:rect l="l" t="t" r="r" b="b"/>
                <a:pathLst>
                  <a:path w="185" h="355">
                    <a:moveTo>
                      <a:pt x="0" y="50"/>
                    </a:moveTo>
                    <a:lnTo>
                      <a:pt x="25" y="24"/>
                    </a:lnTo>
                    <a:lnTo>
                      <a:pt x="22" y="63"/>
                    </a:lnTo>
                    <a:lnTo>
                      <a:pt x="54" y="24"/>
                    </a:lnTo>
                    <a:lnTo>
                      <a:pt x="59" y="97"/>
                    </a:lnTo>
                    <a:lnTo>
                      <a:pt x="36" y="78"/>
                    </a:lnTo>
                    <a:lnTo>
                      <a:pt x="14" y="80"/>
                    </a:lnTo>
                    <a:lnTo>
                      <a:pt x="31" y="144"/>
                    </a:lnTo>
                    <a:lnTo>
                      <a:pt x="64" y="205"/>
                    </a:lnTo>
                    <a:lnTo>
                      <a:pt x="95" y="239"/>
                    </a:lnTo>
                    <a:lnTo>
                      <a:pt x="128" y="269"/>
                    </a:lnTo>
                    <a:lnTo>
                      <a:pt x="130" y="301"/>
                    </a:lnTo>
                    <a:lnTo>
                      <a:pt x="150" y="306"/>
                    </a:lnTo>
                    <a:lnTo>
                      <a:pt x="151" y="333"/>
                    </a:lnTo>
                    <a:lnTo>
                      <a:pt x="177" y="354"/>
                    </a:lnTo>
                    <a:lnTo>
                      <a:pt x="184" y="354"/>
                    </a:lnTo>
                    <a:lnTo>
                      <a:pt x="163" y="327"/>
                    </a:lnTo>
                    <a:lnTo>
                      <a:pt x="158" y="285"/>
                    </a:lnTo>
                    <a:lnTo>
                      <a:pt x="153" y="238"/>
                    </a:lnTo>
                    <a:lnTo>
                      <a:pt x="122" y="137"/>
                    </a:lnTo>
                    <a:lnTo>
                      <a:pt x="130" y="211"/>
                    </a:lnTo>
                    <a:lnTo>
                      <a:pt x="98" y="153"/>
                    </a:lnTo>
                    <a:lnTo>
                      <a:pt x="70" y="108"/>
                    </a:lnTo>
                    <a:lnTo>
                      <a:pt x="72" y="58"/>
                    </a:lnTo>
                    <a:lnTo>
                      <a:pt x="83" y="106"/>
                    </a:lnTo>
                    <a:lnTo>
                      <a:pt x="111" y="141"/>
                    </a:lnTo>
                    <a:lnTo>
                      <a:pt x="88" y="19"/>
                    </a:lnTo>
                    <a:lnTo>
                      <a:pt x="68" y="1"/>
                    </a:lnTo>
                    <a:lnTo>
                      <a:pt x="40" y="0"/>
                    </a:lnTo>
                    <a:lnTo>
                      <a:pt x="1" y="33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47920" y="2673360"/>
                <a:ext cx="145800" cy="396720"/>
              </a:xfrm>
              <a:custGeom>
                <a:avLst/>
                <a:gdLst/>
                <a:ahLst/>
                <a:rect l="l" t="t" r="r" b="b"/>
                <a:pathLst>
                  <a:path w="92" h="250">
                    <a:moveTo>
                      <a:pt x="0" y="146"/>
                    </a:moveTo>
                    <a:lnTo>
                      <a:pt x="19" y="101"/>
                    </a:lnTo>
                    <a:lnTo>
                      <a:pt x="47" y="0"/>
                    </a:lnTo>
                    <a:lnTo>
                      <a:pt x="40" y="73"/>
                    </a:lnTo>
                    <a:lnTo>
                      <a:pt x="27" y="146"/>
                    </a:lnTo>
                    <a:lnTo>
                      <a:pt x="32" y="200"/>
                    </a:lnTo>
                    <a:lnTo>
                      <a:pt x="66" y="202"/>
                    </a:lnTo>
                    <a:lnTo>
                      <a:pt x="91" y="249"/>
                    </a:lnTo>
                    <a:lnTo>
                      <a:pt x="46" y="240"/>
                    </a:lnTo>
                    <a:lnTo>
                      <a:pt x="23" y="249"/>
                    </a:lnTo>
                    <a:lnTo>
                      <a:pt x="7" y="191"/>
                    </a:lnTo>
                    <a:lnTo>
                      <a:pt x="2" y="162"/>
                    </a:lnTo>
                    <a:lnTo>
                      <a:pt x="0" y="146"/>
                    </a:lnTo>
                    <a:lnTo>
                      <a:pt x="0" y="146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69840" y="2477880"/>
                <a:ext cx="497160" cy="674640"/>
              </a:xfrm>
              <a:custGeom>
                <a:avLst/>
                <a:gdLst/>
                <a:ahLst/>
                <a:rect l="l" t="t" r="r" b="b"/>
                <a:pathLst>
                  <a:path w="313" h="425">
                    <a:moveTo>
                      <a:pt x="235" y="336"/>
                    </a:moveTo>
                    <a:lnTo>
                      <a:pt x="204" y="311"/>
                    </a:lnTo>
                    <a:lnTo>
                      <a:pt x="235" y="305"/>
                    </a:lnTo>
                    <a:lnTo>
                      <a:pt x="155" y="179"/>
                    </a:lnTo>
                    <a:lnTo>
                      <a:pt x="72" y="17"/>
                    </a:lnTo>
                    <a:lnTo>
                      <a:pt x="31" y="29"/>
                    </a:lnTo>
                    <a:lnTo>
                      <a:pt x="0" y="31"/>
                    </a:lnTo>
                    <a:lnTo>
                      <a:pt x="42" y="16"/>
                    </a:lnTo>
                    <a:lnTo>
                      <a:pt x="80" y="0"/>
                    </a:lnTo>
                    <a:lnTo>
                      <a:pt x="172" y="172"/>
                    </a:lnTo>
                    <a:lnTo>
                      <a:pt x="246" y="289"/>
                    </a:lnTo>
                    <a:lnTo>
                      <a:pt x="291" y="355"/>
                    </a:lnTo>
                    <a:lnTo>
                      <a:pt x="312" y="363"/>
                    </a:lnTo>
                    <a:lnTo>
                      <a:pt x="293" y="370"/>
                    </a:lnTo>
                    <a:lnTo>
                      <a:pt x="272" y="401"/>
                    </a:lnTo>
                    <a:lnTo>
                      <a:pt x="142" y="400"/>
                    </a:lnTo>
                    <a:lnTo>
                      <a:pt x="148" y="424"/>
                    </a:lnTo>
                    <a:lnTo>
                      <a:pt x="116" y="388"/>
                    </a:lnTo>
                    <a:lnTo>
                      <a:pt x="120" y="384"/>
                    </a:lnTo>
                    <a:lnTo>
                      <a:pt x="107" y="363"/>
                    </a:lnTo>
                    <a:lnTo>
                      <a:pt x="108" y="344"/>
                    </a:lnTo>
                    <a:lnTo>
                      <a:pt x="134" y="341"/>
                    </a:lnTo>
                    <a:lnTo>
                      <a:pt x="154" y="367"/>
                    </a:lnTo>
                    <a:lnTo>
                      <a:pt x="211" y="351"/>
                    </a:lnTo>
                    <a:lnTo>
                      <a:pt x="235" y="336"/>
                    </a:lnTo>
                    <a:lnTo>
                      <a:pt x="235" y="336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38320" y="2149200"/>
                <a:ext cx="241200" cy="507960"/>
              </a:xfrm>
              <a:custGeom>
                <a:avLst/>
                <a:gdLst/>
                <a:ahLst/>
                <a:rect l="l" t="t" r="r" b="b"/>
                <a:pathLst>
                  <a:path w="152" h="320">
                    <a:moveTo>
                      <a:pt x="142" y="18"/>
                    </a:moveTo>
                    <a:lnTo>
                      <a:pt x="151" y="91"/>
                    </a:lnTo>
                    <a:lnTo>
                      <a:pt x="149" y="139"/>
                    </a:lnTo>
                    <a:lnTo>
                      <a:pt x="113" y="179"/>
                    </a:lnTo>
                    <a:lnTo>
                      <a:pt x="114" y="202"/>
                    </a:lnTo>
                    <a:lnTo>
                      <a:pt x="108" y="224"/>
                    </a:lnTo>
                    <a:lnTo>
                      <a:pt x="110" y="268"/>
                    </a:lnTo>
                    <a:lnTo>
                      <a:pt x="105" y="319"/>
                    </a:lnTo>
                    <a:lnTo>
                      <a:pt x="75" y="278"/>
                    </a:lnTo>
                    <a:lnTo>
                      <a:pt x="39" y="228"/>
                    </a:lnTo>
                    <a:lnTo>
                      <a:pt x="8" y="182"/>
                    </a:lnTo>
                    <a:lnTo>
                      <a:pt x="0" y="123"/>
                    </a:lnTo>
                    <a:lnTo>
                      <a:pt x="0" y="70"/>
                    </a:lnTo>
                    <a:lnTo>
                      <a:pt x="24" y="2"/>
                    </a:lnTo>
                    <a:lnTo>
                      <a:pt x="99" y="0"/>
                    </a:lnTo>
                    <a:lnTo>
                      <a:pt x="142" y="18"/>
                    </a:lnTo>
                    <a:lnTo>
                      <a:pt x="142" y="18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68280" y="2530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2" y="0"/>
                    </a:moveTo>
                    <a:lnTo>
                      <a:pt x="8" y="4"/>
                    </a:lnTo>
                    <a:lnTo>
                      <a:pt x="6" y="10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77840" y="2054160"/>
                <a:ext cx="331920" cy="347400"/>
              </a:xfrm>
              <a:custGeom>
                <a:avLst/>
                <a:gdLst/>
                <a:ahLst/>
                <a:rect l="l" t="t" r="r" b="b"/>
                <a:pathLst>
                  <a:path w="209" h="219">
                    <a:moveTo>
                      <a:pt x="58" y="81"/>
                    </a:moveTo>
                    <a:lnTo>
                      <a:pt x="112" y="81"/>
                    </a:lnTo>
                    <a:lnTo>
                      <a:pt x="120" y="74"/>
                    </a:lnTo>
                    <a:lnTo>
                      <a:pt x="124" y="80"/>
                    </a:lnTo>
                    <a:lnTo>
                      <a:pt x="132" y="71"/>
                    </a:lnTo>
                    <a:lnTo>
                      <a:pt x="131" y="59"/>
                    </a:lnTo>
                    <a:lnTo>
                      <a:pt x="152" y="77"/>
                    </a:lnTo>
                    <a:lnTo>
                      <a:pt x="178" y="84"/>
                    </a:lnTo>
                    <a:lnTo>
                      <a:pt x="182" y="98"/>
                    </a:lnTo>
                    <a:lnTo>
                      <a:pt x="184" y="125"/>
                    </a:lnTo>
                    <a:lnTo>
                      <a:pt x="194" y="163"/>
                    </a:lnTo>
                    <a:lnTo>
                      <a:pt x="208" y="132"/>
                    </a:lnTo>
                    <a:lnTo>
                      <a:pt x="208" y="103"/>
                    </a:lnTo>
                    <a:lnTo>
                      <a:pt x="200" y="82"/>
                    </a:lnTo>
                    <a:lnTo>
                      <a:pt x="187" y="67"/>
                    </a:lnTo>
                    <a:lnTo>
                      <a:pt x="176" y="38"/>
                    </a:lnTo>
                    <a:lnTo>
                      <a:pt x="168" y="25"/>
                    </a:lnTo>
                    <a:lnTo>
                      <a:pt x="157" y="16"/>
                    </a:lnTo>
                    <a:lnTo>
                      <a:pt x="109" y="0"/>
                    </a:lnTo>
                    <a:lnTo>
                      <a:pt x="72" y="10"/>
                    </a:lnTo>
                    <a:lnTo>
                      <a:pt x="57" y="35"/>
                    </a:lnTo>
                    <a:lnTo>
                      <a:pt x="37" y="40"/>
                    </a:lnTo>
                    <a:lnTo>
                      <a:pt x="31" y="52"/>
                    </a:lnTo>
                    <a:lnTo>
                      <a:pt x="19" y="64"/>
                    </a:lnTo>
                    <a:lnTo>
                      <a:pt x="2" y="93"/>
                    </a:lnTo>
                    <a:lnTo>
                      <a:pt x="0" y="131"/>
                    </a:lnTo>
                    <a:lnTo>
                      <a:pt x="8" y="141"/>
                    </a:lnTo>
                    <a:lnTo>
                      <a:pt x="7" y="154"/>
                    </a:lnTo>
                    <a:lnTo>
                      <a:pt x="1" y="166"/>
                    </a:lnTo>
                    <a:lnTo>
                      <a:pt x="2" y="189"/>
                    </a:lnTo>
                    <a:lnTo>
                      <a:pt x="17" y="210"/>
                    </a:lnTo>
                    <a:lnTo>
                      <a:pt x="40" y="218"/>
                    </a:lnTo>
                    <a:lnTo>
                      <a:pt x="51" y="196"/>
                    </a:lnTo>
                    <a:lnTo>
                      <a:pt x="51" y="182"/>
                    </a:lnTo>
                    <a:lnTo>
                      <a:pt x="42" y="160"/>
                    </a:lnTo>
                    <a:lnTo>
                      <a:pt x="40" y="131"/>
                    </a:lnTo>
                    <a:lnTo>
                      <a:pt x="54" y="94"/>
                    </a:lnTo>
                    <a:lnTo>
                      <a:pt x="58" y="81"/>
                    </a:lnTo>
                    <a:lnTo>
                      <a:pt x="58" y="81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46240" y="2352600"/>
                <a:ext cx="20520" cy="3312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3" y="0"/>
                    </a:moveTo>
                    <a:lnTo>
                      <a:pt x="9" y="1"/>
                    </a:lnTo>
                    <a:lnTo>
                      <a:pt x="12" y="11"/>
                    </a:lnTo>
                    <a:lnTo>
                      <a:pt x="11" y="19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33360" y="234288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50" y="1"/>
                    </a:moveTo>
                    <a:lnTo>
                      <a:pt x="45" y="7"/>
                    </a:lnTo>
                    <a:lnTo>
                      <a:pt x="22" y="11"/>
                    </a:lnTo>
                    <a:lnTo>
                      <a:pt x="9" y="7"/>
                    </a:lnTo>
                    <a:lnTo>
                      <a:pt x="0" y="5"/>
                    </a:lnTo>
                    <a:lnTo>
                      <a:pt x="8" y="1"/>
                    </a:lnTo>
                    <a:lnTo>
                      <a:pt x="38" y="0"/>
                    </a:lnTo>
                    <a:lnTo>
                      <a:pt x="50" y="1"/>
                    </a:lnTo>
                    <a:lnTo>
                      <a:pt x="50" y="1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31920" y="2334960"/>
                <a:ext cx="82440" cy="129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7"/>
                    </a:moveTo>
                    <a:lnTo>
                      <a:pt x="19" y="1"/>
                    </a:lnTo>
                    <a:lnTo>
                      <a:pt x="30" y="0"/>
                    </a:lnTo>
                    <a:lnTo>
                      <a:pt x="43" y="1"/>
                    </a:lnTo>
                    <a:lnTo>
                      <a:pt x="51" y="6"/>
                    </a:lnTo>
                    <a:lnTo>
                      <a:pt x="42" y="6"/>
                    </a:lnTo>
                    <a:lnTo>
                      <a:pt x="15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33360" y="2349360"/>
                <a:ext cx="795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9" y="2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38" y="3"/>
                    </a:lnTo>
                    <a:lnTo>
                      <a:pt x="45" y="2"/>
                    </a:lnTo>
                    <a:lnTo>
                      <a:pt x="49" y="0"/>
                    </a:lnTo>
                    <a:lnTo>
                      <a:pt x="46" y="7"/>
                    </a:lnTo>
                    <a:lnTo>
                      <a:pt x="38" y="10"/>
                    </a:lnTo>
                    <a:lnTo>
                      <a:pt x="25" y="11"/>
                    </a:lnTo>
                    <a:lnTo>
                      <a:pt x="13" y="10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98440" y="2216160"/>
                <a:ext cx="60480" cy="1260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0" y="6"/>
                    </a:moveTo>
                    <a:lnTo>
                      <a:pt x="6" y="0"/>
                    </a:lnTo>
                    <a:lnTo>
                      <a:pt x="13" y="2"/>
                    </a:lnTo>
                    <a:lnTo>
                      <a:pt x="28" y="2"/>
                    </a:lnTo>
                    <a:lnTo>
                      <a:pt x="37" y="6"/>
                    </a:lnTo>
                    <a:lnTo>
                      <a:pt x="31" y="7"/>
                    </a:lnTo>
                    <a:lnTo>
                      <a:pt x="20" y="6"/>
                    </a:lnTo>
                    <a:lnTo>
                      <a:pt x="14" y="2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00320" y="221904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2" y="6"/>
                    </a:moveTo>
                    <a:lnTo>
                      <a:pt x="12" y="2"/>
                    </a:lnTo>
                    <a:lnTo>
                      <a:pt x="22" y="0"/>
                    </a:lnTo>
                    <a:lnTo>
                      <a:pt x="33" y="5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03480" y="223668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4" y="5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9" y="5"/>
                    </a:lnTo>
                    <a:lnTo>
                      <a:pt x="29" y="5"/>
                    </a:lnTo>
                    <a:lnTo>
                      <a:pt x="18" y="3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31920" y="223812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2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06440" y="22413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1" y="3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8" y="0"/>
                    </a:lnTo>
                    <a:lnTo>
                      <a:pt x="25" y="4"/>
                    </a:lnTo>
                    <a:lnTo>
                      <a:pt x="18" y="9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8" y="5"/>
                    </a:lnTo>
                    <a:lnTo>
                      <a:pt x="0" y="6"/>
                    </a:lnTo>
                    <a:lnTo>
                      <a:pt x="5" y="4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85920" y="2238120"/>
                <a:ext cx="17280" cy="7776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8" y="0"/>
                    </a:moveTo>
                    <a:lnTo>
                      <a:pt x="5" y="7"/>
                    </a:lnTo>
                    <a:lnTo>
                      <a:pt x="3" y="14"/>
                    </a:lnTo>
                    <a:lnTo>
                      <a:pt x="5" y="24"/>
                    </a:lnTo>
                    <a:lnTo>
                      <a:pt x="10" y="40"/>
                    </a:lnTo>
                    <a:lnTo>
                      <a:pt x="0" y="48"/>
                    </a:lnTo>
                    <a:lnTo>
                      <a:pt x="6" y="38"/>
                    </a:lnTo>
                    <a:lnTo>
                      <a:pt x="2" y="26"/>
                    </a:lnTo>
                    <a:lnTo>
                      <a:pt x="0" y="13"/>
                    </a:lnTo>
                    <a:lnTo>
                      <a:pt x="3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60360" y="23079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9" y="3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3840" y="23000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5" y="6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8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5480" y="2145960"/>
                <a:ext cx="81000" cy="200160"/>
              </a:xfrm>
              <a:custGeom>
                <a:avLst/>
                <a:gdLst/>
                <a:ahLst/>
                <a:rect l="l" t="t" r="r" b="b"/>
                <a:pathLst>
                  <a:path w="51" h="126">
                    <a:moveTo>
                      <a:pt x="45" y="10"/>
                    </a:moveTo>
                    <a:lnTo>
                      <a:pt x="50" y="25"/>
                    </a:lnTo>
                    <a:lnTo>
                      <a:pt x="47" y="43"/>
                    </a:lnTo>
                    <a:lnTo>
                      <a:pt x="40" y="58"/>
                    </a:lnTo>
                    <a:lnTo>
                      <a:pt x="29" y="74"/>
                    </a:lnTo>
                    <a:lnTo>
                      <a:pt x="19" y="92"/>
                    </a:lnTo>
                    <a:lnTo>
                      <a:pt x="15" y="104"/>
                    </a:lnTo>
                    <a:lnTo>
                      <a:pt x="15" y="114"/>
                    </a:lnTo>
                    <a:lnTo>
                      <a:pt x="19" y="125"/>
                    </a:lnTo>
                    <a:lnTo>
                      <a:pt x="13" y="116"/>
                    </a:lnTo>
                    <a:lnTo>
                      <a:pt x="10" y="102"/>
                    </a:lnTo>
                    <a:lnTo>
                      <a:pt x="11" y="88"/>
                    </a:lnTo>
                    <a:lnTo>
                      <a:pt x="17" y="76"/>
                    </a:lnTo>
                    <a:lnTo>
                      <a:pt x="23" y="66"/>
                    </a:lnTo>
                    <a:lnTo>
                      <a:pt x="31" y="53"/>
                    </a:lnTo>
                    <a:lnTo>
                      <a:pt x="35" y="44"/>
                    </a:lnTo>
                    <a:lnTo>
                      <a:pt x="37" y="39"/>
                    </a:lnTo>
                    <a:lnTo>
                      <a:pt x="37" y="28"/>
                    </a:lnTo>
                    <a:lnTo>
                      <a:pt x="27" y="35"/>
                    </a:lnTo>
                    <a:lnTo>
                      <a:pt x="17" y="41"/>
                    </a:lnTo>
                    <a:lnTo>
                      <a:pt x="5" y="53"/>
                    </a:lnTo>
                    <a:lnTo>
                      <a:pt x="0" y="64"/>
                    </a:lnTo>
                    <a:lnTo>
                      <a:pt x="10" y="45"/>
                    </a:lnTo>
                    <a:lnTo>
                      <a:pt x="20" y="32"/>
                    </a:lnTo>
                    <a:lnTo>
                      <a:pt x="28" y="25"/>
                    </a:lnTo>
                    <a:lnTo>
                      <a:pt x="18" y="26"/>
                    </a:lnTo>
                    <a:lnTo>
                      <a:pt x="9" y="33"/>
                    </a:lnTo>
                    <a:lnTo>
                      <a:pt x="7" y="34"/>
                    </a:lnTo>
                    <a:lnTo>
                      <a:pt x="24" y="16"/>
                    </a:lnTo>
                    <a:lnTo>
                      <a:pt x="33" y="10"/>
                    </a:lnTo>
                    <a:lnTo>
                      <a:pt x="22" y="11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34" y="6"/>
                    </a:lnTo>
                    <a:lnTo>
                      <a:pt x="43" y="6"/>
                    </a:lnTo>
                    <a:lnTo>
                      <a:pt x="45" y="10"/>
                    </a:lnTo>
                    <a:lnTo>
                      <a:pt x="45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7160" y="2234880"/>
                <a:ext cx="34920" cy="108000"/>
              </a:xfrm>
              <a:custGeom>
                <a:avLst/>
                <a:gdLst/>
                <a:ahLst/>
                <a:rect l="l" t="t" r="r" b="b"/>
                <a:pathLst>
                  <a:path w="22" h="68">
                    <a:moveTo>
                      <a:pt x="21" y="0"/>
                    </a:moveTo>
                    <a:lnTo>
                      <a:pt x="13" y="26"/>
                    </a:lnTo>
                    <a:lnTo>
                      <a:pt x="13" y="40"/>
                    </a:lnTo>
                    <a:lnTo>
                      <a:pt x="16" y="57"/>
                    </a:lnTo>
                    <a:lnTo>
                      <a:pt x="20" y="67"/>
                    </a:lnTo>
                    <a:lnTo>
                      <a:pt x="10" y="52"/>
                    </a:lnTo>
                    <a:lnTo>
                      <a:pt x="8" y="38"/>
                    </a:lnTo>
                    <a:lnTo>
                      <a:pt x="3" y="46"/>
                    </a:lnTo>
                    <a:lnTo>
                      <a:pt x="6" y="55"/>
                    </a:lnTo>
                    <a:lnTo>
                      <a:pt x="10" y="63"/>
                    </a:lnTo>
                    <a:lnTo>
                      <a:pt x="11" y="6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73160" y="2109600"/>
                <a:ext cx="98280" cy="368280"/>
              </a:xfrm>
              <a:custGeom>
                <a:avLst/>
                <a:gdLst/>
                <a:ahLst/>
                <a:rect l="l" t="t" r="r" b="b"/>
                <a:pathLst>
                  <a:path w="62" h="232">
                    <a:moveTo>
                      <a:pt x="36" y="17"/>
                    </a:moveTo>
                    <a:lnTo>
                      <a:pt x="22" y="29"/>
                    </a:lnTo>
                    <a:lnTo>
                      <a:pt x="12" y="46"/>
                    </a:lnTo>
                    <a:lnTo>
                      <a:pt x="7" y="57"/>
                    </a:lnTo>
                    <a:lnTo>
                      <a:pt x="4" y="78"/>
                    </a:lnTo>
                    <a:lnTo>
                      <a:pt x="5" y="87"/>
                    </a:lnTo>
                    <a:lnTo>
                      <a:pt x="4" y="93"/>
                    </a:lnTo>
                    <a:lnTo>
                      <a:pt x="12" y="103"/>
                    </a:lnTo>
                    <a:lnTo>
                      <a:pt x="13" y="115"/>
                    </a:lnTo>
                    <a:lnTo>
                      <a:pt x="11" y="118"/>
                    </a:lnTo>
                    <a:lnTo>
                      <a:pt x="5" y="127"/>
                    </a:lnTo>
                    <a:lnTo>
                      <a:pt x="5" y="143"/>
                    </a:lnTo>
                    <a:lnTo>
                      <a:pt x="9" y="158"/>
                    </a:lnTo>
                    <a:lnTo>
                      <a:pt x="19" y="171"/>
                    </a:lnTo>
                    <a:lnTo>
                      <a:pt x="25" y="177"/>
                    </a:lnTo>
                    <a:lnTo>
                      <a:pt x="34" y="180"/>
                    </a:lnTo>
                    <a:lnTo>
                      <a:pt x="46" y="168"/>
                    </a:lnTo>
                    <a:lnTo>
                      <a:pt x="45" y="159"/>
                    </a:lnTo>
                    <a:lnTo>
                      <a:pt x="47" y="152"/>
                    </a:lnTo>
                    <a:lnTo>
                      <a:pt x="55" y="153"/>
                    </a:lnTo>
                    <a:lnTo>
                      <a:pt x="48" y="153"/>
                    </a:lnTo>
                    <a:lnTo>
                      <a:pt x="46" y="159"/>
                    </a:lnTo>
                    <a:lnTo>
                      <a:pt x="48" y="167"/>
                    </a:lnTo>
                    <a:lnTo>
                      <a:pt x="54" y="170"/>
                    </a:lnTo>
                    <a:lnTo>
                      <a:pt x="57" y="167"/>
                    </a:lnTo>
                    <a:lnTo>
                      <a:pt x="57" y="159"/>
                    </a:lnTo>
                    <a:lnTo>
                      <a:pt x="58" y="168"/>
                    </a:lnTo>
                    <a:lnTo>
                      <a:pt x="55" y="174"/>
                    </a:lnTo>
                    <a:lnTo>
                      <a:pt x="51" y="175"/>
                    </a:lnTo>
                    <a:lnTo>
                      <a:pt x="57" y="186"/>
                    </a:lnTo>
                    <a:lnTo>
                      <a:pt x="61" y="202"/>
                    </a:lnTo>
                    <a:lnTo>
                      <a:pt x="57" y="211"/>
                    </a:lnTo>
                    <a:lnTo>
                      <a:pt x="48" y="215"/>
                    </a:lnTo>
                    <a:lnTo>
                      <a:pt x="47" y="219"/>
                    </a:lnTo>
                    <a:lnTo>
                      <a:pt x="36" y="229"/>
                    </a:lnTo>
                    <a:lnTo>
                      <a:pt x="15" y="231"/>
                    </a:lnTo>
                    <a:lnTo>
                      <a:pt x="21" y="221"/>
                    </a:lnTo>
                    <a:lnTo>
                      <a:pt x="14" y="217"/>
                    </a:lnTo>
                    <a:lnTo>
                      <a:pt x="24" y="212"/>
                    </a:lnTo>
                    <a:lnTo>
                      <a:pt x="10" y="211"/>
                    </a:lnTo>
                    <a:lnTo>
                      <a:pt x="4" y="205"/>
                    </a:lnTo>
                    <a:lnTo>
                      <a:pt x="0" y="201"/>
                    </a:lnTo>
                    <a:lnTo>
                      <a:pt x="9" y="204"/>
                    </a:lnTo>
                    <a:lnTo>
                      <a:pt x="18" y="203"/>
                    </a:lnTo>
                    <a:lnTo>
                      <a:pt x="29" y="194"/>
                    </a:lnTo>
                    <a:lnTo>
                      <a:pt x="31" y="184"/>
                    </a:lnTo>
                    <a:lnTo>
                      <a:pt x="21" y="179"/>
                    </a:lnTo>
                    <a:lnTo>
                      <a:pt x="11" y="167"/>
                    </a:lnTo>
                    <a:lnTo>
                      <a:pt x="5" y="154"/>
                    </a:lnTo>
                    <a:lnTo>
                      <a:pt x="3" y="139"/>
                    </a:lnTo>
                    <a:lnTo>
                      <a:pt x="4" y="127"/>
                    </a:lnTo>
                    <a:lnTo>
                      <a:pt x="7" y="115"/>
                    </a:lnTo>
                    <a:lnTo>
                      <a:pt x="9" y="107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1" y="86"/>
                    </a:lnTo>
                    <a:lnTo>
                      <a:pt x="3" y="65"/>
                    </a:lnTo>
                    <a:lnTo>
                      <a:pt x="5" y="55"/>
                    </a:lnTo>
                    <a:lnTo>
                      <a:pt x="17" y="34"/>
                    </a:lnTo>
                    <a:lnTo>
                      <a:pt x="27" y="22"/>
                    </a:lnTo>
                    <a:lnTo>
                      <a:pt x="35" y="17"/>
                    </a:lnTo>
                    <a:lnTo>
                      <a:pt x="39" y="7"/>
                    </a:lnTo>
                    <a:lnTo>
                      <a:pt x="46" y="2"/>
                    </a:lnTo>
                    <a:lnTo>
                      <a:pt x="59" y="0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6" y="17"/>
                    </a:lnTo>
                    <a:lnTo>
                      <a:pt x="36" y="1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90520" y="217620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9" h="6">
                    <a:moveTo>
                      <a:pt x="3" y="3"/>
                    </a:moveTo>
                    <a:lnTo>
                      <a:pt x="8" y="0"/>
                    </a:lnTo>
                    <a:lnTo>
                      <a:pt x="14" y="4"/>
                    </a:lnTo>
                    <a:lnTo>
                      <a:pt x="28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66760" y="2047680"/>
                <a:ext cx="238320" cy="157320"/>
              </a:xfrm>
              <a:custGeom>
                <a:avLst/>
                <a:gdLst/>
                <a:ahLst/>
                <a:rect l="l" t="t" r="r" b="b"/>
                <a:pathLst>
                  <a:path w="150" h="99">
                    <a:moveTo>
                      <a:pt x="54" y="86"/>
                    </a:moveTo>
                    <a:lnTo>
                      <a:pt x="65" y="74"/>
                    </a:lnTo>
                    <a:lnTo>
                      <a:pt x="71" y="68"/>
                    </a:lnTo>
                    <a:lnTo>
                      <a:pt x="69" y="58"/>
                    </a:lnTo>
                    <a:lnTo>
                      <a:pt x="63" y="46"/>
                    </a:lnTo>
                    <a:lnTo>
                      <a:pt x="64" y="58"/>
                    </a:lnTo>
                    <a:lnTo>
                      <a:pt x="55" y="46"/>
                    </a:lnTo>
                    <a:lnTo>
                      <a:pt x="56" y="57"/>
                    </a:lnTo>
                    <a:lnTo>
                      <a:pt x="52" y="52"/>
                    </a:lnTo>
                    <a:lnTo>
                      <a:pt x="48" y="48"/>
                    </a:lnTo>
                    <a:lnTo>
                      <a:pt x="44" y="48"/>
                    </a:lnTo>
                    <a:lnTo>
                      <a:pt x="43" y="51"/>
                    </a:lnTo>
                    <a:lnTo>
                      <a:pt x="34" y="48"/>
                    </a:lnTo>
                    <a:lnTo>
                      <a:pt x="26" y="46"/>
                    </a:lnTo>
                    <a:lnTo>
                      <a:pt x="31" y="42"/>
                    </a:lnTo>
                    <a:lnTo>
                      <a:pt x="44" y="44"/>
                    </a:lnTo>
                    <a:lnTo>
                      <a:pt x="27" y="38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1" y="25"/>
                    </a:lnTo>
                    <a:lnTo>
                      <a:pt x="8" y="12"/>
                    </a:lnTo>
                    <a:lnTo>
                      <a:pt x="18" y="6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9" y="4"/>
                    </a:lnTo>
                    <a:lnTo>
                      <a:pt x="72" y="10"/>
                    </a:lnTo>
                    <a:lnTo>
                      <a:pt x="83" y="13"/>
                    </a:lnTo>
                    <a:lnTo>
                      <a:pt x="94" y="18"/>
                    </a:lnTo>
                    <a:lnTo>
                      <a:pt x="101" y="21"/>
                    </a:lnTo>
                    <a:lnTo>
                      <a:pt x="80" y="16"/>
                    </a:lnTo>
                    <a:lnTo>
                      <a:pt x="62" y="8"/>
                    </a:lnTo>
                    <a:lnTo>
                      <a:pt x="50" y="8"/>
                    </a:lnTo>
                    <a:lnTo>
                      <a:pt x="44" y="8"/>
                    </a:lnTo>
                    <a:lnTo>
                      <a:pt x="36" y="11"/>
                    </a:lnTo>
                    <a:lnTo>
                      <a:pt x="32" y="16"/>
                    </a:lnTo>
                    <a:lnTo>
                      <a:pt x="29" y="21"/>
                    </a:lnTo>
                    <a:lnTo>
                      <a:pt x="36" y="16"/>
                    </a:lnTo>
                    <a:lnTo>
                      <a:pt x="44" y="14"/>
                    </a:lnTo>
                    <a:lnTo>
                      <a:pt x="51" y="16"/>
                    </a:lnTo>
                    <a:lnTo>
                      <a:pt x="56" y="18"/>
                    </a:lnTo>
                    <a:lnTo>
                      <a:pt x="65" y="20"/>
                    </a:lnTo>
                    <a:lnTo>
                      <a:pt x="65" y="22"/>
                    </a:lnTo>
                    <a:lnTo>
                      <a:pt x="56" y="22"/>
                    </a:lnTo>
                    <a:lnTo>
                      <a:pt x="46" y="18"/>
                    </a:lnTo>
                    <a:lnTo>
                      <a:pt x="42" y="19"/>
                    </a:lnTo>
                    <a:lnTo>
                      <a:pt x="34" y="27"/>
                    </a:lnTo>
                    <a:lnTo>
                      <a:pt x="34" y="30"/>
                    </a:lnTo>
                    <a:lnTo>
                      <a:pt x="44" y="28"/>
                    </a:lnTo>
                    <a:lnTo>
                      <a:pt x="52" y="30"/>
                    </a:lnTo>
                    <a:lnTo>
                      <a:pt x="63" y="34"/>
                    </a:lnTo>
                    <a:lnTo>
                      <a:pt x="75" y="34"/>
                    </a:lnTo>
                    <a:lnTo>
                      <a:pt x="81" y="36"/>
                    </a:lnTo>
                    <a:lnTo>
                      <a:pt x="83" y="34"/>
                    </a:lnTo>
                    <a:lnTo>
                      <a:pt x="70" y="39"/>
                    </a:lnTo>
                    <a:lnTo>
                      <a:pt x="60" y="38"/>
                    </a:lnTo>
                    <a:lnTo>
                      <a:pt x="50" y="36"/>
                    </a:lnTo>
                    <a:lnTo>
                      <a:pt x="60" y="44"/>
                    </a:lnTo>
                    <a:lnTo>
                      <a:pt x="73" y="50"/>
                    </a:lnTo>
                    <a:lnTo>
                      <a:pt x="81" y="56"/>
                    </a:lnTo>
                    <a:lnTo>
                      <a:pt x="87" y="62"/>
                    </a:lnTo>
                    <a:lnTo>
                      <a:pt x="88" y="68"/>
                    </a:lnTo>
                    <a:lnTo>
                      <a:pt x="91" y="60"/>
                    </a:lnTo>
                    <a:lnTo>
                      <a:pt x="94" y="70"/>
                    </a:lnTo>
                    <a:lnTo>
                      <a:pt x="102" y="76"/>
                    </a:lnTo>
                    <a:lnTo>
                      <a:pt x="112" y="78"/>
                    </a:lnTo>
                    <a:lnTo>
                      <a:pt x="116" y="77"/>
                    </a:lnTo>
                    <a:lnTo>
                      <a:pt x="110" y="70"/>
                    </a:lnTo>
                    <a:lnTo>
                      <a:pt x="122" y="72"/>
                    </a:lnTo>
                    <a:lnTo>
                      <a:pt x="113" y="63"/>
                    </a:lnTo>
                    <a:lnTo>
                      <a:pt x="96" y="51"/>
                    </a:lnTo>
                    <a:lnTo>
                      <a:pt x="116" y="54"/>
                    </a:lnTo>
                    <a:lnTo>
                      <a:pt x="124" y="56"/>
                    </a:lnTo>
                    <a:lnTo>
                      <a:pt x="117" y="48"/>
                    </a:lnTo>
                    <a:lnTo>
                      <a:pt x="107" y="38"/>
                    </a:lnTo>
                    <a:lnTo>
                      <a:pt x="106" y="37"/>
                    </a:lnTo>
                    <a:lnTo>
                      <a:pt x="120" y="44"/>
                    </a:lnTo>
                    <a:lnTo>
                      <a:pt x="114" y="34"/>
                    </a:lnTo>
                    <a:lnTo>
                      <a:pt x="108" y="25"/>
                    </a:lnTo>
                    <a:lnTo>
                      <a:pt x="120" y="36"/>
                    </a:lnTo>
                    <a:lnTo>
                      <a:pt x="128" y="52"/>
                    </a:lnTo>
                    <a:lnTo>
                      <a:pt x="132" y="68"/>
                    </a:lnTo>
                    <a:lnTo>
                      <a:pt x="138" y="78"/>
                    </a:lnTo>
                    <a:lnTo>
                      <a:pt x="149" y="88"/>
                    </a:lnTo>
                    <a:lnTo>
                      <a:pt x="138" y="82"/>
                    </a:lnTo>
                    <a:lnTo>
                      <a:pt x="132" y="77"/>
                    </a:lnTo>
                    <a:lnTo>
                      <a:pt x="130" y="86"/>
                    </a:lnTo>
                    <a:lnTo>
                      <a:pt x="135" y="89"/>
                    </a:lnTo>
                    <a:lnTo>
                      <a:pt x="136" y="98"/>
                    </a:lnTo>
                    <a:lnTo>
                      <a:pt x="123" y="97"/>
                    </a:lnTo>
                    <a:lnTo>
                      <a:pt x="116" y="92"/>
                    </a:lnTo>
                    <a:lnTo>
                      <a:pt x="112" y="88"/>
                    </a:lnTo>
                    <a:lnTo>
                      <a:pt x="100" y="88"/>
                    </a:lnTo>
                    <a:lnTo>
                      <a:pt x="90" y="86"/>
                    </a:lnTo>
                    <a:lnTo>
                      <a:pt x="83" y="78"/>
                    </a:lnTo>
                    <a:lnTo>
                      <a:pt x="77" y="66"/>
                    </a:lnTo>
                    <a:lnTo>
                      <a:pt x="77" y="79"/>
                    </a:lnTo>
                    <a:lnTo>
                      <a:pt x="73" y="86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56" y="86"/>
                    </a:lnTo>
                    <a:lnTo>
                      <a:pt x="54" y="86"/>
                    </a:lnTo>
                    <a:lnTo>
                      <a:pt x="54" y="8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66760" y="2174760"/>
                <a:ext cx="265320" cy="325440"/>
              </a:xfrm>
              <a:custGeom>
                <a:avLst/>
                <a:gdLst/>
                <a:ahLst/>
                <a:rect l="l" t="t" r="r" b="b"/>
                <a:pathLst>
                  <a:path w="167" h="205">
                    <a:moveTo>
                      <a:pt x="124" y="15"/>
                    </a:moveTo>
                    <a:lnTo>
                      <a:pt x="124" y="32"/>
                    </a:lnTo>
                    <a:lnTo>
                      <a:pt x="126" y="58"/>
                    </a:lnTo>
                    <a:lnTo>
                      <a:pt x="128" y="74"/>
                    </a:lnTo>
                    <a:lnTo>
                      <a:pt x="128" y="95"/>
                    </a:lnTo>
                    <a:lnTo>
                      <a:pt x="122" y="112"/>
                    </a:lnTo>
                    <a:lnTo>
                      <a:pt x="110" y="134"/>
                    </a:lnTo>
                    <a:lnTo>
                      <a:pt x="98" y="147"/>
                    </a:lnTo>
                    <a:lnTo>
                      <a:pt x="83" y="154"/>
                    </a:lnTo>
                    <a:lnTo>
                      <a:pt x="74" y="155"/>
                    </a:lnTo>
                    <a:lnTo>
                      <a:pt x="51" y="152"/>
                    </a:lnTo>
                    <a:lnTo>
                      <a:pt x="33" y="148"/>
                    </a:lnTo>
                    <a:lnTo>
                      <a:pt x="19" y="136"/>
                    </a:lnTo>
                    <a:lnTo>
                      <a:pt x="0" y="115"/>
                    </a:lnTo>
                    <a:lnTo>
                      <a:pt x="30" y="148"/>
                    </a:lnTo>
                    <a:lnTo>
                      <a:pt x="52" y="162"/>
                    </a:lnTo>
                    <a:lnTo>
                      <a:pt x="73" y="171"/>
                    </a:lnTo>
                    <a:lnTo>
                      <a:pt x="85" y="170"/>
                    </a:lnTo>
                    <a:lnTo>
                      <a:pt x="94" y="165"/>
                    </a:lnTo>
                    <a:lnTo>
                      <a:pt x="94" y="180"/>
                    </a:lnTo>
                    <a:lnTo>
                      <a:pt x="92" y="204"/>
                    </a:lnTo>
                    <a:lnTo>
                      <a:pt x="100" y="176"/>
                    </a:lnTo>
                    <a:lnTo>
                      <a:pt x="101" y="158"/>
                    </a:lnTo>
                    <a:lnTo>
                      <a:pt x="111" y="171"/>
                    </a:lnTo>
                    <a:lnTo>
                      <a:pt x="120" y="186"/>
                    </a:lnTo>
                    <a:lnTo>
                      <a:pt x="126" y="181"/>
                    </a:lnTo>
                    <a:lnTo>
                      <a:pt x="141" y="196"/>
                    </a:lnTo>
                    <a:lnTo>
                      <a:pt x="152" y="195"/>
                    </a:lnTo>
                    <a:lnTo>
                      <a:pt x="149" y="181"/>
                    </a:lnTo>
                    <a:lnTo>
                      <a:pt x="135" y="168"/>
                    </a:lnTo>
                    <a:lnTo>
                      <a:pt x="154" y="160"/>
                    </a:lnTo>
                    <a:lnTo>
                      <a:pt x="161" y="152"/>
                    </a:lnTo>
                    <a:lnTo>
                      <a:pt x="152" y="151"/>
                    </a:lnTo>
                    <a:lnTo>
                      <a:pt x="146" y="146"/>
                    </a:lnTo>
                    <a:lnTo>
                      <a:pt x="142" y="138"/>
                    </a:lnTo>
                    <a:lnTo>
                      <a:pt x="142" y="134"/>
                    </a:lnTo>
                    <a:lnTo>
                      <a:pt x="152" y="134"/>
                    </a:lnTo>
                    <a:lnTo>
                      <a:pt x="158" y="128"/>
                    </a:lnTo>
                    <a:lnTo>
                      <a:pt x="161" y="121"/>
                    </a:lnTo>
                    <a:lnTo>
                      <a:pt x="161" y="118"/>
                    </a:lnTo>
                    <a:lnTo>
                      <a:pt x="154" y="124"/>
                    </a:lnTo>
                    <a:lnTo>
                      <a:pt x="149" y="123"/>
                    </a:lnTo>
                    <a:lnTo>
                      <a:pt x="145" y="120"/>
                    </a:lnTo>
                    <a:lnTo>
                      <a:pt x="151" y="113"/>
                    </a:lnTo>
                    <a:lnTo>
                      <a:pt x="154" y="106"/>
                    </a:lnTo>
                    <a:lnTo>
                      <a:pt x="154" y="100"/>
                    </a:lnTo>
                    <a:lnTo>
                      <a:pt x="166" y="95"/>
                    </a:lnTo>
                    <a:lnTo>
                      <a:pt x="161" y="92"/>
                    </a:lnTo>
                    <a:lnTo>
                      <a:pt x="157" y="84"/>
                    </a:lnTo>
                    <a:lnTo>
                      <a:pt x="156" y="75"/>
                    </a:lnTo>
                    <a:lnTo>
                      <a:pt x="157" y="70"/>
                    </a:lnTo>
                    <a:lnTo>
                      <a:pt x="159" y="53"/>
                    </a:lnTo>
                    <a:lnTo>
                      <a:pt x="159" y="34"/>
                    </a:lnTo>
                    <a:lnTo>
                      <a:pt x="154" y="19"/>
                    </a:lnTo>
                    <a:lnTo>
                      <a:pt x="150" y="9"/>
                    </a:lnTo>
                    <a:lnTo>
                      <a:pt x="138" y="0"/>
                    </a:lnTo>
                    <a:lnTo>
                      <a:pt x="145" y="14"/>
                    </a:lnTo>
                    <a:lnTo>
                      <a:pt x="150" y="30"/>
                    </a:lnTo>
                    <a:lnTo>
                      <a:pt x="142" y="25"/>
                    </a:lnTo>
                    <a:lnTo>
                      <a:pt x="144" y="34"/>
                    </a:lnTo>
                    <a:lnTo>
                      <a:pt x="151" y="46"/>
                    </a:lnTo>
                    <a:lnTo>
                      <a:pt x="141" y="38"/>
                    </a:lnTo>
                    <a:lnTo>
                      <a:pt x="145" y="57"/>
                    </a:lnTo>
                    <a:lnTo>
                      <a:pt x="143" y="70"/>
                    </a:lnTo>
                    <a:lnTo>
                      <a:pt x="140" y="54"/>
                    </a:lnTo>
                    <a:lnTo>
                      <a:pt x="132" y="46"/>
                    </a:lnTo>
                    <a:lnTo>
                      <a:pt x="138" y="60"/>
                    </a:lnTo>
                    <a:lnTo>
                      <a:pt x="136" y="76"/>
                    </a:lnTo>
                    <a:lnTo>
                      <a:pt x="131" y="56"/>
                    </a:lnTo>
                    <a:lnTo>
                      <a:pt x="126" y="42"/>
                    </a:lnTo>
                    <a:lnTo>
                      <a:pt x="134" y="40"/>
                    </a:lnTo>
                    <a:lnTo>
                      <a:pt x="128" y="28"/>
                    </a:lnTo>
                    <a:lnTo>
                      <a:pt x="132" y="22"/>
                    </a:lnTo>
                    <a:lnTo>
                      <a:pt x="124" y="15"/>
                    </a:lnTo>
                    <a:lnTo>
                      <a:pt x="124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49480" y="2261880"/>
                <a:ext cx="9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54160" y="2257200"/>
                <a:ext cx="158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63520" y="2273040"/>
                <a:ext cx="1296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76480" y="2292120"/>
                <a:ext cx="612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8040" y="2476440"/>
                <a:ext cx="215640" cy="388800"/>
              </a:xfrm>
              <a:custGeom>
                <a:avLst/>
                <a:gdLst/>
                <a:ahLst/>
                <a:rect l="l" t="t" r="r" b="b"/>
                <a:pathLst>
                  <a:path w="136" h="245">
                    <a:moveTo>
                      <a:pt x="135" y="0"/>
                    </a:moveTo>
                    <a:lnTo>
                      <a:pt x="89" y="23"/>
                    </a:lnTo>
                    <a:lnTo>
                      <a:pt x="49" y="29"/>
                    </a:lnTo>
                    <a:lnTo>
                      <a:pt x="37" y="29"/>
                    </a:lnTo>
                    <a:lnTo>
                      <a:pt x="0" y="61"/>
                    </a:lnTo>
                    <a:lnTo>
                      <a:pt x="42" y="31"/>
                    </a:lnTo>
                    <a:lnTo>
                      <a:pt x="21" y="91"/>
                    </a:lnTo>
                    <a:lnTo>
                      <a:pt x="51" y="44"/>
                    </a:lnTo>
                    <a:lnTo>
                      <a:pt x="62" y="42"/>
                    </a:lnTo>
                    <a:lnTo>
                      <a:pt x="55" y="76"/>
                    </a:lnTo>
                    <a:lnTo>
                      <a:pt x="56" y="123"/>
                    </a:lnTo>
                    <a:lnTo>
                      <a:pt x="66" y="68"/>
                    </a:lnTo>
                    <a:lnTo>
                      <a:pt x="80" y="54"/>
                    </a:lnTo>
                    <a:lnTo>
                      <a:pt x="81" y="116"/>
                    </a:lnTo>
                    <a:lnTo>
                      <a:pt x="103" y="178"/>
                    </a:lnTo>
                    <a:lnTo>
                      <a:pt x="112" y="169"/>
                    </a:lnTo>
                    <a:lnTo>
                      <a:pt x="135" y="244"/>
                    </a:lnTo>
                    <a:lnTo>
                      <a:pt x="126" y="157"/>
                    </a:lnTo>
                    <a:lnTo>
                      <a:pt x="83" y="48"/>
                    </a:lnTo>
                    <a:lnTo>
                      <a:pt x="60" y="31"/>
                    </a:lnTo>
                    <a:lnTo>
                      <a:pt x="87" y="25"/>
                    </a:lnTo>
                    <a:lnTo>
                      <a:pt x="135" y="0"/>
                    </a:lnTo>
                    <a:lnTo>
                      <a:pt x="13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58960" y="2584440"/>
                <a:ext cx="187200" cy="534960"/>
              </a:xfrm>
              <a:custGeom>
                <a:avLst/>
                <a:gdLst/>
                <a:ahLst/>
                <a:rect l="l" t="t" r="r" b="b"/>
                <a:pathLst>
                  <a:path w="118" h="337">
                    <a:moveTo>
                      <a:pt x="7" y="0"/>
                    </a:moveTo>
                    <a:lnTo>
                      <a:pt x="2" y="16"/>
                    </a:lnTo>
                    <a:lnTo>
                      <a:pt x="20" y="46"/>
                    </a:lnTo>
                    <a:lnTo>
                      <a:pt x="40" y="48"/>
                    </a:lnTo>
                    <a:lnTo>
                      <a:pt x="92" y="113"/>
                    </a:lnTo>
                    <a:lnTo>
                      <a:pt x="115" y="164"/>
                    </a:lnTo>
                    <a:lnTo>
                      <a:pt x="109" y="158"/>
                    </a:lnTo>
                    <a:lnTo>
                      <a:pt x="92" y="126"/>
                    </a:lnTo>
                    <a:lnTo>
                      <a:pt x="51" y="94"/>
                    </a:lnTo>
                    <a:lnTo>
                      <a:pt x="38" y="76"/>
                    </a:lnTo>
                    <a:lnTo>
                      <a:pt x="61" y="136"/>
                    </a:lnTo>
                    <a:lnTo>
                      <a:pt x="117" y="194"/>
                    </a:lnTo>
                    <a:lnTo>
                      <a:pt x="65" y="147"/>
                    </a:lnTo>
                    <a:lnTo>
                      <a:pt x="36" y="109"/>
                    </a:lnTo>
                    <a:lnTo>
                      <a:pt x="52" y="185"/>
                    </a:lnTo>
                    <a:lnTo>
                      <a:pt x="68" y="207"/>
                    </a:lnTo>
                    <a:lnTo>
                      <a:pt x="65" y="242"/>
                    </a:lnTo>
                    <a:lnTo>
                      <a:pt x="78" y="272"/>
                    </a:lnTo>
                    <a:lnTo>
                      <a:pt x="79" y="313"/>
                    </a:lnTo>
                    <a:lnTo>
                      <a:pt x="93" y="336"/>
                    </a:lnTo>
                    <a:lnTo>
                      <a:pt x="78" y="328"/>
                    </a:lnTo>
                    <a:lnTo>
                      <a:pt x="68" y="295"/>
                    </a:lnTo>
                    <a:lnTo>
                      <a:pt x="70" y="272"/>
                    </a:lnTo>
                    <a:lnTo>
                      <a:pt x="61" y="238"/>
                    </a:lnTo>
                    <a:lnTo>
                      <a:pt x="60" y="208"/>
                    </a:lnTo>
                    <a:lnTo>
                      <a:pt x="47" y="184"/>
                    </a:lnTo>
                    <a:lnTo>
                      <a:pt x="20" y="53"/>
                    </a:lnTo>
                    <a:lnTo>
                      <a:pt x="0" y="13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92160" y="2869920"/>
                <a:ext cx="243000" cy="487440"/>
              </a:xfrm>
              <a:custGeom>
                <a:avLst/>
                <a:gdLst/>
                <a:ahLst/>
                <a:rect l="l" t="t" r="r" b="b"/>
                <a:pathLst>
                  <a:path w="153" h="307">
                    <a:moveTo>
                      <a:pt x="0" y="0"/>
                    </a:moveTo>
                    <a:lnTo>
                      <a:pt x="20" y="22"/>
                    </a:lnTo>
                    <a:lnTo>
                      <a:pt x="50" y="25"/>
                    </a:lnTo>
                    <a:lnTo>
                      <a:pt x="65" y="28"/>
                    </a:lnTo>
                    <a:lnTo>
                      <a:pt x="76" y="37"/>
                    </a:lnTo>
                    <a:lnTo>
                      <a:pt x="76" y="47"/>
                    </a:lnTo>
                    <a:lnTo>
                      <a:pt x="76" y="62"/>
                    </a:lnTo>
                    <a:lnTo>
                      <a:pt x="72" y="68"/>
                    </a:lnTo>
                    <a:lnTo>
                      <a:pt x="74" y="53"/>
                    </a:lnTo>
                    <a:lnTo>
                      <a:pt x="66" y="40"/>
                    </a:lnTo>
                    <a:lnTo>
                      <a:pt x="56" y="36"/>
                    </a:lnTo>
                    <a:lnTo>
                      <a:pt x="48" y="32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54" y="55"/>
                    </a:lnTo>
                    <a:lnTo>
                      <a:pt x="63" y="71"/>
                    </a:lnTo>
                    <a:lnTo>
                      <a:pt x="84" y="80"/>
                    </a:lnTo>
                    <a:lnTo>
                      <a:pt x="95" y="114"/>
                    </a:lnTo>
                    <a:lnTo>
                      <a:pt x="116" y="137"/>
                    </a:lnTo>
                    <a:lnTo>
                      <a:pt x="20" y="154"/>
                    </a:lnTo>
                    <a:lnTo>
                      <a:pt x="46" y="203"/>
                    </a:lnTo>
                    <a:lnTo>
                      <a:pt x="82" y="239"/>
                    </a:lnTo>
                    <a:lnTo>
                      <a:pt x="152" y="306"/>
                    </a:lnTo>
                    <a:lnTo>
                      <a:pt x="58" y="221"/>
                    </a:lnTo>
                    <a:lnTo>
                      <a:pt x="38" y="200"/>
                    </a:lnTo>
                    <a:lnTo>
                      <a:pt x="13" y="158"/>
                    </a:lnTo>
                    <a:lnTo>
                      <a:pt x="2" y="148"/>
                    </a:lnTo>
                    <a:lnTo>
                      <a:pt x="33" y="142"/>
                    </a:lnTo>
                    <a:lnTo>
                      <a:pt x="102" y="132"/>
                    </a:lnTo>
                    <a:lnTo>
                      <a:pt x="86" y="115"/>
                    </a:lnTo>
                    <a:lnTo>
                      <a:pt x="79" y="82"/>
                    </a:lnTo>
                    <a:lnTo>
                      <a:pt x="56" y="75"/>
                    </a:lnTo>
                    <a:lnTo>
                      <a:pt x="46" y="52"/>
                    </a:lnTo>
                    <a:lnTo>
                      <a:pt x="13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85760" y="2793960"/>
                <a:ext cx="120600" cy="299880"/>
              </a:xfrm>
              <a:custGeom>
                <a:avLst/>
                <a:gdLst/>
                <a:ahLst/>
                <a:rect l="l" t="t" r="r" b="b"/>
                <a:pathLst>
                  <a:path w="76" h="189">
                    <a:moveTo>
                      <a:pt x="0" y="15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25" y="37"/>
                    </a:lnTo>
                    <a:lnTo>
                      <a:pt x="43" y="60"/>
                    </a:lnTo>
                    <a:lnTo>
                      <a:pt x="54" y="73"/>
                    </a:lnTo>
                    <a:lnTo>
                      <a:pt x="69" y="90"/>
                    </a:lnTo>
                    <a:lnTo>
                      <a:pt x="47" y="98"/>
                    </a:lnTo>
                    <a:lnTo>
                      <a:pt x="39" y="106"/>
                    </a:lnTo>
                    <a:lnTo>
                      <a:pt x="43" y="116"/>
                    </a:lnTo>
                    <a:lnTo>
                      <a:pt x="49" y="123"/>
                    </a:lnTo>
                    <a:lnTo>
                      <a:pt x="64" y="143"/>
                    </a:lnTo>
                    <a:lnTo>
                      <a:pt x="70" y="158"/>
                    </a:lnTo>
                    <a:lnTo>
                      <a:pt x="75" y="181"/>
                    </a:lnTo>
                    <a:lnTo>
                      <a:pt x="75" y="188"/>
                    </a:lnTo>
                    <a:lnTo>
                      <a:pt x="63" y="165"/>
                    </a:lnTo>
                    <a:lnTo>
                      <a:pt x="49" y="160"/>
                    </a:lnTo>
                    <a:lnTo>
                      <a:pt x="38" y="158"/>
                    </a:lnTo>
                    <a:lnTo>
                      <a:pt x="31" y="158"/>
                    </a:lnTo>
                    <a:lnTo>
                      <a:pt x="20" y="124"/>
                    </a:lnTo>
                    <a:lnTo>
                      <a:pt x="7" y="123"/>
                    </a:lnTo>
                    <a:lnTo>
                      <a:pt x="17" y="98"/>
                    </a:lnTo>
                    <a:lnTo>
                      <a:pt x="17" y="76"/>
                    </a:lnTo>
                    <a:lnTo>
                      <a:pt x="2" y="48"/>
                    </a:lnTo>
                    <a:lnTo>
                      <a:pt x="2" y="23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6480" y="3133440"/>
                <a:ext cx="318960" cy="223920"/>
              </a:xfrm>
              <a:custGeom>
                <a:avLst/>
                <a:gdLst/>
                <a:ahLst/>
                <a:rect l="l" t="t" r="r" b="b"/>
                <a:pathLst>
                  <a:path w="201" h="141">
                    <a:moveTo>
                      <a:pt x="72" y="0"/>
                    </a:moveTo>
                    <a:lnTo>
                      <a:pt x="44" y="30"/>
                    </a:lnTo>
                    <a:lnTo>
                      <a:pt x="0" y="95"/>
                    </a:lnTo>
                    <a:lnTo>
                      <a:pt x="30" y="123"/>
                    </a:lnTo>
                    <a:lnTo>
                      <a:pt x="78" y="136"/>
                    </a:lnTo>
                    <a:lnTo>
                      <a:pt x="164" y="140"/>
                    </a:lnTo>
                    <a:lnTo>
                      <a:pt x="200" y="138"/>
                    </a:lnTo>
                    <a:lnTo>
                      <a:pt x="135" y="133"/>
                    </a:lnTo>
                    <a:lnTo>
                      <a:pt x="74" y="119"/>
                    </a:lnTo>
                    <a:lnTo>
                      <a:pt x="67" y="85"/>
                    </a:lnTo>
                    <a:lnTo>
                      <a:pt x="58" y="100"/>
                    </a:lnTo>
                    <a:lnTo>
                      <a:pt x="13" y="94"/>
                    </a:lnTo>
                    <a:lnTo>
                      <a:pt x="53" y="32"/>
                    </a:lnTo>
                    <a:lnTo>
                      <a:pt x="76" y="3"/>
                    </a:lnTo>
                    <a:lnTo>
                      <a:pt x="72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38320" y="3087360"/>
                <a:ext cx="309600" cy="381240"/>
              </a:xfrm>
              <a:custGeom>
                <a:avLst/>
                <a:gdLst/>
                <a:ahLst/>
                <a:rect l="l" t="t" r="r" b="b"/>
                <a:pathLst>
                  <a:path w="195" h="240">
                    <a:moveTo>
                      <a:pt x="0" y="0"/>
                    </a:moveTo>
                    <a:lnTo>
                      <a:pt x="39" y="43"/>
                    </a:lnTo>
                    <a:lnTo>
                      <a:pt x="85" y="115"/>
                    </a:lnTo>
                    <a:lnTo>
                      <a:pt x="129" y="162"/>
                    </a:lnTo>
                    <a:lnTo>
                      <a:pt x="182" y="212"/>
                    </a:lnTo>
                    <a:lnTo>
                      <a:pt x="194" y="239"/>
                    </a:lnTo>
                    <a:lnTo>
                      <a:pt x="184" y="207"/>
                    </a:lnTo>
                    <a:lnTo>
                      <a:pt x="130" y="157"/>
                    </a:lnTo>
                    <a:lnTo>
                      <a:pt x="91" y="114"/>
                    </a:lnTo>
                    <a:lnTo>
                      <a:pt x="44" y="39"/>
                    </a:lnTo>
                    <a:lnTo>
                      <a:pt x="14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4520" y="33620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69" h="111">
                    <a:moveTo>
                      <a:pt x="0" y="0"/>
                    </a:moveTo>
                    <a:lnTo>
                      <a:pt x="13" y="34"/>
                    </a:lnTo>
                    <a:lnTo>
                      <a:pt x="40" y="73"/>
                    </a:lnTo>
                    <a:lnTo>
                      <a:pt x="59" y="108"/>
                    </a:lnTo>
                    <a:lnTo>
                      <a:pt x="68" y="110"/>
                    </a:lnTo>
                    <a:lnTo>
                      <a:pt x="55" y="110"/>
                    </a:lnTo>
                    <a:lnTo>
                      <a:pt x="34" y="73"/>
                    </a:lnTo>
                    <a:lnTo>
                      <a:pt x="11" y="44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92240" y="2471400"/>
                <a:ext cx="366840" cy="621000"/>
              </a:xfrm>
              <a:custGeom>
                <a:avLst/>
                <a:gdLst/>
                <a:ahLst/>
                <a:rect l="l" t="t" r="r" b="b"/>
                <a:pathLst>
                  <a:path w="231" h="391">
                    <a:moveTo>
                      <a:pt x="13" y="0"/>
                    </a:moveTo>
                    <a:lnTo>
                      <a:pt x="45" y="67"/>
                    </a:lnTo>
                    <a:lnTo>
                      <a:pt x="96" y="169"/>
                    </a:lnTo>
                    <a:lnTo>
                      <a:pt x="158" y="271"/>
                    </a:lnTo>
                    <a:lnTo>
                      <a:pt x="230" y="366"/>
                    </a:lnTo>
                    <a:lnTo>
                      <a:pt x="215" y="361"/>
                    </a:lnTo>
                    <a:lnTo>
                      <a:pt x="195" y="383"/>
                    </a:lnTo>
                    <a:lnTo>
                      <a:pt x="90" y="390"/>
                    </a:lnTo>
                    <a:lnTo>
                      <a:pt x="166" y="353"/>
                    </a:lnTo>
                    <a:lnTo>
                      <a:pt x="186" y="340"/>
                    </a:lnTo>
                    <a:lnTo>
                      <a:pt x="155" y="320"/>
                    </a:lnTo>
                    <a:lnTo>
                      <a:pt x="177" y="324"/>
                    </a:lnTo>
                    <a:lnTo>
                      <a:pt x="182" y="319"/>
                    </a:lnTo>
                    <a:lnTo>
                      <a:pt x="134" y="247"/>
                    </a:lnTo>
                    <a:lnTo>
                      <a:pt x="62" y="127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150920" y="2438280"/>
                <a:ext cx="365040" cy="925560"/>
              </a:xfrm>
              <a:custGeom>
                <a:avLst/>
                <a:gdLst/>
                <a:ahLst/>
                <a:rect l="l" t="t" r="r" b="b"/>
                <a:pathLst>
                  <a:path w="230" h="583">
                    <a:moveTo>
                      <a:pt x="0" y="5"/>
                    </a:moveTo>
                    <a:lnTo>
                      <a:pt x="46" y="72"/>
                    </a:lnTo>
                    <a:lnTo>
                      <a:pt x="126" y="186"/>
                    </a:lnTo>
                    <a:lnTo>
                      <a:pt x="167" y="262"/>
                    </a:lnTo>
                    <a:lnTo>
                      <a:pt x="193" y="340"/>
                    </a:lnTo>
                    <a:lnTo>
                      <a:pt x="195" y="379"/>
                    </a:lnTo>
                    <a:lnTo>
                      <a:pt x="193" y="452"/>
                    </a:lnTo>
                    <a:lnTo>
                      <a:pt x="178" y="489"/>
                    </a:lnTo>
                    <a:lnTo>
                      <a:pt x="140" y="543"/>
                    </a:lnTo>
                    <a:lnTo>
                      <a:pt x="111" y="561"/>
                    </a:lnTo>
                    <a:lnTo>
                      <a:pt x="114" y="564"/>
                    </a:lnTo>
                    <a:lnTo>
                      <a:pt x="145" y="546"/>
                    </a:lnTo>
                    <a:lnTo>
                      <a:pt x="164" y="558"/>
                    </a:lnTo>
                    <a:lnTo>
                      <a:pt x="134" y="582"/>
                    </a:lnTo>
                    <a:lnTo>
                      <a:pt x="168" y="562"/>
                    </a:lnTo>
                    <a:lnTo>
                      <a:pt x="193" y="541"/>
                    </a:lnTo>
                    <a:lnTo>
                      <a:pt x="191" y="536"/>
                    </a:lnTo>
                    <a:lnTo>
                      <a:pt x="195" y="532"/>
                    </a:lnTo>
                    <a:lnTo>
                      <a:pt x="197" y="536"/>
                    </a:lnTo>
                    <a:lnTo>
                      <a:pt x="204" y="513"/>
                    </a:lnTo>
                    <a:lnTo>
                      <a:pt x="213" y="454"/>
                    </a:lnTo>
                    <a:lnTo>
                      <a:pt x="213" y="392"/>
                    </a:lnTo>
                    <a:lnTo>
                      <a:pt x="208" y="398"/>
                    </a:lnTo>
                    <a:lnTo>
                      <a:pt x="202" y="343"/>
                    </a:lnTo>
                    <a:lnTo>
                      <a:pt x="229" y="225"/>
                    </a:lnTo>
                    <a:lnTo>
                      <a:pt x="199" y="324"/>
                    </a:lnTo>
                    <a:lnTo>
                      <a:pt x="168" y="241"/>
                    </a:lnTo>
                    <a:lnTo>
                      <a:pt x="123" y="168"/>
                    </a:lnTo>
                    <a:lnTo>
                      <a:pt x="68" y="9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5000" y="2501640"/>
                <a:ext cx="15840" cy="163440"/>
              </a:xfrm>
              <a:custGeom>
                <a:avLst/>
                <a:gdLst/>
                <a:ahLst/>
                <a:rect l="l" t="t" r="r" b="b"/>
                <a:pathLst>
                  <a:path w="10" h="103">
                    <a:moveTo>
                      <a:pt x="2" y="0"/>
                    </a:moveTo>
                    <a:lnTo>
                      <a:pt x="3" y="41"/>
                    </a:lnTo>
                    <a:lnTo>
                      <a:pt x="0" y="94"/>
                    </a:lnTo>
                    <a:lnTo>
                      <a:pt x="7" y="102"/>
                    </a:lnTo>
                    <a:lnTo>
                      <a:pt x="9" y="75"/>
                    </a:lnTo>
                    <a:lnTo>
                      <a:pt x="5" y="2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25520" y="2422440"/>
                <a:ext cx="92160" cy="414360"/>
              </a:xfrm>
              <a:custGeom>
                <a:avLst/>
                <a:gdLst/>
                <a:ahLst/>
                <a:rect l="l" t="t" r="r" b="b"/>
                <a:pathLst>
                  <a:path w="58" h="261">
                    <a:moveTo>
                      <a:pt x="1" y="18"/>
                    </a:moveTo>
                    <a:lnTo>
                      <a:pt x="31" y="75"/>
                    </a:lnTo>
                    <a:lnTo>
                      <a:pt x="51" y="160"/>
                    </a:lnTo>
                    <a:lnTo>
                      <a:pt x="51" y="244"/>
                    </a:lnTo>
                    <a:lnTo>
                      <a:pt x="57" y="260"/>
                    </a:lnTo>
                    <a:lnTo>
                      <a:pt x="57" y="153"/>
                    </a:lnTo>
                    <a:lnTo>
                      <a:pt x="26" y="45"/>
                    </a:lnTo>
                    <a:lnTo>
                      <a:pt x="57" y="57"/>
                    </a:lnTo>
                    <a:lnTo>
                      <a:pt x="24" y="36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1" y="1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49360" y="2519280"/>
                <a:ext cx="146160" cy="263520"/>
              </a:xfrm>
              <a:custGeom>
                <a:avLst/>
                <a:gdLst/>
                <a:ahLst/>
                <a:rect l="l" t="t" r="r" b="b"/>
                <a:pathLst>
                  <a:path w="92" h="166">
                    <a:moveTo>
                      <a:pt x="0" y="0"/>
                    </a:moveTo>
                    <a:lnTo>
                      <a:pt x="43" y="12"/>
                    </a:lnTo>
                    <a:lnTo>
                      <a:pt x="48" y="17"/>
                    </a:lnTo>
                    <a:lnTo>
                      <a:pt x="66" y="23"/>
                    </a:lnTo>
                    <a:lnTo>
                      <a:pt x="88" y="46"/>
                    </a:lnTo>
                    <a:lnTo>
                      <a:pt x="91" y="69"/>
                    </a:lnTo>
                    <a:lnTo>
                      <a:pt x="79" y="44"/>
                    </a:lnTo>
                    <a:lnTo>
                      <a:pt x="75" y="62"/>
                    </a:lnTo>
                    <a:lnTo>
                      <a:pt x="66" y="55"/>
                    </a:lnTo>
                    <a:lnTo>
                      <a:pt x="73" y="109"/>
                    </a:lnTo>
                    <a:lnTo>
                      <a:pt x="50" y="34"/>
                    </a:lnTo>
                    <a:lnTo>
                      <a:pt x="51" y="103"/>
                    </a:lnTo>
                    <a:lnTo>
                      <a:pt x="43" y="165"/>
                    </a:lnTo>
                    <a:lnTo>
                      <a:pt x="48" y="94"/>
                    </a:lnTo>
                    <a:lnTo>
                      <a:pt x="41" y="20"/>
                    </a:lnTo>
                    <a:lnTo>
                      <a:pt x="35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82840" y="2641320"/>
                <a:ext cx="168120" cy="468360"/>
              </a:xfrm>
              <a:custGeom>
                <a:avLst/>
                <a:gdLst/>
                <a:ahLst/>
                <a:rect l="l" t="t" r="r" b="b"/>
                <a:pathLst>
                  <a:path w="106" h="295">
                    <a:moveTo>
                      <a:pt x="73" y="0"/>
                    </a:moveTo>
                    <a:lnTo>
                      <a:pt x="63" y="60"/>
                    </a:lnTo>
                    <a:lnTo>
                      <a:pt x="61" y="97"/>
                    </a:lnTo>
                    <a:lnTo>
                      <a:pt x="30" y="140"/>
                    </a:lnTo>
                    <a:lnTo>
                      <a:pt x="30" y="156"/>
                    </a:lnTo>
                    <a:lnTo>
                      <a:pt x="52" y="158"/>
                    </a:lnTo>
                    <a:lnTo>
                      <a:pt x="67" y="117"/>
                    </a:lnTo>
                    <a:lnTo>
                      <a:pt x="68" y="90"/>
                    </a:lnTo>
                    <a:lnTo>
                      <a:pt x="70" y="71"/>
                    </a:lnTo>
                    <a:lnTo>
                      <a:pt x="84" y="108"/>
                    </a:lnTo>
                    <a:lnTo>
                      <a:pt x="98" y="137"/>
                    </a:lnTo>
                    <a:lnTo>
                      <a:pt x="89" y="156"/>
                    </a:lnTo>
                    <a:lnTo>
                      <a:pt x="75" y="169"/>
                    </a:lnTo>
                    <a:lnTo>
                      <a:pt x="70" y="196"/>
                    </a:lnTo>
                    <a:lnTo>
                      <a:pt x="79" y="206"/>
                    </a:lnTo>
                    <a:lnTo>
                      <a:pt x="70" y="220"/>
                    </a:lnTo>
                    <a:lnTo>
                      <a:pt x="47" y="231"/>
                    </a:lnTo>
                    <a:lnTo>
                      <a:pt x="61" y="261"/>
                    </a:lnTo>
                    <a:lnTo>
                      <a:pt x="24" y="256"/>
                    </a:lnTo>
                    <a:lnTo>
                      <a:pt x="0" y="264"/>
                    </a:lnTo>
                    <a:lnTo>
                      <a:pt x="45" y="267"/>
                    </a:lnTo>
                    <a:lnTo>
                      <a:pt x="67" y="283"/>
                    </a:lnTo>
                    <a:lnTo>
                      <a:pt x="65" y="294"/>
                    </a:lnTo>
                    <a:lnTo>
                      <a:pt x="82" y="279"/>
                    </a:lnTo>
                    <a:lnTo>
                      <a:pt x="75" y="267"/>
                    </a:lnTo>
                    <a:lnTo>
                      <a:pt x="79" y="244"/>
                    </a:lnTo>
                    <a:lnTo>
                      <a:pt x="95" y="235"/>
                    </a:lnTo>
                    <a:lnTo>
                      <a:pt x="89" y="215"/>
                    </a:lnTo>
                    <a:lnTo>
                      <a:pt x="80" y="191"/>
                    </a:lnTo>
                    <a:lnTo>
                      <a:pt x="82" y="169"/>
                    </a:lnTo>
                    <a:lnTo>
                      <a:pt x="105" y="148"/>
                    </a:lnTo>
                    <a:lnTo>
                      <a:pt x="105" y="130"/>
                    </a:lnTo>
                    <a:lnTo>
                      <a:pt x="84" y="71"/>
                    </a:lnTo>
                    <a:lnTo>
                      <a:pt x="70" y="55"/>
                    </a:lnTo>
                    <a:lnTo>
                      <a:pt x="77" y="1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46120" y="3082680"/>
                <a:ext cx="155520" cy="385920"/>
              </a:xfrm>
              <a:custGeom>
                <a:avLst/>
                <a:gdLst/>
                <a:ahLst/>
                <a:rect l="l" t="t" r="r" b="b"/>
                <a:pathLst>
                  <a:path w="98" h="243">
                    <a:moveTo>
                      <a:pt x="86" y="2"/>
                    </a:moveTo>
                    <a:lnTo>
                      <a:pt x="82" y="39"/>
                    </a:lnTo>
                    <a:lnTo>
                      <a:pt x="68" y="94"/>
                    </a:lnTo>
                    <a:lnTo>
                      <a:pt x="48" y="147"/>
                    </a:lnTo>
                    <a:lnTo>
                      <a:pt x="41" y="150"/>
                    </a:lnTo>
                    <a:lnTo>
                      <a:pt x="39" y="145"/>
                    </a:lnTo>
                    <a:lnTo>
                      <a:pt x="23" y="138"/>
                    </a:lnTo>
                    <a:lnTo>
                      <a:pt x="9" y="127"/>
                    </a:lnTo>
                    <a:lnTo>
                      <a:pt x="22" y="140"/>
                    </a:lnTo>
                    <a:lnTo>
                      <a:pt x="37" y="150"/>
                    </a:lnTo>
                    <a:lnTo>
                      <a:pt x="36" y="155"/>
                    </a:lnTo>
                    <a:lnTo>
                      <a:pt x="32" y="155"/>
                    </a:lnTo>
                    <a:lnTo>
                      <a:pt x="15" y="144"/>
                    </a:lnTo>
                    <a:lnTo>
                      <a:pt x="8" y="134"/>
                    </a:lnTo>
                    <a:lnTo>
                      <a:pt x="14" y="146"/>
                    </a:lnTo>
                    <a:lnTo>
                      <a:pt x="40" y="164"/>
                    </a:lnTo>
                    <a:lnTo>
                      <a:pt x="31" y="188"/>
                    </a:lnTo>
                    <a:lnTo>
                      <a:pt x="0" y="238"/>
                    </a:lnTo>
                    <a:lnTo>
                      <a:pt x="0" y="242"/>
                    </a:lnTo>
                    <a:lnTo>
                      <a:pt x="30" y="198"/>
                    </a:lnTo>
                    <a:lnTo>
                      <a:pt x="43" y="167"/>
                    </a:lnTo>
                    <a:lnTo>
                      <a:pt x="46" y="168"/>
                    </a:lnTo>
                    <a:lnTo>
                      <a:pt x="43" y="163"/>
                    </a:lnTo>
                    <a:lnTo>
                      <a:pt x="43" y="155"/>
                    </a:lnTo>
                    <a:lnTo>
                      <a:pt x="48" y="150"/>
                    </a:lnTo>
                    <a:lnTo>
                      <a:pt x="51" y="154"/>
                    </a:lnTo>
                    <a:lnTo>
                      <a:pt x="49" y="164"/>
                    </a:lnTo>
                    <a:lnTo>
                      <a:pt x="53" y="155"/>
                    </a:lnTo>
                    <a:lnTo>
                      <a:pt x="52" y="146"/>
                    </a:lnTo>
                    <a:lnTo>
                      <a:pt x="53" y="143"/>
                    </a:lnTo>
                    <a:lnTo>
                      <a:pt x="84" y="132"/>
                    </a:lnTo>
                    <a:lnTo>
                      <a:pt x="97" y="120"/>
                    </a:lnTo>
                    <a:lnTo>
                      <a:pt x="97" y="112"/>
                    </a:lnTo>
                    <a:lnTo>
                      <a:pt x="76" y="84"/>
                    </a:lnTo>
                    <a:lnTo>
                      <a:pt x="86" y="39"/>
                    </a:lnTo>
                    <a:lnTo>
                      <a:pt x="90" y="0"/>
                    </a:lnTo>
                    <a:lnTo>
                      <a:pt x="86" y="2"/>
                    </a:lnTo>
                    <a:lnTo>
                      <a:pt x="86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22280" y="3435120"/>
                <a:ext cx="131760" cy="10944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0" y="16"/>
                    </a:moveTo>
                    <a:lnTo>
                      <a:pt x="14" y="41"/>
                    </a:lnTo>
                    <a:lnTo>
                      <a:pt x="18" y="59"/>
                    </a:lnTo>
                    <a:lnTo>
                      <a:pt x="10" y="61"/>
                    </a:lnTo>
                    <a:lnTo>
                      <a:pt x="20" y="64"/>
                    </a:lnTo>
                    <a:lnTo>
                      <a:pt x="23" y="60"/>
                    </a:lnTo>
                    <a:lnTo>
                      <a:pt x="34" y="68"/>
                    </a:lnTo>
                    <a:lnTo>
                      <a:pt x="43" y="68"/>
                    </a:lnTo>
                    <a:lnTo>
                      <a:pt x="48" y="60"/>
                    </a:lnTo>
                    <a:lnTo>
                      <a:pt x="60" y="64"/>
                    </a:lnTo>
                    <a:lnTo>
                      <a:pt x="69" y="59"/>
                    </a:lnTo>
                    <a:lnTo>
                      <a:pt x="74" y="58"/>
                    </a:lnTo>
                    <a:lnTo>
                      <a:pt x="81" y="43"/>
                    </a:lnTo>
                    <a:lnTo>
                      <a:pt x="72" y="54"/>
                    </a:lnTo>
                    <a:lnTo>
                      <a:pt x="71" y="34"/>
                    </a:lnTo>
                    <a:lnTo>
                      <a:pt x="78" y="26"/>
                    </a:lnTo>
                    <a:lnTo>
                      <a:pt x="82" y="31"/>
                    </a:lnTo>
                    <a:lnTo>
                      <a:pt x="76" y="16"/>
                    </a:lnTo>
                    <a:lnTo>
                      <a:pt x="76" y="23"/>
                    </a:lnTo>
                    <a:lnTo>
                      <a:pt x="70" y="25"/>
                    </a:lnTo>
                    <a:lnTo>
                      <a:pt x="65" y="23"/>
                    </a:lnTo>
                    <a:lnTo>
                      <a:pt x="46" y="0"/>
                    </a:lnTo>
                    <a:lnTo>
                      <a:pt x="63" y="36"/>
                    </a:lnTo>
                    <a:lnTo>
                      <a:pt x="58" y="43"/>
                    </a:lnTo>
                    <a:lnTo>
                      <a:pt x="52" y="44"/>
                    </a:lnTo>
                    <a:lnTo>
                      <a:pt x="48" y="41"/>
                    </a:lnTo>
                    <a:lnTo>
                      <a:pt x="26" y="14"/>
                    </a:lnTo>
                    <a:lnTo>
                      <a:pt x="41" y="51"/>
                    </a:lnTo>
                    <a:lnTo>
                      <a:pt x="37" y="52"/>
                    </a:lnTo>
                    <a:lnTo>
                      <a:pt x="29" y="52"/>
                    </a:lnTo>
                    <a:lnTo>
                      <a:pt x="16" y="34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06560" y="3338280"/>
                <a:ext cx="22320" cy="228600"/>
              </a:xfrm>
              <a:custGeom>
                <a:avLst/>
                <a:gdLst/>
                <a:ahLst/>
                <a:rect l="l" t="t" r="r" b="b"/>
                <a:pathLst>
                  <a:path w="14" h="144">
                    <a:moveTo>
                      <a:pt x="0" y="0"/>
                    </a:moveTo>
                    <a:lnTo>
                      <a:pt x="0" y="143"/>
                    </a:lnTo>
                    <a:lnTo>
                      <a:pt x="9" y="143"/>
                    </a:lnTo>
                    <a:lnTo>
                      <a:pt x="13" y="42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14520" y="3327120"/>
                <a:ext cx="44280" cy="239760"/>
              </a:xfrm>
              <a:custGeom>
                <a:avLst/>
                <a:gdLst/>
                <a:ahLst/>
                <a:rect l="l" t="t" r="r" b="b"/>
                <a:pathLst>
                  <a:path w="28" h="151">
                    <a:moveTo>
                      <a:pt x="11" y="0"/>
                    </a:moveTo>
                    <a:lnTo>
                      <a:pt x="27" y="150"/>
                    </a:lnTo>
                    <a:lnTo>
                      <a:pt x="18" y="150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8" y="6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98440" y="2501640"/>
                <a:ext cx="111240" cy="2556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0"/>
                    </a:moveTo>
                    <a:lnTo>
                      <a:pt x="11" y="8"/>
                    </a:lnTo>
                    <a:lnTo>
                      <a:pt x="22" y="12"/>
                    </a:lnTo>
                    <a:lnTo>
                      <a:pt x="37" y="15"/>
                    </a:lnTo>
                    <a:lnTo>
                      <a:pt x="50" y="15"/>
                    </a:lnTo>
                    <a:lnTo>
                      <a:pt x="60" y="13"/>
                    </a:lnTo>
                    <a:lnTo>
                      <a:pt x="69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66840" y="25304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3" y="0"/>
                    </a:moveTo>
                    <a:lnTo>
                      <a:pt x="1" y="4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97040" y="1990440"/>
                <a:ext cx="100080" cy="2376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0" y="4"/>
                    </a:moveTo>
                    <a:lnTo>
                      <a:pt x="8" y="0"/>
                    </a:lnTo>
                    <a:lnTo>
                      <a:pt x="24" y="7"/>
                    </a:lnTo>
                    <a:lnTo>
                      <a:pt x="41" y="6"/>
                    </a:lnTo>
                    <a:lnTo>
                      <a:pt x="62" y="14"/>
                    </a:lnTo>
                    <a:lnTo>
                      <a:pt x="44" y="11"/>
                    </a:lnTo>
                    <a:lnTo>
                      <a:pt x="26" y="14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87600" y="19904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35" y="10"/>
                    </a:lnTo>
                    <a:lnTo>
                      <a:pt x="17" y="12"/>
                    </a:lnTo>
                    <a:lnTo>
                      <a:pt x="11" y="10"/>
                    </a:lnTo>
                    <a:lnTo>
                      <a:pt x="0" y="14"/>
                    </a:lnTo>
                    <a:lnTo>
                      <a:pt x="9" y="4"/>
                    </a:lnTo>
                    <a:lnTo>
                      <a:pt x="19" y="6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11360" y="2020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6"/>
                    </a:moveTo>
                    <a:lnTo>
                      <a:pt x="8" y="2"/>
                    </a:lnTo>
                    <a:lnTo>
                      <a:pt x="21" y="0"/>
                    </a:lnTo>
                    <a:lnTo>
                      <a:pt x="24" y="6"/>
                    </a:lnTo>
                    <a:lnTo>
                      <a:pt x="15" y="6"/>
                    </a:lnTo>
                    <a:lnTo>
                      <a:pt x="1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12880" y="202248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6"/>
                    </a:moveTo>
                    <a:lnTo>
                      <a:pt x="10" y="0"/>
                    </a:lnTo>
                    <a:lnTo>
                      <a:pt x="34" y="4"/>
                    </a:lnTo>
                    <a:lnTo>
                      <a:pt x="37" y="12"/>
                    </a:lnTo>
                    <a:lnTo>
                      <a:pt x="32" y="7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1" y="2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84440" y="1892160"/>
                <a:ext cx="102960" cy="7920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0" y="0"/>
                    </a:moveTo>
                    <a:lnTo>
                      <a:pt x="12" y="12"/>
                    </a:lnTo>
                    <a:lnTo>
                      <a:pt x="29" y="20"/>
                    </a:lnTo>
                    <a:lnTo>
                      <a:pt x="30" y="31"/>
                    </a:lnTo>
                    <a:lnTo>
                      <a:pt x="25" y="39"/>
                    </a:lnTo>
                    <a:lnTo>
                      <a:pt x="40" y="34"/>
                    </a:lnTo>
                    <a:lnTo>
                      <a:pt x="40" y="42"/>
                    </a:lnTo>
                    <a:lnTo>
                      <a:pt x="59" y="49"/>
                    </a:lnTo>
                    <a:lnTo>
                      <a:pt x="64" y="34"/>
                    </a:lnTo>
                    <a:lnTo>
                      <a:pt x="61" y="19"/>
                    </a:lnTo>
                    <a:lnTo>
                      <a:pt x="54" y="12"/>
                    </a:lnTo>
                    <a:lnTo>
                      <a:pt x="53" y="23"/>
                    </a:lnTo>
                    <a:lnTo>
                      <a:pt x="44" y="14"/>
                    </a:lnTo>
                    <a:lnTo>
                      <a:pt x="29" y="10"/>
                    </a:lnTo>
                    <a:lnTo>
                      <a:pt x="30" y="18"/>
                    </a:lnTo>
                    <a:lnTo>
                      <a:pt x="14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24040" y="1838160"/>
                <a:ext cx="146160" cy="37620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0" y="74"/>
                    </a:moveTo>
                    <a:lnTo>
                      <a:pt x="55" y="93"/>
                    </a:lnTo>
                    <a:lnTo>
                      <a:pt x="61" y="75"/>
                    </a:lnTo>
                    <a:lnTo>
                      <a:pt x="71" y="73"/>
                    </a:lnTo>
                    <a:lnTo>
                      <a:pt x="72" y="52"/>
                    </a:lnTo>
                    <a:lnTo>
                      <a:pt x="65" y="30"/>
                    </a:lnTo>
                    <a:lnTo>
                      <a:pt x="51" y="13"/>
                    </a:lnTo>
                    <a:lnTo>
                      <a:pt x="30" y="6"/>
                    </a:lnTo>
                    <a:lnTo>
                      <a:pt x="11" y="5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26" y="0"/>
                    </a:lnTo>
                    <a:lnTo>
                      <a:pt x="51" y="10"/>
                    </a:lnTo>
                    <a:lnTo>
                      <a:pt x="67" y="24"/>
                    </a:lnTo>
                    <a:lnTo>
                      <a:pt x="81" y="54"/>
                    </a:lnTo>
                    <a:lnTo>
                      <a:pt x="88" y="96"/>
                    </a:lnTo>
                    <a:lnTo>
                      <a:pt x="87" y="120"/>
                    </a:lnTo>
                    <a:lnTo>
                      <a:pt x="91" y="128"/>
                    </a:lnTo>
                    <a:lnTo>
                      <a:pt x="82" y="124"/>
                    </a:lnTo>
                    <a:lnTo>
                      <a:pt x="69" y="132"/>
                    </a:lnTo>
                    <a:lnTo>
                      <a:pt x="62" y="157"/>
                    </a:lnTo>
                    <a:lnTo>
                      <a:pt x="63" y="190"/>
                    </a:lnTo>
                    <a:lnTo>
                      <a:pt x="52" y="209"/>
                    </a:lnTo>
                    <a:lnTo>
                      <a:pt x="46" y="224"/>
                    </a:lnTo>
                    <a:lnTo>
                      <a:pt x="38" y="222"/>
                    </a:lnTo>
                    <a:lnTo>
                      <a:pt x="30" y="236"/>
                    </a:lnTo>
                    <a:lnTo>
                      <a:pt x="24" y="196"/>
                    </a:lnTo>
                    <a:lnTo>
                      <a:pt x="42" y="188"/>
                    </a:lnTo>
                    <a:lnTo>
                      <a:pt x="46" y="154"/>
                    </a:lnTo>
                    <a:lnTo>
                      <a:pt x="55" y="132"/>
                    </a:lnTo>
                    <a:lnTo>
                      <a:pt x="55" y="116"/>
                    </a:lnTo>
                    <a:lnTo>
                      <a:pt x="47" y="103"/>
                    </a:lnTo>
                    <a:lnTo>
                      <a:pt x="42" y="84"/>
                    </a:lnTo>
                    <a:lnTo>
                      <a:pt x="33" y="70"/>
                    </a:lnTo>
                    <a:lnTo>
                      <a:pt x="40" y="74"/>
                    </a:lnTo>
                    <a:lnTo>
                      <a:pt x="40" y="7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2320" y="2036520"/>
                <a:ext cx="44640" cy="104760"/>
              </a:xfrm>
              <a:custGeom>
                <a:avLst/>
                <a:gdLst/>
                <a:ahLst/>
                <a:rect l="l" t="t" r="r" b="b"/>
                <a:pathLst>
                  <a:path w="28" h="66">
                    <a:moveTo>
                      <a:pt x="25" y="1"/>
                    </a:moveTo>
                    <a:lnTo>
                      <a:pt x="26" y="11"/>
                    </a:lnTo>
                    <a:lnTo>
                      <a:pt x="17" y="29"/>
                    </a:lnTo>
                    <a:lnTo>
                      <a:pt x="15" y="45"/>
                    </a:lnTo>
                    <a:lnTo>
                      <a:pt x="1" y="54"/>
                    </a:lnTo>
                    <a:lnTo>
                      <a:pt x="0" y="65"/>
                    </a:lnTo>
                    <a:lnTo>
                      <a:pt x="10" y="61"/>
                    </a:lnTo>
                    <a:lnTo>
                      <a:pt x="19" y="44"/>
                    </a:lnTo>
                    <a:lnTo>
                      <a:pt x="22" y="24"/>
                    </a:lnTo>
                    <a:lnTo>
                      <a:pt x="27" y="9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46280" y="1993680"/>
                <a:ext cx="27000" cy="10944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6" y="4"/>
                    </a:moveTo>
                    <a:lnTo>
                      <a:pt x="10" y="17"/>
                    </a:lnTo>
                    <a:lnTo>
                      <a:pt x="10" y="32"/>
                    </a:lnTo>
                    <a:lnTo>
                      <a:pt x="6" y="54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11" y="68"/>
                    </a:lnTo>
                    <a:lnTo>
                      <a:pt x="6" y="61"/>
                    </a:lnTo>
                    <a:lnTo>
                      <a:pt x="12" y="50"/>
                    </a:lnTo>
                    <a:lnTo>
                      <a:pt x="16" y="22"/>
                    </a:lnTo>
                    <a:lnTo>
                      <a:pt x="7" y="0"/>
                    </a:lnTo>
                    <a:lnTo>
                      <a:pt x="6" y="4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08120" y="1828800"/>
                <a:ext cx="131760" cy="93600"/>
              </a:xfrm>
              <a:custGeom>
                <a:avLst/>
                <a:gdLst/>
                <a:ahLst/>
                <a:rect l="l" t="t" r="r" b="b"/>
                <a:pathLst>
                  <a:path w="83" h="59">
                    <a:moveTo>
                      <a:pt x="72" y="15"/>
                    </a:moveTo>
                    <a:lnTo>
                      <a:pt x="66" y="8"/>
                    </a:lnTo>
                    <a:lnTo>
                      <a:pt x="58" y="8"/>
                    </a:lnTo>
                    <a:lnTo>
                      <a:pt x="64" y="19"/>
                    </a:lnTo>
                    <a:lnTo>
                      <a:pt x="50" y="18"/>
                    </a:lnTo>
                    <a:lnTo>
                      <a:pt x="56" y="23"/>
                    </a:lnTo>
                    <a:lnTo>
                      <a:pt x="23" y="30"/>
                    </a:lnTo>
                    <a:lnTo>
                      <a:pt x="39" y="34"/>
                    </a:lnTo>
                    <a:lnTo>
                      <a:pt x="32" y="44"/>
                    </a:lnTo>
                    <a:lnTo>
                      <a:pt x="16" y="57"/>
                    </a:lnTo>
                    <a:lnTo>
                      <a:pt x="0" y="58"/>
                    </a:lnTo>
                    <a:lnTo>
                      <a:pt x="17" y="50"/>
                    </a:lnTo>
                    <a:lnTo>
                      <a:pt x="31" y="39"/>
                    </a:lnTo>
                    <a:lnTo>
                      <a:pt x="12" y="46"/>
                    </a:lnTo>
                    <a:lnTo>
                      <a:pt x="31" y="34"/>
                    </a:lnTo>
                    <a:lnTo>
                      <a:pt x="17" y="30"/>
                    </a:lnTo>
                    <a:lnTo>
                      <a:pt x="42" y="21"/>
                    </a:lnTo>
                    <a:lnTo>
                      <a:pt x="23" y="22"/>
                    </a:lnTo>
                    <a:lnTo>
                      <a:pt x="42" y="14"/>
                    </a:lnTo>
                    <a:lnTo>
                      <a:pt x="52" y="13"/>
                    </a:lnTo>
                    <a:lnTo>
                      <a:pt x="40" y="8"/>
                    </a:lnTo>
                    <a:lnTo>
                      <a:pt x="12" y="19"/>
                    </a:lnTo>
                    <a:lnTo>
                      <a:pt x="32" y="7"/>
                    </a:lnTo>
                    <a:lnTo>
                      <a:pt x="47" y="0"/>
                    </a:lnTo>
                    <a:lnTo>
                      <a:pt x="64" y="2"/>
                    </a:lnTo>
                    <a:lnTo>
                      <a:pt x="74" y="7"/>
                    </a:lnTo>
                    <a:lnTo>
                      <a:pt x="82" y="11"/>
                    </a:lnTo>
                    <a:lnTo>
                      <a:pt x="72" y="15"/>
                    </a:lnTo>
                    <a:lnTo>
                      <a:pt x="72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66720" y="1882440"/>
                <a:ext cx="57240" cy="14292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23" y="0"/>
                    </a:moveTo>
                    <a:lnTo>
                      <a:pt x="17" y="14"/>
                    </a:lnTo>
                    <a:lnTo>
                      <a:pt x="23" y="14"/>
                    </a:lnTo>
                    <a:lnTo>
                      <a:pt x="14" y="24"/>
                    </a:lnTo>
                    <a:lnTo>
                      <a:pt x="26" y="25"/>
                    </a:lnTo>
                    <a:lnTo>
                      <a:pt x="10" y="38"/>
                    </a:lnTo>
                    <a:lnTo>
                      <a:pt x="35" y="23"/>
                    </a:lnTo>
                    <a:lnTo>
                      <a:pt x="22" y="42"/>
                    </a:lnTo>
                    <a:lnTo>
                      <a:pt x="15" y="73"/>
                    </a:lnTo>
                    <a:lnTo>
                      <a:pt x="10" y="7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0" y="42"/>
                    </a:lnTo>
                    <a:lnTo>
                      <a:pt x="6" y="19"/>
                    </a:lnTo>
                    <a:lnTo>
                      <a:pt x="18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09920" y="2085840"/>
                <a:ext cx="158400" cy="77760"/>
              </a:xfrm>
              <a:custGeom>
                <a:avLst/>
                <a:gdLst/>
                <a:ahLst/>
                <a:rect l="l" t="t" r="r" b="b"/>
                <a:pathLst>
                  <a:path w="100" h="49">
                    <a:moveTo>
                      <a:pt x="39" y="10"/>
                    </a:moveTo>
                    <a:lnTo>
                      <a:pt x="49" y="8"/>
                    </a:lnTo>
                    <a:lnTo>
                      <a:pt x="59" y="10"/>
                    </a:lnTo>
                    <a:lnTo>
                      <a:pt x="61" y="0"/>
                    </a:lnTo>
                    <a:lnTo>
                      <a:pt x="73" y="16"/>
                    </a:lnTo>
                    <a:lnTo>
                      <a:pt x="92" y="24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77" y="36"/>
                    </a:lnTo>
                    <a:lnTo>
                      <a:pt x="56" y="34"/>
                    </a:lnTo>
                    <a:lnTo>
                      <a:pt x="47" y="23"/>
                    </a:lnTo>
                    <a:lnTo>
                      <a:pt x="34" y="32"/>
                    </a:lnTo>
                    <a:lnTo>
                      <a:pt x="18" y="34"/>
                    </a:lnTo>
                    <a:lnTo>
                      <a:pt x="8" y="48"/>
                    </a:lnTo>
                    <a:lnTo>
                      <a:pt x="0" y="42"/>
                    </a:lnTo>
                    <a:lnTo>
                      <a:pt x="11" y="2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9" y="10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89040" y="2081160"/>
                <a:ext cx="185760" cy="1872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4" y="1"/>
                    </a:moveTo>
                    <a:lnTo>
                      <a:pt x="8" y="37"/>
                    </a:lnTo>
                    <a:lnTo>
                      <a:pt x="20" y="37"/>
                    </a:lnTo>
                    <a:lnTo>
                      <a:pt x="27" y="45"/>
                    </a:lnTo>
                    <a:lnTo>
                      <a:pt x="29" y="56"/>
                    </a:lnTo>
                    <a:lnTo>
                      <a:pt x="29" y="63"/>
                    </a:lnTo>
                    <a:lnTo>
                      <a:pt x="43" y="68"/>
                    </a:lnTo>
                    <a:lnTo>
                      <a:pt x="46" y="57"/>
                    </a:lnTo>
                    <a:lnTo>
                      <a:pt x="40" y="55"/>
                    </a:lnTo>
                    <a:lnTo>
                      <a:pt x="52" y="51"/>
                    </a:lnTo>
                    <a:lnTo>
                      <a:pt x="78" y="56"/>
                    </a:lnTo>
                    <a:lnTo>
                      <a:pt x="73" y="59"/>
                    </a:lnTo>
                    <a:lnTo>
                      <a:pt x="79" y="69"/>
                    </a:lnTo>
                    <a:lnTo>
                      <a:pt x="99" y="58"/>
                    </a:lnTo>
                    <a:lnTo>
                      <a:pt x="91" y="49"/>
                    </a:lnTo>
                    <a:lnTo>
                      <a:pt x="92" y="36"/>
                    </a:lnTo>
                    <a:lnTo>
                      <a:pt x="113" y="47"/>
                    </a:lnTo>
                    <a:lnTo>
                      <a:pt x="116" y="81"/>
                    </a:lnTo>
                    <a:lnTo>
                      <a:pt x="105" y="99"/>
                    </a:lnTo>
                    <a:lnTo>
                      <a:pt x="83" y="109"/>
                    </a:lnTo>
                    <a:lnTo>
                      <a:pt x="76" y="114"/>
                    </a:lnTo>
                    <a:lnTo>
                      <a:pt x="40" y="117"/>
                    </a:lnTo>
                    <a:lnTo>
                      <a:pt x="32" y="104"/>
                    </a:lnTo>
                    <a:lnTo>
                      <a:pt x="14" y="86"/>
                    </a:lnTo>
                    <a:lnTo>
                      <a:pt x="10" y="65"/>
                    </a:lnTo>
                    <a:lnTo>
                      <a:pt x="0" y="54"/>
                    </a:lnTo>
                    <a:lnTo>
                      <a:pt x="4" y="2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77880" y="2020680"/>
                <a:ext cx="87480" cy="6048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0" y="0"/>
                    </a:moveTo>
                    <a:lnTo>
                      <a:pt x="1" y="25"/>
                    </a:lnTo>
                    <a:lnTo>
                      <a:pt x="5" y="33"/>
                    </a:lnTo>
                    <a:lnTo>
                      <a:pt x="11" y="37"/>
                    </a:lnTo>
                    <a:lnTo>
                      <a:pt x="20" y="37"/>
                    </a:lnTo>
                    <a:lnTo>
                      <a:pt x="39" y="35"/>
                    </a:lnTo>
                    <a:lnTo>
                      <a:pt x="47" y="29"/>
                    </a:lnTo>
                    <a:lnTo>
                      <a:pt x="51" y="23"/>
                    </a:lnTo>
                    <a:lnTo>
                      <a:pt x="5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79680" y="1998360"/>
                <a:ext cx="206280" cy="82800"/>
              </a:xfrm>
              <a:custGeom>
                <a:avLst/>
                <a:gdLst/>
                <a:ahLst/>
                <a:rect l="l" t="t" r="r" b="b"/>
                <a:pathLst>
                  <a:path w="130" h="52">
                    <a:moveTo>
                      <a:pt x="0" y="9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113" y="0"/>
                    </a:lnTo>
                    <a:lnTo>
                      <a:pt x="122" y="3"/>
                    </a:lnTo>
                    <a:lnTo>
                      <a:pt x="128" y="10"/>
                    </a:lnTo>
                    <a:lnTo>
                      <a:pt x="129" y="19"/>
                    </a:lnTo>
                    <a:lnTo>
                      <a:pt x="129" y="38"/>
                    </a:lnTo>
                    <a:lnTo>
                      <a:pt x="128" y="46"/>
                    </a:lnTo>
                    <a:lnTo>
                      <a:pt x="121" y="51"/>
                    </a:lnTo>
                    <a:lnTo>
                      <a:pt x="84" y="51"/>
                    </a:lnTo>
                    <a:lnTo>
                      <a:pt x="74" y="42"/>
                    </a:lnTo>
                    <a:lnTo>
                      <a:pt x="70" y="31"/>
                    </a:lnTo>
                    <a:lnTo>
                      <a:pt x="68" y="15"/>
                    </a:lnTo>
                    <a:lnTo>
                      <a:pt x="72" y="4"/>
                    </a:lnTo>
                    <a:lnTo>
                      <a:pt x="75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5960" y="2028600"/>
                <a:ext cx="507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665360" y="2016000"/>
                <a:ext cx="22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3880" y="2130120"/>
                <a:ext cx="271440" cy="228600"/>
              </a:xfrm>
              <a:custGeom>
                <a:avLst/>
                <a:gdLst/>
                <a:ahLst/>
                <a:rect l="l" t="t" r="r" b="b"/>
                <a:pathLst>
                  <a:path w="171" h="144">
                    <a:moveTo>
                      <a:pt x="12" y="14"/>
                    </a:moveTo>
                    <a:lnTo>
                      <a:pt x="16" y="38"/>
                    </a:lnTo>
                    <a:lnTo>
                      <a:pt x="0" y="72"/>
                    </a:lnTo>
                    <a:lnTo>
                      <a:pt x="19" y="43"/>
                    </a:lnTo>
                    <a:lnTo>
                      <a:pt x="43" y="66"/>
                    </a:lnTo>
                    <a:lnTo>
                      <a:pt x="136" y="100"/>
                    </a:lnTo>
                    <a:lnTo>
                      <a:pt x="169" y="143"/>
                    </a:lnTo>
                    <a:lnTo>
                      <a:pt x="170" y="134"/>
                    </a:lnTo>
                    <a:lnTo>
                      <a:pt x="141" y="95"/>
                    </a:lnTo>
                    <a:lnTo>
                      <a:pt x="43" y="58"/>
                    </a:lnTo>
                    <a:lnTo>
                      <a:pt x="20" y="28"/>
                    </a:lnTo>
                    <a:lnTo>
                      <a:pt x="28" y="12"/>
                    </a:lnTo>
                    <a:lnTo>
                      <a:pt x="20" y="0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95520" y="2260440"/>
                <a:ext cx="187200" cy="411120"/>
              </a:xfrm>
              <a:custGeom>
                <a:avLst/>
                <a:gdLst/>
                <a:ahLst/>
                <a:rect l="l" t="t" r="r" b="b"/>
                <a:pathLst>
                  <a:path w="118" h="259">
                    <a:moveTo>
                      <a:pt x="117" y="4"/>
                    </a:moveTo>
                    <a:lnTo>
                      <a:pt x="82" y="54"/>
                    </a:lnTo>
                    <a:lnTo>
                      <a:pt x="66" y="85"/>
                    </a:lnTo>
                    <a:lnTo>
                      <a:pt x="63" y="41"/>
                    </a:lnTo>
                    <a:lnTo>
                      <a:pt x="71" y="32"/>
                    </a:lnTo>
                    <a:lnTo>
                      <a:pt x="77" y="41"/>
                    </a:lnTo>
                    <a:lnTo>
                      <a:pt x="58" y="0"/>
                    </a:lnTo>
                    <a:lnTo>
                      <a:pt x="63" y="29"/>
                    </a:lnTo>
                    <a:lnTo>
                      <a:pt x="56" y="37"/>
                    </a:lnTo>
                    <a:lnTo>
                      <a:pt x="42" y="39"/>
                    </a:lnTo>
                    <a:lnTo>
                      <a:pt x="46" y="52"/>
                    </a:lnTo>
                    <a:lnTo>
                      <a:pt x="55" y="52"/>
                    </a:lnTo>
                    <a:lnTo>
                      <a:pt x="55" y="106"/>
                    </a:lnTo>
                    <a:lnTo>
                      <a:pt x="0" y="249"/>
                    </a:lnTo>
                    <a:lnTo>
                      <a:pt x="2" y="258"/>
                    </a:lnTo>
                    <a:lnTo>
                      <a:pt x="77" y="70"/>
                    </a:lnTo>
                    <a:lnTo>
                      <a:pt x="98" y="32"/>
                    </a:lnTo>
                    <a:lnTo>
                      <a:pt x="117" y="4"/>
                    </a:lnTo>
                    <a:lnTo>
                      <a:pt x="117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6600" y="2260440"/>
                <a:ext cx="166680" cy="338040"/>
              </a:xfrm>
              <a:custGeom>
                <a:avLst/>
                <a:gdLst/>
                <a:ahLst/>
                <a:rect l="l" t="t" r="r" b="b"/>
                <a:pathLst>
                  <a:path w="105" h="213">
                    <a:moveTo>
                      <a:pt x="104" y="6"/>
                    </a:moveTo>
                    <a:lnTo>
                      <a:pt x="93" y="35"/>
                    </a:lnTo>
                    <a:lnTo>
                      <a:pt x="102" y="39"/>
                    </a:lnTo>
                    <a:lnTo>
                      <a:pt x="88" y="74"/>
                    </a:lnTo>
                    <a:lnTo>
                      <a:pt x="56" y="154"/>
                    </a:lnTo>
                    <a:lnTo>
                      <a:pt x="46" y="212"/>
                    </a:lnTo>
                    <a:lnTo>
                      <a:pt x="37" y="194"/>
                    </a:lnTo>
                    <a:lnTo>
                      <a:pt x="56" y="108"/>
                    </a:lnTo>
                    <a:lnTo>
                      <a:pt x="81" y="32"/>
                    </a:lnTo>
                    <a:lnTo>
                      <a:pt x="32" y="80"/>
                    </a:lnTo>
                    <a:lnTo>
                      <a:pt x="8" y="120"/>
                    </a:lnTo>
                    <a:lnTo>
                      <a:pt x="10" y="175"/>
                    </a:lnTo>
                    <a:lnTo>
                      <a:pt x="6" y="170"/>
                    </a:lnTo>
                    <a:lnTo>
                      <a:pt x="0" y="110"/>
                    </a:lnTo>
                    <a:lnTo>
                      <a:pt x="32" y="60"/>
                    </a:lnTo>
                    <a:lnTo>
                      <a:pt x="83" y="20"/>
                    </a:lnTo>
                    <a:lnTo>
                      <a:pt x="102" y="0"/>
                    </a:lnTo>
                    <a:lnTo>
                      <a:pt x="104" y="6"/>
                    </a:lnTo>
                    <a:lnTo>
                      <a:pt x="104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01640" y="2239920"/>
                <a:ext cx="250920" cy="529920"/>
              </a:xfrm>
              <a:custGeom>
                <a:avLst/>
                <a:gdLst/>
                <a:ahLst/>
                <a:rect l="l" t="t" r="r" b="b"/>
                <a:pathLst>
                  <a:path w="158" h="334">
                    <a:moveTo>
                      <a:pt x="154" y="0"/>
                    </a:moveTo>
                    <a:lnTo>
                      <a:pt x="149" y="42"/>
                    </a:lnTo>
                    <a:lnTo>
                      <a:pt x="119" y="52"/>
                    </a:lnTo>
                    <a:lnTo>
                      <a:pt x="130" y="77"/>
                    </a:lnTo>
                    <a:lnTo>
                      <a:pt x="78" y="173"/>
                    </a:lnTo>
                    <a:lnTo>
                      <a:pt x="33" y="269"/>
                    </a:lnTo>
                    <a:lnTo>
                      <a:pt x="0" y="333"/>
                    </a:lnTo>
                    <a:lnTo>
                      <a:pt x="65" y="212"/>
                    </a:lnTo>
                    <a:lnTo>
                      <a:pt x="136" y="73"/>
                    </a:lnTo>
                    <a:lnTo>
                      <a:pt x="130" y="62"/>
                    </a:lnTo>
                    <a:lnTo>
                      <a:pt x="154" y="48"/>
                    </a:lnTo>
                    <a:lnTo>
                      <a:pt x="157" y="6"/>
                    </a:lnTo>
                    <a:lnTo>
                      <a:pt x="154" y="0"/>
                    </a:lnTo>
                    <a:lnTo>
                      <a:pt x="15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04960" y="2346120"/>
                <a:ext cx="270000" cy="979560"/>
              </a:xfrm>
              <a:custGeom>
                <a:avLst/>
                <a:gdLst/>
                <a:ahLst/>
                <a:rect l="l" t="t" r="r" b="b"/>
                <a:pathLst>
                  <a:path w="170" h="617">
                    <a:moveTo>
                      <a:pt x="131" y="0"/>
                    </a:moveTo>
                    <a:lnTo>
                      <a:pt x="111" y="81"/>
                    </a:lnTo>
                    <a:lnTo>
                      <a:pt x="112" y="163"/>
                    </a:lnTo>
                    <a:lnTo>
                      <a:pt x="129" y="249"/>
                    </a:lnTo>
                    <a:lnTo>
                      <a:pt x="137" y="212"/>
                    </a:lnTo>
                    <a:lnTo>
                      <a:pt x="136" y="254"/>
                    </a:lnTo>
                    <a:lnTo>
                      <a:pt x="129" y="283"/>
                    </a:lnTo>
                    <a:lnTo>
                      <a:pt x="152" y="374"/>
                    </a:lnTo>
                    <a:lnTo>
                      <a:pt x="127" y="339"/>
                    </a:lnTo>
                    <a:lnTo>
                      <a:pt x="121" y="377"/>
                    </a:lnTo>
                    <a:lnTo>
                      <a:pt x="143" y="404"/>
                    </a:lnTo>
                    <a:lnTo>
                      <a:pt x="127" y="405"/>
                    </a:lnTo>
                    <a:lnTo>
                      <a:pt x="125" y="431"/>
                    </a:lnTo>
                    <a:lnTo>
                      <a:pt x="142" y="466"/>
                    </a:lnTo>
                    <a:lnTo>
                      <a:pt x="150" y="482"/>
                    </a:lnTo>
                    <a:lnTo>
                      <a:pt x="140" y="498"/>
                    </a:lnTo>
                    <a:lnTo>
                      <a:pt x="162" y="546"/>
                    </a:lnTo>
                    <a:lnTo>
                      <a:pt x="146" y="539"/>
                    </a:lnTo>
                    <a:lnTo>
                      <a:pt x="169" y="614"/>
                    </a:lnTo>
                    <a:lnTo>
                      <a:pt x="152" y="581"/>
                    </a:lnTo>
                    <a:lnTo>
                      <a:pt x="119" y="477"/>
                    </a:lnTo>
                    <a:lnTo>
                      <a:pt x="117" y="400"/>
                    </a:lnTo>
                    <a:lnTo>
                      <a:pt x="73" y="585"/>
                    </a:lnTo>
                    <a:lnTo>
                      <a:pt x="159" y="616"/>
                    </a:lnTo>
                    <a:lnTo>
                      <a:pt x="63" y="589"/>
                    </a:lnTo>
                    <a:lnTo>
                      <a:pt x="111" y="368"/>
                    </a:lnTo>
                    <a:lnTo>
                      <a:pt x="0" y="435"/>
                    </a:lnTo>
                    <a:lnTo>
                      <a:pt x="98" y="366"/>
                    </a:lnTo>
                    <a:lnTo>
                      <a:pt x="98" y="354"/>
                    </a:lnTo>
                    <a:lnTo>
                      <a:pt x="58" y="346"/>
                    </a:lnTo>
                    <a:lnTo>
                      <a:pt x="58" y="337"/>
                    </a:lnTo>
                    <a:lnTo>
                      <a:pt x="117" y="316"/>
                    </a:lnTo>
                    <a:lnTo>
                      <a:pt x="121" y="248"/>
                    </a:lnTo>
                    <a:lnTo>
                      <a:pt x="104" y="156"/>
                    </a:lnTo>
                    <a:lnTo>
                      <a:pt x="104" y="75"/>
                    </a:lnTo>
                    <a:lnTo>
                      <a:pt x="131" y="0"/>
                    </a:lnTo>
                    <a:lnTo>
                      <a:pt x="13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90640" y="3281040"/>
                <a:ext cx="150840" cy="209880"/>
              </a:xfrm>
              <a:custGeom>
                <a:avLst/>
                <a:gdLst/>
                <a:ahLst/>
                <a:rect l="l" t="t" r="r" b="b"/>
                <a:pathLst>
                  <a:path w="95" h="132">
                    <a:moveTo>
                      <a:pt x="19" y="0"/>
                    </a:moveTo>
                    <a:lnTo>
                      <a:pt x="0" y="96"/>
                    </a:lnTo>
                    <a:lnTo>
                      <a:pt x="15" y="127"/>
                    </a:lnTo>
                    <a:lnTo>
                      <a:pt x="27" y="131"/>
                    </a:lnTo>
                    <a:lnTo>
                      <a:pt x="30" y="127"/>
                    </a:lnTo>
                    <a:lnTo>
                      <a:pt x="44" y="129"/>
                    </a:lnTo>
                    <a:lnTo>
                      <a:pt x="63" y="123"/>
                    </a:lnTo>
                    <a:lnTo>
                      <a:pt x="77" y="121"/>
                    </a:lnTo>
                    <a:lnTo>
                      <a:pt x="94" y="102"/>
                    </a:lnTo>
                    <a:lnTo>
                      <a:pt x="75" y="107"/>
                    </a:lnTo>
                    <a:lnTo>
                      <a:pt x="73" y="79"/>
                    </a:lnTo>
                    <a:lnTo>
                      <a:pt x="71" y="117"/>
                    </a:lnTo>
                    <a:lnTo>
                      <a:pt x="49" y="121"/>
                    </a:lnTo>
                    <a:lnTo>
                      <a:pt x="46" y="83"/>
                    </a:lnTo>
                    <a:lnTo>
                      <a:pt x="42" y="123"/>
                    </a:lnTo>
                    <a:lnTo>
                      <a:pt x="27" y="123"/>
                    </a:lnTo>
                    <a:lnTo>
                      <a:pt x="27" y="83"/>
                    </a:lnTo>
                    <a:lnTo>
                      <a:pt x="23" y="115"/>
                    </a:lnTo>
                    <a:lnTo>
                      <a:pt x="17" y="115"/>
                    </a:lnTo>
                    <a:lnTo>
                      <a:pt x="6" y="98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30320" y="3317760"/>
                <a:ext cx="14400" cy="127080"/>
              </a:xfrm>
              <a:custGeom>
                <a:avLst/>
                <a:gdLst/>
                <a:ahLst/>
                <a:rect l="l" t="t" r="r" b="b"/>
                <a:pathLst>
                  <a:path w="9" h="80">
                    <a:moveTo>
                      <a:pt x="0" y="0"/>
                    </a:moveTo>
                    <a:lnTo>
                      <a:pt x="4" y="79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36800" y="3384360"/>
                <a:ext cx="25200" cy="182520"/>
              </a:xfrm>
              <a:custGeom>
                <a:avLst/>
                <a:gdLst/>
                <a:ahLst/>
                <a:rect l="l" t="t" r="r" b="b"/>
                <a:pathLst>
                  <a:path w="16" h="115">
                    <a:moveTo>
                      <a:pt x="2" y="2"/>
                    </a:moveTo>
                    <a:lnTo>
                      <a:pt x="0" y="114"/>
                    </a:lnTo>
                    <a:lnTo>
                      <a:pt x="13" y="114"/>
                    </a:lnTo>
                    <a:lnTo>
                      <a:pt x="15" y="4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19160" y="2489040"/>
                <a:ext cx="87480" cy="34776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45" y="12"/>
                    </a:moveTo>
                    <a:lnTo>
                      <a:pt x="9" y="39"/>
                    </a:lnTo>
                    <a:lnTo>
                      <a:pt x="7" y="86"/>
                    </a:lnTo>
                    <a:lnTo>
                      <a:pt x="7" y="126"/>
                    </a:lnTo>
                    <a:lnTo>
                      <a:pt x="26" y="218"/>
                    </a:lnTo>
                    <a:lnTo>
                      <a:pt x="2" y="131"/>
                    </a:lnTo>
                    <a:lnTo>
                      <a:pt x="0" y="66"/>
                    </a:lnTo>
                    <a:lnTo>
                      <a:pt x="5" y="34"/>
                    </a:lnTo>
                    <a:lnTo>
                      <a:pt x="54" y="0"/>
                    </a:lnTo>
                    <a:lnTo>
                      <a:pt x="45" y="12"/>
                    </a:lnTo>
                    <a:lnTo>
                      <a:pt x="45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22480" y="2012760"/>
                <a:ext cx="376200" cy="635040"/>
              </a:xfrm>
              <a:custGeom>
                <a:avLst/>
                <a:gdLst/>
                <a:ahLst/>
                <a:rect l="l" t="t" r="r" b="b"/>
                <a:pathLst>
                  <a:path w="237" h="400">
                    <a:moveTo>
                      <a:pt x="63" y="50"/>
                    </a:moveTo>
                    <a:lnTo>
                      <a:pt x="53" y="58"/>
                    </a:lnTo>
                    <a:lnTo>
                      <a:pt x="44" y="70"/>
                    </a:lnTo>
                    <a:lnTo>
                      <a:pt x="34" y="134"/>
                    </a:lnTo>
                    <a:lnTo>
                      <a:pt x="32" y="178"/>
                    </a:lnTo>
                    <a:lnTo>
                      <a:pt x="36" y="200"/>
                    </a:lnTo>
                    <a:lnTo>
                      <a:pt x="47" y="222"/>
                    </a:lnTo>
                    <a:lnTo>
                      <a:pt x="71" y="241"/>
                    </a:lnTo>
                    <a:lnTo>
                      <a:pt x="81" y="243"/>
                    </a:lnTo>
                    <a:lnTo>
                      <a:pt x="93" y="242"/>
                    </a:lnTo>
                    <a:lnTo>
                      <a:pt x="106" y="236"/>
                    </a:lnTo>
                    <a:lnTo>
                      <a:pt x="133" y="224"/>
                    </a:lnTo>
                    <a:lnTo>
                      <a:pt x="159" y="209"/>
                    </a:lnTo>
                    <a:lnTo>
                      <a:pt x="173" y="191"/>
                    </a:lnTo>
                    <a:lnTo>
                      <a:pt x="175" y="194"/>
                    </a:lnTo>
                    <a:lnTo>
                      <a:pt x="166" y="210"/>
                    </a:lnTo>
                    <a:lnTo>
                      <a:pt x="148" y="230"/>
                    </a:lnTo>
                    <a:lnTo>
                      <a:pt x="121" y="246"/>
                    </a:lnTo>
                    <a:lnTo>
                      <a:pt x="129" y="252"/>
                    </a:lnTo>
                    <a:lnTo>
                      <a:pt x="113" y="262"/>
                    </a:lnTo>
                    <a:lnTo>
                      <a:pt x="98" y="265"/>
                    </a:lnTo>
                    <a:lnTo>
                      <a:pt x="88" y="265"/>
                    </a:lnTo>
                    <a:lnTo>
                      <a:pt x="75" y="259"/>
                    </a:lnTo>
                    <a:lnTo>
                      <a:pt x="80" y="303"/>
                    </a:lnTo>
                    <a:lnTo>
                      <a:pt x="79" y="340"/>
                    </a:lnTo>
                    <a:lnTo>
                      <a:pt x="75" y="363"/>
                    </a:lnTo>
                    <a:lnTo>
                      <a:pt x="61" y="399"/>
                    </a:lnTo>
                    <a:lnTo>
                      <a:pt x="70" y="358"/>
                    </a:lnTo>
                    <a:lnTo>
                      <a:pt x="73" y="319"/>
                    </a:lnTo>
                    <a:lnTo>
                      <a:pt x="71" y="286"/>
                    </a:lnTo>
                    <a:lnTo>
                      <a:pt x="70" y="273"/>
                    </a:lnTo>
                    <a:lnTo>
                      <a:pt x="63" y="292"/>
                    </a:lnTo>
                    <a:lnTo>
                      <a:pt x="55" y="302"/>
                    </a:lnTo>
                    <a:lnTo>
                      <a:pt x="45" y="312"/>
                    </a:lnTo>
                    <a:lnTo>
                      <a:pt x="48" y="328"/>
                    </a:lnTo>
                    <a:lnTo>
                      <a:pt x="54" y="343"/>
                    </a:lnTo>
                    <a:lnTo>
                      <a:pt x="63" y="357"/>
                    </a:lnTo>
                    <a:lnTo>
                      <a:pt x="44" y="339"/>
                    </a:lnTo>
                    <a:lnTo>
                      <a:pt x="31" y="322"/>
                    </a:lnTo>
                    <a:lnTo>
                      <a:pt x="19" y="300"/>
                    </a:lnTo>
                    <a:lnTo>
                      <a:pt x="10" y="314"/>
                    </a:lnTo>
                    <a:lnTo>
                      <a:pt x="7" y="332"/>
                    </a:lnTo>
                    <a:lnTo>
                      <a:pt x="9" y="352"/>
                    </a:lnTo>
                    <a:lnTo>
                      <a:pt x="14" y="367"/>
                    </a:lnTo>
                    <a:lnTo>
                      <a:pt x="2" y="340"/>
                    </a:lnTo>
                    <a:lnTo>
                      <a:pt x="0" y="318"/>
                    </a:lnTo>
                    <a:lnTo>
                      <a:pt x="3" y="294"/>
                    </a:lnTo>
                    <a:lnTo>
                      <a:pt x="8" y="279"/>
                    </a:lnTo>
                    <a:lnTo>
                      <a:pt x="10" y="253"/>
                    </a:lnTo>
                    <a:lnTo>
                      <a:pt x="17" y="228"/>
                    </a:lnTo>
                    <a:lnTo>
                      <a:pt x="24" y="211"/>
                    </a:lnTo>
                    <a:lnTo>
                      <a:pt x="28" y="191"/>
                    </a:lnTo>
                    <a:lnTo>
                      <a:pt x="27" y="176"/>
                    </a:lnTo>
                    <a:lnTo>
                      <a:pt x="17" y="139"/>
                    </a:lnTo>
                    <a:lnTo>
                      <a:pt x="13" y="106"/>
                    </a:lnTo>
                    <a:lnTo>
                      <a:pt x="15" y="79"/>
                    </a:lnTo>
                    <a:lnTo>
                      <a:pt x="27" y="51"/>
                    </a:lnTo>
                    <a:lnTo>
                      <a:pt x="42" y="32"/>
                    </a:lnTo>
                    <a:lnTo>
                      <a:pt x="54" y="27"/>
                    </a:lnTo>
                    <a:lnTo>
                      <a:pt x="63" y="26"/>
                    </a:lnTo>
                    <a:lnTo>
                      <a:pt x="68" y="27"/>
                    </a:lnTo>
                    <a:lnTo>
                      <a:pt x="82" y="15"/>
                    </a:lnTo>
                    <a:lnTo>
                      <a:pt x="101" y="4"/>
                    </a:lnTo>
                    <a:lnTo>
                      <a:pt x="125" y="0"/>
                    </a:lnTo>
                    <a:lnTo>
                      <a:pt x="152" y="6"/>
                    </a:lnTo>
                    <a:lnTo>
                      <a:pt x="168" y="16"/>
                    </a:lnTo>
                    <a:lnTo>
                      <a:pt x="191" y="38"/>
                    </a:lnTo>
                    <a:lnTo>
                      <a:pt x="207" y="66"/>
                    </a:lnTo>
                    <a:lnTo>
                      <a:pt x="215" y="101"/>
                    </a:lnTo>
                    <a:lnTo>
                      <a:pt x="236" y="186"/>
                    </a:lnTo>
                    <a:lnTo>
                      <a:pt x="206" y="152"/>
                    </a:lnTo>
                    <a:lnTo>
                      <a:pt x="185" y="146"/>
                    </a:lnTo>
                    <a:lnTo>
                      <a:pt x="169" y="133"/>
                    </a:lnTo>
                    <a:lnTo>
                      <a:pt x="161" y="125"/>
                    </a:lnTo>
                    <a:lnTo>
                      <a:pt x="142" y="122"/>
                    </a:lnTo>
                    <a:lnTo>
                      <a:pt x="130" y="114"/>
                    </a:lnTo>
                    <a:lnTo>
                      <a:pt x="121" y="104"/>
                    </a:lnTo>
                    <a:lnTo>
                      <a:pt x="99" y="99"/>
                    </a:lnTo>
                    <a:lnTo>
                      <a:pt x="81" y="89"/>
                    </a:lnTo>
                    <a:lnTo>
                      <a:pt x="70" y="76"/>
                    </a:lnTo>
                    <a:lnTo>
                      <a:pt x="63" y="66"/>
                    </a:lnTo>
                    <a:lnTo>
                      <a:pt x="60" y="58"/>
                    </a:lnTo>
                    <a:lnTo>
                      <a:pt x="63" y="50"/>
                    </a:lnTo>
                    <a:lnTo>
                      <a:pt x="63" y="5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84400" y="217944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0" y="7"/>
                    </a:moveTo>
                    <a:lnTo>
                      <a:pt x="8" y="3"/>
                    </a:lnTo>
                    <a:lnTo>
                      <a:pt x="24" y="12"/>
                    </a:lnTo>
                    <a:lnTo>
                      <a:pt x="34" y="9"/>
                    </a:lnTo>
                    <a:lnTo>
                      <a:pt x="13" y="0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79800" y="217620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11"/>
                    </a:moveTo>
                    <a:lnTo>
                      <a:pt x="22" y="0"/>
                    </a:lnTo>
                    <a:lnTo>
                      <a:pt x="32" y="7"/>
                    </a:lnTo>
                    <a:lnTo>
                      <a:pt x="12" y="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74840" y="2230200"/>
                <a:ext cx="55800" cy="10476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12" y="0"/>
                    </a:moveTo>
                    <a:lnTo>
                      <a:pt x="12" y="10"/>
                    </a:lnTo>
                    <a:lnTo>
                      <a:pt x="9" y="22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2" y="31"/>
                    </a:lnTo>
                    <a:lnTo>
                      <a:pt x="12" y="43"/>
                    </a:lnTo>
                    <a:lnTo>
                      <a:pt x="6" y="65"/>
                    </a:lnTo>
                    <a:lnTo>
                      <a:pt x="15" y="57"/>
                    </a:lnTo>
                    <a:lnTo>
                      <a:pt x="17" y="43"/>
                    </a:lnTo>
                    <a:lnTo>
                      <a:pt x="24" y="41"/>
                    </a:lnTo>
                    <a:lnTo>
                      <a:pt x="29" y="45"/>
                    </a:lnTo>
                    <a:lnTo>
                      <a:pt x="26" y="53"/>
                    </a:lnTo>
                    <a:lnTo>
                      <a:pt x="22" y="55"/>
                    </a:lnTo>
                    <a:lnTo>
                      <a:pt x="29" y="54"/>
                    </a:lnTo>
                    <a:lnTo>
                      <a:pt x="34" y="43"/>
                    </a:lnTo>
                    <a:lnTo>
                      <a:pt x="29" y="38"/>
                    </a:lnTo>
                    <a:lnTo>
                      <a:pt x="20" y="38"/>
                    </a:lnTo>
                    <a:lnTo>
                      <a:pt x="22" y="20"/>
                    </a:lnTo>
                    <a:lnTo>
                      <a:pt x="29" y="4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05000" y="2246040"/>
                <a:ext cx="254160" cy="39384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88" y="3"/>
                    </a:moveTo>
                    <a:lnTo>
                      <a:pt x="84" y="23"/>
                    </a:lnTo>
                    <a:lnTo>
                      <a:pt x="76" y="33"/>
                    </a:lnTo>
                    <a:lnTo>
                      <a:pt x="72" y="41"/>
                    </a:lnTo>
                    <a:lnTo>
                      <a:pt x="66" y="44"/>
                    </a:lnTo>
                    <a:lnTo>
                      <a:pt x="59" y="41"/>
                    </a:lnTo>
                    <a:lnTo>
                      <a:pt x="56" y="52"/>
                    </a:lnTo>
                    <a:lnTo>
                      <a:pt x="56" y="66"/>
                    </a:lnTo>
                    <a:lnTo>
                      <a:pt x="56" y="83"/>
                    </a:lnTo>
                    <a:lnTo>
                      <a:pt x="49" y="102"/>
                    </a:lnTo>
                    <a:lnTo>
                      <a:pt x="40" y="120"/>
                    </a:lnTo>
                    <a:lnTo>
                      <a:pt x="28" y="138"/>
                    </a:lnTo>
                    <a:lnTo>
                      <a:pt x="18" y="153"/>
                    </a:lnTo>
                    <a:lnTo>
                      <a:pt x="11" y="165"/>
                    </a:lnTo>
                    <a:lnTo>
                      <a:pt x="3" y="185"/>
                    </a:lnTo>
                    <a:lnTo>
                      <a:pt x="2" y="199"/>
                    </a:lnTo>
                    <a:lnTo>
                      <a:pt x="0" y="214"/>
                    </a:lnTo>
                    <a:lnTo>
                      <a:pt x="3" y="231"/>
                    </a:lnTo>
                    <a:lnTo>
                      <a:pt x="8" y="247"/>
                    </a:lnTo>
                    <a:lnTo>
                      <a:pt x="8" y="233"/>
                    </a:lnTo>
                    <a:lnTo>
                      <a:pt x="14" y="213"/>
                    </a:lnTo>
                    <a:lnTo>
                      <a:pt x="22" y="197"/>
                    </a:lnTo>
                    <a:lnTo>
                      <a:pt x="31" y="189"/>
                    </a:lnTo>
                    <a:lnTo>
                      <a:pt x="39" y="181"/>
                    </a:lnTo>
                    <a:lnTo>
                      <a:pt x="42" y="194"/>
                    </a:lnTo>
                    <a:lnTo>
                      <a:pt x="51" y="208"/>
                    </a:lnTo>
                    <a:lnTo>
                      <a:pt x="59" y="224"/>
                    </a:lnTo>
                    <a:lnTo>
                      <a:pt x="54" y="197"/>
                    </a:lnTo>
                    <a:lnTo>
                      <a:pt x="56" y="180"/>
                    </a:lnTo>
                    <a:lnTo>
                      <a:pt x="66" y="167"/>
                    </a:lnTo>
                    <a:lnTo>
                      <a:pt x="80" y="155"/>
                    </a:lnTo>
                    <a:lnTo>
                      <a:pt x="86" y="147"/>
                    </a:lnTo>
                    <a:lnTo>
                      <a:pt x="91" y="139"/>
                    </a:lnTo>
                    <a:lnTo>
                      <a:pt x="92" y="136"/>
                    </a:lnTo>
                    <a:lnTo>
                      <a:pt x="91" y="148"/>
                    </a:lnTo>
                    <a:lnTo>
                      <a:pt x="96" y="143"/>
                    </a:lnTo>
                    <a:lnTo>
                      <a:pt x="109" y="125"/>
                    </a:lnTo>
                    <a:lnTo>
                      <a:pt x="117" y="116"/>
                    </a:lnTo>
                    <a:lnTo>
                      <a:pt x="120" y="104"/>
                    </a:lnTo>
                    <a:lnTo>
                      <a:pt x="121" y="93"/>
                    </a:lnTo>
                    <a:lnTo>
                      <a:pt x="133" y="111"/>
                    </a:lnTo>
                    <a:lnTo>
                      <a:pt x="145" y="120"/>
                    </a:lnTo>
                    <a:lnTo>
                      <a:pt x="159" y="129"/>
                    </a:lnTo>
                    <a:lnTo>
                      <a:pt x="150" y="114"/>
                    </a:lnTo>
                    <a:lnTo>
                      <a:pt x="144" y="97"/>
                    </a:lnTo>
                    <a:lnTo>
                      <a:pt x="140" y="77"/>
                    </a:lnTo>
                    <a:lnTo>
                      <a:pt x="131" y="52"/>
                    </a:lnTo>
                    <a:lnTo>
                      <a:pt x="121" y="29"/>
                    </a:lnTo>
                    <a:lnTo>
                      <a:pt x="109" y="0"/>
                    </a:lnTo>
                    <a:lnTo>
                      <a:pt x="88" y="3"/>
                    </a:lnTo>
                    <a:lnTo>
                      <a:pt x="88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82680" y="2205000"/>
                <a:ext cx="69840" cy="298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7" y="13"/>
                    </a:moveTo>
                    <a:lnTo>
                      <a:pt x="16" y="7"/>
                    </a:lnTo>
                    <a:lnTo>
                      <a:pt x="20" y="7"/>
                    </a:lnTo>
                    <a:lnTo>
                      <a:pt x="23" y="9"/>
                    </a:lnTo>
                    <a:lnTo>
                      <a:pt x="24" y="15"/>
                    </a:lnTo>
                    <a:lnTo>
                      <a:pt x="30" y="15"/>
                    </a:lnTo>
                    <a:lnTo>
                      <a:pt x="32" y="12"/>
                    </a:lnTo>
                    <a:lnTo>
                      <a:pt x="41" y="18"/>
                    </a:lnTo>
                    <a:lnTo>
                      <a:pt x="43" y="11"/>
                    </a:lnTo>
                    <a:lnTo>
                      <a:pt x="37" y="12"/>
                    </a:lnTo>
                    <a:lnTo>
                      <a:pt x="32" y="7"/>
                    </a:lnTo>
                    <a:lnTo>
                      <a:pt x="25" y="3"/>
                    </a:lnTo>
                    <a:lnTo>
                      <a:pt x="25" y="6"/>
                    </a:lnTo>
                    <a:lnTo>
                      <a:pt x="17" y="4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0" y="15"/>
                    </a:lnTo>
                    <a:lnTo>
                      <a:pt x="3" y="14"/>
                    </a:lnTo>
                    <a:lnTo>
                      <a:pt x="7" y="13"/>
                    </a:lnTo>
                    <a:lnTo>
                      <a:pt x="7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87720" y="2220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9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173320" y="2193480"/>
                <a:ext cx="93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170080" y="2190240"/>
                <a:ext cx="223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168640" y="2198160"/>
                <a:ext cx="2376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2170080" y="2204640"/>
                <a:ext cx="237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178000" y="2214360"/>
                <a:ext cx="144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85840" y="2211120"/>
                <a:ext cx="54000" cy="2088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0" y="10"/>
                    </a:moveTo>
                    <a:lnTo>
                      <a:pt x="20" y="3"/>
                    </a:lnTo>
                    <a:lnTo>
                      <a:pt x="14" y="4"/>
                    </a:lnTo>
                    <a:lnTo>
                      <a:pt x="10" y="9"/>
                    </a:lnTo>
                    <a:lnTo>
                      <a:pt x="14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33" y="10"/>
                    </a:lnTo>
                    <a:lnTo>
                      <a:pt x="20" y="1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12840" y="22348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41640" y="2269800"/>
                <a:ext cx="61920" cy="2412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8"/>
                    </a:moveTo>
                    <a:lnTo>
                      <a:pt x="6" y="10"/>
                    </a:lnTo>
                    <a:lnTo>
                      <a:pt x="15" y="12"/>
                    </a:lnTo>
                    <a:lnTo>
                      <a:pt x="23" y="3"/>
                    </a:lnTo>
                    <a:lnTo>
                      <a:pt x="22" y="8"/>
                    </a:lnTo>
                    <a:lnTo>
                      <a:pt x="34" y="8"/>
                    </a:lnTo>
                    <a:lnTo>
                      <a:pt x="34" y="0"/>
                    </a:lnTo>
                    <a:lnTo>
                      <a:pt x="38" y="8"/>
                    </a:lnTo>
                    <a:lnTo>
                      <a:pt x="34" y="13"/>
                    </a:lnTo>
                    <a:lnTo>
                      <a:pt x="23" y="10"/>
                    </a:lnTo>
                    <a:lnTo>
                      <a:pt x="15" y="14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14720" y="2286000"/>
                <a:ext cx="68040" cy="586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5" y="4"/>
                    </a:moveTo>
                    <a:lnTo>
                      <a:pt x="13" y="12"/>
                    </a:lnTo>
                    <a:lnTo>
                      <a:pt x="25" y="13"/>
                    </a:lnTo>
                    <a:lnTo>
                      <a:pt x="42" y="3"/>
                    </a:lnTo>
                    <a:lnTo>
                      <a:pt x="37" y="10"/>
                    </a:lnTo>
                    <a:lnTo>
                      <a:pt x="25" y="20"/>
                    </a:lnTo>
                    <a:lnTo>
                      <a:pt x="20" y="36"/>
                    </a:lnTo>
                    <a:lnTo>
                      <a:pt x="20" y="19"/>
                    </a:lnTo>
                    <a:lnTo>
                      <a:pt x="9" y="14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17880" y="2307960"/>
                <a:ext cx="104760" cy="19080"/>
              </a:xfrm>
              <a:custGeom>
                <a:avLst/>
                <a:gdLst/>
                <a:ahLst/>
                <a:rect l="l" t="t" r="r" b="b"/>
                <a:pathLst>
                  <a:path w="66" h="12">
                    <a:moveTo>
                      <a:pt x="1" y="2"/>
                    </a:moveTo>
                    <a:lnTo>
                      <a:pt x="15" y="0"/>
                    </a:lnTo>
                    <a:lnTo>
                      <a:pt x="28" y="0"/>
                    </a:lnTo>
                    <a:lnTo>
                      <a:pt x="43" y="2"/>
                    </a:lnTo>
                    <a:lnTo>
                      <a:pt x="59" y="4"/>
                    </a:lnTo>
                    <a:lnTo>
                      <a:pt x="65" y="6"/>
                    </a:lnTo>
                    <a:lnTo>
                      <a:pt x="55" y="10"/>
                    </a:lnTo>
                    <a:lnTo>
                      <a:pt x="49" y="11"/>
                    </a:lnTo>
                    <a:lnTo>
                      <a:pt x="43" y="5"/>
                    </a:lnTo>
                    <a:lnTo>
                      <a:pt x="23" y="2"/>
                    </a:lnTo>
                    <a:lnTo>
                      <a:pt x="11" y="7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29040" y="231768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57" h="19">
                    <a:moveTo>
                      <a:pt x="3" y="1"/>
                    </a:moveTo>
                    <a:lnTo>
                      <a:pt x="11" y="6"/>
                    </a:lnTo>
                    <a:lnTo>
                      <a:pt x="19" y="10"/>
                    </a:lnTo>
                    <a:lnTo>
                      <a:pt x="29" y="8"/>
                    </a:lnTo>
                    <a:lnTo>
                      <a:pt x="42" y="1"/>
                    </a:lnTo>
                    <a:lnTo>
                      <a:pt x="56" y="2"/>
                    </a:lnTo>
                    <a:lnTo>
                      <a:pt x="44" y="6"/>
                    </a:lnTo>
                    <a:lnTo>
                      <a:pt x="37" y="12"/>
                    </a:lnTo>
                    <a:lnTo>
                      <a:pt x="31" y="16"/>
                    </a:lnTo>
                    <a:lnTo>
                      <a:pt x="24" y="18"/>
                    </a:lnTo>
                    <a:lnTo>
                      <a:pt x="13" y="18"/>
                    </a:lnTo>
                    <a:lnTo>
                      <a:pt x="6" y="13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2077920" y="2198520"/>
                <a:ext cx="79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075040" y="2203200"/>
                <a:ext cx="172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2076480" y="2207520"/>
                <a:ext cx="205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084400" y="2212920"/>
                <a:ext cx="1584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25720" y="2517480"/>
                <a:ext cx="58680" cy="741600"/>
              </a:xfrm>
              <a:custGeom>
                <a:avLst/>
                <a:gdLst/>
                <a:ahLst/>
                <a:rect l="l" t="t" r="r" b="b"/>
                <a:pathLst>
                  <a:path w="37" h="467">
                    <a:moveTo>
                      <a:pt x="36" y="7"/>
                    </a:moveTo>
                    <a:lnTo>
                      <a:pt x="24" y="46"/>
                    </a:lnTo>
                    <a:lnTo>
                      <a:pt x="15" y="97"/>
                    </a:lnTo>
                    <a:lnTo>
                      <a:pt x="7" y="178"/>
                    </a:lnTo>
                    <a:lnTo>
                      <a:pt x="5" y="256"/>
                    </a:lnTo>
                    <a:lnTo>
                      <a:pt x="15" y="313"/>
                    </a:lnTo>
                    <a:lnTo>
                      <a:pt x="28" y="345"/>
                    </a:lnTo>
                    <a:lnTo>
                      <a:pt x="26" y="392"/>
                    </a:lnTo>
                    <a:lnTo>
                      <a:pt x="34" y="466"/>
                    </a:lnTo>
                    <a:lnTo>
                      <a:pt x="11" y="352"/>
                    </a:lnTo>
                    <a:lnTo>
                      <a:pt x="0" y="266"/>
                    </a:lnTo>
                    <a:lnTo>
                      <a:pt x="0" y="199"/>
                    </a:lnTo>
                    <a:lnTo>
                      <a:pt x="7" y="113"/>
                    </a:lnTo>
                    <a:lnTo>
                      <a:pt x="17" y="48"/>
                    </a:lnTo>
                    <a:lnTo>
                      <a:pt x="33" y="0"/>
                    </a:lnTo>
                    <a:lnTo>
                      <a:pt x="36" y="7"/>
                    </a:lnTo>
                    <a:lnTo>
                      <a:pt x="36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36800" y="2496960"/>
                <a:ext cx="87120" cy="609480"/>
              </a:xfrm>
              <a:custGeom>
                <a:avLst/>
                <a:gdLst/>
                <a:ahLst/>
                <a:rect l="l" t="t" r="r" b="b"/>
                <a:pathLst>
                  <a:path w="55" h="384">
                    <a:moveTo>
                      <a:pt x="39" y="0"/>
                    </a:moveTo>
                    <a:lnTo>
                      <a:pt x="27" y="55"/>
                    </a:lnTo>
                    <a:lnTo>
                      <a:pt x="17" y="127"/>
                    </a:lnTo>
                    <a:lnTo>
                      <a:pt x="15" y="186"/>
                    </a:lnTo>
                    <a:lnTo>
                      <a:pt x="15" y="233"/>
                    </a:lnTo>
                    <a:lnTo>
                      <a:pt x="19" y="273"/>
                    </a:lnTo>
                    <a:lnTo>
                      <a:pt x="26" y="293"/>
                    </a:lnTo>
                    <a:lnTo>
                      <a:pt x="39" y="309"/>
                    </a:lnTo>
                    <a:lnTo>
                      <a:pt x="54" y="332"/>
                    </a:lnTo>
                    <a:lnTo>
                      <a:pt x="44" y="354"/>
                    </a:lnTo>
                    <a:lnTo>
                      <a:pt x="43" y="383"/>
                    </a:lnTo>
                    <a:lnTo>
                      <a:pt x="37" y="352"/>
                    </a:lnTo>
                    <a:lnTo>
                      <a:pt x="37" y="342"/>
                    </a:lnTo>
                    <a:lnTo>
                      <a:pt x="15" y="319"/>
                    </a:lnTo>
                    <a:lnTo>
                      <a:pt x="14" y="305"/>
                    </a:lnTo>
                    <a:lnTo>
                      <a:pt x="24" y="310"/>
                    </a:lnTo>
                    <a:lnTo>
                      <a:pt x="0" y="266"/>
                    </a:lnTo>
                    <a:lnTo>
                      <a:pt x="14" y="269"/>
                    </a:lnTo>
                    <a:lnTo>
                      <a:pt x="12" y="219"/>
                    </a:lnTo>
                    <a:lnTo>
                      <a:pt x="11" y="141"/>
                    </a:lnTo>
                    <a:lnTo>
                      <a:pt x="17" y="88"/>
                    </a:lnTo>
                    <a:lnTo>
                      <a:pt x="27" y="34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71720" y="3171600"/>
                <a:ext cx="133200" cy="158760"/>
              </a:xfrm>
              <a:custGeom>
                <a:avLst/>
                <a:gdLst/>
                <a:ahLst/>
                <a:rect l="l" t="t" r="r" b="b"/>
                <a:pathLst>
                  <a:path w="84" h="100">
                    <a:moveTo>
                      <a:pt x="43" y="0"/>
                    </a:moveTo>
                    <a:lnTo>
                      <a:pt x="72" y="60"/>
                    </a:lnTo>
                    <a:lnTo>
                      <a:pt x="83" y="61"/>
                    </a:lnTo>
                    <a:lnTo>
                      <a:pt x="63" y="64"/>
                    </a:lnTo>
                    <a:lnTo>
                      <a:pt x="29" y="75"/>
                    </a:lnTo>
                    <a:lnTo>
                      <a:pt x="12" y="91"/>
                    </a:lnTo>
                    <a:lnTo>
                      <a:pt x="0" y="99"/>
                    </a:lnTo>
                    <a:lnTo>
                      <a:pt x="11" y="90"/>
                    </a:lnTo>
                    <a:lnTo>
                      <a:pt x="27" y="70"/>
                    </a:lnTo>
                    <a:lnTo>
                      <a:pt x="65" y="58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43000" y="299052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0" y="0"/>
                    </a:moveTo>
                    <a:lnTo>
                      <a:pt x="17" y="9"/>
                    </a:lnTo>
                    <a:lnTo>
                      <a:pt x="42" y="13"/>
                    </a:lnTo>
                    <a:lnTo>
                      <a:pt x="52" y="16"/>
                    </a:lnTo>
                    <a:lnTo>
                      <a:pt x="52" y="19"/>
                    </a:lnTo>
                    <a:lnTo>
                      <a:pt x="30" y="21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58840" y="30416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41" h="21">
                    <a:moveTo>
                      <a:pt x="1" y="0"/>
                    </a:moveTo>
                    <a:lnTo>
                      <a:pt x="18" y="9"/>
                    </a:lnTo>
                    <a:lnTo>
                      <a:pt x="40" y="11"/>
                    </a:lnTo>
                    <a:lnTo>
                      <a:pt x="40" y="18"/>
                    </a:lnTo>
                    <a:lnTo>
                      <a:pt x="17" y="20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8400" y="2487600"/>
                <a:ext cx="109440" cy="1108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69"/>
                    </a:moveTo>
                    <a:lnTo>
                      <a:pt x="33" y="32"/>
                    </a:lnTo>
                    <a:lnTo>
                      <a:pt x="68" y="9"/>
                    </a:lnTo>
                    <a:lnTo>
                      <a:pt x="65" y="0"/>
                    </a:lnTo>
                    <a:lnTo>
                      <a:pt x="28" y="26"/>
                    </a:lnTo>
                    <a:lnTo>
                      <a:pt x="2" y="59"/>
                    </a:lnTo>
                    <a:lnTo>
                      <a:pt x="0" y="69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90880" y="2528640"/>
                <a:ext cx="233280" cy="755640"/>
              </a:xfrm>
              <a:custGeom>
                <a:avLst/>
                <a:gdLst/>
                <a:ahLst/>
                <a:rect l="l" t="t" r="r" b="b"/>
                <a:pathLst>
                  <a:path w="147" h="476">
                    <a:moveTo>
                      <a:pt x="113" y="0"/>
                    </a:moveTo>
                    <a:lnTo>
                      <a:pt x="90" y="39"/>
                    </a:lnTo>
                    <a:lnTo>
                      <a:pt x="66" y="87"/>
                    </a:lnTo>
                    <a:lnTo>
                      <a:pt x="44" y="139"/>
                    </a:lnTo>
                    <a:lnTo>
                      <a:pt x="30" y="202"/>
                    </a:lnTo>
                    <a:lnTo>
                      <a:pt x="27" y="256"/>
                    </a:lnTo>
                    <a:lnTo>
                      <a:pt x="25" y="363"/>
                    </a:lnTo>
                    <a:lnTo>
                      <a:pt x="25" y="419"/>
                    </a:lnTo>
                    <a:lnTo>
                      <a:pt x="30" y="437"/>
                    </a:lnTo>
                    <a:lnTo>
                      <a:pt x="130" y="330"/>
                    </a:lnTo>
                    <a:lnTo>
                      <a:pt x="146" y="325"/>
                    </a:lnTo>
                    <a:lnTo>
                      <a:pt x="125" y="341"/>
                    </a:lnTo>
                    <a:lnTo>
                      <a:pt x="8" y="475"/>
                    </a:lnTo>
                    <a:lnTo>
                      <a:pt x="0" y="467"/>
                    </a:lnTo>
                    <a:lnTo>
                      <a:pt x="20" y="444"/>
                    </a:lnTo>
                    <a:lnTo>
                      <a:pt x="19" y="387"/>
                    </a:lnTo>
                    <a:lnTo>
                      <a:pt x="20" y="285"/>
                    </a:lnTo>
                    <a:lnTo>
                      <a:pt x="24" y="221"/>
                    </a:lnTo>
                    <a:lnTo>
                      <a:pt x="34" y="159"/>
                    </a:lnTo>
                    <a:lnTo>
                      <a:pt x="46" y="117"/>
                    </a:lnTo>
                    <a:lnTo>
                      <a:pt x="68" y="70"/>
                    </a:lnTo>
                    <a:lnTo>
                      <a:pt x="86" y="26"/>
                    </a:lnTo>
                    <a:lnTo>
                      <a:pt x="102" y="6"/>
                    </a:lnTo>
                    <a:lnTo>
                      <a:pt x="113" y="0"/>
                    </a:lnTo>
                    <a:lnTo>
                      <a:pt x="11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19480" y="298440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28" y="15"/>
                    </a:moveTo>
                    <a:lnTo>
                      <a:pt x="7" y="20"/>
                    </a:lnTo>
                    <a:lnTo>
                      <a:pt x="0" y="36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28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87640" y="3160440"/>
                <a:ext cx="352440" cy="257400"/>
              </a:xfrm>
              <a:custGeom>
                <a:avLst/>
                <a:gdLst/>
                <a:ahLst/>
                <a:rect l="l" t="t" r="r" b="b"/>
                <a:pathLst>
                  <a:path w="222" h="162">
                    <a:moveTo>
                      <a:pt x="10" y="65"/>
                    </a:moveTo>
                    <a:lnTo>
                      <a:pt x="32" y="98"/>
                    </a:lnTo>
                    <a:lnTo>
                      <a:pt x="58" y="124"/>
                    </a:lnTo>
                    <a:lnTo>
                      <a:pt x="78" y="137"/>
                    </a:lnTo>
                    <a:lnTo>
                      <a:pt x="110" y="149"/>
                    </a:lnTo>
                    <a:lnTo>
                      <a:pt x="168" y="71"/>
                    </a:lnTo>
                    <a:lnTo>
                      <a:pt x="221" y="0"/>
                    </a:lnTo>
                    <a:lnTo>
                      <a:pt x="166" y="85"/>
                    </a:lnTo>
                    <a:lnTo>
                      <a:pt x="112" y="161"/>
                    </a:lnTo>
                    <a:lnTo>
                      <a:pt x="80" y="151"/>
                    </a:lnTo>
                    <a:lnTo>
                      <a:pt x="45" y="131"/>
                    </a:lnTo>
                    <a:lnTo>
                      <a:pt x="21" y="107"/>
                    </a:lnTo>
                    <a:lnTo>
                      <a:pt x="0" y="71"/>
                    </a:lnTo>
                    <a:lnTo>
                      <a:pt x="10" y="61"/>
                    </a:lnTo>
                    <a:lnTo>
                      <a:pt x="10" y="65"/>
                    </a:lnTo>
                    <a:lnTo>
                      <a:pt x="10" y="6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44720" y="33303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17" y="0"/>
                    </a:moveTo>
                    <a:lnTo>
                      <a:pt x="14" y="8"/>
                    </a:lnTo>
                    <a:lnTo>
                      <a:pt x="6" y="18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10" y="22"/>
                    </a:lnTo>
                    <a:lnTo>
                      <a:pt x="22" y="15"/>
                    </a:lnTo>
                    <a:lnTo>
                      <a:pt x="31" y="8"/>
                    </a:lnTo>
                    <a:lnTo>
                      <a:pt x="28" y="15"/>
                    </a:lnTo>
                    <a:lnTo>
                      <a:pt x="41" y="29"/>
                    </a:lnTo>
                    <a:lnTo>
                      <a:pt x="30" y="20"/>
                    </a:lnTo>
                    <a:lnTo>
                      <a:pt x="28" y="28"/>
                    </a:lnTo>
                    <a:lnTo>
                      <a:pt x="30" y="38"/>
                    </a:lnTo>
                    <a:lnTo>
                      <a:pt x="25" y="28"/>
                    </a:lnTo>
                    <a:lnTo>
                      <a:pt x="27" y="16"/>
                    </a:lnTo>
                    <a:lnTo>
                      <a:pt x="10" y="24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92240" y="3376440"/>
                <a:ext cx="77760" cy="104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9" y="0"/>
                    </a:moveTo>
                    <a:lnTo>
                      <a:pt x="1" y="10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7" y="25"/>
                    </a:lnTo>
                    <a:lnTo>
                      <a:pt x="9" y="35"/>
                    </a:lnTo>
                    <a:lnTo>
                      <a:pt x="16" y="42"/>
                    </a:lnTo>
                    <a:lnTo>
                      <a:pt x="22" y="45"/>
                    </a:lnTo>
                    <a:lnTo>
                      <a:pt x="16" y="61"/>
                    </a:lnTo>
                    <a:lnTo>
                      <a:pt x="18" y="65"/>
                    </a:lnTo>
                    <a:lnTo>
                      <a:pt x="19" y="58"/>
                    </a:lnTo>
                    <a:lnTo>
                      <a:pt x="22" y="53"/>
                    </a:lnTo>
                    <a:lnTo>
                      <a:pt x="26" y="60"/>
                    </a:lnTo>
                    <a:lnTo>
                      <a:pt x="24" y="50"/>
                    </a:lnTo>
                    <a:lnTo>
                      <a:pt x="48" y="22"/>
                    </a:lnTo>
                    <a:lnTo>
                      <a:pt x="34" y="28"/>
                    </a:lnTo>
                    <a:lnTo>
                      <a:pt x="26" y="21"/>
                    </a:lnTo>
                    <a:lnTo>
                      <a:pt x="29" y="27"/>
                    </a:lnTo>
                    <a:lnTo>
                      <a:pt x="32" y="29"/>
                    </a:lnTo>
                    <a:lnTo>
                      <a:pt x="24" y="40"/>
                    </a:lnTo>
                    <a:lnTo>
                      <a:pt x="17" y="38"/>
                    </a:lnTo>
                    <a:lnTo>
                      <a:pt x="11" y="27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19" y="9"/>
                    </a:lnTo>
                    <a:lnTo>
                      <a:pt x="16" y="5"/>
                    </a:lnTo>
                    <a:lnTo>
                      <a:pt x="17" y="10"/>
                    </a:lnTo>
                    <a:lnTo>
                      <a:pt x="19" y="13"/>
                    </a:lnTo>
                    <a:lnTo>
                      <a:pt x="11" y="24"/>
                    </a:lnTo>
                    <a:lnTo>
                      <a:pt x="4" y="20"/>
                    </a:lnTo>
                    <a:lnTo>
                      <a:pt x="2" y="13"/>
                    </a:lnTo>
                    <a:lnTo>
                      <a:pt x="7" y="6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22480" y="3350880"/>
                <a:ext cx="128520" cy="149400"/>
              </a:xfrm>
              <a:custGeom>
                <a:avLst/>
                <a:gdLst/>
                <a:ahLst/>
                <a:rect l="l" t="t" r="r" b="b"/>
                <a:pathLst>
                  <a:path w="81" h="94">
                    <a:moveTo>
                      <a:pt x="76" y="0"/>
                    </a:moveTo>
                    <a:lnTo>
                      <a:pt x="70" y="12"/>
                    </a:lnTo>
                    <a:lnTo>
                      <a:pt x="61" y="27"/>
                    </a:lnTo>
                    <a:lnTo>
                      <a:pt x="51" y="37"/>
                    </a:lnTo>
                    <a:lnTo>
                      <a:pt x="42" y="45"/>
                    </a:lnTo>
                    <a:lnTo>
                      <a:pt x="36" y="49"/>
                    </a:lnTo>
                    <a:lnTo>
                      <a:pt x="33" y="54"/>
                    </a:lnTo>
                    <a:lnTo>
                      <a:pt x="26" y="62"/>
                    </a:lnTo>
                    <a:lnTo>
                      <a:pt x="19" y="68"/>
                    </a:lnTo>
                    <a:lnTo>
                      <a:pt x="10" y="74"/>
                    </a:lnTo>
                    <a:lnTo>
                      <a:pt x="7" y="76"/>
                    </a:lnTo>
                    <a:lnTo>
                      <a:pt x="0" y="79"/>
                    </a:lnTo>
                    <a:lnTo>
                      <a:pt x="3" y="81"/>
                    </a:lnTo>
                    <a:lnTo>
                      <a:pt x="15" y="74"/>
                    </a:lnTo>
                    <a:lnTo>
                      <a:pt x="23" y="88"/>
                    </a:lnTo>
                    <a:lnTo>
                      <a:pt x="30" y="90"/>
                    </a:lnTo>
                    <a:lnTo>
                      <a:pt x="23" y="84"/>
                    </a:lnTo>
                    <a:lnTo>
                      <a:pt x="20" y="73"/>
                    </a:lnTo>
                    <a:lnTo>
                      <a:pt x="26" y="67"/>
                    </a:lnTo>
                    <a:lnTo>
                      <a:pt x="36" y="92"/>
                    </a:lnTo>
                    <a:lnTo>
                      <a:pt x="53" y="93"/>
                    </a:lnTo>
                    <a:lnTo>
                      <a:pt x="37" y="89"/>
                    </a:lnTo>
                    <a:lnTo>
                      <a:pt x="29" y="64"/>
                    </a:lnTo>
                    <a:lnTo>
                      <a:pt x="37" y="53"/>
                    </a:lnTo>
                    <a:lnTo>
                      <a:pt x="52" y="89"/>
                    </a:lnTo>
                    <a:lnTo>
                      <a:pt x="40" y="51"/>
                    </a:lnTo>
                    <a:lnTo>
                      <a:pt x="47" y="44"/>
                    </a:lnTo>
                    <a:lnTo>
                      <a:pt x="56" y="35"/>
                    </a:lnTo>
                    <a:lnTo>
                      <a:pt x="67" y="23"/>
                    </a:lnTo>
                    <a:lnTo>
                      <a:pt x="74" y="1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06720" y="3360600"/>
                <a:ext cx="85680" cy="163440"/>
              </a:xfrm>
              <a:custGeom>
                <a:avLst/>
                <a:gdLst/>
                <a:ahLst/>
                <a:rect l="l" t="t" r="r" b="b"/>
                <a:pathLst>
                  <a:path w="54" h="103">
                    <a:moveTo>
                      <a:pt x="31" y="0"/>
                    </a:moveTo>
                    <a:lnTo>
                      <a:pt x="37" y="26"/>
                    </a:lnTo>
                    <a:lnTo>
                      <a:pt x="47" y="52"/>
                    </a:lnTo>
                    <a:lnTo>
                      <a:pt x="50" y="57"/>
                    </a:lnTo>
                    <a:lnTo>
                      <a:pt x="37" y="58"/>
                    </a:lnTo>
                    <a:lnTo>
                      <a:pt x="42" y="69"/>
                    </a:lnTo>
                    <a:lnTo>
                      <a:pt x="53" y="89"/>
                    </a:lnTo>
                    <a:lnTo>
                      <a:pt x="53" y="98"/>
                    </a:lnTo>
                    <a:lnTo>
                      <a:pt x="50" y="102"/>
                    </a:lnTo>
                    <a:lnTo>
                      <a:pt x="37" y="98"/>
                    </a:lnTo>
                    <a:lnTo>
                      <a:pt x="25" y="99"/>
                    </a:lnTo>
                    <a:lnTo>
                      <a:pt x="2" y="88"/>
                    </a:lnTo>
                    <a:lnTo>
                      <a:pt x="10" y="90"/>
                    </a:lnTo>
                    <a:lnTo>
                      <a:pt x="21" y="84"/>
                    </a:lnTo>
                    <a:lnTo>
                      <a:pt x="14" y="77"/>
                    </a:lnTo>
                    <a:lnTo>
                      <a:pt x="0" y="39"/>
                    </a:lnTo>
                    <a:lnTo>
                      <a:pt x="17" y="75"/>
                    </a:lnTo>
                    <a:lnTo>
                      <a:pt x="25" y="81"/>
                    </a:lnTo>
                    <a:lnTo>
                      <a:pt x="37" y="71"/>
                    </a:lnTo>
                    <a:lnTo>
                      <a:pt x="27" y="49"/>
                    </a:lnTo>
                    <a:lnTo>
                      <a:pt x="17" y="23"/>
                    </a:lnTo>
                    <a:lnTo>
                      <a:pt x="30" y="47"/>
                    </a:lnTo>
                    <a:lnTo>
                      <a:pt x="41" y="55"/>
                    </a:lnTo>
                    <a:lnTo>
                      <a:pt x="46" y="56"/>
                    </a:lnTo>
                    <a:lnTo>
                      <a:pt x="38" y="39"/>
                    </a:lnTo>
                    <a:lnTo>
                      <a:pt x="33" y="17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27280" y="2228760"/>
                <a:ext cx="10944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2"/>
                    </a:moveTo>
                    <a:lnTo>
                      <a:pt x="3" y="6"/>
                    </a:lnTo>
                    <a:lnTo>
                      <a:pt x="16" y="4"/>
                    </a:lnTo>
                    <a:lnTo>
                      <a:pt x="34" y="0"/>
                    </a:lnTo>
                    <a:lnTo>
                      <a:pt x="56" y="3"/>
                    </a:lnTo>
                    <a:lnTo>
                      <a:pt x="68" y="8"/>
                    </a:lnTo>
                    <a:lnTo>
                      <a:pt x="58" y="11"/>
                    </a:lnTo>
                    <a:lnTo>
                      <a:pt x="42" y="19"/>
                    </a:lnTo>
                    <a:lnTo>
                      <a:pt x="53" y="11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36" y="3"/>
                    </a:lnTo>
                    <a:lnTo>
                      <a:pt x="24" y="4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0760" y="227628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1"/>
                    </a:moveTo>
                    <a:lnTo>
                      <a:pt x="22" y="0"/>
                    </a:lnTo>
                    <a:lnTo>
                      <a:pt x="19" y="1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44920" y="2097000"/>
                <a:ext cx="144360" cy="117360"/>
              </a:xfrm>
              <a:custGeom>
                <a:avLst/>
                <a:gdLst/>
                <a:ahLst/>
                <a:rect l="l" t="t" r="r" b="b"/>
                <a:pathLst>
                  <a:path w="91" h="74">
                    <a:moveTo>
                      <a:pt x="0" y="66"/>
                    </a:moveTo>
                    <a:lnTo>
                      <a:pt x="5" y="70"/>
                    </a:lnTo>
                    <a:lnTo>
                      <a:pt x="15" y="70"/>
                    </a:lnTo>
                    <a:lnTo>
                      <a:pt x="23" y="58"/>
                    </a:lnTo>
                    <a:lnTo>
                      <a:pt x="19" y="52"/>
                    </a:lnTo>
                    <a:lnTo>
                      <a:pt x="19" y="25"/>
                    </a:lnTo>
                    <a:lnTo>
                      <a:pt x="34" y="11"/>
                    </a:lnTo>
                    <a:lnTo>
                      <a:pt x="29" y="9"/>
                    </a:lnTo>
                    <a:lnTo>
                      <a:pt x="29" y="5"/>
                    </a:lnTo>
                    <a:lnTo>
                      <a:pt x="68" y="0"/>
                    </a:lnTo>
                    <a:lnTo>
                      <a:pt x="82" y="1"/>
                    </a:lnTo>
                    <a:lnTo>
                      <a:pt x="90" y="11"/>
                    </a:lnTo>
                    <a:lnTo>
                      <a:pt x="79" y="6"/>
                    </a:lnTo>
                    <a:lnTo>
                      <a:pt x="65" y="5"/>
                    </a:lnTo>
                    <a:lnTo>
                      <a:pt x="49" y="5"/>
                    </a:lnTo>
                    <a:lnTo>
                      <a:pt x="25" y="29"/>
                    </a:lnTo>
                    <a:lnTo>
                      <a:pt x="25" y="43"/>
                    </a:lnTo>
                    <a:lnTo>
                      <a:pt x="34" y="53"/>
                    </a:lnTo>
                    <a:lnTo>
                      <a:pt x="28" y="51"/>
                    </a:lnTo>
                    <a:lnTo>
                      <a:pt x="28" y="61"/>
                    </a:lnTo>
                    <a:lnTo>
                      <a:pt x="34" y="66"/>
                    </a:lnTo>
                    <a:lnTo>
                      <a:pt x="37" y="57"/>
                    </a:lnTo>
                    <a:lnTo>
                      <a:pt x="42" y="64"/>
                    </a:lnTo>
                    <a:lnTo>
                      <a:pt x="35" y="67"/>
                    </a:lnTo>
                    <a:lnTo>
                      <a:pt x="28" y="66"/>
                    </a:lnTo>
                    <a:lnTo>
                      <a:pt x="18" y="73"/>
                    </a:lnTo>
                    <a:lnTo>
                      <a:pt x="6" y="73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5040" y="211428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4" y="0"/>
                    </a:moveTo>
                    <a:lnTo>
                      <a:pt x="30" y="3"/>
                    </a:lnTo>
                    <a:lnTo>
                      <a:pt x="36" y="9"/>
                    </a:lnTo>
                    <a:lnTo>
                      <a:pt x="32" y="12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4" y="10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73280" y="2117520"/>
                <a:ext cx="6840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2" y="8"/>
                    </a:move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38" y="3"/>
                    </a:lnTo>
                    <a:lnTo>
                      <a:pt x="42" y="8"/>
                    </a:lnTo>
                    <a:lnTo>
                      <a:pt x="36" y="8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3" y="11"/>
                    </a:lnTo>
                    <a:lnTo>
                      <a:pt x="15" y="16"/>
                    </a:lnTo>
                    <a:lnTo>
                      <a:pt x="16" y="22"/>
                    </a:lnTo>
                    <a:lnTo>
                      <a:pt x="6" y="19"/>
                    </a:lnTo>
                    <a:lnTo>
                      <a:pt x="24" y="8"/>
                    </a:lnTo>
                    <a:lnTo>
                      <a:pt x="20" y="3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29000" y="1908000"/>
                <a:ext cx="276120" cy="488880"/>
              </a:xfrm>
              <a:custGeom>
                <a:avLst/>
                <a:gdLst/>
                <a:ahLst/>
                <a:rect l="l" t="t" r="r" b="b"/>
                <a:pathLst>
                  <a:path w="174" h="308">
                    <a:moveTo>
                      <a:pt x="78" y="9"/>
                    </a:moveTo>
                    <a:lnTo>
                      <a:pt x="71" y="16"/>
                    </a:lnTo>
                    <a:lnTo>
                      <a:pt x="78" y="16"/>
                    </a:lnTo>
                    <a:lnTo>
                      <a:pt x="72" y="24"/>
                    </a:lnTo>
                    <a:lnTo>
                      <a:pt x="60" y="32"/>
                    </a:lnTo>
                    <a:lnTo>
                      <a:pt x="73" y="32"/>
                    </a:lnTo>
                    <a:lnTo>
                      <a:pt x="71" y="42"/>
                    </a:lnTo>
                    <a:lnTo>
                      <a:pt x="64" y="47"/>
                    </a:lnTo>
                    <a:lnTo>
                      <a:pt x="59" y="49"/>
                    </a:lnTo>
                    <a:lnTo>
                      <a:pt x="47" y="56"/>
                    </a:lnTo>
                    <a:lnTo>
                      <a:pt x="63" y="56"/>
                    </a:lnTo>
                    <a:lnTo>
                      <a:pt x="72" y="49"/>
                    </a:lnTo>
                    <a:lnTo>
                      <a:pt x="72" y="58"/>
                    </a:lnTo>
                    <a:lnTo>
                      <a:pt x="63" y="62"/>
                    </a:lnTo>
                    <a:lnTo>
                      <a:pt x="44" y="70"/>
                    </a:lnTo>
                    <a:lnTo>
                      <a:pt x="28" y="71"/>
                    </a:lnTo>
                    <a:lnTo>
                      <a:pt x="37" y="72"/>
                    </a:lnTo>
                    <a:lnTo>
                      <a:pt x="61" y="69"/>
                    </a:lnTo>
                    <a:lnTo>
                      <a:pt x="81" y="60"/>
                    </a:lnTo>
                    <a:lnTo>
                      <a:pt x="87" y="50"/>
                    </a:lnTo>
                    <a:lnTo>
                      <a:pt x="94" y="33"/>
                    </a:lnTo>
                    <a:lnTo>
                      <a:pt x="95" y="35"/>
                    </a:lnTo>
                    <a:lnTo>
                      <a:pt x="86" y="59"/>
                    </a:lnTo>
                    <a:lnTo>
                      <a:pt x="75" y="78"/>
                    </a:lnTo>
                    <a:lnTo>
                      <a:pt x="59" y="88"/>
                    </a:lnTo>
                    <a:lnTo>
                      <a:pt x="64" y="75"/>
                    </a:lnTo>
                    <a:lnTo>
                      <a:pt x="46" y="85"/>
                    </a:lnTo>
                    <a:lnTo>
                      <a:pt x="28" y="87"/>
                    </a:lnTo>
                    <a:lnTo>
                      <a:pt x="25" y="122"/>
                    </a:lnTo>
                    <a:lnTo>
                      <a:pt x="24" y="156"/>
                    </a:lnTo>
                    <a:lnTo>
                      <a:pt x="28" y="190"/>
                    </a:lnTo>
                    <a:lnTo>
                      <a:pt x="47" y="241"/>
                    </a:lnTo>
                    <a:lnTo>
                      <a:pt x="61" y="263"/>
                    </a:lnTo>
                    <a:lnTo>
                      <a:pt x="78" y="276"/>
                    </a:lnTo>
                    <a:lnTo>
                      <a:pt x="83" y="274"/>
                    </a:lnTo>
                    <a:lnTo>
                      <a:pt x="98" y="279"/>
                    </a:lnTo>
                    <a:lnTo>
                      <a:pt x="136" y="261"/>
                    </a:lnTo>
                    <a:lnTo>
                      <a:pt x="136" y="265"/>
                    </a:lnTo>
                    <a:lnTo>
                      <a:pt x="151" y="259"/>
                    </a:lnTo>
                    <a:lnTo>
                      <a:pt x="146" y="270"/>
                    </a:lnTo>
                    <a:lnTo>
                      <a:pt x="151" y="270"/>
                    </a:lnTo>
                    <a:lnTo>
                      <a:pt x="173" y="252"/>
                    </a:lnTo>
                    <a:lnTo>
                      <a:pt x="151" y="279"/>
                    </a:lnTo>
                    <a:lnTo>
                      <a:pt x="131" y="292"/>
                    </a:lnTo>
                    <a:lnTo>
                      <a:pt x="105" y="294"/>
                    </a:lnTo>
                    <a:lnTo>
                      <a:pt x="117" y="307"/>
                    </a:lnTo>
                    <a:lnTo>
                      <a:pt x="94" y="296"/>
                    </a:lnTo>
                    <a:lnTo>
                      <a:pt x="81" y="284"/>
                    </a:lnTo>
                    <a:lnTo>
                      <a:pt x="67" y="274"/>
                    </a:lnTo>
                    <a:lnTo>
                      <a:pt x="68" y="288"/>
                    </a:lnTo>
                    <a:lnTo>
                      <a:pt x="60" y="268"/>
                    </a:lnTo>
                    <a:lnTo>
                      <a:pt x="48" y="254"/>
                    </a:lnTo>
                    <a:lnTo>
                      <a:pt x="34" y="227"/>
                    </a:lnTo>
                    <a:lnTo>
                      <a:pt x="26" y="195"/>
                    </a:lnTo>
                    <a:lnTo>
                      <a:pt x="19" y="157"/>
                    </a:lnTo>
                    <a:lnTo>
                      <a:pt x="12" y="150"/>
                    </a:lnTo>
                    <a:lnTo>
                      <a:pt x="5" y="117"/>
                    </a:lnTo>
                    <a:lnTo>
                      <a:pt x="0" y="104"/>
                    </a:lnTo>
                    <a:lnTo>
                      <a:pt x="11" y="72"/>
                    </a:lnTo>
                    <a:lnTo>
                      <a:pt x="14" y="49"/>
                    </a:lnTo>
                    <a:lnTo>
                      <a:pt x="27" y="27"/>
                    </a:lnTo>
                    <a:lnTo>
                      <a:pt x="42" y="21"/>
                    </a:lnTo>
                    <a:lnTo>
                      <a:pt x="46" y="9"/>
                    </a:lnTo>
                    <a:lnTo>
                      <a:pt x="70" y="6"/>
                    </a:lnTo>
                    <a:lnTo>
                      <a:pt x="84" y="0"/>
                    </a:lnTo>
                    <a:lnTo>
                      <a:pt x="97" y="5"/>
                    </a:lnTo>
                    <a:lnTo>
                      <a:pt x="84" y="5"/>
                    </a:lnTo>
                    <a:lnTo>
                      <a:pt x="78" y="9"/>
                    </a:lnTo>
                    <a:lnTo>
                      <a:pt x="78" y="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74800" y="1909440"/>
                <a:ext cx="206640" cy="417600"/>
              </a:xfrm>
              <a:custGeom>
                <a:avLst/>
                <a:gdLst/>
                <a:ahLst/>
                <a:rect l="l" t="t" r="r" b="b"/>
                <a:pathLst>
                  <a:path w="130" h="263">
                    <a:moveTo>
                      <a:pt x="5" y="2"/>
                    </a:moveTo>
                    <a:lnTo>
                      <a:pt x="0" y="13"/>
                    </a:lnTo>
                    <a:lnTo>
                      <a:pt x="0" y="25"/>
                    </a:lnTo>
                    <a:lnTo>
                      <a:pt x="2" y="40"/>
                    </a:lnTo>
                    <a:lnTo>
                      <a:pt x="7" y="51"/>
                    </a:lnTo>
                    <a:lnTo>
                      <a:pt x="19" y="63"/>
                    </a:lnTo>
                    <a:lnTo>
                      <a:pt x="35" y="69"/>
                    </a:lnTo>
                    <a:lnTo>
                      <a:pt x="26" y="61"/>
                    </a:lnTo>
                    <a:lnTo>
                      <a:pt x="44" y="63"/>
                    </a:lnTo>
                    <a:lnTo>
                      <a:pt x="65" y="65"/>
                    </a:lnTo>
                    <a:lnTo>
                      <a:pt x="59" y="58"/>
                    </a:lnTo>
                    <a:lnTo>
                      <a:pt x="74" y="65"/>
                    </a:lnTo>
                    <a:lnTo>
                      <a:pt x="69" y="76"/>
                    </a:lnTo>
                    <a:lnTo>
                      <a:pt x="66" y="96"/>
                    </a:lnTo>
                    <a:lnTo>
                      <a:pt x="71" y="114"/>
                    </a:lnTo>
                    <a:lnTo>
                      <a:pt x="86" y="126"/>
                    </a:lnTo>
                    <a:lnTo>
                      <a:pt x="97" y="134"/>
                    </a:lnTo>
                    <a:lnTo>
                      <a:pt x="96" y="159"/>
                    </a:lnTo>
                    <a:lnTo>
                      <a:pt x="103" y="165"/>
                    </a:lnTo>
                    <a:lnTo>
                      <a:pt x="111" y="135"/>
                    </a:lnTo>
                    <a:lnTo>
                      <a:pt x="122" y="145"/>
                    </a:lnTo>
                    <a:lnTo>
                      <a:pt x="120" y="163"/>
                    </a:lnTo>
                    <a:lnTo>
                      <a:pt x="113" y="177"/>
                    </a:lnTo>
                    <a:lnTo>
                      <a:pt x="104" y="189"/>
                    </a:lnTo>
                    <a:lnTo>
                      <a:pt x="100" y="176"/>
                    </a:lnTo>
                    <a:lnTo>
                      <a:pt x="97" y="211"/>
                    </a:lnTo>
                    <a:lnTo>
                      <a:pt x="97" y="241"/>
                    </a:lnTo>
                    <a:lnTo>
                      <a:pt x="102" y="262"/>
                    </a:lnTo>
                    <a:lnTo>
                      <a:pt x="102" y="233"/>
                    </a:lnTo>
                    <a:lnTo>
                      <a:pt x="106" y="197"/>
                    </a:lnTo>
                    <a:lnTo>
                      <a:pt x="118" y="182"/>
                    </a:lnTo>
                    <a:lnTo>
                      <a:pt x="126" y="154"/>
                    </a:lnTo>
                    <a:lnTo>
                      <a:pt x="126" y="131"/>
                    </a:lnTo>
                    <a:lnTo>
                      <a:pt x="129" y="123"/>
                    </a:lnTo>
                    <a:lnTo>
                      <a:pt x="122" y="104"/>
                    </a:lnTo>
                    <a:lnTo>
                      <a:pt x="118" y="77"/>
                    </a:lnTo>
                    <a:lnTo>
                      <a:pt x="106" y="59"/>
                    </a:lnTo>
                    <a:lnTo>
                      <a:pt x="84" y="48"/>
                    </a:lnTo>
                    <a:lnTo>
                      <a:pt x="69" y="26"/>
                    </a:lnTo>
                    <a:lnTo>
                      <a:pt x="47" y="7"/>
                    </a:lnTo>
                    <a:lnTo>
                      <a:pt x="32" y="1"/>
                    </a:lnTo>
                    <a:lnTo>
                      <a:pt x="16" y="0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0960" y="2125440"/>
                <a:ext cx="64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4840" y="2135160"/>
                <a:ext cx="792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1600" y="2147760"/>
                <a:ext cx="324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804760" y="2157120"/>
                <a:ext cx="3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92520" y="2170080"/>
                <a:ext cx="792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779200" y="2184120"/>
                <a:ext cx="1116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773080" y="2192040"/>
                <a:ext cx="46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768760" y="2216160"/>
                <a:ext cx="172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98920" y="2303280"/>
                <a:ext cx="195120" cy="203040"/>
              </a:xfrm>
              <a:custGeom>
                <a:avLst/>
                <a:gdLst/>
                <a:ahLst/>
                <a:rect l="l" t="t" r="r" b="b"/>
                <a:pathLst>
                  <a:path w="123" h="128">
                    <a:moveTo>
                      <a:pt x="85" y="0"/>
                    </a:moveTo>
                    <a:lnTo>
                      <a:pt x="101" y="19"/>
                    </a:lnTo>
                    <a:lnTo>
                      <a:pt x="122" y="30"/>
                    </a:lnTo>
                    <a:lnTo>
                      <a:pt x="118" y="37"/>
                    </a:lnTo>
                    <a:lnTo>
                      <a:pt x="61" y="90"/>
                    </a:lnTo>
                    <a:lnTo>
                      <a:pt x="31" y="127"/>
                    </a:lnTo>
                    <a:lnTo>
                      <a:pt x="15" y="105"/>
                    </a:lnTo>
                    <a:lnTo>
                      <a:pt x="3" y="79"/>
                    </a:lnTo>
                    <a:lnTo>
                      <a:pt x="0" y="61"/>
                    </a:lnTo>
                    <a:lnTo>
                      <a:pt x="65" y="28"/>
                    </a:lnTo>
                    <a:lnTo>
                      <a:pt x="81" y="19"/>
                    </a:lnTo>
                    <a:lnTo>
                      <a:pt x="63" y="32"/>
                    </a:lnTo>
                    <a:lnTo>
                      <a:pt x="5" y="63"/>
                    </a:lnTo>
                    <a:lnTo>
                      <a:pt x="9" y="77"/>
                    </a:lnTo>
                    <a:lnTo>
                      <a:pt x="31" y="119"/>
                    </a:lnTo>
                    <a:lnTo>
                      <a:pt x="58" y="85"/>
                    </a:lnTo>
                    <a:lnTo>
                      <a:pt x="101" y="45"/>
                    </a:lnTo>
                    <a:lnTo>
                      <a:pt x="114" y="32"/>
                    </a:lnTo>
                    <a:lnTo>
                      <a:pt x="99" y="21"/>
                    </a:lnTo>
                    <a:lnTo>
                      <a:pt x="88" y="1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41680" y="2369880"/>
                <a:ext cx="4104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621160" y="2400120"/>
                <a:ext cx="79200" cy="810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49" y="0"/>
                    </a:moveTo>
                    <a:lnTo>
                      <a:pt x="20" y="4"/>
                    </a:lnTo>
                    <a:lnTo>
                      <a:pt x="16" y="8"/>
                    </a:lnTo>
                    <a:lnTo>
                      <a:pt x="18" y="14"/>
                    </a:lnTo>
                    <a:lnTo>
                      <a:pt x="0" y="50"/>
                    </a:lnTo>
                    <a:lnTo>
                      <a:pt x="18" y="21"/>
                    </a:lnTo>
                    <a:lnTo>
                      <a:pt x="25" y="41"/>
                    </a:lnTo>
                    <a:lnTo>
                      <a:pt x="25" y="47"/>
                    </a:lnTo>
                    <a:lnTo>
                      <a:pt x="34" y="44"/>
                    </a:lnTo>
                    <a:lnTo>
                      <a:pt x="44" y="28"/>
                    </a:lnTo>
                    <a:lnTo>
                      <a:pt x="36" y="35"/>
                    </a:lnTo>
                    <a:lnTo>
                      <a:pt x="28" y="34"/>
                    </a:lnTo>
                    <a:lnTo>
                      <a:pt x="20" y="10"/>
                    </a:lnTo>
                    <a:lnTo>
                      <a:pt x="49" y="4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92440" y="242568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0"/>
                    </a:moveTo>
                    <a:lnTo>
                      <a:pt x="15" y="18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21160" y="2466720"/>
                <a:ext cx="85680" cy="865440"/>
              </a:xfrm>
              <a:custGeom>
                <a:avLst/>
                <a:gdLst/>
                <a:ahLst/>
                <a:rect l="l" t="t" r="r" b="b"/>
                <a:pathLst>
                  <a:path w="54" h="545">
                    <a:moveTo>
                      <a:pt x="34" y="0"/>
                    </a:moveTo>
                    <a:lnTo>
                      <a:pt x="40" y="24"/>
                    </a:lnTo>
                    <a:lnTo>
                      <a:pt x="40" y="64"/>
                    </a:lnTo>
                    <a:lnTo>
                      <a:pt x="30" y="161"/>
                    </a:lnTo>
                    <a:lnTo>
                      <a:pt x="28" y="269"/>
                    </a:lnTo>
                    <a:lnTo>
                      <a:pt x="42" y="418"/>
                    </a:lnTo>
                    <a:lnTo>
                      <a:pt x="53" y="488"/>
                    </a:lnTo>
                    <a:lnTo>
                      <a:pt x="0" y="544"/>
                    </a:lnTo>
                    <a:lnTo>
                      <a:pt x="45" y="483"/>
                    </a:lnTo>
                    <a:lnTo>
                      <a:pt x="34" y="402"/>
                    </a:lnTo>
                    <a:lnTo>
                      <a:pt x="25" y="293"/>
                    </a:lnTo>
                    <a:lnTo>
                      <a:pt x="23" y="238"/>
                    </a:lnTo>
                    <a:lnTo>
                      <a:pt x="26" y="150"/>
                    </a:lnTo>
                    <a:lnTo>
                      <a:pt x="34" y="75"/>
                    </a:lnTo>
                    <a:lnTo>
                      <a:pt x="36" y="45"/>
                    </a:lnTo>
                    <a:lnTo>
                      <a:pt x="34" y="2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532240" y="2466720"/>
                <a:ext cx="137880" cy="863640"/>
              </a:xfrm>
              <a:custGeom>
                <a:avLst/>
                <a:gdLst/>
                <a:ahLst/>
                <a:rect l="l" t="t" r="r" b="b"/>
                <a:pathLst>
                  <a:path w="87" h="544">
                    <a:moveTo>
                      <a:pt x="86" y="2"/>
                    </a:moveTo>
                    <a:lnTo>
                      <a:pt x="66" y="58"/>
                    </a:lnTo>
                    <a:lnTo>
                      <a:pt x="45" y="142"/>
                    </a:lnTo>
                    <a:lnTo>
                      <a:pt x="38" y="208"/>
                    </a:lnTo>
                    <a:lnTo>
                      <a:pt x="34" y="342"/>
                    </a:lnTo>
                    <a:lnTo>
                      <a:pt x="22" y="422"/>
                    </a:lnTo>
                    <a:lnTo>
                      <a:pt x="8" y="494"/>
                    </a:lnTo>
                    <a:lnTo>
                      <a:pt x="60" y="543"/>
                    </a:lnTo>
                    <a:lnTo>
                      <a:pt x="55" y="543"/>
                    </a:lnTo>
                    <a:lnTo>
                      <a:pt x="0" y="494"/>
                    </a:lnTo>
                    <a:lnTo>
                      <a:pt x="15" y="422"/>
                    </a:lnTo>
                    <a:lnTo>
                      <a:pt x="28" y="334"/>
                    </a:lnTo>
                    <a:lnTo>
                      <a:pt x="31" y="236"/>
                    </a:lnTo>
                    <a:lnTo>
                      <a:pt x="36" y="161"/>
                    </a:lnTo>
                    <a:lnTo>
                      <a:pt x="47" y="105"/>
                    </a:lnTo>
                    <a:lnTo>
                      <a:pt x="66" y="37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86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440" y="2469960"/>
                <a:ext cx="142920" cy="568440"/>
              </a:xfrm>
              <a:custGeom>
                <a:avLst/>
                <a:gdLst/>
                <a:ahLst/>
                <a:rect l="l" t="t" r="r" b="b"/>
                <a:pathLst>
                  <a:path w="90" h="358">
                    <a:moveTo>
                      <a:pt x="35" y="0"/>
                    </a:moveTo>
                    <a:lnTo>
                      <a:pt x="42" y="32"/>
                    </a:lnTo>
                    <a:lnTo>
                      <a:pt x="41" y="65"/>
                    </a:lnTo>
                    <a:lnTo>
                      <a:pt x="24" y="110"/>
                    </a:lnTo>
                    <a:lnTo>
                      <a:pt x="12" y="150"/>
                    </a:lnTo>
                    <a:lnTo>
                      <a:pt x="7" y="176"/>
                    </a:lnTo>
                    <a:lnTo>
                      <a:pt x="35" y="201"/>
                    </a:lnTo>
                    <a:lnTo>
                      <a:pt x="45" y="238"/>
                    </a:lnTo>
                    <a:lnTo>
                      <a:pt x="41" y="267"/>
                    </a:lnTo>
                    <a:lnTo>
                      <a:pt x="29" y="293"/>
                    </a:lnTo>
                    <a:lnTo>
                      <a:pt x="18" y="320"/>
                    </a:lnTo>
                    <a:lnTo>
                      <a:pt x="0" y="357"/>
                    </a:lnTo>
                    <a:lnTo>
                      <a:pt x="45" y="267"/>
                    </a:lnTo>
                    <a:lnTo>
                      <a:pt x="48" y="238"/>
                    </a:lnTo>
                    <a:lnTo>
                      <a:pt x="48" y="211"/>
                    </a:lnTo>
                    <a:lnTo>
                      <a:pt x="38" y="189"/>
                    </a:lnTo>
                    <a:lnTo>
                      <a:pt x="58" y="153"/>
                    </a:lnTo>
                    <a:lnTo>
                      <a:pt x="89" y="184"/>
                    </a:lnTo>
                    <a:lnTo>
                      <a:pt x="58" y="144"/>
                    </a:lnTo>
                    <a:lnTo>
                      <a:pt x="48" y="114"/>
                    </a:lnTo>
                    <a:lnTo>
                      <a:pt x="47" y="82"/>
                    </a:lnTo>
                    <a:lnTo>
                      <a:pt x="47" y="38"/>
                    </a:lnTo>
                    <a:lnTo>
                      <a:pt x="42" y="16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51200" y="2525400"/>
                <a:ext cx="411120" cy="750960"/>
              </a:xfrm>
              <a:custGeom>
                <a:avLst/>
                <a:gdLst/>
                <a:ahLst/>
                <a:rect l="l" t="t" r="r" b="b"/>
                <a:pathLst>
                  <a:path w="259" h="473">
                    <a:moveTo>
                      <a:pt x="127" y="0"/>
                    </a:moveTo>
                    <a:lnTo>
                      <a:pt x="116" y="40"/>
                    </a:lnTo>
                    <a:lnTo>
                      <a:pt x="114" y="90"/>
                    </a:lnTo>
                    <a:lnTo>
                      <a:pt x="123" y="128"/>
                    </a:lnTo>
                    <a:lnTo>
                      <a:pt x="159" y="219"/>
                    </a:lnTo>
                    <a:lnTo>
                      <a:pt x="185" y="227"/>
                    </a:lnTo>
                    <a:lnTo>
                      <a:pt x="211" y="204"/>
                    </a:lnTo>
                    <a:lnTo>
                      <a:pt x="258" y="224"/>
                    </a:lnTo>
                    <a:lnTo>
                      <a:pt x="227" y="219"/>
                    </a:lnTo>
                    <a:lnTo>
                      <a:pt x="178" y="245"/>
                    </a:lnTo>
                    <a:lnTo>
                      <a:pt x="172" y="262"/>
                    </a:lnTo>
                    <a:lnTo>
                      <a:pt x="219" y="266"/>
                    </a:lnTo>
                    <a:lnTo>
                      <a:pt x="240" y="289"/>
                    </a:lnTo>
                    <a:lnTo>
                      <a:pt x="215" y="272"/>
                    </a:lnTo>
                    <a:lnTo>
                      <a:pt x="185" y="268"/>
                    </a:lnTo>
                    <a:lnTo>
                      <a:pt x="157" y="283"/>
                    </a:lnTo>
                    <a:lnTo>
                      <a:pt x="152" y="340"/>
                    </a:lnTo>
                    <a:lnTo>
                      <a:pt x="114" y="403"/>
                    </a:lnTo>
                    <a:lnTo>
                      <a:pt x="159" y="430"/>
                    </a:lnTo>
                    <a:lnTo>
                      <a:pt x="203" y="472"/>
                    </a:lnTo>
                    <a:lnTo>
                      <a:pt x="150" y="433"/>
                    </a:lnTo>
                    <a:lnTo>
                      <a:pt x="133" y="427"/>
                    </a:lnTo>
                    <a:lnTo>
                      <a:pt x="110" y="433"/>
                    </a:lnTo>
                    <a:lnTo>
                      <a:pt x="45" y="425"/>
                    </a:lnTo>
                    <a:lnTo>
                      <a:pt x="107" y="427"/>
                    </a:lnTo>
                    <a:lnTo>
                      <a:pt x="118" y="423"/>
                    </a:lnTo>
                    <a:lnTo>
                      <a:pt x="107" y="404"/>
                    </a:lnTo>
                    <a:lnTo>
                      <a:pt x="142" y="343"/>
                    </a:lnTo>
                    <a:lnTo>
                      <a:pt x="127" y="305"/>
                    </a:lnTo>
                    <a:lnTo>
                      <a:pt x="94" y="322"/>
                    </a:lnTo>
                    <a:lnTo>
                      <a:pt x="39" y="375"/>
                    </a:lnTo>
                    <a:lnTo>
                      <a:pt x="0" y="430"/>
                    </a:lnTo>
                    <a:lnTo>
                      <a:pt x="37" y="365"/>
                    </a:lnTo>
                    <a:lnTo>
                      <a:pt x="87" y="309"/>
                    </a:lnTo>
                    <a:lnTo>
                      <a:pt x="166" y="245"/>
                    </a:lnTo>
                    <a:lnTo>
                      <a:pt x="144" y="227"/>
                    </a:lnTo>
                    <a:lnTo>
                      <a:pt x="112" y="128"/>
                    </a:lnTo>
                    <a:lnTo>
                      <a:pt x="107" y="71"/>
                    </a:lnTo>
                    <a:lnTo>
                      <a:pt x="114" y="30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2371680"/>
                <a:ext cx="396720" cy="511200"/>
              </a:xfrm>
              <a:custGeom>
                <a:avLst/>
                <a:gdLst/>
                <a:ahLst/>
                <a:rect l="l" t="t" r="r" b="b"/>
                <a:pathLst>
                  <a:path w="250" h="322">
                    <a:moveTo>
                      <a:pt x="0" y="0"/>
                    </a:moveTo>
                    <a:lnTo>
                      <a:pt x="90" y="39"/>
                    </a:lnTo>
                    <a:lnTo>
                      <a:pt x="126" y="52"/>
                    </a:lnTo>
                    <a:lnTo>
                      <a:pt x="161" y="105"/>
                    </a:lnTo>
                    <a:lnTo>
                      <a:pt x="175" y="190"/>
                    </a:lnTo>
                    <a:lnTo>
                      <a:pt x="181" y="185"/>
                    </a:lnTo>
                    <a:lnTo>
                      <a:pt x="189" y="282"/>
                    </a:lnTo>
                    <a:lnTo>
                      <a:pt x="227" y="300"/>
                    </a:lnTo>
                    <a:lnTo>
                      <a:pt x="237" y="321"/>
                    </a:lnTo>
                    <a:lnTo>
                      <a:pt x="249" y="304"/>
                    </a:lnTo>
                    <a:lnTo>
                      <a:pt x="231" y="282"/>
                    </a:lnTo>
                    <a:lnTo>
                      <a:pt x="208" y="202"/>
                    </a:lnTo>
                    <a:lnTo>
                      <a:pt x="189" y="185"/>
                    </a:lnTo>
                    <a:lnTo>
                      <a:pt x="167" y="103"/>
                    </a:lnTo>
                    <a:lnTo>
                      <a:pt x="145" y="62"/>
                    </a:lnTo>
                    <a:lnTo>
                      <a:pt x="126" y="47"/>
                    </a:lnTo>
                    <a:lnTo>
                      <a:pt x="45" y="1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95720" y="2892240"/>
                <a:ext cx="147600" cy="360360"/>
              </a:xfrm>
              <a:custGeom>
                <a:avLst/>
                <a:gdLst/>
                <a:ahLst/>
                <a:rect l="l" t="t" r="r" b="b"/>
                <a:pathLst>
                  <a:path w="93" h="227">
                    <a:moveTo>
                      <a:pt x="82" y="0"/>
                    </a:moveTo>
                    <a:lnTo>
                      <a:pt x="71" y="35"/>
                    </a:lnTo>
                    <a:lnTo>
                      <a:pt x="71" y="69"/>
                    </a:lnTo>
                    <a:lnTo>
                      <a:pt x="0" y="226"/>
                    </a:lnTo>
                    <a:lnTo>
                      <a:pt x="92" y="44"/>
                    </a:lnTo>
                    <a:lnTo>
                      <a:pt x="90" y="10"/>
                    </a:lnTo>
                    <a:lnTo>
                      <a:pt x="82" y="0"/>
                    </a:lnTo>
                    <a:lnTo>
                      <a:pt x="8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22440" y="2374560"/>
                <a:ext cx="206640" cy="93960"/>
              </a:xfrm>
              <a:custGeom>
                <a:avLst/>
                <a:gdLst/>
                <a:ahLst/>
                <a:rect l="l" t="t" r="r" b="b"/>
                <a:pathLst>
                  <a:path w="130" h="59">
                    <a:moveTo>
                      <a:pt x="129" y="0"/>
                    </a:moveTo>
                    <a:lnTo>
                      <a:pt x="90" y="24"/>
                    </a:lnTo>
                    <a:lnTo>
                      <a:pt x="75" y="26"/>
                    </a:lnTo>
                    <a:lnTo>
                      <a:pt x="0" y="58"/>
                    </a:lnTo>
                    <a:lnTo>
                      <a:pt x="69" y="15"/>
                    </a:lnTo>
                    <a:lnTo>
                      <a:pt x="94" y="10"/>
                    </a:lnTo>
                    <a:lnTo>
                      <a:pt x="118" y="2"/>
                    </a:lnTo>
                    <a:lnTo>
                      <a:pt x="129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57640" y="2498400"/>
                <a:ext cx="166680" cy="538200"/>
              </a:xfrm>
              <a:custGeom>
                <a:avLst/>
                <a:gdLst/>
                <a:ahLst/>
                <a:rect l="l" t="t" r="r" b="b"/>
                <a:pathLst>
                  <a:path w="105" h="339">
                    <a:moveTo>
                      <a:pt x="56" y="0"/>
                    </a:moveTo>
                    <a:lnTo>
                      <a:pt x="72" y="44"/>
                    </a:lnTo>
                    <a:lnTo>
                      <a:pt x="73" y="81"/>
                    </a:lnTo>
                    <a:lnTo>
                      <a:pt x="86" y="72"/>
                    </a:lnTo>
                    <a:lnTo>
                      <a:pt x="74" y="116"/>
                    </a:lnTo>
                    <a:lnTo>
                      <a:pt x="101" y="195"/>
                    </a:lnTo>
                    <a:lnTo>
                      <a:pt x="93" y="199"/>
                    </a:lnTo>
                    <a:lnTo>
                      <a:pt x="91" y="234"/>
                    </a:lnTo>
                    <a:lnTo>
                      <a:pt x="104" y="266"/>
                    </a:lnTo>
                    <a:lnTo>
                      <a:pt x="95" y="338"/>
                    </a:lnTo>
                    <a:lnTo>
                      <a:pt x="80" y="322"/>
                    </a:lnTo>
                    <a:lnTo>
                      <a:pt x="27" y="326"/>
                    </a:lnTo>
                    <a:lnTo>
                      <a:pt x="76" y="308"/>
                    </a:lnTo>
                    <a:lnTo>
                      <a:pt x="84" y="292"/>
                    </a:lnTo>
                    <a:lnTo>
                      <a:pt x="69" y="286"/>
                    </a:lnTo>
                    <a:lnTo>
                      <a:pt x="88" y="268"/>
                    </a:lnTo>
                    <a:lnTo>
                      <a:pt x="20" y="253"/>
                    </a:lnTo>
                    <a:lnTo>
                      <a:pt x="0" y="261"/>
                    </a:lnTo>
                    <a:lnTo>
                      <a:pt x="13" y="248"/>
                    </a:lnTo>
                    <a:lnTo>
                      <a:pt x="86" y="255"/>
                    </a:lnTo>
                    <a:lnTo>
                      <a:pt x="88" y="244"/>
                    </a:lnTo>
                    <a:lnTo>
                      <a:pt x="60" y="199"/>
                    </a:lnTo>
                    <a:lnTo>
                      <a:pt x="80" y="200"/>
                    </a:lnTo>
                    <a:lnTo>
                      <a:pt x="46" y="128"/>
                    </a:lnTo>
                    <a:lnTo>
                      <a:pt x="35" y="44"/>
                    </a:lnTo>
                    <a:lnTo>
                      <a:pt x="72" y="146"/>
                    </a:lnTo>
                    <a:lnTo>
                      <a:pt x="65" y="4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17680" y="2477880"/>
                <a:ext cx="157320" cy="631800"/>
              </a:xfrm>
              <a:custGeom>
                <a:avLst/>
                <a:gdLst/>
                <a:ahLst/>
                <a:rect l="l" t="t" r="r" b="b"/>
                <a:pathLst>
                  <a:path w="99" h="398">
                    <a:moveTo>
                      <a:pt x="64" y="0"/>
                    </a:moveTo>
                    <a:lnTo>
                      <a:pt x="57" y="25"/>
                    </a:lnTo>
                    <a:lnTo>
                      <a:pt x="62" y="77"/>
                    </a:lnTo>
                    <a:lnTo>
                      <a:pt x="52" y="41"/>
                    </a:lnTo>
                    <a:lnTo>
                      <a:pt x="50" y="146"/>
                    </a:lnTo>
                    <a:lnTo>
                      <a:pt x="32" y="201"/>
                    </a:lnTo>
                    <a:lnTo>
                      <a:pt x="38" y="237"/>
                    </a:lnTo>
                    <a:lnTo>
                      <a:pt x="10" y="264"/>
                    </a:lnTo>
                    <a:lnTo>
                      <a:pt x="17" y="286"/>
                    </a:lnTo>
                    <a:lnTo>
                      <a:pt x="98" y="304"/>
                    </a:lnTo>
                    <a:lnTo>
                      <a:pt x="13" y="298"/>
                    </a:lnTo>
                    <a:lnTo>
                      <a:pt x="73" y="397"/>
                    </a:lnTo>
                    <a:lnTo>
                      <a:pt x="0" y="302"/>
                    </a:lnTo>
                    <a:lnTo>
                      <a:pt x="10" y="286"/>
                    </a:lnTo>
                    <a:lnTo>
                      <a:pt x="3" y="259"/>
                    </a:lnTo>
                    <a:lnTo>
                      <a:pt x="25" y="227"/>
                    </a:lnTo>
                    <a:lnTo>
                      <a:pt x="27" y="176"/>
                    </a:lnTo>
                    <a:lnTo>
                      <a:pt x="41" y="135"/>
                    </a:lnTo>
                    <a:lnTo>
                      <a:pt x="49" y="27"/>
                    </a:lnTo>
                    <a:lnTo>
                      <a:pt x="64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27480" y="3027240"/>
                <a:ext cx="82440" cy="318960"/>
              </a:xfrm>
              <a:custGeom>
                <a:avLst/>
                <a:gdLst/>
                <a:ahLst/>
                <a:rect l="l" t="t" r="r" b="b"/>
                <a:pathLst>
                  <a:path w="52" h="201">
                    <a:moveTo>
                      <a:pt x="14" y="12"/>
                    </a:moveTo>
                    <a:lnTo>
                      <a:pt x="0" y="44"/>
                    </a:lnTo>
                    <a:lnTo>
                      <a:pt x="14" y="104"/>
                    </a:lnTo>
                    <a:lnTo>
                      <a:pt x="22" y="104"/>
                    </a:lnTo>
                    <a:lnTo>
                      <a:pt x="19" y="133"/>
                    </a:lnTo>
                    <a:lnTo>
                      <a:pt x="18" y="156"/>
                    </a:lnTo>
                    <a:lnTo>
                      <a:pt x="44" y="200"/>
                    </a:lnTo>
                    <a:lnTo>
                      <a:pt x="42" y="190"/>
                    </a:lnTo>
                    <a:lnTo>
                      <a:pt x="28" y="159"/>
                    </a:lnTo>
                    <a:lnTo>
                      <a:pt x="29" y="135"/>
                    </a:lnTo>
                    <a:lnTo>
                      <a:pt x="21" y="148"/>
                    </a:lnTo>
                    <a:lnTo>
                      <a:pt x="29" y="100"/>
                    </a:lnTo>
                    <a:lnTo>
                      <a:pt x="51" y="72"/>
                    </a:lnTo>
                    <a:lnTo>
                      <a:pt x="22" y="90"/>
                    </a:lnTo>
                    <a:lnTo>
                      <a:pt x="10" y="47"/>
                    </a:lnTo>
                    <a:lnTo>
                      <a:pt x="21" y="0"/>
                    </a:lnTo>
                    <a:lnTo>
                      <a:pt x="14" y="12"/>
                    </a:lnTo>
                    <a:lnTo>
                      <a:pt x="14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78240" y="3049560"/>
                <a:ext cx="64800" cy="517320"/>
              </a:xfrm>
              <a:custGeom>
                <a:avLst/>
                <a:gdLst/>
                <a:ahLst/>
                <a:rect l="l" t="t" r="r" b="b"/>
                <a:pathLst>
                  <a:path w="41" h="326">
                    <a:moveTo>
                      <a:pt x="19" y="0"/>
                    </a:moveTo>
                    <a:lnTo>
                      <a:pt x="12" y="105"/>
                    </a:lnTo>
                    <a:lnTo>
                      <a:pt x="21" y="119"/>
                    </a:lnTo>
                    <a:lnTo>
                      <a:pt x="8" y="190"/>
                    </a:lnTo>
                    <a:lnTo>
                      <a:pt x="8" y="286"/>
                    </a:lnTo>
                    <a:lnTo>
                      <a:pt x="0" y="325"/>
                    </a:lnTo>
                    <a:lnTo>
                      <a:pt x="19" y="325"/>
                    </a:lnTo>
                    <a:lnTo>
                      <a:pt x="17" y="267"/>
                    </a:lnTo>
                    <a:lnTo>
                      <a:pt x="15" y="179"/>
                    </a:lnTo>
                    <a:lnTo>
                      <a:pt x="28" y="123"/>
                    </a:lnTo>
                    <a:lnTo>
                      <a:pt x="40" y="117"/>
                    </a:lnTo>
                    <a:lnTo>
                      <a:pt x="40" y="107"/>
                    </a:lnTo>
                    <a:lnTo>
                      <a:pt x="19" y="98"/>
                    </a:lnTo>
                    <a:lnTo>
                      <a:pt x="19" y="35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54280" y="325584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0" y="21"/>
                    </a:moveTo>
                    <a:lnTo>
                      <a:pt x="52" y="21"/>
                    </a:lnTo>
                    <a:lnTo>
                      <a:pt x="52" y="0"/>
                    </a:lnTo>
                    <a:lnTo>
                      <a:pt x="19" y="0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73440" y="3220920"/>
                <a:ext cx="214200" cy="65160"/>
              </a:xfrm>
              <a:custGeom>
                <a:avLst/>
                <a:gdLst/>
                <a:ahLst/>
                <a:rect l="l" t="t" r="r" b="b"/>
                <a:pathLst>
                  <a:path w="135" h="41">
                    <a:moveTo>
                      <a:pt x="2" y="22"/>
                    </a:moveTo>
                    <a:lnTo>
                      <a:pt x="0" y="40"/>
                    </a:lnTo>
                    <a:lnTo>
                      <a:pt x="40" y="40"/>
                    </a:lnTo>
                    <a:lnTo>
                      <a:pt x="97" y="24"/>
                    </a:lnTo>
                    <a:lnTo>
                      <a:pt x="99" y="8"/>
                    </a:lnTo>
                    <a:lnTo>
                      <a:pt x="134" y="11"/>
                    </a:lnTo>
                    <a:lnTo>
                      <a:pt x="97" y="3"/>
                    </a:lnTo>
                    <a:lnTo>
                      <a:pt x="53" y="9"/>
                    </a:lnTo>
                    <a:lnTo>
                      <a:pt x="46" y="0"/>
                    </a:lnTo>
                    <a:lnTo>
                      <a:pt x="46" y="13"/>
                    </a:lnTo>
                    <a:lnTo>
                      <a:pt x="30" y="20"/>
                    </a:lnTo>
                    <a:lnTo>
                      <a:pt x="11" y="22"/>
                    </a:lnTo>
                    <a:lnTo>
                      <a:pt x="2" y="22"/>
                    </a:lnTo>
                    <a:lnTo>
                      <a:pt x="2" y="2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36800" y="3238200"/>
                <a:ext cx="157320" cy="108000"/>
              </a:xfrm>
              <a:custGeom>
                <a:avLst/>
                <a:gdLst/>
                <a:ahLst/>
                <a:rect l="l" t="t" r="r" b="b"/>
                <a:pathLst>
                  <a:path w="99" h="68">
                    <a:moveTo>
                      <a:pt x="93" y="0"/>
                    </a:moveTo>
                    <a:lnTo>
                      <a:pt x="86" y="9"/>
                    </a:lnTo>
                    <a:lnTo>
                      <a:pt x="40" y="29"/>
                    </a:lnTo>
                    <a:lnTo>
                      <a:pt x="0" y="58"/>
                    </a:lnTo>
                    <a:lnTo>
                      <a:pt x="6" y="67"/>
                    </a:lnTo>
                    <a:lnTo>
                      <a:pt x="13" y="64"/>
                    </a:lnTo>
                    <a:lnTo>
                      <a:pt x="9" y="57"/>
                    </a:lnTo>
                    <a:lnTo>
                      <a:pt x="42" y="34"/>
                    </a:lnTo>
                    <a:lnTo>
                      <a:pt x="96" y="8"/>
                    </a:lnTo>
                    <a:lnTo>
                      <a:pt x="98" y="2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62360" y="3278160"/>
                <a:ext cx="290520" cy="118800"/>
              </a:xfrm>
              <a:custGeom>
                <a:avLst/>
                <a:gdLst/>
                <a:ahLst/>
                <a:rect l="l" t="t" r="r" b="b"/>
                <a:pathLst>
                  <a:path w="183" h="75">
                    <a:moveTo>
                      <a:pt x="0" y="39"/>
                    </a:moveTo>
                    <a:lnTo>
                      <a:pt x="66" y="9"/>
                    </a:lnTo>
                    <a:lnTo>
                      <a:pt x="88" y="0"/>
                    </a:lnTo>
                    <a:lnTo>
                      <a:pt x="71" y="22"/>
                    </a:lnTo>
                    <a:lnTo>
                      <a:pt x="32" y="46"/>
                    </a:lnTo>
                    <a:lnTo>
                      <a:pt x="17" y="60"/>
                    </a:lnTo>
                    <a:lnTo>
                      <a:pt x="20" y="69"/>
                    </a:lnTo>
                    <a:lnTo>
                      <a:pt x="46" y="57"/>
                    </a:lnTo>
                    <a:lnTo>
                      <a:pt x="105" y="24"/>
                    </a:lnTo>
                    <a:lnTo>
                      <a:pt x="54" y="63"/>
                    </a:lnTo>
                    <a:lnTo>
                      <a:pt x="60" y="65"/>
                    </a:lnTo>
                    <a:lnTo>
                      <a:pt x="124" y="46"/>
                    </a:lnTo>
                    <a:lnTo>
                      <a:pt x="182" y="5"/>
                    </a:lnTo>
                    <a:lnTo>
                      <a:pt x="131" y="48"/>
                    </a:lnTo>
                    <a:lnTo>
                      <a:pt x="60" y="74"/>
                    </a:lnTo>
                    <a:lnTo>
                      <a:pt x="46" y="67"/>
                    </a:lnTo>
                    <a:lnTo>
                      <a:pt x="20" y="73"/>
                    </a:lnTo>
                    <a:lnTo>
                      <a:pt x="7" y="60"/>
                    </a:lnTo>
                    <a:lnTo>
                      <a:pt x="19" y="48"/>
                    </a:lnTo>
                    <a:lnTo>
                      <a:pt x="64" y="21"/>
                    </a:lnTo>
                    <a:lnTo>
                      <a:pt x="74" y="11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4080" y="3288960"/>
                <a:ext cx="44640" cy="2779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3" y="0"/>
                    </a:moveTo>
                    <a:lnTo>
                      <a:pt x="27" y="172"/>
                    </a:lnTo>
                    <a:lnTo>
                      <a:pt x="15" y="174"/>
                    </a:lnTo>
                    <a:lnTo>
                      <a:pt x="0" y="1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60760" y="3402000"/>
                <a:ext cx="108000" cy="16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73440" y="3470040"/>
                <a:ext cx="30240" cy="9684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0" y="60"/>
                    </a:lnTo>
                    <a:lnTo>
                      <a:pt x="18" y="6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69960" y="3224160"/>
                <a:ext cx="238320" cy="168120"/>
              </a:xfrm>
              <a:custGeom>
                <a:avLst/>
                <a:gdLst/>
                <a:ahLst/>
                <a:rect l="l" t="t" r="r" b="b"/>
                <a:pathLst>
                  <a:path w="150" h="106">
                    <a:moveTo>
                      <a:pt x="0" y="0"/>
                    </a:moveTo>
                    <a:lnTo>
                      <a:pt x="34" y="51"/>
                    </a:lnTo>
                    <a:lnTo>
                      <a:pt x="100" y="80"/>
                    </a:lnTo>
                    <a:lnTo>
                      <a:pt x="149" y="90"/>
                    </a:lnTo>
                    <a:lnTo>
                      <a:pt x="144" y="105"/>
                    </a:lnTo>
                    <a:lnTo>
                      <a:pt x="80" y="9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79800" y="3367080"/>
                <a:ext cx="318960" cy="112680"/>
              </a:xfrm>
              <a:custGeom>
                <a:avLst/>
                <a:gdLst/>
                <a:ahLst/>
                <a:rect l="l" t="t" r="r" b="b"/>
                <a:pathLst>
                  <a:path w="201" h="71">
                    <a:moveTo>
                      <a:pt x="50" y="20"/>
                    </a:moveTo>
                    <a:lnTo>
                      <a:pt x="75" y="39"/>
                    </a:lnTo>
                    <a:lnTo>
                      <a:pt x="129" y="50"/>
                    </a:lnTo>
                    <a:lnTo>
                      <a:pt x="169" y="50"/>
                    </a:lnTo>
                    <a:lnTo>
                      <a:pt x="200" y="45"/>
                    </a:lnTo>
                    <a:lnTo>
                      <a:pt x="200" y="59"/>
                    </a:lnTo>
                    <a:lnTo>
                      <a:pt x="155" y="70"/>
                    </a:lnTo>
                    <a:lnTo>
                      <a:pt x="90" y="59"/>
                    </a:lnTo>
                    <a:lnTo>
                      <a:pt x="35" y="30"/>
                    </a:lnTo>
                    <a:lnTo>
                      <a:pt x="0" y="0"/>
                    </a:lnTo>
                    <a:lnTo>
                      <a:pt x="50" y="20"/>
                    </a:lnTo>
                    <a:lnTo>
                      <a:pt x="50" y="2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 flipV="1">
            <a:off x="5257800" y="1775880"/>
            <a:ext cx="4432320" cy="5996160"/>
          </a:xfrm>
          <a:custGeom>
            <a:avLst/>
            <a:gdLst>
              <a:gd name="textAreaLeft" fmla="*/ 0 w 4432320"/>
              <a:gd name="textAreaRight" fmla="*/ 4432680 w 4432320"/>
              <a:gd name="textAreaTop" fmla="*/ 360 h 5996160"/>
              <a:gd name="textAreaBottom" fmla="*/ 5996880 h 5996160"/>
            </a:gdLst>
            <a:ahLst/>
            <a:rect l="textAreaLeft" t="textAreaTop" r="textAreaRight" b="textAreaBottom"/>
            <a:pathLst>
              <a:path w="21600" h="29220">
                <a:moveTo>
                  <a:pt x="0" y="0"/>
                </a:moveTo>
                <a:arcTo wR="0" hR="0" stAng="16200000" swAng="-5400000"/>
                <a:lnTo>
                  <a:pt x="0" y="29220"/>
                </a:lnTo>
                <a:arcTo wR="0" hR="0" stAng="10800000" swAng="-5400000"/>
                <a:lnTo>
                  <a:pt x="21600" y="292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29200" y="2200320"/>
            <a:ext cx="4319640" cy="5572080"/>
            <a:chOff x="5029200" y="2200320"/>
            <a:chExt cx="4319640" cy="5572080"/>
          </a:xfrm>
        </p:grpSpPr>
        <p:sp>
          <p:nvSpPr>
            <p:cNvPr id="333" name=""/>
            <p:cNvSpPr/>
            <p:nvPr/>
          </p:nvSpPr>
          <p:spPr>
            <a:xfrm>
              <a:off x="5029200" y="2200320"/>
              <a:ext cx="4319640" cy="5572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1680">
              <a:solidFill>
                <a:srgbClr val="40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20240" y="5259600"/>
              <a:ext cx="285480" cy="61920"/>
            </a:xfrm>
            <a:custGeom>
              <a:avLst/>
              <a:gdLst/>
              <a:ahLst/>
              <a:rect l="l" t="t" r="r" b="b"/>
              <a:pathLst>
                <a:path w="180" h="39">
                  <a:moveTo>
                    <a:pt x="0" y="13"/>
                  </a:moveTo>
                  <a:lnTo>
                    <a:pt x="3" y="13"/>
                  </a:lnTo>
                  <a:lnTo>
                    <a:pt x="65" y="0"/>
                  </a:lnTo>
                  <a:lnTo>
                    <a:pt x="175" y="13"/>
                  </a:lnTo>
                  <a:lnTo>
                    <a:pt x="179" y="26"/>
                  </a:lnTo>
                  <a:lnTo>
                    <a:pt x="132" y="38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37480" y="5311800"/>
              <a:ext cx="1758960" cy="1814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40560" y="5197680"/>
              <a:ext cx="2055600" cy="2057400"/>
            </a:xfrm>
            <a:custGeom>
              <a:avLst/>
              <a:gdLst/>
              <a:ahLst/>
              <a:rect l="l" t="t" r="r" b="b"/>
              <a:pathLst>
                <a:path w="1295" h="1296">
                  <a:moveTo>
                    <a:pt x="377" y="43"/>
                  </a:moveTo>
                  <a:lnTo>
                    <a:pt x="240" y="133"/>
                  </a:lnTo>
                  <a:lnTo>
                    <a:pt x="242" y="262"/>
                  </a:lnTo>
                  <a:lnTo>
                    <a:pt x="195" y="371"/>
                  </a:lnTo>
                  <a:lnTo>
                    <a:pt x="28" y="433"/>
                  </a:lnTo>
                  <a:lnTo>
                    <a:pt x="0" y="580"/>
                  </a:lnTo>
                  <a:lnTo>
                    <a:pt x="132" y="667"/>
                  </a:lnTo>
                  <a:lnTo>
                    <a:pt x="142" y="781"/>
                  </a:lnTo>
                  <a:lnTo>
                    <a:pt x="56" y="923"/>
                  </a:lnTo>
                  <a:lnTo>
                    <a:pt x="140" y="1050"/>
                  </a:lnTo>
                  <a:lnTo>
                    <a:pt x="326" y="1055"/>
                  </a:lnTo>
                  <a:lnTo>
                    <a:pt x="410" y="1113"/>
                  </a:lnTo>
                  <a:lnTo>
                    <a:pt x="458" y="1267"/>
                  </a:lnTo>
                  <a:lnTo>
                    <a:pt x="628" y="1295"/>
                  </a:lnTo>
                  <a:lnTo>
                    <a:pt x="731" y="1190"/>
                  </a:lnTo>
                  <a:lnTo>
                    <a:pt x="841" y="1161"/>
                  </a:lnTo>
                  <a:lnTo>
                    <a:pt x="952" y="1213"/>
                  </a:lnTo>
                  <a:lnTo>
                    <a:pt x="1122" y="1086"/>
                  </a:lnTo>
                  <a:lnTo>
                    <a:pt x="1096" y="977"/>
                  </a:lnTo>
                  <a:lnTo>
                    <a:pt x="1143" y="889"/>
                  </a:lnTo>
                  <a:lnTo>
                    <a:pt x="1266" y="849"/>
                  </a:lnTo>
                  <a:lnTo>
                    <a:pt x="1294" y="693"/>
                  </a:lnTo>
                  <a:lnTo>
                    <a:pt x="1190" y="576"/>
                  </a:lnTo>
                  <a:lnTo>
                    <a:pt x="1171" y="478"/>
                  </a:lnTo>
                  <a:lnTo>
                    <a:pt x="1229" y="335"/>
                  </a:lnTo>
                  <a:lnTo>
                    <a:pt x="1126" y="209"/>
                  </a:lnTo>
                  <a:lnTo>
                    <a:pt x="975" y="224"/>
                  </a:lnTo>
                  <a:lnTo>
                    <a:pt x="926" y="165"/>
                  </a:lnTo>
                  <a:lnTo>
                    <a:pt x="902" y="34"/>
                  </a:lnTo>
                  <a:lnTo>
                    <a:pt x="710" y="0"/>
                  </a:lnTo>
                  <a:lnTo>
                    <a:pt x="636" y="77"/>
                  </a:lnTo>
                  <a:lnTo>
                    <a:pt x="533" y="107"/>
                  </a:lnTo>
                  <a:lnTo>
                    <a:pt x="379" y="45"/>
                  </a:lnTo>
                  <a:lnTo>
                    <a:pt x="377" y="43"/>
                  </a:lnTo>
                  <a:lnTo>
                    <a:pt x="377" y="43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1400" y="5747040"/>
              <a:ext cx="790920" cy="820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67720" y="5167440"/>
              <a:ext cx="11412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0" y="19"/>
                  </a:moveTo>
                  <a:lnTo>
                    <a:pt x="64" y="0"/>
                  </a:lnTo>
                  <a:lnTo>
                    <a:pt x="71" y="53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12080" y="5391360"/>
              <a:ext cx="233280" cy="233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0" y="13"/>
                  </a:moveTo>
                  <a:lnTo>
                    <a:pt x="60" y="0"/>
                  </a:lnTo>
                  <a:lnTo>
                    <a:pt x="146" y="71"/>
                  </a:lnTo>
                  <a:lnTo>
                    <a:pt x="70" y="139"/>
                  </a:lnTo>
                  <a:lnTo>
                    <a:pt x="6" y="146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30840" y="6099120"/>
              <a:ext cx="322560" cy="200160"/>
            </a:xfrm>
            <a:custGeom>
              <a:avLst/>
              <a:gdLst/>
              <a:ahLst/>
              <a:rect l="l" t="t" r="r" b="b"/>
              <a:pathLst>
                <a:path w="203" h="126">
                  <a:moveTo>
                    <a:pt x="0" y="18"/>
                  </a:moveTo>
                  <a:lnTo>
                    <a:pt x="82" y="0"/>
                  </a:lnTo>
                  <a:lnTo>
                    <a:pt x="202" y="95"/>
                  </a:lnTo>
                  <a:lnTo>
                    <a:pt x="193" y="102"/>
                  </a:lnTo>
                  <a:lnTo>
                    <a:pt x="133" y="125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22960" y="6818400"/>
              <a:ext cx="260640" cy="198360"/>
            </a:xfrm>
            <a:custGeom>
              <a:avLst/>
              <a:gdLst/>
              <a:ahLst/>
              <a:rect l="l" t="t" r="r" b="b"/>
              <a:pathLst>
                <a:path w="164" h="125">
                  <a:moveTo>
                    <a:pt x="0" y="43"/>
                  </a:moveTo>
                  <a:lnTo>
                    <a:pt x="23" y="63"/>
                  </a:lnTo>
                  <a:lnTo>
                    <a:pt x="39" y="78"/>
                  </a:lnTo>
                  <a:lnTo>
                    <a:pt x="57" y="90"/>
                  </a:lnTo>
                  <a:lnTo>
                    <a:pt x="109" y="124"/>
                  </a:lnTo>
                  <a:lnTo>
                    <a:pt x="163" y="80"/>
                  </a:lnTo>
                  <a:lnTo>
                    <a:pt x="147" y="43"/>
                  </a:lnTo>
                  <a:lnTo>
                    <a:pt x="53" y="0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4520" y="7182000"/>
              <a:ext cx="366480" cy="82440"/>
            </a:xfrm>
            <a:custGeom>
              <a:avLst/>
              <a:gdLst/>
              <a:ahLst/>
              <a:rect l="l" t="t" r="r" b="b"/>
              <a:pathLst>
                <a:path w="231" h="52">
                  <a:moveTo>
                    <a:pt x="0" y="17"/>
                  </a:moveTo>
                  <a:lnTo>
                    <a:pt x="2" y="17"/>
                  </a:lnTo>
                  <a:lnTo>
                    <a:pt x="83" y="0"/>
                  </a:lnTo>
                  <a:lnTo>
                    <a:pt x="226" y="17"/>
                  </a:lnTo>
                  <a:lnTo>
                    <a:pt x="230" y="34"/>
                  </a:lnTo>
                  <a:lnTo>
                    <a:pt x="168" y="51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69240" y="7016760"/>
              <a:ext cx="212760" cy="98640"/>
            </a:xfrm>
            <a:custGeom>
              <a:avLst/>
              <a:gdLst/>
              <a:ahLst/>
              <a:rect l="l" t="t" r="r" b="b"/>
              <a:pathLst>
                <a:path w="134" h="62">
                  <a:moveTo>
                    <a:pt x="2" y="56"/>
                  </a:moveTo>
                  <a:lnTo>
                    <a:pt x="14" y="33"/>
                  </a:lnTo>
                  <a:lnTo>
                    <a:pt x="95" y="1"/>
                  </a:lnTo>
                  <a:lnTo>
                    <a:pt x="133" y="0"/>
                  </a:lnTo>
                  <a:lnTo>
                    <a:pt x="127" y="7"/>
                  </a:lnTo>
                  <a:lnTo>
                    <a:pt x="88" y="36"/>
                  </a:lnTo>
                  <a:lnTo>
                    <a:pt x="48" y="50"/>
                  </a:lnTo>
                  <a:lnTo>
                    <a:pt x="0" y="61"/>
                  </a:lnTo>
                  <a:lnTo>
                    <a:pt x="2" y="56"/>
                  </a:lnTo>
                  <a:lnTo>
                    <a:pt x="2" y="56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55080" y="7032600"/>
              <a:ext cx="93600" cy="9396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8"/>
                  </a:moveTo>
                  <a:lnTo>
                    <a:pt x="58" y="46"/>
                  </a:lnTo>
                  <a:lnTo>
                    <a:pt x="54" y="0"/>
                  </a:lnTo>
                  <a:lnTo>
                    <a:pt x="10" y="28"/>
                  </a:lnTo>
                  <a:lnTo>
                    <a:pt x="4" y="58"/>
                  </a:lnTo>
                  <a:lnTo>
                    <a:pt x="0" y="58"/>
                  </a:lnTo>
                  <a:lnTo>
                    <a:pt x="0" y="58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96280" y="551340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15" y="8"/>
                  </a:moveTo>
                  <a:lnTo>
                    <a:pt x="77" y="0"/>
                  </a:lnTo>
                  <a:lnTo>
                    <a:pt x="60" y="52"/>
                  </a:lnTo>
                  <a:lnTo>
                    <a:pt x="0" y="11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94600" y="5249880"/>
              <a:ext cx="133200" cy="10008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5" y="8"/>
                  </a:moveTo>
                  <a:lnTo>
                    <a:pt x="83" y="0"/>
                  </a:lnTo>
                  <a:lnTo>
                    <a:pt x="83" y="62"/>
                  </a:lnTo>
                  <a:lnTo>
                    <a:pt x="0" y="37"/>
                  </a:lnTo>
                  <a:lnTo>
                    <a:pt x="25" y="8"/>
                  </a:lnTo>
                  <a:lnTo>
                    <a:pt x="25" y="8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32720" y="5170680"/>
              <a:ext cx="2055600" cy="2066760"/>
            </a:xfrm>
            <a:custGeom>
              <a:avLst/>
              <a:gdLst/>
              <a:ahLst/>
              <a:rect l="l" t="t" r="r" b="b"/>
              <a:pathLst>
                <a:path w="1295" h="1302">
                  <a:moveTo>
                    <a:pt x="379" y="49"/>
                  </a:moveTo>
                  <a:lnTo>
                    <a:pt x="238" y="140"/>
                  </a:lnTo>
                  <a:lnTo>
                    <a:pt x="247" y="277"/>
                  </a:lnTo>
                  <a:lnTo>
                    <a:pt x="195" y="377"/>
                  </a:lnTo>
                  <a:lnTo>
                    <a:pt x="28" y="440"/>
                  </a:lnTo>
                  <a:lnTo>
                    <a:pt x="0" y="586"/>
                  </a:lnTo>
                  <a:lnTo>
                    <a:pt x="132" y="685"/>
                  </a:lnTo>
                  <a:lnTo>
                    <a:pt x="152" y="762"/>
                  </a:lnTo>
                  <a:lnTo>
                    <a:pt x="56" y="929"/>
                  </a:lnTo>
                  <a:lnTo>
                    <a:pt x="140" y="1056"/>
                  </a:lnTo>
                  <a:lnTo>
                    <a:pt x="326" y="1060"/>
                  </a:lnTo>
                  <a:lnTo>
                    <a:pt x="411" y="1118"/>
                  </a:lnTo>
                  <a:lnTo>
                    <a:pt x="459" y="1272"/>
                  </a:lnTo>
                  <a:lnTo>
                    <a:pt x="627" y="1301"/>
                  </a:lnTo>
                  <a:lnTo>
                    <a:pt x="730" y="1196"/>
                  </a:lnTo>
                  <a:lnTo>
                    <a:pt x="843" y="1167"/>
                  </a:lnTo>
                  <a:lnTo>
                    <a:pt x="952" y="1218"/>
                  </a:lnTo>
                  <a:lnTo>
                    <a:pt x="1122" y="1092"/>
                  </a:lnTo>
                  <a:lnTo>
                    <a:pt x="1096" y="982"/>
                  </a:lnTo>
                  <a:lnTo>
                    <a:pt x="1144" y="894"/>
                  </a:lnTo>
                  <a:lnTo>
                    <a:pt x="1266" y="855"/>
                  </a:lnTo>
                  <a:lnTo>
                    <a:pt x="1294" y="699"/>
                  </a:lnTo>
                  <a:lnTo>
                    <a:pt x="1190" y="582"/>
                  </a:lnTo>
                  <a:lnTo>
                    <a:pt x="1172" y="483"/>
                  </a:lnTo>
                  <a:lnTo>
                    <a:pt x="1238" y="370"/>
                  </a:lnTo>
                  <a:lnTo>
                    <a:pt x="1125" y="214"/>
                  </a:lnTo>
                  <a:lnTo>
                    <a:pt x="989" y="228"/>
                  </a:lnTo>
                  <a:lnTo>
                    <a:pt x="899" y="160"/>
                  </a:lnTo>
                  <a:lnTo>
                    <a:pt x="903" y="48"/>
                  </a:lnTo>
                  <a:lnTo>
                    <a:pt x="714" y="0"/>
                  </a:lnTo>
                  <a:lnTo>
                    <a:pt x="631" y="96"/>
                  </a:lnTo>
                  <a:lnTo>
                    <a:pt x="533" y="112"/>
                  </a:lnTo>
                  <a:lnTo>
                    <a:pt x="380" y="52"/>
                  </a:lnTo>
                  <a:lnTo>
                    <a:pt x="379" y="49"/>
                  </a:lnTo>
                  <a:lnTo>
                    <a:pt x="379" y="4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75680" y="5589720"/>
              <a:ext cx="169560" cy="17136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75680" y="5589720"/>
              <a:ext cx="169560" cy="17136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78680" y="5978520"/>
              <a:ext cx="171360" cy="171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5680" y="5589720"/>
              <a:ext cx="169560" cy="171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6400" y="5497560"/>
              <a:ext cx="169920" cy="169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31040" y="5747040"/>
              <a:ext cx="169920" cy="169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23200" y="6226200"/>
              <a:ext cx="171360" cy="171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05760" y="6647040"/>
              <a:ext cx="169920" cy="171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3120" y="6772320"/>
              <a:ext cx="169920" cy="168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0600" y="6459480"/>
              <a:ext cx="169920" cy="171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91280" y="5964480"/>
              <a:ext cx="169920" cy="1695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6480" y="5575320"/>
              <a:ext cx="171720" cy="1699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7560" y="5481720"/>
              <a:ext cx="169920" cy="1699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40760" y="5730840"/>
              <a:ext cx="171360" cy="1699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35800" y="6210360"/>
              <a:ext cx="169920" cy="171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16920" y="6632640"/>
              <a:ext cx="171360" cy="1699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4280" y="6755040"/>
              <a:ext cx="171360" cy="171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51760" y="6445440"/>
              <a:ext cx="171360" cy="1699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08800" y="5854680"/>
              <a:ext cx="738360" cy="73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66040" y="6372360"/>
              <a:ext cx="84240" cy="745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41" y="0"/>
                  </a:moveTo>
                  <a:lnTo>
                    <a:pt x="0" y="33"/>
                  </a:lnTo>
                  <a:lnTo>
                    <a:pt x="11" y="46"/>
                  </a:lnTo>
                  <a:lnTo>
                    <a:pt x="52" y="15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02400" y="6415200"/>
              <a:ext cx="10008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9" y="0"/>
                  </a:moveTo>
                  <a:lnTo>
                    <a:pt x="0" y="34"/>
                  </a:lnTo>
                  <a:lnTo>
                    <a:pt x="23" y="54"/>
                  </a:lnTo>
                  <a:lnTo>
                    <a:pt x="62" y="1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46960" y="5830920"/>
              <a:ext cx="741240" cy="7318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1880000">
              <a:off x="7072560" y="3884760"/>
              <a:ext cx="1496880" cy="154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07320" y="3759480"/>
              <a:ext cx="1749600" cy="1741320"/>
            </a:xfrm>
            <a:custGeom>
              <a:avLst/>
              <a:gdLst/>
              <a:ahLst/>
              <a:rect l="l" t="t" r="r" b="b"/>
              <a:pathLst>
                <a:path w="1102" h="1097">
                  <a:moveTo>
                    <a:pt x="484" y="0"/>
                  </a:moveTo>
                  <a:lnTo>
                    <a:pt x="349" y="40"/>
                  </a:lnTo>
                  <a:lnTo>
                    <a:pt x="318" y="145"/>
                  </a:lnTo>
                  <a:lnTo>
                    <a:pt x="252" y="220"/>
                  </a:lnTo>
                  <a:lnTo>
                    <a:pt x="101" y="229"/>
                  </a:lnTo>
                  <a:lnTo>
                    <a:pt x="40" y="341"/>
                  </a:lnTo>
                  <a:lnTo>
                    <a:pt x="125" y="445"/>
                  </a:lnTo>
                  <a:lnTo>
                    <a:pt x="105" y="540"/>
                  </a:lnTo>
                  <a:lnTo>
                    <a:pt x="0" y="633"/>
                  </a:lnTo>
                  <a:lnTo>
                    <a:pt x="35" y="758"/>
                  </a:lnTo>
                  <a:lnTo>
                    <a:pt x="185" y="809"/>
                  </a:lnTo>
                  <a:lnTo>
                    <a:pt x="239" y="877"/>
                  </a:lnTo>
                  <a:lnTo>
                    <a:pt x="239" y="1015"/>
                  </a:lnTo>
                  <a:lnTo>
                    <a:pt x="370" y="1081"/>
                  </a:lnTo>
                  <a:lnTo>
                    <a:pt x="479" y="1021"/>
                  </a:lnTo>
                  <a:lnTo>
                    <a:pt x="577" y="1026"/>
                  </a:lnTo>
                  <a:lnTo>
                    <a:pt x="653" y="1096"/>
                  </a:lnTo>
                  <a:lnTo>
                    <a:pt x="824" y="1036"/>
                  </a:lnTo>
                  <a:lnTo>
                    <a:pt x="831" y="941"/>
                  </a:lnTo>
                  <a:lnTo>
                    <a:pt x="891" y="881"/>
                  </a:lnTo>
                  <a:lnTo>
                    <a:pt x="1001" y="880"/>
                  </a:lnTo>
                  <a:lnTo>
                    <a:pt x="1063" y="760"/>
                  </a:lnTo>
                  <a:lnTo>
                    <a:pt x="1009" y="638"/>
                  </a:lnTo>
                  <a:lnTo>
                    <a:pt x="1018" y="554"/>
                  </a:lnTo>
                  <a:lnTo>
                    <a:pt x="1101" y="453"/>
                  </a:lnTo>
                  <a:lnTo>
                    <a:pt x="1049" y="324"/>
                  </a:lnTo>
                  <a:lnTo>
                    <a:pt x="923" y="298"/>
                  </a:lnTo>
                  <a:lnTo>
                    <a:pt x="899" y="239"/>
                  </a:lnTo>
                  <a:lnTo>
                    <a:pt x="912" y="125"/>
                  </a:lnTo>
                  <a:lnTo>
                    <a:pt x="764" y="49"/>
                  </a:lnTo>
                  <a:lnTo>
                    <a:pt x="685" y="93"/>
                  </a:lnTo>
                  <a:lnTo>
                    <a:pt x="593" y="91"/>
                  </a:lnTo>
                  <a:lnTo>
                    <a:pt x="484" y="3"/>
                  </a:lnTo>
                  <a:lnTo>
                    <a:pt x="484" y="0"/>
                  </a:lnTo>
                  <a:lnTo>
                    <a:pt x="484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1880000">
              <a:off x="7581240" y="4281120"/>
              <a:ext cx="669960" cy="69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20160" y="3837240"/>
              <a:ext cx="92160" cy="727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0"/>
                  </a:moveTo>
                  <a:lnTo>
                    <a:pt x="57" y="2"/>
                  </a:lnTo>
                  <a:lnTo>
                    <a:pt x="50" y="4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07360" y="3822840"/>
              <a:ext cx="212760" cy="192240"/>
            </a:xfrm>
            <a:custGeom>
              <a:avLst/>
              <a:gdLst/>
              <a:ahLst/>
              <a:rect l="l" t="t" r="r" b="b"/>
              <a:pathLst>
                <a:path w="134" h="121">
                  <a:moveTo>
                    <a:pt x="29" y="0"/>
                  </a:moveTo>
                  <a:lnTo>
                    <a:pt x="81" y="2"/>
                  </a:lnTo>
                  <a:lnTo>
                    <a:pt x="133" y="84"/>
                  </a:lnTo>
                  <a:lnTo>
                    <a:pt x="54" y="120"/>
                  </a:lnTo>
                  <a:lnTo>
                    <a:pt x="0" y="109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2760" y="4307040"/>
              <a:ext cx="231840" cy="19368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0" y="0"/>
                  </a:moveTo>
                  <a:lnTo>
                    <a:pt x="70" y="5"/>
                  </a:lnTo>
                  <a:lnTo>
                    <a:pt x="145" y="114"/>
                  </a:lnTo>
                  <a:lnTo>
                    <a:pt x="135" y="118"/>
                  </a:lnTo>
                  <a:lnTo>
                    <a:pt x="80" y="1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70840" y="5011920"/>
              <a:ext cx="195120" cy="183960"/>
            </a:xfrm>
            <a:custGeom>
              <a:avLst/>
              <a:gdLst/>
              <a:ahLst/>
              <a:rect l="l" t="t" r="r" b="b"/>
              <a:pathLst>
                <a:path w="123" h="116">
                  <a:moveTo>
                    <a:pt x="0" y="22"/>
                  </a:moveTo>
                  <a:lnTo>
                    <a:pt x="13" y="44"/>
                  </a:lnTo>
                  <a:lnTo>
                    <a:pt x="22" y="61"/>
                  </a:lnTo>
                  <a:lnTo>
                    <a:pt x="34" y="74"/>
                  </a:lnTo>
                  <a:lnTo>
                    <a:pt x="67" y="115"/>
                  </a:lnTo>
                  <a:lnTo>
                    <a:pt x="122" y="94"/>
                  </a:lnTo>
                  <a:lnTo>
                    <a:pt x="119" y="60"/>
                  </a:lnTo>
                  <a:lnTo>
                    <a:pt x="54" y="0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83520" y="5369040"/>
              <a:ext cx="293760" cy="115920"/>
            </a:xfrm>
            <a:custGeom>
              <a:avLst/>
              <a:gdLst/>
              <a:ahLst/>
              <a:rect l="l" t="t" r="r" b="b"/>
              <a:pathLst>
                <a:path w="185" h="73">
                  <a:moveTo>
                    <a:pt x="0" y="0"/>
                  </a:moveTo>
                  <a:lnTo>
                    <a:pt x="2" y="1"/>
                  </a:lnTo>
                  <a:lnTo>
                    <a:pt x="72" y="7"/>
                  </a:lnTo>
                  <a:lnTo>
                    <a:pt x="184" y="57"/>
                  </a:lnTo>
                  <a:lnTo>
                    <a:pt x="183" y="72"/>
                  </a:lnTo>
                  <a:lnTo>
                    <a:pt x="129" y="7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0200" y="5380200"/>
              <a:ext cx="196920" cy="46080"/>
            </a:xfrm>
            <a:custGeom>
              <a:avLst/>
              <a:gdLst/>
              <a:ahLst/>
              <a:rect l="l" t="t" r="r" b="b"/>
              <a:pathLst>
                <a:path w="124" h="29">
                  <a:moveTo>
                    <a:pt x="2" y="22"/>
                  </a:moveTo>
                  <a:lnTo>
                    <a:pt x="17" y="6"/>
                  </a:lnTo>
                  <a:lnTo>
                    <a:pt x="90" y="0"/>
                  </a:lnTo>
                  <a:lnTo>
                    <a:pt x="123" y="10"/>
                  </a:lnTo>
                  <a:lnTo>
                    <a:pt x="115" y="12"/>
                  </a:lnTo>
                  <a:lnTo>
                    <a:pt x="76" y="27"/>
                  </a:lnTo>
                  <a:lnTo>
                    <a:pt x="41" y="28"/>
                  </a:lnTo>
                  <a:lnTo>
                    <a:pt x="0" y="25"/>
                  </a:lnTo>
                  <a:lnTo>
                    <a:pt x="2" y="22"/>
                  </a:lnTo>
                  <a:lnTo>
                    <a:pt x="2" y="2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45560" y="545004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0" y="32"/>
                  </a:moveTo>
                  <a:lnTo>
                    <a:pt x="51" y="38"/>
                  </a:lnTo>
                  <a:lnTo>
                    <a:pt x="59" y="0"/>
                  </a:lnTo>
                  <a:lnTo>
                    <a:pt x="17" y="11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47120" y="426744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13" y="2"/>
                  </a:moveTo>
                  <a:lnTo>
                    <a:pt x="65" y="11"/>
                  </a:lnTo>
                  <a:lnTo>
                    <a:pt x="39" y="49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9480" y="3754440"/>
              <a:ext cx="122400" cy="95400"/>
            </a:xfrm>
            <a:custGeom>
              <a:avLst/>
              <a:gdLst/>
              <a:ahLst/>
              <a:rect l="l" t="t" r="r" b="b"/>
              <a:pathLst>
                <a:path w="77" h="60">
                  <a:moveTo>
                    <a:pt x="27" y="0"/>
                  </a:moveTo>
                  <a:lnTo>
                    <a:pt x="76" y="9"/>
                  </a:lnTo>
                  <a:lnTo>
                    <a:pt x="60" y="59"/>
                  </a:lnTo>
                  <a:lnTo>
                    <a:pt x="0" y="18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85080" y="3770280"/>
              <a:ext cx="1751040" cy="1738440"/>
            </a:xfrm>
            <a:custGeom>
              <a:avLst/>
              <a:gdLst/>
              <a:ahLst/>
              <a:rect l="l" t="t" r="r" b="b"/>
              <a:pathLst>
                <a:path w="1103" h="1095">
                  <a:moveTo>
                    <a:pt x="486" y="0"/>
                  </a:moveTo>
                  <a:lnTo>
                    <a:pt x="348" y="38"/>
                  </a:lnTo>
                  <a:lnTo>
                    <a:pt x="321" y="152"/>
                  </a:lnTo>
                  <a:lnTo>
                    <a:pt x="253" y="220"/>
                  </a:lnTo>
                  <a:lnTo>
                    <a:pt x="102" y="228"/>
                  </a:lnTo>
                  <a:lnTo>
                    <a:pt x="42" y="340"/>
                  </a:lnTo>
                  <a:lnTo>
                    <a:pt x="123" y="454"/>
                  </a:lnTo>
                  <a:lnTo>
                    <a:pt x="121" y="522"/>
                  </a:lnTo>
                  <a:lnTo>
                    <a:pt x="0" y="632"/>
                  </a:lnTo>
                  <a:lnTo>
                    <a:pt x="36" y="757"/>
                  </a:lnTo>
                  <a:lnTo>
                    <a:pt x="187" y="807"/>
                  </a:lnTo>
                  <a:lnTo>
                    <a:pt x="241" y="876"/>
                  </a:lnTo>
                  <a:lnTo>
                    <a:pt x="241" y="1014"/>
                  </a:lnTo>
                  <a:lnTo>
                    <a:pt x="370" y="1079"/>
                  </a:lnTo>
                  <a:lnTo>
                    <a:pt x="480" y="1020"/>
                  </a:lnTo>
                  <a:lnTo>
                    <a:pt x="579" y="1025"/>
                  </a:lnTo>
                  <a:lnTo>
                    <a:pt x="654" y="1094"/>
                  </a:lnTo>
                  <a:lnTo>
                    <a:pt x="825" y="1034"/>
                  </a:lnTo>
                  <a:lnTo>
                    <a:pt x="832" y="939"/>
                  </a:lnTo>
                  <a:lnTo>
                    <a:pt x="892" y="879"/>
                  </a:lnTo>
                  <a:lnTo>
                    <a:pt x="1002" y="878"/>
                  </a:lnTo>
                  <a:lnTo>
                    <a:pt x="1064" y="759"/>
                  </a:lnTo>
                  <a:lnTo>
                    <a:pt x="1010" y="636"/>
                  </a:lnTo>
                  <a:lnTo>
                    <a:pt x="1020" y="553"/>
                  </a:lnTo>
                  <a:lnTo>
                    <a:pt x="1102" y="478"/>
                  </a:lnTo>
                  <a:lnTo>
                    <a:pt x="1049" y="322"/>
                  </a:lnTo>
                  <a:lnTo>
                    <a:pt x="936" y="300"/>
                  </a:lnTo>
                  <a:lnTo>
                    <a:pt x="880" y="222"/>
                  </a:lnTo>
                  <a:lnTo>
                    <a:pt x="911" y="132"/>
                  </a:lnTo>
                  <a:lnTo>
                    <a:pt x="770" y="45"/>
                  </a:lnTo>
                  <a:lnTo>
                    <a:pt x="678" y="102"/>
                  </a:lnTo>
                  <a:lnTo>
                    <a:pt x="594" y="90"/>
                  </a:lnTo>
                  <a:lnTo>
                    <a:pt x="486" y="2"/>
                  </a:lnTo>
                  <a:lnTo>
                    <a:pt x="486" y="0"/>
                  </a:lnTo>
                  <a:lnTo>
                    <a:pt x="486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1880000">
              <a:off x="7676640" y="4076280"/>
              <a:ext cx="142920" cy="144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1880000">
              <a:off x="7676640" y="4076280"/>
              <a:ext cx="142920" cy="144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34280" y="4319640"/>
              <a:ext cx="146160" cy="146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1880000">
              <a:off x="7676640" y="4076280"/>
              <a:ext cx="142920" cy="144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62920" y="4118040"/>
              <a:ext cx="144720" cy="142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1880000">
              <a:off x="8331120" y="4420800"/>
              <a:ext cx="145800" cy="142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1880000">
              <a:off x="8286480" y="4831920"/>
              <a:ext cx="144360" cy="1458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1880000">
              <a:off x="8001000" y="5119560"/>
              <a:ext cx="146160" cy="1458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1880000">
              <a:off x="7553160" y="5091120"/>
              <a:ext cx="145800" cy="144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1880000">
              <a:off x="7266960" y="4723920"/>
              <a:ext cx="144360" cy="144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48680" y="4311720"/>
              <a:ext cx="144360" cy="144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1880000">
              <a:off x="7689240" y="4066560"/>
              <a:ext cx="144360" cy="144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75880" y="4106880"/>
              <a:ext cx="144360" cy="1461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1880000">
              <a:off x="8344080" y="4410000"/>
              <a:ext cx="146160" cy="14580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1880000">
              <a:off x="8299440" y="4824360"/>
              <a:ext cx="146160" cy="1447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12160" y="5112000"/>
              <a:ext cx="144360" cy="144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1880000">
              <a:off x="7567200" y="5079960"/>
              <a:ext cx="146160" cy="1461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1880000">
              <a:off x="7280280" y="4713120"/>
              <a:ext cx="146160" cy="14580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1880000">
              <a:off x="7554960" y="4362480"/>
              <a:ext cx="628560" cy="620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64680" y="4730760"/>
              <a:ext cx="7596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2" y="0"/>
                  </a:moveTo>
                  <a:lnTo>
                    <a:pt x="0" y="17"/>
                  </a:lnTo>
                  <a:lnTo>
                    <a:pt x="5" y="30"/>
                  </a:lnTo>
                  <a:lnTo>
                    <a:pt x="47" y="15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83760" y="477360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39" y="0"/>
                  </a:moveTo>
                  <a:lnTo>
                    <a:pt x="0" y="18"/>
                  </a:lnTo>
                  <a:lnTo>
                    <a:pt x="15" y="40"/>
                  </a:lnTo>
                  <a:lnTo>
                    <a:pt x="55" y="20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1880000">
              <a:off x="7592760" y="4352760"/>
              <a:ext cx="630360" cy="6206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620000">
              <a:off x="6325560" y="2916360"/>
              <a:ext cx="1141560" cy="1176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7760" y="2841840"/>
              <a:ext cx="1336680" cy="1336680"/>
            </a:xfrm>
            <a:custGeom>
              <a:avLst/>
              <a:gdLst/>
              <a:ahLst/>
              <a:rect l="l" t="t" r="r" b="b"/>
              <a:pathLst>
                <a:path w="842" h="842">
                  <a:moveTo>
                    <a:pt x="232" y="36"/>
                  </a:moveTo>
                  <a:lnTo>
                    <a:pt x="145" y="99"/>
                  </a:lnTo>
                  <a:lnTo>
                    <a:pt x="149" y="183"/>
                  </a:lnTo>
                  <a:lnTo>
                    <a:pt x="122" y="254"/>
                  </a:lnTo>
                  <a:lnTo>
                    <a:pt x="14" y="300"/>
                  </a:lnTo>
                  <a:lnTo>
                    <a:pt x="0" y="395"/>
                  </a:lnTo>
                  <a:lnTo>
                    <a:pt x="89" y="449"/>
                  </a:lnTo>
                  <a:lnTo>
                    <a:pt x="97" y="520"/>
                  </a:lnTo>
                  <a:lnTo>
                    <a:pt x="44" y="614"/>
                  </a:lnTo>
                  <a:lnTo>
                    <a:pt x="103" y="694"/>
                  </a:lnTo>
                  <a:lnTo>
                    <a:pt x="225" y="692"/>
                  </a:lnTo>
                  <a:lnTo>
                    <a:pt x="282" y="728"/>
                  </a:lnTo>
                  <a:lnTo>
                    <a:pt x="317" y="827"/>
                  </a:lnTo>
                  <a:lnTo>
                    <a:pt x="428" y="841"/>
                  </a:lnTo>
                  <a:lnTo>
                    <a:pt x="490" y="771"/>
                  </a:lnTo>
                  <a:lnTo>
                    <a:pt x="559" y="749"/>
                  </a:lnTo>
                  <a:lnTo>
                    <a:pt x="632" y="781"/>
                  </a:lnTo>
                  <a:lnTo>
                    <a:pt x="740" y="694"/>
                  </a:lnTo>
                  <a:lnTo>
                    <a:pt x="720" y="623"/>
                  </a:lnTo>
                  <a:lnTo>
                    <a:pt x="748" y="564"/>
                  </a:lnTo>
                  <a:lnTo>
                    <a:pt x="827" y="535"/>
                  </a:lnTo>
                  <a:lnTo>
                    <a:pt x="841" y="433"/>
                  </a:lnTo>
                  <a:lnTo>
                    <a:pt x="771" y="359"/>
                  </a:lnTo>
                  <a:lnTo>
                    <a:pt x="756" y="298"/>
                  </a:lnTo>
                  <a:lnTo>
                    <a:pt x="792" y="205"/>
                  </a:lnTo>
                  <a:lnTo>
                    <a:pt x="719" y="125"/>
                  </a:lnTo>
                  <a:lnTo>
                    <a:pt x="622" y="139"/>
                  </a:lnTo>
                  <a:lnTo>
                    <a:pt x="589" y="102"/>
                  </a:lnTo>
                  <a:lnTo>
                    <a:pt x="568" y="17"/>
                  </a:lnTo>
                  <a:lnTo>
                    <a:pt x="444" y="0"/>
                  </a:lnTo>
                  <a:lnTo>
                    <a:pt x="398" y="53"/>
                  </a:lnTo>
                  <a:lnTo>
                    <a:pt x="334" y="74"/>
                  </a:lnTo>
                  <a:lnTo>
                    <a:pt x="233" y="37"/>
                  </a:lnTo>
                  <a:lnTo>
                    <a:pt x="232" y="36"/>
                  </a:lnTo>
                  <a:lnTo>
                    <a:pt x="232" y="36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620000">
              <a:off x="6706800" y="3200400"/>
              <a:ext cx="50976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02640" y="2820960"/>
              <a:ext cx="75960" cy="5580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13"/>
                  </a:moveTo>
                  <a:lnTo>
                    <a:pt x="41" y="0"/>
                  </a:lnTo>
                  <a:lnTo>
                    <a:pt x="47" y="34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23120" y="298296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37" y="0"/>
                  </a:lnTo>
                  <a:lnTo>
                    <a:pt x="97" y="45"/>
                  </a:lnTo>
                  <a:lnTo>
                    <a:pt x="50" y="92"/>
                  </a:lnTo>
                  <a:lnTo>
                    <a:pt x="7" y="98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91280" y="3454560"/>
              <a:ext cx="214560" cy="129960"/>
            </a:xfrm>
            <a:custGeom>
              <a:avLst/>
              <a:gdLst/>
              <a:ahLst/>
              <a:rect l="l" t="t" r="r" b="b"/>
              <a:pathLst>
                <a:path w="135" h="82">
                  <a:moveTo>
                    <a:pt x="0" y="13"/>
                  </a:moveTo>
                  <a:lnTo>
                    <a:pt x="53" y="0"/>
                  </a:lnTo>
                  <a:lnTo>
                    <a:pt x="134" y="58"/>
                  </a:lnTo>
                  <a:lnTo>
                    <a:pt x="128" y="64"/>
                  </a:lnTo>
                  <a:lnTo>
                    <a:pt x="90" y="81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31120" y="3903840"/>
              <a:ext cx="171360" cy="12708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0" y="30"/>
                  </a:moveTo>
                  <a:lnTo>
                    <a:pt x="15" y="42"/>
                  </a:lnTo>
                  <a:lnTo>
                    <a:pt x="26" y="52"/>
                  </a:lnTo>
                  <a:lnTo>
                    <a:pt x="38" y="60"/>
                  </a:lnTo>
                  <a:lnTo>
                    <a:pt x="74" y="79"/>
                  </a:lnTo>
                  <a:lnTo>
                    <a:pt x="107" y="50"/>
                  </a:lnTo>
                  <a:lnTo>
                    <a:pt x="97" y="27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6360" y="4135680"/>
              <a:ext cx="241200" cy="47520"/>
            </a:xfrm>
            <a:custGeom>
              <a:avLst/>
              <a:gdLst/>
              <a:ahLst/>
              <a:rect l="l" t="t" r="r" b="b"/>
              <a:pathLst>
                <a:path w="152" h="30">
                  <a:moveTo>
                    <a:pt x="0" y="12"/>
                  </a:moveTo>
                  <a:lnTo>
                    <a:pt x="3" y="12"/>
                  </a:lnTo>
                  <a:lnTo>
                    <a:pt x="54" y="0"/>
                  </a:lnTo>
                  <a:lnTo>
                    <a:pt x="148" y="7"/>
                  </a:lnTo>
                  <a:lnTo>
                    <a:pt x="151" y="18"/>
                  </a:lnTo>
                  <a:lnTo>
                    <a:pt x="112" y="29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23240" y="4013280"/>
              <a:ext cx="131760" cy="6840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0" y="40"/>
                  </a:moveTo>
                  <a:lnTo>
                    <a:pt x="6" y="24"/>
                  </a:lnTo>
                  <a:lnTo>
                    <a:pt x="56" y="2"/>
                  </a:lnTo>
                  <a:lnTo>
                    <a:pt x="82" y="0"/>
                  </a:lnTo>
                  <a:lnTo>
                    <a:pt x="77" y="4"/>
                  </a:lnTo>
                  <a:lnTo>
                    <a:pt x="52" y="25"/>
                  </a:lnTo>
                  <a:lnTo>
                    <a:pt x="28" y="3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01080" y="4019760"/>
              <a:ext cx="61920" cy="6336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39"/>
                  </a:moveTo>
                  <a:lnTo>
                    <a:pt x="38" y="31"/>
                  </a:lnTo>
                  <a:lnTo>
                    <a:pt x="35" y="0"/>
                  </a:lnTo>
                  <a:lnTo>
                    <a:pt x="8" y="19"/>
                  </a:lnTo>
                  <a:lnTo>
                    <a:pt x="4" y="37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20240" y="302760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10" y="8"/>
                  </a:moveTo>
                  <a:lnTo>
                    <a:pt x="49" y="0"/>
                  </a:lnTo>
                  <a:lnTo>
                    <a:pt x="41" y="35"/>
                  </a:lnTo>
                  <a:lnTo>
                    <a:pt x="0" y="9"/>
                  </a:lnTo>
                  <a:lnTo>
                    <a:pt x="10" y="8"/>
                  </a:lnTo>
                  <a:lnTo>
                    <a:pt x="10" y="8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40480" y="2882880"/>
              <a:ext cx="84240" cy="6984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13" y="9"/>
                  </a:moveTo>
                  <a:lnTo>
                    <a:pt x="51" y="0"/>
                  </a:lnTo>
                  <a:lnTo>
                    <a:pt x="52" y="43"/>
                  </a:lnTo>
                  <a:lnTo>
                    <a:pt x="0" y="29"/>
                  </a:lnTo>
                  <a:lnTo>
                    <a:pt x="13" y="9"/>
                  </a:lnTo>
                  <a:lnTo>
                    <a:pt x="13" y="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57880" y="2822760"/>
              <a:ext cx="1338480" cy="1342800"/>
            </a:xfrm>
            <a:custGeom>
              <a:avLst/>
              <a:gdLst/>
              <a:ahLst/>
              <a:rect l="l" t="t" r="r" b="b"/>
              <a:pathLst>
                <a:path w="843" h="846">
                  <a:moveTo>
                    <a:pt x="232" y="39"/>
                  </a:moveTo>
                  <a:lnTo>
                    <a:pt x="143" y="103"/>
                  </a:lnTo>
                  <a:lnTo>
                    <a:pt x="152" y="192"/>
                  </a:lnTo>
                  <a:lnTo>
                    <a:pt x="121" y="258"/>
                  </a:lnTo>
                  <a:lnTo>
                    <a:pt x="14" y="302"/>
                  </a:lnTo>
                  <a:lnTo>
                    <a:pt x="0" y="399"/>
                  </a:lnTo>
                  <a:lnTo>
                    <a:pt x="88" y="461"/>
                  </a:lnTo>
                  <a:lnTo>
                    <a:pt x="102" y="507"/>
                  </a:lnTo>
                  <a:lnTo>
                    <a:pt x="43" y="618"/>
                  </a:lnTo>
                  <a:lnTo>
                    <a:pt x="103" y="699"/>
                  </a:lnTo>
                  <a:lnTo>
                    <a:pt x="224" y="695"/>
                  </a:lnTo>
                  <a:lnTo>
                    <a:pt x="282" y="731"/>
                  </a:lnTo>
                  <a:lnTo>
                    <a:pt x="317" y="830"/>
                  </a:lnTo>
                  <a:lnTo>
                    <a:pt x="426" y="845"/>
                  </a:lnTo>
                  <a:lnTo>
                    <a:pt x="488" y="774"/>
                  </a:lnTo>
                  <a:lnTo>
                    <a:pt x="559" y="753"/>
                  </a:lnTo>
                  <a:lnTo>
                    <a:pt x="631" y="784"/>
                  </a:lnTo>
                  <a:lnTo>
                    <a:pt x="740" y="696"/>
                  </a:lnTo>
                  <a:lnTo>
                    <a:pt x="718" y="626"/>
                  </a:lnTo>
                  <a:lnTo>
                    <a:pt x="748" y="567"/>
                  </a:lnTo>
                  <a:lnTo>
                    <a:pt x="826" y="538"/>
                  </a:lnTo>
                  <a:lnTo>
                    <a:pt x="842" y="437"/>
                  </a:lnTo>
                  <a:lnTo>
                    <a:pt x="770" y="362"/>
                  </a:lnTo>
                  <a:lnTo>
                    <a:pt x="756" y="302"/>
                  </a:lnTo>
                  <a:lnTo>
                    <a:pt x="797" y="226"/>
                  </a:lnTo>
                  <a:lnTo>
                    <a:pt x="718" y="127"/>
                  </a:lnTo>
                  <a:lnTo>
                    <a:pt x="631" y="142"/>
                  </a:lnTo>
                  <a:lnTo>
                    <a:pt x="571" y="99"/>
                  </a:lnTo>
                  <a:lnTo>
                    <a:pt x="569" y="25"/>
                  </a:lnTo>
                  <a:lnTo>
                    <a:pt x="446" y="0"/>
                  </a:lnTo>
                  <a:lnTo>
                    <a:pt x="394" y="64"/>
                  </a:lnTo>
                  <a:lnTo>
                    <a:pt x="332" y="78"/>
                  </a:lnTo>
                  <a:lnTo>
                    <a:pt x="234" y="41"/>
                  </a:lnTo>
                  <a:lnTo>
                    <a:pt x="232" y="39"/>
                  </a:lnTo>
                  <a:lnTo>
                    <a:pt x="232" y="3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1820000">
              <a:off x="6681600" y="3097080"/>
              <a:ext cx="111240" cy="1094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1820000">
              <a:off x="6681600" y="3097080"/>
              <a:ext cx="111240" cy="1094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13480" y="3349800"/>
              <a:ext cx="111240" cy="109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1820000">
              <a:off x="6681600" y="3097080"/>
              <a:ext cx="111240" cy="109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6240" y="3044880"/>
              <a:ext cx="111240" cy="109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29520" y="3198960"/>
              <a:ext cx="111240" cy="109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1760000">
              <a:off x="7292880" y="3486960"/>
              <a:ext cx="112680" cy="111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6000000">
              <a:off x="7161840" y="3767760"/>
              <a:ext cx="109440" cy="110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1760000">
              <a:off x="6837120" y="3860640"/>
              <a:ext cx="111240" cy="110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6000000">
              <a:off x="6537240" y="3672000"/>
              <a:ext cx="111240" cy="110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500000">
              <a:off x="6492960" y="3349440"/>
              <a:ext cx="108000" cy="1094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560000">
              <a:off x="6670440" y="3093840"/>
              <a:ext cx="111240" cy="1126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9720000">
              <a:off x="6965280" y="3030120"/>
              <a:ext cx="111240" cy="111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32760" y="3184560"/>
              <a:ext cx="111240" cy="111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1880000">
              <a:off x="7321320" y="3469680"/>
              <a:ext cx="111240" cy="111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2280" y="3781440"/>
              <a:ext cx="111240" cy="111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620000">
              <a:off x="6842160" y="3853080"/>
              <a:ext cx="109440" cy="1094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0620000">
              <a:off x="6540120" y="3662640"/>
              <a:ext cx="112680" cy="1094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0620000">
              <a:off x="6700680" y="3268800"/>
              <a:ext cx="473040" cy="471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2080" y="3605400"/>
              <a:ext cx="55800" cy="522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6" y="0"/>
                  </a:moveTo>
                  <a:lnTo>
                    <a:pt x="0" y="23"/>
                  </a:lnTo>
                  <a:lnTo>
                    <a:pt x="7" y="32"/>
                  </a:lnTo>
                  <a:lnTo>
                    <a:pt x="34" y="1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67640" y="363384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4" y="0"/>
                  </a:moveTo>
                  <a:lnTo>
                    <a:pt x="0" y="23"/>
                  </a:lnTo>
                  <a:lnTo>
                    <a:pt x="16" y="35"/>
                  </a:lnTo>
                  <a:lnTo>
                    <a:pt x="40" y="9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620000">
              <a:off x="6724080" y="3252960"/>
              <a:ext cx="476280" cy="47160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789520" y="1635120"/>
            <a:ext cx="4276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0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1371600"/>
            <a:ext cx="3708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810000"/>
                </a:solidFill>
                <a:latin typeface="Times New Roman"/>
              </a:rPr>
              <a:t>los gustos de la gen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46040" y="794880"/>
            <a:ext cx="94536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¿qué es una economía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7160" y="2263680"/>
            <a:ext cx="3886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80"/>
                </a:solidFill>
                <a:latin typeface="Times New Roman"/>
              </a:rPr>
              <a:t>Recursos</a:t>
            </a:r>
            <a:br>
              <a:rPr sz="3300"/>
            </a:br>
            <a:r>
              <a:rPr b="1" lang="en-GB" sz="33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35800" y="3884760"/>
            <a:ext cx="2035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rush738 BT"/>
              </a:rPr>
              <a:t>n</a:t>
            </a:r>
            <a:r>
              <a:rPr b="0" lang="en-GB" sz="4200" spc="-1" strike="noStrike" baseline="-25000">
                <a:solidFill>
                  <a:srgbClr val="000000"/>
                </a:solidFill>
                <a:latin typeface="Brush738 BT"/>
              </a:rPr>
              <a:t>h</a:t>
            </a:r>
            <a:r>
              <a:rPr b="0" lang="en-GB" sz="4200" spc="-1" strike="noStrike">
                <a:solidFill>
                  <a:srgbClr val="000000"/>
                </a:solidFill>
                <a:latin typeface="Brush738 BT"/>
              </a:rPr>
              <a:t> de es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14400" y="2971800"/>
            <a:ext cx="2270160" cy="1495440"/>
            <a:chOff x="914400" y="2971800"/>
            <a:chExt cx="2270160" cy="1495440"/>
          </a:xfrm>
        </p:grpSpPr>
        <p:sp>
          <p:nvSpPr>
            <p:cNvPr id="446" name=""/>
            <p:cNvSpPr/>
            <p:nvPr/>
          </p:nvSpPr>
          <p:spPr>
            <a:xfrm>
              <a:off x="914400" y="2971800"/>
              <a:ext cx="2270160" cy="1495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47520">
              <a:solidFill>
                <a:srgbClr val="ff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1323720" y="3117960"/>
              <a:ext cx="1598760" cy="1241640"/>
              <a:chOff x="1323720" y="3117960"/>
              <a:chExt cx="1598760" cy="1241640"/>
            </a:xfrm>
          </p:grpSpPr>
          <p:sp>
            <p:nvSpPr>
              <p:cNvPr id="448" name=""/>
              <p:cNvSpPr/>
              <p:nvPr/>
            </p:nvSpPr>
            <p:spPr>
              <a:xfrm>
                <a:off x="1326960" y="3635640"/>
                <a:ext cx="1592280" cy="701640"/>
              </a:xfrm>
              <a:custGeom>
                <a:avLst/>
                <a:gdLst/>
                <a:ahLst/>
                <a:rect l="l" t="t" r="r" b="b"/>
                <a:pathLst>
                  <a:path w="1003" h="442">
                    <a:moveTo>
                      <a:pt x="0" y="102"/>
                    </a:moveTo>
                    <a:lnTo>
                      <a:pt x="506" y="441"/>
                    </a:lnTo>
                    <a:lnTo>
                      <a:pt x="1002" y="111"/>
                    </a:lnTo>
                    <a:lnTo>
                      <a:pt x="462" y="0"/>
                    </a:ln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26960" y="3797280"/>
                <a:ext cx="804960" cy="562320"/>
              </a:xfrm>
              <a:custGeom>
                <a:avLst/>
                <a:gdLst/>
                <a:ahLst/>
                <a:rect l="l" t="t" r="r" b="b"/>
                <a:pathLst>
                  <a:path w="507" h="354">
                    <a:moveTo>
                      <a:pt x="0" y="0"/>
                    </a:moveTo>
                    <a:lnTo>
                      <a:pt x="506" y="339"/>
                    </a:lnTo>
                    <a:lnTo>
                      <a:pt x="506" y="35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30480" y="3813480"/>
                <a:ext cx="792000" cy="546120"/>
              </a:xfrm>
              <a:custGeom>
                <a:avLst/>
                <a:gdLst/>
                <a:ahLst/>
                <a:rect l="l" t="t" r="r" b="b"/>
                <a:pathLst>
                  <a:path w="499" h="344">
                    <a:moveTo>
                      <a:pt x="0" y="329"/>
                    </a:moveTo>
                    <a:lnTo>
                      <a:pt x="498" y="0"/>
                    </a:lnTo>
                    <a:lnTo>
                      <a:pt x="498" y="12"/>
                    </a:lnTo>
                    <a:lnTo>
                      <a:pt x="0" y="343"/>
                    </a:lnTo>
                    <a:lnTo>
                      <a:pt x="0" y="329"/>
                    </a:lnTo>
                    <a:lnTo>
                      <a:pt x="0" y="329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71600" y="3773520"/>
                <a:ext cx="779400" cy="532080"/>
              </a:xfrm>
              <a:custGeom>
                <a:avLst/>
                <a:gdLst/>
                <a:ahLst/>
                <a:rect l="l" t="t" r="r" b="b"/>
                <a:pathLst>
                  <a:path w="491" h="335">
                    <a:moveTo>
                      <a:pt x="0" y="0"/>
                    </a:moveTo>
                    <a:lnTo>
                      <a:pt x="0" y="18"/>
                    </a:lnTo>
                    <a:lnTo>
                      <a:pt x="490" y="334"/>
                    </a:lnTo>
                    <a:lnTo>
                      <a:pt x="490" y="2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49200" y="4164120"/>
                <a:ext cx="106560" cy="146160"/>
              </a:xfrm>
              <a:custGeom>
                <a:avLst/>
                <a:gdLst/>
                <a:ahLst/>
                <a:rect l="l" t="t" r="r" b="b"/>
                <a:pathLst>
                  <a:path w="67" h="92">
                    <a:moveTo>
                      <a:pt x="0" y="38"/>
                    </a:moveTo>
                    <a:lnTo>
                      <a:pt x="66" y="0"/>
                    </a:lnTo>
                    <a:lnTo>
                      <a:pt x="66" y="48"/>
                    </a:lnTo>
                    <a:lnTo>
                      <a:pt x="0" y="91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30480" y="3753000"/>
                <a:ext cx="787320" cy="485640"/>
              </a:xfrm>
              <a:custGeom>
                <a:avLst/>
                <a:gdLst/>
                <a:ahLst/>
                <a:rect l="l" t="t" r="r" b="b"/>
                <a:pathLst>
                  <a:path w="496" h="306">
                    <a:moveTo>
                      <a:pt x="0" y="293"/>
                    </a:moveTo>
                    <a:lnTo>
                      <a:pt x="495" y="0"/>
                    </a:lnTo>
                    <a:lnTo>
                      <a:pt x="495" y="9"/>
                    </a:lnTo>
                    <a:lnTo>
                      <a:pt x="0" y="305"/>
                    </a:lnTo>
                    <a:lnTo>
                      <a:pt x="0" y="293"/>
                    </a:lnTo>
                    <a:lnTo>
                      <a:pt x="0" y="293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23720" y="3587760"/>
                <a:ext cx="1594080" cy="631800"/>
              </a:xfrm>
              <a:custGeom>
                <a:avLst/>
                <a:gdLst/>
                <a:ahLst/>
                <a:rect l="l" t="t" r="r" b="b"/>
                <a:pathLst>
                  <a:path w="1004" h="398">
                    <a:moveTo>
                      <a:pt x="0" y="90"/>
                    </a:moveTo>
                    <a:lnTo>
                      <a:pt x="464" y="0"/>
                    </a:lnTo>
                    <a:lnTo>
                      <a:pt x="1003" y="104"/>
                    </a:lnTo>
                    <a:lnTo>
                      <a:pt x="508" y="397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98760" y="3956040"/>
                <a:ext cx="106200" cy="127080"/>
              </a:xfrm>
              <a:custGeom>
                <a:avLst/>
                <a:gdLst/>
                <a:ahLst/>
                <a:rect l="l" t="t" r="r" b="b"/>
                <a:pathLst>
                  <a:path w="67" h="80">
                    <a:moveTo>
                      <a:pt x="1" y="38"/>
                    </a:moveTo>
                    <a:lnTo>
                      <a:pt x="0" y="79"/>
                    </a:lnTo>
                    <a:lnTo>
                      <a:pt x="66" y="38"/>
                    </a:lnTo>
                    <a:lnTo>
                      <a:pt x="66" y="0"/>
                    </a:lnTo>
                    <a:lnTo>
                      <a:pt x="1" y="38"/>
                    </a:lnTo>
                    <a:lnTo>
                      <a:pt x="1" y="38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35040" y="40165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1" y="41"/>
                    </a:moveTo>
                    <a:lnTo>
                      <a:pt x="0" y="24"/>
                    </a:lnTo>
                    <a:lnTo>
                      <a:pt x="41" y="0"/>
                    </a:lnTo>
                    <a:lnTo>
                      <a:pt x="41" y="41"/>
                    </a:lnTo>
                    <a:lnTo>
                      <a:pt x="41" y="41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36800" y="377856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39" h="55">
                    <a:moveTo>
                      <a:pt x="38" y="0"/>
                    </a:moveTo>
                    <a:lnTo>
                      <a:pt x="38" y="29"/>
                    </a:lnTo>
                    <a:lnTo>
                      <a:pt x="0" y="54"/>
                    </a:lnTo>
                    <a:lnTo>
                      <a:pt x="0" y="23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82800" y="3814920"/>
                <a:ext cx="5544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34" y="3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4" y="31"/>
                    </a:lnTo>
                    <a:lnTo>
                      <a:pt x="34" y="31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23720" y="3730680"/>
                <a:ext cx="808200" cy="511200"/>
              </a:xfrm>
              <a:custGeom>
                <a:avLst/>
                <a:gdLst/>
                <a:ahLst/>
                <a:rect l="l" t="t" r="r" b="b"/>
                <a:pathLst>
                  <a:path w="509" h="322">
                    <a:moveTo>
                      <a:pt x="0" y="0"/>
                    </a:moveTo>
                    <a:lnTo>
                      <a:pt x="0" y="9"/>
                    </a:lnTo>
                    <a:lnTo>
                      <a:pt x="508" y="321"/>
                    </a:lnTo>
                    <a:lnTo>
                      <a:pt x="508" y="30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720440" y="3970440"/>
                <a:ext cx="324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006640" y="4145040"/>
                <a:ext cx="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869840" y="4061160"/>
                <a:ext cx="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74640" y="3880080"/>
                <a:ext cx="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47560" y="3802320"/>
                <a:ext cx="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47680" y="3694320"/>
                <a:ext cx="870120" cy="407880"/>
              </a:xfrm>
              <a:custGeom>
                <a:avLst/>
                <a:gdLst/>
                <a:ahLst/>
                <a:rect l="l" t="t" r="r" b="b"/>
                <a:pathLst>
                  <a:path w="548" h="257">
                    <a:moveTo>
                      <a:pt x="0" y="256"/>
                    </a:moveTo>
                    <a:lnTo>
                      <a:pt x="176" y="252"/>
                    </a:lnTo>
                    <a:lnTo>
                      <a:pt x="547" y="36"/>
                    </a:lnTo>
                    <a:lnTo>
                      <a:pt x="380" y="0"/>
                    </a:lnTo>
                    <a:lnTo>
                      <a:pt x="0" y="256"/>
                    </a:lnTo>
                    <a:lnTo>
                      <a:pt x="0" y="256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7f60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780920" y="3625920"/>
                <a:ext cx="947880" cy="292320"/>
              </a:xfrm>
              <a:custGeom>
                <a:avLst/>
                <a:gdLst/>
                <a:ahLst/>
                <a:rect l="l" t="t" r="r" b="b"/>
                <a:pathLst>
                  <a:path w="597" h="184">
                    <a:moveTo>
                      <a:pt x="0" y="183"/>
                    </a:moveTo>
                    <a:lnTo>
                      <a:pt x="368" y="159"/>
                    </a:lnTo>
                    <a:lnTo>
                      <a:pt x="596" y="67"/>
                    </a:lnTo>
                    <a:lnTo>
                      <a:pt x="584" y="51"/>
                    </a:lnTo>
                    <a:lnTo>
                      <a:pt x="364" y="15"/>
                    </a:lnTo>
                    <a:lnTo>
                      <a:pt x="288" y="0"/>
                    </a:lnTo>
                    <a:lnTo>
                      <a:pt x="0" y="183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7f60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869480" y="3706920"/>
                <a:ext cx="82260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737720" y="3683160"/>
                <a:ext cx="80820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566720" y="3651480"/>
                <a:ext cx="820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003040" y="3732480"/>
                <a:ext cx="81756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420200" y="3622680"/>
                <a:ext cx="82404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82720" y="3117960"/>
                <a:ext cx="458640" cy="808200"/>
              </a:xfrm>
              <a:custGeom>
                <a:avLst/>
                <a:gdLst/>
                <a:ahLst/>
                <a:rect l="l" t="t" r="r" b="b"/>
                <a:pathLst>
                  <a:path w="289" h="509">
                    <a:moveTo>
                      <a:pt x="0" y="0"/>
                    </a:moveTo>
                    <a:lnTo>
                      <a:pt x="288" y="28"/>
                    </a:lnTo>
                    <a:lnTo>
                      <a:pt x="288" y="409"/>
                    </a:lnTo>
                    <a:lnTo>
                      <a:pt x="0" y="50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50800" y="3117960"/>
                <a:ext cx="333360" cy="808200"/>
              </a:xfrm>
              <a:custGeom>
                <a:avLst/>
                <a:gdLst/>
                <a:ahLst/>
                <a:rect l="l" t="t" r="r" b="b"/>
                <a:pathLst>
                  <a:path w="210" h="509">
                    <a:moveTo>
                      <a:pt x="209" y="0"/>
                    </a:moveTo>
                    <a:lnTo>
                      <a:pt x="0" y="31"/>
                    </a:lnTo>
                    <a:lnTo>
                      <a:pt x="0" y="397"/>
                    </a:lnTo>
                    <a:lnTo>
                      <a:pt x="209" y="508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79320" y="3517920"/>
                <a:ext cx="100080" cy="26208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14" y="149"/>
                    </a:moveTo>
                    <a:lnTo>
                      <a:pt x="14" y="50"/>
                    </a:lnTo>
                    <a:lnTo>
                      <a:pt x="0" y="46"/>
                    </a:lnTo>
                    <a:lnTo>
                      <a:pt x="30" y="0"/>
                    </a:lnTo>
                    <a:lnTo>
                      <a:pt x="62" y="67"/>
                    </a:lnTo>
                    <a:lnTo>
                      <a:pt x="43" y="61"/>
                    </a:lnTo>
                    <a:lnTo>
                      <a:pt x="43" y="164"/>
                    </a:lnTo>
                    <a:lnTo>
                      <a:pt x="14" y="149"/>
                    </a:lnTo>
                    <a:lnTo>
                      <a:pt x="14" y="14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50800" y="311796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210" h="49">
                    <a:moveTo>
                      <a:pt x="0" y="31"/>
                    </a:moveTo>
                    <a:lnTo>
                      <a:pt x="0" y="48"/>
                    </a:lnTo>
                    <a:lnTo>
                      <a:pt x="209" y="23"/>
                    </a:lnTo>
                    <a:lnTo>
                      <a:pt x="209" y="0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82720" y="3117960"/>
                <a:ext cx="458640" cy="71640"/>
              </a:xfrm>
              <a:custGeom>
                <a:avLst/>
                <a:gdLst/>
                <a:ahLst/>
                <a:rect l="l" t="t" r="r" b="b"/>
                <a:pathLst>
                  <a:path w="289" h="45">
                    <a:moveTo>
                      <a:pt x="0" y="23"/>
                    </a:moveTo>
                    <a:lnTo>
                      <a:pt x="288" y="44"/>
                    </a:lnTo>
                    <a:lnTo>
                      <a:pt x="288" y="28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82720" y="3154680"/>
                <a:ext cx="79200" cy="769680"/>
              </a:xfrm>
              <a:custGeom>
                <a:avLst/>
                <a:gdLst/>
                <a:ahLst/>
                <a:rect l="l" t="t" r="r" b="b"/>
                <a:pathLst>
                  <a:path w="50" h="485">
                    <a:moveTo>
                      <a:pt x="0" y="0"/>
                    </a:moveTo>
                    <a:lnTo>
                      <a:pt x="49" y="3"/>
                    </a:lnTo>
                    <a:lnTo>
                      <a:pt x="49" y="467"/>
                    </a:lnTo>
                    <a:lnTo>
                      <a:pt x="1" y="48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176200" y="3183120"/>
                <a:ext cx="65160" cy="608040"/>
              </a:xfrm>
              <a:custGeom>
                <a:avLst/>
                <a:gdLst/>
                <a:ahLst/>
                <a:rect l="l" t="t" r="r" b="b"/>
                <a:pathLst>
                  <a:path w="41" h="383">
                    <a:moveTo>
                      <a:pt x="0" y="0"/>
                    </a:moveTo>
                    <a:lnTo>
                      <a:pt x="40" y="3"/>
                    </a:lnTo>
                    <a:lnTo>
                      <a:pt x="40" y="368"/>
                    </a:lnTo>
                    <a:lnTo>
                      <a:pt x="0" y="38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57480" y="3183120"/>
                <a:ext cx="20520" cy="581040"/>
              </a:xfrm>
              <a:custGeom>
                <a:avLst/>
                <a:gdLst/>
                <a:ahLst/>
                <a:rect l="l" t="t" r="r" b="b"/>
                <a:pathLst>
                  <a:path w="13" h="366">
                    <a:moveTo>
                      <a:pt x="12" y="0"/>
                    </a:moveTo>
                    <a:lnTo>
                      <a:pt x="11" y="365"/>
                    </a:lnTo>
                    <a:lnTo>
                      <a:pt x="0" y="365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60480" y="3159360"/>
                <a:ext cx="317520" cy="30240"/>
              </a:xfrm>
              <a:custGeom>
                <a:avLst/>
                <a:gdLst/>
                <a:ahLst/>
                <a:rect l="l" t="t" r="r" b="b"/>
                <a:pathLst>
                  <a:path w="200" h="19">
                    <a:moveTo>
                      <a:pt x="0" y="0"/>
                    </a:moveTo>
                    <a:lnTo>
                      <a:pt x="199" y="15"/>
                    </a:lnTo>
                    <a:lnTo>
                      <a:pt x="185" y="1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50800" y="3186360"/>
                <a:ext cx="68400" cy="571320"/>
              </a:xfrm>
              <a:custGeom>
                <a:avLst/>
                <a:gdLst/>
                <a:ahLst/>
                <a:rect l="l" t="t" r="r" b="b"/>
                <a:pathLst>
                  <a:path w="43" h="360">
                    <a:moveTo>
                      <a:pt x="0" y="5"/>
                    </a:moveTo>
                    <a:lnTo>
                      <a:pt x="42" y="0"/>
                    </a:lnTo>
                    <a:lnTo>
                      <a:pt x="42" y="359"/>
                    </a:lnTo>
                    <a:lnTo>
                      <a:pt x="0" y="339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17400" y="3160800"/>
                <a:ext cx="211320" cy="31680"/>
              </a:xfrm>
              <a:custGeom>
                <a:avLst/>
                <a:gdLst/>
                <a:ahLst/>
                <a:rect l="l" t="t" r="r" b="b"/>
                <a:pathLst>
                  <a:path w="133" h="20">
                    <a:moveTo>
                      <a:pt x="0" y="16"/>
                    </a:moveTo>
                    <a:lnTo>
                      <a:pt x="11" y="19"/>
                    </a:lnTo>
                    <a:lnTo>
                      <a:pt x="132" y="5"/>
                    </a:lnTo>
                    <a:lnTo>
                      <a:pt x="132" y="0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26920" y="3154680"/>
                <a:ext cx="59040" cy="769680"/>
              </a:xfrm>
              <a:custGeom>
                <a:avLst/>
                <a:gdLst/>
                <a:ahLst/>
                <a:rect l="l" t="t" r="r" b="b"/>
                <a:pathLst>
                  <a:path w="37" h="485">
                    <a:moveTo>
                      <a:pt x="0" y="4"/>
                    </a:moveTo>
                    <a:lnTo>
                      <a:pt x="35" y="0"/>
                    </a:lnTo>
                    <a:lnTo>
                      <a:pt x="36" y="484"/>
                    </a:lnTo>
                    <a:lnTo>
                      <a:pt x="0" y="46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17400" y="3186360"/>
                <a:ext cx="19080" cy="571320"/>
              </a:xfrm>
              <a:custGeom>
                <a:avLst/>
                <a:gdLst/>
                <a:ahLst/>
                <a:rect l="l" t="t" r="r" b="b"/>
                <a:pathLst>
                  <a:path w="12" h="360">
                    <a:moveTo>
                      <a:pt x="0" y="0"/>
                    </a:moveTo>
                    <a:lnTo>
                      <a:pt x="11" y="3"/>
                    </a:lnTo>
                    <a:lnTo>
                      <a:pt x="11" y="357"/>
                    </a:lnTo>
                    <a:lnTo>
                      <a:pt x="0" y="35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17400" y="3753000"/>
                <a:ext cx="211320" cy="109440"/>
              </a:xfrm>
              <a:custGeom>
                <a:avLst/>
                <a:gdLst/>
                <a:ahLst/>
                <a:rect l="l" t="t" r="r" b="b"/>
                <a:pathLst>
                  <a:path w="133" h="69">
                    <a:moveTo>
                      <a:pt x="0" y="2"/>
                    </a:moveTo>
                    <a:lnTo>
                      <a:pt x="11" y="0"/>
                    </a:lnTo>
                    <a:lnTo>
                      <a:pt x="132" y="58"/>
                    </a:lnTo>
                    <a:lnTo>
                      <a:pt x="132" y="6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50800" y="3724560"/>
                <a:ext cx="335160" cy="201600"/>
              </a:xfrm>
              <a:custGeom>
                <a:avLst/>
                <a:gdLst/>
                <a:ahLst/>
                <a:rect l="l" t="t" r="r" b="b"/>
                <a:pathLst>
                  <a:path w="211" h="127">
                    <a:moveTo>
                      <a:pt x="0" y="0"/>
                    </a:moveTo>
                    <a:lnTo>
                      <a:pt x="0" y="15"/>
                    </a:lnTo>
                    <a:lnTo>
                      <a:pt x="210" y="126"/>
                    </a:lnTo>
                    <a:lnTo>
                      <a:pt x="210" y="10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60480" y="3762360"/>
                <a:ext cx="315720" cy="100080"/>
              </a:xfrm>
              <a:custGeom>
                <a:avLst/>
                <a:gdLst/>
                <a:ahLst/>
                <a:rect l="l" t="t" r="r" b="b"/>
                <a:pathLst>
                  <a:path w="199" h="63">
                    <a:moveTo>
                      <a:pt x="198" y="0"/>
                    </a:moveTo>
                    <a:lnTo>
                      <a:pt x="186" y="0"/>
                    </a:lnTo>
                    <a:lnTo>
                      <a:pt x="0" y="57"/>
                    </a:lnTo>
                    <a:lnTo>
                      <a:pt x="0" y="62"/>
                    </a:lnTo>
                    <a:lnTo>
                      <a:pt x="198" y="0"/>
                    </a:lnTo>
                    <a:lnTo>
                      <a:pt x="198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57240" y="3762360"/>
                <a:ext cx="318960" cy="135000"/>
              </a:xfrm>
              <a:custGeom>
                <a:avLst/>
                <a:gdLst/>
                <a:ahLst/>
                <a:rect l="l" t="t" r="r" b="b"/>
                <a:pathLst>
                  <a:path w="201" h="85">
                    <a:moveTo>
                      <a:pt x="0" y="62"/>
                    </a:moveTo>
                    <a:lnTo>
                      <a:pt x="0" y="84"/>
                    </a:lnTo>
                    <a:lnTo>
                      <a:pt x="200" y="16"/>
                    </a:lnTo>
                    <a:lnTo>
                      <a:pt x="200" y="0"/>
                    </a:lnTo>
                    <a:lnTo>
                      <a:pt x="0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38200" y="3397320"/>
                <a:ext cx="308160" cy="603360"/>
              </a:xfrm>
              <a:custGeom>
                <a:avLst/>
                <a:gdLst/>
                <a:ahLst/>
                <a:rect l="l" t="t" r="r" b="b"/>
                <a:pathLst>
                  <a:path w="194" h="380">
                    <a:moveTo>
                      <a:pt x="0" y="379"/>
                    </a:moveTo>
                    <a:lnTo>
                      <a:pt x="0" y="21"/>
                    </a:lnTo>
                    <a:lnTo>
                      <a:pt x="193" y="0"/>
                    </a:lnTo>
                    <a:lnTo>
                      <a:pt x="193" y="274"/>
                    </a:lnTo>
                    <a:lnTo>
                      <a:pt x="0" y="379"/>
                    </a:lnTo>
                    <a:lnTo>
                      <a:pt x="0" y="379"/>
                    </a:lnTo>
                  </a:path>
                </a:pathLst>
              </a:custGeom>
              <a:solidFill>
                <a:srgbClr val="824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74680" y="3383280"/>
                <a:ext cx="571680" cy="48960"/>
              </a:xfrm>
              <a:custGeom>
                <a:avLst/>
                <a:gdLst/>
                <a:ahLst/>
                <a:rect l="l" t="t" r="r" b="b"/>
                <a:pathLst>
                  <a:path w="360" h="31">
                    <a:moveTo>
                      <a:pt x="166" y="30"/>
                    </a:moveTo>
                    <a:lnTo>
                      <a:pt x="359" y="9"/>
                    </a:lnTo>
                    <a:lnTo>
                      <a:pt x="182" y="0"/>
                    </a:lnTo>
                    <a:lnTo>
                      <a:pt x="0" y="16"/>
                    </a:lnTo>
                    <a:lnTo>
                      <a:pt x="166" y="30"/>
                    </a:lnTo>
                    <a:lnTo>
                      <a:pt x="166" y="30"/>
                    </a:lnTo>
                  </a:path>
                </a:pathLst>
              </a:custGeom>
              <a:solidFill>
                <a:srgbClr val="ff8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74680" y="3408480"/>
                <a:ext cx="265320" cy="592200"/>
              </a:xfrm>
              <a:custGeom>
                <a:avLst/>
                <a:gdLst/>
                <a:ahLst/>
                <a:rect l="l" t="t" r="r" b="b"/>
                <a:pathLst>
                  <a:path w="167" h="373">
                    <a:moveTo>
                      <a:pt x="0" y="0"/>
                    </a:moveTo>
                    <a:lnTo>
                      <a:pt x="0" y="305"/>
                    </a:lnTo>
                    <a:lnTo>
                      <a:pt x="166" y="372"/>
                    </a:lnTo>
                    <a:lnTo>
                      <a:pt x="166" y="1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4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20880" y="3668760"/>
                <a:ext cx="458640" cy="135000"/>
              </a:xfrm>
              <a:custGeom>
                <a:avLst/>
                <a:gdLst/>
                <a:ahLst/>
                <a:rect l="l" t="t" r="r" b="b"/>
                <a:pathLst>
                  <a:path w="289" h="85">
                    <a:moveTo>
                      <a:pt x="0" y="34"/>
                    </a:moveTo>
                    <a:lnTo>
                      <a:pt x="133" y="0"/>
                    </a:lnTo>
                    <a:lnTo>
                      <a:pt x="288" y="39"/>
                    </a:lnTo>
                    <a:lnTo>
                      <a:pt x="143" y="8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20880" y="3722760"/>
                <a:ext cx="228600" cy="384120"/>
              </a:xfrm>
              <a:custGeom>
                <a:avLst/>
                <a:gdLst/>
                <a:ahLst/>
                <a:rect l="l" t="t" r="r" b="b"/>
                <a:pathLst>
                  <a:path w="144" h="242">
                    <a:moveTo>
                      <a:pt x="0" y="0"/>
                    </a:moveTo>
                    <a:lnTo>
                      <a:pt x="143" y="50"/>
                    </a:lnTo>
                    <a:lnTo>
                      <a:pt x="143" y="241"/>
                    </a:lnTo>
                    <a:lnTo>
                      <a:pt x="0" y="16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0b1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47680" y="3730680"/>
                <a:ext cx="231840" cy="376200"/>
              </a:xfrm>
              <a:custGeom>
                <a:avLst/>
                <a:gdLst/>
                <a:ahLst/>
                <a:rect l="l" t="t" r="r" b="b"/>
                <a:pathLst>
                  <a:path w="146" h="237">
                    <a:moveTo>
                      <a:pt x="0" y="45"/>
                    </a:moveTo>
                    <a:lnTo>
                      <a:pt x="145" y="0"/>
                    </a:lnTo>
                    <a:lnTo>
                      <a:pt x="145" y="156"/>
                    </a:lnTo>
                    <a:lnTo>
                      <a:pt x="0" y="236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7f604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857160" y="2895480"/>
            <a:ext cx="38862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08080" indent="-208080"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80"/>
                </a:solidFill>
                <a:latin typeface="Times New Roman"/>
              </a:rPr>
              <a:t>Consumidores (preferencias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882720" y="4870440"/>
            <a:ext cx="2546280" cy="1530360"/>
            <a:chOff x="882720" y="4870440"/>
            <a:chExt cx="2546280" cy="1530360"/>
          </a:xfrm>
        </p:grpSpPr>
        <p:sp>
          <p:nvSpPr>
            <p:cNvPr id="497" name=""/>
            <p:cNvSpPr/>
            <p:nvPr/>
          </p:nvSpPr>
          <p:spPr>
            <a:xfrm>
              <a:off x="882720" y="4870440"/>
              <a:ext cx="2546280" cy="1530360"/>
            </a:xfrm>
            <a:prstGeom prst="ellipse">
              <a:avLst/>
            </a:prstGeom>
            <a:solidFill>
              <a:srgbClr val="ffffc2"/>
            </a:solidFill>
            <a:ln w="3168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413000" y="5059440"/>
              <a:ext cx="1536480" cy="1076400"/>
              <a:chOff x="1413000" y="5059440"/>
              <a:chExt cx="1536480" cy="1076400"/>
            </a:xfrm>
          </p:grpSpPr>
          <p:sp>
            <p:nvSpPr>
              <p:cNvPr id="499" name=""/>
              <p:cNvSpPr/>
              <p:nvPr/>
            </p:nvSpPr>
            <p:spPr>
              <a:xfrm>
                <a:off x="2311560" y="5364360"/>
                <a:ext cx="623880" cy="631800"/>
              </a:xfrm>
              <a:custGeom>
                <a:avLst/>
                <a:gdLst/>
                <a:ahLst/>
                <a:rect l="l" t="t" r="r" b="b"/>
                <a:pathLst>
                  <a:path w="393" h="398">
                    <a:moveTo>
                      <a:pt x="44" y="55"/>
                    </a:moveTo>
                    <a:lnTo>
                      <a:pt x="90" y="32"/>
                    </a:lnTo>
                    <a:lnTo>
                      <a:pt x="104" y="28"/>
                    </a:lnTo>
                    <a:lnTo>
                      <a:pt x="129" y="15"/>
                    </a:lnTo>
                    <a:lnTo>
                      <a:pt x="204" y="0"/>
                    </a:lnTo>
                    <a:lnTo>
                      <a:pt x="222" y="11"/>
                    </a:lnTo>
                    <a:lnTo>
                      <a:pt x="262" y="26"/>
                    </a:lnTo>
                    <a:lnTo>
                      <a:pt x="324" y="52"/>
                    </a:lnTo>
                    <a:lnTo>
                      <a:pt x="346" y="85"/>
                    </a:lnTo>
                    <a:lnTo>
                      <a:pt x="357" y="134"/>
                    </a:lnTo>
                    <a:lnTo>
                      <a:pt x="374" y="164"/>
                    </a:lnTo>
                    <a:lnTo>
                      <a:pt x="384" y="203"/>
                    </a:lnTo>
                    <a:lnTo>
                      <a:pt x="392" y="218"/>
                    </a:lnTo>
                    <a:lnTo>
                      <a:pt x="390" y="251"/>
                    </a:lnTo>
                    <a:lnTo>
                      <a:pt x="385" y="278"/>
                    </a:lnTo>
                    <a:lnTo>
                      <a:pt x="342" y="365"/>
                    </a:lnTo>
                    <a:lnTo>
                      <a:pt x="336" y="370"/>
                    </a:lnTo>
                    <a:lnTo>
                      <a:pt x="311" y="370"/>
                    </a:lnTo>
                    <a:lnTo>
                      <a:pt x="165" y="397"/>
                    </a:lnTo>
                    <a:lnTo>
                      <a:pt x="70" y="364"/>
                    </a:lnTo>
                    <a:lnTo>
                      <a:pt x="48" y="336"/>
                    </a:lnTo>
                    <a:lnTo>
                      <a:pt x="0" y="238"/>
                    </a:lnTo>
                    <a:lnTo>
                      <a:pt x="26" y="74"/>
                    </a:lnTo>
                    <a:lnTo>
                      <a:pt x="44" y="55"/>
                    </a:lnTo>
                    <a:lnTo>
                      <a:pt x="44" y="5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32040" y="5408640"/>
                <a:ext cx="203400" cy="544680"/>
              </a:xfrm>
              <a:custGeom>
                <a:avLst/>
                <a:gdLst/>
                <a:ahLst/>
                <a:rect l="l" t="t" r="r" b="b"/>
                <a:pathLst>
                  <a:path w="128" h="343">
                    <a:moveTo>
                      <a:pt x="0" y="0"/>
                    </a:moveTo>
                    <a:lnTo>
                      <a:pt x="46" y="24"/>
                    </a:lnTo>
                    <a:lnTo>
                      <a:pt x="34" y="40"/>
                    </a:lnTo>
                    <a:lnTo>
                      <a:pt x="57" y="41"/>
                    </a:lnTo>
                    <a:lnTo>
                      <a:pt x="71" y="76"/>
                    </a:lnTo>
                    <a:lnTo>
                      <a:pt x="73" y="134"/>
                    </a:lnTo>
                    <a:lnTo>
                      <a:pt x="81" y="140"/>
                    </a:lnTo>
                    <a:lnTo>
                      <a:pt x="81" y="172"/>
                    </a:lnTo>
                    <a:lnTo>
                      <a:pt x="72" y="182"/>
                    </a:lnTo>
                    <a:lnTo>
                      <a:pt x="95" y="188"/>
                    </a:lnTo>
                    <a:lnTo>
                      <a:pt x="109" y="208"/>
                    </a:lnTo>
                    <a:lnTo>
                      <a:pt x="81" y="204"/>
                    </a:lnTo>
                    <a:lnTo>
                      <a:pt x="77" y="216"/>
                    </a:lnTo>
                    <a:lnTo>
                      <a:pt x="92" y="230"/>
                    </a:lnTo>
                    <a:lnTo>
                      <a:pt x="87" y="260"/>
                    </a:lnTo>
                    <a:lnTo>
                      <a:pt x="70" y="251"/>
                    </a:lnTo>
                    <a:lnTo>
                      <a:pt x="34" y="313"/>
                    </a:lnTo>
                    <a:lnTo>
                      <a:pt x="73" y="342"/>
                    </a:lnTo>
                    <a:lnTo>
                      <a:pt x="85" y="321"/>
                    </a:lnTo>
                    <a:lnTo>
                      <a:pt x="127" y="232"/>
                    </a:lnTo>
                    <a:lnTo>
                      <a:pt x="127" y="185"/>
                    </a:lnTo>
                    <a:lnTo>
                      <a:pt x="111" y="159"/>
                    </a:lnTo>
                    <a:lnTo>
                      <a:pt x="93" y="105"/>
                    </a:lnTo>
                    <a:lnTo>
                      <a:pt x="76" y="51"/>
                    </a:lnTo>
                    <a:lnTo>
                      <a:pt x="60" y="26"/>
                    </a:lnTo>
                    <a:lnTo>
                      <a:pt x="48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78320" y="5424480"/>
                <a:ext cx="277560" cy="497160"/>
              </a:xfrm>
              <a:custGeom>
                <a:avLst/>
                <a:gdLst/>
                <a:ahLst/>
                <a:rect l="l" t="t" r="r" b="b"/>
                <a:pathLst>
                  <a:path w="175" h="313">
                    <a:moveTo>
                      <a:pt x="67" y="0"/>
                    </a:moveTo>
                    <a:lnTo>
                      <a:pt x="77" y="44"/>
                    </a:lnTo>
                    <a:lnTo>
                      <a:pt x="40" y="149"/>
                    </a:lnTo>
                    <a:lnTo>
                      <a:pt x="0" y="266"/>
                    </a:lnTo>
                    <a:lnTo>
                      <a:pt x="65" y="141"/>
                    </a:lnTo>
                    <a:lnTo>
                      <a:pt x="80" y="178"/>
                    </a:lnTo>
                    <a:lnTo>
                      <a:pt x="43" y="303"/>
                    </a:lnTo>
                    <a:lnTo>
                      <a:pt x="108" y="223"/>
                    </a:lnTo>
                    <a:lnTo>
                      <a:pt x="113" y="259"/>
                    </a:lnTo>
                    <a:lnTo>
                      <a:pt x="92" y="309"/>
                    </a:lnTo>
                    <a:lnTo>
                      <a:pt x="123" y="312"/>
                    </a:lnTo>
                    <a:lnTo>
                      <a:pt x="112" y="288"/>
                    </a:lnTo>
                    <a:lnTo>
                      <a:pt x="132" y="246"/>
                    </a:lnTo>
                    <a:lnTo>
                      <a:pt x="136" y="204"/>
                    </a:lnTo>
                    <a:lnTo>
                      <a:pt x="149" y="190"/>
                    </a:lnTo>
                    <a:lnTo>
                      <a:pt x="174" y="173"/>
                    </a:lnTo>
                    <a:lnTo>
                      <a:pt x="172" y="163"/>
                    </a:lnTo>
                    <a:lnTo>
                      <a:pt x="146" y="165"/>
                    </a:lnTo>
                    <a:lnTo>
                      <a:pt x="120" y="92"/>
                    </a:lnTo>
                    <a:lnTo>
                      <a:pt x="123" y="37"/>
                    </a:lnTo>
                    <a:lnTo>
                      <a:pt x="98" y="82"/>
                    </a:lnTo>
                    <a:lnTo>
                      <a:pt x="92" y="56"/>
                    </a:lnTo>
                    <a:lnTo>
                      <a:pt x="90" y="31"/>
                    </a:lnTo>
                    <a:lnTo>
                      <a:pt x="76" y="0"/>
                    </a:lnTo>
                    <a:lnTo>
                      <a:pt x="67" y="0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22720" y="555804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29" y="26"/>
                    </a:moveTo>
                    <a:lnTo>
                      <a:pt x="48" y="60"/>
                    </a:lnTo>
                    <a:lnTo>
                      <a:pt x="35" y="65"/>
                    </a:lnTo>
                    <a:lnTo>
                      <a:pt x="46" y="92"/>
                    </a:lnTo>
                    <a:lnTo>
                      <a:pt x="13" y="90"/>
                    </a:lnTo>
                    <a:lnTo>
                      <a:pt x="0" y="99"/>
                    </a:lnTo>
                    <a:lnTo>
                      <a:pt x="3" y="119"/>
                    </a:lnTo>
                    <a:lnTo>
                      <a:pt x="39" y="124"/>
                    </a:lnTo>
                    <a:lnTo>
                      <a:pt x="18" y="151"/>
                    </a:lnTo>
                    <a:lnTo>
                      <a:pt x="47" y="148"/>
                    </a:lnTo>
                    <a:lnTo>
                      <a:pt x="35" y="176"/>
                    </a:lnTo>
                    <a:lnTo>
                      <a:pt x="39" y="187"/>
                    </a:lnTo>
                    <a:lnTo>
                      <a:pt x="49" y="156"/>
                    </a:lnTo>
                    <a:lnTo>
                      <a:pt x="68" y="196"/>
                    </a:lnTo>
                    <a:lnTo>
                      <a:pt x="70" y="147"/>
                    </a:lnTo>
                    <a:lnTo>
                      <a:pt x="68" y="102"/>
                    </a:lnTo>
                    <a:lnTo>
                      <a:pt x="60" y="81"/>
                    </a:lnTo>
                    <a:lnTo>
                      <a:pt x="66" y="61"/>
                    </a:lnTo>
                    <a:lnTo>
                      <a:pt x="34" y="0"/>
                    </a:lnTo>
                    <a:lnTo>
                      <a:pt x="29" y="26"/>
                    </a:lnTo>
                    <a:lnTo>
                      <a:pt x="29" y="26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40000" y="5451480"/>
                <a:ext cx="73080" cy="252360"/>
              </a:xfrm>
              <a:custGeom>
                <a:avLst/>
                <a:gdLst/>
                <a:ahLst/>
                <a:rect l="l" t="t" r="r" b="b"/>
                <a:pathLst>
                  <a:path w="46" h="159">
                    <a:moveTo>
                      <a:pt x="28" y="0"/>
                    </a:moveTo>
                    <a:lnTo>
                      <a:pt x="30" y="32"/>
                    </a:lnTo>
                    <a:lnTo>
                      <a:pt x="45" y="109"/>
                    </a:lnTo>
                    <a:lnTo>
                      <a:pt x="24" y="73"/>
                    </a:lnTo>
                    <a:lnTo>
                      <a:pt x="20" y="103"/>
                    </a:lnTo>
                    <a:lnTo>
                      <a:pt x="10" y="128"/>
                    </a:lnTo>
                    <a:lnTo>
                      <a:pt x="11" y="149"/>
                    </a:lnTo>
                    <a:lnTo>
                      <a:pt x="2" y="158"/>
                    </a:lnTo>
                    <a:lnTo>
                      <a:pt x="0" y="124"/>
                    </a:lnTo>
                    <a:lnTo>
                      <a:pt x="12" y="90"/>
                    </a:lnTo>
                    <a:lnTo>
                      <a:pt x="15" y="25"/>
                    </a:lnTo>
                    <a:lnTo>
                      <a:pt x="20" y="9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19560" y="5907240"/>
                <a:ext cx="417240" cy="226800"/>
              </a:xfrm>
              <a:custGeom>
                <a:avLst/>
                <a:gdLst/>
                <a:ahLst/>
                <a:rect l="l" t="t" r="r" b="b"/>
                <a:pathLst>
                  <a:path w="263" h="143">
                    <a:moveTo>
                      <a:pt x="262" y="142"/>
                    </a:moveTo>
                    <a:lnTo>
                      <a:pt x="252" y="35"/>
                    </a:lnTo>
                    <a:lnTo>
                      <a:pt x="224" y="0"/>
                    </a:lnTo>
                    <a:lnTo>
                      <a:pt x="167" y="10"/>
                    </a:lnTo>
                    <a:lnTo>
                      <a:pt x="127" y="22"/>
                    </a:lnTo>
                    <a:lnTo>
                      <a:pt x="96" y="22"/>
                    </a:lnTo>
                    <a:lnTo>
                      <a:pt x="48" y="24"/>
                    </a:lnTo>
                    <a:lnTo>
                      <a:pt x="15" y="12"/>
                    </a:lnTo>
                    <a:lnTo>
                      <a:pt x="7" y="45"/>
                    </a:lnTo>
                    <a:lnTo>
                      <a:pt x="4" y="71"/>
                    </a:lnTo>
                    <a:lnTo>
                      <a:pt x="0" y="142"/>
                    </a:lnTo>
                    <a:lnTo>
                      <a:pt x="262" y="142"/>
                    </a:lnTo>
                    <a:lnTo>
                      <a:pt x="262" y="142"/>
                    </a:lnTo>
                  </a:path>
                </a:pathLst>
              </a:custGeom>
              <a:solidFill>
                <a:srgbClr val="4f4f4f"/>
              </a:solidFill>
              <a:ln w="936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51240" y="5411880"/>
                <a:ext cx="102960" cy="576360"/>
              </a:xfrm>
              <a:custGeom>
                <a:avLst/>
                <a:gdLst/>
                <a:ahLst/>
                <a:rect l="l" t="t" r="r" b="b"/>
                <a:pathLst>
                  <a:path w="65" h="363">
                    <a:moveTo>
                      <a:pt x="45" y="4"/>
                    </a:moveTo>
                    <a:lnTo>
                      <a:pt x="45" y="10"/>
                    </a:lnTo>
                    <a:lnTo>
                      <a:pt x="50" y="25"/>
                    </a:lnTo>
                    <a:lnTo>
                      <a:pt x="41" y="45"/>
                    </a:lnTo>
                    <a:lnTo>
                      <a:pt x="28" y="90"/>
                    </a:lnTo>
                    <a:lnTo>
                      <a:pt x="21" y="138"/>
                    </a:lnTo>
                    <a:lnTo>
                      <a:pt x="16" y="230"/>
                    </a:lnTo>
                    <a:lnTo>
                      <a:pt x="12" y="270"/>
                    </a:lnTo>
                    <a:lnTo>
                      <a:pt x="5" y="310"/>
                    </a:lnTo>
                    <a:lnTo>
                      <a:pt x="0" y="332"/>
                    </a:lnTo>
                    <a:lnTo>
                      <a:pt x="32" y="362"/>
                    </a:lnTo>
                    <a:lnTo>
                      <a:pt x="63" y="329"/>
                    </a:lnTo>
                    <a:lnTo>
                      <a:pt x="52" y="239"/>
                    </a:lnTo>
                    <a:lnTo>
                      <a:pt x="46" y="171"/>
                    </a:lnTo>
                    <a:lnTo>
                      <a:pt x="48" y="125"/>
                    </a:lnTo>
                    <a:lnTo>
                      <a:pt x="56" y="74"/>
                    </a:lnTo>
                    <a:lnTo>
                      <a:pt x="56" y="48"/>
                    </a:lnTo>
                    <a:lnTo>
                      <a:pt x="53" y="30"/>
                    </a:lnTo>
                    <a:lnTo>
                      <a:pt x="55" y="19"/>
                    </a:lnTo>
                    <a:lnTo>
                      <a:pt x="64" y="14"/>
                    </a:lnTo>
                    <a:lnTo>
                      <a:pt x="64" y="5"/>
                    </a:lnTo>
                    <a:lnTo>
                      <a:pt x="63" y="0"/>
                    </a:lnTo>
                    <a:lnTo>
                      <a:pt x="45" y="4"/>
                    </a:lnTo>
                    <a:lnTo>
                      <a:pt x="45" y="4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35200" y="5904000"/>
                <a:ext cx="209520" cy="12060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85" y="0"/>
                    </a:moveTo>
                    <a:lnTo>
                      <a:pt x="72" y="7"/>
                    </a:lnTo>
                    <a:lnTo>
                      <a:pt x="31" y="0"/>
                    </a:lnTo>
                    <a:lnTo>
                      <a:pt x="3" y="9"/>
                    </a:lnTo>
                    <a:lnTo>
                      <a:pt x="8" y="19"/>
                    </a:lnTo>
                    <a:lnTo>
                      <a:pt x="37" y="12"/>
                    </a:lnTo>
                    <a:lnTo>
                      <a:pt x="59" y="19"/>
                    </a:lnTo>
                    <a:lnTo>
                      <a:pt x="53" y="22"/>
                    </a:lnTo>
                    <a:lnTo>
                      <a:pt x="23" y="38"/>
                    </a:lnTo>
                    <a:lnTo>
                      <a:pt x="0" y="55"/>
                    </a:lnTo>
                    <a:lnTo>
                      <a:pt x="7" y="57"/>
                    </a:lnTo>
                    <a:lnTo>
                      <a:pt x="58" y="37"/>
                    </a:lnTo>
                    <a:lnTo>
                      <a:pt x="49" y="48"/>
                    </a:lnTo>
                    <a:lnTo>
                      <a:pt x="18" y="68"/>
                    </a:lnTo>
                    <a:lnTo>
                      <a:pt x="24" y="73"/>
                    </a:lnTo>
                    <a:lnTo>
                      <a:pt x="41" y="69"/>
                    </a:lnTo>
                    <a:lnTo>
                      <a:pt x="50" y="75"/>
                    </a:lnTo>
                    <a:lnTo>
                      <a:pt x="92" y="60"/>
                    </a:lnTo>
                    <a:lnTo>
                      <a:pt x="131" y="28"/>
                    </a:lnTo>
                    <a:lnTo>
                      <a:pt x="100" y="7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00480" y="5878800"/>
                <a:ext cx="44280" cy="11088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18" y="0"/>
                    </a:moveTo>
                    <a:lnTo>
                      <a:pt x="18" y="23"/>
                    </a:lnTo>
                    <a:lnTo>
                      <a:pt x="27" y="33"/>
                    </a:lnTo>
                    <a:lnTo>
                      <a:pt x="17" y="69"/>
                    </a:lnTo>
                    <a:lnTo>
                      <a:pt x="3" y="53"/>
                    </a:lnTo>
                    <a:lnTo>
                      <a:pt x="0" y="38"/>
                    </a:lnTo>
                    <a:lnTo>
                      <a:pt x="3" y="1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63840" y="5140440"/>
                <a:ext cx="195120" cy="27612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97" y="19"/>
                    </a:moveTo>
                    <a:lnTo>
                      <a:pt x="122" y="68"/>
                    </a:lnTo>
                    <a:lnTo>
                      <a:pt x="122" y="80"/>
                    </a:lnTo>
                    <a:lnTo>
                      <a:pt x="116" y="91"/>
                    </a:lnTo>
                    <a:lnTo>
                      <a:pt x="108" y="102"/>
                    </a:lnTo>
                    <a:lnTo>
                      <a:pt x="107" y="128"/>
                    </a:lnTo>
                    <a:lnTo>
                      <a:pt x="108" y="140"/>
                    </a:lnTo>
                    <a:lnTo>
                      <a:pt x="104" y="147"/>
                    </a:lnTo>
                    <a:lnTo>
                      <a:pt x="84" y="158"/>
                    </a:lnTo>
                    <a:lnTo>
                      <a:pt x="56" y="173"/>
                    </a:lnTo>
                    <a:lnTo>
                      <a:pt x="49" y="173"/>
                    </a:lnTo>
                    <a:lnTo>
                      <a:pt x="30" y="157"/>
                    </a:lnTo>
                    <a:lnTo>
                      <a:pt x="27" y="147"/>
                    </a:lnTo>
                    <a:lnTo>
                      <a:pt x="20" y="135"/>
                    </a:lnTo>
                    <a:lnTo>
                      <a:pt x="12" y="118"/>
                    </a:lnTo>
                    <a:lnTo>
                      <a:pt x="5" y="97"/>
                    </a:lnTo>
                    <a:lnTo>
                      <a:pt x="0" y="74"/>
                    </a:lnTo>
                    <a:lnTo>
                      <a:pt x="2" y="27"/>
                    </a:lnTo>
                    <a:lnTo>
                      <a:pt x="44" y="0"/>
                    </a:lnTo>
                    <a:lnTo>
                      <a:pt x="85" y="11"/>
                    </a:lnTo>
                    <a:lnTo>
                      <a:pt x="97" y="19"/>
                    </a:lnTo>
                    <a:lnTo>
                      <a:pt x="97" y="19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71760" y="5112000"/>
                <a:ext cx="71640" cy="7596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47"/>
                    </a:moveTo>
                    <a:lnTo>
                      <a:pt x="27" y="41"/>
                    </a:lnTo>
                    <a:lnTo>
                      <a:pt x="36" y="35"/>
                    </a:lnTo>
                    <a:lnTo>
                      <a:pt x="43" y="17"/>
                    </a:lnTo>
                    <a:lnTo>
                      <a:pt x="44" y="1"/>
                    </a:lnTo>
                    <a:lnTo>
                      <a:pt x="35" y="0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09920" y="530712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0" y="6"/>
                    </a:moveTo>
                    <a:lnTo>
                      <a:pt x="8" y="10"/>
                    </a:lnTo>
                    <a:lnTo>
                      <a:pt x="25" y="10"/>
                    </a:lnTo>
                    <a:lnTo>
                      <a:pt x="36" y="4"/>
                    </a:lnTo>
                    <a:lnTo>
                      <a:pt x="32" y="2"/>
                    </a:lnTo>
                    <a:lnTo>
                      <a:pt x="21" y="0"/>
                    </a:lnTo>
                    <a:lnTo>
                      <a:pt x="7" y="3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48080" y="523584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5"/>
                    </a:moveTo>
                    <a:lnTo>
                      <a:pt x="5" y="8"/>
                    </a:lnTo>
                    <a:lnTo>
                      <a:pt x="16" y="6"/>
                    </a:lnTo>
                    <a:lnTo>
                      <a:pt x="23" y="7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82920" y="524664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6"/>
                    </a:moveTo>
                    <a:lnTo>
                      <a:pt x="3" y="7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9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67120" y="5800680"/>
                <a:ext cx="361800" cy="335160"/>
              </a:xfrm>
              <a:custGeom>
                <a:avLst/>
                <a:gdLst/>
                <a:ahLst/>
                <a:rect l="l" t="t" r="r" b="b"/>
                <a:pathLst>
                  <a:path w="228" h="211">
                    <a:moveTo>
                      <a:pt x="227" y="210"/>
                    </a:moveTo>
                    <a:lnTo>
                      <a:pt x="11" y="210"/>
                    </a:lnTo>
                    <a:lnTo>
                      <a:pt x="0" y="94"/>
                    </a:lnTo>
                    <a:lnTo>
                      <a:pt x="22" y="3"/>
                    </a:lnTo>
                    <a:lnTo>
                      <a:pt x="166" y="0"/>
                    </a:lnTo>
                    <a:lnTo>
                      <a:pt x="227" y="154"/>
                    </a:lnTo>
                    <a:lnTo>
                      <a:pt x="227" y="210"/>
                    </a:lnTo>
                    <a:lnTo>
                      <a:pt x="227" y="210"/>
                    </a:lnTo>
                  </a:path>
                </a:pathLst>
              </a:custGeom>
              <a:solidFill>
                <a:srgbClr val="004200"/>
              </a:solidFill>
              <a:ln w="9360">
                <a:solidFill>
                  <a:srgbClr val="00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54160" y="5405400"/>
                <a:ext cx="374760" cy="667080"/>
              </a:xfrm>
              <a:custGeom>
                <a:avLst/>
                <a:gdLst/>
                <a:ahLst/>
                <a:rect l="l" t="t" r="r" b="b"/>
                <a:pathLst>
                  <a:path w="236" h="420">
                    <a:moveTo>
                      <a:pt x="93" y="6"/>
                    </a:moveTo>
                    <a:lnTo>
                      <a:pt x="200" y="0"/>
                    </a:lnTo>
                    <a:lnTo>
                      <a:pt x="218" y="21"/>
                    </a:lnTo>
                    <a:lnTo>
                      <a:pt x="206" y="30"/>
                    </a:lnTo>
                    <a:lnTo>
                      <a:pt x="197" y="54"/>
                    </a:lnTo>
                    <a:lnTo>
                      <a:pt x="192" y="124"/>
                    </a:lnTo>
                    <a:lnTo>
                      <a:pt x="182" y="152"/>
                    </a:lnTo>
                    <a:lnTo>
                      <a:pt x="182" y="177"/>
                    </a:lnTo>
                    <a:lnTo>
                      <a:pt x="169" y="194"/>
                    </a:lnTo>
                    <a:lnTo>
                      <a:pt x="174" y="215"/>
                    </a:lnTo>
                    <a:lnTo>
                      <a:pt x="167" y="221"/>
                    </a:lnTo>
                    <a:lnTo>
                      <a:pt x="212" y="279"/>
                    </a:lnTo>
                    <a:lnTo>
                      <a:pt x="217" y="309"/>
                    </a:lnTo>
                    <a:lnTo>
                      <a:pt x="222" y="312"/>
                    </a:lnTo>
                    <a:lnTo>
                      <a:pt x="218" y="343"/>
                    </a:lnTo>
                    <a:lnTo>
                      <a:pt x="235" y="372"/>
                    </a:lnTo>
                    <a:lnTo>
                      <a:pt x="232" y="411"/>
                    </a:lnTo>
                    <a:lnTo>
                      <a:pt x="209" y="419"/>
                    </a:lnTo>
                    <a:lnTo>
                      <a:pt x="162" y="414"/>
                    </a:lnTo>
                    <a:lnTo>
                      <a:pt x="125" y="391"/>
                    </a:lnTo>
                    <a:lnTo>
                      <a:pt x="102" y="374"/>
                    </a:lnTo>
                    <a:lnTo>
                      <a:pt x="80" y="344"/>
                    </a:lnTo>
                    <a:lnTo>
                      <a:pt x="90" y="328"/>
                    </a:lnTo>
                    <a:lnTo>
                      <a:pt x="88" y="260"/>
                    </a:lnTo>
                    <a:lnTo>
                      <a:pt x="58" y="258"/>
                    </a:lnTo>
                    <a:lnTo>
                      <a:pt x="66" y="304"/>
                    </a:lnTo>
                    <a:lnTo>
                      <a:pt x="71" y="341"/>
                    </a:lnTo>
                    <a:lnTo>
                      <a:pt x="31" y="365"/>
                    </a:lnTo>
                    <a:lnTo>
                      <a:pt x="10" y="314"/>
                    </a:lnTo>
                    <a:lnTo>
                      <a:pt x="0" y="249"/>
                    </a:lnTo>
                    <a:lnTo>
                      <a:pt x="0" y="191"/>
                    </a:lnTo>
                    <a:lnTo>
                      <a:pt x="6" y="138"/>
                    </a:lnTo>
                    <a:lnTo>
                      <a:pt x="14" y="59"/>
                    </a:lnTo>
                    <a:lnTo>
                      <a:pt x="71" y="18"/>
                    </a:lnTo>
                    <a:lnTo>
                      <a:pt x="93" y="6"/>
                    </a:lnTo>
                    <a:lnTo>
                      <a:pt x="93" y="6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43080" y="5781960"/>
                <a:ext cx="57240" cy="42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0"/>
                    </a:moveTo>
                    <a:lnTo>
                      <a:pt x="13" y="7"/>
                    </a:lnTo>
                    <a:lnTo>
                      <a:pt x="35" y="7"/>
                    </a:lnTo>
                    <a:lnTo>
                      <a:pt x="34" y="26"/>
                    </a:lnTo>
                    <a:lnTo>
                      <a:pt x="18" y="26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38400" y="5434200"/>
                <a:ext cx="133200" cy="363600"/>
              </a:xfrm>
              <a:custGeom>
                <a:avLst/>
                <a:gdLst/>
                <a:ahLst/>
                <a:rect l="l" t="t" r="r" b="b"/>
                <a:pathLst>
                  <a:path w="84" h="229">
                    <a:moveTo>
                      <a:pt x="38" y="0"/>
                    </a:moveTo>
                    <a:lnTo>
                      <a:pt x="19" y="35"/>
                    </a:lnTo>
                    <a:lnTo>
                      <a:pt x="7" y="71"/>
                    </a:lnTo>
                    <a:lnTo>
                      <a:pt x="0" y="143"/>
                    </a:lnTo>
                    <a:lnTo>
                      <a:pt x="0" y="193"/>
                    </a:lnTo>
                    <a:lnTo>
                      <a:pt x="5" y="222"/>
                    </a:lnTo>
                    <a:lnTo>
                      <a:pt x="35" y="228"/>
                    </a:lnTo>
                    <a:lnTo>
                      <a:pt x="40" y="168"/>
                    </a:lnTo>
                    <a:lnTo>
                      <a:pt x="49" y="120"/>
                    </a:lnTo>
                    <a:lnTo>
                      <a:pt x="64" y="88"/>
                    </a:lnTo>
                    <a:lnTo>
                      <a:pt x="83" y="54"/>
                    </a:lnTo>
                    <a:lnTo>
                      <a:pt x="83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86200" y="5946840"/>
                <a:ext cx="145800" cy="149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0" y="39"/>
                    </a:moveTo>
                    <a:lnTo>
                      <a:pt x="7" y="31"/>
                    </a:lnTo>
                    <a:lnTo>
                      <a:pt x="10" y="25"/>
                    </a:lnTo>
                    <a:lnTo>
                      <a:pt x="18" y="19"/>
                    </a:lnTo>
                    <a:lnTo>
                      <a:pt x="26" y="9"/>
                    </a:lnTo>
                    <a:lnTo>
                      <a:pt x="50" y="0"/>
                    </a:lnTo>
                    <a:lnTo>
                      <a:pt x="59" y="2"/>
                    </a:lnTo>
                    <a:lnTo>
                      <a:pt x="82" y="36"/>
                    </a:lnTo>
                    <a:lnTo>
                      <a:pt x="83" y="50"/>
                    </a:lnTo>
                    <a:lnTo>
                      <a:pt x="89" y="67"/>
                    </a:lnTo>
                    <a:lnTo>
                      <a:pt x="91" y="73"/>
                    </a:lnTo>
                    <a:lnTo>
                      <a:pt x="82" y="71"/>
                    </a:lnTo>
                    <a:lnTo>
                      <a:pt x="88" y="84"/>
                    </a:lnTo>
                    <a:lnTo>
                      <a:pt x="70" y="93"/>
                    </a:lnTo>
                    <a:lnTo>
                      <a:pt x="62" y="91"/>
                    </a:lnTo>
                    <a:lnTo>
                      <a:pt x="51" y="89"/>
                    </a:lnTo>
                    <a:lnTo>
                      <a:pt x="48" y="89"/>
                    </a:lnTo>
                    <a:lnTo>
                      <a:pt x="44" y="87"/>
                    </a:lnTo>
                    <a:lnTo>
                      <a:pt x="41" y="80"/>
                    </a:lnTo>
                    <a:lnTo>
                      <a:pt x="39" y="78"/>
                    </a:lnTo>
                    <a:lnTo>
                      <a:pt x="31" y="83"/>
                    </a:lnTo>
                    <a:lnTo>
                      <a:pt x="28" y="82"/>
                    </a:lnTo>
                    <a:lnTo>
                      <a:pt x="29" y="78"/>
                    </a:lnTo>
                    <a:lnTo>
                      <a:pt x="34" y="70"/>
                    </a:lnTo>
                    <a:lnTo>
                      <a:pt x="28" y="68"/>
                    </a:lnTo>
                    <a:lnTo>
                      <a:pt x="22" y="58"/>
                    </a:lnTo>
                    <a:lnTo>
                      <a:pt x="20" y="57"/>
                    </a:lnTo>
                    <a:lnTo>
                      <a:pt x="18" y="50"/>
                    </a:lnTo>
                    <a:lnTo>
                      <a:pt x="15" y="43"/>
                    </a:lnTo>
                    <a:lnTo>
                      <a:pt x="17" y="36"/>
                    </a:lnTo>
                    <a:lnTo>
                      <a:pt x="16" y="33"/>
                    </a:lnTo>
                    <a:lnTo>
                      <a:pt x="4" y="40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62160" y="5214960"/>
                <a:ext cx="174600" cy="317520"/>
              </a:xfrm>
              <a:custGeom>
                <a:avLst/>
                <a:gdLst/>
                <a:ahLst/>
                <a:rect l="l" t="t" r="r" b="b"/>
                <a:pathLst>
                  <a:path w="110" h="200">
                    <a:moveTo>
                      <a:pt x="20" y="0"/>
                    </a:moveTo>
                    <a:lnTo>
                      <a:pt x="7" y="12"/>
                    </a:lnTo>
                    <a:lnTo>
                      <a:pt x="0" y="77"/>
                    </a:lnTo>
                    <a:lnTo>
                      <a:pt x="2" y="97"/>
                    </a:lnTo>
                    <a:lnTo>
                      <a:pt x="25" y="139"/>
                    </a:lnTo>
                    <a:lnTo>
                      <a:pt x="29" y="161"/>
                    </a:lnTo>
                    <a:lnTo>
                      <a:pt x="27" y="189"/>
                    </a:lnTo>
                    <a:lnTo>
                      <a:pt x="25" y="199"/>
                    </a:lnTo>
                    <a:lnTo>
                      <a:pt x="47" y="174"/>
                    </a:lnTo>
                    <a:lnTo>
                      <a:pt x="73" y="159"/>
                    </a:lnTo>
                    <a:lnTo>
                      <a:pt x="100" y="102"/>
                    </a:lnTo>
                    <a:lnTo>
                      <a:pt x="109" y="57"/>
                    </a:lnTo>
                    <a:lnTo>
                      <a:pt x="57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01840" y="5343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9"/>
                    </a:lnTo>
                    <a:lnTo>
                      <a:pt x="3" y="13"/>
                    </a:lnTo>
                    <a:lnTo>
                      <a:pt x="10" y="9"/>
                    </a:lnTo>
                    <a:lnTo>
                      <a:pt x="9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200320" y="535788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2"/>
                    </a:moveTo>
                    <a:lnTo>
                      <a:pt x="8" y="11"/>
                    </a:lnTo>
                    <a:lnTo>
                      <a:pt x="16" y="10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238480" y="52977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4"/>
                    </a:moveTo>
                    <a:lnTo>
                      <a:pt x="3" y="5"/>
                    </a:lnTo>
                    <a:lnTo>
                      <a:pt x="12" y="5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79800" y="529596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5"/>
                    </a:moveTo>
                    <a:lnTo>
                      <a:pt x="3" y="7"/>
                    </a:lnTo>
                    <a:lnTo>
                      <a:pt x="10" y="5"/>
                    </a:lnTo>
                    <a:lnTo>
                      <a:pt x="8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62200" y="5272200"/>
                <a:ext cx="398520" cy="861840"/>
              </a:xfrm>
              <a:custGeom>
                <a:avLst/>
                <a:gdLst/>
                <a:ahLst/>
                <a:rect l="l" t="t" r="r" b="b"/>
                <a:pathLst>
                  <a:path w="251" h="543">
                    <a:moveTo>
                      <a:pt x="155" y="0"/>
                    </a:moveTo>
                    <a:lnTo>
                      <a:pt x="170" y="24"/>
                    </a:lnTo>
                    <a:lnTo>
                      <a:pt x="229" y="44"/>
                    </a:lnTo>
                    <a:lnTo>
                      <a:pt x="250" y="68"/>
                    </a:lnTo>
                    <a:lnTo>
                      <a:pt x="238" y="116"/>
                    </a:lnTo>
                    <a:lnTo>
                      <a:pt x="198" y="144"/>
                    </a:lnTo>
                    <a:lnTo>
                      <a:pt x="194" y="173"/>
                    </a:lnTo>
                    <a:lnTo>
                      <a:pt x="195" y="203"/>
                    </a:lnTo>
                    <a:lnTo>
                      <a:pt x="187" y="230"/>
                    </a:lnTo>
                    <a:lnTo>
                      <a:pt x="187" y="268"/>
                    </a:lnTo>
                    <a:lnTo>
                      <a:pt x="182" y="300"/>
                    </a:lnTo>
                    <a:lnTo>
                      <a:pt x="186" y="341"/>
                    </a:lnTo>
                    <a:lnTo>
                      <a:pt x="191" y="371"/>
                    </a:lnTo>
                    <a:lnTo>
                      <a:pt x="205" y="425"/>
                    </a:lnTo>
                    <a:lnTo>
                      <a:pt x="216" y="449"/>
                    </a:lnTo>
                    <a:lnTo>
                      <a:pt x="208" y="448"/>
                    </a:lnTo>
                    <a:lnTo>
                      <a:pt x="200" y="446"/>
                    </a:lnTo>
                    <a:lnTo>
                      <a:pt x="200" y="475"/>
                    </a:lnTo>
                    <a:lnTo>
                      <a:pt x="207" y="486"/>
                    </a:lnTo>
                    <a:lnTo>
                      <a:pt x="205" y="542"/>
                    </a:lnTo>
                    <a:lnTo>
                      <a:pt x="0" y="542"/>
                    </a:lnTo>
                    <a:lnTo>
                      <a:pt x="38" y="150"/>
                    </a:lnTo>
                    <a:lnTo>
                      <a:pt x="38" y="130"/>
                    </a:lnTo>
                    <a:lnTo>
                      <a:pt x="37" y="100"/>
                    </a:lnTo>
                    <a:lnTo>
                      <a:pt x="58" y="73"/>
                    </a:lnTo>
                    <a:lnTo>
                      <a:pt x="88" y="48"/>
                    </a:lnTo>
                    <a:lnTo>
                      <a:pt x="139" y="7"/>
                    </a:lnTo>
                    <a:lnTo>
                      <a:pt x="155" y="0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916280" y="525780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55" y="0"/>
                    </a:moveTo>
                    <a:lnTo>
                      <a:pt x="58" y="16"/>
                    </a:lnTo>
                    <a:lnTo>
                      <a:pt x="50" y="32"/>
                    </a:lnTo>
                    <a:lnTo>
                      <a:pt x="43" y="45"/>
                    </a:lnTo>
                    <a:lnTo>
                      <a:pt x="23" y="75"/>
                    </a:lnTo>
                    <a:lnTo>
                      <a:pt x="14" y="91"/>
                    </a:lnTo>
                    <a:lnTo>
                      <a:pt x="10" y="104"/>
                    </a:lnTo>
                    <a:lnTo>
                      <a:pt x="0" y="35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46440" y="5322960"/>
                <a:ext cx="90360" cy="252360"/>
              </a:xfrm>
              <a:custGeom>
                <a:avLst/>
                <a:gdLst/>
                <a:ahLst/>
                <a:rect l="l" t="t" r="r" b="b"/>
                <a:pathLst>
                  <a:path w="57" h="159">
                    <a:moveTo>
                      <a:pt x="51" y="1"/>
                    </a:moveTo>
                    <a:lnTo>
                      <a:pt x="56" y="21"/>
                    </a:lnTo>
                    <a:lnTo>
                      <a:pt x="51" y="29"/>
                    </a:lnTo>
                    <a:lnTo>
                      <a:pt x="54" y="63"/>
                    </a:lnTo>
                    <a:lnTo>
                      <a:pt x="37" y="102"/>
                    </a:lnTo>
                    <a:lnTo>
                      <a:pt x="15" y="158"/>
                    </a:lnTo>
                    <a:lnTo>
                      <a:pt x="0" y="132"/>
                    </a:lnTo>
                    <a:lnTo>
                      <a:pt x="9" y="110"/>
                    </a:lnTo>
                    <a:lnTo>
                      <a:pt x="17" y="74"/>
                    </a:lnTo>
                    <a:lnTo>
                      <a:pt x="43" y="0"/>
                    </a:lnTo>
                    <a:lnTo>
                      <a:pt x="51" y="1"/>
                    </a:lnTo>
                    <a:lnTo>
                      <a:pt x="51" y="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994040" y="5959440"/>
                <a:ext cx="85680" cy="123840"/>
              </a:xfrm>
              <a:custGeom>
                <a:avLst/>
                <a:gdLst/>
                <a:ahLst/>
                <a:rect l="l" t="t" r="r" b="b"/>
                <a:pathLst>
                  <a:path w="54" h="78">
                    <a:moveTo>
                      <a:pt x="53" y="12"/>
                    </a:moveTo>
                    <a:lnTo>
                      <a:pt x="53" y="62"/>
                    </a:lnTo>
                    <a:lnTo>
                      <a:pt x="43" y="67"/>
                    </a:lnTo>
                    <a:lnTo>
                      <a:pt x="41" y="72"/>
                    </a:lnTo>
                    <a:lnTo>
                      <a:pt x="12" y="77"/>
                    </a:lnTo>
                    <a:lnTo>
                      <a:pt x="6" y="70"/>
                    </a:lnTo>
                    <a:lnTo>
                      <a:pt x="0" y="59"/>
                    </a:lnTo>
                    <a:lnTo>
                      <a:pt x="10" y="0"/>
                    </a:lnTo>
                    <a:lnTo>
                      <a:pt x="53" y="12"/>
                    </a:lnTo>
                    <a:lnTo>
                      <a:pt x="53" y="12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63720" y="5089680"/>
                <a:ext cx="173160" cy="216000"/>
              </a:xfrm>
              <a:custGeom>
                <a:avLst/>
                <a:gdLst/>
                <a:ahLst/>
                <a:rect l="l" t="t" r="r" b="b"/>
                <a:pathLst>
                  <a:path w="109" h="136">
                    <a:moveTo>
                      <a:pt x="10" y="16"/>
                    </a:moveTo>
                    <a:lnTo>
                      <a:pt x="2" y="32"/>
                    </a:lnTo>
                    <a:lnTo>
                      <a:pt x="0" y="49"/>
                    </a:lnTo>
                    <a:lnTo>
                      <a:pt x="2" y="70"/>
                    </a:lnTo>
                    <a:lnTo>
                      <a:pt x="2" y="85"/>
                    </a:lnTo>
                    <a:lnTo>
                      <a:pt x="6" y="109"/>
                    </a:lnTo>
                    <a:lnTo>
                      <a:pt x="22" y="130"/>
                    </a:lnTo>
                    <a:lnTo>
                      <a:pt x="46" y="135"/>
                    </a:lnTo>
                    <a:lnTo>
                      <a:pt x="86" y="102"/>
                    </a:lnTo>
                    <a:lnTo>
                      <a:pt x="101" y="90"/>
                    </a:lnTo>
                    <a:lnTo>
                      <a:pt x="104" y="77"/>
                    </a:lnTo>
                    <a:lnTo>
                      <a:pt x="108" y="65"/>
                    </a:lnTo>
                    <a:lnTo>
                      <a:pt x="106" y="57"/>
                    </a:lnTo>
                    <a:lnTo>
                      <a:pt x="62" y="3"/>
                    </a:lnTo>
                    <a:lnTo>
                      <a:pt x="32" y="0"/>
                    </a:lnTo>
                    <a:lnTo>
                      <a:pt x="10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59040" y="5062680"/>
                <a:ext cx="169920" cy="106200"/>
              </a:xfrm>
              <a:custGeom>
                <a:avLst/>
                <a:gdLst/>
                <a:ahLst/>
                <a:rect l="l" t="t" r="r" b="b"/>
                <a:pathLst>
                  <a:path w="107" h="67">
                    <a:moveTo>
                      <a:pt x="7" y="42"/>
                    </a:moveTo>
                    <a:lnTo>
                      <a:pt x="17" y="32"/>
                    </a:lnTo>
                    <a:lnTo>
                      <a:pt x="23" y="30"/>
                    </a:lnTo>
                    <a:lnTo>
                      <a:pt x="33" y="19"/>
                    </a:lnTo>
                    <a:lnTo>
                      <a:pt x="41" y="23"/>
                    </a:lnTo>
                    <a:lnTo>
                      <a:pt x="48" y="30"/>
                    </a:lnTo>
                    <a:lnTo>
                      <a:pt x="63" y="34"/>
                    </a:lnTo>
                    <a:lnTo>
                      <a:pt x="80" y="48"/>
                    </a:lnTo>
                    <a:lnTo>
                      <a:pt x="93" y="66"/>
                    </a:lnTo>
                    <a:lnTo>
                      <a:pt x="106" y="43"/>
                    </a:lnTo>
                    <a:lnTo>
                      <a:pt x="102" y="28"/>
                    </a:lnTo>
                    <a:lnTo>
                      <a:pt x="95" y="14"/>
                    </a:lnTo>
                    <a:lnTo>
                      <a:pt x="86" y="7"/>
                    </a:lnTo>
                    <a:lnTo>
                      <a:pt x="70" y="3"/>
                    </a:lnTo>
                    <a:lnTo>
                      <a:pt x="60" y="5"/>
                    </a:lnTo>
                    <a:lnTo>
                      <a:pt x="45" y="0"/>
                    </a:lnTo>
                    <a:lnTo>
                      <a:pt x="35" y="1"/>
                    </a:lnTo>
                    <a:lnTo>
                      <a:pt x="21" y="8"/>
                    </a:lnTo>
                    <a:lnTo>
                      <a:pt x="13" y="13"/>
                    </a:lnTo>
                    <a:lnTo>
                      <a:pt x="6" y="21"/>
                    </a:lnTo>
                    <a:lnTo>
                      <a:pt x="0" y="35"/>
                    </a:lnTo>
                    <a:lnTo>
                      <a:pt x="1" y="48"/>
                    </a:lnTo>
                    <a:lnTo>
                      <a:pt x="7" y="42"/>
                    </a:lnTo>
                    <a:lnTo>
                      <a:pt x="7" y="42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13000" y="5434200"/>
                <a:ext cx="488880" cy="699840"/>
              </a:xfrm>
              <a:custGeom>
                <a:avLst/>
                <a:gdLst/>
                <a:ahLst/>
                <a:rect l="l" t="t" r="r" b="b"/>
                <a:pathLst>
                  <a:path w="308" h="441">
                    <a:moveTo>
                      <a:pt x="112" y="0"/>
                    </a:moveTo>
                    <a:lnTo>
                      <a:pt x="183" y="4"/>
                    </a:lnTo>
                    <a:lnTo>
                      <a:pt x="196" y="19"/>
                    </a:lnTo>
                    <a:lnTo>
                      <a:pt x="221" y="32"/>
                    </a:lnTo>
                    <a:lnTo>
                      <a:pt x="254" y="42"/>
                    </a:lnTo>
                    <a:lnTo>
                      <a:pt x="278" y="58"/>
                    </a:lnTo>
                    <a:lnTo>
                      <a:pt x="289" y="80"/>
                    </a:lnTo>
                    <a:lnTo>
                      <a:pt x="286" y="116"/>
                    </a:lnTo>
                    <a:lnTo>
                      <a:pt x="293" y="129"/>
                    </a:lnTo>
                    <a:lnTo>
                      <a:pt x="307" y="163"/>
                    </a:lnTo>
                    <a:lnTo>
                      <a:pt x="306" y="174"/>
                    </a:lnTo>
                    <a:lnTo>
                      <a:pt x="290" y="184"/>
                    </a:lnTo>
                    <a:lnTo>
                      <a:pt x="291" y="203"/>
                    </a:lnTo>
                    <a:lnTo>
                      <a:pt x="294" y="216"/>
                    </a:lnTo>
                    <a:lnTo>
                      <a:pt x="286" y="239"/>
                    </a:lnTo>
                    <a:lnTo>
                      <a:pt x="287" y="258"/>
                    </a:lnTo>
                    <a:lnTo>
                      <a:pt x="238" y="295"/>
                    </a:lnTo>
                    <a:lnTo>
                      <a:pt x="260" y="348"/>
                    </a:lnTo>
                    <a:lnTo>
                      <a:pt x="266" y="440"/>
                    </a:lnTo>
                    <a:lnTo>
                      <a:pt x="58" y="440"/>
                    </a:lnTo>
                    <a:lnTo>
                      <a:pt x="58" y="353"/>
                    </a:lnTo>
                    <a:lnTo>
                      <a:pt x="25" y="332"/>
                    </a:lnTo>
                    <a:lnTo>
                      <a:pt x="48" y="292"/>
                    </a:lnTo>
                    <a:lnTo>
                      <a:pt x="66" y="270"/>
                    </a:lnTo>
                    <a:lnTo>
                      <a:pt x="62" y="258"/>
                    </a:lnTo>
                    <a:lnTo>
                      <a:pt x="43" y="182"/>
                    </a:lnTo>
                    <a:lnTo>
                      <a:pt x="14" y="88"/>
                    </a:lnTo>
                    <a:lnTo>
                      <a:pt x="0" y="69"/>
                    </a:lnTo>
                    <a:lnTo>
                      <a:pt x="15" y="47"/>
                    </a:lnTo>
                    <a:lnTo>
                      <a:pt x="46" y="34"/>
                    </a:lnTo>
                    <a:lnTo>
                      <a:pt x="74" y="31"/>
                    </a:lnTo>
                    <a:lnTo>
                      <a:pt x="98" y="18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15960" y="5815080"/>
                <a:ext cx="349560" cy="303120"/>
              </a:xfrm>
              <a:custGeom>
                <a:avLst/>
                <a:gdLst/>
                <a:ahLst/>
                <a:rect l="l" t="t" r="r" b="b"/>
                <a:pathLst>
                  <a:path w="220" h="191">
                    <a:moveTo>
                      <a:pt x="179" y="5"/>
                    </a:moveTo>
                    <a:lnTo>
                      <a:pt x="179" y="38"/>
                    </a:lnTo>
                    <a:lnTo>
                      <a:pt x="167" y="88"/>
                    </a:lnTo>
                    <a:lnTo>
                      <a:pt x="131" y="120"/>
                    </a:lnTo>
                    <a:lnTo>
                      <a:pt x="106" y="94"/>
                    </a:lnTo>
                    <a:lnTo>
                      <a:pt x="94" y="75"/>
                    </a:lnTo>
                    <a:lnTo>
                      <a:pt x="69" y="38"/>
                    </a:lnTo>
                    <a:lnTo>
                      <a:pt x="49" y="16"/>
                    </a:lnTo>
                    <a:lnTo>
                      <a:pt x="0" y="22"/>
                    </a:lnTo>
                    <a:lnTo>
                      <a:pt x="11" y="53"/>
                    </a:lnTo>
                    <a:lnTo>
                      <a:pt x="41" y="82"/>
                    </a:lnTo>
                    <a:lnTo>
                      <a:pt x="84" y="120"/>
                    </a:lnTo>
                    <a:lnTo>
                      <a:pt x="96" y="150"/>
                    </a:lnTo>
                    <a:lnTo>
                      <a:pt x="123" y="190"/>
                    </a:lnTo>
                    <a:lnTo>
                      <a:pt x="145" y="187"/>
                    </a:lnTo>
                    <a:lnTo>
                      <a:pt x="161" y="168"/>
                    </a:lnTo>
                    <a:lnTo>
                      <a:pt x="169" y="153"/>
                    </a:lnTo>
                    <a:lnTo>
                      <a:pt x="183" y="129"/>
                    </a:lnTo>
                    <a:lnTo>
                      <a:pt x="192" y="108"/>
                    </a:lnTo>
                    <a:lnTo>
                      <a:pt x="203" y="83"/>
                    </a:lnTo>
                    <a:lnTo>
                      <a:pt x="214" y="52"/>
                    </a:lnTo>
                    <a:lnTo>
                      <a:pt x="217" y="26"/>
                    </a:lnTo>
                    <a:lnTo>
                      <a:pt x="219" y="10"/>
                    </a:lnTo>
                    <a:lnTo>
                      <a:pt x="204" y="0"/>
                    </a:lnTo>
                    <a:lnTo>
                      <a:pt x="179" y="5"/>
                    </a:lnTo>
                    <a:lnTo>
                      <a:pt x="179" y="5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595656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" y="0"/>
                    </a:moveTo>
                    <a:lnTo>
                      <a:pt x="4" y="4"/>
                    </a:lnTo>
                    <a:lnTo>
                      <a:pt x="12" y="10"/>
                    </a:lnTo>
                    <a:lnTo>
                      <a:pt x="20" y="14"/>
                    </a:lnTo>
                    <a:lnTo>
                      <a:pt x="22" y="17"/>
                    </a:lnTo>
                    <a:lnTo>
                      <a:pt x="28" y="15"/>
                    </a:lnTo>
                    <a:lnTo>
                      <a:pt x="29" y="17"/>
                    </a:lnTo>
                    <a:lnTo>
                      <a:pt x="28" y="24"/>
                    </a:lnTo>
                    <a:lnTo>
                      <a:pt x="25" y="27"/>
                    </a:lnTo>
                    <a:lnTo>
                      <a:pt x="22" y="23"/>
                    </a:lnTo>
                    <a:lnTo>
                      <a:pt x="12" y="17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04960" y="5967360"/>
                <a:ext cx="55800" cy="3996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12"/>
                    </a:moveTo>
                    <a:lnTo>
                      <a:pt x="15" y="24"/>
                    </a:lnTo>
                    <a:lnTo>
                      <a:pt x="34" y="10"/>
                    </a:lnTo>
                    <a:lnTo>
                      <a:pt x="20" y="0"/>
                    </a:lnTo>
                    <a:lnTo>
                      <a:pt x="5" y="9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86080" y="5869080"/>
                <a:ext cx="284040" cy="264960"/>
              </a:xfrm>
              <a:custGeom>
                <a:avLst/>
                <a:gdLst/>
                <a:ahLst/>
                <a:rect l="l" t="t" r="r" b="b"/>
                <a:pathLst>
                  <a:path w="179" h="167">
                    <a:moveTo>
                      <a:pt x="0" y="25"/>
                    </a:moveTo>
                    <a:lnTo>
                      <a:pt x="12" y="21"/>
                    </a:lnTo>
                    <a:lnTo>
                      <a:pt x="28" y="38"/>
                    </a:lnTo>
                    <a:lnTo>
                      <a:pt x="84" y="76"/>
                    </a:lnTo>
                    <a:lnTo>
                      <a:pt x="88" y="83"/>
                    </a:lnTo>
                    <a:lnTo>
                      <a:pt x="46" y="80"/>
                    </a:lnTo>
                    <a:lnTo>
                      <a:pt x="14" y="80"/>
                    </a:lnTo>
                    <a:lnTo>
                      <a:pt x="19" y="107"/>
                    </a:lnTo>
                    <a:lnTo>
                      <a:pt x="74" y="116"/>
                    </a:lnTo>
                    <a:lnTo>
                      <a:pt x="101" y="117"/>
                    </a:lnTo>
                    <a:lnTo>
                      <a:pt x="129" y="144"/>
                    </a:lnTo>
                    <a:lnTo>
                      <a:pt x="144" y="166"/>
                    </a:lnTo>
                    <a:lnTo>
                      <a:pt x="154" y="166"/>
                    </a:lnTo>
                    <a:lnTo>
                      <a:pt x="178" y="150"/>
                    </a:lnTo>
                    <a:lnTo>
                      <a:pt x="144" y="153"/>
                    </a:lnTo>
                    <a:lnTo>
                      <a:pt x="137" y="152"/>
                    </a:lnTo>
                    <a:lnTo>
                      <a:pt x="125" y="125"/>
                    </a:lnTo>
                    <a:lnTo>
                      <a:pt x="110" y="105"/>
                    </a:lnTo>
                    <a:lnTo>
                      <a:pt x="103" y="86"/>
                    </a:lnTo>
                    <a:lnTo>
                      <a:pt x="95" y="77"/>
                    </a:lnTo>
                    <a:lnTo>
                      <a:pt x="76" y="62"/>
                    </a:lnTo>
                    <a:lnTo>
                      <a:pt x="46" y="36"/>
                    </a:lnTo>
                    <a:lnTo>
                      <a:pt x="35" y="21"/>
                    </a:lnTo>
                    <a:lnTo>
                      <a:pt x="19" y="0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46120" y="5599080"/>
                <a:ext cx="93960" cy="255600"/>
              </a:xfrm>
              <a:custGeom>
                <a:avLst/>
                <a:gdLst/>
                <a:ahLst/>
                <a:rect l="l" t="t" r="r" b="b"/>
                <a:pathLst>
                  <a:path w="59" h="161">
                    <a:moveTo>
                      <a:pt x="22" y="51"/>
                    </a:moveTo>
                    <a:lnTo>
                      <a:pt x="27" y="82"/>
                    </a:lnTo>
                    <a:lnTo>
                      <a:pt x="37" y="98"/>
                    </a:lnTo>
                    <a:lnTo>
                      <a:pt x="34" y="112"/>
                    </a:lnTo>
                    <a:lnTo>
                      <a:pt x="41" y="132"/>
                    </a:lnTo>
                    <a:lnTo>
                      <a:pt x="58" y="152"/>
                    </a:lnTo>
                    <a:lnTo>
                      <a:pt x="40" y="160"/>
                    </a:lnTo>
                    <a:lnTo>
                      <a:pt x="29" y="154"/>
                    </a:lnTo>
                    <a:lnTo>
                      <a:pt x="23" y="129"/>
                    </a:lnTo>
                    <a:lnTo>
                      <a:pt x="23" y="113"/>
                    </a:lnTo>
                    <a:lnTo>
                      <a:pt x="17" y="101"/>
                    </a:lnTo>
                    <a:lnTo>
                      <a:pt x="19" y="83"/>
                    </a:lnTo>
                    <a:lnTo>
                      <a:pt x="10" y="65"/>
                    </a:lnTo>
                    <a:lnTo>
                      <a:pt x="0" y="0"/>
                    </a:lnTo>
                    <a:lnTo>
                      <a:pt x="22" y="51"/>
                    </a:lnTo>
                    <a:lnTo>
                      <a:pt x="22" y="51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19120" y="5489640"/>
                <a:ext cx="182880" cy="349200"/>
              </a:xfrm>
              <a:custGeom>
                <a:avLst/>
                <a:gdLst/>
                <a:ahLst/>
                <a:rect l="l" t="t" r="r" b="b"/>
                <a:pathLst>
                  <a:path w="115" h="220">
                    <a:moveTo>
                      <a:pt x="0" y="31"/>
                    </a:moveTo>
                    <a:lnTo>
                      <a:pt x="16" y="15"/>
                    </a:lnTo>
                    <a:lnTo>
                      <a:pt x="14" y="39"/>
                    </a:lnTo>
                    <a:lnTo>
                      <a:pt x="33" y="15"/>
                    </a:lnTo>
                    <a:lnTo>
                      <a:pt x="36" y="60"/>
                    </a:lnTo>
                    <a:lnTo>
                      <a:pt x="23" y="49"/>
                    </a:lnTo>
                    <a:lnTo>
                      <a:pt x="8" y="50"/>
                    </a:lnTo>
                    <a:lnTo>
                      <a:pt x="20" y="89"/>
                    </a:lnTo>
                    <a:lnTo>
                      <a:pt x="40" y="127"/>
                    </a:lnTo>
                    <a:lnTo>
                      <a:pt x="59" y="148"/>
                    </a:lnTo>
                    <a:lnTo>
                      <a:pt x="79" y="167"/>
                    </a:lnTo>
                    <a:lnTo>
                      <a:pt x="81" y="186"/>
                    </a:lnTo>
                    <a:lnTo>
                      <a:pt x="92" y="190"/>
                    </a:lnTo>
                    <a:lnTo>
                      <a:pt x="94" y="206"/>
                    </a:lnTo>
                    <a:lnTo>
                      <a:pt x="110" y="219"/>
                    </a:lnTo>
                    <a:lnTo>
                      <a:pt x="114" y="219"/>
                    </a:lnTo>
                    <a:lnTo>
                      <a:pt x="101" y="202"/>
                    </a:lnTo>
                    <a:lnTo>
                      <a:pt x="98" y="176"/>
                    </a:lnTo>
                    <a:lnTo>
                      <a:pt x="94" y="147"/>
                    </a:lnTo>
                    <a:lnTo>
                      <a:pt x="75" y="85"/>
                    </a:lnTo>
                    <a:lnTo>
                      <a:pt x="81" y="131"/>
                    </a:lnTo>
                    <a:lnTo>
                      <a:pt x="61" y="94"/>
                    </a:lnTo>
                    <a:lnTo>
                      <a:pt x="43" y="67"/>
                    </a:lnTo>
                    <a:lnTo>
                      <a:pt x="44" y="36"/>
                    </a:lnTo>
                    <a:lnTo>
                      <a:pt x="51" y="66"/>
                    </a:lnTo>
                    <a:lnTo>
                      <a:pt x="69" y="87"/>
                    </a:lnTo>
                    <a:lnTo>
                      <a:pt x="54" y="12"/>
                    </a:lnTo>
                    <a:lnTo>
                      <a:pt x="42" y="1"/>
                    </a:lnTo>
                    <a:lnTo>
                      <a:pt x="24" y="0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78040" y="5581800"/>
                <a:ext cx="90360" cy="245880"/>
              </a:xfrm>
              <a:custGeom>
                <a:avLst/>
                <a:gdLst/>
                <a:ahLst/>
                <a:rect l="l" t="t" r="r" b="b"/>
                <a:pathLst>
                  <a:path w="57" h="155">
                    <a:moveTo>
                      <a:pt x="0" y="90"/>
                    </a:moveTo>
                    <a:lnTo>
                      <a:pt x="11" y="63"/>
                    </a:lnTo>
                    <a:lnTo>
                      <a:pt x="28" y="0"/>
                    </a:lnTo>
                    <a:lnTo>
                      <a:pt x="24" y="45"/>
                    </a:lnTo>
                    <a:lnTo>
                      <a:pt x="16" y="90"/>
                    </a:lnTo>
                    <a:lnTo>
                      <a:pt x="19" y="124"/>
                    </a:lnTo>
                    <a:lnTo>
                      <a:pt x="40" y="124"/>
                    </a:lnTo>
                    <a:lnTo>
                      <a:pt x="56" y="154"/>
                    </a:lnTo>
                    <a:lnTo>
                      <a:pt x="28" y="148"/>
                    </a:lnTo>
                    <a:lnTo>
                      <a:pt x="14" y="154"/>
                    </a:lnTo>
                    <a:lnTo>
                      <a:pt x="4" y="117"/>
                    </a:lnTo>
                    <a:lnTo>
                      <a:pt x="1" y="100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482840" y="5459400"/>
                <a:ext cx="306360" cy="417600"/>
              </a:xfrm>
              <a:custGeom>
                <a:avLst/>
                <a:gdLst/>
                <a:ahLst/>
                <a:rect l="l" t="t" r="r" b="b"/>
                <a:pathLst>
                  <a:path w="193" h="263">
                    <a:moveTo>
                      <a:pt x="145" y="209"/>
                    </a:moveTo>
                    <a:lnTo>
                      <a:pt x="126" y="192"/>
                    </a:lnTo>
                    <a:lnTo>
                      <a:pt x="145" y="189"/>
                    </a:lnTo>
                    <a:lnTo>
                      <a:pt x="95" y="112"/>
                    </a:lnTo>
                    <a:lnTo>
                      <a:pt x="44" y="12"/>
                    </a:lnTo>
                    <a:lnTo>
                      <a:pt x="19" y="18"/>
                    </a:lnTo>
                    <a:lnTo>
                      <a:pt x="0" y="20"/>
                    </a:lnTo>
                    <a:lnTo>
                      <a:pt x="25" y="10"/>
                    </a:lnTo>
                    <a:lnTo>
                      <a:pt x="49" y="0"/>
                    </a:lnTo>
                    <a:lnTo>
                      <a:pt x="106" y="106"/>
                    </a:lnTo>
                    <a:lnTo>
                      <a:pt x="152" y="180"/>
                    </a:lnTo>
                    <a:lnTo>
                      <a:pt x="180" y="220"/>
                    </a:lnTo>
                    <a:lnTo>
                      <a:pt x="192" y="225"/>
                    </a:lnTo>
                    <a:lnTo>
                      <a:pt x="180" y="229"/>
                    </a:lnTo>
                    <a:lnTo>
                      <a:pt x="168" y="249"/>
                    </a:lnTo>
                    <a:lnTo>
                      <a:pt x="87" y="248"/>
                    </a:lnTo>
                    <a:lnTo>
                      <a:pt x="90" y="262"/>
                    </a:lnTo>
                    <a:lnTo>
                      <a:pt x="70" y="240"/>
                    </a:lnTo>
                    <a:lnTo>
                      <a:pt x="74" y="238"/>
                    </a:lnTo>
                    <a:lnTo>
                      <a:pt x="66" y="225"/>
                    </a:lnTo>
                    <a:lnTo>
                      <a:pt x="66" y="213"/>
                    </a:lnTo>
                    <a:lnTo>
                      <a:pt x="82" y="211"/>
                    </a:lnTo>
                    <a:lnTo>
                      <a:pt x="94" y="228"/>
                    </a:lnTo>
                    <a:lnTo>
                      <a:pt x="130" y="218"/>
                    </a:lnTo>
                    <a:lnTo>
                      <a:pt x="145" y="209"/>
                    </a:lnTo>
                    <a:lnTo>
                      <a:pt x="145" y="209"/>
                    </a:lnTo>
                  </a:path>
                </a:pathLst>
              </a:custGeom>
              <a:solidFill>
                <a:srgbClr val="622100"/>
              </a:solidFill>
              <a:ln w="9360">
                <a:solidFill>
                  <a:srgbClr val="622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87600" y="5257800"/>
                <a:ext cx="147600" cy="314280"/>
              </a:xfrm>
              <a:custGeom>
                <a:avLst/>
                <a:gdLst/>
                <a:ahLst/>
                <a:rect l="l" t="t" r="r" b="b"/>
                <a:pathLst>
                  <a:path w="93" h="198">
                    <a:moveTo>
                      <a:pt x="87" y="11"/>
                    </a:moveTo>
                    <a:lnTo>
                      <a:pt x="92" y="56"/>
                    </a:lnTo>
                    <a:lnTo>
                      <a:pt x="91" y="86"/>
                    </a:lnTo>
                    <a:lnTo>
                      <a:pt x="70" y="111"/>
                    </a:lnTo>
                    <a:lnTo>
                      <a:pt x="70" y="124"/>
                    </a:lnTo>
                    <a:lnTo>
                      <a:pt x="65" y="139"/>
                    </a:lnTo>
                    <a:lnTo>
                      <a:pt x="67" y="165"/>
                    </a:lnTo>
                    <a:lnTo>
                      <a:pt x="64" y="197"/>
                    </a:lnTo>
                    <a:lnTo>
                      <a:pt x="45" y="172"/>
                    </a:lnTo>
                    <a:lnTo>
                      <a:pt x="23" y="141"/>
                    </a:lnTo>
                    <a:lnTo>
                      <a:pt x="4" y="112"/>
                    </a:lnTo>
                    <a:lnTo>
                      <a:pt x="0" y="75"/>
                    </a:lnTo>
                    <a:lnTo>
                      <a:pt x="0" y="43"/>
                    </a:lnTo>
                    <a:lnTo>
                      <a:pt x="14" y="0"/>
                    </a:lnTo>
                    <a:lnTo>
                      <a:pt x="61" y="0"/>
                    </a:lnTo>
                    <a:lnTo>
                      <a:pt x="87" y="11"/>
                    </a:lnTo>
                    <a:lnTo>
                      <a:pt x="87" y="11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66800" y="5491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1" y="0"/>
                    </a:moveTo>
                    <a:lnTo>
                      <a:pt x="4" y="4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48000" y="5199120"/>
                <a:ext cx="206280" cy="214200"/>
              </a:xfrm>
              <a:custGeom>
                <a:avLst/>
                <a:gdLst/>
                <a:ahLst/>
                <a:rect l="l" t="t" r="r" b="b"/>
                <a:pathLst>
                  <a:path w="130" h="135">
                    <a:moveTo>
                      <a:pt x="37" y="50"/>
                    </a:moveTo>
                    <a:lnTo>
                      <a:pt x="69" y="50"/>
                    </a:lnTo>
                    <a:lnTo>
                      <a:pt x="75" y="45"/>
                    </a:lnTo>
                    <a:lnTo>
                      <a:pt x="77" y="49"/>
                    </a:lnTo>
                    <a:lnTo>
                      <a:pt x="82" y="43"/>
                    </a:lnTo>
                    <a:lnTo>
                      <a:pt x="82" y="36"/>
                    </a:lnTo>
                    <a:lnTo>
                      <a:pt x="95" y="47"/>
                    </a:lnTo>
                    <a:lnTo>
                      <a:pt x="111" y="52"/>
                    </a:lnTo>
                    <a:lnTo>
                      <a:pt x="113" y="60"/>
                    </a:lnTo>
                    <a:lnTo>
                      <a:pt x="115" y="77"/>
                    </a:lnTo>
                    <a:lnTo>
                      <a:pt x="120" y="100"/>
                    </a:lnTo>
                    <a:lnTo>
                      <a:pt x="129" y="82"/>
                    </a:lnTo>
                    <a:lnTo>
                      <a:pt x="129" y="63"/>
                    </a:lnTo>
                    <a:lnTo>
                      <a:pt x="124" y="50"/>
                    </a:lnTo>
                    <a:lnTo>
                      <a:pt x="116" y="42"/>
                    </a:lnTo>
                    <a:lnTo>
                      <a:pt x="109" y="23"/>
                    </a:lnTo>
                    <a:lnTo>
                      <a:pt x="105" y="14"/>
                    </a:lnTo>
                    <a:lnTo>
                      <a:pt x="98" y="10"/>
                    </a:lnTo>
                    <a:lnTo>
                      <a:pt x="68" y="0"/>
                    </a:lnTo>
                    <a:lnTo>
                      <a:pt x="45" y="5"/>
                    </a:lnTo>
                    <a:lnTo>
                      <a:pt x="36" y="21"/>
                    </a:lnTo>
                    <a:lnTo>
                      <a:pt x="23" y="24"/>
                    </a:lnTo>
                    <a:lnTo>
                      <a:pt x="20" y="32"/>
                    </a:lnTo>
                    <a:lnTo>
                      <a:pt x="13" y="39"/>
                    </a:lnTo>
                    <a:lnTo>
                      <a:pt x="1" y="57"/>
                    </a:lnTo>
                    <a:lnTo>
                      <a:pt x="0" y="80"/>
                    </a:lnTo>
                    <a:lnTo>
                      <a:pt x="6" y="86"/>
                    </a:lnTo>
                    <a:lnTo>
                      <a:pt x="5" y="94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11" y="130"/>
                    </a:lnTo>
                    <a:lnTo>
                      <a:pt x="25" y="134"/>
                    </a:lnTo>
                    <a:lnTo>
                      <a:pt x="32" y="120"/>
                    </a:lnTo>
                    <a:lnTo>
                      <a:pt x="33" y="112"/>
                    </a:lnTo>
                    <a:lnTo>
                      <a:pt x="27" y="99"/>
                    </a:lnTo>
                    <a:lnTo>
                      <a:pt x="25" y="80"/>
                    </a:lnTo>
                    <a:lnTo>
                      <a:pt x="34" y="58"/>
                    </a:lnTo>
                    <a:lnTo>
                      <a:pt x="37" y="50"/>
                    </a:lnTo>
                    <a:lnTo>
                      <a:pt x="37" y="50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590840" y="53816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2" y="0"/>
                    </a:moveTo>
                    <a:lnTo>
                      <a:pt x="6" y="1"/>
                    </a:lnTo>
                    <a:lnTo>
                      <a:pt x="8" y="8"/>
                    </a:lnTo>
                    <a:lnTo>
                      <a:pt x="7" y="13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644840" y="53769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28" y="4"/>
                    </a:lnTo>
                    <a:lnTo>
                      <a:pt x="14" y="7"/>
                    </a:lnTo>
                    <a:lnTo>
                      <a:pt x="6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44840" y="5372280"/>
                <a:ext cx="52200" cy="936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0" y="5"/>
                    </a:moveTo>
                    <a:lnTo>
                      <a:pt x="11" y="1"/>
                    </a:lnTo>
                    <a:lnTo>
                      <a:pt x="18" y="0"/>
                    </a:lnTo>
                    <a:lnTo>
                      <a:pt x="26" y="1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8" y="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44840" y="5380200"/>
                <a:ext cx="48960" cy="1260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0"/>
                    </a:moveTo>
                    <a:lnTo>
                      <a:pt x="6" y="1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28" y="5"/>
                    </a:lnTo>
                    <a:lnTo>
                      <a:pt x="24" y="7"/>
                    </a:lnTo>
                    <a:lnTo>
                      <a:pt x="16" y="7"/>
                    </a:lnTo>
                    <a:lnTo>
                      <a:pt x="8" y="6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22520" y="52992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3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85880" y="530064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" y="3"/>
                    </a:moveTo>
                    <a:lnTo>
                      <a:pt x="8" y="1"/>
                    </a:lnTo>
                    <a:lnTo>
                      <a:pt x="14" y="0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25760" y="531180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3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44840" y="5311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690560" y="53136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2"/>
                    </a:moveTo>
                    <a:lnTo>
                      <a:pt x="5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77960" y="531180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4" y="0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3" y="15"/>
                    </a:lnTo>
                    <a:lnTo>
                      <a:pt x="6" y="25"/>
                    </a:lnTo>
                    <a:lnTo>
                      <a:pt x="0" y="30"/>
                    </a:lnTo>
                    <a:lnTo>
                      <a:pt x="4" y="23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60680" y="5354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82640" y="5349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4"/>
                    </a:moveTo>
                    <a:lnTo>
                      <a:pt x="3" y="4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58800" y="5254920"/>
                <a:ext cx="51120" cy="123480"/>
              </a:xfrm>
              <a:custGeom>
                <a:avLst/>
                <a:gdLst/>
                <a:ahLst/>
                <a:rect l="l" t="t" r="r" b="b"/>
                <a:pathLst>
                  <a:path w="32" h="78">
                    <a:moveTo>
                      <a:pt x="28" y="7"/>
                    </a:moveTo>
                    <a:lnTo>
                      <a:pt x="31" y="16"/>
                    </a:lnTo>
                    <a:lnTo>
                      <a:pt x="30" y="26"/>
                    </a:lnTo>
                    <a:lnTo>
                      <a:pt x="25" y="36"/>
                    </a:lnTo>
                    <a:lnTo>
                      <a:pt x="18" y="47"/>
                    </a:lnTo>
                    <a:lnTo>
                      <a:pt x="12" y="57"/>
                    </a:lnTo>
                    <a:lnTo>
                      <a:pt x="10" y="65"/>
                    </a:lnTo>
                    <a:lnTo>
                      <a:pt x="10" y="71"/>
                    </a:lnTo>
                    <a:lnTo>
                      <a:pt x="12" y="77"/>
                    </a:lnTo>
                    <a:lnTo>
                      <a:pt x="8" y="72"/>
                    </a:lnTo>
                    <a:lnTo>
                      <a:pt x="6" y="64"/>
                    </a:lnTo>
                    <a:lnTo>
                      <a:pt x="8" y="55"/>
                    </a:lnTo>
                    <a:lnTo>
                      <a:pt x="11" y="48"/>
                    </a:lnTo>
                    <a:lnTo>
                      <a:pt x="14" y="41"/>
                    </a:lnTo>
                    <a:lnTo>
                      <a:pt x="20" y="33"/>
                    </a:lnTo>
                    <a:lnTo>
                      <a:pt x="22" y="28"/>
                    </a:lnTo>
                    <a:lnTo>
                      <a:pt x="22" y="25"/>
                    </a:lnTo>
                    <a:lnTo>
                      <a:pt x="22" y="18"/>
                    </a:lnTo>
                    <a:lnTo>
                      <a:pt x="17" y="22"/>
                    </a:lnTo>
                    <a:lnTo>
                      <a:pt x="11" y="26"/>
                    </a:lnTo>
                    <a:lnTo>
                      <a:pt x="4" y="33"/>
                    </a:lnTo>
                    <a:lnTo>
                      <a:pt x="0" y="39"/>
                    </a:lnTo>
                    <a:lnTo>
                      <a:pt x="6" y="28"/>
                    </a:lnTo>
                    <a:lnTo>
                      <a:pt x="13" y="20"/>
                    </a:lnTo>
                    <a:lnTo>
                      <a:pt x="18" y="16"/>
                    </a:lnTo>
                    <a:lnTo>
                      <a:pt x="11" y="17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15" y="10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22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9680" y="5310360"/>
                <a:ext cx="22320" cy="66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3" y="0"/>
                    </a:moveTo>
                    <a:lnTo>
                      <a:pt x="8" y="16"/>
                    </a:lnTo>
                    <a:lnTo>
                      <a:pt x="8" y="24"/>
                    </a:lnTo>
                    <a:lnTo>
                      <a:pt x="9" y="36"/>
                    </a:lnTo>
                    <a:lnTo>
                      <a:pt x="12" y="41"/>
                    </a:lnTo>
                    <a:lnTo>
                      <a:pt x="6" y="32"/>
                    </a:lnTo>
                    <a:lnTo>
                      <a:pt x="5" y="24"/>
                    </a:lnTo>
                    <a:lnTo>
                      <a:pt x="1" y="28"/>
                    </a:lnTo>
                    <a:lnTo>
                      <a:pt x="3" y="34"/>
                    </a:lnTo>
                    <a:lnTo>
                      <a:pt x="6" y="39"/>
                    </a:lnTo>
                    <a:lnTo>
                      <a:pt x="7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46200" y="5232600"/>
                <a:ext cx="61920" cy="228600"/>
              </a:xfrm>
              <a:custGeom>
                <a:avLst/>
                <a:gdLst/>
                <a:ahLst/>
                <a:rect l="l" t="t" r="r" b="b"/>
                <a:pathLst>
                  <a:path w="39" h="144">
                    <a:moveTo>
                      <a:pt x="22" y="11"/>
                    </a:moveTo>
                    <a:lnTo>
                      <a:pt x="14" y="19"/>
                    </a:lnTo>
                    <a:lnTo>
                      <a:pt x="7" y="29"/>
                    </a:lnTo>
                    <a:lnTo>
                      <a:pt x="4" y="35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2" y="58"/>
                    </a:lnTo>
                    <a:lnTo>
                      <a:pt x="7" y="64"/>
                    </a:lnTo>
                    <a:lnTo>
                      <a:pt x="8" y="71"/>
                    </a:lnTo>
                    <a:lnTo>
                      <a:pt x="6" y="73"/>
                    </a:lnTo>
                    <a:lnTo>
                      <a:pt x="2" y="79"/>
                    </a:lnTo>
                    <a:lnTo>
                      <a:pt x="2" y="89"/>
                    </a:lnTo>
                    <a:lnTo>
                      <a:pt x="5" y="98"/>
                    </a:lnTo>
                    <a:lnTo>
                      <a:pt x="11" y="106"/>
                    </a:lnTo>
                    <a:lnTo>
                      <a:pt x="16" y="110"/>
                    </a:lnTo>
                    <a:lnTo>
                      <a:pt x="21" y="111"/>
                    </a:lnTo>
                    <a:lnTo>
                      <a:pt x="28" y="104"/>
                    </a:lnTo>
                    <a:lnTo>
                      <a:pt x="28" y="99"/>
                    </a:lnTo>
                    <a:lnTo>
                      <a:pt x="29" y="94"/>
                    </a:lnTo>
                    <a:lnTo>
                      <a:pt x="34" y="95"/>
                    </a:lnTo>
                    <a:lnTo>
                      <a:pt x="30" y="95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5"/>
                    </a:lnTo>
                    <a:lnTo>
                      <a:pt x="35" y="103"/>
                    </a:lnTo>
                    <a:lnTo>
                      <a:pt x="35" y="99"/>
                    </a:lnTo>
                    <a:lnTo>
                      <a:pt x="36" y="104"/>
                    </a:lnTo>
                    <a:lnTo>
                      <a:pt x="34" y="107"/>
                    </a:lnTo>
                    <a:lnTo>
                      <a:pt x="30" y="109"/>
                    </a:lnTo>
                    <a:lnTo>
                      <a:pt x="35" y="115"/>
                    </a:lnTo>
                    <a:lnTo>
                      <a:pt x="38" y="125"/>
                    </a:lnTo>
                    <a:lnTo>
                      <a:pt x="35" y="131"/>
                    </a:lnTo>
                    <a:lnTo>
                      <a:pt x="30" y="133"/>
                    </a:lnTo>
                    <a:lnTo>
                      <a:pt x="29" y="135"/>
                    </a:lnTo>
                    <a:lnTo>
                      <a:pt x="22" y="141"/>
                    </a:lnTo>
                    <a:lnTo>
                      <a:pt x="9" y="143"/>
                    </a:lnTo>
                    <a:lnTo>
                      <a:pt x="13" y="137"/>
                    </a:lnTo>
                    <a:lnTo>
                      <a:pt x="8" y="135"/>
                    </a:lnTo>
                    <a:lnTo>
                      <a:pt x="14" y="131"/>
                    </a:lnTo>
                    <a:lnTo>
                      <a:pt x="6" y="130"/>
                    </a:lnTo>
                    <a:lnTo>
                      <a:pt x="2" y="127"/>
                    </a:lnTo>
                    <a:lnTo>
                      <a:pt x="0" y="124"/>
                    </a:lnTo>
                    <a:lnTo>
                      <a:pt x="5" y="127"/>
                    </a:lnTo>
                    <a:lnTo>
                      <a:pt x="11" y="126"/>
                    </a:lnTo>
                    <a:lnTo>
                      <a:pt x="18" y="120"/>
                    </a:lnTo>
                    <a:lnTo>
                      <a:pt x="19" y="115"/>
                    </a:lnTo>
                    <a:lnTo>
                      <a:pt x="13" y="110"/>
                    </a:lnTo>
                    <a:lnTo>
                      <a:pt x="6" y="103"/>
                    </a:lnTo>
                    <a:lnTo>
                      <a:pt x="2" y="95"/>
                    </a:lnTo>
                    <a:lnTo>
                      <a:pt x="1" y="86"/>
                    </a:lnTo>
                    <a:lnTo>
                      <a:pt x="2" y="79"/>
                    </a:lnTo>
                    <a:lnTo>
                      <a:pt x="4" y="71"/>
                    </a:lnTo>
                    <a:lnTo>
                      <a:pt x="5" y="66"/>
                    </a:lnTo>
                    <a:lnTo>
                      <a:pt x="3" y="62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1" y="40"/>
                    </a:lnTo>
                    <a:lnTo>
                      <a:pt x="3" y="33"/>
                    </a:lnTo>
                    <a:lnTo>
                      <a:pt x="10" y="21"/>
                    </a:lnTo>
                    <a:lnTo>
                      <a:pt x="16" y="13"/>
                    </a:lnTo>
                    <a:lnTo>
                      <a:pt x="22" y="11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6" y="0"/>
                    </a:lnTo>
                    <a:lnTo>
                      <a:pt x="28" y="3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2" y="1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19280" y="527364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3"/>
                    </a:moveTo>
                    <a:lnTo>
                      <a:pt x="4" y="0"/>
                    </a:lnTo>
                    <a:lnTo>
                      <a:pt x="8" y="3"/>
                    </a:lnTo>
                    <a:lnTo>
                      <a:pt x="16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603440" y="5193000"/>
                <a:ext cx="147600" cy="9972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34" y="54"/>
                    </a:moveTo>
                    <a:lnTo>
                      <a:pt x="40" y="47"/>
                    </a:lnTo>
                    <a:lnTo>
                      <a:pt x="44" y="44"/>
                    </a:lnTo>
                    <a:lnTo>
                      <a:pt x="43" y="37"/>
                    </a:lnTo>
                    <a:lnTo>
                      <a:pt x="39" y="29"/>
                    </a:lnTo>
                    <a:lnTo>
                      <a:pt x="40" y="37"/>
                    </a:lnTo>
                    <a:lnTo>
                      <a:pt x="34" y="29"/>
                    </a:lnTo>
                    <a:lnTo>
                      <a:pt x="34" y="37"/>
                    </a:lnTo>
                    <a:lnTo>
                      <a:pt x="32" y="33"/>
                    </a:lnTo>
                    <a:lnTo>
                      <a:pt x="30" y="31"/>
                    </a:lnTo>
                    <a:lnTo>
                      <a:pt x="28" y="31"/>
                    </a:lnTo>
                    <a:lnTo>
                      <a:pt x="26" y="33"/>
                    </a:lnTo>
                    <a:lnTo>
                      <a:pt x="22" y="31"/>
                    </a:lnTo>
                    <a:lnTo>
                      <a:pt x="16" y="28"/>
                    </a:lnTo>
                    <a:lnTo>
                      <a:pt x="19" y="27"/>
                    </a:lnTo>
                    <a:lnTo>
                      <a:pt x="27" y="28"/>
                    </a:lnTo>
                    <a:lnTo>
                      <a:pt x="17" y="25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" y="17"/>
                    </a:lnTo>
                    <a:lnTo>
                      <a:pt x="6" y="9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4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9" y="12"/>
                    </a:lnTo>
                    <a:lnTo>
                      <a:pt x="63" y="14"/>
                    </a:lnTo>
                    <a:lnTo>
                      <a:pt x="50" y="10"/>
                    </a:lnTo>
                    <a:lnTo>
                      <a:pt x="39" y="6"/>
                    </a:lnTo>
                    <a:lnTo>
                      <a:pt x="31" y="6"/>
                    </a:lnTo>
                    <a:lnTo>
                      <a:pt x="27" y="6"/>
                    </a:lnTo>
                    <a:lnTo>
                      <a:pt x="23" y="8"/>
                    </a:lnTo>
                    <a:lnTo>
                      <a:pt x="20" y="11"/>
                    </a:lnTo>
                    <a:lnTo>
                      <a:pt x="18" y="14"/>
                    </a:lnTo>
                    <a:lnTo>
                      <a:pt x="23" y="11"/>
                    </a:lnTo>
                    <a:lnTo>
                      <a:pt x="28" y="9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34" y="14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2" y="17"/>
                    </a:lnTo>
                    <a:lnTo>
                      <a:pt x="22" y="20"/>
                    </a:lnTo>
                    <a:lnTo>
                      <a:pt x="27" y="18"/>
                    </a:lnTo>
                    <a:lnTo>
                      <a:pt x="32" y="20"/>
                    </a:lnTo>
                    <a:lnTo>
                      <a:pt x="39" y="22"/>
                    </a:lnTo>
                    <a:lnTo>
                      <a:pt x="47" y="22"/>
                    </a:lnTo>
                    <a:lnTo>
                      <a:pt x="51" y="23"/>
                    </a:lnTo>
                    <a:lnTo>
                      <a:pt x="51" y="22"/>
                    </a:lnTo>
                    <a:lnTo>
                      <a:pt x="43" y="25"/>
                    </a:lnTo>
                    <a:lnTo>
                      <a:pt x="37" y="25"/>
                    </a:lnTo>
                    <a:lnTo>
                      <a:pt x="31" y="24"/>
                    </a:lnTo>
                    <a:lnTo>
                      <a:pt x="38" y="28"/>
                    </a:lnTo>
                    <a:lnTo>
                      <a:pt x="45" y="32"/>
                    </a:lnTo>
                    <a:lnTo>
                      <a:pt x="51" y="36"/>
                    </a:lnTo>
                    <a:lnTo>
                      <a:pt x="54" y="39"/>
                    </a:lnTo>
                    <a:lnTo>
                      <a:pt x="55" y="43"/>
                    </a:lnTo>
                    <a:lnTo>
                      <a:pt x="56" y="38"/>
                    </a:lnTo>
                    <a:lnTo>
                      <a:pt x="59" y="45"/>
                    </a:lnTo>
                    <a:lnTo>
                      <a:pt x="63" y="48"/>
                    </a:lnTo>
                    <a:lnTo>
                      <a:pt x="70" y="49"/>
                    </a:lnTo>
                    <a:lnTo>
                      <a:pt x="72" y="49"/>
                    </a:lnTo>
                    <a:lnTo>
                      <a:pt x="68" y="45"/>
                    </a:lnTo>
                    <a:lnTo>
                      <a:pt x="76" y="46"/>
                    </a:lnTo>
                    <a:lnTo>
                      <a:pt x="70" y="40"/>
                    </a:lnTo>
                    <a:lnTo>
                      <a:pt x="60" y="33"/>
                    </a:lnTo>
                    <a:lnTo>
                      <a:pt x="71" y="34"/>
                    </a:lnTo>
                    <a:lnTo>
                      <a:pt x="77" y="36"/>
                    </a:lnTo>
                    <a:lnTo>
                      <a:pt x="72" y="31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74" y="28"/>
                    </a:lnTo>
                    <a:lnTo>
                      <a:pt x="71" y="22"/>
                    </a:lnTo>
                    <a:lnTo>
                      <a:pt x="67" y="17"/>
                    </a:lnTo>
                    <a:lnTo>
                      <a:pt x="74" y="24"/>
                    </a:lnTo>
                    <a:lnTo>
                      <a:pt x="80" y="33"/>
                    </a:lnTo>
                    <a:lnTo>
                      <a:pt x="82" y="44"/>
                    </a:lnTo>
                    <a:lnTo>
                      <a:pt x="86" y="49"/>
                    </a:lnTo>
                    <a:lnTo>
                      <a:pt x="92" y="56"/>
                    </a:lnTo>
                    <a:lnTo>
                      <a:pt x="86" y="52"/>
                    </a:lnTo>
                    <a:lnTo>
                      <a:pt x="82" y="49"/>
                    </a:lnTo>
                    <a:lnTo>
                      <a:pt x="80" y="54"/>
                    </a:lnTo>
                    <a:lnTo>
                      <a:pt x="84" y="56"/>
                    </a:lnTo>
                    <a:lnTo>
                      <a:pt x="84" y="62"/>
                    </a:lnTo>
                    <a:lnTo>
                      <a:pt x="76" y="61"/>
                    </a:lnTo>
                    <a:lnTo>
                      <a:pt x="72" y="57"/>
                    </a:lnTo>
                    <a:lnTo>
                      <a:pt x="70" y="56"/>
                    </a:lnTo>
                    <a:lnTo>
                      <a:pt x="62" y="56"/>
                    </a:lnTo>
                    <a:lnTo>
                      <a:pt x="56" y="54"/>
                    </a:lnTo>
                    <a:lnTo>
                      <a:pt x="51" y="49"/>
                    </a:lnTo>
                    <a:lnTo>
                      <a:pt x="48" y="42"/>
                    </a:lnTo>
                    <a:lnTo>
                      <a:pt x="48" y="50"/>
                    </a:lnTo>
                    <a:lnTo>
                      <a:pt x="45" y="54"/>
                    </a:lnTo>
                    <a:lnTo>
                      <a:pt x="40" y="54"/>
                    </a:lnTo>
                    <a:lnTo>
                      <a:pt x="40" y="52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603440" y="5272200"/>
                <a:ext cx="165240" cy="201600"/>
              </a:xfrm>
              <a:custGeom>
                <a:avLst/>
                <a:gdLst/>
                <a:ahLst/>
                <a:rect l="l" t="t" r="r" b="b"/>
                <a:pathLst>
                  <a:path w="104" h="127">
                    <a:moveTo>
                      <a:pt x="76" y="10"/>
                    </a:moveTo>
                    <a:lnTo>
                      <a:pt x="76" y="20"/>
                    </a:lnTo>
                    <a:lnTo>
                      <a:pt x="78" y="36"/>
                    </a:lnTo>
                    <a:lnTo>
                      <a:pt x="80" y="46"/>
                    </a:lnTo>
                    <a:lnTo>
                      <a:pt x="80" y="59"/>
                    </a:lnTo>
                    <a:lnTo>
                      <a:pt x="76" y="69"/>
                    </a:lnTo>
                    <a:lnTo>
                      <a:pt x="68" y="84"/>
                    </a:lnTo>
                    <a:lnTo>
                      <a:pt x="60" y="92"/>
                    </a:lnTo>
                    <a:lnTo>
                      <a:pt x="51" y="96"/>
                    </a:lnTo>
                    <a:lnTo>
                      <a:pt x="46" y="96"/>
                    </a:lnTo>
                    <a:lnTo>
                      <a:pt x="32" y="95"/>
                    </a:lnTo>
                    <a:lnTo>
                      <a:pt x="20" y="92"/>
                    </a:lnTo>
                    <a:lnTo>
                      <a:pt x="12" y="85"/>
                    </a:lnTo>
                    <a:lnTo>
                      <a:pt x="0" y="72"/>
                    </a:lnTo>
                    <a:lnTo>
                      <a:pt x="19" y="92"/>
                    </a:lnTo>
                    <a:lnTo>
                      <a:pt x="33" y="101"/>
                    </a:lnTo>
                    <a:lnTo>
                      <a:pt x="45" y="106"/>
                    </a:lnTo>
                    <a:lnTo>
                      <a:pt x="53" y="105"/>
                    </a:lnTo>
                    <a:lnTo>
                      <a:pt x="59" y="102"/>
                    </a:lnTo>
                    <a:lnTo>
                      <a:pt x="59" y="112"/>
                    </a:lnTo>
                    <a:lnTo>
                      <a:pt x="57" y="126"/>
                    </a:lnTo>
                    <a:lnTo>
                      <a:pt x="62" y="110"/>
                    </a:lnTo>
                    <a:lnTo>
                      <a:pt x="63" y="98"/>
                    </a:lnTo>
                    <a:lnTo>
                      <a:pt x="68" y="106"/>
                    </a:lnTo>
                    <a:lnTo>
                      <a:pt x="74" y="116"/>
                    </a:lnTo>
                    <a:lnTo>
                      <a:pt x="78" y="113"/>
                    </a:lnTo>
                    <a:lnTo>
                      <a:pt x="88" y="122"/>
                    </a:lnTo>
                    <a:lnTo>
                      <a:pt x="94" y="122"/>
                    </a:lnTo>
                    <a:lnTo>
                      <a:pt x="92" y="113"/>
                    </a:lnTo>
                    <a:lnTo>
                      <a:pt x="84" y="105"/>
                    </a:lnTo>
                    <a:lnTo>
                      <a:pt x="96" y="99"/>
                    </a:lnTo>
                    <a:lnTo>
                      <a:pt x="100" y="95"/>
                    </a:lnTo>
                    <a:lnTo>
                      <a:pt x="94" y="93"/>
                    </a:lnTo>
                    <a:lnTo>
                      <a:pt x="90" y="90"/>
                    </a:lnTo>
                    <a:lnTo>
                      <a:pt x="88" y="86"/>
                    </a:lnTo>
                    <a:lnTo>
                      <a:pt x="88" y="84"/>
                    </a:lnTo>
                    <a:lnTo>
                      <a:pt x="94" y="84"/>
                    </a:lnTo>
                    <a:lnTo>
                      <a:pt x="98" y="80"/>
                    </a:lnTo>
                    <a:lnTo>
                      <a:pt x="100" y="75"/>
                    </a:lnTo>
                    <a:lnTo>
                      <a:pt x="100" y="74"/>
                    </a:lnTo>
                    <a:lnTo>
                      <a:pt x="96" y="77"/>
                    </a:lnTo>
                    <a:lnTo>
                      <a:pt x="92" y="77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6" y="66"/>
                    </a:lnTo>
                    <a:lnTo>
                      <a:pt x="96" y="62"/>
                    </a:lnTo>
                    <a:lnTo>
                      <a:pt x="103" y="60"/>
                    </a:lnTo>
                    <a:lnTo>
                      <a:pt x="100" y="56"/>
                    </a:lnTo>
                    <a:lnTo>
                      <a:pt x="97" y="52"/>
                    </a:lnTo>
                    <a:lnTo>
                      <a:pt x="96" y="46"/>
                    </a:lnTo>
                    <a:lnTo>
                      <a:pt x="97" y="44"/>
                    </a:lnTo>
                    <a:lnTo>
                      <a:pt x="99" y="33"/>
                    </a:lnTo>
                    <a:lnTo>
                      <a:pt x="99" y="21"/>
                    </a:lnTo>
                    <a:lnTo>
                      <a:pt x="96" y="12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90" y="8"/>
                    </a:lnTo>
                    <a:lnTo>
                      <a:pt x="92" y="19"/>
                    </a:lnTo>
                    <a:lnTo>
                      <a:pt x="88" y="16"/>
                    </a:lnTo>
                    <a:lnTo>
                      <a:pt x="90" y="21"/>
                    </a:lnTo>
                    <a:lnTo>
                      <a:pt x="94" y="28"/>
                    </a:lnTo>
                    <a:lnTo>
                      <a:pt x="88" y="24"/>
                    </a:lnTo>
                    <a:lnTo>
                      <a:pt x="90" y="36"/>
                    </a:lnTo>
                    <a:lnTo>
                      <a:pt x="88" y="44"/>
                    </a:lnTo>
                    <a:lnTo>
                      <a:pt x="87" y="34"/>
                    </a:lnTo>
                    <a:lnTo>
                      <a:pt x="82" y="28"/>
                    </a:lnTo>
                    <a:lnTo>
                      <a:pt x="85" y="38"/>
                    </a:lnTo>
                    <a:lnTo>
                      <a:pt x="84" y="48"/>
                    </a:lnTo>
                    <a:lnTo>
                      <a:pt x="81" y="36"/>
                    </a:lnTo>
                    <a:lnTo>
                      <a:pt x="78" y="26"/>
                    </a:lnTo>
                    <a:lnTo>
                      <a:pt x="84" y="25"/>
                    </a:lnTo>
                    <a:lnTo>
                      <a:pt x="80" y="18"/>
                    </a:lnTo>
                    <a:lnTo>
                      <a:pt x="82" y="14"/>
                    </a:lnTo>
                    <a:lnTo>
                      <a:pt x="76" y="10"/>
                    </a:lnTo>
                    <a:lnTo>
                      <a:pt x="76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93720" y="5327640"/>
                <a:ext cx="648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93720" y="5322960"/>
                <a:ext cx="1296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02000" y="5334120"/>
                <a:ext cx="792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09920" y="5345280"/>
                <a:ext cx="288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24160" y="5459400"/>
                <a:ext cx="134640" cy="241560"/>
              </a:xfrm>
              <a:custGeom>
                <a:avLst/>
                <a:gdLst/>
                <a:ahLst/>
                <a:rect l="l" t="t" r="r" b="b"/>
                <a:pathLst>
                  <a:path w="85" h="152">
                    <a:moveTo>
                      <a:pt x="84" y="0"/>
                    </a:moveTo>
                    <a:lnTo>
                      <a:pt x="56" y="14"/>
                    </a:lnTo>
                    <a:lnTo>
                      <a:pt x="31" y="18"/>
                    </a:lnTo>
                    <a:lnTo>
                      <a:pt x="23" y="18"/>
                    </a:lnTo>
                    <a:lnTo>
                      <a:pt x="0" y="37"/>
                    </a:lnTo>
                    <a:lnTo>
                      <a:pt x="27" y="20"/>
                    </a:lnTo>
                    <a:lnTo>
                      <a:pt x="13" y="56"/>
                    </a:lnTo>
                    <a:lnTo>
                      <a:pt x="33" y="28"/>
                    </a:lnTo>
                    <a:lnTo>
                      <a:pt x="39" y="26"/>
                    </a:lnTo>
                    <a:lnTo>
                      <a:pt x="35" y="47"/>
                    </a:lnTo>
                    <a:lnTo>
                      <a:pt x="36" y="76"/>
                    </a:lnTo>
                    <a:lnTo>
                      <a:pt x="41" y="42"/>
                    </a:lnTo>
                    <a:lnTo>
                      <a:pt x="50" y="33"/>
                    </a:lnTo>
                    <a:lnTo>
                      <a:pt x="51" y="72"/>
                    </a:lnTo>
                    <a:lnTo>
                      <a:pt x="65" y="110"/>
                    </a:lnTo>
                    <a:lnTo>
                      <a:pt x="70" y="104"/>
                    </a:lnTo>
                    <a:lnTo>
                      <a:pt x="84" y="151"/>
                    </a:lnTo>
                    <a:lnTo>
                      <a:pt x="78" y="97"/>
                    </a:lnTo>
                    <a:lnTo>
                      <a:pt x="52" y="30"/>
                    </a:lnTo>
                    <a:lnTo>
                      <a:pt x="38" y="19"/>
                    </a:lnTo>
                    <a:lnTo>
                      <a:pt x="54" y="15"/>
                    </a:lnTo>
                    <a:lnTo>
                      <a:pt x="84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13000" y="5526360"/>
                <a:ext cx="117360" cy="331560"/>
              </a:xfrm>
              <a:custGeom>
                <a:avLst/>
                <a:gdLst/>
                <a:ahLst/>
                <a:rect l="l" t="t" r="r" b="b"/>
                <a:pathLst>
                  <a:path w="74" h="209">
                    <a:moveTo>
                      <a:pt x="5" y="0"/>
                    </a:moveTo>
                    <a:lnTo>
                      <a:pt x="2" y="10"/>
                    </a:lnTo>
                    <a:lnTo>
                      <a:pt x="13" y="28"/>
                    </a:lnTo>
                    <a:lnTo>
                      <a:pt x="25" y="30"/>
                    </a:lnTo>
                    <a:lnTo>
                      <a:pt x="57" y="70"/>
                    </a:lnTo>
                    <a:lnTo>
                      <a:pt x="72" y="101"/>
                    </a:lnTo>
                    <a:lnTo>
                      <a:pt x="68" y="98"/>
                    </a:lnTo>
                    <a:lnTo>
                      <a:pt x="57" y="78"/>
                    </a:lnTo>
                    <a:lnTo>
                      <a:pt x="32" y="58"/>
                    </a:lnTo>
                    <a:lnTo>
                      <a:pt x="24" y="48"/>
                    </a:lnTo>
                    <a:lnTo>
                      <a:pt x="38" y="84"/>
                    </a:lnTo>
                    <a:lnTo>
                      <a:pt x="73" y="119"/>
                    </a:lnTo>
                    <a:lnTo>
                      <a:pt x="40" y="91"/>
                    </a:lnTo>
                    <a:lnTo>
                      <a:pt x="23" y="68"/>
                    </a:lnTo>
                    <a:lnTo>
                      <a:pt x="32" y="114"/>
                    </a:lnTo>
                    <a:lnTo>
                      <a:pt x="43" y="128"/>
                    </a:lnTo>
                    <a:lnTo>
                      <a:pt x="40" y="150"/>
                    </a:lnTo>
                    <a:lnTo>
                      <a:pt x="48" y="168"/>
                    </a:lnTo>
                    <a:lnTo>
                      <a:pt x="49" y="194"/>
                    </a:lnTo>
                    <a:lnTo>
                      <a:pt x="58" y="208"/>
                    </a:lnTo>
                    <a:lnTo>
                      <a:pt x="48" y="203"/>
                    </a:lnTo>
                    <a:lnTo>
                      <a:pt x="43" y="183"/>
                    </a:lnTo>
                    <a:lnTo>
                      <a:pt x="44" y="168"/>
                    </a:lnTo>
                    <a:lnTo>
                      <a:pt x="38" y="148"/>
                    </a:lnTo>
                    <a:lnTo>
                      <a:pt x="37" y="129"/>
                    </a:lnTo>
                    <a:lnTo>
                      <a:pt x="29" y="114"/>
                    </a:lnTo>
                    <a:lnTo>
                      <a:pt x="13" y="33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95440" y="5702400"/>
                <a:ext cx="150840" cy="30312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0" y="0"/>
                    </a:moveTo>
                    <a:lnTo>
                      <a:pt x="13" y="14"/>
                    </a:lnTo>
                    <a:lnTo>
                      <a:pt x="31" y="15"/>
                    </a:lnTo>
                    <a:lnTo>
                      <a:pt x="40" y="18"/>
                    </a:lnTo>
                    <a:lnTo>
                      <a:pt x="47" y="23"/>
                    </a:lnTo>
                    <a:lnTo>
                      <a:pt x="48" y="29"/>
                    </a:lnTo>
                    <a:lnTo>
                      <a:pt x="47" y="39"/>
                    </a:lnTo>
                    <a:lnTo>
                      <a:pt x="45" y="42"/>
                    </a:lnTo>
                    <a:lnTo>
                      <a:pt x="46" y="33"/>
                    </a:lnTo>
                    <a:lnTo>
                      <a:pt x="41" y="25"/>
                    </a:lnTo>
                    <a:lnTo>
                      <a:pt x="34" y="22"/>
                    </a:lnTo>
                    <a:lnTo>
                      <a:pt x="30" y="20"/>
                    </a:lnTo>
                    <a:lnTo>
                      <a:pt x="24" y="19"/>
                    </a:lnTo>
                    <a:lnTo>
                      <a:pt x="20" y="19"/>
                    </a:lnTo>
                    <a:lnTo>
                      <a:pt x="33" y="35"/>
                    </a:lnTo>
                    <a:lnTo>
                      <a:pt x="39" y="44"/>
                    </a:lnTo>
                    <a:lnTo>
                      <a:pt x="52" y="50"/>
                    </a:lnTo>
                    <a:lnTo>
                      <a:pt x="59" y="71"/>
                    </a:lnTo>
                    <a:lnTo>
                      <a:pt x="72" y="85"/>
                    </a:lnTo>
                    <a:lnTo>
                      <a:pt x="13" y="96"/>
                    </a:lnTo>
                    <a:lnTo>
                      <a:pt x="29" y="126"/>
                    </a:lnTo>
                    <a:lnTo>
                      <a:pt x="51" y="148"/>
                    </a:lnTo>
                    <a:lnTo>
                      <a:pt x="94" y="190"/>
                    </a:lnTo>
                    <a:lnTo>
                      <a:pt x="36" y="137"/>
                    </a:lnTo>
                    <a:lnTo>
                      <a:pt x="24" y="124"/>
                    </a:lnTo>
                    <a:lnTo>
                      <a:pt x="8" y="98"/>
                    </a:lnTo>
                    <a:lnTo>
                      <a:pt x="2" y="92"/>
                    </a:lnTo>
                    <a:lnTo>
                      <a:pt x="21" y="88"/>
                    </a:lnTo>
                    <a:lnTo>
                      <a:pt x="63" y="81"/>
                    </a:lnTo>
                    <a:lnTo>
                      <a:pt x="54" y="72"/>
                    </a:lnTo>
                    <a:lnTo>
                      <a:pt x="50" y="51"/>
                    </a:lnTo>
                    <a:lnTo>
                      <a:pt x="34" y="47"/>
                    </a:lnTo>
                    <a:lnTo>
                      <a:pt x="29" y="32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4120" y="5654880"/>
                <a:ext cx="73080" cy="187200"/>
              </a:xfrm>
              <a:custGeom>
                <a:avLst/>
                <a:gdLst/>
                <a:ahLst/>
                <a:rect l="l" t="t" r="r" b="b"/>
                <a:pathLst>
                  <a:path w="46" h="118">
                    <a:moveTo>
                      <a:pt x="0" y="10"/>
                    </a:moveTo>
                    <a:lnTo>
                      <a:pt x="3" y="0"/>
                    </a:lnTo>
                    <a:lnTo>
                      <a:pt x="8" y="3"/>
                    </a:lnTo>
                    <a:lnTo>
                      <a:pt x="15" y="24"/>
                    </a:lnTo>
                    <a:lnTo>
                      <a:pt x="26" y="38"/>
                    </a:lnTo>
                    <a:lnTo>
                      <a:pt x="33" y="45"/>
                    </a:lnTo>
                    <a:lnTo>
                      <a:pt x="42" y="57"/>
                    </a:lnTo>
                    <a:lnTo>
                      <a:pt x="29" y="61"/>
                    </a:lnTo>
                    <a:lnTo>
                      <a:pt x="24" y="67"/>
                    </a:lnTo>
                    <a:lnTo>
                      <a:pt x="26" y="72"/>
                    </a:lnTo>
                    <a:lnTo>
                      <a:pt x="30" y="77"/>
                    </a:lnTo>
                    <a:lnTo>
                      <a:pt x="39" y="89"/>
                    </a:lnTo>
                    <a:lnTo>
                      <a:pt x="43" y="98"/>
                    </a:lnTo>
                    <a:lnTo>
                      <a:pt x="45" y="113"/>
                    </a:lnTo>
                    <a:lnTo>
                      <a:pt x="45" y="117"/>
                    </a:lnTo>
                    <a:lnTo>
                      <a:pt x="38" y="103"/>
                    </a:lnTo>
                    <a:lnTo>
                      <a:pt x="30" y="99"/>
                    </a:lnTo>
                    <a:lnTo>
                      <a:pt x="23" y="98"/>
                    </a:lnTo>
                    <a:lnTo>
                      <a:pt x="19" y="98"/>
                    </a:lnTo>
                    <a:lnTo>
                      <a:pt x="13" y="78"/>
                    </a:lnTo>
                    <a:lnTo>
                      <a:pt x="4" y="77"/>
                    </a:lnTo>
                    <a:lnTo>
                      <a:pt x="10" y="61"/>
                    </a:lnTo>
                    <a:lnTo>
                      <a:pt x="10" y="48"/>
                    </a:lnTo>
                    <a:lnTo>
                      <a:pt x="1" y="30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441440" y="5865840"/>
                <a:ext cx="200160" cy="139680"/>
              </a:xfrm>
              <a:custGeom>
                <a:avLst/>
                <a:gdLst/>
                <a:ahLst/>
                <a:rect l="l" t="t" r="r" b="b"/>
                <a:pathLst>
                  <a:path w="126" h="88">
                    <a:moveTo>
                      <a:pt x="46" y="0"/>
                    </a:moveTo>
                    <a:lnTo>
                      <a:pt x="28" y="18"/>
                    </a:lnTo>
                    <a:lnTo>
                      <a:pt x="0" y="59"/>
                    </a:lnTo>
                    <a:lnTo>
                      <a:pt x="19" y="76"/>
                    </a:lnTo>
                    <a:lnTo>
                      <a:pt x="48" y="84"/>
                    </a:lnTo>
                    <a:lnTo>
                      <a:pt x="102" y="87"/>
                    </a:lnTo>
                    <a:lnTo>
                      <a:pt x="125" y="85"/>
                    </a:lnTo>
                    <a:lnTo>
                      <a:pt x="84" y="82"/>
                    </a:lnTo>
                    <a:lnTo>
                      <a:pt x="47" y="73"/>
                    </a:lnTo>
                    <a:lnTo>
                      <a:pt x="42" y="52"/>
                    </a:lnTo>
                    <a:lnTo>
                      <a:pt x="37" y="61"/>
                    </a:lnTo>
                    <a:lnTo>
                      <a:pt x="9" y="58"/>
                    </a:lnTo>
                    <a:lnTo>
                      <a:pt x="34" y="20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85800" y="5837400"/>
                <a:ext cx="192240" cy="235080"/>
              </a:xfrm>
              <a:custGeom>
                <a:avLst/>
                <a:gdLst/>
                <a:ahLst/>
                <a:rect l="l" t="t" r="r" b="b"/>
                <a:pathLst>
                  <a:path w="121" h="148">
                    <a:moveTo>
                      <a:pt x="0" y="0"/>
                    </a:moveTo>
                    <a:lnTo>
                      <a:pt x="24" y="26"/>
                    </a:lnTo>
                    <a:lnTo>
                      <a:pt x="53" y="71"/>
                    </a:lnTo>
                    <a:lnTo>
                      <a:pt x="79" y="100"/>
                    </a:lnTo>
                    <a:lnTo>
                      <a:pt x="112" y="131"/>
                    </a:lnTo>
                    <a:lnTo>
                      <a:pt x="120" y="147"/>
                    </a:lnTo>
                    <a:lnTo>
                      <a:pt x="113" y="127"/>
                    </a:lnTo>
                    <a:lnTo>
                      <a:pt x="81" y="98"/>
                    </a:lnTo>
                    <a:lnTo>
                      <a:pt x="56" y="70"/>
                    </a:lnTo>
                    <a:lnTo>
                      <a:pt x="27" y="24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52760" y="6007320"/>
                <a:ext cx="66600" cy="11088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0" y="0"/>
                    </a:moveTo>
                    <a:lnTo>
                      <a:pt x="8" y="20"/>
                    </a:lnTo>
                    <a:lnTo>
                      <a:pt x="24" y="45"/>
                    </a:lnTo>
                    <a:lnTo>
                      <a:pt x="37" y="67"/>
                    </a:lnTo>
                    <a:lnTo>
                      <a:pt x="41" y="69"/>
                    </a:lnTo>
                    <a:lnTo>
                      <a:pt x="33" y="69"/>
                    </a:lnTo>
                    <a:lnTo>
                      <a:pt x="20" y="45"/>
                    </a:lnTo>
                    <a:lnTo>
                      <a:pt x="6" y="2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5456520"/>
                <a:ext cx="227160" cy="384120"/>
              </a:xfrm>
              <a:custGeom>
                <a:avLst/>
                <a:gdLst/>
                <a:ahLst/>
                <a:rect l="l" t="t" r="r" b="b"/>
                <a:pathLst>
                  <a:path w="143" h="242">
                    <a:moveTo>
                      <a:pt x="8" y="0"/>
                    </a:moveTo>
                    <a:lnTo>
                      <a:pt x="28" y="42"/>
                    </a:lnTo>
                    <a:lnTo>
                      <a:pt x="60" y="105"/>
                    </a:lnTo>
                    <a:lnTo>
                      <a:pt x="97" y="168"/>
                    </a:lnTo>
                    <a:lnTo>
                      <a:pt x="142" y="227"/>
                    </a:lnTo>
                    <a:lnTo>
                      <a:pt x="133" y="223"/>
                    </a:lnTo>
                    <a:lnTo>
                      <a:pt x="120" y="236"/>
                    </a:lnTo>
                    <a:lnTo>
                      <a:pt x="56" y="241"/>
                    </a:lnTo>
                    <a:lnTo>
                      <a:pt x="103" y="218"/>
                    </a:lnTo>
                    <a:lnTo>
                      <a:pt x="115" y="211"/>
                    </a:lnTo>
                    <a:lnTo>
                      <a:pt x="97" y="198"/>
                    </a:lnTo>
                    <a:lnTo>
                      <a:pt x="109" y="200"/>
                    </a:lnTo>
                    <a:lnTo>
                      <a:pt x="113" y="197"/>
                    </a:lnTo>
                    <a:lnTo>
                      <a:pt x="83" y="153"/>
                    </a:lnTo>
                    <a:lnTo>
                      <a:pt x="39" y="79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93720" y="5435640"/>
                <a:ext cx="227160" cy="573120"/>
              </a:xfrm>
              <a:custGeom>
                <a:avLst/>
                <a:gdLst/>
                <a:ahLst/>
                <a:rect l="l" t="t" r="r" b="b"/>
                <a:pathLst>
                  <a:path w="143" h="361">
                    <a:moveTo>
                      <a:pt x="0" y="3"/>
                    </a:moveTo>
                    <a:lnTo>
                      <a:pt x="29" y="45"/>
                    </a:lnTo>
                    <a:lnTo>
                      <a:pt x="77" y="115"/>
                    </a:lnTo>
                    <a:lnTo>
                      <a:pt x="103" y="163"/>
                    </a:lnTo>
                    <a:lnTo>
                      <a:pt x="119" y="210"/>
                    </a:lnTo>
                    <a:lnTo>
                      <a:pt x="120" y="234"/>
                    </a:lnTo>
                    <a:lnTo>
                      <a:pt x="119" y="279"/>
                    </a:lnTo>
                    <a:lnTo>
                      <a:pt x="110" y="302"/>
                    </a:lnTo>
                    <a:lnTo>
                      <a:pt x="86" y="335"/>
                    </a:lnTo>
                    <a:lnTo>
                      <a:pt x="69" y="347"/>
                    </a:lnTo>
                    <a:lnTo>
                      <a:pt x="70" y="349"/>
                    </a:lnTo>
                    <a:lnTo>
                      <a:pt x="90" y="338"/>
                    </a:lnTo>
                    <a:lnTo>
                      <a:pt x="102" y="345"/>
                    </a:lnTo>
                    <a:lnTo>
                      <a:pt x="83" y="360"/>
                    </a:lnTo>
                    <a:lnTo>
                      <a:pt x="104" y="347"/>
                    </a:lnTo>
                    <a:lnTo>
                      <a:pt x="119" y="335"/>
                    </a:lnTo>
                    <a:lnTo>
                      <a:pt x="118" y="331"/>
                    </a:lnTo>
                    <a:lnTo>
                      <a:pt x="120" y="329"/>
                    </a:lnTo>
                    <a:lnTo>
                      <a:pt x="122" y="331"/>
                    </a:lnTo>
                    <a:lnTo>
                      <a:pt x="126" y="317"/>
                    </a:lnTo>
                    <a:lnTo>
                      <a:pt x="132" y="281"/>
                    </a:lnTo>
                    <a:lnTo>
                      <a:pt x="132" y="243"/>
                    </a:lnTo>
                    <a:lnTo>
                      <a:pt x="128" y="246"/>
                    </a:lnTo>
                    <a:lnTo>
                      <a:pt x="125" y="212"/>
                    </a:lnTo>
                    <a:lnTo>
                      <a:pt x="142" y="139"/>
                    </a:lnTo>
                    <a:lnTo>
                      <a:pt x="122" y="200"/>
                    </a:lnTo>
                    <a:lnTo>
                      <a:pt x="104" y="149"/>
                    </a:lnTo>
                    <a:lnTo>
                      <a:pt x="76" y="105"/>
                    </a:lnTo>
                    <a:lnTo>
                      <a:pt x="42" y="56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89120" y="5475240"/>
                <a:ext cx="11160" cy="101880"/>
              </a:xfrm>
              <a:custGeom>
                <a:avLst/>
                <a:gdLst/>
                <a:ahLst/>
                <a:rect l="l" t="t" r="r" b="b"/>
                <a:pathLst>
                  <a:path w="7" h="64">
                    <a:moveTo>
                      <a:pt x="1" y="0"/>
                    </a:moveTo>
                    <a:lnTo>
                      <a:pt x="2" y="25"/>
                    </a:lnTo>
                    <a:lnTo>
                      <a:pt x="0" y="58"/>
                    </a:lnTo>
                    <a:lnTo>
                      <a:pt x="5" y="63"/>
                    </a:lnTo>
                    <a:lnTo>
                      <a:pt x="6" y="46"/>
                    </a:lnTo>
                    <a:lnTo>
                      <a:pt x="4" y="1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01720" y="5426280"/>
                <a:ext cx="57240" cy="257040"/>
              </a:xfrm>
              <a:custGeom>
                <a:avLst/>
                <a:gdLst/>
                <a:ahLst/>
                <a:rect l="l" t="t" r="r" b="b"/>
                <a:pathLst>
                  <a:path w="36" h="162">
                    <a:moveTo>
                      <a:pt x="1" y="11"/>
                    </a:moveTo>
                    <a:lnTo>
                      <a:pt x="19" y="46"/>
                    </a:lnTo>
                    <a:lnTo>
                      <a:pt x="32" y="99"/>
                    </a:lnTo>
                    <a:lnTo>
                      <a:pt x="32" y="151"/>
                    </a:lnTo>
                    <a:lnTo>
                      <a:pt x="35" y="161"/>
                    </a:lnTo>
                    <a:lnTo>
                      <a:pt x="35" y="95"/>
                    </a:lnTo>
                    <a:lnTo>
                      <a:pt x="16" y="27"/>
                    </a:lnTo>
                    <a:lnTo>
                      <a:pt x="35" y="35"/>
                    </a:lnTo>
                    <a:lnTo>
                      <a:pt x="15" y="22"/>
                    </a:lnTo>
                    <a:lnTo>
                      <a:pt x="0" y="0"/>
                    </a:lnTo>
                    <a:lnTo>
                      <a:pt x="1" y="11"/>
                    </a:lnTo>
                    <a:lnTo>
                      <a:pt x="1" y="1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778040" y="5484960"/>
                <a:ext cx="90360" cy="16524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0" y="0"/>
                    </a:moveTo>
                    <a:lnTo>
                      <a:pt x="27" y="8"/>
                    </a:lnTo>
                    <a:lnTo>
                      <a:pt x="30" y="12"/>
                    </a:lnTo>
                    <a:lnTo>
                      <a:pt x="41" y="15"/>
                    </a:lnTo>
                    <a:lnTo>
                      <a:pt x="54" y="29"/>
                    </a:lnTo>
                    <a:lnTo>
                      <a:pt x="56" y="44"/>
                    </a:lnTo>
                    <a:lnTo>
                      <a:pt x="49" y="28"/>
                    </a:lnTo>
                    <a:lnTo>
                      <a:pt x="47" y="39"/>
                    </a:lnTo>
                    <a:lnTo>
                      <a:pt x="41" y="35"/>
                    </a:lnTo>
                    <a:lnTo>
                      <a:pt x="46" y="68"/>
                    </a:lnTo>
                    <a:lnTo>
                      <a:pt x="31" y="21"/>
                    </a:lnTo>
                    <a:lnTo>
                      <a:pt x="32" y="64"/>
                    </a:lnTo>
                    <a:lnTo>
                      <a:pt x="27" y="103"/>
                    </a:lnTo>
                    <a:lnTo>
                      <a:pt x="30" y="59"/>
                    </a:lnTo>
                    <a:lnTo>
                      <a:pt x="26" y="13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00360" y="5561280"/>
                <a:ext cx="102960" cy="290520"/>
              </a:xfrm>
              <a:custGeom>
                <a:avLst/>
                <a:gdLst/>
                <a:ahLst/>
                <a:rect l="l" t="t" r="r" b="b"/>
                <a:pathLst>
                  <a:path w="65" h="183">
                    <a:moveTo>
                      <a:pt x="45" y="0"/>
                    </a:moveTo>
                    <a:lnTo>
                      <a:pt x="38" y="38"/>
                    </a:lnTo>
                    <a:lnTo>
                      <a:pt x="37" y="60"/>
                    </a:lnTo>
                    <a:lnTo>
                      <a:pt x="18" y="87"/>
                    </a:lnTo>
                    <a:lnTo>
                      <a:pt x="18" y="97"/>
                    </a:lnTo>
                    <a:lnTo>
                      <a:pt x="32" y="97"/>
                    </a:lnTo>
                    <a:lnTo>
                      <a:pt x="40" y="72"/>
                    </a:lnTo>
                    <a:lnTo>
                      <a:pt x="42" y="56"/>
                    </a:lnTo>
                    <a:lnTo>
                      <a:pt x="42" y="44"/>
                    </a:lnTo>
                    <a:lnTo>
                      <a:pt x="51" y="67"/>
                    </a:lnTo>
                    <a:lnTo>
                      <a:pt x="60" y="85"/>
                    </a:lnTo>
                    <a:lnTo>
                      <a:pt x="54" y="97"/>
                    </a:lnTo>
                    <a:lnTo>
                      <a:pt x="46" y="104"/>
                    </a:lnTo>
                    <a:lnTo>
                      <a:pt x="42" y="121"/>
                    </a:lnTo>
                    <a:lnTo>
                      <a:pt x="48" y="128"/>
                    </a:lnTo>
                    <a:lnTo>
                      <a:pt x="42" y="137"/>
                    </a:lnTo>
                    <a:lnTo>
                      <a:pt x="28" y="144"/>
                    </a:lnTo>
                    <a:lnTo>
                      <a:pt x="37" y="162"/>
                    </a:lnTo>
                    <a:lnTo>
                      <a:pt x="14" y="158"/>
                    </a:lnTo>
                    <a:lnTo>
                      <a:pt x="0" y="164"/>
                    </a:lnTo>
                    <a:lnTo>
                      <a:pt x="27" y="165"/>
                    </a:lnTo>
                    <a:lnTo>
                      <a:pt x="40" y="175"/>
                    </a:lnTo>
                    <a:lnTo>
                      <a:pt x="39" y="182"/>
                    </a:lnTo>
                    <a:lnTo>
                      <a:pt x="50" y="173"/>
                    </a:lnTo>
                    <a:lnTo>
                      <a:pt x="46" y="165"/>
                    </a:lnTo>
                    <a:lnTo>
                      <a:pt x="48" y="151"/>
                    </a:lnTo>
                    <a:lnTo>
                      <a:pt x="58" y="145"/>
                    </a:lnTo>
                    <a:lnTo>
                      <a:pt x="54" y="133"/>
                    </a:lnTo>
                    <a:lnTo>
                      <a:pt x="49" y="118"/>
                    </a:lnTo>
                    <a:lnTo>
                      <a:pt x="50" y="104"/>
                    </a:lnTo>
                    <a:lnTo>
                      <a:pt x="64" y="92"/>
                    </a:lnTo>
                    <a:lnTo>
                      <a:pt x="64" y="80"/>
                    </a:lnTo>
                    <a:lnTo>
                      <a:pt x="51" y="44"/>
                    </a:lnTo>
                    <a:lnTo>
                      <a:pt x="42" y="34"/>
                    </a:lnTo>
                    <a:lnTo>
                      <a:pt x="46" y="6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776600" y="5834160"/>
                <a:ext cx="96840" cy="238320"/>
              </a:xfrm>
              <a:custGeom>
                <a:avLst/>
                <a:gdLst/>
                <a:ahLst/>
                <a:rect l="l" t="t" r="r" b="b"/>
                <a:pathLst>
                  <a:path w="61" h="150">
                    <a:moveTo>
                      <a:pt x="53" y="2"/>
                    </a:moveTo>
                    <a:lnTo>
                      <a:pt x="51" y="24"/>
                    </a:lnTo>
                    <a:lnTo>
                      <a:pt x="41" y="58"/>
                    </a:lnTo>
                    <a:lnTo>
                      <a:pt x="29" y="91"/>
                    </a:lnTo>
                    <a:lnTo>
                      <a:pt x="25" y="93"/>
                    </a:lnTo>
                    <a:lnTo>
                      <a:pt x="24" y="90"/>
                    </a:lnTo>
                    <a:lnTo>
                      <a:pt x="14" y="86"/>
                    </a:lnTo>
                    <a:lnTo>
                      <a:pt x="5" y="79"/>
                    </a:lnTo>
                    <a:lnTo>
                      <a:pt x="13" y="87"/>
                    </a:lnTo>
                    <a:lnTo>
                      <a:pt x="23" y="92"/>
                    </a:lnTo>
                    <a:lnTo>
                      <a:pt x="22" y="96"/>
                    </a:lnTo>
                    <a:lnTo>
                      <a:pt x="20" y="96"/>
                    </a:lnTo>
                    <a:lnTo>
                      <a:pt x="9" y="90"/>
                    </a:lnTo>
                    <a:lnTo>
                      <a:pt x="5" y="82"/>
                    </a:lnTo>
                    <a:lnTo>
                      <a:pt x="9" y="91"/>
                    </a:lnTo>
                    <a:lnTo>
                      <a:pt x="24" y="101"/>
                    </a:lnTo>
                    <a:lnTo>
                      <a:pt x="19" y="116"/>
                    </a:lnTo>
                    <a:lnTo>
                      <a:pt x="0" y="148"/>
                    </a:lnTo>
                    <a:lnTo>
                      <a:pt x="0" y="149"/>
                    </a:lnTo>
                    <a:lnTo>
                      <a:pt x="19" y="123"/>
                    </a:lnTo>
                    <a:lnTo>
                      <a:pt x="27" y="103"/>
                    </a:lnTo>
                    <a:lnTo>
                      <a:pt x="29" y="104"/>
                    </a:lnTo>
                    <a:lnTo>
                      <a:pt x="27" y="101"/>
                    </a:lnTo>
                    <a:lnTo>
                      <a:pt x="27" y="96"/>
                    </a:lnTo>
                    <a:lnTo>
                      <a:pt x="29" y="93"/>
                    </a:lnTo>
                    <a:lnTo>
                      <a:pt x="32" y="95"/>
                    </a:lnTo>
                    <a:lnTo>
                      <a:pt x="30" y="101"/>
                    </a:lnTo>
                    <a:lnTo>
                      <a:pt x="33" y="96"/>
                    </a:lnTo>
                    <a:lnTo>
                      <a:pt x="32" y="91"/>
                    </a:lnTo>
                    <a:lnTo>
                      <a:pt x="33" y="88"/>
                    </a:lnTo>
                    <a:lnTo>
                      <a:pt x="52" y="81"/>
                    </a:lnTo>
                    <a:lnTo>
                      <a:pt x="60" y="74"/>
                    </a:lnTo>
                    <a:lnTo>
                      <a:pt x="60" y="70"/>
                    </a:lnTo>
                    <a:lnTo>
                      <a:pt x="47" y="52"/>
                    </a:lnTo>
                    <a:lnTo>
                      <a:pt x="53" y="24"/>
                    </a:lnTo>
                    <a:lnTo>
                      <a:pt x="56" y="0"/>
                    </a:lnTo>
                    <a:lnTo>
                      <a:pt x="53" y="2"/>
                    </a:lnTo>
                    <a:lnTo>
                      <a:pt x="53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698840" y="6051600"/>
                <a:ext cx="83880" cy="68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0" y="11"/>
                    </a:moveTo>
                    <a:lnTo>
                      <a:pt x="10" y="25"/>
                    </a:lnTo>
                    <a:lnTo>
                      <a:pt x="11" y="37"/>
                    </a:lnTo>
                    <a:lnTo>
                      <a:pt x="7" y="38"/>
                    </a:lnTo>
                    <a:lnTo>
                      <a:pt x="12" y="41"/>
                    </a:lnTo>
                    <a:lnTo>
                      <a:pt x="15" y="37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30" y="37"/>
                    </a:lnTo>
                    <a:lnTo>
                      <a:pt x="38" y="41"/>
                    </a:lnTo>
                    <a:lnTo>
                      <a:pt x="44" y="37"/>
                    </a:lnTo>
                    <a:lnTo>
                      <a:pt x="47" y="37"/>
                    </a:lnTo>
                    <a:lnTo>
                      <a:pt x="51" y="27"/>
                    </a:lnTo>
                    <a:lnTo>
                      <a:pt x="46" y="33"/>
                    </a:lnTo>
                    <a:lnTo>
                      <a:pt x="44" y="22"/>
                    </a:lnTo>
                    <a:lnTo>
                      <a:pt x="49" y="16"/>
                    </a:lnTo>
                    <a:lnTo>
                      <a:pt x="52" y="19"/>
                    </a:lnTo>
                    <a:lnTo>
                      <a:pt x="48" y="11"/>
                    </a:lnTo>
                    <a:lnTo>
                      <a:pt x="48" y="15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0" y="0"/>
                    </a:lnTo>
                    <a:lnTo>
                      <a:pt x="40" y="23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30" y="25"/>
                    </a:lnTo>
                    <a:lnTo>
                      <a:pt x="17" y="9"/>
                    </a:lnTo>
                    <a:lnTo>
                      <a:pt x="26" y="32"/>
                    </a:lnTo>
                    <a:lnTo>
                      <a:pt x="24" y="33"/>
                    </a:lnTo>
                    <a:lnTo>
                      <a:pt x="19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05160" y="5992920"/>
                <a:ext cx="12600" cy="141120"/>
              </a:xfrm>
              <a:custGeom>
                <a:avLst/>
                <a:gdLst/>
                <a:ahLst/>
                <a:rect l="l" t="t" r="r" b="b"/>
                <a:pathLst>
                  <a:path w="8" h="89">
                    <a:moveTo>
                      <a:pt x="0" y="0"/>
                    </a:moveTo>
                    <a:lnTo>
                      <a:pt x="0" y="88"/>
                    </a:lnTo>
                    <a:lnTo>
                      <a:pt x="6" y="88"/>
                    </a:lnTo>
                    <a:lnTo>
                      <a:pt x="7" y="25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19440" y="5985000"/>
                <a:ext cx="27000" cy="149040"/>
              </a:xfrm>
              <a:custGeom>
                <a:avLst/>
                <a:gdLst/>
                <a:ahLst/>
                <a:rect l="l" t="t" r="r" b="b"/>
                <a:pathLst>
                  <a:path w="17" h="94">
                    <a:moveTo>
                      <a:pt x="6" y="0"/>
                    </a:moveTo>
                    <a:lnTo>
                      <a:pt x="16" y="93"/>
                    </a:lnTo>
                    <a:lnTo>
                      <a:pt x="10" y="9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22520" y="5475240"/>
                <a:ext cx="69840" cy="1620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0"/>
                    </a:moveTo>
                    <a:lnTo>
                      <a:pt x="7" y="5"/>
                    </a:lnTo>
                    <a:lnTo>
                      <a:pt x="14" y="7"/>
                    </a:lnTo>
                    <a:lnTo>
                      <a:pt x="23" y="9"/>
                    </a:lnTo>
                    <a:lnTo>
                      <a:pt x="31" y="9"/>
                    </a:lnTo>
                    <a:lnTo>
                      <a:pt x="38" y="8"/>
                    </a:lnTo>
                    <a:lnTo>
                      <a:pt x="43" y="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65360" y="5491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2" y="0"/>
                    </a:move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30320" y="515952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0" y="2"/>
                    </a:moveTo>
                    <a:lnTo>
                      <a:pt x="5" y="0"/>
                    </a:lnTo>
                    <a:lnTo>
                      <a:pt x="16" y="5"/>
                    </a:lnTo>
                    <a:lnTo>
                      <a:pt x="26" y="4"/>
                    </a:lnTo>
                    <a:lnTo>
                      <a:pt x="39" y="8"/>
                    </a:lnTo>
                    <a:lnTo>
                      <a:pt x="28" y="7"/>
                    </a:lnTo>
                    <a:lnTo>
                      <a:pt x="17" y="8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63720" y="5159520"/>
                <a:ext cx="42840" cy="1584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26" y="0"/>
                    </a:moveTo>
                    <a:lnTo>
                      <a:pt x="22" y="6"/>
                    </a:lnTo>
                    <a:lnTo>
                      <a:pt x="10" y="7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2" y="4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78120" y="517680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4"/>
                    </a:moveTo>
                    <a:lnTo>
                      <a:pt x="5" y="2"/>
                    </a:lnTo>
                    <a:lnTo>
                      <a:pt x="13" y="0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41480" y="517860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5"/>
                    </a:moveTo>
                    <a:lnTo>
                      <a:pt x="6" y="0"/>
                    </a:lnTo>
                    <a:lnTo>
                      <a:pt x="21" y="2"/>
                    </a:lnTo>
                    <a:lnTo>
                      <a:pt x="23" y="8"/>
                    </a:lnTo>
                    <a:lnTo>
                      <a:pt x="19" y="5"/>
                    </a:lnTo>
                    <a:lnTo>
                      <a:pt x="13" y="5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24200" y="509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0" y="0"/>
                    </a:moveTo>
                    <a:lnTo>
                      <a:pt x="7" y="8"/>
                    </a:lnTo>
                    <a:lnTo>
                      <a:pt x="18" y="13"/>
                    </a:lnTo>
                    <a:lnTo>
                      <a:pt x="18" y="19"/>
                    </a:lnTo>
                    <a:lnTo>
                      <a:pt x="15" y="25"/>
                    </a:lnTo>
                    <a:lnTo>
                      <a:pt x="25" y="21"/>
                    </a:lnTo>
                    <a:lnTo>
                      <a:pt x="25" y="27"/>
                    </a:lnTo>
                    <a:lnTo>
                      <a:pt x="36" y="30"/>
                    </a:lnTo>
                    <a:lnTo>
                      <a:pt x="39" y="21"/>
                    </a:lnTo>
                    <a:lnTo>
                      <a:pt x="37" y="12"/>
                    </a:lnTo>
                    <a:lnTo>
                      <a:pt x="33" y="8"/>
                    </a:lnTo>
                    <a:lnTo>
                      <a:pt x="33" y="15"/>
                    </a:lnTo>
                    <a:lnTo>
                      <a:pt x="27" y="9"/>
                    </a:lnTo>
                    <a:lnTo>
                      <a:pt x="18" y="7"/>
                    </a:lnTo>
                    <a:lnTo>
                      <a:pt x="18" y="11"/>
                    </a:lnTo>
                    <a:lnTo>
                      <a:pt x="8" y="7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47960" y="5064120"/>
                <a:ext cx="92160" cy="23364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25" y="47"/>
                    </a:moveTo>
                    <a:lnTo>
                      <a:pt x="35" y="58"/>
                    </a:lnTo>
                    <a:lnTo>
                      <a:pt x="38" y="47"/>
                    </a:lnTo>
                    <a:lnTo>
                      <a:pt x="43" y="46"/>
                    </a:lnTo>
                    <a:lnTo>
                      <a:pt x="45" y="32"/>
                    </a:lnTo>
                    <a:lnTo>
                      <a:pt x="40" y="19"/>
                    </a:lnTo>
                    <a:lnTo>
                      <a:pt x="31" y="9"/>
                    </a:lnTo>
                    <a:lnTo>
                      <a:pt x="19" y="4"/>
                    </a:lnTo>
                    <a:lnTo>
                      <a:pt x="7" y="3"/>
                    </a:lnTo>
                    <a:lnTo>
                      <a:pt x="0" y="5"/>
                    </a:lnTo>
                    <a:lnTo>
                      <a:pt x="5" y="3"/>
                    </a:lnTo>
                    <a:lnTo>
                      <a:pt x="17" y="0"/>
                    </a:lnTo>
                    <a:lnTo>
                      <a:pt x="31" y="7"/>
                    </a:lnTo>
                    <a:lnTo>
                      <a:pt x="41" y="15"/>
                    </a:lnTo>
                    <a:lnTo>
                      <a:pt x="50" y="34"/>
                    </a:lnTo>
                    <a:lnTo>
                      <a:pt x="55" y="60"/>
                    </a:lnTo>
                    <a:lnTo>
                      <a:pt x="54" y="74"/>
                    </a:lnTo>
                    <a:lnTo>
                      <a:pt x="57" y="80"/>
                    </a:lnTo>
                    <a:lnTo>
                      <a:pt x="51" y="77"/>
                    </a:lnTo>
                    <a:lnTo>
                      <a:pt x="43" y="81"/>
                    </a:lnTo>
                    <a:lnTo>
                      <a:pt x="39" y="98"/>
                    </a:lnTo>
                    <a:lnTo>
                      <a:pt x="39" y="118"/>
                    </a:lnTo>
                    <a:lnTo>
                      <a:pt x="33" y="129"/>
                    </a:lnTo>
                    <a:lnTo>
                      <a:pt x="29" y="138"/>
                    </a:lnTo>
                    <a:lnTo>
                      <a:pt x="23" y="138"/>
                    </a:lnTo>
                    <a:lnTo>
                      <a:pt x="19" y="146"/>
                    </a:lnTo>
                    <a:lnTo>
                      <a:pt x="15" y="122"/>
                    </a:lnTo>
                    <a:lnTo>
                      <a:pt x="26" y="117"/>
                    </a:lnTo>
                    <a:lnTo>
                      <a:pt x="29" y="95"/>
                    </a:lnTo>
                    <a:lnTo>
                      <a:pt x="35" y="81"/>
                    </a:lnTo>
                    <a:lnTo>
                      <a:pt x="35" y="72"/>
                    </a:lnTo>
                    <a:lnTo>
                      <a:pt x="29" y="65"/>
                    </a:lnTo>
                    <a:lnTo>
                      <a:pt x="26" y="52"/>
                    </a:lnTo>
                    <a:lnTo>
                      <a:pt x="20" y="44"/>
                    </a:lnTo>
                    <a:lnTo>
                      <a:pt x="25" y="47"/>
                    </a:lnTo>
                    <a:lnTo>
                      <a:pt x="25" y="4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009880" y="518796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5" y="0"/>
                    </a:moveTo>
                    <a:lnTo>
                      <a:pt x="16" y="7"/>
                    </a:lnTo>
                    <a:lnTo>
                      <a:pt x="10" y="18"/>
                    </a:lnTo>
                    <a:lnTo>
                      <a:pt x="8" y="28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6" y="37"/>
                    </a:lnTo>
                    <a:lnTo>
                      <a:pt x="11" y="27"/>
                    </a:lnTo>
                    <a:lnTo>
                      <a:pt x="13" y="1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00440" y="5160960"/>
                <a:ext cx="17280" cy="6840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3" y="3"/>
                    </a:moveTo>
                    <a:lnTo>
                      <a:pt x="7" y="10"/>
                    </a:lnTo>
                    <a:lnTo>
                      <a:pt x="7" y="20"/>
                    </a:lnTo>
                    <a:lnTo>
                      <a:pt x="3" y="33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7" y="42"/>
                    </a:lnTo>
                    <a:lnTo>
                      <a:pt x="3" y="38"/>
                    </a:lnTo>
                    <a:lnTo>
                      <a:pt x="7" y="31"/>
                    </a:lnTo>
                    <a:lnTo>
                      <a:pt x="10" y="13"/>
                    </a:lnTo>
                    <a:lnTo>
                      <a:pt x="4" y="0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76320" y="5059440"/>
                <a:ext cx="82800" cy="5724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45" y="9"/>
                    </a:moveTo>
                    <a:lnTo>
                      <a:pt x="40" y="5"/>
                    </a:lnTo>
                    <a:lnTo>
                      <a:pt x="36" y="5"/>
                    </a:lnTo>
                    <a:lnTo>
                      <a:pt x="40" y="11"/>
                    </a:lnTo>
                    <a:lnTo>
                      <a:pt x="30" y="10"/>
                    </a:lnTo>
                    <a:lnTo>
                      <a:pt x="34" y="14"/>
                    </a:lnTo>
                    <a:lnTo>
                      <a:pt x="14" y="18"/>
                    </a:lnTo>
                    <a:lnTo>
                      <a:pt x="24" y="21"/>
                    </a:lnTo>
                    <a:lnTo>
                      <a:pt x="20" y="27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10" y="31"/>
                    </a:lnTo>
                    <a:lnTo>
                      <a:pt x="19" y="23"/>
                    </a:lnTo>
                    <a:lnTo>
                      <a:pt x="8" y="28"/>
                    </a:lnTo>
                    <a:lnTo>
                      <a:pt x="19" y="21"/>
                    </a:lnTo>
                    <a:lnTo>
                      <a:pt x="10" y="18"/>
                    </a:lnTo>
                    <a:lnTo>
                      <a:pt x="26" y="13"/>
                    </a:lnTo>
                    <a:lnTo>
                      <a:pt x="14" y="14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25" y="5"/>
                    </a:lnTo>
                    <a:lnTo>
                      <a:pt x="8" y="11"/>
                    </a:lnTo>
                    <a:lnTo>
                      <a:pt x="20" y="4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1" y="6"/>
                    </a:lnTo>
                    <a:lnTo>
                      <a:pt x="45" y="9"/>
                    </a:lnTo>
                    <a:lnTo>
                      <a:pt x="45" y="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51120" y="5092920"/>
                <a:ext cx="36360" cy="88920"/>
              </a:xfrm>
              <a:custGeom>
                <a:avLst/>
                <a:gdLst/>
                <a:ahLst/>
                <a:rect l="l" t="t" r="r" b="b"/>
                <a:pathLst>
                  <a:path w="23" h="56">
                    <a:moveTo>
                      <a:pt x="14" y="0"/>
                    </a:moveTo>
                    <a:lnTo>
                      <a:pt x="10" y="8"/>
                    </a:lnTo>
                    <a:lnTo>
                      <a:pt x="14" y="8"/>
                    </a:lnTo>
                    <a:lnTo>
                      <a:pt x="9" y="14"/>
                    </a:lnTo>
                    <a:lnTo>
                      <a:pt x="16" y="15"/>
                    </a:lnTo>
                    <a:lnTo>
                      <a:pt x="6" y="23"/>
                    </a:lnTo>
                    <a:lnTo>
                      <a:pt x="22" y="14"/>
                    </a:lnTo>
                    <a:lnTo>
                      <a:pt x="13" y="25"/>
                    </a:lnTo>
                    <a:lnTo>
                      <a:pt x="10" y="45"/>
                    </a:lnTo>
                    <a:lnTo>
                      <a:pt x="6" y="47"/>
                    </a:lnTo>
                    <a:lnTo>
                      <a:pt x="4" y="55"/>
                    </a:lnTo>
                    <a:lnTo>
                      <a:pt x="0" y="43"/>
                    </a:lnTo>
                    <a:lnTo>
                      <a:pt x="0" y="25"/>
                    </a:lnTo>
                    <a:lnTo>
                      <a:pt x="4" y="1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78120" y="521820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24" y="6"/>
                    </a:moveTo>
                    <a:lnTo>
                      <a:pt x="29" y="4"/>
                    </a:lnTo>
                    <a:lnTo>
                      <a:pt x="36" y="6"/>
                    </a:lnTo>
                    <a:lnTo>
                      <a:pt x="37" y="0"/>
                    </a:lnTo>
                    <a:lnTo>
                      <a:pt x="45" y="10"/>
                    </a:lnTo>
                    <a:lnTo>
                      <a:pt x="56" y="15"/>
                    </a:lnTo>
                    <a:lnTo>
                      <a:pt x="61" y="28"/>
                    </a:lnTo>
                    <a:lnTo>
                      <a:pt x="58" y="28"/>
                    </a:lnTo>
                    <a:lnTo>
                      <a:pt x="47" y="22"/>
                    </a:lnTo>
                    <a:lnTo>
                      <a:pt x="34" y="21"/>
                    </a:lnTo>
                    <a:lnTo>
                      <a:pt x="29" y="14"/>
                    </a:lnTo>
                    <a:lnTo>
                      <a:pt x="21" y="20"/>
                    </a:lnTo>
                    <a:lnTo>
                      <a:pt x="11" y="21"/>
                    </a:lnTo>
                    <a:lnTo>
                      <a:pt x="5" y="30"/>
                    </a:lnTo>
                    <a:lnTo>
                      <a:pt x="0" y="25"/>
                    </a:lnTo>
                    <a:lnTo>
                      <a:pt x="6" y="12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4" y="6"/>
                    </a:lnTo>
                    <a:lnTo>
                      <a:pt x="24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63720" y="5214960"/>
                <a:ext cx="115920" cy="1177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4" y="1"/>
                    </a:moveTo>
                    <a:lnTo>
                      <a:pt x="6" y="23"/>
                    </a:lnTo>
                    <a:lnTo>
                      <a:pt x="14" y="23"/>
                    </a:lnTo>
                    <a:lnTo>
                      <a:pt x="17" y="27"/>
                    </a:lnTo>
                    <a:lnTo>
                      <a:pt x="18" y="34"/>
                    </a:lnTo>
                    <a:lnTo>
                      <a:pt x="18" y="39"/>
                    </a:lnTo>
                    <a:lnTo>
                      <a:pt x="27" y="42"/>
                    </a:lnTo>
                    <a:lnTo>
                      <a:pt x="29" y="35"/>
                    </a:lnTo>
                    <a:lnTo>
                      <a:pt x="25" y="34"/>
                    </a:lnTo>
                    <a:lnTo>
                      <a:pt x="33" y="32"/>
                    </a:lnTo>
                    <a:lnTo>
                      <a:pt x="48" y="34"/>
                    </a:lnTo>
                    <a:lnTo>
                      <a:pt x="46" y="36"/>
                    </a:lnTo>
                    <a:lnTo>
                      <a:pt x="50" y="43"/>
                    </a:lnTo>
                    <a:lnTo>
                      <a:pt x="62" y="36"/>
                    </a:lnTo>
                    <a:lnTo>
                      <a:pt x="57" y="30"/>
                    </a:lnTo>
                    <a:lnTo>
                      <a:pt x="58" y="22"/>
                    </a:lnTo>
                    <a:lnTo>
                      <a:pt x="71" y="30"/>
                    </a:lnTo>
                    <a:lnTo>
                      <a:pt x="72" y="50"/>
                    </a:lnTo>
                    <a:lnTo>
                      <a:pt x="65" y="61"/>
                    </a:lnTo>
                    <a:lnTo>
                      <a:pt x="52" y="68"/>
                    </a:lnTo>
                    <a:lnTo>
                      <a:pt x="47" y="71"/>
                    </a:lnTo>
                    <a:lnTo>
                      <a:pt x="25" y="73"/>
                    </a:lnTo>
                    <a:lnTo>
                      <a:pt x="21" y="64"/>
                    </a:lnTo>
                    <a:lnTo>
                      <a:pt x="9" y="53"/>
                    </a:lnTo>
                    <a:lnTo>
                      <a:pt x="6" y="40"/>
                    </a:lnTo>
                    <a:lnTo>
                      <a:pt x="0" y="33"/>
                    </a:lnTo>
                    <a:lnTo>
                      <a:pt x="3" y="1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7600" y="517680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0"/>
                    </a:move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3" y="23"/>
                    </a:lnTo>
                    <a:lnTo>
                      <a:pt x="25" y="22"/>
                    </a:lnTo>
                    <a:lnTo>
                      <a:pt x="29" y="19"/>
                    </a:lnTo>
                    <a:lnTo>
                      <a:pt x="32" y="15"/>
                    </a:lnTo>
                    <a:lnTo>
                      <a:pt x="34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59040" y="5164200"/>
                <a:ext cx="127080" cy="50760"/>
              </a:xfrm>
              <a:custGeom>
                <a:avLst/>
                <a:gdLst/>
                <a:ahLst/>
                <a:rect l="l" t="t" r="r" b="b"/>
                <a:pathLst>
                  <a:path w="80" h="32">
                    <a:moveTo>
                      <a:pt x="0" y="5"/>
                    </a:moveTo>
                    <a:lnTo>
                      <a:pt x="1" y="2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70" y="0"/>
                    </a:lnTo>
                    <a:lnTo>
                      <a:pt x="75" y="2"/>
                    </a:lnTo>
                    <a:lnTo>
                      <a:pt x="79" y="6"/>
                    </a:lnTo>
                    <a:lnTo>
                      <a:pt x="79" y="11"/>
                    </a:lnTo>
                    <a:lnTo>
                      <a:pt x="79" y="23"/>
                    </a:lnTo>
                    <a:lnTo>
                      <a:pt x="79" y="28"/>
                    </a:lnTo>
                    <a:lnTo>
                      <a:pt x="75" y="31"/>
                    </a:lnTo>
                    <a:lnTo>
                      <a:pt x="51" y="31"/>
                    </a:lnTo>
                    <a:lnTo>
                      <a:pt x="45" y="26"/>
                    </a:lnTo>
                    <a:lnTo>
                      <a:pt x="43" y="19"/>
                    </a:lnTo>
                    <a:lnTo>
                      <a:pt x="42" y="10"/>
                    </a:lnTo>
                    <a:lnTo>
                      <a:pt x="45" y="2"/>
                    </a:lnTo>
                    <a:lnTo>
                      <a:pt x="4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986120" y="5181840"/>
                <a:ext cx="298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911240" y="5175360"/>
                <a:ext cx="1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90800" y="5245200"/>
                <a:ext cx="169920" cy="142920"/>
              </a:xfrm>
              <a:custGeom>
                <a:avLst/>
                <a:gdLst/>
                <a:ahLst/>
                <a:rect l="l" t="t" r="r" b="b"/>
                <a:pathLst>
                  <a:path w="107" h="90">
                    <a:moveTo>
                      <a:pt x="8" y="8"/>
                    </a:moveTo>
                    <a:lnTo>
                      <a:pt x="10" y="24"/>
                    </a:lnTo>
                    <a:lnTo>
                      <a:pt x="0" y="45"/>
                    </a:lnTo>
                    <a:lnTo>
                      <a:pt x="12" y="27"/>
                    </a:lnTo>
                    <a:lnTo>
                      <a:pt x="27" y="41"/>
                    </a:lnTo>
                    <a:lnTo>
                      <a:pt x="84" y="62"/>
                    </a:lnTo>
                    <a:lnTo>
                      <a:pt x="105" y="89"/>
                    </a:lnTo>
                    <a:lnTo>
                      <a:pt x="106" y="83"/>
                    </a:lnTo>
                    <a:lnTo>
                      <a:pt x="88" y="59"/>
                    </a:lnTo>
                    <a:lnTo>
                      <a:pt x="27" y="37"/>
                    </a:lnTo>
                    <a:lnTo>
                      <a:pt x="13" y="17"/>
                    </a:lnTo>
                    <a:lnTo>
                      <a:pt x="18" y="7"/>
                    </a:lnTo>
                    <a:lnTo>
                      <a:pt x="13" y="0"/>
                    </a:lnTo>
                    <a:lnTo>
                      <a:pt x="8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68400" y="5326200"/>
                <a:ext cx="115920" cy="254160"/>
              </a:xfrm>
              <a:custGeom>
                <a:avLst/>
                <a:gdLst/>
                <a:ahLst/>
                <a:rect l="l" t="t" r="r" b="b"/>
                <a:pathLst>
                  <a:path w="73" h="160">
                    <a:moveTo>
                      <a:pt x="72" y="2"/>
                    </a:moveTo>
                    <a:lnTo>
                      <a:pt x="50" y="33"/>
                    </a:lnTo>
                    <a:lnTo>
                      <a:pt x="41" y="52"/>
                    </a:lnTo>
                    <a:lnTo>
                      <a:pt x="39" y="26"/>
                    </a:lnTo>
                    <a:lnTo>
                      <a:pt x="43" y="20"/>
                    </a:lnTo>
                    <a:lnTo>
                      <a:pt x="48" y="26"/>
                    </a:lnTo>
                    <a:lnTo>
                      <a:pt x="36" y="0"/>
                    </a:lnTo>
                    <a:lnTo>
                      <a:pt x="39" y="18"/>
                    </a:lnTo>
                    <a:lnTo>
                      <a:pt x="35" y="22"/>
                    </a:lnTo>
                    <a:lnTo>
                      <a:pt x="26" y="24"/>
                    </a:lnTo>
                    <a:lnTo>
                      <a:pt x="29" y="32"/>
                    </a:lnTo>
                    <a:lnTo>
                      <a:pt x="34" y="32"/>
                    </a:lnTo>
                    <a:lnTo>
                      <a:pt x="34" y="65"/>
                    </a:lnTo>
                    <a:lnTo>
                      <a:pt x="0" y="154"/>
                    </a:lnTo>
                    <a:lnTo>
                      <a:pt x="2" y="159"/>
                    </a:lnTo>
                    <a:lnTo>
                      <a:pt x="48" y="43"/>
                    </a:lnTo>
                    <a:lnTo>
                      <a:pt x="61" y="20"/>
                    </a:lnTo>
                    <a:lnTo>
                      <a:pt x="72" y="2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12960" y="5326200"/>
                <a:ext cx="104760" cy="209520"/>
              </a:xfrm>
              <a:custGeom>
                <a:avLst/>
                <a:gdLst/>
                <a:ahLst/>
                <a:rect l="l" t="t" r="r" b="b"/>
                <a:pathLst>
                  <a:path w="66" h="132">
                    <a:moveTo>
                      <a:pt x="65" y="3"/>
                    </a:moveTo>
                    <a:lnTo>
                      <a:pt x="58" y="22"/>
                    </a:lnTo>
                    <a:lnTo>
                      <a:pt x="64" y="24"/>
                    </a:lnTo>
                    <a:lnTo>
                      <a:pt x="54" y="46"/>
                    </a:lnTo>
                    <a:lnTo>
                      <a:pt x="35" y="96"/>
                    </a:lnTo>
                    <a:lnTo>
                      <a:pt x="29" y="131"/>
                    </a:lnTo>
                    <a:lnTo>
                      <a:pt x="24" y="120"/>
                    </a:lnTo>
                    <a:lnTo>
                      <a:pt x="35" y="67"/>
                    </a:lnTo>
                    <a:lnTo>
                      <a:pt x="50" y="20"/>
                    </a:lnTo>
                    <a:lnTo>
                      <a:pt x="20" y="50"/>
                    </a:lnTo>
                    <a:lnTo>
                      <a:pt x="6" y="74"/>
                    </a:lnTo>
                    <a:lnTo>
                      <a:pt x="6" y="108"/>
                    </a:lnTo>
                    <a:lnTo>
                      <a:pt x="4" y="105"/>
                    </a:lnTo>
                    <a:lnTo>
                      <a:pt x="0" y="68"/>
                    </a:lnTo>
                    <a:lnTo>
                      <a:pt x="20" y="37"/>
                    </a:lnTo>
                    <a:lnTo>
                      <a:pt x="52" y="12"/>
                    </a:lnTo>
                    <a:lnTo>
                      <a:pt x="64" y="0"/>
                    </a:lnTo>
                    <a:lnTo>
                      <a:pt x="65" y="3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73440" y="5313600"/>
                <a:ext cx="155520" cy="328320"/>
              </a:xfrm>
              <a:custGeom>
                <a:avLst/>
                <a:gdLst/>
                <a:ahLst/>
                <a:rect l="l" t="t" r="r" b="b"/>
                <a:pathLst>
                  <a:path w="98" h="207">
                    <a:moveTo>
                      <a:pt x="95" y="0"/>
                    </a:moveTo>
                    <a:lnTo>
                      <a:pt x="92" y="26"/>
                    </a:lnTo>
                    <a:lnTo>
                      <a:pt x="73" y="32"/>
                    </a:lnTo>
                    <a:lnTo>
                      <a:pt x="80" y="48"/>
                    </a:lnTo>
                    <a:lnTo>
                      <a:pt x="47" y="107"/>
                    </a:lnTo>
                    <a:lnTo>
                      <a:pt x="20" y="166"/>
                    </a:lnTo>
                    <a:lnTo>
                      <a:pt x="0" y="206"/>
                    </a:lnTo>
                    <a:lnTo>
                      <a:pt x="40" y="131"/>
                    </a:lnTo>
                    <a:lnTo>
                      <a:pt x="84" y="45"/>
                    </a:lnTo>
                    <a:lnTo>
                      <a:pt x="80" y="39"/>
                    </a:lnTo>
                    <a:lnTo>
                      <a:pt x="95" y="30"/>
                    </a:lnTo>
                    <a:lnTo>
                      <a:pt x="97" y="4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936800" y="5378400"/>
                <a:ext cx="166680" cy="606600"/>
              </a:xfrm>
              <a:custGeom>
                <a:avLst/>
                <a:gdLst/>
                <a:ahLst/>
                <a:rect l="l" t="t" r="r" b="b"/>
                <a:pathLst>
                  <a:path w="105" h="382">
                    <a:moveTo>
                      <a:pt x="81" y="0"/>
                    </a:moveTo>
                    <a:lnTo>
                      <a:pt x="68" y="51"/>
                    </a:lnTo>
                    <a:lnTo>
                      <a:pt x="69" y="101"/>
                    </a:lnTo>
                    <a:lnTo>
                      <a:pt x="80" y="154"/>
                    </a:lnTo>
                    <a:lnTo>
                      <a:pt x="85" y="131"/>
                    </a:lnTo>
                    <a:lnTo>
                      <a:pt x="84" y="157"/>
                    </a:lnTo>
                    <a:lnTo>
                      <a:pt x="80" y="175"/>
                    </a:lnTo>
                    <a:lnTo>
                      <a:pt x="94" y="232"/>
                    </a:lnTo>
                    <a:lnTo>
                      <a:pt x="78" y="210"/>
                    </a:lnTo>
                    <a:lnTo>
                      <a:pt x="74" y="233"/>
                    </a:lnTo>
                    <a:lnTo>
                      <a:pt x="88" y="251"/>
                    </a:lnTo>
                    <a:lnTo>
                      <a:pt x="78" y="251"/>
                    </a:lnTo>
                    <a:lnTo>
                      <a:pt x="77" y="267"/>
                    </a:lnTo>
                    <a:lnTo>
                      <a:pt x="87" y="289"/>
                    </a:lnTo>
                    <a:lnTo>
                      <a:pt x="92" y="298"/>
                    </a:lnTo>
                    <a:lnTo>
                      <a:pt x="87" y="308"/>
                    </a:lnTo>
                    <a:lnTo>
                      <a:pt x="100" y="338"/>
                    </a:lnTo>
                    <a:lnTo>
                      <a:pt x="90" y="333"/>
                    </a:lnTo>
                    <a:lnTo>
                      <a:pt x="104" y="380"/>
                    </a:lnTo>
                    <a:lnTo>
                      <a:pt x="94" y="359"/>
                    </a:lnTo>
                    <a:lnTo>
                      <a:pt x="74" y="295"/>
                    </a:lnTo>
                    <a:lnTo>
                      <a:pt x="72" y="248"/>
                    </a:lnTo>
                    <a:lnTo>
                      <a:pt x="45" y="362"/>
                    </a:lnTo>
                    <a:lnTo>
                      <a:pt x="98" y="381"/>
                    </a:lnTo>
                    <a:lnTo>
                      <a:pt x="38" y="364"/>
                    </a:lnTo>
                    <a:lnTo>
                      <a:pt x="68" y="228"/>
                    </a:lnTo>
                    <a:lnTo>
                      <a:pt x="0" y="269"/>
                    </a:lnTo>
                    <a:lnTo>
                      <a:pt x="60" y="227"/>
                    </a:lnTo>
                    <a:lnTo>
                      <a:pt x="60" y="219"/>
                    </a:lnTo>
                    <a:lnTo>
                      <a:pt x="36" y="214"/>
                    </a:lnTo>
                    <a:lnTo>
                      <a:pt x="36" y="209"/>
                    </a:lnTo>
                    <a:lnTo>
                      <a:pt x="72" y="195"/>
                    </a:lnTo>
                    <a:lnTo>
                      <a:pt x="74" y="154"/>
                    </a:lnTo>
                    <a:lnTo>
                      <a:pt x="64" y="96"/>
                    </a:lnTo>
                    <a:lnTo>
                      <a:pt x="64" y="46"/>
                    </a:lnTo>
                    <a:lnTo>
                      <a:pt x="81" y="0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89360" y="59565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12" y="0"/>
                    </a:moveTo>
                    <a:lnTo>
                      <a:pt x="0" y="60"/>
                    </a:lnTo>
                    <a:lnTo>
                      <a:pt x="9" y="79"/>
                    </a:lnTo>
                    <a:lnTo>
                      <a:pt x="17" y="82"/>
                    </a:lnTo>
                    <a:lnTo>
                      <a:pt x="19" y="79"/>
                    </a:lnTo>
                    <a:lnTo>
                      <a:pt x="27" y="81"/>
                    </a:lnTo>
                    <a:lnTo>
                      <a:pt x="39" y="76"/>
                    </a:lnTo>
                    <a:lnTo>
                      <a:pt x="48" y="75"/>
                    </a:lnTo>
                    <a:lnTo>
                      <a:pt x="58" y="64"/>
                    </a:lnTo>
                    <a:lnTo>
                      <a:pt x="47" y="66"/>
                    </a:lnTo>
                    <a:lnTo>
                      <a:pt x="45" y="49"/>
                    </a:lnTo>
                    <a:lnTo>
                      <a:pt x="44" y="72"/>
                    </a:lnTo>
                    <a:lnTo>
                      <a:pt x="30" y="75"/>
                    </a:lnTo>
                    <a:lnTo>
                      <a:pt x="29" y="52"/>
                    </a:lnTo>
                    <a:lnTo>
                      <a:pt x="26" y="76"/>
                    </a:lnTo>
                    <a:lnTo>
                      <a:pt x="17" y="76"/>
                    </a:lnTo>
                    <a:lnTo>
                      <a:pt x="17" y="52"/>
                    </a:lnTo>
                    <a:lnTo>
                      <a:pt x="14" y="72"/>
                    </a:lnTo>
                    <a:lnTo>
                      <a:pt x="11" y="72"/>
                    </a:lnTo>
                    <a:lnTo>
                      <a:pt x="4" y="61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75040" y="598032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3" y="4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79720" y="6021360"/>
                <a:ext cx="14400" cy="114480"/>
              </a:xfrm>
              <a:custGeom>
                <a:avLst/>
                <a:gdLst/>
                <a:ahLst/>
                <a:rect l="l" t="t" r="r" b="b"/>
                <a:pathLst>
                  <a:path w="9" h="72">
                    <a:moveTo>
                      <a:pt x="1" y="1"/>
                    </a:moveTo>
                    <a:lnTo>
                      <a:pt x="0" y="71"/>
                    </a:lnTo>
                    <a:lnTo>
                      <a:pt x="8" y="71"/>
                    </a:lnTo>
                    <a:lnTo>
                      <a:pt x="8" y="3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068560" y="5467320"/>
                <a:ext cx="54000" cy="216000"/>
              </a:xfrm>
              <a:custGeom>
                <a:avLst/>
                <a:gdLst/>
                <a:ahLst/>
                <a:rect l="l" t="t" r="r" b="b"/>
                <a:pathLst>
                  <a:path w="34" h="136">
                    <a:moveTo>
                      <a:pt x="28" y="7"/>
                    </a:moveTo>
                    <a:lnTo>
                      <a:pt x="6" y="24"/>
                    </a:lnTo>
                    <a:lnTo>
                      <a:pt x="4" y="53"/>
                    </a:lnTo>
                    <a:lnTo>
                      <a:pt x="4" y="77"/>
                    </a:lnTo>
                    <a:lnTo>
                      <a:pt x="15" y="135"/>
                    </a:lnTo>
                    <a:lnTo>
                      <a:pt x="1" y="81"/>
                    </a:lnTo>
                    <a:lnTo>
                      <a:pt x="0" y="40"/>
                    </a:lnTo>
                    <a:lnTo>
                      <a:pt x="4" y="21"/>
                    </a:lnTo>
                    <a:lnTo>
                      <a:pt x="33" y="0"/>
                    </a:lnTo>
                    <a:lnTo>
                      <a:pt x="28" y="7"/>
                    </a:lnTo>
                    <a:lnTo>
                      <a:pt x="28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33720" y="5173920"/>
                <a:ext cx="231840" cy="392040"/>
              </a:xfrm>
              <a:custGeom>
                <a:avLst/>
                <a:gdLst/>
                <a:ahLst/>
                <a:rect l="l" t="t" r="r" b="b"/>
                <a:pathLst>
                  <a:path w="146" h="247">
                    <a:moveTo>
                      <a:pt x="39" y="30"/>
                    </a:moveTo>
                    <a:lnTo>
                      <a:pt x="32" y="35"/>
                    </a:lnTo>
                    <a:lnTo>
                      <a:pt x="27" y="43"/>
                    </a:lnTo>
                    <a:lnTo>
                      <a:pt x="20" y="82"/>
                    </a:lnTo>
                    <a:lnTo>
                      <a:pt x="19" y="110"/>
                    </a:lnTo>
                    <a:lnTo>
                      <a:pt x="21" y="123"/>
                    </a:lnTo>
                    <a:lnTo>
                      <a:pt x="28" y="137"/>
                    </a:lnTo>
                    <a:lnTo>
                      <a:pt x="44" y="148"/>
                    </a:lnTo>
                    <a:lnTo>
                      <a:pt x="49" y="150"/>
                    </a:lnTo>
                    <a:lnTo>
                      <a:pt x="57" y="148"/>
                    </a:lnTo>
                    <a:lnTo>
                      <a:pt x="64" y="146"/>
                    </a:lnTo>
                    <a:lnTo>
                      <a:pt x="81" y="138"/>
                    </a:lnTo>
                    <a:lnTo>
                      <a:pt x="97" y="128"/>
                    </a:lnTo>
                    <a:lnTo>
                      <a:pt x="106" y="118"/>
                    </a:lnTo>
                    <a:lnTo>
                      <a:pt x="107" y="118"/>
                    </a:lnTo>
                    <a:lnTo>
                      <a:pt x="102" y="130"/>
                    </a:lnTo>
                    <a:lnTo>
                      <a:pt x="90" y="142"/>
                    </a:lnTo>
                    <a:lnTo>
                      <a:pt x="74" y="152"/>
                    </a:lnTo>
                    <a:lnTo>
                      <a:pt x="79" y="155"/>
                    </a:lnTo>
                    <a:lnTo>
                      <a:pt x="69" y="161"/>
                    </a:lnTo>
                    <a:lnTo>
                      <a:pt x="60" y="164"/>
                    </a:lnTo>
                    <a:lnTo>
                      <a:pt x="54" y="164"/>
                    </a:lnTo>
                    <a:lnTo>
                      <a:pt x="46" y="160"/>
                    </a:lnTo>
                    <a:lnTo>
                      <a:pt x="49" y="187"/>
                    </a:lnTo>
                    <a:lnTo>
                      <a:pt x="48" y="210"/>
                    </a:lnTo>
                    <a:lnTo>
                      <a:pt x="46" y="224"/>
                    </a:lnTo>
                    <a:lnTo>
                      <a:pt x="37" y="246"/>
                    </a:lnTo>
                    <a:lnTo>
                      <a:pt x="43" y="221"/>
                    </a:lnTo>
                    <a:lnTo>
                      <a:pt x="44" y="196"/>
                    </a:lnTo>
                    <a:lnTo>
                      <a:pt x="44" y="177"/>
                    </a:lnTo>
                    <a:lnTo>
                      <a:pt x="42" y="168"/>
                    </a:lnTo>
                    <a:lnTo>
                      <a:pt x="38" y="180"/>
                    </a:lnTo>
                    <a:lnTo>
                      <a:pt x="33" y="186"/>
                    </a:lnTo>
                    <a:lnTo>
                      <a:pt x="28" y="192"/>
                    </a:lnTo>
                    <a:lnTo>
                      <a:pt x="29" y="202"/>
                    </a:lnTo>
                    <a:lnTo>
                      <a:pt x="32" y="212"/>
                    </a:lnTo>
                    <a:lnTo>
                      <a:pt x="38" y="220"/>
                    </a:lnTo>
                    <a:lnTo>
                      <a:pt x="27" y="209"/>
                    </a:lnTo>
                    <a:lnTo>
                      <a:pt x="19" y="198"/>
                    </a:lnTo>
                    <a:lnTo>
                      <a:pt x="11" y="185"/>
                    </a:lnTo>
                    <a:lnTo>
                      <a:pt x="6" y="194"/>
                    </a:lnTo>
                    <a:lnTo>
                      <a:pt x="4" y="205"/>
                    </a:lnTo>
                    <a:lnTo>
                      <a:pt x="5" y="217"/>
                    </a:lnTo>
                    <a:lnTo>
                      <a:pt x="8" y="226"/>
                    </a:lnTo>
                    <a:lnTo>
                      <a:pt x="0" y="210"/>
                    </a:lnTo>
                    <a:lnTo>
                      <a:pt x="0" y="196"/>
                    </a:lnTo>
                    <a:lnTo>
                      <a:pt x="1" y="181"/>
                    </a:lnTo>
                    <a:lnTo>
                      <a:pt x="4" y="172"/>
                    </a:lnTo>
                    <a:lnTo>
                      <a:pt x="6" y="155"/>
                    </a:lnTo>
                    <a:lnTo>
                      <a:pt x="10" y="140"/>
                    </a:lnTo>
                    <a:lnTo>
                      <a:pt x="14" y="130"/>
                    </a:lnTo>
                    <a:lnTo>
                      <a:pt x="16" y="118"/>
                    </a:lnTo>
                    <a:lnTo>
                      <a:pt x="16" y="108"/>
                    </a:lnTo>
                    <a:lnTo>
                      <a:pt x="10" y="86"/>
                    </a:lnTo>
                    <a:lnTo>
                      <a:pt x="8" y="66"/>
                    </a:lnTo>
                    <a:lnTo>
                      <a:pt x="9" y="48"/>
                    </a:lnTo>
                    <a:lnTo>
                      <a:pt x="16" y="30"/>
                    </a:lnTo>
                    <a:lnTo>
                      <a:pt x="26" y="20"/>
                    </a:lnTo>
                    <a:lnTo>
                      <a:pt x="32" y="16"/>
                    </a:lnTo>
                    <a:lnTo>
                      <a:pt x="38" y="16"/>
                    </a:lnTo>
                    <a:lnTo>
                      <a:pt x="41" y="16"/>
                    </a:lnTo>
                    <a:lnTo>
                      <a:pt x="50" y="9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3" y="9"/>
                    </a:lnTo>
                    <a:lnTo>
                      <a:pt x="118" y="23"/>
                    </a:lnTo>
                    <a:lnTo>
                      <a:pt x="127" y="40"/>
                    </a:lnTo>
                    <a:lnTo>
                      <a:pt x="132" y="62"/>
                    </a:lnTo>
                    <a:lnTo>
                      <a:pt x="145" y="114"/>
                    </a:lnTo>
                    <a:lnTo>
                      <a:pt x="126" y="94"/>
                    </a:lnTo>
                    <a:lnTo>
                      <a:pt x="114" y="90"/>
                    </a:lnTo>
                    <a:lnTo>
                      <a:pt x="104" y="82"/>
                    </a:lnTo>
                    <a:lnTo>
                      <a:pt x="99" y="77"/>
                    </a:lnTo>
                    <a:lnTo>
                      <a:pt x="87" y="74"/>
                    </a:lnTo>
                    <a:lnTo>
                      <a:pt x="80" y="69"/>
                    </a:lnTo>
                    <a:lnTo>
                      <a:pt x="74" y="64"/>
                    </a:lnTo>
                    <a:lnTo>
                      <a:pt x="60" y="61"/>
                    </a:lnTo>
                    <a:lnTo>
                      <a:pt x="49" y="54"/>
                    </a:lnTo>
                    <a:lnTo>
                      <a:pt x="42" y="46"/>
                    </a:lnTo>
                    <a:lnTo>
                      <a:pt x="38" y="40"/>
                    </a:lnTo>
                    <a:lnTo>
                      <a:pt x="36" y="35"/>
                    </a:lnTo>
                    <a:lnTo>
                      <a:pt x="39" y="30"/>
                    </a:lnTo>
                    <a:lnTo>
                      <a:pt x="39" y="3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70080" y="52754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5"/>
                    </a:moveTo>
                    <a:lnTo>
                      <a:pt x="5" y="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9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28760" y="527364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0" y="7"/>
                    </a:moveTo>
                    <a:lnTo>
                      <a:pt x="14" y="0"/>
                    </a:lnTo>
                    <a:lnTo>
                      <a:pt x="20" y="5"/>
                    </a:lnTo>
                    <a:lnTo>
                      <a:pt x="8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87800" y="530712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9" y="0"/>
                    </a:moveTo>
                    <a:lnTo>
                      <a:pt x="8" y="6"/>
                    </a:lnTo>
                    <a:lnTo>
                      <a:pt x="6" y="14"/>
                    </a:lnTo>
                    <a:lnTo>
                      <a:pt x="3" y="21"/>
                    </a:lnTo>
                    <a:lnTo>
                      <a:pt x="0" y="26"/>
                    </a:lnTo>
                    <a:lnTo>
                      <a:pt x="9" y="20"/>
                    </a:lnTo>
                    <a:lnTo>
                      <a:pt x="9" y="26"/>
                    </a:lnTo>
                    <a:lnTo>
                      <a:pt x="4" y="40"/>
                    </a:lnTo>
                    <a:lnTo>
                      <a:pt x="10" y="3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9" y="34"/>
                    </a:lnTo>
                    <a:lnTo>
                      <a:pt x="21" y="26"/>
                    </a:lnTo>
                    <a:lnTo>
                      <a:pt x="19" y="23"/>
                    </a:lnTo>
                    <a:lnTo>
                      <a:pt x="13" y="23"/>
                    </a:lnTo>
                    <a:lnTo>
                      <a:pt x="14" y="12"/>
                    </a:lnTo>
                    <a:lnTo>
                      <a:pt x="19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244600" y="5316480"/>
                <a:ext cx="157320" cy="244800"/>
              </a:xfrm>
              <a:custGeom>
                <a:avLst/>
                <a:gdLst/>
                <a:ahLst/>
                <a:rect l="l" t="t" r="r" b="b"/>
                <a:pathLst>
                  <a:path w="99" h="154">
                    <a:moveTo>
                      <a:pt x="55" y="2"/>
                    </a:moveTo>
                    <a:lnTo>
                      <a:pt x="52" y="15"/>
                    </a:lnTo>
                    <a:lnTo>
                      <a:pt x="48" y="20"/>
                    </a:lnTo>
                    <a:lnTo>
                      <a:pt x="45" y="26"/>
                    </a:lnTo>
                    <a:lnTo>
                      <a:pt x="41" y="28"/>
                    </a:lnTo>
                    <a:lnTo>
                      <a:pt x="37" y="26"/>
                    </a:lnTo>
                    <a:lnTo>
                      <a:pt x="35" y="33"/>
                    </a:lnTo>
                    <a:lnTo>
                      <a:pt x="36" y="41"/>
                    </a:lnTo>
                    <a:lnTo>
                      <a:pt x="35" y="52"/>
                    </a:lnTo>
                    <a:lnTo>
                      <a:pt x="30" y="64"/>
                    </a:lnTo>
                    <a:lnTo>
                      <a:pt x="25" y="74"/>
                    </a:lnTo>
                    <a:lnTo>
                      <a:pt x="18" y="85"/>
                    </a:lnTo>
                    <a:lnTo>
                      <a:pt x="11" y="95"/>
                    </a:lnTo>
                    <a:lnTo>
                      <a:pt x="7" y="102"/>
                    </a:lnTo>
                    <a:lnTo>
                      <a:pt x="2" y="115"/>
                    </a:lnTo>
                    <a:lnTo>
                      <a:pt x="1" y="123"/>
                    </a:lnTo>
                    <a:lnTo>
                      <a:pt x="0" y="133"/>
                    </a:lnTo>
                    <a:lnTo>
                      <a:pt x="2" y="143"/>
                    </a:lnTo>
                    <a:lnTo>
                      <a:pt x="5" y="153"/>
                    </a:lnTo>
                    <a:lnTo>
                      <a:pt x="5" y="144"/>
                    </a:lnTo>
                    <a:lnTo>
                      <a:pt x="9" y="132"/>
                    </a:lnTo>
                    <a:lnTo>
                      <a:pt x="14" y="123"/>
                    </a:lnTo>
                    <a:lnTo>
                      <a:pt x="19" y="117"/>
                    </a:lnTo>
                    <a:lnTo>
                      <a:pt x="24" y="112"/>
                    </a:lnTo>
                    <a:lnTo>
                      <a:pt x="27" y="120"/>
                    </a:lnTo>
                    <a:lnTo>
                      <a:pt x="32" y="129"/>
                    </a:lnTo>
                    <a:lnTo>
                      <a:pt x="37" y="139"/>
                    </a:lnTo>
                    <a:lnTo>
                      <a:pt x="34" y="122"/>
                    </a:lnTo>
                    <a:lnTo>
                      <a:pt x="35" y="112"/>
                    </a:lnTo>
                    <a:lnTo>
                      <a:pt x="41" y="104"/>
                    </a:lnTo>
                    <a:lnTo>
                      <a:pt x="50" y="96"/>
                    </a:lnTo>
                    <a:lnTo>
                      <a:pt x="54" y="91"/>
                    </a:lnTo>
                    <a:lnTo>
                      <a:pt x="56" y="87"/>
                    </a:lnTo>
                    <a:lnTo>
                      <a:pt x="57" y="85"/>
                    </a:lnTo>
                    <a:lnTo>
                      <a:pt x="56" y="92"/>
                    </a:lnTo>
                    <a:lnTo>
                      <a:pt x="60" y="88"/>
                    </a:lnTo>
                    <a:lnTo>
                      <a:pt x="68" y="77"/>
                    </a:lnTo>
                    <a:lnTo>
                      <a:pt x="72" y="72"/>
                    </a:lnTo>
                    <a:lnTo>
                      <a:pt x="75" y="65"/>
                    </a:lnTo>
                    <a:lnTo>
                      <a:pt x="76" y="57"/>
                    </a:lnTo>
                    <a:lnTo>
                      <a:pt x="83" y="69"/>
                    </a:lnTo>
                    <a:lnTo>
                      <a:pt x="90" y="74"/>
                    </a:lnTo>
                    <a:lnTo>
                      <a:pt x="98" y="80"/>
                    </a:lnTo>
                    <a:lnTo>
                      <a:pt x="93" y="70"/>
                    </a:lnTo>
                    <a:lnTo>
                      <a:pt x="89" y="60"/>
                    </a:lnTo>
                    <a:lnTo>
                      <a:pt x="87" y="48"/>
                    </a:lnTo>
                    <a:lnTo>
                      <a:pt x="81" y="33"/>
                    </a:lnTo>
                    <a:lnTo>
                      <a:pt x="75" y="18"/>
                    </a:lnTo>
                    <a:lnTo>
                      <a:pt x="68" y="0"/>
                    </a:lnTo>
                    <a:lnTo>
                      <a:pt x="55" y="2"/>
                    </a:lnTo>
                    <a:lnTo>
                      <a:pt x="55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30560" y="529128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5" y="8"/>
                    </a:moveTo>
                    <a:lnTo>
                      <a:pt x="10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0" y="8"/>
                    </a:lnTo>
                    <a:lnTo>
                      <a:pt x="26" y="12"/>
                    </a:lnTo>
                    <a:lnTo>
                      <a:pt x="28" y="7"/>
                    </a:lnTo>
                    <a:lnTo>
                      <a:pt x="24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35240" y="5300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lnTo>
                      <a:pt x="5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2225880" y="5283000"/>
                <a:ext cx="6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2224080" y="5283000"/>
                <a:ext cx="126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2222640" y="5287680"/>
                <a:ext cx="140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2224080" y="5290920"/>
                <a:ext cx="144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228760" y="5297760"/>
                <a:ext cx="97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71880" y="52959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2" y="5"/>
                    </a:moveTo>
                    <a:lnTo>
                      <a:pt x="12" y="2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20" y="5"/>
                    </a:lnTo>
                    <a:lnTo>
                      <a:pt x="12" y="5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89160" y="53103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206800" y="533268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4"/>
                    </a:moveTo>
                    <a:lnTo>
                      <a:pt x="3" y="6"/>
                    </a:lnTo>
                    <a:lnTo>
                      <a:pt x="9" y="7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3" y="5"/>
                    </a:lnTo>
                    <a:lnTo>
                      <a:pt x="21" y="7"/>
                    </a:lnTo>
                    <a:lnTo>
                      <a:pt x="14" y="6"/>
                    </a:lnTo>
                    <a:lnTo>
                      <a:pt x="9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251080" y="534204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3" y="2"/>
                    </a:moveTo>
                    <a:lnTo>
                      <a:pt x="8" y="7"/>
                    </a:lnTo>
                    <a:lnTo>
                      <a:pt x="15" y="8"/>
                    </a:lnTo>
                    <a:lnTo>
                      <a:pt x="26" y="1"/>
                    </a:lnTo>
                    <a:lnTo>
                      <a:pt x="23" y="6"/>
                    </a:lnTo>
                    <a:lnTo>
                      <a:pt x="15" y="12"/>
                    </a:lnTo>
                    <a:lnTo>
                      <a:pt x="12" y="22"/>
                    </a:lnTo>
                    <a:lnTo>
                      <a:pt x="12" y="12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90960" y="535644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1" y="1"/>
                    </a:moveTo>
                    <a:lnTo>
                      <a:pt x="10" y="0"/>
                    </a:lnTo>
                    <a:lnTo>
                      <a:pt x="18" y="0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1" y="3"/>
                    </a:lnTo>
                    <a:lnTo>
                      <a:pt x="34" y="5"/>
                    </a:lnTo>
                    <a:lnTo>
                      <a:pt x="31" y="6"/>
                    </a:lnTo>
                    <a:lnTo>
                      <a:pt x="27" y="3"/>
                    </a:lnTo>
                    <a:lnTo>
                      <a:pt x="14" y="1"/>
                    </a:lnTo>
                    <a:lnTo>
                      <a:pt x="8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97080" y="5361120"/>
                <a:ext cx="57240" cy="205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2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9" y="5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28" y="4"/>
                    </a:lnTo>
                    <a:lnTo>
                      <a:pt x="24" y="8"/>
                    </a:lnTo>
                    <a:lnTo>
                      <a:pt x="20" y="10"/>
                    </a:lnTo>
                    <a:lnTo>
                      <a:pt x="16" y="12"/>
                    </a:lnTo>
                    <a:lnTo>
                      <a:pt x="9" y="12"/>
                    </a:lnTo>
                    <a:lnTo>
                      <a:pt x="4" y="9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2166840" y="528768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165400" y="5291280"/>
                <a:ext cx="111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165400" y="5294520"/>
                <a:ext cx="126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170080" y="5295600"/>
                <a:ext cx="97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133720" y="5484960"/>
                <a:ext cx="38160" cy="458640"/>
              </a:xfrm>
              <a:custGeom>
                <a:avLst/>
                <a:gdLst/>
                <a:ahLst/>
                <a:rect l="l" t="t" r="r" b="b"/>
                <a:pathLst>
                  <a:path w="24" h="289">
                    <a:moveTo>
                      <a:pt x="23" y="4"/>
                    </a:moveTo>
                    <a:lnTo>
                      <a:pt x="16" y="29"/>
                    </a:lnTo>
                    <a:lnTo>
                      <a:pt x="10" y="60"/>
                    </a:lnTo>
                    <a:lnTo>
                      <a:pt x="5" y="110"/>
                    </a:lnTo>
                    <a:lnTo>
                      <a:pt x="4" y="158"/>
                    </a:lnTo>
                    <a:lnTo>
                      <a:pt x="10" y="193"/>
                    </a:lnTo>
                    <a:lnTo>
                      <a:pt x="18" y="213"/>
                    </a:lnTo>
                    <a:lnTo>
                      <a:pt x="16" y="242"/>
                    </a:lnTo>
                    <a:lnTo>
                      <a:pt x="21" y="288"/>
                    </a:lnTo>
                    <a:lnTo>
                      <a:pt x="8" y="218"/>
                    </a:lnTo>
                    <a:lnTo>
                      <a:pt x="0" y="165"/>
                    </a:lnTo>
                    <a:lnTo>
                      <a:pt x="0" y="123"/>
                    </a:lnTo>
                    <a:lnTo>
                      <a:pt x="5" y="70"/>
                    </a:lnTo>
                    <a:lnTo>
                      <a:pt x="11" y="29"/>
                    </a:lnTo>
                    <a:lnTo>
                      <a:pt x="21" y="0"/>
                    </a:lnTo>
                    <a:lnTo>
                      <a:pt x="23" y="4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079720" y="5472360"/>
                <a:ext cx="55440" cy="377640"/>
              </a:xfrm>
              <a:custGeom>
                <a:avLst/>
                <a:gdLst/>
                <a:ahLst/>
                <a:rect l="l" t="t" r="r" b="b"/>
                <a:pathLst>
                  <a:path w="35" h="238">
                    <a:moveTo>
                      <a:pt x="25" y="0"/>
                    </a:moveTo>
                    <a:lnTo>
                      <a:pt x="16" y="34"/>
                    </a:lnTo>
                    <a:lnTo>
                      <a:pt x="10" y="78"/>
                    </a:lnTo>
                    <a:lnTo>
                      <a:pt x="9" y="115"/>
                    </a:lnTo>
                    <a:lnTo>
                      <a:pt x="9" y="144"/>
                    </a:lnTo>
                    <a:lnTo>
                      <a:pt x="12" y="168"/>
                    </a:lnTo>
                    <a:lnTo>
                      <a:pt x="16" y="181"/>
                    </a:lnTo>
                    <a:lnTo>
                      <a:pt x="25" y="191"/>
                    </a:lnTo>
                    <a:lnTo>
                      <a:pt x="34" y="205"/>
                    </a:lnTo>
                    <a:lnTo>
                      <a:pt x="27" y="219"/>
                    </a:lnTo>
                    <a:lnTo>
                      <a:pt x="26" y="237"/>
                    </a:lnTo>
                    <a:lnTo>
                      <a:pt x="24" y="218"/>
                    </a:lnTo>
                    <a:lnTo>
                      <a:pt x="24" y="211"/>
                    </a:lnTo>
                    <a:lnTo>
                      <a:pt x="9" y="197"/>
                    </a:lnTo>
                    <a:lnTo>
                      <a:pt x="8" y="189"/>
                    </a:lnTo>
                    <a:lnTo>
                      <a:pt x="15" y="192"/>
                    </a:lnTo>
                    <a:lnTo>
                      <a:pt x="0" y="164"/>
                    </a:lnTo>
                    <a:lnTo>
                      <a:pt x="8" y="166"/>
                    </a:lnTo>
                    <a:lnTo>
                      <a:pt x="7" y="135"/>
                    </a:lnTo>
                    <a:lnTo>
                      <a:pt x="6" y="86"/>
                    </a:lnTo>
                    <a:lnTo>
                      <a:pt x="10" y="54"/>
                    </a:lnTo>
                    <a:lnTo>
                      <a:pt x="16" y="21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102040" y="5888160"/>
                <a:ext cx="82440" cy="100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26" y="0"/>
                    </a:moveTo>
                    <a:lnTo>
                      <a:pt x="44" y="37"/>
                    </a:lnTo>
                    <a:lnTo>
                      <a:pt x="51" y="38"/>
                    </a:lnTo>
                    <a:lnTo>
                      <a:pt x="39" y="40"/>
                    </a:lnTo>
                    <a:lnTo>
                      <a:pt x="18" y="47"/>
                    </a:lnTo>
                    <a:lnTo>
                      <a:pt x="7" y="57"/>
                    </a:lnTo>
                    <a:lnTo>
                      <a:pt x="0" y="62"/>
                    </a:lnTo>
                    <a:lnTo>
                      <a:pt x="6" y="57"/>
                    </a:lnTo>
                    <a:lnTo>
                      <a:pt x="16" y="44"/>
                    </a:lnTo>
                    <a:lnTo>
                      <a:pt x="39" y="37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46320" y="5778720"/>
                <a:ext cx="5256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0"/>
                    </a:moveTo>
                    <a:lnTo>
                      <a:pt x="10" y="5"/>
                    </a:lnTo>
                    <a:lnTo>
                      <a:pt x="25" y="8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18" y="12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54240" y="581040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1" y="0"/>
                    </a:moveTo>
                    <a:lnTo>
                      <a:pt x="12" y="5"/>
                    </a:lnTo>
                    <a:lnTo>
                      <a:pt x="26" y="6"/>
                    </a:lnTo>
                    <a:lnTo>
                      <a:pt x="26" y="10"/>
                    </a:lnTo>
                    <a:lnTo>
                      <a:pt x="11" y="11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03560" y="5465880"/>
                <a:ext cx="69840" cy="6840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0" y="42"/>
                    </a:moveTo>
                    <a:lnTo>
                      <a:pt x="20" y="20"/>
                    </a:lnTo>
                    <a:lnTo>
                      <a:pt x="43" y="6"/>
                    </a:lnTo>
                    <a:lnTo>
                      <a:pt x="40" y="0"/>
                    </a:lnTo>
                    <a:lnTo>
                      <a:pt x="17" y="16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74760" y="5491440"/>
                <a:ext cx="144720" cy="46800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0" y="0"/>
                    </a:moveTo>
                    <a:lnTo>
                      <a:pt x="55" y="25"/>
                    </a:lnTo>
                    <a:lnTo>
                      <a:pt x="41" y="54"/>
                    </a:lnTo>
                    <a:lnTo>
                      <a:pt x="27" y="86"/>
                    </a:lnTo>
                    <a:lnTo>
                      <a:pt x="18" y="126"/>
                    </a:lnTo>
                    <a:lnTo>
                      <a:pt x="17" y="159"/>
                    </a:lnTo>
                    <a:lnTo>
                      <a:pt x="15" y="225"/>
                    </a:lnTo>
                    <a:lnTo>
                      <a:pt x="15" y="259"/>
                    </a:lnTo>
                    <a:lnTo>
                      <a:pt x="18" y="270"/>
                    </a:lnTo>
                    <a:lnTo>
                      <a:pt x="80" y="205"/>
                    </a:lnTo>
                    <a:lnTo>
                      <a:pt x="90" y="201"/>
                    </a:lnTo>
                    <a:lnTo>
                      <a:pt x="77" y="211"/>
                    </a:lnTo>
                    <a:lnTo>
                      <a:pt x="5" y="294"/>
                    </a:lnTo>
                    <a:lnTo>
                      <a:pt x="0" y="289"/>
                    </a:lnTo>
                    <a:lnTo>
                      <a:pt x="13" y="275"/>
                    </a:lnTo>
                    <a:lnTo>
                      <a:pt x="12" y="239"/>
                    </a:lnTo>
                    <a:lnTo>
                      <a:pt x="13" y="177"/>
                    </a:lnTo>
                    <a:lnTo>
                      <a:pt x="14" y="136"/>
                    </a:lnTo>
                    <a:lnTo>
                      <a:pt x="21" y="99"/>
                    </a:lnTo>
                    <a:lnTo>
                      <a:pt x="28" y="73"/>
                    </a:lnTo>
                    <a:lnTo>
                      <a:pt x="42" y="44"/>
                    </a:lnTo>
                    <a:lnTo>
                      <a:pt x="53" y="16"/>
                    </a:lnTo>
                    <a:lnTo>
                      <a:pt x="63" y="4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316240" y="577368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10"/>
                    </a:moveTo>
                    <a:lnTo>
                      <a:pt x="4" y="12"/>
                    </a:lnTo>
                    <a:lnTo>
                      <a:pt x="0" y="2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17" y="10"/>
                    </a:lnTo>
                    <a:lnTo>
                      <a:pt x="17" y="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73320" y="5881680"/>
                <a:ext cx="217440" cy="160560"/>
              </a:xfrm>
              <a:custGeom>
                <a:avLst/>
                <a:gdLst/>
                <a:ahLst/>
                <a:rect l="l" t="t" r="r" b="b"/>
                <a:pathLst>
                  <a:path w="137" h="101">
                    <a:moveTo>
                      <a:pt x="6" y="41"/>
                    </a:moveTo>
                    <a:lnTo>
                      <a:pt x="19" y="61"/>
                    </a:lnTo>
                    <a:lnTo>
                      <a:pt x="35" y="77"/>
                    </a:lnTo>
                    <a:lnTo>
                      <a:pt x="48" y="86"/>
                    </a:lnTo>
                    <a:lnTo>
                      <a:pt x="68" y="93"/>
                    </a:lnTo>
                    <a:lnTo>
                      <a:pt x="103" y="44"/>
                    </a:lnTo>
                    <a:lnTo>
                      <a:pt x="136" y="0"/>
                    </a:lnTo>
                    <a:lnTo>
                      <a:pt x="102" y="53"/>
                    </a:lnTo>
                    <a:lnTo>
                      <a:pt x="69" y="100"/>
                    </a:lnTo>
                    <a:lnTo>
                      <a:pt x="49" y="94"/>
                    </a:lnTo>
                    <a:lnTo>
                      <a:pt x="27" y="81"/>
                    </a:lnTo>
                    <a:lnTo>
                      <a:pt x="13" y="66"/>
                    </a:lnTo>
                    <a:lnTo>
                      <a:pt x="0" y="4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84400" y="5986440"/>
                <a:ext cx="41400" cy="399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1" y="0"/>
                    </a:moveTo>
                    <a:lnTo>
                      <a:pt x="9" y="5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6" y="15"/>
                    </a:lnTo>
                    <a:lnTo>
                      <a:pt x="13" y="10"/>
                    </a:lnTo>
                    <a:lnTo>
                      <a:pt x="19" y="5"/>
                    </a:lnTo>
                    <a:lnTo>
                      <a:pt x="18" y="10"/>
                    </a:lnTo>
                    <a:lnTo>
                      <a:pt x="25" y="18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9" y="24"/>
                    </a:lnTo>
                    <a:lnTo>
                      <a:pt x="15" y="17"/>
                    </a:lnTo>
                    <a:lnTo>
                      <a:pt x="17" y="10"/>
                    </a:lnTo>
                    <a:lnTo>
                      <a:pt x="5" y="16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7" y="6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14640" y="601668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5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4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3" y="27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6"/>
                    </a:lnTo>
                    <a:lnTo>
                      <a:pt x="13" y="33"/>
                    </a:lnTo>
                    <a:lnTo>
                      <a:pt x="16" y="36"/>
                    </a:lnTo>
                    <a:lnTo>
                      <a:pt x="14" y="31"/>
                    </a:lnTo>
                    <a:lnTo>
                      <a:pt x="29" y="13"/>
                    </a:lnTo>
                    <a:lnTo>
                      <a:pt x="21" y="17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0" y="17"/>
                    </a:lnTo>
                    <a:lnTo>
                      <a:pt x="14" y="24"/>
                    </a:lnTo>
                    <a:lnTo>
                      <a:pt x="10" y="23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133720" y="5999400"/>
                <a:ext cx="79200" cy="9360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46" y="0"/>
                    </a:moveTo>
                    <a:lnTo>
                      <a:pt x="43" y="8"/>
                    </a:lnTo>
                    <a:lnTo>
                      <a:pt x="37" y="17"/>
                    </a:lnTo>
                    <a:lnTo>
                      <a:pt x="31" y="24"/>
                    </a:lnTo>
                    <a:lnTo>
                      <a:pt x="26" y="28"/>
                    </a:lnTo>
                    <a:lnTo>
                      <a:pt x="21" y="31"/>
                    </a:lnTo>
                    <a:lnTo>
                      <a:pt x="19" y="34"/>
                    </a:lnTo>
                    <a:lnTo>
                      <a:pt x="16" y="39"/>
                    </a:lnTo>
                    <a:lnTo>
                      <a:pt x="11" y="43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9" y="46"/>
                    </a:lnTo>
                    <a:lnTo>
                      <a:pt x="13" y="55"/>
                    </a:lnTo>
                    <a:lnTo>
                      <a:pt x="18" y="56"/>
                    </a:lnTo>
                    <a:lnTo>
                      <a:pt x="14" y="53"/>
                    </a:lnTo>
                    <a:lnTo>
                      <a:pt x="11" y="45"/>
                    </a:lnTo>
                    <a:lnTo>
                      <a:pt x="16" y="42"/>
                    </a:lnTo>
                    <a:lnTo>
                      <a:pt x="21" y="58"/>
                    </a:lnTo>
                    <a:lnTo>
                      <a:pt x="32" y="58"/>
                    </a:lnTo>
                    <a:lnTo>
                      <a:pt x="22" y="56"/>
                    </a:lnTo>
                    <a:lnTo>
                      <a:pt x="18" y="40"/>
                    </a:lnTo>
                    <a:lnTo>
                      <a:pt x="22" y="34"/>
                    </a:lnTo>
                    <a:lnTo>
                      <a:pt x="32" y="55"/>
                    </a:lnTo>
                    <a:lnTo>
                      <a:pt x="24" y="32"/>
                    </a:lnTo>
                    <a:lnTo>
                      <a:pt x="28" y="28"/>
                    </a:lnTo>
                    <a:lnTo>
                      <a:pt x="34" y="22"/>
                    </a:lnTo>
                    <a:lnTo>
                      <a:pt x="40" y="15"/>
                    </a:lnTo>
                    <a:lnTo>
                      <a:pt x="45" y="8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84480" y="6005520"/>
                <a:ext cx="52200" cy="10188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19" y="0"/>
                    </a:moveTo>
                    <a:lnTo>
                      <a:pt x="23" y="16"/>
                    </a:lnTo>
                    <a:lnTo>
                      <a:pt x="29" y="33"/>
                    </a:lnTo>
                    <a:lnTo>
                      <a:pt x="31" y="36"/>
                    </a:lnTo>
                    <a:lnTo>
                      <a:pt x="23" y="36"/>
                    </a:lnTo>
                    <a:lnTo>
                      <a:pt x="26" y="43"/>
                    </a:lnTo>
                    <a:lnTo>
                      <a:pt x="32" y="56"/>
                    </a:lnTo>
                    <a:lnTo>
                      <a:pt x="32" y="61"/>
                    </a:lnTo>
                    <a:lnTo>
                      <a:pt x="31" y="63"/>
                    </a:lnTo>
                    <a:lnTo>
                      <a:pt x="23" y="61"/>
                    </a:lnTo>
                    <a:lnTo>
                      <a:pt x="16" y="62"/>
                    </a:lnTo>
                    <a:lnTo>
                      <a:pt x="1" y="55"/>
                    </a:lnTo>
                    <a:lnTo>
                      <a:pt x="7" y="56"/>
                    </a:lnTo>
                    <a:lnTo>
                      <a:pt x="13" y="52"/>
                    </a:lnTo>
                    <a:lnTo>
                      <a:pt x="9" y="48"/>
                    </a:lnTo>
                    <a:lnTo>
                      <a:pt x="0" y="24"/>
                    </a:lnTo>
                    <a:lnTo>
                      <a:pt x="11" y="47"/>
                    </a:lnTo>
                    <a:lnTo>
                      <a:pt x="16" y="50"/>
                    </a:lnTo>
                    <a:lnTo>
                      <a:pt x="23" y="44"/>
                    </a:lnTo>
                    <a:lnTo>
                      <a:pt x="16" y="31"/>
                    </a:lnTo>
                    <a:lnTo>
                      <a:pt x="10" y="14"/>
                    </a:lnTo>
                    <a:lnTo>
                      <a:pt x="19" y="30"/>
                    </a:lnTo>
                    <a:lnTo>
                      <a:pt x="26" y="34"/>
                    </a:lnTo>
                    <a:lnTo>
                      <a:pt x="28" y="35"/>
                    </a:lnTo>
                    <a:lnTo>
                      <a:pt x="24" y="24"/>
                    </a:lnTo>
                    <a:lnTo>
                      <a:pt x="20" y="1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06680" y="5307120"/>
                <a:ext cx="68400" cy="1908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0" y="7"/>
                    </a:moveTo>
                    <a:lnTo>
                      <a:pt x="1" y="3"/>
                    </a:lnTo>
                    <a:lnTo>
                      <a:pt x="10" y="2"/>
                    </a:lnTo>
                    <a:lnTo>
                      <a:pt x="21" y="0"/>
                    </a:lnTo>
                    <a:lnTo>
                      <a:pt x="34" y="2"/>
                    </a:lnTo>
                    <a:lnTo>
                      <a:pt x="42" y="5"/>
                    </a:lnTo>
                    <a:lnTo>
                      <a:pt x="35" y="6"/>
                    </a:lnTo>
                    <a:lnTo>
                      <a:pt x="26" y="11"/>
                    </a:lnTo>
                    <a:lnTo>
                      <a:pt x="33" y="6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2" y="2"/>
                    </a:lnTo>
                    <a:lnTo>
                      <a:pt x="15" y="2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27200" y="5335560"/>
                <a:ext cx="2232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0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16400" y="5224680"/>
                <a:ext cx="91800" cy="7308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41"/>
                    </a:moveTo>
                    <a:lnTo>
                      <a:pt x="4" y="44"/>
                    </a:lnTo>
                    <a:lnTo>
                      <a:pt x="10" y="44"/>
                    </a:lnTo>
                    <a:lnTo>
                      <a:pt x="15" y="36"/>
                    </a:lnTo>
                    <a:lnTo>
                      <a:pt x="12" y="32"/>
                    </a:lnTo>
                    <a:lnTo>
                      <a:pt x="12" y="16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43" y="0"/>
                    </a:lnTo>
                    <a:lnTo>
                      <a:pt x="51" y="1"/>
                    </a:lnTo>
                    <a:lnTo>
                      <a:pt x="57" y="7"/>
                    </a:lnTo>
                    <a:lnTo>
                      <a:pt x="50" y="4"/>
                    </a:lnTo>
                    <a:lnTo>
                      <a:pt x="41" y="3"/>
                    </a:lnTo>
                    <a:lnTo>
                      <a:pt x="31" y="4"/>
                    </a:lnTo>
                    <a:lnTo>
                      <a:pt x="16" y="18"/>
                    </a:lnTo>
                    <a:lnTo>
                      <a:pt x="16" y="27"/>
                    </a:lnTo>
                    <a:lnTo>
                      <a:pt x="22" y="34"/>
                    </a:lnTo>
                    <a:lnTo>
                      <a:pt x="17" y="32"/>
                    </a:lnTo>
                    <a:lnTo>
                      <a:pt x="17" y="38"/>
                    </a:lnTo>
                    <a:lnTo>
                      <a:pt x="22" y="41"/>
                    </a:lnTo>
                    <a:lnTo>
                      <a:pt x="24" y="36"/>
                    </a:lnTo>
                    <a:lnTo>
                      <a:pt x="27" y="40"/>
                    </a:lnTo>
                    <a:lnTo>
                      <a:pt x="22" y="42"/>
                    </a:lnTo>
                    <a:lnTo>
                      <a:pt x="17" y="42"/>
                    </a:lnTo>
                    <a:lnTo>
                      <a:pt x="12" y="45"/>
                    </a:lnTo>
                    <a:lnTo>
                      <a:pt x="4" y="45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54200" y="523584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0"/>
                    </a:moveTo>
                    <a:lnTo>
                      <a:pt x="19" y="1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8" y="7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473200" y="523728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1" y="5"/>
                    </a:moveTo>
                    <a:lnTo>
                      <a:pt x="0" y="2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4" y="7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3" y="12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444760" y="5108760"/>
                <a:ext cx="171360" cy="301680"/>
              </a:xfrm>
              <a:custGeom>
                <a:avLst/>
                <a:gdLst/>
                <a:ahLst/>
                <a:rect l="l" t="t" r="r" b="b"/>
                <a:pathLst>
                  <a:path w="108" h="190">
                    <a:moveTo>
                      <a:pt x="49" y="5"/>
                    </a:moveTo>
                    <a:lnTo>
                      <a:pt x="44" y="9"/>
                    </a:lnTo>
                    <a:lnTo>
                      <a:pt x="49" y="9"/>
                    </a:lnTo>
                    <a:lnTo>
                      <a:pt x="45" y="15"/>
                    </a:lnTo>
                    <a:lnTo>
                      <a:pt x="38" y="20"/>
                    </a:lnTo>
                    <a:lnTo>
                      <a:pt x="46" y="20"/>
                    </a:lnTo>
                    <a:lnTo>
                      <a:pt x="44" y="25"/>
                    </a:lnTo>
                    <a:lnTo>
                      <a:pt x="40" y="29"/>
                    </a:lnTo>
                    <a:lnTo>
                      <a:pt x="37" y="30"/>
                    </a:lnTo>
                    <a:lnTo>
                      <a:pt x="29" y="34"/>
                    </a:lnTo>
                    <a:lnTo>
                      <a:pt x="40" y="34"/>
                    </a:lnTo>
                    <a:lnTo>
                      <a:pt x="45" y="30"/>
                    </a:lnTo>
                    <a:lnTo>
                      <a:pt x="45" y="36"/>
                    </a:lnTo>
                    <a:lnTo>
                      <a:pt x="40" y="38"/>
                    </a:lnTo>
                    <a:lnTo>
                      <a:pt x="28" y="43"/>
                    </a:lnTo>
                    <a:lnTo>
                      <a:pt x="18" y="43"/>
                    </a:lnTo>
                    <a:lnTo>
                      <a:pt x="24" y="45"/>
                    </a:lnTo>
                    <a:lnTo>
                      <a:pt x="39" y="42"/>
                    </a:lnTo>
                    <a:lnTo>
                      <a:pt x="50" y="37"/>
                    </a:lnTo>
                    <a:lnTo>
                      <a:pt x="54" y="3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4" y="37"/>
                    </a:lnTo>
                    <a:lnTo>
                      <a:pt x="47" y="48"/>
                    </a:lnTo>
                    <a:lnTo>
                      <a:pt x="37" y="53"/>
                    </a:lnTo>
                    <a:lnTo>
                      <a:pt x="40" y="46"/>
                    </a:lnTo>
                    <a:lnTo>
                      <a:pt x="29" y="52"/>
                    </a:lnTo>
                    <a:lnTo>
                      <a:pt x="18" y="53"/>
                    </a:lnTo>
                    <a:lnTo>
                      <a:pt x="16" y="75"/>
                    </a:lnTo>
                    <a:lnTo>
                      <a:pt x="16" y="97"/>
                    </a:lnTo>
                    <a:lnTo>
                      <a:pt x="18" y="117"/>
                    </a:lnTo>
                    <a:lnTo>
                      <a:pt x="29" y="148"/>
                    </a:lnTo>
                    <a:lnTo>
                      <a:pt x="39" y="162"/>
                    </a:lnTo>
                    <a:lnTo>
                      <a:pt x="49" y="171"/>
                    </a:lnTo>
                    <a:lnTo>
                      <a:pt x="52" y="169"/>
                    </a:lnTo>
                    <a:lnTo>
                      <a:pt x="61" y="172"/>
                    </a:lnTo>
                    <a:lnTo>
                      <a:pt x="84" y="161"/>
                    </a:lnTo>
                    <a:lnTo>
                      <a:pt x="85" y="164"/>
                    </a:lnTo>
                    <a:lnTo>
                      <a:pt x="94" y="159"/>
                    </a:lnTo>
                    <a:lnTo>
                      <a:pt x="90" y="167"/>
                    </a:lnTo>
                    <a:lnTo>
                      <a:pt x="94" y="167"/>
                    </a:lnTo>
                    <a:lnTo>
                      <a:pt x="107" y="155"/>
                    </a:lnTo>
                    <a:lnTo>
                      <a:pt x="94" y="172"/>
                    </a:lnTo>
                    <a:lnTo>
                      <a:pt x="81" y="180"/>
                    </a:lnTo>
                    <a:lnTo>
                      <a:pt x="65" y="181"/>
                    </a:lnTo>
                    <a:lnTo>
                      <a:pt x="73" y="189"/>
                    </a:lnTo>
                    <a:lnTo>
                      <a:pt x="59" y="183"/>
                    </a:lnTo>
                    <a:lnTo>
                      <a:pt x="50" y="175"/>
                    </a:lnTo>
                    <a:lnTo>
                      <a:pt x="42" y="169"/>
                    </a:lnTo>
                    <a:lnTo>
                      <a:pt x="42" y="178"/>
                    </a:lnTo>
                    <a:lnTo>
                      <a:pt x="38" y="165"/>
                    </a:lnTo>
                    <a:lnTo>
                      <a:pt x="30" y="157"/>
                    </a:lnTo>
                    <a:lnTo>
                      <a:pt x="22" y="140"/>
                    </a:lnTo>
                    <a:lnTo>
                      <a:pt x="17" y="120"/>
                    </a:lnTo>
                    <a:lnTo>
                      <a:pt x="12" y="97"/>
                    </a:lnTo>
                    <a:lnTo>
                      <a:pt x="8" y="92"/>
                    </a:lnTo>
                    <a:lnTo>
                      <a:pt x="4" y="72"/>
                    </a:lnTo>
                    <a:lnTo>
                      <a:pt x="0" y="64"/>
                    </a:lnTo>
                    <a:lnTo>
                      <a:pt x="8" y="45"/>
                    </a:lnTo>
                    <a:lnTo>
                      <a:pt x="9" y="30"/>
                    </a:lnTo>
                    <a:lnTo>
                      <a:pt x="17" y="16"/>
                    </a:lnTo>
                    <a:lnTo>
                      <a:pt x="26" y="12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2" y="0"/>
                    </a:lnTo>
                    <a:lnTo>
                      <a:pt x="60" y="3"/>
                    </a:lnTo>
                    <a:lnTo>
                      <a:pt x="52" y="3"/>
                    </a:lnTo>
                    <a:lnTo>
                      <a:pt x="49" y="5"/>
                    </a:lnTo>
                    <a:lnTo>
                      <a:pt x="49" y="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35120" y="5108760"/>
                <a:ext cx="128880" cy="258840"/>
              </a:xfrm>
              <a:custGeom>
                <a:avLst/>
                <a:gdLst/>
                <a:ahLst/>
                <a:rect l="l" t="t" r="r" b="b"/>
                <a:pathLst>
                  <a:path w="81" h="163">
                    <a:moveTo>
                      <a:pt x="3" y="2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4" y="32"/>
                    </a:lnTo>
                    <a:lnTo>
                      <a:pt x="12" y="39"/>
                    </a:lnTo>
                    <a:lnTo>
                      <a:pt x="22" y="43"/>
                    </a:lnTo>
                    <a:lnTo>
                      <a:pt x="16" y="38"/>
                    </a:lnTo>
                    <a:lnTo>
                      <a:pt x="28" y="39"/>
                    </a:lnTo>
                    <a:lnTo>
                      <a:pt x="40" y="40"/>
                    </a:lnTo>
                    <a:lnTo>
                      <a:pt x="37" y="37"/>
                    </a:lnTo>
                    <a:lnTo>
                      <a:pt x="46" y="40"/>
                    </a:lnTo>
                    <a:lnTo>
                      <a:pt x="43" y="47"/>
                    </a:lnTo>
                    <a:lnTo>
                      <a:pt x="41" y="60"/>
                    </a:lnTo>
                    <a:lnTo>
                      <a:pt x="45" y="71"/>
                    </a:lnTo>
                    <a:lnTo>
                      <a:pt x="53" y="78"/>
                    </a:lnTo>
                    <a:lnTo>
                      <a:pt x="60" y="83"/>
                    </a:lnTo>
                    <a:lnTo>
                      <a:pt x="59" y="99"/>
                    </a:lnTo>
                    <a:lnTo>
                      <a:pt x="64" y="102"/>
                    </a:lnTo>
                    <a:lnTo>
                      <a:pt x="69" y="84"/>
                    </a:lnTo>
                    <a:lnTo>
                      <a:pt x="76" y="90"/>
                    </a:lnTo>
                    <a:lnTo>
                      <a:pt x="75" y="101"/>
                    </a:lnTo>
                    <a:lnTo>
                      <a:pt x="70" y="110"/>
                    </a:lnTo>
                    <a:lnTo>
                      <a:pt x="65" y="117"/>
                    </a:lnTo>
                    <a:lnTo>
                      <a:pt x="62" y="109"/>
                    </a:lnTo>
                    <a:lnTo>
                      <a:pt x="61" y="131"/>
                    </a:lnTo>
                    <a:lnTo>
                      <a:pt x="61" y="149"/>
                    </a:lnTo>
                    <a:lnTo>
                      <a:pt x="63" y="162"/>
                    </a:lnTo>
                    <a:lnTo>
                      <a:pt x="63" y="145"/>
                    </a:lnTo>
                    <a:lnTo>
                      <a:pt x="65" y="122"/>
                    </a:lnTo>
                    <a:lnTo>
                      <a:pt x="73" y="113"/>
                    </a:lnTo>
                    <a:lnTo>
                      <a:pt x="78" y="95"/>
                    </a:lnTo>
                    <a:lnTo>
                      <a:pt x="78" y="81"/>
                    </a:lnTo>
                    <a:lnTo>
                      <a:pt x="80" y="76"/>
                    </a:lnTo>
                    <a:lnTo>
                      <a:pt x="76" y="65"/>
                    </a:lnTo>
                    <a:lnTo>
                      <a:pt x="73" y="49"/>
                    </a:lnTo>
                    <a:lnTo>
                      <a:pt x="65" y="37"/>
                    </a:lnTo>
                    <a:lnTo>
                      <a:pt x="53" y="30"/>
                    </a:lnTo>
                    <a:lnTo>
                      <a:pt x="43" y="16"/>
                    </a:lnTo>
                    <a:lnTo>
                      <a:pt x="30" y="4"/>
                    </a:lnTo>
                    <a:lnTo>
                      <a:pt x="20" y="1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25840" y="5243760"/>
                <a:ext cx="32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22600" y="5248440"/>
                <a:ext cx="468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619360" y="5256360"/>
                <a:ext cx="32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2615760" y="52628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2608200" y="5270760"/>
                <a:ext cx="504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600280" y="5278680"/>
                <a:ext cx="6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596680" y="5283360"/>
                <a:ext cx="180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594160" y="5299200"/>
                <a:ext cx="936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51320" y="5351760"/>
                <a:ext cx="120600" cy="12852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52" y="0"/>
                    </a:moveTo>
                    <a:lnTo>
                      <a:pt x="62" y="12"/>
                    </a:lnTo>
                    <a:lnTo>
                      <a:pt x="75" y="19"/>
                    </a:lnTo>
                    <a:lnTo>
                      <a:pt x="72" y="23"/>
                    </a:lnTo>
                    <a:lnTo>
                      <a:pt x="37" y="56"/>
                    </a:lnTo>
                    <a:lnTo>
                      <a:pt x="19" y="80"/>
                    </a:lnTo>
                    <a:lnTo>
                      <a:pt x="9" y="65"/>
                    </a:lnTo>
                    <a:lnTo>
                      <a:pt x="2" y="49"/>
                    </a:lnTo>
                    <a:lnTo>
                      <a:pt x="0" y="38"/>
                    </a:lnTo>
                    <a:lnTo>
                      <a:pt x="40" y="18"/>
                    </a:lnTo>
                    <a:lnTo>
                      <a:pt x="49" y="12"/>
                    </a:lnTo>
                    <a:lnTo>
                      <a:pt x="39" y="20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19" y="74"/>
                    </a:lnTo>
                    <a:lnTo>
                      <a:pt x="35" y="53"/>
                    </a:lnTo>
                    <a:lnTo>
                      <a:pt x="61" y="28"/>
                    </a:lnTo>
                    <a:lnTo>
                      <a:pt x="70" y="20"/>
                    </a:lnTo>
                    <a:lnTo>
                      <a:pt x="60" y="14"/>
                    </a:lnTo>
                    <a:lnTo>
                      <a:pt x="54" y="8"/>
                    </a:lnTo>
                    <a:lnTo>
                      <a:pt x="52" y="0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14600" y="5394600"/>
                <a:ext cx="255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02000" y="541188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1" y="0"/>
                    </a:moveTo>
                    <a:lnTo>
                      <a:pt x="13" y="2"/>
                    </a:lnTo>
                    <a:lnTo>
                      <a:pt x="11" y="5"/>
                    </a:lnTo>
                    <a:lnTo>
                      <a:pt x="12" y="9"/>
                    </a:lnTo>
                    <a:lnTo>
                      <a:pt x="0" y="31"/>
                    </a:lnTo>
                    <a:lnTo>
                      <a:pt x="12" y="14"/>
                    </a:lnTo>
                    <a:lnTo>
                      <a:pt x="16" y="25"/>
                    </a:lnTo>
                    <a:lnTo>
                      <a:pt x="16" y="30"/>
                    </a:lnTo>
                    <a:lnTo>
                      <a:pt x="21" y="27"/>
                    </a:lnTo>
                    <a:lnTo>
                      <a:pt x="28" y="17"/>
                    </a:lnTo>
                    <a:lnTo>
                      <a:pt x="23" y="22"/>
                    </a:lnTo>
                    <a:lnTo>
                      <a:pt x="17" y="22"/>
                    </a:lnTo>
                    <a:lnTo>
                      <a:pt x="13" y="6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46280" y="5427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9" y="12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02000" y="5453280"/>
                <a:ext cx="54000" cy="534960"/>
              </a:xfrm>
              <a:custGeom>
                <a:avLst/>
                <a:gdLst/>
                <a:ahLst/>
                <a:rect l="l" t="t" r="r" b="b"/>
                <a:pathLst>
                  <a:path w="34" h="337">
                    <a:moveTo>
                      <a:pt x="21" y="0"/>
                    </a:moveTo>
                    <a:lnTo>
                      <a:pt x="25" y="16"/>
                    </a:lnTo>
                    <a:lnTo>
                      <a:pt x="25" y="40"/>
                    </a:lnTo>
                    <a:lnTo>
                      <a:pt x="19" y="100"/>
                    </a:lnTo>
                    <a:lnTo>
                      <a:pt x="18" y="166"/>
                    </a:lnTo>
                    <a:lnTo>
                      <a:pt x="26" y="259"/>
                    </a:lnTo>
                    <a:lnTo>
                      <a:pt x="33" y="302"/>
                    </a:lnTo>
                    <a:lnTo>
                      <a:pt x="0" y="336"/>
                    </a:lnTo>
                    <a:lnTo>
                      <a:pt x="28" y="299"/>
                    </a:lnTo>
                    <a:lnTo>
                      <a:pt x="21" y="249"/>
                    </a:lnTo>
                    <a:lnTo>
                      <a:pt x="16" y="182"/>
                    </a:lnTo>
                    <a:lnTo>
                      <a:pt x="14" y="147"/>
                    </a:lnTo>
                    <a:lnTo>
                      <a:pt x="16" y="93"/>
                    </a:lnTo>
                    <a:lnTo>
                      <a:pt x="21" y="46"/>
                    </a:lnTo>
                    <a:lnTo>
                      <a:pt x="23" y="28"/>
                    </a:lnTo>
                    <a:lnTo>
                      <a:pt x="21" y="1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448000" y="5453280"/>
                <a:ext cx="85680" cy="534960"/>
              </a:xfrm>
              <a:custGeom>
                <a:avLst/>
                <a:gdLst/>
                <a:ahLst/>
                <a:rect l="l" t="t" r="r" b="b"/>
                <a:pathLst>
                  <a:path w="54" h="337">
                    <a:moveTo>
                      <a:pt x="53" y="1"/>
                    </a:moveTo>
                    <a:lnTo>
                      <a:pt x="40" y="36"/>
                    </a:lnTo>
                    <a:lnTo>
                      <a:pt x="27" y="88"/>
                    </a:lnTo>
                    <a:lnTo>
                      <a:pt x="23" y="128"/>
                    </a:lnTo>
                    <a:lnTo>
                      <a:pt x="20" y="212"/>
                    </a:lnTo>
                    <a:lnTo>
                      <a:pt x="14" y="262"/>
                    </a:lnTo>
                    <a:lnTo>
                      <a:pt x="4" y="306"/>
                    </a:lnTo>
                    <a:lnTo>
                      <a:pt x="37" y="336"/>
                    </a:lnTo>
                    <a:lnTo>
                      <a:pt x="34" y="336"/>
                    </a:lnTo>
                    <a:lnTo>
                      <a:pt x="0" y="306"/>
                    </a:lnTo>
                    <a:lnTo>
                      <a:pt x="9" y="262"/>
                    </a:lnTo>
                    <a:lnTo>
                      <a:pt x="17" y="207"/>
                    </a:lnTo>
                    <a:lnTo>
                      <a:pt x="18" y="146"/>
                    </a:lnTo>
                    <a:lnTo>
                      <a:pt x="22" y="100"/>
                    </a:lnTo>
                    <a:lnTo>
                      <a:pt x="28" y="66"/>
                    </a:lnTo>
                    <a:lnTo>
                      <a:pt x="40" y="23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79840" y="5454720"/>
                <a:ext cx="90360" cy="352440"/>
              </a:xfrm>
              <a:custGeom>
                <a:avLst/>
                <a:gdLst/>
                <a:ahLst/>
                <a:rect l="l" t="t" r="r" b="b"/>
                <a:pathLst>
                  <a:path w="57" h="222">
                    <a:moveTo>
                      <a:pt x="22" y="0"/>
                    </a:moveTo>
                    <a:lnTo>
                      <a:pt x="26" y="19"/>
                    </a:lnTo>
                    <a:lnTo>
                      <a:pt x="26" y="41"/>
                    </a:lnTo>
                    <a:lnTo>
                      <a:pt x="15" y="68"/>
                    </a:lnTo>
                    <a:lnTo>
                      <a:pt x="7" y="93"/>
                    </a:lnTo>
                    <a:lnTo>
                      <a:pt x="4" y="109"/>
                    </a:lnTo>
                    <a:lnTo>
                      <a:pt x="22" y="125"/>
                    </a:lnTo>
                    <a:lnTo>
                      <a:pt x="27" y="147"/>
                    </a:lnTo>
                    <a:lnTo>
                      <a:pt x="26" y="165"/>
                    </a:lnTo>
                    <a:lnTo>
                      <a:pt x="18" y="182"/>
                    </a:lnTo>
                    <a:lnTo>
                      <a:pt x="11" y="198"/>
                    </a:lnTo>
                    <a:lnTo>
                      <a:pt x="0" y="221"/>
                    </a:lnTo>
                    <a:lnTo>
                      <a:pt x="27" y="165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24" y="117"/>
                    </a:lnTo>
                    <a:lnTo>
                      <a:pt x="36" y="95"/>
                    </a:lnTo>
                    <a:lnTo>
                      <a:pt x="56" y="115"/>
                    </a:lnTo>
                    <a:lnTo>
                      <a:pt x="36" y="89"/>
                    </a:lnTo>
                    <a:lnTo>
                      <a:pt x="30" y="71"/>
                    </a:lnTo>
                    <a:lnTo>
                      <a:pt x="28" y="51"/>
                    </a:lnTo>
                    <a:lnTo>
                      <a:pt x="28" y="24"/>
                    </a:lnTo>
                    <a:lnTo>
                      <a:pt x="26" y="11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44920" y="5489640"/>
                <a:ext cx="255600" cy="465120"/>
              </a:xfrm>
              <a:custGeom>
                <a:avLst/>
                <a:gdLst/>
                <a:ahLst/>
                <a:rect l="l" t="t" r="r" b="b"/>
                <a:pathLst>
                  <a:path w="161" h="293">
                    <a:moveTo>
                      <a:pt x="78" y="0"/>
                    </a:moveTo>
                    <a:lnTo>
                      <a:pt x="72" y="25"/>
                    </a:lnTo>
                    <a:lnTo>
                      <a:pt x="70" y="56"/>
                    </a:lnTo>
                    <a:lnTo>
                      <a:pt x="76" y="79"/>
                    </a:lnTo>
                    <a:lnTo>
                      <a:pt x="98" y="136"/>
                    </a:lnTo>
                    <a:lnTo>
                      <a:pt x="115" y="141"/>
                    </a:lnTo>
                    <a:lnTo>
                      <a:pt x="131" y="127"/>
                    </a:lnTo>
                    <a:lnTo>
                      <a:pt x="160" y="139"/>
                    </a:lnTo>
                    <a:lnTo>
                      <a:pt x="140" y="136"/>
                    </a:lnTo>
                    <a:lnTo>
                      <a:pt x="110" y="152"/>
                    </a:lnTo>
                    <a:lnTo>
                      <a:pt x="107" y="162"/>
                    </a:lnTo>
                    <a:lnTo>
                      <a:pt x="135" y="165"/>
                    </a:lnTo>
                    <a:lnTo>
                      <a:pt x="148" y="179"/>
                    </a:lnTo>
                    <a:lnTo>
                      <a:pt x="132" y="168"/>
                    </a:lnTo>
                    <a:lnTo>
                      <a:pt x="115" y="165"/>
                    </a:lnTo>
                    <a:lnTo>
                      <a:pt x="97" y="175"/>
                    </a:lnTo>
                    <a:lnTo>
                      <a:pt x="94" y="210"/>
                    </a:lnTo>
                    <a:lnTo>
                      <a:pt x="70" y="249"/>
                    </a:lnTo>
                    <a:lnTo>
                      <a:pt x="98" y="266"/>
                    </a:lnTo>
                    <a:lnTo>
                      <a:pt x="126" y="292"/>
                    </a:lnTo>
                    <a:lnTo>
                      <a:pt x="92" y="268"/>
                    </a:lnTo>
                    <a:lnTo>
                      <a:pt x="82" y="264"/>
                    </a:lnTo>
                    <a:lnTo>
                      <a:pt x="68" y="268"/>
                    </a:lnTo>
                    <a:lnTo>
                      <a:pt x="28" y="263"/>
                    </a:lnTo>
                    <a:lnTo>
                      <a:pt x="66" y="264"/>
                    </a:lnTo>
                    <a:lnTo>
                      <a:pt x="73" y="261"/>
                    </a:lnTo>
                    <a:lnTo>
                      <a:pt x="66" y="250"/>
                    </a:lnTo>
                    <a:lnTo>
                      <a:pt x="88" y="212"/>
                    </a:lnTo>
                    <a:lnTo>
                      <a:pt x="78" y="189"/>
                    </a:lnTo>
                    <a:lnTo>
                      <a:pt x="58" y="199"/>
                    </a:lnTo>
                    <a:lnTo>
                      <a:pt x="24" y="231"/>
                    </a:lnTo>
                    <a:lnTo>
                      <a:pt x="0" y="266"/>
                    </a:lnTo>
                    <a:lnTo>
                      <a:pt x="23" y="226"/>
                    </a:lnTo>
                    <a:lnTo>
                      <a:pt x="54" y="191"/>
                    </a:lnTo>
                    <a:lnTo>
                      <a:pt x="102" y="152"/>
                    </a:lnTo>
                    <a:lnTo>
                      <a:pt x="89" y="141"/>
                    </a:lnTo>
                    <a:lnTo>
                      <a:pt x="69" y="79"/>
                    </a:lnTo>
                    <a:lnTo>
                      <a:pt x="66" y="44"/>
                    </a:lnTo>
                    <a:lnTo>
                      <a:pt x="70" y="19"/>
                    </a:lnTo>
                    <a:lnTo>
                      <a:pt x="78" y="0"/>
                    </a:lnTo>
                    <a:lnTo>
                      <a:pt x="78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97120" y="5394600"/>
                <a:ext cx="246240" cy="317520"/>
              </a:xfrm>
              <a:custGeom>
                <a:avLst/>
                <a:gdLst/>
                <a:ahLst/>
                <a:rect l="l" t="t" r="r" b="b"/>
                <a:pathLst>
                  <a:path w="155" h="200">
                    <a:moveTo>
                      <a:pt x="0" y="0"/>
                    </a:moveTo>
                    <a:lnTo>
                      <a:pt x="56" y="25"/>
                    </a:lnTo>
                    <a:lnTo>
                      <a:pt x="77" y="33"/>
                    </a:lnTo>
                    <a:lnTo>
                      <a:pt x="99" y="65"/>
                    </a:lnTo>
                    <a:lnTo>
                      <a:pt x="108" y="118"/>
                    </a:lnTo>
                    <a:lnTo>
                      <a:pt x="113" y="115"/>
                    </a:lnTo>
                    <a:lnTo>
                      <a:pt x="117" y="174"/>
                    </a:lnTo>
                    <a:lnTo>
                      <a:pt x="141" y="185"/>
                    </a:lnTo>
                    <a:lnTo>
                      <a:pt x="147" y="199"/>
                    </a:lnTo>
                    <a:lnTo>
                      <a:pt x="154" y="189"/>
                    </a:lnTo>
                    <a:lnTo>
                      <a:pt x="143" y="174"/>
                    </a:lnTo>
                    <a:lnTo>
                      <a:pt x="129" y="125"/>
                    </a:lnTo>
                    <a:lnTo>
                      <a:pt x="117" y="115"/>
                    </a:lnTo>
                    <a:lnTo>
                      <a:pt x="103" y="64"/>
                    </a:lnTo>
                    <a:lnTo>
                      <a:pt x="90" y="38"/>
                    </a:lnTo>
                    <a:lnTo>
                      <a:pt x="77" y="29"/>
                    </a:lnTo>
                    <a:lnTo>
                      <a:pt x="28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57680" y="5715000"/>
                <a:ext cx="91800" cy="225720"/>
              </a:xfrm>
              <a:custGeom>
                <a:avLst/>
                <a:gdLst/>
                <a:ahLst/>
                <a:rect l="l" t="t" r="r" b="b"/>
                <a:pathLst>
                  <a:path w="58" h="142">
                    <a:moveTo>
                      <a:pt x="51" y="0"/>
                    </a:moveTo>
                    <a:lnTo>
                      <a:pt x="44" y="23"/>
                    </a:lnTo>
                    <a:lnTo>
                      <a:pt x="44" y="44"/>
                    </a:lnTo>
                    <a:lnTo>
                      <a:pt x="0" y="141"/>
                    </a:lnTo>
                    <a:lnTo>
                      <a:pt x="57" y="29"/>
                    </a:lnTo>
                    <a:lnTo>
                      <a:pt x="56" y="7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379600" y="5396040"/>
                <a:ext cx="128520" cy="58680"/>
              </a:xfrm>
              <a:custGeom>
                <a:avLst/>
                <a:gdLst/>
                <a:ahLst/>
                <a:rect l="l" t="t" r="r" b="b"/>
                <a:pathLst>
                  <a:path w="81" h="37">
                    <a:moveTo>
                      <a:pt x="80" y="0"/>
                    </a:moveTo>
                    <a:lnTo>
                      <a:pt x="55" y="15"/>
                    </a:lnTo>
                    <a:lnTo>
                      <a:pt x="46" y="17"/>
                    </a:lnTo>
                    <a:lnTo>
                      <a:pt x="0" y="36"/>
                    </a:lnTo>
                    <a:lnTo>
                      <a:pt x="43" y="10"/>
                    </a:lnTo>
                    <a:lnTo>
                      <a:pt x="58" y="7"/>
                    </a:lnTo>
                    <a:lnTo>
                      <a:pt x="73" y="2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340000" y="5472360"/>
                <a:ext cx="103320" cy="334800"/>
              </a:xfrm>
              <a:custGeom>
                <a:avLst/>
                <a:gdLst/>
                <a:ahLst/>
                <a:rect l="l" t="t" r="r" b="b"/>
                <a:pathLst>
                  <a:path w="65" h="211">
                    <a:moveTo>
                      <a:pt x="34" y="0"/>
                    </a:moveTo>
                    <a:lnTo>
                      <a:pt x="44" y="28"/>
                    </a:lnTo>
                    <a:lnTo>
                      <a:pt x="45" y="50"/>
                    </a:lnTo>
                    <a:lnTo>
                      <a:pt x="53" y="45"/>
                    </a:lnTo>
                    <a:lnTo>
                      <a:pt x="45" y="73"/>
                    </a:lnTo>
                    <a:lnTo>
                      <a:pt x="62" y="122"/>
                    </a:lnTo>
                    <a:lnTo>
                      <a:pt x="57" y="123"/>
                    </a:lnTo>
                    <a:lnTo>
                      <a:pt x="57" y="145"/>
                    </a:lnTo>
                    <a:lnTo>
                      <a:pt x="64" y="165"/>
                    </a:lnTo>
                    <a:lnTo>
                      <a:pt x="58" y="210"/>
                    </a:lnTo>
                    <a:lnTo>
                      <a:pt x="49" y="200"/>
                    </a:lnTo>
                    <a:lnTo>
                      <a:pt x="16" y="202"/>
                    </a:lnTo>
                    <a:lnTo>
                      <a:pt x="47" y="191"/>
                    </a:lnTo>
                    <a:lnTo>
                      <a:pt x="52" y="182"/>
                    </a:lnTo>
                    <a:lnTo>
                      <a:pt x="42" y="178"/>
                    </a:lnTo>
                    <a:lnTo>
                      <a:pt x="54" y="166"/>
                    </a:lnTo>
                    <a:lnTo>
                      <a:pt x="12" y="157"/>
                    </a:lnTo>
                    <a:lnTo>
                      <a:pt x="0" y="162"/>
                    </a:lnTo>
                    <a:lnTo>
                      <a:pt x="8" y="153"/>
                    </a:lnTo>
                    <a:lnTo>
                      <a:pt x="53" y="158"/>
                    </a:lnTo>
                    <a:lnTo>
                      <a:pt x="54" y="152"/>
                    </a:lnTo>
                    <a:lnTo>
                      <a:pt x="37" y="123"/>
                    </a:lnTo>
                    <a:lnTo>
                      <a:pt x="49" y="124"/>
                    </a:lnTo>
                    <a:lnTo>
                      <a:pt x="28" y="80"/>
                    </a:lnTo>
                    <a:lnTo>
                      <a:pt x="21" y="28"/>
                    </a:lnTo>
                    <a:lnTo>
                      <a:pt x="44" y="91"/>
                    </a:lnTo>
                    <a:lnTo>
                      <a:pt x="40" y="26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14800" y="5459400"/>
                <a:ext cx="98280" cy="392400"/>
              </a:xfrm>
              <a:custGeom>
                <a:avLst/>
                <a:gdLst/>
                <a:ahLst/>
                <a:rect l="l" t="t" r="r" b="b"/>
                <a:pathLst>
                  <a:path w="62" h="247">
                    <a:moveTo>
                      <a:pt x="40" y="0"/>
                    </a:moveTo>
                    <a:lnTo>
                      <a:pt x="35" y="16"/>
                    </a:lnTo>
                    <a:lnTo>
                      <a:pt x="39" y="48"/>
                    </a:lnTo>
                    <a:lnTo>
                      <a:pt x="32" y="26"/>
                    </a:lnTo>
                    <a:lnTo>
                      <a:pt x="32" y="91"/>
                    </a:lnTo>
                    <a:lnTo>
                      <a:pt x="20" y="124"/>
                    </a:lnTo>
                    <a:lnTo>
                      <a:pt x="24" y="148"/>
                    </a:lnTo>
                    <a:lnTo>
                      <a:pt x="6" y="164"/>
                    </a:lnTo>
                    <a:lnTo>
                      <a:pt x="11" y="178"/>
                    </a:lnTo>
                    <a:lnTo>
                      <a:pt x="61" y="189"/>
                    </a:lnTo>
                    <a:lnTo>
                      <a:pt x="8" y="184"/>
                    </a:lnTo>
                    <a:lnTo>
                      <a:pt x="45" y="246"/>
                    </a:lnTo>
                    <a:lnTo>
                      <a:pt x="0" y="187"/>
                    </a:lnTo>
                    <a:lnTo>
                      <a:pt x="6" y="178"/>
                    </a:lnTo>
                    <a:lnTo>
                      <a:pt x="3" y="160"/>
                    </a:lnTo>
                    <a:lnTo>
                      <a:pt x="16" y="141"/>
                    </a:lnTo>
                    <a:lnTo>
                      <a:pt x="16" y="110"/>
                    </a:lnTo>
                    <a:lnTo>
                      <a:pt x="26" y="84"/>
                    </a:lnTo>
                    <a:lnTo>
                      <a:pt x="31" y="16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82840" y="5799240"/>
                <a:ext cx="50760" cy="198360"/>
              </a:xfrm>
              <a:custGeom>
                <a:avLst/>
                <a:gdLst/>
                <a:ahLst/>
                <a:rect l="l" t="t" r="r" b="b"/>
                <a:pathLst>
                  <a:path w="32" h="125">
                    <a:moveTo>
                      <a:pt x="9" y="8"/>
                    </a:moveTo>
                    <a:lnTo>
                      <a:pt x="0" y="28"/>
                    </a:lnTo>
                    <a:lnTo>
                      <a:pt x="9" y="65"/>
                    </a:lnTo>
                    <a:lnTo>
                      <a:pt x="14" y="65"/>
                    </a:lnTo>
                    <a:lnTo>
                      <a:pt x="11" y="83"/>
                    </a:lnTo>
                    <a:lnTo>
                      <a:pt x="10" y="97"/>
                    </a:lnTo>
                    <a:lnTo>
                      <a:pt x="27" y="124"/>
                    </a:lnTo>
                    <a:lnTo>
                      <a:pt x="26" y="118"/>
                    </a:lnTo>
                    <a:lnTo>
                      <a:pt x="17" y="99"/>
                    </a:lnTo>
                    <a:lnTo>
                      <a:pt x="18" y="84"/>
                    </a:lnTo>
                    <a:lnTo>
                      <a:pt x="13" y="92"/>
                    </a:lnTo>
                    <a:lnTo>
                      <a:pt x="18" y="62"/>
                    </a:lnTo>
                    <a:lnTo>
                      <a:pt x="31" y="45"/>
                    </a:lnTo>
                    <a:lnTo>
                      <a:pt x="14" y="56"/>
                    </a:lnTo>
                    <a:lnTo>
                      <a:pt x="6" y="30"/>
                    </a:lnTo>
                    <a:lnTo>
                      <a:pt x="13" y="0"/>
                    </a:lnTo>
                    <a:lnTo>
                      <a:pt x="9" y="8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14520" y="5813640"/>
                <a:ext cx="39960" cy="322200"/>
              </a:xfrm>
              <a:custGeom>
                <a:avLst/>
                <a:gdLst/>
                <a:ahLst/>
                <a:rect l="l" t="t" r="r" b="b"/>
                <a:pathLst>
                  <a:path w="25" h="203">
                    <a:moveTo>
                      <a:pt x="11" y="0"/>
                    </a:moveTo>
                    <a:lnTo>
                      <a:pt x="7" y="64"/>
                    </a:lnTo>
                    <a:lnTo>
                      <a:pt x="13" y="74"/>
                    </a:lnTo>
                    <a:lnTo>
                      <a:pt x="5" y="117"/>
                    </a:lnTo>
                    <a:lnTo>
                      <a:pt x="5" y="177"/>
                    </a:lnTo>
                    <a:lnTo>
                      <a:pt x="0" y="202"/>
                    </a:lnTo>
                    <a:lnTo>
                      <a:pt x="11" y="202"/>
                    </a:lnTo>
                    <a:lnTo>
                      <a:pt x="10" y="165"/>
                    </a:lnTo>
                    <a:lnTo>
                      <a:pt x="10" y="111"/>
                    </a:lnTo>
                    <a:lnTo>
                      <a:pt x="17" y="76"/>
                    </a:lnTo>
                    <a:lnTo>
                      <a:pt x="24" y="73"/>
                    </a:lnTo>
                    <a:lnTo>
                      <a:pt x="24" y="66"/>
                    </a:lnTo>
                    <a:lnTo>
                      <a:pt x="11" y="61"/>
                    </a:lnTo>
                    <a:lnTo>
                      <a:pt x="11" y="2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522520" y="5942160"/>
                <a:ext cx="5256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2"/>
                    </a:moveTo>
                    <a:lnTo>
                      <a:pt x="32" y="12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7040" y="5919840"/>
                <a:ext cx="133560" cy="41400"/>
              </a:xfrm>
              <a:custGeom>
                <a:avLst/>
                <a:gdLst/>
                <a:ahLst/>
                <a:rect l="l" t="t" r="r" b="b"/>
                <a:pathLst>
                  <a:path w="84" h="26">
                    <a:moveTo>
                      <a:pt x="1" y="14"/>
                    </a:moveTo>
                    <a:lnTo>
                      <a:pt x="0" y="25"/>
                    </a:lnTo>
                    <a:lnTo>
                      <a:pt x="24" y="25"/>
                    </a:lnTo>
                    <a:lnTo>
                      <a:pt x="59" y="15"/>
                    </a:lnTo>
                    <a:lnTo>
                      <a:pt x="61" y="5"/>
                    </a:lnTo>
                    <a:lnTo>
                      <a:pt x="83" y="7"/>
                    </a:lnTo>
                    <a:lnTo>
                      <a:pt x="59" y="2"/>
                    </a:lnTo>
                    <a:lnTo>
                      <a:pt x="32" y="6"/>
                    </a:lnTo>
                    <a:lnTo>
                      <a:pt x="28" y="0"/>
                    </a:lnTo>
                    <a:lnTo>
                      <a:pt x="28" y="8"/>
                    </a:lnTo>
                    <a:lnTo>
                      <a:pt x="18" y="12"/>
                    </a:lnTo>
                    <a:lnTo>
                      <a:pt x="6" y="14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35200" y="5931000"/>
                <a:ext cx="98640" cy="6660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0"/>
                    </a:moveTo>
                    <a:lnTo>
                      <a:pt x="54" y="5"/>
                    </a:lnTo>
                    <a:lnTo>
                      <a:pt x="25" y="18"/>
                    </a:lnTo>
                    <a:lnTo>
                      <a:pt x="0" y="35"/>
                    </a:lnTo>
                    <a:lnTo>
                      <a:pt x="4" y="41"/>
                    </a:lnTo>
                    <a:lnTo>
                      <a:pt x="8" y="39"/>
                    </a:lnTo>
                    <a:lnTo>
                      <a:pt x="6" y="35"/>
                    </a:lnTo>
                    <a:lnTo>
                      <a:pt x="27" y="20"/>
                    </a:lnTo>
                    <a:lnTo>
                      <a:pt x="60" y="5"/>
                    </a:lnTo>
                    <a:lnTo>
                      <a:pt x="61" y="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51040" y="5954760"/>
                <a:ext cx="181080" cy="74520"/>
              </a:xfrm>
              <a:custGeom>
                <a:avLst/>
                <a:gdLst/>
                <a:ahLst/>
                <a:rect l="l" t="t" r="r" b="b"/>
                <a:pathLst>
                  <a:path w="114" h="47">
                    <a:moveTo>
                      <a:pt x="0" y="24"/>
                    </a:moveTo>
                    <a:lnTo>
                      <a:pt x="41" y="5"/>
                    </a:lnTo>
                    <a:lnTo>
                      <a:pt x="55" y="0"/>
                    </a:lnTo>
                    <a:lnTo>
                      <a:pt x="44" y="14"/>
                    </a:lnTo>
                    <a:lnTo>
                      <a:pt x="20" y="28"/>
                    </a:lnTo>
                    <a:lnTo>
                      <a:pt x="11" y="37"/>
                    </a:lnTo>
                    <a:lnTo>
                      <a:pt x="13" y="43"/>
                    </a:lnTo>
                    <a:lnTo>
                      <a:pt x="28" y="36"/>
                    </a:lnTo>
                    <a:lnTo>
                      <a:pt x="65" y="15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77" y="28"/>
                    </a:lnTo>
                    <a:lnTo>
                      <a:pt x="113" y="4"/>
                    </a:lnTo>
                    <a:lnTo>
                      <a:pt x="82" y="30"/>
                    </a:lnTo>
                    <a:lnTo>
                      <a:pt x="37" y="46"/>
                    </a:lnTo>
                    <a:lnTo>
                      <a:pt x="28" y="42"/>
                    </a:lnTo>
                    <a:lnTo>
                      <a:pt x="13" y="45"/>
                    </a:lnTo>
                    <a:lnTo>
                      <a:pt x="5" y="37"/>
                    </a:lnTo>
                    <a:lnTo>
                      <a:pt x="12" y="30"/>
                    </a:lnTo>
                    <a:lnTo>
                      <a:pt x="40" y="13"/>
                    </a:lnTo>
                    <a:lnTo>
                      <a:pt x="45" y="6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14840" y="596124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8" y="0"/>
                    </a:moveTo>
                    <a:lnTo>
                      <a:pt x="16" y="107"/>
                    </a:lnTo>
                    <a:lnTo>
                      <a:pt x="9" y="109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27200" y="6031080"/>
                <a:ext cx="6696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97040" y="6073920"/>
                <a:ext cx="19080" cy="6192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0" y="0"/>
                    </a:moveTo>
                    <a:lnTo>
                      <a:pt x="0" y="38"/>
                    </a:lnTo>
                    <a:lnTo>
                      <a:pt x="11" y="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54360" y="5921640"/>
                <a:ext cx="147600" cy="10620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0" y="0"/>
                    </a:moveTo>
                    <a:lnTo>
                      <a:pt x="20" y="32"/>
                    </a:lnTo>
                    <a:lnTo>
                      <a:pt x="61" y="49"/>
                    </a:lnTo>
                    <a:lnTo>
                      <a:pt x="92" y="56"/>
                    </a:lnTo>
                    <a:lnTo>
                      <a:pt x="89" y="66"/>
                    </a:lnTo>
                    <a:lnTo>
                      <a:pt x="48" y="56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28760" y="6010560"/>
                <a:ext cx="198720" cy="69840"/>
              </a:xfrm>
              <a:custGeom>
                <a:avLst/>
                <a:gdLst/>
                <a:ahLst/>
                <a:rect l="l" t="t" r="r" b="b"/>
                <a:pathLst>
                  <a:path w="125" h="44">
                    <a:moveTo>
                      <a:pt x="31" y="12"/>
                    </a:moveTo>
                    <a:lnTo>
                      <a:pt x="47" y="24"/>
                    </a:lnTo>
                    <a:lnTo>
                      <a:pt x="80" y="30"/>
                    </a:lnTo>
                    <a:lnTo>
                      <a:pt x="105" y="30"/>
                    </a:lnTo>
                    <a:lnTo>
                      <a:pt x="124" y="28"/>
                    </a:lnTo>
                    <a:lnTo>
                      <a:pt x="124" y="37"/>
                    </a:lnTo>
                    <a:lnTo>
                      <a:pt x="96" y="43"/>
                    </a:lnTo>
                    <a:lnTo>
                      <a:pt x="56" y="37"/>
                    </a:lnTo>
                    <a:lnTo>
                      <a:pt x="22" y="18"/>
                    </a:lnTo>
                    <a:lnTo>
                      <a:pt x="0" y="0"/>
                    </a:lnTo>
                    <a:lnTo>
                      <a:pt x="31" y="12"/>
                    </a:lnTo>
                    <a:lnTo>
                      <a:pt x="31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>
            <a:off x="4073400" y="1981080"/>
            <a:ext cx="3676680" cy="1649520"/>
          </a:xfrm>
          <a:custGeom>
            <a:avLst/>
            <a:gdLst/>
            <a:ahLst/>
            <a:rect l="l" t="t" r="r" b="b"/>
            <a:pathLst>
              <a:path w="2316" h="1039">
                <a:moveTo>
                  <a:pt x="946" y="0"/>
                </a:moveTo>
                <a:lnTo>
                  <a:pt x="698" y="36"/>
                </a:lnTo>
                <a:lnTo>
                  <a:pt x="490" y="86"/>
                </a:lnTo>
                <a:lnTo>
                  <a:pt x="319" y="150"/>
                </a:lnTo>
                <a:lnTo>
                  <a:pt x="186" y="223"/>
                </a:lnTo>
                <a:lnTo>
                  <a:pt x="88" y="304"/>
                </a:lnTo>
                <a:lnTo>
                  <a:pt x="26" y="392"/>
                </a:lnTo>
                <a:lnTo>
                  <a:pt x="0" y="482"/>
                </a:lnTo>
                <a:lnTo>
                  <a:pt x="8" y="573"/>
                </a:lnTo>
                <a:lnTo>
                  <a:pt x="49" y="662"/>
                </a:lnTo>
                <a:lnTo>
                  <a:pt x="123" y="748"/>
                </a:lnTo>
                <a:lnTo>
                  <a:pt x="229" y="827"/>
                </a:lnTo>
                <a:lnTo>
                  <a:pt x="368" y="896"/>
                </a:lnTo>
                <a:lnTo>
                  <a:pt x="538" y="956"/>
                </a:lnTo>
                <a:lnTo>
                  <a:pt x="738" y="1000"/>
                </a:lnTo>
                <a:lnTo>
                  <a:pt x="968" y="1029"/>
                </a:lnTo>
                <a:lnTo>
                  <a:pt x="1227" y="1038"/>
                </a:lnTo>
                <a:lnTo>
                  <a:pt x="1482" y="1030"/>
                </a:lnTo>
                <a:lnTo>
                  <a:pt x="1704" y="1003"/>
                </a:lnTo>
                <a:lnTo>
                  <a:pt x="1891" y="962"/>
                </a:lnTo>
                <a:lnTo>
                  <a:pt x="2044" y="906"/>
                </a:lnTo>
                <a:lnTo>
                  <a:pt x="2162" y="842"/>
                </a:lnTo>
                <a:lnTo>
                  <a:pt x="2247" y="769"/>
                </a:lnTo>
                <a:lnTo>
                  <a:pt x="2298" y="690"/>
                </a:lnTo>
                <a:lnTo>
                  <a:pt x="2315" y="606"/>
                </a:lnTo>
                <a:lnTo>
                  <a:pt x="2298" y="522"/>
                </a:lnTo>
                <a:lnTo>
                  <a:pt x="2247" y="437"/>
                </a:lnTo>
                <a:lnTo>
                  <a:pt x="2163" y="356"/>
                </a:lnTo>
                <a:lnTo>
                  <a:pt x="2046" y="279"/>
                </a:lnTo>
                <a:lnTo>
                  <a:pt x="1894" y="210"/>
                </a:lnTo>
                <a:lnTo>
                  <a:pt x="1710" y="150"/>
                </a:lnTo>
                <a:lnTo>
                  <a:pt x="1493" y="102"/>
                </a:lnTo>
                <a:lnTo>
                  <a:pt x="1244" y="66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267080"/>
            <a:ext cx="308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U</a:t>
            </a:r>
            <a:r>
              <a:rPr b="0" lang="en-US" sz="3800" spc="-1" strike="noStrike" baseline="30000">
                <a:solidFill>
                  <a:srgbClr val="810000"/>
                </a:solidFill>
                <a:latin typeface="Times New Roman"/>
              </a:rPr>
              <a:t>1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, U</a:t>
            </a:r>
            <a:r>
              <a:rPr b="0" lang="en-US" sz="3800" spc="-1" strike="noStrike" baseline="30000">
                <a:solidFill>
                  <a:srgbClr val="810000"/>
                </a:solidFill>
                <a:latin typeface="Times New Roman"/>
              </a:rPr>
              <a:t>2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 ,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037280" y="4462560"/>
            <a:ext cx="2506680" cy="3233520"/>
            <a:chOff x="7037280" y="4462560"/>
            <a:chExt cx="2506680" cy="3233520"/>
          </a:xfrm>
        </p:grpSpPr>
        <p:sp>
          <p:nvSpPr>
            <p:cNvPr id="684" name=""/>
            <p:cNvSpPr/>
            <p:nvPr/>
          </p:nvSpPr>
          <p:spPr>
            <a:xfrm>
              <a:off x="7037280" y="4462560"/>
              <a:ext cx="2506680" cy="32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1680">
              <a:solidFill>
                <a:srgbClr val="40008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67840" y="6237360"/>
              <a:ext cx="164880" cy="36360"/>
            </a:xfrm>
            <a:custGeom>
              <a:avLst/>
              <a:gdLst/>
              <a:ahLst/>
              <a:rect l="l" t="t" r="r" b="b"/>
              <a:pathLst>
                <a:path w="104" h="23">
                  <a:moveTo>
                    <a:pt x="0" y="8"/>
                  </a:moveTo>
                  <a:lnTo>
                    <a:pt x="1" y="8"/>
                  </a:lnTo>
                  <a:lnTo>
                    <a:pt x="37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76" y="2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64320" y="6267600"/>
              <a:ext cx="1019160" cy="10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50200" y="6200640"/>
              <a:ext cx="1193760" cy="1195560"/>
            </a:xfrm>
            <a:custGeom>
              <a:avLst/>
              <a:gdLst/>
              <a:ahLst/>
              <a:rect l="l" t="t" r="r" b="b"/>
              <a:pathLst>
                <a:path w="752" h="753">
                  <a:moveTo>
                    <a:pt x="219" y="25"/>
                  </a:moveTo>
                  <a:lnTo>
                    <a:pt x="139" y="78"/>
                  </a:lnTo>
                  <a:lnTo>
                    <a:pt x="140" y="152"/>
                  </a:lnTo>
                  <a:lnTo>
                    <a:pt x="113" y="216"/>
                  </a:lnTo>
                  <a:lnTo>
                    <a:pt x="16" y="252"/>
                  </a:lnTo>
                  <a:lnTo>
                    <a:pt x="0" y="337"/>
                  </a:lnTo>
                  <a:lnTo>
                    <a:pt x="76" y="387"/>
                  </a:lnTo>
                  <a:lnTo>
                    <a:pt x="82" y="453"/>
                  </a:lnTo>
                  <a:lnTo>
                    <a:pt x="32" y="536"/>
                  </a:lnTo>
                  <a:lnTo>
                    <a:pt x="81" y="610"/>
                  </a:lnTo>
                  <a:lnTo>
                    <a:pt x="189" y="612"/>
                  </a:lnTo>
                  <a:lnTo>
                    <a:pt x="238" y="646"/>
                  </a:lnTo>
                  <a:lnTo>
                    <a:pt x="266" y="736"/>
                  </a:lnTo>
                  <a:lnTo>
                    <a:pt x="364" y="752"/>
                  </a:lnTo>
                  <a:lnTo>
                    <a:pt x="424" y="691"/>
                  </a:lnTo>
                  <a:lnTo>
                    <a:pt x="488" y="674"/>
                  </a:lnTo>
                  <a:lnTo>
                    <a:pt x="552" y="704"/>
                  </a:lnTo>
                  <a:lnTo>
                    <a:pt x="651" y="631"/>
                  </a:lnTo>
                  <a:lnTo>
                    <a:pt x="636" y="567"/>
                  </a:lnTo>
                  <a:lnTo>
                    <a:pt x="663" y="516"/>
                  </a:lnTo>
                  <a:lnTo>
                    <a:pt x="734" y="492"/>
                  </a:lnTo>
                  <a:lnTo>
                    <a:pt x="751" y="403"/>
                  </a:lnTo>
                  <a:lnTo>
                    <a:pt x="691" y="335"/>
                  </a:lnTo>
                  <a:lnTo>
                    <a:pt x="679" y="278"/>
                  </a:lnTo>
                  <a:lnTo>
                    <a:pt x="713" y="194"/>
                  </a:lnTo>
                  <a:lnTo>
                    <a:pt x="653" y="122"/>
                  </a:lnTo>
                  <a:lnTo>
                    <a:pt x="565" y="130"/>
                  </a:lnTo>
                  <a:lnTo>
                    <a:pt x="538" y="96"/>
                  </a:lnTo>
                  <a:lnTo>
                    <a:pt x="523" y="20"/>
                  </a:lnTo>
                  <a:lnTo>
                    <a:pt x="411" y="0"/>
                  </a:lnTo>
                  <a:lnTo>
                    <a:pt x="369" y="45"/>
                  </a:lnTo>
                  <a:lnTo>
                    <a:pt x="309" y="62"/>
                  </a:lnTo>
                  <a:lnTo>
                    <a:pt x="219" y="27"/>
                  </a:lnTo>
                  <a:lnTo>
                    <a:pt x="219" y="25"/>
                  </a:lnTo>
                  <a:lnTo>
                    <a:pt x="219" y="25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02720" y="6521400"/>
              <a:ext cx="460080" cy="474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02520" y="618480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10"/>
                  </a:moveTo>
                  <a:lnTo>
                    <a:pt x="38" y="0"/>
                  </a:lnTo>
                  <a:lnTo>
                    <a:pt x="42" y="3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6200" y="6313320"/>
              <a:ext cx="134640" cy="1368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0" y="8"/>
                  </a:moveTo>
                  <a:lnTo>
                    <a:pt x="34" y="0"/>
                  </a:lnTo>
                  <a:lnTo>
                    <a:pt x="84" y="41"/>
                  </a:lnTo>
                  <a:lnTo>
                    <a:pt x="41" y="81"/>
                  </a:lnTo>
                  <a:lnTo>
                    <a:pt x="3" y="85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5520" y="6724800"/>
              <a:ext cx="185760" cy="11736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0" y="10"/>
                  </a:moveTo>
                  <a:lnTo>
                    <a:pt x="46" y="0"/>
                  </a:lnTo>
                  <a:lnTo>
                    <a:pt x="116" y="55"/>
                  </a:lnTo>
                  <a:lnTo>
                    <a:pt x="112" y="60"/>
                  </a:lnTo>
                  <a:lnTo>
                    <a:pt x="76" y="73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31000" y="7140600"/>
              <a:ext cx="150840" cy="11592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25"/>
                  </a:moveTo>
                  <a:lnTo>
                    <a:pt x="13" y="38"/>
                  </a:lnTo>
                  <a:lnTo>
                    <a:pt x="21" y="46"/>
                  </a:lnTo>
                  <a:lnTo>
                    <a:pt x="32" y="53"/>
                  </a:lnTo>
                  <a:lnTo>
                    <a:pt x="62" y="72"/>
                  </a:lnTo>
                  <a:lnTo>
                    <a:pt x="94" y="47"/>
                  </a:lnTo>
                  <a:lnTo>
                    <a:pt x="85" y="25"/>
                  </a:lnTo>
                  <a:lnTo>
                    <a:pt x="30" y="0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69240" y="7351560"/>
              <a:ext cx="212760" cy="49320"/>
            </a:xfrm>
            <a:custGeom>
              <a:avLst/>
              <a:gdLst/>
              <a:ahLst/>
              <a:rect l="l" t="t" r="r" b="b"/>
              <a:pathLst>
                <a:path w="134" h="31">
                  <a:moveTo>
                    <a:pt x="0" y="11"/>
                  </a:moveTo>
                  <a:lnTo>
                    <a:pt x="2" y="11"/>
                  </a:lnTo>
                  <a:lnTo>
                    <a:pt x="49" y="0"/>
                  </a:lnTo>
                  <a:lnTo>
                    <a:pt x="131" y="11"/>
                  </a:lnTo>
                  <a:lnTo>
                    <a:pt x="133" y="20"/>
                  </a:lnTo>
                  <a:lnTo>
                    <a:pt x="99" y="3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63000" y="7256520"/>
              <a:ext cx="123840" cy="572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2" y="32"/>
                  </a:moveTo>
                  <a:lnTo>
                    <a:pt x="8" y="20"/>
                  </a:lnTo>
                  <a:lnTo>
                    <a:pt x="55" y="1"/>
                  </a:lnTo>
                  <a:lnTo>
                    <a:pt x="77" y="0"/>
                  </a:lnTo>
                  <a:lnTo>
                    <a:pt x="73" y="4"/>
                  </a:lnTo>
                  <a:lnTo>
                    <a:pt x="51" y="21"/>
                  </a:lnTo>
                  <a:lnTo>
                    <a:pt x="28" y="30"/>
                  </a:lnTo>
                  <a:lnTo>
                    <a:pt x="0" y="35"/>
                  </a:lnTo>
                  <a:lnTo>
                    <a:pt x="2" y="32"/>
                  </a:lnTo>
                  <a:lnTo>
                    <a:pt x="2" y="3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27880" y="7267680"/>
              <a:ext cx="5580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3"/>
                  </a:moveTo>
                  <a:lnTo>
                    <a:pt x="34" y="25"/>
                  </a:lnTo>
                  <a:lnTo>
                    <a:pt x="32" y="0"/>
                  </a:lnTo>
                  <a:lnTo>
                    <a:pt x="7" y="15"/>
                  </a:lnTo>
                  <a:lnTo>
                    <a:pt x="3" y="33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469360" y="638496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8" y="4"/>
                  </a:moveTo>
                  <a:lnTo>
                    <a:pt x="44" y="0"/>
                  </a:lnTo>
                  <a:lnTo>
                    <a:pt x="34" y="30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70960" y="623268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15" y="4"/>
                  </a:moveTo>
                  <a:lnTo>
                    <a:pt x="48" y="0"/>
                  </a:lnTo>
                  <a:lnTo>
                    <a:pt x="48" y="36"/>
                  </a:lnTo>
                  <a:lnTo>
                    <a:pt x="0" y="21"/>
                  </a:lnTo>
                  <a:lnTo>
                    <a:pt x="15" y="4"/>
                  </a:lnTo>
                  <a:lnTo>
                    <a:pt x="15" y="4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02400" y="6186600"/>
              <a:ext cx="1193760" cy="1198440"/>
            </a:xfrm>
            <a:custGeom>
              <a:avLst/>
              <a:gdLst/>
              <a:ahLst/>
              <a:rect l="l" t="t" r="r" b="b"/>
              <a:pathLst>
                <a:path w="752" h="755">
                  <a:moveTo>
                    <a:pt x="220" y="28"/>
                  </a:moveTo>
                  <a:lnTo>
                    <a:pt x="139" y="81"/>
                  </a:lnTo>
                  <a:lnTo>
                    <a:pt x="144" y="160"/>
                  </a:lnTo>
                  <a:lnTo>
                    <a:pt x="114" y="218"/>
                  </a:lnTo>
                  <a:lnTo>
                    <a:pt x="16" y="255"/>
                  </a:lnTo>
                  <a:lnTo>
                    <a:pt x="0" y="340"/>
                  </a:lnTo>
                  <a:lnTo>
                    <a:pt x="77" y="397"/>
                  </a:lnTo>
                  <a:lnTo>
                    <a:pt x="88" y="441"/>
                  </a:lnTo>
                  <a:lnTo>
                    <a:pt x="33" y="538"/>
                  </a:lnTo>
                  <a:lnTo>
                    <a:pt x="82" y="613"/>
                  </a:lnTo>
                  <a:lnTo>
                    <a:pt x="189" y="615"/>
                  </a:lnTo>
                  <a:lnTo>
                    <a:pt x="239" y="648"/>
                  </a:lnTo>
                  <a:lnTo>
                    <a:pt x="266" y="737"/>
                  </a:lnTo>
                  <a:lnTo>
                    <a:pt x="364" y="754"/>
                  </a:lnTo>
                  <a:lnTo>
                    <a:pt x="424" y="694"/>
                  </a:lnTo>
                  <a:lnTo>
                    <a:pt x="489" y="677"/>
                  </a:lnTo>
                  <a:lnTo>
                    <a:pt x="553" y="706"/>
                  </a:lnTo>
                  <a:lnTo>
                    <a:pt x="652" y="633"/>
                  </a:lnTo>
                  <a:lnTo>
                    <a:pt x="636" y="569"/>
                  </a:lnTo>
                  <a:lnTo>
                    <a:pt x="664" y="518"/>
                  </a:lnTo>
                  <a:lnTo>
                    <a:pt x="735" y="495"/>
                  </a:lnTo>
                  <a:lnTo>
                    <a:pt x="751" y="405"/>
                  </a:lnTo>
                  <a:lnTo>
                    <a:pt x="691" y="337"/>
                  </a:lnTo>
                  <a:lnTo>
                    <a:pt x="680" y="280"/>
                  </a:lnTo>
                  <a:lnTo>
                    <a:pt x="719" y="215"/>
                  </a:lnTo>
                  <a:lnTo>
                    <a:pt x="653" y="123"/>
                  </a:lnTo>
                  <a:lnTo>
                    <a:pt x="574" y="132"/>
                  </a:lnTo>
                  <a:lnTo>
                    <a:pt x="522" y="92"/>
                  </a:lnTo>
                  <a:lnTo>
                    <a:pt x="525" y="27"/>
                  </a:lnTo>
                  <a:lnTo>
                    <a:pt x="415" y="0"/>
                  </a:lnTo>
                  <a:lnTo>
                    <a:pt x="366" y="55"/>
                  </a:lnTo>
                  <a:lnTo>
                    <a:pt x="310" y="65"/>
                  </a:lnTo>
                  <a:lnTo>
                    <a:pt x="221" y="30"/>
                  </a:lnTo>
                  <a:lnTo>
                    <a:pt x="220" y="28"/>
                  </a:lnTo>
                  <a:lnTo>
                    <a:pt x="220" y="28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75720" y="6429240"/>
              <a:ext cx="98280" cy="1000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75720" y="6429240"/>
              <a:ext cx="98280" cy="1000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04000" y="6654960"/>
              <a:ext cx="98640" cy="99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5720" y="6429240"/>
              <a:ext cx="98280" cy="100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37440" y="6375240"/>
              <a:ext cx="98640" cy="98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72520" y="6519960"/>
              <a:ext cx="98280" cy="100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426520" y="6799320"/>
              <a:ext cx="98280" cy="98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99440" y="7042320"/>
              <a:ext cx="98280" cy="99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02440" y="7115040"/>
              <a:ext cx="100080" cy="96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0720" y="6934320"/>
              <a:ext cx="98280" cy="99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1920" y="6645240"/>
              <a:ext cx="98640" cy="1000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83640" y="6421320"/>
              <a:ext cx="98280" cy="968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43920" y="6365880"/>
              <a:ext cx="98280" cy="982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79000" y="6510240"/>
              <a:ext cx="99720" cy="986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32640" y="6789600"/>
              <a:ext cx="100080" cy="986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305920" y="7035840"/>
              <a:ext cx="99720" cy="968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008920" y="7105680"/>
              <a:ext cx="98280" cy="982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46840" y="6926400"/>
              <a:ext cx="98640" cy="982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96240" y="6583320"/>
              <a:ext cx="426960" cy="424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27920" y="688356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5" y="0"/>
                  </a:moveTo>
                  <a:lnTo>
                    <a:pt x="0" y="19"/>
                  </a:lnTo>
                  <a:lnTo>
                    <a:pt x="6" y="27"/>
                  </a:lnTo>
                  <a:lnTo>
                    <a:pt x="30" y="9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50240" y="6907320"/>
              <a:ext cx="58680" cy="5220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2" y="0"/>
                  </a:moveTo>
                  <a:lnTo>
                    <a:pt x="0" y="19"/>
                  </a:lnTo>
                  <a:lnTo>
                    <a:pt x="13" y="32"/>
                  </a:lnTo>
                  <a:lnTo>
                    <a:pt x="36" y="10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18560" y="6568920"/>
              <a:ext cx="430200" cy="4240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1880000">
              <a:off x="8222760" y="5439960"/>
              <a:ext cx="868320" cy="893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28080" y="5367240"/>
              <a:ext cx="1015920" cy="1009800"/>
            </a:xfrm>
            <a:custGeom>
              <a:avLst/>
              <a:gdLst/>
              <a:ahLst/>
              <a:rect l="l" t="t" r="r" b="b"/>
              <a:pathLst>
                <a:path w="640" h="636">
                  <a:moveTo>
                    <a:pt x="280" y="0"/>
                  </a:moveTo>
                  <a:lnTo>
                    <a:pt x="201" y="23"/>
                  </a:lnTo>
                  <a:lnTo>
                    <a:pt x="184" y="84"/>
                  </a:lnTo>
                  <a:lnTo>
                    <a:pt x="146" y="128"/>
                  </a:lnTo>
                  <a:lnTo>
                    <a:pt x="58" y="133"/>
                  </a:lnTo>
                  <a:lnTo>
                    <a:pt x="23" y="198"/>
                  </a:lnTo>
                  <a:lnTo>
                    <a:pt x="72" y="258"/>
                  </a:lnTo>
                  <a:lnTo>
                    <a:pt x="60" y="313"/>
                  </a:lnTo>
                  <a:lnTo>
                    <a:pt x="0" y="367"/>
                  </a:lnTo>
                  <a:lnTo>
                    <a:pt x="20" y="440"/>
                  </a:lnTo>
                  <a:lnTo>
                    <a:pt x="106" y="470"/>
                  </a:lnTo>
                  <a:lnTo>
                    <a:pt x="138" y="509"/>
                  </a:lnTo>
                  <a:lnTo>
                    <a:pt x="138" y="589"/>
                  </a:lnTo>
                  <a:lnTo>
                    <a:pt x="214" y="627"/>
                  </a:lnTo>
                  <a:lnTo>
                    <a:pt x="278" y="593"/>
                  </a:lnTo>
                  <a:lnTo>
                    <a:pt x="334" y="595"/>
                  </a:lnTo>
                  <a:lnTo>
                    <a:pt x="378" y="635"/>
                  </a:lnTo>
                  <a:lnTo>
                    <a:pt x="477" y="601"/>
                  </a:lnTo>
                  <a:lnTo>
                    <a:pt x="482" y="546"/>
                  </a:lnTo>
                  <a:lnTo>
                    <a:pt x="516" y="511"/>
                  </a:lnTo>
                  <a:lnTo>
                    <a:pt x="581" y="510"/>
                  </a:lnTo>
                  <a:lnTo>
                    <a:pt x="616" y="440"/>
                  </a:lnTo>
                  <a:lnTo>
                    <a:pt x="584" y="370"/>
                  </a:lnTo>
                  <a:lnTo>
                    <a:pt x="590" y="321"/>
                  </a:lnTo>
                  <a:lnTo>
                    <a:pt x="639" y="263"/>
                  </a:lnTo>
                  <a:lnTo>
                    <a:pt x="608" y="187"/>
                  </a:lnTo>
                  <a:lnTo>
                    <a:pt x="535" y="173"/>
                  </a:lnTo>
                  <a:lnTo>
                    <a:pt x="521" y="139"/>
                  </a:lnTo>
                  <a:lnTo>
                    <a:pt x="529" y="73"/>
                  </a:lnTo>
                  <a:lnTo>
                    <a:pt x="443" y="29"/>
                  </a:lnTo>
                  <a:lnTo>
                    <a:pt x="396" y="55"/>
                  </a:lnTo>
                  <a:lnTo>
                    <a:pt x="344" y="53"/>
                  </a:lnTo>
                  <a:lnTo>
                    <a:pt x="280" y="2"/>
                  </a:lnTo>
                  <a:lnTo>
                    <a:pt x="280" y="0"/>
                  </a:lnTo>
                  <a:lnTo>
                    <a:pt x="280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1880000">
              <a:off x="8518320" y="5670720"/>
              <a:ext cx="387360" cy="404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831160" y="541332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0"/>
                  </a:moveTo>
                  <a:lnTo>
                    <a:pt x="33" y="0"/>
                  </a:lnTo>
                  <a:lnTo>
                    <a:pt x="29" y="2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16800" y="5403960"/>
              <a:ext cx="123840" cy="11268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17" y="0"/>
                  </a:moveTo>
                  <a:lnTo>
                    <a:pt x="47" y="2"/>
                  </a:lnTo>
                  <a:lnTo>
                    <a:pt x="77" y="49"/>
                  </a:lnTo>
                  <a:lnTo>
                    <a:pt x="32" y="70"/>
                  </a:lnTo>
                  <a:lnTo>
                    <a:pt x="0" y="64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59760" y="5684760"/>
              <a:ext cx="135000" cy="11268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0" y="0"/>
                  </a:moveTo>
                  <a:lnTo>
                    <a:pt x="41" y="3"/>
                  </a:lnTo>
                  <a:lnTo>
                    <a:pt x="84" y="66"/>
                  </a:lnTo>
                  <a:lnTo>
                    <a:pt x="78" y="68"/>
                  </a:lnTo>
                  <a:lnTo>
                    <a:pt x="46" y="7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78920" y="6094440"/>
              <a:ext cx="115920" cy="1062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12"/>
                  </a:moveTo>
                  <a:lnTo>
                    <a:pt x="8" y="25"/>
                  </a:lnTo>
                  <a:lnTo>
                    <a:pt x="13" y="35"/>
                  </a:lnTo>
                  <a:lnTo>
                    <a:pt x="20" y="43"/>
                  </a:lnTo>
                  <a:lnTo>
                    <a:pt x="39" y="66"/>
                  </a:lnTo>
                  <a:lnTo>
                    <a:pt x="72" y="54"/>
                  </a:lnTo>
                  <a:lnTo>
                    <a:pt x="69" y="34"/>
                  </a:lnTo>
                  <a:lnTo>
                    <a:pt x="32" y="0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45520" y="6300720"/>
              <a:ext cx="171360" cy="68400"/>
            </a:xfrm>
            <a:custGeom>
              <a:avLst/>
              <a:gdLst/>
              <a:ahLst/>
              <a:rect l="l" t="t" r="r" b="b"/>
              <a:pathLst>
                <a:path w="108" h="43">
                  <a:moveTo>
                    <a:pt x="0" y="0"/>
                  </a:moveTo>
                  <a:lnTo>
                    <a:pt x="1" y="1"/>
                  </a:lnTo>
                  <a:lnTo>
                    <a:pt x="41" y="5"/>
                  </a:lnTo>
                  <a:lnTo>
                    <a:pt x="107" y="33"/>
                  </a:lnTo>
                  <a:lnTo>
                    <a:pt x="106" y="42"/>
                  </a:lnTo>
                  <a:lnTo>
                    <a:pt x="75" y="40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597880" y="6308640"/>
              <a:ext cx="114480" cy="27000"/>
            </a:xfrm>
            <a:custGeom>
              <a:avLst/>
              <a:gdLst/>
              <a:ahLst/>
              <a:rect l="l" t="t" r="r" b="b"/>
              <a:pathLst>
                <a:path w="72" h="17">
                  <a:moveTo>
                    <a:pt x="2" y="13"/>
                  </a:moveTo>
                  <a:lnTo>
                    <a:pt x="10" y="3"/>
                  </a:lnTo>
                  <a:lnTo>
                    <a:pt x="52" y="0"/>
                  </a:lnTo>
                  <a:lnTo>
                    <a:pt x="71" y="5"/>
                  </a:lnTo>
                  <a:lnTo>
                    <a:pt x="68" y="6"/>
                  </a:lnTo>
                  <a:lnTo>
                    <a:pt x="44" y="14"/>
                  </a:lnTo>
                  <a:lnTo>
                    <a:pt x="24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729640" y="6346800"/>
              <a:ext cx="55440" cy="363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19"/>
                  </a:moveTo>
                  <a:lnTo>
                    <a:pt x="29" y="22"/>
                  </a:lnTo>
                  <a:lnTo>
                    <a:pt x="34" y="0"/>
                  </a:lnTo>
                  <a:lnTo>
                    <a:pt x="9" y="7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078840" y="566100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1"/>
                  </a:moveTo>
                  <a:lnTo>
                    <a:pt x="37" y="7"/>
                  </a:lnTo>
                  <a:lnTo>
                    <a:pt x="23" y="29"/>
                  </a:lnTo>
                  <a:lnTo>
                    <a:pt x="0" y="0"/>
                  </a:lnTo>
                  <a:lnTo>
                    <a:pt x="7" y="1"/>
                  </a:lnTo>
                  <a:lnTo>
                    <a:pt x="7" y="1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45680" y="5365800"/>
              <a:ext cx="71280" cy="5544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16" y="0"/>
                  </a:moveTo>
                  <a:lnTo>
                    <a:pt x="44" y="4"/>
                  </a:lnTo>
                  <a:lnTo>
                    <a:pt x="35" y="34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70920" y="5373720"/>
              <a:ext cx="1017360" cy="1009440"/>
            </a:xfrm>
            <a:custGeom>
              <a:avLst/>
              <a:gdLst/>
              <a:ahLst/>
              <a:rect l="l" t="t" r="r" b="b"/>
              <a:pathLst>
                <a:path w="641" h="636">
                  <a:moveTo>
                    <a:pt x="282" y="0"/>
                  </a:moveTo>
                  <a:lnTo>
                    <a:pt x="203" y="22"/>
                  </a:lnTo>
                  <a:lnTo>
                    <a:pt x="187" y="88"/>
                  </a:lnTo>
                  <a:lnTo>
                    <a:pt x="148" y="127"/>
                  </a:lnTo>
                  <a:lnTo>
                    <a:pt x="60" y="132"/>
                  </a:lnTo>
                  <a:lnTo>
                    <a:pt x="25" y="198"/>
                  </a:lnTo>
                  <a:lnTo>
                    <a:pt x="72" y="263"/>
                  </a:lnTo>
                  <a:lnTo>
                    <a:pt x="71" y="303"/>
                  </a:lnTo>
                  <a:lnTo>
                    <a:pt x="0" y="367"/>
                  </a:lnTo>
                  <a:lnTo>
                    <a:pt x="21" y="439"/>
                  </a:lnTo>
                  <a:lnTo>
                    <a:pt x="109" y="468"/>
                  </a:lnTo>
                  <a:lnTo>
                    <a:pt x="141" y="509"/>
                  </a:lnTo>
                  <a:lnTo>
                    <a:pt x="141" y="588"/>
                  </a:lnTo>
                  <a:lnTo>
                    <a:pt x="215" y="626"/>
                  </a:lnTo>
                  <a:lnTo>
                    <a:pt x="279" y="592"/>
                  </a:lnTo>
                  <a:lnTo>
                    <a:pt x="337" y="595"/>
                  </a:lnTo>
                  <a:lnTo>
                    <a:pt x="381" y="635"/>
                  </a:lnTo>
                  <a:lnTo>
                    <a:pt x="479" y="600"/>
                  </a:lnTo>
                  <a:lnTo>
                    <a:pt x="483" y="544"/>
                  </a:lnTo>
                  <a:lnTo>
                    <a:pt x="518" y="510"/>
                  </a:lnTo>
                  <a:lnTo>
                    <a:pt x="582" y="509"/>
                  </a:lnTo>
                  <a:lnTo>
                    <a:pt x="618" y="440"/>
                  </a:lnTo>
                  <a:lnTo>
                    <a:pt x="587" y="369"/>
                  </a:lnTo>
                  <a:lnTo>
                    <a:pt x="593" y="321"/>
                  </a:lnTo>
                  <a:lnTo>
                    <a:pt x="640" y="278"/>
                  </a:lnTo>
                  <a:lnTo>
                    <a:pt x="610" y="187"/>
                  </a:lnTo>
                  <a:lnTo>
                    <a:pt x="544" y="174"/>
                  </a:lnTo>
                  <a:lnTo>
                    <a:pt x="511" y="129"/>
                  </a:lnTo>
                  <a:lnTo>
                    <a:pt x="530" y="76"/>
                  </a:lnTo>
                  <a:lnTo>
                    <a:pt x="447" y="26"/>
                  </a:lnTo>
                  <a:lnTo>
                    <a:pt x="394" y="59"/>
                  </a:lnTo>
                  <a:lnTo>
                    <a:pt x="345" y="52"/>
                  </a:lnTo>
                  <a:lnTo>
                    <a:pt x="283" y="1"/>
                  </a:lnTo>
                  <a:lnTo>
                    <a:pt x="282" y="0"/>
                  </a:lnTo>
                  <a:lnTo>
                    <a:pt x="282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1880000">
              <a:off x="8572320" y="5549400"/>
              <a:ext cx="85680" cy="860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1880000">
              <a:off x="8572320" y="5549400"/>
              <a:ext cx="85680" cy="860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75760" y="5692680"/>
              <a:ext cx="83880" cy="84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1880000">
              <a:off x="8572320" y="554940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98040" y="5575320"/>
              <a:ext cx="82440" cy="82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1940000">
              <a:off x="8955000" y="5749920"/>
              <a:ext cx="8280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1880000">
              <a:off x="8926560" y="59893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1880000">
              <a:off x="8760960" y="6157440"/>
              <a:ext cx="84240" cy="84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1880000">
              <a:off x="8502480" y="6140160"/>
              <a:ext cx="84240" cy="82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1880000">
              <a:off x="8335800" y="592524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381880" y="5688000"/>
              <a:ext cx="85680" cy="824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1940000">
              <a:off x="8581320" y="5545080"/>
              <a:ext cx="82440" cy="856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804160" y="5568840"/>
              <a:ext cx="85680" cy="84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1820000">
              <a:off x="8959320" y="5743080"/>
              <a:ext cx="86040" cy="860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1880000">
              <a:off x="8934120" y="5984280"/>
              <a:ext cx="84240" cy="838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769240" y="6151680"/>
              <a:ext cx="82800" cy="838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1880000">
              <a:off x="8508600" y="6133680"/>
              <a:ext cx="85680" cy="84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1880000">
              <a:off x="8341920" y="5921280"/>
              <a:ext cx="87480" cy="8424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1880000">
              <a:off x="8501760" y="5717880"/>
              <a:ext cx="365400" cy="358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08960" y="593100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4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27" y="8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520120" y="5956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2" y="0"/>
                  </a:moveTo>
                  <a:lnTo>
                    <a:pt x="0" y="10"/>
                  </a:lnTo>
                  <a:lnTo>
                    <a:pt x="8" y="23"/>
                  </a:lnTo>
                  <a:lnTo>
                    <a:pt x="31" y="1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1880000">
              <a:off x="8524800" y="5711040"/>
              <a:ext cx="365040" cy="360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0620000">
              <a:off x="7789680" y="4878360"/>
              <a:ext cx="661680" cy="682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15160" y="4835520"/>
              <a:ext cx="776520" cy="776160"/>
            </a:xfrm>
            <a:custGeom>
              <a:avLst/>
              <a:gdLst/>
              <a:ahLst/>
              <a:rect l="l" t="t" r="r" b="b"/>
              <a:pathLst>
                <a:path w="489" h="489">
                  <a:moveTo>
                    <a:pt x="134" y="21"/>
                  </a:moveTo>
                  <a:lnTo>
                    <a:pt x="84" y="56"/>
                  </a:lnTo>
                  <a:lnTo>
                    <a:pt x="87" y="106"/>
                  </a:lnTo>
                  <a:lnTo>
                    <a:pt x="71" y="147"/>
                  </a:lnTo>
                  <a:lnTo>
                    <a:pt x="9" y="174"/>
                  </a:lnTo>
                  <a:lnTo>
                    <a:pt x="0" y="229"/>
                  </a:lnTo>
                  <a:lnTo>
                    <a:pt x="52" y="260"/>
                  </a:lnTo>
                  <a:lnTo>
                    <a:pt x="56" y="302"/>
                  </a:lnTo>
                  <a:lnTo>
                    <a:pt x="26" y="356"/>
                  </a:lnTo>
                  <a:lnTo>
                    <a:pt x="60" y="402"/>
                  </a:lnTo>
                  <a:lnTo>
                    <a:pt x="130" y="401"/>
                  </a:lnTo>
                  <a:lnTo>
                    <a:pt x="163" y="422"/>
                  </a:lnTo>
                  <a:lnTo>
                    <a:pt x="184" y="480"/>
                  </a:lnTo>
                  <a:lnTo>
                    <a:pt x="248" y="488"/>
                  </a:lnTo>
                  <a:lnTo>
                    <a:pt x="285" y="447"/>
                  </a:lnTo>
                  <a:lnTo>
                    <a:pt x="325" y="434"/>
                  </a:lnTo>
                  <a:lnTo>
                    <a:pt x="366" y="453"/>
                  </a:lnTo>
                  <a:lnTo>
                    <a:pt x="430" y="402"/>
                  </a:lnTo>
                  <a:lnTo>
                    <a:pt x="418" y="361"/>
                  </a:lnTo>
                  <a:lnTo>
                    <a:pt x="434" y="327"/>
                  </a:lnTo>
                  <a:lnTo>
                    <a:pt x="479" y="310"/>
                  </a:lnTo>
                  <a:lnTo>
                    <a:pt x="488" y="251"/>
                  </a:lnTo>
                  <a:lnTo>
                    <a:pt x="448" y="208"/>
                  </a:lnTo>
                  <a:lnTo>
                    <a:pt x="439" y="173"/>
                  </a:lnTo>
                  <a:lnTo>
                    <a:pt x="459" y="119"/>
                  </a:lnTo>
                  <a:lnTo>
                    <a:pt x="417" y="73"/>
                  </a:lnTo>
                  <a:lnTo>
                    <a:pt x="361" y="80"/>
                  </a:lnTo>
                  <a:lnTo>
                    <a:pt x="342" y="58"/>
                  </a:lnTo>
                  <a:lnTo>
                    <a:pt x="330" y="10"/>
                  </a:lnTo>
                  <a:lnTo>
                    <a:pt x="258" y="0"/>
                  </a:lnTo>
                  <a:lnTo>
                    <a:pt x="230" y="31"/>
                  </a:lnTo>
                  <a:lnTo>
                    <a:pt x="194" y="43"/>
                  </a:lnTo>
                  <a:lnTo>
                    <a:pt x="136" y="22"/>
                  </a:lnTo>
                  <a:lnTo>
                    <a:pt x="134" y="21"/>
                  </a:lnTo>
                  <a:lnTo>
                    <a:pt x="134" y="21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620000">
              <a:off x="8010000" y="5043240"/>
              <a:ext cx="295560" cy="306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124840" y="482292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lnTo>
                    <a:pt x="24" y="0"/>
                  </a:lnTo>
                  <a:lnTo>
                    <a:pt x="27" y="20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45480" y="491796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6"/>
                  </a:moveTo>
                  <a:lnTo>
                    <a:pt x="22" y="0"/>
                  </a:lnTo>
                  <a:lnTo>
                    <a:pt x="56" y="25"/>
                  </a:lnTo>
                  <a:lnTo>
                    <a:pt x="29" y="52"/>
                  </a:lnTo>
                  <a:lnTo>
                    <a:pt x="4" y="5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11920" y="5191200"/>
              <a:ext cx="12384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7"/>
                  </a:moveTo>
                  <a:lnTo>
                    <a:pt x="30" y="0"/>
                  </a:lnTo>
                  <a:lnTo>
                    <a:pt x="77" y="33"/>
                  </a:lnTo>
                  <a:lnTo>
                    <a:pt x="74" y="37"/>
                  </a:lnTo>
                  <a:lnTo>
                    <a:pt x="52" y="4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08840" y="545148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17"/>
                  </a:moveTo>
                  <a:lnTo>
                    <a:pt x="8" y="24"/>
                  </a:lnTo>
                  <a:lnTo>
                    <a:pt x="16" y="30"/>
                  </a:lnTo>
                  <a:lnTo>
                    <a:pt x="22" y="35"/>
                  </a:lnTo>
                  <a:lnTo>
                    <a:pt x="43" y="45"/>
                  </a:lnTo>
                  <a:lnTo>
                    <a:pt x="62" y="28"/>
                  </a:lnTo>
                  <a:lnTo>
                    <a:pt x="56" y="15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04240" y="5584680"/>
              <a:ext cx="141120" cy="30240"/>
            </a:xfrm>
            <a:custGeom>
              <a:avLst/>
              <a:gdLst/>
              <a:ahLst/>
              <a:rect l="l" t="t" r="r" b="b"/>
              <a:pathLst>
                <a:path w="89" h="19">
                  <a:moveTo>
                    <a:pt x="0" y="8"/>
                  </a:moveTo>
                  <a:lnTo>
                    <a:pt x="2" y="8"/>
                  </a:lnTo>
                  <a:lnTo>
                    <a:pt x="32" y="0"/>
                  </a:lnTo>
                  <a:lnTo>
                    <a:pt x="86" y="4"/>
                  </a:lnTo>
                  <a:lnTo>
                    <a:pt x="88" y="11"/>
                  </a:lnTo>
                  <a:lnTo>
                    <a:pt x="65" y="1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94680" y="551484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0" y="23"/>
                  </a:moveTo>
                  <a:lnTo>
                    <a:pt x="3" y="14"/>
                  </a:lnTo>
                  <a:lnTo>
                    <a:pt x="32" y="1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0" y="14"/>
                  </a:lnTo>
                  <a:lnTo>
                    <a:pt x="16" y="20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98000" y="5518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22" y="18"/>
                  </a:lnTo>
                  <a:lnTo>
                    <a:pt x="20" y="0"/>
                  </a:lnTo>
                  <a:lnTo>
                    <a:pt x="5" y="11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66040" y="4943520"/>
              <a:ext cx="4788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6" y="5"/>
                  </a:moveTo>
                  <a:lnTo>
                    <a:pt x="29" y="0"/>
                  </a:lnTo>
                  <a:lnTo>
                    <a:pt x="24" y="2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13520" y="4859280"/>
              <a:ext cx="5112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8" y="5"/>
                  </a:moveTo>
                  <a:lnTo>
                    <a:pt x="30" y="0"/>
                  </a:lnTo>
                  <a:lnTo>
                    <a:pt x="31" y="25"/>
                  </a:lnTo>
                  <a:lnTo>
                    <a:pt x="0" y="16"/>
                  </a:lnTo>
                  <a:lnTo>
                    <a:pt x="8" y="5"/>
                  </a:lnTo>
                  <a:lnTo>
                    <a:pt x="8" y="5"/>
                  </a:lnTo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50080" y="4822920"/>
              <a:ext cx="776520" cy="780840"/>
            </a:xfrm>
            <a:custGeom>
              <a:avLst/>
              <a:gdLst/>
              <a:ahLst/>
              <a:rect l="l" t="t" r="r" b="b"/>
              <a:pathLst>
                <a:path w="489" h="492">
                  <a:moveTo>
                    <a:pt x="135" y="23"/>
                  </a:moveTo>
                  <a:lnTo>
                    <a:pt x="83" y="60"/>
                  </a:lnTo>
                  <a:lnTo>
                    <a:pt x="88" y="112"/>
                  </a:lnTo>
                  <a:lnTo>
                    <a:pt x="70" y="150"/>
                  </a:lnTo>
                  <a:lnTo>
                    <a:pt x="8" y="176"/>
                  </a:lnTo>
                  <a:lnTo>
                    <a:pt x="0" y="232"/>
                  </a:lnTo>
                  <a:lnTo>
                    <a:pt x="51" y="268"/>
                  </a:lnTo>
                  <a:lnTo>
                    <a:pt x="59" y="295"/>
                  </a:lnTo>
                  <a:lnTo>
                    <a:pt x="26" y="359"/>
                  </a:lnTo>
                  <a:lnTo>
                    <a:pt x="59" y="406"/>
                  </a:lnTo>
                  <a:lnTo>
                    <a:pt x="130" y="404"/>
                  </a:lnTo>
                  <a:lnTo>
                    <a:pt x="164" y="424"/>
                  </a:lnTo>
                  <a:lnTo>
                    <a:pt x="184" y="482"/>
                  </a:lnTo>
                  <a:lnTo>
                    <a:pt x="247" y="491"/>
                  </a:lnTo>
                  <a:lnTo>
                    <a:pt x="283" y="450"/>
                  </a:lnTo>
                  <a:lnTo>
                    <a:pt x="324" y="438"/>
                  </a:lnTo>
                  <a:lnTo>
                    <a:pt x="366" y="456"/>
                  </a:lnTo>
                  <a:lnTo>
                    <a:pt x="429" y="404"/>
                  </a:lnTo>
                  <a:lnTo>
                    <a:pt x="416" y="364"/>
                  </a:lnTo>
                  <a:lnTo>
                    <a:pt x="434" y="330"/>
                  </a:lnTo>
                  <a:lnTo>
                    <a:pt x="479" y="313"/>
                  </a:lnTo>
                  <a:lnTo>
                    <a:pt x="488" y="254"/>
                  </a:lnTo>
                  <a:lnTo>
                    <a:pt x="447" y="210"/>
                  </a:lnTo>
                  <a:lnTo>
                    <a:pt x="439" y="176"/>
                  </a:lnTo>
                  <a:lnTo>
                    <a:pt x="462" y="132"/>
                  </a:lnTo>
                  <a:lnTo>
                    <a:pt x="417" y="75"/>
                  </a:lnTo>
                  <a:lnTo>
                    <a:pt x="366" y="82"/>
                  </a:lnTo>
                  <a:lnTo>
                    <a:pt x="331" y="58"/>
                  </a:lnTo>
                  <a:lnTo>
                    <a:pt x="330" y="16"/>
                  </a:lnTo>
                  <a:lnTo>
                    <a:pt x="259" y="0"/>
                  </a:lnTo>
                  <a:lnTo>
                    <a:pt x="228" y="38"/>
                  </a:lnTo>
                  <a:lnTo>
                    <a:pt x="192" y="46"/>
                  </a:lnTo>
                  <a:lnTo>
                    <a:pt x="136" y="24"/>
                  </a:lnTo>
                  <a:lnTo>
                    <a:pt x="135" y="23"/>
                  </a:lnTo>
                  <a:lnTo>
                    <a:pt x="135" y="23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1820000">
              <a:off x="7995960" y="4982760"/>
              <a:ext cx="63360" cy="63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1820000">
              <a:off x="7995960" y="4982760"/>
              <a:ext cx="63360" cy="63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99480" y="5129280"/>
              <a:ext cx="63360" cy="65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1820000">
              <a:off x="7995960" y="4982760"/>
              <a:ext cx="63360" cy="63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78840" y="4951440"/>
              <a:ext cx="63360" cy="65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13840" y="5043600"/>
              <a:ext cx="65160" cy="61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1760000">
              <a:off x="8349480" y="5211000"/>
              <a:ext cx="65160" cy="63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5940000">
              <a:off x="8273520" y="5371560"/>
              <a:ext cx="63360" cy="6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1760000">
              <a:off x="8085960" y="5427720"/>
              <a:ext cx="63720" cy="63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6000000">
              <a:off x="7912080" y="5318280"/>
              <a:ext cx="63360" cy="63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560000">
              <a:off x="7886520" y="5127480"/>
              <a:ext cx="63360" cy="669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560000">
              <a:off x="7988040" y="4982400"/>
              <a:ext cx="66600" cy="637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9660000">
              <a:off x="8159040" y="4944600"/>
              <a:ext cx="65160" cy="651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315280" y="5033880"/>
              <a:ext cx="65160" cy="651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1880000">
              <a:off x="8367480" y="5200200"/>
              <a:ext cx="63360" cy="6372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80360" y="5381640"/>
              <a:ext cx="65160" cy="63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0620000">
              <a:off x="8089920" y="5420520"/>
              <a:ext cx="61920" cy="651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0620000">
              <a:off x="7912800" y="5311440"/>
              <a:ext cx="65160" cy="6336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0680000">
              <a:off x="8007480" y="5083200"/>
              <a:ext cx="272880" cy="272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31240" y="527688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5" y="0"/>
                  </a:moveTo>
                  <a:lnTo>
                    <a:pt x="0" y="14"/>
                  </a:lnTo>
                  <a:lnTo>
                    <a:pt x="3" y="19"/>
                  </a:lnTo>
                  <a:lnTo>
                    <a:pt x="20" y="6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solidFill>
              <a:srgbClr val="f7f7f7"/>
            </a:solidFill>
            <a:ln w="9360">
              <a:solidFill>
                <a:srgbClr val="f7f7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45280" y="529272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0" y="14"/>
                  </a:lnTo>
                  <a:lnTo>
                    <a:pt x="10" y="21"/>
                  </a:lnTo>
                  <a:lnTo>
                    <a:pt x="24" y="6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e1e1e1"/>
            </a:solidFill>
            <a:ln w="936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0620000">
              <a:off x="8019720" y="5072760"/>
              <a:ext cx="279360" cy="274680"/>
            </a:xfrm>
            <a:prstGeom prst="ellipse">
              <a:avLst/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857160" y="4800600"/>
            <a:ext cx="38862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08080" indent="-208080"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300" spc="-1" strike="noStrike">
                <a:solidFill>
                  <a:srgbClr val="000080"/>
                </a:solidFill>
                <a:latin typeface="Times New Roman"/>
              </a:rPr>
              <a:t>Firmas (tecnologías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13280" y="5745240"/>
            <a:ext cx="3676680" cy="1650960"/>
          </a:xfrm>
          <a:custGeom>
            <a:avLst/>
            <a:gdLst/>
            <a:ahLst/>
            <a:rect l="l" t="t" r="r" b="b"/>
            <a:pathLst>
              <a:path w="2316" h="1040">
                <a:moveTo>
                  <a:pt x="946" y="0"/>
                </a:moveTo>
                <a:lnTo>
                  <a:pt x="698" y="36"/>
                </a:lnTo>
                <a:lnTo>
                  <a:pt x="490" y="86"/>
                </a:lnTo>
                <a:lnTo>
                  <a:pt x="319" y="150"/>
                </a:lnTo>
                <a:lnTo>
                  <a:pt x="186" y="223"/>
                </a:lnTo>
                <a:lnTo>
                  <a:pt x="88" y="305"/>
                </a:lnTo>
                <a:lnTo>
                  <a:pt x="26" y="392"/>
                </a:lnTo>
                <a:lnTo>
                  <a:pt x="0" y="483"/>
                </a:lnTo>
                <a:lnTo>
                  <a:pt x="8" y="573"/>
                </a:lnTo>
                <a:lnTo>
                  <a:pt x="49" y="663"/>
                </a:lnTo>
                <a:lnTo>
                  <a:pt x="123" y="748"/>
                </a:lnTo>
                <a:lnTo>
                  <a:pt x="229" y="827"/>
                </a:lnTo>
                <a:lnTo>
                  <a:pt x="368" y="897"/>
                </a:lnTo>
                <a:lnTo>
                  <a:pt x="538" y="956"/>
                </a:lnTo>
                <a:lnTo>
                  <a:pt x="738" y="1000"/>
                </a:lnTo>
                <a:lnTo>
                  <a:pt x="968" y="1029"/>
                </a:lnTo>
                <a:lnTo>
                  <a:pt x="1227" y="1039"/>
                </a:lnTo>
                <a:lnTo>
                  <a:pt x="1482" y="1030"/>
                </a:lnTo>
                <a:lnTo>
                  <a:pt x="1704" y="1003"/>
                </a:lnTo>
                <a:lnTo>
                  <a:pt x="1891" y="962"/>
                </a:lnTo>
                <a:lnTo>
                  <a:pt x="2044" y="907"/>
                </a:lnTo>
                <a:lnTo>
                  <a:pt x="2162" y="843"/>
                </a:lnTo>
                <a:lnTo>
                  <a:pt x="2247" y="769"/>
                </a:lnTo>
                <a:lnTo>
                  <a:pt x="2298" y="690"/>
                </a:lnTo>
                <a:lnTo>
                  <a:pt x="2315" y="607"/>
                </a:lnTo>
                <a:lnTo>
                  <a:pt x="2298" y="522"/>
                </a:lnTo>
                <a:lnTo>
                  <a:pt x="2247" y="437"/>
                </a:lnTo>
                <a:lnTo>
                  <a:pt x="2163" y="357"/>
                </a:lnTo>
                <a:lnTo>
                  <a:pt x="2046" y="279"/>
                </a:lnTo>
                <a:lnTo>
                  <a:pt x="1894" y="210"/>
                </a:lnTo>
                <a:lnTo>
                  <a:pt x="1710" y="150"/>
                </a:lnTo>
                <a:lnTo>
                  <a:pt x="1493" y="102"/>
                </a:lnTo>
                <a:lnTo>
                  <a:pt x="1244" y="66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6248520"/>
            <a:ext cx="3084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810000"/>
                </a:solidFill>
                <a:latin typeface="Symbol"/>
                <a:ea typeface="Symbol"/>
              </a:rPr>
              <a:t></a:t>
            </a:r>
            <a:r>
              <a:rPr b="0" lang="en-US" sz="3800" spc="-1" strike="noStrike" baseline="30000">
                <a:solidFill>
                  <a:srgbClr val="810000"/>
                </a:solidFill>
                <a:latin typeface="Times New Roman"/>
              </a:rPr>
              <a:t>1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, </a:t>
            </a:r>
            <a:r>
              <a:rPr b="0" i="1" lang="en-US" sz="3800" spc="-1" strike="noStrike">
                <a:solidFill>
                  <a:srgbClr val="810000"/>
                </a:solidFill>
                <a:latin typeface="Symbol"/>
                <a:ea typeface="Symbol"/>
              </a:rPr>
              <a:t></a:t>
            </a:r>
            <a:r>
              <a:rPr b="0" lang="en-US" sz="3800" spc="-1" strike="noStrike" baseline="30000">
                <a:solidFill>
                  <a:srgbClr val="810000"/>
                </a:solidFill>
                <a:latin typeface="Times New Roman"/>
              </a:rPr>
              <a:t>2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 ,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73880" y="5592600"/>
            <a:ext cx="2035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rush738 BT"/>
              </a:rPr>
              <a:t>n</a:t>
            </a:r>
            <a:r>
              <a:rPr b="0" lang="en-GB" sz="4200" spc="-1" strike="noStrike" baseline="-25000">
                <a:solidFill>
                  <a:srgbClr val="000000"/>
                </a:solidFill>
                <a:latin typeface="Brush738 BT"/>
              </a:rPr>
              <a:t>f</a:t>
            </a:r>
            <a:r>
              <a:rPr b="0" lang="en-GB" sz="4200" spc="-1" strike="noStrike">
                <a:solidFill>
                  <a:srgbClr val="000000"/>
                </a:solidFill>
                <a:latin typeface="Brush738 BT"/>
              </a:rPr>
              <a:t> de es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33840" y="3825720"/>
            <a:ext cx="3678120" cy="1649520"/>
          </a:xfrm>
          <a:custGeom>
            <a:avLst/>
            <a:gdLst/>
            <a:ahLst/>
            <a:rect l="l" t="t" r="r" b="b"/>
            <a:pathLst>
              <a:path w="2317" h="1039">
                <a:moveTo>
                  <a:pt x="947" y="0"/>
                </a:moveTo>
                <a:lnTo>
                  <a:pt x="699" y="36"/>
                </a:lnTo>
                <a:lnTo>
                  <a:pt x="491" y="86"/>
                </a:lnTo>
                <a:lnTo>
                  <a:pt x="320" y="150"/>
                </a:lnTo>
                <a:lnTo>
                  <a:pt x="187" y="222"/>
                </a:lnTo>
                <a:lnTo>
                  <a:pt x="88" y="304"/>
                </a:lnTo>
                <a:lnTo>
                  <a:pt x="27" y="392"/>
                </a:lnTo>
                <a:lnTo>
                  <a:pt x="0" y="482"/>
                </a:lnTo>
                <a:lnTo>
                  <a:pt x="9" y="573"/>
                </a:lnTo>
                <a:lnTo>
                  <a:pt x="49" y="662"/>
                </a:lnTo>
                <a:lnTo>
                  <a:pt x="124" y="748"/>
                </a:lnTo>
                <a:lnTo>
                  <a:pt x="230" y="827"/>
                </a:lnTo>
                <a:lnTo>
                  <a:pt x="369" y="896"/>
                </a:lnTo>
                <a:lnTo>
                  <a:pt x="538" y="956"/>
                </a:lnTo>
                <a:lnTo>
                  <a:pt x="739" y="1000"/>
                </a:lnTo>
                <a:lnTo>
                  <a:pt x="968" y="1029"/>
                </a:lnTo>
                <a:lnTo>
                  <a:pt x="1228" y="1038"/>
                </a:lnTo>
                <a:lnTo>
                  <a:pt x="1483" y="1029"/>
                </a:lnTo>
                <a:lnTo>
                  <a:pt x="1705" y="1002"/>
                </a:lnTo>
                <a:lnTo>
                  <a:pt x="1892" y="961"/>
                </a:lnTo>
                <a:lnTo>
                  <a:pt x="2045" y="906"/>
                </a:lnTo>
                <a:lnTo>
                  <a:pt x="2163" y="842"/>
                </a:lnTo>
                <a:lnTo>
                  <a:pt x="2248" y="769"/>
                </a:lnTo>
                <a:lnTo>
                  <a:pt x="2299" y="690"/>
                </a:lnTo>
                <a:lnTo>
                  <a:pt x="2316" y="606"/>
                </a:lnTo>
                <a:lnTo>
                  <a:pt x="2299" y="522"/>
                </a:lnTo>
                <a:lnTo>
                  <a:pt x="2248" y="437"/>
                </a:lnTo>
                <a:lnTo>
                  <a:pt x="2164" y="356"/>
                </a:lnTo>
                <a:lnTo>
                  <a:pt x="2046" y="279"/>
                </a:lnTo>
                <a:lnTo>
                  <a:pt x="1895" y="210"/>
                </a:lnTo>
                <a:lnTo>
                  <a:pt x="1711" y="150"/>
                </a:lnTo>
                <a:lnTo>
                  <a:pt x="1493" y="102"/>
                </a:lnTo>
                <a:lnTo>
                  <a:pt x="1245" y="66"/>
                </a:lnTo>
              </a:path>
            </a:pathLst>
          </a:custGeom>
          <a:noFill/>
          <a:ln w="127080">
            <a:solidFill>
              <a:srgbClr val="ff81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315200" y="1981080"/>
            <a:ext cx="2035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Brush738 BT"/>
              </a:rPr>
              <a:t>n de est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87920" y="2620800"/>
            <a:ext cx="308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R</a:t>
            </a:r>
            <a:r>
              <a:rPr b="0" lang="en-US" sz="3800" spc="-1" strike="noStrike" baseline="-25000">
                <a:solidFill>
                  <a:srgbClr val="810000"/>
                </a:solidFill>
                <a:latin typeface="Times New Roman"/>
              </a:rPr>
              <a:t>1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 , R</a:t>
            </a:r>
            <a:r>
              <a:rPr b="0" lang="en-US" sz="3800" spc="-1" strike="noStrike" baseline="-25000">
                <a:solidFill>
                  <a:srgbClr val="810000"/>
                </a:solidFill>
                <a:latin typeface="Times New Roman"/>
              </a:rPr>
              <a:t>2</a:t>
            </a:r>
            <a:r>
              <a:rPr b="0" i="1" lang="en-US" sz="3800" spc="-1" strike="noStrike">
                <a:solidFill>
                  <a:srgbClr val="810000"/>
                </a:solidFill>
                <a:latin typeface="Times New Roman"/>
              </a:rPr>
              <a:t> ,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463680" y="1736640"/>
            <a:ext cx="9226440" cy="573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7640" y="2254320"/>
            <a:ext cx="8570880" cy="4894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53040" y="2421000"/>
            <a:ext cx="20365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44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 Gener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11640" y="2325600"/>
            <a:ext cx="203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590400" y="877680"/>
            <a:ext cx="9453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conomía multi-person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85800" y="3524400"/>
            <a:ext cx="9067680" cy="555480"/>
            <a:chOff x="685800" y="3524400"/>
            <a:chExt cx="9067680" cy="555480"/>
          </a:xfrm>
        </p:grpSpPr>
        <p:sp>
          <p:nvSpPr>
            <p:cNvPr id="805" name=""/>
            <p:cNvSpPr/>
            <p:nvPr/>
          </p:nvSpPr>
          <p:spPr>
            <a:xfrm>
              <a:off x="5229360" y="35244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55960" y="3822840"/>
              <a:ext cx="144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24320" y="3822840"/>
              <a:ext cx="1800" cy="25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9448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955960" y="38228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06880" y="38228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24320" y="38228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737640" y="382572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83320" y="3825720"/>
              <a:ext cx="2270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0" y="4089240"/>
            <a:ext cx="1935000" cy="119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l problema de Robin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uso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28960" y="4106880"/>
            <a:ext cx="193644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centrali--zación e intercambi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57560" y="4094280"/>
            <a:ext cx="1936800" cy="1195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conomía multi-perso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0884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¿Porqué tomadores de preci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123400" y="4094280"/>
            <a:ext cx="193500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Exces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743200" y="5257800"/>
            <a:ext cx="4540320" cy="552600"/>
            <a:chOff x="2743200" y="5257800"/>
            <a:chExt cx="4540320" cy="552600"/>
          </a:xfrm>
        </p:grpSpPr>
        <p:sp>
          <p:nvSpPr>
            <p:cNvPr id="822" name=""/>
            <p:cNvSpPr/>
            <p:nvPr/>
          </p:nvSpPr>
          <p:spPr>
            <a:xfrm>
              <a:off x="5027760" y="5257800"/>
              <a:ext cx="1440" cy="29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43200" y="555624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1156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81720" y="555624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43200" y="5556240"/>
              <a:ext cx="1150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94120" y="5556240"/>
              <a:ext cx="11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11560" y="5556240"/>
              <a:ext cx="2270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4098960" y="5796000"/>
            <a:ext cx="2038320" cy="119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21320" y="5791320"/>
            <a:ext cx="2036880" cy="11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5791320"/>
            <a:ext cx="2038320" cy="1197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66680" y="5867280"/>
            <a:ext cx="256860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Asign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00800" y="5791320"/>
            <a:ext cx="2035080" cy="1195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5410080"/>
            <a:ext cx="2485800" cy="2059200"/>
          </a:xfrm>
          <a:custGeom>
            <a:avLst/>
            <a:gdLst/>
            <a:ahLst/>
            <a:rect l="l" t="t" r="r" b="b"/>
            <a:pathLst>
              <a:path w="3130" h="2596">
                <a:moveTo>
                  <a:pt x="268" y="578"/>
                </a:moveTo>
                <a:lnTo>
                  <a:pt x="131" y="789"/>
                </a:lnTo>
                <a:lnTo>
                  <a:pt x="42" y="1004"/>
                </a:lnTo>
                <a:lnTo>
                  <a:pt x="3" y="1217"/>
                </a:lnTo>
                <a:lnTo>
                  <a:pt x="0" y="1323"/>
                </a:lnTo>
                <a:lnTo>
                  <a:pt x="9" y="1430"/>
                </a:lnTo>
                <a:lnTo>
                  <a:pt x="143" y="1824"/>
                </a:lnTo>
                <a:lnTo>
                  <a:pt x="419" y="2165"/>
                </a:lnTo>
                <a:lnTo>
                  <a:pt x="800" y="2420"/>
                </a:lnTo>
                <a:lnTo>
                  <a:pt x="1264" y="2570"/>
                </a:lnTo>
                <a:lnTo>
                  <a:pt x="1514" y="2596"/>
                </a:lnTo>
                <a:lnTo>
                  <a:pt x="1645" y="2596"/>
                </a:lnTo>
                <a:lnTo>
                  <a:pt x="1778" y="2585"/>
                </a:lnTo>
                <a:lnTo>
                  <a:pt x="2314" y="2435"/>
                </a:lnTo>
                <a:lnTo>
                  <a:pt x="2555" y="2302"/>
                </a:lnTo>
                <a:lnTo>
                  <a:pt x="2753" y="2146"/>
                </a:lnTo>
                <a:lnTo>
                  <a:pt x="2908" y="1970"/>
                </a:lnTo>
                <a:lnTo>
                  <a:pt x="3023" y="1781"/>
                </a:lnTo>
                <a:lnTo>
                  <a:pt x="3127" y="1380"/>
                </a:lnTo>
                <a:lnTo>
                  <a:pt x="3130" y="1279"/>
                </a:lnTo>
                <a:lnTo>
                  <a:pt x="3122" y="1175"/>
                </a:lnTo>
                <a:lnTo>
                  <a:pt x="3078" y="971"/>
                </a:lnTo>
                <a:lnTo>
                  <a:pt x="2886" y="595"/>
                </a:lnTo>
                <a:lnTo>
                  <a:pt x="2741" y="429"/>
                </a:lnTo>
                <a:lnTo>
                  <a:pt x="2561" y="284"/>
                </a:lnTo>
                <a:lnTo>
                  <a:pt x="2353" y="165"/>
                </a:lnTo>
                <a:lnTo>
                  <a:pt x="2113" y="74"/>
                </a:lnTo>
                <a:lnTo>
                  <a:pt x="1849" y="17"/>
                </a:lnTo>
                <a:lnTo>
                  <a:pt x="1705" y="3"/>
                </a:lnTo>
                <a:lnTo>
                  <a:pt x="1554" y="0"/>
                </a:lnTo>
              </a:path>
            </a:pathLst>
          </a:custGeom>
          <a:noFill/>
          <a:ln w="8244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223920" y="202680"/>
            <a:ext cx="94536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El estado de una economía se describe por una 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3360" y="2021400"/>
            <a:ext cx="9931680" cy="56386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2438280"/>
            <a:ext cx="49658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de canastas de consumo para cada consumidor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029200" y="2976480"/>
            <a:ext cx="41036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000" spc="-1" strike="noStrike">
                <a:solidFill>
                  <a:srgbClr val="000080"/>
                </a:solidFill>
                <a:latin typeface="Arial"/>
              </a:rPr>
              <a:t>piense en esta como dos colecciones de bie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876920" y="1600200"/>
            <a:ext cx="5624280" cy="3508200"/>
            <a:chOff x="4876920" y="1600200"/>
            <a:chExt cx="5624280" cy="3508200"/>
          </a:xfrm>
        </p:grpSpPr>
        <p:sp>
          <p:nvSpPr>
            <p:cNvPr id="840" name=""/>
            <p:cNvSpPr/>
            <p:nvPr/>
          </p:nvSpPr>
          <p:spPr>
            <a:xfrm>
              <a:off x="4876920" y="1600200"/>
              <a:ext cx="5624280" cy="3508200"/>
            </a:xfrm>
            <a:prstGeom prst="ellipse">
              <a:avLst/>
            </a:prstGeom>
            <a:gradFill rotWithShape="0">
              <a:gsLst>
                <a:gs pos="0">
                  <a:srgbClr val="810000"/>
                </a:gs>
                <a:gs pos="50000">
                  <a:srgbClr val="ffffff"/>
                </a:gs>
                <a:gs pos="100000">
                  <a:srgbClr val="810000"/>
                </a:gs>
              </a:gsLst>
              <a:lin ang="8100000"/>
            </a:gradFill>
            <a:ln w="19080">
              <a:solidFill>
                <a:srgbClr val="8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7961040" y="1871640"/>
              <a:ext cx="1483920" cy="1362960"/>
              <a:chOff x="7961040" y="1871640"/>
              <a:chExt cx="1483920" cy="1362960"/>
            </a:xfrm>
          </p:grpSpPr>
          <p:sp>
            <p:nvSpPr>
              <p:cNvPr id="842" name=""/>
              <p:cNvSpPr/>
              <p:nvPr/>
            </p:nvSpPr>
            <p:spPr>
              <a:xfrm>
                <a:off x="7961040" y="1871640"/>
                <a:ext cx="1483920" cy="136296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8270280" y="2063160"/>
                <a:ext cx="774000" cy="875520"/>
                <a:chOff x="8270280" y="2063160"/>
                <a:chExt cx="774000" cy="8755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8273160" y="2142360"/>
                  <a:ext cx="769680" cy="317160"/>
                </a:xfrm>
                <a:custGeom>
                  <a:avLst/>
                  <a:gdLst/>
                  <a:ahLst/>
                  <a:rect l="l" t="t" r="r" b="b"/>
                  <a:pathLst>
                    <a:path w="485" h="200">
                      <a:moveTo>
                        <a:pt x="10" y="199"/>
                      </a:moveTo>
                      <a:lnTo>
                        <a:pt x="459" y="199"/>
                      </a:lnTo>
                      <a:lnTo>
                        <a:pt x="469" y="185"/>
                      </a:lnTo>
                      <a:lnTo>
                        <a:pt x="478" y="164"/>
                      </a:lnTo>
                      <a:lnTo>
                        <a:pt x="482" y="148"/>
                      </a:lnTo>
                      <a:lnTo>
                        <a:pt x="484" y="130"/>
                      </a:lnTo>
                      <a:lnTo>
                        <a:pt x="484" y="116"/>
                      </a:lnTo>
                      <a:lnTo>
                        <a:pt x="482" y="104"/>
                      </a:lnTo>
                      <a:lnTo>
                        <a:pt x="479" y="94"/>
                      </a:lnTo>
                      <a:lnTo>
                        <a:pt x="478" y="89"/>
                      </a:lnTo>
                      <a:lnTo>
                        <a:pt x="467" y="80"/>
                      </a:lnTo>
                      <a:lnTo>
                        <a:pt x="459" y="80"/>
                      </a:lnTo>
                      <a:lnTo>
                        <a:pt x="448" y="80"/>
                      </a:lnTo>
                      <a:lnTo>
                        <a:pt x="442" y="80"/>
                      </a:lnTo>
                      <a:lnTo>
                        <a:pt x="428" y="55"/>
                      </a:lnTo>
                      <a:lnTo>
                        <a:pt x="413" y="34"/>
                      </a:lnTo>
                      <a:lnTo>
                        <a:pt x="399" y="19"/>
                      </a:lnTo>
                      <a:lnTo>
                        <a:pt x="382" y="7"/>
                      </a:lnTo>
                      <a:lnTo>
                        <a:pt x="367" y="1"/>
                      </a:lnTo>
                      <a:lnTo>
                        <a:pt x="355" y="0"/>
                      </a:lnTo>
                      <a:lnTo>
                        <a:pt x="346" y="1"/>
                      </a:lnTo>
                      <a:lnTo>
                        <a:pt x="336" y="6"/>
                      </a:lnTo>
                      <a:lnTo>
                        <a:pt x="330" y="14"/>
                      </a:lnTo>
                      <a:lnTo>
                        <a:pt x="325" y="25"/>
                      </a:lnTo>
                      <a:lnTo>
                        <a:pt x="321" y="41"/>
                      </a:lnTo>
                      <a:lnTo>
                        <a:pt x="308" y="41"/>
                      </a:lnTo>
                      <a:lnTo>
                        <a:pt x="294" y="48"/>
                      </a:lnTo>
                      <a:lnTo>
                        <a:pt x="281" y="57"/>
                      </a:lnTo>
                      <a:lnTo>
                        <a:pt x="265" y="52"/>
                      </a:lnTo>
                      <a:lnTo>
                        <a:pt x="237" y="46"/>
                      </a:lnTo>
                      <a:lnTo>
                        <a:pt x="220" y="45"/>
                      </a:lnTo>
                      <a:lnTo>
                        <a:pt x="201" y="46"/>
                      </a:lnTo>
                      <a:lnTo>
                        <a:pt x="186" y="49"/>
                      </a:lnTo>
                      <a:lnTo>
                        <a:pt x="174" y="52"/>
                      </a:lnTo>
                      <a:lnTo>
                        <a:pt x="167" y="41"/>
                      </a:lnTo>
                      <a:lnTo>
                        <a:pt x="161" y="28"/>
                      </a:lnTo>
                      <a:lnTo>
                        <a:pt x="149" y="18"/>
                      </a:lnTo>
                      <a:lnTo>
                        <a:pt x="136" y="12"/>
                      </a:lnTo>
                      <a:lnTo>
                        <a:pt x="127" y="11"/>
                      </a:lnTo>
                      <a:lnTo>
                        <a:pt x="120" y="11"/>
                      </a:lnTo>
                      <a:lnTo>
                        <a:pt x="111" y="15"/>
                      </a:lnTo>
                      <a:lnTo>
                        <a:pt x="101" y="26"/>
                      </a:lnTo>
                      <a:lnTo>
                        <a:pt x="89" y="42"/>
                      </a:lnTo>
                      <a:lnTo>
                        <a:pt x="82" y="59"/>
                      </a:lnTo>
                      <a:lnTo>
                        <a:pt x="74" y="82"/>
                      </a:lnTo>
                      <a:lnTo>
                        <a:pt x="68" y="113"/>
                      </a:lnTo>
                      <a:lnTo>
                        <a:pt x="52" y="104"/>
                      </a:lnTo>
                      <a:lnTo>
                        <a:pt x="39" y="104"/>
                      </a:lnTo>
                      <a:lnTo>
                        <a:pt x="28" y="104"/>
                      </a:lnTo>
                      <a:lnTo>
                        <a:pt x="17" y="108"/>
                      </a:lnTo>
                      <a:lnTo>
                        <a:pt x="10" y="116"/>
                      </a:lnTo>
                      <a:lnTo>
                        <a:pt x="4" y="128"/>
                      </a:lnTo>
                      <a:lnTo>
                        <a:pt x="1" y="142"/>
                      </a:lnTo>
                      <a:lnTo>
                        <a:pt x="0" y="156"/>
                      </a:lnTo>
                      <a:lnTo>
                        <a:pt x="4" y="176"/>
                      </a:lnTo>
                      <a:lnTo>
                        <a:pt x="9" y="196"/>
                      </a:lnTo>
                      <a:lnTo>
                        <a:pt x="10" y="199"/>
                      </a:lnTo>
                      <a:lnTo>
                        <a:pt x="10" y="199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273160" y="2824920"/>
                  <a:ext cx="115560" cy="113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0" y="0"/>
                      </a:moveTo>
                      <a:lnTo>
                        <a:pt x="1" y="10"/>
                      </a:lnTo>
                      <a:lnTo>
                        <a:pt x="3" y="19"/>
                      </a:lnTo>
                      <a:lnTo>
                        <a:pt x="7" y="28"/>
                      </a:lnTo>
                      <a:lnTo>
                        <a:pt x="11" y="36"/>
                      </a:lnTo>
                      <a:lnTo>
                        <a:pt x="16" y="44"/>
                      </a:lnTo>
                      <a:lnTo>
                        <a:pt x="23" y="50"/>
                      </a:lnTo>
                      <a:lnTo>
                        <a:pt x="29" y="57"/>
                      </a:lnTo>
                      <a:lnTo>
                        <a:pt x="37" y="62"/>
                      </a:lnTo>
                      <a:lnTo>
                        <a:pt x="46" y="66"/>
                      </a:lnTo>
                      <a:lnTo>
                        <a:pt x="55" y="69"/>
                      </a:lnTo>
                      <a:lnTo>
                        <a:pt x="64" y="71"/>
                      </a:lnTo>
                      <a:lnTo>
                        <a:pt x="72" y="7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412840" y="2820240"/>
                  <a:ext cx="232920" cy="118440"/>
                </a:xfrm>
                <a:custGeom>
                  <a:avLst/>
                  <a:gdLst/>
                  <a:ahLst/>
                  <a:rect l="l" t="t" r="r" b="b"/>
                  <a:pathLst>
                    <a:path w="147" h="75">
                      <a:moveTo>
                        <a:pt x="0" y="74"/>
                      </a:moveTo>
                      <a:lnTo>
                        <a:pt x="146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669880" y="2820240"/>
                  <a:ext cx="234720" cy="118440"/>
                </a:xfrm>
                <a:custGeom>
                  <a:avLst/>
                  <a:gdLst/>
                  <a:ahLst/>
                  <a:rect l="l" t="t" r="r" b="b"/>
                  <a:pathLst>
                    <a:path w="148" h="75">
                      <a:moveTo>
                        <a:pt x="0" y="74"/>
                      </a:move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930160" y="2824920"/>
                  <a:ext cx="114120" cy="1137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0" y="71"/>
                      </a:moveTo>
                      <a:lnTo>
                        <a:pt x="10" y="71"/>
                      </a:lnTo>
                      <a:lnTo>
                        <a:pt x="20" y="68"/>
                      </a:lnTo>
                      <a:lnTo>
                        <a:pt x="28" y="64"/>
                      </a:lnTo>
                      <a:lnTo>
                        <a:pt x="36" y="61"/>
                      </a:lnTo>
                      <a:lnTo>
                        <a:pt x="44" y="56"/>
                      </a:lnTo>
                      <a:lnTo>
                        <a:pt x="51" y="49"/>
                      </a:lnTo>
                      <a:lnTo>
                        <a:pt x="57" y="42"/>
                      </a:lnTo>
                      <a:lnTo>
                        <a:pt x="62" y="34"/>
                      </a:lnTo>
                      <a:lnTo>
                        <a:pt x="67" y="26"/>
                      </a:lnTo>
                      <a:lnTo>
                        <a:pt x="70" y="17"/>
                      </a:lnTo>
                      <a:lnTo>
                        <a:pt x="71" y="7"/>
                      </a:lnTo>
                      <a:lnTo>
                        <a:pt x="71" y="0"/>
                      </a:lnTo>
                      <a:lnTo>
                        <a:pt x="0" y="71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282520" y="269136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4"/>
                      </a:moveTo>
                      <a:lnTo>
                        <a:pt x="73" y="148"/>
                      </a:ln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541360" y="2691360"/>
                  <a:ext cx="232920" cy="236160"/>
                </a:xfrm>
                <a:custGeom>
                  <a:avLst/>
                  <a:gdLst/>
                  <a:ahLst/>
                  <a:rect l="l" t="t" r="r" b="b"/>
                  <a:pathLst>
                    <a:path w="147" h="149">
                      <a:moveTo>
                        <a:pt x="0" y="74"/>
                      </a:moveTo>
                      <a:lnTo>
                        <a:pt x="72" y="148"/>
                      </a:lnTo>
                      <a:lnTo>
                        <a:pt x="146" y="74"/>
                      </a:lnTo>
                      <a:lnTo>
                        <a:pt x="72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98400" y="269136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4"/>
                      </a:moveTo>
                      <a:lnTo>
                        <a:pt x="73" y="148"/>
                      </a:ln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273160" y="2566080"/>
                  <a:ext cx="113760" cy="228240"/>
                </a:xfrm>
                <a:custGeom>
                  <a:avLst/>
                  <a:gdLst/>
                  <a:ahLst/>
                  <a:rect l="l" t="t" r="r" b="b"/>
                  <a:pathLst>
                    <a:path w="72" h="144">
                      <a:moveTo>
                        <a:pt x="0" y="143"/>
                      </a:moveTo>
                      <a:lnTo>
                        <a:pt x="71" y="71"/>
                      </a:lnTo>
                      <a:lnTo>
                        <a:pt x="0" y="0"/>
                      </a:lnTo>
                      <a:lnTo>
                        <a:pt x="0" y="143"/>
                      </a:lnTo>
                      <a:lnTo>
                        <a:pt x="0" y="143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411040" y="256284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74" y="148"/>
                      </a:moveTo>
                      <a:lnTo>
                        <a:pt x="0" y="74"/>
                      </a:lnTo>
                      <a:lnTo>
                        <a:pt x="74" y="0"/>
                      </a:lnTo>
                      <a:lnTo>
                        <a:pt x="147" y="73"/>
                      </a:lnTo>
                      <a:lnTo>
                        <a:pt x="74" y="148"/>
                      </a:lnTo>
                      <a:lnTo>
                        <a:pt x="74" y="148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669880" y="256284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73" y="148"/>
                      </a:moveTo>
                      <a:lnTo>
                        <a:pt x="0" y="73"/>
                      </a:lnTo>
                      <a:lnTo>
                        <a:pt x="73" y="0"/>
                      </a:lnTo>
                      <a:lnTo>
                        <a:pt x="147" y="73"/>
                      </a:lnTo>
                      <a:lnTo>
                        <a:pt x="73" y="148"/>
                      </a:lnTo>
                      <a:lnTo>
                        <a:pt x="73" y="148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930160" y="2566080"/>
                  <a:ext cx="114120" cy="228240"/>
                </a:xfrm>
                <a:custGeom>
                  <a:avLst/>
                  <a:gdLst/>
                  <a:ahLst/>
                  <a:rect l="l" t="t" r="r" b="b"/>
                  <a:pathLst>
                    <a:path w="72" h="144">
                      <a:moveTo>
                        <a:pt x="71" y="143"/>
                      </a:moveTo>
                      <a:lnTo>
                        <a:pt x="0" y="71"/>
                      </a:lnTo>
                      <a:lnTo>
                        <a:pt x="71" y="0"/>
                      </a:lnTo>
                      <a:lnTo>
                        <a:pt x="71" y="143"/>
                      </a:lnTo>
                      <a:lnTo>
                        <a:pt x="71" y="143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270280" y="2537640"/>
                  <a:ext cx="259920" cy="132840"/>
                </a:xfrm>
                <a:custGeom>
                  <a:avLst/>
                  <a:gdLst/>
                  <a:ahLst/>
                  <a:rect l="l" t="t" r="r" b="b"/>
                  <a:pathLst>
                    <a:path w="164" h="84">
                      <a:moveTo>
                        <a:pt x="0" y="0"/>
                      </a:moveTo>
                      <a:lnTo>
                        <a:pt x="82" y="83"/>
                      </a:lnTo>
                      <a:lnTo>
                        <a:pt x="163" y="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528760" y="2539080"/>
                  <a:ext cx="258480" cy="129960"/>
                </a:xfrm>
                <a:custGeom>
                  <a:avLst/>
                  <a:gdLst/>
                  <a:ahLst/>
                  <a:rect l="l" t="t" r="r" b="b"/>
                  <a:pathLst>
                    <a:path w="163" h="82">
                      <a:moveTo>
                        <a:pt x="0" y="0"/>
                      </a:moveTo>
                      <a:lnTo>
                        <a:pt x="80" y="81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85800" y="2539080"/>
                  <a:ext cx="258480" cy="129960"/>
                </a:xfrm>
                <a:custGeom>
                  <a:avLst/>
                  <a:gdLst/>
                  <a:ahLst/>
                  <a:rect l="l" t="t" r="r" b="b"/>
                  <a:pathLst>
                    <a:path w="163" h="82">
                      <a:moveTo>
                        <a:pt x="0" y="0"/>
                      </a:moveTo>
                      <a:lnTo>
                        <a:pt x="81" y="81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1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273160" y="2063160"/>
                  <a:ext cx="771120" cy="453600"/>
                </a:xfrm>
                <a:custGeom>
                  <a:avLst/>
                  <a:gdLst/>
                  <a:ahLst/>
                  <a:rect l="l" t="t" r="r" b="b"/>
                  <a:pathLst>
                    <a:path w="486" h="286">
                      <a:moveTo>
                        <a:pt x="0" y="285"/>
                      </a:moveTo>
                      <a:lnTo>
                        <a:pt x="485" y="285"/>
                      </a:lnTo>
                      <a:lnTo>
                        <a:pt x="485" y="247"/>
                      </a:lnTo>
                      <a:lnTo>
                        <a:pt x="268" y="247"/>
                      </a:lnTo>
                      <a:lnTo>
                        <a:pt x="268" y="0"/>
                      </a:lnTo>
                      <a:lnTo>
                        <a:pt x="220" y="0"/>
                      </a:lnTo>
                      <a:lnTo>
                        <a:pt x="220" y="247"/>
                      </a:lnTo>
                      <a:lnTo>
                        <a:pt x="0" y="247"/>
                      </a:lnTo>
                      <a:lnTo>
                        <a:pt x="0" y="285"/>
                      </a:lnTo>
                      <a:lnTo>
                        <a:pt x="0" y="285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274600" y="2305800"/>
                  <a:ext cx="191880" cy="150480"/>
                </a:xfrm>
                <a:custGeom>
                  <a:avLst/>
                  <a:gdLst/>
                  <a:ahLst/>
                  <a:rect l="l" t="t" r="r" b="b"/>
                  <a:pathLst>
                    <a:path w="121" h="95">
                      <a:moveTo>
                        <a:pt x="8" y="94"/>
                      </a:moveTo>
                      <a:lnTo>
                        <a:pt x="5" y="82"/>
                      </a:lnTo>
                      <a:lnTo>
                        <a:pt x="2" y="65"/>
                      </a:lnTo>
                      <a:lnTo>
                        <a:pt x="0" y="49"/>
                      </a:lnTo>
                      <a:lnTo>
                        <a:pt x="0" y="35"/>
                      </a:lnTo>
                      <a:lnTo>
                        <a:pt x="3" y="24"/>
                      </a:lnTo>
                      <a:lnTo>
                        <a:pt x="8" y="14"/>
                      </a:lnTo>
                      <a:lnTo>
                        <a:pt x="13" y="8"/>
                      </a:lnTo>
                      <a:lnTo>
                        <a:pt x="20" y="3"/>
                      </a:lnTo>
                      <a:lnTo>
                        <a:pt x="28" y="0"/>
                      </a:lnTo>
                      <a:lnTo>
                        <a:pt x="39" y="0"/>
                      </a:lnTo>
                      <a:lnTo>
                        <a:pt x="56" y="5"/>
                      </a:lnTo>
                      <a:lnTo>
                        <a:pt x="74" y="14"/>
                      </a:lnTo>
                      <a:lnTo>
                        <a:pt x="90" y="26"/>
                      </a:lnTo>
                      <a:lnTo>
                        <a:pt x="103" y="37"/>
                      </a:lnTo>
                      <a:lnTo>
                        <a:pt x="113" y="48"/>
                      </a:lnTo>
                      <a:lnTo>
                        <a:pt x="120" y="5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433360" y="2315160"/>
                  <a:ext cx="195120" cy="141120"/>
                </a:xfrm>
                <a:custGeom>
                  <a:avLst/>
                  <a:gdLst/>
                  <a:ahLst/>
                  <a:rect l="l" t="t" r="r" b="b"/>
                  <a:pathLst>
                    <a:path w="123" h="89">
                      <a:moveTo>
                        <a:pt x="0" y="88"/>
                      </a:moveTo>
                      <a:lnTo>
                        <a:pt x="4" y="75"/>
                      </a:lnTo>
                      <a:lnTo>
                        <a:pt x="11" y="64"/>
                      </a:lnTo>
                      <a:lnTo>
                        <a:pt x="19" y="54"/>
                      </a:lnTo>
                      <a:lnTo>
                        <a:pt x="28" y="45"/>
                      </a:lnTo>
                      <a:lnTo>
                        <a:pt x="40" y="36"/>
                      </a:lnTo>
                      <a:lnTo>
                        <a:pt x="52" y="27"/>
                      </a:lnTo>
                      <a:lnTo>
                        <a:pt x="68" y="19"/>
                      </a:lnTo>
                      <a:lnTo>
                        <a:pt x="84" y="11"/>
                      </a:lnTo>
                      <a:lnTo>
                        <a:pt x="98" y="5"/>
                      </a:lnTo>
                      <a:lnTo>
                        <a:pt x="112" y="2"/>
                      </a:lnTo>
                      <a:lnTo>
                        <a:pt x="1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695440" y="2337480"/>
                  <a:ext cx="10800" cy="8064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2" y="0"/>
                      </a:moveTo>
                      <a:lnTo>
                        <a:pt x="4" y="6"/>
                      </a:lnTo>
                      <a:lnTo>
                        <a:pt x="5" y="10"/>
                      </a:lnTo>
                      <a:lnTo>
                        <a:pt x="6" y="16"/>
                      </a:lnTo>
                      <a:lnTo>
                        <a:pt x="6" y="25"/>
                      </a:lnTo>
                      <a:lnTo>
                        <a:pt x="5" y="33"/>
                      </a:lnTo>
                      <a:lnTo>
                        <a:pt x="4" y="41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381160" y="2158200"/>
                  <a:ext cx="167760" cy="1645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0" y="103"/>
                      </a:moveTo>
                      <a:lnTo>
                        <a:pt x="2" y="90"/>
                      </a:lnTo>
                      <a:lnTo>
                        <a:pt x="6" y="74"/>
                      </a:lnTo>
                      <a:lnTo>
                        <a:pt x="10" y="60"/>
                      </a:lnTo>
                      <a:lnTo>
                        <a:pt x="15" y="45"/>
                      </a:lnTo>
                      <a:lnTo>
                        <a:pt x="21" y="32"/>
                      </a:lnTo>
                      <a:lnTo>
                        <a:pt x="28" y="21"/>
                      </a:lnTo>
                      <a:lnTo>
                        <a:pt x="36" y="13"/>
                      </a:lnTo>
                      <a:lnTo>
                        <a:pt x="42" y="7"/>
                      </a:lnTo>
                      <a:lnTo>
                        <a:pt x="48" y="2"/>
                      </a:lnTo>
                      <a:lnTo>
                        <a:pt x="55" y="0"/>
                      </a:lnTo>
                      <a:lnTo>
                        <a:pt x="62" y="0"/>
                      </a:lnTo>
                      <a:lnTo>
                        <a:pt x="71" y="2"/>
                      </a:lnTo>
                      <a:lnTo>
                        <a:pt x="79" y="7"/>
                      </a:lnTo>
                      <a:lnTo>
                        <a:pt x="87" y="14"/>
                      </a:lnTo>
                      <a:lnTo>
                        <a:pt x="94" y="21"/>
                      </a:lnTo>
                      <a:lnTo>
                        <a:pt x="101" y="31"/>
                      </a:lnTo>
                      <a:lnTo>
                        <a:pt x="105" y="38"/>
                      </a:lnTo>
                      <a:lnTo>
                        <a:pt x="105" y="4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465040" y="2215080"/>
                  <a:ext cx="163440" cy="147600"/>
                </a:xfrm>
                <a:custGeom>
                  <a:avLst/>
                  <a:gdLst/>
                  <a:ahLst/>
                  <a:rect l="l" t="t" r="r" b="b"/>
                  <a:pathLst>
                    <a:path w="103" h="93">
                      <a:moveTo>
                        <a:pt x="28" y="92"/>
                      </a:moveTo>
                      <a:lnTo>
                        <a:pt x="18" y="85"/>
                      </a:lnTo>
                      <a:lnTo>
                        <a:pt x="12" y="78"/>
                      </a:lnTo>
                      <a:lnTo>
                        <a:pt x="6" y="71"/>
                      </a:lnTo>
                      <a:lnTo>
                        <a:pt x="2" y="64"/>
                      </a:lnTo>
                      <a:lnTo>
                        <a:pt x="0" y="57"/>
                      </a:lnTo>
                      <a:lnTo>
                        <a:pt x="0" y="53"/>
                      </a:lnTo>
                      <a:lnTo>
                        <a:pt x="0" y="46"/>
                      </a:lnTo>
                      <a:lnTo>
                        <a:pt x="1" y="38"/>
                      </a:lnTo>
                      <a:lnTo>
                        <a:pt x="7" y="30"/>
                      </a:lnTo>
                      <a:lnTo>
                        <a:pt x="15" y="22"/>
                      </a:lnTo>
                      <a:lnTo>
                        <a:pt x="25" y="16"/>
                      </a:lnTo>
                      <a:lnTo>
                        <a:pt x="39" y="10"/>
                      </a:lnTo>
                      <a:lnTo>
                        <a:pt x="52" y="6"/>
                      </a:lnTo>
                      <a:lnTo>
                        <a:pt x="65" y="3"/>
                      </a:lnTo>
                      <a:lnTo>
                        <a:pt x="80" y="0"/>
                      </a:lnTo>
                      <a:lnTo>
                        <a:pt x="93" y="0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688960" y="2224800"/>
                  <a:ext cx="93240" cy="188640"/>
                </a:xfrm>
                <a:custGeom>
                  <a:avLst/>
                  <a:gdLst/>
                  <a:ahLst/>
                  <a:rect l="l" t="t" r="r" b="b"/>
                  <a:pathLst>
                    <a:path w="59" h="119">
                      <a:moveTo>
                        <a:pt x="6" y="0"/>
                      </a:moveTo>
                      <a:lnTo>
                        <a:pt x="15" y="3"/>
                      </a:lnTo>
                      <a:lnTo>
                        <a:pt x="25" y="8"/>
                      </a:lnTo>
                      <a:lnTo>
                        <a:pt x="35" y="15"/>
                      </a:lnTo>
                      <a:lnTo>
                        <a:pt x="43" y="22"/>
                      </a:lnTo>
                      <a:lnTo>
                        <a:pt x="48" y="30"/>
                      </a:lnTo>
                      <a:lnTo>
                        <a:pt x="52" y="37"/>
                      </a:lnTo>
                      <a:lnTo>
                        <a:pt x="55" y="44"/>
                      </a:lnTo>
                      <a:lnTo>
                        <a:pt x="57" y="52"/>
                      </a:lnTo>
                      <a:lnTo>
                        <a:pt x="58" y="58"/>
                      </a:lnTo>
                      <a:lnTo>
                        <a:pt x="58" y="64"/>
                      </a:lnTo>
                      <a:lnTo>
                        <a:pt x="57" y="74"/>
                      </a:lnTo>
                      <a:lnTo>
                        <a:pt x="55" y="81"/>
                      </a:lnTo>
                      <a:lnTo>
                        <a:pt x="48" y="91"/>
                      </a:lnTo>
                      <a:lnTo>
                        <a:pt x="42" y="99"/>
                      </a:lnTo>
                      <a:lnTo>
                        <a:pt x="35" y="106"/>
                      </a:lnTo>
                      <a:lnTo>
                        <a:pt x="25" y="110"/>
                      </a:lnTo>
                      <a:lnTo>
                        <a:pt x="17" y="114"/>
                      </a:lnTo>
                      <a:lnTo>
                        <a:pt x="8" y="118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33600" y="2399400"/>
                  <a:ext cx="66240" cy="5184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3" y="12"/>
                      </a:lnTo>
                      <a:lnTo>
                        <a:pt x="33" y="20"/>
                      </a:lnTo>
                      <a:lnTo>
                        <a:pt x="39" y="28"/>
                      </a:lnTo>
                      <a:lnTo>
                        <a:pt x="41" y="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98400" y="2269080"/>
                  <a:ext cx="245880" cy="188640"/>
                </a:xfrm>
                <a:custGeom>
                  <a:avLst/>
                  <a:gdLst/>
                  <a:ahLst/>
                  <a:rect l="l" t="t" r="r" b="b"/>
                  <a:pathLst>
                    <a:path w="155" h="119">
                      <a:moveTo>
                        <a:pt x="0" y="113"/>
                      </a:moveTo>
                      <a:lnTo>
                        <a:pt x="2" y="101"/>
                      </a:lnTo>
                      <a:lnTo>
                        <a:pt x="8" y="83"/>
                      </a:lnTo>
                      <a:lnTo>
                        <a:pt x="19" y="67"/>
                      </a:lnTo>
                      <a:lnTo>
                        <a:pt x="28" y="54"/>
                      </a:lnTo>
                      <a:lnTo>
                        <a:pt x="42" y="41"/>
                      </a:lnTo>
                      <a:lnTo>
                        <a:pt x="55" y="30"/>
                      </a:lnTo>
                      <a:lnTo>
                        <a:pt x="66" y="22"/>
                      </a:lnTo>
                      <a:lnTo>
                        <a:pt x="77" y="14"/>
                      </a:lnTo>
                      <a:lnTo>
                        <a:pt x="91" y="7"/>
                      </a:lnTo>
                      <a:lnTo>
                        <a:pt x="102" y="3"/>
                      </a:lnTo>
                      <a:lnTo>
                        <a:pt x="113" y="0"/>
                      </a:lnTo>
                      <a:lnTo>
                        <a:pt x="122" y="0"/>
                      </a:lnTo>
                      <a:lnTo>
                        <a:pt x="133" y="0"/>
                      </a:lnTo>
                      <a:lnTo>
                        <a:pt x="141" y="4"/>
                      </a:lnTo>
                      <a:lnTo>
                        <a:pt x="147" y="11"/>
                      </a:lnTo>
                      <a:lnTo>
                        <a:pt x="151" y="19"/>
                      </a:lnTo>
                      <a:lnTo>
                        <a:pt x="153" y="28"/>
                      </a:lnTo>
                      <a:lnTo>
                        <a:pt x="154" y="39"/>
                      </a:lnTo>
                      <a:lnTo>
                        <a:pt x="154" y="49"/>
                      </a:lnTo>
                      <a:lnTo>
                        <a:pt x="152" y="61"/>
                      </a:lnTo>
                      <a:lnTo>
                        <a:pt x="150" y="73"/>
                      </a:lnTo>
                      <a:lnTo>
                        <a:pt x="145" y="86"/>
                      </a:lnTo>
                      <a:lnTo>
                        <a:pt x="140" y="100"/>
                      </a:lnTo>
                      <a:lnTo>
                        <a:pt x="134" y="110"/>
                      </a:lnTo>
                      <a:lnTo>
                        <a:pt x="130" y="1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20640" y="2205720"/>
                  <a:ext cx="61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18">
                      <a:moveTo>
                        <a:pt x="0" y="17"/>
                      </a:moveTo>
                      <a:lnTo>
                        <a:pt x="7" y="10"/>
                      </a:lnTo>
                      <a:lnTo>
                        <a:pt x="17" y="5"/>
                      </a:lnTo>
                      <a:lnTo>
                        <a:pt x="26" y="1"/>
                      </a:lnTo>
                      <a:lnTo>
                        <a:pt x="34" y="0"/>
                      </a:lnTo>
                      <a:lnTo>
                        <a:pt x="38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79680" y="2142360"/>
                  <a:ext cx="196200" cy="252000"/>
                </a:xfrm>
                <a:custGeom>
                  <a:avLst/>
                  <a:gdLst/>
                  <a:ahLst/>
                  <a:rect l="l" t="t" r="r" b="b"/>
                  <a:pathLst>
                    <a:path w="124" h="159">
                      <a:moveTo>
                        <a:pt x="22" y="158"/>
                      </a:moveTo>
                      <a:lnTo>
                        <a:pt x="17" y="148"/>
                      </a:lnTo>
                      <a:lnTo>
                        <a:pt x="11" y="134"/>
                      </a:lnTo>
                      <a:lnTo>
                        <a:pt x="7" y="115"/>
                      </a:lnTo>
                      <a:lnTo>
                        <a:pt x="4" y="99"/>
                      </a:lnTo>
                      <a:lnTo>
                        <a:pt x="1" y="84"/>
                      </a:lnTo>
                      <a:lnTo>
                        <a:pt x="0" y="70"/>
                      </a:lnTo>
                      <a:lnTo>
                        <a:pt x="0" y="57"/>
                      </a:lnTo>
                      <a:lnTo>
                        <a:pt x="0" y="45"/>
                      </a:lnTo>
                      <a:lnTo>
                        <a:pt x="4" y="34"/>
                      </a:lnTo>
                      <a:lnTo>
                        <a:pt x="7" y="23"/>
                      </a:lnTo>
                      <a:lnTo>
                        <a:pt x="11" y="14"/>
                      </a:lnTo>
                      <a:lnTo>
                        <a:pt x="17" y="8"/>
                      </a:lnTo>
                      <a:lnTo>
                        <a:pt x="22" y="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7" y="1"/>
                      </a:lnTo>
                      <a:lnTo>
                        <a:pt x="58" y="5"/>
                      </a:lnTo>
                      <a:lnTo>
                        <a:pt x="66" y="10"/>
                      </a:lnTo>
                      <a:lnTo>
                        <a:pt x="77" y="17"/>
                      </a:lnTo>
                      <a:lnTo>
                        <a:pt x="85" y="25"/>
                      </a:lnTo>
                      <a:lnTo>
                        <a:pt x="94" y="36"/>
                      </a:lnTo>
                      <a:lnTo>
                        <a:pt x="104" y="48"/>
                      </a:lnTo>
                      <a:lnTo>
                        <a:pt x="112" y="60"/>
                      </a:lnTo>
                      <a:lnTo>
                        <a:pt x="116" y="69"/>
                      </a:lnTo>
                      <a:lnTo>
                        <a:pt x="122" y="77"/>
                      </a:lnTo>
                      <a:lnTo>
                        <a:pt x="123" y="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0" name=""/>
            <p:cNvGrpSpPr/>
            <p:nvPr/>
          </p:nvGrpSpPr>
          <p:grpSpPr>
            <a:xfrm>
              <a:off x="5744880" y="2330280"/>
              <a:ext cx="1483920" cy="1363320"/>
              <a:chOff x="5744880" y="2330280"/>
              <a:chExt cx="1483920" cy="1363320"/>
            </a:xfrm>
          </p:grpSpPr>
          <p:sp>
            <p:nvSpPr>
              <p:cNvPr id="871" name=""/>
              <p:cNvSpPr/>
              <p:nvPr/>
            </p:nvSpPr>
            <p:spPr>
              <a:xfrm>
                <a:off x="5744880" y="2330280"/>
                <a:ext cx="1483920" cy="136332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6077880" y="2520360"/>
                <a:ext cx="775800" cy="874080"/>
                <a:chOff x="6077880" y="2520360"/>
                <a:chExt cx="775800" cy="87408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080760" y="2597760"/>
                  <a:ext cx="769680" cy="318960"/>
                </a:xfrm>
                <a:custGeom>
                  <a:avLst/>
                  <a:gdLst/>
                  <a:ahLst/>
                  <a:rect l="l" t="t" r="r" b="b"/>
                  <a:pathLst>
                    <a:path w="485" h="201">
                      <a:moveTo>
                        <a:pt x="10" y="200"/>
                      </a:moveTo>
                      <a:lnTo>
                        <a:pt x="459" y="200"/>
                      </a:lnTo>
                      <a:lnTo>
                        <a:pt x="469" y="186"/>
                      </a:lnTo>
                      <a:lnTo>
                        <a:pt x="478" y="165"/>
                      </a:lnTo>
                      <a:lnTo>
                        <a:pt x="482" y="149"/>
                      </a:lnTo>
                      <a:lnTo>
                        <a:pt x="484" y="131"/>
                      </a:lnTo>
                      <a:lnTo>
                        <a:pt x="484" y="117"/>
                      </a:lnTo>
                      <a:lnTo>
                        <a:pt x="482" y="105"/>
                      </a:lnTo>
                      <a:lnTo>
                        <a:pt x="479" y="95"/>
                      </a:lnTo>
                      <a:lnTo>
                        <a:pt x="478" y="89"/>
                      </a:lnTo>
                      <a:lnTo>
                        <a:pt x="467" y="81"/>
                      </a:lnTo>
                      <a:lnTo>
                        <a:pt x="459" y="80"/>
                      </a:lnTo>
                      <a:lnTo>
                        <a:pt x="448" y="80"/>
                      </a:lnTo>
                      <a:lnTo>
                        <a:pt x="442" y="81"/>
                      </a:lnTo>
                      <a:lnTo>
                        <a:pt x="428" y="56"/>
                      </a:lnTo>
                      <a:lnTo>
                        <a:pt x="413" y="35"/>
                      </a:lnTo>
                      <a:lnTo>
                        <a:pt x="399" y="20"/>
                      </a:lnTo>
                      <a:lnTo>
                        <a:pt x="382" y="8"/>
                      </a:lnTo>
                      <a:lnTo>
                        <a:pt x="367" y="1"/>
                      </a:lnTo>
                      <a:lnTo>
                        <a:pt x="355" y="0"/>
                      </a:lnTo>
                      <a:lnTo>
                        <a:pt x="346" y="1"/>
                      </a:lnTo>
                      <a:lnTo>
                        <a:pt x="336" y="7"/>
                      </a:lnTo>
                      <a:lnTo>
                        <a:pt x="330" y="15"/>
                      </a:lnTo>
                      <a:lnTo>
                        <a:pt x="325" y="25"/>
                      </a:lnTo>
                      <a:lnTo>
                        <a:pt x="321" y="41"/>
                      </a:lnTo>
                      <a:lnTo>
                        <a:pt x="308" y="41"/>
                      </a:lnTo>
                      <a:lnTo>
                        <a:pt x="294" y="48"/>
                      </a:lnTo>
                      <a:lnTo>
                        <a:pt x="282" y="58"/>
                      </a:lnTo>
                      <a:lnTo>
                        <a:pt x="265" y="52"/>
                      </a:lnTo>
                      <a:lnTo>
                        <a:pt x="237" y="47"/>
                      </a:lnTo>
                      <a:lnTo>
                        <a:pt x="220" y="45"/>
                      </a:lnTo>
                      <a:lnTo>
                        <a:pt x="202" y="47"/>
                      </a:lnTo>
                      <a:lnTo>
                        <a:pt x="186" y="50"/>
                      </a:lnTo>
                      <a:lnTo>
                        <a:pt x="174" y="52"/>
                      </a:lnTo>
                      <a:lnTo>
                        <a:pt x="167" y="41"/>
                      </a:lnTo>
                      <a:lnTo>
                        <a:pt x="161" y="29"/>
                      </a:lnTo>
                      <a:lnTo>
                        <a:pt x="149" y="19"/>
                      </a:lnTo>
                      <a:lnTo>
                        <a:pt x="136" y="13"/>
                      </a:lnTo>
                      <a:lnTo>
                        <a:pt x="127" y="11"/>
                      </a:lnTo>
                      <a:lnTo>
                        <a:pt x="120" y="11"/>
                      </a:lnTo>
                      <a:lnTo>
                        <a:pt x="110" y="16"/>
                      </a:lnTo>
                      <a:lnTo>
                        <a:pt x="100" y="27"/>
                      </a:lnTo>
                      <a:lnTo>
                        <a:pt x="89" y="43"/>
                      </a:lnTo>
                      <a:lnTo>
                        <a:pt x="82" y="60"/>
                      </a:lnTo>
                      <a:lnTo>
                        <a:pt x="74" y="82"/>
                      </a:lnTo>
                      <a:lnTo>
                        <a:pt x="68" y="113"/>
                      </a:lnTo>
                      <a:lnTo>
                        <a:pt x="52" y="105"/>
                      </a:lnTo>
                      <a:lnTo>
                        <a:pt x="39" y="105"/>
                      </a:lnTo>
                      <a:lnTo>
                        <a:pt x="28" y="105"/>
                      </a:lnTo>
                      <a:lnTo>
                        <a:pt x="17" y="109"/>
                      </a:lnTo>
                      <a:lnTo>
                        <a:pt x="10" y="117"/>
                      </a:lnTo>
                      <a:lnTo>
                        <a:pt x="4" y="128"/>
                      </a:lnTo>
                      <a:lnTo>
                        <a:pt x="1" y="143"/>
                      </a:lnTo>
                      <a:lnTo>
                        <a:pt x="0" y="157"/>
                      </a:lnTo>
                      <a:lnTo>
                        <a:pt x="4" y="176"/>
                      </a:lnTo>
                      <a:lnTo>
                        <a:pt x="9" y="196"/>
                      </a:lnTo>
                      <a:lnTo>
                        <a:pt x="10" y="200"/>
                      </a:lnTo>
                      <a:lnTo>
                        <a:pt x="10" y="20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080760" y="3282120"/>
                  <a:ext cx="115560" cy="112320"/>
                </a:xfrm>
                <a:custGeom>
                  <a:avLst/>
                  <a:gdLst/>
                  <a:ahLst/>
                  <a:rect l="l" t="t" r="r" b="b"/>
                  <a:pathLst>
                    <a:path w="73" h="71">
                      <a:moveTo>
                        <a:pt x="0" y="0"/>
                      </a:moveTo>
                      <a:lnTo>
                        <a:pt x="1" y="9"/>
                      </a:lnTo>
                      <a:lnTo>
                        <a:pt x="3" y="19"/>
                      </a:lnTo>
                      <a:lnTo>
                        <a:pt x="7" y="27"/>
                      </a:lnTo>
                      <a:lnTo>
                        <a:pt x="11" y="36"/>
                      </a:lnTo>
                      <a:lnTo>
                        <a:pt x="16" y="44"/>
                      </a:lnTo>
                      <a:lnTo>
                        <a:pt x="22" y="50"/>
                      </a:lnTo>
                      <a:lnTo>
                        <a:pt x="30" y="57"/>
                      </a:lnTo>
                      <a:lnTo>
                        <a:pt x="37" y="62"/>
                      </a:lnTo>
                      <a:lnTo>
                        <a:pt x="46" y="66"/>
                      </a:lnTo>
                      <a:lnTo>
                        <a:pt x="55" y="68"/>
                      </a:lnTo>
                      <a:lnTo>
                        <a:pt x="64" y="70"/>
                      </a:lnTo>
                      <a:lnTo>
                        <a:pt x="72" y="7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220440" y="3277440"/>
                  <a:ext cx="232920" cy="117000"/>
                </a:xfrm>
                <a:custGeom>
                  <a:avLst/>
                  <a:gdLst/>
                  <a:ahLst/>
                  <a:rect l="l" t="t" r="r" b="b"/>
                  <a:pathLst>
                    <a:path w="147" h="74">
                      <a:moveTo>
                        <a:pt x="0" y="73"/>
                      </a:moveTo>
                      <a:lnTo>
                        <a:pt x="146" y="73"/>
                      </a:lnTo>
                      <a:lnTo>
                        <a:pt x="73" y="0"/>
                      </a:lnTo>
                      <a:lnTo>
                        <a:pt x="0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477480" y="3277440"/>
                  <a:ext cx="234720" cy="117000"/>
                </a:xfrm>
                <a:custGeom>
                  <a:avLst/>
                  <a:gdLst/>
                  <a:ahLst/>
                  <a:rect l="l" t="t" r="r" b="b"/>
                  <a:pathLst>
                    <a:path w="148" h="74">
                      <a:moveTo>
                        <a:pt x="0" y="73"/>
                      </a:moveTo>
                      <a:lnTo>
                        <a:pt x="147" y="73"/>
                      </a:lnTo>
                      <a:lnTo>
                        <a:pt x="73" y="0"/>
                      </a:lnTo>
                      <a:lnTo>
                        <a:pt x="0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738120" y="3282120"/>
                  <a:ext cx="115560" cy="112320"/>
                </a:xfrm>
                <a:custGeom>
                  <a:avLst/>
                  <a:gdLst/>
                  <a:ahLst/>
                  <a:rect l="l" t="t" r="r" b="b"/>
                  <a:pathLst>
                    <a:path w="73" h="71">
                      <a:moveTo>
                        <a:pt x="0" y="70"/>
                      </a:moveTo>
                      <a:lnTo>
                        <a:pt x="10" y="70"/>
                      </a:lnTo>
                      <a:lnTo>
                        <a:pt x="20" y="68"/>
                      </a:lnTo>
                      <a:lnTo>
                        <a:pt x="28" y="64"/>
                      </a:lnTo>
                      <a:lnTo>
                        <a:pt x="36" y="61"/>
                      </a:lnTo>
                      <a:lnTo>
                        <a:pt x="44" y="56"/>
                      </a:lnTo>
                      <a:lnTo>
                        <a:pt x="52" y="48"/>
                      </a:lnTo>
                      <a:lnTo>
                        <a:pt x="57" y="42"/>
                      </a:lnTo>
                      <a:lnTo>
                        <a:pt x="62" y="34"/>
                      </a:lnTo>
                      <a:lnTo>
                        <a:pt x="67" y="26"/>
                      </a:lnTo>
                      <a:lnTo>
                        <a:pt x="70" y="17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0" y="7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090120" y="314856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3"/>
                      </a:moveTo>
                      <a:lnTo>
                        <a:pt x="73" y="148"/>
                      </a:ln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348960" y="3148560"/>
                  <a:ext cx="232920" cy="236160"/>
                </a:xfrm>
                <a:custGeom>
                  <a:avLst/>
                  <a:gdLst/>
                  <a:ahLst/>
                  <a:rect l="l" t="t" r="r" b="b"/>
                  <a:pathLst>
                    <a:path w="147" h="149">
                      <a:moveTo>
                        <a:pt x="0" y="74"/>
                      </a:moveTo>
                      <a:lnTo>
                        <a:pt x="73" y="148"/>
                      </a:lnTo>
                      <a:lnTo>
                        <a:pt x="146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607800" y="3148560"/>
                  <a:ext cx="232920" cy="236160"/>
                </a:xfrm>
                <a:custGeom>
                  <a:avLst/>
                  <a:gdLst/>
                  <a:ahLst/>
                  <a:rect l="l" t="t" r="r" b="b"/>
                  <a:pathLst>
                    <a:path w="147" h="149">
                      <a:moveTo>
                        <a:pt x="0" y="74"/>
                      </a:moveTo>
                      <a:lnTo>
                        <a:pt x="72" y="148"/>
                      </a:lnTo>
                      <a:lnTo>
                        <a:pt x="146" y="74"/>
                      </a:lnTo>
                      <a:lnTo>
                        <a:pt x="72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080760" y="3023280"/>
                  <a:ext cx="113760" cy="226800"/>
                </a:xfrm>
                <a:custGeom>
                  <a:avLst/>
                  <a:gdLst/>
                  <a:ahLst/>
                  <a:rect l="l" t="t" r="r" b="b"/>
                  <a:pathLst>
                    <a:path w="72" h="143">
                      <a:moveTo>
                        <a:pt x="0" y="142"/>
                      </a:moveTo>
                      <a:lnTo>
                        <a:pt x="71" y="71"/>
                      </a:lnTo>
                      <a:lnTo>
                        <a:pt x="0" y="0"/>
                      </a:lnTo>
                      <a:lnTo>
                        <a:pt x="0" y="142"/>
                      </a:lnTo>
                      <a:lnTo>
                        <a:pt x="0" y="142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219000" y="3018600"/>
                  <a:ext cx="234360" cy="237600"/>
                </a:xfrm>
                <a:custGeom>
                  <a:avLst/>
                  <a:gdLst/>
                  <a:ahLst/>
                  <a:rect l="l" t="t" r="r" b="b"/>
                  <a:pathLst>
                    <a:path w="148" h="150">
                      <a:moveTo>
                        <a:pt x="74" y="149"/>
                      </a:moveTo>
                      <a:lnTo>
                        <a:pt x="0" y="75"/>
                      </a:lnTo>
                      <a:lnTo>
                        <a:pt x="74" y="0"/>
                      </a:lnTo>
                      <a:lnTo>
                        <a:pt x="147" y="74"/>
                      </a:lnTo>
                      <a:lnTo>
                        <a:pt x="74" y="149"/>
                      </a:lnTo>
                      <a:lnTo>
                        <a:pt x="74" y="149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477480" y="3018600"/>
                  <a:ext cx="234720" cy="237600"/>
                </a:xfrm>
                <a:custGeom>
                  <a:avLst/>
                  <a:gdLst/>
                  <a:ahLst/>
                  <a:rect l="l" t="t" r="r" b="b"/>
                  <a:pathLst>
                    <a:path w="148" h="150">
                      <a:moveTo>
                        <a:pt x="73" y="149"/>
                      </a:moveTo>
                      <a:lnTo>
                        <a:pt x="0" y="74"/>
                      </a:lnTo>
                      <a:lnTo>
                        <a:pt x="73" y="0"/>
                      </a:lnTo>
                      <a:lnTo>
                        <a:pt x="147" y="74"/>
                      </a:lnTo>
                      <a:lnTo>
                        <a:pt x="73" y="149"/>
                      </a:lnTo>
                      <a:lnTo>
                        <a:pt x="73" y="149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738120" y="3023280"/>
                  <a:ext cx="115560" cy="226800"/>
                </a:xfrm>
                <a:custGeom>
                  <a:avLst/>
                  <a:gdLst/>
                  <a:ahLst/>
                  <a:rect l="l" t="t" r="r" b="b"/>
                  <a:pathLst>
                    <a:path w="73" h="143">
                      <a:moveTo>
                        <a:pt x="72" y="142"/>
                      </a:moveTo>
                      <a:lnTo>
                        <a:pt x="0" y="71"/>
                      </a:lnTo>
                      <a:lnTo>
                        <a:pt x="72" y="0"/>
                      </a:lnTo>
                      <a:lnTo>
                        <a:pt x="72" y="142"/>
                      </a:lnTo>
                      <a:lnTo>
                        <a:pt x="72" y="142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077880" y="2994840"/>
                  <a:ext cx="259920" cy="131400"/>
                </a:xfrm>
                <a:custGeom>
                  <a:avLst/>
                  <a:gdLst/>
                  <a:ahLst/>
                  <a:rect l="l" t="t" r="r" b="b"/>
                  <a:pathLst>
                    <a:path w="164" h="83">
                      <a:moveTo>
                        <a:pt x="0" y="0"/>
                      </a:moveTo>
                      <a:lnTo>
                        <a:pt x="82" y="82"/>
                      </a:lnTo>
                      <a:lnTo>
                        <a:pt x="163" y="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336360" y="2996280"/>
                  <a:ext cx="258480" cy="129960"/>
                </a:xfrm>
                <a:custGeom>
                  <a:avLst/>
                  <a:gdLst/>
                  <a:ahLst/>
                  <a:rect l="l" t="t" r="r" b="b"/>
                  <a:pathLst>
                    <a:path w="163" h="82">
                      <a:moveTo>
                        <a:pt x="0" y="0"/>
                      </a:moveTo>
                      <a:lnTo>
                        <a:pt x="81" y="81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593400" y="2996280"/>
                  <a:ext cx="260280" cy="12996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0" y="0"/>
                      </a:moveTo>
                      <a:lnTo>
                        <a:pt x="81" y="81"/>
                      </a:lnTo>
                      <a:lnTo>
                        <a:pt x="16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080760" y="2520360"/>
                  <a:ext cx="772920" cy="452160"/>
                </a:xfrm>
                <a:custGeom>
                  <a:avLst/>
                  <a:gdLst/>
                  <a:ahLst/>
                  <a:rect l="l" t="t" r="r" b="b"/>
                  <a:pathLst>
                    <a:path w="487" h="285">
                      <a:moveTo>
                        <a:pt x="0" y="284"/>
                      </a:moveTo>
                      <a:lnTo>
                        <a:pt x="486" y="284"/>
                      </a:lnTo>
                      <a:lnTo>
                        <a:pt x="486" y="246"/>
                      </a:lnTo>
                      <a:lnTo>
                        <a:pt x="268" y="246"/>
                      </a:lnTo>
                      <a:lnTo>
                        <a:pt x="268" y="0"/>
                      </a:lnTo>
                      <a:lnTo>
                        <a:pt x="220" y="0"/>
                      </a:lnTo>
                      <a:lnTo>
                        <a:pt x="220" y="246"/>
                      </a:lnTo>
                      <a:lnTo>
                        <a:pt x="0" y="246"/>
                      </a:lnTo>
                      <a:lnTo>
                        <a:pt x="0" y="284"/>
                      </a:lnTo>
                      <a:lnTo>
                        <a:pt x="0" y="28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082200" y="2761200"/>
                  <a:ext cx="191880" cy="150480"/>
                </a:xfrm>
                <a:custGeom>
                  <a:avLst/>
                  <a:gdLst/>
                  <a:ahLst/>
                  <a:rect l="l" t="t" r="r" b="b"/>
                  <a:pathLst>
                    <a:path w="121" h="95">
                      <a:moveTo>
                        <a:pt x="8" y="94"/>
                      </a:moveTo>
                      <a:lnTo>
                        <a:pt x="5" y="83"/>
                      </a:lnTo>
                      <a:lnTo>
                        <a:pt x="2" y="66"/>
                      </a:lnTo>
                      <a:lnTo>
                        <a:pt x="0" y="50"/>
                      </a:lnTo>
                      <a:lnTo>
                        <a:pt x="0" y="35"/>
                      </a:lnTo>
                      <a:lnTo>
                        <a:pt x="3" y="25"/>
                      </a:lnTo>
                      <a:lnTo>
                        <a:pt x="8" y="15"/>
                      </a:lnTo>
                      <a:lnTo>
                        <a:pt x="13" y="9"/>
                      </a:lnTo>
                      <a:lnTo>
                        <a:pt x="20" y="4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57" y="5"/>
                      </a:lnTo>
                      <a:lnTo>
                        <a:pt x="74" y="15"/>
                      </a:lnTo>
                      <a:lnTo>
                        <a:pt x="90" y="26"/>
                      </a:lnTo>
                      <a:lnTo>
                        <a:pt x="103" y="38"/>
                      </a:lnTo>
                      <a:lnTo>
                        <a:pt x="113" y="48"/>
                      </a:lnTo>
                      <a:lnTo>
                        <a:pt x="12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239520" y="2770920"/>
                  <a:ext cx="196560" cy="140760"/>
                </a:xfrm>
                <a:custGeom>
                  <a:avLst/>
                  <a:gdLst/>
                  <a:ahLst/>
                  <a:rect l="l" t="t" r="r" b="b"/>
                  <a:pathLst>
                    <a:path w="124" h="89">
                      <a:moveTo>
                        <a:pt x="0" y="88"/>
                      </a:moveTo>
                      <a:lnTo>
                        <a:pt x="6" y="76"/>
                      </a:lnTo>
                      <a:lnTo>
                        <a:pt x="12" y="65"/>
                      </a:lnTo>
                      <a:lnTo>
                        <a:pt x="20" y="55"/>
                      </a:lnTo>
                      <a:lnTo>
                        <a:pt x="29" y="46"/>
                      </a:lnTo>
                      <a:lnTo>
                        <a:pt x="40" y="37"/>
                      </a:lnTo>
                      <a:lnTo>
                        <a:pt x="53" y="27"/>
                      </a:lnTo>
                      <a:lnTo>
                        <a:pt x="69" y="19"/>
                      </a:lnTo>
                      <a:lnTo>
                        <a:pt x="85" y="12"/>
                      </a:lnTo>
                      <a:lnTo>
                        <a:pt x="99" y="6"/>
                      </a:lnTo>
                      <a:lnTo>
                        <a:pt x="114" y="3"/>
                      </a:lnTo>
                      <a:lnTo>
                        <a:pt x="12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503040" y="2794680"/>
                  <a:ext cx="10800" cy="8064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2" y="0"/>
                      </a:moveTo>
                      <a:lnTo>
                        <a:pt x="4" y="5"/>
                      </a:lnTo>
                      <a:lnTo>
                        <a:pt x="6" y="10"/>
                      </a:lnTo>
                      <a:lnTo>
                        <a:pt x="6" y="15"/>
                      </a:lnTo>
                      <a:lnTo>
                        <a:pt x="6" y="25"/>
                      </a:lnTo>
                      <a:lnTo>
                        <a:pt x="6" y="32"/>
                      </a:lnTo>
                      <a:lnTo>
                        <a:pt x="4" y="41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188760" y="2613600"/>
                  <a:ext cx="169560" cy="16488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0" y="103"/>
                      </a:moveTo>
                      <a:lnTo>
                        <a:pt x="2" y="91"/>
                      </a:lnTo>
                      <a:lnTo>
                        <a:pt x="6" y="75"/>
                      </a:lnTo>
                      <a:lnTo>
                        <a:pt x="10" y="60"/>
                      </a:lnTo>
                      <a:lnTo>
                        <a:pt x="14" y="46"/>
                      </a:lnTo>
                      <a:lnTo>
                        <a:pt x="21" y="33"/>
                      </a:lnTo>
                      <a:lnTo>
                        <a:pt x="28" y="21"/>
                      </a:lnTo>
                      <a:lnTo>
                        <a:pt x="36" y="13"/>
                      </a:lnTo>
                      <a:lnTo>
                        <a:pt x="42" y="8"/>
                      </a:lnTo>
                      <a:lnTo>
                        <a:pt x="48" y="3"/>
                      </a:lnTo>
                      <a:lnTo>
                        <a:pt x="56" y="0"/>
                      </a:lnTo>
                      <a:lnTo>
                        <a:pt x="62" y="0"/>
                      </a:lnTo>
                      <a:lnTo>
                        <a:pt x="71" y="3"/>
                      </a:lnTo>
                      <a:lnTo>
                        <a:pt x="79" y="8"/>
                      </a:lnTo>
                      <a:lnTo>
                        <a:pt x="88" y="15"/>
                      </a:lnTo>
                      <a:lnTo>
                        <a:pt x="94" y="21"/>
                      </a:lnTo>
                      <a:lnTo>
                        <a:pt x="101" y="31"/>
                      </a:lnTo>
                      <a:lnTo>
                        <a:pt x="105" y="39"/>
                      </a:lnTo>
                      <a:lnTo>
                        <a:pt x="106" y="4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271200" y="2672280"/>
                  <a:ext cx="164880" cy="147600"/>
                </a:xfrm>
                <a:custGeom>
                  <a:avLst/>
                  <a:gdLst/>
                  <a:ahLst/>
                  <a:rect l="l" t="t" r="r" b="b"/>
                  <a:pathLst>
                    <a:path w="104" h="93">
                      <a:moveTo>
                        <a:pt x="29" y="92"/>
                      </a:moveTo>
                      <a:lnTo>
                        <a:pt x="19" y="84"/>
                      </a:lnTo>
                      <a:lnTo>
                        <a:pt x="13" y="78"/>
                      </a:lnTo>
                      <a:lnTo>
                        <a:pt x="7" y="71"/>
                      </a:lnTo>
                      <a:lnTo>
                        <a:pt x="4" y="64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46"/>
                      </a:lnTo>
                      <a:lnTo>
                        <a:pt x="2" y="38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6" y="16"/>
                      </a:lnTo>
                      <a:lnTo>
                        <a:pt x="40" y="10"/>
                      </a:lnTo>
                      <a:lnTo>
                        <a:pt x="54" y="5"/>
                      </a:lnTo>
                      <a:lnTo>
                        <a:pt x="66" y="3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1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496560" y="2680200"/>
                  <a:ext cx="93240" cy="190440"/>
                </a:xfrm>
                <a:custGeom>
                  <a:avLst/>
                  <a:gdLst/>
                  <a:ahLst/>
                  <a:rect l="l" t="t" r="r" b="b"/>
                  <a:pathLst>
                    <a:path w="59" h="120">
                      <a:moveTo>
                        <a:pt x="6" y="0"/>
                      </a:moveTo>
                      <a:lnTo>
                        <a:pt x="14" y="4"/>
                      </a:lnTo>
                      <a:lnTo>
                        <a:pt x="24" y="8"/>
                      </a:lnTo>
                      <a:lnTo>
                        <a:pt x="34" y="16"/>
                      </a:lnTo>
                      <a:lnTo>
                        <a:pt x="43" y="23"/>
                      </a:lnTo>
                      <a:lnTo>
                        <a:pt x="48" y="30"/>
                      </a:lnTo>
                      <a:lnTo>
                        <a:pt x="52" y="37"/>
                      </a:lnTo>
                      <a:lnTo>
                        <a:pt x="54" y="45"/>
                      </a:lnTo>
                      <a:lnTo>
                        <a:pt x="57" y="53"/>
                      </a:lnTo>
                      <a:lnTo>
                        <a:pt x="58" y="59"/>
                      </a:lnTo>
                      <a:lnTo>
                        <a:pt x="58" y="65"/>
                      </a:lnTo>
                      <a:lnTo>
                        <a:pt x="57" y="75"/>
                      </a:lnTo>
                      <a:lnTo>
                        <a:pt x="54" y="82"/>
                      </a:lnTo>
                      <a:lnTo>
                        <a:pt x="48" y="92"/>
                      </a:lnTo>
                      <a:lnTo>
                        <a:pt x="42" y="99"/>
                      </a:lnTo>
                      <a:lnTo>
                        <a:pt x="34" y="106"/>
                      </a:lnTo>
                      <a:lnTo>
                        <a:pt x="24" y="111"/>
                      </a:lnTo>
                      <a:lnTo>
                        <a:pt x="17" y="115"/>
                      </a:lnTo>
                      <a:lnTo>
                        <a:pt x="8" y="119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541200" y="2856600"/>
                  <a:ext cx="67680" cy="5184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0"/>
                      </a:moveTo>
                      <a:lnTo>
                        <a:pt x="11" y="4"/>
                      </a:lnTo>
                      <a:lnTo>
                        <a:pt x="23" y="12"/>
                      </a:lnTo>
                      <a:lnTo>
                        <a:pt x="33" y="20"/>
                      </a:lnTo>
                      <a:lnTo>
                        <a:pt x="39" y="28"/>
                      </a:lnTo>
                      <a:lnTo>
                        <a:pt x="42" y="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606360" y="2724840"/>
                  <a:ext cx="245520" cy="188640"/>
                </a:xfrm>
                <a:custGeom>
                  <a:avLst/>
                  <a:gdLst/>
                  <a:ahLst/>
                  <a:rect l="l" t="t" r="r" b="b"/>
                  <a:pathLst>
                    <a:path w="155" h="119">
                      <a:moveTo>
                        <a:pt x="0" y="114"/>
                      </a:moveTo>
                      <a:lnTo>
                        <a:pt x="2" y="101"/>
                      </a:lnTo>
                      <a:lnTo>
                        <a:pt x="9" y="84"/>
                      </a:lnTo>
                      <a:lnTo>
                        <a:pt x="19" y="68"/>
                      </a:lnTo>
                      <a:lnTo>
                        <a:pt x="29" y="55"/>
                      </a:lnTo>
                      <a:lnTo>
                        <a:pt x="42" y="42"/>
                      </a:lnTo>
                      <a:lnTo>
                        <a:pt x="55" y="31"/>
                      </a:lnTo>
                      <a:lnTo>
                        <a:pt x="67" y="23"/>
                      </a:lnTo>
                      <a:lnTo>
                        <a:pt x="77" y="15"/>
                      </a:lnTo>
                      <a:lnTo>
                        <a:pt x="91" y="8"/>
                      </a:lnTo>
                      <a:lnTo>
                        <a:pt x="102" y="3"/>
                      </a:lnTo>
                      <a:lnTo>
                        <a:pt x="113" y="1"/>
                      </a:lnTo>
                      <a:lnTo>
                        <a:pt x="122" y="0"/>
                      </a:lnTo>
                      <a:lnTo>
                        <a:pt x="133" y="1"/>
                      </a:lnTo>
                      <a:lnTo>
                        <a:pt x="141" y="5"/>
                      </a:lnTo>
                      <a:lnTo>
                        <a:pt x="147" y="11"/>
                      </a:lnTo>
                      <a:lnTo>
                        <a:pt x="151" y="19"/>
                      </a:lnTo>
                      <a:lnTo>
                        <a:pt x="153" y="29"/>
                      </a:lnTo>
                      <a:lnTo>
                        <a:pt x="154" y="39"/>
                      </a:lnTo>
                      <a:lnTo>
                        <a:pt x="154" y="49"/>
                      </a:lnTo>
                      <a:lnTo>
                        <a:pt x="152" y="61"/>
                      </a:lnTo>
                      <a:lnTo>
                        <a:pt x="150" y="74"/>
                      </a:lnTo>
                      <a:lnTo>
                        <a:pt x="145" y="87"/>
                      </a:lnTo>
                      <a:lnTo>
                        <a:pt x="140" y="101"/>
                      </a:lnTo>
                      <a:lnTo>
                        <a:pt x="135" y="111"/>
                      </a:lnTo>
                      <a:lnTo>
                        <a:pt x="130" y="1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28600" y="2662920"/>
                  <a:ext cx="61200" cy="28080"/>
                </a:xfrm>
                <a:custGeom>
                  <a:avLst/>
                  <a:gdLst/>
                  <a:ahLst/>
                  <a:rect l="l" t="t" r="r" b="b"/>
                  <a:pathLst>
                    <a:path w="39" h="18">
                      <a:moveTo>
                        <a:pt x="0" y="17"/>
                      </a:moveTo>
                      <a:lnTo>
                        <a:pt x="8" y="10"/>
                      </a:lnTo>
                      <a:lnTo>
                        <a:pt x="17" y="4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7280" y="2597760"/>
                  <a:ext cx="196200" cy="253800"/>
                </a:xfrm>
                <a:custGeom>
                  <a:avLst/>
                  <a:gdLst/>
                  <a:ahLst/>
                  <a:rect l="l" t="t" r="r" b="b"/>
                  <a:pathLst>
                    <a:path w="124" h="160">
                      <a:moveTo>
                        <a:pt x="23" y="159"/>
                      </a:moveTo>
                      <a:lnTo>
                        <a:pt x="17" y="149"/>
                      </a:lnTo>
                      <a:lnTo>
                        <a:pt x="11" y="135"/>
                      </a:lnTo>
                      <a:lnTo>
                        <a:pt x="7" y="116"/>
                      </a:lnTo>
                      <a:lnTo>
                        <a:pt x="4" y="99"/>
                      </a:lnTo>
                      <a:lnTo>
                        <a:pt x="1" y="85"/>
                      </a:lnTo>
                      <a:lnTo>
                        <a:pt x="0" y="70"/>
                      </a:lnTo>
                      <a:lnTo>
                        <a:pt x="0" y="58"/>
                      </a:lnTo>
                      <a:lnTo>
                        <a:pt x="1" y="46"/>
                      </a:lnTo>
                      <a:lnTo>
                        <a:pt x="4" y="35"/>
                      </a:lnTo>
                      <a:lnTo>
                        <a:pt x="7" y="24"/>
                      </a:lnTo>
                      <a:lnTo>
                        <a:pt x="11" y="15"/>
                      </a:lnTo>
                      <a:lnTo>
                        <a:pt x="17" y="9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36" y="0"/>
                      </a:lnTo>
                      <a:lnTo>
                        <a:pt x="47" y="1"/>
                      </a:lnTo>
                      <a:lnTo>
                        <a:pt x="58" y="5"/>
                      </a:lnTo>
                      <a:lnTo>
                        <a:pt x="66" y="10"/>
                      </a:lnTo>
                      <a:lnTo>
                        <a:pt x="77" y="18"/>
                      </a:lnTo>
                      <a:lnTo>
                        <a:pt x="85" y="25"/>
                      </a:lnTo>
                      <a:lnTo>
                        <a:pt x="94" y="37"/>
                      </a:lnTo>
                      <a:lnTo>
                        <a:pt x="104" y="49"/>
                      </a:lnTo>
                      <a:lnTo>
                        <a:pt x="112" y="60"/>
                      </a:lnTo>
                      <a:lnTo>
                        <a:pt x="117" y="70"/>
                      </a:lnTo>
                      <a:lnTo>
                        <a:pt x="122" y="78"/>
                      </a:lnTo>
                      <a:lnTo>
                        <a:pt x="123" y="8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7868880" y="3433680"/>
              <a:ext cx="1482480" cy="1363320"/>
              <a:chOff x="7868880" y="3433680"/>
              <a:chExt cx="1482480" cy="1363320"/>
            </a:xfrm>
          </p:grpSpPr>
          <p:sp>
            <p:nvSpPr>
              <p:cNvPr id="900" name=""/>
              <p:cNvSpPr/>
              <p:nvPr/>
            </p:nvSpPr>
            <p:spPr>
              <a:xfrm>
                <a:off x="7868880" y="3433680"/>
                <a:ext cx="1482480" cy="136332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8201880" y="3671280"/>
                <a:ext cx="775800" cy="875520"/>
                <a:chOff x="8201880" y="3671280"/>
                <a:chExt cx="775800" cy="875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8204760" y="3748680"/>
                  <a:ext cx="769680" cy="318960"/>
                </a:xfrm>
                <a:custGeom>
                  <a:avLst/>
                  <a:gdLst/>
                  <a:ahLst/>
                  <a:rect l="l" t="t" r="r" b="b"/>
                  <a:pathLst>
                    <a:path w="485" h="201">
                      <a:moveTo>
                        <a:pt x="10" y="200"/>
                      </a:moveTo>
                      <a:lnTo>
                        <a:pt x="459" y="200"/>
                      </a:lnTo>
                      <a:lnTo>
                        <a:pt x="469" y="186"/>
                      </a:lnTo>
                      <a:lnTo>
                        <a:pt x="478" y="165"/>
                      </a:lnTo>
                      <a:lnTo>
                        <a:pt x="482" y="149"/>
                      </a:lnTo>
                      <a:lnTo>
                        <a:pt x="484" y="131"/>
                      </a:lnTo>
                      <a:lnTo>
                        <a:pt x="484" y="117"/>
                      </a:lnTo>
                      <a:lnTo>
                        <a:pt x="482" y="105"/>
                      </a:lnTo>
                      <a:lnTo>
                        <a:pt x="479" y="95"/>
                      </a:lnTo>
                      <a:lnTo>
                        <a:pt x="478" y="90"/>
                      </a:lnTo>
                      <a:lnTo>
                        <a:pt x="467" y="81"/>
                      </a:lnTo>
                      <a:lnTo>
                        <a:pt x="459" y="80"/>
                      </a:lnTo>
                      <a:lnTo>
                        <a:pt x="448" y="80"/>
                      </a:lnTo>
                      <a:lnTo>
                        <a:pt x="442" y="81"/>
                      </a:lnTo>
                      <a:lnTo>
                        <a:pt x="428" y="56"/>
                      </a:lnTo>
                      <a:lnTo>
                        <a:pt x="413" y="35"/>
                      </a:lnTo>
                      <a:lnTo>
                        <a:pt x="399" y="20"/>
                      </a:lnTo>
                      <a:lnTo>
                        <a:pt x="382" y="8"/>
                      </a:lnTo>
                      <a:lnTo>
                        <a:pt x="367" y="2"/>
                      </a:lnTo>
                      <a:lnTo>
                        <a:pt x="355" y="0"/>
                      </a:lnTo>
                      <a:lnTo>
                        <a:pt x="346" y="2"/>
                      </a:lnTo>
                      <a:lnTo>
                        <a:pt x="336" y="7"/>
                      </a:lnTo>
                      <a:lnTo>
                        <a:pt x="330" y="15"/>
                      </a:lnTo>
                      <a:lnTo>
                        <a:pt x="324" y="25"/>
                      </a:lnTo>
                      <a:lnTo>
                        <a:pt x="321" y="42"/>
                      </a:lnTo>
                      <a:lnTo>
                        <a:pt x="308" y="42"/>
                      </a:lnTo>
                      <a:lnTo>
                        <a:pt x="294" y="48"/>
                      </a:lnTo>
                      <a:lnTo>
                        <a:pt x="282" y="58"/>
                      </a:lnTo>
                      <a:lnTo>
                        <a:pt x="265" y="52"/>
                      </a:lnTo>
                      <a:lnTo>
                        <a:pt x="237" y="47"/>
                      </a:lnTo>
                      <a:lnTo>
                        <a:pt x="220" y="45"/>
                      </a:lnTo>
                      <a:lnTo>
                        <a:pt x="202" y="47"/>
                      </a:lnTo>
                      <a:lnTo>
                        <a:pt x="186" y="50"/>
                      </a:lnTo>
                      <a:lnTo>
                        <a:pt x="174" y="52"/>
                      </a:lnTo>
                      <a:lnTo>
                        <a:pt x="167" y="42"/>
                      </a:lnTo>
                      <a:lnTo>
                        <a:pt x="161" y="29"/>
                      </a:lnTo>
                      <a:lnTo>
                        <a:pt x="149" y="18"/>
                      </a:lnTo>
                      <a:lnTo>
                        <a:pt x="136" y="13"/>
                      </a:lnTo>
                      <a:lnTo>
                        <a:pt x="127" y="12"/>
                      </a:lnTo>
                      <a:lnTo>
                        <a:pt x="120" y="12"/>
                      </a:lnTo>
                      <a:lnTo>
                        <a:pt x="110" y="16"/>
                      </a:lnTo>
                      <a:lnTo>
                        <a:pt x="100" y="27"/>
                      </a:lnTo>
                      <a:lnTo>
                        <a:pt x="88" y="43"/>
                      </a:lnTo>
                      <a:lnTo>
                        <a:pt x="82" y="60"/>
                      </a:lnTo>
                      <a:lnTo>
                        <a:pt x="74" y="82"/>
                      </a:lnTo>
                      <a:lnTo>
                        <a:pt x="68" y="113"/>
                      </a:lnTo>
                      <a:lnTo>
                        <a:pt x="52" y="105"/>
                      </a:lnTo>
                      <a:lnTo>
                        <a:pt x="39" y="105"/>
                      </a:lnTo>
                      <a:lnTo>
                        <a:pt x="28" y="105"/>
                      </a:lnTo>
                      <a:lnTo>
                        <a:pt x="17" y="109"/>
                      </a:lnTo>
                      <a:lnTo>
                        <a:pt x="10" y="117"/>
                      </a:lnTo>
                      <a:lnTo>
                        <a:pt x="4" y="128"/>
                      </a:lnTo>
                      <a:lnTo>
                        <a:pt x="1" y="143"/>
                      </a:lnTo>
                      <a:lnTo>
                        <a:pt x="0" y="157"/>
                      </a:lnTo>
                      <a:lnTo>
                        <a:pt x="4" y="176"/>
                      </a:lnTo>
                      <a:lnTo>
                        <a:pt x="9" y="196"/>
                      </a:lnTo>
                      <a:lnTo>
                        <a:pt x="10" y="200"/>
                      </a:lnTo>
                      <a:lnTo>
                        <a:pt x="10" y="20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204760" y="4433040"/>
                  <a:ext cx="115560" cy="113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0" y="0"/>
                      </a:moveTo>
                      <a:lnTo>
                        <a:pt x="1" y="9"/>
                      </a:lnTo>
                      <a:lnTo>
                        <a:pt x="3" y="19"/>
                      </a:lnTo>
                      <a:lnTo>
                        <a:pt x="7" y="27"/>
                      </a:lnTo>
                      <a:lnTo>
                        <a:pt x="10" y="35"/>
                      </a:lnTo>
                      <a:lnTo>
                        <a:pt x="16" y="44"/>
                      </a:lnTo>
                      <a:lnTo>
                        <a:pt x="22" y="50"/>
                      </a:lnTo>
                      <a:lnTo>
                        <a:pt x="29" y="57"/>
                      </a:lnTo>
                      <a:lnTo>
                        <a:pt x="37" y="62"/>
                      </a:lnTo>
                      <a:lnTo>
                        <a:pt x="46" y="66"/>
                      </a:lnTo>
                      <a:lnTo>
                        <a:pt x="55" y="69"/>
                      </a:lnTo>
                      <a:lnTo>
                        <a:pt x="64" y="71"/>
                      </a:lnTo>
                      <a:lnTo>
                        <a:pt x="72" y="7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344440" y="4428360"/>
                  <a:ext cx="232920" cy="118440"/>
                </a:xfrm>
                <a:custGeom>
                  <a:avLst/>
                  <a:gdLst/>
                  <a:ahLst/>
                  <a:rect l="l" t="t" r="r" b="b"/>
                  <a:pathLst>
                    <a:path w="147" h="75">
                      <a:moveTo>
                        <a:pt x="0" y="74"/>
                      </a:moveTo>
                      <a:lnTo>
                        <a:pt x="146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601840" y="4428360"/>
                  <a:ext cx="234360" cy="118440"/>
                </a:xfrm>
                <a:custGeom>
                  <a:avLst/>
                  <a:gdLst/>
                  <a:ahLst/>
                  <a:rect l="l" t="t" r="r" b="b"/>
                  <a:pathLst>
                    <a:path w="148" h="75">
                      <a:moveTo>
                        <a:pt x="0" y="74"/>
                      </a:moveTo>
                      <a:lnTo>
                        <a:pt x="147" y="74"/>
                      </a:lnTo>
                      <a:lnTo>
                        <a:pt x="72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862120" y="4433040"/>
                  <a:ext cx="115560" cy="113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0" y="71"/>
                      </a:moveTo>
                      <a:lnTo>
                        <a:pt x="10" y="71"/>
                      </a:lnTo>
                      <a:lnTo>
                        <a:pt x="20" y="68"/>
                      </a:lnTo>
                      <a:lnTo>
                        <a:pt x="28" y="64"/>
                      </a:lnTo>
                      <a:lnTo>
                        <a:pt x="36" y="61"/>
                      </a:lnTo>
                      <a:lnTo>
                        <a:pt x="44" y="55"/>
                      </a:lnTo>
                      <a:lnTo>
                        <a:pt x="52" y="49"/>
                      </a:lnTo>
                      <a:lnTo>
                        <a:pt x="57" y="42"/>
                      </a:lnTo>
                      <a:lnTo>
                        <a:pt x="62" y="34"/>
                      </a:lnTo>
                      <a:lnTo>
                        <a:pt x="66" y="25"/>
                      </a:lnTo>
                      <a:lnTo>
                        <a:pt x="70" y="17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0" y="71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214480" y="4299480"/>
                  <a:ext cx="23436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3"/>
                      </a:moveTo>
                      <a:lnTo>
                        <a:pt x="73" y="148"/>
                      </a:ln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471520" y="4299480"/>
                  <a:ext cx="23472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4"/>
                      </a:moveTo>
                      <a:lnTo>
                        <a:pt x="74" y="148"/>
                      </a:lnTo>
                      <a:lnTo>
                        <a:pt x="147" y="74"/>
                      </a:lnTo>
                      <a:lnTo>
                        <a:pt x="74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30360" y="4299480"/>
                  <a:ext cx="23436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0" y="74"/>
                      </a:moveTo>
                      <a:lnTo>
                        <a:pt x="73" y="148"/>
                      </a:lnTo>
                      <a:lnTo>
                        <a:pt x="147" y="74"/>
                      </a:lnTo>
                      <a:lnTo>
                        <a:pt x="73" y="0"/>
                      </a:lnTo>
                      <a:lnTo>
                        <a:pt x="0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204760" y="4174200"/>
                  <a:ext cx="112320" cy="22680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142"/>
                      </a:moveTo>
                      <a:lnTo>
                        <a:pt x="70" y="71"/>
                      </a:lnTo>
                      <a:lnTo>
                        <a:pt x="0" y="0"/>
                      </a:lnTo>
                      <a:lnTo>
                        <a:pt x="0" y="142"/>
                      </a:lnTo>
                      <a:lnTo>
                        <a:pt x="0" y="142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343000" y="4170960"/>
                  <a:ext cx="23436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74" y="148"/>
                      </a:moveTo>
                      <a:lnTo>
                        <a:pt x="0" y="74"/>
                      </a:lnTo>
                      <a:lnTo>
                        <a:pt x="74" y="0"/>
                      </a:lnTo>
                      <a:lnTo>
                        <a:pt x="147" y="73"/>
                      </a:lnTo>
                      <a:lnTo>
                        <a:pt x="74" y="148"/>
                      </a:lnTo>
                      <a:lnTo>
                        <a:pt x="74" y="148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601840" y="4170960"/>
                  <a:ext cx="234360" cy="236160"/>
                </a:xfrm>
                <a:custGeom>
                  <a:avLst/>
                  <a:gdLst/>
                  <a:ahLst/>
                  <a:rect l="l" t="t" r="r" b="b"/>
                  <a:pathLst>
                    <a:path w="148" h="149">
                      <a:moveTo>
                        <a:pt x="72" y="148"/>
                      </a:moveTo>
                      <a:lnTo>
                        <a:pt x="0" y="73"/>
                      </a:lnTo>
                      <a:lnTo>
                        <a:pt x="72" y="0"/>
                      </a:lnTo>
                      <a:lnTo>
                        <a:pt x="147" y="73"/>
                      </a:lnTo>
                      <a:lnTo>
                        <a:pt x="72" y="148"/>
                      </a:lnTo>
                      <a:lnTo>
                        <a:pt x="72" y="148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862120" y="4174200"/>
                  <a:ext cx="115560" cy="226800"/>
                </a:xfrm>
                <a:custGeom>
                  <a:avLst/>
                  <a:gdLst/>
                  <a:ahLst/>
                  <a:rect l="l" t="t" r="r" b="b"/>
                  <a:pathLst>
                    <a:path w="73" h="143">
                      <a:moveTo>
                        <a:pt x="72" y="142"/>
                      </a:moveTo>
                      <a:lnTo>
                        <a:pt x="0" y="71"/>
                      </a:lnTo>
                      <a:lnTo>
                        <a:pt x="72" y="0"/>
                      </a:lnTo>
                      <a:lnTo>
                        <a:pt x="72" y="142"/>
                      </a:lnTo>
                      <a:lnTo>
                        <a:pt x="72" y="142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201880" y="4145760"/>
                  <a:ext cx="260280" cy="131400"/>
                </a:xfrm>
                <a:custGeom>
                  <a:avLst/>
                  <a:gdLst/>
                  <a:ahLst/>
                  <a:rect l="l" t="t" r="r" b="b"/>
                  <a:pathLst>
                    <a:path w="164" h="83">
                      <a:moveTo>
                        <a:pt x="0" y="0"/>
                      </a:moveTo>
                      <a:lnTo>
                        <a:pt x="82" y="82"/>
                      </a:lnTo>
                      <a:lnTo>
                        <a:pt x="163" y="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460360" y="4147200"/>
                  <a:ext cx="258480" cy="129960"/>
                </a:xfrm>
                <a:custGeom>
                  <a:avLst/>
                  <a:gdLst/>
                  <a:ahLst/>
                  <a:rect l="l" t="t" r="r" b="b"/>
                  <a:pathLst>
                    <a:path w="163" h="82">
                      <a:moveTo>
                        <a:pt x="0" y="0"/>
                      </a:moveTo>
                      <a:lnTo>
                        <a:pt x="81" y="81"/>
                      </a:lnTo>
                      <a:lnTo>
                        <a:pt x="162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17760" y="4147200"/>
                  <a:ext cx="259920" cy="12996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0" y="0"/>
                      </a:moveTo>
                      <a:lnTo>
                        <a:pt x="81" y="81"/>
                      </a:lnTo>
                      <a:lnTo>
                        <a:pt x="16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c1c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204760" y="3671280"/>
                  <a:ext cx="772920" cy="453600"/>
                </a:xfrm>
                <a:custGeom>
                  <a:avLst/>
                  <a:gdLst/>
                  <a:ahLst/>
                  <a:rect l="l" t="t" r="r" b="b"/>
                  <a:pathLst>
                    <a:path w="487" h="286">
                      <a:moveTo>
                        <a:pt x="0" y="285"/>
                      </a:moveTo>
                      <a:lnTo>
                        <a:pt x="486" y="285"/>
                      </a:lnTo>
                      <a:lnTo>
                        <a:pt x="486" y="247"/>
                      </a:lnTo>
                      <a:lnTo>
                        <a:pt x="268" y="247"/>
                      </a:lnTo>
                      <a:lnTo>
                        <a:pt x="268" y="0"/>
                      </a:lnTo>
                      <a:lnTo>
                        <a:pt x="220" y="0"/>
                      </a:lnTo>
                      <a:lnTo>
                        <a:pt x="220" y="247"/>
                      </a:lnTo>
                      <a:lnTo>
                        <a:pt x="0" y="247"/>
                      </a:lnTo>
                      <a:lnTo>
                        <a:pt x="0" y="285"/>
                      </a:lnTo>
                      <a:lnTo>
                        <a:pt x="0" y="285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206560" y="3912120"/>
                  <a:ext cx="191520" cy="152280"/>
                </a:xfrm>
                <a:custGeom>
                  <a:avLst/>
                  <a:gdLst/>
                  <a:ahLst/>
                  <a:rect l="l" t="t" r="r" b="b"/>
                  <a:pathLst>
                    <a:path w="121" h="96">
                      <a:moveTo>
                        <a:pt x="8" y="95"/>
                      </a:moveTo>
                      <a:lnTo>
                        <a:pt x="5" y="83"/>
                      </a:lnTo>
                      <a:lnTo>
                        <a:pt x="1" y="66"/>
                      </a:lnTo>
                      <a:lnTo>
                        <a:pt x="0" y="50"/>
                      </a:lnTo>
                      <a:lnTo>
                        <a:pt x="0" y="35"/>
                      </a:lnTo>
                      <a:lnTo>
                        <a:pt x="3" y="25"/>
                      </a:lnTo>
                      <a:lnTo>
                        <a:pt x="8" y="15"/>
                      </a:lnTo>
                      <a:lnTo>
                        <a:pt x="13" y="9"/>
                      </a:lnTo>
                      <a:lnTo>
                        <a:pt x="19" y="3"/>
                      </a:lnTo>
                      <a:lnTo>
                        <a:pt x="28" y="0"/>
                      </a:lnTo>
                      <a:lnTo>
                        <a:pt x="39" y="0"/>
                      </a:lnTo>
                      <a:lnTo>
                        <a:pt x="56" y="5"/>
                      </a:lnTo>
                      <a:lnTo>
                        <a:pt x="74" y="15"/>
                      </a:lnTo>
                      <a:lnTo>
                        <a:pt x="90" y="27"/>
                      </a:lnTo>
                      <a:lnTo>
                        <a:pt x="103" y="38"/>
                      </a:lnTo>
                      <a:lnTo>
                        <a:pt x="113" y="49"/>
                      </a:lnTo>
                      <a:lnTo>
                        <a:pt x="12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363520" y="3923280"/>
                  <a:ext cx="196560" cy="141120"/>
                </a:xfrm>
                <a:custGeom>
                  <a:avLst/>
                  <a:gdLst/>
                  <a:ahLst/>
                  <a:rect l="l" t="t" r="r" b="b"/>
                  <a:pathLst>
                    <a:path w="124" h="89">
                      <a:moveTo>
                        <a:pt x="0" y="88"/>
                      </a:moveTo>
                      <a:lnTo>
                        <a:pt x="6" y="75"/>
                      </a:lnTo>
                      <a:lnTo>
                        <a:pt x="12" y="64"/>
                      </a:lnTo>
                      <a:lnTo>
                        <a:pt x="20" y="54"/>
                      </a:lnTo>
                      <a:lnTo>
                        <a:pt x="28" y="45"/>
                      </a:lnTo>
                      <a:lnTo>
                        <a:pt x="40" y="36"/>
                      </a:lnTo>
                      <a:lnTo>
                        <a:pt x="53" y="26"/>
                      </a:lnTo>
                      <a:lnTo>
                        <a:pt x="68" y="18"/>
                      </a:lnTo>
                      <a:lnTo>
                        <a:pt x="85" y="11"/>
                      </a:lnTo>
                      <a:lnTo>
                        <a:pt x="99" y="5"/>
                      </a:lnTo>
                      <a:lnTo>
                        <a:pt x="113" y="2"/>
                      </a:lnTo>
                      <a:lnTo>
                        <a:pt x="12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627040" y="3945600"/>
                  <a:ext cx="10800" cy="8064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2" y="0"/>
                      </a:moveTo>
                      <a:lnTo>
                        <a:pt x="4" y="6"/>
                      </a:lnTo>
                      <a:lnTo>
                        <a:pt x="6" y="10"/>
                      </a:lnTo>
                      <a:lnTo>
                        <a:pt x="6" y="16"/>
                      </a:lnTo>
                      <a:lnTo>
                        <a:pt x="6" y="25"/>
                      </a:lnTo>
                      <a:lnTo>
                        <a:pt x="6" y="32"/>
                      </a:lnTo>
                      <a:lnTo>
                        <a:pt x="4" y="41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312760" y="3764520"/>
                  <a:ext cx="169560" cy="16488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0" y="103"/>
                      </a:moveTo>
                      <a:lnTo>
                        <a:pt x="2" y="91"/>
                      </a:lnTo>
                      <a:lnTo>
                        <a:pt x="6" y="75"/>
                      </a:lnTo>
                      <a:lnTo>
                        <a:pt x="10" y="60"/>
                      </a:lnTo>
                      <a:lnTo>
                        <a:pt x="14" y="46"/>
                      </a:lnTo>
                      <a:lnTo>
                        <a:pt x="20" y="33"/>
                      </a:lnTo>
                      <a:lnTo>
                        <a:pt x="28" y="22"/>
                      </a:lnTo>
                      <a:lnTo>
                        <a:pt x="36" y="14"/>
                      </a:lnTo>
                      <a:lnTo>
                        <a:pt x="42" y="8"/>
                      </a:lnTo>
                      <a:lnTo>
                        <a:pt x="48" y="3"/>
                      </a:lnTo>
                      <a:lnTo>
                        <a:pt x="56" y="0"/>
                      </a:lnTo>
                      <a:lnTo>
                        <a:pt x="62" y="0"/>
                      </a:lnTo>
                      <a:lnTo>
                        <a:pt x="71" y="3"/>
                      </a:lnTo>
                      <a:lnTo>
                        <a:pt x="79" y="8"/>
                      </a:lnTo>
                      <a:lnTo>
                        <a:pt x="87" y="15"/>
                      </a:lnTo>
                      <a:lnTo>
                        <a:pt x="94" y="22"/>
                      </a:lnTo>
                      <a:lnTo>
                        <a:pt x="100" y="32"/>
                      </a:lnTo>
                      <a:lnTo>
                        <a:pt x="105" y="39"/>
                      </a:lnTo>
                      <a:lnTo>
                        <a:pt x="106" y="4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395200" y="3823200"/>
                  <a:ext cx="164880" cy="147600"/>
                </a:xfrm>
                <a:custGeom>
                  <a:avLst/>
                  <a:gdLst/>
                  <a:ahLst/>
                  <a:rect l="l" t="t" r="r" b="b"/>
                  <a:pathLst>
                    <a:path w="104" h="93">
                      <a:moveTo>
                        <a:pt x="28" y="92"/>
                      </a:moveTo>
                      <a:lnTo>
                        <a:pt x="19" y="85"/>
                      </a:lnTo>
                      <a:lnTo>
                        <a:pt x="13" y="78"/>
                      </a:lnTo>
                      <a:lnTo>
                        <a:pt x="7" y="71"/>
                      </a:lnTo>
                      <a:lnTo>
                        <a:pt x="4" y="64"/>
                      </a:lnTo>
                      <a:lnTo>
                        <a:pt x="0" y="56"/>
                      </a:lnTo>
                      <a:lnTo>
                        <a:pt x="0" y="53"/>
                      </a:lnTo>
                      <a:lnTo>
                        <a:pt x="0" y="46"/>
                      </a:lnTo>
                      <a:lnTo>
                        <a:pt x="2" y="38"/>
                      </a:lnTo>
                      <a:lnTo>
                        <a:pt x="8" y="29"/>
                      </a:lnTo>
                      <a:lnTo>
                        <a:pt x="16" y="21"/>
                      </a:lnTo>
                      <a:lnTo>
                        <a:pt x="26" y="16"/>
                      </a:lnTo>
                      <a:lnTo>
                        <a:pt x="40" y="9"/>
                      </a:lnTo>
                      <a:lnTo>
                        <a:pt x="54" y="5"/>
                      </a:lnTo>
                      <a:lnTo>
                        <a:pt x="66" y="3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1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620920" y="3831480"/>
                  <a:ext cx="93240" cy="190080"/>
                </a:xfrm>
                <a:custGeom>
                  <a:avLst/>
                  <a:gdLst/>
                  <a:ahLst/>
                  <a:rect l="l" t="t" r="r" b="b"/>
                  <a:pathLst>
                    <a:path w="59" h="120">
                      <a:moveTo>
                        <a:pt x="6" y="0"/>
                      </a:moveTo>
                      <a:lnTo>
                        <a:pt x="14" y="4"/>
                      </a:lnTo>
                      <a:lnTo>
                        <a:pt x="24" y="8"/>
                      </a:lnTo>
                      <a:lnTo>
                        <a:pt x="34" y="16"/>
                      </a:lnTo>
                      <a:lnTo>
                        <a:pt x="43" y="23"/>
                      </a:lnTo>
                      <a:lnTo>
                        <a:pt x="48" y="30"/>
                      </a:lnTo>
                      <a:lnTo>
                        <a:pt x="52" y="38"/>
                      </a:lnTo>
                      <a:lnTo>
                        <a:pt x="54" y="44"/>
                      </a:lnTo>
                      <a:lnTo>
                        <a:pt x="57" y="53"/>
                      </a:lnTo>
                      <a:lnTo>
                        <a:pt x="58" y="59"/>
                      </a:lnTo>
                      <a:lnTo>
                        <a:pt x="58" y="64"/>
                      </a:lnTo>
                      <a:lnTo>
                        <a:pt x="57" y="75"/>
                      </a:lnTo>
                      <a:lnTo>
                        <a:pt x="54" y="82"/>
                      </a:lnTo>
                      <a:lnTo>
                        <a:pt x="48" y="92"/>
                      </a:lnTo>
                      <a:lnTo>
                        <a:pt x="42" y="100"/>
                      </a:lnTo>
                      <a:lnTo>
                        <a:pt x="34" y="106"/>
                      </a:lnTo>
                      <a:lnTo>
                        <a:pt x="24" y="111"/>
                      </a:lnTo>
                      <a:lnTo>
                        <a:pt x="17" y="115"/>
                      </a:lnTo>
                      <a:lnTo>
                        <a:pt x="8" y="119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665200" y="4007520"/>
                  <a:ext cx="66240" cy="522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3" y="12"/>
                      </a:lnTo>
                      <a:lnTo>
                        <a:pt x="32" y="20"/>
                      </a:lnTo>
                      <a:lnTo>
                        <a:pt x="39" y="28"/>
                      </a:lnTo>
                      <a:lnTo>
                        <a:pt x="41" y="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730360" y="3875760"/>
                  <a:ext cx="245520" cy="188640"/>
                </a:xfrm>
                <a:custGeom>
                  <a:avLst/>
                  <a:gdLst/>
                  <a:ahLst/>
                  <a:rect l="l" t="t" r="r" b="b"/>
                  <a:pathLst>
                    <a:path w="155" h="119">
                      <a:moveTo>
                        <a:pt x="0" y="114"/>
                      </a:moveTo>
                      <a:lnTo>
                        <a:pt x="2" y="101"/>
                      </a:lnTo>
                      <a:lnTo>
                        <a:pt x="9" y="84"/>
                      </a:lnTo>
                      <a:lnTo>
                        <a:pt x="19" y="68"/>
                      </a:lnTo>
                      <a:lnTo>
                        <a:pt x="29" y="55"/>
                      </a:lnTo>
                      <a:lnTo>
                        <a:pt x="42" y="42"/>
                      </a:lnTo>
                      <a:lnTo>
                        <a:pt x="55" y="31"/>
                      </a:lnTo>
                      <a:lnTo>
                        <a:pt x="67" y="23"/>
                      </a:lnTo>
                      <a:lnTo>
                        <a:pt x="77" y="15"/>
                      </a:lnTo>
                      <a:lnTo>
                        <a:pt x="91" y="8"/>
                      </a:lnTo>
                      <a:lnTo>
                        <a:pt x="102" y="4"/>
                      </a:lnTo>
                      <a:lnTo>
                        <a:pt x="113" y="1"/>
                      </a:lnTo>
                      <a:lnTo>
                        <a:pt x="122" y="0"/>
                      </a:lnTo>
                      <a:lnTo>
                        <a:pt x="133" y="1"/>
                      </a:lnTo>
                      <a:lnTo>
                        <a:pt x="141" y="5"/>
                      </a:lnTo>
                      <a:lnTo>
                        <a:pt x="147" y="12"/>
                      </a:lnTo>
                      <a:lnTo>
                        <a:pt x="151" y="20"/>
                      </a:lnTo>
                      <a:lnTo>
                        <a:pt x="153" y="29"/>
                      </a:lnTo>
                      <a:lnTo>
                        <a:pt x="154" y="40"/>
                      </a:lnTo>
                      <a:lnTo>
                        <a:pt x="154" y="50"/>
                      </a:lnTo>
                      <a:lnTo>
                        <a:pt x="152" y="62"/>
                      </a:lnTo>
                      <a:lnTo>
                        <a:pt x="150" y="74"/>
                      </a:lnTo>
                      <a:lnTo>
                        <a:pt x="145" y="87"/>
                      </a:lnTo>
                      <a:lnTo>
                        <a:pt x="139" y="101"/>
                      </a:lnTo>
                      <a:lnTo>
                        <a:pt x="135" y="111"/>
                      </a:lnTo>
                      <a:lnTo>
                        <a:pt x="130" y="1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652600" y="3813840"/>
                  <a:ext cx="61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18">
                      <a:moveTo>
                        <a:pt x="0" y="17"/>
                      </a:moveTo>
                      <a:lnTo>
                        <a:pt x="8" y="10"/>
                      </a:lnTo>
                      <a:lnTo>
                        <a:pt x="17" y="4"/>
                      </a:lnTo>
                      <a:lnTo>
                        <a:pt x="26" y="1"/>
                      </a:lnTo>
                      <a:lnTo>
                        <a:pt x="34" y="0"/>
                      </a:lnTo>
                      <a:lnTo>
                        <a:pt x="38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711280" y="3748680"/>
                  <a:ext cx="196560" cy="253800"/>
                </a:xfrm>
                <a:custGeom>
                  <a:avLst/>
                  <a:gdLst/>
                  <a:ahLst/>
                  <a:rect l="l" t="t" r="r" b="b"/>
                  <a:pathLst>
                    <a:path w="124" h="160">
                      <a:moveTo>
                        <a:pt x="22" y="159"/>
                      </a:moveTo>
                      <a:lnTo>
                        <a:pt x="17" y="149"/>
                      </a:lnTo>
                      <a:lnTo>
                        <a:pt x="11" y="134"/>
                      </a:lnTo>
                      <a:lnTo>
                        <a:pt x="7" y="116"/>
                      </a:lnTo>
                      <a:lnTo>
                        <a:pt x="3" y="100"/>
                      </a:lnTo>
                      <a:lnTo>
                        <a:pt x="1" y="85"/>
                      </a:lnTo>
                      <a:lnTo>
                        <a:pt x="0" y="70"/>
                      </a:lnTo>
                      <a:lnTo>
                        <a:pt x="0" y="58"/>
                      </a:lnTo>
                      <a:lnTo>
                        <a:pt x="1" y="46"/>
                      </a:lnTo>
                      <a:lnTo>
                        <a:pt x="3" y="35"/>
                      </a:lnTo>
                      <a:lnTo>
                        <a:pt x="7" y="24"/>
                      </a:lnTo>
                      <a:lnTo>
                        <a:pt x="11" y="15"/>
                      </a:lnTo>
                      <a:lnTo>
                        <a:pt x="17" y="8"/>
                      </a:lnTo>
                      <a:lnTo>
                        <a:pt x="22" y="4"/>
                      </a:lnTo>
                      <a:lnTo>
                        <a:pt x="29" y="1"/>
                      </a:lnTo>
                      <a:lnTo>
                        <a:pt x="36" y="0"/>
                      </a:lnTo>
                      <a:lnTo>
                        <a:pt x="47" y="2"/>
                      </a:lnTo>
                      <a:lnTo>
                        <a:pt x="58" y="6"/>
                      </a:lnTo>
                      <a:lnTo>
                        <a:pt x="66" y="10"/>
                      </a:lnTo>
                      <a:lnTo>
                        <a:pt x="77" y="18"/>
                      </a:lnTo>
                      <a:lnTo>
                        <a:pt x="85" y="25"/>
                      </a:lnTo>
                      <a:lnTo>
                        <a:pt x="94" y="37"/>
                      </a:lnTo>
                      <a:lnTo>
                        <a:pt x="104" y="49"/>
                      </a:lnTo>
                      <a:lnTo>
                        <a:pt x="111" y="60"/>
                      </a:lnTo>
                      <a:lnTo>
                        <a:pt x="117" y="70"/>
                      </a:lnTo>
                      <a:lnTo>
                        <a:pt x="121" y="78"/>
                      </a:lnTo>
                      <a:lnTo>
                        <a:pt x="123" y="8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8" name=""/>
          <p:cNvGrpSpPr/>
          <p:nvPr/>
        </p:nvGrpSpPr>
        <p:grpSpPr>
          <a:xfrm>
            <a:off x="0" y="4127400"/>
            <a:ext cx="5624280" cy="3508560"/>
            <a:chOff x="0" y="4127400"/>
            <a:chExt cx="5624280" cy="3508560"/>
          </a:xfrm>
        </p:grpSpPr>
        <p:sp>
          <p:nvSpPr>
            <p:cNvPr id="929" name=""/>
            <p:cNvSpPr/>
            <p:nvPr/>
          </p:nvSpPr>
          <p:spPr>
            <a:xfrm>
              <a:off x="0" y="4127400"/>
              <a:ext cx="5624280" cy="3508560"/>
            </a:xfrm>
            <a:prstGeom prst="ellipse">
              <a:avLst/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8100000"/>
            </a:gradFill>
            <a:ln w="19080">
              <a:solidFill>
                <a:srgbClr val="ffbf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2811240" y="6083280"/>
              <a:ext cx="1738440" cy="1365120"/>
              <a:chOff x="2811240" y="6083280"/>
              <a:chExt cx="1738440" cy="1365120"/>
            </a:xfrm>
          </p:grpSpPr>
          <p:sp>
            <p:nvSpPr>
              <p:cNvPr id="931" name=""/>
              <p:cNvSpPr/>
              <p:nvPr/>
            </p:nvSpPr>
            <p:spPr>
              <a:xfrm>
                <a:off x="2811240" y="6083280"/>
                <a:ext cx="1738440" cy="136512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3046320" y="6276960"/>
                <a:ext cx="1217520" cy="907920"/>
                <a:chOff x="3046320" y="6276960"/>
                <a:chExt cx="1217520" cy="9079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983040" y="6384960"/>
                  <a:ext cx="280800" cy="682560"/>
                </a:xfrm>
                <a:custGeom>
                  <a:avLst/>
                  <a:gdLst/>
                  <a:ahLst/>
                  <a:rect l="l" t="t" r="r" b="b"/>
                  <a:pathLst>
                    <a:path w="177" h="430">
                      <a:moveTo>
                        <a:pt x="0" y="429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429"/>
                      </a:lnTo>
                      <a:lnTo>
                        <a:pt x="0" y="429"/>
                      </a:lnTo>
                      <a:lnTo>
                        <a:pt x="0" y="429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046320" y="6764400"/>
                  <a:ext cx="893880" cy="317520"/>
                </a:xfrm>
                <a:custGeom>
                  <a:avLst/>
                  <a:gdLst/>
                  <a:ahLst/>
                  <a:rect l="l" t="t" r="r" b="b"/>
                  <a:pathLst>
                    <a:path w="563" h="200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3" y="101"/>
                      </a:lnTo>
                      <a:lnTo>
                        <a:pt x="53" y="163"/>
                      </a:lnTo>
                      <a:lnTo>
                        <a:pt x="107" y="163"/>
                      </a:lnTo>
                      <a:lnTo>
                        <a:pt x="134" y="199"/>
                      </a:lnTo>
                      <a:lnTo>
                        <a:pt x="367" y="199"/>
                      </a:lnTo>
                      <a:lnTo>
                        <a:pt x="390" y="128"/>
                      </a:lnTo>
                      <a:lnTo>
                        <a:pt x="458" y="105"/>
                      </a:lnTo>
                      <a:lnTo>
                        <a:pt x="510" y="140"/>
                      </a:lnTo>
                      <a:lnTo>
                        <a:pt x="510" y="199"/>
                      </a:lnTo>
                      <a:lnTo>
                        <a:pt x="562" y="199"/>
                      </a:lnTo>
                      <a:lnTo>
                        <a:pt x="562" y="0"/>
                      </a:lnTo>
                      <a:lnTo>
                        <a:pt x="390" y="0"/>
                      </a:lnTo>
                      <a:lnTo>
                        <a:pt x="324" y="58"/>
                      </a:lnTo>
                      <a:lnTo>
                        <a:pt x="308" y="58"/>
                      </a:lnTo>
                      <a:lnTo>
                        <a:pt x="308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659040" y="6940440"/>
                  <a:ext cx="195480" cy="19368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22" y="62"/>
                      </a:moveTo>
                      <a:lnTo>
                        <a:pt x="122" y="54"/>
                      </a:lnTo>
                      <a:lnTo>
                        <a:pt x="122" y="48"/>
                      </a:lnTo>
                      <a:lnTo>
                        <a:pt x="120" y="42"/>
                      </a:lnTo>
                      <a:lnTo>
                        <a:pt x="118" y="36"/>
                      </a:lnTo>
                      <a:lnTo>
                        <a:pt x="115" y="31"/>
                      </a:lnTo>
                      <a:lnTo>
                        <a:pt x="111" y="25"/>
                      </a:lnTo>
                      <a:lnTo>
                        <a:pt x="107" y="20"/>
                      </a:lnTo>
                      <a:lnTo>
                        <a:pt x="103" y="16"/>
                      </a:lnTo>
                      <a:lnTo>
                        <a:pt x="98" y="12"/>
                      </a:lnTo>
                      <a:lnTo>
                        <a:pt x="93" y="8"/>
                      </a:lnTo>
                      <a:lnTo>
                        <a:pt x="87" y="5"/>
                      </a:lnTo>
                      <a:lnTo>
                        <a:pt x="81" y="3"/>
                      </a:lnTo>
                      <a:lnTo>
                        <a:pt x="75" y="1"/>
                      </a:lnTo>
                      <a:lnTo>
                        <a:pt x="69" y="0"/>
                      </a:lnTo>
                      <a:lnTo>
                        <a:pt x="63" y="0"/>
                      </a:lnTo>
                      <a:lnTo>
                        <a:pt x="56" y="0"/>
                      </a:lnTo>
                      <a:lnTo>
                        <a:pt x="50" y="1"/>
                      </a:lnTo>
                      <a:lnTo>
                        <a:pt x="44" y="2"/>
                      </a:lnTo>
                      <a:lnTo>
                        <a:pt x="38" y="4"/>
                      </a:lnTo>
                      <a:lnTo>
                        <a:pt x="32" y="7"/>
                      </a:lnTo>
                      <a:lnTo>
                        <a:pt x="26" y="10"/>
                      </a:lnTo>
                      <a:lnTo>
                        <a:pt x="22" y="13"/>
                      </a:lnTo>
                      <a:lnTo>
                        <a:pt x="17" y="18"/>
                      </a:lnTo>
                      <a:lnTo>
                        <a:pt x="13" y="24"/>
                      </a:lnTo>
                      <a:lnTo>
                        <a:pt x="10" y="28"/>
                      </a:lnTo>
                      <a:lnTo>
                        <a:pt x="6" y="34"/>
                      </a:lnTo>
                      <a:lnTo>
                        <a:pt x="4" y="40"/>
                      </a:lnTo>
                      <a:lnTo>
                        <a:pt x="2" y="46"/>
                      </a:lnTo>
                      <a:lnTo>
                        <a:pt x="1" y="52"/>
                      </a:lnTo>
                      <a:lnTo>
                        <a:pt x="0" y="58"/>
                      </a:lnTo>
                      <a:lnTo>
                        <a:pt x="0" y="64"/>
                      </a:lnTo>
                      <a:lnTo>
                        <a:pt x="1" y="72"/>
                      </a:lnTo>
                      <a:lnTo>
                        <a:pt x="2" y="77"/>
                      </a:lnTo>
                      <a:lnTo>
                        <a:pt x="4" y="83"/>
                      </a:lnTo>
                      <a:lnTo>
                        <a:pt x="6" y="89"/>
                      </a:lnTo>
                      <a:lnTo>
                        <a:pt x="10" y="94"/>
                      </a:lnTo>
                      <a:lnTo>
                        <a:pt x="14" y="100"/>
                      </a:lnTo>
                      <a:lnTo>
                        <a:pt x="18" y="104"/>
                      </a:lnTo>
                      <a:lnTo>
                        <a:pt x="23" y="108"/>
                      </a:lnTo>
                      <a:lnTo>
                        <a:pt x="28" y="112"/>
                      </a:lnTo>
                      <a:lnTo>
                        <a:pt x="34" y="115"/>
                      </a:lnTo>
                      <a:lnTo>
                        <a:pt x="39" y="118"/>
                      </a:lnTo>
                      <a:lnTo>
                        <a:pt x="44" y="120"/>
                      </a:lnTo>
                      <a:lnTo>
                        <a:pt x="51" y="121"/>
                      </a:lnTo>
                      <a:lnTo>
                        <a:pt x="58" y="121"/>
                      </a:lnTo>
                      <a:lnTo>
                        <a:pt x="64" y="121"/>
                      </a:lnTo>
                      <a:lnTo>
                        <a:pt x="71" y="121"/>
                      </a:lnTo>
                      <a:lnTo>
                        <a:pt x="77" y="120"/>
                      </a:lnTo>
                      <a:lnTo>
                        <a:pt x="82" y="119"/>
                      </a:lnTo>
                      <a:lnTo>
                        <a:pt x="88" y="116"/>
                      </a:lnTo>
                      <a:lnTo>
                        <a:pt x="94" y="112"/>
                      </a:lnTo>
                      <a:lnTo>
                        <a:pt x="99" y="109"/>
                      </a:lnTo>
                      <a:lnTo>
                        <a:pt x="104" y="105"/>
                      </a:lnTo>
                      <a:lnTo>
                        <a:pt x="108" y="101"/>
                      </a:lnTo>
                      <a:lnTo>
                        <a:pt x="112" y="96"/>
                      </a:lnTo>
                      <a:lnTo>
                        <a:pt x="116" y="90"/>
                      </a:lnTo>
                      <a:lnTo>
                        <a:pt x="118" y="84"/>
                      </a:lnTo>
                      <a:lnTo>
                        <a:pt x="121" y="78"/>
                      </a:lnTo>
                      <a:lnTo>
                        <a:pt x="122" y="72"/>
                      </a:lnTo>
                      <a:lnTo>
                        <a:pt x="122" y="66"/>
                      </a:lnTo>
                      <a:lnTo>
                        <a:pt x="122" y="62"/>
                      </a:lnTo>
                      <a:lnTo>
                        <a:pt x="122" y="62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108240" y="7024680"/>
                  <a:ext cx="114120" cy="1144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71" y="35"/>
                      </a:moveTo>
                      <a:lnTo>
                        <a:pt x="71" y="31"/>
                      </a:lnTo>
                      <a:lnTo>
                        <a:pt x="69" y="26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48" y="2"/>
                      </a:lnTo>
                      <a:lnTo>
                        <a:pt x="43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0" y="4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8" y="13"/>
                      </a:lnTo>
                      <a:lnTo>
                        <a:pt x="5" y="16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40"/>
                      </a:lnTo>
                      <a:lnTo>
                        <a:pt x="1" y="44"/>
                      </a:lnTo>
                      <a:lnTo>
                        <a:pt x="3" y="49"/>
                      </a:lnTo>
                      <a:lnTo>
                        <a:pt x="5" y="53"/>
                      </a:lnTo>
                      <a:lnTo>
                        <a:pt x="7" y="57"/>
                      </a:lnTo>
                      <a:lnTo>
                        <a:pt x="10" y="60"/>
                      </a:lnTo>
                      <a:lnTo>
                        <a:pt x="14" y="64"/>
                      </a:lnTo>
                      <a:lnTo>
                        <a:pt x="18" y="67"/>
                      </a:lnTo>
                      <a:lnTo>
                        <a:pt x="22" y="68"/>
                      </a:lnTo>
                      <a:lnTo>
                        <a:pt x="27" y="70"/>
                      </a:lnTo>
                      <a:lnTo>
                        <a:pt x="31" y="71"/>
                      </a:lnTo>
                      <a:lnTo>
                        <a:pt x="37" y="71"/>
                      </a:lnTo>
                      <a:lnTo>
                        <a:pt x="41" y="71"/>
                      </a:lnTo>
                      <a:lnTo>
                        <a:pt x="47" y="69"/>
                      </a:lnTo>
                      <a:lnTo>
                        <a:pt x="51" y="68"/>
                      </a:lnTo>
                      <a:lnTo>
                        <a:pt x="55" y="66"/>
                      </a:lnTo>
                      <a:lnTo>
                        <a:pt x="59" y="62"/>
                      </a:lnTo>
                      <a:lnTo>
                        <a:pt x="63" y="59"/>
                      </a:lnTo>
                      <a:lnTo>
                        <a:pt x="65" y="55"/>
                      </a:lnTo>
                      <a:lnTo>
                        <a:pt x="67" y="51"/>
                      </a:lnTo>
                      <a:lnTo>
                        <a:pt x="69" y="47"/>
                      </a:lnTo>
                      <a:lnTo>
                        <a:pt x="71" y="42"/>
                      </a:lnTo>
                      <a:lnTo>
                        <a:pt x="71" y="37"/>
                      </a:lnTo>
                      <a:lnTo>
                        <a:pt x="71" y="35"/>
                      </a:lnTo>
                      <a:lnTo>
                        <a:pt x="71" y="35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046320" y="6762600"/>
                  <a:ext cx="490680" cy="319320"/>
                </a:xfrm>
                <a:custGeom>
                  <a:avLst/>
                  <a:gdLst/>
                  <a:ahLst/>
                  <a:rect l="l" t="t" r="r" b="b"/>
                  <a:pathLst>
                    <a:path w="309" h="201">
                      <a:moveTo>
                        <a:pt x="0" y="102"/>
                      </a:moveTo>
                      <a:lnTo>
                        <a:pt x="0" y="0"/>
                      </a:lnTo>
                      <a:lnTo>
                        <a:pt x="308" y="0"/>
                      </a:lnTo>
                      <a:lnTo>
                        <a:pt x="308" y="200"/>
                      </a:lnTo>
                      <a:lnTo>
                        <a:pt x="173" y="200"/>
                      </a:lnTo>
                      <a:lnTo>
                        <a:pt x="173" y="190"/>
                      </a:lnTo>
                      <a:lnTo>
                        <a:pt x="171" y="180"/>
                      </a:lnTo>
                      <a:lnTo>
                        <a:pt x="168" y="170"/>
                      </a:lnTo>
                      <a:lnTo>
                        <a:pt x="165" y="160"/>
                      </a:lnTo>
                      <a:lnTo>
                        <a:pt x="160" y="152"/>
                      </a:lnTo>
                      <a:lnTo>
                        <a:pt x="155" y="143"/>
                      </a:lnTo>
                      <a:lnTo>
                        <a:pt x="148" y="135"/>
                      </a:lnTo>
                      <a:lnTo>
                        <a:pt x="141" y="128"/>
                      </a:lnTo>
                      <a:lnTo>
                        <a:pt x="134" y="121"/>
                      </a:lnTo>
                      <a:lnTo>
                        <a:pt x="125" y="116"/>
                      </a:lnTo>
                      <a:lnTo>
                        <a:pt x="116" y="111"/>
                      </a:lnTo>
                      <a:lnTo>
                        <a:pt x="106" y="107"/>
                      </a:lnTo>
                      <a:lnTo>
                        <a:pt x="97" y="105"/>
                      </a:lnTo>
                      <a:lnTo>
                        <a:pt x="87" y="103"/>
                      </a:lnTo>
                      <a:lnTo>
                        <a:pt x="82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321000" y="7080120"/>
                  <a:ext cx="272880" cy="36720"/>
                </a:xfrm>
                <a:custGeom>
                  <a:avLst/>
                  <a:gdLst/>
                  <a:ahLst/>
                  <a:rect l="l" t="t" r="r" b="b"/>
                  <a:pathLst>
                    <a:path w="172" h="23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171" y="22"/>
                      </a:lnTo>
                      <a:lnTo>
                        <a:pt x="17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884400" y="6276960"/>
                  <a:ext cx="39960" cy="566640"/>
                </a:xfrm>
                <a:custGeom>
                  <a:avLst/>
                  <a:gdLst/>
                  <a:ahLst/>
                  <a:rect l="l" t="t" r="r" b="b"/>
                  <a:pathLst>
                    <a:path w="25" h="357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24" y="356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22560" y="6762600"/>
                  <a:ext cx="306360" cy="354240"/>
                </a:xfrm>
                <a:custGeom>
                  <a:avLst/>
                  <a:gdLst/>
                  <a:ahLst/>
                  <a:rect l="l" t="t" r="r" b="b"/>
                  <a:pathLst>
                    <a:path w="193" h="223">
                      <a:moveTo>
                        <a:pt x="24" y="0"/>
                      </a:moveTo>
                      <a:lnTo>
                        <a:pt x="24" y="200"/>
                      </a:lnTo>
                      <a:lnTo>
                        <a:pt x="192" y="200"/>
                      </a:lnTo>
                      <a:lnTo>
                        <a:pt x="192" y="222"/>
                      </a:lnTo>
                      <a:lnTo>
                        <a:pt x="0" y="222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535200" y="6686640"/>
                  <a:ext cx="217440" cy="171360"/>
                </a:xfrm>
                <a:custGeom>
                  <a:avLst/>
                  <a:gdLst/>
                  <a:ahLst/>
                  <a:rect l="l" t="t" r="r" b="b"/>
                  <a:pathLst>
                    <a:path w="137" h="108">
                      <a:moveTo>
                        <a:pt x="0" y="107"/>
                      </a:moveTo>
                      <a:lnTo>
                        <a:pt x="116" y="0"/>
                      </a:lnTo>
                      <a:lnTo>
                        <a:pt x="136" y="48"/>
                      </a:lnTo>
                      <a:lnTo>
                        <a:pt x="100" y="48"/>
                      </a:lnTo>
                      <a:lnTo>
                        <a:pt x="10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693960" y="6762600"/>
                  <a:ext cx="192240" cy="81000"/>
                </a:xfrm>
                <a:custGeom>
                  <a:avLst/>
                  <a:gdLst/>
                  <a:ahLst/>
                  <a:rect l="l" t="t" r="r" b="b"/>
                  <a:pathLst>
                    <a:path w="121" h="51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20" y="0"/>
                      </a:lnTo>
                      <a:lnTo>
                        <a:pt x="120" y="50"/>
                      </a:lnTo>
                      <a:lnTo>
                        <a:pt x="0" y="50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214440" y="6278400"/>
                  <a:ext cx="614520" cy="565200"/>
                </a:xfrm>
                <a:custGeom>
                  <a:avLst/>
                  <a:gdLst/>
                  <a:ahLst/>
                  <a:rect l="l" t="t" r="r" b="b"/>
                  <a:pathLst>
                    <a:path w="387" h="356">
                      <a:moveTo>
                        <a:pt x="0" y="305"/>
                      </a:moveTo>
                      <a:lnTo>
                        <a:pt x="0" y="30"/>
                      </a:lnTo>
                      <a:lnTo>
                        <a:pt x="2" y="23"/>
                      </a:lnTo>
                      <a:lnTo>
                        <a:pt x="8" y="14"/>
                      </a:lnTo>
                      <a:lnTo>
                        <a:pt x="12" y="9"/>
                      </a:lnTo>
                      <a:lnTo>
                        <a:pt x="18" y="4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212" y="0"/>
                      </a:lnTo>
                      <a:lnTo>
                        <a:pt x="224" y="2"/>
                      </a:lnTo>
                      <a:lnTo>
                        <a:pt x="234" y="7"/>
                      </a:lnTo>
                      <a:lnTo>
                        <a:pt x="242" y="14"/>
                      </a:lnTo>
                      <a:lnTo>
                        <a:pt x="245" y="21"/>
                      </a:lnTo>
                      <a:lnTo>
                        <a:pt x="386" y="355"/>
                      </a:lnTo>
                      <a:lnTo>
                        <a:pt x="360" y="355"/>
                      </a:lnTo>
                      <a:lnTo>
                        <a:pt x="222" y="30"/>
                      </a:lnTo>
                      <a:lnTo>
                        <a:pt x="218" y="25"/>
                      </a:lnTo>
                      <a:lnTo>
                        <a:pt x="216" y="24"/>
                      </a:lnTo>
                      <a:lnTo>
                        <a:pt x="211" y="23"/>
                      </a:lnTo>
                      <a:lnTo>
                        <a:pt x="36" y="23"/>
                      </a:lnTo>
                      <a:lnTo>
                        <a:pt x="31" y="25"/>
                      </a:lnTo>
                      <a:lnTo>
                        <a:pt x="26" y="29"/>
                      </a:lnTo>
                      <a:lnTo>
                        <a:pt x="26" y="32"/>
                      </a:lnTo>
                      <a:lnTo>
                        <a:pt x="26" y="39"/>
                      </a:lnTo>
                      <a:lnTo>
                        <a:pt x="26" y="305"/>
                      </a:lnTo>
                      <a:lnTo>
                        <a:pt x="0" y="305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35200" y="6599160"/>
                  <a:ext cx="65160" cy="6372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5" y="38"/>
                      </a:moveTo>
                      <a:lnTo>
                        <a:pt x="4" y="39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0" y="1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5" y="38"/>
                      </a:lnTo>
                      <a:lnTo>
                        <a:pt x="5" y="3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570120" y="6634080"/>
                  <a:ext cx="100080" cy="103320"/>
                </a:xfrm>
                <a:custGeom>
                  <a:avLst/>
                  <a:gdLst/>
                  <a:ahLst/>
                  <a:rect l="l" t="t" r="r" b="b"/>
                  <a:pathLst>
                    <a:path w="63" h="65">
                      <a:moveTo>
                        <a:pt x="62" y="62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59" y="64"/>
                      </a:lnTo>
                      <a:lnTo>
                        <a:pt x="62" y="62"/>
                      </a:lnTo>
                      <a:lnTo>
                        <a:pt x="62" y="6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351240" y="6462720"/>
                  <a:ext cx="307800" cy="318960"/>
                </a:xfrm>
                <a:custGeom>
                  <a:avLst/>
                  <a:gdLst/>
                  <a:ahLst/>
                  <a:rect l="l" t="t" r="r" b="b"/>
                  <a:pathLst>
                    <a:path w="194" h="201">
                      <a:moveTo>
                        <a:pt x="66" y="21"/>
                      </a:moveTo>
                      <a:lnTo>
                        <a:pt x="68" y="33"/>
                      </a:lnTo>
                      <a:lnTo>
                        <a:pt x="66" y="33"/>
                      </a:lnTo>
                      <a:lnTo>
                        <a:pt x="63" y="49"/>
                      </a:lnTo>
                      <a:lnTo>
                        <a:pt x="61" y="50"/>
                      </a:lnTo>
                      <a:lnTo>
                        <a:pt x="52" y="51"/>
                      </a:lnTo>
                      <a:lnTo>
                        <a:pt x="52" y="55"/>
                      </a:lnTo>
                      <a:lnTo>
                        <a:pt x="58" y="60"/>
                      </a:lnTo>
                      <a:lnTo>
                        <a:pt x="58" y="67"/>
                      </a:lnTo>
                      <a:lnTo>
                        <a:pt x="82" y="87"/>
                      </a:lnTo>
                      <a:lnTo>
                        <a:pt x="126" y="99"/>
                      </a:lnTo>
                      <a:lnTo>
                        <a:pt x="141" y="99"/>
                      </a:lnTo>
                      <a:lnTo>
                        <a:pt x="145" y="105"/>
                      </a:lnTo>
                      <a:lnTo>
                        <a:pt x="138" y="113"/>
                      </a:lnTo>
                      <a:lnTo>
                        <a:pt x="128" y="113"/>
                      </a:lnTo>
                      <a:lnTo>
                        <a:pt x="120" y="110"/>
                      </a:lnTo>
                      <a:lnTo>
                        <a:pt x="114" y="113"/>
                      </a:lnTo>
                      <a:lnTo>
                        <a:pt x="103" y="113"/>
                      </a:lnTo>
                      <a:lnTo>
                        <a:pt x="68" y="106"/>
                      </a:lnTo>
                      <a:lnTo>
                        <a:pt x="65" y="130"/>
                      </a:lnTo>
                      <a:lnTo>
                        <a:pt x="118" y="146"/>
                      </a:lnTo>
                      <a:lnTo>
                        <a:pt x="167" y="179"/>
                      </a:lnTo>
                      <a:lnTo>
                        <a:pt x="187" y="174"/>
                      </a:lnTo>
                      <a:lnTo>
                        <a:pt x="193" y="177"/>
                      </a:lnTo>
                      <a:lnTo>
                        <a:pt x="169" y="200"/>
                      </a:lnTo>
                      <a:lnTo>
                        <a:pt x="159" y="191"/>
                      </a:lnTo>
                      <a:lnTo>
                        <a:pt x="109" y="171"/>
                      </a:lnTo>
                      <a:lnTo>
                        <a:pt x="114" y="178"/>
                      </a:lnTo>
                      <a:lnTo>
                        <a:pt x="116" y="183"/>
                      </a:lnTo>
                      <a:lnTo>
                        <a:pt x="116" y="189"/>
                      </a:lnTo>
                      <a:lnTo>
                        <a:pt x="0" y="189"/>
                      </a:lnTo>
                      <a:lnTo>
                        <a:pt x="0" y="87"/>
                      </a:lnTo>
                      <a:lnTo>
                        <a:pt x="19" y="87"/>
                      </a:lnTo>
                      <a:lnTo>
                        <a:pt x="23" y="67"/>
                      </a:lnTo>
                      <a:lnTo>
                        <a:pt x="28" y="55"/>
                      </a:lnTo>
                      <a:lnTo>
                        <a:pt x="32" y="46"/>
                      </a:lnTo>
                      <a:lnTo>
                        <a:pt x="34" y="47"/>
                      </a:lnTo>
                      <a:lnTo>
                        <a:pt x="34" y="42"/>
                      </a:lnTo>
                      <a:lnTo>
                        <a:pt x="32" y="33"/>
                      </a:lnTo>
                      <a:lnTo>
                        <a:pt x="31" y="23"/>
                      </a:lnTo>
                      <a:lnTo>
                        <a:pt x="32" y="13"/>
                      </a:lnTo>
                      <a:lnTo>
                        <a:pt x="35" y="5"/>
                      </a:lnTo>
                      <a:lnTo>
                        <a:pt x="41" y="1"/>
                      </a:lnTo>
                      <a:lnTo>
                        <a:pt x="48" y="0"/>
                      </a:lnTo>
                      <a:lnTo>
                        <a:pt x="56" y="0"/>
                      </a:lnTo>
                      <a:lnTo>
                        <a:pt x="61" y="2"/>
                      </a:lnTo>
                      <a:lnTo>
                        <a:pt x="63" y="8"/>
                      </a:lnTo>
                      <a:lnTo>
                        <a:pt x="66" y="17"/>
                      </a:lnTo>
                      <a:lnTo>
                        <a:pt x="78" y="21"/>
                      </a:lnTo>
                      <a:lnTo>
                        <a:pt x="66" y="21"/>
                      </a:lnTo>
                      <a:lnTo>
                        <a:pt x="66" y="21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535200" y="6842160"/>
                  <a:ext cx="389160" cy="239760"/>
                </a:xfrm>
                <a:custGeom>
                  <a:avLst/>
                  <a:gdLst/>
                  <a:ahLst/>
                  <a:rect l="l" t="t" r="r" b="b"/>
                  <a:pathLst>
                    <a:path w="245" h="151">
                      <a:moveTo>
                        <a:pt x="0" y="150"/>
                      </a:moveTo>
                      <a:lnTo>
                        <a:pt x="66" y="0"/>
                      </a:lnTo>
                      <a:lnTo>
                        <a:pt x="244" y="0"/>
                      </a:lnTo>
                      <a:lnTo>
                        <a:pt x="244" y="9"/>
                      </a:lnTo>
                      <a:lnTo>
                        <a:pt x="73" y="9"/>
                      </a:lnTo>
                      <a:lnTo>
                        <a:pt x="10" y="150"/>
                      </a:lnTo>
                      <a:lnTo>
                        <a:pt x="0" y="150"/>
                      </a:lnTo>
                      <a:lnTo>
                        <a:pt x="0" y="15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983040" y="6837480"/>
                  <a:ext cx="280800" cy="231480"/>
                </a:xfrm>
                <a:custGeom>
                  <a:avLst/>
                  <a:gdLst/>
                  <a:ahLst/>
                  <a:rect l="l" t="t" r="r" b="b"/>
                  <a:pathLst>
                    <a:path w="177" h="146"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5"/>
                      </a:lnTo>
                      <a:lnTo>
                        <a:pt x="0" y="145"/>
                      </a:lnTo>
                      <a:lnTo>
                        <a:pt x="0" y="1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983040" y="6610320"/>
                  <a:ext cx="280800" cy="228600"/>
                </a:xfrm>
                <a:custGeom>
                  <a:avLst/>
                  <a:gdLst/>
                  <a:ahLst/>
                  <a:rect l="l" t="t" r="r" b="b"/>
                  <a:pathLst>
                    <a:path w="177" h="144">
                      <a:moveTo>
                        <a:pt x="0" y="143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983040" y="6384960"/>
                  <a:ext cx="280800" cy="228600"/>
                </a:xfrm>
                <a:custGeom>
                  <a:avLst/>
                  <a:gdLst/>
                  <a:ahLst/>
                  <a:rect l="l" t="t" r="r" b="b"/>
                  <a:pathLst>
                    <a:path w="177" h="144">
                      <a:moveTo>
                        <a:pt x="0" y="143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060720" y="6973920"/>
                  <a:ext cx="108000" cy="210960"/>
                </a:xfrm>
                <a:custGeom>
                  <a:avLst/>
                  <a:gdLst/>
                  <a:ahLst/>
                  <a:rect l="l" t="t" r="r" b="b"/>
                  <a:pathLst>
                    <a:path w="68" h="133">
                      <a:moveTo>
                        <a:pt x="67" y="36"/>
                      </a:moveTo>
                      <a:lnTo>
                        <a:pt x="61" y="36"/>
                      </a:lnTo>
                      <a:lnTo>
                        <a:pt x="56" y="37"/>
                      </a:lnTo>
                      <a:lnTo>
                        <a:pt x="51" y="41"/>
                      </a:lnTo>
                      <a:lnTo>
                        <a:pt x="47" y="43"/>
                      </a:lnTo>
                      <a:lnTo>
                        <a:pt x="43" y="47"/>
                      </a:lnTo>
                      <a:lnTo>
                        <a:pt x="39" y="52"/>
                      </a:lnTo>
                      <a:lnTo>
                        <a:pt x="37" y="57"/>
                      </a:lnTo>
                      <a:lnTo>
                        <a:pt x="36" y="62"/>
                      </a:lnTo>
                      <a:lnTo>
                        <a:pt x="35" y="67"/>
                      </a:lnTo>
                      <a:lnTo>
                        <a:pt x="36" y="73"/>
                      </a:lnTo>
                      <a:lnTo>
                        <a:pt x="37" y="78"/>
                      </a:lnTo>
                      <a:lnTo>
                        <a:pt x="40" y="83"/>
                      </a:lnTo>
                      <a:lnTo>
                        <a:pt x="43" y="87"/>
                      </a:lnTo>
                      <a:lnTo>
                        <a:pt x="47" y="91"/>
                      </a:lnTo>
                      <a:lnTo>
                        <a:pt x="52" y="93"/>
                      </a:lnTo>
                      <a:lnTo>
                        <a:pt x="57" y="96"/>
                      </a:lnTo>
                      <a:lnTo>
                        <a:pt x="63" y="98"/>
                      </a:lnTo>
                      <a:lnTo>
                        <a:pt x="67" y="98"/>
                      </a:lnTo>
                      <a:lnTo>
                        <a:pt x="67" y="132"/>
                      </a:lnTo>
                      <a:lnTo>
                        <a:pt x="61" y="132"/>
                      </a:lnTo>
                      <a:lnTo>
                        <a:pt x="53" y="132"/>
                      </a:lnTo>
                      <a:lnTo>
                        <a:pt x="45" y="129"/>
                      </a:lnTo>
                      <a:lnTo>
                        <a:pt x="38" y="126"/>
                      </a:lnTo>
                      <a:lnTo>
                        <a:pt x="31" y="122"/>
                      </a:lnTo>
                      <a:lnTo>
                        <a:pt x="24" y="118"/>
                      </a:lnTo>
                      <a:lnTo>
                        <a:pt x="18" y="111"/>
                      </a:lnTo>
                      <a:lnTo>
                        <a:pt x="13" y="106"/>
                      </a:lnTo>
                      <a:lnTo>
                        <a:pt x="9" y="99"/>
                      </a:lnTo>
                      <a:lnTo>
                        <a:pt x="5" y="91"/>
                      </a:lnTo>
                      <a:lnTo>
                        <a:pt x="3" y="83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1" y="52"/>
                      </a:lnTo>
                      <a:lnTo>
                        <a:pt x="4" y="43"/>
                      </a:lnTo>
                      <a:lnTo>
                        <a:pt x="7" y="37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9" y="13"/>
                      </a:lnTo>
                      <a:lnTo>
                        <a:pt x="35" y="8"/>
                      </a:lnTo>
                      <a:lnTo>
                        <a:pt x="43" y="5"/>
                      </a:lnTo>
                      <a:lnTo>
                        <a:pt x="50" y="3"/>
                      </a:lnTo>
                      <a:lnTo>
                        <a:pt x="59" y="1"/>
                      </a:lnTo>
                      <a:lnTo>
                        <a:pt x="67" y="0"/>
                      </a:lnTo>
                      <a:lnTo>
                        <a:pt x="67" y="36"/>
                      </a:lnTo>
                      <a:lnTo>
                        <a:pt x="67" y="3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165480" y="6973920"/>
                  <a:ext cx="106200" cy="210960"/>
                </a:xfrm>
                <a:custGeom>
                  <a:avLst/>
                  <a:gdLst/>
                  <a:ahLst/>
                  <a:rect l="l" t="t" r="r" b="b"/>
                  <a:pathLst>
                    <a:path w="67" h="133">
                      <a:moveTo>
                        <a:pt x="0" y="36"/>
                      </a:moveTo>
                      <a:lnTo>
                        <a:pt x="5" y="36"/>
                      </a:lnTo>
                      <a:lnTo>
                        <a:pt x="11" y="37"/>
                      </a:lnTo>
                      <a:lnTo>
                        <a:pt x="16" y="41"/>
                      </a:lnTo>
                      <a:lnTo>
                        <a:pt x="21" y="43"/>
                      </a:lnTo>
                      <a:lnTo>
                        <a:pt x="24" y="47"/>
                      </a:lnTo>
                      <a:lnTo>
                        <a:pt x="29" y="52"/>
                      </a:lnTo>
                      <a:lnTo>
                        <a:pt x="30" y="57"/>
                      </a:lnTo>
                      <a:lnTo>
                        <a:pt x="31" y="62"/>
                      </a:lnTo>
                      <a:lnTo>
                        <a:pt x="31" y="67"/>
                      </a:lnTo>
                      <a:lnTo>
                        <a:pt x="31" y="73"/>
                      </a:lnTo>
                      <a:lnTo>
                        <a:pt x="29" y="78"/>
                      </a:lnTo>
                      <a:lnTo>
                        <a:pt x="27" y="83"/>
                      </a:lnTo>
                      <a:lnTo>
                        <a:pt x="23" y="87"/>
                      </a:lnTo>
                      <a:lnTo>
                        <a:pt x="19" y="91"/>
                      </a:lnTo>
                      <a:lnTo>
                        <a:pt x="15" y="93"/>
                      </a:lnTo>
                      <a:lnTo>
                        <a:pt x="9" y="96"/>
                      </a:lnTo>
                      <a:lnTo>
                        <a:pt x="4" y="98"/>
                      </a:lnTo>
                      <a:lnTo>
                        <a:pt x="0" y="98"/>
                      </a:lnTo>
                      <a:lnTo>
                        <a:pt x="0" y="132"/>
                      </a:lnTo>
                      <a:lnTo>
                        <a:pt x="5" y="132"/>
                      </a:lnTo>
                      <a:lnTo>
                        <a:pt x="14" y="132"/>
                      </a:lnTo>
                      <a:lnTo>
                        <a:pt x="21" y="129"/>
                      </a:lnTo>
                      <a:lnTo>
                        <a:pt x="29" y="126"/>
                      </a:lnTo>
                      <a:lnTo>
                        <a:pt x="36" y="122"/>
                      </a:lnTo>
                      <a:lnTo>
                        <a:pt x="43" y="118"/>
                      </a:lnTo>
                      <a:lnTo>
                        <a:pt x="49" y="111"/>
                      </a:lnTo>
                      <a:lnTo>
                        <a:pt x="54" y="106"/>
                      </a:lnTo>
                      <a:lnTo>
                        <a:pt x="57" y="99"/>
                      </a:lnTo>
                      <a:lnTo>
                        <a:pt x="62" y="91"/>
                      </a:lnTo>
                      <a:lnTo>
                        <a:pt x="64" y="83"/>
                      </a:lnTo>
                      <a:lnTo>
                        <a:pt x="65" y="76"/>
                      </a:lnTo>
                      <a:lnTo>
                        <a:pt x="66" y="68"/>
                      </a:lnTo>
                      <a:lnTo>
                        <a:pt x="66" y="60"/>
                      </a:lnTo>
                      <a:lnTo>
                        <a:pt x="65" y="52"/>
                      </a:lnTo>
                      <a:lnTo>
                        <a:pt x="63" y="43"/>
                      </a:lnTo>
                      <a:lnTo>
                        <a:pt x="60" y="37"/>
                      </a:lnTo>
                      <a:lnTo>
                        <a:pt x="55" y="30"/>
                      </a:lnTo>
                      <a:lnTo>
                        <a:pt x="50" y="23"/>
                      </a:lnTo>
                      <a:lnTo>
                        <a:pt x="45" y="17"/>
                      </a:lnTo>
                      <a:lnTo>
                        <a:pt x="39" y="13"/>
                      </a:lnTo>
                      <a:lnTo>
                        <a:pt x="31" y="8"/>
                      </a:lnTo>
                      <a:lnTo>
                        <a:pt x="24" y="5"/>
                      </a:lnTo>
                      <a:lnTo>
                        <a:pt x="16" y="3"/>
                      </a:lnTo>
                      <a:lnTo>
                        <a:pt x="9" y="1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612960" y="6892920"/>
                  <a:ext cx="146160" cy="289080"/>
                </a:xfrm>
                <a:custGeom>
                  <a:avLst/>
                  <a:gdLst/>
                  <a:ahLst/>
                  <a:rect l="l" t="t" r="r" b="b"/>
                  <a:pathLst>
                    <a:path w="92" h="182">
                      <a:moveTo>
                        <a:pt x="91" y="40"/>
                      </a:moveTo>
                      <a:lnTo>
                        <a:pt x="84" y="40"/>
                      </a:lnTo>
                      <a:lnTo>
                        <a:pt x="76" y="42"/>
                      </a:lnTo>
                      <a:lnTo>
                        <a:pt x="70" y="45"/>
                      </a:lnTo>
                      <a:lnTo>
                        <a:pt x="64" y="48"/>
                      </a:lnTo>
                      <a:lnTo>
                        <a:pt x="59" y="52"/>
                      </a:lnTo>
                      <a:lnTo>
                        <a:pt x="53" y="57"/>
                      </a:lnTo>
                      <a:lnTo>
                        <a:pt x="49" y="63"/>
                      </a:lnTo>
                      <a:lnTo>
                        <a:pt x="45" y="68"/>
                      </a:lnTo>
                      <a:lnTo>
                        <a:pt x="42" y="75"/>
                      </a:lnTo>
                      <a:lnTo>
                        <a:pt x="40" y="82"/>
                      </a:lnTo>
                      <a:lnTo>
                        <a:pt x="40" y="89"/>
                      </a:lnTo>
                      <a:lnTo>
                        <a:pt x="40" y="96"/>
                      </a:lnTo>
                      <a:lnTo>
                        <a:pt x="41" y="103"/>
                      </a:lnTo>
                      <a:lnTo>
                        <a:pt x="43" y="110"/>
                      </a:lnTo>
                      <a:lnTo>
                        <a:pt x="46" y="117"/>
                      </a:lnTo>
                      <a:lnTo>
                        <a:pt x="51" y="122"/>
                      </a:lnTo>
                      <a:lnTo>
                        <a:pt x="55" y="128"/>
                      </a:lnTo>
                      <a:lnTo>
                        <a:pt x="61" y="133"/>
                      </a:lnTo>
                      <a:lnTo>
                        <a:pt x="67" y="136"/>
                      </a:lnTo>
                      <a:lnTo>
                        <a:pt x="73" y="139"/>
                      </a:lnTo>
                      <a:lnTo>
                        <a:pt x="80" y="141"/>
                      </a:lnTo>
                      <a:lnTo>
                        <a:pt x="87" y="142"/>
                      </a:lnTo>
                      <a:lnTo>
                        <a:pt x="91" y="142"/>
                      </a:lnTo>
                      <a:lnTo>
                        <a:pt x="91" y="181"/>
                      </a:lnTo>
                      <a:lnTo>
                        <a:pt x="89" y="181"/>
                      </a:lnTo>
                      <a:lnTo>
                        <a:pt x="80" y="181"/>
                      </a:lnTo>
                      <a:lnTo>
                        <a:pt x="70" y="179"/>
                      </a:lnTo>
                      <a:lnTo>
                        <a:pt x="62" y="177"/>
                      </a:lnTo>
                      <a:lnTo>
                        <a:pt x="53" y="173"/>
                      </a:lnTo>
                      <a:lnTo>
                        <a:pt x="44" y="170"/>
                      </a:lnTo>
                      <a:lnTo>
                        <a:pt x="36" y="164"/>
                      </a:lnTo>
                      <a:lnTo>
                        <a:pt x="29" y="158"/>
                      </a:lnTo>
                      <a:lnTo>
                        <a:pt x="22" y="151"/>
                      </a:lnTo>
                      <a:lnTo>
                        <a:pt x="15" y="143"/>
                      </a:lnTo>
                      <a:lnTo>
                        <a:pt x="11" y="136"/>
                      </a:lnTo>
                      <a:lnTo>
                        <a:pt x="7" y="127"/>
                      </a:lnTo>
                      <a:lnTo>
                        <a:pt x="4" y="118"/>
                      </a:lnTo>
                      <a:lnTo>
                        <a:pt x="1" y="110"/>
                      </a:lnTo>
                      <a:lnTo>
                        <a:pt x="0" y="100"/>
                      </a:lnTo>
                      <a:lnTo>
                        <a:pt x="0" y="91"/>
                      </a:lnTo>
                      <a:lnTo>
                        <a:pt x="0" y="82"/>
                      </a:lnTo>
                      <a:lnTo>
                        <a:pt x="2" y="72"/>
                      </a:lnTo>
                      <a:lnTo>
                        <a:pt x="4" y="63"/>
                      </a:lnTo>
                      <a:lnTo>
                        <a:pt x="7" y="54"/>
                      </a:lnTo>
                      <a:lnTo>
                        <a:pt x="12" y="45"/>
                      </a:lnTo>
                      <a:lnTo>
                        <a:pt x="17" y="38"/>
                      </a:lnTo>
                      <a:lnTo>
                        <a:pt x="24" y="30"/>
                      </a:lnTo>
                      <a:lnTo>
                        <a:pt x="30" y="24"/>
                      </a:lnTo>
                      <a:lnTo>
                        <a:pt x="37" y="17"/>
                      </a:lnTo>
                      <a:lnTo>
                        <a:pt x="46" y="13"/>
                      </a:lnTo>
                      <a:lnTo>
                        <a:pt x="54" y="8"/>
                      </a:lnTo>
                      <a:lnTo>
                        <a:pt x="63" y="5"/>
                      </a:lnTo>
                      <a:lnTo>
                        <a:pt x="73" y="3"/>
                      </a:lnTo>
                      <a:lnTo>
                        <a:pt x="82" y="2"/>
                      </a:lnTo>
                      <a:lnTo>
                        <a:pt x="91" y="0"/>
                      </a:lnTo>
                      <a:lnTo>
                        <a:pt x="91" y="40"/>
                      </a:lnTo>
                      <a:lnTo>
                        <a:pt x="91" y="4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754440" y="6892920"/>
                  <a:ext cx="145800" cy="289080"/>
                </a:xfrm>
                <a:custGeom>
                  <a:avLst/>
                  <a:gdLst/>
                  <a:ahLst/>
                  <a:rect l="l" t="t" r="r" b="b"/>
                  <a:pathLst>
                    <a:path w="92" h="182">
                      <a:moveTo>
                        <a:pt x="0" y="40"/>
                      </a:moveTo>
                      <a:lnTo>
                        <a:pt x="7" y="40"/>
                      </a:lnTo>
                      <a:lnTo>
                        <a:pt x="14" y="42"/>
                      </a:lnTo>
                      <a:lnTo>
                        <a:pt x="21" y="45"/>
                      </a:lnTo>
                      <a:lnTo>
                        <a:pt x="27" y="47"/>
                      </a:lnTo>
                      <a:lnTo>
                        <a:pt x="33" y="51"/>
                      </a:lnTo>
                      <a:lnTo>
                        <a:pt x="38" y="56"/>
                      </a:lnTo>
                      <a:lnTo>
                        <a:pt x="42" y="62"/>
                      </a:lnTo>
                      <a:lnTo>
                        <a:pt x="46" y="68"/>
                      </a:lnTo>
                      <a:lnTo>
                        <a:pt x="49" y="75"/>
                      </a:lnTo>
                      <a:lnTo>
                        <a:pt x="51" y="82"/>
                      </a:lnTo>
                      <a:lnTo>
                        <a:pt x="51" y="88"/>
                      </a:lnTo>
                      <a:lnTo>
                        <a:pt x="51" y="96"/>
                      </a:lnTo>
                      <a:lnTo>
                        <a:pt x="50" y="103"/>
                      </a:lnTo>
                      <a:lnTo>
                        <a:pt x="48" y="110"/>
                      </a:lnTo>
                      <a:lnTo>
                        <a:pt x="45" y="117"/>
                      </a:lnTo>
                      <a:lnTo>
                        <a:pt x="41" y="121"/>
                      </a:lnTo>
                      <a:lnTo>
                        <a:pt x="37" y="127"/>
                      </a:lnTo>
                      <a:lnTo>
                        <a:pt x="31" y="132"/>
                      </a:lnTo>
                      <a:lnTo>
                        <a:pt x="25" y="135"/>
                      </a:lnTo>
                      <a:lnTo>
                        <a:pt x="19" y="138"/>
                      </a:lnTo>
                      <a:lnTo>
                        <a:pt x="12" y="141"/>
                      </a:lnTo>
                      <a:lnTo>
                        <a:pt x="4" y="142"/>
                      </a:lnTo>
                      <a:lnTo>
                        <a:pt x="0" y="142"/>
                      </a:lnTo>
                      <a:lnTo>
                        <a:pt x="0" y="181"/>
                      </a:lnTo>
                      <a:lnTo>
                        <a:pt x="2" y="181"/>
                      </a:lnTo>
                      <a:lnTo>
                        <a:pt x="11" y="181"/>
                      </a:lnTo>
                      <a:lnTo>
                        <a:pt x="21" y="179"/>
                      </a:lnTo>
                      <a:lnTo>
                        <a:pt x="30" y="177"/>
                      </a:lnTo>
                      <a:lnTo>
                        <a:pt x="39" y="173"/>
                      </a:lnTo>
                      <a:lnTo>
                        <a:pt x="47" y="170"/>
                      </a:lnTo>
                      <a:lnTo>
                        <a:pt x="55" y="163"/>
                      </a:lnTo>
                      <a:lnTo>
                        <a:pt x="62" y="158"/>
                      </a:lnTo>
                      <a:lnTo>
                        <a:pt x="69" y="151"/>
                      </a:lnTo>
                      <a:lnTo>
                        <a:pt x="75" y="143"/>
                      </a:lnTo>
                      <a:lnTo>
                        <a:pt x="80" y="135"/>
                      </a:lnTo>
                      <a:lnTo>
                        <a:pt x="84" y="127"/>
                      </a:lnTo>
                      <a:lnTo>
                        <a:pt x="88" y="118"/>
                      </a:lnTo>
                      <a:lnTo>
                        <a:pt x="90" y="109"/>
                      </a:lnTo>
                      <a:lnTo>
                        <a:pt x="91" y="99"/>
                      </a:lnTo>
                      <a:lnTo>
                        <a:pt x="91" y="90"/>
                      </a:lnTo>
                      <a:lnTo>
                        <a:pt x="91" y="81"/>
                      </a:lnTo>
                      <a:lnTo>
                        <a:pt x="90" y="72"/>
                      </a:lnTo>
                      <a:lnTo>
                        <a:pt x="87" y="63"/>
                      </a:lnTo>
                      <a:lnTo>
                        <a:pt x="84" y="54"/>
                      </a:lnTo>
                      <a:lnTo>
                        <a:pt x="79" y="45"/>
                      </a:lnTo>
                      <a:lnTo>
                        <a:pt x="74" y="37"/>
                      </a:lnTo>
                      <a:lnTo>
                        <a:pt x="68" y="30"/>
                      </a:lnTo>
                      <a:lnTo>
                        <a:pt x="61" y="23"/>
                      </a:lnTo>
                      <a:lnTo>
                        <a:pt x="54" y="17"/>
                      </a:lnTo>
                      <a:lnTo>
                        <a:pt x="46" y="12"/>
                      </a:lnTo>
                      <a:lnTo>
                        <a:pt x="37" y="8"/>
                      </a:lnTo>
                      <a:lnTo>
                        <a:pt x="28" y="5"/>
                      </a:lnTo>
                      <a:lnTo>
                        <a:pt x="20" y="2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130560" y="6926400"/>
                  <a:ext cx="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68440" y="7080120"/>
                  <a:ext cx="35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890880" y="7080120"/>
                  <a:ext cx="3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2030400" y="4410000"/>
              <a:ext cx="1739880" cy="1363680"/>
              <a:chOff x="2030400" y="4410000"/>
              <a:chExt cx="1739880" cy="1363680"/>
            </a:xfrm>
          </p:grpSpPr>
          <p:sp>
            <p:nvSpPr>
              <p:cNvPr id="959" name=""/>
              <p:cNvSpPr/>
              <p:nvPr/>
            </p:nvSpPr>
            <p:spPr>
              <a:xfrm>
                <a:off x="2030400" y="4410000"/>
                <a:ext cx="1739880" cy="136368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"/>
              <p:cNvGrpSpPr/>
              <p:nvPr/>
            </p:nvGrpSpPr>
            <p:grpSpPr>
              <a:xfrm>
                <a:off x="2314440" y="4638600"/>
                <a:ext cx="1216080" cy="906480"/>
                <a:chOff x="2314440" y="4638600"/>
                <a:chExt cx="1216080" cy="90648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3249360" y="4746600"/>
                  <a:ext cx="281160" cy="681120"/>
                </a:xfrm>
                <a:custGeom>
                  <a:avLst/>
                  <a:gdLst/>
                  <a:ahLst/>
                  <a:rect l="l" t="t" r="r" b="b"/>
                  <a:pathLst>
                    <a:path w="177" h="429">
                      <a:moveTo>
                        <a:pt x="0" y="428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428"/>
                      </a:lnTo>
                      <a:lnTo>
                        <a:pt x="0" y="428"/>
                      </a:lnTo>
                      <a:lnTo>
                        <a:pt x="0" y="428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314440" y="5124600"/>
                  <a:ext cx="892080" cy="318960"/>
                </a:xfrm>
                <a:custGeom>
                  <a:avLst/>
                  <a:gdLst/>
                  <a:ahLst/>
                  <a:rect l="l" t="t" r="r" b="b"/>
                  <a:pathLst>
                    <a:path w="562" h="201">
                      <a:moveTo>
                        <a:pt x="0" y="0"/>
                      </a:moveTo>
                      <a:lnTo>
                        <a:pt x="0" y="101"/>
                      </a:lnTo>
                      <a:lnTo>
                        <a:pt x="52" y="101"/>
                      </a:lnTo>
                      <a:lnTo>
                        <a:pt x="52" y="163"/>
                      </a:lnTo>
                      <a:lnTo>
                        <a:pt x="107" y="163"/>
                      </a:lnTo>
                      <a:lnTo>
                        <a:pt x="133" y="200"/>
                      </a:lnTo>
                      <a:lnTo>
                        <a:pt x="366" y="200"/>
                      </a:lnTo>
                      <a:lnTo>
                        <a:pt x="389" y="128"/>
                      </a:lnTo>
                      <a:lnTo>
                        <a:pt x="457" y="105"/>
                      </a:lnTo>
                      <a:lnTo>
                        <a:pt x="510" y="140"/>
                      </a:lnTo>
                      <a:lnTo>
                        <a:pt x="510" y="200"/>
                      </a:lnTo>
                      <a:lnTo>
                        <a:pt x="561" y="200"/>
                      </a:lnTo>
                      <a:lnTo>
                        <a:pt x="561" y="0"/>
                      </a:lnTo>
                      <a:lnTo>
                        <a:pt x="389" y="0"/>
                      </a:lnTo>
                      <a:lnTo>
                        <a:pt x="323" y="58"/>
                      </a:lnTo>
                      <a:lnTo>
                        <a:pt x="307" y="58"/>
                      </a:lnTo>
                      <a:lnTo>
                        <a:pt x="30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925720" y="5300640"/>
                  <a:ext cx="196920" cy="195120"/>
                </a:xfrm>
                <a:custGeom>
                  <a:avLst/>
                  <a:gdLst/>
                  <a:ahLst/>
                  <a:rect l="l" t="t" r="r" b="b"/>
                  <a:pathLst>
                    <a:path w="124" h="123">
                      <a:moveTo>
                        <a:pt x="123" y="62"/>
                      </a:moveTo>
                      <a:lnTo>
                        <a:pt x="123" y="55"/>
                      </a:lnTo>
                      <a:lnTo>
                        <a:pt x="122" y="49"/>
                      </a:lnTo>
                      <a:lnTo>
                        <a:pt x="120" y="42"/>
                      </a:lnTo>
                      <a:lnTo>
                        <a:pt x="118" y="37"/>
                      </a:lnTo>
                      <a:lnTo>
                        <a:pt x="115" y="31"/>
                      </a:lnTo>
                      <a:lnTo>
                        <a:pt x="112" y="25"/>
                      </a:lnTo>
                      <a:lnTo>
                        <a:pt x="107" y="20"/>
                      </a:lnTo>
                      <a:lnTo>
                        <a:pt x="104" y="16"/>
                      </a:lnTo>
                      <a:lnTo>
                        <a:pt x="98" y="12"/>
                      </a:lnTo>
                      <a:lnTo>
                        <a:pt x="94" y="9"/>
                      </a:lnTo>
                      <a:lnTo>
                        <a:pt x="87" y="5"/>
                      </a:lnTo>
                      <a:lnTo>
                        <a:pt x="82" y="3"/>
                      </a:lnTo>
                      <a:lnTo>
                        <a:pt x="75" y="1"/>
                      </a:lnTo>
                      <a:lnTo>
                        <a:pt x="69" y="1"/>
                      </a:lnTo>
                      <a:lnTo>
                        <a:pt x="63" y="0"/>
                      </a:ln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4" y="3"/>
                      </a:lnTo>
                      <a:lnTo>
                        <a:pt x="38" y="4"/>
                      </a:lnTo>
                      <a:lnTo>
                        <a:pt x="32" y="7"/>
                      </a:lnTo>
                      <a:lnTo>
                        <a:pt x="27" y="11"/>
                      </a:lnTo>
                      <a:lnTo>
                        <a:pt x="22" y="14"/>
                      </a:lnTo>
                      <a:lnTo>
                        <a:pt x="17" y="19"/>
                      </a:lnTo>
                      <a:lnTo>
                        <a:pt x="13" y="24"/>
                      </a:lnTo>
                      <a:lnTo>
                        <a:pt x="10" y="29"/>
                      </a:lnTo>
                      <a:lnTo>
                        <a:pt x="6" y="34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1" y="52"/>
                      </a:lnTo>
                      <a:lnTo>
                        <a:pt x="0" y="59"/>
                      </a:lnTo>
                      <a:lnTo>
                        <a:pt x="0" y="64"/>
                      </a:lnTo>
                      <a:lnTo>
                        <a:pt x="1" y="72"/>
                      </a:lnTo>
                      <a:lnTo>
                        <a:pt x="2" y="77"/>
                      </a:lnTo>
                      <a:lnTo>
                        <a:pt x="4" y="83"/>
                      </a:lnTo>
                      <a:lnTo>
                        <a:pt x="7" y="89"/>
                      </a:lnTo>
                      <a:lnTo>
                        <a:pt x="10" y="94"/>
                      </a:lnTo>
                      <a:lnTo>
                        <a:pt x="14" y="100"/>
                      </a:lnTo>
                      <a:lnTo>
                        <a:pt x="18" y="105"/>
                      </a:lnTo>
                      <a:lnTo>
                        <a:pt x="23" y="109"/>
                      </a:lnTo>
                      <a:lnTo>
                        <a:pt x="28" y="112"/>
                      </a:lnTo>
                      <a:lnTo>
                        <a:pt x="34" y="115"/>
                      </a:lnTo>
                      <a:lnTo>
                        <a:pt x="39" y="118"/>
                      </a:lnTo>
                      <a:lnTo>
                        <a:pt x="45" y="120"/>
                      </a:lnTo>
                      <a:lnTo>
                        <a:pt x="51" y="122"/>
                      </a:lnTo>
                      <a:lnTo>
                        <a:pt x="58" y="122"/>
                      </a:lnTo>
                      <a:lnTo>
                        <a:pt x="64" y="122"/>
                      </a:lnTo>
                      <a:lnTo>
                        <a:pt x="71" y="122"/>
                      </a:lnTo>
                      <a:lnTo>
                        <a:pt x="77" y="120"/>
                      </a:lnTo>
                      <a:lnTo>
                        <a:pt x="83" y="119"/>
                      </a:lnTo>
                      <a:lnTo>
                        <a:pt x="88" y="116"/>
                      </a:lnTo>
                      <a:lnTo>
                        <a:pt x="94" y="113"/>
                      </a:lnTo>
                      <a:lnTo>
                        <a:pt x="99" y="109"/>
                      </a:lnTo>
                      <a:lnTo>
                        <a:pt x="104" y="105"/>
                      </a:lnTo>
                      <a:lnTo>
                        <a:pt x="108" y="101"/>
                      </a:lnTo>
                      <a:lnTo>
                        <a:pt x="113" y="96"/>
                      </a:lnTo>
                      <a:lnTo>
                        <a:pt x="116" y="91"/>
                      </a:lnTo>
                      <a:lnTo>
                        <a:pt x="118" y="85"/>
                      </a:lnTo>
                      <a:lnTo>
                        <a:pt x="121" y="79"/>
                      </a:lnTo>
                      <a:lnTo>
                        <a:pt x="123" y="72"/>
                      </a:lnTo>
                      <a:lnTo>
                        <a:pt x="123" y="67"/>
                      </a:lnTo>
                      <a:lnTo>
                        <a:pt x="123" y="62"/>
                      </a:lnTo>
                      <a:lnTo>
                        <a:pt x="123" y="62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374920" y="5384880"/>
                  <a:ext cx="115920" cy="115920"/>
                </a:xfrm>
                <a:custGeom>
                  <a:avLst/>
                  <a:gdLst/>
                  <a:ahLst/>
                  <a:rect l="l" t="t" r="r" b="b"/>
                  <a:pathLst>
                    <a:path w="73" h="73">
                      <a:moveTo>
                        <a:pt x="72" y="36"/>
                      </a:moveTo>
                      <a:lnTo>
                        <a:pt x="71" y="31"/>
                      </a:lnTo>
                      <a:lnTo>
                        <a:pt x="70" y="26"/>
                      </a:lnTo>
                      <a:lnTo>
                        <a:pt x="69" y="22"/>
                      </a:lnTo>
                      <a:lnTo>
                        <a:pt x="66" y="17"/>
                      </a:lnTo>
                      <a:lnTo>
                        <a:pt x="64" y="14"/>
                      </a:lnTo>
                      <a:lnTo>
                        <a:pt x="61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48" y="2"/>
                      </a:lnTo>
                      <a:lnTo>
                        <a:pt x="43" y="1"/>
                      </a:lnTo>
                      <a:lnTo>
                        <a:pt x="39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0" y="4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9" y="13"/>
                      </a:lnTo>
                      <a:lnTo>
                        <a:pt x="5" y="16"/>
                      </a:lnTo>
                      <a:lnTo>
                        <a:pt x="3" y="21"/>
                      </a:lnTo>
                      <a:lnTo>
                        <a:pt x="2" y="26"/>
                      </a:lnTo>
                      <a:lnTo>
                        <a:pt x="1" y="30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1" y="44"/>
                      </a:lnTo>
                      <a:lnTo>
                        <a:pt x="3" y="49"/>
                      </a:lnTo>
                      <a:lnTo>
                        <a:pt x="5" y="54"/>
                      </a:lnTo>
                      <a:lnTo>
                        <a:pt x="7" y="57"/>
                      </a:lnTo>
                      <a:lnTo>
                        <a:pt x="11" y="60"/>
                      </a:lnTo>
                      <a:lnTo>
                        <a:pt x="14" y="64"/>
                      </a:lnTo>
                      <a:lnTo>
                        <a:pt x="19" y="67"/>
                      </a:lnTo>
                      <a:lnTo>
                        <a:pt x="22" y="69"/>
                      </a:lnTo>
                      <a:lnTo>
                        <a:pt x="27" y="70"/>
                      </a:lnTo>
                      <a:lnTo>
                        <a:pt x="32" y="72"/>
                      </a:lnTo>
                      <a:lnTo>
                        <a:pt x="37" y="72"/>
                      </a:lnTo>
                      <a:lnTo>
                        <a:pt x="42" y="72"/>
                      </a:lnTo>
                      <a:lnTo>
                        <a:pt x="47" y="69"/>
                      </a:lnTo>
                      <a:lnTo>
                        <a:pt x="51" y="68"/>
                      </a:lnTo>
                      <a:lnTo>
                        <a:pt x="55" y="66"/>
                      </a:lnTo>
                      <a:lnTo>
                        <a:pt x="59" y="62"/>
                      </a:lnTo>
                      <a:lnTo>
                        <a:pt x="63" y="59"/>
                      </a:lnTo>
                      <a:lnTo>
                        <a:pt x="65" y="56"/>
                      </a:lnTo>
                      <a:lnTo>
                        <a:pt x="67" y="51"/>
                      </a:lnTo>
                      <a:lnTo>
                        <a:pt x="70" y="47"/>
                      </a:lnTo>
                      <a:lnTo>
                        <a:pt x="71" y="42"/>
                      </a:lnTo>
                      <a:lnTo>
                        <a:pt x="72" y="38"/>
                      </a:lnTo>
                      <a:lnTo>
                        <a:pt x="72" y="36"/>
                      </a:lnTo>
                      <a:lnTo>
                        <a:pt x="72" y="36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314440" y="5124600"/>
                  <a:ext cx="488880" cy="317520"/>
                </a:xfrm>
                <a:custGeom>
                  <a:avLst/>
                  <a:gdLst/>
                  <a:ahLst/>
                  <a:rect l="l" t="t" r="r" b="b"/>
                  <a:pathLst>
                    <a:path w="308" h="200">
                      <a:moveTo>
                        <a:pt x="0" y="102"/>
                      </a:moveTo>
                      <a:lnTo>
                        <a:pt x="0" y="0"/>
                      </a:lnTo>
                      <a:lnTo>
                        <a:pt x="307" y="0"/>
                      </a:lnTo>
                      <a:lnTo>
                        <a:pt x="307" y="199"/>
                      </a:lnTo>
                      <a:lnTo>
                        <a:pt x="172" y="199"/>
                      </a:lnTo>
                      <a:lnTo>
                        <a:pt x="172" y="190"/>
                      </a:lnTo>
                      <a:lnTo>
                        <a:pt x="170" y="180"/>
                      </a:lnTo>
                      <a:lnTo>
                        <a:pt x="167" y="170"/>
                      </a:lnTo>
                      <a:lnTo>
                        <a:pt x="164" y="160"/>
                      </a:lnTo>
                      <a:lnTo>
                        <a:pt x="159" y="151"/>
                      </a:lnTo>
                      <a:lnTo>
                        <a:pt x="154" y="142"/>
                      </a:lnTo>
                      <a:lnTo>
                        <a:pt x="148" y="135"/>
                      </a:lnTo>
                      <a:lnTo>
                        <a:pt x="140" y="127"/>
                      </a:lnTo>
                      <a:lnTo>
                        <a:pt x="133" y="120"/>
                      </a:lnTo>
                      <a:lnTo>
                        <a:pt x="124" y="115"/>
                      </a:lnTo>
                      <a:lnTo>
                        <a:pt x="115" y="110"/>
                      </a:lnTo>
                      <a:lnTo>
                        <a:pt x="105" y="106"/>
                      </a:lnTo>
                      <a:lnTo>
                        <a:pt x="97" y="104"/>
                      </a:lnTo>
                      <a:lnTo>
                        <a:pt x="87" y="102"/>
                      </a:lnTo>
                      <a:lnTo>
                        <a:pt x="81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587680" y="5440320"/>
                  <a:ext cx="272880" cy="36720"/>
                </a:xfrm>
                <a:custGeom>
                  <a:avLst/>
                  <a:gdLst/>
                  <a:ahLst/>
                  <a:rect l="l" t="t" r="r" b="b"/>
                  <a:pathLst>
                    <a:path w="172" h="23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171" y="22"/>
                      </a:lnTo>
                      <a:lnTo>
                        <a:pt x="17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151080" y="4638600"/>
                  <a:ext cx="39600" cy="565200"/>
                </a:xfrm>
                <a:custGeom>
                  <a:avLst/>
                  <a:gdLst/>
                  <a:ahLst/>
                  <a:rect l="l" t="t" r="r" b="b"/>
                  <a:pathLst>
                    <a:path w="25" h="356">
                      <a:moveTo>
                        <a:pt x="0" y="0"/>
                      </a:moveTo>
                      <a:lnTo>
                        <a:pt x="0" y="355"/>
                      </a:lnTo>
                      <a:lnTo>
                        <a:pt x="24" y="35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189240" y="5124600"/>
                  <a:ext cx="307800" cy="352440"/>
                </a:xfrm>
                <a:custGeom>
                  <a:avLst/>
                  <a:gdLst/>
                  <a:ahLst/>
                  <a:rect l="l" t="t" r="r" b="b"/>
                  <a:pathLst>
                    <a:path w="194" h="222">
                      <a:moveTo>
                        <a:pt x="24" y="0"/>
                      </a:moveTo>
                      <a:lnTo>
                        <a:pt x="24" y="199"/>
                      </a:lnTo>
                      <a:lnTo>
                        <a:pt x="193" y="199"/>
                      </a:lnTo>
                      <a:lnTo>
                        <a:pt x="193" y="221"/>
                      </a:lnTo>
                      <a:lnTo>
                        <a:pt x="0" y="221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801880" y="5048280"/>
                  <a:ext cx="217440" cy="169920"/>
                </a:xfrm>
                <a:custGeom>
                  <a:avLst/>
                  <a:gdLst/>
                  <a:ahLst/>
                  <a:rect l="l" t="t" r="r" b="b"/>
                  <a:pathLst>
                    <a:path w="137" h="107">
                      <a:moveTo>
                        <a:pt x="0" y="106"/>
                      </a:moveTo>
                      <a:lnTo>
                        <a:pt x="116" y="0"/>
                      </a:lnTo>
                      <a:lnTo>
                        <a:pt x="136" y="48"/>
                      </a:lnTo>
                      <a:lnTo>
                        <a:pt x="100" y="48"/>
                      </a:lnTo>
                      <a:lnTo>
                        <a:pt x="100" y="106"/>
                      </a:lnTo>
                      <a:lnTo>
                        <a:pt x="0" y="106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960640" y="5124600"/>
                  <a:ext cx="191880" cy="79200"/>
                </a:xfrm>
                <a:custGeom>
                  <a:avLst/>
                  <a:gdLst/>
                  <a:ahLst/>
                  <a:rect l="l" t="t" r="r" b="b"/>
                  <a:pathLst>
                    <a:path w="121" h="50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120" y="0"/>
                      </a:lnTo>
                      <a:lnTo>
                        <a:pt x="12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481120" y="4638600"/>
                  <a:ext cx="614520" cy="565200"/>
                </a:xfrm>
                <a:custGeom>
                  <a:avLst/>
                  <a:gdLst/>
                  <a:ahLst/>
                  <a:rect l="l" t="t" r="r" b="b"/>
                  <a:pathLst>
                    <a:path w="387" h="356">
                      <a:moveTo>
                        <a:pt x="0" y="305"/>
                      </a:moveTo>
                      <a:lnTo>
                        <a:pt x="0" y="31"/>
                      </a:lnTo>
                      <a:lnTo>
                        <a:pt x="3" y="23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8" y="1"/>
                      </a:lnTo>
                      <a:lnTo>
                        <a:pt x="35" y="0"/>
                      </a:lnTo>
                      <a:lnTo>
                        <a:pt x="212" y="0"/>
                      </a:lnTo>
                      <a:lnTo>
                        <a:pt x="224" y="2"/>
                      </a:lnTo>
                      <a:lnTo>
                        <a:pt x="234" y="7"/>
                      </a:lnTo>
                      <a:lnTo>
                        <a:pt x="242" y="14"/>
                      </a:lnTo>
                      <a:lnTo>
                        <a:pt x="246" y="21"/>
                      </a:lnTo>
                      <a:lnTo>
                        <a:pt x="386" y="355"/>
                      </a:lnTo>
                      <a:lnTo>
                        <a:pt x="360" y="355"/>
                      </a:lnTo>
                      <a:lnTo>
                        <a:pt x="222" y="30"/>
                      </a:lnTo>
                      <a:lnTo>
                        <a:pt x="218" y="25"/>
                      </a:lnTo>
                      <a:lnTo>
                        <a:pt x="216" y="24"/>
                      </a:lnTo>
                      <a:lnTo>
                        <a:pt x="211" y="23"/>
                      </a:lnTo>
                      <a:lnTo>
                        <a:pt x="36" y="23"/>
                      </a:lnTo>
                      <a:lnTo>
                        <a:pt x="31" y="25"/>
                      </a:lnTo>
                      <a:lnTo>
                        <a:pt x="26" y="29"/>
                      </a:lnTo>
                      <a:lnTo>
                        <a:pt x="26" y="32"/>
                      </a:lnTo>
                      <a:lnTo>
                        <a:pt x="26" y="39"/>
                      </a:lnTo>
                      <a:lnTo>
                        <a:pt x="26" y="305"/>
                      </a:lnTo>
                      <a:lnTo>
                        <a:pt x="0" y="305"/>
                      </a:lnTo>
                      <a:lnTo>
                        <a:pt x="0" y="305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801880" y="4959360"/>
                  <a:ext cx="65160" cy="6336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6" y="38"/>
                      </a:moveTo>
                      <a:lnTo>
                        <a:pt x="5" y="39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0" y="2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6" y="38"/>
                      </a:lnTo>
                      <a:lnTo>
                        <a:pt x="6" y="3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836800" y="4994280"/>
                  <a:ext cx="101520" cy="10332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63" y="62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59" y="64"/>
                      </a:lnTo>
                      <a:lnTo>
                        <a:pt x="63" y="62"/>
                      </a:lnTo>
                      <a:lnTo>
                        <a:pt x="63" y="6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617560" y="4822920"/>
                  <a:ext cx="308160" cy="318960"/>
                </a:xfrm>
                <a:custGeom>
                  <a:avLst/>
                  <a:gdLst/>
                  <a:ahLst/>
                  <a:rect l="l" t="t" r="r" b="b"/>
                  <a:pathLst>
                    <a:path w="194" h="201">
                      <a:moveTo>
                        <a:pt x="66" y="21"/>
                      </a:move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4" y="49"/>
                      </a:lnTo>
                      <a:lnTo>
                        <a:pt x="61" y="50"/>
                      </a:lnTo>
                      <a:lnTo>
                        <a:pt x="53" y="51"/>
                      </a:lnTo>
                      <a:lnTo>
                        <a:pt x="52" y="56"/>
                      </a:lnTo>
                      <a:lnTo>
                        <a:pt x="58" y="60"/>
                      </a:lnTo>
                      <a:lnTo>
                        <a:pt x="58" y="68"/>
                      </a:lnTo>
                      <a:lnTo>
                        <a:pt x="82" y="88"/>
                      </a:lnTo>
                      <a:lnTo>
                        <a:pt x="126" y="99"/>
                      </a:lnTo>
                      <a:lnTo>
                        <a:pt x="142" y="99"/>
                      </a:lnTo>
                      <a:lnTo>
                        <a:pt x="145" y="105"/>
                      </a:lnTo>
                      <a:lnTo>
                        <a:pt x="138" y="113"/>
                      </a:lnTo>
                      <a:lnTo>
                        <a:pt x="128" y="113"/>
                      </a:lnTo>
                      <a:lnTo>
                        <a:pt x="121" y="111"/>
                      </a:lnTo>
                      <a:lnTo>
                        <a:pt x="114" y="113"/>
                      </a:lnTo>
                      <a:lnTo>
                        <a:pt x="103" y="113"/>
                      </a:lnTo>
                      <a:lnTo>
                        <a:pt x="68" y="106"/>
                      </a:lnTo>
                      <a:lnTo>
                        <a:pt x="65" y="130"/>
                      </a:lnTo>
                      <a:lnTo>
                        <a:pt x="118" y="146"/>
                      </a:lnTo>
                      <a:lnTo>
                        <a:pt x="168" y="180"/>
                      </a:lnTo>
                      <a:lnTo>
                        <a:pt x="187" y="174"/>
                      </a:lnTo>
                      <a:lnTo>
                        <a:pt x="193" y="177"/>
                      </a:lnTo>
                      <a:lnTo>
                        <a:pt x="170" y="200"/>
                      </a:lnTo>
                      <a:lnTo>
                        <a:pt x="160" y="192"/>
                      </a:lnTo>
                      <a:lnTo>
                        <a:pt x="109" y="172"/>
                      </a:lnTo>
                      <a:lnTo>
                        <a:pt x="114" y="178"/>
                      </a:lnTo>
                      <a:lnTo>
                        <a:pt x="116" y="184"/>
                      </a:lnTo>
                      <a:lnTo>
                        <a:pt x="116" y="190"/>
                      </a:lnTo>
                      <a:lnTo>
                        <a:pt x="0" y="190"/>
                      </a:lnTo>
                      <a:lnTo>
                        <a:pt x="0" y="88"/>
                      </a:lnTo>
                      <a:lnTo>
                        <a:pt x="19" y="88"/>
                      </a:lnTo>
                      <a:lnTo>
                        <a:pt x="23" y="68"/>
                      </a:lnTo>
                      <a:lnTo>
                        <a:pt x="28" y="56"/>
                      </a:lnTo>
                      <a:lnTo>
                        <a:pt x="32" y="46"/>
                      </a:lnTo>
                      <a:lnTo>
                        <a:pt x="35" y="47"/>
                      </a:lnTo>
                      <a:lnTo>
                        <a:pt x="35" y="42"/>
                      </a:lnTo>
                      <a:lnTo>
                        <a:pt x="32" y="33"/>
                      </a:lnTo>
                      <a:lnTo>
                        <a:pt x="31" y="23"/>
                      </a:lnTo>
                      <a:lnTo>
                        <a:pt x="32" y="13"/>
                      </a:lnTo>
                      <a:lnTo>
                        <a:pt x="35" y="6"/>
                      </a:lnTo>
                      <a:lnTo>
                        <a:pt x="41" y="2"/>
                      </a:lnTo>
                      <a:lnTo>
                        <a:pt x="48" y="0"/>
                      </a:lnTo>
                      <a:lnTo>
                        <a:pt x="56" y="0"/>
                      </a:lnTo>
                      <a:lnTo>
                        <a:pt x="62" y="3"/>
                      </a:lnTo>
                      <a:lnTo>
                        <a:pt x="64" y="8"/>
                      </a:lnTo>
                      <a:lnTo>
                        <a:pt x="66" y="18"/>
                      </a:lnTo>
                      <a:lnTo>
                        <a:pt x="78" y="21"/>
                      </a:lnTo>
                      <a:lnTo>
                        <a:pt x="66" y="21"/>
                      </a:lnTo>
                      <a:lnTo>
                        <a:pt x="66" y="21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801880" y="5202360"/>
                  <a:ext cx="388800" cy="239760"/>
                </a:xfrm>
                <a:custGeom>
                  <a:avLst/>
                  <a:gdLst/>
                  <a:ahLst/>
                  <a:rect l="l" t="t" r="r" b="b"/>
                  <a:pathLst>
                    <a:path w="245" h="151">
                      <a:moveTo>
                        <a:pt x="0" y="150"/>
                      </a:moveTo>
                      <a:lnTo>
                        <a:pt x="67" y="0"/>
                      </a:lnTo>
                      <a:lnTo>
                        <a:pt x="244" y="0"/>
                      </a:lnTo>
                      <a:lnTo>
                        <a:pt x="244" y="9"/>
                      </a:lnTo>
                      <a:lnTo>
                        <a:pt x="74" y="9"/>
                      </a:lnTo>
                      <a:lnTo>
                        <a:pt x="10" y="150"/>
                      </a:lnTo>
                      <a:lnTo>
                        <a:pt x="0" y="150"/>
                      </a:lnTo>
                      <a:lnTo>
                        <a:pt x="0" y="150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249360" y="5199120"/>
                  <a:ext cx="281160" cy="230040"/>
                </a:xfrm>
                <a:custGeom>
                  <a:avLst/>
                  <a:gdLst/>
                  <a:ahLst/>
                  <a:rect l="l" t="t" r="r" b="b"/>
                  <a:pathLst>
                    <a:path w="177" h="145">
                      <a:moveTo>
                        <a:pt x="0" y="144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249360" y="4971960"/>
                  <a:ext cx="281160" cy="228600"/>
                </a:xfrm>
                <a:custGeom>
                  <a:avLst/>
                  <a:gdLst/>
                  <a:ahLst/>
                  <a:rect l="l" t="t" r="r" b="b"/>
                  <a:pathLst>
                    <a:path w="177" h="144">
                      <a:moveTo>
                        <a:pt x="0" y="143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249360" y="4746600"/>
                  <a:ext cx="281160" cy="227160"/>
                </a:xfrm>
                <a:custGeom>
                  <a:avLst/>
                  <a:gdLst/>
                  <a:ahLst/>
                  <a:rect l="l" t="t" r="r" b="b"/>
                  <a:pathLst>
                    <a:path w="177" h="143">
                      <a:moveTo>
                        <a:pt x="0" y="142"/>
                      </a:move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142"/>
                      </a:lnTo>
                      <a:lnTo>
                        <a:pt x="0" y="142"/>
                      </a:lnTo>
                      <a:lnTo>
                        <a:pt x="0" y="14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327040" y="5334120"/>
                  <a:ext cx="108000" cy="210960"/>
                </a:xfrm>
                <a:custGeom>
                  <a:avLst/>
                  <a:gdLst/>
                  <a:ahLst/>
                  <a:rect l="l" t="t" r="r" b="b"/>
                  <a:pathLst>
                    <a:path w="68" h="133">
                      <a:moveTo>
                        <a:pt x="67" y="36"/>
                      </a:moveTo>
                      <a:lnTo>
                        <a:pt x="62" y="36"/>
                      </a:lnTo>
                      <a:lnTo>
                        <a:pt x="56" y="38"/>
                      </a:lnTo>
                      <a:lnTo>
                        <a:pt x="52" y="41"/>
                      </a:lnTo>
                      <a:lnTo>
                        <a:pt x="47" y="43"/>
                      </a:lnTo>
                      <a:lnTo>
                        <a:pt x="43" y="48"/>
                      </a:lnTo>
                      <a:lnTo>
                        <a:pt x="39" y="52"/>
                      </a:lnTo>
                      <a:lnTo>
                        <a:pt x="37" y="57"/>
                      </a:lnTo>
                      <a:lnTo>
                        <a:pt x="36" y="62"/>
                      </a:lnTo>
                      <a:lnTo>
                        <a:pt x="35" y="68"/>
                      </a:lnTo>
                      <a:lnTo>
                        <a:pt x="36" y="73"/>
                      </a:lnTo>
                      <a:lnTo>
                        <a:pt x="37" y="78"/>
                      </a:lnTo>
                      <a:lnTo>
                        <a:pt x="40" y="83"/>
                      </a:lnTo>
                      <a:lnTo>
                        <a:pt x="44" y="88"/>
                      </a:lnTo>
                      <a:lnTo>
                        <a:pt x="47" y="91"/>
                      </a:lnTo>
                      <a:lnTo>
                        <a:pt x="52" y="94"/>
                      </a:lnTo>
                      <a:lnTo>
                        <a:pt x="57" y="96"/>
                      </a:lnTo>
                      <a:lnTo>
                        <a:pt x="63" y="98"/>
                      </a:lnTo>
                      <a:lnTo>
                        <a:pt x="67" y="98"/>
                      </a:lnTo>
                      <a:lnTo>
                        <a:pt x="67" y="132"/>
                      </a:lnTo>
                      <a:lnTo>
                        <a:pt x="62" y="132"/>
                      </a:lnTo>
                      <a:lnTo>
                        <a:pt x="53" y="132"/>
                      </a:lnTo>
                      <a:lnTo>
                        <a:pt x="45" y="129"/>
                      </a:lnTo>
                      <a:lnTo>
                        <a:pt x="38" y="126"/>
                      </a:lnTo>
                      <a:lnTo>
                        <a:pt x="31" y="122"/>
                      </a:lnTo>
                      <a:lnTo>
                        <a:pt x="24" y="118"/>
                      </a:lnTo>
                      <a:lnTo>
                        <a:pt x="18" y="112"/>
                      </a:lnTo>
                      <a:lnTo>
                        <a:pt x="13" y="106"/>
                      </a:lnTo>
                      <a:lnTo>
                        <a:pt x="9" y="99"/>
                      </a:lnTo>
                      <a:lnTo>
                        <a:pt x="5" y="92"/>
                      </a:lnTo>
                      <a:lnTo>
                        <a:pt x="3" y="84"/>
                      </a:lnTo>
                      <a:lnTo>
                        <a:pt x="1" y="76"/>
                      </a:lnTo>
                      <a:lnTo>
                        <a:pt x="0" y="68"/>
                      </a:lnTo>
                      <a:lnTo>
                        <a:pt x="1" y="60"/>
                      </a:lnTo>
                      <a:lnTo>
                        <a:pt x="2" y="52"/>
                      </a:lnTo>
                      <a:lnTo>
                        <a:pt x="4" y="43"/>
                      </a:lnTo>
                      <a:lnTo>
                        <a:pt x="7" y="37"/>
                      </a:lnTo>
                      <a:lnTo>
                        <a:pt x="12" y="30"/>
                      </a:lnTo>
                      <a:lnTo>
                        <a:pt x="17" y="23"/>
                      </a:lnTo>
                      <a:lnTo>
                        <a:pt x="23" y="18"/>
                      </a:lnTo>
                      <a:lnTo>
                        <a:pt x="29" y="13"/>
                      </a:lnTo>
                      <a:lnTo>
                        <a:pt x="35" y="8"/>
                      </a:lnTo>
                      <a:lnTo>
                        <a:pt x="43" y="5"/>
                      </a:lnTo>
                      <a:lnTo>
                        <a:pt x="51" y="3"/>
                      </a:lnTo>
                      <a:lnTo>
                        <a:pt x="59" y="1"/>
                      </a:lnTo>
                      <a:lnTo>
                        <a:pt x="67" y="0"/>
                      </a:lnTo>
                      <a:lnTo>
                        <a:pt x="67" y="36"/>
                      </a:lnTo>
                      <a:lnTo>
                        <a:pt x="67" y="3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431800" y="5334120"/>
                  <a:ext cx="106560" cy="210960"/>
                </a:xfrm>
                <a:custGeom>
                  <a:avLst/>
                  <a:gdLst/>
                  <a:ahLst/>
                  <a:rect l="l" t="t" r="r" b="b"/>
                  <a:pathLst>
                    <a:path w="67" h="133">
                      <a:moveTo>
                        <a:pt x="0" y="36"/>
                      </a:moveTo>
                      <a:lnTo>
                        <a:pt x="6" y="36"/>
                      </a:lnTo>
                      <a:lnTo>
                        <a:pt x="11" y="38"/>
                      </a:lnTo>
                      <a:lnTo>
                        <a:pt x="16" y="41"/>
                      </a:lnTo>
                      <a:lnTo>
                        <a:pt x="21" y="43"/>
                      </a:lnTo>
                      <a:lnTo>
                        <a:pt x="25" y="48"/>
                      </a:lnTo>
                      <a:lnTo>
                        <a:pt x="29" y="52"/>
                      </a:lnTo>
                      <a:lnTo>
                        <a:pt x="30" y="57"/>
                      </a:lnTo>
                      <a:lnTo>
                        <a:pt x="31" y="62"/>
                      </a:lnTo>
                      <a:lnTo>
                        <a:pt x="31" y="68"/>
                      </a:lnTo>
                      <a:lnTo>
                        <a:pt x="31" y="73"/>
                      </a:lnTo>
                      <a:lnTo>
                        <a:pt x="29" y="78"/>
                      </a:lnTo>
                      <a:lnTo>
                        <a:pt x="27" y="83"/>
                      </a:lnTo>
                      <a:lnTo>
                        <a:pt x="24" y="88"/>
                      </a:lnTo>
                      <a:lnTo>
                        <a:pt x="19" y="91"/>
                      </a:lnTo>
                      <a:lnTo>
                        <a:pt x="15" y="94"/>
                      </a:lnTo>
                      <a:lnTo>
                        <a:pt x="9" y="96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132"/>
                      </a:lnTo>
                      <a:lnTo>
                        <a:pt x="6" y="132"/>
                      </a:lnTo>
                      <a:lnTo>
                        <a:pt x="15" y="132"/>
                      </a:lnTo>
                      <a:lnTo>
                        <a:pt x="21" y="129"/>
                      </a:lnTo>
                      <a:lnTo>
                        <a:pt x="29" y="126"/>
                      </a:lnTo>
                      <a:lnTo>
                        <a:pt x="36" y="122"/>
                      </a:lnTo>
                      <a:lnTo>
                        <a:pt x="43" y="118"/>
                      </a:lnTo>
                      <a:lnTo>
                        <a:pt x="49" y="112"/>
                      </a:lnTo>
                      <a:lnTo>
                        <a:pt x="54" y="106"/>
                      </a:lnTo>
                      <a:lnTo>
                        <a:pt x="57" y="99"/>
                      </a:lnTo>
                      <a:lnTo>
                        <a:pt x="63" y="92"/>
                      </a:lnTo>
                      <a:lnTo>
                        <a:pt x="64" y="84"/>
                      </a:lnTo>
                      <a:lnTo>
                        <a:pt x="66" y="76"/>
                      </a:lnTo>
                      <a:lnTo>
                        <a:pt x="66" y="68"/>
                      </a:lnTo>
                      <a:lnTo>
                        <a:pt x="66" y="60"/>
                      </a:lnTo>
                      <a:lnTo>
                        <a:pt x="66" y="52"/>
                      </a:lnTo>
                      <a:lnTo>
                        <a:pt x="63" y="43"/>
                      </a:lnTo>
                      <a:lnTo>
                        <a:pt x="60" y="37"/>
                      </a:lnTo>
                      <a:lnTo>
                        <a:pt x="56" y="30"/>
                      </a:lnTo>
                      <a:lnTo>
                        <a:pt x="50" y="23"/>
                      </a:lnTo>
                      <a:lnTo>
                        <a:pt x="46" y="18"/>
                      </a:lnTo>
                      <a:lnTo>
                        <a:pt x="39" y="13"/>
                      </a:lnTo>
                      <a:lnTo>
                        <a:pt x="31" y="8"/>
                      </a:lnTo>
                      <a:lnTo>
                        <a:pt x="25" y="5"/>
                      </a:lnTo>
                      <a:lnTo>
                        <a:pt x="16" y="3"/>
                      </a:lnTo>
                      <a:lnTo>
                        <a:pt x="9" y="1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879640" y="5254560"/>
                  <a:ext cx="146160" cy="287280"/>
                </a:xfrm>
                <a:custGeom>
                  <a:avLst/>
                  <a:gdLst/>
                  <a:ahLst/>
                  <a:rect l="l" t="t" r="r" b="b"/>
                  <a:pathLst>
                    <a:path w="92" h="181">
                      <a:moveTo>
                        <a:pt x="91" y="39"/>
                      </a:moveTo>
                      <a:lnTo>
                        <a:pt x="84" y="40"/>
                      </a:lnTo>
                      <a:lnTo>
                        <a:pt x="76" y="42"/>
                      </a:lnTo>
                      <a:lnTo>
                        <a:pt x="70" y="44"/>
                      </a:lnTo>
                      <a:lnTo>
                        <a:pt x="65" y="47"/>
                      </a:lnTo>
                      <a:lnTo>
                        <a:pt x="59" y="51"/>
                      </a:lnTo>
                      <a:lnTo>
                        <a:pt x="53" y="56"/>
                      </a:lnTo>
                      <a:lnTo>
                        <a:pt x="49" y="62"/>
                      </a:lnTo>
                      <a:lnTo>
                        <a:pt x="46" y="68"/>
                      </a:lnTo>
                      <a:lnTo>
                        <a:pt x="42" y="74"/>
                      </a:lnTo>
                      <a:lnTo>
                        <a:pt x="40" y="81"/>
                      </a:lnTo>
                      <a:lnTo>
                        <a:pt x="40" y="88"/>
                      </a:lnTo>
                      <a:lnTo>
                        <a:pt x="40" y="96"/>
                      </a:lnTo>
                      <a:lnTo>
                        <a:pt x="41" y="102"/>
                      </a:lnTo>
                      <a:lnTo>
                        <a:pt x="44" y="110"/>
                      </a:lnTo>
                      <a:lnTo>
                        <a:pt x="46" y="116"/>
                      </a:lnTo>
                      <a:lnTo>
                        <a:pt x="51" y="121"/>
                      </a:lnTo>
                      <a:lnTo>
                        <a:pt x="56" y="127"/>
                      </a:lnTo>
                      <a:lnTo>
                        <a:pt x="61" y="132"/>
                      </a:lnTo>
                      <a:lnTo>
                        <a:pt x="67" y="135"/>
                      </a:lnTo>
                      <a:lnTo>
                        <a:pt x="73" y="138"/>
                      </a:lnTo>
                      <a:lnTo>
                        <a:pt x="80" y="141"/>
                      </a:lnTo>
                      <a:lnTo>
                        <a:pt x="87" y="142"/>
                      </a:lnTo>
                      <a:lnTo>
                        <a:pt x="91" y="142"/>
                      </a:lnTo>
                      <a:lnTo>
                        <a:pt x="91" y="180"/>
                      </a:lnTo>
                      <a:lnTo>
                        <a:pt x="89" y="180"/>
                      </a:lnTo>
                      <a:lnTo>
                        <a:pt x="80" y="180"/>
                      </a:lnTo>
                      <a:lnTo>
                        <a:pt x="70" y="178"/>
                      </a:lnTo>
                      <a:lnTo>
                        <a:pt x="62" y="176"/>
                      </a:lnTo>
                      <a:lnTo>
                        <a:pt x="53" y="172"/>
                      </a:lnTo>
                      <a:lnTo>
                        <a:pt x="45" y="169"/>
                      </a:lnTo>
                      <a:lnTo>
                        <a:pt x="36" y="163"/>
                      </a:lnTo>
                      <a:lnTo>
                        <a:pt x="29" y="158"/>
                      </a:lnTo>
                      <a:lnTo>
                        <a:pt x="23" y="151"/>
                      </a:lnTo>
                      <a:lnTo>
                        <a:pt x="16" y="142"/>
                      </a:lnTo>
                      <a:lnTo>
                        <a:pt x="11" y="135"/>
                      </a:lnTo>
                      <a:lnTo>
                        <a:pt x="8" y="126"/>
                      </a:lnTo>
                      <a:lnTo>
                        <a:pt x="5" y="118"/>
                      </a:lnTo>
                      <a:lnTo>
                        <a:pt x="1" y="109"/>
                      </a:lnTo>
                      <a:lnTo>
                        <a:pt x="0" y="99"/>
                      </a:lnTo>
                      <a:lnTo>
                        <a:pt x="0" y="90"/>
                      </a:lnTo>
                      <a:lnTo>
                        <a:pt x="0" y="81"/>
                      </a:lnTo>
                      <a:lnTo>
                        <a:pt x="2" y="71"/>
                      </a:lnTo>
                      <a:lnTo>
                        <a:pt x="5" y="62"/>
                      </a:lnTo>
                      <a:lnTo>
                        <a:pt x="8" y="53"/>
                      </a:lnTo>
                      <a:lnTo>
                        <a:pt x="12" y="44"/>
                      </a:lnTo>
                      <a:lnTo>
                        <a:pt x="17" y="37"/>
                      </a:lnTo>
                      <a:lnTo>
                        <a:pt x="24" y="30"/>
                      </a:lnTo>
                      <a:lnTo>
                        <a:pt x="30" y="23"/>
                      </a:lnTo>
                      <a:lnTo>
                        <a:pt x="37" y="16"/>
                      </a:lnTo>
                      <a:lnTo>
                        <a:pt x="46" y="12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3" y="2"/>
                      </a:lnTo>
                      <a:lnTo>
                        <a:pt x="82" y="1"/>
                      </a:lnTo>
                      <a:lnTo>
                        <a:pt x="91" y="0"/>
                      </a:lnTo>
                      <a:lnTo>
                        <a:pt x="91" y="39"/>
                      </a:lnTo>
                      <a:lnTo>
                        <a:pt x="91" y="39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020760" y="5254560"/>
                  <a:ext cx="147960" cy="287280"/>
                </a:xfrm>
                <a:custGeom>
                  <a:avLst/>
                  <a:gdLst/>
                  <a:ahLst/>
                  <a:rect l="l" t="t" r="r" b="b"/>
                  <a:pathLst>
                    <a:path w="93" h="181">
                      <a:moveTo>
                        <a:pt x="0" y="39"/>
                      </a:moveTo>
                      <a:lnTo>
                        <a:pt x="7" y="39"/>
                      </a:lnTo>
                      <a:lnTo>
                        <a:pt x="14" y="41"/>
                      </a:lnTo>
                      <a:lnTo>
                        <a:pt x="22" y="44"/>
                      </a:lnTo>
                      <a:lnTo>
                        <a:pt x="27" y="46"/>
                      </a:lnTo>
                      <a:lnTo>
                        <a:pt x="34" y="50"/>
                      </a:lnTo>
                      <a:lnTo>
                        <a:pt x="38" y="56"/>
                      </a:lnTo>
                      <a:lnTo>
                        <a:pt x="43" y="61"/>
                      </a:lnTo>
                      <a:lnTo>
                        <a:pt x="46" y="67"/>
                      </a:lnTo>
                      <a:lnTo>
                        <a:pt x="49" y="74"/>
                      </a:lnTo>
                      <a:lnTo>
                        <a:pt x="52" y="81"/>
                      </a:lnTo>
                      <a:lnTo>
                        <a:pt x="52" y="88"/>
                      </a:lnTo>
                      <a:lnTo>
                        <a:pt x="52" y="95"/>
                      </a:lnTo>
                      <a:lnTo>
                        <a:pt x="50" y="102"/>
                      </a:lnTo>
                      <a:lnTo>
                        <a:pt x="48" y="109"/>
                      </a:lnTo>
                      <a:lnTo>
                        <a:pt x="45" y="116"/>
                      </a:lnTo>
                      <a:lnTo>
                        <a:pt x="42" y="121"/>
                      </a:lnTo>
                      <a:lnTo>
                        <a:pt x="37" y="126"/>
                      </a:lnTo>
                      <a:lnTo>
                        <a:pt x="32" y="131"/>
                      </a:lnTo>
                      <a:lnTo>
                        <a:pt x="25" y="134"/>
                      </a:lnTo>
                      <a:lnTo>
                        <a:pt x="19" y="138"/>
                      </a:lnTo>
                      <a:lnTo>
                        <a:pt x="12" y="140"/>
                      </a:lnTo>
                      <a:lnTo>
                        <a:pt x="5" y="141"/>
                      </a:lnTo>
                      <a:lnTo>
                        <a:pt x="0" y="141"/>
                      </a:lnTo>
                      <a:lnTo>
                        <a:pt x="0" y="180"/>
                      </a:lnTo>
                      <a:lnTo>
                        <a:pt x="2" y="180"/>
                      </a:lnTo>
                      <a:lnTo>
                        <a:pt x="12" y="180"/>
                      </a:lnTo>
                      <a:lnTo>
                        <a:pt x="21" y="178"/>
                      </a:lnTo>
                      <a:lnTo>
                        <a:pt x="30" y="176"/>
                      </a:lnTo>
                      <a:lnTo>
                        <a:pt x="39" y="172"/>
                      </a:lnTo>
                      <a:lnTo>
                        <a:pt x="47" y="169"/>
                      </a:lnTo>
                      <a:lnTo>
                        <a:pt x="55" y="162"/>
                      </a:lnTo>
                      <a:lnTo>
                        <a:pt x="63" y="158"/>
                      </a:lnTo>
                      <a:lnTo>
                        <a:pt x="69" y="150"/>
                      </a:lnTo>
                      <a:lnTo>
                        <a:pt x="75" y="142"/>
                      </a:lnTo>
                      <a:lnTo>
                        <a:pt x="80" y="134"/>
                      </a:lnTo>
                      <a:lnTo>
                        <a:pt x="85" y="126"/>
                      </a:lnTo>
                      <a:lnTo>
                        <a:pt x="88" y="118"/>
                      </a:lnTo>
                      <a:lnTo>
                        <a:pt x="90" y="108"/>
                      </a:lnTo>
                      <a:lnTo>
                        <a:pt x="92" y="98"/>
                      </a:lnTo>
                      <a:lnTo>
                        <a:pt x="92" y="90"/>
                      </a:lnTo>
                      <a:lnTo>
                        <a:pt x="92" y="80"/>
                      </a:lnTo>
                      <a:lnTo>
                        <a:pt x="90" y="71"/>
                      </a:lnTo>
                      <a:lnTo>
                        <a:pt x="87" y="62"/>
                      </a:lnTo>
                      <a:lnTo>
                        <a:pt x="84" y="53"/>
                      </a:lnTo>
                      <a:lnTo>
                        <a:pt x="80" y="44"/>
                      </a:lnTo>
                      <a:lnTo>
                        <a:pt x="75" y="36"/>
                      </a:lnTo>
                      <a:lnTo>
                        <a:pt x="68" y="29"/>
                      </a:lnTo>
                      <a:lnTo>
                        <a:pt x="62" y="22"/>
                      </a:lnTo>
                      <a:lnTo>
                        <a:pt x="54" y="16"/>
                      </a:lnTo>
                      <a:lnTo>
                        <a:pt x="46" y="12"/>
                      </a:lnTo>
                      <a:lnTo>
                        <a:pt x="37" y="7"/>
                      </a:lnTo>
                      <a:lnTo>
                        <a:pt x="28" y="4"/>
                      </a:lnTo>
                      <a:lnTo>
                        <a:pt x="20" y="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9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396880" y="5286240"/>
                  <a:ext cx="0" cy="7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536560" y="5442120"/>
                  <a:ext cx="35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157560" y="5442120"/>
                  <a:ext cx="39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523800" y="5654520"/>
              <a:ext cx="1738440" cy="1363680"/>
              <a:chOff x="523800" y="5654520"/>
              <a:chExt cx="1738440" cy="1363680"/>
            </a:xfrm>
          </p:grpSpPr>
          <p:sp>
            <p:nvSpPr>
              <p:cNvPr id="987" name=""/>
              <p:cNvSpPr/>
              <p:nvPr/>
            </p:nvSpPr>
            <p:spPr>
              <a:xfrm>
                <a:off x="523800" y="5654520"/>
                <a:ext cx="1738440" cy="1363680"/>
              </a:xfrm>
              <a:prstGeom prst="ellipse">
                <a:avLst/>
              </a:prstGeom>
              <a:solidFill>
                <a:srgbClr val="ffffc2"/>
              </a:solidFill>
              <a:ln w="31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682640" y="5965920"/>
                <a:ext cx="281160" cy="682560"/>
              </a:xfrm>
              <a:custGeom>
                <a:avLst/>
                <a:gdLst/>
                <a:ahLst/>
                <a:rect l="l" t="t" r="r" b="b"/>
                <a:pathLst>
                  <a:path w="177" h="430">
                    <a:moveTo>
                      <a:pt x="0" y="429"/>
                    </a:moveTo>
                    <a:lnTo>
                      <a:pt x="0" y="0"/>
                    </a:lnTo>
                    <a:lnTo>
                      <a:pt x="176" y="0"/>
                    </a:lnTo>
                    <a:lnTo>
                      <a:pt x="176" y="429"/>
                    </a:lnTo>
                    <a:lnTo>
                      <a:pt x="0" y="429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7720" y="6345360"/>
                <a:ext cx="892080" cy="317520"/>
              </a:xfrm>
              <a:custGeom>
                <a:avLst/>
                <a:gdLst/>
                <a:ahLst/>
                <a:rect l="l" t="t" r="r" b="b"/>
                <a:pathLst>
                  <a:path w="562" h="200">
                    <a:moveTo>
                      <a:pt x="0" y="0"/>
                    </a:moveTo>
                    <a:lnTo>
                      <a:pt x="0" y="101"/>
                    </a:lnTo>
                    <a:lnTo>
                      <a:pt x="52" y="101"/>
                    </a:lnTo>
                    <a:lnTo>
                      <a:pt x="52" y="163"/>
                    </a:lnTo>
                    <a:lnTo>
                      <a:pt x="106" y="163"/>
                    </a:lnTo>
                    <a:lnTo>
                      <a:pt x="132" y="199"/>
                    </a:lnTo>
                    <a:lnTo>
                      <a:pt x="366" y="199"/>
                    </a:lnTo>
                    <a:lnTo>
                      <a:pt x="389" y="128"/>
                    </a:lnTo>
                    <a:lnTo>
                      <a:pt x="457" y="105"/>
                    </a:lnTo>
                    <a:lnTo>
                      <a:pt x="510" y="140"/>
                    </a:lnTo>
                    <a:lnTo>
                      <a:pt x="510" y="199"/>
                    </a:lnTo>
                    <a:lnTo>
                      <a:pt x="561" y="199"/>
                    </a:lnTo>
                    <a:lnTo>
                      <a:pt x="561" y="0"/>
                    </a:lnTo>
                    <a:lnTo>
                      <a:pt x="389" y="0"/>
                    </a:lnTo>
                    <a:lnTo>
                      <a:pt x="323" y="58"/>
                    </a:lnTo>
                    <a:lnTo>
                      <a:pt x="307" y="58"/>
                    </a:lnTo>
                    <a:lnTo>
                      <a:pt x="30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58640" y="6521400"/>
                <a:ext cx="196920" cy="193680"/>
              </a:xfrm>
              <a:custGeom>
                <a:avLst/>
                <a:gdLst/>
                <a:ahLst/>
                <a:rect l="l" t="t" r="r" b="b"/>
                <a:pathLst>
                  <a:path w="124" h="122">
                    <a:moveTo>
                      <a:pt x="123" y="62"/>
                    </a:moveTo>
                    <a:lnTo>
                      <a:pt x="123" y="55"/>
                    </a:lnTo>
                    <a:lnTo>
                      <a:pt x="122" y="48"/>
                    </a:lnTo>
                    <a:lnTo>
                      <a:pt x="120" y="42"/>
                    </a:lnTo>
                    <a:lnTo>
                      <a:pt x="118" y="36"/>
                    </a:lnTo>
                    <a:lnTo>
                      <a:pt x="115" y="31"/>
                    </a:lnTo>
                    <a:lnTo>
                      <a:pt x="111" y="25"/>
                    </a:lnTo>
                    <a:lnTo>
                      <a:pt x="107" y="20"/>
                    </a:lnTo>
                    <a:lnTo>
                      <a:pt x="103" y="16"/>
                    </a:lnTo>
                    <a:lnTo>
                      <a:pt x="98" y="12"/>
                    </a:lnTo>
                    <a:lnTo>
                      <a:pt x="93" y="8"/>
                    </a:lnTo>
                    <a:lnTo>
                      <a:pt x="87" y="5"/>
                    </a:lnTo>
                    <a:lnTo>
                      <a:pt x="81" y="3"/>
                    </a:lnTo>
                    <a:lnTo>
                      <a:pt x="75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38" y="4"/>
                    </a:lnTo>
                    <a:lnTo>
                      <a:pt x="32" y="7"/>
                    </a:lnTo>
                    <a:lnTo>
                      <a:pt x="27" y="10"/>
                    </a:lnTo>
                    <a:lnTo>
                      <a:pt x="21" y="14"/>
                    </a:lnTo>
                    <a:lnTo>
                      <a:pt x="17" y="18"/>
                    </a:lnTo>
                    <a:lnTo>
                      <a:pt x="13" y="24"/>
                    </a:lnTo>
                    <a:lnTo>
                      <a:pt x="10" y="28"/>
                    </a:lnTo>
                    <a:lnTo>
                      <a:pt x="6" y="34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1" y="72"/>
                    </a:lnTo>
                    <a:lnTo>
                      <a:pt x="2" y="77"/>
                    </a:lnTo>
                    <a:lnTo>
                      <a:pt x="4" y="83"/>
                    </a:lnTo>
                    <a:lnTo>
                      <a:pt x="7" y="89"/>
                    </a:lnTo>
                    <a:lnTo>
                      <a:pt x="10" y="94"/>
                    </a:lnTo>
                    <a:lnTo>
                      <a:pt x="14" y="100"/>
                    </a:lnTo>
                    <a:lnTo>
                      <a:pt x="18" y="104"/>
                    </a:lnTo>
                    <a:lnTo>
                      <a:pt x="23" y="108"/>
                    </a:lnTo>
                    <a:lnTo>
                      <a:pt x="28" y="112"/>
                    </a:lnTo>
                    <a:lnTo>
                      <a:pt x="34" y="115"/>
                    </a:lnTo>
                    <a:lnTo>
                      <a:pt x="39" y="118"/>
                    </a:lnTo>
                    <a:lnTo>
                      <a:pt x="45" y="120"/>
                    </a:lnTo>
                    <a:lnTo>
                      <a:pt x="51" y="121"/>
                    </a:lnTo>
                    <a:lnTo>
                      <a:pt x="58" y="121"/>
                    </a:lnTo>
                    <a:lnTo>
                      <a:pt x="64" y="121"/>
                    </a:lnTo>
                    <a:lnTo>
                      <a:pt x="71" y="121"/>
                    </a:lnTo>
                    <a:lnTo>
                      <a:pt x="77" y="120"/>
                    </a:lnTo>
                    <a:lnTo>
                      <a:pt x="83" y="119"/>
                    </a:lnTo>
                    <a:lnTo>
                      <a:pt x="88" y="116"/>
                    </a:lnTo>
                    <a:lnTo>
                      <a:pt x="94" y="113"/>
                    </a:lnTo>
                    <a:lnTo>
                      <a:pt x="99" y="109"/>
                    </a:lnTo>
                    <a:lnTo>
                      <a:pt x="104" y="105"/>
                    </a:lnTo>
                    <a:lnTo>
                      <a:pt x="108" y="101"/>
                    </a:lnTo>
                    <a:lnTo>
                      <a:pt x="113" y="96"/>
                    </a:lnTo>
                    <a:lnTo>
                      <a:pt x="116" y="90"/>
                    </a:lnTo>
                    <a:lnTo>
                      <a:pt x="118" y="84"/>
                    </a:lnTo>
                    <a:lnTo>
                      <a:pt x="121" y="78"/>
                    </a:lnTo>
                    <a:lnTo>
                      <a:pt x="123" y="72"/>
                    </a:lnTo>
                    <a:lnTo>
                      <a:pt x="123" y="66"/>
                    </a:lnTo>
                    <a:lnTo>
                      <a:pt x="123" y="62"/>
                    </a:lnTo>
                    <a:lnTo>
                      <a:pt x="123" y="62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07840" y="660564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2" y="35"/>
                    </a:moveTo>
                    <a:lnTo>
                      <a:pt x="71" y="31"/>
                    </a:lnTo>
                    <a:lnTo>
                      <a:pt x="70" y="26"/>
                    </a:lnTo>
                    <a:lnTo>
                      <a:pt x="68" y="21"/>
                    </a:lnTo>
                    <a:lnTo>
                      <a:pt x="66" y="17"/>
                    </a:lnTo>
                    <a:lnTo>
                      <a:pt x="64" y="13"/>
                    </a:lnTo>
                    <a:lnTo>
                      <a:pt x="60" y="10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20" y="4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21"/>
                    </a:lnTo>
                    <a:lnTo>
                      <a:pt x="2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7" y="57"/>
                    </a:lnTo>
                    <a:lnTo>
                      <a:pt x="10" y="60"/>
                    </a:lnTo>
                    <a:lnTo>
                      <a:pt x="14" y="64"/>
                    </a:lnTo>
                    <a:lnTo>
                      <a:pt x="18" y="67"/>
                    </a:lnTo>
                    <a:lnTo>
                      <a:pt x="22" y="68"/>
                    </a:lnTo>
                    <a:lnTo>
                      <a:pt x="27" y="70"/>
                    </a:lnTo>
                    <a:lnTo>
                      <a:pt x="32" y="71"/>
                    </a:lnTo>
                    <a:lnTo>
                      <a:pt x="37" y="71"/>
                    </a:lnTo>
                    <a:lnTo>
                      <a:pt x="42" y="71"/>
                    </a:lnTo>
                    <a:lnTo>
                      <a:pt x="46" y="69"/>
                    </a:lnTo>
                    <a:lnTo>
                      <a:pt x="51" y="68"/>
                    </a:lnTo>
                    <a:lnTo>
                      <a:pt x="55" y="66"/>
                    </a:lnTo>
                    <a:lnTo>
                      <a:pt x="59" y="62"/>
                    </a:lnTo>
                    <a:lnTo>
                      <a:pt x="63" y="59"/>
                    </a:lnTo>
                    <a:lnTo>
                      <a:pt x="65" y="55"/>
                    </a:lnTo>
                    <a:lnTo>
                      <a:pt x="67" y="51"/>
                    </a:lnTo>
                    <a:lnTo>
                      <a:pt x="70" y="47"/>
                    </a:lnTo>
                    <a:lnTo>
                      <a:pt x="71" y="42"/>
                    </a:lnTo>
                    <a:lnTo>
                      <a:pt x="72" y="37"/>
                    </a:lnTo>
                    <a:lnTo>
                      <a:pt x="72" y="35"/>
                    </a:lnTo>
                    <a:lnTo>
                      <a:pt x="72" y="35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47720" y="6345360"/>
                <a:ext cx="488880" cy="317520"/>
              </a:xfrm>
              <a:custGeom>
                <a:avLst/>
                <a:gdLst/>
                <a:ahLst/>
                <a:rect l="l" t="t" r="r" b="b"/>
                <a:pathLst>
                  <a:path w="308" h="200">
                    <a:moveTo>
                      <a:pt x="0" y="101"/>
                    </a:moveTo>
                    <a:lnTo>
                      <a:pt x="0" y="0"/>
                    </a:lnTo>
                    <a:lnTo>
                      <a:pt x="307" y="0"/>
                    </a:lnTo>
                    <a:lnTo>
                      <a:pt x="307" y="199"/>
                    </a:lnTo>
                    <a:lnTo>
                      <a:pt x="172" y="199"/>
                    </a:lnTo>
                    <a:lnTo>
                      <a:pt x="172" y="189"/>
                    </a:lnTo>
                    <a:lnTo>
                      <a:pt x="170" y="179"/>
                    </a:lnTo>
                    <a:lnTo>
                      <a:pt x="167" y="169"/>
                    </a:lnTo>
                    <a:lnTo>
                      <a:pt x="164" y="159"/>
                    </a:lnTo>
                    <a:lnTo>
                      <a:pt x="160" y="151"/>
                    </a:lnTo>
                    <a:lnTo>
                      <a:pt x="154" y="142"/>
                    </a:lnTo>
                    <a:lnTo>
                      <a:pt x="148" y="135"/>
                    </a:lnTo>
                    <a:lnTo>
                      <a:pt x="140" y="127"/>
                    </a:lnTo>
                    <a:lnTo>
                      <a:pt x="132" y="120"/>
                    </a:lnTo>
                    <a:lnTo>
                      <a:pt x="124" y="115"/>
                    </a:lnTo>
                    <a:lnTo>
                      <a:pt x="115" y="110"/>
                    </a:lnTo>
                    <a:lnTo>
                      <a:pt x="105" y="106"/>
                    </a:lnTo>
                    <a:lnTo>
                      <a:pt x="96" y="104"/>
                    </a:lnTo>
                    <a:lnTo>
                      <a:pt x="86" y="102"/>
                    </a:lnTo>
                    <a:lnTo>
                      <a:pt x="81" y="101"/>
                    </a:lnTo>
                    <a:lnTo>
                      <a:pt x="0" y="101"/>
                    </a:lnTo>
                    <a:lnTo>
                      <a:pt x="0" y="10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020600" y="6661080"/>
                <a:ext cx="273240" cy="36720"/>
              </a:xfrm>
              <a:custGeom>
                <a:avLst/>
                <a:gdLst/>
                <a:ahLst/>
                <a:rect l="l" t="t" r="r" b="b"/>
                <a:pathLst>
                  <a:path w="172" h="23">
                    <a:moveTo>
                      <a:pt x="0" y="0"/>
                    </a:moveTo>
                    <a:lnTo>
                      <a:pt x="0" y="22"/>
                    </a:lnTo>
                    <a:lnTo>
                      <a:pt x="171" y="22"/>
                    </a:lnTo>
                    <a:lnTo>
                      <a:pt x="17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584360" y="5857920"/>
                <a:ext cx="39600" cy="566640"/>
              </a:xfrm>
              <a:custGeom>
                <a:avLst/>
                <a:gdLst/>
                <a:ahLst/>
                <a:rect l="l" t="t" r="r" b="b"/>
                <a:pathLst>
                  <a:path w="25" h="357">
                    <a:moveTo>
                      <a:pt x="0" y="0"/>
                    </a:moveTo>
                    <a:lnTo>
                      <a:pt x="0" y="356"/>
                    </a:lnTo>
                    <a:lnTo>
                      <a:pt x="24" y="35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22160" y="6345360"/>
                <a:ext cx="308160" cy="352440"/>
              </a:xfrm>
              <a:custGeom>
                <a:avLst/>
                <a:gdLst/>
                <a:ahLst/>
                <a:rect l="l" t="t" r="r" b="b"/>
                <a:pathLst>
                  <a:path w="194" h="222">
                    <a:moveTo>
                      <a:pt x="24" y="0"/>
                    </a:moveTo>
                    <a:lnTo>
                      <a:pt x="24" y="199"/>
                    </a:lnTo>
                    <a:lnTo>
                      <a:pt x="193" y="199"/>
                    </a:lnTo>
                    <a:lnTo>
                      <a:pt x="193" y="221"/>
                    </a:lnTo>
                    <a:lnTo>
                      <a:pt x="0" y="22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234800" y="6267600"/>
                <a:ext cx="217800" cy="171360"/>
              </a:xfrm>
              <a:custGeom>
                <a:avLst/>
                <a:gdLst/>
                <a:ahLst/>
                <a:rect l="l" t="t" r="r" b="b"/>
                <a:pathLst>
                  <a:path w="137" h="108">
                    <a:moveTo>
                      <a:pt x="0" y="107"/>
                    </a:moveTo>
                    <a:lnTo>
                      <a:pt x="116" y="0"/>
                    </a:lnTo>
                    <a:lnTo>
                      <a:pt x="136" y="49"/>
                    </a:lnTo>
                    <a:lnTo>
                      <a:pt x="99" y="49"/>
                    </a:lnTo>
                    <a:lnTo>
                      <a:pt x="99" y="107"/>
                    </a:lnTo>
                    <a:lnTo>
                      <a:pt x="0" y="107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92120" y="6345360"/>
                <a:ext cx="193680" cy="7920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0" y="49"/>
                    </a:moveTo>
                    <a:lnTo>
                      <a:pt x="0" y="0"/>
                    </a:lnTo>
                    <a:lnTo>
                      <a:pt x="121" y="0"/>
                    </a:lnTo>
                    <a:lnTo>
                      <a:pt x="121" y="49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4400" y="5859360"/>
                <a:ext cx="614160" cy="565200"/>
              </a:xfrm>
              <a:custGeom>
                <a:avLst/>
                <a:gdLst/>
                <a:ahLst/>
                <a:rect l="l" t="t" r="r" b="b"/>
                <a:pathLst>
                  <a:path w="387" h="356">
                    <a:moveTo>
                      <a:pt x="0" y="305"/>
                    </a:moveTo>
                    <a:lnTo>
                      <a:pt x="0" y="31"/>
                    </a:lnTo>
                    <a:lnTo>
                      <a:pt x="3" y="23"/>
                    </a:lnTo>
                    <a:lnTo>
                      <a:pt x="8" y="14"/>
                    </a:lnTo>
                    <a:lnTo>
                      <a:pt x="12" y="9"/>
                    </a:lnTo>
                    <a:lnTo>
                      <a:pt x="17" y="4"/>
                    </a:lnTo>
                    <a:lnTo>
                      <a:pt x="27" y="1"/>
                    </a:lnTo>
                    <a:lnTo>
                      <a:pt x="35" y="0"/>
                    </a:lnTo>
                    <a:lnTo>
                      <a:pt x="212" y="0"/>
                    </a:lnTo>
                    <a:lnTo>
                      <a:pt x="224" y="2"/>
                    </a:lnTo>
                    <a:lnTo>
                      <a:pt x="233" y="7"/>
                    </a:lnTo>
                    <a:lnTo>
                      <a:pt x="242" y="14"/>
                    </a:lnTo>
                    <a:lnTo>
                      <a:pt x="245" y="21"/>
                    </a:lnTo>
                    <a:lnTo>
                      <a:pt x="386" y="355"/>
                    </a:lnTo>
                    <a:lnTo>
                      <a:pt x="359" y="355"/>
                    </a:lnTo>
                    <a:lnTo>
                      <a:pt x="222" y="30"/>
                    </a:lnTo>
                    <a:lnTo>
                      <a:pt x="218" y="25"/>
                    </a:lnTo>
                    <a:lnTo>
                      <a:pt x="216" y="24"/>
                    </a:lnTo>
                    <a:lnTo>
                      <a:pt x="211" y="23"/>
                    </a:lnTo>
                    <a:lnTo>
                      <a:pt x="36" y="23"/>
                    </a:lnTo>
                    <a:lnTo>
                      <a:pt x="31" y="25"/>
                    </a:lnTo>
                    <a:lnTo>
                      <a:pt x="26" y="29"/>
                    </a:lnTo>
                    <a:lnTo>
                      <a:pt x="26" y="32"/>
                    </a:lnTo>
                    <a:lnTo>
                      <a:pt x="26" y="39"/>
                    </a:lnTo>
                    <a:lnTo>
                      <a:pt x="26" y="305"/>
                    </a:lnTo>
                    <a:lnTo>
                      <a:pt x="0" y="305"/>
                    </a:lnTo>
                    <a:lnTo>
                      <a:pt x="0" y="30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234800" y="618012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5" y="38"/>
                    </a:moveTo>
                    <a:lnTo>
                      <a:pt x="5" y="39"/>
                    </a:lnTo>
                    <a:lnTo>
                      <a:pt x="3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5" y="38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70080" y="6215040"/>
                <a:ext cx="101520" cy="10332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3" y="62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59" y="64"/>
                    </a:lnTo>
                    <a:lnTo>
                      <a:pt x="63" y="62"/>
                    </a:lnTo>
                    <a:lnTo>
                      <a:pt x="63" y="6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050840" y="6043680"/>
                <a:ext cx="307800" cy="318960"/>
              </a:xfrm>
              <a:custGeom>
                <a:avLst/>
                <a:gdLst/>
                <a:ahLst/>
                <a:rect l="l" t="t" r="r" b="b"/>
                <a:pathLst>
                  <a:path w="194" h="201">
                    <a:moveTo>
                      <a:pt x="66" y="21"/>
                    </a:moveTo>
                    <a:lnTo>
                      <a:pt x="68" y="34"/>
                    </a:lnTo>
                    <a:lnTo>
                      <a:pt x="66" y="34"/>
                    </a:lnTo>
                    <a:lnTo>
                      <a:pt x="63" y="49"/>
                    </a:lnTo>
                    <a:lnTo>
                      <a:pt x="61" y="50"/>
                    </a:lnTo>
                    <a:lnTo>
                      <a:pt x="53" y="51"/>
                    </a:lnTo>
                    <a:lnTo>
                      <a:pt x="52" y="55"/>
                    </a:lnTo>
                    <a:lnTo>
                      <a:pt x="58" y="60"/>
                    </a:lnTo>
                    <a:lnTo>
                      <a:pt x="58" y="67"/>
                    </a:lnTo>
                    <a:lnTo>
                      <a:pt x="82" y="87"/>
                    </a:lnTo>
                    <a:lnTo>
                      <a:pt x="126" y="99"/>
                    </a:lnTo>
                    <a:lnTo>
                      <a:pt x="141" y="99"/>
                    </a:lnTo>
                    <a:lnTo>
                      <a:pt x="145" y="105"/>
                    </a:lnTo>
                    <a:lnTo>
                      <a:pt x="138" y="113"/>
                    </a:lnTo>
                    <a:lnTo>
                      <a:pt x="127" y="113"/>
                    </a:lnTo>
                    <a:lnTo>
                      <a:pt x="121" y="110"/>
                    </a:lnTo>
                    <a:lnTo>
                      <a:pt x="115" y="113"/>
                    </a:lnTo>
                    <a:lnTo>
                      <a:pt x="103" y="113"/>
                    </a:lnTo>
                    <a:lnTo>
                      <a:pt x="68" y="106"/>
                    </a:lnTo>
                    <a:lnTo>
                      <a:pt x="65" y="130"/>
                    </a:lnTo>
                    <a:lnTo>
                      <a:pt x="117" y="146"/>
                    </a:lnTo>
                    <a:lnTo>
                      <a:pt x="167" y="180"/>
                    </a:lnTo>
                    <a:lnTo>
                      <a:pt x="187" y="174"/>
                    </a:lnTo>
                    <a:lnTo>
                      <a:pt x="193" y="177"/>
                    </a:lnTo>
                    <a:lnTo>
                      <a:pt x="169" y="200"/>
                    </a:lnTo>
                    <a:lnTo>
                      <a:pt x="159" y="191"/>
                    </a:lnTo>
                    <a:lnTo>
                      <a:pt x="109" y="171"/>
                    </a:lnTo>
                    <a:lnTo>
                      <a:pt x="115" y="178"/>
                    </a:lnTo>
                    <a:lnTo>
                      <a:pt x="116" y="183"/>
                    </a:lnTo>
                    <a:lnTo>
                      <a:pt x="116" y="190"/>
                    </a:lnTo>
                    <a:lnTo>
                      <a:pt x="0" y="190"/>
                    </a:lnTo>
                    <a:lnTo>
                      <a:pt x="0" y="87"/>
                    </a:lnTo>
                    <a:lnTo>
                      <a:pt x="19" y="87"/>
                    </a:lnTo>
                    <a:lnTo>
                      <a:pt x="23" y="67"/>
                    </a:lnTo>
                    <a:lnTo>
                      <a:pt x="28" y="55"/>
                    </a:lnTo>
                    <a:lnTo>
                      <a:pt x="32" y="46"/>
                    </a:lnTo>
                    <a:lnTo>
                      <a:pt x="35" y="47"/>
                    </a:lnTo>
                    <a:lnTo>
                      <a:pt x="35" y="42"/>
                    </a:lnTo>
                    <a:lnTo>
                      <a:pt x="32" y="33"/>
                    </a:lnTo>
                    <a:lnTo>
                      <a:pt x="31" y="23"/>
                    </a:lnTo>
                    <a:lnTo>
                      <a:pt x="32" y="13"/>
                    </a:lnTo>
                    <a:lnTo>
                      <a:pt x="35" y="5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1" y="3"/>
                    </a:lnTo>
                    <a:lnTo>
                      <a:pt x="63" y="8"/>
                    </a:lnTo>
                    <a:lnTo>
                      <a:pt x="66" y="17"/>
                    </a:lnTo>
                    <a:lnTo>
                      <a:pt x="78" y="21"/>
                    </a:lnTo>
                    <a:lnTo>
                      <a:pt x="66" y="21"/>
                    </a:lnTo>
                    <a:lnTo>
                      <a:pt x="66" y="2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234800" y="6423120"/>
                <a:ext cx="389160" cy="239760"/>
              </a:xfrm>
              <a:custGeom>
                <a:avLst/>
                <a:gdLst/>
                <a:ahLst/>
                <a:rect l="l" t="t" r="r" b="b"/>
                <a:pathLst>
                  <a:path w="245" h="151">
                    <a:moveTo>
                      <a:pt x="0" y="150"/>
                    </a:moveTo>
                    <a:lnTo>
                      <a:pt x="67" y="0"/>
                    </a:lnTo>
                    <a:lnTo>
                      <a:pt x="244" y="0"/>
                    </a:lnTo>
                    <a:lnTo>
                      <a:pt x="244" y="9"/>
                    </a:lnTo>
                    <a:lnTo>
                      <a:pt x="73" y="9"/>
                    </a:lnTo>
                    <a:lnTo>
                      <a:pt x="10" y="150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82640" y="6419880"/>
                <a:ext cx="281160" cy="230040"/>
              </a:xfrm>
              <a:custGeom>
                <a:avLst/>
                <a:gdLst/>
                <a:ahLst/>
                <a:rect l="l" t="t" r="r" b="b"/>
                <a:pathLst>
                  <a:path w="17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6" y="0"/>
                    </a:lnTo>
                    <a:lnTo>
                      <a:pt x="176" y="144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82640" y="6191280"/>
                <a:ext cx="281160" cy="230040"/>
              </a:xfrm>
              <a:custGeom>
                <a:avLst/>
                <a:gdLst/>
                <a:ahLst/>
                <a:rect l="l" t="t" r="r" b="b"/>
                <a:pathLst>
                  <a:path w="17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6" y="0"/>
                    </a:lnTo>
                    <a:lnTo>
                      <a:pt x="176" y="144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82640" y="5965920"/>
                <a:ext cx="281160" cy="228600"/>
              </a:xfrm>
              <a:custGeom>
                <a:avLst/>
                <a:gdLst/>
                <a:ahLst/>
                <a:rect l="l" t="t" r="r" b="b"/>
                <a:pathLst>
                  <a:path w="177" h="144">
                    <a:moveTo>
                      <a:pt x="0" y="143"/>
                    </a:moveTo>
                    <a:lnTo>
                      <a:pt x="0" y="0"/>
                    </a:lnTo>
                    <a:lnTo>
                      <a:pt x="176" y="0"/>
                    </a:lnTo>
                    <a:lnTo>
                      <a:pt x="176" y="143"/>
                    </a:lnTo>
                    <a:lnTo>
                      <a:pt x="0" y="143"/>
                    </a:lnTo>
                    <a:lnTo>
                      <a:pt x="0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320" y="6554880"/>
                <a:ext cx="108000" cy="210960"/>
              </a:xfrm>
              <a:custGeom>
                <a:avLst/>
                <a:gdLst/>
                <a:ahLst/>
                <a:rect l="l" t="t" r="r" b="b"/>
                <a:pathLst>
                  <a:path w="68" h="133">
                    <a:moveTo>
                      <a:pt x="67" y="36"/>
                    </a:moveTo>
                    <a:lnTo>
                      <a:pt x="62" y="36"/>
                    </a:lnTo>
                    <a:lnTo>
                      <a:pt x="56" y="37"/>
                    </a:lnTo>
                    <a:lnTo>
                      <a:pt x="52" y="41"/>
                    </a:lnTo>
                    <a:lnTo>
                      <a:pt x="46" y="43"/>
                    </a:lnTo>
                    <a:lnTo>
                      <a:pt x="43" y="47"/>
                    </a:lnTo>
                    <a:lnTo>
                      <a:pt x="39" y="52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5" y="67"/>
                    </a:lnTo>
                    <a:lnTo>
                      <a:pt x="36" y="73"/>
                    </a:lnTo>
                    <a:lnTo>
                      <a:pt x="37" y="78"/>
                    </a:lnTo>
                    <a:lnTo>
                      <a:pt x="40" y="83"/>
                    </a:lnTo>
                    <a:lnTo>
                      <a:pt x="44" y="87"/>
                    </a:lnTo>
                    <a:lnTo>
                      <a:pt x="47" y="91"/>
                    </a:lnTo>
                    <a:lnTo>
                      <a:pt x="52" y="93"/>
                    </a:lnTo>
                    <a:lnTo>
                      <a:pt x="56" y="96"/>
                    </a:lnTo>
                    <a:lnTo>
                      <a:pt x="63" y="98"/>
                    </a:lnTo>
                    <a:lnTo>
                      <a:pt x="67" y="98"/>
                    </a:lnTo>
                    <a:lnTo>
                      <a:pt x="67" y="132"/>
                    </a:lnTo>
                    <a:lnTo>
                      <a:pt x="62" y="132"/>
                    </a:lnTo>
                    <a:lnTo>
                      <a:pt x="53" y="132"/>
                    </a:lnTo>
                    <a:lnTo>
                      <a:pt x="45" y="129"/>
                    </a:lnTo>
                    <a:lnTo>
                      <a:pt x="38" y="126"/>
                    </a:lnTo>
                    <a:lnTo>
                      <a:pt x="31" y="122"/>
                    </a:lnTo>
                    <a:lnTo>
                      <a:pt x="24" y="118"/>
                    </a:lnTo>
                    <a:lnTo>
                      <a:pt x="18" y="112"/>
                    </a:lnTo>
                    <a:lnTo>
                      <a:pt x="13" y="106"/>
                    </a:lnTo>
                    <a:lnTo>
                      <a:pt x="8" y="99"/>
                    </a:lnTo>
                    <a:lnTo>
                      <a:pt x="5" y="92"/>
                    </a:lnTo>
                    <a:lnTo>
                      <a:pt x="3" y="83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2" y="52"/>
                    </a:lnTo>
                    <a:lnTo>
                      <a:pt x="4" y="43"/>
                    </a:lnTo>
                    <a:lnTo>
                      <a:pt x="7" y="37"/>
                    </a:lnTo>
                    <a:lnTo>
                      <a:pt x="12" y="30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3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9" y="1"/>
                    </a:lnTo>
                    <a:lnTo>
                      <a:pt x="67" y="0"/>
                    </a:lnTo>
                    <a:lnTo>
                      <a:pt x="67" y="36"/>
                    </a:lnTo>
                    <a:lnTo>
                      <a:pt x="67" y="3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65080" y="655488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67" h="133">
                    <a:moveTo>
                      <a:pt x="0" y="36"/>
                    </a:moveTo>
                    <a:lnTo>
                      <a:pt x="6" y="36"/>
                    </a:lnTo>
                    <a:lnTo>
                      <a:pt x="11" y="37"/>
                    </a:lnTo>
                    <a:lnTo>
                      <a:pt x="16" y="41"/>
                    </a:lnTo>
                    <a:lnTo>
                      <a:pt x="20" y="43"/>
                    </a:lnTo>
                    <a:lnTo>
                      <a:pt x="24" y="47"/>
                    </a:lnTo>
                    <a:lnTo>
                      <a:pt x="29" y="52"/>
                    </a:lnTo>
                    <a:lnTo>
                      <a:pt x="30" y="57"/>
                    </a:lnTo>
                    <a:lnTo>
                      <a:pt x="31" y="62"/>
                    </a:lnTo>
                    <a:lnTo>
                      <a:pt x="31" y="67"/>
                    </a:lnTo>
                    <a:lnTo>
                      <a:pt x="30" y="73"/>
                    </a:lnTo>
                    <a:lnTo>
                      <a:pt x="29" y="78"/>
                    </a:lnTo>
                    <a:lnTo>
                      <a:pt x="27" y="83"/>
                    </a:lnTo>
                    <a:lnTo>
                      <a:pt x="24" y="87"/>
                    </a:lnTo>
                    <a:lnTo>
                      <a:pt x="19" y="91"/>
                    </a:lnTo>
                    <a:lnTo>
                      <a:pt x="15" y="93"/>
                    </a:lnTo>
                    <a:lnTo>
                      <a:pt x="9" y="96"/>
                    </a:lnTo>
                    <a:lnTo>
                      <a:pt x="4" y="98"/>
                    </a:lnTo>
                    <a:lnTo>
                      <a:pt x="0" y="98"/>
                    </a:lnTo>
                    <a:lnTo>
                      <a:pt x="0" y="132"/>
                    </a:lnTo>
                    <a:lnTo>
                      <a:pt x="6" y="132"/>
                    </a:lnTo>
                    <a:lnTo>
                      <a:pt x="14" y="132"/>
                    </a:lnTo>
                    <a:lnTo>
                      <a:pt x="21" y="129"/>
                    </a:lnTo>
                    <a:lnTo>
                      <a:pt x="29" y="126"/>
                    </a:lnTo>
                    <a:lnTo>
                      <a:pt x="36" y="122"/>
                    </a:lnTo>
                    <a:lnTo>
                      <a:pt x="43" y="118"/>
                    </a:lnTo>
                    <a:lnTo>
                      <a:pt x="48" y="112"/>
                    </a:lnTo>
                    <a:lnTo>
                      <a:pt x="54" y="106"/>
                    </a:lnTo>
                    <a:lnTo>
                      <a:pt x="57" y="99"/>
                    </a:lnTo>
                    <a:lnTo>
                      <a:pt x="62" y="92"/>
                    </a:lnTo>
                    <a:lnTo>
                      <a:pt x="64" y="83"/>
                    </a:lnTo>
                    <a:lnTo>
                      <a:pt x="66" y="76"/>
                    </a:lnTo>
                    <a:lnTo>
                      <a:pt x="66" y="68"/>
                    </a:lnTo>
                    <a:lnTo>
                      <a:pt x="66" y="60"/>
                    </a:lnTo>
                    <a:lnTo>
                      <a:pt x="66" y="52"/>
                    </a:lnTo>
                    <a:lnTo>
                      <a:pt x="63" y="43"/>
                    </a:lnTo>
                    <a:lnTo>
                      <a:pt x="60" y="37"/>
                    </a:lnTo>
                    <a:lnTo>
                      <a:pt x="56" y="30"/>
                    </a:lnTo>
                    <a:lnTo>
                      <a:pt x="50" y="23"/>
                    </a:lnTo>
                    <a:lnTo>
                      <a:pt x="46" y="17"/>
                    </a:lnTo>
                    <a:lnTo>
                      <a:pt x="39" y="13"/>
                    </a:lnTo>
                    <a:lnTo>
                      <a:pt x="31" y="8"/>
                    </a:lnTo>
                    <a:lnTo>
                      <a:pt x="24" y="5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312920" y="6473880"/>
                <a:ext cx="145800" cy="288720"/>
              </a:xfrm>
              <a:custGeom>
                <a:avLst/>
                <a:gdLst/>
                <a:ahLst/>
                <a:rect l="l" t="t" r="r" b="b"/>
                <a:pathLst>
                  <a:path w="92" h="182">
                    <a:moveTo>
                      <a:pt x="91" y="40"/>
                    </a:moveTo>
                    <a:lnTo>
                      <a:pt x="84" y="40"/>
                    </a:lnTo>
                    <a:lnTo>
                      <a:pt x="76" y="42"/>
                    </a:lnTo>
                    <a:lnTo>
                      <a:pt x="70" y="45"/>
                    </a:lnTo>
                    <a:lnTo>
                      <a:pt x="64" y="48"/>
                    </a:lnTo>
                    <a:lnTo>
                      <a:pt x="59" y="52"/>
                    </a:lnTo>
                    <a:lnTo>
                      <a:pt x="53" y="57"/>
                    </a:lnTo>
                    <a:lnTo>
                      <a:pt x="49" y="63"/>
                    </a:lnTo>
                    <a:lnTo>
                      <a:pt x="46" y="68"/>
                    </a:lnTo>
                    <a:lnTo>
                      <a:pt x="42" y="75"/>
                    </a:lnTo>
                    <a:lnTo>
                      <a:pt x="40" y="82"/>
                    </a:lnTo>
                    <a:lnTo>
                      <a:pt x="40" y="89"/>
                    </a:lnTo>
                    <a:lnTo>
                      <a:pt x="40" y="96"/>
                    </a:lnTo>
                    <a:lnTo>
                      <a:pt x="41" y="103"/>
                    </a:lnTo>
                    <a:lnTo>
                      <a:pt x="44" y="110"/>
                    </a:lnTo>
                    <a:lnTo>
                      <a:pt x="46" y="117"/>
                    </a:lnTo>
                    <a:lnTo>
                      <a:pt x="50" y="122"/>
                    </a:lnTo>
                    <a:lnTo>
                      <a:pt x="56" y="128"/>
                    </a:lnTo>
                    <a:lnTo>
                      <a:pt x="60" y="133"/>
                    </a:lnTo>
                    <a:lnTo>
                      <a:pt x="67" y="136"/>
                    </a:lnTo>
                    <a:lnTo>
                      <a:pt x="73" y="139"/>
                    </a:lnTo>
                    <a:lnTo>
                      <a:pt x="80" y="141"/>
                    </a:lnTo>
                    <a:lnTo>
                      <a:pt x="87" y="143"/>
                    </a:lnTo>
                    <a:lnTo>
                      <a:pt x="91" y="143"/>
                    </a:lnTo>
                    <a:lnTo>
                      <a:pt x="91" y="181"/>
                    </a:lnTo>
                    <a:lnTo>
                      <a:pt x="89" y="181"/>
                    </a:lnTo>
                    <a:lnTo>
                      <a:pt x="80" y="181"/>
                    </a:lnTo>
                    <a:lnTo>
                      <a:pt x="70" y="179"/>
                    </a:lnTo>
                    <a:lnTo>
                      <a:pt x="62" y="177"/>
                    </a:lnTo>
                    <a:lnTo>
                      <a:pt x="53" y="173"/>
                    </a:lnTo>
                    <a:lnTo>
                      <a:pt x="44" y="170"/>
                    </a:lnTo>
                    <a:lnTo>
                      <a:pt x="36" y="164"/>
                    </a:lnTo>
                    <a:lnTo>
                      <a:pt x="29" y="158"/>
                    </a:lnTo>
                    <a:lnTo>
                      <a:pt x="22" y="151"/>
                    </a:lnTo>
                    <a:lnTo>
                      <a:pt x="16" y="143"/>
                    </a:lnTo>
                    <a:lnTo>
                      <a:pt x="11" y="136"/>
                    </a:lnTo>
                    <a:lnTo>
                      <a:pt x="8" y="127"/>
                    </a:lnTo>
                    <a:lnTo>
                      <a:pt x="4" y="118"/>
                    </a:lnTo>
                    <a:lnTo>
                      <a:pt x="1" y="110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3"/>
                    </a:lnTo>
                    <a:lnTo>
                      <a:pt x="8" y="54"/>
                    </a:lnTo>
                    <a:lnTo>
                      <a:pt x="12" y="45"/>
                    </a:lnTo>
                    <a:lnTo>
                      <a:pt x="17" y="38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8" y="17"/>
                    </a:lnTo>
                    <a:lnTo>
                      <a:pt x="46" y="13"/>
                    </a:lnTo>
                    <a:lnTo>
                      <a:pt x="54" y="8"/>
                    </a:lnTo>
                    <a:lnTo>
                      <a:pt x="63" y="5"/>
                    </a:lnTo>
                    <a:lnTo>
                      <a:pt x="73" y="3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91" y="40"/>
                    </a:lnTo>
                    <a:lnTo>
                      <a:pt x="91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454040" y="6473880"/>
                <a:ext cx="146160" cy="288720"/>
              </a:xfrm>
              <a:custGeom>
                <a:avLst/>
                <a:gdLst/>
                <a:ahLst/>
                <a:rect l="l" t="t" r="r" b="b"/>
                <a:pathLst>
                  <a:path w="92" h="182">
                    <a:moveTo>
                      <a:pt x="0" y="40"/>
                    </a:moveTo>
                    <a:lnTo>
                      <a:pt x="7" y="40"/>
                    </a:lnTo>
                    <a:lnTo>
                      <a:pt x="14" y="42"/>
                    </a:lnTo>
                    <a:lnTo>
                      <a:pt x="21" y="45"/>
                    </a:lnTo>
                    <a:lnTo>
                      <a:pt x="27" y="47"/>
                    </a:lnTo>
                    <a:lnTo>
                      <a:pt x="33" y="51"/>
                    </a:lnTo>
                    <a:lnTo>
                      <a:pt x="38" y="56"/>
                    </a:lnTo>
                    <a:lnTo>
                      <a:pt x="43" y="62"/>
                    </a:lnTo>
                    <a:lnTo>
                      <a:pt x="46" y="68"/>
                    </a:lnTo>
                    <a:lnTo>
                      <a:pt x="49" y="75"/>
                    </a:lnTo>
                    <a:lnTo>
                      <a:pt x="51" y="82"/>
                    </a:lnTo>
                    <a:lnTo>
                      <a:pt x="51" y="88"/>
                    </a:lnTo>
                    <a:lnTo>
                      <a:pt x="51" y="96"/>
                    </a:lnTo>
                    <a:lnTo>
                      <a:pt x="50" y="103"/>
                    </a:lnTo>
                    <a:lnTo>
                      <a:pt x="48" y="110"/>
                    </a:lnTo>
                    <a:lnTo>
                      <a:pt x="45" y="117"/>
                    </a:lnTo>
                    <a:lnTo>
                      <a:pt x="41" y="122"/>
                    </a:lnTo>
                    <a:lnTo>
                      <a:pt x="37" y="127"/>
                    </a:lnTo>
                    <a:lnTo>
                      <a:pt x="31" y="132"/>
                    </a:lnTo>
                    <a:lnTo>
                      <a:pt x="25" y="135"/>
                    </a:lnTo>
                    <a:lnTo>
                      <a:pt x="19" y="138"/>
                    </a:lnTo>
                    <a:lnTo>
                      <a:pt x="12" y="141"/>
                    </a:lnTo>
                    <a:lnTo>
                      <a:pt x="5" y="142"/>
                    </a:lnTo>
                    <a:lnTo>
                      <a:pt x="0" y="142"/>
                    </a:lnTo>
                    <a:lnTo>
                      <a:pt x="0" y="181"/>
                    </a:lnTo>
                    <a:lnTo>
                      <a:pt x="2" y="181"/>
                    </a:lnTo>
                    <a:lnTo>
                      <a:pt x="11" y="181"/>
                    </a:lnTo>
                    <a:lnTo>
                      <a:pt x="21" y="179"/>
                    </a:lnTo>
                    <a:lnTo>
                      <a:pt x="29" y="177"/>
                    </a:lnTo>
                    <a:lnTo>
                      <a:pt x="39" y="173"/>
                    </a:lnTo>
                    <a:lnTo>
                      <a:pt x="47" y="170"/>
                    </a:lnTo>
                    <a:lnTo>
                      <a:pt x="55" y="163"/>
                    </a:lnTo>
                    <a:lnTo>
                      <a:pt x="63" y="158"/>
                    </a:lnTo>
                    <a:lnTo>
                      <a:pt x="69" y="151"/>
                    </a:lnTo>
                    <a:lnTo>
                      <a:pt x="75" y="143"/>
                    </a:lnTo>
                    <a:lnTo>
                      <a:pt x="80" y="135"/>
                    </a:lnTo>
                    <a:lnTo>
                      <a:pt x="85" y="127"/>
                    </a:lnTo>
                    <a:lnTo>
                      <a:pt x="87" y="118"/>
                    </a:lnTo>
                    <a:lnTo>
                      <a:pt x="90" y="109"/>
                    </a:lnTo>
                    <a:lnTo>
                      <a:pt x="91" y="99"/>
                    </a:lnTo>
                    <a:lnTo>
                      <a:pt x="91" y="90"/>
                    </a:lnTo>
                    <a:lnTo>
                      <a:pt x="91" y="81"/>
                    </a:lnTo>
                    <a:lnTo>
                      <a:pt x="90" y="72"/>
                    </a:lnTo>
                    <a:lnTo>
                      <a:pt x="87" y="63"/>
                    </a:lnTo>
                    <a:lnTo>
                      <a:pt x="84" y="54"/>
                    </a:lnTo>
                    <a:lnTo>
                      <a:pt x="79" y="45"/>
                    </a:lnTo>
                    <a:lnTo>
                      <a:pt x="75" y="37"/>
                    </a:lnTo>
                    <a:lnTo>
                      <a:pt x="67" y="30"/>
                    </a:lnTo>
                    <a:lnTo>
                      <a:pt x="61" y="23"/>
                    </a:lnTo>
                    <a:lnTo>
                      <a:pt x="54" y="17"/>
                    </a:lnTo>
                    <a:lnTo>
                      <a:pt x="46" y="12"/>
                    </a:lnTo>
                    <a:lnTo>
                      <a:pt x="37" y="8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30160" y="6507000"/>
                <a:ext cx="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969840" y="666108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590480" y="6661080"/>
                <a:ext cx="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5459400" y="6081840"/>
            <a:ext cx="4370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Times New Roman"/>
              </a:rPr>
              <a:t>...y de producción neta para cada empre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507960"/>
            <a:ext cx="9453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como est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52880" y="2438280"/>
            <a:ext cx="5410440" cy="170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[x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1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 x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 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x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3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...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4876920"/>
            <a:ext cx="5410080" cy="189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[y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1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 y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 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y</a:t>
            </a:r>
            <a:r>
              <a:rPr b="0" lang="en-US" sz="7200" spc="-1" strike="noStrike" baseline="30000">
                <a:solidFill>
                  <a:srgbClr val="400080"/>
                </a:solidFill>
                <a:latin typeface="Times New Roman"/>
              </a:rPr>
              <a:t>3</a:t>
            </a:r>
            <a:r>
              <a:rPr b="0" lang="en-US" sz="7200" spc="-1" strike="noStrike">
                <a:solidFill>
                  <a:srgbClr val="400080"/>
                </a:solidFill>
                <a:latin typeface="Times New Roman"/>
              </a:rPr>
              <a:t>,...</a:t>
            </a:r>
            <a:r>
              <a:rPr b="1" lang="en-US" sz="7200" spc="-1" strike="noStrike">
                <a:solidFill>
                  <a:srgbClr val="400080"/>
                </a:solidFill>
                <a:latin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0T21:48:19Z</dcterms:created>
  <dc:creator>COWELL</dc:creator>
  <dc:description/>
  <dc:language>en-US</dc:language>
  <cp:lastModifiedBy>FERNANDO VICTOR TOW</cp:lastModifiedBy>
  <cp:lastPrinted>1997-08-31T17:00:38Z</cp:lastPrinted>
  <dcterms:modified xsi:type="dcterms:W3CDTF">1998-09-26T22:59:38Z</dcterms:modified>
  <cp:revision>72</cp:revision>
  <dc:subject/>
  <dc:title>Capitulo III Equilibrio General</dc:title>
</cp:coreProperties>
</file>