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1E8-DACE-4760-B4F8-9B1FE321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09A-31E5-4B4B-83D4-AC93F66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FD2-1F16-440C-9ECD-9FF2242E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E80-8965-4F09-A2B1-0528F853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7F9-B1CC-4DE9-AF37-910DAA0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B6C-F544-4C23-B6C7-55D700D7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774-EDD1-4CA2-8418-63A5DD3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75A-BC4A-44AA-83FF-D714A253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F4F-0E68-4A08-8D82-ECC0A2BA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B91-AE2A-46D3-9D2F-0B06414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F87-59CB-417B-8640-D7D6C038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57B-71C0-4EAF-801D-0FE6A48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5C2-5AE0-4654-AFEB-E5FB515B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80960" y="4061880"/>
            <a:ext cx="46674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apitulo  II.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727200"/>
            <a:ext cx="989964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Beneficios calculados a precios de mercado y a precios somb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53920" y="2871360"/>
            <a:ext cx="7581960" cy="154800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...+ p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71280" y="2451240"/>
            <a:ext cx="837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La definición convencional de beneficios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38080" y="5843160"/>
            <a:ext cx="7581960" cy="154800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07672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Arial"/>
              </a:rPr>
              <a:t>...adaptada para usarse con precios “sombra” </a:t>
            </a:r>
            <a:r>
              <a:rPr b="1" i="1" lang="en-GB" sz="30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9920000">
            <a:off x="84240" y="1917360"/>
            <a:ext cx="10362960" cy="38163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Brush738 BT"/>
              </a:rPr>
              <a:t>No hay mercado por lo que no hay sistema de precios. Asi que inventamos los precios “sombra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se precios “sombra”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38080" y="1880280"/>
            <a:ext cx="7581960" cy="1547640"/>
          </a:xfrm>
          <a:prstGeom prst="roundRect">
            <a:avLst>
              <a:gd name="adj" fmla="val 4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2600" y="3457800"/>
            <a:ext cx="672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38080" y="2161800"/>
            <a:ext cx="7581960" cy="990720"/>
          </a:xfrm>
          <a:prstGeom prst="roundRect">
            <a:avLst>
              <a:gd name="adj" fmla="val 4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82720" y="2276280"/>
            <a:ext cx="8947080" cy="1280880"/>
          </a:xfrm>
          <a:prstGeom prst="roundRect">
            <a:avLst>
              <a:gd name="adj" fmla="val 6245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800" y="91440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para evaluar el ingreso naci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77120" y="2492280"/>
            <a:ext cx="1766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Benefic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7120" y="4037040"/>
            <a:ext cx="26067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valor  de los recur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84160" y="3868200"/>
            <a:ext cx="9061560" cy="1324080"/>
          </a:xfrm>
          <a:prstGeom prst="roundRect">
            <a:avLst>
              <a:gd name="adj" fmla="val 6245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00280" y="3885840"/>
            <a:ext cx="7581600" cy="990720"/>
          </a:xfrm>
          <a:prstGeom prst="roundRect">
            <a:avLst>
              <a:gd name="adj" fmla="val 4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43640" y="6049800"/>
            <a:ext cx="27226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valor del ingreso na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2560" y="5672160"/>
            <a:ext cx="83995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51040" y="5818680"/>
            <a:ext cx="9102600" cy="1608120"/>
          </a:xfrm>
          <a:prstGeom prst="roundRect">
            <a:avLst>
              <a:gd name="adj" fmla="val 6245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" y="6095880"/>
            <a:ext cx="7581960" cy="990720"/>
          </a:xfrm>
          <a:prstGeom prst="roundRect">
            <a:avLst>
              <a:gd name="adj" fmla="val 4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+...+ 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447920" y="2286000"/>
            <a:ext cx="4860720" cy="4721400"/>
            <a:chOff x="1447920" y="2286000"/>
            <a:chExt cx="4860720" cy="4721400"/>
          </a:xfrm>
        </p:grpSpPr>
        <p:sp>
          <p:nvSpPr>
            <p:cNvPr id="203" name=""/>
            <p:cNvSpPr/>
            <p:nvPr/>
          </p:nvSpPr>
          <p:spPr>
            <a:xfrm>
              <a:off x="1536840" y="4189320"/>
              <a:ext cx="4195800" cy="2203560"/>
            </a:xfrm>
            <a:custGeom>
              <a:avLst/>
              <a:gdLst/>
              <a:ahLst/>
              <a:rect l="l" t="t" r="r" b="b"/>
              <a:pathLst>
                <a:path w="2643" h="1388">
                  <a:moveTo>
                    <a:pt x="0" y="1082"/>
                  </a:moveTo>
                  <a:lnTo>
                    <a:pt x="1553" y="178"/>
                  </a:lnTo>
                  <a:lnTo>
                    <a:pt x="1347" y="0"/>
                  </a:lnTo>
                  <a:lnTo>
                    <a:pt x="2590" y="91"/>
                  </a:lnTo>
                  <a:lnTo>
                    <a:pt x="2642" y="798"/>
                  </a:lnTo>
                  <a:lnTo>
                    <a:pt x="2441" y="673"/>
                  </a:lnTo>
                  <a:lnTo>
                    <a:pt x="472" y="1387"/>
                  </a:lnTo>
                  <a:lnTo>
                    <a:pt x="0" y="1082"/>
                  </a:lnTo>
                  <a:lnTo>
                    <a:pt x="0" y="108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2840" y="4363920"/>
              <a:ext cx="3929040" cy="264348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82840" y="5407200"/>
              <a:ext cx="2496960" cy="160020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7920" y="4876920"/>
              <a:ext cx="3276360" cy="210024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63760" y="3657600"/>
              <a:ext cx="4708440" cy="312408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7920" y="2971800"/>
              <a:ext cx="4708440" cy="312408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2286000"/>
              <a:ext cx="4708440" cy="3124080"/>
            </a:xfrm>
            <a:prstGeom prst="line">
              <a:avLst/>
            </a:prstGeom>
            <a:ln w="381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46040" y="727200"/>
            <a:ext cx="94536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valor constante del ingreso nacion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82840" y="2467080"/>
            <a:ext cx="0" cy="45403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2840" y="700740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82840" y="5407200"/>
            <a:ext cx="2496960" cy="1600200"/>
          </a:xfrm>
          <a:prstGeom prst="line">
            <a:avLst/>
          </a:prstGeom>
          <a:ln w="316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3886200"/>
            <a:ext cx="6858000" cy="1219320"/>
          </a:xfrm>
          <a:prstGeom prst="wedgeRoundRectCallout">
            <a:avLst>
              <a:gd name="adj1" fmla="val -56458"/>
              <a:gd name="adj2" fmla="val 119009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" y="1794240"/>
            <a:ext cx="1221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44520" y="6518520"/>
            <a:ext cx="1221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33520"/>
            <a:ext cx="100584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Valores mas y mas altos de ingreso nacion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81040" y="4303800"/>
            <a:ext cx="4334040" cy="2698560"/>
          </a:xfrm>
          <a:custGeom>
            <a:avLst/>
            <a:gdLst/>
            <a:ahLst/>
            <a:rect l="l" t="t" r="r" b="b"/>
            <a:pathLst>
              <a:path w="2730" h="1700">
                <a:moveTo>
                  <a:pt x="0" y="0"/>
                </a:moveTo>
                <a:lnTo>
                  <a:pt x="0" y="0"/>
                </a:lnTo>
                <a:lnTo>
                  <a:pt x="0" y="1699"/>
                </a:lnTo>
                <a:lnTo>
                  <a:pt x="2729" y="1697"/>
                </a:lnTo>
                <a:lnTo>
                  <a:pt x="2729" y="1697"/>
                </a:lnTo>
                <a:lnTo>
                  <a:pt x="2697" y="1563"/>
                </a:lnTo>
                <a:lnTo>
                  <a:pt x="2689" y="1530"/>
                </a:lnTo>
                <a:lnTo>
                  <a:pt x="2675" y="1490"/>
                </a:lnTo>
                <a:lnTo>
                  <a:pt x="2662" y="1447"/>
                </a:lnTo>
                <a:lnTo>
                  <a:pt x="2647" y="1404"/>
                </a:lnTo>
                <a:lnTo>
                  <a:pt x="2630" y="1359"/>
                </a:lnTo>
                <a:lnTo>
                  <a:pt x="2615" y="1315"/>
                </a:lnTo>
                <a:lnTo>
                  <a:pt x="2601" y="1275"/>
                </a:lnTo>
                <a:lnTo>
                  <a:pt x="2590" y="1257"/>
                </a:lnTo>
                <a:lnTo>
                  <a:pt x="2582" y="1237"/>
                </a:lnTo>
                <a:lnTo>
                  <a:pt x="2571" y="1211"/>
                </a:lnTo>
                <a:lnTo>
                  <a:pt x="2559" y="1186"/>
                </a:lnTo>
                <a:lnTo>
                  <a:pt x="2547" y="1162"/>
                </a:lnTo>
                <a:lnTo>
                  <a:pt x="2534" y="1133"/>
                </a:lnTo>
                <a:lnTo>
                  <a:pt x="2522" y="1106"/>
                </a:lnTo>
                <a:lnTo>
                  <a:pt x="2509" y="1077"/>
                </a:lnTo>
                <a:lnTo>
                  <a:pt x="2495" y="1051"/>
                </a:lnTo>
                <a:lnTo>
                  <a:pt x="2480" y="1023"/>
                </a:lnTo>
                <a:lnTo>
                  <a:pt x="2467" y="997"/>
                </a:lnTo>
                <a:lnTo>
                  <a:pt x="2454" y="969"/>
                </a:lnTo>
                <a:lnTo>
                  <a:pt x="2440" y="944"/>
                </a:lnTo>
                <a:lnTo>
                  <a:pt x="2427" y="920"/>
                </a:lnTo>
                <a:lnTo>
                  <a:pt x="2417" y="899"/>
                </a:lnTo>
                <a:lnTo>
                  <a:pt x="2405" y="878"/>
                </a:lnTo>
                <a:lnTo>
                  <a:pt x="2389" y="860"/>
                </a:lnTo>
                <a:lnTo>
                  <a:pt x="2379" y="840"/>
                </a:lnTo>
                <a:lnTo>
                  <a:pt x="2365" y="817"/>
                </a:lnTo>
                <a:lnTo>
                  <a:pt x="2347" y="792"/>
                </a:lnTo>
                <a:lnTo>
                  <a:pt x="2331" y="769"/>
                </a:lnTo>
                <a:lnTo>
                  <a:pt x="2313" y="743"/>
                </a:lnTo>
                <a:lnTo>
                  <a:pt x="2295" y="719"/>
                </a:lnTo>
                <a:lnTo>
                  <a:pt x="2277" y="693"/>
                </a:lnTo>
                <a:lnTo>
                  <a:pt x="2255" y="670"/>
                </a:lnTo>
                <a:lnTo>
                  <a:pt x="2238" y="645"/>
                </a:lnTo>
                <a:lnTo>
                  <a:pt x="2219" y="621"/>
                </a:lnTo>
                <a:lnTo>
                  <a:pt x="2201" y="599"/>
                </a:lnTo>
                <a:lnTo>
                  <a:pt x="2184" y="577"/>
                </a:lnTo>
                <a:lnTo>
                  <a:pt x="2167" y="557"/>
                </a:lnTo>
                <a:lnTo>
                  <a:pt x="2149" y="539"/>
                </a:lnTo>
                <a:lnTo>
                  <a:pt x="2137" y="523"/>
                </a:lnTo>
                <a:lnTo>
                  <a:pt x="2104" y="496"/>
                </a:lnTo>
                <a:lnTo>
                  <a:pt x="2068" y="459"/>
                </a:lnTo>
                <a:lnTo>
                  <a:pt x="2029" y="423"/>
                </a:lnTo>
                <a:lnTo>
                  <a:pt x="1990" y="388"/>
                </a:lnTo>
                <a:lnTo>
                  <a:pt x="1952" y="355"/>
                </a:lnTo>
                <a:lnTo>
                  <a:pt x="1917" y="325"/>
                </a:lnTo>
                <a:lnTo>
                  <a:pt x="1886" y="297"/>
                </a:lnTo>
                <a:lnTo>
                  <a:pt x="1859" y="275"/>
                </a:lnTo>
                <a:lnTo>
                  <a:pt x="1833" y="259"/>
                </a:lnTo>
                <a:lnTo>
                  <a:pt x="1803" y="238"/>
                </a:lnTo>
                <a:lnTo>
                  <a:pt x="1770" y="215"/>
                </a:lnTo>
                <a:lnTo>
                  <a:pt x="1735" y="192"/>
                </a:lnTo>
                <a:lnTo>
                  <a:pt x="1699" y="173"/>
                </a:lnTo>
                <a:lnTo>
                  <a:pt x="1668" y="151"/>
                </a:lnTo>
                <a:lnTo>
                  <a:pt x="1637" y="135"/>
                </a:lnTo>
                <a:lnTo>
                  <a:pt x="1613" y="120"/>
                </a:lnTo>
                <a:lnTo>
                  <a:pt x="1584" y="110"/>
                </a:lnTo>
                <a:lnTo>
                  <a:pt x="1559" y="97"/>
                </a:lnTo>
                <a:lnTo>
                  <a:pt x="1529" y="84"/>
                </a:lnTo>
                <a:lnTo>
                  <a:pt x="1498" y="71"/>
                </a:lnTo>
                <a:lnTo>
                  <a:pt x="1467" y="60"/>
                </a:lnTo>
                <a:lnTo>
                  <a:pt x="1439" y="51"/>
                </a:lnTo>
                <a:lnTo>
                  <a:pt x="1414" y="42"/>
                </a:lnTo>
                <a:lnTo>
                  <a:pt x="1395" y="35"/>
                </a:lnTo>
                <a:lnTo>
                  <a:pt x="1374" y="34"/>
                </a:lnTo>
                <a:lnTo>
                  <a:pt x="1351" y="29"/>
                </a:lnTo>
                <a:lnTo>
                  <a:pt x="1325" y="25"/>
                </a:lnTo>
                <a:lnTo>
                  <a:pt x="1301" y="20"/>
                </a:lnTo>
                <a:lnTo>
                  <a:pt x="1273" y="17"/>
                </a:lnTo>
                <a:lnTo>
                  <a:pt x="1248" y="13"/>
                </a:lnTo>
                <a:lnTo>
                  <a:pt x="1225" y="12"/>
                </a:lnTo>
                <a:lnTo>
                  <a:pt x="1207" y="8"/>
                </a:lnTo>
                <a:lnTo>
                  <a:pt x="1114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82840" y="4363920"/>
            <a:ext cx="3929040" cy="26434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82840" y="5407200"/>
            <a:ext cx="2496960" cy="160020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876920"/>
            <a:ext cx="3276360" cy="210024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3760" y="3809880"/>
            <a:ext cx="4708440" cy="312444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276720"/>
            <a:ext cx="4708440" cy="31240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743200"/>
            <a:ext cx="4708440" cy="31240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46040" y="380520"/>
            <a:ext cx="945360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aximizando el ingreso nacional de la isl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82840" y="700740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0492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triccion presupuestaria”de la Isla de R.Cruso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86080" y="2685960"/>
            <a:ext cx="6346800" cy="4343400"/>
          </a:xfrm>
          <a:custGeom>
            <a:avLst/>
            <a:gdLst/>
            <a:ahLst/>
            <a:rect l="l" t="t" r="r" b="b"/>
            <a:pathLst>
              <a:path w="3998" h="2736">
                <a:moveTo>
                  <a:pt x="2" y="0"/>
                </a:moveTo>
                <a:lnTo>
                  <a:pt x="3" y="2736"/>
                </a:lnTo>
                <a:lnTo>
                  <a:pt x="3998" y="2719"/>
                </a:lnTo>
                <a:lnTo>
                  <a:pt x="0" y="36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810000">
              <a:alpha val="50000"/>
            </a:srgbClr>
          </a:solidFill>
          <a:ln w="1908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482840" y="2467080"/>
            <a:ext cx="0" cy="45403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267080" y="1523880"/>
            <a:ext cx="6648480" cy="2722320"/>
            <a:chOff x="4267080" y="1523880"/>
            <a:chExt cx="6648480" cy="2722320"/>
          </a:xfrm>
        </p:grpSpPr>
        <p:sp>
          <p:nvSpPr>
            <p:cNvPr id="231" name=""/>
            <p:cNvSpPr/>
            <p:nvPr/>
          </p:nvSpPr>
          <p:spPr>
            <a:xfrm flipV="1">
              <a:off x="4267080" y="1523520"/>
              <a:ext cx="5405400" cy="27223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4752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489560" y="1747440"/>
              <a:ext cx="6426000" cy="2105280"/>
              <a:chOff x="4489560" y="1747440"/>
              <a:chExt cx="6426000" cy="2105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489560" y="1898280"/>
                <a:ext cx="2530440" cy="19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_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85120" y="1898280"/>
                <a:ext cx="2530440" cy="19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77120" y="2307960"/>
                <a:ext cx="601560" cy="10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30680" y="1747440"/>
                <a:ext cx="5024520" cy="21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473280" y="1940040"/>
            <a:ext cx="2989440" cy="3376440"/>
          </a:xfrm>
          <a:custGeom>
            <a:avLst/>
            <a:gdLst/>
            <a:ahLst/>
            <a:rect l="l" t="t" r="r" b="b"/>
            <a:pathLst>
              <a:path w="1883" h="2127">
                <a:moveTo>
                  <a:pt x="0" y="0"/>
                </a:moveTo>
                <a:lnTo>
                  <a:pt x="1" y="19"/>
                </a:lnTo>
                <a:lnTo>
                  <a:pt x="3" y="33"/>
                </a:lnTo>
                <a:lnTo>
                  <a:pt x="3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8"/>
                </a:lnTo>
                <a:lnTo>
                  <a:pt x="7" y="70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8" y="78"/>
                </a:lnTo>
                <a:lnTo>
                  <a:pt x="8" y="82"/>
                </a:lnTo>
                <a:lnTo>
                  <a:pt x="8" y="86"/>
                </a:lnTo>
                <a:lnTo>
                  <a:pt x="9" y="93"/>
                </a:lnTo>
                <a:lnTo>
                  <a:pt x="11" y="101"/>
                </a:lnTo>
                <a:lnTo>
                  <a:pt x="12" y="113"/>
                </a:lnTo>
                <a:lnTo>
                  <a:pt x="13" y="127"/>
                </a:lnTo>
                <a:lnTo>
                  <a:pt x="16" y="144"/>
                </a:lnTo>
                <a:lnTo>
                  <a:pt x="20" y="162"/>
                </a:lnTo>
                <a:lnTo>
                  <a:pt x="23" y="184"/>
                </a:lnTo>
                <a:lnTo>
                  <a:pt x="27" y="206"/>
                </a:lnTo>
                <a:lnTo>
                  <a:pt x="31" y="230"/>
                </a:lnTo>
                <a:lnTo>
                  <a:pt x="37" y="255"/>
                </a:lnTo>
                <a:lnTo>
                  <a:pt x="41" y="282"/>
                </a:lnTo>
                <a:lnTo>
                  <a:pt x="47" y="309"/>
                </a:lnTo>
                <a:lnTo>
                  <a:pt x="52" y="337"/>
                </a:lnTo>
                <a:lnTo>
                  <a:pt x="58" y="364"/>
                </a:lnTo>
                <a:lnTo>
                  <a:pt x="64" y="392"/>
                </a:lnTo>
                <a:lnTo>
                  <a:pt x="70" y="420"/>
                </a:lnTo>
                <a:lnTo>
                  <a:pt x="75" y="446"/>
                </a:lnTo>
                <a:lnTo>
                  <a:pt x="81" y="471"/>
                </a:lnTo>
                <a:lnTo>
                  <a:pt x="87" y="498"/>
                </a:lnTo>
                <a:lnTo>
                  <a:pt x="93" y="524"/>
                </a:lnTo>
                <a:lnTo>
                  <a:pt x="100" y="552"/>
                </a:lnTo>
                <a:lnTo>
                  <a:pt x="108" y="581"/>
                </a:lnTo>
                <a:lnTo>
                  <a:pt x="115" y="610"/>
                </a:lnTo>
                <a:lnTo>
                  <a:pt x="122" y="639"/>
                </a:lnTo>
                <a:lnTo>
                  <a:pt x="130" y="667"/>
                </a:lnTo>
                <a:lnTo>
                  <a:pt x="139" y="696"/>
                </a:lnTo>
                <a:lnTo>
                  <a:pt x="146" y="724"/>
                </a:lnTo>
                <a:lnTo>
                  <a:pt x="154" y="750"/>
                </a:lnTo>
                <a:lnTo>
                  <a:pt x="161" y="776"/>
                </a:lnTo>
                <a:lnTo>
                  <a:pt x="169" y="799"/>
                </a:lnTo>
                <a:lnTo>
                  <a:pt x="174" y="822"/>
                </a:lnTo>
                <a:lnTo>
                  <a:pt x="182" y="841"/>
                </a:lnTo>
                <a:lnTo>
                  <a:pt x="187" y="858"/>
                </a:lnTo>
                <a:lnTo>
                  <a:pt x="194" y="872"/>
                </a:lnTo>
                <a:lnTo>
                  <a:pt x="199" y="886"/>
                </a:lnTo>
                <a:lnTo>
                  <a:pt x="204" y="901"/>
                </a:lnTo>
                <a:lnTo>
                  <a:pt x="211" y="919"/>
                </a:lnTo>
                <a:lnTo>
                  <a:pt x="218" y="936"/>
                </a:lnTo>
                <a:lnTo>
                  <a:pt x="226" y="956"/>
                </a:lnTo>
                <a:lnTo>
                  <a:pt x="234" y="976"/>
                </a:lnTo>
                <a:lnTo>
                  <a:pt x="244" y="998"/>
                </a:lnTo>
                <a:lnTo>
                  <a:pt x="253" y="1018"/>
                </a:lnTo>
                <a:lnTo>
                  <a:pt x="261" y="1040"/>
                </a:lnTo>
                <a:lnTo>
                  <a:pt x="270" y="1063"/>
                </a:lnTo>
                <a:lnTo>
                  <a:pt x="280" y="1085"/>
                </a:lnTo>
                <a:lnTo>
                  <a:pt x="289" y="1106"/>
                </a:lnTo>
                <a:lnTo>
                  <a:pt x="297" y="1126"/>
                </a:lnTo>
                <a:lnTo>
                  <a:pt x="306" y="1145"/>
                </a:lnTo>
                <a:lnTo>
                  <a:pt x="315" y="1164"/>
                </a:lnTo>
                <a:lnTo>
                  <a:pt x="324" y="1180"/>
                </a:lnTo>
                <a:lnTo>
                  <a:pt x="330" y="1198"/>
                </a:lnTo>
                <a:lnTo>
                  <a:pt x="338" y="1216"/>
                </a:lnTo>
                <a:lnTo>
                  <a:pt x="346" y="1236"/>
                </a:lnTo>
                <a:lnTo>
                  <a:pt x="355" y="1255"/>
                </a:lnTo>
                <a:lnTo>
                  <a:pt x="363" y="1276"/>
                </a:lnTo>
                <a:lnTo>
                  <a:pt x="373" y="1296"/>
                </a:lnTo>
                <a:lnTo>
                  <a:pt x="382" y="1317"/>
                </a:lnTo>
                <a:lnTo>
                  <a:pt x="392" y="1337"/>
                </a:lnTo>
                <a:lnTo>
                  <a:pt x="399" y="1358"/>
                </a:lnTo>
                <a:lnTo>
                  <a:pt x="408" y="1377"/>
                </a:lnTo>
                <a:lnTo>
                  <a:pt x="416" y="1396"/>
                </a:lnTo>
                <a:lnTo>
                  <a:pt x="425" y="1413"/>
                </a:lnTo>
                <a:lnTo>
                  <a:pt x="432" y="1430"/>
                </a:lnTo>
                <a:lnTo>
                  <a:pt x="440" y="1445"/>
                </a:lnTo>
                <a:lnTo>
                  <a:pt x="445" y="1459"/>
                </a:lnTo>
                <a:lnTo>
                  <a:pt x="452" y="1469"/>
                </a:lnTo>
                <a:lnTo>
                  <a:pt x="457" y="1481"/>
                </a:lnTo>
                <a:lnTo>
                  <a:pt x="463" y="1493"/>
                </a:lnTo>
                <a:lnTo>
                  <a:pt x="470" y="1507"/>
                </a:lnTo>
                <a:lnTo>
                  <a:pt x="479" y="1520"/>
                </a:lnTo>
                <a:lnTo>
                  <a:pt x="487" y="1535"/>
                </a:lnTo>
                <a:lnTo>
                  <a:pt x="496" y="1550"/>
                </a:lnTo>
                <a:lnTo>
                  <a:pt x="506" y="1566"/>
                </a:lnTo>
                <a:lnTo>
                  <a:pt x="517" y="1581"/>
                </a:lnTo>
                <a:lnTo>
                  <a:pt x="526" y="1598"/>
                </a:lnTo>
                <a:lnTo>
                  <a:pt x="538" y="1613"/>
                </a:lnTo>
                <a:lnTo>
                  <a:pt x="547" y="1628"/>
                </a:lnTo>
                <a:lnTo>
                  <a:pt x="558" y="1643"/>
                </a:lnTo>
                <a:lnTo>
                  <a:pt x="567" y="1658"/>
                </a:lnTo>
                <a:lnTo>
                  <a:pt x="577" y="1671"/>
                </a:lnTo>
                <a:lnTo>
                  <a:pt x="587" y="1683"/>
                </a:lnTo>
                <a:lnTo>
                  <a:pt x="597" y="1693"/>
                </a:lnTo>
                <a:lnTo>
                  <a:pt x="606" y="1705"/>
                </a:lnTo>
                <a:lnTo>
                  <a:pt x="615" y="1716"/>
                </a:lnTo>
                <a:lnTo>
                  <a:pt x="626" y="1730"/>
                </a:lnTo>
                <a:lnTo>
                  <a:pt x="637" y="1741"/>
                </a:lnTo>
                <a:lnTo>
                  <a:pt x="648" y="1754"/>
                </a:lnTo>
                <a:lnTo>
                  <a:pt x="662" y="1768"/>
                </a:lnTo>
                <a:lnTo>
                  <a:pt x="675" y="1780"/>
                </a:lnTo>
                <a:lnTo>
                  <a:pt x="688" y="1792"/>
                </a:lnTo>
                <a:lnTo>
                  <a:pt x="699" y="1806"/>
                </a:lnTo>
                <a:lnTo>
                  <a:pt x="712" y="1818"/>
                </a:lnTo>
                <a:lnTo>
                  <a:pt x="724" y="1829"/>
                </a:lnTo>
                <a:lnTo>
                  <a:pt x="737" y="1840"/>
                </a:lnTo>
                <a:lnTo>
                  <a:pt x="748" y="1851"/>
                </a:lnTo>
                <a:lnTo>
                  <a:pt x="760" y="1860"/>
                </a:lnTo>
                <a:lnTo>
                  <a:pt x="769" y="1868"/>
                </a:lnTo>
                <a:lnTo>
                  <a:pt x="779" y="1875"/>
                </a:lnTo>
                <a:lnTo>
                  <a:pt x="787" y="1882"/>
                </a:lnTo>
                <a:lnTo>
                  <a:pt x="796" y="1889"/>
                </a:lnTo>
                <a:lnTo>
                  <a:pt x="806" y="1897"/>
                </a:lnTo>
                <a:lnTo>
                  <a:pt x="815" y="1902"/>
                </a:lnTo>
                <a:lnTo>
                  <a:pt x="824" y="1910"/>
                </a:lnTo>
                <a:lnTo>
                  <a:pt x="833" y="1917"/>
                </a:lnTo>
                <a:lnTo>
                  <a:pt x="842" y="1924"/>
                </a:lnTo>
                <a:lnTo>
                  <a:pt x="852" y="1930"/>
                </a:lnTo>
                <a:lnTo>
                  <a:pt x="860" y="1937"/>
                </a:lnTo>
                <a:lnTo>
                  <a:pt x="868" y="1943"/>
                </a:lnTo>
                <a:lnTo>
                  <a:pt x="876" y="1948"/>
                </a:lnTo>
                <a:lnTo>
                  <a:pt x="883" y="1953"/>
                </a:lnTo>
                <a:lnTo>
                  <a:pt x="889" y="1958"/>
                </a:lnTo>
                <a:lnTo>
                  <a:pt x="894" y="1962"/>
                </a:lnTo>
                <a:lnTo>
                  <a:pt x="899" y="1965"/>
                </a:lnTo>
                <a:lnTo>
                  <a:pt x="904" y="1966"/>
                </a:lnTo>
                <a:lnTo>
                  <a:pt x="906" y="1970"/>
                </a:lnTo>
                <a:lnTo>
                  <a:pt x="910" y="1972"/>
                </a:lnTo>
                <a:lnTo>
                  <a:pt x="915" y="1975"/>
                </a:lnTo>
                <a:lnTo>
                  <a:pt x="920" y="1977"/>
                </a:lnTo>
                <a:lnTo>
                  <a:pt x="926" y="1981"/>
                </a:lnTo>
                <a:lnTo>
                  <a:pt x="932" y="1984"/>
                </a:lnTo>
                <a:lnTo>
                  <a:pt x="939" y="1988"/>
                </a:lnTo>
                <a:lnTo>
                  <a:pt x="946" y="1990"/>
                </a:lnTo>
                <a:lnTo>
                  <a:pt x="953" y="1993"/>
                </a:lnTo>
                <a:lnTo>
                  <a:pt x="960" y="1997"/>
                </a:lnTo>
                <a:lnTo>
                  <a:pt x="968" y="2001"/>
                </a:lnTo>
                <a:lnTo>
                  <a:pt x="976" y="2004"/>
                </a:lnTo>
                <a:lnTo>
                  <a:pt x="983" y="2008"/>
                </a:lnTo>
                <a:lnTo>
                  <a:pt x="990" y="2010"/>
                </a:lnTo>
                <a:lnTo>
                  <a:pt x="997" y="2013"/>
                </a:lnTo>
                <a:lnTo>
                  <a:pt x="1005" y="2015"/>
                </a:lnTo>
                <a:lnTo>
                  <a:pt x="1012" y="2019"/>
                </a:lnTo>
                <a:lnTo>
                  <a:pt x="1020" y="2022"/>
                </a:lnTo>
                <a:lnTo>
                  <a:pt x="1028" y="2025"/>
                </a:lnTo>
                <a:lnTo>
                  <a:pt x="1039" y="2027"/>
                </a:lnTo>
                <a:lnTo>
                  <a:pt x="1050" y="2031"/>
                </a:lnTo>
                <a:lnTo>
                  <a:pt x="1062" y="2034"/>
                </a:lnTo>
                <a:lnTo>
                  <a:pt x="1074" y="2038"/>
                </a:lnTo>
                <a:lnTo>
                  <a:pt x="1086" y="2042"/>
                </a:lnTo>
                <a:lnTo>
                  <a:pt x="1098" y="2045"/>
                </a:lnTo>
                <a:lnTo>
                  <a:pt x="1112" y="2049"/>
                </a:lnTo>
                <a:lnTo>
                  <a:pt x="1124" y="2053"/>
                </a:lnTo>
                <a:lnTo>
                  <a:pt x="1137" y="2056"/>
                </a:lnTo>
                <a:lnTo>
                  <a:pt x="1148" y="2060"/>
                </a:lnTo>
                <a:lnTo>
                  <a:pt x="1162" y="2063"/>
                </a:lnTo>
                <a:lnTo>
                  <a:pt x="1173" y="2067"/>
                </a:lnTo>
                <a:lnTo>
                  <a:pt x="1184" y="2069"/>
                </a:lnTo>
                <a:lnTo>
                  <a:pt x="1193" y="2073"/>
                </a:lnTo>
                <a:lnTo>
                  <a:pt x="1204" y="2074"/>
                </a:lnTo>
                <a:lnTo>
                  <a:pt x="1217" y="2078"/>
                </a:lnTo>
                <a:lnTo>
                  <a:pt x="1230" y="2080"/>
                </a:lnTo>
                <a:lnTo>
                  <a:pt x="1243" y="2083"/>
                </a:lnTo>
                <a:lnTo>
                  <a:pt x="1257" y="2085"/>
                </a:lnTo>
                <a:lnTo>
                  <a:pt x="1270" y="2089"/>
                </a:lnTo>
                <a:lnTo>
                  <a:pt x="1285" y="2091"/>
                </a:lnTo>
                <a:lnTo>
                  <a:pt x="1298" y="2094"/>
                </a:lnTo>
                <a:lnTo>
                  <a:pt x="1312" y="2096"/>
                </a:lnTo>
                <a:lnTo>
                  <a:pt x="1325" y="2099"/>
                </a:lnTo>
                <a:lnTo>
                  <a:pt x="1338" y="2101"/>
                </a:lnTo>
                <a:lnTo>
                  <a:pt x="1349" y="2102"/>
                </a:lnTo>
                <a:lnTo>
                  <a:pt x="1361" y="2104"/>
                </a:lnTo>
                <a:lnTo>
                  <a:pt x="1371" y="2106"/>
                </a:lnTo>
                <a:lnTo>
                  <a:pt x="1382" y="2107"/>
                </a:lnTo>
                <a:lnTo>
                  <a:pt x="1390" y="2109"/>
                </a:lnTo>
                <a:lnTo>
                  <a:pt x="1400" y="2110"/>
                </a:lnTo>
                <a:lnTo>
                  <a:pt x="1411" y="2111"/>
                </a:lnTo>
                <a:lnTo>
                  <a:pt x="1424" y="2111"/>
                </a:lnTo>
                <a:lnTo>
                  <a:pt x="1437" y="2113"/>
                </a:lnTo>
                <a:lnTo>
                  <a:pt x="1450" y="2113"/>
                </a:lnTo>
                <a:lnTo>
                  <a:pt x="1464" y="2115"/>
                </a:lnTo>
                <a:lnTo>
                  <a:pt x="1479" y="2115"/>
                </a:lnTo>
                <a:lnTo>
                  <a:pt x="1492" y="2117"/>
                </a:lnTo>
                <a:lnTo>
                  <a:pt x="1507" y="2117"/>
                </a:lnTo>
                <a:lnTo>
                  <a:pt x="1520" y="2119"/>
                </a:lnTo>
                <a:lnTo>
                  <a:pt x="1535" y="2119"/>
                </a:lnTo>
                <a:lnTo>
                  <a:pt x="1548" y="2121"/>
                </a:lnTo>
                <a:lnTo>
                  <a:pt x="1562" y="2121"/>
                </a:lnTo>
                <a:lnTo>
                  <a:pt x="1573" y="2121"/>
                </a:lnTo>
                <a:lnTo>
                  <a:pt x="1586" y="2121"/>
                </a:lnTo>
                <a:lnTo>
                  <a:pt x="1596" y="2123"/>
                </a:lnTo>
                <a:lnTo>
                  <a:pt x="1608" y="2123"/>
                </a:lnTo>
                <a:lnTo>
                  <a:pt x="1621" y="2123"/>
                </a:lnTo>
                <a:lnTo>
                  <a:pt x="1634" y="2123"/>
                </a:lnTo>
                <a:lnTo>
                  <a:pt x="1648" y="2125"/>
                </a:lnTo>
                <a:lnTo>
                  <a:pt x="1662" y="2125"/>
                </a:lnTo>
                <a:lnTo>
                  <a:pt x="1676" y="2125"/>
                </a:lnTo>
                <a:lnTo>
                  <a:pt x="1691" y="2125"/>
                </a:lnTo>
                <a:lnTo>
                  <a:pt x="1704" y="2126"/>
                </a:lnTo>
                <a:lnTo>
                  <a:pt x="1719" y="2126"/>
                </a:lnTo>
                <a:lnTo>
                  <a:pt x="1732" y="2126"/>
                </a:lnTo>
                <a:lnTo>
                  <a:pt x="1746" y="2126"/>
                </a:lnTo>
                <a:lnTo>
                  <a:pt x="1757" y="2126"/>
                </a:lnTo>
                <a:lnTo>
                  <a:pt x="1769" y="2126"/>
                </a:lnTo>
                <a:lnTo>
                  <a:pt x="1779" y="2126"/>
                </a:lnTo>
                <a:lnTo>
                  <a:pt x="1789" y="2126"/>
                </a:lnTo>
                <a:lnTo>
                  <a:pt x="1796" y="2126"/>
                </a:lnTo>
                <a:lnTo>
                  <a:pt x="1802" y="2126"/>
                </a:lnTo>
                <a:lnTo>
                  <a:pt x="1806" y="2126"/>
                </a:lnTo>
                <a:lnTo>
                  <a:pt x="1810" y="2126"/>
                </a:lnTo>
                <a:lnTo>
                  <a:pt x="1812" y="2126"/>
                </a:lnTo>
                <a:lnTo>
                  <a:pt x="1814" y="2126"/>
                </a:lnTo>
                <a:lnTo>
                  <a:pt x="1815" y="2126"/>
                </a:lnTo>
                <a:lnTo>
                  <a:pt x="1818" y="2126"/>
                </a:lnTo>
                <a:lnTo>
                  <a:pt x="1820" y="2126"/>
                </a:lnTo>
                <a:lnTo>
                  <a:pt x="1823" y="2126"/>
                </a:lnTo>
                <a:lnTo>
                  <a:pt x="1827" y="2126"/>
                </a:lnTo>
                <a:lnTo>
                  <a:pt x="1834" y="2126"/>
                </a:lnTo>
                <a:lnTo>
                  <a:pt x="1842" y="2126"/>
                </a:lnTo>
                <a:lnTo>
                  <a:pt x="1852" y="2126"/>
                </a:lnTo>
                <a:lnTo>
                  <a:pt x="1865" y="2126"/>
                </a:lnTo>
                <a:lnTo>
                  <a:pt x="1882" y="2126"/>
                </a:lnTo>
              </a:path>
            </a:pathLst>
          </a:custGeom>
          <a:noFill/>
          <a:ln w="6336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86280" y="2239920"/>
            <a:ext cx="3259080" cy="3703680"/>
          </a:xfrm>
          <a:custGeom>
            <a:avLst/>
            <a:gdLst/>
            <a:ahLst/>
            <a:rect l="l" t="t" r="r" b="b"/>
            <a:pathLst>
              <a:path w="2053" h="2333">
                <a:moveTo>
                  <a:pt x="0" y="0"/>
                </a:moveTo>
                <a:lnTo>
                  <a:pt x="0" y="20"/>
                </a:lnTo>
                <a:lnTo>
                  <a:pt x="2" y="35"/>
                </a:lnTo>
                <a:lnTo>
                  <a:pt x="3" y="48"/>
                </a:lnTo>
                <a:lnTo>
                  <a:pt x="4" y="57"/>
                </a:lnTo>
                <a:lnTo>
                  <a:pt x="4" y="65"/>
                </a:lnTo>
                <a:lnTo>
                  <a:pt x="5" y="70"/>
                </a:lnTo>
                <a:lnTo>
                  <a:pt x="5" y="74"/>
                </a:lnTo>
                <a:lnTo>
                  <a:pt x="7" y="76"/>
                </a:lnTo>
                <a:lnTo>
                  <a:pt x="7" y="80"/>
                </a:lnTo>
                <a:lnTo>
                  <a:pt x="7" y="81"/>
                </a:lnTo>
                <a:lnTo>
                  <a:pt x="7" y="84"/>
                </a:lnTo>
                <a:lnTo>
                  <a:pt x="8" y="86"/>
                </a:lnTo>
                <a:lnTo>
                  <a:pt x="8" y="90"/>
                </a:lnTo>
                <a:lnTo>
                  <a:pt x="9" y="95"/>
                </a:lnTo>
                <a:lnTo>
                  <a:pt x="10" y="101"/>
                </a:lnTo>
                <a:lnTo>
                  <a:pt x="12" y="110"/>
                </a:lnTo>
                <a:lnTo>
                  <a:pt x="12" y="123"/>
                </a:lnTo>
                <a:lnTo>
                  <a:pt x="14" y="138"/>
                </a:lnTo>
                <a:lnTo>
                  <a:pt x="16" y="156"/>
                </a:lnTo>
                <a:lnTo>
                  <a:pt x="20" y="176"/>
                </a:lnTo>
                <a:lnTo>
                  <a:pt x="24" y="199"/>
                </a:lnTo>
                <a:lnTo>
                  <a:pt x="28" y="225"/>
                </a:lnTo>
                <a:lnTo>
                  <a:pt x="33" y="251"/>
                </a:lnTo>
                <a:lnTo>
                  <a:pt x="39" y="278"/>
                </a:lnTo>
                <a:lnTo>
                  <a:pt x="44" y="308"/>
                </a:lnTo>
                <a:lnTo>
                  <a:pt x="50" y="337"/>
                </a:lnTo>
                <a:lnTo>
                  <a:pt x="55" y="368"/>
                </a:lnTo>
                <a:lnTo>
                  <a:pt x="62" y="398"/>
                </a:lnTo>
                <a:lnTo>
                  <a:pt x="68" y="429"/>
                </a:lnTo>
                <a:lnTo>
                  <a:pt x="75" y="459"/>
                </a:lnTo>
                <a:lnTo>
                  <a:pt x="81" y="488"/>
                </a:lnTo>
                <a:lnTo>
                  <a:pt x="89" y="516"/>
                </a:lnTo>
                <a:lnTo>
                  <a:pt x="94" y="545"/>
                </a:lnTo>
                <a:lnTo>
                  <a:pt x="101" y="575"/>
                </a:lnTo>
                <a:lnTo>
                  <a:pt x="108" y="606"/>
                </a:lnTo>
                <a:lnTo>
                  <a:pt x="116" y="636"/>
                </a:lnTo>
                <a:lnTo>
                  <a:pt x="124" y="669"/>
                </a:lnTo>
                <a:lnTo>
                  <a:pt x="132" y="701"/>
                </a:lnTo>
                <a:lnTo>
                  <a:pt x="140" y="732"/>
                </a:lnTo>
                <a:lnTo>
                  <a:pt x="150" y="763"/>
                </a:lnTo>
                <a:lnTo>
                  <a:pt x="158" y="794"/>
                </a:lnTo>
                <a:lnTo>
                  <a:pt x="166" y="823"/>
                </a:lnTo>
                <a:lnTo>
                  <a:pt x="174" y="851"/>
                </a:lnTo>
                <a:lnTo>
                  <a:pt x="183" y="877"/>
                </a:lnTo>
                <a:lnTo>
                  <a:pt x="190" y="901"/>
                </a:lnTo>
                <a:lnTo>
                  <a:pt x="198" y="923"/>
                </a:lnTo>
                <a:lnTo>
                  <a:pt x="204" y="941"/>
                </a:lnTo>
                <a:lnTo>
                  <a:pt x="211" y="956"/>
                </a:lnTo>
                <a:lnTo>
                  <a:pt x="216" y="971"/>
                </a:lnTo>
                <a:lnTo>
                  <a:pt x="222" y="987"/>
                </a:lnTo>
                <a:lnTo>
                  <a:pt x="230" y="1007"/>
                </a:lnTo>
                <a:lnTo>
                  <a:pt x="238" y="1026"/>
                </a:lnTo>
                <a:lnTo>
                  <a:pt x="247" y="1048"/>
                </a:lnTo>
                <a:lnTo>
                  <a:pt x="256" y="1070"/>
                </a:lnTo>
                <a:lnTo>
                  <a:pt x="265" y="1094"/>
                </a:lnTo>
                <a:lnTo>
                  <a:pt x="276" y="1116"/>
                </a:lnTo>
                <a:lnTo>
                  <a:pt x="285" y="1141"/>
                </a:lnTo>
                <a:lnTo>
                  <a:pt x="295" y="1165"/>
                </a:lnTo>
                <a:lnTo>
                  <a:pt x="305" y="1189"/>
                </a:lnTo>
                <a:lnTo>
                  <a:pt x="315" y="1211"/>
                </a:lnTo>
                <a:lnTo>
                  <a:pt x="325" y="1234"/>
                </a:lnTo>
                <a:lnTo>
                  <a:pt x="334" y="1256"/>
                </a:lnTo>
                <a:lnTo>
                  <a:pt x="342" y="1277"/>
                </a:lnTo>
                <a:lnTo>
                  <a:pt x="352" y="1295"/>
                </a:lnTo>
                <a:lnTo>
                  <a:pt x="359" y="1315"/>
                </a:lnTo>
                <a:lnTo>
                  <a:pt x="367" y="1334"/>
                </a:lnTo>
                <a:lnTo>
                  <a:pt x="376" y="1356"/>
                </a:lnTo>
                <a:lnTo>
                  <a:pt x="386" y="1376"/>
                </a:lnTo>
                <a:lnTo>
                  <a:pt x="396" y="1399"/>
                </a:lnTo>
                <a:lnTo>
                  <a:pt x="406" y="1421"/>
                </a:lnTo>
                <a:lnTo>
                  <a:pt x="415" y="1444"/>
                </a:lnTo>
                <a:lnTo>
                  <a:pt x="426" y="1465"/>
                </a:lnTo>
                <a:lnTo>
                  <a:pt x="436" y="1488"/>
                </a:lnTo>
                <a:lnTo>
                  <a:pt x="445" y="1510"/>
                </a:lnTo>
                <a:lnTo>
                  <a:pt x="454" y="1531"/>
                </a:lnTo>
                <a:lnTo>
                  <a:pt x="464" y="1549"/>
                </a:lnTo>
                <a:lnTo>
                  <a:pt x="471" y="1568"/>
                </a:lnTo>
                <a:lnTo>
                  <a:pt x="480" y="1584"/>
                </a:lnTo>
                <a:lnTo>
                  <a:pt x="486" y="1599"/>
                </a:lnTo>
                <a:lnTo>
                  <a:pt x="493" y="1611"/>
                </a:lnTo>
                <a:lnTo>
                  <a:pt x="498" y="1624"/>
                </a:lnTo>
                <a:lnTo>
                  <a:pt x="505" y="1637"/>
                </a:lnTo>
                <a:lnTo>
                  <a:pt x="512" y="1652"/>
                </a:lnTo>
                <a:lnTo>
                  <a:pt x="522" y="1667"/>
                </a:lnTo>
                <a:lnTo>
                  <a:pt x="531" y="1684"/>
                </a:lnTo>
                <a:lnTo>
                  <a:pt x="541" y="1700"/>
                </a:lnTo>
                <a:lnTo>
                  <a:pt x="552" y="1717"/>
                </a:lnTo>
                <a:lnTo>
                  <a:pt x="564" y="1734"/>
                </a:lnTo>
                <a:lnTo>
                  <a:pt x="574" y="1752"/>
                </a:lnTo>
                <a:lnTo>
                  <a:pt x="586" y="1769"/>
                </a:lnTo>
                <a:lnTo>
                  <a:pt x="597" y="1786"/>
                </a:lnTo>
                <a:lnTo>
                  <a:pt x="608" y="1801"/>
                </a:lnTo>
                <a:lnTo>
                  <a:pt x="618" y="1817"/>
                </a:lnTo>
                <a:lnTo>
                  <a:pt x="630" y="1832"/>
                </a:lnTo>
                <a:lnTo>
                  <a:pt x="640" y="1845"/>
                </a:lnTo>
                <a:lnTo>
                  <a:pt x="650" y="1857"/>
                </a:lnTo>
                <a:lnTo>
                  <a:pt x="660" y="1871"/>
                </a:lnTo>
                <a:lnTo>
                  <a:pt x="670" y="1882"/>
                </a:lnTo>
                <a:lnTo>
                  <a:pt x="682" y="1896"/>
                </a:lnTo>
                <a:lnTo>
                  <a:pt x="695" y="1909"/>
                </a:lnTo>
                <a:lnTo>
                  <a:pt x="708" y="1924"/>
                </a:lnTo>
                <a:lnTo>
                  <a:pt x="722" y="1937"/>
                </a:lnTo>
                <a:lnTo>
                  <a:pt x="735" y="1952"/>
                </a:lnTo>
                <a:lnTo>
                  <a:pt x="750" y="1965"/>
                </a:lnTo>
                <a:lnTo>
                  <a:pt x="763" y="1980"/>
                </a:lnTo>
                <a:lnTo>
                  <a:pt x="777" y="1993"/>
                </a:lnTo>
                <a:lnTo>
                  <a:pt x="790" y="2007"/>
                </a:lnTo>
                <a:lnTo>
                  <a:pt x="804" y="2018"/>
                </a:lnTo>
                <a:lnTo>
                  <a:pt x="816" y="2030"/>
                </a:lnTo>
                <a:lnTo>
                  <a:pt x="828" y="2040"/>
                </a:lnTo>
                <a:lnTo>
                  <a:pt x="839" y="2049"/>
                </a:lnTo>
                <a:lnTo>
                  <a:pt x="850" y="2056"/>
                </a:lnTo>
                <a:lnTo>
                  <a:pt x="859" y="2064"/>
                </a:lnTo>
                <a:lnTo>
                  <a:pt x="868" y="2071"/>
                </a:lnTo>
                <a:lnTo>
                  <a:pt x="878" y="2079"/>
                </a:lnTo>
                <a:lnTo>
                  <a:pt x="889" y="2087"/>
                </a:lnTo>
                <a:lnTo>
                  <a:pt x="898" y="2094"/>
                </a:lnTo>
                <a:lnTo>
                  <a:pt x="909" y="2101"/>
                </a:lnTo>
                <a:lnTo>
                  <a:pt x="918" y="2109"/>
                </a:lnTo>
                <a:lnTo>
                  <a:pt x="929" y="2116"/>
                </a:lnTo>
                <a:lnTo>
                  <a:pt x="937" y="2123"/>
                </a:lnTo>
                <a:lnTo>
                  <a:pt x="946" y="2129"/>
                </a:lnTo>
                <a:lnTo>
                  <a:pt x="954" y="2136"/>
                </a:lnTo>
                <a:lnTo>
                  <a:pt x="962" y="2141"/>
                </a:lnTo>
                <a:lnTo>
                  <a:pt x="969" y="2147"/>
                </a:lnTo>
                <a:lnTo>
                  <a:pt x="976" y="2151"/>
                </a:lnTo>
                <a:lnTo>
                  <a:pt x="980" y="2155"/>
                </a:lnTo>
                <a:lnTo>
                  <a:pt x="986" y="2156"/>
                </a:lnTo>
                <a:lnTo>
                  <a:pt x="989" y="2160"/>
                </a:lnTo>
                <a:lnTo>
                  <a:pt x="992" y="2162"/>
                </a:lnTo>
                <a:lnTo>
                  <a:pt x="997" y="2166"/>
                </a:lnTo>
                <a:lnTo>
                  <a:pt x="1003" y="2167"/>
                </a:lnTo>
                <a:lnTo>
                  <a:pt x="1008" y="2171"/>
                </a:lnTo>
                <a:lnTo>
                  <a:pt x="1016" y="2175"/>
                </a:lnTo>
                <a:lnTo>
                  <a:pt x="1024" y="2179"/>
                </a:lnTo>
                <a:lnTo>
                  <a:pt x="1032" y="2181"/>
                </a:lnTo>
                <a:lnTo>
                  <a:pt x="1039" y="2185"/>
                </a:lnTo>
                <a:lnTo>
                  <a:pt x="1047" y="2189"/>
                </a:lnTo>
                <a:lnTo>
                  <a:pt x="1055" y="2193"/>
                </a:lnTo>
                <a:lnTo>
                  <a:pt x="1064" y="2196"/>
                </a:lnTo>
                <a:lnTo>
                  <a:pt x="1072" y="2200"/>
                </a:lnTo>
                <a:lnTo>
                  <a:pt x="1080" y="2203"/>
                </a:lnTo>
                <a:lnTo>
                  <a:pt x="1087" y="2206"/>
                </a:lnTo>
                <a:lnTo>
                  <a:pt x="1096" y="2208"/>
                </a:lnTo>
                <a:lnTo>
                  <a:pt x="1103" y="2212"/>
                </a:lnTo>
                <a:lnTo>
                  <a:pt x="1112" y="2215"/>
                </a:lnTo>
                <a:lnTo>
                  <a:pt x="1122" y="2219"/>
                </a:lnTo>
                <a:lnTo>
                  <a:pt x="1133" y="2222"/>
                </a:lnTo>
                <a:lnTo>
                  <a:pt x="1145" y="2227"/>
                </a:lnTo>
                <a:lnTo>
                  <a:pt x="1158" y="2231"/>
                </a:lnTo>
                <a:lnTo>
                  <a:pt x="1171" y="2234"/>
                </a:lnTo>
                <a:lnTo>
                  <a:pt x="1184" y="2238"/>
                </a:lnTo>
                <a:lnTo>
                  <a:pt x="1198" y="2243"/>
                </a:lnTo>
                <a:lnTo>
                  <a:pt x="1211" y="2247"/>
                </a:lnTo>
                <a:lnTo>
                  <a:pt x="1224" y="2251"/>
                </a:lnTo>
                <a:lnTo>
                  <a:pt x="1240" y="2254"/>
                </a:lnTo>
                <a:lnTo>
                  <a:pt x="1252" y="2258"/>
                </a:lnTo>
                <a:lnTo>
                  <a:pt x="1266" y="2262"/>
                </a:lnTo>
                <a:lnTo>
                  <a:pt x="1278" y="2265"/>
                </a:lnTo>
                <a:lnTo>
                  <a:pt x="1290" y="2268"/>
                </a:lnTo>
                <a:lnTo>
                  <a:pt x="1301" y="2272"/>
                </a:lnTo>
                <a:lnTo>
                  <a:pt x="1313" y="2275"/>
                </a:lnTo>
                <a:lnTo>
                  <a:pt x="1326" y="2279"/>
                </a:lnTo>
                <a:lnTo>
                  <a:pt x="1340" y="2281"/>
                </a:lnTo>
                <a:lnTo>
                  <a:pt x="1355" y="2284"/>
                </a:lnTo>
                <a:lnTo>
                  <a:pt x="1370" y="2286"/>
                </a:lnTo>
                <a:lnTo>
                  <a:pt x="1385" y="2290"/>
                </a:lnTo>
                <a:lnTo>
                  <a:pt x="1401" y="2292"/>
                </a:lnTo>
                <a:lnTo>
                  <a:pt x="1416" y="2295"/>
                </a:lnTo>
                <a:lnTo>
                  <a:pt x="1431" y="2297"/>
                </a:lnTo>
                <a:lnTo>
                  <a:pt x="1445" y="2301"/>
                </a:lnTo>
                <a:lnTo>
                  <a:pt x="1460" y="2302"/>
                </a:lnTo>
                <a:lnTo>
                  <a:pt x="1473" y="2304"/>
                </a:lnTo>
                <a:lnTo>
                  <a:pt x="1485" y="2306"/>
                </a:lnTo>
                <a:lnTo>
                  <a:pt x="1496" y="2308"/>
                </a:lnTo>
                <a:lnTo>
                  <a:pt x="1508" y="2309"/>
                </a:lnTo>
                <a:lnTo>
                  <a:pt x="1517" y="2311"/>
                </a:lnTo>
                <a:lnTo>
                  <a:pt x="1528" y="2312"/>
                </a:lnTo>
                <a:lnTo>
                  <a:pt x="1541" y="2314"/>
                </a:lnTo>
                <a:lnTo>
                  <a:pt x="1554" y="2314"/>
                </a:lnTo>
                <a:lnTo>
                  <a:pt x="1568" y="2316"/>
                </a:lnTo>
                <a:lnTo>
                  <a:pt x="1583" y="2317"/>
                </a:lnTo>
                <a:lnTo>
                  <a:pt x="1598" y="2319"/>
                </a:lnTo>
                <a:lnTo>
                  <a:pt x="1615" y="2319"/>
                </a:lnTo>
                <a:lnTo>
                  <a:pt x="1630" y="2321"/>
                </a:lnTo>
                <a:lnTo>
                  <a:pt x="1646" y="2321"/>
                </a:lnTo>
                <a:lnTo>
                  <a:pt x="1661" y="2323"/>
                </a:lnTo>
                <a:lnTo>
                  <a:pt x="1677" y="2323"/>
                </a:lnTo>
                <a:lnTo>
                  <a:pt x="1691" y="2325"/>
                </a:lnTo>
                <a:lnTo>
                  <a:pt x="1706" y="2325"/>
                </a:lnTo>
                <a:lnTo>
                  <a:pt x="1719" y="2325"/>
                </a:lnTo>
                <a:lnTo>
                  <a:pt x="1732" y="2325"/>
                </a:lnTo>
                <a:lnTo>
                  <a:pt x="1743" y="2327"/>
                </a:lnTo>
                <a:lnTo>
                  <a:pt x="1756" y="2327"/>
                </a:lnTo>
                <a:lnTo>
                  <a:pt x="1770" y="2329"/>
                </a:lnTo>
                <a:lnTo>
                  <a:pt x="1785" y="2329"/>
                </a:lnTo>
                <a:lnTo>
                  <a:pt x="1800" y="2331"/>
                </a:lnTo>
                <a:lnTo>
                  <a:pt x="1815" y="2331"/>
                </a:lnTo>
                <a:lnTo>
                  <a:pt x="1830" y="2331"/>
                </a:lnTo>
                <a:lnTo>
                  <a:pt x="1847" y="2331"/>
                </a:lnTo>
                <a:lnTo>
                  <a:pt x="1862" y="2332"/>
                </a:lnTo>
                <a:lnTo>
                  <a:pt x="1876" y="2332"/>
                </a:lnTo>
                <a:lnTo>
                  <a:pt x="1891" y="2332"/>
                </a:lnTo>
                <a:lnTo>
                  <a:pt x="1906" y="2332"/>
                </a:lnTo>
                <a:lnTo>
                  <a:pt x="1918" y="2332"/>
                </a:lnTo>
                <a:lnTo>
                  <a:pt x="1931" y="2332"/>
                </a:lnTo>
                <a:lnTo>
                  <a:pt x="1942" y="2332"/>
                </a:lnTo>
                <a:lnTo>
                  <a:pt x="1952" y="2332"/>
                </a:lnTo>
                <a:lnTo>
                  <a:pt x="1960" y="2332"/>
                </a:lnTo>
                <a:lnTo>
                  <a:pt x="1966" y="2332"/>
                </a:lnTo>
                <a:lnTo>
                  <a:pt x="1971" y="2332"/>
                </a:lnTo>
                <a:lnTo>
                  <a:pt x="1974" y="2332"/>
                </a:lnTo>
                <a:lnTo>
                  <a:pt x="1976" y="2332"/>
                </a:lnTo>
                <a:lnTo>
                  <a:pt x="1979" y="2332"/>
                </a:lnTo>
                <a:lnTo>
                  <a:pt x="1981" y="2332"/>
                </a:lnTo>
                <a:lnTo>
                  <a:pt x="1983" y="2332"/>
                </a:lnTo>
                <a:lnTo>
                  <a:pt x="1985" y="2332"/>
                </a:lnTo>
                <a:lnTo>
                  <a:pt x="1989" y="2332"/>
                </a:lnTo>
                <a:lnTo>
                  <a:pt x="1994" y="2332"/>
                </a:lnTo>
                <a:lnTo>
                  <a:pt x="2001" y="2332"/>
                </a:lnTo>
                <a:lnTo>
                  <a:pt x="2009" y="2332"/>
                </a:lnTo>
                <a:lnTo>
                  <a:pt x="2020" y="2332"/>
                </a:lnTo>
                <a:lnTo>
                  <a:pt x="2034" y="2332"/>
                </a:lnTo>
                <a:lnTo>
                  <a:pt x="2052" y="2332"/>
                </a:lnTo>
              </a:path>
            </a:pathLst>
          </a:custGeom>
          <a:noFill/>
          <a:ln w="4752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38760" y="1814400"/>
            <a:ext cx="2609640" cy="2957760"/>
          </a:xfrm>
          <a:custGeom>
            <a:avLst/>
            <a:gdLst/>
            <a:ahLst/>
            <a:rect l="l" t="t" r="r" b="b"/>
            <a:pathLst>
              <a:path w="1644" h="1863">
                <a:moveTo>
                  <a:pt x="0" y="0"/>
                </a:moveTo>
                <a:lnTo>
                  <a:pt x="0" y="16"/>
                </a:lnTo>
                <a:lnTo>
                  <a:pt x="2" y="29"/>
                </a:lnTo>
                <a:lnTo>
                  <a:pt x="2" y="39"/>
                </a:lnTo>
                <a:lnTo>
                  <a:pt x="3" y="46"/>
                </a:lnTo>
                <a:lnTo>
                  <a:pt x="3" y="53"/>
                </a:lnTo>
                <a:lnTo>
                  <a:pt x="3" y="57"/>
                </a:lnTo>
                <a:lnTo>
                  <a:pt x="3" y="60"/>
                </a:lnTo>
                <a:lnTo>
                  <a:pt x="5" y="62"/>
                </a:lnTo>
                <a:lnTo>
                  <a:pt x="5" y="64"/>
                </a:lnTo>
                <a:lnTo>
                  <a:pt x="5" y="66"/>
                </a:lnTo>
                <a:lnTo>
                  <a:pt x="5" y="68"/>
                </a:lnTo>
                <a:lnTo>
                  <a:pt x="6" y="70"/>
                </a:lnTo>
                <a:lnTo>
                  <a:pt x="6" y="74"/>
                </a:lnTo>
                <a:lnTo>
                  <a:pt x="7" y="77"/>
                </a:lnTo>
                <a:lnTo>
                  <a:pt x="7" y="83"/>
                </a:lnTo>
                <a:lnTo>
                  <a:pt x="9" y="90"/>
                </a:lnTo>
                <a:lnTo>
                  <a:pt x="9" y="100"/>
                </a:lnTo>
                <a:lnTo>
                  <a:pt x="11" y="112"/>
                </a:lnTo>
                <a:lnTo>
                  <a:pt x="12" y="127"/>
                </a:lnTo>
                <a:lnTo>
                  <a:pt x="15" y="143"/>
                </a:lnTo>
                <a:lnTo>
                  <a:pt x="18" y="162"/>
                </a:lnTo>
                <a:lnTo>
                  <a:pt x="22" y="182"/>
                </a:lnTo>
                <a:lnTo>
                  <a:pt x="25" y="203"/>
                </a:lnTo>
                <a:lnTo>
                  <a:pt x="30" y="224"/>
                </a:lnTo>
                <a:lnTo>
                  <a:pt x="33" y="249"/>
                </a:lnTo>
                <a:lnTo>
                  <a:pt x="39" y="271"/>
                </a:lnTo>
                <a:lnTo>
                  <a:pt x="43" y="296"/>
                </a:lnTo>
                <a:lnTo>
                  <a:pt x="49" y="319"/>
                </a:lnTo>
                <a:lnTo>
                  <a:pt x="52" y="344"/>
                </a:lnTo>
                <a:lnTo>
                  <a:pt x="58" y="368"/>
                </a:lnTo>
                <a:lnTo>
                  <a:pt x="63" y="391"/>
                </a:lnTo>
                <a:lnTo>
                  <a:pt x="69" y="413"/>
                </a:lnTo>
                <a:lnTo>
                  <a:pt x="73" y="436"/>
                </a:lnTo>
                <a:lnTo>
                  <a:pt x="79" y="459"/>
                </a:lnTo>
                <a:lnTo>
                  <a:pt x="85" y="484"/>
                </a:lnTo>
                <a:lnTo>
                  <a:pt x="91" y="509"/>
                </a:lnTo>
                <a:lnTo>
                  <a:pt x="97" y="535"/>
                </a:lnTo>
                <a:lnTo>
                  <a:pt x="105" y="560"/>
                </a:lnTo>
                <a:lnTo>
                  <a:pt x="111" y="585"/>
                </a:lnTo>
                <a:lnTo>
                  <a:pt x="119" y="609"/>
                </a:lnTo>
                <a:lnTo>
                  <a:pt x="125" y="634"/>
                </a:lnTo>
                <a:lnTo>
                  <a:pt x="132" y="658"/>
                </a:lnTo>
                <a:lnTo>
                  <a:pt x="138" y="680"/>
                </a:lnTo>
                <a:lnTo>
                  <a:pt x="145" y="700"/>
                </a:lnTo>
                <a:lnTo>
                  <a:pt x="151" y="719"/>
                </a:lnTo>
                <a:lnTo>
                  <a:pt x="157" y="736"/>
                </a:lnTo>
                <a:lnTo>
                  <a:pt x="163" y="751"/>
                </a:lnTo>
                <a:lnTo>
                  <a:pt x="168" y="763"/>
                </a:lnTo>
                <a:lnTo>
                  <a:pt x="172" y="776"/>
                </a:lnTo>
                <a:lnTo>
                  <a:pt x="178" y="789"/>
                </a:lnTo>
                <a:lnTo>
                  <a:pt x="183" y="804"/>
                </a:lnTo>
                <a:lnTo>
                  <a:pt x="191" y="819"/>
                </a:lnTo>
                <a:lnTo>
                  <a:pt x="198" y="837"/>
                </a:lnTo>
                <a:lnTo>
                  <a:pt x="205" y="854"/>
                </a:lnTo>
                <a:lnTo>
                  <a:pt x="213" y="873"/>
                </a:lnTo>
                <a:lnTo>
                  <a:pt x="221" y="891"/>
                </a:lnTo>
                <a:lnTo>
                  <a:pt x="228" y="912"/>
                </a:lnTo>
                <a:lnTo>
                  <a:pt x="236" y="931"/>
                </a:lnTo>
                <a:lnTo>
                  <a:pt x="243" y="949"/>
                </a:lnTo>
                <a:lnTo>
                  <a:pt x="252" y="967"/>
                </a:lnTo>
                <a:lnTo>
                  <a:pt x="259" y="986"/>
                </a:lnTo>
                <a:lnTo>
                  <a:pt x="267" y="1003"/>
                </a:lnTo>
                <a:lnTo>
                  <a:pt x="273" y="1020"/>
                </a:lnTo>
                <a:lnTo>
                  <a:pt x="281" y="1034"/>
                </a:lnTo>
                <a:lnTo>
                  <a:pt x="286" y="1050"/>
                </a:lnTo>
                <a:lnTo>
                  <a:pt x="293" y="1066"/>
                </a:lnTo>
                <a:lnTo>
                  <a:pt x="301" y="1083"/>
                </a:lnTo>
                <a:lnTo>
                  <a:pt x="308" y="1099"/>
                </a:lnTo>
                <a:lnTo>
                  <a:pt x="315" y="1118"/>
                </a:lnTo>
                <a:lnTo>
                  <a:pt x="324" y="1136"/>
                </a:lnTo>
                <a:lnTo>
                  <a:pt x="331" y="1155"/>
                </a:lnTo>
                <a:lnTo>
                  <a:pt x="341" y="1171"/>
                </a:lnTo>
                <a:lnTo>
                  <a:pt x="348" y="1189"/>
                </a:lnTo>
                <a:lnTo>
                  <a:pt x="355" y="1206"/>
                </a:lnTo>
                <a:lnTo>
                  <a:pt x="362" y="1223"/>
                </a:lnTo>
                <a:lnTo>
                  <a:pt x="370" y="1238"/>
                </a:lnTo>
                <a:lnTo>
                  <a:pt x="375" y="1253"/>
                </a:lnTo>
                <a:lnTo>
                  <a:pt x="382" y="1265"/>
                </a:lnTo>
                <a:lnTo>
                  <a:pt x="388" y="1277"/>
                </a:lnTo>
                <a:lnTo>
                  <a:pt x="393" y="1286"/>
                </a:lnTo>
                <a:lnTo>
                  <a:pt x="397" y="1297"/>
                </a:lnTo>
                <a:lnTo>
                  <a:pt x="403" y="1307"/>
                </a:lnTo>
                <a:lnTo>
                  <a:pt x="409" y="1320"/>
                </a:lnTo>
                <a:lnTo>
                  <a:pt x="417" y="1331"/>
                </a:lnTo>
                <a:lnTo>
                  <a:pt x="424" y="1345"/>
                </a:lnTo>
                <a:lnTo>
                  <a:pt x="432" y="1358"/>
                </a:lnTo>
                <a:lnTo>
                  <a:pt x="441" y="1372"/>
                </a:lnTo>
                <a:lnTo>
                  <a:pt x="450" y="1385"/>
                </a:lnTo>
                <a:lnTo>
                  <a:pt x="459" y="1400"/>
                </a:lnTo>
                <a:lnTo>
                  <a:pt x="468" y="1413"/>
                </a:lnTo>
                <a:lnTo>
                  <a:pt x="477" y="1427"/>
                </a:lnTo>
                <a:lnTo>
                  <a:pt x="487" y="1439"/>
                </a:lnTo>
                <a:lnTo>
                  <a:pt x="494" y="1452"/>
                </a:lnTo>
                <a:lnTo>
                  <a:pt x="503" y="1463"/>
                </a:lnTo>
                <a:lnTo>
                  <a:pt x="511" y="1474"/>
                </a:lnTo>
                <a:lnTo>
                  <a:pt x="521" y="1483"/>
                </a:lnTo>
                <a:lnTo>
                  <a:pt x="528" y="1494"/>
                </a:lnTo>
                <a:lnTo>
                  <a:pt x="537" y="1504"/>
                </a:lnTo>
                <a:lnTo>
                  <a:pt x="546" y="1515"/>
                </a:lnTo>
                <a:lnTo>
                  <a:pt x="557" y="1525"/>
                </a:lnTo>
                <a:lnTo>
                  <a:pt x="567" y="1536"/>
                </a:lnTo>
                <a:lnTo>
                  <a:pt x="578" y="1547"/>
                </a:lnTo>
                <a:lnTo>
                  <a:pt x="589" y="1559"/>
                </a:lnTo>
                <a:lnTo>
                  <a:pt x="600" y="1569"/>
                </a:lnTo>
                <a:lnTo>
                  <a:pt x="611" y="1581"/>
                </a:lnTo>
                <a:lnTo>
                  <a:pt x="622" y="1592"/>
                </a:lnTo>
                <a:lnTo>
                  <a:pt x="633" y="1603"/>
                </a:lnTo>
                <a:lnTo>
                  <a:pt x="644" y="1612"/>
                </a:lnTo>
                <a:lnTo>
                  <a:pt x="653" y="1621"/>
                </a:lnTo>
                <a:lnTo>
                  <a:pt x="663" y="1629"/>
                </a:lnTo>
                <a:lnTo>
                  <a:pt x="672" y="1637"/>
                </a:lnTo>
                <a:lnTo>
                  <a:pt x="681" y="1643"/>
                </a:lnTo>
                <a:lnTo>
                  <a:pt x="689" y="1650"/>
                </a:lnTo>
                <a:lnTo>
                  <a:pt x="696" y="1655"/>
                </a:lnTo>
                <a:lnTo>
                  <a:pt x="704" y="1661"/>
                </a:lnTo>
                <a:lnTo>
                  <a:pt x="713" y="1667"/>
                </a:lnTo>
                <a:lnTo>
                  <a:pt x="720" y="1674"/>
                </a:lnTo>
                <a:lnTo>
                  <a:pt x="728" y="1679"/>
                </a:lnTo>
                <a:lnTo>
                  <a:pt x="735" y="1685"/>
                </a:lnTo>
                <a:lnTo>
                  <a:pt x="744" y="1691"/>
                </a:lnTo>
                <a:lnTo>
                  <a:pt x="751" y="1696"/>
                </a:lnTo>
                <a:lnTo>
                  <a:pt x="758" y="1702"/>
                </a:lnTo>
                <a:lnTo>
                  <a:pt x="764" y="1707"/>
                </a:lnTo>
                <a:lnTo>
                  <a:pt x="771" y="1711"/>
                </a:lnTo>
                <a:lnTo>
                  <a:pt x="775" y="1715"/>
                </a:lnTo>
                <a:lnTo>
                  <a:pt x="781" y="1718"/>
                </a:lnTo>
                <a:lnTo>
                  <a:pt x="784" y="1721"/>
                </a:lnTo>
                <a:lnTo>
                  <a:pt x="788" y="1722"/>
                </a:lnTo>
                <a:lnTo>
                  <a:pt x="790" y="1725"/>
                </a:lnTo>
                <a:lnTo>
                  <a:pt x="793" y="1727"/>
                </a:lnTo>
                <a:lnTo>
                  <a:pt x="797" y="1729"/>
                </a:lnTo>
                <a:lnTo>
                  <a:pt x="803" y="1731"/>
                </a:lnTo>
                <a:lnTo>
                  <a:pt x="808" y="1735"/>
                </a:lnTo>
                <a:lnTo>
                  <a:pt x="813" y="1737"/>
                </a:lnTo>
                <a:lnTo>
                  <a:pt x="819" y="1741"/>
                </a:lnTo>
                <a:lnTo>
                  <a:pt x="827" y="1742"/>
                </a:lnTo>
                <a:lnTo>
                  <a:pt x="832" y="1746"/>
                </a:lnTo>
                <a:lnTo>
                  <a:pt x="839" y="1749"/>
                </a:lnTo>
                <a:lnTo>
                  <a:pt x="845" y="1752"/>
                </a:lnTo>
                <a:lnTo>
                  <a:pt x="852" y="1754"/>
                </a:lnTo>
                <a:lnTo>
                  <a:pt x="858" y="1758"/>
                </a:lnTo>
                <a:lnTo>
                  <a:pt x="865" y="1760"/>
                </a:lnTo>
                <a:lnTo>
                  <a:pt x="871" y="1762"/>
                </a:lnTo>
                <a:lnTo>
                  <a:pt x="878" y="1763"/>
                </a:lnTo>
                <a:lnTo>
                  <a:pt x="883" y="1767"/>
                </a:lnTo>
                <a:lnTo>
                  <a:pt x="891" y="1769"/>
                </a:lnTo>
                <a:lnTo>
                  <a:pt x="898" y="1772"/>
                </a:lnTo>
                <a:lnTo>
                  <a:pt x="908" y="1774"/>
                </a:lnTo>
                <a:lnTo>
                  <a:pt x="917" y="1778"/>
                </a:lnTo>
                <a:lnTo>
                  <a:pt x="927" y="1781"/>
                </a:lnTo>
                <a:lnTo>
                  <a:pt x="938" y="1785"/>
                </a:lnTo>
                <a:lnTo>
                  <a:pt x="949" y="1787"/>
                </a:lnTo>
                <a:lnTo>
                  <a:pt x="959" y="1790"/>
                </a:lnTo>
                <a:lnTo>
                  <a:pt x="971" y="1794"/>
                </a:lnTo>
                <a:lnTo>
                  <a:pt x="982" y="1798"/>
                </a:lnTo>
                <a:lnTo>
                  <a:pt x="993" y="1800"/>
                </a:lnTo>
                <a:lnTo>
                  <a:pt x="1003" y="1804"/>
                </a:lnTo>
                <a:lnTo>
                  <a:pt x="1015" y="1806"/>
                </a:lnTo>
                <a:lnTo>
                  <a:pt x="1024" y="1809"/>
                </a:lnTo>
                <a:lnTo>
                  <a:pt x="1034" y="1811"/>
                </a:lnTo>
                <a:lnTo>
                  <a:pt x="1043" y="1814"/>
                </a:lnTo>
                <a:lnTo>
                  <a:pt x="1052" y="1816"/>
                </a:lnTo>
                <a:lnTo>
                  <a:pt x="1063" y="1819"/>
                </a:lnTo>
                <a:lnTo>
                  <a:pt x="1074" y="1820"/>
                </a:lnTo>
                <a:lnTo>
                  <a:pt x="1085" y="1824"/>
                </a:lnTo>
                <a:lnTo>
                  <a:pt x="1097" y="1826"/>
                </a:lnTo>
                <a:lnTo>
                  <a:pt x="1109" y="1828"/>
                </a:lnTo>
                <a:lnTo>
                  <a:pt x="1123" y="1830"/>
                </a:lnTo>
                <a:lnTo>
                  <a:pt x="1134" y="1833"/>
                </a:lnTo>
                <a:lnTo>
                  <a:pt x="1145" y="1835"/>
                </a:lnTo>
                <a:lnTo>
                  <a:pt x="1157" y="1837"/>
                </a:lnTo>
                <a:lnTo>
                  <a:pt x="1169" y="1838"/>
                </a:lnTo>
                <a:lnTo>
                  <a:pt x="1178" y="1840"/>
                </a:lnTo>
                <a:lnTo>
                  <a:pt x="1189" y="1842"/>
                </a:lnTo>
                <a:lnTo>
                  <a:pt x="1197" y="1844"/>
                </a:lnTo>
                <a:lnTo>
                  <a:pt x="1206" y="1844"/>
                </a:lnTo>
                <a:lnTo>
                  <a:pt x="1213" y="1846"/>
                </a:lnTo>
                <a:lnTo>
                  <a:pt x="1223" y="1846"/>
                </a:lnTo>
                <a:lnTo>
                  <a:pt x="1233" y="1848"/>
                </a:lnTo>
                <a:lnTo>
                  <a:pt x="1244" y="1848"/>
                </a:lnTo>
                <a:lnTo>
                  <a:pt x="1255" y="1850"/>
                </a:lnTo>
                <a:lnTo>
                  <a:pt x="1267" y="1850"/>
                </a:lnTo>
                <a:lnTo>
                  <a:pt x="1279" y="1851"/>
                </a:lnTo>
                <a:lnTo>
                  <a:pt x="1292" y="1851"/>
                </a:lnTo>
                <a:lnTo>
                  <a:pt x="1303" y="1853"/>
                </a:lnTo>
                <a:lnTo>
                  <a:pt x="1317" y="1853"/>
                </a:lnTo>
                <a:lnTo>
                  <a:pt x="1328" y="1855"/>
                </a:lnTo>
                <a:lnTo>
                  <a:pt x="1341" y="1855"/>
                </a:lnTo>
                <a:lnTo>
                  <a:pt x="1353" y="1857"/>
                </a:lnTo>
                <a:lnTo>
                  <a:pt x="1365" y="1857"/>
                </a:lnTo>
                <a:lnTo>
                  <a:pt x="1375" y="1857"/>
                </a:lnTo>
                <a:lnTo>
                  <a:pt x="1385" y="1857"/>
                </a:lnTo>
                <a:lnTo>
                  <a:pt x="1394" y="1859"/>
                </a:lnTo>
                <a:lnTo>
                  <a:pt x="1404" y="1859"/>
                </a:lnTo>
                <a:lnTo>
                  <a:pt x="1415" y="1859"/>
                </a:lnTo>
                <a:lnTo>
                  <a:pt x="1427" y="1859"/>
                </a:lnTo>
                <a:lnTo>
                  <a:pt x="1438" y="1861"/>
                </a:lnTo>
                <a:lnTo>
                  <a:pt x="1451" y="1861"/>
                </a:lnTo>
                <a:lnTo>
                  <a:pt x="1464" y="1861"/>
                </a:lnTo>
                <a:lnTo>
                  <a:pt x="1477" y="1861"/>
                </a:lnTo>
                <a:lnTo>
                  <a:pt x="1488" y="1862"/>
                </a:lnTo>
                <a:lnTo>
                  <a:pt x="1501" y="1862"/>
                </a:lnTo>
                <a:lnTo>
                  <a:pt x="1513" y="1862"/>
                </a:lnTo>
                <a:lnTo>
                  <a:pt x="1525" y="1862"/>
                </a:lnTo>
                <a:lnTo>
                  <a:pt x="1535" y="1862"/>
                </a:lnTo>
                <a:lnTo>
                  <a:pt x="1545" y="1862"/>
                </a:lnTo>
                <a:lnTo>
                  <a:pt x="1555" y="1862"/>
                </a:lnTo>
                <a:lnTo>
                  <a:pt x="1564" y="1862"/>
                </a:lnTo>
                <a:lnTo>
                  <a:pt x="1571" y="1862"/>
                </a:lnTo>
                <a:lnTo>
                  <a:pt x="1575" y="1862"/>
                </a:lnTo>
                <a:lnTo>
                  <a:pt x="1579" y="1862"/>
                </a:lnTo>
                <a:lnTo>
                  <a:pt x="1582" y="1862"/>
                </a:lnTo>
                <a:lnTo>
                  <a:pt x="1583" y="1862"/>
                </a:lnTo>
                <a:lnTo>
                  <a:pt x="1585" y="1862"/>
                </a:lnTo>
                <a:lnTo>
                  <a:pt x="1587" y="1862"/>
                </a:lnTo>
                <a:lnTo>
                  <a:pt x="1589" y="1862"/>
                </a:lnTo>
                <a:lnTo>
                  <a:pt x="1591" y="1862"/>
                </a:lnTo>
                <a:lnTo>
                  <a:pt x="1593" y="1862"/>
                </a:lnTo>
                <a:lnTo>
                  <a:pt x="1597" y="1862"/>
                </a:lnTo>
                <a:lnTo>
                  <a:pt x="1603" y="1862"/>
                </a:lnTo>
                <a:lnTo>
                  <a:pt x="1609" y="1862"/>
                </a:lnTo>
                <a:lnTo>
                  <a:pt x="1619" y="1862"/>
                </a:lnTo>
                <a:lnTo>
                  <a:pt x="1629" y="1862"/>
                </a:lnTo>
                <a:lnTo>
                  <a:pt x="1643" y="1862"/>
                </a:lnTo>
              </a:path>
            </a:pathLst>
          </a:custGeom>
          <a:noFill/>
          <a:ln w="4752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1200" y="4876920"/>
            <a:ext cx="28800" cy="21960"/>
          </a:xfrm>
          <a:prstGeom prst="line">
            <a:avLst/>
          </a:prstGeom>
          <a:ln w="127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267080" y="1544760"/>
            <a:ext cx="6648120" cy="2722320"/>
            <a:chOff x="4267080" y="1544760"/>
            <a:chExt cx="6648120" cy="2722320"/>
          </a:xfrm>
        </p:grpSpPr>
        <p:sp>
          <p:nvSpPr>
            <p:cNvPr id="242" name=""/>
            <p:cNvSpPr/>
            <p:nvPr/>
          </p:nvSpPr>
          <p:spPr>
            <a:xfrm flipV="1">
              <a:off x="4267080" y="1544400"/>
              <a:ext cx="5403960" cy="27223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4752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489200" y="1768320"/>
              <a:ext cx="6426000" cy="2104560"/>
              <a:chOff x="4489200" y="1768320"/>
              <a:chExt cx="6426000" cy="2104560"/>
            </a:xfrm>
          </p:grpSpPr>
          <p:sp>
            <p:nvSpPr>
              <p:cNvPr id="244" name=""/>
              <p:cNvSpPr/>
              <p:nvPr/>
            </p:nvSpPr>
            <p:spPr>
              <a:xfrm>
                <a:off x="4489200" y="1918800"/>
                <a:ext cx="2530440" cy="19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_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384760" y="1918800"/>
                <a:ext cx="2530440" cy="19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76760" y="2328480"/>
                <a:ext cx="601560" cy="10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30320" y="1768320"/>
                <a:ext cx="5024520" cy="21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604800" y="121932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se solía maximizar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656604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81080"/>
            <a:ext cx="129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36232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708660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 rol de los precios “sombra”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24560" y="4732200"/>
            <a:ext cx="5052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Times New Roman"/>
              </a:rPr>
              <a:t>puede dividirse en dos 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8640" y="2660760"/>
            <a:ext cx="4530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008000"/>
                </a:solidFill>
                <a:latin typeface="Times New Roman"/>
              </a:rPr>
              <a:t>en condiciones idea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31680" y="5985000"/>
            <a:ext cx="4197240" cy="134280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Uno de Maximiz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de Benefic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130560" y="5137200"/>
            <a:ext cx="5160960" cy="892080"/>
            <a:chOff x="3130560" y="5137200"/>
            <a:chExt cx="5160960" cy="892080"/>
          </a:xfrm>
        </p:grpSpPr>
        <p:sp>
          <p:nvSpPr>
            <p:cNvPr id="258" name=""/>
            <p:cNvSpPr/>
            <p:nvPr/>
          </p:nvSpPr>
          <p:spPr>
            <a:xfrm flipH="1">
              <a:off x="3130560" y="5137200"/>
              <a:ext cx="2333520" cy="89208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7160" y="5243400"/>
              <a:ext cx="1314360" cy="78588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738760" y="6089760"/>
            <a:ext cx="4197240" cy="134280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Otro de Maximiz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de Ut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81200" y="3232080"/>
            <a:ext cx="4197600" cy="134316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 Problema de Cruso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04760" y="4667400"/>
            <a:ext cx="5467320" cy="2984400"/>
            <a:chOff x="104760" y="4667400"/>
            <a:chExt cx="5467320" cy="2984400"/>
          </a:xfrm>
        </p:grpSpPr>
        <p:sp>
          <p:nvSpPr>
            <p:cNvPr id="263" name=""/>
            <p:cNvSpPr/>
            <p:nvPr/>
          </p:nvSpPr>
          <p:spPr>
            <a:xfrm flipV="1">
              <a:off x="104760" y="4667400"/>
              <a:ext cx="4175280" cy="29844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35080" y="4930920"/>
              <a:ext cx="5337000" cy="1861920"/>
              <a:chOff x="235080" y="4930920"/>
              <a:chExt cx="5337000" cy="1861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35080" y="4930920"/>
                <a:ext cx="5337000" cy="12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7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</a:t>
                </a:r>
                <a:r>
                  <a:rPr b="1" i="1" lang="en-US" sz="53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US" sz="53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</a:t>
                </a:r>
                <a:r>
                  <a:rPr b="0" lang="en-US" sz="53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</a:t>
                </a:r>
                <a:r>
                  <a:rPr b="0" i="1" lang="en-US" sz="5300" spc="-1" strike="noStrike">
                    <a:solidFill>
                      <a:srgbClr val="ff0000"/>
                    </a:solidFill>
                    <a:latin typeface="Times New Roman"/>
                  </a:rPr>
                  <a:t>y  </a:t>
                </a:r>
                <a:r>
                  <a:rPr b="0" lang="en-US" sz="53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i="1" lang="en-US" sz="5300" spc="-1" strike="noStrike">
                    <a:solidFill>
                      <a:srgbClr val="ff0000"/>
                    </a:solidFill>
                    <a:latin typeface="Times New Roman"/>
                  </a:rPr>
                  <a:t> R </a:t>
                </a:r>
                <a:r>
                  <a:rPr b="0" lang="en-US" sz="5300" spc="-1" strike="noStrike">
                    <a:solidFill>
                      <a:srgbClr val="ff0000"/>
                    </a:solidFill>
                    <a:latin typeface="Times New Roman"/>
                  </a:rPr>
                  <a:t>]</a:t>
                </a:r>
                <a:endParaRPr b="0" lang="en-US" sz="5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95320" y="5038560"/>
                <a:ext cx="33012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9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5000" y="5786280"/>
                <a:ext cx="45356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29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0" lang="en-GB" sz="2900" spc="-1" strike="noStrike">
                    <a:solidFill>
                      <a:srgbClr val="ff0000"/>
                    </a:solidFill>
                    <a:latin typeface="Times New Roman"/>
                  </a:rPr>
                  <a:t>=1   </a:t>
                </a:r>
                <a:r>
                  <a:rPr b="0" i="1" lang="en-GB" sz="2900" spc="-1" strike="noStrike">
                    <a:solidFill>
                      <a:srgbClr val="ff0000"/>
                    </a:solidFill>
                    <a:latin typeface="Times New Roman"/>
                  </a:rPr>
                  <a:t> i        i             i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628560" y="6267600"/>
              <a:ext cx="22194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560" y="4822920"/>
              <a:ext cx="806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5000" y="6696000"/>
              <a:ext cx="330228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ecios Sombra: un resultado separab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65320" y="1736640"/>
            <a:ext cx="8039160" cy="2286000"/>
            <a:chOff x="1165320" y="1736640"/>
            <a:chExt cx="8039160" cy="2286000"/>
          </a:xfrm>
        </p:grpSpPr>
        <p:sp>
          <p:nvSpPr>
            <p:cNvPr id="273" name=""/>
            <p:cNvSpPr/>
            <p:nvPr/>
          </p:nvSpPr>
          <p:spPr>
            <a:xfrm flipV="1">
              <a:off x="1165320" y="1736280"/>
              <a:ext cx="7549920" cy="22860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5600" y="2225520"/>
              <a:ext cx="330228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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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41920" y="2424240"/>
              <a:ext cx="22190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sujeto a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61960" y="2411280"/>
              <a:ext cx="806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97640" y="3110040"/>
              <a:ext cx="360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 y + R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44760" y="2233440"/>
              <a:ext cx="155412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454560" y="4168800"/>
            <a:ext cx="2752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es equivalente 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48320"/>
            <a:ext cx="4267080" cy="3124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029200"/>
            <a:ext cx="3276360" cy="274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84520" y="5479920"/>
            <a:ext cx="660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640480" y="4667400"/>
            <a:ext cx="4425480" cy="2984400"/>
            <a:chOff x="5640480" y="4667400"/>
            <a:chExt cx="4425480" cy="2984400"/>
          </a:xfrm>
        </p:grpSpPr>
        <p:sp>
          <p:nvSpPr>
            <p:cNvPr id="284" name=""/>
            <p:cNvSpPr/>
            <p:nvPr/>
          </p:nvSpPr>
          <p:spPr>
            <a:xfrm flipV="1">
              <a:off x="5640480" y="4667400"/>
              <a:ext cx="4174920" cy="29844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7560" y="6257880"/>
              <a:ext cx="3301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9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95800" y="7016760"/>
              <a:ext cx="18601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9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900" spc="-1" strike="noStrike">
                  <a:solidFill>
                    <a:srgbClr val="ff0000"/>
                  </a:solidFill>
                  <a:latin typeface="Times New Roman"/>
                </a:rPr>
                <a:t>=1    </a:t>
              </a:r>
              <a:r>
                <a:rPr b="0" i="1" lang="en-US" sz="2900" spc="-1" strike="noStrike">
                  <a:solidFill>
                    <a:srgbClr val="ff0000"/>
                  </a:solidFill>
                  <a:latin typeface="Times New Roman"/>
                </a:rPr>
                <a:t>i    i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4854600"/>
              <a:ext cx="15519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79920" y="6168960"/>
              <a:ext cx="368604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53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US" sz="53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</a:t>
              </a:r>
              <a:r>
                <a:rPr b="1" i="1" lang="en-US" sz="53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53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</a:t>
              </a:r>
              <a:r>
                <a:rPr b="0" i="1" lang="en-US" sz="53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5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90920" y="4822920"/>
              <a:ext cx="806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63920" y="6022800"/>
              <a:ext cx="221904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781600" y="4667400"/>
            <a:ext cx="4175280" cy="298440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maximización de l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utilidad dados los precio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sombra y el ingreso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(sombra)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04760" y="4667400"/>
            <a:ext cx="4175280" cy="298440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Maximización de beneficios dados los precios sombr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determina el ingreso (sombra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-42840" y="263520"/>
            <a:ext cx="1057896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e los delega a "departmentos diferentes"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165320" y="1736280"/>
            <a:ext cx="7549920" cy="228600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80960" y="2050920"/>
            <a:ext cx="7748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300" spc="-1" strike="noStrike">
                <a:solidFill>
                  <a:srgbClr val="000000"/>
                </a:solidFill>
                <a:latin typeface="Times New Roman"/>
              </a:rPr>
              <a:t>Problema de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300" spc="-1" strike="noStrike">
                <a:solidFill>
                  <a:srgbClr val="000000"/>
                </a:solidFill>
                <a:latin typeface="Times New Roman"/>
              </a:rPr>
              <a:t>Optimización Global 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00200"/>
            <a:ext cx="8839080" cy="243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138120" y="4114800"/>
            <a:ext cx="3464280" cy="693720"/>
            <a:chOff x="3138120" y="4114800"/>
            <a:chExt cx="3464280" cy="693720"/>
          </a:xfrm>
        </p:grpSpPr>
        <p:sp>
          <p:nvSpPr>
            <p:cNvPr id="298" name=""/>
            <p:cNvSpPr/>
            <p:nvPr/>
          </p:nvSpPr>
          <p:spPr>
            <a:xfrm>
              <a:off x="5334120" y="4114800"/>
              <a:ext cx="1268280" cy="693720"/>
            </a:xfrm>
            <a:prstGeom prst="line">
              <a:avLst/>
            </a:prstGeom>
            <a:ln w="127080">
              <a:solidFill>
                <a:srgbClr val="4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138120" y="4132440"/>
              <a:ext cx="1346040" cy="607680"/>
            </a:xfrm>
            <a:prstGeom prst="line">
              <a:avLst/>
            </a:prstGeom>
            <a:ln w="127080">
              <a:solidFill>
                <a:srgbClr val="4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30800" y="6202440"/>
            <a:ext cx="1535040" cy="701640"/>
            <a:chOff x="4330800" y="6202440"/>
            <a:chExt cx="1535040" cy="701640"/>
          </a:xfrm>
        </p:grpSpPr>
        <p:sp>
          <p:nvSpPr>
            <p:cNvPr id="301" name=""/>
            <p:cNvSpPr/>
            <p:nvPr/>
          </p:nvSpPr>
          <p:spPr>
            <a:xfrm>
              <a:off x="4473720" y="6202440"/>
              <a:ext cx="1141200" cy="0"/>
            </a:xfrm>
            <a:prstGeom prst="line">
              <a:avLst/>
            </a:prstGeom>
            <a:ln w="127080">
              <a:solidFill>
                <a:srgbClr val="ff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30800" y="6443640"/>
              <a:ext cx="15350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ff0080"/>
                  </a:solidFill>
                  <a:latin typeface="Arial"/>
                </a:rPr>
                <a:t>Preci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895480" y="3886200"/>
            <a:ext cx="426744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centralización e intercamb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31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-zación e intercamb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08200" y="5315040"/>
            <a:ext cx="4539960" cy="552240"/>
            <a:chOff x="1708200" y="5315040"/>
            <a:chExt cx="4539960" cy="552240"/>
          </a:xfrm>
        </p:grpSpPr>
        <p:sp>
          <p:nvSpPr>
            <p:cNvPr id="328" name=""/>
            <p:cNvSpPr/>
            <p:nvPr/>
          </p:nvSpPr>
          <p:spPr>
            <a:xfrm>
              <a:off x="285912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082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65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67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0820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5912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765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49876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vexidad y Separ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2112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erc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5872320"/>
            <a:ext cx="2035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eneficios (sombr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erc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eneficios (sombr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933480" y="2217240"/>
            <a:ext cx="937584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33cc"/>
              </a:buClr>
              <a:buSzPct val="46000"/>
              <a:buFont typeface="Monotype Sorts" charset="2"/>
              <a:buChar char="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Visualisemos esto como una maximización y minimizción simultánea de valores.</a:t>
            </a:r>
            <a:br>
              <a:rPr sz="3300"/>
            </a:b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33cc"/>
              </a:buClr>
              <a:buSzPct val="46000"/>
              <a:buFont typeface="Monotype Sorts" charset="2"/>
              <a:buChar char="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Veamosle para una economía de dos productos</a:t>
            </a:r>
            <a:br>
              <a:rPr sz="3300"/>
            </a:b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33cc"/>
              </a:buClr>
              <a:buSzPct val="46000"/>
              <a:buFont typeface="Monotype Sorts" charset="2"/>
              <a:buChar char="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Asumamos que no hay acervos de estos bienes.</a:t>
            </a:r>
            <a:br>
              <a:rPr sz="3300"/>
            </a:b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33cc"/>
              </a:buClr>
              <a:buSzPct val="46000"/>
              <a:buFont typeface="Monotype Sorts" charset="2"/>
              <a:buChar char="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996633"/>
                </a:solidFill>
                <a:latin typeface="Times New Roman"/>
              </a:rPr>
              <a:t>Tratemos de ver porque el resultado de separación funciona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1005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ecesitamos ver, nuevamente ,  pero de mas cerca al resultado de los precios sombr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643120" y="2379600"/>
            <a:ext cx="3544920" cy="3995640"/>
            <a:chOff x="2643120" y="2379600"/>
            <a:chExt cx="3544920" cy="3995640"/>
          </a:xfrm>
        </p:grpSpPr>
        <p:sp>
          <p:nvSpPr>
            <p:cNvPr id="344" name=""/>
            <p:cNvSpPr/>
            <p:nvPr/>
          </p:nvSpPr>
          <p:spPr>
            <a:xfrm>
              <a:off x="2654280" y="2427120"/>
              <a:ext cx="3533760" cy="3948120"/>
            </a:xfrm>
            <a:custGeom>
              <a:avLst/>
              <a:gdLst/>
              <a:ahLst/>
              <a:rect l="l" t="t" r="r" b="b"/>
              <a:pathLst>
                <a:path w="2226" h="2487">
                  <a:moveTo>
                    <a:pt x="2187" y="2461"/>
                  </a:moveTo>
                  <a:lnTo>
                    <a:pt x="2187" y="2461"/>
                  </a:lnTo>
                  <a:lnTo>
                    <a:pt x="1788" y="2449"/>
                  </a:lnTo>
                  <a:lnTo>
                    <a:pt x="1536" y="2424"/>
                  </a:lnTo>
                  <a:lnTo>
                    <a:pt x="1212" y="2351"/>
                  </a:lnTo>
                  <a:lnTo>
                    <a:pt x="1138" y="2302"/>
                  </a:lnTo>
                  <a:lnTo>
                    <a:pt x="1013" y="2251"/>
                  </a:lnTo>
                  <a:lnTo>
                    <a:pt x="900" y="2164"/>
                  </a:lnTo>
                  <a:lnTo>
                    <a:pt x="788" y="2052"/>
                  </a:lnTo>
                  <a:lnTo>
                    <a:pt x="687" y="1940"/>
                  </a:lnTo>
                  <a:lnTo>
                    <a:pt x="599" y="1828"/>
                  </a:lnTo>
                  <a:lnTo>
                    <a:pt x="486" y="1618"/>
                  </a:lnTo>
                  <a:lnTo>
                    <a:pt x="411" y="1456"/>
                  </a:lnTo>
                  <a:lnTo>
                    <a:pt x="349" y="1294"/>
                  </a:lnTo>
                  <a:lnTo>
                    <a:pt x="261" y="1070"/>
                  </a:lnTo>
                  <a:lnTo>
                    <a:pt x="211" y="959"/>
                  </a:lnTo>
                  <a:lnTo>
                    <a:pt x="149" y="746"/>
                  </a:lnTo>
                  <a:lnTo>
                    <a:pt x="86" y="498"/>
                  </a:lnTo>
                  <a:lnTo>
                    <a:pt x="37" y="287"/>
                  </a:lnTo>
                  <a:lnTo>
                    <a:pt x="14" y="111"/>
                  </a:lnTo>
                  <a:lnTo>
                    <a:pt x="2" y="6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11" y="49"/>
                  </a:lnTo>
                  <a:lnTo>
                    <a:pt x="824" y="11"/>
                  </a:lnTo>
                  <a:lnTo>
                    <a:pt x="1100" y="62"/>
                  </a:lnTo>
                  <a:lnTo>
                    <a:pt x="1513" y="38"/>
                  </a:lnTo>
                  <a:lnTo>
                    <a:pt x="1738" y="100"/>
                  </a:lnTo>
                  <a:lnTo>
                    <a:pt x="1950" y="213"/>
                  </a:lnTo>
                  <a:lnTo>
                    <a:pt x="2024" y="536"/>
                  </a:lnTo>
                  <a:lnTo>
                    <a:pt x="2001" y="946"/>
                  </a:lnTo>
                  <a:lnTo>
                    <a:pt x="2225" y="1555"/>
                  </a:lnTo>
                  <a:lnTo>
                    <a:pt x="2225" y="1978"/>
                  </a:lnTo>
                  <a:lnTo>
                    <a:pt x="2150" y="2264"/>
                  </a:lnTo>
                  <a:lnTo>
                    <a:pt x="2187" y="2486"/>
                  </a:lnTo>
                  <a:lnTo>
                    <a:pt x="2187" y="2461"/>
                  </a:lnTo>
                  <a:lnTo>
                    <a:pt x="2187" y="2461"/>
                  </a:lnTo>
                </a:path>
              </a:pathLst>
            </a:custGeom>
            <a:gradFill rotWithShape="0">
              <a:gsLst>
                <a:gs pos="0">
                  <a:srgbClr val="6a6700"/>
                </a:gs>
                <a:gs pos="100000">
                  <a:srgbClr val="400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43120" y="2379600"/>
              <a:ext cx="3494160" cy="3951360"/>
            </a:xfrm>
            <a:custGeom>
              <a:avLst/>
              <a:gdLst/>
              <a:ahLst/>
              <a:rect l="l" t="t" r="r" b="b"/>
              <a:pathLst>
                <a:path w="2201" h="2489">
                  <a:moveTo>
                    <a:pt x="0" y="0"/>
                  </a:moveTo>
                  <a:lnTo>
                    <a:pt x="0" y="20"/>
                  </a:lnTo>
                  <a:lnTo>
                    <a:pt x="2" y="37"/>
                  </a:lnTo>
                  <a:lnTo>
                    <a:pt x="3" y="51"/>
                  </a:lnTo>
                  <a:lnTo>
                    <a:pt x="5" y="60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5" y="79"/>
                  </a:lnTo>
                  <a:lnTo>
                    <a:pt x="7" y="81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7" y="89"/>
                  </a:lnTo>
                  <a:lnTo>
                    <a:pt x="9" y="91"/>
                  </a:lnTo>
                  <a:lnTo>
                    <a:pt x="9" y="97"/>
                  </a:lnTo>
                  <a:lnTo>
                    <a:pt x="9" y="101"/>
                  </a:lnTo>
                  <a:lnTo>
                    <a:pt x="10" y="109"/>
                  </a:lnTo>
                  <a:lnTo>
                    <a:pt x="11" y="118"/>
                  </a:lnTo>
                  <a:lnTo>
                    <a:pt x="13" y="131"/>
                  </a:lnTo>
                  <a:lnTo>
                    <a:pt x="15" y="148"/>
                  </a:lnTo>
                  <a:lnTo>
                    <a:pt x="18" y="167"/>
                  </a:lnTo>
                  <a:lnTo>
                    <a:pt x="21" y="189"/>
                  </a:lnTo>
                  <a:lnTo>
                    <a:pt x="25" y="214"/>
                  </a:lnTo>
                  <a:lnTo>
                    <a:pt x="30" y="240"/>
                  </a:lnTo>
                  <a:lnTo>
                    <a:pt x="36" y="269"/>
                  </a:lnTo>
                  <a:lnTo>
                    <a:pt x="42" y="297"/>
                  </a:lnTo>
                  <a:lnTo>
                    <a:pt x="48" y="329"/>
                  </a:lnTo>
                  <a:lnTo>
                    <a:pt x="54" y="360"/>
                  </a:lnTo>
                  <a:lnTo>
                    <a:pt x="59" y="393"/>
                  </a:lnTo>
                  <a:lnTo>
                    <a:pt x="67" y="425"/>
                  </a:lnTo>
                  <a:lnTo>
                    <a:pt x="73" y="458"/>
                  </a:lnTo>
                  <a:lnTo>
                    <a:pt x="80" y="489"/>
                  </a:lnTo>
                  <a:lnTo>
                    <a:pt x="87" y="521"/>
                  </a:lnTo>
                  <a:lnTo>
                    <a:pt x="95" y="550"/>
                  </a:lnTo>
                  <a:lnTo>
                    <a:pt x="100" y="581"/>
                  </a:lnTo>
                  <a:lnTo>
                    <a:pt x="108" y="612"/>
                  </a:lnTo>
                  <a:lnTo>
                    <a:pt x="115" y="645"/>
                  </a:lnTo>
                  <a:lnTo>
                    <a:pt x="125" y="678"/>
                  </a:lnTo>
                  <a:lnTo>
                    <a:pt x="133" y="712"/>
                  </a:lnTo>
                  <a:lnTo>
                    <a:pt x="142" y="746"/>
                  </a:lnTo>
                  <a:lnTo>
                    <a:pt x="151" y="780"/>
                  </a:lnTo>
                  <a:lnTo>
                    <a:pt x="161" y="813"/>
                  </a:lnTo>
                  <a:lnTo>
                    <a:pt x="169" y="847"/>
                  </a:lnTo>
                  <a:lnTo>
                    <a:pt x="178" y="878"/>
                  </a:lnTo>
                  <a:lnTo>
                    <a:pt x="187" y="908"/>
                  </a:lnTo>
                  <a:lnTo>
                    <a:pt x="196" y="935"/>
                  </a:lnTo>
                  <a:lnTo>
                    <a:pt x="204" y="960"/>
                  </a:lnTo>
                  <a:lnTo>
                    <a:pt x="212" y="983"/>
                  </a:lnTo>
                  <a:lnTo>
                    <a:pt x="219" y="1003"/>
                  </a:lnTo>
                  <a:lnTo>
                    <a:pt x="226" y="1018"/>
                  </a:lnTo>
                  <a:lnTo>
                    <a:pt x="232" y="1034"/>
                  </a:lnTo>
                  <a:lnTo>
                    <a:pt x="239" y="1053"/>
                  </a:lnTo>
                  <a:lnTo>
                    <a:pt x="246" y="1072"/>
                  </a:lnTo>
                  <a:lnTo>
                    <a:pt x="255" y="1093"/>
                  </a:lnTo>
                  <a:lnTo>
                    <a:pt x="265" y="1117"/>
                  </a:lnTo>
                  <a:lnTo>
                    <a:pt x="275" y="1140"/>
                  </a:lnTo>
                  <a:lnTo>
                    <a:pt x="285" y="1165"/>
                  </a:lnTo>
                  <a:lnTo>
                    <a:pt x="296" y="1190"/>
                  </a:lnTo>
                  <a:lnTo>
                    <a:pt x="305" y="1216"/>
                  </a:lnTo>
                  <a:lnTo>
                    <a:pt x="317" y="1242"/>
                  </a:lnTo>
                  <a:lnTo>
                    <a:pt x="327" y="1268"/>
                  </a:lnTo>
                  <a:lnTo>
                    <a:pt x="339" y="1292"/>
                  </a:lnTo>
                  <a:lnTo>
                    <a:pt x="348" y="1316"/>
                  </a:lnTo>
                  <a:lnTo>
                    <a:pt x="359" y="1339"/>
                  </a:lnTo>
                  <a:lnTo>
                    <a:pt x="368" y="1361"/>
                  </a:lnTo>
                  <a:lnTo>
                    <a:pt x="377" y="1381"/>
                  </a:lnTo>
                  <a:lnTo>
                    <a:pt x="385" y="1402"/>
                  </a:lnTo>
                  <a:lnTo>
                    <a:pt x="394" y="1423"/>
                  </a:lnTo>
                  <a:lnTo>
                    <a:pt x="403" y="1446"/>
                  </a:lnTo>
                  <a:lnTo>
                    <a:pt x="414" y="1469"/>
                  </a:lnTo>
                  <a:lnTo>
                    <a:pt x="423" y="1493"/>
                  </a:lnTo>
                  <a:lnTo>
                    <a:pt x="435" y="1517"/>
                  </a:lnTo>
                  <a:lnTo>
                    <a:pt x="445" y="1541"/>
                  </a:lnTo>
                  <a:lnTo>
                    <a:pt x="457" y="1564"/>
                  </a:lnTo>
                  <a:lnTo>
                    <a:pt x="466" y="1589"/>
                  </a:lnTo>
                  <a:lnTo>
                    <a:pt x="477" y="1611"/>
                  </a:lnTo>
                  <a:lnTo>
                    <a:pt x="486" y="1633"/>
                  </a:lnTo>
                  <a:lnTo>
                    <a:pt x="496" y="1653"/>
                  </a:lnTo>
                  <a:lnTo>
                    <a:pt x="504" y="1673"/>
                  </a:lnTo>
                  <a:lnTo>
                    <a:pt x="513" y="1691"/>
                  </a:lnTo>
                  <a:lnTo>
                    <a:pt x="520" y="1707"/>
                  </a:lnTo>
                  <a:lnTo>
                    <a:pt x="527" y="1719"/>
                  </a:lnTo>
                  <a:lnTo>
                    <a:pt x="533" y="1733"/>
                  </a:lnTo>
                  <a:lnTo>
                    <a:pt x="541" y="1747"/>
                  </a:lnTo>
                  <a:lnTo>
                    <a:pt x="549" y="1764"/>
                  </a:lnTo>
                  <a:lnTo>
                    <a:pt x="559" y="1779"/>
                  </a:lnTo>
                  <a:lnTo>
                    <a:pt x="568" y="1797"/>
                  </a:lnTo>
                  <a:lnTo>
                    <a:pt x="579" y="1815"/>
                  </a:lnTo>
                  <a:lnTo>
                    <a:pt x="591" y="1834"/>
                  </a:lnTo>
                  <a:lnTo>
                    <a:pt x="603" y="1851"/>
                  </a:lnTo>
                  <a:lnTo>
                    <a:pt x="614" y="1869"/>
                  </a:lnTo>
                  <a:lnTo>
                    <a:pt x="627" y="1888"/>
                  </a:lnTo>
                  <a:lnTo>
                    <a:pt x="639" y="1906"/>
                  </a:lnTo>
                  <a:lnTo>
                    <a:pt x="652" y="1923"/>
                  </a:lnTo>
                  <a:lnTo>
                    <a:pt x="663" y="1940"/>
                  </a:lnTo>
                  <a:lnTo>
                    <a:pt x="675" y="1955"/>
                  </a:lnTo>
                  <a:lnTo>
                    <a:pt x="686" y="1970"/>
                  </a:lnTo>
                  <a:lnTo>
                    <a:pt x="697" y="1982"/>
                  </a:lnTo>
                  <a:lnTo>
                    <a:pt x="707" y="1995"/>
                  </a:lnTo>
                  <a:lnTo>
                    <a:pt x="719" y="2008"/>
                  </a:lnTo>
                  <a:lnTo>
                    <a:pt x="731" y="2023"/>
                  </a:lnTo>
                  <a:lnTo>
                    <a:pt x="745" y="2037"/>
                  </a:lnTo>
                  <a:lnTo>
                    <a:pt x="759" y="2052"/>
                  </a:lnTo>
                  <a:lnTo>
                    <a:pt x="773" y="2067"/>
                  </a:lnTo>
                  <a:lnTo>
                    <a:pt x="789" y="2082"/>
                  </a:lnTo>
                  <a:lnTo>
                    <a:pt x="803" y="2097"/>
                  </a:lnTo>
                  <a:lnTo>
                    <a:pt x="818" y="2112"/>
                  </a:lnTo>
                  <a:lnTo>
                    <a:pt x="833" y="2127"/>
                  </a:lnTo>
                  <a:lnTo>
                    <a:pt x="847" y="2141"/>
                  </a:lnTo>
                  <a:lnTo>
                    <a:pt x="861" y="2153"/>
                  </a:lnTo>
                  <a:lnTo>
                    <a:pt x="874" y="2166"/>
                  </a:lnTo>
                  <a:lnTo>
                    <a:pt x="887" y="2177"/>
                  </a:lnTo>
                  <a:lnTo>
                    <a:pt x="898" y="2187"/>
                  </a:lnTo>
                  <a:lnTo>
                    <a:pt x="910" y="2194"/>
                  </a:lnTo>
                  <a:lnTo>
                    <a:pt x="919" y="2203"/>
                  </a:lnTo>
                  <a:lnTo>
                    <a:pt x="930" y="2211"/>
                  </a:lnTo>
                  <a:lnTo>
                    <a:pt x="941" y="2219"/>
                  </a:lnTo>
                  <a:lnTo>
                    <a:pt x="952" y="2227"/>
                  </a:lnTo>
                  <a:lnTo>
                    <a:pt x="962" y="2235"/>
                  </a:lnTo>
                  <a:lnTo>
                    <a:pt x="973" y="2243"/>
                  </a:lnTo>
                  <a:lnTo>
                    <a:pt x="984" y="2251"/>
                  </a:lnTo>
                  <a:lnTo>
                    <a:pt x="995" y="2258"/>
                  </a:lnTo>
                  <a:lnTo>
                    <a:pt x="1004" y="2265"/>
                  </a:lnTo>
                  <a:lnTo>
                    <a:pt x="1014" y="2273"/>
                  </a:lnTo>
                  <a:lnTo>
                    <a:pt x="1022" y="2279"/>
                  </a:lnTo>
                  <a:lnTo>
                    <a:pt x="1031" y="2285"/>
                  </a:lnTo>
                  <a:lnTo>
                    <a:pt x="1037" y="2291"/>
                  </a:lnTo>
                  <a:lnTo>
                    <a:pt x="1044" y="2295"/>
                  </a:lnTo>
                  <a:lnTo>
                    <a:pt x="1049" y="2299"/>
                  </a:lnTo>
                  <a:lnTo>
                    <a:pt x="1054" y="2301"/>
                  </a:lnTo>
                  <a:lnTo>
                    <a:pt x="1057" y="2305"/>
                  </a:lnTo>
                  <a:lnTo>
                    <a:pt x="1062" y="2307"/>
                  </a:lnTo>
                  <a:lnTo>
                    <a:pt x="1067" y="2310"/>
                  </a:lnTo>
                  <a:lnTo>
                    <a:pt x="1074" y="2313"/>
                  </a:lnTo>
                  <a:lnTo>
                    <a:pt x="1081" y="2317"/>
                  </a:lnTo>
                  <a:lnTo>
                    <a:pt x="1089" y="2320"/>
                  </a:lnTo>
                  <a:lnTo>
                    <a:pt x="1096" y="2324"/>
                  </a:lnTo>
                  <a:lnTo>
                    <a:pt x="1105" y="2327"/>
                  </a:lnTo>
                  <a:lnTo>
                    <a:pt x="1113" y="2332"/>
                  </a:lnTo>
                  <a:lnTo>
                    <a:pt x="1122" y="2336"/>
                  </a:lnTo>
                  <a:lnTo>
                    <a:pt x="1130" y="2340"/>
                  </a:lnTo>
                  <a:lnTo>
                    <a:pt x="1140" y="2343"/>
                  </a:lnTo>
                  <a:lnTo>
                    <a:pt x="1147" y="2347"/>
                  </a:lnTo>
                  <a:lnTo>
                    <a:pt x="1157" y="2351"/>
                  </a:lnTo>
                  <a:lnTo>
                    <a:pt x="1165" y="2355"/>
                  </a:lnTo>
                  <a:lnTo>
                    <a:pt x="1174" y="2357"/>
                  </a:lnTo>
                  <a:lnTo>
                    <a:pt x="1181" y="2360"/>
                  </a:lnTo>
                  <a:lnTo>
                    <a:pt x="1191" y="2364"/>
                  </a:lnTo>
                  <a:lnTo>
                    <a:pt x="1202" y="2368"/>
                  </a:lnTo>
                  <a:lnTo>
                    <a:pt x="1214" y="2371"/>
                  </a:lnTo>
                  <a:lnTo>
                    <a:pt x="1227" y="2377"/>
                  </a:lnTo>
                  <a:lnTo>
                    <a:pt x="1240" y="2381"/>
                  </a:lnTo>
                  <a:lnTo>
                    <a:pt x="1254" y="2385"/>
                  </a:lnTo>
                  <a:lnTo>
                    <a:pt x="1269" y="2388"/>
                  </a:lnTo>
                  <a:lnTo>
                    <a:pt x="1283" y="2394"/>
                  </a:lnTo>
                  <a:lnTo>
                    <a:pt x="1297" y="2398"/>
                  </a:lnTo>
                  <a:lnTo>
                    <a:pt x="1312" y="2403"/>
                  </a:lnTo>
                  <a:lnTo>
                    <a:pt x="1327" y="2407"/>
                  </a:lnTo>
                  <a:lnTo>
                    <a:pt x="1340" y="2410"/>
                  </a:lnTo>
                  <a:lnTo>
                    <a:pt x="1355" y="2414"/>
                  </a:lnTo>
                  <a:lnTo>
                    <a:pt x="1368" y="2418"/>
                  </a:lnTo>
                  <a:lnTo>
                    <a:pt x="1381" y="2421"/>
                  </a:lnTo>
                  <a:lnTo>
                    <a:pt x="1393" y="2425"/>
                  </a:lnTo>
                  <a:lnTo>
                    <a:pt x="1406" y="2428"/>
                  </a:lnTo>
                  <a:lnTo>
                    <a:pt x="1421" y="2431"/>
                  </a:lnTo>
                  <a:lnTo>
                    <a:pt x="1436" y="2433"/>
                  </a:lnTo>
                  <a:lnTo>
                    <a:pt x="1451" y="2437"/>
                  </a:lnTo>
                  <a:lnTo>
                    <a:pt x="1467" y="2440"/>
                  </a:lnTo>
                  <a:lnTo>
                    <a:pt x="1484" y="2444"/>
                  </a:lnTo>
                  <a:lnTo>
                    <a:pt x="1501" y="2446"/>
                  </a:lnTo>
                  <a:lnTo>
                    <a:pt x="1516" y="2449"/>
                  </a:lnTo>
                  <a:lnTo>
                    <a:pt x="1533" y="2452"/>
                  </a:lnTo>
                  <a:lnTo>
                    <a:pt x="1548" y="2455"/>
                  </a:lnTo>
                  <a:lnTo>
                    <a:pt x="1563" y="2457"/>
                  </a:lnTo>
                  <a:lnTo>
                    <a:pt x="1577" y="2459"/>
                  </a:lnTo>
                  <a:lnTo>
                    <a:pt x="1591" y="2461"/>
                  </a:lnTo>
                  <a:lnTo>
                    <a:pt x="1603" y="2463"/>
                  </a:lnTo>
                  <a:lnTo>
                    <a:pt x="1615" y="2465"/>
                  </a:lnTo>
                  <a:lnTo>
                    <a:pt x="1625" y="2466"/>
                  </a:lnTo>
                  <a:lnTo>
                    <a:pt x="1637" y="2468"/>
                  </a:lnTo>
                  <a:lnTo>
                    <a:pt x="1649" y="2470"/>
                  </a:lnTo>
                  <a:lnTo>
                    <a:pt x="1664" y="2470"/>
                  </a:lnTo>
                  <a:lnTo>
                    <a:pt x="1679" y="2472"/>
                  </a:lnTo>
                  <a:lnTo>
                    <a:pt x="1695" y="2473"/>
                  </a:lnTo>
                  <a:lnTo>
                    <a:pt x="1712" y="2475"/>
                  </a:lnTo>
                  <a:lnTo>
                    <a:pt x="1729" y="2475"/>
                  </a:lnTo>
                  <a:lnTo>
                    <a:pt x="1745" y="2477"/>
                  </a:lnTo>
                  <a:lnTo>
                    <a:pt x="1762" y="2478"/>
                  </a:lnTo>
                  <a:lnTo>
                    <a:pt x="1778" y="2479"/>
                  </a:lnTo>
                  <a:lnTo>
                    <a:pt x="1795" y="2479"/>
                  </a:lnTo>
                  <a:lnTo>
                    <a:pt x="1810" y="2481"/>
                  </a:lnTo>
                  <a:lnTo>
                    <a:pt x="1826" y="2481"/>
                  </a:lnTo>
                  <a:lnTo>
                    <a:pt x="1840" y="2482"/>
                  </a:lnTo>
                  <a:lnTo>
                    <a:pt x="1854" y="2482"/>
                  </a:lnTo>
                  <a:lnTo>
                    <a:pt x="1867" y="2484"/>
                  </a:lnTo>
                  <a:lnTo>
                    <a:pt x="1881" y="2484"/>
                  </a:lnTo>
                  <a:lnTo>
                    <a:pt x="1895" y="2485"/>
                  </a:lnTo>
                  <a:lnTo>
                    <a:pt x="1911" y="2485"/>
                  </a:lnTo>
                  <a:lnTo>
                    <a:pt x="1927" y="2486"/>
                  </a:lnTo>
                  <a:lnTo>
                    <a:pt x="1943" y="2486"/>
                  </a:lnTo>
                  <a:lnTo>
                    <a:pt x="1960" y="2486"/>
                  </a:lnTo>
                  <a:lnTo>
                    <a:pt x="1978" y="2486"/>
                  </a:lnTo>
                  <a:lnTo>
                    <a:pt x="1993" y="2488"/>
                  </a:lnTo>
                  <a:lnTo>
                    <a:pt x="2010" y="2488"/>
                  </a:lnTo>
                  <a:lnTo>
                    <a:pt x="2026" y="2488"/>
                  </a:lnTo>
                  <a:lnTo>
                    <a:pt x="2042" y="2488"/>
                  </a:lnTo>
                  <a:lnTo>
                    <a:pt x="2056" y="2488"/>
                  </a:lnTo>
                  <a:lnTo>
                    <a:pt x="2069" y="2488"/>
                  </a:lnTo>
                  <a:lnTo>
                    <a:pt x="2081" y="2488"/>
                  </a:lnTo>
                  <a:lnTo>
                    <a:pt x="2093" y="2488"/>
                  </a:lnTo>
                  <a:lnTo>
                    <a:pt x="2101" y="2488"/>
                  </a:lnTo>
                  <a:lnTo>
                    <a:pt x="2108" y="2488"/>
                  </a:lnTo>
                  <a:lnTo>
                    <a:pt x="2113" y="2488"/>
                  </a:lnTo>
                  <a:lnTo>
                    <a:pt x="2116" y="2488"/>
                  </a:lnTo>
                  <a:lnTo>
                    <a:pt x="2118" y="2488"/>
                  </a:lnTo>
                  <a:lnTo>
                    <a:pt x="2121" y="2488"/>
                  </a:lnTo>
                  <a:lnTo>
                    <a:pt x="2123" y="2488"/>
                  </a:lnTo>
                  <a:lnTo>
                    <a:pt x="2126" y="2488"/>
                  </a:lnTo>
                  <a:lnTo>
                    <a:pt x="2127" y="2488"/>
                  </a:lnTo>
                  <a:lnTo>
                    <a:pt x="2132" y="2488"/>
                  </a:lnTo>
                  <a:lnTo>
                    <a:pt x="2137" y="2488"/>
                  </a:lnTo>
                  <a:lnTo>
                    <a:pt x="2145" y="2488"/>
                  </a:lnTo>
                  <a:lnTo>
                    <a:pt x="2154" y="2488"/>
                  </a:lnTo>
                  <a:lnTo>
                    <a:pt x="2166" y="2488"/>
                  </a:lnTo>
                  <a:lnTo>
                    <a:pt x="2181" y="2488"/>
                  </a:lnTo>
                  <a:lnTo>
                    <a:pt x="2200" y="2488"/>
                  </a:lnTo>
                </a:path>
              </a:pathLst>
            </a:custGeom>
            <a:noFill/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precios que “separan”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1708200" y="3047760"/>
            <a:ext cx="2884320" cy="357804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04800" y="8377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amente el problema de R. Cruso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8120" y="4300560"/>
            <a:ext cx="2971800" cy="3160800"/>
          </a:xfrm>
          <a:custGeom>
            <a:avLst/>
            <a:gdLst/>
            <a:ahLst/>
            <a:rect l="l" t="t" r="r" b="b"/>
            <a:pathLst>
              <a:path w="1872" h="1991">
                <a:moveTo>
                  <a:pt x="32" y="1"/>
                </a:moveTo>
                <a:lnTo>
                  <a:pt x="2" y="0"/>
                </a:lnTo>
                <a:lnTo>
                  <a:pt x="0" y="1983"/>
                </a:lnTo>
                <a:lnTo>
                  <a:pt x="1871" y="1990"/>
                </a:lnTo>
                <a:lnTo>
                  <a:pt x="1871" y="1990"/>
                </a:lnTo>
                <a:lnTo>
                  <a:pt x="1833" y="1830"/>
                </a:lnTo>
                <a:lnTo>
                  <a:pt x="1823" y="1791"/>
                </a:lnTo>
                <a:lnTo>
                  <a:pt x="1807" y="1747"/>
                </a:lnTo>
                <a:lnTo>
                  <a:pt x="1792" y="1697"/>
                </a:lnTo>
                <a:lnTo>
                  <a:pt x="1774" y="1645"/>
                </a:lnTo>
                <a:lnTo>
                  <a:pt x="1755" y="1592"/>
                </a:lnTo>
                <a:lnTo>
                  <a:pt x="1737" y="1541"/>
                </a:lnTo>
                <a:lnTo>
                  <a:pt x="1719" y="1495"/>
                </a:lnTo>
                <a:lnTo>
                  <a:pt x="1707" y="1472"/>
                </a:lnTo>
                <a:lnTo>
                  <a:pt x="1696" y="1447"/>
                </a:lnTo>
                <a:lnTo>
                  <a:pt x="1686" y="1421"/>
                </a:lnTo>
                <a:lnTo>
                  <a:pt x="1673" y="1390"/>
                </a:lnTo>
                <a:lnTo>
                  <a:pt x="1657" y="1361"/>
                </a:lnTo>
                <a:lnTo>
                  <a:pt x="1642" y="1329"/>
                </a:lnTo>
                <a:lnTo>
                  <a:pt x="1627" y="1296"/>
                </a:lnTo>
                <a:lnTo>
                  <a:pt x="1613" y="1263"/>
                </a:lnTo>
                <a:lnTo>
                  <a:pt x="1596" y="1231"/>
                </a:lnTo>
                <a:lnTo>
                  <a:pt x="1579" y="1198"/>
                </a:lnTo>
                <a:lnTo>
                  <a:pt x="1563" y="1167"/>
                </a:lnTo>
                <a:lnTo>
                  <a:pt x="1547" y="1136"/>
                </a:lnTo>
                <a:lnTo>
                  <a:pt x="1532" y="1107"/>
                </a:lnTo>
                <a:lnTo>
                  <a:pt x="1517" y="1079"/>
                </a:lnTo>
                <a:lnTo>
                  <a:pt x="1503" y="1054"/>
                </a:lnTo>
                <a:lnTo>
                  <a:pt x="1491" y="1029"/>
                </a:lnTo>
                <a:lnTo>
                  <a:pt x="1473" y="1007"/>
                </a:lnTo>
                <a:lnTo>
                  <a:pt x="1458" y="983"/>
                </a:lnTo>
                <a:lnTo>
                  <a:pt x="1442" y="956"/>
                </a:lnTo>
                <a:lnTo>
                  <a:pt x="1423" y="929"/>
                </a:lnTo>
                <a:lnTo>
                  <a:pt x="1402" y="902"/>
                </a:lnTo>
                <a:lnTo>
                  <a:pt x="1383" y="871"/>
                </a:lnTo>
                <a:lnTo>
                  <a:pt x="1362" y="842"/>
                </a:lnTo>
                <a:lnTo>
                  <a:pt x="1342" y="811"/>
                </a:lnTo>
                <a:lnTo>
                  <a:pt x="1315" y="785"/>
                </a:lnTo>
                <a:lnTo>
                  <a:pt x="1295" y="755"/>
                </a:lnTo>
                <a:lnTo>
                  <a:pt x="1274" y="726"/>
                </a:lnTo>
                <a:lnTo>
                  <a:pt x="1251" y="699"/>
                </a:lnTo>
                <a:lnTo>
                  <a:pt x="1231" y="676"/>
                </a:lnTo>
                <a:lnTo>
                  <a:pt x="1211" y="652"/>
                </a:lnTo>
                <a:lnTo>
                  <a:pt x="1191" y="633"/>
                </a:lnTo>
                <a:lnTo>
                  <a:pt x="1177" y="613"/>
                </a:lnTo>
                <a:lnTo>
                  <a:pt x="1137" y="578"/>
                </a:lnTo>
                <a:lnTo>
                  <a:pt x="1095" y="538"/>
                </a:lnTo>
                <a:lnTo>
                  <a:pt x="1052" y="496"/>
                </a:lnTo>
                <a:lnTo>
                  <a:pt x="1005" y="454"/>
                </a:lnTo>
                <a:lnTo>
                  <a:pt x="959" y="417"/>
                </a:lnTo>
                <a:lnTo>
                  <a:pt x="919" y="379"/>
                </a:lnTo>
                <a:lnTo>
                  <a:pt x="883" y="348"/>
                </a:lnTo>
                <a:lnTo>
                  <a:pt x="850" y="321"/>
                </a:lnTo>
                <a:lnTo>
                  <a:pt x="820" y="305"/>
                </a:lnTo>
                <a:lnTo>
                  <a:pt x="785" y="277"/>
                </a:lnTo>
                <a:lnTo>
                  <a:pt x="745" y="252"/>
                </a:lnTo>
                <a:lnTo>
                  <a:pt x="705" y="225"/>
                </a:lnTo>
                <a:lnTo>
                  <a:pt x="664" y="201"/>
                </a:lnTo>
                <a:lnTo>
                  <a:pt x="627" y="178"/>
                </a:lnTo>
                <a:lnTo>
                  <a:pt x="591" y="157"/>
                </a:lnTo>
                <a:lnTo>
                  <a:pt x="562" y="140"/>
                </a:lnTo>
                <a:lnTo>
                  <a:pt x="529" y="128"/>
                </a:lnTo>
                <a:lnTo>
                  <a:pt x="499" y="111"/>
                </a:lnTo>
                <a:lnTo>
                  <a:pt x="462" y="99"/>
                </a:lnTo>
                <a:lnTo>
                  <a:pt x="428" y="85"/>
                </a:lnTo>
                <a:lnTo>
                  <a:pt x="391" y="70"/>
                </a:lnTo>
                <a:lnTo>
                  <a:pt x="359" y="58"/>
                </a:lnTo>
                <a:lnTo>
                  <a:pt x="331" y="50"/>
                </a:lnTo>
                <a:lnTo>
                  <a:pt x="307" y="41"/>
                </a:lnTo>
                <a:lnTo>
                  <a:pt x="283" y="39"/>
                </a:lnTo>
                <a:lnTo>
                  <a:pt x="255" y="33"/>
                </a:lnTo>
                <a:lnTo>
                  <a:pt x="226" y="28"/>
                </a:lnTo>
                <a:lnTo>
                  <a:pt x="195" y="23"/>
                </a:lnTo>
                <a:lnTo>
                  <a:pt x="165" y="20"/>
                </a:lnTo>
                <a:lnTo>
                  <a:pt x="135" y="15"/>
                </a:lnTo>
                <a:lnTo>
                  <a:pt x="109" y="13"/>
                </a:lnTo>
                <a:lnTo>
                  <a:pt x="87" y="10"/>
                </a:lnTo>
                <a:lnTo>
                  <a:pt x="51" y="3"/>
                </a:lnTo>
                <a:lnTo>
                  <a:pt x="32" y="1"/>
                </a:lnTo>
                <a:lnTo>
                  <a:pt x="32" y="1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6a6700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5840" y="2330280"/>
            <a:ext cx="3565440" cy="4032360"/>
          </a:xfrm>
          <a:custGeom>
            <a:avLst/>
            <a:gdLst/>
            <a:ahLst/>
            <a:rect l="l" t="t" r="r" b="b"/>
            <a:pathLst>
              <a:path w="2246" h="2540">
                <a:moveTo>
                  <a:pt x="0" y="0"/>
                </a:moveTo>
                <a:lnTo>
                  <a:pt x="1" y="21"/>
                </a:lnTo>
                <a:lnTo>
                  <a:pt x="2" y="38"/>
                </a:lnTo>
                <a:lnTo>
                  <a:pt x="3" y="51"/>
                </a:lnTo>
                <a:lnTo>
                  <a:pt x="5" y="61"/>
                </a:lnTo>
                <a:lnTo>
                  <a:pt x="5" y="70"/>
                </a:lnTo>
                <a:lnTo>
                  <a:pt x="6" y="76"/>
                </a:lnTo>
                <a:lnTo>
                  <a:pt x="6" y="80"/>
                </a:lnTo>
                <a:lnTo>
                  <a:pt x="8" y="82"/>
                </a:lnTo>
                <a:lnTo>
                  <a:pt x="8" y="86"/>
                </a:lnTo>
                <a:lnTo>
                  <a:pt x="8" y="88"/>
                </a:lnTo>
                <a:lnTo>
                  <a:pt x="8" y="91"/>
                </a:lnTo>
                <a:lnTo>
                  <a:pt x="8" y="93"/>
                </a:lnTo>
                <a:lnTo>
                  <a:pt x="8" y="98"/>
                </a:lnTo>
                <a:lnTo>
                  <a:pt x="9" y="103"/>
                </a:lnTo>
                <a:lnTo>
                  <a:pt x="10" y="111"/>
                </a:lnTo>
                <a:lnTo>
                  <a:pt x="12" y="121"/>
                </a:lnTo>
                <a:lnTo>
                  <a:pt x="13" y="134"/>
                </a:lnTo>
                <a:lnTo>
                  <a:pt x="15" y="151"/>
                </a:lnTo>
                <a:lnTo>
                  <a:pt x="18" y="171"/>
                </a:lnTo>
                <a:lnTo>
                  <a:pt x="22" y="193"/>
                </a:lnTo>
                <a:lnTo>
                  <a:pt x="26" y="218"/>
                </a:lnTo>
                <a:lnTo>
                  <a:pt x="31" y="246"/>
                </a:lnTo>
                <a:lnTo>
                  <a:pt x="37" y="275"/>
                </a:lnTo>
                <a:lnTo>
                  <a:pt x="43" y="304"/>
                </a:lnTo>
                <a:lnTo>
                  <a:pt x="49" y="336"/>
                </a:lnTo>
                <a:lnTo>
                  <a:pt x="56" y="368"/>
                </a:lnTo>
                <a:lnTo>
                  <a:pt x="61" y="402"/>
                </a:lnTo>
                <a:lnTo>
                  <a:pt x="69" y="434"/>
                </a:lnTo>
                <a:lnTo>
                  <a:pt x="74" y="468"/>
                </a:lnTo>
                <a:lnTo>
                  <a:pt x="82" y="500"/>
                </a:lnTo>
                <a:lnTo>
                  <a:pt x="89" y="532"/>
                </a:lnTo>
                <a:lnTo>
                  <a:pt x="96" y="562"/>
                </a:lnTo>
                <a:lnTo>
                  <a:pt x="102" y="593"/>
                </a:lnTo>
                <a:lnTo>
                  <a:pt x="110" y="625"/>
                </a:lnTo>
                <a:lnTo>
                  <a:pt x="117" y="658"/>
                </a:lnTo>
                <a:lnTo>
                  <a:pt x="127" y="692"/>
                </a:lnTo>
                <a:lnTo>
                  <a:pt x="136" y="728"/>
                </a:lnTo>
                <a:lnTo>
                  <a:pt x="145" y="762"/>
                </a:lnTo>
                <a:lnTo>
                  <a:pt x="154" y="796"/>
                </a:lnTo>
                <a:lnTo>
                  <a:pt x="165" y="830"/>
                </a:lnTo>
                <a:lnTo>
                  <a:pt x="174" y="863"/>
                </a:lnTo>
                <a:lnTo>
                  <a:pt x="183" y="895"/>
                </a:lnTo>
                <a:lnTo>
                  <a:pt x="192" y="926"/>
                </a:lnTo>
                <a:lnTo>
                  <a:pt x="201" y="953"/>
                </a:lnTo>
                <a:lnTo>
                  <a:pt x="208" y="980"/>
                </a:lnTo>
                <a:lnTo>
                  <a:pt x="217" y="1002"/>
                </a:lnTo>
                <a:lnTo>
                  <a:pt x="224" y="1023"/>
                </a:lnTo>
                <a:lnTo>
                  <a:pt x="231" y="1039"/>
                </a:lnTo>
                <a:lnTo>
                  <a:pt x="236" y="1056"/>
                </a:lnTo>
                <a:lnTo>
                  <a:pt x="244" y="1074"/>
                </a:lnTo>
                <a:lnTo>
                  <a:pt x="252" y="1095"/>
                </a:lnTo>
                <a:lnTo>
                  <a:pt x="261" y="1116"/>
                </a:lnTo>
                <a:lnTo>
                  <a:pt x="270" y="1140"/>
                </a:lnTo>
                <a:lnTo>
                  <a:pt x="280" y="1164"/>
                </a:lnTo>
                <a:lnTo>
                  <a:pt x="291" y="1190"/>
                </a:lnTo>
                <a:lnTo>
                  <a:pt x="302" y="1214"/>
                </a:lnTo>
                <a:lnTo>
                  <a:pt x="312" y="1241"/>
                </a:lnTo>
                <a:lnTo>
                  <a:pt x="323" y="1268"/>
                </a:lnTo>
                <a:lnTo>
                  <a:pt x="334" y="1294"/>
                </a:lnTo>
                <a:lnTo>
                  <a:pt x="345" y="1319"/>
                </a:lnTo>
                <a:lnTo>
                  <a:pt x="354" y="1344"/>
                </a:lnTo>
                <a:lnTo>
                  <a:pt x="366" y="1367"/>
                </a:lnTo>
                <a:lnTo>
                  <a:pt x="375" y="1389"/>
                </a:lnTo>
                <a:lnTo>
                  <a:pt x="384" y="1409"/>
                </a:lnTo>
                <a:lnTo>
                  <a:pt x="392" y="1430"/>
                </a:lnTo>
                <a:lnTo>
                  <a:pt x="402" y="1452"/>
                </a:lnTo>
                <a:lnTo>
                  <a:pt x="411" y="1475"/>
                </a:lnTo>
                <a:lnTo>
                  <a:pt x="422" y="1498"/>
                </a:lnTo>
                <a:lnTo>
                  <a:pt x="432" y="1523"/>
                </a:lnTo>
                <a:lnTo>
                  <a:pt x="443" y="1548"/>
                </a:lnTo>
                <a:lnTo>
                  <a:pt x="454" y="1572"/>
                </a:lnTo>
                <a:lnTo>
                  <a:pt x="466" y="1596"/>
                </a:lnTo>
                <a:lnTo>
                  <a:pt x="475" y="1621"/>
                </a:lnTo>
                <a:lnTo>
                  <a:pt x="486" y="1644"/>
                </a:lnTo>
                <a:lnTo>
                  <a:pt x="496" y="1667"/>
                </a:lnTo>
                <a:lnTo>
                  <a:pt x="506" y="1688"/>
                </a:lnTo>
                <a:lnTo>
                  <a:pt x="514" y="1708"/>
                </a:lnTo>
                <a:lnTo>
                  <a:pt x="523" y="1726"/>
                </a:lnTo>
                <a:lnTo>
                  <a:pt x="530" y="1742"/>
                </a:lnTo>
                <a:lnTo>
                  <a:pt x="538" y="1755"/>
                </a:lnTo>
                <a:lnTo>
                  <a:pt x="544" y="1769"/>
                </a:lnTo>
                <a:lnTo>
                  <a:pt x="551" y="1784"/>
                </a:lnTo>
                <a:lnTo>
                  <a:pt x="560" y="1800"/>
                </a:lnTo>
                <a:lnTo>
                  <a:pt x="570" y="1815"/>
                </a:lnTo>
                <a:lnTo>
                  <a:pt x="580" y="1834"/>
                </a:lnTo>
                <a:lnTo>
                  <a:pt x="591" y="1852"/>
                </a:lnTo>
                <a:lnTo>
                  <a:pt x="602" y="1870"/>
                </a:lnTo>
                <a:lnTo>
                  <a:pt x="615" y="1888"/>
                </a:lnTo>
                <a:lnTo>
                  <a:pt x="626" y="1908"/>
                </a:lnTo>
                <a:lnTo>
                  <a:pt x="640" y="1926"/>
                </a:lnTo>
                <a:lnTo>
                  <a:pt x="652" y="1945"/>
                </a:lnTo>
                <a:lnTo>
                  <a:pt x="664" y="1962"/>
                </a:lnTo>
                <a:lnTo>
                  <a:pt x="676" y="1980"/>
                </a:lnTo>
                <a:lnTo>
                  <a:pt x="689" y="1996"/>
                </a:lnTo>
                <a:lnTo>
                  <a:pt x="700" y="2011"/>
                </a:lnTo>
                <a:lnTo>
                  <a:pt x="711" y="2023"/>
                </a:lnTo>
                <a:lnTo>
                  <a:pt x="721" y="2038"/>
                </a:lnTo>
                <a:lnTo>
                  <a:pt x="733" y="2051"/>
                </a:lnTo>
                <a:lnTo>
                  <a:pt x="746" y="2066"/>
                </a:lnTo>
                <a:lnTo>
                  <a:pt x="760" y="2079"/>
                </a:lnTo>
                <a:lnTo>
                  <a:pt x="773" y="2096"/>
                </a:lnTo>
                <a:lnTo>
                  <a:pt x="788" y="2110"/>
                </a:lnTo>
                <a:lnTo>
                  <a:pt x="803" y="2126"/>
                </a:lnTo>
                <a:lnTo>
                  <a:pt x="819" y="2140"/>
                </a:lnTo>
                <a:lnTo>
                  <a:pt x="834" y="2156"/>
                </a:lnTo>
                <a:lnTo>
                  <a:pt x="849" y="2171"/>
                </a:lnTo>
                <a:lnTo>
                  <a:pt x="864" y="2185"/>
                </a:lnTo>
                <a:lnTo>
                  <a:pt x="879" y="2198"/>
                </a:lnTo>
                <a:lnTo>
                  <a:pt x="892" y="2211"/>
                </a:lnTo>
                <a:lnTo>
                  <a:pt x="905" y="2222"/>
                </a:lnTo>
                <a:lnTo>
                  <a:pt x="917" y="2232"/>
                </a:lnTo>
                <a:lnTo>
                  <a:pt x="928" y="2239"/>
                </a:lnTo>
                <a:lnTo>
                  <a:pt x="938" y="2248"/>
                </a:lnTo>
                <a:lnTo>
                  <a:pt x="949" y="2256"/>
                </a:lnTo>
                <a:lnTo>
                  <a:pt x="960" y="2265"/>
                </a:lnTo>
                <a:lnTo>
                  <a:pt x="972" y="2273"/>
                </a:lnTo>
                <a:lnTo>
                  <a:pt x="982" y="2282"/>
                </a:lnTo>
                <a:lnTo>
                  <a:pt x="994" y="2290"/>
                </a:lnTo>
                <a:lnTo>
                  <a:pt x="1004" y="2298"/>
                </a:lnTo>
                <a:lnTo>
                  <a:pt x="1015" y="2305"/>
                </a:lnTo>
                <a:lnTo>
                  <a:pt x="1025" y="2313"/>
                </a:lnTo>
                <a:lnTo>
                  <a:pt x="1035" y="2320"/>
                </a:lnTo>
                <a:lnTo>
                  <a:pt x="1043" y="2326"/>
                </a:lnTo>
                <a:lnTo>
                  <a:pt x="1052" y="2332"/>
                </a:lnTo>
                <a:lnTo>
                  <a:pt x="1058" y="2338"/>
                </a:lnTo>
                <a:lnTo>
                  <a:pt x="1065" y="2343"/>
                </a:lnTo>
                <a:lnTo>
                  <a:pt x="1071" y="2346"/>
                </a:lnTo>
                <a:lnTo>
                  <a:pt x="1076" y="2348"/>
                </a:lnTo>
                <a:lnTo>
                  <a:pt x="1079" y="2352"/>
                </a:lnTo>
                <a:lnTo>
                  <a:pt x="1084" y="2354"/>
                </a:lnTo>
                <a:lnTo>
                  <a:pt x="1090" y="2358"/>
                </a:lnTo>
                <a:lnTo>
                  <a:pt x="1096" y="2361"/>
                </a:lnTo>
                <a:lnTo>
                  <a:pt x="1103" y="2364"/>
                </a:lnTo>
                <a:lnTo>
                  <a:pt x="1111" y="2368"/>
                </a:lnTo>
                <a:lnTo>
                  <a:pt x="1119" y="2372"/>
                </a:lnTo>
                <a:lnTo>
                  <a:pt x="1128" y="2376"/>
                </a:lnTo>
                <a:lnTo>
                  <a:pt x="1136" y="2381"/>
                </a:lnTo>
                <a:lnTo>
                  <a:pt x="1145" y="2384"/>
                </a:lnTo>
                <a:lnTo>
                  <a:pt x="1154" y="2388"/>
                </a:lnTo>
                <a:lnTo>
                  <a:pt x="1164" y="2392"/>
                </a:lnTo>
                <a:lnTo>
                  <a:pt x="1172" y="2396"/>
                </a:lnTo>
                <a:lnTo>
                  <a:pt x="1181" y="2400"/>
                </a:lnTo>
                <a:lnTo>
                  <a:pt x="1189" y="2403"/>
                </a:lnTo>
                <a:lnTo>
                  <a:pt x="1199" y="2405"/>
                </a:lnTo>
                <a:lnTo>
                  <a:pt x="1206" y="2410"/>
                </a:lnTo>
                <a:lnTo>
                  <a:pt x="1216" y="2413"/>
                </a:lnTo>
                <a:lnTo>
                  <a:pt x="1227" y="2417"/>
                </a:lnTo>
                <a:lnTo>
                  <a:pt x="1240" y="2421"/>
                </a:lnTo>
                <a:lnTo>
                  <a:pt x="1252" y="2426"/>
                </a:lnTo>
                <a:lnTo>
                  <a:pt x="1266" y="2430"/>
                </a:lnTo>
                <a:lnTo>
                  <a:pt x="1281" y="2434"/>
                </a:lnTo>
                <a:lnTo>
                  <a:pt x="1296" y="2438"/>
                </a:lnTo>
                <a:lnTo>
                  <a:pt x="1311" y="2444"/>
                </a:lnTo>
                <a:lnTo>
                  <a:pt x="1326" y="2448"/>
                </a:lnTo>
                <a:lnTo>
                  <a:pt x="1341" y="2452"/>
                </a:lnTo>
                <a:lnTo>
                  <a:pt x="1356" y="2456"/>
                </a:lnTo>
                <a:lnTo>
                  <a:pt x="1370" y="2460"/>
                </a:lnTo>
                <a:lnTo>
                  <a:pt x="1385" y="2464"/>
                </a:lnTo>
                <a:lnTo>
                  <a:pt x="1398" y="2468"/>
                </a:lnTo>
                <a:lnTo>
                  <a:pt x="1411" y="2470"/>
                </a:lnTo>
                <a:lnTo>
                  <a:pt x="1423" y="2474"/>
                </a:lnTo>
                <a:lnTo>
                  <a:pt x="1436" y="2478"/>
                </a:lnTo>
                <a:lnTo>
                  <a:pt x="1451" y="2481"/>
                </a:lnTo>
                <a:lnTo>
                  <a:pt x="1466" y="2483"/>
                </a:lnTo>
                <a:lnTo>
                  <a:pt x="1482" y="2487"/>
                </a:lnTo>
                <a:lnTo>
                  <a:pt x="1499" y="2490"/>
                </a:lnTo>
                <a:lnTo>
                  <a:pt x="1516" y="2494"/>
                </a:lnTo>
                <a:lnTo>
                  <a:pt x="1532" y="2496"/>
                </a:lnTo>
                <a:lnTo>
                  <a:pt x="1548" y="2500"/>
                </a:lnTo>
                <a:lnTo>
                  <a:pt x="1565" y="2502"/>
                </a:lnTo>
                <a:lnTo>
                  <a:pt x="1581" y="2506"/>
                </a:lnTo>
                <a:lnTo>
                  <a:pt x="1597" y="2508"/>
                </a:lnTo>
                <a:lnTo>
                  <a:pt x="1610" y="2510"/>
                </a:lnTo>
                <a:lnTo>
                  <a:pt x="1625" y="2512"/>
                </a:lnTo>
                <a:lnTo>
                  <a:pt x="1637" y="2514"/>
                </a:lnTo>
                <a:lnTo>
                  <a:pt x="1649" y="2516"/>
                </a:lnTo>
                <a:lnTo>
                  <a:pt x="1659" y="2517"/>
                </a:lnTo>
                <a:lnTo>
                  <a:pt x="1672" y="2519"/>
                </a:lnTo>
                <a:lnTo>
                  <a:pt x="1685" y="2521"/>
                </a:lnTo>
                <a:lnTo>
                  <a:pt x="1700" y="2521"/>
                </a:lnTo>
                <a:lnTo>
                  <a:pt x="1715" y="2523"/>
                </a:lnTo>
                <a:lnTo>
                  <a:pt x="1731" y="2524"/>
                </a:lnTo>
                <a:lnTo>
                  <a:pt x="1748" y="2526"/>
                </a:lnTo>
                <a:lnTo>
                  <a:pt x="1765" y="2526"/>
                </a:lnTo>
                <a:lnTo>
                  <a:pt x="1782" y="2528"/>
                </a:lnTo>
                <a:lnTo>
                  <a:pt x="1798" y="2529"/>
                </a:lnTo>
                <a:lnTo>
                  <a:pt x="1815" y="2531"/>
                </a:lnTo>
                <a:lnTo>
                  <a:pt x="1832" y="2531"/>
                </a:lnTo>
                <a:lnTo>
                  <a:pt x="1847" y="2533"/>
                </a:lnTo>
                <a:lnTo>
                  <a:pt x="1863" y="2533"/>
                </a:lnTo>
                <a:lnTo>
                  <a:pt x="1878" y="2534"/>
                </a:lnTo>
                <a:lnTo>
                  <a:pt x="1892" y="2534"/>
                </a:lnTo>
                <a:lnTo>
                  <a:pt x="1904" y="2536"/>
                </a:lnTo>
                <a:lnTo>
                  <a:pt x="1919" y="2536"/>
                </a:lnTo>
                <a:lnTo>
                  <a:pt x="1934" y="2536"/>
                </a:lnTo>
                <a:lnTo>
                  <a:pt x="1951" y="2536"/>
                </a:lnTo>
                <a:lnTo>
                  <a:pt x="1967" y="2537"/>
                </a:lnTo>
                <a:lnTo>
                  <a:pt x="1984" y="2537"/>
                </a:lnTo>
                <a:lnTo>
                  <a:pt x="2000" y="2537"/>
                </a:lnTo>
                <a:lnTo>
                  <a:pt x="2019" y="2537"/>
                </a:lnTo>
                <a:lnTo>
                  <a:pt x="2035" y="2539"/>
                </a:lnTo>
                <a:lnTo>
                  <a:pt x="2052" y="2539"/>
                </a:lnTo>
                <a:lnTo>
                  <a:pt x="2067" y="2539"/>
                </a:lnTo>
                <a:lnTo>
                  <a:pt x="2084" y="2539"/>
                </a:lnTo>
                <a:lnTo>
                  <a:pt x="2097" y="2539"/>
                </a:lnTo>
                <a:lnTo>
                  <a:pt x="2112" y="2539"/>
                </a:lnTo>
                <a:lnTo>
                  <a:pt x="2124" y="2539"/>
                </a:lnTo>
                <a:lnTo>
                  <a:pt x="2136" y="2539"/>
                </a:lnTo>
                <a:lnTo>
                  <a:pt x="2144" y="2539"/>
                </a:lnTo>
                <a:lnTo>
                  <a:pt x="2151" y="2539"/>
                </a:lnTo>
                <a:lnTo>
                  <a:pt x="2155" y="2539"/>
                </a:lnTo>
                <a:lnTo>
                  <a:pt x="2160" y="2539"/>
                </a:lnTo>
                <a:lnTo>
                  <a:pt x="2162" y="2539"/>
                </a:lnTo>
                <a:lnTo>
                  <a:pt x="2164" y="2539"/>
                </a:lnTo>
                <a:lnTo>
                  <a:pt x="2166" y="2539"/>
                </a:lnTo>
                <a:lnTo>
                  <a:pt x="2170" y="2539"/>
                </a:lnTo>
                <a:lnTo>
                  <a:pt x="2172" y="2539"/>
                </a:lnTo>
                <a:lnTo>
                  <a:pt x="2176" y="2539"/>
                </a:lnTo>
                <a:lnTo>
                  <a:pt x="2181" y="2539"/>
                </a:lnTo>
                <a:lnTo>
                  <a:pt x="2189" y="2539"/>
                </a:lnTo>
                <a:lnTo>
                  <a:pt x="2198" y="2539"/>
                </a:lnTo>
                <a:lnTo>
                  <a:pt x="2211" y="2539"/>
                </a:lnTo>
                <a:lnTo>
                  <a:pt x="2226" y="2539"/>
                </a:lnTo>
                <a:lnTo>
                  <a:pt x="2245" y="2539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79800" y="2670120"/>
            <a:ext cx="3887640" cy="4421160"/>
          </a:xfrm>
          <a:custGeom>
            <a:avLst/>
            <a:gdLst/>
            <a:ahLst/>
            <a:rect l="l" t="t" r="r" b="b"/>
            <a:pathLst>
              <a:path w="2449" h="2785">
                <a:moveTo>
                  <a:pt x="0" y="0"/>
                </a:moveTo>
                <a:lnTo>
                  <a:pt x="1" y="23"/>
                </a:lnTo>
                <a:lnTo>
                  <a:pt x="3" y="42"/>
                </a:lnTo>
                <a:lnTo>
                  <a:pt x="5" y="58"/>
                </a:lnTo>
                <a:lnTo>
                  <a:pt x="7" y="69"/>
                </a:lnTo>
                <a:lnTo>
                  <a:pt x="7" y="78"/>
                </a:lnTo>
                <a:lnTo>
                  <a:pt x="7" y="84"/>
                </a:lnTo>
                <a:lnTo>
                  <a:pt x="7" y="89"/>
                </a:lnTo>
                <a:lnTo>
                  <a:pt x="9" y="92"/>
                </a:lnTo>
                <a:lnTo>
                  <a:pt x="9" y="96"/>
                </a:lnTo>
                <a:lnTo>
                  <a:pt x="9" y="98"/>
                </a:lnTo>
                <a:lnTo>
                  <a:pt x="9" y="101"/>
                </a:lnTo>
                <a:lnTo>
                  <a:pt x="10" y="104"/>
                </a:lnTo>
                <a:lnTo>
                  <a:pt x="10" y="109"/>
                </a:lnTo>
                <a:lnTo>
                  <a:pt x="11" y="115"/>
                </a:lnTo>
                <a:lnTo>
                  <a:pt x="12" y="123"/>
                </a:lnTo>
                <a:lnTo>
                  <a:pt x="14" y="134"/>
                </a:lnTo>
                <a:lnTo>
                  <a:pt x="15" y="149"/>
                </a:lnTo>
                <a:lnTo>
                  <a:pt x="17" y="167"/>
                </a:lnTo>
                <a:lnTo>
                  <a:pt x="20" y="189"/>
                </a:lnTo>
                <a:lnTo>
                  <a:pt x="25" y="213"/>
                </a:lnTo>
                <a:lnTo>
                  <a:pt x="29" y="241"/>
                </a:lnTo>
                <a:lnTo>
                  <a:pt x="35" y="270"/>
                </a:lnTo>
                <a:lnTo>
                  <a:pt x="40" y="302"/>
                </a:lnTo>
                <a:lnTo>
                  <a:pt x="47" y="334"/>
                </a:lnTo>
                <a:lnTo>
                  <a:pt x="53" y="370"/>
                </a:lnTo>
                <a:lnTo>
                  <a:pt x="60" y="404"/>
                </a:lnTo>
                <a:lnTo>
                  <a:pt x="68" y="441"/>
                </a:lnTo>
                <a:lnTo>
                  <a:pt x="75" y="477"/>
                </a:lnTo>
                <a:lnTo>
                  <a:pt x="83" y="514"/>
                </a:lnTo>
                <a:lnTo>
                  <a:pt x="90" y="549"/>
                </a:lnTo>
                <a:lnTo>
                  <a:pt x="97" y="584"/>
                </a:lnTo>
                <a:lnTo>
                  <a:pt x="105" y="617"/>
                </a:lnTo>
                <a:lnTo>
                  <a:pt x="112" y="651"/>
                </a:lnTo>
                <a:lnTo>
                  <a:pt x="120" y="687"/>
                </a:lnTo>
                <a:lnTo>
                  <a:pt x="129" y="724"/>
                </a:lnTo>
                <a:lnTo>
                  <a:pt x="139" y="760"/>
                </a:lnTo>
                <a:lnTo>
                  <a:pt x="148" y="800"/>
                </a:lnTo>
                <a:lnTo>
                  <a:pt x="159" y="837"/>
                </a:lnTo>
                <a:lnTo>
                  <a:pt x="168" y="875"/>
                </a:lnTo>
                <a:lnTo>
                  <a:pt x="179" y="912"/>
                </a:lnTo>
                <a:lnTo>
                  <a:pt x="189" y="949"/>
                </a:lnTo>
                <a:lnTo>
                  <a:pt x="199" y="984"/>
                </a:lnTo>
                <a:lnTo>
                  <a:pt x="209" y="1017"/>
                </a:lnTo>
                <a:lnTo>
                  <a:pt x="219" y="1048"/>
                </a:lnTo>
                <a:lnTo>
                  <a:pt x="227" y="1077"/>
                </a:lnTo>
                <a:lnTo>
                  <a:pt x="237" y="1102"/>
                </a:lnTo>
                <a:lnTo>
                  <a:pt x="244" y="1124"/>
                </a:lnTo>
                <a:lnTo>
                  <a:pt x="252" y="1141"/>
                </a:lnTo>
                <a:lnTo>
                  <a:pt x="259" y="1160"/>
                </a:lnTo>
                <a:lnTo>
                  <a:pt x="267" y="1180"/>
                </a:lnTo>
                <a:lnTo>
                  <a:pt x="275" y="1202"/>
                </a:lnTo>
                <a:lnTo>
                  <a:pt x="285" y="1225"/>
                </a:lnTo>
                <a:lnTo>
                  <a:pt x="295" y="1251"/>
                </a:lnTo>
                <a:lnTo>
                  <a:pt x="307" y="1278"/>
                </a:lnTo>
                <a:lnTo>
                  <a:pt x="318" y="1306"/>
                </a:lnTo>
                <a:lnTo>
                  <a:pt x="330" y="1333"/>
                </a:lnTo>
                <a:lnTo>
                  <a:pt x="341" y="1363"/>
                </a:lnTo>
                <a:lnTo>
                  <a:pt x="353" y="1391"/>
                </a:lnTo>
                <a:lnTo>
                  <a:pt x="365" y="1419"/>
                </a:lnTo>
                <a:lnTo>
                  <a:pt x="378" y="1447"/>
                </a:lnTo>
                <a:lnTo>
                  <a:pt x="389" y="1474"/>
                </a:lnTo>
                <a:lnTo>
                  <a:pt x="400" y="1499"/>
                </a:lnTo>
                <a:lnTo>
                  <a:pt x="410" y="1523"/>
                </a:lnTo>
                <a:lnTo>
                  <a:pt x="421" y="1545"/>
                </a:lnTo>
                <a:lnTo>
                  <a:pt x="429" y="1568"/>
                </a:lnTo>
                <a:lnTo>
                  <a:pt x="439" y="1592"/>
                </a:lnTo>
                <a:lnTo>
                  <a:pt x="451" y="1618"/>
                </a:lnTo>
                <a:lnTo>
                  <a:pt x="462" y="1642"/>
                </a:lnTo>
                <a:lnTo>
                  <a:pt x="473" y="1670"/>
                </a:lnTo>
                <a:lnTo>
                  <a:pt x="485" y="1696"/>
                </a:lnTo>
                <a:lnTo>
                  <a:pt x="496" y="1724"/>
                </a:lnTo>
                <a:lnTo>
                  <a:pt x="509" y="1750"/>
                </a:lnTo>
                <a:lnTo>
                  <a:pt x="521" y="1777"/>
                </a:lnTo>
                <a:lnTo>
                  <a:pt x="532" y="1802"/>
                </a:lnTo>
                <a:lnTo>
                  <a:pt x="543" y="1827"/>
                </a:lnTo>
                <a:lnTo>
                  <a:pt x="554" y="1850"/>
                </a:lnTo>
                <a:lnTo>
                  <a:pt x="563" y="1872"/>
                </a:lnTo>
                <a:lnTo>
                  <a:pt x="573" y="1891"/>
                </a:lnTo>
                <a:lnTo>
                  <a:pt x="580" y="1909"/>
                </a:lnTo>
                <a:lnTo>
                  <a:pt x="589" y="1923"/>
                </a:lnTo>
                <a:lnTo>
                  <a:pt x="595" y="1939"/>
                </a:lnTo>
                <a:lnTo>
                  <a:pt x="603" y="1954"/>
                </a:lnTo>
                <a:lnTo>
                  <a:pt x="612" y="1973"/>
                </a:lnTo>
                <a:lnTo>
                  <a:pt x="623" y="1990"/>
                </a:lnTo>
                <a:lnTo>
                  <a:pt x="634" y="2010"/>
                </a:lnTo>
                <a:lnTo>
                  <a:pt x="646" y="2030"/>
                </a:lnTo>
                <a:lnTo>
                  <a:pt x="659" y="2050"/>
                </a:lnTo>
                <a:lnTo>
                  <a:pt x="673" y="2070"/>
                </a:lnTo>
                <a:lnTo>
                  <a:pt x="686" y="2091"/>
                </a:lnTo>
                <a:lnTo>
                  <a:pt x="699" y="2111"/>
                </a:lnTo>
                <a:lnTo>
                  <a:pt x="712" y="2132"/>
                </a:lnTo>
                <a:lnTo>
                  <a:pt x="727" y="2150"/>
                </a:lnTo>
                <a:lnTo>
                  <a:pt x="740" y="2169"/>
                </a:lnTo>
                <a:lnTo>
                  <a:pt x="753" y="2187"/>
                </a:lnTo>
                <a:lnTo>
                  <a:pt x="765" y="2203"/>
                </a:lnTo>
                <a:lnTo>
                  <a:pt x="777" y="2217"/>
                </a:lnTo>
                <a:lnTo>
                  <a:pt x="788" y="2232"/>
                </a:lnTo>
                <a:lnTo>
                  <a:pt x="801" y="2247"/>
                </a:lnTo>
                <a:lnTo>
                  <a:pt x="815" y="2264"/>
                </a:lnTo>
                <a:lnTo>
                  <a:pt x="830" y="2279"/>
                </a:lnTo>
                <a:lnTo>
                  <a:pt x="845" y="2296"/>
                </a:lnTo>
                <a:lnTo>
                  <a:pt x="862" y="2313"/>
                </a:lnTo>
                <a:lnTo>
                  <a:pt x="879" y="2330"/>
                </a:lnTo>
                <a:lnTo>
                  <a:pt x="896" y="2346"/>
                </a:lnTo>
                <a:lnTo>
                  <a:pt x="912" y="2363"/>
                </a:lnTo>
                <a:lnTo>
                  <a:pt x="929" y="2380"/>
                </a:lnTo>
                <a:lnTo>
                  <a:pt x="944" y="2394"/>
                </a:lnTo>
                <a:lnTo>
                  <a:pt x="961" y="2409"/>
                </a:lnTo>
                <a:lnTo>
                  <a:pt x="975" y="2422"/>
                </a:lnTo>
                <a:lnTo>
                  <a:pt x="990" y="2435"/>
                </a:lnTo>
                <a:lnTo>
                  <a:pt x="1003" y="2447"/>
                </a:lnTo>
                <a:lnTo>
                  <a:pt x="1015" y="2456"/>
                </a:lnTo>
                <a:lnTo>
                  <a:pt x="1026" y="2465"/>
                </a:lnTo>
                <a:lnTo>
                  <a:pt x="1037" y="2474"/>
                </a:lnTo>
                <a:lnTo>
                  <a:pt x="1049" y="2483"/>
                </a:lnTo>
                <a:lnTo>
                  <a:pt x="1062" y="2492"/>
                </a:lnTo>
                <a:lnTo>
                  <a:pt x="1073" y="2501"/>
                </a:lnTo>
                <a:lnTo>
                  <a:pt x="1085" y="2510"/>
                </a:lnTo>
                <a:lnTo>
                  <a:pt x="1097" y="2519"/>
                </a:lnTo>
                <a:lnTo>
                  <a:pt x="1109" y="2527"/>
                </a:lnTo>
                <a:lnTo>
                  <a:pt x="1119" y="2536"/>
                </a:lnTo>
                <a:lnTo>
                  <a:pt x="1130" y="2544"/>
                </a:lnTo>
                <a:lnTo>
                  <a:pt x="1140" y="2551"/>
                </a:lnTo>
                <a:lnTo>
                  <a:pt x="1149" y="2557"/>
                </a:lnTo>
                <a:lnTo>
                  <a:pt x="1157" y="2564"/>
                </a:lnTo>
                <a:lnTo>
                  <a:pt x="1164" y="2568"/>
                </a:lnTo>
                <a:lnTo>
                  <a:pt x="1170" y="2572"/>
                </a:lnTo>
                <a:lnTo>
                  <a:pt x="1176" y="2575"/>
                </a:lnTo>
                <a:lnTo>
                  <a:pt x="1179" y="2578"/>
                </a:lnTo>
                <a:lnTo>
                  <a:pt x="1185" y="2581"/>
                </a:lnTo>
                <a:lnTo>
                  <a:pt x="1191" y="2585"/>
                </a:lnTo>
                <a:lnTo>
                  <a:pt x="1198" y="2588"/>
                </a:lnTo>
                <a:lnTo>
                  <a:pt x="1206" y="2593"/>
                </a:lnTo>
                <a:lnTo>
                  <a:pt x="1214" y="2597"/>
                </a:lnTo>
                <a:lnTo>
                  <a:pt x="1223" y="2600"/>
                </a:lnTo>
                <a:lnTo>
                  <a:pt x="1233" y="2604"/>
                </a:lnTo>
                <a:lnTo>
                  <a:pt x="1242" y="2610"/>
                </a:lnTo>
                <a:lnTo>
                  <a:pt x="1251" y="2614"/>
                </a:lnTo>
                <a:lnTo>
                  <a:pt x="1261" y="2618"/>
                </a:lnTo>
                <a:lnTo>
                  <a:pt x="1271" y="2622"/>
                </a:lnTo>
                <a:lnTo>
                  <a:pt x="1281" y="2627"/>
                </a:lnTo>
                <a:lnTo>
                  <a:pt x="1290" y="2631"/>
                </a:lnTo>
                <a:lnTo>
                  <a:pt x="1299" y="2635"/>
                </a:lnTo>
                <a:lnTo>
                  <a:pt x="1309" y="2638"/>
                </a:lnTo>
                <a:lnTo>
                  <a:pt x="1318" y="2642"/>
                </a:lnTo>
                <a:lnTo>
                  <a:pt x="1329" y="2646"/>
                </a:lnTo>
                <a:lnTo>
                  <a:pt x="1341" y="2650"/>
                </a:lnTo>
                <a:lnTo>
                  <a:pt x="1354" y="2654"/>
                </a:lnTo>
                <a:lnTo>
                  <a:pt x="1367" y="2660"/>
                </a:lnTo>
                <a:lnTo>
                  <a:pt x="1382" y="2664"/>
                </a:lnTo>
                <a:lnTo>
                  <a:pt x="1398" y="2668"/>
                </a:lnTo>
                <a:lnTo>
                  <a:pt x="1415" y="2672"/>
                </a:lnTo>
                <a:lnTo>
                  <a:pt x="1430" y="2678"/>
                </a:lnTo>
                <a:lnTo>
                  <a:pt x="1447" y="2683"/>
                </a:lnTo>
                <a:lnTo>
                  <a:pt x="1463" y="2688"/>
                </a:lnTo>
                <a:lnTo>
                  <a:pt x="1480" y="2692"/>
                </a:lnTo>
                <a:lnTo>
                  <a:pt x="1495" y="2696"/>
                </a:lnTo>
                <a:lnTo>
                  <a:pt x="1510" y="2700"/>
                </a:lnTo>
                <a:lnTo>
                  <a:pt x="1525" y="2704"/>
                </a:lnTo>
                <a:lnTo>
                  <a:pt x="1539" y="2707"/>
                </a:lnTo>
                <a:lnTo>
                  <a:pt x="1551" y="2711"/>
                </a:lnTo>
                <a:lnTo>
                  <a:pt x="1567" y="2715"/>
                </a:lnTo>
                <a:lnTo>
                  <a:pt x="1583" y="2718"/>
                </a:lnTo>
                <a:lnTo>
                  <a:pt x="1599" y="2722"/>
                </a:lnTo>
                <a:lnTo>
                  <a:pt x="1616" y="2726"/>
                </a:lnTo>
                <a:lnTo>
                  <a:pt x="1635" y="2730"/>
                </a:lnTo>
                <a:lnTo>
                  <a:pt x="1653" y="2733"/>
                </a:lnTo>
                <a:lnTo>
                  <a:pt x="1672" y="2736"/>
                </a:lnTo>
                <a:lnTo>
                  <a:pt x="1689" y="2740"/>
                </a:lnTo>
                <a:lnTo>
                  <a:pt x="1707" y="2743"/>
                </a:lnTo>
                <a:lnTo>
                  <a:pt x="1724" y="2747"/>
                </a:lnTo>
                <a:lnTo>
                  <a:pt x="1743" y="2749"/>
                </a:lnTo>
                <a:lnTo>
                  <a:pt x="1757" y="2752"/>
                </a:lnTo>
                <a:lnTo>
                  <a:pt x="1773" y="2753"/>
                </a:lnTo>
                <a:lnTo>
                  <a:pt x="1787" y="2755"/>
                </a:lnTo>
                <a:lnTo>
                  <a:pt x="1799" y="2756"/>
                </a:lnTo>
                <a:lnTo>
                  <a:pt x="1811" y="2758"/>
                </a:lnTo>
                <a:lnTo>
                  <a:pt x="1824" y="2760"/>
                </a:lnTo>
                <a:lnTo>
                  <a:pt x="1839" y="2762"/>
                </a:lnTo>
                <a:lnTo>
                  <a:pt x="1855" y="2762"/>
                </a:lnTo>
                <a:lnTo>
                  <a:pt x="1872" y="2764"/>
                </a:lnTo>
                <a:lnTo>
                  <a:pt x="1890" y="2766"/>
                </a:lnTo>
                <a:lnTo>
                  <a:pt x="1909" y="2768"/>
                </a:lnTo>
                <a:lnTo>
                  <a:pt x="1927" y="2768"/>
                </a:lnTo>
                <a:lnTo>
                  <a:pt x="1945" y="2770"/>
                </a:lnTo>
                <a:lnTo>
                  <a:pt x="1964" y="2771"/>
                </a:lnTo>
                <a:lnTo>
                  <a:pt x="1982" y="2773"/>
                </a:lnTo>
                <a:lnTo>
                  <a:pt x="2001" y="2773"/>
                </a:lnTo>
                <a:lnTo>
                  <a:pt x="2018" y="2775"/>
                </a:lnTo>
                <a:lnTo>
                  <a:pt x="2035" y="2776"/>
                </a:lnTo>
                <a:lnTo>
                  <a:pt x="2050" y="2777"/>
                </a:lnTo>
                <a:lnTo>
                  <a:pt x="2066" y="2777"/>
                </a:lnTo>
                <a:lnTo>
                  <a:pt x="2079" y="2779"/>
                </a:lnTo>
                <a:lnTo>
                  <a:pt x="2095" y="2779"/>
                </a:lnTo>
                <a:lnTo>
                  <a:pt x="2111" y="2780"/>
                </a:lnTo>
                <a:lnTo>
                  <a:pt x="2129" y="2780"/>
                </a:lnTo>
                <a:lnTo>
                  <a:pt x="2147" y="2782"/>
                </a:lnTo>
                <a:lnTo>
                  <a:pt x="2165" y="2782"/>
                </a:lnTo>
                <a:lnTo>
                  <a:pt x="2184" y="2782"/>
                </a:lnTo>
                <a:lnTo>
                  <a:pt x="2203" y="2782"/>
                </a:lnTo>
                <a:lnTo>
                  <a:pt x="2220" y="2784"/>
                </a:lnTo>
                <a:lnTo>
                  <a:pt x="2239" y="2784"/>
                </a:lnTo>
                <a:lnTo>
                  <a:pt x="2255" y="2784"/>
                </a:lnTo>
                <a:lnTo>
                  <a:pt x="2273" y="2784"/>
                </a:lnTo>
                <a:lnTo>
                  <a:pt x="2289" y="2784"/>
                </a:lnTo>
                <a:lnTo>
                  <a:pt x="2303" y="2784"/>
                </a:lnTo>
                <a:lnTo>
                  <a:pt x="2317" y="2784"/>
                </a:lnTo>
                <a:lnTo>
                  <a:pt x="2330" y="2784"/>
                </a:lnTo>
                <a:lnTo>
                  <a:pt x="2338" y="2784"/>
                </a:lnTo>
                <a:lnTo>
                  <a:pt x="2346" y="2784"/>
                </a:lnTo>
                <a:lnTo>
                  <a:pt x="2351" y="2784"/>
                </a:lnTo>
                <a:lnTo>
                  <a:pt x="2356" y="2784"/>
                </a:lnTo>
                <a:lnTo>
                  <a:pt x="2358" y="2784"/>
                </a:lnTo>
                <a:lnTo>
                  <a:pt x="2361" y="2784"/>
                </a:lnTo>
                <a:lnTo>
                  <a:pt x="2363" y="2784"/>
                </a:lnTo>
                <a:lnTo>
                  <a:pt x="2367" y="2784"/>
                </a:lnTo>
                <a:lnTo>
                  <a:pt x="2369" y="2784"/>
                </a:lnTo>
                <a:lnTo>
                  <a:pt x="2373" y="2784"/>
                </a:lnTo>
                <a:lnTo>
                  <a:pt x="2379" y="2784"/>
                </a:lnTo>
                <a:lnTo>
                  <a:pt x="2388" y="2784"/>
                </a:lnTo>
                <a:lnTo>
                  <a:pt x="2397" y="2784"/>
                </a:lnTo>
                <a:lnTo>
                  <a:pt x="2411" y="2784"/>
                </a:lnTo>
                <a:lnTo>
                  <a:pt x="2427" y="2784"/>
                </a:lnTo>
                <a:lnTo>
                  <a:pt x="2448" y="2784"/>
                </a:lnTo>
              </a:path>
            </a:pathLst>
          </a:custGeom>
          <a:noFill/>
          <a:ln w="5724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98960" y="2163600"/>
            <a:ext cx="3114360" cy="3529080"/>
          </a:xfrm>
          <a:custGeom>
            <a:avLst/>
            <a:gdLst/>
            <a:ahLst/>
            <a:rect l="l" t="t" r="r" b="b"/>
            <a:pathLst>
              <a:path w="1962" h="2223">
                <a:moveTo>
                  <a:pt x="0" y="0"/>
                </a:moveTo>
                <a:lnTo>
                  <a:pt x="0" y="19"/>
                </a:lnTo>
                <a:lnTo>
                  <a:pt x="2" y="33"/>
                </a:lnTo>
                <a:lnTo>
                  <a:pt x="2" y="46"/>
                </a:lnTo>
                <a:lnTo>
                  <a:pt x="4" y="55"/>
                </a:lnTo>
                <a:lnTo>
                  <a:pt x="4" y="63"/>
                </a:lnTo>
                <a:lnTo>
                  <a:pt x="5" y="68"/>
                </a:lnTo>
                <a:lnTo>
                  <a:pt x="5" y="72"/>
                </a:lnTo>
                <a:lnTo>
                  <a:pt x="7" y="74"/>
                </a:lnTo>
                <a:lnTo>
                  <a:pt x="7" y="77"/>
                </a:lnTo>
                <a:lnTo>
                  <a:pt x="7" y="79"/>
                </a:lnTo>
                <a:lnTo>
                  <a:pt x="7" y="81"/>
                </a:lnTo>
                <a:lnTo>
                  <a:pt x="7" y="83"/>
                </a:lnTo>
                <a:lnTo>
                  <a:pt x="7" y="88"/>
                </a:lnTo>
                <a:lnTo>
                  <a:pt x="8" y="92"/>
                </a:lnTo>
                <a:lnTo>
                  <a:pt x="8" y="99"/>
                </a:lnTo>
                <a:lnTo>
                  <a:pt x="10" y="107"/>
                </a:lnTo>
                <a:lnTo>
                  <a:pt x="10" y="119"/>
                </a:lnTo>
                <a:lnTo>
                  <a:pt x="12" y="133"/>
                </a:lnTo>
                <a:lnTo>
                  <a:pt x="15" y="151"/>
                </a:lnTo>
                <a:lnTo>
                  <a:pt x="19" y="170"/>
                </a:lnTo>
                <a:lnTo>
                  <a:pt x="21" y="193"/>
                </a:lnTo>
                <a:lnTo>
                  <a:pt x="26" y="216"/>
                </a:lnTo>
                <a:lnTo>
                  <a:pt x="30" y="241"/>
                </a:lnTo>
                <a:lnTo>
                  <a:pt x="36" y="267"/>
                </a:lnTo>
                <a:lnTo>
                  <a:pt x="41" y="295"/>
                </a:lnTo>
                <a:lnTo>
                  <a:pt x="47" y="323"/>
                </a:lnTo>
                <a:lnTo>
                  <a:pt x="52" y="353"/>
                </a:lnTo>
                <a:lnTo>
                  <a:pt x="58" y="381"/>
                </a:lnTo>
                <a:lnTo>
                  <a:pt x="63" y="410"/>
                </a:lnTo>
                <a:lnTo>
                  <a:pt x="69" y="438"/>
                </a:lnTo>
                <a:lnTo>
                  <a:pt x="75" y="466"/>
                </a:lnTo>
                <a:lnTo>
                  <a:pt x="82" y="492"/>
                </a:lnTo>
                <a:lnTo>
                  <a:pt x="88" y="519"/>
                </a:lnTo>
                <a:lnTo>
                  <a:pt x="94" y="547"/>
                </a:lnTo>
                <a:lnTo>
                  <a:pt x="101" y="577"/>
                </a:lnTo>
                <a:lnTo>
                  <a:pt x="109" y="607"/>
                </a:lnTo>
                <a:lnTo>
                  <a:pt x="116" y="639"/>
                </a:lnTo>
                <a:lnTo>
                  <a:pt x="125" y="669"/>
                </a:lnTo>
                <a:lnTo>
                  <a:pt x="133" y="699"/>
                </a:lnTo>
                <a:lnTo>
                  <a:pt x="142" y="728"/>
                </a:lnTo>
                <a:lnTo>
                  <a:pt x="149" y="758"/>
                </a:lnTo>
                <a:lnTo>
                  <a:pt x="157" y="785"/>
                </a:lnTo>
                <a:lnTo>
                  <a:pt x="165" y="812"/>
                </a:lnTo>
                <a:lnTo>
                  <a:pt x="174" y="837"/>
                </a:lnTo>
                <a:lnTo>
                  <a:pt x="180" y="859"/>
                </a:lnTo>
                <a:lnTo>
                  <a:pt x="187" y="879"/>
                </a:lnTo>
                <a:lnTo>
                  <a:pt x="194" y="898"/>
                </a:lnTo>
                <a:lnTo>
                  <a:pt x="201" y="911"/>
                </a:lnTo>
                <a:lnTo>
                  <a:pt x="206" y="926"/>
                </a:lnTo>
                <a:lnTo>
                  <a:pt x="212" y="942"/>
                </a:lnTo>
                <a:lnTo>
                  <a:pt x="219" y="960"/>
                </a:lnTo>
                <a:lnTo>
                  <a:pt x="227" y="979"/>
                </a:lnTo>
                <a:lnTo>
                  <a:pt x="235" y="1000"/>
                </a:lnTo>
                <a:lnTo>
                  <a:pt x="244" y="1021"/>
                </a:lnTo>
                <a:lnTo>
                  <a:pt x="254" y="1043"/>
                </a:lnTo>
                <a:lnTo>
                  <a:pt x="263" y="1064"/>
                </a:lnTo>
                <a:lnTo>
                  <a:pt x="272" y="1089"/>
                </a:lnTo>
                <a:lnTo>
                  <a:pt x="282" y="1111"/>
                </a:lnTo>
                <a:lnTo>
                  <a:pt x="291" y="1133"/>
                </a:lnTo>
                <a:lnTo>
                  <a:pt x="301" y="1155"/>
                </a:lnTo>
                <a:lnTo>
                  <a:pt x="309" y="1178"/>
                </a:lnTo>
                <a:lnTo>
                  <a:pt x="319" y="1199"/>
                </a:lnTo>
                <a:lnTo>
                  <a:pt x="327" y="1218"/>
                </a:lnTo>
                <a:lnTo>
                  <a:pt x="335" y="1235"/>
                </a:lnTo>
                <a:lnTo>
                  <a:pt x="342" y="1254"/>
                </a:lnTo>
                <a:lnTo>
                  <a:pt x="350" y="1273"/>
                </a:lnTo>
                <a:lnTo>
                  <a:pt x="359" y="1293"/>
                </a:lnTo>
                <a:lnTo>
                  <a:pt x="368" y="1313"/>
                </a:lnTo>
                <a:lnTo>
                  <a:pt x="377" y="1336"/>
                </a:lnTo>
                <a:lnTo>
                  <a:pt x="387" y="1356"/>
                </a:lnTo>
                <a:lnTo>
                  <a:pt x="396" y="1378"/>
                </a:lnTo>
                <a:lnTo>
                  <a:pt x="406" y="1399"/>
                </a:lnTo>
                <a:lnTo>
                  <a:pt x="415" y="1420"/>
                </a:lnTo>
                <a:lnTo>
                  <a:pt x="424" y="1441"/>
                </a:lnTo>
                <a:lnTo>
                  <a:pt x="432" y="1460"/>
                </a:lnTo>
                <a:lnTo>
                  <a:pt x="441" y="1478"/>
                </a:lnTo>
                <a:lnTo>
                  <a:pt x="449" y="1495"/>
                </a:lnTo>
                <a:lnTo>
                  <a:pt x="457" y="1511"/>
                </a:lnTo>
                <a:lnTo>
                  <a:pt x="463" y="1525"/>
                </a:lnTo>
                <a:lnTo>
                  <a:pt x="470" y="1537"/>
                </a:lnTo>
                <a:lnTo>
                  <a:pt x="475" y="1549"/>
                </a:lnTo>
                <a:lnTo>
                  <a:pt x="481" y="1562"/>
                </a:lnTo>
                <a:lnTo>
                  <a:pt x="489" y="1577"/>
                </a:lnTo>
                <a:lnTo>
                  <a:pt x="498" y="1590"/>
                </a:lnTo>
                <a:lnTo>
                  <a:pt x="506" y="1607"/>
                </a:lnTo>
                <a:lnTo>
                  <a:pt x="516" y="1622"/>
                </a:lnTo>
                <a:lnTo>
                  <a:pt x="526" y="1639"/>
                </a:lnTo>
                <a:lnTo>
                  <a:pt x="537" y="1654"/>
                </a:lnTo>
                <a:lnTo>
                  <a:pt x="547" y="1671"/>
                </a:lnTo>
                <a:lnTo>
                  <a:pt x="558" y="1687"/>
                </a:lnTo>
                <a:lnTo>
                  <a:pt x="569" y="1703"/>
                </a:lnTo>
                <a:lnTo>
                  <a:pt x="581" y="1718"/>
                </a:lnTo>
                <a:lnTo>
                  <a:pt x="590" y="1733"/>
                </a:lnTo>
                <a:lnTo>
                  <a:pt x="601" y="1747"/>
                </a:lnTo>
                <a:lnTo>
                  <a:pt x="611" y="1760"/>
                </a:lnTo>
                <a:lnTo>
                  <a:pt x="621" y="1771"/>
                </a:lnTo>
                <a:lnTo>
                  <a:pt x="629" y="1783"/>
                </a:lnTo>
                <a:lnTo>
                  <a:pt x="639" y="1795"/>
                </a:lnTo>
                <a:lnTo>
                  <a:pt x="651" y="1808"/>
                </a:lnTo>
                <a:lnTo>
                  <a:pt x="663" y="1821"/>
                </a:lnTo>
                <a:lnTo>
                  <a:pt x="675" y="1834"/>
                </a:lnTo>
                <a:lnTo>
                  <a:pt x="688" y="1847"/>
                </a:lnTo>
                <a:lnTo>
                  <a:pt x="701" y="1861"/>
                </a:lnTo>
                <a:lnTo>
                  <a:pt x="715" y="1873"/>
                </a:lnTo>
                <a:lnTo>
                  <a:pt x="729" y="1887"/>
                </a:lnTo>
                <a:lnTo>
                  <a:pt x="742" y="1901"/>
                </a:lnTo>
                <a:lnTo>
                  <a:pt x="755" y="1913"/>
                </a:lnTo>
                <a:lnTo>
                  <a:pt x="768" y="1924"/>
                </a:lnTo>
                <a:lnTo>
                  <a:pt x="779" y="1935"/>
                </a:lnTo>
                <a:lnTo>
                  <a:pt x="791" y="1945"/>
                </a:lnTo>
                <a:lnTo>
                  <a:pt x="801" y="1954"/>
                </a:lnTo>
                <a:lnTo>
                  <a:pt x="811" y="1961"/>
                </a:lnTo>
                <a:lnTo>
                  <a:pt x="820" y="1969"/>
                </a:lnTo>
                <a:lnTo>
                  <a:pt x="830" y="1975"/>
                </a:lnTo>
                <a:lnTo>
                  <a:pt x="839" y="1983"/>
                </a:lnTo>
                <a:lnTo>
                  <a:pt x="848" y="1990"/>
                </a:lnTo>
                <a:lnTo>
                  <a:pt x="858" y="1997"/>
                </a:lnTo>
                <a:lnTo>
                  <a:pt x="867" y="2005"/>
                </a:lnTo>
                <a:lnTo>
                  <a:pt x="877" y="2012"/>
                </a:lnTo>
                <a:lnTo>
                  <a:pt x="887" y="2018"/>
                </a:lnTo>
                <a:lnTo>
                  <a:pt x="894" y="2025"/>
                </a:lnTo>
                <a:lnTo>
                  <a:pt x="903" y="2031"/>
                </a:lnTo>
                <a:lnTo>
                  <a:pt x="911" y="2037"/>
                </a:lnTo>
                <a:lnTo>
                  <a:pt x="918" y="2041"/>
                </a:lnTo>
                <a:lnTo>
                  <a:pt x="924" y="2047"/>
                </a:lnTo>
                <a:lnTo>
                  <a:pt x="930" y="2051"/>
                </a:lnTo>
                <a:lnTo>
                  <a:pt x="935" y="2054"/>
                </a:lnTo>
                <a:lnTo>
                  <a:pt x="939" y="2056"/>
                </a:lnTo>
                <a:lnTo>
                  <a:pt x="943" y="2059"/>
                </a:lnTo>
                <a:lnTo>
                  <a:pt x="946" y="2061"/>
                </a:lnTo>
                <a:lnTo>
                  <a:pt x="951" y="2065"/>
                </a:lnTo>
                <a:lnTo>
                  <a:pt x="957" y="2067"/>
                </a:lnTo>
                <a:lnTo>
                  <a:pt x="963" y="2071"/>
                </a:lnTo>
                <a:lnTo>
                  <a:pt x="969" y="2075"/>
                </a:lnTo>
                <a:lnTo>
                  <a:pt x="977" y="2078"/>
                </a:lnTo>
                <a:lnTo>
                  <a:pt x="984" y="2081"/>
                </a:lnTo>
                <a:lnTo>
                  <a:pt x="992" y="2085"/>
                </a:lnTo>
                <a:lnTo>
                  <a:pt x="999" y="2088"/>
                </a:lnTo>
                <a:lnTo>
                  <a:pt x="1007" y="2092"/>
                </a:lnTo>
                <a:lnTo>
                  <a:pt x="1015" y="2095"/>
                </a:lnTo>
                <a:lnTo>
                  <a:pt x="1023" y="2099"/>
                </a:lnTo>
                <a:lnTo>
                  <a:pt x="1030" y="2101"/>
                </a:lnTo>
                <a:lnTo>
                  <a:pt x="1037" y="2105"/>
                </a:lnTo>
                <a:lnTo>
                  <a:pt x="1045" y="2106"/>
                </a:lnTo>
                <a:lnTo>
                  <a:pt x="1052" y="2110"/>
                </a:lnTo>
                <a:lnTo>
                  <a:pt x="1061" y="2113"/>
                </a:lnTo>
                <a:lnTo>
                  <a:pt x="1070" y="2117"/>
                </a:lnTo>
                <a:lnTo>
                  <a:pt x="1081" y="2119"/>
                </a:lnTo>
                <a:lnTo>
                  <a:pt x="1092" y="2123"/>
                </a:lnTo>
                <a:lnTo>
                  <a:pt x="1104" y="2127"/>
                </a:lnTo>
                <a:lnTo>
                  <a:pt x="1117" y="2131"/>
                </a:lnTo>
                <a:lnTo>
                  <a:pt x="1130" y="2135"/>
                </a:lnTo>
                <a:lnTo>
                  <a:pt x="1143" y="2139"/>
                </a:lnTo>
                <a:lnTo>
                  <a:pt x="1157" y="2143"/>
                </a:lnTo>
                <a:lnTo>
                  <a:pt x="1170" y="2146"/>
                </a:lnTo>
                <a:lnTo>
                  <a:pt x="1183" y="2150"/>
                </a:lnTo>
                <a:lnTo>
                  <a:pt x="1195" y="2154"/>
                </a:lnTo>
                <a:lnTo>
                  <a:pt x="1208" y="2157"/>
                </a:lnTo>
                <a:lnTo>
                  <a:pt x="1219" y="2161"/>
                </a:lnTo>
                <a:lnTo>
                  <a:pt x="1231" y="2163"/>
                </a:lnTo>
                <a:lnTo>
                  <a:pt x="1241" y="2166"/>
                </a:lnTo>
                <a:lnTo>
                  <a:pt x="1253" y="2168"/>
                </a:lnTo>
                <a:lnTo>
                  <a:pt x="1266" y="2171"/>
                </a:lnTo>
                <a:lnTo>
                  <a:pt x="1279" y="2173"/>
                </a:lnTo>
                <a:lnTo>
                  <a:pt x="1293" y="2177"/>
                </a:lnTo>
                <a:lnTo>
                  <a:pt x="1308" y="2179"/>
                </a:lnTo>
                <a:lnTo>
                  <a:pt x="1323" y="2183"/>
                </a:lnTo>
                <a:lnTo>
                  <a:pt x="1337" y="2184"/>
                </a:lnTo>
                <a:lnTo>
                  <a:pt x="1351" y="2188"/>
                </a:lnTo>
                <a:lnTo>
                  <a:pt x="1366" y="2190"/>
                </a:lnTo>
                <a:lnTo>
                  <a:pt x="1379" y="2193"/>
                </a:lnTo>
                <a:lnTo>
                  <a:pt x="1394" y="2195"/>
                </a:lnTo>
                <a:lnTo>
                  <a:pt x="1405" y="2197"/>
                </a:lnTo>
                <a:lnTo>
                  <a:pt x="1418" y="2199"/>
                </a:lnTo>
                <a:lnTo>
                  <a:pt x="1429" y="2201"/>
                </a:lnTo>
                <a:lnTo>
                  <a:pt x="1439" y="2201"/>
                </a:lnTo>
                <a:lnTo>
                  <a:pt x="1448" y="2203"/>
                </a:lnTo>
                <a:lnTo>
                  <a:pt x="1459" y="2204"/>
                </a:lnTo>
                <a:lnTo>
                  <a:pt x="1471" y="2205"/>
                </a:lnTo>
                <a:lnTo>
                  <a:pt x="1483" y="2205"/>
                </a:lnTo>
                <a:lnTo>
                  <a:pt x="1497" y="2207"/>
                </a:lnTo>
                <a:lnTo>
                  <a:pt x="1511" y="2208"/>
                </a:lnTo>
                <a:lnTo>
                  <a:pt x="1525" y="2210"/>
                </a:lnTo>
                <a:lnTo>
                  <a:pt x="1540" y="2210"/>
                </a:lnTo>
                <a:lnTo>
                  <a:pt x="1555" y="2212"/>
                </a:lnTo>
                <a:lnTo>
                  <a:pt x="1570" y="2213"/>
                </a:lnTo>
                <a:lnTo>
                  <a:pt x="1584" y="2214"/>
                </a:lnTo>
                <a:lnTo>
                  <a:pt x="1599" y="2214"/>
                </a:lnTo>
                <a:lnTo>
                  <a:pt x="1612" y="2216"/>
                </a:lnTo>
                <a:lnTo>
                  <a:pt x="1627" y="2216"/>
                </a:lnTo>
                <a:lnTo>
                  <a:pt x="1638" y="2217"/>
                </a:lnTo>
                <a:lnTo>
                  <a:pt x="1651" y="2217"/>
                </a:lnTo>
                <a:lnTo>
                  <a:pt x="1661" y="2219"/>
                </a:lnTo>
                <a:lnTo>
                  <a:pt x="1674" y="2219"/>
                </a:lnTo>
                <a:lnTo>
                  <a:pt x="1687" y="2219"/>
                </a:lnTo>
                <a:lnTo>
                  <a:pt x="1701" y="2219"/>
                </a:lnTo>
                <a:lnTo>
                  <a:pt x="1716" y="2221"/>
                </a:lnTo>
                <a:lnTo>
                  <a:pt x="1731" y="2221"/>
                </a:lnTo>
                <a:lnTo>
                  <a:pt x="1746" y="2221"/>
                </a:lnTo>
                <a:lnTo>
                  <a:pt x="1761" y="2221"/>
                </a:lnTo>
                <a:lnTo>
                  <a:pt x="1776" y="2222"/>
                </a:lnTo>
                <a:lnTo>
                  <a:pt x="1791" y="2222"/>
                </a:lnTo>
                <a:lnTo>
                  <a:pt x="1804" y="2222"/>
                </a:lnTo>
                <a:lnTo>
                  <a:pt x="1819" y="2222"/>
                </a:lnTo>
                <a:lnTo>
                  <a:pt x="1831" y="2222"/>
                </a:lnTo>
                <a:lnTo>
                  <a:pt x="1844" y="2222"/>
                </a:lnTo>
                <a:lnTo>
                  <a:pt x="1854" y="2222"/>
                </a:lnTo>
                <a:lnTo>
                  <a:pt x="1865" y="2222"/>
                </a:lnTo>
                <a:lnTo>
                  <a:pt x="1872" y="2222"/>
                </a:lnTo>
                <a:lnTo>
                  <a:pt x="1878" y="2222"/>
                </a:lnTo>
                <a:lnTo>
                  <a:pt x="1882" y="2222"/>
                </a:lnTo>
                <a:lnTo>
                  <a:pt x="1886" y="2222"/>
                </a:lnTo>
                <a:lnTo>
                  <a:pt x="1888" y="2222"/>
                </a:lnTo>
                <a:lnTo>
                  <a:pt x="1890" y="2222"/>
                </a:lnTo>
                <a:lnTo>
                  <a:pt x="1892" y="2222"/>
                </a:lnTo>
                <a:lnTo>
                  <a:pt x="1894" y="2222"/>
                </a:lnTo>
                <a:lnTo>
                  <a:pt x="1896" y="2222"/>
                </a:lnTo>
                <a:lnTo>
                  <a:pt x="1900" y="2222"/>
                </a:lnTo>
                <a:lnTo>
                  <a:pt x="1905" y="2222"/>
                </a:lnTo>
                <a:lnTo>
                  <a:pt x="1912" y="2222"/>
                </a:lnTo>
                <a:lnTo>
                  <a:pt x="1920" y="2222"/>
                </a:lnTo>
                <a:lnTo>
                  <a:pt x="1930" y="2222"/>
                </a:lnTo>
                <a:lnTo>
                  <a:pt x="1943" y="2222"/>
                </a:lnTo>
                <a:lnTo>
                  <a:pt x="1961" y="2222"/>
                </a:lnTo>
              </a:path>
            </a:pathLst>
          </a:custGeom>
          <a:noFill/>
          <a:ln w="5724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685800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2554200"/>
            <a:ext cx="129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06680" y="2965320"/>
            <a:ext cx="0" cy="45021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6680" y="7467480"/>
            <a:ext cx="476388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82720" y="306072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731520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07040" y="6496200"/>
            <a:ext cx="341280" cy="217440"/>
          </a:xfrm>
          <a:custGeom>
            <a:avLst/>
            <a:gdLst/>
            <a:ahLst/>
            <a:rect l="l" t="t" r="r" b="b"/>
            <a:pathLst>
              <a:path w="215" h="137">
                <a:moveTo>
                  <a:pt x="107" y="26"/>
                </a:moveTo>
                <a:lnTo>
                  <a:pt x="163" y="71"/>
                </a:lnTo>
                <a:lnTo>
                  <a:pt x="214" y="136"/>
                </a:lnTo>
                <a:lnTo>
                  <a:pt x="5" y="136"/>
                </a:lnTo>
                <a:lnTo>
                  <a:pt x="4" y="130"/>
                </a:lnTo>
                <a:lnTo>
                  <a:pt x="2" y="119"/>
                </a:lnTo>
                <a:lnTo>
                  <a:pt x="1" y="108"/>
                </a:lnTo>
                <a:lnTo>
                  <a:pt x="0" y="97"/>
                </a:lnTo>
                <a:lnTo>
                  <a:pt x="1" y="85"/>
                </a:lnTo>
                <a:lnTo>
                  <a:pt x="1" y="75"/>
                </a:lnTo>
                <a:lnTo>
                  <a:pt x="4" y="64"/>
                </a:lnTo>
                <a:lnTo>
                  <a:pt x="7" y="54"/>
                </a:lnTo>
                <a:lnTo>
                  <a:pt x="11" y="43"/>
                </a:lnTo>
                <a:lnTo>
                  <a:pt x="16" y="35"/>
                </a:lnTo>
                <a:lnTo>
                  <a:pt x="23" y="26"/>
                </a:lnTo>
                <a:lnTo>
                  <a:pt x="29" y="20"/>
                </a:lnTo>
                <a:lnTo>
                  <a:pt x="38" y="12"/>
                </a:lnTo>
                <a:lnTo>
                  <a:pt x="47" y="8"/>
                </a:lnTo>
                <a:lnTo>
                  <a:pt x="59" y="4"/>
                </a:lnTo>
                <a:lnTo>
                  <a:pt x="71" y="1"/>
                </a:lnTo>
                <a:lnTo>
                  <a:pt x="86" y="0"/>
                </a:lnTo>
                <a:lnTo>
                  <a:pt x="107" y="26"/>
                </a:lnTo>
                <a:lnTo>
                  <a:pt x="107" y="26"/>
                </a:lnTo>
              </a:path>
            </a:pathLst>
          </a:custGeom>
          <a:solidFill>
            <a:srgbClr val="ff0080"/>
          </a:solidFill>
          <a:ln w="3168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4572000"/>
            <a:ext cx="1752480" cy="1600200"/>
          </a:xfrm>
          <a:prstGeom prst="wedgeRoundRectCallout">
            <a:avLst>
              <a:gd name="adj1" fmla="val -80074"/>
              <a:gd name="adj2" fmla="val 81449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8080" y="1981080"/>
            <a:ext cx="6496200" cy="5397480"/>
            <a:chOff x="838080" y="1981080"/>
            <a:chExt cx="6496200" cy="5397480"/>
          </a:xfrm>
        </p:grpSpPr>
        <p:sp>
          <p:nvSpPr>
            <p:cNvPr id="362" name=""/>
            <p:cNvSpPr/>
            <p:nvPr/>
          </p:nvSpPr>
          <p:spPr>
            <a:xfrm>
              <a:off x="838080" y="1981080"/>
              <a:ext cx="6496200" cy="5397480"/>
            </a:xfrm>
            <a:custGeom>
              <a:avLst/>
              <a:gdLst/>
              <a:ahLst/>
              <a:rect l="l" t="t" r="r" b="b"/>
              <a:pathLst>
                <a:path w="4092" h="3400">
                  <a:moveTo>
                    <a:pt x="2735" y="3400"/>
                  </a:moveTo>
                  <a:cubicBezTo>
                    <a:pt x="4092" y="3143"/>
                    <a:pt x="3360" y="1062"/>
                    <a:pt x="3360" y="0"/>
                  </a:cubicBezTo>
                  <a:lnTo>
                    <a:pt x="0" y="51"/>
                  </a:lnTo>
                  <a:lnTo>
                    <a:pt x="2735" y="34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9195800">
              <a:off x="4239720" y="3214440"/>
              <a:ext cx="269892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800080"/>
                  </a:solidFill>
                  <a:latin typeface="Times New Roman"/>
                </a:rPr>
                <a:t>Beneficios que se incrementa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95680" y="2990520"/>
              <a:ext cx="2487600" cy="2028600"/>
            </a:xfrm>
            <a:prstGeom prst="line">
              <a:avLst/>
            </a:prstGeom>
            <a:ln w="127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2960" y="5165640"/>
              <a:ext cx="99072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y*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1360" y="2635200"/>
              <a:ext cx="2438640" cy="1219320"/>
            </a:xfrm>
            <a:prstGeom prst="wedgeRoundRectCallout">
              <a:avLst>
                <a:gd name="adj1" fmla="val -57879"/>
                <a:gd name="adj2" fmla="val 10273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en-US" sz="5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5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5100" spc="-1" strike="noStrike">
                  <a:solidFill>
                    <a:srgbClr val="000000"/>
                  </a:solidFill>
                  <a:latin typeface="Times New Roman"/>
                </a:rPr>
                <a:t>) = 0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06600" y="838080"/>
            <a:ext cx="9451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aximizando beneficios a estos “precios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762120"/>
            <a:ext cx="9451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nimizando gasto a estos “precios”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80360" y="3106800"/>
            <a:ext cx="5534640" cy="4356000"/>
            <a:chOff x="180360" y="3106800"/>
            <a:chExt cx="5534640" cy="4356000"/>
          </a:xfrm>
        </p:grpSpPr>
        <p:sp>
          <p:nvSpPr>
            <p:cNvPr id="370" name=""/>
            <p:cNvSpPr/>
            <p:nvPr/>
          </p:nvSpPr>
          <p:spPr>
            <a:xfrm>
              <a:off x="1609560" y="3106800"/>
              <a:ext cx="3648240" cy="4356000"/>
            </a:xfrm>
            <a:custGeom>
              <a:avLst/>
              <a:gdLst/>
              <a:ahLst/>
              <a:rect l="l" t="t" r="r" b="b"/>
              <a:pathLst>
                <a:path w="2298" h="2744">
                  <a:moveTo>
                    <a:pt x="15" y="0"/>
                  </a:moveTo>
                  <a:cubicBezTo>
                    <a:pt x="0" y="943"/>
                    <a:pt x="14" y="1837"/>
                    <a:pt x="14" y="2744"/>
                  </a:cubicBezTo>
                  <a:lnTo>
                    <a:pt x="2298" y="270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9084200">
              <a:off x="463680" y="4723920"/>
              <a:ext cx="2584440" cy="18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800" spc="-1" strike="noStrike">
                  <a:solidFill>
                    <a:srgbClr val="003300"/>
                  </a:solidFill>
                  <a:latin typeface="Times New Roman"/>
                </a:rPr>
                <a:t>minimiza </a:t>
              </a:r>
              <a:r>
                <a:rPr b="0" lang="en-GB" sz="3800" spc="-1" strike="noStrike">
                  <a:solidFill>
                    <a:srgbClr val="000000"/>
                  </a:solidFill>
                  <a:latin typeface="Times New Roman"/>
                </a:rPr>
                <a:t>costos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7760" y="5045040"/>
              <a:ext cx="619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ff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x*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76720" y="3886200"/>
              <a:ext cx="2438280" cy="838080"/>
            </a:xfrm>
            <a:prstGeom prst="wedgeRoundRectCallout">
              <a:avLst>
                <a:gd name="adj1" fmla="val -45180"/>
                <a:gd name="adj2" fmla="val 7348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x*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219320" y="5029200"/>
              <a:ext cx="1449360" cy="1359000"/>
            </a:xfrm>
            <a:prstGeom prst="line">
              <a:avLst/>
            </a:prstGeom>
            <a:ln w="12708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quilibrio General: Robinson Crus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 rot="10800000">
            <a:off x="2359080" y="4133880"/>
            <a:ext cx="4857840" cy="282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8780000">
            <a:off x="3944880" y="5428800"/>
            <a:ext cx="2816280" cy="245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8300" spc="-1" strike="noStrike">
                <a:solidFill>
                  <a:srgbClr val="ff0080"/>
                </a:solidFill>
                <a:latin typeface="Arial"/>
              </a:rPr>
              <a:t>Parte 2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4114800" y="4191120"/>
            <a:ext cx="6784920" cy="2557440"/>
            <a:chOff x="4114800" y="4191120"/>
            <a:chExt cx="6784920" cy="2557440"/>
          </a:xfrm>
        </p:grpSpPr>
        <p:grpSp>
          <p:nvGrpSpPr>
            <p:cNvPr id="376" name=""/>
            <p:cNvGrpSpPr/>
            <p:nvPr/>
          </p:nvGrpSpPr>
          <p:grpSpPr>
            <a:xfrm>
              <a:off x="4114800" y="4221360"/>
              <a:ext cx="6784920" cy="2527200"/>
              <a:chOff x="4114800" y="4221360"/>
              <a:chExt cx="6784920" cy="2527200"/>
            </a:xfrm>
          </p:grpSpPr>
          <p:sp>
            <p:nvSpPr>
              <p:cNvPr id="377" name=""/>
              <p:cNvSpPr/>
              <p:nvPr/>
            </p:nvSpPr>
            <p:spPr>
              <a:xfrm>
                <a:off x="41148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608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208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562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023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498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97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0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452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910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1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388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86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324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785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27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7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73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14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690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150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41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626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41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0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52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562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52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040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62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4980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62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99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72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452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72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912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828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406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8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863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92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32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92d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817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a2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278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b3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5753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c3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21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c3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6892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d34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168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e3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628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e3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10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f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579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f3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04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03b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5332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13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994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13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454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24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3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34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40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44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86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4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341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54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82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64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29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74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75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74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84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706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9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167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a4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6424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a4e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12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b4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582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c5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057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c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532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d5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99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d5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84684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e5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9472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f5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408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988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05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358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05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0833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159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294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1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77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2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248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25b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709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35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184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35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659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45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12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45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4599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45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074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535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01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6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485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94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421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90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375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883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311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7904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0247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72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201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62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137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612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3073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552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4027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488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9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963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4388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59176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637840" y="4221360"/>
                <a:ext cx="2261880" cy="2527200"/>
              </a:xfrm>
              <a:custGeom>
                <a:avLst/>
                <a:gdLst/>
                <a:ahLst/>
                <a:rect l="l" t="t" r="r" b="b"/>
                <a:pathLst>
                  <a:path w="284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a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75600" y="4221360"/>
                <a:ext cx="2262240" cy="2525760"/>
              </a:xfrm>
              <a:custGeom>
                <a:avLst/>
                <a:gdLst/>
                <a:ahLst/>
                <a:rect l="l" t="t" r="r" b="b"/>
                <a:pathLst>
                  <a:path w="2848" h="3181">
                    <a:moveTo>
                      <a:pt x="2800" y="3149"/>
                    </a:moveTo>
                    <a:lnTo>
                      <a:pt x="2800" y="3149"/>
                    </a:lnTo>
                    <a:lnTo>
                      <a:pt x="2289" y="3134"/>
                    </a:lnTo>
                    <a:lnTo>
                      <a:pt x="1966" y="3102"/>
                    </a:lnTo>
                    <a:lnTo>
                      <a:pt x="1551" y="3009"/>
                    </a:lnTo>
                    <a:lnTo>
                      <a:pt x="1457" y="2946"/>
                    </a:lnTo>
                    <a:lnTo>
                      <a:pt x="1297" y="2881"/>
                    </a:lnTo>
                    <a:lnTo>
                      <a:pt x="1152" y="2769"/>
                    </a:lnTo>
                    <a:lnTo>
                      <a:pt x="1009" y="2626"/>
                    </a:lnTo>
                    <a:lnTo>
                      <a:pt x="879" y="2483"/>
                    </a:lnTo>
                    <a:lnTo>
                      <a:pt x="767" y="2339"/>
                    </a:lnTo>
                    <a:lnTo>
                      <a:pt x="622" y="2071"/>
                    </a:lnTo>
                    <a:lnTo>
                      <a:pt x="526" y="1863"/>
                    </a:lnTo>
                    <a:lnTo>
                      <a:pt x="447" y="1656"/>
                    </a:lnTo>
                    <a:lnTo>
                      <a:pt x="334" y="1369"/>
                    </a:lnTo>
                    <a:lnTo>
                      <a:pt x="270" y="1227"/>
                    </a:lnTo>
                    <a:lnTo>
                      <a:pt x="191" y="955"/>
                    </a:lnTo>
                    <a:lnTo>
                      <a:pt x="110" y="637"/>
                    </a:lnTo>
                    <a:lnTo>
                      <a:pt x="47" y="367"/>
                    </a:lnTo>
                    <a:lnTo>
                      <a:pt x="18" y="142"/>
                    </a:lnTo>
                    <a:lnTo>
                      <a:pt x="2" y="77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526" y="63"/>
                    </a:lnTo>
                    <a:lnTo>
                      <a:pt x="1055" y="14"/>
                    </a:lnTo>
                    <a:lnTo>
                      <a:pt x="1408" y="79"/>
                    </a:lnTo>
                    <a:lnTo>
                      <a:pt x="1937" y="48"/>
                    </a:lnTo>
                    <a:lnTo>
                      <a:pt x="2225" y="128"/>
                    </a:lnTo>
                    <a:lnTo>
                      <a:pt x="2496" y="272"/>
                    </a:lnTo>
                    <a:lnTo>
                      <a:pt x="2591" y="686"/>
                    </a:lnTo>
                    <a:lnTo>
                      <a:pt x="2562" y="1210"/>
                    </a:lnTo>
                    <a:lnTo>
                      <a:pt x="2848" y="1990"/>
                    </a:lnTo>
                    <a:lnTo>
                      <a:pt x="2848" y="2531"/>
                    </a:lnTo>
                    <a:lnTo>
                      <a:pt x="2752" y="2897"/>
                    </a:lnTo>
                    <a:lnTo>
                      <a:pt x="2800" y="3181"/>
                    </a:lnTo>
                    <a:lnTo>
                      <a:pt x="2800" y="3149"/>
                    </a:lnTo>
                    <a:close/>
                  </a:path>
                </a:pathLst>
              </a:custGeom>
              <a:solidFill>
                <a:srgbClr val="6a67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75600" y="4221360"/>
                <a:ext cx="2262240" cy="2525760"/>
              </a:xfrm>
              <a:custGeom>
                <a:avLst/>
                <a:gdLst/>
                <a:ahLst/>
                <a:rect l="l" t="t" r="r" b="b"/>
                <a:pathLst>
                  <a:path w="2848" h="3181">
                    <a:moveTo>
                      <a:pt x="2800" y="3149"/>
                    </a:moveTo>
                    <a:lnTo>
                      <a:pt x="2800" y="3149"/>
                    </a:lnTo>
                    <a:lnTo>
                      <a:pt x="2289" y="3134"/>
                    </a:lnTo>
                    <a:lnTo>
                      <a:pt x="1966" y="3102"/>
                    </a:lnTo>
                    <a:lnTo>
                      <a:pt x="1551" y="3009"/>
                    </a:lnTo>
                    <a:lnTo>
                      <a:pt x="1457" y="2946"/>
                    </a:lnTo>
                    <a:lnTo>
                      <a:pt x="1297" y="2881"/>
                    </a:lnTo>
                    <a:lnTo>
                      <a:pt x="1152" y="2769"/>
                    </a:lnTo>
                    <a:lnTo>
                      <a:pt x="1009" y="2626"/>
                    </a:lnTo>
                    <a:lnTo>
                      <a:pt x="879" y="2483"/>
                    </a:lnTo>
                    <a:lnTo>
                      <a:pt x="767" y="2339"/>
                    </a:lnTo>
                    <a:lnTo>
                      <a:pt x="622" y="2071"/>
                    </a:lnTo>
                    <a:lnTo>
                      <a:pt x="526" y="1863"/>
                    </a:lnTo>
                    <a:lnTo>
                      <a:pt x="447" y="1656"/>
                    </a:lnTo>
                    <a:lnTo>
                      <a:pt x="334" y="1369"/>
                    </a:lnTo>
                    <a:lnTo>
                      <a:pt x="270" y="1227"/>
                    </a:lnTo>
                    <a:lnTo>
                      <a:pt x="191" y="955"/>
                    </a:lnTo>
                    <a:lnTo>
                      <a:pt x="110" y="637"/>
                    </a:lnTo>
                    <a:lnTo>
                      <a:pt x="47" y="367"/>
                    </a:lnTo>
                    <a:lnTo>
                      <a:pt x="18" y="142"/>
                    </a:lnTo>
                    <a:lnTo>
                      <a:pt x="2" y="77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526" y="63"/>
                    </a:lnTo>
                    <a:lnTo>
                      <a:pt x="1055" y="14"/>
                    </a:lnTo>
                    <a:lnTo>
                      <a:pt x="1408" y="79"/>
                    </a:lnTo>
                    <a:lnTo>
                      <a:pt x="1937" y="48"/>
                    </a:lnTo>
                    <a:lnTo>
                      <a:pt x="2225" y="128"/>
                    </a:lnTo>
                    <a:lnTo>
                      <a:pt x="2496" y="272"/>
                    </a:lnTo>
                    <a:lnTo>
                      <a:pt x="2591" y="686"/>
                    </a:lnTo>
                    <a:lnTo>
                      <a:pt x="2562" y="1210"/>
                    </a:lnTo>
                    <a:lnTo>
                      <a:pt x="2848" y="1990"/>
                    </a:lnTo>
                    <a:lnTo>
                      <a:pt x="2848" y="2531"/>
                    </a:lnTo>
                    <a:lnTo>
                      <a:pt x="2752" y="2897"/>
                    </a:lnTo>
                    <a:lnTo>
                      <a:pt x="2800" y="3181"/>
                    </a:lnTo>
                    <a:lnTo>
                      <a:pt x="2800" y="3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148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608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08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562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23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498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00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97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0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452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4910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1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388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11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864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6324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785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27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217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73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8214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690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3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150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41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626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41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10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52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562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52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0408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62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4980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62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199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72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4520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72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912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828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406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8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863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92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32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92d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817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a2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278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b3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753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c3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21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c3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892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d34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168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e3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628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e3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104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f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579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4f3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04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03b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5332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13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9940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13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4548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24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3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34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40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44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6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4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2341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54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820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64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95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74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756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74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231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84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4706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9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167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a4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6424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a4e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1212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b4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582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c5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7057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9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c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532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d5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99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d5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4684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5e5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9472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f5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4080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5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8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05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358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05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33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159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294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1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773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2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248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25b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709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35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184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35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659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45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12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10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45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4599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45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0744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352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01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56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485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94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421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66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7900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375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83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9311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76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7904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0247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0726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1201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1662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86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137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6128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0736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3552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02760" y="4221360"/>
                <a:ext cx="230832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44884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10" h="3184">
                    <a:moveTo>
                      <a:pt x="2850" y="3184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2910" y="3184"/>
                    </a:lnTo>
                    <a:lnTo>
                      <a:pt x="2850" y="3184"/>
                    </a:lnTo>
                    <a:close/>
                  </a:path>
                </a:pathLst>
              </a:custGeom>
              <a:solidFill>
                <a:srgbClr val="69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96360" y="4221360"/>
                <a:ext cx="23097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543880" y="4221360"/>
                <a:ext cx="2310120" cy="2527200"/>
              </a:xfrm>
              <a:custGeom>
                <a:avLst/>
                <a:gdLst/>
                <a:ahLst/>
                <a:rect l="l" t="t" r="r" b="b"/>
                <a:pathLst>
                  <a:path w="290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2909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91760" y="4221360"/>
                <a:ext cx="2307960" cy="2527200"/>
              </a:xfrm>
              <a:custGeom>
                <a:avLst/>
                <a:gdLst/>
                <a:ahLst/>
                <a:rect l="l" t="t" r="r" b="b"/>
                <a:pathLst>
                  <a:path w="2908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2908" y="3184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96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637840" y="4221360"/>
                <a:ext cx="2261880" cy="2527200"/>
              </a:xfrm>
              <a:custGeom>
                <a:avLst/>
                <a:gdLst/>
                <a:ahLst/>
                <a:rect l="l" t="t" r="r" b="b"/>
                <a:pathLst>
                  <a:path w="2849" h="3184">
                    <a:moveTo>
                      <a:pt x="2849" y="318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849" y="3184"/>
                    </a:lnTo>
                    <a:close/>
                  </a:path>
                </a:pathLst>
              </a:custGeom>
              <a:solidFill>
                <a:srgbClr val="6a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348600" y="4191120"/>
              <a:ext cx="2255760" cy="2547720"/>
            </a:xfrm>
            <a:custGeom>
              <a:avLst/>
              <a:gdLst/>
              <a:ahLst/>
              <a:rect l="l" t="t" r="r" b="b"/>
              <a:pathLst>
                <a:path w="2842" h="3210">
                  <a:moveTo>
                    <a:pt x="52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52"/>
                  </a:lnTo>
                  <a:lnTo>
                    <a:pt x="28" y="48"/>
                  </a:lnTo>
                  <a:lnTo>
                    <a:pt x="4" y="50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8" y="84"/>
                  </a:lnTo>
                  <a:lnTo>
                    <a:pt x="32" y="77"/>
                  </a:lnTo>
                  <a:lnTo>
                    <a:pt x="7" y="77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7" y="102"/>
                  </a:lnTo>
                  <a:lnTo>
                    <a:pt x="7" y="102"/>
                  </a:lnTo>
                  <a:lnTo>
                    <a:pt x="9" y="112"/>
                  </a:lnTo>
                  <a:lnTo>
                    <a:pt x="14" y="119"/>
                  </a:lnTo>
                  <a:lnTo>
                    <a:pt x="14" y="119"/>
                  </a:lnTo>
                  <a:lnTo>
                    <a:pt x="17" y="122"/>
                  </a:lnTo>
                  <a:lnTo>
                    <a:pt x="35" y="104"/>
                  </a:lnTo>
                  <a:lnTo>
                    <a:pt x="9" y="104"/>
                  </a:lnTo>
                  <a:lnTo>
                    <a:pt x="12" y="114"/>
                  </a:lnTo>
                  <a:lnTo>
                    <a:pt x="17" y="122"/>
                  </a:lnTo>
                  <a:lnTo>
                    <a:pt x="9" y="104"/>
                  </a:lnTo>
                  <a:lnTo>
                    <a:pt x="9" y="109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20" y="135"/>
                  </a:lnTo>
                  <a:lnTo>
                    <a:pt x="37" y="117"/>
                  </a:lnTo>
                  <a:lnTo>
                    <a:pt x="12" y="117"/>
                  </a:lnTo>
                  <a:lnTo>
                    <a:pt x="14" y="127"/>
                  </a:lnTo>
                  <a:lnTo>
                    <a:pt x="20" y="135"/>
                  </a:lnTo>
                  <a:lnTo>
                    <a:pt x="12" y="117"/>
                  </a:lnTo>
                  <a:lnTo>
                    <a:pt x="12" y="125"/>
                  </a:lnTo>
                  <a:lnTo>
                    <a:pt x="12" y="130"/>
                  </a:lnTo>
                  <a:lnTo>
                    <a:pt x="13" y="134"/>
                  </a:lnTo>
                  <a:lnTo>
                    <a:pt x="14" y="144"/>
                  </a:lnTo>
                  <a:lnTo>
                    <a:pt x="39" y="140"/>
                  </a:lnTo>
                  <a:lnTo>
                    <a:pt x="14" y="142"/>
                  </a:lnTo>
                  <a:lnTo>
                    <a:pt x="16" y="154"/>
                  </a:lnTo>
                  <a:lnTo>
                    <a:pt x="16" y="155"/>
                  </a:lnTo>
                  <a:lnTo>
                    <a:pt x="18" y="172"/>
                  </a:lnTo>
                  <a:lnTo>
                    <a:pt x="43" y="168"/>
                  </a:lnTo>
                  <a:lnTo>
                    <a:pt x="18" y="172"/>
                  </a:lnTo>
                  <a:lnTo>
                    <a:pt x="21" y="194"/>
                  </a:lnTo>
                  <a:lnTo>
                    <a:pt x="21" y="194"/>
                  </a:lnTo>
                  <a:lnTo>
                    <a:pt x="25" y="218"/>
                  </a:lnTo>
                  <a:lnTo>
                    <a:pt x="49" y="214"/>
                  </a:lnTo>
                  <a:lnTo>
                    <a:pt x="25" y="218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34" y="278"/>
                  </a:lnTo>
                  <a:lnTo>
                    <a:pt x="34" y="279"/>
                  </a:lnTo>
                  <a:lnTo>
                    <a:pt x="40" y="313"/>
                  </a:lnTo>
                  <a:lnTo>
                    <a:pt x="40" y="313"/>
                  </a:lnTo>
                  <a:lnTo>
                    <a:pt x="48" y="350"/>
                  </a:lnTo>
                  <a:lnTo>
                    <a:pt x="55" y="386"/>
                  </a:lnTo>
                  <a:lnTo>
                    <a:pt x="80" y="381"/>
                  </a:lnTo>
                  <a:lnTo>
                    <a:pt x="55" y="386"/>
                  </a:lnTo>
                  <a:lnTo>
                    <a:pt x="63" y="427"/>
                  </a:lnTo>
                  <a:lnTo>
                    <a:pt x="63" y="427"/>
                  </a:lnTo>
                  <a:lnTo>
                    <a:pt x="71" y="466"/>
                  </a:lnTo>
                  <a:lnTo>
                    <a:pt x="95" y="461"/>
                  </a:lnTo>
                  <a:lnTo>
                    <a:pt x="71" y="465"/>
                  </a:lnTo>
                  <a:lnTo>
                    <a:pt x="77" y="507"/>
                  </a:lnTo>
                  <a:lnTo>
                    <a:pt x="77" y="510"/>
                  </a:lnTo>
                  <a:lnTo>
                    <a:pt x="87" y="551"/>
                  </a:lnTo>
                  <a:lnTo>
                    <a:pt x="112" y="544"/>
                  </a:lnTo>
                  <a:lnTo>
                    <a:pt x="87" y="549"/>
                  </a:lnTo>
                  <a:lnTo>
                    <a:pt x="95" y="592"/>
                  </a:lnTo>
                  <a:lnTo>
                    <a:pt x="95" y="593"/>
                  </a:lnTo>
                  <a:lnTo>
                    <a:pt x="104" y="633"/>
                  </a:lnTo>
                  <a:lnTo>
                    <a:pt x="128" y="626"/>
                  </a:lnTo>
                  <a:lnTo>
                    <a:pt x="104" y="631"/>
                  </a:lnTo>
                  <a:lnTo>
                    <a:pt x="113" y="672"/>
                  </a:lnTo>
                  <a:lnTo>
                    <a:pt x="113" y="675"/>
                  </a:lnTo>
                  <a:lnTo>
                    <a:pt x="123" y="712"/>
                  </a:lnTo>
                  <a:lnTo>
                    <a:pt x="148" y="704"/>
                  </a:lnTo>
                  <a:lnTo>
                    <a:pt x="123" y="708"/>
                  </a:lnTo>
                  <a:lnTo>
                    <a:pt x="130" y="748"/>
                  </a:lnTo>
                  <a:lnTo>
                    <a:pt x="130" y="750"/>
                  </a:lnTo>
                  <a:lnTo>
                    <a:pt x="140" y="790"/>
                  </a:lnTo>
                  <a:lnTo>
                    <a:pt x="164" y="784"/>
                  </a:lnTo>
                  <a:lnTo>
                    <a:pt x="140" y="789"/>
                  </a:lnTo>
                  <a:lnTo>
                    <a:pt x="149" y="831"/>
                  </a:lnTo>
                  <a:lnTo>
                    <a:pt x="149" y="834"/>
                  </a:lnTo>
                  <a:lnTo>
                    <a:pt x="162" y="876"/>
                  </a:lnTo>
                  <a:lnTo>
                    <a:pt x="186" y="868"/>
                  </a:lnTo>
                  <a:lnTo>
                    <a:pt x="162" y="875"/>
                  </a:lnTo>
                  <a:lnTo>
                    <a:pt x="172" y="918"/>
                  </a:lnTo>
                  <a:lnTo>
                    <a:pt x="172" y="918"/>
                  </a:lnTo>
                  <a:lnTo>
                    <a:pt x="183" y="962"/>
                  </a:lnTo>
                  <a:lnTo>
                    <a:pt x="195" y="1005"/>
                  </a:lnTo>
                  <a:lnTo>
                    <a:pt x="195" y="1006"/>
                  </a:lnTo>
                  <a:lnTo>
                    <a:pt x="208" y="1049"/>
                  </a:lnTo>
                  <a:lnTo>
                    <a:pt x="232" y="1041"/>
                  </a:lnTo>
                  <a:lnTo>
                    <a:pt x="208" y="1047"/>
                  </a:lnTo>
                  <a:lnTo>
                    <a:pt x="218" y="1091"/>
                  </a:lnTo>
                  <a:lnTo>
                    <a:pt x="218" y="1092"/>
                  </a:lnTo>
                  <a:lnTo>
                    <a:pt x="229" y="1132"/>
                  </a:lnTo>
                  <a:lnTo>
                    <a:pt x="229" y="1132"/>
                  </a:lnTo>
                  <a:lnTo>
                    <a:pt x="241" y="1170"/>
                  </a:lnTo>
                  <a:lnTo>
                    <a:pt x="242" y="1171"/>
                  </a:lnTo>
                  <a:lnTo>
                    <a:pt x="254" y="1206"/>
                  </a:lnTo>
                  <a:lnTo>
                    <a:pt x="277" y="1197"/>
                  </a:lnTo>
                  <a:lnTo>
                    <a:pt x="253" y="1205"/>
                  </a:lnTo>
                  <a:lnTo>
                    <a:pt x="263" y="1237"/>
                  </a:lnTo>
                  <a:lnTo>
                    <a:pt x="264" y="1238"/>
                  </a:lnTo>
                  <a:lnTo>
                    <a:pt x="274" y="1267"/>
                  </a:lnTo>
                  <a:lnTo>
                    <a:pt x="283" y="1293"/>
                  </a:lnTo>
                  <a:lnTo>
                    <a:pt x="283" y="1296"/>
                  </a:lnTo>
                  <a:lnTo>
                    <a:pt x="292" y="1315"/>
                  </a:lnTo>
                  <a:lnTo>
                    <a:pt x="315" y="1303"/>
                  </a:lnTo>
                  <a:lnTo>
                    <a:pt x="292" y="1312"/>
                  </a:lnTo>
                  <a:lnTo>
                    <a:pt x="300" y="1333"/>
                  </a:lnTo>
                  <a:lnTo>
                    <a:pt x="309" y="1357"/>
                  </a:lnTo>
                  <a:lnTo>
                    <a:pt x="318" y="1381"/>
                  </a:lnTo>
                  <a:lnTo>
                    <a:pt x="318" y="1383"/>
                  </a:lnTo>
                  <a:lnTo>
                    <a:pt x="329" y="1409"/>
                  </a:lnTo>
                  <a:lnTo>
                    <a:pt x="342" y="1440"/>
                  </a:lnTo>
                  <a:lnTo>
                    <a:pt x="355" y="1470"/>
                  </a:lnTo>
                  <a:lnTo>
                    <a:pt x="378" y="1459"/>
                  </a:lnTo>
                  <a:lnTo>
                    <a:pt x="355" y="1470"/>
                  </a:lnTo>
                  <a:lnTo>
                    <a:pt x="368" y="1502"/>
                  </a:lnTo>
                  <a:lnTo>
                    <a:pt x="368" y="1502"/>
                  </a:lnTo>
                  <a:lnTo>
                    <a:pt x="382" y="1534"/>
                  </a:lnTo>
                  <a:lnTo>
                    <a:pt x="405" y="1523"/>
                  </a:lnTo>
                  <a:lnTo>
                    <a:pt x="382" y="1532"/>
                  </a:lnTo>
                  <a:lnTo>
                    <a:pt x="393" y="1566"/>
                  </a:lnTo>
                  <a:lnTo>
                    <a:pt x="393" y="1568"/>
                  </a:lnTo>
                  <a:lnTo>
                    <a:pt x="409" y="1601"/>
                  </a:lnTo>
                  <a:lnTo>
                    <a:pt x="432" y="1590"/>
                  </a:lnTo>
                  <a:lnTo>
                    <a:pt x="409" y="1600"/>
                  </a:lnTo>
                  <a:lnTo>
                    <a:pt x="421" y="1633"/>
                  </a:lnTo>
                  <a:lnTo>
                    <a:pt x="423" y="1635"/>
                  </a:lnTo>
                  <a:lnTo>
                    <a:pt x="438" y="1665"/>
                  </a:lnTo>
                  <a:lnTo>
                    <a:pt x="460" y="1654"/>
                  </a:lnTo>
                  <a:lnTo>
                    <a:pt x="437" y="1663"/>
                  </a:lnTo>
                  <a:lnTo>
                    <a:pt x="448" y="1694"/>
                  </a:lnTo>
                  <a:lnTo>
                    <a:pt x="448" y="1696"/>
                  </a:lnTo>
                  <a:lnTo>
                    <a:pt x="462" y="1726"/>
                  </a:lnTo>
                  <a:lnTo>
                    <a:pt x="486" y="1714"/>
                  </a:lnTo>
                  <a:lnTo>
                    <a:pt x="462" y="1724"/>
                  </a:lnTo>
                  <a:lnTo>
                    <a:pt x="474" y="1752"/>
                  </a:lnTo>
                  <a:lnTo>
                    <a:pt x="474" y="1752"/>
                  </a:lnTo>
                  <a:lnTo>
                    <a:pt x="486" y="1778"/>
                  </a:lnTo>
                  <a:lnTo>
                    <a:pt x="509" y="1768"/>
                  </a:lnTo>
                  <a:lnTo>
                    <a:pt x="486" y="1777"/>
                  </a:lnTo>
                  <a:lnTo>
                    <a:pt x="496" y="1804"/>
                  </a:lnTo>
                  <a:lnTo>
                    <a:pt x="496" y="1805"/>
                  </a:lnTo>
                  <a:lnTo>
                    <a:pt x="507" y="1832"/>
                  </a:lnTo>
                  <a:lnTo>
                    <a:pt x="530" y="1822"/>
                  </a:lnTo>
                  <a:lnTo>
                    <a:pt x="507" y="1832"/>
                  </a:lnTo>
                  <a:lnTo>
                    <a:pt x="519" y="1861"/>
                  </a:lnTo>
                  <a:lnTo>
                    <a:pt x="519" y="1863"/>
                  </a:lnTo>
                  <a:lnTo>
                    <a:pt x="533" y="1892"/>
                  </a:lnTo>
                  <a:lnTo>
                    <a:pt x="556" y="1880"/>
                  </a:lnTo>
                  <a:lnTo>
                    <a:pt x="533" y="1889"/>
                  </a:lnTo>
                  <a:lnTo>
                    <a:pt x="544" y="1920"/>
                  </a:lnTo>
                  <a:lnTo>
                    <a:pt x="546" y="1923"/>
                  </a:lnTo>
                  <a:lnTo>
                    <a:pt x="561" y="1953"/>
                  </a:lnTo>
                  <a:lnTo>
                    <a:pt x="583" y="1942"/>
                  </a:lnTo>
                  <a:lnTo>
                    <a:pt x="560" y="1952"/>
                  </a:lnTo>
                  <a:lnTo>
                    <a:pt x="573" y="1983"/>
                  </a:lnTo>
                  <a:lnTo>
                    <a:pt x="574" y="1984"/>
                  </a:lnTo>
                  <a:lnTo>
                    <a:pt x="589" y="2014"/>
                  </a:lnTo>
                  <a:lnTo>
                    <a:pt x="611" y="2002"/>
                  </a:lnTo>
                  <a:lnTo>
                    <a:pt x="588" y="2011"/>
                  </a:lnTo>
                  <a:lnTo>
                    <a:pt x="599" y="2043"/>
                  </a:lnTo>
                  <a:lnTo>
                    <a:pt x="601" y="2046"/>
                  </a:lnTo>
                  <a:lnTo>
                    <a:pt x="615" y="2074"/>
                  </a:lnTo>
                  <a:lnTo>
                    <a:pt x="637" y="2062"/>
                  </a:lnTo>
                  <a:lnTo>
                    <a:pt x="614" y="2072"/>
                  </a:lnTo>
                  <a:lnTo>
                    <a:pt x="625" y="2101"/>
                  </a:lnTo>
                  <a:lnTo>
                    <a:pt x="626" y="2102"/>
                  </a:lnTo>
                  <a:lnTo>
                    <a:pt x="639" y="2127"/>
                  </a:lnTo>
                  <a:lnTo>
                    <a:pt x="661" y="2116"/>
                  </a:lnTo>
                  <a:lnTo>
                    <a:pt x="638" y="2126"/>
                  </a:lnTo>
                  <a:lnTo>
                    <a:pt x="648" y="2152"/>
                  </a:lnTo>
                  <a:lnTo>
                    <a:pt x="649" y="2153"/>
                  </a:lnTo>
                  <a:lnTo>
                    <a:pt x="661" y="2176"/>
                  </a:lnTo>
                  <a:lnTo>
                    <a:pt x="683" y="2165"/>
                  </a:lnTo>
                  <a:lnTo>
                    <a:pt x="660" y="2175"/>
                  </a:lnTo>
                  <a:lnTo>
                    <a:pt x="669" y="2195"/>
                  </a:lnTo>
                  <a:lnTo>
                    <a:pt x="670" y="2198"/>
                  </a:lnTo>
                  <a:lnTo>
                    <a:pt x="679" y="2213"/>
                  </a:lnTo>
                  <a:lnTo>
                    <a:pt x="701" y="2200"/>
                  </a:lnTo>
                  <a:lnTo>
                    <a:pt x="678" y="2211"/>
                  </a:lnTo>
                  <a:lnTo>
                    <a:pt x="685" y="2229"/>
                  </a:lnTo>
                  <a:lnTo>
                    <a:pt x="686" y="2231"/>
                  </a:lnTo>
                  <a:lnTo>
                    <a:pt x="697" y="2249"/>
                  </a:lnTo>
                  <a:lnTo>
                    <a:pt x="718" y="2236"/>
                  </a:lnTo>
                  <a:lnTo>
                    <a:pt x="695" y="2248"/>
                  </a:lnTo>
                  <a:lnTo>
                    <a:pt x="706" y="2269"/>
                  </a:lnTo>
                  <a:lnTo>
                    <a:pt x="708" y="2272"/>
                  </a:lnTo>
                  <a:lnTo>
                    <a:pt x="721" y="2291"/>
                  </a:lnTo>
                  <a:lnTo>
                    <a:pt x="742" y="2277"/>
                  </a:lnTo>
                  <a:lnTo>
                    <a:pt x="720" y="2289"/>
                  </a:lnTo>
                  <a:lnTo>
                    <a:pt x="731" y="2312"/>
                  </a:lnTo>
                  <a:lnTo>
                    <a:pt x="731" y="2313"/>
                  </a:lnTo>
                  <a:lnTo>
                    <a:pt x="745" y="2336"/>
                  </a:lnTo>
                  <a:lnTo>
                    <a:pt x="747" y="2337"/>
                  </a:lnTo>
                  <a:lnTo>
                    <a:pt x="762" y="2362"/>
                  </a:lnTo>
                  <a:lnTo>
                    <a:pt x="762" y="2363"/>
                  </a:lnTo>
                  <a:lnTo>
                    <a:pt x="777" y="2385"/>
                  </a:lnTo>
                  <a:lnTo>
                    <a:pt x="798" y="2369"/>
                  </a:lnTo>
                  <a:lnTo>
                    <a:pt x="776" y="2382"/>
                  </a:lnTo>
                  <a:lnTo>
                    <a:pt x="790" y="2405"/>
                  </a:lnTo>
                  <a:lnTo>
                    <a:pt x="791" y="2406"/>
                  </a:lnTo>
                  <a:lnTo>
                    <a:pt x="808" y="2431"/>
                  </a:lnTo>
                  <a:lnTo>
                    <a:pt x="829" y="2417"/>
                  </a:lnTo>
                  <a:lnTo>
                    <a:pt x="808" y="2431"/>
                  </a:lnTo>
                  <a:lnTo>
                    <a:pt x="823" y="2454"/>
                  </a:lnTo>
                  <a:lnTo>
                    <a:pt x="825" y="2455"/>
                  </a:lnTo>
                  <a:lnTo>
                    <a:pt x="841" y="2477"/>
                  </a:lnTo>
                  <a:lnTo>
                    <a:pt x="861" y="2461"/>
                  </a:lnTo>
                  <a:lnTo>
                    <a:pt x="840" y="2476"/>
                  </a:lnTo>
                  <a:lnTo>
                    <a:pt x="854" y="2497"/>
                  </a:lnTo>
                  <a:lnTo>
                    <a:pt x="855" y="2500"/>
                  </a:lnTo>
                  <a:lnTo>
                    <a:pt x="871" y="2519"/>
                  </a:lnTo>
                  <a:lnTo>
                    <a:pt x="890" y="2502"/>
                  </a:lnTo>
                  <a:lnTo>
                    <a:pt x="870" y="2518"/>
                  </a:lnTo>
                  <a:lnTo>
                    <a:pt x="884" y="2537"/>
                  </a:lnTo>
                  <a:lnTo>
                    <a:pt x="886" y="2540"/>
                  </a:lnTo>
                  <a:lnTo>
                    <a:pt x="900" y="2555"/>
                  </a:lnTo>
                  <a:lnTo>
                    <a:pt x="918" y="2537"/>
                  </a:lnTo>
                  <a:lnTo>
                    <a:pt x="899" y="2552"/>
                  </a:lnTo>
                  <a:lnTo>
                    <a:pt x="912" y="2569"/>
                  </a:lnTo>
                  <a:lnTo>
                    <a:pt x="913" y="2572"/>
                  </a:lnTo>
                  <a:lnTo>
                    <a:pt x="928" y="2588"/>
                  </a:lnTo>
                  <a:lnTo>
                    <a:pt x="946" y="2570"/>
                  </a:lnTo>
                  <a:lnTo>
                    <a:pt x="927" y="2587"/>
                  </a:lnTo>
                  <a:lnTo>
                    <a:pt x="943" y="2606"/>
                  </a:lnTo>
                  <a:lnTo>
                    <a:pt x="944" y="2607"/>
                  </a:lnTo>
                  <a:lnTo>
                    <a:pt x="962" y="2625"/>
                  </a:lnTo>
                  <a:lnTo>
                    <a:pt x="980" y="2607"/>
                  </a:lnTo>
                  <a:lnTo>
                    <a:pt x="962" y="2625"/>
                  </a:lnTo>
                  <a:lnTo>
                    <a:pt x="980" y="2644"/>
                  </a:lnTo>
                  <a:lnTo>
                    <a:pt x="998" y="2664"/>
                  </a:lnTo>
                  <a:lnTo>
                    <a:pt x="999" y="2665"/>
                  </a:lnTo>
                  <a:lnTo>
                    <a:pt x="1019" y="2684"/>
                  </a:lnTo>
                  <a:lnTo>
                    <a:pt x="1036" y="2665"/>
                  </a:lnTo>
                  <a:lnTo>
                    <a:pt x="1018" y="2683"/>
                  </a:lnTo>
                  <a:lnTo>
                    <a:pt x="1036" y="2702"/>
                  </a:lnTo>
                  <a:lnTo>
                    <a:pt x="1036" y="2702"/>
                  </a:lnTo>
                  <a:lnTo>
                    <a:pt x="1055" y="2721"/>
                  </a:lnTo>
                  <a:lnTo>
                    <a:pt x="1074" y="2740"/>
                  </a:lnTo>
                  <a:lnTo>
                    <a:pt x="1092" y="2758"/>
                  </a:lnTo>
                  <a:lnTo>
                    <a:pt x="1094" y="2760"/>
                  </a:lnTo>
                  <a:lnTo>
                    <a:pt x="1112" y="2775"/>
                  </a:lnTo>
                  <a:lnTo>
                    <a:pt x="1128" y="2756"/>
                  </a:lnTo>
                  <a:lnTo>
                    <a:pt x="1110" y="2774"/>
                  </a:lnTo>
                  <a:lnTo>
                    <a:pt x="1127" y="2790"/>
                  </a:lnTo>
                  <a:lnTo>
                    <a:pt x="1129" y="2792"/>
                  </a:lnTo>
                  <a:lnTo>
                    <a:pt x="1146" y="2806"/>
                  </a:lnTo>
                  <a:lnTo>
                    <a:pt x="1161" y="2787"/>
                  </a:lnTo>
                  <a:lnTo>
                    <a:pt x="1145" y="2806"/>
                  </a:lnTo>
                  <a:lnTo>
                    <a:pt x="1159" y="2819"/>
                  </a:lnTo>
                  <a:lnTo>
                    <a:pt x="1163" y="2821"/>
                  </a:lnTo>
                  <a:lnTo>
                    <a:pt x="1178" y="2830"/>
                  </a:lnTo>
                  <a:lnTo>
                    <a:pt x="1191" y="2808"/>
                  </a:lnTo>
                  <a:lnTo>
                    <a:pt x="1173" y="2826"/>
                  </a:lnTo>
                  <a:lnTo>
                    <a:pt x="1184" y="2838"/>
                  </a:lnTo>
                  <a:lnTo>
                    <a:pt x="1188" y="2840"/>
                  </a:lnTo>
                  <a:lnTo>
                    <a:pt x="1202" y="2850"/>
                  </a:lnTo>
                  <a:lnTo>
                    <a:pt x="1216" y="2861"/>
                  </a:lnTo>
                  <a:lnTo>
                    <a:pt x="1231" y="2871"/>
                  </a:lnTo>
                  <a:lnTo>
                    <a:pt x="1245" y="2850"/>
                  </a:lnTo>
                  <a:lnTo>
                    <a:pt x="1229" y="2871"/>
                  </a:lnTo>
                  <a:lnTo>
                    <a:pt x="1242" y="2881"/>
                  </a:lnTo>
                  <a:lnTo>
                    <a:pt x="1243" y="2881"/>
                  </a:lnTo>
                  <a:lnTo>
                    <a:pt x="1257" y="2891"/>
                  </a:lnTo>
                  <a:lnTo>
                    <a:pt x="1272" y="2902"/>
                  </a:lnTo>
                  <a:lnTo>
                    <a:pt x="1273" y="2903"/>
                  </a:lnTo>
                  <a:lnTo>
                    <a:pt x="1287" y="2912"/>
                  </a:lnTo>
                  <a:lnTo>
                    <a:pt x="1300" y="2890"/>
                  </a:lnTo>
                  <a:lnTo>
                    <a:pt x="1284" y="2911"/>
                  </a:lnTo>
                  <a:lnTo>
                    <a:pt x="1296" y="2920"/>
                  </a:lnTo>
                  <a:lnTo>
                    <a:pt x="1309" y="2930"/>
                  </a:lnTo>
                  <a:lnTo>
                    <a:pt x="1310" y="2930"/>
                  </a:lnTo>
                  <a:lnTo>
                    <a:pt x="1320" y="2938"/>
                  </a:lnTo>
                  <a:lnTo>
                    <a:pt x="1320" y="2939"/>
                  </a:lnTo>
                  <a:lnTo>
                    <a:pt x="1332" y="2946"/>
                  </a:lnTo>
                  <a:lnTo>
                    <a:pt x="1346" y="2925"/>
                  </a:lnTo>
                  <a:lnTo>
                    <a:pt x="1328" y="2943"/>
                  </a:lnTo>
                  <a:lnTo>
                    <a:pt x="1336" y="2950"/>
                  </a:lnTo>
                  <a:lnTo>
                    <a:pt x="1342" y="2954"/>
                  </a:lnTo>
                  <a:lnTo>
                    <a:pt x="1351" y="2959"/>
                  </a:lnTo>
                  <a:lnTo>
                    <a:pt x="1362" y="2938"/>
                  </a:lnTo>
                  <a:lnTo>
                    <a:pt x="1347" y="2958"/>
                  </a:lnTo>
                  <a:lnTo>
                    <a:pt x="1353" y="2963"/>
                  </a:lnTo>
                  <a:lnTo>
                    <a:pt x="1359" y="2966"/>
                  </a:lnTo>
                  <a:lnTo>
                    <a:pt x="1360" y="2967"/>
                  </a:lnTo>
                  <a:lnTo>
                    <a:pt x="1366" y="2970"/>
                  </a:lnTo>
                  <a:lnTo>
                    <a:pt x="1375" y="2945"/>
                  </a:lnTo>
                  <a:lnTo>
                    <a:pt x="1356" y="2961"/>
                  </a:lnTo>
                  <a:lnTo>
                    <a:pt x="1360" y="2966"/>
                  </a:lnTo>
                  <a:lnTo>
                    <a:pt x="1361" y="2968"/>
                  </a:lnTo>
                  <a:lnTo>
                    <a:pt x="1369" y="2973"/>
                  </a:lnTo>
                  <a:lnTo>
                    <a:pt x="1370" y="2975"/>
                  </a:lnTo>
                  <a:lnTo>
                    <a:pt x="1377" y="2977"/>
                  </a:lnTo>
                  <a:lnTo>
                    <a:pt x="1385" y="2953"/>
                  </a:lnTo>
                  <a:lnTo>
                    <a:pt x="1373" y="2975"/>
                  </a:lnTo>
                  <a:lnTo>
                    <a:pt x="1379" y="2978"/>
                  </a:lnTo>
                  <a:lnTo>
                    <a:pt x="1382" y="2981"/>
                  </a:lnTo>
                  <a:lnTo>
                    <a:pt x="1391" y="2985"/>
                  </a:lnTo>
                  <a:lnTo>
                    <a:pt x="1401" y="2961"/>
                  </a:lnTo>
                  <a:lnTo>
                    <a:pt x="1389" y="2982"/>
                  </a:lnTo>
                  <a:lnTo>
                    <a:pt x="1398" y="2987"/>
                  </a:lnTo>
                  <a:lnTo>
                    <a:pt x="1401" y="2990"/>
                  </a:lnTo>
                  <a:lnTo>
                    <a:pt x="1411" y="2994"/>
                  </a:lnTo>
                  <a:lnTo>
                    <a:pt x="1420" y="2970"/>
                  </a:lnTo>
                  <a:lnTo>
                    <a:pt x="1409" y="2991"/>
                  </a:lnTo>
                  <a:lnTo>
                    <a:pt x="1417" y="2996"/>
                  </a:lnTo>
                  <a:lnTo>
                    <a:pt x="1421" y="2999"/>
                  </a:lnTo>
                  <a:lnTo>
                    <a:pt x="1433" y="3003"/>
                  </a:lnTo>
                  <a:lnTo>
                    <a:pt x="1441" y="2978"/>
                  </a:lnTo>
                  <a:lnTo>
                    <a:pt x="1428" y="3000"/>
                  </a:lnTo>
                  <a:lnTo>
                    <a:pt x="1438" y="3007"/>
                  </a:lnTo>
                  <a:lnTo>
                    <a:pt x="1441" y="3008"/>
                  </a:lnTo>
                  <a:lnTo>
                    <a:pt x="1452" y="3013"/>
                  </a:lnTo>
                  <a:lnTo>
                    <a:pt x="1462" y="2990"/>
                  </a:lnTo>
                  <a:lnTo>
                    <a:pt x="1451" y="3013"/>
                  </a:lnTo>
                  <a:lnTo>
                    <a:pt x="1461" y="3018"/>
                  </a:lnTo>
                  <a:lnTo>
                    <a:pt x="1465" y="3019"/>
                  </a:lnTo>
                  <a:lnTo>
                    <a:pt x="1478" y="3023"/>
                  </a:lnTo>
                  <a:lnTo>
                    <a:pt x="1485" y="2999"/>
                  </a:lnTo>
                  <a:lnTo>
                    <a:pt x="1474" y="3021"/>
                  </a:lnTo>
                  <a:lnTo>
                    <a:pt x="1483" y="3026"/>
                  </a:lnTo>
                  <a:lnTo>
                    <a:pt x="1485" y="3028"/>
                  </a:lnTo>
                  <a:lnTo>
                    <a:pt x="1498" y="3034"/>
                  </a:lnTo>
                  <a:lnTo>
                    <a:pt x="1507" y="3009"/>
                  </a:lnTo>
                  <a:lnTo>
                    <a:pt x="1496" y="3032"/>
                  </a:lnTo>
                  <a:lnTo>
                    <a:pt x="1506" y="3037"/>
                  </a:lnTo>
                  <a:lnTo>
                    <a:pt x="1512" y="3039"/>
                  </a:lnTo>
                  <a:lnTo>
                    <a:pt x="1524" y="3041"/>
                  </a:lnTo>
                  <a:lnTo>
                    <a:pt x="1529" y="3017"/>
                  </a:lnTo>
                  <a:lnTo>
                    <a:pt x="1519" y="3041"/>
                  </a:lnTo>
                  <a:lnTo>
                    <a:pt x="1528" y="3045"/>
                  </a:lnTo>
                  <a:lnTo>
                    <a:pt x="1529" y="3045"/>
                  </a:lnTo>
                  <a:lnTo>
                    <a:pt x="1542" y="3050"/>
                  </a:lnTo>
                  <a:lnTo>
                    <a:pt x="1542" y="3050"/>
                  </a:lnTo>
                  <a:lnTo>
                    <a:pt x="1556" y="3055"/>
                  </a:lnTo>
                  <a:lnTo>
                    <a:pt x="1558" y="3055"/>
                  </a:lnTo>
                  <a:lnTo>
                    <a:pt x="1574" y="3059"/>
                  </a:lnTo>
                  <a:lnTo>
                    <a:pt x="1580" y="3035"/>
                  </a:lnTo>
                  <a:lnTo>
                    <a:pt x="1570" y="3058"/>
                  </a:lnTo>
                  <a:lnTo>
                    <a:pt x="1586" y="3066"/>
                  </a:lnTo>
                  <a:lnTo>
                    <a:pt x="1589" y="3067"/>
                  </a:lnTo>
                  <a:lnTo>
                    <a:pt x="1606" y="3072"/>
                  </a:lnTo>
                  <a:lnTo>
                    <a:pt x="1607" y="3072"/>
                  </a:lnTo>
                  <a:lnTo>
                    <a:pt x="1625" y="3077"/>
                  </a:lnTo>
                  <a:lnTo>
                    <a:pt x="1626" y="3077"/>
                  </a:lnTo>
                  <a:lnTo>
                    <a:pt x="1645" y="3081"/>
                  </a:lnTo>
                  <a:lnTo>
                    <a:pt x="1650" y="3057"/>
                  </a:lnTo>
                  <a:lnTo>
                    <a:pt x="1640" y="3081"/>
                  </a:lnTo>
                  <a:lnTo>
                    <a:pt x="1658" y="3089"/>
                  </a:lnTo>
                  <a:lnTo>
                    <a:pt x="1662" y="3089"/>
                  </a:lnTo>
                  <a:lnTo>
                    <a:pt x="1680" y="3094"/>
                  </a:lnTo>
                  <a:lnTo>
                    <a:pt x="1686" y="3069"/>
                  </a:lnTo>
                  <a:lnTo>
                    <a:pt x="1679" y="3094"/>
                  </a:lnTo>
                  <a:lnTo>
                    <a:pt x="1698" y="3100"/>
                  </a:lnTo>
                  <a:lnTo>
                    <a:pt x="1699" y="3100"/>
                  </a:lnTo>
                  <a:lnTo>
                    <a:pt x="1718" y="3105"/>
                  </a:lnTo>
                  <a:lnTo>
                    <a:pt x="1720" y="3105"/>
                  </a:lnTo>
                  <a:lnTo>
                    <a:pt x="1736" y="3109"/>
                  </a:lnTo>
                  <a:lnTo>
                    <a:pt x="1741" y="3085"/>
                  </a:lnTo>
                  <a:lnTo>
                    <a:pt x="1735" y="3109"/>
                  </a:lnTo>
                  <a:lnTo>
                    <a:pt x="1754" y="3114"/>
                  </a:lnTo>
                  <a:lnTo>
                    <a:pt x="1761" y="3090"/>
                  </a:lnTo>
                  <a:lnTo>
                    <a:pt x="1753" y="3114"/>
                  </a:lnTo>
                  <a:lnTo>
                    <a:pt x="1770" y="3119"/>
                  </a:lnTo>
                  <a:lnTo>
                    <a:pt x="1772" y="3119"/>
                  </a:lnTo>
                  <a:lnTo>
                    <a:pt x="1789" y="3123"/>
                  </a:lnTo>
                  <a:lnTo>
                    <a:pt x="1794" y="3099"/>
                  </a:lnTo>
                  <a:lnTo>
                    <a:pt x="1786" y="3123"/>
                  </a:lnTo>
                  <a:lnTo>
                    <a:pt x="1802" y="3128"/>
                  </a:lnTo>
                  <a:lnTo>
                    <a:pt x="1804" y="3128"/>
                  </a:lnTo>
                  <a:lnTo>
                    <a:pt x="1821" y="3132"/>
                  </a:lnTo>
                  <a:lnTo>
                    <a:pt x="1821" y="3132"/>
                  </a:lnTo>
                  <a:lnTo>
                    <a:pt x="1840" y="3136"/>
                  </a:lnTo>
                  <a:lnTo>
                    <a:pt x="1842" y="3137"/>
                  </a:lnTo>
                  <a:lnTo>
                    <a:pt x="1862" y="3140"/>
                  </a:lnTo>
                  <a:lnTo>
                    <a:pt x="1864" y="3114"/>
                  </a:lnTo>
                  <a:lnTo>
                    <a:pt x="1858" y="3138"/>
                  </a:lnTo>
                  <a:lnTo>
                    <a:pt x="1877" y="3144"/>
                  </a:lnTo>
                  <a:lnTo>
                    <a:pt x="1880" y="3145"/>
                  </a:lnTo>
                  <a:lnTo>
                    <a:pt x="1900" y="3149"/>
                  </a:lnTo>
                  <a:lnTo>
                    <a:pt x="1904" y="3123"/>
                  </a:lnTo>
                  <a:lnTo>
                    <a:pt x="1899" y="3147"/>
                  </a:lnTo>
                  <a:lnTo>
                    <a:pt x="1921" y="3153"/>
                  </a:lnTo>
                  <a:lnTo>
                    <a:pt x="1923" y="3154"/>
                  </a:lnTo>
                  <a:lnTo>
                    <a:pt x="1945" y="3156"/>
                  </a:lnTo>
                  <a:lnTo>
                    <a:pt x="1947" y="3131"/>
                  </a:lnTo>
                  <a:lnTo>
                    <a:pt x="1942" y="3155"/>
                  </a:lnTo>
                  <a:lnTo>
                    <a:pt x="1962" y="3159"/>
                  </a:lnTo>
                  <a:lnTo>
                    <a:pt x="1963" y="3160"/>
                  </a:lnTo>
                  <a:lnTo>
                    <a:pt x="1985" y="3164"/>
                  </a:lnTo>
                  <a:lnTo>
                    <a:pt x="1988" y="3138"/>
                  </a:lnTo>
                  <a:lnTo>
                    <a:pt x="1983" y="3163"/>
                  </a:lnTo>
                  <a:lnTo>
                    <a:pt x="2003" y="3167"/>
                  </a:lnTo>
                  <a:lnTo>
                    <a:pt x="2005" y="3168"/>
                  </a:lnTo>
                  <a:lnTo>
                    <a:pt x="2024" y="3170"/>
                  </a:lnTo>
                  <a:lnTo>
                    <a:pt x="2027" y="3145"/>
                  </a:lnTo>
                  <a:lnTo>
                    <a:pt x="2023" y="3170"/>
                  </a:lnTo>
                  <a:lnTo>
                    <a:pt x="2041" y="3173"/>
                  </a:lnTo>
                  <a:lnTo>
                    <a:pt x="2059" y="3176"/>
                  </a:lnTo>
                  <a:lnTo>
                    <a:pt x="2063" y="3150"/>
                  </a:lnTo>
                  <a:lnTo>
                    <a:pt x="2059" y="3176"/>
                  </a:lnTo>
                  <a:lnTo>
                    <a:pt x="2074" y="3178"/>
                  </a:lnTo>
                  <a:lnTo>
                    <a:pt x="2090" y="3181"/>
                  </a:lnTo>
                  <a:lnTo>
                    <a:pt x="2091" y="3181"/>
                  </a:lnTo>
                  <a:lnTo>
                    <a:pt x="2104" y="3182"/>
                  </a:lnTo>
                  <a:lnTo>
                    <a:pt x="2106" y="3156"/>
                  </a:lnTo>
                  <a:lnTo>
                    <a:pt x="2102" y="3182"/>
                  </a:lnTo>
                  <a:lnTo>
                    <a:pt x="2118" y="3185"/>
                  </a:lnTo>
                  <a:lnTo>
                    <a:pt x="2133" y="3187"/>
                  </a:lnTo>
                  <a:lnTo>
                    <a:pt x="2137" y="3187"/>
                  </a:lnTo>
                  <a:lnTo>
                    <a:pt x="2156" y="3187"/>
                  </a:lnTo>
                  <a:lnTo>
                    <a:pt x="2156" y="3161"/>
                  </a:lnTo>
                  <a:lnTo>
                    <a:pt x="2154" y="3187"/>
                  </a:lnTo>
                  <a:lnTo>
                    <a:pt x="2173" y="3190"/>
                  </a:lnTo>
                  <a:lnTo>
                    <a:pt x="2174" y="3190"/>
                  </a:lnTo>
                  <a:lnTo>
                    <a:pt x="2195" y="3191"/>
                  </a:lnTo>
                  <a:lnTo>
                    <a:pt x="2196" y="3165"/>
                  </a:lnTo>
                  <a:lnTo>
                    <a:pt x="2193" y="3191"/>
                  </a:lnTo>
                  <a:lnTo>
                    <a:pt x="2215" y="3193"/>
                  </a:lnTo>
                  <a:lnTo>
                    <a:pt x="2218" y="3193"/>
                  </a:lnTo>
                  <a:lnTo>
                    <a:pt x="2239" y="3193"/>
                  </a:lnTo>
                  <a:lnTo>
                    <a:pt x="2239" y="3168"/>
                  </a:lnTo>
                  <a:lnTo>
                    <a:pt x="2237" y="3193"/>
                  </a:lnTo>
                  <a:lnTo>
                    <a:pt x="2257" y="3196"/>
                  </a:lnTo>
                  <a:lnTo>
                    <a:pt x="2259" y="3196"/>
                  </a:lnTo>
                  <a:lnTo>
                    <a:pt x="2280" y="3197"/>
                  </a:lnTo>
                  <a:lnTo>
                    <a:pt x="2301" y="3199"/>
                  </a:lnTo>
                  <a:lnTo>
                    <a:pt x="2302" y="3199"/>
                  </a:lnTo>
                  <a:lnTo>
                    <a:pt x="2324" y="3199"/>
                  </a:lnTo>
                  <a:lnTo>
                    <a:pt x="2324" y="3173"/>
                  </a:lnTo>
                  <a:lnTo>
                    <a:pt x="2321" y="3199"/>
                  </a:lnTo>
                  <a:lnTo>
                    <a:pt x="2340" y="3201"/>
                  </a:lnTo>
                  <a:lnTo>
                    <a:pt x="2343" y="3201"/>
                  </a:lnTo>
                  <a:lnTo>
                    <a:pt x="2364" y="3201"/>
                  </a:lnTo>
                  <a:lnTo>
                    <a:pt x="2364" y="3176"/>
                  </a:lnTo>
                  <a:lnTo>
                    <a:pt x="2362" y="3201"/>
                  </a:lnTo>
                  <a:lnTo>
                    <a:pt x="2380" y="3202"/>
                  </a:lnTo>
                  <a:lnTo>
                    <a:pt x="2381" y="3202"/>
                  </a:lnTo>
                  <a:lnTo>
                    <a:pt x="2399" y="3202"/>
                  </a:lnTo>
                  <a:lnTo>
                    <a:pt x="2399" y="3177"/>
                  </a:lnTo>
                  <a:lnTo>
                    <a:pt x="2396" y="3202"/>
                  </a:lnTo>
                  <a:lnTo>
                    <a:pt x="2412" y="3205"/>
                  </a:lnTo>
                  <a:lnTo>
                    <a:pt x="2416" y="3205"/>
                  </a:lnTo>
                  <a:lnTo>
                    <a:pt x="2434" y="3205"/>
                  </a:lnTo>
                  <a:lnTo>
                    <a:pt x="2434" y="3179"/>
                  </a:lnTo>
                  <a:lnTo>
                    <a:pt x="2433" y="3205"/>
                  </a:lnTo>
                  <a:lnTo>
                    <a:pt x="2451" y="3206"/>
                  </a:lnTo>
                  <a:lnTo>
                    <a:pt x="2452" y="3206"/>
                  </a:lnTo>
                  <a:lnTo>
                    <a:pt x="2472" y="3206"/>
                  </a:lnTo>
                  <a:lnTo>
                    <a:pt x="2472" y="3181"/>
                  </a:lnTo>
                  <a:lnTo>
                    <a:pt x="2471" y="3206"/>
                  </a:lnTo>
                  <a:lnTo>
                    <a:pt x="2492" y="3208"/>
                  </a:lnTo>
                  <a:lnTo>
                    <a:pt x="2493" y="3208"/>
                  </a:lnTo>
                  <a:lnTo>
                    <a:pt x="2513" y="3208"/>
                  </a:lnTo>
                  <a:lnTo>
                    <a:pt x="2535" y="3208"/>
                  </a:lnTo>
                  <a:lnTo>
                    <a:pt x="2558" y="3208"/>
                  </a:lnTo>
                  <a:lnTo>
                    <a:pt x="2558" y="3182"/>
                  </a:lnTo>
                  <a:lnTo>
                    <a:pt x="2556" y="3208"/>
                  </a:lnTo>
                  <a:lnTo>
                    <a:pt x="2575" y="3210"/>
                  </a:lnTo>
                  <a:lnTo>
                    <a:pt x="2577" y="3210"/>
                  </a:lnTo>
                  <a:lnTo>
                    <a:pt x="2599" y="3210"/>
                  </a:lnTo>
                  <a:lnTo>
                    <a:pt x="2620" y="3210"/>
                  </a:lnTo>
                  <a:lnTo>
                    <a:pt x="2640" y="3210"/>
                  </a:lnTo>
                  <a:lnTo>
                    <a:pt x="2658" y="3210"/>
                  </a:lnTo>
                  <a:lnTo>
                    <a:pt x="2675" y="3210"/>
                  </a:lnTo>
                  <a:lnTo>
                    <a:pt x="2690" y="3210"/>
                  </a:lnTo>
                  <a:lnTo>
                    <a:pt x="2705" y="3210"/>
                  </a:lnTo>
                  <a:lnTo>
                    <a:pt x="2716" y="3210"/>
                  </a:lnTo>
                  <a:lnTo>
                    <a:pt x="2725" y="3210"/>
                  </a:lnTo>
                  <a:lnTo>
                    <a:pt x="2731" y="3210"/>
                  </a:lnTo>
                  <a:lnTo>
                    <a:pt x="2735" y="3210"/>
                  </a:lnTo>
                  <a:lnTo>
                    <a:pt x="2737" y="3210"/>
                  </a:lnTo>
                  <a:lnTo>
                    <a:pt x="2741" y="3210"/>
                  </a:lnTo>
                  <a:lnTo>
                    <a:pt x="2744" y="3210"/>
                  </a:lnTo>
                  <a:lnTo>
                    <a:pt x="2748" y="3210"/>
                  </a:lnTo>
                  <a:lnTo>
                    <a:pt x="2749" y="3210"/>
                  </a:lnTo>
                  <a:lnTo>
                    <a:pt x="2755" y="3210"/>
                  </a:lnTo>
                  <a:lnTo>
                    <a:pt x="2762" y="3210"/>
                  </a:lnTo>
                  <a:lnTo>
                    <a:pt x="2772" y="3210"/>
                  </a:lnTo>
                  <a:lnTo>
                    <a:pt x="2783" y="3210"/>
                  </a:lnTo>
                  <a:lnTo>
                    <a:pt x="2799" y="3210"/>
                  </a:lnTo>
                  <a:lnTo>
                    <a:pt x="2818" y="3210"/>
                  </a:lnTo>
                  <a:lnTo>
                    <a:pt x="2842" y="3210"/>
                  </a:lnTo>
                  <a:lnTo>
                    <a:pt x="2842" y="3159"/>
                  </a:lnTo>
                  <a:lnTo>
                    <a:pt x="2818" y="3159"/>
                  </a:lnTo>
                  <a:lnTo>
                    <a:pt x="2799" y="3159"/>
                  </a:lnTo>
                  <a:lnTo>
                    <a:pt x="2783" y="3159"/>
                  </a:lnTo>
                  <a:lnTo>
                    <a:pt x="2772" y="3159"/>
                  </a:lnTo>
                  <a:lnTo>
                    <a:pt x="2762" y="3159"/>
                  </a:lnTo>
                  <a:lnTo>
                    <a:pt x="2755" y="3159"/>
                  </a:lnTo>
                  <a:lnTo>
                    <a:pt x="2749" y="3159"/>
                  </a:lnTo>
                  <a:lnTo>
                    <a:pt x="2748" y="3159"/>
                  </a:lnTo>
                  <a:lnTo>
                    <a:pt x="2744" y="3159"/>
                  </a:lnTo>
                  <a:lnTo>
                    <a:pt x="2741" y="3159"/>
                  </a:lnTo>
                  <a:lnTo>
                    <a:pt x="2737" y="3159"/>
                  </a:lnTo>
                  <a:lnTo>
                    <a:pt x="2735" y="3159"/>
                  </a:lnTo>
                  <a:lnTo>
                    <a:pt x="2731" y="3159"/>
                  </a:lnTo>
                  <a:lnTo>
                    <a:pt x="2725" y="3159"/>
                  </a:lnTo>
                  <a:lnTo>
                    <a:pt x="2716" y="3159"/>
                  </a:lnTo>
                  <a:lnTo>
                    <a:pt x="2705" y="3159"/>
                  </a:lnTo>
                  <a:lnTo>
                    <a:pt x="2690" y="3159"/>
                  </a:lnTo>
                  <a:lnTo>
                    <a:pt x="2675" y="3159"/>
                  </a:lnTo>
                  <a:lnTo>
                    <a:pt x="2658" y="3159"/>
                  </a:lnTo>
                  <a:lnTo>
                    <a:pt x="2640" y="3159"/>
                  </a:lnTo>
                  <a:lnTo>
                    <a:pt x="2620" y="3159"/>
                  </a:lnTo>
                  <a:lnTo>
                    <a:pt x="2599" y="3159"/>
                  </a:lnTo>
                  <a:lnTo>
                    <a:pt x="2577" y="3159"/>
                  </a:lnTo>
                  <a:lnTo>
                    <a:pt x="2577" y="3185"/>
                  </a:lnTo>
                  <a:lnTo>
                    <a:pt x="2581" y="3160"/>
                  </a:lnTo>
                  <a:lnTo>
                    <a:pt x="2562" y="3158"/>
                  </a:lnTo>
                  <a:lnTo>
                    <a:pt x="2558" y="3156"/>
                  </a:lnTo>
                  <a:lnTo>
                    <a:pt x="2535" y="3156"/>
                  </a:lnTo>
                  <a:lnTo>
                    <a:pt x="2513" y="3156"/>
                  </a:lnTo>
                  <a:lnTo>
                    <a:pt x="2493" y="3156"/>
                  </a:lnTo>
                  <a:lnTo>
                    <a:pt x="2493" y="3182"/>
                  </a:lnTo>
                  <a:lnTo>
                    <a:pt x="2494" y="3156"/>
                  </a:lnTo>
                  <a:lnTo>
                    <a:pt x="2474" y="3155"/>
                  </a:lnTo>
                  <a:lnTo>
                    <a:pt x="2472" y="3155"/>
                  </a:lnTo>
                  <a:lnTo>
                    <a:pt x="2452" y="3155"/>
                  </a:lnTo>
                  <a:lnTo>
                    <a:pt x="2452" y="3181"/>
                  </a:lnTo>
                  <a:lnTo>
                    <a:pt x="2454" y="3156"/>
                  </a:lnTo>
                  <a:lnTo>
                    <a:pt x="2436" y="3155"/>
                  </a:lnTo>
                  <a:lnTo>
                    <a:pt x="2434" y="3154"/>
                  </a:lnTo>
                  <a:lnTo>
                    <a:pt x="2416" y="3154"/>
                  </a:lnTo>
                  <a:lnTo>
                    <a:pt x="2416" y="3179"/>
                  </a:lnTo>
                  <a:lnTo>
                    <a:pt x="2420" y="3155"/>
                  </a:lnTo>
                  <a:lnTo>
                    <a:pt x="2403" y="3153"/>
                  </a:lnTo>
                  <a:lnTo>
                    <a:pt x="2399" y="3151"/>
                  </a:lnTo>
                  <a:lnTo>
                    <a:pt x="2381" y="3151"/>
                  </a:lnTo>
                  <a:lnTo>
                    <a:pt x="2381" y="3177"/>
                  </a:lnTo>
                  <a:lnTo>
                    <a:pt x="2384" y="3153"/>
                  </a:lnTo>
                  <a:lnTo>
                    <a:pt x="2366" y="3151"/>
                  </a:lnTo>
                  <a:lnTo>
                    <a:pt x="2364" y="3150"/>
                  </a:lnTo>
                  <a:lnTo>
                    <a:pt x="2343" y="3150"/>
                  </a:lnTo>
                  <a:lnTo>
                    <a:pt x="2343" y="3176"/>
                  </a:lnTo>
                  <a:lnTo>
                    <a:pt x="2347" y="3151"/>
                  </a:lnTo>
                  <a:lnTo>
                    <a:pt x="2328" y="3149"/>
                  </a:lnTo>
                  <a:lnTo>
                    <a:pt x="2324" y="3147"/>
                  </a:lnTo>
                  <a:lnTo>
                    <a:pt x="2302" y="3147"/>
                  </a:lnTo>
                  <a:lnTo>
                    <a:pt x="2302" y="3173"/>
                  </a:lnTo>
                  <a:lnTo>
                    <a:pt x="2303" y="3147"/>
                  </a:lnTo>
                  <a:lnTo>
                    <a:pt x="2283" y="3146"/>
                  </a:lnTo>
                  <a:lnTo>
                    <a:pt x="2261" y="3145"/>
                  </a:lnTo>
                  <a:lnTo>
                    <a:pt x="2260" y="3170"/>
                  </a:lnTo>
                  <a:lnTo>
                    <a:pt x="2264" y="3146"/>
                  </a:lnTo>
                  <a:lnTo>
                    <a:pt x="2243" y="3144"/>
                  </a:lnTo>
                  <a:lnTo>
                    <a:pt x="2239" y="3142"/>
                  </a:lnTo>
                  <a:lnTo>
                    <a:pt x="2218" y="3142"/>
                  </a:lnTo>
                  <a:lnTo>
                    <a:pt x="2218" y="3168"/>
                  </a:lnTo>
                  <a:lnTo>
                    <a:pt x="2221" y="3144"/>
                  </a:lnTo>
                  <a:lnTo>
                    <a:pt x="2200" y="3141"/>
                  </a:lnTo>
                  <a:lnTo>
                    <a:pt x="2197" y="3140"/>
                  </a:lnTo>
                  <a:lnTo>
                    <a:pt x="2177" y="3138"/>
                  </a:lnTo>
                  <a:lnTo>
                    <a:pt x="2175" y="3164"/>
                  </a:lnTo>
                  <a:lnTo>
                    <a:pt x="2179" y="3140"/>
                  </a:lnTo>
                  <a:lnTo>
                    <a:pt x="2160" y="3137"/>
                  </a:lnTo>
                  <a:lnTo>
                    <a:pt x="2156" y="3136"/>
                  </a:lnTo>
                  <a:lnTo>
                    <a:pt x="2137" y="3136"/>
                  </a:lnTo>
                  <a:lnTo>
                    <a:pt x="2137" y="3161"/>
                  </a:lnTo>
                  <a:lnTo>
                    <a:pt x="2142" y="3137"/>
                  </a:lnTo>
                  <a:lnTo>
                    <a:pt x="2127" y="3135"/>
                  </a:lnTo>
                  <a:lnTo>
                    <a:pt x="2111" y="3132"/>
                  </a:lnTo>
                  <a:lnTo>
                    <a:pt x="2109" y="3132"/>
                  </a:lnTo>
                  <a:lnTo>
                    <a:pt x="2096" y="3131"/>
                  </a:lnTo>
                  <a:lnTo>
                    <a:pt x="2093" y="3155"/>
                  </a:lnTo>
                  <a:lnTo>
                    <a:pt x="2099" y="3131"/>
                  </a:lnTo>
                  <a:lnTo>
                    <a:pt x="2083" y="3128"/>
                  </a:lnTo>
                  <a:lnTo>
                    <a:pt x="2068" y="3126"/>
                  </a:lnTo>
                  <a:lnTo>
                    <a:pt x="2067" y="3126"/>
                  </a:lnTo>
                  <a:lnTo>
                    <a:pt x="2049" y="3123"/>
                  </a:lnTo>
                  <a:lnTo>
                    <a:pt x="2031" y="3121"/>
                  </a:lnTo>
                  <a:lnTo>
                    <a:pt x="2031" y="3121"/>
                  </a:lnTo>
                  <a:lnTo>
                    <a:pt x="2011" y="3118"/>
                  </a:lnTo>
                  <a:lnTo>
                    <a:pt x="2008" y="3142"/>
                  </a:lnTo>
                  <a:lnTo>
                    <a:pt x="2013" y="3118"/>
                  </a:lnTo>
                  <a:lnTo>
                    <a:pt x="1994" y="3114"/>
                  </a:lnTo>
                  <a:lnTo>
                    <a:pt x="1994" y="3114"/>
                  </a:lnTo>
                  <a:lnTo>
                    <a:pt x="1972" y="3110"/>
                  </a:lnTo>
                  <a:lnTo>
                    <a:pt x="1967" y="3135"/>
                  </a:lnTo>
                  <a:lnTo>
                    <a:pt x="1972" y="3110"/>
                  </a:lnTo>
                  <a:lnTo>
                    <a:pt x="1953" y="3106"/>
                  </a:lnTo>
                  <a:lnTo>
                    <a:pt x="1951" y="3106"/>
                  </a:lnTo>
                  <a:lnTo>
                    <a:pt x="1930" y="3104"/>
                  </a:lnTo>
                  <a:lnTo>
                    <a:pt x="1926" y="3128"/>
                  </a:lnTo>
                  <a:lnTo>
                    <a:pt x="1932" y="3104"/>
                  </a:lnTo>
                  <a:lnTo>
                    <a:pt x="1910" y="3099"/>
                  </a:lnTo>
                  <a:lnTo>
                    <a:pt x="1909" y="3099"/>
                  </a:lnTo>
                  <a:lnTo>
                    <a:pt x="1889" y="3095"/>
                  </a:lnTo>
                  <a:lnTo>
                    <a:pt x="1883" y="3119"/>
                  </a:lnTo>
                  <a:lnTo>
                    <a:pt x="1890" y="3095"/>
                  </a:lnTo>
                  <a:lnTo>
                    <a:pt x="1871" y="3090"/>
                  </a:lnTo>
                  <a:lnTo>
                    <a:pt x="1868" y="3090"/>
                  </a:lnTo>
                  <a:lnTo>
                    <a:pt x="1849" y="3087"/>
                  </a:lnTo>
                  <a:lnTo>
                    <a:pt x="1845" y="3112"/>
                  </a:lnTo>
                  <a:lnTo>
                    <a:pt x="1850" y="3087"/>
                  </a:lnTo>
                  <a:lnTo>
                    <a:pt x="1831" y="3083"/>
                  </a:lnTo>
                  <a:lnTo>
                    <a:pt x="1826" y="3108"/>
                  </a:lnTo>
                  <a:lnTo>
                    <a:pt x="1832" y="3083"/>
                  </a:lnTo>
                  <a:lnTo>
                    <a:pt x="1816" y="3080"/>
                  </a:lnTo>
                  <a:lnTo>
                    <a:pt x="1809" y="3104"/>
                  </a:lnTo>
                  <a:lnTo>
                    <a:pt x="1818" y="3081"/>
                  </a:lnTo>
                  <a:lnTo>
                    <a:pt x="1803" y="3076"/>
                  </a:lnTo>
                  <a:lnTo>
                    <a:pt x="1800" y="3074"/>
                  </a:lnTo>
                  <a:lnTo>
                    <a:pt x="1784" y="3071"/>
                  </a:lnTo>
                  <a:lnTo>
                    <a:pt x="1777" y="3095"/>
                  </a:lnTo>
                  <a:lnTo>
                    <a:pt x="1785" y="3071"/>
                  </a:lnTo>
                  <a:lnTo>
                    <a:pt x="1768" y="3066"/>
                  </a:lnTo>
                  <a:lnTo>
                    <a:pt x="1767" y="3066"/>
                  </a:lnTo>
                  <a:lnTo>
                    <a:pt x="1748" y="3060"/>
                  </a:lnTo>
                  <a:lnTo>
                    <a:pt x="1748" y="3060"/>
                  </a:lnTo>
                  <a:lnTo>
                    <a:pt x="1731" y="3057"/>
                  </a:lnTo>
                  <a:lnTo>
                    <a:pt x="1725" y="3081"/>
                  </a:lnTo>
                  <a:lnTo>
                    <a:pt x="1731" y="3057"/>
                  </a:lnTo>
                  <a:lnTo>
                    <a:pt x="1712" y="3051"/>
                  </a:lnTo>
                  <a:lnTo>
                    <a:pt x="1706" y="3076"/>
                  </a:lnTo>
                  <a:lnTo>
                    <a:pt x="1714" y="3053"/>
                  </a:lnTo>
                  <a:lnTo>
                    <a:pt x="1695" y="3046"/>
                  </a:lnTo>
                  <a:lnTo>
                    <a:pt x="1694" y="3045"/>
                  </a:lnTo>
                  <a:lnTo>
                    <a:pt x="1676" y="3040"/>
                  </a:lnTo>
                  <a:lnTo>
                    <a:pt x="1668" y="3064"/>
                  </a:lnTo>
                  <a:lnTo>
                    <a:pt x="1679" y="3041"/>
                  </a:lnTo>
                  <a:lnTo>
                    <a:pt x="1661" y="3034"/>
                  </a:lnTo>
                  <a:lnTo>
                    <a:pt x="1656" y="3032"/>
                  </a:lnTo>
                  <a:lnTo>
                    <a:pt x="1636" y="3028"/>
                  </a:lnTo>
                  <a:lnTo>
                    <a:pt x="1631" y="3053"/>
                  </a:lnTo>
                  <a:lnTo>
                    <a:pt x="1639" y="3028"/>
                  </a:lnTo>
                  <a:lnTo>
                    <a:pt x="1621" y="3023"/>
                  </a:lnTo>
                  <a:lnTo>
                    <a:pt x="1613" y="3048"/>
                  </a:lnTo>
                  <a:lnTo>
                    <a:pt x="1621" y="3023"/>
                  </a:lnTo>
                  <a:lnTo>
                    <a:pt x="1604" y="3018"/>
                  </a:lnTo>
                  <a:lnTo>
                    <a:pt x="1597" y="3042"/>
                  </a:lnTo>
                  <a:lnTo>
                    <a:pt x="1608" y="3019"/>
                  </a:lnTo>
                  <a:lnTo>
                    <a:pt x="1592" y="3012"/>
                  </a:lnTo>
                  <a:lnTo>
                    <a:pt x="1586" y="3010"/>
                  </a:lnTo>
                  <a:lnTo>
                    <a:pt x="1571" y="3007"/>
                  </a:lnTo>
                  <a:lnTo>
                    <a:pt x="1565" y="3031"/>
                  </a:lnTo>
                  <a:lnTo>
                    <a:pt x="1574" y="3008"/>
                  </a:lnTo>
                  <a:lnTo>
                    <a:pt x="1560" y="3003"/>
                  </a:lnTo>
                  <a:lnTo>
                    <a:pt x="1551" y="3026"/>
                  </a:lnTo>
                  <a:lnTo>
                    <a:pt x="1561" y="3003"/>
                  </a:lnTo>
                  <a:lnTo>
                    <a:pt x="1548" y="2998"/>
                  </a:lnTo>
                  <a:lnTo>
                    <a:pt x="1538" y="3021"/>
                  </a:lnTo>
                  <a:lnTo>
                    <a:pt x="1548" y="2998"/>
                  </a:lnTo>
                  <a:lnTo>
                    <a:pt x="1539" y="2994"/>
                  </a:lnTo>
                  <a:lnTo>
                    <a:pt x="1535" y="2993"/>
                  </a:lnTo>
                  <a:lnTo>
                    <a:pt x="1524" y="2990"/>
                  </a:lnTo>
                  <a:lnTo>
                    <a:pt x="1517" y="3014"/>
                  </a:lnTo>
                  <a:lnTo>
                    <a:pt x="1529" y="2993"/>
                  </a:lnTo>
                  <a:lnTo>
                    <a:pt x="1519" y="2987"/>
                  </a:lnTo>
                  <a:lnTo>
                    <a:pt x="1517" y="2986"/>
                  </a:lnTo>
                  <a:lnTo>
                    <a:pt x="1505" y="2981"/>
                  </a:lnTo>
                  <a:lnTo>
                    <a:pt x="1494" y="3004"/>
                  </a:lnTo>
                  <a:lnTo>
                    <a:pt x="1507" y="2982"/>
                  </a:lnTo>
                  <a:lnTo>
                    <a:pt x="1498" y="2977"/>
                  </a:lnTo>
                  <a:lnTo>
                    <a:pt x="1493" y="2975"/>
                  </a:lnTo>
                  <a:lnTo>
                    <a:pt x="1480" y="2971"/>
                  </a:lnTo>
                  <a:lnTo>
                    <a:pt x="1473" y="2995"/>
                  </a:lnTo>
                  <a:lnTo>
                    <a:pt x="1484" y="2973"/>
                  </a:lnTo>
                  <a:lnTo>
                    <a:pt x="1474" y="2968"/>
                  </a:lnTo>
                  <a:lnTo>
                    <a:pt x="1473" y="2967"/>
                  </a:lnTo>
                  <a:lnTo>
                    <a:pt x="1461" y="2962"/>
                  </a:lnTo>
                  <a:lnTo>
                    <a:pt x="1451" y="2985"/>
                  </a:lnTo>
                  <a:lnTo>
                    <a:pt x="1465" y="2964"/>
                  </a:lnTo>
                  <a:lnTo>
                    <a:pt x="1455" y="2958"/>
                  </a:lnTo>
                  <a:lnTo>
                    <a:pt x="1449" y="2955"/>
                  </a:lnTo>
                  <a:lnTo>
                    <a:pt x="1438" y="2952"/>
                  </a:lnTo>
                  <a:lnTo>
                    <a:pt x="1429" y="2975"/>
                  </a:lnTo>
                  <a:lnTo>
                    <a:pt x="1442" y="2953"/>
                  </a:lnTo>
                  <a:lnTo>
                    <a:pt x="1433" y="2948"/>
                  </a:lnTo>
                  <a:lnTo>
                    <a:pt x="1429" y="2946"/>
                  </a:lnTo>
                  <a:lnTo>
                    <a:pt x="1419" y="2943"/>
                  </a:lnTo>
                  <a:lnTo>
                    <a:pt x="1410" y="2966"/>
                  </a:lnTo>
                  <a:lnTo>
                    <a:pt x="1423" y="2944"/>
                  </a:lnTo>
                  <a:lnTo>
                    <a:pt x="1414" y="2939"/>
                  </a:lnTo>
                  <a:lnTo>
                    <a:pt x="1411" y="2938"/>
                  </a:lnTo>
                  <a:lnTo>
                    <a:pt x="1402" y="2934"/>
                  </a:lnTo>
                  <a:lnTo>
                    <a:pt x="1392" y="2957"/>
                  </a:lnTo>
                  <a:lnTo>
                    <a:pt x="1405" y="2935"/>
                  </a:lnTo>
                  <a:lnTo>
                    <a:pt x="1398" y="2931"/>
                  </a:lnTo>
                  <a:lnTo>
                    <a:pt x="1396" y="2930"/>
                  </a:lnTo>
                  <a:lnTo>
                    <a:pt x="1389" y="2927"/>
                  </a:lnTo>
                  <a:lnTo>
                    <a:pt x="1379" y="2950"/>
                  </a:lnTo>
                  <a:lnTo>
                    <a:pt x="1400" y="2935"/>
                  </a:lnTo>
                  <a:lnTo>
                    <a:pt x="1396" y="2930"/>
                  </a:lnTo>
                  <a:lnTo>
                    <a:pt x="1393" y="2927"/>
                  </a:lnTo>
                  <a:lnTo>
                    <a:pt x="1385" y="2922"/>
                  </a:lnTo>
                  <a:lnTo>
                    <a:pt x="1385" y="2922"/>
                  </a:lnTo>
                  <a:lnTo>
                    <a:pt x="1379" y="2920"/>
                  </a:lnTo>
                  <a:lnTo>
                    <a:pt x="1369" y="2943"/>
                  </a:lnTo>
                  <a:lnTo>
                    <a:pt x="1384" y="2923"/>
                  </a:lnTo>
                  <a:lnTo>
                    <a:pt x="1378" y="2918"/>
                  </a:lnTo>
                  <a:lnTo>
                    <a:pt x="1375" y="2916"/>
                  </a:lnTo>
                  <a:lnTo>
                    <a:pt x="1366" y="2911"/>
                  </a:lnTo>
                  <a:lnTo>
                    <a:pt x="1353" y="2932"/>
                  </a:lnTo>
                  <a:lnTo>
                    <a:pt x="1371" y="2914"/>
                  </a:lnTo>
                  <a:lnTo>
                    <a:pt x="1364" y="2907"/>
                  </a:lnTo>
                  <a:lnTo>
                    <a:pt x="1360" y="2904"/>
                  </a:lnTo>
                  <a:lnTo>
                    <a:pt x="1348" y="2897"/>
                  </a:lnTo>
                  <a:lnTo>
                    <a:pt x="1334" y="2917"/>
                  </a:lnTo>
                  <a:lnTo>
                    <a:pt x="1350" y="2897"/>
                  </a:lnTo>
                  <a:lnTo>
                    <a:pt x="1339" y="2889"/>
                  </a:lnTo>
                  <a:lnTo>
                    <a:pt x="1324" y="2909"/>
                  </a:lnTo>
                  <a:lnTo>
                    <a:pt x="1339" y="2890"/>
                  </a:lnTo>
                  <a:lnTo>
                    <a:pt x="1327" y="2880"/>
                  </a:lnTo>
                  <a:lnTo>
                    <a:pt x="1315" y="2871"/>
                  </a:lnTo>
                  <a:lnTo>
                    <a:pt x="1314" y="2870"/>
                  </a:lnTo>
                  <a:lnTo>
                    <a:pt x="1300" y="2861"/>
                  </a:lnTo>
                  <a:lnTo>
                    <a:pt x="1286" y="2881"/>
                  </a:lnTo>
                  <a:lnTo>
                    <a:pt x="1301" y="2861"/>
                  </a:lnTo>
                  <a:lnTo>
                    <a:pt x="1287" y="2850"/>
                  </a:lnTo>
                  <a:lnTo>
                    <a:pt x="1273" y="2840"/>
                  </a:lnTo>
                  <a:lnTo>
                    <a:pt x="1257" y="2861"/>
                  </a:lnTo>
                  <a:lnTo>
                    <a:pt x="1273" y="2842"/>
                  </a:lnTo>
                  <a:lnTo>
                    <a:pt x="1260" y="2831"/>
                  </a:lnTo>
                  <a:lnTo>
                    <a:pt x="1260" y="2830"/>
                  </a:lnTo>
                  <a:lnTo>
                    <a:pt x="1246" y="2820"/>
                  </a:lnTo>
                  <a:lnTo>
                    <a:pt x="1232" y="2810"/>
                  </a:lnTo>
                  <a:lnTo>
                    <a:pt x="1218" y="2799"/>
                  </a:lnTo>
                  <a:lnTo>
                    <a:pt x="1202" y="2820"/>
                  </a:lnTo>
                  <a:lnTo>
                    <a:pt x="1220" y="2802"/>
                  </a:lnTo>
                  <a:lnTo>
                    <a:pt x="1209" y="2790"/>
                  </a:lnTo>
                  <a:lnTo>
                    <a:pt x="1204" y="2787"/>
                  </a:lnTo>
                  <a:lnTo>
                    <a:pt x="1188" y="2778"/>
                  </a:lnTo>
                  <a:lnTo>
                    <a:pt x="1176" y="2799"/>
                  </a:lnTo>
                  <a:lnTo>
                    <a:pt x="1193" y="2781"/>
                  </a:lnTo>
                  <a:lnTo>
                    <a:pt x="1179" y="2769"/>
                  </a:lnTo>
                  <a:lnTo>
                    <a:pt x="1178" y="2767"/>
                  </a:lnTo>
                  <a:lnTo>
                    <a:pt x="1161" y="2753"/>
                  </a:lnTo>
                  <a:lnTo>
                    <a:pt x="1145" y="2772"/>
                  </a:lnTo>
                  <a:lnTo>
                    <a:pt x="1163" y="2755"/>
                  </a:lnTo>
                  <a:lnTo>
                    <a:pt x="1146" y="2738"/>
                  </a:lnTo>
                  <a:lnTo>
                    <a:pt x="1145" y="2737"/>
                  </a:lnTo>
                  <a:lnTo>
                    <a:pt x="1127" y="2721"/>
                  </a:lnTo>
                  <a:lnTo>
                    <a:pt x="1110" y="2740"/>
                  </a:lnTo>
                  <a:lnTo>
                    <a:pt x="1128" y="2723"/>
                  </a:lnTo>
                  <a:lnTo>
                    <a:pt x="1110" y="2705"/>
                  </a:lnTo>
                  <a:lnTo>
                    <a:pt x="1091" y="2685"/>
                  </a:lnTo>
                  <a:lnTo>
                    <a:pt x="1072" y="2666"/>
                  </a:lnTo>
                  <a:lnTo>
                    <a:pt x="1054" y="2684"/>
                  </a:lnTo>
                  <a:lnTo>
                    <a:pt x="1073" y="2667"/>
                  </a:lnTo>
                  <a:lnTo>
                    <a:pt x="1055" y="2648"/>
                  </a:lnTo>
                  <a:lnTo>
                    <a:pt x="1054" y="2647"/>
                  </a:lnTo>
                  <a:lnTo>
                    <a:pt x="1033" y="2628"/>
                  </a:lnTo>
                  <a:lnTo>
                    <a:pt x="1015" y="2646"/>
                  </a:lnTo>
                  <a:lnTo>
                    <a:pt x="1035" y="2629"/>
                  </a:lnTo>
                  <a:lnTo>
                    <a:pt x="1017" y="2610"/>
                  </a:lnTo>
                  <a:lnTo>
                    <a:pt x="999" y="2591"/>
                  </a:lnTo>
                  <a:lnTo>
                    <a:pt x="998" y="2589"/>
                  </a:lnTo>
                  <a:lnTo>
                    <a:pt x="980" y="2572"/>
                  </a:lnTo>
                  <a:lnTo>
                    <a:pt x="962" y="2589"/>
                  </a:lnTo>
                  <a:lnTo>
                    <a:pt x="982" y="2574"/>
                  </a:lnTo>
                  <a:lnTo>
                    <a:pt x="967" y="2555"/>
                  </a:lnTo>
                  <a:lnTo>
                    <a:pt x="966" y="2554"/>
                  </a:lnTo>
                  <a:lnTo>
                    <a:pt x="950" y="2537"/>
                  </a:lnTo>
                  <a:lnTo>
                    <a:pt x="931" y="2554"/>
                  </a:lnTo>
                  <a:lnTo>
                    <a:pt x="951" y="2538"/>
                  </a:lnTo>
                  <a:lnTo>
                    <a:pt x="939" y="2522"/>
                  </a:lnTo>
                  <a:lnTo>
                    <a:pt x="937" y="2520"/>
                  </a:lnTo>
                  <a:lnTo>
                    <a:pt x="923" y="2505"/>
                  </a:lnTo>
                  <a:lnTo>
                    <a:pt x="904" y="2522"/>
                  </a:lnTo>
                  <a:lnTo>
                    <a:pt x="925" y="2508"/>
                  </a:lnTo>
                  <a:lnTo>
                    <a:pt x="911" y="2488"/>
                  </a:lnTo>
                  <a:lnTo>
                    <a:pt x="911" y="2487"/>
                  </a:lnTo>
                  <a:lnTo>
                    <a:pt x="895" y="2468"/>
                  </a:lnTo>
                  <a:lnTo>
                    <a:pt x="875" y="2483"/>
                  </a:lnTo>
                  <a:lnTo>
                    <a:pt x="896" y="2470"/>
                  </a:lnTo>
                  <a:lnTo>
                    <a:pt x="882" y="2449"/>
                  </a:lnTo>
                  <a:lnTo>
                    <a:pt x="881" y="2446"/>
                  </a:lnTo>
                  <a:lnTo>
                    <a:pt x="864" y="2424"/>
                  </a:lnTo>
                  <a:lnTo>
                    <a:pt x="844" y="2440"/>
                  </a:lnTo>
                  <a:lnTo>
                    <a:pt x="866" y="2426"/>
                  </a:lnTo>
                  <a:lnTo>
                    <a:pt x="850" y="2403"/>
                  </a:lnTo>
                  <a:lnTo>
                    <a:pt x="849" y="2403"/>
                  </a:lnTo>
                  <a:lnTo>
                    <a:pt x="832" y="2378"/>
                  </a:lnTo>
                  <a:lnTo>
                    <a:pt x="812" y="2392"/>
                  </a:lnTo>
                  <a:lnTo>
                    <a:pt x="834" y="2380"/>
                  </a:lnTo>
                  <a:lnTo>
                    <a:pt x="820" y="2357"/>
                  </a:lnTo>
                  <a:lnTo>
                    <a:pt x="818" y="2355"/>
                  </a:lnTo>
                  <a:lnTo>
                    <a:pt x="803" y="2333"/>
                  </a:lnTo>
                  <a:lnTo>
                    <a:pt x="783" y="2348"/>
                  </a:lnTo>
                  <a:lnTo>
                    <a:pt x="804" y="2335"/>
                  </a:lnTo>
                  <a:lnTo>
                    <a:pt x="789" y="2310"/>
                  </a:lnTo>
                  <a:lnTo>
                    <a:pt x="767" y="2323"/>
                  </a:lnTo>
                  <a:lnTo>
                    <a:pt x="789" y="2310"/>
                  </a:lnTo>
                  <a:lnTo>
                    <a:pt x="775" y="2287"/>
                  </a:lnTo>
                  <a:lnTo>
                    <a:pt x="753" y="2300"/>
                  </a:lnTo>
                  <a:lnTo>
                    <a:pt x="776" y="2289"/>
                  </a:lnTo>
                  <a:lnTo>
                    <a:pt x="765" y="2266"/>
                  </a:lnTo>
                  <a:lnTo>
                    <a:pt x="763" y="2263"/>
                  </a:lnTo>
                  <a:lnTo>
                    <a:pt x="751" y="2244"/>
                  </a:lnTo>
                  <a:lnTo>
                    <a:pt x="729" y="2258"/>
                  </a:lnTo>
                  <a:lnTo>
                    <a:pt x="752" y="2248"/>
                  </a:lnTo>
                  <a:lnTo>
                    <a:pt x="742" y="2226"/>
                  </a:lnTo>
                  <a:lnTo>
                    <a:pt x="740" y="2223"/>
                  </a:lnTo>
                  <a:lnTo>
                    <a:pt x="730" y="2205"/>
                  </a:lnTo>
                  <a:lnTo>
                    <a:pt x="708" y="2218"/>
                  </a:lnTo>
                  <a:lnTo>
                    <a:pt x="733" y="2208"/>
                  </a:lnTo>
                  <a:lnTo>
                    <a:pt x="725" y="2190"/>
                  </a:lnTo>
                  <a:lnTo>
                    <a:pt x="722" y="2188"/>
                  </a:lnTo>
                  <a:lnTo>
                    <a:pt x="713" y="2172"/>
                  </a:lnTo>
                  <a:lnTo>
                    <a:pt x="692" y="2185"/>
                  </a:lnTo>
                  <a:lnTo>
                    <a:pt x="715" y="2175"/>
                  </a:lnTo>
                  <a:lnTo>
                    <a:pt x="706" y="2154"/>
                  </a:lnTo>
                  <a:lnTo>
                    <a:pt x="706" y="2153"/>
                  </a:lnTo>
                  <a:lnTo>
                    <a:pt x="694" y="2130"/>
                  </a:lnTo>
                  <a:lnTo>
                    <a:pt x="671" y="2142"/>
                  </a:lnTo>
                  <a:lnTo>
                    <a:pt x="695" y="2133"/>
                  </a:lnTo>
                  <a:lnTo>
                    <a:pt x="685" y="2107"/>
                  </a:lnTo>
                  <a:lnTo>
                    <a:pt x="684" y="2104"/>
                  </a:lnTo>
                  <a:lnTo>
                    <a:pt x="671" y="2079"/>
                  </a:lnTo>
                  <a:lnTo>
                    <a:pt x="648" y="2090"/>
                  </a:lnTo>
                  <a:lnTo>
                    <a:pt x="672" y="2081"/>
                  </a:lnTo>
                  <a:lnTo>
                    <a:pt x="661" y="2053"/>
                  </a:lnTo>
                  <a:lnTo>
                    <a:pt x="660" y="2051"/>
                  </a:lnTo>
                  <a:lnTo>
                    <a:pt x="646" y="2022"/>
                  </a:lnTo>
                  <a:lnTo>
                    <a:pt x="622" y="2034"/>
                  </a:lnTo>
                  <a:lnTo>
                    <a:pt x="647" y="2025"/>
                  </a:lnTo>
                  <a:lnTo>
                    <a:pt x="635" y="1993"/>
                  </a:lnTo>
                  <a:lnTo>
                    <a:pt x="634" y="1990"/>
                  </a:lnTo>
                  <a:lnTo>
                    <a:pt x="619" y="1961"/>
                  </a:lnTo>
                  <a:lnTo>
                    <a:pt x="596" y="1973"/>
                  </a:lnTo>
                  <a:lnTo>
                    <a:pt x="620" y="1962"/>
                  </a:lnTo>
                  <a:lnTo>
                    <a:pt x="607" y="1932"/>
                  </a:lnTo>
                  <a:lnTo>
                    <a:pt x="606" y="1930"/>
                  </a:lnTo>
                  <a:lnTo>
                    <a:pt x="590" y="1900"/>
                  </a:lnTo>
                  <a:lnTo>
                    <a:pt x="567" y="1911"/>
                  </a:lnTo>
                  <a:lnTo>
                    <a:pt x="592" y="1902"/>
                  </a:lnTo>
                  <a:lnTo>
                    <a:pt x="580" y="1871"/>
                  </a:lnTo>
                  <a:lnTo>
                    <a:pt x="579" y="1870"/>
                  </a:lnTo>
                  <a:lnTo>
                    <a:pt x="565" y="1841"/>
                  </a:lnTo>
                  <a:lnTo>
                    <a:pt x="542" y="1851"/>
                  </a:lnTo>
                  <a:lnTo>
                    <a:pt x="566" y="1842"/>
                  </a:lnTo>
                  <a:lnTo>
                    <a:pt x="555" y="1813"/>
                  </a:lnTo>
                  <a:lnTo>
                    <a:pt x="555" y="1811"/>
                  </a:lnTo>
                  <a:lnTo>
                    <a:pt x="543" y="1784"/>
                  </a:lnTo>
                  <a:lnTo>
                    <a:pt x="519" y="1795"/>
                  </a:lnTo>
                  <a:lnTo>
                    <a:pt x="543" y="1786"/>
                  </a:lnTo>
                  <a:lnTo>
                    <a:pt x="533" y="1759"/>
                  </a:lnTo>
                  <a:lnTo>
                    <a:pt x="532" y="1758"/>
                  </a:lnTo>
                  <a:lnTo>
                    <a:pt x="520" y="1732"/>
                  </a:lnTo>
                  <a:lnTo>
                    <a:pt x="497" y="1742"/>
                  </a:lnTo>
                  <a:lnTo>
                    <a:pt x="521" y="1733"/>
                  </a:lnTo>
                  <a:lnTo>
                    <a:pt x="510" y="1705"/>
                  </a:lnTo>
                  <a:lnTo>
                    <a:pt x="509" y="1704"/>
                  </a:lnTo>
                  <a:lnTo>
                    <a:pt x="494" y="1674"/>
                  </a:lnTo>
                  <a:lnTo>
                    <a:pt x="471" y="1685"/>
                  </a:lnTo>
                  <a:lnTo>
                    <a:pt x="496" y="1676"/>
                  </a:lnTo>
                  <a:lnTo>
                    <a:pt x="484" y="1645"/>
                  </a:lnTo>
                  <a:lnTo>
                    <a:pt x="483" y="1642"/>
                  </a:lnTo>
                  <a:lnTo>
                    <a:pt x="468" y="1612"/>
                  </a:lnTo>
                  <a:lnTo>
                    <a:pt x="445" y="1623"/>
                  </a:lnTo>
                  <a:lnTo>
                    <a:pt x="469" y="1614"/>
                  </a:lnTo>
                  <a:lnTo>
                    <a:pt x="456" y="1581"/>
                  </a:lnTo>
                  <a:lnTo>
                    <a:pt x="455" y="1580"/>
                  </a:lnTo>
                  <a:lnTo>
                    <a:pt x="439" y="1546"/>
                  </a:lnTo>
                  <a:lnTo>
                    <a:pt x="416" y="1557"/>
                  </a:lnTo>
                  <a:lnTo>
                    <a:pt x="441" y="1549"/>
                  </a:lnTo>
                  <a:lnTo>
                    <a:pt x="429" y="1516"/>
                  </a:lnTo>
                  <a:lnTo>
                    <a:pt x="428" y="1513"/>
                  </a:lnTo>
                  <a:lnTo>
                    <a:pt x="414" y="1481"/>
                  </a:lnTo>
                  <a:lnTo>
                    <a:pt x="391" y="1491"/>
                  </a:lnTo>
                  <a:lnTo>
                    <a:pt x="415" y="1482"/>
                  </a:lnTo>
                  <a:lnTo>
                    <a:pt x="402" y="1450"/>
                  </a:lnTo>
                  <a:lnTo>
                    <a:pt x="402" y="1449"/>
                  </a:lnTo>
                  <a:lnTo>
                    <a:pt x="389" y="1420"/>
                  </a:lnTo>
                  <a:lnTo>
                    <a:pt x="377" y="1389"/>
                  </a:lnTo>
                  <a:lnTo>
                    <a:pt x="365" y="1362"/>
                  </a:lnTo>
                  <a:lnTo>
                    <a:pt x="341" y="1372"/>
                  </a:lnTo>
                  <a:lnTo>
                    <a:pt x="365" y="1363"/>
                  </a:lnTo>
                  <a:lnTo>
                    <a:pt x="356" y="1339"/>
                  </a:lnTo>
                  <a:lnTo>
                    <a:pt x="347" y="1315"/>
                  </a:lnTo>
                  <a:lnTo>
                    <a:pt x="340" y="1294"/>
                  </a:lnTo>
                  <a:lnTo>
                    <a:pt x="338" y="1293"/>
                  </a:lnTo>
                  <a:lnTo>
                    <a:pt x="329" y="1274"/>
                  </a:lnTo>
                  <a:lnTo>
                    <a:pt x="306" y="1284"/>
                  </a:lnTo>
                  <a:lnTo>
                    <a:pt x="331" y="1276"/>
                  </a:lnTo>
                  <a:lnTo>
                    <a:pt x="322" y="1251"/>
                  </a:lnTo>
                  <a:lnTo>
                    <a:pt x="311" y="1221"/>
                  </a:lnTo>
                  <a:lnTo>
                    <a:pt x="287" y="1229"/>
                  </a:lnTo>
                  <a:lnTo>
                    <a:pt x="311" y="1221"/>
                  </a:lnTo>
                  <a:lnTo>
                    <a:pt x="301" y="1189"/>
                  </a:lnTo>
                  <a:lnTo>
                    <a:pt x="301" y="1189"/>
                  </a:lnTo>
                  <a:lnTo>
                    <a:pt x="290" y="1155"/>
                  </a:lnTo>
                  <a:lnTo>
                    <a:pt x="265" y="1162"/>
                  </a:lnTo>
                  <a:lnTo>
                    <a:pt x="290" y="1155"/>
                  </a:lnTo>
                  <a:lnTo>
                    <a:pt x="278" y="1116"/>
                  </a:lnTo>
                  <a:lnTo>
                    <a:pt x="254" y="1124"/>
                  </a:lnTo>
                  <a:lnTo>
                    <a:pt x="278" y="1118"/>
                  </a:lnTo>
                  <a:lnTo>
                    <a:pt x="267" y="1078"/>
                  </a:lnTo>
                  <a:lnTo>
                    <a:pt x="242" y="1084"/>
                  </a:lnTo>
                  <a:lnTo>
                    <a:pt x="267" y="1079"/>
                  </a:lnTo>
                  <a:lnTo>
                    <a:pt x="256" y="1036"/>
                  </a:lnTo>
                  <a:lnTo>
                    <a:pt x="256" y="1033"/>
                  </a:lnTo>
                  <a:lnTo>
                    <a:pt x="244" y="991"/>
                  </a:lnTo>
                  <a:lnTo>
                    <a:pt x="219" y="999"/>
                  </a:lnTo>
                  <a:lnTo>
                    <a:pt x="244" y="992"/>
                  </a:lnTo>
                  <a:lnTo>
                    <a:pt x="232" y="949"/>
                  </a:lnTo>
                  <a:lnTo>
                    <a:pt x="221" y="905"/>
                  </a:lnTo>
                  <a:lnTo>
                    <a:pt x="196" y="912"/>
                  </a:lnTo>
                  <a:lnTo>
                    <a:pt x="221" y="907"/>
                  </a:lnTo>
                  <a:lnTo>
                    <a:pt x="210" y="863"/>
                  </a:lnTo>
                  <a:lnTo>
                    <a:pt x="210" y="860"/>
                  </a:lnTo>
                  <a:lnTo>
                    <a:pt x="197" y="818"/>
                  </a:lnTo>
                  <a:lnTo>
                    <a:pt x="173" y="826"/>
                  </a:lnTo>
                  <a:lnTo>
                    <a:pt x="197" y="821"/>
                  </a:lnTo>
                  <a:lnTo>
                    <a:pt x="189" y="779"/>
                  </a:lnTo>
                  <a:lnTo>
                    <a:pt x="189" y="777"/>
                  </a:lnTo>
                  <a:lnTo>
                    <a:pt x="178" y="738"/>
                  </a:lnTo>
                  <a:lnTo>
                    <a:pt x="154" y="744"/>
                  </a:lnTo>
                  <a:lnTo>
                    <a:pt x="180" y="740"/>
                  </a:lnTo>
                  <a:lnTo>
                    <a:pt x="173" y="700"/>
                  </a:lnTo>
                  <a:lnTo>
                    <a:pt x="172" y="698"/>
                  </a:lnTo>
                  <a:lnTo>
                    <a:pt x="162" y="661"/>
                  </a:lnTo>
                  <a:lnTo>
                    <a:pt x="137" y="667"/>
                  </a:lnTo>
                  <a:lnTo>
                    <a:pt x="162" y="662"/>
                  </a:lnTo>
                  <a:lnTo>
                    <a:pt x="153" y="621"/>
                  </a:lnTo>
                  <a:lnTo>
                    <a:pt x="153" y="621"/>
                  </a:lnTo>
                  <a:lnTo>
                    <a:pt x="144" y="581"/>
                  </a:lnTo>
                  <a:lnTo>
                    <a:pt x="119" y="587"/>
                  </a:lnTo>
                  <a:lnTo>
                    <a:pt x="145" y="583"/>
                  </a:lnTo>
                  <a:lnTo>
                    <a:pt x="137" y="541"/>
                  </a:lnTo>
                  <a:lnTo>
                    <a:pt x="136" y="538"/>
                  </a:lnTo>
                  <a:lnTo>
                    <a:pt x="126" y="497"/>
                  </a:lnTo>
                  <a:lnTo>
                    <a:pt x="101" y="503"/>
                  </a:lnTo>
                  <a:lnTo>
                    <a:pt x="127" y="500"/>
                  </a:lnTo>
                  <a:lnTo>
                    <a:pt x="121" y="457"/>
                  </a:lnTo>
                  <a:lnTo>
                    <a:pt x="119" y="456"/>
                  </a:lnTo>
                  <a:lnTo>
                    <a:pt x="112" y="416"/>
                  </a:lnTo>
                  <a:lnTo>
                    <a:pt x="87" y="421"/>
                  </a:lnTo>
                  <a:lnTo>
                    <a:pt x="113" y="418"/>
                  </a:lnTo>
                  <a:lnTo>
                    <a:pt x="105" y="377"/>
                  </a:lnTo>
                  <a:lnTo>
                    <a:pt x="104" y="375"/>
                  </a:lnTo>
                  <a:lnTo>
                    <a:pt x="96" y="340"/>
                  </a:lnTo>
                  <a:lnTo>
                    <a:pt x="89" y="302"/>
                  </a:lnTo>
                  <a:lnTo>
                    <a:pt x="64" y="308"/>
                  </a:lnTo>
                  <a:lnTo>
                    <a:pt x="90" y="304"/>
                  </a:lnTo>
                  <a:lnTo>
                    <a:pt x="84" y="270"/>
                  </a:lnTo>
                  <a:lnTo>
                    <a:pt x="58" y="274"/>
                  </a:lnTo>
                  <a:lnTo>
                    <a:pt x="84" y="270"/>
                  </a:lnTo>
                  <a:lnTo>
                    <a:pt x="78" y="238"/>
                  </a:lnTo>
                  <a:lnTo>
                    <a:pt x="53" y="242"/>
                  </a:lnTo>
                  <a:lnTo>
                    <a:pt x="78" y="240"/>
                  </a:lnTo>
                  <a:lnTo>
                    <a:pt x="75" y="212"/>
                  </a:lnTo>
                  <a:lnTo>
                    <a:pt x="75" y="210"/>
                  </a:lnTo>
                  <a:lnTo>
                    <a:pt x="71" y="186"/>
                  </a:lnTo>
                  <a:lnTo>
                    <a:pt x="45" y="190"/>
                  </a:lnTo>
                  <a:lnTo>
                    <a:pt x="71" y="187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6" y="148"/>
                  </a:lnTo>
                  <a:lnTo>
                    <a:pt x="40" y="151"/>
                  </a:lnTo>
                  <a:lnTo>
                    <a:pt x="66" y="149"/>
                  </a:lnTo>
                  <a:lnTo>
                    <a:pt x="64" y="137"/>
                  </a:lnTo>
                  <a:lnTo>
                    <a:pt x="64" y="137"/>
                  </a:lnTo>
                  <a:lnTo>
                    <a:pt x="63" y="127"/>
                  </a:lnTo>
                  <a:lnTo>
                    <a:pt x="37" y="130"/>
                  </a:lnTo>
                  <a:lnTo>
                    <a:pt x="63" y="130"/>
                  </a:lnTo>
                  <a:lnTo>
                    <a:pt x="63" y="125"/>
                  </a:lnTo>
                  <a:lnTo>
                    <a:pt x="63" y="117"/>
                  </a:lnTo>
                  <a:lnTo>
                    <a:pt x="63" y="117"/>
                  </a:lnTo>
                  <a:lnTo>
                    <a:pt x="60" y="107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3" y="96"/>
                  </a:lnTo>
                  <a:lnTo>
                    <a:pt x="60" y="114"/>
                  </a:lnTo>
                  <a:lnTo>
                    <a:pt x="58" y="104"/>
                  </a:lnTo>
                  <a:lnTo>
                    <a:pt x="53" y="96"/>
                  </a:lnTo>
                  <a:lnTo>
                    <a:pt x="35" y="114"/>
                  </a:lnTo>
                  <a:lnTo>
                    <a:pt x="60" y="114"/>
                  </a:lnTo>
                  <a:lnTo>
                    <a:pt x="60" y="112"/>
                  </a:lnTo>
                  <a:lnTo>
                    <a:pt x="60" y="109"/>
                  </a:lnTo>
                  <a:lnTo>
                    <a:pt x="60" y="104"/>
                  </a:lnTo>
                  <a:lnTo>
                    <a:pt x="60" y="104"/>
                  </a:lnTo>
                  <a:lnTo>
                    <a:pt x="58" y="94"/>
                  </a:lnTo>
                  <a:lnTo>
                    <a:pt x="53" y="86"/>
                  </a:lnTo>
                  <a:lnTo>
                    <a:pt x="53" y="86"/>
                  </a:lnTo>
                  <a:lnTo>
                    <a:pt x="50" y="84"/>
                  </a:lnTo>
                  <a:lnTo>
                    <a:pt x="58" y="102"/>
                  </a:lnTo>
                  <a:lnTo>
                    <a:pt x="55" y="91"/>
                  </a:lnTo>
                  <a:lnTo>
                    <a:pt x="50" y="84"/>
                  </a:lnTo>
                  <a:lnTo>
                    <a:pt x="32" y="102"/>
                  </a:lnTo>
                  <a:lnTo>
                    <a:pt x="58" y="102"/>
                  </a:lnTo>
                  <a:lnTo>
                    <a:pt x="58" y="96"/>
                  </a:lnTo>
                  <a:lnTo>
                    <a:pt x="58" y="89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7" y="72"/>
                  </a:lnTo>
                  <a:lnTo>
                    <a:pt x="54" y="61"/>
                  </a:lnTo>
                  <a:lnTo>
                    <a:pt x="30" y="66"/>
                  </a:lnTo>
                  <a:lnTo>
                    <a:pt x="55" y="64"/>
                  </a:lnTo>
                  <a:lnTo>
                    <a:pt x="54" y="47"/>
                  </a:lnTo>
                  <a:lnTo>
                    <a:pt x="54" y="45"/>
                  </a:lnTo>
                  <a:lnTo>
                    <a:pt x="52" y="23"/>
                  </a:lnTo>
                  <a:lnTo>
                    <a:pt x="26" y="26"/>
                  </a:lnTo>
                  <a:lnTo>
                    <a:pt x="52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25360" y="76320"/>
            <a:ext cx="94521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precios decentralizan la sol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463680"/>
            <a:ext cx="4648320" cy="38941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29200" y="644400"/>
            <a:ext cx="4587840" cy="3705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762120" y="4468680"/>
            <a:ext cx="1931760" cy="2382840"/>
          </a:xfrm>
          <a:custGeom>
            <a:avLst/>
            <a:gdLst/>
            <a:ahLst/>
            <a:rect l="l" t="t" r="r" b="b"/>
            <a:pathLst>
              <a:path w="2434" h="3001">
                <a:moveTo>
                  <a:pt x="2397" y="3001"/>
                </a:moveTo>
                <a:lnTo>
                  <a:pt x="2434" y="2972"/>
                </a:lnTo>
                <a:lnTo>
                  <a:pt x="37" y="0"/>
                </a:lnTo>
                <a:lnTo>
                  <a:pt x="0" y="29"/>
                </a:lnTo>
                <a:lnTo>
                  <a:pt x="2397" y="3001"/>
                </a:lnTo>
                <a:close/>
              </a:path>
            </a:pathLst>
          </a:custGeom>
          <a:solidFill>
            <a:srgbClr val="ff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-1249200" y="5292720"/>
            <a:ext cx="5879880" cy="2111400"/>
            <a:chOff x="-1249200" y="5292720"/>
            <a:chExt cx="5879880" cy="2111400"/>
          </a:xfrm>
        </p:grpSpPr>
        <p:grpSp>
          <p:nvGrpSpPr>
            <p:cNvPr id="579" name=""/>
            <p:cNvGrpSpPr/>
            <p:nvPr/>
          </p:nvGrpSpPr>
          <p:grpSpPr>
            <a:xfrm>
              <a:off x="-1249200" y="5307120"/>
              <a:ext cx="5879880" cy="2084400"/>
              <a:chOff x="-1249200" y="5307120"/>
              <a:chExt cx="5879880" cy="2084400"/>
            </a:xfrm>
          </p:grpSpPr>
          <p:sp>
            <p:nvSpPr>
              <p:cNvPr id="580" name=""/>
              <p:cNvSpPr/>
              <p:nvPr/>
            </p:nvSpPr>
            <p:spPr>
              <a:xfrm>
                <a:off x="-12492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-11872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-11271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-10652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-10033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-9428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-8809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-8208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7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-7588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7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-69840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6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-6364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6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-5763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5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-5144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5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-4539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4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-3920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3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-3301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2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-26820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1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-2080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-14616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f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-856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e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-237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d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3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c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982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b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87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9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06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86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11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66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30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46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3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51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1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70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896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e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494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13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a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14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8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6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9388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4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558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1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1592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f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778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70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70" y="2627"/>
                    </a:lnTo>
                    <a:close/>
                  </a:path>
                </a:pathLst>
              </a:custGeom>
              <a:solidFill>
                <a:srgbClr val="3d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3832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b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2002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9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2621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2408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4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842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2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4461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5066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d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685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62864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9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6905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7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5104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4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129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2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87308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9350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9969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c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0574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9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193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70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70" y="2627"/>
                    </a:lnTo>
                    <a:close/>
                  </a:path>
                </a:pathLst>
              </a:custGeom>
              <a:solidFill>
                <a:srgbClr val="17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8124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5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417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3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036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1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37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256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d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861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a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480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8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0820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4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1360" y="5307120"/>
                <a:ext cx="1958760" cy="2082600"/>
              </a:xfrm>
              <a:custGeom>
                <a:avLst/>
                <a:gdLst/>
                <a:ahLst/>
                <a:rect l="l" t="t" r="r" b="b"/>
                <a:pathLst>
                  <a:path w="2467" h="2624">
                    <a:moveTo>
                      <a:pt x="42" y="1"/>
                    </a:moveTo>
                    <a:lnTo>
                      <a:pt x="2" y="0"/>
                    </a:lnTo>
                    <a:lnTo>
                      <a:pt x="0" y="2615"/>
                    </a:lnTo>
                    <a:lnTo>
                      <a:pt x="2467" y="2624"/>
                    </a:lnTo>
                    <a:lnTo>
                      <a:pt x="2417" y="2413"/>
                    </a:lnTo>
                    <a:lnTo>
                      <a:pt x="2404" y="2362"/>
                    </a:lnTo>
                    <a:lnTo>
                      <a:pt x="2383" y="2304"/>
                    </a:lnTo>
                    <a:lnTo>
                      <a:pt x="2363" y="2238"/>
                    </a:lnTo>
                    <a:lnTo>
                      <a:pt x="2339" y="2169"/>
                    </a:lnTo>
                    <a:lnTo>
                      <a:pt x="2314" y="2099"/>
                    </a:lnTo>
                    <a:lnTo>
                      <a:pt x="2291" y="2032"/>
                    </a:lnTo>
                    <a:lnTo>
                      <a:pt x="2267" y="1971"/>
                    </a:lnTo>
                    <a:lnTo>
                      <a:pt x="2251" y="1941"/>
                    </a:lnTo>
                    <a:lnTo>
                      <a:pt x="2236" y="1908"/>
                    </a:lnTo>
                    <a:lnTo>
                      <a:pt x="2223" y="1874"/>
                    </a:lnTo>
                    <a:lnTo>
                      <a:pt x="2206" y="1833"/>
                    </a:lnTo>
                    <a:lnTo>
                      <a:pt x="2185" y="1795"/>
                    </a:lnTo>
                    <a:lnTo>
                      <a:pt x="2165" y="1752"/>
                    </a:lnTo>
                    <a:lnTo>
                      <a:pt x="2145" y="1709"/>
                    </a:lnTo>
                    <a:lnTo>
                      <a:pt x="2127" y="1665"/>
                    </a:lnTo>
                    <a:lnTo>
                      <a:pt x="2105" y="1623"/>
                    </a:lnTo>
                    <a:lnTo>
                      <a:pt x="2082" y="1580"/>
                    </a:lnTo>
                    <a:lnTo>
                      <a:pt x="2061" y="1539"/>
                    </a:lnTo>
                    <a:lnTo>
                      <a:pt x="2040" y="1498"/>
                    </a:lnTo>
                    <a:lnTo>
                      <a:pt x="2020" y="1460"/>
                    </a:lnTo>
                    <a:lnTo>
                      <a:pt x="2000" y="1423"/>
                    </a:lnTo>
                    <a:lnTo>
                      <a:pt x="1982" y="1390"/>
                    </a:lnTo>
                    <a:lnTo>
                      <a:pt x="1966" y="1357"/>
                    </a:lnTo>
                    <a:lnTo>
                      <a:pt x="1942" y="1328"/>
                    </a:lnTo>
                    <a:lnTo>
                      <a:pt x="1923" y="1296"/>
                    </a:lnTo>
                    <a:lnTo>
                      <a:pt x="1901" y="1261"/>
                    </a:lnTo>
                    <a:lnTo>
                      <a:pt x="1876" y="1225"/>
                    </a:lnTo>
                    <a:lnTo>
                      <a:pt x="1849" y="1189"/>
                    </a:lnTo>
                    <a:lnTo>
                      <a:pt x="1824" y="1148"/>
                    </a:lnTo>
                    <a:lnTo>
                      <a:pt x="1796" y="1110"/>
                    </a:lnTo>
                    <a:lnTo>
                      <a:pt x="1770" y="1069"/>
                    </a:lnTo>
                    <a:lnTo>
                      <a:pt x="1734" y="1035"/>
                    </a:lnTo>
                    <a:lnTo>
                      <a:pt x="1708" y="995"/>
                    </a:lnTo>
                    <a:lnTo>
                      <a:pt x="1680" y="957"/>
                    </a:lnTo>
                    <a:lnTo>
                      <a:pt x="1650" y="922"/>
                    </a:lnTo>
                    <a:lnTo>
                      <a:pt x="1623" y="891"/>
                    </a:lnTo>
                    <a:lnTo>
                      <a:pt x="1597" y="860"/>
                    </a:lnTo>
                    <a:lnTo>
                      <a:pt x="1570" y="835"/>
                    </a:lnTo>
                    <a:lnTo>
                      <a:pt x="1552" y="808"/>
                    </a:lnTo>
                    <a:lnTo>
                      <a:pt x="1499" y="762"/>
                    </a:lnTo>
                    <a:lnTo>
                      <a:pt x="1444" y="709"/>
                    </a:lnTo>
                    <a:lnTo>
                      <a:pt x="1387" y="654"/>
                    </a:lnTo>
                    <a:lnTo>
                      <a:pt x="1325" y="599"/>
                    </a:lnTo>
                    <a:lnTo>
                      <a:pt x="1264" y="550"/>
                    </a:lnTo>
                    <a:lnTo>
                      <a:pt x="1212" y="500"/>
                    </a:lnTo>
                    <a:lnTo>
                      <a:pt x="1164" y="459"/>
                    </a:lnTo>
                    <a:lnTo>
                      <a:pt x="1121" y="423"/>
                    </a:lnTo>
                    <a:lnTo>
                      <a:pt x="1081" y="402"/>
                    </a:lnTo>
                    <a:lnTo>
                      <a:pt x="1035" y="365"/>
                    </a:lnTo>
                    <a:lnTo>
                      <a:pt x="982" y="332"/>
                    </a:lnTo>
                    <a:lnTo>
                      <a:pt x="929" y="297"/>
                    </a:lnTo>
                    <a:lnTo>
                      <a:pt x="875" y="265"/>
                    </a:lnTo>
                    <a:lnTo>
                      <a:pt x="827" y="235"/>
                    </a:lnTo>
                    <a:lnTo>
                      <a:pt x="779" y="207"/>
                    </a:lnTo>
                    <a:lnTo>
                      <a:pt x="741" y="184"/>
                    </a:lnTo>
                    <a:lnTo>
                      <a:pt x="697" y="169"/>
                    </a:lnTo>
                    <a:lnTo>
                      <a:pt x="658" y="146"/>
                    </a:lnTo>
                    <a:lnTo>
                      <a:pt x="609" y="130"/>
                    </a:lnTo>
                    <a:lnTo>
                      <a:pt x="564" y="112"/>
                    </a:lnTo>
                    <a:lnTo>
                      <a:pt x="515" y="92"/>
                    </a:lnTo>
                    <a:lnTo>
                      <a:pt x="473" y="76"/>
                    </a:lnTo>
                    <a:lnTo>
                      <a:pt x="436" y="66"/>
                    </a:lnTo>
                    <a:lnTo>
                      <a:pt x="404" y="54"/>
                    </a:lnTo>
                    <a:lnTo>
                      <a:pt x="373" y="51"/>
                    </a:lnTo>
                    <a:lnTo>
                      <a:pt x="336" y="43"/>
                    </a:lnTo>
                    <a:lnTo>
                      <a:pt x="298" y="37"/>
                    </a:lnTo>
                    <a:lnTo>
                      <a:pt x="257" y="30"/>
                    </a:lnTo>
                    <a:lnTo>
                      <a:pt x="217" y="26"/>
                    </a:lnTo>
                    <a:lnTo>
                      <a:pt x="178" y="20"/>
                    </a:lnTo>
                    <a:lnTo>
                      <a:pt x="143" y="17"/>
                    </a:lnTo>
                    <a:lnTo>
                      <a:pt x="114" y="13"/>
                    </a:lnTo>
                    <a:lnTo>
                      <a:pt x="67" y="4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047f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1360" y="5307120"/>
                <a:ext cx="1958760" cy="2082600"/>
              </a:xfrm>
              <a:custGeom>
                <a:avLst/>
                <a:gdLst/>
                <a:ahLst/>
                <a:rect l="l" t="t" r="r" b="b"/>
                <a:pathLst>
                  <a:path w="2467" h="2624">
                    <a:moveTo>
                      <a:pt x="42" y="1"/>
                    </a:moveTo>
                    <a:lnTo>
                      <a:pt x="2" y="0"/>
                    </a:lnTo>
                    <a:lnTo>
                      <a:pt x="0" y="2615"/>
                    </a:lnTo>
                    <a:lnTo>
                      <a:pt x="2467" y="2624"/>
                    </a:lnTo>
                    <a:lnTo>
                      <a:pt x="2417" y="2413"/>
                    </a:lnTo>
                    <a:lnTo>
                      <a:pt x="2404" y="2362"/>
                    </a:lnTo>
                    <a:lnTo>
                      <a:pt x="2383" y="2304"/>
                    </a:lnTo>
                    <a:lnTo>
                      <a:pt x="2363" y="2238"/>
                    </a:lnTo>
                    <a:lnTo>
                      <a:pt x="2339" y="2169"/>
                    </a:lnTo>
                    <a:lnTo>
                      <a:pt x="2314" y="2099"/>
                    </a:lnTo>
                    <a:lnTo>
                      <a:pt x="2291" y="2032"/>
                    </a:lnTo>
                    <a:lnTo>
                      <a:pt x="2267" y="1971"/>
                    </a:lnTo>
                    <a:lnTo>
                      <a:pt x="2251" y="1941"/>
                    </a:lnTo>
                    <a:lnTo>
                      <a:pt x="2236" y="1908"/>
                    </a:lnTo>
                    <a:lnTo>
                      <a:pt x="2223" y="1874"/>
                    </a:lnTo>
                    <a:lnTo>
                      <a:pt x="2206" y="1833"/>
                    </a:lnTo>
                    <a:lnTo>
                      <a:pt x="2185" y="1795"/>
                    </a:lnTo>
                    <a:lnTo>
                      <a:pt x="2165" y="1752"/>
                    </a:lnTo>
                    <a:lnTo>
                      <a:pt x="2145" y="1709"/>
                    </a:lnTo>
                    <a:lnTo>
                      <a:pt x="2127" y="1665"/>
                    </a:lnTo>
                    <a:lnTo>
                      <a:pt x="2105" y="1623"/>
                    </a:lnTo>
                    <a:lnTo>
                      <a:pt x="2082" y="1580"/>
                    </a:lnTo>
                    <a:lnTo>
                      <a:pt x="2061" y="1539"/>
                    </a:lnTo>
                    <a:lnTo>
                      <a:pt x="2040" y="1498"/>
                    </a:lnTo>
                    <a:lnTo>
                      <a:pt x="2020" y="1460"/>
                    </a:lnTo>
                    <a:lnTo>
                      <a:pt x="2000" y="1423"/>
                    </a:lnTo>
                    <a:lnTo>
                      <a:pt x="1982" y="1390"/>
                    </a:lnTo>
                    <a:lnTo>
                      <a:pt x="1966" y="1357"/>
                    </a:lnTo>
                    <a:lnTo>
                      <a:pt x="1942" y="1328"/>
                    </a:lnTo>
                    <a:lnTo>
                      <a:pt x="1923" y="1296"/>
                    </a:lnTo>
                    <a:lnTo>
                      <a:pt x="1901" y="1261"/>
                    </a:lnTo>
                    <a:lnTo>
                      <a:pt x="1876" y="1225"/>
                    </a:lnTo>
                    <a:lnTo>
                      <a:pt x="1849" y="1189"/>
                    </a:lnTo>
                    <a:lnTo>
                      <a:pt x="1824" y="1148"/>
                    </a:lnTo>
                    <a:lnTo>
                      <a:pt x="1796" y="1110"/>
                    </a:lnTo>
                    <a:lnTo>
                      <a:pt x="1770" y="1069"/>
                    </a:lnTo>
                    <a:lnTo>
                      <a:pt x="1734" y="1035"/>
                    </a:lnTo>
                    <a:lnTo>
                      <a:pt x="1708" y="995"/>
                    </a:lnTo>
                    <a:lnTo>
                      <a:pt x="1680" y="957"/>
                    </a:lnTo>
                    <a:lnTo>
                      <a:pt x="1650" y="922"/>
                    </a:lnTo>
                    <a:lnTo>
                      <a:pt x="1623" y="891"/>
                    </a:lnTo>
                    <a:lnTo>
                      <a:pt x="1597" y="860"/>
                    </a:lnTo>
                    <a:lnTo>
                      <a:pt x="1570" y="835"/>
                    </a:lnTo>
                    <a:lnTo>
                      <a:pt x="1552" y="808"/>
                    </a:lnTo>
                    <a:lnTo>
                      <a:pt x="1499" y="762"/>
                    </a:lnTo>
                    <a:lnTo>
                      <a:pt x="1444" y="709"/>
                    </a:lnTo>
                    <a:lnTo>
                      <a:pt x="1387" y="654"/>
                    </a:lnTo>
                    <a:lnTo>
                      <a:pt x="1325" y="599"/>
                    </a:lnTo>
                    <a:lnTo>
                      <a:pt x="1264" y="550"/>
                    </a:lnTo>
                    <a:lnTo>
                      <a:pt x="1212" y="500"/>
                    </a:lnTo>
                    <a:lnTo>
                      <a:pt x="1164" y="459"/>
                    </a:lnTo>
                    <a:lnTo>
                      <a:pt x="1121" y="423"/>
                    </a:lnTo>
                    <a:lnTo>
                      <a:pt x="1081" y="402"/>
                    </a:lnTo>
                    <a:lnTo>
                      <a:pt x="1035" y="365"/>
                    </a:lnTo>
                    <a:lnTo>
                      <a:pt x="982" y="332"/>
                    </a:lnTo>
                    <a:lnTo>
                      <a:pt x="929" y="297"/>
                    </a:lnTo>
                    <a:lnTo>
                      <a:pt x="875" y="265"/>
                    </a:lnTo>
                    <a:lnTo>
                      <a:pt x="827" y="235"/>
                    </a:lnTo>
                    <a:lnTo>
                      <a:pt x="779" y="207"/>
                    </a:lnTo>
                    <a:lnTo>
                      <a:pt x="741" y="184"/>
                    </a:lnTo>
                    <a:lnTo>
                      <a:pt x="697" y="169"/>
                    </a:lnTo>
                    <a:lnTo>
                      <a:pt x="658" y="146"/>
                    </a:lnTo>
                    <a:lnTo>
                      <a:pt x="609" y="130"/>
                    </a:lnTo>
                    <a:lnTo>
                      <a:pt x="564" y="112"/>
                    </a:lnTo>
                    <a:lnTo>
                      <a:pt x="515" y="92"/>
                    </a:lnTo>
                    <a:lnTo>
                      <a:pt x="473" y="76"/>
                    </a:lnTo>
                    <a:lnTo>
                      <a:pt x="436" y="66"/>
                    </a:lnTo>
                    <a:lnTo>
                      <a:pt x="404" y="54"/>
                    </a:lnTo>
                    <a:lnTo>
                      <a:pt x="373" y="51"/>
                    </a:lnTo>
                    <a:lnTo>
                      <a:pt x="336" y="43"/>
                    </a:lnTo>
                    <a:lnTo>
                      <a:pt x="298" y="37"/>
                    </a:lnTo>
                    <a:lnTo>
                      <a:pt x="257" y="30"/>
                    </a:lnTo>
                    <a:lnTo>
                      <a:pt x="217" y="26"/>
                    </a:lnTo>
                    <a:lnTo>
                      <a:pt x="178" y="20"/>
                    </a:lnTo>
                    <a:lnTo>
                      <a:pt x="143" y="17"/>
                    </a:lnTo>
                    <a:lnTo>
                      <a:pt x="114" y="13"/>
                    </a:lnTo>
                    <a:lnTo>
                      <a:pt x="67" y="4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-12492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-11872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-11271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-10652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9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-10033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-9428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-8809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8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-8208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7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-7588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7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-69840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6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-6364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6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-5763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5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-5144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5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-4539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4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-3920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3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-3301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2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-26820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1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-2080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6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-14616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f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-856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e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-237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d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3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c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82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b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587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9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206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86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811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66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30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46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3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51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51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270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96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e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94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13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a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14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8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34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6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9388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4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558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41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1592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f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7784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70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70" y="2627"/>
                    </a:lnTo>
                    <a:close/>
                  </a:path>
                </a:pathLst>
              </a:custGeom>
              <a:solidFill>
                <a:srgbClr val="3d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3832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b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2002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9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2621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2408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4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842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2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612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3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50660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d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685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864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9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905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7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5104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4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1296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2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7308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2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9350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969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c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05740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9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11932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70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70" y="2627"/>
                    </a:lnTo>
                    <a:close/>
                  </a:path>
                </a:pathLst>
              </a:custGeom>
              <a:solidFill>
                <a:srgbClr val="17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81240" y="5307120"/>
                <a:ext cx="201924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5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24172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3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0364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11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6376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425680" y="5307120"/>
                <a:ext cx="2021040" cy="2084400"/>
              </a:xfrm>
              <a:custGeom>
                <a:avLst/>
                <a:gdLst/>
                <a:ahLst/>
                <a:rect l="l" t="t" r="r" b="b"/>
                <a:pathLst>
                  <a:path w="2545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2545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d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48616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a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8080" y="5307120"/>
                <a:ext cx="2020680" cy="2084400"/>
              </a:xfrm>
              <a:custGeom>
                <a:avLst/>
                <a:gdLst/>
                <a:ahLst/>
                <a:rect l="l" t="t" r="r" b="b"/>
                <a:pathLst>
                  <a:path w="2546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7" y="0"/>
                    </a:lnTo>
                    <a:lnTo>
                      <a:pt x="2546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8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08200" y="5307120"/>
                <a:ext cx="2022480" cy="2084400"/>
              </a:xfrm>
              <a:custGeom>
                <a:avLst/>
                <a:gdLst/>
                <a:ahLst/>
                <a:rect l="l" t="t" r="r" b="b"/>
                <a:pathLst>
                  <a:path w="2547" h="2627">
                    <a:moveTo>
                      <a:pt x="2469" y="2627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2547" y="2627"/>
                    </a:lnTo>
                    <a:lnTo>
                      <a:pt x="2469" y="2627"/>
                    </a:lnTo>
                    <a:close/>
                  </a:path>
                </a:pathLst>
              </a:custGeom>
              <a:solidFill>
                <a:srgbClr val="04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696960" y="5292720"/>
              <a:ext cx="1987560" cy="2111400"/>
            </a:xfrm>
            <a:custGeom>
              <a:avLst/>
              <a:gdLst/>
              <a:ahLst/>
              <a:rect l="l" t="t" r="r" b="b"/>
              <a:pathLst>
                <a:path w="2505" h="2661">
                  <a:moveTo>
                    <a:pt x="61" y="39"/>
                  </a:moveTo>
                  <a:lnTo>
                    <a:pt x="62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3" y="19"/>
                  </a:lnTo>
                  <a:lnTo>
                    <a:pt x="0" y="2634"/>
                  </a:lnTo>
                  <a:lnTo>
                    <a:pt x="0" y="2634"/>
                  </a:lnTo>
                  <a:lnTo>
                    <a:pt x="1" y="2640"/>
                  </a:lnTo>
                  <a:lnTo>
                    <a:pt x="5" y="2647"/>
                  </a:lnTo>
                  <a:lnTo>
                    <a:pt x="12" y="2651"/>
                  </a:lnTo>
                  <a:lnTo>
                    <a:pt x="19" y="2652"/>
                  </a:lnTo>
                  <a:lnTo>
                    <a:pt x="2486" y="2661"/>
                  </a:lnTo>
                  <a:lnTo>
                    <a:pt x="2486" y="2661"/>
                  </a:lnTo>
                  <a:lnTo>
                    <a:pt x="2493" y="2660"/>
                  </a:lnTo>
                  <a:lnTo>
                    <a:pt x="2499" y="2656"/>
                  </a:lnTo>
                  <a:lnTo>
                    <a:pt x="2503" y="2650"/>
                  </a:lnTo>
                  <a:lnTo>
                    <a:pt x="2505" y="2643"/>
                  </a:lnTo>
                  <a:lnTo>
                    <a:pt x="2505" y="2639"/>
                  </a:lnTo>
                  <a:lnTo>
                    <a:pt x="2455" y="2428"/>
                  </a:lnTo>
                  <a:lnTo>
                    <a:pt x="2455" y="2428"/>
                  </a:lnTo>
                  <a:lnTo>
                    <a:pt x="2441" y="2377"/>
                  </a:lnTo>
                  <a:lnTo>
                    <a:pt x="2440" y="2374"/>
                  </a:lnTo>
                  <a:lnTo>
                    <a:pt x="2419" y="2316"/>
                  </a:lnTo>
                  <a:lnTo>
                    <a:pt x="2402" y="2323"/>
                  </a:lnTo>
                  <a:lnTo>
                    <a:pt x="2419" y="2317"/>
                  </a:lnTo>
                  <a:lnTo>
                    <a:pt x="2399" y="2251"/>
                  </a:lnTo>
                  <a:lnTo>
                    <a:pt x="2399" y="2251"/>
                  </a:lnTo>
                  <a:lnTo>
                    <a:pt x="2375" y="2183"/>
                  </a:lnTo>
                  <a:lnTo>
                    <a:pt x="2375" y="2181"/>
                  </a:lnTo>
                  <a:lnTo>
                    <a:pt x="2350" y="2112"/>
                  </a:lnTo>
                  <a:lnTo>
                    <a:pt x="2333" y="2118"/>
                  </a:lnTo>
                  <a:lnTo>
                    <a:pt x="2350" y="2113"/>
                  </a:lnTo>
                  <a:lnTo>
                    <a:pt x="2327" y="2046"/>
                  </a:lnTo>
                  <a:lnTo>
                    <a:pt x="2327" y="2044"/>
                  </a:lnTo>
                  <a:lnTo>
                    <a:pt x="2303" y="1984"/>
                  </a:lnTo>
                  <a:lnTo>
                    <a:pt x="2302" y="1982"/>
                  </a:lnTo>
                  <a:lnTo>
                    <a:pt x="2286" y="1952"/>
                  </a:lnTo>
                  <a:lnTo>
                    <a:pt x="2270" y="1960"/>
                  </a:lnTo>
                  <a:lnTo>
                    <a:pt x="2287" y="1953"/>
                  </a:lnTo>
                  <a:lnTo>
                    <a:pt x="2273" y="1920"/>
                  </a:lnTo>
                  <a:lnTo>
                    <a:pt x="2255" y="1927"/>
                  </a:lnTo>
                  <a:lnTo>
                    <a:pt x="2273" y="1920"/>
                  </a:lnTo>
                  <a:lnTo>
                    <a:pt x="2259" y="1886"/>
                  </a:lnTo>
                  <a:lnTo>
                    <a:pt x="2259" y="1886"/>
                  </a:lnTo>
                  <a:lnTo>
                    <a:pt x="2242" y="1845"/>
                  </a:lnTo>
                  <a:lnTo>
                    <a:pt x="2241" y="1844"/>
                  </a:lnTo>
                  <a:lnTo>
                    <a:pt x="2220" y="1806"/>
                  </a:lnTo>
                  <a:lnTo>
                    <a:pt x="2204" y="1814"/>
                  </a:lnTo>
                  <a:lnTo>
                    <a:pt x="2221" y="1806"/>
                  </a:lnTo>
                  <a:lnTo>
                    <a:pt x="2201" y="1763"/>
                  </a:lnTo>
                  <a:lnTo>
                    <a:pt x="2182" y="1720"/>
                  </a:lnTo>
                  <a:lnTo>
                    <a:pt x="2164" y="1728"/>
                  </a:lnTo>
                  <a:lnTo>
                    <a:pt x="2182" y="1721"/>
                  </a:lnTo>
                  <a:lnTo>
                    <a:pt x="2163" y="1678"/>
                  </a:lnTo>
                  <a:lnTo>
                    <a:pt x="2162" y="1676"/>
                  </a:lnTo>
                  <a:lnTo>
                    <a:pt x="2139" y="1634"/>
                  </a:lnTo>
                  <a:lnTo>
                    <a:pt x="2117" y="1591"/>
                  </a:lnTo>
                  <a:lnTo>
                    <a:pt x="2096" y="1550"/>
                  </a:lnTo>
                  <a:lnTo>
                    <a:pt x="2075" y="1509"/>
                  </a:lnTo>
                  <a:lnTo>
                    <a:pt x="2055" y="1471"/>
                  </a:lnTo>
                  <a:lnTo>
                    <a:pt x="2035" y="1434"/>
                  </a:lnTo>
                  <a:lnTo>
                    <a:pt x="2035" y="1432"/>
                  </a:lnTo>
                  <a:lnTo>
                    <a:pt x="2017" y="1399"/>
                  </a:lnTo>
                  <a:lnTo>
                    <a:pt x="2001" y="1409"/>
                  </a:lnTo>
                  <a:lnTo>
                    <a:pt x="2018" y="1401"/>
                  </a:lnTo>
                  <a:lnTo>
                    <a:pt x="2002" y="1368"/>
                  </a:lnTo>
                  <a:lnTo>
                    <a:pt x="2000" y="1364"/>
                  </a:lnTo>
                  <a:lnTo>
                    <a:pt x="1976" y="1335"/>
                  </a:lnTo>
                  <a:lnTo>
                    <a:pt x="1961" y="1347"/>
                  </a:lnTo>
                  <a:lnTo>
                    <a:pt x="1977" y="1338"/>
                  </a:lnTo>
                  <a:lnTo>
                    <a:pt x="1957" y="1306"/>
                  </a:lnTo>
                  <a:lnTo>
                    <a:pt x="1942" y="1315"/>
                  </a:lnTo>
                  <a:lnTo>
                    <a:pt x="1957" y="1306"/>
                  </a:lnTo>
                  <a:lnTo>
                    <a:pt x="1936" y="1270"/>
                  </a:lnTo>
                  <a:lnTo>
                    <a:pt x="1935" y="1269"/>
                  </a:lnTo>
                  <a:lnTo>
                    <a:pt x="1910" y="1233"/>
                  </a:lnTo>
                  <a:lnTo>
                    <a:pt x="1910" y="1233"/>
                  </a:lnTo>
                  <a:lnTo>
                    <a:pt x="1882" y="1198"/>
                  </a:lnTo>
                  <a:lnTo>
                    <a:pt x="1868" y="1208"/>
                  </a:lnTo>
                  <a:lnTo>
                    <a:pt x="1883" y="1199"/>
                  </a:lnTo>
                  <a:lnTo>
                    <a:pt x="1858" y="1158"/>
                  </a:lnTo>
                  <a:lnTo>
                    <a:pt x="1857" y="1157"/>
                  </a:lnTo>
                  <a:lnTo>
                    <a:pt x="1829" y="1119"/>
                  </a:lnTo>
                  <a:lnTo>
                    <a:pt x="1815" y="1129"/>
                  </a:lnTo>
                  <a:lnTo>
                    <a:pt x="1831" y="1120"/>
                  </a:lnTo>
                  <a:lnTo>
                    <a:pt x="1804" y="1079"/>
                  </a:lnTo>
                  <a:lnTo>
                    <a:pt x="1802" y="1075"/>
                  </a:lnTo>
                  <a:lnTo>
                    <a:pt x="1802" y="1075"/>
                  </a:lnTo>
                  <a:lnTo>
                    <a:pt x="1766" y="1041"/>
                  </a:lnTo>
                  <a:lnTo>
                    <a:pt x="1753" y="1054"/>
                  </a:lnTo>
                  <a:lnTo>
                    <a:pt x="1769" y="1045"/>
                  </a:lnTo>
                  <a:lnTo>
                    <a:pt x="1742" y="1005"/>
                  </a:lnTo>
                  <a:lnTo>
                    <a:pt x="1741" y="1004"/>
                  </a:lnTo>
                  <a:lnTo>
                    <a:pt x="1713" y="966"/>
                  </a:lnTo>
                  <a:lnTo>
                    <a:pt x="1713" y="964"/>
                  </a:lnTo>
                  <a:lnTo>
                    <a:pt x="1683" y="929"/>
                  </a:lnTo>
                  <a:lnTo>
                    <a:pt x="1657" y="898"/>
                  </a:lnTo>
                  <a:lnTo>
                    <a:pt x="1630" y="867"/>
                  </a:lnTo>
                  <a:lnTo>
                    <a:pt x="1629" y="865"/>
                  </a:lnTo>
                  <a:lnTo>
                    <a:pt x="1603" y="840"/>
                  </a:lnTo>
                  <a:lnTo>
                    <a:pt x="1589" y="854"/>
                  </a:lnTo>
                  <a:lnTo>
                    <a:pt x="1604" y="843"/>
                  </a:lnTo>
                  <a:lnTo>
                    <a:pt x="1585" y="817"/>
                  </a:lnTo>
                  <a:lnTo>
                    <a:pt x="1583" y="814"/>
                  </a:lnTo>
                  <a:lnTo>
                    <a:pt x="1530" y="768"/>
                  </a:lnTo>
                  <a:lnTo>
                    <a:pt x="1518" y="781"/>
                  </a:lnTo>
                  <a:lnTo>
                    <a:pt x="1531" y="768"/>
                  </a:lnTo>
                  <a:lnTo>
                    <a:pt x="1476" y="715"/>
                  </a:lnTo>
                  <a:lnTo>
                    <a:pt x="1463" y="728"/>
                  </a:lnTo>
                  <a:lnTo>
                    <a:pt x="1476" y="715"/>
                  </a:lnTo>
                  <a:lnTo>
                    <a:pt x="1419" y="660"/>
                  </a:lnTo>
                  <a:lnTo>
                    <a:pt x="1419" y="660"/>
                  </a:lnTo>
                  <a:lnTo>
                    <a:pt x="1357" y="604"/>
                  </a:lnTo>
                  <a:lnTo>
                    <a:pt x="1356" y="604"/>
                  </a:lnTo>
                  <a:lnTo>
                    <a:pt x="1295" y="556"/>
                  </a:lnTo>
                  <a:lnTo>
                    <a:pt x="1283" y="569"/>
                  </a:lnTo>
                  <a:lnTo>
                    <a:pt x="1297" y="556"/>
                  </a:lnTo>
                  <a:lnTo>
                    <a:pt x="1244" y="505"/>
                  </a:lnTo>
                  <a:lnTo>
                    <a:pt x="1243" y="505"/>
                  </a:lnTo>
                  <a:lnTo>
                    <a:pt x="1195" y="465"/>
                  </a:lnTo>
                  <a:lnTo>
                    <a:pt x="1151" y="429"/>
                  </a:lnTo>
                  <a:lnTo>
                    <a:pt x="1149" y="426"/>
                  </a:lnTo>
                  <a:lnTo>
                    <a:pt x="1109" y="405"/>
                  </a:lnTo>
                  <a:lnTo>
                    <a:pt x="1100" y="421"/>
                  </a:lnTo>
                  <a:lnTo>
                    <a:pt x="1112" y="408"/>
                  </a:lnTo>
                  <a:lnTo>
                    <a:pt x="1066" y="371"/>
                  </a:lnTo>
                  <a:lnTo>
                    <a:pt x="1064" y="370"/>
                  </a:lnTo>
                  <a:lnTo>
                    <a:pt x="1012" y="337"/>
                  </a:lnTo>
                  <a:lnTo>
                    <a:pt x="959" y="301"/>
                  </a:lnTo>
                  <a:lnTo>
                    <a:pt x="958" y="300"/>
                  </a:lnTo>
                  <a:lnTo>
                    <a:pt x="904" y="268"/>
                  </a:lnTo>
                  <a:lnTo>
                    <a:pt x="894" y="284"/>
                  </a:lnTo>
                  <a:lnTo>
                    <a:pt x="905" y="269"/>
                  </a:lnTo>
                  <a:lnTo>
                    <a:pt x="856" y="239"/>
                  </a:lnTo>
                  <a:lnTo>
                    <a:pt x="855" y="238"/>
                  </a:lnTo>
                  <a:lnTo>
                    <a:pt x="807" y="210"/>
                  </a:lnTo>
                  <a:lnTo>
                    <a:pt x="769" y="188"/>
                  </a:lnTo>
                  <a:lnTo>
                    <a:pt x="766" y="186"/>
                  </a:lnTo>
                  <a:lnTo>
                    <a:pt x="723" y="171"/>
                  </a:lnTo>
                  <a:lnTo>
                    <a:pt x="716" y="188"/>
                  </a:lnTo>
                  <a:lnTo>
                    <a:pt x="725" y="172"/>
                  </a:lnTo>
                  <a:lnTo>
                    <a:pt x="686" y="149"/>
                  </a:lnTo>
                  <a:lnTo>
                    <a:pt x="683" y="148"/>
                  </a:lnTo>
                  <a:lnTo>
                    <a:pt x="634" y="132"/>
                  </a:lnTo>
                  <a:lnTo>
                    <a:pt x="628" y="149"/>
                  </a:lnTo>
                  <a:lnTo>
                    <a:pt x="636" y="132"/>
                  </a:lnTo>
                  <a:lnTo>
                    <a:pt x="591" y="114"/>
                  </a:lnTo>
                  <a:lnTo>
                    <a:pt x="542" y="94"/>
                  </a:lnTo>
                  <a:lnTo>
                    <a:pt x="541" y="94"/>
                  </a:lnTo>
                  <a:lnTo>
                    <a:pt x="499" y="78"/>
                  </a:lnTo>
                  <a:lnTo>
                    <a:pt x="497" y="78"/>
                  </a:lnTo>
                  <a:lnTo>
                    <a:pt x="460" y="68"/>
                  </a:lnTo>
                  <a:lnTo>
                    <a:pt x="455" y="85"/>
                  </a:lnTo>
                  <a:lnTo>
                    <a:pt x="462" y="68"/>
                  </a:lnTo>
                  <a:lnTo>
                    <a:pt x="430" y="56"/>
                  </a:lnTo>
                  <a:lnTo>
                    <a:pt x="425" y="54"/>
                  </a:lnTo>
                  <a:lnTo>
                    <a:pt x="393" y="52"/>
                  </a:lnTo>
                  <a:lnTo>
                    <a:pt x="392" y="70"/>
                  </a:lnTo>
                  <a:lnTo>
                    <a:pt x="396" y="53"/>
                  </a:lnTo>
                  <a:lnTo>
                    <a:pt x="359" y="45"/>
                  </a:lnTo>
                  <a:lnTo>
                    <a:pt x="359" y="45"/>
                  </a:lnTo>
                  <a:lnTo>
                    <a:pt x="321" y="39"/>
                  </a:lnTo>
                  <a:lnTo>
                    <a:pt x="319" y="39"/>
                  </a:lnTo>
                  <a:lnTo>
                    <a:pt x="278" y="32"/>
                  </a:lnTo>
                  <a:lnTo>
                    <a:pt x="278" y="31"/>
                  </a:lnTo>
                  <a:lnTo>
                    <a:pt x="239" y="27"/>
                  </a:lnTo>
                  <a:lnTo>
                    <a:pt x="236" y="45"/>
                  </a:lnTo>
                  <a:lnTo>
                    <a:pt x="239" y="28"/>
                  </a:lnTo>
                  <a:lnTo>
                    <a:pt x="199" y="22"/>
                  </a:lnTo>
                  <a:lnTo>
                    <a:pt x="198" y="20"/>
                  </a:lnTo>
                  <a:lnTo>
                    <a:pt x="164" y="18"/>
                  </a:lnTo>
                  <a:lnTo>
                    <a:pt x="162" y="36"/>
                  </a:lnTo>
                  <a:lnTo>
                    <a:pt x="165" y="19"/>
                  </a:lnTo>
                  <a:lnTo>
                    <a:pt x="136" y="15"/>
                  </a:lnTo>
                  <a:lnTo>
                    <a:pt x="133" y="32"/>
                  </a:lnTo>
                  <a:lnTo>
                    <a:pt x="137" y="15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63" y="3"/>
                  </a:lnTo>
                  <a:lnTo>
                    <a:pt x="59" y="39"/>
                  </a:lnTo>
                  <a:lnTo>
                    <a:pt x="84" y="41"/>
                  </a:lnTo>
                  <a:lnTo>
                    <a:pt x="86" y="23"/>
                  </a:lnTo>
                  <a:lnTo>
                    <a:pt x="83" y="41"/>
                  </a:lnTo>
                  <a:lnTo>
                    <a:pt x="131" y="51"/>
                  </a:lnTo>
                  <a:lnTo>
                    <a:pt x="131" y="51"/>
                  </a:lnTo>
                  <a:lnTo>
                    <a:pt x="160" y="54"/>
                  </a:lnTo>
                  <a:lnTo>
                    <a:pt x="161" y="54"/>
                  </a:lnTo>
                  <a:lnTo>
                    <a:pt x="195" y="57"/>
                  </a:lnTo>
                  <a:lnTo>
                    <a:pt x="197" y="39"/>
                  </a:lnTo>
                  <a:lnTo>
                    <a:pt x="194" y="57"/>
                  </a:lnTo>
                  <a:lnTo>
                    <a:pt x="234" y="64"/>
                  </a:lnTo>
                  <a:lnTo>
                    <a:pt x="235" y="64"/>
                  </a:lnTo>
                  <a:lnTo>
                    <a:pt x="274" y="68"/>
                  </a:lnTo>
                  <a:lnTo>
                    <a:pt x="276" y="49"/>
                  </a:lnTo>
                  <a:lnTo>
                    <a:pt x="273" y="68"/>
                  </a:lnTo>
                  <a:lnTo>
                    <a:pt x="314" y="74"/>
                  </a:lnTo>
                  <a:lnTo>
                    <a:pt x="317" y="56"/>
                  </a:lnTo>
                  <a:lnTo>
                    <a:pt x="314" y="74"/>
                  </a:lnTo>
                  <a:lnTo>
                    <a:pt x="352" y="81"/>
                  </a:lnTo>
                  <a:lnTo>
                    <a:pt x="355" y="62"/>
                  </a:lnTo>
                  <a:lnTo>
                    <a:pt x="351" y="81"/>
                  </a:lnTo>
                  <a:lnTo>
                    <a:pt x="388" y="89"/>
                  </a:lnTo>
                  <a:lnTo>
                    <a:pt x="390" y="89"/>
                  </a:lnTo>
                  <a:lnTo>
                    <a:pt x="422" y="91"/>
                  </a:lnTo>
                  <a:lnTo>
                    <a:pt x="423" y="73"/>
                  </a:lnTo>
                  <a:lnTo>
                    <a:pt x="417" y="90"/>
                  </a:lnTo>
                  <a:lnTo>
                    <a:pt x="449" y="102"/>
                  </a:lnTo>
                  <a:lnTo>
                    <a:pt x="450" y="102"/>
                  </a:lnTo>
                  <a:lnTo>
                    <a:pt x="487" y="112"/>
                  </a:lnTo>
                  <a:lnTo>
                    <a:pt x="492" y="95"/>
                  </a:lnTo>
                  <a:lnTo>
                    <a:pt x="485" y="112"/>
                  </a:lnTo>
                  <a:lnTo>
                    <a:pt x="528" y="128"/>
                  </a:lnTo>
                  <a:lnTo>
                    <a:pt x="534" y="111"/>
                  </a:lnTo>
                  <a:lnTo>
                    <a:pt x="528" y="128"/>
                  </a:lnTo>
                  <a:lnTo>
                    <a:pt x="576" y="148"/>
                  </a:lnTo>
                  <a:lnTo>
                    <a:pt x="621" y="167"/>
                  </a:lnTo>
                  <a:lnTo>
                    <a:pt x="623" y="167"/>
                  </a:lnTo>
                  <a:lnTo>
                    <a:pt x="671" y="182"/>
                  </a:lnTo>
                  <a:lnTo>
                    <a:pt x="677" y="165"/>
                  </a:lnTo>
                  <a:lnTo>
                    <a:pt x="667" y="181"/>
                  </a:lnTo>
                  <a:lnTo>
                    <a:pt x="707" y="203"/>
                  </a:lnTo>
                  <a:lnTo>
                    <a:pt x="710" y="205"/>
                  </a:lnTo>
                  <a:lnTo>
                    <a:pt x="753" y="221"/>
                  </a:lnTo>
                  <a:lnTo>
                    <a:pt x="760" y="203"/>
                  </a:lnTo>
                  <a:lnTo>
                    <a:pt x="751" y="219"/>
                  </a:lnTo>
                  <a:lnTo>
                    <a:pt x="789" y="242"/>
                  </a:lnTo>
                  <a:lnTo>
                    <a:pt x="836" y="269"/>
                  </a:lnTo>
                  <a:lnTo>
                    <a:pt x="846" y="254"/>
                  </a:lnTo>
                  <a:lnTo>
                    <a:pt x="836" y="269"/>
                  </a:lnTo>
                  <a:lnTo>
                    <a:pt x="885" y="300"/>
                  </a:lnTo>
                  <a:lnTo>
                    <a:pt x="885" y="300"/>
                  </a:lnTo>
                  <a:lnTo>
                    <a:pt x="939" y="331"/>
                  </a:lnTo>
                  <a:lnTo>
                    <a:pt x="948" y="316"/>
                  </a:lnTo>
                  <a:lnTo>
                    <a:pt x="939" y="331"/>
                  </a:lnTo>
                  <a:lnTo>
                    <a:pt x="992" y="367"/>
                  </a:lnTo>
                  <a:lnTo>
                    <a:pt x="1045" y="400"/>
                  </a:lnTo>
                  <a:lnTo>
                    <a:pt x="1054" y="384"/>
                  </a:lnTo>
                  <a:lnTo>
                    <a:pt x="1043" y="399"/>
                  </a:lnTo>
                  <a:lnTo>
                    <a:pt x="1090" y="436"/>
                  </a:lnTo>
                  <a:lnTo>
                    <a:pt x="1092" y="437"/>
                  </a:lnTo>
                  <a:lnTo>
                    <a:pt x="1132" y="458"/>
                  </a:lnTo>
                  <a:lnTo>
                    <a:pt x="1140" y="442"/>
                  </a:lnTo>
                  <a:lnTo>
                    <a:pt x="1128" y="457"/>
                  </a:lnTo>
                  <a:lnTo>
                    <a:pt x="1171" y="492"/>
                  </a:lnTo>
                  <a:lnTo>
                    <a:pt x="1219" y="533"/>
                  </a:lnTo>
                  <a:lnTo>
                    <a:pt x="1231" y="519"/>
                  </a:lnTo>
                  <a:lnTo>
                    <a:pt x="1219" y="532"/>
                  </a:lnTo>
                  <a:lnTo>
                    <a:pt x="1272" y="582"/>
                  </a:lnTo>
                  <a:lnTo>
                    <a:pt x="1273" y="583"/>
                  </a:lnTo>
                  <a:lnTo>
                    <a:pt x="1334" y="632"/>
                  </a:lnTo>
                  <a:lnTo>
                    <a:pt x="1344" y="618"/>
                  </a:lnTo>
                  <a:lnTo>
                    <a:pt x="1332" y="632"/>
                  </a:lnTo>
                  <a:lnTo>
                    <a:pt x="1394" y="687"/>
                  </a:lnTo>
                  <a:lnTo>
                    <a:pt x="1406" y="673"/>
                  </a:lnTo>
                  <a:lnTo>
                    <a:pt x="1393" y="686"/>
                  </a:lnTo>
                  <a:lnTo>
                    <a:pt x="1450" y="741"/>
                  </a:lnTo>
                  <a:lnTo>
                    <a:pt x="1451" y="741"/>
                  </a:lnTo>
                  <a:lnTo>
                    <a:pt x="1506" y="794"/>
                  </a:lnTo>
                  <a:lnTo>
                    <a:pt x="1506" y="796"/>
                  </a:lnTo>
                  <a:lnTo>
                    <a:pt x="1559" y="842"/>
                  </a:lnTo>
                  <a:lnTo>
                    <a:pt x="1571" y="827"/>
                  </a:lnTo>
                  <a:lnTo>
                    <a:pt x="1556" y="838"/>
                  </a:lnTo>
                  <a:lnTo>
                    <a:pt x="1575" y="864"/>
                  </a:lnTo>
                  <a:lnTo>
                    <a:pt x="1578" y="867"/>
                  </a:lnTo>
                  <a:lnTo>
                    <a:pt x="1604" y="892"/>
                  </a:lnTo>
                  <a:lnTo>
                    <a:pt x="1616" y="879"/>
                  </a:lnTo>
                  <a:lnTo>
                    <a:pt x="1603" y="891"/>
                  </a:lnTo>
                  <a:lnTo>
                    <a:pt x="1629" y="922"/>
                  </a:lnTo>
                  <a:lnTo>
                    <a:pt x="1655" y="952"/>
                  </a:lnTo>
                  <a:lnTo>
                    <a:pt x="1686" y="988"/>
                  </a:lnTo>
                  <a:lnTo>
                    <a:pt x="1699" y="976"/>
                  </a:lnTo>
                  <a:lnTo>
                    <a:pt x="1684" y="987"/>
                  </a:lnTo>
                  <a:lnTo>
                    <a:pt x="1712" y="1025"/>
                  </a:lnTo>
                  <a:lnTo>
                    <a:pt x="1727" y="1014"/>
                  </a:lnTo>
                  <a:lnTo>
                    <a:pt x="1712" y="1025"/>
                  </a:lnTo>
                  <a:lnTo>
                    <a:pt x="1738" y="1065"/>
                  </a:lnTo>
                  <a:lnTo>
                    <a:pt x="1741" y="1067"/>
                  </a:lnTo>
                  <a:lnTo>
                    <a:pt x="1777" y="1101"/>
                  </a:lnTo>
                  <a:lnTo>
                    <a:pt x="1789" y="1088"/>
                  </a:lnTo>
                  <a:lnTo>
                    <a:pt x="1774" y="1099"/>
                  </a:lnTo>
                  <a:lnTo>
                    <a:pt x="1800" y="1140"/>
                  </a:lnTo>
                  <a:lnTo>
                    <a:pt x="1800" y="1140"/>
                  </a:lnTo>
                  <a:lnTo>
                    <a:pt x="1828" y="1178"/>
                  </a:lnTo>
                  <a:lnTo>
                    <a:pt x="1843" y="1167"/>
                  </a:lnTo>
                  <a:lnTo>
                    <a:pt x="1828" y="1178"/>
                  </a:lnTo>
                  <a:lnTo>
                    <a:pt x="1853" y="1219"/>
                  </a:lnTo>
                  <a:lnTo>
                    <a:pt x="1853" y="1220"/>
                  </a:lnTo>
                  <a:lnTo>
                    <a:pt x="1881" y="1256"/>
                  </a:lnTo>
                  <a:lnTo>
                    <a:pt x="1895" y="1244"/>
                  </a:lnTo>
                  <a:lnTo>
                    <a:pt x="1881" y="1254"/>
                  </a:lnTo>
                  <a:lnTo>
                    <a:pt x="1906" y="1290"/>
                  </a:lnTo>
                  <a:lnTo>
                    <a:pt x="1920" y="1280"/>
                  </a:lnTo>
                  <a:lnTo>
                    <a:pt x="1905" y="1289"/>
                  </a:lnTo>
                  <a:lnTo>
                    <a:pt x="1926" y="1324"/>
                  </a:lnTo>
                  <a:lnTo>
                    <a:pt x="1927" y="1326"/>
                  </a:lnTo>
                  <a:lnTo>
                    <a:pt x="1947" y="1357"/>
                  </a:lnTo>
                  <a:lnTo>
                    <a:pt x="1948" y="1359"/>
                  </a:lnTo>
                  <a:lnTo>
                    <a:pt x="1972" y="1388"/>
                  </a:lnTo>
                  <a:lnTo>
                    <a:pt x="1985" y="1376"/>
                  </a:lnTo>
                  <a:lnTo>
                    <a:pt x="1969" y="1384"/>
                  </a:lnTo>
                  <a:lnTo>
                    <a:pt x="1985" y="1417"/>
                  </a:lnTo>
                  <a:lnTo>
                    <a:pt x="1985" y="1418"/>
                  </a:lnTo>
                  <a:lnTo>
                    <a:pt x="2004" y="1451"/>
                  </a:lnTo>
                  <a:lnTo>
                    <a:pt x="2019" y="1442"/>
                  </a:lnTo>
                  <a:lnTo>
                    <a:pt x="2004" y="1451"/>
                  </a:lnTo>
                  <a:lnTo>
                    <a:pt x="2023" y="1488"/>
                  </a:lnTo>
                  <a:lnTo>
                    <a:pt x="2043" y="1526"/>
                  </a:lnTo>
                  <a:lnTo>
                    <a:pt x="2064" y="1567"/>
                  </a:lnTo>
                  <a:lnTo>
                    <a:pt x="2085" y="1608"/>
                  </a:lnTo>
                  <a:lnTo>
                    <a:pt x="2108" y="1651"/>
                  </a:lnTo>
                  <a:lnTo>
                    <a:pt x="2130" y="1694"/>
                  </a:lnTo>
                  <a:lnTo>
                    <a:pt x="2146" y="1684"/>
                  </a:lnTo>
                  <a:lnTo>
                    <a:pt x="2129" y="1692"/>
                  </a:lnTo>
                  <a:lnTo>
                    <a:pt x="2147" y="1736"/>
                  </a:lnTo>
                  <a:lnTo>
                    <a:pt x="2149" y="1736"/>
                  </a:lnTo>
                  <a:lnTo>
                    <a:pt x="2168" y="1779"/>
                  </a:lnTo>
                  <a:lnTo>
                    <a:pt x="2188" y="1821"/>
                  </a:lnTo>
                  <a:lnTo>
                    <a:pt x="2188" y="1823"/>
                  </a:lnTo>
                  <a:lnTo>
                    <a:pt x="2209" y="1861"/>
                  </a:lnTo>
                  <a:lnTo>
                    <a:pt x="2225" y="1852"/>
                  </a:lnTo>
                  <a:lnTo>
                    <a:pt x="2208" y="1860"/>
                  </a:lnTo>
                  <a:lnTo>
                    <a:pt x="2225" y="1901"/>
                  </a:lnTo>
                  <a:lnTo>
                    <a:pt x="2242" y="1893"/>
                  </a:lnTo>
                  <a:lnTo>
                    <a:pt x="2225" y="1899"/>
                  </a:lnTo>
                  <a:lnTo>
                    <a:pt x="2238" y="1934"/>
                  </a:lnTo>
                  <a:lnTo>
                    <a:pt x="2240" y="1935"/>
                  </a:lnTo>
                  <a:lnTo>
                    <a:pt x="2254" y="1968"/>
                  </a:lnTo>
                  <a:lnTo>
                    <a:pt x="2254" y="1969"/>
                  </a:lnTo>
                  <a:lnTo>
                    <a:pt x="2270" y="1999"/>
                  </a:lnTo>
                  <a:lnTo>
                    <a:pt x="2286" y="1990"/>
                  </a:lnTo>
                  <a:lnTo>
                    <a:pt x="2269" y="1997"/>
                  </a:lnTo>
                  <a:lnTo>
                    <a:pt x="2292" y="2058"/>
                  </a:lnTo>
                  <a:lnTo>
                    <a:pt x="2310" y="2051"/>
                  </a:lnTo>
                  <a:lnTo>
                    <a:pt x="2292" y="2058"/>
                  </a:lnTo>
                  <a:lnTo>
                    <a:pt x="2316" y="2125"/>
                  </a:lnTo>
                  <a:lnTo>
                    <a:pt x="2316" y="2125"/>
                  </a:lnTo>
                  <a:lnTo>
                    <a:pt x="2341" y="2195"/>
                  </a:lnTo>
                  <a:lnTo>
                    <a:pt x="2358" y="2188"/>
                  </a:lnTo>
                  <a:lnTo>
                    <a:pt x="2341" y="2195"/>
                  </a:lnTo>
                  <a:lnTo>
                    <a:pt x="2365" y="2263"/>
                  </a:lnTo>
                  <a:lnTo>
                    <a:pt x="2382" y="2257"/>
                  </a:lnTo>
                  <a:lnTo>
                    <a:pt x="2365" y="2262"/>
                  </a:lnTo>
                  <a:lnTo>
                    <a:pt x="2385" y="2328"/>
                  </a:lnTo>
                  <a:lnTo>
                    <a:pt x="2385" y="2329"/>
                  </a:lnTo>
                  <a:lnTo>
                    <a:pt x="2406" y="2387"/>
                  </a:lnTo>
                  <a:lnTo>
                    <a:pt x="2423" y="2381"/>
                  </a:lnTo>
                  <a:lnTo>
                    <a:pt x="2406" y="2386"/>
                  </a:lnTo>
                  <a:lnTo>
                    <a:pt x="2419" y="2437"/>
                  </a:lnTo>
                  <a:lnTo>
                    <a:pt x="2436" y="2432"/>
                  </a:lnTo>
                  <a:lnTo>
                    <a:pt x="2419" y="2436"/>
                  </a:lnTo>
                  <a:lnTo>
                    <a:pt x="2469" y="2647"/>
                  </a:lnTo>
                  <a:lnTo>
                    <a:pt x="2486" y="2625"/>
                  </a:lnTo>
                  <a:lnTo>
                    <a:pt x="2480" y="2626"/>
                  </a:lnTo>
                  <a:lnTo>
                    <a:pt x="2473" y="2630"/>
                  </a:lnTo>
                  <a:lnTo>
                    <a:pt x="2469" y="2636"/>
                  </a:lnTo>
                  <a:lnTo>
                    <a:pt x="2468" y="2643"/>
                  </a:lnTo>
                  <a:lnTo>
                    <a:pt x="2486" y="2643"/>
                  </a:lnTo>
                  <a:lnTo>
                    <a:pt x="2486" y="2625"/>
                  </a:lnTo>
                  <a:lnTo>
                    <a:pt x="19" y="2615"/>
                  </a:lnTo>
                  <a:lnTo>
                    <a:pt x="37" y="2634"/>
                  </a:lnTo>
                  <a:lnTo>
                    <a:pt x="36" y="2627"/>
                  </a:lnTo>
                  <a:lnTo>
                    <a:pt x="32" y="2621"/>
                  </a:lnTo>
                  <a:lnTo>
                    <a:pt x="25" y="2617"/>
                  </a:lnTo>
                  <a:lnTo>
                    <a:pt x="19" y="2634"/>
                  </a:lnTo>
                  <a:lnTo>
                    <a:pt x="37" y="2634"/>
                  </a:lnTo>
                  <a:lnTo>
                    <a:pt x="40" y="19"/>
                  </a:lnTo>
                  <a:lnTo>
                    <a:pt x="21" y="37"/>
                  </a:lnTo>
                  <a:lnTo>
                    <a:pt x="28" y="36"/>
                  </a:lnTo>
                  <a:lnTo>
                    <a:pt x="34" y="32"/>
                  </a:lnTo>
                  <a:lnTo>
                    <a:pt x="38" y="25"/>
                  </a:lnTo>
                  <a:lnTo>
                    <a:pt x="40" y="19"/>
                  </a:lnTo>
                  <a:lnTo>
                    <a:pt x="21" y="19"/>
                  </a:lnTo>
                  <a:lnTo>
                    <a:pt x="21" y="37"/>
                  </a:lnTo>
                  <a:lnTo>
                    <a:pt x="61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921120" y="7151760"/>
            <a:ext cx="725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0440" y="7169040"/>
            <a:ext cx="16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7680" y="7294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12000" y="7169040"/>
            <a:ext cx="31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8560" y="7294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53520" y="75024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0" y="415620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760" y="4173480"/>
            <a:ext cx="16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8000" y="42991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2320" y="4173480"/>
            <a:ext cx="31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8880" y="42991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44400" y="4425840"/>
            <a:ext cx="131760" cy="2968560"/>
            <a:chOff x="644400" y="4425840"/>
            <a:chExt cx="131760" cy="2968560"/>
          </a:xfrm>
        </p:grpSpPr>
        <p:sp>
          <p:nvSpPr>
            <p:cNvPr id="723" name=""/>
            <p:cNvSpPr/>
            <p:nvPr/>
          </p:nvSpPr>
          <p:spPr>
            <a:xfrm>
              <a:off x="693720" y="4557600"/>
              <a:ext cx="33480" cy="2836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4400" y="4425840"/>
              <a:ext cx="131760" cy="133560"/>
            </a:xfrm>
            <a:custGeom>
              <a:avLst/>
              <a:gdLst/>
              <a:ahLst/>
              <a:rect l="l" t="t" r="r" b="b"/>
              <a:pathLst>
                <a:path w="168" h="167">
                  <a:moveTo>
                    <a:pt x="168" y="167"/>
                  </a:moveTo>
                  <a:lnTo>
                    <a:pt x="83" y="0"/>
                  </a:lnTo>
                  <a:lnTo>
                    <a:pt x="0" y="167"/>
                  </a:lnTo>
                  <a:lnTo>
                    <a:pt x="168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09560" y="7329600"/>
            <a:ext cx="3141720" cy="131760"/>
            <a:chOff x="709560" y="7329600"/>
            <a:chExt cx="3141720" cy="131760"/>
          </a:xfrm>
        </p:grpSpPr>
        <p:sp>
          <p:nvSpPr>
            <p:cNvPr id="726" name=""/>
            <p:cNvSpPr/>
            <p:nvPr/>
          </p:nvSpPr>
          <p:spPr>
            <a:xfrm>
              <a:off x="709560" y="7378560"/>
              <a:ext cx="3011400" cy="3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18080" y="7329600"/>
              <a:ext cx="133200" cy="13176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0" y="167"/>
                  </a:moveTo>
                  <a:lnTo>
                    <a:pt x="167" y="83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289240" y="4064040"/>
            <a:ext cx="2052720" cy="1969920"/>
          </a:xfrm>
          <a:custGeom>
            <a:avLst/>
            <a:gdLst/>
            <a:ahLst/>
            <a:rect l="l" t="t" r="r" b="b"/>
            <a:pathLst>
              <a:path w="2588" h="2480">
                <a:moveTo>
                  <a:pt x="0" y="1444"/>
                </a:moveTo>
                <a:lnTo>
                  <a:pt x="872" y="2480"/>
                </a:lnTo>
                <a:lnTo>
                  <a:pt x="2588" y="1036"/>
                </a:lnTo>
                <a:lnTo>
                  <a:pt x="1716" y="0"/>
                </a:lnTo>
                <a:lnTo>
                  <a:pt x="0" y="14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9200000">
            <a:off x="2968920" y="5181480"/>
            <a:ext cx="164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Times New Roman"/>
              </a:rPr>
              <a:t>se incremen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19200000">
            <a:off x="2811240" y="4898880"/>
            <a:ext cx="153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Times New Roman"/>
              </a:rPr>
              <a:t>Los 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974960" y="4363920"/>
            <a:ext cx="1666800" cy="1370160"/>
            <a:chOff x="1974960" y="4363920"/>
            <a:chExt cx="1666800" cy="1370160"/>
          </a:xfrm>
        </p:grpSpPr>
        <p:sp>
          <p:nvSpPr>
            <p:cNvPr id="732" name=""/>
            <p:cNvSpPr/>
            <p:nvPr/>
          </p:nvSpPr>
          <p:spPr>
            <a:xfrm>
              <a:off x="1974960" y="4492800"/>
              <a:ext cx="1493640" cy="1241280"/>
            </a:xfrm>
            <a:custGeom>
              <a:avLst/>
              <a:gdLst/>
              <a:ahLst/>
              <a:rect l="l" t="t" r="r" b="b"/>
              <a:pathLst>
                <a:path w="1884" h="1564">
                  <a:moveTo>
                    <a:pt x="0" y="1482"/>
                  </a:moveTo>
                  <a:lnTo>
                    <a:pt x="66" y="1564"/>
                  </a:lnTo>
                  <a:lnTo>
                    <a:pt x="1884" y="82"/>
                  </a:lnTo>
                  <a:lnTo>
                    <a:pt x="1818" y="0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59160" y="4363920"/>
              <a:ext cx="282600" cy="263520"/>
            </a:xfrm>
            <a:custGeom>
              <a:avLst/>
              <a:gdLst/>
              <a:ahLst/>
              <a:rect l="l" t="t" r="r" b="b"/>
              <a:pathLst>
                <a:path w="355" h="332">
                  <a:moveTo>
                    <a:pt x="206" y="332"/>
                  </a:moveTo>
                  <a:lnTo>
                    <a:pt x="355" y="0"/>
                  </a:lnTo>
                  <a:lnTo>
                    <a:pt x="0" y="80"/>
                  </a:lnTo>
                  <a:lnTo>
                    <a:pt x="206" y="33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011320" y="5797440"/>
            <a:ext cx="655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95560" y="60087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45680" y="5826240"/>
            <a:ext cx="47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y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41720" y="4317840"/>
            <a:ext cx="329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808080"/>
                </a:solidFill>
                <a:latin typeface="Symbol"/>
                <a:ea typeface="Symbol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280" y="436572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808080"/>
                </a:solidFill>
                <a:latin typeface="Times New Roman"/>
              </a:rPr>
              <a:t>(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76600" y="4365720"/>
            <a:ext cx="21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808080"/>
                </a:solidFill>
                <a:latin typeface="Times New Roman"/>
              </a:rPr>
              <a:t>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85040" y="4365720"/>
            <a:ext cx="820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808080"/>
                </a:solidFill>
                <a:latin typeface="Times New Roman"/>
              </a:rPr>
              <a:t>) =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981000" y="4129200"/>
            <a:ext cx="1784520" cy="1278000"/>
            <a:chOff x="981000" y="4129200"/>
            <a:chExt cx="1784520" cy="1278000"/>
          </a:xfrm>
        </p:grpSpPr>
        <p:sp>
          <p:nvSpPr>
            <p:cNvPr id="742" name=""/>
            <p:cNvSpPr/>
            <p:nvPr/>
          </p:nvSpPr>
          <p:spPr>
            <a:xfrm>
              <a:off x="1031760" y="4179960"/>
              <a:ext cx="1733760" cy="1227240"/>
            </a:xfrm>
            <a:custGeom>
              <a:avLst/>
              <a:gdLst/>
              <a:ahLst/>
              <a:rect l="l" t="t" r="r" b="b"/>
              <a:pathLst>
                <a:path w="2186" h="1546">
                  <a:moveTo>
                    <a:pt x="497" y="0"/>
                  </a:moveTo>
                  <a:lnTo>
                    <a:pt x="463" y="1"/>
                  </a:lnTo>
                  <a:lnTo>
                    <a:pt x="430" y="4"/>
                  </a:lnTo>
                  <a:lnTo>
                    <a:pt x="397" y="8"/>
                  </a:lnTo>
                  <a:lnTo>
                    <a:pt x="367" y="13"/>
                  </a:lnTo>
                  <a:lnTo>
                    <a:pt x="336" y="19"/>
                  </a:lnTo>
                  <a:lnTo>
                    <a:pt x="309" y="29"/>
                  </a:lnTo>
                  <a:lnTo>
                    <a:pt x="282" y="38"/>
                  </a:lnTo>
                  <a:lnTo>
                    <a:pt x="259" y="48"/>
                  </a:lnTo>
                  <a:lnTo>
                    <a:pt x="238" y="60"/>
                  </a:lnTo>
                  <a:lnTo>
                    <a:pt x="218" y="74"/>
                  </a:lnTo>
                  <a:lnTo>
                    <a:pt x="201" y="88"/>
                  </a:lnTo>
                  <a:lnTo>
                    <a:pt x="186" y="103"/>
                  </a:lnTo>
                  <a:lnTo>
                    <a:pt x="176" y="118"/>
                  </a:lnTo>
                  <a:lnTo>
                    <a:pt x="166" y="134"/>
                  </a:lnTo>
                  <a:lnTo>
                    <a:pt x="161" y="151"/>
                  </a:lnTo>
                  <a:lnTo>
                    <a:pt x="160" y="168"/>
                  </a:lnTo>
                  <a:lnTo>
                    <a:pt x="160" y="590"/>
                  </a:lnTo>
                  <a:lnTo>
                    <a:pt x="160" y="844"/>
                  </a:lnTo>
                  <a:lnTo>
                    <a:pt x="161" y="861"/>
                  </a:lnTo>
                  <a:lnTo>
                    <a:pt x="166" y="878"/>
                  </a:lnTo>
                  <a:lnTo>
                    <a:pt x="176" y="894"/>
                  </a:lnTo>
                  <a:lnTo>
                    <a:pt x="186" y="910"/>
                  </a:lnTo>
                  <a:lnTo>
                    <a:pt x="201" y="924"/>
                  </a:lnTo>
                  <a:lnTo>
                    <a:pt x="218" y="939"/>
                  </a:lnTo>
                  <a:lnTo>
                    <a:pt x="238" y="952"/>
                  </a:lnTo>
                  <a:lnTo>
                    <a:pt x="259" y="964"/>
                  </a:lnTo>
                  <a:lnTo>
                    <a:pt x="282" y="974"/>
                  </a:lnTo>
                  <a:lnTo>
                    <a:pt x="309" y="983"/>
                  </a:lnTo>
                  <a:lnTo>
                    <a:pt x="336" y="993"/>
                  </a:lnTo>
                  <a:lnTo>
                    <a:pt x="367" y="999"/>
                  </a:lnTo>
                  <a:lnTo>
                    <a:pt x="397" y="1004"/>
                  </a:lnTo>
                  <a:lnTo>
                    <a:pt x="430" y="1008"/>
                  </a:lnTo>
                  <a:lnTo>
                    <a:pt x="463" y="1011"/>
                  </a:lnTo>
                  <a:lnTo>
                    <a:pt x="497" y="1012"/>
                  </a:lnTo>
                  <a:lnTo>
                    <a:pt x="0" y="1546"/>
                  </a:lnTo>
                  <a:lnTo>
                    <a:pt x="1004" y="1012"/>
                  </a:lnTo>
                  <a:lnTo>
                    <a:pt x="1848" y="1012"/>
                  </a:lnTo>
                  <a:lnTo>
                    <a:pt x="1882" y="1011"/>
                  </a:lnTo>
                  <a:lnTo>
                    <a:pt x="1917" y="1008"/>
                  </a:lnTo>
                  <a:lnTo>
                    <a:pt x="1948" y="1004"/>
                  </a:lnTo>
                  <a:lnTo>
                    <a:pt x="1980" y="999"/>
                  </a:lnTo>
                  <a:lnTo>
                    <a:pt x="2009" y="993"/>
                  </a:lnTo>
                  <a:lnTo>
                    <a:pt x="2037" y="983"/>
                  </a:lnTo>
                  <a:lnTo>
                    <a:pt x="2063" y="974"/>
                  </a:lnTo>
                  <a:lnTo>
                    <a:pt x="2087" y="964"/>
                  </a:lnTo>
                  <a:lnTo>
                    <a:pt x="2108" y="952"/>
                  </a:lnTo>
                  <a:lnTo>
                    <a:pt x="2128" y="939"/>
                  </a:lnTo>
                  <a:lnTo>
                    <a:pt x="2145" y="924"/>
                  </a:lnTo>
                  <a:lnTo>
                    <a:pt x="2159" y="910"/>
                  </a:lnTo>
                  <a:lnTo>
                    <a:pt x="2170" y="894"/>
                  </a:lnTo>
                  <a:lnTo>
                    <a:pt x="2179" y="878"/>
                  </a:lnTo>
                  <a:lnTo>
                    <a:pt x="2184" y="861"/>
                  </a:lnTo>
                  <a:lnTo>
                    <a:pt x="2186" y="844"/>
                  </a:lnTo>
                  <a:lnTo>
                    <a:pt x="2186" y="590"/>
                  </a:lnTo>
                  <a:lnTo>
                    <a:pt x="2186" y="168"/>
                  </a:lnTo>
                  <a:lnTo>
                    <a:pt x="2184" y="151"/>
                  </a:lnTo>
                  <a:lnTo>
                    <a:pt x="2179" y="134"/>
                  </a:lnTo>
                  <a:lnTo>
                    <a:pt x="2170" y="118"/>
                  </a:lnTo>
                  <a:lnTo>
                    <a:pt x="2159" y="103"/>
                  </a:lnTo>
                  <a:lnTo>
                    <a:pt x="2145" y="88"/>
                  </a:lnTo>
                  <a:lnTo>
                    <a:pt x="2128" y="74"/>
                  </a:lnTo>
                  <a:lnTo>
                    <a:pt x="2108" y="60"/>
                  </a:lnTo>
                  <a:lnTo>
                    <a:pt x="2087" y="48"/>
                  </a:lnTo>
                  <a:lnTo>
                    <a:pt x="2063" y="38"/>
                  </a:lnTo>
                  <a:lnTo>
                    <a:pt x="2037" y="29"/>
                  </a:lnTo>
                  <a:lnTo>
                    <a:pt x="2009" y="19"/>
                  </a:lnTo>
                  <a:lnTo>
                    <a:pt x="1980" y="13"/>
                  </a:lnTo>
                  <a:lnTo>
                    <a:pt x="1948" y="8"/>
                  </a:lnTo>
                  <a:lnTo>
                    <a:pt x="1917" y="4"/>
                  </a:lnTo>
                  <a:lnTo>
                    <a:pt x="1882" y="1"/>
                  </a:lnTo>
                  <a:lnTo>
                    <a:pt x="1848" y="0"/>
                  </a:lnTo>
                  <a:lnTo>
                    <a:pt x="1004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81000" y="4129200"/>
              <a:ext cx="1735200" cy="1228680"/>
            </a:xfrm>
            <a:custGeom>
              <a:avLst/>
              <a:gdLst/>
              <a:ahLst/>
              <a:rect l="l" t="t" r="r" b="b"/>
              <a:pathLst>
                <a:path w="2185" h="1547">
                  <a:moveTo>
                    <a:pt x="497" y="0"/>
                  </a:moveTo>
                  <a:lnTo>
                    <a:pt x="463" y="2"/>
                  </a:lnTo>
                  <a:lnTo>
                    <a:pt x="430" y="4"/>
                  </a:lnTo>
                  <a:lnTo>
                    <a:pt x="397" y="8"/>
                  </a:lnTo>
                  <a:lnTo>
                    <a:pt x="366" y="14"/>
                  </a:lnTo>
                  <a:lnTo>
                    <a:pt x="336" y="20"/>
                  </a:lnTo>
                  <a:lnTo>
                    <a:pt x="308" y="29"/>
                  </a:lnTo>
                  <a:lnTo>
                    <a:pt x="282" y="39"/>
                  </a:lnTo>
                  <a:lnTo>
                    <a:pt x="258" y="49"/>
                  </a:lnTo>
                  <a:lnTo>
                    <a:pt x="237" y="61"/>
                  </a:lnTo>
                  <a:lnTo>
                    <a:pt x="217" y="74"/>
                  </a:lnTo>
                  <a:lnTo>
                    <a:pt x="200" y="89"/>
                  </a:lnTo>
                  <a:lnTo>
                    <a:pt x="186" y="103"/>
                  </a:lnTo>
                  <a:lnTo>
                    <a:pt x="175" y="119"/>
                  </a:lnTo>
                  <a:lnTo>
                    <a:pt x="166" y="135"/>
                  </a:lnTo>
                  <a:lnTo>
                    <a:pt x="161" y="152"/>
                  </a:lnTo>
                  <a:lnTo>
                    <a:pt x="159" y="169"/>
                  </a:lnTo>
                  <a:lnTo>
                    <a:pt x="159" y="591"/>
                  </a:lnTo>
                  <a:lnTo>
                    <a:pt x="159" y="844"/>
                  </a:lnTo>
                  <a:lnTo>
                    <a:pt x="161" y="861"/>
                  </a:lnTo>
                  <a:lnTo>
                    <a:pt x="166" y="879"/>
                  </a:lnTo>
                  <a:lnTo>
                    <a:pt x="175" y="894"/>
                  </a:lnTo>
                  <a:lnTo>
                    <a:pt x="186" y="910"/>
                  </a:lnTo>
                  <a:lnTo>
                    <a:pt x="200" y="925"/>
                  </a:lnTo>
                  <a:lnTo>
                    <a:pt x="217" y="939"/>
                  </a:lnTo>
                  <a:lnTo>
                    <a:pt x="237" y="952"/>
                  </a:lnTo>
                  <a:lnTo>
                    <a:pt x="258" y="964"/>
                  </a:lnTo>
                  <a:lnTo>
                    <a:pt x="282" y="975"/>
                  </a:lnTo>
                  <a:lnTo>
                    <a:pt x="308" y="984"/>
                  </a:lnTo>
                  <a:lnTo>
                    <a:pt x="336" y="993"/>
                  </a:lnTo>
                  <a:lnTo>
                    <a:pt x="366" y="1000"/>
                  </a:lnTo>
                  <a:lnTo>
                    <a:pt x="397" y="1005"/>
                  </a:lnTo>
                  <a:lnTo>
                    <a:pt x="430" y="1009"/>
                  </a:lnTo>
                  <a:lnTo>
                    <a:pt x="463" y="1012"/>
                  </a:lnTo>
                  <a:lnTo>
                    <a:pt x="497" y="1013"/>
                  </a:lnTo>
                  <a:lnTo>
                    <a:pt x="0" y="1547"/>
                  </a:lnTo>
                  <a:lnTo>
                    <a:pt x="1004" y="1013"/>
                  </a:lnTo>
                  <a:lnTo>
                    <a:pt x="1848" y="1013"/>
                  </a:lnTo>
                  <a:lnTo>
                    <a:pt x="1882" y="1012"/>
                  </a:lnTo>
                  <a:lnTo>
                    <a:pt x="1916" y="1009"/>
                  </a:lnTo>
                  <a:lnTo>
                    <a:pt x="1948" y="1005"/>
                  </a:lnTo>
                  <a:lnTo>
                    <a:pt x="1980" y="1000"/>
                  </a:lnTo>
                  <a:lnTo>
                    <a:pt x="2009" y="993"/>
                  </a:lnTo>
                  <a:lnTo>
                    <a:pt x="2036" y="984"/>
                  </a:lnTo>
                  <a:lnTo>
                    <a:pt x="2063" y="975"/>
                  </a:lnTo>
                  <a:lnTo>
                    <a:pt x="2086" y="964"/>
                  </a:lnTo>
                  <a:lnTo>
                    <a:pt x="2107" y="952"/>
                  </a:lnTo>
                  <a:lnTo>
                    <a:pt x="2127" y="939"/>
                  </a:lnTo>
                  <a:lnTo>
                    <a:pt x="2144" y="925"/>
                  </a:lnTo>
                  <a:lnTo>
                    <a:pt x="2159" y="910"/>
                  </a:lnTo>
                  <a:lnTo>
                    <a:pt x="2169" y="894"/>
                  </a:lnTo>
                  <a:lnTo>
                    <a:pt x="2179" y="879"/>
                  </a:lnTo>
                  <a:lnTo>
                    <a:pt x="2184" y="861"/>
                  </a:lnTo>
                  <a:lnTo>
                    <a:pt x="2185" y="844"/>
                  </a:lnTo>
                  <a:lnTo>
                    <a:pt x="2185" y="591"/>
                  </a:lnTo>
                  <a:lnTo>
                    <a:pt x="2185" y="169"/>
                  </a:lnTo>
                  <a:lnTo>
                    <a:pt x="2184" y="152"/>
                  </a:lnTo>
                  <a:lnTo>
                    <a:pt x="2179" y="135"/>
                  </a:lnTo>
                  <a:lnTo>
                    <a:pt x="2169" y="119"/>
                  </a:lnTo>
                  <a:lnTo>
                    <a:pt x="2159" y="103"/>
                  </a:lnTo>
                  <a:lnTo>
                    <a:pt x="2144" y="89"/>
                  </a:lnTo>
                  <a:lnTo>
                    <a:pt x="2127" y="74"/>
                  </a:lnTo>
                  <a:lnTo>
                    <a:pt x="2107" y="61"/>
                  </a:lnTo>
                  <a:lnTo>
                    <a:pt x="2086" y="49"/>
                  </a:lnTo>
                  <a:lnTo>
                    <a:pt x="2063" y="39"/>
                  </a:lnTo>
                  <a:lnTo>
                    <a:pt x="2036" y="29"/>
                  </a:lnTo>
                  <a:lnTo>
                    <a:pt x="2009" y="20"/>
                  </a:lnTo>
                  <a:lnTo>
                    <a:pt x="1980" y="14"/>
                  </a:lnTo>
                  <a:lnTo>
                    <a:pt x="1948" y="8"/>
                  </a:lnTo>
                  <a:lnTo>
                    <a:pt x="1916" y="4"/>
                  </a:lnTo>
                  <a:lnTo>
                    <a:pt x="1882" y="2"/>
                  </a:lnTo>
                  <a:lnTo>
                    <a:pt x="1848" y="0"/>
                  </a:lnTo>
                  <a:lnTo>
                    <a:pt x="1004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2400" y="4267080"/>
            <a:ext cx="329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78960" y="431496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25840" y="4314960"/>
            <a:ext cx="21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4280" y="4314960"/>
            <a:ext cx="820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38800" y="5014800"/>
            <a:ext cx="2016000" cy="1981440"/>
          </a:xfrm>
          <a:custGeom>
            <a:avLst/>
            <a:gdLst/>
            <a:ahLst/>
            <a:rect l="l" t="t" r="r" b="b"/>
            <a:pathLst>
              <a:path w="2540" h="2495">
                <a:moveTo>
                  <a:pt x="0" y="1392"/>
                </a:moveTo>
                <a:lnTo>
                  <a:pt x="990" y="2495"/>
                </a:lnTo>
                <a:lnTo>
                  <a:pt x="2540" y="1103"/>
                </a:lnTo>
                <a:lnTo>
                  <a:pt x="1550" y="0"/>
                </a:lnTo>
                <a:lnTo>
                  <a:pt x="0" y="13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9080000">
            <a:off x="5620320" y="5636880"/>
            <a:ext cx="12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imes New Roman"/>
              </a:rPr>
              <a:t>minim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19080000">
            <a:off x="6253920" y="6038640"/>
            <a:ext cx="76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69000" y="4576680"/>
            <a:ext cx="1874880" cy="2311560"/>
          </a:xfrm>
          <a:custGeom>
            <a:avLst/>
            <a:gdLst/>
            <a:ahLst/>
            <a:rect l="l" t="t" r="r" b="b"/>
            <a:pathLst>
              <a:path w="2362" h="2913">
                <a:moveTo>
                  <a:pt x="2326" y="2913"/>
                </a:moveTo>
                <a:lnTo>
                  <a:pt x="2362" y="2885"/>
                </a:lnTo>
                <a:lnTo>
                  <a:pt x="36" y="0"/>
                </a:lnTo>
                <a:lnTo>
                  <a:pt x="0" y="28"/>
                </a:lnTo>
                <a:lnTo>
                  <a:pt x="2326" y="2913"/>
                </a:lnTo>
                <a:close/>
              </a:path>
            </a:pathLst>
          </a:custGeom>
          <a:solidFill>
            <a:srgbClr val="ff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836200" y="7026120"/>
            <a:ext cx="70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880120" y="704376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029160" y="7165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116280" y="704376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399240" y="7165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70760" y="73659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30640" y="4272120"/>
            <a:ext cx="830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74920" y="428940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23960" y="441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11080" y="4289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93680" y="441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5654520" y="4535640"/>
            <a:ext cx="128880" cy="2881080"/>
            <a:chOff x="5654520" y="4535640"/>
            <a:chExt cx="128880" cy="2881080"/>
          </a:xfrm>
        </p:grpSpPr>
        <p:sp>
          <p:nvSpPr>
            <p:cNvPr id="764" name=""/>
            <p:cNvSpPr/>
            <p:nvPr/>
          </p:nvSpPr>
          <p:spPr>
            <a:xfrm>
              <a:off x="5702400" y="4662360"/>
              <a:ext cx="31680" cy="27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54520" y="4535640"/>
              <a:ext cx="128880" cy="12852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163" y="162"/>
                  </a:moveTo>
                  <a:lnTo>
                    <a:pt x="81" y="0"/>
                  </a:lnTo>
                  <a:lnTo>
                    <a:pt x="0" y="162"/>
                  </a:lnTo>
                  <a:lnTo>
                    <a:pt x="163" y="16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718240" y="7351560"/>
            <a:ext cx="3049560" cy="130320"/>
            <a:chOff x="5718240" y="7351560"/>
            <a:chExt cx="3049560" cy="130320"/>
          </a:xfrm>
        </p:grpSpPr>
        <p:sp>
          <p:nvSpPr>
            <p:cNvPr id="767" name=""/>
            <p:cNvSpPr/>
            <p:nvPr/>
          </p:nvSpPr>
          <p:spPr>
            <a:xfrm>
              <a:off x="5718240" y="7399440"/>
              <a:ext cx="2922480" cy="33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639280" y="7351560"/>
              <a:ext cx="128520" cy="1303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63" y="81"/>
                  </a:lnTo>
                  <a:lnTo>
                    <a:pt x="0" y="0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254560" y="4595760"/>
            <a:ext cx="830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298840" y="461340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7880" y="4735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836200" y="7318440"/>
            <a:ext cx="5364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880120" y="733572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029160" y="74581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86520" y="5865840"/>
            <a:ext cx="39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62120" y="607068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065360" y="63324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92200" y="52880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808080"/>
                </a:solidFill>
                <a:latin typeface="Times New Roman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104960" y="528804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80808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06120" y="52880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347600" y="5288040"/>
            <a:ext cx="40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808080"/>
                </a:solidFill>
                <a:latin typeface="Times New Roman"/>
              </a:rPr>
              <a:t>)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57280" y="52880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808080"/>
                </a:solidFill>
                <a:latin typeface="Times New Roman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68600" y="528804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80808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069400" y="528804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808080"/>
                </a:solidFill>
                <a:latin typeface="Times New Roman"/>
              </a:rPr>
              <a:t>x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57400" y="528804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6786720" y="5124600"/>
            <a:ext cx="1609560" cy="711000"/>
            <a:chOff x="6786720" y="5124600"/>
            <a:chExt cx="1609560" cy="711000"/>
          </a:xfrm>
        </p:grpSpPr>
        <p:sp>
          <p:nvSpPr>
            <p:cNvPr id="787" name=""/>
            <p:cNvSpPr/>
            <p:nvPr/>
          </p:nvSpPr>
          <p:spPr>
            <a:xfrm>
              <a:off x="6835680" y="5173560"/>
              <a:ext cx="1560600" cy="662040"/>
            </a:xfrm>
            <a:custGeom>
              <a:avLst/>
              <a:gdLst/>
              <a:ahLst/>
              <a:rect l="l" t="t" r="r" b="b"/>
              <a:pathLst>
                <a:path w="1967" h="835">
                  <a:moveTo>
                    <a:pt x="328" y="0"/>
                  </a:moveTo>
                  <a:lnTo>
                    <a:pt x="263" y="3"/>
                  </a:lnTo>
                  <a:lnTo>
                    <a:pt x="231" y="5"/>
                  </a:lnTo>
                  <a:lnTo>
                    <a:pt x="201" y="9"/>
                  </a:lnTo>
                  <a:lnTo>
                    <a:pt x="172" y="14"/>
                  </a:lnTo>
                  <a:lnTo>
                    <a:pt x="145" y="20"/>
                  </a:lnTo>
                  <a:lnTo>
                    <a:pt x="119" y="26"/>
                  </a:lnTo>
                  <a:lnTo>
                    <a:pt x="96" y="34"/>
                  </a:lnTo>
                  <a:lnTo>
                    <a:pt x="76" y="41"/>
                  </a:lnTo>
                  <a:lnTo>
                    <a:pt x="56" y="50"/>
                  </a:lnTo>
                  <a:lnTo>
                    <a:pt x="40" y="59"/>
                  </a:lnTo>
                  <a:lnTo>
                    <a:pt x="26" y="69"/>
                  </a:lnTo>
                  <a:lnTo>
                    <a:pt x="16" y="80"/>
                  </a:lnTo>
                  <a:lnTo>
                    <a:pt x="7" y="90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0" y="395"/>
                  </a:lnTo>
                  <a:lnTo>
                    <a:pt x="0" y="563"/>
                  </a:lnTo>
                  <a:lnTo>
                    <a:pt x="1" y="575"/>
                  </a:lnTo>
                  <a:lnTo>
                    <a:pt x="7" y="587"/>
                  </a:lnTo>
                  <a:lnTo>
                    <a:pt x="16" y="597"/>
                  </a:lnTo>
                  <a:lnTo>
                    <a:pt x="26" y="607"/>
                  </a:lnTo>
                  <a:lnTo>
                    <a:pt x="40" y="617"/>
                  </a:lnTo>
                  <a:lnTo>
                    <a:pt x="56" y="626"/>
                  </a:lnTo>
                  <a:lnTo>
                    <a:pt x="76" y="635"/>
                  </a:lnTo>
                  <a:lnTo>
                    <a:pt x="96" y="643"/>
                  </a:lnTo>
                  <a:lnTo>
                    <a:pt x="119" y="650"/>
                  </a:lnTo>
                  <a:lnTo>
                    <a:pt x="145" y="657"/>
                  </a:lnTo>
                  <a:lnTo>
                    <a:pt x="172" y="662"/>
                  </a:lnTo>
                  <a:lnTo>
                    <a:pt x="201" y="667"/>
                  </a:lnTo>
                  <a:lnTo>
                    <a:pt x="231" y="671"/>
                  </a:lnTo>
                  <a:lnTo>
                    <a:pt x="263" y="674"/>
                  </a:lnTo>
                  <a:lnTo>
                    <a:pt x="328" y="676"/>
                  </a:lnTo>
                  <a:lnTo>
                    <a:pt x="95" y="835"/>
                  </a:lnTo>
                  <a:lnTo>
                    <a:pt x="819" y="676"/>
                  </a:lnTo>
                  <a:lnTo>
                    <a:pt x="1639" y="676"/>
                  </a:lnTo>
                  <a:lnTo>
                    <a:pt x="1705" y="674"/>
                  </a:lnTo>
                  <a:lnTo>
                    <a:pt x="1736" y="671"/>
                  </a:lnTo>
                  <a:lnTo>
                    <a:pt x="1767" y="667"/>
                  </a:lnTo>
                  <a:lnTo>
                    <a:pt x="1795" y="662"/>
                  </a:lnTo>
                  <a:lnTo>
                    <a:pt x="1822" y="657"/>
                  </a:lnTo>
                  <a:lnTo>
                    <a:pt x="1847" y="650"/>
                  </a:lnTo>
                  <a:lnTo>
                    <a:pt x="1871" y="643"/>
                  </a:lnTo>
                  <a:lnTo>
                    <a:pt x="1891" y="635"/>
                  </a:lnTo>
                  <a:lnTo>
                    <a:pt x="1910" y="626"/>
                  </a:lnTo>
                  <a:lnTo>
                    <a:pt x="1927" y="617"/>
                  </a:lnTo>
                  <a:lnTo>
                    <a:pt x="1941" y="607"/>
                  </a:lnTo>
                  <a:lnTo>
                    <a:pt x="1951" y="597"/>
                  </a:lnTo>
                  <a:lnTo>
                    <a:pt x="1960" y="587"/>
                  </a:lnTo>
                  <a:lnTo>
                    <a:pt x="1965" y="575"/>
                  </a:lnTo>
                  <a:lnTo>
                    <a:pt x="1967" y="563"/>
                  </a:lnTo>
                  <a:lnTo>
                    <a:pt x="1967" y="395"/>
                  </a:lnTo>
                  <a:lnTo>
                    <a:pt x="1967" y="113"/>
                  </a:lnTo>
                  <a:lnTo>
                    <a:pt x="1965" y="101"/>
                  </a:lnTo>
                  <a:lnTo>
                    <a:pt x="1960" y="90"/>
                  </a:lnTo>
                  <a:lnTo>
                    <a:pt x="1951" y="80"/>
                  </a:lnTo>
                  <a:lnTo>
                    <a:pt x="1941" y="69"/>
                  </a:lnTo>
                  <a:lnTo>
                    <a:pt x="1927" y="59"/>
                  </a:lnTo>
                  <a:lnTo>
                    <a:pt x="1910" y="50"/>
                  </a:lnTo>
                  <a:lnTo>
                    <a:pt x="1891" y="41"/>
                  </a:lnTo>
                  <a:lnTo>
                    <a:pt x="1871" y="34"/>
                  </a:lnTo>
                  <a:lnTo>
                    <a:pt x="1847" y="26"/>
                  </a:lnTo>
                  <a:lnTo>
                    <a:pt x="1822" y="20"/>
                  </a:lnTo>
                  <a:lnTo>
                    <a:pt x="1795" y="14"/>
                  </a:lnTo>
                  <a:lnTo>
                    <a:pt x="1767" y="9"/>
                  </a:lnTo>
                  <a:lnTo>
                    <a:pt x="1736" y="5"/>
                  </a:lnTo>
                  <a:lnTo>
                    <a:pt x="1705" y="3"/>
                  </a:lnTo>
                  <a:lnTo>
                    <a:pt x="1639" y="0"/>
                  </a:lnTo>
                  <a:lnTo>
                    <a:pt x="81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86720" y="5124600"/>
              <a:ext cx="1562040" cy="661680"/>
            </a:xfrm>
            <a:custGeom>
              <a:avLst/>
              <a:gdLst/>
              <a:ahLst/>
              <a:rect l="l" t="t" r="r" b="b"/>
              <a:pathLst>
                <a:path w="1966" h="834">
                  <a:moveTo>
                    <a:pt x="327" y="0"/>
                  </a:moveTo>
                  <a:lnTo>
                    <a:pt x="262" y="3"/>
                  </a:lnTo>
                  <a:lnTo>
                    <a:pt x="230" y="5"/>
                  </a:lnTo>
                  <a:lnTo>
                    <a:pt x="201" y="9"/>
                  </a:lnTo>
                  <a:lnTo>
                    <a:pt x="171" y="14"/>
                  </a:lnTo>
                  <a:lnTo>
                    <a:pt x="144" y="19"/>
                  </a:lnTo>
                  <a:lnTo>
                    <a:pt x="119" y="26"/>
                  </a:lnTo>
                  <a:lnTo>
                    <a:pt x="96" y="33"/>
                  </a:lnTo>
                  <a:lnTo>
                    <a:pt x="75" y="41"/>
                  </a:lnTo>
                  <a:lnTo>
                    <a:pt x="56" y="50"/>
                  </a:lnTo>
                  <a:lnTo>
                    <a:pt x="39" y="59"/>
                  </a:lnTo>
                  <a:lnTo>
                    <a:pt x="25" y="69"/>
                  </a:lnTo>
                  <a:lnTo>
                    <a:pt x="15" y="79"/>
                  </a:lnTo>
                  <a:lnTo>
                    <a:pt x="6" y="90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0" y="394"/>
                  </a:lnTo>
                  <a:lnTo>
                    <a:pt x="0" y="563"/>
                  </a:lnTo>
                  <a:lnTo>
                    <a:pt x="1" y="575"/>
                  </a:lnTo>
                  <a:lnTo>
                    <a:pt x="6" y="586"/>
                  </a:lnTo>
                  <a:lnTo>
                    <a:pt x="15" y="596"/>
                  </a:lnTo>
                  <a:lnTo>
                    <a:pt x="25" y="607"/>
                  </a:lnTo>
                  <a:lnTo>
                    <a:pt x="39" y="617"/>
                  </a:lnTo>
                  <a:lnTo>
                    <a:pt x="56" y="626"/>
                  </a:lnTo>
                  <a:lnTo>
                    <a:pt x="75" y="635"/>
                  </a:lnTo>
                  <a:lnTo>
                    <a:pt x="96" y="642"/>
                  </a:lnTo>
                  <a:lnTo>
                    <a:pt x="119" y="650"/>
                  </a:lnTo>
                  <a:lnTo>
                    <a:pt x="144" y="656"/>
                  </a:lnTo>
                  <a:lnTo>
                    <a:pt x="171" y="662"/>
                  </a:lnTo>
                  <a:lnTo>
                    <a:pt x="201" y="667"/>
                  </a:lnTo>
                  <a:lnTo>
                    <a:pt x="230" y="671"/>
                  </a:lnTo>
                  <a:lnTo>
                    <a:pt x="262" y="673"/>
                  </a:lnTo>
                  <a:lnTo>
                    <a:pt x="327" y="676"/>
                  </a:lnTo>
                  <a:lnTo>
                    <a:pt x="94" y="834"/>
                  </a:lnTo>
                  <a:lnTo>
                    <a:pt x="819" y="676"/>
                  </a:lnTo>
                  <a:lnTo>
                    <a:pt x="1638" y="676"/>
                  </a:lnTo>
                  <a:lnTo>
                    <a:pt x="1705" y="673"/>
                  </a:lnTo>
                  <a:lnTo>
                    <a:pt x="1736" y="671"/>
                  </a:lnTo>
                  <a:lnTo>
                    <a:pt x="1766" y="667"/>
                  </a:lnTo>
                  <a:lnTo>
                    <a:pt x="1795" y="662"/>
                  </a:lnTo>
                  <a:lnTo>
                    <a:pt x="1821" y="656"/>
                  </a:lnTo>
                  <a:lnTo>
                    <a:pt x="1847" y="650"/>
                  </a:lnTo>
                  <a:lnTo>
                    <a:pt x="1870" y="642"/>
                  </a:lnTo>
                  <a:lnTo>
                    <a:pt x="1891" y="635"/>
                  </a:lnTo>
                  <a:lnTo>
                    <a:pt x="1910" y="626"/>
                  </a:lnTo>
                  <a:lnTo>
                    <a:pt x="1926" y="617"/>
                  </a:lnTo>
                  <a:lnTo>
                    <a:pt x="1940" y="607"/>
                  </a:lnTo>
                  <a:lnTo>
                    <a:pt x="1951" y="596"/>
                  </a:lnTo>
                  <a:lnTo>
                    <a:pt x="1960" y="586"/>
                  </a:lnTo>
                  <a:lnTo>
                    <a:pt x="1965" y="575"/>
                  </a:lnTo>
                  <a:lnTo>
                    <a:pt x="1966" y="563"/>
                  </a:lnTo>
                  <a:lnTo>
                    <a:pt x="1966" y="394"/>
                  </a:lnTo>
                  <a:lnTo>
                    <a:pt x="1966" y="113"/>
                  </a:lnTo>
                  <a:lnTo>
                    <a:pt x="1965" y="101"/>
                  </a:lnTo>
                  <a:lnTo>
                    <a:pt x="1960" y="90"/>
                  </a:lnTo>
                  <a:lnTo>
                    <a:pt x="1951" y="79"/>
                  </a:lnTo>
                  <a:lnTo>
                    <a:pt x="1940" y="69"/>
                  </a:lnTo>
                  <a:lnTo>
                    <a:pt x="1926" y="59"/>
                  </a:lnTo>
                  <a:lnTo>
                    <a:pt x="1910" y="50"/>
                  </a:lnTo>
                  <a:lnTo>
                    <a:pt x="1891" y="41"/>
                  </a:lnTo>
                  <a:lnTo>
                    <a:pt x="1870" y="33"/>
                  </a:lnTo>
                  <a:lnTo>
                    <a:pt x="1847" y="26"/>
                  </a:lnTo>
                  <a:lnTo>
                    <a:pt x="1821" y="19"/>
                  </a:lnTo>
                  <a:lnTo>
                    <a:pt x="1795" y="14"/>
                  </a:lnTo>
                  <a:lnTo>
                    <a:pt x="1766" y="9"/>
                  </a:lnTo>
                  <a:lnTo>
                    <a:pt x="1736" y="5"/>
                  </a:lnTo>
                  <a:lnTo>
                    <a:pt x="1705" y="3"/>
                  </a:lnTo>
                  <a:lnTo>
                    <a:pt x="1638" y="0"/>
                  </a:lnTo>
                  <a:lnTo>
                    <a:pt x="819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844680" y="524016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55640" y="52401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56800" y="52401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98640" y="5240160"/>
            <a:ext cx="40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07960" y="524016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19280" y="52401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020080" y="524016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309880" y="52401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762520" y="5826240"/>
            <a:ext cx="954360" cy="898560"/>
            <a:chOff x="5762520" y="5826240"/>
            <a:chExt cx="954360" cy="898560"/>
          </a:xfrm>
        </p:grpSpPr>
        <p:sp>
          <p:nvSpPr>
            <p:cNvPr id="798" name=""/>
            <p:cNvSpPr/>
            <p:nvPr/>
          </p:nvSpPr>
          <p:spPr>
            <a:xfrm>
              <a:off x="5915160" y="5826240"/>
              <a:ext cx="801720" cy="758880"/>
            </a:xfrm>
            <a:custGeom>
              <a:avLst/>
              <a:gdLst/>
              <a:ahLst/>
              <a:rect l="l" t="t" r="r" b="b"/>
              <a:pathLst>
                <a:path w="1010" h="956">
                  <a:moveTo>
                    <a:pt x="1010" y="74"/>
                  </a:moveTo>
                  <a:lnTo>
                    <a:pt x="941" y="0"/>
                  </a:lnTo>
                  <a:lnTo>
                    <a:pt x="0" y="882"/>
                  </a:lnTo>
                  <a:lnTo>
                    <a:pt x="69" y="956"/>
                  </a:lnTo>
                  <a:lnTo>
                    <a:pt x="1010" y="7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62520" y="6462720"/>
              <a:ext cx="266760" cy="262080"/>
            </a:xfrm>
            <a:custGeom>
              <a:avLst/>
              <a:gdLst/>
              <a:ahLst/>
              <a:rect l="l" t="t" r="r" b="b"/>
              <a:pathLst>
                <a:path w="338" h="332">
                  <a:moveTo>
                    <a:pt x="122" y="0"/>
                  </a:moveTo>
                  <a:lnTo>
                    <a:pt x="0" y="332"/>
                  </a:lnTo>
                  <a:lnTo>
                    <a:pt x="338" y="231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0" y="685800"/>
            <a:ext cx="100584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resultado de separación nos sugiere el siguiente interrogant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3360" y="2030760"/>
            <a:ext cx="9931680" cy="5859720"/>
          </a:xfrm>
          <a:prstGeom prst="roundRect">
            <a:avLst>
              <a:gd name="adj" fmla="val 0"/>
            </a:avLst>
          </a:prstGeom>
          <a:solidFill>
            <a:srgbClr val="810000"/>
          </a:soli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9880" y="3352680"/>
            <a:ext cx="575640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ff81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700" spc="-1" strike="noStrike">
                <a:solidFill>
                  <a:srgbClr val="ff0080"/>
                </a:solidFill>
                <a:latin typeface="Arial"/>
              </a:rPr>
              <a:t>...todo depende de las propiedades del conjunto involucrado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531720" y="1605240"/>
            <a:ext cx="4228920" cy="6724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3500000"/>
          </a:gra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400080"/>
                </a:solidFill>
                <a:latin typeface="Brush738 BT"/>
              </a:rPr>
              <a:t>¿Puede hacerse este truco siempre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979800" y="2523960"/>
            <a:ext cx="6078600" cy="5248440"/>
            <a:chOff x="3979800" y="2523960"/>
            <a:chExt cx="6078600" cy="5248440"/>
          </a:xfrm>
        </p:grpSpPr>
        <p:sp>
          <p:nvSpPr>
            <p:cNvPr id="806" name=""/>
            <p:cNvSpPr/>
            <p:nvPr/>
          </p:nvSpPr>
          <p:spPr>
            <a:xfrm>
              <a:off x="3979800" y="2523960"/>
              <a:ext cx="6078600" cy="5248440"/>
            </a:xfrm>
            <a:custGeom>
              <a:avLst/>
              <a:gdLst/>
              <a:ahLst/>
              <a:rect l="l" t="t" r="r" b="b"/>
              <a:pathLst>
                <a:path w="3829" h="3306">
                  <a:moveTo>
                    <a:pt x="3828" y="1621"/>
                  </a:moveTo>
                  <a:lnTo>
                    <a:pt x="3828" y="1621"/>
                  </a:lnTo>
                  <a:lnTo>
                    <a:pt x="1572" y="0"/>
                  </a:lnTo>
                  <a:lnTo>
                    <a:pt x="1835" y="812"/>
                  </a:lnTo>
                  <a:lnTo>
                    <a:pt x="0" y="812"/>
                  </a:lnTo>
                  <a:lnTo>
                    <a:pt x="0" y="2548"/>
                  </a:lnTo>
                  <a:lnTo>
                    <a:pt x="1835" y="2548"/>
                  </a:lnTo>
                  <a:lnTo>
                    <a:pt x="1572" y="3305"/>
                  </a:lnTo>
                  <a:lnTo>
                    <a:pt x="3828" y="1621"/>
                  </a:lnTo>
                  <a:lnTo>
                    <a:pt x="3828" y="1621"/>
                  </a:lnTo>
                </a:path>
              </a:pathLst>
            </a:custGeom>
            <a:gradFill rotWithShape="0">
              <a:gsLst>
                <a:gs pos="0">
                  <a:srgbClr val="ff8100"/>
                </a:gs>
                <a:gs pos="50000">
                  <a:srgbClr val="ffffc2"/>
                </a:gs>
                <a:gs pos="100000">
                  <a:srgbClr val="ff8100"/>
                </a:gs>
              </a:gsLst>
              <a:lin ang="13500000"/>
            </a:gradFill>
            <a:ln w="4752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32240" y="4314600"/>
              <a:ext cx="458316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5100" spc="-1" strike="noStrike">
                  <a:solidFill>
                    <a:srgbClr val="008000"/>
                  </a:solidFill>
                  <a:latin typeface="Brush738 BT"/>
                </a:rPr>
                <a:t>necesitamos h una excursión matemática...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cualquier conjunto convex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en 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05080" y="2438280"/>
            <a:ext cx="2735280" cy="2724120"/>
          </a:xfrm>
          <a:custGeom>
            <a:avLst/>
            <a:gdLst/>
            <a:ahLst/>
            <a:rect l="l" t="t" r="r" b="b"/>
            <a:pathLst>
              <a:path w="1723" h="1716">
                <a:moveTo>
                  <a:pt x="707" y="0"/>
                </a:moveTo>
                <a:lnTo>
                  <a:pt x="920" y="4"/>
                </a:lnTo>
                <a:lnTo>
                  <a:pt x="962" y="7"/>
                </a:lnTo>
                <a:lnTo>
                  <a:pt x="1010" y="15"/>
                </a:lnTo>
                <a:lnTo>
                  <a:pt x="1059" y="28"/>
                </a:lnTo>
                <a:lnTo>
                  <a:pt x="1111" y="41"/>
                </a:lnTo>
                <a:lnTo>
                  <a:pt x="1159" y="58"/>
                </a:lnTo>
                <a:lnTo>
                  <a:pt x="1205" y="77"/>
                </a:lnTo>
                <a:lnTo>
                  <a:pt x="1244" y="98"/>
                </a:lnTo>
                <a:lnTo>
                  <a:pt x="1276" y="116"/>
                </a:lnTo>
                <a:lnTo>
                  <a:pt x="1305" y="144"/>
                </a:lnTo>
                <a:lnTo>
                  <a:pt x="1342" y="181"/>
                </a:lnTo>
                <a:lnTo>
                  <a:pt x="1378" y="228"/>
                </a:lnTo>
                <a:lnTo>
                  <a:pt x="1419" y="279"/>
                </a:lnTo>
                <a:lnTo>
                  <a:pt x="1456" y="336"/>
                </a:lnTo>
                <a:lnTo>
                  <a:pt x="1494" y="395"/>
                </a:lnTo>
                <a:lnTo>
                  <a:pt x="1528" y="453"/>
                </a:lnTo>
                <a:lnTo>
                  <a:pt x="1559" y="507"/>
                </a:lnTo>
                <a:lnTo>
                  <a:pt x="1570" y="535"/>
                </a:lnTo>
                <a:lnTo>
                  <a:pt x="1584" y="563"/>
                </a:lnTo>
                <a:lnTo>
                  <a:pt x="1597" y="595"/>
                </a:lnTo>
                <a:lnTo>
                  <a:pt x="1611" y="626"/>
                </a:lnTo>
                <a:lnTo>
                  <a:pt x="1624" y="658"/>
                </a:lnTo>
                <a:lnTo>
                  <a:pt x="1636" y="691"/>
                </a:lnTo>
                <a:lnTo>
                  <a:pt x="1648" y="726"/>
                </a:lnTo>
                <a:lnTo>
                  <a:pt x="1661" y="756"/>
                </a:lnTo>
                <a:lnTo>
                  <a:pt x="1672" y="789"/>
                </a:lnTo>
                <a:lnTo>
                  <a:pt x="1682" y="819"/>
                </a:lnTo>
                <a:lnTo>
                  <a:pt x="1690" y="850"/>
                </a:lnTo>
                <a:lnTo>
                  <a:pt x="1699" y="878"/>
                </a:lnTo>
                <a:lnTo>
                  <a:pt x="1706" y="904"/>
                </a:lnTo>
                <a:lnTo>
                  <a:pt x="1710" y="928"/>
                </a:lnTo>
                <a:lnTo>
                  <a:pt x="1714" y="950"/>
                </a:lnTo>
                <a:lnTo>
                  <a:pt x="1720" y="966"/>
                </a:lnTo>
                <a:lnTo>
                  <a:pt x="1722" y="1003"/>
                </a:lnTo>
                <a:lnTo>
                  <a:pt x="1723" y="1045"/>
                </a:lnTo>
                <a:lnTo>
                  <a:pt x="1722" y="1092"/>
                </a:lnTo>
                <a:lnTo>
                  <a:pt x="1722" y="1139"/>
                </a:lnTo>
                <a:lnTo>
                  <a:pt x="1718" y="1186"/>
                </a:lnTo>
                <a:lnTo>
                  <a:pt x="1714" y="1231"/>
                </a:lnTo>
                <a:lnTo>
                  <a:pt x="1708" y="1272"/>
                </a:lnTo>
                <a:lnTo>
                  <a:pt x="1702" y="1304"/>
                </a:lnTo>
                <a:lnTo>
                  <a:pt x="1687" y="1338"/>
                </a:lnTo>
                <a:lnTo>
                  <a:pt x="1660" y="1375"/>
                </a:lnTo>
                <a:lnTo>
                  <a:pt x="1620" y="1416"/>
                </a:lnTo>
                <a:lnTo>
                  <a:pt x="1575" y="1454"/>
                </a:lnTo>
                <a:lnTo>
                  <a:pt x="1521" y="1495"/>
                </a:lnTo>
                <a:lnTo>
                  <a:pt x="1462" y="1532"/>
                </a:lnTo>
                <a:lnTo>
                  <a:pt x="1401" y="1565"/>
                </a:lnTo>
                <a:lnTo>
                  <a:pt x="1342" y="1591"/>
                </a:lnTo>
                <a:lnTo>
                  <a:pt x="1310" y="1602"/>
                </a:lnTo>
                <a:lnTo>
                  <a:pt x="1276" y="1614"/>
                </a:lnTo>
                <a:lnTo>
                  <a:pt x="1240" y="1626"/>
                </a:lnTo>
                <a:lnTo>
                  <a:pt x="1205" y="1637"/>
                </a:lnTo>
                <a:lnTo>
                  <a:pt x="1167" y="1648"/>
                </a:lnTo>
                <a:lnTo>
                  <a:pt x="1129" y="1659"/>
                </a:lnTo>
                <a:lnTo>
                  <a:pt x="1090" y="1669"/>
                </a:lnTo>
                <a:lnTo>
                  <a:pt x="1053" y="1678"/>
                </a:lnTo>
                <a:lnTo>
                  <a:pt x="1016" y="1686"/>
                </a:lnTo>
                <a:lnTo>
                  <a:pt x="980" y="1694"/>
                </a:lnTo>
                <a:lnTo>
                  <a:pt x="944" y="1702"/>
                </a:lnTo>
                <a:lnTo>
                  <a:pt x="912" y="1706"/>
                </a:lnTo>
                <a:lnTo>
                  <a:pt x="880" y="1711"/>
                </a:lnTo>
                <a:lnTo>
                  <a:pt x="853" y="1714"/>
                </a:lnTo>
                <a:lnTo>
                  <a:pt x="827" y="1716"/>
                </a:lnTo>
                <a:lnTo>
                  <a:pt x="807" y="1716"/>
                </a:lnTo>
                <a:lnTo>
                  <a:pt x="785" y="1715"/>
                </a:lnTo>
                <a:lnTo>
                  <a:pt x="762" y="1714"/>
                </a:lnTo>
                <a:lnTo>
                  <a:pt x="736" y="1709"/>
                </a:lnTo>
                <a:lnTo>
                  <a:pt x="710" y="1704"/>
                </a:lnTo>
                <a:lnTo>
                  <a:pt x="681" y="1698"/>
                </a:lnTo>
                <a:lnTo>
                  <a:pt x="652" y="1691"/>
                </a:lnTo>
                <a:lnTo>
                  <a:pt x="622" y="1682"/>
                </a:lnTo>
                <a:lnTo>
                  <a:pt x="594" y="1672"/>
                </a:lnTo>
                <a:lnTo>
                  <a:pt x="562" y="1662"/>
                </a:lnTo>
                <a:lnTo>
                  <a:pt x="534" y="1651"/>
                </a:lnTo>
                <a:lnTo>
                  <a:pt x="504" y="1639"/>
                </a:lnTo>
                <a:lnTo>
                  <a:pt x="476" y="1626"/>
                </a:lnTo>
                <a:lnTo>
                  <a:pt x="450" y="1613"/>
                </a:lnTo>
                <a:lnTo>
                  <a:pt x="424" y="1601"/>
                </a:lnTo>
                <a:lnTo>
                  <a:pt x="398" y="1588"/>
                </a:lnTo>
                <a:lnTo>
                  <a:pt x="381" y="1574"/>
                </a:lnTo>
                <a:lnTo>
                  <a:pt x="339" y="1542"/>
                </a:lnTo>
                <a:lnTo>
                  <a:pt x="296" y="1503"/>
                </a:lnTo>
                <a:lnTo>
                  <a:pt x="252" y="1459"/>
                </a:lnTo>
                <a:lnTo>
                  <a:pt x="211" y="1409"/>
                </a:lnTo>
                <a:lnTo>
                  <a:pt x="172" y="1360"/>
                </a:lnTo>
                <a:lnTo>
                  <a:pt x="138" y="1309"/>
                </a:lnTo>
                <a:lnTo>
                  <a:pt x="111" y="1262"/>
                </a:lnTo>
                <a:lnTo>
                  <a:pt x="94" y="1218"/>
                </a:lnTo>
                <a:lnTo>
                  <a:pt x="79" y="1174"/>
                </a:lnTo>
                <a:lnTo>
                  <a:pt x="65" y="1122"/>
                </a:lnTo>
                <a:lnTo>
                  <a:pt x="49" y="1067"/>
                </a:lnTo>
                <a:lnTo>
                  <a:pt x="37" y="1006"/>
                </a:lnTo>
                <a:lnTo>
                  <a:pt x="25" y="947"/>
                </a:lnTo>
                <a:lnTo>
                  <a:pt x="14" y="890"/>
                </a:lnTo>
                <a:lnTo>
                  <a:pt x="6" y="839"/>
                </a:lnTo>
                <a:lnTo>
                  <a:pt x="2" y="793"/>
                </a:lnTo>
                <a:lnTo>
                  <a:pt x="0" y="749"/>
                </a:lnTo>
                <a:lnTo>
                  <a:pt x="2" y="696"/>
                </a:lnTo>
                <a:lnTo>
                  <a:pt x="6" y="641"/>
                </a:lnTo>
                <a:lnTo>
                  <a:pt x="13" y="580"/>
                </a:lnTo>
                <a:lnTo>
                  <a:pt x="22" y="522"/>
                </a:lnTo>
                <a:lnTo>
                  <a:pt x="32" y="464"/>
                </a:lnTo>
                <a:lnTo>
                  <a:pt x="44" y="414"/>
                </a:lnTo>
                <a:lnTo>
                  <a:pt x="59" y="368"/>
                </a:lnTo>
                <a:lnTo>
                  <a:pt x="78" y="327"/>
                </a:lnTo>
                <a:lnTo>
                  <a:pt x="110" y="284"/>
                </a:lnTo>
                <a:lnTo>
                  <a:pt x="150" y="240"/>
                </a:lnTo>
                <a:lnTo>
                  <a:pt x="198" y="196"/>
                </a:lnTo>
                <a:lnTo>
                  <a:pt x="250" y="158"/>
                </a:lnTo>
                <a:lnTo>
                  <a:pt x="304" y="122"/>
                </a:lnTo>
                <a:lnTo>
                  <a:pt x="359" y="95"/>
                </a:lnTo>
                <a:lnTo>
                  <a:pt x="653" y="14"/>
                </a:lnTo>
                <a:lnTo>
                  <a:pt x="707" y="0"/>
                </a:lnTo>
                <a:lnTo>
                  <a:pt x="707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523880" y="2566800"/>
            <a:ext cx="0" cy="44305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23880" y="6997680"/>
            <a:ext cx="468972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693432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2120" y="259092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360" y="457200"/>
            <a:ext cx="96710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ibujemos una recta entre dos puntos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20920" y="3278160"/>
            <a:ext cx="1797120" cy="1798560"/>
          </a:xfrm>
          <a:prstGeom prst="line">
            <a:avLst/>
          </a:prstGeom>
          <a:ln w="6336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40920" y="3048120"/>
            <a:ext cx="4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25440" y="4800600"/>
            <a:ext cx="4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2414160"/>
            <a:ext cx="3733920" cy="2207160"/>
          </a:xfrm>
          <a:prstGeom prst="wedgeRoundRectCallout">
            <a:avLst>
              <a:gd name="adj1" fmla="val -71416"/>
              <a:gd name="adj2" fmla="val 76611"/>
              <a:gd name="adj3" fmla="val 16667"/>
            </a:avLst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10000"/>
                </a:solidFill>
                <a:latin typeface="Brush738 BT"/>
              </a:rPr>
              <a:t>Cualquier punto sobre la recta pertenece a A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066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58880" y="3505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711520" y="3657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63800" y="3809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16080" y="3962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68720" y="4114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2100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7328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25920" y="45720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78200" y="4724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05520" y="5328720"/>
            <a:ext cx="3047760" cy="1153800"/>
          </a:xfrm>
          <a:prstGeom prst="wedgeRoundRectCallout">
            <a:avLst>
              <a:gd name="adj1" fmla="val -85407"/>
              <a:gd name="adj2" fmla="val -70208"/>
              <a:gd name="adj3" fmla="val 16667"/>
            </a:avLst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10000"/>
                </a:solidFill>
                <a:latin typeface="Brush738 BT"/>
              </a:rPr>
              <a:t>...entonces A es conve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305080" y="2438280"/>
            <a:ext cx="2735280" cy="2724120"/>
          </a:xfrm>
          <a:custGeom>
            <a:avLst/>
            <a:gdLst/>
            <a:ahLst/>
            <a:rect l="l" t="t" r="r" b="b"/>
            <a:pathLst>
              <a:path w="1723" h="1716">
                <a:moveTo>
                  <a:pt x="707" y="0"/>
                </a:moveTo>
                <a:lnTo>
                  <a:pt x="920" y="4"/>
                </a:lnTo>
                <a:lnTo>
                  <a:pt x="962" y="7"/>
                </a:lnTo>
                <a:lnTo>
                  <a:pt x="1010" y="15"/>
                </a:lnTo>
                <a:lnTo>
                  <a:pt x="1059" y="28"/>
                </a:lnTo>
                <a:lnTo>
                  <a:pt x="1111" y="41"/>
                </a:lnTo>
                <a:lnTo>
                  <a:pt x="1159" y="58"/>
                </a:lnTo>
                <a:lnTo>
                  <a:pt x="1205" y="77"/>
                </a:lnTo>
                <a:lnTo>
                  <a:pt x="1244" y="98"/>
                </a:lnTo>
                <a:lnTo>
                  <a:pt x="1276" y="116"/>
                </a:lnTo>
                <a:lnTo>
                  <a:pt x="1305" y="144"/>
                </a:lnTo>
                <a:lnTo>
                  <a:pt x="1342" y="181"/>
                </a:lnTo>
                <a:lnTo>
                  <a:pt x="1378" y="228"/>
                </a:lnTo>
                <a:lnTo>
                  <a:pt x="1419" y="279"/>
                </a:lnTo>
                <a:lnTo>
                  <a:pt x="1456" y="336"/>
                </a:lnTo>
                <a:lnTo>
                  <a:pt x="1494" y="395"/>
                </a:lnTo>
                <a:lnTo>
                  <a:pt x="1528" y="453"/>
                </a:lnTo>
                <a:lnTo>
                  <a:pt x="1559" y="507"/>
                </a:lnTo>
                <a:lnTo>
                  <a:pt x="1570" y="535"/>
                </a:lnTo>
                <a:lnTo>
                  <a:pt x="1584" y="563"/>
                </a:lnTo>
                <a:lnTo>
                  <a:pt x="1597" y="595"/>
                </a:lnTo>
                <a:lnTo>
                  <a:pt x="1611" y="626"/>
                </a:lnTo>
                <a:lnTo>
                  <a:pt x="1624" y="658"/>
                </a:lnTo>
                <a:lnTo>
                  <a:pt x="1636" y="691"/>
                </a:lnTo>
                <a:lnTo>
                  <a:pt x="1648" y="726"/>
                </a:lnTo>
                <a:lnTo>
                  <a:pt x="1661" y="756"/>
                </a:lnTo>
                <a:lnTo>
                  <a:pt x="1672" y="789"/>
                </a:lnTo>
                <a:lnTo>
                  <a:pt x="1682" y="819"/>
                </a:lnTo>
                <a:lnTo>
                  <a:pt x="1690" y="850"/>
                </a:lnTo>
                <a:lnTo>
                  <a:pt x="1699" y="878"/>
                </a:lnTo>
                <a:lnTo>
                  <a:pt x="1706" y="904"/>
                </a:lnTo>
                <a:lnTo>
                  <a:pt x="1710" y="928"/>
                </a:lnTo>
                <a:lnTo>
                  <a:pt x="1714" y="950"/>
                </a:lnTo>
                <a:lnTo>
                  <a:pt x="1720" y="966"/>
                </a:lnTo>
                <a:lnTo>
                  <a:pt x="1722" y="1003"/>
                </a:lnTo>
                <a:lnTo>
                  <a:pt x="1723" y="1045"/>
                </a:lnTo>
                <a:lnTo>
                  <a:pt x="1722" y="1092"/>
                </a:lnTo>
                <a:lnTo>
                  <a:pt x="1722" y="1139"/>
                </a:lnTo>
                <a:lnTo>
                  <a:pt x="1718" y="1186"/>
                </a:lnTo>
                <a:lnTo>
                  <a:pt x="1714" y="1231"/>
                </a:lnTo>
                <a:lnTo>
                  <a:pt x="1708" y="1272"/>
                </a:lnTo>
                <a:lnTo>
                  <a:pt x="1702" y="1304"/>
                </a:lnTo>
                <a:lnTo>
                  <a:pt x="1687" y="1338"/>
                </a:lnTo>
                <a:lnTo>
                  <a:pt x="1660" y="1375"/>
                </a:lnTo>
                <a:lnTo>
                  <a:pt x="1620" y="1416"/>
                </a:lnTo>
                <a:lnTo>
                  <a:pt x="1575" y="1454"/>
                </a:lnTo>
                <a:lnTo>
                  <a:pt x="1521" y="1495"/>
                </a:lnTo>
                <a:lnTo>
                  <a:pt x="1462" y="1532"/>
                </a:lnTo>
                <a:lnTo>
                  <a:pt x="1401" y="1565"/>
                </a:lnTo>
                <a:lnTo>
                  <a:pt x="1342" y="1591"/>
                </a:lnTo>
                <a:lnTo>
                  <a:pt x="1310" y="1602"/>
                </a:lnTo>
                <a:lnTo>
                  <a:pt x="1276" y="1614"/>
                </a:lnTo>
                <a:lnTo>
                  <a:pt x="1240" y="1626"/>
                </a:lnTo>
                <a:lnTo>
                  <a:pt x="1205" y="1637"/>
                </a:lnTo>
                <a:lnTo>
                  <a:pt x="1167" y="1648"/>
                </a:lnTo>
                <a:lnTo>
                  <a:pt x="1129" y="1659"/>
                </a:lnTo>
                <a:lnTo>
                  <a:pt x="1090" y="1669"/>
                </a:lnTo>
                <a:lnTo>
                  <a:pt x="1053" y="1678"/>
                </a:lnTo>
                <a:lnTo>
                  <a:pt x="1016" y="1686"/>
                </a:lnTo>
                <a:lnTo>
                  <a:pt x="980" y="1694"/>
                </a:lnTo>
                <a:lnTo>
                  <a:pt x="944" y="1702"/>
                </a:lnTo>
                <a:lnTo>
                  <a:pt x="912" y="1706"/>
                </a:lnTo>
                <a:lnTo>
                  <a:pt x="880" y="1711"/>
                </a:lnTo>
                <a:lnTo>
                  <a:pt x="853" y="1714"/>
                </a:lnTo>
                <a:lnTo>
                  <a:pt x="827" y="1716"/>
                </a:lnTo>
                <a:lnTo>
                  <a:pt x="807" y="1716"/>
                </a:lnTo>
                <a:lnTo>
                  <a:pt x="785" y="1715"/>
                </a:lnTo>
                <a:lnTo>
                  <a:pt x="762" y="1714"/>
                </a:lnTo>
                <a:lnTo>
                  <a:pt x="736" y="1709"/>
                </a:lnTo>
                <a:lnTo>
                  <a:pt x="710" y="1704"/>
                </a:lnTo>
                <a:lnTo>
                  <a:pt x="681" y="1698"/>
                </a:lnTo>
                <a:lnTo>
                  <a:pt x="652" y="1691"/>
                </a:lnTo>
                <a:lnTo>
                  <a:pt x="622" y="1682"/>
                </a:lnTo>
                <a:lnTo>
                  <a:pt x="594" y="1672"/>
                </a:lnTo>
                <a:lnTo>
                  <a:pt x="562" y="1662"/>
                </a:lnTo>
                <a:lnTo>
                  <a:pt x="534" y="1651"/>
                </a:lnTo>
                <a:lnTo>
                  <a:pt x="504" y="1639"/>
                </a:lnTo>
                <a:lnTo>
                  <a:pt x="476" y="1626"/>
                </a:lnTo>
                <a:lnTo>
                  <a:pt x="450" y="1613"/>
                </a:lnTo>
                <a:lnTo>
                  <a:pt x="424" y="1601"/>
                </a:lnTo>
                <a:lnTo>
                  <a:pt x="398" y="1588"/>
                </a:lnTo>
                <a:lnTo>
                  <a:pt x="381" y="1574"/>
                </a:lnTo>
                <a:lnTo>
                  <a:pt x="339" y="1542"/>
                </a:lnTo>
                <a:lnTo>
                  <a:pt x="296" y="1503"/>
                </a:lnTo>
                <a:lnTo>
                  <a:pt x="252" y="1459"/>
                </a:lnTo>
                <a:lnTo>
                  <a:pt x="211" y="1409"/>
                </a:lnTo>
                <a:lnTo>
                  <a:pt x="172" y="1360"/>
                </a:lnTo>
                <a:lnTo>
                  <a:pt x="138" y="1309"/>
                </a:lnTo>
                <a:lnTo>
                  <a:pt x="111" y="1262"/>
                </a:lnTo>
                <a:lnTo>
                  <a:pt x="94" y="1218"/>
                </a:lnTo>
                <a:lnTo>
                  <a:pt x="79" y="1174"/>
                </a:lnTo>
                <a:lnTo>
                  <a:pt x="65" y="1122"/>
                </a:lnTo>
                <a:lnTo>
                  <a:pt x="49" y="1067"/>
                </a:lnTo>
                <a:lnTo>
                  <a:pt x="37" y="1006"/>
                </a:lnTo>
                <a:lnTo>
                  <a:pt x="25" y="947"/>
                </a:lnTo>
                <a:lnTo>
                  <a:pt x="14" y="890"/>
                </a:lnTo>
                <a:lnTo>
                  <a:pt x="6" y="839"/>
                </a:lnTo>
                <a:lnTo>
                  <a:pt x="2" y="793"/>
                </a:lnTo>
                <a:lnTo>
                  <a:pt x="0" y="749"/>
                </a:lnTo>
                <a:lnTo>
                  <a:pt x="2" y="696"/>
                </a:lnTo>
                <a:lnTo>
                  <a:pt x="6" y="641"/>
                </a:lnTo>
                <a:lnTo>
                  <a:pt x="13" y="580"/>
                </a:lnTo>
                <a:lnTo>
                  <a:pt x="22" y="522"/>
                </a:lnTo>
                <a:lnTo>
                  <a:pt x="32" y="464"/>
                </a:lnTo>
                <a:lnTo>
                  <a:pt x="44" y="414"/>
                </a:lnTo>
                <a:lnTo>
                  <a:pt x="59" y="368"/>
                </a:lnTo>
                <a:lnTo>
                  <a:pt x="78" y="327"/>
                </a:lnTo>
                <a:lnTo>
                  <a:pt x="110" y="284"/>
                </a:lnTo>
                <a:lnTo>
                  <a:pt x="150" y="240"/>
                </a:lnTo>
                <a:lnTo>
                  <a:pt x="198" y="196"/>
                </a:lnTo>
                <a:lnTo>
                  <a:pt x="250" y="158"/>
                </a:lnTo>
                <a:lnTo>
                  <a:pt x="304" y="122"/>
                </a:lnTo>
                <a:lnTo>
                  <a:pt x="359" y="95"/>
                </a:lnTo>
                <a:lnTo>
                  <a:pt x="653" y="14"/>
                </a:lnTo>
                <a:lnTo>
                  <a:pt x="707" y="0"/>
                </a:lnTo>
                <a:lnTo>
                  <a:pt x="707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os conjuntos convex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79480" y="4430880"/>
            <a:ext cx="1762200" cy="1765080"/>
          </a:xfrm>
          <a:custGeom>
            <a:avLst/>
            <a:gdLst/>
            <a:ahLst/>
            <a:rect l="l" t="t" r="r" b="b"/>
            <a:pathLst>
              <a:path w="1110" h="1112">
                <a:moveTo>
                  <a:pt x="455" y="1105"/>
                </a:moveTo>
                <a:lnTo>
                  <a:pt x="455" y="1105"/>
                </a:lnTo>
                <a:lnTo>
                  <a:pt x="593" y="1102"/>
                </a:lnTo>
                <a:lnTo>
                  <a:pt x="619" y="1099"/>
                </a:lnTo>
                <a:lnTo>
                  <a:pt x="650" y="1094"/>
                </a:lnTo>
                <a:lnTo>
                  <a:pt x="682" y="1087"/>
                </a:lnTo>
                <a:lnTo>
                  <a:pt x="716" y="1078"/>
                </a:lnTo>
                <a:lnTo>
                  <a:pt x="746" y="1066"/>
                </a:lnTo>
                <a:lnTo>
                  <a:pt x="776" y="1055"/>
                </a:lnTo>
                <a:lnTo>
                  <a:pt x="801" y="1041"/>
                </a:lnTo>
                <a:lnTo>
                  <a:pt x="822" y="1030"/>
                </a:lnTo>
                <a:lnTo>
                  <a:pt x="841" y="1011"/>
                </a:lnTo>
                <a:lnTo>
                  <a:pt x="864" y="987"/>
                </a:lnTo>
                <a:lnTo>
                  <a:pt x="887" y="957"/>
                </a:lnTo>
                <a:lnTo>
                  <a:pt x="914" y="925"/>
                </a:lnTo>
                <a:lnTo>
                  <a:pt x="938" y="888"/>
                </a:lnTo>
                <a:lnTo>
                  <a:pt x="962" y="850"/>
                </a:lnTo>
                <a:lnTo>
                  <a:pt x="983" y="813"/>
                </a:lnTo>
                <a:lnTo>
                  <a:pt x="1004" y="779"/>
                </a:lnTo>
                <a:lnTo>
                  <a:pt x="1011" y="761"/>
                </a:lnTo>
                <a:lnTo>
                  <a:pt x="1020" y="741"/>
                </a:lnTo>
                <a:lnTo>
                  <a:pt x="1028" y="721"/>
                </a:lnTo>
                <a:lnTo>
                  <a:pt x="1038" y="701"/>
                </a:lnTo>
                <a:lnTo>
                  <a:pt x="1044" y="680"/>
                </a:lnTo>
                <a:lnTo>
                  <a:pt x="1053" y="660"/>
                </a:lnTo>
                <a:lnTo>
                  <a:pt x="1061" y="638"/>
                </a:lnTo>
                <a:lnTo>
                  <a:pt x="1069" y="618"/>
                </a:lnTo>
                <a:lnTo>
                  <a:pt x="1076" y="597"/>
                </a:lnTo>
                <a:lnTo>
                  <a:pt x="1082" y="577"/>
                </a:lnTo>
                <a:lnTo>
                  <a:pt x="1088" y="558"/>
                </a:lnTo>
                <a:lnTo>
                  <a:pt x="1094" y="540"/>
                </a:lnTo>
                <a:lnTo>
                  <a:pt x="1098" y="522"/>
                </a:lnTo>
                <a:lnTo>
                  <a:pt x="1101" y="509"/>
                </a:lnTo>
                <a:lnTo>
                  <a:pt x="1104" y="494"/>
                </a:lnTo>
                <a:lnTo>
                  <a:pt x="1107" y="483"/>
                </a:lnTo>
                <a:lnTo>
                  <a:pt x="1109" y="459"/>
                </a:lnTo>
                <a:lnTo>
                  <a:pt x="1109" y="432"/>
                </a:lnTo>
                <a:lnTo>
                  <a:pt x="1109" y="402"/>
                </a:lnTo>
                <a:lnTo>
                  <a:pt x="1109" y="371"/>
                </a:lnTo>
                <a:lnTo>
                  <a:pt x="1106" y="341"/>
                </a:lnTo>
                <a:lnTo>
                  <a:pt x="1104" y="313"/>
                </a:lnTo>
                <a:lnTo>
                  <a:pt x="1100" y="285"/>
                </a:lnTo>
                <a:lnTo>
                  <a:pt x="1096" y="266"/>
                </a:lnTo>
                <a:lnTo>
                  <a:pt x="1086" y="244"/>
                </a:lnTo>
                <a:lnTo>
                  <a:pt x="1068" y="220"/>
                </a:lnTo>
                <a:lnTo>
                  <a:pt x="1043" y="193"/>
                </a:lnTo>
                <a:lnTo>
                  <a:pt x="1014" y="169"/>
                </a:lnTo>
                <a:lnTo>
                  <a:pt x="979" y="143"/>
                </a:lnTo>
                <a:lnTo>
                  <a:pt x="942" y="119"/>
                </a:lnTo>
                <a:lnTo>
                  <a:pt x="902" y="97"/>
                </a:lnTo>
                <a:lnTo>
                  <a:pt x="864" y="81"/>
                </a:lnTo>
                <a:lnTo>
                  <a:pt x="843" y="73"/>
                </a:lnTo>
                <a:lnTo>
                  <a:pt x="821" y="66"/>
                </a:lnTo>
                <a:lnTo>
                  <a:pt x="799" y="59"/>
                </a:lnTo>
                <a:lnTo>
                  <a:pt x="776" y="51"/>
                </a:lnTo>
                <a:lnTo>
                  <a:pt x="751" y="44"/>
                </a:lnTo>
                <a:lnTo>
                  <a:pt x="727" y="37"/>
                </a:lnTo>
                <a:lnTo>
                  <a:pt x="702" y="31"/>
                </a:lnTo>
                <a:lnTo>
                  <a:pt x="678" y="26"/>
                </a:lnTo>
                <a:lnTo>
                  <a:pt x="654" y="19"/>
                </a:lnTo>
                <a:lnTo>
                  <a:pt x="631" y="15"/>
                </a:lnTo>
                <a:lnTo>
                  <a:pt x="608" y="10"/>
                </a:lnTo>
                <a:lnTo>
                  <a:pt x="587" y="6"/>
                </a:lnTo>
                <a:lnTo>
                  <a:pt x="566" y="4"/>
                </a:lnTo>
                <a:lnTo>
                  <a:pt x="550" y="1"/>
                </a:lnTo>
                <a:lnTo>
                  <a:pt x="532" y="0"/>
                </a:lnTo>
                <a:lnTo>
                  <a:pt x="520" y="0"/>
                </a:lnTo>
                <a:lnTo>
                  <a:pt x="505" y="1"/>
                </a:lnTo>
                <a:lnTo>
                  <a:pt x="490" y="3"/>
                </a:lnTo>
                <a:lnTo>
                  <a:pt x="474" y="5"/>
                </a:lnTo>
                <a:lnTo>
                  <a:pt x="457" y="8"/>
                </a:lnTo>
                <a:lnTo>
                  <a:pt x="438" y="12"/>
                </a:lnTo>
                <a:lnTo>
                  <a:pt x="420" y="17"/>
                </a:lnTo>
                <a:lnTo>
                  <a:pt x="400" y="22"/>
                </a:lnTo>
                <a:lnTo>
                  <a:pt x="382" y="29"/>
                </a:lnTo>
                <a:lnTo>
                  <a:pt x="363" y="36"/>
                </a:lnTo>
                <a:lnTo>
                  <a:pt x="344" y="43"/>
                </a:lnTo>
                <a:lnTo>
                  <a:pt x="324" y="50"/>
                </a:lnTo>
                <a:lnTo>
                  <a:pt x="307" y="58"/>
                </a:lnTo>
                <a:lnTo>
                  <a:pt x="290" y="66"/>
                </a:lnTo>
                <a:lnTo>
                  <a:pt x="274" y="74"/>
                </a:lnTo>
                <a:lnTo>
                  <a:pt x="257" y="83"/>
                </a:lnTo>
                <a:lnTo>
                  <a:pt x="246" y="92"/>
                </a:lnTo>
                <a:lnTo>
                  <a:pt x="218" y="112"/>
                </a:lnTo>
                <a:lnTo>
                  <a:pt x="190" y="138"/>
                </a:lnTo>
                <a:lnTo>
                  <a:pt x="162" y="167"/>
                </a:lnTo>
                <a:lnTo>
                  <a:pt x="136" y="199"/>
                </a:lnTo>
                <a:lnTo>
                  <a:pt x="111" y="230"/>
                </a:lnTo>
                <a:lnTo>
                  <a:pt x="88" y="262"/>
                </a:lnTo>
                <a:lnTo>
                  <a:pt x="72" y="293"/>
                </a:lnTo>
                <a:lnTo>
                  <a:pt x="60" y="320"/>
                </a:lnTo>
                <a:lnTo>
                  <a:pt x="51" y="349"/>
                </a:lnTo>
                <a:lnTo>
                  <a:pt x="42" y="383"/>
                </a:lnTo>
                <a:lnTo>
                  <a:pt x="32" y="419"/>
                </a:lnTo>
                <a:lnTo>
                  <a:pt x="24" y="457"/>
                </a:lnTo>
                <a:lnTo>
                  <a:pt x="16" y="495"/>
                </a:lnTo>
                <a:lnTo>
                  <a:pt x="10" y="532"/>
                </a:lnTo>
                <a:lnTo>
                  <a:pt x="4" y="565"/>
                </a:lnTo>
                <a:lnTo>
                  <a:pt x="2" y="594"/>
                </a:lnTo>
                <a:lnTo>
                  <a:pt x="0" y="623"/>
                </a:lnTo>
                <a:lnTo>
                  <a:pt x="2" y="656"/>
                </a:lnTo>
                <a:lnTo>
                  <a:pt x="4" y="692"/>
                </a:lnTo>
                <a:lnTo>
                  <a:pt x="9" y="731"/>
                </a:lnTo>
                <a:lnTo>
                  <a:pt x="14" y="768"/>
                </a:lnTo>
                <a:lnTo>
                  <a:pt x="21" y="806"/>
                </a:lnTo>
                <a:lnTo>
                  <a:pt x="29" y="838"/>
                </a:lnTo>
                <a:lnTo>
                  <a:pt x="38" y="867"/>
                </a:lnTo>
                <a:lnTo>
                  <a:pt x="50" y="894"/>
                </a:lnTo>
                <a:lnTo>
                  <a:pt x="71" y="922"/>
                </a:lnTo>
                <a:lnTo>
                  <a:pt x="97" y="950"/>
                </a:lnTo>
                <a:lnTo>
                  <a:pt x="128" y="977"/>
                </a:lnTo>
                <a:lnTo>
                  <a:pt x="161" y="1003"/>
                </a:lnTo>
                <a:lnTo>
                  <a:pt x="196" y="1026"/>
                </a:lnTo>
                <a:lnTo>
                  <a:pt x="232" y="1043"/>
                </a:lnTo>
                <a:lnTo>
                  <a:pt x="450" y="1111"/>
                </a:lnTo>
                <a:lnTo>
                  <a:pt x="455" y="1105"/>
                </a:lnTo>
                <a:lnTo>
                  <a:pt x="455" y="110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76840" y="2550960"/>
            <a:ext cx="1430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convex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120" y="4010040"/>
            <a:ext cx="1430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convex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66680" y="6094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juntos convexos y no-convex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46920" y="3770280"/>
            <a:ext cx="2736720" cy="2741760"/>
          </a:xfrm>
          <a:custGeom>
            <a:avLst/>
            <a:gdLst/>
            <a:ahLst/>
            <a:rect l="l" t="t" r="r" b="b"/>
            <a:pathLst>
              <a:path w="1724" h="1727">
                <a:moveTo>
                  <a:pt x="706" y="9"/>
                </a:moveTo>
                <a:lnTo>
                  <a:pt x="706" y="9"/>
                </a:lnTo>
                <a:lnTo>
                  <a:pt x="919" y="13"/>
                </a:lnTo>
                <a:lnTo>
                  <a:pt x="961" y="17"/>
                </a:lnTo>
                <a:lnTo>
                  <a:pt x="1009" y="25"/>
                </a:lnTo>
                <a:lnTo>
                  <a:pt x="1058" y="37"/>
                </a:lnTo>
                <a:lnTo>
                  <a:pt x="1110" y="51"/>
                </a:lnTo>
                <a:lnTo>
                  <a:pt x="1158" y="68"/>
                </a:lnTo>
                <a:lnTo>
                  <a:pt x="1204" y="87"/>
                </a:lnTo>
                <a:lnTo>
                  <a:pt x="1242" y="107"/>
                </a:lnTo>
                <a:lnTo>
                  <a:pt x="1276" y="126"/>
                </a:lnTo>
                <a:lnTo>
                  <a:pt x="1305" y="153"/>
                </a:lnTo>
                <a:lnTo>
                  <a:pt x="1340" y="191"/>
                </a:lnTo>
                <a:lnTo>
                  <a:pt x="1377" y="237"/>
                </a:lnTo>
                <a:lnTo>
                  <a:pt x="1417" y="289"/>
                </a:lnTo>
                <a:lnTo>
                  <a:pt x="1455" y="346"/>
                </a:lnTo>
                <a:lnTo>
                  <a:pt x="1494" y="405"/>
                </a:lnTo>
                <a:lnTo>
                  <a:pt x="1527" y="463"/>
                </a:lnTo>
                <a:lnTo>
                  <a:pt x="1557" y="516"/>
                </a:lnTo>
                <a:lnTo>
                  <a:pt x="1570" y="544"/>
                </a:lnTo>
                <a:lnTo>
                  <a:pt x="1583" y="573"/>
                </a:lnTo>
                <a:lnTo>
                  <a:pt x="1596" y="605"/>
                </a:lnTo>
                <a:lnTo>
                  <a:pt x="1610" y="635"/>
                </a:lnTo>
                <a:lnTo>
                  <a:pt x="1623" y="668"/>
                </a:lnTo>
                <a:lnTo>
                  <a:pt x="1635" y="701"/>
                </a:lnTo>
                <a:lnTo>
                  <a:pt x="1647" y="735"/>
                </a:lnTo>
                <a:lnTo>
                  <a:pt x="1659" y="765"/>
                </a:lnTo>
                <a:lnTo>
                  <a:pt x="1671" y="799"/>
                </a:lnTo>
                <a:lnTo>
                  <a:pt x="1680" y="829"/>
                </a:lnTo>
                <a:lnTo>
                  <a:pt x="1689" y="859"/>
                </a:lnTo>
                <a:lnTo>
                  <a:pt x="1698" y="887"/>
                </a:lnTo>
                <a:lnTo>
                  <a:pt x="1705" y="913"/>
                </a:lnTo>
                <a:lnTo>
                  <a:pt x="1709" y="937"/>
                </a:lnTo>
                <a:lnTo>
                  <a:pt x="1713" y="959"/>
                </a:lnTo>
                <a:lnTo>
                  <a:pt x="1719" y="976"/>
                </a:lnTo>
                <a:lnTo>
                  <a:pt x="1721" y="1013"/>
                </a:lnTo>
                <a:lnTo>
                  <a:pt x="1723" y="1055"/>
                </a:lnTo>
                <a:lnTo>
                  <a:pt x="1721" y="1102"/>
                </a:lnTo>
                <a:lnTo>
                  <a:pt x="1721" y="1149"/>
                </a:lnTo>
                <a:lnTo>
                  <a:pt x="1717" y="1196"/>
                </a:lnTo>
                <a:lnTo>
                  <a:pt x="1713" y="1240"/>
                </a:lnTo>
                <a:lnTo>
                  <a:pt x="1707" y="1282"/>
                </a:lnTo>
                <a:lnTo>
                  <a:pt x="1701" y="1313"/>
                </a:lnTo>
                <a:lnTo>
                  <a:pt x="1686" y="1347"/>
                </a:lnTo>
                <a:lnTo>
                  <a:pt x="1659" y="1385"/>
                </a:lnTo>
                <a:lnTo>
                  <a:pt x="1620" y="1425"/>
                </a:lnTo>
                <a:lnTo>
                  <a:pt x="1573" y="1464"/>
                </a:lnTo>
                <a:lnTo>
                  <a:pt x="1520" y="1504"/>
                </a:lnTo>
                <a:lnTo>
                  <a:pt x="1461" y="1541"/>
                </a:lnTo>
                <a:lnTo>
                  <a:pt x="1400" y="1575"/>
                </a:lnTo>
                <a:lnTo>
                  <a:pt x="1341" y="1600"/>
                </a:lnTo>
                <a:lnTo>
                  <a:pt x="1309" y="1612"/>
                </a:lnTo>
                <a:lnTo>
                  <a:pt x="1275" y="1623"/>
                </a:lnTo>
                <a:lnTo>
                  <a:pt x="1239" y="1635"/>
                </a:lnTo>
                <a:lnTo>
                  <a:pt x="1204" y="1647"/>
                </a:lnTo>
                <a:lnTo>
                  <a:pt x="1166" y="1658"/>
                </a:lnTo>
                <a:lnTo>
                  <a:pt x="1129" y="1669"/>
                </a:lnTo>
                <a:lnTo>
                  <a:pt x="1089" y="1679"/>
                </a:lnTo>
                <a:lnTo>
                  <a:pt x="1052" y="1687"/>
                </a:lnTo>
                <a:lnTo>
                  <a:pt x="1015" y="1696"/>
                </a:lnTo>
                <a:lnTo>
                  <a:pt x="979" y="1703"/>
                </a:lnTo>
                <a:lnTo>
                  <a:pt x="944" y="1711"/>
                </a:lnTo>
                <a:lnTo>
                  <a:pt x="911" y="1716"/>
                </a:lnTo>
                <a:lnTo>
                  <a:pt x="879" y="1721"/>
                </a:lnTo>
                <a:lnTo>
                  <a:pt x="852" y="1724"/>
                </a:lnTo>
                <a:lnTo>
                  <a:pt x="827" y="1726"/>
                </a:lnTo>
                <a:lnTo>
                  <a:pt x="805" y="1725"/>
                </a:lnTo>
                <a:lnTo>
                  <a:pt x="783" y="1725"/>
                </a:lnTo>
                <a:lnTo>
                  <a:pt x="761" y="1723"/>
                </a:lnTo>
                <a:lnTo>
                  <a:pt x="735" y="1719"/>
                </a:lnTo>
                <a:lnTo>
                  <a:pt x="709" y="1713"/>
                </a:lnTo>
                <a:lnTo>
                  <a:pt x="681" y="1708"/>
                </a:lnTo>
                <a:lnTo>
                  <a:pt x="651" y="1700"/>
                </a:lnTo>
                <a:lnTo>
                  <a:pt x="621" y="1692"/>
                </a:lnTo>
                <a:lnTo>
                  <a:pt x="593" y="1681"/>
                </a:lnTo>
                <a:lnTo>
                  <a:pt x="562" y="1671"/>
                </a:lnTo>
                <a:lnTo>
                  <a:pt x="549" y="1622"/>
                </a:lnTo>
                <a:lnTo>
                  <a:pt x="540" y="1595"/>
                </a:lnTo>
                <a:lnTo>
                  <a:pt x="584" y="1499"/>
                </a:lnTo>
                <a:lnTo>
                  <a:pt x="584" y="1369"/>
                </a:lnTo>
                <a:lnTo>
                  <a:pt x="688" y="1109"/>
                </a:lnTo>
                <a:lnTo>
                  <a:pt x="619" y="1031"/>
                </a:lnTo>
                <a:lnTo>
                  <a:pt x="523" y="1015"/>
                </a:lnTo>
                <a:lnTo>
                  <a:pt x="271" y="1039"/>
                </a:lnTo>
                <a:lnTo>
                  <a:pt x="123" y="1031"/>
                </a:lnTo>
                <a:lnTo>
                  <a:pt x="88" y="1015"/>
                </a:lnTo>
                <a:lnTo>
                  <a:pt x="36" y="1016"/>
                </a:lnTo>
                <a:lnTo>
                  <a:pt x="23" y="957"/>
                </a:lnTo>
                <a:lnTo>
                  <a:pt x="13" y="900"/>
                </a:lnTo>
                <a:lnTo>
                  <a:pt x="5" y="849"/>
                </a:lnTo>
                <a:lnTo>
                  <a:pt x="1" y="802"/>
                </a:lnTo>
                <a:lnTo>
                  <a:pt x="0" y="759"/>
                </a:lnTo>
                <a:lnTo>
                  <a:pt x="1" y="706"/>
                </a:lnTo>
                <a:lnTo>
                  <a:pt x="5" y="651"/>
                </a:lnTo>
                <a:lnTo>
                  <a:pt x="12" y="590"/>
                </a:lnTo>
                <a:lnTo>
                  <a:pt x="20" y="532"/>
                </a:lnTo>
                <a:lnTo>
                  <a:pt x="31" y="474"/>
                </a:lnTo>
                <a:lnTo>
                  <a:pt x="43" y="423"/>
                </a:lnTo>
                <a:lnTo>
                  <a:pt x="58" y="377"/>
                </a:lnTo>
                <a:lnTo>
                  <a:pt x="78" y="336"/>
                </a:lnTo>
                <a:lnTo>
                  <a:pt x="108" y="293"/>
                </a:lnTo>
                <a:lnTo>
                  <a:pt x="149" y="250"/>
                </a:lnTo>
                <a:lnTo>
                  <a:pt x="197" y="206"/>
                </a:lnTo>
                <a:lnTo>
                  <a:pt x="248" y="167"/>
                </a:lnTo>
                <a:lnTo>
                  <a:pt x="303" y="131"/>
                </a:lnTo>
                <a:lnTo>
                  <a:pt x="359" y="104"/>
                </a:lnTo>
                <a:lnTo>
                  <a:pt x="697" y="0"/>
                </a:lnTo>
                <a:lnTo>
                  <a:pt x="706" y="9"/>
                </a:lnTo>
                <a:lnTo>
                  <a:pt x="706" y="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3720" y="5559480"/>
            <a:ext cx="1760760" cy="1763640"/>
          </a:xfrm>
          <a:custGeom>
            <a:avLst/>
            <a:gdLst/>
            <a:ahLst/>
            <a:rect l="l" t="t" r="r" b="b"/>
            <a:pathLst>
              <a:path w="1109" h="1111">
                <a:moveTo>
                  <a:pt x="454" y="1104"/>
                </a:moveTo>
                <a:lnTo>
                  <a:pt x="454" y="1104"/>
                </a:lnTo>
                <a:lnTo>
                  <a:pt x="591" y="1102"/>
                </a:lnTo>
                <a:lnTo>
                  <a:pt x="617" y="1099"/>
                </a:lnTo>
                <a:lnTo>
                  <a:pt x="649" y="1094"/>
                </a:lnTo>
                <a:lnTo>
                  <a:pt x="680" y="1086"/>
                </a:lnTo>
                <a:lnTo>
                  <a:pt x="714" y="1077"/>
                </a:lnTo>
                <a:lnTo>
                  <a:pt x="745" y="1066"/>
                </a:lnTo>
                <a:lnTo>
                  <a:pt x="775" y="1054"/>
                </a:lnTo>
                <a:lnTo>
                  <a:pt x="799" y="1040"/>
                </a:lnTo>
                <a:lnTo>
                  <a:pt x="820" y="1029"/>
                </a:lnTo>
                <a:lnTo>
                  <a:pt x="839" y="1012"/>
                </a:lnTo>
                <a:lnTo>
                  <a:pt x="861" y="988"/>
                </a:lnTo>
                <a:lnTo>
                  <a:pt x="886" y="957"/>
                </a:lnTo>
                <a:lnTo>
                  <a:pt x="912" y="924"/>
                </a:lnTo>
                <a:lnTo>
                  <a:pt x="937" y="888"/>
                </a:lnTo>
                <a:lnTo>
                  <a:pt x="961" y="849"/>
                </a:lnTo>
                <a:lnTo>
                  <a:pt x="982" y="812"/>
                </a:lnTo>
                <a:lnTo>
                  <a:pt x="1003" y="778"/>
                </a:lnTo>
                <a:lnTo>
                  <a:pt x="1009" y="760"/>
                </a:lnTo>
                <a:lnTo>
                  <a:pt x="1018" y="742"/>
                </a:lnTo>
                <a:lnTo>
                  <a:pt x="1027" y="721"/>
                </a:lnTo>
                <a:lnTo>
                  <a:pt x="1035" y="701"/>
                </a:lnTo>
                <a:lnTo>
                  <a:pt x="1044" y="680"/>
                </a:lnTo>
                <a:lnTo>
                  <a:pt x="1051" y="659"/>
                </a:lnTo>
                <a:lnTo>
                  <a:pt x="1059" y="638"/>
                </a:lnTo>
                <a:lnTo>
                  <a:pt x="1067" y="618"/>
                </a:lnTo>
                <a:lnTo>
                  <a:pt x="1075" y="596"/>
                </a:lnTo>
                <a:lnTo>
                  <a:pt x="1081" y="577"/>
                </a:lnTo>
                <a:lnTo>
                  <a:pt x="1087" y="557"/>
                </a:lnTo>
                <a:lnTo>
                  <a:pt x="1093" y="540"/>
                </a:lnTo>
                <a:lnTo>
                  <a:pt x="1097" y="523"/>
                </a:lnTo>
                <a:lnTo>
                  <a:pt x="1100" y="507"/>
                </a:lnTo>
                <a:lnTo>
                  <a:pt x="1102" y="494"/>
                </a:lnTo>
                <a:lnTo>
                  <a:pt x="1105" y="482"/>
                </a:lnTo>
                <a:lnTo>
                  <a:pt x="1107" y="458"/>
                </a:lnTo>
                <a:lnTo>
                  <a:pt x="1108" y="432"/>
                </a:lnTo>
                <a:lnTo>
                  <a:pt x="1107" y="402"/>
                </a:lnTo>
                <a:lnTo>
                  <a:pt x="1107" y="372"/>
                </a:lnTo>
                <a:lnTo>
                  <a:pt x="1105" y="341"/>
                </a:lnTo>
                <a:lnTo>
                  <a:pt x="1102" y="312"/>
                </a:lnTo>
                <a:lnTo>
                  <a:pt x="1099" y="286"/>
                </a:lnTo>
                <a:lnTo>
                  <a:pt x="1094" y="265"/>
                </a:lnTo>
                <a:lnTo>
                  <a:pt x="1084" y="243"/>
                </a:lnTo>
                <a:lnTo>
                  <a:pt x="1067" y="220"/>
                </a:lnTo>
                <a:lnTo>
                  <a:pt x="1042" y="193"/>
                </a:lnTo>
                <a:lnTo>
                  <a:pt x="1013" y="168"/>
                </a:lnTo>
                <a:lnTo>
                  <a:pt x="977" y="143"/>
                </a:lnTo>
                <a:lnTo>
                  <a:pt x="940" y="119"/>
                </a:lnTo>
                <a:lnTo>
                  <a:pt x="901" y="97"/>
                </a:lnTo>
                <a:lnTo>
                  <a:pt x="863" y="81"/>
                </a:lnTo>
                <a:lnTo>
                  <a:pt x="841" y="74"/>
                </a:lnTo>
                <a:lnTo>
                  <a:pt x="819" y="65"/>
                </a:lnTo>
                <a:lnTo>
                  <a:pt x="797" y="58"/>
                </a:lnTo>
                <a:lnTo>
                  <a:pt x="775" y="52"/>
                </a:lnTo>
                <a:lnTo>
                  <a:pt x="750" y="44"/>
                </a:lnTo>
                <a:lnTo>
                  <a:pt x="725" y="37"/>
                </a:lnTo>
                <a:lnTo>
                  <a:pt x="701" y="30"/>
                </a:lnTo>
                <a:lnTo>
                  <a:pt x="677" y="25"/>
                </a:lnTo>
                <a:lnTo>
                  <a:pt x="652" y="19"/>
                </a:lnTo>
                <a:lnTo>
                  <a:pt x="629" y="14"/>
                </a:lnTo>
                <a:lnTo>
                  <a:pt x="606" y="10"/>
                </a:lnTo>
                <a:lnTo>
                  <a:pt x="585" y="7"/>
                </a:lnTo>
                <a:lnTo>
                  <a:pt x="565" y="4"/>
                </a:lnTo>
                <a:lnTo>
                  <a:pt x="548" y="1"/>
                </a:lnTo>
                <a:lnTo>
                  <a:pt x="531" y="0"/>
                </a:lnTo>
                <a:lnTo>
                  <a:pt x="517" y="0"/>
                </a:lnTo>
                <a:lnTo>
                  <a:pt x="504" y="1"/>
                </a:lnTo>
                <a:lnTo>
                  <a:pt x="489" y="2"/>
                </a:lnTo>
                <a:lnTo>
                  <a:pt x="473" y="4"/>
                </a:lnTo>
                <a:lnTo>
                  <a:pt x="455" y="8"/>
                </a:lnTo>
                <a:lnTo>
                  <a:pt x="438" y="12"/>
                </a:lnTo>
                <a:lnTo>
                  <a:pt x="419" y="17"/>
                </a:lnTo>
                <a:lnTo>
                  <a:pt x="399" y="22"/>
                </a:lnTo>
                <a:lnTo>
                  <a:pt x="381" y="28"/>
                </a:lnTo>
                <a:lnTo>
                  <a:pt x="361" y="35"/>
                </a:lnTo>
                <a:lnTo>
                  <a:pt x="342" y="42"/>
                </a:lnTo>
                <a:lnTo>
                  <a:pt x="323" y="50"/>
                </a:lnTo>
                <a:lnTo>
                  <a:pt x="305" y="58"/>
                </a:lnTo>
                <a:lnTo>
                  <a:pt x="288" y="66"/>
                </a:lnTo>
                <a:lnTo>
                  <a:pt x="272" y="74"/>
                </a:lnTo>
                <a:lnTo>
                  <a:pt x="256" y="83"/>
                </a:lnTo>
                <a:lnTo>
                  <a:pt x="244" y="92"/>
                </a:lnTo>
                <a:lnTo>
                  <a:pt x="217" y="113"/>
                </a:lnTo>
                <a:lnTo>
                  <a:pt x="189" y="137"/>
                </a:lnTo>
                <a:lnTo>
                  <a:pt x="161" y="166"/>
                </a:lnTo>
                <a:lnTo>
                  <a:pt x="135" y="198"/>
                </a:lnTo>
                <a:lnTo>
                  <a:pt x="109" y="230"/>
                </a:lnTo>
                <a:lnTo>
                  <a:pt x="88" y="262"/>
                </a:lnTo>
                <a:lnTo>
                  <a:pt x="71" y="292"/>
                </a:lnTo>
                <a:lnTo>
                  <a:pt x="59" y="320"/>
                </a:lnTo>
                <a:lnTo>
                  <a:pt x="49" y="349"/>
                </a:lnTo>
                <a:lnTo>
                  <a:pt x="40" y="382"/>
                </a:lnTo>
                <a:lnTo>
                  <a:pt x="30" y="418"/>
                </a:lnTo>
                <a:lnTo>
                  <a:pt x="22" y="456"/>
                </a:lnTo>
                <a:lnTo>
                  <a:pt x="15" y="495"/>
                </a:lnTo>
                <a:lnTo>
                  <a:pt x="8" y="532"/>
                </a:lnTo>
                <a:lnTo>
                  <a:pt x="3" y="564"/>
                </a:lnTo>
                <a:lnTo>
                  <a:pt x="0" y="594"/>
                </a:lnTo>
                <a:lnTo>
                  <a:pt x="0" y="622"/>
                </a:lnTo>
                <a:lnTo>
                  <a:pt x="0" y="656"/>
                </a:lnTo>
                <a:lnTo>
                  <a:pt x="3" y="692"/>
                </a:lnTo>
                <a:lnTo>
                  <a:pt x="7" y="731"/>
                </a:lnTo>
                <a:lnTo>
                  <a:pt x="12" y="768"/>
                </a:lnTo>
                <a:lnTo>
                  <a:pt x="20" y="805"/>
                </a:lnTo>
                <a:lnTo>
                  <a:pt x="28" y="838"/>
                </a:lnTo>
                <a:lnTo>
                  <a:pt x="37" y="867"/>
                </a:lnTo>
                <a:lnTo>
                  <a:pt x="49" y="894"/>
                </a:lnTo>
                <a:lnTo>
                  <a:pt x="69" y="922"/>
                </a:lnTo>
                <a:lnTo>
                  <a:pt x="95" y="950"/>
                </a:lnTo>
                <a:lnTo>
                  <a:pt x="126" y="978"/>
                </a:lnTo>
                <a:lnTo>
                  <a:pt x="160" y="1002"/>
                </a:lnTo>
                <a:lnTo>
                  <a:pt x="195" y="1026"/>
                </a:lnTo>
                <a:lnTo>
                  <a:pt x="230" y="1043"/>
                </a:lnTo>
                <a:lnTo>
                  <a:pt x="449" y="1110"/>
                </a:lnTo>
                <a:lnTo>
                  <a:pt x="454" y="1104"/>
                </a:lnTo>
                <a:lnTo>
                  <a:pt x="454" y="1104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168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7640" y="6896160"/>
            <a:ext cx="1430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convex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77120" y="3168720"/>
            <a:ext cx="2324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400080"/>
                </a:solidFill>
                <a:latin typeface="Times New Roman"/>
              </a:rPr>
              <a:t>no</a:t>
            </a:r>
            <a:r>
              <a:rPr b="1" lang="en-GB" sz="3000" spc="-1" strike="noStrike">
                <a:solidFill>
                  <a:srgbClr val="400080"/>
                </a:solidFill>
                <a:latin typeface="Times New Roman"/>
              </a:rPr>
              <a:t>-convex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791480" y="3654360"/>
            <a:ext cx="1663560" cy="77760"/>
          </a:xfrm>
          <a:custGeom>
            <a:avLst/>
            <a:gdLst/>
            <a:ahLst/>
            <a:rect l="l" t="t" r="r" b="b"/>
            <a:pathLst>
              <a:path w="1048" h="49">
                <a:moveTo>
                  <a:pt x="0" y="38"/>
                </a:moveTo>
                <a:lnTo>
                  <a:pt x="20" y="29"/>
                </a:lnTo>
                <a:lnTo>
                  <a:pt x="143" y="29"/>
                </a:lnTo>
                <a:lnTo>
                  <a:pt x="181" y="20"/>
                </a:lnTo>
                <a:lnTo>
                  <a:pt x="200" y="10"/>
                </a:lnTo>
                <a:lnTo>
                  <a:pt x="305" y="10"/>
                </a:lnTo>
                <a:lnTo>
                  <a:pt x="334" y="0"/>
                </a:lnTo>
                <a:lnTo>
                  <a:pt x="505" y="0"/>
                </a:lnTo>
                <a:lnTo>
                  <a:pt x="886" y="38"/>
                </a:lnTo>
                <a:lnTo>
                  <a:pt x="962" y="38"/>
                </a:lnTo>
                <a:lnTo>
                  <a:pt x="1000" y="48"/>
                </a:lnTo>
                <a:lnTo>
                  <a:pt x="1047" y="48"/>
                </a:lnTo>
              </a:path>
            </a:pathLst>
          </a:cu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4800" y="609480"/>
            <a:ext cx="9453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conjuntos convexos pueden separarse mediante un hiperplan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1631880" y="3412800"/>
            <a:ext cx="2070000" cy="2808360"/>
          </a:xfrm>
          <a:prstGeom prst="line">
            <a:avLst/>
          </a:prstGeom>
          <a:ln w="763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4800" y="609480"/>
            <a:ext cx="9453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los no convexos algunas veces no pueden separare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972040" y="4232160"/>
            <a:ext cx="3081600" cy="3105360"/>
            <a:chOff x="5972040" y="4232160"/>
            <a:chExt cx="3081600" cy="3105360"/>
          </a:xfrm>
        </p:grpSpPr>
        <p:sp>
          <p:nvSpPr>
            <p:cNvPr id="845" name=""/>
            <p:cNvSpPr/>
            <p:nvPr/>
          </p:nvSpPr>
          <p:spPr>
            <a:xfrm>
              <a:off x="5972040" y="4232160"/>
              <a:ext cx="3081600" cy="3105360"/>
            </a:xfrm>
            <a:custGeom>
              <a:avLst/>
              <a:gdLst/>
              <a:ahLst/>
              <a:rect l="l" t="t" r="r" b="b"/>
              <a:pathLst>
                <a:path w="1941" h="1956">
                  <a:moveTo>
                    <a:pt x="349" y="858"/>
                  </a:moveTo>
                  <a:lnTo>
                    <a:pt x="345" y="863"/>
                  </a:lnTo>
                  <a:lnTo>
                    <a:pt x="341" y="869"/>
                  </a:lnTo>
                  <a:lnTo>
                    <a:pt x="337" y="874"/>
                  </a:lnTo>
                  <a:lnTo>
                    <a:pt x="333" y="880"/>
                  </a:lnTo>
                  <a:lnTo>
                    <a:pt x="328" y="886"/>
                  </a:lnTo>
                  <a:lnTo>
                    <a:pt x="322" y="892"/>
                  </a:lnTo>
                  <a:lnTo>
                    <a:pt x="317" y="898"/>
                  </a:lnTo>
                  <a:lnTo>
                    <a:pt x="313" y="903"/>
                  </a:lnTo>
                  <a:lnTo>
                    <a:pt x="308" y="911"/>
                  </a:lnTo>
                  <a:lnTo>
                    <a:pt x="302" y="916"/>
                  </a:lnTo>
                  <a:lnTo>
                    <a:pt x="296" y="922"/>
                  </a:lnTo>
                  <a:lnTo>
                    <a:pt x="291" y="928"/>
                  </a:lnTo>
                  <a:lnTo>
                    <a:pt x="286" y="933"/>
                  </a:lnTo>
                  <a:lnTo>
                    <a:pt x="282" y="939"/>
                  </a:lnTo>
                  <a:lnTo>
                    <a:pt x="278" y="944"/>
                  </a:lnTo>
                  <a:lnTo>
                    <a:pt x="276" y="949"/>
                  </a:lnTo>
                  <a:lnTo>
                    <a:pt x="272" y="953"/>
                  </a:lnTo>
                  <a:lnTo>
                    <a:pt x="268" y="958"/>
                  </a:lnTo>
                  <a:lnTo>
                    <a:pt x="262" y="965"/>
                  </a:lnTo>
                  <a:lnTo>
                    <a:pt x="256" y="972"/>
                  </a:lnTo>
                  <a:lnTo>
                    <a:pt x="249" y="981"/>
                  </a:lnTo>
                  <a:lnTo>
                    <a:pt x="241" y="989"/>
                  </a:lnTo>
                  <a:lnTo>
                    <a:pt x="233" y="999"/>
                  </a:lnTo>
                  <a:lnTo>
                    <a:pt x="225" y="1007"/>
                  </a:lnTo>
                  <a:lnTo>
                    <a:pt x="216" y="1017"/>
                  </a:lnTo>
                  <a:lnTo>
                    <a:pt x="208" y="1027"/>
                  </a:lnTo>
                  <a:lnTo>
                    <a:pt x="201" y="1036"/>
                  </a:lnTo>
                  <a:lnTo>
                    <a:pt x="194" y="1044"/>
                  </a:lnTo>
                  <a:lnTo>
                    <a:pt x="188" y="1051"/>
                  </a:lnTo>
                  <a:lnTo>
                    <a:pt x="183" y="1057"/>
                  </a:lnTo>
                  <a:lnTo>
                    <a:pt x="178" y="1062"/>
                  </a:lnTo>
                  <a:lnTo>
                    <a:pt x="176" y="1065"/>
                  </a:lnTo>
                  <a:lnTo>
                    <a:pt x="172" y="1071"/>
                  </a:lnTo>
                  <a:lnTo>
                    <a:pt x="167" y="1078"/>
                  </a:lnTo>
                  <a:lnTo>
                    <a:pt x="160" y="1087"/>
                  </a:lnTo>
                  <a:lnTo>
                    <a:pt x="154" y="1096"/>
                  </a:lnTo>
                  <a:lnTo>
                    <a:pt x="146" y="1107"/>
                  </a:lnTo>
                  <a:lnTo>
                    <a:pt x="138" y="1118"/>
                  </a:lnTo>
                  <a:lnTo>
                    <a:pt x="130" y="1132"/>
                  </a:lnTo>
                  <a:lnTo>
                    <a:pt x="123" y="1143"/>
                  </a:lnTo>
                  <a:lnTo>
                    <a:pt x="114" y="1156"/>
                  </a:lnTo>
                  <a:lnTo>
                    <a:pt x="107" y="1168"/>
                  </a:lnTo>
                  <a:lnTo>
                    <a:pt x="99" y="1180"/>
                  </a:lnTo>
                  <a:lnTo>
                    <a:pt x="94" y="1190"/>
                  </a:lnTo>
                  <a:lnTo>
                    <a:pt x="88" y="1200"/>
                  </a:lnTo>
                  <a:lnTo>
                    <a:pt x="84" y="1209"/>
                  </a:lnTo>
                  <a:lnTo>
                    <a:pt x="82" y="1216"/>
                  </a:lnTo>
                  <a:lnTo>
                    <a:pt x="82" y="1220"/>
                  </a:lnTo>
                  <a:lnTo>
                    <a:pt x="82" y="1222"/>
                  </a:lnTo>
                  <a:lnTo>
                    <a:pt x="82" y="1223"/>
                  </a:lnTo>
                  <a:lnTo>
                    <a:pt x="82" y="1225"/>
                  </a:lnTo>
                  <a:lnTo>
                    <a:pt x="82" y="1227"/>
                  </a:lnTo>
                  <a:lnTo>
                    <a:pt x="82" y="1231"/>
                  </a:lnTo>
                  <a:lnTo>
                    <a:pt x="82" y="1233"/>
                  </a:lnTo>
                  <a:lnTo>
                    <a:pt x="82" y="1234"/>
                  </a:lnTo>
                  <a:lnTo>
                    <a:pt x="84" y="1236"/>
                  </a:lnTo>
                  <a:lnTo>
                    <a:pt x="84" y="1240"/>
                  </a:lnTo>
                  <a:lnTo>
                    <a:pt x="84" y="1242"/>
                  </a:lnTo>
                  <a:lnTo>
                    <a:pt x="84" y="1244"/>
                  </a:lnTo>
                  <a:lnTo>
                    <a:pt x="85" y="1246"/>
                  </a:lnTo>
                  <a:lnTo>
                    <a:pt x="84" y="1248"/>
                  </a:lnTo>
                  <a:lnTo>
                    <a:pt x="84" y="1250"/>
                  </a:lnTo>
                  <a:lnTo>
                    <a:pt x="83" y="1252"/>
                  </a:lnTo>
                  <a:lnTo>
                    <a:pt x="83" y="1252"/>
                  </a:lnTo>
                  <a:lnTo>
                    <a:pt x="80" y="1257"/>
                  </a:lnTo>
                  <a:lnTo>
                    <a:pt x="77" y="1262"/>
                  </a:lnTo>
                  <a:lnTo>
                    <a:pt x="74" y="1269"/>
                  </a:lnTo>
                  <a:lnTo>
                    <a:pt x="71" y="1276"/>
                  </a:lnTo>
                  <a:lnTo>
                    <a:pt x="67" y="1286"/>
                  </a:lnTo>
                  <a:lnTo>
                    <a:pt x="63" y="1295"/>
                  </a:lnTo>
                  <a:lnTo>
                    <a:pt x="59" y="1305"/>
                  </a:lnTo>
                  <a:lnTo>
                    <a:pt x="56" y="1314"/>
                  </a:lnTo>
                  <a:lnTo>
                    <a:pt x="51" y="1326"/>
                  </a:lnTo>
                  <a:lnTo>
                    <a:pt x="47" y="1335"/>
                  </a:lnTo>
                  <a:lnTo>
                    <a:pt x="44" y="1344"/>
                  </a:lnTo>
                  <a:lnTo>
                    <a:pt x="41" y="1352"/>
                  </a:lnTo>
                  <a:lnTo>
                    <a:pt x="38" y="1360"/>
                  </a:lnTo>
                  <a:lnTo>
                    <a:pt x="36" y="1366"/>
                  </a:lnTo>
                  <a:lnTo>
                    <a:pt x="34" y="1371"/>
                  </a:lnTo>
                  <a:lnTo>
                    <a:pt x="34" y="1374"/>
                  </a:lnTo>
                  <a:lnTo>
                    <a:pt x="32" y="1378"/>
                  </a:lnTo>
                  <a:lnTo>
                    <a:pt x="32" y="1382"/>
                  </a:lnTo>
                  <a:lnTo>
                    <a:pt x="29" y="1389"/>
                  </a:lnTo>
                  <a:lnTo>
                    <a:pt x="27" y="1396"/>
                  </a:lnTo>
                  <a:lnTo>
                    <a:pt x="24" y="1405"/>
                  </a:lnTo>
                  <a:lnTo>
                    <a:pt x="22" y="1414"/>
                  </a:lnTo>
                  <a:lnTo>
                    <a:pt x="19" y="1423"/>
                  </a:lnTo>
                  <a:lnTo>
                    <a:pt x="17" y="1432"/>
                  </a:lnTo>
                  <a:lnTo>
                    <a:pt x="13" y="1441"/>
                  </a:lnTo>
                  <a:lnTo>
                    <a:pt x="10" y="1450"/>
                  </a:lnTo>
                  <a:lnTo>
                    <a:pt x="7" y="1459"/>
                  </a:lnTo>
                  <a:lnTo>
                    <a:pt x="5" y="1467"/>
                  </a:lnTo>
                  <a:lnTo>
                    <a:pt x="2" y="1474"/>
                  </a:lnTo>
                  <a:lnTo>
                    <a:pt x="0" y="1479"/>
                  </a:lnTo>
                  <a:lnTo>
                    <a:pt x="0" y="1484"/>
                  </a:lnTo>
                  <a:lnTo>
                    <a:pt x="0" y="1485"/>
                  </a:lnTo>
                  <a:lnTo>
                    <a:pt x="0" y="1488"/>
                  </a:lnTo>
                  <a:lnTo>
                    <a:pt x="1" y="1491"/>
                  </a:lnTo>
                  <a:lnTo>
                    <a:pt x="3" y="1496"/>
                  </a:lnTo>
                  <a:lnTo>
                    <a:pt x="7" y="1500"/>
                  </a:lnTo>
                  <a:lnTo>
                    <a:pt x="10" y="1505"/>
                  </a:lnTo>
                  <a:lnTo>
                    <a:pt x="15" y="1510"/>
                  </a:lnTo>
                  <a:lnTo>
                    <a:pt x="20" y="1516"/>
                  </a:lnTo>
                  <a:lnTo>
                    <a:pt x="27" y="1522"/>
                  </a:lnTo>
                  <a:lnTo>
                    <a:pt x="34" y="1528"/>
                  </a:lnTo>
                  <a:lnTo>
                    <a:pt x="41" y="1534"/>
                  </a:lnTo>
                  <a:lnTo>
                    <a:pt x="50" y="1540"/>
                  </a:lnTo>
                  <a:lnTo>
                    <a:pt x="59" y="1545"/>
                  </a:lnTo>
                  <a:lnTo>
                    <a:pt x="68" y="1550"/>
                  </a:lnTo>
                  <a:lnTo>
                    <a:pt x="79" y="1554"/>
                  </a:lnTo>
                  <a:lnTo>
                    <a:pt x="90" y="1558"/>
                  </a:lnTo>
                  <a:lnTo>
                    <a:pt x="103" y="1560"/>
                  </a:lnTo>
                  <a:lnTo>
                    <a:pt x="104" y="1560"/>
                  </a:lnTo>
                  <a:lnTo>
                    <a:pt x="105" y="1558"/>
                  </a:lnTo>
                  <a:lnTo>
                    <a:pt x="107" y="1556"/>
                  </a:lnTo>
                  <a:lnTo>
                    <a:pt x="110" y="1553"/>
                  </a:lnTo>
                  <a:lnTo>
                    <a:pt x="112" y="1551"/>
                  </a:lnTo>
                  <a:lnTo>
                    <a:pt x="115" y="1547"/>
                  </a:lnTo>
                  <a:lnTo>
                    <a:pt x="117" y="1544"/>
                  </a:lnTo>
                  <a:lnTo>
                    <a:pt x="121" y="1538"/>
                  </a:lnTo>
                  <a:lnTo>
                    <a:pt x="123" y="1534"/>
                  </a:lnTo>
                  <a:lnTo>
                    <a:pt x="126" y="1530"/>
                  </a:lnTo>
                  <a:lnTo>
                    <a:pt x="128" y="1526"/>
                  </a:lnTo>
                  <a:lnTo>
                    <a:pt x="132" y="1520"/>
                  </a:lnTo>
                  <a:lnTo>
                    <a:pt x="134" y="1516"/>
                  </a:lnTo>
                  <a:lnTo>
                    <a:pt x="136" y="1512"/>
                  </a:lnTo>
                  <a:lnTo>
                    <a:pt x="138" y="1510"/>
                  </a:lnTo>
                  <a:lnTo>
                    <a:pt x="142" y="1506"/>
                  </a:lnTo>
                  <a:lnTo>
                    <a:pt x="143" y="1503"/>
                  </a:lnTo>
                  <a:lnTo>
                    <a:pt x="145" y="1499"/>
                  </a:lnTo>
                  <a:lnTo>
                    <a:pt x="149" y="1495"/>
                  </a:lnTo>
                  <a:lnTo>
                    <a:pt x="154" y="1489"/>
                  </a:lnTo>
                  <a:lnTo>
                    <a:pt x="157" y="1484"/>
                  </a:lnTo>
                  <a:lnTo>
                    <a:pt x="162" y="1477"/>
                  </a:lnTo>
                  <a:lnTo>
                    <a:pt x="167" y="1472"/>
                  </a:lnTo>
                  <a:lnTo>
                    <a:pt x="173" y="1464"/>
                  </a:lnTo>
                  <a:lnTo>
                    <a:pt x="176" y="1458"/>
                  </a:lnTo>
                  <a:lnTo>
                    <a:pt x="182" y="1452"/>
                  </a:lnTo>
                  <a:lnTo>
                    <a:pt x="187" y="1446"/>
                  </a:lnTo>
                  <a:lnTo>
                    <a:pt x="193" y="1439"/>
                  </a:lnTo>
                  <a:lnTo>
                    <a:pt x="196" y="1435"/>
                  </a:lnTo>
                  <a:lnTo>
                    <a:pt x="201" y="1429"/>
                  </a:lnTo>
                  <a:lnTo>
                    <a:pt x="203" y="1426"/>
                  </a:lnTo>
                  <a:lnTo>
                    <a:pt x="206" y="1422"/>
                  </a:lnTo>
                  <a:lnTo>
                    <a:pt x="210" y="1418"/>
                  </a:lnTo>
                  <a:lnTo>
                    <a:pt x="213" y="1412"/>
                  </a:lnTo>
                  <a:lnTo>
                    <a:pt x="218" y="1407"/>
                  </a:lnTo>
                  <a:lnTo>
                    <a:pt x="224" y="1399"/>
                  </a:lnTo>
                  <a:lnTo>
                    <a:pt x="230" y="1392"/>
                  </a:lnTo>
                  <a:lnTo>
                    <a:pt x="236" y="1385"/>
                  </a:lnTo>
                  <a:lnTo>
                    <a:pt x="243" y="1378"/>
                  </a:lnTo>
                  <a:lnTo>
                    <a:pt x="251" y="1369"/>
                  </a:lnTo>
                  <a:lnTo>
                    <a:pt x="256" y="1363"/>
                  </a:lnTo>
                  <a:lnTo>
                    <a:pt x="264" y="1356"/>
                  </a:lnTo>
                  <a:lnTo>
                    <a:pt x="270" y="1349"/>
                  </a:lnTo>
                  <a:lnTo>
                    <a:pt x="278" y="1342"/>
                  </a:lnTo>
                  <a:lnTo>
                    <a:pt x="283" y="1337"/>
                  </a:lnTo>
                  <a:lnTo>
                    <a:pt x="289" y="1331"/>
                  </a:lnTo>
                  <a:lnTo>
                    <a:pt x="293" y="1328"/>
                  </a:lnTo>
                  <a:lnTo>
                    <a:pt x="298" y="1323"/>
                  </a:lnTo>
                  <a:lnTo>
                    <a:pt x="301" y="1321"/>
                  </a:lnTo>
                  <a:lnTo>
                    <a:pt x="306" y="1316"/>
                  </a:lnTo>
                  <a:lnTo>
                    <a:pt x="313" y="1310"/>
                  </a:lnTo>
                  <a:lnTo>
                    <a:pt x="322" y="1301"/>
                  </a:lnTo>
                  <a:lnTo>
                    <a:pt x="332" y="1291"/>
                  </a:lnTo>
                  <a:lnTo>
                    <a:pt x="343" y="1280"/>
                  </a:lnTo>
                  <a:lnTo>
                    <a:pt x="354" y="1268"/>
                  </a:lnTo>
                  <a:lnTo>
                    <a:pt x="367" y="1254"/>
                  </a:lnTo>
                  <a:lnTo>
                    <a:pt x="378" y="1243"/>
                  </a:lnTo>
                  <a:lnTo>
                    <a:pt x="389" y="1231"/>
                  </a:lnTo>
                  <a:lnTo>
                    <a:pt x="400" y="1220"/>
                  </a:lnTo>
                  <a:lnTo>
                    <a:pt x="410" y="1209"/>
                  </a:lnTo>
                  <a:lnTo>
                    <a:pt x="419" y="1201"/>
                  </a:lnTo>
                  <a:lnTo>
                    <a:pt x="426" y="1193"/>
                  </a:lnTo>
                  <a:lnTo>
                    <a:pt x="431" y="1188"/>
                  </a:lnTo>
                  <a:lnTo>
                    <a:pt x="435" y="1185"/>
                  </a:lnTo>
                  <a:lnTo>
                    <a:pt x="436" y="1183"/>
                  </a:lnTo>
                  <a:lnTo>
                    <a:pt x="440" y="1182"/>
                  </a:lnTo>
                  <a:lnTo>
                    <a:pt x="446" y="1178"/>
                  </a:lnTo>
                  <a:lnTo>
                    <a:pt x="453" y="1175"/>
                  </a:lnTo>
                  <a:lnTo>
                    <a:pt x="460" y="1171"/>
                  </a:lnTo>
                  <a:lnTo>
                    <a:pt x="469" y="1166"/>
                  </a:lnTo>
                  <a:lnTo>
                    <a:pt x="478" y="1162"/>
                  </a:lnTo>
                  <a:lnTo>
                    <a:pt x="487" y="1156"/>
                  </a:lnTo>
                  <a:lnTo>
                    <a:pt x="495" y="1153"/>
                  </a:lnTo>
                  <a:lnTo>
                    <a:pt x="504" y="1148"/>
                  </a:lnTo>
                  <a:lnTo>
                    <a:pt x="512" y="1144"/>
                  </a:lnTo>
                  <a:lnTo>
                    <a:pt x="520" y="1139"/>
                  </a:lnTo>
                  <a:lnTo>
                    <a:pt x="526" y="1136"/>
                  </a:lnTo>
                  <a:lnTo>
                    <a:pt x="531" y="1132"/>
                  </a:lnTo>
                  <a:lnTo>
                    <a:pt x="534" y="1130"/>
                  </a:lnTo>
                  <a:lnTo>
                    <a:pt x="536" y="1127"/>
                  </a:lnTo>
                  <a:lnTo>
                    <a:pt x="537" y="1126"/>
                  </a:lnTo>
                  <a:lnTo>
                    <a:pt x="540" y="1125"/>
                  </a:lnTo>
                  <a:lnTo>
                    <a:pt x="544" y="1122"/>
                  </a:lnTo>
                  <a:lnTo>
                    <a:pt x="549" y="1118"/>
                  </a:lnTo>
                  <a:lnTo>
                    <a:pt x="555" y="1115"/>
                  </a:lnTo>
                  <a:lnTo>
                    <a:pt x="562" y="1110"/>
                  </a:lnTo>
                  <a:lnTo>
                    <a:pt x="569" y="1107"/>
                  </a:lnTo>
                  <a:lnTo>
                    <a:pt x="576" y="1101"/>
                  </a:lnTo>
                  <a:lnTo>
                    <a:pt x="583" y="1097"/>
                  </a:lnTo>
                  <a:lnTo>
                    <a:pt x="590" y="1093"/>
                  </a:lnTo>
                  <a:lnTo>
                    <a:pt x="596" y="1089"/>
                  </a:lnTo>
                  <a:lnTo>
                    <a:pt x="603" y="1085"/>
                  </a:lnTo>
                  <a:lnTo>
                    <a:pt x="608" y="1082"/>
                  </a:lnTo>
                  <a:lnTo>
                    <a:pt x="612" y="1078"/>
                  </a:lnTo>
                  <a:lnTo>
                    <a:pt x="614" y="1077"/>
                  </a:lnTo>
                  <a:lnTo>
                    <a:pt x="617" y="1075"/>
                  </a:lnTo>
                  <a:lnTo>
                    <a:pt x="617" y="1074"/>
                  </a:lnTo>
                  <a:lnTo>
                    <a:pt x="617" y="1072"/>
                  </a:lnTo>
                  <a:lnTo>
                    <a:pt x="617" y="1068"/>
                  </a:lnTo>
                  <a:lnTo>
                    <a:pt x="617" y="1064"/>
                  </a:lnTo>
                  <a:lnTo>
                    <a:pt x="616" y="1058"/>
                  </a:lnTo>
                  <a:lnTo>
                    <a:pt x="616" y="1053"/>
                  </a:lnTo>
                  <a:lnTo>
                    <a:pt x="616" y="1047"/>
                  </a:lnTo>
                  <a:lnTo>
                    <a:pt x="616" y="1040"/>
                  </a:lnTo>
                  <a:lnTo>
                    <a:pt x="614" y="1034"/>
                  </a:lnTo>
                  <a:lnTo>
                    <a:pt x="614" y="1029"/>
                  </a:lnTo>
                  <a:lnTo>
                    <a:pt x="614" y="1024"/>
                  </a:lnTo>
                  <a:lnTo>
                    <a:pt x="614" y="1018"/>
                  </a:lnTo>
                  <a:lnTo>
                    <a:pt x="614" y="1014"/>
                  </a:lnTo>
                  <a:lnTo>
                    <a:pt x="614" y="1010"/>
                  </a:lnTo>
                  <a:lnTo>
                    <a:pt x="614" y="1009"/>
                  </a:lnTo>
                  <a:lnTo>
                    <a:pt x="615" y="1007"/>
                  </a:lnTo>
                  <a:lnTo>
                    <a:pt x="619" y="1007"/>
                  </a:lnTo>
                  <a:lnTo>
                    <a:pt x="626" y="1004"/>
                  </a:lnTo>
                  <a:lnTo>
                    <a:pt x="636" y="998"/>
                  </a:lnTo>
                  <a:lnTo>
                    <a:pt x="650" y="989"/>
                  </a:lnTo>
                  <a:lnTo>
                    <a:pt x="664" y="979"/>
                  </a:lnTo>
                  <a:lnTo>
                    <a:pt x="680" y="968"/>
                  </a:lnTo>
                  <a:lnTo>
                    <a:pt x="697" y="955"/>
                  </a:lnTo>
                  <a:lnTo>
                    <a:pt x="714" y="942"/>
                  </a:lnTo>
                  <a:lnTo>
                    <a:pt x="731" y="930"/>
                  </a:lnTo>
                  <a:lnTo>
                    <a:pt x="747" y="917"/>
                  </a:lnTo>
                  <a:lnTo>
                    <a:pt x="762" y="906"/>
                  </a:lnTo>
                  <a:lnTo>
                    <a:pt x="776" y="894"/>
                  </a:lnTo>
                  <a:lnTo>
                    <a:pt x="787" y="886"/>
                  </a:lnTo>
                  <a:lnTo>
                    <a:pt x="796" y="879"/>
                  </a:lnTo>
                  <a:lnTo>
                    <a:pt x="802" y="874"/>
                  </a:lnTo>
                  <a:lnTo>
                    <a:pt x="805" y="873"/>
                  </a:lnTo>
                  <a:lnTo>
                    <a:pt x="809" y="876"/>
                  </a:lnTo>
                  <a:lnTo>
                    <a:pt x="817" y="881"/>
                  </a:lnTo>
                  <a:lnTo>
                    <a:pt x="826" y="891"/>
                  </a:lnTo>
                  <a:lnTo>
                    <a:pt x="837" y="904"/>
                  </a:lnTo>
                  <a:lnTo>
                    <a:pt x="849" y="920"/>
                  </a:lnTo>
                  <a:lnTo>
                    <a:pt x="862" y="938"/>
                  </a:lnTo>
                  <a:lnTo>
                    <a:pt x="875" y="958"/>
                  </a:lnTo>
                  <a:lnTo>
                    <a:pt x="890" y="976"/>
                  </a:lnTo>
                  <a:lnTo>
                    <a:pt x="904" y="997"/>
                  </a:lnTo>
                  <a:lnTo>
                    <a:pt x="917" y="1016"/>
                  </a:lnTo>
                  <a:lnTo>
                    <a:pt x="929" y="1035"/>
                  </a:lnTo>
                  <a:lnTo>
                    <a:pt x="941" y="1050"/>
                  </a:lnTo>
                  <a:lnTo>
                    <a:pt x="950" y="1066"/>
                  </a:lnTo>
                  <a:lnTo>
                    <a:pt x="958" y="1076"/>
                  </a:lnTo>
                  <a:lnTo>
                    <a:pt x="965" y="1084"/>
                  </a:lnTo>
                  <a:lnTo>
                    <a:pt x="969" y="1087"/>
                  </a:lnTo>
                  <a:lnTo>
                    <a:pt x="971" y="1088"/>
                  </a:lnTo>
                  <a:lnTo>
                    <a:pt x="973" y="1090"/>
                  </a:lnTo>
                  <a:lnTo>
                    <a:pt x="977" y="1092"/>
                  </a:lnTo>
                  <a:lnTo>
                    <a:pt x="981" y="1094"/>
                  </a:lnTo>
                  <a:lnTo>
                    <a:pt x="984" y="1097"/>
                  </a:lnTo>
                  <a:lnTo>
                    <a:pt x="990" y="1098"/>
                  </a:lnTo>
                  <a:lnTo>
                    <a:pt x="994" y="1100"/>
                  </a:lnTo>
                  <a:lnTo>
                    <a:pt x="1000" y="1102"/>
                  </a:lnTo>
                  <a:lnTo>
                    <a:pt x="1003" y="1105"/>
                  </a:lnTo>
                  <a:lnTo>
                    <a:pt x="1008" y="1107"/>
                  </a:lnTo>
                  <a:lnTo>
                    <a:pt x="1012" y="1109"/>
                  </a:lnTo>
                  <a:lnTo>
                    <a:pt x="1017" y="1111"/>
                  </a:lnTo>
                  <a:lnTo>
                    <a:pt x="1020" y="1113"/>
                  </a:lnTo>
                  <a:lnTo>
                    <a:pt x="1023" y="1115"/>
                  </a:lnTo>
                  <a:lnTo>
                    <a:pt x="1025" y="1116"/>
                  </a:lnTo>
                  <a:lnTo>
                    <a:pt x="1027" y="1116"/>
                  </a:lnTo>
                  <a:lnTo>
                    <a:pt x="1030" y="1119"/>
                  </a:lnTo>
                  <a:lnTo>
                    <a:pt x="1034" y="1122"/>
                  </a:lnTo>
                  <a:lnTo>
                    <a:pt x="1038" y="1125"/>
                  </a:lnTo>
                  <a:lnTo>
                    <a:pt x="1041" y="1129"/>
                  </a:lnTo>
                  <a:lnTo>
                    <a:pt x="1045" y="1135"/>
                  </a:lnTo>
                  <a:lnTo>
                    <a:pt x="1049" y="1139"/>
                  </a:lnTo>
                  <a:lnTo>
                    <a:pt x="1052" y="1145"/>
                  </a:lnTo>
                  <a:lnTo>
                    <a:pt x="1056" y="1148"/>
                  </a:lnTo>
                  <a:lnTo>
                    <a:pt x="1060" y="1154"/>
                  </a:lnTo>
                  <a:lnTo>
                    <a:pt x="1063" y="1160"/>
                  </a:lnTo>
                  <a:lnTo>
                    <a:pt x="1067" y="1165"/>
                  </a:lnTo>
                  <a:lnTo>
                    <a:pt x="1071" y="1170"/>
                  </a:lnTo>
                  <a:lnTo>
                    <a:pt x="1073" y="1175"/>
                  </a:lnTo>
                  <a:lnTo>
                    <a:pt x="1077" y="1179"/>
                  </a:lnTo>
                  <a:lnTo>
                    <a:pt x="1080" y="1183"/>
                  </a:lnTo>
                  <a:lnTo>
                    <a:pt x="1084" y="1185"/>
                  </a:lnTo>
                  <a:lnTo>
                    <a:pt x="1084" y="1188"/>
                  </a:lnTo>
                  <a:lnTo>
                    <a:pt x="1086" y="1190"/>
                  </a:lnTo>
                  <a:lnTo>
                    <a:pt x="1086" y="1192"/>
                  </a:lnTo>
                  <a:lnTo>
                    <a:pt x="1088" y="1194"/>
                  </a:lnTo>
                  <a:lnTo>
                    <a:pt x="1088" y="1198"/>
                  </a:lnTo>
                  <a:lnTo>
                    <a:pt x="1090" y="1200"/>
                  </a:lnTo>
                  <a:lnTo>
                    <a:pt x="1091" y="1203"/>
                  </a:lnTo>
                  <a:lnTo>
                    <a:pt x="1092" y="1204"/>
                  </a:lnTo>
                  <a:lnTo>
                    <a:pt x="1092" y="1208"/>
                  </a:lnTo>
                  <a:lnTo>
                    <a:pt x="1094" y="1211"/>
                  </a:lnTo>
                  <a:lnTo>
                    <a:pt x="1094" y="1214"/>
                  </a:lnTo>
                  <a:lnTo>
                    <a:pt x="1096" y="1216"/>
                  </a:lnTo>
                  <a:lnTo>
                    <a:pt x="1096" y="1220"/>
                  </a:lnTo>
                  <a:lnTo>
                    <a:pt x="1098" y="1222"/>
                  </a:lnTo>
                  <a:lnTo>
                    <a:pt x="1099" y="1223"/>
                  </a:lnTo>
                  <a:lnTo>
                    <a:pt x="1101" y="1225"/>
                  </a:lnTo>
                  <a:lnTo>
                    <a:pt x="1101" y="1228"/>
                  </a:lnTo>
                  <a:lnTo>
                    <a:pt x="1104" y="1232"/>
                  </a:lnTo>
                  <a:lnTo>
                    <a:pt x="1109" y="1238"/>
                  </a:lnTo>
                  <a:lnTo>
                    <a:pt x="1115" y="1244"/>
                  </a:lnTo>
                  <a:lnTo>
                    <a:pt x="1121" y="1253"/>
                  </a:lnTo>
                  <a:lnTo>
                    <a:pt x="1129" y="1261"/>
                  </a:lnTo>
                  <a:lnTo>
                    <a:pt x="1136" y="1270"/>
                  </a:lnTo>
                  <a:lnTo>
                    <a:pt x="1146" y="1278"/>
                  </a:lnTo>
                  <a:lnTo>
                    <a:pt x="1153" y="1288"/>
                  </a:lnTo>
                  <a:lnTo>
                    <a:pt x="1162" y="1298"/>
                  </a:lnTo>
                  <a:lnTo>
                    <a:pt x="1169" y="1307"/>
                  </a:lnTo>
                  <a:lnTo>
                    <a:pt x="1177" y="1314"/>
                  </a:lnTo>
                  <a:lnTo>
                    <a:pt x="1183" y="1322"/>
                  </a:lnTo>
                  <a:lnTo>
                    <a:pt x="1189" y="1328"/>
                  </a:lnTo>
                  <a:lnTo>
                    <a:pt x="1194" y="1333"/>
                  </a:lnTo>
                  <a:lnTo>
                    <a:pt x="1197" y="1336"/>
                  </a:lnTo>
                  <a:lnTo>
                    <a:pt x="1197" y="1338"/>
                  </a:lnTo>
                  <a:lnTo>
                    <a:pt x="1199" y="1339"/>
                  </a:lnTo>
                  <a:lnTo>
                    <a:pt x="1199" y="1341"/>
                  </a:lnTo>
                  <a:lnTo>
                    <a:pt x="1201" y="1342"/>
                  </a:lnTo>
                  <a:lnTo>
                    <a:pt x="1201" y="1346"/>
                  </a:lnTo>
                  <a:lnTo>
                    <a:pt x="1203" y="1348"/>
                  </a:lnTo>
                  <a:lnTo>
                    <a:pt x="1203" y="1349"/>
                  </a:lnTo>
                  <a:lnTo>
                    <a:pt x="1205" y="1351"/>
                  </a:lnTo>
                  <a:lnTo>
                    <a:pt x="1205" y="1354"/>
                  </a:lnTo>
                  <a:lnTo>
                    <a:pt x="1207" y="1356"/>
                  </a:lnTo>
                  <a:lnTo>
                    <a:pt x="1207" y="1358"/>
                  </a:lnTo>
                  <a:lnTo>
                    <a:pt x="1208" y="1360"/>
                  </a:lnTo>
                  <a:lnTo>
                    <a:pt x="1208" y="1362"/>
                  </a:lnTo>
                  <a:lnTo>
                    <a:pt x="1210" y="1364"/>
                  </a:lnTo>
                  <a:lnTo>
                    <a:pt x="1212" y="1365"/>
                  </a:lnTo>
                  <a:lnTo>
                    <a:pt x="1214" y="1365"/>
                  </a:lnTo>
                  <a:lnTo>
                    <a:pt x="1215" y="1367"/>
                  </a:lnTo>
                  <a:lnTo>
                    <a:pt x="1217" y="1368"/>
                  </a:lnTo>
                  <a:lnTo>
                    <a:pt x="1218" y="1370"/>
                  </a:lnTo>
                  <a:lnTo>
                    <a:pt x="1220" y="1370"/>
                  </a:lnTo>
                  <a:lnTo>
                    <a:pt x="1222" y="1372"/>
                  </a:lnTo>
                  <a:lnTo>
                    <a:pt x="1224" y="1374"/>
                  </a:lnTo>
                  <a:lnTo>
                    <a:pt x="1226" y="1376"/>
                  </a:lnTo>
                  <a:lnTo>
                    <a:pt x="1229" y="1376"/>
                  </a:lnTo>
                  <a:lnTo>
                    <a:pt x="1231" y="1378"/>
                  </a:lnTo>
                  <a:lnTo>
                    <a:pt x="1233" y="1379"/>
                  </a:lnTo>
                  <a:lnTo>
                    <a:pt x="1235" y="1380"/>
                  </a:lnTo>
                  <a:lnTo>
                    <a:pt x="1237" y="1380"/>
                  </a:lnTo>
                  <a:lnTo>
                    <a:pt x="1239" y="1382"/>
                  </a:lnTo>
                  <a:lnTo>
                    <a:pt x="1241" y="1382"/>
                  </a:lnTo>
                  <a:lnTo>
                    <a:pt x="1243" y="1382"/>
                  </a:lnTo>
                  <a:lnTo>
                    <a:pt x="1246" y="1382"/>
                  </a:lnTo>
                  <a:lnTo>
                    <a:pt x="1247" y="1382"/>
                  </a:lnTo>
                  <a:lnTo>
                    <a:pt x="1248" y="1382"/>
                  </a:lnTo>
                  <a:lnTo>
                    <a:pt x="1250" y="1382"/>
                  </a:lnTo>
                  <a:lnTo>
                    <a:pt x="1254" y="1381"/>
                  </a:lnTo>
                  <a:lnTo>
                    <a:pt x="1257" y="1381"/>
                  </a:lnTo>
                  <a:lnTo>
                    <a:pt x="1260" y="1379"/>
                  </a:lnTo>
                  <a:lnTo>
                    <a:pt x="1264" y="1379"/>
                  </a:lnTo>
                  <a:lnTo>
                    <a:pt x="1268" y="1378"/>
                  </a:lnTo>
                  <a:lnTo>
                    <a:pt x="1270" y="1378"/>
                  </a:lnTo>
                  <a:lnTo>
                    <a:pt x="1274" y="1376"/>
                  </a:lnTo>
                  <a:lnTo>
                    <a:pt x="1276" y="1376"/>
                  </a:lnTo>
                  <a:lnTo>
                    <a:pt x="1280" y="1374"/>
                  </a:lnTo>
                  <a:lnTo>
                    <a:pt x="1282" y="1374"/>
                  </a:lnTo>
                  <a:lnTo>
                    <a:pt x="1284" y="1373"/>
                  </a:lnTo>
                  <a:lnTo>
                    <a:pt x="1285" y="1373"/>
                  </a:lnTo>
                  <a:lnTo>
                    <a:pt x="1286" y="1372"/>
                  </a:lnTo>
                  <a:lnTo>
                    <a:pt x="1288" y="1376"/>
                  </a:lnTo>
                  <a:lnTo>
                    <a:pt x="1290" y="1378"/>
                  </a:lnTo>
                  <a:lnTo>
                    <a:pt x="1293" y="1380"/>
                  </a:lnTo>
                  <a:lnTo>
                    <a:pt x="1296" y="1382"/>
                  </a:lnTo>
                  <a:lnTo>
                    <a:pt x="1300" y="1386"/>
                  </a:lnTo>
                  <a:lnTo>
                    <a:pt x="1304" y="1388"/>
                  </a:lnTo>
                  <a:lnTo>
                    <a:pt x="1308" y="1390"/>
                  </a:lnTo>
                  <a:lnTo>
                    <a:pt x="1313" y="1392"/>
                  </a:lnTo>
                  <a:lnTo>
                    <a:pt x="1316" y="1396"/>
                  </a:lnTo>
                  <a:lnTo>
                    <a:pt x="1320" y="1398"/>
                  </a:lnTo>
                  <a:lnTo>
                    <a:pt x="1324" y="1400"/>
                  </a:lnTo>
                  <a:lnTo>
                    <a:pt x="1330" y="1402"/>
                  </a:lnTo>
                  <a:lnTo>
                    <a:pt x="1333" y="1405"/>
                  </a:lnTo>
                  <a:lnTo>
                    <a:pt x="1337" y="1407"/>
                  </a:lnTo>
                  <a:lnTo>
                    <a:pt x="1341" y="1409"/>
                  </a:lnTo>
                  <a:lnTo>
                    <a:pt x="1345" y="1410"/>
                  </a:lnTo>
                  <a:lnTo>
                    <a:pt x="1346" y="1412"/>
                  </a:lnTo>
                  <a:lnTo>
                    <a:pt x="1348" y="1414"/>
                  </a:lnTo>
                  <a:lnTo>
                    <a:pt x="1350" y="1416"/>
                  </a:lnTo>
                  <a:lnTo>
                    <a:pt x="1353" y="1416"/>
                  </a:lnTo>
                  <a:lnTo>
                    <a:pt x="1355" y="1419"/>
                  </a:lnTo>
                  <a:lnTo>
                    <a:pt x="1357" y="1420"/>
                  </a:lnTo>
                  <a:lnTo>
                    <a:pt x="1359" y="1422"/>
                  </a:lnTo>
                  <a:lnTo>
                    <a:pt x="1363" y="1424"/>
                  </a:lnTo>
                  <a:lnTo>
                    <a:pt x="1364" y="1427"/>
                  </a:lnTo>
                  <a:lnTo>
                    <a:pt x="1366" y="1429"/>
                  </a:lnTo>
                  <a:lnTo>
                    <a:pt x="1368" y="1431"/>
                  </a:lnTo>
                  <a:lnTo>
                    <a:pt x="1372" y="1433"/>
                  </a:lnTo>
                  <a:lnTo>
                    <a:pt x="1373" y="1435"/>
                  </a:lnTo>
                  <a:lnTo>
                    <a:pt x="1375" y="1437"/>
                  </a:lnTo>
                  <a:lnTo>
                    <a:pt x="1376" y="1438"/>
                  </a:lnTo>
                  <a:lnTo>
                    <a:pt x="1378" y="1440"/>
                  </a:lnTo>
                  <a:lnTo>
                    <a:pt x="1378" y="1442"/>
                  </a:lnTo>
                  <a:lnTo>
                    <a:pt x="1379" y="1442"/>
                  </a:lnTo>
                  <a:lnTo>
                    <a:pt x="1379" y="1444"/>
                  </a:lnTo>
                  <a:lnTo>
                    <a:pt x="1381" y="1446"/>
                  </a:lnTo>
                  <a:lnTo>
                    <a:pt x="1381" y="1449"/>
                  </a:lnTo>
                  <a:lnTo>
                    <a:pt x="1383" y="1451"/>
                  </a:lnTo>
                  <a:lnTo>
                    <a:pt x="1384" y="1454"/>
                  </a:lnTo>
                  <a:lnTo>
                    <a:pt x="1386" y="1456"/>
                  </a:lnTo>
                  <a:lnTo>
                    <a:pt x="1386" y="1460"/>
                  </a:lnTo>
                  <a:lnTo>
                    <a:pt x="1388" y="1463"/>
                  </a:lnTo>
                  <a:lnTo>
                    <a:pt x="1390" y="1467"/>
                  </a:lnTo>
                  <a:lnTo>
                    <a:pt x="1392" y="1468"/>
                  </a:lnTo>
                  <a:lnTo>
                    <a:pt x="1392" y="1472"/>
                  </a:lnTo>
                  <a:lnTo>
                    <a:pt x="1393" y="1474"/>
                  </a:lnTo>
                  <a:lnTo>
                    <a:pt x="1393" y="1475"/>
                  </a:lnTo>
                  <a:lnTo>
                    <a:pt x="1394" y="1477"/>
                  </a:lnTo>
                  <a:lnTo>
                    <a:pt x="1393" y="1480"/>
                  </a:lnTo>
                  <a:lnTo>
                    <a:pt x="1393" y="1482"/>
                  </a:lnTo>
                  <a:lnTo>
                    <a:pt x="1392" y="1484"/>
                  </a:lnTo>
                  <a:lnTo>
                    <a:pt x="1392" y="1485"/>
                  </a:lnTo>
                  <a:lnTo>
                    <a:pt x="1390" y="1487"/>
                  </a:lnTo>
                  <a:lnTo>
                    <a:pt x="1390" y="1488"/>
                  </a:lnTo>
                  <a:lnTo>
                    <a:pt x="1388" y="1488"/>
                  </a:lnTo>
                  <a:lnTo>
                    <a:pt x="1388" y="1488"/>
                  </a:lnTo>
                  <a:lnTo>
                    <a:pt x="1386" y="1488"/>
                  </a:lnTo>
                  <a:lnTo>
                    <a:pt x="1386" y="1488"/>
                  </a:lnTo>
                  <a:lnTo>
                    <a:pt x="1384" y="1488"/>
                  </a:lnTo>
                  <a:lnTo>
                    <a:pt x="1384" y="1488"/>
                  </a:lnTo>
                  <a:lnTo>
                    <a:pt x="1383" y="1488"/>
                  </a:lnTo>
                  <a:lnTo>
                    <a:pt x="1383" y="1488"/>
                  </a:lnTo>
                  <a:lnTo>
                    <a:pt x="1383" y="1488"/>
                  </a:lnTo>
                  <a:lnTo>
                    <a:pt x="1383" y="1488"/>
                  </a:lnTo>
                  <a:lnTo>
                    <a:pt x="1382" y="1489"/>
                  </a:lnTo>
                  <a:lnTo>
                    <a:pt x="1381" y="1488"/>
                  </a:lnTo>
                  <a:lnTo>
                    <a:pt x="1379" y="1487"/>
                  </a:lnTo>
                  <a:lnTo>
                    <a:pt x="1378" y="1484"/>
                  </a:lnTo>
                  <a:lnTo>
                    <a:pt x="1374" y="1482"/>
                  </a:lnTo>
                  <a:lnTo>
                    <a:pt x="1372" y="1478"/>
                  </a:lnTo>
                  <a:lnTo>
                    <a:pt x="1368" y="1475"/>
                  </a:lnTo>
                  <a:lnTo>
                    <a:pt x="1365" y="1471"/>
                  </a:lnTo>
                  <a:lnTo>
                    <a:pt x="1360" y="1467"/>
                  </a:lnTo>
                  <a:lnTo>
                    <a:pt x="1356" y="1464"/>
                  </a:lnTo>
                  <a:lnTo>
                    <a:pt x="1353" y="1460"/>
                  </a:lnTo>
                  <a:lnTo>
                    <a:pt x="1349" y="1456"/>
                  </a:lnTo>
                  <a:lnTo>
                    <a:pt x="1344" y="1452"/>
                  </a:lnTo>
                  <a:lnTo>
                    <a:pt x="1340" y="1448"/>
                  </a:lnTo>
                  <a:lnTo>
                    <a:pt x="1336" y="1446"/>
                  </a:lnTo>
                  <a:lnTo>
                    <a:pt x="1333" y="1442"/>
                  </a:lnTo>
                  <a:lnTo>
                    <a:pt x="1329" y="1441"/>
                  </a:lnTo>
                  <a:lnTo>
                    <a:pt x="1326" y="1439"/>
                  </a:lnTo>
                  <a:lnTo>
                    <a:pt x="1322" y="1438"/>
                  </a:lnTo>
                  <a:lnTo>
                    <a:pt x="1320" y="1437"/>
                  </a:lnTo>
                  <a:lnTo>
                    <a:pt x="1318" y="1437"/>
                  </a:lnTo>
                  <a:lnTo>
                    <a:pt x="1316" y="1436"/>
                  </a:lnTo>
                  <a:lnTo>
                    <a:pt x="1314" y="1436"/>
                  </a:lnTo>
                  <a:lnTo>
                    <a:pt x="1313" y="1436"/>
                  </a:lnTo>
                  <a:lnTo>
                    <a:pt x="1311" y="1437"/>
                  </a:lnTo>
                  <a:lnTo>
                    <a:pt x="1309" y="1437"/>
                  </a:lnTo>
                  <a:lnTo>
                    <a:pt x="1307" y="1438"/>
                  </a:lnTo>
                  <a:lnTo>
                    <a:pt x="1307" y="1438"/>
                  </a:lnTo>
                  <a:lnTo>
                    <a:pt x="1306" y="1439"/>
                  </a:lnTo>
                  <a:lnTo>
                    <a:pt x="1306" y="1439"/>
                  </a:lnTo>
                  <a:lnTo>
                    <a:pt x="1306" y="1439"/>
                  </a:lnTo>
                  <a:lnTo>
                    <a:pt x="1306" y="1439"/>
                  </a:lnTo>
                  <a:lnTo>
                    <a:pt x="1306" y="1441"/>
                  </a:lnTo>
                  <a:lnTo>
                    <a:pt x="1306" y="1443"/>
                  </a:lnTo>
                  <a:lnTo>
                    <a:pt x="1306" y="1445"/>
                  </a:lnTo>
                  <a:lnTo>
                    <a:pt x="1306" y="1445"/>
                  </a:lnTo>
                  <a:lnTo>
                    <a:pt x="1306" y="1447"/>
                  </a:lnTo>
                  <a:lnTo>
                    <a:pt x="1306" y="1448"/>
                  </a:lnTo>
                  <a:lnTo>
                    <a:pt x="1306" y="1450"/>
                  </a:lnTo>
                  <a:lnTo>
                    <a:pt x="1308" y="1450"/>
                  </a:lnTo>
                  <a:lnTo>
                    <a:pt x="1308" y="1452"/>
                  </a:lnTo>
                  <a:lnTo>
                    <a:pt x="1308" y="1453"/>
                  </a:lnTo>
                  <a:lnTo>
                    <a:pt x="1308" y="1455"/>
                  </a:lnTo>
                  <a:lnTo>
                    <a:pt x="1310" y="1455"/>
                  </a:lnTo>
                  <a:lnTo>
                    <a:pt x="1310" y="1457"/>
                  </a:lnTo>
                  <a:lnTo>
                    <a:pt x="1312" y="1457"/>
                  </a:lnTo>
                  <a:lnTo>
                    <a:pt x="1314" y="1457"/>
                  </a:lnTo>
                  <a:lnTo>
                    <a:pt x="1316" y="1457"/>
                  </a:lnTo>
                  <a:lnTo>
                    <a:pt x="1316" y="1459"/>
                  </a:lnTo>
                  <a:lnTo>
                    <a:pt x="1317" y="1460"/>
                  </a:lnTo>
                  <a:lnTo>
                    <a:pt x="1318" y="1462"/>
                  </a:lnTo>
                  <a:lnTo>
                    <a:pt x="1320" y="1464"/>
                  </a:lnTo>
                  <a:lnTo>
                    <a:pt x="1321" y="1468"/>
                  </a:lnTo>
                  <a:lnTo>
                    <a:pt x="1323" y="1470"/>
                  </a:lnTo>
                  <a:lnTo>
                    <a:pt x="1325" y="1474"/>
                  </a:lnTo>
                  <a:lnTo>
                    <a:pt x="1327" y="1477"/>
                  </a:lnTo>
                  <a:lnTo>
                    <a:pt x="1329" y="1483"/>
                  </a:lnTo>
                  <a:lnTo>
                    <a:pt x="1332" y="1487"/>
                  </a:lnTo>
                  <a:lnTo>
                    <a:pt x="1335" y="1493"/>
                  </a:lnTo>
                  <a:lnTo>
                    <a:pt x="1338" y="1497"/>
                  </a:lnTo>
                  <a:lnTo>
                    <a:pt x="1342" y="1502"/>
                  </a:lnTo>
                  <a:lnTo>
                    <a:pt x="1345" y="1506"/>
                  </a:lnTo>
                  <a:lnTo>
                    <a:pt x="1349" y="1512"/>
                  </a:lnTo>
                  <a:lnTo>
                    <a:pt x="1354" y="1516"/>
                  </a:lnTo>
                  <a:lnTo>
                    <a:pt x="1358" y="1524"/>
                  </a:lnTo>
                  <a:lnTo>
                    <a:pt x="1363" y="1531"/>
                  </a:lnTo>
                  <a:lnTo>
                    <a:pt x="1368" y="1538"/>
                  </a:lnTo>
                  <a:lnTo>
                    <a:pt x="1375" y="1546"/>
                  </a:lnTo>
                  <a:lnTo>
                    <a:pt x="1382" y="1553"/>
                  </a:lnTo>
                  <a:lnTo>
                    <a:pt x="1389" y="1561"/>
                  </a:lnTo>
                  <a:lnTo>
                    <a:pt x="1397" y="1568"/>
                  </a:lnTo>
                  <a:lnTo>
                    <a:pt x="1406" y="1575"/>
                  </a:lnTo>
                  <a:lnTo>
                    <a:pt x="1414" y="1583"/>
                  </a:lnTo>
                  <a:lnTo>
                    <a:pt x="1424" y="1590"/>
                  </a:lnTo>
                  <a:lnTo>
                    <a:pt x="1433" y="1598"/>
                  </a:lnTo>
                  <a:lnTo>
                    <a:pt x="1442" y="1605"/>
                  </a:lnTo>
                  <a:lnTo>
                    <a:pt x="1452" y="1613"/>
                  </a:lnTo>
                  <a:lnTo>
                    <a:pt x="1461" y="1620"/>
                  </a:lnTo>
                  <a:lnTo>
                    <a:pt x="1471" y="1628"/>
                  </a:lnTo>
                  <a:lnTo>
                    <a:pt x="1482" y="1635"/>
                  </a:lnTo>
                  <a:lnTo>
                    <a:pt x="1491" y="1645"/>
                  </a:lnTo>
                  <a:lnTo>
                    <a:pt x="1505" y="1656"/>
                  </a:lnTo>
                  <a:lnTo>
                    <a:pt x="1521" y="1668"/>
                  </a:lnTo>
                  <a:lnTo>
                    <a:pt x="1540" y="1681"/>
                  </a:lnTo>
                  <a:lnTo>
                    <a:pt x="1560" y="1696"/>
                  </a:lnTo>
                  <a:lnTo>
                    <a:pt x="1583" y="1711"/>
                  </a:lnTo>
                  <a:lnTo>
                    <a:pt x="1606" y="1726"/>
                  </a:lnTo>
                  <a:lnTo>
                    <a:pt x="1629" y="1741"/>
                  </a:lnTo>
                  <a:lnTo>
                    <a:pt x="1651" y="1756"/>
                  </a:lnTo>
                  <a:lnTo>
                    <a:pt x="1673" y="1770"/>
                  </a:lnTo>
                  <a:lnTo>
                    <a:pt x="1693" y="1784"/>
                  </a:lnTo>
                  <a:lnTo>
                    <a:pt x="1712" y="1796"/>
                  </a:lnTo>
                  <a:lnTo>
                    <a:pt x="1727" y="1806"/>
                  </a:lnTo>
                  <a:lnTo>
                    <a:pt x="1740" y="1814"/>
                  </a:lnTo>
                  <a:lnTo>
                    <a:pt x="1749" y="1820"/>
                  </a:lnTo>
                  <a:lnTo>
                    <a:pt x="1754" y="1822"/>
                  </a:lnTo>
                  <a:lnTo>
                    <a:pt x="1754" y="1824"/>
                  </a:lnTo>
                  <a:lnTo>
                    <a:pt x="1756" y="1826"/>
                  </a:lnTo>
                  <a:lnTo>
                    <a:pt x="1758" y="1828"/>
                  </a:lnTo>
                  <a:lnTo>
                    <a:pt x="1760" y="1830"/>
                  </a:lnTo>
                  <a:lnTo>
                    <a:pt x="1760" y="1834"/>
                  </a:lnTo>
                  <a:lnTo>
                    <a:pt x="1762" y="1836"/>
                  </a:lnTo>
                  <a:lnTo>
                    <a:pt x="1763" y="1838"/>
                  </a:lnTo>
                  <a:lnTo>
                    <a:pt x="1764" y="1840"/>
                  </a:lnTo>
                  <a:lnTo>
                    <a:pt x="1764" y="1844"/>
                  </a:lnTo>
                  <a:lnTo>
                    <a:pt x="1766" y="1846"/>
                  </a:lnTo>
                  <a:lnTo>
                    <a:pt x="1766" y="1849"/>
                  </a:lnTo>
                  <a:lnTo>
                    <a:pt x="1768" y="1851"/>
                  </a:lnTo>
                  <a:lnTo>
                    <a:pt x="1768" y="1854"/>
                  </a:lnTo>
                  <a:lnTo>
                    <a:pt x="1770" y="1856"/>
                  </a:lnTo>
                  <a:lnTo>
                    <a:pt x="1772" y="1858"/>
                  </a:lnTo>
                  <a:lnTo>
                    <a:pt x="1773" y="1859"/>
                  </a:lnTo>
                  <a:lnTo>
                    <a:pt x="1773" y="1861"/>
                  </a:lnTo>
                  <a:lnTo>
                    <a:pt x="1774" y="1861"/>
                  </a:lnTo>
                  <a:lnTo>
                    <a:pt x="1776" y="1861"/>
                  </a:lnTo>
                  <a:lnTo>
                    <a:pt x="1780" y="1860"/>
                  </a:lnTo>
                  <a:lnTo>
                    <a:pt x="1782" y="1860"/>
                  </a:lnTo>
                  <a:lnTo>
                    <a:pt x="1786" y="1859"/>
                  </a:lnTo>
                  <a:lnTo>
                    <a:pt x="1790" y="1859"/>
                  </a:lnTo>
                  <a:lnTo>
                    <a:pt x="1793" y="1857"/>
                  </a:lnTo>
                  <a:lnTo>
                    <a:pt x="1796" y="1857"/>
                  </a:lnTo>
                  <a:lnTo>
                    <a:pt x="1800" y="1856"/>
                  </a:lnTo>
                  <a:lnTo>
                    <a:pt x="1804" y="1856"/>
                  </a:lnTo>
                  <a:lnTo>
                    <a:pt x="1808" y="1854"/>
                  </a:lnTo>
                  <a:lnTo>
                    <a:pt x="1810" y="1854"/>
                  </a:lnTo>
                  <a:lnTo>
                    <a:pt x="1813" y="1852"/>
                  </a:lnTo>
                  <a:lnTo>
                    <a:pt x="1815" y="1852"/>
                  </a:lnTo>
                  <a:lnTo>
                    <a:pt x="1818" y="1851"/>
                  </a:lnTo>
                  <a:lnTo>
                    <a:pt x="1820" y="1853"/>
                  </a:lnTo>
                  <a:lnTo>
                    <a:pt x="1821" y="1853"/>
                  </a:lnTo>
                  <a:lnTo>
                    <a:pt x="1823" y="1854"/>
                  </a:lnTo>
                  <a:lnTo>
                    <a:pt x="1826" y="1854"/>
                  </a:lnTo>
                  <a:lnTo>
                    <a:pt x="1828" y="1856"/>
                  </a:lnTo>
                  <a:lnTo>
                    <a:pt x="1832" y="1857"/>
                  </a:lnTo>
                  <a:lnTo>
                    <a:pt x="1834" y="1858"/>
                  </a:lnTo>
                  <a:lnTo>
                    <a:pt x="1838" y="1858"/>
                  </a:lnTo>
                  <a:lnTo>
                    <a:pt x="1840" y="1860"/>
                  </a:lnTo>
                  <a:lnTo>
                    <a:pt x="1842" y="1862"/>
                  </a:lnTo>
                  <a:lnTo>
                    <a:pt x="1844" y="1864"/>
                  </a:lnTo>
                  <a:lnTo>
                    <a:pt x="1848" y="1864"/>
                  </a:lnTo>
                  <a:lnTo>
                    <a:pt x="1850" y="1866"/>
                  </a:lnTo>
                  <a:lnTo>
                    <a:pt x="1852" y="1867"/>
                  </a:lnTo>
                  <a:lnTo>
                    <a:pt x="1854" y="1868"/>
                  </a:lnTo>
                  <a:lnTo>
                    <a:pt x="1857" y="1868"/>
                  </a:lnTo>
                  <a:lnTo>
                    <a:pt x="1859" y="1870"/>
                  </a:lnTo>
                  <a:lnTo>
                    <a:pt x="1861" y="1872"/>
                  </a:lnTo>
                  <a:lnTo>
                    <a:pt x="1862" y="1874"/>
                  </a:lnTo>
                  <a:lnTo>
                    <a:pt x="1865" y="1876"/>
                  </a:lnTo>
                  <a:lnTo>
                    <a:pt x="1867" y="1879"/>
                  </a:lnTo>
                  <a:lnTo>
                    <a:pt x="1870" y="1881"/>
                  </a:lnTo>
                  <a:lnTo>
                    <a:pt x="1871" y="1883"/>
                  </a:lnTo>
                  <a:lnTo>
                    <a:pt x="1875" y="1885"/>
                  </a:lnTo>
                  <a:lnTo>
                    <a:pt x="1877" y="1888"/>
                  </a:lnTo>
                  <a:lnTo>
                    <a:pt x="1879" y="1890"/>
                  </a:lnTo>
                  <a:lnTo>
                    <a:pt x="1881" y="1894"/>
                  </a:lnTo>
                  <a:lnTo>
                    <a:pt x="1884" y="1895"/>
                  </a:lnTo>
                  <a:lnTo>
                    <a:pt x="1885" y="1898"/>
                  </a:lnTo>
                  <a:lnTo>
                    <a:pt x="1887" y="1900"/>
                  </a:lnTo>
                  <a:lnTo>
                    <a:pt x="1889" y="1902"/>
                  </a:lnTo>
                  <a:lnTo>
                    <a:pt x="1891" y="1904"/>
                  </a:lnTo>
                  <a:lnTo>
                    <a:pt x="1892" y="1907"/>
                  </a:lnTo>
                  <a:lnTo>
                    <a:pt x="1896" y="1910"/>
                  </a:lnTo>
                  <a:lnTo>
                    <a:pt x="1899" y="1914"/>
                  </a:lnTo>
                  <a:lnTo>
                    <a:pt x="1903" y="1917"/>
                  </a:lnTo>
                  <a:lnTo>
                    <a:pt x="1907" y="1923"/>
                  </a:lnTo>
                  <a:lnTo>
                    <a:pt x="1910" y="1926"/>
                  </a:lnTo>
                  <a:lnTo>
                    <a:pt x="1914" y="1931"/>
                  </a:lnTo>
                  <a:lnTo>
                    <a:pt x="1919" y="1935"/>
                  </a:lnTo>
                  <a:lnTo>
                    <a:pt x="1922" y="1940"/>
                  </a:lnTo>
                  <a:lnTo>
                    <a:pt x="1926" y="1943"/>
                  </a:lnTo>
                  <a:lnTo>
                    <a:pt x="1929" y="1947"/>
                  </a:lnTo>
                  <a:lnTo>
                    <a:pt x="1933" y="1950"/>
                  </a:lnTo>
                  <a:lnTo>
                    <a:pt x="1935" y="1953"/>
                  </a:lnTo>
                  <a:lnTo>
                    <a:pt x="1938" y="1955"/>
                  </a:lnTo>
                  <a:lnTo>
                    <a:pt x="1939" y="1955"/>
                  </a:lnTo>
                  <a:lnTo>
                    <a:pt x="1940" y="1955"/>
                  </a:lnTo>
                  <a:lnTo>
                    <a:pt x="1940" y="1954"/>
                  </a:lnTo>
                  <a:lnTo>
                    <a:pt x="1939" y="1950"/>
                  </a:lnTo>
                  <a:lnTo>
                    <a:pt x="1936" y="1945"/>
                  </a:lnTo>
                  <a:lnTo>
                    <a:pt x="1933" y="1938"/>
                  </a:lnTo>
                  <a:lnTo>
                    <a:pt x="1928" y="1932"/>
                  </a:lnTo>
                  <a:lnTo>
                    <a:pt x="1924" y="1923"/>
                  </a:lnTo>
                  <a:lnTo>
                    <a:pt x="1918" y="1914"/>
                  </a:lnTo>
                  <a:lnTo>
                    <a:pt x="1912" y="1903"/>
                  </a:lnTo>
                  <a:lnTo>
                    <a:pt x="1905" y="1894"/>
                  </a:lnTo>
                  <a:lnTo>
                    <a:pt x="1899" y="1883"/>
                  </a:lnTo>
                  <a:lnTo>
                    <a:pt x="1891" y="1874"/>
                  </a:lnTo>
                  <a:lnTo>
                    <a:pt x="1886" y="1863"/>
                  </a:lnTo>
                  <a:lnTo>
                    <a:pt x="1879" y="1855"/>
                  </a:lnTo>
                  <a:lnTo>
                    <a:pt x="1874" y="1846"/>
                  </a:lnTo>
                  <a:lnTo>
                    <a:pt x="1869" y="1840"/>
                  </a:lnTo>
                  <a:lnTo>
                    <a:pt x="1865" y="1834"/>
                  </a:lnTo>
                  <a:lnTo>
                    <a:pt x="1860" y="1830"/>
                  </a:lnTo>
                  <a:lnTo>
                    <a:pt x="1852" y="1821"/>
                  </a:lnTo>
                  <a:lnTo>
                    <a:pt x="1841" y="1811"/>
                  </a:lnTo>
                  <a:lnTo>
                    <a:pt x="1830" y="1797"/>
                  </a:lnTo>
                  <a:lnTo>
                    <a:pt x="1814" y="1783"/>
                  </a:lnTo>
                  <a:lnTo>
                    <a:pt x="1798" y="1768"/>
                  </a:lnTo>
                  <a:lnTo>
                    <a:pt x="1782" y="1750"/>
                  </a:lnTo>
                  <a:lnTo>
                    <a:pt x="1765" y="1732"/>
                  </a:lnTo>
                  <a:lnTo>
                    <a:pt x="1748" y="1716"/>
                  </a:lnTo>
                  <a:lnTo>
                    <a:pt x="1732" y="1699"/>
                  </a:lnTo>
                  <a:lnTo>
                    <a:pt x="1716" y="1683"/>
                  </a:lnTo>
                  <a:lnTo>
                    <a:pt x="1702" y="1668"/>
                  </a:lnTo>
                  <a:lnTo>
                    <a:pt x="1690" y="1655"/>
                  </a:lnTo>
                  <a:lnTo>
                    <a:pt x="1680" y="1644"/>
                  </a:lnTo>
                  <a:lnTo>
                    <a:pt x="1673" y="1635"/>
                  </a:lnTo>
                  <a:lnTo>
                    <a:pt x="1671" y="1629"/>
                  </a:lnTo>
                  <a:lnTo>
                    <a:pt x="1669" y="1627"/>
                  </a:lnTo>
                  <a:lnTo>
                    <a:pt x="1669" y="1624"/>
                  </a:lnTo>
                  <a:lnTo>
                    <a:pt x="1667" y="1622"/>
                  </a:lnTo>
                  <a:lnTo>
                    <a:pt x="1667" y="1618"/>
                  </a:lnTo>
                  <a:lnTo>
                    <a:pt x="1665" y="1614"/>
                  </a:lnTo>
                  <a:lnTo>
                    <a:pt x="1665" y="1611"/>
                  </a:lnTo>
                  <a:lnTo>
                    <a:pt x="1665" y="1607"/>
                  </a:lnTo>
                  <a:lnTo>
                    <a:pt x="1665" y="1603"/>
                  </a:lnTo>
                  <a:lnTo>
                    <a:pt x="1664" y="1600"/>
                  </a:lnTo>
                  <a:lnTo>
                    <a:pt x="1664" y="1596"/>
                  </a:lnTo>
                  <a:lnTo>
                    <a:pt x="1664" y="1592"/>
                  </a:lnTo>
                  <a:lnTo>
                    <a:pt x="1664" y="1588"/>
                  </a:lnTo>
                  <a:lnTo>
                    <a:pt x="1664" y="1584"/>
                  </a:lnTo>
                  <a:lnTo>
                    <a:pt x="1664" y="1581"/>
                  </a:lnTo>
                  <a:lnTo>
                    <a:pt x="1664" y="1577"/>
                  </a:lnTo>
                  <a:lnTo>
                    <a:pt x="1664" y="1573"/>
                  </a:lnTo>
                  <a:lnTo>
                    <a:pt x="1662" y="1572"/>
                  </a:lnTo>
                  <a:lnTo>
                    <a:pt x="1660" y="1567"/>
                  </a:lnTo>
                  <a:lnTo>
                    <a:pt x="1657" y="1562"/>
                  </a:lnTo>
                  <a:lnTo>
                    <a:pt x="1653" y="1556"/>
                  </a:lnTo>
                  <a:lnTo>
                    <a:pt x="1647" y="1549"/>
                  </a:lnTo>
                  <a:lnTo>
                    <a:pt x="1642" y="1542"/>
                  </a:lnTo>
                  <a:lnTo>
                    <a:pt x="1636" y="1534"/>
                  </a:lnTo>
                  <a:lnTo>
                    <a:pt x="1630" y="1525"/>
                  </a:lnTo>
                  <a:lnTo>
                    <a:pt x="1623" y="1517"/>
                  </a:lnTo>
                  <a:lnTo>
                    <a:pt x="1617" y="1509"/>
                  </a:lnTo>
                  <a:lnTo>
                    <a:pt x="1612" y="1502"/>
                  </a:lnTo>
                  <a:lnTo>
                    <a:pt x="1607" y="1494"/>
                  </a:lnTo>
                  <a:lnTo>
                    <a:pt x="1601" y="1488"/>
                  </a:lnTo>
                  <a:lnTo>
                    <a:pt x="1597" y="1483"/>
                  </a:lnTo>
                  <a:lnTo>
                    <a:pt x="1594" y="1478"/>
                  </a:lnTo>
                  <a:lnTo>
                    <a:pt x="1593" y="1475"/>
                  </a:lnTo>
                  <a:lnTo>
                    <a:pt x="1590" y="1474"/>
                  </a:lnTo>
                  <a:lnTo>
                    <a:pt x="1587" y="1470"/>
                  </a:lnTo>
                  <a:lnTo>
                    <a:pt x="1584" y="1465"/>
                  </a:lnTo>
                  <a:lnTo>
                    <a:pt x="1580" y="1459"/>
                  </a:lnTo>
                  <a:lnTo>
                    <a:pt x="1574" y="1454"/>
                  </a:lnTo>
                  <a:lnTo>
                    <a:pt x="1570" y="1447"/>
                  </a:lnTo>
                  <a:lnTo>
                    <a:pt x="1564" y="1441"/>
                  </a:lnTo>
                  <a:lnTo>
                    <a:pt x="1560" y="1434"/>
                  </a:lnTo>
                  <a:lnTo>
                    <a:pt x="1554" y="1428"/>
                  </a:lnTo>
                  <a:lnTo>
                    <a:pt x="1549" y="1421"/>
                  </a:lnTo>
                  <a:lnTo>
                    <a:pt x="1544" y="1416"/>
                  </a:lnTo>
                  <a:lnTo>
                    <a:pt x="1540" y="1409"/>
                  </a:lnTo>
                  <a:lnTo>
                    <a:pt x="1536" y="1405"/>
                  </a:lnTo>
                  <a:lnTo>
                    <a:pt x="1533" y="1400"/>
                  </a:lnTo>
                  <a:lnTo>
                    <a:pt x="1531" y="1397"/>
                  </a:lnTo>
                  <a:lnTo>
                    <a:pt x="1530" y="1394"/>
                  </a:lnTo>
                  <a:lnTo>
                    <a:pt x="1529" y="1392"/>
                  </a:lnTo>
                  <a:lnTo>
                    <a:pt x="1529" y="1388"/>
                  </a:lnTo>
                  <a:lnTo>
                    <a:pt x="1529" y="1385"/>
                  </a:lnTo>
                  <a:lnTo>
                    <a:pt x="1531" y="1381"/>
                  </a:lnTo>
                  <a:lnTo>
                    <a:pt x="1532" y="1378"/>
                  </a:lnTo>
                  <a:lnTo>
                    <a:pt x="1534" y="1374"/>
                  </a:lnTo>
                  <a:lnTo>
                    <a:pt x="1536" y="1370"/>
                  </a:lnTo>
                  <a:lnTo>
                    <a:pt x="1538" y="1366"/>
                  </a:lnTo>
                  <a:lnTo>
                    <a:pt x="1539" y="1363"/>
                  </a:lnTo>
                  <a:lnTo>
                    <a:pt x="1541" y="1359"/>
                  </a:lnTo>
                  <a:lnTo>
                    <a:pt x="1542" y="1356"/>
                  </a:lnTo>
                  <a:lnTo>
                    <a:pt x="1544" y="1352"/>
                  </a:lnTo>
                  <a:lnTo>
                    <a:pt x="1544" y="1349"/>
                  </a:lnTo>
                  <a:lnTo>
                    <a:pt x="1546" y="1346"/>
                  </a:lnTo>
                  <a:lnTo>
                    <a:pt x="1546" y="1342"/>
                  </a:lnTo>
                  <a:lnTo>
                    <a:pt x="1546" y="1339"/>
                  </a:lnTo>
                  <a:lnTo>
                    <a:pt x="1543" y="1335"/>
                  </a:lnTo>
                  <a:lnTo>
                    <a:pt x="1541" y="1331"/>
                  </a:lnTo>
                  <a:lnTo>
                    <a:pt x="1538" y="1328"/>
                  </a:lnTo>
                  <a:lnTo>
                    <a:pt x="1535" y="1322"/>
                  </a:lnTo>
                  <a:lnTo>
                    <a:pt x="1530" y="1318"/>
                  </a:lnTo>
                  <a:lnTo>
                    <a:pt x="1527" y="1312"/>
                  </a:lnTo>
                  <a:lnTo>
                    <a:pt x="1522" y="1309"/>
                  </a:lnTo>
                  <a:lnTo>
                    <a:pt x="1518" y="1303"/>
                  </a:lnTo>
                  <a:lnTo>
                    <a:pt x="1512" y="1300"/>
                  </a:lnTo>
                  <a:lnTo>
                    <a:pt x="1507" y="1296"/>
                  </a:lnTo>
                  <a:lnTo>
                    <a:pt x="1501" y="1292"/>
                  </a:lnTo>
                  <a:lnTo>
                    <a:pt x="1498" y="1288"/>
                  </a:lnTo>
                  <a:lnTo>
                    <a:pt x="1492" y="1285"/>
                  </a:lnTo>
                  <a:lnTo>
                    <a:pt x="1488" y="1281"/>
                  </a:lnTo>
                  <a:lnTo>
                    <a:pt x="1483" y="1280"/>
                  </a:lnTo>
                  <a:lnTo>
                    <a:pt x="1480" y="1277"/>
                  </a:lnTo>
                  <a:lnTo>
                    <a:pt x="1478" y="1277"/>
                  </a:lnTo>
                  <a:lnTo>
                    <a:pt x="1476" y="1276"/>
                  </a:lnTo>
                  <a:lnTo>
                    <a:pt x="1474" y="1274"/>
                  </a:lnTo>
                  <a:lnTo>
                    <a:pt x="1474" y="1270"/>
                  </a:lnTo>
                  <a:lnTo>
                    <a:pt x="1472" y="1267"/>
                  </a:lnTo>
                  <a:lnTo>
                    <a:pt x="1472" y="1263"/>
                  </a:lnTo>
                  <a:lnTo>
                    <a:pt x="1470" y="1260"/>
                  </a:lnTo>
                  <a:lnTo>
                    <a:pt x="1470" y="1254"/>
                  </a:lnTo>
                  <a:lnTo>
                    <a:pt x="1468" y="1251"/>
                  </a:lnTo>
                  <a:lnTo>
                    <a:pt x="1468" y="1246"/>
                  </a:lnTo>
                  <a:lnTo>
                    <a:pt x="1467" y="1243"/>
                  </a:lnTo>
                  <a:lnTo>
                    <a:pt x="1467" y="1238"/>
                  </a:lnTo>
                  <a:lnTo>
                    <a:pt x="1465" y="1234"/>
                  </a:lnTo>
                  <a:lnTo>
                    <a:pt x="1465" y="1231"/>
                  </a:lnTo>
                  <a:lnTo>
                    <a:pt x="1465" y="1228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5" y="1224"/>
                  </a:lnTo>
                  <a:lnTo>
                    <a:pt x="1465" y="1224"/>
                  </a:lnTo>
                  <a:lnTo>
                    <a:pt x="1466" y="1223"/>
                  </a:lnTo>
                  <a:lnTo>
                    <a:pt x="1466" y="1223"/>
                  </a:lnTo>
                  <a:lnTo>
                    <a:pt x="1466" y="1221"/>
                  </a:lnTo>
                  <a:lnTo>
                    <a:pt x="1466" y="1220"/>
                  </a:lnTo>
                  <a:lnTo>
                    <a:pt x="1468" y="1218"/>
                  </a:lnTo>
                  <a:lnTo>
                    <a:pt x="1468" y="1218"/>
                  </a:lnTo>
                  <a:lnTo>
                    <a:pt x="1468" y="1216"/>
                  </a:lnTo>
                  <a:lnTo>
                    <a:pt x="1468" y="1214"/>
                  </a:lnTo>
                  <a:lnTo>
                    <a:pt x="1469" y="1213"/>
                  </a:lnTo>
                  <a:lnTo>
                    <a:pt x="1469" y="1213"/>
                  </a:lnTo>
                  <a:lnTo>
                    <a:pt x="1469" y="1211"/>
                  </a:lnTo>
                  <a:lnTo>
                    <a:pt x="1469" y="1210"/>
                  </a:lnTo>
                  <a:lnTo>
                    <a:pt x="1470" y="1208"/>
                  </a:lnTo>
                  <a:lnTo>
                    <a:pt x="1467" y="1203"/>
                  </a:lnTo>
                  <a:lnTo>
                    <a:pt x="1462" y="1196"/>
                  </a:lnTo>
                  <a:lnTo>
                    <a:pt x="1456" y="1187"/>
                  </a:lnTo>
                  <a:lnTo>
                    <a:pt x="1450" y="1177"/>
                  </a:lnTo>
                  <a:lnTo>
                    <a:pt x="1440" y="1167"/>
                  </a:lnTo>
                  <a:lnTo>
                    <a:pt x="1431" y="1156"/>
                  </a:lnTo>
                  <a:lnTo>
                    <a:pt x="1421" y="1145"/>
                  </a:lnTo>
                  <a:lnTo>
                    <a:pt x="1411" y="1133"/>
                  </a:lnTo>
                  <a:lnTo>
                    <a:pt x="1400" y="1123"/>
                  </a:lnTo>
                  <a:lnTo>
                    <a:pt x="1390" y="1112"/>
                  </a:lnTo>
                  <a:lnTo>
                    <a:pt x="1381" y="1102"/>
                  </a:lnTo>
                  <a:lnTo>
                    <a:pt x="1372" y="1092"/>
                  </a:lnTo>
                  <a:lnTo>
                    <a:pt x="1364" y="1085"/>
                  </a:lnTo>
                  <a:lnTo>
                    <a:pt x="1358" y="1078"/>
                  </a:lnTo>
                  <a:lnTo>
                    <a:pt x="1353" y="1074"/>
                  </a:lnTo>
                  <a:lnTo>
                    <a:pt x="1350" y="1070"/>
                  </a:lnTo>
                  <a:lnTo>
                    <a:pt x="1346" y="1067"/>
                  </a:lnTo>
                  <a:lnTo>
                    <a:pt x="1343" y="1063"/>
                  </a:lnTo>
                  <a:lnTo>
                    <a:pt x="1339" y="1059"/>
                  </a:lnTo>
                  <a:lnTo>
                    <a:pt x="1335" y="1055"/>
                  </a:lnTo>
                  <a:lnTo>
                    <a:pt x="1330" y="1051"/>
                  </a:lnTo>
                  <a:lnTo>
                    <a:pt x="1326" y="1046"/>
                  </a:lnTo>
                  <a:lnTo>
                    <a:pt x="1320" y="1042"/>
                  </a:lnTo>
                  <a:lnTo>
                    <a:pt x="1316" y="1037"/>
                  </a:lnTo>
                  <a:lnTo>
                    <a:pt x="1311" y="1033"/>
                  </a:lnTo>
                  <a:lnTo>
                    <a:pt x="1307" y="1027"/>
                  </a:lnTo>
                  <a:lnTo>
                    <a:pt x="1303" y="1024"/>
                  </a:lnTo>
                  <a:lnTo>
                    <a:pt x="1299" y="1018"/>
                  </a:lnTo>
                  <a:lnTo>
                    <a:pt x="1295" y="1014"/>
                  </a:lnTo>
                  <a:lnTo>
                    <a:pt x="1292" y="1009"/>
                  </a:lnTo>
                  <a:lnTo>
                    <a:pt x="1290" y="1006"/>
                  </a:lnTo>
                  <a:lnTo>
                    <a:pt x="1288" y="1000"/>
                  </a:lnTo>
                  <a:lnTo>
                    <a:pt x="1286" y="997"/>
                  </a:lnTo>
                  <a:lnTo>
                    <a:pt x="1286" y="993"/>
                  </a:lnTo>
                  <a:lnTo>
                    <a:pt x="1286" y="989"/>
                  </a:lnTo>
                  <a:lnTo>
                    <a:pt x="1287" y="984"/>
                  </a:lnTo>
                  <a:lnTo>
                    <a:pt x="1287" y="979"/>
                  </a:lnTo>
                  <a:lnTo>
                    <a:pt x="1288" y="974"/>
                  </a:lnTo>
                  <a:lnTo>
                    <a:pt x="1290" y="968"/>
                  </a:lnTo>
                  <a:lnTo>
                    <a:pt x="1292" y="962"/>
                  </a:lnTo>
                  <a:lnTo>
                    <a:pt x="1292" y="958"/>
                  </a:lnTo>
                  <a:lnTo>
                    <a:pt x="1293" y="952"/>
                  </a:lnTo>
                  <a:lnTo>
                    <a:pt x="1293" y="947"/>
                  </a:lnTo>
                  <a:lnTo>
                    <a:pt x="1295" y="941"/>
                  </a:lnTo>
                  <a:lnTo>
                    <a:pt x="1294" y="938"/>
                  </a:lnTo>
                  <a:lnTo>
                    <a:pt x="1294" y="932"/>
                  </a:lnTo>
                  <a:lnTo>
                    <a:pt x="1293" y="929"/>
                  </a:lnTo>
                  <a:lnTo>
                    <a:pt x="1293" y="924"/>
                  </a:lnTo>
                  <a:lnTo>
                    <a:pt x="1291" y="922"/>
                  </a:lnTo>
                  <a:lnTo>
                    <a:pt x="1289" y="918"/>
                  </a:lnTo>
                  <a:lnTo>
                    <a:pt x="1286" y="914"/>
                  </a:lnTo>
                  <a:lnTo>
                    <a:pt x="1285" y="909"/>
                  </a:lnTo>
                  <a:lnTo>
                    <a:pt x="1281" y="905"/>
                  </a:lnTo>
                  <a:lnTo>
                    <a:pt x="1279" y="900"/>
                  </a:lnTo>
                  <a:lnTo>
                    <a:pt x="1275" y="894"/>
                  </a:lnTo>
                  <a:lnTo>
                    <a:pt x="1274" y="888"/>
                  </a:lnTo>
                  <a:lnTo>
                    <a:pt x="1270" y="884"/>
                  </a:lnTo>
                  <a:lnTo>
                    <a:pt x="1266" y="879"/>
                  </a:lnTo>
                  <a:lnTo>
                    <a:pt x="1262" y="875"/>
                  </a:lnTo>
                  <a:lnTo>
                    <a:pt x="1260" y="870"/>
                  </a:lnTo>
                  <a:lnTo>
                    <a:pt x="1256" y="866"/>
                  </a:lnTo>
                  <a:lnTo>
                    <a:pt x="1254" y="862"/>
                  </a:lnTo>
                  <a:lnTo>
                    <a:pt x="1251" y="860"/>
                  </a:lnTo>
                  <a:lnTo>
                    <a:pt x="1249" y="856"/>
                  </a:lnTo>
                  <a:lnTo>
                    <a:pt x="1247" y="856"/>
                  </a:lnTo>
                  <a:lnTo>
                    <a:pt x="1247" y="856"/>
                  </a:lnTo>
                  <a:lnTo>
                    <a:pt x="1245" y="857"/>
                  </a:lnTo>
                  <a:lnTo>
                    <a:pt x="1244" y="857"/>
                  </a:lnTo>
                  <a:lnTo>
                    <a:pt x="1242" y="859"/>
                  </a:lnTo>
                  <a:lnTo>
                    <a:pt x="1240" y="860"/>
                  </a:lnTo>
                  <a:lnTo>
                    <a:pt x="1238" y="861"/>
                  </a:lnTo>
                  <a:lnTo>
                    <a:pt x="1237" y="861"/>
                  </a:lnTo>
                  <a:lnTo>
                    <a:pt x="1235" y="863"/>
                  </a:lnTo>
                  <a:lnTo>
                    <a:pt x="1233" y="864"/>
                  </a:lnTo>
                  <a:lnTo>
                    <a:pt x="1231" y="866"/>
                  </a:lnTo>
                  <a:lnTo>
                    <a:pt x="1229" y="866"/>
                  </a:lnTo>
                  <a:lnTo>
                    <a:pt x="1227" y="868"/>
                  </a:lnTo>
                  <a:lnTo>
                    <a:pt x="1226" y="868"/>
                  </a:lnTo>
                  <a:lnTo>
                    <a:pt x="1225" y="868"/>
                  </a:lnTo>
                  <a:lnTo>
                    <a:pt x="1225" y="867"/>
                  </a:lnTo>
                  <a:lnTo>
                    <a:pt x="1221" y="864"/>
                  </a:lnTo>
                  <a:lnTo>
                    <a:pt x="1219" y="860"/>
                  </a:lnTo>
                  <a:lnTo>
                    <a:pt x="1216" y="856"/>
                  </a:lnTo>
                  <a:lnTo>
                    <a:pt x="1214" y="851"/>
                  </a:lnTo>
                  <a:lnTo>
                    <a:pt x="1210" y="846"/>
                  </a:lnTo>
                  <a:lnTo>
                    <a:pt x="1207" y="841"/>
                  </a:lnTo>
                  <a:lnTo>
                    <a:pt x="1204" y="835"/>
                  </a:lnTo>
                  <a:lnTo>
                    <a:pt x="1202" y="830"/>
                  </a:lnTo>
                  <a:lnTo>
                    <a:pt x="1198" y="825"/>
                  </a:lnTo>
                  <a:lnTo>
                    <a:pt x="1195" y="820"/>
                  </a:lnTo>
                  <a:lnTo>
                    <a:pt x="1191" y="814"/>
                  </a:lnTo>
                  <a:lnTo>
                    <a:pt x="1189" y="809"/>
                  </a:lnTo>
                  <a:lnTo>
                    <a:pt x="1186" y="805"/>
                  </a:lnTo>
                  <a:lnTo>
                    <a:pt x="1184" y="800"/>
                  </a:lnTo>
                  <a:lnTo>
                    <a:pt x="1182" y="796"/>
                  </a:lnTo>
                  <a:lnTo>
                    <a:pt x="1180" y="792"/>
                  </a:lnTo>
                  <a:lnTo>
                    <a:pt x="1177" y="789"/>
                  </a:lnTo>
                  <a:lnTo>
                    <a:pt x="1174" y="785"/>
                  </a:lnTo>
                  <a:lnTo>
                    <a:pt x="1169" y="780"/>
                  </a:lnTo>
                  <a:lnTo>
                    <a:pt x="1164" y="775"/>
                  </a:lnTo>
                  <a:lnTo>
                    <a:pt x="1158" y="769"/>
                  </a:lnTo>
                  <a:lnTo>
                    <a:pt x="1152" y="762"/>
                  </a:lnTo>
                  <a:lnTo>
                    <a:pt x="1146" y="755"/>
                  </a:lnTo>
                  <a:lnTo>
                    <a:pt x="1140" y="747"/>
                  </a:lnTo>
                  <a:lnTo>
                    <a:pt x="1132" y="742"/>
                  </a:lnTo>
                  <a:lnTo>
                    <a:pt x="1127" y="734"/>
                  </a:lnTo>
                  <a:lnTo>
                    <a:pt x="1121" y="728"/>
                  </a:lnTo>
                  <a:lnTo>
                    <a:pt x="1115" y="721"/>
                  </a:lnTo>
                  <a:lnTo>
                    <a:pt x="1109" y="717"/>
                  </a:lnTo>
                  <a:lnTo>
                    <a:pt x="1106" y="712"/>
                  </a:lnTo>
                  <a:lnTo>
                    <a:pt x="1102" y="708"/>
                  </a:lnTo>
                  <a:lnTo>
                    <a:pt x="1101" y="705"/>
                  </a:lnTo>
                  <a:lnTo>
                    <a:pt x="1098" y="704"/>
                  </a:lnTo>
                  <a:lnTo>
                    <a:pt x="1095" y="701"/>
                  </a:lnTo>
                  <a:lnTo>
                    <a:pt x="1091" y="697"/>
                  </a:lnTo>
                  <a:lnTo>
                    <a:pt x="1088" y="693"/>
                  </a:lnTo>
                  <a:lnTo>
                    <a:pt x="1082" y="689"/>
                  </a:lnTo>
                  <a:lnTo>
                    <a:pt x="1079" y="684"/>
                  </a:lnTo>
                  <a:lnTo>
                    <a:pt x="1074" y="678"/>
                  </a:lnTo>
                  <a:lnTo>
                    <a:pt x="1070" y="673"/>
                  </a:lnTo>
                  <a:lnTo>
                    <a:pt x="1064" y="669"/>
                  </a:lnTo>
                  <a:lnTo>
                    <a:pt x="1061" y="664"/>
                  </a:lnTo>
                  <a:lnTo>
                    <a:pt x="1056" y="658"/>
                  </a:lnTo>
                  <a:lnTo>
                    <a:pt x="1053" y="653"/>
                  </a:lnTo>
                  <a:lnTo>
                    <a:pt x="1050" y="649"/>
                  </a:lnTo>
                  <a:lnTo>
                    <a:pt x="1048" y="645"/>
                  </a:lnTo>
                  <a:lnTo>
                    <a:pt x="1046" y="642"/>
                  </a:lnTo>
                  <a:lnTo>
                    <a:pt x="1046" y="639"/>
                  </a:lnTo>
                  <a:lnTo>
                    <a:pt x="1048" y="636"/>
                  </a:lnTo>
                  <a:lnTo>
                    <a:pt x="1053" y="629"/>
                  </a:lnTo>
                  <a:lnTo>
                    <a:pt x="1061" y="620"/>
                  </a:lnTo>
                  <a:lnTo>
                    <a:pt x="1072" y="609"/>
                  </a:lnTo>
                  <a:lnTo>
                    <a:pt x="1085" y="598"/>
                  </a:lnTo>
                  <a:lnTo>
                    <a:pt x="1100" y="585"/>
                  </a:lnTo>
                  <a:lnTo>
                    <a:pt x="1116" y="570"/>
                  </a:lnTo>
                  <a:lnTo>
                    <a:pt x="1133" y="556"/>
                  </a:lnTo>
                  <a:lnTo>
                    <a:pt x="1149" y="542"/>
                  </a:lnTo>
                  <a:lnTo>
                    <a:pt x="1166" y="528"/>
                  </a:lnTo>
                  <a:lnTo>
                    <a:pt x="1180" y="515"/>
                  </a:lnTo>
                  <a:lnTo>
                    <a:pt x="1195" y="502"/>
                  </a:lnTo>
                  <a:lnTo>
                    <a:pt x="1207" y="492"/>
                  </a:lnTo>
                  <a:lnTo>
                    <a:pt x="1217" y="484"/>
                  </a:lnTo>
                  <a:lnTo>
                    <a:pt x="1224" y="478"/>
                  </a:lnTo>
                  <a:lnTo>
                    <a:pt x="1228" y="474"/>
                  </a:lnTo>
                  <a:lnTo>
                    <a:pt x="1231" y="473"/>
                  </a:lnTo>
                  <a:lnTo>
                    <a:pt x="1236" y="469"/>
                  </a:lnTo>
                  <a:lnTo>
                    <a:pt x="1240" y="465"/>
                  </a:lnTo>
                  <a:lnTo>
                    <a:pt x="1247" y="460"/>
                  </a:lnTo>
                  <a:lnTo>
                    <a:pt x="1254" y="454"/>
                  </a:lnTo>
                  <a:lnTo>
                    <a:pt x="1262" y="448"/>
                  </a:lnTo>
                  <a:lnTo>
                    <a:pt x="1269" y="441"/>
                  </a:lnTo>
                  <a:lnTo>
                    <a:pt x="1278" y="433"/>
                  </a:lnTo>
                  <a:lnTo>
                    <a:pt x="1286" y="428"/>
                  </a:lnTo>
                  <a:lnTo>
                    <a:pt x="1294" y="421"/>
                  </a:lnTo>
                  <a:lnTo>
                    <a:pt x="1300" y="415"/>
                  </a:lnTo>
                  <a:lnTo>
                    <a:pt x="1307" y="408"/>
                  </a:lnTo>
                  <a:lnTo>
                    <a:pt x="1313" y="403"/>
                  </a:lnTo>
                  <a:lnTo>
                    <a:pt x="1318" y="398"/>
                  </a:lnTo>
                  <a:lnTo>
                    <a:pt x="1322" y="395"/>
                  </a:lnTo>
                  <a:lnTo>
                    <a:pt x="1325" y="391"/>
                  </a:lnTo>
                  <a:lnTo>
                    <a:pt x="1326" y="390"/>
                  </a:lnTo>
                  <a:lnTo>
                    <a:pt x="1329" y="386"/>
                  </a:lnTo>
                  <a:lnTo>
                    <a:pt x="1333" y="382"/>
                  </a:lnTo>
                  <a:lnTo>
                    <a:pt x="1338" y="376"/>
                  </a:lnTo>
                  <a:lnTo>
                    <a:pt x="1343" y="370"/>
                  </a:lnTo>
                  <a:lnTo>
                    <a:pt x="1350" y="364"/>
                  </a:lnTo>
                  <a:lnTo>
                    <a:pt x="1355" y="357"/>
                  </a:lnTo>
                  <a:lnTo>
                    <a:pt x="1363" y="350"/>
                  </a:lnTo>
                  <a:lnTo>
                    <a:pt x="1368" y="344"/>
                  </a:lnTo>
                  <a:lnTo>
                    <a:pt x="1374" y="336"/>
                  </a:lnTo>
                  <a:lnTo>
                    <a:pt x="1380" y="330"/>
                  </a:lnTo>
                  <a:lnTo>
                    <a:pt x="1385" y="324"/>
                  </a:lnTo>
                  <a:lnTo>
                    <a:pt x="1389" y="318"/>
                  </a:lnTo>
                  <a:lnTo>
                    <a:pt x="1393" y="314"/>
                  </a:lnTo>
                  <a:lnTo>
                    <a:pt x="1395" y="310"/>
                  </a:lnTo>
                  <a:lnTo>
                    <a:pt x="1398" y="306"/>
                  </a:lnTo>
                  <a:lnTo>
                    <a:pt x="1398" y="306"/>
                  </a:lnTo>
                  <a:lnTo>
                    <a:pt x="1399" y="304"/>
                  </a:lnTo>
                  <a:lnTo>
                    <a:pt x="1401" y="302"/>
                  </a:lnTo>
                  <a:lnTo>
                    <a:pt x="1404" y="298"/>
                  </a:lnTo>
                  <a:lnTo>
                    <a:pt x="1408" y="294"/>
                  </a:lnTo>
                  <a:lnTo>
                    <a:pt x="1411" y="289"/>
                  </a:lnTo>
                  <a:lnTo>
                    <a:pt x="1415" y="284"/>
                  </a:lnTo>
                  <a:lnTo>
                    <a:pt x="1421" y="278"/>
                  </a:lnTo>
                  <a:lnTo>
                    <a:pt x="1424" y="273"/>
                  </a:lnTo>
                  <a:lnTo>
                    <a:pt x="1429" y="267"/>
                  </a:lnTo>
                  <a:lnTo>
                    <a:pt x="1433" y="262"/>
                  </a:lnTo>
                  <a:lnTo>
                    <a:pt x="1438" y="256"/>
                  </a:lnTo>
                  <a:lnTo>
                    <a:pt x="1440" y="252"/>
                  </a:lnTo>
                  <a:lnTo>
                    <a:pt x="1444" y="247"/>
                  </a:lnTo>
                  <a:lnTo>
                    <a:pt x="1446" y="244"/>
                  </a:lnTo>
                  <a:lnTo>
                    <a:pt x="1448" y="240"/>
                  </a:lnTo>
                  <a:lnTo>
                    <a:pt x="1448" y="240"/>
                  </a:lnTo>
                  <a:lnTo>
                    <a:pt x="1448" y="238"/>
                  </a:lnTo>
                  <a:lnTo>
                    <a:pt x="1448" y="236"/>
                  </a:lnTo>
                  <a:lnTo>
                    <a:pt x="1449" y="234"/>
                  </a:lnTo>
                  <a:lnTo>
                    <a:pt x="1449" y="234"/>
                  </a:lnTo>
                  <a:lnTo>
                    <a:pt x="1449" y="232"/>
                  </a:lnTo>
                  <a:lnTo>
                    <a:pt x="1449" y="230"/>
                  </a:lnTo>
                  <a:lnTo>
                    <a:pt x="1451" y="228"/>
                  </a:lnTo>
                  <a:lnTo>
                    <a:pt x="1451" y="228"/>
                  </a:lnTo>
                  <a:lnTo>
                    <a:pt x="1451" y="226"/>
                  </a:lnTo>
                  <a:lnTo>
                    <a:pt x="1451" y="226"/>
                  </a:lnTo>
                  <a:lnTo>
                    <a:pt x="1452" y="224"/>
                  </a:lnTo>
                  <a:lnTo>
                    <a:pt x="1452" y="224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4" y="222"/>
                  </a:lnTo>
                  <a:lnTo>
                    <a:pt x="1454" y="222"/>
                  </a:lnTo>
                  <a:lnTo>
                    <a:pt x="1454" y="222"/>
                  </a:lnTo>
                  <a:lnTo>
                    <a:pt x="1454" y="222"/>
                  </a:lnTo>
                  <a:lnTo>
                    <a:pt x="1456" y="220"/>
                  </a:lnTo>
                  <a:lnTo>
                    <a:pt x="1456" y="220"/>
                  </a:lnTo>
                  <a:lnTo>
                    <a:pt x="1458" y="219"/>
                  </a:lnTo>
                  <a:lnTo>
                    <a:pt x="1458" y="219"/>
                  </a:lnTo>
                  <a:lnTo>
                    <a:pt x="1460" y="218"/>
                  </a:lnTo>
                  <a:lnTo>
                    <a:pt x="1460" y="218"/>
                  </a:lnTo>
                  <a:lnTo>
                    <a:pt x="1462" y="218"/>
                  </a:lnTo>
                  <a:lnTo>
                    <a:pt x="1462" y="218"/>
                  </a:lnTo>
                  <a:lnTo>
                    <a:pt x="1464" y="218"/>
                  </a:lnTo>
                  <a:lnTo>
                    <a:pt x="1465" y="220"/>
                  </a:lnTo>
                  <a:lnTo>
                    <a:pt x="1467" y="220"/>
                  </a:lnTo>
                  <a:lnTo>
                    <a:pt x="1469" y="220"/>
                  </a:lnTo>
                  <a:lnTo>
                    <a:pt x="1471" y="220"/>
                  </a:lnTo>
                  <a:lnTo>
                    <a:pt x="1471" y="223"/>
                  </a:lnTo>
                  <a:lnTo>
                    <a:pt x="1472" y="225"/>
                  </a:lnTo>
                  <a:lnTo>
                    <a:pt x="1472" y="228"/>
                  </a:lnTo>
                  <a:lnTo>
                    <a:pt x="1472" y="230"/>
                  </a:lnTo>
                  <a:lnTo>
                    <a:pt x="1471" y="234"/>
                  </a:lnTo>
                  <a:lnTo>
                    <a:pt x="1471" y="237"/>
                  </a:lnTo>
                  <a:lnTo>
                    <a:pt x="1470" y="240"/>
                  </a:lnTo>
                  <a:lnTo>
                    <a:pt x="1470" y="243"/>
                  </a:lnTo>
                  <a:lnTo>
                    <a:pt x="1468" y="247"/>
                  </a:lnTo>
                  <a:lnTo>
                    <a:pt x="1468" y="250"/>
                  </a:lnTo>
                  <a:lnTo>
                    <a:pt x="1466" y="253"/>
                  </a:lnTo>
                  <a:lnTo>
                    <a:pt x="1466" y="255"/>
                  </a:lnTo>
                  <a:lnTo>
                    <a:pt x="1466" y="257"/>
                  </a:lnTo>
                  <a:lnTo>
                    <a:pt x="1466" y="258"/>
                  </a:lnTo>
                  <a:lnTo>
                    <a:pt x="1466" y="258"/>
                  </a:lnTo>
                  <a:lnTo>
                    <a:pt x="1467" y="258"/>
                  </a:lnTo>
                  <a:lnTo>
                    <a:pt x="1468" y="257"/>
                  </a:lnTo>
                  <a:lnTo>
                    <a:pt x="1470" y="254"/>
                  </a:lnTo>
                  <a:lnTo>
                    <a:pt x="1472" y="250"/>
                  </a:lnTo>
                  <a:lnTo>
                    <a:pt x="1476" y="244"/>
                  </a:lnTo>
                  <a:lnTo>
                    <a:pt x="1479" y="239"/>
                  </a:lnTo>
                  <a:lnTo>
                    <a:pt x="1482" y="232"/>
                  </a:lnTo>
                  <a:lnTo>
                    <a:pt x="1486" y="225"/>
                  </a:lnTo>
                  <a:lnTo>
                    <a:pt x="1490" y="218"/>
                  </a:lnTo>
                  <a:lnTo>
                    <a:pt x="1492" y="211"/>
                  </a:lnTo>
                  <a:lnTo>
                    <a:pt x="1496" y="204"/>
                  </a:lnTo>
                  <a:lnTo>
                    <a:pt x="1499" y="198"/>
                  </a:lnTo>
                  <a:lnTo>
                    <a:pt x="1502" y="190"/>
                  </a:lnTo>
                  <a:lnTo>
                    <a:pt x="1504" y="185"/>
                  </a:lnTo>
                  <a:lnTo>
                    <a:pt x="1508" y="179"/>
                  </a:lnTo>
                  <a:lnTo>
                    <a:pt x="1510" y="176"/>
                  </a:lnTo>
                  <a:lnTo>
                    <a:pt x="1512" y="172"/>
                  </a:lnTo>
                  <a:lnTo>
                    <a:pt x="1512" y="172"/>
                  </a:lnTo>
                  <a:lnTo>
                    <a:pt x="1513" y="171"/>
                  </a:lnTo>
                  <a:lnTo>
                    <a:pt x="1515" y="169"/>
                  </a:lnTo>
                  <a:lnTo>
                    <a:pt x="1518" y="166"/>
                  </a:lnTo>
                  <a:lnTo>
                    <a:pt x="1519" y="164"/>
                  </a:lnTo>
                  <a:lnTo>
                    <a:pt x="1522" y="161"/>
                  </a:lnTo>
                  <a:lnTo>
                    <a:pt x="1525" y="158"/>
                  </a:lnTo>
                  <a:lnTo>
                    <a:pt x="1529" y="154"/>
                  </a:lnTo>
                  <a:lnTo>
                    <a:pt x="1530" y="151"/>
                  </a:lnTo>
                  <a:lnTo>
                    <a:pt x="1534" y="147"/>
                  </a:lnTo>
                  <a:lnTo>
                    <a:pt x="1536" y="143"/>
                  </a:lnTo>
                  <a:lnTo>
                    <a:pt x="1540" y="139"/>
                  </a:lnTo>
                  <a:lnTo>
                    <a:pt x="1542" y="135"/>
                  </a:lnTo>
                  <a:lnTo>
                    <a:pt x="1544" y="131"/>
                  </a:lnTo>
                  <a:lnTo>
                    <a:pt x="1546" y="127"/>
                  </a:lnTo>
                  <a:lnTo>
                    <a:pt x="1549" y="121"/>
                  </a:lnTo>
                  <a:lnTo>
                    <a:pt x="1549" y="120"/>
                  </a:lnTo>
                  <a:lnTo>
                    <a:pt x="1550" y="116"/>
                  </a:lnTo>
                  <a:lnTo>
                    <a:pt x="1550" y="113"/>
                  </a:lnTo>
                  <a:lnTo>
                    <a:pt x="1552" y="110"/>
                  </a:lnTo>
                  <a:lnTo>
                    <a:pt x="1553" y="108"/>
                  </a:lnTo>
                  <a:lnTo>
                    <a:pt x="1555" y="104"/>
                  </a:lnTo>
                  <a:lnTo>
                    <a:pt x="1557" y="101"/>
                  </a:lnTo>
                  <a:lnTo>
                    <a:pt x="1559" y="98"/>
                  </a:lnTo>
                  <a:lnTo>
                    <a:pt x="1559" y="96"/>
                  </a:lnTo>
                  <a:lnTo>
                    <a:pt x="1561" y="94"/>
                  </a:lnTo>
                  <a:lnTo>
                    <a:pt x="1563" y="92"/>
                  </a:lnTo>
                  <a:lnTo>
                    <a:pt x="1565" y="89"/>
                  </a:lnTo>
                  <a:lnTo>
                    <a:pt x="1565" y="88"/>
                  </a:lnTo>
                  <a:lnTo>
                    <a:pt x="1567" y="86"/>
                  </a:lnTo>
                  <a:lnTo>
                    <a:pt x="1567" y="84"/>
                  </a:lnTo>
                  <a:lnTo>
                    <a:pt x="1569" y="83"/>
                  </a:lnTo>
                  <a:lnTo>
                    <a:pt x="1569" y="81"/>
                  </a:lnTo>
                  <a:lnTo>
                    <a:pt x="1569" y="78"/>
                  </a:lnTo>
                  <a:lnTo>
                    <a:pt x="1569" y="76"/>
                  </a:lnTo>
                  <a:lnTo>
                    <a:pt x="1569" y="72"/>
                  </a:lnTo>
                  <a:lnTo>
                    <a:pt x="1568" y="68"/>
                  </a:lnTo>
                  <a:lnTo>
                    <a:pt x="1568" y="64"/>
                  </a:lnTo>
                  <a:lnTo>
                    <a:pt x="1567" y="61"/>
                  </a:lnTo>
                  <a:lnTo>
                    <a:pt x="1567" y="56"/>
                  </a:lnTo>
                  <a:lnTo>
                    <a:pt x="1565" y="53"/>
                  </a:lnTo>
                  <a:lnTo>
                    <a:pt x="1563" y="50"/>
                  </a:lnTo>
                  <a:lnTo>
                    <a:pt x="1561" y="46"/>
                  </a:lnTo>
                  <a:lnTo>
                    <a:pt x="1560" y="42"/>
                  </a:lnTo>
                  <a:lnTo>
                    <a:pt x="1559" y="40"/>
                  </a:lnTo>
                  <a:lnTo>
                    <a:pt x="1557" y="36"/>
                  </a:lnTo>
                  <a:lnTo>
                    <a:pt x="1555" y="34"/>
                  </a:lnTo>
                  <a:lnTo>
                    <a:pt x="1554" y="32"/>
                  </a:lnTo>
                  <a:lnTo>
                    <a:pt x="1552" y="32"/>
                  </a:lnTo>
                  <a:lnTo>
                    <a:pt x="1551" y="30"/>
                  </a:lnTo>
                  <a:lnTo>
                    <a:pt x="1549" y="30"/>
                  </a:lnTo>
                  <a:lnTo>
                    <a:pt x="1549" y="28"/>
                  </a:lnTo>
                  <a:lnTo>
                    <a:pt x="1548" y="28"/>
                  </a:lnTo>
                  <a:lnTo>
                    <a:pt x="1546" y="26"/>
                  </a:lnTo>
                  <a:lnTo>
                    <a:pt x="1544" y="25"/>
                  </a:lnTo>
                  <a:lnTo>
                    <a:pt x="1542" y="23"/>
                  </a:lnTo>
                  <a:lnTo>
                    <a:pt x="1538" y="22"/>
                  </a:lnTo>
                  <a:lnTo>
                    <a:pt x="1536" y="20"/>
                  </a:lnTo>
                  <a:lnTo>
                    <a:pt x="1532" y="18"/>
                  </a:lnTo>
                  <a:lnTo>
                    <a:pt x="1530" y="16"/>
                  </a:lnTo>
                  <a:lnTo>
                    <a:pt x="1526" y="14"/>
                  </a:lnTo>
                  <a:lnTo>
                    <a:pt x="1522" y="10"/>
                  </a:lnTo>
                  <a:lnTo>
                    <a:pt x="1518" y="7"/>
                  </a:lnTo>
                  <a:lnTo>
                    <a:pt x="1514" y="3"/>
                  </a:lnTo>
                  <a:lnTo>
                    <a:pt x="1509" y="3"/>
                  </a:lnTo>
                  <a:lnTo>
                    <a:pt x="1506" y="1"/>
                  </a:lnTo>
                  <a:lnTo>
                    <a:pt x="1500" y="1"/>
                  </a:lnTo>
                  <a:lnTo>
                    <a:pt x="1495" y="0"/>
                  </a:lnTo>
                  <a:lnTo>
                    <a:pt x="1488" y="0"/>
                  </a:lnTo>
                  <a:lnTo>
                    <a:pt x="1482" y="0"/>
                  </a:lnTo>
                  <a:lnTo>
                    <a:pt x="1477" y="0"/>
                  </a:lnTo>
                  <a:lnTo>
                    <a:pt x="1471" y="0"/>
                  </a:lnTo>
                  <a:lnTo>
                    <a:pt x="1464" y="2"/>
                  </a:lnTo>
                  <a:lnTo>
                    <a:pt x="1459" y="2"/>
                  </a:lnTo>
                  <a:lnTo>
                    <a:pt x="1453" y="3"/>
                  </a:lnTo>
                  <a:lnTo>
                    <a:pt x="1450" y="3"/>
                  </a:lnTo>
                  <a:lnTo>
                    <a:pt x="1445" y="5"/>
                  </a:lnTo>
                  <a:lnTo>
                    <a:pt x="1442" y="5"/>
                  </a:lnTo>
                  <a:lnTo>
                    <a:pt x="1440" y="5"/>
                  </a:lnTo>
                  <a:lnTo>
                    <a:pt x="1440" y="4"/>
                  </a:lnTo>
                  <a:lnTo>
                    <a:pt x="1436" y="4"/>
                  </a:lnTo>
                  <a:lnTo>
                    <a:pt x="1432" y="3"/>
                  </a:lnTo>
                  <a:lnTo>
                    <a:pt x="1427" y="3"/>
                  </a:lnTo>
                  <a:lnTo>
                    <a:pt x="1422" y="3"/>
                  </a:lnTo>
                  <a:lnTo>
                    <a:pt x="1414" y="5"/>
                  </a:lnTo>
                  <a:lnTo>
                    <a:pt x="1408" y="6"/>
                  </a:lnTo>
                  <a:lnTo>
                    <a:pt x="1401" y="8"/>
                  </a:lnTo>
                  <a:lnTo>
                    <a:pt x="1394" y="9"/>
                  </a:lnTo>
                  <a:lnTo>
                    <a:pt x="1386" y="12"/>
                  </a:lnTo>
                  <a:lnTo>
                    <a:pt x="1379" y="14"/>
                  </a:lnTo>
                  <a:lnTo>
                    <a:pt x="1372" y="16"/>
                  </a:lnTo>
                  <a:lnTo>
                    <a:pt x="1365" y="18"/>
                  </a:lnTo>
                  <a:lnTo>
                    <a:pt x="1359" y="20"/>
                  </a:lnTo>
                  <a:lnTo>
                    <a:pt x="1354" y="22"/>
                  </a:lnTo>
                  <a:lnTo>
                    <a:pt x="1350" y="23"/>
                  </a:lnTo>
                  <a:lnTo>
                    <a:pt x="1348" y="24"/>
                  </a:lnTo>
                  <a:lnTo>
                    <a:pt x="1346" y="26"/>
                  </a:lnTo>
                  <a:lnTo>
                    <a:pt x="1345" y="26"/>
                  </a:lnTo>
                  <a:lnTo>
                    <a:pt x="1343" y="26"/>
                  </a:lnTo>
                  <a:lnTo>
                    <a:pt x="1342" y="26"/>
                  </a:lnTo>
                  <a:lnTo>
                    <a:pt x="1339" y="28"/>
                  </a:lnTo>
                  <a:lnTo>
                    <a:pt x="1337" y="29"/>
                  </a:lnTo>
                  <a:lnTo>
                    <a:pt x="1333" y="31"/>
                  </a:lnTo>
                  <a:lnTo>
                    <a:pt x="1332" y="31"/>
                  </a:lnTo>
                  <a:lnTo>
                    <a:pt x="1326" y="33"/>
                  </a:lnTo>
                  <a:lnTo>
                    <a:pt x="1323" y="34"/>
                  </a:lnTo>
                  <a:lnTo>
                    <a:pt x="1317" y="36"/>
                  </a:lnTo>
                  <a:lnTo>
                    <a:pt x="1313" y="38"/>
                  </a:lnTo>
                  <a:lnTo>
                    <a:pt x="1306" y="42"/>
                  </a:lnTo>
                  <a:lnTo>
                    <a:pt x="1301" y="44"/>
                  </a:lnTo>
                  <a:lnTo>
                    <a:pt x="1294" y="47"/>
                  </a:lnTo>
                  <a:lnTo>
                    <a:pt x="1286" y="49"/>
                  </a:lnTo>
                  <a:lnTo>
                    <a:pt x="1278" y="53"/>
                  </a:lnTo>
                  <a:lnTo>
                    <a:pt x="1271" y="57"/>
                  </a:lnTo>
                  <a:lnTo>
                    <a:pt x="1264" y="61"/>
                  </a:lnTo>
                  <a:lnTo>
                    <a:pt x="1257" y="64"/>
                  </a:lnTo>
                  <a:lnTo>
                    <a:pt x="1249" y="68"/>
                  </a:lnTo>
                  <a:lnTo>
                    <a:pt x="1244" y="72"/>
                  </a:lnTo>
                  <a:lnTo>
                    <a:pt x="1238" y="76"/>
                  </a:lnTo>
                  <a:lnTo>
                    <a:pt x="1232" y="80"/>
                  </a:lnTo>
                  <a:lnTo>
                    <a:pt x="1227" y="83"/>
                  </a:lnTo>
                  <a:lnTo>
                    <a:pt x="1221" y="87"/>
                  </a:lnTo>
                  <a:lnTo>
                    <a:pt x="1217" y="91"/>
                  </a:lnTo>
                  <a:lnTo>
                    <a:pt x="1213" y="93"/>
                  </a:lnTo>
                  <a:lnTo>
                    <a:pt x="1209" y="96"/>
                  </a:lnTo>
                  <a:lnTo>
                    <a:pt x="1206" y="98"/>
                  </a:lnTo>
                  <a:lnTo>
                    <a:pt x="1204" y="100"/>
                  </a:lnTo>
                  <a:lnTo>
                    <a:pt x="1202" y="101"/>
                  </a:lnTo>
                  <a:lnTo>
                    <a:pt x="1199" y="103"/>
                  </a:lnTo>
                  <a:lnTo>
                    <a:pt x="1195" y="106"/>
                  </a:lnTo>
                  <a:lnTo>
                    <a:pt x="1189" y="110"/>
                  </a:lnTo>
                  <a:lnTo>
                    <a:pt x="1182" y="114"/>
                  </a:lnTo>
                  <a:lnTo>
                    <a:pt x="1174" y="121"/>
                  </a:lnTo>
                  <a:lnTo>
                    <a:pt x="1165" y="127"/>
                  </a:lnTo>
                  <a:lnTo>
                    <a:pt x="1156" y="134"/>
                  </a:lnTo>
                  <a:lnTo>
                    <a:pt x="1146" y="140"/>
                  </a:lnTo>
                  <a:lnTo>
                    <a:pt x="1136" y="148"/>
                  </a:lnTo>
                  <a:lnTo>
                    <a:pt x="1126" y="154"/>
                  </a:lnTo>
                  <a:lnTo>
                    <a:pt x="1117" y="161"/>
                  </a:lnTo>
                  <a:lnTo>
                    <a:pt x="1109" y="167"/>
                  </a:lnTo>
                  <a:lnTo>
                    <a:pt x="1101" y="172"/>
                  </a:lnTo>
                  <a:lnTo>
                    <a:pt x="1095" y="177"/>
                  </a:lnTo>
                  <a:lnTo>
                    <a:pt x="1091" y="180"/>
                  </a:lnTo>
                  <a:lnTo>
                    <a:pt x="1089" y="182"/>
                  </a:lnTo>
                  <a:lnTo>
                    <a:pt x="1085" y="186"/>
                  </a:lnTo>
                  <a:lnTo>
                    <a:pt x="1080" y="190"/>
                  </a:lnTo>
                  <a:lnTo>
                    <a:pt x="1072" y="197"/>
                  </a:lnTo>
                  <a:lnTo>
                    <a:pt x="1065" y="203"/>
                  </a:lnTo>
                  <a:lnTo>
                    <a:pt x="1054" y="212"/>
                  </a:lnTo>
                  <a:lnTo>
                    <a:pt x="1045" y="220"/>
                  </a:lnTo>
                  <a:lnTo>
                    <a:pt x="1034" y="229"/>
                  </a:lnTo>
                  <a:lnTo>
                    <a:pt x="1023" y="238"/>
                  </a:lnTo>
                  <a:lnTo>
                    <a:pt x="1012" y="247"/>
                  </a:lnTo>
                  <a:lnTo>
                    <a:pt x="1001" y="257"/>
                  </a:lnTo>
                  <a:lnTo>
                    <a:pt x="990" y="266"/>
                  </a:lnTo>
                  <a:lnTo>
                    <a:pt x="982" y="273"/>
                  </a:lnTo>
                  <a:lnTo>
                    <a:pt x="973" y="280"/>
                  </a:lnTo>
                  <a:lnTo>
                    <a:pt x="967" y="286"/>
                  </a:lnTo>
                  <a:lnTo>
                    <a:pt x="962" y="289"/>
                  </a:lnTo>
                  <a:lnTo>
                    <a:pt x="960" y="290"/>
                  </a:lnTo>
                  <a:lnTo>
                    <a:pt x="958" y="293"/>
                  </a:lnTo>
                  <a:lnTo>
                    <a:pt x="953" y="296"/>
                  </a:lnTo>
                  <a:lnTo>
                    <a:pt x="946" y="300"/>
                  </a:lnTo>
                  <a:lnTo>
                    <a:pt x="940" y="306"/>
                  </a:lnTo>
                  <a:lnTo>
                    <a:pt x="930" y="314"/>
                  </a:lnTo>
                  <a:lnTo>
                    <a:pt x="921" y="321"/>
                  </a:lnTo>
                  <a:lnTo>
                    <a:pt x="910" y="330"/>
                  </a:lnTo>
                  <a:lnTo>
                    <a:pt x="900" y="337"/>
                  </a:lnTo>
                  <a:lnTo>
                    <a:pt x="889" y="346"/>
                  </a:lnTo>
                  <a:lnTo>
                    <a:pt x="878" y="354"/>
                  </a:lnTo>
                  <a:lnTo>
                    <a:pt x="869" y="362"/>
                  </a:lnTo>
                  <a:lnTo>
                    <a:pt x="861" y="367"/>
                  </a:lnTo>
                  <a:lnTo>
                    <a:pt x="853" y="373"/>
                  </a:lnTo>
                  <a:lnTo>
                    <a:pt x="848" y="376"/>
                  </a:lnTo>
                  <a:lnTo>
                    <a:pt x="844" y="379"/>
                  </a:lnTo>
                  <a:lnTo>
                    <a:pt x="843" y="378"/>
                  </a:lnTo>
                  <a:lnTo>
                    <a:pt x="833" y="371"/>
                  </a:lnTo>
                  <a:lnTo>
                    <a:pt x="824" y="363"/>
                  </a:lnTo>
                  <a:lnTo>
                    <a:pt x="814" y="354"/>
                  </a:lnTo>
                  <a:lnTo>
                    <a:pt x="804" y="345"/>
                  </a:lnTo>
                  <a:lnTo>
                    <a:pt x="793" y="336"/>
                  </a:lnTo>
                  <a:lnTo>
                    <a:pt x="784" y="327"/>
                  </a:lnTo>
                  <a:lnTo>
                    <a:pt x="773" y="318"/>
                  </a:lnTo>
                  <a:lnTo>
                    <a:pt x="764" y="308"/>
                  </a:lnTo>
                  <a:lnTo>
                    <a:pt x="754" y="301"/>
                  </a:lnTo>
                  <a:lnTo>
                    <a:pt x="744" y="293"/>
                  </a:lnTo>
                  <a:lnTo>
                    <a:pt x="736" y="287"/>
                  </a:lnTo>
                  <a:lnTo>
                    <a:pt x="728" y="280"/>
                  </a:lnTo>
                  <a:lnTo>
                    <a:pt x="721" y="276"/>
                  </a:lnTo>
                  <a:lnTo>
                    <a:pt x="715" y="270"/>
                  </a:lnTo>
                  <a:lnTo>
                    <a:pt x="711" y="267"/>
                  </a:lnTo>
                  <a:lnTo>
                    <a:pt x="708" y="264"/>
                  </a:lnTo>
                  <a:lnTo>
                    <a:pt x="702" y="262"/>
                  </a:lnTo>
                  <a:lnTo>
                    <a:pt x="694" y="257"/>
                  </a:lnTo>
                  <a:lnTo>
                    <a:pt x="684" y="250"/>
                  </a:lnTo>
                  <a:lnTo>
                    <a:pt x="674" y="242"/>
                  </a:lnTo>
                  <a:lnTo>
                    <a:pt x="661" y="234"/>
                  </a:lnTo>
                  <a:lnTo>
                    <a:pt x="648" y="224"/>
                  </a:lnTo>
                  <a:lnTo>
                    <a:pt x="634" y="215"/>
                  </a:lnTo>
                  <a:lnTo>
                    <a:pt x="621" y="204"/>
                  </a:lnTo>
                  <a:lnTo>
                    <a:pt x="606" y="195"/>
                  </a:lnTo>
                  <a:lnTo>
                    <a:pt x="593" y="186"/>
                  </a:lnTo>
                  <a:lnTo>
                    <a:pt x="580" y="177"/>
                  </a:lnTo>
                  <a:lnTo>
                    <a:pt x="568" y="168"/>
                  </a:lnTo>
                  <a:lnTo>
                    <a:pt x="556" y="162"/>
                  </a:lnTo>
                  <a:lnTo>
                    <a:pt x="547" y="156"/>
                  </a:lnTo>
                  <a:lnTo>
                    <a:pt x="539" y="151"/>
                  </a:lnTo>
                  <a:lnTo>
                    <a:pt x="535" y="148"/>
                  </a:lnTo>
                  <a:lnTo>
                    <a:pt x="529" y="148"/>
                  </a:lnTo>
                  <a:lnTo>
                    <a:pt x="524" y="146"/>
                  </a:lnTo>
                  <a:lnTo>
                    <a:pt x="518" y="145"/>
                  </a:lnTo>
                  <a:lnTo>
                    <a:pt x="512" y="143"/>
                  </a:lnTo>
                  <a:lnTo>
                    <a:pt x="505" y="141"/>
                  </a:lnTo>
                  <a:lnTo>
                    <a:pt x="498" y="140"/>
                  </a:lnTo>
                  <a:lnTo>
                    <a:pt x="490" y="138"/>
                  </a:lnTo>
                  <a:lnTo>
                    <a:pt x="485" y="136"/>
                  </a:lnTo>
                  <a:lnTo>
                    <a:pt x="477" y="136"/>
                  </a:lnTo>
                  <a:lnTo>
                    <a:pt x="470" y="134"/>
                  </a:lnTo>
                  <a:lnTo>
                    <a:pt x="462" y="132"/>
                  </a:lnTo>
                  <a:lnTo>
                    <a:pt x="457" y="131"/>
                  </a:lnTo>
                  <a:lnTo>
                    <a:pt x="450" y="131"/>
                  </a:lnTo>
                  <a:lnTo>
                    <a:pt x="444" y="129"/>
                  </a:lnTo>
                  <a:lnTo>
                    <a:pt x="438" y="129"/>
                  </a:lnTo>
                  <a:lnTo>
                    <a:pt x="435" y="127"/>
                  </a:lnTo>
                  <a:lnTo>
                    <a:pt x="427" y="127"/>
                  </a:lnTo>
                  <a:lnTo>
                    <a:pt x="418" y="126"/>
                  </a:lnTo>
                  <a:lnTo>
                    <a:pt x="406" y="126"/>
                  </a:lnTo>
                  <a:lnTo>
                    <a:pt x="393" y="124"/>
                  </a:lnTo>
                  <a:lnTo>
                    <a:pt x="378" y="124"/>
                  </a:lnTo>
                  <a:lnTo>
                    <a:pt x="362" y="122"/>
                  </a:lnTo>
                  <a:lnTo>
                    <a:pt x="345" y="122"/>
                  </a:lnTo>
                  <a:lnTo>
                    <a:pt x="328" y="121"/>
                  </a:lnTo>
                  <a:lnTo>
                    <a:pt x="311" y="121"/>
                  </a:lnTo>
                  <a:lnTo>
                    <a:pt x="294" y="120"/>
                  </a:lnTo>
                  <a:lnTo>
                    <a:pt x="278" y="120"/>
                  </a:lnTo>
                  <a:lnTo>
                    <a:pt x="264" y="118"/>
                  </a:lnTo>
                  <a:lnTo>
                    <a:pt x="251" y="118"/>
                  </a:lnTo>
                  <a:lnTo>
                    <a:pt x="241" y="118"/>
                  </a:lnTo>
                  <a:lnTo>
                    <a:pt x="232" y="118"/>
                  </a:lnTo>
                  <a:lnTo>
                    <a:pt x="228" y="116"/>
                  </a:lnTo>
                  <a:lnTo>
                    <a:pt x="223" y="116"/>
                  </a:lnTo>
                  <a:lnTo>
                    <a:pt x="220" y="116"/>
                  </a:lnTo>
                  <a:lnTo>
                    <a:pt x="214" y="116"/>
                  </a:lnTo>
                  <a:lnTo>
                    <a:pt x="210" y="116"/>
                  </a:lnTo>
                  <a:lnTo>
                    <a:pt x="204" y="116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0" y="114"/>
                  </a:lnTo>
                  <a:lnTo>
                    <a:pt x="184" y="114"/>
                  </a:lnTo>
                  <a:lnTo>
                    <a:pt x="178" y="114"/>
                  </a:lnTo>
                  <a:lnTo>
                    <a:pt x="173" y="114"/>
                  </a:lnTo>
                  <a:lnTo>
                    <a:pt x="170" y="114"/>
                  </a:lnTo>
                  <a:lnTo>
                    <a:pt x="165" y="116"/>
                  </a:lnTo>
                  <a:lnTo>
                    <a:pt x="162" y="116"/>
                  </a:lnTo>
                  <a:lnTo>
                    <a:pt x="159" y="116"/>
                  </a:lnTo>
                  <a:lnTo>
                    <a:pt x="158" y="116"/>
                  </a:lnTo>
                  <a:lnTo>
                    <a:pt x="155" y="118"/>
                  </a:lnTo>
                  <a:lnTo>
                    <a:pt x="153" y="118"/>
                  </a:lnTo>
                  <a:lnTo>
                    <a:pt x="151" y="120"/>
                  </a:lnTo>
                  <a:lnTo>
                    <a:pt x="149" y="121"/>
                  </a:lnTo>
                  <a:lnTo>
                    <a:pt x="145" y="124"/>
                  </a:lnTo>
                  <a:lnTo>
                    <a:pt x="144" y="126"/>
                  </a:lnTo>
                  <a:lnTo>
                    <a:pt x="142" y="128"/>
                  </a:lnTo>
                  <a:lnTo>
                    <a:pt x="140" y="130"/>
                  </a:lnTo>
                  <a:lnTo>
                    <a:pt x="136" y="133"/>
                  </a:lnTo>
                  <a:lnTo>
                    <a:pt x="134" y="135"/>
                  </a:lnTo>
                  <a:lnTo>
                    <a:pt x="132" y="137"/>
                  </a:lnTo>
                  <a:lnTo>
                    <a:pt x="130" y="139"/>
                  </a:lnTo>
                  <a:lnTo>
                    <a:pt x="128" y="141"/>
                  </a:lnTo>
                  <a:lnTo>
                    <a:pt x="126" y="142"/>
                  </a:lnTo>
                  <a:lnTo>
                    <a:pt x="124" y="143"/>
                  </a:lnTo>
                  <a:lnTo>
                    <a:pt x="123" y="143"/>
                  </a:lnTo>
                  <a:lnTo>
                    <a:pt x="121" y="144"/>
                  </a:lnTo>
                  <a:lnTo>
                    <a:pt x="119" y="144"/>
                  </a:lnTo>
                  <a:lnTo>
                    <a:pt x="117" y="144"/>
                  </a:lnTo>
                  <a:lnTo>
                    <a:pt x="116" y="144"/>
                  </a:lnTo>
                  <a:lnTo>
                    <a:pt x="114" y="144"/>
                  </a:lnTo>
                  <a:lnTo>
                    <a:pt x="112" y="144"/>
                  </a:lnTo>
                  <a:lnTo>
                    <a:pt x="110" y="144"/>
                  </a:lnTo>
                  <a:lnTo>
                    <a:pt x="108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3" y="142"/>
                  </a:lnTo>
                  <a:lnTo>
                    <a:pt x="101" y="141"/>
                  </a:lnTo>
                  <a:lnTo>
                    <a:pt x="99" y="141"/>
                  </a:lnTo>
                  <a:lnTo>
                    <a:pt x="97" y="141"/>
                  </a:lnTo>
                  <a:lnTo>
                    <a:pt x="95" y="141"/>
                  </a:lnTo>
                  <a:lnTo>
                    <a:pt x="95" y="141"/>
                  </a:lnTo>
                  <a:lnTo>
                    <a:pt x="91" y="143"/>
                  </a:lnTo>
                  <a:lnTo>
                    <a:pt x="88" y="144"/>
                  </a:lnTo>
                  <a:lnTo>
                    <a:pt x="84" y="145"/>
                  </a:lnTo>
                  <a:lnTo>
                    <a:pt x="82" y="145"/>
                  </a:lnTo>
                  <a:lnTo>
                    <a:pt x="78" y="146"/>
                  </a:lnTo>
                  <a:lnTo>
                    <a:pt x="75" y="146"/>
                  </a:lnTo>
                  <a:lnTo>
                    <a:pt x="71" y="146"/>
                  </a:lnTo>
                  <a:lnTo>
                    <a:pt x="68" y="146"/>
                  </a:lnTo>
                  <a:lnTo>
                    <a:pt x="64" y="148"/>
                  </a:lnTo>
                  <a:lnTo>
                    <a:pt x="60" y="148"/>
                  </a:lnTo>
                  <a:lnTo>
                    <a:pt x="57" y="149"/>
                  </a:lnTo>
                  <a:lnTo>
                    <a:pt x="54" y="149"/>
                  </a:lnTo>
                  <a:lnTo>
                    <a:pt x="50" y="151"/>
                  </a:lnTo>
                  <a:lnTo>
                    <a:pt x="47" y="152"/>
                  </a:lnTo>
                  <a:lnTo>
                    <a:pt x="45" y="154"/>
                  </a:lnTo>
                  <a:lnTo>
                    <a:pt x="43" y="155"/>
                  </a:lnTo>
                  <a:lnTo>
                    <a:pt x="41" y="156"/>
                  </a:lnTo>
                  <a:lnTo>
                    <a:pt x="41" y="156"/>
                  </a:lnTo>
                  <a:lnTo>
                    <a:pt x="40" y="157"/>
                  </a:lnTo>
                  <a:lnTo>
                    <a:pt x="40" y="157"/>
                  </a:lnTo>
                  <a:lnTo>
                    <a:pt x="38" y="159"/>
                  </a:lnTo>
                  <a:lnTo>
                    <a:pt x="37" y="159"/>
                  </a:lnTo>
                  <a:lnTo>
                    <a:pt x="35" y="161"/>
                  </a:lnTo>
                  <a:lnTo>
                    <a:pt x="35" y="161"/>
                  </a:lnTo>
                  <a:lnTo>
                    <a:pt x="33" y="162"/>
                  </a:lnTo>
                  <a:lnTo>
                    <a:pt x="31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27" y="170"/>
                  </a:lnTo>
                  <a:lnTo>
                    <a:pt x="25" y="172"/>
                  </a:lnTo>
                  <a:lnTo>
                    <a:pt x="23" y="174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9" y="182"/>
                  </a:lnTo>
                  <a:lnTo>
                    <a:pt x="19" y="184"/>
                  </a:lnTo>
                  <a:lnTo>
                    <a:pt x="17" y="186"/>
                  </a:lnTo>
                  <a:lnTo>
                    <a:pt x="17" y="188"/>
                  </a:lnTo>
                  <a:lnTo>
                    <a:pt x="17" y="190"/>
                  </a:lnTo>
                  <a:lnTo>
                    <a:pt x="17" y="192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5" y="198"/>
                  </a:lnTo>
                  <a:lnTo>
                    <a:pt x="15" y="200"/>
                  </a:lnTo>
                  <a:lnTo>
                    <a:pt x="14" y="202"/>
                  </a:lnTo>
                  <a:lnTo>
                    <a:pt x="14" y="202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3" y="207"/>
                  </a:lnTo>
                  <a:lnTo>
                    <a:pt x="13" y="209"/>
                  </a:lnTo>
                  <a:lnTo>
                    <a:pt x="13" y="213"/>
                  </a:lnTo>
                  <a:lnTo>
                    <a:pt x="15" y="217"/>
                  </a:lnTo>
                  <a:lnTo>
                    <a:pt x="15" y="222"/>
                  </a:lnTo>
                  <a:lnTo>
                    <a:pt x="17" y="227"/>
                  </a:lnTo>
                  <a:lnTo>
                    <a:pt x="19" y="232"/>
                  </a:lnTo>
                  <a:lnTo>
                    <a:pt x="20" y="237"/>
                  </a:lnTo>
                  <a:lnTo>
                    <a:pt x="22" y="242"/>
                  </a:lnTo>
                  <a:lnTo>
                    <a:pt x="24" y="248"/>
                  </a:lnTo>
                  <a:lnTo>
                    <a:pt x="26" y="254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9" y="265"/>
                  </a:lnTo>
                  <a:lnTo>
                    <a:pt x="30" y="267"/>
                  </a:lnTo>
                  <a:lnTo>
                    <a:pt x="32" y="268"/>
                  </a:lnTo>
                  <a:lnTo>
                    <a:pt x="30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83"/>
                  </a:lnTo>
                  <a:lnTo>
                    <a:pt x="27" y="287"/>
                  </a:lnTo>
                  <a:lnTo>
                    <a:pt x="26" y="290"/>
                  </a:lnTo>
                  <a:lnTo>
                    <a:pt x="26" y="294"/>
                  </a:lnTo>
                  <a:lnTo>
                    <a:pt x="24" y="299"/>
                  </a:lnTo>
                  <a:lnTo>
                    <a:pt x="22" y="303"/>
                  </a:lnTo>
                  <a:lnTo>
                    <a:pt x="20" y="307"/>
                  </a:lnTo>
                  <a:lnTo>
                    <a:pt x="20" y="310"/>
                  </a:lnTo>
                  <a:lnTo>
                    <a:pt x="19" y="314"/>
                  </a:lnTo>
                  <a:lnTo>
                    <a:pt x="19" y="316"/>
                  </a:lnTo>
                  <a:lnTo>
                    <a:pt x="19" y="318"/>
                  </a:lnTo>
                  <a:lnTo>
                    <a:pt x="19" y="318"/>
                  </a:lnTo>
                  <a:lnTo>
                    <a:pt x="19" y="321"/>
                  </a:lnTo>
                  <a:lnTo>
                    <a:pt x="20" y="323"/>
                  </a:lnTo>
                  <a:lnTo>
                    <a:pt x="21" y="327"/>
                  </a:lnTo>
                  <a:lnTo>
                    <a:pt x="23" y="330"/>
                  </a:lnTo>
                  <a:lnTo>
                    <a:pt x="25" y="335"/>
                  </a:lnTo>
                  <a:lnTo>
                    <a:pt x="27" y="338"/>
                  </a:lnTo>
                  <a:lnTo>
                    <a:pt x="29" y="344"/>
                  </a:lnTo>
                  <a:lnTo>
                    <a:pt x="32" y="347"/>
                  </a:lnTo>
                  <a:lnTo>
                    <a:pt x="34" y="353"/>
                  </a:lnTo>
                  <a:lnTo>
                    <a:pt x="36" y="357"/>
                  </a:lnTo>
                  <a:lnTo>
                    <a:pt x="38" y="362"/>
                  </a:lnTo>
                  <a:lnTo>
                    <a:pt x="42" y="366"/>
                  </a:lnTo>
                  <a:lnTo>
                    <a:pt x="44" y="370"/>
                  </a:lnTo>
                  <a:lnTo>
                    <a:pt x="46" y="373"/>
                  </a:lnTo>
                  <a:lnTo>
                    <a:pt x="47" y="375"/>
                  </a:lnTo>
                  <a:lnTo>
                    <a:pt x="49" y="376"/>
                  </a:lnTo>
                  <a:lnTo>
                    <a:pt x="50" y="380"/>
                  </a:lnTo>
                  <a:lnTo>
                    <a:pt x="52" y="382"/>
                  </a:lnTo>
                  <a:lnTo>
                    <a:pt x="54" y="385"/>
                  </a:lnTo>
                  <a:lnTo>
                    <a:pt x="57" y="388"/>
                  </a:lnTo>
                  <a:lnTo>
                    <a:pt x="60" y="394"/>
                  </a:lnTo>
                  <a:lnTo>
                    <a:pt x="64" y="398"/>
                  </a:lnTo>
                  <a:lnTo>
                    <a:pt x="68" y="403"/>
                  </a:lnTo>
                  <a:lnTo>
                    <a:pt x="73" y="407"/>
                  </a:lnTo>
                  <a:lnTo>
                    <a:pt x="76" y="413"/>
                  </a:lnTo>
                  <a:lnTo>
                    <a:pt x="80" y="417"/>
                  </a:lnTo>
                  <a:lnTo>
                    <a:pt x="84" y="422"/>
                  </a:lnTo>
                  <a:lnTo>
                    <a:pt x="87" y="425"/>
                  </a:lnTo>
                  <a:lnTo>
                    <a:pt x="89" y="429"/>
                  </a:lnTo>
                  <a:lnTo>
                    <a:pt x="93" y="432"/>
                  </a:lnTo>
                  <a:lnTo>
                    <a:pt x="95" y="434"/>
                  </a:lnTo>
                  <a:lnTo>
                    <a:pt x="97" y="434"/>
                  </a:lnTo>
                  <a:lnTo>
                    <a:pt x="98" y="436"/>
                  </a:lnTo>
                  <a:lnTo>
                    <a:pt x="100" y="438"/>
                  </a:lnTo>
                  <a:lnTo>
                    <a:pt x="104" y="441"/>
                  </a:lnTo>
                  <a:lnTo>
                    <a:pt x="107" y="443"/>
                  </a:lnTo>
                  <a:lnTo>
                    <a:pt x="111" y="448"/>
                  </a:lnTo>
                  <a:lnTo>
                    <a:pt x="115" y="452"/>
                  </a:lnTo>
                  <a:lnTo>
                    <a:pt x="119" y="455"/>
                  </a:lnTo>
                  <a:lnTo>
                    <a:pt x="125" y="459"/>
                  </a:lnTo>
                  <a:lnTo>
                    <a:pt x="128" y="464"/>
                  </a:lnTo>
                  <a:lnTo>
                    <a:pt x="134" y="468"/>
                  </a:lnTo>
                  <a:lnTo>
                    <a:pt x="137" y="473"/>
                  </a:lnTo>
                  <a:lnTo>
                    <a:pt x="143" y="476"/>
                  </a:lnTo>
                  <a:lnTo>
                    <a:pt x="146" y="480"/>
                  </a:lnTo>
                  <a:lnTo>
                    <a:pt x="150" y="483"/>
                  </a:lnTo>
                  <a:lnTo>
                    <a:pt x="153" y="484"/>
                  </a:lnTo>
                  <a:lnTo>
                    <a:pt x="156" y="485"/>
                  </a:lnTo>
                  <a:lnTo>
                    <a:pt x="158" y="487"/>
                  </a:lnTo>
                  <a:lnTo>
                    <a:pt x="162" y="489"/>
                  </a:lnTo>
                  <a:lnTo>
                    <a:pt x="168" y="492"/>
                  </a:lnTo>
                  <a:lnTo>
                    <a:pt x="175" y="495"/>
                  </a:lnTo>
                  <a:lnTo>
                    <a:pt x="183" y="501"/>
                  </a:lnTo>
                  <a:lnTo>
                    <a:pt x="192" y="505"/>
                  </a:lnTo>
                  <a:lnTo>
                    <a:pt x="202" y="511"/>
                  </a:lnTo>
                  <a:lnTo>
                    <a:pt x="212" y="514"/>
                  </a:lnTo>
                  <a:lnTo>
                    <a:pt x="222" y="520"/>
                  </a:lnTo>
                  <a:lnTo>
                    <a:pt x="231" y="526"/>
                  </a:lnTo>
                  <a:lnTo>
                    <a:pt x="240" y="531"/>
                  </a:lnTo>
                  <a:lnTo>
                    <a:pt x="249" y="535"/>
                  </a:lnTo>
                  <a:lnTo>
                    <a:pt x="255" y="539"/>
                  </a:lnTo>
                  <a:lnTo>
                    <a:pt x="262" y="543"/>
                  </a:lnTo>
                  <a:lnTo>
                    <a:pt x="266" y="546"/>
                  </a:lnTo>
                  <a:lnTo>
                    <a:pt x="270" y="548"/>
                  </a:lnTo>
                  <a:lnTo>
                    <a:pt x="271" y="551"/>
                  </a:lnTo>
                  <a:lnTo>
                    <a:pt x="276" y="553"/>
                  </a:lnTo>
                  <a:lnTo>
                    <a:pt x="281" y="556"/>
                  </a:lnTo>
                  <a:lnTo>
                    <a:pt x="287" y="558"/>
                  </a:lnTo>
                  <a:lnTo>
                    <a:pt x="294" y="562"/>
                  </a:lnTo>
                  <a:lnTo>
                    <a:pt x="301" y="564"/>
                  </a:lnTo>
                  <a:lnTo>
                    <a:pt x="309" y="568"/>
                  </a:lnTo>
                  <a:lnTo>
                    <a:pt x="318" y="570"/>
                  </a:lnTo>
                  <a:lnTo>
                    <a:pt x="326" y="574"/>
                  </a:lnTo>
                  <a:lnTo>
                    <a:pt x="333" y="576"/>
                  </a:lnTo>
                  <a:lnTo>
                    <a:pt x="340" y="579"/>
                  </a:lnTo>
                  <a:lnTo>
                    <a:pt x="348" y="580"/>
                  </a:lnTo>
                  <a:lnTo>
                    <a:pt x="352" y="582"/>
                  </a:lnTo>
                  <a:lnTo>
                    <a:pt x="357" y="584"/>
                  </a:lnTo>
                  <a:lnTo>
                    <a:pt x="359" y="584"/>
                  </a:lnTo>
                  <a:lnTo>
                    <a:pt x="362" y="584"/>
                  </a:lnTo>
                  <a:lnTo>
                    <a:pt x="360" y="584"/>
                  </a:lnTo>
                  <a:lnTo>
                    <a:pt x="359" y="582"/>
                  </a:lnTo>
                  <a:lnTo>
                    <a:pt x="354" y="579"/>
                  </a:lnTo>
                  <a:lnTo>
                    <a:pt x="350" y="575"/>
                  </a:lnTo>
                  <a:lnTo>
                    <a:pt x="343" y="571"/>
                  </a:lnTo>
                  <a:lnTo>
                    <a:pt x="337" y="566"/>
                  </a:lnTo>
                  <a:lnTo>
                    <a:pt x="329" y="560"/>
                  </a:lnTo>
                  <a:lnTo>
                    <a:pt x="322" y="554"/>
                  </a:lnTo>
                  <a:lnTo>
                    <a:pt x="314" y="549"/>
                  </a:lnTo>
                  <a:lnTo>
                    <a:pt x="306" y="543"/>
                  </a:lnTo>
                  <a:lnTo>
                    <a:pt x="299" y="538"/>
                  </a:lnTo>
                  <a:lnTo>
                    <a:pt x="292" y="531"/>
                  </a:lnTo>
                  <a:lnTo>
                    <a:pt x="286" y="527"/>
                  </a:lnTo>
                  <a:lnTo>
                    <a:pt x="281" y="521"/>
                  </a:lnTo>
                  <a:lnTo>
                    <a:pt x="277" y="518"/>
                  </a:lnTo>
                  <a:lnTo>
                    <a:pt x="276" y="513"/>
                  </a:lnTo>
                  <a:lnTo>
                    <a:pt x="273" y="511"/>
                  </a:lnTo>
                  <a:lnTo>
                    <a:pt x="271" y="509"/>
                  </a:lnTo>
                  <a:lnTo>
                    <a:pt x="268" y="506"/>
                  </a:lnTo>
                  <a:lnTo>
                    <a:pt x="265" y="502"/>
                  </a:lnTo>
                  <a:lnTo>
                    <a:pt x="261" y="498"/>
                  </a:lnTo>
                  <a:lnTo>
                    <a:pt x="258" y="494"/>
                  </a:lnTo>
                  <a:lnTo>
                    <a:pt x="254" y="491"/>
                  </a:lnTo>
                  <a:lnTo>
                    <a:pt x="250" y="486"/>
                  </a:lnTo>
                  <a:lnTo>
                    <a:pt x="246" y="482"/>
                  </a:lnTo>
                  <a:lnTo>
                    <a:pt x="243" y="478"/>
                  </a:lnTo>
                  <a:lnTo>
                    <a:pt x="239" y="474"/>
                  </a:lnTo>
                  <a:lnTo>
                    <a:pt x="236" y="470"/>
                  </a:lnTo>
                  <a:lnTo>
                    <a:pt x="232" y="467"/>
                  </a:lnTo>
                  <a:lnTo>
                    <a:pt x="230" y="463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6" y="454"/>
                  </a:lnTo>
                  <a:lnTo>
                    <a:pt x="226" y="453"/>
                  </a:lnTo>
                  <a:lnTo>
                    <a:pt x="226" y="451"/>
                  </a:lnTo>
                  <a:lnTo>
                    <a:pt x="226" y="448"/>
                  </a:lnTo>
                  <a:lnTo>
                    <a:pt x="226" y="446"/>
                  </a:lnTo>
                  <a:lnTo>
                    <a:pt x="226" y="443"/>
                  </a:lnTo>
                  <a:lnTo>
                    <a:pt x="226" y="442"/>
                  </a:lnTo>
                  <a:lnTo>
                    <a:pt x="226" y="438"/>
                  </a:lnTo>
                  <a:lnTo>
                    <a:pt x="226" y="436"/>
                  </a:lnTo>
                  <a:lnTo>
                    <a:pt x="226" y="434"/>
                  </a:lnTo>
                  <a:lnTo>
                    <a:pt x="226" y="432"/>
                  </a:lnTo>
                  <a:lnTo>
                    <a:pt x="227" y="428"/>
                  </a:lnTo>
                  <a:lnTo>
                    <a:pt x="227" y="426"/>
                  </a:lnTo>
                  <a:lnTo>
                    <a:pt x="229" y="424"/>
                  </a:lnTo>
                  <a:lnTo>
                    <a:pt x="231" y="423"/>
                  </a:lnTo>
                  <a:lnTo>
                    <a:pt x="233" y="421"/>
                  </a:lnTo>
                  <a:lnTo>
                    <a:pt x="234" y="421"/>
                  </a:lnTo>
                  <a:lnTo>
                    <a:pt x="236" y="420"/>
                  </a:lnTo>
                  <a:lnTo>
                    <a:pt x="238" y="420"/>
                  </a:lnTo>
                  <a:lnTo>
                    <a:pt x="240" y="418"/>
                  </a:lnTo>
                  <a:lnTo>
                    <a:pt x="241" y="418"/>
                  </a:lnTo>
                  <a:lnTo>
                    <a:pt x="244" y="418"/>
                  </a:lnTo>
                  <a:lnTo>
                    <a:pt x="246" y="418"/>
                  </a:lnTo>
                  <a:lnTo>
                    <a:pt x="250" y="418"/>
                  </a:lnTo>
                  <a:lnTo>
                    <a:pt x="252" y="419"/>
                  </a:lnTo>
                  <a:lnTo>
                    <a:pt x="255" y="419"/>
                  </a:lnTo>
                  <a:lnTo>
                    <a:pt x="257" y="420"/>
                  </a:lnTo>
                  <a:lnTo>
                    <a:pt x="261" y="420"/>
                  </a:lnTo>
                  <a:lnTo>
                    <a:pt x="263" y="422"/>
                  </a:lnTo>
                  <a:lnTo>
                    <a:pt x="265" y="422"/>
                  </a:lnTo>
                  <a:lnTo>
                    <a:pt x="267" y="422"/>
                  </a:lnTo>
                  <a:lnTo>
                    <a:pt x="270" y="422"/>
                  </a:lnTo>
                  <a:lnTo>
                    <a:pt x="272" y="424"/>
                  </a:lnTo>
                  <a:lnTo>
                    <a:pt x="275" y="425"/>
                  </a:lnTo>
                  <a:lnTo>
                    <a:pt x="279" y="427"/>
                  </a:lnTo>
                  <a:lnTo>
                    <a:pt x="282" y="428"/>
                  </a:lnTo>
                  <a:lnTo>
                    <a:pt x="286" y="432"/>
                  </a:lnTo>
                  <a:lnTo>
                    <a:pt x="290" y="433"/>
                  </a:lnTo>
                  <a:lnTo>
                    <a:pt x="294" y="436"/>
                  </a:lnTo>
                  <a:lnTo>
                    <a:pt x="299" y="438"/>
                  </a:lnTo>
                  <a:lnTo>
                    <a:pt x="302" y="442"/>
                  </a:lnTo>
                  <a:lnTo>
                    <a:pt x="306" y="443"/>
                  </a:lnTo>
                  <a:lnTo>
                    <a:pt x="310" y="446"/>
                  </a:lnTo>
                  <a:lnTo>
                    <a:pt x="314" y="448"/>
                  </a:lnTo>
                  <a:lnTo>
                    <a:pt x="317" y="452"/>
                  </a:lnTo>
                  <a:lnTo>
                    <a:pt x="321" y="453"/>
                  </a:lnTo>
                  <a:lnTo>
                    <a:pt x="323" y="455"/>
                  </a:lnTo>
                  <a:lnTo>
                    <a:pt x="326" y="456"/>
                  </a:lnTo>
                  <a:lnTo>
                    <a:pt x="327" y="458"/>
                  </a:lnTo>
                  <a:lnTo>
                    <a:pt x="329" y="460"/>
                  </a:lnTo>
                  <a:lnTo>
                    <a:pt x="332" y="461"/>
                  </a:lnTo>
                  <a:lnTo>
                    <a:pt x="338" y="463"/>
                  </a:lnTo>
                  <a:lnTo>
                    <a:pt x="342" y="466"/>
                  </a:lnTo>
                  <a:lnTo>
                    <a:pt x="348" y="468"/>
                  </a:lnTo>
                  <a:lnTo>
                    <a:pt x="354" y="470"/>
                  </a:lnTo>
                  <a:lnTo>
                    <a:pt x="360" y="472"/>
                  </a:lnTo>
                  <a:lnTo>
                    <a:pt x="366" y="476"/>
                  </a:lnTo>
                  <a:lnTo>
                    <a:pt x="372" y="478"/>
                  </a:lnTo>
                  <a:lnTo>
                    <a:pt x="378" y="481"/>
                  </a:lnTo>
                  <a:lnTo>
                    <a:pt x="383" y="483"/>
                  </a:lnTo>
                  <a:lnTo>
                    <a:pt x="387" y="486"/>
                  </a:lnTo>
                  <a:lnTo>
                    <a:pt x="390" y="488"/>
                  </a:lnTo>
                  <a:lnTo>
                    <a:pt x="393" y="490"/>
                  </a:lnTo>
                  <a:lnTo>
                    <a:pt x="396" y="491"/>
                  </a:lnTo>
                  <a:lnTo>
                    <a:pt x="396" y="493"/>
                  </a:lnTo>
                  <a:lnTo>
                    <a:pt x="399" y="496"/>
                  </a:lnTo>
                  <a:lnTo>
                    <a:pt x="404" y="500"/>
                  </a:lnTo>
                  <a:lnTo>
                    <a:pt x="410" y="504"/>
                  </a:lnTo>
                  <a:lnTo>
                    <a:pt x="416" y="511"/>
                  </a:lnTo>
                  <a:lnTo>
                    <a:pt x="424" y="516"/>
                  </a:lnTo>
                  <a:lnTo>
                    <a:pt x="431" y="523"/>
                  </a:lnTo>
                  <a:lnTo>
                    <a:pt x="440" y="529"/>
                  </a:lnTo>
                  <a:lnTo>
                    <a:pt x="448" y="536"/>
                  </a:lnTo>
                  <a:lnTo>
                    <a:pt x="457" y="543"/>
                  </a:lnTo>
                  <a:lnTo>
                    <a:pt x="464" y="550"/>
                  </a:lnTo>
                  <a:lnTo>
                    <a:pt x="472" y="556"/>
                  </a:lnTo>
                  <a:lnTo>
                    <a:pt x="477" y="562"/>
                  </a:lnTo>
                  <a:lnTo>
                    <a:pt x="484" y="567"/>
                  </a:lnTo>
                  <a:lnTo>
                    <a:pt x="488" y="570"/>
                  </a:lnTo>
                  <a:lnTo>
                    <a:pt x="492" y="573"/>
                  </a:lnTo>
                  <a:lnTo>
                    <a:pt x="493" y="576"/>
                  </a:lnTo>
                  <a:lnTo>
                    <a:pt x="496" y="579"/>
                  </a:lnTo>
                  <a:lnTo>
                    <a:pt x="500" y="584"/>
                  </a:lnTo>
                  <a:lnTo>
                    <a:pt x="505" y="588"/>
                  </a:lnTo>
                  <a:lnTo>
                    <a:pt x="510" y="593"/>
                  </a:lnTo>
                  <a:lnTo>
                    <a:pt x="516" y="598"/>
                  </a:lnTo>
                  <a:lnTo>
                    <a:pt x="522" y="604"/>
                  </a:lnTo>
                  <a:lnTo>
                    <a:pt x="530" y="609"/>
                  </a:lnTo>
                  <a:lnTo>
                    <a:pt x="535" y="614"/>
                  </a:lnTo>
                  <a:lnTo>
                    <a:pt x="541" y="620"/>
                  </a:lnTo>
                  <a:lnTo>
                    <a:pt x="546" y="626"/>
                  </a:lnTo>
                  <a:lnTo>
                    <a:pt x="552" y="630"/>
                  </a:lnTo>
                  <a:lnTo>
                    <a:pt x="556" y="635"/>
                  </a:lnTo>
                  <a:lnTo>
                    <a:pt x="560" y="639"/>
                  </a:lnTo>
                  <a:lnTo>
                    <a:pt x="563" y="642"/>
                  </a:lnTo>
                  <a:lnTo>
                    <a:pt x="565" y="643"/>
                  </a:lnTo>
                  <a:lnTo>
                    <a:pt x="563" y="645"/>
                  </a:lnTo>
                  <a:lnTo>
                    <a:pt x="558" y="649"/>
                  </a:lnTo>
                  <a:lnTo>
                    <a:pt x="550" y="657"/>
                  </a:lnTo>
                  <a:lnTo>
                    <a:pt x="542" y="666"/>
                  </a:lnTo>
                  <a:lnTo>
                    <a:pt x="529" y="677"/>
                  </a:lnTo>
                  <a:lnTo>
                    <a:pt x="517" y="689"/>
                  </a:lnTo>
                  <a:lnTo>
                    <a:pt x="503" y="702"/>
                  </a:lnTo>
                  <a:lnTo>
                    <a:pt x="490" y="715"/>
                  </a:lnTo>
                  <a:lnTo>
                    <a:pt x="475" y="729"/>
                  </a:lnTo>
                  <a:lnTo>
                    <a:pt x="461" y="742"/>
                  </a:lnTo>
                  <a:lnTo>
                    <a:pt x="448" y="755"/>
                  </a:lnTo>
                  <a:lnTo>
                    <a:pt x="437" y="766"/>
                  </a:lnTo>
                  <a:lnTo>
                    <a:pt x="426" y="778"/>
                  </a:lnTo>
                  <a:lnTo>
                    <a:pt x="419" y="786"/>
                  </a:lnTo>
                  <a:lnTo>
                    <a:pt x="413" y="793"/>
                  </a:lnTo>
                  <a:lnTo>
                    <a:pt x="411" y="796"/>
                  </a:lnTo>
                  <a:lnTo>
                    <a:pt x="409" y="798"/>
                  </a:lnTo>
                  <a:lnTo>
                    <a:pt x="407" y="800"/>
                  </a:lnTo>
                  <a:lnTo>
                    <a:pt x="404" y="804"/>
                  </a:lnTo>
                  <a:lnTo>
                    <a:pt x="400" y="807"/>
                  </a:lnTo>
                  <a:lnTo>
                    <a:pt x="395" y="813"/>
                  </a:lnTo>
                  <a:lnTo>
                    <a:pt x="390" y="817"/>
                  </a:lnTo>
                  <a:lnTo>
                    <a:pt x="385" y="823"/>
                  </a:lnTo>
                  <a:lnTo>
                    <a:pt x="380" y="827"/>
                  </a:lnTo>
                  <a:lnTo>
                    <a:pt x="374" y="833"/>
                  </a:lnTo>
                  <a:lnTo>
                    <a:pt x="369" y="838"/>
                  </a:lnTo>
                  <a:lnTo>
                    <a:pt x="363" y="844"/>
                  </a:lnTo>
                  <a:lnTo>
                    <a:pt x="359" y="848"/>
                  </a:lnTo>
                  <a:lnTo>
                    <a:pt x="354" y="852"/>
                  </a:lnTo>
                  <a:lnTo>
                    <a:pt x="351" y="855"/>
                  </a:lnTo>
                  <a:lnTo>
                    <a:pt x="349" y="857"/>
                  </a:lnTo>
                  <a:lnTo>
                    <a:pt x="349" y="858"/>
                  </a:lnTo>
                  <a:lnTo>
                    <a:pt x="349" y="858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64360" y="6035760"/>
              <a:ext cx="131760" cy="9684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5" y="26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1"/>
                  </a:lnTo>
                  <a:lnTo>
                    <a:pt x="32" y="43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39" y="49"/>
                  </a:lnTo>
                  <a:lnTo>
                    <a:pt x="43" y="51"/>
                  </a:lnTo>
                  <a:lnTo>
                    <a:pt x="45" y="53"/>
                  </a:lnTo>
                  <a:lnTo>
                    <a:pt x="48" y="55"/>
                  </a:lnTo>
                  <a:lnTo>
                    <a:pt x="50" y="57"/>
                  </a:lnTo>
                  <a:lnTo>
                    <a:pt x="54" y="58"/>
                  </a:lnTo>
                  <a:lnTo>
                    <a:pt x="56" y="60"/>
                  </a:lnTo>
                  <a:lnTo>
                    <a:pt x="59" y="60"/>
                  </a:lnTo>
                  <a:lnTo>
                    <a:pt x="61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71" y="58"/>
                  </a:lnTo>
                  <a:lnTo>
                    <a:pt x="73" y="58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6" y="54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1" y="49"/>
                  </a:lnTo>
                  <a:lnTo>
                    <a:pt x="82" y="47"/>
                  </a:lnTo>
                  <a:lnTo>
                    <a:pt x="81" y="46"/>
                  </a:lnTo>
                  <a:lnTo>
                    <a:pt x="81" y="44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9"/>
                  </a:lnTo>
                  <a:lnTo>
                    <a:pt x="77" y="37"/>
                  </a:lnTo>
                  <a:lnTo>
                    <a:pt x="75" y="35"/>
                  </a:lnTo>
                  <a:lnTo>
                    <a:pt x="75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69" y="26"/>
                  </a:lnTo>
                  <a:lnTo>
                    <a:pt x="67" y="24"/>
                  </a:lnTo>
                  <a:lnTo>
                    <a:pt x="66" y="23"/>
                  </a:lnTo>
                  <a:lnTo>
                    <a:pt x="64" y="21"/>
                  </a:lnTo>
                  <a:lnTo>
                    <a:pt x="62" y="20"/>
                  </a:lnTo>
                  <a:lnTo>
                    <a:pt x="61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4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53360" y="6000840"/>
              <a:ext cx="226800" cy="17280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22" y="24"/>
                  </a:lnTo>
                  <a:lnTo>
                    <a:pt x="25" y="29"/>
                  </a:lnTo>
                  <a:lnTo>
                    <a:pt x="30" y="32"/>
                  </a:lnTo>
                  <a:lnTo>
                    <a:pt x="34" y="36"/>
                  </a:lnTo>
                  <a:lnTo>
                    <a:pt x="40" y="40"/>
                  </a:lnTo>
                  <a:lnTo>
                    <a:pt x="44" y="44"/>
                  </a:lnTo>
                  <a:lnTo>
                    <a:pt x="48" y="48"/>
                  </a:lnTo>
                  <a:lnTo>
                    <a:pt x="52" y="50"/>
                  </a:lnTo>
                  <a:lnTo>
                    <a:pt x="55" y="52"/>
                  </a:lnTo>
                  <a:lnTo>
                    <a:pt x="58" y="56"/>
                  </a:lnTo>
                  <a:lnTo>
                    <a:pt x="62" y="59"/>
                  </a:lnTo>
                  <a:lnTo>
                    <a:pt x="65" y="64"/>
                  </a:lnTo>
                  <a:lnTo>
                    <a:pt x="71" y="68"/>
                  </a:lnTo>
                  <a:lnTo>
                    <a:pt x="75" y="73"/>
                  </a:lnTo>
                  <a:lnTo>
                    <a:pt x="80" y="77"/>
                  </a:lnTo>
                  <a:lnTo>
                    <a:pt x="86" y="82"/>
                  </a:lnTo>
                  <a:lnTo>
                    <a:pt x="92" y="86"/>
                  </a:lnTo>
                  <a:lnTo>
                    <a:pt x="96" y="92"/>
                  </a:lnTo>
                  <a:lnTo>
                    <a:pt x="102" y="96"/>
                  </a:lnTo>
                  <a:lnTo>
                    <a:pt x="107" y="99"/>
                  </a:lnTo>
                  <a:lnTo>
                    <a:pt x="113" y="102"/>
                  </a:lnTo>
                  <a:lnTo>
                    <a:pt x="116" y="105"/>
                  </a:lnTo>
                  <a:lnTo>
                    <a:pt x="122" y="107"/>
                  </a:lnTo>
                  <a:lnTo>
                    <a:pt x="126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99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40" y="94"/>
                  </a:lnTo>
                  <a:lnTo>
                    <a:pt x="140" y="92"/>
                  </a:lnTo>
                  <a:lnTo>
                    <a:pt x="139" y="90"/>
                  </a:lnTo>
                  <a:lnTo>
                    <a:pt x="139" y="89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4"/>
                  </a:lnTo>
                  <a:lnTo>
                    <a:pt x="135" y="82"/>
                  </a:lnTo>
                  <a:lnTo>
                    <a:pt x="133" y="81"/>
                  </a:lnTo>
                  <a:lnTo>
                    <a:pt x="133" y="79"/>
                  </a:lnTo>
                  <a:lnTo>
                    <a:pt x="132" y="78"/>
                  </a:lnTo>
                  <a:lnTo>
                    <a:pt x="132" y="76"/>
                  </a:lnTo>
                  <a:lnTo>
                    <a:pt x="130" y="76"/>
                  </a:lnTo>
                  <a:lnTo>
                    <a:pt x="129" y="74"/>
                  </a:lnTo>
                  <a:lnTo>
                    <a:pt x="127" y="74"/>
                  </a:lnTo>
                  <a:lnTo>
                    <a:pt x="127" y="72"/>
                  </a:lnTo>
                  <a:lnTo>
                    <a:pt x="125" y="72"/>
                  </a:lnTo>
                  <a:lnTo>
                    <a:pt x="123" y="71"/>
                  </a:lnTo>
                  <a:lnTo>
                    <a:pt x="122" y="69"/>
                  </a:lnTo>
                  <a:lnTo>
                    <a:pt x="121" y="68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12" y="62"/>
                  </a:lnTo>
                  <a:lnTo>
                    <a:pt x="110" y="62"/>
                  </a:lnTo>
                  <a:lnTo>
                    <a:pt x="110" y="61"/>
                  </a:lnTo>
                  <a:lnTo>
                    <a:pt x="108" y="61"/>
                  </a:lnTo>
                  <a:lnTo>
                    <a:pt x="108" y="61"/>
                  </a:lnTo>
                  <a:lnTo>
                    <a:pt x="106" y="61"/>
                  </a:lnTo>
                  <a:lnTo>
                    <a:pt x="106" y="59"/>
                  </a:lnTo>
                  <a:lnTo>
                    <a:pt x="104" y="59"/>
                  </a:lnTo>
                  <a:lnTo>
                    <a:pt x="104" y="57"/>
                  </a:lnTo>
                  <a:lnTo>
                    <a:pt x="103" y="57"/>
                  </a:lnTo>
                  <a:lnTo>
                    <a:pt x="103" y="55"/>
                  </a:lnTo>
                  <a:lnTo>
                    <a:pt x="101" y="55"/>
                  </a:lnTo>
                  <a:lnTo>
                    <a:pt x="100" y="54"/>
                  </a:lnTo>
                  <a:lnTo>
                    <a:pt x="98" y="54"/>
                  </a:lnTo>
                  <a:lnTo>
                    <a:pt x="98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2" y="50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6" y="48"/>
                  </a:lnTo>
                  <a:lnTo>
                    <a:pt x="84" y="48"/>
                  </a:lnTo>
                  <a:lnTo>
                    <a:pt x="83" y="46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5"/>
                  </a:lnTo>
                  <a:lnTo>
                    <a:pt x="75" y="45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0"/>
                  </a:lnTo>
                  <a:lnTo>
                    <a:pt x="61" y="38"/>
                  </a:lnTo>
                  <a:lnTo>
                    <a:pt x="57" y="36"/>
                  </a:lnTo>
                  <a:lnTo>
                    <a:pt x="52" y="34"/>
                  </a:lnTo>
                  <a:lnTo>
                    <a:pt x="48" y="30"/>
                  </a:lnTo>
                  <a:lnTo>
                    <a:pt x="44" y="27"/>
                  </a:lnTo>
                  <a:lnTo>
                    <a:pt x="40" y="23"/>
                  </a:lnTo>
                  <a:lnTo>
                    <a:pt x="35" y="21"/>
                  </a:lnTo>
                  <a:lnTo>
                    <a:pt x="31" y="18"/>
                  </a:lnTo>
                  <a:lnTo>
                    <a:pt x="26" y="15"/>
                  </a:lnTo>
                  <a:lnTo>
                    <a:pt x="22" y="11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58080" y="6661080"/>
              <a:ext cx="247680" cy="135000"/>
            </a:xfrm>
            <a:custGeom>
              <a:avLst/>
              <a:gdLst/>
              <a:ahLst/>
              <a:rect l="l" t="t" r="r" b="b"/>
              <a:pathLst>
                <a:path w="156" h="85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22" y="28"/>
                  </a:lnTo>
                  <a:lnTo>
                    <a:pt x="24" y="31"/>
                  </a:lnTo>
                  <a:lnTo>
                    <a:pt x="26" y="33"/>
                  </a:lnTo>
                  <a:lnTo>
                    <a:pt x="28" y="35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4" y="42"/>
                  </a:lnTo>
                  <a:lnTo>
                    <a:pt x="34" y="43"/>
                  </a:lnTo>
                  <a:lnTo>
                    <a:pt x="36" y="45"/>
                  </a:lnTo>
                  <a:lnTo>
                    <a:pt x="38" y="47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1" y="52"/>
                  </a:lnTo>
                  <a:lnTo>
                    <a:pt x="42" y="54"/>
                  </a:lnTo>
                  <a:lnTo>
                    <a:pt x="44" y="55"/>
                  </a:lnTo>
                  <a:lnTo>
                    <a:pt x="44" y="57"/>
                  </a:lnTo>
                  <a:lnTo>
                    <a:pt x="46" y="58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60" y="66"/>
                  </a:lnTo>
                  <a:lnTo>
                    <a:pt x="62" y="66"/>
                  </a:lnTo>
                  <a:lnTo>
                    <a:pt x="64" y="68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4" y="76"/>
                  </a:lnTo>
                  <a:lnTo>
                    <a:pt x="84" y="78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7" y="80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91" y="81"/>
                  </a:lnTo>
                  <a:lnTo>
                    <a:pt x="91" y="82"/>
                  </a:lnTo>
                  <a:lnTo>
                    <a:pt x="93" y="82"/>
                  </a:lnTo>
                  <a:lnTo>
                    <a:pt x="94" y="82"/>
                  </a:lnTo>
                  <a:lnTo>
                    <a:pt x="96" y="82"/>
                  </a:lnTo>
                  <a:lnTo>
                    <a:pt x="97" y="82"/>
                  </a:lnTo>
                  <a:lnTo>
                    <a:pt x="98" y="82"/>
                  </a:lnTo>
                  <a:lnTo>
                    <a:pt x="100" y="8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4" y="77"/>
                  </a:lnTo>
                  <a:lnTo>
                    <a:pt x="114" y="78"/>
                  </a:lnTo>
                  <a:lnTo>
                    <a:pt x="116" y="78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21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8" y="83"/>
                  </a:lnTo>
                  <a:lnTo>
                    <a:pt x="130" y="83"/>
                  </a:lnTo>
                  <a:lnTo>
                    <a:pt x="132" y="83"/>
                  </a:lnTo>
                  <a:lnTo>
                    <a:pt x="134" y="83"/>
                  </a:lnTo>
                  <a:lnTo>
                    <a:pt x="136" y="84"/>
                  </a:lnTo>
                  <a:lnTo>
                    <a:pt x="137" y="84"/>
                  </a:lnTo>
                  <a:lnTo>
                    <a:pt x="139" y="84"/>
                  </a:lnTo>
                  <a:lnTo>
                    <a:pt x="141" y="84"/>
                  </a:lnTo>
                  <a:lnTo>
                    <a:pt x="141" y="84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5" y="84"/>
                  </a:lnTo>
                  <a:lnTo>
                    <a:pt x="147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2" y="84"/>
                  </a:lnTo>
                  <a:lnTo>
                    <a:pt x="152" y="84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5" y="84"/>
                  </a:lnTo>
                  <a:lnTo>
                    <a:pt x="154" y="84"/>
                  </a:lnTo>
                  <a:lnTo>
                    <a:pt x="153" y="83"/>
                  </a:lnTo>
                  <a:lnTo>
                    <a:pt x="151" y="83"/>
                  </a:lnTo>
                  <a:lnTo>
                    <a:pt x="149" y="81"/>
                  </a:lnTo>
                  <a:lnTo>
                    <a:pt x="145" y="81"/>
                  </a:lnTo>
                  <a:lnTo>
                    <a:pt x="143" y="79"/>
                  </a:lnTo>
                  <a:lnTo>
                    <a:pt x="139" y="77"/>
                  </a:lnTo>
                  <a:lnTo>
                    <a:pt x="137" y="75"/>
                  </a:lnTo>
                  <a:lnTo>
                    <a:pt x="134" y="75"/>
                  </a:lnTo>
                  <a:lnTo>
                    <a:pt x="130" y="73"/>
                  </a:lnTo>
                  <a:lnTo>
                    <a:pt x="126" y="72"/>
                  </a:lnTo>
                  <a:lnTo>
                    <a:pt x="124" y="70"/>
                  </a:lnTo>
                  <a:lnTo>
                    <a:pt x="120" y="70"/>
                  </a:lnTo>
                  <a:lnTo>
                    <a:pt x="118" y="68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1" y="65"/>
                  </a:lnTo>
                  <a:lnTo>
                    <a:pt x="109" y="64"/>
                  </a:lnTo>
                  <a:lnTo>
                    <a:pt x="107" y="64"/>
                  </a:lnTo>
                  <a:lnTo>
                    <a:pt x="105" y="62"/>
                  </a:lnTo>
                  <a:lnTo>
                    <a:pt x="101" y="62"/>
                  </a:lnTo>
                  <a:lnTo>
                    <a:pt x="99" y="60"/>
                  </a:lnTo>
                  <a:lnTo>
                    <a:pt x="97" y="58"/>
                  </a:lnTo>
                  <a:lnTo>
                    <a:pt x="96" y="56"/>
                  </a:lnTo>
                  <a:lnTo>
                    <a:pt x="92" y="56"/>
                  </a:lnTo>
                  <a:lnTo>
                    <a:pt x="90" y="54"/>
                  </a:lnTo>
                  <a:lnTo>
                    <a:pt x="87" y="53"/>
                  </a:lnTo>
                  <a:lnTo>
                    <a:pt x="86" y="52"/>
                  </a:lnTo>
                  <a:lnTo>
                    <a:pt x="83" y="52"/>
                  </a:lnTo>
                  <a:lnTo>
                    <a:pt x="81" y="50"/>
                  </a:lnTo>
                  <a:lnTo>
                    <a:pt x="79" y="48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6" y="45"/>
                  </a:lnTo>
                  <a:lnTo>
                    <a:pt x="74" y="45"/>
                  </a:lnTo>
                  <a:lnTo>
                    <a:pt x="74" y="43"/>
                  </a:lnTo>
                  <a:lnTo>
                    <a:pt x="72" y="43"/>
                  </a:lnTo>
                  <a:lnTo>
                    <a:pt x="70" y="42"/>
                  </a:lnTo>
                  <a:lnTo>
                    <a:pt x="69" y="40"/>
                  </a:lnTo>
                  <a:lnTo>
                    <a:pt x="69" y="38"/>
                  </a:lnTo>
                  <a:lnTo>
                    <a:pt x="67" y="38"/>
                  </a:lnTo>
                  <a:lnTo>
                    <a:pt x="65" y="36"/>
                  </a:lnTo>
                  <a:lnTo>
                    <a:pt x="63" y="36"/>
                  </a:lnTo>
                  <a:lnTo>
                    <a:pt x="63" y="34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96240" y="649764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20" y="43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0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3" y="42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3" y="3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0" y="35"/>
                  </a:lnTo>
                  <a:lnTo>
                    <a:pt x="60" y="33"/>
                  </a:lnTo>
                  <a:lnTo>
                    <a:pt x="58" y="32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tilizando el argumento de convexidad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33480" y="2217600"/>
            <a:ext cx="27860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Arial"/>
              </a:rPr>
              <a:t>Conjunto A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400"/>
            </a:b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Arial"/>
              </a:rPr>
              <a:t>Conjunto B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400"/>
            </a:b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iperplano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592440" y="2151000"/>
            <a:ext cx="7450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99"/>
                </a:solidFill>
                <a:latin typeface="Times New Roman"/>
              </a:rPr>
              <a:t>Conjunto</a:t>
            </a:r>
            <a:r>
              <a:rPr b="1" lang="en-GB" sz="34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en-GB" sz="3400" spc="-1" strike="noStrike">
                <a:solidFill>
                  <a:srgbClr val="000080"/>
                </a:solidFill>
                <a:latin typeface="Times New Roman"/>
              </a:rPr>
              <a:t>lcanzable.  Derivado 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000080"/>
                </a:solidFill>
                <a:latin typeface="Times New Roman"/>
              </a:rPr>
              <a:t>las posibilidades tecnológicas + recurso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80"/>
                </a:solidFill>
                <a:latin typeface="Times New Roman"/>
              </a:rPr>
              <a:t>Conjunto “Mejor que”. Derivado de las preferencia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91440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tonces¿funcionará la decentralización?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2209680"/>
            <a:ext cx="6334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8280"/>
                </a:solidFill>
                <a:latin typeface="Times New Roman"/>
              </a:rPr>
              <a:t>¿Convexo? Depende de la   divisibilidad de la  produc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8280"/>
                </a:solidFill>
                <a:latin typeface="Times New Roman"/>
              </a:rPr>
              <a:t>¿Convexo? Depende de si las personas prefieren mezcla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8280"/>
                </a:solidFill>
                <a:latin typeface="Times New Roman"/>
              </a:rPr>
              <a:t>pueden ser precios de mercado o precios sombr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833640" y="2104920"/>
            <a:ext cx="6078600" cy="5248440"/>
            <a:chOff x="3833640" y="2104920"/>
            <a:chExt cx="6078600" cy="5248440"/>
          </a:xfrm>
        </p:grpSpPr>
        <p:sp>
          <p:nvSpPr>
            <p:cNvPr id="856" name=""/>
            <p:cNvSpPr/>
            <p:nvPr/>
          </p:nvSpPr>
          <p:spPr>
            <a:xfrm>
              <a:off x="3833640" y="2104920"/>
              <a:ext cx="6078600" cy="5248440"/>
            </a:xfrm>
            <a:custGeom>
              <a:avLst/>
              <a:gdLst/>
              <a:ahLst/>
              <a:rect l="l" t="t" r="r" b="b"/>
              <a:pathLst>
                <a:path w="3829" h="3306">
                  <a:moveTo>
                    <a:pt x="3828" y="1621"/>
                  </a:moveTo>
                  <a:lnTo>
                    <a:pt x="3828" y="1621"/>
                  </a:lnTo>
                  <a:lnTo>
                    <a:pt x="1572" y="0"/>
                  </a:lnTo>
                  <a:lnTo>
                    <a:pt x="1835" y="812"/>
                  </a:lnTo>
                  <a:lnTo>
                    <a:pt x="0" y="812"/>
                  </a:lnTo>
                  <a:lnTo>
                    <a:pt x="0" y="2548"/>
                  </a:lnTo>
                  <a:lnTo>
                    <a:pt x="1835" y="2548"/>
                  </a:lnTo>
                  <a:lnTo>
                    <a:pt x="1572" y="3305"/>
                  </a:lnTo>
                  <a:lnTo>
                    <a:pt x="3828" y="1621"/>
                  </a:lnTo>
                  <a:lnTo>
                    <a:pt x="3828" y="1621"/>
                  </a:lnTo>
                </a:path>
              </a:pathLst>
            </a:custGeom>
            <a:gradFill rotWithShape="0">
              <a:gsLst>
                <a:gs pos="0">
                  <a:srgbClr val="ff8100"/>
                </a:gs>
                <a:gs pos="50000">
                  <a:srgbClr val="ffffc2"/>
                </a:gs>
                <a:gs pos="100000">
                  <a:srgbClr val="ff8100"/>
                </a:gs>
              </a:gsLst>
              <a:lin ang="13500000"/>
            </a:gradFill>
            <a:ln w="4752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78160" y="3889440"/>
              <a:ext cx="5394600" cy="16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5100" spc="-1" strike="noStrike">
                  <a:solidFill>
                    <a:srgbClr val="ff0000"/>
                  </a:solidFill>
                  <a:latin typeface="Brush738 BT"/>
                </a:rPr>
                <a:t>Miremos otro caso...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590840" y="2052720"/>
            <a:ext cx="3201840" cy="4881600"/>
          </a:xfrm>
          <a:custGeom>
            <a:avLst/>
            <a:gdLst/>
            <a:ahLst/>
            <a:rect l="l" t="t" r="r" b="b"/>
            <a:pathLst>
              <a:path w="1470" h="2232">
                <a:moveTo>
                  <a:pt x="405" y="867"/>
                </a:moveTo>
                <a:lnTo>
                  <a:pt x="405" y="867"/>
                </a:lnTo>
                <a:lnTo>
                  <a:pt x="336" y="699"/>
                </a:lnTo>
                <a:lnTo>
                  <a:pt x="297" y="532"/>
                </a:lnTo>
                <a:lnTo>
                  <a:pt x="257" y="364"/>
                </a:lnTo>
                <a:lnTo>
                  <a:pt x="247" y="246"/>
                </a:lnTo>
                <a:lnTo>
                  <a:pt x="207" y="117"/>
                </a:lnTo>
                <a:lnTo>
                  <a:pt x="158" y="58"/>
                </a:lnTo>
                <a:lnTo>
                  <a:pt x="98" y="29"/>
                </a:lnTo>
                <a:lnTo>
                  <a:pt x="0" y="0"/>
                </a:lnTo>
                <a:lnTo>
                  <a:pt x="3" y="2231"/>
                </a:lnTo>
                <a:lnTo>
                  <a:pt x="1469" y="2230"/>
                </a:lnTo>
                <a:lnTo>
                  <a:pt x="1469" y="2230"/>
                </a:lnTo>
                <a:lnTo>
                  <a:pt x="1452" y="2157"/>
                </a:lnTo>
                <a:lnTo>
                  <a:pt x="1447" y="2139"/>
                </a:lnTo>
                <a:lnTo>
                  <a:pt x="1441" y="2118"/>
                </a:lnTo>
                <a:lnTo>
                  <a:pt x="1433" y="2096"/>
                </a:lnTo>
                <a:lnTo>
                  <a:pt x="1424" y="2072"/>
                </a:lnTo>
                <a:lnTo>
                  <a:pt x="1416" y="2048"/>
                </a:lnTo>
                <a:lnTo>
                  <a:pt x="1407" y="2025"/>
                </a:lnTo>
                <a:lnTo>
                  <a:pt x="1400" y="2004"/>
                </a:lnTo>
                <a:lnTo>
                  <a:pt x="1394" y="1993"/>
                </a:lnTo>
                <a:lnTo>
                  <a:pt x="1390" y="1982"/>
                </a:lnTo>
                <a:lnTo>
                  <a:pt x="1385" y="1969"/>
                </a:lnTo>
                <a:lnTo>
                  <a:pt x="1378" y="1956"/>
                </a:lnTo>
                <a:lnTo>
                  <a:pt x="1371" y="1942"/>
                </a:lnTo>
                <a:lnTo>
                  <a:pt x="1365" y="1928"/>
                </a:lnTo>
                <a:lnTo>
                  <a:pt x="1357" y="1913"/>
                </a:lnTo>
                <a:lnTo>
                  <a:pt x="1351" y="1897"/>
                </a:lnTo>
                <a:lnTo>
                  <a:pt x="1343" y="1883"/>
                </a:lnTo>
                <a:lnTo>
                  <a:pt x="1335" y="1868"/>
                </a:lnTo>
                <a:lnTo>
                  <a:pt x="1328" y="1853"/>
                </a:lnTo>
                <a:lnTo>
                  <a:pt x="1321" y="1839"/>
                </a:lnTo>
                <a:lnTo>
                  <a:pt x="1314" y="1826"/>
                </a:lnTo>
                <a:lnTo>
                  <a:pt x="1307" y="1813"/>
                </a:lnTo>
                <a:lnTo>
                  <a:pt x="1301" y="1802"/>
                </a:lnTo>
                <a:lnTo>
                  <a:pt x="1295" y="1790"/>
                </a:lnTo>
                <a:lnTo>
                  <a:pt x="1287" y="1780"/>
                </a:lnTo>
                <a:lnTo>
                  <a:pt x="1281" y="1768"/>
                </a:lnTo>
                <a:lnTo>
                  <a:pt x="1273" y="1757"/>
                </a:lnTo>
                <a:lnTo>
                  <a:pt x="1264" y="1744"/>
                </a:lnTo>
                <a:lnTo>
                  <a:pt x="1255" y="1732"/>
                </a:lnTo>
                <a:lnTo>
                  <a:pt x="1245" y="1717"/>
                </a:lnTo>
                <a:lnTo>
                  <a:pt x="1236" y="1704"/>
                </a:lnTo>
                <a:lnTo>
                  <a:pt x="1227" y="1690"/>
                </a:lnTo>
                <a:lnTo>
                  <a:pt x="1215" y="1678"/>
                </a:lnTo>
                <a:lnTo>
                  <a:pt x="1205" y="1664"/>
                </a:lnTo>
                <a:lnTo>
                  <a:pt x="1195" y="1651"/>
                </a:lnTo>
                <a:lnTo>
                  <a:pt x="1185" y="1639"/>
                </a:lnTo>
                <a:lnTo>
                  <a:pt x="1176" y="1628"/>
                </a:lnTo>
                <a:lnTo>
                  <a:pt x="1167" y="1618"/>
                </a:lnTo>
                <a:lnTo>
                  <a:pt x="1158" y="1608"/>
                </a:lnTo>
                <a:lnTo>
                  <a:pt x="1151" y="1599"/>
                </a:lnTo>
                <a:lnTo>
                  <a:pt x="1132" y="1583"/>
                </a:lnTo>
                <a:lnTo>
                  <a:pt x="1113" y="1565"/>
                </a:lnTo>
                <a:lnTo>
                  <a:pt x="1093" y="1546"/>
                </a:lnTo>
                <a:lnTo>
                  <a:pt x="1073" y="1527"/>
                </a:lnTo>
                <a:lnTo>
                  <a:pt x="1052" y="1509"/>
                </a:lnTo>
                <a:lnTo>
                  <a:pt x="1033" y="1492"/>
                </a:lnTo>
                <a:lnTo>
                  <a:pt x="1016" y="1478"/>
                </a:lnTo>
                <a:lnTo>
                  <a:pt x="1002" y="1465"/>
                </a:lnTo>
                <a:lnTo>
                  <a:pt x="987" y="1458"/>
                </a:lnTo>
                <a:lnTo>
                  <a:pt x="971" y="1445"/>
                </a:lnTo>
                <a:lnTo>
                  <a:pt x="953" y="1433"/>
                </a:lnTo>
                <a:lnTo>
                  <a:pt x="935" y="1422"/>
                </a:lnTo>
                <a:lnTo>
                  <a:pt x="916" y="1410"/>
                </a:lnTo>
                <a:lnTo>
                  <a:pt x="899" y="1399"/>
                </a:lnTo>
                <a:lnTo>
                  <a:pt x="882" y="1390"/>
                </a:lnTo>
                <a:lnTo>
                  <a:pt x="869" y="1382"/>
                </a:lnTo>
                <a:lnTo>
                  <a:pt x="854" y="1376"/>
                </a:lnTo>
                <a:lnTo>
                  <a:pt x="840" y="1370"/>
                </a:lnTo>
                <a:lnTo>
                  <a:pt x="823" y="1364"/>
                </a:lnTo>
                <a:lnTo>
                  <a:pt x="807" y="1357"/>
                </a:lnTo>
                <a:lnTo>
                  <a:pt x="790" y="1350"/>
                </a:lnTo>
                <a:lnTo>
                  <a:pt x="776" y="1345"/>
                </a:lnTo>
                <a:lnTo>
                  <a:pt x="762" y="1341"/>
                </a:lnTo>
                <a:lnTo>
                  <a:pt x="752" y="1337"/>
                </a:lnTo>
                <a:lnTo>
                  <a:pt x="741" y="1336"/>
                </a:lnTo>
                <a:lnTo>
                  <a:pt x="728" y="1334"/>
                </a:lnTo>
                <a:lnTo>
                  <a:pt x="715" y="1331"/>
                </a:lnTo>
                <a:lnTo>
                  <a:pt x="633" y="1271"/>
                </a:lnTo>
                <a:lnTo>
                  <a:pt x="623" y="1271"/>
                </a:lnTo>
                <a:lnTo>
                  <a:pt x="544" y="1123"/>
                </a:lnTo>
                <a:lnTo>
                  <a:pt x="405" y="867"/>
                </a:lnTo>
                <a:lnTo>
                  <a:pt x="405" y="867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tiene de especial este conjunto?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484440" y="1241280"/>
            <a:ext cx="2194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600200" y="1295280"/>
            <a:ext cx="0" cy="563400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4880" y="6934320"/>
            <a:ext cx="700560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16080" y="3143160"/>
            <a:ext cx="2246400" cy="2551320"/>
          </a:xfrm>
          <a:custGeom>
            <a:avLst/>
            <a:gdLst/>
            <a:ahLst/>
            <a:rect l="l" t="t" r="r" b="b"/>
            <a:pathLst>
              <a:path w="1031" h="1166">
                <a:moveTo>
                  <a:pt x="0" y="0"/>
                </a:moveTo>
                <a:lnTo>
                  <a:pt x="0" y="11"/>
                </a:lnTo>
                <a:lnTo>
                  <a:pt x="1" y="18"/>
                </a:lnTo>
                <a:lnTo>
                  <a:pt x="1" y="25"/>
                </a:lnTo>
                <a:lnTo>
                  <a:pt x="2" y="29"/>
                </a:lnTo>
                <a:lnTo>
                  <a:pt x="2" y="33"/>
                </a:lnTo>
                <a:lnTo>
                  <a:pt x="2" y="36"/>
                </a:lnTo>
                <a:lnTo>
                  <a:pt x="2" y="38"/>
                </a:lnTo>
                <a:lnTo>
                  <a:pt x="4" y="39"/>
                </a:lnTo>
                <a:lnTo>
                  <a:pt x="4" y="41"/>
                </a:lnTo>
                <a:lnTo>
                  <a:pt x="4" y="41"/>
                </a:lnTo>
                <a:lnTo>
                  <a:pt x="4" y="43"/>
                </a:lnTo>
                <a:lnTo>
                  <a:pt x="4" y="44"/>
                </a:lnTo>
                <a:lnTo>
                  <a:pt x="4" y="47"/>
                </a:lnTo>
                <a:lnTo>
                  <a:pt x="4" y="49"/>
                </a:lnTo>
                <a:lnTo>
                  <a:pt x="4" y="53"/>
                </a:lnTo>
                <a:lnTo>
                  <a:pt x="6" y="57"/>
                </a:lnTo>
                <a:lnTo>
                  <a:pt x="6" y="63"/>
                </a:lnTo>
                <a:lnTo>
                  <a:pt x="7" y="71"/>
                </a:lnTo>
                <a:lnTo>
                  <a:pt x="8" y="80"/>
                </a:lnTo>
                <a:lnTo>
                  <a:pt x="10" y="90"/>
                </a:lnTo>
                <a:lnTo>
                  <a:pt x="12" y="103"/>
                </a:lnTo>
                <a:lnTo>
                  <a:pt x="14" y="115"/>
                </a:lnTo>
                <a:lnTo>
                  <a:pt x="16" y="127"/>
                </a:lnTo>
                <a:lnTo>
                  <a:pt x="20" y="141"/>
                </a:lnTo>
                <a:lnTo>
                  <a:pt x="22" y="156"/>
                </a:lnTo>
                <a:lnTo>
                  <a:pt x="26" y="171"/>
                </a:lnTo>
                <a:lnTo>
                  <a:pt x="28" y="185"/>
                </a:lnTo>
                <a:lnTo>
                  <a:pt x="32" y="201"/>
                </a:lnTo>
                <a:lnTo>
                  <a:pt x="34" y="215"/>
                </a:lnTo>
                <a:lnTo>
                  <a:pt x="37" y="231"/>
                </a:lnTo>
                <a:lnTo>
                  <a:pt x="41" y="245"/>
                </a:lnTo>
                <a:lnTo>
                  <a:pt x="45" y="259"/>
                </a:lnTo>
                <a:lnTo>
                  <a:pt x="47" y="273"/>
                </a:lnTo>
                <a:lnTo>
                  <a:pt x="51" y="288"/>
                </a:lnTo>
                <a:lnTo>
                  <a:pt x="55" y="303"/>
                </a:lnTo>
                <a:lnTo>
                  <a:pt x="58" y="319"/>
                </a:lnTo>
                <a:lnTo>
                  <a:pt x="62" y="335"/>
                </a:lnTo>
                <a:lnTo>
                  <a:pt x="66" y="350"/>
                </a:lnTo>
                <a:lnTo>
                  <a:pt x="70" y="367"/>
                </a:lnTo>
                <a:lnTo>
                  <a:pt x="75" y="381"/>
                </a:lnTo>
                <a:lnTo>
                  <a:pt x="79" y="397"/>
                </a:lnTo>
                <a:lnTo>
                  <a:pt x="83" y="412"/>
                </a:lnTo>
                <a:lnTo>
                  <a:pt x="86" y="427"/>
                </a:lnTo>
                <a:lnTo>
                  <a:pt x="92" y="439"/>
                </a:lnTo>
                <a:lnTo>
                  <a:pt x="96" y="451"/>
                </a:lnTo>
                <a:lnTo>
                  <a:pt x="100" y="461"/>
                </a:lnTo>
                <a:lnTo>
                  <a:pt x="103" y="471"/>
                </a:lnTo>
                <a:lnTo>
                  <a:pt x="106" y="478"/>
                </a:lnTo>
                <a:lnTo>
                  <a:pt x="108" y="486"/>
                </a:lnTo>
                <a:lnTo>
                  <a:pt x="112" y="495"/>
                </a:lnTo>
                <a:lnTo>
                  <a:pt x="116" y="504"/>
                </a:lnTo>
                <a:lnTo>
                  <a:pt x="120" y="513"/>
                </a:lnTo>
                <a:lnTo>
                  <a:pt x="124" y="525"/>
                </a:lnTo>
                <a:lnTo>
                  <a:pt x="129" y="536"/>
                </a:lnTo>
                <a:lnTo>
                  <a:pt x="133" y="547"/>
                </a:lnTo>
                <a:lnTo>
                  <a:pt x="139" y="558"/>
                </a:lnTo>
                <a:lnTo>
                  <a:pt x="143" y="571"/>
                </a:lnTo>
                <a:lnTo>
                  <a:pt x="148" y="583"/>
                </a:lnTo>
                <a:lnTo>
                  <a:pt x="153" y="595"/>
                </a:lnTo>
                <a:lnTo>
                  <a:pt x="158" y="606"/>
                </a:lnTo>
                <a:lnTo>
                  <a:pt x="162" y="617"/>
                </a:lnTo>
                <a:lnTo>
                  <a:pt x="168" y="629"/>
                </a:lnTo>
                <a:lnTo>
                  <a:pt x="172" y="639"/>
                </a:lnTo>
                <a:lnTo>
                  <a:pt x="177" y="647"/>
                </a:lnTo>
                <a:lnTo>
                  <a:pt x="181" y="658"/>
                </a:lnTo>
                <a:lnTo>
                  <a:pt x="184" y="667"/>
                </a:lnTo>
                <a:lnTo>
                  <a:pt x="188" y="679"/>
                </a:lnTo>
                <a:lnTo>
                  <a:pt x="194" y="689"/>
                </a:lnTo>
                <a:lnTo>
                  <a:pt x="198" y="700"/>
                </a:lnTo>
                <a:lnTo>
                  <a:pt x="203" y="711"/>
                </a:lnTo>
                <a:lnTo>
                  <a:pt x="208" y="722"/>
                </a:lnTo>
                <a:lnTo>
                  <a:pt x="214" y="733"/>
                </a:lnTo>
                <a:lnTo>
                  <a:pt x="218" y="744"/>
                </a:lnTo>
                <a:lnTo>
                  <a:pt x="223" y="755"/>
                </a:lnTo>
                <a:lnTo>
                  <a:pt x="227" y="765"/>
                </a:lnTo>
                <a:lnTo>
                  <a:pt x="232" y="775"/>
                </a:lnTo>
                <a:lnTo>
                  <a:pt x="236" y="784"/>
                </a:lnTo>
                <a:lnTo>
                  <a:pt x="241" y="792"/>
                </a:lnTo>
                <a:lnTo>
                  <a:pt x="244" y="799"/>
                </a:lnTo>
                <a:lnTo>
                  <a:pt x="248" y="805"/>
                </a:lnTo>
                <a:lnTo>
                  <a:pt x="250" y="812"/>
                </a:lnTo>
                <a:lnTo>
                  <a:pt x="253" y="818"/>
                </a:lnTo>
                <a:lnTo>
                  <a:pt x="257" y="826"/>
                </a:lnTo>
                <a:lnTo>
                  <a:pt x="262" y="833"/>
                </a:lnTo>
                <a:lnTo>
                  <a:pt x="266" y="843"/>
                </a:lnTo>
                <a:lnTo>
                  <a:pt x="272" y="850"/>
                </a:lnTo>
                <a:lnTo>
                  <a:pt x="278" y="859"/>
                </a:lnTo>
                <a:lnTo>
                  <a:pt x="283" y="866"/>
                </a:lnTo>
                <a:lnTo>
                  <a:pt x="289" y="876"/>
                </a:lnTo>
                <a:lnTo>
                  <a:pt x="294" y="885"/>
                </a:lnTo>
                <a:lnTo>
                  <a:pt x="300" y="893"/>
                </a:lnTo>
                <a:lnTo>
                  <a:pt x="306" y="901"/>
                </a:lnTo>
                <a:lnTo>
                  <a:pt x="310" y="909"/>
                </a:lnTo>
                <a:lnTo>
                  <a:pt x="316" y="916"/>
                </a:lnTo>
                <a:lnTo>
                  <a:pt x="321" y="923"/>
                </a:lnTo>
                <a:lnTo>
                  <a:pt x="327" y="928"/>
                </a:lnTo>
                <a:lnTo>
                  <a:pt x="331" y="935"/>
                </a:lnTo>
                <a:lnTo>
                  <a:pt x="337" y="941"/>
                </a:lnTo>
                <a:lnTo>
                  <a:pt x="342" y="948"/>
                </a:lnTo>
                <a:lnTo>
                  <a:pt x="349" y="954"/>
                </a:lnTo>
                <a:lnTo>
                  <a:pt x="355" y="961"/>
                </a:lnTo>
                <a:lnTo>
                  <a:pt x="362" y="969"/>
                </a:lnTo>
                <a:lnTo>
                  <a:pt x="369" y="976"/>
                </a:lnTo>
                <a:lnTo>
                  <a:pt x="377" y="982"/>
                </a:lnTo>
                <a:lnTo>
                  <a:pt x="382" y="989"/>
                </a:lnTo>
                <a:lnTo>
                  <a:pt x="390" y="996"/>
                </a:lnTo>
                <a:lnTo>
                  <a:pt x="396" y="1003"/>
                </a:lnTo>
                <a:lnTo>
                  <a:pt x="404" y="1009"/>
                </a:lnTo>
                <a:lnTo>
                  <a:pt x="409" y="1014"/>
                </a:lnTo>
                <a:lnTo>
                  <a:pt x="416" y="1020"/>
                </a:lnTo>
                <a:lnTo>
                  <a:pt x="421" y="1024"/>
                </a:lnTo>
                <a:lnTo>
                  <a:pt x="427" y="1028"/>
                </a:lnTo>
                <a:lnTo>
                  <a:pt x="430" y="1032"/>
                </a:lnTo>
                <a:lnTo>
                  <a:pt x="436" y="1036"/>
                </a:lnTo>
                <a:lnTo>
                  <a:pt x="440" y="1040"/>
                </a:lnTo>
                <a:lnTo>
                  <a:pt x="446" y="1043"/>
                </a:lnTo>
                <a:lnTo>
                  <a:pt x="450" y="1047"/>
                </a:lnTo>
                <a:lnTo>
                  <a:pt x="455" y="1051"/>
                </a:lnTo>
                <a:lnTo>
                  <a:pt x="460" y="1055"/>
                </a:lnTo>
                <a:lnTo>
                  <a:pt x="466" y="1058"/>
                </a:lnTo>
                <a:lnTo>
                  <a:pt x="470" y="1062"/>
                </a:lnTo>
                <a:lnTo>
                  <a:pt x="474" y="1065"/>
                </a:lnTo>
                <a:lnTo>
                  <a:pt x="478" y="1069"/>
                </a:lnTo>
                <a:lnTo>
                  <a:pt x="483" y="1071"/>
                </a:lnTo>
                <a:lnTo>
                  <a:pt x="485" y="1073"/>
                </a:lnTo>
                <a:lnTo>
                  <a:pt x="489" y="1075"/>
                </a:lnTo>
                <a:lnTo>
                  <a:pt x="491" y="1077"/>
                </a:lnTo>
                <a:lnTo>
                  <a:pt x="494" y="1078"/>
                </a:lnTo>
                <a:lnTo>
                  <a:pt x="495" y="1080"/>
                </a:lnTo>
                <a:lnTo>
                  <a:pt x="497" y="1081"/>
                </a:lnTo>
                <a:lnTo>
                  <a:pt x="499" y="1083"/>
                </a:lnTo>
                <a:lnTo>
                  <a:pt x="503" y="1083"/>
                </a:lnTo>
                <a:lnTo>
                  <a:pt x="506" y="1085"/>
                </a:lnTo>
                <a:lnTo>
                  <a:pt x="510" y="1087"/>
                </a:lnTo>
                <a:lnTo>
                  <a:pt x="513" y="1089"/>
                </a:lnTo>
                <a:lnTo>
                  <a:pt x="518" y="1090"/>
                </a:lnTo>
                <a:lnTo>
                  <a:pt x="522" y="1092"/>
                </a:lnTo>
                <a:lnTo>
                  <a:pt x="525" y="1094"/>
                </a:lnTo>
                <a:lnTo>
                  <a:pt x="529" y="1096"/>
                </a:lnTo>
                <a:lnTo>
                  <a:pt x="534" y="1098"/>
                </a:lnTo>
                <a:lnTo>
                  <a:pt x="538" y="1100"/>
                </a:lnTo>
                <a:lnTo>
                  <a:pt x="542" y="1102"/>
                </a:lnTo>
                <a:lnTo>
                  <a:pt x="545" y="1103"/>
                </a:lnTo>
                <a:lnTo>
                  <a:pt x="550" y="1104"/>
                </a:lnTo>
                <a:lnTo>
                  <a:pt x="553" y="1106"/>
                </a:lnTo>
                <a:lnTo>
                  <a:pt x="558" y="1108"/>
                </a:lnTo>
                <a:lnTo>
                  <a:pt x="563" y="1110"/>
                </a:lnTo>
                <a:lnTo>
                  <a:pt x="568" y="1111"/>
                </a:lnTo>
                <a:lnTo>
                  <a:pt x="574" y="1113"/>
                </a:lnTo>
                <a:lnTo>
                  <a:pt x="581" y="1115"/>
                </a:lnTo>
                <a:lnTo>
                  <a:pt x="587" y="1117"/>
                </a:lnTo>
                <a:lnTo>
                  <a:pt x="594" y="1119"/>
                </a:lnTo>
                <a:lnTo>
                  <a:pt x="600" y="1121"/>
                </a:lnTo>
                <a:lnTo>
                  <a:pt x="608" y="1123"/>
                </a:lnTo>
                <a:lnTo>
                  <a:pt x="614" y="1125"/>
                </a:lnTo>
                <a:lnTo>
                  <a:pt x="621" y="1127"/>
                </a:lnTo>
                <a:lnTo>
                  <a:pt x="627" y="1129"/>
                </a:lnTo>
                <a:lnTo>
                  <a:pt x="634" y="1131"/>
                </a:lnTo>
                <a:lnTo>
                  <a:pt x="640" y="1133"/>
                </a:lnTo>
                <a:lnTo>
                  <a:pt x="647" y="1133"/>
                </a:lnTo>
                <a:lnTo>
                  <a:pt x="652" y="1135"/>
                </a:lnTo>
                <a:lnTo>
                  <a:pt x="658" y="1137"/>
                </a:lnTo>
                <a:lnTo>
                  <a:pt x="664" y="1139"/>
                </a:lnTo>
                <a:lnTo>
                  <a:pt x="672" y="1140"/>
                </a:lnTo>
                <a:lnTo>
                  <a:pt x="679" y="1141"/>
                </a:lnTo>
                <a:lnTo>
                  <a:pt x="687" y="1143"/>
                </a:lnTo>
                <a:lnTo>
                  <a:pt x="694" y="1145"/>
                </a:lnTo>
                <a:lnTo>
                  <a:pt x="703" y="1145"/>
                </a:lnTo>
                <a:lnTo>
                  <a:pt x="710" y="1147"/>
                </a:lnTo>
                <a:lnTo>
                  <a:pt x="718" y="1149"/>
                </a:lnTo>
                <a:lnTo>
                  <a:pt x="725" y="1151"/>
                </a:lnTo>
                <a:lnTo>
                  <a:pt x="732" y="1151"/>
                </a:lnTo>
                <a:lnTo>
                  <a:pt x="738" y="1153"/>
                </a:lnTo>
                <a:lnTo>
                  <a:pt x="745" y="1153"/>
                </a:lnTo>
                <a:lnTo>
                  <a:pt x="750" y="1154"/>
                </a:lnTo>
                <a:lnTo>
                  <a:pt x="756" y="1154"/>
                </a:lnTo>
                <a:lnTo>
                  <a:pt x="760" y="1156"/>
                </a:lnTo>
                <a:lnTo>
                  <a:pt x="766" y="1156"/>
                </a:lnTo>
                <a:lnTo>
                  <a:pt x="772" y="1157"/>
                </a:lnTo>
                <a:lnTo>
                  <a:pt x="779" y="1157"/>
                </a:lnTo>
                <a:lnTo>
                  <a:pt x="786" y="1159"/>
                </a:lnTo>
                <a:lnTo>
                  <a:pt x="794" y="1159"/>
                </a:lnTo>
                <a:lnTo>
                  <a:pt x="801" y="1159"/>
                </a:lnTo>
                <a:lnTo>
                  <a:pt x="809" y="1159"/>
                </a:lnTo>
                <a:lnTo>
                  <a:pt x="817" y="1161"/>
                </a:lnTo>
                <a:lnTo>
                  <a:pt x="824" y="1161"/>
                </a:lnTo>
                <a:lnTo>
                  <a:pt x="832" y="1161"/>
                </a:lnTo>
                <a:lnTo>
                  <a:pt x="840" y="1161"/>
                </a:lnTo>
                <a:lnTo>
                  <a:pt x="847" y="1162"/>
                </a:lnTo>
                <a:lnTo>
                  <a:pt x="854" y="1162"/>
                </a:lnTo>
                <a:lnTo>
                  <a:pt x="860" y="1162"/>
                </a:lnTo>
                <a:lnTo>
                  <a:pt x="868" y="1162"/>
                </a:lnTo>
                <a:lnTo>
                  <a:pt x="874" y="1164"/>
                </a:lnTo>
                <a:lnTo>
                  <a:pt x="880" y="1164"/>
                </a:lnTo>
                <a:lnTo>
                  <a:pt x="886" y="1164"/>
                </a:lnTo>
                <a:lnTo>
                  <a:pt x="894" y="1164"/>
                </a:lnTo>
                <a:lnTo>
                  <a:pt x="902" y="1164"/>
                </a:lnTo>
                <a:lnTo>
                  <a:pt x="909" y="1164"/>
                </a:lnTo>
                <a:lnTo>
                  <a:pt x="916" y="1164"/>
                </a:lnTo>
                <a:lnTo>
                  <a:pt x="925" y="1164"/>
                </a:lnTo>
                <a:lnTo>
                  <a:pt x="933" y="1165"/>
                </a:lnTo>
                <a:lnTo>
                  <a:pt x="940" y="1165"/>
                </a:lnTo>
                <a:lnTo>
                  <a:pt x="948" y="1165"/>
                </a:lnTo>
                <a:lnTo>
                  <a:pt x="955" y="1165"/>
                </a:lnTo>
                <a:lnTo>
                  <a:pt x="961" y="1165"/>
                </a:lnTo>
                <a:lnTo>
                  <a:pt x="968" y="1165"/>
                </a:lnTo>
                <a:lnTo>
                  <a:pt x="974" y="1165"/>
                </a:lnTo>
                <a:lnTo>
                  <a:pt x="980" y="1165"/>
                </a:lnTo>
                <a:lnTo>
                  <a:pt x="983" y="1165"/>
                </a:lnTo>
                <a:lnTo>
                  <a:pt x="986" y="1165"/>
                </a:lnTo>
                <a:lnTo>
                  <a:pt x="988" y="1165"/>
                </a:lnTo>
                <a:lnTo>
                  <a:pt x="991" y="1165"/>
                </a:lnTo>
                <a:lnTo>
                  <a:pt x="991" y="1165"/>
                </a:lnTo>
                <a:lnTo>
                  <a:pt x="993" y="1165"/>
                </a:lnTo>
                <a:lnTo>
                  <a:pt x="993" y="1165"/>
                </a:lnTo>
                <a:lnTo>
                  <a:pt x="995" y="1165"/>
                </a:lnTo>
                <a:lnTo>
                  <a:pt x="996" y="1165"/>
                </a:lnTo>
                <a:lnTo>
                  <a:pt x="998" y="1165"/>
                </a:lnTo>
                <a:lnTo>
                  <a:pt x="1000" y="1165"/>
                </a:lnTo>
                <a:lnTo>
                  <a:pt x="1004" y="1165"/>
                </a:lnTo>
                <a:lnTo>
                  <a:pt x="1008" y="1165"/>
                </a:lnTo>
                <a:lnTo>
                  <a:pt x="1013" y="1165"/>
                </a:lnTo>
                <a:lnTo>
                  <a:pt x="1020" y="1165"/>
                </a:lnTo>
                <a:lnTo>
                  <a:pt x="1030" y="1165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36720" y="3360600"/>
            <a:ext cx="2446560" cy="2792520"/>
          </a:xfrm>
          <a:custGeom>
            <a:avLst/>
            <a:gdLst/>
            <a:ahLst/>
            <a:rect l="l" t="t" r="r" b="b"/>
            <a:pathLst>
              <a:path w="1123" h="1277">
                <a:moveTo>
                  <a:pt x="0" y="0"/>
                </a:moveTo>
                <a:lnTo>
                  <a:pt x="0" y="12"/>
                </a:lnTo>
                <a:lnTo>
                  <a:pt x="0" y="20"/>
                </a:lnTo>
                <a:lnTo>
                  <a:pt x="0" y="27"/>
                </a:lnTo>
                <a:lnTo>
                  <a:pt x="2" y="32"/>
                </a:lnTo>
                <a:lnTo>
                  <a:pt x="2" y="36"/>
                </a:lnTo>
                <a:lnTo>
                  <a:pt x="2" y="39"/>
                </a:lnTo>
                <a:lnTo>
                  <a:pt x="2" y="41"/>
                </a:lnTo>
                <a:lnTo>
                  <a:pt x="4" y="42"/>
                </a:lnTo>
                <a:lnTo>
                  <a:pt x="4" y="44"/>
                </a:lnTo>
                <a:lnTo>
                  <a:pt x="4" y="45"/>
                </a:lnTo>
                <a:lnTo>
                  <a:pt x="4" y="47"/>
                </a:lnTo>
                <a:lnTo>
                  <a:pt x="4" y="48"/>
                </a:lnTo>
                <a:lnTo>
                  <a:pt x="4" y="50"/>
                </a:lnTo>
                <a:lnTo>
                  <a:pt x="4" y="53"/>
                </a:lnTo>
                <a:lnTo>
                  <a:pt x="4" y="57"/>
                </a:lnTo>
                <a:lnTo>
                  <a:pt x="6" y="61"/>
                </a:lnTo>
                <a:lnTo>
                  <a:pt x="6" y="68"/>
                </a:lnTo>
                <a:lnTo>
                  <a:pt x="8" y="76"/>
                </a:lnTo>
                <a:lnTo>
                  <a:pt x="9" y="87"/>
                </a:lnTo>
                <a:lnTo>
                  <a:pt x="10" y="98"/>
                </a:lnTo>
                <a:lnTo>
                  <a:pt x="12" y="111"/>
                </a:lnTo>
                <a:lnTo>
                  <a:pt x="15" y="124"/>
                </a:lnTo>
                <a:lnTo>
                  <a:pt x="17" y="139"/>
                </a:lnTo>
                <a:lnTo>
                  <a:pt x="20" y="153"/>
                </a:lnTo>
                <a:lnTo>
                  <a:pt x="22" y="170"/>
                </a:lnTo>
                <a:lnTo>
                  <a:pt x="26" y="186"/>
                </a:lnTo>
                <a:lnTo>
                  <a:pt x="29" y="203"/>
                </a:lnTo>
                <a:lnTo>
                  <a:pt x="33" y="219"/>
                </a:lnTo>
                <a:lnTo>
                  <a:pt x="37" y="236"/>
                </a:lnTo>
                <a:lnTo>
                  <a:pt x="40" y="252"/>
                </a:lnTo>
                <a:lnTo>
                  <a:pt x="44" y="268"/>
                </a:lnTo>
                <a:lnTo>
                  <a:pt x="48" y="282"/>
                </a:lnTo>
                <a:lnTo>
                  <a:pt x="51" y="299"/>
                </a:lnTo>
                <a:lnTo>
                  <a:pt x="55" y="315"/>
                </a:lnTo>
                <a:lnTo>
                  <a:pt x="58" y="332"/>
                </a:lnTo>
                <a:lnTo>
                  <a:pt x="63" y="349"/>
                </a:lnTo>
                <a:lnTo>
                  <a:pt x="67" y="368"/>
                </a:lnTo>
                <a:lnTo>
                  <a:pt x="72" y="385"/>
                </a:lnTo>
                <a:lnTo>
                  <a:pt x="76" y="402"/>
                </a:lnTo>
                <a:lnTo>
                  <a:pt x="82" y="418"/>
                </a:lnTo>
                <a:lnTo>
                  <a:pt x="86" y="435"/>
                </a:lnTo>
                <a:lnTo>
                  <a:pt x="90" y="452"/>
                </a:lnTo>
                <a:lnTo>
                  <a:pt x="94" y="466"/>
                </a:lnTo>
                <a:lnTo>
                  <a:pt x="100" y="480"/>
                </a:lnTo>
                <a:lnTo>
                  <a:pt x="104" y="494"/>
                </a:lnTo>
                <a:lnTo>
                  <a:pt x="108" y="505"/>
                </a:lnTo>
                <a:lnTo>
                  <a:pt x="112" y="515"/>
                </a:lnTo>
                <a:lnTo>
                  <a:pt x="115" y="523"/>
                </a:lnTo>
                <a:lnTo>
                  <a:pt x="118" y="532"/>
                </a:lnTo>
                <a:lnTo>
                  <a:pt x="122" y="542"/>
                </a:lnTo>
                <a:lnTo>
                  <a:pt x="125" y="552"/>
                </a:lnTo>
                <a:lnTo>
                  <a:pt x="130" y="562"/>
                </a:lnTo>
                <a:lnTo>
                  <a:pt x="134" y="574"/>
                </a:lnTo>
                <a:lnTo>
                  <a:pt x="140" y="586"/>
                </a:lnTo>
                <a:lnTo>
                  <a:pt x="145" y="600"/>
                </a:lnTo>
                <a:lnTo>
                  <a:pt x="151" y="611"/>
                </a:lnTo>
                <a:lnTo>
                  <a:pt x="155" y="625"/>
                </a:lnTo>
                <a:lnTo>
                  <a:pt x="161" y="638"/>
                </a:lnTo>
                <a:lnTo>
                  <a:pt x="166" y="651"/>
                </a:lnTo>
                <a:lnTo>
                  <a:pt x="172" y="664"/>
                </a:lnTo>
                <a:lnTo>
                  <a:pt x="176" y="677"/>
                </a:lnTo>
                <a:lnTo>
                  <a:pt x="182" y="688"/>
                </a:lnTo>
                <a:lnTo>
                  <a:pt x="186" y="699"/>
                </a:lnTo>
                <a:lnTo>
                  <a:pt x="192" y="709"/>
                </a:lnTo>
                <a:lnTo>
                  <a:pt x="196" y="720"/>
                </a:lnTo>
                <a:lnTo>
                  <a:pt x="201" y="730"/>
                </a:lnTo>
                <a:lnTo>
                  <a:pt x="205" y="742"/>
                </a:lnTo>
                <a:lnTo>
                  <a:pt x="211" y="754"/>
                </a:lnTo>
                <a:lnTo>
                  <a:pt x="216" y="767"/>
                </a:lnTo>
                <a:lnTo>
                  <a:pt x="222" y="778"/>
                </a:lnTo>
                <a:lnTo>
                  <a:pt x="227" y="792"/>
                </a:lnTo>
                <a:lnTo>
                  <a:pt x="233" y="803"/>
                </a:lnTo>
                <a:lnTo>
                  <a:pt x="236" y="816"/>
                </a:lnTo>
                <a:lnTo>
                  <a:pt x="242" y="827"/>
                </a:lnTo>
                <a:lnTo>
                  <a:pt x="247" y="838"/>
                </a:lnTo>
                <a:lnTo>
                  <a:pt x="253" y="848"/>
                </a:lnTo>
                <a:lnTo>
                  <a:pt x="256" y="859"/>
                </a:lnTo>
                <a:lnTo>
                  <a:pt x="261" y="868"/>
                </a:lnTo>
                <a:lnTo>
                  <a:pt x="264" y="876"/>
                </a:lnTo>
                <a:lnTo>
                  <a:pt x="269" y="882"/>
                </a:lnTo>
                <a:lnTo>
                  <a:pt x="271" y="890"/>
                </a:lnTo>
                <a:lnTo>
                  <a:pt x="275" y="897"/>
                </a:lnTo>
                <a:lnTo>
                  <a:pt x="279" y="906"/>
                </a:lnTo>
                <a:lnTo>
                  <a:pt x="284" y="913"/>
                </a:lnTo>
                <a:lnTo>
                  <a:pt x="290" y="923"/>
                </a:lnTo>
                <a:lnTo>
                  <a:pt x="295" y="932"/>
                </a:lnTo>
                <a:lnTo>
                  <a:pt x="301" y="941"/>
                </a:lnTo>
                <a:lnTo>
                  <a:pt x="308" y="950"/>
                </a:lnTo>
                <a:lnTo>
                  <a:pt x="313" y="960"/>
                </a:lnTo>
                <a:lnTo>
                  <a:pt x="319" y="969"/>
                </a:lnTo>
                <a:lnTo>
                  <a:pt x="324" y="978"/>
                </a:lnTo>
                <a:lnTo>
                  <a:pt x="332" y="987"/>
                </a:lnTo>
                <a:lnTo>
                  <a:pt x="338" y="996"/>
                </a:lnTo>
                <a:lnTo>
                  <a:pt x="344" y="1004"/>
                </a:lnTo>
                <a:lnTo>
                  <a:pt x="349" y="1011"/>
                </a:lnTo>
                <a:lnTo>
                  <a:pt x="356" y="1017"/>
                </a:lnTo>
                <a:lnTo>
                  <a:pt x="360" y="1024"/>
                </a:lnTo>
                <a:lnTo>
                  <a:pt x="366" y="1031"/>
                </a:lnTo>
                <a:lnTo>
                  <a:pt x="372" y="1039"/>
                </a:lnTo>
                <a:lnTo>
                  <a:pt x="380" y="1046"/>
                </a:lnTo>
                <a:lnTo>
                  <a:pt x="387" y="1054"/>
                </a:lnTo>
                <a:lnTo>
                  <a:pt x="394" y="1061"/>
                </a:lnTo>
                <a:lnTo>
                  <a:pt x="402" y="1069"/>
                </a:lnTo>
                <a:lnTo>
                  <a:pt x="410" y="1076"/>
                </a:lnTo>
                <a:lnTo>
                  <a:pt x="417" y="1084"/>
                </a:lnTo>
                <a:lnTo>
                  <a:pt x="424" y="1091"/>
                </a:lnTo>
                <a:lnTo>
                  <a:pt x="432" y="1099"/>
                </a:lnTo>
                <a:lnTo>
                  <a:pt x="439" y="1105"/>
                </a:lnTo>
                <a:lnTo>
                  <a:pt x="446" y="1111"/>
                </a:lnTo>
                <a:lnTo>
                  <a:pt x="453" y="1117"/>
                </a:lnTo>
                <a:lnTo>
                  <a:pt x="458" y="1122"/>
                </a:lnTo>
                <a:lnTo>
                  <a:pt x="465" y="1126"/>
                </a:lnTo>
                <a:lnTo>
                  <a:pt x="468" y="1131"/>
                </a:lnTo>
                <a:lnTo>
                  <a:pt x="474" y="1135"/>
                </a:lnTo>
                <a:lnTo>
                  <a:pt x="480" y="1139"/>
                </a:lnTo>
                <a:lnTo>
                  <a:pt x="485" y="1142"/>
                </a:lnTo>
                <a:lnTo>
                  <a:pt x="490" y="1147"/>
                </a:lnTo>
                <a:lnTo>
                  <a:pt x="496" y="1151"/>
                </a:lnTo>
                <a:lnTo>
                  <a:pt x="502" y="1155"/>
                </a:lnTo>
                <a:lnTo>
                  <a:pt x="507" y="1159"/>
                </a:lnTo>
                <a:lnTo>
                  <a:pt x="511" y="1162"/>
                </a:lnTo>
                <a:lnTo>
                  <a:pt x="516" y="1166"/>
                </a:lnTo>
                <a:lnTo>
                  <a:pt x="520" y="1170"/>
                </a:lnTo>
                <a:lnTo>
                  <a:pt x="526" y="1172"/>
                </a:lnTo>
                <a:lnTo>
                  <a:pt x="529" y="1176"/>
                </a:lnTo>
                <a:lnTo>
                  <a:pt x="533" y="1178"/>
                </a:lnTo>
                <a:lnTo>
                  <a:pt x="535" y="1180"/>
                </a:lnTo>
                <a:lnTo>
                  <a:pt x="538" y="1180"/>
                </a:lnTo>
                <a:lnTo>
                  <a:pt x="540" y="1182"/>
                </a:lnTo>
                <a:lnTo>
                  <a:pt x="542" y="1184"/>
                </a:lnTo>
                <a:lnTo>
                  <a:pt x="545" y="1186"/>
                </a:lnTo>
                <a:lnTo>
                  <a:pt x="548" y="1187"/>
                </a:lnTo>
                <a:lnTo>
                  <a:pt x="552" y="1188"/>
                </a:lnTo>
                <a:lnTo>
                  <a:pt x="555" y="1190"/>
                </a:lnTo>
                <a:lnTo>
                  <a:pt x="559" y="1192"/>
                </a:lnTo>
                <a:lnTo>
                  <a:pt x="564" y="1194"/>
                </a:lnTo>
                <a:lnTo>
                  <a:pt x="568" y="1197"/>
                </a:lnTo>
                <a:lnTo>
                  <a:pt x="572" y="1199"/>
                </a:lnTo>
                <a:lnTo>
                  <a:pt x="576" y="1201"/>
                </a:lnTo>
                <a:lnTo>
                  <a:pt x="582" y="1203"/>
                </a:lnTo>
                <a:lnTo>
                  <a:pt x="585" y="1205"/>
                </a:lnTo>
                <a:lnTo>
                  <a:pt x="590" y="1207"/>
                </a:lnTo>
                <a:lnTo>
                  <a:pt x="594" y="1208"/>
                </a:lnTo>
                <a:lnTo>
                  <a:pt x="600" y="1209"/>
                </a:lnTo>
                <a:lnTo>
                  <a:pt x="603" y="1212"/>
                </a:lnTo>
                <a:lnTo>
                  <a:pt x="608" y="1214"/>
                </a:lnTo>
                <a:lnTo>
                  <a:pt x="613" y="1215"/>
                </a:lnTo>
                <a:lnTo>
                  <a:pt x="620" y="1217"/>
                </a:lnTo>
                <a:lnTo>
                  <a:pt x="625" y="1220"/>
                </a:lnTo>
                <a:lnTo>
                  <a:pt x="633" y="1222"/>
                </a:lnTo>
                <a:lnTo>
                  <a:pt x="640" y="1224"/>
                </a:lnTo>
                <a:lnTo>
                  <a:pt x="648" y="1226"/>
                </a:lnTo>
                <a:lnTo>
                  <a:pt x="655" y="1229"/>
                </a:lnTo>
                <a:lnTo>
                  <a:pt x="663" y="1231"/>
                </a:lnTo>
                <a:lnTo>
                  <a:pt x="670" y="1233"/>
                </a:lnTo>
                <a:lnTo>
                  <a:pt x="678" y="1235"/>
                </a:lnTo>
                <a:lnTo>
                  <a:pt x="684" y="1237"/>
                </a:lnTo>
                <a:lnTo>
                  <a:pt x="692" y="1238"/>
                </a:lnTo>
                <a:lnTo>
                  <a:pt x="698" y="1240"/>
                </a:lnTo>
                <a:lnTo>
                  <a:pt x="706" y="1242"/>
                </a:lnTo>
                <a:lnTo>
                  <a:pt x="711" y="1244"/>
                </a:lnTo>
                <a:lnTo>
                  <a:pt x="718" y="1245"/>
                </a:lnTo>
                <a:lnTo>
                  <a:pt x="725" y="1247"/>
                </a:lnTo>
                <a:lnTo>
                  <a:pt x="733" y="1248"/>
                </a:lnTo>
                <a:lnTo>
                  <a:pt x="741" y="1250"/>
                </a:lnTo>
                <a:lnTo>
                  <a:pt x="749" y="1252"/>
                </a:lnTo>
                <a:lnTo>
                  <a:pt x="757" y="1254"/>
                </a:lnTo>
                <a:lnTo>
                  <a:pt x="766" y="1255"/>
                </a:lnTo>
                <a:lnTo>
                  <a:pt x="774" y="1256"/>
                </a:lnTo>
                <a:lnTo>
                  <a:pt x="782" y="1258"/>
                </a:lnTo>
                <a:lnTo>
                  <a:pt x="789" y="1260"/>
                </a:lnTo>
                <a:lnTo>
                  <a:pt x="798" y="1260"/>
                </a:lnTo>
                <a:lnTo>
                  <a:pt x="804" y="1262"/>
                </a:lnTo>
                <a:lnTo>
                  <a:pt x="812" y="1263"/>
                </a:lnTo>
                <a:lnTo>
                  <a:pt x="817" y="1264"/>
                </a:lnTo>
                <a:lnTo>
                  <a:pt x="824" y="1264"/>
                </a:lnTo>
                <a:lnTo>
                  <a:pt x="829" y="1266"/>
                </a:lnTo>
                <a:lnTo>
                  <a:pt x="836" y="1266"/>
                </a:lnTo>
                <a:lnTo>
                  <a:pt x="842" y="1267"/>
                </a:lnTo>
                <a:lnTo>
                  <a:pt x="850" y="1267"/>
                </a:lnTo>
                <a:lnTo>
                  <a:pt x="857" y="1269"/>
                </a:lnTo>
                <a:lnTo>
                  <a:pt x="866" y="1269"/>
                </a:lnTo>
                <a:lnTo>
                  <a:pt x="874" y="1269"/>
                </a:lnTo>
                <a:lnTo>
                  <a:pt x="883" y="1269"/>
                </a:lnTo>
                <a:lnTo>
                  <a:pt x="890" y="1271"/>
                </a:lnTo>
                <a:lnTo>
                  <a:pt x="900" y="1271"/>
                </a:lnTo>
                <a:lnTo>
                  <a:pt x="907" y="1272"/>
                </a:lnTo>
                <a:lnTo>
                  <a:pt x="916" y="1272"/>
                </a:lnTo>
                <a:lnTo>
                  <a:pt x="924" y="1274"/>
                </a:lnTo>
                <a:lnTo>
                  <a:pt x="932" y="1274"/>
                </a:lnTo>
                <a:lnTo>
                  <a:pt x="939" y="1274"/>
                </a:lnTo>
                <a:lnTo>
                  <a:pt x="946" y="1274"/>
                </a:lnTo>
                <a:lnTo>
                  <a:pt x="952" y="1275"/>
                </a:lnTo>
                <a:lnTo>
                  <a:pt x="960" y="1275"/>
                </a:lnTo>
                <a:lnTo>
                  <a:pt x="967" y="1275"/>
                </a:lnTo>
                <a:lnTo>
                  <a:pt x="975" y="1275"/>
                </a:lnTo>
                <a:lnTo>
                  <a:pt x="983" y="1276"/>
                </a:lnTo>
                <a:lnTo>
                  <a:pt x="992" y="1276"/>
                </a:lnTo>
                <a:lnTo>
                  <a:pt x="1000" y="1276"/>
                </a:lnTo>
                <a:lnTo>
                  <a:pt x="1009" y="1276"/>
                </a:lnTo>
                <a:lnTo>
                  <a:pt x="1016" y="1276"/>
                </a:lnTo>
                <a:lnTo>
                  <a:pt x="1025" y="1276"/>
                </a:lnTo>
                <a:lnTo>
                  <a:pt x="1033" y="1276"/>
                </a:lnTo>
                <a:lnTo>
                  <a:pt x="1041" y="1276"/>
                </a:lnTo>
                <a:lnTo>
                  <a:pt x="1048" y="1276"/>
                </a:lnTo>
                <a:lnTo>
                  <a:pt x="1056" y="1276"/>
                </a:lnTo>
                <a:lnTo>
                  <a:pt x="1061" y="1276"/>
                </a:lnTo>
                <a:lnTo>
                  <a:pt x="1068" y="1276"/>
                </a:lnTo>
                <a:lnTo>
                  <a:pt x="1071" y="1276"/>
                </a:lnTo>
                <a:lnTo>
                  <a:pt x="1075" y="1276"/>
                </a:lnTo>
                <a:lnTo>
                  <a:pt x="1077" y="1276"/>
                </a:lnTo>
                <a:lnTo>
                  <a:pt x="1080" y="1276"/>
                </a:lnTo>
                <a:lnTo>
                  <a:pt x="1080" y="1276"/>
                </a:lnTo>
                <a:lnTo>
                  <a:pt x="1082" y="1276"/>
                </a:lnTo>
                <a:lnTo>
                  <a:pt x="1082" y="1276"/>
                </a:lnTo>
                <a:lnTo>
                  <a:pt x="1084" y="1276"/>
                </a:lnTo>
                <a:lnTo>
                  <a:pt x="1086" y="1276"/>
                </a:lnTo>
                <a:lnTo>
                  <a:pt x="1088" y="1276"/>
                </a:lnTo>
                <a:lnTo>
                  <a:pt x="1090" y="1276"/>
                </a:lnTo>
                <a:lnTo>
                  <a:pt x="1094" y="1276"/>
                </a:lnTo>
                <a:lnTo>
                  <a:pt x="1099" y="1276"/>
                </a:lnTo>
                <a:lnTo>
                  <a:pt x="1105" y="1276"/>
                </a:lnTo>
                <a:lnTo>
                  <a:pt x="1112" y="1276"/>
                </a:lnTo>
                <a:lnTo>
                  <a:pt x="1122" y="1276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75000" y="3040200"/>
            <a:ext cx="1963800" cy="2232000"/>
          </a:xfrm>
          <a:custGeom>
            <a:avLst/>
            <a:gdLst/>
            <a:ahLst/>
            <a:rect l="l" t="t" r="r" b="b"/>
            <a:pathLst>
              <a:path w="901" h="1020">
                <a:moveTo>
                  <a:pt x="0" y="0"/>
                </a:moveTo>
                <a:lnTo>
                  <a:pt x="0" y="9"/>
                </a:lnTo>
                <a:lnTo>
                  <a:pt x="1" y="16"/>
                </a:lnTo>
                <a:lnTo>
                  <a:pt x="1" y="22"/>
                </a:lnTo>
                <a:lnTo>
                  <a:pt x="2" y="26"/>
                </a:lnTo>
                <a:lnTo>
                  <a:pt x="2" y="29"/>
                </a:lnTo>
                <a:lnTo>
                  <a:pt x="2" y="32"/>
                </a:lnTo>
                <a:lnTo>
                  <a:pt x="2" y="34"/>
                </a:lnTo>
                <a:lnTo>
                  <a:pt x="3" y="34"/>
                </a:lnTo>
                <a:lnTo>
                  <a:pt x="3" y="36"/>
                </a:lnTo>
                <a:lnTo>
                  <a:pt x="3" y="36"/>
                </a:lnTo>
                <a:lnTo>
                  <a:pt x="3" y="38"/>
                </a:lnTo>
                <a:lnTo>
                  <a:pt x="3" y="38"/>
                </a:lnTo>
                <a:lnTo>
                  <a:pt x="3" y="40"/>
                </a:lnTo>
                <a:lnTo>
                  <a:pt x="3" y="42"/>
                </a:lnTo>
                <a:lnTo>
                  <a:pt x="3" y="46"/>
                </a:lnTo>
                <a:lnTo>
                  <a:pt x="5" y="49"/>
                </a:lnTo>
                <a:lnTo>
                  <a:pt x="5" y="55"/>
                </a:lnTo>
                <a:lnTo>
                  <a:pt x="7" y="62"/>
                </a:lnTo>
                <a:lnTo>
                  <a:pt x="7" y="70"/>
                </a:lnTo>
                <a:lnTo>
                  <a:pt x="9" y="78"/>
                </a:lnTo>
                <a:lnTo>
                  <a:pt x="10" y="89"/>
                </a:lnTo>
                <a:lnTo>
                  <a:pt x="12" y="99"/>
                </a:lnTo>
                <a:lnTo>
                  <a:pt x="14" y="112"/>
                </a:lnTo>
                <a:lnTo>
                  <a:pt x="17" y="123"/>
                </a:lnTo>
                <a:lnTo>
                  <a:pt x="19" y="136"/>
                </a:lnTo>
                <a:lnTo>
                  <a:pt x="21" y="149"/>
                </a:lnTo>
                <a:lnTo>
                  <a:pt x="23" y="162"/>
                </a:lnTo>
                <a:lnTo>
                  <a:pt x="27" y="175"/>
                </a:lnTo>
                <a:lnTo>
                  <a:pt x="29" y="188"/>
                </a:lnTo>
                <a:lnTo>
                  <a:pt x="33" y="201"/>
                </a:lnTo>
                <a:lnTo>
                  <a:pt x="35" y="214"/>
                </a:lnTo>
                <a:lnTo>
                  <a:pt x="39" y="226"/>
                </a:lnTo>
                <a:lnTo>
                  <a:pt x="41" y="239"/>
                </a:lnTo>
                <a:lnTo>
                  <a:pt x="44" y="252"/>
                </a:lnTo>
                <a:lnTo>
                  <a:pt x="47" y="266"/>
                </a:lnTo>
                <a:lnTo>
                  <a:pt x="51" y="279"/>
                </a:lnTo>
                <a:lnTo>
                  <a:pt x="55" y="294"/>
                </a:lnTo>
                <a:lnTo>
                  <a:pt x="58" y="307"/>
                </a:lnTo>
                <a:lnTo>
                  <a:pt x="62" y="320"/>
                </a:lnTo>
                <a:lnTo>
                  <a:pt x="66" y="334"/>
                </a:lnTo>
                <a:lnTo>
                  <a:pt x="69" y="347"/>
                </a:lnTo>
                <a:lnTo>
                  <a:pt x="73" y="360"/>
                </a:lnTo>
                <a:lnTo>
                  <a:pt x="76" y="372"/>
                </a:lnTo>
                <a:lnTo>
                  <a:pt x="80" y="383"/>
                </a:lnTo>
                <a:lnTo>
                  <a:pt x="82" y="394"/>
                </a:lnTo>
                <a:lnTo>
                  <a:pt x="86" y="403"/>
                </a:lnTo>
                <a:lnTo>
                  <a:pt x="89" y="411"/>
                </a:lnTo>
                <a:lnTo>
                  <a:pt x="93" y="417"/>
                </a:lnTo>
                <a:lnTo>
                  <a:pt x="95" y="425"/>
                </a:lnTo>
                <a:lnTo>
                  <a:pt x="97" y="432"/>
                </a:lnTo>
                <a:lnTo>
                  <a:pt x="101" y="440"/>
                </a:lnTo>
                <a:lnTo>
                  <a:pt x="105" y="448"/>
                </a:lnTo>
                <a:lnTo>
                  <a:pt x="108" y="458"/>
                </a:lnTo>
                <a:lnTo>
                  <a:pt x="112" y="468"/>
                </a:lnTo>
                <a:lnTo>
                  <a:pt x="116" y="478"/>
                </a:lnTo>
                <a:lnTo>
                  <a:pt x="121" y="488"/>
                </a:lnTo>
                <a:lnTo>
                  <a:pt x="124" y="499"/>
                </a:lnTo>
                <a:lnTo>
                  <a:pt x="129" y="509"/>
                </a:lnTo>
                <a:lnTo>
                  <a:pt x="133" y="520"/>
                </a:lnTo>
                <a:lnTo>
                  <a:pt x="138" y="530"/>
                </a:lnTo>
                <a:lnTo>
                  <a:pt x="142" y="540"/>
                </a:lnTo>
                <a:lnTo>
                  <a:pt x="145" y="549"/>
                </a:lnTo>
                <a:lnTo>
                  <a:pt x="149" y="558"/>
                </a:lnTo>
                <a:lnTo>
                  <a:pt x="154" y="566"/>
                </a:lnTo>
                <a:lnTo>
                  <a:pt x="157" y="575"/>
                </a:lnTo>
                <a:lnTo>
                  <a:pt x="161" y="583"/>
                </a:lnTo>
                <a:lnTo>
                  <a:pt x="165" y="593"/>
                </a:lnTo>
                <a:lnTo>
                  <a:pt x="169" y="602"/>
                </a:lnTo>
                <a:lnTo>
                  <a:pt x="173" y="613"/>
                </a:lnTo>
                <a:lnTo>
                  <a:pt x="177" y="622"/>
                </a:lnTo>
                <a:lnTo>
                  <a:pt x="181" y="632"/>
                </a:lnTo>
                <a:lnTo>
                  <a:pt x="186" y="641"/>
                </a:lnTo>
                <a:lnTo>
                  <a:pt x="190" y="651"/>
                </a:lnTo>
                <a:lnTo>
                  <a:pt x="194" y="661"/>
                </a:lnTo>
                <a:lnTo>
                  <a:pt x="197" y="670"/>
                </a:lnTo>
                <a:lnTo>
                  <a:pt x="202" y="678"/>
                </a:lnTo>
                <a:lnTo>
                  <a:pt x="205" y="686"/>
                </a:lnTo>
                <a:lnTo>
                  <a:pt x="209" y="692"/>
                </a:lnTo>
                <a:lnTo>
                  <a:pt x="212" y="699"/>
                </a:lnTo>
                <a:lnTo>
                  <a:pt x="216" y="704"/>
                </a:lnTo>
                <a:lnTo>
                  <a:pt x="218" y="710"/>
                </a:lnTo>
                <a:lnTo>
                  <a:pt x="221" y="716"/>
                </a:lnTo>
                <a:lnTo>
                  <a:pt x="225" y="723"/>
                </a:lnTo>
                <a:lnTo>
                  <a:pt x="229" y="729"/>
                </a:lnTo>
                <a:lnTo>
                  <a:pt x="232" y="736"/>
                </a:lnTo>
                <a:lnTo>
                  <a:pt x="237" y="744"/>
                </a:lnTo>
                <a:lnTo>
                  <a:pt x="241" y="751"/>
                </a:lnTo>
                <a:lnTo>
                  <a:pt x="247" y="758"/>
                </a:lnTo>
                <a:lnTo>
                  <a:pt x="251" y="766"/>
                </a:lnTo>
                <a:lnTo>
                  <a:pt x="256" y="773"/>
                </a:lnTo>
                <a:lnTo>
                  <a:pt x="261" y="780"/>
                </a:lnTo>
                <a:lnTo>
                  <a:pt x="266" y="787"/>
                </a:lnTo>
                <a:lnTo>
                  <a:pt x="270" y="795"/>
                </a:lnTo>
                <a:lnTo>
                  <a:pt x="275" y="801"/>
                </a:lnTo>
                <a:lnTo>
                  <a:pt x="280" y="807"/>
                </a:lnTo>
                <a:lnTo>
                  <a:pt x="285" y="812"/>
                </a:lnTo>
                <a:lnTo>
                  <a:pt x="289" y="817"/>
                </a:lnTo>
                <a:lnTo>
                  <a:pt x="293" y="823"/>
                </a:lnTo>
                <a:lnTo>
                  <a:pt x="299" y="828"/>
                </a:lnTo>
                <a:lnTo>
                  <a:pt x="305" y="834"/>
                </a:lnTo>
                <a:lnTo>
                  <a:pt x="310" y="842"/>
                </a:lnTo>
                <a:lnTo>
                  <a:pt x="316" y="847"/>
                </a:lnTo>
                <a:lnTo>
                  <a:pt x="321" y="854"/>
                </a:lnTo>
                <a:lnTo>
                  <a:pt x="329" y="859"/>
                </a:lnTo>
                <a:lnTo>
                  <a:pt x="334" y="866"/>
                </a:lnTo>
                <a:lnTo>
                  <a:pt x="340" y="872"/>
                </a:lnTo>
                <a:lnTo>
                  <a:pt x="345" y="877"/>
                </a:lnTo>
                <a:lnTo>
                  <a:pt x="352" y="882"/>
                </a:lnTo>
                <a:lnTo>
                  <a:pt x="357" y="888"/>
                </a:lnTo>
                <a:lnTo>
                  <a:pt x="363" y="892"/>
                </a:lnTo>
                <a:lnTo>
                  <a:pt x="367" y="896"/>
                </a:lnTo>
                <a:lnTo>
                  <a:pt x="373" y="899"/>
                </a:lnTo>
                <a:lnTo>
                  <a:pt x="377" y="903"/>
                </a:lnTo>
                <a:lnTo>
                  <a:pt x="380" y="906"/>
                </a:lnTo>
                <a:lnTo>
                  <a:pt x="384" y="910"/>
                </a:lnTo>
                <a:lnTo>
                  <a:pt x="389" y="913"/>
                </a:lnTo>
                <a:lnTo>
                  <a:pt x="393" y="916"/>
                </a:lnTo>
                <a:lnTo>
                  <a:pt x="398" y="920"/>
                </a:lnTo>
                <a:lnTo>
                  <a:pt x="401" y="923"/>
                </a:lnTo>
                <a:lnTo>
                  <a:pt x="407" y="925"/>
                </a:lnTo>
                <a:lnTo>
                  <a:pt x="411" y="929"/>
                </a:lnTo>
                <a:lnTo>
                  <a:pt x="415" y="932"/>
                </a:lnTo>
                <a:lnTo>
                  <a:pt x="418" y="934"/>
                </a:lnTo>
                <a:lnTo>
                  <a:pt x="421" y="936"/>
                </a:lnTo>
                <a:lnTo>
                  <a:pt x="423" y="939"/>
                </a:lnTo>
                <a:lnTo>
                  <a:pt x="427" y="941"/>
                </a:lnTo>
                <a:lnTo>
                  <a:pt x="429" y="943"/>
                </a:lnTo>
                <a:lnTo>
                  <a:pt x="432" y="943"/>
                </a:lnTo>
                <a:lnTo>
                  <a:pt x="433" y="944"/>
                </a:lnTo>
                <a:lnTo>
                  <a:pt x="435" y="946"/>
                </a:lnTo>
                <a:lnTo>
                  <a:pt x="437" y="948"/>
                </a:lnTo>
                <a:lnTo>
                  <a:pt x="439" y="948"/>
                </a:lnTo>
                <a:lnTo>
                  <a:pt x="441" y="950"/>
                </a:lnTo>
                <a:lnTo>
                  <a:pt x="445" y="952"/>
                </a:lnTo>
                <a:lnTo>
                  <a:pt x="448" y="954"/>
                </a:lnTo>
                <a:lnTo>
                  <a:pt x="452" y="954"/>
                </a:lnTo>
                <a:lnTo>
                  <a:pt x="455" y="956"/>
                </a:lnTo>
                <a:lnTo>
                  <a:pt x="459" y="958"/>
                </a:lnTo>
                <a:lnTo>
                  <a:pt x="463" y="960"/>
                </a:lnTo>
                <a:lnTo>
                  <a:pt x="466" y="961"/>
                </a:lnTo>
                <a:lnTo>
                  <a:pt x="469" y="963"/>
                </a:lnTo>
                <a:lnTo>
                  <a:pt x="473" y="964"/>
                </a:lnTo>
                <a:lnTo>
                  <a:pt x="477" y="966"/>
                </a:lnTo>
                <a:lnTo>
                  <a:pt x="481" y="966"/>
                </a:lnTo>
                <a:lnTo>
                  <a:pt x="483" y="968"/>
                </a:lnTo>
                <a:lnTo>
                  <a:pt x="487" y="970"/>
                </a:lnTo>
                <a:lnTo>
                  <a:pt x="491" y="971"/>
                </a:lnTo>
                <a:lnTo>
                  <a:pt x="497" y="972"/>
                </a:lnTo>
                <a:lnTo>
                  <a:pt x="502" y="974"/>
                </a:lnTo>
                <a:lnTo>
                  <a:pt x="507" y="976"/>
                </a:lnTo>
                <a:lnTo>
                  <a:pt x="513" y="978"/>
                </a:lnTo>
                <a:lnTo>
                  <a:pt x="519" y="979"/>
                </a:lnTo>
                <a:lnTo>
                  <a:pt x="525" y="981"/>
                </a:lnTo>
                <a:lnTo>
                  <a:pt x="531" y="983"/>
                </a:lnTo>
                <a:lnTo>
                  <a:pt x="536" y="984"/>
                </a:lnTo>
                <a:lnTo>
                  <a:pt x="543" y="986"/>
                </a:lnTo>
                <a:lnTo>
                  <a:pt x="549" y="988"/>
                </a:lnTo>
                <a:lnTo>
                  <a:pt x="554" y="989"/>
                </a:lnTo>
                <a:lnTo>
                  <a:pt x="560" y="991"/>
                </a:lnTo>
                <a:lnTo>
                  <a:pt x="565" y="991"/>
                </a:lnTo>
                <a:lnTo>
                  <a:pt x="570" y="993"/>
                </a:lnTo>
                <a:lnTo>
                  <a:pt x="575" y="994"/>
                </a:lnTo>
                <a:lnTo>
                  <a:pt x="581" y="996"/>
                </a:lnTo>
                <a:lnTo>
                  <a:pt x="587" y="996"/>
                </a:lnTo>
                <a:lnTo>
                  <a:pt x="593" y="998"/>
                </a:lnTo>
                <a:lnTo>
                  <a:pt x="600" y="1000"/>
                </a:lnTo>
                <a:lnTo>
                  <a:pt x="607" y="1001"/>
                </a:lnTo>
                <a:lnTo>
                  <a:pt x="614" y="1001"/>
                </a:lnTo>
                <a:lnTo>
                  <a:pt x="620" y="1003"/>
                </a:lnTo>
                <a:lnTo>
                  <a:pt x="627" y="1004"/>
                </a:lnTo>
                <a:lnTo>
                  <a:pt x="632" y="1006"/>
                </a:lnTo>
                <a:lnTo>
                  <a:pt x="640" y="1006"/>
                </a:lnTo>
                <a:lnTo>
                  <a:pt x="645" y="1008"/>
                </a:lnTo>
                <a:lnTo>
                  <a:pt x="651" y="1008"/>
                </a:lnTo>
                <a:lnTo>
                  <a:pt x="655" y="1008"/>
                </a:lnTo>
                <a:lnTo>
                  <a:pt x="661" y="1008"/>
                </a:lnTo>
                <a:lnTo>
                  <a:pt x="665" y="1010"/>
                </a:lnTo>
                <a:lnTo>
                  <a:pt x="669" y="1010"/>
                </a:lnTo>
                <a:lnTo>
                  <a:pt x="675" y="1011"/>
                </a:lnTo>
                <a:lnTo>
                  <a:pt x="681" y="1011"/>
                </a:lnTo>
                <a:lnTo>
                  <a:pt x="687" y="1013"/>
                </a:lnTo>
                <a:lnTo>
                  <a:pt x="693" y="1013"/>
                </a:lnTo>
                <a:lnTo>
                  <a:pt x="700" y="1013"/>
                </a:lnTo>
                <a:lnTo>
                  <a:pt x="707" y="1013"/>
                </a:lnTo>
                <a:lnTo>
                  <a:pt x="713" y="1015"/>
                </a:lnTo>
                <a:lnTo>
                  <a:pt x="720" y="1015"/>
                </a:lnTo>
                <a:lnTo>
                  <a:pt x="727" y="1015"/>
                </a:lnTo>
                <a:lnTo>
                  <a:pt x="735" y="1015"/>
                </a:lnTo>
                <a:lnTo>
                  <a:pt x="740" y="1016"/>
                </a:lnTo>
                <a:lnTo>
                  <a:pt x="747" y="1016"/>
                </a:lnTo>
                <a:lnTo>
                  <a:pt x="752" y="1016"/>
                </a:lnTo>
                <a:lnTo>
                  <a:pt x="758" y="1016"/>
                </a:lnTo>
                <a:lnTo>
                  <a:pt x="763" y="1018"/>
                </a:lnTo>
                <a:lnTo>
                  <a:pt x="768" y="1018"/>
                </a:lnTo>
                <a:lnTo>
                  <a:pt x="774" y="1018"/>
                </a:lnTo>
                <a:lnTo>
                  <a:pt x="781" y="1018"/>
                </a:lnTo>
                <a:lnTo>
                  <a:pt x="787" y="1018"/>
                </a:lnTo>
                <a:lnTo>
                  <a:pt x="794" y="1018"/>
                </a:lnTo>
                <a:lnTo>
                  <a:pt x="801" y="1018"/>
                </a:lnTo>
                <a:lnTo>
                  <a:pt x="808" y="1018"/>
                </a:lnTo>
                <a:lnTo>
                  <a:pt x="814" y="1019"/>
                </a:lnTo>
                <a:lnTo>
                  <a:pt x="821" y="1019"/>
                </a:lnTo>
                <a:lnTo>
                  <a:pt x="827" y="1019"/>
                </a:lnTo>
                <a:lnTo>
                  <a:pt x="835" y="1019"/>
                </a:lnTo>
                <a:lnTo>
                  <a:pt x="840" y="1019"/>
                </a:lnTo>
                <a:lnTo>
                  <a:pt x="846" y="1019"/>
                </a:lnTo>
                <a:lnTo>
                  <a:pt x="851" y="1019"/>
                </a:lnTo>
                <a:lnTo>
                  <a:pt x="856" y="1019"/>
                </a:lnTo>
                <a:lnTo>
                  <a:pt x="859" y="1019"/>
                </a:lnTo>
                <a:lnTo>
                  <a:pt x="862" y="1019"/>
                </a:lnTo>
                <a:lnTo>
                  <a:pt x="864" y="1019"/>
                </a:lnTo>
                <a:lnTo>
                  <a:pt x="866" y="1019"/>
                </a:lnTo>
                <a:lnTo>
                  <a:pt x="866" y="1019"/>
                </a:lnTo>
                <a:lnTo>
                  <a:pt x="867" y="1019"/>
                </a:lnTo>
                <a:lnTo>
                  <a:pt x="867" y="1019"/>
                </a:lnTo>
                <a:lnTo>
                  <a:pt x="869" y="1019"/>
                </a:lnTo>
                <a:lnTo>
                  <a:pt x="869" y="1019"/>
                </a:lnTo>
                <a:lnTo>
                  <a:pt x="871" y="1019"/>
                </a:lnTo>
                <a:lnTo>
                  <a:pt x="873" y="1019"/>
                </a:lnTo>
                <a:lnTo>
                  <a:pt x="877" y="1019"/>
                </a:lnTo>
                <a:lnTo>
                  <a:pt x="881" y="1019"/>
                </a:lnTo>
                <a:lnTo>
                  <a:pt x="886" y="1019"/>
                </a:lnTo>
                <a:lnTo>
                  <a:pt x="892" y="1019"/>
                </a:lnTo>
                <a:lnTo>
                  <a:pt x="900" y="1019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76400" y="4489560"/>
            <a:ext cx="2017800" cy="1716120"/>
          </a:xfrm>
          <a:prstGeom prst="line">
            <a:avLst/>
          </a:prstGeom>
          <a:ln w="4752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16040" y="1884240"/>
            <a:ext cx="2016000" cy="1714680"/>
          </a:xfrm>
          <a:prstGeom prst="line">
            <a:avLst/>
          </a:prstGeom>
          <a:ln w="442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1395360"/>
            <a:ext cx="4130640" cy="5388120"/>
          </a:xfrm>
          <a:custGeom>
            <a:avLst/>
            <a:gdLst/>
            <a:ahLst/>
            <a:rect l="l" t="t" r="r" b="b"/>
            <a:pathLst>
              <a:path w="1896" h="2463">
                <a:moveTo>
                  <a:pt x="0" y="0"/>
                </a:moveTo>
                <a:lnTo>
                  <a:pt x="1" y="20"/>
                </a:lnTo>
                <a:lnTo>
                  <a:pt x="3" y="37"/>
                </a:lnTo>
                <a:lnTo>
                  <a:pt x="3" y="51"/>
                </a:lnTo>
                <a:lnTo>
                  <a:pt x="5" y="60"/>
                </a:lnTo>
                <a:lnTo>
                  <a:pt x="5" y="69"/>
                </a:lnTo>
                <a:lnTo>
                  <a:pt x="5" y="75"/>
                </a:lnTo>
                <a:lnTo>
                  <a:pt x="5" y="79"/>
                </a:lnTo>
                <a:lnTo>
                  <a:pt x="7" y="82"/>
                </a:lnTo>
                <a:lnTo>
                  <a:pt x="7" y="85"/>
                </a:lnTo>
                <a:lnTo>
                  <a:pt x="7" y="87"/>
                </a:lnTo>
                <a:lnTo>
                  <a:pt x="7" y="90"/>
                </a:lnTo>
                <a:lnTo>
                  <a:pt x="8" y="92"/>
                </a:lnTo>
                <a:lnTo>
                  <a:pt x="8" y="97"/>
                </a:lnTo>
                <a:lnTo>
                  <a:pt x="9" y="102"/>
                </a:lnTo>
                <a:lnTo>
                  <a:pt x="9" y="109"/>
                </a:lnTo>
                <a:lnTo>
                  <a:pt x="11" y="118"/>
                </a:lnTo>
                <a:lnTo>
                  <a:pt x="11" y="131"/>
                </a:lnTo>
                <a:lnTo>
                  <a:pt x="13" y="147"/>
                </a:lnTo>
                <a:lnTo>
                  <a:pt x="16" y="166"/>
                </a:lnTo>
                <a:lnTo>
                  <a:pt x="19" y="187"/>
                </a:lnTo>
                <a:lnTo>
                  <a:pt x="23" y="212"/>
                </a:lnTo>
                <a:lnTo>
                  <a:pt x="26" y="238"/>
                </a:lnTo>
                <a:lnTo>
                  <a:pt x="31" y="266"/>
                </a:lnTo>
                <a:lnTo>
                  <a:pt x="36" y="294"/>
                </a:lnTo>
                <a:lnTo>
                  <a:pt x="41" y="326"/>
                </a:lnTo>
                <a:lnTo>
                  <a:pt x="46" y="357"/>
                </a:lnTo>
                <a:lnTo>
                  <a:pt x="52" y="389"/>
                </a:lnTo>
                <a:lnTo>
                  <a:pt x="57" y="420"/>
                </a:lnTo>
                <a:lnTo>
                  <a:pt x="63" y="452"/>
                </a:lnTo>
                <a:lnTo>
                  <a:pt x="69" y="484"/>
                </a:lnTo>
                <a:lnTo>
                  <a:pt x="74" y="515"/>
                </a:lnTo>
                <a:lnTo>
                  <a:pt x="81" y="544"/>
                </a:lnTo>
                <a:lnTo>
                  <a:pt x="86" y="575"/>
                </a:lnTo>
                <a:lnTo>
                  <a:pt x="93" y="606"/>
                </a:lnTo>
                <a:lnTo>
                  <a:pt x="99" y="639"/>
                </a:lnTo>
                <a:lnTo>
                  <a:pt x="107" y="671"/>
                </a:lnTo>
                <a:lnTo>
                  <a:pt x="114" y="706"/>
                </a:lnTo>
                <a:lnTo>
                  <a:pt x="122" y="739"/>
                </a:lnTo>
                <a:lnTo>
                  <a:pt x="129" y="773"/>
                </a:lnTo>
                <a:lnTo>
                  <a:pt x="138" y="806"/>
                </a:lnTo>
                <a:lnTo>
                  <a:pt x="145" y="838"/>
                </a:lnTo>
                <a:lnTo>
                  <a:pt x="153" y="870"/>
                </a:lnTo>
                <a:lnTo>
                  <a:pt x="161" y="899"/>
                </a:lnTo>
                <a:lnTo>
                  <a:pt x="169" y="926"/>
                </a:lnTo>
                <a:lnTo>
                  <a:pt x="175" y="952"/>
                </a:lnTo>
                <a:lnTo>
                  <a:pt x="183" y="974"/>
                </a:lnTo>
                <a:lnTo>
                  <a:pt x="189" y="994"/>
                </a:lnTo>
                <a:lnTo>
                  <a:pt x="195" y="1009"/>
                </a:lnTo>
                <a:lnTo>
                  <a:pt x="200" y="1025"/>
                </a:lnTo>
                <a:lnTo>
                  <a:pt x="206" y="1043"/>
                </a:lnTo>
                <a:lnTo>
                  <a:pt x="213" y="1062"/>
                </a:lnTo>
                <a:lnTo>
                  <a:pt x="220" y="1083"/>
                </a:lnTo>
                <a:lnTo>
                  <a:pt x="228" y="1107"/>
                </a:lnTo>
                <a:lnTo>
                  <a:pt x="236" y="1130"/>
                </a:lnTo>
                <a:lnTo>
                  <a:pt x="245" y="1154"/>
                </a:lnTo>
                <a:lnTo>
                  <a:pt x="255" y="1179"/>
                </a:lnTo>
                <a:lnTo>
                  <a:pt x="263" y="1205"/>
                </a:lnTo>
                <a:lnTo>
                  <a:pt x="272" y="1230"/>
                </a:lnTo>
                <a:lnTo>
                  <a:pt x="281" y="1255"/>
                </a:lnTo>
                <a:lnTo>
                  <a:pt x="291" y="1279"/>
                </a:lnTo>
                <a:lnTo>
                  <a:pt x="299" y="1304"/>
                </a:lnTo>
                <a:lnTo>
                  <a:pt x="308" y="1326"/>
                </a:lnTo>
                <a:lnTo>
                  <a:pt x="316" y="1348"/>
                </a:lnTo>
                <a:lnTo>
                  <a:pt x="325" y="1367"/>
                </a:lnTo>
                <a:lnTo>
                  <a:pt x="331" y="1388"/>
                </a:lnTo>
                <a:lnTo>
                  <a:pt x="339" y="1408"/>
                </a:lnTo>
                <a:lnTo>
                  <a:pt x="347" y="1431"/>
                </a:lnTo>
                <a:lnTo>
                  <a:pt x="356" y="1453"/>
                </a:lnTo>
                <a:lnTo>
                  <a:pt x="365" y="1478"/>
                </a:lnTo>
                <a:lnTo>
                  <a:pt x="374" y="1501"/>
                </a:lnTo>
                <a:lnTo>
                  <a:pt x="383" y="1526"/>
                </a:lnTo>
                <a:lnTo>
                  <a:pt x="393" y="1548"/>
                </a:lnTo>
                <a:lnTo>
                  <a:pt x="400" y="1572"/>
                </a:lnTo>
                <a:lnTo>
                  <a:pt x="409" y="1594"/>
                </a:lnTo>
                <a:lnTo>
                  <a:pt x="417" y="1617"/>
                </a:lnTo>
                <a:lnTo>
                  <a:pt x="427" y="1637"/>
                </a:lnTo>
                <a:lnTo>
                  <a:pt x="434" y="1656"/>
                </a:lnTo>
                <a:lnTo>
                  <a:pt x="441" y="1674"/>
                </a:lnTo>
                <a:lnTo>
                  <a:pt x="447" y="1689"/>
                </a:lnTo>
                <a:lnTo>
                  <a:pt x="454" y="1702"/>
                </a:lnTo>
                <a:lnTo>
                  <a:pt x="459" y="1715"/>
                </a:lnTo>
                <a:lnTo>
                  <a:pt x="465" y="1729"/>
                </a:lnTo>
                <a:lnTo>
                  <a:pt x="473" y="1745"/>
                </a:lnTo>
                <a:lnTo>
                  <a:pt x="481" y="1760"/>
                </a:lnTo>
                <a:lnTo>
                  <a:pt x="489" y="1778"/>
                </a:lnTo>
                <a:lnTo>
                  <a:pt x="499" y="1795"/>
                </a:lnTo>
                <a:lnTo>
                  <a:pt x="508" y="1814"/>
                </a:lnTo>
                <a:lnTo>
                  <a:pt x="519" y="1831"/>
                </a:lnTo>
                <a:lnTo>
                  <a:pt x="529" y="1850"/>
                </a:lnTo>
                <a:lnTo>
                  <a:pt x="540" y="1868"/>
                </a:lnTo>
                <a:lnTo>
                  <a:pt x="550" y="1886"/>
                </a:lnTo>
                <a:lnTo>
                  <a:pt x="561" y="1902"/>
                </a:lnTo>
                <a:lnTo>
                  <a:pt x="571" y="1919"/>
                </a:lnTo>
                <a:lnTo>
                  <a:pt x="581" y="1935"/>
                </a:lnTo>
                <a:lnTo>
                  <a:pt x="590" y="1949"/>
                </a:lnTo>
                <a:lnTo>
                  <a:pt x="600" y="1962"/>
                </a:lnTo>
                <a:lnTo>
                  <a:pt x="609" y="1975"/>
                </a:lnTo>
                <a:lnTo>
                  <a:pt x="619" y="1988"/>
                </a:lnTo>
                <a:lnTo>
                  <a:pt x="630" y="2003"/>
                </a:lnTo>
                <a:lnTo>
                  <a:pt x="641" y="2016"/>
                </a:lnTo>
                <a:lnTo>
                  <a:pt x="653" y="2031"/>
                </a:lnTo>
                <a:lnTo>
                  <a:pt x="666" y="2046"/>
                </a:lnTo>
                <a:lnTo>
                  <a:pt x="679" y="2061"/>
                </a:lnTo>
                <a:lnTo>
                  <a:pt x="692" y="2075"/>
                </a:lnTo>
                <a:lnTo>
                  <a:pt x="704" y="2090"/>
                </a:lnTo>
                <a:lnTo>
                  <a:pt x="717" y="2105"/>
                </a:lnTo>
                <a:lnTo>
                  <a:pt x="729" y="2118"/>
                </a:lnTo>
                <a:lnTo>
                  <a:pt x="742" y="2131"/>
                </a:lnTo>
                <a:lnTo>
                  <a:pt x="753" y="2143"/>
                </a:lnTo>
                <a:lnTo>
                  <a:pt x="765" y="2154"/>
                </a:lnTo>
                <a:lnTo>
                  <a:pt x="774" y="2164"/>
                </a:lnTo>
                <a:lnTo>
                  <a:pt x="785" y="2172"/>
                </a:lnTo>
                <a:lnTo>
                  <a:pt x="792" y="2180"/>
                </a:lnTo>
                <a:lnTo>
                  <a:pt x="801" y="2188"/>
                </a:lnTo>
                <a:lnTo>
                  <a:pt x="811" y="2196"/>
                </a:lnTo>
                <a:lnTo>
                  <a:pt x="820" y="2203"/>
                </a:lnTo>
                <a:lnTo>
                  <a:pt x="829" y="2212"/>
                </a:lnTo>
                <a:lnTo>
                  <a:pt x="838" y="2220"/>
                </a:lnTo>
                <a:lnTo>
                  <a:pt x="847" y="2227"/>
                </a:lnTo>
                <a:lnTo>
                  <a:pt x="857" y="2234"/>
                </a:lnTo>
                <a:lnTo>
                  <a:pt x="864" y="2242"/>
                </a:lnTo>
                <a:lnTo>
                  <a:pt x="873" y="2249"/>
                </a:lnTo>
                <a:lnTo>
                  <a:pt x="881" y="2255"/>
                </a:lnTo>
                <a:lnTo>
                  <a:pt x="888" y="2261"/>
                </a:lnTo>
                <a:lnTo>
                  <a:pt x="894" y="2266"/>
                </a:lnTo>
                <a:lnTo>
                  <a:pt x="900" y="2271"/>
                </a:lnTo>
                <a:lnTo>
                  <a:pt x="904" y="2275"/>
                </a:lnTo>
                <a:lnTo>
                  <a:pt x="909" y="2277"/>
                </a:lnTo>
                <a:lnTo>
                  <a:pt x="912" y="2281"/>
                </a:lnTo>
                <a:lnTo>
                  <a:pt x="915" y="2282"/>
                </a:lnTo>
                <a:lnTo>
                  <a:pt x="921" y="2286"/>
                </a:lnTo>
                <a:lnTo>
                  <a:pt x="926" y="2289"/>
                </a:lnTo>
                <a:lnTo>
                  <a:pt x="932" y="2292"/>
                </a:lnTo>
                <a:lnTo>
                  <a:pt x="938" y="2296"/>
                </a:lnTo>
                <a:lnTo>
                  <a:pt x="945" y="2300"/>
                </a:lnTo>
                <a:lnTo>
                  <a:pt x="953" y="2303"/>
                </a:lnTo>
                <a:lnTo>
                  <a:pt x="960" y="2308"/>
                </a:lnTo>
                <a:lnTo>
                  <a:pt x="967" y="2312"/>
                </a:lnTo>
                <a:lnTo>
                  <a:pt x="975" y="2316"/>
                </a:lnTo>
                <a:lnTo>
                  <a:pt x="982" y="2319"/>
                </a:lnTo>
                <a:lnTo>
                  <a:pt x="990" y="2323"/>
                </a:lnTo>
                <a:lnTo>
                  <a:pt x="997" y="2327"/>
                </a:lnTo>
                <a:lnTo>
                  <a:pt x="1005" y="2330"/>
                </a:lnTo>
                <a:lnTo>
                  <a:pt x="1012" y="2332"/>
                </a:lnTo>
                <a:lnTo>
                  <a:pt x="1019" y="2336"/>
                </a:lnTo>
                <a:lnTo>
                  <a:pt x="1027" y="2339"/>
                </a:lnTo>
                <a:lnTo>
                  <a:pt x="1035" y="2343"/>
                </a:lnTo>
                <a:lnTo>
                  <a:pt x="1047" y="2347"/>
                </a:lnTo>
                <a:lnTo>
                  <a:pt x="1057" y="2352"/>
                </a:lnTo>
                <a:lnTo>
                  <a:pt x="1069" y="2356"/>
                </a:lnTo>
                <a:lnTo>
                  <a:pt x="1081" y="2360"/>
                </a:lnTo>
                <a:lnTo>
                  <a:pt x="1094" y="2364"/>
                </a:lnTo>
                <a:lnTo>
                  <a:pt x="1106" y="2369"/>
                </a:lnTo>
                <a:lnTo>
                  <a:pt x="1119" y="2373"/>
                </a:lnTo>
                <a:lnTo>
                  <a:pt x="1131" y="2377"/>
                </a:lnTo>
                <a:lnTo>
                  <a:pt x="1145" y="2381"/>
                </a:lnTo>
                <a:lnTo>
                  <a:pt x="1156" y="2385"/>
                </a:lnTo>
                <a:lnTo>
                  <a:pt x="1169" y="2388"/>
                </a:lnTo>
                <a:lnTo>
                  <a:pt x="1180" y="2392"/>
                </a:lnTo>
                <a:lnTo>
                  <a:pt x="1191" y="2395"/>
                </a:lnTo>
                <a:lnTo>
                  <a:pt x="1201" y="2398"/>
                </a:lnTo>
                <a:lnTo>
                  <a:pt x="1213" y="2402"/>
                </a:lnTo>
                <a:lnTo>
                  <a:pt x="1225" y="2406"/>
                </a:lnTo>
                <a:lnTo>
                  <a:pt x="1238" y="2407"/>
                </a:lnTo>
                <a:lnTo>
                  <a:pt x="1251" y="2411"/>
                </a:lnTo>
                <a:lnTo>
                  <a:pt x="1265" y="2414"/>
                </a:lnTo>
                <a:lnTo>
                  <a:pt x="1279" y="2417"/>
                </a:lnTo>
                <a:lnTo>
                  <a:pt x="1294" y="2419"/>
                </a:lnTo>
                <a:lnTo>
                  <a:pt x="1307" y="2423"/>
                </a:lnTo>
                <a:lnTo>
                  <a:pt x="1321" y="2425"/>
                </a:lnTo>
                <a:lnTo>
                  <a:pt x="1333" y="2429"/>
                </a:lnTo>
                <a:lnTo>
                  <a:pt x="1347" y="2431"/>
                </a:lnTo>
                <a:lnTo>
                  <a:pt x="1359" y="2434"/>
                </a:lnTo>
                <a:lnTo>
                  <a:pt x="1370" y="2435"/>
                </a:lnTo>
                <a:lnTo>
                  <a:pt x="1380" y="2437"/>
                </a:lnTo>
                <a:lnTo>
                  <a:pt x="1391" y="2438"/>
                </a:lnTo>
                <a:lnTo>
                  <a:pt x="1400" y="2440"/>
                </a:lnTo>
                <a:lnTo>
                  <a:pt x="1410" y="2441"/>
                </a:lnTo>
                <a:lnTo>
                  <a:pt x="1421" y="2443"/>
                </a:lnTo>
                <a:lnTo>
                  <a:pt x="1434" y="2443"/>
                </a:lnTo>
                <a:lnTo>
                  <a:pt x="1447" y="2445"/>
                </a:lnTo>
                <a:lnTo>
                  <a:pt x="1461" y="2446"/>
                </a:lnTo>
                <a:lnTo>
                  <a:pt x="1475" y="2448"/>
                </a:lnTo>
                <a:lnTo>
                  <a:pt x="1490" y="2448"/>
                </a:lnTo>
                <a:lnTo>
                  <a:pt x="1503" y="2450"/>
                </a:lnTo>
                <a:lnTo>
                  <a:pt x="1518" y="2451"/>
                </a:lnTo>
                <a:lnTo>
                  <a:pt x="1532" y="2453"/>
                </a:lnTo>
                <a:lnTo>
                  <a:pt x="1547" y="2453"/>
                </a:lnTo>
                <a:lnTo>
                  <a:pt x="1560" y="2455"/>
                </a:lnTo>
                <a:lnTo>
                  <a:pt x="1573" y="2455"/>
                </a:lnTo>
                <a:lnTo>
                  <a:pt x="1585" y="2456"/>
                </a:lnTo>
                <a:lnTo>
                  <a:pt x="1597" y="2456"/>
                </a:lnTo>
                <a:lnTo>
                  <a:pt x="1608" y="2458"/>
                </a:lnTo>
                <a:lnTo>
                  <a:pt x="1620" y="2458"/>
                </a:lnTo>
                <a:lnTo>
                  <a:pt x="1633" y="2458"/>
                </a:lnTo>
                <a:lnTo>
                  <a:pt x="1646" y="2458"/>
                </a:lnTo>
                <a:lnTo>
                  <a:pt x="1659" y="2460"/>
                </a:lnTo>
                <a:lnTo>
                  <a:pt x="1674" y="2460"/>
                </a:lnTo>
                <a:lnTo>
                  <a:pt x="1689" y="2460"/>
                </a:lnTo>
                <a:lnTo>
                  <a:pt x="1704" y="2460"/>
                </a:lnTo>
                <a:lnTo>
                  <a:pt x="1717" y="2462"/>
                </a:lnTo>
                <a:lnTo>
                  <a:pt x="1732" y="2462"/>
                </a:lnTo>
                <a:lnTo>
                  <a:pt x="1745" y="2462"/>
                </a:lnTo>
                <a:lnTo>
                  <a:pt x="1759" y="2462"/>
                </a:lnTo>
                <a:lnTo>
                  <a:pt x="1770" y="2462"/>
                </a:lnTo>
                <a:lnTo>
                  <a:pt x="1782" y="2462"/>
                </a:lnTo>
                <a:lnTo>
                  <a:pt x="1792" y="2462"/>
                </a:lnTo>
                <a:lnTo>
                  <a:pt x="1803" y="2462"/>
                </a:lnTo>
                <a:lnTo>
                  <a:pt x="1810" y="2462"/>
                </a:lnTo>
                <a:lnTo>
                  <a:pt x="1815" y="2462"/>
                </a:lnTo>
                <a:lnTo>
                  <a:pt x="1819" y="2462"/>
                </a:lnTo>
                <a:lnTo>
                  <a:pt x="1823" y="2462"/>
                </a:lnTo>
                <a:lnTo>
                  <a:pt x="1825" y="2462"/>
                </a:lnTo>
                <a:lnTo>
                  <a:pt x="1827" y="2462"/>
                </a:lnTo>
                <a:lnTo>
                  <a:pt x="1829" y="2462"/>
                </a:lnTo>
                <a:lnTo>
                  <a:pt x="1831" y="2462"/>
                </a:lnTo>
                <a:lnTo>
                  <a:pt x="1833" y="2462"/>
                </a:lnTo>
                <a:lnTo>
                  <a:pt x="1836" y="2462"/>
                </a:lnTo>
                <a:lnTo>
                  <a:pt x="1840" y="2462"/>
                </a:lnTo>
                <a:lnTo>
                  <a:pt x="1847" y="2462"/>
                </a:lnTo>
                <a:lnTo>
                  <a:pt x="1855" y="2462"/>
                </a:lnTo>
                <a:lnTo>
                  <a:pt x="1865" y="2462"/>
                </a:lnTo>
                <a:lnTo>
                  <a:pt x="1878" y="2462"/>
                </a:lnTo>
                <a:lnTo>
                  <a:pt x="1895" y="2462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458200" y="624852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8600" y="1219320"/>
            <a:ext cx="1295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18288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71629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09880" y="49528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28800" y="179064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3886200"/>
            <a:ext cx="2438280" cy="1143000"/>
          </a:xfrm>
          <a:prstGeom prst="wedgeRoundRectCallout">
            <a:avLst>
              <a:gd name="adj1" fmla="val -61912"/>
              <a:gd name="adj2" fmla="val 68611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l óptimo 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stá aq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29000" y="1676520"/>
            <a:ext cx="2438280" cy="1066680"/>
          </a:xfrm>
          <a:prstGeom prst="wedgeRoundRectCallout">
            <a:avLst>
              <a:gd name="adj1" fmla="val -88347"/>
              <a:gd name="adj2" fmla="val 2379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qui maximiz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e benefic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24280" y="3825720"/>
            <a:ext cx="2438640" cy="1384200"/>
          </a:xfrm>
          <a:prstGeom prst="wedgeRoundRectCallout">
            <a:avLst>
              <a:gd name="adj1" fmla="val -66069"/>
              <a:gd name="adj2" fmla="val 80888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azón de precios = TMT = T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8088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qui estan las preferenci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71800" y="4572000"/>
            <a:ext cx="2017800" cy="1716120"/>
          </a:xfrm>
          <a:prstGeom prst="line">
            <a:avLst/>
          </a:prstGeom>
          <a:ln w="4752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45720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o falla la decentraliz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362320" y="2057400"/>
            <a:ext cx="3238920" cy="2806560"/>
            <a:chOff x="2362320" y="2057400"/>
            <a:chExt cx="3238920" cy="2806560"/>
          </a:xfrm>
        </p:grpSpPr>
        <p:grpSp>
          <p:nvGrpSpPr>
            <p:cNvPr id="882" name=""/>
            <p:cNvGrpSpPr/>
            <p:nvPr/>
          </p:nvGrpSpPr>
          <p:grpSpPr>
            <a:xfrm>
              <a:off x="2362320" y="2057400"/>
              <a:ext cx="3024000" cy="2806560"/>
              <a:chOff x="2362320" y="2057400"/>
              <a:chExt cx="3024000" cy="2806560"/>
            </a:xfrm>
          </p:grpSpPr>
          <p:sp>
            <p:nvSpPr>
              <p:cNvPr id="883" name=""/>
              <p:cNvSpPr/>
              <p:nvPr/>
            </p:nvSpPr>
            <p:spPr>
              <a:xfrm>
                <a:off x="3976560" y="2627280"/>
                <a:ext cx="284400" cy="266760"/>
              </a:xfrm>
              <a:custGeom>
                <a:avLst/>
                <a:gdLst/>
                <a:ahLst/>
                <a:rect l="l" t="t" r="r" b="b"/>
                <a:pathLst>
                  <a:path w="179" h="168">
                    <a:moveTo>
                      <a:pt x="0" y="93"/>
                    </a:moveTo>
                    <a:lnTo>
                      <a:pt x="122" y="167"/>
                    </a:lnTo>
                    <a:lnTo>
                      <a:pt x="178" y="75"/>
                    </a:lnTo>
                    <a:lnTo>
                      <a:pt x="56" y="0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d2b06a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68800" y="2744640"/>
                <a:ext cx="128520" cy="206280"/>
              </a:xfrm>
              <a:custGeom>
                <a:avLst/>
                <a:gdLst/>
                <a:ahLst/>
                <a:rect l="l" t="t" r="r" b="b"/>
                <a:pathLst>
                  <a:path w="81" h="130">
                    <a:moveTo>
                      <a:pt x="61" y="129"/>
                    </a:moveTo>
                    <a:lnTo>
                      <a:pt x="80" y="98"/>
                    </a:lnTo>
                    <a:lnTo>
                      <a:pt x="56" y="0"/>
                    </a:lnTo>
                    <a:lnTo>
                      <a:pt x="0" y="91"/>
                    </a:lnTo>
                    <a:lnTo>
                      <a:pt x="61" y="129"/>
                    </a:lnTo>
                    <a:lnTo>
                      <a:pt x="61" y="129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871720" y="3517920"/>
                <a:ext cx="844560" cy="1346040"/>
              </a:xfrm>
              <a:custGeom>
                <a:avLst/>
                <a:gdLst/>
                <a:ahLst/>
                <a:rect l="l" t="t" r="r" b="b"/>
                <a:pathLst>
                  <a:path w="532" h="848">
                    <a:moveTo>
                      <a:pt x="410" y="0"/>
                    </a:moveTo>
                    <a:lnTo>
                      <a:pt x="0" y="670"/>
                    </a:lnTo>
                    <a:lnTo>
                      <a:pt x="17" y="847"/>
                    </a:lnTo>
                    <a:lnTo>
                      <a:pt x="121" y="744"/>
                    </a:lnTo>
                    <a:lnTo>
                      <a:pt x="531" y="75"/>
                    </a:lnTo>
                    <a:lnTo>
                      <a:pt x="410" y="0"/>
                    </a:lnTo>
                    <a:lnTo>
                      <a:pt x="410" y="0"/>
                    </a:lnTo>
                  </a:path>
                </a:pathLst>
              </a:custGeom>
              <a:solidFill>
                <a:srgbClr val="d2b06a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68440" y="2057400"/>
                <a:ext cx="2986200" cy="2313000"/>
              </a:xfrm>
              <a:custGeom>
                <a:avLst/>
                <a:gdLst/>
                <a:ahLst/>
                <a:rect l="l" t="t" r="r" b="b"/>
                <a:pathLst>
                  <a:path w="1881" h="1457">
                    <a:moveTo>
                      <a:pt x="0" y="487"/>
                    </a:moveTo>
                    <a:lnTo>
                      <a:pt x="1582" y="1456"/>
                    </a:lnTo>
                    <a:lnTo>
                      <a:pt x="1880" y="969"/>
                    </a:lnTo>
                    <a:lnTo>
                      <a:pt x="297" y="0"/>
                    </a:lnTo>
                    <a:lnTo>
                      <a:pt x="0" y="487"/>
                    </a:lnTo>
                  </a:path>
                </a:pathLst>
              </a:custGeom>
              <a:solidFill>
                <a:srgbClr val="ffffc2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362320" y="2806560"/>
                <a:ext cx="1162080" cy="809640"/>
              </a:xfrm>
              <a:custGeom>
                <a:avLst/>
                <a:gdLst/>
                <a:ahLst/>
                <a:rect l="l" t="t" r="r" b="b"/>
                <a:pathLst>
                  <a:path w="732" h="510">
                    <a:moveTo>
                      <a:pt x="0" y="0"/>
                    </a:moveTo>
                    <a:lnTo>
                      <a:pt x="23" y="99"/>
                    </a:lnTo>
                    <a:lnTo>
                      <a:pt x="694" y="509"/>
                    </a:lnTo>
                    <a:lnTo>
                      <a:pt x="731" y="44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063960" y="3636720"/>
                <a:ext cx="690480" cy="1171800"/>
              </a:xfrm>
              <a:custGeom>
                <a:avLst/>
                <a:gdLst/>
                <a:ahLst/>
                <a:rect l="l" t="t" r="r" b="b"/>
                <a:pathLst>
                  <a:path w="435" h="738">
                    <a:moveTo>
                      <a:pt x="410" y="0"/>
                    </a:moveTo>
                    <a:lnTo>
                      <a:pt x="434" y="98"/>
                    </a:lnTo>
                    <a:lnTo>
                      <a:pt x="43" y="737"/>
                    </a:lnTo>
                    <a:lnTo>
                      <a:pt x="0" y="669"/>
                    </a:lnTo>
                    <a:lnTo>
                      <a:pt x="410" y="0"/>
                    </a:lnTo>
                    <a:lnTo>
                      <a:pt x="410" y="0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898720" y="4698720"/>
                <a:ext cx="235080" cy="165240"/>
              </a:xfrm>
              <a:custGeom>
                <a:avLst/>
                <a:gdLst/>
                <a:ahLst/>
                <a:rect l="l" t="t" r="r" b="b"/>
                <a:pathLst>
                  <a:path w="148" h="104">
                    <a:moveTo>
                      <a:pt x="104" y="0"/>
                    </a:moveTo>
                    <a:lnTo>
                      <a:pt x="147" y="68"/>
                    </a:lnTo>
                    <a:lnTo>
                      <a:pt x="0" y="103"/>
                    </a:lnTo>
                    <a:lnTo>
                      <a:pt x="104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714840" y="3636720"/>
                <a:ext cx="1198440" cy="866880"/>
              </a:xfrm>
              <a:custGeom>
                <a:avLst/>
                <a:gdLst/>
                <a:ahLst/>
                <a:rect l="l" t="t" r="r" b="b"/>
                <a:pathLst>
                  <a:path w="755" h="546">
                    <a:moveTo>
                      <a:pt x="0" y="0"/>
                    </a:moveTo>
                    <a:lnTo>
                      <a:pt x="24" y="98"/>
                    </a:lnTo>
                    <a:lnTo>
                      <a:pt x="754" y="545"/>
                    </a:lnTo>
                    <a:lnTo>
                      <a:pt x="731" y="4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75120" y="3573360"/>
                <a:ext cx="511200" cy="930240"/>
              </a:xfrm>
              <a:custGeom>
                <a:avLst/>
                <a:gdLst/>
                <a:ahLst/>
                <a:rect l="l" t="t" r="r" b="b"/>
                <a:pathLst>
                  <a:path w="322" h="586">
                    <a:moveTo>
                      <a:pt x="298" y="0"/>
                    </a:moveTo>
                    <a:lnTo>
                      <a:pt x="321" y="98"/>
                    </a:lnTo>
                    <a:lnTo>
                      <a:pt x="23" y="585"/>
                    </a:lnTo>
                    <a:lnTo>
                      <a:pt x="0" y="486"/>
                    </a:lnTo>
                    <a:lnTo>
                      <a:pt x="298" y="0"/>
                    </a:lnTo>
                    <a:lnTo>
                      <a:pt x="298" y="0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rot="1800000">
              <a:off x="2629080" y="2803320"/>
              <a:ext cx="301932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900" spc="-1" strike="noStrike">
                  <a:solidFill>
                    <a:srgbClr val="000000"/>
                  </a:solidFill>
                  <a:latin typeface="Brush738 BT"/>
                </a:rPr>
                <a:t>no-convexo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 flipV="1">
            <a:off x="6324480" y="2848320"/>
            <a:ext cx="3335400" cy="3963240"/>
          </a:xfrm>
          <a:custGeom>
            <a:avLst/>
            <a:gdLst>
              <a:gd name="textAreaLeft" fmla="*/ 60840 w 3335400"/>
              <a:gd name="textAreaRight" fmla="*/ 3274560 w 3335400"/>
              <a:gd name="textAreaTop" fmla="*/ 60840 h 3963240"/>
              <a:gd name="textAreaBottom" fmla="*/ 3902400 h 3963240"/>
            </a:gdLst>
            <a:ahLst/>
            <a:rect l="textAreaLeft" t="textAreaTop" r="textAreaRight" b="textAreaBottom"/>
            <a:pathLst>
              <a:path w="21600" h="25665">
                <a:moveTo>
                  <a:pt x="1349" y="0"/>
                </a:moveTo>
                <a:arcTo wR="1349" hR="1349" stAng="16200000" swAng="-5400000"/>
                <a:lnTo>
                  <a:pt x="0" y="24316"/>
                </a:lnTo>
                <a:arcTo wR="1349" hR="1349" stAng="10800000" swAng="-5400000"/>
                <a:lnTo>
                  <a:pt x="20251" y="25665"/>
                </a:lnTo>
                <a:arcTo wR="1349" hR="1349" stAng="5400000" swAng="-5400000"/>
                <a:lnTo>
                  <a:pt x="21600" y="1349"/>
                </a:lnTo>
                <a:arcTo wR="1349" hR="1349" stAng="0" swAng="-5400000"/>
                <a:close/>
              </a:path>
            </a:pathLst>
          </a:cu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400080"/>
                </a:solidFill>
                <a:latin typeface="Arial"/>
              </a:rPr>
              <a:t>¿Puede el sistema de precios efectuar el truco aquí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86000" y="1370520"/>
            <a:ext cx="7335000" cy="4649400"/>
            <a:chOff x="2286000" y="1370520"/>
            <a:chExt cx="7335000" cy="4649400"/>
          </a:xfrm>
        </p:grpSpPr>
        <p:sp>
          <p:nvSpPr>
            <p:cNvPr id="895" name=""/>
            <p:cNvSpPr/>
            <p:nvPr/>
          </p:nvSpPr>
          <p:spPr>
            <a:xfrm flipH="1">
              <a:off x="2286000" y="2286000"/>
              <a:ext cx="3200400" cy="152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48320" y="2286000"/>
              <a:ext cx="761760" cy="3733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31640" y="1370520"/>
              <a:ext cx="5589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Brush738 BT"/>
                </a:rPr>
                <a:t>(Precios iguales!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604800" y="45720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los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centralización e intercamb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906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-zación e intercamb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ñe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555920" y="5315040"/>
            <a:ext cx="4539960" cy="552240"/>
            <a:chOff x="1555920" y="5315040"/>
            <a:chExt cx="4539960" cy="552240"/>
          </a:xfrm>
        </p:grpSpPr>
        <p:sp>
          <p:nvSpPr>
            <p:cNvPr id="923" name=""/>
            <p:cNvSpPr/>
            <p:nvPr/>
          </p:nvSpPr>
          <p:spPr>
            <a:xfrm>
              <a:off x="27068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559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242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44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068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242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49876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vexidad 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552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 inter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2280" y="5872320"/>
            <a:ext cx="2035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eneficios (sombr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14600" y="594360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vexidad 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648320" y="5334120"/>
            <a:ext cx="248580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 sombr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roduciendo nuevamente el mercad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920" y="1600200"/>
            <a:ext cx="944856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251"/>
              </a:spcBef>
              <a:buClr>
                <a:srgbClr val="800080"/>
              </a:buClr>
              <a:buSzPct val="70000"/>
              <a:buFont typeface="Monotype Sorts" charset="2"/>
              <a:buChar char="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Supongamos ahora que R.Crusoe tiene contacto con el mu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800080"/>
              </a:buClr>
              <a:buSzPct val="70000"/>
              <a:buFont typeface="Monotype Sorts" charset="2"/>
              <a:buChar char="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sto significa que no está restringido a la producción domes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800080"/>
              </a:buClr>
              <a:buSzPct val="70000"/>
              <a:buFont typeface="Monotype Sorts" charset="2"/>
              <a:buChar char="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l puede comprar y vender a los precios internacion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800080"/>
              </a:buClr>
              <a:buSzPct val="70000"/>
              <a:buFont typeface="Monotype Sorts" charset="2"/>
              <a:buChar char="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xpande el rango de el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800080"/>
              </a:buClr>
              <a:buSzPct val="70000"/>
              <a:buFont typeface="Monotype Sorts" charset="2"/>
              <a:buChar char="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...e introduce el argumento de separación de una manera intersa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4648320" y="2438280"/>
            <a:ext cx="5409720" cy="4535640"/>
            <a:chOff x="4648320" y="2438280"/>
            <a:chExt cx="5409720" cy="4535640"/>
          </a:xfrm>
        </p:grpSpPr>
        <p:sp>
          <p:nvSpPr>
            <p:cNvPr id="939" name=""/>
            <p:cNvSpPr/>
            <p:nvPr/>
          </p:nvSpPr>
          <p:spPr>
            <a:xfrm>
              <a:off x="4648320" y="2438280"/>
              <a:ext cx="540972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96560" y="3984480"/>
              <a:ext cx="408888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Volvamos a mirar de cerca  al equilibrio en la isla....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600200" y="1905120"/>
            <a:ext cx="5867280" cy="5029200"/>
          </a:xfrm>
          <a:custGeom>
            <a:avLst/>
            <a:gdLst/>
            <a:ahLst/>
            <a:rect l="l" t="t" r="r" b="b"/>
            <a:pathLst>
              <a:path w="2714" h="2357">
                <a:moveTo>
                  <a:pt x="0" y="8"/>
                </a:moveTo>
                <a:lnTo>
                  <a:pt x="4" y="2356"/>
                </a:lnTo>
                <a:lnTo>
                  <a:pt x="2713" y="2356"/>
                </a:lnTo>
                <a:lnTo>
                  <a:pt x="9" y="0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4800" y="380880"/>
            <a:ext cx="9453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 afectado por la posibilidad de comerc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00200" y="2133720"/>
            <a:ext cx="1981080" cy="4800600"/>
          </a:xfrm>
          <a:custGeom>
            <a:avLst/>
            <a:gdLst/>
            <a:ahLst/>
            <a:rect l="l" t="t" r="r" b="b"/>
            <a:pathLst>
              <a:path w="1050" h="2197">
                <a:moveTo>
                  <a:pt x="6" y="2"/>
                </a:moveTo>
                <a:lnTo>
                  <a:pt x="6" y="2"/>
                </a:lnTo>
                <a:lnTo>
                  <a:pt x="12" y="2188"/>
                </a:lnTo>
                <a:lnTo>
                  <a:pt x="1049" y="2196"/>
                </a:lnTo>
                <a:lnTo>
                  <a:pt x="1049" y="2196"/>
                </a:lnTo>
                <a:lnTo>
                  <a:pt x="1028" y="2020"/>
                </a:lnTo>
                <a:lnTo>
                  <a:pt x="1023" y="1978"/>
                </a:lnTo>
                <a:lnTo>
                  <a:pt x="1014" y="1929"/>
                </a:lnTo>
                <a:lnTo>
                  <a:pt x="1006" y="1873"/>
                </a:lnTo>
                <a:lnTo>
                  <a:pt x="996" y="1816"/>
                </a:lnTo>
                <a:lnTo>
                  <a:pt x="985" y="1756"/>
                </a:lnTo>
                <a:lnTo>
                  <a:pt x="975" y="1701"/>
                </a:lnTo>
                <a:lnTo>
                  <a:pt x="965" y="1649"/>
                </a:lnTo>
                <a:lnTo>
                  <a:pt x="959" y="1625"/>
                </a:lnTo>
                <a:lnTo>
                  <a:pt x="953" y="1598"/>
                </a:lnTo>
                <a:lnTo>
                  <a:pt x="946" y="1566"/>
                </a:lnTo>
                <a:lnTo>
                  <a:pt x="939" y="1534"/>
                </a:lnTo>
                <a:lnTo>
                  <a:pt x="931" y="1502"/>
                </a:lnTo>
                <a:lnTo>
                  <a:pt x="923" y="1466"/>
                </a:lnTo>
                <a:lnTo>
                  <a:pt x="914" y="1430"/>
                </a:lnTo>
                <a:lnTo>
                  <a:pt x="906" y="1392"/>
                </a:lnTo>
                <a:lnTo>
                  <a:pt x="897" y="1358"/>
                </a:lnTo>
                <a:lnTo>
                  <a:pt x="888" y="1322"/>
                </a:lnTo>
                <a:lnTo>
                  <a:pt x="878" y="1288"/>
                </a:lnTo>
                <a:lnTo>
                  <a:pt x="870" y="1252"/>
                </a:lnTo>
                <a:lnTo>
                  <a:pt x="861" y="1222"/>
                </a:lnTo>
                <a:lnTo>
                  <a:pt x="853" y="1189"/>
                </a:lnTo>
                <a:lnTo>
                  <a:pt x="845" y="1162"/>
                </a:lnTo>
                <a:lnTo>
                  <a:pt x="839" y="1133"/>
                </a:lnTo>
                <a:lnTo>
                  <a:pt x="829" y="1110"/>
                </a:lnTo>
                <a:lnTo>
                  <a:pt x="821" y="1083"/>
                </a:lnTo>
                <a:lnTo>
                  <a:pt x="811" y="1055"/>
                </a:lnTo>
                <a:lnTo>
                  <a:pt x="801" y="1024"/>
                </a:lnTo>
                <a:lnTo>
                  <a:pt x="790" y="994"/>
                </a:lnTo>
                <a:lnTo>
                  <a:pt x="779" y="959"/>
                </a:lnTo>
                <a:lnTo>
                  <a:pt x="767" y="928"/>
                </a:lnTo>
                <a:lnTo>
                  <a:pt x="755" y="894"/>
                </a:lnTo>
                <a:lnTo>
                  <a:pt x="742" y="864"/>
                </a:lnTo>
                <a:lnTo>
                  <a:pt x="730" y="832"/>
                </a:lnTo>
                <a:lnTo>
                  <a:pt x="718" y="800"/>
                </a:lnTo>
                <a:lnTo>
                  <a:pt x="706" y="771"/>
                </a:lnTo>
                <a:lnTo>
                  <a:pt x="694" y="745"/>
                </a:lnTo>
                <a:lnTo>
                  <a:pt x="683" y="720"/>
                </a:lnTo>
                <a:lnTo>
                  <a:pt x="673" y="696"/>
                </a:lnTo>
                <a:lnTo>
                  <a:pt x="664" y="675"/>
                </a:lnTo>
                <a:lnTo>
                  <a:pt x="642" y="636"/>
                </a:lnTo>
                <a:lnTo>
                  <a:pt x="619" y="592"/>
                </a:lnTo>
                <a:lnTo>
                  <a:pt x="595" y="545"/>
                </a:lnTo>
                <a:lnTo>
                  <a:pt x="569" y="499"/>
                </a:lnTo>
                <a:lnTo>
                  <a:pt x="544" y="456"/>
                </a:lnTo>
                <a:lnTo>
                  <a:pt x="521" y="416"/>
                </a:lnTo>
                <a:lnTo>
                  <a:pt x="501" y="382"/>
                </a:lnTo>
                <a:lnTo>
                  <a:pt x="484" y="352"/>
                </a:lnTo>
                <a:lnTo>
                  <a:pt x="467" y="333"/>
                </a:lnTo>
                <a:lnTo>
                  <a:pt x="447" y="303"/>
                </a:lnTo>
                <a:lnTo>
                  <a:pt x="425" y="274"/>
                </a:lnTo>
                <a:lnTo>
                  <a:pt x="403" y="246"/>
                </a:lnTo>
                <a:lnTo>
                  <a:pt x="378" y="220"/>
                </a:lnTo>
                <a:lnTo>
                  <a:pt x="355" y="194"/>
                </a:lnTo>
                <a:lnTo>
                  <a:pt x="335" y="172"/>
                </a:lnTo>
                <a:lnTo>
                  <a:pt x="314" y="152"/>
                </a:lnTo>
                <a:lnTo>
                  <a:pt x="301" y="138"/>
                </a:lnTo>
                <a:lnTo>
                  <a:pt x="285" y="126"/>
                </a:lnTo>
                <a:lnTo>
                  <a:pt x="261" y="106"/>
                </a:lnTo>
                <a:lnTo>
                  <a:pt x="249" y="96"/>
                </a:lnTo>
                <a:lnTo>
                  <a:pt x="230" y="80"/>
                </a:lnTo>
                <a:lnTo>
                  <a:pt x="215" y="66"/>
                </a:lnTo>
                <a:lnTo>
                  <a:pt x="195" y="52"/>
                </a:lnTo>
                <a:lnTo>
                  <a:pt x="182" y="43"/>
                </a:lnTo>
                <a:lnTo>
                  <a:pt x="169" y="41"/>
                </a:lnTo>
                <a:lnTo>
                  <a:pt x="153" y="34"/>
                </a:lnTo>
                <a:lnTo>
                  <a:pt x="137" y="29"/>
                </a:lnTo>
                <a:lnTo>
                  <a:pt x="120" y="22"/>
                </a:lnTo>
                <a:lnTo>
                  <a:pt x="103" y="19"/>
                </a:lnTo>
                <a:lnTo>
                  <a:pt x="87" y="14"/>
                </a:lnTo>
                <a:lnTo>
                  <a:pt x="72" y="11"/>
                </a:lnTo>
                <a:lnTo>
                  <a:pt x="60" y="9"/>
                </a:lnTo>
                <a:lnTo>
                  <a:pt x="0" y="0"/>
                </a:lnTo>
                <a:lnTo>
                  <a:pt x="6" y="2"/>
                </a:lnTo>
                <a:lnTo>
                  <a:pt x="6" y="2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600200" y="1905120"/>
            <a:ext cx="5867280" cy="498780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260280" y="-76680"/>
            <a:ext cx="945360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quilibrio en la Isl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484440" y="1241280"/>
            <a:ext cx="2194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5480" y="3316320"/>
            <a:ext cx="2246400" cy="2550960"/>
          </a:xfrm>
          <a:custGeom>
            <a:avLst/>
            <a:gdLst/>
            <a:ahLst/>
            <a:rect l="l" t="t" r="r" b="b"/>
            <a:pathLst>
              <a:path w="1031" h="1166">
                <a:moveTo>
                  <a:pt x="0" y="0"/>
                </a:moveTo>
                <a:lnTo>
                  <a:pt x="0" y="11"/>
                </a:lnTo>
                <a:lnTo>
                  <a:pt x="1" y="18"/>
                </a:lnTo>
                <a:lnTo>
                  <a:pt x="1" y="25"/>
                </a:lnTo>
                <a:lnTo>
                  <a:pt x="2" y="29"/>
                </a:lnTo>
                <a:lnTo>
                  <a:pt x="2" y="33"/>
                </a:lnTo>
                <a:lnTo>
                  <a:pt x="2" y="36"/>
                </a:lnTo>
                <a:lnTo>
                  <a:pt x="2" y="38"/>
                </a:lnTo>
                <a:lnTo>
                  <a:pt x="4" y="39"/>
                </a:lnTo>
                <a:lnTo>
                  <a:pt x="4" y="41"/>
                </a:lnTo>
                <a:lnTo>
                  <a:pt x="4" y="41"/>
                </a:lnTo>
                <a:lnTo>
                  <a:pt x="4" y="43"/>
                </a:lnTo>
                <a:lnTo>
                  <a:pt x="4" y="44"/>
                </a:lnTo>
                <a:lnTo>
                  <a:pt x="4" y="47"/>
                </a:lnTo>
                <a:lnTo>
                  <a:pt x="4" y="49"/>
                </a:lnTo>
                <a:lnTo>
                  <a:pt x="4" y="53"/>
                </a:lnTo>
                <a:lnTo>
                  <a:pt x="6" y="57"/>
                </a:lnTo>
                <a:lnTo>
                  <a:pt x="6" y="63"/>
                </a:lnTo>
                <a:lnTo>
                  <a:pt x="7" y="71"/>
                </a:lnTo>
                <a:lnTo>
                  <a:pt x="8" y="80"/>
                </a:lnTo>
                <a:lnTo>
                  <a:pt x="10" y="90"/>
                </a:lnTo>
                <a:lnTo>
                  <a:pt x="12" y="103"/>
                </a:lnTo>
                <a:lnTo>
                  <a:pt x="14" y="115"/>
                </a:lnTo>
                <a:lnTo>
                  <a:pt x="16" y="127"/>
                </a:lnTo>
                <a:lnTo>
                  <a:pt x="20" y="141"/>
                </a:lnTo>
                <a:lnTo>
                  <a:pt x="22" y="156"/>
                </a:lnTo>
                <a:lnTo>
                  <a:pt x="26" y="171"/>
                </a:lnTo>
                <a:lnTo>
                  <a:pt x="28" y="185"/>
                </a:lnTo>
                <a:lnTo>
                  <a:pt x="32" y="201"/>
                </a:lnTo>
                <a:lnTo>
                  <a:pt x="34" y="215"/>
                </a:lnTo>
                <a:lnTo>
                  <a:pt x="37" y="231"/>
                </a:lnTo>
                <a:lnTo>
                  <a:pt x="41" y="245"/>
                </a:lnTo>
                <a:lnTo>
                  <a:pt x="45" y="259"/>
                </a:lnTo>
                <a:lnTo>
                  <a:pt x="47" y="273"/>
                </a:lnTo>
                <a:lnTo>
                  <a:pt x="51" y="288"/>
                </a:lnTo>
                <a:lnTo>
                  <a:pt x="55" y="303"/>
                </a:lnTo>
                <a:lnTo>
                  <a:pt x="58" y="319"/>
                </a:lnTo>
                <a:lnTo>
                  <a:pt x="62" y="335"/>
                </a:lnTo>
                <a:lnTo>
                  <a:pt x="66" y="350"/>
                </a:lnTo>
                <a:lnTo>
                  <a:pt x="70" y="367"/>
                </a:lnTo>
                <a:lnTo>
                  <a:pt x="75" y="381"/>
                </a:lnTo>
                <a:lnTo>
                  <a:pt x="79" y="397"/>
                </a:lnTo>
                <a:lnTo>
                  <a:pt x="83" y="412"/>
                </a:lnTo>
                <a:lnTo>
                  <a:pt x="86" y="427"/>
                </a:lnTo>
                <a:lnTo>
                  <a:pt x="92" y="439"/>
                </a:lnTo>
                <a:lnTo>
                  <a:pt x="96" y="451"/>
                </a:lnTo>
                <a:lnTo>
                  <a:pt x="100" y="461"/>
                </a:lnTo>
                <a:lnTo>
                  <a:pt x="103" y="471"/>
                </a:lnTo>
                <a:lnTo>
                  <a:pt x="106" y="478"/>
                </a:lnTo>
                <a:lnTo>
                  <a:pt x="108" y="486"/>
                </a:lnTo>
                <a:lnTo>
                  <a:pt x="112" y="495"/>
                </a:lnTo>
                <a:lnTo>
                  <a:pt x="116" y="504"/>
                </a:lnTo>
                <a:lnTo>
                  <a:pt x="120" y="513"/>
                </a:lnTo>
                <a:lnTo>
                  <a:pt x="124" y="525"/>
                </a:lnTo>
                <a:lnTo>
                  <a:pt x="129" y="536"/>
                </a:lnTo>
                <a:lnTo>
                  <a:pt x="133" y="547"/>
                </a:lnTo>
                <a:lnTo>
                  <a:pt x="139" y="558"/>
                </a:lnTo>
                <a:lnTo>
                  <a:pt x="143" y="571"/>
                </a:lnTo>
                <a:lnTo>
                  <a:pt x="148" y="583"/>
                </a:lnTo>
                <a:lnTo>
                  <a:pt x="153" y="595"/>
                </a:lnTo>
                <a:lnTo>
                  <a:pt x="158" y="606"/>
                </a:lnTo>
                <a:lnTo>
                  <a:pt x="162" y="617"/>
                </a:lnTo>
                <a:lnTo>
                  <a:pt x="168" y="629"/>
                </a:lnTo>
                <a:lnTo>
                  <a:pt x="172" y="639"/>
                </a:lnTo>
                <a:lnTo>
                  <a:pt x="177" y="647"/>
                </a:lnTo>
                <a:lnTo>
                  <a:pt x="181" y="658"/>
                </a:lnTo>
                <a:lnTo>
                  <a:pt x="184" y="667"/>
                </a:lnTo>
                <a:lnTo>
                  <a:pt x="188" y="679"/>
                </a:lnTo>
                <a:lnTo>
                  <a:pt x="194" y="689"/>
                </a:lnTo>
                <a:lnTo>
                  <a:pt x="198" y="700"/>
                </a:lnTo>
                <a:lnTo>
                  <a:pt x="203" y="711"/>
                </a:lnTo>
                <a:lnTo>
                  <a:pt x="208" y="722"/>
                </a:lnTo>
                <a:lnTo>
                  <a:pt x="214" y="733"/>
                </a:lnTo>
                <a:lnTo>
                  <a:pt x="218" y="744"/>
                </a:lnTo>
                <a:lnTo>
                  <a:pt x="223" y="755"/>
                </a:lnTo>
                <a:lnTo>
                  <a:pt x="227" y="765"/>
                </a:lnTo>
                <a:lnTo>
                  <a:pt x="232" y="775"/>
                </a:lnTo>
                <a:lnTo>
                  <a:pt x="236" y="784"/>
                </a:lnTo>
                <a:lnTo>
                  <a:pt x="241" y="792"/>
                </a:lnTo>
                <a:lnTo>
                  <a:pt x="244" y="799"/>
                </a:lnTo>
                <a:lnTo>
                  <a:pt x="248" y="805"/>
                </a:lnTo>
                <a:lnTo>
                  <a:pt x="250" y="812"/>
                </a:lnTo>
                <a:lnTo>
                  <a:pt x="253" y="818"/>
                </a:lnTo>
                <a:lnTo>
                  <a:pt x="257" y="826"/>
                </a:lnTo>
                <a:lnTo>
                  <a:pt x="262" y="833"/>
                </a:lnTo>
                <a:lnTo>
                  <a:pt x="266" y="843"/>
                </a:lnTo>
                <a:lnTo>
                  <a:pt x="272" y="850"/>
                </a:lnTo>
                <a:lnTo>
                  <a:pt x="278" y="859"/>
                </a:lnTo>
                <a:lnTo>
                  <a:pt x="283" y="866"/>
                </a:lnTo>
                <a:lnTo>
                  <a:pt x="289" y="876"/>
                </a:lnTo>
                <a:lnTo>
                  <a:pt x="294" y="885"/>
                </a:lnTo>
                <a:lnTo>
                  <a:pt x="300" y="893"/>
                </a:lnTo>
                <a:lnTo>
                  <a:pt x="306" y="901"/>
                </a:lnTo>
                <a:lnTo>
                  <a:pt x="310" y="909"/>
                </a:lnTo>
                <a:lnTo>
                  <a:pt x="316" y="916"/>
                </a:lnTo>
                <a:lnTo>
                  <a:pt x="321" y="923"/>
                </a:lnTo>
                <a:lnTo>
                  <a:pt x="327" y="928"/>
                </a:lnTo>
                <a:lnTo>
                  <a:pt x="331" y="935"/>
                </a:lnTo>
                <a:lnTo>
                  <a:pt x="337" y="941"/>
                </a:lnTo>
                <a:lnTo>
                  <a:pt x="342" y="948"/>
                </a:lnTo>
                <a:lnTo>
                  <a:pt x="349" y="954"/>
                </a:lnTo>
                <a:lnTo>
                  <a:pt x="355" y="961"/>
                </a:lnTo>
                <a:lnTo>
                  <a:pt x="362" y="969"/>
                </a:lnTo>
                <a:lnTo>
                  <a:pt x="369" y="976"/>
                </a:lnTo>
                <a:lnTo>
                  <a:pt x="377" y="982"/>
                </a:lnTo>
                <a:lnTo>
                  <a:pt x="382" y="989"/>
                </a:lnTo>
                <a:lnTo>
                  <a:pt x="390" y="996"/>
                </a:lnTo>
                <a:lnTo>
                  <a:pt x="396" y="1003"/>
                </a:lnTo>
                <a:lnTo>
                  <a:pt x="404" y="1009"/>
                </a:lnTo>
                <a:lnTo>
                  <a:pt x="409" y="1014"/>
                </a:lnTo>
                <a:lnTo>
                  <a:pt x="416" y="1020"/>
                </a:lnTo>
                <a:lnTo>
                  <a:pt x="421" y="1024"/>
                </a:lnTo>
                <a:lnTo>
                  <a:pt x="427" y="1028"/>
                </a:lnTo>
                <a:lnTo>
                  <a:pt x="430" y="1032"/>
                </a:lnTo>
                <a:lnTo>
                  <a:pt x="436" y="1036"/>
                </a:lnTo>
                <a:lnTo>
                  <a:pt x="440" y="1040"/>
                </a:lnTo>
                <a:lnTo>
                  <a:pt x="446" y="1043"/>
                </a:lnTo>
                <a:lnTo>
                  <a:pt x="450" y="1047"/>
                </a:lnTo>
                <a:lnTo>
                  <a:pt x="455" y="1051"/>
                </a:lnTo>
                <a:lnTo>
                  <a:pt x="460" y="1055"/>
                </a:lnTo>
                <a:lnTo>
                  <a:pt x="466" y="1058"/>
                </a:lnTo>
                <a:lnTo>
                  <a:pt x="470" y="1062"/>
                </a:lnTo>
                <a:lnTo>
                  <a:pt x="474" y="1065"/>
                </a:lnTo>
                <a:lnTo>
                  <a:pt x="478" y="1069"/>
                </a:lnTo>
                <a:lnTo>
                  <a:pt x="483" y="1071"/>
                </a:lnTo>
                <a:lnTo>
                  <a:pt x="485" y="1073"/>
                </a:lnTo>
                <a:lnTo>
                  <a:pt x="489" y="1075"/>
                </a:lnTo>
                <a:lnTo>
                  <a:pt x="491" y="1077"/>
                </a:lnTo>
                <a:lnTo>
                  <a:pt x="494" y="1078"/>
                </a:lnTo>
                <a:lnTo>
                  <a:pt x="495" y="1080"/>
                </a:lnTo>
                <a:lnTo>
                  <a:pt x="497" y="1081"/>
                </a:lnTo>
                <a:lnTo>
                  <a:pt x="499" y="1083"/>
                </a:lnTo>
                <a:lnTo>
                  <a:pt x="503" y="1083"/>
                </a:lnTo>
                <a:lnTo>
                  <a:pt x="506" y="1085"/>
                </a:lnTo>
                <a:lnTo>
                  <a:pt x="510" y="1087"/>
                </a:lnTo>
                <a:lnTo>
                  <a:pt x="513" y="1089"/>
                </a:lnTo>
                <a:lnTo>
                  <a:pt x="518" y="1090"/>
                </a:lnTo>
                <a:lnTo>
                  <a:pt x="522" y="1092"/>
                </a:lnTo>
                <a:lnTo>
                  <a:pt x="525" y="1094"/>
                </a:lnTo>
                <a:lnTo>
                  <a:pt x="529" y="1096"/>
                </a:lnTo>
                <a:lnTo>
                  <a:pt x="534" y="1098"/>
                </a:lnTo>
                <a:lnTo>
                  <a:pt x="538" y="1100"/>
                </a:lnTo>
                <a:lnTo>
                  <a:pt x="542" y="1102"/>
                </a:lnTo>
                <a:lnTo>
                  <a:pt x="545" y="1103"/>
                </a:lnTo>
                <a:lnTo>
                  <a:pt x="550" y="1104"/>
                </a:lnTo>
                <a:lnTo>
                  <a:pt x="553" y="1106"/>
                </a:lnTo>
                <a:lnTo>
                  <a:pt x="558" y="1108"/>
                </a:lnTo>
                <a:lnTo>
                  <a:pt x="563" y="1110"/>
                </a:lnTo>
                <a:lnTo>
                  <a:pt x="568" y="1111"/>
                </a:lnTo>
                <a:lnTo>
                  <a:pt x="574" y="1113"/>
                </a:lnTo>
                <a:lnTo>
                  <a:pt x="581" y="1115"/>
                </a:lnTo>
                <a:lnTo>
                  <a:pt x="587" y="1117"/>
                </a:lnTo>
                <a:lnTo>
                  <a:pt x="594" y="1119"/>
                </a:lnTo>
                <a:lnTo>
                  <a:pt x="600" y="1121"/>
                </a:lnTo>
                <a:lnTo>
                  <a:pt x="608" y="1123"/>
                </a:lnTo>
                <a:lnTo>
                  <a:pt x="614" y="1125"/>
                </a:lnTo>
                <a:lnTo>
                  <a:pt x="621" y="1127"/>
                </a:lnTo>
                <a:lnTo>
                  <a:pt x="627" y="1129"/>
                </a:lnTo>
                <a:lnTo>
                  <a:pt x="634" y="1131"/>
                </a:lnTo>
                <a:lnTo>
                  <a:pt x="640" y="1133"/>
                </a:lnTo>
                <a:lnTo>
                  <a:pt x="647" y="1133"/>
                </a:lnTo>
                <a:lnTo>
                  <a:pt x="652" y="1135"/>
                </a:lnTo>
                <a:lnTo>
                  <a:pt x="658" y="1137"/>
                </a:lnTo>
                <a:lnTo>
                  <a:pt x="664" y="1139"/>
                </a:lnTo>
                <a:lnTo>
                  <a:pt x="672" y="1140"/>
                </a:lnTo>
                <a:lnTo>
                  <a:pt x="679" y="1141"/>
                </a:lnTo>
                <a:lnTo>
                  <a:pt x="687" y="1143"/>
                </a:lnTo>
                <a:lnTo>
                  <a:pt x="694" y="1145"/>
                </a:lnTo>
                <a:lnTo>
                  <a:pt x="703" y="1145"/>
                </a:lnTo>
                <a:lnTo>
                  <a:pt x="710" y="1147"/>
                </a:lnTo>
                <a:lnTo>
                  <a:pt x="718" y="1149"/>
                </a:lnTo>
                <a:lnTo>
                  <a:pt x="725" y="1151"/>
                </a:lnTo>
                <a:lnTo>
                  <a:pt x="732" y="1151"/>
                </a:lnTo>
                <a:lnTo>
                  <a:pt x="738" y="1153"/>
                </a:lnTo>
                <a:lnTo>
                  <a:pt x="745" y="1153"/>
                </a:lnTo>
                <a:lnTo>
                  <a:pt x="750" y="1154"/>
                </a:lnTo>
                <a:lnTo>
                  <a:pt x="756" y="1154"/>
                </a:lnTo>
                <a:lnTo>
                  <a:pt x="760" y="1156"/>
                </a:lnTo>
                <a:lnTo>
                  <a:pt x="766" y="1156"/>
                </a:lnTo>
                <a:lnTo>
                  <a:pt x="772" y="1157"/>
                </a:lnTo>
                <a:lnTo>
                  <a:pt x="779" y="1157"/>
                </a:lnTo>
                <a:lnTo>
                  <a:pt x="786" y="1159"/>
                </a:lnTo>
                <a:lnTo>
                  <a:pt x="794" y="1159"/>
                </a:lnTo>
                <a:lnTo>
                  <a:pt x="801" y="1159"/>
                </a:lnTo>
                <a:lnTo>
                  <a:pt x="809" y="1159"/>
                </a:lnTo>
                <a:lnTo>
                  <a:pt x="817" y="1161"/>
                </a:lnTo>
                <a:lnTo>
                  <a:pt x="824" y="1161"/>
                </a:lnTo>
                <a:lnTo>
                  <a:pt x="832" y="1161"/>
                </a:lnTo>
                <a:lnTo>
                  <a:pt x="840" y="1161"/>
                </a:lnTo>
                <a:lnTo>
                  <a:pt x="847" y="1162"/>
                </a:lnTo>
                <a:lnTo>
                  <a:pt x="854" y="1162"/>
                </a:lnTo>
                <a:lnTo>
                  <a:pt x="860" y="1162"/>
                </a:lnTo>
                <a:lnTo>
                  <a:pt x="868" y="1162"/>
                </a:lnTo>
                <a:lnTo>
                  <a:pt x="874" y="1164"/>
                </a:lnTo>
                <a:lnTo>
                  <a:pt x="880" y="1164"/>
                </a:lnTo>
                <a:lnTo>
                  <a:pt x="886" y="1164"/>
                </a:lnTo>
                <a:lnTo>
                  <a:pt x="894" y="1164"/>
                </a:lnTo>
                <a:lnTo>
                  <a:pt x="902" y="1164"/>
                </a:lnTo>
                <a:lnTo>
                  <a:pt x="909" y="1164"/>
                </a:lnTo>
                <a:lnTo>
                  <a:pt x="916" y="1164"/>
                </a:lnTo>
                <a:lnTo>
                  <a:pt x="925" y="1164"/>
                </a:lnTo>
                <a:lnTo>
                  <a:pt x="933" y="1165"/>
                </a:lnTo>
                <a:lnTo>
                  <a:pt x="940" y="1165"/>
                </a:lnTo>
                <a:lnTo>
                  <a:pt x="948" y="1165"/>
                </a:lnTo>
                <a:lnTo>
                  <a:pt x="955" y="1165"/>
                </a:lnTo>
                <a:lnTo>
                  <a:pt x="961" y="1165"/>
                </a:lnTo>
                <a:lnTo>
                  <a:pt x="968" y="1165"/>
                </a:lnTo>
                <a:lnTo>
                  <a:pt x="974" y="1165"/>
                </a:lnTo>
                <a:lnTo>
                  <a:pt x="980" y="1165"/>
                </a:lnTo>
                <a:lnTo>
                  <a:pt x="983" y="1165"/>
                </a:lnTo>
                <a:lnTo>
                  <a:pt x="986" y="1165"/>
                </a:lnTo>
                <a:lnTo>
                  <a:pt x="988" y="1165"/>
                </a:lnTo>
                <a:lnTo>
                  <a:pt x="991" y="1165"/>
                </a:lnTo>
                <a:lnTo>
                  <a:pt x="991" y="1165"/>
                </a:lnTo>
                <a:lnTo>
                  <a:pt x="993" y="1165"/>
                </a:lnTo>
                <a:lnTo>
                  <a:pt x="993" y="1165"/>
                </a:lnTo>
                <a:lnTo>
                  <a:pt x="995" y="1165"/>
                </a:lnTo>
                <a:lnTo>
                  <a:pt x="996" y="1165"/>
                </a:lnTo>
                <a:lnTo>
                  <a:pt x="998" y="1165"/>
                </a:lnTo>
                <a:lnTo>
                  <a:pt x="1000" y="1165"/>
                </a:lnTo>
                <a:lnTo>
                  <a:pt x="1004" y="1165"/>
                </a:lnTo>
                <a:lnTo>
                  <a:pt x="1008" y="1165"/>
                </a:lnTo>
                <a:lnTo>
                  <a:pt x="1013" y="1165"/>
                </a:lnTo>
                <a:lnTo>
                  <a:pt x="1020" y="1165"/>
                </a:lnTo>
                <a:lnTo>
                  <a:pt x="1030" y="1165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809880" y="2514600"/>
            <a:ext cx="1963800" cy="2232000"/>
          </a:xfrm>
          <a:custGeom>
            <a:avLst/>
            <a:gdLst/>
            <a:ahLst/>
            <a:rect l="l" t="t" r="r" b="b"/>
            <a:pathLst>
              <a:path w="901" h="1020">
                <a:moveTo>
                  <a:pt x="0" y="0"/>
                </a:moveTo>
                <a:lnTo>
                  <a:pt x="0" y="9"/>
                </a:lnTo>
                <a:lnTo>
                  <a:pt x="1" y="16"/>
                </a:lnTo>
                <a:lnTo>
                  <a:pt x="1" y="22"/>
                </a:lnTo>
                <a:lnTo>
                  <a:pt x="2" y="26"/>
                </a:lnTo>
                <a:lnTo>
                  <a:pt x="2" y="29"/>
                </a:lnTo>
                <a:lnTo>
                  <a:pt x="2" y="32"/>
                </a:lnTo>
                <a:lnTo>
                  <a:pt x="2" y="34"/>
                </a:lnTo>
                <a:lnTo>
                  <a:pt x="3" y="34"/>
                </a:lnTo>
                <a:lnTo>
                  <a:pt x="3" y="36"/>
                </a:lnTo>
                <a:lnTo>
                  <a:pt x="3" y="36"/>
                </a:lnTo>
                <a:lnTo>
                  <a:pt x="3" y="38"/>
                </a:lnTo>
                <a:lnTo>
                  <a:pt x="3" y="38"/>
                </a:lnTo>
                <a:lnTo>
                  <a:pt x="3" y="40"/>
                </a:lnTo>
                <a:lnTo>
                  <a:pt x="3" y="42"/>
                </a:lnTo>
                <a:lnTo>
                  <a:pt x="3" y="46"/>
                </a:lnTo>
                <a:lnTo>
                  <a:pt x="5" y="49"/>
                </a:lnTo>
                <a:lnTo>
                  <a:pt x="5" y="55"/>
                </a:lnTo>
                <a:lnTo>
                  <a:pt x="7" y="62"/>
                </a:lnTo>
                <a:lnTo>
                  <a:pt x="7" y="70"/>
                </a:lnTo>
                <a:lnTo>
                  <a:pt x="9" y="78"/>
                </a:lnTo>
                <a:lnTo>
                  <a:pt x="10" y="89"/>
                </a:lnTo>
                <a:lnTo>
                  <a:pt x="12" y="99"/>
                </a:lnTo>
                <a:lnTo>
                  <a:pt x="14" y="112"/>
                </a:lnTo>
                <a:lnTo>
                  <a:pt x="17" y="123"/>
                </a:lnTo>
                <a:lnTo>
                  <a:pt x="19" y="136"/>
                </a:lnTo>
                <a:lnTo>
                  <a:pt x="21" y="149"/>
                </a:lnTo>
                <a:lnTo>
                  <a:pt x="23" y="162"/>
                </a:lnTo>
                <a:lnTo>
                  <a:pt x="27" y="175"/>
                </a:lnTo>
                <a:lnTo>
                  <a:pt x="29" y="188"/>
                </a:lnTo>
                <a:lnTo>
                  <a:pt x="33" y="201"/>
                </a:lnTo>
                <a:lnTo>
                  <a:pt x="35" y="214"/>
                </a:lnTo>
                <a:lnTo>
                  <a:pt x="39" y="226"/>
                </a:lnTo>
                <a:lnTo>
                  <a:pt x="41" y="239"/>
                </a:lnTo>
                <a:lnTo>
                  <a:pt x="44" y="252"/>
                </a:lnTo>
                <a:lnTo>
                  <a:pt x="47" y="266"/>
                </a:lnTo>
                <a:lnTo>
                  <a:pt x="51" y="279"/>
                </a:lnTo>
                <a:lnTo>
                  <a:pt x="55" y="294"/>
                </a:lnTo>
                <a:lnTo>
                  <a:pt x="58" y="307"/>
                </a:lnTo>
                <a:lnTo>
                  <a:pt x="62" y="320"/>
                </a:lnTo>
                <a:lnTo>
                  <a:pt x="66" y="334"/>
                </a:lnTo>
                <a:lnTo>
                  <a:pt x="69" y="347"/>
                </a:lnTo>
                <a:lnTo>
                  <a:pt x="73" y="360"/>
                </a:lnTo>
                <a:lnTo>
                  <a:pt x="76" y="372"/>
                </a:lnTo>
                <a:lnTo>
                  <a:pt x="80" y="383"/>
                </a:lnTo>
                <a:lnTo>
                  <a:pt x="82" y="394"/>
                </a:lnTo>
                <a:lnTo>
                  <a:pt x="86" y="403"/>
                </a:lnTo>
                <a:lnTo>
                  <a:pt x="89" y="411"/>
                </a:lnTo>
                <a:lnTo>
                  <a:pt x="93" y="417"/>
                </a:lnTo>
                <a:lnTo>
                  <a:pt x="95" y="425"/>
                </a:lnTo>
                <a:lnTo>
                  <a:pt x="97" y="432"/>
                </a:lnTo>
                <a:lnTo>
                  <a:pt x="101" y="440"/>
                </a:lnTo>
                <a:lnTo>
                  <a:pt x="105" y="448"/>
                </a:lnTo>
                <a:lnTo>
                  <a:pt x="108" y="458"/>
                </a:lnTo>
                <a:lnTo>
                  <a:pt x="112" y="468"/>
                </a:lnTo>
                <a:lnTo>
                  <a:pt x="116" y="478"/>
                </a:lnTo>
                <a:lnTo>
                  <a:pt x="121" y="488"/>
                </a:lnTo>
                <a:lnTo>
                  <a:pt x="124" y="499"/>
                </a:lnTo>
                <a:lnTo>
                  <a:pt x="129" y="509"/>
                </a:lnTo>
                <a:lnTo>
                  <a:pt x="133" y="520"/>
                </a:lnTo>
                <a:lnTo>
                  <a:pt x="138" y="530"/>
                </a:lnTo>
                <a:lnTo>
                  <a:pt x="142" y="540"/>
                </a:lnTo>
                <a:lnTo>
                  <a:pt x="145" y="549"/>
                </a:lnTo>
                <a:lnTo>
                  <a:pt x="149" y="558"/>
                </a:lnTo>
                <a:lnTo>
                  <a:pt x="154" y="566"/>
                </a:lnTo>
                <a:lnTo>
                  <a:pt x="157" y="575"/>
                </a:lnTo>
                <a:lnTo>
                  <a:pt x="161" y="583"/>
                </a:lnTo>
                <a:lnTo>
                  <a:pt x="165" y="593"/>
                </a:lnTo>
                <a:lnTo>
                  <a:pt x="169" y="602"/>
                </a:lnTo>
                <a:lnTo>
                  <a:pt x="173" y="613"/>
                </a:lnTo>
                <a:lnTo>
                  <a:pt x="177" y="622"/>
                </a:lnTo>
                <a:lnTo>
                  <a:pt x="181" y="632"/>
                </a:lnTo>
                <a:lnTo>
                  <a:pt x="186" y="641"/>
                </a:lnTo>
                <a:lnTo>
                  <a:pt x="190" y="651"/>
                </a:lnTo>
                <a:lnTo>
                  <a:pt x="194" y="661"/>
                </a:lnTo>
                <a:lnTo>
                  <a:pt x="197" y="670"/>
                </a:lnTo>
                <a:lnTo>
                  <a:pt x="202" y="678"/>
                </a:lnTo>
                <a:lnTo>
                  <a:pt x="205" y="686"/>
                </a:lnTo>
                <a:lnTo>
                  <a:pt x="209" y="692"/>
                </a:lnTo>
                <a:lnTo>
                  <a:pt x="212" y="699"/>
                </a:lnTo>
                <a:lnTo>
                  <a:pt x="216" y="704"/>
                </a:lnTo>
                <a:lnTo>
                  <a:pt x="218" y="710"/>
                </a:lnTo>
                <a:lnTo>
                  <a:pt x="221" y="716"/>
                </a:lnTo>
                <a:lnTo>
                  <a:pt x="225" y="723"/>
                </a:lnTo>
                <a:lnTo>
                  <a:pt x="229" y="729"/>
                </a:lnTo>
                <a:lnTo>
                  <a:pt x="232" y="736"/>
                </a:lnTo>
                <a:lnTo>
                  <a:pt x="237" y="744"/>
                </a:lnTo>
                <a:lnTo>
                  <a:pt x="241" y="751"/>
                </a:lnTo>
                <a:lnTo>
                  <a:pt x="247" y="758"/>
                </a:lnTo>
                <a:lnTo>
                  <a:pt x="251" y="766"/>
                </a:lnTo>
                <a:lnTo>
                  <a:pt x="256" y="773"/>
                </a:lnTo>
                <a:lnTo>
                  <a:pt x="261" y="780"/>
                </a:lnTo>
                <a:lnTo>
                  <a:pt x="266" y="787"/>
                </a:lnTo>
                <a:lnTo>
                  <a:pt x="270" y="795"/>
                </a:lnTo>
                <a:lnTo>
                  <a:pt x="275" y="801"/>
                </a:lnTo>
                <a:lnTo>
                  <a:pt x="280" y="807"/>
                </a:lnTo>
                <a:lnTo>
                  <a:pt x="285" y="812"/>
                </a:lnTo>
                <a:lnTo>
                  <a:pt x="289" y="817"/>
                </a:lnTo>
                <a:lnTo>
                  <a:pt x="293" y="823"/>
                </a:lnTo>
                <a:lnTo>
                  <a:pt x="299" y="828"/>
                </a:lnTo>
                <a:lnTo>
                  <a:pt x="305" y="834"/>
                </a:lnTo>
                <a:lnTo>
                  <a:pt x="310" y="842"/>
                </a:lnTo>
                <a:lnTo>
                  <a:pt x="316" y="847"/>
                </a:lnTo>
                <a:lnTo>
                  <a:pt x="321" y="854"/>
                </a:lnTo>
                <a:lnTo>
                  <a:pt x="329" y="859"/>
                </a:lnTo>
                <a:lnTo>
                  <a:pt x="334" y="866"/>
                </a:lnTo>
                <a:lnTo>
                  <a:pt x="340" y="872"/>
                </a:lnTo>
                <a:lnTo>
                  <a:pt x="345" y="877"/>
                </a:lnTo>
                <a:lnTo>
                  <a:pt x="352" y="882"/>
                </a:lnTo>
                <a:lnTo>
                  <a:pt x="357" y="888"/>
                </a:lnTo>
                <a:lnTo>
                  <a:pt x="363" y="892"/>
                </a:lnTo>
                <a:lnTo>
                  <a:pt x="367" y="896"/>
                </a:lnTo>
                <a:lnTo>
                  <a:pt x="373" y="899"/>
                </a:lnTo>
                <a:lnTo>
                  <a:pt x="377" y="903"/>
                </a:lnTo>
                <a:lnTo>
                  <a:pt x="380" y="906"/>
                </a:lnTo>
                <a:lnTo>
                  <a:pt x="384" y="910"/>
                </a:lnTo>
                <a:lnTo>
                  <a:pt x="389" y="913"/>
                </a:lnTo>
                <a:lnTo>
                  <a:pt x="393" y="916"/>
                </a:lnTo>
                <a:lnTo>
                  <a:pt x="398" y="920"/>
                </a:lnTo>
                <a:lnTo>
                  <a:pt x="401" y="923"/>
                </a:lnTo>
                <a:lnTo>
                  <a:pt x="407" y="925"/>
                </a:lnTo>
                <a:lnTo>
                  <a:pt x="411" y="929"/>
                </a:lnTo>
                <a:lnTo>
                  <a:pt x="415" y="932"/>
                </a:lnTo>
                <a:lnTo>
                  <a:pt x="418" y="934"/>
                </a:lnTo>
                <a:lnTo>
                  <a:pt x="421" y="936"/>
                </a:lnTo>
                <a:lnTo>
                  <a:pt x="423" y="939"/>
                </a:lnTo>
                <a:lnTo>
                  <a:pt x="427" y="941"/>
                </a:lnTo>
                <a:lnTo>
                  <a:pt x="429" y="943"/>
                </a:lnTo>
                <a:lnTo>
                  <a:pt x="432" y="943"/>
                </a:lnTo>
                <a:lnTo>
                  <a:pt x="433" y="944"/>
                </a:lnTo>
                <a:lnTo>
                  <a:pt x="435" y="946"/>
                </a:lnTo>
                <a:lnTo>
                  <a:pt x="437" y="948"/>
                </a:lnTo>
                <a:lnTo>
                  <a:pt x="439" y="948"/>
                </a:lnTo>
                <a:lnTo>
                  <a:pt x="441" y="950"/>
                </a:lnTo>
                <a:lnTo>
                  <a:pt x="445" y="952"/>
                </a:lnTo>
                <a:lnTo>
                  <a:pt x="448" y="954"/>
                </a:lnTo>
                <a:lnTo>
                  <a:pt x="452" y="954"/>
                </a:lnTo>
                <a:lnTo>
                  <a:pt x="455" y="956"/>
                </a:lnTo>
                <a:lnTo>
                  <a:pt x="459" y="958"/>
                </a:lnTo>
                <a:lnTo>
                  <a:pt x="463" y="960"/>
                </a:lnTo>
                <a:lnTo>
                  <a:pt x="466" y="961"/>
                </a:lnTo>
                <a:lnTo>
                  <a:pt x="469" y="963"/>
                </a:lnTo>
                <a:lnTo>
                  <a:pt x="473" y="964"/>
                </a:lnTo>
                <a:lnTo>
                  <a:pt x="477" y="966"/>
                </a:lnTo>
                <a:lnTo>
                  <a:pt x="481" y="966"/>
                </a:lnTo>
                <a:lnTo>
                  <a:pt x="483" y="968"/>
                </a:lnTo>
                <a:lnTo>
                  <a:pt x="487" y="970"/>
                </a:lnTo>
                <a:lnTo>
                  <a:pt x="491" y="971"/>
                </a:lnTo>
                <a:lnTo>
                  <a:pt x="497" y="972"/>
                </a:lnTo>
                <a:lnTo>
                  <a:pt x="502" y="974"/>
                </a:lnTo>
                <a:lnTo>
                  <a:pt x="507" y="976"/>
                </a:lnTo>
                <a:lnTo>
                  <a:pt x="513" y="978"/>
                </a:lnTo>
                <a:lnTo>
                  <a:pt x="519" y="979"/>
                </a:lnTo>
                <a:lnTo>
                  <a:pt x="525" y="981"/>
                </a:lnTo>
                <a:lnTo>
                  <a:pt x="531" y="983"/>
                </a:lnTo>
                <a:lnTo>
                  <a:pt x="536" y="984"/>
                </a:lnTo>
                <a:lnTo>
                  <a:pt x="543" y="986"/>
                </a:lnTo>
                <a:lnTo>
                  <a:pt x="549" y="988"/>
                </a:lnTo>
                <a:lnTo>
                  <a:pt x="554" y="989"/>
                </a:lnTo>
                <a:lnTo>
                  <a:pt x="560" y="991"/>
                </a:lnTo>
                <a:lnTo>
                  <a:pt x="565" y="991"/>
                </a:lnTo>
                <a:lnTo>
                  <a:pt x="570" y="993"/>
                </a:lnTo>
                <a:lnTo>
                  <a:pt x="575" y="994"/>
                </a:lnTo>
                <a:lnTo>
                  <a:pt x="581" y="996"/>
                </a:lnTo>
                <a:lnTo>
                  <a:pt x="587" y="996"/>
                </a:lnTo>
                <a:lnTo>
                  <a:pt x="593" y="998"/>
                </a:lnTo>
                <a:lnTo>
                  <a:pt x="600" y="1000"/>
                </a:lnTo>
                <a:lnTo>
                  <a:pt x="607" y="1001"/>
                </a:lnTo>
                <a:lnTo>
                  <a:pt x="614" y="1001"/>
                </a:lnTo>
                <a:lnTo>
                  <a:pt x="620" y="1003"/>
                </a:lnTo>
                <a:lnTo>
                  <a:pt x="627" y="1004"/>
                </a:lnTo>
                <a:lnTo>
                  <a:pt x="632" y="1006"/>
                </a:lnTo>
                <a:lnTo>
                  <a:pt x="640" y="1006"/>
                </a:lnTo>
                <a:lnTo>
                  <a:pt x="645" y="1008"/>
                </a:lnTo>
                <a:lnTo>
                  <a:pt x="651" y="1008"/>
                </a:lnTo>
                <a:lnTo>
                  <a:pt x="655" y="1008"/>
                </a:lnTo>
                <a:lnTo>
                  <a:pt x="661" y="1008"/>
                </a:lnTo>
                <a:lnTo>
                  <a:pt x="665" y="1010"/>
                </a:lnTo>
                <a:lnTo>
                  <a:pt x="669" y="1010"/>
                </a:lnTo>
                <a:lnTo>
                  <a:pt x="675" y="1011"/>
                </a:lnTo>
                <a:lnTo>
                  <a:pt x="681" y="1011"/>
                </a:lnTo>
                <a:lnTo>
                  <a:pt x="687" y="1013"/>
                </a:lnTo>
                <a:lnTo>
                  <a:pt x="693" y="1013"/>
                </a:lnTo>
                <a:lnTo>
                  <a:pt x="700" y="1013"/>
                </a:lnTo>
                <a:lnTo>
                  <a:pt x="707" y="1013"/>
                </a:lnTo>
                <a:lnTo>
                  <a:pt x="713" y="1015"/>
                </a:lnTo>
                <a:lnTo>
                  <a:pt x="720" y="1015"/>
                </a:lnTo>
                <a:lnTo>
                  <a:pt x="727" y="1015"/>
                </a:lnTo>
                <a:lnTo>
                  <a:pt x="735" y="1015"/>
                </a:lnTo>
                <a:lnTo>
                  <a:pt x="740" y="1016"/>
                </a:lnTo>
                <a:lnTo>
                  <a:pt x="747" y="1016"/>
                </a:lnTo>
                <a:lnTo>
                  <a:pt x="752" y="1016"/>
                </a:lnTo>
                <a:lnTo>
                  <a:pt x="758" y="1016"/>
                </a:lnTo>
                <a:lnTo>
                  <a:pt x="763" y="1018"/>
                </a:lnTo>
                <a:lnTo>
                  <a:pt x="768" y="1018"/>
                </a:lnTo>
                <a:lnTo>
                  <a:pt x="774" y="1018"/>
                </a:lnTo>
                <a:lnTo>
                  <a:pt x="781" y="1018"/>
                </a:lnTo>
                <a:lnTo>
                  <a:pt x="787" y="1018"/>
                </a:lnTo>
                <a:lnTo>
                  <a:pt x="794" y="1018"/>
                </a:lnTo>
                <a:lnTo>
                  <a:pt x="801" y="1018"/>
                </a:lnTo>
                <a:lnTo>
                  <a:pt x="808" y="1018"/>
                </a:lnTo>
                <a:lnTo>
                  <a:pt x="814" y="1019"/>
                </a:lnTo>
                <a:lnTo>
                  <a:pt x="821" y="1019"/>
                </a:lnTo>
                <a:lnTo>
                  <a:pt x="827" y="1019"/>
                </a:lnTo>
                <a:lnTo>
                  <a:pt x="835" y="1019"/>
                </a:lnTo>
                <a:lnTo>
                  <a:pt x="840" y="1019"/>
                </a:lnTo>
                <a:lnTo>
                  <a:pt x="846" y="1019"/>
                </a:lnTo>
                <a:lnTo>
                  <a:pt x="851" y="1019"/>
                </a:lnTo>
                <a:lnTo>
                  <a:pt x="856" y="1019"/>
                </a:lnTo>
                <a:lnTo>
                  <a:pt x="859" y="1019"/>
                </a:lnTo>
                <a:lnTo>
                  <a:pt x="862" y="1019"/>
                </a:lnTo>
                <a:lnTo>
                  <a:pt x="864" y="1019"/>
                </a:lnTo>
                <a:lnTo>
                  <a:pt x="866" y="1019"/>
                </a:lnTo>
                <a:lnTo>
                  <a:pt x="866" y="1019"/>
                </a:lnTo>
                <a:lnTo>
                  <a:pt x="867" y="1019"/>
                </a:lnTo>
                <a:lnTo>
                  <a:pt x="867" y="1019"/>
                </a:lnTo>
                <a:lnTo>
                  <a:pt x="869" y="1019"/>
                </a:lnTo>
                <a:lnTo>
                  <a:pt x="869" y="1019"/>
                </a:lnTo>
                <a:lnTo>
                  <a:pt x="871" y="1019"/>
                </a:lnTo>
                <a:lnTo>
                  <a:pt x="873" y="1019"/>
                </a:lnTo>
                <a:lnTo>
                  <a:pt x="877" y="1019"/>
                </a:lnTo>
                <a:lnTo>
                  <a:pt x="881" y="1019"/>
                </a:lnTo>
                <a:lnTo>
                  <a:pt x="886" y="1019"/>
                </a:lnTo>
                <a:lnTo>
                  <a:pt x="892" y="1019"/>
                </a:lnTo>
                <a:lnTo>
                  <a:pt x="900" y="1019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58200" y="624852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8600" y="1219320"/>
            <a:ext cx="1295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" y="18288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8200" y="71629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28800" y="179064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15000" y="3886200"/>
            <a:ext cx="2438280" cy="1143000"/>
          </a:xfrm>
          <a:prstGeom prst="wedgeRoundRectCallout">
            <a:avLst>
              <a:gd name="adj1" fmla="val -53578"/>
              <a:gd name="adj2" fmla="val 120000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Luego de la aper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0492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aximizar los beneficios maximizara el ingreso nacional a precios internacion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43200" y="3886200"/>
            <a:ext cx="2017800" cy="17161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945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0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mercio agranda el conjunto de consu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95680" y="40384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562720" y="4952880"/>
            <a:ext cx="2590560" cy="1143000"/>
          </a:xfrm>
          <a:prstGeom prst="wedgeRoundRectCallout">
            <a:avLst>
              <a:gd name="adj1" fmla="val -79842"/>
              <a:gd name="adj2" fmla="val 6666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Precios internacio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2666880"/>
            <a:ext cx="2438640" cy="990720"/>
          </a:xfrm>
          <a:prstGeom prst="wedgeRoundRectCallout">
            <a:avLst>
              <a:gd name="adj1" fmla="val -94597"/>
              <a:gd name="adj2" fmla="val 100319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quilibrio Autárk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0200" y="2795760"/>
            <a:ext cx="4800600" cy="40813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00200" y="2666880"/>
            <a:ext cx="4952880" cy="421020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00200" y="2514600"/>
            <a:ext cx="5181480" cy="44053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00200" y="2362320"/>
            <a:ext cx="5334120" cy="45352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00200" y="2209680"/>
            <a:ext cx="5486400" cy="466416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00200" y="2057400"/>
            <a:ext cx="5715000" cy="48592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86400" y="3200400"/>
            <a:ext cx="2438280" cy="990720"/>
          </a:xfrm>
          <a:prstGeom prst="wedgeRoundRectCallout">
            <a:avLst>
              <a:gd name="adj1" fmla="val -61328"/>
              <a:gd name="adj2" fmla="val 73078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quilibrio con comerc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66880" y="2895480"/>
            <a:ext cx="838440" cy="25909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3809880"/>
            <a:ext cx="838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270600" y="-1080"/>
            <a:ext cx="678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value el ingreso nacional 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precios internacion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15000" y="4952880"/>
            <a:ext cx="2438280" cy="1143000"/>
          </a:xfrm>
          <a:prstGeom prst="wedgeRoundRectCallout">
            <a:avLst>
              <a:gd name="adj1" fmla="val -81703"/>
              <a:gd name="adj2" fmla="val 19999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Iso-beneficio en A, dados los precios mundi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00200" y="2949480"/>
            <a:ext cx="4648320" cy="395136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00200" y="4495680"/>
            <a:ext cx="2971800" cy="2438640"/>
          </a:xfrm>
          <a:prstGeom prst="rect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0200" y="2209680"/>
            <a:ext cx="380880" cy="4724640"/>
          </a:xfrm>
          <a:prstGeom prst="rect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600200" y="1295280"/>
            <a:ext cx="0" cy="563400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04880" y="6934320"/>
            <a:ext cx="700560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4343400"/>
            <a:ext cx="2438280" cy="1143000"/>
          </a:xfrm>
          <a:prstGeom prst="wedgeRoundRectCallout">
            <a:avLst>
              <a:gd name="adj1" fmla="val 55273"/>
              <a:gd name="adj2" fmla="val 119027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ntes de que se abra el comerc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1960" y="1370520"/>
            <a:ext cx="508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ntidad comerci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85880" y="7130520"/>
            <a:ext cx="3304800" cy="642600"/>
            <a:chOff x="1685880" y="7130520"/>
            <a:chExt cx="3304800" cy="642600"/>
          </a:xfrm>
        </p:grpSpPr>
        <p:sp>
          <p:nvSpPr>
            <p:cNvPr id="980" name=""/>
            <p:cNvSpPr/>
            <p:nvPr/>
          </p:nvSpPr>
          <p:spPr>
            <a:xfrm>
              <a:off x="1981080" y="7162920"/>
              <a:ext cx="2590920" cy="0"/>
            </a:xfrm>
            <a:prstGeom prst="line">
              <a:avLst/>
            </a:prstGeom>
            <a:ln w="98280">
              <a:solidFill>
                <a:srgbClr val="00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85880" y="7130520"/>
              <a:ext cx="33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ffff"/>
                  </a:solidFill>
                  <a:latin typeface="Arial"/>
                </a:rPr>
                <a:t>Import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67160" y="1724760"/>
            <a:ext cx="642600" cy="3330720"/>
            <a:chOff x="767160" y="1724760"/>
            <a:chExt cx="642600" cy="3330720"/>
          </a:xfrm>
        </p:grpSpPr>
        <p:sp>
          <p:nvSpPr>
            <p:cNvPr id="983" name=""/>
            <p:cNvSpPr/>
            <p:nvPr/>
          </p:nvSpPr>
          <p:spPr>
            <a:xfrm>
              <a:off x="1386000" y="2201040"/>
              <a:ext cx="0" cy="2298960"/>
            </a:xfrm>
            <a:prstGeom prst="line">
              <a:avLst/>
            </a:prstGeom>
            <a:ln w="98280">
              <a:solidFill>
                <a:srgbClr val="00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5400000">
              <a:off x="-576720" y="3068640"/>
              <a:ext cx="33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ffff"/>
                  </a:solidFill>
                  <a:latin typeface="Arial"/>
                </a:rPr>
                <a:t>Exportació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600200" y="1905120"/>
            <a:ext cx="5791320" cy="492264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00200" y="1905120"/>
            <a:ext cx="5867280" cy="5029200"/>
          </a:xfrm>
          <a:custGeom>
            <a:avLst/>
            <a:gdLst/>
            <a:ahLst/>
            <a:rect l="l" t="t" r="r" b="b"/>
            <a:pathLst>
              <a:path w="2714" h="2357">
                <a:moveTo>
                  <a:pt x="0" y="8"/>
                </a:moveTo>
                <a:lnTo>
                  <a:pt x="4" y="2356"/>
                </a:lnTo>
                <a:lnTo>
                  <a:pt x="2713" y="2356"/>
                </a:lnTo>
                <a:lnTo>
                  <a:pt x="9" y="0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90840" y="2052720"/>
            <a:ext cx="3201840" cy="4881600"/>
          </a:xfrm>
          <a:custGeom>
            <a:avLst/>
            <a:gdLst/>
            <a:ahLst/>
            <a:rect l="l" t="t" r="r" b="b"/>
            <a:pathLst>
              <a:path w="1470" h="2232">
                <a:moveTo>
                  <a:pt x="405" y="867"/>
                </a:moveTo>
                <a:lnTo>
                  <a:pt x="405" y="867"/>
                </a:lnTo>
                <a:lnTo>
                  <a:pt x="336" y="699"/>
                </a:lnTo>
                <a:lnTo>
                  <a:pt x="297" y="532"/>
                </a:lnTo>
                <a:lnTo>
                  <a:pt x="257" y="364"/>
                </a:lnTo>
                <a:lnTo>
                  <a:pt x="247" y="246"/>
                </a:lnTo>
                <a:lnTo>
                  <a:pt x="207" y="117"/>
                </a:lnTo>
                <a:lnTo>
                  <a:pt x="158" y="58"/>
                </a:lnTo>
                <a:lnTo>
                  <a:pt x="98" y="29"/>
                </a:lnTo>
                <a:lnTo>
                  <a:pt x="0" y="0"/>
                </a:lnTo>
                <a:lnTo>
                  <a:pt x="3" y="2231"/>
                </a:lnTo>
                <a:lnTo>
                  <a:pt x="1469" y="2230"/>
                </a:lnTo>
                <a:lnTo>
                  <a:pt x="1469" y="2230"/>
                </a:lnTo>
                <a:lnTo>
                  <a:pt x="1452" y="2157"/>
                </a:lnTo>
                <a:lnTo>
                  <a:pt x="1447" y="2139"/>
                </a:lnTo>
                <a:lnTo>
                  <a:pt x="1441" y="2118"/>
                </a:lnTo>
                <a:lnTo>
                  <a:pt x="1433" y="2096"/>
                </a:lnTo>
                <a:lnTo>
                  <a:pt x="1424" y="2072"/>
                </a:lnTo>
                <a:lnTo>
                  <a:pt x="1416" y="2048"/>
                </a:lnTo>
                <a:lnTo>
                  <a:pt x="1407" y="2025"/>
                </a:lnTo>
                <a:lnTo>
                  <a:pt x="1400" y="2004"/>
                </a:lnTo>
                <a:lnTo>
                  <a:pt x="1394" y="1993"/>
                </a:lnTo>
                <a:lnTo>
                  <a:pt x="1390" y="1982"/>
                </a:lnTo>
                <a:lnTo>
                  <a:pt x="1385" y="1969"/>
                </a:lnTo>
                <a:lnTo>
                  <a:pt x="1378" y="1956"/>
                </a:lnTo>
                <a:lnTo>
                  <a:pt x="1371" y="1942"/>
                </a:lnTo>
                <a:lnTo>
                  <a:pt x="1365" y="1928"/>
                </a:lnTo>
                <a:lnTo>
                  <a:pt x="1357" y="1913"/>
                </a:lnTo>
                <a:lnTo>
                  <a:pt x="1351" y="1897"/>
                </a:lnTo>
                <a:lnTo>
                  <a:pt x="1343" y="1883"/>
                </a:lnTo>
                <a:lnTo>
                  <a:pt x="1335" y="1868"/>
                </a:lnTo>
                <a:lnTo>
                  <a:pt x="1328" y="1853"/>
                </a:lnTo>
                <a:lnTo>
                  <a:pt x="1321" y="1839"/>
                </a:lnTo>
                <a:lnTo>
                  <a:pt x="1314" y="1826"/>
                </a:lnTo>
                <a:lnTo>
                  <a:pt x="1307" y="1813"/>
                </a:lnTo>
                <a:lnTo>
                  <a:pt x="1301" y="1802"/>
                </a:lnTo>
                <a:lnTo>
                  <a:pt x="1295" y="1790"/>
                </a:lnTo>
                <a:lnTo>
                  <a:pt x="1287" y="1780"/>
                </a:lnTo>
                <a:lnTo>
                  <a:pt x="1281" y="1768"/>
                </a:lnTo>
                <a:lnTo>
                  <a:pt x="1273" y="1757"/>
                </a:lnTo>
                <a:lnTo>
                  <a:pt x="1264" y="1744"/>
                </a:lnTo>
                <a:lnTo>
                  <a:pt x="1255" y="1732"/>
                </a:lnTo>
                <a:lnTo>
                  <a:pt x="1245" y="1717"/>
                </a:lnTo>
                <a:lnTo>
                  <a:pt x="1236" y="1704"/>
                </a:lnTo>
                <a:lnTo>
                  <a:pt x="1227" y="1690"/>
                </a:lnTo>
                <a:lnTo>
                  <a:pt x="1215" y="1678"/>
                </a:lnTo>
                <a:lnTo>
                  <a:pt x="1205" y="1664"/>
                </a:lnTo>
                <a:lnTo>
                  <a:pt x="1195" y="1651"/>
                </a:lnTo>
                <a:lnTo>
                  <a:pt x="1185" y="1639"/>
                </a:lnTo>
                <a:lnTo>
                  <a:pt x="1176" y="1628"/>
                </a:lnTo>
                <a:lnTo>
                  <a:pt x="1167" y="1618"/>
                </a:lnTo>
                <a:lnTo>
                  <a:pt x="1158" y="1608"/>
                </a:lnTo>
                <a:lnTo>
                  <a:pt x="1151" y="1599"/>
                </a:lnTo>
                <a:lnTo>
                  <a:pt x="1132" y="1583"/>
                </a:lnTo>
                <a:lnTo>
                  <a:pt x="1113" y="1565"/>
                </a:lnTo>
                <a:lnTo>
                  <a:pt x="1093" y="1546"/>
                </a:lnTo>
                <a:lnTo>
                  <a:pt x="1073" y="1527"/>
                </a:lnTo>
                <a:lnTo>
                  <a:pt x="1052" y="1509"/>
                </a:lnTo>
                <a:lnTo>
                  <a:pt x="1033" y="1492"/>
                </a:lnTo>
                <a:lnTo>
                  <a:pt x="1016" y="1478"/>
                </a:lnTo>
                <a:lnTo>
                  <a:pt x="1002" y="1465"/>
                </a:lnTo>
                <a:lnTo>
                  <a:pt x="987" y="1458"/>
                </a:lnTo>
                <a:lnTo>
                  <a:pt x="971" y="1445"/>
                </a:lnTo>
                <a:lnTo>
                  <a:pt x="953" y="1433"/>
                </a:lnTo>
                <a:lnTo>
                  <a:pt x="935" y="1422"/>
                </a:lnTo>
                <a:lnTo>
                  <a:pt x="916" y="1410"/>
                </a:lnTo>
                <a:lnTo>
                  <a:pt x="899" y="1399"/>
                </a:lnTo>
                <a:lnTo>
                  <a:pt x="882" y="1390"/>
                </a:lnTo>
                <a:lnTo>
                  <a:pt x="869" y="1382"/>
                </a:lnTo>
                <a:lnTo>
                  <a:pt x="854" y="1376"/>
                </a:lnTo>
                <a:lnTo>
                  <a:pt x="840" y="1370"/>
                </a:lnTo>
                <a:lnTo>
                  <a:pt x="823" y="1364"/>
                </a:lnTo>
                <a:lnTo>
                  <a:pt x="807" y="1357"/>
                </a:lnTo>
                <a:lnTo>
                  <a:pt x="790" y="1350"/>
                </a:lnTo>
                <a:lnTo>
                  <a:pt x="776" y="1345"/>
                </a:lnTo>
                <a:lnTo>
                  <a:pt x="762" y="1341"/>
                </a:lnTo>
                <a:lnTo>
                  <a:pt x="752" y="1337"/>
                </a:lnTo>
                <a:lnTo>
                  <a:pt x="741" y="1336"/>
                </a:lnTo>
                <a:lnTo>
                  <a:pt x="728" y="1334"/>
                </a:lnTo>
                <a:lnTo>
                  <a:pt x="715" y="1331"/>
                </a:lnTo>
                <a:lnTo>
                  <a:pt x="633" y="1271"/>
                </a:lnTo>
                <a:lnTo>
                  <a:pt x="623" y="1271"/>
                </a:lnTo>
                <a:lnTo>
                  <a:pt x="544" y="1123"/>
                </a:lnTo>
                <a:lnTo>
                  <a:pt x="405" y="867"/>
                </a:lnTo>
                <a:lnTo>
                  <a:pt x="405" y="867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6048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remos ahora el caso de no convexidad con comercio internaci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4440" y="1241280"/>
            <a:ext cx="2194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600200" y="1295280"/>
            <a:ext cx="0" cy="563400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04880" y="6934320"/>
            <a:ext cx="700560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16080" y="3143160"/>
            <a:ext cx="2246400" cy="2551320"/>
          </a:xfrm>
          <a:custGeom>
            <a:avLst/>
            <a:gdLst/>
            <a:ahLst/>
            <a:rect l="l" t="t" r="r" b="b"/>
            <a:pathLst>
              <a:path w="1031" h="1166">
                <a:moveTo>
                  <a:pt x="0" y="0"/>
                </a:moveTo>
                <a:lnTo>
                  <a:pt x="0" y="11"/>
                </a:lnTo>
                <a:lnTo>
                  <a:pt x="1" y="18"/>
                </a:lnTo>
                <a:lnTo>
                  <a:pt x="1" y="25"/>
                </a:lnTo>
                <a:lnTo>
                  <a:pt x="2" y="29"/>
                </a:lnTo>
                <a:lnTo>
                  <a:pt x="2" y="33"/>
                </a:lnTo>
                <a:lnTo>
                  <a:pt x="2" y="36"/>
                </a:lnTo>
                <a:lnTo>
                  <a:pt x="2" y="38"/>
                </a:lnTo>
                <a:lnTo>
                  <a:pt x="4" y="39"/>
                </a:lnTo>
                <a:lnTo>
                  <a:pt x="4" y="41"/>
                </a:lnTo>
                <a:lnTo>
                  <a:pt x="4" y="41"/>
                </a:lnTo>
                <a:lnTo>
                  <a:pt x="4" y="43"/>
                </a:lnTo>
                <a:lnTo>
                  <a:pt x="4" y="44"/>
                </a:lnTo>
                <a:lnTo>
                  <a:pt x="4" y="47"/>
                </a:lnTo>
                <a:lnTo>
                  <a:pt x="4" y="49"/>
                </a:lnTo>
                <a:lnTo>
                  <a:pt x="4" y="53"/>
                </a:lnTo>
                <a:lnTo>
                  <a:pt x="6" y="57"/>
                </a:lnTo>
                <a:lnTo>
                  <a:pt x="6" y="63"/>
                </a:lnTo>
                <a:lnTo>
                  <a:pt x="7" y="71"/>
                </a:lnTo>
                <a:lnTo>
                  <a:pt x="8" y="80"/>
                </a:lnTo>
                <a:lnTo>
                  <a:pt x="10" y="90"/>
                </a:lnTo>
                <a:lnTo>
                  <a:pt x="12" y="103"/>
                </a:lnTo>
                <a:lnTo>
                  <a:pt x="14" y="115"/>
                </a:lnTo>
                <a:lnTo>
                  <a:pt x="16" y="127"/>
                </a:lnTo>
                <a:lnTo>
                  <a:pt x="20" y="141"/>
                </a:lnTo>
                <a:lnTo>
                  <a:pt x="22" y="156"/>
                </a:lnTo>
                <a:lnTo>
                  <a:pt x="26" y="171"/>
                </a:lnTo>
                <a:lnTo>
                  <a:pt x="28" y="185"/>
                </a:lnTo>
                <a:lnTo>
                  <a:pt x="32" y="201"/>
                </a:lnTo>
                <a:lnTo>
                  <a:pt x="34" y="215"/>
                </a:lnTo>
                <a:lnTo>
                  <a:pt x="37" y="231"/>
                </a:lnTo>
                <a:lnTo>
                  <a:pt x="41" y="245"/>
                </a:lnTo>
                <a:lnTo>
                  <a:pt x="45" y="259"/>
                </a:lnTo>
                <a:lnTo>
                  <a:pt x="47" y="273"/>
                </a:lnTo>
                <a:lnTo>
                  <a:pt x="51" y="288"/>
                </a:lnTo>
                <a:lnTo>
                  <a:pt x="55" y="303"/>
                </a:lnTo>
                <a:lnTo>
                  <a:pt x="58" y="319"/>
                </a:lnTo>
                <a:lnTo>
                  <a:pt x="62" y="335"/>
                </a:lnTo>
                <a:lnTo>
                  <a:pt x="66" y="350"/>
                </a:lnTo>
                <a:lnTo>
                  <a:pt x="70" y="367"/>
                </a:lnTo>
                <a:lnTo>
                  <a:pt x="75" y="381"/>
                </a:lnTo>
                <a:lnTo>
                  <a:pt x="79" y="397"/>
                </a:lnTo>
                <a:lnTo>
                  <a:pt x="83" y="412"/>
                </a:lnTo>
                <a:lnTo>
                  <a:pt x="86" y="427"/>
                </a:lnTo>
                <a:lnTo>
                  <a:pt x="92" y="439"/>
                </a:lnTo>
                <a:lnTo>
                  <a:pt x="96" y="451"/>
                </a:lnTo>
                <a:lnTo>
                  <a:pt x="100" y="461"/>
                </a:lnTo>
                <a:lnTo>
                  <a:pt x="103" y="471"/>
                </a:lnTo>
                <a:lnTo>
                  <a:pt x="106" y="478"/>
                </a:lnTo>
                <a:lnTo>
                  <a:pt x="108" y="486"/>
                </a:lnTo>
                <a:lnTo>
                  <a:pt x="112" y="495"/>
                </a:lnTo>
                <a:lnTo>
                  <a:pt x="116" y="504"/>
                </a:lnTo>
                <a:lnTo>
                  <a:pt x="120" y="513"/>
                </a:lnTo>
                <a:lnTo>
                  <a:pt x="124" y="525"/>
                </a:lnTo>
                <a:lnTo>
                  <a:pt x="129" y="536"/>
                </a:lnTo>
                <a:lnTo>
                  <a:pt x="133" y="547"/>
                </a:lnTo>
                <a:lnTo>
                  <a:pt x="139" y="558"/>
                </a:lnTo>
                <a:lnTo>
                  <a:pt x="143" y="571"/>
                </a:lnTo>
                <a:lnTo>
                  <a:pt x="148" y="583"/>
                </a:lnTo>
                <a:lnTo>
                  <a:pt x="153" y="595"/>
                </a:lnTo>
                <a:lnTo>
                  <a:pt x="158" y="606"/>
                </a:lnTo>
                <a:lnTo>
                  <a:pt x="162" y="617"/>
                </a:lnTo>
                <a:lnTo>
                  <a:pt x="168" y="629"/>
                </a:lnTo>
                <a:lnTo>
                  <a:pt x="172" y="639"/>
                </a:lnTo>
                <a:lnTo>
                  <a:pt x="177" y="647"/>
                </a:lnTo>
                <a:lnTo>
                  <a:pt x="181" y="658"/>
                </a:lnTo>
                <a:lnTo>
                  <a:pt x="184" y="667"/>
                </a:lnTo>
                <a:lnTo>
                  <a:pt x="188" y="679"/>
                </a:lnTo>
                <a:lnTo>
                  <a:pt x="194" y="689"/>
                </a:lnTo>
                <a:lnTo>
                  <a:pt x="198" y="700"/>
                </a:lnTo>
                <a:lnTo>
                  <a:pt x="203" y="711"/>
                </a:lnTo>
                <a:lnTo>
                  <a:pt x="208" y="722"/>
                </a:lnTo>
                <a:lnTo>
                  <a:pt x="214" y="733"/>
                </a:lnTo>
                <a:lnTo>
                  <a:pt x="218" y="744"/>
                </a:lnTo>
                <a:lnTo>
                  <a:pt x="223" y="755"/>
                </a:lnTo>
                <a:lnTo>
                  <a:pt x="227" y="765"/>
                </a:lnTo>
                <a:lnTo>
                  <a:pt x="232" y="775"/>
                </a:lnTo>
                <a:lnTo>
                  <a:pt x="236" y="784"/>
                </a:lnTo>
                <a:lnTo>
                  <a:pt x="241" y="792"/>
                </a:lnTo>
                <a:lnTo>
                  <a:pt x="244" y="799"/>
                </a:lnTo>
                <a:lnTo>
                  <a:pt x="248" y="805"/>
                </a:lnTo>
                <a:lnTo>
                  <a:pt x="250" y="812"/>
                </a:lnTo>
                <a:lnTo>
                  <a:pt x="253" y="818"/>
                </a:lnTo>
                <a:lnTo>
                  <a:pt x="257" y="826"/>
                </a:lnTo>
                <a:lnTo>
                  <a:pt x="262" y="833"/>
                </a:lnTo>
                <a:lnTo>
                  <a:pt x="266" y="843"/>
                </a:lnTo>
                <a:lnTo>
                  <a:pt x="272" y="850"/>
                </a:lnTo>
                <a:lnTo>
                  <a:pt x="278" y="859"/>
                </a:lnTo>
                <a:lnTo>
                  <a:pt x="283" y="866"/>
                </a:lnTo>
                <a:lnTo>
                  <a:pt x="289" y="876"/>
                </a:lnTo>
                <a:lnTo>
                  <a:pt x="294" y="885"/>
                </a:lnTo>
                <a:lnTo>
                  <a:pt x="300" y="893"/>
                </a:lnTo>
                <a:lnTo>
                  <a:pt x="306" y="901"/>
                </a:lnTo>
                <a:lnTo>
                  <a:pt x="310" y="909"/>
                </a:lnTo>
                <a:lnTo>
                  <a:pt x="316" y="916"/>
                </a:lnTo>
                <a:lnTo>
                  <a:pt x="321" y="923"/>
                </a:lnTo>
                <a:lnTo>
                  <a:pt x="327" y="928"/>
                </a:lnTo>
                <a:lnTo>
                  <a:pt x="331" y="935"/>
                </a:lnTo>
                <a:lnTo>
                  <a:pt x="337" y="941"/>
                </a:lnTo>
                <a:lnTo>
                  <a:pt x="342" y="948"/>
                </a:lnTo>
                <a:lnTo>
                  <a:pt x="349" y="954"/>
                </a:lnTo>
                <a:lnTo>
                  <a:pt x="355" y="961"/>
                </a:lnTo>
                <a:lnTo>
                  <a:pt x="362" y="969"/>
                </a:lnTo>
                <a:lnTo>
                  <a:pt x="369" y="976"/>
                </a:lnTo>
                <a:lnTo>
                  <a:pt x="377" y="982"/>
                </a:lnTo>
                <a:lnTo>
                  <a:pt x="382" y="989"/>
                </a:lnTo>
                <a:lnTo>
                  <a:pt x="390" y="996"/>
                </a:lnTo>
                <a:lnTo>
                  <a:pt x="396" y="1003"/>
                </a:lnTo>
                <a:lnTo>
                  <a:pt x="404" y="1009"/>
                </a:lnTo>
                <a:lnTo>
                  <a:pt x="409" y="1014"/>
                </a:lnTo>
                <a:lnTo>
                  <a:pt x="416" y="1020"/>
                </a:lnTo>
                <a:lnTo>
                  <a:pt x="421" y="1024"/>
                </a:lnTo>
                <a:lnTo>
                  <a:pt x="427" y="1028"/>
                </a:lnTo>
                <a:lnTo>
                  <a:pt x="430" y="1032"/>
                </a:lnTo>
                <a:lnTo>
                  <a:pt x="436" y="1036"/>
                </a:lnTo>
                <a:lnTo>
                  <a:pt x="440" y="1040"/>
                </a:lnTo>
                <a:lnTo>
                  <a:pt x="446" y="1043"/>
                </a:lnTo>
                <a:lnTo>
                  <a:pt x="450" y="1047"/>
                </a:lnTo>
                <a:lnTo>
                  <a:pt x="455" y="1051"/>
                </a:lnTo>
                <a:lnTo>
                  <a:pt x="460" y="1055"/>
                </a:lnTo>
                <a:lnTo>
                  <a:pt x="466" y="1058"/>
                </a:lnTo>
                <a:lnTo>
                  <a:pt x="470" y="1062"/>
                </a:lnTo>
                <a:lnTo>
                  <a:pt x="474" y="1065"/>
                </a:lnTo>
                <a:lnTo>
                  <a:pt x="478" y="1069"/>
                </a:lnTo>
                <a:lnTo>
                  <a:pt x="483" y="1071"/>
                </a:lnTo>
                <a:lnTo>
                  <a:pt x="485" y="1073"/>
                </a:lnTo>
                <a:lnTo>
                  <a:pt x="489" y="1075"/>
                </a:lnTo>
                <a:lnTo>
                  <a:pt x="491" y="1077"/>
                </a:lnTo>
                <a:lnTo>
                  <a:pt x="494" y="1078"/>
                </a:lnTo>
                <a:lnTo>
                  <a:pt x="495" y="1080"/>
                </a:lnTo>
                <a:lnTo>
                  <a:pt x="497" y="1081"/>
                </a:lnTo>
                <a:lnTo>
                  <a:pt x="499" y="1083"/>
                </a:lnTo>
                <a:lnTo>
                  <a:pt x="503" y="1083"/>
                </a:lnTo>
                <a:lnTo>
                  <a:pt x="506" y="1085"/>
                </a:lnTo>
                <a:lnTo>
                  <a:pt x="510" y="1087"/>
                </a:lnTo>
                <a:lnTo>
                  <a:pt x="513" y="1089"/>
                </a:lnTo>
                <a:lnTo>
                  <a:pt x="518" y="1090"/>
                </a:lnTo>
                <a:lnTo>
                  <a:pt x="522" y="1092"/>
                </a:lnTo>
                <a:lnTo>
                  <a:pt x="525" y="1094"/>
                </a:lnTo>
                <a:lnTo>
                  <a:pt x="529" y="1096"/>
                </a:lnTo>
                <a:lnTo>
                  <a:pt x="534" y="1098"/>
                </a:lnTo>
                <a:lnTo>
                  <a:pt x="538" y="1100"/>
                </a:lnTo>
                <a:lnTo>
                  <a:pt x="542" y="1102"/>
                </a:lnTo>
                <a:lnTo>
                  <a:pt x="545" y="1103"/>
                </a:lnTo>
                <a:lnTo>
                  <a:pt x="550" y="1104"/>
                </a:lnTo>
                <a:lnTo>
                  <a:pt x="553" y="1106"/>
                </a:lnTo>
                <a:lnTo>
                  <a:pt x="558" y="1108"/>
                </a:lnTo>
                <a:lnTo>
                  <a:pt x="563" y="1110"/>
                </a:lnTo>
                <a:lnTo>
                  <a:pt x="568" y="1111"/>
                </a:lnTo>
                <a:lnTo>
                  <a:pt x="574" y="1113"/>
                </a:lnTo>
                <a:lnTo>
                  <a:pt x="581" y="1115"/>
                </a:lnTo>
                <a:lnTo>
                  <a:pt x="587" y="1117"/>
                </a:lnTo>
                <a:lnTo>
                  <a:pt x="594" y="1119"/>
                </a:lnTo>
                <a:lnTo>
                  <a:pt x="600" y="1121"/>
                </a:lnTo>
                <a:lnTo>
                  <a:pt x="608" y="1123"/>
                </a:lnTo>
                <a:lnTo>
                  <a:pt x="614" y="1125"/>
                </a:lnTo>
                <a:lnTo>
                  <a:pt x="621" y="1127"/>
                </a:lnTo>
                <a:lnTo>
                  <a:pt x="627" y="1129"/>
                </a:lnTo>
                <a:lnTo>
                  <a:pt x="634" y="1131"/>
                </a:lnTo>
                <a:lnTo>
                  <a:pt x="640" y="1133"/>
                </a:lnTo>
                <a:lnTo>
                  <a:pt x="647" y="1133"/>
                </a:lnTo>
                <a:lnTo>
                  <a:pt x="652" y="1135"/>
                </a:lnTo>
                <a:lnTo>
                  <a:pt x="658" y="1137"/>
                </a:lnTo>
                <a:lnTo>
                  <a:pt x="664" y="1139"/>
                </a:lnTo>
                <a:lnTo>
                  <a:pt x="672" y="1140"/>
                </a:lnTo>
                <a:lnTo>
                  <a:pt x="679" y="1141"/>
                </a:lnTo>
                <a:lnTo>
                  <a:pt x="687" y="1143"/>
                </a:lnTo>
                <a:lnTo>
                  <a:pt x="694" y="1145"/>
                </a:lnTo>
                <a:lnTo>
                  <a:pt x="703" y="1145"/>
                </a:lnTo>
                <a:lnTo>
                  <a:pt x="710" y="1147"/>
                </a:lnTo>
                <a:lnTo>
                  <a:pt x="718" y="1149"/>
                </a:lnTo>
                <a:lnTo>
                  <a:pt x="725" y="1151"/>
                </a:lnTo>
                <a:lnTo>
                  <a:pt x="732" y="1151"/>
                </a:lnTo>
                <a:lnTo>
                  <a:pt x="738" y="1153"/>
                </a:lnTo>
                <a:lnTo>
                  <a:pt x="745" y="1153"/>
                </a:lnTo>
                <a:lnTo>
                  <a:pt x="750" y="1154"/>
                </a:lnTo>
                <a:lnTo>
                  <a:pt x="756" y="1154"/>
                </a:lnTo>
                <a:lnTo>
                  <a:pt x="760" y="1156"/>
                </a:lnTo>
                <a:lnTo>
                  <a:pt x="766" y="1156"/>
                </a:lnTo>
                <a:lnTo>
                  <a:pt x="772" y="1157"/>
                </a:lnTo>
                <a:lnTo>
                  <a:pt x="779" y="1157"/>
                </a:lnTo>
                <a:lnTo>
                  <a:pt x="786" y="1159"/>
                </a:lnTo>
                <a:lnTo>
                  <a:pt x="794" y="1159"/>
                </a:lnTo>
                <a:lnTo>
                  <a:pt x="801" y="1159"/>
                </a:lnTo>
                <a:lnTo>
                  <a:pt x="809" y="1159"/>
                </a:lnTo>
                <a:lnTo>
                  <a:pt x="817" y="1161"/>
                </a:lnTo>
                <a:lnTo>
                  <a:pt x="824" y="1161"/>
                </a:lnTo>
                <a:lnTo>
                  <a:pt x="832" y="1161"/>
                </a:lnTo>
                <a:lnTo>
                  <a:pt x="840" y="1161"/>
                </a:lnTo>
                <a:lnTo>
                  <a:pt x="847" y="1162"/>
                </a:lnTo>
                <a:lnTo>
                  <a:pt x="854" y="1162"/>
                </a:lnTo>
                <a:lnTo>
                  <a:pt x="860" y="1162"/>
                </a:lnTo>
                <a:lnTo>
                  <a:pt x="868" y="1162"/>
                </a:lnTo>
                <a:lnTo>
                  <a:pt x="874" y="1164"/>
                </a:lnTo>
                <a:lnTo>
                  <a:pt x="880" y="1164"/>
                </a:lnTo>
                <a:lnTo>
                  <a:pt x="886" y="1164"/>
                </a:lnTo>
                <a:lnTo>
                  <a:pt x="894" y="1164"/>
                </a:lnTo>
                <a:lnTo>
                  <a:pt x="902" y="1164"/>
                </a:lnTo>
                <a:lnTo>
                  <a:pt x="909" y="1164"/>
                </a:lnTo>
                <a:lnTo>
                  <a:pt x="916" y="1164"/>
                </a:lnTo>
                <a:lnTo>
                  <a:pt x="925" y="1164"/>
                </a:lnTo>
                <a:lnTo>
                  <a:pt x="933" y="1165"/>
                </a:lnTo>
                <a:lnTo>
                  <a:pt x="940" y="1165"/>
                </a:lnTo>
                <a:lnTo>
                  <a:pt x="948" y="1165"/>
                </a:lnTo>
                <a:lnTo>
                  <a:pt x="955" y="1165"/>
                </a:lnTo>
                <a:lnTo>
                  <a:pt x="961" y="1165"/>
                </a:lnTo>
                <a:lnTo>
                  <a:pt x="968" y="1165"/>
                </a:lnTo>
                <a:lnTo>
                  <a:pt x="974" y="1165"/>
                </a:lnTo>
                <a:lnTo>
                  <a:pt x="980" y="1165"/>
                </a:lnTo>
                <a:lnTo>
                  <a:pt x="983" y="1165"/>
                </a:lnTo>
                <a:lnTo>
                  <a:pt x="986" y="1165"/>
                </a:lnTo>
                <a:lnTo>
                  <a:pt x="988" y="1165"/>
                </a:lnTo>
                <a:lnTo>
                  <a:pt x="991" y="1165"/>
                </a:lnTo>
                <a:lnTo>
                  <a:pt x="991" y="1165"/>
                </a:lnTo>
                <a:lnTo>
                  <a:pt x="993" y="1165"/>
                </a:lnTo>
                <a:lnTo>
                  <a:pt x="993" y="1165"/>
                </a:lnTo>
                <a:lnTo>
                  <a:pt x="995" y="1165"/>
                </a:lnTo>
                <a:lnTo>
                  <a:pt x="996" y="1165"/>
                </a:lnTo>
                <a:lnTo>
                  <a:pt x="998" y="1165"/>
                </a:lnTo>
                <a:lnTo>
                  <a:pt x="1000" y="1165"/>
                </a:lnTo>
                <a:lnTo>
                  <a:pt x="1004" y="1165"/>
                </a:lnTo>
                <a:lnTo>
                  <a:pt x="1008" y="1165"/>
                </a:lnTo>
                <a:lnTo>
                  <a:pt x="1013" y="1165"/>
                </a:lnTo>
                <a:lnTo>
                  <a:pt x="1020" y="1165"/>
                </a:lnTo>
                <a:lnTo>
                  <a:pt x="1030" y="1165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09880" y="2514600"/>
            <a:ext cx="1963800" cy="2232000"/>
          </a:xfrm>
          <a:custGeom>
            <a:avLst/>
            <a:gdLst/>
            <a:ahLst/>
            <a:rect l="l" t="t" r="r" b="b"/>
            <a:pathLst>
              <a:path w="901" h="1020">
                <a:moveTo>
                  <a:pt x="0" y="0"/>
                </a:moveTo>
                <a:lnTo>
                  <a:pt x="0" y="9"/>
                </a:lnTo>
                <a:lnTo>
                  <a:pt x="1" y="16"/>
                </a:lnTo>
                <a:lnTo>
                  <a:pt x="1" y="22"/>
                </a:lnTo>
                <a:lnTo>
                  <a:pt x="2" y="26"/>
                </a:lnTo>
                <a:lnTo>
                  <a:pt x="2" y="29"/>
                </a:lnTo>
                <a:lnTo>
                  <a:pt x="2" y="32"/>
                </a:lnTo>
                <a:lnTo>
                  <a:pt x="2" y="34"/>
                </a:lnTo>
                <a:lnTo>
                  <a:pt x="3" y="34"/>
                </a:lnTo>
                <a:lnTo>
                  <a:pt x="3" y="36"/>
                </a:lnTo>
                <a:lnTo>
                  <a:pt x="3" y="36"/>
                </a:lnTo>
                <a:lnTo>
                  <a:pt x="3" y="38"/>
                </a:lnTo>
                <a:lnTo>
                  <a:pt x="3" y="38"/>
                </a:lnTo>
                <a:lnTo>
                  <a:pt x="3" y="40"/>
                </a:lnTo>
                <a:lnTo>
                  <a:pt x="3" y="42"/>
                </a:lnTo>
                <a:lnTo>
                  <a:pt x="3" y="46"/>
                </a:lnTo>
                <a:lnTo>
                  <a:pt x="5" y="49"/>
                </a:lnTo>
                <a:lnTo>
                  <a:pt x="5" y="55"/>
                </a:lnTo>
                <a:lnTo>
                  <a:pt x="7" y="62"/>
                </a:lnTo>
                <a:lnTo>
                  <a:pt x="7" y="70"/>
                </a:lnTo>
                <a:lnTo>
                  <a:pt x="9" y="78"/>
                </a:lnTo>
                <a:lnTo>
                  <a:pt x="10" y="89"/>
                </a:lnTo>
                <a:lnTo>
                  <a:pt x="12" y="99"/>
                </a:lnTo>
                <a:lnTo>
                  <a:pt x="14" y="112"/>
                </a:lnTo>
                <a:lnTo>
                  <a:pt x="17" y="123"/>
                </a:lnTo>
                <a:lnTo>
                  <a:pt x="19" y="136"/>
                </a:lnTo>
                <a:lnTo>
                  <a:pt x="21" y="149"/>
                </a:lnTo>
                <a:lnTo>
                  <a:pt x="23" y="162"/>
                </a:lnTo>
                <a:lnTo>
                  <a:pt x="27" y="175"/>
                </a:lnTo>
                <a:lnTo>
                  <a:pt x="29" y="188"/>
                </a:lnTo>
                <a:lnTo>
                  <a:pt x="33" y="201"/>
                </a:lnTo>
                <a:lnTo>
                  <a:pt x="35" y="214"/>
                </a:lnTo>
                <a:lnTo>
                  <a:pt x="39" y="226"/>
                </a:lnTo>
                <a:lnTo>
                  <a:pt x="41" y="239"/>
                </a:lnTo>
                <a:lnTo>
                  <a:pt x="44" y="252"/>
                </a:lnTo>
                <a:lnTo>
                  <a:pt x="47" y="266"/>
                </a:lnTo>
                <a:lnTo>
                  <a:pt x="51" y="279"/>
                </a:lnTo>
                <a:lnTo>
                  <a:pt x="55" y="294"/>
                </a:lnTo>
                <a:lnTo>
                  <a:pt x="58" y="307"/>
                </a:lnTo>
                <a:lnTo>
                  <a:pt x="62" y="320"/>
                </a:lnTo>
                <a:lnTo>
                  <a:pt x="66" y="334"/>
                </a:lnTo>
                <a:lnTo>
                  <a:pt x="69" y="347"/>
                </a:lnTo>
                <a:lnTo>
                  <a:pt x="73" y="360"/>
                </a:lnTo>
                <a:lnTo>
                  <a:pt x="76" y="372"/>
                </a:lnTo>
                <a:lnTo>
                  <a:pt x="80" y="383"/>
                </a:lnTo>
                <a:lnTo>
                  <a:pt x="82" y="394"/>
                </a:lnTo>
                <a:lnTo>
                  <a:pt x="86" y="403"/>
                </a:lnTo>
                <a:lnTo>
                  <a:pt x="89" y="411"/>
                </a:lnTo>
                <a:lnTo>
                  <a:pt x="93" y="417"/>
                </a:lnTo>
                <a:lnTo>
                  <a:pt x="95" y="425"/>
                </a:lnTo>
                <a:lnTo>
                  <a:pt x="97" y="432"/>
                </a:lnTo>
                <a:lnTo>
                  <a:pt x="101" y="440"/>
                </a:lnTo>
                <a:lnTo>
                  <a:pt x="105" y="448"/>
                </a:lnTo>
                <a:lnTo>
                  <a:pt x="108" y="458"/>
                </a:lnTo>
                <a:lnTo>
                  <a:pt x="112" y="468"/>
                </a:lnTo>
                <a:lnTo>
                  <a:pt x="116" y="478"/>
                </a:lnTo>
                <a:lnTo>
                  <a:pt x="121" y="488"/>
                </a:lnTo>
                <a:lnTo>
                  <a:pt x="124" y="499"/>
                </a:lnTo>
                <a:lnTo>
                  <a:pt x="129" y="509"/>
                </a:lnTo>
                <a:lnTo>
                  <a:pt x="133" y="520"/>
                </a:lnTo>
                <a:lnTo>
                  <a:pt x="138" y="530"/>
                </a:lnTo>
                <a:lnTo>
                  <a:pt x="142" y="540"/>
                </a:lnTo>
                <a:lnTo>
                  <a:pt x="145" y="549"/>
                </a:lnTo>
                <a:lnTo>
                  <a:pt x="149" y="558"/>
                </a:lnTo>
                <a:lnTo>
                  <a:pt x="154" y="566"/>
                </a:lnTo>
                <a:lnTo>
                  <a:pt x="157" y="575"/>
                </a:lnTo>
                <a:lnTo>
                  <a:pt x="161" y="583"/>
                </a:lnTo>
                <a:lnTo>
                  <a:pt x="165" y="593"/>
                </a:lnTo>
                <a:lnTo>
                  <a:pt x="169" y="602"/>
                </a:lnTo>
                <a:lnTo>
                  <a:pt x="173" y="613"/>
                </a:lnTo>
                <a:lnTo>
                  <a:pt x="177" y="622"/>
                </a:lnTo>
                <a:lnTo>
                  <a:pt x="181" y="632"/>
                </a:lnTo>
                <a:lnTo>
                  <a:pt x="186" y="641"/>
                </a:lnTo>
                <a:lnTo>
                  <a:pt x="190" y="651"/>
                </a:lnTo>
                <a:lnTo>
                  <a:pt x="194" y="661"/>
                </a:lnTo>
                <a:lnTo>
                  <a:pt x="197" y="670"/>
                </a:lnTo>
                <a:lnTo>
                  <a:pt x="202" y="678"/>
                </a:lnTo>
                <a:lnTo>
                  <a:pt x="205" y="686"/>
                </a:lnTo>
                <a:lnTo>
                  <a:pt x="209" y="692"/>
                </a:lnTo>
                <a:lnTo>
                  <a:pt x="212" y="699"/>
                </a:lnTo>
                <a:lnTo>
                  <a:pt x="216" y="704"/>
                </a:lnTo>
                <a:lnTo>
                  <a:pt x="218" y="710"/>
                </a:lnTo>
                <a:lnTo>
                  <a:pt x="221" y="716"/>
                </a:lnTo>
                <a:lnTo>
                  <a:pt x="225" y="723"/>
                </a:lnTo>
                <a:lnTo>
                  <a:pt x="229" y="729"/>
                </a:lnTo>
                <a:lnTo>
                  <a:pt x="232" y="736"/>
                </a:lnTo>
                <a:lnTo>
                  <a:pt x="237" y="744"/>
                </a:lnTo>
                <a:lnTo>
                  <a:pt x="241" y="751"/>
                </a:lnTo>
                <a:lnTo>
                  <a:pt x="247" y="758"/>
                </a:lnTo>
                <a:lnTo>
                  <a:pt x="251" y="766"/>
                </a:lnTo>
                <a:lnTo>
                  <a:pt x="256" y="773"/>
                </a:lnTo>
                <a:lnTo>
                  <a:pt x="261" y="780"/>
                </a:lnTo>
                <a:lnTo>
                  <a:pt x="266" y="787"/>
                </a:lnTo>
                <a:lnTo>
                  <a:pt x="270" y="795"/>
                </a:lnTo>
                <a:lnTo>
                  <a:pt x="275" y="801"/>
                </a:lnTo>
                <a:lnTo>
                  <a:pt x="280" y="807"/>
                </a:lnTo>
                <a:lnTo>
                  <a:pt x="285" y="812"/>
                </a:lnTo>
                <a:lnTo>
                  <a:pt x="289" y="817"/>
                </a:lnTo>
                <a:lnTo>
                  <a:pt x="293" y="823"/>
                </a:lnTo>
                <a:lnTo>
                  <a:pt x="299" y="828"/>
                </a:lnTo>
                <a:lnTo>
                  <a:pt x="305" y="834"/>
                </a:lnTo>
                <a:lnTo>
                  <a:pt x="310" y="842"/>
                </a:lnTo>
                <a:lnTo>
                  <a:pt x="316" y="847"/>
                </a:lnTo>
                <a:lnTo>
                  <a:pt x="321" y="854"/>
                </a:lnTo>
                <a:lnTo>
                  <a:pt x="329" y="859"/>
                </a:lnTo>
                <a:lnTo>
                  <a:pt x="334" y="866"/>
                </a:lnTo>
                <a:lnTo>
                  <a:pt x="340" y="872"/>
                </a:lnTo>
                <a:lnTo>
                  <a:pt x="345" y="877"/>
                </a:lnTo>
                <a:lnTo>
                  <a:pt x="352" y="882"/>
                </a:lnTo>
                <a:lnTo>
                  <a:pt x="357" y="888"/>
                </a:lnTo>
                <a:lnTo>
                  <a:pt x="363" y="892"/>
                </a:lnTo>
                <a:lnTo>
                  <a:pt x="367" y="896"/>
                </a:lnTo>
                <a:lnTo>
                  <a:pt x="373" y="899"/>
                </a:lnTo>
                <a:lnTo>
                  <a:pt x="377" y="903"/>
                </a:lnTo>
                <a:lnTo>
                  <a:pt x="380" y="906"/>
                </a:lnTo>
                <a:lnTo>
                  <a:pt x="384" y="910"/>
                </a:lnTo>
                <a:lnTo>
                  <a:pt x="389" y="913"/>
                </a:lnTo>
                <a:lnTo>
                  <a:pt x="393" y="916"/>
                </a:lnTo>
                <a:lnTo>
                  <a:pt x="398" y="920"/>
                </a:lnTo>
                <a:lnTo>
                  <a:pt x="401" y="923"/>
                </a:lnTo>
                <a:lnTo>
                  <a:pt x="407" y="925"/>
                </a:lnTo>
                <a:lnTo>
                  <a:pt x="411" y="929"/>
                </a:lnTo>
                <a:lnTo>
                  <a:pt x="415" y="932"/>
                </a:lnTo>
                <a:lnTo>
                  <a:pt x="418" y="934"/>
                </a:lnTo>
                <a:lnTo>
                  <a:pt x="421" y="936"/>
                </a:lnTo>
                <a:lnTo>
                  <a:pt x="423" y="939"/>
                </a:lnTo>
                <a:lnTo>
                  <a:pt x="427" y="941"/>
                </a:lnTo>
                <a:lnTo>
                  <a:pt x="429" y="943"/>
                </a:lnTo>
                <a:lnTo>
                  <a:pt x="432" y="943"/>
                </a:lnTo>
                <a:lnTo>
                  <a:pt x="433" y="944"/>
                </a:lnTo>
                <a:lnTo>
                  <a:pt x="435" y="946"/>
                </a:lnTo>
                <a:lnTo>
                  <a:pt x="437" y="948"/>
                </a:lnTo>
                <a:lnTo>
                  <a:pt x="439" y="948"/>
                </a:lnTo>
                <a:lnTo>
                  <a:pt x="441" y="950"/>
                </a:lnTo>
                <a:lnTo>
                  <a:pt x="445" y="952"/>
                </a:lnTo>
                <a:lnTo>
                  <a:pt x="448" y="954"/>
                </a:lnTo>
                <a:lnTo>
                  <a:pt x="452" y="954"/>
                </a:lnTo>
                <a:lnTo>
                  <a:pt x="455" y="956"/>
                </a:lnTo>
                <a:lnTo>
                  <a:pt x="459" y="958"/>
                </a:lnTo>
                <a:lnTo>
                  <a:pt x="463" y="960"/>
                </a:lnTo>
                <a:lnTo>
                  <a:pt x="466" y="961"/>
                </a:lnTo>
                <a:lnTo>
                  <a:pt x="469" y="963"/>
                </a:lnTo>
                <a:lnTo>
                  <a:pt x="473" y="964"/>
                </a:lnTo>
                <a:lnTo>
                  <a:pt x="477" y="966"/>
                </a:lnTo>
                <a:lnTo>
                  <a:pt x="481" y="966"/>
                </a:lnTo>
                <a:lnTo>
                  <a:pt x="483" y="968"/>
                </a:lnTo>
                <a:lnTo>
                  <a:pt x="487" y="970"/>
                </a:lnTo>
                <a:lnTo>
                  <a:pt x="491" y="971"/>
                </a:lnTo>
                <a:lnTo>
                  <a:pt x="497" y="972"/>
                </a:lnTo>
                <a:lnTo>
                  <a:pt x="502" y="974"/>
                </a:lnTo>
                <a:lnTo>
                  <a:pt x="507" y="976"/>
                </a:lnTo>
                <a:lnTo>
                  <a:pt x="513" y="978"/>
                </a:lnTo>
                <a:lnTo>
                  <a:pt x="519" y="979"/>
                </a:lnTo>
                <a:lnTo>
                  <a:pt x="525" y="981"/>
                </a:lnTo>
                <a:lnTo>
                  <a:pt x="531" y="983"/>
                </a:lnTo>
                <a:lnTo>
                  <a:pt x="536" y="984"/>
                </a:lnTo>
                <a:lnTo>
                  <a:pt x="543" y="986"/>
                </a:lnTo>
                <a:lnTo>
                  <a:pt x="549" y="988"/>
                </a:lnTo>
                <a:lnTo>
                  <a:pt x="554" y="989"/>
                </a:lnTo>
                <a:lnTo>
                  <a:pt x="560" y="991"/>
                </a:lnTo>
                <a:lnTo>
                  <a:pt x="565" y="991"/>
                </a:lnTo>
                <a:lnTo>
                  <a:pt x="570" y="993"/>
                </a:lnTo>
                <a:lnTo>
                  <a:pt x="575" y="994"/>
                </a:lnTo>
                <a:lnTo>
                  <a:pt x="581" y="996"/>
                </a:lnTo>
                <a:lnTo>
                  <a:pt x="587" y="996"/>
                </a:lnTo>
                <a:lnTo>
                  <a:pt x="593" y="998"/>
                </a:lnTo>
                <a:lnTo>
                  <a:pt x="600" y="1000"/>
                </a:lnTo>
                <a:lnTo>
                  <a:pt x="607" y="1001"/>
                </a:lnTo>
                <a:lnTo>
                  <a:pt x="614" y="1001"/>
                </a:lnTo>
                <a:lnTo>
                  <a:pt x="620" y="1003"/>
                </a:lnTo>
                <a:lnTo>
                  <a:pt x="627" y="1004"/>
                </a:lnTo>
                <a:lnTo>
                  <a:pt x="632" y="1006"/>
                </a:lnTo>
                <a:lnTo>
                  <a:pt x="640" y="1006"/>
                </a:lnTo>
                <a:lnTo>
                  <a:pt x="645" y="1008"/>
                </a:lnTo>
                <a:lnTo>
                  <a:pt x="651" y="1008"/>
                </a:lnTo>
                <a:lnTo>
                  <a:pt x="655" y="1008"/>
                </a:lnTo>
                <a:lnTo>
                  <a:pt x="661" y="1008"/>
                </a:lnTo>
                <a:lnTo>
                  <a:pt x="665" y="1010"/>
                </a:lnTo>
                <a:lnTo>
                  <a:pt x="669" y="1010"/>
                </a:lnTo>
                <a:lnTo>
                  <a:pt x="675" y="1011"/>
                </a:lnTo>
                <a:lnTo>
                  <a:pt x="681" y="1011"/>
                </a:lnTo>
                <a:lnTo>
                  <a:pt x="687" y="1013"/>
                </a:lnTo>
                <a:lnTo>
                  <a:pt x="693" y="1013"/>
                </a:lnTo>
                <a:lnTo>
                  <a:pt x="700" y="1013"/>
                </a:lnTo>
                <a:lnTo>
                  <a:pt x="707" y="1013"/>
                </a:lnTo>
                <a:lnTo>
                  <a:pt x="713" y="1015"/>
                </a:lnTo>
                <a:lnTo>
                  <a:pt x="720" y="1015"/>
                </a:lnTo>
                <a:lnTo>
                  <a:pt x="727" y="1015"/>
                </a:lnTo>
                <a:lnTo>
                  <a:pt x="735" y="1015"/>
                </a:lnTo>
                <a:lnTo>
                  <a:pt x="740" y="1016"/>
                </a:lnTo>
                <a:lnTo>
                  <a:pt x="747" y="1016"/>
                </a:lnTo>
                <a:lnTo>
                  <a:pt x="752" y="1016"/>
                </a:lnTo>
                <a:lnTo>
                  <a:pt x="758" y="1016"/>
                </a:lnTo>
                <a:lnTo>
                  <a:pt x="763" y="1018"/>
                </a:lnTo>
                <a:lnTo>
                  <a:pt x="768" y="1018"/>
                </a:lnTo>
                <a:lnTo>
                  <a:pt x="774" y="1018"/>
                </a:lnTo>
                <a:lnTo>
                  <a:pt x="781" y="1018"/>
                </a:lnTo>
                <a:lnTo>
                  <a:pt x="787" y="1018"/>
                </a:lnTo>
                <a:lnTo>
                  <a:pt x="794" y="1018"/>
                </a:lnTo>
                <a:lnTo>
                  <a:pt x="801" y="1018"/>
                </a:lnTo>
                <a:lnTo>
                  <a:pt x="808" y="1018"/>
                </a:lnTo>
                <a:lnTo>
                  <a:pt x="814" y="1019"/>
                </a:lnTo>
                <a:lnTo>
                  <a:pt x="821" y="1019"/>
                </a:lnTo>
                <a:lnTo>
                  <a:pt x="827" y="1019"/>
                </a:lnTo>
                <a:lnTo>
                  <a:pt x="835" y="1019"/>
                </a:lnTo>
                <a:lnTo>
                  <a:pt x="840" y="1019"/>
                </a:lnTo>
                <a:lnTo>
                  <a:pt x="846" y="1019"/>
                </a:lnTo>
                <a:lnTo>
                  <a:pt x="851" y="1019"/>
                </a:lnTo>
                <a:lnTo>
                  <a:pt x="856" y="1019"/>
                </a:lnTo>
                <a:lnTo>
                  <a:pt x="859" y="1019"/>
                </a:lnTo>
                <a:lnTo>
                  <a:pt x="862" y="1019"/>
                </a:lnTo>
                <a:lnTo>
                  <a:pt x="864" y="1019"/>
                </a:lnTo>
                <a:lnTo>
                  <a:pt x="866" y="1019"/>
                </a:lnTo>
                <a:lnTo>
                  <a:pt x="866" y="1019"/>
                </a:lnTo>
                <a:lnTo>
                  <a:pt x="867" y="1019"/>
                </a:lnTo>
                <a:lnTo>
                  <a:pt x="867" y="1019"/>
                </a:lnTo>
                <a:lnTo>
                  <a:pt x="869" y="1019"/>
                </a:lnTo>
                <a:lnTo>
                  <a:pt x="869" y="1019"/>
                </a:lnTo>
                <a:lnTo>
                  <a:pt x="871" y="1019"/>
                </a:lnTo>
                <a:lnTo>
                  <a:pt x="873" y="1019"/>
                </a:lnTo>
                <a:lnTo>
                  <a:pt x="877" y="1019"/>
                </a:lnTo>
                <a:lnTo>
                  <a:pt x="881" y="1019"/>
                </a:lnTo>
                <a:lnTo>
                  <a:pt x="886" y="1019"/>
                </a:lnTo>
                <a:lnTo>
                  <a:pt x="892" y="1019"/>
                </a:lnTo>
                <a:lnTo>
                  <a:pt x="900" y="1019"/>
                </a:lnTo>
              </a:path>
            </a:pathLst>
          </a:custGeom>
          <a:noFill/>
          <a:ln w="507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458200" y="624852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1219320"/>
            <a:ext cx="1295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8600" y="18288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458200" y="71629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49528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28800" y="179064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15000" y="3886200"/>
            <a:ext cx="2438280" cy="1143000"/>
          </a:xfrm>
          <a:prstGeom prst="wedgeRoundRectCallout">
            <a:avLst>
              <a:gd name="adj1" fmla="val -53578"/>
              <a:gd name="adj2" fmla="val 120000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espues de la apertura comer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38088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7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Volvamos a maximizar ingreso a los precios internacion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71800" y="4572000"/>
            <a:ext cx="2017800" cy="17161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4800" y="0"/>
            <a:ext cx="9453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mercio “convexifica” el conjun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95680" y="40384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" y="4343400"/>
            <a:ext cx="2438280" cy="1143000"/>
          </a:xfrm>
          <a:prstGeom prst="wedgeRoundRectCallout">
            <a:avLst>
              <a:gd name="adj1" fmla="val 87824"/>
              <a:gd name="adj2" fmla="val 116944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ntes de la apertura comer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15000" y="5638680"/>
            <a:ext cx="2743200" cy="1143000"/>
          </a:xfrm>
          <a:prstGeom prst="wedgeRoundRectCallout">
            <a:avLst>
              <a:gd name="adj1" fmla="val -78185"/>
              <a:gd name="adj2" fmla="val 6666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Precios internacio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562720" y="4343400"/>
            <a:ext cx="2438280" cy="990720"/>
          </a:xfrm>
          <a:prstGeom prst="wedgeRoundRectCallout">
            <a:avLst>
              <a:gd name="adj1" fmla="val -96157"/>
              <a:gd name="adj2" fmla="val 52245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quilibrio autárk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600200" y="3176640"/>
            <a:ext cx="4419720" cy="37576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00200" y="3006720"/>
            <a:ext cx="4648320" cy="395136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00200" y="2841480"/>
            <a:ext cx="4800600" cy="40816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00200" y="2689200"/>
            <a:ext cx="4952880" cy="421164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600200" y="2430360"/>
            <a:ext cx="5257800" cy="447048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600200" y="2158920"/>
            <a:ext cx="5562720" cy="4729320"/>
          </a:xfrm>
          <a:prstGeom prst="line">
            <a:avLst/>
          </a:prstGeom>
          <a:ln w="316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34120" y="2895480"/>
            <a:ext cx="2438280" cy="990720"/>
          </a:xfrm>
          <a:prstGeom prst="wedgeRoundRectCallout">
            <a:avLst>
              <a:gd name="adj1" fmla="val -55078"/>
              <a:gd name="adj2" fmla="val 103847"/>
              <a:gd name="adj3" fmla="val 16667"/>
            </a:avLst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quilibrio con comerc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07084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za-ción y comer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498920"/>
            <a:ext cx="196236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 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9640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4495680"/>
            <a:ext cx="196236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0"/>
            <a:ext cx="1962000" cy="1981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 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4560" y="5257800"/>
            <a:ext cx="1942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2325600"/>
            <a:ext cx="236232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09480" y="3505320"/>
            <a:ext cx="9104400" cy="947520"/>
            <a:chOff x="609480" y="3505320"/>
            <a:chExt cx="9104400" cy="947520"/>
          </a:xfrm>
        </p:grpSpPr>
        <p:sp>
          <p:nvSpPr>
            <p:cNvPr id="59" name=""/>
            <p:cNvSpPr/>
            <p:nvPr/>
          </p:nvSpPr>
          <p:spPr>
            <a:xfrm>
              <a:off x="5145120" y="3505320"/>
              <a:ext cx="1440" cy="51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7964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1852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8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79640" y="401652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0560" y="401652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836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12440" y="400860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42280" y="400860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08976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495680"/>
            <a:ext cx="196236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267080"/>
            <a:ext cx="2895480" cy="257328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onomía de Robinson Crusoe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33480" y="2217600"/>
            <a:ext cx="8426520" cy="53229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c20000"/>
              </a:buClr>
              <a:buSzPct val="46000"/>
              <a:buFont typeface="Monotype Sort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El máximo global es simple.</a:t>
            </a:r>
            <a:br>
              <a:rPr sz="3300"/>
            </a:b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c20000"/>
              </a:buClr>
              <a:buSzPct val="46000"/>
              <a:buFont typeface="Monotype Sort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Pero puede separarse en dos partes.</a:t>
            </a:r>
            <a:br>
              <a:rPr sz="3300"/>
            </a:b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c20000"/>
              </a:buClr>
              <a:buSzPct val="46000"/>
              <a:buFont typeface="Monotype Sort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La maximización del beneficio (o, ingreso nacional)... </a:t>
            </a:r>
            <a:br>
              <a:rPr sz="3300"/>
            </a:b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c20000"/>
              </a:buClr>
              <a:buSzPct val="46000"/>
              <a:buFont typeface="Monotype Sort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...y la maximización de la utilidad.</a:t>
            </a:r>
            <a:br>
              <a:rPr sz="3300"/>
            </a:b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c20000"/>
              </a:buClr>
              <a:buSzPct val="46000"/>
              <a:buFont typeface="Monotype Sort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0000ff"/>
                </a:solidFill>
                <a:latin typeface="Times New Roman"/>
              </a:rPr>
              <a:t>Todo ello depende de un resultado fundamental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resultado esencial a recorda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81000" y="3825720"/>
            <a:ext cx="2816280" cy="3173400"/>
            <a:chOff x="981000" y="3825720"/>
            <a:chExt cx="2816280" cy="3173400"/>
          </a:xfrm>
        </p:grpSpPr>
        <p:sp>
          <p:nvSpPr>
            <p:cNvPr id="1019" name=""/>
            <p:cNvSpPr/>
            <p:nvPr/>
          </p:nvSpPr>
          <p:spPr>
            <a:xfrm>
              <a:off x="993600" y="4108320"/>
              <a:ext cx="2794320" cy="1154160"/>
            </a:xfrm>
            <a:custGeom>
              <a:avLst/>
              <a:gdLst/>
              <a:ahLst/>
              <a:rect l="l" t="t" r="r" b="b"/>
              <a:pathLst>
                <a:path w="1760" h="727">
                  <a:moveTo>
                    <a:pt x="35" y="726"/>
                  </a:moveTo>
                  <a:lnTo>
                    <a:pt x="1670" y="726"/>
                  </a:lnTo>
                  <a:lnTo>
                    <a:pt x="1704" y="672"/>
                  </a:lnTo>
                  <a:lnTo>
                    <a:pt x="1736" y="599"/>
                  </a:lnTo>
                  <a:lnTo>
                    <a:pt x="1754" y="538"/>
                  </a:lnTo>
                  <a:lnTo>
                    <a:pt x="1759" y="474"/>
                  </a:lnTo>
                  <a:lnTo>
                    <a:pt x="1759" y="424"/>
                  </a:lnTo>
                  <a:lnTo>
                    <a:pt x="1754" y="378"/>
                  </a:lnTo>
                  <a:lnTo>
                    <a:pt x="1742" y="344"/>
                  </a:lnTo>
                  <a:lnTo>
                    <a:pt x="1736" y="324"/>
                  </a:lnTo>
                  <a:lnTo>
                    <a:pt x="1697" y="294"/>
                  </a:lnTo>
                  <a:lnTo>
                    <a:pt x="1667" y="290"/>
                  </a:lnTo>
                  <a:lnTo>
                    <a:pt x="1629" y="290"/>
                  </a:lnTo>
                  <a:lnTo>
                    <a:pt x="1606" y="294"/>
                  </a:lnTo>
                  <a:lnTo>
                    <a:pt x="1556" y="203"/>
                  </a:lnTo>
                  <a:lnTo>
                    <a:pt x="1501" y="126"/>
                  </a:lnTo>
                  <a:lnTo>
                    <a:pt x="1450" y="72"/>
                  </a:lnTo>
                  <a:lnTo>
                    <a:pt x="1388" y="28"/>
                  </a:lnTo>
                  <a:lnTo>
                    <a:pt x="1333" y="5"/>
                  </a:lnTo>
                  <a:lnTo>
                    <a:pt x="1291" y="0"/>
                  </a:lnTo>
                  <a:lnTo>
                    <a:pt x="1258" y="5"/>
                  </a:lnTo>
                  <a:lnTo>
                    <a:pt x="1223" y="24"/>
                  </a:lnTo>
                  <a:lnTo>
                    <a:pt x="1199" y="53"/>
                  </a:lnTo>
                  <a:lnTo>
                    <a:pt x="1179" y="91"/>
                  </a:lnTo>
                  <a:lnTo>
                    <a:pt x="1165" y="150"/>
                  </a:lnTo>
                  <a:lnTo>
                    <a:pt x="1119" y="150"/>
                  </a:lnTo>
                  <a:lnTo>
                    <a:pt x="1068" y="176"/>
                  </a:lnTo>
                  <a:lnTo>
                    <a:pt x="1022" y="209"/>
                  </a:lnTo>
                  <a:lnTo>
                    <a:pt x="962" y="189"/>
                  </a:lnTo>
                  <a:lnTo>
                    <a:pt x="863" y="169"/>
                  </a:lnTo>
                  <a:lnTo>
                    <a:pt x="800" y="163"/>
                  </a:lnTo>
                  <a:lnTo>
                    <a:pt x="733" y="169"/>
                  </a:lnTo>
                  <a:lnTo>
                    <a:pt x="674" y="179"/>
                  </a:lnTo>
                  <a:lnTo>
                    <a:pt x="633" y="189"/>
                  </a:lnTo>
                  <a:lnTo>
                    <a:pt x="609" y="150"/>
                  </a:lnTo>
                  <a:lnTo>
                    <a:pt x="584" y="106"/>
                  </a:lnTo>
                  <a:lnTo>
                    <a:pt x="542" y="66"/>
                  </a:lnTo>
                  <a:lnTo>
                    <a:pt x="493" y="48"/>
                  </a:lnTo>
                  <a:lnTo>
                    <a:pt x="462" y="42"/>
                  </a:lnTo>
                  <a:lnTo>
                    <a:pt x="435" y="42"/>
                  </a:lnTo>
                  <a:lnTo>
                    <a:pt x="401" y="56"/>
                  </a:lnTo>
                  <a:lnTo>
                    <a:pt x="365" y="97"/>
                  </a:lnTo>
                  <a:lnTo>
                    <a:pt x="322" y="156"/>
                  </a:lnTo>
                  <a:lnTo>
                    <a:pt x="296" y="217"/>
                  </a:lnTo>
                  <a:lnTo>
                    <a:pt x="266" y="298"/>
                  </a:lnTo>
                  <a:lnTo>
                    <a:pt x="247" y="412"/>
                  </a:lnTo>
                  <a:lnTo>
                    <a:pt x="188" y="381"/>
                  </a:lnTo>
                  <a:lnTo>
                    <a:pt x="141" y="378"/>
                  </a:lnTo>
                  <a:lnTo>
                    <a:pt x="101" y="381"/>
                  </a:lnTo>
                  <a:lnTo>
                    <a:pt x="61" y="395"/>
                  </a:lnTo>
                  <a:lnTo>
                    <a:pt x="35" y="424"/>
                  </a:lnTo>
                  <a:lnTo>
                    <a:pt x="12" y="464"/>
                  </a:lnTo>
                  <a:lnTo>
                    <a:pt x="5" y="518"/>
                  </a:lnTo>
                  <a:lnTo>
                    <a:pt x="0" y="569"/>
                  </a:lnTo>
                  <a:lnTo>
                    <a:pt x="14" y="639"/>
                  </a:lnTo>
                  <a:lnTo>
                    <a:pt x="32" y="711"/>
                  </a:lnTo>
                  <a:lnTo>
                    <a:pt x="35" y="726"/>
                  </a:lnTo>
                  <a:lnTo>
                    <a:pt x="35" y="72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93600" y="6588000"/>
              <a:ext cx="414360" cy="41112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0"/>
                  </a:moveTo>
                  <a:lnTo>
                    <a:pt x="2" y="35"/>
                  </a:lnTo>
                  <a:lnTo>
                    <a:pt x="11" y="68"/>
                  </a:lnTo>
                  <a:lnTo>
                    <a:pt x="23" y="100"/>
                  </a:lnTo>
                  <a:lnTo>
                    <a:pt x="38" y="129"/>
                  </a:lnTo>
                  <a:lnTo>
                    <a:pt x="58" y="159"/>
                  </a:lnTo>
                  <a:lnTo>
                    <a:pt x="82" y="183"/>
                  </a:lnTo>
                  <a:lnTo>
                    <a:pt x="106" y="207"/>
                  </a:lnTo>
                  <a:lnTo>
                    <a:pt x="134" y="225"/>
                  </a:lnTo>
                  <a:lnTo>
                    <a:pt x="167" y="240"/>
                  </a:lnTo>
                  <a:lnTo>
                    <a:pt x="199" y="250"/>
                  </a:lnTo>
                  <a:lnTo>
                    <a:pt x="233" y="255"/>
                  </a:lnTo>
                  <a:lnTo>
                    <a:pt x="260" y="2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498680" y="6573960"/>
              <a:ext cx="846000" cy="425160"/>
            </a:xfrm>
            <a:custGeom>
              <a:avLst/>
              <a:gdLst/>
              <a:ahLst/>
              <a:rect l="l" t="t" r="r" b="b"/>
              <a:pathLst>
                <a:path w="533" h="268">
                  <a:moveTo>
                    <a:pt x="0" y="267"/>
                  </a:moveTo>
                  <a:lnTo>
                    <a:pt x="532" y="267"/>
                  </a:lnTo>
                  <a:lnTo>
                    <a:pt x="266" y="0"/>
                  </a:lnTo>
                  <a:lnTo>
                    <a:pt x="0" y="267"/>
                  </a:lnTo>
                  <a:lnTo>
                    <a:pt x="0" y="267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3600" y="6573960"/>
              <a:ext cx="849240" cy="425160"/>
            </a:xfrm>
            <a:custGeom>
              <a:avLst/>
              <a:gdLst/>
              <a:ahLst/>
              <a:rect l="l" t="t" r="r" b="b"/>
              <a:pathLst>
                <a:path w="535" h="268">
                  <a:moveTo>
                    <a:pt x="0" y="267"/>
                  </a:moveTo>
                  <a:lnTo>
                    <a:pt x="534" y="267"/>
                  </a:lnTo>
                  <a:lnTo>
                    <a:pt x="264" y="0"/>
                  </a:lnTo>
                  <a:lnTo>
                    <a:pt x="0" y="267"/>
                  </a:lnTo>
                  <a:lnTo>
                    <a:pt x="0" y="267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82920" y="6588000"/>
              <a:ext cx="414360" cy="41112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258"/>
                  </a:moveTo>
                  <a:lnTo>
                    <a:pt x="35" y="255"/>
                  </a:lnTo>
                  <a:lnTo>
                    <a:pt x="70" y="248"/>
                  </a:lnTo>
                  <a:lnTo>
                    <a:pt x="101" y="234"/>
                  </a:lnTo>
                  <a:lnTo>
                    <a:pt x="131" y="222"/>
                  </a:lnTo>
                  <a:lnTo>
                    <a:pt x="159" y="202"/>
                  </a:lnTo>
                  <a:lnTo>
                    <a:pt x="185" y="177"/>
                  </a:lnTo>
                  <a:lnTo>
                    <a:pt x="207" y="152"/>
                  </a:lnTo>
                  <a:lnTo>
                    <a:pt x="226" y="124"/>
                  </a:lnTo>
                  <a:lnTo>
                    <a:pt x="241" y="94"/>
                  </a:lnTo>
                  <a:lnTo>
                    <a:pt x="253" y="62"/>
                  </a:lnTo>
                  <a:lnTo>
                    <a:pt x="258" y="26"/>
                  </a:lnTo>
                  <a:lnTo>
                    <a:pt x="260" y="0"/>
                  </a:lnTo>
                  <a:lnTo>
                    <a:pt x="0" y="258"/>
                  </a:lnTo>
                  <a:lnTo>
                    <a:pt x="0" y="258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27080" y="6105600"/>
              <a:ext cx="849240" cy="852480"/>
            </a:xfrm>
            <a:custGeom>
              <a:avLst/>
              <a:gdLst/>
              <a:ahLst/>
              <a:rect l="l" t="t" r="r" b="b"/>
              <a:pathLst>
                <a:path w="535" h="537">
                  <a:moveTo>
                    <a:pt x="0" y="267"/>
                  </a:moveTo>
                  <a:lnTo>
                    <a:pt x="267" y="536"/>
                  </a:lnTo>
                  <a:lnTo>
                    <a:pt x="534" y="268"/>
                  </a:lnTo>
                  <a:lnTo>
                    <a:pt x="266" y="0"/>
                  </a:lnTo>
                  <a:lnTo>
                    <a:pt x="0" y="267"/>
                  </a:lnTo>
                  <a:lnTo>
                    <a:pt x="0" y="267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7040" y="6103800"/>
              <a:ext cx="846000" cy="854280"/>
            </a:xfrm>
            <a:custGeom>
              <a:avLst/>
              <a:gdLst/>
              <a:ahLst/>
              <a:rect l="l" t="t" r="r" b="b"/>
              <a:pathLst>
                <a:path w="533" h="538">
                  <a:moveTo>
                    <a:pt x="0" y="269"/>
                  </a:moveTo>
                  <a:lnTo>
                    <a:pt x="266" y="537"/>
                  </a:lnTo>
                  <a:lnTo>
                    <a:pt x="532" y="269"/>
                  </a:lnTo>
                  <a:lnTo>
                    <a:pt x="266" y="0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03400" y="6103800"/>
              <a:ext cx="847800" cy="854280"/>
            </a:xfrm>
            <a:custGeom>
              <a:avLst/>
              <a:gdLst/>
              <a:ahLst/>
              <a:rect l="l" t="t" r="r" b="b"/>
              <a:pathLst>
                <a:path w="534" h="538">
                  <a:moveTo>
                    <a:pt x="0" y="269"/>
                  </a:moveTo>
                  <a:lnTo>
                    <a:pt x="266" y="537"/>
                  </a:lnTo>
                  <a:lnTo>
                    <a:pt x="533" y="269"/>
                  </a:lnTo>
                  <a:lnTo>
                    <a:pt x="266" y="0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93600" y="5651640"/>
              <a:ext cx="409680" cy="820440"/>
            </a:xfrm>
            <a:custGeom>
              <a:avLst/>
              <a:gdLst/>
              <a:ahLst/>
              <a:rect l="l" t="t" r="r" b="b"/>
              <a:pathLst>
                <a:path w="258" h="517">
                  <a:moveTo>
                    <a:pt x="0" y="516"/>
                  </a:moveTo>
                  <a:lnTo>
                    <a:pt x="257" y="258"/>
                  </a:lnTo>
                  <a:lnTo>
                    <a:pt x="0" y="0"/>
                  </a:lnTo>
                  <a:lnTo>
                    <a:pt x="0" y="516"/>
                  </a:lnTo>
                  <a:lnTo>
                    <a:pt x="0" y="516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95440" y="5635800"/>
              <a:ext cx="849240" cy="855360"/>
            </a:xfrm>
            <a:custGeom>
              <a:avLst/>
              <a:gdLst/>
              <a:ahLst/>
              <a:rect l="l" t="t" r="r" b="b"/>
              <a:pathLst>
                <a:path w="535" h="539">
                  <a:moveTo>
                    <a:pt x="268" y="538"/>
                  </a:moveTo>
                  <a:lnTo>
                    <a:pt x="0" y="270"/>
                  </a:lnTo>
                  <a:lnTo>
                    <a:pt x="268" y="0"/>
                  </a:lnTo>
                  <a:lnTo>
                    <a:pt x="534" y="268"/>
                  </a:lnTo>
                  <a:lnTo>
                    <a:pt x="268" y="538"/>
                  </a:lnTo>
                  <a:lnTo>
                    <a:pt x="268" y="538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33600" y="5635800"/>
              <a:ext cx="849240" cy="855360"/>
            </a:xfrm>
            <a:custGeom>
              <a:avLst/>
              <a:gdLst/>
              <a:ahLst/>
              <a:rect l="l" t="t" r="r" b="b"/>
              <a:pathLst>
                <a:path w="535" h="539">
                  <a:moveTo>
                    <a:pt x="264" y="538"/>
                  </a:moveTo>
                  <a:lnTo>
                    <a:pt x="0" y="268"/>
                  </a:lnTo>
                  <a:lnTo>
                    <a:pt x="264" y="0"/>
                  </a:lnTo>
                  <a:lnTo>
                    <a:pt x="534" y="268"/>
                  </a:lnTo>
                  <a:lnTo>
                    <a:pt x="264" y="538"/>
                  </a:lnTo>
                  <a:lnTo>
                    <a:pt x="264" y="538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81480" y="5651640"/>
              <a:ext cx="412560" cy="820440"/>
            </a:xfrm>
            <a:custGeom>
              <a:avLst/>
              <a:gdLst/>
              <a:ahLst/>
              <a:rect l="l" t="t" r="r" b="b"/>
              <a:pathLst>
                <a:path w="260" h="517">
                  <a:moveTo>
                    <a:pt x="259" y="516"/>
                  </a:moveTo>
                  <a:lnTo>
                    <a:pt x="0" y="258"/>
                  </a:lnTo>
                  <a:lnTo>
                    <a:pt x="259" y="0"/>
                  </a:lnTo>
                  <a:lnTo>
                    <a:pt x="259" y="516"/>
                  </a:lnTo>
                  <a:lnTo>
                    <a:pt x="259" y="516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81000" y="5548320"/>
              <a:ext cx="941400" cy="473040"/>
            </a:xfrm>
            <a:custGeom>
              <a:avLst/>
              <a:gdLst/>
              <a:ahLst/>
              <a:rect l="l" t="t" r="r" b="b"/>
              <a:pathLst>
                <a:path w="593" h="298">
                  <a:moveTo>
                    <a:pt x="0" y="0"/>
                  </a:moveTo>
                  <a:lnTo>
                    <a:pt x="297" y="297"/>
                  </a:lnTo>
                  <a:lnTo>
                    <a:pt x="59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920960" y="5549760"/>
              <a:ext cx="939600" cy="470160"/>
            </a:xfrm>
            <a:custGeom>
              <a:avLst/>
              <a:gdLst/>
              <a:ahLst/>
              <a:rect l="l" t="t" r="r" b="b"/>
              <a:pathLst>
                <a:path w="592" h="296">
                  <a:moveTo>
                    <a:pt x="0" y="0"/>
                  </a:moveTo>
                  <a:lnTo>
                    <a:pt x="295" y="295"/>
                  </a:lnTo>
                  <a:lnTo>
                    <a:pt x="59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9120" y="5549760"/>
              <a:ext cx="938160" cy="470160"/>
            </a:xfrm>
            <a:custGeom>
              <a:avLst/>
              <a:gdLst/>
              <a:ahLst/>
              <a:rect l="l" t="t" r="r" b="b"/>
              <a:pathLst>
                <a:path w="591" h="296">
                  <a:moveTo>
                    <a:pt x="0" y="0"/>
                  </a:moveTo>
                  <a:lnTo>
                    <a:pt x="294" y="295"/>
                  </a:lnTo>
                  <a:lnTo>
                    <a:pt x="59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93600" y="3825720"/>
              <a:ext cx="2803680" cy="1640160"/>
            </a:xfrm>
            <a:custGeom>
              <a:avLst/>
              <a:gdLst/>
              <a:ahLst/>
              <a:rect l="l" t="t" r="r" b="b"/>
              <a:pathLst>
                <a:path w="1766" h="1033">
                  <a:moveTo>
                    <a:pt x="0" y="1032"/>
                  </a:moveTo>
                  <a:lnTo>
                    <a:pt x="1765" y="1032"/>
                  </a:lnTo>
                  <a:lnTo>
                    <a:pt x="1765" y="894"/>
                  </a:lnTo>
                  <a:lnTo>
                    <a:pt x="973" y="894"/>
                  </a:lnTo>
                  <a:lnTo>
                    <a:pt x="973" y="0"/>
                  </a:lnTo>
                  <a:lnTo>
                    <a:pt x="800" y="0"/>
                  </a:lnTo>
                  <a:lnTo>
                    <a:pt x="800" y="894"/>
                  </a:lnTo>
                  <a:lnTo>
                    <a:pt x="0" y="894"/>
                  </a:lnTo>
                  <a:lnTo>
                    <a:pt x="0" y="1032"/>
                  </a:lnTo>
                  <a:lnTo>
                    <a:pt x="0" y="103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6840" y="4705200"/>
              <a:ext cx="696960" cy="541440"/>
            </a:xfrm>
            <a:custGeom>
              <a:avLst/>
              <a:gdLst/>
              <a:ahLst/>
              <a:rect l="l" t="t" r="r" b="b"/>
              <a:pathLst>
                <a:path w="439" h="341">
                  <a:moveTo>
                    <a:pt x="30" y="340"/>
                  </a:moveTo>
                  <a:lnTo>
                    <a:pt x="18" y="296"/>
                  </a:lnTo>
                  <a:lnTo>
                    <a:pt x="6" y="238"/>
                  </a:lnTo>
                  <a:lnTo>
                    <a:pt x="0" y="178"/>
                  </a:lnTo>
                  <a:lnTo>
                    <a:pt x="3" y="125"/>
                  </a:lnTo>
                  <a:lnTo>
                    <a:pt x="10" y="87"/>
                  </a:lnTo>
                  <a:lnTo>
                    <a:pt x="30" y="51"/>
                  </a:lnTo>
                  <a:lnTo>
                    <a:pt x="48" y="29"/>
                  </a:lnTo>
                  <a:lnTo>
                    <a:pt x="72" y="10"/>
                  </a:lnTo>
                  <a:lnTo>
                    <a:pt x="104" y="0"/>
                  </a:lnTo>
                  <a:lnTo>
                    <a:pt x="142" y="0"/>
                  </a:lnTo>
                  <a:lnTo>
                    <a:pt x="206" y="17"/>
                  </a:lnTo>
                  <a:lnTo>
                    <a:pt x="270" y="51"/>
                  </a:lnTo>
                  <a:lnTo>
                    <a:pt x="330" y="92"/>
                  </a:lnTo>
                  <a:lnTo>
                    <a:pt x="375" y="134"/>
                  </a:lnTo>
                  <a:lnTo>
                    <a:pt x="411" y="172"/>
                  </a:lnTo>
                  <a:lnTo>
                    <a:pt x="438" y="2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74640" y="4738680"/>
              <a:ext cx="708120" cy="507960"/>
            </a:xfrm>
            <a:custGeom>
              <a:avLst/>
              <a:gdLst/>
              <a:ahLst/>
              <a:rect l="l" t="t" r="r" b="b"/>
              <a:pathLst>
                <a:path w="446" h="320">
                  <a:moveTo>
                    <a:pt x="0" y="319"/>
                  </a:moveTo>
                  <a:lnTo>
                    <a:pt x="18" y="274"/>
                  </a:lnTo>
                  <a:lnTo>
                    <a:pt x="40" y="234"/>
                  </a:lnTo>
                  <a:lnTo>
                    <a:pt x="69" y="197"/>
                  </a:lnTo>
                  <a:lnTo>
                    <a:pt x="100" y="165"/>
                  </a:lnTo>
                  <a:lnTo>
                    <a:pt x="144" y="130"/>
                  </a:lnTo>
                  <a:lnTo>
                    <a:pt x="191" y="99"/>
                  </a:lnTo>
                  <a:lnTo>
                    <a:pt x="247" y="68"/>
                  </a:lnTo>
                  <a:lnTo>
                    <a:pt x="304" y="41"/>
                  </a:lnTo>
                  <a:lnTo>
                    <a:pt x="358" y="19"/>
                  </a:lnTo>
                  <a:lnTo>
                    <a:pt x="409" y="8"/>
                  </a:lnTo>
                  <a:lnTo>
                    <a:pt x="4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7200" y="4822920"/>
              <a:ext cx="38160" cy="288720"/>
            </a:xfrm>
            <a:custGeom>
              <a:avLst/>
              <a:gdLst/>
              <a:ahLst/>
              <a:rect l="l" t="t" r="r" b="b"/>
              <a:pathLst>
                <a:path w="24" h="182">
                  <a:moveTo>
                    <a:pt x="7" y="0"/>
                  </a:moveTo>
                  <a:lnTo>
                    <a:pt x="16" y="18"/>
                  </a:lnTo>
                  <a:lnTo>
                    <a:pt x="20" y="36"/>
                  </a:lnTo>
                  <a:lnTo>
                    <a:pt x="23" y="56"/>
                  </a:lnTo>
                  <a:lnTo>
                    <a:pt x="23" y="88"/>
                  </a:lnTo>
                  <a:lnTo>
                    <a:pt x="20" y="116"/>
                  </a:lnTo>
                  <a:lnTo>
                    <a:pt x="13" y="149"/>
                  </a:lnTo>
                  <a:lnTo>
                    <a:pt x="0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86000" y="4168800"/>
              <a:ext cx="610920" cy="595440"/>
            </a:xfrm>
            <a:custGeom>
              <a:avLst/>
              <a:gdLst/>
              <a:ahLst/>
              <a:rect l="l" t="t" r="r" b="b"/>
              <a:pathLst>
                <a:path w="385" h="375">
                  <a:moveTo>
                    <a:pt x="0" y="374"/>
                  </a:moveTo>
                  <a:lnTo>
                    <a:pt x="7" y="327"/>
                  </a:lnTo>
                  <a:lnTo>
                    <a:pt x="19" y="267"/>
                  </a:lnTo>
                  <a:lnTo>
                    <a:pt x="36" y="216"/>
                  </a:lnTo>
                  <a:lnTo>
                    <a:pt x="52" y="165"/>
                  </a:lnTo>
                  <a:lnTo>
                    <a:pt x="75" y="118"/>
                  </a:lnTo>
                  <a:lnTo>
                    <a:pt x="103" y="78"/>
                  </a:lnTo>
                  <a:lnTo>
                    <a:pt x="128" y="46"/>
                  </a:lnTo>
                  <a:lnTo>
                    <a:pt x="151" y="25"/>
                  </a:lnTo>
                  <a:lnTo>
                    <a:pt x="175" y="10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57" y="10"/>
                  </a:lnTo>
                  <a:lnTo>
                    <a:pt x="286" y="25"/>
                  </a:lnTo>
                  <a:lnTo>
                    <a:pt x="317" y="51"/>
                  </a:lnTo>
                  <a:lnTo>
                    <a:pt x="341" y="78"/>
                  </a:lnTo>
                  <a:lnTo>
                    <a:pt x="366" y="112"/>
                  </a:lnTo>
                  <a:lnTo>
                    <a:pt x="380" y="141"/>
                  </a:lnTo>
                  <a:lnTo>
                    <a:pt x="384" y="1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89120" y="4375080"/>
              <a:ext cx="593640" cy="533520"/>
            </a:xfrm>
            <a:custGeom>
              <a:avLst/>
              <a:gdLst/>
              <a:ahLst/>
              <a:rect l="l" t="t" r="r" b="b"/>
              <a:pathLst>
                <a:path w="374" h="336">
                  <a:moveTo>
                    <a:pt x="102" y="335"/>
                  </a:moveTo>
                  <a:lnTo>
                    <a:pt x="68" y="308"/>
                  </a:lnTo>
                  <a:lnTo>
                    <a:pt x="46" y="285"/>
                  </a:lnTo>
                  <a:lnTo>
                    <a:pt x="24" y="259"/>
                  </a:lnTo>
                  <a:lnTo>
                    <a:pt x="9" y="233"/>
                  </a:lnTo>
                  <a:lnTo>
                    <a:pt x="1" y="208"/>
                  </a:lnTo>
                  <a:lnTo>
                    <a:pt x="0" y="192"/>
                  </a:lnTo>
                  <a:lnTo>
                    <a:pt x="0" y="167"/>
                  </a:lnTo>
                  <a:lnTo>
                    <a:pt x="7" y="137"/>
                  </a:lnTo>
                  <a:lnTo>
                    <a:pt x="26" y="108"/>
                  </a:lnTo>
                  <a:lnTo>
                    <a:pt x="56" y="79"/>
                  </a:lnTo>
                  <a:lnTo>
                    <a:pt x="92" y="58"/>
                  </a:lnTo>
                  <a:lnTo>
                    <a:pt x="143" y="38"/>
                  </a:lnTo>
                  <a:lnTo>
                    <a:pt x="193" y="21"/>
                  </a:lnTo>
                  <a:lnTo>
                    <a:pt x="239" y="12"/>
                  </a:lnTo>
                  <a:lnTo>
                    <a:pt x="295" y="1"/>
                  </a:lnTo>
                  <a:lnTo>
                    <a:pt x="339" y="0"/>
                  </a:lnTo>
                  <a:lnTo>
                    <a:pt x="37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05240" y="4408560"/>
              <a:ext cx="336240" cy="684000"/>
            </a:xfrm>
            <a:custGeom>
              <a:avLst/>
              <a:gdLst/>
              <a:ahLst/>
              <a:rect l="l" t="t" r="r" b="b"/>
              <a:pathLst>
                <a:path w="212" h="431">
                  <a:moveTo>
                    <a:pt x="21" y="0"/>
                  </a:moveTo>
                  <a:lnTo>
                    <a:pt x="52" y="13"/>
                  </a:lnTo>
                  <a:lnTo>
                    <a:pt x="89" y="30"/>
                  </a:lnTo>
                  <a:lnTo>
                    <a:pt x="125" y="56"/>
                  </a:lnTo>
                  <a:lnTo>
                    <a:pt x="155" y="85"/>
                  </a:lnTo>
                  <a:lnTo>
                    <a:pt x="175" y="109"/>
                  </a:lnTo>
                  <a:lnTo>
                    <a:pt x="189" y="135"/>
                  </a:lnTo>
                  <a:lnTo>
                    <a:pt x="198" y="160"/>
                  </a:lnTo>
                  <a:lnTo>
                    <a:pt x="206" y="189"/>
                  </a:lnTo>
                  <a:lnTo>
                    <a:pt x="211" y="212"/>
                  </a:lnTo>
                  <a:lnTo>
                    <a:pt x="211" y="234"/>
                  </a:lnTo>
                  <a:lnTo>
                    <a:pt x="206" y="271"/>
                  </a:lnTo>
                  <a:lnTo>
                    <a:pt x="196" y="297"/>
                  </a:lnTo>
                  <a:lnTo>
                    <a:pt x="176" y="332"/>
                  </a:lnTo>
                  <a:lnTo>
                    <a:pt x="153" y="359"/>
                  </a:lnTo>
                  <a:lnTo>
                    <a:pt x="125" y="385"/>
                  </a:lnTo>
                  <a:lnTo>
                    <a:pt x="89" y="403"/>
                  </a:lnTo>
                  <a:lnTo>
                    <a:pt x="62" y="416"/>
                  </a:lnTo>
                  <a:lnTo>
                    <a:pt x="27" y="429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66880" y="5045040"/>
              <a:ext cx="238320" cy="187200"/>
            </a:xfrm>
            <a:custGeom>
              <a:avLst/>
              <a:gdLst/>
              <a:ahLst/>
              <a:rect l="l" t="t" r="r" b="b"/>
              <a:pathLst>
                <a:path w="150" h="118">
                  <a:moveTo>
                    <a:pt x="0" y="0"/>
                  </a:moveTo>
                  <a:lnTo>
                    <a:pt x="40" y="17"/>
                  </a:lnTo>
                  <a:lnTo>
                    <a:pt x="82" y="45"/>
                  </a:lnTo>
                  <a:lnTo>
                    <a:pt x="116" y="76"/>
                  </a:lnTo>
                  <a:lnTo>
                    <a:pt x="139" y="101"/>
                  </a:lnTo>
                  <a:lnTo>
                    <a:pt x="149" y="1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00520" y="4568760"/>
              <a:ext cx="892080" cy="681120"/>
            </a:xfrm>
            <a:custGeom>
              <a:avLst/>
              <a:gdLst/>
              <a:ahLst/>
              <a:rect l="l" t="t" r="r" b="b"/>
              <a:pathLst>
                <a:path w="562" h="429">
                  <a:moveTo>
                    <a:pt x="0" y="414"/>
                  </a:moveTo>
                  <a:lnTo>
                    <a:pt x="11" y="368"/>
                  </a:lnTo>
                  <a:lnTo>
                    <a:pt x="33" y="304"/>
                  </a:lnTo>
                  <a:lnTo>
                    <a:pt x="71" y="245"/>
                  </a:lnTo>
                  <a:lnTo>
                    <a:pt x="107" y="201"/>
                  </a:lnTo>
                  <a:lnTo>
                    <a:pt x="154" y="154"/>
                  </a:lnTo>
                  <a:lnTo>
                    <a:pt x="203" y="111"/>
                  </a:lnTo>
                  <a:lnTo>
                    <a:pt x="243" y="82"/>
                  </a:lnTo>
                  <a:lnTo>
                    <a:pt x="280" y="54"/>
                  </a:lnTo>
                  <a:lnTo>
                    <a:pt x="331" y="29"/>
                  </a:lnTo>
                  <a:lnTo>
                    <a:pt x="373" y="13"/>
                  </a:lnTo>
                  <a:lnTo>
                    <a:pt x="410" y="3"/>
                  </a:lnTo>
                  <a:lnTo>
                    <a:pt x="445" y="0"/>
                  </a:lnTo>
                  <a:lnTo>
                    <a:pt x="487" y="4"/>
                  </a:lnTo>
                  <a:lnTo>
                    <a:pt x="513" y="19"/>
                  </a:lnTo>
                  <a:lnTo>
                    <a:pt x="535" y="42"/>
                  </a:lnTo>
                  <a:lnTo>
                    <a:pt x="549" y="70"/>
                  </a:lnTo>
                  <a:lnTo>
                    <a:pt x="557" y="104"/>
                  </a:lnTo>
                  <a:lnTo>
                    <a:pt x="561" y="143"/>
                  </a:lnTo>
                  <a:lnTo>
                    <a:pt x="561" y="180"/>
                  </a:lnTo>
                  <a:lnTo>
                    <a:pt x="553" y="222"/>
                  </a:lnTo>
                  <a:lnTo>
                    <a:pt x="547" y="268"/>
                  </a:lnTo>
                  <a:lnTo>
                    <a:pt x="530" y="315"/>
                  </a:lnTo>
                  <a:lnTo>
                    <a:pt x="509" y="366"/>
                  </a:lnTo>
                  <a:lnTo>
                    <a:pt x="491" y="401"/>
                  </a:lnTo>
                  <a:lnTo>
                    <a:pt x="475" y="4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19360" y="4343400"/>
              <a:ext cx="222120" cy="98280"/>
            </a:xfrm>
            <a:custGeom>
              <a:avLst/>
              <a:gdLst/>
              <a:ahLst/>
              <a:rect l="l" t="t" r="r" b="b"/>
              <a:pathLst>
                <a:path w="140" h="62">
                  <a:moveTo>
                    <a:pt x="0" y="61"/>
                  </a:moveTo>
                  <a:lnTo>
                    <a:pt x="28" y="37"/>
                  </a:lnTo>
                  <a:lnTo>
                    <a:pt x="62" y="15"/>
                  </a:lnTo>
                  <a:lnTo>
                    <a:pt x="95" y="2"/>
                  </a:lnTo>
                  <a:lnTo>
                    <a:pt x="122" y="0"/>
                  </a:lnTo>
                  <a:lnTo>
                    <a:pt x="139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32120" y="4110120"/>
              <a:ext cx="712800" cy="912600"/>
            </a:xfrm>
            <a:custGeom>
              <a:avLst/>
              <a:gdLst/>
              <a:ahLst/>
              <a:rect l="l" t="t" r="r" b="b"/>
              <a:pathLst>
                <a:path w="449" h="575">
                  <a:moveTo>
                    <a:pt x="82" y="574"/>
                  </a:moveTo>
                  <a:lnTo>
                    <a:pt x="63" y="538"/>
                  </a:lnTo>
                  <a:lnTo>
                    <a:pt x="41" y="488"/>
                  </a:lnTo>
                  <a:lnTo>
                    <a:pt x="24" y="419"/>
                  </a:lnTo>
                  <a:lnTo>
                    <a:pt x="12" y="359"/>
                  </a:lnTo>
                  <a:lnTo>
                    <a:pt x="5" y="304"/>
                  </a:lnTo>
                  <a:lnTo>
                    <a:pt x="0" y="253"/>
                  </a:lnTo>
                  <a:lnTo>
                    <a:pt x="0" y="208"/>
                  </a:lnTo>
                  <a:lnTo>
                    <a:pt x="2" y="166"/>
                  </a:lnTo>
                  <a:lnTo>
                    <a:pt x="12" y="126"/>
                  </a:lnTo>
                  <a:lnTo>
                    <a:pt x="27" y="85"/>
                  </a:lnTo>
                  <a:lnTo>
                    <a:pt x="41" y="53"/>
                  </a:lnTo>
                  <a:lnTo>
                    <a:pt x="62" y="30"/>
                  </a:lnTo>
                  <a:lnTo>
                    <a:pt x="80" y="12"/>
                  </a:lnTo>
                  <a:lnTo>
                    <a:pt x="105" y="3"/>
                  </a:lnTo>
                  <a:lnTo>
                    <a:pt x="133" y="0"/>
                  </a:lnTo>
                  <a:lnTo>
                    <a:pt x="172" y="4"/>
                  </a:lnTo>
                  <a:lnTo>
                    <a:pt x="210" y="19"/>
                  </a:lnTo>
                  <a:lnTo>
                    <a:pt x="241" y="37"/>
                  </a:lnTo>
                  <a:lnTo>
                    <a:pt x="278" y="63"/>
                  </a:lnTo>
                  <a:lnTo>
                    <a:pt x="309" y="90"/>
                  </a:lnTo>
                  <a:lnTo>
                    <a:pt x="343" y="130"/>
                  </a:lnTo>
                  <a:lnTo>
                    <a:pt x="380" y="176"/>
                  </a:lnTo>
                  <a:lnTo>
                    <a:pt x="407" y="218"/>
                  </a:lnTo>
                  <a:lnTo>
                    <a:pt x="425" y="251"/>
                  </a:lnTo>
                  <a:lnTo>
                    <a:pt x="442" y="281"/>
                  </a:lnTo>
                  <a:lnTo>
                    <a:pt x="448" y="2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4893120" y="4251240"/>
            <a:ext cx="4846680" cy="3870000"/>
            <a:chOff x="4893120" y="4251240"/>
            <a:chExt cx="4846680" cy="3870000"/>
          </a:xfrm>
        </p:grpSpPr>
        <p:sp>
          <p:nvSpPr>
            <p:cNvPr id="1046" name=""/>
            <p:cNvSpPr/>
            <p:nvPr/>
          </p:nvSpPr>
          <p:spPr>
            <a:xfrm rot="9120000">
              <a:off x="5114160" y="5165280"/>
              <a:ext cx="4403880" cy="2041560"/>
            </a:xfrm>
            <a:prstGeom prst="ellipse">
              <a:avLst/>
            </a:prstGeom>
            <a:solidFill>
              <a:srgbClr val="e1e1e1"/>
            </a:solidFill>
            <a:ln w="1908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59600" y="5905440"/>
              <a:ext cx="958680" cy="692280"/>
            </a:xfrm>
            <a:custGeom>
              <a:avLst/>
              <a:gdLst/>
              <a:ahLst/>
              <a:rect l="l" t="t" r="r" b="b"/>
              <a:pathLst>
                <a:path w="604" h="436">
                  <a:moveTo>
                    <a:pt x="393" y="427"/>
                  </a:moveTo>
                  <a:lnTo>
                    <a:pt x="419" y="426"/>
                  </a:lnTo>
                  <a:lnTo>
                    <a:pt x="454" y="413"/>
                  </a:lnTo>
                  <a:lnTo>
                    <a:pt x="482" y="400"/>
                  </a:lnTo>
                  <a:lnTo>
                    <a:pt x="517" y="382"/>
                  </a:lnTo>
                  <a:lnTo>
                    <a:pt x="545" y="356"/>
                  </a:lnTo>
                  <a:lnTo>
                    <a:pt x="568" y="328"/>
                  </a:lnTo>
                  <a:lnTo>
                    <a:pt x="588" y="294"/>
                  </a:lnTo>
                  <a:lnTo>
                    <a:pt x="598" y="268"/>
                  </a:lnTo>
                  <a:lnTo>
                    <a:pt x="603" y="230"/>
                  </a:lnTo>
                  <a:lnTo>
                    <a:pt x="603" y="209"/>
                  </a:lnTo>
                  <a:lnTo>
                    <a:pt x="598" y="186"/>
                  </a:lnTo>
                  <a:lnTo>
                    <a:pt x="590" y="157"/>
                  </a:lnTo>
                  <a:lnTo>
                    <a:pt x="582" y="131"/>
                  </a:lnTo>
                  <a:lnTo>
                    <a:pt x="568" y="106"/>
                  </a:lnTo>
                  <a:lnTo>
                    <a:pt x="548" y="81"/>
                  </a:lnTo>
                  <a:lnTo>
                    <a:pt x="517" y="53"/>
                  </a:lnTo>
                  <a:lnTo>
                    <a:pt x="482" y="26"/>
                  </a:lnTo>
                  <a:lnTo>
                    <a:pt x="444" y="10"/>
                  </a:lnTo>
                  <a:lnTo>
                    <a:pt x="409" y="6"/>
                  </a:lnTo>
                  <a:lnTo>
                    <a:pt x="373" y="0"/>
                  </a:lnTo>
                  <a:lnTo>
                    <a:pt x="339" y="0"/>
                  </a:lnTo>
                  <a:lnTo>
                    <a:pt x="295" y="2"/>
                  </a:lnTo>
                  <a:lnTo>
                    <a:pt x="239" y="12"/>
                  </a:lnTo>
                  <a:lnTo>
                    <a:pt x="193" y="21"/>
                  </a:lnTo>
                  <a:lnTo>
                    <a:pt x="143" y="38"/>
                  </a:lnTo>
                  <a:lnTo>
                    <a:pt x="92" y="58"/>
                  </a:lnTo>
                  <a:lnTo>
                    <a:pt x="57" y="80"/>
                  </a:lnTo>
                  <a:lnTo>
                    <a:pt x="27" y="108"/>
                  </a:lnTo>
                  <a:lnTo>
                    <a:pt x="7" y="138"/>
                  </a:lnTo>
                  <a:lnTo>
                    <a:pt x="0" y="168"/>
                  </a:lnTo>
                  <a:lnTo>
                    <a:pt x="0" y="192"/>
                  </a:lnTo>
                  <a:lnTo>
                    <a:pt x="1" y="208"/>
                  </a:lnTo>
                  <a:lnTo>
                    <a:pt x="9" y="233"/>
                  </a:lnTo>
                  <a:lnTo>
                    <a:pt x="24" y="259"/>
                  </a:lnTo>
                  <a:lnTo>
                    <a:pt x="46" y="285"/>
                  </a:lnTo>
                  <a:lnTo>
                    <a:pt x="68" y="308"/>
                  </a:lnTo>
                  <a:lnTo>
                    <a:pt x="102" y="335"/>
                  </a:lnTo>
                  <a:lnTo>
                    <a:pt x="126" y="349"/>
                  </a:lnTo>
                  <a:lnTo>
                    <a:pt x="150" y="360"/>
                  </a:lnTo>
                  <a:lnTo>
                    <a:pt x="174" y="373"/>
                  </a:lnTo>
                  <a:lnTo>
                    <a:pt x="250" y="403"/>
                  </a:lnTo>
                  <a:lnTo>
                    <a:pt x="315" y="421"/>
                  </a:lnTo>
                  <a:lnTo>
                    <a:pt x="374" y="435"/>
                  </a:lnTo>
                  <a:lnTo>
                    <a:pt x="393" y="427"/>
                  </a:lnTo>
                  <a:lnTo>
                    <a:pt x="393" y="42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172280" y="5200560"/>
              <a:ext cx="957240" cy="692280"/>
            </a:xfrm>
            <a:custGeom>
              <a:avLst/>
              <a:gdLst/>
              <a:ahLst/>
              <a:rect l="l" t="t" r="r" b="b"/>
              <a:pathLst>
                <a:path w="603" h="436">
                  <a:moveTo>
                    <a:pt x="392" y="427"/>
                  </a:moveTo>
                  <a:lnTo>
                    <a:pt x="418" y="426"/>
                  </a:lnTo>
                  <a:lnTo>
                    <a:pt x="453" y="412"/>
                  </a:lnTo>
                  <a:lnTo>
                    <a:pt x="481" y="399"/>
                  </a:lnTo>
                  <a:lnTo>
                    <a:pt x="516" y="381"/>
                  </a:lnTo>
                  <a:lnTo>
                    <a:pt x="544" y="356"/>
                  </a:lnTo>
                  <a:lnTo>
                    <a:pt x="568" y="328"/>
                  </a:lnTo>
                  <a:lnTo>
                    <a:pt x="587" y="293"/>
                  </a:lnTo>
                  <a:lnTo>
                    <a:pt x="597" y="268"/>
                  </a:lnTo>
                  <a:lnTo>
                    <a:pt x="602" y="230"/>
                  </a:lnTo>
                  <a:lnTo>
                    <a:pt x="602" y="208"/>
                  </a:lnTo>
                  <a:lnTo>
                    <a:pt x="597" y="185"/>
                  </a:lnTo>
                  <a:lnTo>
                    <a:pt x="589" y="156"/>
                  </a:lnTo>
                  <a:lnTo>
                    <a:pt x="580" y="131"/>
                  </a:lnTo>
                  <a:lnTo>
                    <a:pt x="567" y="105"/>
                  </a:lnTo>
                  <a:lnTo>
                    <a:pt x="547" y="81"/>
                  </a:lnTo>
                  <a:lnTo>
                    <a:pt x="516" y="52"/>
                  </a:lnTo>
                  <a:lnTo>
                    <a:pt x="481" y="26"/>
                  </a:lnTo>
                  <a:lnTo>
                    <a:pt x="443" y="10"/>
                  </a:lnTo>
                  <a:lnTo>
                    <a:pt x="408" y="6"/>
                  </a:lnTo>
                  <a:lnTo>
                    <a:pt x="372" y="0"/>
                  </a:lnTo>
                  <a:lnTo>
                    <a:pt x="338" y="0"/>
                  </a:lnTo>
                  <a:lnTo>
                    <a:pt x="294" y="1"/>
                  </a:lnTo>
                  <a:lnTo>
                    <a:pt x="238" y="12"/>
                  </a:lnTo>
                  <a:lnTo>
                    <a:pt x="192" y="20"/>
                  </a:lnTo>
                  <a:lnTo>
                    <a:pt x="142" y="37"/>
                  </a:lnTo>
                  <a:lnTo>
                    <a:pt x="91" y="58"/>
                  </a:lnTo>
                  <a:lnTo>
                    <a:pt x="56" y="79"/>
                  </a:lnTo>
                  <a:lnTo>
                    <a:pt x="26" y="108"/>
                  </a:lnTo>
                  <a:lnTo>
                    <a:pt x="6" y="137"/>
                  </a:lnTo>
                  <a:lnTo>
                    <a:pt x="0" y="167"/>
                  </a:lnTo>
                  <a:lnTo>
                    <a:pt x="0" y="192"/>
                  </a:lnTo>
                  <a:lnTo>
                    <a:pt x="0" y="208"/>
                  </a:lnTo>
                  <a:lnTo>
                    <a:pt x="8" y="233"/>
                  </a:lnTo>
                  <a:lnTo>
                    <a:pt x="23" y="259"/>
                  </a:lnTo>
                  <a:lnTo>
                    <a:pt x="45" y="285"/>
                  </a:lnTo>
                  <a:lnTo>
                    <a:pt x="68" y="308"/>
                  </a:lnTo>
                  <a:lnTo>
                    <a:pt x="101" y="335"/>
                  </a:lnTo>
                  <a:lnTo>
                    <a:pt x="125" y="349"/>
                  </a:lnTo>
                  <a:lnTo>
                    <a:pt x="149" y="359"/>
                  </a:lnTo>
                  <a:lnTo>
                    <a:pt x="174" y="373"/>
                  </a:lnTo>
                  <a:lnTo>
                    <a:pt x="248" y="402"/>
                  </a:lnTo>
                  <a:lnTo>
                    <a:pt x="314" y="421"/>
                  </a:lnTo>
                  <a:lnTo>
                    <a:pt x="373" y="435"/>
                  </a:lnTo>
                  <a:lnTo>
                    <a:pt x="392" y="427"/>
                  </a:lnTo>
                  <a:lnTo>
                    <a:pt x="392" y="42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0" y="12952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acerca del hiperplano de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70440" y="5056200"/>
            <a:ext cx="3754440" cy="2068560"/>
          </a:xfrm>
          <a:prstGeom prst="line">
            <a:avLst/>
          </a:prstGeom>
          <a:ln w="6984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2393640"/>
            <a:ext cx="5946840" cy="3742200"/>
            <a:chOff x="0" y="2393640"/>
            <a:chExt cx="5946840" cy="3742200"/>
          </a:xfrm>
        </p:grpSpPr>
        <p:grpSp>
          <p:nvGrpSpPr>
            <p:cNvPr id="1052" name=""/>
            <p:cNvGrpSpPr/>
            <p:nvPr/>
          </p:nvGrpSpPr>
          <p:grpSpPr>
            <a:xfrm>
              <a:off x="0" y="2393640"/>
              <a:ext cx="5832360" cy="3742200"/>
              <a:chOff x="0" y="2393640"/>
              <a:chExt cx="5832360" cy="3742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2647800"/>
                <a:ext cx="5832360" cy="3488040"/>
              </a:xfrm>
              <a:custGeom>
                <a:avLst/>
                <a:gdLst/>
                <a:ahLst/>
                <a:rect l="l" t="t" r="r" b="b"/>
                <a:pathLst>
                  <a:path w="3674" h="2197">
                    <a:moveTo>
                      <a:pt x="0" y="1974"/>
                    </a:moveTo>
                    <a:lnTo>
                      <a:pt x="9" y="2196"/>
                    </a:lnTo>
                    <a:lnTo>
                      <a:pt x="3672" y="2196"/>
                    </a:lnTo>
                    <a:lnTo>
                      <a:pt x="3673" y="0"/>
                    </a:lnTo>
                    <a:lnTo>
                      <a:pt x="3483" y="8"/>
                    </a:lnTo>
                    <a:lnTo>
                      <a:pt x="3501" y="1956"/>
                    </a:lnTo>
                    <a:lnTo>
                      <a:pt x="0" y="1974"/>
                    </a:lnTo>
                    <a:lnTo>
                      <a:pt x="0" y="197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90360" y="2566080"/>
                <a:ext cx="5645160" cy="3500280"/>
              </a:xfrm>
              <a:prstGeom prst="roundRect">
                <a:avLst>
                  <a:gd name="adj" fmla="val 0"/>
                </a:avLst>
              </a:prstGeom>
              <a:solidFill>
                <a:srgbClr val="ffff80"/>
              </a:solidFill>
              <a:ln w="9360">
                <a:solidFill>
                  <a:srgbClr val="824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73360" y="2768760"/>
                <a:ext cx="1047600" cy="345960"/>
              </a:xfrm>
              <a:custGeom>
                <a:avLst/>
                <a:gdLst/>
                <a:ahLst/>
                <a:rect l="l" t="t" r="r" b="b"/>
                <a:pathLst>
                  <a:path w="660" h="218">
                    <a:moveTo>
                      <a:pt x="481" y="34"/>
                    </a:moveTo>
                    <a:lnTo>
                      <a:pt x="479" y="34"/>
                    </a:lnTo>
                    <a:lnTo>
                      <a:pt x="479" y="33"/>
                    </a:lnTo>
                    <a:lnTo>
                      <a:pt x="479" y="33"/>
                    </a:lnTo>
                    <a:lnTo>
                      <a:pt x="479" y="31"/>
                    </a:lnTo>
                    <a:lnTo>
                      <a:pt x="479" y="31"/>
                    </a:lnTo>
                    <a:lnTo>
                      <a:pt x="479" y="29"/>
                    </a:lnTo>
                    <a:lnTo>
                      <a:pt x="479" y="28"/>
                    </a:lnTo>
                    <a:lnTo>
                      <a:pt x="479" y="26"/>
                    </a:lnTo>
                    <a:lnTo>
                      <a:pt x="479" y="26"/>
                    </a:lnTo>
                    <a:lnTo>
                      <a:pt x="479" y="24"/>
                    </a:lnTo>
                    <a:lnTo>
                      <a:pt x="479" y="24"/>
                    </a:lnTo>
                    <a:lnTo>
                      <a:pt x="481" y="22"/>
                    </a:lnTo>
                    <a:lnTo>
                      <a:pt x="481" y="22"/>
                    </a:lnTo>
                    <a:lnTo>
                      <a:pt x="482" y="20"/>
                    </a:lnTo>
                    <a:lnTo>
                      <a:pt x="482" y="19"/>
                    </a:lnTo>
                    <a:lnTo>
                      <a:pt x="484" y="18"/>
                    </a:lnTo>
                    <a:lnTo>
                      <a:pt x="486" y="18"/>
                    </a:lnTo>
                    <a:lnTo>
                      <a:pt x="489" y="16"/>
                    </a:lnTo>
                    <a:lnTo>
                      <a:pt x="493" y="14"/>
                    </a:lnTo>
                    <a:lnTo>
                      <a:pt x="497" y="12"/>
                    </a:lnTo>
                    <a:lnTo>
                      <a:pt x="501" y="11"/>
                    </a:lnTo>
                    <a:lnTo>
                      <a:pt x="507" y="9"/>
                    </a:lnTo>
                    <a:lnTo>
                      <a:pt x="513" y="8"/>
                    </a:lnTo>
                    <a:lnTo>
                      <a:pt x="518" y="6"/>
                    </a:lnTo>
                    <a:lnTo>
                      <a:pt x="523" y="6"/>
                    </a:lnTo>
                    <a:lnTo>
                      <a:pt x="529" y="4"/>
                    </a:lnTo>
                    <a:lnTo>
                      <a:pt x="534" y="4"/>
                    </a:lnTo>
                    <a:lnTo>
                      <a:pt x="540" y="2"/>
                    </a:lnTo>
                    <a:lnTo>
                      <a:pt x="544" y="2"/>
                    </a:lnTo>
                    <a:lnTo>
                      <a:pt x="549" y="1"/>
                    </a:lnTo>
                    <a:lnTo>
                      <a:pt x="554" y="1"/>
                    </a:lnTo>
                    <a:lnTo>
                      <a:pt x="559" y="0"/>
                    </a:lnTo>
                    <a:lnTo>
                      <a:pt x="561" y="1"/>
                    </a:lnTo>
                    <a:lnTo>
                      <a:pt x="562" y="1"/>
                    </a:lnTo>
                    <a:lnTo>
                      <a:pt x="564" y="2"/>
                    </a:lnTo>
                    <a:lnTo>
                      <a:pt x="567" y="2"/>
                    </a:lnTo>
                    <a:lnTo>
                      <a:pt x="569" y="4"/>
                    </a:lnTo>
                    <a:lnTo>
                      <a:pt x="573" y="4"/>
                    </a:lnTo>
                    <a:lnTo>
                      <a:pt x="575" y="4"/>
                    </a:lnTo>
                    <a:lnTo>
                      <a:pt x="579" y="4"/>
                    </a:lnTo>
                    <a:lnTo>
                      <a:pt x="581" y="6"/>
                    </a:lnTo>
                    <a:lnTo>
                      <a:pt x="584" y="6"/>
                    </a:lnTo>
                    <a:lnTo>
                      <a:pt x="586" y="8"/>
                    </a:lnTo>
                    <a:lnTo>
                      <a:pt x="590" y="8"/>
                    </a:lnTo>
                    <a:lnTo>
                      <a:pt x="592" y="10"/>
                    </a:lnTo>
                    <a:lnTo>
                      <a:pt x="594" y="10"/>
                    </a:lnTo>
                    <a:lnTo>
                      <a:pt x="596" y="10"/>
                    </a:lnTo>
                    <a:lnTo>
                      <a:pt x="598" y="10"/>
                    </a:lnTo>
                    <a:lnTo>
                      <a:pt x="600" y="12"/>
                    </a:lnTo>
                    <a:lnTo>
                      <a:pt x="602" y="14"/>
                    </a:lnTo>
                    <a:lnTo>
                      <a:pt x="603" y="16"/>
                    </a:lnTo>
                    <a:lnTo>
                      <a:pt x="607" y="17"/>
                    </a:lnTo>
                    <a:lnTo>
                      <a:pt x="609" y="19"/>
                    </a:lnTo>
                    <a:lnTo>
                      <a:pt x="611" y="20"/>
                    </a:lnTo>
                    <a:lnTo>
                      <a:pt x="613" y="22"/>
                    </a:lnTo>
                    <a:lnTo>
                      <a:pt x="617" y="24"/>
                    </a:lnTo>
                    <a:lnTo>
                      <a:pt x="619" y="27"/>
                    </a:lnTo>
                    <a:lnTo>
                      <a:pt x="620" y="29"/>
                    </a:lnTo>
                    <a:lnTo>
                      <a:pt x="622" y="30"/>
                    </a:lnTo>
                    <a:lnTo>
                      <a:pt x="625" y="32"/>
                    </a:lnTo>
                    <a:lnTo>
                      <a:pt x="626" y="34"/>
                    </a:lnTo>
                    <a:lnTo>
                      <a:pt x="628" y="36"/>
                    </a:lnTo>
                    <a:lnTo>
                      <a:pt x="630" y="38"/>
                    </a:lnTo>
                    <a:lnTo>
                      <a:pt x="632" y="38"/>
                    </a:lnTo>
                    <a:lnTo>
                      <a:pt x="632" y="40"/>
                    </a:lnTo>
                    <a:lnTo>
                      <a:pt x="633" y="42"/>
                    </a:lnTo>
                    <a:lnTo>
                      <a:pt x="633" y="44"/>
                    </a:lnTo>
                    <a:lnTo>
                      <a:pt x="635" y="46"/>
                    </a:lnTo>
                    <a:lnTo>
                      <a:pt x="635" y="48"/>
                    </a:lnTo>
                    <a:lnTo>
                      <a:pt x="637" y="49"/>
                    </a:lnTo>
                    <a:lnTo>
                      <a:pt x="639" y="51"/>
                    </a:lnTo>
                    <a:lnTo>
                      <a:pt x="640" y="53"/>
                    </a:lnTo>
                    <a:lnTo>
                      <a:pt x="640" y="55"/>
                    </a:lnTo>
                    <a:lnTo>
                      <a:pt x="642" y="57"/>
                    </a:lnTo>
                    <a:lnTo>
                      <a:pt x="643" y="59"/>
                    </a:lnTo>
                    <a:lnTo>
                      <a:pt x="645" y="60"/>
                    </a:lnTo>
                    <a:lnTo>
                      <a:pt x="645" y="62"/>
                    </a:lnTo>
                    <a:lnTo>
                      <a:pt x="647" y="64"/>
                    </a:lnTo>
                    <a:lnTo>
                      <a:pt x="647" y="66"/>
                    </a:lnTo>
                    <a:lnTo>
                      <a:pt x="649" y="66"/>
                    </a:lnTo>
                    <a:lnTo>
                      <a:pt x="649" y="68"/>
                    </a:lnTo>
                    <a:lnTo>
                      <a:pt x="649" y="70"/>
                    </a:lnTo>
                    <a:lnTo>
                      <a:pt x="649" y="72"/>
                    </a:lnTo>
                    <a:lnTo>
                      <a:pt x="650" y="72"/>
                    </a:lnTo>
                    <a:lnTo>
                      <a:pt x="650" y="74"/>
                    </a:lnTo>
                    <a:lnTo>
                      <a:pt x="651" y="76"/>
                    </a:lnTo>
                    <a:lnTo>
                      <a:pt x="651" y="78"/>
                    </a:lnTo>
                    <a:lnTo>
                      <a:pt x="653" y="79"/>
                    </a:lnTo>
                    <a:lnTo>
                      <a:pt x="653" y="81"/>
                    </a:lnTo>
                    <a:lnTo>
                      <a:pt x="655" y="83"/>
                    </a:lnTo>
                    <a:lnTo>
                      <a:pt x="655" y="85"/>
                    </a:lnTo>
                    <a:lnTo>
                      <a:pt x="657" y="87"/>
                    </a:lnTo>
                    <a:lnTo>
                      <a:pt x="657" y="88"/>
                    </a:lnTo>
                    <a:lnTo>
                      <a:pt x="657" y="90"/>
                    </a:lnTo>
                    <a:lnTo>
                      <a:pt x="657" y="92"/>
                    </a:lnTo>
                    <a:lnTo>
                      <a:pt x="659" y="92"/>
                    </a:lnTo>
                    <a:lnTo>
                      <a:pt x="658" y="94"/>
                    </a:lnTo>
                    <a:lnTo>
                      <a:pt x="658" y="95"/>
                    </a:lnTo>
                    <a:lnTo>
                      <a:pt x="658" y="97"/>
                    </a:lnTo>
                    <a:lnTo>
                      <a:pt x="658" y="97"/>
                    </a:lnTo>
                    <a:lnTo>
                      <a:pt x="658" y="99"/>
                    </a:lnTo>
                    <a:lnTo>
                      <a:pt x="658" y="101"/>
                    </a:lnTo>
                    <a:lnTo>
                      <a:pt x="658" y="103"/>
                    </a:lnTo>
                    <a:lnTo>
                      <a:pt x="658" y="103"/>
                    </a:lnTo>
                    <a:lnTo>
                      <a:pt x="656" y="105"/>
                    </a:lnTo>
                    <a:lnTo>
                      <a:pt x="656" y="107"/>
                    </a:lnTo>
                    <a:lnTo>
                      <a:pt x="656" y="108"/>
                    </a:lnTo>
                    <a:lnTo>
                      <a:pt x="656" y="109"/>
                    </a:lnTo>
                    <a:lnTo>
                      <a:pt x="654" y="111"/>
                    </a:lnTo>
                    <a:lnTo>
                      <a:pt x="654" y="111"/>
                    </a:lnTo>
                    <a:lnTo>
                      <a:pt x="653" y="112"/>
                    </a:lnTo>
                    <a:lnTo>
                      <a:pt x="653" y="112"/>
                    </a:lnTo>
                    <a:lnTo>
                      <a:pt x="651" y="114"/>
                    </a:lnTo>
                    <a:lnTo>
                      <a:pt x="651" y="114"/>
                    </a:lnTo>
                    <a:lnTo>
                      <a:pt x="650" y="116"/>
                    </a:lnTo>
                    <a:lnTo>
                      <a:pt x="650" y="116"/>
                    </a:lnTo>
                    <a:lnTo>
                      <a:pt x="648" y="117"/>
                    </a:lnTo>
                    <a:lnTo>
                      <a:pt x="648" y="117"/>
                    </a:lnTo>
                    <a:lnTo>
                      <a:pt x="646" y="117"/>
                    </a:lnTo>
                    <a:lnTo>
                      <a:pt x="646" y="117"/>
                    </a:lnTo>
                    <a:lnTo>
                      <a:pt x="644" y="119"/>
                    </a:lnTo>
                    <a:lnTo>
                      <a:pt x="643" y="119"/>
                    </a:lnTo>
                    <a:lnTo>
                      <a:pt x="641" y="119"/>
                    </a:lnTo>
                    <a:lnTo>
                      <a:pt x="641" y="119"/>
                    </a:lnTo>
                    <a:lnTo>
                      <a:pt x="639" y="120"/>
                    </a:lnTo>
                    <a:lnTo>
                      <a:pt x="639" y="120"/>
                    </a:lnTo>
                    <a:lnTo>
                      <a:pt x="638" y="120"/>
                    </a:lnTo>
                    <a:lnTo>
                      <a:pt x="638" y="120"/>
                    </a:lnTo>
                    <a:lnTo>
                      <a:pt x="634" y="122"/>
                    </a:lnTo>
                    <a:lnTo>
                      <a:pt x="632" y="124"/>
                    </a:lnTo>
                    <a:lnTo>
                      <a:pt x="628" y="126"/>
                    </a:lnTo>
                    <a:lnTo>
                      <a:pt x="625" y="126"/>
                    </a:lnTo>
                    <a:lnTo>
                      <a:pt x="621" y="128"/>
                    </a:lnTo>
                    <a:lnTo>
                      <a:pt x="617" y="130"/>
                    </a:lnTo>
                    <a:lnTo>
                      <a:pt x="613" y="132"/>
                    </a:lnTo>
                    <a:lnTo>
                      <a:pt x="610" y="132"/>
                    </a:lnTo>
                    <a:lnTo>
                      <a:pt x="605" y="134"/>
                    </a:lnTo>
                    <a:lnTo>
                      <a:pt x="601" y="135"/>
                    </a:lnTo>
                    <a:lnTo>
                      <a:pt x="597" y="137"/>
                    </a:lnTo>
                    <a:lnTo>
                      <a:pt x="593" y="137"/>
                    </a:lnTo>
                    <a:lnTo>
                      <a:pt x="590" y="138"/>
                    </a:lnTo>
                    <a:lnTo>
                      <a:pt x="586" y="138"/>
                    </a:lnTo>
                    <a:lnTo>
                      <a:pt x="583" y="138"/>
                    </a:lnTo>
                    <a:lnTo>
                      <a:pt x="581" y="138"/>
                    </a:lnTo>
                    <a:lnTo>
                      <a:pt x="579" y="138"/>
                    </a:lnTo>
                    <a:lnTo>
                      <a:pt x="579" y="138"/>
                    </a:lnTo>
                    <a:lnTo>
                      <a:pt x="577" y="138"/>
                    </a:lnTo>
                    <a:lnTo>
                      <a:pt x="577" y="138"/>
                    </a:lnTo>
                    <a:lnTo>
                      <a:pt x="575" y="138"/>
                    </a:lnTo>
                    <a:lnTo>
                      <a:pt x="575" y="138"/>
                    </a:lnTo>
                    <a:lnTo>
                      <a:pt x="573" y="138"/>
                    </a:lnTo>
                    <a:lnTo>
                      <a:pt x="573" y="138"/>
                    </a:lnTo>
                    <a:lnTo>
                      <a:pt x="571" y="138"/>
                    </a:lnTo>
                    <a:lnTo>
                      <a:pt x="571" y="138"/>
                    </a:lnTo>
                    <a:lnTo>
                      <a:pt x="569" y="138"/>
                    </a:lnTo>
                    <a:lnTo>
                      <a:pt x="569" y="138"/>
                    </a:lnTo>
                    <a:lnTo>
                      <a:pt x="567" y="138"/>
                    </a:lnTo>
                    <a:lnTo>
                      <a:pt x="567" y="138"/>
                    </a:lnTo>
                    <a:lnTo>
                      <a:pt x="566" y="138"/>
                    </a:lnTo>
                    <a:lnTo>
                      <a:pt x="566" y="137"/>
                    </a:lnTo>
                    <a:lnTo>
                      <a:pt x="564" y="137"/>
                    </a:lnTo>
                    <a:lnTo>
                      <a:pt x="562" y="136"/>
                    </a:lnTo>
                    <a:lnTo>
                      <a:pt x="561" y="136"/>
                    </a:lnTo>
                    <a:lnTo>
                      <a:pt x="561" y="134"/>
                    </a:lnTo>
                    <a:lnTo>
                      <a:pt x="559" y="134"/>
                    </a:lnTo>
                    <a:lnTo>
                      <a:pt x="557" y="132"/>
                    </a:lnTo>
                    <a:lnTo>
                      <a:pt x="555" y="132"/>
                    </a:lnTo>
                    <a:lnTo>
                      <a:pt x="555" y="130"/>
                    </a:lnTo>
                    <a:lnTo>
                      <a:pt x="554" y="130"/>
                    </a:lnTo>
                    <a:lnTo>
                      <a:pt x="552" y="129"/>
                    </a:lnTo>
                    <a:lnTo>
                      <a:pt x="550" y="129"/>
                    </a:lnTo>
                    <a:lnTo>
                      <a:pt x="550" y="127"/>
                    </a:lnTo>
                    <a:lnTo>
                      <a:pt x="548" y="127"/>
                    </a:lnTo>
                    <a:lnTo>
                      <a:pt x="547" y="126"/>
                    </a:lnTo>
                    <a:lnTo>
                      <a:pt x="545" y="126"/>
                    </a:lnTo>
                    <a:lnTo>
                      <a:pt x="545" y="124"/>
                    </a:lnTo>
                    <a:lnTo>
                      <a:pt x="542" y="125"/>
                    </a:lnTo>
                    <a:lnTo>
                      <a:pt x="540" y="125"/>
                    </a:lnTo>
                    <a:lnTo>
                      <a:pt x="537" y="125"/>
                    </a:lnTo>
                    <a:lnTo>
                      <a:pt x="535" y="125"/>
                    </a:lnTo>
                    <a:lnTo>
                      <a:pt x="532" y="125"/>
                    </a:lnTo>
                    <a:lnTo>
                      <a:pt x="529" y="125"/>
                    </a:lnTo>
                    <a:lnTo>
                      <a:pt x="525" y="125"/>
                    </a:lnTo>
                    <a:lnTo>
                      <a:pt x="523" y="125"/>
                    </a:lnTo>
                    <a:lnTo>
                      <a:pt x="519" y="127"/>
                    </a:lnTo>
                    <a:lnTo>
                      <a:pt x="515" y="127"/>
                    </a:lnTo>
                    <a:lnTo>
                      <a:pt x="512" y="127"/>
                    </a:lnTo>
                    <a:lnTo>
                      <a:pt x="510" y="127"/>
                    </a:lnTo>
                    <a:lnTo>
                      <a:pt x="506" y="127"/>
                    </a:lnTo>
                    <a:lnTo>
                      <a:pt x="504" y="127"/>
                    </a:lnTo>
                    <a:lnTo>
                      <a:pt x="503" y="127"/>
                    </a:lnTo>
                    <a:lnTo>
                      <a:pt x="501" y="127"/>
                    </a:lnTo>
                    <a:lnTo>
                      <a:pt x="497" y="129"/>
                    </a:lnTo>
                    <a:lnTo>
                      <a:pt x="495" y="129"/>
                    </a:lnTo>
                    <a:lnTo>
                      <a:pt x="492" y="130"/>
                    </a:lnTo>
                    <a:lnTo>
                      <a:pt x="490" y="130"/>
                    </a:lnTo>
                    <a:lnTo>
                      <a:pt x="486" y="132"/>
                    </a:lnTo>
                    <a:lnTo>
                      <a:pt x="484" y="132"/>
                    </a:lnTo>
                    <a:lnTo>
                      <a:pt x="480" y="134"/>
                    </a:lnTo>
                    <a:lnTo>
                      <a:pt x="478" y="134"/>
                    </a:lnTo>
                    <a:lnTo>
                      <a:pt x="474" y="136"/>
                    </a:lnTo>
                    <a:lnTo>
                      <a:pt x="472" y="137"/>
                    </a:lnTo>
                    <a:lnTo>
                      <a:pt x="469" y="138"/>
                    </a:lnTo>
                    <a:lnTo>
                      <a:pt x="467" y="138"/>
                    </a:lnTo>
                    <a:lnTo>
                      <a:pt x="464" y="140"/>
                    </a:lnTo>
                    <a:lnTo>
                      <a:pt x="463" y="140"/>
                    </a:lnTo>
                    <a:lnTo>
                      <a:pt x="461" y="142"/>
                    </a:lnTo>
                    <a:lnTo>
                      <a:pt x="461" y="142"/>
                    </a:lnTo>
                    <a:lnTo>
                      <a:pt x="459" y="144"/>
                    </a:lnTo>
                    <a:lnTo>
                      <a:pt x="459" y="144"/>
                    </a:lnTo>
                    <a:lnTo>
                      <a:pt x="459" y="145"/>
                    </a:lnTo>
                    <a:lnTo>
                      <a:pt x="459" y="145"/>
                    </a:lnTo>
                    <a:lnTo>
                      <a:pt x="459" y="147"/>
                    </a:lnTo>
                    <a:lnTo>
                      <a:pt x="459" y="147"/>
                    </a:lnTo>
                    <a:lnTo>
                      <a:pt x="459" y="147"/>
                    </a:lnTo>
                    <a:lnTo>
                      <a:pt x="459" y="147"/>
                    </a:lnTo>
                    <a:lnTo>
                      <a:pt x="459" y="149"/>
                    </a:lnTo>
                    <a:lnTo>
                      <a:pt x="459" y="149"/>
                    </a:lnTo>
                    <a:lnTo>
                      <a:pt x="459" y="150"/>
                    </a:lnTo>
                    <a:lnTo>
                      <a:pt x="459" y="150"/>
                    </a:lnTo>
                    <a:lnTo>
                      <a:pt x="459" y="152"/>
                    </a:lnTo>
                    <a:lnTo>
                      <a:pt x="459" y="152"/>
                    </a:lnTo>
                    <a:lnTo>
                      <a:pt x="459" y="152"/>
                    </a:lnTo>
                    <a:lnTo>
                      <a:pt x="461" y="152"/>
                    </a:lnTo>
                    <a:lnTo>
                      <a:pt x="459" y="154"/>
                    </a:lnTo>
                    <a:lnTo>
                      <a:pt x="459" y="156"/>
                    </a:lnTo>
                    <a:lnTo>
                      <a:pt x="458" y="158"/>
                    </a:lnTo>
                    <a:lnTo>
                      <a:pt x="458" y="158"/>
                    </a:lnTo>
                    <a:lnTo>
                      <a:pt x="456" y="160"/>
                    </a:lnTo>
                    <a:lnTo>
                      <a:pt x="456" y="162"/>
                    </a:lnTo>
                    <a:lnTo>
                      <a:pt x="456" y="164"/>
                    </a:lnTo>
                    <a:lnTo>
                      <a:pt x="456" y="165"/>
                    </a:lnTo>
                    <a:lnTo>
                      <a:pt x="454" y="167"/>
                    </a:lnTo>
                    <a:lnTo>
                      <a:pt x="454" y="169"/>
                    </a:lnTo>
                    <a:lnTo>
                      <a:pt x="452" y="171"/>
                    </a:lnTo>
                    <a:lnTo>
                      <a:pt x="452" y="173"/>
                    </a:lnTo>
                    <a:lnTo>
                      <a:pt x="450" y="175"/>
                    </a:lnTo>
                    <a:lnTo>
                      <a:pt x="450" y="175"/>
                    </a:lnTo>
                    <a:lnTo>
                      <a:pt x="449" y="177"/>
                    </a:lnTo>
                    <a:lnTo>
                      <a:pt x="449" y="177"/>
                    </a:lnTo>
                    <a:lnTo>
                      <a:pt x="447" y="179"/>
                    </a:lnTo>
                    <a:lnTo>
                      <a:pt x="447" y="180"/>
                    </a:lnTo>
                    <a:lnTo>
                      <a:pt x="446" y="182"/>
                    </a:lnTo>
                    <a:lnTo>
                      <a:pt x="446" y="182"/>
                    </a:lnTo>
                    <a:lnTo>
                      <a:pt x="444" y="184"/>
                    </a:lnTo>
                    <a:lnTo>
                      <a:pt x="444" y="184"/>
                    </a:lnTo>
                    <a:lnTo>
                      <a:pt x="444" y="186"/>
                    </a:lnTo>
                    <a:lnTo>
                      <a:pt x="444" y="186"/>
                    </a:lnTo>
                    <a:lnTo>
                      <a:pt x="442" y="188"/>
                    </a:lnTo>
                    <a:lnTo>
                      <a:pt x="442" y="188"/>
                    </a:lnTo>
                    <a:lnTo>
                      <a:pt x="440" y="190"/>
                    </a:lnTo>
                    <a:lnTo>
                      <a:pt x="440" y="190"/>
                    </a:lnTo>
                    <a:lnTo>
                      <a:pt x="438" y="192"/>
                    </a:lnTo>
                    <a:lnTo>
                      <a:pt x="438" y="192"/>
                    </a:lnTo>
                    <a:lnTo>
                      <a:pt x="437" y="194"/>
                    </a:lnTo>
                    <a:lnTo>
                      <a:pt x="437" y="194"/>
                    </a:lnTo>
                    <a:lnTo>
                      <a:pt x="435" y="195"/>
                    </a:lnTo>
                    <a:lnTo>
                      <a:pt x="434" y="195"/>
                    </a:lnTo>
                    <a:lnTo>
                      <a:pt x="432" y="196"/>
                    </a:lnTo>
                    <a:lnTo>
                      <a:pt x="432" y="196"/>
                    </a:lnTo>
                    <a:lnTo>
                      <a:pt x="430" y="198"/>
                    </a:lnTo>
                    <a:lnTo>
                      <a:pt x="428" y="198"/>
                    </a:lnTo>
                    <a:lnTo>
                      <a:pt x="426" y="200"/>
                    </a:lnTo>
                    <a:lnTo>
                      <a:pt x="426" y="200"/>
                    </a:lnTo>
                    <a:lnTo>
                      <a:pt x="425" y="202"/>
                    </a:lnTo>
                    <a:lnTo>
                      <a:pt x="423" y="202"/>
                    </a:lnTo>
                    <a:lnTo>
                      <a:pt x="421" y="204"/>
                    </a:lnTo>
                    <a:lnTo>
                      <a:pt x="421" y="204"/>
                    </a:lnTo>
                    <a:lnTo>
                      <a:pt x="419" y="205"/>
                    </a:lnTo>
                    <a:lnTo>
                      <a:pt x="418" y="205"/>
                    </a:lnTo>
                    <a:lnTo>
                      <a:pt x="417" y="205"/>
                    </a:lnTo>
                    <a:lnTo>
                      <a:pt x="417" y="205"/>
                    </a:lnTo>
                    <a:lnTo>
                      <a:pt x="415" y="207"/>
                    </a:lnTo>
                    <a:lnTo>
                      <a:pt x="414" y="207"/>
                    </a:lnTo>
                    <a:lnTo>
                      <a:pt x="412" y="207"/>
                    </a:lnTo>
                    <a:lnTo>
                      <a:pt x="411" y="207"/>
                    </a:lnTo>
                    <a:lnTo>
                      <a:pt x="408" y="208"/>
                    </a:lnTo>
                    <a:lnTo>
                      <a:pt x="406" y="208"/>
                    </a:lnTo>
                    <a:lnTo>
                      <a:pt x="405" y="208"/>
                    </a:lnTo>
                    <a:lnTo>
                      <a:pt x="403" y="208"/>
                    </a:lnTo>
                    <a:lnTo>
                      <a:pt x="399" y="210"/>
                    </a:lnTo>
                    <a:lnTo>
                      <a:pt x="398" y="210"/>
                    </a:lnTo>
                    <a:lnTo>
                      <a:pt x="396" y="210"/>
                    </a:lnTo>
                    <a:lnTo>
                      <a:pt x="394" y="210"/>
                    </a:lnTo>
                    <a:lnTo>
                      <a:pt x="392" y="211"/>
                    </a:lnTo>
                    <a:lnTo>
                      <a:pt x="391" y="211"/>
                    </a:lnTo>
                    <a:lnTo>
                      <a:pt x="389" y="211"/>
                    </a:lnTo>
                    <a:lnTo>
                      <a:pt x="389" y="211"/>
                    </a:lnTo>
                    <a:lnTo>
                      <a:pt x="386" y="213"/>
                    </a:lnTo>
                    <a:lnTo>
                      <a:pt x="384" y="213"/>
                    </a:lnTo>
                    <a:lnTo>
                      <a:pt x="381" y="213"/>
                    </a:lnTo>
                    <a:lnTo>
                      <a:pt x="379" y="213"/>
                    </a:lnTo>
                    <a:lnTo>
                      <a:pt x="375" y="215"/>
                    </a:lnTo>
                    <a:lnTo>
                      <a:pt x="373" y="215"/>
                    </a:lnTo>
                    <a:lnTo>
                      <a:pt x="369" y="215"/>
                    </a:lnTo>
                    <a:lnTo>
                      <a:pt x="368" y="215"/>
                    </a:lnTo>
                    <a:lnTo>
                      <a:pt x="364" y="217"/>
                    </a:lnTo>
                    <a:lnTo>
                      <a:pt x="361" y="217"/>
                    </a:lnTo>
                    <a:lnTo>
                      <a:pt x="358" y="217"/>
                    </a:lnTo>
                    <a:lnTo>
                      <a:pt x="356" y="217"/>
                    </a:lnTo>
                    <a:lnTo>
                      <a:pt x="353" y="217"/>
                    </a:lnTo>
                    <a:lnTo>
                      <a:pt x="351" y="217"/>
                    </a:lnTo>
                    <a:lnTo>
                      <a:pt x="349" y="217"/>
                    </a:lnTo>
                    <a:lnTo>
                      <a:pt x="348" y="217"/>
                    </a:lnTo>
                    <a:lnTo>
                      <a:pt x="345" y="217"/>
                    </a:lnTo>
                    <a:lnTo>
                      <a:pt x="343" y="217"/>
                    </a:lnTo>
                    <a:lnTo>
                      <a:pt x="340" y="217"/>
                    </a:lnTo>
                    <a:lnTo>
                      <a:pt x="338" y="216"/>
                    </a:lnTo>
                    <a:lnTo>
                      <a:pt x="335" y="216"/>
                    </a:lnTo>
                    <a:lnTo>
                      <a:pt x="333" y="215"/>
                    </a:lnTo>
                    <a:lnTo>
                      <a:pt x="330" y="215"/>
                    </a:lnTo>
                    <a:lnTo>
                      <a:pt x="328" y="213"/>
                    </a:lnTo>
                    <a:lnTo>
                      <a:pt x="325" y="213"/>
                    </a:lnTo>
                    <a:lnTo>
                      <a:pt x="323" y="213"/>
                    </a:lnTo>
                    <a:lnTo>
                      <a:pt x="321" y="213"/>
                    </a:lnTo>
                    <a:lnTo>
                      <a:pt x="319" y="211"/>
                    </a:lnTo>
                    <a:lnTo>
                      <a:pt x="317" y="211"/>
                    </a:lnTo>
                    <a:lnTo>
                      <a:pt x="317" y="210"/>
                    </a:lnTo>
                    <a:lnTo>
                      <a:pt x="316" y="210"/>
                    </a:lnTo>
                    <a:lnTo>
                      <a:pt x="316" y="209"/>
                    </a:lnTo>
                    <a:lnTo>
                      <a:pt x="301" y="203"/>
                    </a:lnTo>
                    <a:lnTo>
                      <a:pt x="289" y="195"/>
                    </a:lnTo>
                    <a:lnTo>
                      <a:pt x="280" y="190"/>
                    </a:lnTo>
                    <a:lnTo>
                      <a:pt x="273" y="184"/>
                    </a:lnTo>
                    <a:lnTo>
                      <a:pt x="267" y="179"/>
                    </a:lnTo>
                    <a:lnTo>
                      <a:pt x="263" y="174"/>
                    </a:lnTo>
                    <a:lnTo>
                      <a:pt x="260" y="170"/>
                    </a:lnTo>
                    <a:lnTo>
                      <a:pt x="259" y="166"/>
                    </a:lnTo>
                    <a:lnTo>
                      <a:pt x="257" y="164"/>
                    </a:lnTo>
                    <a:lnTo>
                      <a:pt x="257" y="161"/>
                    </a:lnTo>
                    <a:lnTo>
                      <a:pt x="255" y="159"/>
                    </a:lnTo>
                    <a:lnTo>
                      <a:pt x="255" y="156"/>
                    </a:lnTo>
                    <a:lnTo>
                      <a:pt x="253" y="154"/>
                    </a:lnTo>
                    <a:lnTo>
                      <a:pt x="252" y="152"/>
                    </a:lnTo>
                    <a:lnTo>
                      <a:pt x="249" y="150"/>
                    </a:lnTo>
                    <a:lnTo>
                      <a:pt x="245" y="148"/>
                    </a:lnTo>
                    <a:lnTo>
                      <a:pt x="242" y="148"/>
                    </a:lnTo>
                    <a:lnTo>
                      <a:pt x="240" y="148"/>
                    </a:lnTo>
                    <a:lnTo>
                      <a:pt x="236" y="148"/>
                    </a:lnTo>
                    <a:lnTo>
                      <a:pt x="234" y="148"/>
                    </a:lnTo>
                    <a:lnTo>
                      <a:pt x="230" y="150"/>
                    </a:lnTo>
                    <a:lnTo>
                      <a:pt x="227" y="150"/>
                    </a:lnTo>
                    <a:lnTo>
                      <a:pt x="223" y="150"/>
                    </a:lnTo>
                    <a:lnTo>
                      <a:pt x="221" y="150"/>
                    </a:lnTo>
                    <a:lnTo>
                      <a:pt x="217" y="152"/>
                    </a:lnTo>
                    <a:lnTo>
                      <a:pt x="213" y="152"/>
                    </a:lnTo>
                    <a:lnTo>
                      <a:pt x="209" y="152"/>
                    </a:lnTo>
                    <a:lnTo>
                      <a:pt x="206" y="152"/>
                    </a:lnTo>
                    <a:lnTo>
                      <a:pt x="202" y="153"/>
                    </a:lnTo>
                    <a:lnTo>
                      <a:pt x="201" y="153"/>
                    </a:lnTo>
                    <a:lnTo>
                      <a:pt x="198" y="153"/>
                    </a:lnTo>
                    <a:lnTo>
                      <a:pt x="196" y="153"/>
                    </a:lnTo>
                    <a:lnTo>
                      <a:pt x="185" y="156"/>
                    </a:lnTo>
                    <a:lnTo>
                      <a:pt x="173" y="158"/>
                    </a:lnTo>
                    <a:lnTo>
                      <a:pt x="159" y="160"/>
                    </a:lnTo>
                    <a:lnTo>
                      <a:pt x="144" y="162"/>
                    </a:lnTo>
                    <a:lnTo>
                      <a:pt x="127" y="165"/>
                    </a:lnTo>
                    <a:lnTo>
                      <a:pt x="112" y="167"/>
                    </a:lnTo>
                    <a:lnTo>
                      <a:pt x="95" y="170"/>
                    </a:lnTo>
                    <a:lnTo>
                      <a:pt x="80" y="172"/>
                    </a:lnTo>
                    <a:lnTo>
                      <a:pt x="64" y="175"/>
                    </a:lnTo>
                    <a:lnTo>
                      <a:pt x="49" y="176"/>
                    </a:lnTo>
                    <a:lnTo>
                      <a:pt x="36" y="178"/>
                    </a:lnTo>
                    <a:lnTo>
                      <a:pt x="26" y="180"/>
                    </a:lnTo>
                    <a:lnTo>
                      <a:pt x="16" y="182"/>
                    </a:lnTo>
                    <a:lnTo>
                      <a:pt x="9" y="182"/>
                    </a:lnTo>
                    <a:lnTo>
                      <a:pt x="6" y="183"/>
                    </a:lnTo>
                    <a:lnTo>
                      <a:pt x="6" y="182"/>
                    </a:lnTo>
                    <a:lnTo>
                      <a:pt x="5" y="182"/>
                    </a:lnTo>
                    <a:lnTo>
                      <a:pt x="5" y="182"/>
                    </a:lnTo>
                    <a:lnTo>
                      <a:pt x="5" y="182"/>
                    </a:lnTo>
                    <a:lnTo>
                      <a:pt x="5" y="182"/>
                    </a:lnTo>
                    <a:lnTo>
                      <a:pt x="3" y="182"/>
                    </a:lnTo>
                    <a:lnTo>
                      <a:pt x="3" y="181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1" y="179"/>
                    </a:lnTo>
                    <a:lnTo>
                      <a:pt x="1" y="179"/>
                    </a:lnTo>
                    <a:lnTo>
                      <a:pt x="1" y="179"/>
                    </a:lnTo>
                    <a:lnTo>
                      <a:pt x="1" y="177"/>
                    </a:lnTo>
                    <a:lnTo>
                      <a:pt x="0" y="177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75"/>
                    </a:lnTo>
                    <a:lnTo>
                      <a:pt x="4" y="174"/>
                    </a:lnTo>
                    <a:lnTo>
                      <a:pt x="12" y="172"/>
                    </a:lnTo>
                    <a:lnTo>
                      <a:pt x="22" y="170"/>
                    </a:lnTo>
                    <a:lnTo>
                      <a:pt x="36" y="168"/>
                    </a:lnTo>
                    <a:lnTo>
                      <a:pt x="50" y="166"/>
                    </a:lnTo>
                    <a:lnTo>
                      <a:pt x="67" y="164"/>
                    </a:lnTo>
                    <a:lnTo>
                      <a:pt x="85" y="161"/>
                    </a:lnTo>
                    <a:lnTo>
                      <a:pt x="104" y="157"/>
                    </a:lnTo>
                    <a:lnTo>
                      <a:pt x="121" y="154"/>
                    </a:lnTo>
                    <a:lnTo>
                      <a:pt x="140" y="150"/>
                    </a:lnTo>
                    <a:lnTo>
                      <a:pt x="157" y="147"/>
                    </a:lnTo>
                    <a:lnTo>
                      <a:pt x="174" y="142"/>
                    </a:lnTo>
                    <a:lnTo>
                      <a:pt x="188" y="138"/>
                    </a:lnTo>
                    <a:lnTo>
                      <a:pt x="201" y="134"/>
                    </a:lnTo>
                    <a:lnTo>
                      <a:pt x="212" y="128"/>
                    </a:lnTo>
                    <a:lnTo>
                      <a:pt x="219" y="122"/>
                    </a:lnTo>
                    <a:lnTo>
                      <a:pt x="219" y="122"/>
                    </a:lnTo>
                    <a:lnTo>
                      <a:pt x="221" y="120"/>
                    </a:lnTo>
                    <a:lnTo>
                      <a:pt x="221" y="119"/>
                    </a:lnTo>
                    <a:lnTo>
                      <a:pt x="222" y="117"/>
                    </a:lnTo>
                    <a:lnTo>
                      <a:pt x="222" y="116"/>
                    </a:lnTo>
                    <a:lnTo>
                      <a:pt x="222" y="114"/>
                    </a:lnTo>
                    <a:lnTo>
                      <a:pt x="222" y="112"/>
                    </a:lnTo>
                    <a:lnTo>
                      <a:pt x="223" y="110"/>
                    </a:lnTo>
                    <a:lnTo>
                      <a:pt x="222" y="108"/>
                    </a:lnTo>
                    <a:lnTo>
                      <a:pt x="222" y="106"/>
                    </a:lnTo>
                    <a:lnTo>
                      <a:pt x="222" y="104"/>
                    </a:lnTo>
                    <a:lnTo>
                      <a:pt x="222" y="102"/>
                    </a:lnTo>
                    <a:lnTo>
                      <a:pt x="222" y="100"/>
                    </a:lnTo>
                    <a:lnTo>
                      <a:pt x="222" y="98"/>
                    </a:lnTo>
                    <a:lnTo>
                      <a:pt x="222" y="97"/>
                    </a:lnTo>
                    <a:lnTo>
                      <a:pt x="222" y="95"/>
                    </a:lnTo>
                    <a:lnTo>
                      <a:pt x="221" y="94"/>
                    </a:lnTo>
                    <a:lnTo>
                      <a:pt x="221" y="92"/>
                    </a:lnTo>
                    <a:lnTo>
                      <a:pt x="221" y="90"/>
                    </a:lnTo>
                    <a:lnTo>
                      <a:pt x="221" y="87"/>
                    </a:lnTo>
                    <a:lnTo>
                      <a:pt x="220" y="86"/>
                    </a:lnTo>
                    <a:lnTo>
                      <a:pt x="220" y="82"/>
                    </a:lnTo>
                    <a:lnTo>
                      <a:pt x="220" y="80"/>
                    </a:lnTo>
                    <a:lnTo>
                      <a:pt x="220" y="77"/>
                    </a:lnTo>
                    <a:lnTo>
                      <a:pt x="220" y="75"/>
                    </a:lnTo>
                    <a:lnTo>
                      <a:pt x="220" y="73"/>
                    </a:lnTo>
                    <a:lnTo>
                      <a:pt x="220" y="71"/>
                    </a:lnTo>
                    <a:lnTo>
                      <a:pt x="220" y="67"/>
                    </a:lnTo>
                    <a:lnTo>
                      <a:pt x="220" y="66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23" y="59"/>
                    </a:lnTo>
                    <a:lnTo>
                      <a:pt x="223" y="59"/>
                    </a:lnTo>
                    <a:lnTo>
                      <a:pt x="224" y="57"/>
                    </a:lnTo>
                    <a:lnTo>
                      <a:pt x="225" y="56"/>
                    </a:lnTo>
                    <a:lnTo>
                      <a:pt x="227" y="54"/>
                    </a:lnTo>
                    <a:lnTo>
                      <a:pt x="227" y="52"/>
                    </a:lnTo>
                    <a:lnTo>
                      <a:pt x="229" y="50"/>
                    </a:lnTo>
                    <a:lnTo>
                      <a:pt x="230" y="49"/>
                    </a:lnTo>
                    <a:lnTo>
                      <a:pt x="232" y="47"/>
                    </a:lnTo>
                    <a:lnTo>
                      <a:pt x="233" y="46"/>
                    </a:lnTo>
                    <a:lnTo>
                      <a:pt x="235" y="44"/>
                    </a:lnTo>
                    <a:lnTo>
                      <a:pt x="237" y="42"/>
                    </a:lnTo>
                    <a:lnTo>
                      <a:pt x="239" y="40"/>
                    </a:lnTo>
                    <a:lnTo>
                      <a:pt x="240" y="39"/>
                    </a:lnTo>
                    <a:lnTo>
                      <a:pt x="242" y="38"/>
                    </a:lnTo>
                    <a:lnTo>
                      <a:pt x="243" y="36"/>
                    </a:lnTo>
                    <a:lnTo>
                      <a:pt x="245" y="34"/>
                    </a:lnTo>
                    <a:lnTo>
                      <a:pt x="245" y="34"/>
                    </a:lnTo>
                    <a:lnTo>
                      <a:pt x="247" y="34"/>
                    </a:lnTo>
                    <a:lnTo>
                      <a:pt x="249" y="34"/>
                    </a:lnTo>
                    <a:lnTo>
                      <a:pt x="250" y="32"/>
                    </a:lnTo>
                    <a:lnTo>
                      <a:pt x="252" y="32"/>
                    </a:lnTo>
                    <a:lnTo>
                      <a:pt x="253" y="31"/>
                    </a:lnTo>
                    <a:lnTo>
                      <a:pt x="255" y="31"/>
                    </a:lnTo>
                    <a:lnTo>
                      <a:pt x="257" y="29"/>
                    </a:lnTo>
                    <a:lnTo>
                      <a:pt x="258" y="29"/>
                    </a:lnTo>
                    <a:lnTo>
                      <a:pt x="260" y="29"/>
                    </a:lnTo>
                    <a:lnTo>
                      <a:pt x="261" y="29"/>
                    </a:lnTo>
                    <a:lnTo>
                      <a:pt x="263" y="28"/>
                    </a:lnTo>
                    <a:lnTo>
                      <a:pt x="264" y="28"/>
                    </a:lnTo>
                    <a:lnTo>
                      <a:pt x="266" y="26"/>
                    </a:lnTo>
                    <a:lnTo>
                      <a:pt x="268" y="26"/>
                    </a:lnTo>
                    <a:lnTo>
                      <a:pt x="270" y="24"/>
                    </a:lnTo>
                    <a:lnTo>
                      <a:pt x="271" y="24"/>
                    </a:lnTo>
                    <a:lnTo>
                      <a:pt x="273" y="24"/>
                    </a:lnTo>
                    <a:lnTo>
                      <a:pt x="275" y="24"/>
                    </a:lnTo>
                    <a:lnTo>
                      <a:pt x="277" y="23"/>
                    </a:lnTo>
                    <a:lnTo>
                      <a:pt x="279" y="23"/>
                    </a:lnTo>
                    <a:lnTo>
                      <a:pt x="283" y="23"/>
                    </a:lnTo>
                    <a:lnTo>
                      <a:pt x="285" y="23"/>
                    </a:lnTo>
                    <a:lnTo>
                      <a:pt x="289" y="21"/>
                    </a:lnTo>
                    <a:lnTo>
                      <a:pt x="290" y="21"/>
                    </a:lnTo>
                    <a:lnTo>
                      <a:pt x="293" y="21"/>
                    </a:lnTo>
                    <a:lnTo>
                      <a:pt x="295" y="21"/>
                    </a:lnTo>
                    <a:lnTo>
                      <a:pt x="299" y="20"/>
                    </a:lnTo>
                    <a:lnTo>
                      <a:pt x="301" y="20"/>
                    </a:lnTo>
                    <a:lnTo>
                      <a:pt x="303" y="20"/>
                    </a:lnTo>
                    <a:lnTo>
                      <a:pt x="305" y="20"/>
                    </a:lnTo>
                    <a:lnTo>
                      <a:pt x="308" y="19"/>
                    </a:lnTo>
                    <a:lnTo>
                      <a:pt x="308" y="19"/>
                    </a:lnTo>
                    <a:lnTo>
                      <a:pt x="310" y="19"/>
                    </a:lnTo>
                    <a:lnTo>
                      <a:pt x="311" y="19"/>
                    </a:lnTo>
                    <a:lnTo>
                      <a:pt x="313" y="19"/>
                    </a:lnTo>
                    <a:lnTo>
                      <a:pt x="315" y="19"/>
                    </a:lnTo>
                    <a:lnTo>
                      <a:pt x="317" y="19"/>
                    </a:lnTo>
                    <a:lnTo>
                      <a:pt x="319" y="19"/>
                    </a:lnTo>
                    <a:lnTo>
                      <a:pt x="323" y="19"/>
                    </a:lnTo>
                    <a:lnTo>
                      <a:pt x="325" y="20"/>
                    </a:lnTo>
                    <a:lnTo>
                      <a:pt x="327" y="20"/>
                    </a:lnTo>
                    <a:lnTo>
                      <a:pt x="328" y="20"/>
                    </a:lnTo>
                    <a:lnTo>
                      <a:pt x="331" y="20"/>
                    </a:lnTo>
                    <a:lnTo>
                      <a:pt x="333" y="20"/>
                    </a:lnTo>
                    <a:lnTo>
                      <a:pt x="335" y="20"/>
                    </a:lnTo>
                    <a:lnTo>
                      <a:pt x="337" y="20"/>
                    </a:lnTo>
                    <a:lnTo>
                      <a:pt x="339" y="20"/>
                    </a:lnTo>
                    <a:lnTo>
                      <a:pt x="339" y="22"/>
                    </a:lnTo>
                    <a:lnTo>
                      <a:pt x="341" y="22"/>
                    </a:lnTo>
                    <a:lnTo>
                      <a:pt x="343" y="22"/>
                    </a:lnTo>
                    <a:lnTo>
                      <a:pt x="345" y="22"/>
                    </a:lnTo>
                    <a:lnTo>
                      <a:pt x="347" y="24"/>
                    </a:lnTo>
                    <a:lnTo>
                      <a:pt x="349" y="24"/>
                    </a:lnTo>
                    <a:lnTo>
                      <a:pt x="351" y="24"/>
                    </a:lnTo>
                    <a:lnTo>
                      <a:pt x="353" y="24"/>
                    </a:lnTo>
                    <a:lnTo>
                      <a:pt x="355" y="26"/>
                    </a:lnTo>
                    <a:lnTo>
                      <a:pt x="357" y="26"/>
                    </a:lnTo>
                    <a:lnTo>
                      <a:pt x="358" y="26"/>
                    </a:lnTo>
                    <a:lnTo>
                      <a:pt x="360" y="26"/>
                    </a:lnTo>
                    <a:lnTo>
                      <a:pt x="361" y="28"/>
                    </a:lnTo>
                    <a:lnTo>
                      <a:pt x="363" y="28"/>
                    </a:lnTo>
                    <a:lnTo>
                      <a:pt x="364" y="28"/>
                    </a:lnTo>
                    <a:lnTo>
                      <a:pt x="366" y="28"/>
                    </a:lnTo>
                    <a:lnTo>
                      <a:pt x="366" y="30"/>
                    </a:lnTo>
                    <a:lnTo>
                      <a:pt x="368" y="30"/>
                    </a:lnTo>
                    <a:lnTo>
                      <a:pt x="369" y="31"/>
                    </a:lnTo>
                    <a:lnTo>
                      <a:pt x="371" y="31"/>
                    </a:lnTo>
                    <a:lnTo>
                      <a:pt x="373" y="33"/>
                    </a:lnTo>
                    <a:lnTo>
                      <a:pt x="375" y="33"/>
                    </a:lnTo>
                    <a:lnTo>
                      <a:pt x="377" y="34"/>
                    </a:lnTo>
                    <a:lnTo>
                      <a:pt x="379" y="34"/>
                    </a:lnTo>
                    <a:lnTo>
                      <a:pt x="379" y="36"/>
                    </a:lnTo>
                    <a:lnTo>
                      <a:pt x="381" y="36"/>
                    </a:lnTo>
                    <a:lnTo>
                      <a:pt x="383" y="38"/>
                    </a:lnTo>
                    <a:lnTo>
                      <a:pt x="385" y="38"/>
                    </a:lnTo>
                    <a:lnTo>
                      <a:pt x="385" y="40"/>
                    </a:lnTo>
                    <a:lnTo>
                      <a:pt x="386" y="40"/>
                    </a:lnTo>
                    <a:lnTo>
                      <a:pt x="388" y="41"/>
                    </a:lnTo>
                    <a:lnTo>
                      <a:pt x="389" y="41"/>
                    </a:lnTo>
                    <a:lnTo>
                      <a:pt x="389" y="43"/>
                    </a:lnTo>
                    <a:lnTo>
                      <a:pt x="389" y="43"/>
                    </a:lnTo>
                    <a:lnTo>
                      <a:pt x="389" y="45"/>
                    </a:lnTo>
                    <a:lnTo>
                      <a:pt x="391" y="45"/>
                    </a:lnTo>
                    <a:lnTo>
                      <a:pt x="391" y="47"/>
                    </a:lnTo>
                    <a:lnTo>
                      <a:pt x="391" y="47"/>
                    </a:lnTo>
                    <a:lnTo>
                      <a:pt x="391" y="49"/>
                    </a:lnTo>
                    <a:lnTo>
                      <a:pt x="391" y="49"/>
                    </a:lnTo>
                    <a:lnTo>
                      <a:pt x="391" y="50"/>
                    </a:lnTo>
                    <a:lnTo>
                      <a:pt x="391" y="50"/>
                    </a:lnTo>
                    <a:lnTo>
                      <a:pt x="391" y="52"/>
                    </a:lnTo>
                    <a:lnTo>
                      <a:pt x="392" y="52"/>
                    </a:lnTo>
                    <a:lnTo>
                      <a:pt x="392" y="54"/>
                    </a:lnTo>
                    <a:lnTo>
                      <a:pt x="394" y="54"/>
                    </a:lnTo>
                    <a:lnTo>
                      <a:pt x="395" y="54"/>
                    </a:lnTo>
                    <a:lnTo>
                      <a:pt x="396" y="54"/>
                    </a:lnTo>
                    <a:lnTo>
                      <a:pt x="400" y="55"/>
                    </a:lnTo>
                    <a:lnTo>
                      <a:pt x="405" y="55"/>
                    </a:lnTo>
                    <a:lnTo>
                      <a:pt x="410" y="55"/>
                    </a:lnTo>
                    <a:lnTo>
                      <a:pt x="416" y="54"/>
                    </a:lnTo>
                    <a:lnTo>
                      <a:pt x="422" y="54"/>
                    </a:lnTo>
                    <a:lnTo>
                      <a:pt x="428" y="52"/>
                    </a:lnTo>
                    <a:lnTo>
                      <a:pt x="434" y="51"/>
                    </a:lnTo>
                    <a:lnTo>
                      <a:pt x="441" y="49"/>
                    </a:lnTo>
                    <a:lnTo>
                      <a:pt x="447" y="48"/>
                    </a:lnTo>
                    <a:lnTo>
                      <a:pt x="453" y="46"/>
                    </a:lnTo>
                    <a:lnTo>
                      <a:pt x="457" y="44"/>
                    </a:lnTo>
                    <a:lnTo>
                      <a:pt x="463" y="42"/>
                    </a:lnTo>
                    <a:lnTo>
                      <a:pt x="466" y="40"/>
                    </a:lnTo>
                    <a:lnTo>
                      <a:pt x="469" y="39"/>
                    </a:lnTo>
                    <a:lnTo>
                      <a:pt x="471" y="37"/>
                    </a:lnTo>
                    <a:lnTo>
                      <a:pt x="474" y="35"/>
                    </a:lnTo>
                    <a:lnTo>
                      <a:pt x="474" y="35"/>
                    </a:lnTo>
                    <a:lnTo>
                      <a:pt x="474" y="35"/>
                    </a:lnTo>
                    <a:lnTo>
                      <a:pt x="474" y="35"/>
                    </a:lnTo>
                    <a:lnTo>
                      <a:pt x="474" y="35"/>
                    </a:lnTo>
                    <a:lnTo>
                      <a:pt x="474" y="35"/>
                    </a:lnTo>
                    <a:lnTo>
                      <a:pt x="476" y="35"/>
                    </a:lnTo>
                    <a:lnTo>
                      <a:pt x="476" y="35"/>
                    </a:lnTo>
                    <a:lnTo>
                      <a:pt x="477" y="35"/>
                    </a:lnTo>
                    <a:lnTo>
                      <a:pt x="477" y="35"/>
                    </a:lnTo>
                    <a:lnTo>
                      <a:pt x="478" y="35"/>
                    </a:lnTo>
                    <a:lnTo>
                      <a:pt x="478" y="35"/>
                    </a:lnTo>
                    <a:lnTo>
                      <a:pt x="480" y="35"/>
                    </a:lnTo>
                    <a:lnTo>
                      <a:pt x="480" y="35"/>
                    </a:lnTo>
                    <a:lnTo>
                      <a:pt x="480" y="35"/>
                    </a:lnTo>
                    <a:lnTo>
                      <a:pt x="480" y="35"/>
                    </a:lnTo>
                    <a:lnTo>
                      <a:pt x="481" y="34"/>
                    </a:lnTo>
                    <a:lnTo>
                      <a:pt x="481" y="34"/>
                    </a:lnTo>
                  </a:path>
                </a:pathLst>
              </a:custGeom>
              <a:solidFill>
                <a:srgbClr val="c0c2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2693880" y="2393640"/>
                <a:ext cx="656640" cy="670320"/>
                <a:chOff x="2693880" y="2393640"/>
                <a:chExt cx="656640" cy="6703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693880" y="2722680"/>
                  <a:ext cx="349200" cy="341280"/>
                </a:xfrm>
                <a:custGeom>
                  <a:avLst/>
                  <a:gdLst/>
                  <a:ahLst/>
                  <a:rect l="l" t="t" r="r" b="b"/>
                  <a:pathLst>
                    <a:path w="220" h="215">
                      <a:moveTo>
                        <a:pt x="182" y="0"/>
                      </a:moveTo>
                      <a:lnTo>
                        <a:pt x="0" y="214"/>
                      </a:lnTo>
                      <a:lnTo>
                        <a:pt x="10" y="214"/>
                      </a:lnTo>
                      <a:lnTo>
                        <a:pt x="219" y="21"/>
                      </a:lnTo>
                      <a:lnTo>
                        <a:pt x="182" y="0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c1ffff"/>
                </a:solidFill>
                <a:ln w="9360">
                  <a:solidFill>
                    <a:srgbClr val="4f4f4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rot="9480000">
                  <a:off x="2926800" y="2568240"/>
                  <a:ext cx="112680" cy="392040"/>
                </a:xfrm>
                <a:prstGeom prst="ellipse">
                  <a:avLst/>
                </a:prstGeom>
                <a:solidFill>
                  <a:srgbClr val="c20000"/>
                </a:solidFill>
                <a:ln w="9360">
                  <a:solidFill>
                    <a:srgbClr val="c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9000000">
                  <a:off x="2960640" y="2536560"/>
                  <a:ext cx="93600" cy="409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924280" y="2506680"/>
                  <a:ext cx="272880" cy="287280"/>
                </a:xfrm>
                <a:custGeom>
                  <a:avLst/>
                  <a:gdLst/>
                  <a:ahLst/>
                  <a:rect l="l" t="t" r="r" b="b"/>
                  <a:pathLst>
                    <a:path w="172" h="181">
                      <a:moveTo>
                        <a:pt x="3" y="111"/>
                      </a:moveTo>
                      <a:lnTo>
                        <a:pt x="1" y="115"/>
                      </a:lnTo>
                      <a:lnTo>
                        <a:pt x="0" y="117"/>
                      </a:lnTo>
                      <a:lnTo>
                        <a:pt x="0" y="121"/>
                      </a:lnTo>
                      <a:lnTo>
                        <a:pt x="1" y="123"/>
                      </a:lnTo>
                      <a:lnTo>
                        <a:pt x="2" y="126"/>
                      </a:lnTo>
                      <a:lnTo>
                        <a:pt x="4" y="130"/>
                      </a:lnTo>
                      <a:lnTo>
                        <a:pt x="6" y="134"/>
                      </a:lnTo>
                      <a:lnTo>
                        <a:pt x="9" y="136"/>
                      </a:lnTo>
                      <a:lnTo>
                        <a:pt x="11" y="139"/>
                      </a:lnTo>
                      <a:lnTo>
                        <a:pt x="15" y="143"/>
                      </a:lnTo>
                      <a:lnTo>
                        <a:pt x="18" y="147"/>
                      </a:lnTo>
                      <a:lnTo>
                        <a:pt x="22" y="149"/>
                      </a:lnTo>
                      <a:lnTo>
                        <a:pt x="24" y="153"/>
                      </a:lnTo>
                      <a:lnTo>
                        <a:pt x="27" y="155"/>
                      </a:lnTo>
                      <a:lnTo>
                        <a:pt x="31" y="157"/>
                      </a:lnTo>
                      <a:lnTo>
                        <a:pt x="34" y="158"/>
                      </a:lnTo>
                      <a:lnTo>
                        <a:pt x="34" y="160"/>
                      </a:lnTo>
                      <a:lnTo>
                        <a:pt x="36" y="162"/>
                      </a:lnTo>
                      <a:lnTo>
                        <a:pt x="38" y="164"/>
                      </a:lnTo>
                      <a:lnTo>
                        <a:pt x="40" y="165"/>
                      </a:lnTo>
                      <a:lnTo>
                        <a:pt x="42" y="167"/>
                      </a:lnTo>
                      <a:lnTo>
                        <a:pt x="44" y="169"/>
                      </a:lnTo>
                      <a:lnTo>
                        <a:pt x="45" y="171"/>
                      </a:lnTo>
                      <a:lnTo>
                        <a:pt x="47" y="172"/>
                      </a:lnTo>
                      <a:lnTo>
                        <a:pt x="47" y="174"/>
                      </a:lnTo>
                      <a:lnTo>
                        <a:pt x="49" y="175"/>
                      </a:lnTo>
                      <a:lnTo>
                        <a:pt x="51" y="177"/>
                      </a:lnTo>
                      <a:lnTo>
                        <a:pt x="53" y="178"/>
                      </a:lnTo>
                      <a:lnTo>
                        <a:pt x="55" y="180"/>
                      </a:lnTo>
                      <a:lnTo>
                        <a:pt x="57" y="180"/>
                      </a:lnTo>
                      <a:lnTo>
                        <a:pt x="59" y="180"/>
                      </a:lnTo>
                      <a:lnTo>
                        <a:pt x="61" y="180"/>
                      </a:lnTo>
                      <a:lnTo>
                        <a:pt x="63" y="179"/>
                      </a:lnTo>
                      <a:lnTo>
                        <a:pt x="67" y="176"/>
                      </a:lnTo>
                      <a:lnTo>
                        <a:pt x="74" y="171"/>
                      </a:lnTo>
                      <a:lnTo>
                        <a:pt x="82" y="164"/>
                      </a:lnTo>
                      <a:lnTo>
                        <a:pt x="91" y="157"/>
                      </a:lnTo>
                      <a:lnTo>
                        <a:pt x="102" y="149"/>
                      </a:lnTo>
                      <a:lnTo>
                        <a:pt x="113" y="139"/>
                      </a:lnTo>
                      <a:lnTo>
                        <a:pt x="124" y="129"/>
                      </a:lnTo>
                      <a:lnTo>
                        <a:pt x="133" y="119"/>
                      </a:lnTo>
                      <a:lnTo>
                        <a:pt x="144" y="109"/>
                      </a:lnTo>
                      <a:lnTo>
                        <a:pt x="153" y="100"/>
                      </a:lnTo>
                      <a:lnTo>
                        <a:pt x="161" y="91"/>
                      </a:lnTo>
                      <a:lnTo>
                        <a:pt x="166" y="83"/>
                      </a:lnTo>
                      <a:lnTo>
                        <a:pt x="170" y="76"/>
                      </a:lnTo>
                      <a:lnTo>
                        <a:pt x="171" y="72"/>
                      </a:lnTo>
                      <a:lnTo>
                        <a:pt x="169" y="68"/>
                      </a:lnTo>
                      <a:lnTo>
                        <a:pt x="165" y="66"/>
                      </a:lnTo>
                      <a:lnTo>
                        <a:pt x="161" y="63"/>
                      </a:lnTo>
                      <a:lnTo>
                        <a:pt x="155" y="59"/>
                      </a:lnTo>
                      <a:lnTo>
                        <a:pt x="151" y="53"/>
                      </a:lnTo>
                      <a:lnTo>
                        <a:pt x="145" y="48"/>
                      </a:lnTo>
                      <a:lnTo>
                        <a:pt x="140" y="41"/>
                      </a:lnTo>
                      <a:lnTo>
                        <a:pt x="134" y="36"/>
                      </a:lnTo>
                      <a:lnTo>
                        <a:pt x="129" y="28"/>
                      </a:lnTo>
                      <a:lnTo>
                        <a:pt x="123" y="23"/>
                      </a:lnTo>
                      <a:lnTo>
                        <a:pt x="117" y="17"/>
                      </a:lnTo>
                      <a:lnTo>
                        <a:pt x="112" y="12"/>
                      </a:lnTo>
                      <a:lnTo>
                        <a:pt x="108" y="7"/>
                      </a:lnTo>
                      <a:lnTo>
                        <a:pt x="104" y="5"/>
                      </a:lnTo>
                      <a:lnTo>
                        <a:pt x="101" y="1"/>
                      </a:lnTo>
                      <a:lnTo>
                        <a:pt x="99" y="0"/>
                      </a:lnTo>
                      <a:lnTo>
                        <a:pt x="99" y="0"/>
                      </a:lnTo>
                      <a:lnTo>
                        <a:pt x="96" y="4"/>
                      </a:lnTo>
                      <a:lnTo>
                        <a:pt x="93" y="8"/>
                      </a:lnTo>
                      <a:lnTo>
                        <a:pt x="88" y="15"/>
                      </a:lnTo>
                      <a:lnTo>
                        <a:pt x="82" y="21"/>
                      </a:lnTo>
                      <a:lnTo>
                        <a:pt x="75" y="30"/>
                      </a:lnTo>
                      <a:lnTo>
                        <a:pt x="68" y="38"/>
                      </a:lnTo>
                      <a:lnTo>
                        <a:pt x="60" y="48"/>
                      </a:lnTo>
                      <a:lnTo>
                        <a:pt x="53" y="57"/>
                      </a:lnTo>
                      <a:lnTo>
                        <a:pt x="43" y="66"/>
                      </a:lnTo>
                      <a:lnTo>
                        <a:pt x="35" y="75"/>
                      </a:lnTo>
                      <a:lnTo>
                        <a:pt x="27" y="84"/>
                      </a:lnTo>
                      <a:lnTo>
                        <a:pt x="21" y="91"/>
                      </a:lnTo>
                      <a:lnTo>
                        <a:pt x="14" y="99"/>
                      </a:lnTo>
                      <a:lnTo>
                        <a:pt x="9" y="105"/>
                      </a:lnTo>
                      <a:lnTo>
                        <a:pt x="4" y="109"/>
                      </a:lnTo>
                      <a:lnTo>
                        <a:pt x="3" y="111"/>
                      </a:lnTo>
                      <a:lnTo>
                        <a:pt x="3" y="111"/>
                      </a:lnTo>
                    </a:path>
                  </a:pathLst>
                </a:custGeom>
                <a:solidFill>
                  <a:srgbClr val="ff4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041640" y="2425680"/>
                  <a:ext cx="214200" cy="222120"/>
                </a:xfrm>
                <a:custGeom>
                  <a:avLst/>
                  <a:gdLst/>
                  <a:ahLst/>
                  <a:rect l="l" t="t" r="r" b="b"/>
                  <a:pathLst>
                    <a:path w="135" h="140">
                      <a:moveTo>
                        <a:pt x="20" y="24"/>
                      </a:moveTo>
                      <a:lnTo>
                        <a:pt x="18" y="26"/>
                      </a:lnTo>
                      <a:lnTo>
                        <a:pt x="17" y="28"/>
                      </a:lnTo>
                      <a:lnTo>
                        <a:pt x="15" y="30"/>
                      </a:lnTo>
                      <a:lnTo>
                        <a:pt x="15" y="30"/>
                      </a:lnTo>
                      <a:lnTo>
                        <a:pt x="13" y="31"/>
                      </a:lnTo>
                      <a:lnTo>
                        <a:pt x="11" y="32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7" y="36"/>
                      </a:lnTo>
                      <a:lnTo>
                        <a:pt x="5" y="38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1" y="56"/>
                      </a:lnTo>
                      <a:lnTo>
                        <a:pt x="1" y="58"/>
                      </a:lnTo>
                      <a:lnTo>
                        <a:pt x="1" y="60"/>
                      </a:lnTo>
                      <a:lnTo>
                        <a:pt x="1" y="62"/>
                      </a:lnTo>
                      <a:lnTo>
                        <a:pt x="3" y="63"/>
                      </a:lnTo>
                      <a:lnTo>
                        <a:pt x="3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8" y="78"/>
                      </a:lnTo>
                      <a:lnTo>
                        <a:pt x="10" y="80"/>
                      </a:lnTo>
                      <a:lnTo>
                        <a:pt x="10" y="82"/>
                      </a:lnTo>
                      <a:lnTo>
                        <a:pt x="12" y="84"/>
                      </a:lnTo>
                      <a:lnTo>
                        <a:pt x="12" y="86"/>
                      </a:lnTo>
                      <a:lnTo>
                        <a:pt x="14" y="88"/>
                      </a:lnTo>
                      <a:lnTo>
                        <a:pt x="15" y="89"/>
                      </a:lnTo>
                      <a:lnTo>
                        <a:pt x="17" y="91"/>
                      </a:lnTo>
                      <a:lnTo>
                        <a:pt x="17" y="93"/>
                      </a:lnTo>
                      <a:lnTo>
                        <a:pt x="18" y="95"/>
                      </a:lnTo>
                      <a:lnTo>
                        <a:pt x="20" y="97"/>
                      </a:lnTo>
                      <a:lnTo>
                        <a:pt x="21" y="97"/>
                      </a:lnTo>
                      <a:lnTo>
                        <a:pt x="21" y="99"/>
                      </a:lnTo>
                      <a:lnTo>
                        <a:pt x="22" y="99"/>
                      </a:lnTo>
                      <a:lnTo>
                        <a:pt x="22" y="101"/>
                      </a:lnTo>
                      <a:lnTo>
                        <a:pt x="24" y="101"/>
                      </a:lnTo>
                      <a:lnTo>
                        <a:pt x="24" y="103"/>
                      </a:lnTo>
                      <a:lnTo>
                        <a:pt x="26" y="103"/>
                      </a:lnTo>
                      <a:lnTo>
                        <a:pt x="27" y="105"/>
                      </a:lnTo>
                      <a:lnTo>
                        <a:pt x="28" y="105"/>
                      </a:lnTo>
                      <a:lnTo>
                        <a:pt x="28" y="107"/>
                      </a:lnTo>
                      <a:lnTo>
                        <a:pt x="30" y="108"/>
                      </a:lnTo>
                      <a:lnTo>
                        <a:pt x="31" y="110"/>
                      </a:lnTo>
                      <a:lnTo>
                        <a:pt x="33" y="110"/>
                      </a:lnTo>
                      <a:lnTo>
                        <a:pt x="33" y="112"/>
                      </a:lnTo>
                      <a:lnTo>
                        <a:pt x="35" y="112"/>
                      </a:lnTo>
                      <a:lnTo>
                        <a:pt x="37" y="113"/>
                      </a:lnTo>
                      <a:lnTo>
                        <a:pt x="38" y="113"/>
                      </a:lnTo>
                      <a:lnTo>
                        <a:pt x="40" y="116"/>
                      </a:lnTo>
                      <a:lnTo>
                        <a:pt x="43" y="118"/>
                      </a:lnTo>
                      <a:lnTo>
                        <a:pt x="46" y="120"/>
                      </a:lnTo>
                      <a:lnTo>
                        <a:pt x="49" y="122"/>
                      </a:lnTo>
                      <a:lnTo>
                        <a:pt x="53" y="125"/>
                      </a:lnTo>
                      <a:lnTo>
                        <a:pt x="57" y="127"/>
                      </a:lnTo>
                      <a:lnTo>
                        <a:pt x="61" y="129"/>
                      </a:lnTo>
                      <a:lnTo>
                        <a:pt x="67" y="130"/>
                      </a:lnTo>
                      <a:lnTo>
                        <a:pt x="70" y="133"/>
                      </a:lnTo>
                      <a:lnTo>
                        <a:pt x="75" y="135"/>
                      </a:lnTo>
                      <a:lnTo>
                        <a:pt x="78" y="137"/>
                      </a:lnTo>
                      <a:lnTo>
                        <a:pt x="84" y="137"/>
                      </a:lnTo>
                      <a:lnTo>
                        <a:pt x="88" y="139"/>
                      </a:lnTo>
                      <a:lnTo>
                        <a:pt x="91" y="139"/>
                      </a:lnTo>
                      <a:lnTo>
                        <a:pt x="95" y="139"/>
                      </a:lnTo>
                      <a:lnTo>
                        <a:pt x="99" y="139"/>
                      </a:lnTo>
                      <a:lnTo>
                        <a:pt x="101" y="139"/>
                      </a:lnTo>
                      <a:lnTo>
                        <a:pt x="103" y="138"/>
                      </a:lnTo>
                      <a:lnTo>
                        <a:pt x="105" y="137"/>
                      </a:lnTo>
                      <a:lnTo>
                        <a:pt x="109" y="136"/>
                      </a:lnTo>
                      <a:lnTo>
                        <a:pt x="111" y="134"/>
                      </a:lnTo>
                      <a:lnTo>
                        <a:pt x="115" y="132"/>
                      </a:lnTo>
                      <a:lnTo>
                        <a:pt x="116" y="130"/>
                      </a:lnTo>
                      <a:lnTo>
                        <a:pt x="120" y="128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2"/>
                      </a:lnTo>
                      <a:lnTo>
                        <a:pt x="129" y="119"/>
                      </a:lnTo>
                      <a:lnTo>
                        <a:pt x="129" y="117"/>
                      </a:lnTo>
                      <a:lnTo>
                        <a:pt x="131" y="115"/>
                      </a:lnTo>
                      <a:lnTo>
                        <a:pt x="132" y="113"/>
                      </a:lnTo>
                      <a:lnTo>
                        <a:pt x="134" y="110"/>
                      </a:lnTo>
                      <a:lnTo>
                        <a:pt x="133" y="109"/>
                      </a:lnTo>
                      <a:lnTo>
                        <a:pt x="133" y="107"/>
                      </a:lnTo>
                      <a:lnTo>
                        <a:pt x="133" y="105"/>
                      </a:lnTo>
                      <a:lnTo>
                        <a:pt x="133" y="102"/>
                      </a:lnTo>
                      <a:lnTo>
                        <a:pt x="131" y="100"/>
                      </a:lnTo>
                      <a:lnTo>
                        <a:pt x="131" y="98"/>
                      </a:lnTo>
                      <a:lnTo>
                        <a:pt x="129" y="96"/>
                      </a:lnTo>
                      <a:lnTo>
                        <a:pt x="129" y="92"/>
                      </a:lnTo>
                      <a:lnTo>
                        <a:pt x="127" y="90"/>
                      </a:lnTo>
                      <a:lnTo>
                        <a:pt x="125" y="89"/>
                      </a:lnTo>
                      <a:lnTo>
                        <a:pt x="123" y="87"/>
                      </a:lnTo>
                      <a:lnTo>
                        <a:pt x="123" y="83"/>
                      </a:lnTo>
                      <a:lnTo>
                        <a:pt x="121" y="81"/>
                      </a:lnTo>
                      <a:lnTo>
                        <a:pt x="120" y="79"/>
                      </a:lnTo>
                      <a:lnTo>
                        <a:pt x="118" y="78"/>
                      </a:lnTo>
                      <a:lnTo>
                        <a:pt x="118" y="74"/>
                      </a:lnTo>
                      <a:lnTo>
                        <a:pt x="115" y="70"/>
                      </a:lnTo>
                      <a:lnTo>
                        <a:pt x="111" y="67"/>
                      </a:lnTo>
                      <a:lnTo>
                        <a:pt x="107" y="63"/>
                      </a:lnTo>
                      <a:lnTo>
                        <a:pt x="104" y="58"/>
                      </a:lnTo>
                      <a:lnTo>
                        <a:pt x="99" y="53"/>
                      </a:lnTo>
                      <a:lnTo>
                        <a:pt x="95" y="48"/>
                      </a:lnTo>
                      <a:lnTo>
                        <a:pt x="91" y="42"/>
                      </a:lnTo>
                      <a:lnTo>
                        <a:pt x="87" y="36"/>
                      </a:lnTo>
                      <a:lnTo>
                        <a:pt x="81" y="32"/>
                      </a:lnTo>
                      <a:lnTo>
                        <a:pt x="77" y="27"/>
                      </a:lnTo>
                      <a:lnTo>
                        <a:pt x="71" y="22"/>
                      </a:lnTo>
                      <a:lnTo>
                        <a:pt x="68" y="16"/>
                      </a:lnTo>
                      <a:lnTo>
                        <a:pt x="62" y="12"/>
                      </a:lnTo>
                      <a:lnTo>
                        <a:pt x="58" y="8"/>
                      </a:lnTo>
                      <a:lnTo>
                        <a:pt x="54" y="4"/>
                      </a:lnTo>
                      <a:lnTo>
                        <a:pt x="50" y="0"/>
                      </a:lnTo>
                      <a:lnTo>
                        <a:pt x="48" y="1"/>
                      </a:lnTo>
                      <a:lnTo>
                        <a:pt x="48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39" y="5"/>
                      </a:lnTo>
                      <a:lnTo>
                        <a:pt x="38" y="7"/>
                      </a:lnTo>
                      <a:lnTo>
                        <a:pt x="35" y="10"/>
                      </a:lnTo>
                      <a:lnTo>
                        <a:pt x="33" y="11"/>
                      </a:lnTo>
                      <a:lnTo>
                        <a:pt x="29" y="15"/>
                      </a:lnTo>
                      <a:lnTo>
                        <a:pt x="27" y="18"/>
                      </a:lnTo>
                      <a:lnTo>
                        <a:pt x="23" y="21"/>
                      </a:lnTo>
                      <a:lnTo>
                        <a:pt x="20" y="24"/>
                      </a:lnTo>
                      <a:lnTo>
                        <a:pt x="20" y="2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407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2924280" y="2530440"/>
                  <a:ext cx="412560" cy="365040"/>
                </a:xfrm>
                <a:custGeom>
                  <a:avLst/>
                  <a:gdLst/>
                  <a:ahLst/>
                  <a:rect l="l" t="t" r="r" b="b"/>
                  <a:pathLst>
                    <a:path w="260" h="230">
                      <a:moveTo>
                        <a:pt x="157" y="6"/>
                      </a:moveTo>
                      <a:lnTo>
                        <a:pt x="155" y="8"/>
                      </a:lnTo>
                      <a:lnTo>
                        <a:pt x="155" y="9"/>
                      </a:lnTo>
                      <a:lnTo>
                        <a:pt x="155" y="11"/>
                      </a:lnTo>
                      <a:lnTo>
                        <a:pt x="157" y="12"/>
                      </a:lnTo>
                      <a:lnTo>
                        <a:pt x="158" y="15"/>
                      </a:lnTo>
                      <a:lnTo>
                        <a:pt x="160" y="17"/>
                      </a:lnTo>
                      <a:lnTo>
                        <a:pt x="162" y="19"/>
                      </a:lnTo>
                      <a:lnTo>
                        <a:pt x="163" y="21"/>
                      </a:lnTo>
                      <a:lnTo>
                        <a:pt x="165" y="24"/>
                      </a:lnTo>
                      <a:lnTo>
                        <a:pt x="167" y="26"/>
                      </a:lnTo>
                      <a:lnTo>
                        <a:pt x="169" y="30"/>
                      </a:lnTo>
                      <a:lnTo>
                        <a:pt x="170" y="32"/>
                      </a:lnTo>
                      <a:lnTo>
                        <a:pt x="170" y="33"/>
                      </a:lnTo>
                      <a:lnTo>
                        <a:pt x="172" y="35"/>
                      </a:lnTo>
                      <a:lnTo>
                        <a:pt x="172" y="37"/>
                      </a:lnTo>
                      <a:lnTo>
                        <a:pt x="173" y="38"/>
                      </a:lnTo>
                      <a:lnTo>
                        <a:pt x="171" y="40"/>
                      </a:lnTo>
                      <a:lnTo>
                        <a:pt x="170" y="42"/>
                      </a:lnTo>
                      <a:lnTo>
                        <a:pt x="169" y="43"/>
                      </a:lnTo>
                      <a:lnTo>
                        <a:pt x="169" y="43"/>
                      </a:lnTo>
                      <a:lnTo>
                        <a:pt x="167" y="45"/>
                      </a:lnTo>
                      <a:lnTo>
                        <a:pt x="165" y="46"/>
                      </a:lnTo>
                      <a:lnTo>
                        <a:pt x="163" y="48"/>
                      </a:lnTo>
                      <a:lnTo>
                        <a:pt x="162" y="48"/>
                      </a:lnTo>
                      <a:lnTo>
                        <a:pt x="160" y="50"/>
                      </a:lnTo>
                      <a:lnTo>
                        <a:pt x="158" y="50"/>
                      </a:lnTo>
                      <a:lnTo>
                        <a:pt x="156" y="52"/>
                      </a:lnTo>
                      <a:lnTo>
                        <a:pt x="154" y="52"/>
                      </a:lnTo>
                      <a:lnTo>
                        <a:pt x="152" y="54"/>
                      </a:lnTo>
                      <a:lnTo>
                        <a:pt x="150" y="54"/>
                      </a:lnTo>
                      <a:lnTo>
                        <a:pt x="149" y="54"/>
                      </a:lnTo>
                      <a:lnTo>
                        <a:pt x="149" y="54"/>
                      </a:lnTo>
                      <a:lnTo>
                        <a:pt x="145" y="54"/>
                      </a:lnTo>
                      <a:lnTo>
                        <a:pt x="142" y="54"/>
                      </a:lnTo>
                      <a:lnTo>
                        <a:pt x="139" y="53"/>
                      </a:lnTo>
                      <a:lnTo>
                        <a:pt x="136" y="51"/>
                      </a:lnTo>
                      <a:lnTo>
                        <a:pt x="132" y="49"/>
                      </a:lnTo>
                      <a:lnTo>
                        <a:pt x="129" y="47"/>
                      </a:lnTo>
                      <a:lnTo>
                        <a:pt x="125" y="45"/>
                      </a:lnTo>
                      <a:lnTo>
                        <a:pt x="122" y="42"/>
                      </a:lnTo>
                      <a:lnTo>
                        <a:pt x="118" y="40"/>
                      </a:lnTo>
                      <a:lnTo>
                        <a:pt x="114" y="38"/>
                      </a:lnTo>
                      <a:lnTo>
                        <a:pt x="111" y="36"/>
                      </a:lnTo>
                      <a:lnTo>
                        <a:pt x="109" y="34"/>
                      </a:lnTo>
                      <a:lnTo>
                        <a:pt x="105" y="34"/>
                      </a:lnTo>
                      <a:lnTo>
                        <a:pt x="103" y="32"/>
                      </a:lnTo>
                      <a:lnTo>
                        <a:pt x="101" y="32"/>
                      </a:lnTo>
                      <a:lnTo>
                        <a:pt x="101" y="32"/>
                      </a:lnTo>
                      <a:lnTo>
                        <a:pt x="100" y="34"/>
                      </a:lnTo>
                      <a:lnTo>
                        <a:pt x="100" y="34"/>
                      </a:lnTo>
                      <a:lnTo>
                        <a:pt x="100" y="36"/>
                      </a:lnTo>
                      <a:lnTo>
                        <a:pt x="102" y="36"/>
                      </a:lnTo>
                      <a:lnTo>
                        <a:pt x="102" y="38"/>
                      </a:lnTo>
                      <a:lnTo>
                        <a:pt x="104" y="39"/>
                      </a:lnTo>
                      <a:lnTo>
                        <a:pt x="106" y="41"/>
                      </a:lnTo>
                      <a:lnTo>
                        <a:pt x="108" y="41"/>
                      </a:lnTo>
                      <a:lnTo>
                        <a:pt x="109" y="43"/>
                      </a:lnTo>
                      <a:lnTo>
                        <a:pt x="111" y="44"/>
                      </a:lnTo>
                      <a:lnTo>
                        <a:pt x="113" y="46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7" y="49"/>
                      </a:lnTo>
                      <a:lnTo>
                        <a:pt x="118" y="51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2" y="54"/>
                      </a:lnTo>
                      <a:lnTo>
                        <a:pt x="123" y="56"/>
                      </a:lnTo>
                      <a:lnTo>
                        <a:pt x="125" y="56"/>
                      </a:lnTo>
                      <a:lnTo>
                        <a:pt x="125" y="58"/>
                      </a:lnTo>
                      <a:lnTo>
                        <a:pt x="127" y="59"/>
                      </a:lnTo>
                      <a:lnTo>
                        <a:pt x="129" y="61"/>
                      </a:lnTo>
                      <a:lnTo>
                        <a:pt x="131" y="61"/>
                      </a:lnTo>
                      <a:lnTo>
                        <a:pt x="131" y="63"/>
                      </a:lnTo>
                      <a:lnTo>
                        <a:pt x="132" y="64"/>
                      </a:lnTo>
                      <a:lnTo>
                        <a:pt x="134" y="66"/>
                      </a:lnTo>
                      <a:lnTo>
                        <a:pt x="136" y="66"/>
                      </a:lnTo>
                      <a:lnTo>
                        <a:pt x="137" y="68"/>
                      </a:lnTo>
                      <a:lnTo>
                        <a:pt x="139" y="69"/>
                      </a:lnTo>
                      <a:lnTo>
                        <a:pt x="141" y="71"/>
                      </a:lnTo>
                      <a:lnTo>
                        <a:pt x="142" y="71"/>
                      </a:lnTo>
                      <a:lnTo>
                        <a:pt x="142" y="73"/>
                      </a:lnTo>
                      <a:lnTo>
                        <a:pt x="142" y="73"/>
                      </a:lnTo>
                      <a:lnTo>
                        <a:pt x="142" y="75"/>
                      </a:lnTo>
                      <a:lnTo>
                        <a:pt x="142" y="75"/>
                      </a:lnTo>
                      <a:lnTo>
                        <a:pt x="141" y="77"/>
                      </a:lnTo>
                      <a:lnTo>
                        <a:pt x="141" y="78"/>
                      </a:lnTo>
                      <a:lnTo>
                        <a:pt x="140" y="80"/>
                      </a:lnTo>
                      <a:lnTo>
                        <a:pt x="140" y="80"/>
                      </a:lnTo>
                      <a:lnTo>
                        <a:pt x="138" y="82"/>
                      </a:lnTo>
                      <a:lnTo>
                        <a:pt x="138" y="84"/>
                      </a:lnTo>
                      <a:lnTo>
                        <a:pt x="137" y="86"/>
                      </a:lnTo>
                      <a:lnTo>
                        <a:pt x="137" y="86"/>
                      </a:lnTo>
                      <a:lnTo>
                        <a:pt x="135" y="88"/>
                      </a:lnTo>
                      <a:lnTo>
                        <a:pt x="135" y="88"/>
                      </a:lnTo>
                      <a:lnTo>
                        <a:pt x="135" y="89"/>
                      </a:lnTo>
                      <a:lnTo>
                        <a:pt x="135" y="89"/>
                      </a:lnTo>
                      <a:lnTo>
                        <a:pt x="134" y="91"/>
                      </a:lnTo>
                      <a:lnTo>
                        <a:pt x="134" y="92"/>
                      </a:lnTo>
                      <a:lnTo>
                        <a:pt x="133" y="94"/>
                      </a:lnTo>
                      <a:lnTo>
                        <a:pt x="133" y="94"/>
                      </a:lnTo>
                      <a:lnTo>
                        <a:pt x="132" y="96"/>
                      </a:lnTo>
                      <a:lnTo>
                        <a:pt x="132" y="97"/>
                      </a:lnTo>
                      <a:lnTo>
                        <a:pt x="130" y="99"/>
                      </a:lnTo>
                      <a:lnTo>
                        <a:pt x="130" y="99"/>
                      </a:lnTo>
                      <a:lnTo>
                        <a:pt x="128" y="101"/>
                      </a:lnTo>
                      <a:lnTo>
                        <a:pt x="127" y="102"/>
                      </a:lnTo>
                      <a:lnTo>
                        <a:pt x="125" y="104"/>
                      </a:lnTo>
                      <a:lnTo>
                        <a:pt x="125" y="104"/>
                      </a:lnTo>
                      <a:lnTo>
                        <a:pt x="123" y="106"/>
                      </a:lnTo>
                      <a:lnTo>
                        <a:pt x="123" y="106"/>
                      </a:lnTo>
                      <a:lnTo>
                        <a:pt x="121" y="107"/>
                      </a:lnTo>
                      <a:lnTo>
                        <a:pt x="121" y="107"/>
                      </a:lnTo>
                      <a:lnTo>
                        <a:pt x="119" y="109"/>
                      </a:lnTo>
                      <a:lnTo>
                        <a:pt x="117" y="111"/>
                      </a:lnTo>
                      <a:lnTo>
                        <a:pt x="115" y="112"/>
                      </a:lnTo>
                      <a:lnTo>
                        <a:pt x="115" y="114"/>
                      </a:lnTo>
                      <a:lnTo>
                        <a:pt x="113" y="116"/>
                      </a:lnTo>
                      <a:lnTo>
                        <a:pt x="113" y="118"/>
                      </a:lnTo>
                      <a:lnTo>
                        <a:pt x="113" y="120"/>
                      </a:lnTo>
                      <a:lnTo>
                        <a:pt x="113" y="120"/>
                      </a:lnTo>
                      <a:lnTo>
                        <a:pt x="111" y="121"/>
                      </a:lnTo>
                      <a:lnTo>
                        <a:pt x="111" y="123"/>
                      </a:lnTo>
                      <a:lnTo>
                        <a:pt x="109" y="125"/>
                      </a:lnTo>
                      <a:lnTo>
                        <a:pt x="109" y="126"/>
                      </a:lnTo>
                      <a:lnTo>
                        <a:pt x="107" y="128"/>
                      </a:lnTo>
                      <a:lnTo>
                        <a:pt x="107" y="129"/>
                      </a:lnTo>
                      <a:lnTo>
                        <a:pt x="106" y="131"/>
                      </a:lnTo>
                      <a:lnTo>
                        <a:pt x="106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2" y="135"/>
                      </a:lnTo>
                      <a:lnTo>
                        <a:pt x="102" y="135"/>
                      </a:lnTo>
                      <a:lnTo>
                        <a:pt x="101" y="137"/>
                      </a:lnTo>
                      <a:lnTo>
                        <a:pt x="101" y="137"/>
                      </a:lnTo>
                      <a:lnTo>
                        <a:pt x="99" y="139"/>
                      </a:lnTo>
                      <a:lnTo>
                        <a:pt x="99" y="139"/>
                      </a:lnTo>
                      <a:lnTo>
                        <a:pt x="97" y="141"/>
                      </a:lnTo>
                      <a:lnTo>
                        <a:pt x="97" y="141"/>
                      </a:lnTo>
                      <a:lnTo>
                        <a:pt x="95" y="142"/>
                      </a:lnTo>
                      <a:lnTo>
                        <a:pt x="95" y="142"/>
                      </a:lnTo>
                      <a:lnTo>
                        <a:pt x="94" y="144"/>
                      </a:lnTo>
                      <a:lnTo>
                        <a:pt x="94" y="144"/>
                      </a:lnTo>
                      <a:lnTo>
                        <a:pt x="94" y="144"/>
                      </a:lnTo>
                      <a:lnTo>
                        <a:pt x="94" y="144"/>
                      </a:lnTo>
                      <a:lnTo>
                        <a:pt x="92" y="146"/>
                      </a:lnTo>
                      <a:lnTo>
                        <a:pt x="90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3" y="149"/>
                      </a:lnTo>
                      <a:lnTo>
                        <a:pt x="81" y="149"/>
                      </a:lnTo>
                      <a:lnTo>
                        <a:pt x="79" y="149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9" y="150"/>
                      </a:lnTo>
                      <a:lnTo>
                        <a:pt x="67" y="150"/>
                      </a:lnTo>
                      <a:lnTo>
                        <a:pt x="65" y="150"/>
                      </a:lnTo>
                      <a:lnTo>
                        <a:pt x="65" y="149"/>
                      </a:lnTo>
                      <a:lnTo>
                        <a:pt x="62" y="149"/>
                      </a:lnTo>
                      <a:lnTo>
                        <a:pt x="60" y="149"/>
                      </a:lnTo>
                      <a:lnTo>
                        <a:pt x="58" y="149"/>
                      </a:lnTo>
                      <a:lnTo>
                        <a:pt x="56" y="147"/>
                      </a:lnTo>
                      <a:lnTo>
                        <a:pt x="53" y="146"/>
                      </a:lnTo>
                      <a:lnTo>
                        <a:pt x="51" y="144"/>
                      </a:lnTo>
                      <a:lnTo>
                        <a:pt x="49" y="142"/>
                      </a:lnTo>
                      <a:lnTo>
                        <a:pt x="47" y="141"/>
                      </a:lnTo>
                      <a:lnTo>
                        <a:pt x="44" y="139"/>
                      </a:lnTo>
                      <a:lnTo>
                        <a:pt x="42" y="137"/>
                      </a:lnTo>
                      <a:lnTo>
                        <a:pt x="40" y="135"/>
                      </a:lnTo>
                      <a:lnTo>
                        <a:pt x="38" y="133"/>
                      </a:lnTo>
                      <a:lnTo>
                        <a:pt x="36" y="132"/>
                      </a:lnTo>
                      <a:lnTo>
                        <a:pt x="34" y="130"/>
                      </a:lnTo>
                      <a:lnTo>
                        <a:pt x="33" y="128"/>
                      </a:lnTo>
                      <a:lnTo>
                        <a:pt x="31" y="126"/>
                      </a:lnTo>
                      <a:lnTo>
                        <a:pt x="29" y="126"/>
                      </a:lnTo>
                      <a:lnTo>
                        <a:pt x="28" y="124"/>
                      </a:lnTo>
                      <a:lnTo>
                        <a:pt x="26" y="122"/>
                      </a:lnTo>
                      <a:lnTo>
                        <a:pt x="25" y="120"/>
                      </a:lnTo>
                      <a:lnTo>
                        <a:pt x="23" y="118"/>
                      </a:lnTo>
                      <a:lnTo>
                        <a:pt x="21" y="115"/>
                      </a:lnTo>
                      <a:lnTo>
                        <a:pt x="19" y="113"/>
                      </a:lnTo>
                      <a:lnTo>
                        <a:pt x="17" y="110"/>
                      </a:lnTo>
                      <a:lnTo>
                        <a:pt x="14" y="108"/>
                      </a:lnTo>
                      <a:lnTo>
                        <a:pt x="12" y="105"/>
                      </a:lnTo>
                      <a:lnTo>
                        <a:pt x="10" y="103"/>
                      </a:lnTo>
                      <a:lnTo>
                        <a:pt x="8" y="100"/>
                      </a:lnTo>
                      <a:lnTo>
                        <a:pt x="6" y="100"/>
                      </a:lnTo>
                      <a:lnTo>
                        <a:pt x="5" y="98"/>
                      </a:lnTo>
                      <a:lnTo>
                        <a:pt x="3" y="97"/>
                      </a:lnTo>
                      <a:lnTo>
                        <a:pt x="3" y="96"/>
                      </a:lnTo>
                      <a:lnTo>
                        <a:pt x="1" y="98"/>
                      </a:lnTo>
                      <a:lnTo>
                        <a:pt x="1" y="98"/>
                      </a:lnTo>
                      <a:lnTo>
                        <a:pt x="0" y="100"/>
                      </a:lnTo>
                      <a:lnTo>
                        <a:pt x="0" y="100"/>
                      </a:lnTo>
                      <a:lnTo>
                        <a:pt x="0" y="101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1" y="105"/>
                      </a:lnTo>
                      <a:lnTo>
                        <a:pt x="1" y="108"/>
                      </a:lnTo>
                      <a:lnTo>
                        <a:pt x="2" y="110"/>
                      </a:lnTo>
                      <a:lnTo>
                        <a:pt x="2" y="112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6" y="118"/>
                      </a:lnTo>
                      <a:lnTo>
                        <a:pt x="6" y="120"/>
                      </a:lnTo>
                      <a:lnTo>
                        <a:pt x="8" y="122"/>
                      </a:lnTo>
                      <a:lnTo>
                        <a:pt x="8" y="125"/>
                      </a:lnTo>
                      <a:lnTo>
                        <a:pt x="9" y="127"/>
                      </a:lnTo>
                      <a:lnTo>
                        <a:pt x="11" y="129"/>
                      </a:lnTo>
                      <a:lnTo>
                        <a:pt x="13" y="131"/>
                      </a:lnTo>
                      <a:lnTo>
                        <a:pt x="15" y="135"/>
                      </a:lnTo>
                      <a:lnTo>
                        <a:pt x="17" y="137"/>
                      </a:lnTo>
                      <a:lnTo>
                        <a:pt x="19" y="139"/>
                      </a:lnTo>
                      <a:lnTo>
                        <a:pt x="23" y="141"/>
                      </a:lnTo>
                      <a:lnTo>
                        <a:pt x="25" y="145"/>
                      </a:lnTo>
                      <a:lnTo>
                        <a:pt x="27" y="147"/>
                      </a:lnTo>
                      <a:lnTo>
                        <a:pt x="29" y="149"/>
                      </a:lnTo>
                      <a:lnTo>
                        <a:pt x="33" y="151"/>
                      </a:lnTo>
                      <a:lnTo>
                        <a:pt x="35" y="153"/>
                      </a:lnTo>
                      <a:lnTo>
                        <a:pt x="37" y="155"/>
                      </a:lnTo>
                      <a:lnTo>
                        <a:pt x="39" y="157"/>
                      </a:lnTo>
                      <a:lnTo>
                        <a:pt x="43" y="157"/>
                      </a:lnTo>
                      <a:lnTo>
                        <a:pt x="43" y="159"/>
                      </a:lnTo>
                      <a:lnTo>
                        <a:pt x="45" y="159"/>
                      </a:lnTo>
                      <a:lnTo>
                        <a:pt x="47" y="161"/>
                      </a:lnTo>
                      <a:lnTo>
                        <a:pt x="49" y="161"/>
                      </a:lnTo>
                      <a:lnTo>
                        <a:pt x="51" y="163"/>
                      </a:lnTo>
                      <a:lnTo>
                        <a:pt x="53" y="163"/>
                      </a:lnTo>
                      <a:lnTo>
                        <a:pt x="54" y="165"/>
                      </a:lnTo>
                      <a:lnTo>
                        <a:pt x="57" y="165"/>
                      </a:lnTo>
                      <a:lnTo>
                        <a:pt x="59" y="167"/>
                      </a:lnTo>
                      <a:lnTo>
                        <a:pt x="61" y="168"/>
                      </a:lnTo>
                      <a:lnTo>
                        <a:pt x="63" y="169"/>
                      </a:lnTo>
                      <a:lnTo>
                        <a:pt x="66" y="169"/>
                      </a:lnTo>
                      <a:lnTo>
                        <a:pt x="68" y="171"/>
                      </a:lnTo>
                      <a:lnTo>
                        <a:pt x="70" y="171"/>
                      </a:lnTo>
                      <a:lnTo>
                        <a:pt x="72" y="171"/>
                      </a:lnTo>
                      <a:lnTo>
                        <a:pt x="75" y="171"/>
                      </a:lnTo>
                      <a:lnTo>
                        <a:pt x="75" y="171"/>
                      </a:lnTo>
                      <a:lnTo>
                        <a:pt x="77" y="171"/>
                      </a:lnTo>
                      <a:lnTo>
                        <a:pt x="79" y="171"/>
                      </a:lnTo>
                      <a:lnTo>
                        <a:pt x="81" y="170"/>
                      </a:lnTo>
                      <a:lnTo>
                        <a:pt x="82" y="170"/>
                      </a:lnTo>
                      <a:lnTo>
                        <a:pt x="84" y="170"/>
                      </a:lnTo>
                      <a:lnTo>
                        <a:pt x="85" y="170"/>
                      </a:lnTo>
                      <a:lnTo>
                        <a:pt x="87" y="168"/>
                      </a:lnTo>
                      <a:lnTo>
                        <a:pt x="87" y="168"/>
                      </a:lnTo>
                      <a:lnTo>
                        <a:pt x="89" y="168"/>
                      </a:lnTo>
                      <a:lnTo>
                        <a:pt x="91" y="168"/>
                      </a:lnTo>
                      <a:lnTo>
                        <a:pt x="93" y="166"/>
                      </a:lnTo>
                      <a:lnTo>
                        <a:pt x="94" y="166"/>
                      </a:lnTo>
                      <a:lnTo>
                        <a:pt x="95" y="166"/>
                      </a:lnTo>
                      <a:lnTo>
                        <a:pt x="97" y="166"/>
                      </a:lnTo>
                      <a:lnTo>
                        <a:pt x="99" y="165"/>
                      </a:lnTo>
                      <a:lnTo>
                        <a:pt x="99" y="167"/>
                      </a:lnTo>
                      <a:lnTo>
                        <a:pt x="100" y="167"/>
                      </a:lnTo>
                      <a:lnTo>
                        <a:pt x="100" y="167"/>
                      </a:lnTo>
                      <a:lnTo>
                        <a:pt x="102" y="167"/>
                      </a:lnTo>
                      <a:lnTo>
                        <a:pt x="102" y="167"/>
                      </a:lnTo>
                      <a:lnTo>
                        <a:pt x="103" y="167"/>
                      </a:lnTo>
                      <a:lnTo>
                        <a:pt x="103" y="167"/>
                      </a:lnTo>
                      <a:lnTo>
                        <a:pt x="105" y="167"/>
                      </a:lnTo>
                      <a:lnTo>
                        <a:pt x="105" y="169"/>
                      </a:lnTo>
                      <a:lnTo>
                        <a:pt x="107" y="169"/>
                      </a:lnTo>
                      <a:lnTo>
                        <a:pt x="107" y="169"/>
                      </a:lnTo>
                      <a:lnTo>
                        <a:pt x="109" y="169"/>
                      </a:lnTo>
                      <a:lnTo>
                        <a:pt x="109" y="169"/>
                      </a:lnTo>
                      <a:lnTo>
                        <a:pt x="111" y="169"/>
                      </a:lnTo>
                      <a:lnTo>
                        <a:pt x="111" y="169"/>
                      </a:lnTo>
                      <a:lnTo>
                        <a:pt x="112" y="169"/>
                      </a:lnTo>
                      <a:lnTo>
                        <a:pt x="112" y="171"/>
                      </a:lnTo>
                      <a:lnTo>
                        <a:pt x="112" y="172"/>
                      </a:lnTo>
                      <a:lnTo>
                        <a:pt x="112" y="174"/>
                      </a:lnTo>
                      <a:lnTo>
                        <a:pt x="113" y="174"/>
                      </a:lnTo>
                      <a:lnTo>
                        <a:pt x="113" y="176"/>
                      </a:lnTo>
                      <a:lnTo>
                        <a:pt x="113" y="176"/>
                      </a:lnTo>
                      <a:lnTo>
                        <a:pt x="113" y="178"/>
                      </a:lnTo>
                      <a:lnTo>
                        <a:pt x="115" y="178"/>
                      </a:lnTo>
                      <a:lnTo>
                        <a:pt x="115" y="179"/>
                      </a:lnTo>
                      <a:lnTo>
                        <a:pt x="115" y="180"/>
                      </a:lnTo>
                      <a:lnTo>
                        <a:pt x="115" y="182"/>
                      </a:lnTo>
                      <a:lnTo>
                        <a:pt x="115" y="182"/>
                      </a:lnTo>
                      <a:lnTo>
                        <a:pt x="115" y="184"/>
                      </a:lnTo>
                      <a:lnTo>
                        <a:pt x="115" y="184"/>
                      </a:lnTo>
                      <a:lnTo>
                        <a:pt x="115" y="184"/>
                      </a:lnTo>
                      <a:lnTo>
                        <a:pt x="117" y="184"/>
                      </a:lnTo>
                      <a:lnTo>
                        <a:pt x="115" y="186"/>
                      </a:lnTo>
                      <a:lnTo>
                        <a:pt x="115" y="188"/>
                      </a:lnTo>
                      <a:lnTo>
                        <a:pt x="113" y="190"/>
                      </a:lnTo>
                      <a:lnTo>
                        <a:pt x="113" y="190"/>
                      </a:lnTo>
                      <a:lnTo>
                        <a:pt x="111" y="192"/>
                      </a:lnTo>
                      <a:lnTo>
                        <a:pt x="111" y="194"/>
                      </a:lnTo>
                      <a:lnTo>
                        <a:pt x="109" y="196"/>
                      </a:lnTo>
                      <a:lnTo>
                        <a:pt x="109" y="196"/>
                      </a:lnTo>
                      <a:lnTo>
                        <a:pt x="107" y="198"/>
                      </a:lnTo>
                      <a:lnTo>
                        <a:pt x="105" y="199"/>
                      </a:lnTo>
                      <a:lnTo>
                        <a:pt x="103" y="201"/>
                      </a:lnTo>
                      <a:lnTo>
                        <a:pt x="103" y="201"/>
                      </a:lnTo>
                      <a:lnTo>
                        <a:pt x="101" y="203"/>
                      </a:lnTo>
                      <a:lnTo>
                        <a:pt x="100" y="203"/>
                      </a:lnTo>
                      <a:lnTo>
                        <a:pt x="98" y="204"/>
                      </a:lnTo>
                      <a:lnTo>
                        <a:pt x="98" y="204"/>
                      </a:lnTo>
                      <a:lnTo>
                        <a:pt x="95" y="206"/>
                      </a:lnTo>
                      <a:lnTo>
                        <a:pt x="93" y="206"/>
                      </a:lnTo>
                      <a:lnTo>
                        <a:pt x="91" y="207"/>
                      </a:lnTo>
                      <a:lnTo>
                        <a:pt x="89" y="207"/>
                      </a:lnTo>
                      <a:lnTo>
                        <a:pt x="85" y="207"/>
                      </a:lnTo>
                      <a:lnTo>
                        <a:pt x="83" y="207"/>
                      </a:lnTo>
                      <a:lnTo>
                        <a:pt x="80" y="207"/>
                      </a:lnTo>
                      <a:lnTo>
                        <a:pt x="78" y="207"/>
                      </a:lnTo>
                      <a:lnTo>
                        <a:pt x="74" y="207"/>
                      </a:lnTo>
                      <a:lnTo>
                        <a:pt x="72" y="207"/>
                      </a:lnTo>
                      <a:lnTo>
                        <a:pt x="68" y="207"/>
                      </a:lnTo>
                      <a:lnTo>
                        <a:pt x="66" y="207"/>
                      </a:lnTo>
                      <a:lnTo>
                        <a:pt x="63" y="207"/>
                      </a:lnTo>
                      <a:lnTo>
                        <a:pt x="61" y="207"/>
                      </a:lnTo>
                      <a:lnTo>
                        <a:pt x="59" y="207"/>
                      </a:lnTo>
                      <a:lnTo>
                        <a:pt x="57" y="206"/>
                      </a:lnTo>
                      <a:lnTo>
                        <a:pt x="55" y="206"/>
                      </a:lnTo>
                      <a:lnTo>
                        <a:pt x="53" y="206"/>
                      </a:lnTo>
                      <a:lnTo>
                        <a:pt x="51" y="206"/>
                      </a:lnTo>
                      <a:lnTo>
                        <a:pt x="51" y="204"/>
                      </a:lnTo>
                      <a:lnTo>
                        <a:pt x="49" y="204"/>
                      </a:lnTo>
                      <a:lnTo>
                        <a:pt x="47" y="202"/>
                      </a:lnTo>
                      <a:lnTo>
                        <a:pt x="45" y="201"/>
                      </a:lnTo>
                      <a:lnTo>
                        <a:pt x="45" y="199"/>
                      </a:lnTo>
                      <a:lnTo>
                        <a:pt x="43" y="199"/>
                      </a:lnTo>
                      <a:lnTo>
                        <a:pt x="41" y="198"/>
                      </a:lnTo>
                      <a:lnTo>
                        <a:pt x="39" y="196"/>
                      </a:lnTo>
                      <a:lnTo>
                        <a:pt x="39" y="194"/>
                      </a:lnTo>
                      <a:lnTo>
                        <a:pt x="37" y="194"/>
                      </a:lnTo>
                      <a:lnTo>
                        <a:pt x="37" y="192"/>
                      </a:lnTo>
                      <a:lnTo>
                        <a:pt x="35" y="190"/>
                      </a:lnTo>
                      <a:lnTo>
                        <a:pt x="35" y="188"/>
                      </a:lnTo>
                      <a:lnTo>
                        <a:pt x="34" y="188"/>
                      </a:lnTo>
                      <a:lnTo>
                        <a:pt x="33" y="187"/>
                      </a:lnTo>
                      <a:lnTo>
                        <a:pt x="31" y="186"/>
                      </a:lnTo>
                      <a:lnTo>
                        <a:pt x="29" y="184"/>
                      </a:lnTo>
                      <a:lnTo>
                        <a:pt x="27" y="184"/>
                      </a:lnTo>
                      <a:lnTo>
                        <a:pt x="25" y="182"/>
                      </a:lnTo>
                      <a:lnTo>
                        <a:pt x="24" y="180"/>
                      </a:lnTo>
                      <a:lnTo>
                        <a:pt x="23" y="178"/>
                      </a:lnTo>
                      <a:lnTo>
                        <a:pt x="21" y="178"/>
                      </a:lnTo>
                      <a:lnTo>
                        <a:pt x="19" y="176"/>
                      </a:lnTo>
                      <a:lnTo>
                        <a:pt x="17" y="176"/>
                      </a:lnTo>
                      <a:lnTo>
                        <a:pt x="16" y="174"/>
                      </a:lnTo>
                      <a:lnTo>
                        <a:pt x="14" y="174"/>
                      </a:lnTo>
                      <a:lnTo>
                        <a:pt x="13" y="172"/>
                      </a:lnTo>
                      <a:lnTo>
                        <a:pt x="12" y="172"/>
                      </a:lnTo>
                      <a:lnTo>
                        <a:pt x="12" y="171"/>
                      </a:lnTo>
                      <a:lnTo>
                        <a:pt x="11" y="173"/>
                      </a:lnTo>
                      <a:lnTo>
                        <a:pt x="11" y="173"/>
                      </a:lnTo>
                      <a:lnTo>
                        <a:pt x="11" y="175"/>
                      </a:lnTo>
                      <a:lnTo>
                        <a:pt x="11" y="175"/>
                      </a:lnTo>
                      <a:lnTo>
                        <a:pt x="11" y="177"/>
                      </a:lnTo>
                      <a:lnTo>
                        <a:pt x="13" y="179"/>
                      </a:lnTo>
                      <a:lnTo>
                        <a:pt x="13" y="180"/>
                      </a:lnTo>
                      <a:lnTo>
                        <a:pt x="14" y="181"/>
                      </a:lnTo>
                      <a:lnTo>
                        <a:pt x="14" y="184"/>
                      </a:lnTo>
                      <a:lnTo>
                        <a:pt x="16" y="186"/>
                      </a:lnTo>
                      <a:lnTo>
                        <a:pt x="16" y="188"/>
                      </a:lnTo>
                      <a:lnTo>
                        <a:pt x="18" y="189"/>
                      </a:lnTo>
                      <a:lnTo>
                        <a:pt x="18" y="191"/>
                      </a:lnTo>
                      <a:lnTo>
                        <a:pt x="20" y="192"/>
                      </a:lnTo>
                      <a:lnTo>
                        <a:pt x="21" y="194"/>
                      </a:lnTo>
                      <a:lnTo>
                        <a:pt x="23" y="194"/>
                      </a:lnTo>
                      <a:lnTo>
                        <a:pt x="25" y="198"/>
                      </a:lnTo>
                      <a:lnTo>
                        <a:pt x="29" y="200"/>
                      </a:lnTo>
                      <a:lnTo>
                        <a:pt x="33" y="204"/>
                      </a:lnTo>
                      <a:lnTo>
                        <a:pt x="38" y="206"/>
                      </a:lnTo>
                      <a:lnTo>
                        <a:pt x="43" y="210"/>
                      </a:lnTo>
                      <a:lnTo>
                        <a:pt x="48" y="212"/>
                      </a:lnTo>
                      <a:lnTo>
                        <a:pt x="54" y="214"/>
                      </a:lnTo>
                      <a:lnTo>
                        <a:pt x="59" y="216"/>
                      </a:lnTo>
                      <a:lnTo>
                        <a:pt x="65" y="219"/>
                      </a:lnTo>
                      <a:lnTo>
                        <a:pt x="71" y="220"/>
                      </a:lnTo>
                      <a:lnTo>
                        <a:pt x="76" y="222"/>
                      </a:lnTo>
                      <a:lnTo>
                        <a:pt x="82" y="224"/>
                      </a:lnTo>
                      <a:lnTo>
                        <a:pt x="87" y="226"/>
                      </a:lnTo>
                      <a:lnTo>
                        <a:pt x="93" y="226"/>
                      </a:lnTo>
                      <a:lnTo>
                        <a:pt x="99" y="227"/>
                      </a:lnTo>
                      <a:lnTo>
                        <a:pt x="106" y="227"/>
                      </a:lnTo>
                      <a:lnTo>
                        <a:pt x="107" y="228"/>
                      </a:lnTo>
                      <a:lnTo>
                        <a:pt x="109" y="228"/>
                      </a:lnTo>
                      <a:lnTo>
                        <a:pt x="111" y="228"/>
                      </a:lnTo>
                      <a:lnTo>
                        <a:pt x="113" y="228"/>
                      </a:lnTo>
                      <a:lnTo>
                        <a:pt x="115" y="229"/>
                      </a:lnTo>
                      <a:lnTo>
                        <a:pt x="119" y="229"/>
                      </a:lnTo>
                      <a:lnTo>
                        <a:pt x="122" y="229"/>
                      </a:lnTo>
                      <a:lnTo>
                        <a:pt x="126" y="229"/>
                      </a:lnTo>
                      <a:lnTo>
                        <a:pt x="128" y="229"/>
                      </a:lnTo>
                      <a:lnTo>
                        <a:pt x="132" y="229"/>
                      </a:lnTo>
                      <a:lnTo>
                        <a:pt x="135" y="229"/>
                      </a:lnTo>
                      <a:lnTo>
                        <a:pt x="139" y="229"/>
                      </a:lnTo>
                      <a:lnTo>
                        <a:pt x="141" y="229"/>
                      </a:lnTo>
                      <a:lnTo>
                        <a:pt x="143" y="229"/>
                      </a:lnTo>
                      <a:lnTo>
                        <a:pt x="145" y="229"/>
                      </a:lnTo>
                      <a:lnTo>
                        <a:pt x="148" y="227"/>
                      </a:lnTo>
                      <a:lnTo>
                        <a:pt x="148" y="227"/>
                      </a:lnTo>
                      <a:lnTo>
                        <a:pt x="149" y="226"/>
                      </a:lnTo>
                      <a:lnTo>
                        <a:pt x="150" y="226"/>
                      </a:lnTo>
                      <a:lnTo>
                        <a:pt x="152" y="224"/>
                      </a:lnTo>
                      <a:lnTo>
                        <a:pt x="152" y="224"/>
                      </a:lnTo>
                      <a:lnTo>
                        <a:pt x="154" y="222"/>
                      </a:lnTo>
                      <a:lnTo>
                        <a:pt x="156" y="220"/>
                      </a:lnTo>
                      <a:lnTo>
                        <a:pt x="158" y="218"/>
                      </a:lnTo>
                      <a:lnTo>
                        <a:pt x="158" y="218"/>
                      </a:lnTo>
                      <a:lnTo>
                        <a:pt x="160" y="216"/>
                      </a:lnTo>
                      <a:lnTo>
                        <a:pt x="162" y="214"/>
                      </a:lnTo>
                      <a:lnTo>
                        <a:pt x="163" y="212"/>
                      </a:lnTo>
                      <a:lnTo>
                        <a:pt x="163" y="212"/>
                      </a:lnTo>
                      <a:lnTo>
                        <a:pt x="165" y="210"/>
                      </a:lnTo>
                      <a:lnTo>
                        <a:pt x="165" y="209"/>
                      </a:lnTo>
                      <a:lnTo>
                        <a:pt x="167" y="207"/>
                      </a:lnTo>
                      <a:lnTo>
                        <a:pt x="167" y="206"/>
                      </a:lnTo>
                      <a:lnTo>
                        <a:pt x="167" y="204"/>
                      </a:lnTo>
                      <a:lnTo>
                        <a:pt x="167" y="202"/>
                      </a:lnTo>
                      <a:lnTo>
                        <a:pt x="169" y="200"/>
                      </a:lnTo>
                      <a:lnTo>
                        <a:pt x="169" y="199"/>
                      </a:lnTo>
                      <a:lnTo>
                        <a:pt x="169" y="196"/>
                      </a:lnTo>
                      <a:lnTo>
                        <a:pt x="169" y="194"/>
                      </a:lnTo>
                      <a:lnTo>
                        <a:pt x="170" y="190"/>
                      </a:lnTo>
                      <a:lnTo>
                        <a:pt x="170" y="188"/>
                      </a:lnTo>
                      <a:lnTo>
                        <a:pt x="170" y="186"/>
                      </a:lnTo>
                      <a:lnTo>
                        <a:pt x="170" y="184"/>
                      </a:lnTo>
                      <a:lnTo>
                        <a:pt x="171" y="180"/>
                      </a:lnTo>
                      <a:lnTo>
                        <a:pt x="170" y="178"/>
                      </a:lnTo>
                      <a:lnTo>
                        <a:pt x="170" y="176"/>
                      </a:lnTo>
                      <a:lnTo>
                        <a:pt x="170" y="174"/>
                      </a:lnTo>
                      <a:lnTo>
                        <a:pt x="170" y="171"/>
                      </a:lnTo>
                      <a:lnTo>
                        <a:pt x="169" y="169"/>
                      </a:lnTo>
                      <a:lnTo>
                        <a:pt x="167" y="167"/>
                      </a:lnTo>
                      <a:lnTo>
                        <a:pt x="165" y="165"/>
                      </a:lnTo>
                      <a:lnTo>
                        <a:pt x="165" y="162"/>
                      </a:lnTo>
                      <a:lnTo>
                        <a:pt x="162" y="160"/>
                      </a:lnTo>
                      <a:lnTo>
                        <a:pt x="160" y="158"/>
                      </a:lnTo>
                      <a:lnTo>
                        <a:pt x="159" y="156"/>
                      </a:lnTo>
                      <a:lnTo>
                        <a:pt x="157" y="154"/>
                      </a:lnTo>
                      <a:lnTo>
                        <a:pt x="154" y="152"/>
                      </a:lnTo>
                      <a:lnTo>
                        <a:pt x="152" y="150"/>
                      </a:lnTo>
                      <a:lnTo>
                        <a:pt x="150" y="148"/>
                      </a:lnTo>
                      <a:lnTo>
                        <a:pt x="149" y="146"/>
                      </a:lnTo>
                      <a:lnTo>
                        <a:pt x="147" y="144"/>
                      </a:lnTo>
                      <a:lnTo>
                        <a:pt x="147" y="142"/>
                      </a:lnTo>
                      <a:lnTo>
                        <a:pt x="146" y="140"/>
                      </a:lnTo>
                      <a:lnTo>
                        <a:pt x="146" y="136"/>
                      </a:lnTo>
                      <a:lnTo>
                        <a:pt x="146" y="134"/>
                      </a:lnTo>
                      <a:lnTo>
                        <a:pt x="147" y="132"/>
                      </a:lnTo>
                      <a:lnTo>
                        <a:pt x="149" y="128"/>
                      </a:lnTo>
                      <a:lnTo>
                        <a:pt x="150" y="124"/>
                      </a:lnTo>
                      <a:lnTo>
                        <a:pt x="152" y="121"/>
                      </a:lnTo>
                      <a:lnTo>
                        <a:pt x="155" y="116"/>
                      </a:lnTo>
                      <a:lnTo>
                        <a:pt x="159" y="112"/>
                      </a:lnTo>
                      <a:lnTo>
                        <a:pt x="162" y="106"/>
                      </a:lnTo>
                      <a:lnTo>
                        <a:pt x="165" y="102"/>
                      </a:lnTo>
                      <a:lnTo>
                        <a:pt x="169" y="99"/>
                      </a:lnTo>
                      <a:lnTo>
                        <a:pt x="172" y="95"/>
                      </a:lnTo>
                      <a:lnTo>
                        <a:pt x="176" y="91"/>
                      </a:lnTo>
                      <a:lnTo>
                        <a:pt x="178" y="88"/>
                      </a:lnTo>
                      <a:lnTo>
                        <a:pt x="181" y="84"/>
                      </a:lnTo>
                      <a:lnTo>
                        <a:pt x="183" y="82"/>
                      </a:lnTo>
                      <a:lnTo>
                        <a:pt x="187" y="81"/>
                      </a:lnTo>
                      <a:lnTo>
                        <a:pt x="189" y="81"/>
                      </a:lnTo>
                      <a:lnTo>
                        <a:pt x="191" y="80"/>
                      </a:lnTo>
                      <a:lnTo>
                        <a:pt x="193" y="80"/>
                      </a:lnTo>
                      <a:lnTo>
                        <a:pt x="196" y="79"/>
                      </a:lnTo>
                      <a:lnTo>
                        <a:pt x="198" y="80"/>
                      </a:lnTo>
                      <a:lnTo>
                        <a:pt x="200" y="80"/>
                      </a:lnTo>
                      <a:lnTo>
                        <a:pt x="201" y="81"/>
                      </a:lnTo>
                      <a:lnTo>
                        <a:pt x="204" y="81"/>
                      </a:lnTo>
                      <a:lnTo>
                        <a:pt x="206" y="83"/>
                      </a:lnTo>
                      <a:lnTo>
                        <a:pt x="208" y="83"/>
                      </a:lnTo>
                      <a:lnTo>
                        <a:pt x="210" y="84"/>
                      </a:lnTo>
                      <a:lnTo>
                        <a:pt x="212" y="84"/>
                      </a:lnTo>
                      <a:lnTo>
                        <a:pt x="214" y="85"/>
                      </a:lnTo>
                      <a:lnTo>
                        <a:pt x="217" y="85"/>
                      </a:lnTo>
                      <a:lnTo>
                        <a:pt x="220" y="84"/>
                      </a:lnTo>
                      <a:lnTo>
                        <a:pt x="223" y="82"/>
                      </a:lnTo>
                      <a:lnTo>
                        <a:pt x="224" y="82"/>
                      </a:lnTo>
                      <a:lnTo>
                        <a:pt x="226" y="81"/>
                      </a:lnTo>
                      <a:lnTo>
                        <a:pt x="228" y="79"/>
                      </a:lnTo>
                      <a:lnTo>
                        <a:pt x="231" y="76"/>
                      </a:lnTo>
                      <a:lnTo>
                        <a:pt x="233" y="73"/>
                      </a:lnTo>
                      <a:lnTo>
                        <a:pt x="237" y="70"/>
                      </a:lnTo>
                      <a:lnTo>
                        <a:pt x="240" y="66"/>
                      </a:lnTo>
                      <a:lnTo>
                        <a:pt x="243" y="62"/>
                      </a:lnTo>
                      <a:lnTo>
                        <a:pt x="245" y="59"/>
                      </a:lnTo>
                      <a:lnTo>
                        <a:pt x="249" y="55"/>
                      </a:lnTo>
                      <a:lnTo>
                        <a:pt x="251" y="52"/>
                      </a:lnTo>
                      <a:lnTo>
                        <a:pt x="254" y="48"/>
                      </a:lnTo>
                      <a:lnTo>
                        <a:pt x="255" y="46"/>
                      </a:lnTo>
                      <a:lnTo>
                        <a:pt x="257" y="43"/>
                      </a:lnTo>
                      <a:lnTo>
                        <a:pt x="258" y="41"/>
                      </a:lnTo>
                      <a:lnTo>
                        <a:pt x="259" y="38"/>
                      </a:lnTo>
                      <a:lnTo>
                        <a:pt x="258" y="37"/>
                      </a:lnTo>
                      <a:lnTo>
                        <a:pt x="258" y="34"/>
                      </a:lnTo>
                      <a:lnTo>
                        <a:pt x="257" y="33"/>
                      </a:lnTo>
                      <a:lnTo>
                        <a:pt x="257" y="29"/>
                      </a:lnTo>
                      <a:lnTo>
                        <a:pt x="255" y="27"/>
                      </a:lnTo>
                      <a:lnTo>
                        <a:pt x="255" y="23"/>
                      </a:lnTo>
                      <a:lnTo>
                        <a:pt x="253" y="20"/>
                      </a:lnTo>
                      <a:lnTo>
                        <a:pt x="253" y="16"/>
                      </a:lnTo>
                      <a:lnTo>
                        <a:pt x="251" y="14"/>
                      </a:lnTo>
                      <a:lnTo>
                        <a:pt x="250" y="10"/>
                      </a:lnTo>
                      <a:lnTo>
                        <a:pt x="248" y="8"/>
                      </a:lnTo>
                      <a:lnTo>
                        <a:pt x="248" y="4"/>
                      </a:lnTo>
                      <a:lnTo>
                        <a:pt x="247" y="3"/>
                      </a:lnTo>
                      <a:lnTo>
                        <a:pt x="247" y="2"/>
                      </a:lnTo>
                      <a:lnTo>
                        <a:pt x="245" y="1"/>
                      </a:lnTo>
                      <a:lnTo>
                        <a:pt x="245" y="0"/>
                      </a:lnTo>
                      <a:lnTo>
                        <a:pt x="243" y="1"/>
                      </a:lnTo>
                      <a:lnTo>
                        <a:pt x="242" y="2"/>
                      </a:lnTo>
                      <a:lnTo>
                        <a:pt x="241" y="4"/>
                      </a:lnTo>
                      <a:lnTo>
                        <a:pt x="241" y="6"/>
                      </a:lnTo>
                      <a:lnTo>
                        <a:pt x="240" y="10"/>
                      </a:lnTo>
                      <a:lnTo>
                        <a:pt x="240" y="12"/>
                      </a:lnTo>
                      <a:lnTo>
                        <a:pt x="240" y="16"/>
                      </a:lnTo>
                      <a:lnTo>
                        <a:pt x="240" y="18"/>
                      </a:lnTo>
                      <a:lnTo>
                        <a:pt x="238" y="22"/>
                      </a:lnTo>
                      <a:lnTo>
                        <a:pt x="238" y="25"/>
                      </a:lnTo>
                      <a:lnTo>
                        <a:pt x="237" y="29"/>
                      </a:lnTo>
                      <a:lnTo>
                        <a:pt x="237" y="32"/>
                      </a:lnTo>
                      <a:lnTo>
                        <a:pt x="235" y="34"/>
                      </a:lnTo>
                      <a:lnTo>
                        <a:pt x="235" y="36"/>
                      </a:lnTo>
                      <a:lnTo>
                        <a:pt x="233" y="38"/>
                      </a:lnTo>
                      <a:lnTo>
                        <a:pt x="232" y="38"/>
                      </a:lnTo>
                      <a:lnTo>
                        <a:pt x="227" y="40"/>
                      </a:lnTo>
                      <a:lnTo>
                        <a:pt x="223" y="40"/>
                      </a:lnTo>
                      <a:lnTo>
                        <a:pt x="219" y="40"/>
                      </a:lnTo>
                      <a:lnTo>
                        <a:pt x="215" y="38"/>
                      </a:lnTo>
                      <a:lnTo>
                        <a:pt x="210" y="37"/>
                      </a:lnTo>
                      <a:lnTo>
                        <a:pt x="206" y="34"/>
                      </a:lnTo>
                      <a:lnTo>
                        <a:pt x="200" y="33"/>
                      </a:lnTo>
                      <a:lnTo>
                        <a:pt x="197" y="29"/>
                      </a:lnTo>
                      <a:lnTo>
                        <a:pt x="191" y="27"/>
                      </a:lnTo>
                      <a:lnTo>
                        <a:pt x="186" y="23"/>
                      </a:lnTo>
                      <a:lnTo>
                        <a:pt x="180" y="21"/>
                      </a:lnTo>
                      <a:lnTo>
                        <a:pt x="177" y="17"/>
                      </a:lnTo>
                      <a:lnTo>
                        <a:pt x="172" y="15"/>
                      </a:lnTo>
                      <a:lnTo>
                        <a:pt x="169" y="12"/>
                      </a:lnTo>
                      <a:lnTo>
                        <a:pt x="165" y="10"/>
                      </a:lnTo>
                      <a:lnTo>
                        <a:pt x="162" y="8"/>
                      </a:lnTo>
                      <a:lnTo>
                        <a:pt x="160" y="8"/>
                      </a:lnTo>
                      <a:lnTo>
                        <a:pt x="160" y="8"/>
                      </a:lnTo>
                      <a:lnTo>
                        <a:pt x="160" y="8"/>
                      </a:lnTo>
                      <a:lnTo>
                        <a:pt x="160" y="8"/>
                      </a:lnTo>
                      <a:lnTo>
                        <a:pt x="159" y="8"/>
                      </a:lnTo>
                      <a:lnTo>
                        <a:pt x="159" y="8"/>
                      </a:lnTo>
                      <a:lnTo>
                        <a:pt x="159" y="8"/>
                      </a:lnTo>
                      <a:lnTo>
                        <a:pt x="159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6"/>
                      </a:lnTo>
                      <a:lnTo>
                        <a:pt x="157" y="6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8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rot="18720000">
                  <a:off x="3183480" y="2373480"/>
                  <a:ext cx="73080" cy="284400"/>
                </a:xfrm>
                <a:prstGeom prst="ellipse">
                  <a:avLst/>
                </a:prstGeom>
                <a:solidFill>
                  <a:srgbClr val="c20000"/>
                </a:solidFill>
                <a:ln w="9360">
                  <a:solidFill>
                    <a:srgbClr val="c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097080" y="2511360"/>
                  <a:ext cx="77760" cy="7452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0" y="2"/>
                      </a:move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18" y="10"/>
                      </a:lnTo>
                      <a:lnTo>
                        <a:pt x="20" y="12"/>
                      </a:lnTo>
                      <a:lnTo>
                        <a:pt x="22" y="14"/>
                      </a:lnTo>
                      <a:lnTo>
                        <a:pt x="25" y="16"/>
                      </a:lnTo>
                      <a:lnTo>
                        <a:pt x="27" y="18"/>
                      </a:lnTo>
                      <a:lnTo>
                        <a:pt x="29" y="20"/>
                      </a:lnTo>
                      <a:lnTo>
                        <a:pt x="31" y="22"/>
                      </a:lnTo>
                      <a:lnTo>
                        <a:pt x="33" y="24"/>
                      </a:lnTo>
                      <a:lnTo>
                        <a:pt x="34" y="26"/>
                      </a:lnTo>
                      <a:lnTo>
                        <a:pt x="36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40" y="34"/>
                      </a:lnTo>
                      <a:lnTo>
                        <a:pt x="41" y="34"/>
                      </a:lnTo>
                      <a:lnTo>
                        <a:pt x="41" y="35"/>
                      </a:lnTo>
                      <a:lnTo>
                        <a:pt x="42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  <a:lnTo>
                        <a:pt x="44" y="37"/>
                      </a:lnTo>
                      <a:lnTo>
                        <a:pt x="44" y="37"/>
                      </a:lnTo>
                      <a:lnTo>
                        <a:pt x="44" y="38"/>
                      </a:lnTo>
                      <a:lnTo>
                        <a:pt x="46" y="38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8" y="40"/>
                      </a:lnTo>
                      <a:lnTo>
                        <a:pt x="46" y="42"/>
                      </a:lnTo>
                      <a:lnTo>
                        <a:pt x="46" y="42"/>
                      </a:lnTo>
                      <a:lnTo>
                        <a:pt x="46" y="42"/>
                      </a:lnTo>
                      <a:lnTo>
                        <a:pt x="46" y="42"/>
                      </a:lnTo>
                      <a:lnTo>
                        <a:pt x="44" y="44"/>
                      </a:lnTo>
                      <a:lnTo>
                        <a:pt x="44" y="44"/>
                      </a:lnTo>
                      <a:lnTo>
                        <a:pt x="44" y="44"/>
                      </a:lnTo>
                      <a:lnTo>
                        <a:pt x="44" y="44"/>
                      </a:lnTo>
                      <a:lnTo>
                        <a:pt x="42" y="46"/>
                      </a:lnTo>
                      <a:lnTo>
                        <a:pt x="42" y="46"/>
                      </a:lnTo>
                      <a:lnTo>
                        <a:pt x="41" y="46"/>
                      </a:lnTo>
                      <a:lnTo>
                        <a:pt x="41" y="46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4" y="46"/>
                      </a:lnTo>
                      <a:lnTo>
                        <a:pt x="32" y="46"/>
                      </a:lnTo>
                      <a:lnTo>
                        <a:pt x="30" y="44"/>
                      </a:lnTo>
                      <a:lnTo>
                        <a:pt x="26" y="43"/>
                      </a:lnTo>
                      <a:lnTo>
                        <a:pt x="24" y="41"/>
                      </a:lnTo>
                      <a:lnTo>
                        <a:pt x="23" y="39"/>
                      </a:lnTo>
                      <a:lnTo>
                        <a:pt x="21" y="36"/>
                      </a:lnTo>
                      <a:lnTo>
                        <a:pt x="18" y="35"/>
                      </a:lnTo>
                      <a:lnTo>
                        <a:pt x="16" y="33"/>
                      </a:lnTo>
                      <a:lnTo>
                        <a:pt x="14" y="31"/>
                      </a:lnTo>
                      <a:lnTo>
                        <a:pt x="13" y="28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6" y="20"/>
                      </a:lnTo>
                      <a:lnTo>
                        <a:pt x="6" y="18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4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955960" y="2584440"/>
                  <a:ext cx="131760" cy="138240"/>
                </a:xfrm>
                <a:custGeom>
                  <a:avLst/>
                  <a:gdLst/>
                  <a:ahLst/>
                  <a:rect l="l" t="t" r="r" b="b"/>
                  <a:pathLst>
                    <a:path w="83" h="87">
                      <a:moveTo>
                        <a:pt x="8" y="84"/>
                      </a:moveTo>
                      <a:lnTo>
                        <a:pt x="9" y="86"/>
                      </a:lnTo>
                      <a:lnTo>
                        <a:pt x="13" y="86"/>
                      </a:lnTo>
                      <a:lnTo>
                        <a:pt x="16" y="84"/>
                      </a:lnTo>
                      <a:lnTo>
                        <a:pt x="22" y="80"/>
                      </a:lnTo>
                      <a:lnTo>
                        <a:pt x="27" y="77"/>
                      </a:lnTo>
                      <a:lnTo>
                        <a:pt x="33" y="71"/>
                      </a:lnTo>
                      <a:lnTo>
                        <a:pt x="38" y="66"/>
                      </a:lnTo>
                      <a:lnTo>
                        <a:pt x="45" y="58"/>
                      </a:lnTo>
                      <a:lnTo>
                        <a:pt x="51" y="53"/>
                      </a:lnTo>
                      <a:lnTo>
                        <a:pt x="56" y="46"/>
                      </a:lnTo>
                      <a:lnTo>
                        <a:pt x="62" y="39"/>
                      </a:lnTo>
                      <a:lnTo>
                        <a:pt x="68" y="31"/>
                      </a:lnTo>
                      <a:lnTo>
                        <a:pt x="72" y="26"/>
                      </a:lnTo>
                      <a:lnTo>
                        <a:pt x="77" y="19"/>
                      </a:lnTo>
                      <a:lnTo>
                        <a:pt x="79" y="15"/>
                      </a:lnTo>
                      <a:lnTo>
                        <a:pt x="82" y="10"/>
                      </a:lnTo>
                      <a:lnTo>
                        <a:pt x="82" y="10"/>
                      </a:lnTo>
                      <a:lnTo>
                        <a:pt x="82" y="9"/>
                      </a:lnTo>
                      <a:lnTo>
                        <a:pt x="81" y="9"/>
                      </a:lnTo>
                      <a:lnTo>
                        <a:pt x="81" y="8"/>
                      </a:lnTo>
                      <a:lnTo>
                        <a:pt x="79" y="8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62" y="1"/>
                      </a:lnTo>
                      <a:lnTo>
                        <a:pt x="62" y="0"/>
                      </a:lnTo>
                      <a:lnTo>
                        <a:pt x="59" y="4"/>
                      </a:lnTo>
                      <a:lnTo>
                        <a:pt x="55" y="7"/>
                      </a:lnTo>
                      <a:lnTo>
                        <a:pt x="51" y="11"/>
                      </a:lnTo>
                      <a:lnTo>
                        <a:pt x="47" y="15"/>
                      </a:lnTo>
                      <a:lnTo>
                        <a:pt x="42" y="20"/>
                      </a:lnTo>
                      <a:lnTo>
                        <a:pt x="38" y="25"/>
                      </a:lnTo>
                      <a:lnTo>
                        <a:pt x="33" y="30"/>
                      </a:lnTo>
                      <a:lnTo>
                        <a:pt x="29" y="34"/>
                      </a:lnTo>
                      <a:lnTo>
                        <a:pt x="23" y="40"/>
                      </a:lnTo>
                      <a:lnTo>
                        <a:pt x="19" y="46"/>
                      </a:lnTo>
                      <a:lnTo>
                        <a:pt x="14" y="51"/>
                      </a:lnTo>
                      <a:lnTo>
                        <a:pt x="11" y="56"/>
                      </a:lnTo>
                      <a:lnTo>
                        <a:pt x="7" y="62"/>
                      </a:lnTo>
                      <a:lnTo>
                        <a:pt x="4" y="66"/>
                      </a:lnTo>
                      <a:lnTo>
                        <a:pt x="2" y="70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1" y="77"/>
                      </a:lnTo>
                      <a:lnTo>
                        <a:pt x="1" y="78"/>
                      </a:lnTo>
                      <a:lnTo>
                        <a:pt x="1" y="78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1"/>
                      </a:lnTo>
                      <a:lnTo>
                        <a:pt x="5" y="81"/>
                      </a:lnTo>
                      <a:lnTo>
                        <a:pt x="6" y="83"/>
                      </a:lnTo>
                      <a:lnTo>
                        <a:pt x="8" y="84"/>
                      </a:lnTo>
                      <a:lnTo>
                        <a:pt x="8" y="84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840040" y="2635200"/>
                  <a:ext cx="128520" cy="155520"/>
                </a:xfrm>
                <a:custGeom>
                  <a:avLst/>
                  <a:gdLst/>
                  <a:ahLst/>
                  <a:rect l="l" t="t" r="r" b="b"/>
                  <a:pathLst>
                    <a:path w="81" h="98">
                      <a:moveTo>
                        <a:pt x="55" y="58"/>
                      </a:moveTo>
                      <a:lnTo>
                        <a:pt x="55" y="60"/>
                      </a:lnTo>
                      <a:lnTo>
                        <a:pt x="56" y="61"/>
                      </a:lnTo>
                      <a:lnTo>
                        <a:pt x="57" y="63"/>
                      </a:lnTo>
                      <a:lnTo>
                        <a:pt x="59" y="65"/>
                      </a:lnTo>
                      <a:lnTo>
                        <a:pt x="60" y="68"/>
                      </a:lnTo>
                      <a:lnTo>
                        <a:pt x="62" y="70"/>
                      </a:lnTo>
                      <a:lnTo>
                        <a:pt x="64" y="73"/>
                      </a:lnTo>
                      <a:lnTo>
                        <a:pt x="68" y="75"/>
                      </a:lnTo>
                      <a:lnTo>
                        <a:pt x="70" y="78"/>
                      </a:lnTo>
                      <a:lnTo>
                        <a:pt x="72" y="80"/>
                      </a:lnTo>
                      <a:lnTo>
                        <a:pt x="74" y="83"/>
                      </a:lnTo>
                      <a:lnTo>
                        <a:pt x="77" y="85"/>
                      </a:lnTo>
                      <a:lnTo>
                        <a:pt x="77" y="87"/>
                      </a:lnTo>
                      <a:lnTo>
                        <a:pt x="79" y="89"/>
                      </a:lnTo>
                      <a:lnTo>
                        <a:pt x="79" y="90"/>
                      </a:lnTo>
                      <a:lnTo>
                        <a:pt x="80" y="90"/>
                      </a:lnTo>
                      <a:lnTo>
                        <a:pt x="78" y="92"/>
                      </a:lnTo>
                      <a:lnTo>
                        <a:pt x="78" y="92"/>
                      </a:lnTo>
                      <a:lnTo>
                        <a:pt x="76" y="93"/>
                      </a:lnTo>
                      <a:lnTo>
                        <a:pt x="76" y="93"/>
                      </a:lnTo>
                      <a:lnTo>
                        <a:pt x="74" y="95"/>
                      </a:lnTo>
                      <a:lnTo>
                        <a:pt x="72" y="95"/>
                      </a:lnTo>
                      <a:lnTo>
                        <a:pt x="70" y="95"/>
                      </a:lnTo>
                      <a:lnTo>
                        <a:pt x="68" y="95"/>
                      </a:lnTo>
                      <a:lnTo>
                        <a:pt x="64" y="97"/>
                      </a:lnTo>
                      <a:lnTo>
                        <a:pt x="62" y="97"/>
                      </a:lnTo>
                      <a:lnTo>
                        <a:pt x="60" y="97"/>
                      </a:lnTo>
                      <a:lnTo>
                        <a:pt x="59" y="97"/>
                      </a:lnTo>
                      <a:lnTo>
                        <a:pt x="57" y="97"/>
                      </a:lnTo>
                      <a:lnTo>
                        <a:pt x="55" y="97"/>
                      </a:lnTo>
                      <a:lnTo>
                        <a:pt x="53" y="97"/>
                      </a:lnTo>
                      <a:lnTo>
                        <a:pt x="53" y="96"/>
                      </a:lnTo>
                      <a:lnTo>
                        <a:pt x="49" y="95"/>
                      </a:lnTo>
                      <a:lnTo>
                        <a:pt x="46" y="93"/>
                      </a:lnTo>
                      <a:lnTo>
                        <a:pt x="42" y="91"/>
                      </a:lnTo>
                      <a:lnTo>
                        <a:pt x="39" y="87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9" y="76"/>
                      </a:lnTo>
                      <a:lnTo>
                        <a:pt x="27" y="71"/>
                      </a:lnTo>
                      <a:lnTo>
                        <a:pt x="23" y="67"/>
                      </a:lnTo>
                      <a:lnTo>
                        <a:pt x="20" y="63"/>
                      </a:lnTo>
                      <a:lnTo>
                        <a:pt x="17" y="59"/>
                      </a:lnTo>
                      <a:lnTo>
                        <a:pt x="15" y="54"/>
                      </a:lnTo>
                      <a:lnTo>
                        <a:pt x="12" y="50"/>
                      </a:lnTo>
                      <a:lnTo>
                        <a:pt x="10" y="46"/>
                      </a:lnTo>
                      <a:lnTo>
                        <a:pt x="8" y="42"/>
                      </a:lnTo>
                      <a:lnTo>
                        <a:pt x="6" y="38"/>
                      </a:lnTo>
                      <a:lnTo>
                        <a:pt x="4" y="38"/>
                      </a:lnTo>
                      <a:lnTo>
                        <a:pt x="4" y="36"/>
                      </a:lnTo>
                      <a:lnTo>
                        <a:pt x="3" y="34"/>
                      </a:lnTo>
                      <a:lnTo>
                        <a:pt x="3" y="32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9" y="1"/>
                      </a:lnTo>
                      <a:lnTo>
                        <a:pt x="32" y="1"/>
                      </a:lnTo>
                      <a:lnTo>
                        <a:pt x="32" y="3"/>
                      </a:lnTo>
                      <a:lnTo>
                        <a:pt x="33" y="4"/>
                      </a:lnTo>
                      <a:lnTo>
                        <a:pt x="33" y="5"/>
                      </a:lnTo>
                      <a:lnTo>
                        <a:pt x="35" y="5"/>
                      </a:lnTo>
                      <a:lnTo>
                        <a:pt x="35" y="7"/>
                      </a:lnTo>
                      <a:lnTo>
                        <a:pt x="37" y="9"/>
                      </a:lnTo>
                      <a:lnTo>
                        <a:pt x="38" y="11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1" y="15"/>
                      </a:lnTo>
                      <a:lnTo>
                        <a:pt x="41" y="17"/>
                      </a:lnTo>
                      <a:lnTo>
                        <a:pt x="43" y="18"/>
                      </a:lnTo>
                      <a:lnTo>
                        <a:pt x="43" y="20"/>
                      </a:lnTo>
                      <a:lnTo>
                        <a:pt x="44" y="20"/>
                      </a:lnTo>
                      <a:lnTo>
                        <a:pt x="44" y="21"/>
                      </a:lnTo>
                      <a:lnTo>
                        <a:pt x="44" y="21"/>
                      </a:lnTo>
                      <a:lnTo>
                        <a:pt x="44" y="22"/>
                      </a:lnTo>
                      <a:lnTo>
                        <a:pt x="44" y="23"/>
                      </a:lnTo>
                      <a:lnTo>
                        <a:pt x="44" y="25"/>
                      </a:lnTo>
                      <a:lnTo>
                        <a:pt x="45" y="27"/>
                      </a:lnTo>
                      <a:lnTo>
                        <a:pt x="45" y="31"/>
                      </a:lnTo>
                      <a:lnTo>
                        <a:pt x="47" y="34"/>
                      </a:lnTo>
                      <a:lnTo>
                        <a:pt x="47" y="37"/>
                      </a:lnTo>
                      <a:lnTo>
                        <a:pt x="49" y="39"/>
                      </a:lnTo>
                      <a:lnTo>
                        <a:pt x="49" y="43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2" y="52"/>
                      </a:lnTo>
                      <a:lnTo>
                        <a:pt x="52" y="55"/>
                      </a:lnTo>
                      <a:lnTo>
                        <a:pt x="53" y="56"/>
                      </a:lnTo>
                      <a:lnTo>
                        <a:pt x="53" y="58"/>
                      </a:lnTo>
                      <a:lnTo>
                        <a:pt x="55" y="58"/>
                      </a:lnTo>
                      <a:lnTo>
                        <a:pt x="55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7" name=""/>
            <p:cNvSpPr/>
            <p:nvPr/>
          </p:nvSpPr>
          <p:spPr>
            <a:xfrm>
              <a:off x="469800" y="3429000"/>
              <a:ext cx="547704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Arial"/>
                </a:rPr>
                <a:t>Siempre se puede separar un par de huevos con una hoja de papel...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759120" y="3657600"/>
            <a:ext cx="3003480" cy="1676520"/>
          </a:xfrm>
          <a:custGeom>
            <a:avLst/>
            <a:gdLst/>
            <a:ahLst/>
            <a:rect l="l" t="t" r="r" b="b"/>
            <a:pathLst>
              <a:path w="1892" h="1056">
                <a:moveTo>
                  <a:pt x="16" y="603"/>
                </a:moveTo>
                <a:lnTo>
                  <a:pt x="0" y="470"/>
                </a:lnTo>
                <a:lnTo>
                  <a:pt x="16" y="352"/>
                </a:lnTo>
                <a:lnTo>
                  <a:pt x="58" y="252"/>
                </a:lnTo>
                <a:lnTo>
                  <a:pt x="126" y="167"/>
                </a:lnTo>
                <a:lnTo>
                  <a:pt x="212" y="100"/>
                </a:lnTo>
                <a:lnTo>
                  <a:pt x="316" y="50"/>
                </a:lnTo>
                <a:lnTo>
                  <a:pt x="434" y="16"/>
                </a:lnTo>
                <a:lnTo>
                  <a:pt x="562" y="0"/>
                </a:lnTo>
                <a:lnTo>
                  <a:pt x="696" y="3"/>
                </a:lnTo>
                <a:lnTo>
                  <a:pt x="834" y="22"/>
                </a:lnTo>
                <a:lnTo>
                  <a:pt x="972" y="60"/>
                </a:lnTo>
                <a:lnTo>
                  <a:pt x="1108" y="114"/>
                </a:lnTo>
                <a:lnTo>
                  <a:pt x="1236" y="188"/>
                </a:lnTo>
                <a:lnTo>
                  <a:pt x="1354" y="279"/>
                </a:lnTo>
                <a:lnTo>
                  <a:pt x="1459" y="390"/>
                </a:lnTo>
                <a:lnTo>
                  <a:pt x="1548" y="517"/>
                </a:lnTo>
                <a:lnTo>
                  <a:pt x="1549" y="519"/>
                </a:lnTo>
                <a:lnTo>
                  <a:pt x="1550" y="518"/>
                </a:lnTo>
                <a:lnTo>
                  <a:pt x="1552" y="512"/>
                </a:lnTo>
                <a:lnTo>
                  <a:pt x="1554" y="502"/>
                </a:lnTo>
                <a:lnTo>
                  <a:pt x="1556" y="491"/>
                </a:lnTo>
                <a:lnTo>
                  <a:pt x="1558" y="478"/>
                </a:lnTo>
                <a:lnTo>
                  <a:pt x="1560" y="463"/>
                </a:lnTo>
                <a:lnTo>
                  <a:pt x="1562" y="447"/>
                </a:lnTo>
                <a:lnTo>
                  <a:pt x="1563" y="433"/>
                </a:lnTo>
                <a:lnTo>
                  <a:pt x="1565" y="418"/>
                </a:lnTo>
                <a:lnTo>
                  <a:pt x="1567" y="404"/>
                </a:lnTo>
                <a:lnTo>
                  <a:pt x="1569" y="391"/>
                </a:lnTo>
                <a:lnTo>
                  <a:pt x="1570" y="381"/>
                </a:lnTo>
                <a:lnTo>
                  <a:pt x="1572" y="373"/>
                </a:lnTo>
                <a:lnTo>
                  <a:pt x="1574" y="369"/>
                </a:lnTo>
                <a:lnTo>
                  <a:pt x="1576" y="368"/>
                </a:lnTo>
                <a:lnTo>
                  <a:pt x="1584" y="387"/>
                </a:lnTo>
                <a:lnTo>
                  <a:pt x="1597" y="417"/>
                </a:lnTo>
                <a:lnTo>
                  <a:pt x="1614" y="457"/>
                </a:lnTo>
                <a:lnTo>
                  <a:pt x="1637" y="504"/>
                </a:lnTo>
                <a:lnTo>
                  <a:pt x="1661" y="558"/>
                </a:lnTo>
                <a:lnTo>
                  <a:pt x="1688" y="616"/>
                </a:lnTo>
                <a:lnTo>
                  <a:pt x="1715" y="676"/>
                </a:lnTo>
                <a:lnTo>
                  <a:pt x="1744" y="736"/>
                </a:lnTo>
                <a:lnTo>
                  <a:pt x="1771" y="798"/>
                </a:lnTo>
                <a:lnTo>
                  <a:pt x="1798" y="856"/>
                </a:lnTo>
                <a:lnTo>
                  <a:pt x="1823" y="910"/>
                </a:lnTo>
                <a:lnTo>
                  <a:pt x="1846" y="958"/>
                </a:lnTo>
                <a:lnTo>
                  <a:pt x="1864" y="998"/>
                </a:lnTo>
                <a:lnTo>
                  <a:pt x="1878" y="1028"/>
                </a:lnTo>
                <a:lnTo>
                  <a:pt x="1888" y="1048"/>
                </a:lnTo>
                <a:lnTo>
                  <a:pt x="1891" y="1055"/>
                </a:lnTo>
                <a:lnTo>
                  <a:pt x="1456" y="1042"/>
                </a:lnTo>
                <a:lnTo>
                  <a:pt x="1466" y="922"/>
                </a:lnTo>
                <a:lnTo>
                  <a:pt x="1464" y="920"/>
                </a:lnTo>
                <a:lnTo>
                  <a:pt x="1459" y="914"/>
                </a:lnTo>
                <a:lnTo>
                  <a:pt x="1451" y="904"/>
                </a:lnTo>
                <a:lnTo>
                  <a:pt x="1441" y="890"/>
                </a:lnTo>
                <a:lnTo>
                  <a:pt x="1427" y="874"/>
                </a:lnTo>
                <a:lnTo>
                  <a:pt x="1412" y="854"/>
                </a:lnTo>
                <a:lnTo>
                  <a:pt x="1394" y="833"/>
                </a:lnTo>
                <a:lnTo>
                  <a:pt x="1374" y="808"/>
                </a:lnTo>
                <a:lnTo>
                  <a:pt x="1352" y="783"/>
                </a:lnTo>
                <a:lnTo>
                  <a:pt x="1328" y="756"/>
                </a:lnTo>
                <a:lnTo>
                  <a:pt x="1302" y="728"/>
                </a:lnTo>
                <a:lnTo>
                  <a:pt x="1275" y="700"/>
                </a:lnTo>
                <a:lnTo>
                  <a:pt x="1245" y="672"/>
                </a:lnTo>
                <a:lnTo>
                  <a:pt x="1214" y="642"/>
                </a:lnTo>
                <a:lnTo>
                  <a:pt x="1182" y="614"/>
                </a:lnTo>
                <a:lnTo>
                  <a:pt x="1149" y="585"/>
                </a:lnTo>
                <a:lnTo>
                  <a:pt x="1124" y="569"/>
                </a:lnTo>
                <a:lnTo>
                  <a:pt x="1099" y="552"/>
                </a:lnTo>
                <a:lnTo>
                  <a:pt x="1073" y="537"/>
                </a:lnTo>
                <a:lnTo>
                  <a:pt x="1049" y="521"/>
                </a:lnTo>
                <a:lnTo>
                  <a:pt x="1023" y="506"/>
                </a:lnTo>
                <a:lnTo>
                  <a:pt x="997" y="491"/>
                </a:lnTo>
                <a:lnTo>
                  <a:pt x="971" y="478"/>
                </a:lnTo>
                <a:lnTo>
                  <a:pt x="946" y="463"/>
                </a:lnTo>
                <a:lnTo>
                  <a:pt x="920" y="451"/>
                </a:lnTo>
                <a:lnTo>
                  <a:pt x="895" y="438"/>
                </a:lnTo>
                <a:lnTo>
                  <a:pt x="869" y="427"/>
                </a:lnTo>
                <a:lnTo>
                  <a:pt x="845" y="414"/>
                </a:lnTo>
                <a:lnTo>
                  <a:pt x="820" y="404"/>
                </a:lnTo>
                <a:lnTo>
                  <a:pt x="796" y="393"/>
                </a:lnTo>
                <a:lnTo>
                  <a:pt x="773" y="383"/>
                </a:lnTo>
                <a:lnTo>
                  <a:pt x="751" y="372"/>
                </a:lnTo>
                <a:lnTo>
                  <a:pt x="686" y="356"/>
                </a:lnTo>
                <a:lnTo>
                  <a:pt x="621" y="344"/>
                </a:lnTo>
                <a:lnTo>
                  <a:pt x="559" y="335"/>
                </a:lnTo>
                <a:lnTo>
                  <a:pt x="498" y="330"/>
                </a:lnTo>
                <a:lnTo>
                  <a:pt x="439" y="330"/>
                </a:lnTo>
                <a:lnTo>
                  <a:pt x="384" y="334"/>
                </a:lnTo>
                <a:lnTo>
                  <a:pt x="330" y="342"/>
                </a:lnTo>
                <a:lnTo>
                  <a:pt x="280" y="353"/>
                </a:lnTo>
                <a:lnTo>
                  <a:pt x="231" y="370"/>
                </a:lnTo>
                <a:lnTo>
                  <a:pt x="188" y="390"/>
                </a:lnTo>
                <a:lnTo>
                  <a:pt x="148" y="416"/>
                </a:lnTo>
                <a:lnTo>
                  <a:pt x="113" y="444"/>
                </a:lnTo>
                <a:lnTo>
                  <a:pt x="81" y="478"/>
                </a:lnTo>
                <a:lnTo>
                  <a:pt x="55" y="514"/>
                </a:lnTo>
                <a:lnTo>
                  <a:pt x="33" y="557"/>
                </a:lnTo>
                <a:lnTo>
                  <a:pt x="17" y="602"/>
                </a:lnTo>
                <a:lnTo>
                  <a:pt x="16" y="603"/>
                </a:lnTo>
              </a:path>
            </a:pathLst>
          </a:custGeom>
          <a:solidFill>
            <a:srgbClr val="008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 R. Cruso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209680"/>
            <a:ext cx="842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aximizar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5562720"/>
            <a:ext cx="5790960" cy="184608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ecuación de balanc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124080"/>
            <a:ext cx="842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ligiendo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e 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, sujeto a ...</a:t>
            </a:r>
            <a:br>
              <a:rPr sz="3300"/>
            </a:b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26708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486400"/>
            <a:ext cx="842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876920"/>
            <a:ext cx="842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952880"/>
            <a:ext cx="5791320" cy="184644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Factibilidad técnica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3886200"/>
            <a:ext cx="6858000" cy="198108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consumo lógico factibl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676520"/>
            <a:ext cx="5181480" cy="43434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una decisión de consumo y producción conjunta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81040" y="4303800"/>
            <a:ext cx="4334040" cy="2698560"/>
          </a:xfrm>
          <a:custGeom>
            <a:avLst/>
            <a:gdLst/>
            <a:ahLst/>
            <a:rect l="l" t="t" r="r" b="b"/>
            <a:pathLst>
              <a:path w="2730" h="1700">
                <a:moveTo>
                  <a:pt x="0" y="0"/>
                </a:moveTo>
                <a:lnTo>
                  <a:pt x="0" y="0"/>
                </a:lnTo>
                <a:lnTo>
                  <a:pt x="0" y="1699"/>
                </a:lnTo>
                <a:lnTo>
                  <a:pt x="2729" y="1697"/>
                </a:lnTo>
                <a:lnTo>
                  <a:pt x="2729" y="1697"/>
                </a:lnTo>
                <a:lnTo>
                  <a:pt x="2697" y="1563"/>
                </a:lnTo>
                <a:lnTo>
                  <a:pt x="2689" y="1530"/>
                </a:lnTo>
                <a:lnTo>
                  <a:pt x="2675" y="1490"/>
                </a:lnTo>
                <a:lnTo>
                  <a:pt x="2662" y="1447"/>
                </a:lnTo>
                <a:lnTo>
                  <a:pt x="2647" y="1404"/>
                </a:lnTo>
                <a:lnTo>
                  <a:pt x="2630" y="1359"/>
                </a:lnTo>
                <a:lnTo>
                  <a:pt x="2615" y="1315"/>
                </a:lnTo>
                <a:lnTo>
                  <a:pt x="2601" y="1275"/>
                </a:lnTo>
                <a:lnTo>
                  <a:pt x="2590" y="1257"/>
                </a:lnTo>
                <a:lnTo>
                  <a:pt x="2582" y="1237"/>
                </a:lnTo>
                <a:lnTo>
                  <a:pt x="2571" y="1211"/>
                </a:lnTo>
                <a:lnTo>
                  <a:pt x="2559" y="1186"/>
                </a:lnTo>
                <a:lnTo>
                  <a:pt x="2547" y="1162"/>
                </a:lnTo>
                <a:lnTo>
                  <a:pt x="2534" y="1133"/>
                </a:lnTo>
                <a:lnTo>
                  <a:pt x="2522" y="1106"/>
                </a:lnTo>
                <a:lnTo>
                  <a:pt x="2509" y="1077"/>
                </a:lnTo>
                <a:lnTo>
                  <a:pt x="2495" y="1051"/>
                </a:lnTo>
                <a:lnTo>
                  <a:pt x="2480" y="1023"/>
                </a:lnTo>
                <a:lnTo>
                  <a:pt x="2467" y="997"/>
                </a:lnTo>
                <a:lnTo>
                  <a:pt x="2454" y="969"/>
                </a:lnTo>
                <a:lnTo>
                  <a:pt x="2440" y="944"/>
                </a:lnTo>
                <a:lnTo>
                  <a:pt x="2427" y="920"/>
                </a:lnTo>
                <a:lnTo>
                  <a:pt x="2417" y="899"/>
                </a:lnTo>
                <a:lnTo>
                  <a:pt x="2405" y="878"/>
                </a:lnTo>
                <a:lnTo>
                  <a:pt x="2389" y="860"/>
                </a:lnTo>
                <a:lnTo>
                  <a:pt x="2379" y="840"/>
                </a:lnTo>
                <a:lnTo>
                  <a:pt x="2365" y="817"/>
                </a:lnTo>
                <a:lnTo>
                  <a:pt x="2347" y="792"/>
                </a:lnTo>
                <a:lnTo>
                  <a:pt x="2331" y="769"/>
                </a:lnTo>
                <a:lnTo>
                  <a:pt x="2313" y="743"/>
                </a:lnTo>
                <a:lnTo>
                  <a:pt x="2295" y="719"/>
                </a:lnTo>
                <a:lnTo>
                  <a:pt x="2277" y="693"/>
                </a:lnTo>
                <a:lnTo>
                  <a:pt x="2255" y="670"/>
                </a:lnTo>
                <a:lnTo>
                  <a:pt x="2238" y="645"/>
                </a:lnTo>
                <a:lnTo>
                  <a:pt x="2219" y="621"/>
                </a:lnTo>
                <a:lnTo>
                  <a:pt x="2201" y="599"/>
                </a:lnTo>
                <a:lnTo>
                  <a:pt x="2184" y="577"/>
                </a:lnTo>
                <a:lnTo>
                  <a:pt x="2167" y="557"/>
                </a:lnTo>
                <a:lnTo>
                  <a:pt x="2149" y="539"/>
                </a:lnTo>
                <a:lnTo>
                  <a:pt x="2137" y="523"/>
                </a:lnTo>
                <a:lnTo>
                  <a:pt x="2104" y="496"/>
                </a:lnTo>
                <a:lnTo>
                  <a:pt x="2068" y="459"/>
                </a:lnTo>
                <a:lnTo>
                  <a:pt x="2029" y="423"/>
                </a:lnTo>
                <a:lnTo>
                  <a:pt x="1990" y="388"/>
                </a:lnTo>
                <a:lnTo>
                  <a:pt x="1952" y="355"/>
                </a:lnTo>
                <a:lnTo>
                  <a:pt x="1917" y="325"/>
                </a:lnTo>
                <a:lnTo>
                  <a:pt x="1886" y="297"/>
                </a:lnTo>
                <a:lnTo>
                  <a:pt x="1859" y="275"/>
                </a:lnTo>
                <a:lnTo>
                  <a:pt x="1833" y="259"/>
                </a:lnTo>
                <a:lnTo>
                  <a:pt x="1803" y="238"/>
                </a:lnTo>
                <a:lnTo>
                  <a:pt x="1770" y="215"/>
                </a:lnTo>
                <a:lnTo>
                  <a:pt x="1735" y="192"/>
                </a:lnTo>
                <a:lnTo>
                  <a:pt x="1699" y="173"/>
                </a:lnTo>
                <a:lnTo>
                  <a:pt x="1668" y="151"/>
                </a:lnTo>
                <a:lnTo>
                  <a:pt x="1637" y="135"/>
                </a:lnTo>
                <a:lnTo>
                  <a:pt x="1613" y="120"/>
                </a:lnTo>
                <a:lnTo>
                  <a:pt x="1584" y="110"/>
                </a:lnTo>
                <a:lnTo>
                  <a:pt x="1559" y="97"/>
                </a:lnTo>
                <a:lnTo>
                  <a:pt x="1529" y="84"/>
                </a:lnTo>
                <a:lnTo>
                  <a:pt x="1498" y="71"/>
                </a:lnTo>
                <a:lnTo>
                  <a:pt x="1467" y="60"/>
                </a:lnTo>
                <a:lnTo>
                  <a:pt x="1439" y="51"/>
                </a:lnTo>
                <a:lnTo>
                  <a:pt x="1414" y="42"/>
                </a:lnTo>
                <a:lnTo>
                  <a:pt x="1395" y="35"/>
                </a:lnTo>
                <a:lnTo>
                  <a:pt x="1374" y="34"/>
                </a:lnTo>
                <a:lnTo>
                  <a:pt x="1351" y="29"/>
                </a:lnTo>
                <a:lnTo>
                  <a:pt x="1325" y="25"/>
                </a:lnTo>
                <a:lnTo>
                  <a:pt x="1301" y="20"/>
                </a:lnTo>
                <a:lnTo>
                  <a:pt x="1273" y="17"/>
                </a:lnTo>
                <a:lnTo>
                  <a:pt x="1248" y="13"/>
                </a:lnTo>
                <a:lnTo>
                  <a:pt x="1225" y="12"/>
                </a:lnTo>
                <a:lnTo>
                  <a:pt x="1207" y="8"/>
                </a:lnTo>
                <a:lnTo>
                  <a:pt x="1114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1005840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representación del problema de R. Cruso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2840" y="700740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4800" y="830160"/>
            <a:ext cx="9453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su solución bastante evident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82840" y="2467080"/>
            <a:ext cx="0" cy="45403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73280" y="1940040"/>
            <a:ext cx="2989440" cy="3376440"/>
          </a:xfrm>
          <a:custGeom>
            <a:avLst/>
            <a:gdLst/>
            <a:ahLst/>
            <a:rect l="l" t="t" r="r" b="b"/>
            <a:pathLst>
              <a:path w="1883" h="2127">
                <a:moveTo>
                  <a:pt x="0" y="0"/>
                </a:moveTo>
                <a:lnTo>
                  <a:pt x="1" y="19"/>
                </a:lnTo>
                <a:lnTo>
                  <a:pt x="3" y="33"/>
                </a:lnTo>
                <a:lnTo>
                  <a:pt x="3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8"/>
                </a:lnTo>
                <a:lnTo>
                  <a:pt x="7" y="70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8" y="78"/>
                </a:lnTo>
                <a:lnTo>
                  <a:pt x="8" y="82"/>
                </a:lnTo>
                <a:lnTo>
                  <a:pt x="8" y="86"/>
                </a:lnTo>
                <a:lnTo>
                  <a:pt x="9" y="93"/>
                </a:lnTo>
                <a:lnTo>
                  <a:pt x="11" y="101"/>
                </a:lnTo>
                <a:lnTo>
                  <a:pt x="12" y="113"/>
                </a:lnTo>
                <a:lnTo>
                  <a:pt x="13" y="127"/>
                </a:lnTo>
                <a:lnTo>
                  <a:pt x="16" y="144"/>
                </a:lnTo>
                <a:lnTo>
                  <a:pt x="20" y="162"/>
                </a:lnTo>
                <a:lnTo>
                  <a:pt x="23" y="184"/>
                </a:lnTo>
                <a:lnTo>
                  <a:pt x="27" y="206"/>
                </a:lnTo>
                <a:lnTo>
                  <a:pt x="31" y="230"/>
                </a:lnTo>
                <a:lnTo>
                  <a:pt x="37" y="255"/>
                </a:lnTo>
                <a:lnTo>
                  <a:pt x="41" y="282"/>
                </a:lnTo>
                <a:lnTo>
                  <a:pt x="47" y="309"/>
                </a:lnTo>
                <a:lnTo>
                  <a:pt x="52" y="337"/>
                </a:lnTo>
                <a:lnTo>
                  <a:pt x="58" y="364"/>
                </a:lnTo>
                <a:lnTo>
                  <a:pt x="64" y="392"/>
                </a:lnTo>
                <a:lnTo>
                  <a:pt x="70" y="420"/>
                </a:lnTo>
                <a:lnTo>
                  <a:pt x="75" y="446"/>
                </a:lnTo>
                <a:lnTo>
                  <a:pt x="81" y="471"/>
                </a:lnTo>
                <a:lnTo>
                  <a:pt x="87" y="498"/>
                </a:lnTo>
                <a:lnTo>
                  <a:pt x="93" y="524"/>
                </a:lnTo>
                <a:lnTo>
                  <a:pt x="100" y="552"/>
                </a:lnTo>
                <a:lnTo>
                  <a:pt x="108" y="581"/>
                </a:lnTo>
                <a:lnTo>
                  <a:pt x="115" y="610"/>
                </a:lnTo>
                <a:lnTo>
                  <a:pt x="122" y="639"/>
                </a:lnTo>
                <a:lnTo>
                  <a:pt x="130" y="667"/>
                </a:lnTo>
                <a:lnTo>
                  <a:pt x="139" y="696"/>
                </a:lnTo>
                <a:lnTo>
                  <a:pt x="146" y="724"/>
                </a:lnTo>
                <a:lnTo>
                  <a:pt x="154" y="750"/>
                </a:lnTo>
                <a:lnTo>
                  <a:pt x="161" y="776"/>
                </a:lnTo>
                <a:lnTo>
                  <a:pt x="169" y="799"/>
                </a:lnTo>
                <a:lnTo>
                  <a:pt x="174" y="822"/>
                </a:lnTo>
                <a:lnTo>
                  <a:pt x="182" y="841"/>
                </a:lnTo>
                <a:lnTo>
                  <a:pt x="187" y="858"/>
                </a:lnTo>
                <a:lnTo>
                  <a:pt x="194" y="872"/>
                </a:lnTo>
                <a:lnTo>
                  <a:pt x="199" y="886"/>
                </a:lnTo>
                <a:lnTo>
                  <a:pt x="204" y="901"/>
                </a:lnTo>
                <a:lnTo>
                  <a:pt x="211" y="919"/>
                </a:lnTo>
                <a:lnTo>
                  <a:pt x="218" y="936"/>
                </a:lnTo>
                <a:lnTo>
                  <a:pt x="226" y="956"/>
                </a:lnTo>
                <a:lnTo>
                  <a:pt x="234" y="976"/>
                </a:lnTo>
                <a:lnTo>
                  <a:pt x="244" y="998"/>
                </a:lnTo>
                <a:lnTo>
                  <a:pt x="253" y="1018"/>
                </a:lnTo>
                <a:lnTo>
                  <a:pt x="261" y="1040"/>
                </a:lnTo>
                <a:lnTo>
                  <a:pt x="270" y="1063"/>
                </a:lnTo>
                <a:lnTo>
                  <a:pt x="280" y="1085"/>
                </a:lnTo>
                <a:lnTo>
                  <a:pt x="289" y="1106"/>
                </a:lnTo>
                <a:lnTo>
                  <a:pt x="297" y="1126"/>
                </a:lnTo>
                <a:lnTo>
                  <a:pt x="306" y="1145"/>
                </a:lnTo>
                <a:lnTo>
                  <a:pt x="315" y="1164"/>
                </a:lnTo>
                <a:lnTo>
                  <a:pt x="324" y="1180"/>
                </a:lnTo>
                <a:lnTo>
                  <a:pt x="330" y="1198"/>
                </a:lnTo>
                <a:lnTo>
                  <a:pt x="338" y="1216"/>
                </a:lnTo>
                <a:lnTo>
                  <a:pt x="346" y="1236"/>
                </a:lnTo>
                <a:lnTo>
                  <a:pt x="355" y="1255"/>
                </a:lnTo>
                <a:lnTo>
                  <a:pt x="363" y="1276"/>
                </a:lnTo>
                <a:lnTo>
                  <a:pt x="373" y="1296"/>
                </a:lnTo>
                <a:lnTo>
                  <a:pt x="382" y="1317"/>
                </a:lnTo>
                <a:lnTo>
                  <a:pt x="392" y="1337"/>
                </a:lnTo>
                <a:lnTo>
                  <a:pt x="399" y="1358"/>
                </a:lnTo>
                <a:lnTo>
                  <a:pt x="408" y="1377"/>
                </a:lnTo>
                <a:lnTo>
                  <a:pt x="416" y="1396"/>
                </a:lnTo>
                <a:lnTo>
                  <a:pt x="425" y="1413"/>
                </a:lnTo>
                <a:lnTo>
                  <a:pt x="432" y="1430"/>
                </a:lnTo>
                <a:lnTo>
                  <a:pt x="440" y="1445"/>
                </a:lnTo>
                <a:lnTo>
                  <a:pt x="445" y="1459"/>
                </a:lnTo>
                <a:lnTo>
                  <a:pt x="452" y="1469"/>
                </a:lnTo>
                <a:lnTo>
                  <a:pt x="457" y="1481"/>
                </a:lnTo>
                <a:lnTo>
                  <a:pt x="463" y="1493"/>
                </a:lnTo>
                <a:lnTo>
                  <a:pt x="470" y="1507"/>
                </a:lnTo>
                <a:lnTo>
                  <a:pt x="479" y="1520"/>
                </a:lnTo>
                <a:lnTo>
                  <a:pt x="487" y="1535"/>
                </a:lnTo>
                <a:lnTo>
                  <a:pt x="496" y="1550"/>
                </a:lnTo>
                <a:lnTo>
                  <a:pt x="506" y="1566"/>
                </a:lnTo>
                <a:lnTo>
                  <a:pt x="517" y="1581"/>
                </a:lnTo>
                <a:lnTo>
                  <a:pt x="526" y="1598"/>
                </a:lnTo>
                <a:lnTo>
                  <a:pt x="538" y="1613"/>
                </a:lnTo>
                <a:lnTo>
                  <a:pt x="547" y="1628"/>
                </a:lnTo>
                <a:lnTo>
                  <a:pt x="558" y="1643"/>
                </a:lnTo>
                <a:lnTo>
                  <a:pt x="567" y="1658"/>
                </a:lnTo>
                <a:lnTo>
                  <a:pt x="577" y="1671"/>
                </a:lnTo>
                <a:lnTo>
                  <a:pt x="587" y="1683"/>
                </a:lnTo>
                <a:lnTo>
                  <a:pt x="597" y="1693"/>
                </a:lnTo>
                <a:lnTo>
                  <a:pt x="606" y="1705"/>
                </a:lnTo>
                <a:lnTo>
                  <a:pt x="615" y="1716"/>
                </a:lnTo>
                <a:lnTo>
                  <a:pt x="626" y="1730"/>
                </a:lnTo>
                <a:lnTo>
                  <a:pt x="637" y="1741"/>
                </a:lnTo>
                <a:lnTo>
                  <a:pt x="648" y="1754"/>
                </a:lnTo>
                <a:lnTo>
                  <a:pt x="662" y="1768"/>
                </a:lnTo>
                <a:lnTo>
                  <a:pt x="675" y="1780"/>
                </a:lnTo>
                <a:lnTo>
                  <a:pt x="688" y="1792"/>
                </a:lnTo>
                <a:lnTo>
                  <a:pt x="699" y="1806"/>
                </a:lnTo>
                <a:lnTo>
                  <a:pt x="712" y="1818"/>
                </a:lnTo>
                <a:lnTo>
                  <a:pt x="724" y="1829"/>
                </a:lnTo>
                <a:lnTo>
                  <a:pt x="737" y="1840"/>
                </a:lnTo>
                <a:lnTo>
                  <a:pt x="748" y="1851"/>
                </a:lnTo>
                <a:lnTo>
                  <a:pt x="760" y="1860"/>
                </a:lnTo>
                <a:lnTo>
                  <a:pt x="769" y="1868"/>
                </a:lnTo>
                <a:lnTo>
                  <a:pt x="779" y="1875"/>
                </a:lnTo>
                <a:lnTo>
                  <a:pt x="787" y="1882"/>
                </a:lnTo>
                <a:lnTo>
                  <a:pt x="796" y="1889"/>
                </a:lnTo>
                <a:lnTo>
                  <a:pt x="806" y="1897"/>
                </a:lnTo>
                <a:lnTo>
                  <a:pt x="815" y="1902"/>
                </a:lnTo>
                <a:lnTo>
                  <a:pt x="824" y="1910"/>
                </a:lnTo>
                <a:lnTo>
                  <a:pt x="833" y="1917"/>
                </a:lnTo>
                <a:lnTo>
                  <a:pt x="842" y="1924"/>
                </a:lnTo>
                <a:lnTo>
                  <a:pt x="852" y="1930"/>
                </a:lnTo>
                <a:lnTo>
                  <a:pt x="860" y="1937"/>
                </a:lnTo>
                <a:lnTo>
                  <a:pt x="868" y="1943"/>
                </a:lnTo>
                <a:lnTo>
                  <a:pt x="876" y="1948"/>
                </a:lnTo>
                <a:lnTo>
                  <a:pt x="883" y="1953"/>
                </a:lnTo>
                <a:lnTo>
                  <a:pt x="889" y="1958"/>
                </a:lnTo>
                <a:lnTo>
                  <a:pt x="894" y="1962"/>
                </a:lnTo>
                <a:lnTo>
                  <a:pt x="899" y="1965"/>
                </a:lnTo>
                <a:lnTo>
                  <a:pt x="904" y="1966"/>
                </a:lnTo>
                <a:lnTo>
                  <a:pt x="906" y="1970"/>
                </a:lnTo>
                <a:lnTo>
                  <a:pt x="910" y="1972"/>
                </a:lnTo>
                <a:lnTo>
                  <a:pt x="915" y="1975"/>
                </a:lnTo>
                <a:lnTo>
                  <a:pt x="920" y="1977"/>
                </a:lnTo>
                <a:lnTo>
                  <a:pt x="926" y="1981"/>
                </a:lnTo>
                <a:lnTo>
                  <a:pt x="932" y="1984"/>
                </a:lnTo>
                <a:lnTo>
                  <a:pt x="939" y="1988"/>
                </a:lnTo>
                <a:lnTo>
                  <a:pt x="946" y="1990"/>
                </a:lnTo>
                <a:lnTo>
                  <a:pt x="953" y="1993"/>
                </a:lnTo>
                <a:lnTo>
                  <a:pt x="960" y="1997"/>
                </a:lnTo>
                <a:lnTo>
                  <a:pt x="968" y="2001"/>
                </a:lnTo>
                <a:lnTo>
                  <a:pt x="976" y="2004"/>
                </a:lnTo>
                <a:lnTo>
                  <a:pt x="983" y="2008"/>
                </a:lnTo>
                <a:lnTo>
                  <a:pt x="990" y="2010"/>
                </a:lnTo>
                <a:lnTo>
                  <a:pt x="997" y="2013"/>
                </a:lnTo>
                <a:lnTo>
                  <a:pt x="1005" y="2015"/>
                </a:lnTo>
                <a:lnTo>
                  <a:pt x="1012" y="2019"/>
                </a:lnTo>
                <a:lnTo>
                  <a:pt x="1020" y="2022"/>
                </a:lnTo>
                <a:lnTo>
                  <a:pt x="1028" y="2025"/>
                </a:lnTo>
                <a:lnTo>
                  <a:pt x="1039" y="2027"/>
                </a:lnTo>
                <a:lnTo>
                  <a:pt x="1050" y="2031"/>
                </a:lnTo>
                <a:lnTo>
                  <a:pt x="1062" y="2034"/>
                </a:lnTo>
                <a:lnTo>
                  <a:pt x="1074" y="2038"/>
                </a:lnTo>
                <a:lnTo>
                  <a:pt x="1086" y="2042"/>
                </a:lnTo>
                <a:lnTo>
                  <a:pt x="1098" y="2045"/>
                </a:lnTo>
                <a:lnTo>
                  <a:pt x="1112" y="2049"/>
                </a:lnTo>
                <a:lnTo>
                  <a:pt x="1124" y="2053"/>
                </a:lnTo>
                <a:lnTo>
                  <a:pt x="1137" y="2056"/>
                </a:lnTo>
                <a:lnTo>
                  <a:pt x="1148" y="2060"/>
                </a:lnTo>
                <a:lnTo>
                  <a:pt x="1162" y="2063"/>
                </a:lnTo>
                <a:lnTo>
                  <a:pt x="1173" y="2067"/>
                </a:lnTo>
                <a:lnTo>
                  <a:pt x="1184" y="2069"/>
                </a:lnTo>
                <a:lnTo>
                  <a:pt x="1193" y="2073"/>
                </a:lnTo>
                <a:lnTo>
                  <a:pt x="1204" y="2074"/>
                </a:lnTo>
                <a:lnTo>
                  <a:pt x="1217" y="2078"/>
                </a:lnTo>
                <a:lnTo>
                  <a:pt x="1230" y="2080"/>
                </a:lnTo>
                <a:lnTo>
                  <a:pt x="1243" y="2083"/>
                </a:lnTo>
                <a:lnTo>
                  <a:pt x="1257" y="2085"/>
                </a:lnTo>
                <a:lnTo>
                  <a:pt x="1270" y="2089"/>
                </a:lnTo>
                <a:lnTo>
                  <a:pt x="1285" y="2091"/>
                </a:lnTo>
                <a:lnTo>
                  <a:pt x="1298" y="2094"/>
                </a:lnTo>
                <a:lnTo>
                  <a:pt x="1312" y="2096"/>
                </a:lnTo>
                <a:lnTo>
                  <a:pt x="1325" y="2099"/>
                </a:lnTo>
                <a:lnTo>
                  <a:pt x="1338" y="2101"/>
                </a:lnTo>
                <a:lnTo>
                  <a:pt x="1349" y="2102"/>
                </a:lnTo>
                <a:lnTo>
                  <a:pt x="1361" y="2104"/>
                </a:lnTo>
                <a:lnTo>
                  <a:pt x="1371" y="2106"/>
                </a:lnTo>
                <a:lnTo>
                  <a:pt x="1382" y="2107"/>
                </a:lnTo>
                <a:lnTo>
                  <a:pt x="1390" y="2109"/>
                </a:lnTo>
                <a:lnTo>
                  <a:pt x="1400" y="2110"/>
                </a:lnTo>
                <a:lnTo>
                  <a:pt x="1411" y="2111"/>
                </a:lnTo>
                <a:lnTo>
                  <a:pt x="1424" y="2111"/>
                </a:lnTo>
                <a:lnTo>
                  <a:pt x="1437" y="2113"/>
                </a:lnTo>
                <a:lnTo>
                  <a:pt x="1450" y="2113"/>
                </a:lnTo>
                <a:lnTo>
                  <a:pt x="1464" y="2115"/>
                </a:lnTo>
                <a:lnTo>
                  <a:pt x="1479" y="2115"/>
                </a:lnTo>
                <a:lnTo>
                  <a:pt x="1492" y="2117"/>
                </a:lnTo>
                <a:lnTo>
                  <a:pt x="1507" y="2117"/>
                </a:lnTo>
                <a:lnTo>
                  <a:pt x="1520" y="2119"/>
                </a:lnTo>
                <a:lnTo>
                  <a:pt x="1535" y="2119"/>
                </a:lnTo>
                <a:lnTo>
                  <a:pt x="1548" y="2121"/>
                </a:lnTo>
                <a:lnTo>
                  <a:pt x="1562" y="2121"/>
                </a:lnTo>
                <a:lnTo>
                  <a:pt x="1573" y="2121"/>
                </a:lnTo>
                <a:lnTo>
                  <a:pt x="1586" y="2121"/>
                </a:lnTo>
                <a:lnTo>
                  <a:pt x="1596" y="2123"/>
                </a:lnTo>
                <a:lnTo>
                  <a:pt x="1608" y="2123"/>
                </a:lnTo>
                <a:lnTo>
                  <a:pt x="1621" y="2123"/>
                </a:lnTo>
                <a:lnTo>
                  <a:pt x="1634" y="2123"/>
                </a:lnTo>
                <a:lnTo>
                  <a:pt x="1648" y="2125"/>
                </a:lnTo>
                <a:lnTo>
                  <a:pt x="1662" y="2125"/>
                </a:lnTo>
                <a:lnTo>
                  <a:pt x="1676" y="2125"/>
                </a:lnTo>
                <a:lnTo>
                  <a:pt x="1691" y="2125"/>
                </a:lnTo>
                <a:lnTo>
                  <a:pt x="1704" y="2126"/>
                </a:lnTo>
                <a:lnTo>
                  <a:pt x="1719" y="2126"/>
                </a:lnTo>
                <a:lnTo>
                  <a:pt x="1732" y="2126"/>
                </a:lnTo>
                <a:lnTo>
                  <a:pt x="1746" y="2126"/>
                </a:lnTo>
                <a:lnTo>
                  <a:pt x="1757" y="2126"/>
                </a:lnTo>
                <a:lnTo>
                  <a:pt x="1769" y="2126"/>
                </a:lnTo>
                <a:lnTo>
                  <a:pt x="1779" y="2126"/>
                </a:lnTo>
                <a:lnTo>
                  <a:pt x="1789" y="2126"/>
                </a:lnTo>
                <a:lnTo>
                  <a:pt x="1796" y="2126"/>
                </a:lnTo>
                <a:lnTo>
                  <a:pt x="1802" y="2126"/>
                </a:lnTo>
                <a:lnTo>
                  <a:pt x="1806" y="2126"/>
                </a:lnTo>
                <a:lnTo>
                  <a:pt x="1810" y="2126"/>
                </a:lnTo>
                <a:lnTo>
                  <a:pt x="1812" y="2126"/>
                </a:lnTo>
                <a:lnTo>
                  <a:pt x="1814" y="2126"/>
                </a:lnTo>
                <a:lnTo>
                  <a:pt x="1815" y="2126"/>
                </a:lnTo>
                <a:lnTo>
                  <a:pt x="1818" y="2126"/>
                </a:lnTo>
                <a:lnTo>
                  <a:pt x="1820" y="2126"/>
                </a:lnTo>
                <a:lnTo>
                  <a:pt x="1823" y="2126"/>
                </a:lnTo>
                <a:lnTo>
                  <a:pt x="1827" y="2126"/>
                </a:lnTo>
                <a:lnTo>
                  <a:pt x="1834" y="2126"/>
                </a:lnTo>
                <a:lnTo>
                  <a:pt x="1842" y="2126"/>
                </a:lnTo>
                <a:lnTo>
                  <a:pt x="1852" y="2126"/>
                </a:lnTo>
                <a:lnTo>
                  <a:pt x="1865" y="2126"/>
                </a:lnTo>
                <a:lnTo>
                  <a:pt x="1882" y="2126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86280" y="2239920"/>
            <a:ext cx="3259080" cy="3703680"/>
          </a:xfrm>
          <a:custGeom>
            <a:avLst/>
            <a:gdLst/>
            <a:ahLst/>
            <a:rect l="l" t="t" r="r" b="b"/>
            <a:pathLst>
              <a:path w="2053" h="2333">
                <a:moveTo>
                  <a:pt x="0" y="0"/>
                </a:moveTo>
                <a:lnTo>
                  <a:pt x="0" y="20"/>
                </a:lnTo>
                <a:lnTo>
                  <a:pt x="2" y="35"/>
                </a:lnTo>
                <a:lnTo>
                  <a:pt x="3" y="48"/>
                </a:lnTo>
                <a:lnTo>
                  <a:pt x="4" y="57"/>
                </a:lnTo>
                <a:lnTo>
                  <a:pt x="4" y="65"/>
                </a:lnTo>
                <a:lnTo>
                  <a:pt x="5" y="70"/>
                </a:lnTo>
                <a:lnTo>
                  <a:pt x="5" y="74"/>
                </a:lnTo>
                <a:lnTo>
                  <a:pt x="7" y="76"/>
                </a:lnTo>
                <a:lnTo>
                  <a:pt x="7" y="80"/>
                </a:lnTo>
                <a:lnTo>
                  <a:pt x="7" y="81"/>
                </a:lnTo>
                <a:lnTo>
                  <a:pt x="7" y="84"/>
                </a:lnTo>
                <a:lnTo>
                  <a:pt x="8" y="86"/>
                </a:lnTo>
                <a:lnTo>
                  <a:pt x="8" y="90"/>
                </a:lnTo>
                <a:lnTo>
                  <a:pt x="9" y="95"/>
                </a:lnTo>
                <a:lnTo>
                  <a:pt x="10" y="101"/>
                </a:lnTo>
                <a:lnTo>
                  <a:pt x="12" y="110"/>
                </a:lnTo>
                <a:lnTo>
                  <a:pt x="12" y="123"/>
                </a:lnTo>
                <a:lnTo>
                  <a:pt x="14" y="138"/>
                </a:lnTo>
                <a:lnTo>
                  <a:pt x="16" y="156"/>
                </a:lnTo>
                <a:lnTo>
                  <a:pt x="20" y="176"/>
                </a:lnTo>
                <a:lnTo>
                  <a:pt x="24" y="199"/>
                </a:lnTo>
                <a:lnTo>
                  <a:pt x="28" y="225"/>
                </a:lnTo>
                <a:lnTo>
                  <a:pt x="33" y="251"/>
                </a:lnTo>
                <a:lnTo>
                  <a:pt x="39" y="278"/>
                </a:lnTo>
                <a:lnTo>
                  <a:pt x="44" y="308"/>
                </a:lnTo>
                <a:lnTo>
                  <a:pt x="50" y="337"/>
                </a:lnTo>
                <a:lnTo>
                  <a:pt x="55" y="368"/>
                </a:lnTo>
                <a:lnTo>
                  <a:pt x="62" y="398"/>
                </a:lnTo>
                <a:lnTo>
                  <a:pt x="68" y="429"/>
                </a:lnTo>
                <a:lnTo>
                  <a:pt x="75" y="459"/>
                </a:lnTo>
                <a:lnTo>
                  <a:pt x="81" y="488"/>
                </a:lnTo>
                <a:lnTo>
                  <a:pt x="89" y="516"/>
                </a:lnTo>
                <a:lnTo>
                  <a:pt x="94" y="545"/>
                </a:lnTo>
                <a:lnTo>
                  <a:pt x="101" y="575"/>
                </a:lnTo>
                <a:lnTo>
                  <a:pt x="108" y="606"/>
                </a:lnTo>
                <a:lnTo>
                  <a:pt x="116" y="636"/>
                </a:lnTo>
                <a:lnTo>
                  <a:pt x="124" y="669"/>
                </a:lnTo>
                <a:lnTo>
                  <a:pt x="132" y="701"/>
                </a:lnTo>
                <a:lnTo>
                  <a:pt x="140" y="732"/>
                </a:lnTo>
                <a:lnTo>
                  <a:pt x="150" y="763"/>
                </a:lnTo>
                <a:lnTo>
                  <a:pt x="158" y="794"/>
                </a:lnTo>
                <a:lnTo>
                  <a:pt x="166" y="823"/>
                </a:lnTo>
                <a:lnTo>
                  <a:pt x="174" y="851"/>
                </a:lnTo>
                <a:lnTo>
                  <a:pt x="183" y="877"/>
                </a:lnTo>
                <a:lnTo>
                  <a:pt x="190" y="901"/>
                </a:lnTo>
                <a:lnTo>
                  <a:pt x="198" y="923"/>
                </a:lnTo>
                <a:lnTo>
                  <a:pt x="204" y="941"/>
                </a:lnTo>
                <a:lnTo>
                  <a:pt x="211" y="956"/>
                </a:lnTo>
                <a:lnTo>
                  <a:pt x="216" y="971"/>
                </a:lnTo>
                <a:lnTo>
                  <a:pt x="222" y="987"/>
                </a:lnTo>
                <a:lnTo>
                  <a:pt x="230" y="1007"/>
                </a:lnTo>
                <a:lnTo>
                  <a:pt x="238" y="1026"/>
                </a:lnTo>
                <a:lnTo>
                  <a:pt x="247" y="1048"/>
                </a:lnTo>
                <a:lnTo>
                  <a:pt x="256" y="1070"/>
                </a:lnTo>
                <a:lnTo>
                  <a:pt x="265" y="1094"/>
                </a:lnTo>
                <a:lnTo>
                  <a:pt x="276" y="1116"/>
                </a:lnTo>
                <a:lnTo>
                  <a:pt x="285" y="1141"/>
                </a:lnTo>
                <a:lnTo>
                  <a:pt x="295" y="1165"/>
                </a:lnTo>
                <a:lnTo>
                  <a:pt x="305" y="1189"/>
                </a:lnTo>
                <a:lnTo>
                  <a:pt x="315" y="1211"/>
                </a:lnTo>
                <a:lnTo>
                  <a:pt x="325" y="1234"/>
                </a:lnTo>
                <a:lnTo>
                  <a:pt x="334" y="1256"/>
                </a:lnTo>
                <a:lnTo>
                  <a:pt x="342" y="1277"/>
                </a:lnTo>
                <a:lnTo>
                  <a:pt x="352" y="1295"/>
                </a:lnTo>
                <a:lnTo>
                  <a:pt x="359" y="1315"/>
                </a:lnTo>
                <a:lnTo>
                  <a:pt x="367" y="1334"/>
                </a:lnTo>
                <a:lnTo>
                  <a:pt x="376" y="1356"/>
                </a:lnTo>
                <a:lnTo>
                  <a:pt x="386" y="1376"/>
                </a:lnTo>
                <a:lnTo>
                  <a:pt x="396" y="1399"/>
                </a:lnTo>
                <a:lnTo>
                  <a:pt x="406" y="1421"/>
                </a:lnTo>
                <a:lnTo>
                  <a:pt x="415" y="1444"/>
                </a:lnTo>
                <a:lnTo>
                  <a:pt x="426" y="1465"/>
                </a:lnTo>
                <a:lnTo>
                  <a:pt x="436" y="1488"/>
                </a:lnTo>
                <a:lnTo>
                  <a:pt x="445" y="1510"/>
                </a:lnTo>
                <a:lnTo>
                  <a:pt x="454" y="1531"/>
                </a:lnTo>
                <a:lnTo>
                  <a:pt x="464" y="1549"/>
                </a:lnTo>
                <a:lnTo>
                  <a:pt x="471" y="1568"/>
                </a:lnTo>
                <a:lnTo>
                  <a:pt x="480" y="1584"/>
                </a:lnTo>
                <a:lnTo>
                  <a:pt x="486" y="1599"/>
                </a:lnTo>
                <a:lnTo>
                  <a:pt x="493" y="1611"/>
                </a:lnTo>
                <a:lnTo>
                  <a:pt x="498" y="1624"/>
                </a:lnTo>
                <a:lnTo>
                  <a:pt x="505" y="1637"/>
                </a:lnTo>
                <a:lnTo>
                  <a:pt x="512" y="1652"/>
                </a:lnTo>
                <a:lnTo>
                  <a:pt x="522" y="1667"/>
                </a:lnTo>
                <a:lnTo>
                  <a:pt x="531" y="1684"/>
                </a:lnTo>
                <a:lnTo>
                  <a:pt x="541" y="1700"/>
                </a:lnTo>
                <a:lnTo>
                  <a:pt x="552" y="1717"/>
                </a:lnTo>
                <a:lnTo>
                  <a:pt x="564" y="1734"/>
                </a:lnTo>
                <a:lnTo>
                  <a:pt x="574" y="1752"/>
                </a:lnTo>
                <a:lnTo>
                  <a:pt x="586" y="1769"/>
                </a:lnTo>
                <a:lnTo>
                  <a:pt x="597" y="1786"/>
                </a:lnTo>
                <a:lnTo>
                  <a:pt x="608" y="1801"/>
                </a:lnTo>
                <a:lnTo>
                  <a:pt x="618" y="1817"/>
                </a:lnTo>
                <a:lnTo>
                  <a:pt x="630" y="1832"/>
                </a:lnTo>
                <a:lnTo>
                  <a:pt x="640" y="1845"/>
                </a:lnTo>
                <a:lnTo>
                  <a:pt x="650" y="1857"/>
                </a:lnTo>
                <a:lnTo>
                  <a:pt x="660" y="1871"/>
                </a:lnTo>
                <a:lnTo>
                  <a:pt x="670" y="1882"/>
                </a:lnTo>
                <a:lnTo>
                  <a:pt x="682" y="1896"/>
                </a:lnTo>
                <a:lnTo>
                  <a:pt x="695" y="1909"/>
                </a:lnTo>
                <a:lnTo>
                  <a:pt x="708" y="1924"/>
                </a:lnTo>
                <a:lnTo>
                  <a:pt x="722" y="1937"/>
                </a:lnTo>
                <a:lnTo>
                  <a:pt x="735" y="1952"/>
                </a:lnTo>
                <a:lnTo>
                  <a:pt x="750" y="1965"/>
                </a:lnTo>
                <a:lnTo>
                  <a:pt x="763" y="1980"/>
                </a:lnTo>
                <a:lnTo>
                  <a:pt x="777" y="1993"/>
                </a:lnTo>
                <a:lnTo>
                  <a:pt x="790" y="2007"/>
                </a:lnTo>
                <a:lnTo>
                  <a:pt x="804" y="2018"/>
                </a:lnTo>
                <a:lnTo>
                  <a:pt x="816" y="2030"/>
                </a:lnTo>
                <a:lnTo>
                  <a:pt x="828" y="2040"/>
                </a:lnTo>
                <a:lnTo>
                  <a:pt x="839" y="2049"/>
                </a:lnTo>
                <a:lnTo>
                  <a:pt x="850" y="2056"/>
                </a:lnTo>
                <a:lnTo>
                  <a:pt x="859" y="2064"/>
                </a:lnTo>
                <a:lnTo>
                  <a:pt x="868" y="2071"/>
                </a:lnTo>
                <a:lnTo>
                  <a:pt x="878" y="2079"/>
                </a:lnTo>
                <a:lnTo>
                  <a:pt x="889" y="2087"/>
                </a:lnTo>
                <a:lnTo>
                  <a:pt x="898" y="2094"/>
                </a:lnTo>
                <a:lnTo>
                  <a:pt x="909" y="2101"/>
                </a:lnTo>
                <a:lnTo>
                  <a:pt x="918" y="2109"/>
                </a:lnTo>
                <a:lnTo>
                  <a:pt x="929" y="2116"/>
                </a:lnTo>
                <a:lnTo>
                  <a:pt x="937" y="2123"/>
                </a:lnTo>
                <a:lnTo>
                  <a:pt x="946" y="2129"/>
                </a:lnTo>
                <a:lnTo>
                  <a:pt x="954" y="2136"/>
                </a:lnTo>
                <a:lnTo>
                  <a:pt x="962" y="2141"/>
                </a:lnTo>
                <a:lnTo>
                  <a:pt x="969" y="2147"/>
                </a:lnTo>
                <a:lnTo>
                  <a:pt x="976" y="2151"/>
                </a:lnTo>
                <a:lnTo>
                  <a:pt x="980" y="2155"/>
                </a:lnTo>
                <a:lnTo>
                  <a:pt x="986" y="2156"/>
                </a:lnTo>
                <a:lnTo>
                  <a:pt x="989" y="2160"/>
                </a:lnTo>
                <a:lnTo>
                  <a:pt x="992" y="2162"/>
                </a:lnTo>
                <a:lnTo>
                  <a:pt x="997" y="2166"/>
                </a:lnTo>
                <a:lnTo>
                  <a:pt x="1003" y="2167"/>
                </a:lnTo>
                <a:lnTo>
                  <a:pt x="1008" y="2171"/>
                </a:lnTo>
                <a:lnTo>
                  <a:pt x="1016" y="2175"/>
                </a:lnTo>
                <a:lnTo>
                  <a:pt x="1024" y="2179"/>
                </a:lnTo>
                <a:lnTo>
                  <a:pt x="1032" y="2181"/>
                </a:lnTo>
                <a:lnTo>
                  <a:pt x="1039" y="2185"/>
                </a:lnTo>
                <a:lnTo>
                  <a:pt x="1047" y="2189"/>
                </a:lnTo>
                <a:lnTo>
                  <a:pt x="1055" y="2193"/>
                </a:lnTo>
                <a:lnTo>
                  <a:pt x="1064" y="2196"/>
                </a:lnTo>
                <a:lnTo>
                  <a:pt x="1072" y="2200"/>
                </a:lnTo>
                <a:lnTo>
                  <a:pt x="1080" y="2203"/>
                </a:lnTo>
                <a:lnTo>
                  <a:pt x="1087" y="2206"/>
                </a:lnTo>
                <a:lnTo>
                  <a:pt x="1096" y="2208"/>
                </a:lnTo>
                <a:lnTo>
                  <a:pt x="1103" y="2212"/>
                </a:lnTo>
                <a:lnTo>
                  <a:pt x="1112" y="2215"/>
                </a:lnTo>
                <a:lnTo>
                  <a:pt x="1122" y="2219"/>
                </a:lnTo>
                <a:lnTo>
                  <a:pt x="1133" y="2222"/>
                </a:lnTo>
                <a:lnTo>
                  <a:pt x="1145" y="2227"/>
                </a:lnTo>
                <a:lnTo>
                  <a:pt x="1158" y="2231"/>
                </a:lnTo>
                <a:lnTo>
                  <a:pt x="1171" y="2234"/>
                </a:lnTo>
                <a:lnTo>
                  <a:pt x="1184" y="2238"/>
                </a:lnTo>
                <a:lnTo>
                  <a:pt x="1198" y="2243"/>
                </a:lnTo>
                <a:lnTo>
                  <a:pt x="1211" y="2247"/>
                </a:lnTo>
                <a:lnTo>
                  <a:pt x="1224" y="2251"/>
                </a:lnTo>
                <a:lnTo>
                  <a:pt x="1240" y="2254"/>
                </a:lnTo>
                <a:lnTo>
                  <a:pt x="1252" y="2258"/>
                </a:lnTo>
                <a:lnTo>
                  <a:pt x="1266" y="2262"/>
                </a:lnTo>
                <a:lnTo>
                  <a:pt x="1278" y="2265"/>
                </a:lnTo>
                <a:lnTo>
                  <a:pt x="1290" y="2268"/>
                </a:lnTo>
                <a:lnTo>
                  <a:pt x="1301" y="2272"/>
                </a:lnTo>
                <a:lnTo>
                  <a:pt x="1313" y="2275"/>
                </a:lnTo>
                <a:lnTo>
                  <a:pt x="1326" y="2279"/>
                </a:lnTo>
                <a:lnTo>
                  <a:pt x="1340" y="2281"/>
                </a:lnTo>
                <a:lnTo>
                  <a:pt x="1355" y="2284"/>
                </a:lnTo>
                <a:lnTo>
                  <a:pt x="1370" y="2286"/>
                </a:lnTo>
                <a:lnTo>
                  <a:pt x="1385" y="2290"/>
                </a:lnTo>
                <a:lnTo>
                  <a:pt x="1401" y="2292"/>
                </a:lnTo>
                <a:lnTo>
                  <a:pt x="1416" y="2295"/>
                </a:lnTo>
                <a:lnTo>
                  <a:pt x="1431" y="2297"/>
                </a:lnTo>
                <a:lnTo>
                  <a:pt x="1445" y="2301"/>
                </a:lnTo>
                <a:lnTo>
                  <a:pt x="1460" y="2302"/>
                </a:lnTo>
                <a:lnTo>
                  <a:pt x="1473" y="2304"/>
                </a:lnTo>
                <a:lnTo>
                  <a:pt x="1485" y="2306"/>
                </a:lnTo>
                <a:lnTo>
                  <a:pt x="1496" y="2308"/>
                </a:lnTo>
                <a:lnTo>
                  <a:pt x="1508" y="2309"/>
                </a:lnTo>
                <a:lnTo>
                  <a:pt x="1517" y="2311"/>
                </a:lnTo>
                <a:lnTo>
                  <a:pt x="1528" y="2312"/>
                </a:lnTo>
                <a:lnTo>
                  <a:pt x="1541" y="2314"/>
                </a:lnTo>
                <a:lnTo>
                  <a:pt x="1554" y="2314"/>
                </a:lnTo>
                <a:lnTo>
                  <a:pt x="1568" y="2316"/>
                </a:lnTo>
                <a:lnTo>
                  <a:pt x="1583" y="2317"/>
                </a:lnTo>
                <a:lnTo>
                  <a:pt x="1598" y="2319"/>
                </a:lnTo>
                <a:lnTo>
                  <a:pt x="1615" y="2319"/>
                </a:lnTo>
                <a:lnTo>
                  <a:pt x="1630" y="2321"/>
                </a:lnTo>
                <a:lnTo>
                  <a:pt x="1646" y="2321"/>
                </a:lnTo>
                <a:lnTo>
                  <a:pt x="1661" y="2323"/>
                </a:lnTo>
                <a:lnTo>
                  <a:pt x="1677" y="2323"/>
                </a:lnTo>
                <a:lnTo>
                  <a:pt x="1691" y="2325"/>
                </a:lnTo>
                <a:lnTo>
                  <a:pt x="1706" y="2325"/>
                </a:lnTo>
                <a:lnTo>
                  <a:pt x="1719" y="2325"/>
                </a:lnTo>
                <a:lnTo>
                  <a:pt x="1732" y="2325"/>
                </a:lnTo>
                <a:lnTo>
                  <a:pt x="1743" y="2327"/>
                </a:lnTo>
                <a:lnTo>
                  <a:pt x="1756" y="2327"/>
                </a:lnTo>
                <a:lnTo>
                  <a:pt x="1770" y="2329"/>
                </a:lnTo>
                <a:lnTo>
                  <a:pt x="1785" y="2329"/>
                </a:lnTo>
                <a:lnTo>
                  <a:pt x="1800" y="2331"/>
                </a:lnTo>
                <a:lnTo>
                  <a:pt x="1815" y="2331"/>
                </a:lnTo>
                <a:lnTo>
                  <a:pt x="1830" y="2331"/>
                </a:lnTo>
                <a:lnTo>
                  <a:pt x="1847" y="2331"/>
                </a:lnTo>
                <a:lnTo>
                  <a:pt x="1862" y="2332"/>
                </a:lnTo>
                <a:lnTo>
                  <a:pt x="1876" y="2332"/>
                </a:lnTo>
                <a:lnTo>
                  <a:pt x="1891" y="2332"/>
                </a:lnTo>
                <a:lnTo>
                  <a:pt x="1906" y="2332"/>
                </a:lnTo>
                <a:lnTo>
                  <a:pt x="1918" y="2332"/>
                </a:lnTo>
                <a:lnTo>
                  <a:pt x="1931" y="2332"/>
                </a:lnTo>
                <a:lnTo>
                  <a:pt x="1942" y="2332"/>
                </a:lnTo>
                <a:lnTo>
                  <a:pt x="1952" y="2332"/>
                </a:lnTo>
                <a:lnTo>
                  <a:pt x="1960" y="2332"/>
                </a:lnTo>
                <a:lnTo>
                  <a:pt x="1966" y="2332"/>
                </a:lnTo>
                <a:lnTo>
                  <a:pt x="1971" y="2332"/>
                </a:lnTo>
                <a:lnTo>
                  <a:pt x="1974" y="2332"/>
                </a:lnTo>
                <a:lnTo>
                  <a:pt x="1976" y="2332"/>
                </a:lnTo>
                <a:lnTo>
                  <a:pt x="1979" y="2332"/>
                </a:lnTo>
                <a:lnTo>
                  <a:pt x="1981" y="2332"/>
                </a:lnTo>
                <a:lnTo>
                  <a:pt x="1983" y="2332"/>
                </a:lnTo>
                <a:lnTo>
                  <a:pt x="1985" y="2332"/>
                </a:lnTo>
                <a:lnTo>
                  <a:pt x="1989" y="2332"/>
                </a:lnTo>
                <a:lnTo>
                  <a:pt x="1994" y="2332"/>
                </a:lnTo>
                <a:lnTo>
                  <a:pt x="2001" y="2332"/>
                </a:lnTo>
                <a:lnTo>
                  <a:pt x="2009" y="2332"/>
                </a:lnTo>
                <a:lnTo>
                  <a:pt x="2020" y="2332"/>
                </a:lnTo>
                <a:lnTo>
                  <a:pt x="2034" y="2332"/>
                </a:lnTo>
                <a:lnTo>
                  <a:pt x="2052" y="2332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8760" y="1814400"/>
            <a:ext cx="2609640" cy="2957760"/>
          </a:xfrm>
          <a:custGeom>
            <a:avLst/>
            <a:gdLst/>
            <a:ahLst/>
            <a:rect l="l" t="t" r="r" b="b"/>
            <a:pathLst>
              <a:path w="1644" h="1863">
                <a:moveTo>
                  <a:pt x="0" y="0"/>
                </a:moveTo>
                <a:lnTo>
                  <a:pt x="0" y="16"/>
                </a:lnTo>
                <a:lnTo>
                  <a:pt x="2" y="29"/>
                </a:lnTo>
                <a:lnTo>
                  <a:pt x="2" y="39"/>
                </a:lnTo>
                <a:lnTo>
                  <a:pt x="3" y="46"/>
                </a:lnTo>
                <a:lnTo>
                  <a:pt x="3" y="53"/>
                </a:lnTo>
                <a:lnTo>
                  <a:pt x="3" y="57"/>
                </a:lnTo>
                <a:lnTo>
                  <a:pt x="3" y="60"/>
                </a:lnTo>
                <a:lnTo>
                  <a:pt x="5" y="62"/>
                </a:lnTo>
                <a:lnTo>
                  <a:pt x="5" y="64"/>
                </a:lnTo>
                <a:lnTo>
                  <a:pt x="5" y="66"/>
                </a:lnTo>
                <a:lnTo>
                  <a:pt x="5" y="68"/>
                </a:lnTo>
                <a:lnTo>
                  <a:pt x="6" y="70"/>
                </a:lnTo>
                <a:lnTo>
                  <a:pt x="6" y="74"/>
                </a:lnTo>
                <a:lnTo>
                  <a:pt x="7" y="77"/>
                </a:lnTo>
                <a:lnTo>
                  <a:pt x="7" y="83"/>
                </a:lnTo>
                <a:lnTo>
                  <a:pt x="9" y="90"/>
                </a:lnTo>
                <a:lnTo>
                  <a:pt x="9" y="100"/>
                </a:lnTo>
                <a:lnTo>
                  <a:pt x="11" y="112"/>
                </a:lnTo>
                <a:lnTo>
                  <a:pt x="12" y="127"/>
                </a:lnTo>
                <a:lnTo>
                  <a:pt x="15" y="143"/>
                </a:lnTo>
                <a:lnTo>
                  <a:pt x="18" y="162"/>
                </a:lnTo>
                <a:lnTo>
                  <a:pt x="22" y="182"/>
                </a:lnTo>
                <a:lnTo>
                  <a:pt x="25" y="203"/>
                </a:lnTo>
                <a:lnTo>
                  <a:pt x="30" y="224"/>
                </a:lnTo>
                <a:lnTo>
                  <a:pt x="33" y="249"/>
                </a:lnTo>
                <a:lnTo>
                  <a:pt x="39" y="271"/>
                </a:lnTo>
                <a:lnTo>
                  <a:pt x="43" y="296"/>
                </a:lnTo>
                <a:lnTo>
                  <a:pt x="49" y="319"/>
                </a:lnTo>
                <a:lnTo>
                  <a:pt x="52" y="344"/>
                </a:lnTo>
                <a:lnTo>
                  <a:pt x="58" y="368"/>
                </a:lnTo>
                <a:lnTo>
                  <a:pt x="63" y="391"/>
                </a:lnTo>
                <a:lnTo>
                  <a:pt x="69" y="413"/>
                </a:lnTo>
                <a:lnTo>
                  <a:pt x="73" y="436"/>
                </a:lnTo>
                <a:lnTo>
                  <a:pt x="79" y="459"/>
                </a:lnTo>
                <a:lnTo>
                  <a:pt x="85" y="484"/>
                </a:lnTo>
                <a:lnTo>
                  <a:pt x="91" y="509"/>
                </a:lnTo>
                <a:lnTo>
                  <a:pt x="97" y="535"/>
                </a:lnTo>
                <a:lnTo>
                  <a:pt x="105" y="560"/>
                </a:lnTo>
                <a:lnTo>
                  <a:pt x="111" y="585"/>
                </a:lnTo>
                <a:lnTo>
                  <a:pt x="119" y="609"/>
                </a:lnTo>
                <a:lnTo>
                  <a:pt x="125" y="634"/>
                </a:lnTo>
                <a:lnTo>
                  <a:pt x="132" y="658"/>
                </a:lnTo>
                <a:lnTo>
                  <a:pt x="138" y="680"/>
                </a:lnTo>
                <a:lnTo>
                  <a:pt x="145" y="700"/>
                </a:lnTo>
                <a:lnTo>
                  <a:pt x="151" y="719"/>
                </a:lnTo>
                <a:lnTo>
                  <a:pt x="157" y="736"/>
                </a:lnTo>
                <a:lnTo>
                  <a:pt x="163" y="751"/>
                </a:lnTo>
                <a:lnTo>
                  <a:pt x="168" y="763"/>
                </a:lnTo>
                <a:lnTo>
                  <a:pt x="172" y="776"/>
                </a:lnTo>
                <a:lnTo>
                  <a:pt x="178" y="789"/>
                </a:lnTo>
                <a:lnTo>
                  <a:pt x="183" y="804"/>
                </a:lnTo>
                <a:lnTo>
                  <a:pt x="191" y="819"/>
                </a:lnTo>
                <a:lnTo>
                  <a:pt x="198" y="837"/>
                </a:lnTo>
                <a:lnTo>
                  <a:pt x="205" y="854"/>
                </a:lnTo>
                <a:lnTo>
                  <a:pt x="213" y="873"/>
                </a:lnTo>
                <a:lnTo>
                  <a:pt x="221" y="891"/>
                </a:lnTo>
                <a:lnTo>
                  <a:pt x="228" y="912"/>
                </a:lnTo>
                <a:lnTo>
                  <a:pt x="236" y="931"/>
                </a:lnTo>
                <a:lnTo>
                  <a:pt x="243" y="949"/>
                </a:lnTo>
                <a:lnTo>
                  <a:pt x="252" y="967"/>
                </a:lnTo>
                <a:lnTo>
                  <a:pt x="259" y="986"/>
                </a:lnTo>
                <a:lnTo>
                  <a:pt x="267" y="1003"/>
                </a:lnTo>
                <a:lnTo>
                  <a:pt x="273" y="1020"/>
                </a:lnTo>
                <a:lnTo>
                  <a:pt x="281" y="1034"/>
                </a:lnTo>
                <a:lnTo>
                  <a:pt x="286" y="1050"/>
                </a:lnTo>
                <a:lnTo>
                  <a:pt x="293" y="1066"/>
                </a:lnTo>
                <a:lnTo>
                  <a:pt x="301" y="1083"/>
                </a:lnTo>
                <a:lnTo>
                  <a:pt x="308" y="1099"/>
                </a:lnTo>
                <a:lnTo>
                  <a:pt x="315" y="1118"/>
                </a:lnTo>
                <a:lnTo>
                  <a:pt x="324" y="1136"/>
                </a:lnTo>
                <a:lnTo>
                  <a:pt x="331" y="1155"/>
                </a:lnTo>
                <a:lnTo>
                  <a:pt x="341" y="1171"/>
                </a:lnTo>
                <a:lnTo>
                  <a:pt x="348" y="1189"/>
                </a:lnTo>
                <a:lnTo>
                  <a:pt x="355" y="1206"/>
                </a:lnTo>
                <a:lnTo>
                  <a:pt x="362" y="1223"/>
                </a:lnTo>
                <a:lnTo>
                  <a:pt x="370" y="1238"/>
                </a:lnTo>
                <a:lnTo>
                  <a:pt x="375" y="1253"/>
                </a:lnTo>
                <a:lnTo>
                  <a:pt x="382" y="1265"/>
                </a:lnTo>
                <a:lnTo>
                  <a:pt x="388" y="1277"/>
                </a:lnTo>
                <a:lnTo>
                  <a:pt x="393" y="1286"/>
                </a:lnTo>
                <a:lnTo>
                  <a:pt x="397" y="1297"/>
                </a:lnTo>
                <a:lnTo>
                  <a:pt x="403" y="1307"/>
                </a:lnTo>
                <a:lnTo>
                  <a:pt x="409" y="1320"/>
                </a:lnTo>
                <a:lnTo>
                  <a:pt x="417" y="1331"/>
                </a:lnTo>
                <a:lnTo>
                  <a:pt x="424" y="1345"/>
                </a:lnTo>
                <a:lnTo>
                  <a:pt x="432" y="1358"/>
                </a:lnTo>
                <a:lnTo>
                  <a:pt x="441" y="1372"/>
                </a:lnTo>
                <a:lnTo>
                  <a:pt x="450" y="1385"/>
                </a:lnTo>
                <a:lnTo>
                  <a:pt x="459" y="1400"/>
                </a:lnTo>
                <a:lnTo>
                  <a:pt x="468" y="1413"/>
                </a:lnTo>
                <a:lnTo>
                  <a:pt x="477" y="1427"/>
                </a:lnTo>
                <a:lnTo>
                  <a:pt x="487" y="1439"/>
                </a:lnTo>
                <a:lnTo>
                  <a:pt x="494" y="1452"/>
                </a:lnTo>
                <a:lnTo>
                  <a:pt x="503" y="1463"/>
                </a:lnTo>
                <a:lnTo>
                  <a:pt x="511" y="1474"/>
                </a:lnTo>
                <a:lnTo>
                  <a:pt x="521" y="1483"/>
                </a:lnTo>
                <a:lnTo>
                  <a:pt x="528" y="1494"/>
                </a:lnTo>
                <a:lnTo>
                  <a:pt x="537" y="1504"/>
                </a:lnTo>
                <a:lnTo>
                  <a:pt x="546" y="1515"/>
                </a:lnTo>
                <a:lnTo>
                  <a:pt x="557" y="1525"/>
                </a:lnTo>
                <a:lnTo>
                  <a:pt x="567" y="1536"/>
                </a:lnTo>
                <a:lnTo>
                  <a:pt x="578" y="1547"/>
                </a:lnTo>
                <a:lnTo>
                  <a:pt x="589" y="1559"/>
                </a:lnTo>
                <a:lnTo>
                  <a:pt x="600" y="1569"/>
                </a:lnTo>
                <a:lnTo>
                  <a:pt x="611" y="1581"/>
                </a:lnTo>
                <a:lnTo>
                  <a:pt x="622" y="1592"/>
                </a:lnTo>
                <a:lnTo>
                  <a:pt x="633" y="1603"/>
                </a:lnTo>
                <a:lnTo>
                  <a:pt x="644" y="1612"/>
                </a:lnTo>
                <a:lnTo>
                  <a:pt x="653" y="1621"/>
                </a:lnTo>
                <a:lnTo>
                  <a:pt x="663" y="1629"/>
                </a:lnTo>
                <a:lnTo>
                  <a:pt x="672" y="1637"/>
                </a:lnTo>
                <a:lnTo>
                  <a:pt x="681" y="1643"/>
                </a:lnTo>
                <a:lnTo>
                  <a:pt x="689" y="1650"/>
                </a:lnTo>
                <a:lnTo>
                  <a:pt x="696" y="1655"/>
                </a:lnTo>
                <a:lnTo>
                  <a:pt x="704" y="1661"/>
                </a:lnTo>
                <a:lnTo>
                  <a:pt x="713" y="1667"/>
                </a:lnTo>
                <a:lnTo>
                  <a:pt x="720" y="1674"/>
                </a:lnTo>
                <a:lnTo>
                  <a:pt x="728" y="1679"/>
                </a:lnTo>
                <a:lnTo>
                  <a:pt x="735" y="1685"/>
                </a:lnTo>
                <a:lnTo>
                  <a:pt x="744" y="1691"/>
                </a:lnTo>
                <a:lnTo>
                  <a:pt x="751" y="1696"/>
                </a:lnTo>
                <a:lnTo>
                  <a:pt x="758" y="1702"/>
                </a:lnTo>
                <a:lnTo>
                  <a:pt x="764" y="1707"/>
                </a:lnTo>
                <a:lnTo>
                  <a:pt x="771" y="1711"/>
                </a:lnTo>
                <a:lnTo>
                  <a:pt x="775" y="1715"/>
                </a:lnTo>
                <a:lnTo>
                  <a:pt x="781" y="1718"/>
                </a:lnTo>
                <a:lnTo>
                  <a:pt x="784" y="1721"/>
                </a:lnTo>
                <a:lnTo>
                  <a:pt x="788" y="1722"/>
                </a:lnTo>
                <a:lnTo>
                  <a:pt x="790" y="1725"/>
                </a:lnTo>
                <a:lnTo>
                  <a:pt x="793" y="1727"/>
                </a:lnTo>
                <a:lnTo>
                  <a:pt x="797" y="1729"/>
                </a:lnTo>
                <a:lnTo>
                  <a:pt x="803" y="1731"/>
                </a:lnTo>
                <a:lnTo>
                  <a:pt x="808" y="1735"/>
                </a:lnTo>
                <a:lnTo>
                  <a:pt x="813" y="1737"/>
                </a:lnTo>
                <a:lnTo>
                  <a:pt x="819" y="1741"/>
                </a:lnTo>
                <a:lnTo>
                  <a:pt x="827" y="1742"/>
                </a:lnTo>
                <a:lnTo>
                  <a:pt x="832" y="1746"/>
                </a:lnTo>
                <a:lnTo>
                  <a:pt x="839" y="1749"/>
                </a:lnTo>
                <a:lnTo>
                  <a:pt x="845" y="1752"/>
                </a:lnTo>
                <a:lnTo>
                  <a:pt x="852" y="1754"/>
                </a:lnTo>
                <a:lnTo>
                  <a:pt x="858" y="1758"/>
                </a:lnTo>
                <a:lnTo>
                  <a:pt x="865" y="1760"/>
                </a:lnTo>
                <a:lnTo>
                  <a:pt x="871" y="1762"/>
                </a:lnTo>
                <a:lnTo>
                  <a:pt x="878" y="1763"/>
                </a:lnTo>
                <a:lnTo>
                  <a:pt x="883" y="1767"/>
                </a:lnTo>
                <a:lnTo>
                  <a:pt x="891" y="1769"/>
                </a:lnTo>
                <a:lnTo>
                  <a:pt x="898" y="1772"/>
                </a:lnTo>
                <a:lnTo>
                  <a:pt x="908" y="1774"/>
                </a:lnTo>
                <a:lnTo>
                  <a:pt x="917" y="1778"/>
                </a:lnTo>
                <a:lnTo>
                  <a:pt x="927" y="1781"/>
                </a:lnTo>
                <a:lnTo>
                  <a:pt x="938" y="1785"/>
                </a:lnTo>
                <a:lnTo>
                  <a:pt x="949" y="1787"/>
                </a:lnTo>
                <a:lnTo>
                  <a:pt x="959" y="1790"/>
                </a:lnTo>
                <a:lnTo>
                  <a:pt x="971" y="1794"/>
                </a:lnTo>
                <a:lnTo>
                  <a:pt x="982" y="1798"/>
                </a:lnTo>
                <a:lnTo>
                  <a:pt x="993" y="1800"/>
                </a:lnTo>
                <a:lnTo>
                  <a:pt x="1003" y="1804"/>
                </a:lnTo>
                <a:lnTo>
                  <a:pt x="1015" y="1806"/>
                </a:lnTo>
                <a:lnTo>
                  <a:pt x="1024" y="1809"/>
                </a:lnTo>
                <a:lnTo>
                  <a:pt x="1034" y="1811"/>
                </a:lnTo>
                <a:lnTo>
                  <a:pt x="1043" y="1814"/>
                </a:lnTo>
                <a:lnTo>
                  <a:pt x="1052" y="1816"/>
                </a:lnTo>
                <a:lnTo>
                  <a:pt x="1063" y="1819"/>
                </a:lnTo>
                <a:lnTo>
                  <a:pt x="1074" y="1820"/>
                </a:lnTo>
                <a:lnTo>
                  <a:pt x="1085" y="1824"/>
                </a:lnTo>
                <a:lnTo>
                  <a:pt x="1097" y="1826"/>
                </a:lnTo>
                <a:lnTo>
                  <a:pt x="1109" y="1828"/>
                </a:lnTo>
                <a:lnTo>
                  <a:pt x="1123" y="1830"/>
                </a:lnTo>
                <a:lnTo>
                  <a:pt x="1134" y="1833"/>
                </a:lnTo>
                <a:lnTo>
                  <a:pt x="1145" y="1835"/>
                </a:lnTo>
                <a:lnTo>
                  <a:pt x="1157" y="1837"/>
                </a:lnTo>
                <a:lnTo>
                  <a:pt x="1169" y="1838"/>
                </a:lnTo>
                <a:lnTo>
                  <a:pt x="1178" y="1840"/>
                </a:lnTo>
                <a:lnTo>
                  <a:pt x="1189" y="1842"/>
                </a:lnTo>
                <a:lnTo>
                  <a:pt x="1197" y="1844"/>
                </a:lnTo>
                <a:lnTo>
                  <a:pt x="1206" y="1844"/>
                </a:lnTo>
                <a:lnTo>
                  <a:pt x="1213" y="1846"/>
                </a:lnTo>
                <a:lnTo>
                  <a:pt x="1223" y="1846"/>
                </a:lnTo>
                <a:lnTo>
                  <a:pt x="1233" y="1848"/>
                </a:lnTo>
                <a:lnTo>
                  <a:pt x="1244" y="1848"/>
                </a:lnTo>
                <a:lnTo>
                  <a:pt x="1255" y="1850"/>
                </a:lnTo>
                <a:lnTo>
                  <a:pt x="1267" y="1850"/>
                </a:lnTo>
                <a:lnTo>
                  <a:pt x="1279" y="1851"/>
                </a:lnTo>
                <a:lnTo>
                  <a:pt x="1292" y="1851"/>
                </a:lnTo>
                <a:lnTo>
                  <a:pt x="1303" y="1853"/>
                </a:lnTo>
                <a:lnTo>
                  <a:pt x="1317" y="1853"/>
                </a:lnTo>
                <a:lnTo>
                  <a:pt x="1328" y="1855"/>
                </a:lnTo>
                <a:lnTo>
                  <a:pt x="1341" y="1855"/>
                </a:lnTo>
                <a:lnTo>
                  <a:pt x="1353" y="1857"/>
                </a:lnTo>
                <a:lnTo>
                  <a:pt x="1365" y="1857"/>
                </a:lnTo>
                <a:lnTo>
                  <a:pt x="1375" y="1857"/>
                </a:lnTo>
                <a:lnTo>
                  <a:pt x="1385" y="1857"/>
                </a:lnTo>
                <a:lnTo>
                  <a:pt x="1394" y="1859"/>
                </a:lnTo>
                <a:lnTo>
                  <a:pt x="1404" y="1859"/>
                </a:lnTo>
                <a:lnTo>
                  <a:pt x="1415" y="1859"/>
                </a:lnTo>
                <a:lnTo>
                  <a:pt x="1427" y="1859"/>
                </a:lnTo>
                <a:lnTo>
                  <a:pt x="1438" y="1861"/>
                </a:lnTo>
                <a:lnTo>
                  <a:pt x="1451" y="1861"/>
                </a:lnTo>
                <a:lnTo>
                  <a:pt x="1464" y="1861"/>
                </a:lnTo>
                <a:lnTo>
                  <a:pt x="1477" y="1861"/>
                </a:lnTo>
                <a:lnTo>
                  <a:pt x="1488" y="1862"/>
                </a:lnTo>
                <a:lnTo>
                  <a:pt x="1501" y="1862"/>
                </a:lnTo>
                <a:lnTo>
                  <a:pt x="1513" y="1862"/>
                </a:lnTo>
                <a:lnTo>
                  <a:pt x="1525" y="1862"/>
                </a:lnTo>
                <a:lnTo>
                  <a:pt x="1535" y="1862"/>
                </a:lnTo>
                <a:lnTo>
                  <a:pt x="1545" y="1862"/>
                </a:lnTo>
                <a:lnTo>
                  <a:pt x="1555" y="1862"/>
                </a:lnTo>
                <a:lnTo>
                  <a:pt x="1564" y="1862"/>
                </a:lnTo>
                <a:lnTo>
                  <a:pt x="1571" y="1862"/>
                </a:lnTo>
                <a:lnTo>
                  <a:pt x="1575" y="1862"/>
                </a:lnTo>
                <a:lnTo>
                  <a:pt x="1579" y="1862"/>
                </a:lnTo>
                <a:lnTo>
                  <a:pt x="1582" y="1862"/>
                </a:lnTo>
                <a:lnTo>
                  <a:pt x="1583" y="1862"/>
                </a:lnTo>
                <a:lnTo>
                  <a:pt x="1585" y="1862"/>
                </a:lnTo>
                <a:lnTo>
                  <a:pt x="1587" y="1862"/>
                </a:lnTo>
                <a:lnTo>
                  <a:pt x="1589" y="1862"/>
                </a:lnTo>
                <a:lnTo>
                  <a:pt x="1591" y="1862"/>
                </a:lnTo>
                <a:lnTo>
                  <a:pt x="1593" y="1862"/>
                </a:lnTo>
                <a:lnTo>
                  <a:pt x="1597" y="1862"/>
                </a:lnTo>
                <a:lnTo>
                  <a:pt x="1603" y="1862"/>
                </a:lnTo>
                <a:lnTo>
                  <a:pt x="1609" y="1862"/>
                </a:lnTo>
                <a:lnTo>
                  <a:pt x="1619" y="1862"/>
                </a:lnTo>
                <a:lnTo>
                  <a:pt x="1629" y="1862"/>
                </a:lnTo>
                <a:lnTo>
                  <a:pt x="1643" y="1862"/>
                </a:lnTo>
              </a:path>
            </a:pathLst>
          </a:custGeom>
          <a:noFill/>
          <a:ln w="4752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377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qui la tasa marginal de sustitución de Crusoe se iguala con la tasa marginal de transformación de la is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640080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133720"/>
            <a:ext cx="1295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7432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71629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9480" y="1957320"/>
            <a:ext cx="2989080" cy="3376800"/>
          </a:xfrm>
          <a:custGeom>
            <a:avLst/>
            <a:gdLst/>
            <a:ahLst/>
            <a:rect l="l" t="t" r="r" b="b"/>
            <a:pathLst>
              <a:path w="1883" h="2127">
                <a:moveTo>
                  <a:pt x="0" y="0"/>
                </a:moveTo>
                <a:lnTo>
                  <a:pt x="1" y="19"/>
                </a:lnTo>
                <a:lnTo>
                  <a:pt x="3" y="33"/>
                </a:lnTo>
                <a:lnTo>
                  <a:pt x="3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8"/>
                </a:lnTo>
                <a:lnTo>
                  <a:pt x="7" y="70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8" y="78"/>
                </a:lnTo>
                <a:lnTo>
                  <a:pt x="8" y="82"/>
                </a:lnTo>
                <a:lnTo>
                  <a:pt x="8" y="86"/>
                </a:lnTo>
                <a:lnTo>
                  <a:pt x="9" y="93"/>
                </a:lnTo>
                <a:lnTo>
                  <a:pt x="11" y="101"/>
                </a:lnTo>
                <a:lnTo>
                  <a:pt x="12" y="113"/>
                </a:lnTo>
                <a:lnTo>
                  <a:pt x="13" y="127"/>
                </a:lnTo>
                <a:lnTo>
                  <a:pt x="16" y="144"/>
                </a:lnTo>
                <a:lnTo>
                  <a:pt x="20" y="162"/>
                </a:lnTo>
                <a:lnTo>
                  <a:pt x="23" y="184"/>
                </a:lnTo>
                <a:lnTo>
                  <a:pt x="27" y="206"/>
                </a:lnTo>
                <a:lnTo>
                  <a:pt x="31" y="230"/>
                </a:lnTo>
                <a:lnTo>
                  <a:pt x="37" y="255"/>
                </a:lnTo>
                <a:lnTo>
                  <a:pt x="41" y="282"/>
                </a:lnTo>
                <a:lnTo>
                  <a:pt x="47" y="309"/>
                </a:lnTo>
                <a:lnTo>
                  <a:pt x="52" y="337"/>
                </a:lnTo>
                <a:lnTo>
                  <a:pt x="58" y="364"/>
                </a:lnTo>
                <a:lnTo>
                  <a:pt x="64" y="392"/>
                </a:lnTo>
                <a:lnTo>
                  <a:pt x="70" y="420"/>
                </a:lnTo>
                <a:lnTo>
                  <a:pt x="75" y="446"/>
                </a:lnTo>
                <a:lnTo>
                  <a:pt x="81" y="471"/>
                </a:lnTo>
                <a:lnTo>
                  <a:pt x="87" y="498"/>
                </a:lnTo>
                <a:lnTo>
                  <a:pt x="93" y="524"/>
                </a:lnTo>
                <a:lnTo>
                  <a:pt x="100" y="552"/>
                </a:lnTo>
                <a:lnTo>
                  <a:pt x="108" y="581"/>
                </a:lnTo>
                <a:lnTo>
                  <a:pt x="115" y="610"/>
                </a:lnTo>
                <a:lnTo>
                  <a:pt x="122" y="639"/>
                </a:lnTo>
                <a:lnTo>
                  <a:pt x="130" y="667"/>
                </a:lnTo>
                <a:lnTo>
                  <a:pt x="139" y="696"/>
                </a:lnTo>
                <a:lnTo>
                  <a:pt x="146" y="724"/>
                </a:lnTo>
                <a:lnTo>
                  <a:pt x="154" y="750"/>
                </a:lnTo>
                <a:lnTo>
                  <a:pt x="161" y="776"/>
                </a:lnTo>
                <a:lnTo>
                  <a:pt x="169" y="799"/>
                </a:lnTo>
                <a:lnTo>
                  <a:pt x="174" y="822"/>
                </a:lnTo>
                <a:lnTo>
                  <a:pt x="182" y="841"/>
                </a:lnTo>
                <a:lnTo>
                  <a:pt x="187" y="858"/>
                </a:lnTo>
                <a:lnTo>
                  <a:pt x="194" y="872"/>
                </a:lnTo>
                <a:lnTo>
                  <a:pt x="199" y="886"/>
                </a:lnTo>
                <a:lnTo>
                  <a:pt x="204" y="901"/>
                </a:lnTo>
                <a:lnTo>
                  <a:pt x="211" y="919"/>
                </a:lnTo>
                <a:lnTo>
                  <a:pt x="218" y="936"/>
                </a:lnTo>
                <a:lnTo>
                  <a:pt x="226" y="956"/>
                </a:lnTo>
                <a:lnTo>
                  <a:pt x="234" y="976"/>
                </a:lnTo>
                <a:lnTo>
                  <a:pt x="244" y="998"/>
                </a:lnTo>
                <a:lnTo>
                  <a:pt x="253" y="1018"/>
                </a:lnTo>
                <a:lnTo>
                  <a:pt x="261" y="1040"/>
                </a:lnTo>
                <a:lnTo>
                  <a:pt x="270" y="1063"/>
                </a:lnTo>
                <a:lnTo>
                  <a:pt x="280" y="1085"/>
                </a:lnTo>
                <a:lnTo>
                  <a:pt x="289" y="1106"/>
                </a:lnTo>
                <a:lnTo>
                  <a:pt x="297" y="1126"/>
                </a:lnTo>
                <a:lnTo>
                  <a:pt x="306" y="1145"/>
                </a:lnTo>
                <a:lnTo>
                  <a:pt x="315" y="1164"/>
                </a:lnTo>
                <a:lnTo>
                  <a:pt x="324" y="1180"/>
                </a:lnTo>
                <a:lnTo>
                  <a:pt x="330" y="1198"/>
                </a:lnTo>
                <a:lnTo>
                  <a:pt x="338" y="1216"/>
                </a:lnTo>
                <a:lnTo>
                  <a:pt x="346" y="1236"/>
                </a:lnTo>
                <a:lnTo>
                  <a:pt x="355" y="1255"/>
                </a:lnTo>
                <a:lnTo>
                  <a:pt x="363" y="1276"/>
                </a:lnTo>
                <a:lnTo>
                  <a:pt x="373" y="1296"/>
                </a:lnTo>
                <a:lnTo>
                  <a:pt x="382" y="1317"/>
                </a:lnTo>
                <a:lnTo>
                  <a:pt x="392" y="1337"/>
                </a:lnTo>
                <a:lnTo>
                  <a:pt x="399" y="1358"/>
                </a:lnTo>
                <a:lnTo>
                  <a:pt x="408" y="1377"/>
                </a:lnTo>
                <a:lnTo>
                  <a:pt x="416" y="1396"/>
                </a:lnTo>
                <a:lnTo>
                  <a:pt x="425" y="1413"/>
                </a:lnTo>
                <a:lnTo>
                  <a:pt x="432" y="1430"/>
                </a:lnTo>
                <a:lnTo>
                  <a:pt x="440" y="1445"/>
                </a:lnTo>
                <a:lnTo>
                  <a:pt x="445" y="1459"/>
                </a:lnTo>
                <a:lnTo>
                  <a:pt x="452" y="1469"/>
                </a:lnTo>
                <a:lnTo>
                  <a:pt x="457" y="1481"/>
                </a:lnTo>
                <a:lnTo>
                  <a:pt x="463" y="1493"/>
                </a:lnTo>
                <a:lnTo>
                  <a:pt x="470" y="1507"/>
                </a:lnTo>
                <a:lnTo>
                  <a:pt x="479" y="1520"/>
                </a:lnTo>
                <a:lnTo>
                  <a:pt x="487" y="1535"/>
                </a:lnTo>
                <a:lnTo>
                  <a:pt x="496" y="1550"/>
                </a:lnTo>
                <a:lnTo>
                  <a:pt x="506" y="1566"/>
                </a:lnTo>
                <a:lnTo>
                  <a:pt x="517" y="1581"/>
                </a:lnTo>
                <a:lnTo>
                  <a:pt x="526" y="1598"/>
                </a:lnTo>
                <a:lnTo>
                  <a:pt x="538" y="1613"/>
                </a:lnTo>
                <a:lnTo>
                  <a:pt x="547" y="1628"/>
                </a:lnTo>
                <a:lnTo>
                  <a:pt x="558" y="1643"/>
                </a:lnTo>
                <a:lnTo>
                  <a:pt x="567" y="1658"/>
                </a:lnTo>
                <a:lnTo>
                  <a:pt x="577" y="1671"/>
                </a:lnTo>
                <a:lnTo>
                  <a:pt x="587" y="1683"/>
                </a:lnTo>
                <a:lnTo>
                  <a:pt x="597" y="1693"/>
                </a:lnTo>
                <a:lnTo>
                  <a:pt x="606" y="1705"/>
                </a:lnTo>
                <a:lnTo>
                  <a:pt x="615" y="1716"/>
                </a:lnTo>
                <a:lnTo>
                  <a:pt x="626" y="1730"/>
                </a:lnTo>
                <a:lnTo>
                  <a:pt x="637" y="1741"/>
                </a:lnTo>
                <a:lnTo>
                  <a:pt x="648" y="1754"/>
                </a:lnTo>
                <a:lnTo>
                  <a:pt x="662" y="1768"/>
                </a:lnTo>
                <a:lnTo>
                  <a:pt x="675" y="1780"/>
                </a:lnTo>
                <a:lnTo>
                  <a:pt x="688" y="1792"/>
                </a:lnTo>
                <a:lnTo>
                  <a:pt x="699" y="1806"/>
                </a:lnTo>
                <a:lnTo>
                  <a:pt x="712" y="1818"/>
                </a:lnTo>
                <a:lnTo>
                  <a:pt x="724" y="1829"/>
                </a:lnTo>
                <a:lnTo>
                  <a:pt x="737" y="1840"/>
                </a:lnTo>
                <a:lnTo>
                  <a:pt x="748" y="1851"/>
                </a:lnTo>
                <a:lnTo>
                  <a:pt x="760" y="1860"/>
                </a:lnTo>
                <a:lnTo>
                  <a:pt x="769" y="1868"/>
                </a:lnTo>
                <a:lnTo>
                  <a:pt x="779" y="1875"/>
                </a:lnTo>
                <a:lnTo>
                  <a:pt x="787" y="1882"/>
                </a:lnTo>
                <a:lnTo>
                  <a:pt x="796" y="1889"/>
                </a:lnTo>
                <a:lnTo>
                  <a:pt x="806" y="1897"/>
                </a:lnTo>
                <a:lnTo>
                  <a:pt x="815" y="1902"/>
                </a:lnTo>
                <a:lnTo>
                  <a:pt x="824" y="1910"/>
                </a:lnTo>
                <a:lnTo>
                  <a:pt x="833" y="1917"/>
                </a:lnTo>
                <a:lnTo>
                  <a:pt x="842" y="1924"/>
                </a:lnTo>
                <a:lnTo>
                  <a:pt x="852" y="1930"/>
                </a:lnTo>
                <a:lnTo>
                  <a:pt x="860" y="1937"/>
                </a:lnTo>
                <a:lnTo>
                  <a:pt x="868" y="1943"/>
                </a:lnTo>
                <a:lnTo>
                  <a:pt x="876" y="1948"/>
                </a:lnTo>
                <a:lnTo>
                  <a:pt x="883" y="1953"/>
                </a:lnTo>
                <a:lnTo>
                  <a:pt x="889" y="1958"/>
                </a:lnTo>
                <a:lnTo>
                  <a:pt x="894" y="1962"/>
                </a:lnTo>
                <a:lnTo>
                  <a:pt x="899" y="1965"/>
                </a:lnTo>
                <a:lnTo>
                  <a:pt x="904" y="1966"/>
                </a:lnTo>
                <a:lnTo>
                  <a:pt x="906" y="1970"/>
                </a:lnTo>
                <a:lnTo>
                  <a:pt x="910" y="1972"/>
                </a:lnTo>
                <a:lnTo>
                  <a:pt x="915" y="1975"/>
                </a:lnTo>
                <a:lnTo>
                  <a:pt x="920" y="1977"/>
                </a:lnTo>
                <a:lnTo>
                  <a:pt x="926" y="1981"/>
                </a:lnTo>
                <a:lnTo>
                  <a:pt x="932" y="1984"/>
                </a:lnTo>
                <a:lnTo>
                  <a:pt x="939" y="1988"/>
                </a:lnTo>
                <a:lnTo>
                  <a:pt x="946" y="1990"/>
                </a:lnTo>
                <a:lnTo>
                  <a:pt x="953" y="1993"/>
                </a:lnTo>
                <a:lnTo>
                  <a:pt x="960" y="1997"/>
                </a:lnTo>
                <a:lnTo>
                  <a:pt x="968" y="2001"/>
                </a:lnTo>
                <a:lnTo>
                  <a:pt x="976" y="2004"/>
                </a:lnTo>
                <a:lnTo>
                  <a:pt x="983" y="2008"/>
                </a:lnTo>
                <a:lnTo>
                  <a:pt x="990" y="2010"/>
                </a:lnTo>
                <a:lnTo>
                  <a:pt x="997" y="2013"/>
                </a:lnTo>
                <a:lnTo>
                  <a:pt x="1005" y="2015"/>
                </a:lnTo>
                <a:lnTo>
                  <a:pt x="1012" y="2019"/>
                </a:lnTo>
                <a:lnTo>
                  <a:pt x="1020" y="2022"/>
                </a:lnTo>
                <a:lnTo>
                  <a:pt x="1028" y="2025"/>
                </a:lnTo>
                <a:lnTo>
                  <a:pt x="1039" y="2027"/>
                </a:lnTo>
                <a:lnTo>
                  <a:pt x="1050" y="2031"/>
                </a:lnTo>
                <a:lnTo>
                  <a:pt x="1062" y="2034"/>
                </a:lnTo>
                <a:lnTo>
                  <a:pt x="1074" y="2038"/>
                </a:lnTo>
                <a:lnTo>
                  <a:pt x="1086" y="2042"/>
                </a:lnTo>
                <a:lnTo>
                  <a:pt x="1098" y="2045"/>
                </a:lnTo>
                <a:lnTo>
                  <a:pt x="1112" y="2049"/>
                </a:lnTo>
                <a:lnTo>
                  <a:pt x="1124" y="2053"/>
                </a:lnTo>
                <a:lnTo>
                  <a:pt x="1137" y="2056"/>
                </a:lnTo>
                <a:lnTo>
                  <a:pt x="1148" y="2060"/>
                </a:lnTo>
                <a:lnTo>
                  <a:pt x="1162" y="2063"/>
                </a:lnTo>
                <a:lnTo>
                  <a:pt x="1173" y="2067"/>
                </a:lnTo>
                <a:lnTo>
                  <a:pt x="1184" y="2069"/>
                </a:lnTo>
                <a:lnTo>
                  <a:pt x="1193" y="2073"/>
                </a:lnTo>
                <a:lnTo>
                  <a:pt x="1204" y="2074"/>
                </a:lnTo>
                <a:lnTo>
                  <a:pt x="1217" y="2078"/>
                </a:lnTo>
                <a:lnTo>
                  <a:pt x="1230" y="2080"/>
                </a:lnTo>
                <a:lnTo>
                  <a:pt x="1243" y="2083"/>
                </a:lnTo>
                <a:lnTo>
                  <a:pt x="1257" y="2085"/>
                </a:lnTo>
                <a:lnTo>
                  <a:pt x="1270" y="2089"/>
                </a:lnTo>
                <a:lnTo>
                  <a:pt x="1285" y="2091"/>
                </a:lnTo>
                <a:lnTo>
                  <a:pt x="1298" y="2094"/>
                </a:lnTo>
                <a:lnTo>
                  <a:pt x="1312" y="2096"/>
                </a:lnTo>
                <a:lnTo>
                  <a:pt x="1325" y="2099"/>
                </a:lnTo>
                <a:lnTo>
                  <a:pt x="1338" y="2101"/>
                </a:lnTo>
                <a:lnTo>
                  <a:pt x="1349" y="2102"/>
                </a:lnTo>
                <a:lnTo>
                  <a:pt x="1361" y="2104"/>
                </a:lnTo>
                <a:lnTo>
                  <a:pt x="1371" y="2106"/>
                </a:lnTo>
                <a:lnTo>
                  <a:pt x="1382" y="2107"/>
                </a:lnTo>
                <a:lnTo>
                  <a:pt x="1390" y="2109"/>
                </a:lnTo>
                <a:lnTo>
                  <a:pt x="1400" y="2110"/>
                </a:lnTo>
                <a:lnTo>
                  <a:pt x="1411" y="2111"/>
                </a:lnTo>
                <a:lnTo>
                  <a:pt x="1424" y="2111"/>
                </a:lnTo>
                <a:lnTo>
                  <a:pt x="1437" y="2113"/>
                </a:lnTo>
                <a:lnTo>
                  <a:pt x="1450" y="2113"/>
                </a:lnTo>
                <a:lnTo>
                  <a:pt x="1464" y="2115"/>
                </a:lnTo>
                <a:lnTo>
                  <a:pt x="1479" y="2115"/>
                </a:lnTo>
                <a:lnTo>
                  <a:pt x="1492" y="2117"/>
                </a:lnTo>
                <a:lnTo>
                  <a:pt x="1507" y="2117"/>
                </a:lnTo>
                <a:lnTo>
                  <a:pt x="1520" y="2119"/>
                </a:lnTo>
                <a:lnTo>
                  <a:pt x="1535" y="2119"/>
                </a:lnTo>
                <a:lnTo>
                  <a:pt x="1548" y="2121"/>
                </a:lnTo>
                <a:lnTo>
                  <a:pt x="1562" y="2121"/>
                </a:lnTo>
                <a:lnTo>
                  <a:pt x="1573" y="2121"/>
                </a:lnTo>
                <a:lnTo>
                  <a:pt x="1586" y="2121"/>
                </a:lnTo>
                <a:lnTo>
                  <a:pt x="1596" y="2123"/>
                </a:lnTo>
                <a:lnTo>
                  <a:pt x="1608" y="2123"/>
                </a:lnTo>
                <a:lnTo>
                  <a:pt x="1621" y="2123"/>
                </a:lnTo>
                <a:lnTo>
                  <a:pt x="1634" y="2123"/>
                </a:lnTo>
                <a:lnTo>
                  <a:pt x="1648" y="2125"/>
                </a:lnTo>
                <a:lnTo>
                  <a:pt x="1662" y="2125"/>
                </a:lnTo>
                <a:lnTo>
                  <a:pt x="1676" y="2125"/>
                </a:lnTo>
                <a:lnTo>
                  <a:pt x="1691" y="2125"/>
                </a:lnTo>
                <a:lnTo>
                  <a:pt x="1704" y="2126"/>
                </a:lnTo>
                <a:lnTo>
                  <a:pt x="1719" y="2126"/>
                </a:lnTo>
                <a:lnTo>
                  <a:pt x="1732" y="2126"/>
                </a:lnTo>
                <a:lnTo>
                  <a:pt x="1746" y="2126"/>
                </a:lnTo>
                <a:lnTo>
                  <a:pt x="1757" y="2126"/>
                </a:lnTo>
                <a:lnTo>
                  <a:pt x="1769" y="2126"/>
                </a:lnTo>
                <a:lnTo>
                  <a:pt x="1779" y="2126"/>
                </a:lnTo>
                <a:lnTo>
                  <a:pt x="1789" y="2126"/>
                </a:lnTo>
                <a:lnTo>
                  <a:pt x="1796" y="2126"/>
                </a:lnTo>
                <a:lnTo>
                  <a:pt x="1802" y="2126"/>
                </a:lnTo>
                <a:lnTo>
                  <a:pt x="1806" y="2126"/>
                </a:lnTo>
                <a:lnTo>
                  <a:pt x="1810" y="2126"/>
                </a:lnTo>
                <a:lnTo>
                  <a:pt x="1812" y="2126"/>
                </a:lnTo>
                <a:lnTo>
                  <a:pt x="1814" y="2126"/>
                </a:lnTo>
                <a:lnTo>
                  <a:pt x="1815" y="2126"/>
                </a:lnTo>
                <a:lnTo>
                  <a:pt x="1818" y="2126"/>
                </a:lnTo>
                <a:lnTo>
                  <a:pt x="1820" y="2126"/>
                </a:lnTo>
                <a:lnTo>
                  <a:pt x="1823" y="2126"/>
                </a:lnTo>
                <a:lnTo>
                  <a:pt x="1827" y="2126"/>
                </a:lnTo>
                <a:lnTo>
                  <a:pt x="1834" y="2126"/>
                </a:lnTo>
                <a:lnTo>
                  <a:pt x="1842" y="2126"/>
                </a:lnTo>
                <a:lnTo>
                  <a:pt x="1852" y="2126"/>
                </a:lnTo>
                <a:lnTo>
                  <a:pt x="1865" y="2126"/>
                </a:lnTo>
                <a:lnTo>
                  <a:pt x="1882" y="2126"/>
                </a:lnTo>
              </a:path>
            </a:pathLst>
          </a:custGeom>
          <a:noFill/>
          <a:ln w="6336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53000" y="1905120"/>
            <a:ext cx="5405400" cy="2722320"/>
            <a:chOff x="4653000" y="1905120"/>
            <a:chExt cx="5405400" cy="2722320"/>
          </a:xfrm>
        </p:grpSpPr>
        <p:sp>
          <p:nvSpPr>
            <p:cNvPr id="98" name=""/>
            <p:cNvSpPr/>
            <p:nvPr/>
          </p:nvSpPr>
          <p:spPr>
            <a:xfrm flipV="1">
              <a:off x="4653000" y="1904760"/>
              <a:ext cx="5405400" cy="27223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4752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97440" y="2162160"/>
              <a:ext cx="5024520" cy="2104560"/>
              <a:chOff x="4897440" y="2162160"/>
              <a:chExt cx="5024520" cy="21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8245440" y="2317320"/>
                <a:ext cx="1600200" cy="19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97440" y="2162160"/>
                <a:ext cx="5024520" cy="21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       </a:t>
                </a:r>
                <a:r>
                  <a:rPr b="0" i="1" lang="en-GB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i="1" lang="en-GB" sz="62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GB" sz="6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953240" y="2314080"/>
                <a:ext cx="2530440" cy="19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____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78760" y="2750760"/>
                <a:ext cx="601560" cy="10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6477120" y="4343400"/>
            <a:ext cx="2057400" cy="762120"/>
          </a:xfrm>
          <a:prstGeom prst="wedgeRoundRectCallout">
            <a:avLst>
              <a:gd name="adj1" fmla="val -76078"/>
              <a:gd name="adj2" fmla="val 145208"/>
              <a:gd name="adj3" fmla="val 16667"/>
            </a:avLst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172200"/>
            <a:ext cx="2057400" cy="762120"/>
          </a:xfrm>
          <a:prstGeom prst="wedgeRoundRectCallout">
            <a:avLst>
              <a:gd name="adj1" fmla="val 67129"/>
              <a:gd name="adj2" fmla="val -96458"/>
              <a:gd name="adj3" fmla="val 16667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M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8120" y="3805200"/>
            <a:ext cx="3124080" cy="2127240"/>
            <a:chOff x="3048120" y="3805200"/>
            <a:chExt cx="3124080" cy="2127240"/>
          </a:xfrm>
        </p:grpSpPr>
        <p:sp>
          <p:nvSpPr>
            <p:cNvPr id="107" name=""/>
            <p:cNvSpPr/>
            <p:nvPr/>
          </p:nvSpPr>
          <p:spPr>
            <a:xfrm>
              <a:off x="3048120" y="3805200"/>
              <a:ext cx="3108240" cy="2062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480" y="5715000"/>
              <a:ext cx="342720" cy="21744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108" y="26"/>
                  </a:moveTo>
                  <a:lnTo>
                    <a:pt x="163" y="71"/>
                  </a:lnTo>
                  <a:lnTo>
                    <a:pt x="215" y="136"/>
                  </a:lnTo>
                  <a:lnTo>
                    <a:pt x="6" y="136"/>
                  </a:lnTo>
                  <a:lnTo>
                    <a:pt x="4" y="131"/>
                  </a:lnTo>
                  <a:lnTo>
                    <a:pt x="2" y="119"/>
                  </a:lnTo>
                  <a:lnTo>
                    <a:pt x="1" y="108"/>
                  </a:lnTo>
                  <a:lnTo>
                    <a:pt x="0" y="97"/>
                  </a:lnTo>
                  <a:lnTo>
                    <a:pt x="1" y="85"/>
                  </a:lnTo>
                  <a:lnTo>
                    <a:pt x="2" y="75"/>
                  </a:lnTo>
                  <a:lnTo>
                    <a:pt x="4" y="64"/>
                  </a:lnTo>
                  <a:lnTo>
                    <a:pt x="7" y="54"/>
                  </a:lnTo>
                  <a:lnTo>
                    <a:pt x="12" y="43"/>
                  </a:lnTo>
                  <a:lnTo>
                    <a:pt x="17" y="35"/>
                  </a:lnTo>
                  <a:lnTo>
                    <a:pt x="23" y="26"/>
                  </a:lnTo>
                  <a:lnTo>
                    <a:pt x="30" y="20"/>
                  </a:lnTo>
                  <a:lnTo>
                    <a:pt x="39" y="13"/>
                  </a:lnTo>
                  <a:lnTo>
                    <a:pt x="48" y="8"/>
                  </a:lnTo>
                  <a:lnTo>
                    <a:pt x="59" y="4"/>
                  </a:lnTo>
                  <a:lnTo>
                    <a:pt x="71" y="2"/>
                  </a:lnTo>
                  <a:lnTo>
                    <a:pt x="87" y="0"/>
                  </a:lnTo>
                  <a:lnTo>
                    <a:pt x="108" y="26"/>
                  </a:lnTo>
                  <a:lnTo>
                    <a:pt x="108" y="26"/>
                  </a:lnTo>
                </a:path>
              </a:pathLst>
            </a:custGeom>
            <a:solidFill>
              <a:srgbClr val="ff0000"/>
            </a:solidFill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8120" y="3805200"/>
            <a:ext cx="3124080" cy="2127240"/>
            <a:chOff x="3048120" y="3805200"/>
            <a:chExt cx="3124080" cy="2127240"/>
          </a:xfrm>
        </p:grpSpPr>
        <p:sp>
          <p:nvSpPr>
            <p:cNvPr id="110" name=""/>
            <p:cNvSpPr/>
            <p:nvPr/>
          </p:nvSpPr>
          <p:spPr>
            <a:xfrm>
              <a:off x="3048120" y="3805200"/>
              <a:ext cx="3108240" cy="20620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29480" y="5715000"/>
              <a:ext cx="342720" cy="217440"/>
            </a:xfrm>
            <a:custGeom>
              <a:avLst/>
              <a:gdLst/>
              <a:ahLst/>
              <a:rect l="l" t="t" r="r" b="b"/>
              <a:pathLst>
                <a:path w="216" h="137">
                  <a:moveTo>
                    <a:pt x="108" y="26"/>
                  </a:moveTo>
                  <a:lnTo>
                    <a:pt x="163" y="71"/>
                  </a:lnTo>
                  <a:lnTo>
                    <a:pt x="215" y="136"/>
                  </a:lnTo>
                  <a:lnTo>
                    <a:pt x="6" y="136"/>
                  </a:lnTo>
                  <a:lnTo>
                    <a:pt x="4" y="131"/>
                  </a:lnTo>
                  <a:lnTo>
                    <a:pt x="2" y="119"/>
                  </a:lnTo>
                  <a:lnTo>
                    <a:pt x="1" y="108"/>
                  </a:lnTo>
                  <a:lnTo>
                    <a:pt x="0" y="97"/>
                  </a:lnTo>
                  <a:lnTo>
                    <a:pt x="1" y="85"/>
                  </a:lnTo>
                  <a:lnTo>
                    <a:pt x="2" y="75"/>
                  </a:lnTo>
                  <a:lnTo>
                    <a:pt x="4" y="64"/>
                  </a:lnTo>
                  <a:lnTo>
                    <a:pt x="7" y="54"/>
                  </a:lnTo>
                  <a:lnTo>
                    <a:pt x="12" y="43"/>
                  </a:lnTo>
                  <a:lnTo>
                    <a:pt x="17" y="35"/>
                  </a:lnTo>
                  <a:lnTo>
                    <a:pt x="23" y="26"/>
                  </a:lnTo>
                  <a:lnTo>
                    <a:pt x="30" y="20"/>
                  </a:lnTo>
                  <a:lnTo>
                    <a:pt x="39" y="13"/>
                  </a:lnTo>
                  <a:lnTo>
                    <a:pt x="48" y="8"/>
                  </a:lnTo>
                  <a:lnTo>
                    <a:pt x="59" y="4"/>
                  </a:lnTo>
                  <a:lnTo>
                    <a:pt x="71" y="2"/>
                  </a:lnTo>
                  <a:lnTo>
                    <a:pt x="87" y="0"/>
                  </a:lnTo>
                  <a:lnTo>
                    <a:pt x="108" y="26"/>
                  </a:lnTo>
                  <a:lnTo>
                    <a:pt x="108" y="26"/>
                  </a:lnTo>
                </a:path>
              </a:pathLst>
            </a:custGeom>
            <a:solidFill>
              <a:srgbClr val="00ffff"/>
            </a:solidFill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651200" y="4876920"/>
            <a:ext cx="28800" cy="21960"/>
          </a:xfrm>
          <a:prstGeom prst="line">
            <a:avLst/>
          </a:prstGeom>
          <a:ln w="12708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4800" y="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MT=TMS viene de la condición de primer orden para un extre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429000"/>
            <a:ext cx="2209680" cy="1447920"/>
          </a:xfrm>
          <a:prstGeom prst="wedgeRoundRectCallout">
            <a:avLst>
              <a:gd name="adj1" fmla="val -44611"/>
              <a:gd name="adj2" fmla="val 69958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junto fact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naturaleza de la sol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2217600"/>
            <a:ext cx="8426520" cy="474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De las CPO parece que tenemos dos partes...</a:t>
            </a:r>
            <a:br>
              <a:rPr sz="3300"/>
            </a:b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Un óptimo del consumidor convencional </a:t>
            </a:r>
            <a:br>
              <a:rPr sz="3300"/>
            </a:b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lgo que se parece a un óptimo de la empresa</a:t>
            </a:r>
            <a:br>
              <a:rPr sz="3300"/>
            </a:b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¿Podemos separar estos dos pedazos...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160000">
            <a:off x="990720" y="304920"/>
            <a:ext cx="7200720" cy="6629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8500" spc="-1" strike="noStrike">
                <a:solidFill>
                  <a:srgbClr val="ff0000"/>
                </a:solidFill>
                <a:latin typeface="Brush738 BT"/>
              </a:rPr>
              <a:t>Para hacer esto debemos analizar la naturaleza de los beneficios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centralización e intercambio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125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-zación e intercamb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5334120"/>
            <a:ext cx="4539960" cy="552240"/>
            <a:chOff x="1676520" y="5334120"/>
            <a:chExt cx="4539960" cy="552240"/>
          </a:xfrm>
        </p:grpSpPr>
        <p:sp>
          <p:nvSpPr>
            <p:cNvPr id="142" name=""/>
            <p:cNvSpPr/>
            <p:nvPr/>
          </p:nvSpPr>
          <p:spPr>
            <a:xfrm>
              <a:off x="2827440" y="533412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563256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44880" y="563256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5040" y="563256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563256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7440" y="563256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4880" y="563256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9876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vexidad y separ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2112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erc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vexidad y separ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5872320"/>
            <a:ext cx="20354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eneficios (sombr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Merc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632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V="1">
            <a:off x="0" y="3727080"/>
            <a:ext cx="7696080" cy="1371600"/>
          </a:xfrm>
          <a:prstGeom prst="roundRect">
            <a:avLst>
              <a:gd name="adj" fmla="val 4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[-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=m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78640" y="4406760"/>
            <a:ext cx="1542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48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contabilidad con productos ne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66680"/>
            <a:ext cx="72010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0080"/>
                </a:solidFill>
                <a:latin typeface="Arial"/>
              </a:rPr>
              <a:t>Supongamos que los bienes  1,...,</a:t>
            </a:r>
            <a:r>
              <a:rPr b="0" i="1" lang="en-GB" sz="3000" spc="-1" strike="noStrike">
                <a:solidFill>
                  <a:srgbClr val="ff0080"/>
                </a:solidFill>
                <a:latin typeface="Arial"/>
              </a:rPr>
              <a:t>m</a:t>
            </a:r>
            <a:r>
              <a:rPr b="0" lang="en-GB" sz="3000" spc="-1" strike="noStrike">
                <a:solidFill>
                  <a:srgbClr val="ff0080"/>
                </a:solidFill>
                <a:latin typeface="Arial"/>
              </a:rPr>
              <a:t>  son insumos y que   </a:t>
            </a:r>
            <a:r>
              <a:rPr b="0" i="1" lang="en-GB" sz="3000" spc="-1" strike="noStrike">
                <a:solidFill>
                  <a:srgbClr val="ff0080"/>
                </a:solidFill>
                <a:latin typeface="Arial"/>
              </a:rPr>
              <a:t>m</a:t>
            </a:r>
            <a:r>
              <a:rPr b="0" lang="en-GB" sz="3000" spc="-1" strike="noStrike">
                <a:solidFill>
                  <a:srgbClr val="ff0080"/>
                </a:solidFill>
                <a:latin typeface="Arial"/>
              </a:rPr>
              <a:t>+1 a  </a:t>
            </a:r>
            <a:r>
              <a:rPr b="0" i="1" lang="en-GB" sz="3000" spc="-1" strike="noStrike">
                <a:solidFill>
                  <a:srgbClr val="ff0080"/>
                </a:solidFill>
                <a:latin typeface="Arial"/>
              </a:rPr>
              <a:t>n</a:t>
            </a:r>
            <a:r>
              <a:rPr b="0" lang="en-GB" sz="3000" spc="-1" strike="noStrike">
                <a:solidFill>
                  <a:srgbClr val="ff0080"/>
                </a:solidFill>
                <a:latin typeface="Arial"/>
              </a:rPr>
              <a:t>  son produc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38280" y="2907000"/>
            <a:ext cx="2787840" cy="3339720"/>
          </a:xfrm>
          <a:custGeom>
            <a:avLst/>
            <a:gdLst>
              <a:gd name="textAreaLeft" fmla="*/ 33840 w 2787840"/>
              <a:gd name="textAreaRight" fmla="*/ 2754000 w 2787840"/>
              <a:gd name="textAreaTop" fmla="*/ 33840 h 3339720"/>
              <a:gd name="textAreaBottom" fmla="*/ 3305880 h 3339720"/>
            </a:gdLst>
            <a:ahLst/>
            <a:rect l="textAreaLeft" t="textAreaTop" r="textAreaRight" b="textAreaBottom"/>
            <a:pathLst>
              <a:path w="21600" h="25875">
                <a:moveTo>
                  <a:pt x="899" y="0"/>
                </a:moveTo>
                <a:arcTo wR="899" hR="899" stAng="16200000" swAng="-5400000"/>
                <a:lnTo>
                  <a:pt x="0" y="24976"/>
                </a:lnTo>
                <a:arcTo wR="899" hR="899" stAng="10800000" swAng="-5400000"/>
                <a:lnTo>
                  <a:pt x="20701" y="25875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en-GB" sz="5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i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GB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[-</a:t>
            </a:r>
            <a:r>
              <a:rPr b="0" i="1" lang="en-GB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GB" sz="4400" spc="-1" strike="noStrike" baseline="-25000">
                <a:solidFill>
                  <a:srgbClr val="ff0000"/>
                </a:solidFill>
                <a:latin typeface="Times New Roman"/>
              </a:rPr>
              <a:t>i=m</a:t>
            </a:r>
            <a:r>
              <a:rPr b="0" lang="en-GB" sz="4400" spc="-1" strike="noStrike" baseline="-25000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4960" y="4406760"/>
            <a:ext cx="154296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18440" y="5167800"/>
            <a:ext cx="1974960" cy="2557080"/>
          </a:xfrm>
          <a:custGeom>
            <a:avLst/>
            <a:gdLst>
              <a:gd name="textAreaLeft" fmla="*/ 23760 w 1974960"/>
              <a:gd name="textAreaRight" fmla="*/ 1951200 w 1974960"/>
              <a:gd name="textAreaTop" fmla="*/ 23760 h 2557080"/>
              <a:gd name="textAreaBottom" fmla="*/ 2533320 h 2557080"/>
            </a:gdLst>
            <a:ahLst/>
            <a:rect l="textAreaLeft" t="textAreaTop" r="textAreaRight" b="textAreaBottom"/>
            <a:pathLst>
              <a:path w="21600" h="27965">
                <a:moveTo>
                  <a:pt x="899" y="0"/>
                </a:moveTo>
                <a:arcTo wR="899" hR="899" stAng="16200000" swAng="-5400000"/>
                <a:lnTo>
                  <a:pt x="0" y="27066"/>
                </a:lnTo>
                <a:arcTo wR="899" hR="899" stAng="10800000" swAng="-5400000"/>
                <a:lnTo>
                  <a:pt x="20701" y="27965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ff"/>
                </a:solidFill>
                <a:latin typeface="Symbol"/>
                <a:ea typeface="Symbol"/>
              </a:rPr>
              <a:t></a:t>
            </a:r>
            <a:r>
              <a:rPr b="0" i="1" lang="en-GB" sz="4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i="1" lang="en-GB" sz="4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ff"/>
                </a:solidFill>
                <a:latin typeface="Times New Roman"/>
              </a:rPr>
              <a:t> y</a:t>
            </a: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GB" sz="4400" spc="-1" strike="noStrike" baseline="-25000">
                <a:solidFill>
                  <a:srgbClr val="0000ff"/>
                </a:solidFill>
                <a:latin typeface="Times New Roman"/>
              </a:rPr>
              <a:t>i=</a:t>
            </a:r>
            <a:r>
              <a:rPr b="0" lang="en-GB" sz="4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2480" y="2593800"/>
            <a:ext cx="1819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32240" y="1018440"/>
            <a:ext cx="2344680" cy="3158280"/>
          </a:xfrm>
          <a:custGeom>
            <a:avLst/>
            <a:gdLst>
              <a:gd name="textAreaLeft" fmla="*/ 28440 w 2344680"/>
              <a:gd name="textAreaRight" fmla="*/ 2316240 w 2344680"/>
              <a:gd name="textAreaTop" fmla="*/ 28440 h 3158280"/>
              <a:gd name="textAreaBottom" fmla="*/ 3129840 h 3158280"/>
            </a:gdLst>
            <a:ahLst/>
            <a:rect l="textAreaLeft" t="textAreaTop" r="textAreaRight" b="textAreaBottom"/>
            <a:pathLst>
              <a:path w="21600" h="29094">
                <a:moveTo>
                  <a:pt x="899" y="0"/>
                </a:moveTo>
                <a:arcTo wR="899" hR="899" stAng="16200000" swAng="-5400000"/>
                <a:lnTo>
                  <a:pt x="0" y="28195"/>
                </a:lnTo>
                <a:arcTo wR="899" hR="899" stAng="10800000" swAng="-5400000"/>
                <a:lnTo>
                  <a:pt x="20701" y="29094"/>
                </a:lnTo>
                <a:arcTo wR="899" hR="899" stAng="5400000" swAng="-5400000"/>
                <a:lnTo>
                  <a:pt x="21600" y="899"/>
                </a:lnTo>
                <a:arcTo wR="899" hR="89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=m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70760" y="5715000"/>
            <a:ext cx="2604960" cy="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2160" y="5727600"/>
            <a:ext cx="5411880" cy="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6781680"/>
            <a:ext cx="317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Benef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36840" y="4189320"/>
            <a:ext cx="4195800" cy="2203560"/>
          </a:xfrm>
          <a:custGeom>
            <a:avLst/>
            <a:gdLst/>
            <a:ahLst/>
            <a:rect l="l" t="t" r="r" b="b"/>
            <a:pathLst>
              <a:path w="2643" h="1388">
                <a:moveTo>
                  <a:pt x="0" y="1082"/>
                </a:moveTo>
                <a:lnTo>
                  <a:pt x="1553" y="178"/>
                </a:lnTo>
                <a:lnTo>
                  <a:pt x="1347" y="0"/>
                </a:lnTo>
                <a:lnTo>
                  <a:pt x="2590" y="91"/>
                </a:lnTo>
                <a:lnTo>
                  <a:pt x="2642" y="798"/>
                </a:lnTo>
                <a:lnTo>
                  <a:pt x="2441" y="673"/>
                </a:lnTo>
                <a:lnTo>
                  <a:pt x="472" y="1387"/>
                </a:lnTo>
                <a:lnTo>
                  <a:pt x="0" y="1082"/>
                </a:lnTo>
                <a:lnTo>
                  <a:pt x="0" y="108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1e1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82840" y="4363920"/>
            <a:ext cx="3929040" cy="26434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876920"/>
            <a:ext cx="3276360" cy="210024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63760" y="3657600"/>
            <a:ext cx="4708440" cy="31240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971800"/>
            <a:ext cx="4708440" cy="31240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286000"/>
            <a:ext cx="4708440" cy="3124080"/>
          </a:xfrm>
          <a:prstGeom prst="line">
            <a:avLst/>
          </a:prstGeom>
          <a:ln w="3816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46040" y="727200"/>
            <a:ext cx="94536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linea de iso-benefici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82840" y="2467080"/>
            <a:ext cx="0" cy="454032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82840" y="7007400"/>
            <a:ext cx="48006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3886200"/>
            <a:ext cx="6858000" cy="1219320"/>
          </a:xfrm>
          <a:prstGeom prst="wedgeRoundRectCallout">
            <a:avLst>
              <a:gd name="adj1" fmla="val -56458"/>
              <a:gd name="adj2" fmla="val 119009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cons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9080" y="179424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4960" y="65185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45720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ineas de iso-beneficio mas y mas alt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2057400"/>
            <a:ext cx="5257800" cy="914400"/>
          </a:xfrm>
          <a:prstGeom prst="wedgeRoundRectCallout">
            <a:avLst>
              <a:gd name="adj1" fmla="val -66453"/>
              <a:gd name="adj2" fmla="val 119444"/>
              <a:gd name="adj3" fmla="val 16667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2840" y="5407200"/>
            <a:ext cx="2496960" cy="1600200"/>
          </a:xfrm>
          <a:prstGeom prst="line">
            <a:avLst/>
          </a:prstGeom>
          <a:ln w="316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00:20:44Z</dcterms:created>
  <dc:creator>FERNANDO VICTOR TOW</dc:creator>
  <dc:description/>
  <dc:language>en-US</dc:language>
  <cp:lastModifiedBy>FERNANDO VICTOR TOW</cp:lastModifiedBy>
  <dcterms:modified xsi:type="dcterms:W3CDTF">1998-09-26T22:58:30Z</dcterms:modified>
  <cp:revision>3</cp:revision>
  <dc:subject/>
  <dc:title>Capitulo II equilibrio General</dc:title>
</cp:coreProperties>
</file>