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7.wmf" ContentType="image/x-wmf"/>
  <Override PartName="/ppt/media/image16.png" ContentType="image/png"/>
  <Override PartName="/ppt/media/image25.wmf" ContentType="image/x-wmf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CF0B-2622-4507-A466-1DE43F8FA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13880"/>
            <a:ext cx="822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A6A9-9270-4613-AC5D-2602E972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1388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1388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A496-1DA9-44C2-ABDB-F43383A25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03184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03184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1388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1388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1388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D717-F1B4-436B-A240-DCEED9CCB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031840"/>
            <a:ext cx="822960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CE4C-4615-4CA8-981C-33506737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0D39-9B65-4CBC-A790-79769FE3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158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031840"/>
            <a:ext cx="40158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CE2C-07D3-4FFB-B3BC-E636A60B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AD40-D9D2-4ECF-B9EB-33152590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E88C-B35A-40DC-9E05-C2DFCAB1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031840"/>
            <a:ext cx="40158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1388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7E86-6A75-4666-942B-57000D2D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158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1388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F2E5-A0A4-46FC-858C-00C696B0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13880"/>
            <a:ext cx="822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C4F3-EE47-47B2-AC2F-B8B3032B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031840"/>
            <a:ext cx="82296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708660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9000" y="70866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708660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60BD-8DC7-49E3-B525-BF5D300D3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1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2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image" Target="../media/image1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2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2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497040" y="4435200"/>
            <a:ext cx="38941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Capitulo I.II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46040" y="739800"/>
            <a:ext cx="9453600" cy="12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9000"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l concepto “producción neta” ayuda a clarificar algunos problemas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5680" y="5330880"/>
            <a:ext cx="452916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buClr>
                <a:srgbClr val="000080"/>
              </a:buClr>
              <a:buSzPct val="9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Arial"/>
              </a:rPr>
              <a:t>agregación de proce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7600" y="2835360"/>
            <a:ext cx="487188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buClr>
                <a:srgbClr val="000080"/>
              </a:buClr>
              <a:buSzPct val="9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Arial"/>
              </a:rPr>
              <a:t>ambigüedad en la definición de algunos bie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24280" y="5295960"/>
            <a:ext cx="513252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ff0000"/>
                </a:solidFill>
                <a:latin typeface="Brush738 BT"/>
              </a:rPr>
              <a:t>¿Cómo sumamos “mis” insumos y “tus” productos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883120" y="2860560"/>
            <a:ext cx="390852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ff0000"/>
                </a:solidFill>
                <a:latin typeface="Brush738 BT"/>
              </a:rPr>
              <a:t>el papel ¿es un insumo o un producto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6705720" y="1760400"/>
            <a:ext cx="3149640" cy="5554800"/>
            <a:chOff x="6705720" y="1760400"/>
            <a:chExt cx="3149640" cy="5554800"/>
          </a:xfrm>
        </p:grpSpPr>
        <p:sp>
          <p:nvSpPr>
            <p:cNvPr id="189" name=""/>
            <p:cNvSpPr/>
            <p:nvPr/>
          </p:nvSpPr>
          <p:spPr>
            <a:xfrm>
              <a:off x="7640640" y="1760400"/>
              <a:ext cx="155412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Producción ne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05720" y="2590920"/>
              <a:ext cx="3149640" cy="944280"/>
            </a:xfrm>
            <a:prstGeom prst="rect">
              <a:avLst/>
            </a:prstGeom>
            <a:solidFill>
              <a:srgbClr val="ffff99"/>
            </a:solidFill>
            <a:ln w="50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ff"/>
                  </a:solidFill>
                  <a:latin typeface="Times New Roman"/>
                </a:rPr>
                <a:t>y</a:t>
              </a:r>
              <a:r>
                <a:rPr b="1" lang="en-US" sz="4800" spc="-1" strike="noStrike" baseline="-25000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705720" y="3535200"/>
              <a:ext cx="3149640" cy="944640"/>
            </a:xfrm>
            <a:prstGeom prst="rect">
              <a:avLst/>
            </a:prstGeom>
            <a:solidFill>
              <a:srgbClr val="ffff99"/>
            </a:solidFill>
            <a:ln w="50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ff"/>
                  </a:solidFill>
                  <a:latin typeface="Times New Roman"/>
                </a:rPr>
                <a:t>y</a:t>
              </a:r>
              <a:r>
                <a:rPr b="1" lang="en-US" sz="48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05720" y="4479840"/>
              <a:ext cx="3149640" cy="946080"/>
            </a:xfrm>
            <a:prstGeom prst="rect">
              <a:avLst/>
            </a:prstGeom>
            <a:solidFill>
              <a:srgbClr val="ffff99"/>
            </a:solidFill>
            <a:ln w="50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ff"/>
                  </a:solidFill>
                  <a:latin typeface="Times New Roman"/>
                </a:rPr>
                <a:t>..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705720" y="5425920"/>
              <a:ext cx="3149640" cy="944640"/>
            </a:xfrm>
            <a:prstGeom prst="rect">
              <a:avLst/>
            </a:prstGeom>
            <a:solidFill>
              <a:srgbClr val="ffff99"/>
            </a:solidFill>
            <a:ln w="50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ff"/>
                  </a:solidFill>
                  <a:latin typeface="Times New Roman"/>
                </a:rPr>
                <a:t>..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05720" y="6370560"/>
              <a:ext cx="3149640" cy="944640"/>
            </a:xfrm>
            <a:prstGeom prst="rect">
              <a:avLst/>
            </a:prstGeom>
            <a:solidFill>
              <a:srgbClr val="ffff99"/>
            </a:solidFill>
            <a:ln w="50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4800" spc="-1" strike="noStrike">
                  <a:solidFill>
                    <a:srgbClr val="0000ff"/>
                  </a:solidFill>
                  <a:latin typeface="Times New Roman"/>
                </a:rPr>
                <a:t>y</a:t>
              </a:r>
              <a:r>
                <a:rPr b="1" i="1" lang="en-GB" sz="4800" spc="-1" strike="noStrike" baseline="-25000">
                  <a:solidFill>
                    <a:srgbClr val="0000ff"/>
                  </a:solidFill>
                  <a:latin typeface="Times New Roman"/>
                </a:rPr>
                <a:t>n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80880" y="2090880"/>
            <a:ext cx="3149640" cy="5224320"/>
            <a:chOff x="380880" y="2090880"/>
            <a:chExt cx="3149640" cy="5224320"/>
          </a:xfrm>
        </p:grpSpPr>
        <p:sp>
          <p:nvSpPr>
            <p:cNvPr id="196" name=""/>
            <p:cNvSpPr/>
            <p:nvPr/>
          </p:nvSpPr>
          <p:spPr>
            <a:xfrm>
              <a:off x="380880" y="6370560"/>
              <a:ext cx="3149640" cy="944640"/>
            </a:xfrm>
            <a:prstGeom prst="rect">
              <a:avLst/>
            </a:prstGeom>
            <a:solidFill>
              <a:srgbClr val="ffff99"/>
            </a:solidFill>
            <a:ln w="50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0880" y="2590920"/>
              <a:ext cx="3149640" cy="944280"/>
            </a:xfrm>
            <a:prstGeom prst="rect">
              <a:avLst/>
            </a:prstGeom>
            <a:solidFill>
              <a:srgbClr val="ffff99"/>
            </a:solidFill>
            <a:ln w="50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80880" y="3535200"/>
              <a:ext cx="3149640" cy="944640"/>
            </a:xfrm>
            <a:prstGeom prst="rect">
              <a:avLst/>
            </a:prstGeom>
            <a:solidFill>
              <a:srgbClr val="ffff99"/>
            </a:solidFill>
            <a:ln w="50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0880" y="4479840"/>
              <a:ext cx="3149640" cy="946080"/>
            </a:xfrm>
            <a:prstGeom prst="rect">
              <a:avLst/>
            </a:prstGeom>
            <a:solidFill>
              <a:srgbClr val="ffff99"/>
            </a:solidFill>
            <a:ln w="50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0880" y="5425920"/>
              <a:ext cx="3149640" cy="944640"/>
            </a:xfrm>
            <a:prstGeom prst="rect">
              <a:avLst/>
            </a:prstGeom>
            <a:solidFill>
              <a:srgbClr val="ffff99"/>
            </a:solidFill>
            <a:ln w="50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93800" y="2090880"/>
              <a:ext cx="14018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Produc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nfoque convencional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530520" y="2081160"/>
            <a:ext cx="3149640" cy="5234040"/>
            <a:chOff x="3530520" y="2081160"/>
            <a:chExt cx="3149640" cy="5234040"/>
          </a:xfrm>
        </p:grpSpPr>
        <p:sp>
          <p:nvSpPr>
            <p:cNvPr id="204" name=""/>
            <p:cNvSpPr/>
            <p:nvPr/>
          </p:nvSpPr>
          <p:spPr>
            <a:xfrm>
              <a:off x="4465800" y="2081160"/>
              <a:ext cx="13255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Insum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30520" y="2590920"/>
              <a:ext cx="3149640" cy="944280"/>
            </a:xfrm>
            <a:prstGeom prst="rect">
              <a:avLst/>
            </a:prstGeom>
            <a:solidFill>
              <a:srgbClr val="ffff99"/>
            </a:solidFill>
            <a:ln w="50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4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30520" y="3535200"/>
              <a:ext cx="3149640" cy="944640"/>
            </a:xfrm>
            <a:prstGeom prst="rect">
              <a:avLst/>
            </a:prstGeom>
            <a:solidFill>
              <a:srgbClr val="ffff99"/>
            </a:solidFill>
            <a:ln w="50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4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30520" y="4479840"/>
              <a:ext cx="3149640" cy="946080"/>
            </a:xfrm>
            <a:prstGeom prst="rect">
              <a:avLst/>
            </a:prstGeom>
            <a:solidFill>
              <a:srgbClr val="ffff99"/>
            </a:solidFill>
            <a:ln w="50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ff0000"/>
                  </a:solidFill>
                  <a:latin typeface="Times New Roman"/>
                </a:rPr>
                <a:t>..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30520" y="5425920"/>
              <a:ext cx="3149640" cy="944640"/>
            </a:xfrm>
            <a:prstGeom prst="rect">
              <a:avLst/>
            </a:prstGeom>
            <a:solidFill>
              <a:srgbClr val="ffff99"/>
            </a:solidFill>
            <a:ln w="50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48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i="1" lang="en-GB" sz="4800" spc="-1" strike="noStrike" baseline="-25000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30520" y="6370560"/>
              <a:ext cx="3149640" cy="944640"/>
            </a:xfrm>
            <a:prstGeom prst="rect">
              <a:avLst/>
            </a:prstGeom>
            <a:solidFill>
              <a:srgbClr val="ffff99"/>
            </a:solidFill>
            <a:ln w="50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98320" y="947880"/>
            <a:ext cx="94536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nfoque alternativo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905120"/>
            <a:ext cx="6477120" cy="5410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Como se relacionan los enfoques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46360" y="2211480"/>
            <a:ext cx="382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800" spc="-1" strike="noStrike">
                <a:solidFill>
                  <a:srgbClr val="000080"/>
                </a:solidFill>
                <a:latin typeface="Times New Roman"/>
              </a:rPr>
              <a:t>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10400" y="6072120"/>
            <a:ext cx="109836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35520" y="2550960"/>
            <a:ext cx="237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8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46360" y="6004080"/>
            <a:ext cx="382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800" spc="-1" strike="noStrike">
                <a:solidFill>
                  <a:srgbClr val="000080"/>
                </a:solidFill>
                <a:latin typeface="Times New Roman"/>
              </a:rPr>
              <a:t>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35520" y="6343560"/>
            <a:ext cx="237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8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46360" y="3233880"/>
            <a:ext cx="382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800" spc="-1" strike="noStrike">
                <a:solidFill>
                  <a:srgbClr val="000080"/>
                </a:solidFill>
                <a:latin typeface="Times New Roman"/>
              </a:rPr>
              <a:t>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5520" y="3573360"/>
            <a:ext cx="237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8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46360" y="5132520"/>
            <a:ext cx="56988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80"/>
                </a:solidFill>
                <a:latin typeface="Times New Roman"/>
              </a:rPr>
              <a:t>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62880" y="2535120"/>
            <a:ext cx="237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97520" y="2219400"/>
            <a:ext cx="739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- 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562880" y="3556080"/>
            <a:ext cx="237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75520" y="5135400"/>
            <a:ext cx="5684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46360" y="4083120"/>
            <a:ext cx="56988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80"/>
                </a:solidFill>
                <a:latin typeface="Times New Roman"/>
              </a:rPr>
              <a:t>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75520" y="4067280"/>
            <a:ext cx="56844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97520" y="3216240"/>
            <a:ext cx="739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- 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81480" y="2197080"/>
            <a:ext cx="187200" cy="4657680"/>
          </a:xfrm>
          <a:custGeom>
            <a:avLst/>
            <a:gdLst/>
            <a:ahLst/>
            <a:rect l="l" t="t" r="r" b="b"/>
            <a:pathLst>
              <a:path w="118" h="2934">
                <a:moveTo>
                  <a:pt x="0" y="0"/>
                </a:moveTo>
                <a:lnTo>
                  <a:pt x="117" y="0"/>
                </a:lnTo>
                <a:lnTo>
                  <a:pt x="117" y="2933"/>
                </a:lnTo>
                <a:lnTo>
                  <a:pt x="0" y="2933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32720" y="2176560"/>
            <a:ext cx="187200" cy="4657680"/>
          </a:xfrm>
          <a:custGeom>
            <a:avLst/>
            <a:gdLst/>
            <a:ahLst/>
            <a:rect l="l" t="t" r="r" b="b"/>
            <a:pathLst>
              <a:path w="118" h="2934">
                <a:moveTo>
                  <a:pt x="0" y="0"/>
                </a:moveTo>
                <a:lnTo>
                  <a:pt x="117" y="0"/>
                </a:lnTo>
                <a:lnTo>
                  <a:pt x="117" y="2933"/>
                </a:lnTo>
                <a:lnTo>
                  <a:pt x="0" y="2933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513480" y="2176560"/>
            <a:ext cx="187200" cy="4657680"/>
          </a:xfrm>
          <a:custGeom>
            <a:avLst/>
            <a:gdLst/>
            <a:ahLst/>
            <a:rect l="l" t="t" r="r" b="b"/>
            <a:pathLst>
              <a:path w="118" h="2934">
                <a:moveTo>
                  <a:pt x="117" y="0"/>
                </a:moveTo>
                <a:lnTo>
                  <a:pt x="0" y="0"/>
                </a:lnTo>
                <a:lnTo>
                  <a:pt x="0" y="2933"/>
                </a:lnTo>
                <a:lnTo>
                  <a:pt x="117" y="2933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62240" y="2189160"/>
            <a:ext cx="187560" cy="4657680"/>
          </a:xfrm>
          <a:custGeom>
            <a:avLst/>
            <a:gdLst/>
            <a:ahLst/>
            <a:rect l="l" t="t" r="r" b="b"/>
            <a:pathLst>
              <a:path w="118" h="2934">
                <a:moveTo>
                  <a:pt x="117" y="0"/>
                </a:moveTo>
                <a:lnTo>
                  <a:pt x="0" y="0"/>
                </a:lnTo>
                <a:lnTo>
                  <a:pt x="0" y="2933"/>
                </a:lnTo>
                <a:lnTo>
                  <a:pt x="117" y="2933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29160" y="4264200"/>
            <a:ext cx="39708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33480" y="3211560"/>
            <a:ext cx="9937440" cy="1512720"/>
            <a:chOff x="33480" y="3211560"/>
            <a:chExt cx="9937440" cy="1512720"/>
          </a:xfrm>
        </p:grpSpPr>
        <p:sp>
          <p:nvSpPr>
            <p:cNvPr id="234" name=""/>
            <p:cNvSpPr/>
            <p:nvPr/>
          </p:nvSpPr>
          <p:spPr>
            <a:xfrm flipV="1">
              <a:off x="33480" y="3211200"/>
              <a:ext cx="9739080" cy="1512720"/>
            </a:xfrm>
            <a:prstGeom prst="roundRect">
              <a:avLst>
                <a:gd name="adj" fmla="val 6245"/>
              </a:avLst>
            </a:prstGeom>
            <a:solidFill>
              <a:srgbClr val="ffffc2"/>
            </a:solidFill>
            <a:ln w="31680">
              <a:solidFill>
                <a:srgbClr val="ff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257880" y="3400560"/>
              <a:ext cx="3713040" cy="9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3100" spc="-1" strike="noStrike">
                  <a:solidFill>
                    <a:srgbClr val="000000"/>
                  </a:solidFill>
                  <a:latin typeface="Brush738 BT"/>
                </a:rPr>
                <a:t>adición neta al acervo del bien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3480" y="4358880"/>
            <a:ext cx="9937440" cy="1514520"/>
            <a:chOff x="33480" y="4358880"/>
            <a:chExt cx="9937440" cy="1514520"/>
          </a:xfrm>
        </p:grpSpPr>
        <p:sp>
          <p:nvSpPr>
            <p:cNvPr id="237" name=""/>
            <p:cNvSpPr/>
            <p:nvPr/>
          </p:nvSpPr>
          <p:spPr>
            <a:xfrm flipV="1">
              <a:off x="33480" y="4358160"/>
              <a:ext cx="9739080" cy="1514520"/>
            </a:xfrm>
            <a:prstGeom prst="roundRect">
              <a:avLst>
                <a:gd name="adj" fmla="val 6245"/>
              </a:avLst>
            </a:prstGeom>
            <a:solidFill>
              <a:srgbClr val="ffffc2"/>
            </a:solidFill>
            <a:ln w="31680">
              <a:solidFill>
                <a:srgbClr val="ff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57880" y="4548240"/>
              <a:ext cx="37130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3100" spc="-1" strike="noStrike">
                  <a:solidFill>
                    <a:srgbClr val="000000"/>
                  </a:solidFill>
                  <a:latin typeface="Brush738 BT"/>
                </a:rPr>
                <a:t>reducciones al acervo del bien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Producción neta: convención de signo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3480" y="5790960"/>
            <a:ext cx="9943920" cy="1528920"/>
            <a:chOff x="33480" y="5790960"/>
            <a:chExt cx="9943920" cy="1528920"/>
          </a:xfrm>
        </p:grpSpPr>
        <p:sp>
          <p:nvSpPr>
            <p:cNvPr id="241" name=""/>
            <p:cNvSpPr/>
            <p:nvPr/>
          </p:nvSpPr>
          <p:spPr>
            <a:xfrm flipV="1">
              <a:off x="33480" y="5790240"/>
              <a:ext cx="9739080" cy="1514520"/>
            </a:xfrm>
            <a:prstGeom prst="roundRect">
              <a:avLst>
                <a:gd name="adj" fmla="val 6245"/>
              </a:avLst>
            </a:prstGeom>
            <a:solidFill>
              <a:srgbClr val="ffffc2"/>
            </a:solidFill>
            <a:ln w="31680">
              <a:solidFill>
                <a:srgbClr val="ff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53200" y="5869080"/>
              <a:ext cx="3724200" cy="14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3100" spc="-1" strike="noStrike">
                  <a:solidFill>
                    <a:srgbClr val="000000"/>
                  </a:solidFill>
                  <a:latin typeface="Brush738 BT"/>
                </a:rPr>
                <a:t>“</a:t>
              </a:r>
              <a:r>
                <a:rPr b="1" lang="en-GB" sz="3100" spc="-1" strike="noStrike">
                  <a:solidFill>
                    <a:srgbClr val="000000"/>
                  </a:solidFill>
                  <a:latin typeface="Brush738 BT"/>
                </a:rPr>
                <a:t>tus” productos y “mis” insumos se compensan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84040" y="4818240"/>
            <a:ext cx="360216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buClr>
                <a:srgbClr val="000080"/>
              </a:buClr>
              <a:buSzPct val="7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000080"/>
                </a:solidFill>
                <a:latin typeface="Arial"/>
              </a:rPr>
              <a:t>Insumo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987800" y="4840200"/>
            <a:ext cx="22392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4040" y="6130800"/>
            <a:ext cx="44974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buClr>
                <a:srgbClr val="000080"/>
              </a:buClr>
              <a:buSzPct val="7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Arial"/>
              </a:rPr>
              <a:t>bienes intermedios puro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987800" y="6154560"/>
            <a:ext cx="1969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4040" y="3524400"/>
            <a:ext cx="328140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buClr>
                <a:srgbClr val="000080"/>
              </a:buClr>
              <a:buSzPct val="7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000080"/>
                </a:solidFill>
                <a:latin typeface="Arial"/>
              </a:rPr>
              <a:t>Producto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987800" y="3546360"/>
            <a:ext cx="3970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762120" y="3809880"/>
            <a:ext cx="5790960" cy="1524240"/>
          </a:xfrm>
          <a:prstGeom prst="rect">
            <a:avLst/>
          </a:prstGeom>
          <a:solidFill>
            <a:srgbClr val="ccffff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Nuevo concepto  2: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82600" y="4235400"/>
            <a:ext cx="521820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roceso multi-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82600" y="2406600"/>
            <a:ext cx="3465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roducto ne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82600" y="6114960"/>
            <a:ext cx="56754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Curva de Trans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¿Se requiere que pensemos de vuelta...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33480" y="1676520"/>
            <a:ext cx="8426520" cy="57150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c2"/>
              </a:gs>
              <a:gs pos="100000">
                <a:srgbClr val="ccffff"/>
              </a:gs>
            </a:gsLst>
            <a:lin ang="13500000"/>
          </a:gradFill>
          <a:ln w="28440">
            <a:solidFill>
              <a:srgbClr val="00008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spcBef>
                <a:spcPts val="1939"/>
              </a:spcBef>
              <a:buClr>
                <a:srgbClr val="ff0000"/>
              </a:buClr>
              <a:buSzPct val="70000"/>
              <a:buFont typeface="Monotype Sorts" charset="2"/>
              <a:buChar char="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3100" spc="-1" strike="noStrike">
                <a:solidFill>
                  <a:srgbClr val="000080"/>
                </a:solidFill>
                <a:latin typeface="Times New Roman"/>
              </a:rPr>
              <a:t>Para una empresa que produce un solo producto , algunas cosas son evidentes..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spcBef>
                <a:spcPts val="1939"/>
              </a:spcBef>
              <a:buClr>
                <a:srgbClr val="ff0000"/>
              </a:buClr>
              <a:buSzPct val="70000"/>
              <a:buFont typeface="Monotype Sorts" charset="2"/>
              <a:buChar char="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3100" spc="-1" strike="noStrike">
                <a:solidFill>
                  <a:srgbClr val="000080"/>
                </a:solidFill>
                <a:latin typeface="Times New Roman"/>
              </a:rPr>
              <a:t>como la dirección de la producción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spcBef>
                <a:spcPts val="1939"/>
              </a:spcBef>
              <a:buClr>
                <a:srgbClr val="ff0000"/>
              </a:buClr>
              <a:buSzPct val="70000"/>
              <a:buFont typeface="Monotype Sorts" charset="2"/>
              <a:buChar char="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3100" spc="-1" strike="noStrike">
                <a:solidFill>
                  <a:srgbClr val="000080"/>
                </a:solidFill>
                <a:latin typeface="Times New Roman"/>
              </a:rPr>
              <a:t>los rendimientos a escala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spcBef>
                <a:spcPts val="1939"/>
              </a:spcBef>
              <a:buClr>
                <a:srgbClr val="ff0000"/>
              </a:buClr>
              <a:buSzPct val="70000"/>
              <a:buFont typeface="Monotype Sorts" charset="2"/>
              <a:buChar char="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3100" spc="-1" strike="noStrike">
                <a:solidFill>
                  <a:srgbClr val="000080"/>
                </a:solidFill>
                <a:latin typeface="Times New Roman"/>
              </a:rPr>
              <a:t>y los productos marginale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spcBef>
                <a:spcPts val="1939"/>
              </a:spcBef>
              <a:buClr>
                <a:srgbClr val="ff0000"/>
              </a:buClr>
              <a:buSzPct val="70000"/>
              <a:buFont typeface="Monotype Sorts" charset="2"/>
              <a:buChar char="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3100" spc="-1" strike="noStrike">
                <a:solidFill>
                  <a:srgbClr val="000080"/>
                </a:solidFill>
                <a:latin typeface="Times New Roman"/>
              </a:rPr>
              <a:t>Pero¿ cómo es respecto de los procesos multi-productos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spcBef>
                <a:spcPts val="1939"/>
              </a:spcBef>
              <a:buClr>
                <a:srgbClr val="ff0000"/>
              </a:buClr>
              <a:buSzPct val="70000"/>
              <a:buFont typeface="Monotype Sorts" charset="2"/>
              <a:buChar char="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3100" spc="-1" strike="noStrike">
                <a:solidFill>
                  <a:srgbClr val="000080"/>
                </a:solidFill>
                <a:latin typeface="Times New Roman"/>
              </a:rPr>
              <a:t>Comencemos con un ejemplo a nivel de la economía en su conjunto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19720" y="3654360"/>
            <a:ext cx="5638680" cy="1692360"/>
          </a:xfrm>
          <a:prstGeom prst="wedgeEllipseCallout">
            <a:avLst>
              <a:gd name="adj1" fmla="val -41726"/>
              <a:gd name="adj2" fmla="val 115245"/>
            </a:avLst>
          </a:prstGeom>
          <a:solidFill>
            <a:srgbClr val="ffff99"/>
          </a:solidFill>
          <a:ln w="381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pero quizas algo desagradable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945360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Un proceso para producir un bien de consumo-insum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2600" y="469800"/>
            <a:ext cx="945324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.y obtenemos tres procesos interrelacionado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724800" y="6233400"/>
            <a:ext cx="1650960" cy="1011240"/>
          </a:xfrm>
          <a:prstGeom prst="roundRect">
            <a:avLst>
              <a:gd name="adj" fmla="val 21926"/>
            </a:avLst>
          </a:prstGeom>
          <a:solidFill>
            <a:srgbClr val="e1e1e1"/>
          </a:solidFill>
          <a:ln w="19080">
            <a:solidFill>
              <a:srgbClr val="0000ff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chorizo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9800" y="6024600"/>
            <a:ext cx="3152880" cy="1361880"/>
          </a:xfrm>
          <a:prstGeom prst="ellipse">
            <a:avLst/>
          </a:prstGeom>
          <a:solidFill>
            <a:srgbClr val="ffffc2"/>
          </a:solidFill>
          <a:ln w="190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10 hrs hombre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20 cerd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53080" y="5632560"/>
            <a:ext cx="1896840" cy="4604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300" spc="-1" strike="noStrike">
                <a:solidFill>
                  <a:srgbClr val="ff0000"/>
                </a:solidFill>
                <a:latin typeface="Arial"/>
              </a:rPr>
              <a:t>Proceso III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035680" y="6243480"/>
            <a:ext cx="1627200" cy="968400"/>
            <a:chOff x="5035680" y="6243480"/>
            <a:chExt cx="1627200" cy="968400"/>
          </a:xfrm>
        </p:grpSpPr>
        <p:sp>
          <p:nvSpPr>
            <p:cNvPr id="263" name=""/>
            <p:cNvSpPr/>
            <p:nvPr/>
          </p:nvSpPr>
          <p:spPr>
            <a:xfrm>
              <a:off x="5979960" y="6243480"/>
              <a:ext cx="682920" cy="968400"/>
            </a:xfrm>
            <a:custGeom>
              <a:avLst/>
              <a:gdLst/>
              <a:ahLst/>
              <a:rect l="l" t="t" r="r" b="b"/>
              <a:pathLst>
                <a:path w="430" h="610">
                  <a:moveTo>
                    <a:pt x="0" y="152"/>
                  </a:moveTo>
                  <a:lnTo>
                    <a:pt x="0" y="152"/>
                  </a:lnTo>
                  <a:lnTo>
                    <a:pt x="0" y="458"/>
                  </a:lnTo>
                  <a:lnTo>
                    <a:pt x="73" y="458"/>
                  </a:lnTo>
                  <a:lnTo>
                    <a:pt x="73" y="609"/>
                  </a:lnTo>
                  <a:lnTo>
                    <a:pt x="429" y="303"/>
                  </a:lnTo>
                  <a:lnTo>
                    <a:pt x="73" y="0"/>
                  </a:lnTo>
                  <a:lnTo>
                    <a:pt x="73" y="152"/>
                  </a:lnTo>
                  <a:lnTo>
                    <a:pt x="0" y="152"/>
                  </a:lnTo>
                  <a:lnTo>
                    <a:pt x="0" y="152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89440" y="6485040"/>
              <a:ext cx="228600" cy="487440"/>
            </a:xfrm>
            <a:custGeom>
              <a:avLst/>
              <a:gdLst/>
              <a:ahLst/>
              <a:rect l="l" t="t" r="r" b="b"/>
              <a:pathLst>
                <a:path w="144" h="307">
                  <a:moveTo>
                    <a:pt x="143" y="0"/>
                  </a:moveTo>
                  <a:lnTo>
                    <a:pt x="143" y="0"/>
                  </a:lnTo>
                  <a:lnTo>
                    <a:pt x="143" y="306"/>
                  </a:lnTo>
                  <a:lnTo>
                    <a:pt x="0" y="306"/>
                  </a:lnTo>
                  <a:lnTo>
                    <a:pt x="0" y="0"/>
                  </a:lnTo>
                  <a:lnTo>
                    <a:pt x="143" y="0"/>
                  </a:lnTo>
                  <a:lnTo>
                    <a:pt x="143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27720" y="6485040"/>
              <a:ext cx="171360" cy="487440"/>
            </a:xfrm>
            <a:custGeom>
              <a:avLst/>
              <a:gdLst/>
              <a:ahLst/>
              <a:rect l="l" t="t" r="r" b="b"/>
              <a:pathLst>
                <a:path w="108" h="307">
                  <a:moveTo>
                    <a:pt x="107" y="0"/>
                  </a:moveTo>
                  <a:lnTo>
                    <a:pt x="107" y="0"/>
                  </a:lnTo>
                  <a:lnTo>
                    <a:pt x="107" y="306"/>
                  </a:lnTo>
                  <a:lnTo>
                    <a:pt x="0" y="306"/>
                  </a:lnTo>
                  <a:lnTo>
                    <a:pt x="0" y="0"/>
                  </a:lnTo>
                  <a:lnTo>
                    <a:pt x="107" y="0"/>
                  </a:lnTo>
                  <a:lnTo>
                    <a:pt x="107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216400" y="6485040"/>
              <a:ext cx="115920" cy="487440"/>
            </a:xfrm>
            <a:custGeom>
              <a:avLst/>
              <a:gdLst/>
              <a:ahLst/>
              <a:rect l="l" t="t" r="r" b="b"/>
              <a:pathLst>
                <a:path w="73" h="307">
                  <a:moveTo>
                    <a:pt x="72" y="0"/>
                  </a:moveTo>
                  <a:lnTo>
                    <a:pt x="72" y="0"/>
                  </a:lnTo>
                  <a:lnTo>
                    <a:pt x="72" y="306"/>
                  </a:lnTo>
                  <a:lnTo>
                    <a:pt x="0" y="306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35680" y="6485040"/>
              <a:ext cx="55440" cy="487440"/>
            </a:xfrm>
            <a:custGeom>
              <a:avLst/>
              <a:gdLst/>
              <a:ahLst/>
              <a:rect l="l" t="t" r="r" b="b"/>
              <a:pathLst>
                <a:path w="35" h="307">
                  <a:moveTo>
                    <a:pt x="34" y="0"/>
                  </a:moveTo>
                  <a:lnTo>
                    <a:pt x="34" y="0"/>
                  </a:lnTo>
                  <a:lnTo>
                    <a:pt x="34" y="306"/>
                  </a:lnTo>
                  <a:lnTo>
                    <a:pt x="0" y="30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34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 flipV="1">
            <a:off x="6792840" y="4117320"/>
            <a:ext cx="1652760" cy="1012680"/>
          </a:xfrm>
          <a:prstGeom prst="roundRect">
            <a:avLst>
              <a:gd name="adj" fmla="val 21926"/>
            </a:avLst>
          </a:prstGeom>
          <a:solidFill>
            <a:srgbClr val="e1e1e1"/>
          </a:solidFill>
          <a:ln w="19080">
            <a:solidFill>
              <a:srgbClr val="0000ff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cerdo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709640" y="3908520"/>
            <a:ext cx="3152880" cy="1361880"/>
          </a:xfrm>
          <a:prstGeom prst="ellipse">
            <a:avLst/>
          </a:prstGeom>
          <a:solidFill>
            <a:srgbClr val="ffffc2"/>
          </a:solidFill>
          <a:ln w="190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90 pap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10 hrs hombre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2 cerd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22920" y="3517920"/>
            <a:ext cx="1895400" cy="4604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300" spc="-1" strike="noStrike">
                <a:solidFill>
                  <a:srgbClr val="ff0000"/>
                </a:solidFill>
                <a:latin typeface="Arial"/>
              </a:rPr>
              <a:t>Proceso II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105520" y="4129200"/>
            <a:ext cx="1625400" cy="968400"/>
            <a:chOff x="5105520" y="4129200"/>
            <a:chExt cx="1625400" cy="968400"/>
          </a:xfrm>
        </p:grpSpPr>
        <p:sp>
          <p:nvSpPr>
            <p:cNvPr id="272" name=""/>
            <p:cNvSpPr/>
            <p:nvPr/>
          </p:nvSpPr>
          <p:spPr>
            <a:xfrm>
              <a:off x="6048360" y="4129200"/>
              <a:ext cx="682560" cy="968400"/>
            </a:xfrm>
            <a:custGeom>
              <a:avLst/>
              <a:gdLst/>
              <a:ahLst/>
              <a:rect l="l" t="t" r="r" b="b"/>
              <a:pathLst>
                <a:path w="430" h="610">
                  <a:moveTo>
                    <a:pt x="0" y="152"/>
                  </a:moveTo>
                  <a:lnTo>
                    <a:pt x="0" y="152"/>
                  </a:lnTo>
                  <a:lnTo>
                    <a:pt x="0" y="458"/>
                  </a:lnTo>
                  <a:lnTo>
                    <a:pt x="74" y="458"/>
                  </a:lnTo>
                  <a:lnTo>
                    <a:pt x="74" y="609"/>
                  </a:lnTo>
                  <a:lnTo>
                    <a:pt x="429" y="304"/>
                  </a:lnTo>
                  <a:lnTo>
                    <a:pt x="74" y="0"/>
                  </a:lnTo>
                  <a:lnTo>
                    <a:pt x="74" y="152"/>
                  </a:lnTo>
                  <a:lnTo>
                    <a:pt x="0" y="152"/>
                  </a:lnTo>
                  <a:lnTo>
                    <a:pt x="0" y="152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59280" y="4370400"/>
              <a:ext cx="228600" cy="487440"/>
            </a:xfrm>
            <a:custGeom>
              <a:avLst/>
              <a:gdLst/>
              <a:ahLst/>
              <a:rect l="l" t="t" r="r" b="b"/>
              <a:pathLst>
                <a:path w="144" h="307">
                  <a:moveTo>
                    <a:pt x="143" y="0"/>
                  </a:moveTo>
                  <a:lnTo>
                    <a:pt x="143" y="0"/>
                  </a:lnTo>
                  <a:lnTo>
                    <a:pt x="143" y="306"/>
                  </a:lnTo>
                  <a:lnTo>
                    <a:pt x="0" y="306"/>
                  </a:lnTo>
                  <a:lnTo>
                    <a:pt x="0" y="0"/>
                  </a:lnTo>
                  <a:lnTo>
                    <a:pt x="143" y="0"/>
                  </a:lnTo>
                  <a:lnTo>
                    <a:pt x="143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95760" y="4370400"/>
              <a:ext cx="173160" cy="487440"/>
            </a:xfrm>
            <a:custGeom>
              <a:avLst/>
              <a:gdLst/>
              <a:ahLst/>
              <a:rect l="l" t="t" r="r" b="b"/>
              <a:pathLst>
                <a:path w="109" h="307">
                  <a:moveTo>
                    <a:pt x="108" y="0"/>
                  </a:moveTo>
                  <a:lnTo>
                    <a:pt x="108" y="0"/>
                  </a:lnTo>
                  <a:lnTo>
                    <a:pt x="108" y="306"/>
                  </a:lnTo>
                  <a:lnTo>
                    <a:pt x="0" y="306"/>
                  </a:lnTo>
                  <a:lnTo>
                    <a:pt x="0" y="0"/>
                  </a:lnTo>
                  <a:lnTo>
                    <a:pt x="108" y="0"/>
                  </a:lnTo>
                  <a:lnTo>
                    <a:pt x="108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286240" y="4370400"/>
              <a:ext cx="115920" cy="487440"/>
            </a:xfrm>
            <a:custGeom>
              <a:avLst/>
              <a:gdLst/>
              <a:ahLst/>
              <a:rect l="l" t="t" r="r" b="b"/>
              <a:pathLst>
                <a:path w="73" h="307">
                  <a:moveTo>
                    <a:pt x="72" y="0"/>
                  </a:moveTo>
                  <a:lnTo>
                    <a:pt x="72" y="0"/>
                  </a:lnTo>
                  <a:lnTo>
                    <a:pt x="72" y="306"/>
                  </a:lnTo>
                  <a:lnTo>
                    <a:pt x="0" y="306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05520" y="4370400"/>
              <a:ext cx="55440" cy="487440"/>
            </a:xfrm>
            <a:custGeom>
              <a:avLst/>
              <a:gdLst/>
              <a:ahLst/>
              <a:rect l="l" t="t" r="r" b="b"/>
              <a:pathLst>
                <a:path w="35" h="307">
                  <a:moveTo>
                    <a:pt x="34" y="0"/>
                  </a:moveTo>
                  <a:lnTo>
                    <a:pt x="34" y="0"/>
                  </a:lnTo>
                  <a:lnTo>
                    <a:pt x="34" y="306"/>
                  </a:lnTo>
                  <a:lnTo>
                    <a:pt x="0" y="30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34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 flipV="1">
            <a:off x="6807240" y="2279520"/>
            <a:ext cx="1650960" cy="1013040"/>
          </a:xfrm>
          <a:prstGeom prst="roundRect">
            <a:avLst>
              <a:gd name="adj" fmla="val 21931"/>
            </a:avLst>
          </a:prstGeom>
          <a:solidFill>
            <a:srgbClr val="e1e1e1"/>
          </a:solidFill>
          <a:ln w="19080">
            <a:solidFill>
              <a:srgbClr val="0000ff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000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apa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4040" y="2071800"/>
            <a:ext cx="3151080" cy="1361880"/>
          </a:xfrm>
          <a:prstGeom prst="ellipse">
            <a:avLst/>
          </a:prstGeom>
          <a:solidFill>
            <a:srgbClr val="ffffc2"/>
          </a:solidFill>
          <a:ln w="190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1 unidad de tierr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10 pap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10 hrs hombr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35520" y="1679400"/>
            <a:ext cx="1897200" cy="4604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300" spc="-1" strike="noStrike">
                <a:solidFill>
                  <a:srgbClr val="ff0000"/>
                </a:solidFill>
                <a:latin typeface="Arial"/>
              </a:rPr>
              <a:t>Proceso I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5118120" y="2289240"/>
            <a:ext cx="1627200" cy="969840"/>
            <a:chOff x="5118120" y="2289240"/>
            <a:chExt cx="1627200" cy="969840"/>
          </a:xfrm>
        </p:grpSpPr>
        <p:sp>
          <p:nvSpPr>
            <p:cNvPr id="281" name=""/>
            <p:cNvSpPr/>
            <p:nvPr/>
          </p:nvSpPr>
          <p:spPr>
            <a:xfrm>
              <a:off x="6062760" y="2289240"/>
              <a:ext cx="682560" cy="969840"/>
            </a:xfrm>
            <a:custGeom>
              <a:avLst/>
              <a:gdLst/>
              <a:ahLst/>
              <a:rect l="l" t="t" r="r" b="b"/>
              <a:pathLst>
                <a:path w="430" h="611">
                  <a:moveTo>
                    <a:pt x="0" y="152"/>
                  </a:moveTo>
                  <a:lnTo>
                    <a:pt x="0" y="152"/>
                  </a:lnTo>
                  <a:lnTo>
                    <a:pt x="0" y="459"/>
                  </a:lnTo>
                  <a:lnTo>
                    <a:pt x="73" y="459"/>
                  </a:lnTo>
                  <a:lnTo>
                    <a:pt x="73" y="610"/>
                  </a:lnTo>
                  <a:lnTo>
                    <a:pt x="429" y="304"/>
                  </a:lnTo>
                  <a:lnTo>
                    <a:pt x="73" y="0"/>
                  </a:lnTo>
                  <a:lnTo>
                    <a:pt x="73" y="152"/>
                  </a:lnTo>
                  <a:lnTo>
                    <a:pt x="0" y="152"/>
                  </a:lnTo>
                  <a:lnTo>
                    <a:pt x="0" y="152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72240" y="2530440"/>
              <a:ext cx="228600" cy="488880"/>
            </a:xfrm>
            <a:custGeom>
              <a:avLst/>
              <a:gdLst/>
              <a:ahLst/>
              <a:rect l="l" t="t" r="r" b="b"/>
              <a:pathLst>
                <a:path w="144" h="308">
                  <a:moveTo>
                    <a:pt x="143" y="0"/>
                  </a:moveTo>
                  <a:lnTo>
                    <a:pt x="143" y="0"/>
                  </a:lnTo>
                  <a:lnTo>
                    <a:pt x="143" y="307"/>
                  </a:lnTo>
                  <a:lnTo>
                    <a:pt x="0" y="307"/>
                  </a:lnTo>
                  <a:lnTo>
                    <a:pt x="0" y="0"/>
                  </a:lnTo>
                  <a:lnTo>
                    <a:pt x="143" y="0"/>
                  </a:lnTo>
                  <a:lnTo>
                    <a:pt x="143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08720" y="2530440"/>
              <a:ext cx="172800" cy="488880"/>
            </a:xfrm>
            <a:custGeom>
              <a:avLst/>
              <a:gdLst/>
              <a:ahLst/>
              <a:rect l="l" t="t" r="r" b="b"/>
              <a:pathLst>
                <a:path w="109" h="308">
                  <a:moveTo>
                    <a:pt x="108" y="0"/>
                  </a:moveTo>
                  <a:lnTo>
                    <a:pt x="108" y="0"/>
                  </a:lnTo>
                  <a:lnTo>
                    <a:pt x="108" y="307"/>
                  </a:lnTo>
                  <a:lnTo>
                    <a:pt x="0" y="307"/>
                  </a:lnTo>
                  <a:lnTo>
                    <a:pt x="0" y="0"/>
                  </a:lnTo>
                  <a:lnTo>
                    <a:pt x="108" y="0"/>
                  </a:lnTo>
                  <a:lnTo>
                    <a:pt x="108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99200" y="2530440"/>
              <a:ext cx="115920" cy="488880"/>
            </a:xfrm>
            <a:custGeom>
              <a:avLst/>
              <a:gdLst/>
              <a:ahLst/>
              <a:rect l="l" t="t" r="r" b="b"/>
              <a:pathLst>
                <a:path w="73" h="308">
                  <a:moveTo>
                    <a:pt x="72" y="0"/>
                  </a:moveTo>
                  <a:lnTo>
                    <a:pt x="72" y="0"/>
                  </a:lnTo>
                  <a:lnTo>
                    <a:pt x="72" y="307"/>
                  </a:lnTo>
                  <a:lnTo>
                    <a:pt x="0" y="307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118120" y="2530440"/>
              <a:ext cx="55440" cy="488880"/>
            </a:xfrm>
            <a:custGeom>
              <a:avLst/>
              <a:gdLst/>
              <a:ahLst/>
              <a:rect l="l" t="t" r="r" b="b"/>
              <a:pathLst>
                <a:path w="35" h="308">
                  <a:moveTo>
                    <a:pt x="34" y="0"/>
                  </a:moveTo>
                  <a:lnTo>
                    <a:pt x="34" y="0"/>
                  </a:lnTo>
                  <a:lnTo>
                    <a:pt x="34" y="307"/>
                  </a:lnTo>
                  <a:lnTo>
                    <a:pt x="0" y="307"/>
                  </a:lnTo>
                  <a:lnTo>
                    <a:pt x="0" y="0"/>
                  </a:lnTo>
                  <a:lnTo>
                    <a:pt x="34" y="0"/>
                  </a:lnTo>
                  <a:lnTo>
                    <a:pt x="34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0" y="304920"/>
            <a:ext cx="945360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Agreguemos ahora un proceso para un bien intermedi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552240" y="475920"/>
            <a:ext cx="94532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l proceso combinado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724800" y="2698560"/>
            <a:ext cx="1827000" cy="4314600"/>
            <a:chOff x="6724800" y="2698560"/>
            <a:chExt cx="1827000" cy="4314600"/>
          </a:xfrm>
        </p:grpSpPr>
        <p:sp>
          <p:nvSpPr>
            <p:cNvPr id="289" name=""/>
            <p:cNvSpPr/>
            <p:nvPr/>
          </p:nvSpPr>
          <p:spPr>
            <a:xfrm flipV="1">
              <a:off x="6724800" y="2698200"/>
              <a:ext cx="1650960" cy="4314600"/>
            </a:xfrm>
            <a:custGeom>
              <a:avLst/>
              <a:gdLst>
                <a:gd name="textAreaLeft" fmla="*/ 37440 w 1650960"/>
                <a:gd name="textAreaRight" fmla="*/ 1613520 w 1650960"/>
                <a:gd name="textAreaTop" fmla="*/ 37440 h 4314600"/>
                <a:gd name="textAreaBottom" fmla="*/ 4277160 h 4314600"/>
              </a:gdLst>
              <a:ahLst/>
              <a:rect l="textAreaLeft" t="textAreaTop" r="textAreaRight" b="textAreaBottom"/>
              <a:pathLst>
                <a:path w="21600" h="56442">
                  <a:moveTo>
                    <a:pt x="1682" y="0"/>
                  </a:moveTo>
                  <a:arcTo wR="1682" hR="1682" stAng="16200000" swAng="-5400000"/>
                  <a:lnTo>
                    <a:pt x="0" y="54760"/>
                  </a:lnTo>
                  <a:arcTo wR="1682" hR="1682" stAng="10800000" swAng="-5400000"/>
                  <a:lnTo>
                    <a:pt x="19918" y="56442"/>
                  </a:lnTo>
                  <a:arcTo wR="1682" hR="1682" stAng="5400000" swAng="-5400000"/>
                  <a:lnTo>
                    <a:pt x="21600" y="1682"/>
                  </a:lnTo>
                  <a:arcTo wR="1682" hR="1682" stAng="0" swAng="-5400000"/>
                  <a:close/>
                </a:path>
              </a:pathLst>
            </a:custGeom>
            <a:solidFill>
              <a:srgbClr val="e1e1e1"/>
            </a:solidFill>
            <a:ln w="1908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32720" y="3448080"/>
              <a:ext cx="1819080" cy="282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2300" spc="-1" strike="noStrike">
                  <a:solidFill>
                    <a:srgbClr val="000000"/>
                  </a:solidFill>
                  <a:latin typeface="Arial"/>
                </a:rPr>
                <a:t>22 cerdo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23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2300" spc="-1" strike="noStrike">
                  <a:solidFill>
                    <a:srgbClr val="000000"/>
                  </a:solidFill>
                  <a:latin typeface="Arial"/>
                </a:rPr>
                <a:t>papa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2300" spc="-1" strike="noStrike">
                  <a:solidFill>
                    <a:srgbClr val="000000"/>
                  </a:solidFill>
                  <a:latin typeface="Arial"/>
                </a:rPr>
                <a:t>1000  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2300" spc="-1" strike="noStrike">
                  <a:solidFill>
                    <a:srgbClr val="000000"/>
                  </a:solidFill>
                  <a:latin typeface="Arial"/>
                </a:rPr>
                <a:t>chorizos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911840" y="4505400"/>
            <a:ext cx="1627200" cy="969840"/>
            <a:chOff x="4911840" y="4505400"/>
            <a:chExt cx="1627200" cy="969840"/>
          </a:xfrm>
        </p:grpSpPr>
        <p:sp>
          <p:nvSpPr>
            <p:cNvPr id="292" name=""/>
            <p:cNvSpPr/>
            <p:nvPr/>
          </p:nvSpPr>
          <p:spPr>
            <a:xfrm>
              <a:off x="5856120" y="4505400"/>
              <a:ext cx="682920" cy="969840"/>
            </a:xfrm>
            <a:custGeom>
              <a:avLst/>
              <a:gdLst/>
              <a:ahLst/>
              <a:rect l="l" t="t" r="r" b="b"/>
              <a:pathLst>
                <a:path w="430" h="611">
                  <a:moveTo>
                    <a:pt x="0" y="152"/>
                  </a:moveTo>
                  <a:lnTo>
                    <a:pt x="0" y="152"/>
                  </a:lnTo>
                  <a:lnTo>
                    <a:pt x="0" y="458"/>
                  </a:lnTo>
                  <a:lnTo>
                    <a:pt x="73" y="458"/>
                  </a:lnTo>
                  <a:lnTo>
                    <a:pt x="73" y="610"/>
                  </a:lnTo>
                  <a:lnTo>
                    <a:pt x="429" y="304"/>
                  </a:lnTo>
                  <a:lnTo>
                    <a:pt x="73" y="0"/>
                  </a:lnTo>
                  <a:lnTo>
                    <a:pt x="73" y="152"/>
                  </a:lnTo>
                  <a:lnTo>
                    <a:pt x="0" y="152"/>
                  </a:lnTo>
                  <a:lnTo>
                    <a:pt x="0" y="152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565600" y="4746600"/>
              <a:ext cx="228600" cy="487440"/>
            </a:xfrm>
            <a:custGeom>
              <a:avLst/>
              <a:gdLst/>
              <a:ahLst/>
              <a:rect l="l" t="t" r="r" b="b"/>
              <a:pathLst>
                <a:path w="144" h="307">
                  <a:moveTo>
                    <a:pt x="143" y="0"/>
                  </a:moveTo>
                  <a:lnTo>
                    <a:pt x="143" y="0"/>
                  </a:lnTo>
                  <a:lnTo>
                    <a:pt x="143" y="306"/>
                  </a:lnTo>
                  <a:lnTo>
                    <a:pt x="0" y="306"/>
                  </a:lnTo>
                  <a:lnTo>
                    <a:pt x="0" y="0"/>
                  </a:lnTo>
                  <a:lnTo>
                    <a:pt x="143" y="0"/>
                  </a:lnTo>
                  <a:lnTo>
                    <a:pt x="143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03880" y="4746600"/>
              <a:ext cx="171360" cy="487440"/>
            </a:xfrm>
            <a:custGeom>
              <a:avLst/>
              <a:gdLst/>
              <a:ahLst/>
              <a:rect l="l" t="t" r="r" b="b"/>
              <a:pathLst>
                <a:path w="108" h="307">
                  <a:moveTo>
                    <a:pt x="107" y="0"/>
                  </a:moveTo>
                  <a:lnTo>
                    <a:pt x="107" y="0"/>
                  </a:lnTo>
                  <a:lnTo>
                    <a:pt x="107" y="306"/>
                  </a:lnTo>
                  <a:lnTo>
                    <a:pt x="0" y="306"/>
                  </a:lnTo>
                  <a:lnTo>
                    <a:pt x="0" y="0"/>
                  </a:lnTo>
                  <a:lnTo>
                    <a:pt x="107" y="0"/>
                  </a:lnTo>
                  <a:lnTo>
                    <a:pt x="107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092560" y="4746600"/>
              <a:ext cx="115920" cy="487440"/>
            </a:xfrm>
            <a:custGeom>
              <a:avLst/>
              <a:gdLst/>
              <a:ahLst/>
              <a:rect l="l" t="t" r="r" b="b"/>
              <a:pathLst>
                <a:path w="73" h="307">
                  <a:moveTo>
                    <a:pt x="72" y="0"/>
                  </a:moveTo>
                  <a:lnTo>
                    <a:pt x="72" y="0"/>
                  </a:lnTo>
                  <a:lnTo>
                    <a:pt x="72" y="306"/>
                  </a:lnTo>
                  <a:lnTo>
                    <a:pt x="0" y="306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911840" y="4746600"/>
              <a:ext cx="55440" cy="487440"/>
            </a:xfrm>
            <a:custGeom>
              <a:avLst/>
              <a:gdLst/>
              <a:ahLst/>
              <a:rect l="l" t="t" r="r" b="b"/>
              <a:pathLst>
                <a:path w="35" h="307">
                  <a:moveTo>
                    <a:pt x="34" y="0"/>
                  </a:moveTo>
                  <a:lnTo>
                    <a:pt x="34" y="0"/>
                  </a:lnTo>
                  <a:lnTo>
                    <a:pt x="34" y="306"/>
                  </a:lnTo>
                  <a:lnTo>
                    <a:pt x="0" y="30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34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646200" y="2449440"/>
            <a:ext cx="4125960" cy="4759560"/>
            <a:chOff x="646200" y="2449440"/>
            <a:chExt cx="4125960" cy="4759560"/>
          </a:xfrm>
        </p:grpSpPr>
        <p:sp>
          <p:nvSpPr>
            <p:cNvPr id="298" name=""/>
            <p:cNvSpPr/>
            <p:nvPr/>
          </p:nvSpPr>
          <p:spPr>
            <a:xfrm>
              <a:off x="646200" y="2449440"/>
              <a:ext cx="4125960" cy="4759560"/>
            </a:xfrm>
            <a:prstGeom prst="ellipse">
              <a:avLst/>
            </a:prstGeom>
            <a:solidFill>
              <a:srgbClr val="ffffc2"/>
            </a:solidFill>
            <a:ln w="19080">
              <a:solidFill>
                <a:srgbClr val="81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643040" y="2924280"/>
              <a:ext cx="3081240" cy="36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3000" spc="-1" strike="noStrike">
                  <a:solidFill>
                    <a:srgbClr val="000000"/>
                  </a:solidFill>
                  <a:latin typeface="Arial"/>
                </a:rPr>
                <a:t>30 hrs hombr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3000" spc="-1" strike="noStrike">
                  <a:solidFill>
                    <a:srgbClr val="000000"/>
                  </a:solidFill>
                  <a:latin typeface="Arial"/>
                </a:rPr>
                <a:t>1 unidad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3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GB" sz="3000" spc="-1" strike="noStrike">
                  <a:solidFill>
                    <a:srgbClr val="000000"/>
                  </a:solidFill>
                  <a:latin typeface="Arial"/>
                </a:rPr>
                <a:t>de tierr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3000" spc="-1" strike="noStrike">
                  <a:solidFill>
                    <a:srgbClr val="000000"/>
                  </a:solidFill>
                  <a:latin typeface="Arial"/>
                </a:rPr>
                <a:t>22 cerdos 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3000" spc="-1" strike="noStrike">
                  <a:solidFill>
                    <a:srgbClr val="000000"/>
                  </a:solidFill>
                  <a:latin typeface="Arial"/>
                </a:rPr>
                <a:t>100 papa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717480" y="164880"/>
            <a:ext cx="9452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Producción neta: Proceso 1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63360" y="1069560"/>
            <a:ext cx="2924280" cy="6267600"/>
          </a:xfrm>
          <a:custGeom>
            <a:avLst/>
            <a:gdLst>
              <a:gd name="textAreaLeft" fmla="*/ 35640 w 2924280"/>
              <a:gd name="textAreaRight" fmla="*/ 2888640 w 2924280"/>
              <a:gd name="textAreaTop" fmla="*/ 35640 h 6267600"/>
              <a:gd name="textAreaBottom" fmla="*/ 6231960 h 6267600"/>
            </a:gdLst>
            <a:ahLst/>
            <a:rect l="textAreaLeft" t="textAreaTop" r="textAreaRight" b="textAreaBottom"/>
            <a:pathLst>
              <a:path w="21600" h="46292">
                <a:moveTo>
                  <a:pt x="899" y="0"/>
                </a:moveTo>
                <a:arcTo wR="899" hR="899" stAng="16200000" swAng="-5400000"/>
                <a:lnTo>
                  <a:pt x="0" y="45393"/>
                </a:lnTo>
                <a:arcTo wR="899" hR="899" stAng="10800000" swAng="-5400000"/>
                <a:lnTo>
                  <a:pt x="20701" y="46292"/>
                </a:lnTo>
                <a:arcTo wR="899" hR="899" stAng="5400000" swAng="-5400000"/>
                <a:lnTo>
                  <a:pt x="21600" y="899"/>
                </a:lnTo>
                <a:arcTo wR="899" hR="899" stAng="0" swAng="-5400000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ff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36600" y="1503360"/>
            <a:ext cx="2284200" cy="78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0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oriz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+990 pap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0 cerdo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-10 hrs hom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-1 unidad de  tie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86200" y="1927800"/>
            <a:ext cx="5791320" cy="2470320"/>
          </a:xfrm>
          <a:prstGeom prst="wedgeRoundRectCallout">
            <a:avLst>
              <a:gd name="adj1" fmla="val -73898"/>
              <a:gd name="adj2" fmla="val -10268"/>
              <a:gd name="adj3" fmla="val 16667"/>
            </a:avLst>
          </a:prstGeom>
          <a:solidFill>
            <a:srgbClr val="ffff99"/>
          </a:solidFill>
          <a:ln w="381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cosecha de 1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papas menos 10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papas de semil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717480" y="164880"/>
            <a:ext cx="9452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producción neta: Proceso 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33520" y="1504440"/>
            <a:ext cx="3571920" cy="6267600"/>
          </a:xfrm>
          <a:custGeom>
            <a:avLst/>
            <a:gdLst>
              <a:gd name="textAreaLeft" fmla="*/ 43200 w 3571920"/>
              <a:gd name="textAreaRight" fmla="*/ 3528720 w 3571920"/>
              <a:gd name="textAreaTop" fmla="*/ 43200 h 6267600"/>
              <a:gd name="textAreaBottom" fmla="*/ 6224400 h 6267600"/>
            </a:gdLst>
            <a:ahLst/>
            <a:rect l="textAreaLeft" t="textAreaTop" r="textAreaRight" b="textAreaBottom"/>
            <a:pathLst>
              <a:path w="21600" h="37900">
                <a:moveTo>
                  <a:pt x="899" y="0"/>
                </a:moveTo>
                <a:arcTo wR="899" hR="899" stAng="16200000" swAng="-5400000"/>
                <a:lnTo>
                  <a:pt x="0" y="37001"/>
                </a:lnTo>
                <a:arcTo wR="899" hR="899" stAng="10800000" swAng="-5400000"/>
                <a:lnTo>
                  <a:pt x="20701" y="37900"/>
                </a:lnTo>
                <a:arcTo wR="899" hR="899" stAng="5400000" swAng="-5400000"/>
                <a:lnTo>
                  <a:pt x="21600" y="899"/>
                </a:lnTo>
                <a:arcTo wR="899" hR="899" stAng="0" swAng="-5400000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ff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14400" y="1371600"/>
            <a:ext cx="2284560" cy="78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0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oriz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-90 pap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+20 cerdo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-10 hrs hom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0 tie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13280" y="2225160"/>
            <a:ext cx="7286760" cy="1680120"/>
          </a:xfrm>
          <a:prstGeom prst="wedgeRoundRectCallout">
            <a:avLst>
              <a:gd name="adj1" fmla="val -62828"/>
              <a:gd name="adj2" fmla="val 35087"/>
              <a:gd name="adj3" fmla="val 16667"/>
            </a:avLst>
          </a:prstGeom>
          <a:solidFill>
            <a:srgbClr val="ffff99"/>
          </a:solidFill>
          <a:ln w="381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2 cerdos dan co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 </a:t>
            </a: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resultado 20 cerdit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747360" y="4287600"/>
            <a:ext cx="88218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quilibrio General: Robinson Cruso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28680" y="1681200"/>
            <a:ext cx="775980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5200" spc="-1" strike="noStrike">
                <a:solidFill>
                  <a:srgbClr val="000000"/>
                </a:solidFill>
                <a:latin typeface="Arial"/>
              </a:rPr>
              <a:t>Microeconomía II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5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5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GB" sz="5200" spc="-1" strike="noStrike">
                <a:solidFill>
                  <a:srgbClr val="000000"/>
                </a:solidFill>
                <a:latin typeface="Arial"/>
              </a:rPr>
              <a:t>1998 -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987640" y="5022720"/>
            <a:ext cx="4119480" cy="2421000"/>
            <a:chOff x="2987640" y="5022720"/>
            <a:chExt cx="4119480" cy="2421000"/>
          </a:xfrm>
        </p:grpSpPr>
        <p:grpSp>
          <p:nvGrpSpPr>
            <p:cNvPr id="45" name=""/>
            <p:cNvGrpSpPr/>
            <p:nvPr/>
          </p:nvGrpSpPr>
          <p:grpSpPr>
            <a:xfrm>
              <a:off x="4137120" y="5710320"/>
              <a:ext cx="1287360" cy="1584360"/>
              <a:chOff x="4137120" y="5710320"/>
              <a:chExt cx="1287360" cy="1584360"/>
            </a:xfrm>
          </p:grpSpPr>
          <p:sp>
            <p:nvSpPr>
              <p:cNvPr id="46" name=""/>
              <p:cNvSpPr/>
              <p:nvPr/>
            </p:nvSpPr>
            <p:spPr>
              <a:xfrm>
                <a:off x="4334040" y="6891480"/>
                <a:ext cx="1090440" cy="403200"/>
              </a:xfrm>
              <a:custGeom>
                <a:avLst/>
                <a:gdLst/>
                <a:ahLst/>
                <a:rect l="l" t="t" r="r" b="b"/>
                <a:pathLst>
                  <a:path w="687" h="254">
                    <a:moveTo>
                      <a:pt x="0" y="253"/>
                    </a:moveTo>
                    <a:lnTo>
                      <a:pt x="686" y="253"/>
                    </a:lnTo>
                    <a:lnTo>
                      <a:pt x="573" y="173"/>
                    </a:lnTo>
                    <a:lnTo>
                      <a:pt x="617" y="44"/>
                    </a:lnTo>
                    <a:lnTo>
                      <a:pt x="552" y="161"/>
                    </a:lnTo>
                    <a:lnTo>
                      <a:pt x="544" y="191"/>
                    </a:lnTo>
                    <a:lnTo>
                      <a:pt x="551" y="134"/>
                    </a:lnTo>
                    <a:lnTo>
                      <a:pt x="558" y="74"/>
                    </a:lnTo>
                    <a:lnTo>
                      <a:pt x="576" y="23"/>
                    </a:lnTo>
                    <a:lnTo>
                      <a:pt x="545" y="64"/>
                    </a:lnTo>
                    <a:lnTo>
                      <a:pt x="519" y="151"/>
                    </a:lnTo>
                    <a:lnTo>
                      <a:pt x="513" y="198"/>
                    </a:lnTo>
                    <a:lnTo>
                      <a:pt x="386" y="44"/>
                    </a:lnTo>
                    <a:lnTo>
                      <a:pt x="365" y="95"/>
                    </a:lnTo>
                    <a:lnTo>
                      <a:pt x="304" y="51"/>
                    </a:lnTo>
                    <a:lnTo>
                      <a:pt x="250" y="0"/>
                    </a:lnTo>
                    <a:lnTo>
                      <a:pt x="288" y="64"/>
                    </a:lnTo>
                    <a:lnTo>
                      <a:pt x="380" y="117"/>
                    </a:lnTo>
                    <a:lnTo>
                      <a:pt x="288" y="79"/>
                    </a:lnTo>
                    <a:lnTo>
                      <a:pt x="192" y="74"/>
                    </a:lnTo>
                    <a:lnTo>
                      <a:pt x="168" y="86"/>
                    </a:lnTo>
                    <a:lnTo>
                      <a:pt x="221" y="86"/>
                    </a:lnTo>
                    <a:lnTo>
                      <a:pt x="296" y="106"/>
                    </a:lnTo>
                    <a:lnTo>
                      <a:pt x="185" y="108"/>
                    </a:lnTo>
                    <a:lnTo>
                      <a:pt x="255" y="126"/>
                    </a:lnTo>
                    <a:lnTo>
                      <a:pt x="332" y="119"/>
                    </a:lnTo>
                    <a:lnTo>
                      <a:pt x="362" y="126"/>
                    </a:lnTo>
                    <a:lnTo>
                      <a:pt x="408" y="167"/>
                    </a:lnTo>
                    <a:lnTo>
                      <a:pt x="324" y="137"/>
                    </a:lnTo>
                    <a:lnTo>
                      <a:pt x="367" y="188"/>
                    </a:lnTo>
                    <a:lnTo>
                      <a:pt x="282" y="159"/>
                    </a:lnTo>
                    <a:lnTo>
                      <a:pt x="221" y="145"/>
                    </a:lnTo>
                    <a:lnTo>
                      <a:pt x="188" y="145"/>
                    </a:lnTo>
                    <a:lnTo>
                      <a:pt x="292" y="182"/>
                    </a:lnTo>
                    <a:lnTo>
                      <a:pt x="341" y="227"/>
                    </a:lnTo>
                    <a:lnTo>
                      <a:pt x="221" y="182"/>
                    </a:lnTo>
                    <a:lnTo>
                      <a:pt x="292" y="223"/>
                    </a:lnTo>
                    <a:lnTo>
                      <a:pt x="166" y="191"/>
                    </a:lnTo>
                    <a:lnTo>
                      <a:pt x="221" y="217"/>
                    </a:lnTo>
                    <a:lnTo>
                      <a:pt x="112" y="198"/>
                    </a:lnTo>
                    <a:lnTo>
                      <a:pt x="229" y="234"/>
                    </a:lnTo>
                    <a:lnTo>
                      <a:pt x="68" y="225"/>
                    </a:lnTo>
                    <a:lnTo>
                      <a:pt x="0" y="253"/>
                    </a:lnTo>
                    <a:lnTo>
                      <a:pt x="0" y="253"/>
                    </a:lnTo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721400" y="5921280"/>
                <a:ext cx="479160" cy="1306440"/>
              </a:xfrm>
              <a:custGeom>
                <a:avLst/>
                <a:gdLst/>
                <a:ahLst/>
                <a:rect l="l" t="t" r="r" b="b"/>
                <a:pathLst>
                  <a:path w="302" h="823">
                    <a:moveTo>
                      <a:pt x="289" y="793"/>
                    </a:moveTo>
                    <a:lnTo>
                      <a:pt x="281" y="655"/>
                    </a:lnTo>
                    <a:lnTo>
                      <a:pt x="247" y="497"/>
                    </a:lnTo>
                    <a:lnTo>
                      <a:pt x="215" y="515"/>
                    </a:lnTo>
                    <a:lnTo>
                      <a:pt x="238" y="468"/>
                    </a:lnTo>
                    <a:lnTo>
                      <a:pt x="231" y="421"/>
                    </a:lnTo>
                    <a:lnTo>
                      <a:pt x="185" y="460"/>
                    </a:lnTo>
                    <a:lnTo>
                      <a:pt x="221" y="384"/>
                    </a:lnTo>
                    <a:lnTo>
                      <a:pt x="200" y="314"/>
                    </a:lnTo>
                    <a:lnTo>
                      <a:pt x="150" y="350"/>
                    </a:lnTo>
                    <a:lnTo>
                      <a:pt x="185" y="284"/>
                    </a:lnTo>
                    <a:lnTo>
                      <a:pt x="164" y="238"/>
                    </a:lnTo>
                    <a:lnTo>
                      <a:pt x="97" y="109"/>
                    </a:lnTo>
                    <a:lnTo>
                      <a:pt x="14" y="0"/>
                    </a:lnTo>
                    <a:lnTo>
                      <a:pt x="0" y="50"/>
                    </a:lnTo>
                    <a:lnTo>
                      <a:pt x="60" y="158"/>
                    </a:lnTo>
                    <a:lnTo>
                      <a:pt x="95" y="238"/>
                    </a:lnTo>
                    <a:lnTo>
                      <a:pt x="118" y="333"/>
                    </a:lnTo>
                    <a:lnTo>
                      <a:pt x="149" y="304"/>
                    </a:lnTo>
                    <a:lnTo>
                      <a:pt x="123" y="356"/>
                    </a:lnTo>
                    <a:lnTo>
                      <a:pt x="137" y="448"/>
                    </a:lnTo>
                    <a:lnTo>
                      <a:pt x="166" y="430"/>
                    </a:lnTo>
                    <a:lnTo>
                      <a:pt x="149" y="481"/>
                    </a:lnTo>
                    <a:lnTo>
                      <a:pt x="154" y="526"/>
                    </a:lnTo>
                    <a:lnTo>
                      <a:pt x="196" y="508"/>
                    </a:lnTo>
                    <a:lnTo>
                      <a:pt x="158" y="551"/>
                    </a:lnTo>
                    <a:lnTo>
                      <a:pt x="158" y="596"/>
                    </a:lnTo>
                    <a:lnTo>
                      <a:pt x="221" y="551"/>
                    </a:lnTo>
                    <a:lnTo>
                      <a:pt x="158" y="617"/>
                    </a:lnTo>
                    <a:lnTo>
                      <a:pt x="164" y="719"/>
                    </a:lnTo>
                    <a:lnTo>
                      <a:pt x="243" y="822"/>
                    </a:lnTo>
                    <a:lnTo>
                      <a:pt x="301" y="778"/>
                    </a:lnTo>
                    <a:lnTo>
                      <a:pt x="289" y="793"/>
                    </a:lnTo>
                    <a:lnTo>
                      <a:pt x="289" y="793"/>
                    </a:lnTo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556160" y="5880240"/>
                <a:ext cx="595440" cy="561960"/>
              </a:xfrm>
              <a:custGeom>
                <a:avLst/>
                <a:gdLst/>
                <a:ahLst/>
                <a:rect l="l" t="t" r="r" b="b"/>
                <a:pathLst>
                  <a:path w="375" h="354">
                    <a:moveTo>
                      <a:pt x="80" y="46"/>
                    </a:moveTo>
                    <a:lnTo>
                      <a:pt x="32" y="83"/>
                    </a:lnTo>
                    <a:lnTo>
                      <a:pt x="52" y="83"/>
                    </a:lnTo>
                    <a:lnTo>
                      <a:pt x="0" y="122"/>
                    </a:lnTo>
                    <a:lnTo>
                      <a:pt x="10" y="173"/>
                    </a:lnTo>
                    <a:lnTo>
                      <a:pt x="22" y="135"/>
                    </a:lnTo>
                    <a:lnTo>
                      <a:pt x="63" y="229"/>
                    </a:lnTo>
                    <a:lnTo>
                      <a:pt x="85" y="188"/>
                    </a:lnTo>
                    <a:lnTo>
                      <a:pt x="110" y="273"/>
                    </a:lnTo>
                    <a:lnTo>
                      <a:pt x="162" y="312"/>
                    </a:lnTo>
                    <a:lnTo>
                      <a:pt x="155" y="240"/>
                    </a:lnTo>
                    <a:lnTo>
                      <a:pt x="203" y="324"/>
                    </a:lnTo>
                    <a:lnTo>
                      <a:pt x="260" y="353"/>
                    </a:lnTo>
                    <a:lnTo>
                      <a:pt x="212" y="301"/>
                    </a:lnTo>
                    <a:lnTo>
                      <a:pt x="207" y="213"/>
                    </a:lnTo>
                    <a:lnTo>
                      <a:pt x="289" y="353"/>
                    </a:lnTo>
                    <a:lnTo>
                      <a:pt x="315" y="234"/>
                    </a:lnTo>
                    <a:lnTo>
                      <a:pt x="359" y="312"/>
                    </a:lnTo>
                    <a:lnTo>
                      <a:pt x="347" y="216"/>
                    </a:lnTo>
                    <a:lnTo>
                      <a:pt x="312" y="155"/>
                    </a:lnTo>
                    <a:lnTo>
                      <a:pt x="374" y="216"/>
                    </a:lnTo>
                    <a:lnTo>
                      <a:pt x="352" y="145"/>
                    </a:lnTo>
                    <a:lnTo>
                      <a:pt x="328" y="104"/>
                    </a:lnTo>
                    <a:lnTo>
                      <a:pt x="284" y="69"/>
                    </a:lnTo>
                    <a:lnTo>
                      <a:pt x="366" y="112"/>
                    </a:lnTo>
                    <a:lnTo>
                      <a:pt x="325" y="62"/>
                    </a:lnTo>
                    <a:lnTo>
                      <a:pt x="260" y="29"/>
                    </a:lnTo>
                    <a:lnTo>
                      <a:pt x="162" y="0"/>
                    </a:lnTo>
                    <a:lnTo>
                      <a:pt x="75" y="46"/>
                    </a:lnTo>
                    <a:lnTo>
                      <a:pt x="80" y="46"/>
                    </a:lnTo>
                    <a:lnTo>
                      <a:pt x="80" y="46"/>
                    </a:lnTo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137120" y="5710320"/>
                <a:ext cx="1249200" cy="934920"/>
              </a:xfrm>
              <a:custGeom>
                <a:avLst/>
                <a:gdLst/>
                <a:ahLst/>
                <a:rect l="l" t="t" r="r" b="b"/>
                <a:pathLst>
                  <a:path w="787" h="589">
                    <a:moveTo>
                      <a:pt x="414" y="150"/>
                    </a:moveTo>
                    <a:lnTo>
                      <a:pt x="296" y="112"/>
                    </a:lnTo>
                    <a:lnTo>
                      <a:pt x="186" y="107"/>
                    </a:lnTo>
                    <a:lnTo>
                      <a:pt x="99" y="125"/>
                    </a:lnTo>
                    <a:lnTo>
                      <a:pt x="22" y="169"/>
                    </a:lnTo>
                    <a:lnTo>
                      <a:pt x="99" y="150"/>
                    </a:lnTo>
                    <a:lnTo>
                      <a:pt x="186" y="119"/>
                    </a:lnTo>
                    <a:lnTo>
                      <a:pt x="271" y="125"/>
                    </a:lnTo>
                    <a:lnTo>
                      <a:pt x="174" y="136"/>
                    </a:lnTo>
                    <a:lnTo>
                      <a:pt x="84" y="176"/>
                    </a:lnTo>
                    <a:lnTo>
                      <a:pt x="22" y="242"/>
                    </a:lnTo>
                    <a:lnTo>
                      <a:pt x="0" y="291"/>
                    </a:lnTo>
                    <a:lnTo>
                      <a:pt x="13" y="403"/>
                    </a:lnTo>
                    <a:lnTo>
                      <a:pt x="76" y="229"/>
                    </a:lnTo>
                    <a:lnTo>
                      <a:pt x="22" y="451"/>
                    </a:lnTo>
                    <a:lnTo>
                      <a:pt x="39" y="475"/>
                    </a:lnTo>
                    <a:lnTo>
                      <a:pt x="91" y="242"/>
                    </a:lnTo>
                    <a:lnTo>
                      <a:pt x="84" y="444"/>
                    </a:lnTo>
                    <a:lnTo>
                      <a:pt x="171" y="320"/>
                    </a:lnTo>
                    <a:lnTo>
                      <a:pt x="171" y="194"/>
                    </a:lnTo>
                    <a:lnTo>
                      <a:pt x="192" y="313"/>
                    </a:lnTo>
                    <a:lnTo>
                      <a:pt x="216" y="206"/>
                    </a:lnTo>
                    <a:lnTo>
                      <a:pt x="264" y="211"/>
                    </a:lnTo>
                    <a:lnTo>
                      <a:pt x="216" y="262"/>
                    </a:lnTo>
                    <a:lnTo>
                      <a:pt x="166" y="396"/>
                    </a:lnTo>
                    <a:lnTo>
                      <a:pt x="153" y="460"/>
                    </a:lnTo>
                    <a:lnTo>
                      <a:pt x="158" y="513"/>
                    </a:lnTo>
                    <a:lnTo>
                      <a:pt x="186" y="588"/>
                    </a:lnTo>
                    <a:lnTo>
                      <a:pt x="205" y="547"/>
                    </a:lnTo>
                    <a:lnTo>
                      <a:pt x="174" y="439"/>
                    </a:lnTo>
                    <a:lnTo>
                      <a:pt x="186" y="408"/>
                    </a:lnTo>
                    <a:lnTo>
                      <a:pt x="227" y="517"/>
                    </a:lnTo>
                    <a:lnTo>
                      <a:pt x="256" y="481"/>
                    </a:lnTo>
                    <a:lnTo>
                      <a:pt x="263" y="383"/>
                    </a:lnTo>
                    <a:lnTo>
                      <a:pt x="286" y="456"/>
                    </a:lnTo>
                    <a:lnTo>
                      <a:pt x="302" y="431"/>
                    </a:lnTo>
                    <a:lnTo>
                      <a:pt x="274" y="320"/>
                    </a:lnTo>
                    <a:lnTo>
                      <a:pt x="330" y="431"/>
                    </a:lnTo>
                    <a:lnTo>
                      <a:pt x="310" y="248"/>
                    </a:lnTo>
                    <a:lnTo>
                      <a:pt x="401" y="150"/>
                    </a:lnTo>
                    <a:lnTo>
                      <a:pt x="613" y="242"/>
                    </a:lnTo>
                    <a:lnTo>
                      <a:pt x="676" y="280"/>
                    </a:lnTo>
                    <a:lnTo>
                      <a:pt x="643" y="190"/>
                    </a:lnTo>
                    <a:lnTo>
                      <a:pt x="671" y="211"/>
                    </a:lnTo>
                    <a:lnTo>
                      <a:pt x="704" y="307"/>
                    </a:lnTo>
                    <a:lnTo>
                      <a:pt x="763" y="354"/>
                    </a:lnTo>
                    <a:lnTo>
                      <a:pt x="700" y="201"/>
                    </a:lnTo>
                    <a:lnTo>
                      <a:pt x="782" y="336"/>
                    </a:lnTo>
                    <a:lnTo>
                      <a:pt x="786" y="295"/>
                    </a:lnTo>
                    <a:lnTo>
                      <a:pt x="700" y="176"/>
                    </a:lnTo>
                    <a:lnTo>
                      <a:pt x="786" y="229"/>
                    </a:lnTo>
                    <a:lnTo>
                      <a:pt x="721" y="153"/>
                    </a:lnTo>
                    <a:lnTo>
                      <a:pt x="611" y="107"/>
                    </a:lnTo>
                    <a:lnTo>
                      <a:pt x="536" y="112"/>
                    </a:lnTo>
                    <a:lnTo>
                      <a:pt x="589" y="91"/>
                    </a:lnTo>
                    <a:lnTo>
                      <a:pt x="531" y="76"/>
                    </a:lnTo>
                    <a:lnTo>
                      <a:pt x="476" y="99"/>
                    </a:lnTo>
                    <a:lnTo>
                      <a:pt x="498" y="48"/>
                    </a:lnTo>
                    <a:lnTo>
                      <a:pt x="536" y="18"/>
                    </a:lnTo>
                    <a:lnTo>
                      <a:pt x="571" y="0"/>
                    </a:lnTo>
                    <a:lnTo>
                      <a:pt x="513" y="0"/>
                    </a:lnTo>
                    <a:lnTo>
                      <a:pt x="447" y="11"/>
                    </a:lnTo>
                    <a:lnTo>
                      <a:pt x="434" y="69"/>
                    </a:lnTo>
                    <a:lnTo>
                      <a:pt x="414" y="31"/>
                    </a:lnTo>
                    <a:lnTo>
                      <a:pt x="390" y="48"/>
                    </a:lnTo>
                    <a:lnTo>
                      <a:pt x="423" y="91"/>
                    </a:lnTo>
                    <a:lnTo>
                      <a:pt x="349" y="76"/>
                    </a:lnTo>
                    <a:lnTo>
                      <a:pt x="256" y="76"/>
                    </a:lnTo>
                    <a:lnTo>
                      <a:pt x="351" y="112"/>
                    </a:lnTo>
                    <a:lnTo>
                      <a:pt x="414" y="150"/>
                    </a:lnTo>
                    <a:lnTo>
                      <a:pt x="414" y="150"/>
                    </a:lnTo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5734080" y="5022720"/>
              <a:ext cx="985680" cy="1260720"/>
              <a:chOff x="5734080" y="5022720"/>
              <a:chExt cx="985680" cy="1260720"/>
            </a:xfrm>
          </p:grpSpPr>
          <p:sp>
            <p:nvSpPr>
              <p:cNvPr id="51" name=""/>
              <p:cNvSpPr/>
              <p:nvPr/>
            </p:nvSpPr>
            <p:spPr>
              <a:xfrm>
                <a:off x="5757840" y="5049720"/>
                <a:ext cx="961920" cy="1233720"/>
              </a:xfrm>
              <a:custGeom>
                <a:avLst/>
                <a:gdLst/>
                <a:ahLst/>
                <a:rect l="l" t="t" r="r" b="b"/>
                <a:pathLst>
                  <a:path w="606" h="777">
                    <a:moveTo>
                      <a:pt x="300" y="237"/>
                    </a:moveTo>
                    <a:lnTo>
                      <a:pt x="300" y="237"/>
                    </a:lnTo>
                    <a:lnTo>
                      <a:pt x="217" y="180"/>
                    </a:lnTo>
                    <a:lnTo>
                      <a:pt x="203" y="260"/>
                    </a:lnTo>
                    <a:lnTo>
                      <a:pt x="24" y="166"/>
                    </a:lnTo>
                    <a:lnTo>
                      <a:pt x="155" y="354"/>
                    </a:lnTo>
                    <a:lnTo>
                      <a:pt x="51" y="384"/>
                    </a:lnTo>
                    <a:lnTo>
                      <a:pt x="147" y="464"/>
                    </a:lnTo>
                    <a:lnTo>
                      <a:pt x="0" y="585"/>
                    </a:lnTo>
                    <a:lnTo>
                      <a:pt x="193" y="528"/>
                    </a:lnTo>
                    <a:lnTo>
                      <a:pt x="139" y="651"/>
                    </a:lnTo>
                    <a:lnTo>
                      <a:pt x="255" y="599"/>
                    </a:lnTo>
                    <a:lnTo>
                      <a:pt x="285" y="776"/>
                    </a:lnTo>
                    <a:lnTo>
                      <a:pt x="315" y="599"/>
                    </a:lnTo>
                    <a:lnTo>
                      <a:pt x="402" y="675"/>
                    </a:lnTo>
                    <a:lnTo>
                      <a:pt x="417" y="566"/>
                    </a:lnTo>
                    <a:lnTo>
                      <a:pt x="605" y="688"/>
                    </a:lnTo>
                    <a:lnTo>
                      <a:pt x="451" y="482"/>
                    </a:lnTo>
                    <a:lnTo>
                      <a:pt x="538" y="431"/>
                    </a:lnTo>
                    <a:lnTo>
                      <a:pt x="471" y="367"/>
                    </a:lnTo>
                    <a:lnTo>
                      <a:pt x="563" y="237"/>
                    </a:lnTo>
                    <a:lnTo>
                      <a:pt x="425" y="274"/>
                    </a:lnTo>
                    <a:lnTo>
                      <a:pt x="424" y="178"/>
                    </a:lnTo>
                    <a:lnTo>
                      <a:pt x="367" y="221"/>
                    </a:lnTo>
                    <a:lnTo>
                      <a:pt x="342" y="0"/>
                    </a:lnTo>
                    <a:lnTo>
                      <a:pt x="300" y="237"/>
                    </a:lnTo>
                    <a:lnTo>
                      <a:pt x="300" y="237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734080" y="5022720"/>
                <a:ext cx="960480" cy="1230480"/>
              </a:xfrm>
              <a:custGeom>
                <a:avLst/>
                <a:gdLst/>
                <a:ahLst/>
                <a:rect l="l" t="t" r="r" b="b"/>
                <a:pathLst>
                  <a:path w="605" h="775">
                    <a:moveTo>
                      <a:pt x="300" y="234"/>
                    </a:moveTo>
                    <a:lnTo>
                      <a:pt x="300" y="234"/>
                    </a:lnTo>
                    <a:lnTo>
                      <a:pt x="214" y="179"/>
                    </a:lnTo>
                    <a:lnTo>
                      <a:pt x="203" y="258"/>
                    </a:lnTo>
                    <a:lnTo>
                      <a:pt x="23" y="164"/>
                    </a:lnTo>
                    <a:lnTo>
                      <a:pt x="154" y="348"/>
                    </a:lnTo>
                    <a:lnTo>
                      <a:pt x="51" y="379"/>
                    </a:lnTo>
                    <a:lnTo>
                      <a:pt x="146" y="462"/>
                    </a:lnTo>
                    <a:lnTo>
                      <a:pt x="0" y="579"/>
                    </a:lnTo>
                    <a:lnTo>
                      <a:pt x="191" y="524"/>
                    </a:lnTo>
                    <a:lnTo>
                      <a:pt x="136" y="648"/>
                    </a:lnTo>
                    <a:lnTo>
                      <a:pt x="252" y="598"/>
                    </a:lnTo>
                    <a:lnTo>
                      <a:pt x="285" y="774"/>
                    </a:lnTo>
                    <a:lnTo>
                      <a:pt x="313" y="598"/>
                    </a:lnTo>
                    <a:lnTo>
                      <a:pt x="401" y="673"/>
                    </a:lnTo>
                    <a:lnTo>
                      <a:pt x="416" y="566"/>
                    </a:lnTo>
                    <a:lnTo>
                      <a:pt x="604" y="685"/>
                    </a:lnTo>
                    <a:lnTo>
                      <a:pt x="448" y="478"/>
                    </a:lnTo>
                    <a:lnTo>
                      <a:pt x="536" y="428"/>
                    </a:lnTo>
                    <a:lnTo>
                      <a:pt x="467" y="365"/>
                    </a:lnTo>
                    <a:lnTo>
                      <a:pt x="562" y="234"/>
                    </a:lnTo>
                    <a:lnTo>
                      <a:pt x="423" y="269"/>
                    </a:lnTo>
                    <a:lnTo>
                      <a:pt x="422" y="176"/>
                    </a:lnTo>
                    <a:lnTo>
                      <a:pt x="365" y="217"/>
                    </a:lnTo>
                    <a:lnTo>
                      <a:pt x="340" y="0"/>
                    </a:lnTo>
                    <a:lnTo>
                      <a:pt x="300" y="234"/>
                    </a:lnTo>
                    <a:lnTo>
                      <a:pt x="300" y="234"/>
                    </a:lnTo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004080" y="5403960"/>
                <a:ext cx="441000" cy="530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027840" y="5425920"/>
                <a:ext cx="398520" cy="482760"/>
              </a:xfrm>
              <a:prstGeom prst="ellipse">
                <a:avLst/>
              </a:prstGeom>
              <a:solidFill>
                <a:srgbClr val="ff8100"/>
              </a:solidFill>
              <a:ln w="9360">
                <a:solidFill>
                  <a:srgbClr val="ff81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2987640" y="7269120"/>
              <a:ext cx="4119480" cy="174600"/>
            </a:xfrm>
            <a:prstGeom prst="ellipse">
              <a:avLst/>
            </a:prstGeom>
            <a:solidFill>
              <a:srgbClr val="400080"/>
            </a:solidFill>
            <a:ln w="19080">
              <a:solidFill>
                <a:srgbClr val="4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717480" y="164880"/>
            <a:ext cx="9452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Producción neta: Proceso 3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4610160" y="1069560"/>
            <a:ext cx="3571920" cy="6267600"/>
          </a:xfrm>
          <a:custGeom>
            <a:avLst/>
            <a:gdLst>
              <a:gd name="textAreaLeft" fmla="*/ 43200 w 3571920"/>
              <a:gd name="textAreaRight" fmla="*/ 3528720 w 3571920"/>
              <a:gd name="textAreaTop" fmla="*/ 43200 h 6267600"/>
              <a:gd name="textAreaBottom" fmla="*/ 6224400 h 6267600"/>
            </a:gdLst>
            <a:ahLst/>
            <a:rect l="textAreaLeft" t="textAreaTop" r="textAreaRight" b="textAreaBottom"/>
            <a:pathLst>
              <a:path w="21600" h="37900">
                <a:moveTo>
                  <a:pt x="899" y="0"/>
                </a:moveTo>
                <a:arcTo wR="899" hR="899" stAng="16200000" swAng="-5400000"/>
                <a:lnTo>
                  <a:pt x="0" y="37001"/>
                </a:lnTo>
                <a:arcTo wR="899" hR="899" stAng="10800000" swAng="-5400000"/>
                <a:lnTo>
                  <a:pt x="20701" y="37900"/>
                </a:lnTo>
                <a:arcTo wR="899" hR="899" stAng="5400000" swAng="-5400000"/>
                <a:lnTo>
                  <a:pt x="21600" y="899"/>
                </a:lnTo>
                <a:arcTo wR="899" hR="899" stAng="0" swAng="-5400000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ff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530680" y="1503360"/>
            <a:ext cx="2284560" cy="78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000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oriz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0 pap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-20 cerdo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-10 hrs hom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0 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-268920" y="1843560"/>
            <a:ext cx="5348160" cy="2470320"/>
          </a:xfrm>
          <a:prstGeom prst="wedgeRoundRectCallout">
            <a:avLst>
              <a:gd name="adj1" fmla="val 70282"/>
              <a:gd name="adj2" fmla="val -52532"/>
              <a:gd name="adj3" fmla="val 16667"/>
            </a:avLst>
          </a:prstGeom>
          <a:solidFill>
            <a:srgbClr val="ffff99"/>
          </a:solidFill>
          <a:ln w="381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El resultado 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 </a:t>
            </a: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chorizos de la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horas -hombr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717480" y="-76320"/>
            <a:ext cx="9452160" cy="12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Agrgación sobre toda la economía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387440" y="3740040"/>
            <a:ext cx="82224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-692280" y="1069560"/>
            <a:ext cx="2284560" cy="7953840"/>
            <a:chOff x="-692280" y="1069560"/>
            <a:chExt cx="2284560" cy="7953840"/>
          </a:xfrm>
        </p:grpSpPr>
        <p:sp>
          <p:nvSpPr>
            <p:cNvPr id="315" name=""/>
            <p:cNvSpPr/>
            <p:nvPr/>
          </p:nvSpPr>
          <p:spPr>
            <a:xfrm flipV="1">
              <a:off x="63360" y="1069200"/>
              <a:ext cx="1121040" cy="6473880"/>
            </a:xfrm>
            <a:custGeom>
              <a:avLst/>
              <a:gdLst>
                <a:gd name="textAreaLeft" fmla="*/ 13320 w 1121040"/>
                <a:gd name="textAreaRight" fmla="*/ 1107720 w 1121040"/>
                <a:gd name="textAreaTop" fmla="*/ 13320 h 6473880"/>
                <a:gd name="textAreaBottom" fmla="*/ 6460560 h 6473880"/>
              </a:gdLst>
              <a:ahLst/>
              <a:rect l="textAreaLeft" t="textAreaTop" r="textAreaRight" b="textAreaBottom"/>
              <a:pathLst>
                <a:path w="21600" h="124704">
                  <a:moveTo>
                    <a:pt x="899" y="0"/>
                  </a:moveTo>
                  <a:arcTo wR="899" hR="899" stAng="16200000" swAng="-5400000"/>
                  <a:lnTo>
                    <a:pt x="0" y="123805"/>
                  </a:lnTo>
                  <a:arcTo wR="899" hR="899" stAng="10800000" swAng="-5400000"/>
                  <a:lnTo>
                    <a:pt x="20701" y="124704"/>
                  </a:lnTo>
                  <a:arcTo wR="899" hR="899" stAng="5400000" swAng="-5400000"/>
                  <a:lnTo>
                    <a:pt x="21600" y="899"/>
                  </a:lnTo>
                  <a:arcTo wR="899" hR="899" stAng="0" swAng="-5400000"/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-692280" y="1160640"/>
              <a:ext cx="2284560" cy="78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+99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-10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1974960" y="1069560"/>
            <a:ext cx="2284200" cy="7939440"/>
            <a:chOff x="1974960" y="1069560"/>
            <a:chExt cx="2284200" cy="7939440"/>
          </a:xfrm>
        </p:grpSpPr>
        <p:sp>
          <p:nvSpPr>
            <p:cNvPr id="318" name=""/>
            <p:cNvSpPr/>
            <p:nvPr/>
          </p:nvSpPr>
          <p:spPr>
            <a:xfrm flipV="1">
              <a:off x="2085840" y="1068840"/>
              <a:ext cx="1819440" cy="6473880"/>
            </a:xfrm>
            <a:custGeom>
              <a:avLst/>
              <a:gdLst>
                <a:gd name="textAreaLeft" fmla="*/ 21960 w 1819440"/>
                <a:gd name="textAreaRight" fmla="*/ 1797480 w 1819440"/>
                <a:gd name="textAreaTop" fmla="*/ 21960 h 6473880"/>
                <a:gd name="textAreaBottom" fmla="*/ 6451920 h 6473880"/>
              </a:gdLst>
              <a:ahLst/>
              <a:rect l="textAreaLeft" t="textAreaTop" r="textAreaRight" b="textAreaBottom"/>
              <a:pathLst>
                <a:path w="21600" h="76846">
                  <a:moveTo>
                    <a:pt x="899" y="0"/>
                  </a:moveTo>
                  <a:arcTo wR="899" hR="899" stAng="16200000" swAng="-5400000"/>
                  <a:lnTo>
                    <a:pt x="0" y="75947"/>
                  </a:lnTo>
                  <a:arcTo wR="899" hR="899" stAng="10800000" swAng="-5400000"/>
                  <a:lnTo>
                    <a:pt x="20701" y="76846"/>
                  </a:lnTo>
                  <a:arcTo wR="899" hR="899" stAng="5400000" swAng="-5400000"/>
                  <a:lnTo>
                    <a:pt x="21600" y="899"/>
                  </a:lnTo>
                  <a:arcTo wR="899" hR="899" stAng="0" swAng="-5400000"/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974960" y="1146240"/>
              <a:ext cx="2284200" cy="78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-90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+20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0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802040" y="1069560"/>
            <a:ext cx="2286000" cy="7939440"/>
            <a:chOff x="4802040" y="1069560"/>
            <a:chExt cx="2286000" cy="7939440"/>
          </a:xfrm>
        </p:grpSpPr>
        <p:sp>
          <p:nvSpPr>
            <p:cNvPr id="321" name=""/>
            <p:cNvSpPr/>
            <p:nvPr/>
          </p:nvSpPr>
          <p:spPr>
            <a:xfrm flipV="1">
              <a:off x="4989600" y="1068840"/>
              <a:ext cx="1677960" cy="6473880"/>
            </a:xfrm>
            <a:custGeom>
              <a:avLst/>
              <a:gdLst>
                <a:gd name="textAreaLeft" fmla="*/ 20160 w 1677960"/>
                <a:gd name="textAreaRight" fmla="*/ 1657800 w 1677960"/>
                <a:gd name="textAreaTop" fmla="*/ 20160 h 6473880"/>
                <a:gd name="textAreaBottom" fmla="*/ 6453720 h 6473880"/>
              </a:gdLst>
              <a:ahLst/>
              <a:rect l="textAreaLeft" t="textAreaTop" r="textAreaRight" b="textAreaBottom"/>
              <a:pathLst>
                <a:path w="21600" h="83324">
                  <a:moveTo>
                    <a:pt x="899" y="0"/>
                  </a:moveTo>
                  <a:arcTo wR="899" hR="899" stAng="16200000" swAng="-5400000"/>
                  <a:lnTo>
                    <a:pt x="0" y="82425"/>
                  </a:lnTo>
                  <a:arcTo wR="899" hR="899" stAng="10800000" swAng="-5400000"/>
                  <a:lnTo>
                    <a:pt x="20701" y="83324"/>
                  </a:lnTo>
                  <a:arcTo wR="899" hR="899" stAng="5400000" swAng="-5400000"/>
                  <a:lnTo>
                    <a:pt x="21600" y="899"/>
                  </a:lnTo>
                  <a:arcTo wR="899" hR="899" stAng="0" swAng="-5400000"/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908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802040" y="1146240"/>
              <a:ext cx="2286000" cy="78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+1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8077320" y="1069560"/>
            <a:ext cx="2284200" cy="7939440"/>
            <a:chOff x="8077320" y="1069560"/>
            <a:chExt cx="2284200" cy="7939440"/>
          </a:xfrm>
        </p:grpSpPr>
        <p:sp>
          <p:nvSpPr>
            <p:cNvPr id="324" name=""/>
            <p:cNvSpPr/>
            <p:nvPr/>
          </p:nvSpPr>
          <p:spPr>
            <a:xfrm flipV="1">
              <a:off x="8497800" y="1069200"/>
              <a:ext cx="1333440" cy="6473880"/>
            </a:xfrm>
            <a:custGeom>
              <a:avLst/>
              <a:gdLst>
                <a:gd name="textAreaLeft" fmla="*/ 16200 w 1333440"/>
                <a:gd name="textAreaRight" fmla="*/ 1317240 w 1333440"/>
                <a:gd name="textAreaTop" fmla="*/ 16200 h 6473880"/>
                <a:gd name="textAreaBottom" fmla="*/ 6457680 h 6473880"/>
              </a:gdLst>
              <a:ahLst/>
              <a:rect l="textAreaLeft" t="textAreaTop" r="textAreaRight" b="textAreaBottom"/>
              <a:pathLst>
                <a:path w="21600" h="104846">
                  <a:moveTo>
                    <a:pt x="899" y="0"/>
                  </a:moveTo>
                  <a:arcTo wR="899" hR="899" stAng="16200000" swAng="-5400000"/>
                  <a:lnTo>
                    <a:pt x="0" y="103947"/>
                  </a:lnTo>
                  <a:arcTo wR="899" hR="899" stAng="10800000" swAng="-5400000"/>
                  <a:lnTo>
                    <a:pt x="20701" y="104846"/>
                  </a:lnTo>
                  <a:arcTo wR="899" hR="899" stAng="5400000" swAng="-5400000"/>
                  <a:lnTo>
                    <a:pt x="21600" y="899"/>
                  </a:lnTo>
                  <a:arcTo wR="899" hR="899" stAng="0" swAng="-5400000"/>
                  <a:close/>
                </a:path>
              </a:pathLst>
            </a:custGeom>
            <a:solidFill>
              <a:srgbClr val="e1e1e1"/>
            </a:solidFill>
            <a:ln w="1908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077320" y="1146240"/>
              <a:ext cx="2284200" cy="78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+1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+9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-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4206960" y="3733920"/>
            <a:ext cx="8222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331040" y="3733920"/>
            <a:ext cx="8222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228600" y="0"/>
            <a:ext cx="9941040" cy="12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l vector de producción neta de la economía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352680" y="1504440"/>
            <a:ext cx="3570480" cy="5810400"/>
          </a:xfrm>
          <a:custGeom>
            <a:avLst/>
            <a:gdLst>
              <a:gd name="textAreaLeft" fmla="*/ 43200 w 3570480"/>
              <a:gd name="textAreaRight" fmla="*/ 3527280 w 3570480"/>
              <a:gd name="textAreaTop" fmla="*/ 43200 h 5810400"/>
              <a:gd name="textAreaBottom" fmla="*/ 5767200 h 5810400"/>
            </a:gdLst>
            <a:ahLst/>
            <a:rect l="textAreaLeft" t="textAreaTop" r="textAreaRight" b="textAreaBottom"/>
            <a:pathLst>
              <a:path w="21600" h="35149">
                <a:moveTo>
                  <a:pt x="899" y="0"/>
                </a:moveTo>
                <a:arcTo wR="899" hR="899" stAng="16200000" swAng="-5400000"/>
                <a:lnTo>
                  <a:pt x="0" y="34250"/>
                </a:lnTo>
                <a:arcTo wR="899" hR="899" stAng="10800000" swAng="-5400000"/>
                <a:lnTo>
                  <a:pt x="20701" y="35149"/>
                </a:lnTo>
                <a:arcTo wR="899" hR="899" stAng="5400000" swAng="-5400000"/>
                <a:lnTo>
                  <a:pt x="21600" y="899"/>
                </a:lnTo>
                <a:arcTo wR="899" hR="899" stAng="0" swAng="-5400000"/>
                <a:close/>
              </a:path>
            </a:pathLst>
          </a:custGeom>
          <a:solidFill>
            <a:srgbClr val="e1e1e1"/>
          </a:solidFill>
          <a:ln w="19080">
            <a:solidFill>
              <a:srgbClr val="0000ff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311720" y="1503360"/>
            <a:ext cx="2284200" cy="78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+1000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oriz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+900 pap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0 cerd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-30 hrs hom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-1 unid de tier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730080" y="2217240"/>
            <a:ext cx="9072720" cy="4635720"/>
          </a:xfrm>
          <a:prstGeom prst="rect">
            <a:avLst/>
          </a:prstGeom>
          <a:solidFill>
            <a:srgbClr val="e1e1e1"/>
          </a:solidFill>
          <a:ln w="0">
            <a:noFill/>
          </a:ln>
          <a:effectLst>
            <a:outerShdw dist="107932" dir="2700000" blurRad="0" rotWithShape="0">
              <a:srgbClr val="404040"/>
            </a:outerShdw>
          </a:effectLst>
        </p:spPr>
        <p:txBody>
          <a:bodyPr lIns="0" rIns="0" tIns="0" bIns="0" anchor="t">
            <a:normAutofit/>
          </a:bodyPr>
          <a:p>
            <a:pPr marL="1166760" indent="-1166760">
              <a:lnSpc>
                <a:spcPct val="100000"/>
              </a:lnSpc>
              <a:spcBef>
                <a:spcPts val="1939"/>
              </a:spcBef>
              <a:buClr>
                <a:srgbClr val="ffff00"/>
              </a:buClr>
              <a:buSzPct val="90000"/>
              <a:buFont typeface="Monotype Sort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i="1" lang="en-GB" sz="3100" spc="-1" strike="noStrike">
                <a:solidFill>
                  <a:srgbClr val="400080"/>
                </a:solidFill>
                <a:latin typeface="Arial"/>
              </a:rPr>
              <a:t>¿Y si hubiera mas técnicas disponibles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1166760" indent="-1166760">
              <a:lnSpc>
                <a:spcPct val="100000"/>
              </a:lnSpc>
              <a:spcBef>
                <a:spcPts val="1939"/>
              </a:spcBef>
              <a:buClr>
                <a:srgbClr val="ffff00"/>
              </a:buClr>
              <a:buSzPct val="90000"/>
              <a:buFont typeface="Monotype Sort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i="1" lang="en-GB" sz="3100" spc="-1" strike="noStrike">
                <a:solidFill>
                  <a:srgbClr val="400080"/>
                </a:solidFill>
                <a:latin typeface="Arial"/>
              </a:rPr>
              <a:t>¿Como sería el concepto de isocuanta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1166760" indent="-1166760">
              <a:lnSpc>
                <a:spcPct val="100000"/>
              </a:lnSpc>
              <a:spcBef>
                <a:spcPts val="1939"/>
              </a:spcBef>
              <a:buClr>
                <a:srgbClr val="ffff00"/>
              </a:buClr>
              <a:buSzPct val="90000"/>
              <a:buFont typeface="Monotype Sort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i="1" lang="en-GB" sz="3100" spc="-1" strike="noStrike">
                <a:solidFill>
                  <a:srgbClr val="400080"/>
                </a:solidFill>
                <a:latin typeface="Arial"/>
              </a:rPr>
              <a:t>¿Cuál sería el concepto de producto marginal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1166760" indent="-1166760">
              <a:lnSpc>
                <a:spcPct val="100000"/>
              </a:lnSpc>
              <a:spcBef>
                <a:spcPts val="1939"/>
              </a:spcBef>
              <a:buClr>
                <a:srgbClr val="ffff00"/>
              </a:buClr>
              <a:buSzPct val="90000"/>
              <a:buFont typeface="Monotype Sort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i="1" lang="en-GB" sz="3100" spc="-1" strike="noStrike">
                <a:solidFill>
                  <a:srgbClr val="400080"/>
                </a:solidFill>
                <a:latin typeface="Arial"/>
              </a:rPr>
              <a:t>¿Cuál sería la tasa de trueque entre productos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6040" y="739800"/>
            <a:ext cx="945360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Más acerca de la historia de las papas, los cerdos y los chorizos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Un enfoque axiomático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11160" y="2195640"/>
            <a:ext cx="8472600" cy="5159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7520">
            <a:solidFill>
              <a:srgbClr val="00008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270080" indent="-370080">
              <a:lnSpc>
                <a:spcPct val="100000"/>
              </a:lnSpc>
              <a:spcBef>
                <a:spcPts val="1939"/>
              </a:spcBef>
              <a:buClr>
                <a:srgbClr val="ff4040"/>
              </a:buClr>
              <a:buSzPct val="46000"/>
              <a:buFont typeface="Monotype Sort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3100" spc="-1" strike="noStrike">
                <a:solidFill>
                  <a:srgbClr val="000080"/>
                </a:solidFill>
                <a:latin typeface="Times New Roman"/>
              </a:rPr>
              <a:t>Sea  </a:t>
            </a:r>
            <a:r>
              <a:rPr b="0" i="1" lang="en-GB" sz="3100" spc="-1" strike="noStrike">
                <a:solidFill>
                  <a:srgbClr val="000080"/>
                </a:solidFill>
                <a:latin typeface="Times New Roman"/>
              </a:rPr>
              <a:t>Y</a:t>
            </a:r>
            <a:r>
              <a:rPr b="0" lang="en-GB" sz="3100" spc="-1" strike="noStrike">
                <a:solidFill>
                  <a:srgbClr val="000080"/>
                </a:solidFill>
                <a:latin typeface="Times New Roman"/>
              </a:rPr>
              <a:t> el conjunto de todos los vectores de productos netos factibl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1270080" indent="-370080">
              <a:lnSpc>
                <a:spcPct val="100000"/>
              </a:lnSpc>
              <a:spcBef>
                <a:spcPts val="1939"/>
              </a:spcBef>
              <a:buClr>
                <a:srgbClr val="ff4040"/>
              </a:buClr>
              <a:buSzPct val="46000"/>
              <a:buFont typeface="Monotype Sort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3100" spc="-1" strike="noStrike">
                <a:solidFill>
                  <a:srgbClr val="000080"/>
                </a:solidFill>
                <a:latin typeface="Times New Roman"/>
              </a:rPr>
              <a:t>Entonces  "</a:t>
            </a:r>
            <a:r>
              <a:rPr b="1" lang="en-GB" sz="3100" spc="-1" strike="noStrike">
                <a:solidFill>
                  <a:srgbClr val="000080"/>
                </a:solidFill>
                <a:latin typeface="Times New Roman"/>
              </a:rPr>
              <a:t>y</a:t>
            </a:r>
            <a:r>
              <a:rPr b="0" lang="en-GB" sz="31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GB" sz="3100" spc="-1" strike="noStrike">
                <a:solidFill>
                  <a:srgbClr val="000080"/>
                </a:solidFill>
                <a:latin typeface="Symbol"/>
                <a:ea typeface="Symbol"/>
              </a:rPr>
              <a:t></a:t>
            </a:r>
            <a:r>
              <a:rPr b="0" i="1" lang="en-GB" sz="3100" spc="-1" strike="noStrike">
                <a:solidFill>
                  <a:srgbClr val="000080"/>
                </a:solidFill>
                <a:latin typeface="Times New Roman"/>
              </a:rPr>
              <a:t>Y</a:t>
            </a:r>
            <a:r>
              <a:rPr b="0" lang="en-GB" sz="3100" spc="-1" strike="noStrike">
                <a:solidFill>
                  <a:srgbClr val="000080"/>
                </a:solidFill>
                <a:latin typeface="Times New Roman"/>
              </a:rPr>
              <a:t>”significa "</a:t>
            </a:r>
            <a:r>
              <a:rPr b="1" lang="en-GB" sz="3100" spc="-1" strike="noStrike">
                <a:solidFill>
                  <a:srgbClr val="000080"/>
                </a:solidFill>
                <a:latin typeface="Times New Roman"/>
              </a:rPr>
              <a:t>y</a:t>
            </a:r>
            <a:r>
              <a:rPr b="0" lang="en-GB" sz="3100" spc="-1" strike="noStrike">
                <a:solidFill>
                  <a:srgbClr val="000080"/>
                </a:solidFill>
                <a:latin typeface="Times New Roman"/>
              </a:rPr>
              <a:t> es técnicamente posibles de hacer"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1270080" indent="-370080">
              <a:lnSpc>
                <a:spcPct val="100000"/>
              </a:lnSpc>
              <a:spcBef>
                <a:spcPts val="1939"/>
              </a:spcBef>
              <a:buClr>
                <a:srgbClr val="ff4040"/>
              </a:buClr>
              <a:buSzPct val="46000"/>
              <a:buFont typeface="Monotype Sort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3100" spc="-1" strike="noStrike">
                <a:solidFill>
                  <a:srgbClr val="000080"/>
                </a:solidFill>
                <a:latin typeface="Times New Roman"/>
              </a:rPr>
              <a:t>La forma de  </a:t>
            </a:r>
            <a:r>
              <a:rPr b="0" i="1" lang="en-GB" sz="3100" spc="-1" strike="noStrike">
                <a:solidFill>
                  <a:srgbClr val="000080"/>
                </a:solidFill>
                <a:latin typeface="Times New Roman"/>
              </a:rPr>
              <a:t>Y</a:t>
            </a:r>
            <a:r>
              <a:rPr b="0" lang="en-GB" sz="3100" spc="-1" strike="noStrike">
                <a:solidFill>
                  <a:srgbClr val="000080"/>
                </a:solidFill>
                <a:latin typeface="Times New Roman"/>
              </a:rPr>
              <a:t> describe la naturaleza de las posibilidades productivas de la economí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1270080" indent="-370080">
              <a:lnSpc>
                <a:spcPct val="100000"/>
              </a:lnSpc>
              <a:spcBef>
                <a:spcPts val="1939"/>
              </a:spcBef>
              <a:buClr>
                <a:srgbClr val="ff4040"/>
              </a:buClr>
              <a:buSzPct val="46000"/>
              <a:buFont typeface="Monotype Sort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3100" spc="-1" strike="noStrike">
                <a:solidFill>
                  <a:srgbClr val="000080"/>
                </a:solidFill>
                <a:latin typeface="Times New Roman"/>
              </a:rPr>
              <a:t>La construimos utilizando algunos axiomas de la producción  convencionale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8747280" y="7054920"/>
            <a:ext cx="1081080" cy="514440"/>
            <a:chOff x="8747280" y="7054920"/>
            <a:chExt cx="1081080" cy="514440"/>
          </a:xfrm>
        </p:grpSpPr>
        <p:sp>
          <p:nvSpPr>
            <p:cNvPr id="336" name=""/>
            <p:cNvSpPr/>
            <p:nvPr/>
          </p:nvSpPr>
          <p:spPr>
            <a:xfrm>
              <a:off x="8989920" y="7054920"/>
              <a:ext cx="838440" cy="488880"/>
            </a:xfrm>
            <a:custGeom>
              <a:avLst/>
              <a:gdLst/>
              <a:ahLst/>
              <a:rect l="l" t="t" r="r" b="b"/>
              <a:pathLst>
                <a:path w="528" h="308">
                  <a:moveTo>
                    <a:pt x="0" y="53"/>
                  </a:moveTo>
                  <a:lnTo>
                    <a:pt x="1" y="53"/>
                  </a:lnTo>
                  <a:lnTo>
                    <a:pt x="3" y="52"/>
                  </a:lnTo>
                  <a:lnTo>
                    <a:pt x="5" y="52"/>
                  </a:lnTo>
                  <a:lnTo>
                    <a:pt x="7" y="50"/>
                  </a:lnTo>
                  <a:lnTo>
                    <a:pt x="8" y="51"/>
                  </a:lnTo>
                  <a:lnTo>
                    <a:pt x="10" y="51"/>
                  </a:lnTo>
                  <a:lnTo>
                    <a:pt x="12" y="51"/>
                  </a:lnTo>
                  <a:lnTo>
                    <a:pt x="16" y="51"/>
                  </a:lnTo>
                  <a:lnTo>
                    <a:pt x="18" y="52"/>
                  </a:lnTo>
                  <a:lnTo>
                    <a:pt x="21" y="52"/>
                  </a:lnTo>
                  <a:lnTo>
                    <a:pt x="25" y="52"/>
                  </a:lnTo>
                  <a:lnTo>
                    <a:pt x="29" y="51"/>
                  </a:lnTo>
                  <a:lnTo>
                    <a:pt x="34" y="51"/>
                  </a:lnTo>
                  <a:lnTo>
                    <a:pt x="39" y="50"/>
                  </a:lnTo>
                  <a:lnTo>
                    <a:pt x="45" y="49"/>
                  </a:lnTo>
                  <a:lnTo>
                    <a:pt x="52" y="46"/>
                  </a:lnTo>
                  <a:lnTo>
                    <a:pt x="55" y="46"/>
                  </a:lnTo>
                  <a:lnTo>
                    <a:pt x="59" y="44"/>
                  </a:lnTo>
                  <a:lnTo>
                    <a:pt x="63" y="42"/>
                  </a:lnTo>
                  <a:lnTo>
                    <a:pt x="68" y="40"/>
                  </a:lnTo>
                  <a:lnTo>
                    <a:pt x="71" y="39"/>
                  </a:lnTo>
                  <a:lnTo>
                    <a:pt x="77" y="37"/>
                  </a:lnTo>
                  <a:lnTo>
                    <a:pt x="81" y="35"/>
                  </a:lnTo>
                  <a:lnTo>
                    <a:pt x="86" y="31"/>
                  </a:lnTo>
                  <a:lnTo>
                    <a:pt x="90" y="29"/>
                  </a:lnTo>
                  <a:lnTo>
                    <a:pt x="96" y="28"/>
                  </a:lnTo>
                  <a:lnTo>
                    <a:pt x="99" y="26"/>
                  </a:lnTo>
                  <a:lnTo>
                    <a:pt x="105" y="22"/>
                  </a:lnTo>
                  <a:lnTo>
                    <a:pt x="109" y="21"/>
                  </a:lnTo>
                  <a:lnTo>
                    <a:pt x="113" y="19"/>
                  </a:lnTo>
                  <a:lnTo>
                    <a:pt x="117" y="17"/>
                  </a:lnTo>
                  <a:lnTo>
                    <a:pt x="121" y="15"/>
                  </a:lnTo>
                  <a:lnTo>
                    <a:pt x="123" y="15"/>
                  </a:lnTo>
                  <a:lnTo>
                    <a:pt x="126" y="13"/>
                  </a:lnTo>
                  <a:lnTo>
                    <a:pt x="129" y="13"/>
                  </a:lnTo>
                  <a:lnTo>
                    <a:pt x="133" y="11"/>
                  </a:lnTo>
                  <a:lnTo>
                    <a:pt x="136" y="11"/>
                  </a:lnTo>
                  <a:lnTo>
                    <a:pt x="140" y="9"/>
                  </a:lnTo>
                  <a:lnTo>
                    <a:pt x="144" y="8"/>
                  </a:lnTo>
                  <a:lnTo>
                    <a:pt x="148" y="6"/>
                  </a:lnTo>
                  <a:lnTo>
                    <a:pt x="152" y="6"/>
                  </a:lnTo>
                  <a:lnTo>
                    <a:pt x="156" y="4"/>
                  </a:lnTo>
                  <a:lnTo>
                    <a:pt x="159" y="3"/>
                  </a:lnTo>
                  <a:lnTo>
                    <a:pt x="163" y="1"/>
                  </a:lnTo>
                  <a:lnTo>
                    <a:pt x="165" y="1"/>
                  </a:lnTo>
                  <a:lnTo>
                    <a:pt x="169" y="1"/>
                  </a:lnTo>
                  <a:lnTo>
                    <a:pt x="173" y="1"/>
                  </a:lnTo>
                  <a:lnTo>
                    <a:pt x="176" y="0"/>
                  </a:lnTo>
                  <a:lnTo>
                    <a:pt x="178" y="1"/>
                  </a:lnTo>
                  <a:lnTo>
                    <a:pt x="181" y="1"/>
                  </a:lnTo>
                  <a:lnTo>
                    <a:pt x="184" y="2"/>
                  </a:lnTo>
                  <a:lnTo>
                    <a:pt x="187" y="2"/>
                  </a:lnTo>
                  <a:lnTo>
                    <a:pt x="191" y="4"/>
                  </a:lnTo>
                  <a:lnTo>
                    <a:pt x="194" y="5"/>
                  </a:lnTo>
                  <a:lnTo>
                    <a:pt x="198" y="7"/>
                  </a:lnTo>
                  <a:lnTo>
                    <a:pt x="202" y="7"/>
                  </a:lnTo>
                  <a:lnTo>
                    <a:pt x="204" y="9"/>
                  </a:lnTo>
                  <a:lnTo>
                    <a:pt x="208" y="10"/>
                  </a:lnTo>
                  <a:lnTo>
                    <a:pt x="212" y="12"/>
                  </a:lnTo>
                  <a:lnTo>
                    <a:pt x="215" y="12"/>
                  </a:lnTo>
                  <a:lnTo>
                    <a:pt x="217" y="14"/>
                  </a:lnTo>
                  <a:lnTo>
                    <a:pt x="221" y="14"/>
                  </a:lnTo>
                  <a:lnTo>
                    <a:pt x="224" y="14"/>
                  </a:lnTo>
                  <a:lnTo>
                    <a:pt x="227" y="14"/>
                  </a:lnTo>
                  <a:lnTo>
                    <a:pt x="232" y="15"/>
                  </a:lnTo>
                  <a:lnTo>
                    <a:pt x="241" y="15"/>
                  </a:lnTo>
                  <a:lnTo>
                    <a:pt x="253" y="15"/>
                  </a:lnTo>
                  <a:lnTo>
                    <a:pt x="271" y="15"/>
                  </a:lnTo>
                  <a:lnTo>
                    <a:pt x="289" y="15"/>
                  </a:lnTo>
                  <a:lnTo>
                    <a:pt x="310" y="15"/>
                  </a:lnTo>
                  <a:lnTo>
                    <a:pt x="331" y="15"/>
                  </a:lnTo>
                  <a:lnTo>
                    <a:pt x="354" y="15"/>
                  </a:lnTo>
                  <a:lnTo>
                    <a:pt x="376" y="17"/>
                  </a:lnTo>
                  <a:lnTo>
                    <a:pt x="398" y="17"/>
                  </a:lnTo>
                  <a:lnTo>
                    <a:pt x="419" y="18"/>
                  </a:lnTo>
                  <a:lnTo>
                    <a:pt x="439" y="18"/>
                  </a:lnTo>
                  <a:lnTo>
                    <a:pt x="455" y="19"/>
                  </a:lnTo>
                  <a:lnTo>
                    <a:pt x="469" y="21"/>
                  </a:lnTo>
                  <a:lnTo>
                    <a:pt x="479" y="22"/>
                  </a:lnTo>
                  <a:lnTo>
                    <a:pt x="487" y="23"/>
                  </a:lnTo>
                  <a:lnTo>
                    <a:pt x="491" y="25"/>
                  </a:lnTo>
                  <a:lnTo>
                    <a:pt x="497" y="27"/>
                  </a:lnTo>
                  <a:lnTo>
                    <a:pt x="503" y="31"/>
                  </a:lnTo>
                  <a:lnTo>
                    <a:pt x="508" y="34"/>
                  </a:lnTo>
                  <a:lnTo>
                    <a:pt x="513" y="39"/>
                  </a:lnTo>
                  <a:lnTo>
                    <a:pt x="518" y="43"/>
                  </a:lnTo>
                  <a:lnTo>
                    <a:pt x="522" y="49"/>
                  </a:lnTo>
                  <a:lnTo>
                    <a:pt x="526" y="53"/>
                  </a:lnTo>
                  <a:lnTo>
                    <a:pt x="526" y="59"/>
                  </a:lnTo>
                  <a:lnTo>
                    <a:pt x="527" y="65"/>
                  </a:lnTo>
                  <a:lnTo>
                    <a:pt x="524" y="70"/>
                  </a:lnTo>
                  <a:lnTo>
                    <a:pt x="521" y="76"/>
                  </a:lnTo>
                  <a:lnTo>
                    <a:pt x="515" y="82"/>
                  </a:lnTo>
                  <a:lnTo>
                    <a:pt x="506" y="86"/>
                  </a:lnTo>
                  <a:lnTo>
                    <a:pt x="494" y="90"/>
                  </a:lnTo>
                  <a:lnTo>
                    <a:pt x="479" y="94"/>
                  </a:lnTo>
                  <a:lnTo>
                    <a:pt x="475" y="94"/>
                  </a:lnTo>
                  <a:lnTo>
                    <a:pt x="468" y="94"/>
                  </a:lnTo>
                  <a:lnTo>
                    <a:pt x="458" y="94"/>
                  </a:lnTo>
                  <a:lnTo>
                    <a:pt x="446" y="94"/>
                  </a:lnTo>
                  <a:lnTo>
                    <a:pt x="431" y="94"/>
                  </a:lnTo>
                  <a:lnTo>
                    <a:pt x="416" y="94"/>
                  </a:lnTo>
                  <a:lnTo>
                    <a:pt x="399" y="94"/>
                  </a:lnTo>
                  <a:lnTo>
                    <a:pt x="383" y="94"/>
                  </a:lnTo>
                  <a:lnTo>
                    <a:pt x="365" y="94"/>
                  </a:lnTo>
                  <a:lnTo>
                    <a:pt x="349" y="94"/>
                  </a:lnTo>
                  <a:lnTo>
                    <a:pt x="333" y="94"/>
                  </a:lnTo>
                  <a:lnTo>
                    <a:pt x="320" y="94"/>
                  </a:lnTo>
                  <a:lnTo>
                    <a:pt x="308" y="94"/>
                  </a:lnTo>
                  <a:lnTo>
                    <a:pt x="300" y="94"/>
                  </a:lnTo>
                  <a:lnTo>
                    <a:pt x="294" y="94"/>
                  </a:lnTo>
                  <a:lnTo>
                    <a:pt x="292" y="94"/>
                  </a:lnTo>
                  <a:lnTo>
                    <a:pt x="294" y="96"/>
                  </a:lnTo>
                  <a:lnTo>
                    <a:pt x="298" y="97"/>
                  </a:lnTo>
                  <a:lnTo>
                    <a:pt x="303" y="99"/>
                  </a:lnTo>
                  <a:lnTo>
                    <a:pt x="309" y="100"/>
                  </a:lnTo>
                  <a:lnTo>
                    <a:pt x="314" y="104"/>
                  </a:lnTo>
                  <a:lnTo>
                    <a:pt x="320" y="107"/>
                  </a:lnTo>
                  <a:lnTo>
                    <a:pt x="326" y="110"/>
                  </a:lnTo>
                  <a:lnTo>
                    <a:pt x="333" y="114"/>
                  </a:lnTo>
                  <a:lnTo>
                    <a:pt x="337" y="120"/>
                  </a:lnTo>
                  <a:lnTo>
                    <a:pt x="343" y="125"/>
                  </a:lnTo>
                  <a:lnTo>
                    <a:pt x="347" y="132"/>
                  </a:lnTo>
                  <a:lnTo>
                    <a:pt x="350" y="137"/>
                  </a:lnTo>
                  <a:lnTo>
                    <a:pt x="351" y="145"/>
                  </a:lnTo>
                  <a:lnTo>
                    <a:pt x="351" y="152"/>
                  </a:lnTo>
                  <a:lnTo>
                    <a:pt x="350" y="161"/>
                  </a:lnTo>
                  <a:lnTo>
                    <a:pt x="348" y="168"/>
                  </a:lnTo>
                  <a:lnTo>
                    <a:pt x="350" y="172"/>
                  </a:lnTo>
                  <a:lnTo>
                    <a:pt x="354" y="176"/>
                  </a:lnTo>
                  <a:lnTo>
                    <a:pt x="357" y="180"/>
                  </a:lnTo>
                  <a:lnTo>
                    <a:pt x="361" y="184"/>
                  </a:lnTo>
                  <a:lnTo>
                    <a:pt x="363" y="187"/>
                  </a:lnTo>
                  <a:lnTo>
                    <a:pt x="366" y="191"/>
                  </a:lnTo>
                  <a:lnTo>
                    <a:pt x="368" y="195"/>
                  </a:lnTo>
                  <a:lnTo>
                    <a:pt x="370" y="196"/>
                  </a:lnTo>
                  <a:lnTo>
                    <a:pt x="370" y="200"/>
                  </a:lnTo>
                  <a:lnTo>
                    <a:pt x="371" y="204"/>
                  </a:lnTo>
                  <a:lnTo>
                    <a:pt x="371" y="208"/>
                  </a:lnTo>
                  <a:lnTo>
                    <a:pt x="371" y="212"/>
                  </a:lnTo>
                  <a:lnTo>
                    <a:pt x="370" y="216"/>
                  </a:lnTo>
                  <a:lnTo>
                    <a:pt x="369" y="220"/>
                  </a:lnTo>
                  <a:lnTo>
                    <a:pt x="366" y="224"/>
                  </a:lnTo>
                  <a:lnTo>
                    <a:pt x="363" y="228"/>
                  </a:lnTo>
                  <a:lnTo>
                    <a:pt x="365" y="233"/>
                  </a:lnTo>
                  <a:lnTo>
                    <a:pt x="368" y="236"/>
                  </a:lnTo>
                  <a:lnTo>
                    <a:pt x="370" y="242"/>
                  </a:lnTo>
                  <a:lnTo>
                    <a:pt x="373" y="246"/>
                  </a:lnTo>
                  <a:lnTo>
                    <a:pt x="373" y="252"/>
                  </a:lnTo>
                  <a:lnTo>
                    <a:pt x="375" y="256"/>
                  </a:lnTo>
                  <a:lnTo>
                    <a:pt x="374" y="262"/>
                  </a:lnTo>
                  <a:lnTo>
                    <a:pt x="373" y="266"/>
                  </a:lnTo>
                  <a:lnTo>
                    <a:pt x="370" y="272"/>
                  </a:lnTo>
                  <a:lnTo>
                    <a:pt x="365" y="278"/>
                  </a:lnTo>
                  <a:lnTo>
                    <a:pt x="358" y="283"/>
                  </a:lnTo>
                  <a:lnTo>
                    <a:pt x="349" y="287"/>
                  </a:lnTo>
                  <a:lnTo>
                    <a:pt x="337" y="292"/>
                  </a:lnTo>
                  <a:lnTo>
                    <a:pt x="323" y="296"/>
                  </a:lnTo>
                  <a:lnTo>
                    <a:pt x="306" y="300"/>
                  </a:lnTo>
                  <a:lnTo>
                    <a:pt x="287" y="302"/>
                  </a:lnTo>
                  <a:lnTo>
                    <a:pt x="282" y="304"/>
                  </a:lnTo>
                  <a:lnTo>
                    <a:pt x="278" y="304"/>
                  </a:lnTo>
                  <a:lnTo>
                    <a:pt x="274" y="306"/>
                  </a:lnTo>
                  <a:lnTo>
                    <a:pt x="271" y="306"/>
                  </a:lnTo>
                  <a:lnTo>
                    <a:pt x="267" y="307"/>
                  </a:lnTo>
                  <a:lnTo>
                    <a:pt x="265" y="307"/>
                  </a:lnTo>
                  <a:lnTo>
                    <a:pt x="262" y="307"/>
                  </a:lnTo>
                  <a:lnTo>
                    <a:pt x="260" y="307"/>
                  </a:lnTo>
                  <a:lnTo>
                    <a:pt x="256" y="307"/>
                  </a:lnTo>
                  <a:lnTo>
                    <a:pt x="253" y="307"/>
                  </a:lnTo>
                  <a:lnTo>
                    <a:pt x="250" y="307"/>
                  </a:lnTo>
                  <a:lnTo>
                    <a:pt x="247" y="306"/>
                  </a:lnTo>
                  <a:lnTo>
                    <a:pt x="243" y="305"/>
                  </a:lnTo>
                  <a:lnTo>
                    <a:pt x="240" y="303"/>
                  </a:lnTo>
                  <a:lnTo>
                    <a:pt x="235" y="302"/>
                  </a:lnTo>
                  <a:lnTo>
                    <a:pt x="231" y="299"/>
                  </a:lnTo>
                  <a:lnTo>
                    <a:pt x="203" y="299"/>
                  </a:lnTo>
                  <a:lnTo>
                    <a:pt x="180" y="298"/>
                  </a:lnTo>
                  <a:lnTo>
                    <a:pt x="159" y="296"/>
                  </a:lnTo>
                  <a:lnTo>
                    <a:pt x="141" y="292"/>
                  </a:lnTo>
                  <a:lnTo>
                    <a:pt x="125" y="289"/>
                  </a:lnTo>
                  <a:lnTo>
                    <a:pt x="112" y="285"/>
                  </a:lnTo>
                  <a:lnTo>
                    <a:pt x="100" y="282"/>
                  </a:lnTo>
                  <a:lnTo>
                    <a:pt x="91" y="276"/>
                  </a:lnTo>
                  <a:lnTo>
                    <a:pt x="82" y="273"/>
                  </a:lnTo>
                  <a:lnTo>
                    <a:pt x="75" y="269"/>
                  </a:lnTo>
                  <a:lnTo>
                    <a:pt x="69" y="265"/>
                  </a:lnTo>
                  <a:lnTo>
                    <a:pt x="63" y="260"/>
                  </a:lnTo>
                  <a:lnTo>
                    <a:pt x="58" y="258"/>
                  </a:lnTo>
                  <a:lnTo>
                    <a:pt x="53" y="254"/>
                  </a:lnTo>
                  <a:lnTo>
                    <a:pt x="47" y="252"/>
                  </a:lnTo>
                  <a:lnTo>
                    <a:pt x="42" y="249"/>
                  </a:lnTo>
                  <a:lnTo>
                    <a:pt x="39" y="249"/>
                  </a:lnTo>
                  <a:lnTo>
                    <a:pt x="37" y="249"/>
                  </a:lnTo>
                  <a:lnTo>
                    <a:pt x="34" y="249"/>
                  </a:lnTo>
                  <a:lnTo>
                    <a:pt x="32" y="249"/>
                  </a:lnTo>
                  <a:lnTo>
                    <a:pt x="28" y="249"/>
                  </a:lnTo>
                  <a:lnTo>
                    <a:pt x="25" y="249"/>
                  </a:lnTo>
                  <a:lnTo>
                    <a:pt x="21" y="249"/>
                  </a:lnTo>
                  <a:lnTo>
                    <a:pt x="19" y="249"/>
                  </a:lnTo>
                  <a:lnTo>
                    <a:pt x="16" y="249"/>
                  </a:lnTo>
                  <a:lnTo>
                    <a:pt x="13" y="249"/>
                  </a:lnTo>
                  <a:lnTo>
                    <a:pt x="9" y="249"/>
                  </a:lnTo>
                  <a:lnTo>
                    <a:pt x="7" y="248"/>
                  </a:lnTo>
                  <a:lnTo>
                    <a:pt x="5" y="248"/>
                  </a:lnTo>
                  <a:lnTo>
                    <a:pt x="3" y="247"/>
                  </a:lnTo>
                  <a:lnTo>
                    <a:pt x="1" y="246"/>
                  </a:lnTo>
                  <a:lnTo>
                    <a:pt x="0" y="245"/>
                  </a:lnTo>
                  <a:lnTo>
                    <a:pt x="0" y="243"/>
                  </a:lnTo>
                  <a:lnTo>
                    <a:pt x="0" y="238"/>
                  </a:lnTo>
                  <a:lnTo>
                    <a:pt x="0" y="229"/>
                  </a:lnTo>
                  <a:lnTo>
                    <a:pt x="0" y="216"/>
                  </a:lnTo>
                  <a:lnTo>
                    <a:pt x="0" y="203"/>
                  </a:lnTo>
                  <a:lnTo>
                    <a:pt x="0" y="186"/>
                  </a:lnTo>
                  <a:lnTo>
                    <a:pt x="0" y="169"/>
                  </a:lnTo>
                  <a:lnTo>
                    <a:pt x="0" y="151"/>
                  </a:lnTo>
                  <a:lnTo>
                    <a:pt x="0" y="134"/>
                  </a:lnTo>
                  <a:lnTo>
                    <a:pt x="0" y="116"/>
                  </a:lnTo>
                  <a:lnTo>
                    <a:pt x="0" y="100"/>
                  </a:lnTo>
                  <a:lnTo>
                    <a:pt x="0" y="85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0" y="53"/>
                  </a:lnTo>
                </a:path>
              </a:pathLst>
            </a:custGeom>
            <a:solidFill>
              <a:srgbClr val="ff814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245520" y="7078680"/>
              <a:ext cx="220680" cy="216000"/>
            </a:xfrm>
            <a:custGeom>
              <a:avLst/>
              <a:gdLst/>
              <a:ahLst/>
              <a:rect l="l" t="t" r="r" b="b"/>
              <a:pathLst>
                <a:path w="139" h="136">
                  <a:moveTo>
                    <a:pt x="65" y="0"/>
                  </a:moveTo>
                  <a:lnTo>
                    <a:pt x="65" y="2"/>
                  </a:lnTo>
                  <a:lnTo>
                    <a:pt x="68" y="4"/>
                  </a:lnTo>
                  <a:lnTo>
                    <a:pt x="71" y="9"/>
                  </a:lnTo>
                  <a:lnTo>
                    <a:pt x="76" y="14"/>
                  </a:lnTo>
                  <a:lnTo>
                    <a:pt x="81" y="21"/>
                  </a:lnTo>
                  <a:lnTo>
                    <a:pt x="87" y="27"/>
                  </a:lnTo>
                  <a:lnTo>
                    <a:pt x="93" y="35"/>
                  </a:lnTo>
                  <a:lnTo>
                    <a:pt x="101" y="43"/>
                  </a:lnTo>
                  <a:lnTo>
                    <a:pt x="106" y="53"/>
                  </a:lnTo>
                  <a:lnTo>
                    <a:pt x="113" y="61"/>
                  </a:lnTo>
                  <a:lnTo>
                    <a:pt x="119" y="69"/>
                  </a:lnTo>
                  <a:lnTo>
                    <a:pt x="126" y="76"/>
                  </a:lnTo>
                  <a:lnTo>
                    <a:pt x="129" y="84"/>
                  </a:lnTo>
                  <a:lnTo>
                    <a:pt x="134" y="90"/>
                  </a:lnTo>
                  <a:lnTo>
                    <a:pt x="136" y="95"/>
                  </a:lnTo>
                  <a:lnTo>
                    <a:pt x="138" y="99"/>
                  </a:lnTo>
                  <a:lnTo>
                    <a:pt x="137" y="102"/>
                  </a:lnTo>
                  <a:lnTo>
                    <a:pt x="137" y="103"/>
                  </a:lnTo>
                  <a:lnTo>
                    <a:pt x="136" y="107"/>
                  </a:lnTo>
                  <a:lnTo>
                    <a:pt x="136" y="111"/>
                  </a:lnTo>
                  <a:lnTo>
                    <a:pt x="134" y="115"/>
                  </a:lnTo>
                  <a:lnTo>
                    <a:pt x="132" y="119"/>
                  </a:lnTo>
                  <a:lnTo>
                    <a:pt x="129" y="122"/>
                  </a:lnTo>
                  <a:lnTo>
                    <a:pt x="127" y="125"/>
                  </a:lnTo>
                  <a:lnTo>
                    <a:pt x="122" y="129"/>
                  </a:lnTo>
                  <a:lnTo>
                    <a:pt x="118" y="132"/>
                  </a:lnTo>
                  <a:lnTo>
                    <a:pt x="111" y="133"/>
                  </a:lnTo>
                  <a:lnTo>
                    <a:pt x="106" y="134"/>
                  </a:lnTo>
                  <a:lnTo>
                    <a:pt x="98" y="135"/>
                  </a:lnTo>
                  <a:lnTo>
                    <a:pt x="90" y="133"/>
                  </a:lnTo>
                  <a:lnTo>
                    <a:pt x="81" y="131"/>
                  </a:lnTo>
                  <a:lnTo>
                    <a:pt x="71" y="125"/>
                  </a:lnTo>
                  <a:lnTo>
                    <a:pt x="66" y="124"/>
                  </a:lnTo>
                  <a:lnTo>
                    <a:pt x="61" y="122"/>
                  </a:lnTo>
                  <a:lnTo>
                    <a:pt x="56" y="120"/>
                  </a:lnTo>
                  <a:lnTo>
                    <a:pt x="51" y="116"/>
                  </a:lnTo>
                  <a:lnTo>
                    <a:pt x="45" y="112"/>
                  </a:lnTo>
                  <a:lnTo>
                    <a:pt x="40" y="109"/>
                  </a:lnTo>
                  <a:lnTo>
                    <a:pt x="34" y="105"/>
                  </a:lnTo>
                  <a:lnTo>
                    <a:pt x="28" y="99"/>
                  </a:lnTo>
                  <a:lnTo>
                    <a:pt x="23" y="95"/>
                  </a:lnTo>
                  <a:lnTo>
                    <a:pt x="17" y="92"/>
                  </a:lnTo>
                  <a:lnTo>
                    <a:pt x="12" y="89"/>
                  </a:lnTo>
                  <a:lnTo>
                    <a:pt x="8" y="85"/>
                  </a:lnTo>
                  <a:lnTo>
                    <a:pt x="4" y="83"/>
                  </a:lnTo>
                  <a:lnTo>
                    <a:pt x="2" y="80"/>
                  </a:lnTo>
                  <a:lnTo>
                    <a:pt x="0" y="79"/>
                  </a:lnTo>
                  <a:lnTo>
                    <a:pt x="0" y="7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9082080" y="7261200"/>
              <a:ext cx="243000" cy="76320"/>
            </a:xfrm>
            <a:custGeom>
              <a:avLst/>
              <a:gdLst/>
              <a:ahLst/>
              <a:rect l="l" t="t" r="r" b="b"/>
              <a:pathLst>
                <a:path w="153" h="48">
                  <a:moveTo>
                    <a:pt x="0" y="32"/>
                  </a:moveTo>
                  <a:lnTo>
                    <a:pt x="0" y="33"/>
                  </a:lnTo>
                  <a:lnTo>
                    <a:pt x="3" y="34"/>
                  </a:lnTo>
                  <a:lnTo>
                    <a:pt x="8" y="35"/>
                  </a:lnTo>
                  <a:lnTo>
                    <a:pt x="15" y="37"/>
                  </a:lnTo>
                  <a:lnTo>
                    <a:pt x="21" y="40"/>
                  </a:lnTo>
                  <a:lnTo>
                    <a:pt x="31" y="42"/>
                  </a:lnTo>
                  <a:lnTo>
                    <a:pt x="40" y="44"/>
                  </a:lnTo>
                  <a:lnTo>
                    <a:pt x="51" y="45"/>
                  </a:lnTo>
                  <a:lnTo>
                    <a:pt x="62" y="47"/>
                  </a:lnTo>
                  <a:lnTo>
                    <a:pt x="73" y="47"/>
                  </a:lnTo>
                  <a:lnTo>
                    <a:pt x="85" y="46"/>
                  </a:lnTo>
                  <a:lnTo>
                    <a:pt x="97" y="44"/>
                  </a:lnTo>
                  <a:lnTo>
                    <a:pt x="107" y="40"/>
                  </a:lnTo>
                  <a:lnTo>
                    <a:pt x="119" y="35"/>
                  </a:lnTo>
                  <a:lnTo>
                    <a:pt x="128" y="28"/>
                  </a:lnTo>
                  <a:lnTo>
                    <a:pt x="139" y="19"/>
                  </a:lnTo>
                  <a:lnTo>
                    <a:pt x="139" y="19"/>
                  </a:lnTo>
                  <a:lnTo>
                    <a:pt x="141" y="17"/>
                  </a:lnTo>
                  <a:lnTo>
                    <a:pt x="141" y="16"/>
                  </a:lnTo>
                  <a:lnTo>
                    <a:pt x="143" y="14"/>
                  </a:lnTo>
                  <a:lnTo>
                    <a:pt x="143" y="14"/>
                  </a:lnTo>
                  <a:lnTo>
                    <a:pt x="145" y="12"/>
                  </a:lnTo>
                  <a:lnTo>
                    <a:pt x="146" y="10"/>
                  </a:lnTo>
                  <a:lnTo>
                    <a:pt x="147" y="8"/>
                  </a:lnTo>
                  <a:lnTo>
                    <a:pt x="147" y="8"/>
                  </a:lnTo>
                  <a:lnTo>
                    <a:pt x="148" y="6"/>
                  </a:lnTo>
                  <a:lnTo>
                    <a:pt x="148" y="5"/>
                  </a:lnTo>
                  <a:lnTo>
                    <a:pt x="150" y="3"/>
                  </a:lnTo>
                  <a:lnTo>
                    <a:pt x="150" y="3"/>
                  </a:lnTo>
                  <a:lnTo>
                    <a:pt x="151" y="1"/>
                  </a:lnTo>
                  <a:lnTo>
                    <a:pt x="151" y="1"/>
                  </a:lnTo>
                  <a:lnTo>
                    <a:pt x="1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347040" y="7464600"/>
              <a:ext cx="17640" cy="64800"/>
            </a:xfrm>
            <a:custGeom>
              <a:avLst/>
              <a:gdLst/>
              <a:ahLst/>
              <a:rect l="l" t="t" r="r" b="b"/>
              <a:pathLst>
                <a:path w="11" h="41">
                  <a:moveTo>
                    <a:pt x="6" y="40"/>
                  </a:moveTo>
                  <a:lnTo>
                    <a:pt x="4" y="38"/>
                  </a:lnTo>
                  <a:lnTo>
                    <a:pt x="2" y="35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5" y="10"/>
                  </a:lnTo>
                  <a:lnTo>
                    <a:pt x="6" y="8"/>
                  </a:lnTo>
                  <a:lnTo>
                    <a:pt x="7" y="5"/>
                  </a:lnTo>
                  <a:lnTo>
                    <a:pt x="7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282240" y="7380360"/>
              <a:ext cx="280800" cy="85680"/>
            </a:xfrm>
            <a:custGeom>
              <a:avLst/>
              <a:gdLst/>
              <a:ahLst/>
              <a:rect l="l" t="t" r="r" b="b"/>
              <a:pathLst>
                <a:path w="177" h="54">
                  <a:moveTo>
                    <a:pt x="176" y="25"/>
                  </a:moveTo>
                  <a:lnTo>
                    <a:pt x="174" y="26"/>
                  </a:lnTo>
                  <a:lnTo>
                    <a:pt x="171" y="27"/>
                  </a:lnTo>
                  <a:lnTo>
                    <a:pt x="166" y="29"/>
                  </a:lnTo>
                  <a:lnTo>
                    <a:pt x="161" y="31"/>
                  </a:lnTo>
                  <a:lnTo>
                    <a:pt x="153" y="35"/>
                  </a:lnTo>
                  <a:lnTo>
                    <a:pt x="145" y="37"/>
                  </a:lnTo>
                  <a:lnTo>
                    <a:pt x="136" y="41"/>
                  </a:lnTo>
                  <a:lnTo>
                    <a:pt x="126" y="43"/>
                  </a:lnTo>
                  <a:lnTo>
                    <a:pt x="114" y="47"/>
                  </a:lnTo>
                  <a:lnTo>
                    <a:pt x="103" y="48"/>
                  </a:lnTo>
                  <a:lnTo>
                    <a:pt x="89" y="51"/>
                  </a:lnTo>
                  <a:lnTo>
                    <a:pt x="78" y="52"/>
                  </a:lnTo>
                  <a:lnTo>
                    <a:pt x="65" y="53"/>
                  </a:lnTo>
                  <a:lnTo>
                    <a:pt x="51" y="53"/>
                  </a:lnTo>
                  <a:lnTo>
                    <a:pt x="38" y="52"/>
                  </a:lnTo>
                  <a:lnTo>
                    <a:pt x="26" y="50"/>
                  </a:lnTo>
                  <a:lnTo>
                    <a:pt x="18" y="48"/>
                  </a:lnTo>
                  <a:lnTo>
                    <a:pt x="13" y="45"/>
                  </a:lnTo>
                  <a:lnTo>
                    <a:pt x="9" y="41"/>
                  </a:lnTo>
                  <a:lnTo>
                    <a:pt x="5" y="38"/>
                  </a:lnTo>
                  <a:lnTo>
                    <a:pt x="3" y="34"/>
                  </a:lnTo>
                  <a:lnTo>
                    <a:pt x="1" y="30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3" y="7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1"/>
                  </a:lnTo>
                  <a:lnTo>
                    <a:pt x="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9256680" y="7319880"/>
              <a:ext cx="279360" cy="65160"/>
            </a:xfrm>
            <a:custGeom>
              <a:avLst/>
              <a:gdLst/>
              <a:ahLst/>
              <a:rect l="l" t="t" r="r" b="b"/>
              <a:pathLst>
                <a:path w="176" h="41">
                  <a:moveTo>
                    <a:pt x="4" y="0"/>
                  </a:moveTo>
                  <a:lnTo>
                    <a:pt x="3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2" y="27"/>
                  </a:lnTo>
                  <a:lnTo>
                    <a:pt x="5" y="31"/>
                  </a:lnTo>
                  <a:lnTo>
                    <a:pt x="7" y="35"/>
                  </a:lnTo>
                  <a:lnTo>
                    <a:pt x="12" y="37"/>
                  </a:lnTo>
                  <a:lnTo>
                    <a:pt x="17" y="39"/>
                  </a:lnTo>
                  <a:lnTo>
                    <a:pt x="25" y="40"/>
                  </a:lnTo>
                  <a:lnTo>
                    <a:pt x="33" y="40"/>
                  </a:lnTo>
                  <a:lnTo>
                    <a:pt x="45" y="38"/>
                  </a:lnTo>
                  <a:lnTo>
                    <a:pt x="49" y="38"/>
                  </a:lnTo>
                  <a:lnTo>
                    <a:pt x="55" y="38"/>
                  </a:lnTo>
                  <a:lnTo>
                    <a:pt x="63" y="36"/>
                  </a:lnTo>
                  <a:lnTo>
                    <a:pt x="73" y="33"/>
                  </a:lnTo>
                  <a:lnTo>
                    <a:pt x="83" y="31"/>
                  </a:lnTo>
                  <a:lnTo>
                    <a:pt x="94" y="27"/>
                  </a:lnTo>
                  <a:lnTo>
                    <a:pt x="105" y="23"/>
                  </a:lnTo>
                  <a:lnTo>
                    <a:pt x="117" y="20"/>
                  </a:lnTo>
                  <a:lnTo>
                    <a:pt x="127" y="17"/>
                  </a:lnTo>
                  <a:lnTo>
                    <a:pt x="138" y="13"/>
                  </a:lnTo>
                  <a:lnTo>
                    <a:pt x="147" y="10"/>
                  </a:lnTo>
                  <a:lnTo>
                    <a:pt x="157" y="6"/>
                  </a:lnTo>
                  <a:lnTo>
                    <a:pt x="163" y="4"/>
                  </a:lnTo>
                  <a:lnTo>
                    <a:pt x="169" y="1"/>
                  </a:lnTo>
                  <a:lnTo>
                    <a:pt x="173" y="1"/>
                  </a:lnTo>
                  <a:lnTo>
                    <a:pt x="17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880480" y="7105680"/>
              <a:ext cx="112680" cy="433440"/>
            </a:xfrm>
            <a:custGeom>
              <a:avLst/>
              <a:gdLst/>
              <a:ahLst/>
              <a:rect l="l" t="t" r="r" b="b"/>
              <a:pathLst>
                <a:path w="71" h="273">
                  <a:moveTo>
                    <a:pt x="0" y="0"/>
                  </a:moveTo>
                  <a:lnTo>
                    <a:pt x="70" y="0"/>
                  </a:lnTo>
                  <a:lnTo>
                    <a:pt x="70" y="272"/>
                  </a:lnTo>
                  <a:lnTo>
                    <a:pt x="10" y="27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747280" y="7091280"/>
              <a:ext cx="177480" cy="478080"/>
            </a:xfrm>
            <a:custGeom>
              <a:avLst/>
              <a:gdLst/>
              <a:ahLst/>
              <a:rect l="l" t="t" r="r" b="b"/>
              <a:pathLst>
                <a:path w="112" h="301">
                  <a:moveTo>
                    <a:pt x="0" y="1"/>
                  </a:moveTo>
                  <a:lnTo>
                    <a:pt x="94" y="0"/>
                  </a:lnTo>
                  <a:lnTo>
                    <a:pt x="95" y="280"/>
                  </a:lnTo>
                  <a:lnTo>
                    <a:pt x="111" y="281"/>
                  </a:lnTo>
                  <a:lnTo>
                    <a:pt x="96" y="300"/>
                  </a:lnTo>
                  <a:lnTo>
                    <a:pt x="0" y="293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"/>
          <p:cNvGrpSpPr/>
          <p:nvPr/>
        </p:nvGrpSpPr>
        <p:grpSpPr>
          <a:xfrm>
            <a:off x="6248520" y="4809960"/>
            <a:ext cx="3857400" cy="3114720"/>
            <a:chOff x="6248520" y="4809960"/>
            <a:chExt cx="3857400" cy="3114720"/>
          </a:xfrm>
        </p:grpSpPr>
        <p:sp>
          <p:nvSpPr>
            <p:cNvPr id="345" name=""/>
            <p:cNvSpPr/>
            <p:nvPr/>
          </p:nvSpPr>
          <p:spPr>
            <a:xfrm>
              <a:off x="6248520" y="4809960"/>
              <a:ext cx="3857400" cy="3114720"/>
            </a:xfrm>
            <a:custGeom>
              <a:avLst/>
              <a:gdLst/>
              <a:ahLst/>
              <a:rect l="l" t="t" r="r" b="b"/>
              <a:pathLst>
                <a:path w="2430" h="1962">
                  <a:moveTo>
                    <a:pt x="16" y="44"/>
                  </a:moveTo>
                  <a:lnTo>
                    <a:pt x="16" y="619"/>
                  </a:lnTo>
                  <a:lnTo>
                    <a:pt x="1811" y="1961"/>
                  </a:lnTo>
                  <a:lnTo>
                    <a:pt x="2429" y="766"/>
                  </a:lnTo>
                  <a:lnTo>
                    <a:pt x="0" y="0"/>
                  </a:lnTo>
                  <a:lnTo>
                    <a:pt x="16" y="44"/>
                  </a:lnTo>
                  <a:lnTo>
                    <a:pt x="16" y="44"/>
                  </a:lnTo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 flipV="1">
              <a:off x="6309720" y="4885920"/>
              <a:ext cx="3036600" cy="115884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474120" y="5889600"/>
              <a:ext cx="19980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 flipV="1">
              <a:off x="6291360" y="4867200"/>
              <a:ext cx="2871360" cy="167472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288360" y="6441840"/>
              <a:ext cx="19980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948520" y="7083360"/>
              <a:ext cx="1998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310080" y="4867200"/>
              <a:ext cx="2541240" cy="2212920"/>
            </a:xfrm>
            <a:prstGeom prst="line">
              <a:avLst/>
            </a:prstGeom>
            <a:ln w="31680">
              <a:solidFill>
                <a:srgbClr val="4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734320" y="6389640"/>
              <a:ext cx="19980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6270120" y="4865040"/>
              <a:ext cx="2309400" cy="1731960"/>
            </a:xfrm>
            <a:prstGeom prst="line">
              <a:avLst/>
            </a:prstGeom>
            <a:ln w="47520">
              <a:solidFill>
                <a:srgbClr val="4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6237360" y="2133720"/>
            <a:ext cx="4278240" cy="3274920"/>
            <a:chOff x="6237360" y="2133720"/>
            <a:chExt cx="4278240" cy="3274920"/>
          </a:xfrm>
        </p:grpSpPr>
        <p:sp>
          <p:nvSpPr>
            <p:cNvPr id="355" name=""/>
            <p:cNvSpPr/>
            <p:nvPr/>
          </p:nvSpPr>
          <p:spPr>
            <a:xfrm>
              <a:off x="6237360" y="2133720"/>
              <a:ext cx="4278240" cy="2690640"/>
            </a:xfrm>
            <a:custGeom>
              <a:avLst/>
              <a:gdLst/>
              <a:ahLst/>
              <a:rect l="l" t="t" r="r" b="b"/>
              <a:pathLst>
                <a:path w="2695" h="1695">
                  <a:moveTo>
                    <a:pt x="1716" y="1438"/>
                  </a:moveTo>
                  <a:lnTo>
                    <a:pt x="0" y="1694"/>
                  </a:lnTo>
                  <a:lnTo>
                    <a:pt x="3" y="34"/>
                  </a:lnTo>
                  <a:lnTo>
                    <a:pt x="305" y="144"/>
                  </a:lnTo>
                  <a:lnTo>
                    <a:pt x="484" y="108"/>
                  </a:lnTo>
                  <a:lnTo>
                    <a:pt x="625" y="14"/>
                  </a:lnTo>
                  <a:lnTo>
                    <a:pt x="933" y="67"/>
                  </a:lnTo>
                  <a:lnTo>
                    <a:pt x="1887" y="0"/>
                  </a:lnTo>
                  <a:lnTo>
                    <a:pt x="2017" y="118"/>
                  </a:lnTo>
                  <a:lnTo>
                    <a:pt x="2394" y="157"/>
                  </a:lnTo>
                  <a:lnTo>
                    <a:pt x="2356" y="456"/>
                  </a:lnTo>
                  <a:lnTo>
                    <a:pt x="2694" y="743"/>
                  </a:lnTo>
                  <a:lnTo>
                    <a:pt x="2264" y="978"/>
                  </a:lnTo>
                  <a:lnTo>
                    <a:pt x="2210" y="1088"/>
                  </a:lnTo>
                  <a:lnTo>
                    <a:pt x="2058" y="1217"/>
                  </a:lnTo>
                  <a:lnTo>
                    <a:pt x="1716" y="1438"/>
                  </a:lnTo>
                  <a:lnTo>
                    <a:pt x="1716" y="1438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53200" y="4390920"/>
              <a:ext cx="4032360" cy="1017720"/>
            </a:xfrm>
            <a:custGeom>
              <a:avLst/>
              <a:gdLst/>
              <a:ahLst/>
              <a:rect l="l" t="t" r="r" b="b"/>
              <a:pathLst>
                <a:path w="2540" h="641">
                  <a:moveTo>
                    <a:pt x="2038" y="641"/>
                  </a:moveTo>
                  <a:lnTo>
                    <a:pt x="0" y="264"/>
                  </a:lnTo>
                  <a:lnTo>
                    <a:pt x="2004" y="0"/>
                  </a:lnTo>
                  <a:lnTo>
                    <a:pt x="2114" y="100"/>
                  </a:lnTo>
                  <a:lnTo>
                    <a:pt x="2479" y="161"/>
                  </a:lnTo>
                  <a:lnTo>
                    <a:pt x="2472" y="275"/>
                  </a:lnTo>
                  <a:lnTo>
                    <a:pt x="2540" y="321"/>
                  </a:lnTo>
                  <a:lnTo>
                    <a:pt x="2494" y="389"/>
                  </a:lnTo>
                  <a:lnTo>
                    <a:pt x="2479" y="451"/>
                  </a:lnTo>
                  <a:lnTo>
                    <a:pt x="2492" y="369"/>
                  </a:lnTo>
                  <a:lnTo>
                    <a:pt x="2462" y="460"/>
                  </a:lnTo>
                  <a:lnTo>
                    <a:pt x="2441" y="440"/>
                  </a:lnTo>
                  <a:lnTo>
                    <a:pt x="2452" y="501"/>
                  </a:lnTo>
                  <a:lnTo>
                    <a:pt x="2388" y="534"/>
                  </a:lnTo>
                  <a:lnTo>
                    <a:pt x="2310" y="582"/>
                  </a:lnTo>
                  <a:lnTo>
                    <a:pt x="2038" y="641"/>
                  </a:lnTo>
                  <a:lnTo>
                    <a:pt x="2038" y="641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205920" y="304560"/>
            <a:ext cx="4813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2000"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Tomemos los axiomas convencionales para esbozar 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057400" y="1371600"/>
            <a:ext cx="8390160" cy="5756400"/>
            <a:chOff x="2057400" y="1371600"/>
            <a:chExt cx="8390160" cy="5756400"/>
          </a:xfrm>
        </p:grpSpPr>
        <p:sp>
          <p:nvSpPr>
            <p:cNvPr id="359" name=""/>
            <p:cNvSpPr/>
            <p:nvPr/>
          </p:nvSpPr>
          <p:spPr>
            <a:xfrm>
              <a:off x="2057400" y="4044960"/>
              <a:ext cx="7961040" cy="144144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2790720" y="4349520"/>
              <a:ext cx="6892560" cy="95076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20940000">
              <a:off x="8949960" y="4552560"/>
              <a:ext cx="57132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cerdos  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660000">
              <a:off x="9281520" y="5534280"/>
              <a:ext cx="7538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traba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562360" y="1835280"/>
              <a:ext cx="528120" cy="13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choriz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9816120" y="4088520"/>
              <a:ext cx="405360" cy="439920"/>
              <a:chOff x="9816120" y="4088520"/>
              <a:chExt cx="405360" cy="439920"/>
            </a:xfrm>
          </p:grpSpPr>
          <p:sp>
            <p:nvSpPr>
              <p:cNvPr id="365" name=""/>
              <p:cNvSpPr/>
              <p:nvPr/>
            </p:nvSpPr>
            <p:spPr>
              <a:xfrm rot="20220000">
                <a:off x="9883080" y="4106880"/>
                <a:ext cx="171360" cy="37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20220000">
                <a:off x="10078560" y="4299120"/>
                <a:ext cx="10440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10181160" y="5366880"/>
              <a:ext cx="266400" cy="507960"/>
              <a:chOff x="10181160" y="5366880"/>
              <a:chExt cx="266400" cy="507960"/>
            </a:xfrm>
          </p:grpSpPr>
          <p:sp>
            <p:nvSpPr>
              <p:cNvPr id="368" name=""/>
              <p:cNvSpPr/>
              <p:nvPr/>
            </p:nvSpPr>
            <p:spPr>
              <a:xfrm rot="840000">
                <a:off x="10224360" y="5381280"/>
                <a:ext cx="168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840000">
                <a:off x="10320840" y="5648400"/>
                <a:ext cx="10152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6202080" y="1371600"/>
              <a:ext cx="245520" cy="465120"/>
              <a:chOff x="6202080" y="1371600"/>
              <a:chExt cx="245520" cy="465120"/>
            </a:xfrm>
          </p:grpSpPr>
          <p:sp>
            <p:nvSpPr>
              <p:cNvPr id="371" name=""/>
              <p:cNvSpPr/>
              <p:nvPr/>
            </p:nvSpPr>
            <p:spPr>
              <a:xfrm>
                <a:off x="6202080" y="1371600"/>
                <a:ext cx="17100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343200" y="1619280"/>
                <a:ext cx="10440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 flipV="1">
              <a:off x="6325920" y="1895760"/>
              <a:ext cx="0" cy="523224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53000" y="4454640"/>
              <a:ext cx="23616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0" y="0"/>
            <a:ext cx="4492800" cy="25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A1. Siempre se puede no hacer...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39000" y="42148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0"/>
            <a:ext cx="4492800" cy="25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A2: No hay almuerzos grati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6975360" y="1981080"/>
            <a:ext cx="3083040" cy="3105360"/>
            <a:chOff x="6975360" y="1981080"/>
            <a:chExt cx="3083040" cy="3105360"/>
          </a:xfrm>
        </p:grpSpPr>
        <p:sp>
          <p:nvSpPr>
            <p:cNvPr id="379" name=""/>
            <p:cNvSpPr/>
            <p:nvPr/>
          </p:nvSpPr>
          <p:spPr>
            <a:xfrm>
              <a:off x="6975360" y="1981080"/>
              <a:ext cx="3083040" cy="3105360"/>
            </a:xfrm>
            <a:custGeom>
              <a:avLst/>
              <a:gdLst/>
              <a:ahLst/>
              <a:rect l="l" t="t" r="r" b="b"/>
              <a:pathLst>
                <a:path w="1942" h="1956">
                  <a:moveTo>
                    <a:pt x="349" y="858"/>
                  </a:moveTo>
                  <a:lnTo>
                    <a:pt x="345" y="863"/>
                  </a:lnTo>
                  <a:lnTo>
                    <a:pt x="341" y="869"/>
                  </a:lnTo>
                  <a:lnTo>
                    <a:pt x="337" y="875"/>
                  </a:lnTo>
                  <a:lnTo>
                    <a:pt x="333" y="880"/>
                  </a:lnTo>
                  <a:lnTo>
                    <a:pt x="327" y="886"/>
                  </a:lnTo>
                  <a:lnTo>
                    <a:pt x="323" y="892"/>
                  </a:lnTo>
                  <a:lnTo>
                    <a:pt x="317" y="898"/>
                  </a:lnTo>
                  <a:lnTo>
                    <a:pt x="313" y="903"/>
                  </a:lnTo>
                  <a:lnTo>
                    <a:pt x="307" y="911"/>
                  </a:lnTo>
                  <a:lnTo>
                    <a:pt x="302" y="916"/>
                  </a:lnTo>
                  <a:lnTo>
                    <a:pt x="296" y="922"/>
                  </a:lnTo>
                  <a:lnTo>
                    <a:pt x="291" y="928"/>
                  </a:lnTo>
                  <a:lnTo>
                    <a:pt x="286" y="933"/>
                  </a:lnTo>
                  <a:lnTo>
                    <a:pt x="282" y="939"/>
                  </a:lnTo>
                  <a:lnTo>
                    <a:pt x="278" y="944"/>
                  </a:lnTo>
                  <a:lnTo>
                    <a:pt x="276" y="949"/>
                  </a:lnTo>
                  <a:lnTo>
                    <a:pt x="272" y="953"/>
                  </a:lnTo>
                  <a:lnTo>
                    <a:pt x="267" y="958"/>
                  </a:lnTo>
                  <a:lnTo>
                    <a:pt x="262" y="965"/>
                  </a:lnTo>
                  <a:lnTo>
                    <a:pt x="256" y="972"/>
                  </a:lnTo>
                  <a:lnTo>
                    <a:pt x="249" y="981"/>
                  </a:lnTo>
                  <a:lnTo>
                    <a:pt x="241" y="990"/>
                  </a:lnTo>
                  <a:lnTo>
                    <a:pt x="233" y="999"/>
                  </a:lnTo>
                  <a:lnTo>
                    <a:pt x="225" y="1008"/>
                  </a:lnTo>
                  <a:lnTo>
                    <a:pt x="216" y="1018"/>
                  </a:lnTo>
                  <a:lnTo>
                    <a:pt x="208" y="1027"/>
                  </a:lnTo>
                  <a:lnTo>
                    <a:pt x="201" y="1036"/>
                  </a:lnTo>
                  <a:lnTo>
                    <a:pt x="194" y="1044"/>
                  </a:lnTo>
                  <a:lnTo>
                    <a:pt x="188" y="1051"/>
                  </a:lnTo>
                  <a:lnTo>
                    <a:pt x="183" y="1058"/>
                  </a:lnTo>
                  <a:lnTo>
                    <a:pt x="178" y="1062"/>
                  </a:lnTo>
                  <a:lnTo>
                    <a:pt x="177" y="1065"/>
                  </a:lnTo>
                  <a:lnTo>
                    <a:pt x="171" y="1071"/>
                  </a:lnTo>
                  <a:lnTo>
                    <a:pt x="167" y="1078"/>
                  </a:lnTo>
                  <a:lnTo>
                    <a:pt x="160" y="1087"/>
                  </a:lnTo>
                  <a:lnTo>
                    <a:pt x="154" y="1096"/>
                  </a:lnTo>
                  <a:lnTo>
                    <a:pt x="146" y="1107"/>
                  </a:lnTo>
                  <a:lnTo>
                    <a:pt x="138" y="1118"/>
                  </a:lnTo>
                  <a:lnTo>
                    <a:pt x="130" y="1132"/>
                  </a:lnTo>
                  <a:lnTo>
                    <a:pt x="123" y="1143"/>
                  </a:lnTo>
                  <a:lnTo>
                    <a:pt x="114" y="1156"/>
                  </a:lnTo>
                  <a:lnTo>
                    <a:pt x="107" y="1168"/>
                  </a:lnTo>
                  <a:lnTo>
                    <a:pt x="99" y="1180"/>
                  </a:lnTo>
                  <a:lnTo>
                    <a:pt x="93" y="1190"/>
                  </a:lnTo>
                  <a:lnTo>
                    <a:pt x="88" y="1200"/>
                  </a:lnTo>
                  <a:lnTo>
                    <a:pt x="84" y="1209"/>
                  </a:lnTo>
                  <a:lnTo>
                    <a:pt x="82" y="1216"/>
                  </a:lnTo>
                  <a:lnTo>
                    <a:pt x="82" y="1220"/>
                  </a:lnTo>
                  <a:lnTo>
                    <a:pt x="82" y="1222"/>
                  </a:lnTo>
                  <a:lnTo>
                    <a:pt x="82" y="1224"/>
                  </a:lnTo>
                  <a:lnTo>
                    <a:pt x="82" y="1225"/>
                  </a:lnTo>
                  <a:lnTo>
                    <a:pt x="82" y="1227"/>
                  </a:lnTo>
                  <a:lnTo>
                    <a:pt x="82" y="1231"/>
                  </a:lnTo>
                  <a:lnTo>
                    <a:pt x="82" y="1233"/>
                  </a:lnTo>
                  <a:lnTo>
                    <a:pt x="82" y="1235"/>
                  </a:lnTo>
                  <a:lnTo>
                    <a:pt x="84" y="1236"/>
                  </a:lnTo>
                  <a:lnTo>
                    <a:pt x="84" y="1240"/>
                  </a:lnTo>
                  <a:lnTo>
                    <a:pt x="84" y="1242"/>
                  </a:lnTo>
                  <a:lnTo>
                    <a:pt x="84" y="1245"/>
                  </a:lnTo>
                  <a:lnTo>
                    <a:pt x="85" y="1246"/>
                  </a:lnTo>
                  <a:lnTo>
                    <a:pt x="83" y="1248"/>
                  </a:lnTo>
                  <a:lnTo>
                    <a:pt x="83" y="1250"/>
                  </a:lnTo>
                  <a:lnTo>
                    <a:pt x="83" y="1252"/>
                  </a:lnTo>
                  <a:lnTo>
                    <a:pt x="83" y="1252"/>
                  </a:lnTo>
                  <a:lnTo>
                    <a:pt x="80" y="1257"/>
                  </a:lnTo>
                  <a:lnTo>
                    <a:pt x="77" y="1262"/>
                  </a:lnTo>
                  <a:lnTo>
                    <a:pt x="73" y="1269"/>
                  </a:lnTo>
                  <a:lnTo>
                    <a:pt x="71" y="1276"/>
                  </a:lnTo>
                  <a:lnTo>
                    <a:pt x="67" y="1286"/>
                  </a:lnTo>
                  <a:lnTo>
                    <a:pt x="63" y="1295"/>
                  </a:lnTo>
                  <a:lnTo>
                    <a:pt x="59" y="1305"/>
                  </a:lnTo>
                  <a:lnTo>
                    <a:pt x="55" y="1314"/>
                  </a:lnTo>
                  <a:lnTo>
                    <a:pt x="51" y="1326"/>
                  </a:lnTo>
                  <a:lnTo>
                    <a:pt x="47" y="1335"/>
                  </a:lnTo>
                  <a:lnTo>
                    <a:pt x="43" y="1344"/>
                  </a:lnTo>
                  <a:lnTo>
                    <a:pt x="41" y="1352"/>
                  </a:lnTo>
                  <a:lnTo>
                    <a:pt x="38" y="1360"/>
                  </a:lnTo>
                  <a:lnTo>
                    <a:pt x="36" y="1366"/>
                  </a:lnTo>
                  <a:lnTo>
                    <a:pt x="34" y="1371"/>
                  </a:lnTo>
                  <a:lnTo>
                    <a:pt x="34" y="1374"/>
                  </a:lnTo>
                  <a:lnTo>
                    <a:pt x="32" y="1378"/>
                  </a:lnTo>
                  <a:lnTo>
                    <a:pt x="32" y="1382"/>
                  </a:lnTo>
                  <a:lnTo>
                    <a:pt x="29" y="1390"/>
                  </a:lnTo>
                  <a:lnTo>
                    <a:pt x="27" y="1396"/>
                  </a:lnTo>
                  <a:lnTo>
                    <a:pt x="23" y="1405"/>
                  </a:lnTo>
                  <a:lnTo>
                    <a:pt x="22" y="1414"/>
                  </a:lnTo>
                  <a:lnTo>
                    <a:pt x="19" y="1423"/>
                  </a:lnTo>
                  <a:lnTo>
                    <a:pt x="17" y="1432"/>
                  </a:lnTo>
                  <a:lnTo>
                    <a:pt x="13" y="1441"/>
                  </a:lnTo>
                  <a:lnTo>
                    <a:pt x="10" y="1450"/>
                  </a:lnTo>
                  <a:lnTo>
                    <a:pt x="7" y="1459"/>
                  </a:lnTo>
                  <a:lnTo>
                    <a:pt x="5" y="1467"/>
                  </a:lnTo>
                  <a:lnTo>
                    <a:pt x="2" y="1474"/>
                  </a:lnTo>
                  <a:lnTo>
                    <a:pt x="1" y="1479"/>
                  </a:lnTo>
                  <a:lnTo>
                    <a:pt x="0" y="1484"/>
                  </a:lnTo>
                  <a:lnTo>
                    <a:pt x="0" y="1485"/>
                  </a:lnTo>
                  <a:lnTo>
                    <a:pt x="0" y="1488"/>
                  </a:lnTo>
                  <a:lnTo>
                    <a:pt x="1" y="1491"/>
                  </a:lnTo>
                  <a:lnTo>
                    <a:pt x="3" y="1496"/>
                  </a:lnTo>
                  <a:lnTo>
                    <a:pt x="7" y="1500"/>
                  </a:lnTo>
                  <a:lnTo>
                    <a:pt x="11" y="1506"/>
                  </a:lnTo>
                  <a:lnTo>
                    <a:pt x="15" y="1510"/>
                  </a:lnTo>
                  <a:lnTo>
                    <a:pt x="21" y="1516"/>
                  </a:lnTo>
                  <a:lnTo>
                    <a:pt x="27" y="1522"/>
                  </a:lnTo>
                  <a:lnTo>
                    <a:pt x="33" y="1528"/>
                  </a:lnTo>
                  <a:lnTo>
                    <a:pt x="41" y="1534"/>
                  </a:lnTo>
                  <a:lnTo>
                    <a:pt x="50" y="1540"/>
                  </a:lnTo>
                  <a:lnTo>
                    <a:pt x="59" y="1545"/>
                  </a:lnTo>
                  <a:lnTo>
                    <a:pt x="69" y="1550"/>
                  </a:lnTo>
                  <a:lnTo>
                    <a:pt x="79" y="1554"/>
                  </a:lnTo>
                  <a:lnTo>
                    <a:pt x="90" y="1558"/>
                  </a:lnTo>
                  <a:lnTo>
                    <a:pt x="103" y="1560"/>
                  </a:lnTo>
                  <a:lnTo>
                    <a:pt x="103" y="1560"/>
                  </a:lnTo>
                  <a:lnTo>
                    <a:pt x="105" y="1558"/>
                  </a:lnTo>
                  <a:lnTo>
                    <a:pt x="107" y="1557"/>
                  </a:lnTo>
                  <a:lnTo>
                    <a:pt x="110" y="1554"/>
                  </a:lnTo>
                  <a:lnTo>
                    <a:pt x="111" y="1551"/>
                  </a:lnTo>
                  <a:lnTo>
                    <a:pt x="115" y="1547"/>
                  </a:lnTo>
                  <a:lnTo>
                    <a:pt x="117" y="1544"/>
                  </a:lnTo>
                  <a:lnTo>
                    <a:pt x="121" y="1538"/>
                  </a:lnTo>
                  <a:lnTo>
                    <a:pt x="123" y="1534"/>
                  </a:lnTo>
                  <a:lnTo>
                    <a:pt x="127" y="1530"/>
                  </a:lnTo>
                  <a:lnTo>
                    <a:pt x="129" y="1526"/>
                  </a:lnTo>
                  <a:lnTo>
                    <a:pt x="132" y="1520"/>
                  </a:lnTo>
                  <a:lnTo>
                    <a:pt x="134" y="1517"/>
                  </a:lnTo>
                  <a:lnTo>
                    <a:pt x="137" y="1512"/>
                  </a:lnTo>
                  <a:lnTo>
                    <a:pt x="138" y="1510"/>
                  </a:lnTo>
                  <a:lnTo>
                    <a:pt x="141" y="1506"/>
                  </a:lnTo>
                  <a:lnTo>
                    <a:pt x="143" y="1503"/>
                  </a:lnTo>
                  <a:lnTo>
                    <a:pt x="145" y="1499"/>
                  </a:lnTo>
                  <a:lnTo>
                    <a:pt x="149" y="1495"/>
                  </a:lnTo>
                  <a:lnTo>
                    <a:pt x="153" y="1489"/>
                  </a:lnTo>
                  <a:lnTo>
                    <a:pt x="157" y="1484"/>
                  </a:lnTo>
                  <a:lnTo>
                    <a:pt x="162" y="1477"/>
                  </a:lnTo>
                  <a:lnTo>
                    <a:pt x="167" y="1472"/>
                  </a:lnTo>
                  <a:lnTo>
                    <a:pt x="173" y="1464"/>
                  </a:lnTo>
                  <a:lnTo>
                    <a:pt x="177" y="1459"/>
                  </a:lnTo>
                  <a:lnTo>
                    <a:pt x="182" y="1452"/>
                  </a:lnTo>
                  <a:lnTo>
                    <a:pt x="187" y="1446"/>
                  </a:lnTo>
                  <a:lnTo>
                    <a:pt x="193" y="1439"/>
                  </a:lnTo>
                  <a:lnTo>
                    <a:pt x="197" y="1435"/>
                  </a:lnTo>
                  <a:lnTo>
                    <a:pt x="201" y="1429"/>
                  </a:lnTo>
                  <a:lnTo>
                    <a:pt x="203" y="1426"/>
                  </a:lnTo>
                  <a:lnTo>
                    <a:pt x="207" y="1422"/>
                  </a:lnTo>
                  <a:lnTo>
                    <a:pt x="209" y="1418"/>
                  </a:lnTo>
                  <a:lnTo>
                    <a:pt x="213" y="1412"/>
                  </a:lnTo>
                  <a:lnTo>
                    <a:pt x="218" y="1407"/>
                  </a:lnTo>
                  <a:lnTo>
                    <a:pt x="224" y="1399"/>
                  </a:lnTo>
                  <a:lnTo>
                    <a:pt x="229" y="1392"/>
                  </a:lnTo>
                  <a:lnTo>
                    <a:pt x="236" y="1385"/>
                  </a:lnTo>
                  <a:lnTo>
                    <a:pt x="243" y="1378"/>
                  </a:lnTo>
                  <a:lnTo>
                    <a:pt x="251" y="1370"/>
                  </a:lnTo>
                  <a:lnTo>
                    <a:pt x="256" y="1363"/>
                  </a:lnTo>
                  <a:lnTo>
                    <a:pt x="264" y="1356"/>
                  </a:lnTo>
                  <a:lnTo>
                    <a:pt x="270" y="1350"/>
                  </a:lnTo>
                  <a:lnTo>
                    <a:pt x="277" y="1342"/>
                  </a:lnTo>
                  <a:lnTo>
                    <a:pt x="283" y="1337"/>
                  </a:lnTo>
                  <a:lnTo>
                    <a:pt x="289" y="1331"/>
                  </a:lnTo>
                  <a:lnTo>
                    <a:pt x="293" y="1328"/>
                  </a:lnTo>
                  <a:lnTo>
                    <a:pt x="298" y="1323"/>
                  </a:lnTo>
                  <a:lnTo>
                    <a:pt x="301" y="1321"/>
                  </a:lnTo>
                  <a:lnTo>
                    <a:pt x="306" y="1316"/>
                  </a:lnTo>
                  <a:lnTo>
                    <a:pt x="313" y="1310"/>
                  </a:lnTo>
                  <a:lnTo>
                    <a:pt x="323" y="1301"/>
                  </a:lnTo>
                  <a:lnTo>
                    <a:pt x="332" y="1291"/>
                  </a:lnTo>
                  <a:lnTo>
                    <a:pt x="343" y="1280"/>
                  </a:lnTo>
                  <a:lnTo>
                    <a:pt x="354" y="1268"/>
                  </a:lnTo>
                  <a:lnTo>
                    <a:pt x="367" y="1255"/>
                  </a:lnTo>
                  <a:lnTo>
                    <a:pt x="378" y="1243"/>
                  </a:lnTo>
                  <a:lnTo>
                    <a:pt x="389" y="1231"/>
                  </a:lnTo>
                  <a:lnTo>
                    <a:pt x="400" y="1220"/>
                  </a:lnTo>
                  <a:lnTo>
                    <a:pt x="411" y="1209"/>
                  </a:lnTo>
                  <a:lnTo>
                    <a:pt x="419" y="1201"/>
                  </a:lnTo>
                  <a:lnTo>
                    <a:pt x="426" y="1194"/>
                  </a:lnTo>
                  <a:lnTo>
                    <a:pt x="431" y="1188"/>
                  </a:lnTo>
                  <a:lnTo>
                    <a:pt x="435" y="1185"/>
                  </a:lnTo>
                  <a:lnTo>
                    <a:pt x="436" y="1184"/>
                  </a:lnTo>
                  <a:lnTo>
                    <a:pt x="441" y="1182"/>
                  </a:lnTo>
                  <a:lnTo>
                    <a:pt x="445" y="1178"/>
                  </a:lnTo>
                  <a:lnTo>
                    <a:pt x="453" y="1175"/>
                  </a:lnTo>
                  <a:lnTo>
                    <a:pt x="460" y="1171"/>
                  </a:lnTo>
                  <a:lnTo>
                    <a:pt x="469" y="1166"/>
                  </a:lnTo>
                  <a:lnTo>
                    <a:pt x="478" y="1162"/>
                  </a:lnTo>
                  <a:lnTo>
                    <a:pt x="487" y="1157"/>
                  </a:lnTo>
                  <a:lnTo>
                    <a:pt x="495" y="1153"/>
                  </a:lnTo>
                  <a:lnTo>
                    <a:pt x="504" y="1148"/>
                  </a:lnTo>
                  <a:lnTo>
                    <a:pt x="511" y="1144"/>
                  </a:lnTo>
                  <a:lnTo>
                    <a:pt x="520" y="1139"/>
                  </a:lnTo>
                  <a:lnTo>
                    <a:pt x="526" y="1136"/>
                  </a:lnTo>
                  <a:lnTo>
                    <a:pt x="531" y="1132"/>
                  </a:lnTo>
                  <a:lnTo>
                    <a:pt x="534" y="1130"/>
                  </a:lnTo>
                  <a:lnTo>
                    <a:pt x="537" y="1127"/>
                  </a:lnTo>
                  <a:lnTo>
                    <a:pt x="537" y="1127"/>
                  </a:lnTo>
                  <a:lnTo>
                    <a:pt x="540" y="1125"/>
                  </a:lnTo>
                  <a:lnTo>
                    <a:pt x="543" y="1122"/>
                  </a:lnTo>
                  <a:lnTo>
                    <a:pt x="549" y="1118"/>
                  </a:lnTo>
                  <a:lnTo>
                    <a:pt x="555" y="1115"/>
                  </a:lnTo>
                  <a:lnTo>
                    <a:pt x="561" y="1110"/>
                  </a:lnTo>
                  <a:lnTo>
                    <a:pt x="569" y="1107"/>
                  </a:lnTo>
                  <a:lnTo>
                    <a:pt x="577" y="1101"/>
                  </a:lnTo>
                  <a:lnTo>
                    <a:pt x="583" y="1097"/>
                  </a:lnTo>
                  <a:lnTo>
                    <a:pt x="590" y="1093"/>
                  </a:lnTo>
                  <a:lnTo>
                    <a:pt x="597" y="1089"/>
                  </a:lnTo>
                  <a:lnTo>
                    <a:pt x="603" y="1085"/>
                  </a:lnTo>
                  <a:lnTo>
                    <a:pt x="608" y="1082"/>
                  </a:lnTo>
                  <a:lnTo>
                    <a:pt x="612" y="1079"/>
                  </a:lnTo>
                  <a:lnTo>
                    <a:pt x="615" y="1077"/>
                  </a:lnTo>
                  <a:lnTo>
                    <a:pt x="617" y="1075"/>
                  </a:lnTo>
                  <a:lnTo>
                    <a:pt x="617" y="1074"/>
                  </a:lnTo>
                  <a:lnTo>
                    <a:pt x="617" y="1072"/>
                  </a:lnTo>
                  <a:lnTo>
                    <a:pt x="617" y="1069"/>
                  </a:lnTo>
                  <a:lnTo>
                    <a:pt x="617" y="1064"/>
                  </a:lnTo>
                  <a:lnTo>
                    <a:pt x="616" y="1059"/>
                  </a:lnTo>
                  <a:lnTo>
                    <a:pt x="616" y="1053"/>
                  </a:lnTo>
                  <a:lnTo>
                    <a:pt x="616" y="1048"/>
                  </a:lnTo>
                  <a:lnTo>
                    <a:pt x="616" y="1040"/>
                  </a:lnTo>
                  <a:lnTo>
                    <a:pt x="615" y="1034"/>
                  </a:lnTo>
                  <a:lnTo>
                    <a:pt x="615" y="1029"/>
                  </a:lnTo>
                  <a:lnTo>
                    <a:pt x="615" y="1024"/>
                  </a:lnTo>
                  <a:lnTo>
                    <a:pt x="615" y="1018"/>
                  </a:lnTo>
                  <a:lnTo>
                    <a:pt x="615" y="1014"/>
                  </a:lnTo>
                  <a:lnTo>
                    <a:pt x="615" y="1011"/>
                  </a:lnTo>
                  <a:lnTo>
                    <a:pt x="615" y="1009"/>
                  </a:lnTo>
                  <a:lnTo>
                    <a:pt x="615" y="1008"/>
                  </a:lnTo>
                  <a:lnTo>
                    <a:pt x="619" y="1008"/>
                  </a:lnTo>
                  <a:lnTo>
                    <a:pt x="626" y="1004"/>
                  </a:lnTo>
                  <a:lnTo>
                    <a:pt x="636" y="998"/>
                  </a:lnTo>
                  <a:lnTo>
                    <a:pt x="650" y="989"/>
                  </a:lnTo>
                  <a:lnTo>
                    <a:pt x="665" y="980"/>
                  </a:lnTo>
                  <a:lnTo>
                    <a:pt x="680" y="968"/>
                  </a:lnTo>
                  <a:lnTo>
                    <a:pt x="697" y="955"/>
                  </a:lnTo>
                  <a:lnTo>
                    <a:pt x="714" y="942"/>
                  </a:lnTo>
                  <a:lnTo>
                    <a:pt x="731" y="930"/>
                  </a:lnTo>
                  <a:lnTo>
                    <a:pt x="747" y="917"/>
                  </a:lnTo>
                  <a:lnTo>
                    <a:pt x="762" y="906"/>
                  </a:lnTo>
                  <a:lnTo>
                    <a:pt x="776" y="894"/>
                  </a:lnTo>
                  <a:lnTo>
                    <a:pt x="787" y="886"/>
                  </a:lnTo>
                  <a:lnTo>
                    <a:pt x="796" y="879"/>
                  </a:lnTo>
                  <a:lnTo>
                    <a:pt x="802" y="875"/>
                  </a:lnTo>
                  <a:lnTo>
                    <a:pt x="805" y="873"/>
                  </a:lnTo>
                  <a:lnTo>
                    <a:pt x="809" y="876"/>
                  </a:lnTo>
                  <a:lnTo>
                    <a:pt x="817" y="882"/>
                  </a:lnTo>
                  <a:lnTo>
                    <a:pt x="825" y="892"/>
                  </a:lnTo>
                  <a:lnTo>
                    <a:pt x="837" y="904"/>
                  </a:lnTo>
                  <a:lnTo>
                    <a:pt x="849" y="920"/>
                  </a:lnTo>
                  <a:lnTo>
                    <a:pt x="862" y="938"/>
                  </a:lnTo>
                  <a:lnTo>
                    <a:pt x="875" y="958"/>
                  </a:lnTo>
                  <a:lnTo>
                    <a:pt x="890" y="976"/>
                  </a:lnTo>
                  <a:lnTo>
                    <a:pt x="903" y="997"/>
                  </a:lnTo>
                  <a:lnTo>
                    <a:pt x="917" y="1016"/>
                  </a:lnTo>
                  <a:lnTo>
                    <a:pt x="929" y="1035"/>
                  </a:lnTo>
                  <a:lnTo>
                    <a:pt x="941" y="1050"/>
                  </a:lnTo>
                  <a:lnTo>
                    <a:pt x="950" y="1066"/>
                  </a:lnTo>
                  <a:lnTo>
                    <a:pt x="958" y="1076"/>
                  </a:lnTo>
                  <a:lnTo>
                    <a:pt x="965" y="1084"/>
                  </a:lnTo>
                  <a:lnTo>
                    <a:pt x="969" y="1087"/>
                  </a:lnTo>
                  <a:lnTo>
                    <a:pt x="971" y="1089"/>
                  </a:lnTo>
                  <a:lnTo>
                    <a:pt x="973" y="1090"/>
                  </a:lnTo>
                  <a:lnTo>
                    <a:pt x="977" y="1092"/>
                  </a:lnTo>
                  <a:lnTo>
                    <a:pt x="981" y="1094"/>
                  </a:lnTo>
                  <a:lnTo>
                    <a:pt x="985" y="1097"/>
                  </a:lnTo>
                  <a:lnTo>
                    <a:pt x="989" y="1099"/>
                  </a:lnTo>
                  <a:lnTo>
                    <a:pt x="994" y="1100"/>
                  </a:lnTo>
                  <a:lnTo>
                    <a:pt x="999" y="1102"/>
                  </a:lnTo>
                  <a:lnTo>
                    <a:pt x="1003" y="1106"/>
                  </a:lnTo>
                  <a:lnTo>
                    <a:pt x="1008" y="1107"/>
                  </a:lnTo>
                  <a:lnTo>
                    <a:pt x="1012" y="1109"/>
                  </a:lnTo>
                  <a:lnTo>
                    <a:pt x="1017" y="1111"/>
                  </a:lnTo>
                  <a:lnTo>
                    <a:pt x="1019" y="1113"/>
                  </a:lnTo>
                  <a:lnTo>
                    <a:pt x="1023" y="1115"/>
                  </a:lnTo>
                  <a:lnTo>
                    <a:pt x="1025" y="1116"/>
                  </a:lnTo>
                  <a:lnTo>
                    <a:pt x="1027" y="1116"/>
                  </a:lnTo>
                  <a:lnTo>
                    <a:pt x="1030" y="1119"/>
                  </a:lnTo>
                  <a:lnTo>
                    <a:pt x="1034" y="1122"/>
                  </a:lnTo>
                  <a:lnTo>
                    <a:pt x="1037" y="1126"/>
                  </a:lnTo>
                  <a:lnTo>
                    <a:pt x="1041" y="1129"/>
                  </a:lnTo>
                  <a:lnTo>
                    <a:pt x="1045" y="1135"/>
                  </a:lnTo>
                  <a:lnTo>
                    <a:pt x="1049" y="1139"/>
                  </a:lnTo>
                  <a:lnTo>
                    <a:pt x="1053" y="1145"/>
                  </a:lnTo>
                  <a:lnTo>
                    <a:pt x="1056" y="1148"/>
                  </a:lnTo>
                  <a:lnTo>
                    <a:pt x="1059" y="1154"/>
                  </a:lnTo>
                  <a:lnTo>
                    <a:pt x="1063" y="1160"/>
                  </a:lnTo>
                  <a:lnTo>
                    <a:pt x="1067" y="1165"/>
                  </a:lnTo>
                  <a:lnTo>
                    <a:pt x="1071" y="1170"/>
                  </a:lnTo>
                  <a:lnTo>
                    <a:pt x="1073" y="1175"/>
                  </a:lnTo>
                  <a:lnTo>
                    <a:pt x="1077" y="1179"/>
                  </a:lnTo>
                  <a:lnTo>
                    <a:pt x="1080" y="1183"/>
                  </a:lnTo>
                  <a:lnTo>
                    <a:pt x="1084" y="1185"/>
                  </a:lnTo>
                  <a:lnTo>
                    <a:pt x="1084" y="1188"/>
                  </a:lnTo>
                  <a:lnTo>
                    <a:pt x="1086" y="1190"/>
                  </a:lnTo>
                  <a:lnTo>
                    <a:pt x="1086" y="1192"/>
                  </a:lnTo>
                  <a:lnTo>
                    <a:pt x="1088" y="1194"/>
                  </a:lnTo>
                  <a:lnTo>
                    <a:pt x="1088" y="1198"/>
                  </a:lnTo>
                  <a:lnTo>
                    <a:pt x="1090" y="1200"/>
                  </a:lnTo>
                  <a:lnTo>
                    <a:pt x="1091" y="1203"/>
                  </a:lnTo>
                  <a:lnTo>
                    <a:pt x="1093" y="1205"/>
                  </a:lnTo>
                  <a:lnTo>
                    <a:pt x="1093" y="1208"/>
                  </a:lnTo>
                  <a:lnTo>
                    <a:pt x="1094" y="1211"/>
                  </a:lnTo>
                  <a:lnTo>
                    <a:pt x="1094" y="1215"/>
                  </a:lnTo>
                  <a:lnTo>
                    <a:pt x="1096" y="1216"/>
                  </a:lnTo>
                  <a:lnTo>
                    <a:pt x="1096" y="1220"/>
                  </a:lnTo>
                  <a:lnTo>
                    <a:pt x="1098" y="1222"/>
                  </a:lnTo>
                  <a:lnTo>
                    <a:pt x="1099" y="1224"/>
                  </a:lnTo>
                  <a:lnTo>
                    <a:pt x="1101" y="1225"/>
                  </a:lnTo>
                  <a:lnTo>
                    <a:pt x="1101" y="1228"/>
                  </a:lnTo>
                  <a:lnTo>
                    <a:pt x="1104" y="1232"/>
                  </a:lnTo>
                  <a:lnTo>
                    <a:pt x="1109" y="1238"/>
                  </a:lnTo>
                  <a:lnTo>
                    <a:pt x="1115" y="1245"/>
                  </a:lnTo>
                  <a:lnTo>
                    <a:pt x="1121" y="1253"/>
                  </a:lnTo>
                  <a:lnTo>
                    <a:pt x="1129" y="1261"/>
                  </a:lnTo>
                  <a:lnTo>
                    <a:pt x="1136" y="1270"/>
                  </a:lnTo>
                  <a:lnTo>
                    <a:pt x="1145" y="1278"/>
                  </a:lnTo>
                  <a:lnTo>
                    <a:pt x="1153" y="1288"/>
                  </a:lnTo>
                  <a:lnTo>
                    <a:pt x="1162" y="1298"/>
                  </a:lnTo>
                  <a:lnTo>
                    <a:pt x="1169" y="1307"/>
                  </a:lnTo>
                  <a:lnTo>
                    <a:pt x="1177" y="1314"/>
                  </a:lnTo>
                  <a:lnTo>
                    <a:pt x="1183" y="1322"/>
                  </a:lnTo>
                  <a:lnTo>
                    <a:pt x="1189" y="1328"/>
                  </a:lnTo>
                  <a:lnTo>
                    <a:pt x="1193" y="1333"/>
                  </a:lnTo>
                  <a:lnTo>
                    <a:pt x="1197" y="1336"/>
                  </a:lnTo>
                  <a:lnTo>
                    <a:pt x="1197" y="1338"/>
                  </a:lnTo>
                  <a:lnTo>
                    <a:pt x="1199" y="1340"/>
                  </a:lnTo>
                  <a:lnTo>
                    <a:pt x="1199" y="1341"/>
                  </a:lnTo>
                  <a:lnTo>
                    <a:pt x="1201" y="1343"/>
                  </a:lnTo>
                  <a:lnTo>
                    <a:pt x="1201" y="1346"/>
                  </a:lnTo>
                  <a:lnTo>
                    <a:pt x="1203" y="1348"/>
                  </a:lnTo>
                  <a:lnTo>
                    <a:pt x="1203" y="1350"/>
                  </a:lnTo>
                  <a:lnTo>
                    <a:pt x="1205" y="1351"/>
                  </a:lnTo>
                  <a:lnTo>
                    <a:pt x="1205" y="1354"/>
                  </a:lnTo>
                  <a:lnTo>
                    <a:pt x="1207" y="1356"/>
                  </a:lnTo>
                  <a:lnTo>
                    <a:pt x="1207" y="1358"/>
                  </a:lnTo>
                  <a:lnTo>
                    <a:pt x="1209" y="1360"/>
                  </a:lnTo>
                  <a:lnTo>
                    <a:pt x="1209" y="1362"/>
                  </a:lnTo>
                  <a:lnTo>
                    <a:pt x="1211" y="1364"/>
                  </a:lnTo>
                  <a:lnTo>
                    <a:pt x="1212" y="1365"/>
                  </a:lnTo>
                  <a:lnTo>
                    <a:pt x="1214" y="1365"/>
                  </a:lnTo>
                  <a:lnTo>
                    <a:pt x="1215" y="1367"/>
                  </a:lnTo>
                  <a:lnTo>
                    <a:pt x="1217" y="1368"/>
                  </a:lnTo>
                  <a:lnTo>
                    <a:pt x="1219" y="1370"/>
                  </a:lnTo>
                  <a:lnTo>
                    <a:pt x="1221" y="1370"/>
                  </a:lnTo>
                  <a:lnTo>
                    <a:pt x="1222" y="1372"/>
                  </a:lnTo>
                  <a:lnTo>
                    <a:pt x="1224" y="1374"/>
                  </a:lnTo>
                  <a:lnTo>
                    <a:pt x="1226" y="1376"/>
                  </a:lnTo>
                  <a:lnTo>
                    <a:pt x="1229" y="1376"/>
                  </a:lnTo>
                  <a:lnTo>
                    <a:pt x="1231" y="1378"/>
                  </a:lnTo>
                  <a:lnTo>
                    <a:pt x="1233" y="1379"/>
                  </a:lnTo>
                  <a:lnTo>
                    <a:pt x="1235" y="1381"/>
                  </a:lnTo>
                  <a:lnTo>
                    <a:pt x="1237" y="1381"/>
                  </a:lnTo>
                  <a:lnTo>
                    <a:pt x="1239" y="1382"/>
                  </a:lnTo>
                  <a:lnTo>
                    <a:pt x="1241" y="1382"/>
                  </a:lnTo>
                  <a:lnTo>
                    <a:pt x="1243" y="1382"/>
                  </a:lnTo>
                  <a:lnTo>
                    <a:pt x="1246" y="1382"/>
                  </a:lnTo>
                  <a:lnTo>
                    <a:pt x="1247" y="1382"/>
                  </a:lnTo>
                  <a:lnTo>
                    <a:pt x="1249" y="1382"/>
                  </a:lnTo>
                  <a:lnTo>
                    <a:pt x="1250" y="1382"/>
                  </a:lnTo>
                  <a:lnTo>
                    <a:pt x="1254" y="1381"/>
                  </a:lnTo>
                  <a:lnTo>
                    <a:pt x="1257" y="1381"/>
                  </a:lnTo>
                  <a:lnTo>
                    <a:pt x="1260" y="1380"/>
                  </a:lnTo>
                  <a:lnTo>
                    <a:pt x="1264" y="1380"/>
                  </a:lnTo>
                  <a:lnTo>
                    <a:pt x="1268" y="1378"/>
                  </a:lnTo>
                  <a:lnTo>
                    <a:pt x="1270" y="1378"/>
                  </a:lnTo>
                  <a:lnTo>
                    <a:pt x="1273" y="1376"/>
                  </a:lnTo>
                  <a:lnTo>
                    <a:pt x="1276" y="1376"/>
                  </a:lnTo>
                  <a:lnTo>
                    <a:pt x="1280" y="1374"/>
                  </a:lnTo>
                  <a:lnTo>
                    <a:pt x="1281" y="1374"/>
                  </a:lnTo>
                  <a:lnTo>
                    <a:pt x="1284" y="1373"/>
                  </a:lnTo>
                  <a:lnTo>
                    <a:pt x="1285" y="1373"/>
                  </a:lnTo>
                  <a:lnTo>
                    <a:pt x="1286" y="1372"/>
                  </a:lnTo>
                  <a:lnTo>
                    <a:pt x="1288" y="1376"/>
                  </a:lnTo>
                  <a:lnTo>
                    <a:pt x="1290" y="1378"/>
                  </a:lnTo>
                  <a:lnTo>
                    <a:pt x="1293" y="1381"/>
                  </a:lnTo>
                  <a:lnTo>
                    <a:pt x="1297" y="1382"/>
                  </a:lnTo>
                  <a:lnTo>
                    <a:pt x="1300" y="1386"/>
                  </a:lnTo>
                  <a:lnTo>
                    <a:pt x="1304" y="1388"/>
                  </a:lnTo>
                  <a:lnTo>
                    <a:pt x="1308" y="1391"/>
                  </a:lnTo>
                  <a:lnTo>
                    <a:pt x="1313" y="1392"/>
                  </a:lnTo>
                  <a:lnTo>
                    <a:pt x="1317" y="1396"/>
                  </a:lnTo>
                  <a:lnTo>
                    <a:pt x="1320" y="1398"/>
                  </a:lnTo>
                  <a:lnTo>
                    <a:pt x="1324" y="1401"/>
                  </a:lnTo>
                  <a:lnTo>
                    <a:pt x="1330" y="1402"/>
                  </a:lnTo>
                  <a:lnTo>
                    <a:pt x="1333" y="1405"/>
                  </a:lnTo>
                  <a:lnTo>
                    <a:pt x="1337" y="1407"/>
                  </a:lnTo>
                  <a:lnTo>
                    <a:pt x="1341" y="1409"/>
                  </a:lnTo>
                  <a:lnTo>
                    <a:pt x="1345" y="1411"/>
                  </a:lnTo>
                  <a:lnTo>
                    <a:pt x="1346" y="1412"/>
                  </a:lnTo>
                  <a:lnTo>
                    <a:pt x="1348" y="1414"/>
                  </a:lnTo>
                  <a:lnTo>
                    <a:pt x="1349" y="1416"/>
                  </a:lnTo>
                  <a:lnTo>
                    <a:pt x="1353" y="1416"/>
                  </a:lnTo>
                  <a:lnTo>
                    <a:pt x="1355" y="1419"/>
                  </a:lnTo>
                  <a:lnTo>
                    <a:pt x="1357" y="1421"/>
                  </a:lnTo>
                  <a:lnTo>
                    <a:pt x="1359" y="1422"/>
                  </a:lnTo>
                  <a:lnTo>
                    <a:pt x="1363" y="1424"/>
                  </a:lnTo>
                  <a:lnTo>
                    <a:pt x="1365" y="1428"/>
                  </a:lnTo>
                  <a:lnTo>
                    <a:pt x="1367" y="1429"/>
                  </a:lnTo>
                  <a:lnTo>
                    <a:pt x="1368" y="1431"/>
                  </a:lnTo>
                  <a:lnTo>
                    <a:pt x="1371" y="1433"/>
                  </a:lnTo>
                  <a:lnTo>
                    <a:pt x="1373" y="1435"/>
                  </a:lnTo>
                  <a:lnTo>
                    <a:pt x="1375" y="1437"/>
                  </a:lnTo>
                  <a:lnTo>
                    <a:pt x="1377" y="1439"/>
                  </a:lnTo>
                  <a:lnTo>
                    <a:pt x="1378" y="1440"/>
                  </a:lnTo>
                  <a:lnTo>
                    <a:pt x="1378" y="1442"/>
                  </a:lnTo>
                  <a:lnTo>
                    <a:pt x="1379" y="1442"/>
                  </a:lnTo>
                  <a:lnTo>
                    <a:pt x="1379" y="1444"/>
                  </a:lnTo>
                  <a:lnTo>
                    <a:pt x="1381" y="1446"/>
                  </a:lnTo>
                  <a:lnTo>
                    <a:pt x="1381" y="1449"/>
                  </a:lnTo>
                  <a:lnTo>
                    <a:pt x="1383" y="1451"/>
                  </a:lnTo>
                  <a:lnTo>
                    <a:pt x="1385" y="1454"/>
                  </a:lnTo>
                  <a:lnTo>
                    <a:pt x="1386" y="1456"/>
                  </a:lnTo>
                  <a:lnTo>
                    <a:pt x="1386" y="1460"/>
                  </a:lnTo>
                  <a:lnTo>
                    <a:pt x="1388" y="1463"/>
                  </a:lnTo>
                  <a:lnTo>
                    <a:pt x="1389" y="1467"/>
                  </a:lnTo>
                  <a:lnTo>
                    <a:pt x="1391" y="1469"/>
                  </a:lnTo>
                  <a:lnTo>
                    <a:pt x="1391" y="1472"/>
                  </a:lnTo>
                  <a:lnTo>
                    <a:pt x="1393" y="1474"/>
                  </a:lnTo>
                  <a:lnTo>
                    <a:pt x="1393" y="1476"/>
                  </a:lnTo>
                  <a:lnTo>
                    <a:pt x="1395" y="1477"/>
                  </a:lnTo>
                  <a:lnTo>
                    <a:pt x="1393" y="1480"/>
                  </a:lnTo>
                  <a:lnTo>
                    <a:pt x="1393" y="1482"/>
                  </a:lnTo>
                  <a:lnTo>
                    <a:pt x="1392" y="1484"/>
                  </a:lnTo>
                  <a:lnTo>
                    <a:pt x="1392" y="1486"/>
                  </a:lnTo>
                  <a:lnTo>
                    <a:pt x="1390" y="1487"/>
                  </a:lnTo>
                  <a:lnTo>
                    <a:pt x="1390" y="1488"/>
                  </a:lnTo>
                  <a:lnTo>
                    <a:pt x="1388" y="1488"/>
                  </a:lnTo>
                  <a:lnTo>
                    <a:pt x="1388" y="1488"/>
                  </a:lnTo>
                  <a:lnTo>
                    <a:pt x="1386" y="1489"/>
                  </a:lnTo>
                  <a:lnTo>
                    <a:pt x="1386" y="1489"/>
                  </a:lnTo>
                  <a:lnTo>
                    <a:pt x="1384" y="1489"/>
                  </a:lnTo>
                  <a:lnTo>
                    <a:pt x="1384" y="1489"/>
                  </a:lnTo>
                  <a:lnTo>
                    <a:pt x="1383" y="1489"/>
                  </a:lnTo>
                  <a:lnTo>
                    <a:pt x="1383" y="1489"/>
                  </a:lnTo>
                  <a:lnTo>
                    <a:pt x="1383" y="1489"/>
                  </a:lnTo>
                  <a:lnTo>
                    <a:pt x="1383" y="1489"/>
                  </a:lnTo>
                  <a:lnTo>
                    <a:pt x="1381" y="1489"/>
                  </a:lnTo>
                  <a:lnTo>
                    <a:pt x="1381" y="1489"/>
                  </a:lnTo>
                  <a:lnTo>
                    <a:pt x="1379" y="1487"/>
                  </a:lnTo>
                  <a:lnTo>
                    <a:pt x="1378" y="1484"/>
                  </a:lnTo>
                  <a:lnTo>
                    <a:pt x="1374" y="1482"/>
                  </a:lnTo>
                  <a:lnTo>
                    <a:pt x="1371" y="1479"/>
                  </a:lnTo>
                  <a:lnTo>
                    <a:pt x="1368" y="1475"/>
                  </a:lnTo>
                  <a:lnTo>
                    <a:pt x="1365" y="1471"/>
                  </a:lnTo>
                  <a:lnTo>
                    <a:pt x="1360" y="1468"/>
                  </a:lnTo>
                  <a:lnTo>
                    <a:pt x="1357" y="1464"/>
                  </a:lnTo>
                  <a:lnTo>
                    <a:pt x="1353" y="1460"/>
                  </a:lnTo>
                  <a:lnTo>
                    <a:pt x="1349" y="1456"/>
                  </a:lnTo>
                  <a:lnTo>
                    <a:pt x="1344" y="1452"/>
                  </a:lnTo>
                  <a:lnTo>
                    <a:pt x="1340" y="1449"/>
                  </a:lnTo>
                  <a:lnTo>
                    <a:pt x="1337" y="1446"/>
                  </a:lnTo>
                  <a:lnTo>
                    <a:pt x="1333" y="1442"/>
                  </a:lnTo>
                  <a:lnTo>
                    <a:pt x="1329" y="1441"/>
                  </a:lnTo>
                  <a:lnTo>
                    <a:pt x="1326" y="1439"/>
                  </a:lnTo>
                  <a:lnTo>
                    <a:pt x="1322" y="1439"/>
                  </a:lnTo>
                  <a:lnTo>
                    <a:pt x="1320" y="1437"/>
                  </a:lnTo>
                  <a:lnTo>
                    <a:pt x="1318" y="1437"/>
                  </a:lnTo>
                  <a:lnTo>
                    <a:pt x="1316" y="1436"/>
                  </a:lnTo>
                  <a:lnTo>
                    <a:pt x="1314" y="1436"/>
                  </a:lnTo>
                  <a:lnTo>
                    <a:pt x="1313" y="1436"/>
                  </a:lnTo>
                  <a:lnTo>
                    <a:pt x="1311" y="1438"/>
                  </a:lnTo>
                  <a:lnTo>
                    <a:pt x="1309" y="1438"/>
                  </a:lnTo>
                  <a:lnTo>
                    <a:pt x="1307" y="1438"/>
                  </a:lnTo>
                  <a:lnTo>
                    <a:pt x="1307" y="1438"/>
                  </a:lnTo>
                  <a:lnTo>
                    <a:pt x="1307" y="1439"/>
                  </a:lnTo>
                  <a:lnTo>
                    <a:pt x="1307" y="1439"/>
                  </a:lnTo>
                  <a:lnTo>
                    <a:pt x="1307" y="1439"/>
                  </a:lnTo>
                  <a:lnTo>
                    <a:pt x="1307" y="1439"/>
                  </a:lnTo>
                  <a:lnTo>
                    <a:pt x="1307" y="1441"/>
                  </a:lnTo>
                  <a:lnTo>
                    <a:pt x="1307" y="1443"/>
                  </a:lnTo>
                  <a:lnTo>
                    <a:pt x="1307" y="1445"/>
                  </a:lnTo>
                  <a:lnTo>
                    <a:pt x="1307" y="1445"/>
                  </a:lnTo>
                  <a:lnTo>
                    <a:pt x="1307" y="1447"/>
                  </a:lnTo>
                  <a:lnTo>
                    <a:pt x="1307" y="1449"/>
                  </a:lnTo>
                  <a:lnTo>
                    <a:pt x="1307" y="1450"/>
                  </a:lnTo>
                  <a:lnTo>
                    <a:pt x="1308" y="1450"/>
                  </a:lnTo>
                  <a:lnTo>
                    <a:pt x="1308" y="1452"/>
                  </a:lnTo>
                  <a:lnTo>
                    <a:pt x="1308" y="1453"/>
                  </a:lnTo>
                  <a:lnTo>
                    <a:pt x="1308" y="1455"/>
                  </a:lnTo>
                  <a:lnTo>
                    <a:pt x="1310" y="1455"/>
                  </a:lnTo>
                  <a:lnTo>
                    <a:pt x="1310" y="1457"/>
                  </a:lnTo>
                  <a:lnTo>
                    <a:pt x="1312" y="1457"/>
                  </a:lnTo>
                  <a:lnTo>
                    <a:pt x="1314" y="1458"/>
                  </a:lnTo>
                  <a:lnTo>
                    <a:pt x="1316" y="1458"/>
                  </a:lnTo>
                  <a:lnTo>
                    <a:pt x="1316" y="1459"/>
                  </a:lnTo>
                  <a:lnTo>
                    <a:pt x="1317" y="1460"/>
                  </a:lnTo>
                  <a:lnTo>
                    <a:pt x="1318" y="1462"/>
                  </a:lnTo>
                  <a:lnTo>
                    <a:pt x="1320" y="1464"/>
                  </a:lnTo>
                  <a:lnTo>
                    <a:pt x="1321" y="1468"/>
                  </a:lnTo>
                  <a:lnTo>
                    <a:pt x="1323" y="1470"/>
                  </a:lnTo>
                  <a:lnTo>
                    <a:pt x="1325" y="1474"/>
                  </a:lnTo>
                  <a:lnTo>
                    <a:pt x="1327" y="1477"/>
                  </a:lnTo>
                  <a:lnTo>
                    <a:pt x="1329" y="1483"/>
                  </a:lnTo>
                  <a:lnTo>
                    <a:pt x="1332" y="1487"/>
                  </a:lnTo>
                  <a:lnTo>
                    <a:pt x="1335" y="1493"/>
                  </a:lnTo>
                  <a:lnTo>
                    <a:pt x="1338" y="1497"/>
                  </a:lnTo>
                  <a:lnTo>
                    <a:pt x="1341" y="1502"/>
                  </a:lnTo>
                  <a:lnTo>
                    <a:pt x="1345" y="1507"/>
                  </a:lnTo>
                  <a:lnTo>
                    <a:pt x="1349" y="1512"/>
                  </a:lnTo>
                  <a:lnTo>
                    <a:pt x="1354" y="1516"/>
                  </a:lnTo>
                  <a:lnTo>
                    <a:pt x="1358" y="1524"/>
                  </a:lnTo>
                  <a:lnTo>
                    <a:pt x="1363" y="1531"/>
                  </a:lnTo>
                  <a:lnTo>
                    <a:pt x="1368" y="1538"/>
                  </a:lnTo>
                  <a:lnTo>
                    <a:pt x="1375" y="1546"/>
                  </a:lnTo>
                  <a:lnTo>
                    <a:pt x="1381" y="1554"/>
                  </a:lnTo>
                  <a:lnTo>
                    <a:pt x="1389" y="1561"/>
                  </a:lnTo>
                  <a:lnTo>
                    <a:pt x="1397" y="1568"/>
                  </a:lnTo>
                  <a:lnTo>
                    <a:pt x="1406" y="1575"/>
                  </a:lnTo>
                  <a:lnTo>
                    <a:pt x="1415" y="1583"/>
                  </a:lnTo>
                  <a:lnTo>
                    <a:pt x="1424" y="1590"/>
                  </a:lnTo>
                  <a:lnTo>
                    <a:pt x="1433" y="1598"/>
                  </a:lnTo>
                  <a:lnTo>
                    <a:pt x="1443" y="1605"/>
                  </a:lnTo>
                  <a:lnTo>
                    <a:pt x="1452" y="1613"/>
                  </a:lnTo>
                  <a:lnTo>
                    <a:pt x="1461" y="1620"/>
                  </a:lnTo>
                  <a:lnTo>
                    <a:pt x="1471" y="1628"/>
                  </a:lnTo>
                  <a:lnTo>
                    <a:pt x="1482" y="1635"/>
                  </a:lnTo>
                  <a:lnTo>
                    <a:pt x="1491" y="1645"/>
                  </a:lnTo>
                  <a:lnTo>
                    <a:pt x="1505" y="1656"/>
                  </a:lnTo>
                  <a:lnTo>
                    <a:pt x="1521" y="1668"/>
                  </a:lnTo>
                  <a:lnTo>
                    <a:pt x="1541" y="1682"/>
                  </a:lnTo>
                  <a:lnTo>
                    <a:pt x="1561" y="1696"/>
                  </a:lnTo>
                  <a:lnTo>
                    <a:pt x="1583" y="1711"/>
                  </a:lnTo>
                  <a:lnTo>
                    <a:pt x="1605" y="1726"/>
                  </a:lnTo>
                  <a:lnTo>
                    <a:pt x="1629" y="1741"/>
                  </a:lnTo>
                  <a:lnTo>
                    <a:pt x="1651" y="1756"/>
                  </a:lnTo>
                  <a:lnTo>
                    <a:pt x="1673" y="1771"/>
                  </a:lnTo>
                  <a:lnTo>
                    <a:pt x="1693" y="1784"/>
                  </a:lnTo>
                  <a:lnTo>
                    <a:pt x="1711" y="1796"/>
                  </a:lnTo>
                  <a:lnTo>
                    <a:pt x="1727" y="1806"/>
                  </a:lnTo>
                  <a:lnTo>
                    <a:pt x="1740" y="1814"/>
                  </a:lnTo>
                  <a:lnTo>
                    <a:pt x="1749" y="1820"/>
                  </a:lnTo>
                  <a:lnTo>
                    <a:pt x="1755" y="1822"/>
                  </a:lnTo>
                  <a:lnTo>
                    <a:pt x="1755" y="1824"/>
                  </a:lnTo>
                  <a:lnTo>
                    <a:pt x="1757" y="1826"/>
                  </a:lnTo>
                  <a:lnTo>
                    <a:pt x="1758" y="1828"/>
                  </a:lnTo>
                  <a:lnTo>
                    <a:pt x="1759" y="1830"/>
                  </a:lnTo>
                  <a:lnTo>
                    <a:pt x="1759" y="1834"/>
                  </a:lnTo>
                  <a:lnTo>
                    <a:pt x="1761" y="1836"/>
                  </a:lnTo>
                  <a:lnTo>
                    <a:pt x="1763" y="1839"/>
                  </a:lnTo>
                  <a:lnTo>
                    <a:pt x="1765" y="1840"/>
                  </a:lnTo>
                  <a:lnTo>
                    <a:pt x="1765" y="1844"/>
                  </a:lnTo>
                  <a:lnTo>
                    <a:pt x="1767" y="1846"/>
                  </a:lnTo>
                  <a:lnTo>
                    <a:pt x="1767" y="1849"/>
                  </a:lnTo>
                  <a:lnTo>
                    <a:pt x="1768" y="1851"/>
                  </a:lnTo>
                  <a:lnTo>
                    <a:pt x="1768" y="1854"/>
                  </a:lnTo>
                  <a:lnTo>
                    <a:pt x="1770" y="1856"/>
                  </a:lnTo>
                  <a:lnTo>
                    <a:pt x="1771" y="1858"/>
                  </a:lnTo>
                  <a:lnTo>
                    <a:pt x="1773" y="1859"/>
                  </a:lnTo>
                  <a:lnTo>
                    <a:pt x="1773" y="1861"/>
                  </a:lnTo>
                  <a:lnTo>
                    <a:pt x="1775" y="1861"/>
                  </a:lnTo>
                  <a:lnTo>
                    <a:pt x="1776" y="1861"/>
                  </a:lnTo>
                  <a:lnTo>
                    <a:pt x="1779" y="1860"/>
                  </a:lnTo>
                  <a:lnTo>
                    <a:pt x="1782" y="1860"/>
                  </a:lnTo>
                  <a:lnTo>
                    <a:pt x="1786" y="1859"/>
                  </a:lnTo>
                  <a:lnTo>
                    <a:pt x="1789" y="1859"/>
                  </a:lnTo>
                  <a:lnTo>
                    <a:pt x="1793" y="1858"/>
                  </a:lnTo>
                  <a:lnTo>
                    <a:pt x="1796" y="1858"/>
                  </a:lnTo>
                  <a:lnTo>
                    <a:pt x="1800" y="1856"/>
                  </a:lnTo>
                  <a:lnTo>
                    <a:pt x="1804" y="1856"/>
                  </a:lnTo>
                  <a:lnTo>
                    <a:pt x="1807" y="1854"/>
                  </a:lnTo>
                  <a:lnTo>
                    <a:pt x="1809" y="1854"/>
                  </a:lnTo>
                  <a:lnTo>
                    <a:pt x="1813" y="1852"/>
                  </a:lnTo>
                  <a:lnTo>
                    <a:pt x="1815" y="1852"/>
                  </a:lnTo>
                  <a:lnTo>
                    <a:pt x="1817" y="1851"/>
                  </a:lnTo>
                  <a:lnTo>
                    <a:pt x="1819" y="1853"/>
                  </a:lnTo>
                  <a:lnTo>
                    <a:pt x="1821" y="1853"/>
                  </a:lnTo>
                  <a:lnTo>
                    <a:pt x="1823" y="1854"/>
                  </a:lnTo>
                  <a:lnTo>
                    <a:pt x="1826" y="1854"/>
                  </a:lnTo>
                  <a:lnTo>
                    <a:pt x="1828" y="1856"/>
                  </a:lnTo>
                  <a:lnTo>
                    <a:pt x="1832" y="1857"/>
                  </a:lnTo>
                  <a:lnTo>
                    <a:pt x="1834" y="1859"/>
                  </a:lnTo>
                  <a:lnTo>
                    <a:pt x="1837" y="1859"/>
                  </a:lnTo>
                  <a:lnTo>
                    <a:pt x="1839" y="1860"/>
                  </a:lnTo>
                  <a:lnTo>
                    <a:pt x="1843" y="1862"/>
                  </a:lnTo>
                  <a:lnTo>
                    <a:pt x="1845" y="1864"/>
                  </a:lnTo>
                  <a:lnTo>
                    <a:pt x="1848" y="1864"/>
                  </a:lnTo>
                  <a:lnTo>
                    <a:pt x="1850" y="1866"/>
                  </a:lnTo>
                  <a:lnTo>
                    <a:pt x="1852" y="1867"/>
                  </a:lnTo>
                  <a:lnTo>
                    <a:pt x="1854" y="1869"/>
                  </a:lnTo>
                  <a:lnTo>
                    <a:pt x="1857" y="1869"/>
                  </a:lnTo>
                  <a:lnTo>
                    <a:pt x="1859" y="1870"/>
                  </a:lnTo>
                  <a:lnTo>
                    <a:pt x="1861" y="1872"/>
                  </a:lnTo>
                  <a:lnTo>
                    <a:pt x="1863" y="1874"/>
                  </a:lnTo>
                  <a:lnTo>
                    <a:pt x="1865" y="1876"/>
                  </a:lnTo>
                  <a:lnTo>
                    <a:pt x="1867" y="1879"/>
                  </a:lnTo>
                  <a:lnTo>
                    <a:pt x="1869" y="1881"/>
                  </a:lnTo>
                  <a:lnTo>
                    <a:pt x="1871" y="1883"/>
                  </a:lnTo>
                  <a:lnTo>
                    <a:pt x="1875" y="1885"/>
                  </a:lnTo>
                  <a:lnTo>
                    <a:pt x="1877" y="1889"/>
                  </a:lnTo>
                  <a:lnTo>
                    <a:pt x="1879" y="1890"/>
                  </a:lnTo>
                  <a:lnTo>
                    <a:pt x="1881" y="1894"/>
                  </a:lnTo>
                  <a:lnTo>
                    <a:pt x="1884" y="1896"/>
                  </a:lnTo>
                  <a:lnTo>
                    <a:pt x="1885" y="1898"/>
                  </a:lnTo>
                  <a:lnTo>
                    <a:pt x="1887" y="1900"/>
                  </a:lnTo>
                  <a:lnTo>
                    <a:pt x="1889" y="1902"/>
                  </a:lnTo>
                  <a:lnTo>
                    <a:pt x="1891" y="1904"/>
                  </a:lnTo>
                  <a:lnTo>
                    <a:pt x="1893" y="1907"/>
                  </a:lnTo>
                  <a:lnTo>
                    <a:pt x="1895" y="1910"/>
                  </a:lnTo>
                  <a:lnTo>
                    <a:pt x="1899" y="1914"/>
                  </a:lnTo>
                  <a:lnTo>
                    <a:pt x="1903" y="1917"/>
                  </a:lnTo>
                  <a:lnTo>
                    <a:pt x="1907" y="1923"/>
                  </a:lnTo>
                  <a:lnTo>
                    <a:pt x="1911" y="1927"/>
                  </a:lnTo>
                  <a:lnTo>
                    <a:pt x="1914" y="1931"/>
                  </a:lnTo>
                  <a:lnTo>
                    <a:pt x="1919" y="1935"/>
                  </a:lnTo>
                  <a:lnTo>
                    <a:pt x="1923" y="1940"/>
                  </a:lnTo>
                  <a:lnTo>
                    <a:pt x="1926" y="1944"/>
                  </a:lnTo>
                  <a:lnTo>
                    <a:pt x="1929" y="1947"/>
                  </a:lnTo>
                  <a:lnTo>
                    <a:pt x="1933" y="1950"/>
                  </a:lnTo>
                  <a:lnTo>
                    <a:pt x="1935" y="1953"/>
                  </a:lnTo>
                  <a:lnTo>
                    <a:pt x="1937" y="1955"/>
                  </a:lnTo>
                  <a:lnTo>
                    <a:pt x="1939" y="1955"/>
                  </a:lnTo>
                  <a:lnTo>
                    <a:pt x="1941" y="1955"/>
                  </a:lnTo>
                  <a:lnTo>
                    <a:pt x="1940" y="1954"/>
                  </a:lnTo>
                  <a:lnTo>
                    <a:pt x="1939" y="1950"/>
                  </a:lnTo>
                  <a:lnTo>
                    <a:pt x="1935" y="1945"/>
                  </a:lnTo>
                  <a:lnTo>
                    <a:pt x="1933" y="1938"/>
                  </a:lnTo>
                  <a:lnTo>
                    <a:pt x="1928" y="1932"/>
                  </a:lnTo>
                  <a:lnTo>
                    <a:pt x="1924" y="1923"/>
                  </a:lnTo>
                  <a:lnTo>
                    <a:pt x="1918" y="1914"/>
                  </a:lnTo>
                  <a:lnTo>
                    <a:pt x="1913" y="1903"/>
                  </a:lnTo>
                  <a:lnTo>
                    <a:pt x="1905" y="1894"/>
                  </a:lnTo>
                  <a:lnTo>
                    <a:pt x="1899" y="1883"/>
                  </a:lnTo>
                  <a:lnTo>
                    <a:pt x="1891" y="1874"/>
                  </a:lnTo>
                  <a:lnTo>
                    <a:pt x="1885" y="1863"/>
                  </a:lnTo>
                  <a:lnTo>
                    <a:pt x="1879" y="1855"/>
                  </a:lnTo>
                  <a:lnTo>
                    <a:pt x="1874" y="1846"/>
                  </a:lnTo>
                  <a:lnTo>
                    <a:pt x="1869" y="1840"/>
                  </a:lnTo>
                  <a:lnTo>
                    <a:pt x="1865" y="1834"/>
                  </a:lnTo>
                  <a:lnTo>
                    <a:pt x="1860" y="1830"/>
                  </a:lnTo>
                  <a:lnTo>
                    <a:pt x="1853" y="1821"/>
                  </a:lnTo>
                  <a:lnTo>
                    <a:pt x="1841" y="1811"/>
                  </a:lnTo>
                  <a:lnTo>
                    <a:pt x="1829" y="1798"/>
                  </a:lnTo>
                  <a:lnTo>
                    <a:pt x="1814" y="1783"/>
                  </a:lnTo>
                  <a:lnTo>
                    <a:pt x="1798" y="1768"/>
                  </a:lnTo>
                  <a:lnTo>
                    <a:pt x="1781" y="1751"/>
                  </a:lnTo>
                  <a:lnTo>
                    <a:pt x="1765" y="1733"/>
                  </a:lnTo>
                  <a:lnTo>
                    <a:pt x="1748" y="1716"/>
                  </a:lnTo>
                  <a:lnTo>
                    <a:pt x="1731" y="1699"/>
                  </a:lnTo>
                  <a:lnTo>
                    <a:pt x="1716" y="1683"/>
                  </a:lnTo>
                  <a:lnTo>
                    <a:pt x="1702" y="1668"/>
                  </a:lnTo>
                  <a:lnTo>
                    <a:pt x="1690" y="1655"/>
                  </a:lnTo>
                  <a:lnTo>
                    <a:pt x="1680" y="1644"/>
                  </a:lnTo>
                  <a:lnTo>
                    <a:pt x="1673" y="1635"/>
                  </a:lnTo>
                  <a:lnTo>
                    <a:pt x="1671" y="1629"/>
                  </a:lnTo>
                  <a:lnTo>
                    <a:pt x="1669" y="1627"/>
                  </a:lnTo>
                  <a:lnTo>
                    <a:pt x="1669" y="1624"/>
                  </a:lnTo>
                  <a:lnTo>
                    <a:pt x="1667" y="1622"/>
                  </a:lnTo>
                  <a:lnTo>
                    <a:pt x="1667" y="1618"/>
                  </a:lnTo>
                  <a:lnTo>
                    <a:pt x="1665" y="1615"/>
                  </a:lnTo>
                  <a:lnTo>
                    <a:pt x="1665" y="1611"/>
                  </a:lnTo>
                  <a:lnTo>
                    <a:pt x="1665" y="1607"/>
                  </a:lnTo>
                  <a:lnTo>
                    <a:pt x="1665" y="1604"/>
                  </a:lnTo>
                  <a:lnTo>
                    <a:pt x="1663" y="1600"/>
                  </a:lnTo>
                  <a:lnTo>
                    <a:pt x="1663" y="1596"/>
                  </a:lnTo>
                  <a:lnTo>
                    <a:pt x="1663" y="1592"/>
                  </a:lnTo>
                  <a:lnTo>
                    <a:pt x="1663" y="1588"/>
                  </a:lnTo>
                  <a:lnTo>
                    <a:pt x="1663" y="1585"/>
                  </a:lnTo>
                  <a:lnTo>
                    <a:pt x="1663" y="1581"/>
                  </a:lnTo>
                  <a:lnTo>
                    <a:pt x="1663" y="1577"/>
                  </a:lnTo>
                  <a:lnTo>
                    <a:pt x="1663" y="1574"/>
                  </a:lnTo>
                  <a:lnTo>
                    <a:pt x="1662" y="1572"/>
                  </a:lnTo>
                  <a:lnTo>
                    <a:pt x="1660" y="1567"/>
                  </a:lnTo>
                  <a:lnTo>
                    <a:pt x="1657" y="1562"/>
                  </a:lnTo>
                  <a:lnTo>
                    <a:pt x="1653" y="1556"/>
                  </a:lnTo>
                  <a:lnTo>
                    <a:pt x="1647" y="1549"/>
                  </a:lnTo>
                  <a:lnTo>
                    <a:pt x="1642" y="1542"/>
                  </a:lnTo>
                  <a:lnTo>
                    <a:pt x="1636" y="1534"/>
                  </a:lnTo>
                  <a:lnTo>
                    <a:pt x="1630" y="1525"/>
                  </a:lnTo>
                  <a:lnTo>
                    <a:pt x="1623" y="1517"/>
                  </a:lnTo>
                  <a:lnTo>
                    <a:pt x="1617" y="1509"/>
                  </a:lnTo>
                  <a:lnTo>
                    <a:pt x="1612" y="1502"/>
                  </a:lnTo>
                  <a:lnTo>
                    <a:pt x="1607" y="1494"/>
                  </a:lnTo>
                  <a:lnTo>
                    <a:pt x="1601" y="1489"/>
                  </a:lnTo>
                  <a:lnTo>
                    <a:pt x="1597" y="1483"/>
                  </a:lnTo>
                  <a:lnTo>
                    <a:pt x="1594" y="1479"/>
                  </a:lnTo>
                  <a:lnTo>
                    <a:pt x="1593" y="1476"/>
                  </a:lnTo>
                  <a:lnTo>
                    <a:pt x="1590" y="1474"/>
                  </a:lnTo>
                  <a:lnTo>
                    <a:pt x="1587" y="1470"/>
                  </a:lnTo>
                  <a:lnTo>
                    <a:pt x="1583" y="1465"/>
                  </a:lnTo>
                  <a:lnTo>
                    <a:pt x="1580" y="1459"/>
                  </a:lnTo>
                  <a:lnTo>
                    <a:pt x="1574" y="1454"/>
                  </a:lnTo>
                  <a:lnTo>
                    <a:pt x="1570" y="1448"/>
                  </a:lnTo>
                  <a:lnTo>
                    <a:pt x="1564" y="1441"/>
                  </a:lnTo>
                  <a:lnTo>
                    <a:pt x="1560" y="1434"/>
                  </a:lnTo>
                  <a:lnTo>
                    <a:pt x="1554" y="1428"/>
                  </a:lnTo>
                  <a:lnTo>
                    <a:pt x="1549" y="1421"/>
                  </a:lnTo>
                  <a:lnTo>
                    <a:pt x="1544" y="1416"/>
                  </a:lnTo>
                  <a:lnTo>
                    <a:pt x="1541" y="1409"/>
                  </a:lnTo>
                  <a:lnTo>
                    <a:pt x="1536" y="1405"/>
                  </a:lnTo>
                  <a:lnTo>
                    <a:pt x="1533" y="1400"/>
                  </a:lnTo>
                  <a:lnTo>
                    <a:pt x="1531" y="1397"/>
                  </a:lnTo>
                  <a:lnTo>
                    <a:pt x="1531" y="1394"/>
                  </a:lnTo>
                  <a:lnTo>
                    <a:pt x="1529" y="1392"/>
                  </a:lnTo>
                  <a:lnTo>
                    <a:pt x="1529" y="1388"/>
                  </a:lnTo>
                  <a:lnTo>
                    <a:pt x="1529" y="1385"/>
                  </a:lnTo>
                  <a:lnTo>
                    <a:pt x="1531" y="1381"/>
                  </a:lnTo>
                  <a:lnTo>
                    <a:pt x="1533" y="1378"/>
                  </a:lnTo>
                  <a:lnTo>
                    <a:pt x="1534" y="1374"/>
                  </a:lnTo>
                  <a:lnTo>
                    <a:pt x="1536" y="1370"/>
                  </a:lnTo>
                  <a:lnTo>
                    <a:pt x="1538" y="1366"/>
                  </a:lnTo>
                  <a:lnTo>
                    <a:pt x="1539" y="1363"/>
                  </a:lnTo>
                  <a:lnTo>
                    <a:pt x="1541" y="1360"/>
                  </a:lnTo>
                  <a:lnTo>
                    <a:pt x="1542" y="1356"/>
                  </a:lnTo>
                  <a:lnTo>
                    <a:pt x="1544" y="1352"/>
                  </a:lnTo>
                  <a:lnTo>
                    <a:pt x="1544" y="1350"/>
                  </a:lnTo>
                  <a:lnTo>
                    <a:pt x="1545" y="1346"/>
                  </a:lnTo>
                  <a:lnTo>
                    <a:pt x="1545" y="1343"/>
                  </a:lnTo>
                  <a:lnTo>
                    <a:pt x="1545" y="1339"/>
                  </a:lnTo>
                  <a:lnTo>
                    <a:pt x="1543" y="1335"/>
                  </a:lnTo>
                  <a:lnTo>
                    <a:pt x="1541" y="1331"/>
                  </a:lnTo>
                  <a:lnTo>
                    <a:pt x="1537" y="1328"/>
                  </a:lnTo>
                  <a:lnTo>
                    <a:pt x="1535" y="1322"/>
                  </a:lnTo>
                  <a:lnTo>
                    <a:pt x="1531" y="1318"/>
                  </a:lnTo>
                  <a:lnTo>
                    <a:pt x="1527" y="1313"/>
                  </a:lnTo>
                  <a:lnTo>
                    <a:pt x="1522" y="1309"/>
                  </a:lnTo>
                  <a:lnTo>
                    <a:pt x="1518" y="1303"/>
                  </a:lnTo>
                  <a:lnTo>
                    <a:pt x="1513" y="1300"/>
                  </a:lnTo>
                  <a:lnTo>
                    <a:pt x="1507" y="1296"/>
                  </a:lnTo>
                  <a:lnTo>
                    <a:pt x="1501" y="1292"/>
                  </a:lnTo>
                  <a:lnTo>
                    <a:pt x="1497" y="1288"/>
                  </a:lnTo>
                  <a:lnTo>
                    <a:pt x="1492" y="1285"/>
                  </a:lnTo>
                  <a:lnTo>
                    <a:pt x="1487" y="1282"/>
                  </a:lnTo>
                  <a:lnTo>
                    <a:pt x="1483" y="1280"/>
                  </a:lnTo>
                  <a:lnTo>
                    <a:pt x="1479" y="1277"/>
                  </a:lnTo>
                  <a:lnTo>
                    <a:pt x="1477" y="1277"/>
                  </a:lnTo>
                  <a:lnTo>
                    <a:pt x="1476" y="1276"/>
                  </a:lnTo>
                  <a:lnTo>
                    <a:pt x="1474" y="1274"/>
                  </a:lnTo>
                  <a:lnTo>
                    <a:pt x="1474" y="1270"/>
                  </a:lnTo>
                  <a:lnTo>
                    <a:pt x="1472" y="1267"/>
                  </a:lnTo>
                  <a:lnTo>
                    <a:pt x="1472" y="1263"/>
                  </a:lnTo>
                  <a:lnTo>
                    <a:pt x="1470" y="1260"/>
                  </a:lnTo>
                  <a:lnTo>
                    <a:pt x="1470" y="1255"/>
                  </a:lnTo>
                  <a:lnTo>
                    <a:pt x="1468" y="1251"/>
                  </a:lnTo>
                  <a:lnTo>
                    <a:pt x="1468" y="1246"/>
                  </a:lnTo>
                  <a:lnTo>
                    <a:pt x="1467" y="1243"/>
                  </a:lnTo>
                  <a:lnTo>
                    <a:pt x="1467" y="1238"/>
                  </a:lnTo>
                  <a:lnTo>
                    <a:pt x="1465" y="1235"/>
                  </a:lnTo>
                  <a:lnTo>
                    <a:pt x="1465" y="1231"/>
                  </a:lnTo>
                  <a:lnTo>
                    <a:pt x="1465" y="1228"/>
                  </a:lnTo>
                  <a:lnTo>
                    <a:pt x="1465" y="1225"/>
                  </a:lnTo>
                  <a:lnTo>
                    <a:pt x="1465" y="1225"/>
                  </a:lnTo>
                  <a:lnTo>
                    <a:pt x="1465" y="1225"/>
                  </a:lnTo>
                  <a:lnTo>
                    <a:pt x="1465" y="1225"/>
                  </a:lnTo>
                  <a:lnTo>
                    <a:pt x="1466" y="1223"/>
                  </a:lnTo>
                  <a:lnTo>
                    <a:pt x="1466" y="1223"/>
                  </a:lnTo>
                  <a:lnTo>
                    <a:pt x="1466" y="1221"/>
                  </a:lnTo>
                  <a:lnTo>
                    <a:pt x="1466" y="1220"/>
                  </a:lnTo>
                  <a:lnTo>
                    <a:pt x="1467" y="1218"/>
                  </a:lnTo>
                  <a:lnTo>
                    <a:pt x="1467" y="1218"/>
                  </a:lnTo>
                  <a:lnTo>
                    <a:pt x="1467" y="1216"/>
                  </a:lnTo>
                  <a:lnTo>
                    <a:pt x="1467" y="1215"/>
                  </a:lnTo>
                  <a:lnTo>
                    <a:pt x="1469" y="1213"/>
                  </a:lnTo>
                  <a:lnTo>
                    <a:pt x="1469" y="1213"/>
                  </a:lnTo>
                  <a:lnTo>
                    <a:pt x="1469" y="1211"/>
                  </a:lnTo>
                  <a:lnTo>
                    <a:pt x="1469" y="1210"/>
                  </a:lnTo>
                  <a:lnTo>
                    <a:pt x="1470" y="1208"/>
                  </a:lnTo>
                  <a:lnTo>
                    <a:pt x="1467" y="1204"/>
                  </a:lnTo>
                  <a:lnTo>
                    <a:pt x="1463" y="1196"/>
                  </a:lnTo>
                  <a:lnTo>
                    <a:pt x="1456" y="1187"/>
                  </a:lnTo>
                  <a:lnTo>
                    <a:pt x="1449" y="1177"/>
                  </a:lnTo>
                  <a:lnTo>
                    <a:pt x="1440" y="1167"/>
                  </a:lnTo>
                  <a:lnTo>
                    <a:pt x="1431" y="1156"/>
                  </a:lnTo>
                  <a:lnTo>
                    <a:pt x="1421" y="1145"/>
                  </a:lnTo>
                  <a:lnTo>
                    <a:pt x="1411" y="1133"/>
                  </a:lnTo>
                  <a:lnTo>
                    <a:pt x="1400" y="1123"/>
                  </a:lnTo>
                  <a:lnTo>
                    <a:pt x="1390" y="1112"/>
                  </a:lnTo>
                  <a:lnTo>
                    <a:pt x="1381" y="1102"/>
                  </a:lnTo>
                  <a:lnTo>
                    <a:pt x="1372" y="1092"/>
                  </a:lnTo>
                  <a:lnTo>
                    <a:pt x="1364" y="1086"/>
                  </a:lnTo>
                  <a:lnTo>
                    <a:pt x="1358" y="1079"/>
                  </a:lnTo>
                  <a:lnTo>
                    <a:pt x="1353" y="1074"/>
                  </a:lnTo>
                  <a:lnTo>
                    <a:pt x="1350" y="1070"/>
                  </a:lnTo>
                  <a:lnTo>
                    <a:pt x="1347" y="1067"/>
                  </a:lnTo>
                  <a:lnTo>
                    <a:pt x="1343" y="1063"/>
                  </a:lnTo>
                  <a:lnTo>
                    <a:pt x="1339" y="1059"/>
                  </a:lnTo>
                  <a:lnTo>
                    <a:pt x="1335" y="1055"/>
                  </a:lnTo>
                  <a:lnTo>
                    <a:pt x="1330" y="1051"/>
                  </a:lnTo>
                  <a:lnTo>
                    <a:pt x="1326" y="1046"/>
                  </a:lnTo>
                  <a:lnTo>
                    <a:pt x="1320" y="1042"/>
                  </a:lnTo>
                  <a:lnTo>
                    <a:pt x="1317" y="1037"/>
                  </a:lnTo>
                  <a:lnTo>
                    <a:pt x="1311" y="1033"/>
                  </a:lnTo>
                  <a:lnTo>
                    <a:pt x="1307" y="1028"/>
                  </a:lnTo>
                  <a:lnTo>
                    <a:pt x="1303" y="1024"/>
                  </a:lnTo>
                  <a:lnTo>
                    <a:pt x="1299" y="1018"/>
                  </a:lnTo>
                  <a:lnTo>
                    <a:pt x="1295" y="1014"/>
                  </a:lnTo>
                  <a:lnTo>
                    <a:pt x="1292" y="1009"/>
                  </a:lnTo>
                  <a:lnTo>
                    <a:pt x="1290" y="1006"/>
                  </a:lnTo>
                  <a:lnTo>
                    <a:pt x="1289" y="1000"/>
                  </a:lnTo>
                  <a:lnTo>
                    <a:pt x="1287" y="997"/>
                  </a:lnTo>
                  <a:lnTo>
                    <a:pt x="1287" y="993"/>
                  </a:lnTo>
                  <a:lnTo>
                    <a:pt x="1287" y="990"/>
                  </a:lnTo>
                  <a:lnTo>
                    <a:pt x="1287" y="984"/>
                  </a:lnTo>
                  <a:lnTo>
                    <a:pt x="1287" y="980"/>
                  </a:lnTo>
                  <a:lnTo>
                    <a:pt x="1289" y="974"/>
                  </a:lnTo>
                  <a:lnTo>
                    <a:pt x="1290" y="968"/>
                  </a:lnTo>
                  <a:lnTo>
                    <a:pt x="1291" y="962"/>
                  </a:lnTo>
                  <a:lnTo>
                    <a:pt x="1291" y="958"/>
                  </a:lnTo>
                  <a:lnTo>
                    <a:pt x="1293" y="952"/>
                  </a:lnTo>
                  <a:lnTo>
                    <a:pt x="1293" y="947"/>
                  </a:lnTo>
                  <a:lnTo>
                    <a:pt x="1295" y="941"/>
                  </a:lnTo>
                  <a:lnTo>
                    <a:pt x="1294" y="938"/>
                  </a:lnTo>
                  <a:lnTo>
                    <a:pt x="1294" y="933"/>
                  </a:lnTo>
                  <a:lnTo>
                    <a:pt x="1293" y="929"/>
                  </a:lnTo>
                  <a:lnTo>
                    <a:pt x="1293" y="924"/>
                  </a:lnTo>
                  <a:lnTo>
                    <a:pt x="1291" y="922"/>
                  </a:lnTo>
                  <a:lnTo>
                    <a:pt x="1289" y="918"/>
                  </a:lnTo>
                  <a:lnTo>
                    <a:pt x="1287" y="914"/>
                  </a:lnTo>
                  <a:lnTo>
                    <a:pt x="1285" y="909"/>
                  </a:lnTo>
                  <a:lnTo>
                    <a:pt x="1281" y="905"/>
                  </a:lnTo>
                  <a:lnTo>
                    <a:pt x="1279" y="900"/>
                  </a:lnTo>
                  <a:lnTo>
                    <a:pt x="1275" y="894"/>
                  </a:lnTo>
                  <a:lnTo>
                    <a:pt x="1273" y="888"/>
                  </a:lnTo>
                  <a:lnTo>
                    <a:pt x="1270" y="884"/>
                  </a:lnTo>
                  <a:lnTo>
                    <a:pt x="1266" y="879"/>
                  </a:lnTo>
                  <a:lnTo>
                    <a:pt x="1262" y="875"/>
                  </a:lnTo>
                  <a:lnTo>
                    <a:pt x="1260" y="870"/>
                  </a:lnTo>
                  <a:lnTo>
                    <a:pt x="1256" y="866"/>
                  </a:lnTo>
                  <a:lnTo>
                    <a:pt x="1254" y="862"/>
                  </a:lnTo>
                  <a:lnTo>
                    <a:pt x="1251" y="860"/>
                  </a:lnTo>
                  <a:lnTo>
                    <a:pt x="1249" y="856"/>
                  </a:lnTo>
                  <a:lnTo>
                    <a:pt x="1247" y="856"/>
                  </a:lnTo>
                  <a:lnTo>
                    <a:pt x="1247" y="856"/>
                  </a:lnTo>
                  <a:lnTo>
                    <a:pt x="1245" y="857"/>
                  </a:lnTo>
                  <a:lnTo>
                    <a:pt x="1244" y="857"/>
                  </a:lnTo>
                  <a:lnTo>
                    <a:pt x="1242" y="859"/>
                  </a:lnTo>
                  <a:lnTo>
                    <a:pt x="1240" y="860"/>
                  </a:lnTo>
                  <a:lnTo>
                    <a:pt x="1239" y="862"/>
                  </a:lnTo>
                  <a:lnTo>
                    <a:pt x="1237" y="862"/>
                  </a:lnTo>
                  <a:lnTo>
                    <a:pt x="1235" y="863"/>
                  </a:lnTo>
                  <a:lnTo>
                    <a:pt x="1233" y="865"/>
                  </a:lnTo>
                  <a:lnTo>
                    <a:pt x="1231" y="866"/>
                  </a:lnTo>
                  <a:lnTo>
                    <a:pt x="1229" y="866"/>
                  </a:lnTo>
                  <a:lnTo>
                    <a:pt x="1227" y="868"/>
                  </a:lnTo>
                  <a:lnTo>
                    <a:pt x="1226" y="868"/>
                  </a:lnTo>
                  <a:lnTo>
                    <a:pt x="1225" y="868"/>
                  </a:lnTo>
                  <a:lnTo>
                    <a:pt x="1225" y="867"/>
                  </a:lnTo>
                  <a:lnTo>
                    <a:pt x="1221" y="864"/>
                  </a:lnTo>
                  <a:lnTo>
                    <a:pt x="1219" y="860"/>
                  </a:lnTo>
                  <a:lnTo>
                    <a:pt x="1216" y="856"/>
                  </a:lnTo>
                  <a:lnTo>
                    <a:pt x="1214" y="851"/>
                  </a:lnTo>
                  <a:lnTo>
                    <a:pt x="1211" y="846"/>
                  </a:lnTo>
                  <a:lnTo>
                    <a:pt x="1207" y="841"/>
                  </a:lnTo>
                  <a:lnTo>
                    <a:pt x="1203" y="835"/>
                  </a:lnTo>
                  <a:lnTo>
                    <a:pt x="1202" y="830"/>
                  </a:lnTo>
                  <a:lnTo>
                    <a:pt x="1198" y="825"/>
                  </a:lnTo>
                  <a:lnTo>
                    <a:pt x="1195" y="820"/>
                  </a:lnTo>
                  <a:lnTo>
                    <a:pt x="1191" y="815"/>
                  </a:lnTo>
                  <a:lnTo>
                    <a:pt x="1189" y="809"/>
                  </a:lnTo>
                  <a:lnTo>
                    <a:pt x="1185" y="805"/>
                  </a:lnTo>
                  <a:lnTo>
                    <a:pt x="1183" y="800"/>
                  </a:lnTo>
                  <a:lnTo>
                    <a:pt x="1182" y="796"/>
                  </a:lnTo>
                  <a:lnTo>
                    <a:pt x="1180" y="792"/>
                  </a:lnTo>
                  <a:lnTo>
                    <a:pt x="1177" y="789"/>
                  </a:lnTo>
                  <a:lnTo>
                    <a:pt x="1174" y="785"/>
                  </a:lnTo>
                  <a:lnTo>
                    <a:pt x="1169" y="780"/>
                  </a:lnTo>
                  <a:lnTo>
                    <a:pt x="1164" y="775"/>
                  </a:lnTo>
                  <a:lnTo>
                    <a:pt x="1158" y="769"/>
                  </a:lnTo>
                  <a:lnTo>
                    <a:pt x="1152" y="762"/>
                  </a:lnTo>
                  <a:lnTo>
                    <a:pt x="1145" y="755"/>
                  </a:lnTo>
                  <a:lnTo>
                    <a:pt x="1140" y="747"/>
                  </a:lnTo>
                  <a:lnTo>
                    <a:pt x="1133" y="742"/>
                  </a:lnTo>
                  <a:lnTo>
                    <a:pt x="1127" y="734"/>
                  </a:lnTo>
                  <a:lnTo>
                    <a:pt x="1121" y="728"/>
                  </a:lnTo>
                  <a:lnTo>
                    <a:pt x="1115" y="721"/>
                  </a:lnTo>
                  <a:lnTo>
                    <a:pt x="1109" y="717"/>
                  </a:lnTo>
                  <a:lnTo>
                    <a:pt x="1105" y="712"/>
                  </a:lnTo>
                  <a:lnTo>
                    <a:pt x="1102" y="708"/>
                  </a:lnTo>
                  <a:lnTo>
                    <a:pt x="1101" y="705"/>
                  </a:lnTo>
                  <a:lnTo>
                    <a:pt x="1097" y="704"/>
                  </a:lnTo>
                  <a:lnTo>
                    <a:pt x="1095" y="701"/>
                  </a:lnTo>
                  <a:lnTo>
                    <a:pt x="1091" y="697"/>
                  </a:lnTo>
                  <a:lnTo>
                    <a:pt x="1088" y="693"/>
                  </a:lnTo>
                  <a:lnTo>
                    <a:pt x="1083" y="689"/>
                  </a:lnTo>
                  <a:lnTo>
                    <a:pt x="1079" y="684"/>
                  </a:lnTo>
                  <a:lnTo>
                    <a:pt x="1074" y="679"/>
                  </a:lnTo>
                  <a:lnTo>
                    <a:pt x="1070" y="673"/>
                  </a:lnTo>
                  <a:lnTo>
                    <a:pt x="1065" y="669"/>
                  </a:lnTo>
                  <a:lnTo>
                    <a:pt x="1061" y="664"/>
                  </a:lnTo>
                  <a:lnTo>
                    <a:pt x="1056" y="659"/>
                  </a:lnTo>
                  <a:lnTo>
                    <a:pt x="1053" y="653"/>
                  </a:lnTo>
                  <a:lnTo>
                    <a:pt x="1049" y="649"/>
                  </a:lnTo>
                  <a:lnTo>
                    <a:pt x="1047" y="645"/>
                  </a:lnTo>
                  <a:lnTo>
                    <a:pt x="1046" y="642"/>
                  </a:lnTo>
                  <a:lnTo>
                    <a:pt x="1046" y="639"/>
                  </a:lnTo>
                  <a:lnTo>
                    <a:pt x="1047" y="636"/>
                  </a:lnTo>
                  <a:lnTo>
                    <a:pt x="1053" y="629"/>
                  </a:lnTo>
                  <a:lnTo>
                    <a:pt x="1061" y="621"/>
                  </a:lnTo>
                  <a:lnTo>
                    <a:pt x="1073" y="610"/>
                  </a:lnTo>
                  <a:lnTo>
                    <a:pt x="1085" y="598"/>
                  </a:lnTo>
                  <a:lnTo>
                    <a:pt x="1100" y="585"/>
                  </a:lnTo>
                  <a:lnTo>
                    <a:pt x="1116" y="571"/>
                  </a:lnTo>
                  <a:lnTo>
                    <a:pt x="1133" y="556"/>
                  </a:lnTo>
                  <a:lnTo>
                    <a:pt x="1149" y="543"/>
                  </a:lnTo>
                  <a:lnTo>
                    <a:pt x="1165" y="528"/>
                  </a:lnTo>
                  <a:lnTo>
                    <a:pt x="1181" y="515"/>
                  </a:lnTo>
                  <a:lnTo>
                    <a:pt x="1195" y="503"/>
                  </a:lnTo>
                  <a:lnTo>
                    <a:pt x="1207" y="493"/>
                  </a:lnTo>
                  <a:lnTo>
                    <a:pt x="1217" y="485"/>
                  </a:lnTo>
                  <a:lnTo>
                    <a:pt x="1223" y="478"/>
                  </a:lnTo>
                  <a:lnTo>
                    <a:pt x="1229" y="475"/>
                  </a:lnTo>
                  <a:lnTo>
                    <a:pt x="1231" y="473"/>
                  </a:lnTo>
                  <a:lnTo>
                    <a:pt x="1235" y="469"/>
                  </a:lnTo>
                  <a:lnTo>
                    <a:pt x="1240" y="465"/>
                  </a:lnTo>
                  <a:lnTo>
                    <a:pt x="1247" y="460"/>
                  </a:lnTo>
                  <a:lnTo>
                    <a:pt x="1254" y="454"/>
                  </a:lnTo>
                  <a:lnTo>
                    <a:pt x="1261" y="448"/>
                  </a:lnTo>
                  <a:lnTo>
                    <a:pt x="1269" y="441"/>
                  </a:lnTo>
                  <a:lnTo>
                    <a:pt x="1279" y="434"/>
                  </a:lnTo>
                  <a:lnTo>
                    <a:pt x="1286" y="428"/>
                  </a:lnTo>
                  <a:lnTo>
                    <a:pt x="1293" y="421"/>
                  </a:lnTo>
                  <a:lnTo>
                    <a:pt x="1300" y="415"/>
                  </a:lnTo>
                  <a:lnTo>
                    <a:pt x="1307" y="408"/>
                  </a:lnTo>
                  <a:lnTo>
                    <a:pt x="1313" y="404"/>
                  </a:lnTo>
                  <a:lnTo>
                    <a:pt x="1318" y="398"/>
                  </a:lnTo>
                  <a:lnTo>
                    <a:pt x="1322" y="395"/>
                  </a:lnTo>
                  <a:lnTo>
                    <a:pt x="1325" y="391"/>
                  </a:lnTo>
                  <a:lnTo>
                    <a:pt x="1327" y="390"/>
                  </a:lnTo>
                  <a:lnTo>
                    <a:pt x="1329" y="386"/>
                  </a:lnTo>
                  <a:lnTo>
                    <a:pt x="1333" y="382"/>
                  </a:lnTo>
                  <a:lnTo>
                    <a:pt x="1338" y="376"/>
                  </a:lnTo>
                  <a:lnTo>
                    <a:pt x="1343" y="370"/>
                  </a:lnTo>
                  <a:lnTo>
                    <a:pt x="1349" y="364"/>
                  </a:lnTo>
                  <a:lnTo>
                    <a:pt x="1355" y="357"/>
                  </a:lnTo>
                  <a:lnTo>
                    <a:pt x="1363" y="350"/>
                  </a:lnTo>
                  <a:lnTo>
                    <a:pt x="1368" y="344"/>
                  </a:lnTo>
                  <a:lnTo>
                    <a:pt x="1374" y="337"/>
                  </a:lnTo>
                  <a:lnTo>
                    <a:pt x="1379" y="330"/>
                  </a:lnTo>
                  <a:lnTo>
                    <a:pt x="1385" y="324"/>
                  </a:lnTo>
                  <a:lnTo>
                    <a:pt x="1389" y="319"/>
                  </a:lnTo>
                  <a:lnTo>
                    <a:pt x="1393" y="314"/>
                  </a:lnTo>
                  <a:lnTo>
                    <a:pt x="1395" y="310"/>
                  </a:lnTo>
                  <a:lnTo>
                    <a:pt x="1398" y="306"/>
                  </a:lnTo>
                  <a:lnTo>
                    <a:pt x="1398" y="306"/>
                  </a:lnTo>
                  <a:lnTo>
                    <a:pt x="1399" y="304"/>
                  </a:lnTo>
                  <a:lnTo>
                    <a:pt x="1401" y="302"/>
                  </a:lnTo>
                  <a:lnTo>
                    <a:pt x="1405" y="298"/>
                  </a:lnTo>
                  <a:lnTo>
                    <a:pt x="1408" y="294"/>
                  </a:lnTo>
                  <a:lnTo>
                    <a:pt x="1411" y="289"/>
                  </a:lnTo>
                  <a:lnTo>
                    <a:pt x="1415" y="284"/>
                  </a:lnTo>
                  <a:lnTo>
                    <a:pt x="1421" y="278"/>
                  </a:lnTo>
                  <a:lnTo>
                    <a:pt x="1425" y="273"/>
                  </a:lnTo>
                  <a:lnTo>
                    <a:pt x="1429" y="268"/>
                  </a:lnTo>
                  <a:lnTo>
                    <a:pt x="1433" y="262"/>
                  </a:lnTo>
                  <a:lnTo>
                    <a:pt x="1437" y="256"/>
                  </a:lnTo>
                  <a:lnTo>
                    <a:pt x="1440" y="252"/>
                  </a:lnTo>
                  <a:lnTo>
                    <a:pt x="1444" y="248"/>
                  </a:lnTo>
                  <a:lnTo>
                    <a:pt x="1446" y="244"/>
                  </a:lnTo>
                  <a:lnTo>
                    <a:pt x="1448" y="240"/>
                  </a:lnTo>
                  <a:lnTo>
                    <a:pt x="1448" y="240"/>
                  </a:lnTo>
                  <a:lnTo>
                    <a:pt x="1448" y="238"/>
                  </a:lnTo>
                  <a:lnTo>
                    <a:pt x="1448" y="236"/>
                  </a:lnTo>
                  <a:lnTo>
                    <a:pt x="1449" y="234"/>
                  </a:lnTo>
                  <a:lnTo>
                    <a:pt x="1449" y="234"/>
                  </a:lnTo>
                  <a:lnTo>
                    <a:pt x="1449" y="232"/>
                  </a:lnTo>
                  <a:lnTo>
                    <a:pt x="1449" y="230"/>
                  </a:lnTo>
                  <a:lnTo>
                    <a:pt x="1451" y="228"/>
                  </a:lnTo>
                  <a:lnTo>
                    <a:pt x="1451" y="228"/>
                  </a:lnTo>
                  <a:lnTo>
                    <a:pt x="1451" y="226"/>
                  </a:lnTo>
                  <a:lnTo>
                    <a:pt x="1451" y="226"/>
                  </a:lnTo>
                  <a:lnTo>
                    <a:pt x="1453" y="224"/>
                  </a:lnTo>
                  <a:lnTo>
                    <a:pt x="1453" y="224"/>
                  </a:lnTo>
                  <a:lnTo>
                    <a:pt x="1453" y="224"/>
                  </a:lnTo>
                  <a:lnTo>
                    <a:pt x="1453" y="224"/>
                  </a:lnTo>
                  <a:lnTo>
                    <a:pt x="1455" y="222"/>
                  </a:lnTo>
                  <a:lnTo>
                    <a:pt x="1455" y="222"/>
                  </a:lnTo>
                  <a:lnTo>
                    <a:pt x="1455" y="222"/>
                  </a:lnTo>
                  <a:lnTo>
                    <a:pt x="1455" y="222"/>
                  </a:lnTo>
                  <a:lnTo>
                    <a:pt x="1456" y="220"/>
                  </a:lnTo>
                  <a:lnTo>
                    <a:pt x="1456" y="220"/>
                  </a:lnTo>
                  <a:lnTo>
                    <a:pt x="1458" y="220"/>
                  </a:lnTo>
                  <a:lnTo>
                    <a:pt x="1458" y="220"/>
                  </a:lnTo>
                  <a:lnTo>
                    <a:pt x="1460" y="218"/>
                  </a:lnTo>
                  <a:lnTo>
                    <a:pt x="1460" y="218"/>
                  </a:lnTo>
                  <a:lnTo>
                    <a:pt x="1462" y="218"/>
                  </a:lnTo>
                  <a:lnTo>
                    <a:pt x="1462" y="218"/>
                  </a:lnTo>
                  <a:lnTo>
                    <a:pt x="1464" y="218"/>
                  </a:lnTo>
                  <a:lnTo>
                    <a:pt x="1465" y="220"/>
                  </a:lnTo>
                  <a:lnTo>
                    <a:pt x="1467" y="220"/>
                  </a:lnTo>
                  <a:lnTo>
                    <a:pt x="1469" y="221"/>
                  </a:lnTo>
                  <a:lnTo>
                    <a:pt x="1471" y="221"/>
                  </a:lnTo>
                  <a:lnTo>
                    <a:pt x="1471" y="223"/>
                  </a:lnTo>
                  <a:lnTo>
                    <a:pt x="1472" y="225"/>
                  </a:lnTo>
                  <a:lnTo>
                    <a:pt x="1472" y="228"/>
                  </a:lnTo>
                  <a:lnTo>
                    <a:pt x="1473" y="230"/>
                  </a:lnTo>
                  <a:lnTo>
                    <a:pt x="1471" y="234"/>
                  </a:lnTo>
                  <a:lnTo>
                    <a:pt x="1471" y="237"/>
                  </a:lnTo>
                  <a:lnTo>
                    <a:pt x="1470" y="241"/>
                  </a:lnTo>
                  <a:lnTo>
                    <a:pt x="1470" y="243"/>
                  </a:lnTo>
                  <a:lnTo>
                    <a:pt x="1468" y="247"/>
                  </a:lnTo>
                  <a:lnTo>
                    <a:pt x="1467" y="250"/>
                  </a:lnTo>
                  <a:lnTo>
                    <a:pt x="1466" y="253"/>
                  </a:lnTo>
                  <a:lnTo>
                    <a:pt x="1466" y="255"/>
                  </a:lnTo>
                  <a:lnTo>
                    <a:pt x="1466" y="257"/>
                  </a:lnTo>
                  <a:lnTo>
                    <a:pt x="1466" y="258"/>
                  </a:lnTo>
                  <a:lnTo>
                    <a:pt x="1466" y="259"/>
                  </a:lnTo>
                  <a:lnTo>
                    <a:pt x="1467" y="258"/>
                  </a:lnTo>
                  <a:lnTo>
                    <a:pt x="1468" y="257"/>
                  </a:lnTo>
                  <a:lnTo>
                    <a:pt x="1470" y="254"/>
                  </a:lnTo>
                  <a:lnTo>
                    <a:pt x="1472" y="250"/>
                  </a:lnTo>
                  <a:lnTo>
                    <a:pt x="1476" y="244"/>
                  </a:lnTo>
                  <a:lnTo>
                    <a:pt x="1479" y="239"/>
                  </a:lnTo>
                  <a:lnTo>
                    <a:pt x="1483" y="232"/>
                  </a:lnTo>
                  <a:lnTo>
                    <a:pt x="1486" y="225"/>
                  </a:lnTo>
                  <a:lnTo>
                    <a:pt x="1490" y="218"/>
                  </a:lnTo>
                  <a:lnTo>
                    <a:pt x="1492" y="211"/>
                  </a:lnTo>
                  <a:lnTo>
                    <a:pt x="1495" y="204"/>
                  </a:lnTo>
                  <a:lnTo>
                    <a:pt x="1499" y="198"/>
                  </a:lnTo>
                  <a:lnTo>
                    <a:pt x="1503" y="190"/>
                  </a:lnTo>
                  <a:lnTo>
                    <a:pt x="1504" y="185"/>
                  </a:lnTo>
                  <a:lnTo>
                    <a:pt x="1508" y="180"/>
                  </a:lnTo>
                  <a:lnTo>
                    <a:pt x="1510" y="176"/>
                  </a:lnTo>
                  <a:lnTo>
                    <a:pt x="1513" y="172"/>
                  </a:lnTo>
                  <a:lnTo>
                    <a:pt x="1513" y="172"/>
                  </a:lnTo>
                  <a:lnTo>
                    <a:pt x="1513" y="171"/>
                  </a:lnTo>
                  <a:lnTo>
                    <a:pt x="1515" y="169"/>
                  </a:lnTo>
                  <a:lnTo>
                    <a:pt x="1517" y="166"/>
                  </a:lnTo>
                  <a:lnTo>
                    <a:pt x="1519" y="164"/>
                  </a:lnTo>
                  <a:lnTo>
                    <a:pt x="1523" y="161"/>
                  </a:lnTo>
                  <a:lnTo>
                    <a:pt x="1525" y="158"/>
                  </a:lnTo>
                  <a:lnTo>
                    <a:pt x="1529" y="154"/>
                  </a:lnTo>
                  <a:lnTo>
                    <a:pt x="1531" y="151"/>
                  </a:lnTo>
                  <a:lnTo>
                    <a:pt x="1534" y="147"/>
                  </a:lnTo>
                  <a:lnTo>
                    <a:pt x="1536" y="143"/>
                  </a:lnTo>
                  <a:lnTo>
                    <a:pt x="1540" y="139"/>
                  </a:lnTo>
                  <a:lnTo>
                    <a:pt x="1542" y="135"/>
                  </a:lnTo>
                  <a:lnTo>
                    <a:pt x="1544" y="131"/>
                  </a:lnTo>
                  <a:lnTo>
                    <a:pt x="1546" y="127"/>
                  </a:lnTo>
                  <a:lnTo>
                    <a:pt x="1549" y="122"/>
                  </a:lnTo>
                  <a:lnTo>
                    <a:pt x="1549" y="120"/>
                  </a:lnTo>
                  <a:lnTo>
                    <a:pt x="1550" y="116"/>
                  </a:lnTo>
                  <a:lnTo>
                    <a:pt x="1550" y="113"/>
                  </a:lnTo>
                  <a:lnTo>
                    <a:pt x="1552" y="110"/>
                  </a:lnTo>
                  <a:lnTo>
                    <a:pt x="1553" y="108"/>
                  </a:lnTo>
                  <a:lnTo>
                    <a:pt x="1555" y="104"/>
                  </a:lnTo>
                  <a:lnTo>
                    <a:pt x="1557" y="102"/>
                  </a:lnTo>
                  <a:lnTo>
                    <a:pt x="1559" y="98"/>
                  </a:lnTo>
                  <a:lnTo>
                    <a:pt x="1559" y="96"/>
                  </a:lnTo>
                  <a:lnTo>
                    <a:pt x="1561" y="94"/>
                  </a:lnTo>
                  <a:lnTo>
                    <a:pt x="1563" y="92"/>
                  </a:lnTo>
                  <a:lnTo>
                    <a:pt x="1565" y="89"/>
                  </a:lnTo>
                  <a:lnTo>
                    <a:pt x="1565" y="88"/>
                  </a:lnTo>
                  <a:lnTo>
                    <a:pt x="1567" y="86"/>
                  </a:lnTo>
                  <a:lnTo>
                    <a:pt x="1567" y="85"/>
                  </a:lnTo>
                  <a:lnTo>
                    <a:pt x="1569" y="83"/>
                  </a:lnTo>
                  <a:lnTo>
                    <a:pt x="1569" y="81"/>
                  </a:lnTo>
                  <a:lnTo>
                    <a:pt x="1569" y="78"/>
                  </a:lnTo>
                  <a:lnTo>
                    <a:pt x="1569" y="76"/>
                  </a:lnTo>
                  <a:lnTo>
                    <a:pt x="1569" y="72"/>
                  </a:lnTo>
                  <a:lnTo>
                    <a:pt x="1568" y="68"/>
                  </a:lnTo>
                  <a:lnTo>
                    <a:pt x="1568" y="65"/>
                  </a:lnTo>
                  <a:lnTo>
                    <a:pt x="1567" y="61"/>
                  </a:lnTo>
                  <a:lnTo>
                    <a:pt x="1567" y="56"/>
                  </a:lnTo>
                  <a:lnTo>
                    <a:pt x="1565" y="54"/>
                  </a:lnTo>
                  <a:lnTo>
                    <a:pt x="1563" y="50"/>
                  </a:lnTo>
                  <a:lnTo>
                    <a:pt x="1561" y="46"/>
                  </a:lnTo>
                  <a:lnTo>
                    <a:pt x="1561" y="42"/>
                  </a:lnTo>
                  <a:lnTo>
                    <a:pt x="1559" y="40"/>
                  </a:lnTo>
                  <a:lnTo>
                    <a:pt x="1557" y="36"/>
                  </a:lnTo>
                  <a:lnTo>
                    <a:pt x="1555" y="35"/>
                  </a:lnTo>
                  <a:lnTo>
                    <a:pt x="1554" y="32"/>
                  </a:lnTo>
                  <a:lnTo>
                    <a:pt x="1552" y="32"/>
                  </a:lnTo>
                  <a:lnTo>
                    <a:pt x="1551" y="30"/>
                  </a:lnTo>
                  <a:lnTo>
                    <a:pt x="1549" y="30"/>
                  </a:lnTo>
                  <a:lnTo>
                    <a:pt x="1549" y="28"/>
                  </a:lnTo>
                  <a:lnTo>
                    <a:pt x="1547" y="28"/>
                  </a:lnTo>
                  <a:lnTo>
                    <a:pt x="1545" y="26"/>
                  </a:lnTo>
                  <a:lnTo>
                    <a:pt x="1544" y="25"/>
                  </a:lnTo>
                  <a:lnTo>
                    <a:pt x="1542" y="24"/>
                  </a:lnTo>
                  <a:lnTo>
                    <a:pt x="1538" y="22"/>
                  </a:lnTo>
                  <a:lnTo>
                    <a:pt x="1536" y="20"/>
                  </a:lnTo>
                  <a:lnTo>
                    <a:pt x="1533" y="18"/>
                  </a:lnTo>
                  <a:lnTo>
                    <a:pt x="1531" y="16"/>
                  </a:lnTo>
                  <a:lnTo>
                    <a:pt x="1526" y="14"/>
                  </a:lnTo>
                  <a:lnTo>
                    <a:pt x="1523" y="10"/>
                  </a:lnTo>
                  <a:lnTo>
                    <a:pt x="1518" y="7"/>
                  </a:lnTo>
                  <a:lnTo>
                    <a:pt x="1514" y="4"/>
                  </a:lnTo>
                  <a:lnTo>
                    <a:pt x="1509" y="3"/>
                  </a:lnTo>
                  <a:lnTo>
                    <a:pt x="1505" y="1"/>
                  </a:lnTo>
                  <a:lnTo>
                    <a:pt x="1500" y="1"/>
                  </a:lnTo>
                  <a:lnTo>
                    <a:pt x="1495" y="0"/>
                  </a:lnTo>
                  <a:lnTo>
                    <a:pt x="1488" y="0"/>
                  </a:lnTo>
                  <a:lnTo>
                    <a:pt x="1483" y="0"/>
                  </a:lnTo>
                  <a:lnTo>
                    <a:pt x="1477" y="0"/>
                  </a:lnTo>
                  <a:lnTo>
                    <a:pt x="1471" y="0"/>
                  </a:lnTo>
                  <a:lnTo>
                    <a:pt x="1464" y="2"/>
                  </a:lnTo>
                  <a:lnTo>
                    <a:pt x="1459" y="2"/>
                  </a:lnTo>
                  <a:lnTo>
                    <a:pt x="1453" y="4"/>
                  </a:lnTo>
                  <a:lnTo>
                    <a:pt x="1449" y="4"/>
                  </a:lnTo>
                  <a:lnTo>
                    <a:pt x="1445" y="5"/>
                  </a:lnTo>
                  <a:lnTo>
                    <a:pt x="1442" y="5"/>
                  </a:lnTo>
                  <a:lnTo>
                    <a:pt x="1440" y="5"/>
                  </a:lnTo>
                  <a:lnTo>
                    <a:pt x="1439" y="4"/>
                  </a:lnTo>
                  <a:lnTo>
                    <a:pt x="1436" y="4"/>
                  </a:lnTo>
                  <a:lnTo>
                    <a:pt x="1432" y="3"/>
                  </a:lnTo>
                  <a:lnTo>
                    <a:pt x="1427" y="4"/>
                  </a:lnTo>
                  <a:lnTo>
                    <a:pt x="1422" y="4"/>
                  </a:lnTo>
                  <a:lnTo>
                    <a:pt x="1415" y="5"/>
                  </a:lnTo>
                  <a:lnTo>
                    <a:pt x="1408" y="6"/>
                  </a:lnTo>
                  <a:lnTo>
                    <a:pt x="1401" y="8"/>
                  </a:lnTo>
                  <a:lnTo>
                    <a:pt x="1394" y="9"/>
                  </a:lnTo>
                  <a:lnTo>
                    <a:pt x="1386" y="12"/>
                  </a:lnTo>
                  <a:lnTo>
                    <a:pt x="1379" y="14"/>
                  </a:lnTo>
                  <a:lnTo>
                    <a:pt x="1371" y="16"/>
                  </a:lnTo>
                  <a:lnTo>
                    <a:pt x="1365" y="18"/>
                  </a:lnTo>
                  <a:lnTo>
                    <a:pt x="1359" y="20"/>
                  </a:lnTo>
                  <a:lnTo>
                    <a:pt x="1354" y="22"/>
                  </a:lnTo>
                  <a:lnTo>
                    <a:pt x="1350" y="24"/>
                  </a:lnTo>
                  <a:lnTo>
                    <a:pt x="1348" y="24"/>
                  </a:lnTo>
                  <a:lnTo>
                    <a:pt x="1346" y="26"/>
                  </a:lnTo>
                  <a:lnTo>
                    <a:pt x="1345" y="26"/>
                  </a:lnTo>
                  <a:lnTo>
                    <a:pt x="1343" y="26"/>
                  </a:lnTo>
                  <a:lnTo>
                    <a:pt x="1342" y="26"/>
                  </a:lnTo>
                  <a:lnTo>
                    <a:pt x="1339" y="28"/>
                  </a:lnTo>
                  <a:lnTo>
                    <a:pt x="1337" y="29"/>
                  </a:lnTo>
                  <a:lnTo>
                    <a:pt x="1333" y="31"/>
                  </a:lnTo>
                  <a:lnTo>
                    <a:pt x="1331" y="31"/>
                  </a:lnTo>
                  <a:lnTo>
                    <a:pt x="1327" y="33"/>
                  </a:lnTo>
                  <a:lnTo>
                    <a:pt x="1323" y="35"/>
                  </a:lnTo>
                  <a:lnTo>
                    <a:pt x="1317" y="36"/>
                  </a:lnTo>
                  <a:lnTo>
                    <a:pt x="1313" y="38"/>
                  </a:lnTo>
                  <a:lnTo>
                    <a:pt x="1307" y="42"/>
                  </a:lnTo>
                  <a:lnTo>
                    <a:pt x="1301" y="44"/>
                  </a:lnTo>
                  <a:lnTo>
                    <a:pt x="1293" y="47"/>
                  </a:lnTo>
                  <a:lnTo>
                    <a:pt x="1287" y="49"/>
                  </a:lnTo>
                  <a:lnTo>
                    <a:pt x="1279" y="54"/>
                  </a:lnTo>
                  <a:lnTo>
                    <a:pt x="1271" y="57"/>
                  </a:lnTo>
                  <a:lnTo>
                    <a:pt x="1263" y="61"/>
                  </a:lnTo>
                  <a:lnTo>
                    <a:pt x="1257" y="65"/>
                  </a:lnTo>
                  <a:lnTo>
                    <a:pt x="1249" y="68"/>
                  </a:lnTo>
                  <a:lnTo>
                    <a:pt x="1243" y="72"/>
                  </a:lnTo>
                  <a:lnTo>
                    <a:pt x="1238" y="76"/>
                  </a:lnTo>
                  <a:lnTo>
                    <a:pt x="1232" y="80"/>
                  </a:lnTo>
                  <a:lnTo>
                    <a:pt x="1227" y="83"/>
                  </a:lnTo>
                  <a:lnTo>
                    <a:pt x="1221" y="87"/>
                  </a:lnTo>
                  <a:lnTo>
                    <a:pt x="1217" y="91"/>
                  </a:lnTo>
                  <a:lnTo>
                    <a:pt x="1213" y="93"/>
                  </a:lnTo>
                  <a:lnTo>
                    <a:pt x="1209" y="96"/>
                  </a:lnTo>
                  <a:lnTo>
                    <a:pt x="1206" y="98"/>
                  </a:lnTo>
                  <a:lnTo>
                    <a:pt x="1203" y="100"/>
                  </a:lnTo>
                  <a:lnTo>
                    <a:pt x="1202" y="101"/>
                  </a:lnTo>
                  <a:lnTo>
                    <a:pt x="1199" y="103"/>
                  </a:lnTo>
                  <a:lnTo>
                    <a:pt x="1195" y="106"/>
                  </a:lnTo>
                  <a:lnTo>
                    <a:pt x="1189" y="110"/>
                  </a:lnTo>
                  <a:lnTo>
                    <a:pt x="1182" y="114"/>
                  </a:lnTo>
                  <a:lnTo>
                    <a:pt x="1174" y="122"/>
                  </a:lnTo>
                  <a:lnTo>
                    <a:pt x="1165" y="127"/>
                  </a:lnTo>
                  <a:lnTo>
                    <a:pt x="1155" y="134"/>
                  </a:lnTo>
                  <a:lnTo>
                    <a:pt x="1146" y="140"/>
                  </a:lnTo>
                  <a:lnTo>
                    <a:pt x="1135" y="148"/>
                  </a:lnTo>
                  <a:lnTo>
                    <a:pt x="1126" y="154"/>
                  </a:lnTo>
                  <a:lnTo>
                    <a:pt x="1117" y="161"/>
                  </a:lnTo>
                  <a:lnTo>
                    <a:pt x="1109" y="167"/>
                  </a:lnTo>
                  <a:lnTo>
                    <a:pt x="1101" y="173"/>
                  </a:lnTo>
                  <a:lnTo>
                    <a:pt x="1095" y="177"/>
                  </a:lnTo>
                  <a:lnTo>
                    <a:pt x="1091" y="181"/>
                  </a:lnTo>
                  <a:lnTo>
                    <a:pt x="1089" y="182"/>
                  </a:lnTo>
                  <a:lnTo>
                    <a:pt x="1085" y="186"/>
                  </a:lnTo>
                  <a:lnTo>
                    <a:pt x="1080" y="190"/>
                  </a:lnTo>
                  <a:lnTo>
                    <a:pt x="1073" y="197"/>
                  </a:lnTo>
                  <a:lnTo>
                    <a:pt x="1065" y="203"/>
                  </a:lnTo>
                  <a:lnTo>
                    <a:pt x="1055" y="212"/>
                  </a:lnTo>
                  <a:lnTo>
                    <a:pt x="1045" y="220"/>
                  </a:lnTo>
                  <a:lnTo>
                    <a:pt x="1034" y="229"/>
                  </a:lnTo>
                  <a:lnTo>
                    <a:pt x="1023" y="238"/>
                  </a:lnTo>
                  <a:lnTo>
                    <a:pt x="1012" y="248"/>
                  </a:lnTo>
                  <a:lnTo>
                    <a:pt x="1001" y="257"/>
                  </a:lnTo>
                  <a:lnTo>
                    <a:pt x="990" y="266"/>
                  </a:lnTo>
                  <a:lnTo>
                    <a:pt x="981" y="273"/>
                  </a:lnTo>
                  <a:lnTo>
                    <a:pt x="973" y="280"/>
                  </a:lnTo>
                  <a:lnTo>
                    <a:pt x="967" y="286"/>
                  </a:lnTo>
                  <a:lnTo>
                    <a:pt x="962" y="289"/>
                  </a:lnTo>
                  <a:lnTo>
                    <a:pt x="960" y="290"/>
                  </a:lnTo>
                  <a:lnTo>
                    <a:pt x="958" y="293"/>
                  </a:lnTo>
                  <a:lnTo>
                    <a:pt x="953" y="296"/>
                  </a:lnTo>
                  <a:lnTo>
                    <a:pt x="947" y="300"/>
                  </a:lnTo>
                  <a:lnTo>
                    <a:pt x="940" y="306"/>
                  </a:lnTo>
                  <a:lnTo>
                    <a:pt x="930" y="314"/>
                  </a:lnTo>
                  <a:lnTo>
                    <a:pt x="921" y="321"/>
                  </a:lnTo>
                  <a:lnTo>
                    <a:pt x="910" y="330"/>
                  </a:lnTo>
                  <a:lnTo>
                    <a:pt x="900" y="337"/>
                  </a:lnTo>
                  <a:lnTo>
                    <a:pt x="889" y="347"/>
                  </a:lnTo>
                  <a:lnTo>
                    <a:pt x="879" y="354"/>
                  </a:lnTo>
                  <a:lnTo>
                    <a:pt x="869" y="362"/>
                  </a:lnTo>
                  <a:lnTo>
                    <a:pt x="861" y="367"/>
                  </a:lnTo>
                  <a:lnTo>
                    <a:pt x="853" y="373"/>
                  </a:lnTo>
                  <a:lnTo>
                    <a:pt x="848" y="377"/>
                  </a:lnTo>
                  <a:lnTo>
                    <a:pt x="843" y="379"/>
                  </a:lnTo>
                  <a:lnTo>
                    <a:pt x="843" y="378"/>
                  </a:lnTo>
                  <a:lnTo>
                    <a:pt x="833" y="371"/>
                  </a:lnTo>
                  <a:lnTo>
                    <a:pt x="823" y="363"/>
                  </a:lnTo>
                  <a:lnTo>
                    <a:pt x="813" y="354"/>
                  </a:lnTo>
                  <a:lnTo>
                    <a:pt x="804" y="345"/>
                  </a:lnTo>
                  <a:lnTo>
                    <a:pt x="793" y="336"/>
                  </a:lnTo>
                  <a:lnTo>
                    <a:pt x="784" y="327"/>
                  </a:lnTo>
                  <a:lnTo>
                    <a:pt x="773" y="318"/>
                  </a:lnTo>
                  <a:lnTo>
                    <a:pt x="764" y="309"/>
                  </a:lnTo>
                  <a:lnTo>
                    <a:pt x="754" y="301"/>
                  </a:lnTo>
                  <a:lnTo>
                    <a:pt x="744" y="293"/>
                  </a:lnTo>
                  <a:lnTo>
                    <a:pt x="735" y="287"/>
                  </a:lnTo>
                  <a:lnTo>
                    <a:pt x="728" y="280"/>
                  </a:lnTo>
                  <a:lnTo>
                    <a:pt x="721" y="276"/>
                  </a:lnTo>
                  <a:lnTo>
                    <a:pt x="715" y="270"/>
                  </a:lnTo>
                  <a:lnTo>
                    <a:pt x="711" y="268"/>
                  </a:lnTo>
                  <a:lnTo>
                    <a:pt x="708" y="264"/>
                  </a:lnTo>
                  <a:lnTo>
                    <a:pt x="702" y="262"/>
                  </a:lnTo>
                  <a:lnTo>
                    <a:pt x="694" y="257"/>
                  </a:lnTo>
                  <a:lnTo>
                    <a:pt x="684" y="251"/>
                  </a:lnTo>
                  <a:lnTo>
                    <a:pt x="674" y="242"/>
                  </a:lnTo>
                  <a:lnTo>
                    <a:pt x="661" y="234"/>
                  </a:lnTo>
                  <a:lnTo>
                    <a:pt x="648" y="224"/>
                  </a:lnTo>
                  <a:lnTo>
                    <a:pt x="634" y="215"/>
                  </a:lnTo>
                  <a:lnTo>
                    <a:pt x="621" y="204"/>
                  </a:lnTo>
                  <a:lnTo>
                    <a:pt x="606" y="195"/>
                  </a:lnTo>
                  <a:lnTo>
                    <a:pt x="593" y="186"/>
                  </a:lnTo>
                  <a:lnTo>
                    <a:pt x="579" y="177"/>
                  </a:lnTo>
                  <a:lnTo>
                    <a:pt x="568" y="168"/>
                  </a:lnTo>
                  <a:lnTo>
                    <a:pt x="556" y="162"/>
                  </a:lnTo>
                  <a:lnTo>
                    <a:pt x="547" y="156"/>
                  </a:lnTo>
                  <a:lnTo>
                    <a:pt x="539" y="151"/>
                  </a:lnTo>
                  <a:lnTo>
                    <a:pt x="535" y="148"/>
                  </a:lnTo>
                  <a:lnTo>
                    <a:pt x="529" y="148"/>
                  </a:lnTo>
                  <a:lnTo>
                    <a:pt x="524" y="146"/>
                  </a:lnTo>
                  <a:lnTo>
                    <a:pt x="518" y="145"/>
                  </a:lnTo>
                  <a:lnTo>
                    <a:pt x="512" y="143"/>
                  </a:lnTo>
                  <a:lnTo>
                    <a:pt x="505" y="142"/>
                  </a:lnTo>
                  <a:lnTo>
                    <a:pt x="498" y="140"/>
                  </a:lnTo>
                  <a:lnTo>
                    <a:pt x="490" y="138"/>
                  </a:lnTo>
                  <a:lnTo>
                    <a:pt x="485" y="136"/>
                  </a:lnTo>
                  <a:lnTo>
                    <a:pt x="477" y="136"/>
                  </a:lnTo>
                  <a:lnTo>
                    <a:pt x="470" y="134"/>
                  </a:lnTo>
                  <a:lnTo>
                    <a:pt x="462" y="133"/>
                  </a:lnTo>
                  <a:lnTo>
                    <a:pt x="457" y="131"/>
                  </a:lnTo>
                  <a:lnTo>
                    <a:pt x="450" y="131"/>
                  </a:lnTo>
                  <a:lnTo>
                    <a:pt x="444" y="129"/>
                  </a:lnTo>
                  <a:lnTo>
                    <a:pt x="439" y="129"/>
                  </a:lnTo>
                  <a:lnTo>
                    <a:pt x="435" y="127"/>
                  </a:lnTo>
                  <a:lnTo>
                    <a:pt x="427" y="127"/>
                  </a:lnTo>
                  <a:lnTo>
                    <a:pt x="418" y="126"/>
                  </a:lnTo>
                  <a:lnTo>
                    <a:pt x="406" y="126"/>
                  </a:lnTo>
                  <a:lnTo>
                    <a:pt x="393" y="124"/>
                  </a:lnTo>
                  <a:lnTo>
                    <a:pt x="377" y="124"/>
                  </a:lnTo>
                  <a:lnTo>
                    <a:pt x="362" y="123"/>
                  </a:lnTo>
                  <a:lnTo>
                    <a:pt x="345" y="123"/>
                  </a:lnTo>
                  <a:lnTo>
                    <a:pt x="328" y="121"/>
                  </a:lnTo>
                  <a:lnTo>
                    <a:pt x="311" y="121"/>
                  </a:lnTo>
                  <a:lnTo>
                    <a:pt x="294" y="120"/>
                  </a:lnTo>
                  <a:lnTo>
                    <a:pt x="278" y="120"/>
                  </a:lnTo>
                  <a:lnTo>
                    <a:pt x="265" y="118"/>
                  </a:lnTo>
                  <a:lnTo>
                    <a:pt x="251" y="118"/>
                  </a:lnTo>
                  <a:lnTo>
                    <a:pt x="241" y="118"/>
                  </a:lnTo>
                  <a:lnTo>
                    <a:pt x="232" y="118"/>
                  </a:lnTo>
                  <a:lnTo>
                    <a:pt x="228" y="116"/>
                  </a:lnTo>
                  <a:lnTo>
                    <a:pt x="223" y="116"/>
                  </a:lnTo>
                  <a:lnTo>
                    <a:pt x="219" y="116"/>
                  </a:lnTo>
                  <a:lnTo>
                    <a:pt x="214" y="116"/>
                  </a:lnTo>
                  <a:lnTo>
                    <a:pt x="210" y="116"/>
                  </a:lnTo>
                  <a:lnTo>
                    <a:pt x="205" y="116"/>
                  </a:lnTo>
                  <a:lnTo>
                    <a:pt x="199" y="116"/>
                  </a:lnTo>
                  <a:lnTo>
                    <a:pt x="194" y="116"/>
                  </a:lnTo>
                  <a:lnTo>
                    <a:pt x="189" y="114"/>
                  </a:lnTo>
                  <a:lnTo>
                    <a:pt x="184" y="114"/>
                  </a:lnTo>
                  <a:lnTo>
                    <a:pt x="178" y="114"/>
                  </a:lnTo>
                  <a:lnTo>
                    <a:pt x="173" y="114"/>
                  </a:lnTo>
                  <a:lnTo>
                    <a:pt x="169" y="114"/>
                  </a:lnTo>
                  <a:lnTo>
                    <a:pt x="165" y="116"/>
                  </a:lnTo>
                  <a:lnTo>
                    <a:pt x="161" y="116"/>
                  </a:lnTo>
                  <a:lnTo>
                    <a:pt x="159" y="116"/>
                  </a:lnTo>
                  <a:lnTo>
                    <a:pt x="158" y="116"/>
                  </a:lnTo>
                  <a:lnTo>
                    <a:pt x="155" y="118"/>
                  </a:lnTo>
                  <a:lnTo>
                    <a:pt x="153" y="118"/>
                  </a:lnTo>
                  <a:lnTo>
                    <a:pt x="151" y="120"/>
                  </a:lnTo>
                  <a:lnTo>
                    <a:pt x="149" y="122"/>
                  </a:lnTo>
                  <a:lnTo>
                    <a:pt x="145" y="124"/>
                  </a:lnTo>
                  <a:lnTo>
                    <a:pt x="143" y="126"/>
                  </a:lnTo>
                  <a:lnTo>
                    <a:pt x="141" y="128"/>
                  </a:lnTo>
                  <a:lnTo>
                    <a:pt x="140" y="130"/>
                  </a:lnTo>
                  <a:lnTo>
                    <a:pt x="136" y="133"/>
                  </a:lnTo>
                  <a:lnTo>
                    <a:pt x="134" y="135"/>
                  </a:lnTo>
                  <a:lnTo>
                    <a:pt x="131" y="137"/>
                  </a:lnTo>
                  <a:lnTo>
                    <a:pt x="130" y="139"/>
                  </a:lnTo>
                  <a:lnTo>
                    <a:pt x="128" y="141"/>
                  </a:lnTo>
                  <a:lnTo>
                    <a:pt x="126" y="143"/>
                  </a:lnTo>
                  <a:lnTo>
                    <a:pt x="124" y="143"/>
                  </a:lnTo>
                  <a:lnTo>
                    <a:pt x="123" y="143"/>
                  </a:lnTo>
                  <a:lnTo>
                    <a:pt x="121" y="144"/>
                  </a:lnTo>
                  <a:lnTo>
                    <a:pt x="119" y="144"/>
                  </a:lnTo>
                  <a:lnTo>
                    <a:pt x="117" y="144"/>
                  </a:lnTo>
                  <a:lnTo>
                    <a:pt x="116" y="144"/>
                  </a:lnTo>
                  <a:lnTo>
                    <a:pt x="114" y="144"/>
                  </a:lnTo>
                  <a:lnTo>
                    <a:pt x="112" y="144"/>
                  </a:lnTo>
                  <a:lnTo>
                    <a:pt x="110" y="144"/>
                  </a:lnTo>
                  <a:lnTo>
                    <a:pt x="109" y="143"/>
                  </a:lnTo>
                  <a:lnTo>
                    <a:pt x="107" y="143"/>
                  </a:lnTo>
                  <a:lnTo>
                    <a:pt x="105" y="143"/>
                  </a:lnTo>
                  <a:lnTo>
                    <a:pt x="103" y="143"/>
                  </a:lnTo>
                  <a:lnTo>
                    <a:pt x="101" y="142"/>
                  </a:lnTo>
                  <a:lnTo>
                    <a:pt x="99" y="142"/>
                  </a:lnTo>
                  <a:lnTo>
                    <a:pt x="97" y="142"/>
                  </a:lnTo>
                  <a:lnTo>
                    <a:pt x="95" y="142"/>
                  </a:lnTo>
                  <a:lnTo>
                    <a:pt x="95" y="142"/>
                  </a:lnTo>
                  <a:lnTo>
                    <a:pt x="91" y="143"/>
                  </a:lnTo>
                  <a:lnTo>
                    <a:pt x="88" y="144"/>
                  </a:lnTo>
                  <a:lnTo>
                    <a:pt x="84" y="145"/>
                  </a:lnTo>
                  <a:lnTo>
                    <a:pt x="82" y="145"/>
                  </a:lnTo>
                  <a:lnTo>
                    <a:pt x="79" y="146"/>
                  </a:lnTo>
                  <a:lnTo>
                    <a:pt x="75" y="146"/>
                  </a:lnTo>
                  <a:lnTo>
                    <a:pt x="71" y="146"/>
                  </a:lnTo>
                  <a:lnTo>
                    <a:pt x="68" y="146"/>
                  </a:lnTo>
                  <a:lnTo>
                    <a:pt x="64" y="148"/>
                  </a:lnTo>
                  <a:lnTo>
                    <a:pt x="60" y="148"/>
                  </a:lnTo>
                  <a:lnTo>
                    <a:pt x="57" y="150"/>
                  </a:lnTo>
                  <a:lnTo>
                    <a:pt x="53" y="150"/>
                  </a:lnTo>
                  <a:lnTo>
                    <a:pt x="50" y="151"/>
                  </a:lnTo>
                  <a:lnTo>
                    <a:pt x="47" y="153"/>
                  </a:lnTo>
                  <a:lnTo>
                    <a:pt x="45" y="154"/>
                  </a:lnTo>
                  <a:lnTo>
                    <a:pt x="43" y="155"/>
                  </a:lnTo>
                  <a:lnTo>
                    <a:pt x="41" y="156"/>
                  </a:lnTo>
                  <a:lnTo>
                    <a:pt x="41" y="156"/>
                  </a:lnTo>
                  <a:lnTo>
                    <a:pt x="40" y="157"/>
                  </a:lnTo>
                  <a:lnTo>
                    <a:pt x="40" y="157"/>
                  </a:lnTo>
                  <a:lnTo>
                    <a:pt x="38" y="159"/>
                  </a:lnTo>
                  <a:lnTo>
                    <a:pt x="37" y="159"/>
                  </a:lnTo>
                  <a:lnTo>
                    <a:pt x="35" y="161"/>
                  </a:lnTo>
                  <a:lnTo>
                    <a:pt x="35" y="161"/>
                  </a:lnTo>
                  <a:lnTo>
                    <a:pt x="33" y="163"/>
                  </a:lnTo>
                  <a:lnTo>
                    <a:pt x="31" y="164"/>
                  </a:lnTo>
                  <a:lnTo>
                    <a:pt x="29" y="166"/>
                  </a:lnTo>
                  <a:lnTo>
                    <a:pt x="29" y="168"/>
                  </a:lnTo>
                  <a:lnTo>
                    <a:pt x="27" y="170"/>
                  </a:lnTo>
                  <a:lnTo>
                    <a:pt x="25" y="172"/>
                  </a:lnTo>
                  <a:lnTo>
                    <a:pt x="23" y="174"/>
                  </a:lnTo>
                  <a:lnTo>
                    <a:pt x="23" y="176"/>
                  </a:lnTo>
                  <a:lnTo>
                    <a:pt x="21" y="178"/>
                  </a:lnTo>
                  <a:lnTo>
                    <a:pt x="21" y="180"/>
                  </a:lnTo>
                  <a:lnTo>
                    <a:pt x="19" y="182"/>
                  </a:lnTo>
                  <a:lnTo>
                    <a:pt x="19" y="184"/>
                  </a:lnTo>
                  <a:lnTo>
                    <a:pt x="17" y="186"/>
                  </a:lnTo>
                  <a:lnTo>
                    <a:pt x="17" y="188"/>
                  </a:lnTo>
                  <a:lnTo>
                    <a:pt x="17" y="190"/>
                  </a:lnTo>
                  <a:lnTo>
                    <a:pt x="17" y="192"/>
                  </a:lnTo>
                  <a:lnTo>
                    <a:pt x="15" y="194"/>
                  </a:lnTo>
                  <a:lnTo>
                    <a:pt x="15" y="196"/>
                  </a:lnTo>
                  <a:lnTo>
                    <a:pt x="15" y="198"/>
                  </a:lnTo>
                  <a:lnTo>
                    <a:pt x="15" y="200"/>
                  </a:lnTo>
                  <a:lnTo>
                    <a:pt x="14" y="202"/>
                  </a:lnTo>
                  <a:lnTo>
                    <a:pt x="14" y="202"/>
                  </a:lnTo>
                  <a:lnTo>
                    <a:pt x="14" y="204"/>
                  </a:lnTo>
                  <a:lnTo>
                    <a:pt x="14" y="204"/>
                  </a:lnTo>
                  <a:lnTo>
                    <a:pt x="13" y="207"/>
                  </a:lnTo>
                  <a:lnTo>
                    <a:pt x="13" y="210"/>
                  </a:lnTo>
                  <a:lnTo>
                    <a:pt x="13" y="213"/>
                  </a:lnTo>
                  <a:lnTo>
                    <a:pt x="15" y="217"/>
                  </a:lnTo>
                  <a:lnTo>
                    <a:pt x="15" y="222"/>
                  </a:lnTo>
                  <a:lnTo>
                    <a:pt x="17" y="227"/>
                  </a:lnTo>
                  <a:lnTo>
                    <a:pt x="19" y="232"/>
                  </a:lnTo>
                  <a:lnTo>
                    <a:pt x="21" y="237"/>
                  </a:lnTo>
                  <a:lnTo>
                    <a:pt x="22" y="242"/>
                  </a:lnTo>
                  <a:lnTo>
                    <a:pt x="23" y="248"/>
                  </a:lnTo>
                  <a:lnTo>
                    <a:pt x="25" y="254"/>
                  </a:lnTo>
                  <a:lnTo>
                    <a:pt x="27" y="258"/>
                  </a:lnTo>
                  <a:lnTo>
                    <a:pt x="27" y="262"/>
                  </a:lnTo>
                  <a:lnTo>
                    <a:pt x="29" y="265"/>
                  </a:lnTo>
                  <a:lnTo>
                    <a:pt x="30" y="267"/>
                  </a:lnTo>
                  <a:lnTo>
                    <a:pt x="32" y="268"/>
                  </a:lnTo>
                  <a:lnTo>
                    <a:pt x="31" y="270"/>
                  </a:lnTo>
                  <a:lnTo>
                    <a:pt x="31" y="272"/>
                  </a:lnTo>
                  <a:lnTo>
                    <a:pt x="30" y="276"/>
                  </a:lnTo>
                  <a:lnTo>
                    <a:pt x="30" y="279"/>
                  </a:lnTo>
                  <a:lnTo>
                    <a:pt x="28" y="283"/>
                  </a:lnTo>
                  <a:lnTo>
                    <a:pt x="27" y="287"/>
                  </a:lnTo>
                  <a:lnTo>
                    <a:pt x="25" y="290"/>
                  </a:lnTo>
                  <a:lnTo>
                    <a:pt x="25" y="294"/>
                  </a:lnTo>
                  <a:lnTo>
                    <a:pt x="23" y="299"/>
                  </a:lnTo>
                  <a:lnTo>
                    <a:pt x="22" y="303"/>
                  </a:lnTo>
                  <a:lnTo>
                    <a:pt x="21" y="307"/>
                  </a:lnTo>
                  <a:lnTo>
                    <a:pt x="21" y="310"/>
                  </a:lnTo>
                  <a:lnTo>
                    <a:pt x="19" y="314"/>
                  </a:lnTo>
                  <a:lnTo>
                    <a:pt x="19" y="316"/>
                  </a:lnTo>
                  <a:lnTo>
                    <a:pt x="19" y="318"/>
                  </a:lnTo>
                  <a:lnTo>
                    <a:pt x="19" y="319"/>
                  </a:lnTo>
                  <a:lnTo>
                    <a:pt x="19" y="321"/>
                  </a:lnTo>
                  <a:lnTo>
                    <a:pt x="20" y="323"/>
                  </a:lnTo>
                  <a:lnTo>
                    <a:pt x="21" y="327"/>
                  </a:lnTo>
                  <a:lnTo>
                    <a:pt x="23" y="330"/>
                  </a:lnTo>
                  <a:lnTo>
                    <a:pt x="25" y="335"/>
                  </a:lnTo>
                  <a:lnTo>
                    <a:pt x="27" y="338"/>
                  </a:lnTo>
                  <a:lnTo>
                    <a:pt x="29" y="344"/>
                  </a:lnTo>
                  <a:lnTo>
                    <a:pt x="32" y="347"/>
                  </a:lnTo>
                  <a:lnTo>
                    <a:pt x="33" y="353"/>
                  </a:lnTo>
                  <a:lnTo>
                    <a:pt x="36" y="357"/>
                  </a:lnTo>
                  <a:lnTo>
                    <a:pt x="38" y="362"/>
                  </a:lnTo>
                  <a:lnTo>
                    <a:pt x="42" y="366"/>
                  </a:lnTo>
                  <a:lnTo>
                    <a:pt x="43" y="370"/>
                  </a:lnTo>
                  <a:lnTo>
                    <a:pt x="45" y="373"/>
                  </a:lnTo>
                  <a:lnTo>
                    <a:pt x="47" y="376"/>
                  </a:lnTo>
                  <a:lnTo>
                    <a:pt x="49" y="377"/>
                  </a:lnTo>
                  <a:lnTo>
                    <a:pt x="50" y="380"/>
                  </a:lnTo>
                  <a:lnTo>
                    <a:pt x="52" y="382"/>
                  </a:lnTo>
                  <a:lnTo>
                    <a:pt x="53" y="385"/>
                  </a:lnTo>
                  <a:lnTo>
                    <a:pt x="57" y="388"/>
                  </a:lnTo>
                  <a:lnTo>
                    <a:pt x="60" y="394"/>
                  </a:lnTo>
                  <a:lnTo>
                    <a:pt x="64" y="398"/>
                  </a:lnTo>
                  <a:lnTo>
                    <a:pt x="68" y="404"/>
                  </a:lnTo>
                  <a:lnTo>
                    <a:pt x="73" y="407"/>
                  </a:lnTo>
                  <a:lnTo>
                    <a:pt x="76" y="413"/>
                  </a:lnTo>
                  <a:lnTo>
                    <a:pt x="80" y="417"/>
                  </a:lnTo>
                  <a:lnTo>
                    <a:pt x="83" y="422"/>
                  </a:lnTo>
                  <a:lnTo>
                    <a:pt x="87" y="425"/>
                  </a:lnTo>
                  <a:lnTo>
                    <a:pt x="89" y="429"/>
                  </a:lnTo>
                  <a:lnTo>
                    <a:pt x="93" y="432"/>
                  </a:lnTo>
                  <a:lnTo>
                    <a:pt x="95" y="434"/>
                  </a:lnTo>
                  <a:lnTo>
                    <a:pt x="97" y="435"/>
                  </a:lnTo>
                  <a:lnTo>
                    <a:pt x="99" y="436"/>
                  </a:lnTo>
                  <a:lnTo>
                    <a:pt x="100" y="438"/>
                  </a:lnTo>
                  <a:lnTo>
                    <a:pt x="103" y="441"/>
                  </a:lnTo>
                  <a:lnTo>
                    <a:pt x="107" y="444"/>
                  </a:lnTo>
                  <a:lnTo>
                    <a:pt x="111" y="448"/>
                  </a:lnTo>
                  <a:lnTo>
                    <a:pt x="115" y="452"/>
                  </a:lnTo>
                  <a:lnTo>
                    <a:pt x="119" y="455"/>
                  </a:lnTo>
                  <a:lnTo>
                    <a:pt x="125" y="459"/>
                  </a:lnTo>
                  <a:lnTo>
                    <a:pt x="129" y="465"/>
                  </a:lnTo>
                  <a:lnTo>
                    <a:pt x="133" y="468"/>
                  </a:lnTo>
                  <a:lnTo>
                    <a:pt x="137" y="473"/>
                  </a:lnTo>
                  <a:lnTo>
                    <a:pt x="143" y="476"/>
                  </a:lnTo>
                  <a:lnTo>
                    <a:pt x="147" y="480"/>
                  </a:lnTo>
                  <a:lnTo>
                    <a:pt x="150" y="483"/>
                  </a:lnTo>
                  <a:lnTo>
                    <a:pt x="153" y="485"/>
                  </a:lnTo>
                  <a:lnTo>
                    <a:pt x="156" y="485"/>
                  </a:lnTo>
                  <a:lnTo>
                    <a:pt x="158" y="487"/>
                  </a:lnTo>
                  <a:lnTo>
                    <a:pt x="162" y="489"/>
                  </a:lnTo>
                  <a:lnTo>
                    <a:pt x="168" y="492"/>
                  </a:lnTo>
                  <a:lnTo>
                    <a:pt x="175" y="495"/>
                  </a:lnTo>
                  <a:lnTo>
                    <a:pt x="183" y="501"/>
                  </a:lnTo>
                  <a:lnTo>
                    <a:pt x="192" y="505"/>
                  </a:lnTo>
                  <a:lnTo>
                    <a:pt x="201" y="511"/>
                  </a:lnTo>
                  <a:lnTo>
                    <a:pt x="212" y="514"/>
                  </a:lnTo>
                  <a:lnTo>
                    <a:pt x="221" y="520"/>
                  </a:lnTo>
                  <a:lnTo>
                    <a:pt x="231" y="526"/>
                  </a:lnTo>
                  <a:lnTo>
                    <a:pt x="239" y="532"/>
                  </a:lnTo>
                  <a:lnTo>
                    <a:pt x="249" y="535"/>
                  </a:lnTo>
                  <a:lnTo>
                    <a:pt x="255" y="540"/>
                  </a:lnTo>
                  <a:lnTo>
                    <a:pt x="262" y="543"/>
                  </a:lnTo>
                  <a:lnTo>
                    <a:pt x="266" y="546"/>
                  </a:lnTo>
                  <a:lnTo>
                    <a:pt x="270" y="548"/>
                  </a:lnTo>
                  <a:lnTo>
                    <a:pt x="271" y="551"/>
                  </a:lnTo>
                  <a:lnTo>
                    <a:pt x="276" y="553"/>
                  </a:lnTo>
                  <a:lnTo>
                    <a:pt x="281" y="556"/>
                  </a:lnTo>
                  <a:lnTo>
                    <a:pt x="287" y="558"/>
                  </a:lnTo>
                  <a:lnTo>
                    <a:pt x="294" y="562"/>
                  </a:lnTo>
                  <a:lnTo>
                    <a:pt x="301" y="564"/>
                  </a:lnTo>
                  <a:lnTo>
                    <a:pt x="309" y="568"/>
                  </a:lnTo>
                  <a:lnTo>
                    <a:pt x="318" y="570"/>
                  </a:lnTo>
                  <a:lnTo>
                    <a:pt x="325" y="574"/>
                  </a:lnTo>
                  <a:lnTo>
                    <a:pt x="333" y="576"/>
                  </a:lnTo>
                  <a:lnTo>
                    <a:pt x="340" y="579"/>
                  </a:lnTo>
                  <a:lnTo>
                    <a:pt x="347" y="581"/>
                  </a:lnTo>
                  <a:lnTo>
                    <a:pt x="352" y="582"/>
                  </a:lnTo>
                  <a:lnTo>
                    <a:pt x="357" y="584"/>
                  </a:lnTo>
                  <a:lnTo>
                    <a:pt x="359" y="584"/>
                  </a:lnTo>
                  <a:lnTo>
                    <a:pt x="362" y="584"/>
                  </a:lnTo>
                  <a:lnTo>
                    <a:pt x="361" y="584"/>
                  </a:lnTo>
                  <a:lnTo>
                    <a:pt x="359" y="582"/>
                  </a:lnTo>
                  <a:lnTo>
                    <a:pt x="354" y="579"/>
                  </a:lnTo>
                  <a:lnTo>
                    <a:pt x="350" y="575"/>
                  </a:lnTo>
                  <a:lnTo>
                    <a:pt x="343" y="571"/>
                  </a:lnTo>
                  <a:lnTo>
                    <a:pt x="337" y="566"/>
                  </a:lnTo>
                  <a:lnTo>
                    <a:pt x="329" y="560"/>
                  </a:lnTo>
                  <a:lnTo>
                    <a:pt x="323" y="554"/>
                  </a:lnTo>
                  <a:lnTo>
                    <a:pt x="314" y="549"/>
                  </a:lnTo>
                  <a:lnTo>
                    <a:pt x="306" y="543"/>
                  </a:lnTo>
                  <a:lnTo>
                    <a:pt x="299" y="538"/>
                  </a:lnTo>
                  <a:lnTo>
                    <a:pt x="293" y="532"/>
                  </a:lnTo>
                  <a:lnTo>
                    <a:pt x="286" y="527"/>
                  </a:lnTo>
                  <a:lnTo>
                    <a:pt x="281" y="522"/>
                  </a:lnTo>
                  <a:lnTo>
                    <a:pt x="277" y="518"/>
                  </a:lnTo>
                  <a:lnTo>
                    <a:pt x="276" y="513"/>
                  </a:lnTo>
                  <a:lnTo>
                    <a:pt x="273" y="512"/>
                  </a:lnTo>
                  <a:lnTo>
                    <a:pt x="271" y="509"/>
                  </a:lnTo>
                  <a:lnTo>
                    <a:pt x="267" y="506"/>
                  </a:lnTo>
                  <a:lnTo>
                    <a:pt x="265" y="502"/>
                  </a:lnTo>
                  <a:lnTo>
                    <a:pt x="261" y="498"/>
                  </a:lnTo>
                  <a:lnTo>
                    <a:pt x="257" y="494"/>
                  </a:lnTo>
                  <a:lnTo>
                    <a:pt x="254" y="491"/>
                  </a:lnTo>
                  <a:lnTo>
                    <a:pt x="250" y="486"/>
                  </a:lnTo>
                  <a:lnTo>
                    <a:pt x="246" y="482"/>
                  </a:lnTo>
                  <a:lnTo>
                    <a:pt x="243" y="478"/>
                  </a:lnTo>
                  <a:lnTo>
                    <a:pt x="239" y="475"/>
                  </a:lnTo>
                  <a:lnTo>
                    <a:pt x="236" y="470"/>
                  </a:lnTo>
                  <a:lnTo>
                    <a:pt x="232" y="467"/>
                  </a:lnTo>
                  <a:lnTo>
                    <a:pt x="230" y="463"/>
                  </a:lnTo>
                  <a:lnTo>
                    <a:pt x="228" y="460"/>
                  </a:lnTo>
                  <a:lnTo>
                    <a:pt x="228" y="456"/>
                  </a:lnTo>
                  <a:lnTo>
                    <a:pt x="226" y="455"/>
                  </a:lnTo>
                  <a:lnTo>
                    <a:pt x="226" y="453"/>
                  </a:lnTo>
                  <a:lnTo>
                    <a:pt x="226" y="451"/>
                  </a:lnTo>
                  <a:lnTo>
                    <a:pt x="226" y="448"/>
                  </a:lnTo>
                  <a:lnTo>
                    <a:pt x="226" y="446"/>
                  </a:lnTo>
                  <a:lnTo>
                    <a:pt x="226" y="444"/>
                  </a:lnTo>
                  <a:lnTo>
                    <a:pt x="226" y="442"/>
                  </a:lnTo>
                  <a:lnTo>
                    <a:pt x="226" y="438"/>
                  </a:lnTo>
                  <a:lnTo>
                    <a:pt x="226" y="436"/>
                  </a:lnTo>
                  <a:lnTo>
                    <a:pt x="226" y="434"/>
                  </a:lnTo>
                  <a:lnTo>
                    <a:pt x="226" y="432"/>
                  </a:lnTo>
                  <a:lnTo>
                    <a:pt x="227" y="428"/>
                  </a:lnTo>
                  <a:lnTo>
                    <a:pt x="227" y="426"/>
                  </a:lnTo>
                  <a:lnTo>
                    <a:pt x="229" y="425"/>
                  </a:lnTo>
                  <a:lnTo>
                    <a:pt x="231" y="423"/>
                  </a:lnTo>
                  <a:lnTo>
                    <a:pt x="233" y="421"/>
                  </a:lnTo>
                  <a:lnTo>
                    <a:pt x="234" y="421"/>
                  </a:lnTo>
                  <a:lnTo>
                    <a:pt x="236" y="420"/>
                  </a:lnTo>
                  <a:lnTo>
                    <a:pt x="238" y="420"/>
                  </a:lnTo>
                  <a:lnTo>
                    <a:pt x="239" y="418"/>
                  </a:lnTo>
                  <a:lnTo>
                    <a:pt x="241" y="418"/>
                  </a:lnTo>
                  <a:lnTo>
                    <a:pt x="245" y="418"/>
                  </a:lnTo>
                  <a:lnTo>
                    <a:pt x="246" y="418"/>
                  </a:lnTo>
                  <a:lnTo>
                    <a:pt x="250" y="418"/>
                  </a:lnTo>
                  <a:lnTo>
                    <a:pt x="252" y="419"/>
                  </a:lnTo>
                  <a:lnTo>
                    <a:pt x="255" y="419"/>
                  </a:lnTo>
                  <a:lnTo>
                    <a:pt x="257" y="420"/>
                  </a:lnTo>
                  <a:lnTo>
                    <a:pt x="261" y="420"/>
                  </a:lnTo>
                  <a:lnTo>
                    <a:pt x="263" y="422"/>
                  </a:lnTo>
                  <a:lnTo>
                    <a:pt x="265" y="422"/>
                  </a:lnTo>
                  <a:lnTo>
                    <a:pt x="267" y="422"/>
                  </a:lnTo>
                  <a:lnTo>
                    <a:pt x="270" y="422"/>
                  </a:lnTo>
                  <a:lnTo>
                    <a:pt x="272" y="424"/>
                  </a:lnTo>
                  <a:lnTo>
                    <a:pt x="275" y="425"/>
                  </a:lnTo>
                  <a:lnTo>
                    <a:pt x="279" y="427"/>
                  </a:lnTo>
                  <a:lnTo>
                    <a:pt x="283" y="428"/>
                  </a:lnTo>
                  <a:lnTo>
                    <a:pt x="286" y="432"/>
                  </a:lnTo>
                  <a:lnTo>
                    <a:pt x="290" y="434"/>
                  </a:lnTo>
                  <a:lnTo>
                    <a:pt x="294" y="436"/>
                  </a:lnTo>
                  <a:lnTo>
                    <a:pt x="299" y="438"/>
                  </a:lnTo>
                  <a:lnTo>
                    <a:pt x="303" y="442"/>
                  </a:lnTo>
                  <a:lnTo>
                    <a:pt x="306" y="444"/>
                  </a:lnTo>
                  <a:lnTo>
                    <a:pt x="310" y="446"/>
                  </a:lnTo>
                  <a:lnTo>
                    <a:pt x="314" y="448"/>
                  </a:lnTo>
                  <a:lnTo>
                    <a:pt x="317" y="452"/>
                  </a:lnTo>
                  <a:lnTo>
                    <a:pt x="321" y="454"/>
                  </a:lnTo>
                  <a:lnTo>
                    <a:pt x="323" y="455"/>
                  </a:lnTo>
                  <a:lnTo>
                    <a:pt x="326" y="456"/>
                  </a:lnTo>
                  <a:lnTo>
                    <a:pt x="327" y="458"/>
                  </a:lnTo>
                  <a:lnTo>
                    <a:pt x="329" y="460"/>
                  </a:lnTo>
                  <a:lnTo>
                    <a:pt x="333" y="462"/>
                  </a:lnTo>
                  <a:lnTo>
                    <a:pt x="337" y="463"/>
                  </a:lnTo>
                  <a:lnTo>
                    <a:pt x="343" y="466"/>
                  </a:lnTo>
                  <a:lnTo>
                    <a:pt x="348" y="468"/>
                  </a:lnTo>
                  <a:lnTo>
                    <a:pt x="354" y="470"/>
                  </a:lnTo>
                  <a:lnTo>
                    <a:pt x="361" y="472"/>
                  </a:lnTo>
                  <a:lnTo>
                    <a:pt x="366" y="476"/>
                  </a:lnTo>
                  <a:lnTo>
                    <a:pt x="372" y="478"/>
                  </a:lnTo>
                  <a:lnTo>
                    <a:pt x="377" y="481"/>
                  </a:lnTo>
                  <a:lnTo>
                    <a:pt x="383" y="483"/>
                  </a:lnTo>
                  <a:lnTo>
                    <a:pt x="387" y="486"/>
                  </a:lnTo>
                  <a:lnTo>
                    <a:pt x="391" y="488"/>
                  </a:lnTo>
                  <a:lnTo>
                    <a:pt x="393" y="490"/>
                  </a:lnTo>
                  <a:lnTo>
                    <a:pt x="395" y="491"/>
                  </a:lnTo>
                  <a:lnTo>
                    <a:pt x="396" y="493"/>
                  </a:lnTo>
                  <a:lnTo>
                    <a:pt x="399" y="496"/>
                  </a:lnTo>
                  <a:lnTo>
                    <a:pt x="403" y="500"/>
                  </a:lnTo>
                  <a:lnTo>
                    <a:pt x="410" y="504"/>
                  </a:lnTo>
                  <a:lnTo>
                    <a:pt x="416" y="511"/>
                  </a:lnTo>
                  <a:lnTo>
                    <a:pt x="423" y="516"/>
                  </a:lnTo>
                  <a:lnTo>
                    <a:pt x="431" y="523"/>
                  </a:lnTo>
                  <a:lnTo>
                    <a:pt x="441" y="529"/>
                  </a:lnTo>
                  <a:lnTo>
                    <a:pt x="448" y="536"/>
                  </a:lnTo>
                  <a:lnTo>
                    <a:pt x="457" y="543"/>
                  </a:lnTo>
                  <a:lnTo>
                    <a:pt x="464" y="550"/>
                  </a:lnTo>
                  <a:lnTo>
                    <a:pt x="472" y="556"/>
                  </a:lnTo>
                  <a:lnTo>
                    <a:pt x="477" y="562"/>
                  </a:lnTo>
                  <a:lnTo>
                    <a:pt x="483" y="567"/>
                  </a:lnTo>
                  <a:lnTo>
                    <a:pt x="488" y="571"/>
                  </a:lnTo>
                  <a:lnTo>
                    <a:pt x="491" y="573"/>
                  </a:lnTo>
                  <a:lnTo>
                    <a:pt x="493" y="576"/>
                  </a:lnTo>
                  <a:lnTo>
                    <a:pt x="496" y="580"/>
                  </a:lnTo>
                  <a:lnTo>
                    <a:pt x="500" y="584"/>
                  </a:lnTo>
                  <a:lnTo>
                    <a:pt x="505" y="588"/>
                  </a:lnTo>
                  <a:lnTo>
                    <a:pt x="510" y="593"/>
                  </a:lnTo>
                  <a:lnTo>
                    <a:pt x="517" y="598"/>
                  </a:lnTo>
                  <a:lnTo>
                    <a:pt x="522" y="604"/>
                  </a:lnTo>
                  <a:lnTo>
                    <a:pt x="530" y="609"/>
                  </a:lnTo>
                  <a:lnTo>
                    <a:pt x="535" y="614"/>
                  </a:lnTo>
                  <a:lnTo>
                    <a:pt x="541" y="620"/>
                  </a:lnTo>
                  <a:lnTo>
                    <a:pt x="547" y="626"/>
                  </a:lnTo>
                  <a:lnTo>
                    <a:pt x="552" y="630"/>
                  </a:lnTo>
                  <a:lnTo>
                    <a:pt x="556" y="635"/>
                  </a:lnTo>
                  <a:lnTo>
                    <a:pt x="560" y="639"/>
                  </a:lnTo>
                  <a:lnTo>
                    <a:pt x="563" y="642"/>
                  </a:lnTo>
                  <a:lnTo>
                    <a:pt x="565" y="643"/>
                  </a:lnTo>
                  <a:lnTo>
                    <a:pt x="563" y="645"/>
                  </a:lnTo>
                  <a:lnTo>
                    <a:pt x="558" y="649"/>
                  </a:lnTo>
                  <a:lnTo>
                    <a:pt x="550" y="657"/>
                  </a:lnTo>
                  <a:lnTo>
                    <a:pt x="541" y="666"/>
                  </a:lnTo>
                  <a:lnTo>
                    <a:pt x="529" y="678"/>
                  </a:lnTo>
                  <a:lnTo>
                    <a:pt x="517" y="689"/>
                  </a:lnTo>
                  <a:lnTo>
                    <a:pt x="503" y="702"/>
                  </a:lnTo>
                  <a:lnTo>
                    <a:pt x="490" y="715"/>
                  </a:lnTo>
                  <a:lnTo>
                    <a:pt x="475" y="729"/>
                  </a:lnTo>
                  <a:lnTo>
                    <a:pt x="461" y="742"/>
                  </a:lnTo>
                  <a:lnTo>
                    <a:pt x="448" y="756"/>
                  </a:lnTo>
                  <a:lnTo>
                    <a:pt x="437" y="767"/>
                  </a:lnTo>
                  <a:lnTo>
                    <a:pt x="426" y="778"/>
                  </a:lnTo>
                  <a:lnTo>
                    <a:pt x="419" y="786"/>
                  </a:lnTo>
                  <a:lnTo>
                    <a:pt x="413" y="793"/>
                  </a:lnTo>
                  <a:lnTo>
                    <a:pt x="411" y="796"/>
                  </a:lnTo>
                  <a:lnTo>
                    <a:pt x="409" y="798"/>
                  </a:lnTo>
                  <a:lnTo>
                    <a:pt x="407" y="800"/>
                  </a:lnTo>
                  <a:lnTo>
                    <a:pt x="404" y="804"/>
                  </a:lnTo>
                  <a:lnTo>
                    <a:pt x="401" y="807"/>
                  </a:lnTo>
                  <a:lnTo>
                    <a:pt x="395" y="813"/>
                  </a:lnTo>
                  <a:lnTo>
                    <a:pt x="391" y="817"/>
                  </a:lnTo>
                  <a:lnTo>
                    <a:pt x="385" y="823"/>
                  </a:lnTo>
                  <a:lnTo>
                    <a:pt x="380" y="827"/>
                  </a:lnTo>
                  <a:lnTo>
                    <a:pt x="374" y="833"/>
                  </a:lnTo>
                  <a:lnTo>
                    <a:pt x="369" y="838"/>
                  </a:lnTo>
                  <a:lnTo>
                    <a:pt x="363" y="844"/>
                  </a:lnTo>
                  <a:lnTo>
                    <a:pt x="359" y="848"/>
                  </a:lnTo>
                  <a:lnTo>
                    <a:pt x="354" y="852"/>
                  </a:lnTo>
                  <a:lnTo>
                    <a:pt x="351" y="855"/>
                  </a:lnTo>
                  <a:lnTo>
                    <a:pt x="349" y="857"/>
                  </a:lnTo>
                  <a:lnTo>
                    <a:pt x="349" y="858"/>
                  </a:lnTo>
                  <a:lnTo>
                    <a:pt x="349" y="858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167680" y="3786120"/>
              <a:ext cx="131760" cy="95400"/>
            </a:xfrm>
            <a:custGeom>
              <a:avLst/>
              <a:gdLst/>
              <a:ahLst/>
              <a:rect l="l" t="t" r="r" b="b"/>
              <a:pathLst>
                <a:path w="83" h="60">
                  <a:moveTo>
                    <a:pt x="1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9"/>
                  </a:lnTo>
                  <a:lnTo>
                    <a:pt x="5" y="11"/>
                  </a:lnTo>
                  <a:lnTo>
                    <a:pt x="7" y="14"/>
                  </a:lnTo>
                  <a:lnTo>
                    <a:pt x="9" y="16"/>
                  </a:lnTo>
                  <a:lnTo>
                    <a:pt x="11" y="20"/>
                  </a:lnTo>
                  <a:lnTo>
                    <a:pt x="13" y="21"/>
                  </a:lnTo>
                  <a:lnTo>
                    <a:pt x="14" y="25"/>
                  </a:lnTo>
                  <a:lnTo>
                    <a:pt x="17" y="27"/>
                  </a:lnTo>
                  <a:lnTo>
                    <a:pt x="19" y="30"/>
                  </a:lnTo>
                  <a:lnTo>
                    <a:pt x="21" y="31"/>
                  </a:lnTo>
                  <a:lnTo>
                    <a:pt x="23" y="33"/>
                  </a:lnTo>
                  <a:lnTo>
                    <a:pt x="24" y="34"/>
                  </a:lnTo>
                  <a:lnTo>
                    <a:pt x="26" y="37"/>
                  </a:lnTo>
                  <a:lnTo>
                    <a:pt x="28" y="38"/>
                  </a:lnTo>
                  <a:lnTo>
                    <a:pt x="30" y="40"/>
                  </a:lnTo>
                  <a:lnTo>
                    <a:pt x="32" y="42"/>
                  </a:lnTo>
                  <a:lnTo>
                    <a:pt x="34" y="45"/>
                  </a:lnTo>
                  <a:lnTo>
                    <a:pt x="38" y="47"/>
                  </a:lnTo>
                  <a:lnTo>
                    <a:pt x="40" y="48"/>
                  </a:lnTo>
                  <a:lnTo>
                    <a:pt x="43" y="50"/>
                  </a:lnTo>
                  <a:lnTo>
                    <a:pt x="45" y="52"/>
                  </a:lnTo>
                  <a:lnTo>
                    <a:pt x="48" y="54"/>
                  </a:lnTo>
                  <a:lnTo>
                    <a:pt x="50" y="56"/>
                  </a:lnTo>
                  <a:lnTo>
                    <a:pt x="54" y="57"/>
                  </a:lnTo>
                  <a:lnTo>
                    <a:pt x="56" y="59"/>
                  </a:lnTo>
                  <a:lnTo>
                    <a:pt x="59" y="59"/>
                  </a:lnTo>
                  <a:lnTo>
                    <a:pt x="61" y="59"/>
                  </a:lnTo>
                  <a:lnTo>
                    <a:pt x="64" y="59"/>
                  </a:lnTo>
                  <a:lnTo>
                    <a:pt x="64" y="59"/>
                  </a:lnTo>
                  <a:lnTo>
                    <a:pt x="66" y="59"/>
                  </a:lnTo>
                  <a:lnTo>
                    <a:pt x="66" y="59"/>
                  </a:lnTo>
                  <a:lnTo>
                    <a:pt x="68" y="59"/>
                  </a:lnTo>
                  <a:lnTo>
                    <a:pt x="69" y="59"/>
                  </a:lnTo>
                  <a:lnTo>
                    <a:pt x="71" y="57"/>
                  </a:lnTo>
                  <a:lnTo>
                    <a:pt x="72" y="57"/>
                  </a:lnTo>
                  <a:lnTo>
                    <a:pt x="74" y="55"/>
                  </a:lnTo>
                  <a:lnTo>
                    <a:pt x="74" y="55"/>
                  </a:lnTo>
                  <a:lnTo>
                    <a:pt x="76" y="53"/>
                  </a:lnTo>
                  <a:lnTo>
                    <a:pt x="78" y="53"/>
                  </a:lnTo>
                  <a:lnTo>
                    <a:pt x="80" y="51"/>
                  </a:lnTo>
                  <a:lnTo>
                    <a:pt x="80" y="51"/>
                  </a:lnTo>
                  <a:lnTo>
                    <a:pt x="81" y="49"/>
                  </a:lnTo>
                  <a:lnTo>
                    <a:pt x="81" y="48"/>
                  </a:lnTo>
                  <a:lnTo>
                    <a:pt x="82" y="47"/>
                  </a:lnTo>
                  <a:lnTo>
                    <a:pt x="81" y="45"/>
                  </a:lnTo>
                  <a:lnTo>
                    <a:pt x="81" y="43"/>
                  </a:lnTo>
                  <a:lnTo>
                    <a:pt x="80" y="41"/>
                  </a:lnTo>
                  <a:lnTo>
                    <a:pt x="80" y="40"/>
                  </a:lnTo>
                  <a:lnTo>
                    <a:pt x="78" y="38"/>
                  </a:lnTo>
                  <a:lnTo>
                    <a:pt x="77" y="36"/>
                  </a:lnTo>
                  <a:lnTo>
                    <a:pt x="75" y="34"/>
                  </a:lnTo>
                  <a:lnTo>
                    <a:pt x="75" y="31"/>
                  </a:lnTo>
                  <a:lnTo>
                    <a:pt x="73" y="29"/>
                  </a:lnTo>
                  <a:lnTo>
                    <a:pt x="71" y="27"/>
                  </a:lnTo>
                  <a:lnTo>
                    <a:pt x="70" y="25"/>
                  </a:lnTo>
                  <a:lnTo>
                    <a:pt x="68" y="23"/>
                  </a:lnTo>
                  <a:lnTo>
                    <a:pt x="66" y="22"/>
                  </a:lnTo>
                  <a:lnTo>
                    <a:pt x="64" y="20"/>
                  </a:lnTo>
                  <a:lnTo>
                    <a:pt x="62" y="19"/>
                  </a:lnTo>
                  <a:lnTo>
                    <a:pt x="61" y="17"/>
                  </a:lnTo>
                  <a:lnTo>
                    <a:pt x="60" y="19"/>
                  </a:lnTo>
                  <a:lnTo>
                    <a:pt x="59" y="19"/>
                  </a:lnTo>
                  <a:lnTo>
                    <a:pt x="57" y="19"/>
                  </a:lnTo>
                  <a:lnTo>
                    <a:pt x="57" y="19"/>
                  </a:lnTo>
                  <a:lnTo>
                    <a:pt x="55" y="20"/>
                  </a:lnTo>
                  <a:lnTo>
                    <a:pt x="54" y="20"/>
                  </a:lnTo>
                  <a:lnTo>
                    <a:pt x="52" y="20"/>
                  </a:lnTo>
                  <a:lnTo>
                    <a:pt x="52" y="20"/>
                  </a:lnTo>
                  <a:lnTo>
                    <a:pt x="51" y="22"/>
                  </a:lnTo>
                  <a:lnTo>
                    <a:pt x="49" y="22"/>
                  </a:lnTo>
                  <a:lnTo>
                    <a:pt x="47" y="23"/>
                  </a:lnTo>
                  <a:lnTo>
                    <a:pt x="47" y="23"/>
                  </a:lnTo>
                  <a:lnTo>
                    <a:pt x="45" y="23"/>
                  </a:lnTo>
                  <a:lnTo>
                    <a:pt x="45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2" y="23"/>
                  </a:lnTo>
                  <a:lnTo>
                    <a:pt x="40" y="23"/>
                  </a:lnTo>
                  <a:lnTo>
                    <a:pt x="38" y="23"/>
                  </a:lnTo>
                  <a:lnTo>
                    <a:pt x="37" y="22"/>
                  </a:lnTo>
                  <a:lnTo>
                    <a:pt x="35" y="22"/>
                  </a:lnTo>
                  <a:lnTo>
                    <a:pt x="33" y="20"/>
                  </a:lnTo>
                  <a:lnTo>
                    <a:pt x="31" y="19"/>
                  </a:lnTo>
                  <a:lnTo>
                    <a:pt x="30" y="17"/>
                  </a:lnTo>
                  <a:lnTo>
                    <a:pt x="27" y="17"/>
                  </a:lnTo>
                  <a:lnTo>
                    <a:pt x="25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20" y="12"/>
                  </a:lnTo>
                  <a:lnTo>
                    <a:pt x="18" y="10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356680" y="3749760"/>
              <a:ext cx="226800" cy="172800"/>
            </a:xfrm>
            <a:custGeom>
              <a:avLst/>
              <a:gdLst/>
              <a:ahLst/>
              <a:rect l="l" t="t" r="r" b="b"/>
              <a:pathLst>
                <a:path w="143" h="109">
                  <a:moveTo>
                    <a:pt x="0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7"/>
                  </a:lnTo>
                  <a:lnTo>
                    <a:pt x="5" y="9"/>
                  </a:lnTo>
                  <a:lnTo>
                    <a:pt x="9" y="13"/>
                  </a:lnTo>
                  <a:lnTo>
                    <a:pt x="12" y="16"/>
                  </a:lnTo>
                  <a:lnTo>
                    <a:pt x="16" y="20"/>
                  </a:lnTo>
                  <a:lnTo>
                    <a:pt x="21" y="24"/>
                  </a:lnTo>
                  <a:lnTo>
                    <a:pt x="25" y="29"/>
                  </a:lnTo>
                  <a:lnTo>
                    <a:pt x="30" y="33"/>
                  </a:lnTo>
                  <a:lnTo>
                    <a:pt x="34" y="36"/>
                  </a:lnTo>
                  <a:lnTo>
                    <a:pt x="40" y="40"/>
                  </a:lnTo>
                  <a:lnTo>
                    <a:pt x="43" y="44"/>
                  </a:lnTo>
                  <a:lnTo>
                    <a:pt x="48" y="48"/>
                  </a:lnTo>
                  <a:lnTo>
                    <a:pt x="51" y="50"/>
                  </a:lnTo>
                  <a:lnTo>
                    <a:pt x="55" y="52"/>
                  </a:lnTo>
                  <a:lnTo>
                    <a:pt x="58" y="56"/>
                  </a:lnTo>
                  <a:lnTo>
                    <a:pt x="61" y="60"/>
                  </a:lnTo>
                  <a:lnTo>
                    <a:pt x="65" y="64"/>
                  </a:lnTo>
                  <a:lnTo>
                    <a:pt x="71" y="68"/>
                  </a:lnTo>
                  <a:lnTo>
                    <a:pt x="75" y="73"/>
                  </a:lnTo>
                  <a:lnTo>
                    <a:pt x="80" y="77"/>
                  </a:lnTo>
                  <a:lnTo>
                    <a:pt x="86" y="82"/>
                  </a:lnTo>
                  <a:lnTo>
                    <a:pt x="91" y="86"/>
                  </a:lnTo>
                  <a:lnTo>
                    <a:pt x="96" y="92"/>
                  </a:lnTo>
                  <a:lnTo>
                    <a:pt x="101" y="96"/>
                  </a:lnTo>
                  <a:lnTo>
                    <a:pt x="107" y="100"/>
                  </a:lnTo>
                  <a:lnTo>
                    <a:pt x="113" y="102"/>
                  </a:lnTo>
                  <a:lnTo>
                    <a:pt x="117" y="105"/>
                  </a:lnTo>
                  <a:lnTo>
                    <a:pt x="122" y="107"/>
                  </a:lnTo>
                  <a:lnTo>
                    <a:pt x="126" y="108"/>
                  </a:lnTo>
                  <a:lnTo>
                    <a:pt x="131" y="108"/>
                  </a:lnTo>
                  <a:lnTo>
                    <a:pt x="131" y="108"/>
                  </a:lnTo>
                  <a:lnTo>
                    <a:pt x="132" y="108"/>
                  </a:lnTo>
                  <a:lnTo>
                    <a:pt x="132" y="108"/>
                  </a:lnTo>
                  <a:lnTo>
                    <a:pt x="134" y="108"/>
                  </a:lnTo>
                  <a:lnTo>
                    <a:pt x="134" y="108"/>
                  </a:lnTo>
                  <a:lnTo>
                    <a:pt x="136" y="108"/>
                  </a:lnTo>
                  <a:lnTo>
                    <a:pt x="136" y="108"/>
                  </a:lnTo>
                  <a:lnTo>
                    <a:pt x="138" y="106"/>
                  </a:lnTo>
                  <a:lnTo>
                    <a:pt x="138" y="106"/>
                  </a:lnTo>
                  <a:lnTo>
                    <a:pt x="138" y="106"/>
                  </a:lnTo>
                  <a:lnTo>
                    <a:pt x="138" y="106"/>
                  </a:lnTo>
                  <a:lnTo>
                    <a:pt x="140" y="104"/>
                  </a:lnTo>
                  <a:lnTo>
                    <a:pt x="140" y="104"/>
                  </a:lnTo>
                  <a:lnTo>
                    <a:pt x="141" y="103"/>
                  </a:lnTo>
                  <a:lnTo>
                    <a:pt x="141" y="103"/>
                  </a:lnTo>
                  <a:lnTo>
                    <a:pt x="142" y="101"/>
                  </a:lnTo>
                  <a:lnTo>
                    <a:pt x="141" y="101"/>
                  </a:lnTo>
                  <a:lnTo>
                    <a:pt x="141" y="100"/>
                  </a:lnTo>
                  <a:lnTo>
                    <a:pt x="141" y="98"/>
                  </a:lnTo>
                  <a:lnTo>
                    <a:pt x="141" y="96"/>
                  </a:lnTo>
                  <a:lnTo>
                    <a:pt x="139" y="94"/>
                  </a:lnTo>
                  <a:lnTo>
                    <a:pt x="139" y="92"/>
                  </a:lnTo>
                  <a:lnTo>
                    <a:pt x="139" y="91"/>
                  </a:lnTo>
                  <a:lnTo>
                    <a:pt x="139" y="89"/>
                  </a:lnTo>
                  <a:lnTo>
                    <a:pt x="137" y="88"/>
                  </a:lnTo>
                  <a:lnTo>
                    <a:pt x="137" y="86"/>
                  </a:lnTo>
                  <a:lnTo>
                    <a:pt x="135" y="84"/>
                  </a:lnTo>
                  <a:lnTo>
                    <a:pt x="135" y="82"/>
                  </a:lnTo>
                  <a:lnTo>
                    <a:pt x="133" y="81"/>
                  </a:lnTo>
                  <a:lnTo>
                    <a:pt x="133" y="80"/>
                  </a:lnTo>
                  <a:lnTo>
                    <a:pt x="131" y="78"/>
                  </a:lnTo>
                  <a:lnTo>
                    <a:pt x="131" y="76"/>
                  </a:lnTo>
                  <a:lnTo>
                    <a:pt x="129" y="76"/>
                  </a:lnTo>
                  <a:lnTo>
                    <a:pt x="129" y="74"/>
                  </a:lnTo>
                  <a:lnTo>
                    <a:pt x="127" y="74"/>
                  </a:lnTo>
                  <a:lnTo>
                    <a:pt x="127" y="73"/>
                  </a:lnTo>
                  <a:lnTo>
                    <a:pt x="125" y="73"/>
                  </a:lnTo>
                  <a:lnTo>
                    <a:pt x="123" y="71"/>
                  </a:lnTo>
                  <a:lnTo>
                    <a:pt x="121" y="70"/>
                  </a:lnTo>
                  <a:lnTo>
                    <a:pt x="121" y="68"/>
                  </a:lnTo>
                  <a:lnTo>
                    <a:pt x="119" y="68"/>
                  </a:lnTo>
                  <a:lnTo>
                    <a:pt x="117" y="66"/>
                  </a:lnTo>
                  <a:lnTo>
                    <a:pt x="115" y="66"/>
                  </a:lnTo>
                  <a:lnTo>
                    <a:pt x="114" y="64"/>
                  </a:lnTo>
                  <a:lnTo>
                    <a:pt x="112" y="64"/>
                  </a:lnTo>
                  <a:lnTo>
                    <a:pt x="111" y="63"/>
                  </a:lnTo>
                  <a:lnTo>
                    <a:pt x="110" y="63"/>
                  </a:lnTo>
                  <a:lnTo>
                    <a:pt x="110" y="61"/>
                  </a:lnTo>
                  <a:lnTo>
                    <a:pt x="108" y="61"/>
                  </a:lnTo>
                  <a:lnTo>
                    <a:pt x="108" y="61"/>
                  </a:lnTo>
                  <a:lnTo>
                    <a:pt x="107" y="61"/>
                  </a:lnTo>
                  <a:lnTo>
                    <a:pt x="107" y="59"/>
                  </a:lnTo>
                  <a:lnTo>
                    <a:pt x="105" y="59"/>
                  </a:lnTo>
                  <a:lnTo>
                    <a:pt x="105" y="57"/>
                  </a:lnTo>
                  <a:lnTo>
                    <a:pt x="103" y="57"/>
                  </a:lnTo>
                  <a:lnTo>
                    <a:pt x="103" y="55"/>
                  </a:lnTo>
                  <a:lnTo>
                    <a:pt x="101" y="55"/>
                  </a:lnTo>
                  <a:lnTo>
                    <a:pt x="99" y="54"/>
                  </a:lnTo>
                  <a:lnTo>
                    <a:pt x="98" y="54"/>
                  </a:lnTo>
                  <a:lnTo>
                    <a:pt x="98" y="53"/>
                  </a:lnTo>
                  <a:lnTo>
                    <a:pt x="96" y="53"/>
                  </a:lnTo>
                  <a:lnTo>
                    <a:pt x="96" y="52"/>
                  </a:lnTo>
                  <a:lnTo>
                    <a:pt x="95" y="52"/>
                  </a:lnTo>
                  <a:lnTo>
                    <a:pt x="95" y="50"/>
                  </a:lnTo>
                  <a:lnTo>
                    <a:pt x="93" y="50"/>
                  </a:lnTo>
                  <a:lnTo>
                    <a:pt x="92" y="50"/>
                  </a:lnTo>
                  <a:lnTo>
                    <a:pt x="90" y="50"/>
                  </a:lnTo>
                  <a:lnTo>
                    <a:pt x="89" y="48"/>
                  </a:lnTo>
                  <a:lnTo>
                    <a:pt x="88" y="48"/>
                  </a:lnTo>
                  <a:lnTo>
                    <a:pt x="86" y="48"/>
                  </a:lnTo>
                  <a:lnTo>
                    <a:pt x="84" y="48"/>
                  </a:lnTo>
                  <a:lnTo>
                    <a:pt x="83" y="46"/>
                  </a:lnTo>
                  <a:lnTo>
                    <a:pt x="81" y="46"/>
                  </a:lnTo>
                  <a:lnTo>
                    <a:pt x="79" y="46"/>
                  </a:lnTo>
                  <a:lnTo>
                    <a:pt x="78" y="46"/>
                  </a:lnTo>
                  <a:lnTo>
                    <a:pt x="77" y="45"/>
                  </a:lnTo>
                  <a:lnTo>
                    <a:pt x="75" y="45"/>
                  </a:lnTo>
                  <a:lnTo>
                    <a:pt x="74" y="45"/>
                  </a:lnTo>
                  <a:lnTo>
                    <a:pt x="72" y="45"/>
                  </a:lnTo>
                  <a:lnTo>
                    <a:pt x="72" y="43"/>
                  </a:lnTo>
                  <a:lnTo>
                    <a:pt x="68" y="42"/>
                  </a:lnTo>
                  <a:lnTo>
                    <a:pt x="65" y="40"/>
                  </a:lnTo>
                  <a:lnTo>
                    <a:pt x="61" y="38"/>
                  </a:lnTo>
                  <a:lnTo>
                    <a:pt x="57" y="36"/>
                  </a:lnTo>
                  <a:lnTo>
                    <a:pt x="51" y="34"/>
                  </a:lnTo>
                  <a:lnTo>
                    <a:pt x="48" y="30"/>
                  </a:lnTo>
                  <a:lnTo>
                    <a:pt x="44" y="27"/>
                  </a:lnTo>
                  <a:lnTo>
                    <a:pt x="40" y="23"/>
                  </a:lnTo>
                  <a:lnTo>
                    <a:pt x="35" y="22"/>
                  </a:lnTo>
                  <a:lnTo>
                    <a:pt x="31" y="18"/>
                  </a:lnTo>
                  <a:lnTo>
                    <a:pt x="26" y="15"/>
                  </a:lnTo>
                  <a:lnTo>
                    <a:pt x="22" y="12"/>
                  </a:lnTo>
                  <a:lnTo>
                    <a:pt x="19" y="10"/>
                  </a:lnTo>
                  <a:lnTo>
                    <a:pt x="15" y="7"/>
                  </a:lnTo>
                  <a:lnTo>
                    <a:pt x="11" y="5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861400" y="4410000"/>
              <a:ext cx="247680" cy="136440"/>
            </a:xfrm>
            <a:custGeom>
              <a:avLst/>
              <a:gdLst/>
              <a:ahLst/>
              <a:rect l="l" t="t" r="r" b="b"/>
              <a:pathLst>
                <a:path w="156" h="86">
                  <a:moveTo>
                    <a:pt x="1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1" y="4"/>
                  </a:lnTo>
                  <a:lnTo>
                    <a:pt x="3" y="6"/>
                  </a:lnTo>
                  <a:lnTo>
                    <a:pt x="4" y="9"/>
                  </a:lnTo>
                  <a:lnTo>
                    <a:pt x="6" y="11"/>
                  </a:lnTo>
                  <a:lnTo>
                    <a:pt x="8" y="14"/>
                  </a:lnTo>
                  <a:lnTo>
                    <a:pt x="12" y="16"/>
                  </a:lnTo>
                  <a:lnTo>
                    <a:pt x="14" y="20"/>
                  </a:lnTo>
                  <a:lnTo>
                    <a:pt x="16" y="22"/>
                  </a:lnTo>
                  <a:lnTo>
                    <a:pt x="18" y="26"/>
                  </a:lnTo>
                  <a:lnTo>
                    <a:pt x="22" y="28"/>
                  </a:lnTo>
                  <a:lnTo>
                    <a:pt x="24" y="31"/>
                  </a:lnTo>
                  <a:lnTo>
                    <a:pt x="25" y="33"/>
                  </a:lnTo>
                  <a:lnTo>
                    <a:pt x="27" y="35"/>
                  </a:lnTo>
                  <a:lnTo>
                    <a:pt x="30" y="36"/>
                  </a:lnTo>
                  <a:lnTo>
                    <a:pt x="30" y="38"/>
                  </a:lnTo>
                  <a:lnTo>
                    <a:pt x="32" y="39"/>
                  </a:lnTo>
                  <a:lnTo>
                    <a:pt x="32" y="41"/>
                  </a:lnTo>
                  <a:lnTo>
                    <a:pt x="34" y="42"/>
                  </a:lnTo>
                  <a:lnTo>
                    <a:pt x="34" y="44"/>
                  </a:lnTo>
                  <a:lnTo>
                    <a:pt x="35" y="45"/>
                  </a:lnTo>
                  <a:lnTo>
                    <a:pt x="37" y="47"/>
                  </a:lnTo>
                  <a:lnTo>
                    <a:pt x="39" y="48"/>
                  </a:lnTo>
                  <a:lnTo>
                    <a:pt x="39" y="50"/>
                  </a:lnTo>
                  <a:lnTo>
                    <a:pt x="41" y="52"/>
                  </a:lnTo>
                  <a:lnTo>
                    <a:pt x="42" y="54"/>
                  </a:lnTo>
                  <a:lnTo>
                    <a:pt x="44" y="55"/>
                  </a:lnTo>
                  <a:lnTo>
                    <a:pt x="44" y="57"/>
                  </a:lnTo>
                  <a:lnTo>
                    <a:pt x="46" y="58"/>
                  </a:lnTo>
                  <a:lnTo>
                    <a:pt x="47" y="59"/>
                  </a:lnTo>
                  <a:lnTo>
                    <a:pt x="49" y="59"/>
                  </a:lnTo>
                  <a:lnTo>
                    <a:pt x="49" y="61"/>
                  </a:lnTo>
                  <a:lnTo>
                    <a:pt x="51" y="61"/>
                  </a:lnTo>
                  <a:lnTo>
                    <a:pt x="53" y="62"/>
                  </a:lnTo>
                  <a:lnTo>
                    <a:pt x="55" y="62"/>
                  </a:lnTo>
                  <a:lnTo>
                    <a:pt x="57" y="64"/>
                  </a:lnTo>
                  <a:lnTo>
                    <a:pt x="59" y="64"/>
                  </a:lnTo>
                  <a:lnTo>
                    <a:pt x="61" y="66"/>
                  </a:lnTo>
                  <a:lnTo>
                    <a:pt x="62" y="66"/>
                  </a:lnTo>
                  <a:lnTo>
                    <a:pt x="64" y="68"/>
                  </a:lnTo>
                  <a:lnTo>
                    <a:pt x="66" y="68"/>
                  </a:lnTo>
                  <a:lnTo>
                    <a:pt x="68" y="70"/>
                  </a:lnTo>
                  <a:lnTo>
                    <a:pt x="70" y="70"/>
                  </a:lnTo>
                  <a:lnTo>
                    <a:pt x="71" y="72"/>
                  </a:lnTo>
                  <a:lnTo>
                    <a:pt x="73" y="72"/>
                  </a:lnTo>
                  <a:lnTo>
                    <a:pt x="75" y="72"/>
                  </a:lnTo>
                  <a:lnTo>
                    <a:pt x="77" y="72"/>
                  </a:lnTo>
                  <a:lnTo>
                    <a:pt x="77" y="74"/>
                  </a:lnTo>
                  <a:lnTo>
                    <a:pt x="78" y="74"/>
                  </a:lnTo>
                  <a:lnTo>
                    <a:pt x="78" y="75"/>
                  </a:lnTo>
                  <a:lnTo>
                    <a:pt x="80" y="75"/>
                  </a:lnTo>
                  <a:lnTo>
                    <a:pt x="80" y="76"/>
                  </a:lnTo>
                  <a:lnTo>
                    <a:pt x="82" y="76"/>
                  </a:lnTo>
                  <a:lnTo>
                    <a:pt x="82" y="76"/>
                  </a:lnTo>
                  <a:lnTo>
                    <a:pt x="83" y="76"/>
                  </a:lnTo>
                  <a:lnTo>
                    <a:pt x="83" y="78"/>
                  </a:lnTo>
                  <a:lnTo>
                    <a:pt x="85" y="78"/>
                  </a:lnTo>
                  <a:lnTo>
                    <a:pt x="85" y="80"/>
                  </a:lnTo>
                  <a:lnTo>
                    <a:pt x="87" y="80"/>
                  </a:lnTo>
                  <a:lnTo>
                    <a:pt x="87" y="81"/>
                  </a:lnTo>
                  <a:lnTo>
                    <a:pt x="89" y="81"/>
                  </a:lnTo>
                  <a:lnTo>
                    <a:pt x="89" y="81"/>
                  </a:lnTo>
                  <a:lnTo>
                    <a:pt x="91" y="81"/>
                  </a:lnTo>
                  <a:lnTo>
                    <a:pt x="91" y="82"/>
                  </a:lnTo>
                  <a:lnTo>
                    <a:pt x="93" y="82"/>
                  </a:lnTo>
                  <a:lnTo>
                    <a:pt x="93" y="82"/>
                  </a:lnTo>
                  <a:lnTo>
                    <a:pt x="95" y="82"/>
                  </a:lnTo>
                  <a:lnTo>
                    <a:pt x="97" y="82"/>
                  </a:lnTo>
                  <a:lnTo>
                    <a:pt x="99" y="82"/>
                  </a:lnTo>
                  <a:lnTo>
                    <a:pt x="101" y="82"/>
                  </a:lnTo>
                  <a:lnTo>
                    <a:pt x="102" y="80"/>
                  </a:lnTo>
                  <a:lnTo>
                    <a:pt x="102" y="80"/>
                  </a:lnTo>
                  <a:lnTo>
                    <a:pt x="104" y="80"/>
                  </a:lnTo>
                  <a:lnTo>
                    <a:pt x="106" y="80"/>
                  </a:lnTo>
                  <a:lnTo>
                    <a:pt x="108" y="78"/>
                  </a:lnTo>
                  <a:lnTo>
                    <a:pt x="109" y="78"/>
                  </a:lnTo>
                  <a:lnTo>
                    <a:pt x="111" y="78"/>
                  </a:lnTo>
                  <a:lnTo>
                    <a:pt x="112" y="78"/>
                  </a:lnTo>
                  <a:lnTo>
                    <a:pt x="114" y="77"/>
                  </a:lnTo>
                  <a:lnTo>
                    <a:pt x="114" y="78"/>
                  </a:lnTo>
                  <a:lnTo>
                    <a:pt x="116" y="78"/>
                  </a:lnTo>
                  <a:lnTo>
                    <a:pt x="117" y="79"/>
                  </a:lnTo>
                  <a:lnTo>
                    <a:pt x="119" y="79"/>
                  </a:lnTo>
                  <a:lnTo>
                    <a:pt x="121" y="81"/>
                  </a:lnTo>
                  <a:lnTo>
                    <a:pt x="123" y="81"/>
                  </a:lnTo>
                  <a:lnTo>
                    <a:pt x="125" y="81"/>
                  </a:lnTo>
                  <a:lnTo>
                    <a:pt x="127" y="81"/>
                  </a:lnTo>
                  <a:lnTo>
                    <a:pt x="129" y="83"/>
                  </a:lnTo>
                  <a:lnTo>
                    <a:pt x="130" y="83"/>
                  </a:lnTo>
                  <a:lnTo>
                    <a:pt x="132" y="84"/>
                  </a:lnTo>
                  <a:lnTo>
                    <a:pt x="134" y="84"/>
                  </a:lnTo>
                  <a:lnTo>
                    <a:pt x="135" y="84"/>
                  </a:lnTo>
                  <a:lnTo>
                    <a:pt x="137" y="84"/>
                  </a:lnTo>
                  <a:lnTo>
                    <a:pt x="139" y="84"/>
                  </a:lnTo>
                  <a:lnTo>
                    <a:pt x="141" y="84"/>
                  </a:lnTo>
                  <a:lnTo>
                    <a:pt x="141" y="85"/>
                  </a:lnTo>
                  <a:lnTo>
                    <a:pt x="142" y="85"/>
                  </a:lnTo>
                  <a:lnTo>
                    <a:pt x="142" y="85"/>
                  </a:lnTo>
                  <a:lnTo>
                    <a:pt x="143" y="85"/>
                  </a:lnTo>
                  <a:lnTo>
                    <a:pt x="143" y="85"/>
                  </a:lnTo>
                  <a:lnTo>
                    <a:pt x="145" y="85"/>
                  </a:lnTo>
                  <a:lnTo>
                    <a:pt x="147" y="85"/>
                  </a:lnTo>
                  <a:lnTo>
                    <a:pt x="149" y="85"/>
                  </a:lnTo>
                  <a:lnTo>
                    <a:pt x="149" y="85"/>
                  </a:lnTo>
                  <a:lnTo>
                    <a:pt x="150" y="85"/>
                  </a:lnTo>
                  <a:lnTo>
                    <a:pt x="150" y="85"/>
                  </a:lnTo>
                  <a:lnTo>
                    <a:pt x="152" y="85"/>
                  </a:lnTo>
                  <a:lnTo>
                    <a:pt x="152" y="85"/>
                  </a:lnTo>
                  <a:lnTo>
                    <a:pt x="153" y="85"/>
                  </a:lnTo>
                  <a:lnTo>
                    <a:pt x="153" y="85"/>
                  </a:lnTo>
                  <a:lnTo>
                    <a:pt x="155" y="84"/>
                  </a:lnTo>
                  <a:lnTo>
                    <a:pt x="153" y="84"/>
                  </a:lnTo>
                  <a:lnTo>
                    <a:pt x="153" y="83"/>
                  </a:lnTo>
                  <a:lnTo>
                    <a:pt x="151" y="83"/>
                  </a:lnTo>
                  <a:lnTo>
                    <a:pt x="149" y="81"/>
                  </a:lnTo>
                  <a:lnTo>
                    <a:pt x="145" y="81"/>
                  </a:lnTo>
                  <a:lnTo>
                    <a:pt x="143" y="79"/>
                  </a:lnTo>
                  <a:lnTo>
                    <a:pt x="139" y="77"/>
                  </a:lnTo>
                  <a:lnTo>
                    <a:pt x="137" y="75"/>
                  </a:lnTo>
                  <a:lnTo>
                    <a:pt x="133" y="75"/>
                  </a:lnTo>
                  <a:lnTo>
                    <a:pt x="130" y="74"/>
                  </a:lnTo>
                  <a:lnTo>
                    <a:pt x="126" y="72"/>
                  </a:lnTo>
                  <a:lnTo>
                    <a:pt x="123" y="70"/>
                  </a:lnTo>
                  <a:lnTo>
                    <a:pt x="120" y="70"/>
                  </a:lnTo>
                  <a:lnTo>
                    <a:pt x="118" y="68"/>
                  </a:lnTo>
                  <a:lnTo>
                    <a:pt x="115" y="67"/>
                  </a:lnTo>
                  <a:lnTo>
                    <a:pt x="114" y="65"/>
                  </a:lnTo>
                  <a:lnTo>
                    <a:pt x="111" y="65"/>
                  </a:lnTo>
                  <a:lnTo>
                    <a:pt x="109" y="64"/>
                  </a:lnTo>
                  <a:lnTo>
                    <a:pt x="107" y="64"/>
                  </a:lnTo>
                  <a:lnTo>
                    <a:pt x="105" y="62"/>
                  </a:lnTo>
                  <a:lnTo>
                    <a:pt x="101" y="62"/>
                  </a:lnTo>
                  <a:lnTo>
                    <a:pt x="99" y="60"/>
                  </a:lnTo>
                  <a:lnTo>
                    <a:pt x="97" y="58"/>
                  </a:lnTo>
                  <a:lnTo>
                    <a:pt x="95" y="56"/>
                  </a:lnTo>
                  <a:lnTo>
                    <a:pt x="92" y="56"/>
                  </a:lnTo>
                  <a:lnTo>
                    <a:pt x="90" y="55"/>
                  </a:lnTo>
                  <a:lnTo>
                    <a:pt x="87" y="54"/>
                  </a:lnTo>
                  <a:lnTo>
                    <a:pt x="85" y="52"/>
                  </a:lnTo>
                  <a:lnTo>
                    <a:pt x="83" y="52"/>
                  </a:lnTo>
                  <a:lnTo>
                    <a:pt x="81" y="50"/>
                  </a:lnTo>
                  <a:lnTo>
                    <a:pt x="79" y="48"/>
                  </a:lnTo>
                  <a:lnTo>
                    <a:pt x="78" y="47"/>
                  </a:lnTo>
                  <a:lnTo>
                    <a:pt x="76" y="47"/>
                  </a:lnTo>
                  <a:lnTo>
                    <a:pt x="76" y="45"/>
                  </a:lnTo>
                  <a:lnTo>
                    <a:pt x="74" y="45"/>
                  </a:lnTo>
                  <a:lnTo>
                    <a:pt x="74" y="44"/>
                  </a:lnTo>
                  <a:lnTo>
                    <a:pt x="72" y="44"/>
                  </a:lnTo>
                  <a:lnTo>
                    <a:pt x="71" y="42"/>
                  </a:lnTo>
                  <a:lnTo>
                    <a:pt x="69" y="40"/>
                  </a:lnTo>
                  <a:lnTo>
                    <a:pt x="69" y="38"/>
                  </a:lnTo>
                  <a:lnTo>
                    <a:pt x="67" y="38"/>
                  </a:lnTo>
                  <a:lnTo>
                    <a:pt x="65" y="37"/>
                  </a:lnTo>
                  <a:lnTo>
                    <a:pt x="63" y="36"/>
                  </a:lnTo>
                  <a:lnTo>
                    <a:pt x="63" y="34"/>
                  </a:lnTo>
                  <a:lnTo>
                    <a:pt x="61" y="34"/>
                  </a:lnTo>
                  <a:lnTo>
                    <a:pt x="61" y="32"/>
                  </a:lnTo>
                  <a:lnTo>
                    <a:pt x="59" y="32"/>
                  </a:lnTo>
                  <a:lnTo>
                    <a:pt x="59" y="30"/>
                  </a:lnTo>
                  <a:lnTo>
                    <a:pt x="57" y="30"/>
                  </a:lnTo>
                  <a:lnTo>
                    <a:pt x="57" y="30"/>
                  </a:lnTo>
                  <a:lnTo>
                    <a:pt x="57" y="30"/>
                  </a:lnTo>
                  <a:lnTo>
                    <a:pt x="57" y="28"/>
                  </a:lnTo>
                  <a:lnTo>
                    <a:pt x="55" y="28"/>
                  </a:lnTo>
                  <a:lnTo>
                    <a:pt x="55" y="26"/>
                  </a:lnTo>
                  <a:lnTo>
                    <a:pt x="55" y="26"/>
                  </a:lnTo>
                  <a:lnTo>
                    <a:pt x="55" y="24"/>
                  </a:lnTo>
                  <a:lnTo>
                    <a:pt x="54" y="24"/>
                  </a:lnTo>
                  <a:lnTo>
                    <a:pt x="54" y="22"/>
                  </a:lnTo>
                  <a:lnTo>
                    <a:pt x="53" y="22"/>
                  </a:lnTo>
                  <a:lnTo>
                    <a:pt x="53" y="20"/>
                  </a:lnTo>
                  <a:lnTo>
                    <a:pt x="51" y="20"/>
                  </a:lnTo>
                  <a:lnTo>
                    <a:pt x="51" y="20"/>
                  </a:lnTo>
                  <a:lnTo>
                    <a:pt x="51" y="20"/>
                  </a:lnTo>
                  <a:lnTo>
                    <a:pt x="51" y="18"/>
                  </a:lnTo>
                  <a:lnTo>
                    <a:pt x="49" y="18"/>
                  </a:lnTo>
                  <a:lnTo>
                    <a:pt x="49" y="18"/>
                  </a:lnTo>
                  <a:lnTo>
                    <a:pt x="47" y="18"/>
                  </a:lnTo>
                  <a:lnTo>
                    <a:pt x="47" y="16"/>
                  </a:lnTo>
                  <a:lnTo>
                    <a:pt x="45" y="16"/>
                  </a:lnTo>
                  <a:lnTo>
                    <a:pt x="43" y="15"/>
                  </a:lnTo>
                  <a:lnTo>
                    <a:pt x="41" y="15"/>
                  </a:lnTo>
                  <a:lnTo>
                    <a:pt x="41" y="13"/>
                  </a:lnTo>
                  <a:lnTo>
                    <a:pt x="39" y="13"/>
                  </a:lnTo>
                  <a:lnTo>
                    <a:pt x="37" y="13"/>
                  </a:lnTo>
                  <a:lnTo>
                    <a:pt x="35" y="13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30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9" y="7"/>
                  </a:lnTo>
                  <a:lnTo>
                    <a:pt x="7" y="7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899560" y="4246560"/>
              <a:ext cx="101520" cy="69840"/>
            </a:xfrm>
            <a:custGeom>
              <a:avLst/>
              <a:gdLst/>
              <a:ahLst/>
              <a:rect l="l" t="t" r="r" b="b"/>
              <a:pathLst>
                <a:path w="64" h="44">
                  <a:moveTo>
                    <a:pt x="0" y="1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9" y="16"/>
                  </a:lnTo>
                  <a:lnTo>
                    <a:pt x="11" y="16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7"/>
                  </a:lnTo>
                  <a:lnTo>
                    <a:pt x="9" y="27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9" y="31"/>
                  </a:lnTo>
                  <a:lnTo>
                    <a:pt x="9" y="31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9" y="35"/>
                  </a:lnTo>
                  <a:lnTo>
                    <a:pt x="9" y="35"/>
                  </a:lnTo>
                  <a:lnTo>
                    <a:pt x="9" y="35"/>
                  </a:lnTo>
                  <a:lnTo>
                    <a:pt x="9" y="35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2" y="39"/>
                  </a:lnTo>
                  <a:lnTo>
                    <a:pt x="12" y="41"/>
                  </a:lnTo>
                  <a:lnTo>
                    <a:pt x="14" y="41"/>
                  </a:lnTo>
                  <a:lnTo>
                    <a:pt x="16" y="41"/>
                  </a:lnTo>
                  <a:lnTo>
                    <a:pt x="18" y="41"/>
                  </a:lnTo>
                  <a:lnTo>
                    <a:pt x="18" y="43"/>
                  </a:lnTo>
                  <a:lnTo>
                    <a:pt x="20" y="43"/>
                  </a:lnTo>
                  <a:lnTo>
                    <a:pt x="21" y="43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25" y="43"/>
                  </a:lnTo>
                  <a:lnTo>
                    <a:pt x="27" y="43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30" y="43"/>
                  </a:lnTo>
                  <a:lnTo>
                    <a:pt x="31" y="43"/>
                  </a:lnTo>
                  <a:lnTo>
                    <a:pt x="33" y="43"/>
                  </a:lnTo>
                  <a:lnTo>
                    <a:pt x="35" y="43"/>
                  </a:lnTo>
                  <a:lnTo>
                    <a:pt x="37" y="43"/>
                  </a:lnTo>
                  <a:lnTo>
                    <a:pt x="38" y="43"/>
                  </a:lnTo>
                  <a:lnTo>
                    <a:pt x="40" y="42"/>
                  </a:lnTo>
                  <a:lnTo>
                    <a:pt x="41" y="42"/>
                  </a:lnTo>
                  <a:lnTo>
                    <a:pt x="43" y="42"/>
                  </a:lnTo>
                  <a:lnTo>
                    <a:pt x="45" y="42"/>
                  </a:lnTo>
                  <a:lnTo>
                    <a:pt x="47" y="42"/>
                  </a:lnTo>
                  <a:lnTo>
                    <a:pt x="48" y="42"/>
                  </a:lnTo>
                  <a:lnTo>
                    <a:pt x="49" y="42"/>
                  </a:lnTo>
                  <a:lnTo>
                    <a:pt x="51" y="42"/>
                  </a:lnTo>
                  <a:lnTo>
                    <a:pt x="53" y="41"/>
                  </a:lnTo>
                  <a:lnTo>
                    <a:pt x="53" y="41"/>
                  </a:lnTo>
                  <a:lnTo>
                    <a:pt x="53" y="41"/>
                  </a:lnTo>
                  <a:lnTo>
                    <a:pt x="53" y="41"/>
                  </a:lnTo>
                  <a:lnTo>
                    <a:pt x="55" y="41"/>
                  </a:lnTo>
                  <a:lnTo>
                    <a:pt x="55" y="41"/>
                  </a:lnTo>
                  <a:lnTo>
                    <a:pt x="57" y="41"/>
                  </a:lnTo>
                  <a:lnTo>
                    <a:pt x="57" y="41"/>
                  </a:lnTo>
                  <a:lnTo>
                    <a:pt x="58" y="40"/>
                  </a:lnTo>
                  <a:lnTo>
                    <a:pt x="58" y="40"/>
                  </a:lnTo>
                  <a:lnTo>
                    <a:pt x="59" y="40"/>
                  </a:lnTo>
                  <a:lnTo>
                    <a:pt x="59" y="40"/>
                  </a:lnTo>
                  <a:lnTo>
                    <a:pt x="61" y="40"/>
                  </a:lnTo>
                  <a:lnTo>
                    <a:pt x="61" y="40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63" y="38"/>
                  </a:lnTo>
                  <a:lnTo>
                    <a:pt x="62" y="38"/>
                  </a:lnTo>
                  <a:lnTo>
                    <a:pt x="62" y="36"/>
                  </a:lnTo>
                  <a:lnTo>
                    <a:pt x="60" y="35"/>
                  </a:lnTo>
                  <a:lnTo>
                    <a:pt x="60" y="33"/>
                  </a:lnTo>
                  <a:lnTo>
                    <a:pt x="58" y="32"/>
                  </a:lnTo>
                  <a:lnTo>
                    <a:pt x="57" y="31"/>
                  </a:lnTo>
                  <a:lnTo>
                    <a:pt x="55" y="29"/>
                  </a:lnTo>
                  <a:lnTo>
                    <a:pt x="54" y="27"/>
                  </a:lnTo>
                  <a:lnTo>
                    <a:pt x="51" y="27"/>
                  </a:lnTo>
                  <a:lnTo>
                    <a:pt x="49" y="25"/>
                  </a:lnTo>
                  <a:lnTo>
                    <a:pt x="48" y="23"/>
                  </a:lnTo>
                  <a:lnTo>
                    <a:pt x="46" y="21"/>
                  </a:lnTo>
                  <a:lnTo>
                    <a:pt x="44" y="21"/>
                  </a:lnTo>
                  <a:lnTo>
                    <a:pt x="43" y="19"/>
                  </a:lnTo>
                  <a:lnTo>
                    <a:pt x="41" y="19"/>
                  </a:lnTo>
                  <a:lnTo>
                    <a:pt x="41" y="17"/>
                  </a:lnTo>
                  <a:lnTo>
                    <a:pt x="39" y="17"/>
                  </a:lnTo>
                  <a:lnTo>
                    <a:pt x="38" y="15"/>
                  </a:lnTo>
                  <a:lnTo>
                    <a:pt x="36" y="15"/>
                  </a:lnTo>
                  <a:lnTo>
                    <a:pt x="35" y="13"/>
                  </a:lnTo>
                  <a:lnTo>
                    <a:pt x="33" y="13"/>
                  </a:lnTo>
                  <a:lnTo>
                    <a:pt x="31" y="12"/>
                  </a:lnTo>
                  <a:lnTo>
                    <a:pt x="30" y="10"/>
                  </a:lnTo>
                  <a:lnTo>
                    <a:pt x="30" y="8"/>
                  </a:lnTo>
                  <a:lnTo>
                    <a:pt x="28" y="8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3200400" y="3657600"/>
            <a:ext cx="3038400" cy="115884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78200" y="3517920"/>
            <a:ext cx="1983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914400"/>
            <a:ext cx="8697960" cy="12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Una tecnica válida ( vector de producto neto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7200" y="0"/>
            <a:ext cx="89265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otra tecnica válid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368520" y="3124080"/>
            <a:ext cx="2872080" cy="1675080"/>
          </a:xfrm>
          <a:prstGeom prst="line">
            <a:avLst/>
          </a:prstGeom>
          <a:ln w="3168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57480" y="2965320"/>
            <a:ext cx="2001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0"/>
            <a:ext cx="8393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Y un par más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97320" y="2324160"/>
            <a:ext cx="1998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 flipV="1">
            <a:off x="3657600" y="2590560"/>
            <a:ext cx="2619360" cy="2212920"/>
          </a:xfrm>
          <a:prstGeom prst="line">
            <a:avLst/>
          </a:prstGeom>
          <a:ln w="3168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733920" y="2971800"/>
            <a:ext cx="199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962520" y="3048120"/>
            <a:ext cx="2309760" cy="1731960"/>
          </a:xfrm>
          <a:prstGeom prst="line">
            <a:avLst/>
          </a:prstGeom>
          <a:ln w="4752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0"/>
            <a:ext cx="5261040" cy="25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A3: no se puede revertir el proceso de la maquina de hacer chorizo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6400800" y="5013360"/>
            <a:ext cx="3082680" cy="3106800"/>
            <a:chOff x="6400800" y="5013360"/>
            <a:chExt cx="3082680" cy="3106800"/>
          </a:xfrm>
        </p:grpSpPr>
        <p:sp>
          <p:nvSpPr>
            <p:cNvPr id="397" name=""/>
            <p:cNvSpPr/>
            <p:nvPr/>
          </p:nvSpPr>
          <p:spPr>
            <a:xfrm>
              <a:off x="6400800" y="5013360"/>
              <a:ext cx="3082680" cy="3106800"/>
            </a:xfrm>
            <a:custGeom>
              <a:avLst/>
              <a:gdLst/>
              <a:ahLst/>
              <a:rect l="l" t="t" r="r" b="b"/>
              <a:pathLst>
                <a:path w="1942" h="1957">
                  <a:moveTo>
                    <a:pt x="349" y="858"/>
                  </a:moveTo>
                  <a:lnTo>
                    <a:pt x="345" y="864"/>
                  </a:lnTo>
                  <a:lnTo>
                    <a:pt x="341" y="870"/>
                  </a:lnTo>
                  <a:lnTo>
                    <a:pt x="337" y="875"/>
                  </a:lnTo>
                  <a:lnTo>
                    <a:pt x="333" y="880"/>
                  </a:lnTo>
                  <a:lnTo>
                    <a:pt x="328" y="887"/>
                  </a:lnTo>
                  <a:lnTo>
                    <a:pt x="323" y="893"/>
                  </a:lnTo>
                  <a:lnTo>
                    <a:pt x="317" y="898"/>
                  </a:lnTo>
                  <a:lnTo>
                    <a:pt x="313" y="904"/>
                  </a:lnTo>
                  <a:lnTo>
                    <a:pt x="308" y="912"/>
                  </a:lnTo>
                  <a:lnTo>
                    <a:pt x="302" y="917"/>
                  </a:lnTo>
                  <a:lnTo>
                    <a:pt x="297" y="923"/>
                  </a:lnTo>
                  <a:lnTo>
                    <a:pt x="291" y="928"/>
                  </a:lnTo>
                  <a:lnTo>
                    <a:pt x="286" y="934"/>
                  </a:lnTo>
                  <a:lnTo>
                    <a:pt x="282" y="940"/>
                  </a:lnTo>
                  <a:lnTo>
                    <a:pt x="279" y="945"/>
                  </a:lnTo>
                  <a:lnTo>
                    <a:pt x="276" y="950"/>
                  </a:lnTo>
                  <a:lnTo>
                    <a:pt x="272" y="954"/>
                  </a:lnTo>
                  <a:lnTo>
                    <a:pt x="268" y="959"/>
                  </a:lnTo>
                  <a:lnTo>
                    <a:pt x="262" y="966"/>
                  </a:lnTo>
                  <a:lnTo>
                    <a:pt x="257" y="973"/>
                  </a:lnTo>
                  <a:lnTo>
                    <a:pt x="249" y="982"/>
                  </a:lnTo>
                  <a:lnTo>
                    <a:pt x="242" y="990"/>
                  </a:lnTo>
                  <a:lnTo>
                    <a:pt x="233" y="1000"/>
                  </a:lnTo>
                  <a:lnTo>
                    <a:pt x="225" y="1008"/>
                  </a:lnTo>
                  <a:lnTo>
                    <a:pt x="216" y="1018"/>
                  </a:lnTo>
                  <a:lnTo>
                    <a:pt x="209" y="1028"/>
                  </a:lnTo>
                  <a:lnTo>
                    <a:pt x="201" y="1037"/>
                  </a:lnTo>
                  <a:lnTo>
                    <a:pt x="194" y="1044"/>
                  </a:lnTo>
                  <a:lnTo>
                    <a:pt x="188" y="1052"/>
                  </a:lnTo>
                  <a:lnTo>
                    <a:pt x="183" y="1058"/>
                  </a:lnTo>
                  <a:lnTo>
                    <a:pt x="179" y="1063"/>
                  </a:lnTo>
                  <a:lnTo>
                    <a:pt x="177" y="1066"/>
                  </a:lnTo>
                  <a:lnTo>
                    <a:pt x="172" y="1072"/>
                  </a:lnTo>
                  <a:lnTo>
                    <a:pt x="167" y="1079"/>
                  </a:lnTo>
                  <a:lnTo>
                    <a:pt x="161" y="1088"/>
                  </a:lnTo>
                  <a:lnTo>
                    <a:pt x="154" y="1097"/>
                  </a:lnTo>
                  <a:lnTo>
                    <a:pt x="146" y="1108"/>
                  </a:lnTo>
                  <a:lnTo>
                    <a:pt x="139" y="1119"/>
                  </a:lnTo>
                  <a:lnTo>
                    <a:pt x="131" y="1132"/>
                  </a:lnTo>
                  <a:lnTo>
                    <a:pt x="123" y="1144"/>
                  </a:lnTo>
                  <a:lnTo>
                    <a:pt x="114" y="1157"/>
                  </a:lnTo>
                  <a:lnTo>
                    <a:pt x="107" y="1169"/>
                  </a:lnTo>
                  <a:lnTo>
                    <a:pt x="99" y="1180"/>
                  </a:lnTo>
                  <a:lnTo>
                    <a:pt x="94" y="1191"/>
                  </a:lnTo>
                  <a:lnTo>
                    <a:pt x="88" y="1201"/>
                  </a:lnTo>
                  <a:lnTo>
                    <a:pt x="85" y="1210"/>
                  </a:lnTo>
                  <a:lnTo>
                    <a:pt x="82" y="1217"/>
                  </a:lnTo>
                  <a:lnTo>
                    <a:pt x="82" y="1221"/>
                  </a:lnTo>
                  <a:lnTo>
                    <a:pt x="82" y="1223"/>
                  </a:lnTo>
                  <a:lnTo>
                    <a:pt x="82" y="1224"/>
                  </a:lnTo>
                  <a:lnTo>
                    <a:pt x="82" y="1226"/>
                  </a:lnTo>
                  <a:lnTo>
                    <a:pt x="83" y="1228"/>
                  </a:lnTo>
                  <a:lnTo>
                    <a:pt x="83" y="1232"/>
                  </a:lnTo>
                  <a:lnTo>
                    <a:pt x="83" y="1234"/>
                  </a:lnTo>
                  <a:lnTo>
                    <a:pt x="83" y="1235"/>
                  </a:lnTo>
                  <a:lnTo>
                    <a:pt x="85" y="1237"/>
                  </a:lnTo>
                  <a:lnTo>
                    <a:pt x="85" y="1241"/>
                  </a:lnTo>
                  <a:lnTo>
                    <a:pt x="85" y="1243"/>
                  </a:lnTo>
                  <a:lnTo>
                    <a:pt x="85" y="1245"/>
                  </a:lnTo>
                  <a:lnTo>
                    <a:pt x="85" y="1247"/>
                  </a:lnTo>
                  <a:lnTo>
                    <a:pt x="84" y="1249"/>
                  </a:lnTo>
                  <a:lnTo>
                    <a:pt x="84" y="1251"/>
                  </a:lnTo>
                  <a:lnTo>
                    <a:pt x="83" y="1253"/>
                  </a:lnTo>
                  <a:lnTo>
                    <a:pt x="83" y="1253"/>
                  </a:lnTo>
                  <a:lnTo>
                    <a:pt x="80" y="1258"/>
                  </a:lnTo>
                  <a:lnTo>
                    <a:pt x="77" y="1263"/>
                  </a:lnTo>
                  <a:lnTo>
                    <a:pt x="74" y="1270"/>
                  </a:lnTo>
                  <a:lnTo>
                    <a:pt x="71" y="1277"/>
                  </a:lnTo>
                  <a:lnTo>
                    <a:pt x="67" y="1286"/>
                  </a:lnTo>
                  <a:lnTo>
                    <a:pt x="63" y="1296"/>
                  </a:lnTo>
                  <a:lnTo>
                    <a:pt x="59" y="1306"/>
                  </a:lnTo>
                  <a:lnTo>
                    <a:pt x="56" y="1315"/>
                  </a:lnTo>
                  <a:lnTo>
                    <a:pt x="51" y="1326"/>
                  </a:lnTo>
                  <a:lnTo>
                    <a:pt x="47" y="1336"/>
                  </a:lnTo>
                  <a:lnTo>
                    <a:pt x="44" y="1345"/>
                  </a:lnTo>
                  <a:lnTo>
                    <a:pt x="41" y="1353"/>
                  </a:lnTo>
                  <a:lnTo>
                    <a:pt x="38" y="1361"/>
                  </a:lnTo>
                  <a:lnTo>
                    <a:pt x="36" y="1366"/>
                  </a:lnTo>
                  <a:lnTo>
                    <a:pt x="35" y="1370"/>
                  </a:lnTo>
                  <a:lnTo>
                    <a:pt x="35" y="1374"/>
                  </a:lnTo>
                  <a:lnTo>
                    <a:pt x="33" y="1377"/>
                  </a:lnTo>
                  <a:lnTo>
                    <a:pt x="32" y="1382"/>
                  </a:lnTo>
                  <a:lnTo>
                    <a:pt x="29" y="1388"/>
                  </a:lnTo>
                  <a:lnTo>
                    <a:pt x="28" y="1395"/>
                  </a:lnTo>
                  <a:lnTo>
                    <a:pt x="24" y="1403"/>
                  </a:lnTo>
                  <a:lnTo>
                    <a:pt x="22" y="1412"/>
                  </a:lnTo>
                  <a:lnTo>
                    <a:pt x="19" y="1421"/>
                  </a:lnTo>
                  <a:lnTo>
                    <a:pt x="17" y="1431"/>
                  </a:lnTo>
                  <a:lnTo>
                    <a:pt x="13" y="1440"/>
                  </a:lnTo>
                  <a:lnTo>
                    <a:pt x="10" y="1450"/>
                  </a:lnTo>
                  <a:lnTo>
                    <a:pt x="7" y="1457"/>
                  </a:lnTo>
                  <a:lnTo>
                    <a:pt x="5" y="1466"/>
                  </a:lnTo>
                  <a:lnTo>
                    <a:pt x="3" y="1472"/>
                  </a:lnTo>
                  <a:lnTo>
                    <a:pt x="1" y="1478"/>
                  </a:lnTo>
                  <a:lnTo>
                    <a:pt x="0" y="1482"/>
                  </a:lnTo>
                  <a:lnTo>
                    <a:pt x="0" y="1486"/>
                  </a:lnTo>
                  <a:lnTo>
                    <a:pt x="0" y="1487"/>
                  </a:lnTo>
                  <a:lnTo>
                    <a:pt x="1" y="1490"/>
                  </a:lnTo>
                  <a:lnTo>
                    <a:pt x="3" y="1494"/>
                  </a:lnTo>
                  <a:lnTo>
                    <a:pt x="7" y="1499"/>
                  </a:lnTo>
                  <a:lnTo>
                    <a:pt x="11" y="1503"/>
                  </a:lnTo>
                  <a:lnTo>
                    <a:pt x="15" y="1509"/>
                  </a:lnTo>
                  <a:lnTo>
                    <a:pt x="21" y="1514"/>
                  </a:lnTo>
                  <a:lnTo>
                    <a:pt x="28" y="1521"/>
                  </a:lnTo>
                  <a:lnTo>
                    <a:pt x="34" y="1527"/>
                  </a:lnTo>
                  <a:lnTo>
                    <a:pt x="41" y="1532"/>
                  </a:lnTo>
                  <a:lnTo>
                    <a:pt x="50" y="1538"/>
                  </a:lnTo>
                  <a:lnTo>
                    <a:pt x="59" y="1544"/>
                  </a:lnTo>
                  <a:lnTo>
                    <a:pt x="69" y="1548"/>
                  </a:lnTo>
                  <a:lnTo>
                    <a:pt x="79" y="1553"/>
                  </a:lnTo>
                  <a:lnTo>
                    <a:pt x="91" y="1557"/>
                  </a:lnTo>
                  <a:lnTo>
                    <a:pt x="103" y="1560"/>
                  </a:lnTo>
                  <a:lnTo>
                    <a:pt x="104" y="1559"/>
                  </a:lnTo>
                  <a:lnTo>
                    <a:pt x="106" y="1558"/>
                  </a:lnTo>
                  <a:lnTo>
                    <a:pt x="107" y="1555"/>
                  </a:lnTo>
                  <a:lnTo>
                    <a:pt x="110" y="1553"/>
                  </a:lnTo>
                  <a:lnTo>
                    <a:pt x="112" y="1549"/>
                  </a:lnTo>
                  <a:lnTo>
                    <a:pt x="115" y="1546"/>
                  </a:lnTo>
                  <a:lnTo>
                    <a:pt x="117" y="1541"/>
                  </a:lnTo>
                  <a:lnTo>
                    <a:pt x="121" y="1538"/>
                  </a:lnTo>
                  <a:lnTo>
                    <a:pt x="123" y="1532"/>
                  </a:lnTo>
                  <a:lnTo>
                    <a:pt x="127" y="1528"/>
                  </a:lnTo>
                  <a:lnTo>
                    <a:pt x="129" y="1523"/>
                  </a:lnTo>
                  <a:lnTo>
                    <a:pt x="133" y="1519"/>
                  </a:lnTo>
                  <a:lnTo>
                    <a:pt x="134" y="1515"/>
                  </a:lnTo>
                  <a:lnTo>
                    <a:pt x="137" y="1511"/>
                  </a:lnTo>
                  <a:lnTo>
                    <a:pt x="139" y="1509"/>
                  </a:lnTo>
                  <a:lnTo>
                    <a:pt x="142" y="1507"/>
                  </a:lnTo>
                  <a:lnTo>
                    <a:pt x="143" y="1502"/>
                  </a:lnTo>
                  <a:lnTo>
                    <a:pt x="145" y="1499"/>
                  </a:lnTo>
                  <a:lnTo>
                    <a:pt x="149" y="1493"/>
                  </a:lnTo>
                  <a:lnTo>
                    <a:pt x="154" y="1489"/>
                  </a:lnTo>
                  <a:lnTo>
                    <a:pt x="157" y="1482"/>
                  </a:lnTo>
                  <a:lnTo>
                    <a:pt x="163" y="1476"/>
                  </a:lnTo>
                  <a:lnTo>
                    <a:pt x="167" y="1469"/>
                  </a:lnTo>
                  <a:lnTo>
                    <a:pt x="173" y="1464"/>
                  </a:lnTo>
                  <a:lnTo>
                    <a:pt x="177" y="1456"/>
                  </a:lnTo>
                  <a:lnTo>
                    <a:pt x="182" y="1451"/>
                  </a:lnTo>
                  <a:lnTo>
                    <a:pt x="187" y="1444"/>
                  </a:lnTo>
                  <a:lnTo>
                    <a:pt x="193" y="1439"/>
                  </a:lnTo>
                  <a:lnTo>
                    <a:pt x="197" y="1433"/>
                  </a:lnTo>
                  <a:lnTo>
                    <a:pt x="201" y="1429"/>
                  </a:lnTo>
                  <a:lnTo>
                    <a:pt x="203" y="1425"/>
                  </a:lnTo>
                  <a:lnTo>
                    <a:pt x="207" y="1422"/>
                  </a:lnTo>
                  <a:lnTo>
                    <a:pt x="210" y="1417"/>
                  </a:lnTo>
                  <a:lnTo>
                    <a:pt x="213" y="1411"/>
                  </a:lnTo>
                  <a:lnTo>
                    <a:pt x="219" y="1404"/>
                  </a:lnTo>
                  <a:lnTo>
                    <a:pt x="224" y="1399"/>
                  </a:lnTo>
                  <a:lnTo>
                    <a:pt x="230" y="1391"/>
                  </a:lnTo>
                  <a:lnTo>
                    <a:pt x="237" y="1384"/>
                  </a:lnTo>
                  <a:lnTo>
                    <a:pt x="243" y="1376"/>
                  </a:lnTo>
                  <a:lnTo>
                    <a:pt x="251" y="1370"/>
                  </a:lnTo>
                  <a:lnTo>
                    <a:pt x="257" y="1363"/>
                  </a:lnTo>
                  <a:lnTo>
                    <a:pt x="264" y="1356"/>
                  </a:lnTo>
                  <a:lnTo>
                    <a:pt x="270" y="1350"/>
                  </a:lnTo>
                  <a:lnTo>
                    <a:pt x="278" y="1342"/>
                  </a:lnTo>
                  <a:lnTo>
                    <a:pt x="283" y="1337"/>
                  </a:lnTo>
                  <a:lnTo>
                    <a:pt x="289" y="1332"/>
                  </a:lnTo>
                  <a:lnTo>
                    <a:pt x="293" y="1328"/>
                  </a:lnTo>
                  <a:lnTo>
                    <a:pt x="299" y="1324"/>
                  </a:lnTo>
                  <a:lnTo>
                    <a:pt x="301" y="1322"/>
                  </a:lnTo>
                  <a:lnTo>
                    <a:pt x="307" y="1317"/>
                  </a:lnTo>
                  <a:lnTo>
                    <a:pt x="313" y="1311"/>
                  </a:lnTo>
                  <a:lnTo>
                    <a:pt x="323" y="1302"/>
                  </a:lnTo>
                  <a:lnTo>
                    <a:pt x="332" y="1292"/>
                  </a:lnTo>
                  <a:lnTo>
                    <a:pt x="343" y="1280"/>
                  </a:lnTo>
                  <a:lnTo>
                    <a:pt x="355" y="1268"/>
                  </a:lnTo>
                  <a:lnTo>
                    <a:pt x="367" y="1255"/>
                  </a:lnTo>
                  <a:lnTo>
                    <a:pt x="378" y="1244"/>
                  </a:lnTo>
                  <a:lnTo>
                    <a:pt x="389" y="1232"/>
                  </a:lnTo>
                  <a:lnTo>
                    <a:pt x="400" y="1221"/>
                  </a:lnTo>
                  <a:lnTo>
                    <a:pt x="411" y="1210"/>
                  </a:lnTo>
                  <a:lnTo>
                    <a:pt x="419" y="1202"/>
                  </a:lnTo>
                  <a:lnTo>
                    <a:pt x="426" y="1194"/>
                  </a:lnTo>
                  <a:lnTo>
                    <a:pt x="431" y="1189"/>
                  </a:lnTo>
                  <a:lnTo>
                    <a:pt x="435" y="1186"/>
                  </a:lnTo>
                  <a:lnTo>
                    <a:pt x="436" y="1184"/>
                  </a:lnTo>
                  <a:lnTo>
                    <a:pt x="441" y="1182"/>
                  </a:lnTo>
                  <a:lnTo>
                    <a:pt x="446" y="1179"/>
                  </a:lnTo>
                  <a:lnTo>
                    <a:pt x="453" y="1176"/>
                  </a:lnTo>
                  <a:lnTo>
                    <a:pt x="461" y="1172"/>
                  </a:lnTo>
                  <a:lnTo>
                    <a:pt x="469" y="1167"/>
                  </a:lnTo>
                  <a:lnTo>
                    <a:pt x="478" y="1163"/>
                  </a:lnTo>
                  <a:lnTo>
                    <a:pt x="487" y="1157"/>
                  </a:lnTo>
                  <a:lnTo>
                    <a:pt x="495" y="1154"/>
                  </a:lnTo>
                  <a:lnTo>
                    <a:pt x="504" y="1149"/>
                  </a:lnTo>
                  <a:lnTo>
                    <a:pt x="512" y="1145"/>
                  </a:lnTo>
                  <a:lnTo>
                    <a:pt x="521" y="1140"/>
                  </a:lnTo>
                  <a:lnTo>
                    <a:pt x="526" y="1137"/>
                  </a:lnTo>
                  <a:lnTo>
                    <a:pt x="531" y="1133"/>
                  </a:lnTo>
                  <a:lnTo>
                    <a:pt x="534" y="1131"/>
                  </a:lnTo>
                  <a:lnTo>
                    <a:pt x="537" y="1128"/>
                  </a:lnTo>
                  <a:lnTo>
                    <a:pt x="537" y="1128"/>
                  </a:lnTo>
                  <a:lnTo>
                    <a:pt x="540" y="1126"/>
                  </a:lnTo>
                  <a:lnTo>
                    <a:pt x="544" y="1123"/>
                  </a:lnTo>
                  <a:lnTo>
                    <a:pt x="549" y="1119"/>
                  </a:lnTo>
                  <a:lnTo>
                    <a:pt x="555" y="1116"/>
                  </a:lnTo>
                  <a:lnTo>
                    <a:pt x="562" y="1111"/>
                  </a:lnTo>
                  <a:lnTo>
                    <a:pt x="569" y="1108"/>
                  </a:lnTo>
                  <a:lnTo>
                    <a:pt x="577" y="1102"/>
                  </a:lnTo>
                  <a:lnTo>
                    <a:pt x="583" y="1098"/>
                  </a:lnTo>
                  <a:lnTo>
                    <a:pt x="591" y="1094"/>
                  </a:lnTo>
                  <a:lnTo>
                    <a:pt x="597" y="1090"/>
                  </a:lnTo>
                  <a:lnTo>
                    <a:pt x="603" y="1086"/>
                  </a:lnTo>
                  <a:lnTo>
                    <a:pt x="608" y="1083"/>
                  </a:lnTo>
                  <a:lnTo>
                    <a:pt x="612" y="1079"/>
                  </a:lnTo>
                  <a:lnTo>
                    <a:pt x="615" y="1078"/>
                  </a:lnTo>
                  <a:lnTo>
                    <a:pt x="617" y="1076"/>
                  </a:lnTo>
                  <a:lnTo>
                    <a:pt x="617" y="1075"/>
                  </a:lnTo>
                  <a:lnTo>
                    <a:pt x="617" y="1072"/>
                  </a:lnTo>
                  <a:lnTo>
                    <a:pt x="617" y="1070"/>
                  </a:lnTo>
                  <a:lnTo>
                    <a:pt x="617" y="1064"/>
                  </a:lnTo>
                  <a:lnTo>
                    <a:pt x="616" y="1060"/>
                  </a:lnTo>
                  <a:lnTo>
                    <a:pt x="616" y="1054"/>
                  </a:lnTo>
                  <a:lnTo>
                    <a:pt x="616" y="1048"/>
                  </a:lnTo>
                  <a:lnTo>
                    <a:pt x="616" y="1041"/>
                  </a:lnTo>
                  <a:lnTo>
                    <a:pt x="615" y="1035"/>
                  </a:lnTo>
                  <a:lnTo>
                    <a:pt x="615" y="1030"/>
                  </a:lnTo>
                  <a:lnTo>
                    <a:pt x="615" y="1024"/>
                  </a:lnTo>
                  <a:lnTo>
                    <a:pt x="615" y="1019"/>
                  </a:lnTo>
                  <a:lnTo>
                    <a:pt x="615" y="1015"/>
                  </a:lnTo>
                  <a:lnTo>
                    <a:pt x="615" y="1011"/>
                  </a:lnTo>
                  <a:lnTo>
                    <a:pt x="615" y="1010"/>
                  </a:lnTo>
                  <a:lnTo>
                    <a:pt x="615" y="1008"/>
                  </a:lnTo>
                  <a:lnTo>
                    <a:pt x="619" y="1008"/>
                  </a:lnTo>
                  <a:lnTo>
                    <a:pt x="627" y="1004"/>
                  </a:lnTo>
                  <a:lnTo>
                    <a:pt x="637" y="998"/>
                  </a:lnTo>
                  <a:lnTo>
                    <a:pt x="650" y="990"/>
                  </a:lnTo>
                  <a:lnTo>
                    <a:pt x="665" y="980"/>
                  </a:lnTo>
                  <a:lnTo>
                    <a:pt x="680" y="968"/>
                  </a:lnTo>
                  <a:lnTo>
                    <a:pt x="697" y="956"/>
                  </a:lnTo>
                  <a:lnTo>
                    <a:pt x="715" y="943"/>
                  </a:lnTo>
                  <a:lnTo>
                    <a:pt x="731" y="931"/>
                  </a:lnTo>
                  <a:lnTo>
                    <a:pt x="747" y="918"/>
                  </a:lnTo>
                  <a:lnTo>
                    <a:pt x="762" y="906"/>
                  </a:lnTo>
                  <a:lnTo>
                    <a:pt x="777" y="895"/>
                  </a:lnTo>
                  <a:lnTo>
                    <a:pt x="787" y="887"/>
                  </a:lnTo>
                  <a:lnTo>
                    <a:pt x="796" y="880"/>
                  </a:lnTo>
                  <a:lnTo>
                    <a:pt x="802" y="875"/>
                  </a:lnTo>
                  <a:lnTo>
                    <a:pt x="805" y="874"/>
                  </a:lnTo>
                  <a:lnTo>
                    <a:pt x="809" y="876"/>
                  </a:lnTo>
                  <a:lnTo>
                    <a:pt x="817" y="882"/>
                  </a:lnTo>
                  <a:lnTo>
                    <a:pt x="826" y="892"/>
                  </a:lnTo>
                  <a:lnTo>
                    <a:pt x="837" y="905"/>
                  </a:lnTo>
                  <a:lnTo>
                    <a:pt x="849" y="921"/>
                  </a:lnTo>
                  <a:lnTo>
                    <a:pt x="863" y="938"/>
                  </a:lnTo>
                  <a:lnTo>
                    <a:pt x="876" y="958"/>
                  </a:lnTo>
                  <a:lnTo>
                    <a:pt x="891" y="977"/>
                  </a:lnTo>
                  <a:lnTo>
                    <a:pt x="904" y="998"/>
                  </a:lnTo>
                  <a:lnTo>
                    <a:pt x="917" y="1017"/>
                  </a:lnTo>
                  <a:lnTo>
                    <a:pt x="929" y="1036"/>
                  </a:lnTo>
                  <a:lnTo>
                    <a:pt x="941" y="1051"/>
                  </a:lnTo>
                  <a:lnTo>
                    <a:pt x="951" y="1066"/>
                  </a:lnTo>
                  <a:lnTo>
                    <a:pt x="959" y="1077"/>
                  </a:lnTo>
                  <a:lnTo>
                    <a:pt x="965" y="1084"/>
                  </a:lnTo>
                  <a:lnTo>
                    <a:pt x="969" y="1088"/>
                  </a:lnTo>
                  <a:lnTo>
                    <a:pt x="971" y="1089"/>
                  </a:lnTo>
                  <a:lnTo>
                    <a:pt x="974" y="1091"/>
                  </a:lnTo>
                  <a:lnTo>
                    <a:pt x="977" y="1092"/>
                  </a:lnTo>
                  <a:lnTo>
                    <a:pt x="981" y="1094"/>
                  </a:lnTo>
                  <a:lnTo>
                    <a:pt x="985" y="1098"/>
                  </a:lnTo>
                  <a:lnTo>
                    <a:pt x="990" y="1099"/>
                  </a:lnTo>
                  <a:lnTo>
                    <a:pt x="994" y="1101"/>
                  </a:lnTo>
                  <a:lnTo>
                    <a:pt x="1000" y="1103"/>
                  </a:lnTo>
                  <a:lnTo>
                    <a:pt x="1003" y="1106"/>
                  </a:lnTo>
                  <a:lnTo>
                    <a:pt x="1009" y="1108"/>
                  </a:lnTo>
                  <a:lnTo>
                    <a:pt x="1012" y="1110"/>
                  </a:lnTo>
                  <a:lnTo>
                    <a:pt x="1017" y="1112"/>
                  </a:lnTo>
                  <a:lnTo>
                    <a:pt x="1020" y="1114"/>
                  </a:lnTo>
                  <a:lnTo>
                    <a:pt x="1023" y="1116"/>
                  </a:lnTo>
                  <a:lnTo>
                    <a:pt x="1025" y="1117"/>
                  </a:lnTo>
                  <a:lnTo>
                    <a:pt x="1027" y="1117"/>
                  </a:lnTo>
                  <a:lnTo>
                    <a:pt x="1030" y="1120"/>
                  </a:lnTo>
                  <a:lnTo>
                    <a:pt x="1034" y="1122"/>
                  </a:lnTo>
                  <a:lnTo>
                    <a:pt x="1038" y="1126"/>
                  </a:lnTo>
                  <a:lnTo>
                    <a:pt x="1042" y="1130"/>
                  </a:lnTo>
                  <a:lnTo>
                    <a:pt x="1045" y="1136"/>
                  </a:lnTo>
                  <a:lnTo>
                    <a:pt x="1049" y="1140"/>
                  </a:lnTo>
                  <a:lnTo>
                    <a:pt x="1053" y="1146"/>
                  </a:lnTo>
                  <a:lnTo>
                    <a:pt x="1057" y="1149"/>
                  </a:lnTo>
                  <a:lnTo>
                    <a:pt x="1060" y="1155"/>
                  </a:lnTo>
                  <a:lnTo>
                    <a:pt x="1063" y="1160"/>
                  </a:lnTo>
                  <a:lnTo>
                    <a:pt x="1067" y="1166"/>
                  </a:lnTo>
                  <a:lnTo>
                    <a:pt x="1071" y="1170"/>
                  </a:lnTo>
                  <a:lnTo>
                    <a:pt x="1073" y="1176"/>
                  </a:lnTo>
                  <a:lnTo>
                    <a:pt x="1077" y="1180"/>
                  </a:lnTo>
                  <a:lnTo>
                    <a:pt x="1080" y="1184"/>
                  </a:lnTo>
                  <a:lnTo>
                    <a:pt x="1084" y="1186"/>
                  </a:lnTo>
                  <a:lnTo>
                    <a:pt x="1084" y="1188"/>
                  </a:lnTo>
                  <a:lnTo>
                    <a:pt x="1086" y="1190"/>
                  </a:lnTo>
                  <a:lnTo>
                    <a:pt x="1087" y="1193"/>
                  </a:lnTo>
                  <a:lnTo>
                    <a:pt x="1089" y="1195"/>
                  </a:lnTo>
                  <a:lnTo>
                    <a:pt x="1089" y="1198"/>
                  </a:lnTo>
                  <a:lnTo>
                    <a:pt x="1090" y="1200"/>
                  </a:lnTo>
                  <a:lnTo>
                    <a:pt x="1091" y="1204"/>
                  </a:lnTo>
                  <a:lnTo>
                    <a:pt x="1093" y="1206"/>
                  </a:lnTo>
                  <a:lnTo>
                    <a:pt x="1093" y="1209"/>
                  </a:lnTo>
                  <a:lnTo>
                    <a:pt x="1095" y="1212"/>
                  </a:lnTo>
                  <a:lnTo>
                    <a:pt x="1095" y="1216"/>
                  </a:lnTo>
                  <a:lnTo>
                    <a:pt x="1097" y="1217"/>
                  </a:lnTo>
                  <a:lnTo>
                    <a:pt x="1097" y="1220"/>
                  </a:lnTo>
                  <a:lnTo>
                    <a:pt x="1099" y="1222"/>
                  </a:lnTo>
                  <a:lnTo>
                    <a:pt x="1099" y="1224"/>
                  </a:lnTo>
                  <a:lnTo>
                    <a:pt x="1101" y="1226"/>
                  </a:lnTo>
                  <a:lnTo>
                    <a:pt x="1101" y="1229"/>
                  </a:lnTo>
                  <a:lnTo>
                    <a:pt x="1105" y="1233"/>
                  </a:lnTo>
                  <a:lnTo>
                    <a:pt x="1109" y="1239"/>
                  </a:lnTo>
                  <a:lnTo>
                    <a:pt x="1115" y="1245"/>
                  </a:lnTo>
                  <a:lnTo>
                    <a:pt x="1121" y="1254"/>
                  </a:lnTo>
                  <a:lnTo>
                    <a:pt x="1129" y="1262"/>
                  </a:lnTo>
                  <a:lnTo>
                    <a:pt x="1137" y="1271"/>
                  </a:lnTo>
                  <a:lnTo>
                    <a:pt x="1146" y="1279"/>
                  </a:lnTo>
                  <a:lnTo>
                    <a:pt x="1153" y="1289"/>
                  </a:lnTo>
                  <a:lnTo>
                    <a:pt x="1162" y="1298"/>
                  </a:lnTo>
                  <a:lnTo>
                    <a:pt x="1169" y="1308"/>
                  </a:lnTo>
                  <a:lnTo>
                    <a:pt x="1178" y="1315"/>
                  </a:lnTo>
                  <a:lnTo>
                    <a:pt x="1183" y="1323"/>
                  </a:lnTo>
                  <a:lnTo>
                    <a:pt x="1189" y="1329"/>
                  </a:lnTo>
                  <a:lnTo>
                    <a:pt x="1194" y="1334"/>
                  </a:lnTo>
                  <a:lnTo>
                    <a:pt x="1198" y="1337"/>
                  </a:lnTo>
                  <a:lnTo>
                    <a:pt x="1198" y="1339"/>
                  </a:lnTo>
                  <a:lnTo>
                    <a:pt x="1199" y="1340"/>
                  </a:lnTo>
                  <a:lnTo>
                    <a:pt x="1199" y="1342"/>
                  </a:lnTo>
                  <a:lnTo>
                    <a:pt x="1201" y="1343"/>
                  </a:lnTo>
                  <a:lnTo>
                    <a:pt x="1201" y="1346"/>
                  </a:lnTo>
                  <a:lnTo>
                    <a:pt x="1203" y="1348"/>
                  </a:lnTo>
                  <a:lnTo>
                    <a:pt x="1203" y="1350"/>
                  </a:lnTo>
                  <a:lnTo>
                    <a:pt x="1205" y="1352"/>
                  </a:lnTo>
                  <a:lnTo>
                    <a:pt x="1205" y="1355"/>
                  </a:lnTo>
                  <a:lnTo>
                    <a:pt x="1207" y="1357"/>
                  </a:lnTo>
                  <a:lnTo>
                    <a:pt x="1207" y="1359"/>
                  </a:lnTo>
                  <a:lnTo>
                    <a:pt x="1209" y="1361"/>
                  </a:lnTo>
                  <a:lnTo>
                    <a:pt x="1209" y="1363"/>
                  </a:lnTo>
                  <a:lnTo>
                    <a:pt x="1211" y="1364"/>
                  </a:lnTo>
                  <a:lnTo>
                    <a:pt x="1213" y="1366"/>
                  </a:lnTo>
                  <a:lnTo>
                    <a:pt x="1215" y="1366"/>
                  </a:lnTo>
                  <a:lnTo>
                    <a:pt x="1215" y="1366"/>
                  </a:lnTo>
                  <a:lnTo>
                    <a:pt x="1217" y="1367"/>
                  </a:lnTo>
                  <a:lnTo>
                    <a:pt x="1219" y="1368"/>
                  </a:lnTo>
                  <a:lnTo>
                    <a:pt x="1221" y="1370"/>
                  </a:lnTo>
                  <a:lnTo>
                    <a:pt x="1223" y="1370"/>
                  </a:lnTo>
                  <a:lnTo>
                    <a:pt x="1225" y="1372"/>
                  </a:lnTo>
                  <a:lnTo>
                    <a:pt x="1226" y="1373"/>
                  </a:lnTo>
                  <a:lnTo>
                    <a:pt x="1229" y="1375"/>
                  </a:lnTo>
                  <a:lnTo>
                    <a:pt x="1231" y="1375"/>
                  </a:lnTo>
                  <a:lnTo>
                    <a:pt x="1233" y="1377"/>
                  </a:lnTo>
                  <a:lnTo>
                    <a:pt x="1235" y="1378"/>
                  </a:lnTo>
                  <a:lnTo>
                    <a:pt x="1237" y="1380"/>
                  </a:lnTo>
                  <a:lnTo>
                    <a:pt x="1239" y="1380"/>
                  </a:lnTo>
                  <a:lnTo>
                    <a:pt x="1241" y="1382"/>
                  </a:lnTo>
                  <a:lnTo>
                    <a:pt x="1243" y="1382"/>
                  </a:lnTo>
                  <a:lnTo>
                    <a:pt x="1246" y="1383"/>
                  </a:lnTo>
                  <a:lnTo>
                    <a:pt x="1247" y="1382"/>
                  </a:lnTo>
                  <a:lnTo>
                    <a:pt x="1249" y="1382"/>
                  </a:lnTo>
                  <a:lnTo>
                    <a:pt x="1251" y="1381"/>
                  </a:lnTo>
                  <a:lnTo>
                    <a:pt x="1255" y="1381"/>
                  </a:lnTo>
                  <a:lnTo>
                    <a:pt x="1257" y="1379"/>
                  </a:lnTo>
                  <a:lnTo>
                    <a:pt x="1261" y="1379"/>
                  </a:lnTo>
                  <a:lnTo>
                    <a:pt x="1264" y="1378"/>
                  </a:lnTo>
                  <a:lnTo>
                    <a:pt x="1268" y="1378"/>
                  </a:lnTo>
                  <a:lnTo>
                    <a:pt x="1270" y="1376"/>
                  </a:lnTo>
                  <a:lnTo>
                    <a:pt x="1274" y="1376"/>
                  </a:lnTo>
                  <a:lnTo>
                    <a:pt x="1276" y="1374"/>
                  </a:lnTo>
                  <a:lnTo>
                    <a:pt x="1280" y="1374"/>
                  </a:lnTo>
                  <a:lnTo>
                    <a:pt x="1282" y="1373"/>
                  </a:lnTo>
                  <a:lnTo>
                    <a:pt x="1284" y="1373"/>
                  </a:lnTo>
                  <a:lnTo>
                    <a:pt x="1285" y="1373"/>
                  </a:lnTo>
                  <a:lnTo>
                    <a:pt x="1286" y="1373"/>
                  </a:lnTo>
                  <a:lnTo>
                    <a:pt x="1288" y="1374"/>
                  </a:lnTo>
                  <a:lnTo>
                    <a:pt x="1291" y="1376"/>
                  </a:lnTo>
                  <a:lnTo>
                    <a:pt x="1293" y="1378"/>
                  </a:lnTo>
                  <a:lnTo>
                    <a:pt x="1297" y="1382"/>
                  </a:lnTo>
                  <a:lnTo>
                    <a:pt x="1301" y="1384"/>
                  </a:lnTo>
                  <a:lnTo>
                    <a:pt x="1304" y="1386"/>
                  </a:lnTo>
                  <a:lnTo>
                    <a:pt x="1308" y="1388"/>
                  </a:lnTo>
                  <a:lnTo>
                    <a:pt x="1313" y="1392"/>
                  </a:lnTo>
                  <a:lnTo>
                    <a:pt x="1317" y="1394"/>
                  </a:lnTo>
                  <a:lnTo>
                    <a:pt x="1321" y="1396"/>
                  </a:lnTo>
                  <a:lnTo>
                    <a:pt x="1324" y="1398"/>
                  </a:lnTo>
                  <a:lnTo>
                    <a:pt x="1330" y="1401"/>
                  </a:lnTo>
                  <a:lnTo>
                    <a:pt x="1334" y="1403"/>
                  </a:lnTo>
                  <a:lnTo>
                    <a:pt x="1337" y="1406"/>
                  </a:lnTo>
                  <a:lnTo>
                    <a:pt x="1341" y="1408"/>
                  </a:lnTo>
                  <a:lnTo>
                    <a:pt x="1345" y="1411"/>
                  </a:lnTo>
                  <a:lnTo>
                    <a:pt x="1346" y="1411"/>
                  </a:lnTo>
                  <a:lnTo>
                    <a:pt x="1348" y="1413"/>
                  </a:lnTo>
                  <a:lnTo>
                    <a:pt x="1350" y="1414"/>
                  </a:lnTo>
                  <a:lnTo>
                    <a:pt x="1353" y="1416"/>
                  </a:lnTo>
                  <a:lnTo>
                    <a:pt x="1355" y="1418"/>
                  </a:lnTo>
                  <a:lnTo>
                    <a:pt x="1357" y="1420"/>
                  </a:lnTo>
                  <a:lnTo>
                    <a:pt x="1359" y="1421"/>
                  </a:lnTo>
                  <a:lnTo>
                    <a:pt x="1363" y="1424"/>
                  </a:lnTo>
                  <a:lnTo>
                    <a:pt x="1365" y="1426"/>
                  </a:lnTo>
                  <a:lnTo>
                    <a:pt x="1367" y="1428"/>
                  </a:lnTo>
                  <a:lnTo>
                    <a:pt x="1369" y="1430"/>
                  </a:lnTo>
                  <a:lnTo>
                    <a:pt x="1372" y="1432"/>
                  </a:lnTo>
                  <a:lnTo>
                    <a:pt x="1373" y="1434"/>
                  </a:lnTo>
                  <a:lnTo>
                    <a:pt x="1375" y="1436"/>
                  </a:lnTo>
                  <a:lnTo>
                    <a:pt x="1377" y="1438"/>
                  </a:lnTo>
                  <a:lnTo>
                    <a:pt x="1379" y="1441"/>
                  </a:lnTo>
                  <a:lnTo>
                    <a:pt x="1379" y="1441"/>
                  </a:lnTo>
                  <a:lnTo>
                    <a:pt x="1379" y="1441"/>
                  </a:lnTo>
                  <a:lnTo>
                    <a:pt x="1379" y="1443"/>
                  </a:lnTo>
                  <a:lnTo>
                    <a:pt x="1381" y="1445"/>
                  </a:lnTo>
                  <a:lnTo>
                    <a:pt x="1381" y="1447"/>
                  </a:lnTo>
                  <a:lnTo>
                    <a:pt x="1383" y="1450"/>
                  </a:lnTo>
                  <a:lnTo>
                    <a:pt x="1385" y="1452"/>
                  </a:lnTo>
                  <a:lnTo>
                    <a:pt x="1387" y="1456"/>
                  </a:lnTo>
                  <a:lnTo>
                    <a:pt x="1387" y="1458"/>
                  </a:lnTo>
                  <a:lnTo>
                    <a:pt x="1389" y="1462"/>
                  </a:lnTo>
                  <a:lnTo>
                    <a:pt x="1390" y="1464"/>
                  </a:lnTo>
                  <a:lnTo>
                    <a:pt x="1392" y="1468"/>
                  </a:lnTo>
                  <a:lnTo>
                    <a:pt x="1392" y="1470"/>
                  </a:lnTo>
                  <a:lnTo>
                    <a:pt x="1393" y="1472"/>
                  </a:lnTo>
                  <a:lnTo>
                    <a:pt x="1393" y="1474"/>
                  </a:lnTo>
                  <a:lnTo>
                    <a:pt x="1395" y="1478"/>
                  </a:lnTo>
                  <a:lnTo>
                    <a:pt x="1393" y="1479"/>
                  </a:lnTo>
                  <a:lnTo>
                    <a:pt x="1393" y="1481"/>
                  </a:lnTo>
                  <a:lnTo>
                    <a:pt x="1392" y="1482"/>
                  </a:lnTo>
                  <a:lnTo>
                    <a:pt x="1392" y="1484"/>
                  </a:lnTo>
                  <a:lnTo>
                    <a:pt x="1391" y="1484"/>
                  </a:lnTo>
                  <a:lnTo>
                    <a:pt x="1391" y="1486"/>
                  </a:lnTo>
                  <a:lnTo>
                    <a:pt x="1389" y="1486"/>
                  </a:lnTo>
                  <a:lnTo>
                    <a:pt x="1389" y="1488"/>
                  </a:lnTo>
                  <a:lnTo>
                    <a:pt x="1387" y="1488"/>
                  </a:lnTo>
                  <a:lnTo>
                    <a:pt x="1386" y="1488"/>
                  </a:lnTo>
                  <a:lnTo>
                    <a:pt x="1384" y="1488"/>
                  </a:lnTo>
                  <a:lnTo>
                    <a:pt x="1384" y="1488"/>
                  </a:lnTo>
                  <a:lnTo>
                    <a:pt x="1383" y="1488"/>
                  </a:lnTo>
                  <a:lnTo>
                    <a:pt x="1383" y="1488"/>
                  </a:lnTo>
                  <a:lnTo>
                    <a:pt x="1383" y="1488"/>
                  </a:lnTo>
                  <a:lnTo>
                    <a:pt x="1383" y="1489"/>
                  </a:lnTo>
                  <a:lnTo>
                    <a:pt x="1382" y="1488"/>
                  </a:lnTo>
                  <a:lnTo>
                    <a:pt x="1381" y="1488"/>
                  </a:lnTo>
                  <a:lnTo>
                    <a:pt x="1379" y="1485"/>
                  </a:lnTo>
                  <a:lnTo>
                    <a:pt x="1378" y="1483"/>
                  </a:lnTo>
                  <a:lnTo>
                    <a:pt x="1374" y="1479"/>
                  </a:lnTo>
                  <a:lnTo>
                    <a:pt x="1372" y="1477"/>
                  </a:lnTo>
                  <a:lnTo>
                    <a:pt x="1368" y="1473"/>
                  </a:lnTo>
                  <a:lnTo>
                    <a:pt x="1365" y="1471"/>
                  </a:lnTo>
                  <a:lnTo>
                    <a:pt x="1361" y="1466"/>
                  </a:lnTo>
                  <a:lnTo>
                    <a:pt x="1357" y="1462"/>
                  </a:lnTo>
                  <a:lnTo>
                    <a:pt x="1353" y="1459"/>
                  </a:lnTo>
                  <a:lnTo>
                    <a:pt x="1349" y="1455"/>
                  </a:lnTo>
                  <a:lnTo>
                    <a:pt x="1344" y="1451"/>
                  </a:lnTo>
                  <a:lnTo>
                    <a:pt x="1341" y="1448"/>
                  </a:lnTo>
                  <a:lnTo>
                    <a:pt x="1337" y="1445"/>
                  </a:lnTo>
                  <a:lnTo>
                    <a:pt x="1333" y="1443"/>
                  </a:lnTo>
                  <a:lnTo>
                    <a:pt x="1329" y="1440"/>
                  </a:lnTo>
                  <a:lnTo>
                    <a:pt x="1326" y="1438"/>
                  </a:lnTo>
                  <a:lnTo>
                    <a:pt x="1323" y="1436"/>
                  </a:lnTo>
                  <a:lnTo>
                    <a:pt x="1321" y="1436"/>
                  </a:lnTo>
                  <a:lnTo>
                    <a:pt x="1318" y="1435"/>
                  </a:lnTo>
                  <a:lnTo>
                    <a:pt x="1316" y="1435"/>
                  </a:lnTo>
                  <a:lnTo>
                    <a:pt x="1314" y="1435"/>
                  </a:lnTo>
                  <a:lnTo>
                    <a:pt x="1313" y="1436"/>
                  </a:lnTo>
                  <a:lnTo>
                    <a:pt x="1311" y="1436"/>
                  </a:lnTo>
                  <a:lnTo>
                    <a:pt x="1309" y="1436"/>
                  </a:lnTo>
                  <a:lnTo>
                    <a:pt x="1307" y="1436"/>
                  </a:lnTo>
                  <a:lnTo>
                    <a:pt x="1307" y="1437"/>
                  </a:lnTo>
                  <a:lnTo>
                    <a:pt x="1307" y="1437"/>
                  </a:lnTo>
                  <a:lnTo>
                    <a:pt x="1307" y="1438"/>
                  </a:lnTo>
                  <a:lnTo>
                    <a:pt x="1307" y="1438"/>
                  </a:lnTo>
                  <a:lnTo>
                    <a:pt x="1307" y="1440"/>
                  </a:lnTo>
                  <a:lnTo>
                    <a:pt x="1307" y="1440"/>
                  </a:lnTo>
                  <a:lnTo>
                    <a:pt x="1307" y="1442"/>
                  </a:lnTo>
                  <a:lnTo>
                    <a:pt x="1307" y="1443"/>
                  </a:lnTo>
                  <a:lnTo>
                    <a:pt x="1307" y="1445"/>
                  </a:lnTo>
                  <a:lnTo>
                    <a:pt x="1307" y="1445"/>
                  </a:lnTo>
                  <a:lnTo>
                    <a:pt x="1307" y="1447"/>
                  </a:lnTo>
                  <a:lnTo>
                    <a:pt x="1307" y="1449"/>
                  </a:lnTo>
                  <a:lnTo>
                    <a:pt x="1309" y="1451"/>
                  </a:lnTo>
                  <a:lnTo>
                    <a:pt x="1309" y="1451"/>
                  </a:lnTo>
                  <a:lnTo>
                    <a:pt x="1309" y="1452"/>
                  </a:lnTo>
                  <a:lnTo>
                    <a:pt x="1309" y="1452"/>
                  </a:lnTo>
                  <a:lnTo>
                    <a:pt x="1311" y="1454"/>
                  </a:lnTo>
                  <a:lnTo>
                    <a:pt x="1311" y="1454"/>
                  </a:lnTo>
                  <a:lnTo>
                    <a:pt x="1313" y="1456"/>
                  </a:lnTo>
                  <a:lnTo>
                    <a:pt x="1314" y="1456"/>
                  </a:lnTo>
                  <a:lnTo>
                    <a:pt x="1316" y="1458"/>
                  </a:lnTo>
                  <a:lnTo>
                    <a:pt x="1316" y="1458"/>
                  </a:lnTo>
                  <a:lnTo>
                    <a:pt x="1317" y="1459"/>
                  </a:lnTo>
                  <a:lnTo>
                    <a:pt x="1318" y="1461"/>
                  </a:lnTo>
                  <a:lnTo>
                    <a:pt x="1320" y="1463"/>
                  </a:lnTo>
                  <a:lnTo>
                    <a:pt x="1321" y="1466"/>
                  </a:lnTo>
                  <a:lnTo>
                    <a:pt x="1323" y="1469"/>
                  </a:lnTo>
                  <a:lnTo>
                    <a:pt x="1325" y="1473"/>
                  </a:lnTo>
                  <a:lnTo>
                    <a:pt x="1327" y="1478"/>
                  </a:lnTo>
                  <a:lnTo>
                    <a:pt x="1329" y="1481"/>
                  </a:lnTo>
                  <a:lnTo>
                    <a:pt x="1333" y="1486"/>
                  </a:lnTo>
                  <a:lnTo>
                    <a:pt x="1335" y="1490"/>
                  </a:lnTo>
                  <a:lnTo>
                    <a:pt x="1339" y="1496"/>
                  </a:lnTo>
                  <a:lnTo>
                    <a:pt x="1342" y="1500"/>
                  </a:lnTo>
                  <a:lnTo>
                    <a:pt x="1345" y="1506"/>
                  </a:lnTo>
                  <a:lnTo>
                    <a:pt x="1349" y="1511"/>
                  </a:lnTo>
                  <a:lnTo>
                    <a:pt x="1354" y="1517"/>
                  </a:lnTo>
                  <a:lnTo>
                    <a:pt x="1358" y="1522"/>
                  </a:lnTo>
                  <a:lnTo>
                    <a:pt x="1363" y="1530"/>
                  </a:lnTo>
                  <a:lnTo>
                    <a:pt x="1369" y="1538"/>
                  </a:lnTo>
                  <a:lnTo>
                    <a:pt x="1375" y="1545"/>
                  </a:lnTo>
                  <a:lnTo>
                    <a:pt x="1382" y="1552"/>
                  </a:lnTo>
                  <a:lnTo>
                    <a:pt x="1389" y="1560"/>
                  </a:lnTo>
                  <a:lnTo>
                    <a:pt x="1397" y="1567"/>
                  </a:lnTo>
                  <a:lnTo>
                    <a:pt x="1407" y="1575"/>
                  </a:lnTo>
                  <a:lnTo>
                    <a:pt x="1415" y="1582"/>
                  </a:lnTo>
                  <a:lnTo>
                    <a:pt x="1424" y="1590"/>
                  </a:lnTo>
                  <a:lnTo>
                    <a:pt x="1433" y="1597"/>
                  </a:lnTo>
                  <a:lnTo>
                    <a:pt x="1443" y="1605"/>
                  </a:lnTo>
                  <a:lnTo>
                    <a:pt x="1452" y="1612"/>
                  </a:lnTo>
                  <a:lnTo>
                    <a:pt x="1461" y="1620"/>
                  </a:lnTo>
                  <a:lnTo>
                    <a:pt x="1471" y="1627"/>
                  </a:lnTo>
                  <a:lnTo>
                    <a:pt x="1482" y="1636"/>
                  </a:lnTo>
                  <a:lnTo>
                    <a:pt x="1491" y="1644"/>
                  </a:lnTo>
                  <a:lnTo>
                    <a:pt x="1505" y="1655"/>
                  </a:lnTo>
                  <a:lnTo>
                    <a:pt x="1521" y="1667"/>
                  </a:lnTo>
                  <a:lnTo>
                    <a:pt x="1541" y="1681"/>
                  </a:lnTo>
                  <a:lnTo>
                    <a:pt x="1561" y="1695"/>
                  </a:lnTo>
                  <a:lnTo>
                    <a:pt x="1583" y="1710"/>
                  </a:lnTo>
                  <a:lnTo>
                    <a:pt x="1606" y="1725"/>
                  </a:lnTo>
                  <a:lnTo>
                    <a:pt x="1629" y="1741"/>
                  </a:lnTo>
                  <a:lnTo>
                    <a:pt x="1651" y="1754"/>
                  </a:lnTo>
                  <a:lnTo>
                    <a:pt x="1673" y="1769"/>
                  </a:lnTo>
                  <a:lnTo>
                    <a:pt x="1693" y="1782"/>
                  </a:lnTo>
                  <a:lnTo>
                    <a:pt x="1712" y="1794"/>
                  </a:lnTo>
                  <a:lnTo>
                    <a:pt x="1727" y="1804"/>
                  </a:lnTo>
                  <a:lnTo>
                    <a:pt x="1741" y="1812"/>
                  </a:lnTo>
                  <a:lnTo>
                    <a:pt x="1749" y="1819"/>
                  </a:lnTo>
                  <a:lnTo>
                    <a:pt x="1755" y="1823"/>
                  </a:lnTo>
                  <a:lnTo>
                    <a:pt x="1755" y="1824"/>
                  </a:lnTo>
                  <a:lnTo>
                    <a:pt x="1757" y="1826"/>
                  </a:lnTo>
                  <a:lnTo>
                    <a:pt x="1758" y="1828"/>
                  </a:lnTo>
                  <a:lnTo>
                    <a:pt x="1760" y="1830"/>
                  </a:lnTo>
                  <a:lnTo>
                    <a:pt x="1760" y="1831"/>
                  </a:lnTo>
                  <a:lnTo>
                    <a:pt x="1762" y="1834"/>
                  </a:lnTo>
                  <a:lnTo>
                    <a:pt x="1763" y="1836"/>
                  </a:lnTo>
                  <a:lnTo>
                    <a:pt x="1765" y="1840"/>
                  </a:lnTo>
                  <a:lnTo>
                    <a:pt x="1765" y="1842"/>
                  </a:lnTo>
                  <a:lnTo>
                    <a:pt x="1767" y="1845"/>
                  </a:lnTo>
                  <a:lnTo>
                    <a:pt x="1767" y="1847"/>
                  </a:lnTo>
                  <a:lnTo>
                    <a:pt x="1769" y="1851"/>
                  </a:lnTo>
                  <a:lnTo>
                    <a:pt x="1769" y="1852"/>
                  </a:lnTo>
                  <a:lnTo>
                    <a:pt x="1771" y="1855"/>
                  </a:lnTo>
                  <a:lnTo>
                    <a:pt x="1772" y="1857"/>
                  </a:lnTo>
                  <a:lnTo>
                    <a:pt x="1773" y="1860"/>
                  </a:lnTo>
                  <a:lnTo>
                    <a:pt x="1773" y="1860"/>
                  </a:lnTo>
                  <a:lnTo>
                    <a:pt x="1775" y="1861"/>
                  </a:lnTo>
                  <a:lnTo>
                    <a:pt x="1777" y="1860"/>
                  </a:lnTo>
                  <a:lnTo>
                    <a:pt x="1780" y="1860"/>
                  </a:lnTo>
                  <a:lnTo>
                    <a:pt x="1782" y="1858"/>
                  </a:lnTo>
                  <a:lnTo>
                    <a:pt x="1786" y="1858"/>
                  </a:lnTo>
                  <a:lnTo>
                    <a:pt x="1790" y="1857"/>
                  </a:lnTo>
                  <a:lnTo>
                    <a:pt x="1793" y="1857"/>
                  </a:lnTo>
                  <a:lnTo>
                    <a:pt x="1797" y="1855"/>
                  </a:lnTo>
                  <a:lnTo>
                    <a:pt x="1801" y="1854"/>
                  </a:lnTo>
                  <a:lnTo>
                    <a:pt x="1804" y="1852"/>
                  </a:lnTo>
                  <a:lnTo>
                    <a:pt x="1808" y="1852"/>
                  </a:lnTo>
                  <a:lnTo>
                    <a:pt x="1810" y="1851"/>
                  </a:lnTo>
                  <a:lnTo>
                    <a:pt x="1813" y="1851"/>
                  </a:lnTo>
                  <a:lnTo>
                    <a:pt x="1815" y="1851"/>
                  </a:lnTo>
                  <a:lnTo>
                    <a:pt x="1818" y="1852"/>
                  </a:lnTo>
                  <a:lnTo>
                    <a:pt x="1820" y="1852"/>
                  </a:lnTo>
                  <a:lnTo>
                    <a:pt x="1822" y="1852"/>
                  </a:lnTo>
                  <a:lnTo>
                    <a:pt x="1823" y="1852"/>
                  </a:lnTo>
                  <a:lnTo>
                    <a:pt x="1827" y="1853"/>
                  </a:lnTo>
                  <a:lnTo>
                    <a:pt x="1829" y="1853"/>
                  </a:lnTo>
                  <a:lnTo>
                    <a:pt x="1832" y="1855"/>
                  </a:lnTo>
                  <a:lnTo>
                    <a:pt x="1834" y="1856"/>
                  </a:lnTo>
                  <a:lnTo>
                    <a:pt x="1838" y="1858"/>
                  </a:lnTo>
                  <a:lnTo>
                    <a:pt x="1840" y="1858"/>
                  </a:lnTo>
                  <a:lnTo>
                    <a:pt x="1843" y="1860"/>
                  </a:lnTo>
                  <a:lnTo>
                    <a:pt x="1845" y="1862"/>
                  </a:lnTo>
                  <a:lnTo>
                    <a:pt x="1849" y="1864"/>
                  </a:lnTo>
                  <a:lnTo>
                    <a:pt x="1850" y="1864"/>
                  </a:lnTo>
                  <a:lnTo>
                    <a:pt x="1852" y="1866"/>
                  </a:lnTo>
                  <a:lnTo>
                    <a:pt x="1854" y="1868"/>
                  </a:lnTo>
                  <a:lnTo>
                    <a:pt x="1857" y="1869"/>
                  </a:lnTo>
                  <a:lnTo>
                    <a:pt x="1859" y="1869"/>
                  </a:lnTo>
                  <a:lnTo>
                    <a:pt x="1861" y="1871"/>
                  </a:lnTo>
                  <a:lnTo>
                    <a:pt x="1863" y="1873"/>
                  </a:lnTo>
                  <a:lnTo>
                    <a:pt x="1865" y="1875"/>
                  </a:lnTo>
                  <a:lnTo>
                    <a:pt x="1867" y="1877"/>
                  </a:lnTo>
                  <a:lnTo>
                    <a:pt x="1870" y="1879"/>
                  </a:lnTo>
                  <a:lnTo>
                    <a:pt x="1871" y="1881"/>
                  </a:lnTo>
                  <a:lnTo>
                    <a:pt x="1875" y="1885"/>
                  </a:lnTo>
                  <a:lnTo>
                    <a:pt x="1877" y="1887"/>
                  </a:lnTo>
                  <a:lnTo>
                    <a:pt x="1879" y="1889"/>
                  </a:lnTo>
                  <a:lnTo>
                    <a:pt x="1881" y="1891"/>
                  </a:lnTo>
                  <a:lnTo>
                    <a:pt x="1884" y="1895"/>
                  </a:lnTo>
                  <a:lnTo>
                    <a:pt x="1885" y="1897"/>
                  </a:lnTo>
                  <a:lnTo>
                    <a:pt x="1887" y="1899"/>
                  </a:lnTo>
                  <a:lnTo>
                    <a:pt x="1889" y="1901"/>
                  </a:lnTo>
                  <a:lnTo>
                    <a:pt x="1891" y="1904"/>
                  </a:lnTo>
                  <a:lnTo>
                    <a:pt x="1893" y="1906"/>
                  </a:lnTo>
                  <a:lnTo>
                    <a:pt x="1896" y="1909"/>
                  </a:lnTo>
                  <a:lnTo>
                    <a:pt x="1900" y="1912"/>
                  </a:lnTo>
                  <a:lnTo>
                    <a:pt x="1903" y="1917"/>
                  </a:lnTo>
                  <a:lnTo>
                    <a:pt x="1907" y="1920"/>
                  </a:lnTo>
                  <a:lnTo>
                    <a:pt x="1911" y="1925"/>
                  </a:lnTo>
                  <a:lnTo>
                    <a:pt x="1915" y="1929"/>
                  </a:lnTo>
                  <a:lnTo>
                    <a:pt x="1919" y="1934"/>
                  </a:lnTo>
                  <a:lnTo>
                    <a:pt x="1923" y="1938"/>
                  </a:lnTo>
                  <a:lnTo>
                    <a:pt x="1927" y="1942"/>
                  </a:lnTo>
                  <a:lnTo>
                    <a:pt x="1929" y="1946"/>
                  </a:lnTo>
                  <a:lnTo>
                    <a:pt x="1933" y="1949"/>
                  </a:lnTo>
                  <a:lnTo>
                    <a:pt x="1935" y="1951"/>
                  </a:lnTo>
                  <a:lnTo>
                    <a:pt x="1938" y="1954"/>
                  </a:lnTo>
                  <a:lnTo>
                    <a:pt x="1939" y="1954"/>
                  </a:lnTo>
                  <a:lnTo>
                    <a:pt x="1941" y="1956"/>
                  </a:lnTo>
                  <a:lnTo>
                    <a:pt x="1940" y="1953"/>
                  </a:lnTo>
                  <a:lnTo>
                    <a:pt x="1939" y="1949"/>
                  </a:lnTo>
                  <a:lnTo>
                    <a:pt x="1936" y="1944"/>
                  </a:lnTo>
                  <a:lnTo>
                    <a:pt x="1933" y="1937"/>
                  </a:lnTo>
                  <a:lnTo>
                    <a:pt x="1928" y="1929"/>
                  </a:lnTo>
                  <a:lnTo>
                    <a:pt x="1924" y="1920"/>
                  </a:lnTo>
                  <a:lnTo>
                    <a:pt x="1918" y="1911"/>
                  </a:lnTo>
                  <a:lnTo>
                    <a:pt x="1913" y="1902"/>
                  </a:lnTo>
                  <a:lnTo>
                    <a:pt x="1905" y="1891"/>
                  </a:lnTo>
                  <a:lnTo>
                    <a:pt x="1899" y="1882"/>
                  </a:lnTo>
                  <a:lnTo>
                    <a:pt x="1891" y="1872"/>
                  </a:lnTo>
                  <a:lnTo>
                    <a:pt x="1886" y="1862"/>
                  </a:lnTo>
                  <a:lnTo>
                    <a:pt x="1880" y="1853"/>
                  </a:lnTo>
                  <a:lnTo>
                    <a:pt x="1874" y="1846"/>
                  </a:lnTo>
                  <a:lnTo>
                    <a:pt x="1869" y="1840"/>
                  </a:lnTo>
                  <a:lnTo>
                    <a:pt x="1865" y="1834"/>
                  </a:lnTo>
                  <a:lnTo>
                    <a:pt x="1860" y="1829"/>
                  </a:lnTo>
                  <a:lnTo>
                    <a:pt x="1853" y="1821"/>
                  </a:lnTo>
                  <a:lnTo>
                    <a:pt x="1841" y="1810"/>
                  </a:lnTo>
                  <a:lnTo>
                    <a:pt x="1830" y="1797"/>
                  </a:lnTo>
                  <a:lnTo>
                    <a:pt x="1814" y="1781"/>
                  </a:lnTo>
                  <a:lnTo>
                    <a:pt x="1799" y="1766"/>
                  </a:lnTo>
                  <a:lnTo>
                    <a:pt x="1782" y="1749"/>
                  </a:lnTo>
                  <a:lnTo>
                    <a:pt x="1765" y="1733"/>
                  </a:lnTo>
                  <a:lnTo>
                    <a:pt x="1748" y="1715"/>
                  </a:lnTo>
                  <a:lnTo>
                    <a:pt x="1732" y="1698"/>
                  </a:lnTo>
                  <a:lnTo>
                    <a:pt x="1716" y="1682"/>
                  </a:lnTo>
                  <a:lnTo>
                    <a:pt x="1703" y="1668"/>
                  </a:lnTo>
                  <a:lnTo>
                    <a:pt x="1690" y="1654"/>
                  </a:lnTo>
                  <a:lnTo>
                    <a:pt x="1681" y="1643"/>
                  </a:lnTo>
                  <a:lnTo>
                    <a:pt x="1673" y="1634"/>
                  </a:lnTo>
                  <a:lnTo>
                    <a:pt x="1671" y="1630"/>
                  </a:lnTo>
                  <a:lnTo>
                    <a:pt x="1669" y="1626"/>
                  </a:lnTo>
                  <a:lnTo>
                    <a:pt x="1669" y="1624"/>
                  </a:lnTo>
                  <a:lnTo>
                    <a:pt x="1667" y="1620"/>
                  </a:lnTo>
                  <a:lnTo>
                    <a:pt x="1667" y="1617"/>
                  </a:lnTo>
                  <a:lnTo>
                    <a:pt x="1666" y="1614"/>
                  </a:lnTo>
                  <a:lnTo>
                    <a:pt x="1666" y="1610"/>
                  </a:lnTo>
                  <a:lnTo>
                    <a:pt x="1666" y="1606"/>
                  </a:lnTo>
                  <a:lnTo>
                    <a:pt x="1666" y="1603"/>
                  </a:lnTo>
                  <a:lnTo>
                    <a:pt x="1664" y="1598"/>
                  </a:lnTo>
                  <a:lnTo>
                    <a:pt x="1664" y="1595"/>
                  </a:lnTo>
                  <a:lnTo>
                    <a:pt x="1664" y="1591"/>
                  </a:lnTo>
                  <a:lnTo>
                    <a:pt x="1664" y="1587"/>
                  </a:lnTo>
                  <a:lnTo>
                    <a:pt x="1664" y="1584"/>
                  </a:lnTo>
                  <a:lnTo>
                    <a:pt x="1664" y="1580"/>
                  </a:lnTo>
                  <a:lnTo>
                    <a:pt x="1664" y="1576"/>
                  </a:lnTo>
                  <a:lnTo>
                    <a:pt x="1664" y="1574"/>
                  </a:lnTo>
                  <a:lnTo>
                    <a:pt x="1663" y="1571"/>
                  </a:lnTo>
                  <a:lnTo>
                    <a:pt x="1661" y="1567"/>
                  </a:lnTo>
                  <a:lnTo>
                    <a:pt x="1657" y="1561"/>
                  </a:lnTo>
                  <a:lnTo>
                    <a:pt x="1653" y="1556"/>
                  </a:lnTo>
                  <a:lnTo>
                    <a:pt x="1647" y="1548"/>
                  </a:lnTo>
                  <a:lnTo>
                    <a:pt x="1642" y="1540"/>
                  </a:lnTo>
                  <a:lnTo>
                    <a:pt x="1636" y="1532"/>
                  </a:lnTo>
                  <a:lnTo>
                    <a:pt x="1631" y="1525"/>
                  </a:lnTo>
                  <a:lnTo>
                    <a:pt x="1623" y="1516"/>
                  </a:lnTo>
                  <a:lnTo>
                    <a:pt x="1617" y="1508"/>
                  </a:lnTo>
                  <a:lnTo>
                    <a:pt x="1612" y="1500"/>
                  </a:lnTo>
                  <a:lnTo>
                    <a:pt x="1607" y="1494"/>
                  </a:lnTo>
                  <a:lnTo>
                    <a:pt x="1601" y="1488"/>
                  </a:lnTo>
                  <a:lnTo>
                    <a:pt x="1598" y="1482"/>
                  </a:lnTo>
                  <a:lnTo>
                    <a:pt x="1595" y="1478"/>
                  </a:lnTo>
                  <a:lnTo>
                    <a:pt x="1593" y="1476"/>
                  </a:lnTo>
                  <a:lnTo>
                    <a:pt x="1590" y="1472"/>
                  </a:lnTo>
                  <a:lnTo>
                    <a:pt x="1588" y="1469"/>
                  </a:lnTo>
                  <a:lnTo>
                    <a:pt x="1584" y="1463"/>
                  </a:lnTo>
                  <a:lnTo>
                    <a:pt x="1580" y="1459"/>
                  </a:lnTo>
                  <a:lnTo>
                    <a:pt x="1575" y="1452"/>
                  </a:lnTo>
                  <a:lnTo>
                    <a:pt x="1570" y="1446"/>
                  </a:lnTo>
                  <a:lnTo>
                    <a:pt x="1565" y="1440"/>
                  </a:lnTo>
                  <a:lnTo>
                    <a:pt x="1560" y="1434"/>
                  </a:lnTo>
                  <a:lnTo>
                    <a:pt x="1555" y="1426"/>
                  </a:lnTo>
                  <a:lnTo>
                    <a:pt x="1549" y="1421"/>
                  </a:lnTo>
                  <a:lnTo>
                    <a:pt x="1545" y="1414"/>
                  </a:lnTo>
                  <a:lnTo>
                    <a:pt x="1541" y="1409"/>
                  </a:lnTo>
                  <a:lnTo>
                    <a:pt x="1537" y="1403"/>
                  </a:lnTo>
                  <a:lnTo>
                    <a:pt x="1533" y="1400"/>
                  </a:lnTo>
                  <a:lnTo>
                    <a:pt x="1531" y="1396"/>
                  </a:lnTo>
                  <a:lnTo>
                    <a:pt x="1531" y="1394"/>
                  </a:lnTo>
                  <a:lnTo>
                    <a:pt x="1529" y="1391"/>
                  </a:lnTo>
                  <a:lnTo>
                    <a:pt x="1529" y="1387"/>
                  </a:lnTo>
                  <a:lnTo>
                    <a:pt x="1529" y="1383"/>
                  </a:lnTo>
                  <a:lnTo>
                    <a:pt x="1531" y="1381"/>
                  </a:lnTo>
                  <a:lnTo>
                    <a:pt x="1533" y="1377"/>
                  </a:lnTo>
                  <a:lnTo>
                    <a:pt x="1535" y="1373"/>
                  </a:lnTo>
                  <a:lnTo>
                    <a:pt x="1537" y="1370"/>
                  </a:lnTo>
                  <a:lnTo>
                    <a:pt x="1538" y="1366"/>
                  </a:lnTo>
                  <a:lnTo>
                    <a:pt x="1539" y="1364"/>
                  </a:lnTo>
                  <a:lnTo>
                    <a:pt x="1541" y="1360"/>
                  </a:lnTo>
                  <a:lnTo>
                    <a:pt x="1543" y="1356"/>
                  </a:lnTo>
                  <a:lnTo>
                    <a:pt x="1545" y="1353"/>
                  </a:lnTo>
                  <a:lnTo>
                    <a:pt x="1545" y="1350"/>
                  </a:lnTo>
                  <a:lnTo>
                    <a:pt x="1546" y="1346"/>
                  </a:lnTo>
                  <a:lnTo>
                    <a:pt x="1546" y="1343"/>
                  </a:lnTo>
                  <a:lnTo>
                    <a:pt x="1546" y="1340"/>
                  </a:lnTo>
                  <a:lnTo>
                    <a:pt x="1543" y="1336"/>
                  </a:lnTo>
                  <a:lnTo>
                    <a:pt x="1541" y="1332"/>
                  </a:lnTo>
                  <a:lnTo>
                    <a:pt x="1538" y="1328"/>
                  </a:lnTo>
                  <a:lnTo>
                    <a:pt x="1535" y="1323"/>
                  </a:lnTo>
                  <a:lnTo>
                    <a:pt x="1531" y="1319"/>
                  </a:lnTo>
                  <a:lnTo>
                    <a:pt x="1527" y="1313"/>
                  </a:lnTo>
                  <a:lnTo>
                    <a:pt x="1522" y="1310"/>
                  </a:lnTo>
                  <a:lnTo>
                    <a:pt x="1518" y="1304"/>
                  </a:lnTo>
                  <a:lnTo>
                    <a:pt x="1513" y="1300"/>
                  </a:lnTo>
                  <a:lnTo>
                    <a:pt x="1507" y="1296"/>
                  </a:lnTo>
                  <a:lnTo>
                    <a:pt x="1501" y="1293"/>
                  </a:lnTo>
                  <a:lnTo>
                    <a:pt x="1498" y="1288"/>
                  </a:lnTo>
                  <a:lnTo>
                    <a:pt x="1492" y="1286"/>
                  </a:lnTo>
                  <a:lnTo>
                    <a:pt x="1488" y="1282"/>
                  </a:lnTo>
                  <a:lnTo>
                    <a:pt x="1483" y="1280"/>
                  </a:lnTo>
                  <a:lnTo>
                    <a:pt x="1480" y="1278"/>
                  </a:lnTo>
                  <a:lnTo>
                    <a:pt x="1478" y="1278"/>
                  </a:lnTo>
                  <a:lnTo>
                    <a:pt x="1476" y="1276"/>
                  </a:lnTo>
                  <a:lnTo>
                    <a:pt x="1474" y="1275"/>
                  </a:lnTo>
                  <a:lnTo>
                    <a:pt x="1474" y="1271"/>
                  </a:lnTo>
                  <a:lnTo>
                    <a:pt x="1472" y="1268"/>
                  </a:lnTo>
                  <a:lnTo>
                    <a:pt x="1472" y="1264"/>
                  </a:lnTo>
                  <a:lnTo>
                    <a:pt x="1470" y="1260"/>
                  </a:lnTo>
                  <a:lnTo>
                    <a:pt x="1470" y="1255"/>
                  </a:lnTo>
                  <a:lnTo>
                    <a:pt x="1469" y="1252"/>
                  </a:lnTo>
                  <a:lnTo>
                    <a:pt x="1469" y="1247"/>
                  </a:lnTo>
                  <a:lnTo>
                    <a:pt x="1467" y="1244"/>
                  </a:lnTo>
                  <a:lnTo>
                    <a:pt x="1467" y="1238"/>
                  </a:lnTo>
                  <a:lnTo>
                    <a:pt x="1465" y="1235"/>
                  </a:lnTo>
                  <a:lnTo>
                    <a:pt x="1465" y="1232"/>
                  </a:lnTo>
                  <a:lnTo>
                    <a:pt x="1465" y="1229"/>
                  </a:lnTo>
                  <a:lnTo>
                    <a:pt x="1465" y="1226"/>
                  </a:lnTo>
                  <a:lnTo>
                    <a:pt x="1465" y="1226"/>
                  </a:lnTo>
                  <a:lnTo>
                    <a:pt x="1465" y="1226"/>
                  </a:lnTo>
                  <a:lnTo>
                    <a:pt x="1465" y="1226"/>
                  </a:lnTo>
                  <a:lnTo>
                    <a:pt x="1466" y="1224"/>
                  </a:lnTo>
                  <a:lnTo>
                    <a:pt x="1466" y="1224"/>
                  </a:lnTo>
                  <a:lnTo>
                    <a:pt x="1466" y="1222"/>
                  </a:lnTo>
                  <a:lnTo>
                    <a:pt x="1466" y="1220"/>
                  </a:lnTo>
                  <a:lnTo>
                    <a:pt x="1468" y="1218"/>
                  </a:lnTo>
                  <a:lnTo>
                    <a:pt x="1468" y="1218"/>
                  </a:lnTo>
                  <a:lnTo>
                    <a:pt x="1468" y="1217"/>
                  </a:lnTo>
                  <a:lnTo>
                    <a:pt x="1468" y="1216"/>
                  </a:lnTo>
                  <a:lnTo>
                    <a:pt x="1469" y="1214"/>
                  </a:lnTo>
                  <a:lnTo>
                    <a:pt x="1469" y="1214"/>
                  </a:lnTo>
                  <a:lnTo>
                    <a:pt x="1469" y="1212"/>
                  </a:lnTo>
                  <a:lnTo>
                    <a:pt x="1469" y="1211"/>
                  </a:lnTo>
                  <a:lnTo>
                    <a:pt x="1470" y="1209"/>
                  </a:lnTo>
                  <a:lnTo>
                    <a:pt x="1467" y="1204"/>
                  </a:lnTo>
                  <a:lnTo>
                    <a:pt x="1463" y="1197"/>
                  </a:lnTo>
                  <a:lnTo>
                    <a:pt x="1457" y="1188"/>
                  </a:lnTo>
                  <a:lnTo>
                    <a:pt x="1450" y="1178"/>
                  </a:lnTo>
                  <a:lnTo>
                    <a:pt x="1440" y="1168"/>
                  </a:lnTo>
                  <a:lnTo>
                    <a:pt x="1432" y="1157"/>
                  </a:lnTo>
                  <a:lnTo>
                    <a:pt x="1421" y="1146"/>
                  </a:lnTo>
                  <a:lnTo>
                    <a:pt x="1412" y="1134"/>
                  </a:lnTo>
                  <a:lnTo>
                    <a:pt x="1401" y="1124"/>
                  </a:lnTo>
                  <a:lnTo>
                    <a:pt x="1391" y="1112"/>
                  </a:lnTo>
                  <a:lnTo>
                    <a:pt x="1381" y="1103"/>
                  </a:lnTo>
                  <a:lnTo>
                    <a:pt x="1372" y="1093"/>
                  </a:lnTo>
                  <a:lnTo>
                    <a:pt x="1364" y="1086"/>
                  </a:lnTo>
                  <a:lnTo>
                    <a:pt x="1358" y="1079"/>
                  </a:lnTo>
                  <a:lnTo>
                    <a:pt x="1353" y="1075"/>
                  </a:lnTo>
                  <a:lnTo>
                    <a:pt x="1351" y="1071"/>
                  </a:lnTo>
                  <a:lnTo>
                    <a:pt x="1347" y="1068"/>
                  </a:lnTo>
                  <a:lnTo>
                    <a:pt x="1344" y="1064"/>
                  </a:lnTo>
                  <a:lnTo>
                    <a:pt x="1339" y="1060"/>
                  </a:lnTo>
                  <a:lnTo>
                    <a:pt x="1335" y="1056"/>
                  </a:lnTo>
                  <a:lnTo>
                    <a:pt x="1330" y="1052"/>
                  </a:lnTo>
                  <a:lnTo>
                    <a:pt x="1326" y="1047"/>
                  </a:lnTo>
                  <a:lnTo>
                    <a:pt x="1321" y="1043"/>
                  </a:lnTo>
                  <a:lnTo>
                    <a:pt x="1317" y="1038"/>
                  </a:lnTo>
                  <a:lnTo>
                    <a:pt x="1311" y="1034"/>
                  </a:lnTo>
                  <a:lnTo>
                    <a:pt x="1307" y="1028"/>
                  </a:lnTo>
                  <a:lnTo>
                    <a:pt x="1303" y="1024"/>
                  </a:lnTo>
                  <a:lnTo>
                    <a:pt x="1299" y="1019"/>
                  </a:lnTo>
                  <a:lnTo>
                    <a:pt x="1295" y="1015"/>
                  </a:lnTo>
                  <a:lnTo>
                    <a:pt x="1293" y="1010"/>
                  </a:lnTo>
                  <a:lnTo>
                    <a:pt x="1290" y="1006"/>
                  </a:lnTo>
                  <a:lnTo>
                    <a:pt x="1289" y="1001"/>
                  </a:lnTo>
                  <a:lnTo>
                    <a:pt x="1287" y="998"/>
                  </a:lnTo>
                  <a:lnTo>
                    <a:pt x="1287" y="994"/>
                  </a:lnTo>
                  <a:lnTo>
                    <a:pt x="1287" y="990"/>
                  </a:lnTo>
                  <a:lnTo>
                    <a:pt x="1287" y="984"/>
                  </a:lnTo>
                  <a:lnTo>
                    <a:pt x="1287" y="980"/>
                  </a:lnTo>
                  <a:lnTo>
                    <a:pt x="1289" y="974"/>
                  </a:lnTo>
                  <a:lnTo>
                    <a:pt x="1290" y="969"/>
                  </a:lnTo>
                  <a:lnTo>
                    <a:pt x="1292" y="963"/>
                  </a:lnTo>
                  <a:lnTo>
                    <a:pt x="1292" y="958"/>
                  </a:lnTo>
                  <a:lnTo>
                    <a:pt x="1293" y="953"/>
                  </a:lnTo>
                  <a:lnTo>
                    <a:pt x="1293" y="948"/>
                  </a:lnTo>
                  <a:lnTo>
                    <a:pt x="1295" y="942"/>
                  </a:lnTo>
                  <a:lnTo>
                    <a:pt x="1294" y="938"/>
                  </a:lnTo>
                  <a:lnTo>
                    <a:pt x="1294" y="933"/>
                  </a:lnTo>
                  <a:lnTo>
                    <a:pt x="1293" y="930"/>
                  </a:lnTo>
                  <a:lnTo>
                    <a:pt x="1293" y="925"/>
                  </a:lnTo>
                  <a:lnTo>
                    <a:pt x="1291" y="923"/>
                  </a:lnTo>
                  <a:lnTo>
                    <a:pt x="1289" y="919"/>
                  </a:lnTo>
                  <a:lnTo>
                    <a:pt x="1287" y="915"/>
                  </a:lnTo>
                  <a:lnTo>
                    <a:pt x="1285" y="910"/>
                  </a:lnTo>
                  <a:lnTo>
                    <a:pt x="1281" y="906"/>
                  </a:lnTo>
                  <a:lnTo>
                    <a:pt x="1279" y="900"/>
                  </a:lnTo>
                  <a:lnTo>
                    <a:pt x="1276" y="895"/>
                  </a:lnTo>
                  <a:lnTo>
                    <a:pt x="1274" y="889"/>
                  </a:lnTo>
                  <a:lnTo>
                    <a:pt x="1270" y="885"/>
                  </a:lnTo>
                  <a:lnTo>
                    <a:pt x="1266" y="880"/>
                  </a:lnTo>
                  <a:lnTo>
                    <a:pt x="1263" y="876"/>
                  </a:lnTo>
                  <a:lnTo>
                    <a:pt x="1260" y="870"/>
                  </a:lnTo>
                  <a:lnTo>
                    <a:pt x="1256" y="867"/>
                  </a:lnTo>
                  <a:lnTo>
                    <a:pt x="1255" y="863"/>
                  </a:lnTo>
                  <a:lnTo>
                    <a:pt x="1251" y="860"/>
                  </a:lnTo>
                  <a:lnTo>
                    <a:pt x="1249" y="857"/>
                  </a:lnTo>
                  <a:lnTo>
                    <a:pt x="1247" y="857"/>
                  </a:lnTo>
                  <a:lnTo>
                    <a:pt x="1247" y="857"/>
                  </a:lnTo>
                  <a:lnTo>
                    <a:pt x="1245" y="858"/>
                  </a:lnTo>
                  <a:lnTo>
                    <a:pt x="1245" y="858"/>
                  </a:lnTo>
                  <a:lnTo>
                    <a:pt x="1243" y="860"/>
                  </a:lnTo>
                  <a:lnTo>
                    <a:pt x="1241" y="860"/>
                  </a:lnTo>
                  <a:lnTo>
                    <a:pt x="1239" y="862"/>
                  </a:lnTo>
                  <a:lnTo>
                    <a:pt x="1237" y="862"/>
                  </a:lnTo>
                  <a:lnTo>
                    <a:pt x="1235" y="864"/>
                  </a:lnTo>
                  <a:lnTo>
                    <a:pt x="1233" y="865"/>
                  </a:lnTo>
                  <a:lnTo>
                    <a:pt x="1231" y="867"/>
                  </a:lnTo>
                  <a:lnTo>
                    <a:pt x="1229" y="867"/>
                  </a:lnTo>
                  <a:lnTo>
                    <a:pt x="1227" y="868"/>
                  </a:lnTo>
                  <a:lnTo>
                    <a:pt x="1226" y="868"/>
                  </a:lnTo>
                  <a:lnTo>
                    <a:pt x="1225" y="868"/>
                  </a:lnTo>
                  <a:lnTo>
                    <a:pt x="1225" y="868"/>
                  </a:lnTo>
                  <a:lnTo>
                    <a:pt x="1221" y="865"/>
                  </a:lnTo>
                  <a:lnTo>
                    <a:pt x="1219" y="861"/>
                  </a:lnTo>
                  <a:lnTo>
                    <a:pt x="1216" y="857"/>
                  </a:lnTo>
                  <a:lnTo>
                    <a:pt x="1215" y="852"/>
                  </a:lnTo>
                  <a:lnTo>
                    <a:pt x="1211" y="847"/>
                  </a:lnTo>
                  <a:lnTo>
                    <a:pt x="1208" y="842"/>
                  </a:lnTo>
                  <a:lnTo>
                    <a:pt x="1204" y="836"/>
                  </a:lnTo>
                  <a:lnTo>
                    <a:pt x="1202" y="830"/>
                  </a:lnTo>
                  <a:lnTo>
                    <a:pt x="1198" y="826"/>
                  </a:lnTo>
                  <a:lnTo>
                    <a:pt x="1195" y="820"/>
                  </a:lnTo>
                  <a:lnTo>
                    <a:pt x="1191" y="816"/>
                  </a:lnTo>
                  <a:lnTo>
                    <a:pt x="1189" y="810"/>
                  </a:lnTo>
                  <a:lnTo>
                    <a:pt x="1186" y="806"/>
                  </a:lnTo>
                  <a:lnTo>
                    <a:pt x="1184" y="800"/>
                  </a:lnTo>
                  <a:lnTo>
                    <a:pt x="1182" y="797"/>
                  </a:lnTo>
                  <a:lnTo>
                    <a:pt x="1180" y="792"/>
                  </a:lnTo>
                  <a:lnTo>
                    <a:pt x="1177" y="790"/>
                  </a:lnTo>
                  <a:lnTo>
                    <a:pt x="1174" y="786"/>
                  </a:lnTo>
                  <a:lnTo>
                    <a:pt x="1169" y="781"/>
                  </a:lnTo>
                  <a:lnTo>
                    <a:pt x="1165" y="776"/>
                  </a:lnTo>
                  <a:lnTo>
                    <a:pt x="1158" y="770"/>
                  </a:lnTo>
                  <a:lnTo>
                    <a:pt x="1153" y="763"/>
                  </a:lnTo>
                  <a:lnTo>
                    <a:pt x="1146" y="756"/>
                  </a:lnTo>
                  <a:lnTo>
                    <a:pt x="1140" y="748"/>
                  </a:lnTo>
                  <a:lnTo>
                    <a:pt x="1133" y="742"/>
                  </a:lnTo>
                  <a:lnTo>
                    <a:pt x="1127" y="735"/>
                  </a:lnTo>
                  <a:lnTo>
                    <a:pt x="1121" y="729"/>
                  </a:lnTo>
                  <a:lnTo>
                    <a:pt x="1115" y="722"/>
                  </a:lnTo>
                  <a:lnTo>
                    <a:pt x="1110" y="718"/>
                  </a:lnTo>
                  <a:lnTo>
                    <a:pt x="1106" y="712"/>
                  </a:lnTo>
                  <a:lnTo>
                    <a:pt x="1102" y="709"/>
                  </a:lnTo>
                  <a:lnTo>
                    <a:pt x="1101" y="706"/>
                  </a:lnTo>
                  <a:lnTo>
                    <a:pt x="1098" y="704"/>
                  </a:lnTo>
                  <a:lnTo>
                    <a:pt x="1095" y="702"/>
                  </a:lnTo>
                  <a:lnTo>
                    <a:pt x="1091" y="698"/>
                  </a:lnTo>
                  <a:lnTo>
                    <a:pt x="1089" y="694"/>
                  </a:lnTo>
                  <a:lnTo>
                    <a:pt x="1083" y="690"/>
                  </a:lnTo>
                  <a:lnTo>
                    <a:pt x="1079" y="684"/>
                  </a:lnTo>
                  <a:lnTo>
                    <a:pt x="1074" y="680"/>
                  </a:lnTo>
                  <a:lnTo>
                    <a:pt x="1070" y="674"/>
                  </a:lnTo>
                  <a:lnTo>
                    <a:pt x="1065" y="670"/>
                  </a:lnTo>
                  <a:lnTo>
                    <a:pt x="1061" y="664"/>
                  </a:lnTo>
                  <a:lnTo>
                    <a:pt x="1057" y="660"/>
                  </a:lnTo>
                  <a:lnTo>
                    <a:pt x="1053" y="654"/>
                  </a:lnTo>
                  <a:lnTo>
                    <a:pt x="1050" y="650"/>
                  </a:lnTo>
                  <a:lnTo>
                    <a:pt x="1048" y="646"/>
                  </a:lnTo>
                  <a:lnTo>
                    <a:pt x="1047" y="643"/>
                  </a:lnTo>
                  <a:lnTo>
                    <a:pt x="1047" y="640"/>
                  </a:lnTo>
                  <a:lnTo>
                    <a:pt x="1048" y="636"/>
                  </a:lnTo>
                  <a:lnTo>
                    <a:pt x="1053" y="630"/>
                  </a:lnTo>
                  <a:lnTo>
                    <a:pt x="1061" y="621"/>
                  </a:lnTo>
                  <a:lnTo>
                    <a:pt x="1073" y="610"/>
                  </a:lnTo>
                  <a:lnTo>
                    <a:pt x="1085" y="599"/>
                  </a:lnTo>
                  <a:lnTo>
                    <a:pt x="1100" y="586"/>
                  </a:lnTo>
                  <a:lnTo>
                    <a:pt x="1117" y="572"/>
                  </a:lnTo>
                  <a:lnTo>
                    <a:pt x="1133" y="556"/>
                  </a:lnTo>
                  <a:lnTo>
                    <a:pt x="1149" y="543"/>
                  </a:lnTo>
                  <a:lnTo>
                    <a:pt x="1166" y="529"/>
                  </a:lnTo>
                  <a:lnTo>
                    <a:pt x="1181" y="516"/>
                  </a:lnTo>
                  <a:lnTo>
                    <a:pt x="1195" y="504"/>
                  </a:lnTo>
                  <a:lnTo>
                    <a:pt x="1207" y="494"/>
                  </a:lnTo>
                  <a:lnTo>
                    <a:pt x="1217" y="485"/>
                  </a:lnTo>
                  <a:lnTo>
                    <a:pt x="1224" y="479"/>
                  </a:lnTo>
                  <a:lnTo>
                    <a:pt x="1229" y="475"/>
                  </a:lnTo>
                  <a:lnTo>
                    <a:pt x="1231" y="474"/>
                  </a:lnTo>
                  <a:lnTo>
                    <a:pt x="1236" y="470"/>
                  </a:lnTo>
                  <a:lnTo>
                    <a:pt x="1241" y="466"/>
                  </a:lnTo>
                  <a:lnTo>
                    <a:pt x="1247" y="460"/>
                  </a:lnTo>
                  <a:lnTo>
                    <a:pt x="1255" y="455"/>
                  </a:lnTo>
                  <a:lnTo>
                    <a:pt x="1262" y="448"/>
                  </a:lnTo>
                  <a:lnTo>
                    <a:pt x="1269" y="442"/>
                  </a:lnTo>
                  <a:lnTo>
                    <a:pt x="1279" y="434"/>
                  </a:lnTo>
                  <a:lnTo>
                    <a:pt x="1286" y="428"/>
                  </a:lnTo>
                  <a:lnTo>
                    <a:pt x="1294" y="422"/>
                  </a:lnTo>
                  <a:lnTo>
                    <a:pt x="1300" y="416"/>
                  </a:lnTo>
                  <a:lnTo>
                    <a:pt x="1307" y="409"/>
                  </a:lnTo>
                  <a:lnTo>
                    <a:pt x="1313" y="404"/>
                  </a:lnTo>
                  <a:lnTo>
                    <a:pt x="1319" y="399"/>
                  </a:lnTo>
                  <a:lnTo>
                    <a:pt x="1323" y="396"/>
                  </a:lnTo>
                  <a:lnTo>
                    <a:pt x="1325" y="392"/>
                  </a:lnTo>
                  <a:lnTo>
                    <a:pt x="1327" y="390"/>
                  </a:lnTo>
                  <a:lnTo>
                    <a:pt x="1329" y="387"/>
                  </a:lnTo>
                  <a:lnTo>
                    <a:pt x="1333" y="382"/>
                  </a:lnTo>
                  <a:lnTo>
                    <a:pt x="1339" y="377"/>
                  </a:lnTo>
                  <a:lnTo>
                    <a:pt x="1344" y="371"/>
                  </a:lnTo>
                  <a:lnTo>
                    <a:pt x="1350" y="365"/>
                  </a:lnTo>
                  <a:lnTo>
                    <a:pt x="1355" y="358"/>
                  </a:lnTo>
                  <a:lnTo>
                    <a:pt x="1363" y="350"/>
                  </a:lnTo>
                  <a:lnTo>
                    <a:pt x="1369" y="345"/>
                  </a:lnTo>
                  <a:lnTo>
                    <a:pt x="1374" y="338"/>
                  </a:lnTo>
                  <a:lnTo>
                    <a:pt x="1380" y="331"/>
                  </a:lnTo>
                  <a:lnTo>
                    <a:pt x="1385" y="324"/>
                  </a:lnTo>
                  <a:lnTo>
                    <a:pt x="1389" y="319"/>
                  </a:lnTo>
                  <a:lnTo>
                    <a:pt x="1393" y="314"/>
                  </a:lnTo>
                  <a:lnTo>
                    <a:pt x="1395" y="311"/>
                  </a:lnTo>
                  <a:lnTo>
                    <a:pt x="1398" y="307"/>
                  </a:lnTo>
                  <a:lnTo>
                    <a:pt x="1398" y="307"/>
                  </a:lnTo>
                  <a:lnTo>
                    <a:pt x="1399" y="305"/>
                  </a:lnTo>
                  <a:lnTo>
                    <a:pt x="1401" y="302"/>
                  </a:lnTo>
                  <a:lnTo>
                    <a:pt x="1405" y="299"/>
                  </a:lnTo>
                  <a:lnTo>
                    <a:pt x="1408" y="295"/>
                  </a:lnTo>
                  <a:lnTo>
                    <a:pt x="1412" y="290"/>
                  </a:lnTo>
                  <a:lnTo>
                    <a:pt x="1415" y="284"/>
                  </a:lnTo>
                  <a:lnTo>
                    <a:pt x="1421" y="279"/>
                  </a:lnTo>
                  <a:lnTo>
                    <a:pt x="1425" y="274"/>
                  </a:lnTo>
                  <a:lnTo>
                    <a:pt x="1429" y="268"/>
                  </a:lnTo>
                  <a:lnTo>
                    <a:pt x="1433" y="262"/>
                  </a:lnTo>
                  <a:lnTo>
                    <a:pt x="1438" y="257"/>
                  </a:lnTo>
                  <a:lnTo>
                    <a:pt x="1440" y="253"/>
                  </a:lnTo>
                  <a:lnTo>
                    <a:pt x="1444" y="248"/>
                  </a:lnTo>
                  <a:lnTo>
                    <a:pt x="1446" y="244"/>
                  </a:lnTo>
                  <a:lnTo>
                    <a:pt x="1449" y="241"/>
                  </a:lnTo>
                  <a:lnTo>
                    <a:pt x="1449" y="241"/>
                  </a:lnTo>
                  <a:lnTo>
                    <a:pt x="1449" y="239"/>
                  </a:lnTo>
                  <a:lnTo>
                    <a:pt x="1449" y="237"/>
                  </a:lnTo>
                  <a:lnTo>
                    <a:pt x="1449" y="235"/>
                  </a:lnTo>
                  <a:lnTo>
                    <a:pt x="1449" y="234"/>
                  </a:lnTo>
                  <a:lnTo>
                    <a:pt x="1449" y="233"/>
                  </a:lnTo>
                  <a:lnTo>
                    <a:pt x="1449" y="231"/>
                  </a:lnTo>
                  <a:lnTo>
                    <a:pt x="1451" y="229"/>
                  </a:lnTo>
                  <a:lnTo>
                    <a:pt x="1451" y="229"/>
                  </a:lnTo>
                  <a:lnTo>
                    <a:pt x="1451" y="227"/>
                  </a:lnTo>
                  <a:lnTo>
                    <a:pt x="1451" y="227"/>
                  </a:lnTo>
                  <a:lnTo>
                    <a:pt x="1453" y="225"/>
                  </a:lnTo>
                  <a:lnTo>
                    <a:pt x="1453" y="225"/>
                  </a:lnTo>
                  <a:lnTo>
                    <a:pt x="1453" y="224"/>
                  </a:lnTo>
                  <a:lnTo>
                    <a:pt x="1453" y="224"/>
                  </a:lnTo>
                  <a:lnTo>
                    <a:pt x="1455" y="223"/>
                  </a:lnTo>
                  <a:lnTo>
                    <a:pt x="1455" y="223"/>
                  </a:lnTo>
                  <a:lnTo>
                    <a:pt x="1455" y="223"/>
                  </a:lnTo>
                  <a:lnTo>
                    <a:pt x="1455" y="223"/>
                  </a:lnTo>
                  <a:lnTo>
                    <a:pt x="1457" y="221"/>
                  </a:lnTo>
                  <a:lnTo>
                    <a:pt x="1457" y="221"/>
                  </a:lnTo>
                  <a:lnTo>
                    <a:pt x="1459" y="220"/>
                  </a:lnTo>
                  <a:lnTo>
                    <a:pt x="1459" y="220"/>
                  </a:lnTo>
                  <a:lnTo>
                    <a:pt x="1460" y="218"/>
                  </a:lnTo>
                  <a:lnTo>
                    <a:pt x="1460" y="219"/>
                  </a:lnTo>
                  <a:lnTo>
                    <a:pt x="1462" y="219"/>
                  </a:lnTo>
                  <a:lnTo>
                    <a:pt x="1462" y="219"/>
                  </a:lnTo>
                  <a:lnTo>
                    <a:pt x="1464" y="219"/>
                  </a:lnTo>
                  <a:lnTo>
                    <a:pt x="1465" y="221"/>
                  </a:lnTo>
                  <a:lnTo>
                    <a:pt x="1467" y="221"/>
                  </a:lnTo>
                  <a:lnTo>
                    <a:pt x="1469" y="221"/>
                  </a:lnTo>
                  <a:lnTo>
                    <a:pt x="1471" y="221"/>
                  </a:lnTo>
                  <a:lnTo>
                    <a:pt x="1471" y="224"/>
                  </a:lnTo>
                  <a:lnTo>
                    <a:pt x="1472" y="226"/>
                  </a:lnTo>
                  <a:lnTo>
                    <a:pt x="1472" y="229"/>
                  </a:lnTo>
                  <a:lnTo>
                    <a:pt x="1473" y="231"/>
                  </a:lnTo>
                  <a:lnTo>
                    <a:pt x="1471" y="234"/>
                  </a:lnTo>
                  <a:lnTo>
                    <a:pt x="1471" y="238"/>
                  </a:lnTo>
                  <a:lnTo>
                    <a:pt x="1470" y="241"/>
                  </a:lnTo>
                  <a:lnTo>
                    <a:pt x="1470" y="244"/>
                  </a:lnTo>
                  <a:lnTo>
                    <a:pt x="1469" y="248"/>
                  </a:lnTo>
                  <a:lnTo>
                    <a:pt x="1468" y="251"/>
                  </a:lnTo>
                  <a:lnTo>
                    <a:pt x="1467" y="254"/>
                  </a:lnTo>
                  <a:lnTo>
                    <a:pt x="1467" y="256"/>
                  </a:lnTo>
                  <a:lnTo>
                    <a:pt x="1466" y="258"/>
                  </a:lnTo>
                  <a:lnTo>
                    <a:pt x="1466" y="259"/>
                  </a:lnTo>
                  <a:lnTo>
                    <a:pt x="1466" y="260"/>
                  </a:lnTo>
                  <a:lnTo>
                    <a:pt x="1467" y="259"/>
                  </a:lnTo>
                  <a:lnTo>
                    <a:pt x="1469" y="258"/>
                  </a:lnTo>
                  <a:lnTo>
                    <a:pt x="1470" y="254"/>
                  </a:lnTo>
                  <a:lnTo>
                    <a:pt x="1472" y="251"/>
                  </a:lnTo>
                  <a:lnTo>
                    <a:pt x="1476" y="245"/>
                  </a:lnTo>
                  <a:lnTo>
                    <a:pt x="1479" y="240"/>
                  </a:lnTo>
                  <a:lnTo>
                    <a:pt x="1483" y="233"/>
                  </a:lnTo>
                  <a:lnTo>
                    <a:pt x="1487" y="226"/>
                  </a:lnTo>
                  <a:lnTo>
                    <a:pt x="1490" y="218"/>
                  </a:lnTo>
                  <a:lnTo>
                    <a:pt x="1492" y="212"/>
                  </a:lnTo>
                  <a:lnTo>
                    <a:pt x="1496" y="204"/>
                  </a:lnTo>
                  <a:lnTo>
                    <a:pt x="1499" y="198"/>
                  </a:lnTo>
                  <a:lnTo>
                    <a:pt x="1503" y="191"/>
                  </a:lnTo>
                  <a:lnTo>
                    <a:pt x="1505" y="186"/>
                  </a:lnTo>
                  <a:lnTo>
                    <a:pt x="1508" y="180"/>
                  </a:lnTo>
                  <a:lnTo>
                    <a:pt x="1510" y="176"/>
                  </a:lnTo>
                  <a:lnTo>
                    <a:pt x="1513" y="173"/>
                  </a:lnTo>
                  <a:lnTo>
                    <a:pt x="1513" y="173"/>
                  </a:lnTo>
                  <a:lnTo>
                    <a:pt x="1513" y="172"/>
                  </a:lnTo>
                  <a:lnTo>
                    <a:pt x="1515" y="170"/>
                  </a:lnTo>
                  <a:lnTo>
                    <a:pt x="1518" y="167"/>
                  </a:lnTo>
                  <a:lnTo>
                    <a:pt x="1520" y="165"/>
                  </a:lnTo>
                  <a:lnTo>
                    <a:pt x="1523" y="162"/>
                  </a:lnTo>
                  <a:lnTo>
                    <a:pt x="1525" y="158"/>
                  </a:lnTo>
                  <a:lnTo>
                    <a:pt x="1529" y="155"/>
                  </a:lnTo>
                  <a:lnTo>
                    <a:pt x="1531" y="152"/>
                  </a:lnTo>
                  <a:lnTo>
                    <a:pt x="1535" y="148"/>
                  </a:lnTo>
                  <a:lnTo>
                    <a:pt x="1537" y="144"/>
                  </a:lnTo>
                  <a:lnTo>
                    <a:pt x="1540" y="140"/>
                  </a:lnTo>
                  <a:lnTo>
                    <a:pt x="1542" y="136"/>
                  </a:lnTo>
                  <a:lnTo>
                    <a:pt x="1545" y="132"/>
                  </a:lnTo>
                  <a:lnTo>
                    <a:pt x="1547" y="128"/>
                  </a:lnTo>
                  <a:lnTo>
                    <a:pt x="1549" y="122"/>
                  </a:lnTo>
                  <a:lnTo>
                    <a:pt x="1549" y="120"/>
                  </a:lnTo>
                  <a:lnTo>
                    <a:pt x="1550" y="116"/>
                  </a:lnTo>
                  <a:lnTo>
                    <a:pt x="1550" y="114"/>
                  </a:lnTo>
                  <a:lnTo>
                    <a:pt x="1552" y="110"/>
                  </a:lnTo>
                  <a:lnTo>
                    <a:pt x="1553" y="108"/>
                  </a:lnTo>
                  <a:lnTo>
                    <a:pt x="1555" y="105"/>
                  </a:lnTo>
                  <a:lnTo>
                    <a:pt x="1557" y="102"/>
                  </a:lnTo>
                  <a:lnTo>
                    <a:pt x="1559" y="98"/>
                  </a:lnTo>
                  <a:lnTo>
                    <a:pt x="1559" y="96"/>
                  </a:lnTo>
                  <a:lnTo>
                    <a:pt x="1561" y="95"/>
                  </a:lnTo>
                  <a:lnTo>
                    <a:pt x="1563" y="93"/>
                  </a:lnTo>
                  <a:lnTo>
                    <a:pt x="1565" y="90"/>
                  </a:lnTo>
                  <a:lnTo>
                    <a:pt x="1565" y="88"/>
                  </a:lnTo>
                  <a:lnTo>
                    <a:pt x="1567" y="87"/>
                  </a:lnTo>
                  <a:lnTo>
                    <a:pt x="1567" y="85"/>
                  </a:lnTo>
                  <a:lnTo>
                    <a:pt x="1569" y="84"/>
                  </a:lnTo>
                  <a:lnTo>
                    <a:pt x="1569" y="82"/>
                  </a:lnTo>
                  <a:lnTo>
                    <a:pt x="1569" y="79"/>
                  </a:lnTo>
                  <a:lnTo>
                    <a:pt x="1569" y="77"/>
                  </a:lnTo>
                  <a:lnTo>
                    <a:pt x="1569" y="73"/>
                  </a:lnTo>
                  <a:lnTo>
                    <a:pt x="1568" y="69"/>
                  </a:lnTo>
                  <a:lnTo>
                    <a:pt x="1568" y="65"/>
                  </a:lnTo>
                  <a:lnTo>
                    <a:pt x="1567" y="62"/>
                  </a:lnTo>
                  <a:lnTo>
                    <a:pt x="1567" y="57"/>
                  </a:lnTo>
                  <a:lnTo>
                    <a:pt x="1565" y="54"/>
                  </a:lnTo>
                  <a:lnTo>
                    <a:pt x="1563" y="50"/>
                  </a:lnTo>
                  <a:lnTo>
                    <a:pt x="1561" y="47"/>
                  </a:lnTo>
                  <a:lnTo>
                    <a:pt x="1561" y="43"/>
                  </a:lnTo>
                  <a:lnTo>
                    <a:pt x="1559" y="41"/>
                  </a:lnTo>
                  <a:lnTo>
                    <a:pt x="1557" y="37"/>
                  </a:lnTo>
                  <a:lnTo>
                    <a:pt x="1555" y="36"/>
                  </a:lnTo>
                  <a:lnTo>
                    <a:pt x="1555" y="32"/>
                  </a:lnTo>
                  <a:lnTo>
                    <a:pt x="1553" y="32"/>
                  </a:lnTo>
                  <a:lnTo>
                    <a:pt x="1551" y="31"/>
                  </a:lnTo>
                  <a:lnTo>
                    <a:pt x="1549" y="31"/>
                  </a:lnTo>
                  <a:lnTo>
                    <a:pt x="1549" y="29"/>
                  </a:lnTo>
                  <a:lnTo>
                    <a:pt x="1548" y="29"/>
                  </a:lnTo>
                  <a:lnTo>
                    <a:pt x="1546" y="27"/>
                  </a:lnTo>
                  <a:lnTo>
                    <a:pt x="1544" y="26"/>
                  </a:lnTo>
                  <a:lnTo>
                    <a:pt x="1542" y="24"/>
                  </a:lnTo>
                  <a:lnTo>
                    <a:pt x="1538" y="23"/>
                  </a:lnTo>
                  <a:lnTo>
                    <a:pt x="1537" y="21"/>
                  </a:lnTo>
                  <a:lnTo>
                    <a:pt x="1533" y="19"/>
                  </a:lnTo>
                  <a:lnTo>
                    <a:pt x="1531" y="17"/>
                  </a:lnTo>
                  <a:lnTo>
                    <a:pt x="1527" y="15"/>
                  </a:lnTo>
                  <a:lnTo>
                    <a:pt x="1523" y="11"/>
                  </a:lnTo>
                  <a:lnTo>
                    <a:pt x="1518" y="8"/>
                  </a:lnTo>
                  <a:lnTo>
                    <a:pt x="1515" y="4"/>
                  </a:lnTo>
                  <a:lnTo>
                    <a:pt x="1510" y="4"/>
                  </a:lnTo>
                  <a:lnTo>
                    <a:pt x="1506" y="2"/>
                  </a:lnTo>
                  <a:lnTo>
                    <a:pt x="1500" y="2"/>
                  </a:lnTo>
                  <a:lnTo>
                    <a:pt x="1495" y="0"/>
                  </a:lnTo>
                  <a:lnTo>
                    <a:pt x="1489" y="1"/>
                  </a:lnTo>
                  <a:lnTo>
                    <a:pt x="1483" y="1"/>
                  </a:lnTo>
                  <a:lnTo>
                    <a:pt x="1477" y="1"/>
                  </a:lnTo>
                  <a:lnTo>
                    <a:pt x="1471" y="1"/>
                  </a:lnTo>
                  <a:lnTo>
                    <a:pt x="1465" y="3"/>
                  </a:lnTo>
                  <a:lnTo>
                    <a:pt x="1459" y="3"/>
                  </a:lnTo>
                  <a:lnTo>
                    <a:pt x="1453" y="4"/>
                  </a:lnTo>
                  <a:lnTo>
                    <a:pt x="1450" y="4"/>
                  </a:lnTo>
                  <a:lnTo>
                    <a:pt x="1445" y="6"/>
                  </a:lnTo>
                  <a:lnTo>
                    <a:pt x="1442" y="6"/>
                  </a:lnTo>
                  <a:lnTo>
                    <a:pt x="1440" y="6"/>
                  </a:lnTo>
                  <a:lnTo>
                    <a:pt x="1440" y="5"/>
                  </a:lnTo>
                  <a:lnTo>
                    <a:pt x="1436" y="5"/>
                  </a:lnTo>
                  <a:lnTo>
                    <a:pt x="1432" y="4"/>
                  </a:lnTo>
                  <a:lnTo>
                    <a:pt x="1427" y="4"/>
                  </a:lnTo>
                  <a:lnTo>
                    <a:pt x="1422" y="4"/>
                  </a:lnTo>
                  <a:lnTo>
                    <a:pt x="1415" y="6"/>
                  </a:lnTo>
                  <a:lnTo>
                    <a:pt x="1409" y="7"/>
                  </a:lnTo>
                  <a:lnTo>
                    <a:pt x="1401" y="9"/>
                  </a:lnTo>
                  <a:lnTo>
                    <a:pt x="1394" y="10"/>
                  </a:lnTo>
                  <a:lnTo>
                    <a:pt x="1387" y="13"/>
                  </a:lnTo>
                  <a:lnTo>
                    <a:pt x="1379" y="15"/>
                  </a:lnTo>
                  <a:lnTo>
                    <a:pt x="1372" y="17"/>
                  </a:lnTo>
                  <a:lnTo>
                    <a:pt x="1365" y="18"/>
                  </a:lnTo>
                  <a:lnTo>
                    <a:pt x="1359" y="20"/>
                  </a:lnTo>
                  <a:lnTo>
                    <a:pt x="1354" y="22"/>
                  </a:lnTo>
                  <a:lnTo>
                    <a:pt x="1351" y="24"/>
                  </a:lnTo>
                  <a:lnTo>
                    <a:pt x="1348" y="25"/>
                  </a:lnTo>
                  <a:lnTo>
                    <a:pt x="1346" y="27"/>
                  </a:lnTo>
                  <a:lnTo>
                    <a:pt x="1345" y="27"/>
                  </a:lnTo>
                  <a:lnTo>
                    <a:pt x="1343" y="27"/>
                  </a:lnTo>
                  <a:lnTo>
                    <a:pt x="1342" y="27"/>
                  </a:lnTo>
                  <a:lnTo>
                    <a:pt x="1339" y="29"/>
                  </a:lnTo>
                  <a:lnTo>
                    <a:pt x="1337" y="30"/>
                  </a:lnTo>
                  <a:lnTo>
                    <a:pt x="1334" y="32"/>
                  </a:lnTo>
                  <a:lnTo>
                    <a:pt x="1332" y="32"/>
                  </a:lnTo>
                  <a:lnTo>
                    <a:pt x="1327" y="34"/>
                  </a:lnTo>
                  <a:lnTo>
                    <a:pt x="1323" y="36"/>
                  </a:lnTo>
                  <a:lnTo>
                    <a:pt x="1317" y="37"/>
                  </a:lnTo>
                  <a:lnTo>
                    <a:pt x="1313" y="39"/>
                  </a:lnTo>
                  <a:lnTo>
                    <a:pt x="1307" y="43"/>
                  </a:lnTo>
                  <a:lnTo>
                    <a:pt x="1301" y="45"/>
                  </a:lnTo>
                  <a:lnTo>
                    <a:pt x="1294" y="48"/>
                  </a:lnTo>
                  <a:lnTo>
                    <a:pt x="1287" y="50"/>
                  </a:lnTo>
                  <a:lnTo>
                    <a:pt x="1279" y="54"/>
                  </a:lnTo>
                  <a:lnTo>
                    <a:pt x="1271" y="58"/>
                  </a:lnTo>
                  <a:lnTo>
                    <a:pt x="1264" y="62"/>
                  </a:lnTo>
                  <a:lnTo>
                    <a:pt x="1257" y="65"/>
                  </a:lnTo>
                  <a:lnTo>
                    <a:pt x="1249" y="69"/>
                  </a:lnTo>
                  <a:lnTo>
                    <a:pt x="1244" y="73"/>
                  </a:lnTo>
                  <a:lnTo>
                    <a:pt x="1238" y="77"/>
                  </a:lnTo>
                  <a:lnTo>
                    <a:pt x="1233" y="80"/>
                  </a:lnTo>
                  <a:lnTo>
                    <a:pt x="1227" y="84"/>
                  </a:lnTo>
                  <a:lnTo>
                    <a:pt x="1221" y="88"/>
                  </a:lnTo>
                  <a:lnTo>
                    <a:pt x="1217" y="92"/>
                  </a:lnTo>
                  <a:lnTo>
                    <a:pt x="1213" y="94"/>
                  </a:lnTo>
                  <a:lnTo>
                    <a:pt x="1209" y="96"/>
                  </a:lnTo>
                  <a:lnTo>
                    <a:pt x="1206" y="98"/>
                  </a:lnTo>
                  <a:lnTo>
                    <a:pt x="1204" y="100"/>
                  </a:lnTo>
                  <a:lnTo>
                    <a:pt x="1203" y="102"/>
                  </a:lnTo>
                  <a:lnTo>
                    <a:pt x="1199" y="104"/>
                  </a:lnTo>
                  <a:lnTo>
                    <a:pt x="1195" y="106"/>
                  </a:lnTo>
                  <a:lnTo>
                    <a:pt x="1189" y="111"/>
                  </a:lnTo>
                  <a:lnTo>
                    <a:pt x="1183" y="115"/>
                  </a:lnTo>
                  <a:lnTo>
                    <a:pt x="1174" y="122"/>
                  </a:lnTo>
                  <a:lnTo>
                    <a:pt x="1165" y="128"/>
                  </a:lnTo>
                  <a:lnTo>
                    <a:pt x="1156" y="135"/>
                  </a:lnTo>
                  <a:lnTo>
                    <a:pt x="1147" y="141"/>
                  </a:lnTo>
                  <a:lnTo>
                    <a:pt x="1136" y="148"/>
                  </a:lnTo>
                  <a:lnTo>
                    <a:pt x="1127" y="155"/>
                  </a:lnTo>
                  <a:lnTo>
                    <a:pt x="1117" y="162"/>
                  </a:lnTo>
                  <a:lnTo>
                    <a:pt x="1109" y="168"/>
                  </a:lnTo>
                  <a:lnTo>
                    <a:pt x="1101" y="173"/>
                  </a:lnTo>
                  <a:lnTo>
                    <a:pt x="1095" y="178"/>
                  </a:lnTo>
                  <a:lnTo>
                    <a:pt x="1091" y="182"/>
                  </a:lnTo>
                  <a:lnTo>
                    <a:pt x="1089" y="183"/>
                  </a:lnTo>
                  <a:lnTo>
                    <a:pt x="1085" y="186"/>
                  </a:lnTo>
                  <a:lnTo>
                    <a:pt x="1080" y="191"/>
                  </a:lnTo>
                  <a:lnTo>
                    <a:pt x="1073" y="198"/>
                  </a:lnTo>
                  <a:lnTo>
                    <a:pt x="1065" y="204"/>
                  </a:lnTo>
                  <a:lnTo>
                    <a:pt x="1055" y="213"/>
                  </a:lnTo>
                  <a:lnTo>
                    <a:pt x="1045" y="221"/>
                  </a:lnTo>
                  <a:lnTo>
                    <a:pt x="1034" y="230"/>
                  </a:lnTo>
                  <a:lnTo>
                    <a:pt x="1023" y="239"/>
                  </a:lnTo>
                  <a:lnTo>
                    <a:pt x="1012" y="248"/>
                  </a:lnTo>
                  <a:lnTo>
                    <a:pt x="1001" y="258"/>
                  </a:lnTo>
                  <a:lnTo>
                    <a:pt x="991" y="266"/>
                  </a:lnTo>
                  <a:lnTo>
                    <a:pt x="982" y="274"/>
                  </a:lnTo>
                  <a:lnTo>
                    <a:pt x="974" y="281"/>
                  </a:lnTo>
                  <a:lnTo>
                    <a:pt x="967" y="286"/>
                  </a:lnTo>
                  <a:lnTo>
                    <a:pt x="962" y="290"/>
                  </a:lnTo>
                  <a:lnTo>
                    <a:pt x="961" y="291"/>
                  </a:lnTo>
                  <a:lnTo>
                    <a:pt x="958" y="294"/>
                  </a:lnTo>
                  <a:lnTo>
                    <a:pt x="954" y="296"/>
                  </a:lnTo>
                  <a:lnTo>
                    <a:pt x="947" y="301"/>
                  </a:lnTo>
                  <a:lnTo>
                    <a:pt x="940" y="307"/>
                  </a:lnTo>
                  <a:lnTo>
                    <a:pt x="931" y="314"/>
                  </a:lnTo>
                  <a:lnTo>
                    <a:pt x="921" y="322"/>
                  </a:lnTo>
                  <a:lnTo>
                    <a:pt x="910" y="330"/>
                  </a:lnTo>
                  <a:lnTo>
                    <a:pt x="901" y="338"/>
                  </a:lnTo>
                  <a:lnTo>
                    <a:pt x="889" y="348"/>
                  </a:lnTo>
                  <a:lnTo>
                    <a:pt x="879" y="355"/>
                  </a:lnTo>
                  <a:lnTo>
                    <a:pt x="869" y="362"/>
                  </a:lnTo>
                  <a:lnTo>
                    <a:pt x="861" y="368"/>
                  </a:lnTo>
                  <a:lnTo>
                    <a:pt x="853" y="374"/>
                  </a:lnTo>
                  <a:lnTo>
                    <a:pt x="848" y="377"/>
                  </a:lnTo>
                  <a:lnTo>
                    <a:pt x="844" y="380"/>
                  </a:lnTo>
                  <a:lnTo>
                    <a:pt x="843" y="379"/>
                  </a:lnTo>
                  <a:lnTo>
                    <a:pt x="833" y="372"/>
                  </a:lnTo>
                  <a:lnTo>
                    <a:pt x="824" y="364"/>
                  </a:lnTo>
                  <a:lnTo>
                    <a:pt x="814" y="355"/>
                  </a:lnTo>
                  <a:lnTo>
                    <a:pt x="805" y="346"/>
                  </a:lnTo>
                  <a:lnTo>
                    <a:pt x="793" y="337"/>
                  </a:lnTo>
                  <a:lnTo>
                    <a:pt x="784" y="328"/>
                  </a:lnTo>
                  <a:lnTo>
                    <a:pt x="773" y="319"/>
                  </a:lnTo>
                  <a:lnTo>
                    <a:pt x="764" y="309"/>
                  </a:lnTo>
                  <a:lnTo>
                    <a:pt x="754" y="302"/>
                  </a:lnTo>
                  <a:lnTo>
                    <a:pt x="745" y="294"/>
                  </a:lnTo>
                  <a:lnTo>
                    <a:pt x="736" y="288"/>
                  </a:lnTo>
                  <a:lnTo>
                    <a:pt x="728" y="281"/>
                  </a:lnTo>
                  <a:lnTo>
                    <a:pt x="721" y="276"/>
                  </a:lnTo>
                  <a:lnTo>
                    <a:pt x="715" y="271"/>
                  </a:lnTo>
                  <a:lnTo>
                    <a:pt x="711" y="268"/>
                  </a:lnTo>
                  <a:lnTo>
                    <a:pt x="709" y="265"/>
                  </a:lnTo>
                  <a:lnTo>
                    <a:pt x="702" y="262"/>
                  </a:lnTo>
                  <a:lnTo>
                    <a:pt x="694" y="258"/>
                  </a:lnTo>
                  <a:lnTo>
                    <a:pt x="684" y="251"/>
                  </a:lnTo>
                  <a:lnTo>
                    <a:pt x="674" y="243"/>
                  </a:lnTo>
                  <a:lnTo>
                    <a:pt x="661" y="234"/>
                  </a:lnTo>
                  <a:lnTo>
                    <a:pt x="649" y="225"/>
                  </a:lnTo>
                  <a:lnTo>
                    <a:pt x="634" y="216"/>
                  </a:lnTo>
                  <a:lnTo>
                    <a:pt x="621" y="205"/>
                  </a:lnTo>
                  <a:lnTo>
                    <a:pt x="606" y="196"/>
                  </a:lnTo>
                  <a:lnTo>
                    <a:pt x="593" y="186"/>
                  </a:lnTo>
                  <a:lnTo>
                    <a:pt x="580" y="178"/>
                  </a:lnTo>
                  <a:lnTo>
                    <a:pt x="568" y="169"/>
                  </a:lnTo>
                  <a:lnTo>
                    <a:pt x="556" y="163"/>
                  </a:lnTo>
                  <a:lnTo>
                    <a:pt x="547" y="156"/>
                  </a:lnTo>
                  <a:lnTo>
                    <a:pt x="539" y="152"/>
                  </a:lnTo>
                  <a:lnTo>
                    <a:pt x="535" y="149"/>
                  </a:lnTo>
                  <a:lnTo>
                    <a:pt x="529" y="149"/>
                  </a:lnTo>
                  <a:lnTo>
                    <a:pt x="524" y="147"/>
                  </a:lnTo>
                  <a:lnTo>
                    <a:pt x="518" y="146"/>
                  </a:lnTo>
                  <a:lnTo>
                    <a:pt x="513" y="144"/>
                  </a:lnTo>
                  <a:lnTo>
                    <a:pt x="505" y="142"/>
                  </a:lnTo>
                  <a:lnTo>
                    <a:pt x="498" y="140"/>
                  </a:lnTo>
                  <a:lnTo>
                    <a:pt x="491" y="138"/>
                  </a:lnTo>
                  <a:lnTo>
                    <a:pt x="485" y="136"/>
                  </a:lnTo>
                  <a:lnTo>
                    <a:pt x="477" y="136"/>
                  </a:lnTo>
                  <a:lnTo>
                    <a:pt x="470" y="135"/>
                  </a:lnTo>
                  <a:lnTo>
                    <a:pt x="463" y="134"/>
                  </a:lnTo>
                  <a:lnTo>
                    <a:pt x="457" y="132"/>
                  </a:lnTo>
                  <a:lnTo>
                    <a:pt x="450" y="132"/>
                  </a:lnTo>
                  <a:lnTo>
                    <a:pt x="445" y="130"/>
                  </a:lnTo>
                  <a:lnTo>
                    <a:pt x="439" y="130"/>
                  </a:lnTo>
                  <a:lnTo>
                    <a:pt x="435" y="128"/>
                  </a:lnTo>
                  <a:lnTo>
                    <a:pt x="428" y="128"/>
                  </a:lnTo>
                  <a:lnTo>
                    <a:pt x="418" y="127"/>
                  </a:lnTo>
                  <a:lnTo>
                    <a:pt x="406" y="127"/>
                  </a:lnTo>
                  <a:lnTo>
                    <a:pt x="393" y="125"/>
                  </a:lnTo>
                  <a:lnTo>
                    <a:pt x="378" y="125"/>
                  </a:lnTo>
                  <a:lnTo>
                    <a:pt x="362" y="124"/>
                  </a:lnTo>
                  <a:lnTo>
                    <a:pt x="345" y="124"/>
                  </a:lnTo>
                  <a:lnTo>
                    <a:pt x="328" y="122"/>
                  </a:lnTo>
                  <a:lnTo>
                    <a:pt x="311" y="122"/>
                  </a:lnTo>
                  <a:lnTo>
                    <a:pt x="294" y="121"/>
                  </a:lnTo>
                  <a:lnTo>
                    <a:pt x="279" y="121"/>
                  </a:lnTo>
                  <a:lnTo>
                    <a:pt x="265" y="119"/>
                  </a:lnTo>
                  <a:lnTo>
                    <a:pt x="251" y="119"/>
                  </a:lnTo>
                  <a:lnTo>
                    <a:pt x="241" y="118"/>
                  </a:lnTo>
                  <a:lnTo>
                    <a:pt x="232" y="118"/>
                  </a:lnTo>
                  <a:lnTo>
                    <a:pt x="228" y="117"/>
                  </a:lnTo>
                  <a:lnTo>
                    <a:pt x="223" y="117"/>
                  </a:lnTo>
                  <a:lnTo>
                    <a:pt x="220" y="117"/>
                  </a:lnTo>
                  <a:lnTo>
                    <a:pt x="214" y="117"/>
                  </a:lnTo>
                  <a:lnTo>
                    <a:pt x="211" y="117"/>
                  </a:lnTo>
                  <a:lnTo>
                    <a:pt x="205" y="117"/>
                  </a:lnTo>
                  <a:lnTo>
                    <a:pt x="200" y="117"/>
                  </a:lnTo>
                  <a:lnTo>
                    <a:pt x="194" y="117"/>
                  </a:lnTo>
                  <a:lnTo>
                    <a:pt x="190" y="115"/>
                  </a:lnTo>
                  <a:lnTo>
                    <a:pt x="184" y="115"/>
                  </a:lnTo>
                  <a:lnTo>
                    <a:pt x="179" y="115"/>
                  </a:lnTo>
                  <a:lnTo>
                    <a:pt x="174" y="115"/>
                  </a:lnTo>
                  <a:lnTo>
                    <a:pt x="170" y="115"/>
                  </a:lnTo>
                  <a:lnTo>
                    <a:pt x="165" y="116"/>
                  </a:lnTo>
                  <a:lnTo>
                    <a:pt x="162" y="116"/>
                  </a:lnTo>
                  <a:lnTo>
                    <a:pt x="159" y="116"/>
                  </a:lnTo>
                  <a:lnTo>
                    <a:pt x="158" y="116"/>
                  </a:lnTo>
                  <a:lnTo>
                    <a:pt x="155" y="118"/>
                  </a:lnTo>
                  <a:lnTo>
                    <a:pt x="153" y="119"/>
                  </a:lnTo>
                  <a:lnTo>
                    <a:pt x="151" y="121"/>
                  </a:lnTo>
                  <a:lnTo>
                    <a:pt x="149" y="122"/>
                  </a:lnTo>
                  <a:lnTo>
                    <a:pt x="145" y="125"/>
                  </a:lnTo>
                  <a:lnTo>
                    <a:pt x="144" y="127"/>
                  </a:lnTo>
                  <a:lnTo>
                    <a:pt x="142" y="129"/>
                  </a:lnTo>
                  <a:lnTo>
                    <a:pt x="140" y="131"/>
                  </a:lnTo>
                  <a:lnTo>
                    <a:pt x="136" y="134"/>
                  </a:lnTo>
                  <a:lnTo>
                    <a:pt x="134" y="136"/>
                  </a:lnTo>
                  <a:lnTo>
                    <a:pt x="132" y="138"/>
                  </a:lnTo>
                  <a:lnTo>
                    <a:pt x="130" y="140"/>
                  </a:lnTo>
                  <a:lnTo>
                    <a:pt x="128" y="142"/>
                  </a:lnTo>
                  <a:lnTo>
                    <a:pt x="126" y="143"/>
                  </a:lnTo>
                  <a:lnTo>
                    <a:pt x="124" y="144"/>
                  </a:lnTo>
                  <a:lnTo>
                    <a:pt x="123" y="144"/>
                  </a:lnTo>
                  <a:lnTo>
                    <a:pt x="121" y="145"/>
                  </a:lnTo>
                  <a:lnTo>
                    <a:pt x="119" y="145"/>
                  </a:lnTo>
                  <a:lnTo>
                    <a:pt x="117" y="145"/>
                  </a:lnTo>
                  <a:lnTo>
                    <a:pt x="116" y="145"/>
                  </a:lnTo>
                  <a:lnTo>
                    <a:pt x="114" y="145"/>
                  </a:lnTo>
                  <a:lnTo>
                    <a:pt x="113" y="145"/>
                  </a:lnTo>
                  <a:lnTo>
                    <a:pt x="111" y="145"/>
                  </a:lnTo>
                  <a:lnTo>
                    <a:pt x="109" y="143"/>
                  </a:lnTo>
                  <a:lnTo>
                    <a:pt x="107" y="143"/>
                  </a:lnTo>
                  <a:lnTo>
                    <a:pt x="105" y="143"/>
                  </a:lnTo>
                  <a:lnTo>
                    <a:pt x="103" y="143"/>
                  </a:lnTo>
                  <a:lnTo>
                    <a:pt x="101" y="142"/>
                  </a:lnTo>
                  <a:lnTo>
                    <a:pt x="99" y="142"/>
                  </a:lnTo>
                  <a:lnTo>
                    <a:pt x="97" y="142"/>
                  </a:lnTo>
                  <a:lnTo>
                    <a:pt x="96" y="142"/>
                  </a:lnTo>
                  <a:lnTo>
                    <a:pt x="95" y="142"/>
                  </a:lnTo>
                  <a:lnTo>
                    <a:pt x="91" y="144"/>
                  </a:lnTo>
                  <a:lnTo>
                    <a:pt x="88" y="145"/>
                  </a:lnTo>
                  <a:lnTo>
                    <a:pt x="85" y="146"/>
                  </a:lnTo>
                  <a:lnTo>
                    <a:pt x="83" y="146"/>
                  </a:lnTo>
                  <a:lnTo>
                    <a:pt x="79" y="147"/>
                  </a:lnTo>
                  <a:lnTo>
                    <a:pt x="75" y="147"/>
                  </a:lnTo>
                  <a:lnTo>
                    <a:pt x="71" y="147"/>
                  </a:lnTo>
                  <a:lnTo>
                    <a:pt x="68" y="147"/>
                  </a:lnTo>
                  <a:lnTo>
                    <a:pt x="65" y="149"/>
                  </a:lnTo>
                  <a:lnTo>
                    <a:pt x="61" y="149"/>
                  </a:lnTo>
                  <a:lnTo>
                    <a:pt x="57" y="150"/>
                  </a:lnTo>
                  <a:lnTo>
                    <a:pt x="54" y="150"/>
                  </a:lnTo>
                  <a:lnTo>
                    <a:pt x="50" y="152"/>
                  </a:lnTo>
                  <a:lnTo>
                    <a:pt x="47" y="153"/>
                  </a:lnTo>
                  <a:lnTo>
                    <a:pt x="45" y="155"/>
                  </a:lnTo>
                  <a:lnTo>
                    <a:pt x="43" y="156"/>
                  </a:lnTo>
                  <a:lnTo>
                    <a:pt x="41" y="157"/>
                  </a:lnTo>
                  <a:lnTo>
                    <a:pt x="41" y="157"/>
                  </a:lnTo>
                  <a:lnTo>
                    <a:pt x="40" y="158"/>
                  </a:lnTo>
                  <a:lnTo>
                    <a:pt x="40" y="158"/>
                  </a:lnTo>
                  <a:lnTo>
                    <a:pt x="38" y="160"/>
                  </a:lnTo>
                  <a:lnTo>
                    <a:pt x="37" y="160"/>
                  </a:lnTo>
                  <a:lnTo>
                    <a:pt x="35" y="162"/>
                  </a:lnTo>
                  <a:lnTo>
                    <a:pt x="35" y="162"/>
                  </a:lnTo>
                  <a:lnTo>
                    <a:pt x="33" y="163"/>
                  </a:lnTo>
                  <a:lnTo>
                    <a:pt x="31" y="165"/>
                  </a:lnTo>
                  <a:lnTo>
                    <a:pt x="29" y="167"/>
                  </a:lnTo>
                  <a:lnTo>
                    <a:pt x="29" y="168"/>
                  </a:lnTo>
                  <a:lnTo>
                    <a:pt x="27" y="171"/>
                  </a:lnTo>
                  <a:lnTo>
                    <a:pt x="25" y="173"/>
                  </a:lnTo>
                  <a:lnTo>
                    <a:pt x="23" y="174"/>
                  </a:lnTo>
                  <a:lnTo>
                    <a:pt x="23" y="176"/>
                  </a:lnTo>
                  <a:lnTo>
                    <a:pt x="21" y="179"/>
                  </a:lnTo>
                  <a:lnTo>
                    <a:pt x="21" y="181"/>
                  </a:lnTo>
                  <a:lnTo>
                    <a:pt x="19" y="183"/>
                  </a:lnTo>
                  <a:lnTo>
                    <a:pt x="19" y="184"/>
                  </a:lnTo>
                  <a:lnTo>
                    <a:pt x="18" y="187"/>
                  </a:lnTo>
                  <a:lnTo>
                    <a:pt x="18" y="189"/>
                  </a:lnTo>
                  <a:lnTo>
                    <a:pt x="17" y="191"/>
                  </a:lnTo>
                  <a:lnTo>
                    <a:pt x="17" y="193"/>
                  </a:lnTo>
                  <a:lnTo>
                    <a:pt x="15" y="195"/>
                  </a:lnTo>
                  <a:lnTo>
                    <a:pt x="15" y="197"/>
                  </a:lnTo>
                  <a:lnTo>
                    <a:pt x="15" y="199"/>
                  </a:lnTo>
                  <a:lnTo>
                    <a:pt x="15" y="201"/>
                  </a:lnTo>
                  <a:lnTo>
                    <a:pt x="15" y="203"/>
                  </a:lnTo>
                  <a:lnTo>
                    <a:pt x="15" y="203"/>
                  </a:lnTo>
                  <a:lnTo>
                    <a:pt x="15" y="204"/>
                  </a:lnTo>
                  <a:lnTo>
                    <a:pt x="15" y="204"/>
                  </a:lnTo>
                  <a:lnTo>
                    <a:pt x="13" y="208"/>
                  </a:lnTo>
                  <a:lnTo>
                    <a:pt x="13" y="210"/>
                  </a:lnTo>
                  <a:lnTo>
                    <a:pt x="13" y="214"/>
                  </a:lnTo>
                  <a:lnTo>
                    <a:pt x="15" y="218"/>
                  </a:lnTo>
                  <a:lnTo>
                    <a:pt x="15" y="223"/>
                  </a:lnTo>
                  <a:lnTo>
                    <a:pt x="17" y="228"/>
                  </a:lnTo>
                  <a:lnTo>
                    <a:pt x="19" y="233"/>
                  </a:lnTo>
                  <a:lnTo>
                    <a:pt x="21" y="238"/>
                  </a:lnTo>
                  <a:lnTo>
                    <a:pt x="22" y="243"/>
                  </a:lnTo>
                  <a:lnTo>
                    <a:pt x="24" y="249"/>
                  </a:lnTo>
                  <a:lnTo>
                    <a:pt x="26" y="254"/>
                  </a:lnTo>
                  <a:lnTo>
                    <a:pt x="28" y="258"/>
                  </a:lnTo>
                  <a:lnTo>
                    <a:pt x="28" y="262"/>
                  </a:lnTo>
                  <a:lnTo>
                    <a:pt x="29" y="266"/>
                  </a:lnTo>
                  <a:lnTo>
                    <a:pt x="30" y="268"/>
                  </a:lnTo>
                  <a:lnTo>
                    <a:pt x="32" y="269"/>
                  </a:lnTo>
                  <a:lnTo>
                    <a:pt x="31" y="271"/>
                  </a:lnTo>
                  <a:lnTo>
                    <a:pt x="31" y="273"/>
                  </a:lnTo>
                  <a:lnTo>
                    <a:pt x="30" y="277"/>
                  </a:lnTo>
                  <a:lnTo>
                    <a:pt x="30" y="280"/>
                  </a:lnTo>
                  <a:lnTo>
                    <a:pt x="28" y="284"/>
                  </a:lnTo>
                  <a:lnTo>
                    <a:pt x="28" y="288"/>
                  </a:lnTo>
                  <a:lnTo>
                    <a:pt x="26" y="291"/>
                  </a:lnTo>
                  <a:lnTo>
                    <a:pt x="26" y="295"/>
                  </a:lnTo>
                  <a:lnTo>
                    <a:pt x="24" y="300"/>
                  </a:lnTo>
                  <a:lnTo>
                    <a:pt x="23" y="304"/>
                  </a:lnTo>
                  <a:lnTo>
                    <a:pt x="21" y="308"/>
                  </a:lnTo>
                  <a:lnTo>
                    <a:pt x="21" y="311"/>
                  </a:lnTo>
                  <a:lnTo>
                    <a:pt x="19" y="314"/>
                  </a:lnTo>
                  <a:lnTo>
                    <a:pt x="19" y="317"/>
                  </a:lnTo>
                  <a:lnTo>
                    <a:pt x="19" y="319"/>
                  </a:lnTo>
                  <a:lnTo>
                    <a:pt x="19" y="319"/>
                  </a:lnTo>
                  <a:lnTo>
                    <a:pt x="19" y="322"/>
                  </a:lnTo>
                  <a:lnTo>
                    <a:pt x="20" y="324"/>
                  </a:lnTo>
                  <a:lnTo>
                    <a:pt x="21" y="328"/>
                  </a:lnTo>
                  <a:lnTo>
                    <a:pt x="23" y="330"/>
                  </a:lnTo>
                  <a:lnTo>
                    <a:pt x="25" y="336"/>
                  </a:lnTo>
                  <a:lnTo>
                    <a:pt x="27" y="339"/>
                  </a:lnTo>
                  <a:lnTo>
                    <a:pt x="29" y="344"/>
                  </a:lnTo>
                  <a:lnTo>
                    <a:pt x="32" y="348"/>
                  </a:lnTo>
                  <a:lnTo>
                    <a:pt x="34" y="354"/>
                  </a:lnTo>
                  <a:lnTo>
                    <a:pt x="36" y="358"/>
                  </a:lnTo>
                  <a:lnTo>
                    <a:pt x="38" y="363"/>
                  </a:lnTo>
                  <a:lnTo>
                    <a:pt x="42" y="367"/>
                  </a:lnTo>
                  <a:lnTo>
                    <a:pt x="44" y="370"/>
                  </a:lnTo>
                  <a:lnTo>
                    <a:pt x="46" y="374"/>
                  </a:lnTo>
                  <a:lnTo>
                    <a:pt x="47" y="376"/>
                  </a:lnTo>
                  <a:lnTo>
                    <a:pt x="49" y="377"/>
                  </a:lnTo>
                  <a:lnTo>
                    <a:pt x="50" y="380"/>
                  </a:lnTo>
                  <a:lnTo>
                    <a:pt x="52" y="382"/>
                  </a:lnTo>
                  <a:lnTo>
                    <a:pt x="54" y="386"/>
                  </a:lnTo>
                  <a:lnTo>
                    <a:pt x="57" y="389"/>
                  </a:lnTo>
                  <a:lnTo>
                    <a:pt x="61" y="395"/>
                  </a:lnTo>
                  <a:lnTo>
                    <a:pt x="65" y="399"/>
                  </a:lnTo>
                  <a:lnTo>
                    <a:pt x="68" y="404"/>
                  </a:lnTo>
                  <a:lnTo>
                    <a:pt x="73" y="408"/>
                  </a:lnTo>
                  <a:lnTo>
                    <a:pt x="76" y="414"/>
                  </a:lnTo>
                  <a:lnTo>
                    <a:pt x="80" y="418"/>
                  </a:lnTo>
                  <a:lnTo>
                    <a:pt x="84" y="422"/>
                  </a:lnTo>
                  <a:lnTo>
                    <a:pt x="87" y="426"/>
                  </a:lnTo>
                  <a:lnTo>
                    <a:pt x="89" y="430"/>
                  </a:lnTo>
                  <a:lnTo>
                    <a:pt x="93" y="433"/>
                  </a:lnTo>
                  <a:lnTo>
                    <a:pt x="95" y="435"/>
                  </a:lnTo>
                  <a:lnTo>
                    <a:pt x="97" y="436"/>
                  </a:lnTo>
                  <a:lnTo>
                    <a:pt x="99" y="437"/>
                  </a:lnTo>
                  <a:lnTo>
                    <a:pt x="101" y="438"/>
                  </a:lnTo>
                  <a:lnTo>
                    <a:pt x="104" y="442"/>
                  </a:lnTo>
                  <a:lnTo>
                    <a:pt x="107" y="444"/>
                  </a:lnTo>
                  <a:lnTo>
                    <a:pt x="111" y="448"/>
                  </a:lnTo>
                  <a:lnTo>
                    <a:pt x="116" y="452"/>
                  </a:lnTo>
                  <a:lnTo>
                    <a:pt x="119" y="456"/>
                  </a:lnTo>
                  <a:lnTo>
                    <a:pt x="125" y="460"/>
                  </a:lnTo>
                  <a:lnTo>
                    <a:pt x="129" y="465"/>
                  </a:lnTo>
                  <a:lnTo>
                    <a:pt x="134" y="469"/>
                  </a:lnTo>
                  <a:lnTo>
                    <a:pt x="137" y="474"/>
                  </a:lnTo>
                  <a:lnTo>
                    <a:pt x="143" y="477"/>
                  </a:lnTo>
                  <a:lnTo>
                    <a:pt x="147" y="481"/>
                  </a:lnTo>
                  <a:lnTo>
                    <a:pt x="151" y="484"/>
                  </a:lnTo>
                  <a:lnTo>
                    <a:pt x="153" y="485"/>
                  </a:lnTo>
                  <a:lnTo>
                    <a:pt x="156" y="486"/>
                  </a:lnTo>
                  <a:lnTo>
                    <a:pt x="158" y="488"/>
                  </a:lnTo>
                  <a:lnTo>
                    <a:pt x="163" y="490"/>
                  </a:lnTo>
                  <a:lnTo>
                    <a:pt x="168" y="493"/>
                  </a:lnTo>
                  <a:lnTo>
                    <a:pt x="175" y="496"/>
                  </a:lnTo>
                  <a:lnTo>
                    <a:pt x="183" y="502"/>
                  </a:lnTo>
                  <a:lnTo>
                    <a:pt x="192" y="506"/>
                  </a:lnTo>
                  <a:lnTo>
                    <a:pt x="202" y="512"/>
                  </a:lnTo>
                  <a:lnTo>
                    <a:pt x="212" y="515"/>
                  </a:lnTo>
                  <a:lnTo>
                    <a:pt x="222" y="521"/>
                  </a:lnTo>
                  <a:lnTo>
                    <a:pt x="231" y="526"/>
                  </a:lnTo>
                  <a:lnTo>
                    <a:pt x="240" y="532"/>
                  </a:lnTo>
                  <a:lnTo>
                    <a:pt x="249" y="536"/>
                  </a:lnTo>
                  <a:lnTo>
                    <a:pt x="255" y="540"/>
                  </a:lnTo>
                  <a:lnTo>
                    <a:pt x="262" y="544"/>
                  </a:lnTo>
                  <a:lnTo>
                    <a:pt x="267" y="547"/>
                  </a:lnTo>
                  <a:lnTo>
                    <a:pt x="270" y="549"/>
                  </a:lnTo>
                  <a:lnTo>
                    <a:pt x="272" y="552"/>
                  </a:lnTo>
                  <a:lnTo>
                    <a:pt x="276" y="554"/>
                  </a:lnTo>
                  <a:lnTo>
                    <a:pt x="281" y="557"/>
                  </a:lnTo>
                  <a:lnTo>
                    <a:pt x="287" y="559"/>
                  </a:lnTo>
                  <a:lnTo>
                    <a:pt x="294" y="563"/>
                  </a:lnTo>
                  <a:lnTo>
                    <a:pt x="301" y="565"/>
                  </a:lnTo>
                  <a:lnTo>
                    <a:pt x="309" y="569"/>
                  </a:lnTo>
                  <a:lnTo>
                    <a:pt x="319" y="571"/>
                  </a:lnTo>
                  <a:lnTo>
                    <a:pt x="326" y="574"/>
                  </a:lnTo>
                  <a:lnTo>
                    <a:pt x="333" y="576"/>
                  </a:lnTo>
                  <a:lnTo>
                    <a:pt x="340" y="580"/>
                  </a:lnTo>
                  <a:lnTo>
                    <a:pt x="348" y="582"/>
                  </a:lnTo>
                  <a:lnTo>
                    <a:pt x="352" y="583"/>
                  </a:lnTo>
                  <a:lnTo>
                    <a:pt x="357" y="584"/>
                  </a:lnTo>
                  <a:lnTo>
                    <a:pt x="359" y="585"/>
                  </a:lnTo>
                  <a:lnTo>
                    <a:pt x="362" y="584"/>
                  </a:lnTo>
                  <a:lnTo>
                    <a:pt x="361" y="584"/>
                  </a:lnTo>
                  <a:lnTo>
                    <a:pt x="359" y="583"/>
                  </a:lnTo>
                  <a:lnTo>
                    <a:pt x="355" y="580"/>
                  </a:lnTo>
                  <a:lnTo>
                    <a:pt x="350" y="576"/>
                  </a:lnTo>
                  <a:lnTo>
                    <a:pt x="343" y="572"/>
                  </a:lnTo>
                  <a:lnTo>
                    <a:pt x="337" y="566"/>
                  </a:lnTo>
                  <a:lnTo>
                    <a:pt x="330" y="561"/>
                  </a:lnTo>
                  <a:lnTo>
                    <a:pt x="323" y="555"/>
                  </a:lnTo>
                  <a:lnTo>
                    <a:pt x="314" y="550"/>
                  </a:lnTo>
                  <a:lnTo>
                    <a:pt x="307" y="544"/>
                  </a:lnTo>
                  <a:lnTo>
                    <a:pt x="299" y="538"/>
                  </a:lnTo>
                  <a:lnTo>
                    <a:pt x="293" y="532"/>
                  </a:lnTo>
                  <a:lnTo>
                    <a:pt x="287" y="528"/>
                  </a:lnTo>
                  <a:lnTo>
                    <a:pt x="281" y="522"/>
                  </a:lnTo>
                  <a:lnTo>
                    <a:pt x="277" y="518"/>
                  </a:lnTo>
                  <a:lnTo>
                    <a:pt x="276" y="514"/>
                  </a:lnTo>
                  <a:lnTo>
                    <a:pt x="273" y="512"/>
                  </a:lnTo>
                  <a:lnTo>
                    <a:pt x="272" y="510"/>
                  </a:lnTo>
                  <a:lnTo>
                    <a:pt x="268" y="506"/>
                  </a:lnTo>
                  <a:lnTo>
                    <a:pt x="265" y="503"/>
                  </a:lnTo>
                  <a:lnTo>
                    <a:pt x="262" y="499"/>
                  </a:lnTo>
                  <a:lnTo>
                    <a:pt x="258" y="495"/>
                  </a:lnTo>
                  <a:lnTo>
                    <a:pt x="254" y="492"/>
                  </a:lnTo>
                  <a:lnTo>
                    <a:pt x="250" y="486"/>
                  </a:lnTo>
                  <a:lnTo>
                    <a:pt x="247" y="483"/>
                  </a:lnTo>
                  <a:lnTo>
                    <a:pt x="243" y="479"/>
                  </a:lnTo>
                  <a:lnTo>
                    <a:pt x="239" y="475"/>
                  </a:lnTo>
                  <a:lnTo>
                    <a:pt x="236" y="470"/>
                  </a:lnTo>
                  <a:lnTo>
                    <a:pt x="232" y="468"/>
                  </a:lnTo>
                  <a:lnTo>
                    <a:pt x="231" y="464"/>
                  </a:lnTo>
                  <a:lnTo>
                    <a:pt x="229" y="461"/>
                  </a:lnTo>
                  <a:lnTo>
                    <a:pt x="229" y="457"/>
                  </a:lnTo>
                  <a:lnTo>
                    <a:pt x="227" y="455"/>
                  </a:lnTo>
                  <a:lnTo>
                    <a:pt x="227" y="454"/>
                  </a:lnTo>
                  <a:lnTo>
                    <a:pt x="227" y="452"/>
                  </a:lnTo>
                  <a:lnTo>
                    <a:pt x="227" y="449"/>
                  </a:lnTo>
                  <a:lnTo>
                    <a:pt x="226" y="447"/>
                  </a:lnTo>
                  <a:lnTo>
                    <a:pt x="226" y="444"/>
                  </a:lnTo>
                  <a:lnTo>
                    <a:pt x="226" y="442"/>
                  </a:lnTo>
                  <a:lnTo>
                    <a:pt x="226" y="438"/>
                  </a:lnTo>
                  <a:lnTo>
                    <a:pt x="226" y="437"/>
                  </a:lnTo>
                  <a:lnTo>
                    <a:pt x="226" y="435"/>
                  </a:lnTo>
                  <a:lnTo>
                    <a:pt x="226" y="433"/>
                  </a:lnTo>
                  <a:lnTo>
                    <a:pt x="227" y="429"/>
                  </a:lnTo>
                  <a:lnTo>
                    <a:pt x="227" y="427"/>
                  </a:lnTo>
                  <a:lnTo>
                    <a:pt x="229" y="426"/>
                  </a:lnTo>
                  <a:lnTo>
                    <a:pt x="231" y="424"/>
                  </a:lnTo>
                  <a:lnTo>
                    <a:pt x="233" y="422"/>
                  </a:lnTo>
                  <a:lnTo>
                    <a:pt x="234" y="422"/>
                  </a:lnTo>
                  <a:lnTo>
                    <a:pt x="236" y="421"/>
                  </a:lnTo>
                  <a:lnTo>
                    <a:pt x="238" y="421"/>
                  </a:lnTo>
                  <a:lnTo>
                    <a:pt x="240" y="419"/>
                  </a:lnTo>
                  <a:lnTo>
                    <a:pt x="242" y="419"/>
                  </a:lnTo>
                  <a:lnTo>
                    <a:pt x="245" y="419"/>
                  </a:lnTo>
                  <a:lnTo>
                    <a:pt x="247" y="419"/>
                  </a:lnTo>
                  <a:lnTo>
                    <a:pt x="250" y="418"/>
                  </a:lnTo>
                  <a:lnTo>
                    <a:pt x="252" y="420"/>
                  </a:lnTo>
                  <a:lnTo>
                    <a:pt x="255" y="420"/>
                  </a:lnTo>
                  <a:lnTo>
                    <a:pt x="257" y="420"/>
                  </a:lnTo>
                  <a:lnTo>
                    <a:pt x="261" y="420"/>
                  </a:lnTo>
                  <a:lnTo>
                    <a:pt x="263" y="422"/>
                  </a:lnTo>
                  <a:lnTo>
                    <a:pt x="265" y="422"/>
                  </a:lnTo>
                  <a:lnTo>
                    <a:pt x="267" y="423"/>
                  </a:lnTo>
                  <a:lnTo>
                    <a:pt x="270" y="423"/>
                  </a:lnTo>
                  <a:lnTo>
                    <a:pt x="272" y="425"/>
                  </a:lnTo>
                  <a:lnTo>
                    <a:pt x="275" y="426"/>
                  </a:lnTo>
                  <a:lnTo>
                    <a:pt x="279" y="428"/>
                  </a:lnTo>
                  <a:lnTo>
                    <a:pt x="283" y="429"/>
                  </a:lnTo>
                  <a:lnTo>
                    <a:pt x="287" y="432"/>
                  </a:lnTo>
                  <a:lnTo>
                    <a:pt x="290" y="434"/>
                  </a:lnTo>
                  <a:lnTo>
                    <a:pt x="294" y="437"/>
                  </a:lnTo>
                  <a:lnTo>
                    <a:pt x="299" y="438"/>
                  </a:lnTo>
                  <a:lnTo>
                    <a:pt x="303" y="442"/>
                  </a:lnTo>
                  <a:lnTo>
                    <a:pt x="307" y="444"/>
                  </a:lnTo>
                  <a:lnTo>
                    <a:pt x="310" y="447"/>
                  </a:lnTo>
                  <a:lnTo>
                    <a:pt x="315" y="449"/>
                  </a:lnTo>
                  <a:lnTo>
                    <a:pt x="317" y="452"/>
                  </a:lnTo>
                  <a:lnTo>
                    <a:pt x="321" y="454"/>
                  </a:lnTo>
                  <a:lnTo>
                    <a:pt x="323" y="456"/>
                  </a:lnTo>
                  <a:lnTo>
                    <a:pt x="327" y="457"/>
                  </a:lnTo>
                  <a:lnTo>
                    <a:pt x="327" y="459"/>
                  </a:lnTo>
                  <a:lnTo>
                    <a:pt x="330" y="460"/>
                  </a:lnTo>
                  <a:lnTo>
                    <a:pt x="333" y="462"/>
                  </a:lnTo>
                  <a:lnTo>
                    <a:pt x="338" y="464"/>
                  </a:lnTo>
                  <a:lnTo>
                    <a:pt x="343" y="467"/>
                  </a:lnTo>
                  <a:lnTo>
                    <a:pt x="348" y="468"/>
                  </a:lnTo>
                  <a:lnTo>
                    <a:pt x="354" y="471"/>
                  </a:lnTo>
                  <a:lnTo>
                    <a:pt x="361" y="473"/>
                  </a:lnTo>
                  <a:lnTo>
                    <a:pt x="367" y="477"/>
                  </a:lnTo>
                  <a:lnTo>
                    <a:pt x="372" y="478"/>
                  </a:lnTo>
                  <a:lnTo>
                    <a:pt x="378" y="482"/>
                  </a:lnTo>
                  <a:lnTo>
                    <a:pt x="383" y="484"/>
                  </a:lnTo>
                  <a:lnTo>
                    <a:pt x="387" y="486"/>
                  </a:lnTo>
                  <a:lnTo>
                    <a:pt x="391" y="488"/>
                  </a:lnTo>
                  <a:lnTo>
                    <a:pt x="393" y="490"/>
                  </a:lnTo>
                  <a:lnTo>
                    <a:pt x="396" y="492"/>
                  </a:lnTo>
                  <a:lnTo>
                    <a:pt x="397" y="494"/>
                  </a:lnTo>
                  <a:lnTo>
                    <a:pt x="399" y="496"/>
                  </a:lnTo>
                  <a:lnTo>
                    <a:pt x="404" y="501"/>
                  </a:lnTo>
                  <a:lnTo>
                    <a:pt x="410" y="505"/>
                  </a:lnTo>
                  <a:lnTo>
                    <a:pt x="416" y="512"/>
                  </a:lnTo>
                  <a:lnTo>
                    <a:pt x="424" y="517"/>
                  </a:lnTo>
                  <a:lnTo>
                    <a:pt x="431" y="524"/>
                  </a:lnTo>
                  <a:lnTo>
                    <a:pt x="441" y="530"/>
                  </a:lnTo>
                  <a:lnTo>
                    <a:pt x="448" y="537"/>
                  </a:lnTo>
                  <a:lnTo>
                    <a:pt x="457" y="544"/>
                  </a:lnTo>
                  <a:lnTo>
                    <a:pt x="465" y="551"/>
                  </a:lnTo>
                  <a:lnTo>
                    <a:pt x="472" y="556"/>
                  </a:lnTo>
                  <a:lnTo>
                    <a:pt x="477" y="563"/>
                  </a:lnTo>
                  <a:lnTo>
                    <a:pt x="484" y="568"/>
                  </a:lnTo>
                  <a:lnTo>
                    <a:pt x="488" y="572"/>
                  </a:lnTo>
                  <a:lnTo>
                    <a:pt x="492" y="574"/>
                  </a:lnTo>
                  <a:lnTo>
                    <a:pt x="493" y="577"/>
                  </a:lnTo>
                  <a:lnTo>
                    <a:pt x="496" y="580"/>
                  </a:lnTo>
                  <a:lnTo>
                    <a:pt x="500" y="584"/>
                  </a:lnTo>
                  <a:lnTo>
                    <a:pt x="506" y="588"/>
                  </a:lnTo>
                  <a:lnTo>
                    <a:pt x="511" y="594"/>
                  </a:lnTo>
                  <a:lnTo>
                    <a:pt x="517" y="599"/>
                  </a:lnTo>
                  <a:lnTo>
                    <a:pt x="523" y="604"/>
                  </a:lnTo>
                  <a:lnTo>
                    <a:pt x="530" y="610"/>
                  </a:lnTo>
                  <a:lnTo>
                    <a:pt x="535" y="615"/>
                  </a:lnTo>
                  <a:lnTo>
                    <a:pt x="541" y="621"/>
                  </a:lnTo>
                  <a:lnTo>
                    <a:pt x="547" y="626"/>
                  </a:lnTo>
                  <a:lnTo>
                    <a:pt x="553" y="631"/>
                  </a:lnTo>
                  <a:lnTo>
                    <a:pt x="556" y="636"/>
                  </a:lnTo>
                  <a:lnTo>
                    <a:pt x="561" y="640"/>
                  </a:lnTo>
                  <a:lnTo>
                    <a:pt x="563" y="642"/>
                  </a:lnTo>
                  <a:lnTo>
                    <a:pt x="565" y="644"/>
                  </a:lnTo>
                  <a:lnTo>
                    <a:pt x="564" y="646"/>
                  </a:lnTo>
                  <a:lnTo>
                    <a:pt x="559" y="650"/>
                  </a:lnTo>
                  <a:lnTo>
                    <a:pt x="551" y="658"/>
                  </a:lnTo>
                  <a:lnTo>
                    <a:pt x="542" y="666"/>
                  </a:lnTo>
                  <a:lnTo>
                    <a:pt x="529" y="678"/>
                  </a:lnTo>
                  <a:lnTo>
                    <a:pt x="517" y="690"/>
                  </a:lnTo>
                  <a:lnTo>
                    <a:pt x="503" y="703"/>
                  </a:lnTo>
                  <a:lnTo>
                    <a:pt x="490" y="716"/>
                  </a:lnTo>
                  <a:lnTo>
                    <a:pt x="475" y="730"/>
                  </a:lnTo>
                  <a:lnTo>
                    <a:pt x="461" y="743"/>
                  </a:lnTo>
                  <a:lnTo>
                    <a:pt x="448" y="756"/>
                  </a:lnTo>
                  <a:lnTo>
                    <a:pt x="437" y="767"/>
                  </a:lnTo>
                  <a:lnTo>
                    <a:pt x="426" y="779"/>
                  </a:lnTo>
                  <a:lnTo>
                    <a:pt x="419" y="787"/>
                  </a:lnTo>
                  <a:lnTo>
                    <a:pt x="413" y="794"/>
                  </a:lnTo>
                  <a:lnTo>
                    <a:pt x="411" y="797"/>
                  </a:lnTo>
                  <a:lnTo>
                    <a:pt x="409" y="799"/>
                  </a:lnTo>
                  <a:lnTo>
                    <a:pt x="408" y="801"/>
                  </a:lnTo>
                  <a:lnTo>
                    <a:pt x="405" y="805"/>
                  </a:lnTo>
                  <a:lnTo>
                    <a:pt x="401" y="808"/>
                  </a:lnTo>
                  <a:lnTo>
                    <a:pt x="395" y="814"/>
                  </a:lnTo>
                  <a:lnTo>
                    <a:pt x="391" y="818"/>
                  </a:lnTo>
                  <a:lnTo>
                    <a:pt x="385" y="824"/>
                  </a:lnTo>
                  <a:lnTo>
                    <a:pt x="380" y="828"/>
                  </a:lnTo>
                  <a:lnTo>
                    <a:pt x="375" y="834"/>
                  </a:lnTo>
                  <a:lnTo>
                    <a:pt x="369" y="839"/>
                  </a:lnTo>
                  <a:lnTo>
                    <a:pt x="363" y="845"/>
                  </a:lnTo>
                  <a:lnTo>
                    <a:pt x="359" y="848"/>
                  </a:lnTo>
                  <a:lnTo>
                    <a:pt x="355" y="853"/>
                  </a:lnTo>
                  <a:lnTo>
                    <a:pt x="351" y="856"/>
                  </a:lnTo>
                  <a:lnTo>
                    <a:pt x="350" y="858"/>
                  </a:lnTo>
                  <a:lnTo>
                    <a:pt x="349" y="858"/>
                  </a:lnTo>
                  <a:lnTo>
                    <a:pt x="349" y="858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592760" y="6820200"/>
              <a:ext cx="131760" cy="95040"/>
            </a:xfrm>
            <a:custGeom>
              <a:avLst/>
              <a:gdLst/>
              <a:ahLst/>
              <a:rect l="l" t="t" r="r" b="b"/>
              <a:pathLst>
                <a:path w="83" h="60">
                  <a:moveTo>
                    <a:pt x="1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4" y="9"/>
                  </a:lnTo>
                  <a:lnTo>
                    <a:pt x="6" y="11"/>
                  </a:lnTo>
                  <a:lnTo>
                    <a:pt x="7" y="14"/>
                  </a:lnTo>
                  <a:lnTo>
                    <a:pt x="9" y="16"/>
                  </a:lnTo>
                  <a:lnTo>
                    <a:pt x="11" y="19"/>
                  </a:lnTo>
                  <a:lnTo>
                    <a:pt x="13" y="21"/>
                  </a:lnTo>
                  <a:lnTo>
                    <a:pt x="15" y="25"/>
                  </a:lnTo>
                  <a:lnTo>
                    <a:pt x="17" y="27"/>
                  </a:lnTo>
                  <a:lnTo>
                    <a:pt x="19" y="29"/>
                  </a:lnTo>
                  <a:lnTo>
                    <a:pt x="21" y="31"/>
                  </a:lnTo>
                  <a:lnTo>
                    <a:pt x="23" y="33"/>
                  </a:lnTo>
                  <a:lnTo>
                    <a:pt x="25" y="34"/>
                  </a:lnTo>
                  <a:lnTo>
                    <a:pt x="26" y="36"/>
                  </a:lnTo>
                  <a:lnTo>
                    <a:pt x="28" y="38"/>
                  </a:lnTo>
                  <a:lnTo>
                    <a:pt x="30" y="40"/>
                  </a:lnTo>
                  <a:lnTo>
                    <a:pt x="32" y="42"/>
                  </a:lnTo>
                  <a:lnTo>
                    <a:pt x="34" y="44"/>
                  </a:lnTo>
                  <a:lnTo>
                    <a:pt x="38" y="46"/>
                  </a:lnTo>
                  <a:lnTo>
                    <a:pt x="40" y="48"/>
                  </a:lnTo>
                  <a:lnTo>
                    <a:pt x="44" y="50"/>
                  </a:lnTo>
                  <a:lnTo>
                    <a:pt x="45" y="52"/>
                  </a:lnTo>
                  <a:lnTo>
                    <a:pt x="48" y="54"/>
                  </a:lnTo>
                  <a:lnTo>
                    <a:pt x="50" y="56"/>
                  </a:lnTo>
                  <a:lnTo>
                    <a:pt x="54" y="57"/>
                  </a:lnTo>
                  <a:lnTo>
                    <a:pt x="56" y="59"/>
                  </a:lnTo>
                  <a:lnTo>
                    <a:pt x="59" y="59"/>
                  </a:lnTo>
                  <a:lnTo>
                    <a:pt x="61" y="59"/>
                  </a:lnTo>
                  <a:lnTo>
                    <a:pt x="64" y="59"/>
                  </a:lnTo>
                  <a:lnTo>
                    <a:pt x="64" y="59"/>
                  </a:lnTo>
                  <a:lnTo>
                    <a:pt x="66" y="59"/>
                  </a:lnTo>
                  <a:lnTo>
                    <a:pt x="67" y="59"/>
                  </a:lnTo>
                  <a:lnTo>
                    <a:pt x="68" y="59"/>
                  </a:lnTo>
                  <a:lnTo>
                    <a:pt x="69" y="59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5" y="55"/>
                  </a:lnTo>
                  <a:lnTo>
                    <a:pt x="76" y="53"/>
                  </a:lnTo>
                  <a:lnTo>
                    <a:pt x="78" y="52"/>
                  </a:lnTo>
                  <a:lnTo>
                    <a:pt x="80" y="50"/>
                  </a:lnTo>
                  <a:lnTo>
                    <a:pt x="80" y="50"/>
                  </a:lnTo>
                  <a:lnTo>
                    <a:pt x="81" y="49"/>
                  </a:lnTo>
                  <a:lnTo>
                    <a:pt x="81" y="48"/>
                  </a:lnTo>
                  <a:lnTo>
                    <a:pt x="82" y="46"/>
                  </a:lnTo>
                  <a:lnTo>
                    <a:pt x="81" y="45"/>
                  </a:lnTo>
                  <a:lnTo>
                    <a:pt x="81" y="43"/>
                  </a:lnTo>
                  <a:lnTo>
                    <a:pt x="80" y="41"/>
                  </a:lnTo>
                  <a:lnTo>
                    <a:pt x="80" y="39"/>
                  </a:lnTo>
                  <a:lnTo>
                    <a:pt x="78" y="38"/>
                  </a:lnTo>
                  <a:lnTo>
                    <a:pt x="77" y="36"/>
                  </a:lnTo>
                  <a:lnTo>
                    <a:pt x="75" y="34"/>
                  </a:lnTo>
                  <a:lnTo>
                    <a:pt x="75" y="31"/>
                  </a:lnTo>
                  <a:lnTo>
                    <a:pt x="74" y="29"/>
                  </a:lnTo>
                  <a:lnTo>
                    <a:pt x="72" y="27"/>
                  </a:lnTo>
                  <a:lnTo>
                    <a:pt x="70" y="25"/>
                  </a:lnTo>
                  <a:lnTo>
                    <a:pt x="68" y="22"/>
                  </a:lnTo>
                  <a:lnTo>
                    <a:pt x="66" y="22"/>
                  </a:lnTo>
                  <a:lnTo>
                    <a:pt x="64" y="20"/>
                  </a:lnTo>
                  <a:lnTo>
                    <a:pt x="62" y="19"/>
                  </a:lnTo>
                  <a:lnTo>
                    <a:pt x="62" y="17"/>
                  </a:lnTo>
                  <a:lnTo>
                    <a:pt x="60" y="18"/>
                  </a:lnTo>
                  <a:lnTo>
                    <a:pt x="59" y="18"/>
                  </a:lnTo>
                  <a:lnTo>
                    <a:pt x="57" y="18"/>
                  </a:lnTo>
                  <a:lnTo>
                    <a:pt x="57" y="18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3" y="20"/>
                  </a:lnTo>
                  <a:lnTo>
                    <a:pt x="53" y="20"/>
                  </a:lnTo>
                  <a:lnTo>
                    <a:pt x="51" y="22"/>
                  </a:lnTo>
                  <a:lnTo>
                    <a:pt x="49" y="22"/>
                  </a:lnTo>
                  <a:lnTo>
                    <a:pt x="47" y="22"/>
                  </a:lnTo>
                  <a:lnTo>
                    <a:pt x="47" y="22"/>
                  </a:lnTo>
                  <a:lnTo>
                    <a:pt x="45" y="23"/>
                  </a:lnTo>
                  <a:lnTo>
                    <a:pt x="45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2" y="23"/>
                  </a:lnTo>
                  <a:lnTo>
                    <a:pt x="40" y="23"/>
                  </a:lnTo>
                  <a:lnTo>
                    <a:pt x="38" y="23"/>
                  </a:lnTo>
                  <a:lnTo>
                    <a:pt x="37" y="22"/>
                  </a:lnTo>
                  <a:lnTo>
                    <a:pt x="36" y="22"/>
                  </a:lnTo>
                  <a:lnTo>
                    <a:pt x="34" y="20"/>
                  </a:lnTo>
                  <a:lnTo>
                    <a:pt x="32" y="19"/>
                  </a:lnTo>
                  <a:lnTo>
                    <a:pt x="30" y="17"/>
                  </a:lnTo>
                  <a:lnTo>
                    <a:pt x="27" y="17"/>
                  </a:lnTo>
                  <a:lnTo>
                    <a:pt x="26" y="15"/>
                  </a:lnTo>
                  <a:lnTo>
                    <a:pt x="24" y="14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8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781760" y="6782040"/>
              <a:ext cx="227160" cy="174600"/>
            </a:xfrm>
            <a:custGeom>
              <a:avLst/>
              <a:gdLst/>
              <a:ahLst/>
              <a:rect l="l" t="t" r="r" b="b"/>
              <a:pathLst>
                <a:path w="143" h="110">
                  <a:moveTo>
                    <a:pt x="1" y="0"/>
                  </a:moveTo>
                  <a:lnTo>
                    <a:pt x="0" y="2"/>
                  </a:lnTo>
                  <a:lnTo>
                    <a:pt x="1" y="4"/>
                  </a:lnTo>
                  <a:lnTo>
                    <a:pt x="3" y="8"/>
                  </a:lnTo>
                  <a:lnTo>
                    <a:pt x="6" y="10"/>
                  </a:lnTo>
                  <a:lnTo>
                    <a:pt x="9" y="14"/>
                  </a:lnTo>
                  <a:lnTo>
                    <a:pt x="13" y="17"/>
                  </a:lnTo>
                  <a:lnTo>
                    <a:pt x="16" y="21"/>
                  </a:lnTo>
                  <a:lnTo>
                    <a:pt x="22" y="25"/>
                  </a:lnTo>
                  <a:lnTo>
                    <a:pt x="26" y="30"/>
                  </a:lnTo>
                  <a:lnTo>
                    <a:pt x="31" y="34"/>
                  </a:lnTo>
                  <a:lnTo>
                    <a:pt x="34" y="37"/>
                  </a:lnTo>
                  <a:lnTo>
                    <a:pt x="40" y="41"/>
                  </a:lnTo>
                  <a:lnTo>
                    <a:pt x="44" y="45"/>
                  </a:lnTo>
                  <a:lnTo>
                    <a:pt x="48" y="48"/>
                  </a:lnTo>
                  <a:lnTo>
                    <a:pt x="52" y="51"/>
                  </a:lnTo>
                  <a:lnTo>
                    <a:pt x="55" y="53"/>
                  </a:lnTo>
                  <a:lnTo>
                    <a:pt x="58" y="56"/>
                  </a:lnTo>
                  <a:lnTo>
                    <a:pt x="62" y="60"/>
                  </a:lnTo>
                  <a:lnTo>
                    <a:pt x="65" y="65"/>
                  </a:lnTo>
                  <a:lnTo>
                    <a:pt x="71" y="68"/>
                  </a:lnTo>
                  <a:lnTo>
                    <a:pt x="75" y="74"/>
                  </a:lnTo>
                  <a:lnTo>
                    <a:pt x="81" y="78"/>
                  </a:lnTo>
                  <a:lnTo>
                    <a:pt x="86" y="83"/>
                  </a:lnTo>
                  <a:lnTo>
                    <a:pt x="92" y="87"/>
                  </a:lnTo>
                  <a:lnTo>
                    <a:pt x="96" y="93"/>
                  </a:lnTo>
                  <a:lnTo>
                    <a:pt x="102" y="96"/>
                  </a:lnTo>
                  <a:lnTo>
                    <a:pt x="107" y="100"/>
                  </a:lnTo>
                  <a:lnTo>
                    <a:pt x="113" y="103"/>
                  </a:lnTo>
                  <a:lnTo>
                    <a:pt x="117" y="106"/>
                  </a:lnTo>
                  <a:lnTo>
                    <a:pt x="122" y="108"/>
                  </a:lnTo>
                  <a:lnTo>
                    <a:pt x="126" y="109"/>
                  </a:lnTo>
                  <a:lnTo>
                    <a:pt x="132" y="109"/>
                  </a:lnTo>
                  <a:lnTo>
                    <a:pt x="132" y="109"/>
                  </a:lnTo>
                  <a:lnTo>
                    <a:pt x="132" y="109"/>
                  </a:lnTo>
                  <a:lnTo>
                    <a:pt x="132" y="109"/>
                  </a:lnTo>
                  <a:lnTo>
                    <a:pt x="134" y="108"/>
                  </a:lnTo>
                  <a:lnTo>
                    <a:pt x="134" y="108"/>
                  </a:lnTo>
                  <a:lnTo>
                    <a:pt x="136" y="108"/>
                  </a:lnTo>
                  <a:lnTo>
                    <a:pt x="136" y="108"/>
                  </a:lnTo>
                  <a:lnTo>
                    <a:pt x="138" y="106"/>
                  </a:lnTo>
                  <a:lnTo>
                    <a:pt x="138" y="106"/>
                  </a:lnTo>
                  <a:lnTo>
                    <a:pt x="139" y="106"/>
                  </a:lnTo>
                  <a:lnTo>
                    <a:pt x="139" y="106"/>
                  </a:lnTo>
                  <a:lnTo>
                    <a:pt x="141" y="104"/>
                  </a:lnTo>
                  <a:lnTo>
                    <a:pt x="141" y="104"/>
                  </a:lnTo>
                  <a:lnTo>
                    <a:pt x="141" y="104"/>
                  </a:lnTo>
                  <a:lnTo>
                    <a:pt x="141" y="104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42" y="100"/>
                  </a:lnTo>
                  <a:lnTo>
                    <a:pt x="142" y="99"/>
                  </a:lnTo>
                  <a:lnTo>
                    <a:pt x="142" y="97"/>
                  </a:lnTo>
                  <a:lnTo>
                    <a:pt x="140" y="95"/>
                  </a:lnTo>
                  <a:lnTo>
                    <a:pt x="140" y="93"/>
                  </a:lnTo>
                  <a:lnTo>
                    <a:pt x="139" y="92"/>
                  </a:lnTo>
                  <a:lnTo>
                    <a:pt x="139" y="90"/>
                  </a:lnTo>
                  <a:lnTo>
                    <a:pt x="137" y="88"/>
                  </a:lnTo>
                  <a:lnTo>
                    <a:pt x="137" y="86"/>
                  </a:lnTo>
                  <a:lnTo>
                    <a:pt x="135" y="84"/>
                  </a:lnTo>
                  <a:lnTo>
                    <a:pt x="135" y="83"/>
                  </a:lnTo>
                  <a:lnTo>
                    <a:pt x="133" y="82"/>
                  </a:lnTo>
                  <a:lnTo>
                    <a:pt x="133" y="80"/>
                  </a:lnTo>
                  <a:lnTo>
                    <a:pt x="132" y="79"/>
                  </a:lnTo>
                  <a:lnTo>
                    <a:pt x="132" y="77"/>
                  </a:lnTo>
                  <a:lnTo>
                    <a:pt x="130" y="77"/>
                  </a:lnTo>
                  <a:lnTo>
                    <a:pt x="129" y="75"/>
                  </a:lnTo>
                  <a:lnTo>
                    <a:pt x="127" y="75"/>
                  </a:lnTo>
                  <a:lnTo>
                    <a:pt x="127" y="73"/>
                  </a:lnTo>
                  <a:lnTo>
                    <a:pt x="125" y="73"/>
                  </a:lnTo>
                  <a:lnTo>
                    <a:pt x="123" y="72"/>
                  </a:lnTo>
                  <a:lnTo>
                    <a:pt x="122" y="70"/>
                  </a:lnTo>
                  <a:lnTo>
                    <a:pt x="121" y="68"/>
                  </a:lnTo>
                  <a:lnTo>
                    <a:pt x="119" y="68"/>
                  </a:lnTo>
                  <a:lnTo>
                    <a:pt x="117" y="66"/>
                  </a:lnTo>
                  <a:lnTo>
                    <a:pt x="115" y="66"/>
                  </a:lnTo>
                  <a:lnTo>
                    <a:pt x="114" y="65"/>
                  </a:lnTo>
                  <a:lnTo>
                    <a:pt x="112" y="65"/>
                  </a:lnTo>
                  <a:lnTo>
                    <a:pt x="112" y="63"/>
                  </a:lnTo>
                  <a:lnTo>
                    <a:pt x="111" y="63"/>
                  </a:lnTo>
                  <a:lnTo>
                    <a:pt x="111" y="62"/>
                  </a:lnTo>
                  <a:lnTo>
                    <a:pt x="109" y="62"/>
                  </a:lnTo>
                  <a:lnTo>
                    <a:pt x="109" y="62"/>
                  </a:lnTo>
                  <a:lnTo>
                    <a:pt x="107" y="62"/>
                  </a:lnTo>
                  <a:lnTo>
                    <a:pt x="107" y="60"/>
                  </a:lnTo>
                  <a:lnTo>
                    <a:pt x="105" y="60"/>
                  </a:lnTo>
                  <a:lnTo>
                    <a:pt x="105" y="58"/>
                  </a:lnTo>
                  <a:lnTo>
                    <a:pt x="103" y="58"/>
                  </a:lnTo>
                  <a:lnTo>
                    <a:pt x="103" y="56"/>
                  </a:lnTo>
                  <a:lnTo>
                    <a:pt x="101" y="56"/>
                  </a:lnTo>
                  <a:lnTo>
                    <a:pt x="100" y="55"/>
                  </a:lnTo>
                  <a:lnTo>
                    <a:pt x="98" y="55"/>
                  </a:lnTo>
                  <a:lnTo>
                    <a:pt x="98" y="53"/>
                  </a:lnTo>
                  <a:lnTo>
                    <a:pt x="96" y="53"/>
                  </a:lnTo>
                  <a:lnTo>
                    <a:pt x="96" y="53"/>
                  </a:lnTo>
                  <a:lnTo>
                    <a:pt x="95" y="53"/>
                  </a:lnTo>
                  <a:lnTo>
                    <a:pt x="95" y="51"/>
                  </a:lnTo>
                  <a:lnTo>
                    <a:pt x="94" y="51"/>
                  </a:lnTo>
                  <a:lnTo>
                    <a:pt x="92" y="51"/>
                  </a:lnTo>
                  <a:lnTo>
                    <a:pt x="91" y="51"/>
                  </a:lnTo>
                  <a:lnTo>
                    <a:pt x="90" y="49"/>
                  </a:lnTo>
                  <a:lnTo>
                    <a:pt x="88" y="49"/>
                  </a:lnTo>
                  <a:lnTo>
                    <a:pt x="86" y="49"/>
                  </a:lnTo>
                  <a:lnTo>
                    <a:pt x="84" y="49"/>
                  </a:lnTo>
                  <a:lnTo>
                    <a:pt x="84" y="47"/>
                  </a:lnTo>
                  <a:lnTo>
                    <a:pt x="82" y="47"/>
                  </a:lnTo>
                  <a:lnTo>
                    <a:pt x="80" y="47"/>
                  </a:lnTo>
                  <a:lnTo>
                    <a:pt x="78" y="47"/>
                  </a:lnTo>
                  <a:lnTo>
                    <a:pt x="77" y="46"/>
                  </a:lnTo>
                  <a:lnTo>
                    <a:pt x="75" y="46"/>
                  </a:lnTo>
                  <a:lnTo>
                    <a:pt x="74" y="46"/>
                  </a:lnTo>
                  <a:lnTo>
                    <a:pt x="73" y="46"/>
                  </a:lnTo>
                  <a:lnTo>
                    <a:pt x="73" y="44"/>
                  </a:lnTo>
                  <a:lnTo>
                    <a:pt x="69" y="43"/>
                  </a:lnTo>
                  <a:lnTo>
                    <a:pt x="65" y="41"/>
                  </a:lnTo>
                  <a:lnTo>
                    <a:pt x="61" y="39"/>
                  </a:lnTo>
                  <a:lnTo>
                    <a:pt x="57" y="36"/>
                  </a:lnTo>
                  <a:lnTo>
                    <a:pt x="52" y="35"/>
                  </a:lnTo>
                  <a:lnTo>
                    <a:pt x="48" y="31"/>
                  </a:lnTo>
                  <a:lnTo>
                    <a:pt x="44" y="28"/>
                  </a:lnTo>
                  <a:lnTo>
                    <a:pt x="41" y="24"/>
                  </a:lnTo>
                  <a:lnTo>
                    <a:pt x="35" y="22"/>
                  </a:lnTo>
                  <a:lnTo>
                    <a:pt x="31" y="18"/>
                  </a:lnTo>
                  <a:lnTo>
                    <a:pt x="26" y="16"/>
                  </a:lnTo>
                  <a:lnTo>
                    <a:pt x="23" y="12"/>
                  </a:lnTo>
                  <a:lnTo>
                    <a:pt x="19" y="10"/>
                  </a:lnTo>
                  <a:lnTo>
                    <a:pt x="15" y="8"/>
                  </a:lnTo>
                  <a:lnTo>
                    <a:pt x="11" y="6"/>
                  </a:lnTo>
                  <a:lnTo>
                    <a:pt x="9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286480" y="7442280"/>
              <a:ext cx="247680" cy="136440"/>
            </a:xfrm>
            <a:custGeom>
              <a:avLst/>
              <a:gdLst/>
              <a:ahLst/>
              <a:rect l="l" t="t" r="r" b="b"/>
              <a:pathLst>
                <a:path w="156" h="86">
                  <a:moveTo>
                    <a:pt x="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" y="4"/>
                  </a:lnTo>
                  <a:lnTo>
                    <a:pt x="3" y="6"/>
                  </a:lnTo>
                  <a:lnTo>
                    <a:pt x="5" y="8"/>
                  </a:lnTo>
                  <a:lnTo>
                    <a:pt x="7" y="10"/>
                  </a:lnTo>
                  <a:lnTo>
                    <a:pt x="8" y="12"/>
                  </a:lnTo>
                  <a:lnTo>
                    <a:pt x="12" y="16"/>
                  </a:lnTo>
                  <a:lnTo>
                    <a:pt x="14" y="17"/>
                  </a:lnTo>
                  <a:lnTo>
                    <a:pt x="17" y="21"/>
                  </a:lnTo>
                  <a:lnTo>
                    <a:pt x="18" y="23"/>
                  </a:lnTo>
                  <a:lnTo>
                    <a:pt x="22" y="27"/>
                  </a:lnTo>
                  <a:lnTo>
                    <a:pt x="24" y="29"/>
                  </a:lnTo>
                  <a:lnTo>
                    <a:pt x="26" y="32"/>
                  </a:lnTo>
                  <a:lnTo>
                    <a:pt x="28" y="34"/>
                  </a:lnTo>
                  <a:lnTo>
                    <a:pt x="30" y="37"/>
                  </a:lnTo>
                  <a:lnTo>
                    <a:pt x="30" y="37"/>
                  </a:lnTo>
                  <a:lnTo>
                    <a:pt x="32" y="39"/>
                  </a:lnTo>
                  <a:lnTo>
                    <a:pt x="32" y="39"/>
                  </a:lnTo>
                  <a:lnTo>
                    <a:pt x="34" y="41"/>
                  </a:lnTo>
                  <a:lnTo>
                    <a:pt x="34" y="42"/>
                  </a:lnTo>
                  <a:lnTo>
                    <a:pt x="36" y="44"/>
                  </a:lnTo>
                  <a:lnTo>
                    <a:pt x="38" y="46"/>
                  </a:lnTo>
                  <a:lnTo>
                    <a:pt x="39" y="48"/>
                  </a:lnTo>
                  <a:lnTo>
                    <a:pt x="39" y="49"/>
                  </a:lnTo>
                  <a:lnTo>
                    <a:pt x="41" y="51"/>
                  </a:lnTo>
                  <a:lnTo>
                    <a:pt x="43" y="53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47" y="57"/>
                  </a:lnTo>
                  <a:lnTo>
                    <a:pt x="48" y="58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51" y="60"/>
                  </a:lnTo>
                  <a:lnTo>
                    <a:pt x="53" y="60"/>
                  </a:lnTo>
                  <a:lnTo>
                    <a:pt x="55" y="62"/>
                  </a:lnTo>
                  <a:lnTo>
                    <a:pt x="57" y="62"/>
                  </a:lnTo>
                  <a:lnTo>
                    <a:pt x="59" y="64"/>
                  </a:lnTo>
                  <a:lnTo>
                    <a:pt x="61" y="64"/>
                  </a:lnTo>
                  <a:lnTo>
                    <a:pt x="63" y="66"/>
                  </a:lnTo>
                  <a:lnTo>
                    <a:pt x="65" y="66"/>
                  </a:lnTo>
                  <a:lnTo>
                    <a:pt x="67" y="67"/>
                  </a:lnTo>
                  <a:lnTo>
                    <a:pt x="68" y="67"/>
                  </a:lnTo>
                  <a:lnTo>
                    <a:pt x="70" y="69"/>
                  </a:lnTo>
                  <a:lnTo>
                    <a:pt x="71" y="69"/>
                  </a:lnTo>
                  <a:lnTo>
                    <a:pt x="73" y="71"/>
                  </a:lnTo>
                  <a:lnTo>
                    <a:pt x="75" y="71"/>
                  </a:lnTo>
                  <a:lnTo>
                    <a:pt x="77" y="73"/>
                  </a:lnTo>
                  <a:lnTo>
                    <a:pt x="77" y="73"/>
                  </a:lnTo>
                  <a:lnTo>
                    <a:pt x="78" y="73"/>
                  </a:lnTo>
                  <a:lnTo>
                    <a:pt x="78" y="73"/>
                  </a:lnTo>
                  <a:lnTo>
                    <a:pt x="80" y="74"/>
                  </a:lnTo>
                  <a:lnTo>
                    <a:pt x="80" y="74"/>
                  </a:lnTo>
                  <a:lnTo>
                    <a:pt x="82" y="76"/>
                  </a:lnTo>
                  <a:lnTo>
                    <a:pt x="82" y="76"/>
                  </a:lnTo>
                  <a:lnTo>
                    <a:pt x="84" y="77"/>
                  </a:lnTo>
                  <a:lnTo>
                    <a:pt x="84" y="77"/>
                  </a:lnTo>
                  <a:lnTo>
                    <a:pt x="86" y="77"/>
                  </a:lnTo>
                  <a:lnTo>
                    <a:pt x="86" y="77"/>
                  </a:lnTo>
                  <a:lnTo>
                    <a:pt x="88" y="79"/>
                  </a:lnTo>
                  <a:lnTo>
                    <a:pt x="88" y="79"/>
                  </a:lnTo>
                  <a:lnTo>
                    <a:pt x="89" y="80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1" y="80"/>
                  </a:lnTo>
                  <a:lnTo>
                    <a:pt x="93" y="80"/>
                  </a:lnTo>
                  <a:lnTo>
                    <a:pt x="94" y="80"/>
                  </a:lnTo>
                  <a:lnTo>
                    <a:pt x="96" y="80"/>
                  </a:lnTo>
                  <a:lnTo>
                    <a:pt x="97" y="79"/>
                  </a:lnTo>
                  <a:lnTo>
                    <a:pt x="99" y="79"/>
                  </a:lnTo>
                  <a:lnTo>
                    <a:pt x="101" y="79"/>
                  </a:lnTo>
                  <a:lnTo>
                    <a:pt x="103" y="79"/>
                  </a:lnTo>
                  <a:lnTo>
                    <a:pt x="103" y="77"/>
                  </a:lnTo>
                  <a:lnTo>
                    <a:pt x="105" y="77"/>
                  </a:lnTo>
                  <a:lnTo>
                    <a:pt x="106" y="77"/>
                  </a:lnTo>
                  <a:lnTo>
                    <a:pt x="108" y="77"/>
                  </a:lnTo>
                  <a:lnTo>
                    <a:pt x="109" y="77"/>
                  </a:lnTo>
                  <a:lnTo>
                    <a:pt x="111" y="77"/>
                  </a:lnTo>
                  <a:lnTo>
                    <a:pt x="113" y="77"/>
                  </a:lnTo>
                  <a:lnTo>
                    <a:pt x="115" y="78"/>
                  </a:lnTo>
                  <a:lnTo>
                    <a:pt x="115" y="78"/>
                  </a:lnTo>
                  <a:lnTo>
                    <a:pt x="116" y="78"/>
                  </a:lnTo>
                  <a:lnTo>
                    <a:pt x="117" y="78"/>
                  </a:lnTo>
                  <a:lnTo>
                    <a:pt x="119" y="78"/>
                  </a:lnTo>
                  <a:lnTo>
                    <a:pt x="121" y="78"/>
                  </a:lnTo>
                  <a:lnTo>
                    <a:pt x="123" y="78"/>
                  </a:lnTo>
                  <a:lnTo>
                    <a:pt x="125" y="78"/>
                  </a:lnTo>
                  <a:lnTo>
                    <a:pt x="127" y="80"/>
                  </a:lnTo>
                  <a:lnTo>
                    <a:pt x="129" y="80"/>
                  </a:lnTo>
                  <a:lnTo>
                    <a:pt x="131" y="80"/>
                  </a:lnTo>
                  <a:lnTo>
                    <a:pt x="133" y="80"/>
                  </a:lnTo>
                  <a:lnTo>
                    <a:pt x="135" y="82"/>
                  </a:lnTo>
                  <a:lnTo>
                    <a:pt x="136" y="82"/>
                  </a:lnTo>
                  <a:lnTo>
                    <a:pt x="137" y="83"/>
                  </a:lnTo>
                  <a:lnTo>
                    <a:pt x="139" y="83"/>
                  </a:lnTo>
                  <a:lnTo>
                    <a:pt x="141" y="85"/>
                  </a:lnTo>
                  <a:lnTo>
                    <a:pt x="141" y="85"/>
                  </a:lnTo>
                  <a:lnTo>
                    <a:pt x="142" y="85"/>
                  </a:lnTo>
                  <a:lnTo>
                    <a:pt x="142" y="85"/>
                  </a:lnTo>
                  <a:lnTo>
                    <a:pt x="144" y="85"/>
                  </a:lnTo>
                  <a:lnTo>
                    <a:pt x="144" y="85"/>
                  </a:lnTo>
                  <a:lnTo>
                    <a:pt x="146" y="85"/>
                  </a:lnTo>
                  <a:lnTo>
                    <a:pt x="147" y="85"/>
                  </a:lnTo>
                  <a:lnTo>
                    <a:pt x="149" y="85"/>
                  </a:lnTo>
                  <a:lnTo>
                    <a:pt x="149" y="85"/>
                  </a:lnTo>
                  <a:lnTo>
                    <a:pt x="151" y="85"/>
                  </a:lnTo>
                  <a:lnTo>
                    <a:pt x="151" y="85"/>
                  </a:lnTo>
                  <a:lnTo>
                    <a:pt x="153" y="85"/>
                  </a:lnTo>
                  <a:lnTo>
                    <a:pt x="153" y="85"/>
                  </a:lnTo>
                  <a:lnTo>
                    <a:pt x="154" y="85"/>
                  </a:lnTo>
                  <a:lnTo>
                    <a:pt x="154" y="85"/>
                  </a:lnTo>
                  <a:lnTo>
                    <a:pt x="155" y="85"/>
                  </a:lnTo>
                  <a:lnTo>
                    <a:pt x="154" y="83"/>
                  </a:lnTo>
                  <a:lnTo>
                    <a:pt x="153" y="82"/>
                  </a:lnTo>
                  <a:lnTo>
                    <a:pt x="151" y="80"/>
                  </a:lnTo>
                  <a:lnTo>
                    <a:pt x="149" y="80"/>
                  </a:lnTo>
                  <a:lnTo>
                    <a:pt x="146" y="78"/>
                  </a:lnTo>
                  <a:lnTo>
                    <a:pt x="143" y="77"/>
                  </a:lnTo>
                  <a:lnTo>
                    <a:pt x="139" y="75"/>
                  </a:lnTo>
                  <a:lnTo>
                    <a:pt x="137" y="75"/>
                  </a:lnTo>
                  <a:lnTo>
                    <a:pt x="134" y="73"/>
                  </a:lnTo>
                  <a:lnTo>
                    <a:pt x="130" y="72"/>
                  </a:lnTo>
                  <a:lnTo>
                    <a:pt x="126" y="70"/>
                  </a:lnTo>
                  <a:lnTo>
                    <a:pt x="124" y="70"/>
                  </a:lnTo>
                  <a:lnTo>
                    <a:pt x="120" y="68"/>
                  </a:lnTo>
                  <a:lnTo>
                    <a:pt x="118" y="68"/>
                  </a:lnTo>
                  <a:lnTo>
                    <a:pt x="116" y="66"/>
                  </a:lnTo>
                  <a:lnTo>
                    <a:pt x="115" y="66"/>
                  </a:lnTo>
                  <a:lnTo>
                    <a:pt x="111" y="64"/>
                  </a:lnTo>
                  <a:lnTo>
                    <a:pt x="109" y="63"/>
                  </a:lnTo>
                  <a:lnTo>
                    <a:pt x="107" y="61"/>
                  </a:lnTo>
                  <a:lnTo>
                    <a:pt x="105" y="61"/>
                  </a:lnTo>
                  <a:lnTo>
                    <a:pt x="101" y="59"/>
                  </a:lnTo>
                  <a:lnTo>
                    <a:pt x="99" y="58"/>
                  </a:lnTo>
                  <a:lnTo>
                    <a:pt x="98" y="56"/>
                  </a:lnTo>
                  <a:lnTo>
                    <a:pt x="96" y="56"/>
                  </a:lnTo>
                  <a:lnTo>
                    <a:pt x="92" y="54"/>
                  </a:lnTo>
                  <a:lnTo>
                    <a:pt x="90" y="52"/>
                  </a:lnTo>
                  <a:lnTo>
                    <a:pt x="88" y="50"/>
                  </a:lnTo>
                  <a:lnTo>
                    <a:pt x="86" y="50"/>
                  </a:lnTo>
                  <a:lnTo>
                    <a:pt x="83" y="48"/>
                  </a:lnTo>
                  <a:lnTo>
                    <a:pt x="81" y="48"/>
                  </a:lnTo>
                  <a:lnTo>
                    <a:pt x="79" y="47"/>
                  </a:lnTo>
                  <a:lnTo>
                    <a:pt x="78" y="47"/>
                  </a:lnTo>
                  <a:lnTo>
                    <a:pt x="76" y="46"/>
                  </a:lnTo>
                  <a:lnTo>
                    <a:pt x="76" y="45"/>
                  </a:lnTo>
                  <a:lnTo>
                    <a:pt x="75" y="43"/>
                  </a:lnTo>
                  <a:lnTo>
                    <a:pt x="75" y="43"/>
                  </a:lnTo>
                  <a:lnTo>
                    <a:pt x="73" y="41"/>
                  </a:lnTo>
                  <a:lnTo>
                    <a:pt x="71" y="40"/>
                  </a:lnTo>
                  <a:lnTo>
                    <a:pt x="69" y="39"/>
                  </a:lnTo>
                  <a:lnTo>
                    <a:pt x="69" y="39"/>
                  </a:lnTo>
                  <a:lnTo>
                    <a:pt x="67" y="37"/>
                  </a:lnTo>
                  <a:lnTo>
                    <a:pt x="65" y="36"/>
                  </a:lnTo>
                  <a:lnTo>
                    <a:pt x="63" y="34"/>
                  </a:lnTo>
                  <a:lnTo>
                    <a:pt x="63" y="34"/>
                  </a:lnTo>
                  <a:lnTo>
                    <a:pt x="61" y="32"/>
                  </a:lnTo>
                  <a:lnTo>
                    <a:pt x="61" y="32"/>
                  </a:lnTo>
                  <a:lnTo>
                    <a:pt x="59" y="31"/>
                  </a:lnTo>
                  <a:lnTo>
                    <a:pt x="59" y="31"/>
                  </a:lnTo>
                  <a:lnTo>
                    <a:pt x="58" y="29"/>
                  </a:lnTo>
                  <a:lnTo>
                    <a:pt x="58" y="29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54" y="22"/>
                  </a:lnTo>
                  <a:lnTo>
                    <a:pt x="54" y="22"/>
                  </a:lnTo>
                  <a:lnTo>
                    <a:pt x="53" y="20"/>
                  </a:lnTo>
                  <a:lnTo>
                    <a:pt x="53" y="20"/>
                  </a:lnTo>
                  <a:lnTo>
                    <a:pt x="51" y="19"/>
                  </a:lnTo>
                  <a:lnTo>
                    <a:pt x="51" y="19"/>
                  </a:lnTo>
                  <a:lnTo>
                    <a:pt x="51" y="19"/>
                  </a:lnTo>
                  <a:lnTo>
                    <a:pt x="51" y="19"/>
                  </a:lnTo>
                  <a:lnTo>
                    <a:pt x="49" y="17"/>
                  </a:lnTo>
                  <a:lnTo>
                    <a:pt x="49" y="17"/>
                  </a:lnTo>
                  <a:lnTo>
                    <a:pt x="47" y="15"/>
                  </a:lnTo>
                  <a:lnTo>
                    <a:pt x="47" y="15"/>
                  </a:lnTo>
                  <a:lnTo>
                    <a:pt x="45" y="13"/>
                  </a:lnTo>
                  <a:lnTo>
                    <a:pt x="43" y="13"/>
                  </a:lnTo>
                  <a:lnTo>
                    <a:pt x="41" y="13"/>
                  </a:lnTo>
                  <a:lnTo>
                    <a:pt x="41" y="13"/>
                  </a:lnTo>
                  <a:lnTo>
                    <a:pt x="39" y="11"/>
                  </a:lnTo>
                  <a:lnTo>
                    <a:pt x="38" y="11"/>
                  </a:lnTo>
                  <a:lnTo>
                    <a:pt x="36" y="11"/>
                  </a:lnTo>
                  <a:lnTo>
                    <a:pt x="35" y="11"/>
                  </a:lnTo>
                  <a:lnTo>
                    <a:pt x="33" y="11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30" y="11"/>
                  </a:lnTo>
                  <a:lnTo>
                    <a:pt x="28" y="11"/>
                  </a:lnTo>
                  <a:lnTo>
                    <a:pt x="28" y="11"/>
                  </a:lnTo>
                  <a:lnTo>
                    <a:pt x="28" y="11"/>
                  </a:lnTo>
                  <a:lnTo>
                    <a:pt x="28" y="11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5" y="11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324640" y="7278840"/>
              <a:ext cx="103320" cy="71280"/>
            </a:xfrm>
            <a:custGeom>
              <a:avLst/>
              <a:gdLst/>
              <a:ahLst/>
              <a:rect l="l" t="t" r="r" b="b"/>
              <a:pathLst>
                <a:path w="65" h="45">
                  <a:moveTo>
                    <a:pt x="0" y="2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8"/>
                  </a:lnTo>
                  <a:lnTo>
                    <a:pt x="5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9" y="14"/>
                  </a:lnTo>
                  <a:lnTo>
                    <a:pt x="9" y="15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1" y="19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9" y="30"/>
                  </a:lnTo>
                  <a:lnTo>
                    <a:pt x="9" y="30"/>
                  </a:lnTo>
                  <a:lnTo>
                    <a:pt x="9" y="30"/>
                  </a:lnTo>
                  <a:lnTo>
                    <a:pt x="9" y="30"/>
                  </a:lnTo>
                  <a:lnTo>
                    <a:pt x="9" y="31"/>
                  </a:lnTo>
                  <a:lnTo>
                    <a:pt x="9" y="31"/>
                  </a:lnTo>
                  <a:lnTo>
                    <a:pt x="9" y="31"/>
                  </a:lnTo>
                  <a:lnTo>
                    <a:pt x="9" y="31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5"/>
                  </a:lnTo>
                  <a:lnTo>
                    <a:pt x="9" y="35"/>
                  </a:lnTo>
                  <a:lnTo>
                    <a:pt x="9" y="37"/>
                  </a:lnTo>
                  <a:lnTo>
                    <a:pt x="9" y="37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3" y="39"/>
                  </a:lnTo>
                  <a:lnTo>
                    <a:pt x="13" y="39"/>
                  </a:lnTo>
                  <a:lnTo>
                    <a:pt x="14" y="39"/>
                  </a:lnTo>
                  <a:lnTo>
                    <a:pt x="16" y="39"/>
                  </a:lnTo>
                  <a:lnTo>
                    <a:pt x="18" y="41"/>
                  </a:lnTo>
                  <a:lnTo>
                    <a:pt x="18" y="41"/>
                  </a:lnTo>
                  <a:lnTo>
                    <a:pt x="20" y="41"/>
                  </a:lnTo>
                  <a:lnTo>
                    <a:pt x="22" y="41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5" y="42"/>
                  </a:lnTo>
                  <a:lnTo>
                    <a:pt x="27" y="42"/>
                  </a:lnTo>
                  <a:lnTo>
                    <a:pt x="29" y="44"/>
                  </a:lnTo>
                  <a:lnTo>
                    <a:pt x="29" y="42"/>
                  </a:lnTo>
                  <a:lnTo>
                    <a:pt x="31" y="42"/>
                  </a:lnTo>
                  <a:lnTo>
                    <a:pt x="32" y="42"/>
                  </a:lnTo>
                  <a:lnTo>
                    <a:pt x="34" y="42"/>
                  </a:lnTo>
                  <a:lnTo>
                    <a:pt x="35" y="42"/>
                  </a:lnTo>
                  <a:lnTo>
                    <a:pt x="37" y="42"/>
                  </a:lnTo>
                  <a:lnTo>
                    <a:pt x="39" y="42"/>
                  </a:lnTo>
                  <a:lnTo>
                    <a:pt x="41" y="42"/>
                  </a:lnTo>
                  <a:lnTo>
                    <a:pt x="42" y="42"/>
                  </a:lnTo>
                  <a:lnTo>
                    <a:pt x="44" y="42"/>
                  </a:lnTo>
                  <a:lnTo>
                    <a:pt x="45" y="42"/>
                  </a:lnTo>
                  <a:lnTo>
                    <a:pt x="47" y="42"/>
                  </a:lnTo>
                  <a:lnTo>
                    <a:pt x="48" y="42"/>
                  </a:lnTo>
                  <a:lnTo>
                    <a:pt x="50" y="42"/>
                  </a:lnTo>
                  <a:lnTo>
                    <a:pt x="51" y="42"/>
                  </a:lnTo>
                  <a:lnTo>
                    <a:pt x="53" y="42"/>
                  </a:lnTo>
                  <a:lnTo>
                    <a:pt x="53" y="40"/>
                  </a:lnTo>
                  <a:lnTo>
                    <a:pt x="53" y="40"/>
                  </a:lnTo>
                  <a:lnTo>
                    <a:pt x="53" y="40"/>
                  </a:lnTo>
                  <a:lnTo>
                    <a:pt x="55" y="40"/>
                  </a:lnTo>
                  <a:lnTo>
                    <a:pt x="55" y="40"/>
                  </a:lnTo>
                  <a:lnTo>
                    <a:pt x="57" y="40"/>
                  </a:lnTo>
                  <a:lnTo>
                    <a:pt x="57" y="40"/>
                  </a:lnTo>
                  <a:lnTo>
                    <a:pt x="59" y="40"/>
                  </a:lnTo>
                  <a:lnTo>
                    <a:pt x="59" y="39"/>
                  </a:lnTo>
                  <a:lnTo>
                    <a:pt x="60" y="39"/>
                  </a:lnTo>
                  <a:lnTo>
                    <a:pt x="60" y="39"/>
                  </a:lnTo>
                  <a:lnTo>
                    <a:pt x="62" y="39"/>
                  </a:lnTo>
                  <a:lnTo>
                    <a:pt x="62" y="39"/>
                  </a:lnTo>
                  <a:lnTo>
                    <a:pt x="62" y="39"/>
                  </a:lnTo>
                  <a:lnTo>
                    <a:pt x="62" y="39"/>
                  </a:lnTo>
                  <a:lnTo>
                    <a:pt x="64" y="39"/>
                  </a:lnTo>
                  <a:lnTo>
                    <a:pt x="62" y="37"/>
                  </a:lnTo>
                  <a:lnTo>
                    <a:pt x="62" y="35"/>
                  </a:lnTo>
                  <a:lnTo>
                    <a:pt x="61" y="33"/>
                  </a:lnTo>
                  <a:lnTo>
                    <a:pt x="61" y="33"/>
                  </a:lnTo>
                  <a:lnTo>
                    <a:pt x="59" y="31"/>
                  </a:lnTo>
                  <a:lnTo>
                    <a:pt x="57" y="29"/>
                  </a:lnTo>
                  <a:lnTo>
                    <a:pt x="55" y="27"/>
                  </a:lnTo>
                  <a:lnTo>
                    <a:pt x="54" y="26"/>
                  </a:lnTo>
                  <a:lnTo>
                    <a:pt x="52" y="24"/>
                  </a:lnTo>
                  <a:lnTo>
                    <a:pt x="50" y="23"/>
                  </a:lnTo>
                  <a:lnTo>
                    <a:pt x="48" y="21"/>
                  </a:lnTo>
                  <a:lnTo>
                    <a:pt x="46" y="21"/>
                  </a:lnTo>
                  <a:lnTo>
                    <a:pt x="44" y="19"/>
                  </a:lnTo>
                  <a:lnTo>
                    <a:pt x="43" y="19"/>
                  </a:lnTo>
                  <a:lnTo>
                    <a:pt x="41" y="18"/>
                  </a:lnTo>
                  <a:lnTo>
                    <a:pt x="41" y="18"/>
                  </a:lnTo>
                  <a:lnTo>
                    <a:pt x="39" y="16"/>
                  </a:lnTo>
                  <a:lnTo>
                    <a:pt x="38" y="15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1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6" y="5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0" y="0"/>
            <a:ext cx="9439200" cy="25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A4: pero disponer de bienes es siempre factib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-380880" y="4172040"/>
            <a:ext cx="6247800" cy="3600000"/>
            <a:chOff x="-380880" y="4172040"/>
            <a:chExt cx="6247800" cy="3600000"/>
          </a:xfrm>
        </p:grpSpPr>
        <p:sp>
          <p:nvSpPr>
            <p:cNvPr id="404" name=""/>
            <p:cNvSpPr/>
            <p:nvPr/>
          </p:nvSpPr>
          <p:spPr>
            <a:xfrm>
              <a:off x="-380880" y="4172040"/>
              <a:ext cx="6133680" cy="1454040"/>
            </a:xfrm>
            <a:custGeom>
              <a:avLst/>
              <a:gdLst/>
              <a:ahLst/>
              <a:rect l="l" t="t" r="r" b="b"/>
              <a:pathLst>
                <a:path w="3864" h="916">
                  <a:moveTo>
                    <a:pt x="1230" y="0"/>
                  </a:moveTo>
                  <a:lnTo>
                    <a:pt x="3864" y="468"/>
                  </a:lnTo>
                  <a:lnTo>
                    <a:pt x="729" y="916"/>
                  </a:lnTo>
                  <a:lnTo>
                    <a:pt x="547" y="837"/>
                  </a:lnTo>
                  <a:lnTo>
                    <a:pt x="949" y="785"/>
                  </a:lnTo>
                  <a:lnTo>
                    <a:pt x="923" y="785"/>
                  </a:lnTo>
                  <a:lnTo>
                    <a:pt x="481" y="759"/>
                  </a:lnTo>
                  <a:lnTo>
                    <a:pt x="325" y="733"/>
                  </a:lnTo>
                  <a:lnTo>
                    <a:pt x="325" y="655"/>
                  </a:lnTo>
                  <a:lnTo>
                    <a:pt x="78" y="641"/>
                  </a:lnTo>
                  <a:lnTo>
                    <a:pt x="78" y="550"/>
                  </a:lnTo>
                  <a:lnTo>
                    <a:pt x="0" y="550"/>
                  </a:lnTo>
                  <a:lnTo>
                    <a:pt x="39" y="446"/>
                  </a:lnTo>
                  <a:lnTo>
                    <a:pt x="156" y="433"/>
                  </a:lnTo>
                  <a:lnTo>
                    <a:pt x="39" y="264"/>
                  </a:lnTo>
                  <a:lnTo>
                    <a:pt x="1105" y="16"/>
                  </a:lnTo>
                  <a:lnTo>
                    <a:pt x="1105" y="16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238040" y="4914720"/>
              <a:ext cx="4628880" cy="2857320"/>
            </a:xfrm>
            <a:custGeom>
              <a:avLst/>
              <a:gdLst/>
              <a:ahLst/>
              <a:rect l="l" t="t" r="r" b="b"/>
              <a:pathLst>
                <a:path w="2916" h="1800">
                  <a:moveTo>
                    <a:pt x="703" y="314"/>
                  </a:moveTo>
                  <a:lnTo>
                    <a:pt x="2915" y="0"/>
                  </a:lnTo>
                  <a:lnTo>
                    <a:pt x="2890" y="1799"/>
                  </a:lnTo>
                  <a:lnTo>
                    <a:pt x="2616" y="1799"/>
                  </a:lnTo>
                  <a:lnTo>
                    <a:pt x="2434" y="1682"/>
                  </a:lnTo>
                  <a:lnTo>
                    <a:pt x="2291" y="1682"/>
                  </a:lnTo>
                  <a:lnTo>
                    <a:pt x="1992" y="1694"/>
                  </a:lnTo>
                  <a:lnTo>
                    <a:pt x="1028" y="1694"/>
                  </a:lnTo>
                  <a:lnTo>
                    <a:pt x="898" y="1577"/>
                  </a:lnTo>
                  <a:lnTo>
                    <a:pt x="521" y="1538"/>
                  </a:lnTo>
                  <a:lnTo>
                    <a:pt x="560" y="1238"/>
                  </a:lnTo>
                  <a:lnTo>
                    <a:pt x="222" y="952"/>
                  </a:lnTo>
                  <a:lnTo>
                    <a:pt x="651" y="717"/>
                  </a:lnTo>
                  <a:lnTo>
                    <a:pt x="273" y="691"/>
                  </a:lnTo>
                  <a:lnTo>
                    <a:pt x="0" y="405"/>
                  </a:lnTo>
                  <a:lnTo>
                    <a:pt x="703" y="314"/>
                  </a:lnTo>
                  <a:lnTo>
                    <a:pt x="703" y="314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 flipH="1" flipV="1">
            <a:off x="4127400" y="4263840"/>
            <a:ext cx="1206720" cy="688680"/>
          </a:xfrm>
          <a:prstGeom prst="line">
            <a:avLst/>
          </a:prstGeom>
          <a:ln w="63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5314680" y="4854600"/>
            <a:ext cx="909720" cy="103320"/>
          </a:xfrm>
          <a:prstGeom prst="line">
            <a:avLst/>
          </a:prstGeom>
          <a:ln w="63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 flipV="1">
            <a:off x="5119200" y="4258800"/>
            <a:ext cx="1094040" cy="574920"/>
          </a:xfrm>
          <a:prstGeom prst="line">
            <a:avLst/>
          </a:prstGeom>
          <a:ln w="63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4151160" y="4266720"/>
            <a:ext cx="2052720" cy="554040"/>
          </a:xfrm>
          <a:prstGeom prst="line">
            <a:avLst/>
          </a:prstGeom>
          <a:ln w="6336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275440" y="5051520"/>
            <a:ext cx="1713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060880" y="4356000"/>
            <a:ext cx="1857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854520" y="4330800"/>
            <a:ext cx="24264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160520" y="4248000"/>
            <a:ext cx="973080" cy="19080"/>
          </a:xfrm>
          <a:prstGeom prst="line">
            <a:avLst/>
          </a:prstGeom>
          <a:ln w="63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1447920"/>
            <a:ext cx="100695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A5: Tomemos las técnicas  OE y OF y sumemosla para producir OF'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 flipV="1">
            <a:off x="4159080" y="3711600"/>
            <a:ext cx="2067120" cy="1117440"/>
          </a:xfrm>
          <a:prstGeom prst="line">
            <a:avLst/>
          </a:prstGeom>
          <a:ln w="4752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847800" y="4952880"/>
            <a:ext cx="4410000" cy="2819520"/>
          </a:xfrm>
          <a:prstGeom prst="roundRect">
            <a:avLst>
              <a:gd name="adj" fmla="val 9097"/>
            </a:avLst>
          </a:prstGeom>
          <a:solidFill>
            <a:srgbClr val="ffffc2"/>
          </a:solidFill>
          <a:ln w="3168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0000"/>
                </a:solidFill>
                <a:latin typeface="Arial"/>
              </a:rPr>
              <a:t>Additividad precluye rendimientos decrecientes a esca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0"/>
            <a:ext cx="892656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7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A5: Usando el supuesto de  aditividad vemos que  OE... implica que  OE' es factib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825720" y="3660840"/>
            <a:ext cx="2574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4975200" y="3657600"/>
            <a:ext cx="1222560" cy="1100160"/>
          </a:xfrm>
          <a:prstGeom prst="line">
            <a:avLst/>
          </a:prstGeom>
          <a:ln w="4752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60880" y="3392640"/>
            <a:ext cx="27144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914400" y="4648320"/>
            <a:ext cx="4184640" cy="3124080"/>
          </a:xfrm>
          <a:prstGeom prst="roundRect">
            <a:avLst>
              <a:gd name="adj" fmla="val 9097"/>
            </a:avLst>
          </a:prstGeom>
          <a:solidFill>
            <a:srgbClr val="ffffc2"/>
          </a:solidFill>
          <a:ln w="3168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0000"/>
                </a:solidFill>
                <a:latin typeface="Arial"/>
              </a:rPr>
              <a:t>Divisibilidad precluye rendimientos crecientes a escal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0"/>
            <a:ext cx="5345280" cy="25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A6: Divisibilidad significa que si OC es factible, también lo es OC'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3187800" y="2596680"/>
            <a:ext cx="3100320" cy="4566240"/>
            <a:chOff x="3187800" y="2596680"/>
            <a:chExt cx="3100320" cy="4566240"/>
          </a:xfrm>
        </p:grpSpPr>
        <p:sp>
          <p:nvSpPr>
            <p:cNvPr id="424" name=""/>
            <p:cNvSpPr/>
            <p:nvPr/>
          </p:nvSpPr>
          <p:spPr>
            <a:xfrm>
              <a:off x="3187800" y="3632040"/>
              <a:ext cx="3038400" cy="1158840"/>
            </a:xfrm>
            <a:prstGeom prst="line">
              <a:avLst/>
            </a:prstGeom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373560" y="3135240"/>
              <a:ext cx="2871720" cy="1674720"/>
            </a:xfrm>
            <a:prstGeom prst="line">
              <a:avLst/>
            </a:prstGeom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 flipV="1">
              <a:off x="4118040" y="4191120"/>
              <a:ext cx="2085840" cy="59976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4159080" y="3673440"/>
              <a:ext cx="2067120" cy="111744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3683160" y="2596680"/>
              <a:ext cx="2543040" cy="221292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956040" y="3081240"/>
              <a:ext cx="2309760" cy="173196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140360" y="5095800"/>
              <a:ext cx="0" cy="2048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060880" y="4317840"/>
              <a:ext cx="18576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275440" y="5013360"/>
              <a:ext cx="1713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200400" y="2616120"/>
              <a:ext cx="932040" cy="4546800"/>
            </a:xfrm>
            <a:custGeom>
              <a:avLst/>
              <a:gdLst/>
              <a:ahLst/>
              <a:rect l="l" t="t" r="r" b="b"/>
              <a:pathLst>
                <a:path w="587" h="2864">
                  <a:moveTo>
                    <a:pt x="0" y="2370"/>
                  </a:moveTo>
                  <a:lnTo>
                    <a:pt x="0" y="2370"/>
                  </a:lnTo>
                  <a:lnTo>
                    <a:pt x="0" y="651"/>
                  </a:lnTo>
                  <a:lnTo>
                    <a:pt x="101" y="332"/>
                  </a:lnTo>
                  <a:lnTo>
                    <a:pt x="281" y="0"/>
                  </a:lnTo>
                  <a:lnTo>
                    <a:pt x="462" y="280"/>
                  </a:lnTo>
                  <a:lnTo>
                    <a:pt x="586" y="674"/>
                  </a:lnTo>
                  <a:lnTo>
                    <a:pt x="586" y="2863"/>
                  </a:lnTo>
                  <a:lnTo>
                    <a:pt x="418" y="2740"/>
                  </a:lnTo>
                  <a:lnTo>
                    <a:pt x="225" y="2773"/>
                  </a:lnTo>
                  <a:lnTo>
                    <a:pt x="225" y="2672"/>
                  </a:lnTo>
                  <a:lnTo>
                    <a:pt x="146" y="2571"/>
                  </a:lnTo>
                  <a:lnTo>
                    <a:pt x="11" y="2606"/>
                  </a:lnTo>
                  <a:lnTo>
                    <a:pt x="11" y="2504"/>
                  </a:lnTo>
                  <a:lnTo>
                    <a:pt x="34" y="2426"/>
                  </a:lnTo>
                  <a:lnTo>
                    <a:pt x="34" y="2414"/>
                  </a:lnTo>
                  <a:lnTo>
                    <a:pt x="0" y="2370"/>
                  </a:lnTo>
                  <a:lnTo>
                    <a:pt x="0" y="2370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3675240" y="2616120"/>
              <a:ext cx="2612880" cy="4546800"/>
              <a:chOff x="3675240" y="2616120"/>
              <a:chExt cx="2612880" cy="4546800"/>
            </a:xfrm>
          </p:grpSpPr>
          <p:sp>
            <p:nvSpPr>
              <p:cNvPr id="435" name=""/>
              <p:cNvSpPr/>
              <p:nvPr/>
            </p:nvSpPr>
            <p:spPr>
              <a:xfrm>
                <a:off x="4140360" y="4790880"/>
                <a:ext cx="2130120" cy="2372040"/>
              </a:xfrm>
              <a:custGeom>
                <a:avLst/>
                <a:gdLst/>
                <a:ahLst/>
                <a:rect l="l" t="t" r="r" b="b"/>
                <a:pathLst>
                  <a:path w="1342" h="1494">
                    <a:moveTo>
                      <a:pt x="1341" y="0"/>
                    </a:moveTo>
                    <a:lnTo>
                      <a:pt x="1341" y="0"/>
                    </a:lnTo>
                    <a:lnTo>
                      <a:pt x="0" y="192"/>
                    </a:lnTo>
                    <a:lnTo>
                      <a:pt x="0" y="1471"/>
                    </a:lnTo>
                    <a:lnTo>
                      <a:pt x="57" y="1471"/>
                    </a:lnTo>
                    <a:lnTo>
                      <a:pt x="113" y="1449"/>
                    </a:lnTo>
                    <a:lnTo>
                      <a:pt x="158" y="1449"/>
                    </a:lnTo>
                    <a:lnTo>
                      <a:pt x="204" y="1382"/>
                    </a:lnTo>
                    <a:lnTo>
                      <a:pt x="260" y="1393"/>
                    </a:lnTo>
                    <a:lnTo>
                      <a:pt x="451" y="1493"/>
                    </a:lnTo>
                    <a:lnTo>
                      <a:pt x="845" y="1348"/>
                    </a:lnTo>
                    <a:lnTo>
                      <a:pt x="1036" y="1247"/>
                    </a:lnTo>
                    <a:lnTo>
                      <a:pt x="1228" y="1348"/>
                    </a:lnTo>
                    <a:lnTo>
                      <a:pt x="1330" y="1303"/>
                    </a:lnTo>
                    <a:lnTo>
                      <a:pt x="1341" y="1303"/>
                    </a:lnTo>
                    <a:lnTo>
                      <a:pt x="1341" y="23"/>
                    </a:lnTo>
                    <a:lnTo>
                      <a:pt x="1341" y="0"/>
                    </a:lnTo>
                    <a:lnTo>
                      <a:pt x="1341" y="0"/>
                    </a:lnTo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140360" y="3666960"/>
                <a:ext cx="2130120" cy="1430280"/>
              </a:xfrm>
              <a:custGeom>
                <a:avLst/>
                <a:gdLst/>
                <a:ahLst/>
                <a:rect l="l" t="t" r="r" b="b"/>
                <a:pathLst>
                  <a:path w="1342" h="901">
                    <a:moveTo>
                      <a:pt x="1341" y="720"/>
                    </a:moveTo>
                    <a:lnTo>
                      <a:pt x="1341" y="720"/>
                    </a:lnTo>
                    <a:lnTo>
                      <a:pt x="0" y="0"/>
                    </a:lnTo>
                    <a:lnTo>
                      <a:pt x="0" y="900"/>
                    </a:lnTo>
                    <a:lnTo>
                      <a:pt x="1341" y="708"/>
                    </a:lnTo>
                    <a:lnTo>
                      <a:pt x="1341" y="720"/>
                    </a:lnTo>
                    <a:lnTo>
                      <a:pt x="1341" y="720"/>
                    </a:lnTo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925800" y="3062160"/>
                <a:ext cx="2362320" cy="1749600"/>
              </a:xfrm>
              <a:custGeom>
                <a:avLst/>
                <a:gdLst/>
                <a:ahLst/>
                <a:rect l="l" t="t" r="r" b="b"/>
                <a:pathLst>
                  <a:path w="1488" h="1102">
                    <a:moveTo>
                      <a:pt x="1476" y="1089"/>
                    </a:moveTo>
                    <a:lnTo>
                      <a:pt x="1476" y="1089"/>
                    </a:lnTo>
                    <a:lnTo>
                      <a:pt x="136" y="387"/>
                    </a:lnTo>
                    <a:lnTo>
                      <a:pt x="0" y="0"/>
                    </a:lnTo>
                    <a:lnTo>
                      <a:pt x="1487" y="1101"/>
                    </a:lnTo>
                    <a:lnTo>
                      <a:pt x="1476" y="1089"/>
                    </a:lnTo>
                    <a:lnTo>
                      <a:pt x="1476" y="1089"/>
                    </a:lnTo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675240" y="2616120"/>
                <a:ext cx="2595240" cy="2158920"/>
              </a:xfrm>
              <a:custGeom>
                <a:avLst/>
                <a:gdLst/>
                <a:ahLst/>
                <a:rect l="l" t="t" r="r" b="b"/>
                <a:pathLst>
                  <a:path w="1635" h="1360">
                    <a:moveTo>
                      <a:pt x="158" y="281"/>
                    </a:moveTo>
                    <a:lnTo>
                      <a:pt x="158" y="281"/>
                    </a:lnTo>
                    <a:lnTo>
                      <a:pt x="0" y="0"/>
                    </a:lnTo>
                    <a:lnTo>
                      <a:pt x="1634" y="1359"/>
                    </a:lnTo>
                    <a:lnTo>
                      <a:pt x="158" y="281"/>
                    </a:lnTo>
                    <a:lnTo>
                      <a:pt x="158" y="281"/>
                    </a:lnTo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3200400" y="2616120"/>
              <a:ext cx="754200" cy="3764160"/>
            </a:xfrm>
            <a:custGeom>
              <a:avLst/>
              <a:gdLst/>
              <a:ahLst/>
              <a:rect l="l" t="t" r="r" b="b"/>
              <a:pathLst>
                <a:path w="475" h="2371">
                  <a:moveTo>
                    <a:pt x="0" y="2370"/>
                  </a:moveTo>
                  <a:lnTo>
                    <a:pt x="0" y="651"/>
                  </a:lnTo>
                  <a:lnTo>
                    <a:pt x="101" y="335"/>
                  </a:lnTo>
                  <a:lnTo>
                    <a:pt x="293" y="0"/>
                  </a:lnTo>
                  <a:lnTo>
                    <a:pt x="474" y="304"/>
                  </a:ln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0" y="0"/>
            <a:ext cx="4492800" cy="25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.y también lo son todos estos punto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3904920" y="-279720"/>
            <a:ext cx="6087960" cy="25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300" spc="-1" strike="noStrike">
                <a:solidFill>
                  <a:srgbClr val="000000"/>
                </a:solidFill>
                <a:latin typeface="Times New Roman"/>
              </a:rPr>
              <a:t>(por supuesto que la fotografía completa se ve así...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6249960" y="1907640"/>
            <a:ext cx="0" cy="609300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273720" y="4829040"/>
            <a:ext cx="3668760" cy="65088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2714760" y="4384440"/>
            <a:ext cx="6892920" cy="95076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20940000">
            <a:off x="8874000" y="4516200"/>
            <a:ext cx="8794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er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rot="660000">
            <a:off x="9205560" y="5527800"/>
            <a:ext cx="7542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562720" y="1981080"/>
            <a:ext cx="53316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horiz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9159480" y="3848040"/>
            <a:ext cx="399600" cy="424800"/>
            <a:chOff x="9159480" y="3848040"/>
            <a:chExt cx="399600" cy="424800"/>
          </a:xfrm>
        </p:grpSpPr>
        <p:sp>
          <p:nvSpPr>
            <p:cNvPr id="449" name=""/>
            <p:cNvSpPr/>
            <p:nvPr/>
          </p:nvSpPr>
          <p:spPr>
            <a:xfrm rot="20220000">
              <a:off x="9221760" y="3865680"/>
              <a:ext cx="163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20220000">
              <a:off x="9419760" y="4057200"/>
              <a:ext cx="10332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9708480" y="4910400"/>
            <a:ext cx="257400" cy="495720"/>
            <a:chOff x="9708480" y="4910400"/>
            <a:chExt cx="257400" cy="495720"/>
          </a:xfrm>
        </p:grpSpPr>
        <p:sp>
          <p:nvSpPr>
            <p:cNvPr id="452" name=""/>
            <p:cNvSpPr/>
            <p:nvPr/>
          </p:nvSpPr>
          <p:spPr>
            <a:xfrm rot="840000">
              <a:off x="9748800" y="4924080"/>
              <a:ext cx="15876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840000">
              <a:off x="9845640" y="5192640"/>
              <a:ext cx="968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6421320" y="1743120"/>
            <a:ext cx="246240" cy="463680"/>
            <a:chOff x="6421320" y="1743120"/>
            <a:chExt cx="246240" cy="463680"/>
          </a:xfrm>
        </p:grpSpPr>
        <p:sp>
          <p:nvSpPr>
            <p:cNvPr id="455" name=""/>
            <p:cNvSpPr/>
            <p:nvPr/>
          </p:nvSpPr>
          <p:spPr>
            <a:xfrm>
              <a:off x="6421320" y="1743120"/>
              <a:ext cx="1666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62800" y="1992240"/>
              <a:ext cx="1047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-528480" y="4842000"/>
            <a:ext cx="6756120" cy="7524720"/>
          </a:xfrm>
          <a:custGeom>
            <a:avLst/>
            <a:gdLst/>
            <a:ahLst/>
            <a:rect l="l" t="t" r="r" b="b"/>
            <a:pathLst>
              <a:path w="4256" h="4740">
                <a:moveTo>
                  <a:pt x="4255" y="0"/>
                </a:moveTo>
                <a:lnTo>
                  <a:pt x="4255" y="0"/>
                </a:lnTo>
                <a:lnTo>
                  <a:pt x="0" y="608"/>
                </a:lnTo>
                <a:lnTo>
                  <a:pt x="0" y="4669"/>
                </a:lnTo>
                <a:lnTo>
                  <a:pt x="180" y="4669"/>
                </a:lnTo>
                <a:lnTo>
                  <a:pt x="358" y="4598"/>
                </a:lnTo>
                <a:lnTo>
                  <a:pt x="501" y="4598"/>
                </a:lnTo>
                <a:lnTo>
                  <a:pt x="644" y="4386"/>
                </a:lnTo>
                <a:lnTo>
                  <a:pt x="823" y="4420"/>
                </a:lnTo>
                <a:lnTo>
                  <a:pt x="1429" y="4739"/>
                </a:lnTo>
                <a:lnTo>
                  <a:pt x="2681" y="4276"/>
                </a:lnTo>
                <a:lnTo>
                  <a:pt x="3287" y="3956"/>
                </a:lnTo>
                <a:lnTo>
                  <a:pt x="3897" y="4276"/>
                </a:lnTo>
                <a:lnTo>
                  <a:pt x="4220" y="4134"/>
                </a:lnTo>
                <a:lnTo>
                  <a:pt x="4255" y="4134"/>
                </a:lnTo>
                <a:lnTo>
                  <a:pt x="4255" y="73"/>
                </a:lnTo>
                <a:lnTo>
                  <a:pt x="4255" y="0"/>
                </a:lnTo>
                <a:lnTo>
                  <a:pt x="4255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-503280" y="1278000"/>
            <a:ext cx="6756480" cy="4530600"/>
          </a:xfrm>
          <a:custGeom>
            <a:avLst/>
            <a:gdLst/>
            <a:ahLst/>
            <a:rect l="l" t="t" r="r" b="b"/>
            <a:pathLst>
              <a:path w="4256" h="2854">
                <a:moveTo>
                  <a:pt x="4246" y="2253"/>
                </a:moveTo>
                <a:lnTo>
                  <a:pt x="4227" y="2253"/>
                </a:lnTo>
                <a:lnTo>
                  <a:pt x="0" y="0"/>
                </a:lnTo>
                <a:lnTo>
                  <a:pt x="0" y="2853"/>
                </a:lnTo>
                <a:lnTo>
                  <a:pt x="4255" y="2245"/>
                </a:lnTo>
                <a:lnTo>
                  <a:pt x="4246" y="2253"/>
                </a:lnTo>
                <a:lnTo>
                  <a:pt x="4246" y="2253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-1279440" y="-665280"/>
            <a:ext cx="7507080" cy="5518440"/>
          </a:xfrm>
          <a:custGeom>
            <a:avLst/>
            <a:gdLst/>
            <a:ahLst/>
            <a:rect l="l" t="t" r="r" b="b"/>
            <a:pathLst>
              <a:path w="4729" h="3476">
                <a:moveTo>
                  <a:pt x="4728" y="3475"/>
                </a:moveTo>
                <a:lnTo>
                  <a:pt x="4683" y="3455"/>
                </a:lnTo>
                <a:lnTo>
                  <a:pt x="430" y="1226"/>
                </a:lnTo>
                <a:lnTo>
                  <a:pt x="0" y="0"/>
                </a:lnTo>
                <a:lnTo>
                  <a:pt x="4726" y="3473"/>
                </a:lnTo>
                <a:lnTo>
                  <a:pt x="4728" y="3475"/>
                </a:lnTo>
                <a:lnTo>
                  <a:pt x="4728" y="3475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-2021040" y="-2006640"/>
            <a:ext cx="8236080" cy="6843600"/>
          </a:xfrm>
          <a:custGeom>
            <a:avLst/>
            <a:gdLst/>
            <a:ahLst/>
            <a:rect l="l" t="t" r="r" b="b"/>
            <a:pathLst>
              <a:path w="5188" h="4311">
                <a:moveTo>
                  <a:pt x="505" y="891"/>
                </a:moveTo>
                <a:lnTo>
                  <a:pt x="505" y="891"/>
                </a:lnTo>
                <a:lnTo>
                  <a:pt x="0" y="0"/>
                </a:lnTo>
                <a:lnTo>
                  <a:pt x="5187" y="4310"/>
                </a:lnTo>
                <a:lnTo>
                  <a:pt x="505" y="891"/>
                </a:lnTo>
                <a:lnTo>
                  <a:pt x="505" y="891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781280" y="3363840"/>
            <a:ext cx="85572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100" spc="-1" strike="noStrike">
                <a:solidFill>
                  <a:srgbClr val="008000"/>
                </a:solidFill>
                <a:latin typeface="Times New Roman"/>
              </a:rPr>
              <a:t>Y</a:t>
            </a: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847800" y="5222160"/>
            <a:ext cx="4867200" cy="2187720"/>
          </a:xfrm>
          <a:prstGeom prst="roundRect">
            <a:avLst>
              <a:gd name="adj" fmla="val 9097"/>
            </a:avLst>
          </a:prstGeom>
          <a:solidFill>
            <a:srgbClr val="ffffc2"/>
          </a:solidFill>
          <a:ln w="3168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100" spc="-1" strike="noStrike">
                <a:solidFill>
                  <a:srgbClr val="ff0000"/>
                </a:solidFill>
                <a:latin typeface="Times New Roman"/>
              </a:rPr>
              <a:t>Aditividad+Divisibilidad implican rendimeintos constantes a escala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445680" y="78840"/>
            <a:ext cx="5311800" cy="25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¿Podemos ,de esto, derivar algun concepto de la producción que nos sea familiar?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808360" y="2654280"/>
            <a:ext cx="931680" cy="4546800"/>
          </a:xfrm>
          <a:custGeom>
            <a:avLst/>
            <a:gdLst/>
            <a:ahLst/>
            <a:rect l="l" t="t" r="r" b="b"/>
            <a:pathLst>
              <a:path w="587" h="2864">
                <a:moveTo>
                  <a:pt x="0" y="2370"/>
                </a:moveTo>
                <a:lnTo>
                  <a:pt x="0" y="2370"/>
                </a:lnTo>
                <a:lnTo>
                  <a:pt x="0" y="651"/>
                </a:lnTo>
                <a:lnTo>
                  <a:pt x="101" y="332"/>
                </a:lnTo>
                <a:lnTo>
                  <a:pt x="281" y="0"/>
                </a:lnTo>
                <a:lnTo>
                  <a:pt x="462" y="280"/>
                </a:lnTo>
                <a:lnTo>
                  <a:pt x="586" y="674"/>
                </a:lnTo>
                <a:lnTo>
                  <a:pt x="586" y="2863"/>
                </a:lnTo>
                <a:lnTo>
                  <a:pt x="417" y="2740"/>
                </a:lnTo>
                <a:lnTo>
                  <a:pt x="225" y="2773"/>
                </a:lnTo>
                <a:lnTo>
                  <a:pt x="225" y="2672"/>
                </a:lnTo>
                <a:lnTo>
                  <a:pt x="147" y="2571"/>
                </a:lnTo>
                <a:lnTo>
                  <a:pt x="11" y="2606"/>
                </a:lnTo>
                <a:lnTo>
                  <a:pt x="11" y="2504"/>
                </a:lnTo>
                <a:lnTo>
                  <a:pt x="34" y="2426"/>
                </a:lnTo>
                <a:lnTo>
                  <a:pt x="34" y="2414"/>
                </a:lnTo>
                <a:lnTo>
                  <a:pt x="0" y="2370"/>
                </a:lnTo>
                <a:lnTo>
                  <a:pt x="0" y="237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747960" y="4829040"/>
            <a:ext cx="2130480" cy="2372040"/>
          </a:xfrm>
          <a:custGeom>
            <a:avLst/>
            <a:gdLst/>
            <a:ahLst/>
            <a:rect l="l" t="t" r="r" b="b"/>
            <a:pathLst>
              <a:path w="1342" h="1494">
                <a:moveTo>
                  <a:pt x="1341" y="0"/>
                </a:moveTo>
                <a:lnTo>
                  <a:pt x="1341" y="0"/>
                </a:lnTo>
                <a:lnTo>
                  <a:pt x="0" y="192"/>
                </a:lnTo>
                <a:lnTo>
                  <a:pt x="0" y="1471"/>
                </a:lnTo>
                <a:lnTo>
                  <a:pt x="57" y="1471"/>
                </a:lnTo>
                <a:lnTo>
                  <a:pt x="113" y="1449"/>
                </a:lnTo>
                <a:lnTo>
                  <a:pt x="158" y="1449"/>
                </a:lnTo>
                <a:lnTo>
                  <a:pt x="203" y="1382"/>
                </a:lnTo>
                <a:lnTo>
                  <a:pt x="260" y="1393"/>
                </a:lnTo>
                <a:lnTo>
                  <a:pt x="451" y="1493"/>
                </a:lnTo>
                <a:lnTo>
                  <a:pt x="845" y="1348"/>
                </a:lnTo>
                <a:lnTo>
                  <a:pt x="1036" y="1247"/>
                </a:lnTo>
                <a:lnTo>
                  <a:pt x="1228" y="1348"/>
                </a:lnTo>
                <a:lnTo>
                  <a:pt x="1330" y="1303"/>
                </a:lnTo>
                <a:lnTo>
                  <a:pt x="1341" y="1303"/>
                </a:lnTo>
                <a:lnTo>
                  <a:pt x="1341" y="23"/>
                </a:lnTo>
                <a:lnTo>
                  <a:pt x="1341" y="0"/>
                </a:lnTo>
                <a:lnTo>
                  <a:pt x="1341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5857920" y="1889280"/>
            <a:ext cx="0" cy="523224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880240" y="4829040"/>
            <a:ext cx="3670200" cy="65088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747960" y="3705120"/>
            <a:ext cx="2130480" cy="1430280"/>
          </a:xfrm>
          <a:custGeom>
            <a:avLst/>
            <a:gdLst/>
            <a:ahLst/>
            <a:rect l="l" t="t" r="r" b="b"/>
            <a:pathLst>
              <a:path w="1342" h="901">
                <a:moveTo>
                  <a:pt x="1341" y="720"/>
                </a:moveTo>
                <a:lnTo>
                  <a:pt x="1341" y="720"/>
                </a:lnTo>
                <a:lnTo>
                  <a:pt x="0" y="0"/>
                </a:lnTo>
                <a:lnTo>
                  <a:pt x="0" y="900"/>
                </a:lnTo>
                <a:lnTo>
                  <a:pt x="1341" y="708"/>
                </a:lnTo>
                <a:lnTo>
                  <a:pt x="1341" y="720"/>
                </a:lnTo>
                <a:lnTo>
                  <a:pt x="1341" y="72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747960" y="5133960"/>
            <a:ext cx="0" cy="2048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533760" y="3100320"/>
            <a:ext cx="2362320" cy="1749600"/>
          </a:xfrm>
          <a:custGeom>
            <a:avLst/>
            <a:gdLst/>
            <a:ahLst/>
            <a:rect l="l" t="t" r="r" b="b"/>
            <a:pathLst>
              <a:path w="1488" h="1102">
                <a:moveTo>
                  <a:pt x="1476" y="1089"/>
                </a:moveTo>
                <a:lnTo>
                  <a:pt x="1476" y="1089"/>
                </a:lnTo>
                <a:lnTo>
                  <a:pt x="136" y="387"/>
                </a:lnTo>
                <a:lnTo>
                  <a:pt x="0" y="0"/>
                </a:lnTo>
                <a:lnTo>
                  <a:pt x="1487" y="1101"/>
                </a:lnTo>
                <a:lnTo>
                  <a:pt x="1476" y="1089"/>
                </a:lnTo>
                <a:lnTo>
                  <a:pt x="1476" y="1089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282840" y="2654280"/>
            <a:ext cx="2595600" cy="2158920"/>
          </a:xfrm>
          <a:custGeom>
            <a:avLst/>
            <a:gdLst/>
            <a:ahLst/>
            <a:rect l="l" t="t" r="r" b="b"/>
            <a:pathLst>
              <a:path w="1635" h="1360">
                <a:moveTo>
                  <a:pt x="158" y="281"/>
                </a:moveTo>
                <a:lnTo>
                  <a:pt x="158" y="281"/>
                </a:lnTo>
                <a:lnTo>
                  <a:pt x="0" y="0"/>
                </a:lnTo>
                <a:lnTo>
                  <a:pt x="1634" y="1359"/>
                </a:lnTo>
                <a:lnTo>
                  <a:pt x="158" y="281"/>
                </a:lnTo>
                <a:lnTo>
                  <a:pt x="158" y="281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573200" y="4044960"/>
            <a:ext cx="1252440" cy="212760"/>
          </a:xfrm>
          <a:prstGeom prst="line">
            <a:avLst/>
          </a:prstGeom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08360" y="2654280"/>
            <a:ext cx="752400" cy="3764160"/>
          </a:xfrm>
          <a:custGeom>
            <a:avLst/>
            <a:gdLst/>
            <a:ahLst/>
            <a:rect l="l" t="t" r="r" b="b"/>
            <a:pathLst>
              <a:path w="474" h="2371">
                <a:moveTo>
                  <a:pt x="0" y="2370"/>
                </a:moveTo>
                <a:lnTo>
                  <a:pt x="0" y="651"/>
                </a:lnTo>
                <a:lnTo>
                  <a:pt x="101" y="335"/>
                </a:lnTo>
                <a:lnTo>
                  <a:pt x="293" y="0"/>
                </a:lnTo>
                <a:lnTo>
                  <a:pt x="473" y="304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2320920" y="4384440"/>
            <a:ext cx="6894360" cy="95076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668840" y="3392640"/>
            <a:ext cx="2728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rot="20940000">
            <a:off x="8481600" y="4522320"/>
            <a:ext cx="8143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er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rot="660000">
            <a:off x="8813520" y="5527800"/>
            <a:ext cx="7538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5400000">
            <a:off x="4995720" y="2404800"/>
            <a:ext cx="12906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horiz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71640" y="4240080"/>
            <a:ext cx="966960" cy="176400"/>
          </a:xfrm>
          <a:prstGeom prst="line">
            <a:avLst/>
          </a:prstGeom>
          <a:ln w="31680">
            <a:solidFill>
              <a:srgbClr val="8f8f8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1158840" y="3189240"/>
            <a:ext cx="8353440" cy="568440"/>
            <a:chOff x="1158840" y="3189240"/>
            <a:chExt cx="8353440" cy="568440"/>
          </a:xfrm>
        </p:grpSpPr>
        <p:sp>
          <p:nvSpPr>
            <p:cNvPr id="481" name=""/>
            <p:cNvSpPr/>
            <p:nvPr/>
          </p:nvSpPr>
          <p:spPr>
            <a:xfrm>
              <a:off x="3813120" y="3189240"/>
              <a:ext cx="5699160" cy="557280"/>
            </a:xfrm>
            <a:custGeom>
              <a:avLst/>
              <a:gdLst/>
              <a:ahLst/>
              <a:rect l="l" t="t" r="r" b="b"/>
              <a:pathLst>
                <a:path w="3590" h="351">
                  <a:moveTo>
                    <a:pt x="284" y="185"/>
                  </a:moveTo>
                  <a:lnTo>
                    <a:pt x="84" y="0"/>
                  </a:lnTo>
                  <a:lnTo>
                    <a:pt x="1168" y="43"/>
                  </a:lnTo>
                  <a:lnTo>
                    <a:pt x="3029" y="212"/>
                  </a:lnTo>
                  <a:lnTo>
                    <a:pt x="3589" y="225"/>
                  </a:lnTo>
                  <a:lnTo>
                    <a:pt x="2860" y="238"/>
                  </a:lnTo>
                  <a:lnTo>
                    <a:pt x="0" y="350"/>
                  </a:lnTo>
                  <a:lnTo>
                    <a:pt x="296" y="303"/>
                  </a:lnTo>
                  <a:lnTo>
                    <a:pt x="296" y="185"/>
                  </a:lnTo>
                  <a:lnTo>
                    <a:pt x="284" y="185"/>
                  </a:lnTo>
                  <a:lnTo>
                    <a:pt x="284" y="185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158840" y="3236760"/>
              <a:ext cx="2598840" cy="520920"/>
            </a:xfrm>
            <a:custGeom>
              <a:avLst/>
              <a:gdLst/>
              <a:ahLst/>
              <a:rect l="l" t="t" r="r" b="b"/>
              <a:pathLst>
                <a:path w="1637" h="328">
                  <a:moveTo>
                    <a:pt x="1322" y="12"/>
                  </a:moveTo>
                  <a:lnTo>
                    <a:pt x="0" y="36"/>
                  </a:lnTo>
                  <a:lnTo>
                    <a:pt x="797" y="327"/>
                  </a:lnTo>
                  <a:lnTo>
                    <a:pt x="1636" y="308"/>
                  </a:lnTo>
                  <a:lnTo>
                    <a:pt x="1509" y="0"/>
                  </a:lnTo>
                  <a:lnTo>
                    <a:pt x="1322" y="12"/>
                  </a:lnTo>
                  <a:lnTo>
                    <a:pt x="1322" y="12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9346680" y="4084200"/>
            <a:ext cx="398160" cy="423360"/>
            <a:chOff x="9346680" y="4084200"/>
            <a:chExt cx="398160" cy="423360"/>
          </a:xfrm>
        </p:grpSpPr>
        <p:sp>
          <p:nvSpPr>
            <p:cNvPr id="484" name=""/>
            <p:cNvSpPr/>
            <p:nvPr/>
          </p:nvSpPr>
          <p:spPr>
            <a:xfrm rot="20220000">
              <a:off x="9408960" y="4102200"/>
              <a:ext cx="16380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20220000">
              <a:off x="9605520" y="4292280"/>
              <a:ext cx="10332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9719640" y="5359680"/>
            <a:ext cx="255600" cy="494280"/>
            <a:chOff x="9719640" y="5359680"/>
            <a:chExt cx="255600" cy="494280"/>
          </a:xfrm>
        </p:grpSpPr>
        <p:sp>
          <p:nvSpPr>
            <p:cNvPr id="487" name=""/>
            <p:cNvSpPr/>
            <p:nvPr/>
          </p:nvSpPr>
          <p:spPr>
            <a:xfrm rot="840000">
              <a:off x="9759960" y="5373360"/>
              <a:ext cx="15876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840000">
              <a:off x="9855000" y="5641920"/>
              <a:ext cx="968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5734080" y="1365120"/>
            <a:ext cx="245880" cy="462240"/>
            <a:chOff x="5734080" y="1365120"/>
            <a:chExt cx="245880" cy="462240"/>
          </a:xfrm>
        </p:grpSpPr>
        <p:sp>
          <p:nvSpPr>
            <p:cNvPr id="490" name=""/>
            <p:cNvSpPr/>
            <p:nvPr/>
          </p:nvSpPr>
          <p:spPr>
            <a:xfrm>
              <a:off x="5734080" y="1365120"/>
              <a:ext cx="1681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75200" y="1612800"/>
              <a:ext cx="1047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075200" y="4165560"/>
            <a:ext cx="43956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5100" spc="-1" strike="noStrike">
                <a:solidFill>
                  <a:srgbClr val="008000"/>
                </a:solidFill>
                <a:latin typeface="Times New Roman"/>
              </a:rPr>
              <a:t>Y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231840"/>
            <a:ext cx="7696080" cy="20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Tome una rebanada horizontal a travez de Y</a:t>
            </a:r>
            <a:r>
              <a:rPr b="1" i="1" lang="en-GB" sz="4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1870200" y="3286080"/>
            <a:ext cx="4714920" cy="3881520"/>
            <a:chOff x="1870200" y="3286080"/>
            <a:chExt cx="4714920" cy="3881520"/>
          </a:xfrm>
        </p:grpSpPr>
        <p:sp>
          <p:nvSpPr>
            <p:cNvPr id="495" name=""/>
            <p:cNvSpPr/>
            <p:nvPr/>
          </p:nvSpPr>
          <p:spPr>
            <a:xfrm>
              <a:off x="1870200" y="3581280"/>
              <a:ext cx="4714920" cy="3586320"/>
            </a:xfrm>
            <a:custGeom>
              <a:avLst/>
              <a:gdLst/>
              <a:ahLst/>
              <a:rect l="l" t="t" r="r" b="b"/>
              <a:pathLst>
                <a:path w="2970" h="2259">
                  <a:moveTo>
                    <a:pt x="2503" y="1934"/>
                  </a:moveTo>
                  <a:lnTo>
                    <a:pt x="2503" y="1934"/>
                  </a:lnTo>
                  <a:lnTo>
                    <a:pt x="2177" y="1687"/>
                  </a:lnTo>
                  <a:lnTo>
                    <a:pt x="1692" y="1934"/>
                  </a:lnTo>
                  <a:lnTo>
                    <a:pt x="1048" y="1766"/>
                  </a:lnTo>
                  <a:lnTo>
                    <a:pt x="564" y="1766"/>
                  </a:lnTo>
                  <a:lnTo>
                    <a:pt x="237" y="1598"/>
                  </a:lnTo>
                  <a:lnTo>
                    <a:pt x="237" y="1194"/>
                  </a:lnTo>
                  <a:lnTo>
                    <a:pt x="69" y="948"/>
                  </a:lnTo>
                  <a:lnTo>
                    <a:pt x="99" y="701"/>
                  </a:lnTo>
                  <a:lnTo>
                    <a:pt x="0" y="0"/>
                  </a:lnTo>
                  <a:lnTo>
                    <a:pt x="1752" y="0"/>
                  </a:lnTo>
                  <a:lnTo>
                    <a:pt x="2236" y="168"/>
                  </a:lnTo>
                  <a:lnTo>
                    <a:pt x="2553" y="414"/>
                  </a:lnTo>
                  <a:lnTo>
                    <a:pt x="2869" y="976"/>
                  </a:lnTo>
                  <a:lnTo>
                    <a:pt x="2969" y="1459"/>
                  </a:lnTo>
                  <a:lnTo>
                    <a:pt x="2969" y="2258"/>
                  </a:lnTo>
                  <a:lnTo>
                    <a:pt x="2484" y="2210"/>
                  </a:lnTo>
                  <a:lnTo>
                    <a:pt x="2503" y="1934"/>
                  </a:lnTo>
                  <a:lnTo>
                    <a:pt x="2503" y="1934"/>
                  </a:lnTo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ffffc2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870200" y="3581280"/>
              <a:ext cx="4714920" cy="3586320"/>
            </a:xfrm>
            <a:custGeom>
              <a:avLst/>
              <a:gdLst/>
              <a:ahLst/>
              <a:rect l="l" t="t" r="r" b="b"/>
              <a:pathLst>
                <a:path w="2970" h="2259">
                  <a:moveTo>
                    <a:pt x="0" y="0"/>
                  </a:moveTo>
                  <a:lnTo>
                    <a:pt x="1752" y="0"/>
                  </a:lnTo>
                  <a:lnTo>
                    <a:pt x="2236" y="168"/>
                  </a:lnTo>
                  <a:lnTo>
                    <a:pt x="2553" y="414"/>
                  </a:lnTo>
                  <a:lnTo>
                    <a:pt x="2869" y="976"/>
                  </a:lnTo>
                  <a:lnTo>
                    <a:pt x="2969" y="1459"/>
                  </a:lnTo>
                  <a:lnTo>
                    <a:pt x="2969" y="2258"/>
                  </a:lnTo>
                </a:path>
              </a:pathLst>
            </a:custGeom>
            <a:noFill/>
            <a:ln w="47520">
              <a:solidFill>
                <a:srgbClr val="ff8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82960" y="3286080"/>
              <a:ext cx="164772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500chorizo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1000"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. para obtener la tasa de trueque entre cerdos y trabajo como insumo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7743960" y="1892160"/>
            <a:ext cx="4680" cy="5413680"/>
          </a:xfrm>
          <a:prstGeom prst="line">
            <a:avLst/>
          </a:prstGeom>
          <a:ln w="475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100160" y="2654280"/>
            <a:ext cx="7381800" cy="0"/>
          </a:xfrm>
          <a:prstGeom prst="line">
            <a:avLst/>
          </a:prstGeom>
          <a:ln w="475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4092120" y="2657520"/>
            <a:ext cx="3637440" cy="4868640"/>
            <a:chOff x="4092120" y="2657520"/>
            <a:chExt cx="3637440" cy="4868640"/>
          </a:xfrm>
        </p:grpSpPr>
        <p:sp>
          <p:nvSpPr>
            <p:cNvPr id="502" name=""/>
            <p:cNvSpPr/>
            <p:nvPr/>
          </p:nvSpPr>
          <p:spPr>
            <a:xfrm flipH="1">
              <a:off x="6002280" y="2658960"/>
              <a:ext cx="1727280" cy="4867200"/>
            </a:xfrm>
            <a:prstGeom prst="line">
              <a:avLst/>
            </a:prstGeom>
            <a:ln w="47520">
              <a:solidFill>
                <a:srgbClr val="ff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4092120" y="2657520"/>
              <a:ext cx="3613320" cy="1830240"/>
            </a:xfrm>
            <a:prstGeom prst="line">
              <a:avLst/>
            </a:prstGeom>
            <a:ln w="47520">
              <a:solidFill>
                <a:srgbClr val="ff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-1015920" y="3627360"/>
            <a:ext cx="7014960" cy="5759640"/>
            <a:chOff x="-1015920" y="3627360"/>
            <a:chExt cx="7014960" cy="5759640"/>
          </a:xfrm>
        </p:grpSpPr>
        <p:sp>
          <p:nvSpPr>
            <p:cNvPr id="505" name=""/>
            <p:cNvSpPr/>
            <p:nvPr/>
          </p:nvSpPr>
          <p:spPr>
            <a:xfrm>
              <a:off x="-1015920" y="4041720"/>
              <a:ext cx="7014960" cy="5345280"/>
            </a:xfrm>
            <a:custGeom>
              <a:avLst/>
              <a:gdLst/>
              <a:ahLst/>
              <a:rect l="l" t="t" r="r" b="b"/>
              <a:pathLst>
                <a:path w="4419" h="3367">
                  <a:moveTo>
                    <a:pt x="3725" y="2883"/>
                  </a:moveTo>
                  <a:lnTo>
                    <a:pt x="3725" y="2883"/>
                  </a:lnTo>
                  <a:lnTo>
                    <a:pt x="3239" y="2515"/>
                  </a:lnTo>
                  <a:lnTo>
                    <a:pt x="2517" y="2883"/>
                  </a:lnTo>
                  <a:lnTo>
                    <a:pt x="1560" y="2633"/>
                  </a:lnTo>
                  <a:lnTo>
                    <a:pt x="838" y="2633"/>
                  </a:lnTo>
                  <a:lnTo>
                    <a:pt x="352" y="2384"/>
                  </a:lnTo>
                  <a:lnTo>
                    <a:pt x="352" y="1781"/>
                  </a:lnTo>
                  <a:lnTo>
                    <a:pt x="103" y="1414"/>
                  </a:lnTo>
                  <a:lnTo>
                    <a:pt x="147" y="1046"/>
                  </a:lnTo>
                  <a:lnTo>
                    <a:pt x="0" y="0"/>
                  </a:lnTo>
                  <a:lnTo>
                    <a:pt x="2606" y="0"/>
                  </a:lnTo>
                  <a:lnTo>
                    <a:pt x="3327" y="250"/>
                  </a:lnTo>
                  <a:lnTo>
                    <a:pt x="3798" y="618"/>
                  </a:lnTo>
                  <a:lnTo>
                    <a:pt x="4270" y="1456"/>
                  </a:lnTo>
                  <a:lnTo>
                    <a:pt x="4418" y="2176"/>
                  </a:lnTo>
                  <a:lnTo>
                    <a:pt x="4418" y="3366"/>
                  </a:lnTo>
                  <a:lnTo>
                    <a:pt x="3696" y="3294"/>
                  </a:lnTo>
                  <a:lnTo>
                    <a:pt x="3725" y="2883"/>
                  </a:lnTo>
                  <a:lnTo>
                    <a:pt x="3725" y="2883"/>
                  </a:lnTo>
                </a:path>
              </a:pathLst>
            </a:custGeom>
            <a:gradFill rotWithShape="0">
              <a:gsLst>
                <a:gs pos="0">
                  <a:srgbClr val="00c200"/>
                </a:gs>
                <a:gs pos="50000">
                  <a:srgbClr val="ffffc2"/>
                </a:gs>
                <a:gs pos="100000">
                  <a:srgbClr val="00c2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-1015920" y="4041720"/>
              <a:ext cx="7014960" cy="5345280"/>
            </a:xfrm>
            <a:custGeom>
              <a:avLst/>
              <a:gdLst/>
              <a:ahLst/>
              <a:rect l="l" t="t" r="r" b="b"/>
              <a:pathLst>
                <a:path w="4419" h="3367">
                  <a:moveTo>
                    <a:pt x="0" y="0"/>
                  </a:moveTo>
                  <a:lnTo>
                    <a:pt x="2606" y="0"/>
                  </a:lnTo>
                  <a:lnTo>
                    <a:pt x="3327" y="250"/>
                  </a:lnTo>
                  <a:lnTo>
                    <a:pt x="3798" y="618"/>
                  </a:lnTo>
                  <a:lnTo>
                    <a:pt x="4270" y="1456"/>
                  </a:lnTo>
                  <a:lnTo>
                    <a:pt x="4418" y="2176"/>
                  </a:lnTo>
                  <a:lnTo>
                    <a:pt x="4418" y="3366"/>
                  </a:lnTo>
                </a:path>
              </a:pathLst>
            </a:custGeom>
            <a:noFill/>
            <a:ln w="47520">
              <a:solidFill>
                <a:srgbClr val="ff8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28600" y="3627360"/>
              <a:ext cx="164772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750chorizo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7967520" y="2816280"/>
            <a:ext cx="11001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rabaj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969240" y="1940040"/>
            <a:ext cx="8031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erd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924680" y="1716120"/>
            <a:ext cx="30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610480" y="2286000"/>
            <a:ext cx="30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4800" y="457200"/>
            <a:ext cx="94536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Y otra rebanada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"/>
          <p:cNvGrpSpPr/>
          <p:nvPr/>
        </p:nvGrpSpPr>
        <p:grpSpPr>
          <a:xfrm>
            <a:off x="0" y="101520"/>
            <a:ext cx="10083600" cy="7670520"/>
            <a:chOff x="0" y="101520"/>
            <a:chExt cx="10083600" cy="7670520"/>
          </a:xfrm>
        </p:grpSpPr>
        <p:sp>
          <p:nvSpPr>
            <p:cNvPr id="514" name=""/>
            <p:cNvSpPr/>
            <p:nvPr/>
          </p:nvSpPr>
          <p:spPr>
            <a:xfrm flipH="1" flipV="1">
              <a:off x="2481840" y="2320920"/>
              <a:ext cx="4714920" cy="3586320"/>
            </a:xfrm>
            <a:custGeom>
              <a:avLst/>
              <a:gdLst/>
              <a:ahLst/>
              <a:rect l="l" t="t" r="r" b="b"/>
              <a:pathLst>
                <a:path w="2970" h="2259">
                  <a:moveTo>
                    <a:pt x="2503" y="1934"/>
                  </a:moveTo>
                  <a:lnTo>
                    <a:pt x="2503" y="1934"/>
                  </a:lnTo>
                  <a:lnTo>
                    <a:pt x="2177" y="1687"/>
                  </a:lnTo>
                  <a:lnTo>
                    <a:pt x="1692" y="1934"/>
                  </a:lnTo>
                  <a:lnTo>
                    <a:pt x="1048" y="1766"/>
                  </a:lnTo>
                  <a:lnTo>
                    <a:pt x="564" y="1766"/>
                  </a:lnTo>
                  <a:lnTo>
                    <a:pt x="237" y="1598"/>
                  </a:lnTo>
                  <a:lnTo>
                    <a:pt x="237" y="1194"/>
                  </a:lnTo>
                  <a:lnTo>
                    <a:pt x="69" y="948"/>
                  </a:lnTo>
                  <a:lnTo>
                    <a:pt x="99" y="701"/>
                  </a:lnTo>
                  <a:lnTo>
                    <a:pt x="0" y="0"/>
                  </a:lnTo>
                  <a:lnTo>
                    <a:pt x="1752" y="0"/>
                  </a:lnTo>
                  <a:lnTo>
                    <a:pt x="2236" y="168"/>
                  </a:lnTo>
                  <a:lnTo>
                    <a:pt x="2553" y="414"/>
                  </a:lnTo>
                  <a:lnTo>
                    <a:pt x="2869" y="976"/>
                  </a:lnTo>
                  <a:lnTo>
                    <a:pt x="2969" y="1459"/>
                  </a:lnTo>
                  <a:lnTo>
                    <a:pt x="2969" y="2258"/>
                  </a:lnTo>
                  <a:lnTo>
                    <a:pt x="2484" y="2210"/>
                  </a:lnTo>
                  <a:lnTo>
                    <a:pt x="2503" y="1934"/>
                  </a:lnTo>
                  <a:lnTo>
                    <a:pt x="2503" y="1934"/>
                  </a:lnTo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ffffc2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1319040" y="2182680"/>
              <a:ext cx="5040" cy="5413680"/>
            </a:xfrm>
            <a:prstGeom prst="line">
              <a:avLst/>
            </a:prstGeom>
            <a:ln w="475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585360" y="6834240"/>
              <a:ext cx="7381800" cy="0"/>
            </a:xfrm>
            <a:prstGeom prst="line">
              <a:avLst/>
            </a:prstGeom>
            <a:ln w="475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 flipV="1">
              <a:off x="3067920" y="101520"/>
              <a:ext cx="7015320" cy="5345280"/>
            </a:xfrm>
            <a:custGeom>
              <a:avLst/>
              <a:gdLst/>
              <a:ahLst/>
              <a:rect l="l" t="t" r="r" b="b"/>
              <a:pathLst>
                <a:path w="4419" h="3367">
                  <a:moveTo>
                    <a:pt x="3725" y="2883"/>
                  </a:moveTo>
                  <a:lnTo>
                    <a:pt x="3725" y="2883"/>
                  </a:lnTo>
                  <a:lnTo>
                    <a:pt x="3239" y="2515"/>
                  </a:lnTo>
                  <a:lnTo>
                    <a:pt x="2517" y="2883"/>
                  </a:lnTo>
                  <a:lnTo>
                    <a:pt x="1560" y="2633"/>
                  </a:lnTo>
                  <a:lnTo>
                    <a:pt x="838" y="2633"/>
                  </a:lnTo>
                  <a:lnTo>
                    <a:pt x="352" y="2384"/>
                  </a:lnTo>
                  <a:lnTo>
                    <a:pt x="352" y="1781"/>
                  </a:lnTo>
                  <a:lnTo>
                    <a:pt x="103" y="1414"/>
                  </a:lnTo>
                  <a:lnTo>
                    <a:pt x="147" y="1046"/>
                  </a:lnTo>
                  <a:lnTo>
                    <a:pt x="0" y="0"/>
                  </a:lnTo>
                  <a:lnTo>
                    <a:pt x="2606" y="0"/>
                  </a:lnTo>
                  <a:lnTo>
                    <a:pt x="3327" y="250"/>
                  </a:lnTo>
                  <a:lnTo>
                    <a:pt x="3798" y="618"/>
                  </a:lnTo>
                  <a:lnTo>
                    <a:pt x="4270" y="1456"/>
                  </a:lnTo>
                  <a:lnTo>
                    <a:pt x="4418" y="2176"/>
                  </a:lnTo>
                  <a:lnTo>
                    <a:pt x="4418" y="3366"/>
                  </a:lnTo>
                  <a:lnTo>
                    <a:pt x="3696" y="3294"/>
                  </a:lnTo>
                  <a:lnTo>
                    <a:pt x="3725" y="2883"/>
                  </a:lnTo>
                  <a:lnTo>
                    <a:pt x="3725" y="2883"/>
                  </a:lnTo>
                </a:path>
              </a:pathLst>
            </a:custGeom>
            <a:gradFill rotWithShape="0">
              <a:gsLst>
                <a:gs pos="0">
                  <a:srgbClr val="00c200"/>
                </a:gs>
                <a:gs pos="50000">
                  <a:srgbClr val="ffffc2"/>
                </a:gs>
                <a:gs pos="100000">
                  <a:srgbClr val="00c2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 flipV="1">
              <a:off x="0" y="6287400"/>
              <a:ext cx="110016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(trabaj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 flipV="1">
              <a:off x="1295280" y="7125480"/>
              <a:ext cx="80352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cerdo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 flipV="1">
              <a:off x="837360" y="7411320"/>
              <a:ext cx="304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flipV="1">
              <a:off x="151200" y="6841440"/>
              <a:ext cx="304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 flipV="1">
              <a:off x="3536280" y="5942880"/>
              <a:ext cx="164772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(500 chorizo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 flipV="1">
              <a:off x="7190640" y="5601600"/>
              <a:ext cx="164772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(750 chorizos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583920" y="1676520"/>
            <a:ext cx="8531640" cy="5911560"/>
            <a:chOff x="583920" y="1676520"/>
            <a:chExt cx="8531640" cy="5911560"/>
          </a:xfrm>
        </p:grpSpPr>
        <p:grpSp>
          <p:nvGrpSpPr>
            <p:cNvPr id="525" name=""/>
            <p:cNvGrpSpPr/>
            <p:nvPr/>
          </p:nvGrpSpPr>
          <p:grpSpPr>
            <a:xfrm>
              <a:off x="583920" y="2173320"/>
              <a:ext cx="7381800" cy="5414760"/>
              <a:chOff x="583920" y="2173320"/>
              <a:chExt cx="7381800" cy="5414760"/>
            </a:xfrm>
          </p:grpSpPr>
          <p:sp>
            <p:nvSpPr>
              <p:cNvPr id="526" name=""/>
              <p:cNvSpPr/>
              <p:nvPr/>
            </p:nvSpPr>
            <p:spPr>
              <a:xfrm flipH="1">
                <a:off x="1317600" y="2173320"/>
                <a:ext cx="4320" cy="5414760"/>
              </a:xfrm>
              <a:prstGeom prst="line">
                <a:avLst/>
              </a:prstGeom>
              <a:ln w="47520">
                <a:solidFill>
                  <a:srgbClr val="80808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>
                <a:off x="583920" y="6827400"/>
                <a:ext cx="7381800" cy="0"/>
              </a:xfrm>
              <a:prstGeom prst="line">
                <a:avLst/>
              </a:prstGeom>
              <a:ln w="47520">
                <a:solidFill>
                  <a:srgbClr val="80808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 flipH="1" rot="16200000">
              <a:off x="402840" y="2643840"/>
              <a:ext cx="110016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(trabaj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238880" y="6934320"/>
              <a:ext cx="80352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cerdos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077320" y="6553080"/>
              <a:ext cx="3045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19320" y="1676520"/>
              <a:ext cx="3045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657600" y="6172200"/>
              <a:ext cx="164772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(500 chorizo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467480" y="5105520"/>
              <a:ext cx="164808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750chorizo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380880" y="76320"/>
            <a:ext cx="9702720" cy="6754680"/>
            <a:chOff x="380880" y="76320"/>
            <a:chExt cx="9702720" cy="6754680"/>
          </a:xfrm>
        </p:grpSpPr>
        <p:sp>
          <p:nvSpPr>
            <p:cNvPr id="535" name=""/>
            <p:cNvSpPr/>
            <p:nvPr/>
          </p:nvSpPr>
          <p:spPr>
            <a:xfrm flipH="1" flipV="1">
              <a:off x="2481840" y="2320920"/>
              <a:ext cx="4714920" cy="3586320"/>
            </a:xfrm>
            <a:custGeom>
              <a:avLst/>
              <a:gdLst/>
              <a:ahLst/>
              <a:rect l="l" t="t" r="r" b="b"/>
              <a:pathLst>
                <a:path w="2970" h="2259">
                  <a:moveTo>
                    <a:pt x="0" y="0"/>
                  </a:moveTo>
                  <a:lnTo>
                    <a:pt x="1752" y="0"/>
                  </a:lnTo>
                  <a:lnTo>
                    <a:pt x="2236" y="168"/>
                  </a:lnTo>
                  <a:lnTo>
                    <a:pt x="2553" y="414"/>
                  </a:lnTo>
                  <a:lnTo>
                    <a:pt x="2869" y="976"/>
                  </a:lnTo>
                  <a:lnTo>
                    <a:pt x="2969" y="1459"/>
                  </a:lnTo>
                  <a:lnTo>
                    <a:pt x="2969" y="2258"/>
                  </a:lnTo>
                </a:path>
              </a:pathLst>
            </a:custGeom>
            <a:noFill/>
            <a:ln w="47520">
              <a:solidFill>
                <a:srgbClr val="ff8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1338120" y="1961640"/>
              <a:ext cx="1727280" cy="4867560"/>
            </a:xfrm>
            <a:prstGeom prst="line">
              <a:avLst/>
            </a:prstGeom>
            <a:ln w="47520">
              <a:solidFill>
                <a:srgbClr val="ff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1362240" y="5000760"/>
              <a:ext cx="3612960" cy="1830240"/>
            </a:xfrm>
            <a:prstGeom prst="line">
              <a:avLst/>
            </a:prstGeom>
            <a:ln w="47520">
              <a:solidFill>
                <a:srgbClr val="ff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flipV="1">
              <a:off x="3067920" y="101520"/>
              <a:ext cx="7015320" cy="5345280"/>
            </a:xfrm>
            <a:custGeom>
              <a:avLst/>
              <a:gdLst/>
              <a:ahLst/>
              <a:rect l="l" t="t" r="r" b="b"/>
              <a:pathLst>
                <a:path w="4419" h="3367">
                  <a:moveTo>
                    <a:pt x="0" y="0"/>
                  </a:moveTo>
                  <a:lnTo>
                    <a:pt x="2606" y="0"/>
                  </a:lnTo>
                  <a:lnTo>
                    <a:pt x="3327" y="250"/>
                  </a:lnTo>
                  <a:lnTo>
                    <a:pt x="3798" y="618"/>
                  </a:lnTo>
                  <a:lnTo>
                    <a:pt x="4270" y="1456"/>
                  </a:lnTo>
                  <a:lnTo>
                    <a:pt x="4418" y="2176"/>
                  </a:lnTo>
                  <a:lnTo>
                    <a:pt x="4418" y="3366"/>
                  </a:lnTo>
                </a:path>
              </a:pathLst>
            </a:custGeom>
            <a:noFill/>
            <a:ln w="47520">
              <a:solidFill>
                <a:srgbClr val="ff8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80880" y="76320"/>
              <a:ext cx="9677520" cy="16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200" spc="-1" strike="noStrike">
                  <a:solidFill>
                    <a:srgbClr val="000000"/>
                  </a:solidFill>
                  <a:latin typeface="Times New Roman"/>
                </a:rPr>
                <a:t>...rotándolas obtenemos las isocuantas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Como encaja el Equilibrio General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0" y="2006280"/>
            <a:ext cx="9931320" cy="57657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810000"/>
              </a:gs>
              <a:gs pos="100000">
                <a:srgbClr val="000000"/>
              </a:gs>
            </a:gsLst>
            <a:lin ang="5400000"/>
          </a:gradFill>
          <a:ln w="19080">
            <a:solidFill>
              <a:srgbClr val="8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5248440" y="4815000"/>
            <a:ext cx="2049120" cy="1176480"/>
            <a:chOff x="5248440" y="4815000"/>
            <a:chExt cx="2049120" cy="1176480"/>
          </a:xfrm>
        </p:grpSpPr>
        <p:sp>
          <p:nvSpPr>
            <p:cNvPr id="59" name=""/>
            <p:cNvSpPr/>
            <p:nvPr/>
          </p:nvSpPr>
          <p:spPr>
            <a:xfrm>
              <a:off x="5248440" y="4815000"/>
              <a:ext cx="982440" cy="947520"/>
            </a:xfrm>
            <a:custGeom>
              <a:avLst/>
              <a:gdLst/>
              <a:ahLst/>
              <a:rect l="l" t="t" r="r" b="b"/>
              <a:pathLst>
                <a:path w="619" h="597">
                  <a:moveTo>
                    <a:pt x="619" y="0"/>
                  </a:moveTo>
                  <a:lnTo>
                    <a:pt x="619" y="13"/>
                  </a:lnTo>
                  <a:lnTo>
                    <a:pt x="619" y="36"/>
                  </a:lnTo>
                  <a:lnTo>
                    <a:pt x="614" y="46"/>
                  </a:lnTo>
                  <a:lnTo>
                    <a:pt x="614" y="55"/>
                  </a:lnTo>
                  <a:lnTo>
                    <a:pt x="614" y="73"/>
                  </a:lnTo>
                  <a:lnTo>
                    <a:pt x="609" y="87"/>
                  </a:lnTo>
                  <a:lnTo>
                    <a:pt x="609" y="96"/>
                  </a:lnTo>
                  <a:lnTo>
                    <a:pt x="609" y="105"/>
                  </a:lnTo>
                  <a:lnTo>
                    <a:pt x="604" y="128"/>
                  </a:lnTo>
                  <a:lnTo>
                    <a:pt x="599" y="138"/>
                  </a:lnTo>
                  <a:lnTo>
                    <a:pt x="599" y="147"/>
                  </a:lnTo>
                  <a:lnTo>
                    <a:pt x="595" y="165"/>
                  </a:lnTo>
                  <a:lnTo>
                    <a:pt x="590" y="174"/>
                  </a:lnTo>
                  <a:lnTo>
                    <a:pt x="585" y="188"/>
                  </a:lnTo>
                  <a:lnTo>
                    <a:pt x="580" y="207"/>
                  </a:lnTo>
                  <a:lnTo>
                    <a:pt x="575" y="216"/>
                  </a:lnTo>
                  <a:lnTo>
                    <a:pt x="571" y="225"/>
                  </a:lnTo>
                  <a:lnTo>
                    <a:pt x="566" y="234"/>
                  </a:lnTo>
                  <a:lnTo>
                    <a:pt x="561" y="252"/>
                  </a:lnTo>
                  <a:lnTo>
                    <a:pt x="556" y="262"/>
                  </a:lnTo>
                  <a:lnTo>
                    <a:pt x="551" y="271"/>
                  </a:lnTo>
                  <a:lnTo>
                    <a:pt x="542" y="289"/>
                  </a:lnTo>
                  <a:lnTo>
                    <a:pt x="532" y="298"/>
                  </a:lnTo>
                  <a:lnTo>
                    <a:pt x="527" y="308"/>
                  </a:lnTo>
                  <a:lnTo>
                    <a:pt x="518" y="326"/>
                  </a:lnTo>
                  <a:lnTo>
                    <a:pt x="513" y="335"/>
                  </a:lnTo>
                  <a:lnTo>
                    <a:pt x="503" y="344"/>
                  </a:lnTo>
                  <a:lnTo>
                    <a:pt x="494" y="358"/>
                  </a:lnTo>
                  <a:lnTo>
                    <a:pt x="484" y="367"/>
                  </a:lnTo>
                  <a:lnTo>
                    <a:pt x="480" y="377"/>
                  </a:lnTo>
                  <a:lnTo>
                    <a:pt x="475" y="386"/>
                  </a:lnTo>
                  <a:lnTo>
                    <a:pt x="460" y="400"/>
                  </a:lnTo>
                  <a:lnTo>
                    <a:pt x="451" y="409"/>
                  </a:lnTo>
                  <a:lnTo>
                    <a:pt x="446" y="413"/>
                  </a:lnTo>
                  <a:lnTo>
                    <a:pt x="427" y="432"/>
                  </a:lnTo>
                  <a:lnTo>
                    <a:pt x="422" y="436"/>
                  </a:lnTo>
                  <a:lnTo>
                    <a:pt x="412" y="446"/>
                  </a:lnTo>
                  <a:lnTo>
                    <a:pt x="398" y="459"/>
                  </a:lnTo>
                  <a:lnTo>
                    <a:pt x="388" y="464"/>
                  </a:lnTo>
                  <a:lnTo>
                    <a:pt x="379" y="469"/>
                  </a:lnTo>
                  <a:lnTo>
                    <a:pt x="369" y="478"/>
                  </a:lnTo>
                  <a:lnTo>
                    <a:pt x="355" y="487"/>
                  </a:lnTo>
                  <a:lnTo>
                    <a:pt x="345" y="496"/>
                  </a:lnTo>
                  <a:lnTo>
                    <a:pt x="336" y="501"/>
                  </a:lnTo>
                  <a:lnTo>
                    <a:pt x="316" y="510"/>
                  </a:lnTo>
                  <a:lnTo>
                    <a:pt x="307" y="514"/>
                  </a:lnTo>
                  <a:lnTo>
                    <a:pt x="297" y="524"/>
                  </a:lnTo>
                  <a:lnTo>
                    <a:pt x="278" y="533"/>
                  </a:lnTo>
                  <a:lnTo>
                    <a:pt x="269" y="537"/>
                  </a:lnTo>
                  <a:lnTo>
                    <a:pt x="259" y="542"/>
                  </a:lnTo>
                  <a:lnTo>
                    <a:pt x="240" y="547"/>
                  </a:lnTo>
                  <a:lnTo>
                    <a:pt x="230" y="551"/>
                  </a:lnTo>
                  <a:lnTo>
                    <a:pt x="221" y="556"/>
                  </a:lnTo>
                  <a:lnTo>
                    <a:pt x="211" y="560"/>
                  </a:lnTo>
                  <a:lnTo>
                    <a:pt x="192" y="565"/>
                  </a:lnTo>
                  <a:lnTo>
                    <a:pt x="177" y="570"/>
                  </a:lnTo>
                  <a:lnTo>
                    <a:pt x="168" y="574"/>
                  </a:lnTo>
                  <a:lnTo>
                    <a:pt x="149" y="579"/>
                  </a:lnTo>
                  <a:lnTo>
                    <a:pt x="139" y="579"/>
                  </a:lnTo>
                  <a:lnTo>
                    <a:pt x="129" y="583"/>
                  </a:lnTo>
                  <a:lnTo>
                    <a:pt x="106" y="588"/>
                  </a:lnTo>
                  <a:lnTo>
                    <a:pt x="96" y="588"/>
                  </a:lnTo>
                  <a:lnTo>
                    <a:pt x="86" y="588"/>
                  </a:lnTo>
                  <a:lnTo>
                    <a:pt x="72" y="593"/>
                  </a:lnTo>
                  <a:lnTo>
                    <a:pt x="53" y="593"/>
                  </a:lnTo>
                  <a:lnTo>
                    <a:pt x="43" y="593"/>
                  </a:lnTo>
                  <a:lnTo>
                    <a:pt x="34" y="597"/>
                  </a:lnTo>
                  <a:lnTo>
                    <a:pt x="10" y="597"/>
                  </a:lnTo>
                  <a:lnTo>
                    <a:pt x="0" y="597"/>
                  </a:lnTo>
                  <a:lnTo>
                    <a:pt x="0" y="4"/>
                  </a:lnTo>
                  <a:lnTo>
                    <a:pt x="619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248440" y="4815000"/>
              <a:ext cx="982440" cy="947520"/>
            </a:xfrm>
            <a:custGeom>
              <a:avLst/>
              <a:gdLst/>
              <a:ahLst/>
              <a:rect l="l" t="t" r="r" b="b"/>
              <a:pathLst>
                <a:path w="619" h="597">
                  <a:moveTo>
                    <a:pt x="619" y="0"/>
                  </a:moveTo>
                  <a:lnTo>
                    <a:pt x="619" y="13"/>
                  </a:lnTo>
                  <a:lnTo>
                    <a:pt x="619" y="36"/>
                  </a:lnTo>
                  <a:lnTo>
                    <a:pt x="614" y="46"/>
                  </a:lnTo>
                  <a:lnTo>
                    <a:pt x="614" y="55"/>
                  </a:lnTo>
                  <a:lnTo>
                    <a:pt x="614" y="73"/>
                  </a:lnTo>
                  <a:lnTo>
                    <a:pt x="609" y="87"/>
                  </a:lnTo>
                  <a:lnTo>
                    <a:pt x="609" y="96"/>
                  </a:lnTo>
                  <a:lnTo>
                    <a:pt x="609" y="105"/>
                  </a:lnTo>
                  <a:lnTo>
                    <a:pt x="604" y="128"/>
                  </a:lnTo>
                  <a:lnTo>
                    <a:pt x="599" y="138"/>
                  </a:lnTo>
                  <a:lnTo>
                    <a:pt x="599" y="147"/>
                  </a:lnTo>
                  <a:lnTo>
                    <a:pt x="595" y="165"/>
                  </a:lnTo>
                  <a:lnTo>
                    <a:pt x="590" y="174"/>
                  </a:lnTo>
                  <a:lnTo>
                    <a:pt x="585" y="188"/>
                  </a:lnTo>
                  <a:lnTo>
                    <a:pt x="580" y="207"/>
                  </a:lnTo>
                  <a:lnTo>
                    <a:pt x="575" y="216"/>
                  </a:lnTo>
                  <a:lnTo>
                    <a:pt x="571" y="225"/>
                  </a:lnTo>
                  <a:lnTo>
                    <a:pt x="566" y="234"/>
                  </a:lnTo>
                  <a:lnTo>
                    <a:pt x="561" y="252"/>
                  </a:lnTo>
                  <a:lnTo>
                    <a:pt x="556" y="262"/>
                  </a:lnTo>
                  <a:lnTo>
                    <a:pt x="551" y="271"/>
                  </a:lnTo>
                  <a:lnTo>
                    <a:pt x="542" y="289"/>
                  </a:lnTo>
                  <a:lnTo>
                    <a:pt x="532" y="298"/>
                  </a:lnTo>
                  <a:lnTo>
                    <a:pt x="527" y="308"/>
                  </a:lnTo>
                  <a:lnTo>
                    <a:pt x="518" y="326"/>
                  </a:lnTo>
                  <a:lnTo>
                    <a:pt x="513" y="335"/>
                  </a:lnTo>
                  <a:lnTo>
                    <a:pt x="503" y="344"/>
                  </a:lnTo>
                  <a:lnTo>
                    <a:pt x="494" y="358"/>
                  </a:lnTo>
                  <a:lnTo>
                    <a:pt x="484" y="367"/>
                  </a:lnTo>
                  <a:lnTo>
                    <a:pt x="480" y="377"/>
                  </a:lnTo>
                  <a:lnTo>
                    <a:pt x="475" y="386"/>
                  </a:lnTo>
                  <a:lnTo>
                    <a:pt x="460" y="400"/>
                  </a:lnTo>
                  <a:lnTo>
                    <a:pt x="451" y="409"/>
                  </a:lnTo>
                  <a:lnTo>
                    <a:pt x="446" y="413"/>
                  </a:lnTo>
                  <a:lnTo>
                    <a:pt x="427" y="432"/>
                  </a:lnTo>
                  <a:lnTo>
                    <a:pt x="422" y="436"/>
                  </a:lnTo>
                  <a:lnTo>
                    <a:pt x="412" y="446"/>
                  </a:lnTo>
                  <a:lnTo>
                    <a:pt x="398" y="459"/>
                  </a:lnTo>
                  <a:lnTo>
                    <a:pt x="388" y="464"/>
                  </a:lnTo>
                  <a:lnTo>
                    <a:pt x="379" y="469"/>
                  </a:lnTo>
                  <a:lnTo>
                    <a:pt x="369" y="478"/>
                  </a:lnTo>
                  <a:lnTo>
                    <a:pt x="355" y="487"/>
                  </a:lnTo>
                  <a:lnTo>
                    <a:pt x="345" y="496"/>
                  </a:lnTo>
                  <a:lnTo>
                    <a:pt x="336" y="501"/>
                  </a:lnTo>
                  <a:lnTo>
                    <a:pt x="316" y="510"/>
                  </a:lnTo>
                  <a:lnTo>
                    <a:pt x="307" y="514"/>
                  </a:lnTo>
                  <a:lnTo>
                    <a:pt x="297" y="524"/>
                  </a:lnTo>
                  <a:lnTo>
                    <a:pt x="278" y="533"/>
                  </a:lnTo>
                  <a:lnTo>
                    <a:pt x="269" y="537"/>
                  </a:lnTo>
                  <a:lnTo>
                    <a:pt x="259" y="542"/>
                  </a:lnTo>
                  <a:lnTo>
                    <a:pt x="240" y="547"/>
                  </a:lnTo>
                  <a:lnTo>
                    <a:pt x="230" y="551"/>
                  </a:lnTo>
                  <a:lnTo>
                    <a:pt x="221" y="556"/>
                  </a:lnTo>
                  <a:lnTo>
                    <a:pt x="211" y="560"/>
                  </a:lnTo>
                  <a:lnTo>
                    <a:pt x="192" y="565"/>
                  </a:lnTo>
                  <a:lnTo>
                    <a:pt x="177" y="570"/>
                  </a:lnTo>
                  <a:lnTo>
                    <a:pt x="168" y="574"/>
                  </a:lnTo>
                  <a:lnTo>
                    <a:pt x="149" y="579"/>
                  </a:lnTo>
                  <a:lnTo>
                    <a:pt x="139" y="579"/>
                  </a:lnTo>
                  <a:lnTo>
                    <a:pt x="129" y="583"/>
                  </a:lnTo>
                  <a:lnTo>
                    <a:pt x="106" y="588"/>
                  </a:lnTo>
                  <a:lnTo>
                    <a:pt x="96" y="588"/>
                  </a:lnTo>
                  <a:lnTo>
                    <a:pt x="86" y="588"/>
                  </a:lnTo>
                  <a:lnTo>
                    <a:pt x="72" y="593"/>
                  </a:lnTo>
                  <a:lnTo>
                    <a:pt x="53" y="593"/>
                  </a:lnTo>
                  <a:lnTo>
                    <a:pt x="43" y="593"/>
                  </a:lnTo>
                  <a:lnTo>
                    <a:pt x="34" y="597"/>
                  </a:lnTo>
                  <a:lnTo>
                    <a:pt x="10" y="597"/>
                  </a:lnTo>
                  <a:lnTo>
                    <a:pt x="0" y="597"/>
                  </a:lnTo>
                  <a:lnTo>
                    <a:pt x="0" y="4"/>
                  </a:lnTo>
                  <a:lnTo>
                    <a:pt x="619" y="0"/>
                  </a:lnTo>
                  <a:close/>
                </a:path>
              </a:pathLst>
            </a:custGeom>
            <a:noFill/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2000" y="5610240"/>
              <a:ext cx="12855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500" spc="-1" strike="noStrike">
                  <a:solidFill>
                    <a:srgbClr val="ffffff"/>
                  </a:solidFill>
                  <a:latin typeface="Times New Roman"/>
                </a:rPr>
                <a:t>Bienestar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851200" y="4492800"/>
            <a:ext cx="2138400" cy="1650960"/>
            <a:chOff x="2851200" y="4492800"/>
            <a:chExt cx="2138400" cy="1650960"/>
          </a:xfrm>
        </p:grpSpPr>
        <p:sp>
          <p:nvSpPr>
            <p:cNvPr id="63" name=""/>
            <p:cNvSpPr/>
            <p:nvPr/>
          </p:nvSpPr>
          <p:spPr>
            <a:xfrm>
              <a:off x="4006800" y="4492800"/>
              <a:ext cx="982800" cy="1415880"/>
            </a:xfrm>
            <a:custGeom>
              <a:avLst/>
              <a:gdLst/>
              <a:ahLst/>
              <a:rect l="l" t="t" r="r" b="b"/>
              <a:pathLst>
                <a:path w="619" h="892">
                  <a:moveTo>
                    <a:pt x="619" y="892"/>
                  </a:moveTo>
                  <a:lnTo>
                    <a:pt x="605" y="892"/>
                  </a:lnTo>
                  <a:lnTo>
                    <a:pt x="585" y="892"/>
                  </a:lnTo>
                  <a:lnTo>
                    <a:pt x="576" y="888"/>
                  </a:lnTo>
                  <a:lnTo>
                    <a:pt x="566" y="888"/>
                  </a:lnTo>
                  <a:lnTo>
                    <a:pt x="542" y="888"/>
                  </a:lnTo>
                  <a:lnTo>
                    <a:pt x="533" y="883"/>
                  </a:lnTo>
                  <a:lnTo>
                    <a:pt x="523" y="883"/>
                  </a:lnTo>
                  <a:lnTo>
                    <a:pt x="499" y="878"/>
                  </a:lnTo>
                  <a:lnTo>
                    <a:pt x="490" y="878"/>
                  </a:lnTo>
                  <a:lnTo>
                    <a:pt x="480" y="874"/>
                  </a:lnTo>
                  <a:lnTo>
                    <a:pt x="456" y="869"/>
                  </a:lnTo>
                  <a:lnTo>
                    <a:pt x="446" y="869"/>
                  </a:lnTo>
                  <a:lnTo>
                    <a:pt x="437" y="865"/>
                  </a:lnTo>
                  <a:lnTo>
                    <a:pt x="418" y="860"/>
                  </a:lnTo>
                  <a:lnTo>
                    <a:pt x="408" y="855"/>
                  </a:lnTo>
                  <a:lnTo>
                    <a:pt x="398" y="851"/>
                  </a:lnTo>
                  <a:lnTo>
                    <a:pt x="374" y="842"/>
                  </a:lnTo>
                  <a:lnTo>
                    <a:pt x="365" y="842"/>
                  </a:lnTo>
                  <a:lnTo>
                    <a:pt x="355" y="837"/>
                  </a:lnTo>
                  <a:lnTo>
                    <a:pt x="336" y="828"/>
                  </a:lnTo>
                  <a:lnTo>
                    <a:pt x="327" y="823"/>
                  </a:lnTo>
                  <a:lnTo>
                    <a:pt x="317" y="819"/>
                  </a:lnTo>
                  <a:lnTo>
                    <a:pt x="298" y="805"/>
                  </a:lnTo>
                  <a:lnTo>
                    <a:pt x="288" y="800"/>
                  </a:lnTo>
                  <a:lnTo>
                    <a:pt x="279" y="796"/>
                  </a:lnTo>
                  <a:lnTo>
                    <a:pt x="264" y="782"/>
                  </a:lnTo>
                  <a:lnTo>
                    <a:pt x="255" y="777"/>
                  </a:lnTo>
                  <a:lnTo>
                    <a:pt x="245" y="773"/>
                  </a:lnTo>
                  <a:lnTo>
                    <a:pt x="231" y="759"/>
                  </a:lnTo>
                  <a:lnTo>
                    <a:pt x="221" y="754"/>
                  </a:lnTo>
                  <a:lnTo>
                    <a:pt x="211" y="745"/>
                  </a:lnTo>
                  <a:lnTo>
                    <a:pt x="197" y="731"/>
                  </a:lnTo>
                  <a:lnTo>
                    <a:pt x="187" y="727"/>
                  </a:lnTo>
                  <a:lnTo>
                    <a:pt x="183" y="717"/>
                  </a:lnTo>
                  <a:lnTo>
                    <a:pt x="163" y="704"/>
                  </a:lnTo>
                  <a:lnTo>
                    <a:pt x="159" y="695"/>
                  </a:lnTo>
                  <a:lnTo>
                    <a:pt x="149" y="685"/>
                  </a:lnTo>
                  <a:lnTo>
                    <a:pt x="135" y="672"/>
                  </a:lnTo>
                  <a:lnTo>
                    <a:pt x="130" y="662"/>
                  </a:lnTo>
                  <a:lnTo>
                    <a:pt x="125" y="653"/>
                  </a:lnTo>
                  <a:lnTo>
                    <a:pt x="111" y="639"/>
                  </a:lnTo>
                  <a:lnTo>
                    <a:pt x="106" y="630"/>
                  </a:lnTo>
                  <a:lnTo>
                    <a:pt x="101" y="621"/>
                  </a:lnTo>
                  <a:lnTo>
                    <a:pt x="87" y="603"/>
                  </a:lnTo>
                  <a:lnTo>
                    <a:pt x="82" y="593"/>
                  </a:lnTo>
                  <a:lnTo>
                    <a:pt x="77" y="584"/>
                  </a:lnTo>
                  <a:lnTo>
                    <a:pt x="68" y="566"/>
                  </a:lnTo>
                  <a:lnTo>
                    <a:pt x="63" y="557"/>
                  </a:lnTo>
                  <a:lnTo>
                    <a:pt x="58" y="547"/>
                  </a:lnTo>
                  <a:lnTo>
                    <a:pt x="48" y="529"/>
                  </a:lnTo>
                  <a:lnTo>
                    <a:pt x="44" y="520"/>
                  </a:lnTo>
                  <a:lnTo>
                    <a:pt x="39" y="511"/>
                  </a:lnTo>
                  <a:lnTo>
                    <a:pt x="34" y="492"/>
                  </a:lnTo>
                  <a:lnTo>
                    <a:pt x="29" y="483"/>
                  </a:lnTo>
                  <a:lnTo>
                    <a:pt x="24" y="469"/>
                  </a:lnTo>
                  <a:lnTo>
                    <a:pt x="20" y="451"/>
                  </a:lnTo>
                  <a:lnTo>
                    <a:pt x="20" y="442"/>
                  </a:lnTo>
                  <a:lnTo>
                    <a:pt x="15" y="433"/>
                  </a:lnTo>
                  <a:lnTo>
                    <a:pt x="10" y="410"/>
                  </a:lnTo>
                  <a:lnTo>
                    <a:pt x="10" y="400"/>
                  </a:lnTo>
                  <a:lnTo>
                    <a:pt x="5" y="391"/>
                  </a:lnTo>
                  <a:lnTo>
                    <a:pt x="5" y="368"/>
                  </a:lnTo>
                  <a:lnTo>
                    <a:pt x="0" y="359"/>
                  </a:lnTo>
                  <a:lnTo>
                    <a:pt x="0" y="350"/>
                  </a:lnTo>
                  <a:lnTo>
                    <a:pt x="0" y="331"/>
                  </a:lnTo>
                  <a:lnTo>
                    <a:pt x="0" y="318"/>
                  </a:lnTo>
                  <a:lnTo>
                    <a:pt x="0" y="308"/>
                  </a:lnTo>
                  <a:lnTo>
                    <a:pt x="0" y="285"/>
                  </a:lnTo>
                  <a:lnTo>
                    <a:pt x="0" y="276"/>
                  </a:lnTo>
                  <a:lnTo>
                    <a:pt x="0" y="267"/>
                  </a:lnTo>
                  <a:lnTo>
                    <a:pt x="0" y="249"/>
                  </a:lnTo>
                  <a:lnTo>
                    <a:pt x="0" y="235"/>
                  </a:lnTo>
                  <a:lnTo>
                    <a:pt x="5" y="226"/>
                  </a:lnTo>
                  <a:lnTo>
                    <a:pt x="5" y="207"/>
                  </a:lnTo>
                  <a:lnTo>
                    <a:pt x="10" y="193"/>
                  </a:lnTo>
                  <a:lnTo>
                    <a:pt x="10" y="184"/>
                  </a:lnTo>
                  <a:lnTo>
                    <a:pt x="15" y="166"/>
                  </a:lnTo>
                  <a:lnTo>
                    <a:pt x="20" y="157"/>
                  </a:lnTo>
                  <a:lnTo>
                    <a:pt x="20" y="143"/>
                  </a:lnTo>
                  <a:lnTo>
                    <a:pt x="24" y="125"/>
                  </a:lnTo>
                  <a:lnTo>
                    <a:pt x="29" y="115"/>
                  </a:lnTo>
                  <a:lnTo>
                    <a:pt x="34" y="106"/>
                  </a:lnTo>
                  <a:lnTo>
                    <a:pt x="39" y="88"/>
                  </a:lnTo>
                  <a:lnTo>
                    <a:pt x="44" y="74"/>
                  </a:lnTo>
                  <a:lnTo>
                    <a:pt x="48" y="65"/>
                  </a:lnTo>
                  <a:lnTo>
                    <a:pt x="58" y="46"/>
                  </a:lnTo>
                  <a:lnTo>
                    <a:pt x="63" y="37"/>
                  </a:lnTo>
                  <a:lnTo>
                    <a:pt x="68" y="28"/>
                  </a:lnTo>
                  <a:lnTo>
                    <a:pt x="77" y="10"/>
                  </a:lnTo>
                  <a:lnTo>
                    <a:pt x="82" y="0"/>
                  </a:lnTo>
                  <a:lnTo>
                    <a:pt x="619" y="299"/>
                  </a:lnTo>
                  <a:lnTo>
                    <a:pt x="619" y="892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51200" y="5361120"/>
              <a:ext cx="14745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500" spc="-1" strike="noStrike">
                  <a:solidFill>
                    <a:srgbClr val="ffffff"/>
                  </a:solidFill>
                  <a:latin typeface="Times New Roman"/>
                </a:rPr>
                <a:t>Equilibrio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75320" y="5762520"/>
              <a:ext cx="11710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Times New Roman"/>
                </a:rPr>
                <a:t>General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727800" y="3427560"/>
            <a:ext cx="2007720" cy="1393560"/>
            <a:chOff x="3727800" y="3427560"/>
            <a:chExt cx="2007720" cy="1393560"/>
          </a:xfrm>
        </p:grpSpPr>
        <p:sp>
          <p:nvSpPr>
            <p:cNvPr id="67" name=""/>
            <p:cNvSpPr/>
            <p:nvPr/>
          </p:nvSpPr>
          <p:spPr>
            <a:xfrm>
              <a:off x="4395960" y="3879720"/>
              <a:ext cx="1339560" cy="941400"/>
            </a:xfrm>
            <a:custGeom>
              <a:avLst/>
              <a:gdLst/>
              <a:ahLst/>
              <a:rect l="l" t="t" r="r" b="b"/>
              <a:pathLst>
                <a:path w="844" h="593">
                  <a:moveTo>
                    <a:pt x="0" y="295"/>
                  </a:moveTo>
                  <a:lnTo>
                    <a:pt x="5" y="285"/>
                  </a:lnTo>
                  <a:lnTo>
                    <a:pt x="19" y="267"/>
                  </a:lnTo>
                  <a:lnTo>
                    <a:pt x="24" y="262"/>
                  </a:lnTo>
                  <a:lnTo>
                    <a:pt x="29" y="253"/>
                  </a:lnTo>
                  <a:lnTo>
                    <a:pt x="43" y="235"/>
                  </a:lnTo>
                  <a:lnTo>
                    <a:pt x="48" y="226"/>
                  </a:lnTo>
                  <a:lnTo>
                    <a:pt x="53" y="221"/>
                  </a:lnTo>
                  <a:lnTo>
                    <a:pt x="62" y="212"/>
                  </a:lnTo>
                  <a:lnTo>
                    <a:pt x="77" y="193"/>
                  </a:lnTo>
                  <a:lnTo>
                    <a:pt x="82" y="189"/>
                  </a:lnTo>
                  <a:lnTo>
                    <a:pt x="91" y="180"/>
                  </a:lnTo>
                  <a:lnTo>
                    <a:pt x="105" y="166"/>
                  </a:lnTo>
                  <a:lnTo>
                    <a:pt x="115" y="157"/>
                  </a:lnTo>
                  <a:lnTo>
                    <a:pt x="120" y="152"/>
                  </a:lnTo>
                  <a:lnTo>
                    <a:pt x="139" y="138"/>
                  </a:lnTo>
                  <a:lnTo>
                    <a:pt x="149" y="129"/>
                  </a:lnTo>
                  <a:lnTo>
                    <a:pt x="153" y="124"/>
                  </a:lnTo>
                  <a:lnTo>
                    <a:pt x="163" y="120"/>
                  </a:lnTo>
                  <a:lnTo>
                    <a:pt x="182" y="106"/>
                  </a:lnTo>
                  <a:lnTo>
                    <a:pt x="192" y="101"/>
                  </a:lnTo>
                  <a:lnTo>
                    <a:pt x="197" y="97"/>
                  </a:lnTo>
                  <a:lnTo>
                    <a:pt x="216" y="83"/>
                  </a:lnTo>
                  <a:lnTo>
                    <a:pt x="225" y="78"/>
                  </a:lnTo>
                  <a:lnTo>
                    <a:pt x="235" y="74"/>
                  </a:lnTo>
                  <a:lnTo>
                    <a:pt x="254" y="65"/>
                  </a:lnTo>
                  <a:lnTo>
                    <a:pt x="264" y="60"/>
                  </a:lnTo>
                  <a:lnTo>
                    <a:pt x="273" y="55"/>
                  </a:lnTo>
                  <a:lnTo>
                    <a:pt x="292" y="46"/>
                  </a:lnTo>
                  <a:lnTo>
                    <a:pt x="302" y="42"/>
                  </a:lnTo>
                  <a:lnTo>
                    <a:pt x="316" y="37"/>
                  </a:lnTo>
                  <a:lnTo>
                    <a:pt x="326" y="37"/>
                  </a:lnTo>
                  <a:lnTo>
                    <a:pt x="345" y="28"/>
                  </a:lnTo>
                  <a:lnTo>
                    <a:pt x="355" y="23"/>
                  </a:lnTo>
                  <a:lnTo>
                    <a:pt x="364" y="23"/>
                  </a:lnTo>
                  <a:lnTo>
                    <a:pt x="388" y="19"/>
                  </a:lnTo>
                  <a:lnTo>
                    <a:pt x="398" y="14"/>
                  </a:lnTo>
                  <a:lnTo>
                    <a:pt x="408" y="14"/>
                  </a:lnTo>
                  <a:lnTo>
                    <a:pt x="427" y="10"/>
                  </a:lnTo>
                  <a:lnTo>
                    <a:pt x="441" y="5"/>
                  </a:lnTo>
                  <a:lnTo>
                    <a:pt x="451" y="5"/>
                  </a:lnTo>
                  <a:lnTo>
                    <a:pt x="460" y="5"/>
                  </a:lnTo>
                  <a:lnTo>
                    <a:pt x="484" y="0"/>
                  </a:lnTo>
                  <a:lnTo>
                    <a:pt x="494" y="0"/>
                  </a:lnTo>
                  <a:lnTo>
                    <a:pt x="503" y="0"/>
                  </a:lnTo>
                  <a:lnTo>
                    <a:pt x="523" y="0"/>
                  </a:lnTo>
                  <a:lnTo>
                    <a:pt x="537" y="0"/>
                  </a:lnTo>
                  <a:lnTo>
                    <a:pt x="547" y="0"/>
                  </a:lnTo>
                  <a:lnTo>
                    <a:pt x="571" y="0"/>
                  </a:lnTo>
                  <a:lnTo>
                    <a:pt x="580" y="0"/>
                  </a:lnTo>
                  <a:lnTo>
                    <a:pt x="590" y="0"/>
                  </a:lnTo>
                  <a:lnTo>
                    <a:pt x="609" y="5"/>
                  </a:lnTo>
                  <a:lnTo>
                    <a:pt x="623" y="5"/>
                  </a:lnTo>
                  <a:lnTo>
                    <a:pt x="633" y="5"/>
                  </a:lnTo>
                  <a:lnTo>
                    <a:pt x="643" y="10"/>
                  </a:lnTo>
                  <a:lnTo>
                    <a:pt x="666" y="14"/>
                  </a:lnTo>
                  <a:lnTo>
                    <a:pt x="676" y="14"/>
                  </a:lnTo>
                  <a:lnTo>
                    <a:pt x="686" y="19"/>
                  </a:lnTo>
                  <a:lnTo>
                    <a:pt x="705" y="23"/>
                  </a:lnTo>
                  <a:lnTo>
                    <a:pt x="714" y="23"/>
                  </a:lnTo>
                  <a:lnTo>
                    <a:pt x="729" y="28"/>
                  </a:lnTo>
                  <a:lnTo>
                    <a:pt x="748" y="37"/>
                  </a:lnTo>
                  <a:lnTo>
                    <a:pt x="758" y="37"/>
                  </a:lnTo>
                  <a:lnTo>
                    <a:pt x="767" y="42"/>
                  </a:lnTo>
                  <a:lnTo>
                    <a:pt x="777" y="46"/>
                  </a:lnTo>
                  <a:lnTo>
                    <a:pt x="796" y="55"/>
                  </a:lnTo>
                  <a:lnTo>
                    <a:pt x="806" y="60"/>
                  </a:lnTo>
                  <a:lnTo>
                    <a:pt x="815" y="65"/>
                  </a:lnTo>
                  <a:lnTo>
                    <a:pt x="834" y="74"/>
                  </a:lnTo>
                  <a:lnTo>
                    <a:pt x="844" y="78"/>
                  </a:lnTo>
                  <a:lnTo>
                    <a:pt x="537" y="593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395960" y="3879720"/>
              <a:ext cx="1339560" cy="941400"/>
            </a:xfrm>
            <a:custGeom>
              <a:avLst/>
              <a:gdLst/>
              <a:ahLst/>
              <a:rect l="l" t="t" r="r" b="b"/>
              <a:pathLst>
                <a:path w="844" h="593">
                  <a:moveTo>
                    <a:pt x="0" y="295"/>
                  </a:moveTo>
                  <a:lnTo>
                    <a:pt x="5" y="285"/>
                  </a:lnTo>
                  <a:lnTo>
                    <a:pt x="19" y="267"/>
                  </a:lnTo>
                  <a:lnTo>
                    <a:pt x="24" y="262"/>
                  </a:lnTo>
                  <a:lnTo>
                    <a:pt x="29" y="253"/>
                  </a:lnTo>
                  <a:lnTo>
                    <a:pt x="43" y="235"/>
                  </a:lnTo>
                  <a:lnTo>
                    <a:pt x="48" y="226"/>
                  </a:lnTo>
                  <a:lnTo>
                    <a:pt x="53" y="221"/>
                  </a:lnTo>
                  <a:lnTo>
                    <a:pt x="62" y="212"/>
                  </a:lnTo>
                  <a:lnTo>
                    <a:pt x="77" y="193"/>
                  </a:lnTo>
                  <a:lnTo>
                    <a:pt x="82" y="189"/>
                  </a:lnTo>
                  <a:lnTo>
                    <a:pt x="91" y="180"/>
                  </a:lnTo>
                  <a:lnTo>
                    <a:pt x="105" y="166"/>
                  </a:lnTo>
                  <a:lnTo>
                    <a:pt x="115" y="157"/>
                  </a:lnTo>
                  <a:lnTo>
                    <a:pt x="120" y="152"/>
                  </a:lnTo>
                  <a:lnTo>
                    <a:pt x="139" y="138"/>
                  </a:lnTo>
                  <a:lnTo>
                    <a:pt x="149" y="129"/>
                  </a:lnTo>
                  <a:lnTo>
                    <a:pt x="153" y="124"/>
                  </a:lnTo>
                  <a:lnTo>
                    <a:pt x="163" y="120"/>
                  </a:lnTo>
                  <a:lnTo>
                    <a:pt x="182" y="106"/>
                  </a:lnTo>
                  <a:lnTo>
                    <a:pt x="192" y="101"/>
                  </a:lnTo>
                  <a:lnTo>
                    <a:pt x="197" y="97"/>
                  </a:lnTo>
                  <a:lnTo>
                    <a:pt x="216" y="83"/>
                  </a:lnTo>
                  <a:lnTo>
                    <a:pt x="225" y="78"/>
                  </a:lnTo>
                  <a:lnTo>
                    <a:pt x="235" y="74"/>
                  </a:lnTo>
                  <a:lnTo>
                    <a:pt x="254" y="65"/>
                  </a:lnTo>
                  <a:lnTo>
                    <a:pt x="264" y="60"/>
                  </a:lnTo>
                  <a:lnTo>
                    <a:pt x="273" y="55"/>
                  </a:lnTo>
                  <a:lnTo>
                    <a:pt x="292" y="46"/>
                  </a:lnTo>
                  <a:lnTo>
                    <a:pt x="302" y="42"/>
                  </a:lnTo>
                  <a:lnTo>
                    <a:pt x="316" y="37"/>
                  </a:lnTo>
                  <a:lnTo>
                    <a:pt x="326" y="37"/>
                  </a:lnTo>
                  <a:lnTo>
                    <a:pt x="345" y="28"/>
                  </a:lnTo>
                  <a:lnTo>
                    <a:pt x="355" y="23"/>
                  </a:lnTo>
                  <a:lnTo>
                    <a:pt x="364" y="23"/>
                  </a:lnTo>
                  <a:lnTo>
                    <a:pt x="388" y="19"/>
                  </a:lnTo>
                  <a:lnTo>
                    <a:pt x="398" y="14"/>
                  </a:lnTo>
                  <a:lnTo>
                    <a:pt x="408" y="14"/>
                  </a:lnTo>
                  <a:lnTo>
                    <a:pt x="427" y="10"/>
                  </a:lnTo>
                  <a:lnTo>
                    <a:pt x="441" y="5"/>
                  </a:lnTo>
                  <a:lnTo>
                    <a:pt x="451" y="5"/>
                  </a:lnTo>
                  <a:lnTo>
                    <a:pt x="460" y="5"/>
                  </a:lnTo>
                  <a:lnTo>
                    <a:pt x="484" y="0"/>
                  </a:lnTo>
                  <a:lnTo>
                    <a:pt x="494" y="0"/>
                  </a:lnTo>
                  <a:lnTo>
                    <a:pt x="503" y="0"/>
                  </a:lnTo>
                  <a:lnTo>
                    <a:pt x="523" y="0"/>
                  </a:lnTo>
                  <a:lnTo>
                    <a:pt x="537" y="0"/>
                  </a:lnTo>
                  <a:lnTo>
                    <a:pt x="547" y="0"/>
                  </a:lnTo>
                  <a:lnTo>
                    <a:pt x="571" y="0"/>
                  </a:lnTo>
                  <a:lnTo>
                    <a:pt x="580" y="0"/>
                  </a:lnTo>
                  <a:lnTo>
                    <a:pt x="590" y="0"/>
                  </a:lnTo>
                  <a:lnTo>
                    <a:pt x="609" y="5"/>
                  </a:lnTo>
                  <a:lnTo>
                    <a:pt x="623" y="5"/>
                  </a:lnTo>
                  <a:lnTo>
                    <a:pt x="633" y="5"/>
                  </a:lnTo>
                  <a:lnTo>
                    <a:pt x="643" y="10"/>
                  </a:lnTo>
                  <a:lnTo>
                    <a:pt x="666" y="14"/>
                  </a:lnTo>
                  <a:lnTo>
                    <a:pt x="676" y="14"/>
                  </a:lnTo>
                  <a:lnTo>
                    <a:pt x="686" y="19"/>
                  </a:lnTo>
                  <a:lnTo>
                    <a:pt x="705" y="23"/>
                  </a:lnTo>
                  <a:lnTo>
                    <a:pt x="714" y="23"/>
                  </a:lnTo>
                  <a:lnTo>
                    <a:pt x="729" y="28"/>
                  </a:lnTo>
                  <a:lnTo>
                    <a:pt x="748" y="37"/>
                  </a:lnTo>
                  <a:lnTo>
                    <a:pt x="758" y="37"/>
                  </a:lnTo>
                  <a:lnTo>
                    <a:pt x="767" y="42"/>
                  </a:lnTo>
                  <a:lnTo>
                    <a:pt x="777" y="46"/>
                  </a:lnTo>
                  <a:lnTo>
                    <a:pt x="796" y="55"/>
                  </a:lnTo>
                  <a:lnTo>
                    <a:pt x="806" y="60"/>
                  </a:lnTo>
                  <a:lnTo>
                    <a:pt x="815" y="65"/>
                  </a:lnTo>
                  <a:lnTo>
                    <a:pt x="834" y="74"/>
                  </a:lnTo>
                  <a:lnTo>
                    <a:pt x="844" y="78"/>
                  </a:lnTo>
                  <a:lnTo>
                    <a:pt x="537" y="593"/>
                  </a:lnTo>
                  <a:lnTo>
                    <a:pt x="0" y="295"/>
                  </a:lnTo>
                  <a:close/>
                </a:path>
              </a:pathLst>
            </a:custGeom>
            <a:noFill/>
            <a:ln w="79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727800" y="3427560"/>
              <a:ext cx="1593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500" spc="-1" strike="noStrike">
                  <a:solidFill>
                    <a:srgbClr val="ffffff"/>
                  </a:solidFill>
                  <a:latin typeface="Times New Roman"/>
                </a:rPr>
                <a:t>La empres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248440" y="3997440"/>
            <a:ext cx="2985120" cy="823680"/>
            <a:chOff x="5248440" y="3997440"/>
            <a:chExt cx="2985120" cy="823680"/>
          </a:xfrm>
        </p:grpSpPr>
        <p:sp>
          <p:nvSpPr>
            <p:cNvPr id="71" name=""/>
            <p:cNvSpPr/>
            <p:nvPr/>
          </p:nvSpPr>
          <p:spPr>
            <a:xfrm>
              <a:off x="5248440" y="4003560"/>
              <a:ext cx="982440" cy="817560"/>
            </a:xfrm>
            <a:custGeom>
              <a:avLst/>
              <a:gdLst/>
              <a:ahLst/>
              <a:rect l="l" t="t" r="r" b="b"/>
              <a:pathLst>
                <a:path w="619" h="515">
                  <a:moveTo>
                    <a:pt x="307" y="0"/>
                  </a:moveTo>
                  <a:lnTo>
                    <a:pt x="316" y="5"/>
                  </a:lnTo>
                  <a:lnTo>
                    <a:pt x="336" y="19"/>
                  </a:lnTo>
                  <a:lnTo>
                    <a:pt x="345" y="23"/>
                  </a:lnTo>
                  <a:lnTo>
                    <a:pt x="355" y="28"/>
                  </a:lnTo>
                  <a:lnTo>
                    <a:pt x="369" y="42"/>
                  </a:lnTo>
                  <a:lnTo>
                    <a:pt x="379" y="46"/>
                  </a:lnTo>
                  <a:lnTo>
                    <a:pt x="388" y="51"/>
                  </a:lnTo>
                  <a:lnTo>
                    <a:pt x="403" y="65"/>
                  </a:lnTo>
                  <a:lnTo>
                    <a:pt x="412" y="74"/>
                  </a:lnTo>
                  <a:lnTo>
                    <a:pt x="422" y="79"/>
                  </a:lnTo>
                  <a:lnTo>
                    <a:pt x="436" y="97"/>
                  </a:lnTo>
                  <a:lnTo>
                    <a:pt x="446" y="102"/>
                  </a:lnTo>
                  <a:lnTo>
                    <a:pt x="451" y="111"/>
                  </a:lnTo>
                  <a:lnTo>
                    <a:pt x="465" y="125"/>
                  </a:lnTo>
                  <a:lnTo>
                    <a:pt x="475" y="134"/>
                  </a:lnTo>
                  <a:lnTo>
                    <a:pt x="480" y="143"/>
                  </a:lnTo>
                  <a:lnTo>
                    <a:pt x="494" y="157"/>
                  </a:lnTo>
                  <a:lnTo>
                    <a:pt x="499" y="166"/>
                  </a:lnTo>
                  <a:lnTo>
                    <a:pt x="503" y="175"/>
                  </a:lnTo>
                  <a:lnTo>
                    <a:pt x="518" y="189"/>
                  </a:lnTo>
                  <a:lnTo>
                    <a:pt x="523" y="198"/>
                  </a:lnTo>
                  <a:lnTo>
                    <a:pt x="527" y="207"/>
                  </a:lnTo>
                  <a:lnTo>
                    <a:pt x="542" y="226"/>
                  </a:lnTo>
                  <a:lnTo>
                    <a:pt x="547" y="235"/>
                  </a:lnTo>
                  <a:lnTo>
                    <a:pt x="551" y="244"/>
                  </a:lnTo>
                  <a:lnTo>
                    <a:pt x="561" y="262"/>
                  </a:lnTo>
                  <a:lnTo>
                    <a:pt x="566" y="272"/>
                  </a:lnTo>
                  <a:lnTo>
                    <a:pt x="566" y="281"/>
                  </a:lnTo>
                  <a:lnTo>
                    <a:pt x="575" y="304"/>
                  </a:lnTo>
                  <a:lnTo>
                    <a:pt x="580" y="313"/>
                  </a:lnTo>
                  <a:lnTo>
                    <a:pt x="585" y="322"/>
                  </a:lnTo>
                  <a:lnTo>
                    <a:pt x="590" y="341"/>
                  </a:lnTo>
                  <a:lnTo>
                    <a:pt x="595" y="350"/>
                  </a:lnTo>
                  <a:lnTo>
                    <a:pt x="595" y="359"/>
                  </a:lnTo>
                  <a:lnTo>
                    <a:pt x="599" y="382"/>
                  </a:lnTo>
                  <a:lnTo>
                    <a:pt x="604" y="391"/>
                  </a:lnTo>
                  <a:lnTo>
                    <a:pt x="604" y="400"/>
                  </a:lnTo>
                  <a:lnTo>
                    <a:pt x="609" y="423"/>
                  </a:lnTo>
                  <a:lnTo>
                    <a:pt x="609" y="433"/>
                  </a:lnTo>
                  <a:lnTo>
                    <a:pt x="614" y="442"/>
                  </a:lnTo>
                  <a:lnTo>
                    <a:pt x="614" y="465"/>
                  </a:lnTo>
                  <a:lnTo>
                    <a:pt x="614" y="474"/>
                  </a:lnTo>
                  <a:lnTo>
                    <a:pt x="619" y="483"/>
                  </a:lnTo>
                  <a:lnTo>
                    <a:pt x="619" y="501"/>
                  </a:lnTo>
                  <a:lnTo>
                    <a:pt x="619" y="511"/>
                  </a:lnTo>
                  <a:lnTo>
                    <a:pt x="0" y="515"/>
                  </a:lnTo>
                  <a:lnTo>
                    <a:pt x="307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248440" y="4003560"/>
              <a:ext cx="982440" cy="817560"/>
            </a:xfrm>
            <a:custGeom>
              <a:avLst/>
              <a:gdLst/>
              <a:ahLst/>
              <a:rect l="l" t="t" r="r" b="b"/>
              <a:pathLst>
                <a:path w="619" h="515">
                  <a:moveTo>
                    <a:pt x="307" y="0"/>
                  </a:moveTo>
                  <a:lnTo>
                    <a:pt x="316" y="5"/>
                  </a:lnTo>
                  <a:lnTo>
                    <a:pt x="336" y="19"/>
                  </a:lnTo>
                  <a:lnTo>
                    <a:pt x="345" y="23"/>
                  </a:lnTo>
                  <a:lnTo>
                    <a:pt x="355" y="28"/>
                  </a:lnTo>
                  <a:lnTo>
                    <a:pt x="369" y="42"/>
                  </a:lnTo>
                  <a:lnTo>
                    <a:pt x="379" y="46"/>
                  </a:lnTo>
                  <a:lnTo>
                    <a:pt x="388" y="51"/>
                  </a:lnTo>
                  <a:lnTo>
                    <a:pt x="403" y="65"/>
                  </a:lnTo>
                  <a:lnTo>
                    <a:pt x="412" y="74"/>
                  </a:lnTo>
                  <a:lnTo>
                    <a:pt x="422" y="79"/>
                  </a:lnTo>
                  <a:lnTo>
                    <a:pt x="436" y="97"/>
                  </a:lnTo>
                  <a:lnTo>
                    <a:pt x="446" y="102"/>
                  </a:lnTo>
                  <a:lnTo>
                    <a:pt x="451" y="111"/>
                  </a:lnTo>
                  <a:lnTo>
                    <a:pt x="465" y="125"/>
                  </a:lnTo>
                  <a:lnTo>
                    <a:pt x="475" y="134"/>
                  </a:lnTo>
                  <a:lnTo>
                    <a:pt x="480" y="143"/>
                  </a:lnTo>
                  <a:lnTo>
                    <a:pt x="494" y="157"/>
                  </a:lnTo>
                  <a:lnTo>
                    <a:pt x="499" y="166"/>
                  </a:lnTo>
                  <a:lnTo>
                    <a:pt x="503" y="175"/>
                  </a:lnTo>
                  <a:lnTo>
                    <a:pt x="518" y="189"/>
                  </a:lnTo>
                  <a:lnTo>
                    <a:pt x="523" y="198"/>
                  </a:lnTo>
                  <a:lnTo>
                    <a:pt x="527" y="207"/>
                  </a:lnTo>
                  <a:lnTo>
                    <a:pt x="542" y="226"/>
                  </a:lnTo>
                  <a:lnTo>
                    <a:pt x="547" y="235"/>
                  </a:lnTo>
                  <a:lnTo>
                    <a:pt x="551" y="244"/>
                  </a:lnTo>
                  <a:lnTo>
                    <a:pt x="561" y="262"/>
                  </a:lnTo>
                  <a:lnTo>
                    <a:pt x="566" y="272"/>
                  </a:lnTo>
                  <a:lnTo>
                    <a:pt x="566" y="281"/>
                  </a:lnTo>
                  <a:lnTo>
                    <a:pt x="575" y="304"/>
                  </a:lnTo>
                  <a:lnTo>
                    <a:pt x="580" y="313"/>
                  </a:lnTo>
                  <a:lnTo>
                    <a:pt x="585" y="322"/>
                  </a:lnTo>
                  <a:lnTo>
                    <a:pt x="590" y="341"/>
                  </a:lnTo>
                  <a:lnTo>
                    <a:pt x="595" y="350"/>
                  </a:lnTo>
                  <a:lnTo>
                    <a:pt x="595" y="359"/>
                  </a:lnTo>
                  <a:lnTo>
                    <a:pt x="599" y="382"/>
                  </a:lnTo>
                  <a:lnTo>
                    <a:pt x="604" y="391"/>
                  </a:lnTo>
                  <a:lnTo>
                    <a:pt x="604" y="400"/>
                  </a:lnTo>
                  <a:lnTo>
                    <a:pt x="609" y="423"/>
                  </a:lnTo>
                  <a:lnTo>
                    <a:pt x="609" y="433"/>
                  </a:lnTo>
                  <a:lnTo>
                    <a:pt x="614" y="442"/>
                  </a:lnTo>
                  <a:lnTo>
                    <a:pt x="614" y="465"/>
                  </a:lnTo>
                  <a:lnTo>
                    <a:pt x="614" y="474"/>
                  </a:lnTo>
                  <a:lnTo>
                    <a:pt x="619" y="483"/>
                  </a:lnTo>
                  <a:lnTo>
                    <a:pt x="619" y="501"/>
                  </a:lnTo>
                  <a:lnTo>
                    <a:pt x="619" y="511"/>
                  </a:lnTo>
                  <a:lnTo>
                    <a:pt x="0" y="515"/>
                  </a:lnTo>
                  <a:lnTo>
                    <a:pt x="307" y="0"/>
                  </a:lnTo>
                  <a:close/>
                </a:path>
              </a:pathLst>
            </a:custGeom>
            <a:noFill/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161760" y="3997440"/>
              <a:ext cx="20718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500" spc="-1" strike="noStrike">
                  <a:solidFill>
                    <a:srgbClr val="ffffff"/>
                  </a:solidFill>
                  <a:latin typeface="Times New Roman"/>
                </a:rPr>
                <a:t>El Consumidor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0" y="762120"/>
            <a:ext cx="945360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9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Hereda las respuestas de conducta de consumidores y empresas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25720" y="3301920"/>
            <a:ext cx="2023920" cy="1870200"/>
          </a:xfrm>
          <a:custGeom>
            <a:avLst/>
            <a:gdLst/>
            <a:ahLst/>
            <a:rect l="l" t="t" r="r" b="b"/>
            <a:pathLst>
              <a:path w="1275" h="1178">
                <a:moveTo>
                  <a:pt x="721" y="595"/>
                </a:moveTo>
                <a:lnTo>
                  <a:pt x="1274" y="891"/>
                </a:lnTo>
                <a:lnTo>
                  <a:pt x="716" y="1177"/>
                </a:lnTo>
                <a:lnTo>
                  <a:pt x="717" y="1026"/>
                </a:lnTo>
                <a:lnTo>
                  <a:pt x="714" y="1026"/>
                </a:lnTo>
                <a:lnTo>
                  <a:pt x="708" y="1024"/>
                </a:lnTo>
                <a:lnTo>
                  <a:pt x="699" y="1022"/>
                </a:lnTo>
                <a:lnTo>
                  <a:pt x="686" y="1019"/>
                </a:lnTo>
                <a:lnTo>
                  <a:pt x="671" y="1015"/>
                </a:lnTo>
                <a:lnTo>
                  <a:pt x="654" y="1010"/>
                </a:lnTo>
                <a:lnTo>
                  <a:pt x="635" y="1005"/>
                </a:lnTo>
                <a:lnTo>
                  <a:pt x="616" y="999"/>
                </a:lnTo>
                <a:lnTo>
                  <a:pt x="595" y="994"/>
                </a:lnTo>
                <a:lnTo>
                  <a:pt x="574" y="989"/>
                </a:lnTo>
                <a:lnTo>
                  <a:pt x="554" y="983"/>
                </a:lnTo>
                <a:lnTo>
                  <a:pt x="534" y="977"/>
                </a:lnTo>
                <a:lnTo>
                  <a:pt x="515" y="972"/>
                </a:lnTo>
                <a:lnTo>
                  <a:pt x="497" y="966"/>
                </a:lnTo>
                <a:lnTo>
                  <a:pt x="481" y="962"/>
                </a:lnTo>
                <a:lnTo>
                  <a:pt x="468" y="956"/>
                </a:lnTo>
                <a:lnTo>
                  <a:pt x="457" y="953"/>
                </a:lnTo>
                <a:lnTo>
                  <a:pt x="446" y="949"/>
                </a:lnTo>
                <a:lnTo>
                  <a:pt x="432" y="943"/>
                </a:lnTo>
                <a:lnTo>
                  <a:pt x="419" y="938"/>
                </a:lnTo>
                <a:lnTo>
                  <a:pt x="404" y="932"/>
                </a:lnTo>
                <a:lnTo>
                  <a:pt x="390" y="925"/>
                </a:lnTo>
                <a:lnTo>
                  <a:pt x="376" y="918"/>
                </a:lnTo>
                <a:lnTo>
                  <a:pt x="361" y="911"/>
                </a:lnTo>
                <a:lnTo>
                  <a:pt x="346" y="905"/>
                </a:lnTo>
                <a:lnTo>
                  <a:pt x="331" y="898"/>
                </a:lnTo>
                <a:lnTo>
                  <a:pt x="318" y="891"/>
                </a:lnTo>
                <a:lnTo>
                  <a:pt x="304" y="883"/>
                </a:lnTo>
                <a:lnTo>
                  <a:pt x="291" y="878"/>
                </a:lnTo>
                <a:lnTo>
                  <a:pt x="280" y="872"/>
                </a:lnTo>
                <a:lnTo>
                  <a:pt x="270" y="866"/>
                </a:lnTo>
                <a:lnTo>
                  <a:pt x="261" y="860"/>
                </a:lnTo>
                <a:lnTo>
                  <a:pt x="252" y="856"/>
                </a:lnTo>
                <a:lnTo>
                  <a:pt x="244" y="851"/>
                </a:lnTo>
                <a:lnTo>
                  <a:pt x="234" y="845"/>
                </a:lnTo>
                <a:lnTo>
                  <a:pt x="225" y="839"/>
                </a:lnTo>
                <a:lnTo>
                  <a:pt x="214" y="833"/>
                </a:lnTo>
                <a:lnTo>
                  <a:pt x="204" y="826"/>
                </a:lnTo>
                <a:lnTo>
                  <a:pt x="193" y="819"/>
                </a:lnTo>
                <a:lnTo>
                  <a:pt x="183" y="812"/>
                </a:lnTo>
                <a:lnTo>
                  <a:pt x="172" y="806"/>
                </a:lnTo>
                <a:lnTo>
                  <a:pt x="162" y="798"/>
                </a:lnTo>
                <a:lnTo>
                  <a:pt x="152" y="791"/>
                </a:lnTo>
                <a:lnTo>
                  <a:pt x="144" y="784"/>
                </a:lnTo>
                <a:lnTo>
                  <a:pt x="134" y="778"/>
                </a:lnTo>
                <a:lnTo>
                  <a:pt x="126" y="770"/>
                </a:lnTo>
                <a:lnTo>
                  <a:pt x="120" y="765"/>
                </a:lnTo>
                <a:lnTo>
                  <a:pt x="115" y="758"/>
                </a:lnTo>
                <a:lnTo>
                  <a:pt x="108" y="751"/>
                </a:lnTo>
                <a:lnTo>
                  <a:pt x="101" y="744"/>
                </a:lnTo>
                <a:lnTo>
                  <a:pt x="94" y="735"/>
                </a:lnTo>
                <a:lnTo>
                  <a:pt x="87" y="726"/>
                </a:lnTo>
                <a:lnTo>
                  <a:pt x="79" y="716"/>
                </a:lnTo>
                <a:lnTo>
                  <a:pt x="72" y="706"/>
                </a:lnTo>
                <a:lnTo>
                  <a:pt x="64" y="695"/>
                </a:lnTo>
                <a:lnTo>
                  <a:pt x="57" y="684"/>
                </a:lnTo>
                <a:lnTo>
                  <a:pt x="50" y="674"/>
                </a:lnTo>
                <a:lnTo>
                  <a:pt x="44" y="663"/>
                </a:lnTo>
                <a:lnTo>
                  <a:pt x="37" y="653"/>
                </a:lnTo>
                <a:lnTo>
                  <a:pt x="32" y="642"/>
                </a:lnTo>
                <a:lnTo>
                  <a:pt x="26" y="633"/>
                </a:lnTo>
                <a:lnTo>
                  <a:pt x="22" y="624"/>
                </a:lnTo>
                <a:lnTo>
                  <a:pt x="19" y="616"/>
                </a:lnTo>
                <a:lnTo>
                  <a:pt x="17" y="607"/>
                </a:lnTo>
                <a:lnTo>
                  <a:pt x="14" y="600"/>
                </a:lnTo>
                <a:lnTo>
                  <a:pt x="12" y="592"/>
                </a:lnTo>
                <a:lnTo>
                  <a:pt x="10" y="582"/>
                </a:lnTo>
                <a:lnTo>
                  <a:pt x="9" y="572"/>
                </a:lnTo>
                <a:lnTo>
                  <a:pt x="7" y="563"/>
                </a:lnTo>
                <a:lnTo>
                  <a:pt x="5" y="552"/>
                </a:lnTo>
                <a:lnTo>
                  <a:pt x="3" y="541"/>
                </a:lnTo>
                <a:lnTo>
                  <a:pt x="3" y="530"/>
                </a:lnTo>
                <a:lnTo>
                  <a:pt x="1" y="519"/>
                </a:lnTo>
                <a:lnTo>
                  <a:pt x="1" y="508"/>
                </a:lnTo>
                <a:lnTo>
                  <a:pt x="0" y="497"/>
                </a:lnTo>
                <a:lnTo>
                  <a:pt x="0" y="486"/>
                </a:lnTo>
                <a:lnTo>
                  <a:pt x="0" y="476"/>
                </a:lnTo>
                <a:lnTo>
                  <a:pt x="0" y="466"/>
                </a:lnTo>
                <a:lnTo>
                  <a:pt x="1" y="458"/>
                </a:lnTo>
                <a:lnTo>
                  <a:pt x="3" y="448"/>
                </a:lnTo>
                <a:lnTo>
                  <a:pt x="3" y="441"/>
                </a:lnTo>
                <a:lnTo>
                  <a:pt x="5" y="433"/>
                </a:lnTo>
                <a:lnTo>
                  <a:pt x="7" y="423"/>
                </a:lnTo>
                <a:lnTo>
                  <a:pt x="10" y="414"/>
                </a:lnTo>
                <a:lnTo>
                  <a:pt x="13" y="404"/>
                </a:lnTo>
                <a:lnTo>
                  <a:pt x="17" y="392"/>
                </a:lnTo>
                <a:lnTo>
                  <a:pt x="20" y="381"/>
                </a:lnTo>
                <a:lnTo>
                  <a:pt x="26" y="370"/>
                </a:lnTo>
                <a:lnTo>
                  <a:pt x="29" y="360"/>
                </a:lnTo>
                <a:lnTo>
                  <a:pt x="34" y="349"/>
                </a:lnTo>
                <a:lnTo>
                  <a:pt x="39" y="339"/>
                </a:lnTo>
                <a:lnTo>
                  <a:pt x="45" y="328"/>
                </a:lnTo>
                <a:lnTo>
                  <a:pt x="50" y="318"/>
                </a:lnTo>
                <a:lnTo>
                  <a:pt x="56" y="309"/>
                </a:lnTo>
                <a:lnTo>
                  <a:pt x="62" y="302"/>
                </a:lnTo>
                <a:lnTo>
                  <a:pt x="68" y="293"/>
                </a:lnTo>
                <a:lnTo>
                  <a:pt x="75" y="284"/>
                </a:lnTo>
                <a:lnTo>
                  <a:pt x="83" y="274"/>
                </a:lnTo>
                <a:lnTo>
                  <a:pt x="92" y="265"/>
                </a:lnTo>
                <a:lnTo>
                  <a:pt x="103" y="254"/>
                </a:lnTo>
                <a:lnTo>
                  <a:pt x="114" y="244"/>
                </a:lnTo>
                <a:lnTo>
                  <a:pt x="126" y="232"/>
                </a:lnTo>
                <a:lnTo>
                  <a:pt x="140" y="221"/>
                </a:lnTo>
                <a:lnTo>
                  <a:pt x="155" y="210"/>
                </a:lnTo>
                <a:lnTo>
                  <a:pt x="169" y="201"/>
                </a:lnTo>
                <a:lnTo>
                  <a:pt x="184" y="189"/>
                </a:lnTo>
                <a:lnTo>
                  <a:pt x="201" y="179"/>
                </a:lnTo>
                <a:lnTo>
                  <a:pt x="218" y="168"/>
                </a:lnTo>
                <a:lnTo>
                  <a:pt x="234" y="158"/>
                </a:lnTo>
                <a:lnTo>
                  <a:pt x="252" y="147"/>
                </a:lnTo>
                <a:lnTo>
                  <a:pt x="271" y="138"/>
                </a:lnTo>
                <a:lnTo>
                  <a:pt x="290" y="127"/>
                </a:lnTo>
                <a:lnTo>
                  <a:pt x="299" y="123"/>
                </a:lnTo>
                <a:lnTo>
                  <a:pt x="312" y="117"/>
                </a:lnTo>
                <a:lnTo>
                  <a:pt x="327" y="111"/>
                </a:lnTo>
                <a:lnTo>
                  <a:pt x="344" y="106"/>
                </a:lnTo>
                <a:lnTo>
                  <a:pt x="362" y="100"/>
                </a:lnTo>
                <a:lnTo>
                  <a:pt x="382" y="93"/>
                </a:lnTo>
                <a:lnTo>
                  <a:pt x="403" y="88"/>
                </a:lnTo>
                <a:lnTo>
                  <a:pt x="425" y="80"/>
                </a:lnTo>
                <a:lnTo>
                  <a:pt x="446" y="74"/>
                </a:lnTo>
                <a:lnTo>
                  <a:pt x="466" y="69"/>
                </a:lnTo>
                <a:lnTo>
                  <a:pt x="485" y="63"/>
                </a:lnTo>
                <a:lnTo>
                  <a:pt x="505" y="57"/>
                </a:lnTo>
                <a:lnTo>
                  <a:pt x="522" y="53"/>
                </a:lnTo>
                <a:lnTo>
                  <a:pt x="538" y="48"/>
                </a:lnTo>
                <a:lnTo>
                  <a:pt x="553" y="44"/>
                </a:lnTo>
                <a:lnTo>
                  <a:pt x="565" y="40"/>
                </a:lnTo>
                <a:lnTo>
                  <a:pt x="577" y="38"/>
                </a:lnTo>
                <a:lnTo>
                  <a:pt x="594" y="34"/>
                </a:lnTo>
                <a:lnTo>
                  <a:pt x="613" y="30"/>
                </a:lnTo>
                <a:lnTo>
                  <a:pt x="636" y="26"/>
                </a:lnTo>
                <a:lnTo>
                  <a:pt x="658" y="24"/>
                </a:lnTo>
                <a:lnTo>
                  <a:pt x="682" y="20"/>
                </a:lnTo>
                <a:lnTo>
                  <a:pt x="707" y="17"/>
                </a:lnTo>
                <a:lnTo>
                  <a:pt x="732" y="14"/>
                </a:lnTo>
                <a:lnTo>
                  <a:pt x="754" y="12"/>
                </a:lnTo>
                <a:lnTo>
                  <a:pt x="777" y="9"/>
                </a:lnTo>
                <a:lnTo>
                  <a:pt x="797" y="7"/>
                </a:lnTo>
                <a:lnTo>
                  <a:pt x="816" y="5"/>
                </a:lnTo>
                <a:lnTo>
                  <a:pt x="830" y="4"/>
                </a:lnTo>
                <a:lnTo>
                  <a:pt x="842" y="2"/>
                </a:lnTo>
                <a:lnTo>
                  <a:pt x="849" y="2"/>
                </a:lnTo>
                <a:lnTo>
                  <a:pt x="852" y="0"/>
                </a:lnTo>
                <a:lnTo>
                  <a:pt x="1152" y="254"/>
                </a:lnTo>
                <a:lnTo>
                  <a:pt x="1149" y="256"/>
                </a:lnTo>
                <a:lnTo>
                  <a:pt x="1143" y="256"/>
                </a:lnTo>
                <a:lnTo>
                  <a:pt x="1132" y="256"/>
                </a:lnTo>
                <a:lnTo>
                  <a:pt x="1119" y="256"/>
                </a:lnTo>
                <a:lnTo>
                  <a:pt x="1102" y="256"/>
                </a:lnTo>
                <a:lnTo>
                  <a:pt x="1084" y="256"/>
                </a:lnTo>
                <a:lnTo>
                  <a:pt x="1064" y="256"/>
                </a:lnTo>
                <a:lnTo>
                  <a:pt x="1043" y="256"/>
                </a:lnTo>
                <a:lnTo>
                  <a:pt x="1021" y="258"/>
                </a:lnTo>
                <a:lnTo>
                  <a:pt x="999" y="258"/>
                </a:lnTo>
                <a:lnTo>
                  <a:pt x="978" y="259"/>
                </a:lnTo>
                <a:lnTo>
                  <a:pt x="958" y="259"/>
                </a:lnTo>
                <a:lnTo>
                  <a:pt x="938" y="260"/>
                </a:lnTo>
                <a:lnTo>
                  <a:pt x="922" y="260"/>
                </a:lnTo>
                <a:lnTo>
                  <a:pt x="907" y="260"/>
                </a:lnTo>
                <a:lnTo>
                  <a:pt x="896" y="260"/>
                </a:lnTo>
                <a:lnTo>
                  <a:pt x="884" y="262"/>
                </a:lnTo>
                <a:lnTo>
                  <a:pt x="872" y="264"/>
                </a:lnTo>
                <a:lnTo>
                  <a:pt x="857" y="266"/>
                </a:lnTo>
                <a:lnTo>
                  <a:pt x="844" y="266"/>
                </a:lnTo>
                <a:lnTo>
                  <a:pt x="828" y="267"/>
                </a:lnTo>
                <a:lnTo>
                  <a:pt x="814" y="269"/>
                </a:lnTo>
                <a:lnTo>
                  <a:pt x="799" y="270"/>
                </a:lnTo>
                <a:lnTo>
                  <a:pt x="784" y="270"/>
                </a:lnTo>
                <a:lnTo>
                  <a:pt x="768" y="272"/>
                </a:lnTo>
                <a:lnTo>
                  <a:pt x="753" y="274"/>
                </a:lnTo>
                <a:lnTo>
                  <a:pt x="738" y="276"/>
                </a:lnTo>
                <a:lnTo>
                  <a:pt x="724" y="277"/>
                </a:lnTo>
                <a:lnTo>
                  <a:pt x="711" y="280"/>
                </a:lnTo>
                <a:lnTo>
                  <a:pt x="698" y="282"/>
                </a:lnTo>
                <a:lnTo>
                  <a:pt x="687" y="284"/>
                </a:lnTo>
                <a:lnTo>
                  <a:pt x="678" y="286"/>
                </a:lnTo>
                <a:lnTo>
                  <a:pt x="666" y="289"/>
                </a:lnTo>
                <a:lnTo>
                  <a:pt x="656" y="290"/>
                </a:lnTo>
                <a:lnTo>
                  <a:pt x="643" y="294"/>
                </a:lnTo>
                <a:lnTo>
                  <a:pt x="632" y="296"/>
                </a:lnTo>
                <a:lnTo>
                  <a:pt x="618" y="300"/>
                </a:lnTo>
                <a:lnTo>
                  <a:pt x="605" y="304"/>
                </a:lnTo>
                <a:lnTo>
                  <a:pt x="592" y="307"/>
                </a:lnTo>
                <a:lnTo>
                  <a:pt x="579" y="310"/>
                </a:lnTo>
                <a:lnTo>
                  <a:pt x="565" y="315"/>
                </a:lnTo>
                <a:lnTo>
                  <a:pt x="552" y="318"/>
                </a:lnTo>
                <a:lnTo>
                  <a:pt x="539" y="322"/>
                </a:lnTo>
                <a:lnTo>
                  <a:pt x="528" y="326"/>
                </a:lnTo>
                <a:lnTo>
                  <a:pt x="516" y="330"/>
                </a:lnTo>
                <a:lnTo>
                  <a:pt x="505" y="334"/>
                </a:lnTo>
                <a:lnTo>
                  <a:pt x="496" y="337"/>
                </a:lnTo>
                <a:lnTo>
                  <a:pt x="488" y="340"/>
                </a:lnTo>
                <a:lnTo>
                  <a:pt x="481" y="344"/>
                </a:lnTo>
                <a:lnTo>
                  <a:pt x="474" y="347"/>
                </a:lnTo>
                <a:lnTo>
                  <a:pt x="467" y="351"/>
                </a:lnTo>
                <a:lnTo>
                  <a:pt x="459" y="355"/>
                </a:lnTo>
                <a:lnTo>
                  <a:pt x="451" y="360"/>
                </a:lnTo>
                <a:lnTo>
                  <a:pt x="444" y="364"/>
                </a:lnTo>
                <a:lnTo>
                  <a:pt x="436" y="370"/>
                </a:lnTo>
                <a:lnTo>
                  <a:pt x="428" y="374"/>
                </a:lnTo>
                <a:lnTo>
                  <a:pt x="420" y="379"/>
                </a:lnTo>
                <a:lnTo>
                  <a:pt x="413" y="385"/>
                </a:lnTo>
                <a:lnTo>
                  <a:pt x="406" y="390"/>
                </a:lnTo>
                <a:lnTo>
                  <a:pt x="399" y="395"/>
                </a:lnTo>
                <a:lnTo>
                  <a:pt x="393" y="400"/>
                </a:lnTo>
                <a:lnTo>
                  <a:pt x="387" y="405"/>
                </a:lnTo>
                <a:lnTo>
                  <a:pt x="383" y="409"/>
                </a:lnTo>
                <a:lnTo>
                  <a:pt x="379" y="413"/>
                </a:lnTo>
                <a:lnTo>
                  <a:pt x="376" y="418"/>
                </a:lnTo>
                <a:lnTo>
                  <a:pt x="372" y="423"/>
                </a:lnTo>
                <a:lnTo>
                  <a:pt x="368" y="428"/>
                </a:lnTo>
                <a:lnTo>
                  <a:pt x="365" y="434"/>
                </a:lnTo>
                <a:lnTo>
                  <a:pt x="361" y="442"/>
                </a:lnTo>
                <a:lnTo>
                  <a:pt x="359" y="447"/>
                </a:lnTo>
                <a:lnTo>
                  <a:pt x="355" y="454"/>
                </a:lnTo>
                <a:lnTo>
                  <a:pt x="353" y="460"/>
                </a:lnTo>
                <a:lnTo>
                  <a:pt x="349" y="468"/>
                </a:lnTo>
                <a:lnTo>
                  <a:pt x="348" y="474"/>
                </a:lnTo>
                <a:lnTo>
                  <a:pt x="345" y="482"/>
                </a:lnTo>
                <a:lnTo>
                  <a:pt x="343" y="488"/>
                </a:lnTo>
                <a:lnTo>
                  <a:pt x="341" y="494"/>
                </a:lnTo>
                <a:lnTo>
                  <a:pt x="340" y="500"/>
                </a:lnTo>
                <a:lnTo>
                  <a:pt x="339" y="505"/>
                </a:lnTo>
                <a:lnTo>
                  <a:pt x="339" y="509"/>
                </a:lnTo>
                <a:lnTo>
                  <a:pt x="338" y="516"/>
                </a:lnTo>
                <a:lnTo>
                  <a:pt x="338" y="521"/>
                </a:lnTo>
                <a:lnTo>
                  <a:pt x="338" y="528"/>
                </a:lnTo>
                <a:lnTo>
                  <a:pt x="338" y="533"/>
                </a:lnTo>
                <a:lnTo>
                  <a:pt x="338" y="541"/>
                </a:lnTo>
                <a:lnTo>
                  <a:pt x="340" y="546"/>
                </a:lnTo>
                <a:lnTo>
                  <a:pt x="342" y="552"/>
                </a:lnTo>
                <a:lnTo>
                  <a:pt x="344" y="558"/>
                </a:lnTo>
                <a:lnTo>
                  <a:pt x="346" y="564"/>
                </a:lnTo>
                <a:lnTo>
                  <a:pt x="349" y="570"/>
                </a:lnTo>
                <a:lnTo>
                  <a:pt x="352" y="576"/>
                </a:lnTo>
                <a:lnTo>
                  <a:pt x="356" y="581"/>
                </a:lnTo>
                <a:lnTo>
                  <a:pt x="359" y="587"/>
                </a:lnTo>
                <a:lnTo>
                  <a:pt x="363" y="592"/>
                </a:lnTo>
                <a:lnTo>
                  <a:pt x="367" y="598"/>
                </a:lnTo>
                <a:lnTo>
                  <a:pt x="372" y="602"/>
                </a:lnTo>
                <a:lnTo>
                  <a:pt x="377" y="609"/>
                </a:lnTo>
                <a:lnTo>
                  <a:pt x="382" y="615"/>
                </a:lnTo>
                <a:lnTo>
                  <a:pt x="388" y="620"/>
                </a:lnTo>
                <a:lnTo>
                  <a:pt x="395" y="626"/>
                </a:lnTo>
                <a:lnTo>
                  <a:pt x="402" y="632"/>
                </a:lnTo>
                <a:lnTo>
                  <a:pt x="409" y="638"/>
                </a:lnTo>
                <a:lnTo>
                  <a:pt x="417" y="643"/>
                </a:lnTo>
                <a:lnTo>
                  <a:pt x="426" y="648"/>
                </a:lnTo>
                <a:lnTo>
                  <a:pt x="434" y="654"/>
                </a:lnTo>
                <a:lnTo>
                  <a:pt x="442" y="659"/>
                </a:lnTo>
                <a:lnTo>
                  <a:pt x="451" y="664"/>
                </a:lnTo>
                <a:lnTo>
                  <a:pt x="460" y="668"/>
                </a:lnTo>
                <a:lnTo>
                  <a:pt x="468" y="673"/>
                </a:lnTo>
                <a:lnTo>
                  <a:pt x="478" y="677"/>
                </a:lnTo>
                <a:lnTo>
                  <a:pt x="487" y="680"/>
                </a:lnTo>
                <a:lnTo>
                  <a:pt x="496" y="684"/>
                </a:lnTo>
                <a:lnTo>
                  <a:pt x="505" y="688"/>
                </a:lnTo>
                <a:lnTo>
                  <a:pt x="515" y="692"/>
                </a:lnTo>
                <a:lnTo>
                  <a:pt x="527" y="697"/>
                </a:lnTo>
                <a:lnTo>
                  <a:pt x="542" y="700"/>
                </a:lnTo>
                <a:lnTo>
                  <a:pt x="556" y="706"/>
                </a:lnTo>
                <a:lnTo>
                  <a:pt x="572" y="710"/>
                </a:lnTo>
                <a:lnTo>
                  <a:pt x="589" y="715"/>
                </a:lnTo>
                <a:lnTo>
                  <a:pt x="606" y="718"/>
                </a:lnTo>
                <a:lnTo>
                  <a:pt x="622" y="724"/>
                </a:lnTo>
                <a:lnTo>
                  <a:pt x="639" y="728"/>
                </a:lnTo>
                <a:lnTo>
                  <a:pt x="654" y="732"/>
                </a:lnTo>
                <a:lnTo>
                  <a:pt x="670" y="735"/>
                </a:lnTo>
                <a:lnTo>
                  <a:pt x="684" y="738"/>
                </a:lnTo>
                <a:lnTo>
                  <a:pt x="697" y="740"/>
                </a:lnTo>
                <a:lnTo>
                  <a:pt x="708" y="742"/>
                </a:lnTo>
                <a:lnTo>
                  <a:pt x="718" y="743"/>
                </a:lnTo>
                <a:lnTo>
                  <a:pt x="718" y="744"/>
                </a:lnTo>
                <a:lnTo>
                  <a:pt x="718" y="744"/>
                </a:lnTo>
                <a:lnTo>
                  <a:pt x="718" y="743"/>
                </a:lnTo>
                <a:lnTo>
                  <a:pt x="718" y="741"/>
                </a:lnTo>
                <a:lnTo>
                  <a:pt x="718" y="739"/>
                </a:lnTo>
                <a:lnTo>
                  <a:pt x="718" y="735"/>
                </a:lnTo>
                <a:lnTo>
                  <a:pt x="718" y="730"/>
                </a:lnTo>
                <a:lnTo>
                  <a:pt x="719" y="722"/>
                </a:lnTo>
                <a:lnTo>
                  <a:pt x="719" y="715"/>
                </a:lnTo>
                <a:lnTo>
                  <a:pt x="719" y="704"/>
                </a:lnTo>
                <a:lnTo>
                  <a:pt x="719" y="692"/>
                </a:lnTo>
                <a:lnTo>
                  <a:pt x="719" y="677"/>
                </a:lnTo>
                <a:lnTo>
                  <a:pt x="719" y="662"/>
                </a:lnTo>
                <a:lnTo>
                  <a:pt x="719" y="642"/>
                </a:lnTo>
                <a:lnTo>
                  <a:pt x="719" y="620"/>
                </a:lnTo>
                <a:lnTo>
                  <a:pt x="721" y="595"/>
                </a:lnTo>
                <a:lnTo>
                  <a:pt x="721" y="595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3581280"/>
            <a:ext cx="1925640" cy="6289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8100"/>
            </a:solidFill>
            <a:prstDash val="dash"/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100" spc="-1" strike="noStrike">
                <a:solidFill>
                  <a:srgbClr val="ffbf18"/>
                </a:solidFill>
                <a:latin typeface="Times New Roman"/>
              </a:rPr>
              <a:t>Maximización de benefici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4495680"/>
            <a:ext cx="2368800" cy="1301760"/>
          </a:xfrm>
          <a:custGeom>
            <a:avLst/>
            <a:gdLst/>
            <a:ahLst/>
            <a:rect l="l" t="t" r="r" b="b"/>
            <a:pathLst>
              <a:path w="1492" h="820">
                <a:moveTo>
                  <a:pt x="679" y="438"/>
                </a:moveTo>
                <a:lnTo>
                  <a:pt x="0" y="424"/>
                </a:lnTo>
                <a:lnTo>
                  <a:pt x="515" y="819"/>
                </a:lnTo>
                <a:lnTo>
                  <a:pt x="559" y="720"/>
                </a:lnTo>
                <a:lnTo>
                  <a:pt x="561" y="722"/>
                </a:lnTo>
                <a:lnTo>
                  <a:pt x="567" y="722"/>
                </a:lnTo>
                <a:lnTo>
                  <a:pt x="577" y="725"/>
                </a:lnTo>
                <a:lnTo>
                  <a:pt x="592" y="726"/>
                </a:lnTo>
                <a:lnTo>
                  <a:pt x="608" y="730"/>
                </a:lnTo>
                <a:lnTo>
                  <a:pt x="628" y="734"/>
                </a:lnTo>
                <a:lnTo>
                  <a:pt x="649" y="737"/>
                </a:lnTo>
                <a:lnTo>
                  <a:pt x="672" y="740"/>
                </a:lnTo>
                <a:lnTo>
                  <a:pt x="695" y="745"/>
                </a:lnTo>
                <a:lnTo>
                  <a:pt x="718" y="748"/>
                </a:lnTo>
                <a:lnTo>
                  <a:pt x="742" y="752"/>
                </a:lnTo>
                <a:lnTo>
                  <a:pt x="766" y="756"/>
                </a:lnTo>
                <a:lnTo>
                  <a:pt x="787" y="760"/>
                </a:lnTo>
                <a:lnTo>
                  <a:pt x="809" y="763"/>
                </a:lnTo>
                <a:lnTo>
                  <a:pt x="827" y="765"/>
                </a:lnTo>
                <a:lnTo>
                  <a:pt x="844" y="767"/>
                </a:lnTo>
                <a:lnTo>
                  <a:pt x="855" y="769"/>
                </a:lnTo>
                <a:lnTo>
                  <a:pt x="869" y="771"/>
                </a:lnTo>
                <a:lnTo>
                  <a:pt x="883" y="773"/>
                </a:lnTo>
                <a:lnTo>
                  <a:pt x="900" y="773"/>
                </a:lnTo>
                <a:lnTo>
                  <a:pt x="916" y="775"/>
                </a:lnTo>
                <a:lnTo>
                  <a:pt x="934" y="775"/>
                </a:lnTo>
                <a:lnTo>
                  <a:pt x="952" y="777"/>
                </a:lnTo>
                <a:lnTo>
                  <a:pt x="971" y="777"/>
                </a:lnTo>
                <a:lnTo>
                  <a:pt x="987" y="779"/>
                </a:lnTo>
                <a:lnTo>
                  <a:pt x="1005" y="779"/>
                </a:lnTo>
                <a:lnTo>
                  <a:pt x="1022" y="781"/>
                </a:lnTo>
                <a:lnTo>
                  <a:pt x="1039" y="781"/>
                </a:lnTo>
                <a:lnTo>
                  <a:pt x="1054" y="782"/>
                </a:lnTo>
                <a:lnTo>
                  <a:pt x="1069" y="782"/>
                </a:lnTo>
                <a:lnTo>
                  <a:pt x="1081" y="782"/>
                </a:lnTo>
                <a:lnTo>
                  <a:pt x="1094" y="782"/>
                </a:lnTo>
                <a:lnTo>
                  <a:pt x="1103" y="782"/>
                </a:lnTo>
                <a:lnTo>
                  <a:pt x="1113" y="782"/>
                </a:lnTo>
                <a:lnTo>
                  <a:pt x="1123" y="782"/>
                </a:lnTo>
                <a:lnTo>
                  <a:pt x="1136" y="780"/>
                </a:lnTo>
                <a:lnTo>
                  <a:pt x="1148" y="780"/>
                </a:lnTo>
                <a:lnTo>
                  <a:pt x="1161" y="780"/>
                </a:lnTo>
                <a:lnTo>
                  <a:pt x="1174" y="780"/>
                </a:lnTo>
                <a:lnTo>
                  <a:pt x="1188" y="778"/>
                </a:lnTo>
                <a:lnTo>
                  <a:pt x="1201" y="778"/>
                </a:lnTo>
                <a:lnTo>
                  <a:pt x="1215" y="777"/>
                </a:lnTo>
                <a:lnTo>
                  <a:pt x="1226" y="777"/>
                </a:lnTo>
                <a:lnTo>
                  <a:pt x="1239" y="775"/>
                </a:lnTo>
                <a:lnTo>
                  <a:pt x="1250" y="774"/>
                </a:lnTo>
                <a:lnTo>
                  <a:pt x="1261" y="772"/>
                </a:lnTo>
                <a:lnTo>
                  <a:pt x="1270" y="770"/>
                </a:lnTo>
                <a:lnTo>
                  <a:pt x="1279" y="768"/>
                </a:lnTo>
                <a:lnTo>
                  <a:pt x="1287" y="766"/>
                </a:lnTo>
                <a:lnTo>
                  <a:pt x="1297" y="764"/>
                </a:lnTo>
                <a:lnTo>
                  <a:pt x="1307" y="762"/>
                </a:lnTo>
                <a:lnTo>
                  <a:pt x="1318" y="758"/>
                </a:lnTo>
                <a:lnTo>
                  <a:pt x="1328" y="755"/>
                </a:lnTo>
                <a:lnTo>
                  <a:pt x="1339" y="751"/>
                </a:lnTo>
                <a:lnTo>
                  <a:pt x="1351" y="747"/>
                </a:lnTo>
                <a:lnTo>
                  <a:pt x="1362" y="742"/>
                </a:lnTo>
                <a:lnTo>
                  <a:pt x="1371" y="738"/>
                </a:lnTo>
                <a:lnTo>
                  <a:pt x="1382" y="734"/>
                </a:lnTo>
                <a:lnTo>
                  <a:pt x="1391" y="730"/>
                </a:lnTo>
                <a:lnTo>
                  <a:pt x="1400" y="725"/>
                </a:lnTo>
                <a:lnTo>
                  <a:pt x="1408" y="721"/>
                </a:lnTo>
                <a:lnTo>
                  <a:pt x="1415" y="716"/>
                </a:lnTo>
                <a:lnTo>
                  <a:pt x="1421" y="712"/>
                </a:lnTo>
                <a:lnTo>
                  <a:pt x="1428" y="707"/>
                </a:lnTo>
                <a:lnTo>
                  <a:pt x="1431" y="703"/>
                </a:lnTo>
                <a:lnTo>
                  <a:pt x="1437" y="698"/>
                </a:lnTo>
                <a:lnTo>
                  <a:pt x="1440" y="694"/>
                </a:lnTo>
                <a:lnTo>
                  <a:pt x="1446" y="688"/>
                </a:lnTo>
                <a:lnTo>
                  <a:pt x="1450" y="682"/>
                </a:lnTo>
                <a:lnTo>
                  <a:pt x="1455" y="676"/>
                </a:lnTo>
                <a:lnTo>
                  <a:pt x="1460" y="669"/>
                </a:lnTo>
                <a:lnTo>
                  <a:pt x="1465" y="662"/>
                </a:lnTo>
                <a:lnTo>
                  <a:pt x="1469" y="656"/>
                </a:lnTo>
                <a:lnTo>
                  <a:pt x="1473" y="648"/>
                </a:lnTo>
                <a:lnTo>
                  <a:pt x="1477" y="642"/>
                </a:lnTo>
                <a:lnTo>
                  <a:pt x="1480" y="634"/>
                </a:lnTo>
                <a:lnTo>
                  <a:pt x="1482" y="629"/>
                </a:lnTo>
                <a:lnTo>
                  <a:pt x="1485" y="621"/>
                </a:lnTo>
                <a:lnTo>
                  <a:pt x="1487" y="616"/>
                </a:lnTo>
                <a:lnTo>
                  <a:pt x="1489" y="609"/>
                </a:lnTo>
                <a:lnTo>
                  <a:pt x="1489" y="604"/>
                </a:lnTo>
                <a:lnTo>
                  <a:pt x="1490" y="598"/>
                </a:lnTo>
                <a:lnTo>
                  <a:pt x="1490" y="590"/>
                </a:lnTo>
                <a:lnTo>
                  <a:pt x="1491" y="583"/>
                </a:lnTo>
                <a:lnTo>
                  <a:pt x="1489" y="576"/>
                </a:lnTo>
                <a:lnTo>
                  <a:pt x="1489" y="567"/>
                </a:lnTo>
                <a:lnTo>
                  <a:pt x="1487" y="559"/>
                </a:lnTo>
                <a:lnTo>
                  <a:pt x="1487" y="549"/>
                </a:lnTo>
                <a:lnTo>
                  <a:pt x="1485" y="542"/>
                </a:lnTo>
                <a:lnTo>
                  <a:pt x="1483" y="532"/>
                </a:lnTo>
                <a:lnTo>
                  <a:pt x="1480" y="524"/>
                </a:lnTo>
                <a:lnTo>
                  <a:pt x="1478" y="514"/>
                </a:lnTo>
                <a:lnTo>
                  <a:pt x="1475" y="507"/>
                </a:lnTo>
                <a:lnTo>
                  <a:pt x="1472" y="499"/>
                </a:lnTo>
                <a:lnTo>
                  <a:pt x="1468" y="491"/>
                </a:lnTo>
                <a:lnTo>
                  <a:pt x="1466" y="484"/>
                </a:lnTo>
                <a:lnTo>
                  <a:pt x="1459" y="476"/>
                </a:lnTo>
                <a:lnTo>
                  <a:pt x="1453" y="466"/>
                </a:lnTo>
                <a:lnTo>
                  <a:pt x="1445" y="456"/>
                </a:lnTo>
                <a:lnTo>
                  <a:pt x="1437" y="445"/>
                </a:lnTo>
                <a:lnTo>
                  <a:pt x="1427" y="434"/>
                </a:lnTo>
                <a:lnTo>
                  <a:pt x="1417" y="422"/>
                </a:lnTo>
                <a:lnTo>
                  <a:pt x="1406" y="410"/>
                </a:lnTo>
                <a:lnTo>
                  <a:pt x="1395" y="397"/>
                </a:lnTo>
                <a:lnTo>
                  <a:pt x="1381" y="385"/>
                </a:lnTo>
                <a:lnTo>
                  <a:pt x="1368" y="372"/>
                </a:lnTo>
                <a:lnTo>
                  <a:pt x="1353" y="358"/>
                </a:lnTo>
                <a:lnTo>
                  <a:pt x="1339" y="345"/>
                </a:lnTo>
                <a:lnTo>
                  <a:pt x="1323" y="332"/>
                </a:lnTo>
                <a:lnTo>
                  <a:pt x="1308" y="319"/>
                </a:lnTo>
                <a:lnTo>
                  <a:pt x="1291" y="306"/>
                </a:lnTo>
                <a:lnTo>
                  <a:pt x="1275" y="293"/>
                </a:lnTo>
                <a:lnTo>
                  <a:pt x="1265" y="287"/>
                </a:lnTo>
                <a:lnTo>
                  <a:pt x="1253" y="278"/>
                </a:lnTo>
                <a:lnTo>
                  <a:pt x="1237" y="269"/>
                </a:lnTo>
                <a:lnTo>
                  <a:pt x="1222" y="258"/>
                </a:lnTo>
                <a:lnTo>
                  <a:pt x="1203" y="248"/>
                </a:lnTo>
                <a:lnTo>
                  <a:pt x="1185" y="236"/>
                </a:lnTo>
                <a:lnTo>
                  <a:pt x="1164" y="225"/>
                </a:lnTo>
                <a:lnTo>
                  <a:pt x="1144" y="212"/>
                </a:lnTo>
                <a:lnTo>
                  <a:pt x="1123" y="200"/>
                </a:lnTo>
                <a:lnTo>
                  <a:pt x="1102" y="189"/>
                </a:lnTo>
                <a:lnTo>
                  <a:pt x="1082" y="178"/>
                </a:lnTo>
                <a:lnTo>
                  <a:pt x="1064" y="166"/>
                </a:lnTo>
                <a:lnTo>
                  <a:pt x="1047" y="157"/>
                </a:lnTo>
                <a:lnTo>
                  <a:pt x="1031" y="148"/>
                </a:lnTo>
                <a:lnTo>
                  <a:pt x="1017" y="139"/>
                </a:lnTo>
                <a:lnTo>
                  <a:pt x="1007" y="132"/>
                </a:lnTo>
                <a:lnTo>
                  <a:pt x="992" y="126"/>
                </a:lnTo>
                <a:lnTo>
                  <a:pt x="975" y="118"/>
                </a:lnTo>
                <a:lnTo>
                  <a:pt x="955" y="108"/>
                </a:lnTo>
                <a:lnTo>
                  <a:pt x="933" y="97"/>
                </a:lnTo>
                <a:lnTo>
                  <a:pt x="909" y="86"/>
                </a:lnTo>
                <a:lnTo>
                  <a:pt x="884" y="75"/>
                </a:lnTo>
                <a:lnTo>
                  <a:pt x="859" y="64"/>
                </a:lnTo>
                <a:lnTo>
                  <a:pt x="834" y="53"/>
                </a:lnTo>
                <a:lnTo>
                  <a:pt x="809" y="43"/>
                </a:lnTo>
                <a:lnTo>
                  <a:pt x="786" y="33"/>
                </a:lnTo>
                <a:lnTo>
                  <a:pt x="765" y="24"/>
                </a:lnTo>
                <a:lnTo>
                  <a:pt x="747" y="16"/>
                </a:lnTo>
                <a:lnTo>
                  <a:pt x="731" y="10"/>
                </a:lnTo>
                <a:lnTo>
                  <a:pt x="719" y="5"/>
                </a:lnTo>
                <a:lnTo>
                  <a:pt x="712" y="2"/>
                </a:lnTo>
                <a:lnTo>
                  <a:pt x="710" y="0"/>
                </a:lnTo>
                <a:lnTo>
                  <a:pt x="315" y="53"/>
                </a:lnTo>
                <a:lnTo>
                  <a:pt x="317" y="54"/>
                </a:lnTo>
                <a:lnTo>
                  <a:pt x="325" y="57"/>
                </a:lnTo>
                <a:lnTo>
                  <a:pt x="335" y="62"/>
                </a:lnTo>
                <a:lnTo>
                  <a:pt x="350" y="66"/>
                </a:lnTo>
                <a:lnTo>
                  <a:pt x="367" y="73"/>
                </a:lnTo>
                <a:lnTo>
                  <a:pt x="387" y="80"/>
                </a:lnTo>
                <a:lnTo>
                  <a:pt x="408" y="88"/>
                </a:lnTo>
                <a:lnTo>
                  <a:pt x="431" y="95"/>
                </a:lnTo>
                <a:lnTo>
                  <a:pt x="454" y="104"/>
                </a:lnTo>
                <a:lnTo>
                  <a:pt x="477" y="112"/>
                </a:lnTo>
                <a:lnTo>
                  <a:pt x="500" y="121"/>
                </a:lnTo>
                <a:lnTo>
                  <a:pt x="522" y="129"/>
                </a:lnTo>
                <a:lnTo>
                  <a:pt x="542" y="136"/>
                </a:lnTo>
                <a:lnTo>
                  <a:pt x="561" y="143"/>
                </a:lnTo>
                <a:lnTo>
                  <a:pt x="575" y="149"/>
                </a:lnTo>
                <a:lnTo>
                  <a:pt x="588" y="152"/>
                </a:lnTo>
                <a:lnTo>
                  <a:pt x="599" y="158"/>
                </a:lnTo>
                <a:lnTo>
                  <a:pt x="612" y="164"/>
                </a:lnTo>
                <a:lnTo>
                  <a:pt x="627" y="170"/>
                </a:lnTo>
                <a:lnTo>
                  <a:pt x="641" y="176"/>
                </a:lnTo>
                <a:lnTo>
                  <a:pt x="657" y="183"/>
                </a:lnTo>
                <a:lnTo>
                  <a:pt x="672" y="189"/>
                </a:lnTo>
                <a:lnTo>
                  <a:pt x="688" y="196"/>
                </a:lnTo>
                <a:lnTo>
                  <a:pt x="705" y="201"/>
                </a:lnTo>
                <a:lnTo>
                  <a:pt x="719" y="209"/>
                </a:lnTo>
                <a:lnTo>
                  <a:pt x="735" y="216"/>
                </a:lnTo>
                <a:lnTo>
                  <a:pt x="750" y="223"/>
                </a:lnTo>
                <a:lnTo>
                  <a:pt x="765" y="229"/>
                </a:lnTo>
                <a:lnTo>
                  <a:pt x="778" y="235"/>
                </a:lnTo>
                <a:lnTo>
                  <a:pt x="791" y="240"/>
                </a:lnTo>
                <a:lnTo>
                  <a:pt x="803" y="246"/>
                </a:lnTo>
                <a:lnTo>
                  <a:pt x="815" y="251"/>
                </a:lnTo>
                <a:lnTo>
                  <a:pt x="824" y="257"/>
                </a:lnTo>
                <a:lnTo>
                  <a:pt x="834" y="262"/>
                </a:lnTo>
                <a:lnTo>
                  <a:pt x="846" y="269"/>
                </a:lnTo>
                <a:lnTo>
                  <a:pt x="859" y="275"/>
                </a:lnTo>
                <a:lnTo>
                  <a:pt x="871" y="282"/>
                </a:lnTo>
                <a:lnTo>
                  <a:pt x="884" y="289"/>
                </a:lnTo>
                <a:lnTo>
                  <a:pt x="897" y="297"/>
                </a:lnTo>
                <a:lnTo>
                  <a:pt x="911" y="304"/>
                </a:lnTo>
                <a:lnTo>
                  <a:pt x="924" y="311"/>
                </a:lnTo>
                <a:lnTo>
                  <a:pt x="937" y="318"/>
                </a:lnTo>
                <a:lnTo>
                  <a:pt x="949" y="326"/>
                </a:lnTo>
                <a:lnTo>
                  <a:pt x="961" y="333"/>
                </a:lnTo>
                <a:lnTo>
                  <a:pt x="972" y="340"/>
                </a:lnTo>
                <a:lnTo>
                  <a:pt x="982" y="346"/>
                </a:lnTo>
                <a:lnTo>
                  <a:pt x="992" y="352"/>
                </a:lnTo>
                <a:lnTo>
                  <a:pt x="1000" y="357"/>
                </a:lnTo>
                <a:lnTo>
                  <a:pt x="1006" y="363"/>
                </a:lnTo>
                <a:lnTo>
                  <a:pt x="1012" y="367"/>
                </a:lnTo>
                <a:lnTo>
                  <a:pt x="1019" y="373"/>
                </a:lnTo>
                <a:lnTo>
                  <a:pt x="1026" y="378"/>
                </a:lnTo>
                <a:lnTo>
                  <a:pt x="1031" y="385"/>
                </a:lnTo>
                <a:lnTo>
                  <a:pt x="1039" y="391"/>
                </a:lnTo>
                <a:lnTo>
                  <a:pt x="1046" y="396"/>
                </a:lnTo>
                <a:lnTo>
                  <a:pt x="1053" y="402"/>
                </a:lnTo>
                <a:lnTo>
                  <a:pt x="1059" y="410"/>
                </a:lnTo>
                <a:lnTo>
                  <a:pt x="1066" y="415"/>
                </a:lnTo>
                <a:lnTo>
                  <a:pt x="1071" y="421"/>
                </a:lnTo>
                <a:lnTo>
                  <a:pt x="1078" y="426"/>
                </a:lnTo>
                <a:lnTo>
                  <a:pt x="1082" y="432"/>
                </a:lnTo>
                <a:lnTo>
                  <a:pt x="1088" y="438"/>
                </a:lnTo>
                <a:lnTo>
                  <a:pt x="1091" y="442"/>
                </a:lnTo>
                <a:lnTo>
                  <a:pt x="1096" y="446"/>
                </a:lnTo>
                <a:lnTo>
                  <a:pt x="1098" y="451"/>
                </a:lnTo>
                <a:lnTo>
                  <a:pt x="1099" y="455"/>
                </a:lnTo>
                <a:lnTo>
                  <a:pt x="1101" y="461"/>
                </a:lnTo>
                <a:lnTo>
                  <a:pt x="1104" y="464"/>
                </a:lnTo>
                <a:lnTo>
                  <a:pt x="1105" y="470"/>
                </a:lnTo>
                <a:lnTo>
                  <a:pt x="1107" y="476"/>
                </a:lnTo>
                <a:lnTo>
                  <a:pt x="1108" y="481"/>
                </a:lnTo>
                <a:lnTo>
                  <a:pt x="1109" y="486"/>
                </a:lnTo>
                <a:lnTo>
                  <a:pt x="1109" y="492"/>
                </a:lnTo>
                <a:lnTo>
                  <a:pt x="1111" y="498"/>
                </a:lnTo>
                <a:lnTo>
                  <a:pt x="1111" y="503"/>
                </a:lnTo>
                <a:lnTo>
                  <a:pt x="1113" y="508"/>
                </a:lnTo>
                <a:lnTo>
                  <a:pt x="1113" y="514"/>
                </a:lnTo>
                <a:lnTo>
                  <a:pt x="1113" y="518"/>
                </a:lnTo>
                <a:lnTo>
                  <a:pt x="1113" y="521"/>
                </a:lnTo>
                <a:lnTo>
                  <a:pt x="1113" y="524"/>
                </a:lnTo>
                <a:lnTo>
                  <a:pt x="1110" y="528"/>
                </a:lnTo>
                <a:lnTo>
                  <a:pt x="1108" y="532"/>
                </a:lnTo>
                <a:lnTo>
                  <a:pt x="1106" y="536"/>
                </a:lnTo>
                <a:lnTo>
                  <a:pt x="1104" y="539"/>
                </a:lnTo>
                <a:lnTo>
                  <a:pt x="1100" y="543"/>
                </a:lnTo>
                <a:lnTo>
                  <a:pt x="1097" y="547"/>
                </a:lnTo>
                <a:lnTo>
                  <a:pt x="1093" y="551"/>
                </a:lnTo>
                <a:lnTo>
                  <a:pt x="1090" y="552"/>
                </a:lnTo>
                <a:lnTo>
                  <a:pt x="1085" y="556"/>
                </a:lnTo>
                <a:lnTo>
                  <a:pt x="1081" y="559"/>
                </a:lnTo>
                <a:lnTo>
                  <a:pt x="1075" y="562"/>
                </a:lnTo>
                <a:lnTo>
                  <a:pt x="1071" y="564"/>
                </a:lnTo>
                <a:lnTo>
                  <a:pt x="1066" y="566"/>
                </a:lnTo>
                <a:lnTo>
                  <a:pt x="1060" y="568"/>
                </a:lnTo>
                <a:lnTo>
                  <a:pt x="1055" y="570"/>
                </a:lnTo>
                <a:lnTo>
                  <a:pt x="1050" y="571"/>
                </a:lnTo>
                <a:lnTo>
                  <a:pt x="1041" y="574"/>
                </a:lnTo>
                <a:lnTo>
                  <a:pt x="1034" y="576"/>
                </a:lnTo>
                <a:lnTo>
                  <a:pt x="1025" y="578"/>
                </a:lnTo>
                <a:lnTo>
                  <a:pt x="1017" y="579"/>
                </a:lnTo>
                <a:lnTo>
                  <a:pt x="1006" y="580"/>
                </a:lnTo>
                <a:lnTo>
                  <a:pt x="997" y="580"/>
                </a:lnTo>
                <a:lnTo>
                  <a:pt x="987" y="581"/>
                </a:lnTo>
                <a:lnTo>
                  <a:pt x="977" y="581"/>
                </a:lnTo>
                <a:lnTo>
                  <a:pt x="966" y="582"/>
                </a:lnTo>
                <a:lnTo>
                  <a:pt x="955" y="582"/>
                </a:lnTo>
                <a:lnTo>
                  <a:pt x="944" y="582"/>
                </a:lnTo>
                <a:lnTo>
                  <a:pt x="935" y="581"/>
                </a:lnTo>
                <a:lnTo>
                  <a:pt x="924" y="581"/>
                </a:lnTo>
                <a:lnTo>
                  <a:pt x="913" y="580"/>
                </a:lnTo>
                <a:lnTo>
                  <a:pt x="902" y="580"/>
                </a:lnTo>
                <a:lnTo>
                  <a:pt x="893" y="578"/>
                </a:lnTo>
                <a:lnTo>
                  <a:pt x="881" y="578"/>
                </a:lnTo>
                <a:lnTo>
                  <a:pt x="869" y="577"/>
                </a:lnTo>
                <a:lnTo>
                  <a:pt x="854" y="575"/>
                </a:lnTo>
                <a:lnTo>
                  <a:pt x="838" y="572"/>
                </a:lnTo>
                <a:lnTo>
                  <a:pt x="820" y="570"/>
                </a:lnTo>
                <a:lnTo>
                  <a:pt x="802" y="567"/>
                </a:lnTo>
                <a:lnTo>
                  <a:pt x="783" y="564"/>
                </a:lnTo>
                <a:lnTo>
                  <a:pt x="765" y="560"/>
                </a:lnTo>
                <a:lnTo>
                  <a:pt x="745" y="558"/>
                </a:lnTo>
                <a:lnTo>
                  <a:pt x="726" y="554"/>
                </a:lnTo>
                <a:lnTo>
                  <a:pt x="708" y="550"/>
                </a:lnTo>
                <a:lnTo>
                  <a:pt x="691" y="546"/>
                </a:lnTo>
                <a:lnTo>
                  <a:pt x="675" y="544"/>
                </a:lnTo>
                <a:lnTo>
                  <a:pt x="661" y="541"/>
                </a:lnTo>
                <a:lnTo>
                  <a:pt x="649" y="538"/>
                </a:lnTo>
                <a:lnTo>
                  <a:pt x="639" y="534"/>
                </a:lnTo>
                <a:lnTo>
                  <a:pt x="637" y="534"/>
                </a:lnTo>
                <a:lnTo>
                  <a:pt x="637" y="534"/>
                </a:lnTo>
                <a:lnTo>
                  <a:pt x="637" y="534"/>
                </a:lnTo>
                <a:lnTo>
                  <a:pt x="638" y="532"/>
                </a:lnTo>
                <a:lnTo>
                  <a:pt x="638" y="531"/>
                </a:lnTo>
                <a:lnTo>
                  <a:pt x="639" y="528"/>
                </a:lnTo>
                <a:lnTo>
                  <a:pt x="641" y="524"/>
                </a:lnTo>
                <a:lnTo>
                  <a:pt x="643" y="520"/>
                </a:lnTo>
                <a:lnTo>
                  <a:pt x="645" y="515"/>
                </a:lnTo>
                <a:lnTo>
                  <a:pt x="648" y="509"/>
                </a:lnTo>
                <a:lnTo>
                  <a:pt x="651" y="501"/>
                </a:lnTo>
                <a:lnTo>
                  <a:pt x="656" y="491"/>
                </a:lnTo>
                <a:lnTo>
                  <a:pt x="660" y="481"/>
                </a:lnTo>
                <a:lnTo>
                  <a:pt x="666" y="468"/>
                </a:lnTo>
                <a:lnTo>
                  <a:pt x="671" y="454"/>
                </a:lnTo>
                <a:lnTo>
                  <a:pt x="679" y="438"/>
                </a:lnTo>
                <a:lnTo>
                  <a:pt x="679" y="438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59520" y="5133960"/>
            <a:ext cx="1925640" cy="6285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8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100" spc="-1" strike="noStrike">
                <a:solidFill>
                  <a:srgbClr val="ff0080"/>
                </a:solidFill>
                <a:latin typeface="Times New Roman"/>
              </a:rPr>
              <a:t>Maximización de util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85800"/>
            <a:ext cx="945360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9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a agregación y las condiciones de equilibrio se trasvasan 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138480" y="3581280"/>
            <a:ext cx="3871080" cy="1944000"/>
            <a:chOff x="3138480" y="3581280"/>
            <a:chExt cx="3871080" cy="1944000"/>
          </a:xfrm>
        </p:grpSpPr>
        <p:grpSp>
          <p:nvGrpSpPr>
            <p:cNvPr id="81" name=""/>
            <p:cNvGrpSpPr/>
            <p:nvPr/>
          </p:nvGrpSpPr>
          <p:grpSpPr>
            <a:xfrm>
              <a:off x="3138480" y="3581280"/>
              <a:ext cx="3871080" cy="1944000"/>
              <a:chOff x="3138480" y="3581280"/>
              <a:chExt cx="3871080" cy="1944000"/>
            </a:xfrm>
          </p:grpSpPr>
          <p:sp>
            <p:nvSpPr>
              <p:cNvPr id="82" name=""/>
              <p:cNvSpPr/>
              <p:nvPr/>
            </p:nvSpPr>
            <p:spPr>
              <a:xfrm>
                <a:off x="3138480" y="3839040"/>
                <a:ext cx="3721320" cy="1686240"/>
              </a:xfrm>
              <a:custGeom>
                <a:avLst/>
                <a:gdLst/>
                <a:ahLst/>
                <a:rect l="l" t="t" r="r" b="b"/>
                <a:pathLst>
                  <a:path w="1837" h="968">
                    <a:moveTo>
                      <a:pt x="1836" y="214"/>
                    </a:moveTo>
                    <a:lnTo>
                      <a:pt x="756" y="843"/>
                    </a:lnTo>
                    <a:lnTo>
                      <a:pt x="900" y="967"/>
                    </a:lnTo>
                    <a:lnTo>
                      <a:pt x="35" y="903"/>
                    </a:lnTo>
                    <a:lnTo>
                      <a:pt x="0" y="411"/>
                    </a:lnTo>
                    <a:lnTo>
                      <a:pt x="139" y="498"/>
                    </a:lnTo>
                    <a:lnTo>
                      <a:pt x="1508" y="0"/>
                    </a:lnTo>
                    <a:lnTo>
                      <a:pt x="1836" y="214"/>
                    </a:lnTo>
                    <a:lnTo>
                      <a:pt x="1836" y="214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290400" y="3581280"/>
                <a:ext cx="3719160" cy="1688040"/>
              </a:xfrm>
              <a:custGeom>
                <a:avLst/>
                <a:gdLst/>
                <a:ahLst/>
                <a:rect l="l" t="t" r="r" b="b"/>
                <a:pathLst>
                  <a:path w="1836" h="969">
                    <a:moveTo>
                      <a:pt x="1835" y="213"/>
                    </a:moveTo>
                    <a:lnTo>
                      <a:pt x="756" y="843"/>
                    </a:lnTo>
                    <a:lnTo>
                      <a:pt x="899" y="968"/>
                    </a:lnTo>
                    <a:lnTo>
                      <a:pt x="35" y="904"/>
                    </a:lnTo>
                    <a:lnTo>
                      <a:pt x="0" y="413"/>
                    </a:lnTo>
                    <a:lnTo>
                      <a:pt x="139" y="499"/>
                    </a:lnTo>
                    <a:lnTo>
                      <a:pt x="1506" y="0"/>
                    </a:lnTo>
                    <a:lnTo>
                      <a:pt x="1835" y="213"/>
                    </a:lnTo>
                    <a:lnTo>
                      <a:pt x="1835" y="213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 rot="20220000">
              <a:off x="4217760" y="4100040"/>
              <a:ext cx="2009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GB" sz="3000" spc="-1" strike="noStrike">
                  <a:solidFill>
                    <a:srgbClr val="ffff00"/>
                  </a:solidFill>
                  <a:latin typeface="Arial"/>
                </a:rPr>
                <a:t>Mercado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166680" y="-108360"/>
            <a:ext cx="7943760" cy="25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Tomemos otra rebanado  que pase por </a:t>
            </a:r>
            <a:r>
              <a:rPr b="1" i="1" lang="en-GB" sz="4200" spc="-1" strike="noStrike">
                <a:solidFill>
                  <a:srgbClr val="000000"/>
                </a:solidFill>
                <a:latin typeface="Times New Roman"/>
              </a:rPr>
              <a:t>Y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rot="20940000">
            <a:off x="8871120" y="4485960"/>
            <a:ext cx="11840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er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660000">
            <a:off x="9205560" y="5527800"/>
            <a:ext cx="7542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857680" y="2654280"/>
            <a:ext cx="931680" cy="4546800"/>
          </a:xfrm>
          <a:custGeom>
            <a:avLst/>
            <a:gdLst/>
            <a:ahLst/>
            <a:rect l="l" t="t" r="r" b="b"/>
            <a:pathLst>
              <a:path w="587" h="2864">
                <a:moveTo>
                  <a:pt x="0" y="2370"/>
                </a:moveTo>
                <a:lnTo>
                  <a:pt x="0" y="2370"/>
                </a:lnTo>
                <a:lnTo>
                  <a:pt x="0" y="651"/>
                </a:lnTo>
                <a:lnTo>
                  <a:pt x="101" y="332"/>
                </a:lnTo>
                <a:lnTo>
                  <a:pt x="282" y="0"/>
                </a:lnTo>
                <a:lnTo>
                  <a:pt x="462" y="280"/>
                </a:lnTo>
                <a:lnTo>
                  <a:pt x="586" y="674"/>
                </a:lnTo>
                <a:lnTo>
                  <a:pt x="586" y="2863"/>
                </a:lnTo>
                <a:lnTo>
                  <a:pt x="418" y="2740"/>
                </a:lnTo>
                <a:lnTo>
                  <a:pt x="225" y="2773"/>
                </a:lnTo>
                <a:lnTo>
                  <a:pt x="225" y="2672"/>
                </a:lnTo>
                <a:lnTo>
                  <a:pt x="147" y="2571"/>
                </a:lnTo>
                <a:lnTo>
                  <a:pt x="11" y="2606"/>
                </a:lnTo>
                <a:lnTo>
                  <a:pt x="11" y="2504"/>
                </a:lnTo>
                <a:lnTo>
                  <a:pt x="34" y="2426"/>
                </a:lnTo>
                <a:lnTo>
                  <a:pt x="34" y="2414"/>
                </a:lnTo>
                <a:lnTo>
                  <a:pt x="0" y="2370"/>
                </a:lnTo>
                <a:lnTo>
                  <a:pt x="0" y="237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797280" y="4829040"/>
            <a:ext cx="2130480" cy="2372040"/>
          </a:xfrm>
          <a:custGeom>
            <a:avLst/>
            <a:gdLst/>
            <a:ahLst/>
            <a:rect l="l" t="t" r="r" b="b"/>
            <a:pathLst>
              <a:path w="1342" h="1494">
                <a:moveTo>
                  <a:pt x="1341" y="0"/>
                </a:moveTo>
                <a:lnTo>
                  <a:pt x="1341" y="0"/>
                </a:lnTo>
                <a:lnTo>
                  <a:pt x="0" y="192"/>
                </a:lnTo>
                <a:lnTo>
                  <a:pt x="0" y="1471"/>
                </a:lnTo>
                <a:lnTo>
                  <a:pt x="57" y="1471"/>
                </a:lnTo>
                <a:lnTo>
                  <a:pt x="113" y="1449"/>
                </a:lnTo>
                <a:lnTo>
                  <a:pt x="158" y="1449"/>
                </a:lnTo>
                <a:lnTo>
                  <a:pt x="204" y="1382"/>
                </a:lnTo>
                <a:lnTo>
                  <a:pt x="260" y="1393"/>
                </a:lnTo>
                <a:lnTo>
                  <a:pt x="451" y="1493"/>
                </a:lnTo>
                <a:lnTo>
                  <a:pt x="845" y="1348"/>
                </a:lnTo>
                <a:lnTo>
                  <a:pt x="1036" y="1247"/>
                </a:lnTo>
                <a:lnTo>
                  <a:pt x="1228" y="1348"/>
                </a:lnTo>
                <a:lnTo>
                  <a:pt x="1330" y="1303"/>
                </a:lnTo>
                <a:lnTo>
                  <a:pt x="1341" y="1303"/>
                </a:lnTo>
                <a:lnTo>
                  <a:pt x="1341" y="23"/>
                </a:lnTo>
                <a:lnTo>
                  <a:pt x="1341" y="0"/>
                </a:lnTo>
                <a:lnTo>
                  <a:pt x="1341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797280" y="3705120"/>
            <a:ext cx="2130480" cy="1430280"/>
          </a:xfrm>
          <a:custGeom>
            <a:avLst/>
            <a:gdLst/>
            <a:ahLst/>
            <a:rect l="l" t="t" r="r" b="b"/>
            <a:pathLst>
              <a:path w="1342" h="901">
                <a:moveTo>
                  <a:pt x="1341" y="720"/>
                </a:moveTo>
                <a:lnTo>
                  <a:pt x="1341" y="720"/>
                </a:lnTo>
                <a:lnTo>
                  <a:pt x="0" y="0"/>
                </a:lnTo>
                <a:lnTo>
                  <a:pt x="0" y="900"/>
                </a:lnTo>
                <a:lnTo>
                  <a:pt x="1341" y="708"/>
                </a:lnTo>
                <a:lnTo>
                  <a:pt x="1341" y="720"/>
                </a:lnTo>
                <a:lnTo>
                  <a:pt x="1341" y="72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797280" y="5133960"/>
            <a:ext cx="0" cy="2048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584520" y="3100320"/>
            <a:ext cx="2360520" cy="1749600"/>
          </a:xfrm>
          <a:custGeom>
            <a:avLst/>
            <a:gdLst/>
            <a:ahLst/>
            <a:rect l="l" t="t" r="r" b="b"/>
            <a:pathLst>
              <a:path w="1487" h="1102">
                <a:moveTo>
                  <a:pt x="1475" y="1089"/>
                </a:moveTo>
                <a:lnTo>
                  <a:pt x="1475" y="1089"/>
                </a:lnTo>
                <a:lnTo>
                  <a:pt x="135" y="387"/>
                </a:lnTo>
                <a:lnTo>
                  <a:pt x="0" y="0"/>
                </a:lnTo>
                <a:lnTo>
                  <a:pt x="1486" y="1101"/>
                </a:lnTo>
                <a:lnTo>
                  <a:pt x="1475" y="1089"/>
                </a:lnTo>
                <a:lnTo>
                  <a:pt x="1475" y="1089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332160" y="2654280"/>
            <a:ext cx="2595600" cy="2158920"/>
          </a:xfrm>
          <a:custGeom>
            <a:avLst/>
            <a:gdLst/>
            <a:ahLst/>
            <a:rect l="l" t="t" r="r" b="b"/>
            <a:pathLst>
              <a:path w="1635" h="1360">
                <a:moveTo>
                  <a:pt x="159" y="281"/>
                </a:moveTo>
                <a:lnTo>
                  <a:pt x="159" y="281"/>
                </a:lnTo>
                <a:lnTo>
                  <a:pt x="0" y="0"/>
                </a:lnTo>
                <a:lnTo>
                  <a:pt x="1634" y="1359"/>
                </a:lnTo>
                <a:lnTo>
                  <a:pt x="159" y="281"/>
                </a:lnTo>
                <a:lnTo>
                  <a:pt x="159" y="281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622520" y="4044960"/>
            <a:ext cx="1252440" cy="212760"/>
          </a:xfrm>
          <a:prstGeom prst="line">
            <a:avLst/>
          </a:prstGeom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857680" y="2654280"/>
            <a:ext cx="753840" cy="3764160"/>
          </a:xfrm>
          <a:custGeom>
            <a:avLst/>
            <a:gdLst/>
            <a:ahLst/>
            <a:rect l="l" t="t" r="r" b="b"/>
            <a:pathLst>
              <a:path w="475" h="2371">
                <a:moveTo>
                  <a:pt x="0" y="2370"/>
                </a:moveTo>
                <a:lnTo>
                  <a:pt x="0" y="651"/>
                </a:lnTo>
                <a:lnTo>
                  <a:pt x="101" y="335"/>
                </a:lnTo>
                <a:lnTo>
                  <a:pt x="293" y="0"/>
                </a:lnTo>
                <a:lnTo>
                  <a:pt x="474" y="304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718160" y="3392640"/>
            <a:ext cx="2728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rot="16200000">
            <a:off x="4929840" y="2384640"/>
            <a:ext cx="12697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horiz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822400" y="4240080"/>
            <a:ext cx="965520" cy="176400"/>
          </a:xfrm>
          <a:prstGeom prst="line">
            <a:avLst/>
          </a:prstGeom>
          <a:ln w="31680">
            <a:solidFill>
              <a:srgbClr val="8f8f8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066680" y="1828800"/>
            <a:ext cx="6572520" cy="5584680"/>
          </a:xfrm>
          <a:custGeom>
            <a:avLst/>
            <a:gdLst/>
            <a:ahLst/>
            <a:rect l="l" t="t" r="r" b="b"/>
            <a:pathLst>
              <a:path w="4140" h="3518">
                <a:moveTo>
                  <a:pt x="1377" y="3369"/>
                </a:moveTo>
                <a:lnTo>
                  <a:pt x="1406" y="508"/>
                </a:lnTo>
                <a:lnTo>
                  <a:pt x="3071" y="1876"/>
                </a:lnTo>
                <a:lnTo>
                  <a:pt x="3040" y="3154"/>
                </a:lnTo>
                <a:lnTo>
                  <a:pt x="3958" y="2814"/>
                </a:lnTo>
                <a:lnTo>
                  <a:pt x="3917" y="1303"/>
                </a:lnTo>
                <a:lnTo>
                  <a:pt x="4139" y="1082"/>
                </a:lnTo>
                <a:lnTo>
                  <a:pt x="4139" y="1017"/>
                </a:lnTo>
                <a:lnTo>
                  <a:pt x="4139" y="964"/>
                </a:lnTo>
                <a:lnTo>
                  <a:pt x="4139" y="612"/>
                </a:lnTo>
                <a:lnTo>
                  <a:pt x="3995" y="470"/>
                </a:lnTo>
                <a:lnTo>
                  <a:pt x="3931" y="313"/>
                </a:lnTo>
                <a:lnTo>
                  <a:pt x="3501" y="209"/>
                </a:lnTo>
                <a:lnTo>
                  <a:pt x="3423" y="209"/>
                </a:lnTo>
                <a:lnTo>
                  <a:pt x="3058" y="196"/>
                </a:lnTo>
                <a:lnTo>
                  <a:pt x="2772" y="144"/>
                </a:lnTo>
                <a:lnTo>
                  <a:pt x="2525" y="52"/>
                </a:lnTo>
                <a:lnTo>
                  <a:pt x="2226" y="52"/>
                </a:lnTo>
                <a:lnTo>
                  <a:pt x="1796" y="0"/>
                </a:lnTo>
                <a:lnTo>
                  <a:pt x="1575" y="0"/>
                </a:lnTo>
                <a:lnTo>
                  <a:pt x="1145" y="52"/>
                </a:lnTo>
                <a:lnTo>
                  <a:pt x="1041" y="27"/>
                </a:lnTo>
                <a:lnTo>
                  <a:pt x="690" y="14"/>
                </a:lnTo>
                <a:lnTo>
                  <a:pt x="599" y="14"/>
                </a:lnTo>
                <a:lnTo>
                  <a:pt x="313" y="287"/>
                </a:lnTo>
                <a:lnTo>
                  <a:pt x="131" y="417"/>
                </a:lnTo>
                <a:lnTo>
                  <a:pt x="91" y="639"/>
                </a:lnTo>
                <a:lnTo>
                  <a:pt x="91" y="796"/>
                </a:lnTo>
                <a:lnTo>
                  <a:pt x="0" y="1030"/>
                </a:lnTo>
                <a:lnTo>
                  <a:pt x="65" y="1408"/>
                </a:lnTo>
                <a:lnTo>
                  <a:pt x="234" y="1811"/>
                </a:lnTo>
                <a:lnTo>
                  <a:pt x="547" y="1981"/>
                </a:lnTo>
                <a:lnTo>
                  <a:pt x="716" y="2115"/>
                </a:lnTo>
                <a:lnTo>
                  <a:pt x="1205" y="3517"/>
                </a:lnTo>
                <a:lnTo>
                  <a:pt x="1297" y="3418"/>
                </a:lnTo>
                <a:lnTo>
                  <a:pt x="1367" y="3388"/>
                </a:lnTo>
                <a:lnTo>
                  <a:pt x="1377" y="3369"/>
                </a:lnTo>
                <a:lnTo>
                  <a:pt x="1377" y="3369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931000" y="4829040"/>
            <a:ext cx="3668760" cy="65088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9396000" y="4084560"/>
            <a:ext cx="398160" cy="423000"/>
            <a:chOff x="9396000" y="4084560"/>
            <a:chExt cx="398160" cy="423000"/>
          </a:xfrm>
        </p:grpSpPr>
        <p:sp>
          <p:nvSpPr>
            <p:cNvPr id="557" name=""/>
            <p:cNvSpPr/>
            <p:nvPr/>
          </p:nvSpPr>
          <p:spPr>
            <a:xfrm rot="20220000">
              <a:off x="9458280" y="4102200"/>
              <a:ext cx="16200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20220000">
              <a:off x="9654840" y="4292280"/>
              <a:ext cx="10332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 flipV="1">
            <a:off x="2371680" y="4384440"/>
            <a:ext cx="6892920" cy="95076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9768960" y="5360040"/>
            <a:ext cx="254160" cy="493920"/>
            <a:chOff x="9768960" y="5360040"/>
            <a:chExt cx="254160" cy="493920"/>
          </a:xfrm>
        </p:grpSpPr>
        <p:sp>
          <p:nvSpPr>
            <p:cNvPr id="561" name=""/>
            <p:cNvSpPr/>
            <p:nvPr/>
          </p:nvSpPr>
          <p:spPr>
            <a:xfrm rot="840000">
              <a:off x="9809280" y="5373720"/>
              <a:ext cx="15696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840000">
              <a:off x="9904320" y="5640480"/>
              <a:ext cx="9540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5783400" y="1365120"/>
            <a:ext cx="245880" cy="462240"/>
            <a:chOff x="5783400" y="1365120"/>
            <a:chExt cx="245880" cy="462240"/>
          </a:xfrm>
        </p:grpSpPr>
        <p:sp>
          <p:nvSpPr>
            <p:cNvPr id="564" name=""/>
            <p:cNvSpPr/>
            <p:nvPr/>
          </p:nvSpPr>
          <p:spPr>
            <a:xfrm>
              <a:off x="5783400" y="1365120"/>
              <a:ext cx="1681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924520" y="1612800"/>
              <a:ext cx="1047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"/>
          <p:cNvSpPr/>
          <p:nvPr/>
        </p:nvSpPr>
        <p:spPr>
          <a:xfrm flipV="1">
            <a:off x="5907240" y="1889280"/>
            <a:ext cx="0" cy="523224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119480" y="4160880"/>
            <a:ext cx="43812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5100" spc="-1" strike="noStrike">
                <a:solidFill>
                  <a:srgbClr val="008000"/>
                </a:solidFill>
                <a:latin typeface="Times New Roman"/>
              </a:rPr>
              <a:t>Y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914400" y="6324480"/>
            <a:ext cx="7381800" cy="0"/>
          </a:xfrm>
          <a:prstGeom prst="line">
            <a:avLst/>
          </a:prstGeom>
          <a:ln w="475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635040" y="2027160"/>
            <a:ext cx="6807240" cy="4324320"/>
            <a:chOff x="635040" y="2027160"/>
            <a:chExt cx="6807240" cy="4324320"/>
          </a:xfrm>
        </p:grpSpPr>
        <p:sp>
          <p:nvSpPr>
            <p:cNvPr id="570" name=""/>
            <p:cNvSpPr/>
            <p:nvPr/>
          </p:nvSpPr>
          <p:spPr>
            <a:xfrm>
              <a:off x="635040" y="2232000"/>
              <a:ext cx="6807240" cy="4119480"/>
            </a:xfrm>
            <a:custGeom>
              <a:avLst/>
              <a:gdLst/>
              <a:ahLst/>
              <a:rect l="l" t="t" r="r" b="b"/>
              <a:pathLst>
                <a:path w="4288" h="2595">
                  <a:moveTo>
                    <a:pt x="4287" y="2593"/>
                  </a:moveTo>
                  <a:lnTo>
                    <a:pt x="4287" y="2593"/>
                  </a:lnTo>
                  <a:lnTo>
                    <a:pt x="3792" y="1242"/>
                  </a:lnTo>
                  <a:lnTo>
                    <a:pt x="3426" y="740"/>
                  </a:lnTo>
                  <a:lnTo>
                    <a:pt x="3000" y="364"/>
                  </a:lnTo>
                  <a:lnTo>
                    <a:pt x="2516" y="138"/>
                  </a:lnTo>
                  <a:lnTo>
                    <a:pt x="1714" y="0"/>
                  </a:lnTo>
                  <a:lnTo>
                    <a:pt x="102" y="0"/>
                  </a:lnTo>
                  <a:lnTo>
                    <a:pt x="104" y="190"/>
                  </a:lnTo>
                  <a:lnTo>
                    <a:pt x="260" y="307"/>
                  </a:lnTo>
                  <a:lnTo>
                    <a:pt x="26" y="542"/>
                  </a:lnTo>
                  <a:lnTo>
                    <a:pt x="104" y="776"/>
                  </a:lnTo>
                  <a:lnTo>
                    <a:pt x="144" y="1023"/>
                  </a:lnTo>
                  <a:lnTo>
                    <a:pt x="0" y="1271"/>
                  </a:lnTo>
                  <a:lnTo>
                    <a:pt x="235" y="1532"/>
                  </a:lnTo>
                  <a:lnTo>
                    <a:pt x="66" y="1831"/>
                  </a:lnTo>
                  <a:lnTo>
                    <a:pt x="118" y="1896"/>
                  </a:lnTo>
                  <a:lnTo>
                    <a:pt x="102" y="2594"/>
                  </a:lnTo>
                  <a:lnTo>
                    <a:pt x="4277" y="2594"/>
                  </a:lnTo>
                  <a:lnTo>
                    <a:pt x="4287" y="2593"/>
                  </a:lnTo>
                  <a:lnTo>
                    <a:pt x="4287" y="2593"/>
                  </a:lnTo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ffffc2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97040" y="2232000"/>
              <a:ext cx="6645240" cy="4119480"/>
            </a:xfrm>
            <a:custGeom>
              <a:avLst/>
              <a:gdLst/>
              <a:ahLst/>
              <a:rect l="l" t="t" r="r" b="b"/>
              <a:pathLst>
                <a:path w="4186" h="2595">
                  <a:moveTo>
                    <a:pt x="4185" y="2594"/>
                  </a:moveTo>
                  <a:lnTo>
                    <a:pt x="3690" y="1243"/>
                  </a:lnTo>
                  <a:lnTo>
                    <a:pt x="3324" y="740"/>
                  </a:lnTo>
                  <a:lnTo>
                    <a:pt x="2898" y="365"/>
                  </a:lnTo>
                  <a:lnTo>
                    <a:pt x="2414" y="139"/>
                  </a:lnTo>
                  <a:lnTo>
                    <a:pt x="1612" y="0"/>
                  </a:lnTo>
                  <a:lnTo>
                    <a:pt x="0" y="0"/>
                  </a:lnTo>
                </a:path>
              </a:pathLst>
            </a:custGeom>
            <a:noFill/>
            <a:ln w="31680">
              <a:solidFill>
                <a:srgbClr val="ff8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43120" y="2027160"/>
              <a:ext cx="254952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(con 10 unidades de trabajo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446040" y="739440"/>
            <a:ext cx="9453600" cy="10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a relación cerdo-choriz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7427880" y="2246040"/>
            <a:ext cx="4680" cy="5414760"/>
          </a:xfrm>
          <a:prstGeom prst="line">
            <a:avLst/>
          </a:prstGeom>
          <a:ln w="507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rot="5400000">
            <a:off x="6660000" y="2758320"/>
            <a:ext cx="12034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horiz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632720" y="6445080"/>
            <a:ext cx="901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(cer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-501480" y="3809880"/>
            <a:ext cx="7921440" cy="4762800"/>
            <a:chOff x="-501480" y="3809880"/>
            <a:chExt cx="7921440" cy="4762800"/>
          </a:xfrm>
        </p:grpSpPr>
        <p:sp>
          <p:nvSpPr>
            <p:cNvPr id="578" name=""/>
            <p:cNvSpPr/>
            <p:nvPr/>
          </p:nvSpPr>
          <p:spPr>
            <a:xfrm>
              <a:off x="-501480" y="4241880"/>
              <a:ext cx="7921440" cy="4330800"/>
            </a:xfrm>
            <a:custGeom>
              <a:avLst/>
              <a:gdLst/>
              <a:ahLst/>
              <a:rect l="l" t="t" r="r" b="b"/>
              <a:pathLst>
                <a:path w="4990" h="2728">
                  <a:moveTo>
                    <a:pt x="4989" y="1326"/>
                  </a:moveTo>
                  <a:lnTo>
                    <a:pt x="4989" y="1326"/>
                  </a:lnTo>
                  <a:lnTo>
                    <a:pt x="4404" y="635"/>
                  </a:lnTo>
                  <a:lnTo>
                    <a:pt x="3972" y="378"/>
                  </a:lnTo>
                  <a:lnTo>
                    <a:pt x="3468" y="186"/>
                  </a:lnTo>
                  <a:lnTo>
                    <a:pt x="2896" y="70"/>
                  </a:lnTo>
                  <a:lnTo>
                    <a:pt x="1948" y="0"/>
                  </a:lnTo>
                  <a:lnTo>
                    <a:pt x="65" y="5"/>
                  </a:lnTo>
                  <a:lnTo>
                    <a:pt x="299" y="370"/>
                  </a:lnTo>
                  <a:lnTo>
                    <a:pt x="118" y="604"/>
                  </a:lnTo>
                  <a:lnTo>
                    <a:pt x="0" y="982"/>
                  </a:lnTo>
                  <a:lnTo>
                    <a:pt x="222" y="1073"/>
                  </a:lnTo>
                  <a:lnTo>
                    <a:pt x="13" y="1243"/>
                  </a:lnTo>
                  <a:lnTo>
                    <a:pt x="0" y="1569"/>
                  </a:lnTo>
                  <a:lnTo>
                    <a:pt x="196" y="1647"/>
                  </a:lnTo>
                  <a:lnTo>
                    <a:pt x="78" y="1933"/>
                  </a:lnTo>
                  <a:lnTo>
                    <a:pt x="40" y="2116"/>
                  </a:lnTo>
                  <a:lnTo>
                    <a:pt x="40" y="2470"/>
                  </a:lnTo>
                  <a:lnTo>
                    <a:pt x="4978" y="2727"/>
                  </a:lnTo>
                  <a:lnTo>
                    <a:pt x="4989" y="1326"/>
                  </a:lnTo>
                  <a:lnTo>
                    <a:pt x="4989" y="1326"/>
                  </a:lnTo>
                </a:path>
              </a:pathLst>
            </a:custGeom>
            <a:gradFill rotWithShape="0">
              <a:gsLst>
                <a:gs pos="0">
                  <a:srgbClr val="00c200"/>
                </a:gs>
                <a:gs pos="50000">
                  <a:srgbClr val="ffffc2"/>
                </a:gs>
                <a:gs pos="100000">
                  <a:srgbClr val="00c2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-433080" y="4241880"/>
              <a:ext cx="7853040" cy="2108160"/>
            </a:xfrm>
            <a:custGeom>
              <a:avLst/>
              <a:gdLst/>
              <a:ahLst/>
              <a:rect l="l" t="t" r="r" b="b"/>
              <a:pathLst>
                <a:path w="4947" h="1328">
                  <a:moveTo>
                    <a:pt x="4946" y="1327"/>
                  </a:moveTo>
                  <a:lnTo>
                    <a:pt x="4361" y="636"/>
                  </a:lnTo>
                  <a:lnTo>
                    <a:pt x="3929" y="379"/>
                  </a:lnTo>
                  <a:lnTo>
                    <a:pt x="3425" y="186"/>
                  </a:lnTo>
                  <a:lnTo>
                    <a:pt x="2853" y="70"/>
                  </a:lnTo>
                  <a:lnTo>
                    <a:pt x="1905" y="0"/>
                  </a:lnTo>
                  <a:lnTo>
                    <a:pt x="0" y="0"/>
                  </a:lnTo>
                </a:path>
              </a:pathLst>
            </a:custGeom>
            <a:noFill/>
            <a:ln w="47520">
              <a:solidFill>
                <a:srgbClr val="ff8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698480" y="3809880"/>
              <a:ext cx="204768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(con  5 unidades de trabajo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8381880" y="5943600"/>
            <a:ext cx="30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620120" y="1981080"/>
            <a:ext cx="304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46040" y="739800"/>
            <a:ext cx="945360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a relación cerdo-chorizo: mas trabaj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9453600" cy="12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os axiomas convencionales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127080" y="1906200"/>
            <a:ext cx="9931320" cy="58658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c1c2"/>
              </a:gs>
              <a:gs pos="50000">
                <a:srgbClr val="ffffff"/>
              </a:gs>
              <a:gs pos="100000">
                <a:srgbClr val="00c1c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162920" y="2286000"/>
            <a:ext cx="2895480" cy="4876920"/>
          </a:xfrm>
          <a:prstGeom prst="rect">
            <a:avLst/>
          </a:prstGeom>
          <a:solidFill>
            <a:srgbClr val="ffffff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31680" y="2536560"/>
            <a:ext cx="5402160" cy="4222800"/>
          </a:xfrm>
          <a:prstGeom prst="roundRect">
            <a:avLst>
              <a:gd name="adj" fmla="val 6245"/>
            </a:avLst>
          </a:prstGeom>
          <a:solidFill>
            <a:srgbClr val="ffffc2"/>
          </a:solidFill>
          <a:ln w="3168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100" spc="-1" strike="noStrike">
                <a:solidFill>
                  <a:srgbClr val="ff0000"/>
                </a:solidFill>
                <a:latin typeface="Times New Roman"/>
              </a:rPr>
              <a:t>A1: Posibilidad de Inacció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100" spc="-1" strike="noStrike">
                <a:solidFill>
                  <a:srgbClr val="ff0000"/>
                </a:solidFill>
                <a:latin typeface="Times New Roman"/>
              </a:rPr>
              <a:t>A2: No hay almuerzos grati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100" spc="-1" strike="noStrike">
                <a:solidFill>
                  <a:srgbClr val="ff0000"/>
                </a:solidFill>
                <a:latin typeface="Times New Roman"/>
              </a:rPr>
              <a:t>A3: Irreversibilida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100" spc="-1" strike="noStrike">
                <a:solidFill>
                  <a:srgbClr val="ff0000"/>
                </a:solidFill>
                <a:latin typeface="Times New Roman"/>
              </a:rPr>
              <a:t>A4: Libre disposició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100" spc="-1" strike="noStrike">
                <a:solidFill>
                  <a:srgbClr val="ff0000"/>
                </a:solidFill>
                <a:latin typeface="Times New Roman"/>
              </a:rPr>
              <a:t>A5: Aditivida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100" spc="-1" strike="noStrike">
                <a:solidFill>
                  <a:srgbClr val="ff0000"/>
                </a:solidFill>
                <a:latin typeface="Times New Roman"/>
              </a:rPr>
              <a:t>A6: Divisibilida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5540400" y="2455920"/>
            <a:ext cx="3959280" cy="1312920"/>
            <a:chOff x="5540400" y="2455920"/>
            <a:chExt cx="3959280" cy="1312920"/>
          </a:xfrm>
        </p:grpSpPr>
        <p:sp>
          <p:nvSpPr>
            <p:cNvPr id="589" name=""/>
            <p:cNvSpPr/>
            <p:nvPr/>
          </p:nvSpPr>
          <p:spPr>
            <a:xfrm flipV="1">
              <a:off x="5540400" y="3165120"/>
              <a:ext cx="1536840" cy="436680"/>
            </a:xfrm>
            <a:prstGeom prst="line">
              <a:avLst/>
            </a:prstGeom>
            <a:ln w="954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277040" y="2455920"/>
              <a:ext cx="2222640" cy="1312920"/>
            </a:xfrm>
            <a:prstGeom prst="ellipse">
              <a:avLst/>
            </a:prstGeom>
            <a:gradFill rotWithShape="0">
              <a:gsLst>
                <a:gs pos="0">
                  <a:srgbClr val="810000"/>
                </a:gs>
                <a:gs pos="50000">
                  <a:srgbClr val="ffffff"/>
                </a:gs>
                <a:gs pos="100000">
                  <a:srgbClr val="810000"/>
                </a:gs>
              </a:gsLst>
              <a:lin ang="10800000"/>
            </a:gradFill>
            <a:ln w="47520">
              <a:solidFill>
                <a:srgbClr val="ff008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6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5518080" y="5265720"/>
            <a:ext cx="3970440" cy="1338120"/>
            <a:chOff x="5518080" y="5265720"/>
            <a:chExt cx="3970440" cy="1338120"/>
          </a:xfrm>
        </p:grpSpPr>
        <p:sp>
          <p:nvSpPr>
            <p:cNvPr id="592" name=""/>
            <p:cNvSpPr/>
            <p:nvPr/>
          </p:nvSpPr>
          <p:spPr>
            <a:xfrm>
              <a:off x="5518080" y="5265720"/>
              <a:ext cx="1548000" cy="601560"/>
            </a:xfrm>
            <a:prstGeom prst="line">
              <a:avLst/>
            </a:prstGeom>
            <a:ln w="954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65880" y="5291280"/>
              <a:ext cx="2222640" cy="1312560"/>
            </a:xfrm>
            <a:prstGeom prst="ellipse">
              <a:avLst/>
            </a:prstGeom>
            <a:gradFill rotWithShape="0">
              <a:gsLst>
                <a:gs pos="0">
                  <a:srgbClr val="810000"/>
                </a:gs>
                <a:gs pos="50000">
                  <a:srgbClr val="ffffff"/>
                </a:gs>
                <a:gs pos="100000">
                  <a:srgbClr val="810000"/>
                </a:gs>
              </a:gsLst>
              <a:lin ang="10800000"/>
            </a:gradFill>
            <a:ln w="47520">
              <a:solidFill>
                <a:srgbClr val="ff008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endParaRPr b="0" lang="en-US" sz="6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0" y="457200"/>
            <a:ext cx="945360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9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.dar un aspecto convencional al conjunto de producción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4800" y="4724280"/>
            <a:ext cx="94536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.y la función de producción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0" y="380880"/>
            <a:ext cx="9453600" cy="163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.dos importantes y equivalentes conceptos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0" y="2133720"/>
            <a:ext cx="7391520" cy="5638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1616040" y="3885840"/>
            <a:ext cx="5473800" cy="1752480"/>
          </a:xfrm>
          <a:prstGeom prst="roundRect">
            <a:avLst>
              <a:gd name="adj" fmla="val 6245"/>
            </a:avLst>
          </a:prstGeom>
          <a:solidFill>
            <a:srgbClr val="ffffc2"/>
          </a:solidFill>
          <a:ln w="3168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6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6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6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6200" spc="-1" strike="noStrike">
                <a:solidFill>
                  <a:srgbClr val="000000"/>
                </a:solidFill>
                <a:latin typeface="Symbol"/>
                <a:ea typeface="Symbol"/>
              </a:rPr>
              <a:t></a:t>
            </a:r>
            <a:r>
              <a:rPr b="0" i="1" lang="en-GB" sz="6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GB" sz="6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6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6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6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6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762120" y="5638680"/>
            <a:ext cx="6248160" cy="1524240"/>
          </a:xfrm>
          <a:prstGeom prst="rect">
            <a:avLst/>
          </a:prstGeom>
          <a:solidFill>
            <a:srgbClr val="ccffff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Nuevo concepto 1: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182600" y="4235400"/>
            <a:ext cx="521820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roceso multi-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182600" y="2406600"/>
            <a:ext cx="38466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roducción ne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182600" y="6114960"/>
            <a:ext cx="55990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Curva de Trans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3863880" y="727200"/>
            <a:ext cx="5864400" cy="13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2000"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l trueque entre papas y chorizos: bajo nivel de insumo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63360" y="417960"/>
            <a:ext cx="2683080" cy="6789960"/>
          </a:xfrm>
          <a:custGeom>
            <a:avLst/>
            <a:gdLst>
              <a:gd name="textAreaLeft" fmla="*/ 0 w 2683080"/>
              <a:gd name="textAreaRight" fmla="*/ 2683440 w 2683080"/>
              <a:gd name="textAreaTop" fmla="*/ -360 h 6789960"/>
              <a:gd name="textAreaBottom" fmla="*/ 6789960 h 6789960"/>
            </a:gdLst>
            <a:ahLst/>
            <a:rect l="textAreaLeft" t="textAreaTop" r="textAreaRight" b="textAreaBottom"/>
            <a:pathLst>
              <a:path w="21600" h="54658">
                <a:moveTo>
                  <a:pt x="0" y="0"/>
                </a:moveTo>
                <a:arcTo wR="0" hR="0" stAng="16200000" swAng="-5400000"/>
                <a:lnTo>
                  <a:pt x="0" y="54658"/>
                </a:lnTo>
                <a:arcTo wR="0" hR="0" stAng="10800000" swAng="-5400000"/>
                <a:lnTo>
                  <a:pt x="21600" y="54658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63360" y="6195960"/>
            <a:ext cx="9931680" cy="1573200"/>
          </a:xfrm>
          <a:prstGeom prst="roundRect">
            <a:avLst>
              <a:gd name="adj" fmla="val 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-1355760" y="2760840"/>
            <a:ext cx="7016760" cy="4578120"/>
            <a:chOff x="-1355760" y="2760840"/>
            <a:chExt cx="7016760" cy="4578120"/>
          </a:xfrm>
        </p:grpSpPr>
        <p:sp>
          <p:nvSpPr>
            <p:cNvPr id="608" name=""/>
            <p:cNvSpPr/>
            <p:nvPr/>
          </p:nvSpPr>
          <p:spPr>
            <a:xfrm>
              <a:off x="-1355760" y="2760840"/>
              <a:ext cx="7016760" cy="4578120"/>
            </a:xfrm>
            <a:custGeom>
              <a:avLst/>
              <a:gdLst/>
              <a:ahLst/>
              <a:rect l="l" t="t" r="r" b="b"/>
              <a:pathLst>
                <a:path w="4420" h="2884">
                  <a:moveTo>
                    <a:pt x="3776" y="2654"/>
                  </a:moveTo>
                  <a:lnTo>
                    <a:pt x="3776" y="2654"/>
                  </a:lnTo>
                  <a:lnTo>
                    <a:pt x="3239" y="2515"/>
                  </a:lnTo>
                  <a:lnTo>
                    <a:pt x="2517" y="2883"/>
                  </a:lnTo>
                  <a:lnTo>
                    <a:pt x="1560" y="2633"/>
                  </a:lnTo>
                  <a:lnTo>
                    <a:pt x="840" y="2633"/>
                  </a:lnTo>
                  <a:lnTo>
                    <a:pt x="353" y="2384"/>
                  </a:lnTo>
                  <a:lnTo>
                    <a:pt x="353" y="1781"/>
                  </a:lnTo>
                  <a:lnTo>
                    <a:pt x="104" y="1413"/>
                  </a:lnTo>
                  <a:lnTo>
                    <a:pt x="147" y="1046"/>
                  </a:lnTo>
                  <a:lnTo>
                    <a:pt x="0" y="0"/>
                  </a:lnTo>
                  <a:lnTo>
                    <a:pt x="2607" y="0"/>
                  </a:lnTo>
                  <a:lnTo>
                    <a:pt x="3328" y="250"/>
                  </a:lnTo>
                  <a:lnTo>
                    <a:pt x="3799" y="618"/>
                  </a:lnTo>
                  <a:lnTo>
                    <a:pt x="4271" y="1457"/>
                  </a:lnTo>
                  <a:lnTo>
                    <a:pt x="4418" y="2177"/>
                  </a:lnTo>
                  <a:lnTo>
                    <a:pt x="4419" y="2802"/>
                  </a:lnTo>
                  <a:lnTo>
                    <a:pt x="4023" y="2832"/>
                  </a:lnTo>
                  <a:lnTo>
                    <a:pt x="3776" y="2654"/>
                  </a:lnTo>
                  <a:lnTo>
                    <a:pt x="3776" y="2654"/>
                  </a:lnTo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ffffc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768760" y="2760840"/>
              <a:ext cx="2892240" cy="3479760"/>
            </a:xfrm>
            <a:custGeom>
              <a:avLst/>
              <a:gdLst/>
              <a:ahLst/>
              <a:rect l="l" t="t" r="r" b="b"/>
              <a:pathLst>
                <a:path w="1822" h="2192">
                  <a:moveTo>
                    <a:pt x="0" y="2"/>
                  </a:moveTo>
                  <a:lnTo>
                    <a:pt x="9" y="0"/>
                  </a:lnTo>
                  <a:lnTo>
                    <a:pt x="730" y="250"/>
                  </a:lnTo>
                  <a:lnTo>
                    <a:pt x="1201" y="618"/>
                  </a:lnTo>
                  <a:lnTo>
                    <a:pt x="1673" y="1457"/>
                  </a:lnTo>
                  <a:lnTo>
                    <a:pt x="1820" y="2177"/>
                  </a:lnTo>
                  <a:lnTo>
                    <a:pt x="1821" y="2191"/>
                  </a:lnTo>
                </a:path>
              </a:pathLst>
            </a:custGeom>
            <a:noFill/>
            <a:ln w="31680">
              <a:solidFill>
                <a:srgbClr val="ff8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971800" y="3429000"/>
              <a:ext cx="110484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insumo al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4680" y="3936960"/>
            <a:ext cx="4714920" cy="3586320"/>
            <a:chOff x="4680" y="3936960"/>
            <a:chExt cx="4714920" cy="3586320"/>
          </a:xfrm>
        </p:grpSpPr>
        <p:sp>
          <p:nvSpPr>
            <p:cNvPr id="612" name=""/>
            <p:cNvSpPr/>
            <p:nvPr/>
          </p:nvSpPr>
          <p:spPr>
            <a:xfrm>
              <a:off x="4680" y="3936960"/>
              <a:ext cx="4714920" cy="3586320"/>
            </a:xfrm>
            <a:custGeom>
              <a:avLst/>
              <a:gdLst/>
              <a:ahLst/>
              <a:rect l="l" t="t" r="r" b="b"/>
              <a:pathLst>
                <a:path w="2970" h="2259">
                  <a:moveTo>
                    <a:pt x="2503" y="2022"/>
                  </a:moveTo>
                  <a:lnTo>
                    <a:pt x="2503" y="2022"/>
                  </a:lnTo>
                  <a:lnTo>
                    <a:pt x="2177" y="2022"/>
                  </a:lnTo>
                  <a:lnTo>
                    <a:pt x="1691" y="2258"/>
                  </a:lnTo>
                  <a:lnTo>
                    <a:pt x="1049" y="2100"/>
                  </a:lnTo>
                  <a:lnTo>
                    <a:pt x="564" y="2012"/>
                  </a:lnTo>
                  <a:lnTo>
                    <a:pt x="237" y="1598"/>
                  </a:lnTo>
                  <a:lnTo>
                    <a:pt x="237" y="1194"/>
                  </a:lnTo>
                  <a:lnTo>
                    <a:pt x="69" y="948"/>
                  </a:lnTo>
                  <a:lnTo>
                    <a:pt x="99" y="701"/>
                  </a:lnTo>
                  <a:lnTo>
                    <a:pt x="0" y="0"/>
                  </a:lnTo>
                  <a:lnTo>
                    <a:pt x="1751" y="0"/>
                  </a:lnTo>
                  <a:lnTo>
                    <a:pt x="2236" y="168"/>
                  </a:lnTo>
                  <a:lnTo>
                    <a:pt x="2553" y="414"/>
                  </a:lnTo>
                  <a:lnTo>
                    <a:pt x="2869" y="976"/>
                  </a:lnTo>
                  <a:lnTo>
                    <a:pt x="2969" y="1459"/>
                  </a:lnTo>
                  <a:lnTo>
                    <a:pt x="2969" y="2258"/>
                  </a:lnTo>
                  <a:lnTo>
                    <a:pt x="2483" y="2210"/>
                  </a:lnTo>
                  <a:lnTo>
                    <a:pt x="2503" y="2022"/>
                  </a:lnTo>
                  <a:lnTo>
                    <a:pt x="2503" y="2022"/>
                  </a:lnTo>
                </a:path>
              </a:pathLst>
            </a:custGeom>
            <a:gradFill rotWithShape="0">
              <a:gsLst>
                <a:gs pos="0">
                  <a:srgbClr val="00c200"/>
                </a:gs>
                <a:gs pos="100000">
                  <a:srgbClr val="ffffc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768760" y="3936960"/>
              <a:ext cx="1950840" cy="2317680"/>
            </a:xfrm>
            <a:custGeom>
              <a:avLst/>
              <a:gdLst/>
              <a:ahLst/>
              <a:rect l="l" t="t" r="r" b="b"/>
              <a:pathLst>
                <a:path w="1229" h="1460">
                  <a:moveTo>
                    <a:pt x="0" y="0"/>
                  </a:moveTo>
                  <a:lnTo>
                    <a:pt x="10" y="0"/>
                  </a:lnTo>
                  <a:lnTo>
                    <a:pt x="495" y="168"/>
                  </a:lnTo>
                  <a:lnTo>
                    <a:pt x="812" y="414"/>
                  </a:lnTo>
                  <a:lnTo>
                    <a:pt x="1128" y="976"/>
                  </a:lnTo>
                  <a:lnTo>
                    <a:pt x="1228" y="1459"/>
                  </a:lnTo>
                  <a:lnTo>
                    <a:pt x="1227" y="1440"/>
                  </a:lnTo>
                </a:path>
              </a:pathLst>
            </a:custGeom>
            <a:noFill/>
            <a:ln w="31680">
              <a:solidFill>
                <a:srgbClr val="ffbf1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819520" y="4572000"/>
              <a:ext cx="100332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insumo ba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63360" y="6216480"/>
            <a:ext cx="6724800" cy="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2760840" y="1481040"/>
            <a:ext cx="4680" cy="541512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016520" y="0"/>
            <a:ext cx="604188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5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l trueque entre papas y chorizos:alto nivel de insumo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162920" y="6019920"/>
            <a:ext cx="304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048120" y="1295280"/>
            <a:ext cx="304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715000" y="6477120"/>
            <a:ext cx="1371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choriz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rot="5400000">
            <a:off x="1562040" y="2019240"/>
            <a:ext cx="1447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pap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 flipV="1">
            <a:off x="2759040" y="1746720"/>
            <a:ext cx="6802560" cy="450540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c1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/>
          </p:nvPr>
        </p:nvSpPr>
        <p:spPr>
          <a:xfrm>
            <a:off x="3863520" y="401760"/>
            <a:ext cx="6194520" cy="195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Conocida tambien como </a:t>
            </a:r>
            <a:r>
              <a:rPr b="1" i="1" lang="en-GB" sz="4200" spc="-1" strike="noStrike">
                <a:solidFill>
                  <a:srgbClr val="000000"/>
                </a:solidFill>
                <a:latin typeface="Times New Roman"/>
              </a:rPr>
              <a:t>curva de transformación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 de la economí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752560" y="2722680"/>
            <a:ext cx="2914920" cy="3497040"/>
          </a:xfrm>
          <a:custGeom>
            <a:avLst/>
            <a:gdLst/>
            <a:ahLst/>
            <a:rect l="l" t="t" r="r" b="b"/>
            <a:pathLst>
              <a:path w="1836" h="2203">
                <a:moveTo>
                  <a:pt x="20" y="0"/>
                </a:moveTo>
                <a:lnTo>
                  <a:pt x="20" y="0"/>
                </a:lnTo>
                <a:lnTo>
                  <a:pt x="20" y="2191"/>
                </a:lnTo>
                <a:lnTo>
                  <a:pt x="1835" y="2202"/>
                </a:lnTo>
                <a:lnTo>
                  <a:pt x="1835" y="2202"/>
                </a:lnTo>
                <a:lnTo>
                  <a:pt x="1798" y="2025"/>
                </a:lnTo>
                <a:lnTo>
                  <a:pt x="1790" y="1983"/>
                </a:lnTo>
                <a:lnTo>
                  <a:pt x="1773" y="1933"/>
                </a:lnTo>
                <a:lnTo>
                  <a:pt x="1758" y="1879"/>
                </a:lnTo>
                <a:lnTo>
                  <a:pt x="1742" y="1821"/>
                </a:lnTo>
                <a:lnTo>
                  <a:pt x="1723" y="1761"/>
                </a:lnTo>
                <a:lnTo>
                  <a:pt x="1706" y="1706"/>
                </a:lnTo>
                <a:lnTo>
                  <a:pt x="1688" y="1655"/>
                </a:lnTo>
                <a:lnTo>
                  <a:pt x="1677" y="1631"/>
                </a:lnTo>
                <a:lnTo>
                  <a:pt x="1666" y="1604"/>
                </a:lnTo>
                <a:lnTo>
                  <a:pt x="1656" y="1573"/>
                </a:lnTo>
                <a:lnTo>
                  <a:pt x="1643" y="1540"/>
                </a:lnTo>
                <a:lnTo>
                  <a:pt x="1627" y="1509"/>
                </a:lnTo>
                <a:lnTo>
                  <a:pt x="1614" y="1474"/>
                </a:lnTo>
                <a:lnTo>
                  <a:pt x="1600" y="1436"/>
                </a:lnTo>
                <a:lnTo>
                  <a:pt x="1584" y="1398"/>
                </a:lnTo>
                <a:lnTo>
                  <a:pt x="1569" y="1364"/>
                </a:lnTo>
                <a:lnTo>
                  <a:pt x="1553" y="1328"/>
                </a:lnTo>
                <a:lnTo>
                  <a:pt x="1537" y="1296"/>
                </a:lnTo>
                <a:lnTo>
                  <a:pt x="1521" y="1259"/>
                </a:lnTo>
                <a:lnTo>
                  <a:pt x="1508" y="1229"/>
                </a:lnTo>
                <a:lnTo>
                  <a:pt x="1492" y="1197"/>
                </a:lnTo>
                <a:lnTo>
                  <a:pt x="1479" y="1169"/>
                </a:lnTo>
                <a:lnTo>
                  <a:pt x="1468" y="1141"/>
                </a:lnTo>
                <a:lnTo>
                  <a:pt x="1450" y="1118"/>
                </a:lnTo>
                <a:lnTo>
                  <a:pt x="1436" y="1091"/>
                </a:lnTo>
                <a:lnTo>
                  <a:pt x="1420" y="1062"/>
                </a:lnTo>
                <a:lnTo>
                  <a:pt x="1400" y="1031"/>
                </a:lnTo>
                <a:lnTo>
                  <a:pt x="1382" y="1002"/>
                </a:lnTo>
                <a:lnTo>
                  <a:pt x="1363" y="967"/>
                </a:lnTo>
                <a:lnTo>
                  <a:pt x="1342" y="935"/>
                </a:lnTo>
                <a:lnTo>
                  <a:pt x="1323" y="901"/>
                </a:lnTo>
                <a:lnTo>
                  <a:pt x="1296" y="873"/>
                </a:lnTo>
                <a:lnTo>
                  <a:pt x="1278" y="839"/>
                </a:lnTo>
                <a:lnTo>
                  <a:pt x="1256" y="809"/>
                </a:lnTo>
                <a:lnTo>
                  <a:pt x="1236" y="780"/>
                </a:lnTo>
                <a:lnTo>
                  <a:pt x="1215" y="754"/>
                </a:lnTo>
                <a:lnTo>
                  <a:pt x="1196" y="729"/>
                </a:lnTo>
                <a:lnTo>
                  <a:pt x="1176" y="704"/>
                </a:lnTo>
                <a:lnTo>
                  <a:pt x="1162" y="684"/>
                </a:lnTo>
                <a:lnTo>
                  <a:pt x="1123" y="646"/>
                </a:lnTo>
                <a:lnTo>
                  <a:pt x="1083" y="601"/>
                </a:lnTo>
                <a:lnTo>
                  <a:pt x="1041" y="556"/>
                </a:lnTo>
                <a:lnTo>
                  <a:pt x="996" y="509"/>
                </a:lnTo>
                <a:lnTo>
                  <a:pt x="950" y="466"/>
                </a:lnTo>
                <a:lnTo>
                  <a:pt x="914" y="425"/>
                </a:lnTo>
                <a:lnTo>
                  <a:pt x="877" y="392"/>
                </a:lnTo>
                <a:lnTo>
                  <a:pt x="845" y="363"/>
                </a:lnTo>
                <a:lnTo>
                  <a:pt x="816" y="342"/>
                </a:lnTo>
                <a:lnTo>
                  <a:pt x="782" y="313"/>
                </a:lnTo>
                <a:lnTo>
                  <a:pt x="744" y="285"/>
                </a:lnTo>
                <a:lnTo>
                  <a:pt x="705" y="256"/>
                </a:lnTo>
                <a:lnTo>
                  <a:pt x="664" y="231"/>
                </a:lnTo>
                <a:lnTo>
                  <a:pt x="629" y="204"/>
                </a:lnTo>
                <a:lnTo>
                  <a:pt x="593" y="181"/>
                </a:lnTo>
                <a:lnTo>
                  <a:pt x="566" y="163"/>
                </a:lnTo>
                <a:lnTo>
                  <a:pt x="534" y="149"/>
                </a:lnTo>
                <a:lnTo>
                  <a:pt x="505" y="131"/>
                </a:lnTo>
                <a:lnTo>
                  <a:pt x="470" y="116"/>
                </a:lnTo>
                <a:lnTo>
                  <a:pt x="436" y="99"/>
                </a:lnTo>
                <a:lnTo>
                  <a:pt x="399" y="85"/>
                </a:lnTo>
                <a:lnTo>
                  <a:pt x="370" y="71"/>
                </a:lnTo>
                <a:lnTo>
                  <a:pt x="341" y="62"/>
                </a:lnTo>
                <a:lnTo>
                  <a:pt x="319" y="55"/>
                </a:lnTo>
                <a:lnTo>
                  <a:pt x="296" y="52"/>
                </a:lnTo>
                <a:lnTo>
                  <a:pt x="268" y="45"/>
                </a:lnTo>
                <a:lnTo>
                  <a:pt x="240" y="40"/>
                </a:lnTo>
                <a:lnTo>
                  <a:pt x="210" y="31"/>
                </a:lnTo>
                <a:lnTo>
                  <a:pt x="180" y="28"/>
                </a:lnTo>
                <a:lnTo>
                  <a:pt x="152" y="24"/>
                </a:lnTo>
                <a:lnTo>
                  <a:pt x="126" y="21"/>
                </a:lnTo>
                <a:lnTo>
                  <a:pt x="105" y="18"/>
                </a:lnTo>
                <a:lnTo>
                  <a:pt x="0" y="11"/>
                </a:lnTo>
                <a:lnTo>
                  <a:pt x="20" y="0"/>
                </a:lnTo>
                <a:lnTo>
                  <a:pt x="20" y="0"/>
                </a:lnTo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ffffc2"/>
              </a:gs>
            </a:gsLst>
            <a:lin ang="8100000"/>
          </a:gra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2774880" y="1317600"/>
            <a:ext cx="7920" cy="4835520"/>
          </a:xfrm>
          <a:prstGeom prst="line">
            <a:avLst/>
          </a:prstGeom>
          <a:ln w="475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754360" y="6216480"/>
            <a:ext cx="4083120" cy="0"/>
          </a:xfrm>
          <a:prstGeom prst="line">
            <a:avLst/>
          </a:prstGeom>
          <a:ln w="475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715000" y="6477120"/>
            <a:ext cx="1371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choriz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rot="5400000">
            <a:off x="1562040" y="2019240"/>
            <a:ext cx="1447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pap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162920" y="6019920"/>
            <a:ext cx="304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048120" y="1295280"/>
            <a:ext cx="304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562720" y="2362320"/>
            <a:ext cx="4038480" cy="1828800"/>
          </a:xfrm>
          <a:prstGeom prst="wedgeRoundRectCallout">
            <a:avLst>
              <a:gd name="adj1" fmla="val -58060"/>
              <a:gd name="adj2" fmla="val 84898"/>
              <a:gd name="adj3" fmla="val 16667"/>
            </a:avLst>
          </a:prstGeom>
          <a:solidFill>
            <a:srgbClr val="ffff99"/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a frontera conforma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urva de trans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GB" sz="5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51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51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28600" y="2743200"/>
            <a:ext cx="3809880" cy="1523880"/>
          </a:xfrm>
          <a:prstGeom prst="wedgeRoundRectCallout">
            <a:avLst>
              <a:gd name="adj1" fmla="val 67541"/>
              <a:gd name="adj2" fmla="val 92708"/>
              <a:gd name="adj3" fmla="val 16667"/>
            </a:avLst>
          </a:prstGeom>
          <a:solidFill>
            <a:srgbClr val="ffff99"/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untos fact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ero inefi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GB" sz="5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51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5100" spc="-1" strike="noStrike">
                <a:solidFill>
                  <a:srgbClr val="000000"/>
                </a:solidFill>
                <a:latin typeface="Times New Roman"/>
              </a:rPr>
              <a:t>) &lt; 0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048120" y="5105520"/>
            <a:ext cx="2590560" cy="1752480"/>
          </a:xfrm>
          <a:prstGeom prst="wedgeRoundRectCallout">
            <a:avLst>
              <a:gd name="adj1" fmla="val 82597"/>
              <a:gd name="adj2" fmla="val -76449"/>
              <a:gd name="adj3" fmla="val 16667"/>
            </a:avLst>
          </a:prstGeom>
          <a:solidFill>
            <a:srgbClr val="ffff99"/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untos infact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GB" sz="5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51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5100" spc="-1" strike="noStrike">
                <a:solidFill>
                  <a:srgbClr val="000000"/>
                </a:solidFill>
                <a:latin typeface="Times New Roman"/>
              </a:rPr>
              <a:t>) &gt;0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92160" y="2217600"/>
            <a:ext cx="9431280" cy="3926160"/>
          </a:xfrm>
          <a:prstGeom prst="rect">
            <a:avLst/>
          </a:prstGeom>
          <a:solidFill>
            <a:srgbClr val="e1e1e1"/>
          </a:solidFill>
          <a:ln w="25560">
            <a:solidFill>
              <a:srgbClr val="003366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txBody>
          <a:bodyPr lIns="0" rIns="0" tIns="0" bIns="0" anchor="t">
            <a:normAutofit/>
          </a:bodyPr>
          <a:p>
            <a:pPr marL="1166760" indent="-1166760">
              <a:spcBef>
                <a:spcPts val="1939"/>
              </a:spcBef>
              <a:buClr>
                <a:srgbClr val="ffff00"/>
              </a:buClr>
              <a:buSzPct val="90000"/>
              <a:buFont typeface="Monotype Sort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i="1" lang="en-GB" sz="3100" spc="-1" strike="noStrike">
                <a:solidFill>
                  <a:srgbClr val="400080"/>
                </a:solidFill>
                <a:latin typeface="Times New Roman"/>
              </a:rPr>
              <a:t>La deducimos para dados niveles de recurso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1166760" indent="-1166760">
              <a:spcBef>
                <a:spcPts val="1939"/>
              </a:spcBef>
              <a:buClr>
                <a:srgbClr val="ffff00"/>
              </a:buClr>
              <a:buSzPct val="90000"/>
              <a:buFont typeface="Monotype Sort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i="1" lang="en-GB" sz="3100" spc="-1" strike="noStrike">
                <a:solidFill>
                  <a:srgbClr val="400080"/>
                </a:solidFill>
                <a:latin typeface="Times New Roman"/>
              </a:rPr>
              <a:t>La posición de la curva depende de la tecnología y de los recursos disponibl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1166760" indent="-1166760">
              <a:spcBef>
                <a:spcPts val="1939"/>
              </a:spcBef>
              <a:buClr>
                <a:srgbClr val="ffff00"/>
              </a:buClr>
              <a:buSzPct val="90000"/>
              <a:buFont typeface="Monotype Sort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i="1" lang="en-GB" sz="3100" spc="-1" strike="noStrike">
                <a:solidFill>
                  <a:srgbClr val="400080"/>
                </a:solidFill>
                <a:latin typeface="Times New Roman"/>
              </a:rPr>
              <a:t>Si cambiamos los recursos cambiamos las posibilidades de producción de bienes de consum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46040" y="739800"/>
            <a:ext cx="945360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Veamos como se deriva la curva de transformació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Un ejemplo con cinco bien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914400" y="1981080"/>
            <a:ext cx="8426520" cy="37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- un bien de consumo puro (produc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 - un bien de consumo puro (produc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 - un recurso productivo puro(insum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 - un recurso productivo puro (insumo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 - un recurso productivo puro (insum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682560" y="5562360"/>
            <a:ext cx="8715600" cy="1985760"/>
          </a:xfrm>
          <a:prstGeom prst="roundRect">
            <a:avLst>
              <a:gd name="adj" fmla="val 6245"/>
            </a:avLst>
          </a:prstGeom>
          <a:solidFill>
            <a:srgbClr val="ffffc2"/>
          </a:solidFill>
          <a:ln w="3168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523880" y="5925960"/>
            <a:ext cx="6934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5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i="1" lang="en-GB" sz="5400" spc="-1" strike="noStrike">
                <a:solidFill>
                  <a:srgbClr val="008000"/>
                </a:solidFill>
                <a:latin typeface="Times New Roman"/>
              </a:rPr>
              <a:t>y</a:t>
            </a:r>
            <a:r>
              <a:rPr b="1" lang="en-GB" sz="54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1" i="1" lang="en-GB" sz="5400" spc="-1" strike="noStrike">
                <a:solidFill>
                  <a:srgbClr val="008000"/>
                </a:solidFill>
                <a:latin typeface="Times New Roman"/>
              </a:rPr>
              <a:t> a</a:t>
            </a:r>
            <a:r>
              <a:rPr b="1" lang="en-GB" sz="54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1" i="1" lang="en-GB" sz="5400" spc="-1" strike="noStrike" baseline="-25000">
                <a:solidFill>
                  <a:srgbClr val="008000"/>
                </a:solidFill>
                <a:latin typeface="Times New Roman"/>
              </a:rPr>
              <a:t>i</a:t>
            </a:r>
            <a:r>
              <a:rPr b="1" i="1" lang="en-GB" sz="5400" spc="-1" strike="noStrike">
                <a:solidFill>
                  <a:srgbClr val="008000"/>
                </a:solidFill>
                <a:latin typeface="Times New Roman"/>
              </a:rPr>
              <a:t>  +  y</a:t>
            </a:r>
            <a:r>
              <a:rPr b="1" lang="en-GB" sz="5400" spc="-1" strike="noStrike" baseline="-25000">
                <a:solidFill>
                  <a:srgbClr val="008000"/>
                </a:solidFill>
                <a:latin typeface="Times New Roman"/>
              </a:rPr>
              <a:t>2</a:t>
            </a:r>
            <a:r>
              <a:rPr b="1" i="1" lang="en-GB" sz="5400" spc="-1" strike="noStrike">
                <a:solidFill>
                  <a:srgbClr val="008000"/>
                </a:solidFill>
                <a:latin typeface="Times New Roman"/>
              </a:rPr>
              <a:t> a</a:t>
            </a:r>
            <a:r>
              <a:rPr b="1" lang="en-GB" sz="5400" spc="-1" strike="noStrike" baseline="-25000">
                <a:solidFill>
                  <a:srgbClr val="008000"/>
                </a:solidFill>
                <a:latin typeface="Times New Roman"/>
              </a:rPr>
              <a:t>2</a:t>
            </a:r>
            <a:r>
              <a:rPr b="1" i="1" lang="en-GB" sz="5400" spc="-1" strike="noStrike" baseline="-25000">
                <a:solidFill>
                  <a:srgbClr val="008000"/>
                </a:solidFill>
                <a:latin typeface="Times New Roman"/>
              </a:rPr>
              <a:t>i</a:t>
            </a:r>
            <a:r>
              <a:rPr b="1" i="1" lang="en-GB" sz="5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en-GB" sz="54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1" i="1" lang="en-GB" sz="5400" spc="-1" strike="noStrike">
                <a:solidFill>
                  <a:srgbClr val="008000"/>
                </a:solidFill>
                <a:latin typeface="Times New Roman"/>
              </a:rPr>
              <a:t> R</a:t>
            </a:r>
            <a:r>
              <a:rPr b="1" i="1" lang="en-GB" sz="5400" spc="-1" strike="noStrike" baseline="-25000">
                <a:solidFill>
                  <a:srgbClr val="008000"/>
                </a:solidFill>
                <a:latin typeface="Times New Roman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762120" y="5485320"/>
            <a:ext cx="7576920" cy="1986120"/>
          </a:xfrm>
          <a:prstGeom prst="roundRect">
            <a:avLst>
              <a:gd name="adj" fmla="val 6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8000"/>
                </a:solidFill>
                <a:latin typeface="Arial"/>
              </a:rPr>
              <a:t>suponga proporciones fijas de cad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n-GB" sz="3000" spc="-1" strike="noStrike">
                <a:solidFill>
                  <a:srgbClr val="008000"/>
                </a:solidFill>
                <a:latin typeface="Arial"/>
              </a:rPr>
              <a:t>insumo para producir cada producto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/>
          </p:nvPr>
        </p:nvSpPr>
        <p:spPr>
          <a:xfrm>
            <a:off x="604800" y="68544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Restricción del recurso 3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1219320" y="990720"/>
            <a:ext cx="2790360" cy="6413400"/>
            <a:chOff x="1219320" y="990720"/>
            <a:chExt cx="2790360" cy="6413400"/>
          </a:xfrm>
        </p:grpSpPr>
        <p:sp>
          <p:nvSpPr>
            <p:cNvPr id="643" name=""/>
            <p:cNvSpPr/>
            <p:nvPr/>
          </p:nvSpPr>
          <p:spPr>
            <a:xfrm>
              <a:off x="1219320" y="1506600"/>
              <a:ext cx="2749680" cy="5897520"/>
            </a:xfrm>
            <a:custGeom>
              <a:avLst/>
              <a:gdLst/>
              <a:ahLst/>
              <a:rect l="l" t="t" r="r" b="b"/>
              <a:pathLst>
                <a:path w="1732" h="3715">
                  <a:moveTo>
                    <a:pt x="1731" y="3714"/>
                  </a:moveTo>
                  <a:lnTo>
                    <a:pt x="0" y="3714"/>
                  </a:lnTo>
                  <a:lnTo>
                    <a:pt x="0" y="612"/>
                  </a:lnTo>
                  <a:lnTo>
                    <a:pt x="286" y="404"/>
                  </a:lnTo>
                  <a:lnTo>
                    <a:pt x="312" y="248"/>
                  </a:lnTo>
                  <a:lnTo>
                    <a:pt x="599" y="143"/>
                  </a:lnTo>
                  <a:lnTo>
                    <a:pt x="599" y="0"/>
                  </a:lnTo>
                  <a:lnTo>
                    <a:pt x="741" y="130"/>
                  </a:lnTo>
                  <a:lnTo>
                    <a:pt x="833" y="130"/>
                  </a:lnTo>
                  <a:lnTo>
                    <a:pt x="1028" y="26"/>
                  </a:lnTo>
                  <a:lnTo>
                    <a:pt x="1731" y="3700"/>
                  </a:lnTo>
                  <a:lnTo>
                    <a:pt x="1731" y="3714"/>
                  </a:lnTo>
                  <a:lnTo>
                    <a:pt x="1731" y="3714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2750760" y="990720"/>
              <a:ext cx="1258920" cy="6386400"/>
            </a:xfrm>
            <a:prstGeom prst="line">
              <a:avLst/>
            </a:prstGeom>
            <a:ln w="31680">
              <a:solidFill>
                <a:srgbClr val="4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2836440" y="2435400"/>
            <a:ext cx="3405600" cy="1099800"/>
            <a:chOff x="2836440" y="2435400"/>
            <a:chExt cx="3405600" cy="1099800"/>
          </a:xfrm>
        </p:grpSpPr>
        <p:sp>
          <p:nvSpPr>
            <p:cNvPr id="646" name=""/>
            <p:cNvSpPr/>
            <p:nvPr/>
          </p:nvSpPr>
          <p:spPr>
            <a:xfrm>
              <a:off x="3724200" y="2435400"/>
              <a:ext cx="251784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2300" spc="-1" strike="noStrike">
                  <a:solidFill>
                    <a:srgbClr val="000080"/>
                  </a:solidFill>
                  <a:latin typeface="Times New Roman"/>
                </a:rPr>
                <a:t>puntos que satisfacen la restricción 3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2836440" y="3132000"/>
              <a:ext cx="803160" cy="403200"/>
            </a:xfrm>
            <a:prstGeom prst="line">
              <a:avLst/>
            </a:prstGeom>
            <a:ln w="316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619200" y="2031840"/>
            <a:ext cx="447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229600" y="6921360"/>
            <a:ext cx="4478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523880" y="6095880"/>
            <a:ext cx="533412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5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i="1" lang="en-US" sz="4500" spc="-1" strike="noStrike">
                <a:solidFill>
                  <a:srgbClr val="008000"/>
                </a:solidFill>
                <a:latin typeface="Times New Roman"/>
              </a:rPr>
              <a:t>y</a:t>
            </a:r>
            <a:r>
              <a:rPr b="1" lang="en-US" sz="45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1" i="1" lang="en-US" sz="4500" spc="-1" strike="noStrike">
                <a:solidFill>
                  <a:srgbClr val="008000"/>
                </a:solidFill>
                <a:latin typeface="Times New Roman"/>
              </a:rPr>
              <a:t> a</a:t>
            </a:r>
            <a:r>
              <a:rPr b="1" lang="en-US" sz="4500" spc="-1" strike="noStrike" baseline="-25000">
                <a:solidFill>
                  <a:srgbClr val="008000"/>
                </a:solidFill>
                <a:latin typeface="Times New Roman"/>
              </a:rPr>
              <a:t>13</a:t>
            </a:r>
            <a:r>
              <a:rPr b="1" i="1" lang="en-US" sz="4500" spc="-1" strike="noStrike">
                <a:solidFill>
                  <a:srgbClr val="008000"/>
                </a:solidFill>
                <a:latin typeface="Times New Roman"/>
              </a:rPr>
              <a:t>  +  y</a:t>
            </a:r>
            <a:r>
              <a:rPr b="1" lang="en-US" sz="4500" spc="-1" strike="noStrike" baseline="-25000">
                <a:solidFill>
                  <a:srgbClr val="008000"/>
                </a:solidFill>
                <a:latin typeface="Times New Roman"/>
              </a:rPr>
              <a:t>2</a:t>
            </a:r>
            <a:r>
              <a:rPr b="1" i="1" lang="en-US" sz="4500" spc="-1" strike="noStrike">
                <a:solidFill>
                  <a:srgbClr val="008000"/>
                </a:solidFill>
                <a:latin typeface="Times New Roman"/>
              </a:rPr>
              <a:t> a</a:t>
            </a:r>
            <a:r>
              <a:rPr b="1" lang="en-US" sz="4500" spc="-1" strike="noStrike" baseline="-25000">
                <a:solidFill>
                  <a:srgbClr val="008000"/>
                </a:solidFill>
                <a:latin typeface="Times New Roman"/>
              </a:rPr>
              <a:t>23</a:t>
            </a:r>
            <a:r>
              <a:rPr b="1" i="1" lang="en-US" sz="4500" spc="-1" strike="noStrike">
                <a:solidFill>
                  <a:srgbClr val="008000"/>
                </a:solidFill>
                <a:latin typeface="Times New Roman"/>
              </a:rPr>
              <a:t>  ≤ R</a:t>
            </a:r>
            <a:r>
              <a:rPr b="1" lang="en-US" sz="4500" spc="-1" strike="noStrike" baseline="-25000">
                <a:solidFill>
                  <a:srgbClr val="008000"/>
                </a:solidFill>
                <a:latin typeface="Times New Roman"/>
              </a:rPr>
              <a:t>3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04800" y="609480"/>
            <a:ext cx="94536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Adicione la restricción 4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1182600" y="4511520"/>
            <a:ext cx="6180120" cy="2909880"/>
            <a:chOff x="1182600" y="4511520"/>
            <a:chExt cx="6180120" cy="2909880"/>
          </a:xfrm>
        </p:grpSpPr>
        <p:sp>
          <p:nvSpPr>
            <p:cNvPr id="653" name=""/>
            <p:cNvSpPr/>
            <p:nvPr/>
          </p:nvSpPr>
          <p:spPr>
            <a:xfrm>
              <a:off x="1182600" y="4511520"/>
              <a:ext cx="6180120" cy="2909880"/>
            </a:xfrm>
            <a:custGeom>
              <a:avLst/>
              <a:gdLst/>
              <a:ahLst/>
              <a:rect l="l" t="t" r="r" b="b"/>
              <a:pathLst>
                <a:path w="3893" h="1833">
                  <a:moveTo>
                    <a:pt x="0" y="0"/>
                  </a:moveTo>
                  <a:lnTo>
                    <a:pt x="12" y="1832"/>
                  </a:lnTo>
                  <a:lnTo>
                    <a:pt x="3127" y="1826"/>
                  </a:lnTo>
                  <a:lnTo>
                    <a:pt x="3593" y="1516"/>
                  </a:lnTo>
                  <a:lnTo>
                    <a:pt x="3892" y="1450"/>
                  </a:lnTo>
                  <a:lnTo>
                    <a:pt x="3762" y="1125"/>
                  </a:lnTo>
                  <a:lnTo>
                    <a:pt x="3671" y="994"/>
                  </a:lnTo>
                  <a:lnTo>
                    <a:pt x="3684" y="903"/>
                  </a:lnTo>
                  <a:lnTo>
                    <a:pt x="3043" y="643"/>
                  </a:lnTo>
                  <a:lnTo>
                    <a:pt x="3173" y="590"/>
                  </a:lnTo>
                  <a:lnTo>
                    <a:pt x="3153" y="59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85840" y="4556160"/>
              <a:ext cx="5411880" cy="955800"/>
            </a:xfrm>
            <a:prstGeom prst="line">
              <a:avLst/>
            </a:prstGeom>
            <a:ln w="31680">
              <a:solidFill>
                <a:srgbClr val="8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193760" y="4546440"/>
              <a:ext cx="2787840" cy="2846520"/>
            </a:xfrm>
            <a:custGeom>
              <a:avLst/>
              <a:gdLst/>
              <a:ahLst/>
              <a:rect l="l" t="t" r="r" b="b"/>
              <a:pathLst>
                <a:path w="1756" h="1793">
                  <a:moveTo>
                    <a:pt x="1755" y="1792"/>
                  </a:moveTo>
                  <a:lnTo>
                    <a:pt x="1755" y="1792"/>
                  </a:lnTo>
                  <a:lnTo>
                    <a:pt x="0" y="1792"/>
                  </a:lnTo>
                  <a:lnTo>
                    <a:pt x="4" y="0"/>
                  </a:lnTo>
                  <a:lnTo>
                    <a:pt x="858" y="136"/>
                  </a:lnTo>
                  <a:lnTo>
                    <a:pt x="1439" y="258"/>
                  </a:lnTo>
                  <a:lnTo>
                    <a:pt x="1755" y="1792"/>
                  </a:lnTo>
                  <a:lnTo>
                    <a:pt x="1755" y="1792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1676520" y="6248520"/>
            <a:ext cx="533376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5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i="1" lang="en-US" sz="4500" spc="-1" strike="noStrike">
                <a:solidFill>
                  <a:srgbClr val="008000"/>
                </a:solidFill>
                <a:latin typeface="Times New Roman"/>
              </a:rPr>
              <a:t>y</a:t>
            </a:r>
            <a:r>
              <a:rPr b="1" lang="en-US" sz="45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1" i="1" lang="en-US" sz="4500" spc="-1" strike="noStrike">
                <a:solidFill>
                  <a:srgbClr val="008000"/>
                </a:solidFill>
                <a:latin typeface="Times New Roman"/>
              </a:rPr>
              <a:t> a</a:t>
            </a:r>
            <a:r>
              <a:rPr b="1" lang="en-US" sz="4500" spc="-1" strike="noStrike" baseline="-25000">
                <a:solidFill>
                  <a:srgbClr val="008000"/>
                </a:solidFill>
                <a:latin typeface="Times New Roman"/>
              </a:rPr>
              <a:t>14</a:t>
            </a:r>
            <a:r>
              <a:rPr b="1" i="1" lang="en-US" sz="4500" spc="-1" strike="noStrike">
                <a:solidFill>
                  <a:srgbClr val="008000"/>
                </a:solidFill>
                <a:latin typeface="Times New Roman"/>
              </a:rPr>
              <a:t>  +  y</a:t>
            </a:r>
            <a:r>
              <a:rPr b="1" lang="en-US" sz="4500" spc="-1" strike="noStrike" baseline="-25000">
                <a:solidFill>
                  <a:srgbClr val="008000"/>
                </a:solidFill>
                <a:latin typeface="Times New Roman"/>
              </a:rPr>
              <a:t>2</a:t>
            </a:r>
            <a:r>
              <a:rPr b="1" i="1" lang="en-US" sz="4500" spc="-1" strike="noStrike">
                <a:solidFill>
                  <a:srgbClr val="008000"/>
                </a:solidFill>
                <a:latin typeface="Times New Roman"/>
              </a:rPr>
              <a:t> a</a:t>
            </a:r>
            <a:r>
              <a:rPr b="1" lang="en-US" sz="4500" spc="-1" strike="noStrike" baseline="-25000">
                <a:solidFill>
                  <a:srgbClr val="008000"/>
                </a:solidFill>
                <a:latin typeface="Times New Roman"/>
              </a:rPr>
              <a:t>24</a:t>
            </a:r>
            <a:r>
              <a:rPr b="1" i="1" lang="en-US" sz="45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4500" spc="-1" strike="noStrike">
                <a:solidFill>
                  <a:srgbClr val="008000"/>
                </a:solidFill>
                <a:latin typeface="Symbol"/>
                <a:ea typeface="Symbol"/>
              </a:rPr>
              <a:t></a:t>
            </a:r>
            <a:r>
              <a:rPr b="1" i="1" lang="en-US" sz="4500" spc="-1" strike="noStrike">
                <a:solidFill>
                  <a:srgbClr val="008000"/>
                </a:solidFill>
                <a:latin typeface="Times New Roman"/>
              </a:rPr>
              <a:t> R</a:t>
            </a:r>
            <a:r>
              <a:rPr b="1" lang="en-US" sz="4500" spc="-1" strike="noStrike" baseline="-25000">
                <a:solidFill>
                  <a:srgbClr val="008000"/>
                </a:solidFill>
                <a:latin typeface="Times New Roman"/>
              </a:rPr>
              <a:t>4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770000" y="3530520"/>
            <a:ext cx="3105720" cy="1855800"/>
            <a:chOff x="4770000" y="3530520"/>
            <a:chExt cx="3105720" cy="1855800"/>
          </a:xfrm>
        </p:grpSpPr>
        <p:sp>
          <p:nvSpPr>
            <p:cNvPr id="658" name=""/>
            <p:cNvSpPr/>
            <p:nvPr/>
          </p:nvSpPr>
          <p:spPr>
            <a:xfrm>
              <a:off x="5356080" y="3530520"/>
              <a:ext cx="2519640" cy="10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2300" spc="-1" strike="noStrike">
                  <a:solidFill>
                    <a:srgbClr val="000080"/>
                  </a:solidFill>
                  <a:latin typeface="Times New Roman"/>
                </a:rPr>
                <a:t>puntos que satisfacen la restricción  4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4770000" y="4267080"/>
              <a:ext cx="639720" cy="1119240"/>
            </a:xfrm>
            <a:prstGeom prst="line">
              <a:avLst/>
            </a:prstGeom>
            <a:ln w="316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1182600" y="3860640"/>
            <a:ext cx="5399280" cy="3538800"/>
            <a:chOff x="1182600" y="3860640"/>
            <a:chExt cx="5399280" cy="3538800"/>
          </a:xfrm>
        </p:grpSpPr>
        <p:sp>
          <p:nvSpPr>
            <p:cNvPr id="661" name=""/>
            <p:cNvSpPr/>
            <p:nvPr/>
          </p:nvSpPr>
          <p:spPr>
            <a:xfrm>
              <a:off x="1182600" y="3860640"/>
              <a:ext cx="5399280" cy="3538800"/>
            </a:xfrm>
            <a:custGeom>
              <a:avLst/>
              <a:gdLst/>
              <a:ahLst/>
              <a:rect l="l" t="t" r="r" b="b"/>
              <a:pathLst>
                <a:path w="3401" h="2229">
                  <a:moveTo>
                    <a:pt x="0" y="0"/>
                  </a:moveTo>
                  <a:lnTo>
                    <a:pt x="0" y="2228"/>
                  </a:lnTo>
                  <a:lnTo>
                    <a:pt x="3400" y="2228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19080">
              <a:solidFill>
                <a:srgbClr val="ff8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193760" y="4559400"/>
              <a:ext cx="2787840" cy="2833560"/>
            </a:xfrm>
            <a:custGeom>
              <a:avLst/>
              <a:gdLst/>
              <a:ahLst/>
              <a:rect l="l" t="t" r="r" b="b"/>
              <a:pathLst>
                <a:path w="1756" h="1785">
                  <a:moveTo>
                    <a:pt x="1755" y="1784"/>
                  </a:moveTo>
                  <a:lnTo>
                    <a:pt x="1755" y="1784"/>
                  </a:lnTo>
                  <a:lnTo>
                    <a:pt x="0" y="1784"/>
                  </a:lnTo>
                  <a:lnTo>
                    <a:pt x="3" y="0"/>
                  </a:lnTo>
                  <a:lnTo>
                    <a:pt x="888" y="154"/>
                  </a:lnTo>
                  <a:lnTo>
                    <a:pt x="1510" y="562"/>
                  </a:lnTo>
                  <a:lnTo>
                    <a:pt x="1755" y="1784"/>
                  </a:lnTo>
                  <a:lnTo>
                    <a:pt x="1755" y="1784"/>
                  </a:lnTo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ffffc2"/>
                </a:gs>
              </a:gsLst>
              <a:lin ang="8100000"/>
            </a:gra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 flipV="1">
              <a:off x="1193760" y="3863880"/>
              <a:ext cx="5089680" cy="3340080"/>
            </a:xfrm>
            <a:prstGeom prst="line">
              <a:avLst/>
            </a:prstGeom>
            <a:ln w="3168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 flipV="1">
            <a:off x="1187280" y="1944360"/>
            <a:ext cx="0" cy="5452920"/>
          </a:xfrm>
          <a:prstGeom prst="line">
            <a:avLst/>
          </a:prstGeom>
          <a:ln w="442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192320" y="7399440"/>
            <a:ext cx="6808680" cy="0"/>
          </a:xfrm>
          <a:prstGeom prst="line">
            <a:avLst/>
          </a:prstGeom>
          <a:ln w="442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04800" y="533520"/>
            <a:ext cx="94536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Todas las restricciones de recurso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5486040" y="5715000"/>
            <a:ext cx="3337200" cy="1054080"/>
            <a:chOff x="5486040" y="5715000"/>
            <a:chExt cx="3337200" cy="1054080"/>
          </a:xfrm>
        </p:grpSpPr>
        <p:sp>
          <p:nvSpPr>
            <p:cNvPr id="668" name=""/>
            <p:cNvSpPr/>
            <p:nvPr/>
          </p:nvSpPr>
          <p:spPr>
            <a:xfrm>
              <a:off x="6305760" y="5715000"/>
              <a:ext cx="251748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2300" spc="-1" strike="noStrike">
                  <a:solidFill>
                    <a:srgbClr val="000080"/>
                  </a:solidFill>
                  <a:latin typeface="Times New Roman"/>
                </a:rPr>
                <a:t>puntos que satisfacen la restricción  5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5486040" y="6364080"/>
              <a:ext cx="654120" cy="358920"/>
            </a:xfrm>
            <a:prstGeom prst="line">
              <a:avLst/>
            </a:prstGeom>
            <a:ln w="316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2057400" y="6172200"/>
            <a:ext cx="533412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5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i="1" lang="en-US" sz="4500" spc="-1" strike="noStrike">
                <a:solidFill>
                  <a:srgbClr val="008000"/>
                </a:solidFill>
                <a:latin typeface="Times New Roman"/>
              </a:rPr>
              <a:t>y</a:t>
            </a:r>
            <a:r>
              <a:rPr b="1" lang="en-US" sz="45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1" i="1" lang="en-US" sz="4500" spc="-1" strike="noStrike">
                <a:solidFill>
                  <a:srgbClr val="008000"/>
                </a:solidFill>
                <a:latin typeface="Times New Roman"/>
              </a:rPr>
              <a:t> a</a:t>
            </a:r>
            <a:r>
              <a:rPr b="1" lang="en-US" sz="4500" spc="-1" strike="noStrike" baseline="-25000">
                <a:solidFill>
                  <a:srgbClr val="008000"/>
                </a:solidFill>
                <a:latin typeface="Times New Roman"/>
              </a:rPr>
              <a:t>15</a:t>
            </a:r>
            <a:r>
              <a:rPr b="1" i="1" lang="en-US" sz="4500" spc="-1" strike="noStrike">
                <a:solidFill>
                  <a:srgbClr val="008000"/>
                </a:solidFill>
                <a:latin typeface="Times New Roman"/>
              </a:rPr>
              <a:t>  +  y</a:t>
            </a:r>
            <a:r>
              <a:rPr b="1" lang="en-US" sz="4500" spc="-1" strike="noStrike" baseline="-25000">
                <a:solidFill>
                  <a:srgbClr val="008000"/>
                </a:solidFill>
                <a:latin typeface="Times New Roman"/>
              </a:rPr>
              <a:t>2</a:t>
            </a:r>
            <a:r>
              <a:rPr b="1" i="1" lang="en-US" sz="4500" spc="-1" strike="noStrike">
                <a:solidFill>
                  <a:srgbClr val="008000"/>
                </a:solidFill>
                <a:latin typeface="Times New Roman"/>
              </a:rPr>
              <a:t> a</a:t>
            </a:r>
            <a:r>
              <a:rPr b="1" lang="en-US" sz="4500" spc="-1" strike="noStrike" baseline="-25000">
                <a:solidFill>
                  <a:srgbClr val="008000"/>
                </a:solidFill>
                <a:latin typeface="Times New Roman"/>
              </a:rPr>
              <a:t>25</a:t>
            </a:r>
            <a:r>
              <a:rPr b="1" i="1" lang="en-US" sz="45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en-US" sz="4500" spc="-1" strike="noStrike">
                <a:solidFill>
                  <a:srgbClr val="008000"/>
                </a:solidFill>
                <a:latin typeface="Symbol"/>
                <a:ea typeface="Symbol"/>
              </a:rPr>
              <a:t></a:t>
            </a:r>
            <a:r>
              <a:rPr b="1" i="1" lang="en-US" sz="4500" spc="-1" strike="noStrike">
                <a:solidFill>
                  <a:srgbClr val="008000"/>
                </a:solidFill>
                <a:latin typeface="Times New Roman"/>
              </a:rPr>
              <a:t>R</a:t>
            </a:r>
            <a:r>
              <a:rPr b="1" lang="en-US" sz="4500" spc="-1" strike="noStrike" baseline="-25000">
                <a:solidFill>
                  <a:srgbClr val="008000"/>
                </a:solidFill>
                <a:latin typeface="Times New Roman"/>
              </a:rPr>
              <a:t>5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.y obtenemos el conjunto factible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193760" y="4511520"/>
            <a:ext cx="2787840" cy="2881440"/>
          </a:xfrm>
          <a:custGeom>
            <a:avLst/>
            <a:gdLst/>
            <a:ahLst/>
            <a:rect l="l" t="t" r="r" b="b"/>
            <a:pathLst>
              <a:path w="1756" h="1815">
                <a:moveTo>
                  <a:pt x="1755" y="1814"/>
                </a:moveTo>
                <a:lnTo>
                  <a:pt x="1755" y="1814"/>
                </a:lnTo>
                <a:lnTo>
                  <a:pt x="0" y="1814"/>
                </a:lnTo>
                <a:lnTo>
                  <a:pt x="0" y="0"/>
                </a:lnTo>
                <a:lnTo>
                  <a:pt x="858" y="158"/>
                </a:lnTo>
                <a:lnTo>
                  <a:pt x="1504" y="591"/>
                </a:lnTo>
                <a:lnTo>
                  <a:pt x="1755" y="1814"/>
                </a:lnTo>
                <a:lnTo>
                  <a:pt x="1755" y="1814"/>
                </a:lnTo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ffffc2"/>
              </a:gs>
            </a:gsLst>
            <a:lin ang="8100000"/>
          </a:gra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1187280" y="1944360"/>
            <a:ext cx="0" cy="545292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192320" y="7399440"/>
            <a:ext cx="6808680" cy="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19200" y="2031840"/>
            <a:ext cx="250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95240" y="2487600"/>
            <a:ext cx="184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8236080" y="6980400"/>
            <a:ext cx="360360" cy="814320"/>
            <a:chOff x="8236080" y="6980400"/>
            <a:chExt cx="360360" cy="814320"/>
          </a:xfrm>
        </p:grpSpPr>
        <p:sp>
          <p:nvSpPr>
            <p:cNvPr id="678" name=""/>
            <p:cNvSpPr/>
            <p:nvPr/>
          </p:nvSpPr>
          <p:spPr>
            <a:xfrm>
              <a:off x="8236080" y="6980400"/>
              <a:ext cx="25056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412120" y="7435800"/>
              <a:ext cx="1843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1219320" y="4495680"/>
            <a:ext cx="2786040" cy="2880000"/>
          </a:xfrm>
          <a:custGeom>
            <a:avLst/>
            <a:gdLst/>
            <a:ahLst/>
            <a:rect l="l" t="t" r="r" b="b"/>
            <a:pathLst>
              <a:path w="1755" h="1814">
                <a:moveTo>
                  <a:pt x="0" y="0"/>
                </a:moveTo>
                <a:lnTo>
                  <a:pt x="858" y="158"/>
                </a:lnTo>
                <a:lnTo>
                  <a:pt x="1504" y="591"/>
                </a:lnTo>
                <a:lnTo>
                  <a:pt x="1755" y="1814"/>
                </a:lnTo>
                <a:lnTo>
                  <a:pt x="1755" y="1814"/>
                </a:lnTo>
              </a:path>
            </a:pathLst>
          </a:custGeom>
          <a:noFill/>
          <a:ln w="88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448080" y="3859560"/>
            <a:ext cx="2571840" cy="891000"/>
          </a:xfrm>
          <a:prstGeom prst="wedgeRoundRectCallout">
            <a:avLst>
              <a:gd name="adj1" fmla="val -46305"/>
              <a:gd name="adj2" fmla="val 79680"/>
              <a:gd name="adj3" fmla="val 16667"/>
            </a:avLst>
          </a:prstGeom>
          <a:solidFill>
            <a:srgbClr val="ffff99"/>
          </a:solidFill>
          <a:ln w="381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 curva de trans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4984920" y="2581200"/>
            <a:ext cx="4940280" cy="4535640"/>
            <a:chOff x="4984920" y="2581200"/>
            <a:chExt cx="4940280" cy="4535640"/>
          </a:xfrm>
        </p:grpSpPr>
        <p:sp>
          <p:nvSpPr>
            <p:cNvPr id="683" name=""/>
            <p:cNvSpPr/>
            <p:nvPr/>
          </p:nvSpPr>
          <p:spPr>
            <a:xfrm>
              <a:off x="4984920" y="2581200"/>
              <a:ext cx="4940280" cy="4535640"/>
            </a:xfrm>
            <a:custGeom>
              <a:avLst/>
              <a:gdLst/>
              <a:ahLst/>
              <a:rect l="l" t="t" r="r" b="b"/>
              <a:pathLst>
                <a:path w="3112" h="2857">
                  <a:moveTo>
                    <a:pt x="3111" y="1401"/>
                  </a:moveTo>
                  <a:lnTo>
                    <a:pt x="3111" y="1401"/>
                  </a:lnTo>
                  <a:lnTo>
                    <a:pt x="1278" y="0"/>
                  </a:lnTo>
                  <a:lnTo>
                    <a:pt x="1493" y="700"/>
                  </a:lnTo>
                  <a:lnTo>
                    <a:pt x="0" y="700"/>
                  </a:lnTo>
                  <a:lnTo>
                    <a:pt x="0" y="2201"/>
                  </a:lnTo>
                  <a:lnTo>
                    <a:pt x="1493" y="2201"/>
                  </a:lnTo>
                  <a:lnTo>
                    <a:pt x="1278" y="2856"/>
                  </a:lnTo>
                  <a:lnTo>
                    <a:pt x="3111" y="1401"/>
                  </a:lnTo>
                  <a:lnTo>
                    <a:pt x="3111" y="1401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308560" y="3949560"/>
              <a:ext cx="3844800" cy="18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3100" spc="-1" strike="noStrike">
                  <a:solidFill>
                    <a:srgbClr val="ffffff"/>
                  </a:solidFill>
                  <a:latin typeface="Times New Roman"/>
                </a:rPr>
                <a:t>...¿pero como se comportará esta región ante cambios en los recursos...?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1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070840" y="4498920"/>
            <a:ext cx="1962000" cy="1981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Exceso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4498920"/>
            <a:ext cx="2438640" cy="1981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Decentralización y comerci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38480" y="4498920"/>
            <a:ext cx="1962360" cy="1981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Economía multi perso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Panorámica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7640" y="2254320"/>
            <a:ext cx="8570880" cy="48942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53040" y="2421000"/>
            <a:ext cx="203652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304920" y="4495680"/>
            <a:ext cx="1962360" cy="19814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El problema de Robinson Cruso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153280" y="4495680"/>
            <a:ext cx="1905120" cy="198144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Exceso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4495680"/>
            <a:ext cx="1962000" cy="198144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Economía multi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perso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495680"/>
            <a:ext cx="2342880" cy="198144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Decentralización y comerci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84560" y="5257800"/>
            <a:ext cx="19429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38480" y="2325600"/>
            <a:ext cx="2362320" cy="1198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44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Equilibrio Gener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09480" y="3505320"/>
            <a:ext cx="9104400" cy="947520"/>
            <a:chOff x="609480" y="3505320"/>
            <a:chExt cx="9104400" cy="947520"/>
          </a:xfrm>
        </p:grpSpPr>
        <p:sp>
          <p:nvSpPr>
            <p:cNvPr id="98" name=""/>
            <p:cNvSpPr/>
            <p:nvPr/>
          </p:nvSpPr>
          <p:spPr>
            <a:xfrm>
              <a:off x="5145120" y="3505320"/>
              <a:ext cx="1440" cy="511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9480" y="4016520"/>
              <a:ext cx="1800" cy="436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79640" y="4016520"/>
              <a:ext cx="1800" cy="436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48360" y="4016520"/>
              <a:ext cx="1440" cy="436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18520" y="4016520"/>
              <a:ext cx="1440" cy="436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9480" y="401652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79640" y="4016520"/>
              <a:ext cx="1150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30560" y="4016520"/>
              <a:ext cx="1117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48360" y="401652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712440" y="4008600"/>
              <a:ext cx="1440" cy="436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42280" y="400860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6089760" y="4498920"/>
            <a:ext cx="1962000" cy="1981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¿Porqué tomadores de precio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5880" y="4495680"/>
            <a:ext cx="1962360" cy="198144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¿Porqué tomadores de precio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304920" y="4191120"/>
            <a:ext cx="2895840" cy="2573280"/>
          </a:xfrm>
          <a:custGeom>
            <a:avLst/>
            <a:gdLst/>
            <a:ahLst/>
            <a:rect l="l" t="t" r="r" b="b"/>
            <a:pathLst>
              <a:path w="2059" h="1756">
                <a:moveTo>
                  <a:pt x="175" y="390"/>
                </a:moveTo>
                <a:lnTo>
                  <a:pt x="82" y="536"/>
                </a:lnTo>
                <a:lnTo>
                  <a:pt x="25" y="681"/>
                </a:lnTo>
                <a:lnTo>
                  <a:pt x="0" y="827"/>
                </a:lnTo>
                <a:lnTo>
                  <a:pt x="5" y="969"/>
                </a:lnTo>
                <a:lnTo>
                  <a:pt x="36" y="1107"/>
                </a:lnTo>
                <a:lnTo>
                  <a:pt x="94" y="1236"/>
                </a:lnTo>
                <a:lnTo>
                  <a:pt x="174" y="1356"/>
                </a:lnTo>
                <a:lnTo>
                  <a:pt x="275" y="1464"/>
                </a:lnTo>
                <a:lnTo>
                  <a:pt x="392" y="1560"/>
                </a:lnTo>
                <a:lnTo>
                  <a:pt x="526" y="1638"/>
                </a:lnTo>
                <a:lnTo>
                  <a:pt x="673" y="1699"/>
                </a:lnTo>
                <a:lnTo>
                  <a:pt x="831" y="1737"/>
                </a:lnTo>
                <a:lnTo>
                  <a:pt x="997" y="1755"/>
                </a:lnTo>
                <a:lnTo>
                  <a:pt x="1169" y="1746"/>
                </a:lnTo>
                <a:lnTo>
                  <a:pt x="1344" y="1711"/>
                </a:lnTo>
                <a:lnTo>
                  <a:pt x="1522" y="1645"/>
                </a:lnTo>
                <a:lnTo>
                  <a:pt x="1682" y="1555"/>
                </a:lnTo>
                <a:lnTo>
                  <a:pt x="1813" y="1449"/>
                </a:lnTo>
                <a:lnTo>
                  <a:pt x="1915" y="1331"/>
                </a:lnTo>
                <a:lnTo>
                  <a:pt x="1990" y="1203"/>
                </a:lnTo>
                <a:lnTo>
                  <a:pt x="2036" y="1069"/>
                </a:lnTo>
                <a:lnTo>
                  <a:pt x="2058" y="931"/>
                </a:lnTo>
                <a:lnTo>
                  <a:pt x="2053" y="793"/>
                </a:lnTo>
                <a:lnTo>
                  <a:pt x="2025" y="655"/>
                </a:lnTo>
                <a:lnTo>
                  <a:pt x="1972" y="525"/>
                </a:lnTo>
                <a:lnTo>
                  <a:pt x="1897" y="401"/>
                </a:lnTo>
                <a:lnTo>
                  <a:pt x="1800" y="290"/>
                </a:lnTo>
                <a:lnTo>
                  <a:pt x="1684" y="192"/>
                </a:lnTo>
                <a:lnTo>
                  <a:pt x="1545" y="112"/>
                </a:lnTo>
                <a:lnTo>
                  <a:pt x="1389" y="51"/>
                </a:lnTo>
                <a:lnTo>
                  <a:pt x="1214" y="13"/>
                </a:lnTo>
                <a:lnTo>
                  <a:pt x="1022" y="0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1204920" y="1498680"/>
            <a:ext cx="2749680" cy="5897520"/>
          </a:xfrm>
          <a:custGeom>
            <a:avLst/>
            <a:gdLst/>
            <a:ahLst/>
            <a:rect l="l" t="t" r="r" b="b"/>
            <a:pathLst>
              <a:path w="1732" h="3715">
                <a:moveTo>
                  <a:pt x="1731" y="3714"/>
                </a:moveTo>
                <a:lnTo>
                  <a:pt x="0" y="3714"/>
                </a:lnTo>
                <a:lnTo>
                  <a:pt x="0" y="612"/>
                </a:lnTo>
                <a:lnTo>
                  <a:pt x="286" y="404"/>
                </a:lnTo>
                <a:lnTo>
                  <a:pt x="312" y="248"/>
                </a:lnTo>
                <a:lnTo>
                  <a:pt x="599" y="143"/>
                </a:lnTo>
                <a:lnTo>
                  <a:pt x="599" y="0"/>
                </a:lnTo>
                <a:lnTo>
                  <a:pt x="741" y="130"/>
                </a:lnTo>
                <a:lnTo>
                  <a:pt x="833" y="130"/>
                </a:lnTo>
                <a:lnTo>
                  <a:pt x="1028" y="26"/>
                </a:lnTo>
                <a:lnTo>
                  <a:pt x="1731" y="3700"/>
                </a:lnTo>
                <a:lnTo>
                  <a:pt x="1731" y="3714"/>
                </a:lnTo>
                <a:lnTo>
                  <a:pt x="1731" y="3714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182600" y="3860640"/>
            <a:ext cx="5399280" cy="3538800"/>
          </a:xfrm>
          <a:custGeom>
            <a:avLst/>
            <a:gdLst/>
            <a:ahLst/>
            <a:rect l="l" t="t" r="r" b="b"/>
            <a:pathLst>
              <a:path w="3401" h="2229">
                <a:moveTo>
                  <a:pt x="0" y="0"/>
                </a:moveTo>
                <a:lnTo>
                  <a:pt x="0" y="2228"/>
                </a:lnTo>
                <a:lnTo>
                  <a:pt x="3400" y="2228"/>
                </a:lnTo>
                <a:lnTo>
                  <a:pt x="6" y="6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ff8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182600" y="4511520"/>
            <a:ext cx="5038920" cy="2909880"/>
          </a:xfrm>
          <a:custGeom>
            <a:avLst/>
            <a:gdLst/>
            <a:ahLst/>
            <a:rect l="l" t="t" r="r" b="b"/>
            <a:pathLst>
              <a:path w="3174" h="1833">
                <a:moveTo>
                  <a:pt x="0" y="0"/>
                </a:moveTo>
                <a:lnTo>
                  <a:pt x="12" y="1832"/>
                </a:lnTo>
                <a:lnTo>
                  <a:pt x="3127" y="1826"/>
                </a:lnTo>
                <a:lnTo>
                  <a:pt x="2841" y="1253"/>
                </a:lnTo>
                <a:lnTo>
                  <a:pt x="2913" y="1039"/>
                </a:lnTo>
                <a:lnTo>
                  <a:pt x="2900" y="870"/>
                </a:lnTo>
                <a:lnTo>
                  <a:pt x="2927" y="870"/>
                </a:lnTo>
                <a:lnTo>
                  <a:pt x="2933" y="870"/>
                </a:lnTo>
                <a:lnTo>
                  <a:pt x="3004" y="870"/>
                </a:lnTo>
                <a:lnTo>
                  <a:pt x="3011" y="727"/>
                </a:lnTo>
                <a:lnTo>
                  <a:pt x="3043" y="643"/>
                </a:lnTo>
                <a:lnTo>
                  <a:pt x="3173" y="590"/>
                </a:lnTo>
                <a:lnTo>
                  <a:pt x="3153" y="59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2717280" y="982800"/>
            <a:ext cx="1257480" cy="6386400"/>
          </a:xfrm>
          <a:prstGeom prst="line">
            <a:avLst/>
          </a:prstGeom>
          <a:ln w="1908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/>
          </p:nvPr>
        </p:nvSpPr>
        <p:spPr>
          <a:xfrm>
            <a:off x="0" y="76320"/>
            <a:ext cx="10058400" cy="13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Imagine que encontramo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más del recurso 3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193760" y="4548240"/>
            <a:ext cx="2787840" cy="2844720"/>
          </a:xfrm>
          <a:custGeom>
            <a:avLst/>
            <a:gdLst/>
            <a:ahLst/>
            <a:rect l="l" t="t" r="r" b="b"/>
            <a:pathLst>
              <a:path w="1756" h="1792">
                <a:moveTo>
                  <a:pt x="1755" y="1791"/>
                </a:moveTo>
                <a:lnTo>
                  <a:pt x="1755" y="1791"/>
                </a:lnTo>
                <a:lnTo>
                  <a:pt x="0" y="1791"/>
                </a:lnTo>
                <a:lnTo>
                  <a:pt x="5" y="0"/>
                </a:lnTo>
                <a:lnTo>
                  <a:pt x="882" y="159"/>
                </a:lnTo>
                <a:lnTo>
                  <a:pt x="1504" y="568"/>
                </a:lnTo>
                <a:lnTo>
                  <a:pt x="1755" y="1791"/>
                </a:lnTo>
                <a:lnTo>
                  <a:pt x="1755" y="1791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1187280" y="1944360"/>
            <a:ext cx="0" cy="545292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192320" y="7399440"/>
            <a:ext cx="6808680" cy="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1193760" y="3863880"/>
            <a:ext cx="5089680" cy="3340080"/>
          </a:xfrm>
          <a:prstGeom prst="line">
            <a:avLst/>
          </a:prstGeom>
          <a:ln w="3168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201680" y="4559400"/>
            <a:ext cx="5375160" cy="952560"/>
          </a:xfrm>
          <a:prstGeom prst="line">
            <a:avLst/>
          </a:prstGeom>
          <a:ln w="19080">
            <a:solidFill>
              <a:srgbClr val="8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724200" y="2435400"/>
            <a:ext cx="2517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300" spc="-1" strike="noStrike">
                <a:solidFill>
                  <a:srgbClr val="000080"/>
                </a:solidFill>
                <a:latin typeface="Arial"/>
              </a:rPr>
              <a:t>puntos que satisfacen la restricción 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2836440" y="3132000"/>
            <a:ext cx="803160" cy="403200"/>
          </a:xfrm>
          <a:prstGeom prst="line">
            <a:avLst/>
          </a:prstGeom>
          <a:ln w="316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19200" y="2031840"/>
            <a:ext cx="250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95240" y="2487600"/>
            <a:ext cx="184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8236080" y="6980400"/>
            <a:ext cx="360360" cy="814320"/>
            <a:chOff x="8236080" y="6980400"/>
            <a:chExt cx="360360" cy="814320"/>
          </a:xfrm>
        </p:grpSpPr>
        <p:sp>
          <p:nvSpPr>
            <p:cNvPr id="700" name=""/>
            <p:cNvSpPr/>
            <p:nvPr/>
          </p:nvSpPr>
          <p:spPr>
            <a:xfrm>
              <a:off x="8236080" y="6980400"/>
              <a:ext cx="25056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12120" y="7435800"/>
              <a:ext cx="1843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1182600" y="4511520"/>
            <a:ext cx="5038920" cy="2909880"/>
          </a:xfrm>
          <a:custGeom>
            <a:avLst/>
            <a:gdLst/>
            <a:ahLst/>
            <a:rect l="l" t="t" r="r" b="b"/>
            <a:pathLst>
              <a:path w="3174" h="1833">
                <a:moveTo>
                  <a:pt x="0" y="0"/>
                </a:moveTo>
                <a:lnTo>
                  <a:pt x="12" y="1832"/>
                </a:lnTo>
                <a:lnTo>
                  <a:pt x="3127" y="1826"/>
                </a:lnTo>
                <a:lnTo>
                  <a:pt x="2841" y="1253"/>
                </a:lnTo>
                <a:lnTo>
                  <a:pt x="2913" y="1039"/>
                </a:lnTo>
                <a:lnTo>
                  <a:pt x="2900" y="870"/>
                </a:lnTo>
                <a:lnTo>
                  <a:pt x="2927" y="870"/>
                </a:lnTo>
                <a:lnTo>
                  <a:pt x="2933" y="870"/>
                </a:lnTo>
                <a:lnTo>
                  <a:pt x="3004" y="870"/>
                </a:lnTo>
                <a:lnTo>
                  <a:pt x="3011" y="727"/>
                </a:lnTo>
                <a:lnTo>
                  <a:pt x="3043" y="643"/>
                </a:lnTo>
                <a:lnTo>
                  <a:pt x="3173" y="590"/>
                </a:lnTo>
                <a:lnTo>
                  <a:pt x="3153" y="59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1204920" y="982800"/>
            <a:ext cx="3390840" cy="6413400"/>
            <a:chOff x="1204920" y="982800"/>
            <a:chExt cx="3390840" cy="6413400"/>
          </a:xfrm>
        </p:grpSpPr>
        <p:sp>
          <p:nvSpPr>
            <p:cNvPr id="704" name=""/>
            <p:cNvSpPr/>
            <p:nvPr/>
          </p:nvSpPr>
          <p:spPr>
            <a:xfrm>
              <a:off x="1204920" y="1360440"/>
              <a:ext cx="3359160" cy="6035760"/>
            </a:xfrm>
            <a:custGeom>
              <a:avLst/>
              <a:gdLst/>
              <a:ahLst/>
              <a:rect l="l" t="t" r="r" b="b"/>
              <a:pathLst>
                <a:path w="2116" h="3802">
                  <a:moveTo>
                    <a:pt x="1754" y="3798"/>
                  </a:moveTo>
                  <a:lnTo>
                    <a:pt x="0" y="3801"/>
                  </a:lnTo>
                  <a:lnTo>
                    <a:pt x="0" y="699"/>
                  </a:lnTo>
                  <a:lnTo>
                    <a:pt x="286" y="491"/>
                  </a:lnTo>
                  <a:lnTo>
                    <a:pt x="312" y="335"/>
                  </a:lnTo>
                  <a:lnTo>
                    <a:pt x="599" y="230"/>
                  </a:lnTo>
                  <a:lnTo>
                    <a:pt x="599" y="87"/>
                  </a:lnTo>
                  <a:lnTo>
                    <a:pt x="741" y="217"/>
                  </a:lnTo>
                  <a:lnTo>
                    <a:pt x="833" y="217"/>
                  </a:lnTo>
                  <a:lnTo>
                    <a:pt x="1392" y="0"/>
                  </a:lnTo>
                  <a:lnTo>
                    <a:pt x="2115" y="3790"/>
                  </a:lnTo>
                  <a:lnTo>
                    <a:pt x="1754" y="3798"/>
                  </a:lnTo>
                  <a:lnTo>
                    <a:pt x="1754" y="3798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 flipV="1">
              <a:off x="3338640" y="982800"/>
              <a:ext cx="1257120" cy="6386400"/>
            </a:xfrm>
            <a:prstGeom prst="line">
              <a:avLst/>
            </a:prstGeom>
            <a:ln w="19080">
              <a:solidFill>
                <a:srgbClr val="4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.despues del cambi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182600" y="3860640"/>
            <a:ext cx="5399280" cy="3538800"/>
          </a:xfrm>
          <a:custGeom>
            <a:avLst/>
            <a:gdLst/>
            <a:ahLst/>
            <a:rect l="l" t="t" r="r" b="b"/>
            <a:pathLst>
              <a:path w="3401" h="2229">
                <a:moveTo>
                  <a:pt x="0" y="0"/>
                </a:moveTo>
                <a:lnTo>
                  <a:pt x="0" y="2228"/>
                </a:lnTo>
                <a:lnTo>
                  <a:pt x="3400" y="2228"/>
                </a:lnTo>
                <a:lnTo>
                  <a:pt x="6" y="6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ff8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193760" y="4564080"/>
            <a:ext cx="3398760" cy="2828880"/>
          </a:xfrm>
          <a:custGeom>
            <a:avLst/>
            <a:gdLst/>
            <a:ahLst/>
            <a:rect l="l" t="t" r="r" b="b"/>
            <a:pathLst>
              <a:path w="2141" h="1782">
                <a:moveTo>
                  <a:pt x="2140" y="1772"/>
                </a:moveTo>
                <a:lnTo>
                  <a:pt x="1755" y="1781"/>
                </a:lnTo>
                <a:lnTo>
                  <a:pt x="0" y="1781"/>
                </a:lnTo>
                <a:lnTo>
                  <a:pt x="6" y="0"/>
                </a:lnTo>
                <a:lnTo>
                  <a:pt x="890" y="152"/>
                </a:lnTo>
                <a:lnTo>
                  <a:pt x="1954" y="837"/>
                </a:lnTo>
                <a:lnTo>
                  <a:pt x="2140" y="1772"/>
                </a:lnTo>
                <a:lnTo>
                  <a:pt x="2140" y="1772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1187280" y="1944360"/>
            <a:ext cx="0" cy="545292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192320" y="7399440"/>
            <a:ext cx="6808680" cy="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 flipV="1">
            <a:off x="1193760" y="3863880"/>
            <a:ext cx="5089680" cy="3340080"/>
          </a:xfrm>
          <a:prstGeom prst="line">
            <a:avLst/>
          </a:prstGeom>
          <a:ln w="3168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203480" y="4564080"/>
            <a:ext cx="5373360" cy="947880"/>
          </a:xfrm>
          <a:prstGeom prst="line">
            <a:avLst/>
          </a:prstGeom>
          <a:ln w="19080">
            <a:solidFill>
              <a:srgbClr val="8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3428640" y="2222640"/>
            <a:ext cx="3403800" cy="1100160"/>
            <a:chOff x="3428640" y="2222640"/>
            <a:chExt cx="3403800" cy="1100160"/>
          </a:xfrm>
        </p:grpSpPr>
        <p:sp>
          <p:nvSpPr>
            <p:cNvPr id="714" name=""/>
            <p:cNvSpPr/>
            <p:nvPr/>
          </p:nvSpPr>
          <p:spPr>
            <a:xfrm>
              <a:off x="4314960" y="2222640"/>
              <a:ext cx="2517480" cy="10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2300" spc="-1" strike="noStrike">
                  <a:solidFill>
                    <a:srgbClr val="000080"/>
                  </a:solidFill>
                  <a:latin typeface="Arial"/>
                </a:rPr>
                <a:t>puntos que satisfacen la restricción  3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3428640" y="2919240"/>
              <a:ext cx="803160" cy="403560"/>
            </a:xfrm>
            <a:prstGeom prst="line">
              <a:avLst/>
            </a:prstGeom>
            <a:ln w="316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" name=""/>
          <p:cNvSpPr/>
          <p:nvPr/>
        </p:nvSpPr>
        <p:spPr>
          <a:xfrm>
            <a:off x="619200" y="2031840"/>
            <a:ext cx="250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95240" y="2487600"/>
            <a:ext cx="184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8236080" y="6980400"/>
            <a:ext cx="360360" cy="814320"/>
            <a:chOff x="8236080" y="6980400"/>
            <a:chExt cx="360360" cy="814320"/>
          </a:xfrm>
        </p:grpSpPr>
        <p:sp>
          <p:nvSpPr>
            <p:cNvPr id="719" name=""/>
            <p:cNvSpPr/>
            <p:nvPr/>
          </p:nvSpPr>
          <p:spPr>
            <a:xfrm>
              <a:off x="8236080" y="6980400"/>
              <a:ext cx="25056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412120" y="7435800"/>
              <a:ext cx="1843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1222200" y="4508640"/>
            <a:ext cx="3381480" cy="2921040"/>
          </a:xfrm>
          <a:custGeom>
            <a:avLst/>
            <a:gdLst/>
            <a:ahLst/>
            <a:rect l="l" t="t" r="r" b="b"/>
            <a:pathLst>
              <a:path w="2130" h="1840">
                <a:moveTo>
                  <a:pt x="0" y="0"/>
                </a:moveTo>
                <a:lnTo>
                  <a:pt x="856" y="150"/>
                </a:lnTo>
                <a:lnTo>
                  <a:pt x="1950" y="910"/>
                </a:lnTo>
                <a:lnTo>
                  <a:pt x="2130" y="1840"/>
                </a:lnTo>
              </a:path>
            </a:pathLst>
          </a:custGeom>
          <a:noFill/>
          <a:ln w="88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/>
          </p:nvPr>
        </p:nvSpPr>
        <p:spPr>
          <a:xfrm>
            <a:off x="304920" y="151920"/>
            <a:ext cx="89834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Imagine que perdemos parte del recurso 4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204920" y="1360440"/>
            <a:ext cx="3359160" cy="6035760"/>
          </a:xfrm>
          <a:custGeom>
            <a:avLst/>
            <a:gdLst/>
            <a:ahLst/>
            <a:rect l="l" t="t" r="r" b="b"/>
            <a:pathLst>
              <a:path w="2116" h="3802">
                <a:moveTo>
                  <a:pt x="1754" y="3798"/>
                </a:moveTo>
                <a:lnTo>
                  <a:pt x="0" y="3801"/>
                </a:lnTo>
                <a:lnTo>
                  <a:pt x="0" y="699"/>
                </a:lnTo>
                <a:lnTo>
                  <a:pt x="286" y="491"/>
                </a:lnTo>
                <a:lnTo>
                  <a:pt x="312" y="335"/>
                </a:lnTo>
                <a:lnTo>
                  <a:pt x="599" y="230"/>
                </a:lnTo>
                <a:lnTo>
                  <a:pt x="599" y="87"/>
                </a:lnTo>
                <a:lnTo>
                  <a:pt x="741" y="217"/>
                </a:lnTo>
                <a:lnTo>
                  <a:pt x="833" y="217"/>
                </a:lnTo>
                <a:lnTo>
                  <a:pt x="1392" y="0"/>
                </a:lnTo>
                <a:lnTo>
                  <a:pt x="2115" y="3790"/>
                </a:lnTo>
                <a:lnTo>
                  <a:pt x="1754" y="3798"/>
                </a:lnTo>
                <a:lnTo>
                  <a:pt x="1754" y="379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182600" y="4511520"/>
            <a:ext cx="5038920" cy="2909880"/>
          </a:xfrm>
          <a:custGeom>
            <a:avLst/>
            <a:gdLst/>
            <a:ahLst/>
            <a:rect l="l" t="t" r="r" b="b"/>
            <a:pathLst>
              <a:path w="3174" h="1833">
                <a:moveTo>
                  <a:pt x="0" y="0"/>
                </a:moveTo>
                <a:lnTo>
                  <a:pt x="12" y="1832"/>
                </a:lnTo>
                <a:lnTo>
                  <a:pt x="3127" y="1826"/>
                </a:lnTo>
                <a:lnTo>
                  <a:pt x="2841" y="1253"/>
                </a:lnTo>
                <a:lnTo>
                  <a:pt x="2913" y="1039"/>
                </a:lnTo>
                <a:lnTo>
                  <a:pt x="2900" y="870"/>
                </a:lnTo>
                <a:lnTo>
                  <a:pt x="2927" y="870"/>
                </a:lnTo>
                <a:lnTo>
                  <a:pt x="2933" y="870"/>
                </a:lnTo>
                <a:lnTo>
                  <a:pt x="3004" y="870"/>
                </a:lnTo>
                <a:lnTo>
                  <a:pt x="3011" y="727"/>
                </a:lnTo>
                <a:lnTo>
                  <a:pt x="3043" y="643"/>
                </a:lnTo>
                <a:lnTo>
                  <a:pt x="3173" y="590"/>
                </a:lnTo>
                <a:lnTo>
                  <a:pt x="3153" y="59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182600" y="3860640"/>
            <a:ext cx="5399280" cy="3538800"/>
          </a:xfrm>
          <a:custGeom>
            <a:avLst/>
            <a:gdLst/>
            <a:ahLst/>
            <a:rect l="l" t="t" r="r" b="b"/>
            <a:pathLst>
              <a:path w="3401" h="2229">
                <a:moveTo>
                  <a:pt x="0" y="0"/>
                </a:moveTo>
                <a:lnTo>
                  <a:pt x="0" y="2228"/>
                </a:lnTo>
                <a:lnTo>
                  <a:pt x="3400" y="2228"/>
                </a:lnTo>
                <a:lnTo>
                  <a:pt x="6" y="6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ff8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193760" y="4567320"/>
            <a:ext cx="3398760" cy="2825640"/>
          </a:xfrm>
          <a:custGeom>
            <a:avLst/>
            <a:gdLst/>
            <a:ahLst/>
            <a:rect l="l" t="t" r="r" b="b"/>
            <a:pathLst>
              <a:path w="2141" h="1780">
                <a:moveTo>
                  <a:pt x="2140" y="1770"/>
                </a:moveTo>
                <a:lnTo>
                  <a:pt x="1755" y="1779"/>
                </a:lnTo>
                <a:lnTo>
                  <a:pt x="0" y="1779"/>
                </a:lnTo>
                <a:lnTo>
                  <a:pt x="6" y="0"/>
                </a:lnTo>
                <a:lnTo>
                  <a:pt x="882" y="152"/>
                </a:lnTo>
                <a:lnTo>
                  <a:pt x="1954" y="835"/>
                </a:lnTo>
                <a:lnTo>
                  <a:pt x="2140" y="1770"/>
                </a:lnTo>
                <a:lnTo>
                  <a:pt x="2140" y="177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1187280" y="1944360"/>
            <a:ext cx="0" cy="545292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92320" y="7399440"/>
            <a:ext cx="6808680" cy="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1193760" y="3863880"/>
            <a:ext cx="5089680" cy="3340080"/>
          </a:xfrm>
          <a:prstGeom prst="line">
            <a:avLst/>
          </a:prstGeom>
          <a:ln w="3168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3417480" y="1358640"/>
            <a:ext cx="1179720" cy="6011640"/>
          </a:xfrm>
          <a:prstGeom prst="line">
            <a:avLst/>
          </a:prstGeom>
          <a:ln w="1908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200240" y="4564080"/>
            <a:ext cx="5376600" cy="947880"/>
          </a:xfrm>
          <a:prstGeom prst="line">
            <a:avLst/>
          </a:prstGeom>
          <a:ln w="19080">
            <a:solidFill>
              <a:srgbClr val="8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19200" y="2031840"/>
            <a:ext cx="250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95240" y="2487600"/>
            <a:ext cx="184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8236080" y="6980400"/>
            <a:ext cx="360360" cy="814320"/>
            <a:chOff x="8236080" y="6980400"/>
            <a:chExt cx="360360" cy="814320"/>
          </a:xfrm>
        </p:grpSpPr>
        <p:sp>
          <p:nvSpPr>
            <p:cNvPr id="735" name=""/>
            <p:cNvSpPr/>
            <p:nvPr/>
          </p:nvSpPr>
          <p:spPr>
            <a:xfrm>
              <a:off x="8236080" y="6980400"/>
              <a:ext cx="25056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412120" y="7435800"/>
              <a:ext cx="1843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7" name=""/>
          <p:cNvSpPr/>
          <p:nvPr/>
        </p:nvSpPr>
        <p:spPr>
          <a:xfrm>
            <a:off x="5527800" y="4165560"/>
            <a:ext cx="2519280" cy="10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300" spc="-1" strike="noStrike">
                <a:solidFill>
                  <a:srgbClr val="000080"/>
                </a:solidFill>
                <a:latin typeface="Arial"/>
              </a:rPr>
              <a:t>puntos que satisfacen la restricción 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5035680" y="4889520"/>
            <a:ext cx="452160" cy="590400"/>
          </a:xfrm>
          <a:prstGeom prst="line">
            <a:avLst/>
          </a:prstGeom>
          <a:ln w="316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/>
          </p:nvPr>
        </p:nvSpPr>
        <p:spPr>
          <a:xfrm>
            <a:off x="-360" y="123840"/>
            <a:ext cx="10442520" cy="13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.despues del cambi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204920" y="1360440"/>
            <a:ext cx="3359160" cy="6035760"/>
          </a:xfrm>
          <a:custGeom>
            <a:avLst/>
            <a:gdLst/>
            <a:ahLst/>
            <a:rect l="l" t="t" r="r" b="b"/>
            <a:pathLst>
              <a:path w="2116" h="3802">
                <a:moveTo>
                  <a:pt x="1754" y="3798"/>
                </a:moveTo>
                <a:lnTo>
                  <a:pt x="0" y="3801"/>
                </a:lnTo>
                <a:lnTo>
                  <a:pt x="0" y="699"/>
                </a:lnTo>
                <a:lnTo>
                  <a:pt x="286" y="491"/>
                </a:lnTo>
                <a:lnTo>
                  <a:pt x="312" y="335"/>
                </a:lnTo>
                <a:lnTo>
                  <a:pt x="599" y="230"/>
                </a:lnTo>
                <a:lnTo>
                  <a:pt x="599" y="87"/>
                </a:lnTo>
                <a:lnTo>
                  <a:pt x="741" y="217"/>
                </a:lnTo>
                <a:lnTo>
                  <a:pt x="833" y="217"/>
                </a:lnTo>
                <a:lnTo>
                  <a:pt x="1392" y="0"/>
                </a:lnTo>
                <a:lnTo>
                  <a:pt x="2115" y="3790"/>
                </a:lnTo>
                <a:lnTo>
                  <a:pt x="1754" y="3798"/>
                </a:lnTo>
                <a:lnTo>
                  <a:pt x="1754" y="379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182600" y="4994280"/>
            <a:ext cx="4967280" cy="2433600"/>
          </a:xfrm>
          <a:custGeom>
            <a:avLst/>
            <a:gdLst/>
            <a:ahLst/>
            <a:rect l="l" t="t" r="r" b="b"/>
            <a:pathLst>
              <a:path w="3129" h="1533">
                <a:moveTo>
                  <a:pt x="0" y="0"/>
                </a:moveTo>
                <a:lnTo>
                  <a:pt x="13" y="1532"/>
                </a:lnTo>
                <a:lnTo>
                  <a:pt x="3128" y="1527"/>
                </a:lnTo>
                <a:lnTo>
                  <a:pt x="2842" y="1048"/>
                </a:lnTo>
                <a:lnTo>
                  <a:pt x="2914" y="869"/>
                </a:lnTo>
                <a:lnTo>
                  <a:pt x="2901" y="728"/>
                </a:lnTo>
                <a:lnTo>
                  <a:pt x="2927" y="728"/>
                </a:lnTo>
                <a:lnTo>
                  <a:pt x="2933" y="728"/>
                </a:lnTo>
                <a:lnTo>
                  <a:pt x="3005" y="728"/>
                </a:lnTo>
                <a:lnTo>
                  <a:pt x="3011" y="609"/>
                </a:lnTo>
                <a:lnTo>
                  <a:pt x="3044" y="538"/>
                </a:lnTo>
                <a:lnTo>
                  <a:pt x="3095" y="517"/>
                </a:lnTo>
                <a:lnTo>
                  <a:pt x="3095" y="51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182600" y="3860640"/>
            <a:ext cx="5399280" cy="3538800"/>
          </a:xfrm>
          <a:custGeom>
            <a:avLst/>
            <a:gdLst/>
            <a:ahLst/>
            <a:rect l="l" t="t" r="r" b="b"/>
            <a:pathLst>
              <a:path w="3401" h="2229">
                <a:moveTo>
                  <a:pt x="0" y="0"/>
                </a:moveTo>
                <a:lnTo>
                  <a:pt x="0" y="2228"/>
                </a:lnTo>
                <a:lnTo>
                  <a:pt x="3400" y="2228"/>
                </a:lnTo>
                <a:lnTo>
                  <a:pt x="6" y="6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ff8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193760" y="4943520"/>
            <a:ext cx="3398760" cy="2449440"/>
          </a:xfrm>
          <a:custGeom>
            <a:avLst/>
            <a:gdLst/>
            <a:ahLst/>
            <a:rect l="l" t="t" r="r" b="b"/>
            <a:pathLst>
              <a:path w="2141" h="1543">
                <a:moveTo>
                  <a:pt x="2140" y="1533"/>
                </a:moveTo>
                <a:lnTo>
                  <a:pt x="1755" y="1542"/>
                </a:lnTo>
                <a:lnTo>
                  <a:pt x="0" y="1542"/>
                </a:lnTo>
                <a:lnTo>
                  <a:pt x="1" y="0"/>
                </a:lnTo>
                <a:lnTo>
                  <a:pt x="1390" y="252"/>
                </a:lnTo>
                <a:lnTo>
                  <a:pt x="1954" y="598"/>
                </a:lnTo>
                <a:lnTo>
                  <a:pt x="2140" y="1533"/>
                </a:lnTo>
                <a:lnTo>
                  <a:pt x="2140" y="1533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1187280" y="1944360"/>
            <a:ext cx="0" cy="545292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192320" y="7399440"/>
            <a:ext cx="6808680" cy="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 flipV="1">
            <a:off x="1193760" y="3863880"/>
            <a:ext cx="5089680" cy="3340080"/>
          </a:xfrm>
          <a:prstGeom prst="line">
            <a:avLst/>
          </a:prstGeom>
          <a:ln w="3168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 flipV="1">
            <a:off x="3417480" y="1358640"/>
            <a:ext cx="1179720" cy="6011640"/>
          </a:xfrm>
          <a:prstGeom prst="line">
            <a:avLst/>
          </a:prstGeom>
          <a:ln w="1908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143000" y="4944960"/>
            <a:ext cx="5433840" cy="951120"/>
          </a:xfrm>
          <a:prstGeom prst="line">
            <a:avLst/>
          </a:prstGeom>
          <a:ln w="19080">
            <a:solidFill>
              <a:srgbClr val="8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19200" y="2031840"/>
            <a:ext cx="250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95240" y="2487600"/>
            <a:ext cx="184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8236080" y="6980400"/>
            <a:ext cx="360360" cy="814320"/>
            <a:chOff x="8236080" y="6980400"/>
            <a:chExt cx="360360" cy="814320"/>
          </a:xfrm>
        </p:grpSpPr>
        <p:sp>
          <p:nvSpPr>
            <p:cNvPr id="752" name=""/>
            <p:cNvSpPr/>
            <p:nvPr/>
          </p:nvSpPr>
          <p:spPr>
            <a:xfrm>
              <a:off x="8236080" y="6980400"/>
              <a:ext cx="25056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412120" y="7435800"/>
              <a:ext cx="1843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5551560" y="4356000"/>
            <a:ext cx="2519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300" spc="-1" strike="noStrike">
                <a:solidFill>
                  <a:srgbClr val="000080"/>
                </a:solidFill>
                <a:latin typeface="Arial"/>
              </a:rPr>
              <a:t>puntos que satisfacen la restricción  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4916520" y="5083200"/>
            <a:ext cx="590400" cy="803160"/>
          </a:xfrm>
          <a:prstGeom prst="line">
            <a:avLst/>
          </a:prstGeom>
          <a:ln w="316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190520" y="4984920"/>
            <a:ext cx="3413160" cy="2444760"/>
          </a:xfrm>
          <a:custGeom>
            <a:avLst/>
            <a:gdLst/>
            <a:ahLst/>
            <a:rect l="l" t="t" r="r" b="b"/>
            <a:pathLst>
              <a:path w="2150" h="1540">
                <a:moveTo>
                  <a:pt x="0" y="0"/>
                </a:moveTo>
                <a:lnTo>
                  <a:pt x="1360" y="220"/>
                </a:lnTo>
                <a:lnTo>
                  <a:pt x="1970" y="610"/>
                </a:lnTo>
                <a:lnTo>
                  <a:pt x="2150" y="1540"/>
                </a:lnTo>
              </a:path>
            </a:pathLst>
          </a:custGeom>
          <a:noFill/>
          <a:ln w="88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463680" y="1736640"/>
            <a:ext cx="9226440" cy="57340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47640" y="2254320"/>
            <a:ext cx="8570880" cy="48942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253040" y="2421000"/>
            <a:ext cx="203652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211640" y="2325600"/>
            <a:ext cx="2035080" cy="1198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44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Equilibrio Gener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211640" y="2325600"/>
            <a:ext cx="2035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590920" y="5867280"/>
            <a:ext cx="2038320" cy="1197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El problema económic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609480" y="5315040"/>
            <a:ext cx="2270160" cy="552240"/>
            <a:chOff x="609480" y="5315040"/>
            <a:chExt cx="2270160" cy="552240"/>
          </a:xfrm>
        </p:grpSpPr>
        <p:sp>
          <p:nvSpPr>
            <p:cNvPr id="764" name=""/>
            <p:cNvSpPr/>
            <p:nvPr/>
          </p:nvSpPr>
          <p:spPr>
            <a:xfrm>
              <a:off x="1760400" y="5315040"/>
              <a:ext cx="1800" cy="29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5613480"/>
              <a:ext cx="180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878200" y="561348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09480" y="5613480"/>
              <a:ext cx="1150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760400" y="5613480"/>
              <a:ext cx="1117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0" y="5872320"/>
            <a:ext cx="2340000" cy="1195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La estructura de la producc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467080" y="5486400"/>
            <a:ext cx="2485800" cy="2058840"/>
          </a:xfrm>
          <a:custGeom>
            <a:avLst/>
            <a:gdLst/>
            <a:ahLst/>
            <a:rect l="l" t="t" r="r" b="b"/>
            <a:pathLst>
              <a:path w="3130" h="2596">
                <a:moveTo>
                  <a:pt x="268" y="578"/>
                </a:moveTo>
                <a:lnTo>
                  <a:pt x="131" y="789"/>
                </a:lnTo>
                <a:lnTo>
                  <a:pt x="42" y="1004"/>
                </a:lnTo>
                <a:lnTo>
                  <a:pt x="3" y="1217"/>
                </a:lnTo>
                <a:lnTo>
                  <a:pt x="0" y="1323"/>
                </a:lnTo>
                <a:lnTo>
                  <a:pt x="9" y="1430"/>
                </a:lnTo>
                <a:lnTo>
                  <a:pt x="143" y="1824"/>
                </a:lnTo>
                <a:lnTo>
                  <a:pt x="419" y="2165"/>
                </a:lnTo>
                <a:lnTo>
                  <a:pt x="800" y="2420"/>
                </a:lnTo>
                <a:lnTo>
                  <a:pt x="1264" y="2570"/>
                </a:lnTo>
                <a:lnTo>
                  <a:pt x="1514" y="2596"/>
                </a:lnTo>
                <a:lnTo>
                  <a:pt x="1645" y="2596"/>
                </a:lnTo>
                <a:lnTo>
                  <a:pt x="1778" y="2585"/>
                </a:lnTo>
                <a:lnTo>
                  <a:pt x="2314" y="2435"/>
                </a:lnTo>
                <a:lnTo>
                  <a:pt x="2555" y="2302"/>
                </a:lnTo>
                <a:lnTo>
                  <a:pt x="2753" y="2146"/>
                </a:lnTo>
                <a:lnTo>
                  <a:pt x="2908" y="1970"/>
                </a:lnTo>
                <a:lnTo>
                  <a:pt x="3023" y="1781"/>
                </a:lnTo>
                <a:lnTo>
                  <a:pt x="3127" y="1380"/>
                </a:lnTo>
                <a:lnTo>
                  <a:pt x="3130" y="1279"/>
                </a:lnTo>
                <a:lnTo>
                  <a:pt x="3122" y="1175"/>
                </a:lnTo>
                <a:lnTo>
                  <a:pt x="3078" y="971"/>
                </a:lnTo>
                <a:lnTo>
                  <a:pt x="2886" y="595"/>
                </a:lnTo>
                <a:lnTo>
                  <a:pt x="2741" y="429"/>
                </a:lnTo>
                <a:lnTo>
                  <a:pt x="2561" y="284"/>
                </a:lnTo>
                <a:lnTo>
                  <a:pt x="2353" y="165"/>
                </a:lnTo>
                <a:lnTo>
                  <a:pt x="2113" y="74"/>
                </a:lnTo>
                <a:lnTo>
                  <a:pt x="1849" y="17"/>
                </a:lnTo>
                <a:lnTo>
                  <a:pt x="1705" y="3"/>
                </a:lnTo>
                <a:lnTo>
                  <a:pt x="1554" y="0"/>
                </a:lnTo>
              </a:path>
            </a:pathLst>
          </a:custGeom>
          <a:noFill/>
          <a:ln w="82440">
            <a:solidFill>
              <a:srgbClr val="ff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590400" y="877680"/>
            <a:ext cx="94536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l Problema de Robinson Crusoe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685800" y="3524400"/>
            <a:ext cx="9067680" cy="555480"/>
            <a:chOff x="685800" y="3524400"/>
            <a:chExt cx="9067680" cy="555480"/>
          </a:xfrm>
        </p:grpSpPr>
        <p:sp>
          <p:nvSpPr>
            <p:cNvPr id="773" name=""/>
            <p:cNvSpPr/>
            <p:nvPr/>
          </p:nvSpPr>
          <p:spPr>
            <a:xfrm>
              <a:off x="5229360" y="3524400"/>
              <a:ext cx="1440" cy="29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8580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95596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224320" y="3822840"/>
              <a:ext cx="180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494480" y="3825720"/>
              <a:ext cx="1800" cy="254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85800" y="382284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955960" y="3822840"/>
              <a:ext cx="1150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106880" y="3822840"/>
              <a:ext cx="1117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224320" y="382284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9737640" y="3825720"/>
              <a:ext cx="1800" cy="254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483320" y="3825720"/>
              <a:ext cx="22701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0" y="4089240"/>
            <a:ext cx="1935000" cy="11955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El problema de Robins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Cruso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028960" y="4106880"/>
            <a:ext cx="1936440" cy="1195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Decentrali-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zación e intercambi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057560" y="4094280"/>
            <a:ext cx="1936800" cy="1195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Economía multi-person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108840" y="4094280"/>
            <a:ext cx="1935000" cy="1195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¿Porqué tomadores de precio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8123400" y="4094280"/>
            <a:ext cx="1935000" cy="1195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Exceso de  demand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5791320"/>
            <a:ext cx="2590920" cy="12189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La estructura de la producc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/>
          </p:nvPr>
        </p:nvSpPr>
        <p:spPr>
          <a:xfrm>
            <a:off x="5153040" y="2178000"/>
            <a:ext cx="43956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GB" sz="3300" spc="-1" strike="noStrike">
                <a:solidFill>
                  <a:srgbClr val="000080"/>
                </a:solidFill>
                <a:latin typeface="Arial"/>
              </a:rPr>
              <a:t>Consumos lógicos factibl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0" y="727200"/>
            <a:ext cx="989964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Restricciones básicas para el problema de Robinson Crusoe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74640" y="2178000"/>
            <a:ext cx="25257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100" spc="-1" strike="noStrike">
                <a:solidFill>
                  <a:srgbClr val="000000"/>
                </a:solidFill>
                <a:latin typeface="WtlHebrew"/>
                <a:ea typeface="WtlHebrew"/>
              </a:rPr>
              <a:t>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372280" y="5486400"/>
            <a:ext cx="4686120" cy="2286000"/>
          </a:xfrm>
          <a:prstGeom prst="rect">
            <a:avLst/>
          </a:prstGeom>
          <a:solidFill>
            <a:srgbClr val="ffff99"/>
          </a:solidFill>
          <a:ln w="507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400" spc="-1" strike="noStrike">
                <a:solidFill>
                  <a:srgbClr val="ff0000"/>
                </a:solidFill>
                <a:latin typeface="Brush738 BT"/>
              </a:rPr>
              <a:t>no se puede consumir más de lo que se produce o l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400" spc="-1" strike="noStrike">
                <a:solidFill>
                  <a:srgbClr val="ff0000"/>
                </a:solidFill>
                <a:latin typeface="Brush738 BT"/>
              </a:rPr>
              <a:t> </a:t>
            </a:r>
            <a:r>
              <a:rPr b="1" lang="en-GB" sz="3400" spc="-1" strike="noStrike">
                <a:solidFill>
                  <a:srgbClr val="ff0000"/>
                </a:solidFill>
                <a:latin typeface="Brush738 BT"/>
              </a:rPr>
              <a:t>que se encuent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74640" y="4267080"/>
            <a:ext cx="2525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74640" y="6248520"/>
            <a:ext cx="439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100" spc="-1" strike="noStrike">
                <a:solidFill>
                  <a:srgbClr val="000000"/>
                </a:solidFill>
                <a:latin typeface="WtlHebrew"/>
                <a:ea typeface="WtlHebrew"/>
              </a:rPr>
              <a:t>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153040" y="4235400"/>
            <a:ext cx="439560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GB" sz="3300" spc="-1" strike="noStrike">
                <a:solidFill>
                  <a:srgbClr val="000080"/>
                </a:solidFill>
                <a:latin typeface="Arial"/>
              </a:rPr>
              <a:t>Factibilidad tecnológica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153040" y="6216480"/>
            <a:ext cx="439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 marL="197640" indent="-1976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GB" sz="3300" spc="-1" strike="noStrike">
                <a:solidFill>
                  <a:srgbClr val="000080"/>
                </a:solidFill>
                <a:latin typeface="Arial"/>
              </a:rPr>
              <a:t>ecuaciones de balan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/>
          </p:nvPr>
        </p:nvSpPr>
        <p:spPr>
          <a:xfrm>
            <a:off x="446040" y="739800"/>
            <a:ext cx="9453600" cy="12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9000"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Tomemos en primer término la curva de transformación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430280" y="4324320"/>
            <a:ext cx="2546280" cy="2700360"/>
          </a:xfrm>
          <a:custGeom>
            <a:avLst/>
            <a:gdLst/>
            <a:ahLst/>
            <a:rect l="l" t="t" r="r" b="b"/>
            <a:pathLst>
              <a:path w="1604" h="1701">
                <a:moveTo>
                  <a:pt x="17" y="0"/>
                </a:moveTo>
                <a:lnTo>
                  <a:pt x="17" y="0"/>
                </a:lnTo>
                <a:lnTo>
                  <a:pt x="17" y="1691"/>
                </a:lnTo>
                <a:lnTo>
                  <a:pt x="1603" y="1700"/>
                </a:lnTo>
                <a:lnTo>
                  <a:pt x="1603" y="1700"/>
                </a:lnTo>
                <a:lnTo>
                  <a:pt x="1571" y="1564"/>
                </a:lnTo>
                <a:lnTo>
                  <a:pt x="1564" y="1530"/>
                </a:lnTo>
                <a:lnTo>
                  <a:pt x="1549" y="1492"/>
                </a:lnTo>
                <a:lnTo>
                  <a:pt x="1537" y="1450"/>
                </a:lnTo>
                <a:lnTo>
                  <a:pt x="1522" y="1406"/>
                </a:lnTo>
                <a:lnTo>
                  <a:pt x="1505" y="1359"/>
                </a:lnTo>
                <a:lnTo>
                  <a:pt x="1491" y="1317"/>
                </a:lnTo>
                <a:lnTo>
                  <a:pt x="1475" y="1278"/>
                </a:lnTo>
                <a:lnTo>
                  <a:pt x="1465" y="1259"/>
                </a:lnTo>
                <a:lnTo>
                  <a:pt x="1456" y="1238"/>
                </a:lnTo>
                <a:lnTo>
                  <a:pt x="1447" y="1214"/>
                </a:lnTo>
                <a:lnTo>
                  <a:pt x="1436" y="1189"/>
                </a:lnTo>
                <a:lnTo>
                  <a:pt x="1422" y="1165"/>
                </a:lnTo>
                <a:lnTo>
                  <a:pt x="1410" y="1138"/>
                </a:lnTo>
                <a:lnTo>
                  <a:pt x="1398" y="1108"/>
                </a:lnTo>
                <a:lnTo>
                  <a:pt x="1384" y="1079"/>
                </a:lnTo>
                <a:lnTo>
                  <a:pt x="1371" y="1054"/>
                </a:lnTo>
                <a:lnTo>
                  <a:pt x="1357" y="1026"/>
                </a:lnTo>
                <a:lnTo>
                  <a:pt x="1343" y="1000"/>
                </a:lnTo>
                <a:lnTo>
                  <a:pt x="1329" y="972"/>
                </a:lnTo>
                <a:lnTo>
                  <a:pt x="1317" y="950"/>
                </a:lnTo>
                <a:lnTo>
                  <a:pt x="1303" y="924"/>
                </a:lnTo>
                <a:lnTo>
                  <a:pt x="1292" y="903"/>
                </a:lnTo>
                <a:lnTo>
                  <a:pt x="1282" y="881"/>
                </a:lnTo>
                <a:lnTo>
                  <a:pt x="1267" y="863"/>
                </a:lnTo>
                <a:lnTo>
                  <a:pt x="1254" y="842"/>
                </a:lnTo>
                <a:lnTo>
                  <a:pt x="1240" y="820"/>
                </a:lnTo>
                <a:lnTo>
                  <a:pt x="1223" y="796"/>
                </a:lnTo>
                <a:lnTo>
                  <a:pt x="1207" y="774"/>
                </a:lnTo>
                <a:lnTo>
                  <a:pt x="1191" y="747"/>
                </a:lnTo>
                <a:lnTo>
                  <a:pt x="1172" y="722"/>
                </a:lnTo>
                <a:lnTo>
                  <a:pt x="1155" y="696"/>
                </a:lnTo>
                <a:lnTo>
                  <a:pt x="1133" y="674"/>
                </a:lnTo>
                <a:lnTo>
                  <a:pt x="1116" y="648"/>
                </a:lnTo>
                <a:lnTo>
                  <a:pt x="1097" y="624"/>
                </a:lnTo>
                <a:lnTo>
                  <a:pt x="1079" y="602"/>
                </a:lnTo>
                <a:lnTo>
                  <a:pt x="1061" y="582"/>
                </a:lnTo>
                <a:lnTo>
                  <a:pt x="1045" y="562"/>
                </a:lnTo>
                <a:lnTo>
                  <a:pt x="1027" y="544"/>
                </a:lnTo>
                <a:lnTo>
                  <a:pt x="1015" y="528"/>
                </a:lnTo>
                <a:lnTo>
                  <a:pt x="981" y="499"/>
                </a:lnTo>
                <a:lnTo>
                  <a:pt x="946" y="464"/>
                </a:lnTo>
                <a:lnTo>
                  <a:pt x="909" y="429"/>
                </a:lnTo>
                <a:lnTo>
                  <a:pt x="870" y="394"/>
                </a:lnTo>
                <a:lnTo>
                  <a:pt x="831" y="360"/>
                </a:lnTo>
                <a:lnTo>
                  <a:pt x="798" y="328"/>
                </a:lnTo>
                <a:lnTo>
                  <a:pt x="766" y="303"/>
                </a:lnTo>
                <a:lnTo>
                  <a:pt x="738" y="280"/>
                </a:lnTo>
                <a:lnTo>
                  <a:pt x="713" y="264"/>
                </a:lnTo>
                <a:lnTo>
                  <a:pt x="683" y="242"/>
                </a:lnTo>
                <a:lnTo>
                  <a:pt x="650" y="220"/>
                </a:lnTo>
                <a:lnTo>
                  <a:pt x="615" y="198"/>
                </a:lnTo>
                <a:lnTo>
                  <a:pt x="580" y="178"/>
                </a:lnTo>
                <a:lnTo>
                  <a:pt x="549" y="158"/>
                </a:lnTo>
                <a:lnTo>
                  <a:pt x="519" y="140"/>
                </a:lnTo>
                <a:lnTo>
                  <a:pt x="494" y="126"/>
                </a:lnTo>
                <a:lnTo>
                  <a:pt x="466" y="116"/>
                </a:lnTo>
                <a:lnTo>
                  <a:pt x="441" y="102"/>
                </a:lnTo>
                <a:lnTo>
                  <a:pt x="410" y="90"/>
                </a:lnTo>
                <a:lnTo>
                  <a:pt x="381" y="77"/>
                </a:lnTo>
                <a:lnTo>
                  <a:pt x="348" y="66"/>
                </a:lnTo>
                <a:lnTo>
                  <a:pt x="323" y="55"/>
                </a:lnTo>
                <a:lnTo>
                  <a:pt x="297" y="48"/>
                </a:lnTo>
                <a:lnTo>
                  <a:pt x="279" y="43"/>
                </a:lnTo>
                <a:lnTo>
                  <a:pt x="257" y="40"/>
                </a:lnTo>
                <a:lnTo>
                  <a:pt x="234" y="35"/>
                </a:lnTo>
                <a:lnTo>
                  <a:pt x="209" y="32"/>
                </a:lnTo>
                <a:lnTo>
                  <a:pt x="183" y="25"/>
                </a:lnTo>
                <a:lnTo>
                  <a:pt x="157" y="22"/>
                </a:lnTo>
                <a:lnTo>
                  <a:pt x="133" y="19"/>
                </a:lnTo>
                <a:lnTo>
                  <a:pt x="110" y="16"/>
                </a:lnTo>
                <a:lnTo>
                  <a:pt x="91" y="15"/>
                </a:lnTo>
                <a:lnTo>
                  <a:pt x="0" y="9"/>
                </a:lnTo>
                <a:lnTo>
                  <a:pt x="17" y="0"/>
                </a:lnTo>
                <a:lnTo>
                  <a:pt x="17" y="0"/>
                </a:lnTo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ffffc2"/>
              </a:gs>
            </a:gsLst>
            <a:lin ang="8100000"/>
          </a:gradFill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566720" y="5570640"/>
            <a:ext cx="19306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conjunto tecnológic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903400" y="3478320"/>
            <a:ext cx="13464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6362640" y="6713640"/>
            <a:ext cx="378000" cy="603000"/>
            <a:chOff x="6362640" y="6713640"/>
            <a:chExt cx="378000" cy="603000"/>
          </a:xfrm>
        </p:grpSpPr>
        <p:sp>
          <p:nvSpPr>
            <p:cNvPr id="803" name=""/>
            <p:cNvSpPr/>
            <p:nvPr/>
          </p:nvSpPr>
          <p:spPr>
            <a:xfrm>
              <a:off x="6362640" y="6713640"/>
              <a:ext cx="2318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568920" y="6981840"/>
              <a:ext cx="1717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1433520" y="1749600"/>
            <a:ext cx="377640" cy="606240"/>
            <a:chOff x="1433520" y="1749600"/>
            <a:chExt cx="377640" cy="606240"/>
          </a:xfrm>
        </p:grpSpPr>
        <p:sp>
          <p:nvSpPr>
            <p:cNvPr id="806" name=""/>
            <p:cNvSpPr/>
            <p:nvPr/>
          </p:nvSpPr>
          <p:spPr>
            <a:xfrm>
              <a:off x="1433520" y="1749600"/>
              <a:ext cx="2332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639800" y="2019240"/>
              <a:ext cx="1713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 flipV="1">
            <a:off x="1463760" y="2509920"/>
            <a:ext cx="0" cy="4487760"/>
          </a:xfrm>
          <a:prstGeom prst="line">
            <a:avLst/>
          </a:prstGeom>
          <a:ln w="507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463760" y="6997680"/>
            <a:ext cx="4732200" cy="0"/>
          </a:xfrm>
          <a:prstGeom prst="line">
            <a:avLst/>
          </a:prstGeom>
          <a:ln w="507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200400" y="4267080"/>
            <a:ext cx="2666880" cy="1067040"/>
          </a:xfrm>
          <a:prstGeom prst="wedgeRoundRectCallout">
            <a:avLst>
              <a:gd name="adj1" fmla="val -43518"/>
              <a:gd name="adj2" fmla="val 77083"/>
              <a:gd name="adj3" fmla="val 16667"/>
            </a:avLst>
          </a:prstGeom>
          <a:solidFill>
            <a:srgbClr val="ffff99"/>
          </a:solidFill>
          <a:ln w="381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1496880" y="4303800"/>
            <a:ext cx="4334040" cy="2698560"/>
          </a:xfrm>
          <a:custGeom>
            <a:avLst/>
            <a:gdLst/>
            <a:ahLst/>
            <a:rect l="l" t="t" r="r" b="b"/>
            <a:pathLst>
              <a:path w="2730" h="1700">
                <a:moveTo>
                  <a:pt x="0" y="0"/>
                </a:moveTo>
                <a:lnTo>
                  <a:pt x="0" y="0"/>
                </a:lnTo>
                <a:lnTo>
                  <a:pt x="0" y="1699"/>
                </a:lnTo>
                <a:lnTo>
                  <a:pt x="2729" y="1697"/>
                </a:lnTo>
                <a:lnTo>
                  <a:pt x="2729" y="1697"/>
                </a:lnTo>
                <a:lnTo>
                  <a:pt x="2697" y="1563"/>
                </a:lnTo>
                <a:lnTo>
                  <a:pt x="2689" y="1530"/>
                </a:lnTo>
                <a:lnTo>
                  <a:pt x="2675" y="1490"/>
                </a:lnTo>
                <a:lnTo>
                  <a:pt x="2662" y="1447"/>
                </a:lnTo>
                <a:lnTo>
                  <a:pt x="2647" y="1404"/>
                </a:lnTo>
                <a:lnTo>
                  <a:pt x="2630" y="1359"/>
                </a:lnTo>
                <a:lnTo>
                  <a:pt x="2615" y="1315"/>
                </a:lnTo>
                <a:lnTo>
                  <a:pt x="2601" y="1275"/>
                </a:lnTo>
                <a:lnTo>
                  <a:pt x="2590" y="1257"/>
                </a:lnTo>
                <a:lnTo>
                  <a:pt x="2582" y="1237"/>
                </a:lnTo>
                <a:lnTo>
                  <a:pt x="2571" y="1211"/>
                </a:lnTo>
                <a:lnTo>
                  <a:pt x="2559" y="1186"/>
                </a:lnTo>
                <a:lnTo>
                  <a:pt x="2547" y="1162"/>
                </a:lnTo>
                <a:lnTo>
                  <a:pt x="2534" y="1133"/>
                </a:lnTo>
                <a:lnTo>
                  <a:pt x="2522" y="1106"/>
                </a:lnTo>
                <a:lnTo>
                  <a:pt x="2509" y="1077"/>
                </a:lnTo>
                <a:lnTo>
                  <a:pt x="2495" y="1051"/>
                </a:lnTo>
                <a:lnTo>
                  <a:pt x="2480" y="1023"/>
                </a:lnTo>
                <a:lnTo>
                  <a:pt x="2467" y="997"/>
                </a:lnTo>
                <a:lnTo>
                  <a:pt x="2454" y="969"/>
                </a:lnTo>
                <a:lnTo>
                  <a:pt x="2440" y="944"/>
                </a:lnTo>
                <a:lnTo>
                  <a:pt x="2427" y="920"/>
                </a:lnTo>
                <a:lnTo>
                  <a:pt x="2417" y="899"/>
                </a:lnTo>
                <a:lnTo>
                  <a:pt x="2405" y="878"/>
                </a:lnTo>
                <a:lnTo>
                  <a:pt x="2389" y="860"/>
                </a:lnTo>
                <a:lnTo>
                  <a:pt x="2379" y="840"/>
                </a:lnTo>
                <a:lnTo>
                  <a:pt x="2365" y="817"/>
                </a:lnTo>
                <a:lnTo>
                  <a:pt x="2347" y="792"/>
                </a:lnTo>
                <a:lnTo>
                  <a:pt x="2331" y="769"/>
                </a:lnTo>
                <a:lnTo>
                  <a:pt x="2313" y="743"/>
                </a:lnTo>
                <a:lnTo>
                  <a:pt x="2295" y="719"/>
                </a:lnTo>
                <a:lnTo>
                  <a:pt x="2277" y="693"/>
                </a:lnTo>
                <a:lnTo>
                  <a:pt x="2255" y="670"/>
                </a:lnTo>
                <a:lnTo>
                  <a:pt x="2238" y="645"/>
                </a:lnTo>
                <a:lnTo>
                  <a:pt x="2219" y="621"/>
                </a:lnTo>
                <a:lnTo>
                  <a:pt x="2201" y="599"/>
                </a:lnTo>
                <a:lnTo>
                  <a:pt x="2184" y="577"/>
                </a:lnTo>
                <a:lnTo>
                  <a:pt x="2167" y="557"/>
                </a:lnTo>
                <a:lnTo>
                  <a:pt x="2149" y="539"/>
                </a:lnTo>
                <a:lnTo>
                  <a:pt x="2137" y="523"/>
                </a:lnTo>
                <a:lnTo>
                  <a:pt x="2104" y="496"/>
                </a:lnTo>
                <a:lnTo>
                  <a:pt x="2068" y="459"/>
                </a:lnTo>
                <a:lnTo>
                  <a:pt x="2029" y="423"/>
                </a:lnTo>
                <a:lnTo>
                  <a:pt x="1990" y="388"/>
                </a:lnTo>
                <a:lnTo>
                  <a:pt x="1952" y="355"/>
                </a:lnTo>
                <a:lnTo>
                  <a:pt x="1917" y="325"/>
                </a:lnTo>
                <a:lnTo>
                  <a:pt x="1886" y="297"/>
                </a:lnTo>
                <a:lnTo>
                  <a:pt x="1859" y="275"/>
                </a:lnTo>
                <a:lnTo>
                  <a:pt x="1833" y="259"/>
                </a:lnTo>
                <a:lnTo>
                  <a:pt x="1803" y="238"/>
                </a:lnTo>
                <a:lnTo>
                  <a:pt x="1770" y="215"/>
                </a:lnTo>
                <a:lnTo>
                  <a:pt x="1735" y="192"/>
                </a:lnTo>
                <a:lnTo>
                  <a:pt x="1699" y="173"/>
                </a:lnTo>
                <a:lnTo>
                  <a:pt x="1668" y="151"/>
                </a:lnTo>
                <a:lnTo>
                  <a:pt x="1637" y="135"/>
                </a:lnTo>
                <a:lnTo>
                  <a:pt x="1613" y="120"/>
                </a:lnTo>
                <a:lnTo>
                  <a:pt x="1584" y="110"/>
                </a:lnTo>
                <a:lnTo>
                  <a:pt x="1559" y="97"/>
                </a:lnTo>
                <a:lnTo>
                  <a:pt x="1529" y="84"/>
                </a:lnTo>
                <a:lnTo>
                  <a:pt x="1498" y="71"/>
                </a:lnTo>
                <a:lnTo>
                  <a:pt x="1467" y="60"/>
                </a:lnTo>
                <a:lnTo>
                  <a:pt x="1439" y="51"/>
                </a:lnTo>
                <a:lnTo>
                  <a:pt x="1414" y="42"/>
                </a:lnTo>
                <a:lnTo>
                  <a:pt x="1395" y="35"/>
                </a:lnTo>
                <a:lnTo>
                  <a:pt x="1374" y="34"/>
                </a:lnTo>
                <a:lnTo>
                  <a:pt x="1351" y="29"/>
                </a:lnTo>
                <a:lnTo>
                  <a:pt x="1325" y="25"/>
                </a:lnTo>
                <a:lnTo>
                  <a:pt x="1301" y="20"/>
                </a:lnTo>
                <a:lnTo>
                  <a:pt x="1273" y="17"/>
                </a:lnTo>
                <a:lnTo>
                  <a:pt x="1248" y="13"/>
                </a:lnTo>
                <a:lnTo>
                  <a:pt x="1225" y="12"/>
                </a:lnTo>
                <a:lnTo>
                  <a:pt x="1207" y="8"/>
                </a:lnTo>
                <a:lnTo>
                  <a:pt x="1114" y="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ffffc2"/>
              </a:gs>
            </a:gsLst>
            <a:lin ang="8100000"/>
          </a:gradFill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400800" y="6248520"/>
            <a:ext cx="1295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38080" y="1944720"/>
            <a:ext cx="12956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57200" y="1905120"/>
            <a:ext cx="7696080" cy="556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/>
          </p:nvPr>
        </p:nvSpPr>
        <p:spPr>
          <a:xfrm>
            <a:off x="606240" y="-360"/>
            <a:ext cx="9451800" cy="19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.sume los acervos de bienes de consumo para obtener los consumos alcanzabl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1486080" y="2495520"/>
            <a:ext cx="0" cy="4502160"/>
          </a:xfrm>
          <a:prstGeom prst="line">
            <a:avLst/>
          </a:prstGeom>
          <a:ln w="507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486080" y="6997680"/>
            <a:ext cx="4763880" cy="0"/>
          </a:xfrm>
          <a:prstGeom prst="line">
            <a:avLst/>
          </a:prstGeom>
          <a:ln w="507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432240" y="1981080"/>
            <a:ext cx="2989080" cy="3375000"/>
          </a:xfrm>
          <a:custGeom>
            <a:avLst/>
            <a:gdLst/>
            <a:ahLst/>
            <a:rect l="l" t="t" r="r" b="b"/>
            <a:pathLst>
              <a:path w="1883" h="2126">
                <a:moveTo>
                  <a:pt x="0" y="0"/>
                </a:moveTo>
                <a:lnTo>
                  <a:pt x="1" y="19"/>
                </a:lnTo>
                <a:lnTo>
                  <a:pt x="3" y="32"/>
                </a:lnTo>
                <a:lnTo>
                  <a:pt x="3" y="44"/>
                </a:lnTo>
                <a:lnTo>
                  <a:pt x="5" y="52"/>
                </a:lnTo>
                <a:lnTo>
                  <a:pt x="5" y="58"/>
                </a:lnTo>
                <a:lnTo>
                  <a:pt x="6" y="64"/>
                </a:lnTo>
                <a:lnTo>
                  <a:pt x="6" y="67"/>
                </a:lnTo>
                <a:lnTo>
                  <a:pt x="8" y="69"/>
                </a:lnTo>
                <a:lnTo>
                  <a:pt x="8" y="72"/>
                </a:lnTo>
                <a:lnTo>
                  <a:pt x="8" y="74"/>
                </a:lnTo>
                <a:lnTo>
                  <a:pt x="8" y="76"/>
                </a:lnTo>
                <a:lnTo>
                  <a:pt x="8" y="78"/>
                </a:lnTo>
                <a:lnTo>
                  <a:pt x="8" y="82"/>
                </a:lnTo>
                <a:lnTo>
                  <a:pt x="9" y="86"/>
                </a:lnTo>
                <a:lnTo>
                  <a:pt x="9" y="93"/>
                </a:lnTo>
                <a:lnTo>
                  <a:pt x="11" y="100"/>
                </a:lnTo>
                <a:lnTo>
                  <a:pt x="12" y="112"/>
                </a:lnTo>
                <a:lnTo>
                  <a:pt x="14" y="126"/>
                </a:lnTo>
                <a:lnTo>
                  <a:pt x="16" y="144"/>
                </a:lnTo>
                <a:lnTo>
                  <a:pt x="20" y="162"/>
                </a:lnTo>
                <a:lnTo>
                  <a:pt x="24" y="183"/>
                </a:lnTo>
                <a:lnTo>
                  <a:pt x="28" y="206"/>
                </a:lnTo>
                <a:lnTo>
                  <a:pt x="32" y="230"/>
                </a:lnTo>
                <a:lnTo>
                  <a:pt x="38" y="254"/>
                </a:lnTo>
                <a:lnTo>
                  <a:pt x="42" y="282"/>
                </a:lnTo>
                <a:lnTo>
                  <a:pt x="47" y="309"/>
                </a:lnTo>
                <a:lnTo>
                  <a:pt x="53" y="337"/>
                </a:lnTo>
                <a:lnTo>
                  <a:pt x="59" y="364"/>
                </a:lnTo>
                <a:lnTo>
                  <a:pt x="64" y="392"/>
                </a:lnTo>
                <a:lnTo>
                  <a:pt x="70" y="419"/>
                </a:lnTo>
                <a:lnTo>
                  <a:pt x="76" y="446"/>
                </a:lnTo>
                <a:lnTo>
                  <a:pt x="82" y="470"/>
                </a:lnTo>
                <a:lnTo>
                  <a:pt x="87" y="497"/>
                </a:lnTo>
                <a:lnTo>
                  <a:pt x="94" y="524"/>
                </a:lnTo>
                <a:lnTo>
                  <a:pt x="100" y="552"/>
                </a:lnTo>
                <a:lnTo>
                  <a:pt x="108" y="580"/>
                </a:lnTo>
                <a:lnTo>
                  <a:pt x="116" y="610"/>
                </a:lnTo>
                <a:lnTo>
                  <a:pt x="123" y="638"/>
                </a:lnTo>
                <a:lnTo>
                  <a:pt x="130" y="667"/>
                </a:lnTo>
                <a:lnTo>
                  <a:pt x="139" y="695"/>
                </a:lnTo>
                <a:lnTo>
                  <a:pt x="147" y="723"/>
                </a:lnTo>
                <a:lnTo>
                  <a:pt x="154" y="750"/>
                </a:lnTo>
                <a:lnTo>
                  <a:pt x="162" y="776"/>
                </a:lnTo>
                <a:lnTo>
                  <a:pt x="169" y="799"/>
                </a:lnTo>
                <a:lnTo>
                  <a:pt x="175" y="821"/>
                </a:lnTo>
                <a:lnTo>
                  <a:pt x="182" y="840"/>
                </a:lnTo>
                <a:lnTo>
                  <a:pt x="188" y="858"/>
                </a:lnTo>
                <a:lnTo>
                  <a:pt x="194" y="871"/>
                </a:lnTo>
                <a:lnTo>
                  <a:pt x="199" y="885"/>
                </a:lnTo>
                <a:lnTo>
                  <a:pt x="205" y="901"/>
                </a:lnTo>
                <a:lnTo>
                  <a:pt x="212" y="918"/>
                </a:lnTo>
                <a:lnTo>
                  <a:pt x="219" y="936"/>
                </a:lnTo>
                <a:lnTo>
                  <a:pt x="226" y="956"/>
                </a:lnTo>
                <a:lnTo>
                  <a:pt x="234" y="976"/>
                </a:lnTo>
                <a:lnTo>
                  <a:pt x="244" y="997"/>
                </a:lnTo>
                <a:lnTo>
                  <a:pt x="253" y="1018"/>
                </a:lnTo>
                <a:lnTo>
                  <a:pt x="262" y="1040"/>
                </a:lnTo>
                <a:lnTo>
                  <a:pt x="271" y="1062"/>
                </a:lnTo>
                <a:lnTo>
                  <a:pt x="280" y="1084"/>
                </a:lnTo>
                <a:lnTo>
                  <a:pt x="290" y="1105"/>
                </a:lnTo>
                <a:lnTo>
                  <a:pt x="298" y="1126"/>
                </a:lnTo>
                <a:lnTo>
                  <a:pt x="307" y="1145"/>
                </a:lnTo>
                <a:lnTo>
                  <a:pt x="315" y="1164"/>
                </a:lnTo>
                <a:lnTo>
                  <a:pt x="324" y="1180"/>
                </a:lnTo>
                <a:lnTo>
                  <a:pt x="331" y="1198"/>
                </a:lnTo>
                <a:lnTo>
                  <a:pt x="338" y="1216"/>
                </a:lnTo>
                <a:lnTo>
                  <a:pt x="346" y="1236"/>
                </a:lnTo>
                <a:lnTo>
                  <a:pt x="356" y="1255"/>
                </a:lnTo>
                <a:lnTo>
                  <a:pt x="364" y="1275"/>
                </a:lnTo>
                <a:lnTo>
                  <a:pt x="373" y="1296"/>
                </a:lnTo>
                <a:lnTo>
                  <a:pt x="382" y="1316"/>
                </a:lnTo>
                <a:lnTo>
                  <a:pt x="392" y="1336"/>
                </a:lnTo>
                <a:lnTo>
                  <a:pt x="399" y="1357"/>
                </a:lnTo>
                <a:lnTo>
                  <a:pt x="409" y="1376"/>
                </a:lnTo>
                <a:lnTo>
                  <a:pt x="417" y="1395"/>
                </a:lnTo>
                <a:lnTo>
                  <a:pt x="426" y="1413"/>
                </a:lnTo>
                <a:lnTo>
                  <a:pt x="432" y="1430"/>
                </a:lnTo>
                <a:lnTo>
                  <a:pt x="440" y="1444"/>
                </a:lnTo>
                <a:lnTo>
                  <a:pt x="446" y="1458"/>
                </a:lnTo>
                <a:lnTo>
                  <a:pt x="452" y="1469"/>
                </a:lnTo>
                <a:lnTo>
                  <a:pt x="457" y="1481"/>
                </a:lnTo>
                <a:lnTo>
                  <a:pt x="464" y="1492"/>
                </a:lnTo>
                <a:lnTo>
                  <a:pt x="470" y="1506"/>
                </a:lnTo>
                <a:lnTo>
                  <a:pt x="479" y="1519"/>
                </a:lnTo>
                <a:lnTo>
                  <a:pt x="487" y="1535"/>
                </a:lnTo>
                <a:lnTo>
                  <a:pt x="497" y="1550"/>
                </a:lnTo>
                <a:lnTo>
                  <a:pt x="506" y="1566"/>
                </a:lnTo>
                <a:lnTo>
                  <a:pt x="517" y="1580"/>
                </a:lnTo>
                <a:lnTo>
                  <a:pt x="527" y="1597"/>
                </a:lnTo>
                <a:lnTo>
                  <a:pt x="538" y="1612"/>
                </a:lnTo>
                <a:lnTo>
                  <a:pt x="547" y="1628"/>
                </a:lnTo>
                <a:lnTo>
                  <a:pt x="558" y="1642"/>
                </a:lnTo>
                <a:lnTo>
                  <a:pt x="568" y="1657"/>
                </a:lnTo>
                <a:lnTo>
                  <a:pt x="578" y="1670"/>
                </a:lnTo>
                <a:lnTo>
                  <a:pt x="587" y="1682"/>
                </a:lnTo>
                <a:lnTo>
                  <a:pt x="597" y="1693"/>
                </a:lnTo>
                <a:lnTo>
                  <a:pt x="606" y="1705"/>
                </a:lnTo>
                <a:lnTo>
                  <a:pt x="615" y="1716"/>
                </a:lnTo>
                <a:lnTo>
                  <a:pt x="626" y="1729"/>
                </a:lnTo>
                <a:lnTo>
                  <a:pt x="638" y="1741"/>
                </a:lnTo>
                <a:lnTo>
                  <a:pt x="649" y="1754"/>
                </a:lnTo>
                <a:lnTo>
                  <a:pt x="662" y="1767"/>
                </a:lnTo>
                <a:lnTo>
                  <a:pt x="675" y="1780"/>
                </a:lnTo>
                <a:lnTo>
                  <a:pt x="688" y="1792"/>
                </a:lnTo>
                <a:lnTo>
                  <a:pt x="700" y="1805"/>
                </a:lnTo>
                <a:lnTo>
                  <a:pt x="712" y="1817"/>
                </a:lnTo>
                <a:lnTo>
                  <a:pt x="724" y="1829"/>
                </a:lnTo>
                <a:lnTo>
                  <a:pt x="738" y="1840"/>
                </a:lnTo>
                <a:lnTo>
                  <a:pt x="749" y="1851"/>
                </a:lnTo>
                <a:lnTo>
                  <a:pt x="760" y="1860"/>
                </a:lnTo>
                <a:lnTo>
                  <a:pt x="769" y="1868"/>
                </a:lnTo>
                <a:lnTo>
                  <a:pt x="779" y="1874"/>
                </a:lnTo>
                <a:lnTo>
                  <a:pt x="788" y="1882"/>
                </a:lnTo>
                <a:lnTo>
                  <a:pt x="797" y="1889"/>
                </a:lnTo>
                <a:lnTo>
                  <a:pt x="806" y="1896"/>
                </a:lnTo>
                <a:lnTo>
                  <a:pt x="816" y="1902"/>
                </a:lnTo>
                <a:lnTo>
                  <a:pt x="824" y="1909"/>
                </a:lnTo>
                <a:lnTo>
                  <a:pt x="834" y="1916"/>
                </a:lnTo>
                <a:lnTo>
                  <a:pt x="843" y="1924"/>
                </a:lnTo>
                <a:lnTo>
                  <a:pt x="852" y="1929"/>
                </a:lnTo>
                <a:lnTo>
                  <a:pt x="860" y="1937"/>
                </a:lnTo>
                <a:lnTo>
                  <a:pt x="868" y="1942"/>
                </a:lnTo>
                <a:lnTo>
                  <a:pt x="876" y="1948"/>
                </a:lnTo>
                <a:lnTo>
                  <a:pt x="884" y="1952"/>
                </a:lnTo>
                <a:lnTo>
                  <a:pt x="889" y="1957"/>
                </a:lnTo>
                <a:lnTo>
                  <a:pt x="895" y="1961"/>
                </a:lnTo>
                <a:lnTo>
                  <a:pt x="899" y="1964"/>
                </a:lnTo>
                <a:lnTo>
                  <a:pt x="904" y="1966"/>
                </a:lnTo>
                <a:lnTo>
                  <a:pt x="907" y="1969"/>
                </a:lnTo>
                <a:lnTo>
                  <a:pt x="910" y="1971"/>
                </a:lnTo>
                <a:lnTo>
                  <a:pt x="915" y="1975"/>
                </a:lnTo>
                <a:lnTo>
                  <a:pt x="921" y="1977"/>
                </a:lnTo>
                <a:lnTo>
                  <a:pt x="927" y="1980"/>
                </a:lnTo>
                <a:lnTo>
                  <a:pt x="933" y="1984"/>
                </a:lnTo>
                <a:lnTo>
                  <a:pt x="939" y="1987"/>
                </a:lnTo>
                <a:lnTo>
                  <a:pt x="946" y="1989"/>
                </a:lnTo>
                <a:lnTo>
                  <a:pt x="954" y="1993"/>
                </a:lnTo>
                <a:lnTo>
                  <a:pt x="961" y="1997"/>
                </a:lnTo>
                <a:lnTo>
                  <a:pt x="968" y="2000"/>
                </a:lnTo>
                <a:lnTo>
                  <a:pt x="976" y="2004"/>
                </a:lnTo>
                <a:lnTo>
                  <a:pt x="983" y="2007"/>
                </a:lnTo>
                <a:lnTo>
                  <a:pt x="991" y="2010"/>
                </a:lnTo>
                <a:lnTo>
                  <a:pt x="998" y="2013"/>
                </a:lnTo>
                <a:lnTo>
                  <a:pt x="1005" y="2015"/>
                </a:lnTo>
                <a:lnTo>
                  <a:pt x="1012" y="2018"/>
                </a:lnTo>
                <a:lnTo>
                  <a:pt x="1020" y="2021"/>
                </a:lnTo>
                <a:lnTo>
                  <a:pt x="1029" y="2025"/>
                </a:lnTo>
                <a:lnTo>
                  <a:pt x="1040" y="2027"/>
                </a:lnTo>
                <a:lnTo>
                  <a:pt x="1050" y="2030"/>
                </a:lnTo>
                <a:lnTo>
                  <a:pt x="1062" y="2034"/>
                </a:lnTo>
                <a:lnTo>
                  <a:pt x="1074" y="2038"/>
                </a:lnTo>
                <a:lnTo>
                  <a:pt x="1087" y="2041"/>
                </a:lnTo>
                <a:lnTo>
                  <a:pt x="1099" y="2045"/>
                </a:lnTo>
                <a:lnTo>
                  <a:pt x="1112" y="2048"/>
                </a:lnTo>
                <a:lnTo>
                  <a:pt x="1124" y="2052"/>
                </a:lnTo>
                <a:lnTo>
                  <a:pt x="1138" y="2056"/>
                </a:lnTo>
                <a:lnTo>
                  <a:pt x="1149" y="2060"/>
                </a:lnTo>
                <a:lnTo>
                  <a:pt x="1162" y="2063"/>
                </a:lnTo>
                <a:lnTo>
                  <a:pt x="1173" y="2066"/>
                </a:lnTo>
                <a:lnTo>
                  <a:pt x="1184" y="2068"/>
                </a:lnTo>
                <a:lnTo>
                  <a:pt x="1194" y="2072"/>
                </a:lnTo>
                <a:lnTo>
                  <a:pt x="1205" y="2074"/>
                </a:lnTo>
                <a:lnTo>
                  <a:pt x="1217" y="2077"/>
                </a:lnTo>
                <a:lnTo>
                  <a:pt x="1230" y="2079"/>
                </a:lnTo>
                <a:lnTo>
                  <a:pt x="1244" y="2083"/>
                </a:lnTo>
                <a:lnTo>
                  <a:pt x="1257" y="2085"/>
                </a:lnTo>
                <a:lnTo>
                  <a:pt x="1270" y="2088"/>
                </a:lnTo>
                <a:lnTo>
                  <a:pt x="1286" y="2090"/>
                </a:lnTo>
                <a:lnTo>
                  <a:pt x="1298" y="2094"/>
                </a:lnTo>
                <a:lnTo>
                  <a:pt x="1312" y="2096"/>
                </a:lnTo>
                <a:lnTo>
                  <a:pt x="1325" y="2098"/>
                </a:lnTo>
                <a:lnTo>
                  <a:pt x="1338" y="2100"/>
                </a:lnTo>
                <a:lnTo>
                  <a:pt x="1350" y="2102"/>
                </a:lnTo>
                <a:lnTo>
                  <a:pt x="1362" y="2104"/>
                </a:lnTo>
                <a:lnTo>
                  <a:pt x="1372" y="2106"/>
                </a:lnTo>
                <a:lnTo>
                  <a:pt x="1382" y="2106"/>
                </a:lnTo>
                <a:lnTo>
                  <a:pt x="1391" y="2108"/>
                </a:lnTo>
                <a:lnTo>
                  <a:pt x="1401" y="2109"/>
                </a:lnTo>
                <a:lnTo>
                  <a:pt x="1412" y="2111"/>
                </a:lnTo>
                <a:lnTo>
                  <a:pt x="1424" y="2111"/>
                </a:lnTo>
                <a:lnTo>
                  <a:pt x="1437" y="2113"/>
                </a:lnTo>
                <a:lnTo>
                  <a:pt x="1451" y="2113"/>
                </a:lnTo>
                <a:lnTo>
                  <a:pt x="1464" y="2115"/>
                </a:lnTo>
                <a:lnTo>
                  <a:pt x="1480" y="2115"/>
                </a:lnTo>
                <a:lnTo>
                  <a:pt x="1492" y="2116"/>
                </a:lnTo>
                <a:lnTo>
                  <a:pt x="1508" y="2116"/>
                </a:lnTo>
                <a:lnTo>
                  <a:pt x="1521" y="2118"/>
                </a:lnTo>
                <a:lnTo>
                  <a:pt x="1536" y="2118"/>
                </a:lnTo>
                <a:lnTo>
                  <a:pt x="1549" y="2120"/>
                </a:lnTo>
                <a:lnTo>
                  <a:pt x="1562" y="2120"/>
                </a:lnTo>
                <a:lnTo>
                  <a:pt x="1574" y="2121"/>
                </a:lnTo>
                <a:lnTo>
                  <a:pt x="1586" y="2121"/>
                </a:lnTo>
                <a:lnTo>
                  <a:pt x="1597" y="2123"/>
                </a:lnTo>
                <a:lnTo>
                  <a:pt x="1609" y="2123"/>
                </a:lnTo>
                <a:lnTo>
                  <a:pt x="1621" y="2123"/>
                </a:lnTo>
                <a:lnTo>
                  <a:pt x="1635" y="2123"/>
                </a:lnTo>
                <a:lnTo>
                  <a:pt x="1648" y="2125"/>
                </a:lnTo>
                <a:lnTo>
                  <a:pt x="1662" y="2125"/>
                </a:lnTo>
                <a:lnTo>
                  <a:pt x="1677" y="2125"/>
                </a:lnTo>
                <a:lnTo>
                  <a:pt x="1692" y="2125"/>
                </a:lnTo>
                <a:lnTo>
                  <a:pt x="1705" y="2125"/>
                </a:lnTo>
                <a:lnTo>
                  <a:pt x="1720" y="2125"/>
                </a:lnTo>
                <a:lnTo>
                  <a:pt x="1733" y="2125"/>
                </a:lnTo>
                <a:lnTo>
                  <a:pt x="1746" y="2125"/>
                </a:lnTo>
                <a:lnTo>
                  <a:pt x="1758" y="2125"/>
                </a:lnTo>
                <a:lnTo>
                  <a:pt x="1770" y="2125"/>
                </a:lnTo>
                <a:lnTo>
                  <a:pt x="1780" y="2125"/>
                </a:lnTo>
                <a:lnTo>
                  <a:pt x="1790" y="2125"/>
                </a:lnTo>
                <a:lnTo>
                  <a:pt x="1796" y="2125"/>
                </a:lnTo>
                <a:lnTo>
                  <a:pt x="1802" y="2125"/>
                </a:lnTo>
                <a:lnTo>
                  <a:pt x="1806" y="2125"/>
                </a:lnTo>
                <a:lnTo>
                  <a:pt x="1810" y="2125"/>
                </a:lnTo>
                <a:lnTo>
                  <a:pt x="1812" y="2125"/>
                </a:lnTo>
                <a:lnTo>
                  <a:pt x="1814" y="2125"/>
                </a:lnTo>
                <a:lnTo>
                  <a:pt x="1816" y="2125"/>
                </a:lnTo>
                <a:lnTo>
                  <a:pt x="1818" y="2125"/>
                </a:lnTo>
                <a:lnTo>
                  <a:pt x="1820" y="2125"/>
                </a:lnTo>
                <a:lnTo>
                  <a:pt x="1823" y="2125"/>
                </a:lnTo>
                <a:lnTo>
                  <a:pt x="1828" y="2125"/>
                </a:lnTo>
                <a:lnTo>
                  <a:pt x="1834" y="2125"/>
                </a:lnTo>
                <a:lnTo>
                  <a:pt x="1842" y="2125"/>
                </a:lnTo>
                <a:lnTo>
                  <a:pt x="1853" y="2125"/>
                </a:lnTo>
                <a:lnTo>
                  <a:pt x="1865" y="2125"/>
                </a:lnTo>
                <a:lnTo>
                  <a:pt x="1882" y="2125"/>
                </a:lnTo>
              </a:path>
            </a:pathLst>
          </a:custGeom>
          <a:noFill/>
          <a:ln w="47520">
            <a:solidFill>
              <a:srgbClr val="00c1c2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059280" y="2265480"/>
            <a:ext cx="3260520" cy="3705120"/>
          </a:xfrm>
          <a:custGeom>
            <a:avLst/>
            <a:gdLst/>
            <a:ahLst/>
            <a:rect l="l" t="t" r="r" b="b"/>
            <a:pathLst>
              <a:path w="2054" h="2334">
                <a:moveTo>
                  <a:pt x="0" y="0"/>
                </a:moveTo>
                <a:lnTo>
                  <a:pt x="1" y="20"/>
                </a:lnTo>
                <a:lnTo>
                  <a:pt x="3" y="35"/>
                </a:lnTo>
                <a:lnTo>
                  <a:pt x="3" y="48"/>
                </a:lnTo>
                <a:lnTo>
                  <a:pt x="5" y="57"/>
                </a:lnTo>
                <a:lnTo>
                  <a:pt x="5" y="65"/>
                </a:lnTo>
                <a:lnTo>
                  <a:pt x="6" y="70"/>
                </a:lnTo>
                <a:lnTo>
                  <a:pt x="6" y="74"/>
                </a:lnTo>
                <a:lnTo>
                  <a:pt x="8" y="76"/>
                </a:lnTo>
                <a:lnTo>
                  <a:pt x="8" y="80"/>
                </a:lnTo>
                <a:lnTo>
                  <a:pt x="8" y="82"/>
                </a:lnTo>
                <a:lnTo>
                  <a:pt x="8" y="84"/>
                </a:lnTo>
                <a:lnTo>
                  <a:pt x="9" y="86"/>
                </a:lnTo>
                <a:lnTo>
                  <a:pt x="9" y="91"/>
                </a:lnTo>
                <a:lnTo>
                  <a:pt x="10" y="95"/>
                </a:lnTo>
                <a:lnTo>
                  <a:pt x="10" y="102"/>
                </a:lnTo>
                <a:lnTo>
                  <a:pt x="12" y="111"/>
                </a:lnTo>
                <a:lnTo>
                  <a:pt x="13" y="123"/>
                </a:lnTo>
                <a:lnTo>
                  <a:pt x="15" y="138"/>
                </a:lnTo>
                <a:lnTo>
                  <a:pt x="17" y="157"/>
                </a:lnTo>
                <a:lnTo>
                  <a:pt x="21" y="177"/>
                </a:lnTo>
                <a:lnTo>
                  <a:pt x="25" y="200"/>
                </a:lnTo>
                <a:lnTo>
                  <a:pt x="29" y="225"/>
                </a:lnTo>
                <a:lnTo>
                  <a:pt x="34" y="251"/>
                </a:lnTo>
                <a:lnTo>
                  <a:pt x="40" y="278"/>
                </a:lnTo>
                <a:lnTo>
                  <a:pt x="45" y="308"/>
                </a:lnTo>
                <a:lnTo>
                  <a:pt x="50" y="337"/>
                </a:lnTo>
                <a:lnTo>
                  <a:pt x="56" y="368"/>
                </a:lnTo>
                <a:lnTo>
                  <a:pt x="63" y="398"/>
                </a:lnTo>
                <a:lnTo>
                  <a:pt x="68" y="429"/>
                </a:lnTo>
                <a:lnTo>
                  <a:pt x="76" y="459"/>
                </a:lnTo>
                <a:lnTo>
                  <a:pt x="82" y="489"/>
                </a:lnTo>
                <a:lnTo>
                  <a:pt x="89" y="516"/>
                </a:lnTo>
                <a:lnTo>
                  <a:pt x="95" y="545"/>
                </a:lnTo>
                <a:lnTo>
                  <a:pt x="101" y="575"/>
                </a:lnTo>
                <a:lnTo>
                  <a:pt x="109" y="606"/>
                </a:lnTo>
                <a:lnTo>
                  <a:pt x="117" y="637"/>
                </a:lnTo>
                <a:lnTo>
                  <a:pt x="125" y="669"/>
                </a:lnTo>
                <a:lnTo>
                  <a:pt x="133" y="701"/>
                </a:lnTo>
                <a:lnTo>
                  <a:pt x="141" y="733"/>
                </a:lnTo>
                <a:lnTo>
                  <a:pt x="151" y="763"/>
                </a:lnTo>
                <a:lnTo>
                  <a:pt x="158" y="794"/>
                </a:lnTo>
                <a:lnTo>
                  <a:pt x="167" y="824"/>
                </a:lnTo>
                <a:lnTo>
                  <a:pt x="175" y="852"/>
                </a:lnTo>
                <a:lnTo>
                  <a:pt x="184" y="877"/>
                </a:lnTo>
                <a:lnTo>
                  <a:pt x="191" y="902"/>
                </a:lnTo>
                <a:lnTo>
                  <a:pt x="199" y="923"/>
                </a:lnTo>
                <a:lnTo>
                  <a:pt x="205" y="942"/>
                </a:lnTo>
                <a:lnTo>
                  <a:pt x="212" y="956"/>
                </a:lnTo>
                <a:lnTo>
                  <a:pt x="217" y="971"/>
                </a:lnTo>
                <a:lnTo>
                  <a:pt x="223" y="988"/>
                </a:lnTo>
                <a:lnTo>
                  <a:pt x="231" y="1007"/>
                </a:lnTo>
                <a:lnTo>
                  <a:pt x="239" y="1027"/>
                </a:lnTo>
                <a:lnTo>
                  <a:pt x="247" y="1048"/>
                </a:lnTo>
                <a:lnTo>
                  <a:pt x="257" y="1070"/>
                </a:lnTo>
                <a:lnTo>
                  <a:pt x="266" y="1094"/>
                </a:lnTo>
                <a:lnTo>
                  <a:pt x="277" y="1116"/>
                </a:lnTo>
                <a:lnTo>
                  <a:pt x="286" y="1141"/>
                </a:lnTo>
                <a:lnTo>
                  <a:pt x="296" y="1165"/>
                </a:lnTo>
                <a:lnTo>
                  <a:pt x="305" y="1189"/>
                </a:lnTo>
                <a:lnTo>
                  <a:pt x="316" y="1211"/>
                </a:lnTo>
                <a:lnTo>
                  <a:pt x="325" y="1234"/>
                </a:lnTo>
                <a:lnTo>
                  <a:pt x="335" y="1256"/>
                </a:lnTo>
                <a:lnTo>
                  <a:pt x="343" y="1277"/>
                </a:lnTo>
                <a:lnTo>
                  <a:pt x="352" y="1295"/>
                </a:lnTo>
                <a:lnTo>
                  <a:pt x="360" y="1315"/>
                </a:lnTo>
                <a:lnTo>
                  <a:pt x="368" y="1334"/>
                </a:lnTo>
                <a:lnTo>
                  <a:pt x="377" y="1356"/>
                </a:lnTo>
                <a:lnTo>
                  <a:pt x="387" y="1377"/>
                </a:lnTo>
                <a:lnTo>
                  <a:pt x="397" y="1399"/>
                </a:lnTo>
                <a:lnTo>
                  <a:pt x="407" y="1421"/>
                </a:lnTo>
                <a:lnTo>
                  <a:pt x="416" y="1444"/>
                </a:lnTo>
                <a:lnTo>
                  <a:pt x="427" y="1466"/>
                </a:lnTo>
                <a:lnTo>
                  <a:pt x="437" y="1488"/>
                </a:lnTo>
                <a:lnTo>
                  <a:pt x="446" y="1510"/>
                </a:lnTo>
                <a:lnTo>
                  <a:pt x="455" y="1531"/>
                </a:lnTo>
                <a:lnTo>
                  <a:pt x="465" y="1549"/>
                </a:lnTo>
                <a:lnTo>
                  <a:pt x="472" y="1568"/>
                </a:lnTo>
                <a:lnTo>
                  <a:pt x="481" y="1584"/>
                </a:lnTo>
                <a:lnTo>
                  <a:pt x="487" y="1599"/>
                </a:lnTo>
                <a:lnTo>
                  <a:pt x="494" y="1611"/>
                </a:lnTo>
                <a:lnTo>
                  <a:pt x="499" y="1624"/>
                </a:lnTo>
                <a:lnTo>
                  <a:pt x="506" y="1637"/>
                </a:lnTo>
                <a:lnTo>
                  <a:pt x="513" y="1652"/>
                </a:lnTo>
                <a:lnTo>
                  <a:pt x="523" y="1667"/>
                </a:lnTo>
                <a:lnTo>
                  <a:pt x="532" y="1684"/>
                </a:lnTo>
                <a:lnTo>
                  <a:pt x="542" y="1700"/>
                </a:lnTo>
                <a:lnTo>
                  <a:pt x="553" y="1717"/>
                </a:lnTo>
                <a:lnTo>
                  <a:pt x="565" y="1734"/>
                </a:lnTo>
                <a:lnTo>
                  <a:pt x="575" y="1752"/>
                </a:lnTo>
                <a:lnTo>
                  <a:pt x="586" y="1769"/>
                </a:lnTo>
                <a:lnTo>
                  <a:pt x="597" y="1786"/>
                </a:lnTo>
                <a:lnTo>
                  <a:pt x="609" y="1801"/>
                </a:lnTo>
                <a:lnTo>
                  <a:pt x="619" y="1818"/>
                </a:lnTo>
                <a:lnTo>
                  <a:pt x="631" y="1832"/>
                </a:lnTo>
                <a:lnTo>
                  <a:pt x="641" y="1846"/>
                </a:lnTo>
                <a:lnTo>
                  <a:pt x="651" y="1858"/>
                </a:lnTo>
                <a:lnTo>
                  <a:pt x="661" y="1871"/>
                </a:lnTo>
                <a:lnTo>
                  <a:pt x="671" y="1883"/>
                </a:lnTo>
                <a:lnTo>
                  <a:pt x="682" y="1896"/>
                </a:lnTo>
                <a:lnTo>
                  <a:pt x="695" y="1909"/>
                </a:lnTo>
                <a:lnTo>
                  <a:pt x="709" y="1925"/>
                </a:lnTo>
                <a:lnTo>
                  <a:pt x="722" y="1937"/>
                </a:lnTo>
                <a:lnTo>
                  <a:pt x="735" y="1953"/>
                </a:lnTo>
                <a:lnTo>
                  <a:pt x="750" y="1965"/>
                </a:lnTo>
                <a:lnTo>
                  <a:pt x="763" y="1981"/>
                </a:lnTo>
                <a:lnTo>
                  <a:pt x="778" y="1994"/>
                </a:lnTo>
                <a:lnTo>
                  <a:pt x="791" y="2007"/>
                </a:lnTo>
                <a:lnTo>
                  <a:pt x="805" y="2018"/>
                </a:lnTo>
                <a:lnTo>
                  <a:pt x="817" y="2030"/>
                </a:lnTo>
                <a:lnTo>
                  <a:pt x="829" y="2040"/>
                </a:lnTo>
                <a:lnTo>
                  <a:pt x="840" y="2049"/>
                </a:lnTo>
                <a:lnTo>
                  <a:pt x="851" y="2056"/>
                </a:lnTo>
                <a:lnTo>
                  <a:pt x="859" y="2064"/>
                </a:lnTo>
                <a:lnTo>
                  <a:pt x="869" y="2072"/>
                </a:lnTo>
                <a:lnTo>
                  <a:pt x="878" y="2079"/>
                </a:lnTo>
                <a:lnTo>
                  <a:pt x="889" y="2087"/>
                </a:lnTo>
                <a:lnTo>
                  <a:pt x="899" y="2094"/>
                </a:lnTo>
                <a:lnTo>
                  <a:pt x="909" y="2102"/>
                </a:lnTo>
                <a:lnTo>
                  <a:pt x="919" y="2109"/>
                </a:lnTo>
                <a:lnTo>
                  <a:pt x="929" y="2116"/>
                </a:lnTo>
                <a:lnTo>
                  <a:pt x="937" y="2123"/>
                </a:lnTo>
                <a:lnTo>
                  <a:pt x="947" y="2130"/>
                </a:lnTo>
                <a:lnTo>
                  <a:pt x="955" y="2136"/>
                </a:lnTo>
                <a:lnTo>
                  <a:pt x="963" y="2141"/>
                </a:lnTo>
                <a:lnTo>
                  <a:pt x="969" y="2147"/>
                </a:lnTo>
                <a:lnTo>
                  <a:pt x="976" y="2151"/>
                </a:lnTo>
                <a:lnTo>
                  <a:pt x="981" y="2155"/>
                </a:lnTo>
                <a:lnTo>
                  <a:pt x="986" y="2157"/>
                </a:lnTo>
                <a:lnTo>
                  <a:pt x="989" y="2160"/>
                </a:lnTo>
                <a:lnTo>
                  <a:pt x="993" y="2162"/>
                </a:lnTo>
                <a:lnTo>
                  <a:pt x="998" y="2166"/>
                </a:lnTo>
                <a:lnTo>
                  <a:pt x="1004" y="2168"/>
                </a:lnTo>
                <a:lnTo>
                  <a:pt x="1009" y="2171"/>
                </a:lnTo>
                <a:lnTo>
                  <a:pt x="1017" y="2175"/>
                </a:lnTo>
                <a:lnTo>
                  <a:pt x="1024" y="2179"/>
                </a:lnTo>
                <a:lnTo>
                  <a:pt x="1033" y="2181"/>
                </a:lnTo>
                <a:lnTo>
                  <a:pt x="1040" y="2185"/>
                </a:lnTo>
                <a:lnTo>
                  <a:pt x="1048" y="2189"/>
                </a:lnTo>
                <a:lnTo>
                  <a:pt x="1055" y="2193"/>
                </a:lnTo>
                <a:lnTo>
                  <a:pt x="1065" y="2197"/>
                </a:lnTo>
                <a:lnTo>
                  <a:pt x="1072" y="2200"/>
                </a:lnTo>
                <a:lnTo>
                  <a:pt x="1081" y="2203"/>
                </a:lnTo>
                <a:lnTo>
                  <a:pt x="1088" y="2207"/>
                </a:lnTo>
                <a:lnTo>
                  <a:pt x="1097" y="2208"/>
                </a:lnTo>
                <a:lnTo>
                  <a:pt x="1103" y="2212"/>
                </a:lnTo>
                <a:lnTo>
                  <a:pt x="1113" y="2215"/>
                </a:lnTo>
                <a:lnTo>
                  <a:pt x="1123" y="2219"/>
                </a:lnTo>
                <a:lnTo>
                  <a:pt x="1134" y="2222"/>
                </a:lnTo>
                <a:lnTo>
                  <a:pt x="1145" y="2227"/>
                </a:lnTo>
                <a:lnTo>
                  <a:pt x="1159" y="2231"/>
                </a:lnTo>
                <a:lnTo>
                  <a:pt x="1171" y="2235"/>
                </a:lnTo>
                <a:lnTo>
                  <a:pt x="1185" y="2238"/>
                </a:lnTo>
                <a:lnTo>
                  <a:pt x="1199" y="2243"/>
                </a:lnTo>
                <a:lnTo>
                  <a:pt x="1212" y="2247"/>
                </a:lnTo>
                <a:lnTo>
                  <a:pt x="1225" y="2251"/>
                </a:lnTo>
                <a:lnTo>
                  <a:pt x="1240" y="2255"/>
                </a:lnTo>
                <a:lnTo>
                  <a:pt x="1253" y="2258"/>
                </a:lnTo>
                <a:lnTo>
                  <a:pt x="1267" y="2262"/>
                </a:lnTo>
                <a:lnTo>
                  <a:pt x="1278" y="2266"/>
                </a:lnTo>
                <a:lnTo>
                  <a:pt x="1291" y="2268"/>
                </a:lnTo>
                <a:lnTo>
                  <a:pt x="1301" y="2272"/>
                </a:lnTo>
                <a:lnTo>
                  <a:pt x="1314" y="2275"/>
                </a:lnTo>
                <a:lnTo>
                  <a:pt x="1327" y="2279"/>
                </a:lnTo>
                <a:lnTo>
                  <a:pt x="1341" y="2281"/>
                </a:lnTo>
                <a:lnTo>
                  <a:pt x="1356" y="2285"/>
                </a:lnTo>
                <a:lnTo>
                  <a:pt x="1371" y="2286"/>
                </a:lnTo>
                <a:lnTo>
                  <a:pt x="1386" y="2290"/>
                </a:lnTo>
                <a:lnTo>
                  <a:pt x="1402" y="2292"/>
                </a:lnTo>
                <a:lnTo>
                  <a:pt x="1417" y="2296"/>
                </a:lnTo>
                <a:lnTo>
                  <a:pt x="1432" y="2297"/>
                </a:lnTo>
                <a:lnTo>
                  <a:pt x="1445" y="2301"/>
                </a:lnTo>
                <a:lnTo>
                  <a:pt x="1461" y="2303"/>
                </a:lnTo>
                <a:lnTo>
                  <a:pt x="1474" y="2305"/>
                </a:lnTo>
                <a:lnTo>
                  <a:pt x="1486" y="2306"/>
                </a:lnTo>
                <a:lnTo>
                  <a:pt x="1497" y="2308"/>
                </a:lnTo>
                <a:lnTo>
                  <a:pt x="1509" y="2309"/>
                </a:lnTo>
                <a:lnTo>
                  <a:pt x="1518" y="2311"/>
                </a:lnTo>
                <a:lnTo>
                  <a:pt x="1529" y="2313"/>
                </a:lnTo>
                <a:lnTo>
                  <a:pt x="1542" y="2315"/>
                </a:lnTo>
                <a:lnTo>
                  <a:pt x="1555" y="2315"/>
                </a:lnTo>
                <a:lnTo>
                  <a:pt x="1569" y="2316"/>
                </a:lnTo>
                <a:lnTo>
                  <a:pt x="1584" y="2317"/>
                </a:lnTo>
                <a:lnTo>
                  <a:pt x="1599" y="2319"/>
                </a:lnTo>
                <a:lnTo>
                  <a:pt x="1616" y="2319"/>
                </a:lnTo>
                <a:lnTo>
                  <a:pt x="1631" y="2321"/>
                </a:lnTo>
                <a:lnTo>
                  <a:pt x="1647" y="2321"/>
                </a:lnTo>
                <a:lnTo>
                  <a:pt x="1661" y="2323"/>
                </a:lnTo>
                <a:lnTo>
                  <a:pt x="1678" y="2323"/>
                </a:lnTo>
                <a:lnTo>
                  <a:pt x="1692" y="2325"/>
                </a:lnTo>
                <a:lnTo>
                  <a:pt x="1706" y="2325"/>
                </a:lnTo>
                <a:lnTo>
                  <a:pt x="1719" y="2326"/>
                </a:lnTo>
                <a:lnTo>
                  <a:pt x="1733" y="2326"/>
                </a:lnTo>
                <a:lnTo>
                  <a:pt x="1744" y="2327"/>
                </a:lnTo>
                <a:lnTo>
                  <a:pt x="1757" y="2327"/>
                </a:lnTo>
                <a:lnTo>
                  <a:pt x="1771" y="2329"/>
                </a:lnTo>
                <a:lnTo>
                  <a:pt x="1786" y="2329"/>
                </a:lnTo>
                <a:lnTo>
                  <a:pt x="1801" y="2331"/>
                </a:lnTo>
                <a:lnTo>
                  <a:pt x="1815" y="2331"/>
                </a:lnTo>
                <a:lnTo>
                  <a:pt x="1831" y="2331"/>
                </a:lnTo>
                <a:lnTo>
                  <a:pt x="1847" y="2331"/>
                </a:lnTo>
                <a:lnTo>
                  <a:pt x="1862" y="2333"/>
                </a:lnTo>
                <a:lnTo>
                  <a:pt x="1877" y="2333"/>
                </a:lnTo>
                <a:lnTo>
                  <a:pt x="1892" y="2333"/>
                </a:lnTo>
                <a:lnTo>
                  <a:pt x="1907" y="2333"/>
                </a:lnTo>
                <a:lnTo>
                  <a:pt x="1919" y="2333"/>
                </a:lnTo>
                <a:lnTo>
                  <a:pt x="1932" y="2333"/>
                </a:lnTo>
                <a:lnTo>
                  <a:pt x="1942" y="2333"/>
                </a:lnTo>
                <a:lnTo>
                  <a:pt x="1953" y="2333"/>
                </a:lnTo>
                <a:lnTo>
                  <a:pt x="1960" y="2333"/>
                </a:lnTo>
                <a:lnTo>
                  <a:pt x="1967" y="2333"/>
                </a:lnTo>
                <a:lnTo>
                  <a:pt x="1971" y="2333"/>
                </a:lnTo>
                <a:lnTo>
                  <a:pt x="1975" y="2333"/>
                </a:lnTo>
                <a:lnTo>
                  <a:pt x="1977" y="2333"/>
                </a:lnTo>
                <a:lnTo>
                  <a:pt x="1980" y="2333"/>
                </a:lnTo>
                <a:lnTo>
                  <a:pt x="1981" y="2333"/>
                </a:lnTo>
                <a:lnTo>
                  <a:pt x="1984" y="2333"/>
                </a:lnTo>
                <a:lnTo>
                  <a:pt x="1986" y="2333"/>
                </a:lnTo>
                <a:lnTo>
                  <a:pt x="1990" y="2333"/>
                </a:lnTo>
                <a:lnTo>
                  <a:pt x="1995" y="2333"/>
                </a:lnTo>
                <a:lnTo>
                  <a:pt x="2001" y="2333"/>
                </a:lnTo>
                <a:lnTo>
                  <a:pt x="2010" y="2333"/>
                </a:lnTo>
                <a:lnTo>
                  <a:pt x="2021" y="2333"/>
                </a:lnTo>
                <a:lnTo>
                  <a:pt x="2035" y="2333"/>
                </a:lnTo>
                <a:lnTo>
                  <a:pt x="2053" y="2333"/>
                </a:lnTo>
              </a:path>
            </a:pathLst>
          </a:custGeom>
          <a:noFill/>
          <a:ln w="47520">
            <a:solidFill>
              <a:srgbClr val="00c1c2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913200" y="1839960"/>
            <a:ext cx="2610000" cy="2957400"/>
          </a:xfrm>
          <a:custGeom>
            <a:avLst/>
            <a:gdLst/>
            <a:ahLst/>
            <a:rect l="l" t="t" r="r" b="b"/>
            <a:pathLst>
              <a:path w="1644" h="1863">
                <a:moveTo>
                  <a:pt x="0" y="0"/>
                </a:moveTo>
                <a:lnTo>
                  <a:pt x="0" y="17"/>
                </a:lnTo>
                <a:lnTo>
                  <a:pt x="1" y="29"/>
                </a:lnTo>
                <a:lnTo>
                  <a:pt x="1" y="40"/>
                </a:lnTo>
                <a:lnTo>
                  <a:pt x="3" y="47"/>
                </a:lnTo>
                <a:lnTo>
                  <a:pt x="3" y="53"/>
                </a:lnTo>
                <a:lnTo>
                  <a:pt x="3" y="57"/>
                </a:lnTo>
                <a:lnTo>
                  <a:pt x="3" y="60"/>
                </a:lnTo>
                <a:lnTo>
                  <a:pt x="5" y="62"/>
                </a:lnTo>
                <a:lnTo>
                  <a:pt x="5" y="65"/>
                </a:lnTo>
                <a:lnTo>
                  <a:pt x="5" y="67"/>
                </a:lnTo>
                <a:lnTo>
                  <a:pt x="5" y="68"/>
                </a:lnTo>
                <a:lnTo>
                  <a:pt x="6" y="70"/>
                </a:lnTo>
                <a:lnTo>
                  <a:pt x="6" y="74"/>
                </a:lnTo>
                <a:lnTo>
                  <a:pt x="7" y="78"/>
                </a:lnTo>
                <a:lnTo>
                  <a:pt x="7" y="83"/>
                </a:lnTo>
                <a:lnTo>
                  <a:pt x="8" y="90"/>
                </a:lnTo>
                <a:lnTo>
                  <a:pt x="8" y="100"/>
                </a:lnTo>
                <a:lnTo>
                  <a:pt x="10" y="113"/>
                </a:lnTo>
                <a:lnTo>
                  <a:pt x="12" y="127"/>
                </a:lnTo>
                <a:lnTo>
                  <a:pt x="15" y="143"/>
                </a:lnTo>
                <a:lnTo>
                  <a:pt x="18" y="163"/>
                </a:lnTo>
                <a:lnTo>
                  <a:pt x="21" y="182"/>
                </a:lnTo>
                <a:lnTo>
                  <a:pt x="25" y="203"/>
                </a:lnTo>
                <a:lnTo>
                  <a:pt x="29" y="224"/>
                </a:lnTo>
                <a:lnTo>
                  <a:pt x="33" y="249"/>
                </a:lnTo>
                <a:lnTo>
                  <a:pt x="38" y="272"/>
                </a:lnTo>
                <a:lnTo>
                  <a:pt x="43" y="296"/>
                </a:lnTo>
                <a:lnTo>
                  <a:pt x="48" y="320"/>
                </a:lnTo>
                <a:lnTo>
                  <a:pt x="52" y="344"/>
                </a:lnTo>
                <a:lnTo>
                  <a:pt x="58" y="369"/>
                </a:lnTo>
                <a:lnTo>
                  <a:pt x="63" y="391"/>
                </a:lnTo>
                <a:lnTo>
                  <a:pt x="69" y="413"/>
                </a:lnTo>
                <a:lnTo>
                  <a:pt x="73" y="437"/>
                </a:lnTo>
                <a:lnTo>
                  <a:pt x="79" y="459"/>
                </a:lnTo>
                <a:lnTo>
                  <a:pt x="85" y="485"/>
                </a:lnTo>
                <a:lnTo>
                  <a:pt x="91" y="509"/>
                </a:lnTo>
                <a:lnTo>
                  <a:pt x="97" y="535"/>
                </a:lnTo>
                <a:lnTo>
                  <a:pt x="105" y="560"/>
                </a:lnTo>
                <a:lnTo>
                  <a:pt x="111" y="585"/>
                </a:lnTo>
                <a:lnTo>
                  <a:pt x="119" y="609"/>
                </a:lnTo>
                <a:lnTo>
                  <a:pt x="125" y="634"/>
                </a:lnTo>
                <a:lnTo>
                  <a:pt x="132" y="658"/>
                </a:lnTo>
                <a:lnTo>
                  <a:pt x="137" y="681"/>
                </a:lnTo>
                <a:lnTo>
                  <a:pt x="145" y="701"/>
                </a:lnTo>
                <a:lnTo>
                  <a:pt x="151" y="720"/>
                </a:lnTo>
                <a:lnTo>
                  <a:pt x="157" y="737"/>
                </a:lnTo>
                <a:lnTo>
                  <a:pt x="163" y="751"/>
                </a:lnTo>
                <a:lnTo>
                  <a:pt x="168" y="763"/>
                </a:lnTo>
                <a:lnTo>
                  <a:pt x="172" y="776"/>
                </a:lnTo>
                <a:lnTo>
                  <a:pt x="177" y="789"/>
                </a:lnTo>
                <a:lnTo>
                  <a:pt x="183" y="804"/>
                </a:lnTo>
                <a:lnTo>
                  <a:pt x="191" y="820"/>
                </a:lnTo>
                <a:lnTo>
                  <a:pt x="197" y="838"/>
                </a:lnTo>
                <a:lnTo>
                  <a:pt x="205" y="855"/>
                </a:lnTo>
                <a:lnTo>
                  <a:pt x="212" y="873"/>
                </a:lnTo>
                <a:lnTo>
                  <a:pt x="221" y="891"/>
                </a:lnTo>
                <a:lnTo>
                  <a:pt x="228" y="912"/>
                </a:lnTo>
                <a:lnTo>
                  <a:pt x="235" y="931"/>
                </a:lnTo>
                <a:lnTo>
                  <a:pt x="243" y="949"/>
                </a:lnTo>
                <a:lnTo>
                  <a:pt x="252" y="967"/>
                </a:lnTo>
                <a:lnTo>
                  <a:pt x="259" y="986"/>
                </a:lnTo>
                <a:lnTo>
                  <a:pt x="267" y="1003"/>
                </a:lnTo>
                <a:lnTo>
                  <a:pt x="273" y="1020"/>
                </a:lnTo>
                <a:lnTo>
                  <a:pt x="281" y="1034"/>
                </a:lnTo>
                <a:lnTo>
                  <a:pt x="286" y="1051"/>
                </a:lnTo>
                <a:lnTo>
                  <a:pt x="293" y="1066"/>
                </a:lnTo>
                <a:lnTo>
                  <a:pt x="300" y="1083"/>
                </a:lnTo>
                <a:lnTo>
                  <a:pt x="308" y="1100"/>
                </a:lnTo>
                <a:lnTo>
                  <a:pt x="315" y="1119"/>
                </a:lnTo>
                <a:lnTo>
                  <a:pt x="323" y="1136"/>
                </a:lnTo>
                <a:lnTo>
                  <a:pt x="331" y="1155"/>
                </a:lnTo>
                <a:lnTo>
                  <a:pt x="340" y="1171"/>
                </a:lnTo>
                <a:lnTo>
                  <a:pt x="348" y="1190"/>
                </a:lnTo>
                <a:lnTo>
                  <a:pt x="355" y="1207"/>
                </a:lnTo>
                <a:lnTo>
                  <a:pt x="362" y="1223"/>
                </a:lnTo>
                <a:lnTo>
                  <a:pt x="370" y="1238"/>
                </a:lnTo>
                <a:lnTo>
                  <a:pt x="375" y="1253"/>
                </a:lnTo>
                <a:lnTo>
                  <a:pt x="382" y="1266"/>
                </a:lnTo>
                <a:lnTo>
                  <a:pt x="388" y="1278"/>
                </a:lnTo>
                <a:lnTo>
                  <a:pt x="393" y="1286"/>
                </a:lnTo>
                <a:lnTo>
                  <a:pt x="397" y="1297"/>
                </a:lnTo>
                <a:lnTo>
                  <a:pt x="403" y="1307"/>
                </a:lnTo>
                <a:lnTo>
                  <a:pt x="409" y="1320"/>
                </a:lnTo>
                <a:lnTo>
                  <a:pt x="417" y="1331"/>
                </a:lnTo>
                <a:lnTo>
                  <a:pt x="424" y="1345"/>
                </a:lnTo>
                <a:lnTo>
                  <a:pt x="432" y="1358"/>
                </a:lnTo>
                <a:lnTo>
                  <a:pt x="441" y="1372"/>
                </a:lnTo>
                <a:lnTo>
                  <a:pt x="450" y="1385"/>
                </a:lnTo>
                <a:lnTo>
                  <a:pt x="458" y="1400"/>
                </a:lnTo>
                <a:lnTo>
                  <a:pt x="468" y="1413"/>
                </a:lnTo>
                <a:lnTo>
                  <a:pt x="477" y="1427"/>
                </a:lnTo>
                <a:lnTo>
                  <a:pt x="486" y="1439"/>
                </a:lnTo>
                <a:lnTo>
                  <a:pt x="494" y="1452"/>
                </a:lnTo>
                <a:lnTo>
                  <a:pt x="503" y="1463"/>
                </a:lnTo>
                <a:lnTo>
                  <a:pt x="511" y="1474"/>
                </a:lnTo>
                <a:lnTo>
                  <a:pt x="521" y="1483"/>
                </a:lnTo>
                <a:lnTo>
                  <a:pt x="527" y="1494"/>
                </a:lnTo>
                <a:lnTo>
                  <a:pt x="536" y="1504"/>
                </a:lnTo>
                <a:lnTo>
                  <a:pt x="546" y="1515"/>
                </a:lnTo>
                <a:lnTo>
                  <a:pt x="556" y="1525"/>
                </a:lnTo>
                <a:lnTo>
                  <a:pt x="566" y="1537"/>
                </a:lnTo>
                <a:lnTo>
                  <a:pt x="577" y="1548"/>
                </a:lnTo>
                <a:lnTo>
                  <a:pt x="589" y="1559"/>
                </a:lnTo>
                <a:lnTo>
                  <a:pt x="600" y="1570"/>
                </a:lnTo>
                <a:lnTo>
                  <a:pt x="611" y="1581"/>
                </a:lnTo>
                <a:lnTo>
                  <a:pt x="622" y="1592"/>
                </a:lnTo>
                <a:lnTo>
                  <a:pt x="632" y="1603"/>
                </a:lnTo>
                <a:lnTo>
                  <a:pt x="643" y="1612"/>
                </a:lnTo>
                <a:lnTo>
                  <a:pt x="653" y="1621"/>
                </a:lnTo>
                <a:lnTo>
                  <a:pt x="663" y="1629"/>
                </a:lnTo>
                <a:lnTo>
                  <a:pt x="672" y="1637"/>
                </a:lnTo>
                <a:lnTo>
                  <a:pt x="681" y="1643"/>
                </a:lnTo>
                <a:lnTo>
                  <a:pt x="689" y="1650"/>
                </a:lnTo>
                <a:lnTo>
                  <a:pt x="696" y="1656"/>
                </a:lnTo>
                <a:lnTo>
                  <a:pt x="703" y="1661"/>
                </a:lnTo>
                <a:lnTo>
                  <a:pt x="712" y="1667"/>
                </a:lnTo>
                <a:lnTo>
                  <a:pt x="720" y="1674"/>
                </a:lnTo>
                <a:lnTo>
                  <a:pt x="728" y="1679"/>
                </a:lnTo>
                <a:lnTo>
                  <a:pt x="735" y="1685"/>
                </a:lnTo>
                <a:lnTo>
                  <a:pt x="744" y="1691"/>
                </a:lnTo>
                <a:lnTo>
                  <a:pt x="750" y="1696"/>
                </a:lnTo>
                <a:lnTo>
                  <a:pt x="758" y="1702"/>
                </a:lnTo>
                <a:lnTo>
                  <a:pt x="763" y="1707"/>
                </a:lnTo>
                <a:lnTo>
                  <a:pt x="770" y="1711"/>
                </a:lnTo>
                <a:lnTo>
                  <a:pt x="775" y="1715"/>
                </a:lnTo>
                <a:lnTo>
                  <a:pt x="780" y="1718"/>
                </a:lnTo>
                <a:lnTo>
                  <a:pt x="784" y="1721"/>
                </a:lnTo>
                <a:lnTo>
                  <a:pt x="788" y="1722"/>
                </a:lnTo>
                <a:lnTo>
                  <a:pt x="789" y="1725"/>
                </a:lnTo>
                <a:lnTo>
                  <a:pt x="793" y="1727"/>
                </a:lnTo>
                <a:lnTo>
                  <a:pt x="797" y="1729"/>
                </a:lnTo>
                <a:lnTo>
                  <a:pt x="803" y="1731"/>
                </a:lnTo>
                <a:lnTo>
                  <a:pt x="808" y="1735"/>
                </a:lnTo>
                <a:lnTo>
                  <a:pt x="813" y="1737"/>
                </a:lnTo>
                <a:lnTo>
                  <a:pt x="819" y="1741"/>
                </a:lnTo>
                <a:lnTo>
                  <a:pt x="827" y="1743"/>
                </a:lnTo>
                <a:lnTo>
                  <a:pt x="832" y="1746"/>
                </a:lnTo>
                <a:lnTo>
                  <a:pt x="839" y="1749"/>
                </a:lnTo>
                <a:lnTo>
                  <a:pt x="845" y="1753"/>
                </a:lnTo>
                <a:lnTo>
                  <a:pt x="852" y="1754"/>
                </a:lnTo>
                <a:lnTo>
                  <a:pt x="858" y="1758"/>
                </a:lnTo>
                <a:lnTo>
                  <a:pt x="865" y="1760"/>
                </a:lnTo>
                <a:lnTo>
                  <a:pt x="871" y="1762"/>
                </a:lnTo>
                <a:lnTo>
                  <a:pt x="877" y="1764"/>
                </a:lnTo>
                <a:lnTo>
                  <a:pt x="883" y="1767"/>
                </a:lnTo>
                <a:lnTo>
                  <a:pt x="891" y="1769"/>
                </a:lnTo>
                <a:lnTo>
                  <a:pt x="898" y="1773"/>
                </a:lnTo>
                <a:lnTo>
                  <a:pt x="907" y="1774"/>
                </a:lnTo>
                <a:lnTo>
                  <a:pt x="917" y="1778"/>
                </a:lnTo>
                <a:lnTo>
                  <a:pt x="927" y="1781"/>
                </a:lnTo>
                <a:lnTo>
                  <a:pt x="938" y="1785"/>
                </a:lnTo>
                <a:lnTo>
                  <a:pt x="949" y="1787"/>
                </a:lnTo>
                <a:lnTo>
                  <a:pt x="959" y="1791"/>
                </a:lnTo>
                <a:lnTo>
                  <a:pt x="971" y="1794"/>
                </a:lnTo>
                <a:lnTo>
                  <a:pt x="982" y="1798"/>
                </a:lnTo>
                <a:lnTo>
                  <a:pt x="993" y="1801"/>
                </a:lnTo>
                <a:lnTo>
                  <a:pt x="1003" y="1804"/>
                </a:lnTo>
                <a:lnTo>
                  <a:pt x="1014" y="1806"/>
                </a:lnTo>
                <a:lnTo>
                  <a:pt x="1023" y="1809"/>
                </a:lnTo>
                <a:lnTo>
                  <a:pt x="1033" y="1811"/>
                </a:lnTo>
                <a:lnTo>
                  <a:pt x="1042" y="1814"/>
                </a:lnTo>
                <a:lnTo>
                  <a:pt x="1052" y="1816"/>
                </a:lnTo>
                <a:lnTo>
                  <a:pt x="1062" y="1819"/>
                </a:lnTo>
                <a:lnTo>
                  <a:pt x="1073" y="1821"/>
                </a:lnTo>
                <a:lnTo>
                  <a:pt x="1085" y="1824"/>
                </a:lnTo>
                <a:lnTo>
                  <a:pt x="1097" y="1826"/>
                </a:lnTo>
                <a:lnTo>
                  <a:pt x="1109" y="1828"/>
                </a:lnTo>
                <a:lnTo>
                  <a:pt x="1122" y="1830"/>
                </a:lnTo>
                <a:lnTo>
                  <a:pt x="1133" y="1833"/>
                </a:lnTo>
                <a:lnTo>
                  <a:pt x="1145" y="1835"/>
                </a:lnTo>
                <a:lnTo>
                  <a:pt x="1157" y="1837"/>
                </a:lnTo>
                <a:lnTo>
                  <a:pt x="1168" y="1839"/>
                </a:lnTo>
                <a:lnTo>
                  <a:pt x="1178" y="1841"/>
                </a:lnTo>
                <a:lnTo>
                  <a:pt x="1188" y="1842"/>
                </a:lnTo>
                <a:lnTo>
                  <a:pt x="1197" y="1844"/>
                </a:lnTo>
                <a:lnTo>
                  <a:pt x="1206" y="1844"/>
                </a:lnTo>
                <a:lnTo>
                  <a:pt x="1213" y="1846"/>
                </a:lnTo>
                <a:lnTo>
                  <a:pt x="1223" y="1846"/>
                </a:lnTo>
                <a:lnTo>
                  <a:pt x="1233" y="1848"/>
                </a:lnTo>
                <a:lnTo>
                  <a:pt x="1244" y="1848"/>
                </a:lnTo>
                <a:lnTo>
                  <a:pt x="1255" y="1850"/>
                </a:lnTo>
                <a:lnTo>
                  <a:pt x="1267" y="1850"/>
                </a:lnTo>
                <a:lnTo>
                  <a:pt x="1279" y="1852"/>
                </a:lnTo>
                <a:lnTo>
                  <a:pt x="1292" y="1852"/>
                </a:lnTo>
                <a:lnTo>
                  <a:pt x="1303" y="1853"/>
                </a:lnTo>
                <a:lnTo>
                  <a:pt x="1316" y="1853"/>
                </a:lnTo>
                <a:lnTo>
                  <a:pt x="1328" y="1855"/>
                </a:lnTo>
                <a:lnTo>
                  <a:pt x="1341" y="1855"/>
                </a:lnTo>
                <a:lnTo>
                  <a:pt x="1353" y="1857"/>
                </a:lnTo>
                <a:lnTo>
                  <a:pt x="1364" y="1857"/>
                </a:lnTo>
                <a:lnTo>
                  <a:pt x="1374" y="1857"/>
                </a:lnTo>
                <a:lnTo>
                  <a:pt x="1385" y="1857"/>
                </a:lnTo>
                <a:lnTo>
                  <a:pt x="1394" y="1859"/>
                </a:lnTo>
                <a:lnTo>
                  <a:pt x="1404" y="1859"/>
                </a:lnTo>
                <a:lnTo>
                  <a:pt x="1415" y="1860"/>
                </a:lnTo>
                <a:lnTo>
                  <a:pt x="1427" y="1860"/>
                </a:lnTo>
                <a:lnTo>
                  <a:pt x="1438" y="1862"/>
                </a:lnTo>
                <a:lnTo>
                  <a:pt x="1451" y="1862"/>
                </a:lnTo>
                <a:lnTo>
                  <a:pt x="1463" y="1862"/>
                </a:lnTo>
                <a:lnTo>
                  <a:pt x="1477" y="1862"/>
                </a:lnTo>
                <a:lnTo>
                  <a:pt x="1488" y="1862"/>
                </a:lnTo>
                <a:lnTo>
                  <a:pt x="1501" y="1862"/>
                </a:lnTo>
                <a:lnTo>
                  <a:pt x="1512" y="1862"/>
                </a:lnTo>
                <a:lnTo>
                  <a:pt x="1525" y="1862"/>
                </a:lnTo>
                <a:lnTo>
                  <a:pt x="1535" y="1862"/>
                </a:lnTo>
                <a:lnTo>
                  <a:pt x="1545" y="1862"/>
                </a:lnTo>
                <a:lnTo>
                  <a:pt x="1555" y="1862"/>
                </a:lnTo>
                <a:lnTo>
                  <a:pt x="1564" y="1862"/>
                </a:lnTo>
                <a:lnTo>
                  <a:pt x="1570" y="1862"/>
                </a:lnTo>
                <a:lnTo>
                  <a:pt x="1575" y="1862"/>
                </a:lnTo>
                <a:lnTo>
                  <a:pt x="1578" y="1862"/>
                </a:lnTo>
                <a:lnTo>
                  <a:pt x="1581" y="1862"/>
                </a:lnTo>
                <a:lnTo>
                  <a:pt x="1583" y="1862"/>
                </a:lnTo>
                <a:lnTo>
                  <a:pt x="1585" y="1862"/>
                </a:lnTo>
                <a:lnTo>
                  <a:pt x="1587" y="1862"/>
                </a:lnTo>
                <a:lnTo>
                  <a:pt x="1588" y="1862"/>
                </a:lnTo>
                <a:lnTo>
                  <a:pt x="1590" y="1862"/>
                </a:lnTo>
                <a:lnTo>
                  <a:pt x="1593" y="1862"/>
                </a:lnTo>
                <a:lnTo>
                  <a:pt x="1597" y="1862"/>
                </a:lnTo>
                <a:lnTo>
                  <a:pt x="1603" y="1862"/>
                </a:lnTo>
                <a:lnTo>
                  <a:pt x="1609" y="1862"/>
                </a:lnTo>
                <a:lnTo>
                  <a:pt x="1618" y="1862"/>
                </a:lnTo>
                <a:lnTo>
                  <a:pt x="1629" y="1862"/>
                </a:lnTo>
                <a:lnTo>
                  <a:pt x="1643" y="1862"/>
                </a:lnTo>
              </a:path>
            </a:pathLst>
          </a:custGeom>
          <a:noFill/>
          <a:ln w="47520">
            <a:solidFill>
              <a:srgbClr val="00c1c2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rot="20160000">
            <a:off x="1895040" y="4598640"/>
            <a:ext cx="227484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600" spc="-1" strike="noStrike">
                <a:solidFill>
                  <a:srgbClr val="808080"/>
                </a:solidFill>
                <a:latin typeface="Arial"/>
              </a:rPr>
              <a:t>incremento en preferenci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324480" y="6934320"/>
            <a:ext cx="1295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62120" y="2590920"/>
            <a:ext cx="1295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04920" y="380880"/>
            <a:ext cx="945360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.luego incorpore las preferencias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389320" y="3092400"/>
            <a:ext cx="2977920" cy="1571760"/>
          </a:xfrm>
          <a:custGeom>
            <a:avLst/>
            <a:gdLst/>
            <a:ahLst/>
            <a:rect l="l" t="t" r="r" b="b"/>
            <a:pathLst>
              <a:path w="1876" h="990">
                <a:moveTo>
                  <a:pt x="0" y="771"/>
                </a:moveTo>
                <a:lnTo>
                  <a:pt x="1103" y="127"/>
                </a:lnTo>
                <a:lnTo>
                  <a:pt x="957" y="0"/>
                </a:lnTo>
                <a:lnTo>
                  <a:pt x="1839" y="65"/>
                </a:lnTo>
                <a:lnTo>
                  <a:pt x="1875" y="568"/>
                </a:lnTo>
                <a:lnTo>
                  <a:pt x="1734" y="479"/>
                </a:lnTo>
                <a:lnTo>
                  <a:pt x="336" y="989"/>
                </a:lnTo>
                <a:lnTo>
                  <a:pt x="0" y="771"/>
                </a:lnTo>
                <a:lnTo>
                  <a:pt x="0" y="771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04800" y="380880"/>
            <a:ext cx="945360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.y obtenemos el problema de Robinson Crusoe en forma completa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448080" y="1965240"/>
            <a:ext cx="2987640" cy="3376800"/>
          </a:xfrm>
          <a:custGeom>
            <a:avLst/>
            <a:gdLst/>
            <a:ahLst/>
            <a:rect l="l" t="t" r="r" b="b"/>
            <a:pathLst>
              <a:path w="1882" h="2127">
                <a:moveTo>
                  <a:pt x="0" y="0"/>
                </a:moveTo>
                <a:lnTo>
                  <a:pt x="0" y="19"/>
                </a:lnTo>
                <a:lnTo>
                  <a:pt x="2" y="33"/>
                </a:lnTo>
                <a:lnTo>
                  <a:pt x="2" y="44"/>
                </a:lnTo>
                <a:lnTo>
                  <a:pt x="4" y="52"/>
                </a:lnTo>
                <a:lnTo>
                  <a:pt x="4" y="59"/>
                </a:lnTo>
                <a:lnTo>
                  <a:pt x="5" y="64"/>
                </a:lnTo>
                <a:lnTo>
                  <a:pt x="5" y="68"/>
                </a:lnTo>
                <a:lnTo>
                  <a:pt x="7" y="70"/>
                </a:lnTo>
                <a:lnTo>
                  <a:pt x="7" y="72"/>
                </a:lnTo>
                <a:lnTo>
                  <a:pt x="7" y="74"/>
                </a:lnTo>
                <a:lnTo>
                  <a:pt x="7" y="77"/>
                </a:lnTo>
                <a:lnTo>
                  <a:pt x="8" y="78"/>
                </a:lnTo>
                <a:lnTo>
                  <a:pt x="8" y="82"/>
                </a:lnTo>
                <a:lnTo>
                  <a:pt x="8" y="87"/>
                </a:lnTo>
                <a:lnTo>
                  <a:pt x="9" y="94"/>
                </a:lnTo>
                <a:lnTo>
                  <a:pt x="10" y="101"/>
                </a:lnTo>
                <a:lnTo>
                  <a:pt x="11" y="113"/>
                </a:lnTo>
                <a:lnTo>
                  <a:pt x="13" y="127"/>
                </a:lnTo>
                <a:lnTo>
                  <a:pt x="16" y="144"/>
                </a:lnTo>
                <a:lnTo>
                  <a:pt x="19" y="162"/>
                </a:lnTo>
                <a:lnTo>
                  <a:pt x="23" y="184"/>
                </a:lnTo>
                <a:lnTo>
                  <a:pt x="27" y="206"/>
                </a:lnTo>
                <a:lnTo>
                  <a:pt x="31" y="231"/>
                </a:lnTo>
                <a:lnTo>
                  <a:pt x="37" y="255"/>
                </a:lnTo>
                <a:lnTo>
                  <a:pt x="41" y="282"/>
                </a:lnTo>
                <a:lnTo>
                  <a:pt x="47" y="310"/>
                </a:lnTo>
                <a:lnTo>
                  <a:pt x="52" y="338"/>
                </a:lnTo>
                <a:lnTo>
                  <a:pt x="58" y="364"/>
                </a:lnTo>
                <a:lnTo>
                  <a:pt x="64" y="392"/>
                </a:lnTo>
                <a:lnTo>
                  <a:pt x="69" y="420"/>
                </a:lnTo>
                <a:lnTo>
                  <a:pt x="75" y="446"/>
                </a:lnTo>
                <a:lnTo>
                  <a:pt x="81" y="471"/>
                </a:lnTo>
                <a:lnTo>
                  <a:pt x="87" y="498"/>
                </a:lnTo>
                <a:lnTo>
                  <a:pt x="93" y="525"/>
                </a:lnTo>
                <a:lnTo>
                  <a:pt x="100" y="553"/>
                </a:lnTo>
                <a:lnTo>
                  <a:pt x="107" y="581"/>
                </a:lnTo>
                <a:lnTo>
                  <a:pt x="115" y="611"/>
                </a:lnTo>
                <a:lnTo>
                  <a:pt x="122" y="639"/>
                </a:lnTo>
                <a:lnTo>
                  <a:pt x="130" y="668"/>
                </a:lnTo>
                <a:lnTo>
                  <a:pt x="138" y="696"/>
                </a:lnTo>
                <a:lnTo>
                  <a:pt x="146" y="724"/>
                </a:lnTo>
                <a:lnTo>
                  <a:pt x="154" y="750"/>
                </a:lnTo>
                <a:lnTo>
                  <a:pt x="161" y="776"/>
                </a:lnTo>
                <a:lnTo>
                  <a:pt x="168" y="799"/>
                </a:lnTo>
                <a:lnTo>
                  <a:pt x="174" y="822"/>
                </a:lnTo>
                <a:lnTo>
                  <a:pt x="182" y="841"/>
                </a:lnTo>
                <a:lnTo>
                  <a:pt x="187" y="858"/>
                </a:lnTo>
                <a:lnTo>
                  <a:pt x="193" y="872"/>
                </a:lnTo>
                <a:lnTo>
                  <a:pt x="198" y="886"/>
                </a:lnTo>
                <a:lnTo>
                  <a:pt x="204" y="902"/>
                </a:lnTo>
                <a:lnTo>
                  <a:pt x="211" y="919"/>
                </a:lnTo>
                <a:lnTo>
                  <a:pt x="218" y="936"/>
                </a:lnTo>
                <a:lnTo>
                  <a:pt x="226" y="956"/>
                </a:lnTo>
                <a:lnTo>
                  <a:pt x="234" y="976"/>
                </a:lnTo>
                <a:lnTo>
                  <a:pt x="243" y="998"/>
                </a:lnTo>
                <a:lnTo>
                  <a:pt x="253" y="1018"/>
                </a:lnTo>
                <a:lnTo>
                  <a:pt x="261" y="1041"/>
                </a:lnTo>
                <a:lnTo>
                  <a:pt x="270" y="1063"/>
                </a:lnTo>
                <a:lnTo>
                  <a:pt x="280" y="1085"/>
                </a:lnTo>
                <a:lnTo>
                  <a:pt x="289" y="1106"/>
                </a:lnTo>
                <a:lnTo>
                  <a:pt x="297" y="1126"/>
                </a:lnTo>
                <a:lnTo>
                  <a:pt x="306" y="1146"/>
                </a:lnTo>
                <a:lnTo>
                  <a:pt x="314" y="1164"/>
                </a:lnTo>
                <a:lnTo>
                  <a:pt x="323" y="1180"/>
                </a:lnTo>
                <a:lnTo>
                  <a:pt x="330" y="1199"/>
                </a:lnTo>
                <a:lnTo>
                  <a:pt x="338" y="1217"/>
                </a:lnTo>
                <a:lnTo>
                  <a:pt x="346" y="1237"/>
                </a:lnTo>
                <a:lnTo>
                  <a:pt x="355" y="1256"/>
                </a:lnTo>
                <a:lnTo>
                  <a:pt x="363" y="1276"/>
                </a:lnTo>
                <a:lnTo>
                  <a:pt x="372" y="1296"/>
                </a:lnTo>
                <a:lnTo>
                  <a:pt x="382" y="1317"/>
                </a:lnTo>
                <a:lnTo>
                  <a:pt x="391" y="1337"/>
                </a:lnTo>
                <a:lnTo>
                  <a:pt x="399" y="1358"/>
                </a:lnTo>
                <a:lnTo>
                  <a:pt x="408" y="1377"/>
                </a:lnTo>
                <a:lnTo>
                  <a:pt x="416" y="1396"/>
                </a:lnTo>
                <a:lnTo>
                  <a:pt x="425" y="1413"/>
                </a:lnTo>
                <a:lnTo>
                  <a:pt x="432" y="1430"/>
                </a:lnTo>
                <a:lnTo>
                  <a:pt x="439" y="1445"/>
                </a:lnTo>
                <a:lnTo>
                  <a:pt x="445" y="1459"/>
                </a:lnTo>
                <a:lnTo>
                  <a:pt x="452" y="1470"/>
                </a:lnTo>
                <a:lnTo>
                  <a:pt x="457" y="1481"/>
                </a:lnTo>
                <a:lnTo>
                  <a:pt x="463" y="1493"/>
                </a:lnTo>
                <a:lnTo>
                  <a:pt x="470" y="1507"/>
                </a:lnTo>
                <a:lnTo>
                  <a:pt x="478" y="1520"/>
                </a:lnTo>
                <a:lnTo>
                  <a:pt x="487" y="1536"/>
                </a:lnTo>
                <a:lnTo>
                  <a:pt x="496" y="1550"/>
                </a:lnTo>
                <a:lnTo>
                  <a:pt x="505" y="1566"/>
                </a:lnTo>
                <a:lnTo>
                  <a:pt x="517" y="1581"/>
                </a:lnTo>
                <a:lnTo>
                  <a:pt x="526" y="1598"/>
                </a:lnTo>
                <a:lnTo>
                  <a:pt x="537" y="1613"/>
                </a:lnTo>
                <a:lnTo>
                  <a:pt x="546" y="1628"/>
                </a:lnTo>
                <a:lnTo>
                  <a:pt x="558" y="1643"/>
                </a:lnTo>
                <a:lnTo>
                  <a:pt x="567" y="1658"/>
                </a:lnTo>
                <a:lnTo>
                  <a:pt x="577" y="1671"/>
                </a:lnTo>
                <a:lnTo>
                  <a:pt x="586" y="1683"/>
                </a:lnTo>
                <a:lnTo>
                  <a:pt x="596" y="1694"/>
                </a:lnTo>
                <a:lnTo>
                  <a:pt x="605" y="1705"/>
                </a:lnTo>
                <a:lnTo>
                  <a:pt x="614" y="1716"/>
                </a:lnTo>
                <a:lnTo>
                  <a:pt x="625" y="1730"/>
                </a:lnTo>
                <a:lnTo>
                  <a:pt x="637" y="1742"/>
                </a:lnTo>
                <a:lnTo>
                  <a:pt x="648" y="1755"/>
                </a:lnTo>
                <a:lnTo>
                  <a:pt x="661" y="1768"/>
                </a:lnTo>
                <a:lnTo>
                  <a:pt x="674" y="1781"/>
                </a:lnTo>
                <a:lnTo>
                  <a:pt x="688" y="1793"/>
                </a:lnTo>
                <a:lnTo>
                  <a:pt x="699" y="1806"/>
                </a:lnTo>
                <a:lnTo>
                  <a:pt x="712" y="1818"/>
                </a:lnTo>
                <a:lnTo>
                  <a:pt x="724" y="1830"/>
                </a:lnTo>
                <a:lnTo>
                  <a:pt x="737" y="1840"/>
                </a:lnTo>
                <a:lnTo>
                  <a:pt x="748" y="1851"/>
                </a:lnTo>
                <a:lnTo>
                  <a:pt x="759" y="1860"/>
                </a:lnTo>
                <a:lnTo>
                  <a:pt x="769" y="1868"/>
                </a:lnTo>
                <a:lnTo>
                  <a:pt x="779" y="1875"/>
                </a:lnTo>
                <a:lnTo>
                  <a:pt x="787" y="1882"/>
                </a:lnTo>
                <a:lnTo>
                  <a:pt x="796" y="1889"/>
                </a:lnTo>
                <a:lnTo>
                  <a:pt x="806" y="1897"/>
                </a:lnTo>
                <a:lnTo>
                  <a:pt x="815" y="1902"/>
                </a:lnTo>
                <a:lnTo>
                  <a:pt x="824" y="1910"/>
                </a:lnTo>
                <a:lnTo>
                  <a:pt x="833" y="1917"/>
                </a:lnTo>
                <a:lnTo>
                  <a:pt x="842" y="1924"/>
                </a:lnTo>
                <a:lnTo>
                  <a:pt x="852" y="1930"/>
                </a:lnTo>
                <a:lnTo>
                  <a:pt x="859" y="1938"/>
                </a:lnTo>
                <a:lnTo>
                  <a:pt x="868" y="1943"/>
                </a:lnTo>
                <a:lnTo>
                  <a:pt x="876" y="1949"/>
                </a:lnTo>
                <a:lnTo>
                  <a:pt x="883" y="1953"/>
                </a:lnTo>
                <a:lnTo>
                  <a:pt x="888" y="1958"/>
                </a:lnTo>
                <a:lnTo>
                  <a:pt x="894" y="1962"/>
                </a:lnTo>
                <a:lnTo>
                  <a:pt x="898" y="1965"/>
                </a:lnTo>
                <a:lnTo>
                  <a:pt x="904" y="1967"/>
                </a:lnTo>
                <a:lnTo>
                  <a:pt x="906" y="1970"/>
                </a:lnTo>
                <a:lnTo>
                  <a:pt x="910" y="1972"/>
                </a:lnTo>
                <a:lnTo>
                  <a:pt x="915" y="1976"/>
                </a:lnTo>
                <a:lnTo>
                  <a:pt x="920" y="1977"/>
                </a:lnTo>
                <a:lnTo>
                  <a:pt x="926" y="1981"/>
                </a:lnTo>
                <a:lnTo>
                  <a:pt x="932" y="1984"/>
                </a:lnTo>
                <a:lnTo>
                  <a:pt x="938" y="1988"/>
                </a:lnTo>
                <a:lnTo>
                  <a:pt x="946" y="1990"/>
                </a:lnTo>
                <a:lnTo>
                  <a:pt x="953" y="1994"/>
                </a:lnTo>
                <a:lnTo>
                  <a:pt x="960" y="1997"/>
                </a:lnTo>
                <a:lnTo>
                  <a:pt x="968" y="2001"/>
                </a:lnTo>
                <a:lnTo>
                  <a:pt x="975" y="2004"/>
                </a:lnTo>
                <a:lnTo>
                  <a:pt x="983" y="2008"/>
                </a:lnTo>
                <a:lnTo>
                  <a:pt x="990" y="2010"/>
                </a:lnTo>
                <a:lnTo>
                  <a:pt x="997" y="2014"/>
                </a:lnTo>
                <a:lnTo>
                  <a:pt x="1004" y="2016"/>
                </a:lnTo>
                <a:lnTo>
                  <a:pt x="1012" y="2019"/>
                </a:lnTo>
                <a:lnTo>
                  <a:pt x="1020" y="2022"/>
                </a:lnTo>
                <a:lnTo>
                  <a:pt x="1028" y="2026"/>
                </a:lnTo>
                <a:lnTo>
                  <a:pt x="1039" y="2027"/>
                </a:lnTo>
                <a:lnTo>
                  <a:pt x="1050" y="2031"/>
                </a:lnTo>
                <a:lnTo>
                  <a:pt x="1061" y="2035"/>
                </a:lnTo>
                <a:lnTo>
                  <a:pt x="1073" y="2038"/>
                </a:lnTo>
                <a:lnTo>
                  <a:pt x="1086" y="2042"/>
                </a:lnTo>
                <a:lnTo>
                  <a:pt x="1098" y="2045"/>
                </a:lnTo>
                <a:lnTo>
                  <a:pt x="1111" y="2049"/>
                </a:lnTo>
                <a:lnTo>
                  <a:pt x="1124" y="2053"/>
                </a:lnTo>
                <a:lnTo>
                  <a:pt x="1137" y="2057"/>
                </a:lnTo>
                <a:lnTo>
                  <a:pt x="1148" y="2060"/>
                </a:lnTo>
                <a:lnTo>
                  <a:pt x="1161" y="2064"/>
                </a:lnTo>
                <a:lnTo>
                  <a:pt x="1172" y="2067"/>
                </a:lnTo>
                <a:lnTo>
                  <a:pt x="1184" y="2069"/>
                </a:lnTo>
                <a:lnTo>
                  <a:pt x="1193" y="2073"/>
                </a:lnTo>
                <a:lnTo>
                  <a:pt x="1204" y="2075"/>
                </a:lnTo>
                <a:lnTo>
                  <a:pt x="1217" y="2078"/>
                </a:lnTo>
                <a:lnTo>
                  <a:pt x="1230" y="2080"/>
                </a:lnTo>
                <a:lnTo>
                  <a:pt x="1243" y="2084"/>
                </a:lnTo>
                <a:lnTo>
                  <a:pt x="1257" y="2085"/>
                </a:lnTo>
                <a:lnTo>
                  <a:pt x="1270" y="2089"/>
                </a:lnTo>
                <a:lnTo>
                  <a:pt x="1285" y="2091"/>
                </a:lnTo>
                <a:lnTo>
                  <a:pt x="1298" y="2095"/>
                </a:lnTo>
                <a:lnTo>
                  <a:pt x="1312" y="2096"/>
                </a:lnTo>
                <a:lnTo>
                  <a:pt x="1325" y="2099"/>
                </a:lnTo>
                <a:lnTo>
                  <a:pt x="1338" y="2101"/>
                </a:lnTo>
                <a:lnTo>
                  <a:pt x="1349" y="2103"/>
                </a:lnTo>
                <a:lnTo>
                  <a:pt x="1361" y="2105"/>
                </a:lnTo>
                <a:lnTo>
                  <a:pt x="1371" y="2106"/>
                </a:lnTo>
                <a:lnTo>
                  <a:pt x="1382" y="2107"/>
                </a:lnTo>
                <a:lnTo>
                  <a:pt x="1390" y="2109"/>
                </a:lnTo>
                <a:lnTo>
                  <a:pt x="1400" y="2110"/>
                </a:lnTo>
                <a:lnTo>
                  <a:pt x="1411" y="2112"/>
                </a:lnTo>
                <a:lnTo>
                  <a:pt x="1424" y="2112"/>
                </a:lnTo>
                <a:lnTo>
                  <a:pt x="1436" y="2114"/>
                </a:lnTo>
                <a:lnTo>
                  <a:pt x="1450" y="2114"/>
                </a:lnTo>
                <a:lnTo>
                  <a:pt x="1464" y="2115"/>
                </a:lnTo>
                <a:lnTo>
                  <a:pt x="1479" y="2115"/>
                </a:lnTo>
                <a:lnTo>
                  <a:pt x="1492" y="2117"/>
                </a:lnTo>
                <a:lnTo>
                  <a:pt x="1507" y="2117"/>
                </a:lnTo>
                <a:lnTo>
                  <a:pt x="1520" y="2119"/>
                </a:lnTo>
                <a:lnTo>
                  <a:pt x="1535" y="2119"/>
                </a:lnTo>
                <a:lnTo>
                  <a:pt x="1548" y="2121"/>
                </a:lnTo>
                <a:lnTo>
                  <a:pt x="1561" y="2121"/>
                </a:lnTo>
                <a:lnTo>
                  <a:pt x="1573" y="2122"/>
                </a:lnTo>
                <a:lnTo>
                  <a:pt x="1586" y="2122"/>
                </a:lnTo>
                <a:lnTo>
                  <a:pt x="1596" y="2123"/>
                </a:lnTo>
                <a:lnTo>
                  <a:pt x="1608" y="2123"/>
                </a:lnTo>
                <a:lnTo>
                  <a:pt x="1620" y="2123"/>
                </a:lnTo>
                <a:lnTo>
                  <a:pt x="1634" y="2123"/>
                </a:lnTo>
                <a:lnTo>
                  <a:pt x="1647" y="2125"/>
                </a:lnTo>
                <a:lnTo>
                  <a:pt x="1662" y="2125"/>
                </a:lnTo>
                <a:lnTo>
                  <a:pt x="1676" y="2125"/>
                </a:lnTo>
                <a:lnTo>
                  <a:pt x="1691" y="2125"/>
                </a:lnTo>
                <a:lnTo>
                  <a:pt x="1704" y="2126"/>
                </a:lnTo>
                <a:lnTo>
                  <a:pt x="1719" y="2126"/>
                </a:lnTo>
                <a:lnTo>
                  <a:pt x="1732" y="2126"/>
                </a:lnTo>
                <a:lnTo>
                  <a:pt x="1746" y="2126"/>
                </a:lnTo>
                <a:lnTo>
                  <a:pt x="1757" y="2126"/>
                </a:lnTo>
                <a:lnTo>
                  <a:pt x="1769" y="2126"/>
                </a:lnTo>
                <a:lnTo>
                  <a:pt x="1779" y="2126"/>
                </a:lnTo>
                <a:lnTo>
                  <a:pt x="1789" y="2126"/>
                </a:lnTo>
                <a:lnTo>
                  <a:pt x="1796" y="2126"/>
                </a:lnTo>
                <a:lnTo>
                  <a:pt x="1802" y="2126"/>
                </a:lnTo>
                <a:lnTo>
                  <a:pt x="1806" y="2126"/>
                </a:lnTo>
                <a:lnTo>
                  <a:pt x="1810" y="2126"/>
                </a:lnTo>
                <a:lnTo>
                  <a:pt x="1812" y="2126"/>
                </a:lnTo>
                <a:lnTo>
                  <a:pt x="1813" y="2126"/>
                </a:lnTo>
                <a:lnTo>
                  <a:pt x="1815" y="2126"/>
                </a:lnTo>
                <a:lnTo>
                  <a:pt x="1818" y="2126"/>
                </a:lnTo>
                <a:lnTo>
                  <a:pt x="1820" y="2126"/>
                </a:lnTo>
                <a:lnTo>
                  <a:pt x="1823" y="2126"/>
                </a:lnTo>
                <a:lnTo>
                  <a:pt x="1827" y="2126"/>
                </a:lnTo>
                <a:lnTo>
                  <a:pt x="1834" y="2126"/>
                </a:lnTo>
                <a:lnTo>
                  <a:pt x="1841" y="2126"/>
                </a:lnTo>
                <a:lnTo>
                  <a:pt x="1852" y="2126"/>
                </a:lnTo>
                <a:lnTo>
                  <a:pt x="1864" y="2126"/>
                </a:lnTo>
                <a:lnTo>
                  <a:pt x="1881" y="2126"/>
                </a:lnTo>
              </a:path>
            </a:pathLst>
          </a:custGeom>
          <a:noFill/>
          <a:ln w="47520">
            <a:solidFill>
              <a:srgbClr val="00c1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624560" y="4902120"/>
            <a:ext cx="29880" cy="2232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"/>
          <p:cNvGrpSpPr/>
          <p:nvPr/>
        </p:nvGrpSpPr>
        <p:grpSpPr>
          <a:xfrm>
            <a:off x="-762120" y="1981080"/>
            <a:ext cx="5257440" cy="1987560"/>
            <a:chOff x="-762120" y="1981080"/>
            <a:chExt cx="5257440" cy="1987560"/>
          </a:xfrm>
        </p:grpSpPr>
        <p:grpSp>
          <p:nvGrpSpPr>
            <p:cNvPr id="830" name=""/>
            <p:cNvGrpSpPr/>
            <p:nvPr/>
          </p:nvGrpSpPr>
          <p:grpSpPr>
            <a:xfrm>
              <a:off x="-762120" y="1995480"/>
              <a:ext cx="5257440" cy="1958760"/>
              <a:chOff x="-762120" y="1995480"/>
              <a:chExt cx="5257440" cy="1958760"/>
            </a:xfrm>
          </p:grpSpPr>
          <p:grpSp>
            <p:nvGrpSpPr>
              <p:cNvPr id="831" name=""/>
              <p:cNvGrpSpPr/>
              <p:nvPr/>
            </p:nvGrpSpPr>
            <p:grpSpPr>
              <a:xfrm>
                <a:off x="-762120" y="1995480"/>
                <a:ext cx="5257440" cy="1958760"/>
                <a:chOff x="-762120" y="1995480"/>
                <a:chExt cx="5257440" cy="1958760"/>
              </a:xfrm>
            </p:grpSpPr>
            <p:sp>
              <p:nvSpPr>
                <p:cNvPr id="832" name=""/>
                <p:cNvSpPr/>
                <p:nvPr/>
              </p:nvSpPr>
              <p:spPr>
                <a:xfrm>
                  <a:off x="-76212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ffff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-73512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fefe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-70776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3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fefe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-68076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7" y="2469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2363" y="2469"/>
                      </a:lnTo>
                      <a:lnTo>
                        <a:pt x="2327" y="2469"/>
                      </a:lnTo>
                      <a:close/>
                    </a:path>
                  </a:pathLst>
                </a:custGeom>
                <a:solidFill>
                  <a:srgbClr val="fefe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-653400" y="1995480"/>
                  <a:ext cx="178092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fdfe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-626400" y="1995480"/>
                  <a:ext cx="178092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fdfe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-59760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3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fdfd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-57060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7" y="2469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2363" y="2469"/>
                      </a:lnTo>
                      <a:lnTo>
                        <a:pt x="2327" y="2469"/>
                      </a:lnTo>
                      <a:close/>
                    </a:path>
                  </a:pathLst>
                </a:custGeom>
                <a:solidFill>
                  <a:srgbClr val="fdfd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-543240" y="1995480"/>
                  <a:ext cx="1780920" cy="1958760"/>
                </a:xfrm>
                <a:custGeom>
                  <a:avLst/>
                  <a:gdLst/>
                  <a:ahLst/>
                  <a:rect l="l" t="t" r="r" b="b"/>
                  <a:pathLst>
                    <a:path w="2364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2364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fcfd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-51480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7" y="2469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2363" y="2469"/>
                      </a:lnTo>
                      <a:lnTo>
                        <a:pt x="2327" y="2469"/>
                      </a:lnTo>
                      <a:close/>
                    </a:path>
                  </a:pathLst>
                </a:custGeom>
                <a:solidFill>
                  <a:srgbClr val="fcfc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-48744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fbfc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-46044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fbfc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-43344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3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fafb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-40608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7" y="2469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2363" y="2469"/>
                      </a:lnTo>
                      <a:lnTo>
                        <a:pt x="2327" y="2469"/>
                      </a:lnTo>
                      <a:close/>
                    </a:path>
                  </a:pathLst>
                </a:custGeom>
                <a:solidFill>
                  <a:srgbClr val="fafb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-379080" y="1995480"/>
                  <a:ext cx="178092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f9fb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-351720" y="1995480"/>
                  <a:ext cx="178092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f9fa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-32364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3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f9fa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-29628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7" y="2469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2363" y="2469"/>
                      </a:lnTo>
                      <a:lnTo>
                        <a:pt x="2327" y="2469"/>
                      </a:lnTo>
                      <a:close/>
                    </a:path>
                  </a:pathLst>
                </a:custGeom>
                <a:solidFill>
                  <a:srgbClr val="f8fa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-26928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f7f9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-24228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3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f7f9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-21492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7" y="2469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2363" y="2469"/>
                      </a:lnTo>
                      <a:lnTo>
                        <a:pt x="2327" y="2469"/>
                      </a:lnTo>
                      <a:close/>
                    </a:path>
                  </a:pathLst>
                </a:custGeom>
                <a:solidFill>
                  <a:srgbClr val="f6f8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-187920" y="1995480"/>
                  <a:ext cx="178092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f5f8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-160560" y="1995480"/>
                  <a:ext cx="178092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f5f7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-13212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3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f4f7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-104760" y="1995480"/>
                  <a:ext cx="1780920" cy="1958760"/>
                </a:xfrm>
                <a:custGeom>
                  <a:avLst/>
                  <a:gdLst/>
                  <a:ahLst/>
                  <a:rect l="l" t="t" r="r" b="b"/>
                  <a:pathLst>
                    <a:path w="2364" h="2469">
                      <a:moveTo>
                        <a:pt x="2327" y="2469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2364" y="2469"/>
                      </a:lnTo>
                      <a:lnTo>
                        <a:pt x="2327" y="2469"/>
                      </a:lnTo>
                      <a:close/>
                    </a:path>
                  </a:pathLst>
                </a:custGeom>
                <a:solidFill>
                  <a:srgbClr val="f3f6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-77760" y="1995480"/>
                  <a:ext cx="178092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f2f5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-4896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2363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f1f4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-2196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f0f4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504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eff3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3204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3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eef2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5904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7" y="2469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2363" y="2469"/>
                      </a:lnTo>
                      <a:lnTo>
                        <a:pt x="2327" y="2469"/>
                      </a:lnTo>
                      <a:close/>
                    </a:path>
                  </a:pathLst>
                </a:custGeom>
                <a:solidFill>
                  <a:srgbClr val="edf2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86040" y="1995480"/>
                  <a:ext cx="178092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ecf1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113040" y="1995480"/>
                  <a:ext cx="178092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ecf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14184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3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eaf0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16884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7" y="2469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2363" y="2469"/>
                      </a:lnTo>
                      <a:lnTo>
                        <a:pt x="2327" y="2469"/>
                      </a:lnTo>
                      <a:close/>
                    </a:path>
                  </a:pathLst>
                </a:custGeom>
                <a:solidFill>
                  <a:srgbClr val="e9ef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19620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e8ee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22320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e7ed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25020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3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e6ec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27756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7" y="2469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2363" y="2469"/>
                      </a:lnTo>
                      <a:lnTo>
                        <a:pt x="2327" y="2469"/>
                      </a:lnTo>
                      <a:close/>
                    </a:path>
                  </a:pathLst>
                </a:custGeom>
                <a:solidFill>
                  <a:srgbClr val="e4e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304560" y="1995480"/>
                  <a:ext cx="178092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e3e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331920" y="1995480"/>
                  <a:ext cx="1780920" cy="1958760"/>
                </a:xfrm>
                <a:custGeom>
                  <a:avLst/>
                  <a:gdLst/>
                  <a:ahLst/>
                  <a:rect l="l" t="t" r="r" b="b"/>
                  <a:pathLst>
                    <a:path w="2364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2364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e1e9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360360" y="1995480"/>
                  <a:ext cx="178128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dfe7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387720" y="1995480"/>
                  <a:ext cx="178092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dee6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41580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3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dce5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44316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7" y="2469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2363" y="2469"/>
                      </a:lnTo>
                      <a:lnTo>
                        <a:pt x="2327" y="2469"/>
                      </a:lnTo>
                      <a:close/>
                    </a:path>
                  </a:pathLst>
                </a:custGeom>
                <a:solidFill>
                  <a:srgbClr val="dbe4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47016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d9e3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49752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d7e2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52452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3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d5e1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55152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7" y="2469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2363" y="2469"/>
                      </a:lnTo>
                      <a:lnTo>
                        <a:pt x="2327" y="2469"/>
                      </a:lnTo>
                      <a:close/>
                    </a:path>
                  </a:pathLst>
                </a:custGeom>
                <a:solidFill>
                  <a:srgbClr val="d5e0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578880" y="1995480"/>
                  <a:ext cx="178092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d3df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605880" y="1995480"/>
                  <a:ext cx="178092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d1dd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63468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3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cfdc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66168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7" y="2469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2363" y="2469"/>
                      </a:lnTo>
                      <a:lnTo>
                        <a:pt x="2327" y="2469"/>
                      </a:lnTo>
                      <a:close/>
                    </a:path>
                  </a:pathLst>
                </a:custGeom>
                <a:solidFill>
                  <a:srgbClr val="cddb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68904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cbd9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71604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c9d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74304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3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c7d6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770400" y="1995480"/>
                  <a:ext cx="1780920" cy="1958760"/>
                </a:xfrm>
                <a:custGeom>
                  <a:avLst/>
                  <a:gdLst/>
                  <a:ahLst/>
                  <a:rect l="l" t="t" r="r" b="b"/>
                  <a:pathLst>
                    <a:path w="2364" h="2469">
                      <a:moveTo>
                        <a:pt x="2327" y="2469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2364" y="2469"/>
                      </a:lnTo>
                      <a:lnTo>
                        <a:pt x="2327" y="2469"/>
                      </a:lnTo>
                      <a:close/>
                    </a:path>
                  </a:pathLst>
                </a:custGeom>
                <a:solidFill>
                  <a:srgbClr val="c5d5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799200" y="1995480"/>
                  <a:ext cx="177912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3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c2d3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82620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7" y="2469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2363" y="2469"/>
                      </a:lnTo>
                      <a:lnTo>
                        <a:pt x="2327" y="2469"/>
                      </a:lnTo>
                      <a:close/>
                    </a:path>
                  </a:pathLst>
                </a:custGeom>
                <a:solidFill>
                  <a:srgbClr val="c0d19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853200" y="1995480"/>
                  <a:ext cx="178128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bed0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880560" y="1995480"/>
                  <a:ext cx="178092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bbce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90864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3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b9cd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93600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7" y="2469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2363" y="2469"/>
                      </a:lnTo>
                      <a:lnTo>
                        <a:pt x="2327" y="2469"/>
                      </a:lnTo>
                      <a:close/>
                    </a:path>
                  </a:pathLst>
                </a:custGeom>
                <a:solidFill>
                  <a:srgbClr val="b7cb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96300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b4ca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990360" y="1995480"/>
                  <a:ext cx="177912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b3c9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101736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3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b1c7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104436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7" y="2469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2363" y="2469"/>
                      </a:lnTo>
                      <a:lnTo>
                        <a:pt x="2327" y="2469"/>
                      </a:lnTo>
                      <a:close/>
                    </a:path>
                  </a:pathLst>
                </a:custGeom>
                <a:solidFill>
                  <a:srgbClr val="aec6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1071720" y="1995480"/>
                  <a:ext cx="178092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acc4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1098720" y="1995480"/>
                  <a:ext cx="178092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a9c2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112752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3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a7c1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115452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7" y="2469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2363" y="2469"/>
                      </a:lnTo>
                      <a:lnTo>
                        <a:pt x="2327" y="2469"/>
                      </a:lnTo>
                      <a:close/>
                    </a:path>
                  </a:pathLst>
                </a:custGeom>
                <a:solidFill>
                  <a:srgbClr val="a4bf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118188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a2be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1208880" y="1995480"/>
                  <a:ext cx="1780920" cy="1958760"/>
                </a:xfrm>
                <a:custGeom>
                  <a:avLst/>
                  <a:gdLst/>
                  <a:ahLst/>
                  <a:rect l="l" t="t" r="r" b="b"/>
                  <a:pathLst>
                    <a:path w="2364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2364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9fbc7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123732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9bb9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126432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99b8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1291680" y="1995480"/>
                  <a:ext cx="177912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3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96b6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131868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7" y="2469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2363" y="2469"/>
                      </a:lnTo>
                      <a:lnTo>
                        <a:pt x="2327" y="2469"/>
                      </a:lnTo>
                      <a:close/>
                    </a:path>
                  </a:pathLst>
                </a:custGeom>
                <a:solidFill>
                  <a:srgbClr val="94b5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1345680" y="1995480"/>
                  <a:ext cx="178128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91b3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1373040" y="1995480"/>
                  <a:ext cx="178092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8eb1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140148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3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8cb0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142884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7" y="2469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2363" y="2469"/>
                      </a:lnTo>
                      <a:lnTo>
                        <a:pt x="2327" y="2469"/>
                      </a:lnTo>
                      <a:close/>
                    </a:path>
                  </a:pathLst>
                </a:custGeom>
                <a:solidFill>
                  <a:srgbClr val="8aaf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145584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87ad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1483200" y="1995480"/>
                  <a:ext cx="177912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85ac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151020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2363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82aa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1537200" y="1995480"/>
                  <a:ext cx="178128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7fa96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1564560" y="1995480"/>
                  <a:ext cx="178092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7da7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159300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3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7aa6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162036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7" y="2469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2363" y="2469"/>
                      </a:lnTo>
                      <a:lnTo>
                        <a:pt x="2327" y="2469"/>
                      </a:lnTo>
                      <a:close/>
                    </a:path>
                  </a:pathLst>
                </a:custGeom>
                <a:solidFill>
                  <a:srgbClr val="77a4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1647360" y="1995480"/>
                  <a:ext cx="17812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2363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74a3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167580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3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70a0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170280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7" y="2469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2363" y="2469"/>
                      </a:lnTo>
                      <a:lnTo>
                        <a:pt x="2327" y="2469"/>
                      </a:lnTo>
                      <a:close/>
                    </a:path>
                  </a:pathLst>
                </a:custGeom>
                <a:solidFill>
                  <a:srgbClr val="6e9f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173016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6b9e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175716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3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689c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1784520" y="1995480"/>
                  <a:ext cx="177912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7" y="2469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2363" y="2469"/>
                      </a:lnTo>
                      <a:lnTo>
                        <a:pt x="2327" y="2469"/>
                      </a:lnTo>
                      <a:close/>
                    </a:path>
                  </a:pathLst>
                </a:custGeom>
                <a:solidFill>
                  <a:srgbClr val="659b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1811520" y="1995480"/>
                  <a:ext cx="178092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639a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1838520" y="1995480"/>
                  <a:ext cx="178128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6098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186732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3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5f98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189432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7" y="2469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2363" y="2469"/>
                      </a:lnTo>
                      <a:lnTo>
                        <a:pt x="2327" y="2469"/>
                      </a:lnTo>
                      <a:close/>
                    </a:path>
                  </a:pathLst>
                </a:custGeom>
                <a:solidFill>
                  <a:srgbClr val="5c9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192168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5995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194868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5794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1976040" y="1995480"/>
                  <a:ext cx="177912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3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5493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200304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7" y="2469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2363" y="2469"/>
                      </a:lnTo>
                      <a:lnTo>
                        <a:pt x="2327" y="2469"/>
                      </a:lnTo>
                      <a:close/>
                    </a:path>
                  </a:pathLst>
                </a:custGeom>
                <a:solidFill>
                  <a:srgbClr val="5192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2030040" y="1995480"/>
                  <a:ext cx="178128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4f91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2057400" y="1995480"/>
                  <a:ext cx="178092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4c90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2085480" y="1995480"/>
                  <a:ext cx="1781280" cy="1958760"/>
                </a:xfrm>
                <a:custGeom>
                  <a:avLst/>
                  <a:gdLst/>
                  <a:ahLst/>
                  <a:rect l="l" t="t" r="r" b="b"/>
                  <a:pathLst>
                    <a:path w="2364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2364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4a8f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2112840" y="1995480"/>
                  <a:ext cx="178092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468d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214164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3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438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216864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7" y="2469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2363" y="2469"/>
                      </a:lnTo>
                      <a:lnTo>
                        <a:pt x="2327" y="2469"/>
                      </a:lnTo>
                      <a:close/>
                    </a:path>
                  </a:pathLst>
                </a:custGeom>
                <a:solidFill>
                  <a:srgbClr val="418b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219564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3e8a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222300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3b8a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225000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3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3989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2277360" y="1995480"/>
                  <a:ext cx="177912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7" y="2469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2363" y="2469"/>
                      </a:lnTo>
                      <a:lnTo>
                        <a:pt x="2327" y="2469"/>
                      </a:lnTo>
                      <a:close/>
                    </a:path>
                  </a:pathLst>
                </a:custGeom>
                <a:solidFill>
                  <a:srgbClr val="3688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2304360" y="1995480"/>
                  <a:ext cx="178092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3588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2331360" y="1995480"/>
                  <a:ext cx="178128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3387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236016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3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3086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238716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7" y="2469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2363" y="2469"/>
                      </a:lnTo>
                      <a:lnTo>
                        <a:pt x="2327" y="2469"/>
                      </a:lnTo>
                      <a:close/>
                    </a:path>
                  </a:pathLst>
                </a:custGeom>
                <a:solidFill>
                  <a:srgbClr val="2e86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241452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2b85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244152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2884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2468880" y="1995480"/>
                  <a:ext cx="177912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3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2684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249588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7" y="2469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2363" y="2469"/>
                      </a:lnTo>
                      <a:lnTo>
                        <a:pt x="2327" y="2469"/>
                      </a:lnTo>
                      <a:close/>
                    </a:path>
                  </a:pathLst>
                </a:custGeom>
                <a:solidFill>
                  <a:srgbClr val="2383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2522880" y="1995480"/>
                  <a:ext cx="1781280" cy="1958760"/>
                </a:xfrm>
                <a:custGeom>
                  <a:avLst/>
                  <a:gdLst/>
                  <a:ahLst/>
                  <a:rect l="l" t="t" r="r" b="b"/>
                  <a:pathLst>
                    <a:path w="2364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2364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2183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255132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7" y="2469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2363" y="2469"/>
                      </a:lnTo>
                      <a:lnTo>
                        <a:pt x="2327" y="2469"/>
                      </a:lnTo>
                      <a:close/>
                    </a:path>
                  </a:pathLst>
                </a:custGeom>
                <a:solidFill>
                  <a:srgbClr val="1c82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2578320" y="1995480"/>
                  <a:ext cx="178128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19811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2605680" y="1995480"/>
                  <a:ext cx="178092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168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2634480" y="1995480"/>
                  <a:ext cx="177912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3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13810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266148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7" y="2469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2363" y="2469"/>
                      </a:lnTo>
                      <a:lnTo>
                        <a:pt x="2327" y="2469"/>
                      </a:lnTo>
                      <a:close/>
                    </a:path>
                  </a:pathLst>
                </a:custGeom>
                <a:solidFill>
                  <a:srgbClr val="0f800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268848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0a800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271584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990360" y="1995480"/>
                  <a:ext cx="1750680" cy="1955520"/>
                </a:xfrm>
                <a:custGeom>
                  <a:avLst/>
                  <a:gdLst/>
                  <a:ahLst/>
                  <a:rect l="l" t="t" r="r" b="b"/>
                  <a:pathLst>
                    <a:path w="2325" h="2466">
                      <a:moveTo>
                        <a:pt x="25" y="0"/>
                      </a:moveTo>
                      <a:lnTo>
                        <a:pt x="25" y="0"/>
                      </a:lnTo>
                      <a:lnTo>
                        <a:pt x="25" y="2453"/>
                      </a:lnTo>
                      <a:lnTo>
                        <a:pt x="2325" y="2466"/>
                      </a:lnTo>
                      <a:lnTo>
                        <a:pt x="2278" y="2269"/>
                      </a:lnTo>
                      <a:lnTo>
                        <a:pt x="2268" y="2219"/>
                      </a:lnTo>
                      <a:lnTo>
                        <a:pt x="2246" y="2164"/>
                      </a:lnTo>
                      <a:lnTo>
                        <a:pt x="2229" y="2103"/>
                      </a:lnTo>
                      <a:lnTo>
                        <a:pt x="2207" y="2039"/>
                      </a:lnTo>
                      <a:lnTo>
                        <a:pt x="2183" y="1971"/>
                      </a:lnTo>
                      <a:lnTo>
                        <a:pt x="2162" y="1910"/>
                      </a:lnTo>
                      <a:lnTo>
                        <a:pt x="2139" y="1854"/>
                      </a:lnTo>
                      <a:lnTo>
                        <a:pt x="2125" y="1826"/>
                      </a:lnTo>
                      <a:lnTo>
                        <a:pt x="2112" y="1796"/>
                      </a:lnTo>
                      <a:lnTo>
                        <a:pt x="2098" y="1761"/>
                      </a:lnTo>
                      <a:lnTo>
                        <a:pt x="2083" y="1725"/>
                      </a:lnTo>
                      <a:lnTo>
                        <a:pt x="2062" y="1690"/>
                      </a:lnTo>
                      <a:lnTo>
                        <a:pt x="2045" y="1651"/>
                      </a:lnTo>
                      <a:lnTo>
                        <a:pt x="2027" y="1607"/>
                      </a:lnTo>
                      <a:lnTo>
                        <a:pt x="2007" y="1565"/>
                      </a:lnTo>
                      <a:lnTo>
                        <a:pt x="1988" y="1529"/>
                      </a:lnTo>
                      <a:lnTo>
                        <a:pt x="1968" y="1488"/>
                      </a:lnTo>
                      <a:lnTo>
                        <a:pt x="1948" y="1451"/>
                      </a:lnTo>
                      <a:lnTo>
                        <a:pt x="1927" y="1410"/>
                      </a:lnTo>
                      <a:lnTo>
                        <a:pt x="1910" y="1378"/>
                      </a:lnTo>
                      <a:lnTo>
                        <a:pt x="1890" y="1340"/>
                      </a:lnTo>
                      <a:lnTo>
                        <a:pt x="1874" y="1310"/>
                      </a:lnTo>
                      <a:lnTo>
                        <a:pt x="1859" y="1278"/>
                      </a:lnTo>
                      <a:lnTo>
                        <a:pt x="1837" y="1252"/>
                      </a:lnTo>
                      <a:lnTo>
                        <a:pt x="1819" y="1221"/>
                      </a:lnTo>
                      <a:lnTo>
                        <a:pt x="1798" y="1190"/>
                      </a:lnTo>
                      <a:lnTo>
                        <a:pt x="1774" y="1155"/>
                      </a:lnTo>
                      <a:lnTo>
                        <a:pt x="1750" y="1123"/>
                      </a:lnTo>
                      <a:lnTo>
                        <a:pt x="1727" y="1084"/>
                      </a:lnTo>
                      <a:lnTo>
                        <a:pt x="1700" y="1047"/>
                      </a:lnTo>
                      <a:lnTo>
                        <a:pt x="1675" y="1010"/>
                      </a:lnTo>
                      <a:lnTo>
                        <a:pt x="1643" y="978"/>
                      </a:lnTo>
                      <a:lnTo>
                        <a:pt x="1618" y="940"/>
                      </a:lnTo>
                      <a:lnTo>
                        <a:pt x="1591" y="905"/>
                      </a:lnTo>
                      <a:lnTo>
                        <a:pt x="1565" y="873"/>
                      </a:lnTo>
                      <a:lnTo>
                        <a:pt x="1539" y="844"/>
                      </a:lnTo>
                      <a:lnTo>
                        <a:pt x="1515" y="815"/>
                      </a:lnTo>
                      <a:lnTo>
                        <a:pt x="1489" y="789"/>
                      </a:lnTo>
                      <a:lnTo>
                        <a:pt x="1472" y="766"/>
                      </a:lnTo>
                      <a:lnTo>
                        <a:pt x="1423" y="724"/>
                      </a:lnTo>
                      <a:lnTo>
                        <a:pt x="1372" y="673"/>
                      </a:lnTo>
                      <a:lnTo>
                        <a:pt x="1318" y="622"/>
                      </a:lnTo>
                      <a:lnTo>
                        <a:pt x="1262" y="572"/>
                      </a:lnTo>
                      <a:lnTo>
                        <a:pt x="1205" y="522"/>
                      </a:lnTo>
                      <a:lnTo>
                        <a:pt x="1157" y="476"/>
                      </a:lnTo>
                      <a:lnTo>
                        <a:pt x="1111" y="440"/>
                      </a:lnTo>
                      <a:lnTo>
                        <a:pt x="1070" y="406"/>
                      </a:lnTo>
                      <a:lnTo>
                        <a:pt x="1034" y="383"/>
                      </a:lnTo>
                      <a:lnTo>
                        <a:pt x="990" y="351"/>
                      </a:lnTo>
                      <a:lnTo>
                        <a:pt x="943" y="319"/>
                      </a:lnTo>
                      <a:lnTo>
                        <a:pt x="892" y="287"/>
                      </a:lnTo>
                      <a:lnTo>
                        <a:pt x="841" y="258"/>
                      </a:lnTo>
                      <a:lnTo>
                        <a:pt x="796" y="229"/>
                      </a:lnTo>
                      <a:lnTo>
                        <a:pt x="753" y="203"/>
                      </a:lnTo>
                      <a:lnTo>
                        <a:pt x="716" y="183"/>
                      </a:lnTo>
                      <a:lnTo>
                        <a:pt x="676" y="169"/>
                      </a:lnTo>
                      <a:lnTo>
                        <a:pt x="639" y="148"/>
                      </a:lnTo>
                      <a:lnTo>
                        <a:pt x="595" y="131"/>
                      </a:lnTo>
                      <a:lnTo>
                        <a:pt x="552" y="112"/>
                      </a:lnTo>
                      <a:lnTo>
                        <a:pt x="505" y="96"/>
                      </a:lnTo>
                      <a:lnTo>
                        <a:pt x="468" y="80"/>
                      </a:lnTo>
                      <a:lnTo>
                        <a:pt x="431" y="70"/>
                      </a:lnTo>
                      <a:lnTo>
                        <a:pt x="405" y="63"/>
                      </a:lnTo>
                      <a:lnTo>
                        <a:pt x="373" y="58"/>
                      </a:lnTo>
                      <a:lnTo>
                        <a:pt x="339" y="51"/>
                      </a:lnTo>
                      <a:lnTo>
                        <a:pt x="303" y="47"/>
                      </a:lnTo>
                      <a:lnTo>
                        <a:pt x="265" y="37"/>
                      </a:lnTo>
                      <a:lnTo>
                        <a:pt x="228" y="32"/>
                      </a:lnTo>
                      <a:lnTo>
                        <a:pt x="193" y="28"/>
                      </a:lnTo>
                      <a:lnTo>
                        <a:pt x="159" y="23"/>
                      </a:lnTo>
                      <a:lnTo>
                        <a:pt x="132" y="22"/>
                      </a:lnTo>
                      <a:lnTo>
                        <a:pt x="0" y="1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990360" y="1995480"/>
                  <a:ext cx="1750680" cy="1955520"/>
                </a:xfrm>
                <a:custGeom>
                  <a:avLst/>
                  <a:gdLst/>
                  <a:ahLst/>
                  <a:rect l="l" t="t" r="r" b="b"/>
                  <a:pathLst>
                    <a:path w="2325" h="2466">
                      <a:moveTo>
                        <a:pt x="25" y="0"/>
                      </a:moveTo>
                      <a:lnTo>
                        <a:pt x="25" y="0"/>
                      </a:lnTo>
                      <a:lnTo>
                        <a:pt x="25" y="2453"/>
                      </a:lnTo>
                      <a:lnTo>
                        <a:pt x="2325" y="2466"/>
                      </a:lnTo>
                      <a:lnTo>
                        <a:pt x="2278" y="2269"/>
                      </a:lnTo>
                      <a:lnTo>
                        <a:pt x="2268" y="2219"/>
                      </a:lnTo>
                      <a:lnTo>
                        <a:pt x="2246" y="2164"/>
                      </a:lnTo>
                      <a:lnTo>
                        <a:pt x="2229" y="2103"/>
                      </a:lnTo>
                      <a:lnTo>
                        <a:pt x="2207" y="2039"/>
                      </a:lnTo>
                      <a:lnTo>
                        <a:pt x="2183" y="1971"/>
                      </a:lnTo>
                      <a:lnTo>
                        <a:pt x="2162" y="1910"/>
                      </a:lnTo>
                      <a:lnTo>
                        <a:pt x="2139" y="1854"/>
                      </a:lnTo>
                      <a:lnTo>
                        <a:pt x="2125" y="1826"/>
                      </a:lnTo>
                      <a:lnTo>
                        <a:pt x="2112" y="1796"/>
                      </a:lnTo>
                      <a:lnTo>
                        <a:pt x="2098" y="1761"/>
                      </a:lnTo>
                      <a:lnTo>
                        <a:pt x="2083" y="1725"/>
                      </a:lnTo>
                      <a:lnTo>
                        <a:pt x="2062" y="1690"/>
                      </a:lnTo>
                      <a:lnTo>
                        <a:pt x="2045" y="1651"/>
                      </a:lnTo>
                      <a:lnTo>
                        <a:pt x="2027" y="1607"/>
                      </a:lnTo>
                      <a:lnTo>
                        <a:pt x="2007" y="1565"/>
                      </a:lnTo>
                      <a:lnTo>
                        <a:pt x="1988" y="1529"/>
                      </a:lnTo>
                      <a:lnTo>
                        <a:pt x="1968" y="1488"/>
                      </a:lnTo>
                      <a:lnTo>
                        <a:pt x="1948" y="1451"/>
                      </a:lnTo>
                      <a:lnTo>
                        <a:pt x="1927" y="1410"/>
                      </a:lnTo>
                      <a:lnTo>
                        <a:pt x="1910" y="1378"/>
                      </a:lnTo>
                      <a:lnTo>
                        <a:pt x="1890" y="1340"/>
                      </a:lnTo>
                      <a:lnTo>
                        <a:pt x="1874" y="1310"/>
                      </a:lnTo>
                      <a:lnTo>
                        <a:pt x="1859" y="1278"/>
                      </a:lnTo>
                      <a:lnTo>
                        <a:pt x="1837" y="1252"/>
                      </a:lnTo>
                      <a:lnTo>
                        <a:pt x="1819" y="1221"/>
                      </a:lnTo>
                      <a:lnTo>
                        <a:pt x="1798" y="1190"/>
                      </a:lnTo>
                      <a:lnTo>
                        <a:pt x="1774" y="1155"/>
                      </a:lnTo>
                      <a:lnTo>
                        <a:pt x="1750" y="1123"/>
                      </a:lnTo>
                      <a:lnTo>
                        <a:pt x="1727" y="1084"/>
                      </a:lnTo>
                      <a:lnTo>
                        <a:pt x="1700" y="1047"/>
                      </a:lnTo>
                      <a:lnTo>
                        <a:pt x="1675" y="1010"/>
                      </a:lnTo>
                      <a:lnTo>
                        <a:pt x="1643" y="978"/>
                      </a:lnTo>
                      <a:lnTo>
                        <a:pt x="1618" y="940"/>
                      </a:lnTo>
                      <a:lnTo>
                        <a:pt x="1591" y="905"/>
                      </a:lnTo>
                      <a:lnTo>
                        <a:pt x="1565" y="873"/>
                      </a:lnTo>
                      <a:lnTo>
                        <a:pt x="1539" y="844"/>
                      </a:lnTo>
                      <a:lnTo>
                        <a:pt x="1515" y="815"/>
                      </a:lnTo>
                      <a:lnTo>
                        <a:pt x="1489" y="789"/>
                      </a:lnTo>
                      <a:lnTo>
                        <a:pt x="1472" y="766"/>
                      </a:lnTo>
                      <a:lnTo>
                        <a:pt x="1423" y="724"/>
                      </a:lnTo>
                      <a:lnTo>
                        <a:pt x="1372" y="673"/>
                      </a:lnTo>
                      <a:lnTo>
                        <a:pt x="1318" y="622"/>
                      </a:lnTo>
                      <a:lnTo>
                        <a:pt x="1262" y="572"/>
                      </a:lnTo>
                      <a:lnTo>
                        <a:pt x="1205" y="522"/>
                      </a:lnTo>
                      <a:lnTo>
                        <a:pt x="1157" y="476"/>
                      </a:lnTo>
                      <a:lnTo>
                        <a:pt x="1111" y="440"/>
                      </a:lnTo>
                      <a:lnTo>
                        <a:pt x="1070" y="406"/>
                      </a:lnTo>
                      <a:lnTo>
                        <a:pt x="1034" y="383"/>
                      </a:lnTo>
                      <a:lnTo>
                        <a:pt x="990" y="351"/>
                      </a:lnTo>
                      <a:lnTo>
                        <a:pt x="943" y="319"/>
                      </a:lnTo>
                      <a:lnTo>
                        <a:pt x="892" y="287"/>
                      </a:lnTo>
                      <a:lnTo>
                        <a:pt x="841" y="258"/>
                      </a:lnTo>
                      <a:lnTo>
                        <a:pt x="796" y="229"/>
                      </a:lnTo>
                      <a:lnTo>
                        <a:pt x="753" y="203"/>
                      </a:lnTo>
                      <a:lnTo>
                        <a:pt x="716" y="183"/>
                      </a:lnTo>
                      <a:lnTo>
                        <a:pt x="676" y="169"/>
                      </a:lnTo>
                      <a:lnTo>
                        <a:pt x="639" y="148"/>
                      </a:lnTo>
                      <a:lnTo>
                        <a:pt x="595" y="131"/>
                      </a:lnTo>
                      <a:lnTo>
                        <a:pt x="552" y="112"/>
                      </a:lnTo>
                      <a:lnTo>
                        <a:pt x="505" y="96"/>
                      </a:lnTo>
                      <a:lnTo>
                        <a:pt x="468" y="80"/>
                      </a:lnTo>
                      <a:lnTo>
                        <a:pt x="431" y="70"/>
                      </a:lnTo>
                      <a:lnTo>
                        <a:pt x="405" y="63"/>
                      </a:lnTo>
                      <a:lnTo>
                        <a:pt x="373" y="58"/>
                      </a:lnTo>
                      <a:lnTo>
                        <a:pt x="339" y="51"/>
                      </a:lnTo>
                      <a:lnTo>
                        <a:pt x="303" y="47"/>
                      </a:lnTo>
                      <a:lnTo>
                        <a:pt x="265" y="37"/>
                      </a:lnTo>
                      <a:lnTo>
                        <a:pt x="228" y="32"/>
                      </a:lnTo>
                      <a:lnTo>
                        <a:pt x="193" y="28"/>
                      </a:lnTo>
                      <a:lnTo>
                        <a:pt x="159" y="23"/>
                      </a:lnTo>
                      <a:lnTo>
                        <a:pt x="132" y="22"/>
                      </a:lnTo>
                      <a:lnTo>
                        <a:pt x="0" y="1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-76212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ffff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-73512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fefe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-70776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3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fefe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-68076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7" y="2469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2363" y="2469"/>
                      </a:lnTo>
                      <a:lnTo>
                        <a:pt x="2327" y="2469"/>
                      </a:lnTo>
                      <a:close/>
                    </a:path>
                  </a:pathLst>
                </a:custGeom>
                <a:solidFill>
                  <a:srgbClr val="fefe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-653400" y="1995480"/>
                  <a:ext cx="178092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fdfe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-626400" y="1995480"/>
                  <a:ext cx="178092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fdfe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-59760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3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fdfd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-57060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7" y="2469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2363" y="2469"/>
                      </a:lnTo>
                      <a:lnTo>
                        <a:pt x="2327" y="2469"/>
                      </a:lnTo>
                      <a:close/>
                    </a:path>
                  </a:pathLst>
                </a:custGeom>
                <a:solidFill>
                  <a:srgbClr val="fdfd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-543240" y="1995480"/>
                  <a:ext cx="1780920" cy="1958760"/>
                </a:xfrm>
                <a:custGeom>
                  <a:avLst/>
                  <a:gdLst/>
                  <a:ahLst/>
                  <a:rect l="l" t="t" r="r" b="b"/>
                  <a:pathLst>
                    <a:path w="2364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2364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fcfd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-51480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7" y="2469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2363" y="2469"/>
                      </a:lnTo>
                      <a:lnTo>
                        <a:pt x="2327" y="2469"/>
                      </a:lnTo>
                      <a:close/>
                    </a:path>
                  </a:pathLst>
                </a:custGeom>
                <a:solidFill>
                  <a:srgbClr val="fcfc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-48744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fbfc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-46044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fbfc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-43344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3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fafb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-40608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7" y="2469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2363" y="2469"/>
                      </a:lnTo>
                      <a:lnTo>
                        <a:pt x="2327" y="2469"/>
                      </a:lnTo>
                      <a:close/>
                    </a:path>
                  </a:pathLst>
                </a:custGeom>
                <a:solidFill>
                  <a:srgbClr val="fafb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-379080" y="1995480"/>
                  <a:ext cx="178092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f9fb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-351720" y="1995480"/>
                  <a:ext cx="178092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f9fa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-32364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3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f9fa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-29628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7" y="2469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2363" y="2469"/>
                      </a:lnTo>
                      <a:lnTo>
                        <a:pt x="2327" y="2469"/>
                      </a:lnTo>
                      <a:close/>
                    </a:path>
                  </a:pathLst>
                </a:custGeom>
                <a:solidFill>
                  <a:srgbClr val="f8fa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-26928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f7f9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-24228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3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f7f9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-21492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7" y="2469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2363" y="2469"/>
                      </a:lnTo>
                      <a:lnTo>
                        <a:pt x="2327" y="2469"/>
                      </a:lnTo>
                      <a:close/>
                    </a:path>
                  </a:pathLst>
                </a:custGeom>
                <a:solidFill>
                  <a:srgbClr val="f6f8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-187920" y="1995480"/>
                  <a:ext cx="178092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f5f8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-160560" y="1995480"/>
                  <a:ext cx="178092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f5f7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-13212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3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f4f7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-104760" y="1995480"/>
                  <a:ext cx="1780920" cy="1958760"/>
                </a:xfrm>
                <a:custGeom>
                  <a:avLst/>
                  <a:gdLst/>
                  <a:ahLst/>
                  <a:rect l="l" t="t" r="r" b="b"/>
                  <a:pathLst>
                    <a:path w="2364" h="2469">
                      <a:moveTo>
                        <a:pt x="2327" y="2469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2364" y="2469"/>
                      </a:lnTo>
                      <a:lnTo>
                        <a:pt x="2327" y="2469"/>
                      </a:lnTo>
                      <a:close/>
                    </a:path>
                  </a:pathLst>
                </a:custGeom>
                <a:solidFill>
                  <a:srgbClr val="f3f6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-77760" y="1995480"/>
                  <a:ext cx="178092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f2f5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-4896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2363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f1f4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-2196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f0f4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504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eff3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3204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3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eef2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5904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7" y="2469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2363" y="2469"/>
                      </a:lnTo>
                      <a:lnTo>
                        <a:pt x="2327" y="2469"/>
                      </a:lnTo>
                      <a:close/>
                    </a:path>
                  </a:pathLst>
                </a:custGeom>
                <a:solidFill>
                  <a:srgbClr val="edf2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86040" y="1995480"/>
                  <a:ext cx="178092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ecf1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113040" y="1995480"/>
                  <a:ext cx="178092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ecf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14184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3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eaf0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16884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7" y="2469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2363" y="2469"/>
                      </a:lnTo>
                      <a:lnTo>
                        <a:pt x="2327" y="2469"/>
                      </a:lnTo>
                      <a:close/>
                    </a:path>
                  </a:pathLst>
                </a:custGeom>
                <a:solidFill>
                  <a:srgbClr val="e9ef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19620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e8ee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22320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e7ed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25020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3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e6ec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27756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7" y="2469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2363" y="2469"/>
                      </a:lnTo>
                      <a:lnTo>
                        <a:pt x="2327" y="2469"/>
                      </a:lnTo>
                      <a:close/>
                    </a:path>
                  </a:pathLst>
                </a:custGeom>
                <a:solidFill>
                  <a:srgbClr val="e4e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304560" y="1995480"/>
                  <a:ext cx="178092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e3e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331920" y="1995480"/>
                  <a:ext cx="1780920" cy="1958760"/>
                </a:xfrm>
                <a:custGeom>
                  <a:avLst/>
                  <a:gdLst/>
                  <a:ahLst/>
                  <a:rect l="l" t="t" r="r" b="b"/>
                  <a:pathLst>
                    <a:path w="2364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2364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e1e9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360360" y="1995480"/>
                  <a:ext cx="178128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dfe7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87720" y="1995480"/>
                  <a:ext cx="178092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dee6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41580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3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dce5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44316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7" y="2469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2363" y="2469"/>
                      </a:lnTo>
                      <a:lnTo>
                        <a:pt x="2327" y="2469"/>
                      </a:lnTo>
                      <a:close/>
                    </a:path>
                  </a:pathLst>
                </a:custGeom>
                <a:solidFill>
                  <a:srgbClr val="dbe4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47016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d9e3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49752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d7e2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52452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3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d5e1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55152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7" y="2469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2363" y="2469"/>
                      </a:lnTo>
                      <a:lnTo>
                        <a:pt x="2327" y="2469"/>
                      </a:lnTo>
                      <a:close/>
                    </a:path>
                  </a:pathLst>
                </a:custGeom>
                <a:solidFill>
                  <a:srgbClr val="d5e0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578880" y="1995480"/>
                  <a:ext cx="178092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d3df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605880" y="1995480"/>
                  <a:ext cx="178092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d1dd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63468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3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cfdc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66168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7" y="2469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2363" y="2469"/>
                      </a:lnTo>
                      <a:lnTo>
                        <a:pt x="2327" y="2469"/>
                      </a:lnTo>
                      <a:close/>
                    </a:path>
                  </a:pathLst>
                </a:custGeom>
                <a:solidFill>
                  <a:srgbClr val="cddb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68904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cbd9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71604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c9d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74304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3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c7d6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770400" y="1995480"/>
                  <a:ext cx="1780920" cy="1958760"/>
                </a:xfrm>
                <a:custGeom>
                  <a:avLst/>
                  <a:gdLst/>
                  <a:ahLst/>
                  <a:rect l="l" t="t" r="r" b="b"/>
                  <a:pathLst>
                    <a:path w="2364" h="2469">
                      <a:moveTo>
                        <a:pt x="2327" y="2469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2364" y="2469"/>
                      </a:lnTo>
                      <a:lnTo>
                        <a:pt x="2327" y="2469"/>
                      </a:lnTo>
                      <a:close/>
                    </a:path>
                  </a:pathLst>
                </a:custGeom>
                <a:solidFill>
                  <a:srgbClr val="c5d5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99200" y="1995480"/>
                  <a:ext cx="177912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3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c2d3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82620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7" y="2469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2363" y="2469"/>
                      </a:lnTo>
                      <a:lnTo>
                        <a:pt x="2327" y="2469"/>
                      </a:lnTo>
                      <a:close/>
                    </a:path>
                  </a:pathLst>
                </a:custGeom>
                <a:solidFill>
                  <a:srgbClr val="c0d19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853200" y="1995480"/>
                  <a:ext cx="178128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bed0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880560" y="1995480"/>
                  <a:ext cx="178092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bbce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90864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3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b9cd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93600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7" y="2469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2363" y="2469"/>
                      </a:lnTo>
                      <a:lnTo>
                        <a:pt x="2327" y="2469"/>
                      </a:lnTo>
                      <a:close/>
                    </a:path>
                  </a:pathLst>
                </a:custGeom>
                <a:solidFill>
                  <a:srgbClr val="b7cb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96300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b4ca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990360" y="1995480"/>
                  <a:ext cx="177912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b3c9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101736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3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b1c7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104436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7" y="2469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2363" y="2469"/>
                      </a:lnTo>
                      <a:lnTo>
                        <a:pt x="2327" y="2469"/>
                      </a:lnTo>
                      <a:close/>
                    </a:path>
                  </a:pathLst>
                </a:custGeom>
                <a:solidFill>
                  <a:srgbClr val="aec6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1071720" y="1995480"/>
                  <a:ext cx="178092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acc4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1098720" y="1995480"/>
                  <a:ext cx="1780920" cy="1958760"/>
                </a:xfrm>
                <a:custGeom>
                  <a:avLst/>
                  <a:gdLst/>
                  <a:ahLst/>
                  <a:rect l="l" t="t" r="r" b="b"/>
                  <a:pathLst>
                    <a:path w="2362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2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a9c2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1127520" y="1995480"/>
                  <a:ext cx="1779480" cy="1958760"/>
                </a:xfrm>
                <a:custGeom>
                  <a:avLst/>
                  <a:gdLst/>
                  <a:ahLst/>
                  <a:rect l="l" t="t" r="r" b="b"/>
                  <a:pathLst>
                    <a:path w="2363" h="2469">
                      <a:moveTo>
                        <a:pt x="2326" y="2469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363" y="2469"/>
                      </a:lnTo>
                      <a:lnTo>
                        <a:pt x="2326" y="2469"/>
                      </a:lnTo>
                      <a:close/>
                    </a:path>
                  </a:pathLst>
                </a:custGeom>
                <a:solidFill>
                  <a:srgbClr val="a7c1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2" name=""/>
              <p:cNvSpPr/>
              <p:nvPr/>
            </p:nvSpPr>
            <p:spPr>
              <a:xfrm>
                <a:off x="1154520" y="1995480"/>
                <a:ext cx="1779480" cy="1958760"/>
              </a:xfrm>
              <a:custGeom>
                <a:avLst/>
                <a:gdLst/>
                <a:ahLst/>
                <a:rect l="l" t="t" r="r" b="b"/>
                <a:pathLst>
                  <a:path w="2363" h="2469">
                    <a:moveTo>
                      <a:pt x="2327" y="2469"/>
                    </a:moveTo>
                    <a:lnTo>
                      <a:pt x="0" y="0"/>
                    </a:lnTo>
                    <a:lnTo>
                      <a:pt x="37" y="0"/>
                    </a:lnTo>
                    <a:lnTo>
                      <a:pt x="2363" y="2469"/>
                    </a:lnTo>
                    <a:lnTo>
                      <a:pt x="2327" y="2469"/>
                    </a:lnTo>
                    <a:close/>
                  </a:path>
                </a:pathLst>
              </a:custGeom>
              <a:solidFill>
                <a:srgbClr val="a4bf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181880" y="1995480"/>
                <a:ext cx="1779480" cy="1958760"/>
              </a:xfrm>
              <a:custGeom>
                <a:avLst/>
                <a:gdLst/>
                <a:ahLst/>
                <a:rect l="l" t="t" r="r" b="b"/>
                <a:pathLst>
                  <a:path w="2362" h="2469">
                    <a:moveTo>
                      <a:pt x="2326" y="2469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2362" y="2469"/>
                    </a:lnTo>
                    <a:lnTo>
                      <a:pt x="2326" y="2469"/>
                    </a:lnTo>
                    <a:close/>
                  </a:path>
                </a:pathLst>
              </a:custGeom>
              <a:solidFill>
                <a:srgbClr val="a2b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208880" y="1995480"/>
                <a:ext cx="1780920" cy="1958760"/>
              </a:xfrm>
              <a:custGeom>
                <a:avLst/>
                <a:gdLst/>
                <a:ahLst/>
                <a:rect l="l" t="t" r="r" b="b"/>
                <a:pathLst>
                  <a:path w="2364" h="2469">
                    <a:moveTo>
                      <a:pt x="2326" y="246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2364" y="2469"/>
                    </a:lnTo>
                    <a:lnTo>
                      <a:pt x="2326" y="2469"/>
                    </a:lnTo>
                    <a:close/>
                  </a:path>
                </a:pathLst>
              </a:custGeom>
              <a:solidFill>
                <a:srgbClr val="9fbc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237320" y="1995480"/>
                <a:ext cx="1779480" cy="1958760"/>
              </a:xfrm>
              <a:custGeom>
                <a:avLst/>
                <a:gdLst/>
                <a:ahLst/>
                <a:rect l="l" t="t" r="r" b="b"/>
                <a:pathLst>
                  <a:path w="2362" h="2469">
                    <a:moveTo>
                      <a:pt x="2326" y="2469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2362" y="2469"/>
                    </a:lnTo>
                    <a:lnTo>
                      <a:pt x="2326" y="2469"/>
                    </a:lnTo>
                    <a:close/>
                  </a:path>
                </a:pathLst>
              </a:custGeom>
              <a:solidFill>
                <a:srgbClr val="9bb9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264320" y="1995480"/>
                <a:ext cx="1779480" cy="1958760"/>
              </a:xfrm>
              <a:custGeom>
                <a:avLst/>
                <a:gdLst/>
                <a:ahLst/>
                <a:rect l="l" t="t" r="r" b="b"/>
                <a:pathLst>
                  <a:path w="2362" h="2469">
                    <a:moveTo>
                      <a:pt x="2326" y="2469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2362" y="2469"/>
                    </a:lnTo>
                    <a:lnTo>
                      <a:pt x="2326" y="2469"/>
                    </a:lnTo>
                    <a:close/>
                  </a:path>
                </a:pathLst>
              </a:custGeom>
              <a:solidFill>
                <a:srgbClr val="99b8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291680" y="1995480"/>
                <a:ext cx="1779120" cy="1958760"/>
              </a:xfrm>
              <a:custGeom>
                <a:avLst/>
                <a:gdLst/>
                <a:ahLst/>
                <a:rect l="l" t="t" r="r" b="b"/>
                <a:pathLst>
                  <a:path w="2363" h="2469">
                    <a:moveTo>
                      <a:pt x="2326" y="2469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2363" y="2469"/>
                    </a:lnTo>
                    <a:lnTo>
                      <a:pt x="2326" y="2469"/>
                    </a:lnTo>
                    <a:close/>
                  </a:path>
                </a:pathLst>
              </a:custGeom>
              <a:solidFill>
                <a:srgbClr val="96b6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1318680" y="1995480"/>
                <a:ext cx="1779480" cy="1958760"/>
              </a:xfrm>
              <a:custGeom>
                <a:avLst/>
                <a:gdLst/>
                <a:ahLst/>
                <a:rect l="l" t="t" r="r" b="b"/>
                <a:pathLst>
                  <a:path w="2363" h="2469">
                    <a:moveTo>
                      <a:pt x="2327" y="2469"/>
                    </a:moveTo>
                    <a:lnTo>
                      <a:pt x="0" y="0"/>
                    </a:lnTo>
                    <a:lnTo>
                      <a:pt x="37" y="0"/>
                    </a:lnTo>
                    <a:lnTo>
                      <a:pt x="2363" y="2469"/>
                    </a:lnTo>
                    <a:lnTo>
                      <a:pt x="2327" y="2469"/>
                    </a:lnTo>
                    <a:close/>
                  </a:path>
                </a:pathLst>
              </a:custGeom>
              <a:solidFill>
                <a:srgbClr val="94b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345680" y="1995480"/>
                <a:ext cx="1781280" cy="1958760"/>
              </a:xfrm>
              <a:custGeom>
                <a:avLst/>
                <a:gdLst/>
                <a:ahLst/>
                <a:rect l="l" t="t" r="r" b="b"/>
                <a:pathLst>
                  <a:path w="2362" h="2469">
                    <a:moveTo>
                      <a:pt x="2326" y="2469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2362" y="2469"/>
                    </a:lnTo>
                    <a:lnTo>
                      <a:pt x="2326" y="2469"/>
                    </a:lnTo>
                    <a:close/>
                  </a:path>
                </a:pathLst>
              </a:custGeom>
              <a:solidFill>
                <a:srgbClr val="91b3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373040" y="1995480"/>
                <a:ext cx="1780920" cy="1958760"/>
              </a:xfrm>
              <a:custGeom>
                <a:avLst/>
                <a:gdLst/>
                <a:ahLst/>
                <a:rect l="l" t="t" r="r" b="b"/>
                <a:pathLst>
                  <a:path w="2362" h="2469">
                    <a:moveTo>
                      <a:pt x="2326" y="2469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2362" y="2469"/>
                    </a:lnTo>
                    <a:lnTo>
                      <a:pt x="2326" y="2469"/>
                    </a:lnTo>
                    <a:close/>
                  </a:path>
                </a:pathLst>
              </a:custGeom>
              <a:solidFill>
                <a:srgbClr val="8eb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401480" y="1995480"/>
                <a:ext cx="1779480" cy="1958760"/>
              </a:xfrm>
              <a:custGeom>
                <a:avLst/>
                <a:gdLst/>
                <a:ahLst/>
                <a:rect l="l" t="t" r="r" b="b"/>
                <a:pathLst>
                  <a:path w="2363" h="2469">
                    <a:moveTo>
                      <a:pt x="2326" y="2469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2363" y="2469"/>
                    </a:lnTo>
                    <a:lnTo>
                      <a:pt x="2326" y="2469"/>
                    </a:lnTo>
                    <a:close/>
                  </a:path>
                </a:pathLst>
              </a:custGeom>
              <a:solidFill>
                <a:srgbClr val="8cb0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428840" y="1995480"/>
                <a:ext cx="1779480" cy="1958760"/>
              </a:xfrm>
              <a:custGeom>
                <a:avLst/>
                <a:gdLst/>
                <a:ahLst/>
                <a:rect l="l" t="t" r="r" b="b"/>
                <a:pathLst>
                  <a:path w="2363" h="2469">
                    <a:moveTo>
                      <a:pt x="2327" y="2469"/>
                    </a:moveTo>
                    <a:lnTo>
                      <a:pt x="0" y="0"/>
                    </a:lnTo>
                    <a:lnTo>
                      <a:pt x="37" y="0"/>
                    </a:lnTo>
                    <a:lnTo>
                      <a:pt x="2363" y="2469"/>
                    </a:lnTo>
                    <a:lnTo>
                      <a:pt x="2327" y="2469"/>
                    </a:lnTo>
                    <a:close/>
                  </a:path>
                </a:pathLst>
              </a:custGeom>
              <a:solidFill>
                <a:srgbClr val="8aaf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455840" y="1995480"/>
                <a:ext cx="1779480" cy="1958760"/>
              </a:xfrm>
              <a:custGeom>
                <a:avLst/>
                <a:gdLst/>
                <a:ahLst/>
                <a:rect l="l" t="t" r="r" b="b"/>
                <a:pathLst>
                  <a:path w="2362" h="2469">
                    <a:moveTo>
                      <a:pt x="2326" y="2469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2362" y="2469"/>
                    </a:lnTo>
                    <a:lnTo>
                      <a:pt x="2326" y="2469"/>
                    </a:lnTo>
                    <a:close/>
                  </a:path>
                </a:pathLst>
              </a:custGeom>
              <a:solidFill>
                <a:srgbClr val="87ad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483200" y="1995480"/>
                <a:ext cx="1779120" cy="1958760"/>
              </a:xfrm>
              <a:custGeom>
                <a:avLst/>
                <a:gdLst/>
                <a:ahLst/>
                <a:rect l="l" t="t" r="r" b="b"/>
                <a:pathLst>
                  <a:path w="2362" h="2469">
                    <a:moveTo>
                      <a:pt x="2326" y="2469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2362" y="2469"/>
                    </a:lnTo>
                    <a:lnTo>
                      <a:pt x="2326" y="2469"/>
                    </a:lnTo>
                    <a:close/>
                  </a:path>
                </a:pathLst>
              </a:custGeom>
              <a:solidFill>
                <a:srgbClr val="85ac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510200" y="1995480"/>
                <a:ext cx="1779480" cy="1958760"/>
              </a:xfrm>
              <a:custGeom>
                <a:avLst/>
                <a:gdLst/>
                <a:ahLst/>
                <a:rect l="l" t="t" r="r" b="b"/>
                <a:pathLst>
                  <a:path w="2363" h="2469">
                    <a:moveTo>
                      <a:pt x="2326" y="2469"/>
                    </a:moveTo>
                    <a:lnTo>
                      <a:pt x="0" y="0"/>
                    </a:lnTo>
                    <a:lnTo>
                      <a:pt x="37" y="0"/>
                    </a:lnTo>
                    <a:lnTo>
                      <a:pt x="2363" y="2469"/>
                    </a:lnTo>
                    <a:lnTo>
                      <a:pt x="2326" y="2469"/>
                    </a:lnTo>
                    <a:close/>
                  </a:path>
                </a:pathLst>
              </a:custGeom>
              <a:solidFill>
                <a:srgbClr val="82aa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1537200" y="1995480"/>
                <a:ext cx="1781280" cy="1958760"/>
              </a:xfrm>
              <a:custGeom>
                <a:avLst/>
                <a:gdLst/>
                <a:ahLst/>
                <a:rect l="l" t="t" r="r" b="b"/>
                <a:pathLst>
                  <a:path w="2362" h="2469">
                    <a:moveTo>
                      <a:pt x="2326" y="2469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2362" y="2469"/>
                    </a:lnTo>
                    <a:lnTo>
                      <a:pt x="2326" y="2469"/>
                    </a:lnTo>
                    <a:close/>
                  </a:path>
                </a:pathLst>
              </a:custGeom>
              <a:solidFill>
                <a:srgbClr val="7fa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564560" y="1995480"/>
                <a:ext cx="1780920" cy="1958760"/>
              </a:xfrm>
              <a:custGeom>
                <a:avLst/>
                <a:gdLst/>
                <a:ahLst/>
                <a:rect l="l" t="t" r="r" b="b"/>
                <a:pathLst>
                  <a:path w="2362" h="2469">
                    <a:moveTo>
                      <a:pt x="2326" y="2469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2362" y="2469"/>
                    </a:lnTo>
                    <a:lnTo>
                      <a:pt x="2326" y="2469"/>
                    </a:lnTo>
                    <a:close/>
                  </a:path>
                </a:pathLst>
              </a:custGeom>
              <a:solidFill>
                <a:srgbClr val="7da7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593000" y="1995480"/>
                <a:ext cx="1779480" cy="1958760"/>
              </a:xfrm>
              <a:custGeom>
                <a:avLst/>
                <a:gdLst/>
                <a:ahLst/>
                <a:rect l="l" t="t" r="r" b="b"/>
                <a:pathLst>
                  <a:path w="2363" h="2469">
                    <a:moveTo>
                      <a:pt x="2326" y="2469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2363" y="2469"/>
                    </a:lnTo>
                    <a:lnTo>
                      <a:pt x="2326" y="2469"/>
                    </a:lnTo>
                    <a:close/>
                  </a:path>
                </a:pathLst>
              </a:custGeom>
              <a:solidFill>
                <a:srgbClr val="7aa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620360" y="1995480"/>
                <a:ext cx="1779480" cy="1958760"/>
              </a:xfrm>
              <a:custGeom>
                <a:avLst/>
                <a:gdLst/>
                <a:ahLst/>
                <a:rect l="l" t="t" r="r" b="b"/>
                <a:pathLst>
                  <a:path w="2363" h="2469">
                    <a:moveTo>
                      <a:pt x="2327" y="2469"/>
                    </a:moveTo>
                    <a:lnTo>
                      <a:pt x="0" y="0"/>
                    </a:lnTo>
                    <a:lnTo>
                      <a:pt x="37" y="0"/>
                    </a:lnTo>
                    <a:lnTo>
                      <a:pt x="2363" y="2469"/>
                    </a:lnTo>
                    <a:lnTo>
                      <a:pt x="2327" y="2469"/>
                    </a:lnTo>
                    <a:close/>
                  </a:path>
                </a:pathLst>
              </a:custGeom>
              <a:solidFill>
                <a:srgbClr val="77a4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647360" y="1995480"/>
                <a:ext cx="1781280" cy="1958760"/>
              </a:xfrm>
              <a:custGeom>
                <a:avLst/>
                <a:gdLst/>
                <a:ahLst/>
                <a:rect l="l" t="t" r="r" b="b"/>
                <a:pathLst>
                  <a:path w="2363" h="2469">
                    <a:moveTo>
                      <a:pt x="2326" y="2469"/>
                    </a:moveTo>
                    <a:lnTo>
                      <a:pt x="0" y="0"/>
                    </a:lnTo>
                    <a:lnTo>
                      <a:pt x="37" y="0"/>
                    </a:lnTo>
                    <a:lnTo>
                      <a:pt x="2363" y="2469"/>
                    </a:lnTo>
                    <a:lnTo>
                      <a:pt x="2326" y="2469"/>
                    </a:lnTo>
                    <a:close/>
                  </a:path>
                </a:pathLst>
              </a:custGeom>
              <a:solidFill>
                <a:srgbClr val="74a3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675800" y="1995480"/>
                <a:ext cx="1779480" cy="1958760"/>
              </a:xfrm>
              <a:custGeom>
                <a:avLst/>
                <a:gdLst/>
                <a:ahLst/>
                <a:rect l="l" t="t" r="r" b="b"/>
                <a:pathLst>
                  <a:path w="2363" h="2469">
                    <a:moveTo>
                      <a:pt x="2326" y="2469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2363" y="2469"/>
                    </a:lnTo>
                    <a:lnTo>
                      <a:pt x="2326" y="2469"/>
                    </a:lnTo>
                    <a:close/>
                  </a:path>
                </a:pathLst>
              </a:custGeom>
              <a:solidFill>
                <a:srgbClr val="70a0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702800" y="1995480"/>
                <a:ext cx="1779480" cy="1958760"/>
              </a:xfrm>
              <a:custGeom>
                <a:avLst/>
                <a:gdLst/>
                <a:ahLst/>
                <a:rect l="l" t="t" r="r" b="b"/>
                <a:pathLst>
                  <a:path w="2363" h="2469">
                    <a:moveTo>
                      <a:pt x="2327" y="2469"/>
                    </a:moveTo>
                    <a:lnTo>
                      <a:pt x="0" y="0"/>
                    </a:lnTo>
                    <a:lnTo>
                      <a:pt x="37" y="0"/>
                    </a:lnTo>
                    <a:lnTo>
                      <a:pt x="2363" y="2469"/>
                    </a:lnTo>
                    <a:lnTo>
                      <a:pt x="2327" y="2469"/>
                    </a:lnTo>
                    <a:close/>
                  </a:path>
                </a:pathLst>
              </a:custGeom>
              <a:solidFill>
                <a:srgbClr val="6e9f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730160" y="1995480"/>
                <a:ext cx="1779480" cy="1958760"/>
              </a:xfrm>
              <a:custGeom>
                <a:avLst/>
                <a:gdLst/>
                <a:ahLst/>
                <a:rect l="l" t="t" r="r" b="b"/>
                <a:pathLst>
                  <a:path w="2362" h="2469">
                    <a:moveTo>
                      <a:pt x="2326" y="2469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2362" y="2469"/>
                    </a:lnTo>
                    <a:lnTo>
                      <a:pt x="2326" y="2469"/>
                    </a:lnTo>
                    <a:close/>
                  </a:path>
                </a:pathLst>
              </a:custGeom>
              <a:solidFill>
                <a:srgbClr val="6b9e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757160" y="1995480"/>
                <a:ext cx="1779480" cy="1958760"/>
              </a:xfrm>
              <a:custGeom>
                <a:avLst/>
                <a:gdLst/>
                <a:ahLst/>
                <a:rect l="l" t="t" r="r" b="b"/>
                <a:pathLst>
                  <a:path w="2363" h="2469">
                    <a:moveTo>
                      <a:pt x="2326" y="2469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2363" y="2469"/>
                    </a:lnTo>
                    <a:lnTo>
                      <a:pt x="2326" y="2469"/>
                    </a:lnTo>
                    <a:close/>
                  </a:path>
                </a:pathLst>
              </a:custGeom>
              <a:solidFill>
                <a:srgbClr val="689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784520" y="1995480"/>
                <a:ext cx="1779120" cy="1958760"/>
              </a:xfrm>
              <a:custGeom>
                <a:avLst/>
                <a:gdLst/>
                <a:ahLst/>
                <a:rect l="l" t="t" r="r" b="b"/>
                <a:pathLst>
                  <a:path w="2363" h="2469">
                    <a:moveTo>
                      <a:pt x="2327" y="2469"/>
                    </a:moveTo>
                    <a:lnTo>
                      <a:pt x="0" y="0"/>
                    </a:lnTo>
                    <a:lnTo>
                      <a:pt x="37" y="0"/>
                    </a:lnTo>
                    <a:lnTo>
                      <a:pt x="2363" y="2469"/>
                    </a:lnTo>
                    <a:lnTo>
                      <a:pt x="2327" y="2469"/>
                    </a:lnTo>
                    <a:close/>
                  </a:path>
                </a:pathLst>
              </a:custGeom>
              <a:solidFill>
                <a:srgbClr val="659b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811520" y="1995480"/>
                <a:ext cx="1780920" cy="1958760"/>
              </a:xfrm>
              <a:custGeom>
                <a:avLst/>
                <a:gdLst/>
                <a:ahLst/>
                <a:rect l="l" t="t" r="r" b="b"/>
                <a:pathLst>
                  <a:path w="2362" h="2469">
                    <a:moveTo>
                      <a:pt x="2326" y="2469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2362" y="2469"/>
                    </a:lnTo>
                    <a:lnTo>
                      <a:pt x="2326" y="2469"/>
                    </a:lnTo>
                    <a:close/>
                  </a:path>
                </a:pathLst>
              </a:custGeom>
              <a:solidFill>
                <a:srgbClr val="639a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838520" y="1995480"/>
                <a:ext cx="1781280" cy="1958760"/>
              </a:xfrm>
              <a:custGeom>
                <a:avLst/>
                <a:gdLst/>
                <a:ahLst/>
                <a:rect l="l" t="t" r="r" b="b"/>
                <a:pathLst>
                  <a:path w="2362" h="2469">
                    <a:moveTo>
                      <a:pt x="2326" y="2469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2362" y="2469"/>
                    </a:lnTo>
                    <a:lnTo>
                      <a:pt x="2326" y="2469"/>
                    </a:lnTo>
                    <a:close/>
                  </a:path>
                </a:pathLst>
              </a:custGeom>
              <a:solidFill>
                <a:srgbClr val="6098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1867320" y="1995480"/>
                <a:ext cx="1779480" cy="1958760"/>
              </a:xfrm>
              <a:custGeom>
                <a:avLst/>
                <a:gdLst/>
                <a:ahLst/>
                <a:rect l="l" t="t" r="r" b="b"/>
                <a:pathLst>
                  <a:path w="2363" h="2469">
                    <a:moveTo>
                      <a:pt x="2326" y="2469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2363" y="2469"/>
                    </a:lnTo>
                    <a:lnTo>
                      <a:pt x="2326" y="2469"/>
                    </a:lnTo>
                    <a:close/>
                  </a:path>
                </a:pathLst>
              </a:custGeom>
              <a:solidFill>
                <a:srgbClr val="5f9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1894320" y="1995480"/>
                <a:ext cx="1779480" cy="1958760"/>
              </a:xfrm>
              <a:custGeom>
                <a:avLst/>
                <a:gdLst/>
                <a:ahLst/>
                <a:rect l="l" t="t" r="r" b="b"/>
                <a:pathLst>
                  <a:path w="2363" h="2469">
                    <a:moveTo>
                      <a:pt x="2327" y="2469"/>
                    </a:moveTo>
                    <a:lnTo>
                      <a:pt x="0" y="0"/>
                    </a:lnTo>
                    <a:lnTo>
                      <a:pt x="37" y="0"/>
                    </a:lnTo>
                    <a:lnTo>
                      <a:pt x="2363" y="2469"/>
                    </a:lnTo>
                    <a:lnTo>
                      <a:pt x="2327" y="2469"/>
                    </a:lnTo>
                    <a:close/>
                  </a:path>
                </a:pathLst>
              </a:custGeom>
              <a:solidFill>
                <a:srgbClr val="5c9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1921680" y="1995480"/>
                <a:ext cx="1779480" cy="1958760"/>
              </a:xfrm>
              <a:custGeom>
                <a:avLst/>
                <a:gdLst/>
                <a:ahLst/>
                <a:rect l="l" t="t" r="r" b="b"/>
                <a:pathLst>
                  <a:path w="2362" h="2469">
                    <a:moveTo>
                      <a:pt x="2326" y="2469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2362" y="2469"/>
                    </a:lnTo>
                    <a:lnTo>
                      <a:pt x="2326" y="2469"/>
                    </a:lnTo>
                    <a:close/>
                  </a:path>
                </a:pathLst>
              </a:custGeom>
              <a:solidFill>
                <a:srgbClr val="5995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1948680" y="1995480"/>
                <a:ext cx="1779480" cy="1958760"/>
              </a:xfrm>
              <a:custGeom>
                <a:avLst/>
                <a:gdLst/>
                <a:ahLst/>
                <a:rect l="l" t="t" r="r" b="b"/>
                <a:pathLst>
                  <a:path w="2362" h="2469">
                    <a:moveTo>
                      <a:pt x="2326" y="2469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2362" y="2469"/>
                    </a:lnTo>
                    <a:lnTo>
                      <a:pt x="2326" y="2469"/>
                    </a:lnTo>
                    <a:close/>
                  </a:path>
                </a:pathLst>
              </a:custGeom>
              <a:solidFill>
                <a:srgbClr val="5794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1976040" y="1995480"/>
                <a:ext cx="1779120" cy="1958760"/>
              </a:xfrm>
              <a:custGeom>
                <a:avLst/>
                <a:gdLst/>
                <a:ahLst/>
                <a:rect l="l" t="t" r="r" b="b"/>
                <a:pathLst>
                  <a:path w="2363" h="2469">
                    <a:moveTo>
                      <a:pt x="2326" y="2469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2363" y="2469"/>
                    </a:lnTo>
                    <a:lnTo>
                      <a:pt x="2326" y="2469"/>
                    </a:lnTo>
                    <a:close/>
                  </a:path>
                </a:pathLst>
              </a:custGeom>
              <a:solidFill>
                <a:srgbClr val="549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2003040" y="1995480"/>
                <a:ext cx="1779480" cy="1958760"/>
              </a:xfrm>
              <a:custGeom>
                <a:avLst/>
                <a:gdLst/>
                <a:ahLst/>
                <a:rect l="l" t="t" r="r" b="b"/>
                <a:pathLst>
                  <a:path w="2363" h="2469">
                    <a:moveTo>
                      <a:pt x="2327" y="2469"/>
                    </a:moveTo>
                    <a:lnTo>
                      <a:pt x="0" y="0"/>
                    </a:lnTo>
                    <a:lnTo>
                      <a:pt x="37" y="0"/>
                    </a:lnTo>
                    <a:lnTo>
                      <a:pt x="2363" y="2469"/>
                    </a:lnTo>
                    <a:lnTo>
                      <a:pt x="2327" y="2469"/>
                    </a:lnTo>
                    <a:close/>
                  </a:path>
                </a:pathLst>
              </a:custGeom>
              <a:solidFill>
                <a:srgbClr val="5192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2030040" y="1995480"/>
                <a:ext cx="1781280" cy="1958760"/>
              </a:xfrm>
              <a:custGeom>
                <a:avLst/>
                <a:gdLst/>
                <a:ahLst/>
                <a:rect l="l" t="t" r="r" b="b"/>
                <a:pathLst>
                  <a:path w="2362" h="2469">
                    <a:moveTo>
                      <a:pt x="2326" y="2469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2362" y="2469"/>
                    </a:lnTo>
                    <a:lnTo>
                      <a:pt x="2326" y="2469"/>
                    </a:lnTo>
                    <a:close/>
                  </a:path>
                </a:pathLst>
              </a:custGeom>
              <a:solidFill>
                <a:srgbClr val="4f9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2057400" y="1995480"/>
                <a:ext cx="1780920" cy="1958760"/>
              </a:xfrm>
              <a:custGeom>
                <a:avLst/>
                <a:gdLst/>
                <a:ahLst/>
                <a:rect l="l" t="t" r="r" b="b"/>
                <a:pathLst>
                  <a:path w="2362" h="2469">
                    <a:moveTo>
                      <a:pt x="2326" y="2469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2362" y="2469"/>
                    </a:lnTo>
                    <a:lnTo>
                      <a:pt x="2326" y="2469"/>
                    </a:lnTo>
                    <a:close/>
                  </a:path>
                </a:pathLst>
              </a:custGeom>
              <a:solidFill>
                <a:srgbClr val="4c90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085480" y="1995480"/>
                <a:ext cx="1781280" cy="1958760"/>
              </a:xfrm>
              <a:custGeom>
                <a:avLst/>
                <a:gdLst/>
                <a:ahLst/>
                <a:rect l="l" t="t" r="r" b="b"/>
                <a:pathLst>
                  <a:path w="2364" h="2469">
                    <a:moveTo>
                      <a:pt x="2326" y="246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2364" y="2469"/>
                    </a:lnTo>
                    <a:lnTo>
                      <a:pt x="2326" y="2469"/>
                    </a:lnTo>
                    <a:close/>
                  </a:path>
                </a:pathLst>
              </a:custGeom>
              <a:solidFill>
                <a:srgbClr val="4a8f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112840" y="1995480"/>
                <a:ext cx="1780920" cy="1958760"/>
              </a:xfrm>
              <a:custGeom>
                <a:avLst/>
                <a:gdLst/>
                <a:ahLst/>
                <a:rect l="l" t="t" r="r" b="b"/>
                <a:pathLst>
                  <a:path w="2362" h="2469">
                    <a:moveTo>
                      <a:pt x="2326" y="2469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2362" y="2469"/>
                    </a:lnTo>
                    <a:lnTo>
                      <a:pt x="2326" y="2469"/>
                    </a:lnTo>
                    <a:close/>
                  </a:path>
                </a:pathLst>
              </a:custGeom>
              <a:solidFill>
                <a:srgbClr val="468d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141640" y="1995480"/>
                <a:ext cx="1779480" cy="1958760"/>
              </a:xfrm>
              <a:custGeom>
                <a:avLst/>
                <a:gdLst/>
                <a:ahLst/>
                <a:rect l="l" t="t" r="r" b="b"/>
                <a:pathLst>
                  <a:path w="2363" h="2469">
                    <a:moveTo>
                      <a:pt x="2326" y="2469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2363" y="2469"/>
                    </a:lnTo>
                    <a:lnTo>
                      <a:pt x="2326" y="2469"/>
                    </a:lnTo>
                    <a:close/>
                  </a:path>
                </a:pathLst>
              </a:custGeom>
              <a:solidFill>
                <a:srgbClr val="438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168640" y="1995480"/>
                <a:ext cx="1779480" cy="1958760"/>
              </a:xfrm>
              <a:custGeom>
                <a:avLst/>
                <a:gdLst/>
                <a:ahLst/>
                <a:rect l="l" t="t" r="r" b="b"/>
                <a:pathLst>
                  <a:path w="2363" h="2469">
                    <a:moveTo>
                      <a:pt x="2327" y="2469"/>
                    </a:moveTo>
                    <a:lnTo>
                      <a:pt x="0" y="0"/>
                    </a:lnTo>
                    <a:lnTo>
                      <a:pt x="37" y="0"/>
                    </a:lnTo>
                    <a:lnTo>
                      <a:pt x="2363" y="2469"/>
                    </a:lnTo>
                    <a:lnTo>
                      <a:pt x="2327" y="2469"/>
                    </a:lnTo>
                    <a:close/>
                  </a:path>
                </a:pathLst>
              </a:custGeom>
              <a:solidFill>
                <a:srgbClr val="418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195640" y="1995480"/>
                <a:ext cx="1779480" cy="1958760"/>
              </a:xfrm>
              <a:custGeom>
                <a:avLst/>
                <a:gdLst/>
                <a:ahLst/>
                <a:rect l="l" t="t" r="r" b="b"/>
                <a:pathLst>
                  <a:path w="2362" h="2469">
                    <a:moveTo>
                      <a:pt x="2326" y="2469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2362" y="2469"/>
                    </a:lnTo>
                    <a:lnTo>
                      <a:pt x="2326" y="2469"/>
                    </a:lnTo>
                    <a:close/>
                  </a:path>
                </a:pathLst>
              </a:custGeom>
              <a:solidFill>
                <a:srgbClr val="3e8a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223000" y="1995480"/>
                <a:ext cx="1779480" cy="1958760"/>
              </a:xfrm>
              <a:custGeom>
                <a:avLst/>
                <a:gdLst/>
                <a:ahLst/>
                <a:rect l="l" t="t" r="r" b="b"/>
                <a:pathLst>
                  <a:path w="2362" h="2469">
                    <a:moveTo>
                      <a:pt x="2326" y="2469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2362" y="2469"/>
                    </a:lnTo>
                    <a:lnTo>
                      <a:pt x="2326" y="2469"/>
                    </a:lnTo>
                    <a:close/>
                  </a:path>
                </a:pathLst>
              </a:custGeom>
              <a:solidFill>
                <a:srgbClr val="3b8a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250000" y="1995480"/>
                <a:ext cx="1779480" cy="1958760"/>
              </a:xfrm>
              <a:custGeom>
                <a:avLst/>
                <a:gdLst/>
                <a:ahLst/>
                <a:rect l="l" t="t" r="r" b="b"/>
                <a:pathLst>
                  <a:path w="2363" h="2469">
                    <a:moveTo>
                      <a:pt x="2326" y="2469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2363" y="2469"/>
                    </a:lnTo>
                    <a:lnTo>
                      <a:pt x="2326" y="2469"/>
                    </a:lnTo>
                    <a:close/>
                  </a:path>
                </a:pathLst>
              </a:custGeom>
              <a:solidFill>
                <a:srgbClr val="3989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277360" y="1995480"/>
                <a:ext cx="1779120" cy="1958760"/>
              </a:xfrm>
              <a:custGeom>
                <a:avLst/>
                <a:gdLst/>
                <a:ahLst/>
                <a:rect l="l" t="t" r="r" b="b"/>
                <a:pathLst>
                  <a:path w="2363" h="2469">
                    <a:moveTo>
                      <a:pt x="2327" y="2469"/>
                    </a:moveTo>
                    <a:lnTo>
                      <a:pt x="0" y="0"/>
                    </a:lnTo>
                    <a:lnTo>
                      <a:pt x="37" y="0"/>
                    </a:lnTo>
                    <a:lnTo>
                      <a:pt x="2363" y="2469"/>
                    </a:lnTo>
                    <a:lnTo>
                      <a:pt x="2327" y="2469"/>
                    </a:lnTo>
                    <a:close/>
                  </a:path>
                </a:pathLst>
              </a:custGeom>
              <a:solidFill>
                <a:srgbClr val="3688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304360" y="1995480"/>
                <a:ext cx="1780920" cy="1958760"/>
              </a:xfrm>
              <a:custGeom>
                <a:avLst/>
                <a:gdLst/>
                <a:ahLst/>
                <a:rect l="l" t="t" r="r" b="b"/>
                <a:pathLst>
                  <a:path w="2362" h="2469">
                    <a:moveTo>
                      <a:pt x="2326" y="2469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2362" y="2469"/>
                    </a:lnTo>
                    <a:lnTo>
                      <a:pt x="2326" y="2469"/>
                    </a:lnTo>
                    <a:close/>
                  </a:path>
                </a:pathLst>
              </a:custGeom>
              <a:solidFill>
                <a:srgbClr val="35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331360" y="1995480"/>
                <a:ext cx="1781280" cy="1958760"/>
              </a:xfrm>
              <a:custGeom>
                <a:avLst/>
                <a:gdLst/>
                <a:ahLst/>
                <a:rect l="l" t="t" r="r" b="b"/>
                <a:pathLst>
                  <a:path w="2362" h="2469">
                    <a:moveTo>
                      <a:pt x="2326" y="2469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2362" y="2469"/>
                    </a:lnTo>
                    <a:lnTo>
                      <a:pt x="2326" y="2469"/>
                    </a:lnTo>
                    <a:close/>
                  </a:path>
                </a:pathLst>
              </a:custGeom>
              <a:solidFill>
                <a:srgbClr val="3387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360160" y="1995480"/>
                <a:ext cx="1779480" cy="1958760"/>
              </a:xfrm>
              <a:custGeom>
                <a:avLst/>
                <a:gdLst/>
                <a:ahLst/>
                <a:rect l="l" t="t" r="r" b="b"/>
                <a:pathLst>
                  <a:path w="2363" h="2469">
                    <a:moveTo>
                      <a:pt x="2326" y="2469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2363" y="2469"/>
                    </a:lnTo>
                    <a:lnTo>
                      <a:pt x="2326" y="2469"/>
                    </a:lnTo>
                    <a:close/>
                  </a:path>
                </a:pathLst>
              </a:custGeom>
              <a:solidFill>
                <a:srgbClr val="3086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387160" y="1995480"/>
                <a:ext cx="1779480" cy="1958760"/>
              </a:xfrm>
              <a:custGeom>
                <a:avLst/>
                <a:gdLst/>
                <a:ahLst/>
                <a:rect l="l" t="t" r="r" b="b"/>
                <a:pathLst>
                  <a:path w="2363" h="2469">
                    <a:moveTo>
                      <a:pt x="2327" y="2469"/>
                    </a:moveTo>
                    <a:lnTo>
                      <a:pt x="0" y="0"/>
                    </a:lnTo>
                    <a:lnTo>
                      <a:pt x="37" y="0"/>
                    </a:lnTo>
                    <a:lnTo>
                      <a:pt x="2363" y="2469"/>
                    </a:lnTo>
                    <a:lnTo>
                      <a:pt x="2327" y="2469"/>
                    </a:lnTo>
                    <a:close/>
                  </a:path>
                </a:pathLst>
              </a:custGeom>
              <a:solidFill>
                <a:srgbClr val="2e86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414520" y="1995480"/>
                <a:ext cx="1779480" cy="1958760"/>
              </a:xfrm>
              <a:custGeom>
                <a:avLst/>
                <a:gdLst/>
                <a:ahLst/>
                <a:rect l="l" t="t" r="r" b="b"/>
                <a:pathLst>
                  <a:path w="2362" h="2469">
                    <a:moveTo>
                      <a:pt x="2326" y="2469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2362" y="2469"/>
                    </a:lnTo>
                    <a:lnTo>
                      <a:pt x="2326" y="2469"/>
                    </a:lnTo>
                    <a:close/>
                  </a:path>
                </a:pathLst>
              </a:custGeom>
              <a:solidFill>
                <a:srgbClr val="2b85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441520" y="1995480"/>
                <a:ext cx="1779480" cy="1958760"/>
              </a:xfrm>
              <a:custGeom>
                <a:avLst/>
                <a:gdLst/>
                <a:ahLst/>
                <a:rect l="l" t="t" r="r" b="b"/>
                <a:pathLst>
                  <a:path w="2362" h="2469">
                    <a:moveTo>
                      <a:pt x="2326" y="2469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2362" y="2469"/>
                    </a:lnTo>
                    <a:lnTo>
                      <a:pt x="2326" y="2469"/>
                    </a:lnTo>
                    <a:close/>
                  </a:path>
                </a:pathLst>
              </a:custGeom>
              <a:solidFill>
                <a:srgbClr val="2884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468880" y="1995480"/>
                <a:ext cx="1779120" cy="1958760"/>
              </a:xfrm>
              <a:custGeom>
                <a:avLst/>
                <a:gdLst/>
                <a:ahLst/>
                <a:rect l="l" t="t" r="r" b="b"/>
                <a:pathLst>
                  <a:path w="2363" h="2469">
                    <a:moveTo>
                      <a:pt x="2326" y="2469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2363" y="2469"/>
                    </a:lnTo>
                    <a:lnTo>
                      <a:pt x="2326" y="2469"/>
                    </a:lnTo>
                    <a:close/>
                  </a:path>
                </a:pathLst>
              </a:custGeom>
              <a:solidFill>
                <a:srgbClr val="2684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495880" y="1995480"/>
                <a:ext cx="1779480" cy="1958760"/>
              </a:xfrm>
              <a:custGeom>
                <a:avLst/>
                <a:gdLst/>
                <a:ahLst/>
                <a:rect l="l" t="t" r="r" b="b"/>
                <a:pathLst>
                  <a:path w="2363" h="2469">
                    <a:moveTo>
                      <a:pt x="2327" y="2469"/>
                    </a:moveTo>
                    <a:lnTo>
                      <a:pt x="0" y="0"/>
                    </a:lnTo>
                    <a:lnTo>
                      <a:pt x="37" y="0"/>
                    </a:lnTo>
                    <a:lnTo>
                      <a:pt x="2363" y="2469"/>
                    </a:lnTo>
                    <a:lnTo>
                      <a:pt x="2327" y="2469"/>
                    </a:lnTo>
                    <a:close/>
                  </a:path>
                </a:pathLst>
              </a:custGeom>
              <a:solidFill>
                <a:srgbClr val="2383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522880" y="1995480"/>
                <a:ext cx="1781280" cy="1958760"/>
              </a:xfrm>
              <a:custGeom>
                <a:avLst/>
                <a:gdLst/>
                <a:ahLst/>
                <a:rect l="l" t="t" r="r" b="b"/>
                <a:pathLst>
                  <a:path w="2364" h="2469">
                    <a:moveTo>
                      <a:pt x="2326" y="2469"/>
                    </a:moveTo>
                    <a:lnTo>
                      <a:pt x="0" y="0"/>
                    </a:lnTo>
                    <a:lnTo>
                      <a:pt x="37" y="0"/>
                    </a:lnTo>
                    <a:lnTo>
                      <a:pt x="2364" y="2469"/>
                    </a:lnTo>
                    <a:lnTo>
                      <a:pt x="2326" y="2469"/>
                    </a:lnTo>
                    <a:close/>
                  </a:path>
                </a:pathLst>
              </a:custGeom>
              <a:solidFill>
                <a:srgbClr val="2183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551320" y="1995480"/>
                <a:ext cx="1779480" cy="1958760"/>
              </a:xfrm>
              <a:custGeom>
                <a:avLst/>
                <a:gdLst/>
                <a:ahLst/>
                <a:rect l="l" t="t" r="r" b="b"/>
                <a:pathLst>
                  <a:path w="2363" h="2469">
                    <a:moveTo>
                      <a:pt x="2327" y="2469"/>
                    </a:moveTo>
                    <a:lnTo>
                      <a:pt x="0" y="0"/>
                    </a:lnTo>
                    <a:lnTo>
                      <a:pt x="37" y="0"/>
                    </a:lnTo>
                    <a:lnTo>
                      <a:pt x="2363" y="2469"/>
                    </a:lnTo>
                    <a:lnTo>
                      <a:pt x="2327" y="2469"/>
                    </a:lnTo>
                    <a:close/>
                  </a:path>
                </a:pathLst>
              </a:custGeom>
              <a:solidFill>
                <a:srgbClr val="1c82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578320" y="1995480"/>
                <a:ext cx="1781280" cy="1958760"/>
              </a:xfrm>
              <a:custGeom>
                <a:avLst/>
                <a:gdLst/>
                <a:ahLst/>
                <a:rect l="l" t="t" r="r" b="b"/>
                <a:pathLst>
                  <a:path w="2362" h="2469">
                    <a:moveTo>
                      <a:pt x="2326" y="2469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2362" y="2469"/>
                    </a:lnTo>
                    <a:lnTo>
                      <a:pt x="2326" y="2469"/>
                    </a:lnTo>
                    <a:close/>
                  </a:path>
                </a:pathLst>
              </a:custGeom>
              <a:solidFill>
                <a:srgbClr val="1981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605680" y="1995480"/>
                <a:ext cx="1780920" cy="1958760"/>
              </a:xfrm>
              <a:custGeom>
                <a:avLst/>
                <a:gdLst/>
                <a:ahLst/>
                <a:rect l="l" t="t" r="r" b="b"/>
                <a:pathLst>
                  <a:path w="2362" h="2469">
                    <a:moveTo>
                      <a:pt x="2326" y="2469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2362" y="2469"/>
                    </a:lnTo>
                    <a:lnTo>
                      <a:pt x="2326" y="2469"/>
                    </a:lnTo>
                    <a:close/>
                  </a:path>
                </a:pathLst>
              </a:custGeom>
              <a:solidFill>
                <a:srgbClr val="16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634480" y="1995480"/>
                <a:ext cx="1779120" cy="1958760"/>
              </a:xfrm>
              <a:custGeom>
                <a:avLst/>
                <a:gdLst/>
                <a:ahLst/>
                <a:rect l="l" t="t" r="r" b="b"/>
                <a:pathLst>
                  <a:path w="2363" h="2469">
                    <a:moveTo>
                      <a:pt x="2326" y="2469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2363" y="2469"/>
                    </a:lnTo>
                    <a:lnTo>
                      <a:pt x="2326" y="2469"/>
                    </a:lnTo>
                    <a:close/>
                  </a:path>
                </a:pathLst>
              </a:custGeom>
              <a:solidFill>
                <a:srgbClr val="1381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661480" y="1995480"/>
                <a:ext cx="1779480" cy="1958760"/>
              </a:xfrm>
              <a:custGeom>
                <a:avLst/>
                <a:gdLst/>
                <a:ahLst/>
                <a:rect l="l" t="t" r="r" b="b"/>
                <a:pathLst>
                  <a:path w="2363" h="2469">
                    <a:moveTo>
                      <a:pt x="2327" y="2469"/>
                    </a:moveTo>
                    <a:lnTo>
                      <a:pt x="0" y="0"/>
                    </a:lnTo>
                    <a:lnTo>
                      <a:pt x="37" y="0"/>
                    </a:lnTo>
                    <a:lnTo>
                      <a:pt x="2363" y="2469"/>
                    </a:lnTo>
                    <a:lnTo>
                      <a:pt x="2327" y="2469"/>
                    </a:lnTo>
                    <a:close/>
                  </a:path>
                </a:pathLst>
              </a:custGeom>
              <a:solidFill>
                <a:srgbClr val="0f80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688480" y="1995480"/>
                <a:ext cx="1779480" cy="1958760"/>
              </a:xfrm>
              <a:custGeom>
                <a:avLst/>
                <a:gdLst/>
                <a:ahLst/>
                <a:rect l="l" t="t" r="r" b="b"/>
                <a:pathLst>
                  <a:path w="2362" h="2469">
                    <a:moveTo>
                      <a:pt x="2326" y="2469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2362" y="2469"/>
                    </a:lnTo>
                    <a:lnTo>
                      <a:pt x="2326" y="2469"/>
                    </a:lnTo>
                    <a:close/>
                  </a:path>
                </a:pathLst>
              </a:custGeom>
              <a:solidFill>
                <a:srgbClr val="0a8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715840" y="1995480"/>
                <a:ext cx="1779480" cy="1958760"/>
              </a:xfrm>
              <a:custGeom>
                <a:avLst/>
                <a:gdLst/>
                <a:ahLst/>
                <a:rect l="l" t="t" r="r" b="b"/>
                <a:pathLst>
                  <a:path w="2362" h="2469">
                    <a:moveTo>
                      <a:pt x="2326" y="2469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2362" y="2469"/>
                    </a:lnTo>
                    <a:lnTo>
                      <a:pt x="2326" y="2469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0" name=""/>
            <p:cNvSpPr/>
            <p:nvPr/>
          </p:nvSpPr>
          <p:spPr>
            <a:xfrm>
              <a:off x="975240" y="1981080"/>
              <a:ext cx="1782360" cy="1987560"/>
            </a:xfrm>
            <a:custGeom>
              <a:avLst/>
              <a:gdLst/>
              <a:ahLst/>
              <a:rect l="l" t="t" r="r" b="b"/>
              <a:pathLst>
                <a:path w="2365" h="2503">
                  <a:moveTo>
                    <a:pt x="65" y="17"/>
                  </a:moveTo>
                  <a:lnTo>
                    <a:pt x="24" y="17"/>
                  </a:lnTo>
                  <a:lnTo>
                    <a:pt x="24" y="2470"/>
                  </a:lnTo>
                  <a:lnTo>
                    <a:pt x="24" y="2470"/>
                  </a:lnTo>
                  <a:lnTo>
                    <a:pt x="26" y="2477"/>
                  </a:lnTo>
                  <a:lnTo>
                    <a:pt x="30" y="2484"/>
                  </a:lnTo>
                  <a:lnTo>
                    <a:pt x="37" y="2489"/>
                  </a:lnTo>
                  <a:lnTo>
                    <a:pt x="45" y="2490"/>
                  </a:lnTo>
                  <a:lnTo>
                    <a:pt x="2345" y="2503"/>
                  </a:lnTo>
                  <a:lnTo>
                    <a:pt x="2345" y="2503"/>
                  </a:lnTo>
                  <a:lnTo>
                    <a:pt x="2352" y="2502"/>
                  </a:lnTo>
                  <a:lnTo>
                    <a:pt x="2359" y="2497"/>
                  </a:lnTo>
                  <a:lnTo>
                    <a:pt x="2364" y="2490"/>
                  </a:lnTo>
                  <a:lnTo>
                    <a:pt x="2365" y="2483"/>
                  </a:lnTo>
                  <a:lnTo>
                    <a:pt x="2365" y="2478"/>
                  </a:lnTo>
                  <a:lnTo>
                    <a:pt x="2319" y="2281"/>
                  </a:lnTo>
                  <a:lnTo>
                    <a:pt x="2298" y="2286"/>
                  </a:lnTo>
                  <a:lnTo>
                    <a:pt x="2319" y="2283"/>
                  </a:lnTo>
                  <a:lnTo>
                    <a:pt x="2308" y="2233"/>
                  </a:lnTo>
                  <a:lnTo>
                    <a:pt x="2307" y="2229"/>
                  </a:lnTo>
                  <a:lnTo>
                    <a:pt x="2285" y="2174"/>
                  </a:lnTo>
                  <a:lnTo>
                    <a:pt x="2266" y="2181"/>
                  </a:lnTo>
                  <a:lnTo>
                    <a:pt x="2285" y="2175"/>
                  </a:lnTo>
                  <a:lnTo>
                    <a:pt x="2268" y="2114"/>
                  </a:lnTo>
                  <a:lnTo>
                    <a:pt x="2268" y="2114"/>
                  </a:lnTo>
                  <a:lnTo>
                    <a:pt x="2246" y="2051"/>
                  </a:lnTo>
                  <a:lnTo>
                    <a:pt x="2246" y="2049"/>
                  </a:lnTo>
                  <a:lnTo>
                    <a:pt x="2221" y="1981"/>
                  </a:lnTo>
                  <a:lnTo>
                    <a:pt x="2203" y="1988"/>
                  </a:lnTo>
                  <a:lnTo>
                    <a:pt x="2221" y="1982"/>
                  </a:lnTo>
                  <a:lnTo>
                    <a:pt x="2201" y="1922"/>
                  </a:lnTo>
                  <a:lnTo>
                    <a:pt x="2201" y="1920"/>
                  </a:lnTo>
                  <a:lnTo>
                    <a:pt x="2178" y="1864"/>
                  </a:lnTo>
                  <a:lnTo>
                    <a:pt x="2176" y="1862"/>
                  </a:lnTo>
                  <a:lnTo>
                    <a:pt x="2162" y="1835"/>
                  </a:lnTo>
                  <a:lnTo>
                    <a:pt x="2145" y="1843"/>
                  </a:lnTo>
                  <a:lnTo>
                    <a:pt x="2163" y="1836"/>
                  </a:lnTo>
                  <a:lnTo>
                    <a:pt x="2150" y="1806"/>
                  </a:lnTo>
                  <a:lnTo>
                    <a:pt x="2132" y="1813"/>
                  </a:lnTo>
                  <a:lnTo>
                    <a:pt x="2150" y="1806"/>
                  </a:lnTo>
                  <a:lnTo>
                    <a:pt x="2137" y="1771"/>
                  </a:lnTo>
                  <a:lnTo>
                    <a:pt x="2137" y="1771"/>
                  </a:lnTo>
                  <a:lnTo>
                    <a:pt x="2121" y="1734"/>
                  </a:lnTo>
                  <a:lnTo>
                    <a:pt x="2120" y="1732"/>
                  </a:lnTo>
                  <a:lnTo>
                    <a:pt x="2100" y="1697"/>
                  </a:lnTo>
                  <a:lnTo>
                    <a:pt x="2082" y="1707"/>
                  </a:lnTo>
                  <a:lnTo>
                    <a:pt x="2101" y="1698"/>
                  </a:lnTo>
                  <a:lnTo>
                    <a:pt x="2084" y="1659"/>
                  </a:lnTo>
                  <a:lnTo>
                    <a:pt x="2065" y="1668"/>
                  </a:lnTo>
                  <a:lnTo>
                    <a:pt x="2084" y="1660"/>
                  </a:lnTo>
                  <a:lnTo>
                    <a:pt x="2066" y="1617"/>
                  </a:lnTo>
                  <a:lnTo>
                    <a:pt x="2066" y="1616"/>
                  </a:lnTo>
                  <a:lnTo>
                    <a:pt x="2046" y="1573"/>
                  </a:lnTo>
                  <a:lnTo>
                    <a:pt x="2045" y="1573"/>
                  </a:lnTo>
                  <a:lnTo>
                    <a:pt x="2026" y="1537"/>
                  </a:lnTo>
                  <a:lnTo>
                    <a:pt x="2008" y="1546"/>
                  </a:lnTo>
                  <a:lnTo>
                    <a:pt x="2027" y="1537"/>
                  </a:lnTo>
                  <a:lnTo>
                    <a:pt x="2007" y="1497"/>
                  </a:lnTo>
                  <a:lnTo>
                    <a:pt x="2005" y="1497"/>
                  </a:lnTo>
                  <a:lnTo>
                    <a:pt x="1985" y="1459"/>
                  </a:lnTo>
                  <a:lnTo>
                    <a:pt x="1968" y="1468"/>
                  </a:lnTo>
                  <a:lnTo>
                    <a:pt x="1986" y="1459"/>
                  </a:lnTo>
                  <a:lnTo>
                    <a:pt x="1966" y="1418"/>
                  </a:lnTo>
                  <a:lnTo>
                    <a:pt x="1965" y="1418"/>
                  </a:lnTo>
                  <a:lnTo>
                    <a:pt x="1947" y="1386"/>
                  </a:lnTo>
                  <a:lnTo>
                    <a:pt x="1927" y="1349"/>
                  </a:lnTo>
                  <a:lnTo>
                    <a:pt x="1911" y="1318"/>
                  </a:lnTo>
                  <a:lnTo>
                    <a:pt x="1894" y="1327"/>
                  </a:lnTo>
                  <a:lnTo>
                    <a:pt x="1913" y="1318"/>
                  </a:lnTo>
                  <a:lnTo>
                    <a:pt x="1898" y="1286"/>
                  </a:lnTo>
                  <a:lnTo>
                    <a:pt x="1895" y="1282"/>
                  </a:lnTo>
                  <a:lnTo>
                    <a:pt x="1873" y="1256"/>
                  </a:lnTo>
                  <a:lnTo>
                    <a:pt x="1857" y="1269"/>
                  </a:lnTo>
                  <a:lnTo>
                    <a:pt x="1875" y="1259"/>
                  </a:lnTo>
                  <a:lnTo>
                    <a:pt x="1856" y="1228"/>
                  </a:lnTo>
                  <a:lnTo>
                    <a:pt x="1836" y="1196"/>
                  </a:lnTo>
                  <a:lnTo>
                    <a:pt x="1834" y="1195"/>
                  </a:lnTo>
                  <a:lnTo>
                    <a:pt x="1810" y="1160"/>
                  </a:lnTo>
                  <a:lnTo>
                    <a:pt x="1786" y="1128"/>
                  </a:lnTo>
                  <a:lnTo>
                    <a:pt x="1770" y="1140"/>
                  </a:lnTo>
                  <a:lnTo>
                    <a:pt x="1788" y="1130"/>
                  </a:lnTo>
                  <a:lnTo>
                    <a:pt x="1765" y="1091"/>
                  </a:lnTo>
                  <a:lnTo>
                    <a:pt x="1763" y="1089"/>
                  </a:lnTo>
                  <a:lnTo>
                    <a:pt x="1736" y="1053"/>
                  </a:lnTo>
                  <a:lnTo>
                    <a:pt x="1720" y="1064"/>
                  </a:lnTo>
                  <a:lnTo>
                    <a:pt x="1737" y="1054"/>
                  </a:lnTo>
                  <a:lnTo>
                    <a:pt x="1712" y="1017"/>
                  </a:lnTo>
                  <a:lnTo>
                    <a:pt x="1709" y="1012"/>
                  </a:lnTo>
                  <a:lnTo>
                    <a:pt x="1678" y="980"/>
                  </a:lnTo>
                  <a:lnTo>
                    <a:pt x="1663" y="995"/>
                  </a:lnTo>
                  <a:lnTo>
                    <a:pt x="1680" y="985"/>
                  </a:lnTo>
                  <a:lnTo>
                    <a:pt x="1656" y="947"/>
                  </a:lnTo>
                  <a:lnTo>
                    <a:pt x="1654" y="945"/>
                  </a:lnTo>
                  <a:lnTo>
                    <a:pt x="1627" y="911"/>
                  </a:lnTo>
                  <a:lnTo>
                    <a:pt x="1627" y="909"/>
                  </a:lnTo>
                  <a:lnTo>
                    <a:pt x="1601" y="877"/>
                  </a:lnTo>
                  <a:lnTo>
                    <a:pt x="1601" y="877"/>
                  </a:lnTo>
                  <a:lnTo>
                    <a:pt x="1575" y="848"/>
                  </a:lnTo>
                  <a:lnTo>
                    <a:pt x="1559" y="861"/>
                  </a:lnTo>
                  <a:lnTo>
                    <a:pt x="1575" y="850"/>
                  </a:lnTo>
                  <a:lnTo>
                    <a:pt x="1551" y="821"/>
                  </a:lnTo>
                  <a:lnTo>
                    <a:pt x="1550" y="818"/>
                  </a:lnTo>
                  <a:lnTo>
                    <a:pt x="1524" y="792"/>
                  </a:lnTo>
                  <a:lnTo>
                    <a:pt x="1509" y="806"/>
                  </a:lnTo>
                  <a:lnTo>
                    <a:pt x="1525" y="795"/>
                  </a:lnTo>
                  <a:lnTo>
                    <a:pt x="1508" y="771"/>
                  </a:lnTo>
                  <a:lnTo>
                    <a:pt x="1505" y="769"/>
                  </a:lnTo>
                  <a:lnTo>
                    <a:pt x="1456" y="726"/>
                  </a:lnTo>
                  <a:lnTo>
                    <a:pt x="1443" y="741"/>
                  </a:lnTo>
                  <a:lnTo>
                    <a:pt x="1457" y="726"/>
                  </a:lnTo>
                  <a:lnTo>
                    <a:pt x="1406" y="676"/>
                  </a:lnTo>
                  <a:lnTo>
                    <a:pt x="1406" y="676"/>
                  </a:lnTo>
                  <a:lnTo>
                    <a:pt x="1353" y="625"/>
                  </a:lnTo>
                  <a:lnTo>
                    <a:pt x="1353" y="625"/>
                  </a:lnTo>
                  <a:lnTo>
                    <a:pt x="1296" y="574"/>
                  </a:lnTo>
                  <a:lnTo>
                    <a:pt x="1295" y="574"/>
                  </a:lnTo>
                  <a:lnTo>
                    <a:pt x="1238" y="525"/>
                  </a:lnTo>
                  <a:lnTo>
                    <a:pt x="1225" y="539"/>
                  </a:lnTo>
                  <a:lnTo>
                    <a:pt x="1240" y="525"/>
                  </a:lnTo>
                  <a:lnTo>
                    <a:pt x="1192" y="478"/>
                  </a:lnTo>
                  <a:lnTo>
                    <a:pt x="1190" y="477"/>
                  </a:lnTo>
                  <a:lnTo>
                    <a:pt x="1144" y="441"/>
                  </a:lnTo>
                  <a:lnTo>
                    <a:pt x="1131" y="457"/>
                  </a:lnTo>
                  <a:lnTo>
                    <a:pt x="1144" y="442"/>
                  </a:lnTo>
                  <a:lnTo>
                    <a:pt x="1103" y="409"/>
                  </a:lnTo>
                  <a:lnTo>
                    <a:pt x="1102" y="407"/>
                  </a:lnTo>
                  <a:lnTo>
                    <a:pt x="1066" y="384"/>
                  </a:lnTo>
                  <a:lnTo>
                    <a:pt x="1054" y="400"/>
                  </a:lnTo>
                  <a:lnTo>
                    <a:pt x="1066" y="384"/>
                  </a:lnTo>
                  <a:lnTo>
                    <a:pt x="1022" y="352"/>
                  </a:lnTo>
                  <a:lnTo>
                    <a:pt x="1022" y="352"/>
                  </a:lnTo>
                  <a:lnTo>
                    <a:pt x="974" y="320"/>
                  </a:lnTo>
                  <a:lnTo>
                    <a:pt x="923" y="288"/>
                  </a:lnTo>
                  <a:lnTo>
                    <a:pt x="922" y="287"/>
                  </a:lnTo>
                  <a:lnTo>
                    <a:pt x="871" y="258"/>
                  </a:lnTo>
                  <a:lnTo>
                    <a:pt x="861" y="275"/>
                  </a:lnTo>
                  <a:lnTo>
                    <a:pt x="873" y="259"/>
                  </a:lnTo>
                  <a:lnTo>
                    <a:pt x="828" y="230"/>
                  </a:lnTo>
                  <a:lnTo>
                    <a:pt x="826" y="229"/>
                  </a:lnTo>
                  <a:lnTo>
                    <a:pt x="783" y="203"/>
                  </a:lnTo>
                  <a:lnTo>
                    <a:pt x="747" y="183"/>
                  </a:lnTo>
                  <a:lnTo>
                    <a:pt x="744" y="181"/>
                  </a:lnTo>
                  <a:lnTo>
                    <a:pt x="703" y="167"/>
                  </a:lnTo>
                  <a:lnTo>
                    <a:pt x="696" y="186"/>
                  </a:lnTo>
                  <a:lnTo>
                    <a:pt x="706" y="168"/>
                  </a:lnTo>
                  <a:lnTo>
                    <a:pt x="670" y="148"/>
                  </a:lnTo>
                  <a:lnTo>
                    <a:pt x="667" y="146"/>
                  </a:lnTo>
                  <a:lnTo>
                    <a:pt x="622" y="129"/>
                  </a:lnTo>
                  <a:lnTo>
                    <a:pt x="615" y="148"/>
                  </a:lnTo>
                  <a:lnTo>
                    <a:pt x="623" y="130"/>
                  </a:lnTo>
                  <a:lnTo>
                    <a:pt x="581" y="112"/>
                  </a:lnTo>
                  <a:lnTo>
                    <a:pt x="580" y="110"/>
                  </a:lnTo>
                  <a:lnTo>
                    <a:pt x="532" y="94"/>
                  </a:lnTo>
                  <a:lnTo>
                    <a:pt x="525" y="113"/>
                  </a:lnTo>
                  <a:lnTo>
                    <a:pt x="533" y="96"/>
                  </a:lnTo>
                  <a:lnTo>
                    <a:pt x="497" y="80"/>
                  </a:lnTo>
                  <a:lnTo>
                    <a:pt x="494" y="78"/>
                  </a:lnTo>
                  <a:lnTo>
                    <a:pt x="456" y="68"/>
                  </a:lnTo>
                  <a:lnTo>
                    <a:pt x="430" y="61"/>
                  </a:lnTo>
                  <a:lnTo>
                    <a:pt x="427" y="61"/>
                  </a:lnTo>
                  <a:lnTo>
                    <a:pt x="396" y="56"/>
                  </a:lnTo>
                  <a:lnTo>
                    <a:pt x="393" y="75"/>
                  </a:lnTo>
                  <a:lnTo>
                    <a:pt x="397" y="56"/>
                  </a:lnTo>
                  <a:lnTo>
                    <a:pt x="364" y="49"/>
                  </a:lnTo>
                  <a:lnTo>
                    <a:pt x="362" y="49"/>
                  </a:lnTo>
                  <a:lnTo>
                    <a:pt x="326" y="45"/>
                  </a:lnTo>
                  <a:lnTo>
                    <a:pt x="323" y="64"/>
                  </a:lnTo>
                  <a:lnTo>
                    <a:pt x="329" y="45"/>
                  </a:lnTo>
                  <a:lnTo>
                    <a:pt x="291" y="35"/>
                  </a:lnTo>
                  <a:lnTo>
                    <a:pt x="288" y="35"/>
                  </a:lnTo>
                  <a:lnTo>
                    <a:pt x="251" y="30"/>
                  </a:lnTo>
                  <a:lnTo>
                    <a:pt x="216" y="26"/>
                  </a:lnTo>
                  <a:lnTo>
                    <a:pt x="182" y="22"/>
                  </a:lnTo>
                  <a:lnTo>
                    <a:pt x="181" y="20"/>
                  </a:lnTo>
                  <a:lnTo>
                    <a:pt x="153" y="19"/>
                  </a:lnTo>
                  <a:lnTo>
                    <a:pt x="152" y="39"/>
                  </a:lnTo>
                  <a:lnTo>
                    <a:pt x="153" y="19"/>
                  </a:lnTo>
                  <a:lnTo>
                    <a:pt x="21" y="10"/>
                  </a:lnTo>
                  <a:lnTo>
                    <a:pt x="20" y="30"/>
                  </a:lnTo>
                  <a:lnTo>
                    <a:pt x="34" y="45"/>
                  </a:lnTo>
                  <a:lnTo>
                    <a:pt x="39" y="38"/>
                  </a:lnTo>
                  <a:lnTo>
                    <a:pt x="40" y="30"/>
                  </a:lnTo>
                  <a:lnTo>
                    <a:pt x="39" y="23"/>
                  </a:lnTo>
                  <a:lnTo>
                    <a:pt x="34" y="16"/>
                  </a:lnTo>
                  <a:lnTo>
                    <a:pt x="27" y="11"/>
                  </a:lnTo>
                  <a:lnTo>
                    <a:pt x="30" y="48"/>
                  </a:lnTo>
                  <a:lnTo>
                    <a:pt x="55" y="35"/>
                  </a:lnTo>
                  <a:lnTo>
                    <a:pt x="36" y="0"/>
                  </a:lnTo>
                  <a:lnTo>
                    <a:pt x="11" y="13"/>
                  </a:lnTo>
                  <a:lnTo>
                    <a:pt x="5" y="16"/>
                  </a:lnTo>
                  <a:lnTo>
                    <a:pt x="1" y="23"/>
                  </a:lnTo>
                  <a:lnTo>
                    <a:pt x="0" y="30"/>
                  </a:lnTo>
                  <a:lnTo>
                    <a:pt x="1" y="38"/>
                  </a:lnTo>
                  <a:lnTo>
                    <a:pt x="5" y="45"/>
                  </a:lnTo>
                  <a:lnTo>
                    <a:pt x="13" y="49"/>
                  </a:lnTo>
                  <a:lnTo>
                    <a:pt x="18" y="51"/>
                  </a:lnTo>
                  <a:lnTo>
                    <a:pt x="150" y="59"/>
                  </a:lnTo>
                  <a:lnTo>
                    <a:pt x="152" y="59"/>
                  </a:lnTo>
                  <a:lnTo>
                    <a:pt x="179" y="61"/>
                  </a:lnTo>
                  <a:lnTo>
                    <a:pt x="179" y="40"/>
                  </a:lnTo>
                  <a:lnTo>
                    <a:pt x="178" y="61"/>
                  </a:lnTo>
                  <a:lnTo>
                    <a:pt x="211" y="65"/>
                  </a:lnTo>
                  <a:lnTo>
                    <a:pt x="246" y="69"/>
                  </a:lnTo>
                  <a:lnTo>
                    <a:pt x="284" y="74"/>
                  </a:lnTo>
                  <a:lnTo>
                    <a:pt x="285" y="54"/>
                  </a:lnTo>
                  <a:lnTo>
                    <a:pt x="281" y="74"/>
                  </a:lnTo>
                  <a:lnTo>
                    <a:pt x="319" y="84"/>
                  </a:lnTo>
                  <a:lnTo>
                    <a:pt x="322" y="84"/>
                  </a:lnTo>
                  <a:lnTo>
                    <a:pt x="358" y="88"/>
                  </a:lnTo>
                  <a:lnTo>
                    <a:pt x="359" y="68"/>
                  </a:lnTo>
                  <a:lnTo>
                    <a:pt x="355" y="88"/>
                  </a:lnTo>
                  <a:lnTo>
                    <a:pt x="388" y="96"/>
                  </a:lnTo>
                  <a:lnTo>
                    <a:pt x="390" y="96"/>
                  </a:lnTo>
                  <a:lnTo>
                    <a:pt x="422" y="100"/>
                  </a:lnTo>
                  <a:lnTo>
                    <a:pt x="425" y="80"/>
                  </a:lnTo>
                  <a:lnTo>
                    <a:pt x="420" y="100"/>
                  </a:lnTo>
                  <a:lnTo>
                    <a:pt x="446" y="107"/>
                  </a:lnTo>
                  <a:lnTo>
                    <a:pt x="484" y="117"/>
                  </a:lnTo>
                  <a:lnTo>
                    <a:pt x="488" y="97"/>
                  </a:lnTo>
                  <a:lnTo>
                    <a:pt x="481" y="116"/>
                  </a:lnTo>
                  <a:lnTo>
                    <a:pt x="517" y="132"/>
                  </a:lnTo>
                  <a:lnTo>
                    <a:pt x="519" y="132"/>
                  </a:lnTo>
                  <a:lnTo>
                    <a:pt x="567" y="148"/>
                  </a:lnTo>
                  <a:lnTo>
                    <a:pt x="572" y="129"/>
                  </a:lnTo>
                  <a:lnTo>
                    <a:pt x="565" y="148"/>
                  </a:lnTo>
                  <a:lnTo>
                    <a:pt x="607" y="167"/>
                  </a:lnTo>
                  <a:lnTo>
                    <a:pt x="607" y="167"/>
                  </a:lnTo>
                  <a:lnTo>
                    <a:pt x="652" y="184"/>
                  </a:lnTo>
                  <a:lnTo>
                    <a:pt x="659" y="165"/>
                  </a:lnTo>
                  <a:lnTo>
                    <a:pt x="649" y="183"/>
                  </a:lnTo>
                  <a:lnTo>
                    <a:pt x="686" y="203"/>
                  </a:lnTo>
                  <a:lnTo>
                    <a:pt x="690" y="204"/>
                  </a:lnTo>
                  <a:lnTo>
                    <a:pt x="731" y="219"/>
                  </a:lnTo>
                  <a:lnTo>
                    <a:pt x="736" y="200"/>
                  </a:lnTo>
                  <a:lnTo>
                    <a:pt x="726" y="217"/>
                  </a:lnTo>
                  <a:lnTo>
                    <a:pt x="762" y="238"/>
                  </a:lnTo>
                  <a:lnTo>
                    <a:pt x="806" y="264"/>
                  </a:lnTo>
                  <a:lnTo>
                    <a:pt x="816" y="246"/>
                  </a:lnTo>
                  <a:lnTo>
                    <a:pt x="806" y="264"/>
                  </a:lnTo>
                  <a:lnTo>
                    <a:pt x="851" y="293"/>
                  </a:lnTo>
                  <a:lnTo>
                    <a:pt x="851" y="293"/>
                  </a:lnTo>
                  <a:lnTo>
                    <a:pt x="902" y="322"/>
                  </a:lnTo>
                  <a:lnTo>
                    <a:pt x="912" y="304"/>
                  </a:lnTo>
                  <a:lnTo>
                    <a:pt x="902" y="322"/>
                  </a:lnTo>
                  <a:lnTo>
                    <a:pt x="952" y="354"/>
                  </a:lnTo>
                  <a:lnTo>
                    <a:pt x="1000" y="386"/>
                  </a:lnTo>
                  <a:lnTo>
                    <a:pt x="1010" y="368"/>
                  </a:lnTo>
                  <a:lnTo>
                    <a:pt x="999" y="384"/>
                  </a:lnTo>
                  <a:lnTo>
                    <a:pt x="1042" y="416"/>
                  </a:lnTo>
                  <a:lnTo>
                    <a:pt x="1044" y="418"/>
                  </a:lnTo>
                  <a:lnTo>
                    <a:pt x="1080" y="441"/>
                  </a:lnTo>
                  <a:lnTo>
                    <a:pt x="1090" y="423"/>
                  </a:lnTo>
                  <a:lnTo>
                    <a:pt x="1077" y="439"/>
                  </a:lnTo>
                  <a:lnTo>
                    <a:pt x="1118" y="473"/>
                  </a:lnTo>
                  <a:lnTo>
                    <a:pt x="1119" y="473"/>
                  </a:lnTo>
                  <a:lnTo>
                    <a:pt x="1166" y="509"/>
                  </a:lnTo>
                  <a:lnTo>
                    <a:pt x="1177" y="493"/>
                  </a:lnTo>
                  <a:lnTo>
                    <a:pt x="1164" y="507"/>
                  </a:lnTo>
                  <a:lnTo>
                    <a:pt x="1212" y="554"/>
                  </a:lnTo>
                  <a:lnTo>
                    <a:pt x="1212" y="555"/>
                  </a:lnTo>
                  <a:lnTo>
                    <a:pt x="1269" y="605"/>
                  </a:lnTo>
                  <a:lnTo>
                    <a:pt x="1282" y="589"/>
                  </a:lnTo>
                  <a:lnTo>
                    <a:pt x="1269" y="605"/>
                  </a:lnTo>
                  <a:lnTo>
                    <a:pt x="1325" y="655"/>
                  </a:lnTo>
                  <a:lnTo>
                    <a:pt x="1338" y="639"/>
                  </a:lnTo>
                  <a:lnTo>
                    <a:pt x="1325" y="654"/>
                  </a:lnTo>
                  <a:lnTo>
                    <a:pt x="1379" y="705"/>
                  </a:lnTo>
                  <a:lnTo>
                    <a:pt x="1392" y="690"/>
                  </a:lnTo>
                  <a:lnTo>
                    <a:pt x="1377" y="705"/>
                  </a:lnTo>
                  <a:lnTo>
                    <a:pt x="1428" y="755"/>
                  </a:lnTo>
                  <a:lnTo>
                    <a:pt x="1430" y="757"/>
                  </a:lnTo>
                  <a:lnTo>
                    <a:pt x="1479" y="799"/>
                  </a:lnTo>
                  <a:lnTo>
                    <a:pt x="1492" y="783"/>
                  </a:lnTo>
                  <a:lnTo>
                    <a:pt x="1476" y="796"/>
                  </a:lnTo>
                  <a:lnTo>
                    <a:pt x="1493" y="819"/>
                  </a:lnTo>
                  <a:lnTo>
                    <a:pt x="1495" y="821"/>
                  </a:lnTo>
                  <a:lnTo>
                    <a:pt x="1521" y="847"/>
                  </a:lnTo>
                  <a:lnTo>
                    <a:pt x="1535" y="832"/>
                  </a:lnTo>
                  <a:lnTo>
                    <a:pt x="1521" y="845"/>
                  </a:lnTo>
                  <a:lnTo>
                    <a:pt x="1544" y="874"/>
                  </a:lnTo>
                  <a:lnTo>
                    <a:pt x="1544" y="876"/>
                  </a:lnTo>
                  <a:lnTo>
                    <a:pt x="1570" y="905"/>
                  </a:lnTo>
                  <a:lnTo>
                    <a:pt x="1585" y="890"/>
                  </a:lnTo>
                  <a:lnTo>
                    <a:pt x="1570" y="903"/>
                  </a:lnTo>
                  <a:lnTo>
                    <a:pt x="1596" y="935"/>
                  </a:lnTo>
                  <a:lnTo>
                    <a:pt x="1611" y="922"/>
                  </a:lnTo>
                  <a:lnTo>
                    <a:pt x="1595" y="935"/>
                  </a:lnTo>
                  <a:lnTo>
                    <a:pt x="1622" y="970"/>
                  </a:lnTo>
                  <a:lnTo>
                    <a:pt x="1638" y="957"/>
                  </a:lnTo>
                  <a:lnTo>
                    <a:pt x="1622" y="969"/>
                  </a:lnTo>
                  <a:lnTo>
                    <a:pt x="1647" y="1006"/>
                  </a:lnTo>
                  <a:lnTo>
                    <a:pt x="1649" y="1009"/>
                  </a:lnTo>
                  <a:lnTo>
                    <a:pt x="1680" y="1041"/>
                  </a:lnTo>
                  <a:lnTo>
                    <a:pt x="1695" y="1027"/>
                  </a:lnTo>
                  <a:lnTo>
                    <a:pt x="1679" y="1038"/>
                  </a:lnTo>
                  <a:lnTo>
                    <a:pt x="1704" y="1076"/>
                  </a:lnTo>
                  <a:lnTo>
                    <a:pt x="1704" y="1077"/>
                  </a:lnTo>
                  <a:lnTo>
                    <a:pt x="1731" y="1114"/>
                  </a:lnTo>
                  <a:lnTo>
                    <a:pt x="1747" y="1101"/>
                  </a:lnTo>
                  <a:lnTo>
                    <a:pt x="1730" y="1111"/>
                  </a:lnTo>
                  <a:lnTo>
                    <a:pt x="1753" y="1150"/>
                  </a:lnTo>
                  <a:lnTo>
                    <a:pt x="1754" y="1151"/>
                  </a:lnTo>
                  <a:lnTo>
                    <a:pt x="1778" y="1183"/>
                  </a:lnTo>
                  <a:lnTo>
                    <a:pt x="1802" y="1218"/>
                  </a:lnTo>
                  <a:lnTo>
                    <a:pt x="1818" y="1207"/>
                  </a:lnTo>
                  <a:lnTo>
                    <a:pt x="1802" y="1218"/>
                  </a:lnTo>
                  <a:lnTo>
                    <a:pt x="1823" y="1250"/>
                  </a:lnTo>
                  <a:lnTo>
                    <a:pt x="1841" y="1280"/>
                  </a:lnTo>
                  <a:lnTo>
                    <a:pt x="1843" y="1282"/>
                  </a:lnTo>
                  <a:lnTo>
                    <a:pt x="1865" y="1308"/>
                  </a:lnTo>
                  <a:lnTo>
                    <a:pt x="1879" y="1295"/>
                  </a:lnTo>
                  <a:lnTo>
                    <a:pt x="1862" y="1304"/>
                  </a:lnTo>
                  <a:lnTo>
                    <a:pt x="1876" y="1336"/>
                  </a:lnTo>
                  <a:lnTo>
                    <a:pt x="1876" y="1337"/>
                  </a:lnTo>
                  <a:lnTo>
                    <a:pt x="1892" y="1368"/>
                  </a:lnTo>
                  <a:lnTo>
                    <a:pt x="1913" y="1405"/>
                  </a:lnTo>
                  <a:lnTo>
                    <a:pt x="1930" y="1437"/>
                  </a:lnTo>
                  <a:lnTo>
                    <a:pt x="1947" y="1427"/>
                  </a:lnTo>
                  <a:lnTo>
                    <a:pt x="1930" y="1437"/>
                  </a:lnTo>
                  <a:lnTo>
                    <a:pt x="1950" y="1478"/>
                  </a:lnTo>
                  <a:lnTo>
                    <a:pt x="1950" y="1478"/>
                  </a:lnTo>
                  <a:lnTo>
                    <a:pt x="1971" y="1515"/>
                  </a:lnTo>
                  <a:lnTo>
                    <a:pt x="1988" y="1505"/>
                  </a:lnTo>
                  <a:lnTo>
                    <a:pt x="1971" y="1515"/>
                  </a:lnTo>
                  <a:lnTo>
                    <a:pt x="1991" y="1556"/>
                  </a:lnTo>
                  <a:lnTo>
                    <a:pt x="1991" y="1556"/>
                  </a:lnTo>
                  <a:lnTo>
                    <a:pt x="2010" y="1592"/>
                  </a:lnTo>
                  <a:lnTo>
                    <a:pt x="2027" y="1582"/>
                  </a:lnTo>
                  <a:lnTo>
                    <a:pt x="2010" y="1591"/>
                  </a:lnTo>
                  <a:lnTo>
                    <a:pt x="2030" y="1633"/>
                  </a:lnTo>
                  <a:lnTo>
                    <a:pt x="2047" y="1624"/>
                  </a:lnTo>
                  <a:lnTo>
                    <a:pt x="2029" y="1633"/>
                  </a:lnTo>
                  <a:lnTo>
                    <a:pt x="2046" y="1676"/>
                  </a:lnTo>
                  <a:lnTo>
                    <a:pt x="2047" y="1676"/>
                  </a:lnTo>
                  <a:lnTo>
                    <a:pt x="2065" y="1716"/>
                  </a:lnTo>
                  <a:lnTo>
                    <a:pt x="2065" y="1717"/>
                  </a:lnTo>
                  <a:lnTo>
                    <a:pt x="2085" y="1752"/>
                  </a:lnTo>
                  <a:lnTo>
                    <a:pt x="2103" y="1742"/>
                  </a:lnTo>
                  <a:lnTo>
                    <a:pt x="2085" y="1750"/>
                  </a:lnTo>
                  <a:lnTo>
                    <a:pt x="2101" y="1787"/>
                  </a:lnTo>
                  <a:lnTo>
                    <a:pt x="2118" y="1778"/>
                  </a:lnTo>
                  <a:lnTo>
                    <a:pt x="2100" y="1785"/>
                  </a:lnTo>
                  <a:lnTo>
                    <a:pt x="2113" y="1820"/>
                  </a:lnTo>
                  <a:lnTo>
                    <a:pt x="2113" y="1821"/>
                  </a:lnTo>
                  <a:lnTo>
                    <a:pt x="2126" y="1852"/>
                  </a:lnTo>
                  <a:lnTo>
                    <a:pt x="2127" y="1853"/>
                  </a:lnTo>
                  <a:lnTo>
                    <a:pt x="2142" y="1881"/>
                  </a:lnTo>
                  <a:lnTo>
                    <a:pt x="2159" y="1871"/>
                  </a:lnTo>
                  <a:lnTo>
                    <a:pt x="2140" y="1879"/>
                  </a:lnTo>
                  <a:lnTo>
                    <a:pt x="2163" y="1936"/>
                  </a:lnTo>
                  <a:lnTo>
                    <a:pt x="2182" y="1927"/>
                  </a:lnTo>
                  <a:lnTo>
                    <a:pt x="2163" y="1935"/>
                  </a:lnTo>
                  <a:lnTo>
                    <a:pt x="2184" y="1995"/>
                  </a:lnTo>
                  <a:lnTo>
                    <a:pt x="2184" y="1995"/>
                  </a:lnTo>
                  <a:lnTo>
                    <a:pt x="2208" y="2064"/>
                  </a:lnTo>
                  <a:lnTo>
                    <a:pt x="2227" y="2056"/>
                  </a:lnTo>
                  <a:lnTo>
                    <a:pt x="2208" y="2064"/>
                  </a:lnTo>
                  <a:lnTo>
                    <a:pt x="2230" y="2127"/>
                  </a:lnTo>
                  <a:lnTo>
                    <a:pt x="2249" y="2120"/>
                  </a:lnTo>
                  <a:lnTo>
                    <a:pt x="2230" y="2126"/>
                  </a:lnTo>
                  <a:lnTo>
                    <a:pt x="2248" y="2187"/>
                  </a:lnTo>
                  <a:lnTo>
                    <a:pt x="2248" y="2188"/>
                  </a:lnTo>
                  <a:lnTo>
                    <a:pt x="2269" y="2243"/>
                  </a:lnTo>
                  <a:lnTo>
                    <a:pt x="2288" y="2236"/>
                  </a:lnTo>
                  <a:lnTo>
                    <a:pt x="2269" y="2241"/>
                  </a:lnTo>
                  <a:lnTo>
                    <a:pt x="2279" y="2290"/>
                  </a:lnTo>
                  <a:lnTo>
                    <a:pt x="2279" y="2290"/>
                  </a:lnTo>
                  <a:lnTo>
                    <a:pt x="2326" y="2487"/>
                  </a:lnTo>
                  <a:lnTo>
                    <a:pt x="2345" y="2462"/>
                  </a:lnTo>
                  <a:lnTo>
                    <a:pt x="2337" y="2464"/>
                  </a:lnTo>
                  <a:lnTo>
                    <a:pt x="2330" y="2468"/>
                  </a:lnTo>
                  <a:lnTo>
                    <a:pt x="2326" y="2476"/>
                  </a:lnTo>
                  <a:lnTo>
                    <a:pt x="2324" y="2483"/>
                  </a:lnTo>
                  <a:lnTo>
                    <a:pt x="2345" y="2483"/>
                  </a:lnTo>
                  <a:lnTo>
                    <a:pt x="2345" y="2462"/>
                  </a:lnTo>
                  <a:lnTo>
                    <a:pt x="45" y="2449"/>
                  </a:lnTo>
                  <a:lnTo>
                    <a:pt x="65" y="2470"/>
                  </a:lnTo>
                  <a:lnTo>
                    <a:pt x="63" y="2462"/>
                  </a:lnTo>
                  <a:lnTo>
                    <a:pt x="59" y="2455"/>
                  </a:lnTo>
                  <a:lnTo>
                    <a:pt x="52" y="2451"/>
                  </a:lnTo>
                  <a:lnTo>
                    <a:pt x="45" y="2470"/>
                  </a:lnTo>
                  <a:lnTo>
                    <a:pt x="65" y="2470"/>
                  </a:lnTo>
                  <a:lnTo>
                    <a:pt x="65" y="1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1" name=""/>
          <p:cNvSpPr/>
          <p:nvPr/>
        </p:nvSpPr>
        <p:spPr>
          <a:xfrm>
            <a:off x="360360" y="2846520"/>
            <a:ext cx="140184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1143000" y="3200400"/>
            <a:ext cx="1209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conju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tecnogic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133720" y="3124080"/>
            <a:ext cx="81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330200" y="1328760"/>
            <a:ext cx="9781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5" name=""/>
          <p:cNvGrpSpPr/>
          <p:nvPr/>
        </p:nvGrpSpPr>
        <p:grpSpPr>
          <a:xfrm>
            <a:off x="3838680" y="3675240"/>
            <a:ext cx="292680" cy="453240"/>
            <a:chOff x="3838680" y="3675240"/>
            <a:chExt cx="292680" cy="453240"/>
          </a:xfrm>
        </p:grpSpPr>
        <p:sp>
          <p:nvSpPr>
            <p:cNvPr id="1096" name=""/>
            <p:cNvSpPr/>
            <p:nvPr/>
          </p:nvSpPr>
          <p:spPr>
            <a:xfrm>
              <a:off x="3838680" y="3675240"/>
              <a:ext cx="1699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902040" y="3697200"/>
              <a:ext cx="130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3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987720" y="3870360"/>
              <a:ext cx="1256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028400" y="38847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263520" y="74520"/>
            <a:ext cx="294120" cy="455040"/>
            <a:chOff x="263520" y="74520"/>
            <a:chExt cx="294120" cy="455040"/>
          </a:xfrm>
        </p:grpSpPr>
        <p:sp>
          <p:nvSpPr>
            <p:cNvPr id="1101" name=""/>
            <p:cNvSpPr/>
            <p:nvPr/>
          </p:nvSpPr>
          <p:spPr>
            <a:xfrm>
              <a:off x="263520" y="74520"/>
              <a:ext cx="171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26880" y="98280"/>
              <a:ext cx="130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3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14360" y="271440"/>
              <a:ext cx="1252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54680" y="2858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5" name=""/>
          <p:cNvGrpSpPr/>
          <p:nvPr/>
        </p:nvGrpSpPr>
        <p:grpSpPr>
          <a:xfrm>
            <a:off x="914400" y="762120"/>
            <a:ext cx="146160" cy="3254400"/>
            <a:chOff x="914400" y="762120"/>
            <a:chExt cx="146160" cy="3254400"/>
          </a:xfrm>
        </p:grpSpPr>
        <p:sp>
          <p:nvSpPr>
            <p:cNvPr id="1106" name=""/>
            <p:cNvSpPr/>
            <p:nvPr/>
          </p:nvSpPr>
          <p:spPr>
            <a:xfrm>
              <a:off x="968400" y="905040"/>
              <a:ext cx="36720" cy="3111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914400" y="762120"/>
              <a:ext cx="146160" cy="146160"/>
            </a:xfrm>
            <a:custGeom>
              <a:avLst/>
              <a:gdLst/>
              <a:ahLst/>
              <a:rect l="l" t="t" r="r" b="b"/>
              <a:pathLst>
                <a:path w="184" h="184">
                  <a:moveTo>
                    <a:pt x="184" y="184"/>
                  </a:moveTo>
                  <a:lnTo>
                    <a:pt x="91" y="0"/>
                  </a:lnTo>
                  <a:lnTo>
                    <a:pt x="0" y="184"/>
                  </a:lnTo>
                  <a:lnTo>
                    <a:pt x="184" y="18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285840" y="3808440"/>
            <a:ext cx="3432240" cy="146160"/>
            <a:chOff x="285840" y="3808440"/>
            <a:chExt cx="3432240" cy="146160"/>
          </a:xfrm>
        </p:grpSpPr>
        <p:sp>
          <p:nvSpPr>
            <p:cNvPr id="1109" name=""/>
            <p:cNvSpPr/>
            <p:nvPr/>
          </p:nvSpPr>
          <p:spPr>
            <a:xfrm>
              <a:off x="285840" y="3862440"/>
              <a:ext cx="3287520" cy="36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571920" y="3808440"/>
              <a:ext cx="146160" cy="146160"/>
            </a:xfrm>
            <a:custGeom>
              <a:avLst/>
              <a:gdLst/>
              <a:ahLst/>
              <a:rect l="l" t="t" r="r" b="b"/>
              <a:pathLst>
                <a:path w="185" h="184">
                  <a:moveTo>
                    <a:pt x="0" y="184"/>
                  </a:moveTo>
                  <a:lnTo>
                    <a:pt x="185" y="92"/>
                  </a:lnTo>
                  <a:lnTo>
                    <a:pt x="0" y="0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1923480" y="2068560"/>
            <a:ext cx="34056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808080"/>
                </a:solidFill>
                <a:latin typeface="Symbol"/>
                <a:ea typeface="Symbol"/>
              </a:rPr>
              <a:t>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221200" y="2119320"/>
            <a:ext cx="1486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808080"/>
                </a:solidFill>
                <a:latin typeface="Times New Roman"/>
              </a:rPr>
              <a:t>(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374200" y="2119320"/>
            <a:ext cx="2232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808080"/>
                </a:solidFill>
                <a:latin typeface="Times New Roman"/>
              </a:rPr>
              <a:t>y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589840" y="2119320"/>
            <a:ext cx="84492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808080"/>
                </a:solidFill>
                <a:latin typeface="Times New Roman"/>
              </a:rPr>
              <a:t>) = 0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1531800" y="1887480"/>
            <a:ext cx="2016360" cy="1081080"/>
            <a:chOff x="1531800" y="1887480"/>
            <a:chExt cx="2016360" cy="1081080"/>
          </a:xfrm>
        </p:grpSpPr>
        <p:sp>
          <p:nvSpPr>
            <p:cNvPr id="1116" name=""/>
            <p:cNvSpPr/>
            <p:nvPr/>
          </p:nvSpPr>
          <p:spPr>
            <a:xfrm>
              <a:off x="1600200" y="1955880"/>
              <a:ext cx="1935000" cy="984240"/>
            </a:xfrm>
            <a:custGeom>
              <a:avLst/>
              <a:gdLst/>
              <a:ahLst/>
              <a:rect l="l" t="t" r="r" b="b"/>
              <a:pathLst>
                <a:path w="2436" h="1238">
                  <a:moveTo>
                    <a:pt x="406" y="0"/>
                  </a:moveTo>
                  <a:lnTo>
                    <a:pt x="364" y="1"/>
                  </a:lnTo>
                  <a:lnTo>
                    <a:pt x="323" y="3"/>
                  </a:lnTo>
                  <a:lnTo>
                    <a:pt x="285" y="7"/>
                  </a:lnTo>
                  <a:lnTo>
                    <a:pt x="248" y="13"/>
                  </a:lnTo>
                  <a:lnTo>
                    <a:pt x="211" y="20"/>
                  </a:lnTo>
                  <a:lnTo>
                    <a:pt x="178" y="27"/>
                  </a:lnTo>
                  <a:lnTo>
                    <a:pt x="148" y="37"/>
                  </a:lnTo>
                  <a:lnTo>
                    <a:pt x="119" y="48"/>
                  </a:lnTo>
                  <a:lnTo>
                    <a:pt x="92" y="59"/>
                  </a:lnTo>
                  <a:lnTo>
                    <a:pt x="69" y="71"/>
                  </a:lnTo>
                  <a:lnTo>
                    <a:pt x="49" y="85"/>
                  </a:lnTo>
                  <a:lnTo>
                    <a:pt x="31" y="98"/>
                  </a:lnTo>
                  <a:lnTo>
                    <a:pt x="18" y="114"/>
                  </a:lnTo>
                  <a:lnTo>
                    <a:pt x="8" y="129"/>
                  </a:lnTo>
                  <a:lnTo>
                    <a:pt x="1" y="146"/>
                  </a:lnTo>
                  <a:lnTo>
                    <a:pt x="0" y="162"/>
                  </a:lnTo>
                  <a:lnTo>
                    <a:pt x="0" y="568"/>
                  </a:lnTo>
                  <a:lnTo>
                    <a:pt x="0" y="812"/>
                  </a:lnTo>
                  <a:lnTo>
                    <a:pt x="1" y="829"/>
                  </a:lnTo>
                  <a:lnTo>
                    <a:pt x="8" y="845"/>
                  </a:lnTo>
                  <a:lnTo>
                    <a:pt x="18" y="860"/>
                  </a:lnTo>
                  <a:lnTo>
                    <a:pt x="31" y="876"/>
                  </a:lnTo>
                  <a:lnTo>
                    <a:pt x="49" y="889"/>
                  </a:lnTo>
                  <a:lnTo>
                    <a:pt x="69" y="903"/>
                  </a:lnTo>
                  <a:lnTo>
                    <a:pt x="92" y="915"/>
                  </a:lnTo>
                  <a:lnTo>
                    <a:pt x="119" y="926"/>
                  </a:lnTo>
                  <a:lnTo>
                    <a:pt x="148" y="938"/>
                  </a:lnTo>
                  <a:lnTo>
                    <a:pt x="178" y="947"/>
                  </a:lnTo>
                  <a:lnTo>
                    <a:pt x="211" y="955"/>
                  </a:lnTo>
                  <a:lnTo>
                    <a:pt x="248" y="961"/>
                  </a:lnTo>
                  <a:lnTo>
                    <a:pt x="285" y="967"/>
                  </a:lnTo>
                  <a:lnTo>
                    <a:pt x="323" y="971"/>
                  </a:lnTo>
                  <a:lnTo>
                    <a:pt x="364" y="973"/>
                  </a:lnTo>
                  <a:lnTo>
                    <a:pt x="406" y="974"/>
                  </a:lnTo>
                  <a:lnTo>
                    <a:pt x="152" y="1238"/>
                  </a:lnTo>
                  <a:lnTo>
                    <a:pt x="1015" y="974"/>
                  </a:lnTo>
                  <a:lnTo>
                    <a:pt x="2030" y="974"/>
                  </a:lnTo>
                  <a:lnTo>
                    <a:pt x="2072" y="973"/>
                  </a:lnTo>
                  <a:lnTo>
                    <a:pt x="2113" y="971"/>
                  </a:lnTo>
                  <a:lnTo>
                    <a:pt x="2150" y="967"/>
                  </a:lnTo>
                  <a:lnTo>
                    <a:pt x="2188" y="961"/>
                  </a:lnTo>
                  <a:lnTo>
                    <a:pt x="2224" y="955"/>
                  </a:lnTo>
                  <a:lnTo>
                    <a:pt x="2258" y="947"/>
                  </a:lnTo>
                  <a:lnTo>
                    <a:pt x="2288" y="938"/>
                  </a:lnTo>
                  <a:lnTo>
                    <a:pt x="2317" y="926"/>
                  </a:lnTo>
                  <a:lnTo>
                    <a:pt x="2343" y="915"/>
                  </a:lnTo>
                  <a:lnTo>
                    <a:pt x="2366" y="903"/>
                  </a:lnTo>
                  <a:lnTo>
                    <a:pt x="2387" y="889"/>
                  </a:lnTo>
                  <a:lnTo>
                    <a:pt x="2404" y="876"/>
                  </a:lnTo>
                  <a:lnTo>
                    <a:pt x="2417" y="860"/>
                  </a:lnTo>
                  <a:lnTo>
                    <a:pt x="2427" y="845"/>
                  </a:lnTo>
                  <a:lnTo>
                    <a:pt x="2435" y="829"/>
                  </a:lnTo>
                  <a:lnTo>
                    <a:pt x="2436" y="812"/>
                  </a:lnTo>
                  <a:lnTo>
                    <a:pt x="2436" y="568"/>
                  </a:lnTo>
                  <a:lnTo>
                    <a:pt x="2436" y="162"/>
                  </a:lnTo>
                  <a:lnTo>
                    <a:pt x="2435" y="146"/>
                  </a:lnTo>
                  <a:lnTo>
                    <a:pt x="2427" y="129"/>
                  </a:lnTo>
                  <a:lnTo>
                    <a:pt x="2417" y="114"/>
                  </a:lnTo>
                  <a:lnTo>
                    <a:pt x="2404" y="98"/>
                  </a:lnTo>
                  <a:lnTo>
                    <a:pt x="2387" y="85"/>
                  </a:lnTo>
                  <a:lnTo>
                    <a:pt x="2366" y="71"/>
                  </a:lnTo>
                  <a:lnTo>
                    <a:pt x="2343" y="59"/>
                  </a:lnTo>
                  <a:lnTo>
                    <a:pt x="2317" y="48"/>
                  </a:lnTo>
                  <a:lnTo>
                    <a:pt x="2288" y="37"/>
                  </a:lnTo>
                  <a:lnTo>
                    <a:pt x="2258" y="27"/>
                  </a:lnTo>
                  <a:lnTo>
                    <a:pt x="2224" y="20"/>
                  </a:lnTo>
                  <a:lnTo>
                    <a:pt x="2188" y="13"/>
                  </a:lnTo>
                  <a:lnTo>
                    <a:pt x="2150" y="7"/>
                  </a:lnTo>
                  <a:lnTo>
                    <a:pt x="2113" y="3"/>
                  </a:lnTo>
                  <a:lnTo>
                    <a:pt x="2072" y="1"/>
                  </a:lnTo>
                  <a:lnTo>
                    <a:pt x="2030" y="0"/>
                  </a:lnTo>
                  <a:lnTo>
                    <a:pt x="1015" y="0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587600" y="1943280"/>
              <a:ext cx="1960560" cy="1025280"/>
            </a:xfrm>
            <a:custGeom>
              <a:avLst/>
              <a:gdLst/>
              <a:ahLst/>
              <a:rect l="l" t="t" r="r" b="b"/>
              <a:pathLst>
                <a:path w="2471" h="1293">
                  <a:moveTo>
                    <a:pt x="382" y="2"/>
                  </a:moveTo>
                  <a:lnTo>
                    <a:pt x="341" y="3"/>
                  </a:lnTo>
                  <a:lnTo>
                    <a:pt x="303" y="8"/>
                  </a:lnTo>
                  <a:lnTo>
                    <a:pt x="266" y="13"/>
                  </a:lnTo>
                  <a:lnTo>
                    <a:pt x="229" y="21"/>
                  </a:lnTo>
                  <a:lnTo>
                    <a:pt x="224" y="22"/>
                  </a:lnTo>
                  <a:lnTo>
                    <a:pt x="190" y="29"/>
                  </a:lnTo>
                  <a:lnTo>
                    <a:pt x="158" y="39"/>
                  </a:lnTo>
                  <a:lnTo>
                    <a:pt x="129" y="50"/>
                  </a:lnTo>
                  <a:lnTo>
                    <a:pt x="103" y="61"/>
                  </a:lnTo>
                  <a:lnTo>
                    <a:pt x="80" y="73"/>
                  </a:lnTo>
                  <a:lnTo>
                    <a:pt x="60" y="87"/>
                  </a:lnTo>
                  <a:lnTo>
                    <a:pt x="54" y="90"/>
                  </a:lnTo>
                  <a:lnTo>
                    <a:pt x="36" y="105"/>
                  </a:lnTo>
                  <a:lnTo>
                    <a:pt x="23" y="119"/>
                  </a:lnTo>
                  <a:lnTo>
                    <a:pt x="20" y="125"/>
                  </a:lnTo>
                  <a:lnTo>
                    <a:pt x="10" y="141"/>
                  </a:lnTo>
                  <a:lnTo>
                    <a:pt x="3" y="157"/>
                  </a:lnTo>
                  <a:lnTo>
                    <a:pt x="2" y="164"/>
                  </a:lnTo>
                  <a:lnTo>
                    <a:pt x="0" y="180"/>
                  </a:lnTo>
                  <a:lnTo>
                    <a:pt x="0" y="586"/>
                  </a:lnTo>
                  <a:lnTo>
                    <a:pt x="0" y="830"/>
                  </a:lnTo>
                  <a:lnTo>
                    <a:pt x="2" y="847"/>
                  </a:lnTo>
                  <a:lnTo>
                    <a:pt x="3" y="853"/>
                  </a:lnTo>
                  <a:lnTo>
                    <a:pt x="10" y="869"/>
                  </a:lnTo>
                  <a:lnTo>
                    <a:pt x="20" y="885"/>
                  </a:lnTo>
                  <a:lnTo>
                    <a:pt x="23" y="891"/>
                  </a:lnTo>
                  <a:lnTo>
                    <a:pt x="36" y="905"/>
                  </a:lnTo>
                  <a:lnTo>
                    <a:pt x="54" y="920"/>
                  </a:lnTo>
                  <a:lnTo>
                    <a:pt x="60" y="923"/>
                  </a:lnTo>
                  <a:lnTo>
                    <a:pt x="80" y="937"/>
                  </a:lnTo>
                  <a:lnTo>
                    <a:pt x="103" y="949"/>
                  </a:lnTo>
                  <a:lnTo>
                    <a:pt x="129" y="960"/>
                  </a:lnTo>
                  <a:lnTo>
                    <a:pt x="158" y="972"/>
                  </a:lnTo>
                  <a:lnTo>
                    <a:pt x="190" y="981"/>
                  </a:lnTo>
                  <a:lnTo>
                    <a:pt x="224" y="989"/>
                  </a:lnTo>
                  <a:lnTo>
                    <a:pt x="229" y="991"/>
                  </a:lnTo>
                  <a:lnTo>
                    <a:pt x="266" y="997"/>
                  </a:lnTo>
                  <a:lnTo>
                    <a:pt x="303" y="1002"/>
                  </a:lnTo>
                  <a:lnTo>
                    <a:pt x="341" y="1007"/>
                  </a:lnTo>
                  <a:lnTo>
                    <a:pt x="382" y="1008"/>
                  </a:lnTo>
                  <a:lnTo>
                    <a:pt x="424" y="1010"/>
                  </a:lnTo>
                  <a:lnTo>
                    <a:pt x="424" y="992"/>
                  </a:lnTo>
                  <a:lnTo>
                    <a:pt x="412" y="981"/>
                  </a:lnTo>
                  <a:lnTo>
                    <a:pt x="158" y="1245"/>
                  </a:lnTo>
                  <a:lnTo>
                    <a:pt x="110" y="1293"/>
                  </a:lnTo>
                  <a:lnTo>
                    <a:pt x="176" y="1274"/>
                  </a:lnTo>
                  <a:lnTo>
                    <a:pt x="1039" y="1010"/>
                  </a:lnTo>
                  <a:lnTo>
                    <a:pt x="1033" y="992"/>
                  </a:lnTo>
                  <a:lnTo>
                    <a:pt x="1033" y="1010"/>
                  </a:lnTo>
                  <a:lnTo>
                    <a:pt x="2048" y="1010"/>
                  </a:lnTo>
                  <a:lnTo>
                    <a:pt x="2090" y="1008"/>
                  </a:lnTo>
                  <a:lnTo>
                    <a:pt x="2131" y="1007"/>
                  </a:lnTo>
                  <a:lnTo>
                    <a:pt x="2168" y="1002"/>
                  </a:lnTo>
                  <a:lnTo>
                    <a:pt x="2206" y="997"/>
                  </a:lnTo>
                  <a:lnTo>
                    <a:pt x="2242" y="991"/>
                  </a:lnTo>
                  <a:lnTo>
                    <a:pt x="2248" y="989"/>
                  </a:lnTo>
                  <a:lnTo>
                    <a:pt x="2281" y="981"/>
                  </a:lnTo>
                  <a:lnTo>
                    <a:pt x="2313" y="972"/>
                  </a:lnTo>
                  <a:lnTo>
                    <a:pt x="2342" y="960"/>
                  </a:lnTo>
                  <a:lnTo>
                    <a:pt x="2368" y="949"/>
                  </a:lnTo>
                  <a:lnTo>
                    <a:pt x="2392" y="937"/>
                  </a:lnTo>
                  <a:lnTo>
                    <a:pt x="2412" y="923"/>
                  </a:lnTo>
                  <a:lnTo>
                    <a:pt x="2418" y="920"/>
                  </a:lnTo>
                  <a:lnTo>
                    <a:pt x="2435" y="905"/>
                  </a:lnTo>
                  <a:lnTo>
                    <a:pt x="2448" y="891"/>
                  </a:lnTo>
                  <a:lnTo>
                    <a:pt x="2451" y="885"/>
                  </a:lnTo>
                  <a:lnTo>
                    <a:pt x="2461" y="869"/>
                  </a:lnTo>
                  <a:lnTo>
                    <a:pt x="2469" y="853"/>
                  </a:lnTo>
                  <a:lnTo>
                    <a:pt x="2470" y="847"/>
                  </a:lnTo>
                  <a:lnTo>
                    <a:pt x="2471" y="830"/>
                  </a:lnTo>
                  <a:lnTo>
                    <a:pt x="2471" y="586"/>
                  </a:lnTo>
                  <a:lnTo>
                    <a:pt x="2471" y="180"/>
                  </a:lnTo>
                  <a:lnTo>
                    <a:pt x="2470" y="164"/>
                  </a:lnTo>
                  <a:lnTo>
                    <a:pt x="2469" y="157"/>
                  </a:lnTo>
                  <a:lnTo>
                    <a:pt x="2461" y="141"/>
                  </a:lnTo>
                  <a:lnTo>
                    <a:pt x="2451" y="125"/>
                  </a:lnTo>
                  <a:lnTo>
                    <a:pt x="2448" y="119"/>
                  </a:lnTo>
                  <a:lnTo>
                    <a:pt x="2435" y="105"/>
                  </a:lnTo>
                  <a:lnTo>
                    <a:pt x="2418" y="90"/>
                  </a:lnTo>
                  <a:lnTo>
                    <a:pt x="2412" y="87"/>
                  </a:lnTo>
                  <a:lnTo>
                    <a:pt x="2392" y="73"/>
                  </a:lnTo>
                  <a:lnTo>
                    <a:pt x="2368" y="61"/>
                  </a:lnTo>
                  <a:lnTo>
                    <a:pt x="2342" y="50"/>
                  </a:lnTo>
                  <a:lnTo>
                    <a:pt x="2313" y="39"/>
                  </a:lnTo>
                  <a:lnTo>
                    <a:pt x="2281" y="29"/>
                  </a:lnTo>
                  <a:lnTo>
                    <a:pt x="2248" y="22"/>
                  </a:lnTo>
                  <a:lnTo>
                    <a:pt x="2242" y="21"/>
                  </a:lnTo>
                  <a:lnTo>
                    <a:pt x="2206" y="13"/>
                  </a:lnTo>
                  <a:lnTo>
                    <a:pt x="2168" y="8"/>
                  </a:lnTo>
                  <a:lnTo>
                    <a:pt x="2131" y="3"/>
                  </a:lnTo>
                  <a:lnTo>
                    <a:pt x="2090" y="2"/>
                  </a:lnTo>
                  <a:lnTo>
                    <a:pt x="2048" y="0"/>
                  </a:lnTo>
                  <a:lnTo>
                    <a:pt x="1033" y="0"/>
                  </a:lnTo>
                  <a:lnTo>
                    <a:pt x="424" y="0"/>
                  </a:lnTo>
                  <a:lnTo>
                    <a:pt x="382" y="2"/>
                  </a:lnTo>
                  <a:close/>
                  <a:moveTo>
                    <a:pt x="424" y="35"/>
                  </a:moveTo>
                  <a:lnTo>
                    <a:pt x="1033" y="35"/>
                  </a:lnTo>
                  <a:lnTo>
                    <a:pt x="2048" y="35"/>
                  </a:lnTo>
                  <a:lnTo>
                    <a:pt x="2090" y="37"/>
                  </a:lnTo>
                  <a:lnTo>
                    <a:pt x="2131" y="38"/>
                  </a:lnTo>
                  <a:lnTo>
                    <a:pt x="2168" y="42"/>
                  </a:lnTo>
                  <a:lnTo>
                    <a:pt x="2206" y="48"/>
                  </a:lnTo>
                  <a:lnTo>
                    <a:pt x="2242" y="55"/>
                  </a:lnTo>
                  <a:lnTo>
                    <a:pt x="2242" y="38"/>
                  </a:lnTo>
                  <a:lnTo>
                    <a:pt x="2235" y="54"/>
                  </a:lnTo>
                  <a:lnTo>
                    <a:pt x="2268" y="61"/>
                  </a:lnTo>
                  <a:lnTo>
                    <a:pt x="2300" y="71"/>
                  </a:lnTo>
                  <a:lnTo>
                    <a:pt x="2329" y="82"/>
                  </a:lnTo>
                  <a:lnTo>
                    <a:pt x="2355" y="93"/>
                  </a:lnTo>
                  <a:lnTo>
                    <a:pt x="2379" y="105"/>
                  </a:lnTo>
                  <a:lnTo>
                    <a:pt x="2399" y="119"/>
                  </a:lnTo>
                  <a:lnTo>
                    <a:pt x="2405" y="103"/>
                  </a:lnTo>
                  <a:lnTo>
                    <a:pt x="2393" y="115"/>
                  </a:lnTo>
                  <a:lnTo>
                    <a:pt x="2411" y="129"/>
                  </a:lnTo>
                  <a:lnTo>
                    <a:pt x="2424" y="144"/>
                  </a:lnTo>
                  <a:lnTo>
                    <a:pt x="2435" y="132"/>
                  </a:lnTo>
                  <a:lnTo>
                    <a:pt x="2419" y="138"/>
                  </a:lnTo>
                  <a:lnTo>
                    <a:pt x="2429" y="154"/>
                  </a:lnTo>
                  <a:lnTo>
                    <a:pt x="2437" y="170"/>
                  </a:lnTo>
                  <a:lnTo>
                    <a:pt x="2453" y="164"/>
                  </a:lnTo>
                  <a:lnTo>
                    <a:pt x="2435" y="164"/>
                  </a:lnTo>
                  <a:lnTo>
                    <a:pt x="2437" y="180"/>
                  </a:lnTo>
                  <a:lnTo>
                    <a:pt x="2437" y="586"/>
                  </a:lnTo>
                  <a:lnTo>
                    <a:pt x="2437" y="830"/>
                  </a:lnTo>
                  <a:lnTo>
                    <a:pt x="2435" y="847"/>
                  </a:lnTo>
                  <a:lnTo>
                    <a:pt x="2453" y="847"/>
                  </a:lnTo>
                  <a:lnTo>
                    <a:pt x="2437" y="840"/>
                  </a:lnTo>
                  <a:lnTo>
                    <a:pt x="2429" y="856"/>
                  </a:lnTo>
                  <a:lnTo>
                    <a:pt x="2419" y="872"/>
                  </a:lnTo>
                  <a:lnTo>
                    <a:pt x="2435" y="878"/>
                  </a:lnTo>
                  <a:lnTo>
                    <a:pt x="2424" y="866"/>
                  </a:lnTo>
                  <a:lnTo>
                    <a:pt x="2411" y="881"/>
                  </a:lnTo>
                  <a:lnTo>
                    <a:pt x="2393" y="895"/>
                  </a:lnTo>
                  <a:lnTo>
                    <a:pt x="2405" y="907"/>
                  </a:lnTo>
                  <a:lnTo>
                    <a:pt x="2399" y="891"/>
                  </a:lnTo>
                  <a:lnTo>
                    <a:pt x="2379" y="905"/>
                  </a:lnTo>
                  <a:lnTo>
                    <a:pt x="2355" y="917"/>
                  </a:lnTo>
                  <a:lnTo>
                    <a:pt x="2329" y="928"/>
                  </a:lnTo>
                  <a:lnTo>
                    <a:pt x="2300" y="940"/>
                  </a:lnTo>
                  <a:lnTo>
                    <a:pt x="2268" y="949"/>
                  </a:lnTo>
                  <a:lnTo>
                    <a:pt x="2235" y="957"/>
                  </a:lnTo>
                  <a:lnTo>
                    <a:pt x="2242" y="973"/>
                  </a:lnTo>
                  <a:lnTo>
                    <a:pt x="2242" y="956"/>
                  </a:lnTo>
                  <a:lnTo>
                    <a:pt x="2206" y="962"/>
                  </a:lnTo>
                  <a:lnTo>
                    <a:pt x="2168" y="968"/>
                  </a:lnTo>
                  <a:lnTo>
                    <a:pt x="2131" y="972"/>
                  </a:lnTo>
                  <a:lnTo>
                    <a:pt x="2090" y="973"/>
                  </a:lnTo>
                  <a:lnTo>
                    <a:pt x="2048" y="975"/>
                  </a:lnTo>
                  <a:lnTo>
                    <a:pt x="1033" y="975"/>
                  </a:lnTo>
                  <a:lnTo>
                    <a:pt x="1030" y="975"/>
                  </a:lnTo>
                  <a:lnTo>
                    <a:pt x="1028" y="976"/>
                  </a:lnTo>
                  <a:lnTo>
                    <a:pt x="166" y="1240"/>
                  </a:lnTo>
                  <a:lnTo>
                    <a:pt x="170" y="1256"/>
                  </a:lnTo>
                  <a:lnTo>
                    <a:pt x="183" y="1269"/>
                  </a:lnTo>
                  <a:lnTo>
                    <a:pt x="437" y="1005"/>
                  </a:lnTo>
                  <a:lnTo>
                    <a:pt x="464" y="976"/>
                  </a:lnTo>
                  <a:lnTo>
                    <a:pt x="424" y="975"/>
                  </a:lnTo>
                  <a:lnTo>
                    <a:pt x="382" y="973"/>
                  </a:lnTo>
                  <a:lnTo>
                    <a:pt x="341" y="972"/>
                  </a:lnTo>
                  <a:lnTo>
                    <a:pt x="303" y="968"/>
                  </a:lnTo>
                  <a:lnTo>
                    <a:pt x="266" y="962"/>
                  </a:lnTo>
                  <a:lnTo>
                    <a:pt x="229" y="956"/>
                  </a:lnTo>
                  <a:lnTo>
                    <a:pt x="229" y="973"/>
                  </a:lnTo>
                  <a:lnTo>
                    <a:pt x="237" y="957"/>
                  </a:lnTo>
                  <a:lnTo>
                    <a:pt x="203" y="949"/>
                  </a:lnTo>
                  <a:lnTo>
                    <a:pt x="171" y="940"/>
                  </a:lnTo>
                  <a:lnTo>
                    <a:pt x="142" y="928"/>
                  </a:lnTo>
                  <a:lnTo>
                    <a:pt x="116" y="917"/>
                  </a:lnTo>
                  <a:lnTo>
                    <a:pt x="93" y="905"/>
                  </a:lnTo>
                  <a:lnTo>
                    <a:pt x="73" y="891"/>
                  </a:lnTo>
                  <a:lnTo>
                    <a:pt x="67" y="907"/>
                  </a:lnTo>
                  <a:lnTo>
                    <a:pt x="79" y="895"/>
                  </a:lnTo>
                  <a:lnTo>
                    <a:pt x="61" y="881"/>
                  </a:lnTo>
                  <a:lnTo>
                    <a:pt x="48" y="866"/>
                  </a:lnTo>
                  <a:lnTo>
                    <a:pt x="36" y="878"/>
                  </a:lnTo>
                  <a:lnTo>
                    <a:pt x="52" y="872"/>
                  </a:lnTo>
                  <a:lnTo>
                    <a:pt x="42" y="856"/>
                  </a:lnTo>
                  <a:lnTo>
                    <a:pt x="35" y="840"/>
                  </a:lnTo>
                  <a:lnTo>
                    <a:pt x="19" y="847"/>
                  </a:lnTo>
                  <a:lnTo>
                    <a:pt x="36" y="847"/>
                  </a:lnTo>
                  <a:lnTo>
                    <a:pt x="35" y="830"/>
                  </a:lnTo>
                  <a:lnTo>
                    <a:pt x="35" y="586"/>
                  </a:lnTo>
                  <a:lnTo>
                    <a:pt x="35" y="180"/>
                  </a:lnTo>
                  <a:lnTo>
                    <a:pt x="36" y="164"/>
                  </a:lnTo>
                  <a:lnTo>
                    <a:pt x="19" y="164"/>
                  </a:lnTo>
                  <a:lnTo>
                    <a:pt x="35" y="170"/>
                  </a:lnTo>
                  <a:lnTo>
                    <a:pt x="42" y="154"/>
                  </a:lnTo>
                  <a:lnTo>
                    <a:pt x="52" y="138"/>
                  </a:lnTo>
                  <a:lnTo>
                    <a:pt x="36" y="132"/>
                  </a:lnTo>
                  <a:lnTo>
                    <a:pt x="48" y="144"/>
                  </a:lnTo>
                  <a:lnTo>
                    <a:pt x="61" y="129"/>
                  </a:lnTo>
                  <a:lnTo>
                    <a:pt x="79" y="115"/>
                  </a:lnTo>
                  <a:lnTo>
                    <a:pt x="67" y="103"/>
                  </a:lnTo>
                  <a:lnTo>
                    <a:pt x="73" y="119"/>
                  </a:lnTo>
                  <a:lnTo>
                    <a:pt x="93" y="105"/>
                  </a:lnTo>
                  <a:lnTo>
                    <a:pt x="116" y="93"/>
                  </a:lnTo>
                  <a:lnTo>
                    <a:pt x="142" y="82"/>
                  </a:lnTo>
                  <a:lnTo>
                    <a:pt x="171" y="71"/>
                  </a:lnTo>
                  <a:lnTo>
                    <a:pt x="203" y="61"/>
                  </a:lnTo>
                  <a:lnTo>
                    <a:pt x="237" y="54"/>
                  </a:lnTo>
                  <a:lnTo>
                    <a:pt x="229" y="38"/>
                  </a:lnTo>
                  <a:lnTo>
                    <a:pt x="229" y="55"/>
                  </a:lnTo>
                  <a:lnTo>
                    <a:pt x="266" y="48"/>
                  </a:lnTo>
                  <a:lnTo>
                    <a:pt x="303" y="42"/>
                  </a:lnTo>
                  <a:lnTo>
                    <a:pt x="341" y="38"/>
                  </a:lnTo>
                  <a:lnTo>
                    <a:pt x="382" y="37"/>
                  </a:lnTo>
                  <a:lnTo>
                    <a:pt x="424" y="3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544760" y="1901880"/>
              <a:ext cx="1935000" cy="982440"/>
            </a:xfrm>
            <a:custGeom>
              <a:avLst/>
              <a:gdLst/>
              <a:ahLst/>
              <a:rect l="l" t="t" r="r" b="b"/>
              <a:pathLst>
                <a:path w="2436" h="1239">
                  <a:moveTo>
                    <a:pt x="406" y="0"/>
                  </a:moveTo>
                  <a:lnTo>
                    <a:pt x="364" y="2"/>
                  </a:lnTo>
                  <a:lnTo>
                    <a:pt x="323" y="3"/>
                  </a:lnTo>
                  <a:lnTo>
                    <a:pt x="286" y="7"/>
                  </a:lnTo>
                  <a:lnTo>
                    <a:pt x="248" y="13"/>
                  </a:lnTo>
                  <a:lnTo>
                    <a:pt x="212" y="20"/>
                  </a:lnTo>
                  <a:lnTo>
                    <a:pt x="178" y="28"/>
                  </a:lnTo>
                  <a:lnTo>
                    <a:pt x="148" y="38"/>
                  </a:lnTo>
                  <a:lnTo>
                    <a:pt x="119" y="48"/>
                  </a:lnTo>
                  <a:lnTo>
                    <a:pt x="93" y="60"/>
                  </a:lnTo>
                  <a:lnTo>
                    <a:pt x="70" y="71"/>
                  </a:lnTo>
                  <a:lnTo>
                    <a:pt x="49" y="86"/>
                  </a:lnTo>
                  <a:lnTo>
                    <a:pt x="32" y="99"/>
                  </a:lnTo>
                  <a:lnTo>
                    <a:pt x="19" y="115"/>
                  </a:lnTo>
                  <a:lnTo>
                    <a:pt x="9" y="129"/>
                  </a:lnTo>
                  <a:lnTo>
                    <a:pt x="1" y="147"/>
                  </a:lnTo>
                  <a:lnTo>
                    <a:pt x="0" y="163"/>
                  </a:lnTo>
                  <a:lnTo>
                    <a:pt x="0" y="569"/>
                  </a:lnTo>
                  <a:lnTo>
                    <a:pt x="0" y="812"/>
                  </a:lnTo>
                  <a:lnTo>
                    <a:pt x="1" y="830"/>
                  </a:lnTo>
                  <a:lnTo>
                    <a:pt x="9" y="846"/>
                  </a:lnTo>
                  <a:lnTo>
                    <a:pt x="19" y="860"/>
                  </a:lnTo>
                  <a:lnTo>
                    <a:pt x="32" y="876"/>
                  </a:lnTo>
                  <a:lnTo>
                    <a:pt x="49" y="889"/>
                  </a:lnTo>
                  <a:lnTo>
                    <a:pt x="70" y="904"/>
                  </a:lnTo>
                  <a:lnTo>
                    <a:pt x="93" y="915"/>
                  </a:lnTo>
                  <a:lnTo>
                    <a:pt x="119" y="927"/>
                  </a:lnTo>
                  <a:lnTo>
                    <a:pt x="148" y="938"/>
                  </a:lnTo>
                  <a:lnTo>
                    <a:pt x="178" y="947"/>
                  </a:lnTo>
                  <a:lnTo>
                    <a:pt x="212" y="956"/>
                  </a:lnTo>
                  <a:lnTo>
                    <a:pt x="248" y="962"/>
                  </a:lnTo>
                  <a:lnTo>
                    <a:pt x="286" y="967"/>
                  </a:lnTo>
                  <a:lnTo>
                    <a:pt x="323" y="972"/>
                  </a:lnTo>
                  <a:lnTo>
                    <a:pt x="364" y="973"/>
                  </a:lnTo>
                  <a:lnTo>
                    <a:pt x="406" y="975"/>
                  </a:lnTo>
                  <a:lnTo>
                    <a:pt x="152" y="1239"/>
                  </a:lnTo>
                  <a:lnTo>
                    <a:pt x="1015" y="975"/>
                  </a:lnTo>
                  <a:lnTo>
                    <a:pt x="2030" y="975"/>
                  </a:lnTo>
                  <a:lnTo>
                    <a:pt x="2072" y="973"/>
                  </a:lnTo>
                  <a:lnTo>
                    <a:pt x="2113" y="972"/>
                  </a:lnTo>
                  <a:lnTo>
                    <a:pt x="2151" y="967"/>
                  </a:lnTo>
                  <a:lnTo>
                    <a:pt x="2188" y="962"/>
                  </a:lnTo>
                  <a:lnTo>
                    <a:pt x="2225" y="956"/>
                  </a:lnTo>
                  <a:lnTo>
                    <a:pt x="2258" y="947"/>
                  </a:lnTo>
                  <a:lnTo>
                    <a:pt x="2289" y="938"/>
                  </a:lnTo>
                  <a:lnTo>
                    <a:pt x="2318" y="927"/>
                  </a:lnTo>
                  <a:lnTo>
                    <a:pt x="2344" y="915"/>
                  </a:lnTo>
                  <a:lnTo>
                    <a:pt x="2367" y="904"/>
                  </a:lnTo>
                  <a:lnTo>
                    <a:pt x="2387" y="889"/>
                  </a:lnTo>
                  <a:lnTo>
                    <a:pt x="2405" y="876"/>
                  </a:lnTo>
                  <a:lnTo>
                    <a:pt x="2418" y="860"/>
                  </a:lnTo>
                  <a:lnTo>
                    <a:pt x="2428" y="846"/>
                  </a:lnTo>
                  <a:lnTo>
                    <a:pt x="2435" y="830"/>
                  </a:lnTo>
                  <a:lnTo>
                    <a:pt x="2436" y="812"/>
                  </a:lnTo>
                  <a:lnTo>
                    <a:pt x="2436" y="569"/>
                  </a:lnTo>
                  <a:lnTo>
                    <a:pt x="2436" y="163"/>
                  </a:lnTo>
                  <a:lnTo>
                    <a:pt x="2435" y="147"/>
                  </a:lnTo>
                  <a:lnTo>
                    <a:pt x="2428" y="129"/>
                  </a:lnTo>
                  <a:lnTo>
                    <a:pt x="2418" y="115"/>
                  </a:lnTo>
                  <a:lnTo>
                    <a:pt x="2405" y="99"/>
                  </a:lnTo>
                  <a:lnTo>
                    <a:pt x="2387" y="86"/>
                  </a:lnTo>
                  <a:lnTo>
                    <a:pt x="2367" y="71"/>
                  </a:lnTo>
                  <a:lnTo>
                    <a:pt x="2344" y="60"/>
                  </a:lnTo>
                  <a:lnTo>
                    <a:pt x="2318" y="48"/>
                  </a:lnTo>
                  <a:lnTo>
                    <a:pt x="2289" y="38"/>
                  </a:lnTo>
                  <a:lnTo>
                    <a:pt x="2258" y="28"/>
                  </a:lnTo>
                  <a:lnTo>
                    <a:pt x="2225" y="20"/>
                  </a:lnTo>
                  <a:lnTo>
                    <a:pt x="2188" y="13"/>
                  </a:lnTo>
                  <a:lnTo>
                    <a:pt x="2151" y="7"/>
                  </a:lnTo>
                  <a:lnTo>
                    <a:pt x="2113" y="3"/>
                  </a:lnTo>
                  <a:lnTo>
                    <a:pt x="2072" y="2"/>
                  </a:lnTo>
                  <a:lnTo>
                    <a:pt x="2030" y="0"/>
                  </a:lnTo>
                  <a:lnTo>
                    <a:pt x="1015" y="0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531800" y="1887480"/>
              <a:ext cx="1960560" cy="1025640"/>
            </a:xfrm>
            <a:custGeom>
              <a:avLst/>
              <a:gdLst/>
              <a:ahLst/>
              <a:rect l="l" t="t" r="r" b="b"/>
              <a:pathLst>
                <a:path w="2471" h="1292">
                  <a:moveTo>
                    <a:pt x="381" y="1"/>
                  </a:moveTo>
                  <a:lnTo>
                    <a:pt x="340" y="3"/>
                  </a:lnTo>
                  <a:lnTo>
                    <a:pt x="303" y="7"/>
                  </a:lnTo>
                  <a:lnTo>
                    <a:pt x="265" y="13"/>
                  </a:lnTo>
                  <a:lnTo>
                    <a:pt x="229" y="20"/>
                  </a:lnTo>
                  <a:lnTo>
                    <a:pt x="223" y="21"/>
                  </a:lnTo>
                  <a:lnTo>
                    <a:pt x="190" y="29"/>
                  </a:lnTo>
                  <a:lnTo>
                    <a:pt x="158" y="39"/>
                  </a:lnTo>
                  <a:lnTo>
                    <a:pt x="129" y="49"/>
                  </a:lnTo>
                  <a:lnTo>
                    <a:pt x="103" y="61"/>
                  </a:lnTo>
                  <a:lnTo>
                    <a:pt x="79" y="72"/>
                  </a:lnTo>
                  <a:lnTo>
                    <a:pt x="59" y="87"/>
                  </a:lnTo>
                  <a:lnTo>
                    <a:pt x="53" y="90"/>
                  </a:lnTo>
                  <a:lnTo>
                    <a:pt x="36" y="104"/>
                  </a:lnTo>
                  <a:lnTo>
                    <a:pt x="23" y="119"/>
                  </a:lnTo>
                  <a:lnTo>
                    <a:pt x="20" y="124"/>
                  </a:lnTo>
                  <a:lnTo>
                    <a:pt x="10" y="140"/>
                  </a:lnTo>
                  <a:lnTo>
                    <a:pt x="2" y="156"/>
                  </a:lnTo>
                  <a:lnTo>
                    <a:pt x="1" y="164"/>
                  </a:lnTo>
                  <a:lnTo>
                    <a:pt x="0" y="180"/>
                  </a:lnTo>
                  <a:lnTo>
                    <a:pt x="0" y="586"/>
                  </a:lnTo>
                  <a:lnTo>
                    <a:pt x="0" y="829"/>
                  </a:lnTo>
                  <a:lnTo>
                    <a:pt x="1" y="847"/>
                  </a:lnTo>
                  <a:lnTo>
                    <a:pt x="2" y="852"/>
                  </a:lnTo>
                  <a:lnTo>
                    <a:pt x="10" y="868"/>
                  </a:lnTo>
                  <a:lnTo>
                    <a:pt x="20" y="884"/>
                  </a:lnTo>
                  <a:lnTo>
                    <a:pt x="23" y="890"/>
                  </a:lnTo>
                  <a:lnTo>
                    <a:pt x="36" y="905"/>
                  </a:lnTo>
                  <a:lnTo>
                    <a:pt x="53" y="919"/>
                  </a:lnTo>
                  <a:lnTo>
                    <a:pt x="59" y="922"/>
                  </a:lnTo>
                  <a:lnTo>
                    <a:pt x="79" y="937"/>
                  </a:lnTo>
                  <a:lnTo>
                    <a:pt x="103" y="948"/>
                  </a:lnTo>
                  <a:lnTo>
                    <a:pt x="129" y="960"/>
                  </a:lnTo>
                  <a:lnTo>
                    <a:pt x="158" y="971"/>
                  </a:lnTo>
                  <a:lnTo>
                    <a:pt x="190" y="980"/>
                  </a:lnTo>
                  <a:lnTo>
                    <a:pt x="223" y="989"/>
                  </a:lnTo>
                  <a:lnTo>
                    <a:pt x="229" y="990"/>
                  </a:lnTo>
                  <a:lnTo>
                    <a:pt x="265" y="996"/>
                  </a:lnTo>
                  <a:lnTo>
                    <a:pt x="303" y="1002"/>
                  </a:lnTo>
                  <a:lnTo>
                    <a:pt x="340" y="1006"/>
                  </a:lnTo>
                  <a:lnTo>
                    <a:pt x="381" y="1008"/>
                  </a:lnTo>
                  <a:lnTo>
                    <a:pt x="423" y="1009"/>
                  </a:lnTo>
                  <a:lnTo>
                    <a:pt x="423" y="992"/>
                  </a:lnTo>
                  <a:lnTo>
                    <a:pt x="411" y="980"/>
                  </a:lnTo>
                  <a:lnTo>
                    <a:pt x="158" y="1244"/>
                  </a:lnTo>
                  <a:lnTo>
                    <a:pt x="110" y="1292"/>
                  </a:lnTo>
                  <a:lnTo>
                    <a:pt x="175" y="1273"/>
                  </a:lnTo>
                  <a:lnTo>
                    <a:pt x="1038" y="1009"/>
                  </a:lnTo>
                  <a:lnTo>
                    <a:pt x="1032" y="992"/>
                  </a:lnTo>
                  <a:lnTo>
                    <a:pt x="1032" y="1009"/>
                  </a:lnTo>
                  <a:lnTo>
                    <a:pt x="2047" y="1009"/>
                  </a:lnTo>
                  <a:lnTo>
                    <a:pt x="2089" y="1008"/>
                  </a:lnTo>
                  <a:lnTo>
                    <a:pt x="2130" y="1006"/>
                  </a:lnTo>
                  <a:lnTo>
                    <a:pt x="2168" y="1002"/>
                  </a:lnTo>
                  <a:lnTo>
                    <a:pt x="2205" y="996"/>
                  </a:lnTo>
                  <a:lnTo>
                    <a:pt x="2242" y="990"/>
                  </a:lnTo>
                  <a:lnTo>
                    <a:pt x="2248" y="989"/>
                  </a:lnTo>
                  <a:lnTo>
                    <a:pt x="2281" y="980"/>
                  </a:lnTo>
                  <a:lnTo>
                    <a:pt x="2313" y="971"/>
                  </a:lnTo>
                  <a:lnTo>
                    <a:pt x="2342" y="960"/>
                  </a:lnTo>
                  <a:lnTo>
                    <a:pt x="2368" y="948"/>
                  </a:lnTo>
                  <a:lnTo>
                    <a:pt x="2391" y="937"/>
                  </a:lnTo>
                  <a:lnTo>
                    <a:pt x="2411" y="922"/>
                  </a:lnTo>
                  <a:lnTo>
                    <a:pt x="2417" y="919"/>
                  </a:lnTo>
                  <a:lnTo>
                    <a:pt x="2435" y="905"/>
                  </a:lnTo>
                  <a:lnTo>
                    <a:pt x="2448" y="890"/>
                  </a:lnTo>
                  <a:lnTo>
                    <a:pt x="2451" y="884"/>
                  </a:lnTo>
                  <a:lnTo>
                    <a:pt x="2461" y="868"/>
                  </a:lnTo>
                  <a:lnTo>
                    <a:pt x="2468" y="852"/>
                  </a:lnTo>
                  <a:lnTo>
                    <a:pt x="2469" y="847"/>
                  </a:lnTo>
                  <a:lnTo>
                    <a:pt x="2471" y="829"/>
                  </a:lnTo>
                  <a:lnTo>
                    <a:pt x="2471" y="586"/>
                  </a:lnTo>
                  <a:lnTo>
                    <a:pt x="2471" y="180"/>
                  </a:lnTo>
                  <a:lnTo>
                    <a:pt x="2469" y="164"/>
                  </a:lnTo>
                  <a:lnTo>
                    <a:pt x="2468" y="156"/>
                  </a:lnTo>
                  <a:lnTo>
                    <a:pt x="2461" y="140"/>
                  </a:lnTo>
                  <a:lnTo>
                    <a:pt x="2451" y="124"/>
                  </a:lnTo>
                  <a:lnTo>
                    <a:pt x="2448" y="119"/>
                  </a:lnTo>
                  <a:lnTo>
                    <a:pt x="2435" y="104"/>
                  </a:lnTo>
                  <a:lnTo>
                    <a:pt x="2417" y="90"/>
                  </a:lnTo>
                  <a:lnTo>
                    <a:pt x="2411" y="87"/>
                  </a:lnTo>
                  <a:lnTo>
                    <a:pt x="2391" y="72"/>
                  </a:lnTo>
                  <a:lnTo>
                    <a:pt x="2368" y="61"/>
                  </a:lnTo>
                  <a:lnTo>
                    <a:pt x="2342" y="49"/>
                  </a:lnTo>
                  <a:lnTo>
                    <a:pt x="2313" y="39"/>
                  </a:lnTo>
                  <a:lnTo>
                    <a:pt x="2281" y="29"/>
                  </a:lnTo>
                  <a:lnTo>
                    <a:pt x="2248" y="21"/>
                  </a:lnTo>
                  <a:lnTo>
                    <a:pt x="2242" y="20"/>
                  </a:lnTo>
                  <a:lnTo>
                    <a:pt x="2205" y="13"/>
                  </a:lnTo>
                  <a:lnTo>
                    <a:pt x="2168" y="7"/>
                  </a:lnTo>
                  <a:lnTo>
                    <a:pt x="2130" y="3"/>
                  </a:lnTo>
                  <a:lnTo>
                    <a:pt x="2089" y="1"/>
                  </a:lnTo>
                  <a:lnTo>
                    <a:pt x="2047" y="0"/>
                  </a:lnTo>
                  <a:lnTo>
                    <a:pt x="1032" y="0"/>
                  </a:lnTo>
                  <a:lnTo>
                    <a:pt x="423" y="0"/>
                  </a:lnTo>
                  <a:lnTo>
                    <a:pt x="381" y="1"/>
                  </a:lnTo>
                  <a:close/>
                  <a:moveTo>
                    <a:pt x="423" y="34"/>
                  </a:moveTo>
                  <a:lnTo>
                    <a:pt x="1032" y="34"/>
                  </a:lnTo>
                  <a:lnTo>
                    <a:pt x="2047" y="34"/>
                  </a:lnTo>
                  <a:lnTo>
                    <a:pt x="2089" y="36"/>
                  </a:lnTo>
                  <a:lnTo>
                    <a:pt x="2130" y="37"/>
                  </a:lnTo>
                  <a:lnTo>
                    <a:pt x="2168" y="42"/>
                  </a:lnTo>
                  <a:lnTo>
                    <a:pt x="2205" y="48"/>
                  </a:lnTo>
                  <a:lnTo>
                    <a:pt x="2242" y="55"/>
                  </a:lnTo>
                  <a:lnTo>
                    <a:pt x="2242" y="37"/>
                  </a:lnTo>
                  <a:lnTo>
                    <a:pt x="2234" y="53"/>
                  </a:lnTo>
                  <a:lnTo>
                    <a:pt x="2268" y="61"/>
                  </a:lnTo>
                  <a:lnTo>
                    <a:pt x="2300" y="71"/>
                  </a:lnTo>
                  <a:lnTo>
                    <a:pt x="2329" y="81"/>
                  </a:lnTo>
                  <a:lnTo>
                    <a:pt x="2355" y="92"/>
                  </a:lnTo>
                  <a:lnTo>
                    <a:pt x="2378" y="104"/>
                  </a:lnTo>
                  <a:lnTo>
                    <a:pt x="2398" y="119"/>
                  </a:lnTo>
                  <a:lnTo>
                    <a:pt x="2404" y="103"/>
                  </a:lnTo>
                  <a:lnTo>
                    <a:pt x="2393" y="114"/>
                  </a:lnTo>
                  <a:lnTo>
                    <a:pt x="2410" y="129"/>
                  </a:lnTo>
                  <a:lnTo>
                    <a:pt x="2423" y="143"/>
                  </a:lnTo>
                  <a:lnTo>
                    <a:pt x="2435" y="132"/>
                  </a:lnTo>
                  <a:lnTo>
                    <a:pt x="2419" y="137"/>
                  </a:lnTo>
                  <a:lnTo>
                    <a:pt x="2429" y="153"/>
                  </a:lnTo>
                  <a:lnTo>
                    <a:pt x="2436" y="169"/>
                  </a:lnTo>
                  <a:lnTo>
                    <a:pt x="2452" y="164"/>
                  </a:lnTo>
                  <a:lnTo>
                    <a:pt x="2435" y="164"/>
                  </a:lnTo>
                  <a:lnTo>
                    <a:pt x="2436" y="180"/>
                  </a:lnTo>
                  <a:lnTo>
                    <a:pt x="2436" y="586"/>
                  </a:lnTo>
                  <a:lnTo>
                    <a:pt x="2436" y="829"/>
                  </a:lnTo>
                  <a:lnTo>
                    <a:pt x="2435" y="847"/>
                  </a:lnTo>
                  <a:lnTo>
                    <a:pt x="2452" y="847"/>
                  </a:lnTo>
                  <a:lnTo>
                    <a:pt x="2436" y="839"/>
                  </a:lnTo>
                  <a:lnTo>
                    <a:pt x="2429" y="855"/>
                  </a:lnTo>
                  <a:lnTo>
                    <a:pt x="2419" y="871"/>
                  </a:lnTo>
                  <a:lnTo>
                    <a:pt x="2435" y="877"/>
                  </a:lnTo>
                  <a:lnTo>
                    <a:pt x="2423" y="865"/>
                  </a:lnTo>
                  <a:lnTo>
                    <a:pt x="2410" y="880"/>
                  </a:lnTo>
                  <a:lnTo>
                    <a:pt x="2393" y="895"/>
                  </a:lnTo>
                  <a:lnTo>
                    <a:pt x="2404" y="906"/>
                  </a:lnTo>
                  <a:lnTo>
                    <a:pt x="2398" y="890"/>
                  </a:lnTo>
                  <a:lnTo>
                    <a:pt x="2378" y="905"/>
                  </a:lnTo>
                  <a:lnTo>
                    <a:pt x="2355" y="916"/>
                  </a:lnTo>
                  <a:lnTo>
                    <a:pt x="2329" y="928"/>
                  </a:lnTo>
                  <a:lnTo>
                    <a:pt x="2300" y="939"/>
                  </a:lnTo>
                  <a:lnTo>
                    <a:pt x="2268" y="948"/>
                  </a:lnTo>
                  <a:lnTo>
                    <a:pt x="2234" y="957"/>
                  </a:lnTo>
                  <a:lnTo>
                    <a:pt x="2242" y="973"/>
                  </a:lnTo>
                  <a:lnTo>
                    <a:pt x="2242" y="955"/>
                  </a:lnTo>
                  <a:lnTo>
                    <a:pt x="2205" y="961"/>
                  </a:lnTo>
                  <a:lnTo>
                    <a:pt x="2168" y="967"/>
                  </a:lnTo>
                  <a:lnTo>
                    <a:pt x="2130" y="971"/>
                  </a:lnTo>
                  <a:lnTo>
                    <a:pt x="2089" y="973"/>
                  </a:lnTo>
                  <a:lnTo>
                    <a:pt x="2047" y="974"/>
                  </a:lnTo>
                  <a:lnTo>
                    <a:pt x="1032" y="974"/>
                  </a:lnTo>
                  <a:lnTo>
                    <a:pt x="1029" y="974"/>
                  </a:lnTo>
                  <a:lnTo>
                    <a:pt x="1028" y="976"/>
                  </a:lnTo>
                  <a:lnTo>
                    <a:pt x="165" y="1240"/>
                  </a:lnTo>
                  <a:lnTo>
                    <a:pt x="169" y="1256"/>
                  </a:lnTo>
                  <a:lnTo>
                    <a:pt x="182" y="1269"/>
                  </a:lnTo>
                  <a:lnTo>
                    <a:pt x="436" y="1005"/>
                  </a:lnTo>
                  <a:lnTo>
                    <a:pt x="464" y="976"/>
                  </a:lnTo>
                  <a:lnTo>
                    <a:pt x="423" y="974"/>
                  </a:lnTo>
                  <a:lnTo>
                    <a:pt x="381" y="973"/>
                  </a:lnTo>
                  <a:lnTo>
                    <a:pt x="340" y="971"/>
                  </a:lnTo>
                  <a:lnTo>
                    <a:pt x="303" y="967"/>
                  </a:lnTo>
                  <a:lnTo>
                    <a:pt x="265" y="961"/>
                  </a:lnTo>
                  <a:lnTo>
                    <a:pt x="229" y="955"/>
                  </a:lnTo>
                  <a:lnTo>
                    <a:pt x="229" y="973"/>
                  </a:lnTo>
                  <a:lnTo>
                    <a:pt x="236" y="957"/>
                  </a:lnTo>
                  <a:lnTo>
                    <a:pt x="203" y="948"/>
                  </a:lnTo>
                  <a:lnTo>
                    <a:pt x="171" y="939"/>
                  </a:lnTo>
                  <a:lnTo>
                    <a:pt x="142" y="928"/>
                  </a:lnTo>
                  <a:lnTo>
                    <a:pt x="116" y="916"/>
                  </a:lnTo>
                  <a:lnTo>
                    <a:pt x="92" y="905"/>
                  </a:lnTo>
                  <a:lnTo>
                    <a:pt x="72" y="890"/>
                  </a:lnTo>
                  <a:lnTo>
                    <a:pt x="66" y="906"/>
                  </a:lnTo>
                  <a:lnTo>
                    <a:pt x="78" y="895"/>
                  </a:lnTo>
                  <a:lnTo>
                    <a:pt x="60" y="880"/>
                  </a:lnTo>
                  <a:lnTo>
                    <a:pt x="47" y="865"/>
                  </a:lnTo>
                  <a:lnTo>
                    <a:pt x="36" y="877"/>
                  </a:lnTo>
                  <a:lnTo>
                    <a:pt x="52" y="871"/>
                  </a:lnTo>
                  <a:lnTo>
                    <a:pt x="42" y="855"/>
                  </a:lnTo>
                  <a:lnTo>
                    <a:pt x="34" y="839"/>
                  </a:lnTo>
                  <a:lnTo>
                    <a:pt x="18" y="847"/>
                  </a:lnTo>
                  <a:lnTo>
                    <a:pt x="36" y="847"/>
                  </a:lnTo>
                  <a:lnTo>
                    <a:pt x="34" y="829"/>
                  </a:lnTo>
                  <a:lnTo>
                    <a:pt x="34" y="586"/>
                  </a:lnTo>
                  <a:lnTo>
                    <a:pt x="34" y="180"/>
                  </a:lnTo>
                  <a:lnTo>
                    <a:pt x="36" y="164"/>
                  </a:lnTo>
                  <a:lnTo>
                    <a:pt x="18" y="164"/>
                  </a:lnTo>
                  <a:lnTo>
                    <a:pt x="34" y="169"/>
                  </a:lnTo>
                  <a:lnTo>
                    <a:pt x="42" y="153"/>
                  </a:lnTo>
                  <a:lnTo>
                    <a:pt x="52" y="137"/>
                  </a:lnTo>
                  <a:lnTo>
                    <a:pt x="36" y="132"/>
                  </a:lnTo>
                  <a:lnTo>
                    <a:pt x="47" y="143"/>
                  </a:lnTo>
                  <a:lnTo>
                    <a:pt x="60" y="129"/>
                  </a:lnTo>
                  <a:lnTo>
                    <a:pt x="78" y="114"/>
                  </a:lnTo>
                  <a:lnTo>
                    <a:pt x="66" y="103"/>
                  </a:lnTo>
                  <a:lnTo>
                    <a:pt x="72" y="119"/>
                  </a:lnTo>
                  <a:lnTo>
                    <a:pt x="92" y="104"/>
                  </a:lnTo>
                  <a:lnTo>
                    <a:pt x="116" y="92"/>
                  </a:lnTo>
                  <a:lnTo>
                    <a:pt x="142" y="81"/>
                  </a:lnTo>
                  <a:lnTo>
                    <a:pt x="171" y="71"/>
                  </a:lnTo>
                  <a:lnTo>
                    <a:pt x="203" y="61"/>
                  </a:lnTo>
                  <a:lnTo>
                    <a:pt x="236" y="53"/>
                  </a:lnTo>
                  <a:lnTo>
                    <a:pt x="229" y="37"/>
                  </a:lnTo>
                  <a:lnTo>
                    <a:pt x="229" y="55"/>
                  </a:lnTo>
                  <a:lnTo>
                    <a:pt x="265" y="48"/>
                  </a:lnTo>
                  <a:lnTo>
                    <a:pt x="303" y="42"/>
                  </a:lnTo>
                  <a:lnTo>
                    <a:pt x="340" y="37"/>
                  </a:lnTo>
                  <a:lnTo>
                    <a:pt x="381" y="36"/>
                  </a:lnTo>
                  <a:lnTo>
                    <a:pt x="423" y="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0" name=""/>
          <p:cNvSpPr/>
          <p:nvPr/>
        </p:nvSpPr>
        <p:spPr>
          <a:xfrm>
            <a:off x="1868040" y="2014560"/>
            <a:ext cx="34056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167200" y="2065320"/>
            <a:ext cx="1486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318760" y="2065320"/>
            <a:ext cx="2232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535840" y="2065320"/>
            <a:ext cx="84492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4" name="" descr=""/>
          <p:cNvPicPr/>
          <p:nvPr/>
        </p:nvPicPr>
        <p:blipFill>
          <a:blip r:embed="rId1"/>
          <a:stretch/>
        </p:blipFill>
        <p:spPr>
          <a:xfrm>
            <a:off x="4870440" y="228600"/>
            <a:ext cx="4502160" cy="3594240"/>
          </a:xfrm>
          <a:prstGeom prst="rect">
            <a:avLst/>
          </a:prstGeom>
          <a:ln w="0">
            <a:noFill/>
          </a:ln>
        </p:spPr>
      </p:pic>
      <p:grpSp>
        <p:nvGrpSpPr>
          <p:cNvPr id="1125" name=""/>
          <p:cNvGrpSpPr/>
          <p:nvPr/>
        </p:nvGrpSpPr>
        <p:grpSpPr>
          <a:xfrm>
            <a:off x="880920" y="4349880"/>
            <a:ext cx="136800" cy="3051000"/>
            <a:chOff x="880920" y="4349880"/>
            <a:chExt cx="136800" cy="3051000"/>
          </a:xfrm>
        </p:grpSpPr>
        <p:sp>
          <p:nvSpPr>
            <p:cNvPr id="1126" name=""/>
            <p:cNvSpPr/>
            <p:nvPr/>
          </p:nvSpPr>
          <p:spPr>
            <a:xfrm>
              <a:off x="932040" y="4484520"/>
              <a:ext cx="34920" cy="2916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880920" y="4349880"/>
              <a:ext cx="136800" cy="136440"/>
            </a:xfrm>
            <a:custGeom>
              <a:avLst/>
              <a:gdLst/>
              <a:ahLst/>
              <a:rect l="l" t="t" r="r" b="b"/>
              <a:pathLst>
                <a:path w="172" h="172">
                  <a:moveTo>
                    <a:pt x="172" y="172"/>
                  </a:moveTo>
                  <a:lnTo>
                    <a:pt x="85" y="0"/>
                  </a:lnTo>
                  <a:lnTo>
                    <a:pt x="0" y="172"/>
                  </a:lnTo>
                  <a:lnTo>
                    <a:pt x="172" y="17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8" name=""/>
          <p:cNvGrpSpPr/>
          <p:nvPr/>
        </p:nvGrpSpPr>
        <p:grpSpPr>
          <a:xfrm>
            <a:off x="949320" y="7332840"/>
            <a:ext cx="3225960" cy="136440"/>
            <a:chOff x="949320" y="7332840"/>
            <a:chExt cx="3225960" cy="136440"/>
          </a:xfrm>
        </p:grpSpPr>
        <p:sp>
          <p:nvSpPr>
            <p:cNvPr id="1129" name=""/>
            <p:cNvSpPr/>
            <p:nvPr/>
          </p:nvSpPr>
          <p:spPr>
            <a:xfrm>
              <a:off x="949320" y="7383600"/>
              <a:ext cx="3092400" cy="33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038480" y="7332840"/>
              <a:ext cx="136800" cy="136440"/>
            </a:xfrm>
            <a:custGeom>
              <a:avLst/>
              <a:gdLst/>
              <a:ahLst/>
              <a:rect l="l" t="t" r="r" b="b"/>
              <a:pathLst>
                <a:path w="172" h="172">
                  <a:moveTo>
                    <a:pt x="0" y="172"/>
                  </a:moveTo>
                  <a:lnTo>
                    <a:pt x="172" y="85"/>
                  </a:lnTo>
                  <a:lnTo>
                    <a:pt x="0" y="0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1" name=""/>
          <p:cNvGrpSpPr/>
          <p:nvPr/>
        </p:nvGrpSpPr>
        <p:grpSpPr>
          <a:xfrm>
            <a:off x="2251080" y="4000680"/>
            <a:ext cx="2014560" cy="2301840"/>
            <a:chOff x="2251080" y="4000680"/>
            <a:chExt cx="2014560" cy="2301840"/>
          </a:xfrm>
        </p:grpSpPr>
        <p:sp>
          <p:nvSpPr>
            <p:cNvPr id="1132" name=""/>
            <p:cNvSpPr/>
            <p:nvPr/>
          </p:nvSpPr>
          <p:spPr>
            <a:xfrm>
              <a:off x="2251080" y="4000680"/>
              <a:ext cx="34920" cy="3492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41" y="0"/>
                  </a:moveTo>
                  <a:lnTo>
                    <a:pt x="0" y="1"/>
                  </a:lnTo>
                  <a:lnTo>
                    <a:pt x="2" y="27"/>
                  </a:lnTo>
                  <a:lnTo>
                    <a:pt x="3" y="28"/>
                  </a:lnTo>
                  <a:lnTo>
                    <a:pt x="4" y="43"/>
                  </a:lnTo>
                  <a:lnTo>
                    <a:pt x="44" y="38"/>
                  </a:lnTo>
                  <a:lnTo>
                    <a:pt x="42" y="23"/>
                  </a:lnTo>
                  <a:lnTo>
                    <a:pt x="22" y="26"/>
                  </a:lnTo>
                  <a:lnTo>
                    <a:pt x="42" y="26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257560" y="4062240"/>
              <a:ext cx="36360" cy="3492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0" y="0"/>
                  </a:moveTo>
                  <a:lnTo>
                    <a:pt x="0" y="7"/>
                  </a:lnTo>
                  <a:lnTo>
                    <a:pt x="2" y="14"/>
                  </a:lnTo>
                  <a:lnTo>
                    <a:pt x="21" y="1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22"/>
                  </a:lnTo>
                  <a:lnTo>
                    <a:pt x="6" y="29"/>
                  </a:lnTo>
                  <a:lnTo>
                    <a:pt x="7" y="29"/>
                  </a:lnTo>
                  <a:lnTo>
                    <a:pt x="10" y="31"/>
                  </a:lnTo>
                  <a:lnTo>
                    <a:pt x="23" y="16"/>
                  </a:lnTo>
                  <a:lnTo>
                    <a:pt x="3" y="16"/>
                  </a:lnTo>
                  <a:lnTo>
                    <a:pt x="5" y="25"/>
                  </a:lnTo>
                  <a:lnTo>
                    <a:pt x="9" y="31"/>
                  </a:lnTo>
                  <a:lnTo>
                    <a:pt x="3" y="16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3" y="29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5" y="40"/>
                  </a:lnTo>
                  <a:lnTo>
                    <a:pt x="6" y="45"/>
                  </a:lnTo>
                  <a:lnTo>
                    <a:pt x="25" y="40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45" y="44"/>
                  </a:lnTo>
                  <a:lnTo>
                    <a:pt x="45" y="40"/>
                  </a:lnTo>
                  <a:lnTo>
                    <a:pt x="45" y="40"/>
                  </a:lnTo>
                  <a:lnTo>
                    <a:pt x="45" y="35"/>
                  </a:lnTo>
                  <a:lnTo>
                    <a:pt x="44" y="30"/>
                  </a:lnTo>
                  <a:lnTo>
                    <a:pt x="23" y="34"/>
                  </a:lnTo>
                  <a:lnTo>
                    <a:pt x="44" y="34"/>
                  </a:lnTo>
                  <a:lnTo>
                    <a:pt x="44" y="29"/>
                  </a:lnTo>
                  <a:lnTo>
                    <a:pt x="44" y="26"/>
                  </a:lnTo>
                  <a:lnTo>
                    <a:pt x="44" y="23"/>
                  </a:lnTo>
                  <a:lnTo>
                    <a:pt x="44" y="21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42" y="8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36" y="0"/>
                  </a:lnTo>
                  <a:lnTo>
                    <a:pt x="41" y="14"/>
                  </a:lnTo>
                  <a:lnTo>
                    <a:pt x="40" y="6"/>
                  </a:lnTo>
                  <a:lnTo>
                    <a:pt x="36" y="0"/>
                  </a:lnTo>
                  <a:lnTo>
                    <a:pt x="21" y="14"/>
                  </a:lnTo>
                  <a:lnTo>
                    <a:pt x="41" y="14"/>
                  </a:lnTo>
                  <a:lnTo>
                    <a:pt x="41" y="10"/>
                  </a:lnTo>
                  <a:lnTo>
                    <a:pt x="41" y="7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265480" y="4125960"/>
              <a:ext cx="34920" cy="38160"/>
            </a:xfrm>
            <a:custGeom>
              <a:avLst/>
              <a:gdLst/>
              <a:ahLst/>
              <a:rect l="l" t="t" r="r" b="b"/>
              <a:pathLst>
                <a:path w="45" h="48">
                  <a:moveTo>
                    <a:pt x="39" y="0"/>
                  </a:moveTo>
                  <a:lnTo>
                    <a:pt x="0" y="6"/>
                  </a:lnTo>
                  <a:lnTo>
                    <a:pt x="3" y="16"/>
                  </a:lnTo>
                  <a:lnTo>
                    <a:pt x="22" y="14"/>
                  </a:lnTo>
                  <a:lnTo>
                    <a:pt x="3" y="16"/>
                  </a:lnTo>
                  <a:lnTo>
                    <a:pt x="5" y="41"/>
                  </a:lnTo>
                  <a:lnTo>
                    <a:pt x="5" y="42"/>
                  </a:lnTo>
                  <a:lnTo>
                    <a:pt x="5" y="48"/>
                  </a:lnTo>
                  <a:lnTo>
                    <a:pt x="45" y="39"/>
                  </a:lnTo>
                  <a:lnTo>
                    <a:pt x="45" y="34"/>
                  </a:lnTo>
                  <a:lnTo>
                    <a:pt x="24" y="38"/>
                  </a:lnTo>
                  <a:lnTo>
                    <a:pt x="45" y="37"/>
                  </a:lnTo>
                  <a:lnTo>
                    <a:pt x="42" y="12"/>
                  </a:lnTo>
                  <a:lnTo>
                    <a:pt x="42" y="1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276640" y="4189320"/>
              <a:ext cx="36360" cy="3672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40" y="0"/>
                  </a:moveTo>
                  <a:lnTo>
                    <a:pt x="0" y="7"/>
                  </a:lnTo>
                  <a:lnTo>
                    <a:pt x="3" y="15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48" y="39"/>
                  </a:lnTo>
                  <a:lnTo>
                    <a:pt x="48" y="39"/>
                  </a:lnTo>
                  <a:lnTo>
                    <a:pt x="42" y="8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287440" y="4251240"/>
              <a:ext cx="38160" cy="3816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40" y="0"/>
                  </a:moveTo>
                  <a:lnTo>
                    <a:pt x="0" y="9"/>
                  </a:lnTo>
                  <a:lnTo>
                    <a:pt x="7" y="34"/>
                  </a:lnTo>
                  <a:lnTo>
                    <a:pt x="26" y="28"/>
                  </a:lnTo>
                  <a:lnTo>
                    <a:pt x="7" y="31"/>
                  </a:lnTo>
                  <a:lnTo>
                    <a:pt x="9" y="47"/>
                  </a:lnTo>
                  <a:lnTo>
                    <a:pt x="48" y="42"/>
                  </a:lnTo>
                  <a:lnTo>
                    <a:pt x="46" y="25"/>
                  </a:lnTo>
                  <a:lnTo>
                    <a:pt x="46" y="2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300400" y="4316400"/>
              <a:ext cx="36360" cy="3816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40" y="0"/>
                  </a:moveTo>
                  <a:lnTo>
                    <a:pt x="0" y="7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8" y="47"/>
                  </a:lnTo>
                  <a:lnTo>
                    <a:pt x="48" y="39"/>
                  </a:lnTo>
                  <a:lnTo>
                    <a:pt x="44" y="18"/>
                  </a:lnTo>
                  <a:lnTo>
                    <a:pt x="23" y="22"/>
                  </a:lnTo>
                  <a:lnTo>
                    <a:pt x="44" y="19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313000" y="4378320"/>
              <a:ext cx="36360" cy="3816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39" y="0"/>
                  </a:moveTo>
                  <a:lnTo>
                    <a:pt x="0" y="8"/>
                  </a:lnTo>
                  <a:lnTo>
                    <a:pt x="4" y="21"/>
                  </a:lnTo>
                  <a:lnTo>
                    <a:pt x="23" y="17"/>
                  </a:lnTo>
                  <a:lnTo>
                    <a:pt x="4" y="21"/>
                  </a:lnTo>
                  <a:lnTo>
                    <a:pt x="8" y="47"/>
                  </a:lnTo>
                  <a:lnTo>
                    <a:pt x="47" y="40"/>
                  </a:lnTo>
                  <a:lnTo>
                    <a:pt x="43" y="15"/>
                  </a:lnTo>
                  <a:lnTo>
                    <a:pt x="43" y="1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325600" y="4441680"/>
              <a:ext cx="38160" cy="38160"/>
            </a:xfrm>
            <a:custGeom>
              <a:avLst/>
              <a:gdLst/>
              <a:ahLst/>
              <a:rect l="l" t="t" r="r" b="b"/>
              <a:pathLst>
                <a:path w="49" h="47">
                  <a:moveTo>
                    <a:pt x="39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9" y="47"/>
                  </a:lnTo>
                  <a:lnTo>
                    <a:pt x="49" y="39"/>
                  </a:lnTo>
                  <a:lnTo>
                    <a:pt x="42" y="8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340000" y="4505400"/>
              <a:ext cx="36360" cy="381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39" y="0"/>
                  </a:moveTo>
                  <a:lnTo>
                    <a:pt x="0" y="6"/>
                  </a:lnTo>
                  <a:lnTo>
                    <a:pt x="7" y="42"/>
                  </a:lnTo>
                  <a:lnTo>
                    <a:pt x="7" y="43"/>
                  </a:lnTo>
                  <a:lnTo>
                    <a:pt x="8" y="47"/>
                  </a:lnTo>
                  <a:lnTo>
                    <a:pt x="46" y="37"/>
                  </a:lnTo>
                  <a:lnTo>
                    <a:pt x="44" y="33"/>
                  </a:lnTo>
                  <a:lnTo>
                    <a:pt x="25" y="37"/>
                  </a:lnTo>
                  <a:lnTo>
                    <a:pt x="46" y="35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354400" y="4568760"/>
              <a:ext cx="37800" cy="381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0" y="0"/>
                  </a:moveTo>
                  <a:lnTo>
                    <a:pt x="0" y="8"/>
                  </a:lnTo>
                  <a:lnTo>
                    <a:pt x="7" y="38"/>
                  </a:lnTo>
                  <a:lnTo>
                    <a:pt x="7" y="39"/>
                  </a:lnTo>
                  <a:lnTo>
                    <a:pt x="10" y="49"/>
                  </a:lnTo>
                  <a:lnTo>
                    <a:pt x="48" y="38"/>
                  </a:lnTo>
                  <a:lnTo>
                    <a:pt x="45" y="29"/>
                  </a:lnTo>
                  <a:lnTo>
                    <a:pt x="26" y="34"/>
                  </a:lnTo>
                  <a:lnTo>
                    <a:pt x="46" y="3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370240" y="4629240"/>
              <a:ext cx="39600" cy="3960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38" y="0"/>
                  </a:moveTo>
                  <a:lnTo>
                    <a:pt x="0" y="11"/>
                  </a:lnTo>
                  <a:lnTo>
                    <a:pt x="8" y="41"/>
                  </a:lnTo>
                  <a:lnTo>
                    <a:pt x="27" y="36"/>
                  </a:lnTo>
                  <a:lnTo>
                    <a:pt x="8" y="41"/>
                  </a:lnTo>
                  <a:lnTo>
                    <a:pt x="9" y="49"/>
                  </a:lnTo>
                  <a:lnTo>
                    <a:pt x="48" y="40"/>
                  </a:lnTo>
                  <a:lnTo>
                    <a:pt x="47" y="32"/>
                  </a:lnTo>
                  <a:lnTo>
                    <a:pt x="46" y="3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386080" y="4691160"/>
              <a:ext cx="39600" cy="4104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39" y="0"/>
                  </a:moveTo>
                  <a:lnTo>
                    <a:pt x="0" y="9"/>
                  </a:lnTo>
                  <a:lnTo>
                    <a:pt x="8" y="39"/>
                  </a:lnTo>
                  <a:lnTo>
                    <a:pt x="8" y="41"/>
                  </a:lnTo>
                  <a:lnTo>
                    <a:pt x="12" y="50"/>
                  </a:lnTo>
                  <a:lnTo>
                    <a:pt x="50" y="38"/>
                  </a:lnTo>
                  <a:lnTo>
                    <a:pt x="46" y="28"/>
                  </a:lnTo>
                  <a:lnTo>
                    <a:pt x="27" y="34"/>
                  </a:lnTo>
                  <a:lnTo>
                    <a:pt x="47" y="3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403360" y="4754520"/>
              <a:ext cx="39960" cy="381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38" y="0"/>
                  </a:moveTo>
                  <a:lnTo>
                    <a:pt x="0" y="10"/>
                  </a:lnTo>
                  <a:lnTo>
                    <a:pt x="8" y="36"/>
                  </a:lnTo>
                  <a:lnTo>
                    <a:pt x="27" y="31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48" y="39"/>
                  </a:lnTo>
                  <a:lnTo>
                    <a:pt x="46" y="27"/>
                  </a:lnTo>
                  <a:lnTo>
                    <a:pt x="46" y="2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422440" y="4815000"/>
              <a:ext cx="38160" cy="4104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38" y="0"/>
                  </a:moveTo>
                  <a:lnTo>
                    <a:pt x="0" y="12"/>
                  </a:lnTo>
                  <a:lnTo>
                    <a:pt x="5" y="32"/>
                  </a:lnTo>
                  <a:lnTo>
                    <a:pt x="10" y="51"/>
                  </a:lnTo>
                  <a:lnTo>
                    <a:pt x="48" y="39"/>
                  </a:lnTo>
                  <a:lnTo>
                    <a:pt x="43" y="2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440080" y="4878360"/>
              <a:ext cx="39600" cy="396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38" y="0"/>
                  </a:moveTo>
                  <a:lnTo>
                    <a:pt x="0" y="11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11" y="41"/>
                  </a:lnTo>
                  <a:lnTo>
                    <a:pt x="14" y="51"/>
                  </a:lnTo>
                  <a:lnTo>
                    <a:pt x="52" y="37"/>
                  </a:lnTo>
                  <a:lnTo>
                    <a:pt x="49" y="28"/>
                  </a:lnTo>
                  <a:lnTo>
                    <a:pt x="40" y="2"/>
                  </a:lnTo>
                  <a:lnTo>
                    <a:pt x="21" y="9"/>
                  </a:lnTo>
                  <a:lnTo>
                    <a:pt x="40" y="3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462040" y="4937040"/>
              <a:ext cx="41400" cy="4140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38" y="0"/>
                  </a:moveTo>
                  <a:lnTo>
                    <a:pt x="0" y="13"/>
                  </a:lnTo>
                  <a:lnTo>
                    <a:pt x="5" y="27"/>
                  </a:lnTo>
                  <a:lnTo>
                    <a:pt x="5" y="28"/>
                  </a:lnTo>
                  <a:lnTo>
                    <a:pt x="13" y="50"/>
                  </a:lnTo>
                  <a:lnTo>
                    <a:pt x="13" y="50"/>
                  </a:lnTo>
                  <a:lnTo>
                    <a:pt x="15" y="53"/>
                  </a:lnTo>
                  <a:lnTo>
                    <a:pt x="53" y="37"/>
                  </a:lnTo>
                  <a:lnTo>
                    <a:pt x="51" y="34"/>
                  </a:lnTo>
                  <a:lnTo>
                    <a:pt x="32" y="42"/>
                  </a:lnTo>
                  <a:lnTo>
                    <a:pt x="51" y="35"/>
                  </a:lnTo>
                  <a:lnTo>
                    <a:pt x="43" y="13"/>
                  </a:lnTo>
                  <a:lnTo>
                    <a:pt x="24" y="20"/>
                  </a:lnTo>
                  <a:lnTo>
                    <a:pt x="43" y="13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486160" y="4997520"/>
              <a:ext cx="41040" cy="41040"/>
            </a:xfrm>
            <a:custGeom>
              <a:avLst/>
              <a:gdLst/>
              <a:ahLst/>
              <a:rect l="l" t="t" r="r" b="b"/>
              <a:pathLst>
                <a:path w="51" h="53">
                  <a:moveTo>
                    <a:pt x="37" y="0"/>
                  </a:moveTo>
                  <a:lnTo>
                    <a:pt x="0" y="15"/>
                  </a:lnTo>
                  <a:lnTo>
                    <a:pt x="2" y="22"/>
                  </a:lnTo>
                  <a:lnTo>
                    <a:pt x="21" y="13"/>
                  </a:lnTo>
                  <a:lnTo>
                    <a:pt x="2" y="20"/>
                  </a:lnTo>
                  <a:lnTo>
                    <a:pt x="12" y="47"/>
                  </a:lnTo>
                  <a:lnTo>
                    <a:pt x="12" y="49"/>
                  </a:lnTo>
                  <a:lnTo>
                    <a:pt x="13" y="53"/>
                  </a:lnTo>
                  <a:lnTo>
                    <a:pt x="51" y="38"/>
                  </a:lnTo>
                  <a:lnTo>
                    <a:pt x="50" y="34"/>
                  </a:lnTo>
                  <a:lnTo>
                    <a:pt x="31" y="40"/>
                  </a:lnTo>
                  <a:lnTo>
                    <a:pt x="50" y="34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509920" y="5056200"/>
              <a:ext cx="42840" cy="4284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36" y="0"/>
                  </a:moveTo>
                  <a:lnTo>
                    <a:pt x="0" y="18"/>
                  </a:lnTo>
                  <a:lnTo>
                    <a:pt x="6" y="33"/>
                  </a:lnTo>
                  <a:lnTo>
                    <a:pt x="24" y="23"/>
                  </a:lnTo>
                  <a:lnTo>
                    <a:pt x="6" y="31"/>
                  </a:lnTo>
                  <a:lnTo>
                    <a:pt x="16" y="54"/>
                  </a:lnTo>
                  <a:lnTo>
                    <a:pt x="53" y="38"/>
                  </a:lnTo>
                  <a:lnTo>
                    <a:pt x="43" y="15"/>
                  </a:lnTo>
                  <a:lnTo>
                    <a:pt x="43" y="1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535120" y="5114880"/>
              <a:ext cx="41400" cy="428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38" y="0"/>
                  </a:moveTo>
                  <a:lnTo>
                    <a:pt x="0" y="15"/>
                  </a:lnTo>
                  <a:lnTo>
                    <a:pt x="11" y="43"/>
                  </a:lnTo>
                  <a:lnTo>
                    <a:pt x="15" y="53"/>
                  </a:lnTo>
                  <a:lnTo>
                    <a:pt x="53" y="38"/>
                  </a:lnTo>
                  <a:lnTo>
                    <a:pt x="49" y="2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560680" y="5175360"/>
              <a:ext cx="42840" cy="410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37" y="0"/>
                  </a:moveTo>
                  <a:lnTo>
                    <a:pt x="0" y="18"/>
                  </a:lnTo>
                  <a:lnTo>
                    <a:pt x="6" y="29"/>
                  </a:lnTo>
                  <a:lnTo>
                    <a:pt x="23" y="19"/>
                  </a:lnTo>
                  <a:lnTo>
                    <a:pt x="4" y="28"/>
                  </a:lnTo>
                  <a:lnTo>
                    <a:pt x="15" y="53"/>
                  </a:lnTo>
                  <a:lnTo>
                    <a:pt x="53" y="38"/>
                  </a:lnTo>
                  <a:lnTo>
                    <a:pt x="42" y="13"/>
                  </a:lnTo>
                  <a:lnTo>
                    <a:pt x="42" y="1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585880" y="5234040"/>
              <a:ext cx="4320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7" y="0"/>
                  </a:moveTo>
                  <a:lnTo>
                    <a:pt x="0" y="16"/>
                  </a:lnTo>
                  <a:lnTo>
                    <a:pt x="6" y="32"/>
                  </a:lnTo>
                  <a:lnTo>
                    <a:pt x="8" y="35"/>
                  </a:lnTo>
                  <a:lnTo>
                    <a:pt x="18" y="54"/>
                  </a:lnTo>
                  <a:lnTo>
                    <a:pt x="54" y="34"/>
                  </a:lnTo>
                  <a:lnTo>
                    <a:pt x="43" y="15"/>
                  </a:lnTo>
                  <a:lnTo>
                    <a:pt x="25" y="24"/>
                  </a:lnTo>
                  <a:lnTo>
                    <a:pt x="44" y="1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611440" y="5292720"/>
              <a:ext cx="41400" cy="428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38" y="0"/>
                  </a:moveTo>
                  <a:lnTo>
                    <a:pt x="0" y="15"/>
                  </a:lnTo>
                  <a:lnTo>
                    <a:pt x="5" y="29"/>
                  </a:lnTo>
                  <a:lnTo>
                    <a:pt x="15" y="53"/>
                  </a:lnTo>
                  <a:lnTo>
                    <a:pt x="53" y="38"/>
                  </a:lnTo>
                  <a:lnTo>
                    <a:pt x="43" y="14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638440" y="5353200"/>
              <a:ext cx="41400" cy="410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38" y="0"/>
                  </a:moveTo>
                  <a:lnTo>
                    <a:pt x="0" y="15"/>
                  </a:lnTo>
                  <a:lnTo>
                    <a:pt x="7" y="34"/>
                  </a:lnTo>
                  <a:lnTo>
                    <a:pt x="8" y="34"/>
                  </a:lnTo>
                  <a:lnTo>
                    <a:pt x="16" y="53"/>
                  </a:lnTo>
                  <a:lnTo>
                    <a:pt x="53" y="37"/>
                  </a:lnTo>
                  <a:lnTo>
                    <a:pt x="45" y="18"/>
                  </a:lnTo>
                  <a:lnTo>
                    <a:pt x="26" y="26"/>
                  </a:lnTo>
                  <a:lnTo>
                    <a:pt x="45" y="19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664000" y="5410080"/>
              <a:ext cx="42840" cy="4284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36" y="0"/>
                  </a:moveTo>
                  <a:lnTo>
                    <a:pt x="0" y="18"/>
                  </a:lnTo>
                  <a:lnTo>
                    <a:pt x="14" y="45"/>
                  </a:lnTo>
                  <a:lnTo>
                    <a:pt x="32" y="35"/>
                  </a:lnTo>
                  <a:lnTo>
                    <a:pt x="13" y="42"/>
                  </a:lnTo>
                  <a:lnTo>
                    <a:pt x="17" y="53"/>
                  </a:lnTo>
                  <a:lnTo>
                    <a:pt x="55" y="39"/>
                  </a:lnTo>
                  <a:lnTo>
                    <a:pt x="50" y="29"/>
                  </a:lnTo>
                  <a:lnTo>
                    <a:pt x="49" y="2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690640" y="5468760"/>
              <a:ext cx="41400" cy="43200"/>
            </a:xfrm>
            <a:custGeom>
              <a:avLst/>
              <a:gdLst/>
              <a:ahLst/>
              <a:rect l="l" t="t" r="r" b="b"/>
              <a:pathLst>
                <a:path w="52" h="56">
                  <a:moveTo>
                    <a:pt x="35" y="0"/>
                  </a:moveTo>
                  <a:lnTo>
                    <a:pt x="0" y="19"/>
                  </a:lnTo>
                  <a:lnTo>
                    <a:pt x="3" y="26"/>
                  </a:lnTo>
                  <a:lnTo>
                    <a:pt x="21" y="17"/>
                  </a:lnTo>
                  <a:lnTo>
                    <a:pt x="2" y="25"/>
                  </a:lnTo>
                  <a:lnTo>
                    <a:pt x="12" y="51"/>
                  </a:lnTo>
                  <a:lnTo>
                    <a:pt x="14" y="52"/>
                  </a:lnTo>
                  <a:lnTo>
                    <a:pt x="16" y="56"/>
                  </a:lnTo>
                  <a:lnTo>
                    <a:pt x="52" y="38"/>
                  </a:lnTo>
                  <a:lnTo>
                    <a:pt x="49" y="34"/>
                  </a:lnTo>
                  <a:lnTo>
                    <a:pt x="31" y="42"/>
                  </a:lnTo>
                  <a:lnTo>
                    <a:pt x="50" y="34"/>
                  </a:lnTo>
                  <a:lnTo>
                    <a:pt x="40" y="8"/>
                  </a:lnTo>
                  <a:lnTo>
                    <a:pt x="38" y="7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716200" y="5529240"/>
              <a:ext cx="42840" cy="41400"/>
            </a:xfrm>
            <a:custGeom>
              <a:avLst/>
              <a:gdLst/>
              <a:ahLst/>
              <a:rect l="l" t="t" r="r" b="b"/>
              <a:pathLst>
                <a:path w="55" h="51">
                  <a:moveTo>
                    <a:pt x="38" y="0"/>
                  </a:moveTo>
                  <a:lnTo>
                    <a:pt x="0" y="13"/>
                  </a:lnTo>
                  <a:lnTo>
                    <a:pt x="2" y="19"/>
                  </a:lnTo>
                  <a:lnTo>
                    <a:pt x="3" y="23"/>
                  </a:lnTo>
                  <a:lnTo>
                    <a:pt x="14" y="42"/>
                  </a:lnTo>
                  <a:lnTo>
                    <a:pt x="32" y="31"/>
                  </a:lnTo>
                  <a:lnTo>
                    <a:pt x="14" y="39"/>
                  </a:lnTo>
                  <a:lnTo>
                    <a:pt x="18" y="51"/>
                  </a:lnTo>
                  <a:lnTo>
                    <a:pt x="55" y="35"/>
                  </a:lnTo>
                  <a:lnTo>
                    <a:pt x="50" y="23"/>
                  </a:lnTo>
                  <a:lnTo>
                    <a:pt x="49" y="21"/>
                  </a:lnTo>
                  <a:lnTo>
                    <a:pt x="38" y="2"/>
                  </a:lnTo>
                  <a:lnTo>
                    <a:pt x="21" y="12"/>
                  </a:lnTo>
                  <a:lnTo>
                    <a:pt x="40" y="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743200" y="5586480"/>
              <a:ext cx="44280" cy="44280"/>
            </a:xfrm>
            <a:custGeom>
              <a:avLst/>
              <a:gdLst/>
              <a:ahLst/>
              <a:rect l="l" t="t" r="r" b="b"/>
              <a:pathLst>
                <a:path w="55" h="57">
                  <a:moveTo>
                    <a:pt x="38" y="1"/>
                  </a:moveTo>
                  <a:lnTo>
                    <a:pt x="0" y="18"/>
                  </a:lnTo>
                  <a:lnTo>
                    <a:pt x="0" y="19"/>
                  </a:lnTo>
                  <a:lnTo>
                    <a:pt x="2" y="22"/>
                  </a:lnTo>
                  <a:lnTo>
                    <a:pt x="12" y="37"/>
                  </a:lnTo>
                  <a:lnTo>
                    <a:pt x="28" y="26"/>
                  </a:lnTo>
                  <a:lnTo>
                    <a:pt x="10" y="34"/>
                  </a:lnTo>
                  <a:lnTo>
                    <a:pt x="19" y="53"/>
                  </a:lnTo>
                  <a:lnTo>
                    <a:pt x="20" y="57"/>
                  </a:lnTo>
                  <a:lnTo>
                    <a:pt x="21" y="57"/>
                  </a:lnTo>
                  <a:lnTo>
                    <a:pt x="54" y="34"/>
                  </a:lnTo>
                  <a:lnTo>
                    <a:pt x="52" y="34"/>
                  </a:lnTo>
                  <a:lnTo>
                    <a:pt x="36" y="45"/>
                  </a:lnTo>
                  <a:lnTo>
                    <a:pt x="55" y="37"/>
                  </a:lnTo>
                  <a:lnTo>
                    <a:pt x="47" y="18"/>
                  </a:lnTo>
                  <a:lnTo>
                    <a:pt x="46" y="15"/>
                  </a:lnTo>
                  <a:lnTo>
                    <a:pt x="36" y="0"/>
                  </a:lnTo>
                  <a:lnTo>
                    <a:pt x="19" y="11"/>
                  </a:lnTo>
                  <a:lnTo>
                    <a:pt x="38" y="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776680" y="5641920"/>
              <a:ext cx="44280" cy="44640"/>
            </a:xfrm>
            <a:custGeom>
              <a:avLst/>
              <a:gdLst/>
              <a:ahLst/>
              <a:rect l="l" t="t" r="r" b="b"/>
              <a:pathLst>
                <a:path w="57" h="54">
                  <a:moveTo>
                    <a:pt x="35" y="0"/>
                  </a:moveTo>
                  <a:lnTo>
                    <a:pt x="0" y="18"/>
                  </a:lnTo>
                  <a:lnTo>
                    <a:pt x="2" y="22"/>
                  </a:lnTo>
                  <a:lnTo>
                    <a:pt x="3" y="23"/>
                  </a:lnTo>
                  <a:lnTo>
                    <a:pt x="16" y="43"/>
                  </a:lnTo>
                  <a:lnTo>
                    <a:pt x="33" y="32"/>
                  </a:lnTo>
                  <a:lnTo>
                    <a:pt x="15" y="43"/>
                  </a:lnTo>
                  <a:lnTo>
                    <a:pt x="22" y="54"/>
                  </a:lnTo>
                  <a:lnTo>
                    <a:pt x="57" y="34"/>
                  </a:lnTo>
                  <a:lnTo>
                    <a:pt x="50" y="23"/>
                  </a:lnTo>
                  <a:lnTo>
                    <a:pt x="49" y="22"/>
                  </a:lnTo>
                  <a:lnTo>
                    <a:pt x="35" y="1"/>
                  </a:lnTo>
                  <a:lnTo>
                    <a:pt x="19" y="12"/>
                  </a:lnTo>
                  <a:lnTo>
                    <a:pt x="37" y="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811600" y="5695920"/>
              <a:ext cx="44280" cy="4284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34" y="0"/>
                  </a:moveTo>
                  <a:lnTo>
                    <a:pt x="0" y="21"/>
                  </a:lnTo>
                  <a:lnTo>
                    <a:pt x="12" y="41"/>
                  </a:lnTo>
                  <a:lnTo>
                    <a:pt x="12" y="42"/>
                  </a:lnTo>
                  <a:lnTo>
                    <a:pt x="23" y="56"/>
                  </a:lnTo>
                  <a:lnTo>
                    <a:pt x="55" y="33"/>
                  </a:lnTo>
                  <a:lnTo>
                    <a:pt x="45" y="19"/>
                  </a:lnTo>
                  <a:lnTo>
                    <a:pt x="28" y="30"/>
                  </a:lnTo>
                  <a:lnTo>
                    <a:pt x="46" y="2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846520" y="5748480"/>
              <a:ext cx="44280" cy="44280"/>
            </a:xfrm>
            <a:custGeom>
              <a:avLst/>
              <a:gdLst/>
              <a:ahLst/>
              <a:rect l="l" t="t" r="r" b="b"/>
              <a:pathLst>
                <a:path w="55" h="57">
                  <a:moveTo>
                    <a:pt x="31" y="0"/>
                  </a:moveTo>
                  <a:lnTo>
                    <a:pt x="0" y="24"/>
                  </a:lnTo>
                  <a:lnTo>
                    <a:pt x="10" y="36"/>
                  </a:lnTo>
                  <a:lnTo>
                    <a:pt x="25" y="24"/>
                  </a:lnTo>
                  <a:lnTo>
                    <a:pt x="9" y="35"/>
                  </a:lnTo>
                  <a:lnTo>
                    <a:pt x="23" y="55"/>
                  </a:lnTo>
                  <a:lnTo>
                    <a:pt x="24" y="57"/>
                  </a:lnTo>
                  <a:lnTo>
                    <a:pt x="24" y="57"/>
                  </a:lnTo>
                  <a:lnTo>
                    <a:pt x="55" y="32"/>
                  </a:lnTo>
                  <a:lnTo>
                    <a:pt x="55" y="32"/>
                  </a:lnTo>
                  <a:lnTo>
                    <a:pt x="39" y="44"/>
                  </a:lnTo>
                  <a:lnTo>
                    <a:pt x="55" y="34"/>
                  </a:lnTo>
                  <a:lnTo>
                    <a:pt x="42" y="13"/>
                  </a:lnTo>
                  <a:lnTo>
                    <a:pt x="42" y="1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884320" y="5799240"/>
              <a:ext cx="47880" cy="44280"/>
            </a:xfrm>
            <a:custGeom>
              <a:avLst/>
              <a:gdLst/>
              <a:ahLst/>
              <a:rect l="l" t="t" r="r" b="b"/>
              <a:pathLst>
                <a:path w="60" h="55">
                  <a:moveTo>
                    <a:pt x="33" y="0"/>
                  </a:moveTo>
                  <a:lnTo>
                    <a:pt x="0" y="24"/>
                  </a:lnTo>
                  <a:lnTo>
                    <a:pt x="1" y="25"/>
                  </a:lnTo>
                  <a:lnTo>
                    <a:pt x="3" y="27"/>
                  </a:lnTo>
                  <a:lnTo>
                    <a:pt x="16" y="42"/>
                  </a:lnTo>
                  <a:lnTo>
                    <a:pt x="31" y="28"/>
                  </a:lnTo>
                  <a:lnTo>
                    <a:pt x="15" y="40"/>
                  </a:lnTo>
                  <a:lnTo>
                    <a:pt x="27" y="55"/>
                  </a:lnTo>
                  <a:lnTo>
                    <a:pt x="60" y="31"/>
                  </a:lnTo>
                  <a:lnTo>
                    <a:pt x="47" y="16"/>
                  </a:lnTo>
                  <a:lnTo>
                    <a:pt x="46" y="15"/>
                  </a:lnTo>
                  <a:lnTo>
                    <a:pt x="33" y="0"/>
                  </a:lnTo>
                  <a:lnTo>
                    <a:pt x="18" y="13"/>
                  </a:lnTo>
                  <a:lnTo>
                    <a:pt x="34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925720" y="5850000"/>
              <a:ext cx="47520" cy="42840"/>
            </a:xfrm>
            <a:custGeom>
              <a:avLst/>
              <a:gdLst/>
              <a:ahLst/>
              <a:rect l="l" t="t" r="r" b="b"/>
              <a:pathLst>
                <a:path w="59" h="56">
                  <a:moveTo>
                    <a:pt x="31" y="0"/>
                  </a:moveTo>
                  <a:lnTo>
                    <a:pt x="0" y="26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20" y="46"/>
                  </a:lnTo>
                  <a:lnTo>
                    <a:pt x="34" y="31"/>
                  </a:lnTo>
                  <a:lnTo>
                    <a:pt x="19" y="45"/>
                  </a:lnTo>
                  <a:lnTo>
                    <a:pt x="28" y="56"/>
                  </a:lnTo>
                  <a:lnTo>
                    <a:pt x="59" y="30"/>
                  </a:lnTo>
                  <a:lnTo>
                    <a:pt x="50" y="19"/>
                  </a:lnTo>
                  <a:lnTo>
                    <a:pt x="49" y="18"/>
                  </a:lnTo>
                  <a:lnTo>
                    <a:pt x="32" y="1"/>
                  </a:lnTo>
                  <a:lnTo>
                    <a:pt x="17" y="15"/>
                  </a:lnTo>
                  <a:lnTo>
                    <a:pt x="34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973240" y="5896080"/>
              <a:ext cx="44640" cy="4428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29" y="0"/>
                  </a:moveTo>
                  <a:lnTo>
                    <a:pt x="0" y="29"/>
                  </a:lnTo>
                  <a:lnTo>
                    <a:pt x="12" y="41"/>
                  </a:lnTo>
                  <a:lnTo>
                    <a:pt x="12" y="41"/>
                  </a:lnTo>
                  <a:lnTo>
                    <a:pt x="30" y="57"/>
                  </a:lnTo>
                  <a:lnTo>
                    <a:pt x="57" y="27"/>
                  </a:lnTo>
                  <a:lnTo>
                    <a:pt x="39" y="11"/>
                  </a:lnTo>
                  <a:lnTo>
                    <a:pt x="26" y="26"/>
                  </a:lnTo>
                  <a:lnTo>
                    <a:pt x="41" y="1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017880" y="5940360"/>
              <a:ext cx="44280" cy="46080"/>
            </a:xfrm>
            <a:custGeom>
              <a:avLst/>
              <a:gdLst/>
              <a:ahLst/>
              <a:rect l="l" t="t" r="r" b="b"/>
              <a:pathLst>
                <a:path w="55" h="57">
                  <a:moveTo>
                    <a:pt x="28" y="0"/>
                  </a:moveTo>
                  <a:lnTo>
                    <a:pt x="0" y="29"/>
                  </a:lnTo>
                  <a:lnTo>
                    <a:pt x="5" y="34"/>
                  </a:lnTo>
                  <a:lnTo>
                    <a:pt x="22" y="50"/>
                  </a:lnTo>
                  <a:lnTo>
                    <a:pt x="23" y="52"/>
                  </a:lnTo>
                  <a:lnTo>
                    <a:pt x="31" y="57"/>
                  </a:lnTo>
                  <a:lnTo>
                    <a:pt x="55" y="26"/>
                  </a:lnTo>
                  <a:lnTo>
                    <a:pt x="47" y="21"/>
                  </a:lnTo>
                  <a:lnTo>
                    <a:pt x="35" y="35"/>
                  </a:lnTo>
                  <a:lnTo>
                    <a:pt x="50" y="22"/>
                  </a:lnTo>
                  <a:lnTo>
                    <a:pt x="34" y="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065400" y="5983200"/>
              <a:ext cx="44640" cy="46080"/>
            </a:xfrm>
            <a:custGeom>
              <a:avLst/>
              <a:gdLst/>
              <a:ahLst/>
              <a:rect l="l" t="t" r="r" b="b"/>
              <a:pathLst>
                <a:path w="55" h="58">
                  <a:moveTo>
                    <a:pt x="26" y="0"/>
                  </a:moveTo>
                  <a:lnTo>
                    <a:pt x="0" y="31"/>
                  </a:lnTo>
                  <a:lnTo>
                    <a:pt x="11" y="41"/>
                  </a:lnTo>
                  <a:lnTo>
                    <a:pt x="23" y="24"/>
                  </a:lnTo>
                  <a:lnTo>
                    <a:pt x="9" y="39"/>
                  </a:lnTo>
                  <a:lnTo>
                    <a:pt x="22" y="50"/>
                  </a:lnTo>
                  <a:lnTo>
                    <a:pt x="26" y="53"/>
                  </a:lnTo>
                  <a:lnTo>
                    <a:pt x="35" y="58"/>
                  </a:lnTo>
                  <a:lnTo>
                    <a:pt x="55" y="24"/>
                  </a:lnTo>
                  <a:lnTo>
                    <a:pt x="46" y="19"/>
                  </a:lnTo>
                  <a:lnTo>
                    <a:pt x="35" y="35"/>
                  </a:lnTo>
                  <a:lnTo>
                    <a:pt x="49" y="2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117960" y="6022800"/>
              <a:ext cx="44280" cy="4320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24" y="0"/>
                  </a:moveTo>
                  <a:lnTo>
                    <a:pt x="0" y="31"/>
                  </a:lnTo>
                  <a:lnTo>
                    <a:pt x="8" y="40"/>
                  </a:lnTo>
                  <a:lnTo>
                    <a:pt x="11" y="41"/>
                  </a:lnTo>
                  <a:lnTo>
                    <a:pt x="24" y="49"/>
                  </a:lnTo>
                  <a:lnTo>
                    <a:pt x="34" y="31"/>
                  </a:lnTo>
                  <a:lnTo>
                    <a:pt x="22" y="46"/>
                  </a:lnTo>
                  <a:lnTo>
                    <a:pt x="31" y="56"/>
                  </a:lnTo>
                  <a:lnTo>
                    <a:pt x="57" y="26"/>
                  </a:lnTo>
                  <a:lnTo>
                    <a:pt x="47" y="17"/>
                  </a:lnTo>
                  <a:lnTo>
                    <a:pt x="45" y="15"/>
                  </a:lnTo>
                  <a:lnTo>
                    <a:pt x="31" y="7"/>
                  </a:lnTo>
                  <a:lnTo>
                    <a:pt x="20" y="23"/>
                  </a:lnTo>
                  <a:lnTo>
                    <a:pt x="32" y="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171960" y="6059520"/>
              <a:ext cx="41040" cy="4608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19" y="0"/>
                  </a:moveTo>
                  <a:lnTo>
                    <a:pt x="0" y="35"/>
                  </a:lnTo>
                  <a:lnTo>
                    <a:pt x="5" y="38"/>
                  </a:lnTo>
                  <a:lnTo>
                    <a:pt x="15" y="20"/>
                  </a:lnTo>
                  <a:lnTo>
                    <a:pt x="1" y="35"/>
                  </a:lnTo>
                  <a:lnTo>
                    <a:pt x="12" y="46"/>
                  </a:lnTo>
                  <a:lnTo>
                    <a:pt x="16" y="48"/>
                  </a:lnTo>
                  <a:lnTo>
                    <a:pt x="27" y="55"/>
                  </a:lnTo>
                  <a:lnTo>
                    <a:pt x="36" y="38"/>
                  </a:lnTo>
                  <a:lnTo>
                    <a:pt x="24" y="54"/>
                  </a:lnTo>
                  <a:lnTo>
                    <a:pt x="28" y="58"/>
                  </a:lnTo>
                  <a:lnTo>
                    <a:pt x="52" y="25"/>
                  </a:lnTo>
                  <a:lnTo>
                    <a:pt x="48" y="21"/>
                  </a:lnTo>
                  <a:lnTo>
                    <a:pt x="47" y="21"/>
                  </a:lnTo>
                  <a:lnTo>
                    <a:pt x="36" y="15"/>
                  </a:lnTo>
                  <a:lnTo>
                    <a:pt x="25" y="31"/>
                  </a:lnTo>
                  <a:lnTo>
                    <a:pt x="40" y="17"/>
                  </a:lnTo>
                  <a:lnTo>
                    <a:pt x="29" y="6"/>
                  </a:lnTo>
                  <a:lnTo>
                    <a:pt x="24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220920" y="6099120"/>
              <a:ext cx="44640" cy="4464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4" y="0"/>
                  </a:moveTo>
                  <a:lnTo>
                    <a:pt x="0" y="33"/>
                  </a:lnTo>
                  <a:lnTo>
                    <a:pt x="4" y="36"/>
                  </a:lnTo>
                  <a:lnTo>
                    <a:pt x="8" y="38"/>
                  </a:lnTo>
                  <a:lnTo>
                    <a:pt x="9" y="38"/>
                  </a:lnTo>
                  <a:lnTo>
                    <a:pt x="16" y="41"/>
                  </a:lnTo>
                  <a:lnTo>
                    <a:pt x="23" y="22"/>
                  </a:lnTo>
                  <a:lnTo>
                    <a:pt x="9" y="37"/>
                  </a:lnTo>
                  <a:lnTo>
                    <a:pt x="13" y="41"/>
                  </a:lnTo>
                  <a:lnTo>
                    <a:pt x="16" y="44"/>
                  </a:lnTo>
                  <a:lnTo>
                    <a:pt x="20" y="47"/>
                  </a:lnTo>
                  <a:lnTo>
                    <a:pt x="31" y="29"/>
                  </a:lnTo>
                  <a:lnTo>
                    <a:pt x="19" y="45"/>
                  </a:lnTo>
                  <a:lnTo>
                    <a:pt x="26" y="51"/>
                  </a:lnTo>
                  <a:lnTo>
                    <a:pt x="30" y="53"/>
                  </a:lnTo>
                  <a:lnTo>
                    <a:pt x="31" y="53"/>
                  </a:lnTo>
                  <a:lnTo>
                    <a:pt x="39" y="56"/>
                  </a:lnTo>
                  <a:lnTo>
                    <a:pt x="46" y="37"/>
                  </a:lnTo>
                  <a:lnTo>
                    <a:pt x="38" y="56"/>
                  </a:lnTo>
                  <a:lnTo>
                    <a:pt x="38" y="56"/>
                  </a:lnTo>
                  <a:lnTo>
                    <a:pt x="55" y="19"/>
                  </a:lnTo>
                  <a:lnTo>
                    <a:pt x="55" y="19"/>
                  </a:lnTo>
                  <a:lnTo>
                    <a:pt x="53" y="18"/>
                  </a:lnTo>
                  <a:lnTo>
                    <a:pt x="45" y="15"/>
                  </a:lnTo>
                  <a:lnTo>
                    <a:pt x="38" y="34"/>
                  </a:lnTo>
                  <a:lnTo>
                    <a:pt x="50" y="19"/>
                  </a:lnTo>
                  <a:lnTo>
                    <a:pt x="43" y="14"/>
                  </a:lnTo>
                  <a:lnTo>
                    <a:pt x="42" y="13"/>
                  </a:lnTo>
                  <a:lnTo>
                    <a:pt x="38" y="10"/>
                  </a:lnTo>
                  <a:lnTo>
                    <a:pt x="27" y="26"/>
                  </a:lnTo>
                  <a:lnTo>
                    <a:pt x="42" y="13"/>
                  </a:lnTo>
                  <a:lnTo>
                    <a:pt x="38" y="9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4" y="0"/>
                  </a:lnTo>
                  <a:lnTo>
                    <a:pt x="16" y="19"/>
                  </a:lnTo>
                  <a:lnTo>
                    <a:pt x="28" y="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279600" y="6126120"/>
              <a:ext cx="43200" cy="4464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8" y="0"/>
                  </a:moveTo>
                  <a:lnTo>
                    <a:pt x="0" y="36"/>
                  </a:lnTo>
                  <a:lnTo>
                    <a:pt x="10" y="42"/>
                  </a:lnTo>
                  <a:lnTo>
                    <a:pt x="18" y="23"/>
                  </a:lnTo>
                  <a:lnTo>
                    <a:pt x="8" y="40"/>
                  </a:lnTo>
                  <a:lnTo>
                    <a:pt x="18" y="46"/>
                  </a:lnTo>
                  <a:lnTo>
                    <a:pt x="19" y="47"/>
                  </a:lnTo>
                  <a:lnTo>
                    <a:pt x="28" y="51"/>
                  </a:lnTo>
                  <a:lnTo>
                    <a:pt x="37" y="32"/>
                  </a:lnTo>
                  <a:lnTo>
                    <a:pt x="28" y="51"/>
                  </a:lnTo>
                  <a:lnTo>
                    <a:pt x="37" y="55"/>
                  </a:lnTo>
                  <a:lnTo>
                    <a:pt x="54" y="19"/>
                  </a:lnTo>
                  <a:lnTo>
                    <a:pt x="46" y="15"/>
                  </a:lnTo>
                  <a:lnTo>
                    <a:pt x="45" y="13"/>
                  </a:lnTo>
                  <a:lnTo>
                    <a:pt x="35" y="9"/>
                  </a:lnTo>
                  <a:lnTo>
                    <a:pt x="27" y="28"/>
                  </a:lnTo>
                  <a:lnTo>
                    <a:pt x="38" y="11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341520" y="6153120"/>
              <a:ext cx="38160" cy="4284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10" y="0"/>
                  </a:moveTo>
                  <a:lnTo>
                    <a:pt x="0" y="38"/>
                  </a:lnTo>
                  <a:lnTo>
                    <a:pt x="2" y="40"/>
                  </a:lnTo>
                  <a:lnTo>
                    <a:pt x="8" y="21"/>
                  </a:lnTo>
                  <a:lnTo>
                    <a:pt x="0" y="40"/>
                  </a:lnTo>
                  <a:lnTo>
                    <a:pt x="9" y="44"/>
                  </a:lnTo>
                  <a:lnTo>
                    <a:pt x="10" y="44"/>
                  </a:lnTo>
                  <a:lnTo>
                    <a:pt x="21" y="48"/>
                  </a:lnTo>
                  <a:lnTo>
                    <a:pt x="28" y="29"/>
                  </a:lnTo>
                  <a:lnTo>
                    <a:pt x="20" y="48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8" y="54"/>
                  </a:lnTo>
                  <a:lnTo>
                    <a:pt x="39" y="54"/>
                  </a:lnTo>
                  <a:lnTo>
                    <a:pt x="46" y="15"/>
                  </a:lnTo>
                  <a:lnTo>
                    <a:pt x="44" y="15"/>
                  </a:lnTo>
                  <a:lnTo>
                    <a:pt x="40" y="34"/>
                  </a:lnTo>
                  <a:lnTo>
                    <a:pt x="48" y="16"/>
                  </a:lnTo>
                  <a:lnTo>
                    <a:pt x="36" y="11"/>
                  </a:lnTo>
                  <a:lnTo>
                    <a:pt x="36" y="10"/>
                  </a:lnTo>
                  <a:lnTo>
                    <a:pt x="25" y="6"/>
                  </a:lnTo>
                  <a:lnTo>
                    <a:pt x="17" y="25"/>
                  </a:lnTo>
                  <a:lnTo>
                    <a:pt x="25" y="6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400560" y="6172200"/>
              <a:ext cx="41040" cy="41400"/>
            </a:xfrm>
            <a:custGeom>
              <a:avLst/>
              <a:gdLst/>
              <a:ahLst/>
              <a:rect l="l" t="t" r="r" b="b"/>
              <a:pathLst>
                <a:path w="53" h="50">
                  <a:moveTo>
                    <a:pt x="14" y="0"/>
                  </a:moveTo>
                  <a:lnTo>
                    <a:pt x="0" y="38"/>
                  </a:lnTo>
                  <a:lnTo>
                    <a:pt x="4" y="39"/>
                  </a:lnTo>
                  <a:lnTo>
                    <a:pt x="20" y="45"/>
                  </a:lnTo>
                  <a:lnTo>
                    <a:pt x="23" y="46"/>
                  </a:lnTo>
                  <a:lnTo>
                    <a:pt x="41" y="50"/>
                  </a:lnTo>
                  <a:lnTo>
                    <a:pt x="45" y="30"/>
                  </a:lnTo>
                  <a:lnTo>
                    <a:pt x="38" y="49"/>
                  </a:lnTo>
                  <a:lnTo>
                    <a:pt x="39" y="49"/>
                  </a:lnTo>
                  <a:lnTo>
                    <a:pt x="53" y="11"/>
                  </a:lnTo>
                  <a:lnTo>
                    <a:pt x="52" y="11"/>
                  </a:lnTo>
                  <a:lnTo>
                    <a:pt x="50" y="11"/>
                  </a:lnTo>
                  <a:lnTo>
                    <a:pt x="33" y="7"/>
                  </a:lnTo>
                  <a:lnTo>
                    <a:pt x="27" y="26"/>
                  </a:lnTo>
                  <a:lnTo>
                    <a:pt x="34" y="7"/>
                  </a:lnTo>
                  <a:lnTo>
                    <a:pt x="18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462480" y="6191280"/>
              <a:ext cx="42840" cy="3960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13" y="0"/>
                  </a:moveTo>
                  <a:lnTo>
                    <a:pt x="0" y="38"/>
                  </a:lnTo>
                  <a:lnTo>
                    <a:pt x="9" y="41"/>
                  </a:lnTo>
                  <a:lnTo>
                    <a:pt x="10" y="41"/>
                  </a:lnTo>
                  <a:lnTo>
                    <a:pt x="29" y="46"/>
                  </a:lnTo>
                  <a:lnTo>
                    <a:pt x="35" y="27"/>
                  </a:lnTo>
                  <a:lnTo>
                    <a:pt x="28" y="46"/>
                  </a:lnTo>
                  <a:lnTo>
                    <a:pt x="39" y="50"/>
                  </a:lnTo>
                  <a:lnTo>
                    <a:pt x="52" y="12"/>
                  </a:lnTo>
                  <a:lnTo>
                    <a:pt x="42" y="8"/>
                  </a:lnTo>
                  <a:lnTo>
                    <a:pt x="40" y="8"/>
                  </a:lnTo>
                  <a:lnTo>
                    <a:pt x="21" y="3"/>
                  </a:lnTo>
                  <a:lnTo>
                    <a:pt x="16" y="22"/>
                  </a:lnTo>
                  <a:lnTo>
                    <a:pt x="23" y="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527280" y="6208560"/>
              <a:ext cx="36720" cy="3816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7" y="0"/>
                  </a:moveTo>
                  <a:lnTo>
                    <a:pt x="0" y="39"/>
                  </a:lnTo>
                  <a:lnTo>
                    <a:pt x="13" y="42"/>
                  </a:lnTo>
                  <a:lnTo>
                    <a:pt x="16" y="21"/>
                  </a:lnTo>
                  <a:lnTo>
                    <a:pt x="9" y="40"/>
                  </a:lnTo>
                  <a:lnTo>
                    <a:pt x="23" y="46"/>
                  </a:lnTo>
                  <a:lnTo>
                    <a:pt x="27" y="47"/>
                  </a:lnTo>
                  <a:lnTo>
                    <a:pt x="39" y="48"/>
                  </a:lnTo>
                  <a:lnTo>
                    <a:pt x="46" y="9"/>
                  </a:lnTo>
                  <a:lnTo>
                    <a:pt x="34" y="8"/>
                  </a:lnTo>
                  <a:lnTo>
                    <a:pt x="30" y="27"/>
                  </a:lnTo>
                  <a:lnTo>
                    <a:pt x="38" y="8"/>
                  </a:lnTo>
                  <a:lnTo>
                    <a:pt x="24" y="2"/>
                  </a:lnTo>
                  <a:lnTo>
                    <a:pt x="20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589200" y="6222960"/>
              <a:ext cx="39960" cy="3816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11" y="0"/>
                  </a:moveTo>
                  <a:lnTo>
                    <a:pt x="0" y="38"/>
                  </a:lnTo>
                  <a:lnTo>
                    <a:pt x="15" y="42"/>
                  </a:lnTo>
                  <a:lnTo>
                    <a:pt x="18" y="43"/>
                  </a:lnTo>
                  <a:lnTo>
                    <a:pt x="35" y="46"/>
                  </a:lnTo>
                  <a:lnTo>
                    <a:pt x="38" y="25"/>
                  </a:lnTo>
                  <a:lnTo>
                    <a:pt x="34" y="46"/>
                  </a:lnTo>
                  <a:lnTo>
                    <a:pt x="41" y="47"/>
                  </a:lnTo>
                  <a:lnTo>
                    <a:pt x="50" y="8"/>
                  </a:lnTo>
                  <a:lnTo>
                    <a:pt x="43" y="6"/>
                  </a:lnTo>
                  <a:lnTo>
                    <a:pt x="41" y="6"/>
                  </a:lnTo>
                  <a:lnTo>
                    <a:pt x="23" y="4"/>
                  </a:lnTo>
                  <a:lnTo>
                    <a:pt x="20" y="23"/>
                  </a:lnTo>
                  <a:lnTo>
                    <a:pt x="26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649680" y="6235560"/>
              <a:ext cx="39600" cy="367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14" y="0"/>
                  </a:moveTo>
                  <a:lnTo>
                    <a:pt x="0" y="38"/>
                  </a:lnTo>
                  <a:lnTo>
                    <a:pt x="10" y="41"/>
                  </a:lnTo>
                  <a:lnTo>
                    <a:pt x="14" y="42"/>
                  </a:lnTo>
                  <a:lnTo>
                    <a:pt x="33" y="45"/>
                  </a:lnTo>
                  <a:lnTo>
                    <a:pt x="45" y="46"/>
                  </a:lnTo>
                  <a:lnTo>
                    <a:pt x="50" y="7"/>
                  </a:lnTo>
                  <a:lnTo>
                    <a:pt x="38" y="5"/>
                  </a:lnTo>
                  <a:lnTo>
                    <a:pt x="19" y="3"/>
                  </a:lnTo>
                  <a:lnTo>
                    <a:pt x="17" y="22"/>
                  </a:lnTo>
                  <a:lnTo>
                    <a:pt x="23" y="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716280" y="6246720"/>
              <a:ext cx="34920" cy="3672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7" y="0"/>
                  </a:moveTo>
                  <a:lnTo>
                    <a:pt x="0" y="40"/>
                  </a:lnTo>
                  <a:lnTo>
                    <a:pt x="16" y="42"/>
                  </a:lnTo>
                  <a:lnTo>
                    <a:pt x="19" y="22"/>
                  </a:lnTo>
                  <a:lnTo>
                    <a:pt x="15" y="42"/>
                  </a:lnTo>
                  <a:lnTo>
                    <a:pt x="29" y="45"/>
                  </a:lnTo>
                  <a:lnTo>
                    <a:pt x="33" y="45"/>
                  </a:lnTo>
                  <a:lnTo>
                    <a:pt x="44" y="45"/>
                  </a:lnTo>
                  <a:lnTo>
                    <a:pt x="44" y="5"/>
                  </a:lnTo>
                  <a:lnTo>
                    <a:pt x="33" y="5"/>
                  </a:lnTo>
                  <a:lnTo>
                    <a:pt x="33" y="25"/>
                  </a:lnTo>
                  <a:lnTo>
                    <a:pt x="37" y="6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780000" y="6256440"/>
              <a:ext cx="34920" cy="33120"/>
            </a:xfrm>
            <a:custGeom>
              <a:avLst/>
              <a:gdLst/>
              <a:ahLst/>
              <a:rect l="l" t="t" r="r" b="b"/>
              <a:pathLst>
                <a:path w="45" h="44">
                  <a:moveTo>
                    <a:pt x="7" y="0"/>
                  </a:moveTo>
                  <a:lnTo>
                    <a:pt x="0" y="40"/>
                  </a:lnTo>
                  <a:lnTo>
                    <a:pt x="4" y="41"/>
                  </a:lnTo>
                  <a:lnTo>
                    <a:pt x="7" y="41"/>
                  </a:lnTo>
                  <a:lnTo>
                    <a:pt x="23" y="41"/>
                  </a:lnTo>
                  <a:lnTo>
                    <a:pt x="23" y="21"/>
                  </a:lnTo>
                  <a:lnTo>
                    <a:pt x="20" y="41"/>
                  </a:lnTo>
                  <a:lnTo>
                    <a:pt x="38" y="44"/>
                  </a:lnTo>
                  <a:lnTo>
                    <a:pt x="41" y="44"/>
                  </a:lnTo>
                  <a:lnTo>
                    <a:pt x="45" y="44"/>
                  </a:lnTo>
                  <a:lnTo>
                    <a:pt x="45" y="3"/>
                  </a:lnTo>
                  <a:lnTo>
                    <a:pt x="41" y="3"/>
                  </a:lnTo>
                  <a:lnTo>
                    <a:pt x="41" y="23"/>
                  </a:lnTo>
                  <a:lnTo>
                    <a:pt x="43" y="4"/>
                  </a:lnTo>
                  <a:lnTo>
                    <a:pt x="26" y="2"/>
                  </a:lnTo>
                  <a:lnTo>
                    <a:pt x="23" y="0"/>
                  </a:lnTo>
                  <a:lnTo>
                    <a:pt x="7" y="0"/>
                  </a:lnTo>
                  <a:lnTo>
                    <a:pt x="7" y="21"/>
                  </a:lnTo>
                  <a:lnTo>
                    <a:pt x="11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846600" y="6259680"/>
              <a:ext cx="31680" cy="3312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0" y="0"/>
                  </a:moveTo>
                  <a:lnTo>
                    <a:pt x="0" y="40"/>
                  </a:lnTo>
                  <a:lnTo>
                    <a:pt x="15" y="40"/>
                  </a:lnTo>
                  <a:lnTo>
                    <a:pt x="15" y="20"/>
                  </a:lnTo>
                  <a:lnTo>
                    <a:pt x="14" y="40"/>
                  </a:lnTo>
                  <a:lnTo>
                    <a:pt x="30" y="42"/>
                  </a:lnTo>
                  <a:lnTo>
                    <a:pt x="31" y="42"/>
                  </a:lnTo>
                  <a:lnTo>
                    <a:pt x="41" y="42"/>
                  </a:lnTo>
                  <a:lnTo>
                    <a:pt x="41" y="1"/>
                  </a:lnTo>
                  <a:lnTo>
                    <a:pt x="31" y="1"/>
                  </a:lnTo>
                  <a:lnTo>
                    <a:pt x="31" y="21"/>
                  </a:lnTo>
                  <a:lnTo>
                    <a:pt x="33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911760" y="6262560"/>
              <a:ext cx="31680" cy="34920"/>
            </a:xfrm>
            <a:custGeom>
              <a:avLst/>
              <a:gdLst/>
              <a:ahLst/>
              <a:rect l="l" t="t" r="r" b="b"/>
              <a:pathLst>
                <a:path w="41" h="43">
                  <a:moveTo>
                    <a:pt x="0" y="0"/>
                  </a:moveTo>
                  <a:lnTo>
                    <a:pt x="0" y="40"/>
                  </a:lnTo>
                  <a:lnTo>
                    <a:pt x="10" y="40"/>
                  </a:lnTo>
                  <a:lnTo>
                    <a:pt x="10" y="20"/>
                  </a:lnTo>
                  <a:lnTo>
                    <a:pt x="7" y="40"/>
                  </a:lnTo>
                  <a:lnTo>
                    <a:pt x="25" y="43"/>
                  </a:lnTo>
                  <a:lnTo>
                    <a:pt x="27" y="43"/>
                  </a:lnTo>
                  <a:lnTo>
                    <a:pt x="41" y="43"/>
                  </a:lnTo>
                  <a:lnTo>
                    <a:pt x="41" y="2"/>
                  </a:lnTo>
                  <a:lnTo>
                    <a:pt x="27" y="2"/>
                  </a:lnTo>
                  <a:lnTo>
                    <a:pt x="27" y="23"/>
                  </a:lnTo>
                  <a:lnTo>
                    <a:pt x="30" y="4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971880" y="6267600"/>
              <a:ext cx="36720" cy="3312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6" y="0"/>
                  </a:moveTo>
                  <a:lnTo>
                    <a:pt x="0" y="40"/>
                  </a:lnTo>
                  <a:lnTo>
                    <a:pt x="12" y="42"/>
                  </a:lnTo>
                  <a:lnTo>
                    <a:pt x="14" y="42"/>
                  </a:lnTo>
                  <a:lnTo>
                    <a:pt x="31" y="42"/>
                  </a:lnTo>
                  <a:lnTo>
                    <a:pt x="44" y="42"/>
                  </a:lnTo>
                  <a:lnTo>
                    <a:pt x="44" y="2"/>
                  </a:lnTo>
                  <a:lnTo>
                    <a:pt x="31" y="2"/>
                  </a:lnTo>
                  <a:lnTo>
                    <a:pt x="14" y="2"/>
                  </a:lnTo>
                  <a:lnTo>
                    <a:pt x="14" y="22"/>
                  </a:lnTo>
                  <a:lnTo>
                    <a:pt x="19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040280" y="6270480"/>
              <a:ext cx="31680" cy="3204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0" y="0"/>
                  </a:moveTo>
                  <a:lnTo>
                    <a:pt x="0" y="41"/>
                  </a:lnTo>
                  <a:lnTo>
                    <a:pt x="17" y="41"/>
                  </a:lnTo>
                  <a:lnTo>
                    <a:pt x="38" y="41"/>
                  </a:lnTo>
                  <a:lnTo>
                    <a:pt x="41" y="41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05440" y="6270480"/>
              <a:ext cx="31680" cy="3204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0" y="0"/>
                  </a:moveTo>
                  <a:lnTo>
                    <a:pt x="0" y="41"/>
                  </a:lnTo>
                  <a:lnTo>
                    <a:pt x="15" y="41"/>
                  </a:lnTo>
                  <a:lnTo>
                    <a:pt x="33" y="41"/>
                  </a:lnTo>
                  <a:lnTo>
                    <a:pt x="41" y="41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168800" y="6270480"/>
              <a:ext cx="33480" cy="3204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0" y="0"/>
                  </a:moveTo>
                  <a:lnTo>
                    <a:pt x="0" y="41"/>
                  </a:lnTo>
                  <a:lnTo>
                    <a:pt x="2" y="41"/>
                  </a:lnTo>
                  <a:lnTo>
                    <a:pt x="15" y="41"/>
                  </a:lnTo>
                  <a:lnTo>
                    <a:pt x="29" y="41"/>
                  </a:lnTo>
                  <a:lnTo>
                    <a:pt x="37" y="41"/>
                  </a:lnTo>
                  <a:lnTo>
                    <a:pt x="41" y="41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233960" y="6270480"/>
              <a:ext cx="31680" cy="3204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0" y="0"/>
                  </a:moveTo>
                  <a:lnTo>
                    <a:pt x="0" y="41"/>
                  </a:lnTo>
                  <a:lnTo>
                    <a:pt x="6" y="41"/>
                  </a:lnTo>
                  <a:lnTo>
                    <a:pt x="17" y="41"/>
                  </a:lnTo>
                  <a:lnTo>
                    <a:pt x="32" y="41"/>
                  </a:lnTo>
                  <a:lnTo>
                    <a:pt x="40" y="41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17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6" name=""/>
          <p:cNvGrpSpPr/>
          <p:nvPr/>
        </p:nvGrpSpPr>
        <p:grpSpPr>
          <a:xfrm>
            <a:off x="1998720" y="4194000"/>
            <a:ext cx="2192400" cy="2525760"/>
            <a:chOff x="1998720" y="4194000"/>
            <a:chExt cx="2192400" cy="2525760"/>
          </a:xfrm>
        </p:grpSpPr>
        <p:sp>
          <p:nvSpPr>
            <p:cNvPr id="1187" name=""/>
            <p:cNvSpPr/>
            <p:nvPr/>
          </p:nvSpPr>
          <p:spPr>
            <a:xfrm>
              <a:off x="1998720" y="4194000"/>
              <a:ext cx="34920" cy="3348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41" y="0"/>
                  </a:moveTo>
                  <a:lnTo>
                    <a:pt x="0" y="1"/>
                  </a:lnTo>
                  <a:lnTo>
                    <a:pt x="1" y="28"/>
                  </a:lnTo>
                  <a:lnTo>
                    <a:pt x="3" y="29"/>
                  </a:lnTo>
                  <a:lnTo>
                    <a:pt x="4" y="43"/>
                  </a:lnTo>
                  <a:lnTo>
                    <a:pt x="43" y="38"/>
                  </a:lnTo>
                  <a:lnTo>
                    <a:pt x="42" y="24"/>
                  </a:lnTo>
                  <a:lnTo>
                    <a:pt x="22" y="27"/>
                  </a:lnTo>
                  <a:lnTo>
                    <a:pt x="42" y="27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003400" y="4257720"/>
              <a:ext cx="36360" cy="3636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0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1" y="11"/>
                  </a:lnTo>
                  <a:lnTo>
                    <a:pt x="3" y="17"/>
                  </a:lnTo>
                  <a:lnTo>
                    <a:pt x="22" y="13"/>
                  </a:lnTo>
                  <a:lnTo>
                    <a:pt x="1" y="13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3" y="27"/>
                  </a:lnTo>
                  <a:lnTo>
                    <a:pt x="7" y="34"/>
                  </a:lnTo>
                  <a:lnTo>
                    <a:pt x="8" y="34"/>
                  </a:lnTo>
                  <a:lnTo>
                    <a:pt x="11" y="36"/>
                  </a:lnTo>
                  <a:lnTo>
                    <a:pt x="24" y="22"/>
                  </a:lnTo>
                  <a:lnTo>
                    <a:pt x="4" y="22"/>
                  </a:lnTo>
                  <a:lnTo>
                    <a:pt x="5" y="30"/>
                  </a:lnTo>
                  <a:lnTo>
                    <a:pt x="9" y="36"/>
                  </a:lnTo>
                  <a:lnTo>
                    <a:pt x="4" y="22"/>
                  </a:lnTo>
                  <a:lnTo>
                    <a:pt x="4" y="27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5" y="41"/>
                  </a:lnTo>
                  <a:lnTo>
                    <a:pt x="7" y="42"/>
                  </a:lnTo>
                  <a:lnTo>
                    <a:pt x="8" y="45"/>
                  </a:lnTo>
                  <a:lnTo>
                    <a:pt x="26" y="35"/>
                  </a:lnTo>
                  <a:lnTo>
                    <a:pt x="5" y="35"/>
                  </a:lnTo>
                  <a:lnTo>
                    <a:pt x="5" y="38"/>
                  </a:lnTo>
                  <a:lnTo>
                    <a:pt x="46" y="38"/>
                  </a:lnTo>
                  <a:lnTo>
                    <a:pt x="46" y="35"/>
                  </a:lnTo>
                  <a:lnTo>
                    <a:pt x="46" y="35"/>
                  </a:lnTo>
                  <a:lnTo>
                    <a:pt x="45" y="27"/>
                  </a:lnTo>
                  <a:lnTo>
                    <a:pt x="43" y="27"/>
                  </a:lnTo>
                  <a:lnTo>
                    <a:pt x="42" y="24"/>
                  </a:lnTo>
                  <a:lnTo>
                    <a:pt x="24" y="32"/>
                  </a:lnTo>
                  <a:lnTo>
                    <a:pt x="45" y="32"/>
                  </a:lnTo>
                  <a:lnTo>
                    <a:pt x="45" y="30"/>
                  </a:lnTo>
                  <a:lnTo>
                    <a:pt x="45" y="27"/>
                  </a:lnTo>
                  <a:lnTo>
                    <a:pt x="45" y="22"/>
                  </a:lnTo>
                  <a:lnTo>
                    <a:pt x="45" y="22"/>
                  </a:lnTo>
                  <a:lnTo>
                    <a:pt x="43" y="13"/>
                  </a:lnTo>
                  <a:lnTo>
                    <a:pt x="39" y="8"/>
                  </a:lnTo>
                  <a:lnTo>
                    <a:pt x="39" y="8"/>
                  </a:lnTo>
                  <a:lnTo>
                    <a:pt x="36" y="5"/>
                  </a:lnTo>
                  <a:lnTo>
                    <a:pt x="42" y="19"/>
                  </a:lnTo>
                  <a:lnTo>
                    <a:pt x="40" y="11"/>
                  </a:lnTo>
                  <a:lnTo>
                    <a:pt x="36" y="5"/>
                  </a:lnTo>
                  <a:lnTo>
                    <a:pt x="22" y="19"/>
                  </a:lnTo>
                  <a:lnTo>
                    <a:pt x="42" y="19"/>
                  </a:lnTo>
                  <a:lnTo>
                    <a:pt x="42" y="13"/>
                  </a:lnTo>
                  <a:lnTo>
                    <a:pt x="42" y="9"/>
                  </a:lnTo>
                  <a:lnTo>
                    <a:pt x="40" y="3"/>
                  </a:lnTo>
                  <a:lnTo>
                    <a:pt x="20" y="7"/>
                  </a:lnTo>
                  <a:lnTo>
                    <a:pt x="40" y="7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013120" y="4319640"/>
              <a:ext cx="34920" cy="3492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40" y="0"/>
                  </a:moveTo>
                  <a:lnTo>
                    <a:pt x="0" y="3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4" y="31"/>
                  </a:lnTo>
                  <a:lnTo>
                    <a:pt x="23" y="29"/>
                  </a:lnTo>
                  <a:lnTo>
                    <a:pt x="4" y="31"/>
                  </a:lnTo>
                  <a:lnTo>
                    <a:pt x="5" y="43"/>
                  </a:lnTo>
                  <a:lnTo>
                    <a:pt x="44" y="39"/>
                  </a:lnTo>
                  <a:lnTo>
                    <a:pt x="43" y="27"/>
                  </a:lnTo>
                  <a:lnTo>
                    <a:pt x="43" y="26"/>
                  </a:lnTo>
                  <a:lnTo>
                    <a:pt x="40" y="6"/>
                  </a:lnTo>
                  <a:lnTo>
                    <a:pt x="20" y="8"/>
                  </a:lnTo>
                  <a:lnTo>
                    <a:pt x="40" y="7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022480" y="4381560"/>
              <a:ext cx="36360" cy="381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39" y="0"/>
                  </a:moveTo>
                  <a:lnTo>
                    <a:pt x="0" y="6"/>
                  </a:lnTo>
                  <a:lnTo>
                    <a:pt x="5" y="38"/>
                  </a:lnTo>
                  <a:lnTo>
                    <a:pt x="7" y="47"/>
                  </a:lnTo>
                  <a:lnTo>
                    <a:pt x="46" y="40"/>
                  </a:lnTo>
                  <a:lnTo>
                    <a:pt x="45" y="3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033640" y="4444920"/>
              <a:ext cx="36360" cy="3816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40" y="0"/>
                  </a:moveTo>
                  <a:lnTo>
                    <a:pt x="0" y="6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9" y="47"/>
                  </a:lnTo>
                  <a:lnTo>
                    <a:pt x="48" y="39"/>
                  </a:lnTo>
                  <a:lnTo>
                    <a:pt x="44" y="19"/>
                  </a:lnTo>
                  <a:lnTo>
                    <a:pt x="23" y="23"/>
                  </a:lnTo>
                  <a:lnTo>
                    <a:pt x="44" y="2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044800" y="4508640"/>
              <a:ext cx="36360" cy="3636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0" y="0"/>
                  </a:moveTo>
                  <a:lnTo>
                    <a:pt x="0" y="6"/>
                  </a:lnTo>
                  <a:lnTo>
                    <a:pt x="4" y="24"/>
                  </a:lnTo>
                  <a:lnTo>
                    <a:pt x="7" y="46"/>
                  </a:lnTo>
                  <a:lnTo>
                    <a:pt x="46" y="39"/>
                  </a:lnTo>
                  <a:lnTo>
                    <a:pt x="44" y="17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057400" y="4572000"/>
              <a:ext cx="36360" cy="381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39" y="0"/>
                  </a:moveTo>
                  <a:lnTo>
                    <a:pt x="0" y="8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8" y="49"/>
                  </a:lnTo>
                  <a:lnTo>
                    <a:pt x="48" y="40"/>
                  </a:lnTo>
                  <a:lnTo>
                    <a:pt x="44" y="19"/>
                  </a:lnTo>
                  <a:lnTo>
                    <a:pt x="23" y="23"/>
                  </a:lnTo>
                  <a:lnTo>
                    <a:pt x="44" y="1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070000" y="4635360"/>
              <a:ext cx="36720" cy="39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0" y="0"/>
                  </a:moveTo>
                  <a:lnTo>
                    <a:pt x="0" y="6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10" y="48"/>
                  </a:lnTo>
                  <a:lnTo>
                    <a:pt x="48" y="37"/>
                  </a:lnTo>
                  <a:lnTo>
                    <a:pt x="42" y="18"/>
                  </a:lnTo>
                  <a:lnTo>
                    <a:pt x="23" y="24"/>
                  </a:lnTo>
                  <a:lnTo>
                    <a:pt x="44" y="2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084400" y="4699080"/>
              <a:ext cx="36360" cy="36360"/>
            </a:xfrm>
            <a:custGeom>
              <a:avLst/>
              <a:gdLst/>
              <a:ahLst/>
              <a:rect l="l" t="t" r="r" b="b"/>
              <a:pathLst>
                <a:path w="47" h="48">
                  <a:moveTo>
                    <a:pt x="39" y="0"/>
                  </a:moveTo>
                  <a:lnTo>
                    <a:pt x="0" y="8"/>
                  </a:lnTo>
                  <a:lnTo>
                    <a:pt x="5" y="31"/>
                  </a:lnTo>
                  <a:lnTo>
                    <a:pt x="5" y="33"/>
                  </a:lnTo>
                  <a:lnTo>
                    <a:pt x="10" y="48"/>
                  </a:lnTo>
                  <a:lnTo>
                    <a:pt x="47" y="38"/>
                  </a:lnTo>
                  <a:lnTo>
                    <a:pt x="43" y="23"/>
                  </a:lnTo>
                  <a:lnTo>
                    <a:pt x="24" y="27"/>
                  </a:lnTo>
                  <a:lnTo>
                    <a:pt x="45" y="2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097000" y="4761000"/>
              <a:ext cx="38160" cy="38160"/>
            </a:xfrm>
            <a:custGeom>
              <a:avLst/>
              <a:gdLst/>
              <a:ahLst/>
              <a:rect l="l" t="t" r="r" b="b"/>
              <a:pathLst>
                <a:path w="47" h="48">
                  <a:moveTo>
                    <a:pt x="39" y="0"/>
                  </a:moveTo>
                  <a:lnTo>
                    <a:pt x="0" y="8"/>
                  </a:lnTo>
                  <a:lnTo>
                    <a:pt x="5" y="28"/>
                  </a:lnTo>
                  <a:lnTo>
                    <a:pt x="8" y="48"/>
                  </a:lnTo>
                  <a:lnTo>
                    <a:pt x="47" y="40"/>
                  </a:lnTo>
                  <a:lnTo>
                    <a:pt x="44" y="2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112840" y="4822920"/>
              <a:ext cx="38160" cy="3960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38" y="0"/>
                  </a:moveTo>
                  <a:lnTo>
                    <a:pt x="0" y="10"/>
                  </a:lnTo>
                  <a:lnTo>
                    <a:pt x="5" y="34"/>
                  </a:lnTo>
                  <a:lnTo>
                    <a:pt x="9" y="49"/>
                  </a:lnTo>
                  <a:lnTo>
                    <a:pt x="47" y="40"/>
                  </a:lnTo>
                  <a:lnTo>
                    <a:pt x="43" y="2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127240" y="4884840"/>
              <a:ext cx="39600" cy="41040"/>
            </a:xfrm>
            <a:custGeom>
              <a:avLst/>
              <a:gdLst/>
              <a:ahLst/>
              <a:rect l="l" t="t" r="r" b="b"/>
              <a:pathLst>
                <a:path w="48" h="50">
                  <a:moveTo>
                    <a:pt x="39" y="0"/>
                  </a:moveTo>
                  <a:lnTo>
                    <a:pt x="0" y="9"/>
                  </a:lnTo>
                  <a:lnTo>
                    <a:pt x="8" y="41"/>
                  </a:lnTo>
                  <a:lnTo>
                    <a:pt x="9" y="50"/>
                  </a:lnTo>
                  <a:lnTo>
                    <a:pt x="48" y="41"/>
                  </a:lnTo>
                  <a:lnTo>
                    <a:pt x="47" y="3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143080" y="4948200"/>
              <a:ext cx="39600" cy="3960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39" y="0"/>
                  </a:moveTo>
                  <a:lnTo>
                    <a:pt x="0" y="9"/>
                  </a:lnTo>
                  <a:lnTo>
                    <a:pt x="9" y="47"/>
                  </a:lnTo>
                  <a:lnTo>
                    <a:pt x="9" y="49"/>
                  </a:lnTo>
                  <a:lnTo>
                    <a:pt x="9" y="50"/>
                  </a:lnTo>
                  <a:lnTo>
                    <a:pt x="47" y="36"/>
                  </a:lnTo>
                  <a:lnTo>
                    <a:pt x="47" y="35"/>
                  </a:lnTo>
                  <a:lnTo>
                    <a:pt x="28" y="42"/>
                  </a:lnTo>
                  <a:lnTo>
                    <a:pt x="49" y="38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162160" y="5008680"/>
              <a:ext cx="38160" cy="39600"/>
            </a:xfrm>
            <a:custGeom>
              <a:avLst/>
              <a:gdLst/>
              <a:ahLst/>
              <a:rect l="l" t="t" r="r" b="b"/>
              <a:pathLst>
                <a:path w="47" h="50">
                  <a:moveTo>
                    <a:pt x="38" y="0"/>
                  </a:moveTo>
                  <a:lnTo>
                    <a:pt x="0" y="13"/>
                  </a:lnTo>
                  <a:lnTo>
                    <a:pt x="0" y="13"/>
                  </a:lnTo>
                  <a:lnTo>
                    <a:pt x="19" y="7"/>
                  </a:lnTo>
                  <a:lnTo>
                    <a:pt x="0" y="11"/>
                  </a:lnTo>
                  <a:lnTo>
                    <a:pt x="8" y="50"/>
                  </a:lnTo>
                  <a:lnTo>
                    <a:pt x="47" y="42"/>
                  </a:lnTo>
                  <a:lnTo>
                    <a:pt x="39" y="2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178000" y="5072040"/>
              <a:ext cx="38160" cy="3960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38" y="0"/>
                  </a:moveTo>
                  <a:lnTo>
                    <a:pt x="0" y="13"/>
                  </a:lnTo>
                  <a:lnTo>
                    <a:pt x="2" y="18"/>
                  </a:lnTo>
                  <a:lnTo>
                    <a:pt x="21" y="11"/>
                  </a:lnTo>
                  <a:lnTo>
                    <a:pt x="2" y="17"/>
                  </a:lnTo>
                  <a:lnTo>
                    <a:pt x="11" y="52"/>
                  </a:lnTo>
                  <a:lnTo>
                    <a:pt x="49" y="41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197080" y="5133960"/>
              <a:ext cx="39600" cy="4140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38" y="0"/>
                  </a:moveTo>
                  <a:lnTo>
                    <a:pt x="0" y="11"/>
                  </a:lnTo>
                  <a:lnTo>
                    <a:pt x="9" y="43"/>
                  </a:lnTo>
                  <a:lnTo>
                    <a:pt x="9" y="46"/>
                  </a:lnTo>
                  <a:lnTo>
                    <a:pt x="12" y="51"/>
                  </a:lnTo>
                  <a:lnTo>
                    <a:pt x="50" y="37"/>
                  </a:lnTo>
                  <a:lnTo>
                    <a:pt x="47" y="31"/>
                  </a:lnTo>
                  <a:lnTo>
                    <a:pt x="28" y="38"/>
                  </a:lnTo>
                  <a:lnTo>
                    <a:pt x="47" y="32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217600" y="5194440"/>
              <a:ext cx="42840" cy="4104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38" y="0"/>
                  </a:moveTo>
                  <a:lnTo>
                    <a:pt x="0" y="12"/>
                  </a:lnTo>
                  <a:lnTo>
                    <a:pt x="3" y="23"/>
                  </a:lnTo>
                  <a:lnTo>
                    <a:pt x="4" y="26"/>
                  </a:lnTo>
                  <a:lnTo>
                    <a:pt x="14" y="45"/>
                  </a:lnTo>
                  <a:lnTo>
                    <a:pt x="31" y="35"/>
                  </a:lnTo>
                  <a:lnTo>
                    <a:pt x="13" y="42"/>
                  </a:lnTo>
                  <a:lnTo>
                    <a:pt x="15" y="51"/>
                  </a:lnTo>
                  <a:lnTo>
                    <a:pt x="53" y="38"/>
                  </a:lnTo>
                  <a:lnTo>
                    <a:pt x="50" y="28"/>
                  </a:lnTo>
                  <a:lnTo>
                    <a:pt x="49" y="27"/>
                  </a:lnTo>
                  <a:lnTo>
                    <a:pt x="40" y="8"/>
                  </a:lnTo>
                  <a:lnTo>
                    <a:pt x="22" y="16"/>
                  </a:lnTo>
                  <a:lnTo>
                    <a:pt x="41" y="1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239920" y="525312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38" y="0"/>
                  </a:moveTo>
                  <a:lnTo>
                    <a:pt x="0" y="17"/>
                  </a:lnTo>
                  <a:lnTo>
                    <a:pt x="9" y="38"/>
                  </a:lnTo>
                  <a:lnTo>
                    <a:pt x="28" y="30"/>
                  </a:lnTo>
                  <a:lnTo>
                    <a:pt x="9" y="38"/>
                  </a:lnTo>
                  <a:lnTo>
                    <a:pt x="16" y="53"/>
                  </a:lnTo>
                  <a:lnTo>
                    <a:pt x="54" y="38"/>
                  </a:lnTo>
                  <a:lnTo>
                    <a:pt x="47" y="23"/>
                  </a:lnTo>
                  <a:lnTo>
                    <a:pt x="47" y="22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263680" y="5313240"/>
              <a:ext cx="42840" cy="41400"/>
            </a:xfrm>
            <a:custGeom>
              <a:avLst/>
              <a:gdLst/>
              <a:ahLst/>
              <a:rect l="l" t="t" r="r" b="b"/>
              <a:pathLst>
                <a:path w="54" h="52">
                  <a:moveTo>
                    <a:pt x="38" y="0"/>
                  </a:moveTo>
                  <a:lnTo>
                    <a:pt x="0" y="15"/>
                  </a:lnTo>
                  <a:lnTo>
                    <a:pt x="1" y="18"/>
                  </a:lnTo>
                  <a:lnTo>
                    <a:pt x="2" y="19"/>
                  </a:lnTo>
                  <a:lnTo>
                    <a:pt x="16" y="49"/>
                  </a:lnTo>
                  <a:lnTo>
                    <a:pt x="33" y="40"/>
                  </a:lnTo>
                  <a:lnTo>
                    <a:pt x="14" y="48"/>
                  </a:lnTo>
                  <a:lnTo>
                    <a:pt x="16" y="52"/>
                  </a:lnTo>
                  <a:lnTo>
                    <a:pt x="54" y="37"/>
                  </a:lnTo>
                  <a:lnTo>
                    <a:pt x="52" y="33"/>
                  </a:lnTo>
                  <a:lnTo>
                    <a:pt x="52" y="31"/>
                  </a:lnTo>
                  <a:lnTo>
                    <a:pt x="39" y="2"/>
                  </a:lnTo>
                  <a:lnTo>
                    <a:pt x="20" y="10"/>
                  </a:lnTo>
                  <a:lnTo>
                    <a:pt x="39" y="3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290680" y="5372280"/>
              <a:ext cx="42840" cy="410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36" y="0"/>
                  </a:moveTo>
                  <a:lnTo>
                    <a:pt x="0" y="18"/>
                  </a:lnTo>
                  <a:lnTo>
                    <a:pt x="10" y="38"/>
                  </a:lnTo>
                  <a:lnTo>
                    <a:pt x="28" y="29"/>
                  </a:lnTo>
                  <a:lnTo>
                    <a:pt x="9" y="36"/>
                  </a:lnTo>
                  <a:lnTo>
                    <a:pt x="15" y="53"/>
                  </a:lnTo>
                  <a:lnTo>
                    <a:pt x="53" y="40"/>
                  </a:lnTo>
                  <a:lnTo>
                    <a:pt x="46" y="22"/>
                  </a:lnTo>
                  <a:lnTo>
                    <a:pt x="45" y="2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314440" y="5432400"/>
              <a:ext cx="42840" cy="4284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38" y="0"/>
                  </a:moveTo>
                  <a:lnTo>
                    <a:pt x="0" y="17"/>
                  </a:lnTo>
                  <a:lnTo>
                    <a:pt x="4" y="27"/>
                  </a:lnTo>
                  <a:lnTo>
                    <a:pt x="23" y="19"/>
                  </a:lnTo>
                  <a:lnTo>
                    <a:pt x="4" y="27"/>
                  </a:lnTo>
                  <a:lnTo>
                    <a:pt x="15" y="54"/>
                  </a:lnTo>
                  <a:lnTo>
                    <a:pt x="53" y="40"/>
                  </a:lnTo>
                  <a:lnTo>
                    <a:pt x="42" y="12"/>
                  </a:lnTo>
                  <a:lnTo>
                    <a:pt x="42" y="1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340000" y="5492880"/>
              <a:ext cx="41400" cy="410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38" y="0"/>
                  </a:moveTo>
                  <a:lnTo>
                    <a:pt x="0" y="15"/>
                  </a:lnTo>
                  <a:lnTo>
                    <a:pt x="13" y="45"/>
                  </a:lnTo>
                  <a:lnTo>
                    <a:pt x="14" y="46"/>
                  </a:lnTo>
                  <a:lnTo>
                    <a:pt x="17" y="53"/>
                  </a:lnTo>
                  <a:lnTo>
                    <a:pt x="53" y="35"/>
                  </a:lnTo>
                  <a:lnTo>
                    <a:pt x="50" y="29"/>
                  </a:lnTo>
                  <a:lnTo>
                    <a:pt x="32" y="37"/>
                  </a:lnTo>
                  <a:lnTo>
                    <a:pt x="50" y="3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363760" y="5551560"/>
              <a:ext cx="42840" cy="4104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37" y="0"/>
                  </a:moveTo>
                  <a:lnTo>
                    <a:pt x="0" y="15"/>
                  </a:lnTo>
                  <a:lnTo>
                    <a:pt x="5" y="28"/>
                  </a:lnTo>
                  <a:lnTo>
                    <a:pt x="6" y="30"/>
                  </a:lnTo>
                  <a:lnTo>
                    <a:pt x="18" y="53"/>
                  </a:lnTo>
                  <a:lnTo>
                    <a:pt x="54" y="35"/>
                  </a:lnTo>
                  <a:lnTo>
                    <a:pt x="42" y="12"/>
                  </a:lnTo>
                  <a:lnTo>
                    <a:pt x="24" y="20"/>
                  </a:lnTo>
                  <a:lnTo>
                    <a:pt x="43" y="1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390760" y="561024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38" y="0"/>
                  </a:moveTo>
                  <a:lnTo>
                    <a:pt x="0" y="16"/>
                  </a:lnTo>
                  <a:lnTo>
                    <a:pt x="7" y="31"/>
                  </a:lnTo>
                  <a:lnTo>
                    <a:pt x="26" y="23"/>
                  </a:lnTo>
                  <a:lnTo>
                    <a:pt x="7" y="31"/>
                  </a:lnTo>
                  <a:lnTo>
                    <a:pt x="16" y="53"/>
                  </a:lnTo>
                  <a:lnTo>
                    <a:pt x="54" y="38"/>
                  </a:lnTo>
                  <a:lnTo>
                    <a:pt x="45" y="16"/>
                  </a:lnTo>
                  <a:lnTo>
                    <a:pt x="45" y="1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416320" y="5668920"/>
              <a:ext cx="42840" cy="4284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36" y="0"/>
                  </a:moveTo>
                  <a:lnTo>
                    <a:pt x="0" y="18"/>
                  </a:lnTo>
                  <a:lnTo>
                    <a:pt x="13" y="48"/>
                  </a:lnTo>
                  <a:lnTo>
                    <a:pt x="16" y="55"/>
                  </a:lnTo>
                  <a:lnTo>
                    <a:pt x="53" y="37"/>
                  </a:lnTo>
                  <a:lnTo>
                    <a:pt x="50" y="3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441520" y="5729400"/>
              <a:ext cx="42840" cy="4104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38" y="0"/>
                  </a:moveTo>
                  <a:lnTo>
                    <a:pt x="0" y="15"/>
                  </a:lnTo>
                  <a:lnTo>
                    <a:pt x="7" y="31"/>
                  </a:lnTo>
                  <a:lnTo>
                    <a:pt x="8" y="33"/>
                  </a:lnTo>
                  <a:lnTo>
                    <a:pt x="19" y="53"/>
                  </a:lnTo>
                  <a:lnTo>
                    <a:pt x="54" y="36"/>
                  </a:lnTo>
                  <a:lnTo>
                    <a:pt x="43" y="15"/>
                  </a:lnTo>
                  <a:lnTo>
                    <a:pt x="26" y="23"/>
                  </a:lnTo>
                  <a:lnTo>
                    <a:pt x="45" y="1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470320" y="5786280"/>
              <a:ext cx="39600" cy="43200"/>
            </a:xfrm>
            <a:custGeom>
              <a:avLst/>
              <a:gdLst/>
              <a:ahLst/>
              <a:rect l="l" t="t" r="r" b="b"/>
              <a:pathLst>
                <a:path w="52" h="56">
                  <a:moveTo>
                    <a:pt x="37" y="0"/>
                  </a:moveTo>
                  <a:lnTo>
                    <a:pt x="0" y="18"/>
                  </a:lnTo>
                  <a:lnTo>
                    <a:pt x="2" y="20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2" y="49"/>
                  </a:lnTo>
                  <a:lnTo>
                    <a:pt x="14" y="49"/>
                  </a:lnTo>
                  <a:lnTo>
                    <a:pt x="15" y="56"/>
                  </a:lnTo>
                  <a:lnTo>
                    <a:pt x="52" y="39"/>
                  </a:lnTo>
                  <a:lnTo>
                    <a:pt x="50" y="33"/>
                  </a:lnTo>
                  <a:lnTo>
                    <a:pt x="31" y="41"/>
                  </a:lnTo>
                  <a:lnTo>
                    <a:pt x="50" y="34"/>
                  </a:lnTo>
                  <a:lnTo>
                    <a:pt x="38" y="4"/>
                  </a:lnTo>
                  <a:lnTo>
                    <a:pt x="38" y="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496960" y="5845320"/>
              <a:ext cx="39960" cy="44280"/>
            </a:xfrm>
            <a:custGeom>
              <a:avLst/>
              <a:gdLst/>
              <a:ahLst/>
              <a:rect l="l" t="t" r="r" b="b"/>
              <a:pathLst>
                <a:path w="52" h="57">
                  <a:moveTo>
                    <a:pt x="35" y="0"/>
                  </a:moveTo>
                  <a:lnTo>
                    <a:pt x="0" y="19"/>
                  </a:lnTo>
                  <a:lnTo>
                    <a:pt x="6" y="28"/>
                  </a:lnTo>
                  <a:lnTo>
                    <a:pt x="23" y="19"/>
                  </a:lnTo>
                  <a:lnTo>
                    <a:pt x="4" y="25"/>
                  </a:lnTo>
                  <a:lnTo>
                    <a:pt x="14" y="51"/>
                  </a:lnTo>
                  <a:lnTo>
                    <a:pt x="15" y="55"/>
                  </a:lnTo>
                  <a:lnTo>
                    <a:pt x="16" y="57"/>
                  </a:lnTo>
                  <a:lnTo>
                    <a:pt x="52" y="36"/>
                  </a:lnTo>
                  <a:lnTo>
                    <a:pt x="50" y="35"/>
                  </a:lnTo>
                  <a:lnTo>
                    <a:pt x="33" y="44"/>
                  </a:lnTo>
                  <a:lnTo>
                    <a:pt x="52" y="38"/>
                  </a:lnTo>
                  <a:lnTo>
                    <a:pt x="42" y="12"/>
                  </a:lnTo>
                  <a:lnTo>
                    <a:pt x="41" y="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522520" y="5905440"/>
              <a:ext cx="44640" cy="41400"/>
            </a:xfrm>
            <a:custGeom>
              <a:avLst/>
              <a:gdLst/>
              <a:ahLst/>
              <a:rect l="l" t="t" r="r" b="b"/>
              <a:pathLst>
                <a:path w="55" h="51">
                  <a:moveTo>
                    <a:pt x="38" y="0"/>
                  </a:moveTo>
                  <a:lnTo>
                    <a:pt x="0" y="14"/>
                  </a:lnTo>
                  <a:lnTo>
                    <a:pt x="1" y="19"/>
                  </a:lnTo>
                  <a:lnTo>
                    <a:pt x="4" y="21"/>
                  </a:lnTo>
                  <a:lnTo>
                    <a:pt x="13" y="37"/>
                  </a:lnTo>
                  <a:lnTo>
                    <a:pt x="29" y="27"/>
                  </a:lnTo>
                  <a:lnTo>
                    <a:pt x="10" y="35"/>
                  </a:lnTo>
                  <a:lnTo>
                    <a:pt x="17" y="51"/>
                  </a:lnTo>
                  <a:lnTo>
                    <a:pt x="55" y="36"/>
                  </a:lnTo>
                  <a:lnTo>
                    <a:pt x="48" y="20"/>
                  </a:lnTo>
                  <a:lnTo>
                    <a:pt x="47" y="17"/>
                  </a:lnTo>
                  <a:lnTo>
                    <a:pt x="38" y="1"/>
                  </a:lnTo>
                  <a:lnTo>
                    <a:pt x="20" y="10"/>
                  </a:lnTo>
                  <a:lnTo>
                    <a:pt x="39" y="4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550960" y="5961240"/>
              <a:ext cx="46080" cy="42840"/>
            </a:xfrm>
            <a:custGeom>
              <a:avLst/>
              <a:gdLst/>
              <a:ahLst/>
              <a:rect l="l" t="t" r="r" b="b"/>
              <a:pathLst>
                <a:path w="57" h="54">
                  <a:moveTo>
                    <a:pt x="37" y="0"/>
                  </a:moveTo>
                  <a:lnTo>
                    <a:pt x="0" y="18"/>
                  </a:lnTo>
                  <a:lnTo>
                    <a:pt x="2" y="22"/>
                  </a:lnTo>
                  <a:lnTo>
                    <a:pt x="3" y="23"/>
                  </a:lnTo>
                  <a:lnTo>
                    <a:pt x="16" y="43"/>
                  </a:lnTo>
                  <a:lnTo>
                    <a:pt x="33" y="33"/>
                  </a:lnTo>
                  <a:lnTo>
                    <a:pt x="15" y="42"/>
                  </a:lnTo>
                  <a:lnTo>
                    <a:pt x="22" y="54"/>
                  </a:lnTo>
                  <a:lnTo>
                    <a:pt x="57" y="35"/>
                  </a:lnTo>
                  <a:lnTo>
                    <a:pt x="50" y="23"/>
                  </a:lnTo>
                  <a:lnTo>
                    <a:pt x="49" y="22"/>
                  </a:lnTo>
                  <a:lnTo>
                    <a:pt x="35" y="1"/>
                  </a:lnTo>
                  <a:lnTo>
                    <a:pt x="19" y="12"/>
                  </a:lnTo>
                  <a:lnTo>
                    <a:pt x="38" y="4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584440" y="6014880"/>
              <a:ext cx="46080" cy="4464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34" y="0"/>
                  </a:moveTo>
                  <a:lnTo>
                    <a:pt x="0" y="21"/>
                  </a:lnTo>
                  <a:lnTo>
                    <a:pt x="15" y="43"/>
                  </a:lnTo>
                  <a:lnTo>
                    <a:pt x="15" y="44"/>
                  </a:lnTo>
                  <a:lnTo>
                    <a:pt x="25" y="57"/>
                  </a:lnTo>
                  <a:lnTo>
                    <a:pt x="57" y="34"/>
                  </a:lnTo>
                  <a:lnTo>
                    <a:pt x="48" y="21"/>
                  </a:lnTo>
                  <a:lnTo>
                    <a:pt x="31" y="32"/>
                  </a:lnTo>
                  <a:lnTo>
                    <a:pt x="49" y="2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619360" y="6068880"/>
              <a:ext cx="44640" cy="4464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35" y="1"/>
                  </a:moveTo>
                  <a:lnTo>
                    <a:pt x="0" y="20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6" y="45"/>
                  </a:lnTo>
                  <a:lnTo>
                    <a:pt x="23" y="55"/>
                  </a:lnTo>
                  <a:lnTo>
                    <a:pt x="56" y="34"/>
                  </a:lnTo>
                  <a:lnTo>
                    <a:pt x="50" y="23"/>
                  </a:lnTo>
                  <a:lnTo>
                    <a:pt x="35" y="0"/>
                  </a:lnTo>
                  <a:lnTo>
                    <a:pt x="17" y="11"/>
                  </a:lnTo>
                  <a:lnTo>
                    <a:pt x="35" y="1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655720" y="6122880"/>
              <a:ext cx="44640" cy="4464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4" y="0"/>
                  </a:moveTo>
                  <a:lnTo>
                    <a:pt x="0" y="20"/>
                  </a:lnTo>
                  <a:lnTo>
                    <a:pt x="13" y="43"/>
                  </a:lnTo>
                  <a:lnTo>
                    <a:pt x="15" y="46"/>
                  </a:lnTo>
                  <a:lnTo>
                    <a:pt x="24" y="55"/>
                  </a:lnTo>
                  <a:lnTo>
                    <a:pt x="54" y="29"/>
                  </a:lnTo>
                  <a:lnTo>
                    <a:pt x="45" y="20"/>
                  </a:lnTo>
                  <a:lnTo>
                    <a:pt x="30" y="32"/>
                  </a:lnTo>
                  <a:lnTo>
                    <a:pt x="47" y="2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695680" y="6172200"/>
              <a:ext cx="44280" cy="47520"/>
            </a:xfrm>
            <a:custGeom>
              <a:avLst/>
              <a:gdLst/>
              <a:ahLst/>
              <a:rect l="l" t="t" r="r" b="b"/>
              <a:pathLst>
                <a:path w="55" h="58">
                  <a:moveTo>
                    <a:pt x="31" y="0"/>
                  </a:moveTo>
                  <a:lnTo>
                    <a:pt x="0" y="26"/>
                  </a:lnTo>
                  <a:lnTo>
                    <a:pt x="9" y="38"/>
                  </a:lnTo>
                  <a:lnTo>
                    <a:pt x="24" y="24"/>
                  </a:lnTo>
                  <a:lnTo>
                    <a:pt x="9" y="37"/>
                  </a:lnTo>
                  <a:lnTo>
                    <a:pt x="23" y="54"/>
                  </a:lnTo>
                  <a:lnTo>
                    <a:pt x="23" y="56"/>
                  </a:lnTo>
                  <a:lnTo>
                    <a:pt x="24" y="58"/>
                  </a:lnTo>
                  <a:lnTo>
                    <a:pt x="55" y="32"/>
                  </a:lnTo>
                  <a:lnTo>
                    <a:pt x="54" y="30"/>
                  </a:lnTo>
                  <a:lnTo>
                    <a:pt x="38" y="42"/>
                  </a:lnTo>
                  <a:lnTo>
                    <a:pt x="54" y="30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736720" y="6222960"/>
              <a:ext cx="46080" cy="4464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29" y="0"/>
                  </a:moveTo>
                  <a:lnTo>
                    <a:pt x="0" y="29"/>
                  </a:lnTo>
                  <a:lnTo>
                    <a:pt x="18" y="46"/>
                  </a:lnTo>
                  <a:lnTo>
                    <a:pt x="32" y="31"/>
                  </a:lnTo>
                  <a:lnTo>
                    <a:pt x="17" y="45"/>
                  </a:lnTo>
                  <a:lnTo>
                    <a:pt x="28" y="57"/>
                  </a:lnTo>
                  <a:lnTo>
                    <a:pt x="57" y="30"/>
                  </a:lnTo>
                  <a:lnTo>
                    <a:pt x="47" y="18"/>
                  </a:lnTo>
                  <a:lnTo>
                    <a:pt x="47" y="18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779560" y="6269040"/>
              <a:ext cx="46080" cy="4608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31" y="0"/>
                  </a:moveTo>
                  <a:lnTo>
                    <a:pt x="0" y="26"/>
                  </a:lnTo>
                  <a:lnTo>
                    <a:pt x="16" y="45"/>
                  </a:lnTo>
                  <a:lnTo>
                    <a:pt x="19" y="47"/>
                  </a:lnTo>
                  <a:lnTo>
                    <a:pt x="32" y="57"/>
                  </a:lnTo>
                  <a:lnTo>
                    <a:pt x="57" y="26"/>
                  </a:lnTo>
                  <a:lnTo>
                    <a:pt x="43" y="16"/>
                  </a:lnTo>
                  <a:lnTo>
                    <a:pt x="31" y="31"/>
                  </a:lnTo>
                  <a:lnTo>
                    <a:pt x="47" y="19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825640" y="6315120"/>
              <a:ext cx="46080" cy="44280"/>
            </a:xfrm>
            <a:custGeom>
              <a:avLst/>
              <a:gdLst/>
              <a:ahLst/>
              <a:rect l="l" t="t" r="r" b="b"/>
              <a:pathLst>
                <a:path w="57" h="55">
                  <a:moveTo>
                    <a:pt x="26" y="0"/>
                  </a:moveTo>
                  <a:lnTo>
                    <a:pt x="0" y="30"/>
                  </a:lnTo>
                  <a:lnTo>
                    <a:pt x="19" y="45"/>
                  </a:lnTo>
                  <a:lnTo>
                    <a:pt x="31" y="30"/>
                  </a:lnTo>
                  <a:lnTo>
                    <a:pt x="17" y="45"/>
                  </a:lnTo>
                  <a:lnTo>
                    <a:pt x="28" y="55"/>
                  </a:lnTo>
                  <a:lnTo>
                    <a:pt x="57" y="27"/>
                  </a:lnTo>
                  <a:lnTo>
                    <a:pt x="46" y="16"/>
                  </a:lnTo>
                  <a:lnTo>
                    <a:pt x="45" y="1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873520" y="6357960"/>
              <a:ext cx="45720" cy="4428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29" y="0"/>
                  </a:moveTo>
                  <a:lnTo>
                    <a:pt x="0" y="28"/>
                  </a:lnTo>
                  <a:lnTo>
                    <a:pt x="11" y="39"/>
                  </a:lnTo>
                  <a:lnTo>
                    <a:pt x="13" y="41"/>
                  </a:lnTo>
                  <a:lnTo>
                    <a:pt x="29" y="54"/>
                  </a:lnTo>
                  <a:lnTo>
                    <a:pt x="32" y="57"/>
                  </a:lnTo>
                  <a:lnTo>
                    <a:pt x="57" y="26"/>
                  </a:lnTo>
                  <a:lnTo>
                    <a:pt x="55" y="23"/>
                  </a:lnTo>
                  <a:lnTo>
                    <a:pt x="38" y="10"/>
                  </a:lnTo>
                  <a:lnTo>
                    <a:pt x="25" y="24"/>
                  </a:lnTo>
                  <a:lnTo>
                    <a:pt x="40" y="1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922480" y="6399360"/>
              <a:ext cx="46080" cy="4428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28" y="0"/>
                  </a:moveTo>
                  <a:lnTo>
                    <a:pt x="0" y="28"/>
                  </a:lnTo>
                  <a:lnTo>
                    <a:pt x="5" y="33"/>
                  </a:lnTo>
                  <a:lnTo>
                    <a:pt x="7" y="35"/>
                  </a:lnTo>
                  <a:lnTo>
                    <a:pt x="20" y="46"/>
                  </a:lnTo>
                  <a:lnTo>
                    <a:pt x="32" y="55"/>
                  </a:lnTo>
                  <a:lnTo>
                    <a:pt x="34" y="55"/>
                  </a:lnTo>
                  <a:lnTo>
                    <a:pt x="34" y="56"/>
                  </a:lnTo>
                  <a:lnTo>
                    <a:pt x="57" y="24"/>
                  </a:lnTo>
                  <a:lnTo>
                    <a:pt x="57" y="23"/>
                  </a:lnTo>
                  <a:lnTo>
                    <a:pt x="44" y="39"/>
                  </a:lnTo>
                  <a:lnTo>
                    <a:pt x="57" y="24"/>
                  </a:lnTo>
                  <a:lnTo>
                    <a:pt x="44" y="14"/>
                  </a:lnTo>
                  <a:lnTo>
                    <a:pt x="31" y="4"/>
                  </a:lnTo>
                  <a:lnTo>
                    <a:pt x="19" y="19"/>
                  </a:lnTo>
                  <a:lnTo>
                    <a:pt x="34" y="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976480" y="6437160"/>
              <a:ext cx="44640" cy="4464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25" y="0"/>
                  </a:moveTo>
                  <a:lnTo>
                    <a:pt x="0" y="31"/>
                  </a:lnTo>
                  <a:lnTo>
                    <a:pt x="8" y="38"/>
                  </a:lnTo>
                  <a:lnTo>
                    <a:pt x="10" y="38"/>
                  </a:lnTo>
                  <a:lnTo>
                    <a:pt x="23" y="48"/>
                  </a:lnTo>
                  <a:lnTo>
                    <a:pt x="34" y="56"/>
                  </a:lnTo>
                  <a:lnTo>
                    <a:pt x="57" y="23"/>
                  </a:lnTo>
                  <a:lnTo>
                    <a:pt x="46" y="15"/>
                  </a:lnTo>
                  <a:lnTo>
                    <a:pt x="33" y="6"/>
                  </a:lnTo>
                  <a:lnTo>
                    <a:pt x="20" y="22"/>
                  </a:lnTo>
                  <a:lnTo>
                    <a:pt x="33" y="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027240" y="6475320"/>
              <a:ext cx="44640" cy="4608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25" y="0"/>
                  </a:moveTo>
                  <a:lnTo>
                    <a:pt x="0" y="32"/>
                  </a:lnTo>
                  <a:lnTo>
                    <a:pt x="6" y="36"/>
                  </a:lnTo>
                  <a:lnTo>
                    <a:pt x="8" y="38"/>
                  </a:lnTo>
                  <a:lnTo>
                    <a:pt x="19" y="44"/>
                  </a:lnTo>
                  <a:lnTo>
                    <a:pt x="29" y="27"/>
                  </a:lnTo>
                  <a:lnTo>
                    <a:pt x="15" y="42"/>
                  </a:lnTo>
                  <a:lnTo>
                    <a:pt x="23" y="50"/>
                  </a:lnTo>
                  <a:lnTo>
                    <a:pt x="27" y="53"/>
                  </a:lnTo>
                  <a:lnTo>
                    <a:pt x="35" y="58"/>
                  </a:lnTo>
                  <a:lnTo>
                    <a:pt x="56" y="23"/>
                  </a:lnTo>
                  <a:lnTo>
                    <a:pt x="48" y="17"/>
                  </a:lnTo>
                  <a:lnTo>
                    <a:pt x="37" y="35"/>
                  </a:lnTo>
                  <a:lnTo>
                    <a:pt x="52" y="21"/>
                  </a:lnTo>
                  <a:lnTo>
                    <a:pt x="43" y="13"/>
                  </a:lnTo>
                  <a:lnTo>
                    <a:pt x="39" y="11"/>
                  </a:lnTo>
                  <a:lnTo>
                    <a:pt x="29" y="4"/>
                  </a:lnTo>
                  <a:lnTo>
                    <a:pt x="18" y="20"/>
                  </a:lnTo>
                  <a:lnTo>
                    <a:pt x="30" y="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084480" y="6510240"/>
              <a:ext cx="39600" cy="4284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13" y="0"/>
                  </a:moveTo>
                  <a:lnTo>
                    <a:pt x="0" y="38"/>
                  </a:lnTo>
                  <a:lnTo>
                    <a:pt x="5" y="39"/>
                  </a:lnTo>
                  <a:lnTo>
                    <a:pt x="12" y="20"/>
                  </a:lnTo>
                  <a:lnTo>
                    <a:pt x="3" y="38"/>
                  </a:lnTo>
                  <a:lnTo>
                    <a:pt x="9" y="42"/>
                  </a:lnTo>
                  <a:lnTo>
                    <a:pt x="11" y="43"/>
                  </a:lnTo>
                  <a:lnTo>
                    <a:pt x="22" y="49"/>
                  </a:lnTo>
                  <a:lnTo>
                    <a:pt x="30" y="30"/>
                  </a:lnTo>
                  <a:lnTo>
                    <a:pt x="20" y="48"/>
                  </a:lnTo>
                  <a:lnTo>
                    <a:pt x="30" y="53"/>
                  </a:lnTo>
                  <a:lnTo>
                    <a:pt x="35" y="56"/>
                  </a:lnTo>
                  <a:lnTo>
                    <a:pt x="39" y="56"/>
                  </a:lnTo>
                  <a:lnTo>
                    <a:pt x="47" y="16"/>
                  </a:lnTo>
                  <a:lnTo>
                    <a:pt x="43" y="16"/>
                  </a:lnTo>
                  <a:lnTo>
                    <a:pt x="39" y="35"/>
                  </a:lnTo>
                  <a:lnTo>
                    <a:pt x="50" y="18"/>
                  </a:lnTo>
                  <a:lnTo>
                    <a:pt x="41" y="12"/>
                  </a:lnTo>
                  <a:lnTo>
                    <a:pt x="39" y="12"/>
                  </a:lnTo>
                  <a:lnTo>
                    <a:pt x="28" y="7"/>
                  </a:lnTo>
                  <a:lnTo>
                    <a:pt x="19" y="24"/>
                  </a:lnTo>
                  <a:lnTo>
                    <a:pt x="30" y="8"/>
                  </a:lnTo>
                  <a:lnTo>
                    <a:pt x="23" y="4"/>
                  </a:lnTo>
                  <a:lnTo>
                    <a:pt x="19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138480" y="6537240"/>
              <a:ext cx="47520" cy="414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20" y="0"/>
                  </a:moveTo>
                  <a:lnTo>
                    <a:pt x="0" y="36"/>
                  </a:lnTo>
                  <a:lnTo>
                    <a:pt x="3" y="37"/>
                  </a:lnTo>
                  <a:lnTo>
                    <a:pt x="5" y="38"/>
                  </a:lnTo>
                  <a:lnTo>
                    <a:pt x="19" y="44"/>
                  </a:lnTo>
                  <a:lnTo>
                    <a:pt x="26" y="25"/>
                  </a:lnTo>
                  <a:lnTo>
                    <a:pt x="18" y="44"/>
                  </a:lnTo>
                  <a:lnTo>
                    <a:pt x="27" y="48"/>
                  </a:lnTo>
                  <a:lnTo>
                    <a:pt x="28" y="48"/>
                  </a:lnTo>
                  <a:lnTo>
                    <a:pt x="41" y="52"/>
                  </a:lnTo>
                  <a:lnTo>
                    <a:pt x="47" y="33"/>
                  </a:lnTo>
                  <a:lnTo>
                    <a:pt x="38" y="50"/>
                  </a:lnTo>
                  <a:lnTo>
                    <a:pt x="38" y="50"/>
                  </a:lnTo>
                  <a:lnTo>
                    <a:pt x="58" y="15"/>
                  </a:lnTo>
                  <a:lnTo>
                    <a:pt x="58" y="15"/>
                  </a:lnTo>
                  <a:lnTo>
                    <a:pt x="54" y="14"/>
                  </a:lnTo>
                  <a:lnTo>
                    <a:pt x="42" y="10"/>
                  </a:lnTo>
                  <a:lnTo>
                    <a:pt x="35" y="29"/>
                  </a:lnTo>
                  <a:lnTo>
                    <a:pt x="43" y="10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20" y="0"/>
                  </a:lnTo>
                  <a:lnTo>
                    <a:pt x="12" y="19"/>
                  </a:lnTo>
                  <a:lnTo>
                    <a:pt x="23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201840" y="6559560"/>
              <a:ext cx="42840" cy="39600"/>
            </a:xfrm>
            <a:custGeom>
              <a:avLst/>
              <a:gdLst/>
              <a:ahLst/>
              <a:rect l="l" t="t" r="r" b="b"/>
              <a:pathLst>
                <a:path w="53" h="50">
                  <a:moveTo>
                    <a:pt x="12" y="0"/>
                  </a:moveTo>
                  <a:lnTo>
                    <a:pt x="0" y="38"/>
                  </a:lnTo>
                  <a:lnTo>
                    <a:pt x="5" y="39"/>
                  </a:lnTo>
                  <a:lnTo>
                    <a:pt x="11" y="20"/>
                  </a:lnTo>
                  <a:lnTo>
                    <a:pt x="4" y="39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34" y="49"/>
                  </a:lnTo>
                  <a:lnTo>
                    <a:pt x="39" y="30"/>
                  </a:lnTo>
                  <a:lnTo>
                    <a:pt x="31" y="49"/>
                  </a:lnTo>
                  <a:lnTo>
                    <a:pt x="36" y="50"/>
                  </a:lnTo>
                  <a:lnTo>
                    <a:pt x="53" y="13"/>
                  </a:lnTo>
                  <a:lnTo>
                    <a:pt x="47" y="12"/>
                  </a:lnTo>
                  <a:lnTo>
                    <a:pt x="45" y="11"/>
                  </a:lnTo>
                  <a:lnTo>
                    <a:pt x="30" y="7"/>
                  </a:lnTo>
                  <a:lnTo>
                    <a:pt x="24" y="26"/>
                  </a:lnTo>
                  <a:lnTo>
                    <a:pt x="32" y="7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262320" y="6580080"/>
              <a:ext cx="42840" cy="39960"/>
            </a:xfrm>
            <a:custGeom>
              <a:avLst/>
              <a:gdLst/>
              <a:ahLst/>
              <a:rect l="l" t="t" r="r" b="b"/>
              <a:pathLst>
                <a:path w="53" h="48">
                  <a:moveTo>
                    <a:pt x="13" y="0"/>
                  </a:moveTo>
                  <a:lnTo>
                    <a:pt x="0" y="37"/>
                  </a:lnTo>
                  <a:lnTo>
                    <a:pt x="6" y="40"/>
                  </a:lnTo>
                  <a:lnTo>
                    <a:pt x="9" y="42"/>
                  </a:lnTo>
                  <a:lnTo>
                    <a:pt x="28" y="46"/>
                  </a:lnTo>
                  <a:lnTo>
                    <a:pt x="32" y="25"/>
                  </a:lnTo>
                  <a:lnTo>
                    <a:pt x="25" y="44"/>
                  </a:lnTo>
                  <a:lnTo>
                    <a:pt x="39" y="48"/>
                  </a:lnTo>
                  <a:lnTo>
                    <a:pt x="53" y="10"/>
                  </a:lnTo>
                  <a:lnTo>
                    <a:pt x="39" y="6"/>
                  </a:lnTo>
                  <a:lnTo>
                    <a:pt x="36" y="6"/>
                  </a:lnTo>
                  <a:lnTo>
                    <a:pt x="17" y="2"/>
                  </a:lnTo>
                  <a:lnTo>
                    <a:pt x="13" y="21"/>
                  </a:lnTo>
                  <a:lnTo>
                    <a:pt x="20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325680" y="6599160"/>
              <a:ext cx="39960" cy="3816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12" y="0"/>
                  </a:moveTo>
                  <a:lnTo>
                    <a:pt x="0" y="38"/>
                  </a:lnTo>
                  <a:lnTo>
                    <a:pt x="3" y="39"/>
                  </a:lnTo>
                  <a:lnTo>
                    <a:pt x="3" y="39"/>
                  </a:lnTo>
                  <a:lnTo>
                    <a:pt x="23" y="44"/>
                  </a:lnTo>
                  <a:lnTo>
                    <a:pt x="25" y="46"/>
                  </a:lnTo>
                  <a:lnTo>
                    <a:pt x="41" y="48"/>
                  </a:lnTo>
                  <a:lnTo>
                    <a:pt x="50" y="9"/>
                  </a:lnTo>
                  <a:lnTo>
                    <a:pt x="34" y="6"/>
                  </a:lnTo>
                  <a:lnTo>
                    <a:pt x="29" y="25"/>
                  </a:lnTo>
                  <a:lnTo>
                    <a:pt x="34" y="6"/>
                  </a:lnTo>
                  <a:lnTo>
                    <a:pt x="14" y="1"/>
                  </a:lnTo>
                  <a:lnTo>
                    <a:pt x="8" y="20"/>
                  </a:lnTo>
                  <a:lnTo>
                    <a:pt x="15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389400" y="6616800"/>
              <a:ext cx="36360" cy="3960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5" y="0"/>
                  </a:moveTo>
                  <a:lnTo>
                    <a:pt x="0" y="40"/>
                  </a:lnTo>
                  <a:lnTo>
                    <a:pt x="13" y="42"/>
                  </a:lnTo>
                  <a:lnTo>
                    <a:pt x="16" y="22"/>
                  </a:lnTo>
                  <a:lnTo>
                    <a:pt x="9" y="41"/>
                  </a:lnTo>
                  <a:lnTo>
                    <a:pt x="23" y="46"/>
                  </a:lnTo>
                  <a:lnTo>
                    <a:pt x="25" y="48"/>
                  </a:lnTo>
                  <a:lnTo>
                    <a:pt x="36" y="50"/>
                  </a:lnTo>
                  <a:lnTo>
                    <a:pt x="46" y="11"/>
                  </a:lnTo>
                  <a:lnTo>
                    <a:pt x="35" y="8"/>
                  </a:lnTo>
                  <a:lnTo>
                    <a:pt x="29" y="27"/>
                  </a:lnTo>
                  <a:lnTo>
                    <a:pt x="37" y="8"/>
                  </a:lnTo>
                  <a:lnTo>
                    <a:pt x="24" y="3"/>
                  </a:lnTo>
                  <a:lnTo>
                    <a:pt x="1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452760" y="6630840"/>
              <a:ext cx="34920" cy="38160"/>
            </a:xfrm>
            <a:custGeom>
              <a:avLst/>
              <a:gdLst/>
              <a:ahLst/>
              <a:rect l="l" t="t" r="r" b="b"/>
              <a:pathLst>
                <a:path w="45" h="48">
                  <a:moveTo>
                    <a:pt x="6" y="0"/>
                  </a:moveTo>
                  <a:lnTo>
                    <a:pt x="0" y="40"/>
                  </a:lnTo>
                  <a:lnTo>
                    <a:pt x="3" y="41"/>
                  </a:lnTo>
                  <a:lnTo>
                    <a:pt x="6" y="21"/>
                  </a:lnTo>
                  <a:lnTo>
                    <a:pt x="0" y="40"/>
                  </a:lnTo>
                  <a:lnTo>
                    <a:pt x="20" y="45"/>
                  </a:lnTo>
                  <a:lnTo>
                    <a:pt x="24" y="46"/>
                  </a:lnTo>
                  <a:lnTo>
                    <a:pt x="42" y="48"/>
                  </a:lnTo>
                  <a:lnTo>
                    <a:pt x="45" y="7"/>
                  </a:lnTo>
                  <a:lnTo>
                    <a:pt x="27" y="6"/>
                  </a:lnTo>
                  <a:lnTo>
                    <a:pt x="26" y="26"/>
                  </a:lnTo>
                  <a:lnTo>
                    <a:pt x="31" y="7"/>
                  </a:lnTo>
                  <a:lnTo>
                    <a:pt x="11" y="2"/>
                  </a:lnTo>
                  <a:lnTo>
                    <a:pt x="8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514680" y="6643800"/>
              <a:ext cx="34920" cy="3636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5" y="0"/>
                  </a:moveTo>
                  <a:lnTo>
                    <a:pt x="0" y="39"/>
                  </a:lnTo>
                  <a:lnTo>
                    <a:pt x="5" y="41"/>
                  </a:lnTo>
                  <a:lnTo>
                    <a:pt x="8" y="20"/>
                  </a:lnTo>
                  <a:lnTo>
                    <a:pt x="3" y="39"/>
                  </a:lnTo>
                  <a:lnTo>
                    <a:pt x="23" y="45"/>
                  </a:lnTo>
                  <a:lnTo>
                    <a:pt x="27" y="46"/>
                  </a:lnTo>
                  <a:lnTo>
                    <a:pt x="41" y="48"/>
                  </a:lnTo>
                  <a:lnTo>
                    <a:pt x="43" y="7"/>
                  </a:lnTo>
                  <a:lnTo>
                    <a:pt x="30" y="6"/>
                  </a:lnTo>
                  <a:lnTo>
                    <a:pt x="28" y="26"/>
                  </a:lnTo>
                  <a:lnTo>
                    <a:pt x="34" y="7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578400" y="6654960"/>
              <a:ext cx="36360" cy="3492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5" y="0"/>
                  </a:moveTo>
                  <a:lnTo>
                    <a:pt x="0" y="39"/>
                  </a:lnTo>
                  <a:lnTo>
                    <a:pt x="5" y="41"/>
                  </a:lnTo>
                  <a:lnTo>
                    <a:pt x="23" y="43"/>
                  </a:lnTo>
                  <a:lnTo>
                    <a:pt x="24" y="43"/>
                  </a:lnTo>
                  <a:lnTo>
                    <a:pt x="41" y="45"/>
                  </a:lnTo>
                  <a:lnTo>
                    <a:pt x="42" y="24"/>
                  </a:lnTo>
                  <a:lnTo>
                    <a:pt x="39" y="45"/>
                  </a:lnTo>
                  <a:lnTo>
                    <a:pt x="39" y="45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43" y="4"/>
                  </a:lnTo>
                  <a:lnTo>
                    <a:pt x="27" y="3"/>
                  </a:lnTo>
                  <a:lnTo>
                    <a:pt x="26" y="23"/>
                  </a:lnTo>
                  <a:lnTo>
                    <a:pt x="28" y="4"/>
                  </a:lnTo>
                  <a:lnTo>
                    <a:pt x="11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641760" y="6662880"/>
              <a:ext cx="34920" cy="36360"/>
            </a:xfrm>
            <a:custGeom>
              <a:avLst/>
              <a:gdLst/>
              <a:ahLst/>
              <a:rect l="l" t="t" r="r" b="b"/>
              <a:pathLst>
                <a:path w="45" h="46">
                  <a:moveTo>
                    <a:pt x="9" y="0"/>
                  </a:moveTo>
                  <a:lnTo>
                    <a:pt x="0" y="39"/>
                  </a:lnTo>
                  <a:lnTo>
                    <a:pt x="3" y="41"/>
                  </a:lnTo>
                  <a:lnTo>
                    <a:pt x="5" y="41"/>
                  </a:lnTo>
                  <a:lnTo>
                    <a:pt x="19" y="43"/>
                  </a:lnTo>
                  <a:lnTo>
                    <a:pt x="19" y="43"/>
                  </a:lnTo>
                  <a:lnTo>
                    <a:pt x="37" y="46"/>
                  </a:lnTo>
                  <a:lnTo>
                    <a:pt x="40" y="46"/>
                  </a:lnTo>
                  <a:lnTo>
                    <a:pt x="45" y="46"/>
                  </a:lnTo>
                  <a:lnTo>
                    <a:pt x="45" y="5"/>
                  </a:lnTo>
                  <a:lnTo>
                    <a:pt x="40" y="5"/>
                  </a:lnTo>
                  <a:lnTo>
                    <a:pt x="40" y="26"/>
                  </a:lnTo>
                  <a:lnTo>
                    <a:pt x="42" y="7"/>
                  </a:lnTo>
                  <a:lnTo>
                    <a:pt x="25" y="4"/>
                  </a:lnTo>
                  <a:lnTo>
                    <a:pt x="22" y="23"/>
                  </a:lnTo>
                  <a:lnTo>
                    <a:pt x="26" y="4"/>
                  </a:lnTo>
                  <a:lnTo>
                    <a:pt x="11" y="1"/>
                  </a:lnTo>
                  <a:lnTo>
                    <a:pt x="7" y="20"/>
                  </a:lnTo>
                  <a:lnTo>
                    <a:pt x="11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708360" y="6669000"/>
              <a:ext cx="31680" cy="3492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3" y="0"/>
                  </a:moveTo>
                  <a:lnTo>
                    <a:pt x="0" y="40"/>
                  </a:lnTo>
                  <a:lnTo>
                    <a:pt x="11" y="42"/>
                  </a:lnTo>
                  <a:lnTo>
                    <a:pt x="13" y="21"/>
                  </a:lnTo>
                  <a:lnTo>
                    <a:pt x="10" y="42"/>
                  </a:lnTo>
                  <a:lnTo>
                    <a:pt x="30" y="44"/>
                  </a:lnTo>
                  <a:lnTo>
                    <a:pt x="33" y="44"/>
                  </a:lnTo>
                  <a:lnTo>
                    <a:pt x="41" y="44"/>
                  </a:lnTo>
                  <a:lnTo>
                    <a:pt x="41" y="4"/>
                  </a:lnTo>
                  <a:lnTo>
                    <a:pt x="33" y="4"/>
                  </a:lnTo>
                  <a:lnTo>
                    <a:pt x="33" y="24"/>
                  </a:lnTo>
                  <a:lnTo>
                    <a:pt x="36" y="5"/>
                  </a:lnTo>
                  <a:lnTo>
                    <a:pt x="15" y="2"/>
                  </a:lnTo>
                  <a:lnTo>
                    <a:pt x="14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772080" y="6673680"/>
              <a:ext cx="33120" cy="3492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0" y="0"/>
                  </a:moveTo>
                  <a:lnTo>
                    <a:pt x="0" y="41"/>
                  </a:lnTo>
                  <a:lnTo>
                    <a:pt x="16" y="41"/>
                  </a:lnTo>
                  <a:lnTo>
                    <a:pt x="16" y="21"/>
                  </a:lnTo>
                  <a:lnTo>
                    <a:pt x="13" y="41"/>
                  </a:lnTo>
                  <a:lnTo>
                    <a:pt x="32" y="44"/>
                  </a:lnTo>
                  <a:lnTo>
                    <a:pt x="35" y="44"/>
                  </a:lnTo>
                  <a:lnTo>
                    <a:pt x="40" y="44"/>
                  </a:lnTo>
                  <a:lnTo>
                    <a:pt x="40" y="3"/>
                  </a:lnTo>
                  <a:lnTo>
                    <a:pt x="35" y="3"/>
                  </a:lnTo>
                  <a:lnTo>
                    <a:pt x="35" y="23"/>
                  </a:lnTo>
                  <a:lnTo>
                    <a:pt x="38" y="5"/>
                  </a:lnTo>
                  <a:lnTo>
                    <a:pt x="19" y="2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836880" y="6678720"/>
              <a:ext cx="31680" cy="3312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0" y="0"/>
                  </a:moveTo>
                  <a:lnTo>
                    <a:pt x="0" y="41"/>
                  </a:lnTo>
                  <a:lnTo>
                    <a:pt x="15" y="41"/>
                  </a:lnTo>
                  <a:lnTo>
                    <a:pt x="15" y="20"/>
                  </a:lnTo>
                  <a:lnTo>
                    <a:pt x="13" y="41"/>
                  </a:lnTo>
                  <a:lnTo>
                    <a:pt x="31" y="42"/>
                  </a:lnTo>
                  <a:lnTo>
                    <a:pt x="32" y="42"/>
                  </a:lnTo>
                  <a:lnTo>
                    <a:pt x="41" y="42"/>
                  </a:lnTo>
                  <a:lnTo>
                    <a:pt x="41" y="1"/>
                  </a:lnTo>
                  <a:lnTo>
                    <a:pt x="32" y="1"/>
                  </a:lnTo>
                  <a:lnTo>
                    <a:pt x="32" y="22"/>
                  </a:lnTo>
                  <a:lnTo>
                    <a:pt x="34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902040" y="6680160"/>
              <a:ext cx="31680" cy="34920"/>
            </a:xfrm>
            <a:custGeom>
              <a:avLst/>
              <a:gdLst/>
              <a:ahLst/>
              <a:rect l="l" t="t" r="r" b="b"/>
              <a:pathLst>
                <a:path w="41" h="43">
                  <a:moveTo>
                    <a:pt x="0" y="0"/>
                  </a:moveTo>
                  <a:lnTo>
                    <a:pt x="0" y="40"/>
                  </a:lnTo>
                  <a:lnTo>
                    <a:pt x="3" y="40"/>
                  </a:lnTo>
                  <a:lnTo>
                    <a:pt x="3" y="20"/>
                  </a:lnTo>
                  <a:lnTo>
                    <a:pt x="0" y="40"/>
                  </a:lnTo>
                  <a:lnTo>
                    <a:pt x="19" y="43"/>
                  </a:lnTo>
                  <a:lnTo>
                    <a:pt x="22" y="43"/>
                  </a:lnTo>
                  <a:lnTo>
                    <a:pt x="41" y="43"/>
                  </a:lnTo>
                  <a:lnTo>
                    <a:pt x="41" y="2"/>
                  </a:lnTo>
                  <a:lnTo>
                    <a:pt x="22" y="2"/>
                  </a:lnTo>
                  <a:lnTo>
                    <a:pt x="22" y="23"/>
                  </a:lnTo>
                  <a:lnTo>
                    <a:pt x="25" y="4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965400" y="6684840"/>
              <a:ext cx="33480" cy="3204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0" y="0"/>
                  </a:moveTo>
                  <a:lnTo>
                    <a:pt x="0" y="41"/>
                  </a:lnTo>
                  <a:lnTo>
                    <a:pt x="0" y="41"/>
                  </a:lnTo>
                  <a:lnTo>
                    <a:pt x="22" y="41"/>
                  </a:lnTo>
                  <a:lnTo>
                    <a:pt x="41" y="41"/>
                  </a:lnTo>
                  <a:lnTo>
                    <a:pt x="41" y="0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030560" y="6686640"/>
              <a:ext cx="31680" cy="331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0" y="0"/>
                  </a:moveTo>
                  <a:lnTo>
                    <a:pt x="0" y="40"/>
                  </a:lnTo>
                  <a:lnTo>
                    <a:pt x="2" y="40"/>
                  </a:lnTo>
                  <a:lnTo>
                    <a:pt x="23" y="40"/>
                  </a:lnTo>
                  <a:lnTo>
                    <a:pt x="40" y="40"/>
                  </a:lnTo>
                  <a:lnTo>
                    <a:pt x="40" y="0"/>
                  </a:lnTo>
                  <a:lnTo>
                    <a:pt x="23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094280" y="6686640"/>
              <a:ext cx="33120" cy="3312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0" y="0"/>
                  </a:moveTo>
                  <a:lnTo>
                    <a:pt x="0" y="40"/>
                  </a:lnTo>
                  <a:lnTo>
                    <a:pt x="9" y="40"/>
                  </a:lnTo>
                  <a:lnTo>
                    <a:pt x="24" y="40"/>
                  </a:lnTo>
                  <a:lnTo>
                    <a:pt x="34" y="40"/>
                  </a:lnTo>
                  <a:lnTo>
                    <a:pt x="41" y="40"/>
                  </a:lnTo>
                  <a:lnTo>
                    <a:pt x="41" y="0"/>
                  </a:lnTo>
                  <a:lnTo>
                    <a:pt x="34" y="0"/>
                  </a:lnTo>
                  <a:lnTo>
                    <a:pt x="24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159080" y="6686640"/>
              <a:ext cx="32040" cy="3312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0" y="0"/>
                  </a:moveTo>
                  <a:lnTo>
                    <a:pt x="0" y="40"/>
                  </a:lnTo>
                  <a:lnTo>
                    <a:pt x="0" y="40"/>
                  </a:lnTo>
                  <a:lnTo>
                    <a:pt x="8" y="40"/>
                  </a:lnTo>
                  <a:lnTo>
                    <a:pt x="21" y="40"/>
                  </a:lnTo>
                  <a:lnTo>
                    <a:pt x="35" y="40"/>
                  </a:lnTo>
                  <a:lnTo>
                    <a:pt x="41" y="40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1" y="0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2576520" y="3905280"/>
            <a:ext cx="1782720" cy="2019240"/>
            <a:chOff x="2576520" y="3905280"/>
            <a:chExt cx="1782720" cy="2019240"/>
          </a:xfrm>
        </p:grpSpPr>
        <p:sp>
          <p:nvSpPr>
            <p:cNvPr id="1247" name=""/>
            <p:cNvSpPr/>
            <p:nvPr/>
          </p:nvSpPr>
          <p:spPr>
            <a:xfrm>
              <a:off x="2576520" y="3905280"/>
              <a:ext cx="33480" cy="3348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4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1" y="41"/>
                  </a:lnTo>
                  <a:lnTo>
                    <a:pt x="21" y="40"/>
                  </a:lnTo>
                  <a:lnTo>
                    <a:pt x="1" y="40"/>
                  </a:lnTo>
                  <a:lnTo>
                    <a:pt x="1" y="41"/>
                  </a:lnTo>
                  <a:lnTo>
                    <a:pt x="42" y="41"/>
                  </a:lnTo>
                  <a:lnTo>
                    <a:pt x="42" y="40"/>
                  </a:lnTo>
                  <a:lnTo>
                    <a:pt x="42" y="38"/>
                  </a:lnTo>
                  <a:lnTo>
                    <a:pt x="40" y="22"/>
                  </a:lnTo>
                  <a:lnTo>
                    <a:pt x="20" y="23"/>
                  </a:lnTo>
                  <a:lnTo>
                    <a:pt x="40" y="23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579760" y="3959280"/>
              <a:ext cx="36360" cy="4284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40" y="14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22"/>
                  </a:lnTo>
                  <a:lnTo>
                    <a:pt x="5" y="29"/>
                  </a:lnTo>
                  <a:lnTo>
                    <a:pt x="7" y="29"/>
                  </a:lnTo>
                  <a:lnTo>
                    <a:pt x="9" y="31"/>
                  </a:lnTo>
                  <a:lnTo>
                    <a:pt x="23" y="16"/>
                  </a:lnTo>
                  <a:lnTo>
                    <a:pt x="2" y="16"/>
                  </a:lnTo>
                  <a:lnTo>
                    <a:pt x="4" y="25"/>
                  </a:lnTo>
                  <a:lnTo>
                    <a:pt x="8" y="31"/>
                  </a:lnTo>
                  <a:lnTo>
                    <a:pt x="2" y="16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4" y="33"/>
                  </a:lnTo>
                  <a:lnTo>
                    <a:pt x="5" y="34"/>
                  </a:lnTo>
                  <a:lnTo>
                    <a:pt x="7" y="37"/>
                  </a:lnTo>
                  <a:lnTo>
                    <a:pt x="24" y="27"/>
                  </a:lnTo>
                  <a:lnTo>
                    <a:pt x="4" y="27"/>
                  </a:lnTo>
                  <a:lnTo>
                    <a:pt x="4" y="33"/>
                  </a:lnTo>
                  <a:lnTo>
                    <a:pt x="4" y="33"/>
                  </a:lnTo>
                  <a:lnTo>
                    <a:pt x="5" y="38"/>
                  </a:lnTo>
                  <a:lnTo>
                    <a:pt x="7" y="44"/>
                  </a:lnTo>
                  <a:lnTo>
                    <a:pt x="25" y="38"/>
                  </a:lnTo>
                  <a:lnTo>
                    <a:pt x="5" y="38"/>
                  </a:lnTo>
                  <a:lnTo>
                    <a:pt x="5" y="45"/>
                  </a:lnTo>
                  <a:lnTo>
                    <a:pt x="7" y="48"/>
                  </a:lnTo>
                  <a:lnTo>
                    <a:pt x="7" y="54"/>
                  </a:lnTo>
                  <a:lnTo>
                    <a:pt x="46" y="49"/>
                  </a:lnTo>
                  <a:lnTo>
                    <a:pt x="46" y="42"/>
                  </a:lnTo>
                  <a:lnTo>
                    <a:pt x="25" y="45"/>
                  </a:lnTo>
                  <a:lnTo>
                    <a:pt x="46" y="45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46" y="34"/>
                  </a:lnTo>
                  <a:lnTo>
                    <a:pt x="44" y="29"/>
                  </a:lnTo>
                  <a:lnTo>
                    <a:pt x="24" y="33"/>
                  </a:lnTo>
                  <a:lnTo>
                    <a:pt x="44" y="33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43" y="19"/>
                  </a:lnTo>
                  <a:lnTo>
                    <a:pt x="42" y="19"/>
                  </a:lnTo>
                  <a:lnTo>
                    <a:pt x="40" y="16"/>
                  </a:lnTo>
                  <a:lnTo>
                    <a:pt x="23" y="25"/>
                  </a:lnTo>
                  <a:lnTo>
                    <a:pt x="43" y="25"/>
                  </a:lnTo>
                  <a:lnTo>
                    <a:pt x="43" y="23"/>
                  </a:lnTo>
                  <a:lnTo>
                    <a:pt x="43" y="20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42" y="8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35" y="0"/>
                  </a:lnTo>
                  <a:lnTo>
                    <a:pt x="40" y="14"/>
                  </a:lnTo>
                  <a:lnTo>
                    <a:pt x="39" y="6"/>
                  </a:lnTo>
                  <a:lnTo>
                    <a:pt x="35" y="0"/>
                  </a:lnTo>
                  <a:lnTo>
                    <a:pt x="20" y="14"/>
                  </a:lnTo>
                  <a:lnTo>
                    <a:pt x="40" y="14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589120" y="4030560"/>
              <a:ext cx="36720" cy="3672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39" y="0"/>
                  </a:moveTo>
                  <a:lnTo>
                    <a:pt x="0" y="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6" y="40"/>
                  </a:lnTo>
                  <a:lnTo>
                    <a:pt x="25" y="36"/>
                  </a:lnTo>
                  <a:lnTo>
                    <a:pt x="6" y="39"/>
                  </a:lnTo>
                  <a:lnTo>
                    <a:pt x="6" y="46"/>
                  </a:lnTo>
                  <a:lnTo>
                    <a:pt x="46" y="40"/>
                  </a:lnTo>
                  <a:lnTo>
                    <a:pt x="46" y="33"/>
                  </a:lnTo>
                  <a:lnTo>
                    <a:pt x="46" y="33"/>
                  </a:lnTo>
                  <a:lnTo>
                    <a:pt x="42" y="12"/>
                  </a:lnTo>
                  <a:lnTo>
                    <a:pt x="21" y="14"/>
                  </a:lnTo>
                  <a:lnTo>
                    <a:pt x="42" y="12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600280" y="4094280"/>
              <a:ext cx="36720" cy="3636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39" y="0"/>
                  </a:moveTo>
                  <a:lnTo>
                    <a:pt x="0" y="5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7" y="42"/>
                  </a:lnTo>
                  <a:lnTo>
                    <a:pt x="7" y="46"/>
                  </a:lnTo>
                  <a:lnTo>
                    <a:pt x="46" y="39"/>
                  </a:lnTo>
                  <a:lnTo>
                    <a:pt x="46" y="35"/>
                  </a:lnTo>
                  <a:lnTo>
                    <a:pt x="41" y="6"/>
                  </a:lnTo>
                  <a:lnTo>
                    <a:pt x="20" y="9"/>
                  </a:lnTo>
                  <a:lnTo>
                    <a:pt x="41" y="6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610000" y="4157640"/>
              <a:ext cx="37800" cy="36360"/>
            </a:xfrm>
            <a:custGeom>
              <a:avLst/>
              <a:gdLst/>
              <a:ahLst/>
              <a:rect l="l" t="t" r="r" b="b"/>
              <a:pathLst>
                <a:path w="47" h="48">
                  <a:moveTo>
                    <a:pt x="39" y="0"/>
                  </a:moveTo>
                  <a:lnTo>
                    <a:pt x="0" y="7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8" y="48"/>
                  </a:lnTo>
                  <a:lnTo>
                    <a:pt x="47" y="40"/>
                  </a:lnTo>
                  <a:lnTo>
                    <a:pt x="43" y="17"/>
                  </a:lnTo>
                  <a:lnTo>
                    <a:pt x="23" y="21"/>
                  </a:lnTo>
                  <a:lnTo>
                    <a:pt x="43" y="18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622600" y="4219560"/>
              <a:ext cx="38160" cy="38160"/>
            </a:xfrm>
            <a:custGeom>
              <a:avLst/>
              <a:gdLst/>
              <a:ahLst/>
              <a:rect l="l" t="t" r="r" b="b"/>
              <a:pathLst>
                <a:path w="47" h="48">
                  <a:moveTo>
                    <a:pt x="39" y="0"/>
                  </a:moveTo>
                  <a:lnTo>
                    <a:pt x="0" y="8"/>
                  </a:lnTo>
                  <a:lnTo>
                    <a:pt x="1" y="10"/>
                  </a:lnTo>
                  <a:lnTo>
                    <a:pt x="8" y="42"/>
                  </a:lnTo>
                  <a:lnTo>
                    <a:pt x="27" y="38"/>
                  </a:lnTo>
                  <a:lnTo>
                    <a:pt x="8" y="42"/>
                  </a:lnTo>
                  <a:lnTo>
                    <a:pt x="8" y="48"/>
                  </a:lnTo>
                  <a:lnTo>
                    <a:pt x="47" y="41"/>
                  </a:lnTo>
                  <a:lnTo>
                    <a:pt x="47" y="35"/>
                  </a:lnTo>
                  <a:lnTo>
                    <a:pt x="47" y="34"/>
                  </a:lnTo>
                  <a:lnTo>
                    <a:pt x="41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637000" y="4282920"/>
              <a:ext cx="37800" cy="381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39" y="0"/>
                  </a:moveTo>
                  <a:lnTo>
                    <a:pt x="0" y="10"/>
                  </a:lnTo>
                  <a:lnTo>
                    <a:pt x="6" y="30"/>
                  </a:lnTo>
                  <a:lnTo>
                    <a:pt x="10" y="49"/>
                  </a:lnTo>
                  <a:lnTo>
                    <a:pt x="49" y="39"/>
                  </a:lnTo>
                  <a:lnTo>
                    <a:pt x="45" y="2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652840" y="4344840"/>
              <a:ext cx="34920" cy="39960"/>
            </a:xfrm>
            <a:custGeom>
              <a:avLst/>
              <a:gdLst/>
              <a:ahLst/>
              <a:rect l="l" t="t" r="r" b="b"/>
              <a:pathLst>
                <a:path w="45" h="52">
                  <a:moveTo>
                    <a:pt x="38" y="0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19" y="7"/>
                  </a:lnTo>
                  <a:lnTo>
                    <a:pt x="0" y="11"/>
                  </a:lnTo>
                  <a:lnTo>
                    <a:pt x="6" y="44"/>
                  </a:lnTo>
                  <a:lnTo>
                    <a:pt x="6" y="45"/>
                  </a:lnTo>
                  <a:lnTo>
                    <a:pt x="7" y="52"/>
                  </a:lnTo>
                  <a:lnTo>
                    <a:pt x="45" y="41"/>
                  </a:lnTo>
                  <a:lnTo>
                    <a:pt x="44" y="34"/>
                  </a:lnTo>
                  <a:lnTo>
                    <a:pt x="25" y="40"/>
                  </a:lnTo>
                  <a:lnTo>
                    <a:pt x="45" y="37"/>
                  </a:lnTo>
                  <a:lnTo>
                    <a:pt x="40" y="4"/>
                  </a:lnTo>
                  <a:lnTo>
                    <a:pt x="38" y="2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665440" y="4408560"/>
              <a:ext cx="38160" cy="39600"/>
            </a:xfrm>
            <a:custGeom>
              <a:avLst/>
              <a:gdLst/>
              <a:ahLst/>
              <a:rect l="l" t="t" r="r" b="b"/>
              <a:pathLst>
                <a:path w="48" h="50">
                  <a:moveTo>
                    <a:pt x="39" y="0"/>
                  </a:moveTo>
                  <a:lnTo>
                    <a:pt x="0" y="10"/>
                  </a:lnTo>
                  <a:lnTo>
                    <a:pt x="5" y="30"/>
                  </a:lnTo>
                  <a:lnTo>
                    <a:pt x="9" y="50"/>
                  </a:lnTo>
                  <a:lnTo>
                    <a:pt x="48" y="41"/>
                  </a:lnTo>
                  <a:lnTo>
                    <a:pt x="44" y="2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679840" y="4471920"/>
              <a:ext cx="39600" cy="3816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39" y="0"/>
                  </a:moveTo>
                  <a:lnTo>
                    <a:pt x="0" y="10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12" y="49"/>
                  </a:lnTo>
                  <a:lnTo>
                    <a:pt x="50" y="37"/>
                  </a:lnTo>
                  <a:lnTo>
                    <a:pt x="40" y="7"/>
                  </a:lnTo>
                  <a:lnTo>
                    <a:pt x="21" y="12"/>
                  </a:lnTo>
                  <a:lnTo>
                    <a:pt x="42" y="8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698920" y="4532400"/>
              <a:ext cx="39600" cy="396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38" y="0"/>
                  </a:moveTo>
                  <a:lnTo>
                    <a:pt x="0" y="14"/>
                  </a:lnTo>
                  <a:lnTo>
                    <a:pt x="9" y="43"/>
                  </a:lnTo>
                  <a:lnTo>
                    <a:pt x="28" y="37"/>
                  </a:lnTo>
                  <a:lnTo>
                    <a:pt x="9" y="42"/>
                  </a:lnTo>
                  <a:lnTo>
                    <a:pt x="11" y="50"/>
                  </a:lnTo>
                  <a:lnTo>
                    <a:pt x="50" y="41"/>
                  </a:lnTo>
                  <a:lnTo>
                    <a:pt x="48" y="33"/>
                  </a:lnTo>
                  <a:lnTo>
                    <a:pt x="47" y="3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716200" y="4595760"/>
              <a:ext cx="38160" cy="381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38" y="0"/>
                  </a:moveTo>
                  <a:lnTo>
                    <a:pt x="0" y="11"/>
                  </a:lnTo>
                  <a:lnTo>
                    <a:pt x="6" y="28"/>
                  </a:lnTo>
                  <a:lnTo>
                    <a:pt x="25" y="23"/>
                  </a:lnTo>
                  <a:lnTo>
                    <a:pt x="6" y="27"/>
                  </a:lnTo>
                  <a:lnTo>
                    <a:pt x="10" y="49"/>
                  </a:lnTo>
                  <a:lnTo>
                    <a:pt x="49" y="41"/>
                  </a:lnTo>
                  <a:lnTo>
                    <a:pt x="45" y="19"/>
                  </a:lnTo>
                  <a:lnTo>
                    <a:pt x="44" y="1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733840" y="4656240"/>
              <a:ext cx="41040" cy="3960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38" y="0"/>
                  </a:moveTo>
                  <a:lnTo>
                    <a:pt x="0" y="12"/>
                  </a:lnTo>
                  <a:lnTo>
                    <a:pt x="9" y="37"/>
                  </a:lnTo>
                  <a:lnTo>
                    <a:pt x="9" y="37"/>
                  </a:lnTo>
                  <a:lnTo>
                    <a:pt x="14" y="50"/>
                  </a:lnTo>
                  <a:lnTo>
                    <a:pt x="52" y="37"/>
                  </a:lnTo>
                  <a:lnTo>
                    <a:pt x="46" y="23"/>
                  </a:lnTo>
                  <a:lnTo>
                    <a:pt x="27" y="30"/>
                  </a:lnTo>
                  <a:lnTo>
                    <a:pt x="46" y="2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755800" y="4714920"/>
              <a:ext cx="41400" cy="4284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38" y="0"/>
                  </a:moveTo>
                  <a:lnTo>
                    <a:pt x="0" y="17"/>
                  </a:lnTo>
                  <a:lnTo>
                    <a:pt x="3" y="23"/>
                  </a:lnTo>
                  <a:lnTo>
                    <a:pt x="22" y="15"/>
                  </a:lnTo>
                  <a:lnTo>
                    <a:pt x="3" y="22"/>
                  </a:lnTo>
                  <a:lnTo>
                    <a:pt x="8" y="40"/>
                  </a:lnTo>
                  <a:lnTo>
                    <a:pt x="8" y="41"/>
                  </a:lnTo>
                  <a:lnTo>
                    <a:pt x="13" y="55"/>
                  </a:lnTo>
                  <a:lnTo>
                    <a:pt x="51" y="40"/>
                  </a:lnTo>
                  <a:lnTo>
                    <a:pt x="46" y="26"/>
                  </a:lnTo>
                  <a:lnTo>
                    <a:pt x="27" y="33"/>
                  </a:lnTo>
                  <a:lnTo>
                    <a:pt x="46" y="28"/>
                  </a:lnTo>
                  <a:lnTo>
                    <a:pt x="40" y="10"/>
                  </a:lnTo>
                  <a:lnTo>
                    <a:pt x="40" y="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781360" y="4775040"/>
              <a:ext cx="39600" cy="43200"/>
            </a:xfrm>
            <a:custGeom>
              <a:avLst/>
              <a:gdLst/>
              <a:ahLst/>
              <a:rect l="l" t="t" r="r" b="b"/>
              <a:pathLst>
                <a:path w="50" h="55">
                  <a:moveTo>
                    <a:pt x="35" y="0"/>
                  </a:moveTo>
                  <a:lnTo>
                    <a:pt x="0" y="18"/>
                  </a:lnTo>
                  <a:lnTo>
                    <a:pt x="4" y="26"/>
                  </a:lnTo>
                  <a:lnTo>
                    <a:pt x="22" y="17"/>
                  </a:lnTo>
                  <a:lnTo>
                    <a:pt x="3" y="23"/>
                  </a:lnTo>
                  <a:lnTo>
                    <a:pt x="11" y="48"/>
                  </a:lnTo>
                  <a:lnTo>
                    <a:pt x="12" y="50"/>
                  </a:lnTo>
                  <a:lnTo>
                    <a:pt x="14" y="55"/>
                  </a:lnTo>
                  <a:lnTo>
                    <a:pt x="50" y="37"/>
                  </a:lnTo>
                  <a:lnTo>
                    <a:pt x="49" y="33"/>
                  </a:lnTo>
                  <a:lnTo>
                    <a:pt x="30" y="41"/>
                  </a:lnTo>
                  <a:lnTo>
                    <a:pt x="49" y="34"/>
                  </a:lnTo>
                  <a:lnTo>
                    <a:pt x="41" y="10"/>
                  </a:lnTo>
                  <a:lnTo>
                    <a:pt x="39" y="8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805120" y="4835520"/>
              <a:ext cx="42840" cy="39600"/>
            </a:xfrm>
            <a:custGeom>
              <a:avLst/>
              <a:gdLst/>
              <a:ahLst/>
              <a:rect l="l" t="t" r="r" b="b"/>
              <a:pathLst>
                <a:path w="54" h="52">
                  <a:moveTo>
                    <a:pt x="38" y="0"/>
                  </a:moveTo>
                  <a:lnTo>
                    <a:pt x="0" y="15"/>
                  </a:lnTo>
                  <a:lnTo>
                    <a:pt x="1" y="21"/>
                  </a:lnTo>
                  <a:lnTo>
                    <a:pt x="3" y="22"/>
                  </a:lnTo>
                  <a:lnTo>
                    <a:pt x="15" y="46"/>
                  </a:lnTo>
                  <a:lnTo>
                    <a:pt x="32" y="37"/>
                  </a:lnTo>
                  <a:lnTo>
                    <a:pt x="13" y="44"/>
                  </a:lnTo>
                  <a:lnTo>
                    <a:pt x="16" y="52"/>
                  </a:lnTo>
                  <a:lnTo>
                    <a:pt x="54" y="38"/>
                  </a:lnTo>
                  <a:lnTo>
                    <a:pt x="51" y="30"/>
                  </a:lnTo>
                  <a:lnTo>
                    <a:pt x="50" y="29"/>
                  </a:lnTo>
                  <a:lnTo>
                    <a:pt x="38" y="4"/>
                  </a:lnTo>
                  <a:lnTo>
                    <a:pt x="20" y="12"/>
                  </a:lnTo>
                  <a:lnTo>
                    <a:pt x="39" y="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828880" y="4896000"/>
              <a:ext cx="41400" cy="4104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38" y="0"/>
                  </a:moveTo>
                  <a:lnTo>
                    <a:pt x="0" y="14"/>
                  </a:lnTo>
                  <a:lnTo>
                    <a:pt x="2" y="22"/>
                  </a:lnTo>
                  <a:lnTo>
                    <a:pt x="4" y="23"/>
                  </a:lnTo>
                  <a:lnTo>
                    <a:pt x="14" y="48"/>
                  </a:lnTo>
                  <a:lnTo>
                    <a:pt x="14" y="49"/>
                  </a:lnTo>
                  <a:lnTo>
                    <a:pt x="17" y="53"/>
                  </a:lnTo>
                  <a:lnTo>
                    <a:pt x="52" y="35"/>
                  </a:lnTo>
                  <a:lnTo>
                    <a:pt x="50" y="31"/>
                  </a:lnTo>
                  <a:lnTo>
                    <a:pt x="32" y="39"/>
                  </a:lnTo>
                  <a:lnTo>
                    <a:pt x="51" y="31"/>
                  </a:lnTo>
                  <a:lnTo>
                    <a:pt x="40" y="7"/>
                  </a:lnTo>
                  <a:lnTo>
                    <a:pt x="21" y="15"/>
                  </a:lnTo>
                  <a:lnTo>
                    <a:pt x="40" y="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854440" y="4954680"/>
              <a:ext cx="42840" cy="41040"/>
            </a:xfrm>
            <a:custGeom>
              <a:avLst/>
              <a:gdLst/>
              <a:ahLst/>
              <a:rect l="l" t="t" r="r" b="b"/>
              <a:pathLst>
                <a:path w="54" h="51">
                  <a:moveTo>
                    <a:pt x="38" y="0"/>
                  </a:moveTo>
                  <a:lnTo>
                    <a:pt x="0" y="13"/>
                  </a:lnTo>
                  <a:lnTo>
                    <a:pt x="3" y="21"/>
                  </a:lnTo>
                  <a:lnTo>
                    <a:pt x="4" y="24"/>
                  </a:lnTo>
                  <a:lnTo>
                    <a:pt x="15" y="47"/>
                  </a:lnTo>
                  <a:lnTo>
                    <a:pt x="33" y="38"/>
                  </a:lnTo>
                  <a:lnTo>
                    <a:pt x="14" y="44"/>
                  </a:lnTo>
                  <a:lnTo>
                    <a:pt x="16" y="51"/>
                  </a:lnTo>
                  <a:lnTo>
                    <a:pt x="54" y="38"/>
                  </a:lnTo>
                  <a:lnTo>
                    <a:pt x="52" y="31"/>
                  </a:lnTo>
                  <a:lnTo>
                    <a:pt x="52" y="29"/>
                  </a:lnTo>
                  <a:lnTo>
                    <a:pt x="41" y="6"/>
                  </a:lnTo>
                  <a:lnTo>
                    <a:pt x="22" y="15"/>
                  </a:lnTo>
                  <a:lnTo>
                    <a:pt x="41" y="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879640" y="5014800"/>
              <a:ext cx="41400" cy="414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38" y="0"/>
                  </a:moveTo>
                  <a:lnTo>
                    <a:pt x="0" y="10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51"/>
                  </a:lnTo>
                  <a:lnTo>
                    <a:pt x="51" y="33"/>
                  </a:lnTo>
                  <a:lnTo>
                    <a:pt x="44" y="18"/>
                  </a:lnTo>
                  <a:lnTo>
                    <a:pt x="25" y="27"/>
                  </a:lnTo>
                  <a:lnTo>
                    <a:pt x="44" y="2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905200" y="5072040"/>
              <a:ext cx="41040" cy="4140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36" y="0"/>
                  </a:moveTo>
                  <a:lnTo>
                    <a:pt x="0" y="18"/>
                  </a:lnTo>
                  <a:lnTo>
                    <a:pt x="7" y="31"/>
                  </a:lnTo>
                  <a:lnTo>
                    <a:pt x="24" y="22"/>
                  </a:lnTo>
                  <a:lnTo>
                    <a:pt x="5" y="29"/>
                  </a:lnTo>
                  <a:lnTo>
                    <a:pt x="15" y="53"/>
                  </a:lnTo>
                  <a:lnTo>
                    <a:pt x="53" y="40"/>
                  </a:lnTo>
                  <a:lnTo>
                    <a:pt x="43" y="15"/>
                  </a:lnTo>
                  <a:lnTo>
                    <a:pt x="43" y="1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928960" y="5130720"/>
              <a:ext cx="44280" cy="4284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38" y="0"/>
                  </a:moveTo>
                  <a:lnTo>
                    <a:pt x="0" y="16"/>
                  </a:lnTo>
                  <a:lnTo>
                    <a:pt x="5" y="30"/>
                  </a:lnTo>
                  <a:lnTo>
                    <a:pt x="7" y="32"/>
                  </a:lnTo>
                  <a:lnTo>
                    <a:pt x="19" y="54"/>
                  </a:lnTo>
                  <a:lnTo>
                    <a:pt x="36" y="43"/>
                  </a:lnTo>
                  <a:lnTo>
                    <a:pt x="17" y="51"/>
                  </a:lnTo>
                  <a:lnTo>
                    <a:pt x="17" y="53"/>
                  </a:lnTo>
                  <a:lnTo>
                    <a:pt x="55" y="36"/>
                  </a:lnTo>
                  <a:lnTo>
                    <a:pt x="55" y="35"/>
                  </a:lnTo>
                  <a:lnTo>
                    <a:pt x="54" y="34"/>
                  </a:lnTo>
                  <a:lnTo>
                    <a:pt x="42" y="12"/>
                  </a:lnTo>
                  <a:lnTo>
                    <a:pt x="24" y="22"/>
                  </a:lnTo>
                  <a:lnTo>
                    <a:pt x="43" y="13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955960" y="5189400"/>
              <a:ext cx="42840" cy="4284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38" y="0"/>
                  </a:moveTo>
                  <a:lnTo>
                    <a:pt x="0" y="17"/>
                  </a:lnTo>
                  <a:lnTo>
                    <a:pt x="4" y="26"/>
                  </a:lnTo>
                  <a:lnTo>
                    <a:pt x="5" y="26"/>
                  </a:lnTo>
                  <a:lnTo>
                    <a:pt x="15" y="48"/>
                  </a:lnTo>
                  <a:lnTo>
                    <a:pt x="15" y="49"/>
                  </a:lnTo>
                  <a:lnTo>
                    <a:pt x="17" y="55"/>
                  </a:lnTo>
                  <a:lnTo>
                    <a:pt x="53" y="36"/>
                  </a:lnTo>
                  <a:lnTo>
                    <a:pt x="50" y="30"/>
                  </a:lnTo>
                  <a:lnTo>
                    <a:pt x="32" y="40"/>
                  </a:lnTo>
                  <a:lnTo>
                    <a:pt x="51" y="32"/>
                  </a:lnTo>
                  <a:lnTo>
                    <a:pt x="42" y="10"/>
                  </a:lnTo>
                  <a:lnTo>
                    <a:pt x="23" y="18"/>
                  </a:lnTo>
                  <a:lnTo>
                    <a:pt x="42" y="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982960" y="5248440"/>
              <a:ext cx="42840" cy="442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5" y="0"/>
                  </a:moveTo>
                  <a:lnTo>
                    <a:pt x="0" y="19"/>
                  </a:lnTo>
                  <a:lnTo>
                    <a:pt x="8" y="33"/>
                  </a:lnTo>
                  <a:lnTo>
                    <a:pt x="25" y="24"/>
                  </a:lnTo>
                  <a:lnTo>
                    <a:pt x="8" y="33"/>
                  </a:lnTo>
                  <a:lnTo>
                    <a:pt x="16" y="50"/>
                  </a:lnTo>
                  <a:lnTo>
                    <a:pt x="17" y="51"/>
                  </a:lnTo>
                  <a:lnTo>
                    <a:pt x="20" y="55"/>
                  </a:lnTo>
                  <a:lnTo>
                    <a:pt x="54" y="33"/>
                  </a:lnTo>
                  <a:lnTo>
                    <a:pt x="51" y="29"/>
                  </a:lnTo>
                  <a:lnTo>
                    <a:pt x="33" y="40"/>
                  </a:lnTo>
                  <a:lnTo>
                    <a:pt x="51" y="32"/>
                  </a:lnTo>
                  <a:lnTo>
                    <a:pt x="43" y="16"/>
                  </a:lnTo>
                  <a:lnTo>
                    <a:pt x="43" y="1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013200" y="5305320"/>
              <a:ext cx="42840" cy="41400"/>
            </a:xfrm>
            <a:custGeom>
              <a:avLst/>
              <a:gdLst/>
              <a:ahLst/>
              <a:rect l="l" t="t" r="r" b="b"/>
              <a:pathLst>
                <a:path w="56" h="53">
                  <a:moveTo>
                    <a:pt x="37" y="0"/>
                  </a:moveTo>
                  <a:lnTo>
                    <a:pt x="0" y="18"/>
                  </a:lnTo>
                  <a:lnTo>
                    <a:pt x="8" y="36"/>
                  </a:lnTo>
                  <a:lnTo>
                    <a:pt x="10" y="38"/>
                  </a:lnTo>
                  <a:lnTo>
                    <a:pt x="20" y="53"/>
                  </a:lnTo>
                  <a:lnTo>
                    <a:pt x="37" y="41"/>
                  </a:lnTo>
                  <a:lnTo>
                    <a:pt x="19" y="51"/>
                  </a:lnTo>
                  <a:lnTo>
                    <a:pt x="20" y="53"/>
                  </a:lnTo>
                  <a:lnTo>
                    <a:pt x="56" y="36"/>
                  </a:lnTo>
                  <a:lnTo>
                    <a:pt x="54" y="33"/>
                  </a:lnTo>
                  <a:lnTo>
                    <a:pt x="53" y="30"/>
                  </a:lnTo>
                  <a:lnTo>
                    <a:pt x="42" y="15"/>
                  </a:lnTo>
                  <a:lnTo>
                    <a:pt x="26" y="26"/>
                  </a:lnTo>
                  <a:lnTo>
                    <a:pt x="45" y="1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046320" y="5359320"/>
              <a:ext cx="42840" cy="4464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34" y="0"/>
                  </a:moveTo>
                  <a:lnTo>
                    <a:pt x="0" y="22"/>
                  </a:lnTo>
                  <a:lnTo>
                    <a:pt x="11" y="38"/>
                  </a:lnTo>
                  <a:lnTo>
                    <a:pt x="11" y="40"/>
                  </a:lnTo>
                  <a:lnTo>
                    <a:pt x="23" y="56"/>
                  </a:lnTo>
                  <a:lnTo>
                    <a:pt x="56" y="33"/>
                  </a:lnTo>
                  <a:lnTo>
                    <a:pt x="43" y="17"/>
                  </a:lnTo>
                  <a:lnTo>
                    <a:pt x="27" y="28"/>
                  </a:lnTo>
                  <a:lnTo>
                    <a:pt x="45" y="17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081240" y="5411880"/>
              <a:ext cx="44640" cy="47520"/>
            </a:xfrm>
            <a:custGeom>
              <a:avLst/>
              <a:gdLst/>
              <a:ahLst/>
              <a:rect l="l" t="t" r="r" b="b"/>
              <a:pathLst>
                <a:path w="55" h="58">
                  <a:moveTo>
                    <a:pt x="31" y="0"/>
                  </a:moveTo>
                  <a:lnTo>
                    <a:pt x="0" y="24"/>
                  </a:lnTo>
                  <a:lnTo>
                    <a:pt x="4" y="28"/>
                  </a:lnTo>
                  <a:lnTo>
                    <a:pt x="19" y="16"/>
                  </a:lnTo>
                  <a:lnTo>
                    <a:pt x="3" y="27"/>
                  </a:lnTo>
                  <a:lnTo>
                    <a:pt x="15" y="46"/>
                  </a:lnTo>
                  <a:lnTo>
                    <a:pt x="15" y="47"/>
                  </a:lnTo>
                  <a:lnTo>
                    <a:pt x="23" y="58"/>
                  </a:lnTo>
                  <a:lnTo>
                    <a:pt x="55" y="34"/>
                  </a:lnTo>
                  <a:lnTo>
                    <a:pt x="47" y="23"/>
                  </a:lnTo>
                  <a:lnTo>
                    <a:pt x="31" y="35"/>
                  </a:lnTo>
                  <a:lnTo>
                    <a:pt x="49" y="24"/>
                  </a:lnTo>
                  <a:lnTo>
                    <a:pt x="36" y="5"/>
                  </a:lnTo>
                  <a:lnTo>
                    <a:pt x="35" y="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117960" y="5465880"/>
              <a:ext cx="44280" cy="4608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31" y="0"/>
                  </a:moveTo>
                  <a:lnTo>
                    <a:pt x="0" y="26"/>
                  </a:lnTo>
                  <a:lnTo>
                    <a:pt x="5" y="31"/>
                  </a:lnTo>
                  <a:lnTo>
                    <a:pt x="20" y="18"/>
                  </a:lnTo>
                  <a:lnTo>
                    <a:pt x="4" y="30"/>
                  </a:lnTo>
                  <a:lnTo>
                    <a:pt x="15" y="45"/>
                  </a:lnTo>
                  <a:lnTo>
                    <a:pt x="18" y="48"/>
                  </a:lnTo>
                  <a:lnTo>
                    <a:pt x="30" y="59"/>
                  </a:lnTo>
                  <a:lnTo>
                    <a:pt x="57" y="29"/>
                  </a:lnTo>
                  <a:lnTo>
                    <a:pt x="45" y="18"/>
                  </a:lnTo>
                  <a:lnTo>
                    <a:pt x="31" y="33"/>
                  </a:lnTo>
                  <a:lnTo>
                    <a:pt x="47" y="22"/>
                  </a:lnTo>
                  <a:lnTo>
                    <a:pt x="36" y="7"/>
                  </a:lnTo>
                  <a:lnTo>
                    <a:pt x="36" y="6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159000" y="5514840"/>
              <a:ext cx="46080" cy="44640"/>
            </a:xfrm>
            <a:custGeom>
              <a:avLst/>
              <a:gdLst/>
              <a:ahLst/>
              <a:rect l="l" t="t" r="r" b="b"/>
              <a:pathLst>
                <a:path w="60" h="55">
                  <a:moveTo>
                    <a:pt x="30" y="0"/>
                  </a:moveTo>
                  <a:lnTo>
                    <a:pt x="0" y="27"/>
                  </a:lnTo>
                  <a:lnTo>
                    <a:pt x="13" y="39"/>
                  </a:lnTo>
                  <a:lnTo>
                    <a:pt x="14" y="40"/>
                  </a:lnTo>
                  <a:lnTo>
                    <a:pt x="27" y="54"/>
                  </a:lnTo>
                  <a:lnTo>
                    <a:pt x="41" y="39"/>
                  </a:lnTo>
                  <a:lnTo>
                    <a:pt x="26" y="52"/>
                  </a:lnTo>
                  <a:lnTo>
                    <a:pt x="29" y="55"/>
                  </a:lnTo>
                  <a:lnTo>
                    <a:pt x="60" y="29"/>
                  </a:lnTo>
                  <a:lnTo>
                    <a:pt x="57" y="27"/>
                  </a:lnTo>
                  <a:lnTo>
                    <a:pt x="56" y="25"/>
                  </a:lnTo>
                  <a:lnTo>
                    <a:pt x="42" y="12"/>
                  </a:lnTo>
                  <a:lnTo>
                    <a:pt x="27" y="25"/>
                  </a:lnTo>
                  <a:lnTo>
                    <a:pt x="42" y="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203640" y="5559480"/>
              <a:ext cx="46080" cy="4608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27" y="0"/>
                  </a:moveTo>
                  <a:lnTo>
                    <a:pt x="0" y="29"/>
                  </a:lnTo>
                  <a:lnTo>
                    <a:pt x="15" y="43"/>
                  </a:lnTo>
                  <a:lnTo>
                    <a:pt x="29" y="28"/>
                  </a:lnTo>
                  <a:lnTo>
                    <a:pt x="15" y="43"/>
                  </a:lnTo>
                  <a:lnTo>
                    <a:pt x="30" y="58"/>
                  </a:lnTo>
                  <a:lnTo>
                    <a:pt x="30" y="58"/>
                  </a:lnTo>
                  <a:lnTo>
                    <a:pt x="58" y="29"/>
                  </a:lnTo>
                  <a:lnTo>
                    <a:pt x="58" y="29"/>
                  </a:lnTo>
                  <a:lnTo>
                    <a:pt x="44" y="14"/>
                  </a:lnTo>
                  <a:lnTo>
                    <a:pt x="42" y="1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249720" y="5605560"/>
              <a:ext cx="44280" cy="4608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29" y="0"/>
                  </a:moveTo>
                  <a:lnTo>
                    <a:pt x="0" y="28"/>
                  </a:lnTo>
                  <a:lnTo>
                    <a:pt x="2" y="30"/>
                  </a:lnTo>
                  <a:lnTo>
                    <a:pt x="15" y="15"/>
                  </a:lnTo>
                  <a:lnTo>
                    <a:pt x="0" y="28"/>
                  </a:lnTo>
                  <a:lnTo>
                    <a:pt x="14" y="43"/>
                  </a:lnTo>
                  <a:lnTo>
                    <a:pt x="17" y="46"/>
                  </a:lnTo>
                  <a:lnTo>
                    <a:pt x="30" y="57"/>
                  </a:lnTo>
                  <a:lnTo>
                    <a:pt x="56" y="26"/>
                  </a:lnTo>
                  <a:lnTo>
                    <a:pt x="42" y="15"/>
                  </a:lnTo>
                  <a:lnTo>
                    <a:pt x="29" y="30"/>
                  </a:lnTo>
                  <a:lnTo>
                    <a:pt x="44" y="16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298680" y="5648400"/>
              <a:ext cx="46080" cy="44280"/>
            </a:xfrm>
            <a:custGeom>
              <a:avLst/>
              <a:gdLst/>
              <a:ahLst/>
              <a:rect l="l" t="t" r="r" b="b"/>
              <a:pathLst>
                <a:path w="59" h="57">
                  <a:moveTo>
                    <a:pt x="28" y="0"/>
                  </a:moveTo>
                  <a:lnTo>
                    <a:pt x="0" y="29"/>
                  </a:lnTo>
                  <a:lnTo>
                    <a:pt x="9" y="38"/>
                  </a:lnTo>
                  <a:lnTo>
                    <a:pt x="11" y="40"/>
                  </a:lnTo>
                  <a:lnTo>
                    <a:pt x="23" y="48"/>
                  </a:lnTo>
                  <a:lnTo>
                    <a:pt x="34" y="31"/>
                  </a:lnTo>
                  <a:lnTo>
                    <a:pt x="22" y="46"/>
                  </a:lnTo>
                  <a:lnTo>
                    <a:pt x="33" y="55"/>
                  </a:lnTo>
                  <a:lnTo>
                    <a:pt x="33" y="57"/>
                  </a:lnTo>
                  <a:lnTo>
                    <a:pt x="33" y="57"/>
                  </a:lnTo>
                  <a:lnTo>
                    <a:pt x="59" y="25"/>
                  </a:lnTo>
                  <a:lnTo>
                    <a:pt x="59" y="25"/>
                  </a:lnTo>
                  <a:lnTo>
                    <a:pt x="45" y="40"/>
                  </a:lnTo>
                  <a:lnTo>
                    <a:pt x="59" y="25"/>
                  </a:lnTo>
                  <a:lnTo>
                    <a:pt x="48" y="16"/>
                  </a:lnTo>
                  <a:lnTo>
                    <a:pt x="45" y="15"/>
                  </a:lnTo>
                  <a:lnTo>
                    <a:pt x="33" y="6"/>
                  </a:lnTo>
                  <a:lnTo>
                    <a:pt x="22" y="23"/>
                  </a:lnTo>
                  <a:lnTo>
                    <a:pt x="36" y="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349800" y="5688000"/>
              <a:ext cx="44280" cy="4464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26" y="0"/>
                  </a:moveTo>
                  <a:lnTo>
                    <a:pt x="0" y="30"/>
                  </a:lnTo>
                  <a:lnTo>
                    <a:pt x="10" y="38"/>
                  </a:lnTo>
                  <a:lnTo>
                    <a:pt x="13" y="40"/>
                  </a:lnTo>
                  <a:lnTo>
                    <a:pt x="23" y="47"/>
                  </a:lnTo>
                  <a:lnTo>
                    <a:pt x="33" y="30"/>
                  </a:lnTo>
                  <a:lnTo>
                    <a:pt x="21" y="46"/>
                  </a:lnTo>
                  <a:lnTo>
                    <a:pt x="30" y="54"/>
                  </a:lnTo>
                  <a:lnTo>
                    <a:pt x="32" y="55"/>
                  </a:lnTo>
                  <a:lnTo>
                    <a:pt x="34" y="57"/>
                  </a:lnTo>
                  <a:lnTo>
                    <a:pt x="56" y="23"/>
                  </a:lnTo>
                  <a:lnTo>
                    <a:pt x="53" y="21"/>
                  </a:lnTo>
                  <a:lnTo>
                    <a:pt x="42" y="38"/>
                  </a:lnTo>
                  <a:lnTo>
                    <a:pt x="56" y="23"/>
                  </a:lnTo>
                  <a:lnTo>
                    <a:pt x="46" y="15"/>
                  </a:lnTo>
                  <a:lnTo>
                    <a:pt x="44" y="13"/>
                  </a:lnTo>
                  <a:lnTo>
                    <a:pt x="33" y="7"/>
                  </a:lnTo>
                  <a:lnTo>
                    <a:pt x="22" y="23"/>
                  </a:lnTo>
                  <a:lnTo>
                    <a:pt x="36" y="8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398760" y="5727600"/>
              <a:ext cx="46080" cy="4464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28" y="0"/>
                  </a:moveTo>
                  <a:lnTo>
                    <a:pt x="0" y="28"/>
                  </a:lnTo>
                  <a:lnTo>
                    <a:pt x="4" y="32"/>
                  </a:lnTo>
                  <a:lnTo>
                    <a:pt x="8" y="35"/>
                  </a:lnTo>
                  <a:lnTo>
                    <a:pt x="17" y="41"/>
                  </a:lnTo>
                  <a:lnTo>
                    <a:pt x="27" y="23"/>
                  </a:lnTo>
                  <a:lnTo>
                    <a:pt x="15" y="39"/>
                  </a:lnTo>
                  <a:lnTo>
                    <a:pt x="21" y="45"/>
                  </a:lnTo>
                  <a:lnTo>
                    <a:pt x="24" y="46"/>
                  </a:lnTo>
                  <a:lnTo>
                    <a:pt x="31" y="50"/>
                  </a:lnTo>
                  <a:lnTo>
                    <a:pt x="40" y="32"/>
                  </a:lnTo>
                  <a:lnTo>
                    <a:pt x="28" y="49"/>
                  </a:lnTo>
                  <a:lnTo>
                    <a:pt x="34" y="53"/>
                  </a:lnTo>
                  <a:lnTo>
                    <a:pt x="38" y="56"/>
                  </a:lnTo>
                  <a:lnTo>
                    <a:pt x="42" y="57"/>
                  </a:lnTo>
                  <a:lnTo>
                    <a:pt x="43" y="57"/>
                  </a:lnTo>
                  <a:lnTo>
                    <a:pt x="53" y="18"/>
                  </a:lnTo>
                  <a:lnTo>
                    <a:pt x="51" y="18"/>
                  </a:lnTo>
                  <a:lnTo>
                    <a:pt x="46" y="37"/>
                  </a:lnTo>
                  <a:lnTo>
                    <a:pt x="58" y="20"/>
                  </a:lnTo>
                  <a:lnTo>
                    <a:pt x="53" y="16"/>
                  </a:lnTo>
                  <a:lnTo>
                    <a:pt x="51" y="16"/>
                  </a:lnTo>
                  <a:lnTo>
                    <a:pt x="44" y="12"/>
                  </a:lnTo>
                  <a:lnTo>
                    <a:pt x="34" y="28"/>
                  </a:lnTo>
                  <a:lnTo>
                    <a:pt x="46" y="13"/>
                  </a:lnTo>
                  <a:lnTo>
                    <a:pt x="39" y="8"/>
                  </a:lnTo>
                  <a:lnTo>
                    <a:pt x="38" y="5"/>
                  </a:lnTo>
                  <a:lnTo>
                    <a:pt x="28" y="0"/>
                  </a:lnTo>
                  <a:lnTo>
                    <a:pt x="17" y="18"/>
                  </a:lnTo>
                  <a:lnTo>
                    <a:pt x="32" y="4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459240" y="5757840"/>
              <a:ext cx="39600" cy="42840"/>
            </a:xfrm>
            <a:custGeom>
              <a:avLst/>
              <a:gdLst/>
              <a:ahLst/>
              <a:rect l="l" t="t" r="r" b="b"/>
              <a:pathLst>
                <a:path w="52" h="54">
                  <a:moveTo>
                    <a:pt x="15" y="0"/>
                  </a:moveTo>
                  <a:lnTo>
                    <a:pt x="0" y="38"/>
                  </a:lnTo>
                  <a:lnTo>
                    <a:pt x="4" y="39"/>
                  </a:lnTo>
                  <a:lnTo>
                    <a:pt x="11" y="20"/>
                  </a:lnTo>
                  <a:lnTo>
                    <a:pt x="0" y="38"/>
                  </a:lnTo>
                  <a:lnTo>
                    <a:pt x="8" y="43"/>
                  </a:lnTo>
                  <a:lnTo>
                    <a:pt x="15" y="46"/>
                  </a:lnTo>
                  <a:lnTo>
                    <a:pt x="26" y="49"/>
                  </a:lnTo>
                  <a:lnTo>
                    <a:pt x="30" y="28"/>
                  </a:lnTo>
                  <a:lnTo>
                    <a:pt x="21" y="46"/>
                  </a:lnTo>
                  <a:lnTo>
                    <a:pt x="27" y="50"/>
                  </a:lnTo>
                  <a:lnTo>
                    <a:pt x="29" y="51"/>
                  </a:lnTo>
                  <a:lnTo>
                    <a:pt x="35" y="54"/>
                  </a:lnTo>
                  <a:lnTo>
                    <a:pt x="52" y="16"/>
                  </a:lnTo>
                  <a:lnTo>
                    <a:pt x="45" y="13"/>
                  </a:lnTo>
                  <a:lnTo>
                    <a:pt x="37" y="32"/>
                  </a:lnTo>
                  <a:lnTo>
                    <a:pt x="48" y="16"/>
                  </a:lnTo>
                  <a:lnTo>
                    <a:pt x="41" y="12"/>
                  </a:lnTo>
                  <a:lnTo>
                    <a:pt x="35" y="9"/>
                  </a:lnTo>
                  <a:lnTo>
                    <a:pt x="25" y="7"/>
                  </a:lnTo>
                  <a:lnTo>
                    <a:pt x="19" y="26"/>
                  </a:lnTo>
                  <a:lnTo>
                    <a:pt x="30" y="9"/>
                  </a:lnTo>
                  <a:lnTo>
                    <a:pt x="22" y="4"/>
                  </a:lnTo>
                  <a:lnTo>
                    <a:pt x="19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517920" y="5783400"/>
              <a:ext cx="42840" cy="41040"/>
            </a:xfrm>
            <a:custGeom>
              <a:avLst/>
              <a:gdLst/>
              <a:ahLst/>
              <a:rect l="l" t="t" r="r" b="b"/>
              <a:pathLst>
                <a:path w="54" h="52">
                  <a:moveTo>
                    <a:pt x="11" y="0"/>
                  </a:moveTo>
                  <a:lnTo>
                    <a:pt x="0" y="38"/>
                  </a:lnTo>
                  <a:lnTo>
                    <a:pt x="1" y="38"/>
                  </a:lnTo>
                  <a:lnTo>
                    <a:pt x="6" y="19"/>
                  </a:lnTo>
                  <a:lnTo>
                    <a:pt x="0" y="38"/>
                  </a:lnTo>
                  <a:lnTo>
                    <a:pt x="8" y="41"/>
                  </a:lnTo>
                  <a:lnTo>
                    <a:pt x="16" y="44"/>
                  </a:lnTo>
                  <a:lnTo>
                    <a:pt x="23" y="25"/>
                  </a:lnTo>
                  <a:lnTo>
                    <a:pt x="15" y="44"/>
                  </a:lnTo>
                  <a:lnTo>
                    <a:pt x="23" y="48"/>
                  </a:lnTo>
                  <a:lnTo>
                    <a:pt x="27" y="49"/>
                  </a:lnTo>
                  <a:lnTo>
                    <a:pt x="38" y="52"/>
                  </a:lnTo>
                  <a:lnTo>
                    <a:pt x="42" y="32"/>
                  </a:lnTo>
                  <a:lnTo>
                    <a:pt x="32" y="49"/>
                  </a:lnTo>
                  <a:lnTo>
                    <a:pt x="34" y="51"/>
                  </a:lnTo>
                  <a:lnTo>
                    <a:pt x="54" y="15"/>
                  </a:lnTo>
                  <a:lnTo>
                    <a:pt x="53" y="14"/>
                  </a:lnTo>
                  <a:lnTo>
                    <a:pt x="47" y="13"/>
                  </a:lnTo>
                  <a:lnTo>
                    <a:pt x="36" y="10"/>
                  </a:lnTo>
                  <a:lnTo>
                    <a:pt x="31" y="29"/>
                  </a:lnTo>
                  <a:lnTo>
                    <a:pt x="40" y="11"/>
                  </a:lnTo>
                  <a:lnTo>
                    <a:pt x="32" y="7"/>
                  </a:lnTo>
                  <a:lnTo>
                    <a:pt x="29" y="6"/>
                  </a:lnTo>
                  <a:lnTo>
                    <a:pt x="21" y="3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578400" y="5803920"/>
              <a:ext cx="41040" cy="3960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12" y="0"/>
                  </a:moveTo>
                  <a:lnTo>
                    <a:pt x="0" y="38"/>
                  </a:lnTo>
                  <a:lnTo>
                    <a:pt x="9" y="41"/>
                  </a:lnTo>
                  <a:lnTo>
                    <a:pt x="14" y="22"/>
                  </a:lnTo>
                  <a:lnTo>
                    <a:pt x="8" y="41"/>
                  </a:lnTo>
                  <a:lnTo>
                    <a:pt x="23" y="46"/>
                  </a:lnTo>
                  <a:lnTo>
                    <a:pt x="27" y="48"/>
                  </a:lnTo>
                  <a:lnTo>
                    <a:pt x="42" y="50"/>
                  </a:lnTo>
                  <a:lnTo>
                    <a:pt x="44" y="30"/>
                  </a:lnTo>
                  <a:lnTo>
                    <a:pt x="37" y="49"/>
                  </a:lnTo>
                  <a:lnTo>
                    <a:pt x="37" y="49"/>
                  </a:lnTo>
                  <a:lnTo>
                    <a:pt x="52" y="11"/>
                  </a:lnTo>
                  <a:lnTo>
                    <a:pt x="52" y="11"/>
                  </a:lnTo>
                  <a:lnTo>
                    <a:pt x="48" y="11"/>
                  </a:lnTo>
                  <a:lnTo>
                    <a:pt x="33" y="8"/>
                  </a:lnTo>
                  <a:lnTo>
                    <a:pt x="29" y="27"/>
                  </a:lnTo>
                  <a:lnTo>
                    <a:pt x="36" y="8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638520" y="5823000"/>
              <a:ext cx="39600" cy="39600"/>
            </a:xfrm>
            <a:custGeom>
              <a:avLst/>
              <a:gdLst/>
              <a:ahLst/>
              <a:rect l="l" t="t" r="r" b="b"/>
              <a:pathLst>
                <a:path w="48" h="50">
                  <a:moveTo>
                    <a:pt x="13" y="0"/>
                  </a:moveTo>
                  <a:lnTo>
                    <a:pt x="0" y="38"/>
                  </a:lnTo>
                  <a:lnTo>
                    <a:pt x="5" y="41"/>
                  </a:lnTo>
                  <a:lnTo>
                    <a:pt x="7" y="41"/>
                  </a:lnTo>
                  <a:lnTo>
                    <a:pt x="21" y="45"/>
                  </a:lnTo>
                  <a:lnTo>
                    <a:pt x="27" y="26"/>
                  </a:lnTo>
                  <a:lnTo>
                    <a:pt x="21" y="45"/>
                  </a:lnTo>
                  <a:lnTo>
                    <a:pt x="35" y="49"/>
                  </a:lnTo>
                  <a:lnTo>
                    <a:pt x="38" y="50"/>
                  </a:lnTo>
                  <a:lnTo>
                    <a:pt x="42" y="50"/>
                  </a:lnTo>
                  <a:lnTo>
                    <a:pt x="48" y="11"/>
                  </a:lnTo>
                  <a:lnTo>
                    <a:pt x="44" y="11"/>
                  </a:lnTo>
                  <a:lnTo>
                    <a:pt x="40" y="30"/>
                  </a:lnTo>
                  <a:lnTo>
                    <a:pt x="47" y="11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17" y="3"/>
                  </a:lnTo>
                  <a:lnTo>
                    <a:pt x="12" y="22"/>
                  </a:lnTo>
                  <a:lnTo>
                    <a:pt x="19" y="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701880" y="5838840"/>
              <a:ext cx="38160" cy="3960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14" y="0"/>
                  </a:moveTo>
                  <a:lnTo>
                    <a:pt x="0" y="38"/>
                  </a:lnTo>
                  <a:lnTo>
                    <a:pt x="8" y="41"/>
                  </a:lnTo>
                  <a:lnTo>
                    <a:pt x="11" y="42"/>
                  </a:lnTo>
                  <a:lnTo>
                    <a:pt x="25" y="45"/>
                  </a:lnTo>
                  <a:lnTo>
                    <a:pt x="29" y="24"/>
                  </a:lnTo>
                  <a:lnTo>
                    <a:pt x="23" y="43"/>
                  </a:lnTo>
                  <a:lnTo>
                    <a:pt x="37" y="47"/>
                  </a:lnTo>
                  <a:lnTo>
                    <a:pt x="40" y="49"/>
                  </a:lnTo>
                  <a:lnTo>
                    <a:pt x="42" y="49"/>
                  </a:lnTo>
                  <a:lnTo>
                    <a:pt x="49" y="9"/>
                  </a:lnTo>
                  <a:lnTo>
                    <a:pt x="46" y="9"/>
                  </a:lnTo>
                  <a:lnTo>
                    <a:pt x="42" y="28"/>
                  </a:lnTo>
                  <a:lnTo>
                    <a:pt x="49" y="9"/>
                  </a:lnTo>
                  <a:lnTo>
                    <a:pt x="35" y="5"/>
                  </a:lnTo>
                  <a:lnTo>
                    <a:pt x="33" y="5"/>
                  </a:lnTo>
                  <a:lnTo>
                    <a:pt x="19" y="3"/>
                  </a:lnTo>
                  <a:lnTo>
                    <a:pt x="15" y="22"/>
                  </a:lnTo>
                  <a:lnTo>
                    <a:pt x="22" y="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767040" y="5853240"/>
              <a:ext cx="38160" cy="36360"/>
            </a:xfrm>
            <a:custGeom>
              <a:avLst/>
              <a:gdLst/>
              <a:ahLst/>
              <a:rect l="l" t="t" r="r" b="b"/>
              <a:pathLst>
                <a:path w="49" h="47">
                  <a:moveTo>
                    <a:pt x="7" y="0"/>
                  </a:moveTo>
                  <a:lnTo>
                    <a:pt x="0" y="40"/>
                  </a:lnTo>
                  <a:lnTo>
                    <a:pt x="4" y="41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38" y="47"/>
                  </a:lnTo>
                  <a:lnTo>
                    <a:pt x="41" y="26"/>
                  </a:lnTo>
                  <a:lnTo>
                    <a:pt x="35" y="45"/>
                  </a:lnTo>
                  <a:lnTo>
                    <a:pt x="38" y="45"/>
                  </a:lnTo>
                  <a:lnTo>
                    <a:pt x="49" y="7"/>
                  </a:lnTo>
                  <a:lnTo>
                    <a:pt x="46" y="7"/>
                  </a:lnTo>
                  <a:lnTo>
                    <a:pt x="43" y="7"/>
                  </a:lnTo>
                  <a:lnTo>
                    <a:pt x="26" y="5"/>
                  </a:lnTo>
                  <a:lnTo>
                    <a:pt x="23" y="24"/>
                  </a:lnTo>
                  <a:lnTo>
                    <a:pt x="27" y="5"/>
                  </a:lnTo>
                  <a:lnTo>
                    <a:pt x="11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830760" y="5865840"/>
              <a:ext cx="34920" cy="3636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7" y="0"/>
                  </a:moveTo>
                  <a:lnTo>
                    <a:pt x="0" y="40"/>
                  </a:lnTo>
                  <a:lnTo>
                    <a:pt x="5" y="41"/>
                  </a:lnTo>
                  <a:lnTo>
                    <a:pt x="20" y="44"/>
                  </a:lnTo>
                  <a:lnTo>
                    <a:pt x="23" y="23"/>
                  </a:lnTo>
                  <a:lnTo>
                    <a:pt x="19" y="44"/>
                  </a:lnTo>
                  <a:lnTo>
                    <a:pt x="32" y="46"/>
                  </a:lnTo>
                  <a:lnTo>
                    <a:pt x="35" y="46"/>
                  </a:lnTo>
                  <a:lnTo>
                    <a:pt x="40" y="46"/>
                  </a:lnTo>
                  <a:lnTo>
                    <a:pt x="44" y="7"/>
                  </a:lnTo>
                  <a:lnTo>
                    <a:pt x="39" y="7"/>
                  </a:lnTo>
                  <a:lnTo>
                    <a:pt x="36" y="26"/>
                  </a:lnTo>
                  <a:lnTo>
                    <a:pt x="40" y="7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12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890880" y="5875200"/>
              <a:ext cx="38160" cy="33480"/>
            </a:xfrm>
            <a:custGeom>
              <a:avLst/>
              <a:gdLst/>
              <a:ahLst/>
              <a:rect l="l" t="t" r="r" b="b"/>
              <a:pathLst>
                <a:path w="46" h="43">
                  <a:moveTo>
                    <a:pt x="11" y="1"/>
                  </a:moveTo>
                  <a:lnTo>
                    <a:pt x="0" y="39"/>
                  </a:lnTo>
                  <a:lnTo>
                    <a:pt x="1" y="39"/>
                  </a:lnTo>
                  <a:lnTo>
                    <a:pt x="7" y="40"/>
                  </a:lnTo>
                  <a:lnTo>
                    <a:pt x="20" y="40"/>
                  </a:lnTo>
                  <a:lnTo>
                    <a:pt x="20" y="20"/>
                  </a:lnTo>
                  <a:lnTo>
                    <a:pt x="16" y="40"/>
                  </a:lnTo>
                  <a:lnTo>
                    <a:pt x="30" y="43"/>
                  </a:lnTo>
                  <a:lnTo>
                    <a:pt x="34" y="43"/>
                  </a:lnTo>
                  <a:lnTo>
                    <a:pt x="46" y="43"/>
                  </a:lnTo>
                  <a:lnTo>
                    <a:pt x="46" y="2"/>
                  </a:lnTo>
                  <a:lnTo>
                    <a:pt x="34" y="2"/>
                  </a:lnTo>
                  <a:lnTo>
                    <a:pt x="34" y="23"/>
                  </a:lnTo>
                  <a:lnTo>
                    <a:pt x="38" y="4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7" y="0"/>
                  </a:lnTo>
                  <a:lnTo>
                    <a:pt x="7" y="20"/>
                  </a:lnTo>
                  <a:lnTo>
                    <a:pt x="12" y="1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957480" y="5880240"/>
              <a:ext cx="36720" cy="3312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6" y="0"/>
                  </a:moveTo>
                  <a:lnTo>
                    <a:pt x="0" y="40"/>
                  </a:lnTo>
                  <a:lnTo>
                    <a:pt x="10" y="42"/>
                  </a:lnTo>
                  <a:lnTo>
                    <a:pt x="13" y="42"/>
                  </a:lnTo>
                  <a:lnTo>
                    <a:pt x="31" y="42"/>
                  </a:lnTo>
                  <a:lnTo>
                    <a:pt x="31" y="22"/>
                  </a:lnTo>
                  <a:lnTo>
                    <a:pt x="29" y="42"/>
                  </a:lnTo>
                  <a:lnTo>
                    <a:pt x="42" y="42"/>
                  </a:lnTo>
                  <a:lnTo>
                    <a:pt x="46" y="3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13" y="2"/>
                  </a:lnTo>
                  <a:lnTo>
                    <a:pt x="13" y="22"/>
                  </a:lnTo>
                  <a:lnTo>
                    <a:pt x="17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024440" y="5884920"/>
              <a:ext cx="31680" cy="34920"/>
            </a:xfrm>
            <a:custGeom>
              <a:avLst/>
              <a:gdLst/>
              <a:ahLst/>
              <a:rect l="l" t="t" r="r" b="b"/>
              <a:pathLst>
                <a:path w="40" h="43">
                  <a:moveTo>
                    <a:pt x="0" y="0"/>
                  </a:moveTo>
                  <a:lnTo>
                    <a:pt x="0" y="40"/>
                  </a:lnTo>
                  <a:lnTo>
                    <a:pt x="13" y="40"/>
                  </a:lnTo>
                  <a:lnTo>
                    <a:pt x="13" y="20"/>
                  </a:lnTo>
                  <a:lnTo>
                    <a:pt x="10" y="40"/>
                  </a:lnTo>
                  <a:lnTo>
                    <a:pt x="27" y="43"/>
                  </a:lnTo>
                  <a:lnTo>
                    <a:pt x="29" y="43"/>
                  </a:lnTo>
                  <a:lnTo>
                    <a:pt x="40" y="43"/>
                  </a:lnTo>
                  <a:lnTo>
                    <a:pt x="40" y="2"/>
                  </a:lnTo>
                  <a:lnTo>
                    <a:pt x="29" y="2"/>
                  </a:lnTo>
                  <a:lnTo>
                    <a:pt x="29" y="23"/>
                  </a:lnTo>
                  <a:lnTo>
                    <a:pt x="33" y="4"/>
                  </a:lnTo>
                  <a:lnTo>
                    <a:pt x="17" y="1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084560" y="5889600"/>
              <a:ext cx="36720" cy="3348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8" y="0"/>
                  </a:moveTo>
                  <a:lnTo>
                    <a:pt x="0" y="40"/>
                  </a:lnTo>
                  <a:lnTo>
                    <a:pt x="4" y="41"/>
                  </a:lnTo>
                  <a:lnTo>
                    <a:pt x="8" y="41"/>
                  </a:lnTo>
                  <a:lnTo>
                    <a:pt x="21" y="41"/>
                  </a:lnTo>
                  <a:lnTo>
                    <a:pt x="21" y="21"/>
                  </a:lnTo>
                  <a:lnTo>
                    <a:pt x="20" y="41"/>
                  </a:lnTo>
                  <a:lnTo>
                    <a:pt x="35" y="42"/>
                  </a:lnTo>
                  <a:lnTo>
                    <a:pt x="36" y="42"/>
                  </a:lnTo>
                  <a:lnTo>
                    <a:pt x="44" y="42"/>
                  </a:lnTo>
                  <a:lnTo>
                    <a:pt x="44" y="2"/>
                  </a:lnTo>
                  <a:lnTo>
                    <a:pt x="36" y="2"/>
                  </a:lnTo>
                  <a:lnTo>
                    <a:pt x="36" y="22"/>
                  </a:lnTo>
                  <a:lnTo>
                    <a:pt x="39" y="3"/>
                  </a:lnTo>
                  <a:lnTo>
                    <a:pt x="24" y="2"/>
                  </a:lnTo>
                  <a:lnTo>
                    <a:pt x="21" y="0"/>
                  </a:lnTo>
                  <a:lnTo>
                    <a:pt x="8" y="0"/>
                  </a:lnTo>
                  <a:lnTo>
                    <a:pt x="8" y="21"/>
                  </a:lnTo>
                  <a:lnTo>
                    <a:pt x="1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152960" y="5892840"/>
              <a:ext cx="31680" cy="3168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0" y="0"/>
                  </a:moveTo>
                  <a:lnTo>
                    <a:pt x="0" y="41"/>
                  </a:lnTo>
                  <a:lnTo>
                    <a:pt x="0" y="41"/>
                  </a:lnTo>
                  <a:lnTo>
                    <a:pt x="16" y="41"/>
                  </a:lnTo>
                  <a:lnTo>
                    <a:pt x="35" y="41"/>
                  </a:lnTo>
                  <a:lnTo>
                    <a:pt x="41" y="41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218120" y="5892840"/>
              <a:ext cx="31680" cy="3168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0" y="0"/>
                  </a:moveTo>
                  <a:lnTo>
                    <a:pt x="0" y="41"/>
                  </a:lnTo>
                  <a:lnTo>
                    <a:pt x="2" y="41"/>
                  </a:lnTo>
                  <a:lnTo>
                    <a:pt x="19" y="41"/>
                  </a:lnTo>
                  <a:lnTo>
                    <a:pt x="33" y="41"/>
                  </a:lnTo>
                  <a:lnTo>
                    <a:pt x="41" y="41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19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281480" y="5892840"/>
              <a:ext cx="33480" cy="3168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0" y="0"/>
                  </a:moveTo>
                  <a:lnTo>
                    <a:pt x="0" y="41"/>
                  </a:lnTo>
                  <a:lnTo>
                    <a:pt x="5" y="41"/>
                  </a:lnTo>
                  <a:lnTo>
                    <a:pt x="9" y="41"/>
                  </a:lnTo>
                  <a:lnTo>
                    <a:pt x="13" y="41"/>
                  </a:lnTo>
                  <a:lnTo>
                    <a:pt x="16" y="41"/>
                  </a:lnTo>
                  <a:lnTo>
                    <a:pt x="19" y="41"/>
                  </a:lnTo>
                  <a:lnTo>
                    <a:pt x="21" y="41"/>
                  </a:lnTo>
                  <a:lnTo>
                    <a:pt x="23" y="41"/>
                  </a:lnTo>
                  <a:lnTo>
                    <a:pt x="25" y="41"/>
                  </a:lnTo>
                  <a:lnTo>
                    <a:pt x="29" y="41"/>
                  </a:lnTo>
                  <a:lnTo>
                    <a:pt x="35" y="41"/>
                  </a:lnTo>
                  <a:lnTo>
                    <a:pt x="40" y="41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346640" y="5892840"/>
              <a:ext cx="12600" cy="31680"/>
            </a:xfrm>
            <a:prstGeom prst="rect">
              <a:avLst/>
            </a:prstGeom>
            <a:solidFill>
              <a:srgbClr val="00c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5" name=""/>
          <p:cNvSpPr/>
          <p:nvPr/>
        </p:nvSpPr>
        <p:spPr>
          <a:xfrm rot="20160000">
            <a:off x="1220040" y="5943240"/>
            <a:ext cx="112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crec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rot="20160000">
            <a:off x="915120" y="5638320"/>
            <a:ext cx="13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prefer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226040" y="7149960"/>
            <a:ext cx="8776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293360" y="7174080"/>
            <a:ext cx="212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4487760" y="73422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58640" y="4259160"/>
            <a:ext cx="8794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25960" y="4282920"/>
            <a:ext cx="212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720720" y="4451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3" name=""/>
          <p:cNvGrpSpPr/>
          <p:nvPr/>
        </p:nvGrpSpPr>
        <p:grpSpPr>
          <a:xfrm>
            <a:off x="2133720" y="4419720"/>
            <a:ext cx="2016000" cy="1063440"/>
            <a:chOff x="2133720" y="4419720"/>
            <a:chExt cx="2016000" cy="1063440"/>
          </a:xfrm>
        </p:grpSpPr>
        <p:sp>
          <p:nvSpPr>
            <p:cNvPr id="1304" name=""/>
            <p:cNvSpPr/>
            <p:nvPr/>
          </p:nvSpPr>
          <p:spPr>
            <a:xfrm>
              <a:off x="2133720" y="4419720"/>
              <a:ext cx="2016000" cy="1063440"/>
            </a:xfrm>
            <a:custGeom>
              <a:avLst/>
              <a:gdLst/>
              <a:ahLst/>
              <a:rect l="l" t="t" r="r" b="b"/>
              <a:pathLst>
                <a:path w="2539" h="1340">
                  <a:moveTo>
                    <a:pt x="0" y="1044"/>
                  </a:moveTo>
                  <a:lnTo>
                    <a:pt x="1494" y="172"/>
                  </a:lnTo>
                  <a:lnTo>
                    <a:pt x="1296" y="0"/>
                  </a:lnTo>
                  <a:lnTo>
                    <a:pt x="2490" y="88"/>
                  </a:lnTo>
                  <a:lnTo>
                    <a:pt x="2539" y="769"/>
                  </a:lnTo>
                  <a:lnTo>
                    <a:pt x="2348" y="649"/>
                  </a:lnTo>
                  <a:lnTo>
                    <a:pt x="455" y="1340"/>
                  </a:lnTo>
                  <a:lnTo>
                    <a:pt x="0" y="1044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133720" y="4419720"/>
              <a:ext cx="2016000" cy="1063440"/>
            </a:xfrm>
            <a:custGeom>
              <a:avLst/>
              <a:gdLst/>
              <a:ahLst/>
              <a:rect l="l" t="t" r="r" b="b"/>
              <a:pathLst>
                <a:path w="2539" h="1340">
                  <a:moveTo>
                    <a:pt x="0" y="1044"/>
                  </a:moveTo>
                  <a:lnTo>
                    <a:pt x="1494" y="172"/>
                  </a:lnTo>
                  <a:lnTo>
                    <a:pt x="1296" y="0"/>
                  </a:lnTo>
                  <a:lnTo>
                    <a:pt x="2490" y="88"/>
                  </a:lnTo>
                  <a:lnTo>
                    <a:pt x="2539" y="769"/>
                  </a:lnTo>
                  <a:lnTo>
                    <a:pt x="2348" y="649"/>
                  </a:lnTo>
                  <a:lnTo>
                    <a:pt x="455" y="1340"/>
                  </a:lnTo>
                  <a:lnTo>
                    <a:pt x="0" y="1044"/>
                  </a:lnTo>
                </a:path>
              </a:pathLst>
            </a:custGeom>
            <a:noFill/>
            <a:ln w="64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6" name=""/>
          <p:cNvSpPr/>
          <p:nvPr/>
        </p:nvSpPr>
        <p:spPr>
          <a:xfrm>
            <a:off x="1600200" y="0"/>
            <a:ext cx="7391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Un resumen del problema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7" name="" descr=""/>
          <p:cNvPicPr/>
          <p:nvPr/>
        </p:nvPicPr>
        <p:blipFill>
          <a:blip r:embed="rId3"/>
          <a:stretch/>
        </p:blipFill>
        <p:spPr>
          <a:xfrm>
            <a:off x="4870440" y="4010040"/>
            <a:ext cx="442584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/>
          </p:nvPr>
        </p:nvSpPr>
        <p:spPr>
          <a:xfrm>
            <a:off x="228240" y="2217240"/>
            <a:ext cx="9829800" cy="67788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404040"/>
            </a:outerShdw>
          </a:effectLst>
        </p:spPr>
        <p:txBody>
          <a:bodyPr lIns="0" rIns="0" tIns="0" bIns="0" anchor="t">
            <a:normAutofit/>
          </a:bodyPr>
          <a:p>
            <a:pPr marL="1166760" indent="-1166760">
              <a:spcBef>
                <a:spcPts val="1599"/>
              </a:spcBef>
              <a:buClr>
                <a:srgbClr val="ffff00"/>
              </a:buClr>
              <a:buSzPct val="90000"/>
              <a:buFont typeface="Monotype Sort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i="1" lang="en-GB" sz="3200" spc="-1" strike="noStrike">
                <a:solidFill>
                  <a:srgbClr val="40008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400080"/>
                </a:solidFill>
                <a:latin typeface="Times New Roman"/>
              </a:rPr>
              <a:t>Un conjunto dado de recursos fi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46040" y="739800"/>
            <a:ext cx="945360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l Modelo de Robinson Crusoe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Toma de inventario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28600" y="2903400"/>
            <a:ext cx="9829800" cy="12114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66760" indent="-1166760">
              <a:spcBef>
                <a:spcPts val="1599"/>
              </a:spcBef>
              <a:buClr>
                <a:srgbClr val="ffff00"/>
              </a:buClr>
              <a:buSzPct val="90000"/>
              <a:buFont typeface="Monotype Sort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i="1" lang="en-GB" sz="3200" spc="-1" strike="noStrike">
                <a:solidFill>
                  <a:srgbClr val="400080"/>
                </a:solidFill>
                <a:latin typeface="Times New Roman"/>
              </a:rPr>
              <a:t>Todos los bienes pueden ser tratados simetricamente en la prod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28600" y="4114800"/>
            <a:ext cx="9829800" cy="12193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66760" indent="-1166760">
              <a:spcBef>
                <a:spcPts val="1599"/>
              </a:spcBef>
              <a:buClr>
                <a:srgbClr val="ffff00"/>
              </a:buClr>
              <a:buSzPct val="90000"/>
              <a:buFont typeface="Monotype Sort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i="1" lang="en-GB" sz="3200" spc="-1" strike="noStrike">
                <a:solidFill>
                  <a:srgbClr val="400080"/>
                </a:solidFill>
                <a:latin typeface="Times New Roman"/>
              </a:rPr>
              <a:t>Las posibilidades de producción pueden ser modeladas con un conjunto pequeño de axiom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28600" y="5334120"/>
            <a:ext cx="9829800" cy="105228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66760" indent="-1166760">
              <a:spcBef>
                <a:spcPts val="1599"/>
              </a:spcBef>
              <a:buClr>
                <a:srgbClr val="ffff00"/>
              </a:buClr>
              <a:buSzPct val="90000"/>
              <a:buFont typeface="Monotype Sort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i="1" lang="en-GB" sz="3200" spc="-1" strike="noStrike">
                <a:solidFill>
                  <a:srgbClr val="400080"/>
                </a:solidFill>
                <a:latin typeface="Times New Roman"/>
              </a:rPr>
              <a:t>Las ecuaciones de balance encapsulan “los hechos de la vida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228600" y="6400800"/>
            <a:ext cx="9829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66760" indent="-1166760">
              <a:spcBef>
                <a:spcPts val="1599"/>
              </a:spcBef>
              <a:buClr>
                <a:srgbClr val="ffff00"/>
              </a:buClr>
              <a:buSzPct val="90000"/>
              <a:buFont typeface="Monotype Sort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i="1" lang="en-GB" sz="3200" spc="-1" strike="noStrike">
                <a:solidFill>
                  <a:srgbClr val="400080"/>
                </a:solidFill>
                <a:latin typeface="Times New Roman"/>
              </a:rPr>
              <a:t>Los consumos se eligen en función de las preferencias conocidads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rot="19980000">
            <a:off x="1704600" y="939600"/>
            <a:ext cx="5470560" cy="5943600"/>
          </a:xfrm>
          <a:prstGeom prst="rect">
            <a:avLst/>
          </a:prstGeom>
          <a:solidFill>
            <a:srgbClr val="ffff99"/>
          </a:solidFill>
          <a:ln w="31680">
            <a:solidFill>
              <a:srgbClr val="ffff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371520" indent="856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6200" spc="-1" strike="noStrike">
                <a:solidFill>
                  <a:srgbClr val="ff0000"/>
                </a:solidFill>
                <a:latin typeface="Brush738 BT"/>
              </a:rPr>
              <a:t>En el próximo Cap haremos funcionar el modelo de R. Crusoe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5761080" y="5965920"/>
            <a:ext cx="4152960" cy="1257120"/>
          </a:xfrm>
          <a:prstGeom prst="roundRect">
            <a:avLst>
              <a:gd name="adj" fmla="val 15273"/>
            </a:avLst>
          </a:prstGeom>
          <a:solidFill>
            <a:srgbClr val="ffffc2"/>
          </a:solidFill>
          <a:ln w="12708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6200" spc="-1" strike="noStrike">
                <a:solidFill>
                  <a:srgbClr val="000000"/>
                </a:solidFill>
                <a:latin typeface="Symbol"/>
                <a:ea typeface="Symbol"/>
              </a:rPr>
              <a:t></a:t>
            </a: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6095880" y="5105520"/>
            <a:ext cx="3962520" cy="2998800"/>
          </a:xfrm>
          <a:prstGeom prst="roundRect">
            <a:avLst>
              <a:gd name="adj" fmla="val 6245"/>
            </a:avLst>
          </a:prstGeom>
          <a:solidFill>
            <a:srgbClr val="ffffc2"/>
          </a:solidFill>
          <a:ln w="3168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A1: Posibilidad de in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A2: No hay almuezos gra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A3: Irever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A4: Libre dispo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A5: Adi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A6: Divi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7" name=""/>
          <p:cNvGrpSpPr/>
          <p:nvPr/>
        </p:nvGrpSpPr>
        <p:grpSpPr>
          <a:xfrm>
            <a:off x="3962520" y="4038480"/>
            <a:ext cx="4155480" cy="2046240"/>
            <a:chOff x="3962520" y="4038480"/>
            <a:chExt cx="4155480" cy="2046240"/>
          </a:xfrm>
        </p:grpSpPr>
        <p:sp>
          <p:nvSpPr>
            <p:cNvPr id="1318" name=""/>
            <p:cNvSpPr/>
            <p:nvPr/>
          </p:nvSpPr>
          <p:spPr>
            <a:xfrm flipV="1">
              <a:off x="3962520" y="4038480"/>
              <a:ext cx="4152600" cy="2046240"/>
            </a:xfrm>
            <a:prstGeom prst="roundRect">
              <a:avLst>
                <a:gd name="adj" fmla="val 10204"/>
              </a:avLst>
            </a:prstGeom>
            <a:solidFill>
              <a:srgbClr val="ffffc2"/>
            </a:solidFill>
            <a:ln w="127080">
              <a:solidFill>
                <a:srgbClr val="ff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321080" y="4649400"/>
              <a:ext cx="3796920" cy="88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4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GB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GB" sz="4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GB" sz="4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4600" spc="-1" strike="noStrike">
                  <a:solidFill>
                    <a:srgbClr val="000000"/>
                  </a:solidFill>
                  <a:latin typeface="WtlHebrew"/>
                  <a:ea typeface="WtlHebrew"/>
                </a:rPr>
                <a:t></a:t>
              </a:r>
              <a:r>
                <a:rPr b="0" lang="en-GB" sz="4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4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0" lang="en-GB" sz="4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GB" sz="4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GB" sz="4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GB" sz="4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</a:t>
              </a:r>
              <a:r>
                <a:rPr b="0" lang="en-GB" sz="4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V="1">
              <a:off x="4890960" y="4081320"/>
              <a:ext cx="1880640" cy="200304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1" name=""/>
          <p:cNvSpPr/>
          <p:nvPr/>
        </p:nvSpPr>
        <p:spPr>
          <a:xfrm flipV="1">
            <a:off x="6248520" y="2895480"/>
            <a:ext cx="2547720" cy="1325520"/>
          </a:xfrm>
          <a:prstGeom prst="roundRect">
            <a:avLst>
              <a:gd name="adj" fmla="val 25125"/>
            </a:avLst>
          </a:prstGeom>
          <a:solidFill>
            <a:srgbClr val="ffffc2"/>
          </a:solidFill>
          <a:ln w="12708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6200" spc="-1" strike="noStrike">
                <a:solidFill>
                  <a:srgbClr val="000000"/>
                </a:solidFill>
                <a:latin typeface="Symbol"/>
                <a:ea typeface="Symbol"/>
              </a:rPr>
              <a:t></a:t>
            </a: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l escenario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217600"/>
            <a:ext cx="9296640" cy="982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spcBef>
                <a:spcPts val="3600"/>
              </a:spcBef>
              <a:buClr>
                <a:srgbClr val="ff0000"/>
              </a:buClr>
              <a:buSzPct val="4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GB" sz="4800" spc="-1" strike="noStrike">
                <a:solidFill>
                  <a:srgbClr val="000080"/>
                </a:solidFill>
                <a:latin typeface="Times New Roman"/>
              </a:rPr>
              <a:t>Economía cerra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3200400"/>
            <a:ext cx="967752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spcBef>
                <a:spcPts val="3600"/>
              </a:spcBef>
              <a:buClr>
                <a:srgbClr val="ff0000"/>
              </a:buClr>
              <a:buSzPct val="4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GB" sz="4800" spc="-1" strike="noStrike">
                <a:solidFill>
                  <a:srgbClr val="000080"/>
                </a:solidFill>
                <a:latin typeface="Times New Roman"/>
              </a:rPr>
              <a:t>Una colección de recursos natura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114800"/>
            <a:ext cx="9296640" cy="1523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spcBef>
                <a:spcPts val="3600"/>
              </a:spcBef>
              <a:buClr>
                <a:srgbClr val="ff0000"/>
              </a:buClr>
              <a:buSzPct val="4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GB" sz="4800" spc="-1" strike="noStrike">
                <a:solidFill>
                  <a:srgbClr val="000080"/>
                </a:solidFill>
                <a:latin typeface="Times New Roman"/>
              </a:rPr>
              <a:t>Una variedad de técnicas producti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5638680"/>
            <a:ext cx="929664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spcBef>
                <a:spcPts val="3600"/>
              </a:spcBef>
              <a:buClr>
                <a:srgbClr val="ff0000"/>
              </a:buClr>
              <a:buSzPct val="4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GB" sz="4800" spc="-1" strike="noStrike">
                <a:solidFill>
                  <a:srgbClr val="000080"/>
                </a:solidFill>
                <a:latin typeface="Times New Roman"/>
              </a:rPr>
              <a:t>Un único agente económic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118120" y="2666880"/>
            <a:ext cx="4940280" cy="4535640"/>
            <a:chOff x="5118120" y="2666880"/>
            <a:chExt cx="4940280" cy="4535640"/>
          </a:xfrm>
        </p:grpSpPr>
        <p:sp>
          <p:nvSpPr>
            <p:cNvPr id="118" name=""/>
            <p:cNvSpPr/>
            <p:nvPr/>
          </p:nvSpPr>
          <p:spPr>
            <a:xfrm>
              <a:off x="5118120" y="2666880"/>
              <a:ext cx="4940280" cy="4535640"/>
            </a:xfrm>
            <a:custGeom>
              <a:avLst/>
              <a:gdLst/>
              <a:ahLst/>
              <a:rect l="l" t="t" r="r" b="b"/>
              <a:pathLst>
                <a:path w="3112" h="2857">
                  <a:moveTo>
                    <a:pt x="3111" y="1401"/>
                  </a:moveTo>
                  <a:lnTo>
                    <a:pt x="3111" y="1401"/>
                  </a:lnTo>
                  <a:lnTo>
                    <a:pt x="1278" y="0"/>
                  </a:lnTo>
                  <a:lnTo>
                    <a:pt x="1493" y="700"/>
                  </a:lnTo>
                  <a:lnTo>
                    <a:pt x="0" y="700"/>
                  </a:lnTo>
                  <a:lnTo>
                    <a:pt x="0" y="2201"/>
                  </a:lnTo>
                  <a:lnTo>
                    <a:pt x="1493" y="2201"/>
                  </a:lnTo>
                  <a:lnTo>
                    <a:pt x="1278" y="2856"/>
                  </a:lnTo>
                  <a:lnTo>
                    <a:pt x="3111" y="1401"/>
                  </a:lnTo>
                  <a:lnTo>
                    <a:pt x="3111" y="1401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41760" y="4035240"/>
              <a:ext cx="3844800" cy="18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3100" spc="-1" strike="noStrike">
                  <a:solidFill>
                    <a:srgbClr val="3bf73b"/>
                  </a:solidFill>
                  <a:latin typeface="Times New Roman"/>
                </a:rPr>
                <a:t>Esto requiere alguna notación nueva y quizas algunos nuevos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3100" spc="-1" strike="noStrike">
                  <a:solidFill>
                    <a:srgbClr val="3bf73b"/>
                  </a:solidFill>
                  <a:latin typeface="Times New Roman"/>
                </a:rPr>
                <a:t>conceptos.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6062760" y="6400800"/>
            <a:ext cx="3260520" cy="762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680">
            <a:solidFill>
              <a:srgbClr val="00008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14480" indent="3427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100" spc="-1" strike="noStrike">
                <a:solidFill>
                  <a:srgbClr val="000080"/>
                </a:solidFill>
                <a:latin typeface="Times New Roman"/>
              </a:rPr>
              <a:t>R. Cruso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43600" y="4952880"/>
            <a:ext cx="3124080" cy="1941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1680">
            <a:solidFill>
              <a:srgbClr val="00008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22280" indent="34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100" spc="-1" strike="noStrike">
                <a:solidFill>
                  <a:srgbClr val="000080"/>
                </a:solidFill>
                <a:latin typeface="Times New Roman"/>
              </a:rPr>
              <a:t>Tambien determina el ingreso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3773520"/>
            <a:ext cx="3124440" cy="12556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1680">
            <a:solidFill>
              <a:srgbClr val="00008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22280" indent="34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100" spc="-1" strike="noStrike">
                <a:solidFill>
                  <a:srgbClr val="000080"/>
                </a:solidFill>
                <a:latin typeface="Times New Roman"/>
              </a:rPr>
              <a:t>Determina ingreso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43600" y="2743200"/>
            <a:ext cx="3352680" cy="2627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1680">
            <a:solidFill>
              <a:srgbClr val="00008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22280" indent="3492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100" spc="-1" strike="noStrike">
                <a:solidFill>
                  <a:srgbClr val="000080"/>
                </a:solidFill>
                <a:latin typeface="Times New Roman"/>
              </a:rPr>
              <a:t>Los precios se determinan internament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46040" y="739800"/>
            <a:ext cx="9453600" cy="12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Nueva notación (¿y nuevos conceptos?)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49760" y="2940120"/>
            <a:ext cx="41101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400080"/>
                </a:solidFill>
                <a:latin typeface="Times New Roman"/>
              </a:rPr>
              <a:t>acervo de recursos  </a:t>
            </a:r>
            <a:r>
              <a:rPr b="1" i="1" lang="en-GB" sz="3000" spc="-1" strike="noStrike">
                <a:solidFill>
                  <a:srgbClr val="40008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52560" y="2801880"/>
            <a:ext cx="49536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52560" y="5354640"/>
            <a:ext cx="49536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49760" y="5494320"/>
            <a:ext cx="38815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400080"/>
                </a:solidFill>
                <a:latin typeface="Times New Roman"/>
              </a:rPr>
              <a:t>consumo del bien </a:t>
            </a:r>
            <a:r>
              <a:rPr b="1" i="1" lang="en-GB" sz="3000" spc="-1" strike="noStrike">
                <a:solidFill>
                  <a:srgbClr val="40008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52560" y="4157640"/>
            <a:ext cx="571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49760" y="4295880"/>
            <a:ext cx="4508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400080"/>
                </a:solidFill>
                <a:latin typeface="Times New Roman"/>
              </a:rPr>
              <a:t>producción neta del bien </a:t>
            </a:r>
            <a:r>
              <a:rPr b="1" i="1" lang="en-GB" sz="3000" spc="-1" strike="noStrike">
                <a:solidFill>
                  <a:srgbClr val="40008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27960" y="3962520"/>
            <a:ext cx="3430440" cy="1601640"/>
          </a:xfrm>
          <a:prstGeom prst="wedgeRoundRectCallout">
            <a:avLst>
              <a:gd name="adj1" fmla="val -64439"/>
              <a:gd name="adj2" fmla="val 65361"/>
              <a:gd name="adj3" fmla="val 16667"/>
            </a:avLst>
          </a:prstGeom>
          <a:solidFill>
            <a:srgbClr val="ffff99"/>
          </a:solidFill>
          <a:ln w="381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lo mismo que an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5880" y="1600200"/>
            <a:ext cx="3430800" cy="2135160"/>
          </a:xfrm>
          <a:prstGeom prst="wedgeRoundRectCallout">
            <a:avLst>
              <a:gd name="adj1" fmla="val -60180"/>
              <a:gd name="adj2" fmla="val 84347"/>
              <a:gd name="adj3" fmla="val 16667"/>
            </a:avLst>
          </a:prstGeom>
          <a:solidFill>
            <a:srgbClr val="ffff99"/>
          </a:solidFill>
          <a:ln w="381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mas de esto pronto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3311640"/>
            <a:ext cx="4114800" cy="4049280"/>
          </a:xfrm>
          <a:prstGeom prst="wedgeRoundRectCallout">
            <a:avLst>
              <a:gd name="adj1" fmla="val 71055"/>
              <a:gd name="adj2" fmla="val -48208"/>
              <a:gd name="adj3" fmla="val 16667"/>
            </a:avLst>
          </a:prstGeom>
          <a:solidFill>
            <a:srgbClr val="ffff99"/>
          </a:solidFill>
          <a:ln w="381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objectos disponibles para el consumo ó  producció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xpresado en notación vectorial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28800" y="5392800"/>
            <a:ext cx="340524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  ,x  ,..., x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82880" y="5767560"/>
            <a:ext cx="2116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  2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08720" y="5505480"/>
            <a:ext cx="22762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400080"/>
                </a:solidFill>
                <a:latin typeface="Times New Roman"/>
              </a:rPr>
              <a:t>consum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28800" y="4125960"/>
            <a:ext cx="340524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  ,y  ,..., 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41560" y="4500720"/>
            <a:ext cx="1946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    2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08720" y="4238640"/>
            <a:ext cx="2949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400080"/>
                </a:solidFill>
                <a:latin typeface="Times New Roman"/>
              </a:rPr>
              <a:t>producción ne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28800" y="2779560"/>
            <a:ext cx="366372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  ,R  ,...,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76560" y="3168720"/>
            <a:ext cx="21160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    2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08720" y="2892600"/>
            <a:ext cx="1660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400080"/>
                </a:solidFill>
                <a:latin typeface="Times New Roman"/>
              </a:rPr>
              <a:t>recurs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3680" y="1736640"/>
            <a:ext cx="9226440" cy="57340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7640" y="2254320"/>
            <a:ext cx="8570880" cy="48942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53040" y="2421000"/>
            <a:ext cx="203652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11640" y="2325600"/>
            <a:ext cx="2035080" cy="1198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44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Equilibrio Gener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11640" y="2325600"/>
            <a:ext cx="2035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51040" y="5872320"/>
            <a:ext cx="2038320" cy="1196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El problema económic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09480" y="5315040"/>
            <a:ext cx="2270160" cy="552240"/>
            <a:chOff x="609480" y="5315040"/>
            <a:chExt cx="2270160" cy="552240"/>
          </a:xfrm>
        </p:grpSpPr>
        <p:sp>
          <p:nvSpPr>
            <p:cNvPr id="151" name=""/>
            <p:cNvSpPr/>
            <p:nvPr/>
          </p:nvSpPr>
          <p:spPr>
            <a:xfrm>
              <a:off x="1760400" y="5315040"/>
              <a:ext cx="1800" cy="29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480" y="5613480"/>
              <a:ext cx="180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78200" y="561348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9480" y="5613480"/>
              <a:ext cx="1150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60400" y="5613480"/>
              <a:ext cx="1117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90920" y="5867280"/>
            <a:ext cx="2038320" cy="1197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El problema económic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5872320"/>
            <a:ext cx="2340000" cy="1195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La estructura de la producc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5410080"/>
            <a:ext cx="2485800" cy="2059200"/>
          </a:xfrm>
          <a:custGeom>
            <a:avLst/>
            <a:gdLst/>
            <a:ahLst/>
            <a:rect l="l" t="t" r="r" b="b"/>
            <a:pathLst>
              <a:path w="3130" h="2596">
                <a:moveTo>
                  <a:pt x="268" y="578"/>
                </a:moveTo>
                <a:lnTo>
                  <a:pt x="131" y="789"/>
                </a:lnTo>
                <a:lnTo>
                  <a:pt x="42" y="1004"/>
                </a:lnTo>
                <a:lnTo>
                  <a:pt x="3" y="1217"/>
                </a:lnTo>
                <a:lnTo>
                  <a:pt x="0" y="1323"/>
                </a:lnTo>
                <a:lnTo>
                  <a:pt x="9" y="1430"/>
                </a:lnTo>
                <a:lnTo>
                  <a:pt x="143" y="1824"/>
                </a:lnTo>
                <a:lnTo>
                  <a:pt x="419" y="2165"/>
                </a:lnTo>
                <a:lnTo>
                  <a:pt x="800" y="2420"/>
                </a:lnTo>
                <a:lnTo>
                  <a:pt x="1264" y="2570"/>
                </a:lnTo>
                <a:lnTo>
                  <a:pt x="1514" y="2596"/>
                </a:lnTo>
                <a:lnTo>
                  <a:pt x="1645" y="2596"/>
                </a:lnTo>
                <a:lnTo>
                  <a:pt x="1778" y="2585"/>
                </a:lnTo>
                <a:lnTo>
                  <a:pt x="2314" y="2435"/>
                </a:lnTo>
                <a:lnTo>
                  <a:pt x="2555" y="2302"/>
                </a:lnTo>
                <a:lnTo>
                  <a:pt x="2753" y="2146"/>
                </a:lnTo>
                <a:lnTo>
                  <a:pt x="2908" y="1970"/>
                </a:lnTo>
                <a:lnTo>
                  <a:pt x="3023" y="1781"/>
                </a:lnTo>
                <a:lnTo>
                  <a:pt x="3127" y="1380"/>
                </a:lnTo>
                <a:lnTo>
                  <a:pt x="3130" y="1279"/>
                </a:lnTo>
                <a:lnTo>
                  <a:pt x="3122" y="1175"/>
                </a:lnTo>
                <a:lnTo>
                  <a:pt x="3078" y="971"/>
                </a:lnTo>
                <a:lnTo>
                  <a:pt x="2886" y="595"/>
                </a:lnTo>
                <a:lnTo>
                  <a:pt x="2741" y="429"/>
                </a:lnTo>
                <a:lnTo>
                  <a:pt x="2561" y="284"/>
                </a:lnTo>
                <a:lnTo>
                  <a:pt x="2353" y="165"/>
                </a:lnTo>
                <a:lnTo>
                  <a:pt x="2113" y="74"/>
                </a:lnTo>
                <a:lnTo>
                  <a:pt x="1849" y="17"/>
                </a:lnTo>
                <a:lnTo>
                  <a:pt x="1705" y="3"/>
                </a:lnTo>
                <a:lnTo>
                  <a:pt x="1554" y="0"/>
                </a:lnTo>
              </a:path>
            </a:pathLst>
          </a:custGeom>
          <a:noFill/>
          <a:ln w="82440">
            <a:solidFill>
              <a:srgbClr val="ff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90400" y="877680"/>
            <a:ext cx="94536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l Problema de Robinson Cruso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85800" y="3524400"/>
            <a:ext cx="9067680" cy="555480"/>
            <a:chOff x="685800" y="3524400"/>
            <a:chExt cx="9067680" cy="555480"/>
          </a:xfrm>
        </p:grpSpPr>
        <p:sp>
          <p:nvSpPr>
            <p:cNvPr id="161" name=""/>
            <p:cNvSpPr/>
            <p:nvPr/>
          </p:nvSpPr>
          <p:spPr>
            <a:xfrm>
              <a:off x="5229360" y="3524400"/>
              <a:ext cx="1440" cy="29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580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5596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24320" y="3822840"/>
              <a:ext cx="180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94480" y="3825720"/>
              <a:ext cx="1800" cy="254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85800" y="382284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955960" y="3822840"/>
              <a:ext cx="1150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06880" y="3822840"/>
              <a:ext cx="1117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24320" y="382284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737640" y="3825720"/>
              <a:ext cx="1800" cy="254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483320" y="3825720"/>
              <a:ext cx="22701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0" y="4089240"/>
            <a:ext cx="1935000" cy="11955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El problema de Robins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Cruso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28960" y="4106880"/>
            <a:ext cx="1936440" cy="1195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Decentrali-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-zación y comerci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57560" y="4094280"/>
            <a:ext cx="1936800" cy="1195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Economía multi-person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08840" y="4094280"/>
            <a:ext cx="1935000" cy="1195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¿Porqué tomadores de precio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23400" y="4094280"/>
            <a:ext cx="1935000" cy="1195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Exces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3520" y="2057400"/>
            <a:ext cx="3962160" cy="1523880"/>
          </a:xfrm>
          <a:prstGeom prst="rect">
            <a:avLst/>
          </a:prstGeom>
          <a:solidFill>
            <a:srgbClr val="ccffff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Requerimos tres nuevos conceptos: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4235400"/>
            <a:ext cx="746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rocesos multi-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406600"/>
            <a:ext cx="37335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roducción ne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6114960"/>
            <a:ext cx="67057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Curva de Trans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304920"/>
            <a:ext cx="94536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Nuevo concepto 1: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0T21:32:52Z</dcterms:created>
  <dc:creator>COWELL</dc:creator>
  <dc:description/>
  <dc:language>en-US</dc:language>
  <cp:lastModifiedBy>FERNANDO VICTOR TOW</cp:lastModifiedBy>
  <dcterms:modified xsi:type="dcterms:W3CDTF">1998-09-26T22:57:40Z</dcterms:modified>
  <cp:revision>51</cp:revision>
  <dc:subject/>
  <dc:title>Capitulo I Equilibrio General</dc:title>
</cp:coreProperties>
</file>