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1A6-61EE-473F-8BC1-2457ADDE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7840" y="311040"/>
            <a:ext cx="968220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7840" y="1386000"/>
            <a:ext cx="9682200" cy="142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7840" y="2941560"/>
            <a:ext cx="9682200" cy="142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44D0-533F-4187-A932-7FC1ABDF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7840" y="311040"/>
            <a:ext cx="968220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7840" y="1386000"/>
            <a:ext cx="4724640" cy="142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99000" y="1386000"/>
            <a:ext cx="4724640" cy="142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7840" y="2941560"/>
            <a:ext cx="4724640" cy="142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99000" y="2941560"/>
            <a:ext cx="4724640" cy="142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E7B-4AF9-4F37-8F7B-0ABADB94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7840" y="311040"/>
            <a:ext cx="968220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7840" y="1386000"/>
            <a:ext cx="3117600" cy="142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1680" y="1386000"/>
            <a:ext cx="3117600" cy="142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85520" y="1386000"/>
            <a:ext cx="3117600" cy="142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7840" y="2941560"/>
            <a:ext cx="3117600" cy="142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1680" y="2941560"/>
            <a:ext cx="3117600" cy="142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85520" y="2941560"/>
            <a:ext cx="3117600" cy="142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E47-4425-40E6-B4A9-2E7FD56E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7840" y="311040"/>
            <a:ext cx="968220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7840" y="1386000"/>
            <a:ext cx="9682200" cy="29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E31-D46B-40AB-99B4-662C234D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7840" y="311040"/>
            <a:ext cx="968220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7840" y="1386000"/>
            <a:ext cx="9682200" cy="297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3F1-24FE-4497-AB6D-AEA4B8C7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7840" y="311040"/>
            <a:ext cx="968220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7840" y="1386000"/>
            <a:ext cx="4724640" cy="297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99000" y="1386000"/>
            <a:ext cx="4724640" cy="297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5C1-FEE6-4740-B870-64713B80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7840" y="311040"/>
            <a:ext cx="968220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1CC-F534-41BB-8589-314D1474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7840" y="311040"/>
            <a:ext cx="968220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4AF-CE15-4059-B8B1-F4A23FDD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7840" y="311040"/>
            <a:ext cx="968220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7840" y="1386000"/>
            <a:ext cx="4724640" cy="142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99000" y="1386000"/>
            <a:ext cx="4724640" cy="297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7840" y="2941560"/>
            <a:ext cx="4724640" cy="142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AD17-1C81-4225-85BC-12991482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7840" y="311040"/>
            <a:ext cx="968220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7840" y="1386000"/>
            <a:ext cx="4724640" cy="297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99000" y="1386000"/>
            <a:ext cx="4724640" cy="142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99000" y="2941560"/>
            <a:ext cx="4724640" cy="142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DA2-0588-42C8-A1E3-83CA31C1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7840" y="311040"/>
            <a:ext cx="968220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7840" y="1386000"/>
            <a:ext cx="4724640" cy="142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99000" y="1386000"/>
            <a:ext cx="4724640" cy="142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7840" y="2941560"/>
            <a:ext cx="9682200" cy="142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F91B-B452-454D-972F-07E36D73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7840" y="311040"/>
            <a:ext cx="968220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7840" y="1386000"/>
            <a:ext cx="9682200" cy="297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11440" indent="-162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35800" indent="-1620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0520" indent="-1620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0520" indent="-1620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0520" indent="-1620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7480" y="6234120"/>
            <a:ext cx="18828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7040" y="6234120"/>
            <a:ext cx="286992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3720" y="6234120"/>
            <a:ext cx="18828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F805-072F-40F9-ACB3-9392619B8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980720" y="3886200"/>
            <a:ext cx="4807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pitulo III.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8390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3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manda óptima como función de variables exóge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9920" y="2971800"/>
            <a:ext cx="1981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a para cada uno de lo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2438280"/>
            <a:ext cx="40384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4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4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...   ...   ...   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4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4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2590920"/>
            <a:ext cx="6361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Symbol"/>
                <a:ea typeface="Symbol"/>
              </a:rPr>
              <a:t>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Symbol"/>
                <a:ea typeface="Symbol"/>
              </a:rPr>
              <a:t>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Symbol"/>
                <a:ea typeface="Symbol"/>
              </a:rPr>
              <a:t>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-381240" y="304560"/>
            <a:ext cx="975348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nuestra primera función de respuest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521000" y="3121200"/>
            <a:ext cx="7016400" cy="1758600"/>
          </a:xfrm>
          <a:prstGeom prst="roundRect">
            <a:avLst>
              <a:gd name="adj" fmla="val 6208"/>
            </a:avLst>
          </a:prstGeom>
          <a:solidFill>
            <a:srgbClr val="ffffc2"/>
          </a:solidFill>
          <a:ln w="1260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4114800"/>
            <a:ext cx="5105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400080"/>
                </a:solidFill>
                <a:latin typeface="Arial"/>
              </a:rPr>
              <a:t>Demanda del factor </a:t>
            </a:r>
            <a:r>
              <a:rPr b="1" i="1" lang="en-US" sz="2300" spc="-1" strike="noStrike">
                <a:solidFill>
                  <a:srgbClr val="400080"/>
                </a:solidFill>
                <a:latin typeface="Times New Roman"/>
              </a:rPr>
              <a:t>i</a:t>
            </a:r>
            <a:r>
              <a:rPr b="1" i="1" lang="en-US" sz="2300" spc="-1" strike="noStrike">
                <a:solidFill>
                  <a:srgbClr val="400080"/>
                </a:solidFill>
                <a:latin typeface="Arial"/>
              </a:rPr>
              <a:t>, </a:t>
            </a:r>
            <a:r>
              <a:rPr b="1" lang="en-US" sz="2300" spc="-1" strike="noStrike">
                <a:solidFill>
                  <a:srgbClr val="400080"/>
                </a:solidFill>
                <a:latin typeface="Arial"/>
              </a:rPr>
              <a:t>condicionada por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el nivel de producción</a:t>
            </a:r>
            <a:r>
              <a:rPr b="1" lang="en-US" sz="2300" spc="-1" strike="noStrike">
                <a:solidFill>
                  <a:srgbClr val="400080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400080"/>
                </a:solidFill>
                <a:latin typeface="Times New Roman"/>
              </a:rPr>
              <a:t>Q</a:t>
            </a:r>
            <a:r>
              <a:rPr b="1" i="1" lang="en-US" sz="23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525780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700" spc="-1" strike="noStrike">
                <a:solidFill>
                  <a:srgbClr val="ff0000"/>
                </a:solidFill>
                <a:latin typeface="Brush738 BT"/>
              </a:rPr>
              <a:t>Necesitamos examinar la primer etapa del proceso de maximizació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3276720"/>
            <a:ext cx="3353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4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4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891540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89154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ión de Demanda Condicionad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560" y="1368360"/>
            <a:ext cx="2592360" cy="2055960"/>
          </a:xfrm>
          <a:custGeom>
            <a:avLst/>
            <a:gdLst/>
            <a:ahLst/>
            <a:rect l="l" t="t" r="r" b="b"/>
            <a:pathLst>
              <a:path w="1633" h="1295">
                <a:moveTo>
                  <a:pt x="273" y="0"/>
                </a:moveTo>
                <a:lnTo>
                  <a:pt x="216" y="4"/>
                </a:lnTo>
                <a:lnTo>
                  <a:pt x="165" y="11"/>
                </a:lnTo>
                <a:lnTo>
                  <a:pt x="120" y="25"/>
                </a:lnTo>
                <a:lnTo>
                  <a:pt x="80" y="42"/>
                </a:lnTo>
                <a:lnTo>
                  <a:pt x="46" y="62"/>
                </a:lnTo>
                <a:lnTo>
                  <a:pt x="23" y="87"/>
                </a:lnTo>
                <a:lnTo>
                  <a:pt x="6" y="111"/>
                </a:lnTo>
                <a:lnTo>
                  <a:pt x="0" y="138"/>
                </a:lnTo>
                <a:lnTo>
                  <a:pt x="0" y="476"/>
                </a:lnTo>
                <a:lnTo>
                  <a:pt x="0" y="683"/>
                </a:lnTo>
                <a:lnTo>
                  <a:pt x="6" y="711"/>
                </a:lnTo>
                <a:lnTo>
                  <a:pt x="23" y="735"/>
                </a:lnTo>
                <a:lnTo>
                  <a:pt x="46" y="759"/>
                </a:lnTo>
                <a:lnTo>
                  <a:pt x="80" y="777"/>
                </a:lnTo>
                <a:lnTo>
                  <a:pt x="120" y="794"/>
                </a:lnTo>
                <a:lnTo>
                  <a:pt x="165" y="808"/>
                </a:lnTo>
                <a:lnTo>
                  <a:pt x="216" y="815"/>
                </a:lnTo>
                <a:lnTo>
                  <a:pt x="273" y="818"/>
                </a:lnTo>
                <a:lnTo>
                  <a:pt x="950" y="818"/>
                </a:lnTo>
                <a:lnTo>
                  <a:pt x="1484" y="1294"/>
                </a:lnTo>
                <a:lnTo>
                  <a:pt x="1359" y="818"/>
                </a:lnTo>
                <a:lnTo>
                  <a:pt x="1416" y="815"/>
                </a:lnTo>
                <a:lnTo>
                  <a:pt x="1467" y="808"/>
                </a:lnTo>
                <a:lnTo>
                  <a:pt x="1513" y="794"/>
                </a:lnTo>
                <a:lnTo>
                  <a:pt x="1552" y="777"/>
                </a:lnTo>
                <a:lnTo>
                  <a:pt x="1587" y="759"/>
                </a:lnTo>
                <a:lnTo>
                  <a:pt x="1609" y="735"/>
                </a:lnTo>
                <a:lnTo>
                  <a:pt x="1626" y="711"/>
                </a:lnTo>
                <a:lnTo>
                  <a:pt x="1632" y="683"/>
                </a:lnTo>
                <a:lnTo>
                  <a:pt x="1632" y="476"/>
                </a:lnTo>
                <a:lnTo>
                  <a:pt x="1632" y="138"/>
                </a:lnTo>
                <a:lnTo>
                  <a:pt x="1626" y="111"/>
                </a:lnTo>
                <a:lnTo>
                  <a:pt x="1609" y="87"/>
                </a:lnTo>
                <a:lnTo>
                  <a:pt x="1587" y="62"/>
                </a:lnTo>
                <a:lnTo>
                  <a:pt x="1552" y="42"/>
                </a:lnTo>
                <a:lnTo>
                  <a:pt x="1513" y="25"/>
                </a:lnTo>
                <a:lnTo>
                  <a:pt x="1467" y="11"/>
                </a:lnTo>
                <a:lnTo>
                  <a:pt x="1416" y="4"/>
                </a:lnTo>
                <a:lnTo>
                  <a:pt x="1359" y="0"/>
                </a:lnTo>
                <a:lnTo>
                  <a:pt x="950" y="0"/>
                </a:lnTo>
                <a:lnTo>
                  <a:pt x="273" y="0"/>
                </a:lnTo>
              </a:path>
            </a:pathLst>
          </a:custGeom>
          <a:solidFill>
            <a:srgbClr val="ffff99"/>
          </a:solidFill>
          <a:ln cap="rnd" w="25560">
            <a:solidFill>
              <a:srgbClr val="8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44680" y="1479600"/>
            <a:ext cx="2197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función de los precios de lo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73840" y="1447920"/>
            <a:ext cx="2792160" cy="1931760"/>
          </a:xfrm>
          <a:custGeom>
            <a:avLst/>
            <a:gdLst/>
            <a:ahLst/>
            <a:rect l="l" t="t" r="r" b="b"/>
            <a:pathLst>
              <a:path w="1759" h="1217">
                <a:moveTo>
                  <a:pt x="477" y="0"/>
                </a:moveTo>
                <a:lnTo>
                  <a:pt x="424" y="4"/>
                </a:lnTo>
                <a:lnTo>
                  <a:pt x="380" y="11"/>
                </a:lnTo>
                <a:lnTo>
                  <a:pt x="336" y="24"/>
                </a:lnTo>
                <a:lnTo>
                  <a:pt x="300" y="41"/>
                </a:lnTo>
                <a:lnTo>
                  <a:pt x="265" y="62"/>
                </a:lnTo>
                <a:lnTo>
                  <a:pt x="239" y="86"/>
                </a:lnTo>
                <a:lnTo>
                  <a:pt x="230" y="109"/>
                </a:lnTo>
                <a:lnTo>
                  <a:pt x="221" y="137"/>
                </a:lnTo>
                <a:lnTo>
                  <a:pt x="221" y="477"/>
                </a:lnTo>
                <a:lnTo>
                  <a:pt x="221" y="681"/>
                </a:lnTo>
                <a:lnTo>
                  <a:pt x="230" y="709"/>
                </a:lnTo>
                <a:lnTo>
                  <a:pt x="239" y="736"/>
                </a:lnTo>
                <a:lnTo>
                  <a:pt x="265" y="756"/>
                </a:lnTo>
                <a:lnTo>
                  <a:pt x="300" y="777"/>
                </a:lnTo>
                <a:lnTo>
                  <a:pt x="336" y="794"/>
                </a:lnTo>
                <a:lnTo>
                  <a:pt x="380" y="807"/>
                </a:lnTo>
                <a:lnTo>
                  <a:pt x="424" y="814"/>
                </a:lnTo>
                <a:lnTo>
                  <a:pt x="477" y="818"/>
                </a:lnTo>
                <a:lnTo>
                  <a:pt x="0" y="1216"/>
                </a:lnTo>
                <a:lnTo>
                  <a:pt x="857" y="818"/>
                </a:lnTo>
                <a:lnTo>
                  <a:pt x="1502" y="818"/>
                </a:lnTo>
                <a:lnTo>
                  <a:pt x="1555" y="814"/>
                </a:lnTo>
                <a:lnTo>
                  <a:pt x="1599" y="807"/>
                </a:lnTo>
                <a:lnTo>
                  <a:pt x="1643" y="794"/>
                </a:lnTo>
                <a:lnTo>
                  <a:pt x="1687" y="777"/>
                </a:lnTo>
                <a:lnTo>
                  <a:pt x="1714" y="756"/>
                </a:lnTo>
                <a:lnTo>
                  <a:pt x="1740" y="736"/>
                </a:lnTo>
                <a:lnTo>
                  <a:pt x="1749" y="709"/>
                </a:lnTo>
                <a:lnTo>
                  <a:pt x="1758" y="681"/>
                </a:lnTo>
                <a:lnTo>
                  <a:pt x="1758" y="477"/>
                </a:lnTo>
                <a:lnTo>
                  <a:pt x="1758" y="137"/>
                </a:lnTo>
                <a:lnTo>
                  <a:pt x="1749" y="109"/>
                </a:lnTo>
                <a:lnTo>
                  <a:pt x="1740" y="86"/>
                </a:lnTo>
                <a:lnTo>
                  <a:pt x="1714" y="62"/>
                </a:lnTo>
                <a:lnTo>
                  <a:pt x="1687" y="41"/>
                </a:lnTo>
                <a:lnTo>
                  <a:pt x="1643" y="24"/>
                </a:lnTo>
                <a:lnTo>
                  <a:pt x="1599" y="11"/>
                </a:lnTo>
                <a:lnTo>
                  <a:pt x="1555" y="4"/>
                </a:lnTo>
                <a:lnTo>
                  <a:pt x="1502" y="0"/>
                </a:lnTo>
                <a:lnTo>
                  <a:pt x="857" y="0"/>
                </a:lnTo>
                <a:lnTo>
                  <a:pt x="477" y="0"/>
                </a:lnTo>
              </a:path>
            </a:pathLst>
          </a:custGeom>
          <a:solidFill>
            <a:srgbClr val="ffff99"/>
          </a:solidFill>
          <a:ln cap="rnd" w="25560">
            <a:solidFill>
              <a:srgbClr val="8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16720" y="1555920"/>
            <a:ext cx="2054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el nivel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5928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El resultado depende de la forma de 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08880" y="3476520"/>
            <a:ext cx="1620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3000" y="3602160"/>
            <a:ext cx="1303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73720" y="792000"/>
            <a:ext cx="16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89640" y="919080"/>
            <a:ext cx="1299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72000" y="1036800"/>
            <a:ext cx="0" cy="2560320"/>
          </a:xfrm>
          <a:prstGeom prst="line">
            <a:avLst/>
          </a:prstGeom>
          <a:ln w="25560">
            <a:solidFill>
              <a:srgbClr val="8f8f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8480" y="3600360"/>
            <a:ext cx="2879640" cy="0"/>
          </a:xfrm>
          <a:prstGeom prst="line">
            <a:avLst/>
          </a:prstGeom>
          <a:ln w="25560">
            <a:solidFill>
              <a:srgbClr val="8f8f8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07000" y="1092240"/>
            <a:ext cx="2554200" cy="2322360"/>
          </a:xfrm>
          <a:custGeom>
            <a:avLst/>
            <a:gdLst/>
            <a:ahLst/>
            <a:rect l="l" t="t" r="r" b="b"/>
            <a:pathLst>
              <a:path w="1609" h="1463">
                <a:moveTo>
                  <a:pt x="0" y="0"/>
                </a:moveTo>
                <a:lnTo>
                  <a:pt x="0" y="9"/>
                </a:lnTo>
                <a:lnTo>
                  <a:pt x="0" y="15"/>
                </a:lnTo>
                <a:lnTo>
                  <a:pt x="0" y="20"/>
                </a:lnTo>
                <a:lnTo>
                  <a:pt x="1" y="24"/>
                </a:lnTo>
                <a:lnTo>
                  <a:pt x="1" y="27"/>
                </a:lnTo>
                <a:lnTo>
                  <a:pt x="1" y="30"/>
                </a:lnTo>
                <a:lnTo>
                  <a:pt x="1" y="32"/>
                </a:lnTo>
                <a:lnTo>
                  <a:pt x="1" y="34"/>
                </a:lnTo>
                <a:lnTo>
                  <a:pt x="1" y="35"/>
                </a:lnTo>
                <a:lnTo>
                  <a:pt x="1" y="36"/>
                </a:lnTo>
                <a:lnTo>
                  <a:pt x="1" y="39"/>
                </a:lnTo>
                <a:lnTo>
                  <a:pt x="1" y="41"/>
                </a:lnTo>
                <a:lnTo>
                  <a:pt x="1" y="43"/>
                </a:lnTo>
                <a:lnTo>
                  <a:pt x="2" y="46"/>
                </a:lnTo>
                <a:lnTo>
                  <a:pt x="2" y="51"/>
                </a:lnTo>
                <a:lnTo>
                  <a:pt x="3" y="56"/>
                </a:lnTo>
                <a:lnTo>
                  <a:pt x="3" y="64"/>
                </a:lnTo>
                <a:lnTo>
                  <a:pt x="5" y="69"/>
                </a:lnTo>
                <a:lnTo>
                  <a:pt x="5" y="76"/>
                </a:lnTo>
                <a:lnTo>
                  <a:pt x="7" y="83"/>
                </a:lnTo>
                <a:lnTo>
                  <a:pt x="9" y="89"/>
                </a:lnTo>
                <a:lnTo>
                  <a:pt x="10" y="95"/>
                </a:lnTo>
                <a:lnTo>
                  <a:pt x="12" y="103"/>
                </a:lnTo>
                <a:lnTo>
                  <a:pt x="14" y="110"/>
                </a:lnTo>
                <a:lnTo>
                  <a:pt x="15" y="116"/>
                </a:lnTo>
                <a:lnTo>
                  <a:pt x="17" y="124"/>
                </a:lnTo>
                <a:lnTo>
                  <a:pt x="19" y="130"/>
                </a:lnTo>
                <a:lnTo>
                  <a:pt x="20" y="136"/>
                </a:lnTo>
                <a:lnTo>
                  <a:pt x="22" y="141"/>
                </a:lnTo>
                <a:lnTo>
                  <a:pt x="25" y="146"/>
                </a:lnTo>
                <a:lnTo>
                  <a:pt x="31" y="154"/>
                </a:lnTo>
                <a:lnTo>
                  <a:pt x="43" y="169"/>
                </a:lnTo>
                <a:lnTo>
                  <a:pt x="60" y="189"/>
                </a:lnTo>
                <a:lnTo>
                  <a:pt x="85" y="214"/>
                </a:lnTo>
                <a:lnTo>
                  <a:pt x="113" y="245"/>
                </a:lnTo>
                <a:lnTo>
                  <a:pt x="147" y="279"/>
                </a:lnTo>
                <a:lnTo>
                  <a:pt x="186" y="318"/>
                </a:lnTo>
                <a:lnTo>
                  <a:pt x="228" y="359"/>
                </a:lnTo>
                <a:lnTo>
                  <a:pt x="273" y="404"/>
                </a:lnTo>
                <a:lnTo>
                  <a:pt x="321" y="452"/>
                </a:lnTo>
                <a:lnTo>
                  <a:pt x="373" y="502"/>
                </a:lnTo>
                <a:lnTo>
                  <a:pt x="426" y="552"/>
                </a:lnTo>
                <a:lnTo>
                  <a:pt x="479" y="606"/>
                </a:lnTo>
                <a:lnTo>
                  <a:pt x="536" y="659"/>
                </a:lnTo>
                <a:lnTo>
                  <a:pt x="593" y="712"/>
                </a:lnTo>
                <a:lnTo>
                  <a:pt x="650" y="765"/>
                </a:lnTo>
                <a:lnTo>
                  <a:pt x="708" y="819"/>
                </a:lnTo>
                <a:lnTo>
                  <a:pt x="765" y="872"/>
                </a:lnTo>
                <a:lnTo>
                  <a:pt x="823" y="926"/>
                </a:lnTo>
                <a:lnTo>
                  <a:pt x="882" y="978"/>
                </a:lnTo>
                <a:lnTo>
                  <a:pt x="939" y="1030"/>
                </a:lnTo>
                <a:lnTo>
                  <a:pt x="995" y="1079"/>
                </a:lnTo>
                <a:lnTo>
                  <a:pt x="1050" y="1127"/>
                </a:lnTo>
                <a:lnTo>
                  <a:pt x="1102" y="1171"/>
                </a:lnTo>
                <a:lnTo>
                  <a:pt x="1152" y="1214"/>
                </a:lnTo>
                <a:lnTo>
                  <a:pt x="1198" y="1253"/>
                </a:lnTo>
                <a:lnTo>
                  <a:pt x="1240" y="1287"/>
                </a:lnTo>
                <a:lnTo>
                  <a:pt x="1278" y="1317"/>
                </a:lnTo>
                <a:lnTo>
                  <a:pt x="1311" y="1342"/>
                </a:lnTo>
                <a:lnTo>
                  <a:pt x="1338" y="1362"/>
                </a:lnTo>
                <a:lnTo>
                  <a:pt x="1359" y="1377"/>
                </a:lnTo>
                <a:lnTo>
                  <a:pt x="1375" y="1384"/>
                </a:lnTo>
                <a:lnTo>
                  <a:pt x="1385" y="1391"/>
                </a:lnTo>
                <a:lnTo>
                  <a:pt x="1397" y="1395"/>
                </a:lnTo>
                <a:lnTo>
                  <a:pt x="1410" y="1400"/>
                </a:lnTo>
                <a:lnTo>
                  <a:pt x="1423" y="1405"/>
                </a:lnTo>
                <a:lnTo>
                  <a:pt x="1435" y="1410"/>
                </a:lnTo>
                <a:lnTo>
                  <a:pt x="1448" y="1415"/>
                </a:lnTo>
                <a:lnTo>
                  <a:pt x="1461" y="1420"/>
                </a:lnTo>
                <a:lnTo>
                  <a:pt x="1474" y="1424"/>
                </a:lnTo>
                <a:lnTo>
                  <a:pt x="1485" y="1429"/>
                </a:lnTo>
                <a:lnTo>
                  <a:pt x="1497" y="1433"/>
                </a:lnTo>
                <a:lnTo>
                  <a:pt x="1508" y="1437"/>
                </a:lnTo>
                <a:lnTo>
                  <a:pt x="1519" y="1440"/>
                </a:lnTo>
                <a:lnTo>
                  <a:pt x="1528" y="1444"/>
                </a:lnTo>
                <a:lnTo>
                  <a:pt x="1536" y="1446"/>
                </a:lnTo>
                <a:lnTo>
                  <a:pt x="1544" y="1449"/>
                </a:lnTo>
                <a:lnTo>
                  <a:pt x="1551" y="1450"/>
                </a:lnTo>
                <a:lnTo>
                  <a:pt x="1554" y="1452"/>
                </a:lnTo>
                <a:lnTo>
                  <a:pt x="1558" y="1452"/>
                </a:lnTo>
                <a:lnTo>
                  <a:pt x="1561" y="1453"/>
                </a:lnTo>
                <a:lnTo>
                  <a:pt x="1563" y="1453"/>
                </a:lnTo>
                <a:lnTo>
                  <a:pt x="1563" y="1454"/>
                </a:lnTo>
                <a:lnTo>
                  <a:pt x="1564" y="1454"/>
                </a:lnTo>
                <a:lnTo>
                  <a:pt x="1566" y="1454"/>
                </a:lnTo>
                <a:lnTo>
                  <a:pt x="1568" y="1454"/>
                </a:lnTo>
                <a:lnTo>
                  <a:pt x="1569" y="1456"/>
                </a:lnTo>
                <a:lnTo>
                  <a:pt x="1571" y="1456"/>
                </a:lnTo>
                <a:lnTo>
                  <a:pt x="1574" y="1456"/>
                </a:lnTo>
                <a:lnTo>
                  <a:pt x="1578" y="1456"/>
                </a:lnTo>
                <a:lnTo>
                  <a:pt x="1583" y="1458"/>
                </a:lnTo>
                <a:lnTo>
                  <a:pt x="1589" y="1459"/>
                </a:lnTo>
                <a:lnTo>
                  <a:pt x="1597" y="1460"/>
                </a:lnTo>
                <a:lnTo>
                  <a:pt x="1608" y="1462"/>
                </a:lnTo>
              </a:path>
            </a:pathLst>
          </a:custGeom>
          <a:noFill/>
          <a:ln cap="rnd" w="2556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08600" y="3489480"/>
            <a:ext cx="1616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22720" y="3614760"/>
            <a:ext cx="1303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98640" y="816120"/>
            <a:ext cx="1620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12760" y="941400"/>
            <a:ext cx="1303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092240" y="1060560"/>
            <a:ext cx="0" cy="2550960"/>
          </a:xfrm>
          <a:prstGeom prst="line">
            <a:avLst/>
          </a:prstGeom>
          <a:ln w="25560">
            <a:solidFill>
              <a:srgbClr val="8f8f8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98720" y="3614760"/>
            <a:ext cx="2860560" cy="0"/>
          </a:xfrm>
          <a:prstGeom prst="line">
            <a:avLst/>
          </a:prstGeom>
          <a:ln w="25560">
            <a:solidFill>
              <a:srgbClr val="8f8f8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59080" y="1106640"/>
            <a:ext cx="1822320" cy="1947600"/>
          </a:xfrm>
          <a:custGeom>
            <a:avLst/>
            <a:gdLst/>
            <a:ahLst/>
            <a:rect l="l" t="t" r="r" b="b"/>
            <a:pathLst>
              <a:path w="1148" h="1227">
                <a:moveTo>
                  <a:pt x="0" y="0"/>
                </a:moveTo>
                <a:lnTo>
                  <a:pt x="0" y="11"/>
                </a:lnTo>
                <a:lnTo>
                  <a:pt x="1" y="19"/>
                </a:lnTo>
                <a:lnTo>
                  <a:pt x="1" y="26"/>
                </a:lnTo>
                <a:lnTo>
                  <a:pt x="3" y="30"/>
                </a:lnTo>
                <a:lnTo>
                  <a:pt x="3" y="34"/>
                </a:lnTo>
                <a:lnTo>
                  <a:pt x="3" y="37"/>
                </a:lnTo>
                <a:lnTo>
                  <a:pt x="3" y="40"/>
                </a:lnTo>
                <a:lnTo>
                  <a:pt x="5" y="41"/>
                </a:lnTo>
                <a:lnTo>
                  <a:pt x="5" y="42"/>
                </a:lnTo>
                <a:lnTo>
                  <a:pt x="5" y="43"/>
                </a:lnTo>
                <a:lnTo>
                  <a:pt x="5" y="45"/>
                </a:lnTo>
                <a:lnTo>
                  <a:pt x="5" y="46"/>
                </a:lnTo>
                <a:lnTo>
                  <a:pt x="5" y="49"/>
                </a:lnTo>
                <a:lnTo>
                  <a:pt x="5" y="50"/>
                </a:lnTo>
                <a:lnTo>
                  <a:pt x="5" y="55"/>
                </a:lnTo>
                <a:lnTo>
                  <a:pt x="6" y="59"/>
                </a:lnTo>
                <a:lnTo>
                  <a:pt x="6" y="66"/>
                </a:lnTo>
                <a:lnTo>
                  <a:pt x="8" y="74"/>
                </a:lnTo>
                <a:lnTo>
                  <a:pt x="9" y="83"/>
                </a:lnTo>
                <a:lnTo>
                  <a:pt x="12" y="94"/>
                </a:lnTo>
                <a:lnTo>
                  <a:pt x="14" y="106"/>
                </a:lnTo>
                <a:lnTo>
                  <a:pt x="16" y="119"/>
                </a:lnTo>
                <a:lnTo>
                  <a:pt x="18" y="134"/>
                </a:lnTo>
                <a:lnTo>
                  <a:pt x="22" y="147"/>
                </a:lnTo>
                <a:lnTo>
                  <a:pt x="25" y="163"/>
                </a:lnTo>
                <a:lnTo>
                  <a:pt x="27" y="179"/>
                </a:lnTo>
                <a:lnTo>
                  <a:pt x="31" y="196"/>
                </a:lnTo>
                <a:lnTo>
                  <a:pt x="35" y="210"/>
                </a:lnTo>
                <a:lnTo>
                  <a:pt x="37" y="227"/>
                </a:lnTo>
                <a:lnTo>
                  <a:pt x="41" y="242"/>
                </a:lnTo>
                <a:lnTo>
                  <a:pt x="45" y="257"/>
                </a:lnTo>
                <a:lnTo>
                  <a:pt x="48" y="272"/>
                </a:lnTo>
                <a:lnTo>
                  <a:pt x="52" y="288"/>
                </a:lnTo>
                <a:lnTo>
                  <a:pt x="55" y="302"/>
                </a:lnTo>
                <a:lnTo>
                  <a:pt x="59" y="318"/>
                </a:lnTo>
                <a:lnTo>
                  <a:pt x="64" y="334"/>
                </a:lnTo>
                <a:lnTo>
                  <a:pt x="68" y="352"/>
                </a:lnTo>
                <a:lnTo>
                  <a:pt x="73" y="369"/>
                </a:lnTo>
                <a:lnTo>
                  <a:pt x="78" y="385"/>
                </a:lnTo>
                <a:lnTo>
                  <a:pt x="83" y="401"/>
                </a:lnTo>
                <a:lnTo>
                  <a:pt x="86" y="418"/>
                </a:lnTo>
                <a:lnTo>
                  <a:pt x="92" y="433"/>
                </a:lnTo>
                <a:lnTo>
                  <a:pt x="96" y="448"/>
                </a:lnTo>
                <a:lnTo>
                  <a:pt x="101" y="461"/>
                </a:lnTo>
                <a:lnTo>
                  <a:pt x="105" y="475"/>
                </a:lnTo>
                <a:lnTo>
                  <a:pt x="110" y="485"/>
                </a:lnTo>
                <a:lnTo>
                  <a:pt x="114" y="496"/>
                </a:lnTo>
                <a:lnTo>
                  <a:pt x="117" y="503"/>
                </a:lnTo>
                <a:lnTo>
                  <a:pt x="121" y="512"/>
                </a:lnTo>
                <a:lnTo>
                  <a:pt x="124" y="520"/>
                </a:lnTo>
                <a:lnTo>
                  <a:pt x="128" y="531"/>
                </a:lnTo>
                <a:lnTo>
                  <a:pt x="133" y="541"/>
                </a:lnTo>
                <a:lnTo>
                  <a:pt x="137" y="552"/>
                </a:lnTo>
                <a:lnTo>
                  <a:pt x="143" y="564"/>
                </a:lnTo>
                <a:lnTo>
                  <a:pt x="148" y="576"/>
                </a:lnTo>
                <a:lnTo>
                  <a:pt x="154" y="587"/>
                </a:lnTo>
                <a:lnTo>
                  <a:pt x="159" y="601"/>
                </a:lnTo>
                <a:lnTo>
                  <a:pt x="165" y="614"/>
                </a:lnTo>
                <a:lnTo>
                  <a:pt x="169" y="627"/>
                </a:lnTo>
                <a:lnTo>
                  <a:pt x="176" y="639"/>
                </a:lnTo>
                <a:lnTo>
                  <a:pt x="181" y="651"/>
                </a:lnTo>
                <a:lnTo>
                  <a:pt x="186" y="662"/>
                </a:lnTo>
                <a:lnTo>
                  <a:pt x="192" y="672"/>
                </a:lnTo>
                <a:lnTo>
                  <a:pt x="196" y="682"/>
                </a:lnTo>
                <a:lnTo>
                  <a:pt x="200" y="693"/>
                </a:lnTo>
                <a:lnTo>
                  <a:pt x="205" y="703"/>
                </a:lnTo>
                <a:lnTo>
                  <a:pt x="210" y="715"/>
                </a:lnTo>
                <a:lnTo>
                  <a:pt x="215" y="725"/>
                </a:lnTo>
                <a:lnTo>
                  <a:pt x="220" y="737"/>
                </a:lnTo>
                <a:lnTo>
                  <a:pt x="225" y="749"/>
                </a:lnTo>
                <a:lnTo>
                  <a:pt x="231" y="760"/>
                </a:lnTo>
                <a:lnTo>
                  <a:pt x="237" y="772"/>
                </a:lnTo>
                <a:lnTo>
                  <a:pt x="243" y="783"/>
                </a:lnTo>
                <a:lnTo>
                  <a:pt x="247" y="796"/>
                </a:lnTo>
                <a:lnTo>
                  <a:pt x="253" y="806"/>
                </a:lnTo>
                <a:lnTo>
                  <a:pt x="258" y="816"/>
                </a:lnTo>
                <a:lnTo>
                  <a:pt x="262" y="826"/>
                </a:lnTo>
                <a:lnTo>
                  <a:pt x="266" y="834"/>
                </a:lnTo>
                <a:lnTo>
                  <a:pt x="270" y="842"/>
                </a:lnTo>
                <a:lnTo>
                  <a:pt x="275" y="849"/>
                </a:lnTo>
                <a:lnTo>
                  <a:pt x="277" y="855"/>
                </a:lnTo>
                <a:lnTo>
                  <a:pt x="282" y="861"/>
                </a:lnTo>
                <a:lnTo>
                  <a:pt x="285" y="870"/>
                </a:lnTo>
                <a:lnTo>
                  <a:pt x="291" y="877"/>
                </a:lnTo>
                <a:lnTo>
                  <a:pt x="295" y="887"/>
                </a:lnTo>
                <a:lnTo>
                  <a:pt x="302" y="894"/>
                </a:lnTo>
                <a:lnTo>
                  <a:pt x="307" y="904"/>
                </a:lnTo>
                <a:lnTo>
                  <a:pt x="314" y="912"/>
                </a:lnTo>
                <a:lnTo>
                  <a:pt x="319" y="923"/>
                </a:lnTo>
                <a:lnTo>
                  <a:pt x="326" y="931"/>
                </a:lnTo>
                <a:lnTo>
                  <a:pt x="333" y="940"/>
                </a:lnTo>
                <a:lnTo>
                  <a:pt x="339" y="948"/>
                </a:lnTo>
                <a:lnTo>
                  <a:pt x="344" y="956"/>
                </a:lnTo>
                <a:lnTo>
                  <a:pt x="352" y="964"/>
                </a:lnTo>
                <a:lnTo>
                  <a:pt x="356" y="971"/>
                </a:lnTo>
                <a:lnTo>
                  <a:pt x="364" y="977"/>
                </a:lnTo>
                <a:lnTo>
                  <a:pt x="368" y="984"/>
                </a:lnTo>
                <a:lnTo>
                  <a:pt x="374" y="991"/>
                </a:lnTo>
                <a:lnTo>
                  <a:pt x="381" y="999"/>
                </a:lnTo>
                <a:lnTo>
                  <a:pt x="388" y="1005"/>
                </a:lnTo>
                <a:lnTo>
                  <a:pt x="395" y="1014"/>
                </a:lnTo>
                <a:lnTo>
                  <a:pt x="403" y="1020"/>
                </a:lnTo>
                <a:lnTo>
                  <a:pt x="411" y="1029"/>
                </a:lnTo>
                <a:lnTo>
                  <a:pt x="419" y="1035"/>
                </a:lnTo>
                <a:lnTo>
                  <a:pt x="426" y="1043"/>
                </a:lnTo>
                <a:lnTo>
                  <a:pt x="434" y="1050"/>
                </a:lnTo>
                <a:lnTo>
                  <a:pt x="441" y="1056"/>
                </a:lnTo>
                <a:lnTo>
                  <a:pt x="450" y="1062"/>
                </a:lnTo>
                <a:lnTo>
                  <a:pt x="456" y="1069"/>
                </a:lnTo>
                <a:lnTo>
                  <a:pt x="463" y="1074"/>
                </a:lnTo>
                <a:lnTo>
                  <a:pt x="469" y="1079"/>
                </a:lnTo>
                <a:lnTo>
                  <a:pt x="475" y="1082"/>
                </a:lnTo>
                <a:lnTo>
                  <a:pt x="481" y="1087"/>
                </a:lnTo>
                <a:lnTo>
                  <a:pt x="486" y="1090"/>
                </a:lnTo>
                <a:lnTo>
                  <a:pt x="491" y="1095"/>
                </a:lnTo>
                <a:lnTo>
                  <a:pt x="497" y="1098"/>
                </a:lnTo>
                <a:lnTo>
                  <a:pt x="503" y="1103"/>
                </a:lnTo>
                <a:lnTo>
                  <a:pt x="508" y="1106"/>
                </a:lnTo>
                <a:lnTo>
                  <a:pt x="514" y="1110"/>
                </a:lnTo>
                <a:lnTo>
                  <a:pt x="520" y="1113"/>
                </a:lnTo>
                <a:lnTo>
                  <a:pt x="524" y="1118"/>
                </a:lnTo>
                <a:lnTo>
                  <a:pt x="529" y="1121"/>
                </a:lnTo>
                <a:lnTo>
                  <a:pt x="533" y="1125"/>
                </a:lnTo>
                <a:lnTo>
                  <a:pt x="538" y="1127"/>
                </a:lnTo>
                <a:lnTo>
                  <a:pt x="542" y="1131"/>
                </a:lnTo>
                <a:lnTo>
                  <a:pt x="545" y="1133"/>
                </a:lnTo>
                <a:lnTo>
                  <a:pt x="548" y="1133"/>
                </a:lnTo>
                <a:lnTo>
                  <a:pt x="551" y="1134"/>
                </a:lnTo>
                <a:lnTo>
                  <a:pt x="553" y="1136"/>
                </a:lnTo>
                <a:lnTo>
                  <a:pt x="555" y="1138"/>
                </a:lnTo>
                <a:lnTo>
                  <a:pt x="558" y="1140"/>
                </a:lnTo>
                <a:lnTo>
                  <a:pt x="561" y="1141"/>
                </a:lnTo>
                <a:lnTo>
                  <a:pt x="564" y="1143"/>
                </a:lnTo>
                <a:lnTo>
                  <a:pt x="568" y="1145"/>
                </a:lnTo>
                <a:lnTo>
                  <a:pt x="572" y="1147"/>
                </a:lnTo>
                <a:lnTo>
                  <a:pt x="577" y="1148"/>
                </a:lnTo>
                <a:lnTo>
                  <a:pt x="581" y="1151"/>
                </a:lnTo>
                <a:lnTo>
                  <a:pt x="585" y="1153"/>
                </a:lnTo>
                <a:lnTo>
                  <a:pt x="589" y="1155"/>
                </a:lnTo>
                <a:lnTo>
                  <a:pt x="594" y="1156"/>
                </a:lnTo>
                <a:lnTo>
                  <a:pt x="597" y="1159"/>
                </a:lnTo>
                <a:lnTo>
                  <a:pt x="603" y="1160"/>
                </a:lnTo>
                <a:lnTo>
                  <a:pt x="607" y="1162"/>
                </a:lnTo>
                <a:lnTo>
                  <a:pt x="613" y="1163"/>
                </a:lnTo>
                <a:lnTo>
                  <a:pt x="615" y="1164"/>
                </a:lnTo>
                <a:lnTo>
                  <a:pt x="621" y="1166"/>
                </a:lnTo>
                <a:lnTo>
                  <a:pt x="626" y="1168"/>
                </a:lnTo>
                <a:lnTo>
                  <a:pt x="634" y="1170"/>
                </a:lnTo>
                <a:lnTo>
                  <a:pt x="639" y="1173"/>
                </a:lnTo>
                <a:lnTo>
                  <a:pt x="647" y="1175"/>
                </a:lnTo>
                <a:lnTo>
                  <a:pt x="654" y="1176"/>
                </a:lnTo>
                <a:lnTo>
                  <a:pt x="663" y="1178"/>
                </a:lnTo>
                <a:lnTo>
                  <a:pt x="669" y="1181"/>
                </a:lnTo>
                <a:lnTo>
                  <a:pt x="677" y="1183"/>
                </a:lnTo>
                <a:lnTo>
                  <a:pt x="684" y="1185"/>
                </a:lnTo>
                <a:lnTo>
                  <a:pt x="692" y="1186"/>
                </a:lnTo>
                <a:lnTo>
                  <a:pt x="699" y="1188"/>
                </a:lnTo>
                <a:lnTo>
                  <a:pt x="706" y="1190"/>
                </a:lnTo>
                <a:lnTo>
                  <a:pt x="714" y="1192"/>
                </a:lnTo>
                <a:lnTo>
                  <a:pt x="721" y="1193"/>
                </a:lnTo>
                <a:lnTo>
                  <a:pt x="726" y="1194"/>
                </a:lnTo>
                <a:lnTo>
                  <a:pt x="734" y="1196"/>
                </a:lnTo>
                <a:lnTo>
                  <a:pt x="741" y="1198"/>
                </a:lnTo>
                <a:lnTo>
                  <a:pt x="749" y="1200"/>
                </a:lnTo>
                <a:lnTo>
                  <a:pt x="757" y="1201"/>
                </a:lnTo>
                <a:lnTo>
                  <a:pt x="765" y="1202"/>
                </a:lnTo>
                <a:lnTo>
                  <a:pt x="774" y="1204"/>
                </a:lnTo>
                <a:lnTo>
                  <a:pt x="783" y="1206"/>
                </a:lnTo>
                <a:lnTo>
                  <a:pt x="791" y="1208"/>
                </a:lnTo>
                <a:lnTo>
                  <a:pt x="799" y="1209"/>
                </a:lnTo>
                <a:lnTo>
                  <a:pt x="807" y="1211"/>
                </a:lnTo>
                <a:lnTo>
                  <a:pt x="816" y="1211"/>
                </a:lnTo>
                <a:lnTo>
                  <a:pt x="823" y="1213"/>
                </a:lnTo>
                <a:lnTo>
                  <a:pt x="830" y="1214"/>
                </a:lnTo>
                <a:lnTo>
                  <a:pt x="835" y="1215"/>
                </a:lnTo>
                <a:lnTo>
                  <a:pt x="843" y="1215"/>
                </a:lnTo>
                <a:lnTo>
                  <a:pt x="848" y="1216"/>
                </a:lnTo>
                <a:lnTo>
                  <a:pt x="854" y="1216"/>
                </a:lnTo>
                <a:lnTo>
                  <a:pt x="861" y="1218"/>
                </a:lnTo>
                <a:lnTo>
                  <a:pt x="869" y="1218"/>
                </a:lnTo>
                <a:lnTo>
                  <a:pt x="876" y="1220"/>
                </a:lnTo>
                <a:lnTo>
                  <a:pt x="884" y="1220"/>
                </a:lnTo>
                <a:lnTo>
                  <a:pt x="893" y="1220"/>
                </a:lnTo>
                <a:lnTo>
                  <a:pt x="903" y="1220"/>
                </a:lnTo>
                <a:lnTo>
                  <a:pt x="911" y="1222"/>
                </a:lnTo>
                <a:lnTo>
                  <a:pt x="919" y="1222"/>
                </a:lnTo>
                <a:lnTo>
                  <a:pt x="928" y="1223"/>
                </a:lnTo>
                <a:lnTo>
                  <a:pt x="936" y="1223"/>
                </a:lnTo>
                <a:lnTo>
                  <a:pt x="943" y="1223"/>
                </a:lnTo>
                <a:lnTo>
                  <a:pt x="952" y="1223"/>
                </a:lnTo>
                <a:lnTo>
                  <a:pt x="959" y="1223"/>
                </a:lnTo>
                <a:lnTo>
                  <a:pt x="967" y="1223"/>
                </a:lnTo>
                <a:lnTo>
                  <a:pt x="973" y="1225"/>
                </a:lnTo>
                <a:lnTo>
                  <a:pt x="981" y="1225"/>
                </a:lnTo>
                <a:lnTo>
                  <a:pt x="988" y="1225"/>
                </a:lnTo>
                <a:lnTo>
                  <a:pt x="997" y="1225"/>
                </a:lnTo>
                <a:lnTo>
                  <a:pt x="1004" y="1226"/>
                </a:lnTo>
                <a:lnTo>
                  <a:pt x="1013" y="1226"/>
                </a:lnTo>
                <a:lnTo>
                  <a:pt x="1022" y="1226"/>
                </a:lnTo>
                <a:lnTo>
                  <a:pt x="1032" y="1226"/>
                </a:lnTo>
                <a:lnTo>
                  <a:pt x="1039" y="1226"/>
                </a:lnTo>
                <a:lnTo>
                  <a:pt x="1048" y="1226"/>
                </a:lnTo>
                <a:lnTo>
                  <a:pt x="1055" y="1226"/>
                </a:lnTo>
                <a:lnTo>
                  <a:pt x="1064" y="1226"/>
                </a:lnTo>
                <a:lnTo>
                  <a:pt x="1072" y="1226"/>
                </a:lnTo>
                <a:lnTo>
                  <a:pt x="1079" y="1226"/>
                </a:lnTo>
                <a:lnTo>
                  <a:pt x="1084" y="1226"/>
                </a:lnTo>
                <a:lnTo>
                  <a:pt x="1092" y="1226"/>
                </a:lnTo>
                <a:lnTo>
                  <a:pt x="1095" y="1226"/>
                </a:lnTo>
                <a:lnTo>
                  <a:pt x="1099" y="1226"/>
                </a:lnTo>
                <a:lnTo>
                  <a:pt x="1101" y="1226"/>
                </a:lnTo>
                <a:lnTo>
                  <a:pt x="1103" y="1226"/>
                </a:lnTo>
                <a:lnTo>
                  <a:pt x="1104" y="1226"/>
                </a:lnTo>
                <a:lnTo>
                  <a:pt x="1106" y="1226"/>
                </a:lnTo>
                <a:lnTo>
                  <a:pt x="1107" y="1226"/>
                </a:lnTo>
                <a:lnTo>
                  <a:pt x="1109" y="1226"/>
                </a:lnTo>
                <a:lnTo>
                  <a:pt x="1110" y="1226"/>
                </a:lnTo>
                <a:lnTo>
                  <a:pt x="1112" y="1226"/>
                </a:lnTo>
                <a:lnTo>
                  <a:pt x="1114" y="1226"/>
                </a:lnTo>
                <a:lnTo>
                  <a:pt x="1118" y="1226"/>
                </a:lnTo>
                <a:lnTo>
                  <a:pt x="1123" y="1226"/>
                </a:lnTo>
                <a:lnTo>
                  <a:pt x="1129" y="1226"/>
                </a:lnTo>
                <a:lnTo>
                  <a:pt x="1137" y="1226"/>
                </a:lnTo>
                <a:lnTo>
                  <a:pt x="1147" y="1226"/>
                </a:lnTo>
              </a:path>
            </a:pathLst>
          </a:custGeom>
          <a:noFill/>
          <a:ln cap="rnd" w="2556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14920" y="1081080"/>
            <a:ext cx="2552760" cy="2324160"/>
          </a:xfrm>
          <a:custGeom>
            <a:avLst/>
            <a:gdLst/>
            <a:ahLst/>
            <a:rect l="l" t="t" r="r" b="b"/>
            <a:pathLst>
              <a:path w="1608" h="1464">
                <a:moveTo>
                  <a:pt x="0" y="0"/>
                </a:moveTo>
                <a:lnTo>
                  <a:pt x="0" y="9"/>
                </a:lnTo>
                <a:lnTo>
                  <a:pt x="0" y="15"/>
                </a:lnTo>
                <a:lnTo>
                  <a:pt x="0" y="21"/>
                </a:lnTo>
                <a:lnTo>
                  <a:pt x="1" y="25"/>
                </a:lnTo>
                <a:lnTo>
                  <a:pt x="1" y="28"/>
                </a:lnTo>
                <a:lnTo>
                  <a:pt x="1" y="30"/>
                </a:lnTo>
                <a:lnTo>
                  <a:pt x="1" y="32"/>
                </a:lnTo>
                <a:lnTo>
                  <a:pt x="1" y="33"/>
                </a:lnTo>
                <a:lnTo>
                  <a:pt x="1" y="34"/>
                </a:lnTo>
                <a:lnTo>
                  <a:pt x="1" y="36"/>
                </a:lnTo>
                <a:lnTo>
                  <a:pt x="1" y="37"/>
                </a:lnTo>
                <a:lnTo>
                  <a:pt x="1" y="39"/>
                </a:lnTo>
                <a:lnTo>
                  <a:pt x="1" y="41"/>
                </a:lnTo>
                <a:lnTo>
                  <a:pt x="1" y="44"/>
                </a:lnTo>
                <a:lnTo>
                  <a:pt x="3" y="47"/>
                </a:lnTo>
                <a:lnTo>
                  <a:pt x="3" y="52"/>
                </a:lnTo>
                <a:lnTo>
                  <a:pt x="3" y="57"/>
                </a:lnTo>
                <a:lnTo>
                  <a:pt x="3" y="64"/>
                </a:lnTo>
                <a:lnTo>
                  <a:pt x="5" y="69"/>
                </a:lnTo>
                <a:lnTo>
                  <a:pt x="5" y="76"/>
                </a:lnTo>
                <a:lnTo>
                  <a:pt x="6" y="82"/>
                </a:lnTo>
                <a:lnTo>
                  <a:pt x="8" y="89"/>
                </a:lnTo>
                <a:lnTo>
                  <a:pt x="10" y="95"/>
                </a:lnTo>
                <a:lnTo>
                  <a:pt x="12" y="103"/>
                </a:lnTo>
                <a:lnTo>
                  <a:pt x="14" y="109"/>
                </a:lnTo>
                <a:lnTo>
                  <a:pt x="15" y="116"/>
                </a:lnTo>
                <a:lnTo>
                  <a:pt x="17" y="124"/>
                </a:lnTo>
                <a:lnTo>
                  <a:pt x="19" y="130"/>
                </a:lnTo>
                <a:lnTo>
                  <a:pt x="21" y="135"/>
                </a:lnTo>
                <a:lnTo>
                  <a:pt x="23" y="141"/>
                </a:lnTo>
                <a:lnTo>
                  <a:pt x="25" y="146"/>
                </a:lnTo>
                <a:lnTo>
                  <a:pt x="31" y="154"/>
                </a:lnTo>
                <a:lnTo>
                  <a:pt x="43" y="169"/>
                </a:lnTo>
                <a:lnTo>
                  <a:pt x="60" y="189"/>
                </a:lnTo>
                <a:lnTo>
                  <a:pt x="85" y="214"/>
                </a:lnTo>
                <a:lnTo>
                  <a:pt x="113" y="245"/>
                </a:lnTo>
                <a:lnTo>
                  <a:pt x="147" y="280"/>
                </a:lnTo>
                <a:lnTo>
                  <a:pt x="185" y="318"/>
                </a:lnTo>
                <a:lnTo>
                  <a:pt x="228" y="359"/>
                </a:lnTo>
                <a:lnTo>
                  <a:pt x="272" y="405"/>
                </a:lnTo>
                <a:lnTo>
                  <a:pt x="321" y="453"/>
                </a:lnTo>
                <a:lnTo>
                  <a:pt x="372" y="503"/>
                </a:lnTo>
                <a:lnTo>
                  <a:pt x="426" y="553"/>
                </a:lnTo>
                <a:lnTo>
                  <a:pt x="480" y="607"/>
                </a:lnTo>
                <a:lnTo>
                  <a:pt x="536" y="659"/>
                </a:lnTo>
                <a:lnTo>
                  <a:pt x="593" y="712"/>
                </a:lnTo>
                <a:lnTo>
                  <a:pt x="651" y="765"/>
                </a:lnTo>
                <a:lnTo>
                  <a:pt x="707" y="820"/>
                </a:lnTo>
                <a:lnTo>
                  <a:pt x="765" y="873"/>
                </a:lnTo>
                <a:lnTo>
                  <a:pt x="823" y="926"/>
                </a:lnTo>
                <a:lnTo>
                  <a:pt x="882" y="979"/>
                </a:lnTo>
                <a:lnTo>
                  <a:pt x="939" y="1030"/>
                </a:lnTo>
                <a:lnTo>
                  <a:pt x="995" y="1080"/>
                </a:lnTo>
                <a:lnTo>
                  <a:pt x="1051" y="1128"/>
                </a:lnTo>
                <a:lnTo>
                  <a:pt x="1104" y="1172"/>
                </a:lnTo>
                <a:lnTo>
                  <a:pt x="1152" y="1214"/>
                </a:lnTo>
                <a:lnTo>
                  <a:pt x="1198" y="1253"/>
                </a:lnTo>
                <a:lnTo>
                  <a:pt x="1239" y="1288"/>
                </a:lnTo>
                <a:lnTo>
                  <a:pt x="1278" y="1318"/>
                </a:lnTo>
                <a:lnTo>
                  <a:pt x="1310" y="1343"/>
                </a:lnTo>
                <a:lnTo>
                  <a:pt x="1337" y="1363"/>
                </a:lnTo>
                <a:lnTo>
                  <a:pt x="1359" y="1378"/>
                </a:lnTo>
                <a:lnTo>
                  <a:pt x="1374" y="1385"/>
                </a:lnTo>
                <a:lnTo>
                  <a:pt x="1385" y="1391"/>
                </a:lnTo>
                <a:lnTo>
                  <a:pt x="1397" y="1396"/>
                </a:lnTo>
                <a:lnTo>
                  <a:pt x="1409" y="1400"/>
                </a:lnTo>
                <a:lnTo>
                  <a:pt x="1423" y="1406"/>
                </a:lnTo>
                <a:lnTo>
                  <a:pt x="1433" y="1410"/>
                </a:lnTo>
                <a:lnTo>
                  <a:pt x="1448" y="1415"/>
                </a:lnTo>
                <a:lnTo>
                  <a:pt x="1460" y="1421"/>
                </a:lnTo>
                <a:lnTo>
                  <a:pt x="1473" y="1425"/>
                </a:lnTo>
                <a:lnTo>
                  <a:pt x="1484" y="1430"/>
                </a:lnTo>
                <a:lnTo>
                  <a:pt x="1496" y="1434"/>
                </a:lnTo>
                <a:lnTo>
                  <a:pt x="1506" y="1438"/>
                </a:lnTo>
                <a:lnTo>
                  <a:pt x="1518" y="1441"/>
                </a:lnTo>
                <a:lnTo>
                  <a:pt x="1526" y="1444"/>
                </a:lnTo>
                <a:lnTo>
                  <a:pt x="1535" y="1447"/>
                </a:lnTo>
                <a:lnTo>
                  <a:pt x="1543" y="1449"/>
                </a:lnTo>
                <a:lnTo>
                  <a:pt x="1549" y="1451"/>
                </a:lnTo>
                <a:lnTo>
                  <a:pt x="1553" y="1452"/>
                </a:lnTo>
                <a:lnTo>
                  <a:pt x="1556" y="1453"/>
                </a:lnTo>
                <a:lnTo>
                  <a:pt x="1559" y="1453"/>
                </a:lnTo>
                <a:lnTo>
                  <a:pt x="1562" y="1453"/>
                </a:lnTo>
                <a:lnTo>
                  <a:pt x="1563" y="1454"/>
                </a:lnTo>
                <a:lnTo>
                  <a:pt x="1564" y="1454"/>
                </a:lnTo>
                <a:lnTo>
                  <a:pt x="1565" y="1454"/>
                </a:lnTo>
                <a:lnTo>
                  <a:pt x="1566" y="1454"/>
                </a:lnTo>
                <a:lnTo>
                  <a:pt x="1568" y="1456"/>
                </a:lnTo>
                <a:lnTo>
                  <a:pt x="1570" y="1456"/>
                </a:lnTo>
                <a:lnTo>
                  <a:pt x="1573" y="1458"/>
                </a:lnTo>
                <a:lnTo>
                  <a:pt x="1577" y="1458"/>
                </a:lnTo>
                <a:lnTo>
                  <a:pt x="1582" y="1459"/>
                </a:lnTo>
                <a:lnTo>
                  <a:pt x="1588" y="1460"/>
                </a:lnTo>
                <a:lnTo>
                  <a:pt x="1596" y="1461"/>
                </a:lnTo>
                <a:lnTo>
                  <a:pt x="1607" y="1463"/>
                </a:lnTo>
              </a:path>
            </a:pathLst>
          </a:custGeom>
          <a:noFill/>
          <a:ln cap="rnd" w="2556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75400" y="6427800"/>
            <a:ext cx="1620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91320" y="6554880"/>
            <a:ext cx="1303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67240" y="3754440"/>
            <a:ext cx="1602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9920" y="3879720"/>
            <a:ext cx="1303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64080" y="3997080"/>
            <a:ext cx="0" cy="2547720"/>
          </a:xfrm>
          <a:prstGeom prst="line">
            <a:avLst/>
          </a:prstGeom>
          <a:ln w="25560">
            <a:solidFill>
              <a:srgbClr val="8f8f8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68760" y="6546960"/>
            <a:ext cx="2859120" cy="0"/>
          </a:xfrm>
          <a:prstGeom prst="line">
            <a:avLst/>
          </a:prstGeom>
          <a:ln w="25560">
            <a:solidFill>
              <a:srgbClr val="8f8f8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30760" y="3878280"/>
            <a:ext cx="2700360" cy="2320920"/>
          </a:xfrm>
          <a:custGeom>
            <a:avLst/>
            <a:gdLst/>
            <a:ahLst/>
            <a:rect l="l" t="t" r="r" b="b"/>
            <a:pathLst>
              <a:path w="1701" h="1462">
                <a:moveTo>
                  <a:pt x="1700" y="1461"/>
                </a:moveTo>
                <a:lnTo>
                  <a:pt x="0" y="14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30760" y="3878280"/>
            <a:ext cx="2700360" cy="2320920"/>
          </a:xfrm>
          <a:custGeom>
            <a:avLst/>
            <a:gdLst/>
            <a:ahLst/>
            <a:rect l="l" t="t" r="r" b="b"/>
            <a:pathLst>
              <a:path w="1701" h="1462">
                <a:moveTo>
                  <a:pt x="1700" y="1461"/>
                </a:moveTo>
                <a:lnTo>
                  <a:pt x="0" y="14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30760" y="3878280"/>
            <a:ext cx="2700360" cy="2320920"/>
          </a:xfrm>
          <a:custGeom>
            <a:avLst/>
            <a:gdLst/>
            <a:ahLst/>
            <a:rect l="l" t="t" r="r" b="b"/>
            <a:pathLst>
              <a:path w="1701" h="1462">
                <a:moveTo>
                  <a:pt x="1700" y="1461"/>
                </a:moveTo>
                <a:lnTo>
                  <a:pt x="0" y="14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30760" y="3878280"/>
            <a:ext cx="2700360" cy="2320920"/>
          </a:xfrm>
          <a:custGeom>
            <a:avLst/>
            <a:gdLst/>
            <a:ahLst/>
            <a:rect l="l" t="t" r="r" b="b"/>
            <a:pathLst>
              <a:path w="1701" h="1462">
                <a:moveTo>
                  <a:pt x="1700" y="1461"/>
                </a:moveTo>
                <a:lnTo>
                  <a:pt x="0" y="146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92400" y="6411960"/>
            <a:ext cx="1605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05440" y="6539040"/>
            <a:ext cx="1299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81000" y="3738600"/>
            <a:ext cx="1634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96920" y="3863880"/>
            <a:ext cx="1303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081080" y="3978360"/>
            <a:ext cx="0" cy="2549520"/>
          </a:xfrm>
          <a:prstGeom prst="line">
            <a:avLst/>
          </a:prstGeom>
          <a:ln w="25560">
            <a:solidFill>
              <a:srgbClr val="8f8f8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87560" y="6531120"/>
            <a:ext cx="2857320" cy="0"/>
          </a:xfrm>
          <a:prstGeom prst="line">
            <a:avLst/>
          </a:prstGeom>
          <a:ln w="25560">
            <a:solidFill>
              <a:srgbClr val="8f8f8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78000" y="4033800"/>
            <a:ext cx="2433600" cy="2173320"/>
          </a:xfrm>
          <a:custGeom>
            <a:avLst/>
            <a:gdLst/>
            <a:ahLst/>
            <a:rect l="l" t="t" r="r" b="b"/>
            <a:pathLst>
              <a:path w="1533" h="1369">
                <a:moveTo>
                  <a:pt x="0" y="0"/>
                </a:moveTo>
                <a:lnTo>
                  <a:pt x="0" y="7"/>
                </a:lnTo>
                <a:lnTo>
                  <a:pt x="0" y="11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2"/>
                </a:lnTo>
                <a:lnTo>
                  <a:pt x="0" y="24"/>
                </a:lnTo>
                <a:lnTo>
                  <a:pt x="0" y="26"/>
                </a:lnTo>
                <a:lnTo>
                  <a:pt x="0" y="28"/>
                </a:lnTo>
                <a:lnTo>
                  <a:pt x="0" y="29"/>
                </a:lnTo>
                <a:lnTo>
                  <a:pt x="0" y="32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7"/>
                </a:lnTo>
                <a:lnTo>
                  <a:pt x="1" y="52"/>
                </a:lnTo>
                <a:lnTo>
                  <a:pt x="1" y="58"/>
                </a:lnTo>
                <a:lnTo>
                  <a:pt x="2" y="64"/>
                </a:lnTo>
                <a:lnTo>
                  <a:pt x="2" y="71"/>
                </a:lnTo>
                <a:lnTo>
                  <a:pt x="4" y="77"/>
                </a:lnTo>
                <a:lnTo>
                  <a:pt x="4" y="85"/>
                </a:lnTo>
                <a:lnTo>
                  <a:pt x="5" y="91"/>
                </a:lnTo>
                <a:lnTo>
                  <a:pt x="6" y="98"/>
                </a:lnTo>
                <a:lnTo>
                  <a:pt x="8" y="104"/>
                </a:lnTo>
                <a:lnTo>
                  <a:pt x="9" y="111"/>
                </a:lnTo>
                <a:lnTo>
                  <a:pt x="11" y="117"/>
                </a:lnTo>
                <a:lnTo>
                  <a:pt x="13" y="124"/>
                </a:lnTo>
                <a:lnTo>
                  <a:pt x="15" y="130"/>
                </a:lnTo>
                <a:lnTo>
                  <a:pt x="15" y="138"/>
                </a:lnTo>
                <a:lnTo>
                  <a:pt x="18" y="144"/>
                </a:lnTo>
                <a:lnTo>
                  <a:pt x="21" y="152"/>
                </a:lnTo>
                <a:lnTo>
                  <a:pt x="25" y="160"/>
                </a:lnTo>
                <a:lnTo>
                  <a:pt x="27" y="169"/>
                </a:lnTo>
                <a:lnTo>
                  <a:pt x="32" y="178"/>
                </a:lnTo>
                <a:lnTo>
                  <a:pt x="37" y="188"/>
                </a:lnTo>
                <a:lnTo>
                  <a:pt x="43" y="196"/>
                </a:lnTo>
                <a:lnTo>
                  <a:pt x="47" y="207"/>
                </a:lnTo>
                <a:lnTo>
                  <a:pt x="53" y="216"/>
                </a:lnTo>
                <a:lnTo>
                  <a:pt x="57" y="226"/>
                </a:lnTo>
                <a:lnTo>
                  <a:pt x="64" y="235"/>
                </a:lnTo>
                <a:lnTo>
                  <a:pt x="69" y="244"/>
                </a:lnTo>
                <a:lnTo>
                  <a:pt x="74" y="252"/>
                </a:lnTo>
                <a:lnTo>
                  <a:pt x="79" y="260"/>
                </a:lnTo>
                <a:lnTo>
                  <a:pt x="85" y="267"/>
                </a:lnTo>
                <a:lnTo>
                  <a:pt x="90" y="275"/>
                </a:lnTo>
                <a:lnTo>
                  <a:pt x="96" y="281"/>
                </a:lnTo>
                <a:lnTo>
                  <a:pt x="103" y="289"/>
                </a:lnTo>
                <a:lnTo>
                  <a:pt x="110" y="296"/>
                </a:lnTo>
                <a:lnTo>
                  <a:pt x="117" y="304"/>
                </a:lnTo>
                <a:lnTo>
                  <a:pt x="126" y="311"/>
                </a:lnTo>
                <a:lnTo>
                  <a:pt x="134" y="318"/>
                </a:lnTo>
                <a:lnTo>
                  <a:pt x="143" y="324"/>
                </a:lnTo>
                <a:lnTo>
                  <a:pt x="151" y="331"/>
                </a:lnTo>
                <a:lnTo>
                  <a:pt x="160" y="337"/>
                </a:lnTo>
                <a:lnTo>
                  <a:pt x="167" y="342"/>
                </a:lnTo>
                <a:lnTo>
                  <a:pt x="176" y="348"/>
                </a:lnTo>
                <a:lnTo>
                  <a:pt x="183" y="353"/>
                </a:lnTo>
                <a:lnTo>
                  <a:pt x="192" y="357"/>
                </a:lnTo>
                <a:lnTo>
                  <a:pt x="198" y="360"/>
                </a:lnTo>
                <a:lnTo>
                  <a:pt x="204" y="362"/>
                </a:lnTo>
                <a:lnTo>
                  <a:pt x="211" y="365"/>
                </a:lnTo>
                <a:lnTo>
                  <a:pt x="217" y="367"/>
                </a:lnTo>
                <a:lnTo>
                  <a:pt x="224" y="370"/>
                </a:lnTo>
                <a:lnTo>
                  <a:pt x="234" y="372"/>
                </a:lnTo>
                <a:lnTo>
                  <a:pt x="242" y="375"/>
                </a:lnTo>
                <a:lnTo>
                  <a:pt x="250" y="376"/>
                </a:lnTo>
                <a:lnTo>
                  <a:pt x="259" y="380"/>
                </a:lnTo>
                <a:lnTo>
                  <a:pt x="269" y="381"/>
                </a:lnTo>
                <a:lnTo>
                  <a:pt x="277" y="385"/>
                </a:lnTo>
                <a:lnTo>
                  <a:pt x="286" y="387"/>
                </a:lnTo>
                <a:lnTo>
                  <a:pt x="294" y="388"/>
                </a:lnTo>
                <a:lnTo>
                  <a:pt x="304" y="390"/>
                </a:lnTo>
                <a:lnTo>
                  <a:pt x="312" y="392"/>
                </a:lnTo>
                <a:lnTo>
                  <a:pt x="320" y="394"/>
                </a:lnTo>
                <a:lnTo>
                  <a:pt x="327" y="395"/>
                </a:lnTo>
                <a:lnTo>
                  <a:pt x="335" y="395"/>
                </a:lnTo>
                <a:lnTo>
                  <a:pt x="341" y="397"/>
                </a:lnTo>
                <a:lnTo>
                  <a:pt x="347" y="399"/>
                </a:lnTo>
                <a:lnTo>
                  <a:pt x="354" y="401"/>
                </a:lnTo>
                <a:lnTo>
                  <a:pt x="363" y="402"/>
                </a:lnTo>
                <a:lnTo>
                  <a:pt x="371" y="405"/>
                </a:lnTo>
                <a:lnTo>
                  <a:pt x="380" y="407"/>
                </a:lnTo>
                <a:lnTo>
                  <a:pt x="388" y="409"/>
                </a:lnTo>
                <a:lnTo>
                  <a:pt x="397" y="410"/>
                </a:lnTo>
                <a:lnTo>
                  <a:pt x="403" y="414"/>
                </a:lnTo>
                <a:lnTo>
                  <a:pt x="412" y="416"/>
                </a:lnTo>
                <a:lnTo>
                  <a:pt x="419" y="418"/>
                </a:lnTo>
                <a:lnTo>
                  <a:pt x="428" y="420"/>
                </a:lnTo>
                <a:lnTo>
                  <a:pt x="434" y="424"/>
                </a:lnTo>
                <a:lnTo>
                  <a:pt x="441" y="425"/>
                </a:lnTo>
                <a:lnTo>
                  <a:pt x="446" y="427"/>
                </a:lnTo>
                <a:lnTo>
                  <a:pt x="453" y="429"/>
                </a:lnTo>
                <a:lnTo>
                  <a:pt x="457" y="433"/>
                </a:lnTo>
                <a:lnTo>
                  <a:pt x="463" y="434"/>
                </a:lnTo>
                <a:lnTo>
                  <a:pt x="468" y="438"/>
                </a:lnTo>
                <a:lnTo>
                  <a:pt x="475" y="440"/>
                </a:lnTo>
                <a:lnTo>
                  <a:pt x="481" y="442"/>
                </a:lnTo>
                <a:lnTo>
                  <a:pt x="488" y="446"/>
                </a:lnTo>
                <a:lnTo>
                  <a:pt x="494" y="449"/>
                </a:lnTo>
                <a:lnTo>
                  <a:pt x="502" y="451"/>
                </a:lnTo>
                <a:lnTo>
                  <a:pt x="507" y="454"/>
                </a:lnTo>
                <a:lnTo>
                  <a:pt x="514" y="457"/>
                </a:lnTo>
                <a:lnTo>
                  <a:pt x="521" y="461"/>
                </a:lnTo>
                <a:lnTo>
                  <a:pt x="527" y="463"/>
                </a:lnTo>
                <a:lnTo>
                  <a:pt x="532" y="467"/>
                </a:lnTo>
                <a:lnTo>
                  <a:pt x="539" y="469"/>
                </a:lnTo>
                <a:lnTo>
                  <a:pt x="543" y="471"/>
                </a:lnTo>
                <a:lnTo>
                  <a:pt x="549" y="473"/>
                </a:lnTo>
                <a:lnTo>
                  <a:pt x="552" y="477"/>
                </a:lnTo>
                <a:lnTo>
                  <a:pt x="557" y="478"/>
                </a:lnTo>
                <a:lnTo>
                  <a:pt x="562" y="484"/>
                </a:lnTo>
                <a:lnTo>
                  <a:pt x="568" y="487"/>
                </a:lnTo>
                <a:lnTo>
                  <a:pt x="573" y="493"/>
                </a:lnTo>
                <a:lnTo>
                  <a:pt x="579" y="498"/>
                </a:lnTo>
                <a:lnTo>
                  <a:pt x="585" y="503"/>
                </a:lnTo>
                <a:lnTo>
                  <a:pt x="592" y="508"/>
                </a:lnTo>
                <a:lnTo>
                  <a:pt x="597" y="515"/>
                </a:lnTo>
                <a:lnTo>
                  <a:pt x="602" y="521"/>
                </a:lnTo>
                <a:lnTo>
                  <a:pt x="608" y="528"/>
                </a:lnTo>
                <a:lnTo>
                  <a:pt x="615" y="534"/>
                </a:lnTo>
                <a:lnTo>
                  <a:pt x="620" y="540"/>
                </a:lnTo>
                <a:lnTo>
                  <a:pt x="626" y="546"/>
                </a:lnTo>
                <a:lnTo>
                  <a:pt x="630" y="553"/>
                </a:lnTo>
                <a:lnTo>
                  <a:pt x="635" y="558"/>
                </a:lnTo>
                <a:lnTo>
                  <a:pt x="639" y="566"/>
                </a:lnTo>
                <a:lnTo>
                  <a:pt x="643" y="573"/>
                </a:lnTo>
                <a:lnTo>
                  <a:pt x="647" y="581"/>
                </a:lnTo>
                <a:lnTo>
                  <a:pt x="652" y="589"/>
                </a:lnTo>
                <a:lnTo>
                  <a:pt x="655" y="598"/>
                </a:lnTo>
                <a:lnTo>
                  <a:pt x="661" y="607"/>
                </a:lnTo>
                <a:lnTo>
                  <a:pt x="663" y="617"/>
                </a:lnTo>
                <a:lnTo>
                  <a:pt x="669" y="625"/>
                </a:lnTo>
                <a:lnTo>
                  <a:pt x="672" y="636"/>
                </a:lnTo>
                <a:lnTo>
                  <a:pt x="675" y="645"/>
                </a:lnTo>
                <a:lnTo>
                  <a:pt x="679" y="655"/>
                </a:lnTo>
                <a:lnTo>
                  <a:pt x="682" y="664"/>
                </a:lnTo>
                <a:lnTo>
                  <a:pt x="683" y="673"/>
                </a:lnTo>
                <a:lnTo>
                  <a:pt x="686" y="681"/>
                </a:lnTo>
                <a:lnTo>
                  <a:pt x="688" y="689"/>
                </a:lnTo>
                <a:lnTo>
                  <a:pt x="691" y="696"/>
                </a:lnTo>
                <a:lnTo>
                  <a:pt x="691" y="704"/>
                </a:lnTo>
                <a:lnTo>
                  <a:pt x="692" y="711"/>
                </a:lnTo>
                <a:lnTo>
                  <a:pt x="693" y="719"/>
                </a:lnTo>
                <a:lnTo>
                  <a:pt x="695" y="727"/>
                </a:lnTo>
                <a:lnTo>
                  <a:pt x="697" y="736"/>
                </a:lnTo>
                <a:lnTo>
                  <a:pt x="699" y="745"/>
                </a:lnTo>
                <a:lnTo>
                  <a:pt x="700" y="753"/>
                </a:lnTo>
                <a:lnTo>
                  <a:pt x="702" y="762"/>
                </a:lnTo>
                <a:lnTo>
                  <a:pt x="702" y="771"/>
                </a:lnTo>
                <a:lnTo>
                  <a:pt x="704" y="779"/>
                </a:lnTo>
                <a:lnTo>
                  <a:pt x="706" y="786"/>
                </a:lnTo>
                <a:lnTo>
                  <a:pt x="708" y="794"/>
                </a:lnTo>
                <a:lnTo>
                  <a:pt x="709" y="801"/>
                </a:lnTo>
                <a:lnTo>
                  <a:pt x="710" y="807"/>
                </a:lnTo>
                <a:lnTo>
                  <a:pt x="712" y="813"/>
                </a:lnTo>
                <a:lnTo>
                  <a:pt x="713" y="817"/>
                </a:lnTo>
                <a:lnTo>
                  <a:pt x="714" y="823"/>
                </a:lnTo>
                <a:lnTo>
                  <a:pt x="716" y="829"/>
                </a:lnTo>
                <a:lnTo>
                  <a:pt x="718" y="835"/>
                </a:lnTo>
                <a:lnTo>
                  <a:pt x="720" y="842"/>
                </a:lnTo>
                <a:lnTo>
                  <a:pt x="722" y="850"/>
                </a:lnTo>
                <a:lnTo>
                  <a:pt x="725" y="857"/>
                </a:lnTo>
                <a:lnTo>
                  <a:pt x="728" y="865"/>
                </a:lnTo>
                <a:lnTo>
                  <a:pt x="732" y="874"/>
                </a:lnTo>
                <a:lnTo>
                  <a:pt x="734" y="884"/>
                </a:lnTo>
                <a:lnTo>
                  <a:pt x="737" y="891"/>
                </a:lnTo>
                <a:lnTo>
                  <a:pt x="741" y="900"/>
                </a:lnTo>
                <a:lnTo>
                  <a:pt x="744" y="908"/>
                </a:lnTo>
                <a:lnTo>
                  <a:pt x="747" y="917"/>
                </a:lnTo>
                <a:lnTo>
                  <a:pt x="751" y="925"/>
                </a:lnTo>
                <a:lnTo>
                  <a:pt x="753" y="933"/>
                </a:lnTo>
                <a:lnTo>
                  <a:pt x="757" y="939"/>
                </a:lnTo>
                <a:lnTo>
                  <a:pt x="761" y="948"/>
                </a:lnTo>
                <a:lnTo>
                  <a:pt x="763" y="955"/>
                </a:lnTo>
                <a:lnTo>
                  <a:pt x="768" y="965"/>
                </a:lnTo>
                <a:lnTo>
                  <a:pt x="773" y="973"/>
                </a:lnTo>
                <a:lnTo>
                  <a:pt x="778" y="983"/>
                </a:lnTo>
                <a:lnTo>
                  <a:pt x="784" y="993"/>
                </a:lnTo>
                <a:lnTo>
                  <a:pt x="791" y="1003"/>
                </a:lnTo>
                <a:lnTo>
                  <a:pt x="798" y="1013"/>
                </a:lnTo>
                <a:lnTo>
                  <a:pt x="804" y="1024"/>
                </a:lnTo>
                <a:lnTo>
                  <a:pt x="811" y="1034"/>
                </a:lnTo>
                <a:lnTo>
                  <a:pt x="818" y="1044"/>
                </a:lnTo>
                <a:lnTo>
                  <a:pt x="824" y="1053"/>
                </a:lnTo>
                <a:lnTo>
                  <a:pt x="831" y="1064"/>
                </a:lnTo>
                <a:lnTo>
                  <a:pt x="839" y="1072"/>
                </a:lnTo>
                <a:lnTo>
                  <a:pt x="844" y="1079"/>
                </a:lnTo>
                <a:lnTo>
                  <a:pt x="851" y="1087"/>
                </a:lnTo>
                <a:lnTo>
                  <a:pt x="858" y="1094"/>
                </a:lnTo>
                <a:lnTo>
                  <a:pt x="865" y="1102"/>
                </a:lnTo>
                <a:lnTo>
                  <a:pt x="873" y="1110"/>
                </a:lnTo>
                <a:lnTo>
                  <a:pt x="882" y="1118"/>
                </a:lnTo>
                <a:lnTo>
                  <a:pt x="891" y="1128"/>
                </a:lnTo>
                <a:lnTo>
                  <a:pt x="902" y="1137"/>
                </a:lnTo>
                <a:lnTo>
                  <a:pt x="912" y="1146"/>
                </a:lnTo>
                <a:lnTo>
                  <a:pt x="924" y="1154"/>
                </a:lnTo>
                <a:lnTo>
                  <a:pt x="934" y="1163"/>
                </a:lnTo>
                <a:lnTo>
                  <a:pt x="946" y="1172"/>
                </a:lnTo>
                <a:lnTo>
                  <a:pt x="957" y="1180"/>
                </a:lnTo>
                <a:lnTo>
                  <a:pt x="969" y="1187"/>
                </a:lnTo>
                <a:lnTo>
                  <a:pt x="979" y="1195"/>
                </a:lnTo>
                <a:lnTo>
                  <a:pt x="990" y="1201"/>
                </a:lnTo>
                <a:lnTo>
                  <a:pt x="1000" y="1207"/>
                </a:lnTo>
                <a:lnTo>
                  <a:pt x="1010" y="1213"/>
                </a:lnTo>
                <a:lnTo>
                  <a:pt x="1019" y="1218"/>
                </a:lnTo>
                <a:lnTo>
                  <a:pt x="1030" y="1223"/>
                </a:lnTo>
                <a:lnTo>
                  <a:pt x="1042" y="1230"/>
                </a:lnTo>
                <a:lnTo>
                  <a:pt x="1055" y="1235"/>
                </a:lnTo>
                <a:lnTo>
                  <a:pt x="1070" y="1242"/>
                </a:lnTo>
                <a:lnTo>
                  <a:pt x="1084" y="1248"/>
                </a:lnTo>
                <a:lnTo>
                  <a:pt x="1099" y="1255"/>
                </a:lnTo>
                <a:lnTo>
                  <a:pt x="1116" y="1261"/>
                </a:lnTo>
                <a:lnTo>
                  <a:pt x="1131" y="1267"/>
                </a:lnTo>
                <a:lnTo>
                  <a:pt x="1147" y="1275"/>
                </a:lnTo>
                <a:lnTo>
                  <a:pt x="1162" y="1281"/>
                </a:lnTo>
                <a:lnTo>
                  <a:pt x="1179" y="1286"/>
                </a:lnTo>
                <a:lnTo>
                  <a:pt x="1193" y="1291"/>
                </a:lnTo>
                <a:lnTo>
                  <a:pt x="1209" y="1296"/>
                </a:lnTo>
                <a:lnTo>
                  <a:pt x="1222" y="1301"/>
                </a:lnTo>
                <a:lnTo>
                  <a:pt x="1236" y="1305"/>
                </a:lnTo>
                <a:lnTo>
                  <a:pt x="1248" y="1310"/>
                </a:lnTo>
                <a:lnTo>
                  <a:pt x="1261" y="1313"/>
                </a:lnTo>
                <a:lnTo>
                  <a:pt x="1275" y="1318"/>
                </a:lnTo>
                <a:lnTo>
                  <a:pt x="1289" y="1321"/>
                </a:lnTo>
                <a:lnTo>
                  <a:pt x="1304" y="1326"/>
                </a:lnTo>
                <a:lnTo>
                  <a:pt x="1319" y="1329"/>
                </a:lnTo>
                <a:lnTo>
                  <a:pt x="1335" y="1333"/>
                </a:lnTo>
                <a:lnTo>
                  <a:pt x="1350" y="1336"/>
                </a:lnTo>
                <a:lnTo>
                  <a:pt x="1364" y="1340"/>
                </a:lnTo>
                <a:lnTo>
                  <a:pt x="1379" y="1343"/>
                </a:lnTo>
                <a:lnTo>
                  <a:pt x="1392" y="1347"/>
                </a:lnTo>
                <a:lnTo>
                  <a:pt x="1406" y="1350"/>
                </a:lnTo>
                <a:lnTo>
                  <a:pt x="1418" y="1353"/>
                </a:lnTo>
                <a:lnTo>
                  <a:pt x="1429" y="1355"/>
                </a:lnTo>
                <a:lnTo>
                  <a:pt x="1438" y="1356"/>
                </a:lnTo>
                <a:lnTo>
                  <a:pt x="1448" y="1357"/>
                </a:lnTo>
                <a:lnTo>
                  <a:pt x="1455" y="1358"/>
                </a:lnTo>
                <a:lnTo>
                  <a:pt x="1460" y="1359"/>
                </a:lnTo>
                <a:lnTo>
                  <a:pt x="1463" y="1359"/>
                </a:lnTo>
                <a:lnTo>
                  <a:pt x="1467" y="1359"/>
                </a:lnTo>
                <a:lnTo>
                  <a:pt x="1468" y="1361"/>
                </a:lnTo>
                <a:lnTo>
                  <a:pt x="1470" y="1361"/>
                </a:lnTo>
                <a:lnTo>
                  <a:pt x="1471" y="1361"/>
                </a:lnTo>
                <a:lnTo>
                  <a:pt x="1474" y="1361"/>
                </a:lnTo>
                <a:lnTo>
                  <a:pt x="1476" y="1363"/>
                </a:lnTo>
                <a:lnTo>
                  <a:pt x="1478" y="1363"/>
                </a:lnTo>
                <a:lnTo>
                  <a:pt x="1482" y="1363"/>
                </a:lnTo>
                <a:lnTo>
                  <a:pt x="1488" y="1363"/>
                </a:lnTo>
                <a:lnTo>
                  <a:pt x="1496" y="1365"/>
                </a:lnTo>
                <a:lnTo>
                  <a:pt x="1505" y="1365"/>
                </a:lnTo>
                <a:lnTo>
                  <a:pt x="1517" y="1366"/>
                </a:lnTo>
                <a:lnTo>
                  <a:pt x="1532" y="1368"/>
                </a:lnTo>
              </a:path>
            </a:pathLst>
          </a:custGeom>
          <a:noFill/>
          <a:ln cap="rnd" w="2556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30760" y="3946680"/>
            <a:ext cx="2803680" cy="2274840"/>
          </a:xfrm>
          <a:custGeom>
            <a:avLst/>
            <a:gdLst/>
            <a:ahLst/>
            <a:rect l="l" t="t" r="r" b="b"/>
            <a:pathLst>
              <a:path w="1766" h="1433">
                <a:moveTo>
                  <a:pt x="1558" y="1418"/>
                </a:moveTo>
                <a:lnTo>
                  <a:pt x="1558" y="1418"/>
                </a:lnTo>
                <a:lnTo>
                  <a:pt x="1552" y="1432"/>
                </a:lnTo>
                <a:lnTo>
                  <a:pt x="1599" y="1373"/>
                </a:lnTo>
                <a:lnTo>
                  <a:pt x="1599" y="1306"/>
                </a:lnTo>
                <a:lnTo>
                  <a:pt x="1647" y="1262"/>
                </a:lnTo>
                <a:lnTo>
                  <a:pt x="1765" y="1122"/>
                </a:lnTo>
                <a:lnTo>
                  <a:pt x="1670" y="1026"/>
                </a:lnTo>
                <a:lnTo>
                  <a:pt x="1725" y="870"/>
                </a:lnTo>
                <a:lnTo>
                  <a:pt x="1629" y="760"/>
                </a:lnTo>
                <a:lnTo>
                  <a:pt x="1686" y="649"/>
                </a:lnTo>
                <a:lnTo>
                  <a:pt x="1654" y="524"/>
                </a:lnTo>
                <a:lnTo>
                  <a:pt x="1710" y="428"/>
                </a:lnTo>
                <a:lnTo>
                  <a:pt x="1670" y="354"/>
                </a:lnTo>
                <a:lnTo>
                  <a:pt x="1701" y="265"/>
                </a:lnTo>
                <a:lnTo>
                  <a:pt x="1662" y="213"/>
                </a:lnTo>
                <a:lnTo>
                  <a:pt x="1662" y="169"/>
                </a:lnTo>
                <a:lnTo>
                  <a:pt x="1559" y="147"/>
                </a:lnTo>
                <a:lnTo>
                  <a:pt x="1552" y="103"/>
                </a:lnTo>
                <a:lnTo>
                  <a:pt x="1441" y="103"/>
                </a:lnTo>
                <a:lnTo>
                  <a:pt x="1432" y="36"/>
                </a:lnTo>
                <a:lnTo>
                  <a:pt x="1291" y="36"/>
                </a:lnTo>
                <a:lnTo>
                  <a:pt x="1291" y="89"/>
                </a:lnTo>
                <a:lnTo>
                  <a:pt x="1148" y="89"/>
                </a:lnTo>
                <a:lnTo>
                  <a:pt x="1062" y="22"/>
                </a:lnTo>
                <a:lnTo>
                  <a:pt x="920" y="22"/>
                </a:lnTo>
                <a:lnTo>
                  <a:pt x="839" y="58"/>
                </a:lnTo>
                <a:lnTo>
                  <a:pt x="691" y="58"/>
                </a:lnTo>
                <a:lnTo>
                  <a:pt x="658" y="22"/>
                </a:lnTo>
                <a:lnTo>
                  <a:pt x="594" y="29"/>
                </a:lnTo>
                <a:lnTo>
                  <a:pt x="468" y="0"/>
                </a:lnTo>
                <a:lnTo>
                  <a:pt x="334" y="80"/>
                </a:lnTo>
                <a:lnTo>
                  <a:pt x="287" y="36"/>
                </a:lnTo>
                <a:lnTo>
                  <a:pt x="240" y="36"/>
                </a:lnTo>
                <a:lnTo>
                  <a:pt x="169" y="66"/>
                </a:lnTo>
                <a:lnTo>
                  <a:pt x="129" y="29"/>
                </a:lnTo>
                <a:lnTo>
                  <a:pt x="97" y="29"/>
                </a:lnTo>
                <a:lnTo>
                  <a:pt x="27" y="66"/>
                </a:lnTo>
                <a:lnTo>
                  <a:pt x="0" y="91"/>
                </a:lnTo>
                <a:lnTo>
                  <a:pt x="0" y="1418"/>
                </a:lnTo>
                <a:lnTo>
                  <a:pt x="1559" y="1432"/>
                </a:lnTo>
                <a:lnTo>
                  <a:pt x="1558" y="1418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48040" y="930240"/>
            <a:ext cx="2657520" cy="2492280"/>
          </a:xfrm>
          <a:custGeom>
            <a:avLst/>
            <a:gdLst/>
            <a:ahLst/>
            <a:rect l="l" t="t" r="r" b="b"/>
            <a:pathLst>
              <a:path w="1674" h="1570">
                <a:moveTo>
                  <a:pt x="1613" y="1569"/>
                </a:moveTo>
                <a:lnTo>
                  <a:pt x="1613" y="1569"/>
                </a:lnTo>
                <a:lnTo>
                  <a:pt x="1673" y="1414"/>
                </a:lnTo>
                <a:lnTo>
                  <a:pt x="1666" y="1309"/>
                </a:lnTo>
                <a:lnTo>
                  <a:pt x="1619" y="1235"/>
                </a:lnTo>
                <a:lnTo>
                  <a:pt x="1619" y="1179"/>
                </a:lnTo>
                <a:lnTo>
                  <a:pt x="1647" y="1123"/>
                </a:lnTo>
                <a:lnTo>
                  <a:pt x="1647" y="1078"/>
                </a:lnTo>
                <a:lnTo>
                  <a:pt x="1607" y="1029"/>
                </a:lnTo>
                <a:lnTo>
                  <a:pt x="1613" y="943"/>
                </a:lnTo>
                <a:lnTo>
                  <a:pt x="1580" y="881"/>
                </a:lnTo>
                <a:lnTo>
                  <a:pt x="1595" y="751"/>
                </a:lnTo>
                <a:lnTo>
                  <a:pt x="1595" y="695"/>
                </a:lnTo>
                <a:lnTo>
                  <a:pt x="1575" y="633"/>
                </a:lnTo>
                <a:lnTo>
                  <a:pt x="1588" y="577"/>
                </a:lnTo>
                <a:lnTo>
                  <a:pt x="1588" y="422"/>
                </a:lnTo>
                <a:lnTo>
                  <a:pt x="1555" y="398"/>
                </a:lnTo>
                <a:lnTo>
                  <a:pt x="1555" y="342"/>
                </a:lnTo>
                <a:lnTo>
                  <a:pt x="1580" y="286"/>
                </a:lnTo>
                <a:lnTo>
                  <a:pt x="1580" y="181"/>
                </a:lnTo>
                <a:lnTo>
                  <a:pt x="1540" y="125"/>
                </a:lnTo>
                <a:lnTo>
                  <a:pt x="1428" y="38"/>
                </a:lnTo>
                <a:lnTo>
                  <a:pt x="1349" y="38"/>
                </a:lnTo>
                <a:lnTo>
                  <a:pt x="1170" y="94"/>
                </a:lnTo>
                <a:lnTo>
                  <a:pt x="1111" y="94"/>
                </a:lnTo>
                <a:lnTo>
                  <a:pt x="1051" y="26"/>
                </a:lnTo>
                <a:lnTo>
                  <a:pt x="953" y="26"/>
                </a:lnTo>
                <a:lnTo>
                  <a:pt x="906" y="81"/>
                </a:lnTo>
                <a:lnTo>
                  <a:pt x="793" y="81"/>
                </a:lnTo>
                <a:lnTo>
                  <a:pt x="760" y="0"/>
                </a:lnTo>
                <a:lnTo>
                  <a:pt x="648" y="0"/>
                </a:lnTo>
                <a:lnTo>
                  <a:pt x="622" y="57"/>
                </a:lnTo>
                <a:lnTo>
                  <a:pt x="509" y="57"/>
                </a:lnTo>
                <a:lnTo>
                  <a:pt x="503" y="26"/>
                </a:lnTo>
                <a:lnTo>
                  <a:pt x="324" y="26"/>
                </a:lnTo>
                <a:lnTo>
                  <a:pt x="324" y="81"/>
                </a:lnTo>
                <a:lnTo>
                  <a:pt x="238" y="81"/>
                </a:lnTo>
                <a:lnTo>
                  <a:pt x="178" y="125"/>
                </a:lnTo>
                <a:lnTo>
                  <a:pt x="66" y="101"/>
                </a:lnTo>
                <a:lnTo>
                  <a:pt x="0" y="106"/>
                </a:lnTo>
                <a:lnTo>
                  <a:pt x="1" y="106"/>
                </a:lnTo>
                <a:lnTo>
                  <a:pt x="4" y="153"/>
                </a:lnTo>
                <a:lnTo>
                  <a:pt x="4" y="163"/>
                </a:lnTo>
                <a:lnTo>
                  <a:pt x="7" y="175"/>
                </a:lnTo>
                <a:lnTo>
                  <a:pt x="7" y="188"/>
                </a:lnTo>
                <a:lnTo>
                  <a:pt x="12" y="201"/>
                </a:lnTo>
                <a:lnTo>
                  <a:pt x="15" y="215"/>
                </a:lnTo>
                <a:lnTo>
                  <a:pt x="18" y="229"/>
                </a:lnTo>
                <a:lnTo>
                  <a:pt x="22" y="244"/>
                </a:lnTo>
                <a:lnTo>
                  <a:pt x="26" y="252"/>
                </a:lnTo>
                <a:lnTo>
                  <a:pt x="43" y="274"/>
                </a:lnTo>
                <a:lnTo>
                  <a:pt x="85" y="321"/>
                </a:lnTo>
                <a:lnTo>
                  <a:pt x="149" y="386"/>
                </a:lnTo>
                <a:lnTo>
                  <a:pt x="229" y="466"/>
                </a:lnTo>
                <a:lnTo>
                  <a:pt x="323" y="558"/>
                </a:lnTo>
                <a:lnTo>
                  <a:pt x="427" y="660"/>
                </a:lnTo>
                <a:lnTo>
                  <a:pt x="536" y="768"/>
                </a:lnTo>
                <a:lnTo>
                  <a:pt x="652" y="872"/>
                </a:lnTo>
                <a:lnTo>
                  <a:pt x="767" y="979"/>
                </a:lnTo>
                <a:lnTo>
                  <a:pt x="884" y="1085"/>
                </a:lnTo>
                <a:lnTo>
                  <a:pt x="997" y="1186"/>
                </a:lnTo>
                <a:lnTo>
                  <a:pt x="1105" y="1278"/>
                </a:lnTo>
                <a:lnTo>
                  <a:pt x="1200" y="1359"/>
                </a:lnTo>
                <a:lnTo>
                  <a:pt x="1279" y="1424"/>
                </a:lnTo>
                <a:lnTo>
                  <a:pt x="1339" y="1470"/>
                </a:lnTo>
                <a:lnTo>
                  <a:pt x="1376" y="1491"/>
                </a:lnTo>
                <a:lnTo>
                  <a:pt x="1398" y="1502"/>
                </a:lnTo>
                <a:lnTo>
                  <a:pt x="1424" y="1511"/>
                </a:lnTo>
                <a:lnTo>
                  <a:pt x="1448" y="1522"/>
                </a:lnTo>
                <a:lnTo>
                  <a:pt x="1475" y="1531"/>
                </a:lnTo>
                <a:lnTo>
                  <a:pt x="1499" y="1541"/>
                </a:lnTo>
                <a:lnTo>
                  <a:pt x="1520" y="1548"/>
                </a:lnTo>
                <a:lnTo>
                  <a:pt x="1536" y="1553"/>
                </a:lnTo>
                <a:lnTo>
                  <a:pt x="1607" y="1569"/>
                </a:lnTo>
                <a:lnTo>
                  <a:pt x="1613" y="1569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68440" y="998640"/>
            <a:ext cx="1928880" cy="2066760"/>
          </a:xfrm>
          <a:custGeom>
            <a:avLst/>
            <a:gdLst/>
            <a:ahLst/>
            <a:rect l="l" t="t" r="r" b="b"/>
            <a:pathLst>
              <a:path w="1215" h="1302">
                <a:moveTo>
                  <a:pt x="1129" y="1301"/>
                </a:moveTo>
                <a:lnTo>
                  <a:pt x="1129" y="1301"/>
                </a:lnTo>
                <a:lnTo>
                  <a:pt x="1188" y="1234"/>
                </a:lnTo>
                <a:lnTo>
                  <a:pt x="1148" y="1216"/>
                </a:lnTo>
                <a:lnTo>
                  <a:pt x="1148" y="1160"/>
                </a:lnTo>
                <a:lnTo>
                  <a:pt x="1129" y="1110"/>
                </a:lnTo>
                <a:lnTo>
                  <a:pt x="1188" y="1029"/>
                </a:lnTo>
                <a:lnTo>
                  <a:pt x="1214" y="777"/>
                </a:lnTo>
                <a:lnTo>
                  <a:pt x="1102" y="672"/>
                </a:lnTo>
                <a:lnTo>
                  <a:pt x="1102" y="566"/>
                </a:lnTo>
                <a:lnTo>
                  <a:pt x="1122" y="505"/>
                </a:lnTo>
                <a:lnTo>
                  <a:pt x="1122" y="450"/>
                </a:lnTo>
                <a:lnTo>
                  <a:pt x="1095" y="450"/>
                </a:lnTo>
                <a:lnTo>
                  <a:pt x="1082" y="382"/>
                </a:lnTo>
                <a:lnTo>
                  <a:pt x="1116" y="278"/>
                </a:lnTo>
                <a:lnTo>
                  <a:pt x="1116" y="172"/>
                </a:lnTo>
                <a:lnTo>
                  <a:pt x="1004" y="153"/>
                </a:lnTo>
                <a:lnTo>
                  <a:pt x="959" y="49"/>
                </a:lnTo>
                <a:lnTo>
                  <a:pt x="846" y="49"/>
                </a:lnTo>
                <a:lnTo>
                  <a:pt x="735" y="31"/>
                </a:lnTo>
                <a:lnTo>
                  <a:pt x="623" y="68"/>
                </a:lnTo>
                <a:lnTo>
                  <a:pt x="413" y="49"/>
                </a:lnTo>
                <a:lnTo>
                  <a:pt x="361" y="55"/>
                </a:lnTo>
                <a:lnTo>
                  <a:pt x="340" y="0"/>
                </a:lnTo>
                <a:lnTo>
                  <a:pt x="223" y="0"/>
                </a:lnTo>
                <a:lnTo>
                  <a:pt x="111" y="61"/>
                </a:lnTo>
                <a:lnTo>
                  <a:pt x="0" y="74"/>
                </a:lnTo>
                <a:lnTo>
                  <a:pt x="6" y="68"/>
                </a:lnTo>
                <a:lnTo>
                  <a:pt x="13" y="127"/>
                </a:lnTo>
                <a:lnTo>
                  <a:pt x="14" y="142"/>
                </a:lnTo>
                <a:lnTo>
                  <a:pt x="17" y="161"/>
                </a:lnTo>
                <a:lnTo>
                  <a:pt x="21" y="187"/>
                </a:lnTo>
                <a:lnTo>
                  <a:pt x="27" y="215"/>
                </a:lnTo>
                <a:lnTo>
                  <a:pt x="33" y="246"/>
                </a:lnTo>
                <a:lnTo>
                  <a:pt x="40" y="278"/>
                </a:lnTo>
                <a:lnTo>
                  <a:pt x="46" y="310"/>
                </a:lnTo>
                <a:lnTo>
                  <a:pt x="55" y="340"/>
                </a:lnTo>
                <a:lnTo>
                  <a:pt x="63" y="370"/>
                </a:lnTo>
                <a:lnTo>
                  <a:pt x="71" y="402"/>
                </a:lnTo>
                <a:lnTo>
                  <a:pt x="80" y="437"/>
                </a:lnTo>
                <a:lnTo>
                  <a:pt x="89" y="470"/>
                </a:lnTo>
                <a:lnTo>
                  <a:pt x="99" y="502"/>
                </a:lnTo>
                <a:lnTo>
                  <a:pt x="107" y="529"/>
                </a:lnTo>
                <a:lnTo>
                  <a:pt x="116" y="553"/>
                </a:lnTo>
                <a:lnTo>
                  <a:pt x="124" y="570"/>
                </a:lnTo>
                <a:lnTo>
                  <a:pt x="131" y="588"/>
                </a:lnTo>
                <a:lnTo>
                  <a:pt x="140" y="609"/>
                </a:lnTo>
                <a:lnTo>
                  <a:pt x="149" y="632"/>
                </a:lnTo>
                <a:lnTo>
                  <a:pt x="161" y="655"/>
                </a:lnTo>
                <a:lnTo>
                  <a:pt x="172" y="682"/>
                </a:lnTo>
                <a:lnTo>
                  <a:pt x="183" y="707"/>
                </a:lnTo>
                <a:lnTo>
                  <a:pt x="192" y="730"/>
                </a:lnTo>
                <a:lnTo>
                  <a:pt x="202" y="749"/>
                </a:lnTo>
                <a:lnTo>
                  <a:pt x="211" y="770"/>
                </a:lnTo>
                <a:lnTo>
                  <a:pt x="222" y="792"/>
                </a:lnTo>
                <a:lnTo>
                  <a:pt x="234" y="818"/>
                </a:lnTo>
                <a:lnTo>
                  <a:pt x="244" y="840"/>
                </a:lnTo>
                <a:lnTo>
                  <a:pt x="255" y="863"/>
                </a:lnTo>
                <a:lnTo>
                  <a:pt x="266" y="885"/>
                </a:lnTo>
                <a:lnTo>
                  <a:pt x="273" y="902"/>
                </a:lnTo>
                <a:lnTo>
                  <a:pt x="282" y="917"/>
                </a:lnTo>
                <a:lnTo>
                  <a:pt x="288" y="930"/>
                </a:lnTo>
                <a:lnTo>
                  <a:pt x="297" y="946"/>
                </a:lnTo>
                <a:lnTo>
                  <a:pt x="308" y="962"/>
                </a:lnTo>
                <a:lnTo>
                  <a:pt x="321" y="981"/>
                </a:lnTo>
                <a:lnTo>
                  <a:pt x="333" y="999"/>
                </a:lnTo>
                <a:lnTo>
                  <a:pt x="346" y="1017"/>
                </a:lnTo>
                <a:lnTo>
                  <a:pt x="357" y="1033"/>
                </a:lnTo>
                <a:lnTo>
                  <a:pt x="370" y="1045"/>
                </a:lnTo>
                <a:lnTo>
                  <a:pt x="382" y="1059"/>
                </a:lnTo>
                <a:lnTo>
                  <a:pt x="395" y="1073"/>
                </a:lnTo>
                <a:lnTo>
                  <a:pt x="408" y="1089"/>
                </a:lnTo>
                <a:lnTo>
                  <a:pt x="427" y="1104"/>
                </a:lnTo>
                <a:lnTo>
                  <a:pt x="441" y="1117"/>
                </a:lnTo>
                <a:lnTo>
                  <a:pt x="456" y="1132"/>
                </a:lnTo>
                <a:lnTo>
                  <a:pt x="468" y="1142"/>
                </a:lnTo>
                <a:lnTo>
                  <a:pt x="482" y="1150"/>
                </a:lnTo>
                <a:lnTo>
                  <a:pt x="504" y="1167"/>
                </a:lnTo>
                <a:lnTo>
                  <a:pt x="527" y="1181"/>
                </a:lnTo>
                <a:lnTo>
                  <a:pt x="544" y="1194"/>
                </a:lnTo>
                <a:lnTo>
                  <a:pt x="557" y="1202"/>
                </a:lnTo>
                <a:lnTo>
                  <a:pt x="568" y="1209"/>
                </a:lnTo>
                <a:lnTo>
                  <a:pt x="584" y="1216"/>
                </a:lnTo>
                <a:lnTo>
                  <a:pt x="602" y="1223"/>
                </a:lnTo>
                <a:lnTo>
                  <a:pt x="620" y="1231"/>
                </a:lnTo>
                <a:lnTo>
                  <a:pt x="629" y="1234"/>
                </a:lnTo>
                <a:lnTo>
                  <a:pt x="640" y="1238"/>
                </a:lnTo>
                <a:lnTo>
                  <a:pt x="653" y="1242"/>
                </a:lnTo>
                <a:lnTo>
                  <a:pt x="668" y="1246"/>
                </a:lnTo>
                <a:lnTo>
                  <a:pt x="685" y="1250"/>
                </a:lnTo>
                <a:lnTo>
                  <a:pt x="698" y="1255"/>
                </a:lnTo>
                <a:lnTo>
                  <a:pt x="715" y="1259"/>
                </a:lnTo>
                <a:lnTo>
                  <a:pt x="728" y="1261"/>
                </a:lnTo>
                <a:lnTo>
                  <a:pt x="757" y="1268"/>
                </a:lnTo>
                <a:lnTo>
                  <a:pt x="790" y="1273"/>
                </a:lnTo>
                <a:lnTo>
                  <a:pt x="822" y="1280"/>
                </a:lnTo>
                <a:lnTo>
                  <a:pt x="849" y="1283"/>
                </a:lnTo>
                <a:lnTo>
                  <a:pt x="876" y="1287"/>
                </a:lnTo>
                <a:lnTo>
                  <a:pt x="909" y="1288"/>
                </a:lnTo>
                <a:lnTo>
                  <a:pt x="943" y="1291"/>
                </a:lnTo>
                <a:lnTo>
                  <a:pt x="974" y="1292"/>
                </a:lnTo>
                <a:lnTo>
                  <a:pt x="1004" y="1294"/>
                </a:lnTo>
                <a:lnTo>
                  <a:pt x="1039" y="1294"/>
                </a:lnTo>
                <a:lnTo>
                  <a:pt x="1072" y="1294"/>
                </a:lnTo>
                <a:lnTo>
                  <a:pt x="1155" y="1294"/>
                </a:lnTo>
                <a:lnTo>
                  <a:pt x="1129" y="1301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89160" y="3932280"/>
            <a:ext cx="2760480" cy="2274840"/>
          </a:xfrm>
          <a:custGeom>
            <a:avLst/>
            <a:gdLst/>
            <a:ahLst/>
            <a:rect l="l" t="t" r="r" b="b"/>
            <a:pathLst>
              <a:path w="1739" h="1433">
                <a:moveTo>
                  <a:pt x="1525" y="1432"/>
                </a:moveTo>
                <a:lnTo>
                  <a:pt x="1525" y="1432"/>
                </a:lnTo>
                <a:lnTo>
                  <a:pt x="1572" y="1372"/>
                </a:lnTo>
                <a:lnTo>
                  <a:pt x="1572" y="1306"/>
                </a:lnTo>
                <a:lnTo>
                  <a:pt x="1620" y="1262"/>
                </a:lnTo>
                <a:lnTo>
                  <a:pt x="1738" y="1122"/>
                </a:lnTo>
                <a:lnTo>
                  <a:pt x="1643" y="1024"/>
                </a:lnTo>
                <a:lnTo>
                  <a:pt x="1699" y="869"/>
                </a:lnTo>
                <a:lnTo>
                  <a:pt x="1604" y="758"/>
                </a:lnTo>
                <a:lnTo>
                  <a:pt x="1659" y="649"/>
                </a:lnTo>
                <a:lnTo>
                  <a:pt x="1628" y="522"/>
                </a:lnTo>
                <a:lnTo>
                  <a:pt x="1684" y="426"/>
                </a:lnTo>
                <a:lnTo>
                  <a:pt x="1643" y="353"/>
                </a:lnTo>
                <a:lnTo>
                  <a:pt x="1675" y="264"/>
                </a:lnTo>
                <a:lnTo>
                  <a:pt x="1635" y="213"/>
                </a:lnTo>
                <a:lnTo>
                  <a:pt x="1635" y="169"/>
                </a:lnTo>
                <a:lnTo>
                  <a:pt x="1534" y="146"/>
                </a:lnTo>
                <a:lnTo>
                  <a:pt x="1525" y="101"/>
                </a:lnTo>
                <a:lnTo>
                  <a:pt x="1414" y="101"/>
                </a:lnTo>
                <a:lnTo>
                  <a:pt x="1407" y="35"/>
                </a:lnTo>
                <a:lnTo>
                  <a:pt x="1264" y="35"/>
                </a:lnTo>
                <a:lnTo>
                  <a:pt x="1264" y="88"/>
                </a:lnTo>
                <a:lnTo>
                  <a:pt x="1123" y="88"/>
                </a:lnTo>
                <a:lnTo>
                  <a:pt x="1035" y="20"/>
                </a:lnTo>
                <a:lnTo>
                  <a:pt x="894" y="20"/>
                </a:lnTo>
                <a:lnTo>
                  <a:pt x="814" y="57"/>
                </a:lnTo>
                <a:lnTo>
                  <a:pt x="665" y="57"/>
                </a:lnTo>
                <a:lnTo>
                  <a:pt x="632" y="20"/>
                </a:lnTo>
                <a:lnTo>
                  <a:pt x="569" y="27"/>
                </a:lnTo>
                <a:lnTo>
                  <a:pt x="443" y="0"/>
                </a:lnTo>
                <a:lnTo>
                  <a:pt x="309" y="79"/>
                </a:lnTo>
                <a:lnTo>
                  <a:pt x="261" y="35"/>
                </a:lnTo>
                <a:lnTo>
                  <a:pt x="214" y="35"/>
                </a:lnTo>
                <a:lnTo>
                  <a:pt x="143" y="64"/>
                </a:lnTo>
                <a:lnTo>
                  <a:pt x="103" y="27"/>
                </a:lnTo>
                <a:lnTo>
                  <a:pt x="71" y="27"/>
                </a:lnTo>
                <a:lnTo>
                  <a:pt x="0" y="64"/>
                </a:lnTo>
                <a:lnTo>
                  <a:pt x="0" y="98"/>
                </a:lnTo>
                <a:lnTo>
                  <a:pt x="0" y="107"/>
                </a:lnTo>
                <a:lnTo>
                  <a:pt x="1" y="116"/>
                </a:lnTo>
                <a:lnTo>
                  <a:pt x="2" y="129"/>
                </a:lnTo>
                <a:lnTo>
                  <a:pt x="5" y="140"/>
                </a:lnTo>
                <a:lnTo>
                  <a:pt x="6" y="156"/>
                </a:lnTo>
                <a:lnTo>
                  <a:pt x="9" y="169"/>
                </a:lnTo>
                <a:lnTo>
                  <a:pt x="11" y="183"/>
                </a:lnTo>
                <a:lnTo>
                  <a:pt x="15" y="193"/>
                </a:lnTo>
                <a:lnTo>
                  <a:pt x="19" y="208"/>
                </a:lnTo>
                <a:lnTo>
                  <a:pt x="26" y="225"/>
                </a:lnTo>
                <a:lnTo>
                  <a:pt x="34" y="243"/>
                </a:lnTo>
                <a:lnTo>
                  <a:pt x="45" y="260"/>
                </a:lnTo>
                <a:lnTo>
                  <a:pt x="54" y="281"/>
                </a:lnTo>
                <a:lnTo>
                  <a:pt x="64" y="299"/>
                </a:lnTo>
                <a:lnTo>
                  <a:pt x="75" y="316"/>
                </a:lnTo>
                <a:lnTo>
                  <a:pt x="87" y="331"/>
                </a:lnTo>
                <a:lnTo>
                  <a:pt x="97" y="345"/>
                </a:lnTo>
                <a:lnTo>
                  <a:pt x="112" y="360"/>
                </a:lnTo>
                <a:lnTo>
                  <a:pt x="126" y="377"/>
                </a:lnTo>
                <a:lnTo>
                  <a:pt x="144" y="389"/>
                </a:lnTo>
                <a:lnTo>
                  <a:pt x="160" y="402"/>
                </a:lnTo>
                <a:lnTo>
                  <a:pt x="177" y="413"/>
                </a:lnTo>
                <a:lnTo>
                  <a:pt x="190" y="423"/>
                </a:lnTo>
                <a:lnTo>
                  <a:pt x="205" y="426"/>
                </a:lnTo>
                <a:lnTo>
                  <a:pt x="234" y="437"/>
                </a:lnTo>
                <a:lnTo>
                  <a:pt x="268" y="446"/>
                </a:lnTo>
                <a:lnTo>
                  <a:pt x="305" y="454"/>
                </a:lnTo>
                <a:lnTo>
                  <a:pt x="335" y="460"/>
                </a:lnTo>
                <a:lnTo>
                  <a:pt x="364" y="467"/>
                </a:lnTo>
                <a:lnTo>
                  <a:pt x="397" y="475"/>
                </a:lnTo>
                <a:lnTo>
                  <a:pt x="428" y="484"/>
                </a:lnTo>
                <a:lnTo>
                  <a:pt x="454" y="493"/>
                </a:lnTo>
                <a:lnTo>
                  <a:pt x="464" y="499"/>
                </a:lnTo>
                <a:lnTo>
                  <a:pt x="475" y="504"/>
                </a:lnTo>
                <a:lnTo>
                  <a:pt x="487" y="511"/>
                </a:lnTo>
                <a:lnTo>
                  <a:pt x="503" y="515"/>
                </a:lnTo>
                <a:lnTo>
                  <a:pt x="515" y="522"/>
                </a:lnTo>
                <a:lnTo>
                  <a:pt x="528" y="529"/>
                </a:lnTo>
                <a:lnTo>
                  <a:pt x="540" y="535"/>
                </a:lnTo>
                <a:lnTo>
                  <a:pt x="549" y="537"/>
                </a:lnTo>
                <a:lnTo>
                  <a:pt x="557" y="544"/>
                </a:lnTo>
                <a:lnTo>
                  <a:pt x="569" y="552"/>
                </a:lnTo>
                <a:lnTo>
                  <a:pt x="579" y="562"/>
                </a:lnTo>
                <a:lnTo>
                  <a:pt x="592" y="574"/>
                </a:lnTo>
                <a:lnTo>
                  <a:pt x="605" y="587"/>
                </a:lnTo>
                <a:lnTo>
                  <a:pt x="616" y="599"/>
                </a:lnTo>
                <a:lnTo>
                  <a:pt x="625" y="611"/>
                </a:lnTo>
                <a:lnTo>
                  <a:pt x="636" y="622"/>
                </a:lnTo>
                <a:lnTo>
                  <a:pt x="645" y="636"/>
                </a:lnTo>
                <a:lnTo>
                  <a:pt x="652" y="653"/>
                </a:lnTo>
                <a:lnTo>
                  <a:pt x="661" y="671"/>
                </a:lnTo>
                <a:lnTo>
                  <a:pt x="670" y="690"/>
                </a:lnTo>
                <a:lnTo>
                  <a:pt x="675" y="709"/>
                </a:lnTo>
                <a:lnTo>
                  <a:pt x="683" y="728"/>
                </a:lnTo>
                <a:lnTo>
                  <a:pt x="687" y="745"/>
                </a:lnTo>
                <a:lnTo>
                  <a:pt x="692" y="759"/>
                </a:lnTo>
                <a:lnTo>
                  <a:pt x="693" y="775"/>
                </a:lnTo>
                <a:lnTo>
                  <a:pt x="695" y="792"/>
                </a:lnTo>
                <a:lnTo>
                  <a:pt x="699" y="809"/>
                </a:lnTo>
                <a:lnTo>
                  <a:pt x="703" y="825"/>
                </a:lnTo>
                <a:lnTo>
                  <a:pt x="706" y="844"/>
                </a:lnTo>
                <a:lnTo>
                  <a:pt x="709" y="858"/>
                </a:lnTo>
                <a:lnTo>
                  <a:pt x="711" y="872"/>
                </a:lnTo>
                <a:lnTo>
                  <a:pt x="715" y="881"/>
                </a:lnTo>
                <a:lnTo>
                  <a:pt x="717" y="893"/>
                </a:lnTo>
                <a:lnTo>
                  <a:pt x="722" y="905"/>
                </a:lnTo>
                <a:lnTo>
                  <a:pt x="727" y="922"/>
                </a:lnTo>
                <a:lnTo>
                  <a:pt x="734" y="937"/>
                </a:lnTo>
                <a:lnTo>
                  <a:pt x="739" y="955"/>
                </a:lnTo>
                <a:lnTo>
                  <a:pt x="745" y="973"/>
                </a:lnTo>
                <a:lnTo>
                  <a:pt x="751" y="990"/>
                </a:lnTo>
                <a:lnTo>
                  <a:pt x="759" y="1002"/>
                </a:lnTo>
                <a:lnTo>
                  <a:pt x="765" y="1019"/>
                </a:lnTo>
                <a:lnTo>
                  <a:pt x="775" y="1037"/>
                </a:lnTo>
                <a:lnTo>
                  <a:pt x="786" y="1057"/>
                </a:lnTo>
                <a:lnTo>
                  <a:pt x="800" y="1077"/>
                </a:lnTo>
                <a:lnTo>
                  <a:pt x="814" y="1099"/>
                </a:lnTo>
                <a:lnTo>
                  <a:pt x="826" y="1119"/>
                </a:lnTo>
                <a:lnTo>
                  <a:pt x="840" y="1137"/>
                </a:lnTo>
                <a:lnTo>
                  <a:pt x="853" y="1152"/>
                </a:lnTo>
                <a:lnTo>
                  <a:pt x="865" y="1167"/>
                </a:lnTo>
                <a:lnTo>
                  <a:pt x="884" y="1183"/>
                </a:lnTo>
                <a:lnTo>
                  <a:pt x="903" y="1201"/>
                </a:lnTo>
                <a:lnTo>
                  <a:pt x="926" y="1217"/>
                </a:lnTo>
                <a:lnTo>
                  <a:pt x="948" y="1235"/>
                </a:lnTo>
                <a:lnTo>
                  <a:pt x="970" y="1252"/>
                </a:lnTo>
                <a:lnTo>
                  <a:pt x="992" y="1265"/>
                </a:lnTo>
                <a:lnTo>
                  <a:pt x="1011" y="1277"/>
                </a:lnTo>
                <a:lnTo>
                  <a:pt x="1032" y="1287"/>
                </a:lnTo>
                <a:lnTo>
                  <a:pt x="1056" y="1299"/>
                </a:lnTo>
                <a:lnTo>
                  <a:pt x="1084" y="1312"/>
                </a:lnTo>
                <a:lnTo>
                  <a:pt x="1117" y="1325"/>
                </a:lnTo>
                <a:lnTo>
                  <a:pt x="1148" y="1339"/>
                </a:lnTo>
                <a:lnTo>
                  <a:pt x="1180" y="1350"/>
                </a:lnTo>
                <a:lnTo>
                  <a:pt x="1207" y="1362"/>
                </a:lnTo>
                <a:lnTo>
                  <a:pt x="1237" y="1369"/>
                </a:lnTo>
                <a:lnTo>
                  <a:pt x="1261" y="1377"/>
                </a:lnTo>
                <a:lnTo>
                  <a:pt x="1291" y="1385"/>
                </a:lnTo>
                <a:lnTo>
                  <a:pt x="1321" y="1394"/>
                </a:lnTo>
                <a:lnTo>
                  <a:pt x="1353" y="1400"/>
                </a:lnTo>
                <a:lnTo>
                  <a:pt x="1381" y="1408"/>
                </a:lnTo>
                <a:lnTo>
                  <a:pt x="1407" y="1414"/>
                </a:lnTo>
                <a:lnTo>
                  <a:pt x="1430" y="1419"/>
                </a:lnTo>
                <a:lnTo>
                  <a:pt x="1534" y="1432"/>
                </a:lnTo>
                <a:lnTo>
                  <a:pt x="1525" y="1432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0"/>
            <a:ext cx="7086600" cy="10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43000" y="0"/>
            <a:ext cx="70866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mando el caso convencional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0280" y="835200"/>
            <a:ext cx="4599000" cy="5217840"/>
            <a:chOff x="530280" y="835200"/>
            <a:chExt cx="4599000" cy="5217840"/>
          </a:xfrm>
        </p:grpSpPr>
        <p:sp>
          <p:nvSpPr>
            <p:cNvPr id="258" name=""/>
            <p:cNvSpPr/>
            <p:nvPr/>
          </p:nvSpPr>
          <p:spPr>
            <a:xfrm flipH="1">
              <a:off x="530280" y="835200"/>
              <a:ext cx="4572000" cy="5217840"/>
            </a:xfrm>
            <a:custGeom>
              <a:avLst/>
              <a:gdLst>
                <a:gd name="textAreaLeft" fmla="*/ 360 w 4572000"/>
                <a:gd name="textAreaRight" fmla="*/ 4572720 w 4572000"/>
                <a:gd name="textAreaTop" fmla="*/ 0 h 5217840"/>
                <a:gd name="textAreaBottom" fmla="*/ 5218200 h 5217840"/>
              </a:gdLst>
              <a:ahLst/>
              <a:rect l="textAreaLeft" t="textAreaTop" r="textAreaRight" b="textAreaBottom"/>
              <a:pathLst>
                <a:path w="21600" h="24651">
                  <a:moveTo>
                    <a:pt x="0" y="0"/>
                  </a:moveTo>
                  <a:arcTo wR="0" hR="0" stAng="16200000" swAng="-5400000"/>
                  <a:lnTo>
                    <a:pt x="0" y="24651"/>
                  </a:lnTo>
                  <a:arcTo wR="0" hR="0" stAng="10800000" swAng="-5400000"/>
                  <a:lnTo>
                    <a:pt x="21600" y="2465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c2"/>
            </a:solidFill>
            <a:ln w="12600">
              <a:solidFill>
                <a:srgbClr val="ffff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961920" y="1428840"/>
              <a:ext cx="4167360" cy="3900240"/>
              <a:chOff x="961920" y="1428840"/>
              <a:chExt cx="4167360" cy="3900240"/>
            </a:xfrm>
          </p:grpSpPr>
          <p:sp>
            <p:nvSpPr>
              <p:cNvPr id="260" name=""/>
              <p:cNvSpPr/>
              <p:nvPr/>
            </p:nvSpPr>
            <p:spPr>
              <a:xfrm flipV="1">
                <a:off x="1120680" y="1832040"/>
                <a:ext cx="0" cy="333360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127160" y="5168880"/>
                <a:ext cx="3600360" cy="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961920" y="1428840"/>
                <a:ext cx="36540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764240" y="4950000"/>
                <a:ext cx="365040" cy="37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79680" y="1893960"/>
                <a:ext cx="1798560" cy="2535120"/>
              </a:xfrm>
              <a:custGeom>
                <a:avLst/>
                <a:gdLst/>
                <a:ahLst/>
                <a:rect l="l" t="t" r="r" b="b"/>
                <a:pathLst>
                  <a:path w="1133" h="1597">
                    <a:moveTo>
                      <a:pt x="0" y="0"/>
                    </a:moveTo>
                    <a:lnTo>
                      <a:pt x="0" y="14"/>
                    </a:lnTo>
                    <a:lnTo>
                      <a:pt x="1" y="24"/>
                    </a:lnTo>
                    <a:lnTo>
                      <a:pt x="1" y="33"/>
                    </a:lnTo>
                    <a:lnTo>
                      <a:pt x="3" y="40"/>
                    </a:lnTo>
                    <a:lnTo>
                      <a:pt x="3" y="44"/>
                    </a:lnTo>
                    <a:lnTo>
                      <a:pt x="3" y="49"/>
                    </a:lnTo>
                    <a:lnTo>
                      <a:pt x="3" y="51"/>
                    </a:lnTo>
                    <a:lnTo>
                      <a:pt x="6" y="53"/>
                    </a:lnTo>
                    <a:lnTo>
                      <a:pt x="6" y="54"/>
                    </a:lnTo>
                    <a:lnTo>
                      <a:pt x="6" y="55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62"/>
                    </a:lnTo>
                    <a:lnTo>
                      <a:pt x="6" y="65"/>
                    </a:lnTo>
                    <a:lnTo>
                      <a:pt x="6" y="71"/>
                    </a:lnTo>
                    <a:lnTo>
                      <a:pt x="8" y="77"/>
                    </a:lnTo>
                    <a:lnTo>
                      <a:pt x="8" y="86"/>
                    </a:lnTo>
                    <a:lnTo>
                      <a:pt x="10" y="96"/>
                    </a:lnTo>
                    <a:lnTo>
                      <a:pt x="12" y="108"/>
                    </a:lnTo>
                    <a:lnTo>
                      <a:pt x="15" y="122"/>
                    </a:lnTo>
                    <a:lnTo>
                      <a:pt x="17" y="139"/>
                    </a:lnTo>
                    <a:lnTo>
                      <a:pt x="21" y="155"/>
                    </a:lnTo>
                    <a:lnTo>
                      <a:pt x="23" y="174"/>
                    </a:lnTo>
                    <a:lnTo>
                      <a:pt x="28" y="192"/>
                    </a:lnTo>
                    <a:lnTo>
                      <a:pt x="31" y="213"/>
                    </a:lnTo>
                    <a:lnTo>
                      <a:pt x="35" y="232"/>
                    </a:lnTo>
                    <a:lnTo>
                      <a:pt x="40" y="254"/>
                    </a:lnTo>
                    <a:lnTo>
                      <a:pt x="44" y="273"/>
                    </a:lnTo>
                    <a:lnTo>
                      <a:pt x="48" y="295"/>
                    </a:lnTo>
                    <a:lnTo>
                      <a:pt x="52" y="315"/>
                    </a:lnTo>
                    <a:lnTo>
                      <a:pt x="57" y="335"/>
                    </a:lnTo>
                    <a:lnTo>
                      <a:pt x="62" y="353"/>
                    </a:lnTo>
                    <a:lnTo>
                      <a:pt x="66" y="374"/>
                    </a:lnTo>
                    <a:lnTo>
                      <a:pt x="70" y="395"/>
                    </a:lnTo>
                    <a:lnTo>
                      <a:pt x="74" y="416"/>
                    </a:lnTo>
                    <a:lnTo>
                      <a:pt x="80" y="438"/>
                    </a:lnTo>
                    <a:lnTo>
                      <a:pt x="86" y="460"/>
                    </a:lnTo>
                    <a:lnTo>
                      <a:pt x="92" y="482"/>
                    </a:lnTo>
                    <a:lnTo>
                      <a:pt x="99" y="503"/>
                    </a:lnTo>
                    <a:lnTo>
                      <a:pt x="106" y="525"/>
                    </a:lnTo>
                    <a:lnTo>
                      <a:pt x="111" y="545"/>
                    </a:lnTo>
                    <a:lnTo>
                      <a:pt x="116" y="565"/>
                    </a:lnTo>
                    <a:lnTo>
                      <a:pt x="122" y="585"/>
                    </a:lnTo>
                    <a:lnTo>
                      <a:pt x="129" y="603"/>
                    </a:lnTo>
                    <a:lnTo>
                      <a:pt x="134" y="620"/>
                    </a:lnTo>
                    <a:lnTo>
                      <a:pt x="138" y="633"/>
                    </a:lnTo>
                    <a:lnTo>
                      <a:pt x="143" y="647"/>
                    </a:lnTo>
                    <a:lnTo>
                      <a:pt x="148" y="657"/>
                    </a:lnTo>
                    <a:lnTo>
                      <a:pt x="152" y="668"/>
                    </a:lnTo>
                    <a:lnTo>
                      <a:pt x="157" y="679"/>
                    </a:lnTo>
                    <a:lnTo>
                      <a:pt x="162" y="693"/>
                    </a:lnTo>
                    <a:lnTo>
                      <a:pt x="169" y="705"/>
                    </a:lnTo>
                    <a:lnTo>
                      <a:pt x="173" y="720"/>
                    </a:lnTo>
                    <a:lnTo>
                      <a:pt x="180" y="735"/>
                    </a:lnTo>
                    <a:lnTo>
                      <a:pt x="187" y="752"/>
                    </a:lnTo>
                    <a:lnTo>
                      <a:pt x="194" y="766"/>
                    </a:lnTo>
                    <a:lnTo>
                      <a:pt x="201" y="783"/>
                    </a:lnTo>
                    <a:lnTo>
                      <a:pt x="207" y="800"/>
                    </a:lnTo>
                    <a:lnTo>
                      <a:pt x="214" y="817"/>
                    </a:lnTo>
                    <a:lnTo>
                      <a:pt x="222" y="832"/>
                    </a:lnTo>
                    <a:lnTo>
                      <a:pt x="228" y="848"/>
                    </a:lnTo>
                    <a:lnTo>
                      <a:pt x="235" y="863"/>
                    </a:lnTo>
                    <a:lnTo>
                      <a:pt x="241" y="877"/>
                    </a:lnTo>
                    <a:lnTo>
                      <a:pt x="248" y="889"/>
                    </a:lnTo>
                    <a:lnTo>
                      <a:pt x="252" y="903"/>
                    </a:lnTo>
                    <a:lnTo>
                      <a:pt x="259" y="916"/>
                    </a:lnTo>
                    <a:lnTo>
                      <a:pt x="265" y="931"/>
                    </a:lnTo>
                    <a:lnTo>
                      <a:pt x="272" y="946"/>
                    </a:lnTo>
                    <a:lnTo>
                      <a:pt x="278" y="963"/>
                    </a:lnTo>
                    <a:lnTo>
                      <a:pt x="285" y="977"/>
                    </a:lnTo>
                    <a:lnTo>
                      <a:pt x="292" y="993"/>
                    </a:lnTo>
                    <a:lnTo>
                      <a:pt x="300" y="1008"/>
                    </a:lnTo>
                    <a:lnTo>
                      <a:pt x="307" y="1024"/>
                    </a:lnTo>
                    <a:lnTo>
                      <a:pt x="313" y="1038"/>
                    </a:lnTo>
                    <a:lnTo>
                      <a:pt x="320" y="1053"/>
                    </a:lnTo>
                    <a:lnTo>
                      <a:pt x="327" y="1065"/>
                    </a:lnTo>
                    <a:lnTo>
                      <a:pt x="330" y="1078"/>
                    </a:lnTo>
                    <a:lnTo>
                      <a:pt x="337" y="1089"/>
                    </a:lnTo>
                    <a:lnTo>
                      <a:pt x="341" y="1099"/>
                    </a:lnTo>
                    <a:lnTo>
                      <a:pt x="347" y="1107"/>
                    </a:lnTo>
                    <a:lnTo>
                      <a:pt x="350" y="1117"/>
                    </a:lnTo>
                    <a:lnTo>
                      <a:pt x="355" y="1125"/>
                    </a:lnTo>
                    <a:lnTo>
                      <a:pt x="361" y="1137"/>
                    </a:lnTo>
                    <a:lnTo>
                      <a:pt x="366" y="1146"/>
                    </a:lnTo>
                    <a:lnTo>
                      <a:pt x="373" y="1159"/>
                    </a:lnTo>
                    <a:lnTo>
                      <a:pt x="380" y="1169"/>
                    </a:lnTo>
                    <a:lnTo>
                      <a:pt x="387" y="1182"/>
                    </a:lnTo>
                    <a:lnTo>
                      <a:pt x="397" y="1192"/>
                    </a:lnTo>
                    <a:lnTo>
                      <a:pt x="404" y="1204"/>
                    </a:lnTo>
                    <a:lnTo>
                      <a:pt x="412" y="1216"/>
                    </a:lnTo>
                    <a:lnTo>
                      <a:pt x="419" y="1228"/>
                    </a:lnTo>
                    <a:lnTo>
                      <a:pt x="428" y="1238"/>
                    </a:lnTo>
                    <a:lnTo>
                      <a:pt x="434" y="1249"/>
                    </a:lnTo>
                    <a:lnTo>
                      <a:pt x="443" y="1260"/>
                    </a:lnTo>
                    <a:lnTo>
                      <a:pt x="450" y="1269"/>
                    </a:lnTo>
                    <a:lnTo>
                      <a:pt x="457" y="1276"/>
                    </a:lnTo>
                    <a:lnTo>
                      <a:pt x="464" y="1286"/>
                    </a:lnTo>
                    <a:lnTo>
                      <a:pt x="471" y="1295"/>
                    </a:lnTo>
                    <a:lnTo>
                      <a:pt x="480" y="1304"/>
                    </a:lnTo>
                    <a:lnTo>
                      <a:pt x="489" y="1311"/>
                    </a:lnTo>
                    <a:lnTo>
                      <a:pt x="498" y="1322"/>
                    </a:lnTo>
                    <a:lnTo>
                      <a:pt x="508" y="1332"/>
                    </a:lnTo>
                    <a:lnTo>
                      <a:pt x="516" y="1342"/>
                    </a:lnTo>
                    <a:lnTo>
                      <a:pt x="527" y="1351"/>
                    </a:lnTo>
                    <a:lnTo>
                      <a:pt x="536" y="1361"/>
                    </a:lnTo>
                    <a:lnTo>
                      <a:pt x="546" y="1370"/>
                    </a:lnTo>
                    <a:lnTo>
                      <a:pt x="555" y="1379"/>
                    </a:lnTo>
                    <a:lnTo>
                      <a:pt x="565" y="1387"/>
                    </a:lnTo>
                    <a:lnTo>
                      <a:pt x="575" y="1396"/>
                    </a:lnTo>
                    <a:lnTo>
                      <a:pt x="583" y="1403"/>
                    </a:lnTo>
                    <a:lnTo>
                      <a:pt x="591" y="1410"/>
                    </a:lnTo>
                    <a:lnTo>
                      <a:pt x="599" y="1414"/>
                    </a:lnTo>
                    <a:lnTo>
                      <a:pt x="606" y="1420"/>
                    </a:lnTo>
                    <a:lnTo>
                      <a:pt x="612" y="1424"/>
                    </a:lnTo>
                    <a:lnTo>
                      <a:pt x="619" y="1430"/>
                    </a:lnTo>
                    <a:lnTo>
                      <a:pt x="627" y="1434"/>
                    </a:lnTo>
                    <a:lnTo>
                      <a:pt x="634" y="1441"/>
                    </a:lnTo>
                    <a:lnTo>
                      <a:pt x="640" y="1446"/>
                    </a:lnTo>
                    <a:lnTo>
                      <a:pt x="647" y="1451"/>
                    </a:lnTo>
                    <a:lnTo>
                      <a:pt x="655" y="1455"/>
                    </a:lnTo>
                    <a:lnTo>
                      <a:pt x="660" y="1462"/>
                    </a:lnTo>
                    <a:lnTo>
                      <a:pt x="667" y="1465"/>
                    </a:lnTo>
                    <a:lnTo>
                      <a:pt x="671" y="1469"/>
                    </a:lnTo>
                    <a:lnTo>
                      <a:pt x="678" y="1473"/>
                    </a:lnTo>
                    <a:lnTo>
                      <a:pt x="683" y="1477"/>
                    </a:lnTo>
                    <a:lnTo>
                      <a:pt x="687" y="1480"/>
                    </a:lnTo>
                    <a:lnTo>
                      <a:pt x="691" y="1482"/>
                    </a:lnTo>
                    <a:lnTo>
                      <a:pt x="694" y="1483"/>
                    </a:lnTo>
                    <a:lnTo>
                      <a:pt x="697" y="1485"/>
                    </a:lnTo>
                    <a:lnTo>
                      <a:pt x="700" y="1486"/>
                    </a:lnTo>
                    <a:lnTo>
                      <a:pt x="703" y="1489"/>
                    </a:lnTo>
                    <a:lnTo>
                      <a:pt x="707" y="1491"/>
                    </a:lnTo>
                    <a:lnTo>
                      <a:pt x="712" y="1494"/>
                    </a:lnTo>
                    <a:lnTo>
                      <a:pt x="717" y="1497"/>
                    </a:lnTo>
                    <a:lnTo>
                      <a:pt x="721" y="1498"/>
                    </a:lnTo>
                    <a:lnTo>
                      <a:pt x="727" y="1500"/>
                    </a:lnTo>
                    <a:lnTo>
                      <a:pt x="732" y="1504"/>
                    </a:lnTo>
                    <a:lnTo>
                      <a:pt x="739" y="1506"/>
                    </a:lnTo>
                    <a:lnTo>
                      <a:pt x="743" y="1508"/>
                    </a:lnTo>
                    <a:lnTo>
                      <a:pt x="750" y="1510"/>
                    </a:lnTo>
                    <a:lnTo>
                      <a:pt x="755" y="1512"/>
                    </a:lnTo>
                    <a:lnTo>
                      <a:pt x="761" y="1515"/>
                    </a:lnTo>
                    <a:lnTo>
                      <a:pt x="767" y="1517"/>
                    </a:lnTo>
                    <a:lnTo>
                      <a:pt x="772" y="1518"/>
                    </a:lnTo>
                    <a:lnTo>
                      <a:pt x="777" y="1521"/>
                    </a:lnTo>
                    <a:lnTo>
                      <a:pt x="783" y="1524"/>
                    </a:lnTo>
                    <a:lnTo>
                      <a:pt x="790" y="1527"/>
                    </a:lnTo>
                    <a:lnTo>
                      <a:pt x="799" y="1528"/>
                    </a:lnTo>
                    <a:lnTo>
                      <a:pt x="806" y="1533"/>
                    </a:lnTo>
                    <a:lnTo>
                      <a:pt x="815" y="1535"/>
                    </a:lnTo>
                    <a:lnTo>
                      <a:pt x="825" y="1537"/>
                    </a:lnTo>
                    <a:lnTo>
                      <a:pt x="835" y="1539"/>
                    </a:lnTo>
                    <a:lnTo>
                      <a:pt x="843" y="1543"/>
                    </a:lnTo>
                    <a:lnTo>
                      <a:pt x="853" y="1545"/>
                    </a:lnTo>
                    <a:lnTo>
                      <a:pt x="862" y="1548"/>
                    </a:lnTo>
                    <a:lnTo>
                      <a:pt x="872" y="1551"/>
                    </a:lnTo>
                    <a:lnTo>
                      <a:pt x="882" y="1553"/>
                    </a:lnTo>
                    <a:lnTo>
                      <a:pt x="891" y="1555"/>
                    </a:lnTo>
                    <a:lnTo>
                      <a:pt x="899" y="1557"/>
                    </a:lnTo>
                    <a:lnTo>
                      <a:pt x="908" y="1559"/>
                    </a:lnTo>
                    <a:lnTo>
                      <a:pt x="917" y="1561"/>
                    </a:lnTo>
                    <a:lnTo>
                      <a:pt x="925" y="1563"/>
                    </a:lnTo>
                    <a:lnTo>
                      <a:pt x="934" y="1565"/>
                    </a:lnTo>
                    <a:lnTo>
                      <a:pt x="945" y="1567"/>
                    </a:lnTo>
                    <a:lnTo>
                      <a:pt x="955" y="1569"/>
                    </a:lnTo>
                    <a:lnTo>
                      <a:pt x="965" y="1571"/>
                    </a:lnTo>
                    <a:lnTo>
                      <a:pt x="976" y="1573"/>
                    </a:lnTo>
                    <a:lnTo>
                      <a:pt x="988" y="1574"/>
                    </a:lnTo>
                    <a:lnTo>
                      <a:pt x="997" y="1577"/>
                    </a:lnTo>
                    <a:lnTo>
                      <a:pt x="1009" y="1579"/>
                    </a:lnTo>
                    <a:lnTo>
                      <a:pt x="1018" y="1581"/>
                    </a:lnTo>
                    <a:lnTo>
                      <a:pt x="1029" y="1582"/>
                    </a:lnTo>
                    <a:lnTo>
                      <a:pt x="1038" y="1585"/>
                    </a:lnTo>
                    <a:lnTo>
                      <a:pt x="1047" y="1586"/>
                    </a:lnTo>
                    <a:lnTo>
                      <a:pt x="1054" y="1587"/>
                    </a:lnTo>
                    <a:lnTo>
                      <a:pt x="1062" y="1587"/>
                    </a:lnTo>
                    <a:lnTo>
                      <a:pt x="1067" y="1589"/>
                    </a:lnTo>
                    <a:lnTo>
                      <a:pt x="1071" y="1589"/>
                    </a:lnTo>
                    <a:lnTo>
                      <a:pt x="1075" y="1590"/>
                    </a:lnTo>
                    <a:lnTo>
                      <a:pt x="1077" y="1590"/>
                    </a:lnTo>
                    <a:lnTo>
                      <a:pt x="1078" y="1590"/>
                    </a:lnTo>
                    <a:lnTo>
                      <a:pt x="1081" y="1590"/>
                    </a:lnTo>
                    <a:lnTo>
                      <a:pt x="1082" y="1590"/>
                    </a:lnTo>
                    <a:lnTo>
                      <a:pt x="1084" y="1590"/>
                    </a:lnTo>
                    <a:lnTo>
                      <a:pt x="1085" y="1592"/>
                    </a:lnTo>
                    <a:lnTo>
                      <a:pt x="1088" y="1592"/>
                    </a:lnTo>
                    <a:lnTo>
                      <a:pt x="1091" y="1592"/>
                    </a:lnTo>
                    <a:lnTo>
                      <a:pt x="1097" y="1592"/>
                    </a:lnTo>
                    <a:lnTo>
                      <a:pt x="1102" y="1594"/>
                    </a:lnTo>
                    <a:lnTo>
                      <a:pt x="1110" y="1594"/>
                    </a:lnTo>
                    <a:lnTo>
                      <a:pt x="1120" y="1596"/>
                    </a:lnTo>
                    <a:lnTo>
                      <a:pt x="1132" y="1596"/>
                    </a:lnTo>
                  </a:path>
                </a:pathLst>
              </a:cu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593720" y="1749600"/>
                <a:ext cx="2428920" cy="2687400"/>
              </a:xfrm>
              <a:custGeom>
                <a:avLst/>
                <a:gdLst/>
                <a:ahLst/>
                <a:rect l="l" t="t" r="r" b="b"/>
                <a:pathLst>
                  <a:path w="1530" h="1693">
                    <a:moveTo>
                      <a:pt x="1495" y="1612"/>
                    </a:moveTo>
                    <a:lnTo>
                      <a:pt x="1495" y="1612"/>
                    </a:lnTo>
                    <a:lnTo>
                      <a:pt x="1445" y="1588"/>
                    </a:lnTo>
                    <a:lnTo>
                      <a:pt x="1445" y="1515"/>
                    </a:lnTo>
                    <a:lnTo>
                      <a:pt x="1421" y="1450"/>
                    </a:lnTo>
                    <a:lnTo>
                      <a:pt x="1495" y="1345"/>
                    </a:lnTo>
                    <a:lnTo>
                      <a:pt x="1529" y="1017"/>
                    </a:lnTo>
                    <a:lnTo>
                      <a:pt x="1388" y="879"/>
                    </a:lnTo>
                    <a:lnTo>
                      <a:pt x="1388" y="743"/>
                    </a:lnTo>
                    <a:lnTo>
                      <a:pt x="1411" y="660"/>
                    </a:lnTo>
                    <a:lnTo>
                      <a:pt x="1411" y="588"/>
                    </a:lnTo>
                    <a:lnTo>
                      <a:pt x="1379" y="588"/>
                    </a:lnTo>
                    <a:lnTo>
                      <a:pt x="1363" y="500"/>
                    </a:lnTo>
                    <a:lnTo>
                      <a:pt x="1406" y="363"/>
                    </a:lnTo>
                    <a:lnTo>
                      <a:pt x="1406" y="227"/>
                    </a:lnTo>
                    <a:lnTo>
                      <a:pt x="1263" y="202"/>
                    </a:lnTo>
                    <a:lnTo>
                      <a:pt x="1207" y="67"/>
                    </a:lnTo>
                    <a:lnTo>
                      <a:pt x="1066" y="67"/>
                    </a:lnTo>
                    <a:lnTo>
                      <a:pt x="925" y="40"/>
                    </a:lnTo>
                    <a:lnTo>
                      <a:pt x="785" y="90"/>
                    </a:lnTo>
                    <a:lnTo>
                      <a:pt x="521" y="67"/>
                    </a:lnTo>
                    <a:lnTo>
                      <a:pt x="455" y="73"/>
                    </a:lnTo>
                    <a:lnTo>
                      <a:pt x="430" y="0"/>
                    </a:lnTo>
                    <a:lnTo>
                      <a:pt x="283" y="0"/>
                    </a:lnTo>
                    <a:lnTo>
                      <a:pt x="140" y="80"/>
                    </a:lnTo>
                    <a:lnTo>
                      <a:pt x="0" y="97"/>
                    </a:lnTo>
                    <a:lnTo>
                      <a:pt x="7" y="90"/>
                    </a:lnTo>
                    <a:lnTo>
                      <a:pt x="15" y="166"/>
                    </a:lnTo>
                    <a:lnTo>
                      <a:pt x="19" y="184"/>
                    </a:lnTo>
                    <a:lnTo>
                      <a:pt x="23" y="211"/>
                    </a:lnTo>
                    <a:lnTo>
                      <a:pt x="28" y="245"/>
                    </a:lnTo>
                    <a:lnTo>
                      <a:pt x="35" y="282"/>
                    </a:lnTo>
                    <a:lnTo>
                      <a:pt x="42" y="322"/>
                    </a:lnTo>
                    <a:lnTo>
                      <a:pt x="51" y="366"/>
                    </a:lnTo>
                    <a:lnTo>
                      <a:pt x="58" y="407"/>
                    </a:lnTo>
                    <a:lnTo>
                      <a:pt x="70" y="444"/>
                    </a:lnTo>
                    <a:lnTo>
                      <a:pt x="80" y="485"/>
                    </a:lnTo>
                    <a:lnTo>
                      <a:pt x="88" y="527"/>
                    </a:lnTo>
                    <a:lnTo>
                      <a:pt x="101" y="570"/>
                    </a:lnTo>
                    <a:lnTo>
                      <a:pt x="114" y="614"/>
                    </a:lnTo>
                    <a:lnTo>
                      <a:pt x="126" y="657"/>
                    </a:lnTo>
                    <a:lnTo>
                      <a:pt x="136" y="692"/>
                    </a:lnTo>
                    <a:lnTo>
                      <a:pt x="146" y="725"/>
                    </a:lnTo>
                    <a:lnTo>
                      <a:pt x="156" y="747"/>
                    </a:lnTo>
                    <a:lnTo>
                      <a:pt x="165" y="769"/>
                    </a:lnTo>
                    <a:lnTo>
                      <a:pt x="177" y="796"/>
                    </a:lnTo>
                    <a:lnTo>
                      <a:pt x="188" y="825"/>
                    </a:lnTo>
                    <a:lnTo>
                      <a:pt x="202" y="857"/>
                    </a:lnTo>
                    <a:lnTo>
                      <a:pt x="216" y="891"/>
                    </a:lnTo>
                    <a:lnTo>
                      <a:pt x="230" y="924"/>
                    </a:lnTo>
                    <a:lnTo>
                      <a:pt x="242" y="955"/>
                    </a:lnTo>
                    <a:lnTo>
                      <a:pt x="255" y="980"/>
                    </a:lnTo>
                    <a:lnTo>
                      <a:pt x="266" y="1006"/>
                    </a:lnTo>
                    <a:lnTo>
                      <a:pt x="280" y="1037"/>
                    </a:lnTo>
                    <a:lnTo>
                      <a:pt x="293" y="1068"/>
                    </a:lnTo>
                    <a:lnTo>
                      <a:pt x="308" y="1098"/>
                    </a:lnTo>
                    <a:lnTo>
                      <a:pt x="322" y="1129"/>
                    </a:lnTo>
                    <a:lnTo>
                      <a:pt x="335" y="1157"/>
                    </a:lnTo>
                    <a:lnTo>
                      <a:pt x="344" y="1179"/>
                    </a:lnTo>
                    <a:lnTo>
                      <a:pt x="355" y="1198"/>
                    </a:lnTo>
                    <a:lnTo>
                      <a:pt x="365" y="1216"/>
                    </a:lnTo>
                    <a:lnTo>
                      <a:pt x="376" y="1236"/>
                    </a:lnTo>
                    <a:lnTo>
                      <a:pt x="388" y="1258"/>
                    </a:lnTo>
                    <a:lnTo>
                      <a:pt x="402" y="1282"/>
                    </a:lnTo>
                    <a:lnTo>
                      <a:pt x="421" y="1307"/>
                    </a:lnTo>
                    <a:lnTo>
                      <a:pt x="436" y="1331"/>
                    </a:lnTo>
                    <a:lnTo>
                      <a:pt x="450" y="1350"/>
                    </a:lnTo>
                    <a:lnTo>
                      <a:pt x="466" y="1367"/>
                    </a:lnTo>
                    <a:lnTo>
                      <a:pt x="481" y="1386"/>
                    </a:lnTo>
                    <a:lnTo>
                      <a:pt x="498" y="1404"/>
                    </a:lnTo>
                    <a:lnTo>
                      <a:pt x="515" y="1423"/>
                    </a:lnTo>
                    <a:lnTo>
                      <a:pt x="537" y="1441"/>
                    </a:lnTo>
                    <a:lnTo>
                      <a:pt x="555" y="1460"/>
                    </a:lnTo>
                    <a:lnTo>
                      <a:pt x="574" y="1477"/>
                    </a:lnTo>
                    <a:lnTo>
                      <a:pt x="591" y="1493"/>
                    </a:lnTo>
                    <a:lnTo>
                      <a:pt x="606" y="1505"/>
                    </a:lnTo>
                    <a:lnTo>
                      <a:pt x="635" y="1525"/>
                    </a:lnTo>
                    <a:lnTo>
                      <a:pt x="663" y="1543"/>
                    </a:lnTo>
                    <a:lnTo>
                      <a:pt x="686" y="1562"/>
                    </a:lnTo>
                    <a:lnTo>
                      <a:pt x="701" y="1573"/>
                    </a:lnTo>
                    <a:lnTo>
                      <a:pt x="714" y="1580"/>
                    </a:lnTo>
                    <a:lnTo>
                      <a:pt x="736" y="1590"/>
                    </a:lnTo>
                    <a:lnTo>
                      <a:pt x="758" y="1602"/>
                    </a:lnTo>
                    <a:lnTo>
                      <a:pt x="781" y="1608"/>
                    </a:lnTo>
                    <a:lnTo>
                      <a:pt x="792" y="1613"/>
                    </a:lnTo>
                    <a:lnTo>
                      <a:pt x="807" y="1617"/>
                    </a:lnTo>
                    <a:lnTo>
                      <a:pt x="823" y="1624"/>
                    </a:lnTo>
                    <a:lnTo>
                      <a:pt x="842" y="1630"/>
                    </a:lnTo>
                    <a:lnTo>
                      <a:pt x="863" y="1634"/>
                    </a:lnTo>
                    <a:lnTo>
                      <a:pt x="881" y="1640"/>
                    </a:lnTo>
                    <a:lnTo>
                      <a:pt x="899" y="1644"/>
                    </a:lnTo>
                    <a:lnTo>
                      <a:pt x="916" y="1649"/>
                    </a:lnTo>
                    <a:lnTo>
                      <a:pt x="952" y="1657"/>
                    </a:lnTo>
                    <a:lnTo>
                      <a:pt x="995" y="1666"/>
                    </a:lnTo>
                    <a:lnTo>
                      <a:pt x="1036" y="1675"/>
                    </a:lnTo>
                    <a:lnTo>
                      <a:pt x="1070" y="1677"/>
                    </a:lnTo>
                    <a:lnTo>
                      <a:pt x="1103" y="1682"/>
                    </a:lnTo>
                    <a:lnTo>
                      <a:pt x="1144" y="1685"/>
                    </a:lnTo>
                    <a:lnTo>
                      <a:pt x="1188" y="1687"/>
                    </a:lnTo>
                    <a:lnTo>
                      <a:pt x="1227" y="1688"/>
                    </a:lnTo>
                    <a:lnTo>
                      <a:pt x="1263" y="1691"/>
                    </a:lnTo>
                    <a:lnTo>
                      <a:pt x="1308" y="1692"/>
                    </a:lnTo>
                    <a:lnTo>
                      <a:pt x="1349" y="1692"/>
                    </a:lnTo>
                    <a:lnTo>
                      <a:pt x="1454" y="1692"/>
                    </a:lnTo>
                    <a:lnTo>
                      <a:pt x="1495" y="1612"/>
                    </a:lnTo>
                  </a:path>
                </a:pathLst>
              </a:custGeom>
              <a:gradFill rotWithShape="0">
                <a:gsLst>
                  <a:gs pos="0">
                    <a:srgbClr val="ffffc2"/>
                  </a:gs>
                  <a:gs pos="100000">
                    <a:srgbClr val="008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59464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6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Mapa de óptimos dentro del espacio (</a:t>
            </a: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4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,w</a:t>
            </a:r>
            <a:r>
              <a:rPr b="1" lang="en-US" sz="4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82200" y="2054160"/>
            <a:ext cx="3596040" cy="4079880"/>
            <a:chOff x="682200" y="2054160"/>
            <a:chExt cx="3596040" cy="4079880"/>
          </a:xfrm>
        </p:grpSpPr>
        <p:grpSp>
          <p:nvGrpSpPr>
            <p:cNvPr id="268" name=""/>
            <p:cNvGrpSpPr/>
            <p:nvPr/>
          </p:nvGrpSpPr>
          <p:grpSpPr>
            <a:xfrm>
              <a:off x="682200" y="2054160"/>
              <a:ext cx="3596040" cy="4079880"/>
              <a:chOff x="682200" y="2054160"/>
              <a:chExt cx="3596040" cy="4079880"/>
            </a:xfrm>
          </p:grpSpPr>
          <p:sp>
            <p:nvSpPr>
              <p:cNvPr id="269" name=""/>
              <p:cNvSpPr/>
              <p:nvPr/>
            </p:nvSpPr>
            <p:spPr>
              <a:xfrm flipH="1">
                <a:off x="681840" y="2054160"/>
                <a:ext cx="3575160" cy="4079880"/>
              </a:xfrm>
              <a:custGeom>
                <a:avLst/>
                <a:gdLst>
                  <a:gd name="textAreaLeft" fmla="*/ -360 w 3575160"/>
                  <a:gd name="textAreaRight" fmla="*/ 3575160 w 3575160"/>
                  <a:gd name="textAreaTop" fmla="*/ 0 h 4079880"/>
                  <a:gd name="textAreaBottom" fmla="*/ 4079880 h 4079880"/>
                </a:gdLst>
                <a:ahLst/>
                <a:rect l="textAreaLeft" t="textAreaTop" r="textAreaRight" b="textAreaBottom"/>
                <a:pathLst>
                  <a:path w="21600" h="24649">
                    <a:moveTo>
                      <a:pt x="0" y="0"/>
                    </a:moveTo>
                    <a:arcTo wR="0" hR="0" stAng="16200000" swAng="-5400000"/>
                    <a:lnTo>
                      <a:pt x="0" y="24649"/>
                    </a:lnTo>
                    <a:arcTo wR="0" hR="0" stAng="10800000" swAng="-5400000"/>
                    <a:lnTo>
                      <a:pt x="21600" y="2464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fffc2"/>
              </a:solidFill>
              <a:ln w="12600">
                <a:solidFill>
                  <a:srgbClr val="ffff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1144440" y="2835360"/>
                <a:ext cx="0" cy="260352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150920" y="5442120"/>
                <a:ext cx="2813040" cy="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020600" y="2519280"/>
                <a:ext cx="285840" cy="2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992400" y="5270400"/>
                <a:ext cx="285840" cy="2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1503360" y="2882880"/>
              <a:ext cx="1406520" cy="1981080"/>
            </a:xfrm>
            <a:custGeom>
              <a:avLst/>
              <a:gdLst/>
              <a:ahLst/>
              <a:rect l="l" t="t" r="r" b="b"/>
              <a:pathLst>
                <a:path w="886" h="1248">
                  <a:moveTo>
                    <a:pt x="0" y="0"/>
                  </a:moveTo>
                  <a:lnTo>
                    <a:pt x="0" y="11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3" y="34"/>
                  </a:lnTo>
                  <a:lnTo>
                    <a:pt x="3" y="38"/>
                  </a:lnTo>
                  <a:lnTo>
                    <a:pt x="3" y="40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5"/>
                  </a:lnTo>
                  <a:lnTo>
                    <a:pt x="5" y="46"/>
                  </a:lnTo>
                  <a:lnTo>
                    <a:pt x="5" y="49"/>
                  </a:lnTo>
                  <a:lnTo>
                    <a:pt x="5" y="51"/>
                  </a:lnTo>
                  <a:lnTo>
                    <a:pt x="5" y="56"/>
                  </a:lnTo>
                  <a:lnTo>
                    <a:pt x="6" y="60"/>
                  </a:lnTo>
                  <a:lnTo>
                    <a:pt x="6" y="67"/>
                  </a:lnTo>
                  <a:lnTo>
                    <a:pt x="8" y="75"/>
                  </a:lnTo>
                  <a:lnTo>
                    <a:pt x="9" y="85"/>
                  </a:lnTo>
                  <a:lnTo>
                    <a:pt x="12" y="95"/>
                  </a:lnTo>
                  <a:lnTo>
                    <a:pt x="14" y="108"/>
                  </a:lnTo>
                  <a:lnTo>
                    <a:pt x="16" y="121"/>
                  </a:lnTo>
                  <a:lnTo>
                    <a:pt x="18" y="136"/>
                  </a:lnTo>
                  <a:lnTo>
                    <a:pt x="22" y="150"/>
                  </a:lnTo>
                  <a:lnTo>
                    <a:pt x="25" y="167"/>
                  </a:lnTo>
                  <a:lnTo>
                    <a:pt x="27" y="182"/>
                  </a:lnTo>
                  <a:lnTo>
                    <a:pt x="31" y="198"/>
                  </a:lnTo>
                  <a:lnTo>
                    <a:pt x="35" y="213"/>
                  </a:lnTo>
                  <a:lnTo>
                    <a:pt x="37" y="230"/>
                  </a:lnTo>
                  <a:lnTo>
                    <a:pt x="41" y="246"/>
                  </a:lnTo>
                  <a:lnTo>
                    <a:pt x="45" y="262"/>
                  </a:lnTo>
                  <a:lnTo>
                    <a:pt x="48" y="276"/>
                  </a:lnTo>
                  <a:lnTo>
                    <a:pt x="52" y="292"/>
                  </a:lnTo>
                  <a:lnTo>
                    <a:pt x="55" y="309"/>
                  </a:lnTo>
                  <a:lnTo>
                    <a:pt x="58" y="325"/>
                  </a:lnTo>
                  <a:lnTo>
                    <a:pt x="63" y="342"/>
                  </a:lnTo>
                  <a:lnTo>
                    <a:pt x="67" y="360"/>
                  </a:lnTo>
                  <a:lnTo>
                    <a:pt x="72" y="377"/>
                  </a:lnTo>
                  <a:lnTo>
                    <a:pt x="77" y="393"/>
                  </a:lnTo>
                  <a:lnTo>
                    <a:pt x="83" y="410"/>
                  </a:lnTo>
                  <a:lnTo>
                    <a:pt x="86" y="426"/>
                  </a:lnTo>
                  <a:lnTo>
                    <a:pt x="91" y="442"/>
                  </a:lnTo>
                  <a:lnTo>
                    <a:pt x="96" y="457"/>
                  </a:lnTo>
                  <a:lnTo>
                    <a:pt x="101" y="471"/>
                  </a:lnTo>
                  <a:lnTo>
                    <a:pt x="105" y="484"/>
                  </a:lnTo>
                  <a:lnTo>
                    <a:pt x="108" y="495"/>
                  </a:lnTo>
                  <a:lnTo>
                    <a:pt x="112" y="505"/>
                  </a:lnTo>
                  <a:lnTo>
                    <a:pt x="116" y="513"/>
                  </a:lnTo>
                  <a:lnTo>
                    <a:pt x="119" y="522"/>
                  </a:lnTo>
                  <a:lnTo>
                    <a:pt x="123" y="531"/>
                  </a:lnTo>
                  <a:lnTo>
                    <a:pt x="126" y="542"/>
                  </a:lnTo>
                  <a:lnTo>
                    <a:pt x="132" y="551"/>
                  </a:lnTo>
                  <a:lnTo>
                    <a:pt x="136" y="563"/>
                  </a:lnTo>
                  <a:lnTo>
                    <a:pt x="141" y="574"/>
                  </a:lnTo>
                  <a:lnTo>
                    <a:pt x="146" y="587"/>
                  </a:lnTo>
                  <a:lnTo>
                    <a:pt x="152" y="599"/>
                  </a:lnTo>
                  <a:lnTo>
                    <a:pt x="157" y="612"/>
                  </a:lnTo>
                  <a:lnTo>
                    <a:pt x="162" y="625"/>
                  </a:lnTo>
                  <a:lnTo>
                    <a:pt x="167" y="639"/>
                  </a:lnTo>
                  <a:lnTo>
                    <a:pt x="174" y="650"/>
                  </a:lnTo>
                  <a:lnTo>
                    <a:pt x="178" y="662"/>
                  </a:lnTo>
                  <a:lnTo>
                    <a:pt x="184" y="675"/>
                  </a:lnTo>
                  <a:lnTo>
                    <a:pt x="188" y="685"/>
                  </a:lnTo>
                  <a:lnTo>
                    <a:pt x="194" y="695"/>
                  </a:lnTo>
                  <a:lnTo>
                    <a:pt x="197" y="706"/>
                  </a:lnTo>
                  <a:lnTo>
                    <a:pt x="203" y="716"/>
                  </a:lnTo>
                  <a:lnTo>
                    <a:pt x="207" y="728"/>
                  </a:lnTo>
                  <a:lnTo>
                    <a:pt x="213" y="739"/>
                  </a:lnTo>
                  <a:lnTo>
                    <a:pt x="217" y="752"/>
                  </a:lnTo>
                  <a:lnTo>
                    <a:pt x="223" y="764"/>
                  </a:lnTo>
                  <a:lnTo>
                    <a:pt x="228" y="776"/>
                  </a:lnTo>
                  <a:lnTo>
                    <a:pt x="235" y="788"/>
                  </a:lnTo>
                  <a:lnTo>
                    <a:pt x="240" y="800"/>
                  </a:lnTo>
                  <a:lnTo>
                    <a:pt x="245" y="811"/>
                  </a:lnTo>
                  <a:lnTo>
                    <a:pt x="250" y="823"/>
                  </a:lnTo>
                  <a:lnTo>
                    <a:pt x="256" y="833"/>
                  </a:lnTo>
                  <a:lnTo>
                    <a:pt x="258" y="842"/>
                  </a:lnTo>
                  <a:lnTo>
                    <a:pt x="264" y="851"/>
                  </a:lnTo>
                  <a:lnTo>
                    <a:pt x="267" y="859"/>
                  </a:lnTo>
                  <a:lnTo>
                    <a:pt x="271" y="865"/>
                  </a:lnTo>
                  <a:lnTo>
                    <a:pt x="274" y="873"/>
                  </a:lnTo>
                  <a:lnTo>
                    <a:pt x="277" y="879"/>
                  </a:lnTo>
                  <a:lnTo>
                    <a:pt x="282" y="888"/>
                  </a:lnTo>
                  <a:lnTo>
                    <a:pt x="287" y="895"/>
                  </a:lnTo>
                  <a:lnTo>
                    <a:pt x="292" y="906"/>
                  </a:lnTo>
                  <a:lnTo>
                    <a:pt x="297" y="914"/>
                  </a:lnTo>
                  <a:lnTo>
                    <a:pt x="303" y="923"/>
                  </a:lnTo>
                  <a:lnTo>
                    <a:pt x="310" y="931"/>
                  </a:lnTo>
                  <a:lnTo>
                    <a:pt x="316" y="941"/>
                  </a:lnTo>
                  <a:lnTo>
                    <a:pt x="322" y="950"/>
                  </a:lnTo>
                  <a:lnTo>
                    <a:pt x="327" y="960"/>
                  </a:lnTo>
                  <a:lnTo>
                    <a:pt x="335" y="968"/>
                  </a:lnTo>
                  <a:lnTo>
                    <a:pt x="339" y="976"/>
                  </a:lnTo>
                  <a:lnTo>
                    <a:pt x="347" y="984"/>
                  </a:lnTo>
                  <a:lnTo>
                    <a:pt x="352" y="991"/>
                  </a:lnTo>
                  <a:lnTo>
                    <a:pt x="357" y="998"/>
                  </a:lnTo>
                  <a:lnTo>
                    <a:pt x="363" y="1005"/>
                  </a:lnTo>
                  <a:lnTo>
                    <a:pt x="368" y="1012"/>
                  </a:lnTo>
                  <a:lnTo>
                    <a:pt x="376" y="1019"/>
                  </a:lnTo>
                  <a:lnTo>
                    <a:pt x="382" y="1025"/>
                  </a:lnTo>
                  <a:lnTo>
                    <a:pt x="389" y="1033"/>
                  </a:lnTo>
                  <a:lnTo>
                    <a:pt x="398" y="1041"/>
                  </a:lnTo>
                  <a:lnTo>
                    <a:pt x="404" y="1049"/>
                  </a:lnTo>
                  <a:lnTo>
                    <a:pt x="412" y="1056"/>
                  </a:lnTo>
                  <a:lnTo>
                    <a:pt x="419" y="1064"/>
                  </a:lnTo>
                  <a:lnTo>
                    <a:pt x="427" y="1071"/>
                  </a:lnTo>
                  <a:lnTo>
                    <a:pt x="434" y="1078"/>
                  </a:lnTo>
                  <a:lnTo>
                    <a:pt x="442" y="1084"/>
                  </a:lnTo>
                  <a:lnTo>
                    <a:pt x="449" y="1091"/>
                  </a:lnTo>
                  <a:lnTo>
                    <a:pt x="456" y="1096"/>
                  </a:lnTo>
                  <a:lnTo>
                    <a:pt x="462" y="1102"/>
                  </a:lnTo>
                  <a:lnTo>
                    <a:pt x="468" y="1105"/>
                  </a:lnTo>
                  <a:lnTo>
                    <a:pt x="474" y="1110"/>
                  </a:lnTo>
                  <a:lnTo>
                    <a:pt x="478" y="1113"/>
                  </a:lnTo>
                  <a:lnTo>
                    <a:pt x="484" y="1117"/>
                  </a:lnTo>
                  <a:lnTo>
                    <a:pt x="490" y="1121"/>
                  </a:lnTo>
                  <a:lnTo>
                    <a:pt x="496" y="1126"/>
                  </a:lnTo>
                  <a:lnTo>
                    <a:pt x="500" y="1130"/>
                  </a:lnTo>
                  <a:lnTo>
                    <a:pt x="506" y="1134"/>
                  </a:lnTo>
                  <a:lnTo>
                    <a:pt x="512" y="1137"/>
                  </a:lnTo>
                  <a:lnTo>
                    <a:pt x="516" y="1142"/>
                  </a:lnTo>
                  <a:lnTo>
                    <a:pt x="521" y="1145"/>
                  </a:lnTo>
                  <a:lnTo>
                    <a:pt x="525" y="1148"/>
                  </a:lnTo>
                  <a:lnTo>
                    <a:pt x="530" y="1151"/>
                  </a:lnTo>
                  <a:lnTo>
                    <a:pt x="534" y="1155"/>
                  </a:lnTo>
                  <a:lnTo>
                    <a:pt x="538" y="1156"/>
                  </a:lnTo>
                  <a:lnTo>
                    <a:pt x="540" y="1158"/>
                  </a:lnTo>
                  <a:lnTo>
                    <a:pt x="543" y="1159"/>
                  </a:lnTo>
                  <a:lnTo>
                    <a:pt x="545" y="1161"/>
                  </a:lnTo>
                  <a:lnTo>
                    <a:pt x="548" y="1162"/>
                  </a:lnTo>
                  <a:lnTo>
                    <a:pt x="549" y="1163"/>
                  </a:lnTo>
                  <a:lnTo>
                    <a:pt x="553" y="1165"/>
                  </a:lnTo>
                  <a:lnTo>
                    <a:pt x="557" y="1168"/>
                  </a:lnTo>
                  <a:lnTo>
                    <a:pt x="560" y="1170"/>
                  </a:lnTo>
                  <a:lnTo>
                    <a:pt x="564" y="1170"/>
                  </a:lnTo>
                  <a:lnTo>
                    <a:pt x="569" y="1172"/>
                  </a:lnTo>
                  <a:lnTo>
                    <a:pt x="572" y="1176"/>
                  </a:lnTo>
                  <a:lnTo>
                    <a:pt x="578" y="1177"/>
                  </a:lnTo>
                  <a:lnTo>
                    <a:pt x="581" y="1178"/>
                  </a:lnTo>
                  <a:lnTo>
                    <a:pt x="587" y="1180"/>
                  </a:lnTo>
                  <a:lnTo>
                    <a:pt x="590" y="1182"/>
                  </a:lnTo>
                  <a:lnTo>
                    <a:pt x="595" y="1184"/>
                  </a:lnTo>
                  <a:lnTo>
                    <a:pt x="599" y="1185"/>
                  </a:lnTo>
                  <a:lnTo>
                    <a:pt x="604" y="1186"/>
                  </a:lnTo>
                  <a:lnTo>
                    <a:pt x="608" y="1189"/>
                  </a:lnTo>
                  <a:lnTo>
                    <a:pt x="612" y="1191"/>
                  </a:lnTo>
                  <a:lnTo>
                    <a:pt x="618" y="1193"/>
                  </a:lnTo>
                  <a:lnTo>
                    <a:pt x="625" y="1194"/>
                  </a:lnTo>
                  <a:lnTo>
                    <a:pt x="630" y="1198"/>
                  </a:lnTo>
                  <a:lnTo>
                    <a:pt x="638" y="1199"/>
                  </a:lnTo>
                  <a:lnTo>
                    <a:pt x="645" y="1201"/>
                  </a:lnTo>
                  <a:lnTo>
                    <a:pt x="653" y="1203"/>
                  </a:lnTo>
                  <a:lnTo>
                    <a:pt x="659" y="1206"/>
                  </a:lnTo>
                  <a:lnTo>
                    <a:pt x="667" y="1207"/>
                  </a:lnTo>
                  <a:lnTo>
                    <a:pt x="674" y="1210"/>
                  </a:lnTo>
                  <a:lnTo>
                    <a:pt x="682" y="1212"/>
                  </a:lnTo>
                  <a:lnTo>
                    <a:pt x="690" y="1214"/>
                  </a:lnTo>
                  <a:lnTo>
                    <a:pt x="697" y="1215"/>
                  </a:lnTo>
                  <a:lnTo>
                    <a:pt x="703" y="1217"/>
                  </a:lnTo>
                  <a:lnTo>
                    <a:pt x="710" y="1218"/>
                  </a:lnTo>
                  <a:lnTo>
                    <a:pt x="717" y="1220"/>
                  </a:lnTo>
                  <a:lnTo>
                    <a:pt x="723" y="1222"/>
                  </a:lnTo>
                  <a:lnTo>
                    <a:pt x="730" y="1223"/>
                  </a:lnTo>
                  <a:lnTo>
                    <a:pt x="739" y="1224"/>
                  </a:lnTo>
                  <a:lnTo>
                    <a:pt x="747" y="1226"/>
                  </a:lnTo>
                  <a:lnTo>
                    <a:pt x="755" y="1228"/>
                  </a:lnTo>
                  <a:lnTo>
                    <a:pt x="763" y="1229"/>
                  </a:lnTo>
                  <a:lnTo>
                    <a:pt x="772" y="1230"/>
                  </a:lnTo>
                  <a:lnTo>
                    <a:pt x="780" y="1232"/>
                  </a:lnTo>
                  <a:lnTo>
                    <a:pt x="789" y="1234"/>
                  </a:lnTo>
                  <a:lnTo>
                    <a:pt x="796" y="1236"/>
                  </a:lnTo>
                  <a:lnTo>
                    <a:pt x="805" y="1237"/>
                  </a:lnTo>
                  <a:lnTo>
                    <a:pt x="811" y="1238"/>
                  </a:lnTo>
                  <a:lnTo>
                    <a:pt x="819" y="1239"/>
                  </a:lnTo>
                  <a:lnTo>
                    <a:pt x="824" y="1240"/>
                  </a:lnTo>
                  <a:lnTo>
                    <a:pt x="831" y="1240"/>
                  </a:lnTo>
                  <a:lnTo>
                    <a:pt x="834" y="1242"/>
                  </a:lnTo>
                  <a:lnTo>
                    <a:pt x="838" y="1242"/>
                  </a:lnTo>
                  <a:lnTo>
                    <a:pt x="841" y="1243"/>
                  </a:lnTo>
                  <a:lnTo>
                    <a:pt x="842" y="1243"/>
                  </a:lnTo>
                  <a:lnTo>
                    <a:pt x="843" y="1243"/>
                  </a:lnTo>
                  <a:lnTo>
                    <a:pt x="845" y="1243"/>
                  </a:lnTo>
                  <a:lnTo>
                    <a:pt x="846" y="1243"/>
                  </a:lnTo>
                  <a:lnTo>
                    <a:pt x="848" y="1243"/>
                  </a:lnTo>
                  <a:lnTo>
                    <a:pt x="849" y="1244"/>
                  </a:lnTo>
                  <a:lnTo>
                    <a:pt x="851" y="1244"/>
                  </a:lnTo>
                  <a:lnTo>
                    <a:pt x="853" y="1244"/>
                  </a:lnTo>
                  <a:lnTo>
                    <a:pt x="858" y="1244"/>
                  </a:lnTo>
                  <a:lnTo>
                    <a:pt x="861" y="1245"/>
                  </a:lnTo>
                  <a:lnTo>
                    <a:pt x="868" y="1245"/>
                  </a:lnTo>
                  <a:lnTo>
                    <a:pt x="876" y="1247"/>
                  </a:lnTo>
                  <a:lnTo>
                    <a:pt x="885" y="1247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14520" y="2770200"/>
              <a:ext cx="1898640" cy="2100240"/>
            </a:xfrm>
            <a:custGeom>
              <a:avLst/>
              <a:gdLst/>
              <a:ahLst/>
              <a:rect l="l" t="t" r="r" b="b"/>
              <a:pathLst>
                <a:path w="1196" h="1323">
                  <a:moveTo>
                    <a:pt x="1169" y="1259"/>
                  </a:moveTo>
                  <a:lnTo>
                    <a:pt x="1169" y="1259"/>
                  </a:lnTo>
                  <a:lnTo>
                    <a:pt x="1130" y="1241"/>
                  </a:lnTo>
                  <a:lnTo>
                    <a:pt x="1130" y="1184"/>
                  </a:lnTo>
                  <a:lnTo>
                    <a:pt x="1111" y="1133"/>
                  </a:lnTo>
                  <a:lnTo>
                    <a:pt x="1169" y="1051"/>
                  </a:lnTo>
                  <a:lnTo>
                    <a:pt x="1195" y="795"/>
                  </a:lnTo>
                  <a:lnTo>
                    <a:pt x="1085" y="687"/>
                  </a:lnTo>
                  <a:lnTo>
                    <a:pt x="1085" y="580"/>
                  </a:lnTo>
                  <a:lnTo>
                    <a:pt x="1103" y="516"/>
                  </a:lnTo>
                  <a:lnTo>
                    <a:pt x="1103" y="460"/>
                  </a:lnTo>
                  <a:lnTo>
                    <a:pt x="1078" y="460"/>
                  </a:lnTo>
                  <a:lnTo>
                    <a:pt x="1065" y="391"/>
                  </a:lnTo>
                  <a:lnTo>
                    <a:pt x="1099" y="284"/>
                  </a:lnTo>
                  <a:lnTo>
                    <a:pt x="1099" y="177"/>
                  </a:lnTo>
                  <a:lnTo>
                    <a:pt x="987" y="158"/>
                  </a:lnTo>
                  <a:lnTo>
                    <a:pt x="943" y="52"/>
                  </a:lnTo>
                  <a:lnTo>
                    <a:pt x="833" y="52"/>
                  </a:lnTo>
                  <a:lnTo>
                    <a:pt x="723" y="31"/>
                  </a:lnTo>
                  <a:lnTo>
                    <a:pt x="613" y="71"/>
                  </a:lnTo>
                  <a:lnTo>
                    <a:pt x="407" y="52"/>
                  </a:lnTo>
                  <a:lnTo>
                    <a:pt x="355" y="57"/>
                  </a:lnTo>
                  <a:lnTo>
                    <a:pt x="336" y="0"/>
                  </a:lnTo>
                  <a:lnTo>
                    <a:pt x="221" y="0"/>
                  </a:lnTo>
                  <a:lnTo>
                    <a:pt x="109" y="63"/>
                  </a:lnTo>
                  <a:lnTo>
                    <a:pt x="0" y="76"/>
                  </a:lnTo>
                  <a:lnTo>
                    <a:pt x="5" y="71"/>
                  </a:lnTo>
                  <a:lnTo>
                    <a:pt x="12" y="130"/>
                  </a:lnTo>
                  <a:lnTo>
                    <a:pt x="15" y="144"/>
                  </a:lnTo>
                  <a:lnTo>
                    <a:pt x="18" y="165"/>
                  </a:lnTo>
                  <a:lnTo>
                    <a:pt x="22" y="191"/>
                  </a:lnTo>
                  <a:lnTo>
                    <a:pt x="27" y="220"/>
                  </a:lnTo>
                  <a:lnTo>
                    <a:pt x="33" y="251"/>
                  </a:lnTo>
                  <a:lnTo>
                    <a:pt x="40" y="286"/>
                  </a:lnTo>
                  <a:lnTo>
                    <a:pt x="45" y="318"/>
                  </a:lnTo>
                  <a:lnTo>
                    <a:pt x="55" y="347"/>
                  </a:lnTo>
                  <a:lnTo>
                    <a:pt x="63" y="379"/>
                  </a:lnTo>
                  <a:lnTo>
                    <a:pt x="69" y="412"/>
                  </a:lnTo>
                  <a:lnTo>
                    <a:pt x="79" y="445"/>
                  </a:lnTo>
                  <a:lnTo>
                    <a:pt x="89" y="480"/>
                  </a:lnTo>
                  <a:lnTo>
                    <a:pt x="98" y="513"/>
                  </a:lnTo>
                  <a:lnTo>
                    <a:pt x="106" y="541"/>
                  </a:lnTo>
                  <a:lnTo>
                    <a:pt x="115" y="566"/>
                  </a:lnTo>
                  <a:lnTo>
                    <a:pt x="122" y="584"/>
                  </a:lnTo>
                  <a:lnTo>
                    <a:pt x="129" y="601"/>
                  </a:lnTo>
                  <a:lnTo>
                    <a:pt x="138" y="622"/>
                  </a:lnTo>
                  <a:lnTo>
                    <a:pt x="147" y="645"/>
                  </a:lnTo>
                  <a:lnTo>
                    <a:pt x="158" y="669"/>
                  </a:lnTo>
                  <a:lnTo>
                    <a:pt x="169" y="696"/>
                  </a:lnTo>
                  <a:lnTo>
                    <a:pt x="180" y="722"/>
                  </a:lnTo>
                  <a:lnTo>
                    <a:pt x="189" y="746"/>
                  </a:lnTo>
                  <a:lnTo>
                    <a:pt x="199" y="766"/>
                  </a:lnTo>
                  <a:lnTo>
                    <a:pt x="208" y="786"/>
                  </a:lnTo>
                  <a:lnTo>
                    <a:pt x="219" y="811"/>
                  </a:lnTo>
                  <a:lnTo>
                    <a:pt x="229" y="834"/>
                  </a:lnTo>
                  <a:lnTo>
                    <a:pt x="241" y="858"/>
                  </a:lnTo>
                  <a:lnTo>
                    <a:pt x="252" y="882"/>
                  </a:lnTo>
                  <a:lnTo>
                    <a:pt x="262" y="904"/>
                  </a:lnTo>
                  <a:lnTo>
                    <a:pt x="269" y="922"/>
                  </a:lnTo>
                  <a:lnTo>
                    <a:pt x="277" y="936"/>
                  </a:lnTo>
                  <a:lnTo>
                    <a:pt x="285" y="950"/>
                  </a:lnTo>
                  <a:lnTo>
                    <a:pt x="294" y="966"/>
                  </a:lnTo>
                  <a:lnTo>
                    <a:pt x="304" y="983"/>
                  </a:lnTo>
                  <a:lnTo>
                    <a:pt x="314" y="1002"/>
                  </a:lnTo>
                  <a:lnTo>
                    <a:pt x="329" y="1021"/>
                  </a:lnTo>
                  <a:lnTo>
                    <a:pt x="341" y="1040"/>
                  </a:lnTo>
                  <a:lnTo>
                    <a:pt x="352" y="1055"/>
                  </a:lnTo>
                  <a:lnTo>
                    <a:pt x="364" y="1068"/>
                  </a:lnTo>
                  <a:lnTo>
                    <a:pt x="376" y="1083"/>
                  </a:lnTo>
                  <a:lnTo>
                    <a:pt x="389" y="1097"/>
                  </a:lnTo>
                  <a:lnTo>
                    <a:pt x="403" y="1112"/>
                  </a:lnTo>
                  <a:lnTo>
                    <a:pt x="420" y="1126"/>
                  </a:lnTo>
                  <a:lnTo>
                    <a:pt x="434" y="1141"/>
                  </a:lnTo>
                  <a:lnTo>
                    <a:pt x="449" y="1155"/>
                  </a:lnTo>
                  <a:lnTo>
                    <a:pt x="462" y="1167"/>
                  </a:lnTo>
                  <a:lnTo>
                    <a:pt x="473" y="1176"/>
                  </a:lnTo>
                  <a:lnTo>
                    <a:pt x="496" y="1192"/>
                  </a:lnTo>
                  <a:lnTo>
                    <a:pt x="518" y="1206"/>
                  </a:lnTo>
                  <a:lnTo>
                    <a:pt x="536" y="1221"/>
                  </a:lnTo>
                  <a:lnTo>
                    <a:pt x="548" y="1230"/>
                  </a:lnTo>
                  <a:lnTo>
                    <a:pt x="558" y="1235"/>
                  </a:lnTo>
                  <a:lnTo>
                    <a:pt x="575" y="1243"/>
                  </a:lnTo>
                  <a:lnTo>
                    <a:pt x="593" y="1252"/>
                  </a:lnTo>
                  <a:lnTo>
                    <a:pt x="611" y="1257"/>
                  </a:lnTo>
                  <a:lnTo>
                    <a:pt x="619" y="1260"/>
                  </a:lnTo>
                  <a:lnTo>
                    <a:pt x="631" y="1264"/>
                  </a:lnTo>
                  <a:lnTo>
                    <a:pt x="643" y="1269"/>
                  </a:lnTo>
                  <a:lnTo>
                    <a:pt x="658" y="1274"/>
                  </a:lnTo>
                  <a:lnTo>
                    <a:pt x="674" y="1277"/>
                  </a:lnTo>
                  <a:lnTo>
                    <a:pt x="689" y="1282"/>
                  </a:lnTo>
                  <a:lnTo>
                    <a:pt x="703" y="1285"/>
                  </a:lnTo>
                  <a:lnTo>
                    <a:pt x="716" y="1289"/>
                  </a:lnTo>
                  <a:lnTo>
                    <a:pt x="744" y="1295"/>
                  </a:lnTo>
                  <a:lnTo>
                    <a:pt x="778" y="1302"/>
                  </a:lnTo>
                  <a:lnTo>
                    <a:pt x="810" y="1309"/>
                  </a:lnTo>
                  <a:lnTo>
                    <a:pt x="836" y="1311"/>
                  </a:lnTo>
                  <a:lnTo>
                    <a:pt x="862" y="1314"/>
                  </a:lnTo>
                  <a:lnTo>
                    <a:pt x="894" y="1317"/>
                  </a:lnTo>
                  <a:lnTo>
                    <a:pt x="929" y="1319"/>
                  </a:lnTo>
                  <a:lnTo>
                    <a:pt x="959" y="1319"/>
                  </a:lnTo>
                  <a:lnTo>
                    <a:pt x="987" y="1321"/>
                  </a:lnTo>
                  <a:lnTo>
                    <a:pt x="1022" y="1322"/>
                  </a:lnTo>
                  <a:lnTo>
                    <a:pt x="1054" y="1322"/>
                  </a:lnTo>
                  <a:lnTo>
                    <a:pt x="1137" y="1322"/>
                  </a:lnTo>
                  <a:lnTo>
                    <a:pt x="1169" y="1259"/>
                  </a:lnTo>
                </a:path>
              </a:pathLst>
            </a:custGeom>
            <a:gradFill rotWithShape="0">
              <a:gsLst>
                <a:gs pos="0">
                  <a:srgbClr val="ffffc2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409760" y="2581200"/>
            <a:ext cx="193680" cy="10238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08120" y="2536920"/>
            <a:ext cx="4051440" cy="511200"/>
          </a:xfrm>
          <a:custGeom>
            <a:avLst/>
            <a:gdLst/>
            <a:ahLst/>
            <a:rect l="l" t="t" r="r" b="b"/>
            <a:pathLst>
              <a:path w="2552" h="322">
                <a:moveTo>
                  <a:pt x="2551" y="321"/>
                </a:moveTo>
                <a:lnTo>
                  <a:pt x="2399" y="250"/>
                </a:lnTo>
                <a:lnTo>
                  <a:pt x="2246" y="186"/>
                </a:lnTo>
                <a:lnTo>
                  <a:pt x="2088" y="131"/>
                </a:lnTo>
                <a:lnTo>
                  <a:pt x="1929" y="86"/>
                </a:lnTo>
                <a:lnTo>
                  <a:pt x="1769" y="52"/>
                </a:lnTo>
                <a:lnTo>
                  <a:pt x="1607" y="26"/>
                </a:lnTo>
                <a:lnTo>
                  <a:pt x="1443" y="8"/>
                </a:lnTo>
                <a:lnTo>
                  <a:pt x="1281" y="0"/>
                </a:lnTo>
                <a:lnTo>
                  <a:pt x="1116" y="2"/>
                </a:lnTo>
                <a:lnTo>
                  <a:pt x="952" y="12"/>
                </a:lnTo>
                <a:lnTo>
                  <a:pt x="791" y="33"/>
                </a:lnTo>
                <a:lnTo>
                  <a:pt x="629" y="62"/>
                </a:lnTo>
                <a:lnTo>
                  <a:pt x="468" y="101"/>
                </a:lnTo>
                <a:lnTo>
                  <a:pt x="310" y="148"/>
                </a:lnTo>
                <a:lnTo>
                  <a:pt x="154" y="206"/>
                </a:lnTo>
                <a:lnTo>
                  <a:pt x="0" y="271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833800" y="3129120"/>
            <a:ext cx="1404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96960" y="3267000"/>
            <a:ext cx="406440" cy="10764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16120" y="3220920"/>
            <a:ext cx="4052880" cy="511200"/>
          </a:xfrm>
          <a:custGeom>
            <a:avLst/>
            <a:gdLst/>
            <a:ahLst/>
            <a:rect l="l" t="t" r="r" b="b"/>
            <a:pathLst>
              <a:path w="2553" h="322">
                <a:moveTo>
                  <a:pt x="2552" y="321"/>
                </a:moveTo>
                <a:lnTo>
                  <a:pt x="2400" y="249"/>
                </a:lnTo>
                <a:lnTo>
                  <a:pt x="2247" y="186"/>
                </a:lnTo>
                <a:lnTo>
                  <a:pt x="2089" y="132"/>
                </a:lnTo>
                <a:lnTo>
                  <a:pt x="1930" y="87"/>
                </a:lnTo>
                <a:lnTo>
                  <a:pt x="1769" y="53"/>
                </a:lnTo>
                <a:lnTo>
                  <a:pt x="1607" y="26"/>
                </a:lnTo>
                <a:lnTo>
                  <a:pt x="1444" y="9"/>
                </a:lnTo>
                <a:lnTo>
                  <a:pt x="1281" y="0"/>
                </a:lnTo>
                <a:lnTo>
                  <a:pt x="1116" y="2"/>
                </a:lnTo>
                <a:lnTo>
                  <a:pt x="954" y="13"/>
                </a:lnTo>
                <a:lnTo>
                  <a:pt x="790" y="33"/>
                </a:lnTo>
                <a:lnTo>
                  <a:pt x="629" y="62"/>
                </a:lnTo>
                <a:lnTo>
                  <a:pt x="468" y="101"/>
                </a:lnTo>
                <a:lnTo>
                  <a:pt x="310" y="149"/>
                </a:lnTo>
                <a:lnTo>
                  <a:pt x="154" y="205"/>
                </a:lnTo>
                <a:lnTo>
                  <a:pt x="0" y="271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941800" y="3813120"/>
            <a:ext cx="126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665600" y="1905120"/>
            <a:ext cx="4478400" cy="3730680"/>
            <a:chOff x="4665600" y="1905120"/>
            <a:chExt cx="4478400" cy="3730680"/>
          </a:xfrm>
        </p:grpSpPr>
        <p:sp>
          <p:nvSpPr>
            <p:cNvPr id="283" name=""/>
            <p:cNvSpPr/>
            <p:nvPr/>
          </p:nvSpPr>
          <p:spPr>
            <a:xfrm flipV="1">
              <a:off x="4803840" y="2359080"/>
              <a:ext cx="0" cy="316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24360" y="5521320"/>
              <a:ext cx="3875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65600" y="1905120"/>
              <a:ext cx="4399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858160" y="533880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600200" y="2536920"/>
            <a:ext cx="4051440" cy="511200"/>
          </a:xfrm>
          <a:custGeom>
            <a:avLst/>
            <a:gdLst/>
            <a:ahLst/>
            <a:rect l="l" t="t" r="r" b="b"/>
            <a:pathLst>
              <a:path w="2552" h="322">
                <a:moveTo>
                  <a:pt x="2551" y="321"/>
                </a:moveTo>
                <a:lnTo>
                  <a:pt x="2399" y="250"/>
                </a:lnTo>
                <a:lnTo>
                  <a:pt x="2246" y="186"/>
                </a:lnTo>
                <a:lnTo>
                  <a:pt x="2088" y="131"/>
                </a:lnTo>
                <a:lnTo>
                  <a:pt x="1929" y="86"/>
                </a:lnTo>
                <a:lnTo>
                  <a:pt x="1769" y="52"/>
                </a:lnTo>
                <a:lnTo>
                  <a:pt x="1607" y="26"/>
                </a:lnTo>
                <a:lnTo>
                  <a:pt x="1443" y="8"/>
                </a:lnTo>
                <a:lnTo>
                  <a:pt x="1281" y="0"/>
                </a:lnTo>
                <a:lnTo>
                  <a:pt x="1116" y="2"/>
                </a:lnTo>
                <a:lnTo>
                  <a:pt x="952" y="12"/>
                </a:lnTo>
                <a:lnTo>
                  <a:pt x="791" y="33"/>
                </a:lnTo>
                <a:lnTo>
                  <a:pt x="629" y="62"/>
                </a:lnTo>
                <a:lnTo>
                  <a:pt x="468" y="101"/>
                </a:lnTo>
                <a:lnTo>
                  <a:pt x="310" y="148"/>
                </a:lnTo>
                <a:lnTo>
                  <a:pt x="154" y="206"/>
                </a:lnTo>
                <a:lnTo>
                  <a:pt x="0" y="271"/>
                </a:lnTo>
              </a:path>
            </a:pathLst>
          </a:custGeom>
          <a:noFill/>
          <a:ln cap="rnd" w="25560">
            <a:solidFill>
              <a:srgbClr val="c0c0c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06520" y="2597040"/>
            <a:ext cx="193680" cy="1024200"/>
          </a:xfrm>
          <a:prstGeom prst="line">
            <a:avLst/>
          </a:prstGeom>
          <a:ln w="25560">
            <a:solidFill>
              <a:srgbClr val="418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28600"/>
            <a:ext cx="84582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Empezamos con un valor arbitrario de </a:t>
            </a: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4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04920"/>
            <a:ext cx="882324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04920"/>
            <a:ext cx="8823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Lo hacemos nuevamente para un menor valor de </a:t>
            </a: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4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96960" y="3267000"/>
            <a:ext cx="406440" cy="1076400"/>
          </a:xfrm>
          <a:prstGeom prst="line">
            <a:avLst/>
          </a:prstGeom>
          <a:ln w="25560">
            <a:solidFill>
              <a:srgbClr val="418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16120" y="3220920"/>
            <a:ext cx="4052880" cy="511200"/>
          </a:xfrm>
          <a:custGeom>
            <a:avLst/>
            <a:gdLst/>
            <a:ahLst/>
            <a:rect l="l" t="t" r="r" b="b"/>
            <a:pathLst>
              <a:path w="2553" h="322">
                <a:moveTo>
                  <a:pt x="2552" y="321"/>
                </a:moveTo>
                <a:lnTo>
                  <a:pt x="2400" y="249"/>
                </a:lnTo>
                <a:lnTo>
                  <a:pt x="2247" y="186"/>
                </a:lnTo>
                <a:lnTo>
                  <a:pt x="2089" y="132"/>
                </a:lnTo>
                <a:lnTo>
                  <a:pt x="1930" y="87"/>
                </a:lnTo>
                <a:lnTo>
                  <a:pt x="1769" y="53"/>
                </a:lnTo>
                <a:lnTo>
                  <a:pt x="1607" y="26"/>
                </a:lnTo>
                <a:lnTo>
                  <a:pt x="1444" y="9"/>
                </a:lnTo>
                <a:lnTo>
                  <a:pt x="1281" y="0"/>
                </a:lnTo>
                <a:lnTo>
                  <a:pt x="1116" y="2"/>
                </a:lnTo>
                <a:lnTo>
                  <a:pt x="954" y="13"/>
                </a:lnTo>
                <a:lnTo>
                  <a:pt x="790" y="33"/>
                </a:lnTo>
                <a:lnTo>
                  <a:pt x="629" y="62"/>
                </a:lnTo>
                <a:lnTo>
                  <a:pt x="468" y="101"/>
                </a:lnTo>
                <a:lnTo>
                  <a:pt x="310" y="149"/>
                </a:lnTo>
                <a:lnTo>
                  <a:pt x="154" y="205"/>
                </a:lnTo>
                <a:lnTo>
                  <a:pt x="0" y="271"/>
                </a:lnTo>
              </a:path>
            </a:pathLst>
          </a:custGeom>
          <a:noFill/>
          <a:ln cap="rnd" w="25560">
            <a:solidFill>
              <a:srgbClr val="c0c0c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03520" y="3862440"/>
            <a:ext cx="725400" cy="9205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89080" y="4267080"/>
            <a:ext cx="4021200" cy="513000"/>
          </a:xfrm>
          <a:custGeom>
            <a:avLst/>
            <a:gdLst/>
            <a:ahLst/>
            <a:rect l="l" t="t" r="r" b="b"/>
            <a:pathLst>
              <a:path w="2533" h="323">
                <a:moveTo>
                  <a:pt x="0" y="0"/>
                </a:moveTo>
                <a:lnTo>
                  <a:pt x="149" y="70"/>
                </a:lnTo>
                <a:lnTo>
                  <a:pt x="302" y="130"/>
                </a:lnTo>
                <a:lnTo>
                  <a:pt x="456" y="182"/>
                </a:lnTo>
                <a:lnTo>
                  <a:pt x="614" y="225"/>
                </a:lnTo>
                <a:lnTo>
                  <a:pt x="772" y="261"/>
                </a:lnTo>
                <a:lnTo>
                  <a:pt x="932" y="289"/>
                </a:lnTo>
                <a:lnTo>
                  <a:pt x="1093" y="308"/>
                </a:lnTo>
                <a:lnTo>
                  <a:pt x="1255" y="319"/>
                </a:lnTo>
                <a:lnTo>
                  <a:pt x="1417" y="322"/>
                </a:lnTo>
                <a:lnTo>
                  <a:pt x="1578" y="316"/>
                </a:lnTo>
                <a:lnTo>
                  <a:pt x="1739" y="303"/>
                </a:lnTo>
                <a:lnTo>
                  <a:pt x="1900" y="280"/>
                </a:lnTo>
                <a:lnTo>
                  <a:pt x="2059" y="250"/>
                </a:lnTo>
                <a:lnTo>
                  <a:pt x="2218" y="210"/>
                </a:lnTo>
                <a:lnTo>
                  <a:pt x="2377" y="164"/>
                </a:lnTo>
                <a:lnTo>
                  <a:pt x="2532" y="107"/>
                </a:lnTo>
              </a:path>
            </a:pathLst>
          </a:custGeom>
          <a:noFill/>
          <a:ln cap="rnd" w="25560">
            <a:solidFill>
              <a:srgbClr val="00008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186240" y="4361040"/>
            <a:ext cx="126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y de nuevo para obtener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457200"/>
            <a:ext cx="8381880" cy="12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457200"/>
            <a:ext cx="83818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 curva de demanda condicionad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54680" y="3087720"/>
            <a:ext cx="863640" cy="2020680"/>
          </a:xfrm>
          <a:custGeom>
            <a:avLst/>
            <a:gdLst/>
            <a:ahLst/>
            <a:rect l="l" t="t" r="r" b="b"/>
            <a:pathLst>
              <a:path w="544" h="1273">
                <a:moveTo>
                  <a:pt x="0" y="0"/>
                </a:moveTo>
                <a:lnTo>
                  <a:pt x="1" y="23"/>
                </a:lnTo>
                <a:lnTo>
                  <a:pt x="3" y="41"/>
                </a:lnTo>
                <a:lnTo>
                  <a:pt x="4" y="56"/>
                </a:lnTo>
                <a:lnTo>
                  <a:pt x="5" y="67"/>
                </a:lnTo>
                <a:lnTo>
                  <a:pt x="5" y="76"/>
                </a:lnTo>
                <a:lnTo>
                  <a:pt x="6" y="82"/>
                </a:lnTo>
                <a:lnTo>
                  <a:pt x="6" y="87"/>
                </a:lnTo>
                <a:lnTo>
                  <a:pt x="8" y="90"/>
                </a:lnTo>
                <a:lnTo>
                  <a:pt x="8" y="93"/>
                </a:lnTo>
                <a:lnTo>
                  <a:pt x="8" y="95"/>
                </a:lnTo>
                <a:lnTo>
                  <a:pt x="8" y="99"/>
                </a:lnTo>
                <a:lnTo>
                  <a:pt x="9" y="101"/>
                </a:lnTo>
                <a:lnTo>
                  <a:pt x="9" y="106"/>
                </a:lnTo>
                <a:lnTo>
                  <a:pt x="10" y="111"/>
                </a:lnTo>
                <a:lnTo>
                  <a:pt x="11" y="120"/>
                </a:lnTo>
                <a:lnTo>
                  <a:pt x="13" y="130"/>
                </a:lnTo>
                <a:lnTo>
                  <a:pt x="13" y="144"/>
                </a:lnTo>
                <a:lnTo>
                  <a:pt x="15" y="157"/>
                </a:lnTo>
                <a:lnTo>
                  <a:pt x="16" y="173"/>
                </a:lnTo>
                <a:lnTo>
                  <a:pt x="18" y="189"/>
                </a:lnTo>
                <a:lnTo>
                  <a:pt x="20" y="207"/>
                </a:lnTo>
                <a:lnTo>
                  <a:pt x="24" y="223"/>
                </a:lnTo>
                <a:lnTo>
                  <a:pt x="26" y="242"/>
                </a:lnTo>
                <a:lnTo>
                  <a:pt x="30" y="260"/>
                </a:lnTo>
                <a:lnTo>
                  <a:pt x="33" y="277"/>
                </a:lnTo>
                <a:lnTo>
                  <a:pt x="36" y="296"/>
                </a:lnTo>
                <a:lnTo>
                  <a:pt x="40" y="314"/>
                </a:lnTo>
                <a:lnTo>
                  <a:pt x="43" y="330"/>
                </a:lnTo>
                <a:lnTo>
                  <a:pt x="46" y="347"/>
                </a:lnTo>
                <a:lnTo>
                  <a:pt x="50" y="362"/>
                </a:lnTo>
                <a:lnTo>
                  <a:pt x="53" y="377"/>
                </a:lnTo>
                <a:lnTo>
                  <a:pt x="56" y="388"/>
                </a:lnTo>
                <a:lnTo>
                  <a:pt x="60" y="403"/>
                </a:lnTo>
                <a:lnTo>
                  <a:pt x="64" y="417"/>
                </a:lnTo>
                <a:lnTo>
                  <a:pt x="68" y="433"/>
                </a:lnTo>
                <a:lnTo>
                  <a:pt x="73" y="448"/>
                </a:lnTo>
                <a:lnTo>
                  <a:pt x="78" y="466"/>
                </a:lnTo>
                <a:lnTo>
                  <a:pt x="84" y="483"/>
                </a:lnTo>
                <a:lnTo>
                  <a:pt x="91" y="501"/>
                </a:lnTo>
                <a:lnTo>
                  <a:pt x="97" y="519"/>
                </a:lnTo>
                <a:lnTo>
                  <a:pt x="104" y="539"/>
                </a:lnTo>
                <a:lnTo>
                  <a:pt x="111" y="557"/>
                </a:lnTo>
                <a:lnTo>
                  <a:pt x="117" y="575"/>
                </a:lnTo>
                <a:lnTo>
                  <a:pt x="124" y="592"/>
                </a:lnTo>
                <a:lnTo>
                  <a:pt x="130" y="609"/>
                </a:lnTo>
                <a:lnTo>
                  <a:pt x="136" y="625"/>
                </a:lnTo>
                <a:lnTo>
                  <a:pt x="143" y="639"/>
                </a:lnTo>
                <a:lnTo>
                  <a:pt x="150" y="652"/>
                </a:lnTo>
                <a:lnTo>
                  <a:pt x="155" y="666"/>
                </a:lnTo>
                <a:lnTo>
                  <a:pt x="162" y="682"/>
                </a:lnTo>
                <a:lnTo>
                  <a:pt x="170" y="699"/>
                </a:lnTo>
                <a:lnTo>
                  <a:pt x="179" y="717"/>
                </a:lnTo>
                <a:lnTo>
                  <a:pt x="188" y="737"/>
                </a:lnTo>
                <a:lnTo>
                  <a:pt x="198" y="757"/>
                </a:lnTo>
                <a:lnTo>
                  <a:pt x="209" y="779"/>
                </a:lnTo>
                <a:lnTo>
                  <a:pt x="221" y="799"/>
                </a:lnTo>
                <a:lnTo>
                  <a:pt x="231" y="823"/>
                </a:lnTo>
                <a:lnTo>
                  <a:pt x="242" y="844"/>
                </a:lnTo>
                <a:lnTo>
                  <a:pt x="252" y="865"/>
                </a:lnTo>
                <a:lnTo>
                  <a:pt x="263" y="886"/>
                </a:lnTo>
                <a:lnTo>
                  <a:pt x="273" y="908"/>
                </a:lnTo>
                <a:lnTo>
                  <a:pt x="284" y="927"/>
                </a:lnTo>
                <a:lnTo>
                  <a:pt x="293" y="945"/>
                </a:lnTo>
                <a:lnTo>
                  <a:pt x="303" y="962"/>
                </a:lnTo>
                <a:lnTo>
                  <a:pt x="312" y="980"/>
                </a:lnTo>
                <a:lnTo>
                  <a:pt x="321" y="997"/>
                </a:lnTo>
                <a:lnTo>
                  <a:pt x="332" y="1015"/>
                </a:lnTo>
                <a:lnTo>
                  <a:pt x="343" y="1033"/>
                </a:lnTo>
                <a:lnTo>
                  <a:pt x="354" y="1051"/>
                </a:lnTo>
                <a:lnTo>
                  <a:pt x="367" y="1070"/>
                </a:lnTo>
                <a:lnTo>
                  <a:pt x="379" y="1088"/>
                </a:lnTo>
                <a:lnTo>
                  <a:pt x="391" y="1104"/>
                </a:lnTo>
                <a:lnTo>
                  <a:pt x="401" y="1121"/>
                </a:lnTo>
                <a:lnTo>
                  <a:pt x="412" y="1137"/>
                </a:lnTo>
                <a:lnTo>
                  <a:pt x="423" y="1153"/>
                </a:lnTo>
                <a:lnTo>
                  <a:pt x="434" y="1166"/>
                </a:lnTo>
                <a:lnTo>
                  <a:pt x="443" y="1179"/>
                </a:lnTo>
                <a:lnTo>
                  <a:pt x="453" y="1190"/>
                </a:lnTo>
                <a:lnTo>
                  <a:pt x="461" y="1199"/>
                </a:lnTo>
                <a:lnTo>
                  <a:pt x="470" y="1206"/>
                </a:lnTo>
                <a:lnTo>
                  <a:pt x="476" y="1212"/>
                </a:lnTo>
                <a:lnTo>
                  <a:pt x="480" y="1217"/>
                </a:lnTo>
                <a:lnTo>
                  <a:pt x="483" y="1220"/>
                </a:lnTo>
                <a:lnTo>
                  <a:pt x="486" y="1221"/>
                </a:lnTo>
                <a:lnTo>
                  <a:pt x="487" y="1223"/>
                </a:lnTo>
                <a:lnTo>
                  <a:pt x="489" y="1224"/>
                </a:lnTo>
                <a:lnTo>
                  <a:pt x="490" y="1226"/>
                </a:lnTo>
                <a:lnTo>
                  <a:pt x="492" y="1227"/>
                </a:lnTo>
                <a:lnTo>
                  <a:pt x="494" y="1230"/>
                </a:lnTo>
                <a:lnTo>
                  <a:pt x="496" y="1232"/>
                </a:lnTo>
                <a:lnTo>
                  <a:pt x="499" y="1236"/>
                </a:lnTo>
                <a:lnTo>
                  <a:pt x="505" y="1239"/>
                </a:lnTo>
                <a:lnTo>
                  <a:pt x="511" y="1246"/>
                </a:lnTo>
                <a:lnTo>
                  <a:pt x="519" y="1253"/>
                </a:lnTo>
                <a:lnTo>
                  <a:pt x="529" y="1262"/>
                </a:lnTo>
                <a:lnTo>
                  <a:pt x="543" y="1272"/>
                </a:lnTo>
              </a:path>
            </a:pathLst>
          </a:custGeom>
          <a:noFill/>
          <a:ln cap="rnd" w="25560">
            <a:solidFill>
              <a:srgbClr val="8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12880" y="3892680"/>
            <a:ext cx="725400" cy="920520"/>
          </a:xfrm>
          <a:prstGeom prst="line">
            <a:avLst/>
          </a:prstGeom>
          <a:ln w="25560">
            <a:solidFill>
              <a:srgbClr val="418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87640" y="4267080"/>
            <a:ext cx="4021200" cy="513000"/>
          </a:xfrm>
          <a:custGeom>
            <a:avLst/>
            <a:gdLst/>
            <a:ahLst/>
            <a:rect l="l" t="t" r="r" b="b"/>
            <a:pathLst>
              <a:path w="2533" h="323">
                <a:moveTo>
                  <a:pt x="0" y="0"/>
                </a:moveTo>
                <a:lnTo>
                  <a:pt x="149" y="70"/>
                </a:lnTo>
                <a:lnTo>
                  <a:pt x="302" y="130"/>
                </a:lnTo>
                <a:lnTo>
                  <a:pt x="456" y="182"/>
                </a:lnTo>
                <a:lnTo>
                  <a:pt x="614" y="225"/>
                </a:lnTo>
                <a:lnTo>
                  <a:pt x="772" y="261"/>
                </a:lnTo>
                <a:lnTo>
                  <a:pt x="932" y="289"/>
                </a:lnTo>
                <a:lnTo>
                  <a:pt x="1093" y="308"/>
                </a:lnTo>
                <a:lnTo>
                  <a:pt x="1255" y="319"/>
                </a:lnTo>
                <a:lnTo>
                  <a:pt x="1417" y="322"/>
                </a:lnTo>
                <a:lnTo>
                  <a:pt x="1578" y="316"/>
                </a:lnTo>
                <a:lnTo>
                  <a:pt x="1739" y="303"/>
                </a:lnTo>
                <a:lnTo>
                  <a:pt x="1900" y="280"/>
                </a:lnTo>
                <a:lnTo>
                  <a:pt x="2059" y="250"/>
                </a:lnTo>
                <a:lnTo>
                  <a:pt x="2218" y="210"/>
                </a:lnTo>
                <a:lnTo>
                  <a:pt x="2377" y="164"/>
                </a:lnTo>
                <a:lnTo>
                  <a:pt x="2532" y="107"/>
                </a:lnTo>
              </a:path>
            </a:pathLst>
          </a:custGeom>
          <a:noFill/>
          <a:ln cap="rnd" w="25560">
            <a:solidFill>
              <a:srgbClr val="c0c0c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21600" y="3197160"/>
            <a:ext cx="2303280" cy="862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52920" y="3216240"/>
            <a:ext cx="22402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04280" y="609120"/>
            <a:ext cx="859500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ntos para resalt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1596960"/>
            <a:ext cx="914400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1779480"/>
            <a:ext cx="8610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c2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n el caso “convencional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266400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c2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... el conjunto de restricción es convexo, con límite ( o frontera) su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4124160"/>
            <a:ext cx="883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c2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ncontramos que la solución es una función continu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920" y="5334120"/>
            <a:ext cx="8839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c2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66"/>
                </a:solidFill>
                <a:latin typeface="Times New Roman"/>
              </a:rPr>
              <a:t>...es univalu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550800" y="0"/>
            <a:ext cx="859320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El resultado depende de la forma de  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08880" y="3476520"/>
            <a:ext cx="1620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23000" y="3602160"/>
            <a:ext cx="1303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73720" y="792000"/>
            <a:ext cx="16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89640" y="919080"/>
            <a:ext cx="1299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72000" y="1036800"/>
            <a:ext cx="0" cy="2560320"/>
          </a:xfrm>
          <a:prstGeom prst="line">
            <a:avLst/>
          </a:prstGeom>
          <a:ln w="25560">
            <a:solidFill>
              <a:srgbClr val="8f8f8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8480" y="3600360"/>
            <a:ext cx="2879640" cy="0"/>
          </a:xfrm>
          <a:prstGeom prst="line">
            <a:avLst/>
          </a:prstGeom>
          <a:ln w="25560">
            <a:solidFill>
              <a:srgbClr val="8f8f8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07000" y="1092240"/>
            <a:ext cx="2554200" cy="2322360"/>
          </a:xfrm>
          <a:custGeom>
            <a:avLst/>
            <a:gdLst/>
            <a:ahLst/>
            <a:rect l="l" t="t" r="r" b="b"/>
            <a:pathLst>
              <a:path w="1609" h="1463">
                <a:moveTo>
                  <a:pt x="0" y="0"/>
                </a:moveTo>
                <a:lnTo>
                  <a:pt x="0" y="9"/>
                </a:lnTo>
                <a:lnTo>
                  <a:pt x="0" y="15"/>
                </a:lnTo>
                <a:lnTo>
                  <a:pt x="0" y="20"/>
                </a:lnTo>
                <a:lnTo>
                  <a:pt x="1" y="24"/>
                </a:lnTo>
                <a:lnTo>
                  <a:pt x="1" y="27"/>
                </a:lnTo>
                <a:lnTo>
                  <a:pt x="1" y="30"/>
                </a:lnTo>
                <a:lnTo>
                  <a:pt x="1" y="32"/>
                </a:lnTo>
                <a:lnTo>
                  <a:pt x="1" y="34"/>
                </a:lnTo>
                <a:lnTo>
                  <a:pt x="1" y="35"/>
                </a:lnTo>
                <a:lnTo>
                  <a:pt x="1" y="36"/>
                </a:lnTo>
                <a:lnTo>
                  <a:pt x="1" y="39"/>
                </a:lnTo>
                <a:lnTo>
                  <a:pt x="1" y="41"/>
                </a:lnTo>
                <a:lnTo>
                  <a:pt x="1" y="43"/>
                </a:lnTo>
                <a:lnTo>
                  <a:pt x="2" y="46"/>
                </a:lnTo>
                <a:lnTo>
                  <a:pt x="2" y="51"/>
                </a:lnTo>
                <a:lnTo>
                  <a:pt x="3" y="56"/>
                </a:lnTo>
                <a:lnTo>
                  <a:pt x="3" y="64"/>
                </a:lnTo>
                <a:lnTo>
                  <a:pt x="5" y="69"/>
                </a:lnTo>
                <a:lnTo>
                  <a:pt x="5" y="76"/>
                </a:lnTo>
                <a:lnTo>
                  <a:pt x="7" y="83"/>
                </a:lnTo>
                <a:lnTo>
                  <a:pt x="9" y="89"/>
                </a:lnTo>
                <a:lnTo>
                  <a:pt x="10" y="95"/>
                </a:lnTo>
                <a:lnTo>
                  <a:pt x="12" y="103"/>
                </a:lnTo>
                <a:lnTo>
                  <a:pt x="14" y="110"/>
                </a:lnTo>
                <a:lnTo>
                  <a:pt x="15" y="116"/>
                </a:lnTo>
                <a:lnTo>
                  <a:pt x="17" y="124"/>
                </a:lnTo>
                <a:lnTo>
                  <a:pt x="19" y="130"/>
                </a:lnTo>
                <a:lnTo>
                  <a:pt x="20" y="136"/>
                </a:lnTo>
                <a:lnTo>
                  <a:pt x="22" y="141"/>
                </a:lnTo>
                <a:lnTo>
                  <a:pt x="25" y="146"/>
                </a:lnTo>
                <a:lnTo>
                  <a:pt x="31" y="154"/>
                </a:lnTo>
                <a:lnTo>
                  <a:pt x="43" y="169"/>
                </a:lnTo>
                <a:lnTo>
                  <a:pt x="60" y="189"/>
                </a:lnTo>
                <a:lnTo>
                  <a:pt x="85" y="214"/>
                </a:lnTo>
                <a:lnTo>
                  <a:pt x="113" y="245"/>
                </a:lnTo>
                <a:lnTo>
                  <a:pt x="147" y="279"/>
                </a:lnTo>
                <a:lnTo>
                  <a:pt x="186" y="318"/>
                </a:lnTo>
                <a:lnTo>
                  <a:pt x="228" y="359"/>
                </a:lnTo>
                <a:lnTo>
                  <a:pt x="273" y="404"/>
                </a:lnTo>
                <a:lnTo>
                  <a:pt x="321" y="452"/>
                </a:lnTo>
                <a:lnTo>
                  <a:pt x="373" y="502"/>
                </a:lnTo>
                <a:lnTo>
                  <a:pt x="426" y="552"/>
                </a:lnTo>
                <a:lnTo>
                  <a:pt x="479" y="606"/>
                </a:lnTo>
                <a:lnTo>
                  <a:pt x="536" y="659"/>
                </a:lnTo>
                <a:lnTo>
                  <a:pt x="593" y="712"/>
                </a:lnTo>
                <a:lnTo>
                  <a:pt x="650" y="765"/>
                </a:lnTo>
                <a:lnTo>
                  <a:pt x="708" y="819"/>
                </a:lnTo>
                <a:lnTo>
                  <a:pt x="765" y="872"/>
                </a:lnTo>
                <a:lnTo>
                  <a:pt x="823" y="926"/>
                </a:lnTo>
                <a:lnTo>
                  <a:pt x="882" y="978"/>
                </a:lnTo>
                <a:lnTo>
                  <a:pt x="939" y="1030"/>
                </a:lnTo>
                <a:lnTo>
                  <a:pt x="995" y="1079"/>
                </a:lnTo>
                <a:lnTo>
                  <a:pt x="1050" y="1127"/>
                </a:lnTo>
                <a:lnTo>
                  <a:pt x="1102" y="1171"/>
                </a:lnTo>
                <a:lnTo>
                  <a:pt x="1152" y="1214"/>
                </a:lnTo>
                <a:lnTo>
                  <a:pt x="1198" y="1253"/>
                </a:lnTo>
                <a:lnTo>
                  <a:pt x="1240" y="1287"/>
                </a:lnTo>
                <a:lnTo>
                  <a:pt x="1278" y="1317"/>
                </a:lnTo>
                <a:lnTo>
                  <a:pt x="1311" y="1342"/>
                </a:lnTo>
                <a:lnTo>
                  <a:pt x="1338" y="1362"/>
                </a:lnTo>
                <a:lnTo>
                  <a:pt x="1359" y="1377"/>
                </a:lnTo>
                <a:lnTo>
                  <a:pt x="1375" y="1384"/>
                </a:lnTo>
                <a:lnTo>
                  <a:pt x="1385" y="1391"/>
                </a:lnTo>
                <a:lnTo>
                  <a:pt x="1397" y="1395"/>
                </a:lnTo>
                <a:lnTo>
                  <a:pt x="1410" y="1400"/>
                </a:lnTo>
                <a:lnTo>
                  <a:pt x="1423" y="1405"/>
                </a:lnTo>
                <a:lnTo>
                  <a:pt x="1435" y="1410"/>
                </a:lnTo>
                <a:lnTo>
                  <a:pt x="1448" y="1415"/>
                </a:lnTo>
                <a:lnTo>
                  <a:pt x="1461" y="1420"/>
                </a:lnTo>
                <a:lnTo>
                  <a:pt x="1474" y="1424"/>
                </a:lnTo>
                <a:lnTo>
                  <a:pt x="1485" y="1429"/>
                </a:lnTo>
                <a:lnTo>
                  <a:pt x="1497" y="1433"/>
                </a:lnTo>
                <a:lnTo>
                  <a:pt x="1508" y="1437"/>
                </a:lnTo>
                <a:lnTo>
                  <a:pt x="1519" y="1440"/>
                </a:lnTo>
                <a:lnTo>
                  <a:pt x="1528" y="1444"/>
                </a:lnTo>
                <a:lnTo>
                  <a:pt x="1536" y="1446"/>
                </a:lnTo>
                <a:lnTo>
                  <a:pt x="1544" y="1449"/>
                </a:lnTo>
                <a:lnTo>
                  <a:pt x="1551" y="1450"/>
                </a:lnTo>
                <a:lnTo>
                  <a:pt x="1554" y="1452"/>
                </a:lnTo>
                <a:lnTo>
                  <a:pt x="1558" y="1452"/>
                </a:lnTo>
                <a:lnTo>
                  <a:pt x="1561" y="1453"/>
                </a:lnTo>
                <a:lnTo>
                  <a:pt x="1563" y="1453"/>
                </a:lnTo>
                <a:lnTo>
                  <a:pt x="1563" y="1454"/>
                </a:lnTo>
                <a:lnTo>
                  <a:pt x="1564" y="1454"/>
                </a:lnTo>
                <a:lnTo>
                  <a:pt x="1566" y="1454"/>
                </a:lnTo>
                <a:lnTo>
                  <a:pt x="1568" y="1454"/>
                </a:lnTo>
                <a:lnTo>
                  <a:pt x="1569" y="1456"/>
                </a:lnTo>
                <a:lnTo>
                  <a:pt x="1571" y="1456"/>
                </a:lnTo>
                <a:lnTo>
                  <a:pt x="1574" y="1456"/>
                </a:lnTo>
                <a:lnTo>
                  <a:pt x="1578" y="1456"/>
                </a:lnTo>
                <a:lnTo>
                  <a:pt x="1583" y="1458"/>
                </a:lnTo>
                <a:lnTo>
                  <a:pt x="1589" y="1459"/>
                </a:lnTo>
                <a:lnTo>
                  <a:pt x="1597" y="1460"/>
                </a:lnTo>
                <a:lnTo>
                  <a:pt x="1608" y="1462"/>
                </a:lnTo>
              </a:path>
            </a:pathLst>
          </a:custGeom>
          <a:noFill/>
          <a:ln cap="rnd" w="2556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08600" y="3489480"/>
            <a:ext cx="1616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22720" y="3614760"/>
            <a:ext cx="1303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98640" y="816120"/>
            <a:ext cx="1620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12760" y="941400"/>
            <a:ext cx="1303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092240" y="1060560"/>
            <a:ext cx="0" cy="2550960"/>
          </a:xfrm>
          <a:prstGeom prst="line">
            <a:avLst/>
          </a:prstGeom>
          <a:ln w="25560">
            <a:solidFill>
              <a:srgbClr val="8f8f8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98720" y="3614760"/>
            <a:ext cx="2860560" cy="0"/>
          </a:xfrm>
          <a:prstGeom prst="line">
            <a:avLst/>
          </a:prstGeom>
          <a:ln w="25560">
            <a:solidFill>
              <a:srgbClr val="8f8f8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59080" y="1106640"/>
            <a:ext cx="1822320" cy="1947600"/>
          </a:xfrm>
          <a:custGeom>
            <a:avLst/>
            <a:gdLst/>
            <a:ahLst/>
            <a:rect l="l" t="t" r="r" b="b"/>
            <a:pathLst>
              <a:path w="1148" h="1227">
                <a:moveTo>
                  <a:pt x="0" y="0"/>
                </a:moveTo>
                <a:lnTo>
                  <a:pt x="0" y="11"/>
                </a:lnTo>
                <a:lnTo>
                  <a:pt x="1" y="19"/>
                </a:lnTo>
                <a:lnTo>
                  <a:pt x="1" y="26"/>
                </a:lnTo>
                <a:lnTo>
                  <a:pt x="3" y="30"/>
                </a:lnTo>
                <a:lnTo>
                  <a:pt x="3" y="34"/>
                </a:lnTo>
                <a:lnTo>
                  <a:pt x="3" y="37"/>
                </a:lnTo>
                <a:lnTo>
                  <a:pt x="3" y="40"/>
                </a:lnTo>
                <a:lnTo>
                  <a:pt x="5" y="41"/>
                </a:lnTo>
                <a:lnTo>
                  <a:pt x="5" y="42"/>
                </a:lnTo>
                <a:lnTo>
                  <a:pt x="5" y="43"/>
                </a:lnTo>
                <a:lnTo>
                  <a:pt x="5" y="45"/>
                </a:lnTo>
                <a:lnTo>
                  <a:pt x="5" y="46"/>
                </a:lnTo>
                <a:lnTo>
                  <a:pt x="5" y="49"/>
                </a:lnTo>
                <a:lnTo>
                  <a:pt x="5" y="50"/>
                </a:lnTo>
                <a:lnTo>
                  <a:pt x="5" y="55"/>
                </a:lnTo>
                <a:lnTo>
                  <a:pt x="6" y="59"/>
                </a:lnTo>
                <a:lnTo>
                  <a:pt x="6" y="66"/>
                </a:lnTo>
                <a:lnTo>
                  <a:pt x="8" y="74"/>
                </a:lnTo>
                <a:lnTo>
                  <a:pt x="9" y="83"/>
                </a:lnTo>
                <a:lnTo>
                  <a:pt x="12" y="94"/>
                </a:lnTo>
                <a:lnTo>
                  <a:pt x="14" y="106"/>
                </a:lnTo>
                <a:lnTo>
                  <a:pt x="16" y="119"/>
                </a:lnTo>
                <a:lnTo>
                  <a:pt x="18" y="134"/>
                </a:lnTo>
                <a:lnTo>
                  <a:pt x="22" y="147"/>
                </a:lnTo>
                <a:lnTo>
                  <a:pt x="25" y="163"/>
                </a:lnTo>
                <a:lnTo>
                  <a:pt x="27" y="179"/>
                </a:lnTo>
                <a:lnTo>
                  <a:pt x="31" y="196"/>
                </a:lnTo>
                <a:lnTo>
                  <a:pt x="35" y="210"/>
                </a:lnTo>
                <a:lnTo>
                  <a:pt x="37" y="227"/>
                </a:lnTo>
                <a:lnTo>
                  <a:pt x="41" y="242"/>
                </a:lnTo>
                <a:lnTo>
                  <a:pt x="45" y="257"/>
                </a:lnTo>
                <a:lnTo>
                  <a:pt x="48" y="272"/>
                </a:lnTo>
                <a:lnTo>
                  <a:pt x="52" y="288"/>
                </a:lnTo>
                <a:lnTo>
                  <a:pt x="55" y="302"/>
                </a:lnTo>
                <a:lnTo>
                  <a:pt x="59" y="318"/>
                </a:lnTo>
                <a:lnTo>
                  <a:pt x="64" y="334"/>
                </a:lnTo>
                <a:lnTo>
                  <a:pt x="68" y="352"/>
                </a:lnTo>
                <a:lnTo>
                  <a:pt x="73" y="369"/>
                </a:lnTo>
                <a:lnTo>
                  <a:pt x="78" y="385"/>
                </a:lnTo>
                <a:lnTo>
                  <a:pt x="83" y="401"/>
                </a:lnTo>
                <a:lnTo>
                  <a:pt x="86" y="418"/>
                </a:lnTo>
                <a:lnTo>
                  <a:pt x="92" y="433"/>
                </a:lnTo>
                <a:lnTo>
                  <a:pt x="96" y="448"/>
                </a:lnTo>
                <a:lnTo>
                  <a:pt x="101" y="461"/>
                </a:lnTo>
                <a:lnTo>
                  <a:pt x="105" y="475"/>
                </a:lnTo>
                <a:lnTo>
                  <a:pt x="110" y="485"/>
                </a:lnTo>
                <a:lnTo>
                  <a:pt x="114" y="496"/>
                </a:lnTo>
                <a:lnTo>
                  <a:pt x="117" y="503"/>
                </a:lnTo>
                <a:lnTo>
                  <a:pt x="121" y="512"/>
                </a:lnTo>
                <a:lnTo>
                  <a:pt x="124" y="520"/>
                </a:lnTo>
                <a:lnTo>
                  <a:pt x="128" y="531"/>
                </a:lnTo>
                <a:lnTo>
                  <a:pt x="133" y="541"/>
                </a:lnTo>
                <a:lnTo>
                  <a:pt x="137" y="552"/>
                </a:lnTo>
                <a:lnTo>
                  <a:pt x="143" y="564"/>
                </a:lnTo>
                <a:lnTo>
                  <a:pt x="148" y="576"/>
                </a:lnTo>
                <a:lnTo>
                  <a:pt x="154" y="587"/>
                </a:lnTo>
                <a:lnTo>
                  <a:pt x="159" y="601"/>
                </a:lnTo>
                <a:lnTo>
                  <a:pt x="165" y="614"/>
                </a:lnTo>
                <a:lnTo>
                  <a:pt x="169" y="627"/>
                </a:lnTo>
                <a:lnTo>
                  <a:pt x="176" y="639"/>
                </a:lnTo>
                <a:lnTo>
                  <a:pt x="181" y="651"/>
                </a:lnTo>
                <a:lnTo>
                  <a:pt x="186" y="662"/>
                </a:lnTo>
                <a:lnTo>
                  <a:pt x="192" y="672"/>
                </a:lnTo>
                <a:lnTo>
                  <a:pt x="196" y="682"/>
                </a:lnTo>
                <a:lnTo>
                  <a:pt x="200" y="693"/>
                </a:lnTo>
                <a:lnTo>
                  <a:pt x="205" y="703"/>
                </a:lnTo>
                <a:lnTo>
                  <a:pt x="210" y="715"/>
                </a:lnTo>
                <a:lnTo>
                  <a:pt x="215" y="725"/>
                </a:lnTo>
                <a:lnTo>
                  <a:pt x="220" y="737"/>
                </a:lnTo>
                <a:lnTo>
                  <a:pt x="225" y="749"/>
                </a:lnTo>
                <a:lnTo>
                  <a:pt x="231" y="760"/>
                </a:lnTo>
                <a:lnTo>
                  <a:pt x="237" y="772"/>
                </a:lnTo>
                <a:lnTo>
                  <a:pt x="243" y="783"/>
                </a:lnTo>
                <a:lnTo>
                  <a:pt x="247" y="796"/>
                </a:lnTo>
                <a:lnTo>
                  <a:pt x="253" y="806"/>
                </a:lnTo>
                <a:lnTo>
                  <a:pt x="258" y="816"/>
                </a:lnTo>
                <a:lnTo>
                  <a:pt x="262" y="826"/>
                </a:lnTo>
                <a:lnTo>
                  <a:pt x="266" y="834"/>
                </a:lnTo>
                <a:lnTo>
                  <a:pt x="270" y="842"/>
                </a:lnTo>
                <a:lnTo>
                  <a:pt x="275" y="849"/>
                </a:lnTo>
                <a:lnTo>
                  <a:pt x="277" y="855"/>
                </a:lnTo>
                <a:lnTo>
                  <a:pt x="282" y="861"/>
                </a:lnTo>
                <a:lnTo>
                  <a:pt x="285" y="870"/>
                </a:lnTo>
                <a:lnTo>
                  <a:pt x="291" y="877"/>
                </a:lnTo>
                <a:lnTo>
                  <a:pt x="295" y="887"/>
                </a:lnTo>
                <a:lnTo>
                  <a:pt x="302" y="894"/>
                </a:lnTo>
                <a:lnTo>
                  <a:pt x="307" y="904"/>
                </a:lnTo>
                <a:lnTo>
                  <a:pt x="314" y="912"/>
                </a:lnTo>
                <a:lnTo>
                  <a:pt x="319" y="923"/>
                </a:lnTo>
                <a:lnTo>
                  <a:pt x="326" y="931"/>
                </a:lnTo>
                <a:lnTo>
                  <a:pt x="333" y="940"/>
                </a:lnTo>
                <a:lnTo>
                  <a:pt x="339" y="948"/>
                </a:lnTo>
                <a:lnTo>
                  <a:pt x="344" y="956"/>
                </a:lnTo>
                <a:lnTo>
                  <a:pt x="352" y="964"/>
                </a:lnTo>
                <a:lnTo>
                  <a:pt x="356" y="971"/>
                </a:lnTo>
                <a:lnTo>
                  <a:pt x="364" y="977"/>
                </a:lnTo>
                <a:lnTo>
                  <a:pt x="368" y="984"/>
                </a:lnTo>
                <a:lnTo>
                  <a:pt x="374" y="991"/>
                </a:lnTo>
                <a:lnTo>
                  <a:pt x="381" y="999"/>
                </a:lnTo>
                <a:lnTo>
                  <a:pt x="388" y="1005"/>
                </a:lnTo>
                <a:lnTo>
                  <a:pt x="395" y="1014"/>
                </a:lnTo>
                <a:lnTo>
                  <a:pt x="403" y="1020"/>
                </a:lnTo>
                <a:lnTo>
                  <a:pt x="411" y="1029"/>
                </a:lnTo>
                <a:lnTo>
                  <a:pt x="419" y="1035"/>
                </a:lnTo>
                <a:lnTo>
                  <a:pt x="426" y="1043"/>
                </a:lnTo>
                <a:lnTo>
                  <a:pt x="434" y="1050"/>
                </a:lnTo>
                <a:lnTo>
                  <a:pt x="441" y="1056"/>
                </a:lnTo>
                <a:lnTo>
                  <a:pt x="450" y="1062"/>
                </a:lnTo>
                <a:lnTo>
                  <a:pt x="456" y="1069"/>
                </a:lnTo>
                <a:lnTo>
                  <a:pt x="463" y="1074"/>
                </a:lnTo>
                <a:lnTo>
                  <a:pt x="469" y="1079"/>
                </a:lnTo>
                <a:lnTo>
                  <a:pt x="475" y="1082"/>
                </a:lnTo>
                <a:lnTo>
                  <a:pt x="481" y="1087"/>
                </a:lnTo>
                <a:lnTo>
                  <a:pt x="486" y="1090"/>
                </a:lnTo>
                <a:lnTo>
                  <a:pt x="491" y="1095"/>
                </a:lnTo>
                <a:lnTo>
                  <a:pt x="497" y="1098"/>
                </a:lnTo>
                <a:lnTo>
                  <a:pt x="503" y="1103"/>
                </a:lnTo>
                <a:lnTo>
                  <a:pt x="508" y="1106"/>
                </a:lnTo>
                <a:lnTo>
                  <a:pt x="514" y="1110"/>
                </a:lnTo>
                <a:lnTo>
                  <a:pt x="520" y="1113"/>
                </a:lnTo>
                <a:lnTo>
                  <a:pt x="524" y="1118"/>
                </a:lnTo>
                <a:lnTo>
                  <a:pt x="529" y="1121"/>
                </a:lnTo>
                <a:lnTo>
                  <a:pt x="533" y="1125"/>
                </a:lnTo>
                <a:lnTo>
                  <a:pt x="538" y="1127"/>
                </a:lnTo>
                <a:lnTo>
                  <a:pt x="542" y="1131"/>
                </a:lnTo>
                <a:lnTo>
                  <a:pt x="545" y="1133"/>
                </a:lnTo>
                <a:lnTo>
                  <a:pt x="548" y="1133"/>
                </a:lnTo>
                <a:lnTo>
                  <a:pt x="551" y="1134"/>
                </a:lnTo>
                <a:lnTo>
                  <a:pt x="553" y="1136"/>
                </a:lnTo>
                <a:lnTo>
                  <a:pt x="555" y="1138"/>
                </a:lnTo>
                <a:lnTo>
                  <a:pt x="558" y="1140"/>
                </a:lnTo>
                <a:lnTo>
                  <a:pt x="561" y="1141"/>
                </a:lnTo>
                <a:lnTo>
                  <a:pt x="564" y="1143"/>
                </a:lnTo>
                <a:lnTo>
                  <a:pt x="568" y="1145"/>
                </a:lnTo>
                <a:lnTo>
                  <a:pt x="572" y="1147"/>
                </a:lnTo>
                <a:lnTo>
                  <a:pt x="577" y="1148"/>
                </a:lnTo>
                <a:lnTo>
                  <a:pt x="581" y="1151"/>
                </a:lnTo>
                <a:lnTo>
                  <a:pt x="585" y="1153"/>
                </a:lnTo>
                <a:lnTo>
                  <a:pt x="589" y="1155"/>
                </a:lnTo>
                <a:lnTo>
                  <a:pt x="594" y="1156"/>
                </a:lnTo>
                <a:lnTo>
                  <a:pt x="597" y="1159"/>
                </a:lnTo>
                <a:lnTo>
                  <a:pt x="603" y="1160"/>
                </a:lnTo>
                <a:lnTo>
                  <a:pt x="607" y="1162"/>
                </a:lnTo>
                <a:lnTo>
                  <a:pt x="613" y="1163"/>
                </a:lnTo>
                <a:lnTo>
                  <a:pt x="615" y="1164"/>
                </a:lnTo>
                <a:lnTo>
                  <a:pt x="621" y="1166"/>
                </a:lnTo>
                <a:lnTo>
                  <a:pt x="626" y="1168"/>
                </a:lnTo>
                <a:lnTo>
                  <a:pt x="634" y="1170"/>
                </a:lnTo>
                <a:lnTo>
                  <a:pt x="639" y="1173"/>
                </a:lnTo>
                <a:lnTo>
                  <a:pt x="647" y="1175"/>
                </a:lnTo>
                <a:lnTo>
                  <a:pt x="654" y="1176"/>
                </a:lnTo>
                <a:lnTo>
                  <a:pt x="663" y="1178"/>
                </a:lnTo>
                <a:lnTo>
                  <a:pt x="669" y="1181"/>
                </a:lnTo>
                <a:lnTo>
                  <a:pt x="677" y="1183"/>
                </a:lnTo>
                <a:lnTo>
                  <a:pt x="684" y="1185"/>
                </a:lnTo>
                <a:lnTo>
                  <a:pt x="692" y="1186"/>
                </a:lnTo>
                <a:lnTo>
                  <a:pt x="699" y="1188"/>
                </a:lnTo>
                <a:lnTo>
                  <a:pt x="706" y="1190"/>
                </a:lnTo>
                <a:lnTo>
                  <a:pt x="714" y="1192"/>
                </a:lnTo>
                <a:lnTo>
                  <a:pt x="721" y="1193"/>
                </a:lnTo>
                <a:lnTo>
                  <a:pt x="726" y="1194"/>
                </a:lnTo>
                <a:lnTo>
                  <a:pt x="734" y="1196"/>
                </a:lnTo>
                <a:lnTo>
                  <a:pt x="741" y="1198"/>
                </a:lnTo>
                <a:lnTo>
                  <a:pt x="749" y="1200"/>
                </a:lnTo>
                <a:lnTo>
                  <a:pt x="757" y="1201"/>
                </a:lnTo>
                <a:lnTo>
                  <a:pt x="765" y="1202"/>
                </a:lnTo>
                <a:lnTo>
                  <a:pt x="774" y="1204"/>
                </a:lnTo>
                <a:lnTo>
                  <a:pt x="783" y="1206"/>
                </a:lnTo>
                <a:lnTo>
                  <a:pt x="791" y="1208"/>
                </a:lnTo>
                <a:lnTo>
                  <a:pt x="799" y="1209"/>
                </a:lnTo>
                <a:lnTo>
                  <a:pt x="807" y="1211"/>
                </a:lnTo>
                <a:lnTo>
                  <a:pt x="816" y="1211"/>
                </a:lnTo>
                <a:lnTo>
                  <a:pt x="823" y="1213"/>
                </a:lnTo>
                <a:lnTo>
                  <a:pt x="830" y="1214"/>
                </a:lnTo>
                <a:lnTo>
                  <a:pt x="835" y="1215"/>
                </a:lnTo>
                <a:lnTo>
                  <a:pt x="843" y="1215"/>
                </a:lnTo>
                <a:lnTo>
                  <a:pt x="848" y="1216"/>
                </a:lnTo>
                <a:lnTo>
                  <a:pt x="854" y="1216"/>
                </a:lnTo>
                <a:lnTo>
                  <a:pt x="861" y="1218"/>
                </a:lnTo>
                <a:lnTo>
                  <a:pt x="869" y="1218"/>
                </a:lnTo>
                <a:lnTo>
                  <a:pt x="876" y="1220"/>
                </a:lnTo>
                <a:lnTo>
                  <a:pt x="884" y="1220"/>
                </a:lnTo>
                <a:lnTo>
                  <a:pt x="893" y="1220"/>
                </a:lnTo>
                <a:lnTo>
                  <a:pt x="903" y="1220"/>
                </a:lnTo>
                <a:lnTo>
                  <a:pt x="911" y="1222"/>
                </a:lnTo>
                <a:lnTo>
                  <a:pt x="919" y="1222"/>
                </a:lnTo>
                <a:lnTo>
                  <a:pt x="928" y="1223"/>
                </a:lnTo>
                <a:lnTo>
                  <a:pt x="936" y="1223"/>
                </a:lnTo>
                <a:lnTo>
                  <a:pt x="943" y="1223"/>
                </a:lnTo>
                <a:lnTo>
                  <a:pt x="952" y="1223"/>
                </a:lnTo>
                <a:lnTo>
                  <a:pt x="959" y="1223"/>
                </a:lnTo>
                <a:lnTo>
                  <a:pt x="967" y="1223"/>
                </a:lnTo>
                <a:lnTo>
                  <a:pt x="973" y="1225"/>
                </a:lnTo>
                <a:lnTo>
                  <a:pt x="981" y="1225"/>
                </a:lnTo>
                <a:lnTo>
                  <a:pt x="988" y="1225"/>
                </a:lnTo>
                <a:lnTo>
                  <a:pt x="997" y="1225"/>
                </a:lnTo>
                <a:lnTo>
                  <a:pt x="1004" y="1226"/>
                </a:lnTo>
                <a:lnTo>
                  <a:pt x="1013" y="1226"/>
                </a:lnTo>
                <a:lnTo>
                  <a:pt x="1022" y="1226"/>
                </a:lnTo>
                <a:lnTo>
                  <a:pt x="1032" y="1226"/>
                </a:lnTo>
                <a:lnTo>
                  <a:pt x="1039" y="1226"/>
                </a:lnTo>
                <a:lnTo>
                  <a:pt x="1048" y="1226"/>
                </a:lnTo>
                <a:lnTo>
                  <a:pt x="1055" y="1226"/>
                </a:lnTo>
                <a:lnTo>
                  <a:pt x="1064" y="1226"/>
                </a:lnTo>
                <a:lnTo>
                  <a:pt x="1072" y="1226"/>
                </a:lnTo>
                <a:lnTo>
                  <a:pt x="1079" y="1226"/>
                </a:lnTo>
                <a:lnTo>
                  <a:pt x="1084" y="1226"/>
                </a:lnTo>
                <a:lnTo>
                  <a:pt x="1092" y="1226"/>
                </a:lnTo>
                <a:lnTo>
                  <a:pt x="1095" y="1226"/>
                </a:lnTo>
                <a:lnTo>
                  <a:pt x="1099" y="1226"/>
                </a:lnTo>
                <a:lnTo>
                  <a:pt x="1101" y="1226"/>
                </a:lnTo>
                <a:lnTo>
                  <a:pt x="1103" y="1226"/>
                </a:lnTo>
                <a:lnTo>
                  <a:pt x="1104" y="1226"/>
                </a:lnTo>
                <a:lnTo>
                  <a:pt x="1106" y="1226"/>
                </a:lnTo>
                <a:lnTo>
                  <a:pt x="1107" y="1226"/>
                </a:lnTo>
                <a:lnTo>
                  <a:pt x="1109" y="1226"/>
                </a:lnTo>
                <a:lnTo>
                  <a:pt x="1110" y="1226"/>
                </a:lnTo>
                <a:lnTo>
                  <a:pt x="1112" y="1226"/>
                </a:lnTo>
                <a:lnTo>
                  <a:pt x="1114" y="1226"/>
                </a:lnTo>
                <a:lnTo>
                  <a:pt x="1118" y="1226"/>
                </a:lnTo>
                <a:lnTo>
                  <a:pt x="1123" y="1226"/>
                </a:lnTo>
                <a:lnTo>
                  <a:pt x="1129" y="1226"/>
                </a:lnTo>
                <a:lnTo>
                  <a:pt x="1137" y="1226"/>
                </a:lnTo>
                <a:lnTo>
                  <a:pt x="1147" y="1226"/>
                </a:lnTo>
              </a:path>
            </a:pathLst>
          </a:custGeom>
          <a:noFill/>
          <a:ln cap="rnd" w="2556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14920" y="1081080"/>
            <a:ext cx="2552760" cy="2324160"/>
          </a:xfrm>
          <a:custGeom>
            <a:avLst/>
            <a:gdLst/>
            <a:ahLst/>
            <a:rect l="l" t="t" r="r" b="b"/>
            <a:pathLst>
              <a:path w="1608" h="1464">
                <a:moveTo>
                  <a:pt x="0" y="0"/>
                </a:moveTo>
                <a:lnTo>
                  <a:pt x="0" y="9"/>
                </a:lnTo>
                <a:lnTo>
                  <a:pt x="0" y="15"/>
                </a:lnTo>
                <a:lnTo>
                  <a:pt x="0" y="21"/>
                </a:lnTo>
                <a:lnTo>
                  <a:pt x="1" y="25"/>
                </a:lnTo>
                <a:lnTo>
                  <a:pt x="1" y="28"/>
                </a:lnTo>
                <a:lnTo>
                  <a:pt x="1" y="30"/>
                </a:lnTo>
                <a:lnTo>
                  <a:pt x="1" y="32"/>
                </a:lnTo>
                <a:lnTo>
                  <a:pt x="1" y="33"/>
                </a:lnTo>
                <a:lnTo>
                  <a:pt x="1" y="34"/>
                </a:lnTo>
                <a:lnTo>
                  <a:pt x="1" y="36"/>
                </a:lnTo>
                <a:lnTo>
                  <a:pt x="1" y="37"/>
                </a:lnTo>
                <a:lnTo>
                  <a:pt x="1" y="39"/>
                </a:lnTo>
                <a:lnTo>
                  <a:pt x="1" y="41"/>
                </a:lnTo>
                <a:lnTo>
                  <a:pt x="1" y="44"/>
                </a:lnTo>
                <a:lnTo>
                  <a:pt x="3" y="47"/>
                </a:lnTo>
                <a:lnTo>
                  <a:pt x="3" y="52"/>
                </a:lnTo>
                <a:lnTo>
                  <a:pt x="3" y="57"/>
                </a:lnTo>
                <a:lnTo>
                  <a:pt x="3" y="64"/>
                </a:lnTo>
                <a:lnTo>
                  <a:pt x="5" y="69"/>
                </a:lnTo>
                <a:lnTo>
                  <a:pt x="5" y="76"/>
                </a:lnTo>
                <a:lnTo>
                  <a:pt x="6" y="82"/>
                </a:lnTo>
                <a:lnTo>
                  <a:pt x="8" y="89"/>
                </a:lnTo>
                <a:lnTo>
                  <a:pt x="10" y="95"/>
                </a:lnTo>
                <a:lnTo>
                  <a:pt x="12" y="103"/>
                </a:lnTo>
                <a:lnTo>
                  <a:pt x="14" y="109"/>
                </a:lnTo>
                <a:lnTo>
                  <a:pt x="15" y="116"/>
                </a:lnTo>
                <a:lnTo>
                  <a:pt x="17" y="124"/>
                </a:lnTo>
                <a:lnTo>
                  <a:pt x="19" y="130"/>
                </a:lnTo>
                <a:lnTo>
                  <a:pt x="21" y="135"/>
                </a:lnTo>
                <a:lnTo>
                  <a:pt x="23" y="141"/>
                </a:lnTo>
                <a:lnTo>
                  <a:pt x="25" y="146"/>
                </a:lnTo>
                <a:lnTo>
                  <a:pt x="31" y="154"/>
                </a:lnTo>
                <a:lnTo>
                  <a:pt x="43" y="169"/>
                </a:lnTo>
                <a:lnTo>
                  <a:pt x="60" y="189"/>
                </a:lnTo>
                <a:lnTo>
                  <a:pt x="85" y="214"/>
                </a:lnTo>
                <a:lnTo>
                  <a:pt x="113" y="245"/>
                </a:lnTo>
                <a:lnTo>
                  <a:pt x="147" y="280"/>
                </a:lnTo>
                <a:lnTo>
                  <a:pt x="185" y="318"/>
                </a:lnTo>
                <a:lnTo>
                  <a:pt x="228" y="359"/>
                </a:lnTo>
                <a:lnTo>
                  <a:pt x="272" y="405"/>
                </a:lnTo>
                <a:lnTo>
                  <a:pt x="321" y="453"/>
                </a:lnTo>
                <a:lnTo>
                  <a:pt x="372" y="503"/>
                </a:lnTo>
                <a:lnTo>
                  <a:pt x="426" y="553"/>
                </a:lnTo>
                <a:lnTo>
                  <a:pt x="480" y="607"/>
                </a:lnTo>
                <a:lnTo>
                  <a:pt x="536" y="659"/>
                </a:lnTo>
                <a:lnTo>
                  <a:pt x="593" y="712"/>
                </a:lnTo>
                <a:lnTo>
                  <a:pt x="651" y="765"/>
                </a:lnTo>
                <a:lnTo>
                  <a:pt x="707" y="820"/>
                </a:lnTo>
                <a:lnTo>
                  <a:pt x="765" y="873"/>
                </a:lnTo>
                <a:lnTo>
                  <a:pt x="823" y="926"/>
                </a:lnTo>
                <a:lnTo>
                  <a:pt x="882" y="979"/>
                </a:lnTo>
                <a:lnTo>
                  <a:pt x="939" y="1030"/>
                </a:lnTo>
                <a:lnTo>
                  <a:pt x="995" y="1080"/>
                </a:lnTo>
                <a:lnTo>
                  <a:pt x="1051" y="1128"/>
                </a:lnTo>
                <a:lnTo>
                  <a:pt x="1104" y="1172"/>
                </a:lnTo>
                <a:lnTo>
                  <a:pt x="1152" y="1214"/>
                </a:lnTo>
                <a:lnTo>
                  <a:pt x="1198" y="1253"/>
                </a:lnTo>
                <a:lnTo>
                  <a:pt x="1239" y="1288"/>
                </a:lnTo>
                <a:lnTo>
                  <a:pt x="1278" y="1318"/>
                </a:lnTo>
                <a:lnTo>
                  <a:pt x="1310" y="1343"/>
                </a:lnTo>
                <a:lnTo>
                  <a:pt x="1337" y="1363"/>
                </a:lnTo>
                <a:lnTo>
                  <a:pt x="1359" y="1378"/>
                </a:lnTo>
                <a:lnTo>
                  <a:pt x="1374" y="1385"/>
                </a:lnTo>
                <a:lnTo>
                  <a:pt x="1385" y="1391"/>
                </a:lnTo>
                <a:lnTo>
                  <a:pt x="1397" y="1396"/>
                </a:lnTo>
                <a:lnTo>
                  <a:pt x="1409" y="1400"/>
                </a:lnTo>
                <a:lnTo>
                  <a:pt x="1423" y="1406"/>
                </a:lnTo>
                <a:lnTo>
                  <a:pt x="1433" y="1410"/>
                </a:lnTo>
                <a:lnTo>
                  <a:pt x="1448" y="1415"/>
                </a:lnTo>
                <a:lnTo>
                  <a:pt x="1460" y="1421"/>
                </a:lnTo>
                <a:lnTo>
                  <a:pt x="1473" y="1425"/>
                </a:lnTo>
                <a:lnTo>
                  <a:pt x="1484" y="1430"/>
                </a:lnTo>
                <a:lnTo>
                  <a:pt x="1496" y="1434"/>
                </a:lnTo>
                <a:lnTo>
                  <a:pt x="1506" y="1438"/>
                </a:lnTo>
                <a:lnTo>
                  <a:pt x="1518" y="1441"/>
                </a:lnTo>
                <a:lnTo>
                  <a:pt x="1526" y="1444"/>
                </a:lnTo>
                <a:lnTo>
                  <a:pt x="1535" y="1447"/>
                </a:lnTo>
                <a:lnTo>
                  <a:pt x="1543" y="1449"/>
                </a:lnTo>
                <a:lnTo>
                  <a:pt x="1549" y="1451"/>
                </a:lnTo>
                <a:lnTo>
                  <a:pt x="1553" y="1452"/>
                </a:lnTo>
                <a:lnTo>
                  <a:pt x="1556" y="1453"/>
                </a:lnTo>
                <a:lnTo>
                  <a:pt x="1559" y="1453"/>
                </a:lnTo>
                <a:lnTo>
                  <a:pt x="1562" y="1453"/>
                </a:lnTo>
                <a:lnTo>
                  <a:pt x="1563" y="1454"/>
                </a:lnTo>
                <a:lnTo>
                  <a:pt x="1564" y="1454"/>
                </a:lnTo>
                <a:lnTo>
                  <a:pt x="1565" y="1454"/>
                </a:lnTo>
                <a:lnTo>
                  <a:pt x="1566" y="1454"/>
                </a:lnTo>
                <a:lnTo>
                  <a:pt x="1568" y="1456"/>
                </a:lnTo>
                <a:lnTo>
                  <a:pt x="1570" y="1456"/>
                </a:lnTo>
                <a:lnTo>
                  <a:pt x="1573" y="1458"/>
                </a:lnTo>
                <a:lnTo>
                  <a:pt x="1577" y="1458"/>
                </a:lnTo>
                <a:lnTo>
                  <a:pt x="1582" y="1459"/>
                </a:lnTo>
                <a:lnTo>
                  <a:pt x="1588" y="1460"/>
                </a:lnTo>
                <a:lnTo>
                  <a:pt x="1596" y="1461"/>
                </a:lnTo>
                <a:lnTo>
                  <a:pt x="1607" y="1463"/>
                </a:lnTo>
              </a:path>
            </a:pathLst>
          </a:custGeom>
          <a:noFill/>
          <a:ln cap="rnd" w="2556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75400" y="6427800"/>
            <a:ext cx="1620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91320" y="6554880"/>
            <a:ext cx="1303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67240" y="3754440"/>
            <a:ext cx="1602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9920" y="3879720"/>
            <a:ext cx="1303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564080" y="3997080"/>
            <a:ext cx="0" cy="2547720"/>
          </a:xfrm>
          <a:prstGeom prst="line">
            <a:avLst/>
          </a:prstGeom>
          <a:ln w="25560">
            <a:solidFill>
              <a:srgbClr val="8f8f8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68760" y="6546960"/>
            <a:ext cx="2859120" cy="0"/>
          </a:xfrm>
          <a:prstGeom prst="line">
            <a:avLst/>
          </a:prstGeom>
          <a:ln w="25560">
            <a:solidFill>
              <a:srgbClr val="8f8f8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30760" y="3878280"/>
            <a:ext cx="2700360" cy="2320920"/>
          </a:xfrm>
          <a:custGeom>
            <a:avLst/>
            <a:gdLst/>
            <a:ahLst/>
            <a:rect l="l" t="t" r="r" b="b"/>
            <a:pathLst>
              <a:path w="1701" h="1462">
                <a:moveTo>
                  <a:pt x="1700" y="1461"/>
                </a:moveTo>
                <a:lnTo>
                  <a:pt x="0" y="14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30760" y="3878280"/>
            <a:ext cx="2700360" cy="2320920"/>
          </a:xfrm>
          <a:custGeom>
            <a:avLst/>
            <a:gdLst/>
            <a:ahLst/>
            <a:rect l="l" t="t" r="r" b="b"/>
            <a:pathLst>
              <a:path w="1701" h="1462">
                <a:moveTo>
                  <a:pt x="1700" y="1461"/>
                </a:moveTo>
                <a:lnTo>
                  <a:pt x="0" y="14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30760" y="3878280"/>
            <a:ext cx="2700360" cy="2320920"/>
          </a:xfrm>
          <a:custGeom>
            <a:avLst/>
            <a:gdLst/>
            <a:ahLst/>
            <a:rect l="l" t="t" r="r" b="b"/>
            <a:pathLst>
              <a:path w="1701" h="1462">
                <a:moveTo>
                  <a:pt x="1700" y="1461"/>
                </a:moveTo>
                <a:lnTo>
                  <a:pt x="0" y="146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30760" y="3878280"/>
            <a:ext cx="2700360" cy="2320920"/>
          </a:xfrm>
          <a:custGeom>
            <a:avLst/>
            <a:gdLst/>
            <a:ahLst/>
            <a:rect l="l" t="t" r="r" b="b"/>
            <a:pathLst>
              <a:path w="1701" h="1462">
                <a:moveTo>
                  <a:pt x="1700" y="1461"/>
                </a:moveTo>
                <a:lnTo>
                  <a:pt x="0" y="146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92400" y="6411960"/>
            <a:ext cx="1605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05440" y="6539040"/>
            <a:ext cx="1299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81000" y="3738600"/>
            <a:ext cx="1634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96920" y="3863880"/>
            <a:ext cx="1303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081080" y="3978360"/>
            <a:ext cx="0" cy="2549520"/>
          </a:xfrm>
          <a:prstGeom prst="line">
            <a:avLst/>
          </a:prstGeom>
          <a:ln w="25560">
            <a:solidFill>
              <a:srgbClr val="8f8f8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87560" y="6531120"/>
            <a:ext cx="2857320" cy="0"/>
          </a:xfrm>
          <a:prstGeom prst="line">
            <a:avLst/>
          </a:prstGeom>
          <a:ln w="25560">
            <a:solidFill>
              <a:srgbClr val="8f8f8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78000" y="4033800"/>
            <a:ext cx="2433600" cy="2173320"/>
          </a:xfrm>
          <a:custGeom>
            <a:avLst/>
            <a:gdLst/>
            <a:ahLst/>
            <a:rect l="l" t="t" r="r" b="b"/>
            <a:pathLst>
              <a:path w="1533" h="1369">
                <a:moveTo>
                  <a:pt x="0" y="0"/>
                </a:moveTo>
                <a:lnTo>
                  <a:pt x="0" y="7"/>
                </a:lnTo>
                <a:lnTo>
                  <a:pt x="0" y="11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2"/>
                </a:lnTo>
                <a:lnTo>
                  <a:pt x="0" y="24"/>
                </a:lnTo>
                <a:lnTo>
                  <a:pt x="0" y="26"/>
                </a:lnTo>
                <a:lnTo>
                  <a:pt x="0" y="28"/>
                </a:lnTo>
                <a:lnTo>
                  <a:pt x="0" y="29"/>
                </a:lnTo>
                <a:lnTo>
                  <a:pt x="0" y="32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0" y="47"/>
                </a:lnTo>
                <a:lnTo>
                  <a:pt x="1" y="52"/>
                </a:lnTo>
                <a:lnTo>
                  <a:pt x="1" y="58"/>
                </a:lnTo>
                <a:lnTo>
                  <a:pt x="2" y="64"/>
                </a:lnTo>
                <a:lnTo>
                  <a:pt x="2" y="71"/>
                </a:lnTo>
                <a:lnTo>
                  <a:pt x="4" y="77"/>
                </a:lnTo>
                <a:lnTo>
                  <a:pt x="4" y="85"/>
                </a:lnTo>
                <a:lnTo>
                  <a:pt x="5" y="91"/>
                </a:lnTo>
                <a:lnTo>
                  <a:pt x="6" y="98"/>
                </a:lnTo>
                <a:lnTo>
                  <a:pt x="8" y="104"/>
                </a:lnTo>
                <a:lnTo>
                  <a:pt x="9" y="111"/>
                </a:lnTo>
                <a:lnTo>
                  <a:pt x="11" y="117"/>
                </a:lnTo>
                <a:lnTo>
                  <a:pt x="13" y="124"/>
                </a:lnTo>
                <a:lnTo>
                  <a:pt x="15" y="130"/>
                </a:lnTo>
                <a:lnTo>
                  <a:pt x="15" y="138"/>
                </a:lnTo>
                <a:lnTo>
                  <a:pt x="18" y="144"/>
                </a:lnTo>
                <a:lnTo>
                  <a:pt x="21" y="152"/>
                </a:lnTo>
                <a:lnTo>
                  <a:pt x="25" y="160"/>
                </a:lnTo>
                <a:lnTo>
                  <a:pt x="27" y="169"/>
                </a:lnTo>
                <a:lnTo>
                  <a:pt x="32" y="178"/>
                </a:lnTo>
                <a:lnTo>
                  <a:pt x="37" y="188"/>
                </a:lnTo>
                <a:lnTo>
                  <a:pt x="43" y="196"/>
                </a:lnTo>
                <a:lnTo>
                  <a:pt x="47" y="207"/>
                </a:lnTo>
                <a:lnTo>
                  <a:pt x="53" y="216"/>
                </a:lnTo>
                <a:lnTo>
                  <a:pt x="57" y="226"/>
                </a:lnTo>
                <a:lnTo>
                  <a:pt x="64" y="235"/>
                </a:lnTo>
                <a:lnTo>
                  <a:pt x="69" y="244"/>
                </a:lnTo>
                <a:lnTo>
                  <a:pt x="74" y="252"/>
                </a:lnTo>
                <a:lnTo>
                  <a:pt x="79" y="260"/>
                </a:lnTo>
                <a:lnTo>
                  <a:pt x="85" y="267"/>
                </a:lnTo>
                <a:lnTo>
                  <a:pt x="90" y="275"/>
                </a:lnTo>
                <a:lnTo>
                  <a:pt x="96" y="281"/>
                </a:lnTo>
                <a:lnTo>
                  <a:pt x="103" y="289"/>
                </a:lnTo>
                <a:lnTo>
                  <a:pt x="110" y="296"/>
                </a:lnTo>
                <a:lnTo>
                  <a:pt x="117" y="304"/>
                </a:lnTo>
                <a:lnTo>
                  <a:pt x="126" y="311"/>
                </a:lnTo>
                <a:lnTo>
                  <a:pt x="134" y="318"/>
                </a:lnTo>
                <a:lnTo>
                  <a:pt x="143" y="324"/>
                </a:lnTo>
                <a:lnTo>
                  <a:pt x="151" y="331"/>
                </a:lnTo>
                <a:lnTo>
                  <a:pt x="160" y="337"/>
                </a:lnTo>
                <a:lnTo>
                  <a:pt x="167" y="342"/>
                </a:lnTo>
                <a:lnTo>
                  <a:pt x="176" y="348"/>
                </a:lnTo>
                <a:lnTo>
                  <a:pt x="183" y="353"/>
                </a:lnTo>
                <a:lnTo>
                  <a:pt x="192" y="357"/>
                </a:lnTo>
                <a:lnTo>
                  <a:pt x="198" y="360"/>
                </a:lnTo>
                <a:lnTo>
                  <a:pt x="204" y="362"/>
                </a:lnTo>
                <a:lnTo>
                  <a:pt x="211" y="365"/>
                </a:lnTo>
                <a:lnTo>
                  <a:pt x="217" y="367"/>
                </a:lnTo>
                <a:lnTo>
                  <a:pt x="224" y="370"/>
                </a:lnTo>
                <a:lnTo>
                  <a:pt x="234" y="372"/>
                </a:lnTo>
                <a:lnTo>
                  <a:pt x="242" y="375"/>
                </a:lnTo>
                <a:lnTo>
                  <a:pt x="250" y="376"/>
                </a:lnTo>
                <a:lnTo>
                  <a:pt x="259" y="380"/>
                </a:lnTo>
                <a:lnTo>
                  <a:pt x="269" y="381"/>
                </a:lnTo>
                <a:lnTo>
                  <a:pt x="277" y="385"/>
                </a:lnTo>
                <a:lnTo>
                  <a:pt x="286" y="387"/>
                </a:lnTo>
                <a:lnTo>
                  <a:pt x="294" y="388"/>
                </a:lnTo>
                <a:lnTo>
                  <a:pt x="304" y="390"/>
                </a:lnTo>
                <a:lnTo>
                  <a:pt x="312" y="392"/>
                </a:lnTo>
                <a:lnTo>
                  <a:pt x="320" y="394"/>
                </a:lnTo>
                <a:lnTo>
                  <a:pt x="327" y="395"/>
                </a:lnTo>
                <a:lnTo>
                  <a:pt x="335" y="395"/>
                </a:lnTo>
                <a:lnTo>
                  <a:pt x="341" y="397"/>
                </a:lnTo>
                <a:lnTo>
                  <a:pt x="347" y="399"/>
                </a:lnTo>
                <a:lnTo>
                  <a:pt x="354" y="401"/>
                </a:lnTo>
                <a:lnTo>
                  <a:pt x="363" y="402"/>
                </a:lnTo>
                <a:lnTo>
                  <a:pt x="371" y="405"/>
                </a:lnTo>
                <a:lnTo>
                  <a:pt x="380" y="407"/>
                </a:lnTo>
                <a:lnTo>
                  <a:pt x="388" y="409"/>
                </a:lnTo>
                <a:lnTo>
                  <a:pt x="397" y="410"/>
                </a:lnTo>
                <a:lnTo>
                  <a:pt x="403" y="414"/>
                </a:lnTo>
                <a:lnTo>
                  <a:pt x="412" y="416"/>
                </a:lnTo>
                <a:lnTo>
                  <a:pt x="419" y="418"/>
                </a:lnTo>
                <a:lnTo>
                  <a:pt x="428" y="420"/>
                </a:lnTo>
                <a:lnTo>
                  <a:pt x="434" y="424"/>
                </a:lnTo>
                <a:lnTo>
                  <a:pt x="441" y="425"/>
                </a:lnTo>
                <a:lnTo>
                  <a:pt x="446" y="427"/>
                </a:lnTo>
                <a:lnTo>
                  <a:pt x="453" y="429"/>
                </a:lnTo>
                <a:lnTo>
                  <a:pt x="457" y="433"/>
                </a:lnTo>
                <a:lnTo>
                  <a:pt x="463" y="434"/>
                </a:lnTo>
                <a:lnTo>
                  <a:pt x="468" y="438"/>
                </a:lnTo>
                <a:lnTo>
                  <a:pt x="475" y="440"/>
                </a:lnTo>
                <a:lnTo>
                  <a:pt x="481" y="442"/>
                </a:lnTo>
                <a:lnTo>
                  <a:pt x="488" y="446"/>
                </a:lnTo>
                <a:lnTo>
                  <a:pt x="494" y="449"/>
                </a:lnTo>
                <a:lnTo>
                  <a:pt x="502" y="451"/>
                </a:lnTo>
                <a:lnTo>
                  <a:pt x="507" y="454"/>
                </a:lnTo>
                <a:lnTo>
                  <a:pt x="514" y="457"/>
                </a:lnTo>
                <a:lnTo>
                  <a:pt x="521" y="461"/>
                </a:lnTo>
                <a:lnTo>
                  <a:pt x="527" y="463"/>
                </a:lnTo>
                <a:lnTo>
                  <a:pt x="532" y="467"/>
                </a:lnTo>
                <a:lnTo>
                  <a:pt x="539" y="469"/>
                </a:lnTo>
                <a:lnTo>
                  <a:pt x="543" y="471"/>
                </a:lnTo>
                <a:lnTo>
                  <a:pt x="549" y="473"/>
                </a:lnTo>
                <a:lnTo>
                  <a:pt x="552" y="477"/>
                </a:lnTo>
                <a:lnTo>
                  <a:pt x="557" y="478"/>
                </a:lnTo>
                <a:lnTo>
                  <a:pt x="562" y="484"/>
                </a:lnTo>
                <a:lnTo>
                  <a:pt x="568" y="487"/>
                </a:lnTo>
                <a:lnTo>
                  <a:pt x="573" y="493"/>
                </a:lnTo>
                <a:lnTo>
                  <a:pt x="579" y="498"/>
                </a:lnTo>
                <a:lnTo>
                  <a:pt x="585" y="503"/>
                </a:lnTo>
                <a:lnTo>
                  <a:pt x="592" y="508"/>
                </a:lnTo>
                <a:lnTo>
                  <a:pt x="597" y="515"/>
                </a:lnTo>
                <a:lnTo>
                  <a:pt x="602" y="521"/>
                </a:lnTo>
                <a:lnTo>
                  <a:pt x="608" y="528"/>
                </a:lnTo>
                <a:lnTo>
                  <a:pt x="615" y="534"/>
                </a:lnTo>
                <a:lnTo>
                  <a:pt x="620" y="540"/>
                </a:lnTo>
                <a:lnTo>
                  <a:pt x="626" y="546"/>
                </a:lnTo>
                <a:lnTo>
                  <a:pt x="630" y="553"/>
                </a:lnTo>
                <a:lnTo>
                  <a:pt x="635" y="558"/>
                </a:lnTo>
                <a:lnTo>
                  <a:pt x="639" y="566"/>
                </a:lnTo>
                <a:lnTo>
                  <a:pt x="643" y="573"/>
                </a:lnTo>
                <a:lnTo>
                  <a:pt x="647" y="581"/>
                </a:lnTo>
                <a:lnTo>
                  <a:pt x="652" y="589"/>
                </a:lnTo>
                <a:lnTo>
                  <a:pt x="655" y="598"/>
                </a:lnTo>
                <a:lnTo>
                  <a:pt x="661" y="607"/>
                </a:lnTo>
                <a:lnTo>
                  <a:pt x="663" y="617"/>
                </a:lnTo>
                <a:lnTo>
                  <a:pt x="669" y="625"/>
                </a:lnTo>
                <a:lnTo>
                  <a:pt x="672" y="636"/>
                </a:lnTo>
                <a:lnTo>
                  <a:pt x="675" y="645"/>
                </a:lnTo>
                <a:lnTo>
                  <a:pt x="679" y="655"/>
                </a:lnTo>
                <a:lnTo>
                  <a:pt x="682" y="664"/>
                </a:lnTo>
                <a:lnTo>
                  <a:pt x="683" y="673"/>
                </a:lnTo>
                <a:lnTo>
                  <a:pt x="686" y="681"/>
                </a:lnTo>
                <a:lnTo>
                  <a:pt x="688" y="689"/>
                </a:lnTo>
                <a:lnTo>
                  <a:pt x="691" y="696"/>
                </a:lnTo>
                <a:lnTo>
                  <a:pt x="691" y="704"/>
                </a:lnTo>
                <a:lnTo>
                  <a:pt x="692" y="711"/>
                </a:lnTo>
                <a:lnTo>
                  <a:pt x="693" y="719"/>
                </a:lnTo>
                <a:lnTo>
                  <a:pt x="695" y="727"/>
                </a:lnTo>
                <a:lnTo>
                  <a:pt x="697" y="736"/>
                </a:lnTo>
                <a:lnTo>
                  <a:pt x="699" y="745"/>
                </a:lnTo>
                <a:lnTo>
                  <a:pt x="700" y="753"/>
                </a:lnTo>
                <a:lnTo>
                  <a:pt x="702" y="762"/>
                </a:lnTo>
                <a:lnTo>
                  <a:pt x="702" y="771"/>
                </a:lnTo>
                <a:lnTo>
                  <a:pt x="704" y="779"/>
                </a:lnTo>
                <a:lnTo>
                  <a:pt x="706" y="786"/>
                </a:lnTo>
                <a:lnTo>
                  <a:pt x="708" y="794"/>
                </a:lnTo>
                <a:lnTo>
                  <a:pt x="709" y="801"/>
                </a:lnTo>
                <a:lnTo>
                  <a:pt x="710" y="807"/>
                </a:lnTo>
                <a:lnTo>
                  <a:pt x="712" y="813"/>
                </a:lnTo>
                <a:lnTo>
                  <a:pt x="713" y="817"/>
                </a:lnTo>
                <a:lnTo>
                  <a:pt x="714" y="823"/>
                </a:lnTo>
                <a:lnTo>
                  <a:pt x="716" y="829"/>
                </a:lnTo>
                <a:lnTo>
                  <a:pt x="718" y="835"/>
                </a:lnTo>
                <a:lnTo>
                  <a:pt x="720" y="842"/>
                </a:lnTo>
                <a:lnTo>
                  <a:pt x="722" y="850"/>
                </a:lnTo>
                <a:lnTo>
                  <a:pt x="725" y="857"/>
                </a:lnTo>
                <a:lnTo>
                  <a:pt x="728" y="865"/>
                </a:lnTo>
                <a:lnTo>
                  <a:pt x="732" y="874"/>
                </a:lnTo>
                <a:lnTo>
                  <a:pt x="734" y="884"/>
                </a:lnTo>
                <a:lnTo>
                  <a:pt x="737" y="891"/>
                </a:lnTo>
                <a:lnTo>
                  <a:pt x="741" y="900"/>
                </a:lnTo>
                <a:lnTo>
                  <a:pt x="744" y="908"/>
                </a:lnTo>
                <a:lnTo>
                  <a:pt x="747" y="917"/>
                </a:lnTo>
                <a:lnTo>
                  <a:pt x="751" y="925"/>
                </a:lnTo>
                <a:lnTo>
                  <a:pt x="753" y="933"/>
                </a:lnTo>
                <a:lnTo>
                  <a:pt x="757" y="939"/>
                </a:lnTo>
                <a:lnTo>
                  <a:pt x="761" y="948"/>
                </a:lnTo>
                <a:lnTo>
                  <a:pt x="763" y="955"/>
                </a:lnTo>
                <a:lnTo>
                  <a:pt x="768" y="965"/>
                </a:lnTo>
                <a:lnTo>
                  <a:pt x="773" y="973"/>
                </a:lnTo>
                <a:lnTo>
                  <a:pt x="778" y="983"/>
                </a:lnTo>
                <a:lnTo>
                  <a:pt x="784" y="993"/>
                </a:lnTo>
                <a:lnTo>
                  <a:pt x="791" y="1003"/>
                </a:lnTo>
                <a:lnTo>
                  <a:pt x="798" y="1013"/>
                </a:lnTo>
                <a:lnTo>
                  <a:pt x="804" y="1024"/>
                </a:lnTo>
                <a:lnTo>
                  <a:pt x="811" y="1034"/>
                </a:lnTo>
                <a:lnTo>
                  <a:pt x="818" y="1044"/>
                </a:lnTo>
                <a:lnTo>
                  <a:pt x="824" y="1053"/>
                </a:lnTo>
                <a:lnTo>
                  <a:pt x="831" y="1064"/>
                </a:lnTo>
                <a:lnTo>
                  <a:pt x="839" y="1072"/>
                </a:lnTo>
                <a:lnTo>
                  <a:pt x="844" y="1079"/>
                </a:lnTo>
                <a:lnTo>
                  <a:pt x="851" y="1087"/>
                </a:lnTo>
                <a:lnTo>
                  <a:pt x="858" y="1094"/>
                </a:lnTo>
                <a:lnTo>
                  <a:pt x="865" y="1102"/>
                </a:lnTo>
                <a:lnTo>
                  <a:pt x="873" y="1110"/>
                </a:lnTo>
                <a:lnTo>
                  <a:pt x="882" y="1118"/>
                </a:lnTo>
                <a:lnTo>
                  <a:pt x="891" y="1128"/>
                </a:lnTo>
                <a:lnTo>
                  <a:pt x="902" y="1137"/>
                </a:lnTo>
                <a:lnTo>
                  <a:pt x="912" y="1146"/>
                </a:lnTo>
                <a:lnTo>
                  <a:pt x="924" y="1154"/>
                </a:lnTo>
                <a:lnTo>
                  <a:pt x="934" y="1163"/>
                </a:lnTo>
                <a:lnTo>
                  <a:pt x="946" y="1172"/>
                </a:lnTo>
                <a:lnTo>
                  <a:pt x="957" y="1180"/>
                </a:lnTo>
                <a:lnTo>
                  <a:pt x="969" y="1187"/>
                </a:lnTo>
                <a:lnTo>
                  <a:pt x="979" y="1195"/>
                </a:lnTo>
                <a:lnTo>
                  <a:pt x="990" y="1201"/>
                </a:lnTo>
                <a:lnTo>
                  <a:pt x="1000" y="1207"/>
                </a:lnTo>
                <a:lnTo>
                  <a:pt x="1010" y="1213"/>
                </a:lnTo>
                <a:lnTo>
                  <a:pt x="1019" y="1218"/>
                </a:lnTo>
                <a:lnTo>
                  <a:pt x="1030" y="1223"/>
                </a:lnTo>
                <a:lnTo>
                  <a:pt x="1042" y="1230"/>
                </a:lnTo>
                <a:lnTo>
                  <a:pt x="1055" y="1235"/>
                </a:lnTo>
                <a:lnTo>
                  <a:pt x="1070" y="1242"/>
                </a:lnTo>
                <a:lnTo>
                  <a:pt x="1084" y="1248"/>
                </a:lnTo>
                <a:lnTo>
                  <a:pt x="1099" y="1255"/>
                </a:lnTo>
                <a:lnTo>
                  <a:pt x="1116" y="1261"/>
                </a:lnTo>
                <a:lnTo>
                  <a:pt x="1131" y="1267"/>
                </a:lnTo>
                <a:lnTo>
                  <a:pt x="1147" y="1275"/>
                </a:lnTo>
                <a:lnTo>
                  <a:pt x="1162" y="1281"/>
                </a:lnTo>
                <a:lnTo>
                  <a:pt x="1179" y="1286"/>
                </a:lnTo>
                <a:lnTo>
                  <a:pt x="1193" y="1291"/>
                </a:lnTo>
                <a:lnTo>
                  <a:pt x="1209" y="1296"/>
                </a:lnTo>
                <a:lnTo>
                  <a:pt x="1222" y="1301"/>
                </a:lnTo>
                <a:lnTo>
                  <a:pt x="1236" y="1305"/>
                </a:lnTo>
                <a:lnTo>
                  <a:pt x="1248" y="1310"/>
                </a:lnTo>
                <a:lnTo>
                  <a:pt x="1261" y="1313"/>
                </a:lnTo>
                <a:lnTo>
                  <a:pt x="1275" y="1318"/>
                </a:lnTo>
                <a:lnTo>
                  <a:pt x="1289" y="1321"/>
                </a:lnTo>
                <a:lnTo>
                  <a:pt x="1304" y="1326"/>
                </a:lnTo>
                <a:lnTo>
                  <a:pt x="1319" y="1329"/>
                </a:lnTo>
                <a:lnTo>
                  <a:pt x="1335" y="1333"/>
                </a:lnTo>
                <a:lnTo>
                  <a:pt x="1350" y="1336"/>
                </a:lnTo>
                <a:lnTo>
                  <a:pt x="1364" y="1340"/>
                </a:lnTo>
                <a:lnTo>
                  <a:pt x="1379" y="1343"/>
                </a:lnTo>
                <a:lnTo>
                  <a:pt x="1392" y="1347"/>
                </a:lnTo>
                <a:lnTo>
                  <a:pt x="1406" y="1350"/>
                </a:lnTo>
                <a:lnTo>
                  <a:pt x="1418" y="1353"/>
                </a:lnTo>
                <a:lnTo>
                  <a:pt x="1429" y="1355"/>
                </a:lnTo>
                <a:lnTo>
                  <a:pt x="1438" y="1356"/>
                </a:lnTo>
                <a:lnTo>
                  <a:pt x="1448" y="1357"/>
                </a:lnTo>
                <a:lnTo>
                  <a:pt x="1455" y="1358"/>
                </a:lnTo>
                <a:lnTo>
                  <a:pt x="1460" y="1359"/>
                </a:lnTo>
                <a:lnTo>
                  <a:pt x="1463" y="1359"/>
                </a:lnTo>
                <a:lnTo>
                  <a:pt x="1467" y="1359"/>
                </a:lnTo>
                <a:lnTo>
                  <a:pt x="1468" y="1361"/>
                </a:lnTo>
                <a:lnTo>
                  <a:pt x="1470" y="1361"/>
                </a:lnTo>
                <a:lnTo>
                  <a:pt x="1471" y="1361"/>
                </a:lnTo>
                <a:lnTo>
                  <a:pt x="1474" y="1361"/>
                </a:lnTo>
                <a:lnTo>
                  <a:pt x="1476" y="1363"/>
                </a:lnTo>
                <a:lnTo>
                  <a:pt x="1478" y="1363"/>
                </a:lnTo>
                <a:lnTo>
                  <a:pt x="1482" y="1363"/>
                </a:lnTo>
                <a:lnTo>
                  <a:pt x="1488" y="1363"/>
                </a:lnTo>
                <a:lnTo>
                  <a:pt x="1496" y="1365"/>
                </a:lnTo>
                <a:lnTo>
                  <a:pt x="1505" y="1365"/>
                </a:lnTo>
                <a:lnTo>
                  <a:pt x="1517" y="1366"/>
                </a:lnTo>
                <a:lnTo>
                  <a:pt x="1532" y="1368"/>
                </a:lnTo>
              </a:path>
            </a:pathLst>
          </a:custGeom>
          <a:noFill/>
          <a:ln cap="rnd" w="25560">
            <a:solidFill>
              <a:srgbClr val="ff8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30760" y="3946680"/>
            <a:ext cx="2803680" cy="2274840"/>
          </a:xfrm>
          <a:custGeom>
            <a:avLst/>
            <a:gdLst/>
            <a:ahLst/>
            <a:rect l="l" t="t" r="r" b="b"/>
            <a:pathLst>
              <a:path w="1766" h="1433">
                <a:moveTo>
                  <a:pt x="1558" y="1418"/>
                </a:moveTo>
                <a:lnTo>
                  <a:pt x="1558" y="1418"/>
                </a:lnTo>
                <a:lnTo>
                  <a:pt x="1552" y="1432"/>
                </a:lnTo>
                <a:lnTo>
                  <a:pt x="1599" y="1373"/>
                </a:lnTo>
                <a:lnTo>
                  <a:pt x="1599" y="1306"/>
                </a:lnTo>
                <a:lnTo>
                  <a:pt x="1647" y="1262"/>
                </a:lnTo>
                <a:lnTo>
                  <a:pt x="1765" y="1122"/>
                </a:lnTo>
                <a:lnTo>
                  <a:pt x="1670" y="1026"/>
                </a:lnTo>
                <a:lnTo>
                  <a:pt x="1725" y="870"/>
                </a:lnTo>
                <a:lnTo>
                  <a:pt x="1629" y="760"/>
                </a:lnTo>
                <a:lnTo>
                  <a:pt x="1686" y="649"/>
                </a:lnTo>
                <a:lnTo>
                  <a:pt x="1654" y="524"/>
                </a:lnTo>
                <a:lnTo>
                  <a:pt x="1710" y="428"/>
                </a:lnTo>
                <a:lnTo>
                  <a:pt x="1670" y="354"/>
                </a:lnTo>
                <a:lnTo>
                  <a:pt x="1701" y="265"/>
                </a:lnTo>
                <a:lnTo>
                  <a:pt x="1662" y="213"/>
                </a:lnTo>
                <a:lnTo>
                  <a:pt x="1662" y="169"/>
                </a:lnTo>
                <a:lnTo>
                  <a:pt x="1559" y="147"/>
                </a:lnTo>
                <a:lnTo>
                  <a:pt x="1552" y="103"/>
                </a:lnTo>
                <a:lnTo>
                  <a:pt x="1441" y="103"/>
                </a:lnTo>
                <a:lnTo>
                  <a:pt x="1432" y="36"/>
                </a:lnTo>
                <a:lnTo>
                  <a:pt x="1291" y="36"/>
                </a:lnTo>
                <a:lnTo>
                  <a:pt x="1291" y="89"/>
                </a:lnTo>
                <a:lnTo>
                  <a:pt x="1148" y="89"/>
                </a:lnTo>
                <a:lnTo>
                  <a:pt x="1062" y="22"/>
                </a:lnTo>
                <a:lnTo>
                  <a:pt x="920" y="22"/>
                </a:lnTo>
                <a:lnTo>
                  <a:pt x="839" y="58"/>
                </a:lnTo>
                <a:lnTo>
                  <a:pt x="691" y="58"/>
                </a:lnTo>
                <a:lnTo>
                  <a:pt x="658" y="22"/>
                </a:lnTo>
                <a:lnTo>
                  <a:pt x="594" y="29"/>
                </a:lnTo>
                <a:lnTo>
                  <a:pt x="468" y="0"/>
                </a:lnTo>
                <a:lnTo>
                  <a:pt x="334" y="80"/>
                </a:lnTo>
                <a:lnTo>
                  <a:pt x="287" y="36"/>
                </a:lnTo>
                <a:lnTo>
                  <a:pt x="240" y="36"/>
                </a:lnTo>
                <a:lnTo>
                  <a:pt x="169" y="66"/>
                </a:lnTo>
                <a:lnTo>
                  <a:pt x="129" y="29"/>
                </a:lnTo>
                <a:lnTo>
                  <a:pt x="97" y="29"/>
                </a:lnTo>
                <a:lnTo>
                  <a:pt x="27" y="66"/>
                </a:lnTo>
                <a:lnTo>
                  <a:pt x="0" y="91"/>
                </a:lnTo>
                <a:lnTo>
                  <a:pt x="0" y="1418"/>
                </a:lnTo>
                <a:lnTo>
                  <a:pt x="1559" y="1432"/>
                </a:lnTo>
                <a:lnTo>
                  <a:pt x="1558" y="1418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48040" y="930240"/>
            <a:ext cx="2657520" cy="2492280"/>
          </a:xfrm>
          <a:custGeom>
            <a:avLst/>
            <a:gdLst/>
            <a:ahLst/>
            <a:rect l="l" t="t" r="r" b="b"/>
            <a:pathLst>
              <a:path w="1674" h="1570">
                <a:moveTo>
                  <a:pt x="1613" y="1569"/>
                </a:moveTo>
                <a:lnTo>
                  <a:pt x="1613" y="1569"/>
                </a:lnTo>
                <a:lnTo>
                  <a:pt x="1673" y="1414"/>
                </a:lnTo>
                <a:lnTo>
                  <a:pt x="1666" y="1309"/>
                </a:lnTo>
                <a:lnTo>
                  <a:pt x="1619" y="1235"/>
                </a:lnTo>
                <a:lnTo>
                  <a:pt x="1619" y="1179"/>
                </a:lnTo>
                <a:lnTo>
                  <a:pt x="1647" y="1123"/>
                </a:lnTo>
                <a:lnTo>
                  <a:pt x="1647" y="1078"/>
                </a:lnTo>
                <a:lnTo>
                  <a:pt x="1607" y="1029"/>
                </a:lnTo>
                <a:lnTo>
                  <a:pt x="1613" y="943"/>
                </a:lnTo>
                <a:lnTo>
                  <a:pt x="1580" y="881"/>
                </a:lnTo>
                <a:lnTo>
                  <a:pt x="1595" y="751"/>
                </a:lnTo>
                <a:lnTo>
                  <a:pt x="1595" y="695"/>
                </a:lnTo>
                <a:lnTo>
                  <a:pt x="1575" y="633"/>
                </a:lnTo>
                <a:lnTo>
                  <a:pt x="1588" y="577"/>
                </a:lnTo>
                <a:lnTo>
                  <a:pt x="1588" y="422"/>
                </a:lnTo>
                <a:lnTo>
                  <a:pt x="1555" y="398"/>
                </a:lnTo>
                <a:lnTo>
                  <a:pt x="1555" y="342"/>
                </a:lnTo>
                <a:lnTo>
                  <a:pt x="1580" y="286"/>
                </a:lnTo>
                <a:lnTo>
                  <a:pt x="1580" y="181"/>
                </a:lnTo>
                <a:lnTo>
                  <a:pt x="1540" y="125"/>
                </a:lnTo>
                <a:lnTo>
                  <a:pt x="1428" y="38"/>
                </a:lnTo>
                <a:lnTo>
                  <a:pt x="1349" y="38"/>
                </a:lnTo>
                <a:lnTo>
                  <a:pt x="1170" y="94"/>
                </a:lnTo>
                <a:lnTo>
                  <a:pt x="1111" y="94"/>
                </a:lnTo>
                <a:lnTo>
                  <a:pt x="1051" y="26"/>
                </a:lnTo>
                <a:lnTo>
                  <a:pt x="953" y="26"/>
                </a:lnTo>
                <a:lnTo>
                  <a:pt x="906" y="81"/>
                </a:lnTo>
                <a:lnTo>
                  <a:pt x="793" y="81"/>
                </a:lnTo>
                <a:lnTo>
                  <a:pt x="760" y="0"/>
                </a:lnTo>
                <a:lnTo>
                  <a:pt x="648" y="0"/>
                </a:lnTo>
                <a:lnTo>
                  <a:pt x="622" y="57"/>
                </a:lnTo>
                <a:lnTo>
                  <a:pt x="509" y="57"/>
                </a:lnTo>
                <a:lnTo>
                  <a:pt x="503" y="26"/>
                </a:lnTo>
                <a:lnTo>
                  <a:pt x="324" y="26"/>
                </a:lnTo>
                <a:lnTo>
                  <a:pt x="324" y="81"/>
                </a:lnTo>
                <a:lnTo>
                  <a:pt x="238" y="81"/>
                </a:lnTo>
                <a:lnTo>
                  <a:pt x="178" y="125"/>
                </a:lnTo>
                <a:lnTo>
                  <a:pt x="66" y="101"/>
                </a:lnTo>
                <a:lnTo>
                  <a:pt x="0" y="106"/>
                </a:lnTo>
                <a:lnTo>
                  <a:pt x="1" y="106"/>
                </a:lnTo>
                <a:lnTo>
                  <a:pt x="4" y="153"/>
                </a:lnTo>
                <a:lnTo>
                  <a:pt x="4" y="163"/>
                </a:lnTo>
                <a:lnTo>
                  <a:pt x="7" y="175"/>
                </a:lnTo>
                <a:lnTo>
                  <a:pt x="7" y="188"/>
                </a:lnTo>
                <a:lnTo>
                  <a:pt x="12" y="201"/>
                </a:lnTo>
                <a:lnTo>
                  <a:pt x="15" y="215"/>
                </a:lnTo>
                <a:lnTo>
                  <a:pt x="18" y="229"/>
                </a:lnTo>
                <a:lnTo>
                  <a:pt x="22" y="244"/>
                </a:lnTo>
                <a:lnTo>
                  <a:pt x="26" y="252"/>
                </a:lnTo>
                <a:lnTo>
                  <a:pt x="43" y="274"/>
                </a:lnTo>
                <a:lnTo>
                  <a:pt x="85" y="321"/>
                </a:lnTo>
                <a:lnTo>
                  <a:pt x="149" y="386"/>
                </a:lnTo>
                <a:lnTo>
                  <a:pt x="229" y="466"/>
                </a:lnTo>
                <a:lnTo>
                  <a:pt x="323" y="558"/>
                </a:lnTo>
                <a:lnTo>
                  <a:pt x="427" y="660"/>
                </a:lnTo>
                <a:lnTo>
                  <a:pt x="536" y="768"/>
                </a:lnTo>
                <a:lnTo>
                  <a:pt x="652" y="872"/>
                </a:lnTo>
                <a:lnTo>
                  <a:pt x="767" y="979"/>
                </a:lnTo>
                <a:lnTo>
                  <a:pt x="884" y="1085"/>
                </a:lnTo>
                <a:lnTo>
                  <a:pt x="997" y="1186"/>
                </a:lnTo>
                <a:lnTo>
                  <a:pt x="1105" y="1278"/>
                </a:lnTo>
                <a:lnTo>
                  <a:pt x="1200" y="1359"/>
                </a:lnTo>
                <a:lnTo>
                  <a:pt x="1279" y="1424"/>
                </a:lnTo>
                <a:lnTo>
                  <a:pt x="1339" y="1470"/>
                </a:lnTo>
                <a:lnTo>
                  <a:pt x="1376" y="1491"/>
                </a:lnTo>
                <a:lnTo>
                  <a:pt x="1398" y="1502"/>
                </a:lnTo>
                <a:lnTo>
                  <a:pt x="1424" y="1511"/>
                </a:lnTo>
                <a:lnTo>
                  <a:pt x="1448" y="1522"/>
                </a:lnTo>
                <a:lnTo>
                  <a:pt x="1475" y="1531"/>
                </a:lnTo>
                <a:lnTo>
                  <a:pt x="1499" y="1541"/>
                </a:lnTo>
                <a:lnTo>
                  <a:pt x="1520" y="1548"/>
                </a:lnTo>
                <a:lnTo>
                  <a:pt x="1536" y="1553"/>
                </a:lnTo>
                <a:lnTo>
                  <a:pt x="1607" y="1569"/>
                </a:lnTo>
                <a:lnTo>
                  <a:pt x="1613" y="1569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68440" y="998640"/>
            <a:ext cx="1928880" cy="2066760"/>
          </a:xfrm>
          <a:custGeom>
            <a:avLst/>
            <a:gdLst/>
            <a:ahLst/>
            <a:rect l="l" t="t" r="r" b="b"/>
            <a:pathLst>
              <a:path w="1215" h="1302">
                <a:moveTo>
                  <a:pt x="1129" y="1301"/>
                </a:moveTo>
                <a:lnTo>
                  <a:pt x="1129" y="1301"/>
                </a:lnTo>
                <a:lnTo>
                  <a:pt x="1188" y="1234"/>
                </a:lnTo>
                <a:lnTo>
                  <a:pt x="1148" y="1216"/>
                </a:lnTo>
                <a:lnTo>
                  <a:pt x="1148" y="1160"/>
                </a:lnTo>
                <a:lnTo>
                  <a:pt x="1129" y="1110"/>
                </a:lnTo>
                <a:lnTo>
                  <a:pt x="1188" y="1029"/>
                </a:lnTo>
                <a:lnTo>
                  <a:pt x="1214" y="777"/>
                </a:lnTo>
                <a:lnTo>
                  <a:pt x="1102" y="672"/>
                </a:lnTo>
                <a:lnTo>
                  <a:pt x="1102" y="566"/>
                </a:lnTo>
                <a:lnTo>
                  <a:pt x="1122" y="505"/>
                </a:lnTo>
                <a:lnTo>
                  <a:pt x="1122" y="450"/>
                </a:lnTo>
                <a:lnTo>
                  <a:pt x="1095" y="450"/>
                </a:lnTo>
                <a:lnTo>
                  <a:pt x="1082" y="382"/>
                </a:lnTo>
                <a:lnTo>
                  <a:pt x="1116" y="278"/>
                </a:lnTo>
                <a:lnTo>
                  <a:pt x="1116" y="172"/>
                </a:lnTo>
                <a:lnTo>
                  <a:pt x="1004" y="153"/>
                </a:lnTo>
                <a:lnTo>
                  <a:pt x="959" y="49"/>
                </a:lnTo>
                <a:lnTo>
                  <a:pt x="846" y="49"/>
                </a:lnTo>
                <a:lnTo>
                  <a:pt x="735" y="31"/>
                </a:lnTo>
                <a:lnTo>
                  <a:pt x="623" y="68"/>
                </a:lnTo>
                <a:lnTo>
                  <a:pt x="413" y="49"/>
                </a:lnTo>
                <a:lnTo>
                  <a:pt x="361" y="55"/>
                </a:lnTo>
                <a:lnTo>
                  <a:pt x="340" y="0"/>
                </a:lnTo>
                <a:lnTo>
                  <a:pt x="223" y="0"/>
                </a:lnTo>
                <a:lnTo>
                  <a:pt x="111" y="61"/>
                </a:lnTo>
                <a:lnTo>
                  <a:pt x="0" y="74"/>
                </a:lnTo>
                <a:lnTo>
                  <a:pt x="6" y="68"/>
                </a:lnTo>
                <a:lnTo>
                  <a:pt x="13" y="127"/>
                </a:lnTo>
                <a:lnTo>
                  <a:pt x="14" y="142"/>
                </a:lnTo>
                <a:lnTo>
                  <a:pt x="17" y="161"/>
                </a:lnTo>
                <a:lnTo>
                  <a:pt x="21" y="187"/>
                </a:lnTo>
                <a:lnTo>
                  <a:pt x="27" y="215"/>
                </a:lnTo>
                <a:lnTo>
                  <a:pt x="33" y="246"/>
                </a:lnTo>
                <a:lnTo>
                  <a:pt x="40" y="278"/>
                </a:lnTo>
                <a:lnTo>
                  <a:pt x="46" y="310"/>
                </a:lnTo>
                <a:lnTo>
                  <a:pt x="55" y="340"/>
                </a:lnTo>
                <a:lnTo>
                  <a:pt x="63" y="370"/>
                </a:lnTo>
                <a:lnTo>
                  <a:pt x="71" y="402"/>
                </a:lnTo>
                <a:lnTo>
                  <a:pt x="80" y="437"/>
                </a:lnTo>
                <a:lnTo>
                  <a:pt x="89" y="470"/>
                </a:lnTo>
                <a:lnTo>
                  <a:pt x="99" y="502"/>
                </a:lnTo>
                <a:lnTo>
                  <a:pt x="107" y="529"/>
                </a:lnTo>
                <a:lnTo>
                  <a:pt x="116" y="553"/>
                </a:lnTo>
                <a:lnTo>
                  <a:pt x="124" y="570"/>
                </a:lnTo>
                <a:lnTo>
                  <a:pt x="131" y="588"/>
                </a:lnTo>
                <a:lnTo>
                  <a:pt x="140" y="609"/>
                </a:lnTo>
                <a:lnTo>
                  <a:pt x="149" y="632"/>
                </a:lnTo>
                <a:lnTo>
                  <a:pt x="161" y="655"/>
                </a:lnTo>
                <a:lnTo>
                  <a:pt x="172" y="682"/>
                </a:lnTo>
                <a:lnTo>
                  <a:pt x="183" y="707"/>
                </a:lnTo>
                <a:lnTo>
                  <a:pt x="192" y="730"/>
                </a:lnTo>
                <a:lnTo>
                  <a:pt x="202" y="749"/>
                </a:lnTo>
                <a:lnTo>
                  <a:pt x="211" y="770"/>
                </a:lnTo>
                <a:lnTo>
                  <a:pt x="222" y="792"/>
                </a:lnTo>
                <a:lnTo>
                  <a:pt x="234" y="818"/>
                </a:lnTo>
                <a:lnTo>
                  <a:pt x="244" y="840"/>
                </a:lnTo>
                <a:lnTo>
                  <a:pt x="255" y="863"/>
                </a:lnTo>
                <a:lnTo>
                  <a:pt x="266" y="885"/>
                </a:lnTo>
                <a:lnTo>
                  <a:pt x="273" y="902"/>
                </a:lnTo>
                <a:lnTo>
                  <a:pt x="282" y="917"/>
                </a:lnTo>
                <a:lnTo>
                  <a:pt x="288" y="930"/>
                </a:lnTo>
                <a:lnTo>
                  <a:pt x="297" y="946"/>
                </a:lnTo>
                <a:lnTo>
                  <a:pt x="308" y="962"/>
                </a:lnTo>
                <a:lnTo>
                  <a:pt x="321" y="981"/>
                </a:lnTo>
                <a:lnTo>
                  <a:pt x="333" y="999"/>
                </a:lnTo>
                <a:lnTo>
                  <a:pt x="346" y="1017"/>
                </a:lnTo>
                <a:lnTo>
                  <a:pt x="357" y="1033"/>
                </a:lnTo>
                <a:lnTo>
                  <a:pt x="370" y="1045"/>
                </a:lnTo>
                <a:lnTo>
                  <a:pt x="382" y="1059"/>
                </a:lnTo>
                <a:lnTo>
                  <a:pt x="395" y="1073"/>
                </a:lnTo>
                <a:lnTo>
                  <a:pt x="408" y="1089"/>
                </a:lnTo>
                <a:lnTo>
                  <a:pt x="427" y="1104"/>
                </a:lnTo>
                <a:lnTo>
                  <a:pt x="441" y="1117"/>
                </a:lnTo>
                <a:lnTo>
                  <a:pt x="456" y="1132"/>
                </a:lnTo>
                <a:lnTo>
                  <a:pt x="468" y="1142"/>
                </a:lnTo>
                <a:lnTo>
                  <a:pt x="482" y="1150"/>
                </a:lnTo>
                <a:lnTo>
                  <a:pt x="504" y="1167"/>
                </a:lnTo>
                <a:lnTo>
                  <a:pt x="527" y="1181"/>
                </a:lnTo>
                <a:lnTo>
                  <a:pt x="544" y="1194"/>
                </a:lnTo>
                <a:lnTo>
                  <a:pt x="557" y="1202"/>
                </a:lnTo>
                <a:lnTo>
                  <a:pt x="568" y="1209"/>
                </a:lnTo>
                <a:lnTo>
                  <a:pt x="584" y="1216"/>
                </a:lnTo>
                <a:lnTo>
                  <a:pt x="602" y="1223"/>
                </a:lnTo>
                <a:lnTo>
                  <a:pt x="620" y="1231"/>
                </a:lnTo>
                <a:lnTo>
                  <a:pt x="629" y="1234"/>
                </a:lnTo>
                <a:lnTo>
                  <a:pt x="640" y="1238"/>
                </a:lnTo>
                <a:lnTo>
                  <a:pt x="653" y="1242"/>
                </a:lnTo>
                <a:lnTo>
                  <a:pt x="668" y="1246"/>
                </a:lnTo>
                <a:lnTo>
                  <a:pt x="685" y="1250"/>
                </a:lnTo>
                <a:lnTo>
                  <a:pt x="698" y="1255"/>
                </a:lnTo>
                <a:lnTo>
                  <a:pt x="715" y="1259"/>
                </a:lnTo>
                <a:lnTo>
                  <a:pt x="728" y="1261"/>
                </a:lnTo>
                <a:lnTo>
                  <a:pt x="757" y="1268"/>
                </a:lnTo>
                <a:lnTo>
                  <a:pt x="790" y="1273"/>
                </a:lnTo>
                <a:lnTo>
                  <a:pt x="822" y="1280"/>
                </a:lnTo>
                <a:lnTo>
                  <a:pt x="849" y="1283"/>
                </a:lnTo>
                <a:lnTo>
                  <a:pt x="876" y="1287"/>
                </a:lnTo>
                <a:lnTo>
                  <a:pt x="909" y="1288"/>
                </a:lnTo>
                <a:lnTo>
                  <a:pt x="943" y="1291"/>
                </a:lnTo>
                <a:lnTo>
                  <a:pt x="974" y="1292"/>
                </a:lnTo>
                <a:lnTo>
                  <a:pt x="1004" y="1294"/>
                </a:lnTo>
                <a:lnTo>
                  <a:pt x="1039" y="1294"/>
                </a:lnTo>
                <a:lnTo>
                  <a:pt x="1072" y="1294"/>
                </a:lnTo>
                <a:lnTo>
                  <a:pt x="1155" y="1294"/>
                </a:lnTo>
                <a:lnTo>
                  <a:pt x="1129" y="1301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89160" y="3932280"/>
            <a:ext cx="2760480" cy="2274840"/>
          </a:xfrm>
          <a:custGeom>
            <a:avLst/>
            <a:gdLst/>
            <a:ahLst/>
            <a:rect l="l" t="t" r="r" b="b"/>
            <a:pathLst>
              <a:path w="1739" h="1433">
                <a:moveTo>
                  <a:pt x="1525" y="1432"/>
                </a:moveTo>
                <a:lnTo>
                  <a:pt x="1525" y="1432"/>
                </a:lnTo>
                <a:lnTo>
                  <a:pt x="1572" y="1372"/>
                </a:lnTo>
                <a:lnTo>
                  <a:pt x="1572" y="1306"/>
                </a:lnTo>
                <a:lnTo>
                  <a:pt x="1620" y="1262"/>
                </a:lnTo>
                <a:lnTo>
                  <a:pt x="1738" y="1122"/>
                </a:lnTo>
                <a:lnTo>
                  <a:pt x="1643" y="1024"/>
                </a:lnTo>
                <a:lnTo>
                  <a:pt x="1699" y="869"/>
                </a:lnTo>
                <a:lnTo>
                  <a:pt x="1604" y="758"/>
                </a:lnTo>
                <a:lnTo>
                  <a:pt x="1659" y="649"/>
                </a:lnTo>
                <a:lnTo>
                  <a:pt x="1628" y="522"/>
                </a:lnTo>
                <a:lnTo>
                  <a:pt x="1684" y="426"/>
                </a:lnTo>
                <a:lnTo>
                  <a:pt x="1643" y="353"/>
                </a:lnTo>
                <a:lnTo>
                  <a:pt x="1675" y="264"/>
                </a:lnTo>
                <a:lnTo>
                  <a:pt x="1635" y="213"/>
                </a:lnTo>
                <a:lnTo>
                  <a:pt x="1635" y="169"/>
                </a:lnTo>
                <a:lnTo>
                  <a:pt x="1534" y="146"/>
                </a:lnTo>
                <a:lnTo>
                  <a:pt x="1525" y="101"/>
                </a:lnTo>
                <a:lnTo>
                  <a:pt x="1414" y="101"/>
                </a:lnTo>
                <a:lnTo>
                  <a:pt x="1407" y="35"/>
                </a:lnTo>
                <a:lnTo>
                  <a:pt x="1264" y="35"/>
                </a:lnTo>
                <a:lnTo>
                  <a:pt x="1264" y="88"/>
                </a:lnTo>
                <a:lnTo>
                  <a:pt x="1123" y="88"/>
                </a:lnTo>
                <a:lnTo>
                  <a:pt x="1035" y="20"/>
                </a:lnTo>
                <a:lnTo>
                  <a:pt x="894" y="20"/>
                </a:lnTo>
                <a:lnTo>
                  <a:pt x="814" y="57"/>
                </a:lnTo>
                <a:lnTo>
                  <a:pt x="665" y="57"/>
                </a:lnTo>
                <a:lnTo>
                  <a:pt x="632" y="20"/>
                </a:lnTo>
                <a:lnTo>
                  <a:pt x="569" y="27"/>
                </a:lnTo>
                <a:lnTo>
                  <a:pt x="443" y="0"/>
                </a:lnTo>
                <a:lnTo>
                  <a:pt x="309" y="79"/>
                </a:lnTo>
                <a:lnTo>
                  <a:pt x="261" y="35"/>
                </a:lnTo>
                <a:lnTo>
                  <a:pt x="214" y="35"/>
                </a:lnTo>
                <a:lnTo>
                  <a:pt x="143" y="64"/>
                </a:lnTo>
                <a:lnTo>
                  <a:pt x="103" y="27"/>
                </a:lnTo>
                <a:lnTo>
                  <a:pt x="71" y="27"/>
                </a:lnTo>
                <a:lnTo>
                  <a:pt x="0" y="64"/>
                </a:lnTo>
                <a:lnTo>
                  <a:pt x="0" y="98"/>
                </a:lnTo>
                <a:lnTo>
                  <a:pt x="0" y="107"/>
                </a:lnTo>
                <a:lnTo>
                  <a:pt x="1" y="116"/>
                </a:lnTo>
                <a:lnTo>
                  <a:pt x="2" y="129"/>
                </a:lnTo>
                <a:lnTo>
                  <a:pt x="5" y="140"/>
                </a:lnTo>
                <a:lnTo>
                  <a:pt x="6" y="156"/>
                </a:lnTo>
                <a:lnTo>
                  <a:pt x="9" y="169"/>
                </a:lnTo>
                <a:lnTo>
                  <a:pt x="11" y="183"/>
                </a:lnTo>
                <a:lnTo>
                  <a:pt x="15" y="193"/>
                </a:lnTo>
                <a:lnTo>
                  <a:pt x="19" y="208"/>
                </a:lnTo>
                <a:lnTo>
                  <a:pt x="26" y="225"/>
                </a:lnTo>
                <a:lnTo>
                  <a:pt x="34" y="243"/>
                </a:lnTo>
                <a:lnTo>
                  <a:pt x="45" y="260"/>
                </a:lnTo>
                <a:lnTo>
                  <a:pt x="54" y="281"/>
                </a:lnTo>
                <a:lnTo>
                  <a:pt x="64" y="299"/>
                </a:lnTo>
                <a:lnTo>
                  <a:pt x="75" y="316"/>
                </a:lnTo>
                <a:lnTo>
                  <a:pt x="87" y="331"/>
                </a:lnTo>
                <a:lnTo>
                  <a:pt x="97" y="345"/>
                </a:lnTo>
                <a:lnTo>
                  <a:pt x="112" y="360"/>
                </a:lnTo>
                <a:lnTo>
                  <a:pt x="126" y="377"/>
                </a:lnTo>
                <a:lnTo>
                  <a:pt x="144" y="389"/>
                </a:lnTo>
                <a:lnTo>
                  <a:pt x="160" y="402"/>
                </a:lnTo>
                <a:lnTo>
                  <a:pt x="177" y="413"/>
                </a:lnTo>
                <a:lnTo>
                  <a:pt x="190" y="423"/>
                </a:lnTo>
                <a:lnTo>
                  <a:pt x="205" y="426"/>
                </a:lnTo>
                <a:lnTo>
                  <a:pt x="234" y="437"/>
                </a:lnTo>
                <a:lnTo>
                  <a:pt x="268" y="446"/>
                </a:lnTo>
                <a:lnTo>
                  <a:pt x="305" y="454"/>
                </a:lnTo>
                <a:lnTo>
                  <a:pt x="335" y="460"/>
                </a:lnTo>
                <a:lnTo>
                  <a:pt x="364" y="467"/>
                </a:lnTo>
                <a:lnTo>
                  <a:pt x="397" y="475"/>
                </a:lnTo>
                <a:lnTo>
                  <a:pt x="428" y="484"/>
                </a:lnTo>
                <a:lnTo>
                  <a:pt x="454" y="493"/>
                </a:lnTo>
                <a:lnTo>
                  <a:pt x="464" y="499"/>
                </a:lnTo>
                <a:lnTo>
                  <a:pt x="475" y="504"/>
                </a:lnTo>
                <a:lnTo>
                  <a:pt x="487" y="511"/>
                </a:lnTo>
                <a:lnTo>
                  <a:pt x="503" y="515"/>
                </a:lnTo>
                <a:lnTo>
                  <a:pt x="515" y="522"/>
                </a:lnTo>
                <a:lnTo>
                  <a:pt x="528" y="529"/>
                </a:lnTo>
                <a:lnTo>
                  <a:pt x="540" y="535"/>
                </a:lnTo>
                <a:lnTo>
                  <a:pt x="549" y="537"/>
                </a:lnTo>
                <a:lnTo>
                  <a:pt x="557" y="544"/>
                </a:lnTo>
                <a:lnTo>
                  <a:pt x="569" y="552"/>
                </a:lnTo>
                <a:lnTo>
                  <a:pt x="579" y="562"/>
                </a:lnTo>
                <a:lnTo>
                  <a:pt x="592" y="574"/>
                </a:lnTo>
                <a:lnTo>
                  <a:pt x="605" y="587"/>
                </a:lnTo>
                <a:lnTo>
                  <a:pt x="616" y="599"/>
                </a:lnTo>
                <a:lnTo>
                  <a:pt x="625" y="611"/>
                </a:lnTo>
                <a:lnTo>
                  <a:pt x="636" y="622"/>
                </a:lnTo>
                <a:lnTo>
                  <a:pt x="645" y="636"/>
                </a:lnTo>
                <a:lnTo>
                  <a:pt x="652" y="653"/>
                </a:lnTo>
                <a:lnTo>
                  <a:pt x="661" y="671"/>
                </a:lnTo>
                <a:lnTo>
                  <a:pt x="670" y="690"/>
                </a:lnTo>
                <a:lnTo>
                  <a:pt x="675" y="709"/>
                </a:lnTo>
                <a:lnTo>
                  <a:pt x="683" y="728"/>
                </a:lnTo>
                <a:lnTo>
                  <a:pt x="687" y="745"/>
                </a:lnTo>
                <a:lnTo>
                  <a:pt x="692" y="759"/>
                </a:lnTo>
                <a:lnTo>
                  <a:pt x="693" y="775"/>
                </a:lnTo>
                <a:lnTo>
                  <a:pt x="695" y="792"/>
                </a:lnTo>
                <a:lnTo>
                  <a:pt x="699" y="809"/>
                </a:lnTo>
                <a:lnTo>
                  <a:pt x="703" y="825"/>
                </a:lnTo>
                <a:lnTo>
                  <a:pt x="706" y="844"/>
                </a:lnTo>
                <a:lnTo>
                  <a:pt x="709" y="858"/>
                </a:lnTo>
                <a:lnTo>
                  <a:pt x="711" y="872"/>
                </a:lnTo>
                <a:lnTo>
                  <a:pt x="715" y="881"/>
                </a:lnTo>
                <a:lnTo>
                  <a:pt x="717" y="893"/>
                </a:lnTo>
                <a:lnTo>
                  <a:pt x="722" y="905"/>
                </a:lnTo>
                <a:lnTo>
                  <a:pt x="727" y="922"/>
                </a:lnTo>
                <a:lnTo>
                  <a:pt x="734" y="937"/>
                </a:lnTo>
                <a:lnTo>
                  <a:pt x="739" y="955"/>
                </a:lnTo>
                <a:lnTo>
                  <a:pt x="745" y="973"/>
                </a:lnTo>
                <a:lnTo>
                  <a:pt x="751" y="990"/>
                </a:lnTo>
                <a:lnTo>
                  <a:pt x="759" y="1002"/>
                </a:lnTo>
                <a:lnTo>
                  <a:pt x="765" y="1019"/>
                </a:lnTo>
                <a:lnTo>
                  <a:pt x="775" y="1037"/>
                </a:lnTo>
                <a:lnTo>
                  <a:pt x="786" y="1057"/>
                </a:lnTo>
                <a:lnTo>
                  <a:pt x="800" y="1077"/>
                </a:lnTo>
                <a:lnTo>
                  <a:pt x="814" y="1099"/>
                </a:lnTo>
                <a:lnTo>
                  <a:pt x="826" y="1119"/>
                </a:lnTo>
                <a:lnTo>
                  <a:pt x="840" y="1137"/>
                </a:lnTo>
                <a:lnTo>
                  <a:pt x="853" y="1152"/>
                </a:lnTo>
                <a:lnTo>
                  <a:pt x="865" y="1167"/>
                </a:lnTo>
                <a:lnTo>
                  <a:pt x="884" y="1183"/>
                </a:lnTo>
                <a:lnTo>
                  <a:pt x="903" y="1201"/>
                </a:lnTo>
                <a:lnTo>
                  <a:pt x="926" y="1217"/>
                </a:lnTo>
                <a:lnTo>
                  <a:pt x="948" y="1235"/>
                </a:lnTo>
                <a:lnTo>
                  <a:pt x="970" y="1252"/>
                </a:lnTo>
                <a:lnTo>
                  <a:pt x="992" y="1265"/>
                </a:lnTo>
                <a:lnTo>
                  <a:pt x="1011" y="1277"/>
                </a:lnTo>
                <a:lnTo>
                  <a:pt x="1032" y="1287"/>
                </a:lnTo>
                <a:lnTo>
                  <a:pt x="1056" y="1299"/>
                </a:lnTo>
                <a:lnTo>
                  <a:pt x="1084" y="1312"/>
                </a:lnTo>
                <a:lnTo>
                  <a:pt x="1117" y="1325"/>
                </a:lnTo>
                <a:lnTo>
                  <a:pt x="1148" y="1339"/>
                </a:lnTo>
                <a:lnTo>
                  <a:pt x="1180" y="1350"/>
                </a:lnTo>
                <a:lnTo>
                  <a:pt x="1207" y="1362"/>
                </a:lnTo>
                <a:lnTo>
                  <a:pt x="1237" y="1369"/>
                </a:lnTo>
                <a:lnTo>
                  <a:pt x="1261" y="1377"/>
                </a:lnTo>
                <a:lnTo>
                  <a:pt x="1291" y="1385"/>
                </a:lnTo>
                <a:lnTo>
                  <a:pt x="1321" y="1394"/>
                </a:lnTo>
                <a:lnTo>
                  <a:pt x="1353" y="1400"/>
                </a:lnTo>
                <a:lnTo>
                  <a:pt x="1381" y="1408"/>
                </a:lnTo>
                <a:lnTo>
                  <a:pt x="1407" y="1414"/>
                </a:lnTo>
                <a:lnTo>
                  <a:pt x="1430" y="1419"/>
                </a:lnTo>
                <a:lnTo>
                  <a:pt x="1534" y="1432"/>
                </a:lnTo>
                <a:lnTo>
                  <a:pt x="1525" y="1432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0"/>
            <a:ext cx="7696440" cy="10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0"/>
            <a:ext cx="76964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300" spc="-1" strike="noStrike">
                <a:solidFill>
                  <a:srgbClr val="000000"/>
                </a:solidFill>
                <a:latin typeface="Times New Roman"/>
              </a:rPr>
              <a:t>Qué pasa en el caso de “no convexidad...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-3240" y="1749600"/>
            <a:ext cx="4602240" cy="5111640"/>
            <a:chOff x="-3240" y="1749600"/>
            <a:chExt cx="4602240" cy="5111640"/>
          </a:xfrm>
        </p:grpSpPr>
        <p:sp>
          <p:nvSpPr>
            <p:cNvPr id="353" name=""/>
            <p:cNvSpPr/>
            <p:nvPr/>
          </p:nvSpPr>
          <p:spPr>
            <a:xfrm flipH="1">
              <a:off x="-3240" y="1749600"/>
              <a:ext cx="4479840" cy="5111640"/>
            </a:xfrm>
            <a:custGeom>
              <a:avLst/>
              <a:gdLst>
                <a:gd name="textAreaLeft" fmla="*/ 360 w 4479840"/>
                <a:gd name="textAreaRight" fmla="*/ 4480560 w 4479840"/>
                <a:gd name="textAreaTop" fmla="*/ 0 h 5111640"/>
                <a:gd name="textAreaBottom" fmla="*/ 5112000 h 5111640"/>
              </a:gdLst>
              <a:ahLst/>
              <a:rect l="textAreaLeft" t="textAreaTop" r="textAreaRight" b="textAreaBottom"/>
              <a:pathLst>
                <a:path w="21600" h="24646">
                  <a:moveTo>
                    <a:pt x="0" y="0"/>
                  </a:moveTo>
                  <a:arcTo wR="0" hR="0" stAng="16200000" swAng="-5400000"/>
                  <a:lnTo>
                    <a:pt x="0" y="24646"/>
                  </a:lnTo>
                  <a:arcTo wR="0" hR="0" stAng="10800000" swAng="-5400000"/>
                  <a:lnTo>
                    <a:pt x="21600" y="246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c2"/>
            </a:solidFill>
            <a:ln w="12600">
              <a:solidFill>
                <a:srgbClr val="ffff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74560" y="2727360"/>
              <a:ext cx="0" cy="3263760"/>
            </a:xfrm>
            <a:prstGeom prst="line">
              <a:avLst/>
            </a:prstGeom>
            <a:ln w="25560">
              <a:solidFill>
                <a:srgbClr val="8f8f8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1040" y="5994360"/>
              <a:ext cx="3529080" cy="0"/>
            </a:xfrm>
            <a:prstGeom prst="line">
              <a:avLst/>
            </a:prstGeom>
            <a:ln w="25560">
              <a:solidFill>
                <a:srgbClr val="8f8f8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77920" y="3564000"/>
              <a:ext cx="6541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Z(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77920" y="3349800"/>
              <a:ext cx="486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_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64200" y="6004080"/>
              <a:ext cx="1634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35000" y="2838600"/>
              <a:ext cx="3408480" cy="2912760"/>
            </a:xfrm>
            <a:custGeom>
              <a:avLst/>
              <a:gdLst/>
              <a:ahLst/>
              <a:rect l="l" t="t" r="r" b="b"/>
              <a:pathLst>
                <a:path w="2147" h="1835">
                  <a:moveTo>
                    <a:pt x="1883" y="1834"/>
                  </a:moveTo>
                  <a:lnTo>
                    <a:pt x="1883" y="1834"/>
                  </a:lnTo>
                  <a:lnTo>
                    <a:pt x="1940" y="1759"/>
                  </a:lnTo>
                  <a:lnTo>
                    <a:pt x="1940" y="1674"/>
                  </a:lnTo>
                  <a:lnTo>
                    <a:pt x="1999" y="1616"/>
                  </a:lnTo>
                  <a:lnTo>
                    <a:pt x="2146" y="1436"/>
                  </a:lnTo>
                  <a:lnTo>
                    <a:pt x="2027" y="1314"/>
                  </a:lnTo>
                  <a:lnTo>
                    <a:pt x="2096" y="1115"/>
                  </a:lnTo>
                  <a:lnTo>
                    <a:pt x="1980" y="974"/>
                  </a:lnTo>
                  <a:lnTo>
                    <a:pt x="2048" y="832"/>
                  </a:lnTo>
                  <a:lnTo>
                    <a:pt x="2008" y="671"/>
                  </a:lnTo>
                  <a:lnTo>
                    <a:pt x="2075" y="548"/>
                  </a:lnTo>
                  <a:lnTo>
                    <a:pt x="2027" y="454"/>
                  </a:lnTo>
                  <a:lnTo>
                    <a:pt x="2067" y="342"/>
                  </a:lnTo>
                  <a:lnTo>
                    <a:pt x="2018" y="275"/>
                  </a:lnTo>
                  <a:lnTo>
                    <a:pt x="2018" y="218"/>
                  </a:lnTo>
                  <a:lnTo>
                    <a:pt x="1891" y="189"/>
                  </a:lnTo>
                  <a:lnTo>
                    <a:pt x="1883" y="134"/>
                  </a:lnTo>
                  <a:lnTo>
                    <a:pt x="1745" y="134"/>
                  </a:lnTo>
                  <a:lnTo>
                    <a:pt x="1737" y="49"/>
                  </a:lnTo>
                  <a:lnTo>
                    <a:pt x="1560" y="49"/>
                  </a:lnTo>
                  <a:lnTo>
                    <a:pt x="1560" y="114"/>
                  </a:lnTo>
                  <a:lnTo>
                    <a:pt x="1385" y="114"/>
                  </a:lnTo>
                  <a:lnTo>
                    <a:pt x="1278" y="29"/>
                  </a:lnTo>
                  <a:lnTo>
                    <a:pt x="1103" y="29"/>
                  </a:lnTo>
                  <a:lnTo>
                    <a:pt x="1003" y="76"/>
                  </a:lnTo>
                  <a:lnTo>
                    <a:pt x="820" y="76"/>
                  </a:lnTo>
                  <a:lnTo>
                    <a:pt x="780" y="29"/>
                  </a:lnTo>
                  <a:lnTo>
                    <a:pt x="703" y="39"/>
                  </a:lnTo>
                  <a:lnTo>
                    <a:pt x="546" y="0"/>
                  </a:lnTo>
                  <a:lnTo>
                    <a:pt x="380" y="106"/>
                  </a:lnTo>
                  <a:lnTo>
                    <a:pt x="322" y="49"/>
                  </a:lnTo>
                  <a:lnTo>
                    <a:pt x="263" y="49"/>
                  </a:lnTo>
                  <a:lnTo>
                    <a:pt x="175" y="85"/>
                  </a:lnTo>
                  <a:lnTo>
                    <a:pt x="129" y="39"/>
                  </a:lnTo>
                  <a:lnTo>
                    <a:pt x="89" y="39"/>
                  </a:lnTo>
                  <a:lnTo>
                    <a:pt x="0" y="85"/>
                  </a:lnTo>
                  <a:lnTo>
                    <a:pt x="0" y="128"/>
                  </a:lnTo>
                  <a:lnTo>
                    <a:pt x="0" y="139"/>
                  </a:lnTo>
                  <a:lnTo>
                    <a:pt x="2" y="150"/>
                  </a:lnTo>
                  <a:lnTo>
                    <a:pt x="3" y="167"/>
                  </a:lnTo>
                  <a:lnTo>
                    <a:pt x="6" y="182"/>
                  </a:lnTo>
                  <a:lnTo>
                    <a:pt x="9" y="202"/>
                  </a:lnTo>
                  <a:lnTo>
                    <a:pt x="13" y="219"/>
                  </a:lnTo>
                  <a:lnTo>
                    <a:pt x="16" y="237"/>
                  </a:lnTo>
                  <a:lnTo>
                    <a:pt x="21" y="251"/>
                  </a:lnTo>
                  <a:lnTo>
                    <a:pt x="25" y="269"/>
                  </a:lnTo>
                  <a:lnTo>
                    <a:pt x="33" y="290"/>
                  </a:lnTo>
                  <a:lnTo>
                    <a:pt x="42" y="313"/>
                  </a:lnTo>
                  <a:lnTo>
                    <a:pt x="54" y="336"/>
                  </a:lnTo>
                  <a:lnTo>
                    <a:pt x="66" y="361"/>
                  </a:lnTo>
                  <a:lnTo>
                    <a:pt x="80" y="384"/>
                  </a:lnTo>
                  <a:lnTo>
                    <a:pt x="93" y="406"/>
                  </a:lnTo>
                  <a:lnTo>
                    <a:pt x="107" y="426"/>
                  </a:lnTo>
                  <a:lnTo>
                    <a:pt x="121" y="444"/>
                  </a:lnTo>
                  <a:lnTo>
                    <a:pt x="138" y="463"/>
                  </a:lnTo>
                  <a:lnTo>
                    <a:pt x="156" y="484"/>
                  </a:lnTo>
                  <a:lnTo>
                    <a:pt x="179" y="501"/>
                  </a:lnTo>
                  <a:lnTo>
                    <a:pt x="198" y="518"/>
                  </a:lnTo>
                  <a:lnTo>
                    <a:pt x="219" y="531"/>
                  </a:lnTo>
                  <a:lnTo>
                    <a:pt x="237" y="542"/>
                  </a:lnTo>
                  <a:lnTo>
                    <a:pt x="254" y="548"/>
                  </a:lnTo>
                  <a:lnTo>
                    <a:pt x="289" y="563"/>
                  </a:lnTo>
                  <a:lnTo>
                    <a:pt x="333" y="573"/>
                  </a:lnTo>
                  <a:lnTo>
                    <a:pt x="376" y="584"/>
                  </a:lnTo>
                  <a:lnTo>
                    <a:pt x="416" y="590"/>
                  </a:lnTo>
                  <a:lnTo>
                    <a:pt x="450" y="599"/>
                  </a:lnTo>
                  <a:lnTo>
                    <a:pt x="490" y="611"/>
                  </a:lnTo>
                  <a:lnTo>
                    <a:pt x="528" y="622"/>
                  </a:lnTo>
                  <a:lnTo>
                    <a:pt x="560" y="633"/>
                  </a:lnTo>
                  <a:lnTo>
                    <a:pt x="573" y="640"/>
                  </a:lnTo>
                  <a:lnTo>
                    <a:pt x="588" y="647"/>
                  </a:lnTo>
                  <a:lnTo>
                    <a:pt x="601" y="657"/>
                  </a:lnTo>
                  <a:lnTo>
                    <a:pt x="621" y="662"/>
                  </a:lnTo>
                  <a:lnTo>
                    <a:pt x="637" y="671"/>
                  </a:lnTo>
                  <a:lnTo>
                    <a:pt x="652" y="679"/>
                  </a:lnTo>
                  <a:lnTo>
                    <a:pt x="665" y="686"/>
                  </a:lnTo>
                  <a:lnTo>
                    <a:pt x="678" y="690"/>
                  </a:lnTo>
                  <a:lnTo>
                    <a:pt x="688" y="699"/>
                  </a:lnTo>
                  <a:lnTo>
                    <a:pt x="703" y="710"/>
                  </a:lnTo>
                  <a:lnTo>
                    <a:pt x="715" y="721"/>
                  </a:lnTo>
                  <a:lnTo>
                    <a:pt x="731" y="736"/>
                  </a:lnTo>
                  <a:lnTo>
                    <a:pt x="745" y="753"/>
                  </a:lnTo>
                  <a:lnTo>
                    <a:pt x="760" y="768"/>
                  </a:lnTo>
                  <a:lnTo>
                    <a:pt x="772" y="784"/>
                  </a:lnTo>
                  <a:lnTo>
                    <a:pt x="786" y="799"/>
                  </a:lnTo>
                  <a:lnTo>
                    <a:pt x="795" y="816"/>
                  </a:lnTo>
                  <a:lnTo>
                    <a:pt x="805" y="837"/>
                  </a:lnTo>
                  <a:lnTo>
                    <a:pt x="816" y="860"/>
                  </a:lnTo>
                  <a:lnTo>
                    <a:pt x="826" y="885"/>
                  </a:lnTo>
                  <a:lnTo>
                    <a:pt x="834" y="910"/>
                  </a:lnTo>
                  <a:lnTo>
                    <a:pt x="843" y="933"/>
                  </a:lnTo>
                  <a:lnTo>
                    <a:pt x="849" y="955"/>
                  </a:lnTo>
                  <a:lnTo>
                    <a:pt x="852" y="974"/>
                  </a:lnTo>
                  <a:lnTo>
                    <a:pt x="857" y="994"/>
                  </a:lnTo>
                  <a:lnTo>
                    <a:pt x="860" y="1015"/>
                  </a:lnTo>
                  <a:lnTo>
                    <a:pt x="862" y="1038"/>
                  </a:lnTo>
                  <a:lnTo>
                    <a:pt x="868" y="1058"/>
                  </a:lnTo>
                  <a:lnTo>
                    <a:pt x="871" y="1080"/>
                  </a:lnTo>
                  <a:lnTo>
                    <a:pt x="875" y="1100"/>
                  </a:lnTo>
                  <a:lnTo>
                    <a:pt x="877" y="1118"/>
                  </a:lnTo>
                  <a:lnTo>
                    <a:pt x="884" y="1130"/>
                  </a:lnTo>
                  <a:lnTo>
                    <a:pt x="885" y="1145"/>
                  </a:lnTo>
                  <a:lnTo>
                    <a:pt x="891" y="1161"/>
                  </a:lnTo>
                  <a:lnTo>
                    <a:pt x="896" y="1183"/>
                  </a:lnTo>
                  <a:lnTo>
                    <a:pt x="903" y="1202"/>
                  </a:lnTo>
                  <a:lnTo>
                    <a:pt x="912" y="1224"/>
                  </a:lnTo>
                  <a:lnTo>
                    <a:pt x="919" y="1247"/>
                  </a:lnTo>
                  <a:lnTo>
                    <a:pt x="927" y="1268"/>
                  </a:lnTo>
                  <a:lnTo>
                    <a:pt x="936" y="1286"/>
                  </a:lnTo>
                  <a:lnTo>
                    <a:pt x="944" y="1306"/>
                  </a:lnTo>
                  <a:lnTo>
                    <a:pt x="957" y="1331"/>
                  </a:lnTo>
                  <a:lnTo>
                    <a:pt x="969" y="1354"/>
                  </a:lnTo>
                  <a:lnTo>
                    <a:pt x="988" y="1381"/>
                  </a:lnTo>
                  <a:lnTo>
                    <a:pt x="1003" y="1408"/>
                  </a:lnTo>
                  <a:lnTo>
                    <a:pt x="1019" y="1434"/>
                  </a:lnTo>
                  <a:lnTo>
                    <a:pt x="1036" y="1457"/>
                  </a:lnTo>
                  <a:lnTo>
                    <a:pt x="1052" y="1475"/>
                  </a:lnTo>
                  <a:lnTo>
                    <a:pt x="1071" y="1493"/>
                  </a:lnTo>
                  <a:lnTo>
                    <a:pt x="1092" y="1516"/>
                  </a:lnTo>
                  <a:lnTo>
                    <a:pt x="1115" y="1539"/>
                  </a:lnTo>
                  <a:lnTo>
                    <a:pt x="1142" y="1561"/>
                  </a:lnTo>
                  <a:lnTo>
                    <a:pt x="1170" y="1583"/>
                  </a:lnTo>
                  <a:lnTo>
                    <a:pt x="1196" y="1603"/>
                  </a:lnTo>
                  <a:lnTo>
                    <a:pt x="1223" y="1622"/>
                  </a:lnTo>
                  <a:lnTo>
                    <a:pt x="1246" y="1636"/>
                  </a:lnTo>
                  <a:lnTo>
                    <a:pt x="1273" y="1649"/>
                  </a:lnTo>
                  <a:lnTo>
                    <a:pt x="1304" y="1665"/>
                  </a:lnTo>
                  <a:lnTo>
                    <a:pt x="1339" y="1681"/>
                  </a:lnTo>
                  <a:lnTo>
                    <a:pt x="1377" y="1697"/>
                  </a:lnTo>
                  <a:lnTo>
                    <a:pt x="1417" y="1715"/>
                  </a:lnTo>
                  <a:lnTo>
                    <a:pt x="1456" y="1729"/>
                  </a:lnTo>
                  <a:lnTo>
                    <a:pt x="1492" y="1744"/>
                  </a:lnTo>
                  <a:lnTo>
                    <a:pt x="1525" y="1754"/>
                  </a:lnTo>
                  <a:lnTo>
                    <a:pt x="1558" y="1765"/>
                  </a:lnTo>
                  <a:lnTo>
                    <a:pt x="1593" y="1774"/>
                  </a:lnTo>
                  <a:lnTo>
                    <a:pt x="1629" y="1786"/>
                  </a:lnTo>
                  <a:lnTo>
                    <a:pt x="1669" y="1794"/>
                  </a:lnTo>
                  <a:lnTo>
                    <a:pt x="1705" y="1804"/>
                  </a:lnTo>
                  <a:lnTo>
                    <a:pt x="1737" y="1812"/>
                  </a:lnTo>
                  <a:lnTo>
                    <a:pt x="1765" y="1818"/>
                  </a:lnTo>
                  <a:lnTo>
                    <a:pt x="1891" y="1834"/>
                  </a:lnTo>
                  <a:lnTo>
                    <a:pt x="1883" y="1834"/>
                  </a:lnTo>
                </a:path>
              </a:pathLst>
            </a:custGeom>
            <a:gradFill rotWithShape="0">
              <a:gsLst>
                <a:gs pos="0">
                  <a:srgbClr val="ffffc2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25640" y="2978280"/>
              <a:ext cx="276120" cy="690480"/>
            </a:xfrm>
            <a:custGeom>
              <a:avLst/>
              <a:gdLst/>
              <a:ahLst/>
              <a:rect l="l" t="t" r="r" b="b"/>
              <a:pathLst>
                <a:path w="174" h="435">
                  <a:moveTo>
                    <a:pt x="0" y="0"/>
                  </a:moveTo>
                  <a:lnTo>
                    <a:pt x="0" y="8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1" y="82"/>
                  </a:lnTo>
                  <a:lnTo>
                    <a:pt x="1" y="89"/>
                  </a:lnTo>
                  <a:lnTo>
                    <a:pt x="3" y="97"/>
                  </a:lnTo>
                  <a:lnTo>
                    <a:pt x="3" y="107"/>
                  </a:lnTo>
                  <a:lnTo>
                    <a:pt x="6" y="116"/>
                  </a:lnTo>
                  <a:lnTo>
                    <a:pt x="8" y="125"/>
                  </a:lnTo>
                  <a:lnTo>
                    <a:pt x="10" y="132"/>
                  </a:lnTo>
                  <a:lnTo>
                    <a:pt x="11" y="141"/>
                  </a:lnTo>
                  <a:lnTo>
                    <a:pt x="13" y="150"/>
                  </a:lnTo>
                  <a:lnTo>
                    <a:pt x="15" y="158"/>
                  </a:lnTo>
                  <a:lnTo>
                    <a:pt x="17" y="166"/>
                  </a:lnTo>
                  <a:lnTo>
                    <a:pt x="19" y="176"/>
                  </a:lnTo>
                  <a:lnTo>
                    <a:pt x="22" y="183"/>
                  </a:lnTo>
                  <a:lnTo>
                    <a:pt x="25" y="194"/>
                  </a:lnTo>
                  <a:lnTo>
                    <a:pt x="30" y="204"/>
                  </a:lnTo>
                  <a:lnTo>
                    <a:pt x="34" y="216"/>
                  </a:lnTo>
                  <a:lnTo>
                    <a:pt x="40" y="227"/>
                  </a:lnTo>
                  <a:lnTo>
                    <a:pt x="45" y="241"/>
                  </a:lnTo>
                  <a:lnTo>
                    <a:pt x="51" y="252"/>
                  </a:lnTo>
                  <a:lnTo>
                    <a:pt x="57" y="264"/>
                  </a:lnTo>
                  <a:lnTo>
                    <a:pt x="64" y="276"/>
                  </a:lnTo>
                  <a:lnTo>
                    <a:pt x="69" y="288"/>
                  </a:lnTo>
                  <a:lnTo>
                    <a:pt x="77" y="299"/>
                  </a:lnTo>
                  <a:lnTo>
                    <a:pt x="84" y="311"/>
                  </a:lnTo>
                  <a:lnTo>
                    <a:pt x="90" y="321"/>
                  </a:lnTo>
                  <a:lnTo>
                    <a:pt x="97" y="331"/>
                  </a:lnTo>
                  <a:lnTo>
                    <a:pt x="105" y="340"/>
                  </a:lnTo>
                  <a:lnTo>
                    <a:pt x="109" y="349"/>
                  </a:lnTo>
                  <a:lnTo>
                    <a:pt x="114" y="354"/>
                  </a:lnTo>
                  <a:lnTo>
                    <a:pt x="117" y="360"/>
                  </a:lnTo>
                  <a:lnTo>
                    <a:pt x="119" y="362"/>
                  </a:lnTo>
                  <a:lnTo>
                    <a:pt x="121" y="364"/>
                  </a:lnTo>
                  <a:lnTo>
                    <a:pt x="123" y="367"/>
                  </a:lnTo>
                  <a:lnTo>
                    <a:pt x="124" y="369"/>
                  </a:lnTo>
                  <a:lnTo>
                    <a:pt x="126" y="370"/>
                  </a:lnTo>
                  <a:lnTo>
                    <a:pt x="127" y="373"/>
                  </a:lnTo>
                  <a:lnTo>
                    <a:pt x="130" y="375"/>
                  </a:lnTo>
                  <a:lnTo>
                    <a:pt x="133" y="382"/>
                  </a:lnTo>
                  <a:lnTo>
                    <a:pt x="138" y="386"/>
                  </a:lnTo>
                  <a:lnTo>
                    <a:pt x="143" y="396"/>
                  </a:lnTo>
                  <a:lnTo>
                    <a:pt x="151" y="405"/>
                  </a:lnTo>
                  <a:lnTo>
                    <a:pt x="160" y="418"/>
                  </a:lnTo>
                  <a:lnTo>
                    <a:pt x="173" y="434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65360" y="5038560"/>
              <a:ext cx="1455840" cy="720720"/>
            </a:xfrm>
            <a:custGeom>
              <a:avLst/>
              <a:gdLst/>
              <a:ahLst/>
              <a:rect l="l" t="t" r="r" b="b"/>
              <a:pathLst>
                <a:path w="917" h="454">
                  <a:moveTo>
                    <a:pt x="0" y="0"/>
                  </a:moveTo>
                  <a:lnTo>
                    <a:pt x="13" y="17"/>
                  </a:lnTo>
                  <a:lnTo>
                    <a:pt x="23" y="30"/>
                  </a:lnTo>
                  <a:lnTo>
                    <a:pt x="31" y="41"/>
                  </a:lnTo>
                  <a:lnTo>
                    <a:pt x="39" y="48"/>
                  </a:lnTo>
                  <a:lnTo>
                    <a:pt x="43" y="55"/>
                  </a:lnTo>
                  <a:lnTo>
                    <a:pt x="48" y="59"/>
                  </a:lnTo>
                  <a:lnTo>
                    <a:pt x="50" y="63"/>
                  </a:lnTo>
                  <a:lnTo>
                    <a:pt x="53" y="65"/>
                  </a:lnTo>
                  <a:lnTo>
                    <a:pt x="53" y="66"/>
                  </a:lnTo>
                  <a:lnTo>
                    <a:pt x="55" y="69"/>
                  </a:lnTo>
                  <a:lnTo>
                    <a:pt x="57" y="71"/>
                  </a:lnTo>
                  <a:lnTo>
                    <a:pt x="59" y="73"/>
                  </a:lnTo>
                  <a:lnTo>
                    <a:pt x="61" y="78"/>
                  </a:lnTo>
                  <a:lnTo>
                    <a:pt x="66" y="81"/>
                  </a:lnTo>
                  <a:lnTo>
                    <a:pt x="71" y="87"/>
                  </a:lnTo>
                  <a:lnTo>
                    <a:pt x="77" y="94"/>
                  </a:lnTo>
                  <a:lnTo>
                    <a:pt x="85" y="104"/>
                  </a:lnTo>
                  <a:lnTo>
                    <a:pt x="94" y="113"/>
                  </a:lnTo>
                  <a:lnTo>
                    <a:pt x="105" y="124"/>
                  </a:lnTo>
                  <a:lnTo>
                    <a:pt x="116" y="134"/>
                  </a:lnTo>
                  <a:lnTo>
                    <a:pt x="127" y="147"/>
                  </a:lnTo>
                  <a:lnTo>
                    <a:pt x="140" y="157"/>
                  </a:lnTo>
                  <a:lnTo>
                    <a:pt x="152" y="169"/>
                  </a:lnTo>
                  <a:lnTo>
                    <a:pt x="167" y="179"/>
                  </a:lnTo>
                  <a:lnTo>
                    <a:pt x="180" y="192"/>
                  </a:lnTo>
                  <a:lnTo>
                    <a:pt x="195" y="203"/>
                  </a:lnTo>
                  <a:lnTo>
                    <a:pt x="207" y="213"/>
                  </a:lnTo>
                  <a:lnTo>
                    <a:pt x="222" y="221"/>
                  </a:lnTo>
                  <a:lnTo>
                    <a:pt x="234" y="231"/>
                  </a:lnTo>
                  <a:lnTo>
                    <a:pt x="248" y="239"/>
                  </a:lnTo>
                  <a:lnTo>
                    <a:pt x="259" y="247"/>
                  </a:lnTo>
                  <a:lnTo>
                    <a:pt x="273" y="254"/>
                  </a:lnTo>
                  <a:lnTo>
                    <a:pt x="283" y="261"/>
                  </a:lnTo>
                  <a:lnTo>
                    <a:pt x="297" y="269"/>
                  </a:lnTo>
                  <a:lnTo>
                    <a:pt x="311" y="277"/>
                  </a:lnTo>
                  <a:lnTo>
                    <a:pt x="328" y="283"/>
                  </a:lnTo>
                  <a:lnTo>
                    <a:pt x="345" y="291"/>
                  </a:lnTo>
                  <a:lnTo>
                    <a:pt x="363" y="300"/>
                  </a:lnTo>
                  <a:lnTo>
                    <a:pt x="382" y="308"/>
                  </a:lnTo>
                  <a:lnTo>
                    <a:pt x="403" y="316"/>
                  </a:lnTo>
                  <a:lnTo>
                    <a:pt x="421" y="324"/>
                  </a:lnTo>
                  <a:lnTo>
                    <a:pt x="440" y="332"/>
                  </a:lnTo>
                  <a:lnTo>
                    <a:pt x="460" y="340"/>
                  </a:lnTo>
                  <a:lnTo>
                    <a:pt x="480" y="348"/>
                  </a:lnTo>
                  <a:lnTo>
                    <a:pt x="498" y="355"/>
                  </a:lnTo>
                  <a:lnTo>
                    <a:pt x="517" y="362"/>
                  </a:lnTo>
                  <a:lnTo>
                    <a:pt x="534" y="369"/>
                  </a:lnTo>
                  <a:lnTo>
                    <a:pt x="551" y="373"/>
                  </a:lnTo>
                  <a:lnTo>
                    <a:pt x="565" y="379"/>
                  </a:lnTo>
                  <a:lnTo>
                    <a:pt x="583" y="383"/>
                  </a:lnTo>
                  <a:lnTo>
                    <a:pt x="598" y="389"/>
                  </a:lnTo>
                  <a:lnTo>
                    <a:pt x="618" y="393"/>
                  </a:lnTo>
                  <a:lnTo>
                    <a:pt x="635" y="400"/>
                  </a:lnTo>
                  <a:lnTo>
                    <a:pt x="654" y="403"/>
                  </a:lnTo>
                  <a:lnTo>
                    <a:pt x="674" y="409"/>
                  </a:lnTo>
                  <a:lnTo>
                    <a:pt x="693" y="413"/>
                  </a:lnTo>
                  <a:lnTo>
                    <a:pt x="710" y="419"/>
                  </a:lnTo>
                  <a:lnTo>
                    <a:pt x="728" y="423"/>
                  </a:lnTo>
                  <a:lnTo>
                    <a:pt x="744" y="426"/>
                  </a:lnTo>
                  <a:lnTo>
                    <a:pt x="761" y="431"/>
                  </a:lnTo>
                  <a:lnTo>
                    <a:pt x="776" y="434"/>
                  </a:lnTo>
                  <a:lnTo>
                    <a:pt x="791" y="435"/>
                  </a:lnTo>
                  <a:lnTo>
                    <a:pt x="803" y="437"/>
                  </a:lnTo>
                  <a:lnTo>
                    <a:pt x="815" y="438"/>
                  </a:lnTo>
                  <a:lnTo>
                    <a:pt x="821" y="441"/>
                  </a:lnTo>
                  <a:lnTo>
                    <a:pt x="828" y="442"/>
                  </a:lnTo>
                  <a:lnTo>
                    <a:pt x="833" y="442"/>
                  </a:lnTo>
                  <a:lnTo>
                    <a:pt x="837" y="442"/>
                  </a:lnTo>
                  <a:lnTo>
                    <a:pt x="838" y="444"/>
                  </a:lnTo>
                  <a:lnTo>
                    <a:pt x="841" y="444"/>
                  </a:lnTo>
                  <a:lnTo>
                    <a:pt x="843" y="444"/>
                  </a:lnTo>
                  <a:lnTo>
                    <a:pt x="846" y="444"/>
                  </a:lnTo>
                  <a:lnTo>
                    <a:pt x="849" y="445"/>
                  </a:lnTo>
                  <a:lnTo>
                    <a:pt x="852" y="445"/>
                  </a:lnTo>
                  <a:lnTo>
                    <a:pt x="857" y="446"/>
                  </a:lnTo>
                  <a:lnTo>
                    <a:pt x="864" y="446"/>
                  </a:lnTo>
                  <a:lnTo>
                    <a:pt x="871" y="448"/>
                  </a:lnTo>
                  <a:lnTo>
                    <a:pt x="884" y="450"/>
                  </a:lnTo>
                  <a:lnTo>
                    <a:pt x="898" y="452"/>
                  </a:lnTo>
                  <a:lnTo>
                    <a:pt x="916" y="453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0840" y="2332080"/>
              <a:ext cx="3571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40080" y="5780160"/>
              <a:ext cx="3589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5946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Otra vez el mapa de óptimos dentro del espacio (</a:t>
            </a: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4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,w</a:t>
            </a:r>
            <a:r>
              <a:rPr b="1" lang="en-US" sz="4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51600" y="1820880"/>
            <a:ext cx="3575160" cy="4079880"/>
          </a:xfrm>
          <a:custGeom>
            <a:avLst/>
            <a:gdLst>
              <a:gd name="textAreaLeft" fmla="*/ -360 w 3575160"/>
              <a:gd name="textAreaRight" fmla="*/ 3575160 w 3575160"/>
              <a:gd name="textAreaTop" fmla="*/ 0 h 4079880"/>
              <a:gd name="textAreaBottom" fmla="*/ 4079880 h 4079880"/>
            </a:gdLst>
            <a:ahLst/>
            <a:rect l="textAreaLeft" t="textAreaTop" r="textAreaRight" b="textAreaBottom"/>
            <a:pathLst>
              <a:path w="21600" h="24649">
                <a:moveTo>
                  <a:pt x="0" y="0"/>
                </a:moveTo>
                <a:arcTo wR="0" hR="0" stAng="16200000" swAng="-5400000"/>
                <a:lnTo>
                  <a:pt x="0" y="24649"/>
                </a:lnTo>
                <a:arcTo wR="0" hR="0" stAng="10800000" swAng="-5400000"/>
                <a:lnTo>
                  <a:pt x="21600" y="2464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c2"/>
          </a:solidFill>
          <a:ln w="12600">
            <a:solidFill>
              <a:srgbClr val="ffff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114560" y="2601720"/>
            <a:ext cx="0" cy="2603160"/>
          </a:xfrm>
          <a:prstGeom prst="line">
            <a:avLst/>
          </a:prstGeom>
          <a:ln w="25560">
            <a:solidFill>
              <a:srgbClr val="8f8f8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20680" y="5208480"/>
            <a:ext cx="2813040" cy="0"/>
          </a:xfrm>
          <a:prstGeom prst="line">
            <a:avLst/>
          </a:prstGeom>
          <a:ln w="25560">
            <a:solidFill>
              <a:srgbClr val="8f8f8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13000" y="3268800"/>
            <a:ext cx="5223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Z(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13000" y="3098880"/>
            <a:ext cx="387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803840" y="2361960"/>
            <a:ext cx="0" cy="3160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24360" y="5524560"/>
            <a:ext cx="3875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002880" y="5335560"/>
            <a:ext cx="666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57560" y="5216400"/>
            <a:ext cx="1303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5833800" y="3129120"/>
            <a:ext cx="1404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81040" y="2690640"/>
            <a:ext cx="2719440" cy="2324160"/>
          </a:xfrm>
          <a:custGeom>
            <a:avLst/>
            <a:gdLst/>
            <a:ahLst/>
            <a:rect l="l" t="t" r="r" b="b"/>
            <a:pathLst>
              <a:path w="1713" h="1464">
                <a:moveTo>
                  <a:pt x="1502" y="1463"/>
                </a:moveTo>
                <a:lnTo>
                  <a:pt x="1502" y="1463"/>
                </a:lnTo>
                <a:lnTo>
                  <a:pt x="1548" y="1403"/>
                </a:lnTo>
                <a:lnTo>
                  <a:pt x="1548" y="1335"/>
                </a:lnTo>
                <a:lnTo>
                  <a:pt x="1595" y="1289"/>
                </a:lnTo>
                <a:lnTo>
                  <a:pt x="1712" y="1146"/>
                </a:lnTo>
                <a:lnTo>
                  <a:pt x="1618" y="1049"/>
                </a:lnTo>
                <a:lnTo>
                  <a:pt x="1672" y="890"/>
                </a:lnTo>
                <a:lnTo>
                  <a:pt x="1579" y="777"/>
                </a:lnTo>
                <a:lnTo>
                  <a:pt x="1634" y="664"/>
                </a:lnTo>
                <a:lnTo>
                  <a:pt x="1602" y="535"/>
                </a:lnTo>
                <a:lnTo>
                  <a:pt x="1656" y="437"/>
                </a:lnTo>
                <a:lnTo>
                  <a:pt x="1618" y="362"/>
                </a:lnTo>
                <a:lnTo>
                  <a:pt x="1649" y="273"/>
                </a:lnTo>
                <a:lnTo>
                  <a:pt x="1610" y="220"/>
                </a:lnTo>
                <a:lnTo>
                  <a:pt x="1610" y="174"/>
                </a:lnTo>
                <a:lnTo>
                  <a:pt x="1509" y="151"/>
                </a:lnTo>
                <a:lnTo>
                  <a:pt x="1502" y="107"/>
                </a:lnTo>
                <a:lnTo>
                  <a:pt x="1392" y="107"/>
                </a:lnTo>
                <a:lnTo>
                  <a:pt x="1386" y="39"/>
                </a:lnTo>
                <a:lnTo>
                  <a:pt x="1245" y="39"/>
                </a:lnTo>
                <a:lnTo>
                  <a:pt x="1245" y="91"/>
                </a:lnTo>
                <a:lnTo>
                  <a:pt x="1105" y="91"/>
                </a:lnTo>
                <a:lnTo>
                  <a:pt x="1020" y="23"/>
                </a:lnTo>
                <a:lnTo>
                  <a:pt x="880" y="23"/>
                </a:lnTo>
                <a:lnTo>
                  <a:pt x="801" y="61"/>
                </a:lnTo>
                <a:lnTo>
                  <a:pt x="654" y="61"/>
                </a:lnTo>
                <a:lnTo>
                  <a:pt x="622" y="23"/>
                </a:lnTo>
                <a:lnTo>
                  <a:pt x="561" y="31"/>
                </a:lnTo>
                <a:lnTo>
                  <a:pt x="435" y="0"/>
                </a:lnTo>
                <a:lnTo>
                  <a:pt x="304" y="85"/>
                </a:lnTo>
                <a:lnTo>
                  <a:pt x="257" y="39"/>
                </a:lnTo>
                <a:lnTo>
                  <a:pt x="210" y="39"/>
                </a:lnTo>
                <a:lnTo>
                  <a:pt x="140" y="68"/>
                </a:lnTo>
                <a:lnTo>
                  <a:pt x="103" y="31"/>
                </a:lnTo>
                <a:lnTo>
                  <a:pt x="71" y="31"/>
                </a:lnTo>
                <a:lnTo>
                  <a:pt x="0" y="68"/>
                </a:lnTo>
                <a:lnTo>
                  <a:pt x="0" y="102"/>
                </a:lnTo>
                <a:lnTo>
                  <a:pt x="0" y="111"/>
                </a:lnTo>
                <a:lnTo>
                  <a:pt x="2" y="120"/>
                </a:lnTo>
                <a:lnTo>
                  <a:pt x="3" y="133"/>
                </a:lnTo>
                <a:lnTo>
                  <a:pt x="5" y="146"/>
                </a:lnTo>
                <a:lnTo>
                  <a:pt x="7" y="161"/>
                </a:lnTo>
                <a:lnTo>
                  <a:pt x="10" y="175"/>
                </a:lnTo>
                <a:lnTo>
                  <a:pt x="13" y="189"/>
                </a:lnTo>
                <a:lnTo>
                  <a:pt x="16" y="200"/>
                </a:lnTo>
                <a:lnTo>
                  <a:pt x="20" y="214"/>
                </a:lnTo>
                <a:lnTo>
                  <a:pt x="26" y="231"/>
                </a:lnTo>
                <a:lnTo>
                  <a:pt x="34" y="250"/>
                </a:lnTo>
                <a:lnTo>
                  <a:pt x="43" y="268"/>
                </a:lnTo>
                <a:lnTo>
                  <a:pt x="53" y="288"/>
                </a:lnTo>
                <a:lnTo>
                  <a:pt x="64" y="306"/>
                </a:lnTo>
                <a:lnTo>
                  <a:pt x="75" y="324"/>
                </a:lnTo>
                <a:lnTo>
                  <a:pt x="85" y="340"/>
                </a:lnTo>
                <a:lnTo>
                  <a:pt x="96" y="355"/>
                </a:lnTo>
                <a:lnTo>
                  <a:pt x="110" y="370"/>
                </a:lnTo>
                <a:lnTo>
                  <a:pt x="124" y="386"/>
                </a:lnTo>
                <a:lnTo>
                  <a:pt x="143" y="400"/>
                </a:lnTo>
                <a:lnTo>
                  <a:pt x="158" y="414"/>
                </a:lnTo>
                <a:lnTo>
                  <a:pt x="174" y="423"/>
                </a:lnTo>
                <a:lnTo>
                  <a:pt x="189" y="432"/>
                </a:lnTo>
                <a:lnTo>
                  <a:pt x="203" y="437"/>
                </a:lnTo>
                <a:lnTo>
                  <a:pt x="231" y="449"/>
                </a:lnTo>
                <a:lnTo>
                  <a:pt x="265" y="457"/>
                </a:lnTo>
                <a:lnTo>
                  <a:pt x="300" y="466"/>
                </a:lnTo>
                <a:lnTo>
                  <a:pt x="332" y="471"/>
                </a:lnTo>
                <a:lnTo>
                  <a:pt x="359" y="478"/>
                </a:lnTo>
                <a:lnTo>
                  <a:pt x="391" y="488"/>
                </a:lnTo>
                <a:lnTo>
                  <a:pt x="422" y="497"/>
                </a:lnTo>
                <a:lnTo>
                  <a:pt x="447" y="505"/>
                </a:lnTo>
                <a:lnTo>
                  <a:pt x="457" y="511"/>
                </a:lnTo>
                <a:lnTo>
                  <a:pt x="469" y="516"/>
                </a:lnTo>
                <a:lnTo>
                  <a:pt x="480" y="524"/>
                </a:lnTo>
                <a:lnTo>
                  <a:pt x="495" y="528"/>
                </a:lnTo>
                <a:lnTo>
                  <a:pt x="508" y="535"/>
                </a:lnTo>
                <a:lnTo>
                  <a:pt x="520" y="542"/>
                </a:lnTo>
                <a:lnTo>
                  <a:pt x="531" y="548"/>
                </a:lnTo>
                <a:lnTo>
                  <a:pt x="541" y="550"/>
                </a:lnTo>
                <a:lnTo>
                  <a:pt x="549" y="557"/>
                </a:lnTo>
                <a:lnTo>
                  <a:pt x="561" y="566"/>
                </a:lnTo>
                <a:lnTo>
                  <a:pt x="571" y="575"/>
                </a:lnTo>
                <a:lnTo>
                  <a:pt x="583" y="587"/>
                </a:lnTo>
                <a:lnTo>
                  <a:pt x="594" y="601"/>
                </a:lnTo>
                <a:lnTo>
                  <a:pt x="606" y="613"/>
                </a:lnTo>
                <a:lnTo>
                  <a:pt x="616" y="625"/>
                </a:lnTo>
                <a:lnTo>
                  <a:pt x="627" y="638"/>
                </a:lnTo>
                <a:lnTo>
                  <a:pt x="634" y="651"/>
                </a:lnTo>
                <a:lnTo>
                  <a:pt x="642" y="668"/>
                </a:lnTo>
                <a:lnTo>
                  <a:pt x="651" y="686"/>
                </a:lnTo>
                <a:lnTo>
                  <a:pt x="659" y="706"/>
                </a:lnTo>
                <a:lnTo>
                  <a:pt x="665" y="726"/>
                </a:lnTo>
                <a:lnTo>
                  <a:pt x="672" y="744"/>
                </a:lnTo>
                <a:lnTo>
                  <a:pt x="677" y="762"/>
                </a:lnTo>
                <a:lnTo>
                  <a:pt x="680" y="777"/>
                </a:lnTo>
                <a:lnTo>
                  <a:pt x="683" y="793"/>
                </a:lnTo>
                <a:lnTo>
                  <a:pt x="686" y="810"/>
                </a:lnTo>
                <a:lnTo>
                  <a:pt x="688" y="828"/>
                </a:lnTo>
                <a:lnTo>
                  <a:pt x="692" y="844"/>
                </a:lnTo>
                <a:lnTo>
                  <a:pt x="695" y="862"/>
                </a:lnTo>
                <a:lnTo>
                  <a:pt x="698" y="878"/>
                </a:lnTo>
                <a:lnTo>
                  <a:pt x="700" y="892"/>
                </a:lnTo>
                <a:lnTo>
                  <a:pt x="705" y="901"/>
                </a:lnTo>
                <a:lnTo>
                  <a:pt x="706" y="914"/>
                </a:lnTo>
                <a:lnTo>
                  <a:pt x="711" y="926"/>
                </a:lnTo>
                <a:lnTo>
                  <a:pt x="715" y="944"/>
                </a:lnTo>
                <a:lnTo>
                  <a:pt x="721" y="959"/>
                </a:lnTo>
                <a:lnTo>
                  <a:pt x="728" y="976"/>
                </a:lnTo>
                <a:lnTo>
                  <a:pt x="733" y="995"/>
                </a:lnTo>
                <a:lnTo>
                  <a:pt x="740" y="1012"/>
                </a:lnTo>
                <a:lnTo>
                  <a:pt x="747" y="1026"/>
                </a:lnTo>
                <a:lnTo>
                  <a:pt x="753" y="1042"/>
                </a:lnTo>
                <a:lnTo>
                  <a:pt x="763" y="1062"/>
                </a:lnTo>
                <a:lnTo>
                  <a:pt x="773" y="1080"/>
                </a:lnTo>
                <a:lnTo>
                  <a:pt x="788" y="1102"/>
                </a:lnTo>
                <a:lnTo>
                  <a:pt x="801" y="1124"/>
                </a:lnTo>
                <a:lnTo>
                  <a:pt x="813" y="1144"/>
                </a:lnTo>
                <a:lnTo>
                  <a:pt x="827" y="1162"/>
                </a:lnTo>
                <a:lnTo>
                  <a:pt x="840" y="1176"/>
                </a:lnTo>
                <a:lnTo>
                  <a:pt x="854" y="1191"/>
                </a:lnTo>
                <a:lnTo>
                  <a:pt x="871" y="1209"/>
                </a:lnTo>
                <a:lnTo>
                  <a:pt x="890" y="1228"/>
                </a:lnTo>
                <a:lnTo>
                  <a:pt x="911" y="1245"/>
                </a:lnTo>
                <a:lnTo>
                  <a:pt x="933" y="1263"/>
                </a:lnTo>
                <a:lnTo>
                  <a:pt x="954" y="1279"/>
                </a:lnTo>
                <a:lnTo>
                  <a:pt x="976" y="1294"/>
                </a:lnTo>
                <a:lnTo>
                  <a:pt x="994" y="1305"/>
                </a:lnTo>
                <a:lnTo>
                  <a:pt x="1016" y="1316"/>
                </a:lnTo>
                <a:lnTo>
                  <a:pt x="1041" y="1328"/>
                </a:lnTo>
                <a:lnTo>
                  <a:pt x="1069" y="1341"/>
                </a:lnTo>
                <a:lnTo>
                  <a:pt x="1099" y="1354"/>
                </a:lnTo>
                <a:lnTo>
                  <a:pt x="1130" y="1368"/>
                </a:lnTo>
                <a:lnTo>
                  <a:pt x="1161" y="1379"/>
                </a:lnTo>
                <a:lnTo>
                  <a:pt x="1190" y="1392"/>
                </a:lnTo>
                <a:lnTo>
                  <a:pt x="1217" y="1400"/>
                </a:lnTo>
                <a:lnTo>
                  <a:pt x="1243" y="1408"/>
                </a:lnTo>
                <a:lnTo>
                  <a:pt x="1271" y="1415"/>
                </a:lnTo>
                <a:lnTo>
                  <a:pt x="1300" y="1425"/>
                </a:lnTo>
                <a:lnTo>
                  <a:pt x="1331" y="1431"/>
                </a:lnTo>
                <a:lnTo>
                  <a:pt x="1360" y="1439"/>
                </a:lnTo>
                <a:lnTo>
                  <a:pt x="1386" y="1445"/>
                </a:lnTo>
                <a:lnTo>
                  <a:pt x="1409" y="1451"/>
                </a:lnTo>
                <a:lnTo>
                  <a:pt x="1509" y="1463"/>
                </a:lnTo>
                <a:lnTo>
                  <a:pt x="1502" y="1463"/>
                </a:lnTo>
              </a:path>
            </a:pathLst>
          </a:custGeom>
          <a:gradFill rotWithShape="0">
            <a:gsLst>
              <a:gs pos="0">
                <a:srgbClr val="ffffc2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73120" y="2801880"/>
            <a:ext cx="220680" cy="550800"/>
          </a:xfrm>
          <a:custGeom>
            <a:avLst/>
            <a:gdLst/>
            <a:ahLst/>
            <a:rect l="l" t="t" r="r" b="b"/>
            <a:pathLst>
              <a:path w="139" h="347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5"/>
                </a:lnTo>
                <a:lnTo>
                  <a:pt x="0" y="18"/>
                </a:lnTo>
                <a:lnTo>
                  <a:pt x="0" y="21"/>
                </a:lnTo>
                <a:lnTo>
                  <a:pt x="0" y="23"/>
                </a:lnTo>
                <a:lnTo>
                  <a:pt x="0" y="24"/>
                </a:lnTo>
                <a:lnTo>
                  <a:pt x="0" y="26"/>
                </a:lnTo>
                <a:lnTo>
                  <a:pt x="0" y="28"/>
                </a:lnTo>
                <a:lnTo>
                  <a:pt x="0" y="30"/>
                </a:lnTo>
                <a:lnTo>
                  <a:pt x="0" y="33"/>
                </a:lnTo>
                <a:lnTo>
                  <a:pt x="0" y="34"/>
                </a:lnTo>
                <a:lnTo>
                  <a:pt x="0" y="39"/>
                </a:lnTo>
                <a:lnTo>
                  <a:pt x="0" y="42"/>
                </a:lnTo>
                <a:lnTo>
                  <a:pt x="0" y="48"/>
                </a:lnTo>
                <a:lnTo>
                  <a:pt x="0" y="53"/>
                </a:lnTo>
                <a:lnTo>
                  <a:pt x="0" y="59"/>
                </a:lnTo>
                <a:lnTo>
                  <a:pt x="1" y="65"/>
                </a:lnTo>
                <a:lnTo>
                  <a:pt x="1" y="71"/>
                </a:lnTo>
                <a:lnTo>
                  <a:pt x="3" y="78"/>
                </a:lnTo>
                <a:lnTo>
                  <a:pt x="3" y="85"/>
                </a:lnTo>
                <a:lnTo>
                  <a:pt x="5" y="92"/>
                </a:lnTo>
                <a:lnTo>
                  <a:pt x="6" y="100"/>
                </a:lnTo>
                <a:lnTo>
                  <a:pt x="8" y="106"/>
                </a:lnTo>
                <a:lnTo>
                  <a:pt x="9" y="113"/>
                </a:lnTo>
                <a:lnTo>
                  <a:pt x="10" y="120"/>
                </a:lnTo>
                <a:lnTo>
                  <a:pt x="12" y="126"/>
                </a:lnTo>
                <a:lnTo>
                  <a:pt x="14" y="132"/>
                </a:lnTo>
                <a:lnTo>
                  <a:pt x="15" y="140"/>
                </a:lnTo>
                <a:lnTo>
                  <a:pt x="17" y="146"/>
                </a:lnTo>
                <a:lnTo>
                  <a:pt x="20" y="155"/>
                </a:lnTo>
                <a:lnTo>
                  <a:pt x="24" y="163"/>
                </a:lnTo>
                <a:lnTo>
                  <a:pt x="27" y="173"/>
                </a:lnTo>
                <a:lnTo>
                  <a:pt x="32" y="181"/>
                </a:lnTo>
                <a:lnTo>
                  <a:pt x="36" y="192"/>
                </a:lnTo>
                <a:lnTo>
                  <a:pt x="41" y="201"/>
                </a:lnTo>
                <a:lnTo>
                  <a:pt x="45" y="210"/>
                </a:lnTo>
                <a:lnTo>
                  <a:pt x="51" y="220"/>
                </a:lnTo>
                <a:lnTo>
                  <a:pt x="55" y="230"/>
                </a:lnTo>
                <a:lnTo>
                  <a:pt x="62" y="239"/>
                </a:lnTo>
                <a:lnTo>
                  <a:pt x="67" y="248"/>
                </a:lnTo>
                <a:lnTo>
                  <a:pt x="72" y="256"/>
                </a:lnTo>
                <a:lnTo>
                  <a:pt x="77" y="264"/>
                </a:lnTo>
                <a:lnTo>
                  <a:pt x="84" y="271"/>
                </a:lnTo>
                <a:lnTo>
                  <a:pt x="87" y="278"/>
                </a:lnTo>
                <a:lnTo>
                  <a:pt x="91" y="283"/>
                </a:lnTo>
                <a:lnTo>
                  <a:pt x="94" y="287"/>
                </a:lnTo>
                <a:lnTo>
                  <a:pt x="95" y="289"/>
                </a:lnTo>
                <a:lnTo>
                  <a:pt x="96" y="291"/>
                </a:lnTo>
                <a:lnTo>
                  <a:pt x="98" y="292"/>
                </a:lnTo>
                <a:lnTo>
                  <a:pt x="99" y="294"/>
                </a:lnTo>
                <a:lnTo>
                  <a:pt x="101" y="295"/>
                </a:lnTo>
                <a:lnTo>
                  <a:pt x="102" y="298"/>
                </a:lnTo>
                <a:lnTo>
                  <a:pt x="104" y="299"/>
                </a:lnTo>
                <a:lnTo>
                  <a:pt x="106" y="305"/>
                </a:lnTo>
                <a:lnTo>
                  <a:pt x="110" y="308"/>
                </a:lnTo>
                <a:lnTo>
                  <a:pt x="114" y="316"/>
                </a:lnTo>
                <a:lnTo>
                  <a:pt x="121" y="323"/>
                </a:lnTo>
                <a:lnTo>
                  <a:pt x="128" y="334"/>
                </a:lnTo>
                <a:lnTo>
                  <a:pt x="138" y="346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01800" y="4446720"/>
            <a:ext cx="1162080" cy="574560"/>
          </a:xfrm>
          <a:custGeom>
            <a:avLst/>
            <a:gdLst/>
            <a:ahLst/>
            <a:rect l="l" t="t" r="r" b="b"/>
            <a:pathLst>
              <a:path w="732" h="362">
                <a:moveTo>
                  <a:pt x="0" y="0"/>
                </a:moveTo>
                <a:lnTo>
                  <a:pt x="10" y="13"/>
                </a:lnTo>
                <a:lnTo>
                  <a:pt x="18" y="24"/>
                </a:lnTo>
                <a:lnTo>
                  <a:pt x="25" y="33"/>
                </a:lnTo>
                <a:lnTo>
                  <a:pt x="31" y="38"/>
                </a:lnTo>
                <a:lnTo>
                  <a:pt x="35" y="44"/>
                </a:lnTo>
                <a:lnTo>
                  <a:pt x="38" y="47"/>
                </a:lnTo>
                <a:lnTo>
                  <a:pt x="40" y="50"/>
                </a:lnTo>
                <a:lnTo>
                  <a:pt x="43" y="52"/>
                </a:lnTo>
                <a:lnTo>
                  <a:pt x="43" y="53"/>
                </a:lnTo>
                <a:lnTo>
                  <a:pt x="44" y="55"/>
                </a:lnTo>
                <a:lnTo>
                  <a:pt x="45" y="57"/>
                </a:lnTo>
                <a:lnTo>
                  <a:pt x="47" y="58"/>
                </a:lnTo>
                <a:lnTo>
                  <a:pt x="49" y="62"/>
                </a:lnTo>
                <a:lnTo>
                  <a:pt x="53" y="64"/>
                </a:lnTo>
                <a:lnTo>
                  <a:pt x="56" y="70"/>
                </a:lnTo>
                <a:lnTo>
                  <a:pt x="62" y="75"/>
                </a:lnTo>
                <a:lnTo>
                  <a:pt x="68" y="83"/>
                </a:lnTo>
                <a:lnTo>
                  <a:pt x="75" y="90"/>
                </a:lnTo>
                <a:lnTo>
                  <a:pt x="84" y="99"/>
                </a:lnTo>
                <a:lnTo>
                  <a:pt x="93" y="107"/>
                </a:lnTo>
                <a:lnTo>
                  <a:pt x="102" y="117"/>
                </a:lnTo>
                <a:lnTo>
                  <a:pt x="112" y="125"/>
                </a:lnTo>
                <a:lnTo>
                  <a:pt x="122" y="135"/>
                </a:lnTo>
                <a:lnTo>
                  <a:pt x="134" y="143"/>
                </a:lnTo>
                <a:lnTo>
                  <a:pt x="143" y="153"/>
                </a:lnTo>
                <a:lnTo>
                  <a:pt x="155" y="162"/>
                </a:lnTo>
                <a:lnTo>
                  <a:pt x="165" y="170"/>
                </a:lnTo>
                <a:lnTo>
                  <a:pt x="177" y="177"/>
                </a:lnTo>
                <a:lnTo>
                  <a:pt x="187" y="185"/>
                </a:lnTo>
                <a:lnTo>
                  <a:pt x="198" y="191"/>
                </a:lnTo>
                <a:lnTo>
                  <a:pt x="207" y="197"/>
                </a:lnTo>
                <a:lnTo>
                  <a:pt x="218" y="202"/>
                </a:lnTo>
                <a:lnTo>
                  <a:pt x="226" y="208"/>
                </a:lnTo>
                <a:lnTo>
                  <a:pt x="237" y="215"/>
                </a:lnTo>
                <a:lnTo>
                  <a:pt x="248" y="221"/>
                </a:lnTo>
                <a:lnTo>
                  <a:pt x="262" y="226"/>
                </a:lnTo>
                <a:lnTo>
                  <a:pt x="275" y="232"/>
                </a:lnTo>
                <a:lnTo>
                  <a:pt x="290" y="239"/>
                </a:lnTo>
                <a:lnTo>
                  <a:pt x="305" y="245"/>
                </a:lnTo>
                <a:lnTo>
                  <a:pt x="321" y="252"/>
                </a:lnTo>
                <a:lnTo>
                  <a:pt x="336" y="259"/>
                </a:lnTo>
                <a:lnTo>
                  <a:pt x="351" y="265"/>
                </a:lnTo>
                <a:lnTo>
                  <a:pt x="367" y="271"/>
                </a:lnTo>
                <a:lnTo>
                  <a:pt x="383" y="277"/>
                </a:lnTo>
                <a:lnTo>
                  <a:pt x="398" y="283"/>
                </a:lnTo>
                <a:lnTo>
                  <a:pt x="412" y="289"/>
                </a:lnTo>
                <a:lnTo>
                  <a:pt x="426" y="294"/>
                </a:lnTo>
                <a:lnTo>
                  <a:pt x="440" y="298"/>
                </a:lnTo>
                <a:lnTo>
                  <a:pt x="451" y="302"/>
                </a:lnTo>
                <a:lnTo>
                  <a:pt x="465" y="305"/>
                </a:lnTo>
                <a:lnTo>
                  <a:pt x="478" y="310"/>
                </a:lnTo>
                <a:lnTo>
                  <a:pt x="493" y="313"/>
                </a:lnTo>
                <a:lnTo>
                  <a:pt x="507" y="319"/>
                </a:lnTo>
                <a:lnTo>
                  <a:pt x="522" y="321"/>
                </a:lnTo>
                <a:lnTo>
                  <a:pt x="538" y="326"/>
                </a:lnTo>
                <a:lnTo>
                  <a:pt x="553" y="329"/>
                </a:lnTo>
                <a:lnTo>
                  <a:pt x="567" y="334"/>
                </a:lnTo>
                <a:lnTo>
                  <a:pt x="581" y="337"/>
                </a:lnTo>
                <a:lnTo>
                  <a:pt x="594" y="340"/>
                </a:lnTo>
                <a:lnTo>
                  <a:pt x="608" y="343"/>
                </a:lnTo>
                <a:lnTo>
                  <a:pt x="619" y="346"/>
                </a:lnTo>
                <a:lnTo>
                  <a:pt x="631" y="347"/>
                </a:lnTo>
                <a:lnTo>
                  <a:pt x="641" y="349"/>
                </a:lnTo>
                <a:lnTo>
                  <a:pt x="650" y="350"/>
                </a:lnTo>
                <a:lnTo>
                  <a:pt x="656" y="351"/>
                </a:lnTo>
                <a:lnTo>
                  <a:pt x="661" y="352"/>
                </a:lnTo>
                <a:lnTo>
                  <a:pt x="665" y="352"/>
                </a:lnTo>
                <a:lnTo>
                  <a:pt x="668" y="352"/>
                </a:lnTo>
                <a:lnTo>
                  <a:pt x="669" y="354"/>
                </a:lnTo>
                <a:lnTo>
                  <a:pt x="671" y="354"/>
                </a:lnTo>
                <a:lnTo>
                  <a:pt x="673" y="354"/>
                </a:lnTo>
                <a:lnTo>
                  <a:pt x="676" y="354"/>
                </a:lnTo>
                <a:lnTo>
                  <a:pt x="678" y="355"/>
                </a:lnTo>
                <a:lnTo>
                  <a:pt x="680" y="355"/>
                </a:lnTo>
                <a:lnTo>
                  <a:pt x="684" y="356"/>
                </a:lnTo>
                <a:lnTo>
                  <a:pt x="689" y="356"/>
                </a:lnTo>
                <a:lnTo>
                  <a:pt x="696" y="358"/>
                </a:lnTo>
                <a:lnTo>
                  <a:pt x="706" y="358"/>
                </a:lnTo>
                <a:lnTo>
                  <a:pt x="717" y="360"/>
                </a:lnTo>
                <a:lnTo>
                  <a:pt x="731" y="361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65600" y="1908000"/>
            <a:ext cx="439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90720" y="2286000"/>
            <a:ext cx="2854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858160" y="5342040"/>
            <a:ext cx="285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38480" y="5037120"/>
            <a:ext cx="2858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09760" y="2581200"/>
            <a:ext cx="193680" cy="10238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8120" y="2536920"/>
            <a:ext cx="4051440" cy="511200"/>
          </a:xfrm>
          <a:custGeom>
            <a:avLst/>
            <a:gdLst/>
            <a:ahLst/>
            <a:rect l="l" t="t" r="r" b="b"/>
            <a:pathLst>
              <a:path w="2552" h="322">
                <a:moveTo>
                  <a:pt x="2551" y="321"/>
                </a:moveTo>
                <a:lnTo>
                  <a:pt x="2399" y="250"/>
                </a:lnTo>
                <a:lnTo>
                  <a:pt x="2246" y="186"/>
                </a:lnTo>
                <a:lnTo>
                  <a:pt x="2088" y="131"/>
                </a:lnTo>
                <a:lnTo>
                  <a:pt x="1929" y="86"/>
                </a:lnTo>
                <a:lnTo>
                  <a:pt x="1769" y="52"/>
                </a:lnTo>
                <a:lnTo>
                  <a:pt x="1607" y="26"/>
                </a:lnTo>
                <a:lnTo>
                  <a:pt x="1443" y="8"/>
                </a:lnTo>
                <a:lnTo>
                  <a:pt x="1281" y="0"/>
                </a:lnTo>
                <a:lnTo>
                  <a:pt x="1116" y="2"/>
                </a:lnTo>
                <a:lnTo>
                  <a:pt x="952" y="12"/>
                </a:lnTo>
                <a:lnTo>
                  <a:pt x="791" y="33"/>
                </a:lnTo>
                <a:lnTo>
                  <a:pt x="629" y="62"/>
                </a:lnTo>
                <a:lnTo>
                  <a:pt x="468" y="101"/>
                </a:lnTo>
                <a:lnTo>
                  <a:pt x="310" y="148"/>
                </a:lnTo>
                <a:lnTo>
                  <a:pt x="154" y="206"/>
                </a:lnTo>
                <a:lnTo>
                  <a:pt x="0" y="271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85946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8594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... Ahora probamos un valor mucho menor de </a:t>
            </a: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4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09760" y="2581200"/>
            <a:ext cx="193680" cy="1023840"/>
          </a:xfrm>
          <a:prstGeom prst="line">
            <a:avLst/>
          </a:prstGeom>
          <a:ln w="25560">
            <a:solidFill>
              <a:srgbClr val="418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08120" y="2536920"/>
            <a:ext cx="4051440" cy="511200"/>
          </a:xfrm>
          <a:custGeom>
            <a:avLst/>
            <a:gdLst/>
            <a:ahLst/>
            <a:rect l="l" t="t" r="r" b="b"/>
            <a:pathLst>
              <a:path w="2552" h="322">
                <a:moveTo>
                  <a:pt x="2551" y="321"/>
                </a:moveTo>
                <a:lnTo>
                  <a:pt x="2399" y="250"/>
                </a:lnTo>
                <a:lnTo>
                  <a:pt x="2246" y="186"/>
                </a:lnTo>
                <a:lnTo>
                  <a:pt x="2088" y="131"/>
                </a:lnTo>
                <a:lnTo>
                  <a:pt x="1929" y="86"/>
                </a:lnTo>
                <a:lnTo>
                  <a:pt x="1769" y="52"/>
                </a:lnTo>
                <a:lnTo>
                  <a:pt x="1607" y="26"/>
                </a:lnTo>
                <a:lnTo>
                  <a:pt x="1443" y="8"/>
                </a:lnTo>
                <a:lnTo>
                  <a:pt x="1281" y="0"/>
                </a:lnTo>
                <a:lnTo>
                  <a:pt x="1116" y="2"/>
                </a:lnTo>
                <a:lnTo>
                  <a:pt x="952" y="12"/>
                </a:lnTo>
                <a:lnTo>
                  <a:pt x="791" y="33"/>
                </a:lnTo>
                <a:lnTo>
                  <a:pt x="629" y="62"/>
                </a:lnTo>
                <a:lnTo>
                  <a:pt x="468" y="101"/>
                </a:lnTo>
                <a:lnTo>
                  <a:pt x="310" y="148"/>
                </a:lnTo>
                <a:lnTo>
                  <a:pt x="154" y="206"/>
                </a:lnTo>
                <a:lnTo>
                  <a:pt x="0" y="271"/>
                </a:lnTo>
              </a:path>
            </a:pathLst>
          </a:custGeom>
          <a:noFill/>
          <a:ln cap="rnd" w="25560">
            <a:solidFill>
              <a:srgbClr val="c0c0c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87600" y="4365720"/>
            <a:ext cx="888840" cy="7920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52720" y="4689360"/>
            <a:ext cx="3870360" cy="905040"/>
          </a:xfrm>
          <a:custGeom>
            <a:avLst/>
            <a:gdLst/>
            <a:ahLst/>
            <a:rect l="l" t="t" r="r" b="b"/>
            <a:pathLst>
              <a:path w="2438" h="570">
                <a:moveTo>
                  <a:pt x="0" y="0"/>
                </a:moveTo>
                <a:lnTo>
                  <a:pt x="144" y="122"/>
                </a:lnTo>
                <a:lnTo>
                  <a:pt x="291" y="229"/>
                </a:lnTo>
                <a:lnTo>
                  <a:pt x="440" y="321"/>
                </a:lnTo>
                <a:lnTo>
                  <a:pt x="592" y="399"/>
                </a:lnTo>
                <a:lnTo>
                  <a:pt x="744" y="462"/>
                </a:lnTo>
                <a:lnTo>
                  <a:pt x="897" y="511"/>
                </a:lnTo>
                <a:lnTo>
                  <a:pt x="1053" y="545"/>
                </a:lnTo>
                <a:lnTo>
                  <a:pt x="1208" y="564"/>
                </a:lnTo>
                <a:lnTo>
                  <a:pt x="1363" y="569"/>
                </a:lnTo>
                <a:lnTo>
                  <a:pt x="1518" y="559"/>
                </a:lnTo>
                <a:lnTo>
                  <a:pt x="1674" y="536"/>
                </a:lnTo>
                <a:lnTo>
                  <a:pt x="1829" y="495"/>
                </a:lnTo>
                <a:lnTo>
                  <a:pt x="1983" y="442"/>
                </a:lnTo>
                <a:lnTo>
                  <a:pt x="2136" y="373"/>
                </a:lnTo>
                <a:lnTo>
                  <a:pt x="2287" y="289"/>
                </a:lnTo>
                <a:lnTo>
                  <a:pt x="2437" y="191"/>
                </a:lnTo>
              </a:path>
            </a:pathLst>
          </a:custGeom>
          <a:noFill/>
          <a:ln cap="rnd" w="25560">
            <a:solidFill>
              <a:srgbClr val="00008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0"/>
            <a:ext cx="859464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0"/>
            <a:ext cx="8594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Pero… qué pasa en el medio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46240" y="3187800"/>
            <a:ext cx="2027160" cy="1577880"/>
          </a:xfrm>
          <a:custGeom>
            <a:avLst/>
            <a:gdLst/>
            <a:ahLst/>
            <a:rect l="l" t="t" r="r" b="b"/>
            <a:pathLst>
              <a:path w="1277" h="994">
                <a:moveTo>
                  <a:pt x="109" y="221"/>
                </a:moveTo>
                <a:lnTo>
                  <a:pt x="52" y="304"/>
                </a:lnTo>
                <a:lnTo>
                  <a:pt x="16" y="385"/>
                </a:lnTo>
                <a:lnTo>
                  <a:pt x="0" y="468"/>
                </a:lnTo>
                <a:lnTo>
                  <a:pt x="4" y="547"/>
                </a:lnTo>
                <a:lnTo>
                  <a:pt x="24" y="626"/>
                </a:lnTo>
                <a:lnTo>
                  <a:pt x="59" y="699"/>
                </a:lnTo>
                <a:lnTo>
                  <a:pt x="108" y="768"/>
                </a:lnTo>
                <a:lnTo>
                  <a:pt x="172" y="829"/>
                </a:lnTo>
                <a:lnTo>
                  <a:pt x="244" y="883"/>
                </a:lnTo>
                <a:lnTo>
                  <a:pt x="327" y="927"/>
                </a:lnTo>
                <a:lnTo>
                  <a:pt x="418" y="962"/>
                </a:lnTo>
                <a:lnTo>
                  <a:pt x="516" y="983"/>
                </a:lnTo>
                <a:lnTo>
                  <a:pt x="618" y="993"/>
                </a:lnTo>
                <a:lnTo>
                  <a:pt x="725" y="988"/>
                </a:lnTo>
                <a:lnTo>
                  <a:pt x="834" y="968"/>
                </a:lnTo>
                <a:lnTo>
                  <a:pt x="945" y="930"/>
                </a:lnTo>
                <a:lnTo>
                  <a:pt x="1043" y="879"/>
                </a:lnTo>
                <a:lnTo>
                  <a:pt x="1125" y="819"/>
                </a:lnTo>
                <a:lnTo>
                  <a:pt x="1189" y="753"/>
                </a:lnTo>
                <a:lnTo>
                  <a:pt x="1235" y="681"/>
                </a:lnTo>
                <a:lnTo>
                  <a:pt x="1263" y="606"/>
                </a:lnTo>
                <a:lnTo>
                  <a:pt x="1276" y="527"/>
                </a:lnTo>
                <a:lnTo>
                  <a:pt x="1273" y="448"/>
                </a:lnTo>
                <a:lnTo>
                  <a:pt x="1256" y="371"/>
                </a:lnTo>
                <a:lnTo>
                  <a:pt x="1223" y="297"/>
                </a:lnTo>
                <a:lnTo>
                  <a:pt x="1177" y="228"/>
                </a:lnTo>
                <a:lnTo>
                  <a:pt x="1118" y="165"/>
                </a:lnTo>
                <a:lnTo>
                  <a:pt x="1045" y="109"/>
                </a:lnTo>
                <a:lnTo>
                  <a:pt x="959" y="64"/>
                </a:lnTo>
                <a:lnTo>
                  <a:pt x="863" y="29"/>
                </a:lnTo>
                <a:lnTo>
                  <a:pt x="754" y="8"/>
                </a:lnTo>
                <a:lnTo>
                  <a:pt x="635" y="0"/>
                </a:lnTo>
              </a:path>
            </a:pathLst>
          </a:custGeom>
          <a:noFill/>
          <a:ln cap="rnd" w="50760">
            <a:solidFill>
              <a:srgbClr val="00ffff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7014960" y="4792680"/>
            <a:ext cx="12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80160" y="4137120"/>
            <a:ext cx="515880" cy="819000"/>
          </a:xfrm>
          <a:custGeom>
            <a:avLst/>
            <a:gdLst/>
            <a:ahLst/>
            <a:rect l="l" t="t" r="r" b="b"/>
            <a:pathLst>
              <a:path w="325" h="516">
                <a:moveTo>
                  <a:pt x="0" y="0"/>
                </a:moveTo>
                <a:lnTo>
                  <a:pt x="5" y="14"/>
                </a:lnTo>
                <a:lnTo>
                  <a:pt x="9" y="26"/>
                </a:lnTo>
                <a:lnTo>
                  <a:pt x="14" y="37"/>
                </a:lnTo>
                <a:lnTo>
                  <a:pt x="19" y="49"/>
                </a:lnTo>
                <a:lnTo>
                  <a:pt x="23" y="60"/>
                </a:lnTo>
                <a:lnTo>
                  <a:pt x="27" y="72"/>
                </a:lnTo>
                <a:lnTo>
                  <a:pt x="31" y="83"/>
                </a:lnTo>
                <a:lnTo>
                  <a:pt x="36" y="95"/>
                </a:lnTo>
                <a:lnTo>
                  <a:pt x="39" y="108"/>
                </a:lnTo>
                <a:lnTo>
                  <a:pt x="44" y="119"/>
                </a:lnTo>
                <a:lnTo>
                  <a:pt x="50" y="133"/>
                </a:lnTo>
                <a:lnTo>
                  <a:pt x="55" y="146"/>
                </a:lnTo>
                <a:lnTo>
                  <a:pt x="62" y="160"/>
                </a:lnTo>
                <a:lnTo>
                  <a:pt x="68" y="173"/>
                </a:lnTo>
                <a:lnTo>
                  <a:pt x="75" y="189"/>
                </a:lnTo>
                <a:lnTo>
                  <a:pt x="84" y="205"/>
                </a:lnTo>
                <a:lnTo>
                  <a:pt x="94" y="223"/>
                </a:lnTo>
                <a:lnTo>
                  <a:pt x="103" y="239"/>
                </a:lnTo>
                <a:lnTo>
                  <a:pt x="113" y="258"/>
                </a:lnTo>
                <a:lnTo>
                  <a:pt x="124" y="276"/>
                </a:lnTo>
                <a:lnTo>
                  <a:pt x="135" y="294"/>
                </a:lnTo>
                <a:lnTo>
                  <a:pt x="148" y="313"/>
                </a:lnTo>
                <a:lnTo>
                  <a:pt x="160" y="330"/>
                </a:lnTo>
                <a:lnTo>
                  <a:pt x="172" y="347"/>
                </a:lnTo>
                <a:lnTo>
                  <a:pt x="182" y="364"/>
                </a:lnTo>
                <a:lnTo>
                  <a:pt x="193" y="380"/>
                </a:lnTo>
                <a:lnTo>
                  <a:pt x="204" y="396"/>
                </a:lnTo>
                <a:lnTo>
                  <a:pt x="215" y="409"/>
                </a:lnTo>
                <a:lnTo>
                  <a:pt x="224" y="422"/>
                </a:lnTo>
                <a:lnTo>
                  <a:pt x="234" y="433"/>
                </a:lnTo>
                <a:lnTo>
                  <a:pt x="242" y="442"/>
                </a:lnTo>
                <a:lnTo>
                  <a:pt x="251" y="449"/>
                </a:lnTo>
                <a:lnTo>
                  <a:pt x="257" y="455"/>
                </a:lnTo>
                <a:lnTo>
                  <a:pt x="261" y="459"/>
                </a:lnTo>
                <a:lnTo>
                  <a:pt x="264" y="463"/>
                </a:lnTo>
                <a:lnTo>
                  <a:pt x="267" y="464"/>
                </a:lnTo>
                <a:lnTo>
                  <a:pt x="268" y="466"/>
                </a:lnTo>
                <a:lnTo>
                  <a:pt x="270" y="467"/>
                </a:lnTo>
                <a:lnTo>
                  <a:pt x="271" y="469"/>
                </a:lnTo>
                <a:lnTo>
                  <a:pt x="273" y="470"/>
                </a:lnTo>
                <a:lnTo>
                  <a:pt x="275" y="473"/>
                </a:lnTo>
                <a:lnTo>
                  <a:pt x="277" y="474"/>
                </a:lnTo>
                <a:lnTo>
                  <a:pt x="281" y="479"/>
                </a:lnTo>
                <a:lnTo>
                  <a:pt x="286" y="482"/>
                </a:lnTo>
                <a:lnTo>
                  <a:pt x="292" y="489"/>
                </a:lnTo>
                <a:lnTo>
                  <a:pt x="300" y="496"/>
                </a:lnTo>
                <a:lnTo>
                  <a:pt x="310" y="505"/>
                </a:lnTo>
                <a:lnTo>
                  <a:pt x="324" y="515"/>
                </a:lnTo>
              </a:path>
            </a:pathLst>
          </a:custGeom>
          <a:solidFill>
            <a:srgbClr val="ffffff"/>
          </a:solidFill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32360" y="2935440"/>
            <a:ext cx="314280" cy="1203120"/>
          </a:xfrm>
          <a:custGeom>
            <a:avLst/>
            <a:gdLst/>
            <a:ahLst/>
            <a:rect l="l" t="t" r="r" b="b"/>
            <a:pathLst>
              <a:path w="198" h="758">
                <a:moveTo>
                  <a:pt x="0" y="0"/>
                </a:moveTo>
                <a:lnTo>
                  <a:pt x="1" y="23"/>
                </a:lnTo>
                <a:lnTo>
                  <a:pt x="3" y="41"/>
                </a:lnTo>
                <a:lnTo>
                  <a:pt x="4" y="56"/>
                </a:lnTo>
                <a:lnTo>
                  <a:pt x="5" y="67"/>
                </a:lnTo>
                <a:lnTo>
                  <a:pt x="5" y="76"/>
                </a:lnTo>
                <a:lnTo>
                  <a:pt x="6" y="82"/>
                </a:lnTo>
                <a:lnTo>
                  <a:pt x="6" y="86"/>
                </a:lnTo>
                <a:lnTo>
                  <a:pt x="8" y="90"/>
                </a:lnTo>
                <a:lnTo>
                  <a:pt x="8" y="93"/>
                </a:lnTo>
                <a:lnTo>
                  <a:pt x="8" y="95"/>
                </a:lnTo>
                <a:lnTo>
                  <a:pt x="8" y="99"/>
                </a:lnTo>
                <a:lnTo>
                  <a:pt x="9" y="101"/>
                </a:lnTo>
                <a:lnTo>
                  <a:pt x="9" y="106"/>
                </a:lnTo>
                <a:lnTo>
                  <a:pt x="10" y="111"/>
                </a:lnTo>
                <a:lnTo>
                  <a:pt x="11" y="120"/>
                </a:lnTo>
                <a:lnTo>
                  <a:pt x="13" y="130"/>
                </a:lnTo>
                <a:lnTo>
                  <a:pt x="13" y="144"/>
                </a:lnTo>
                <a:lnTo>
                  <a:pt x="15" y="157"/>
                </a:lnTo>
                <a:lnTo>
                  <a:pt x="16" y="173"/>
                </a:lnTo>
                <a:lnTo>
                  <a:pt x="19" y="189"/>
                </a:lnTo>
                <a:lnTo>
                  <a:pt x="20" y="206"/>
                </a:lnTo>
                <a:lnTo>
                  <a:pt x="24" y="223"/>
                </a:lnTo>
                <a:lnTo>
                  <a:pt x="27" y="242"/>
                </a:lnTo>
                <a:lnTo>
                  <a:pt x="30" y="259"/>
                </a:lnTo>
                <a:lnTo>
                  <a:pt x="33" y="277"/>
                </a:lnTo>
                <a:lnTo>
                  <a:pt x="36" y="296"/>
                </a:lnTo>
                <a:lnTo>
                  <a:pt x="40" y="314"/>
                </a:lnTo>
                <a:lnTo>
                  <a:pt x="44" y="330"/>
                </a:lnTo>
                <a:lnTo>
                  <a:pt x="46" y="347"/>
                </a:lnTo>
                <a:lnTo>
                  <a:pt x="50" y="362"/>
                </a:lnTo>
                <a:lnTo>
                  <a:pt x="54" y="377"/>
                </a:lnTo>
                <a:lnTo>
                  <a:pt x="56" y="388"/>
                </a:lnTo>
                <a:lnTo>
                  <a:pt x="60" y="402"/>
                </a:lnTo>
                <a:lnTo>
                  <a:pt x="64" y="417"/>
                </a:lnTo>
                <a:lnTo>
                  <a:pt x="68" y="432"/>
                </a:lnTo>
                <a:lnTo>
                  <a:pt x="74" y="447"/>
                </a:lnTo>
                <a:lnTo>
                  <a:pt x="78" y="466"/>
                </a:lnTo>
                <a:lnTo>
                  <a:pt x="84" y="483"/>
                </a:lnTo>
                <a:lnTo>
                  <a:pt x="91" y="501"/>
                </a:lnTo>
                <a:lnTo>
                  <a:pt x="98" y="519"/>
                </a:lnTo>
                <a:lnTo>
                  <a:pt x="104" y="538"/>
                </a:lnTo>
                <a:lnTo>
                  <a:pt x="111" y="557"/>
                </a:lnTo>
                <a:lnTo>
                  <a:pt x="117" y="574"/>
                </a:lnTo>
                <a:lnTo>
                  <a:pt x="124" y="592"/>
                </a:lnTo>
                <a:lnTo>
                  <a:pt x="130" y="609"/>
                </a:lnTo>
                <a:lnTo>
                  <a:pt x="136" y="625"/>
                </a:lnTo>
                <a:lnTo>
                  <a:pt x="143" y="639"/>
                </a:lnTo>
                <a:lnTo>
                  <a:pt x="150" y="651"/>
                </a:lnTo>
                <a:lnTo>
                  <a:pt x="153" y="664"/>
                </a:lnTo>
                <a:lnTo>
                  <a:pt x="158" y="672"/>
                </a:lnTo>
                <a:lnTo>
                  <a:pt x="161" y="679"/>
                </a:lnTo>
                <a:lnTo>
                  <a:pt x="163" y="685"/>
                </a:lnTo>
                <a:lnTo>
                  <a:pt x="163" y="688"/>
                </a:lnTo>
                <a:lnTo>
                  <a:pt x="165" y="692"/>
                </a:lnTo>
                <a:lnTo>
                  <a:pt x="165" y="695"/>
                </a:lnTo>
                <a:lnTo>
                  <a:pt x="167" y="696"/>
                </a:lnTo>
                <a:lnTo>
                  <a:pt x="167" y="700"/>
                </a:lnTo>
                <a:lnTo>
                  <a:pt x="169" y="703"/>
                </a:lnTo>
                <a:lnTo>
                  <a:pt x="171" y="708"/>
                </a:lnTo>
                <a:lnTo>
                  <a:pt x="174" y="713"/>
                </a:lnTo>
                <a:lnTo>
                  <a:pt x="178" y="721"/>
                </a:lnTo>
                <a:lnTo>
                  <a:pt x="183" y="731"/>
                </a:lnTo>
                <a:lnTo>
                  <a:pt x="189" y="743"/>
                </a:lnTo>
                <a:lnTo>
                  <a:pt x="197" y="757"/>
                </a:lnTo>
              </a:path>
            </a:pathLst>
          </a:custGeom>
          <a:solidFill>
            <a:srgbClr val="ffffff"/>
          </a:solidFill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08440" y="4170240"/>
            <a:ext cx="2854440" cy="0"/>
          </a:xfrm>
          <a:prstGeom prst="line">
            <a:avLst/>
          </a:prstGeom>
          <a:ln w="507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304920"/>
            <a:ext cx="8594640" cy="10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304920"/>
            <a:ext cx="8594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Z 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No-convexo </a:t>
            </a: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alta en z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914400" y="4406760"/>
            <a:ext cx="8229240" cy="2451240"/>
            <a:chOff x="914400" y="4406760"/>
            <a:chExt cx="8229240" cy="2451240"/>
          </a:xfrm>
        </p:grpSpPr>
        <p:sp>
          <p:nvSpPr>
            <p:cNvPr id="400" name=""/>
            <p:cNvSpPr/>
            <p:nvPr/>
          </p:nvSpPr>
          <p:spPr>
            <a:xfrm>
              <a:off x="914400" y="4406760"/>
              <a:ext cx="8229240" cy="2451240"/>
            </a:xfrm>
            <a:prstGeom prst="ellipse">
              <a:avLst/>
            </a:prstGeom>
            <a:solidFill>
              <a:srgbClr val="ffffc2"/>
            </a:solidFill>
            <a:ln w="5076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03120" y="4672080"/>
              <a:ext cx="5623560" cy="16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4600" spc="-1" strike="noStrike">
                  <a:solidFill>
                    <a:srgbClr val="ff0000"/>
                  </a:solidFill>
                  <a:latin typeface="Brush738 BT"/>
                </a:rPr>
                <a:t>Correspondencia de demanda 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04280" y="701640"/>
            <a:ext cx="8595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Correspondencia de demand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6095880" y="1752480"/>
            <a:ext cx="617760" cy="3075120"/>
          </a:xfrm>
          <a:custGeom>
            <a:avLst/>
            <a:gdLst>
              <a:gd name="textAreaLeft" fmla="*/ 360 w 617760"/>
              <a:gd name="textAreaRight" fmla="*/ 618480 w 617760"/>
              <a:gd name="textAreaTop" fmla="*/ 0 h 3075120"/>
              <a:gd name="textAreaBottom" fmla="*/ 3075480 h 3075120"/>
            </a:gdLst>
            <a:ahLst/>
            <a:rect l="textAreaLeft" t="textAreaTop" r="textAreaRight" b="textAreaBottom"/>
            <a:pathLst>
              <a:path w="21600" h="107472">
                <a:moveTo>
                  <a:pt x="0" y="0"/>
                </a:moveTo>
                <a:arcTo wR="0" hR="0" stAng="16200000" swAng="-5400000"/>
                <a:lnTo>
                  <a:pt x="0" y="107472"/>
                </a:lnTo>
                <a:arcTo wR="0" hR="0" stAng="10800000" swAng="-5400000"/>
                <a:lnTo>
                  <a:pt x="21600" y="10747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800600" y="1679400"/>
            <a:ext cx="0" cy="316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07080" y="4876920"/>
            <a:ext cx="3875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267080" y="1905120"/>
            <a:ext cx="439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858160" y="5342040"/>
            <a:ext cx="2858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05720" y="3200400"/>
            <a:ext cx="1444680" cy="1674720"/>
          </a:xfrm>
          <a:custGeom>
            <a:avLst/>
            <a:gdLst/>
            <a:ahLst/>
            <a:rect l="l" t="t" r="r" b="b"/>
            <a:pathLst>
              <a:path w="910" h="1055">
                <a:moveTo>
                  <a:pt x="0" y="0"/>
                </a:moveTo>
                <a:lnTo>
                  <a:pt x="13" y="29"/>
                </a:lnTo>
                <a:lnTo>
                  <a:pt x="25" y="52"/>
                </a:lnTo>
                <a:lnTo>
                  <a:pt x="38" y="76"/>
                </a:lnTo>
                <a:lnTo>
                  <a:pt x="53" y="99"/>
                </a:lnTo>
                <a:lnTo>
                  <a:pt x="64" y="123"/>
                </a:lnTo>
                <a:lnTo>
                  <a:pt x="76" y="146"/>
                </a:lnTo>
                <a:lnTo>
                  <a:pt x="87" y="170"/>
                </a:lnTo>
                <a:lnTo>
                  <a:pt x="102" y="193"/>
                </a:lnTo>
                <a:lnTo>
                  <a:pt x="110" y="221"/>
                </a:lnTo>
                <a:lnTo>
                  <a:pt x="125" y="244"/>
                </a:lnTo>
                <a:lnTo>
                  <a:pt x="140" y="271"/>
                </a:lnTo>
                <a:lnTo>
                  <a:pt x="155" y="298"/>
                </a:lnTo>
                <a:lnTo>
                  <a:pt x="173" y="327"/>
                </a:lnTo>
                <a:lnTo>
                  <a:pt x="191" y="354"/>
                </a:lnTo>
                <a:lnTo>
                  <a:pt x="211" y="387"/>
                </a:lnTo>
                <a:lnTo>
                  <a:pt x="237" y="420"/>
                </a:lnTo>
                <a:lnTo>
                  <a:pt x="262" y="456"/>
                </a:lnTo>
                <a:lnTo>
                  <a:pt x="288" y="490"/>
                </a:lnTo>
                <a:lnTo>
                  <a:pt x="318" y="528"/>
                </a:lnTo>
                <a:lnTo>
                  <a:pt x="349" y="564"/>
                </a:lnTo>
                <a:lnTo>
                  <a:pt x="380" y="602"/>
                </a:lnTo>
                <a:lnTo>
                  <a:pt x="415" y="640"/>
                </a:lnTo>
                <a:lnTo>
                  <a:pt x="448" y="676"/>
                </a:lnTo>
                <a:lnTo>
                  <a:pt x="481" y="711"/>
                </a:lnTo>
                <a:lnTo>
                  <a:pt x="509" y="745"/>
                </a:lnTo>
                <a:lnTo>
                  <a:pt x="543" y="778"/>
                </a:lnTo>
                <a:lnTo>
                  <a:pt x="573" y="810"/>
                </a:lnTo>
                <a:lnTo>
                  <a:pt x="604" y="837"/>
                </a:lnTo>
                <a:lnTo>
                  <a:pt x="629" y="864"/>
                </a:lnTo>
                <a:lnTo>
                  <a:pt x="657" y="886"/>
                </a:lnTo>
                <a:lnTo>
                  <a:pt x="680" y="904"/>
                </a:lnTo>
                <a:lnTo>
                  <a:pt x="703" y="919"/>
                </a:lnTo>
                <a:lnTo>
                  <a:pt x="721" y="931"/>
                </a:lnTo>
                <a:lnTo>
                  <a:pt x="731" y="940"/>
                </a:lnTo>
                <a:lnTo>
                  <a:pt x="741" y="948"/>
                </a:lnTo>
                <a:lnTo>
                  <a:pt x="749" y="949"/>
                </a:lnTo>
                <a:lnTo>
                  <a:pt x="752" y="953"/>
                </a:lnTo>
                <a:lnTo>
                  <a:pt x="757" y="957"/>
                </a:lnTo>
                <a:lnTo>
                  <a:pt x="762" y="960"/>
                </a:lnTo>
                <a:lnTo>
                  <a:pt x="767" y="962"/>
                </a:lnTo>
                <a:lnTo>
                  <a:pt x="772" y="967"/>
                </a:lnTo>
                <a:lnTo>
                  <a:pt x="777" y="971"/>
                </a:lnTo>
                <a:lnTo>
                  <a:pt x="787" y="980"/>
                </a:lnTo>
                <a:lnTo>
                  <a:pt x="802" y="987"/>
                </a:lnTo>
                <a:lnTo>
                  <a:pt x="820" y="1000"/>
                </a:lnTo>
                <a:lnTo>
                  <a:pt x="843" y="1014"/>
                </a:lnTo>
                <a:lnTo>
                  <a:pt x="871" y="1032"/>
                </a:lnTo>
                <a:lnTo>
                  <a:pt x="909" y="1054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15000" y="1828800"/>
            <a:ext cx="314280" cy="1203480"/>
          </a:xfrm>
          <a:custGeom>
            <a:avLst/>
            <a:gdLst/>
            <a:ahLst/>
            <a:rect l="l" t="t" r="r" b="b"/>
            <a:pathLst>
              <a:path w="198" h="758">
                <a:moveTo>
                  <a:pt x="0" y="0"/>
                </a:moveTo>
                <a:lnTo>
                  <a:pt x="1" y="23"/>
                </a:lnTo>
                <a:lnTo>
                  <a:pt x="3" y="41"/>
                </a:lnTo>
                <a:lnTo>
                  <a:pt x="4" y="56"/>
                </a:lnTo>
                <a:lnTo>
                  <a:pt x="5" y="67"/>
                </a:lnTo>
                <a:lnTo>
                  <a:pt x="5" y="76"/>
                </a:lnTo>
                <a:lnTo>
                  <a:pt x="6" y="82"/>
                </a:lnTo>
                <a:lnTo>
                  <a:pt x="6" y="86"/>
                </a:lnTo>
                <a:lnTo>
                  <a:pt x="8" y="90"/>
                </a:lnTo>
                <a:lnTo>
                  <a:pt x="8" y="93"/>
                </a:lnTo>
                <a:lnTo>
                  <a:pt x="8" y="95"/>
                </a:lnTo>
                <a:lnTo>
                  <a:pt x="8" y="99"/>
                </a:lnTo>
                <a:lnTo>
                  <a:pt x="9" y="101"/>
                </a:lnTo>
                <a:lnTo>
                  <a:pt x="9" y="106"/>
                </a:lnTo>
                <a:lnTo>
                  <a:pt x="10" y="111"/>
                </a:lnTo>
                <a:lnTo>
                  <a:pt x="11" y="120"/>
                </a:lnTo>
                <a:lnTo>
                  <a:pt x="13" y="130"/>
                </a:lnTo>
                <a:lnTo>
                  <a:pt x="13" y="144"/>
                </a:lnTo>
                <a:lnTo>
                  <a:pt x="15" y="157"/>
                </a:lnTo>
                <a:lnTo>
                  <a:pt x="16" y="173"/>
                </a:lnTo>
                <a:lnTo>
                  <a:pt x="19" y="189"/>
                </a:lnTo>
                <a:lnTo>
                  <a:pt x="20" y="206"/>
                </a:lnTo>
                <a:lnTo>
                  <a:pt x="24" y="223"/>
                </a:lnTo>
                <a:lnTo>
                  <a:pt x="27" y="242"/>
                </a:lnTo>
                <a:lnTo>
                  <a:pt x="30" y="259"/>
                </a:lnTo>
                <a:lnTo>
                  <a:pt x="33" y="277"/>
                </a:lnTo>
                <a:lnTo>
                  <a:pt x="36" y="296"/>
                </a:lnTo>
                <a:lnTo>
                  <a:pt x="40" y="314"/>
                </a:lnTo>
                <a:lnTo>
                  <a:pt x="44" y="330"/>
                </a:lnTo>
                <a:lnTo>
                  <a:pt x="46" y="347"/>
                </a:lnTo>
                <a:lnTo>
                  <a:pt x="50" y="362"/>
                </a:lnTo>
                <a:lnTo>
                  <a:pt x="54" y="377"/>
                </a:lnTo>
                <a:lnTo>
                  <a:pt x="56" y="388"/>
                </a:lnTo>
                <a:lnTo>
                  <a:pt x="60" y="402"/>
                </a:lnTo>
                <a:lnTo>
                  <a:pt x="64" y="417"/>
                </a:lnTo>
                <a:lnTo>
                  <a:pt x="68" y="432"/>
                </a:lnTo>
                <a:lnTo>
                  <a:pt x="74" y="447"/>
                </a:lnTo>
                <a:lnTo>
                  <a:pt x="78" y="466"/>
                </a:lnTo>
                <a:lnTo>
                  <a:pt x="84" y="483"/>
                </a:lnTo>
                <a:lnTo>
                  <a:pt x="91" y="501"/>
                </a:lnTo>
                <a:lnTo>
                  <a:pt x="98" y="519"/>
                </a:lnTo>
                <a:lnTo>
                  <a:pt x="104" y="538"/>
                </a:lnTo>
                <a:lnTo>
                  <a:pt x="111" y="557"/>
                </a:lnTo>
                <a:lnTo>
                  <a:pt x="117" y="574"/>
                </a:lnTo>
                <a:lnTo>
                  <a:pt x="124" y="592"/>
                </a:lnTo>
                <a:lnTo>
                  <a:pt x="130" y="609"/>
                </a:lnTo>
                <a:lnTo>
                  <a:pt x="136" y="625"/>
                </a:lnTo>
                <a:lnTo>
                  <a:pt x="143" y="639"/>
                </a:lnTo>
                <a:lnTo>
                  <a:pt x="150" y="651"/>
                </a:lnTo>
                <a:lnTo>
                  <a:pt x="153" y="664"/>
                </a:lnTo>
                <a:lnTo>
                  <a:pt x="158" y="672"/>
                </a:lnTo>
                <a:lnTo>
                  <a:pt x="161" y="679"/>
                </a:lnTo>
                <a:lnTo>
                  <a:pt x="163" y="685"/>
                </a:lnTo>
                <a:lnTo>
                  <a:pt x="163" y="688"/>
                </a:lnTo>
                <a:lnTo>
                  <a:pt x="165" y="692"/>
                </a:lnTo>
                <a:lnTo>
                  <a:pt x="165" y="695"/>
                </a:lnTo>
                <a:lnTo>
                  <a:pt x="167" y="696"/>
                </a:lnTo>
                <a:lnTo>
                  <a:pt x="167" y="700"/>
                </a:lnTo>
                <a:lnTo>
                  <a:pt x="169" y="703"/>
                </a:lnTo>
                <a:lnTo>
                  <a:pt x="171" y="708"/>
                </a:lnTo>
                <a:lnTo>
                  <a:pt x="174" y="713"/>
                </a:lnTo>
                <a:lnTo>
                  <a:pt x="178" y="721"/>
                </a:lnTo>
                <a:lnTo>
                  <a:pt x="183" y="731"/>
                </a:lnTo>
                <a:lnTo>
                  <a:pt x="189" y="743"/>
                </a:lnTo>
                <a:lnTo>
                  <a:pt x="197" y="757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7080" y="3124080"/>
            <a:ext cx="2854080" cy="0"/>
          </a:xfrm>
          <a:prstGeom prst="line">
            <a:avLst/>
          </a:prstGeom>
          <a:ln w="507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267080" y="4952880"/>
            <a:ext cx="4440240" cy="1828800"/>
            <a:chOff x="4267080" y="4952880"/>
            <a:chExt cx="4440240" cy="1828800"/>
          </a:xfrm>
        </p:grpSpPr>
        <p:sp>
          <p:nvSpPr>
            <p:cNvPr id="412" name=""/>
            <p:cNvSpPr/>
            <p:nvPr/>
          </p:nvSpPr>
          <p:spPr>
            <a:xfrm>
              <a:off x="4267080" y="4952880"/>
              <a:ext cx="4440240" cy="1828800"/>
            </a:xfrm>
            <a:custGeom>
              <a:avLst/>
              <a:gdLst/>
              <a:ahLst/>
              <a:rect l="l" t="t" r="r" b="b"/>
              <a:pathLst>
                <a:path w="2797" h="1152">
                  <a:moveTo>
                    <a:pt x="1354" y="0"/>
                  </a:moveTo>
                  <a:lnTo>
                    <a:pt x="1354" y="0"/>
                  </a:lnTo>
                  <a:lnTo>
                    <a:pt x="0" y="672"/>
                  </a:lnTo>
                  <a:lnTo>
                    <a:pt x="683" y="595"/>
                  </a:lnTo>
                  <a:lnTo>
                    <a:pt x="698" y="1148"/>
                  </a:lnTo>
                  <a:lnTo>
                    <a:pt x="2167" y="1151"/>
                  </a:lnTo>
                  <a:lnTo>
                    <a:pt x="2151" y="598"/>
                  </a:lnTo>
                  <a:lnTo>
                    <a:pt x="2796" y="679"/>
                  </a:lnTo>
                  <a:lnTo>
                    <a:pt x="1354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214960" y="5416560"/>
              <a:ext cx="274176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Ningún precio produce esta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solució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85800" y="2286000"/>
            <a:ext cx="3962520" cy="1992240"/>
            <a:chOff x="685800" y="2286000"/>
            <a:chExt cx="3962520" cy="1992240"/>
          </a:xfrm>
        </p:grpSpPr>
        <p:sp>
          <p:nvSpPr>
            <p:cNvPr id="415" name=""/>
            <p:cNvSpPr/>
            <p:nvPr/>
          </p:nvSpPr>
          <p:spPr>
            <a:xfrm>
              <a:off x="685800" y="2286000"/>
              <a:ext cx="3962520" cy="1992240"/>
            </a:xfrm>
            <a:custGeom>
              <a:avLst/>
              <a:gdLst/>
              <a:ahLst/>
              <a:rect l="l" t="t" r="r" b="b"/>
              <a:pathLst>
                <a:path w="2496" h="1255">
                  <a:moveTo>
                    <a:pt x="2495" y="615"/>
                  </a:moveTo>
                  <a:lnTo>
                    <a:pt x="2495" y="615"/>
                  </a:lnTo>
                  <a:lnTo>
                    <a:pt x="1025" y="0"/>
                  </a:lnTo>
                  <a:lnTo>
                    <a:pt x="1197" y="307"/>
                  </a:lnTo>
                  <a:lnTo>
                    <a:pt x="0" y="307"/>
                  </a:lnTo>
                  <a:lnTo>
                    <a:pt x="0" y="966"/>
                  </a:lnTo>
                  <a:lnTo>
                    <a:pt x="1197" y="966"/>
                  </a:lnTo>
                  <a:lnTo>
                    <a:pt x="1025" y="1254"/>
                  </a:lnTo>
                  <a:lnTo>
                    <a:pt x="2495" y="6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9080" y="2916360"/>
              <a:ext cx="3159360" cy="8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s-ES_tradnl" sz="2700" spc="-1" strike="noStrike">
                  <a:solidFill>
                    <a:srgbClr val="000000"/>
                  </a:solidFill>
                  <a:latin typeface="Arial"/>
                </a:rPr>
                <a:t>multiples factores a este precio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04280" y="609120"/>
            <a:ext cx="859500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Puntos para recorda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4920" y="1779480"/>
            <a:ext cx="8610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c2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n este cas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4920" y="2664000"/>
            <a:ext cx="8610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c2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... el conjunto de restricción es 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no-convex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4920" y="3429000"/>
            <a:ext cx="883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c2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ncontramos que la solución es una función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dis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ontinu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4800600"/>
            <a:ext cx="883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c20000"/>
              </a:buClr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66"/>
                </a:solidFill>
                <a:latin typeface="Times New Roman"/>
              </a:rPr>
              <a:t>... La función es multivaluada en la discontinu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" y="304920"/>
            <a:ext cx="8594640" cy="109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304920"/>
            <a:ext cx="8594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300" spc="-1" strike="noStrike">
                <a:solidFill>
                  <a:srgbClr val="000000"/>
                </a:solidFill>
                <a:latin typeface="Times New Roman"/>
              </a:rPr>
              <a:t>Permítamos dejar ésta dificultad de lad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172200" y="5334120"/>
            <a:ext cx="2592360" cy="1214280"/>
            <a:chOff x="6172200" y="5334120"/>
            <a:chExt cx="2592360" cy="1214280"/>
          </a:xfrm>
        </p:grpSpPr>
        <p:sp>
          <p:nvSpPr>
            <p:cNvPr id="426" name=""/>
            <p:cNvSpPr/>
            <p:nvPr/>
          </p:nvSpPr>
          <p:spPr>
            <a:xfrm>
              <a:off x="6172200" y="5334120"/>
              <a:ext cx="2011320" cy="1152360"/>
            </a:xfrm>
            <a:custGeom>
              <a:avLst/>
              <a:gdLst/>
              <a:ahLst/>
              <a:rect l="l" t="t" r="r" b="b"/>
              <a:pathLst>
                <a:path w="1267" h="726">
                  <a:moveTo>
                    <a:pt x="1264" y="127"/>
                  </a:moveTo>
                  <a:lnTo>
                    <a:pt x="1260" y="124"/>
                  </a:lnTo>
                  <a:lnTo>
                    <a:pt x="1256" y="122"/>
                  </a:lnTo>
                  <a:lnTo>
                    <a:pt x="1251" y="121"/>
                  </a:lnTo>
                  <a:lnTo>
                    <a:pt x="1247" y="120"/>
                  </a:lnTo>
                  <a:lnTo>
                    <a:pt x="1242" y="121"/>
                  </a:lnTo>
                  <a:lnTo>
                    <a:pt x="1237" y="121"/>
                  </a:lnTo>
                  <a:lnTo>
                    <a:pt x="1231" y="121"/>
                  </a:lnTo>
                  <a:lnTo>
                    <a:pt x="1225" y="122"/>
                  </a:lnTo>
                  <a:lnTo>
                    <a:pt x="1218" y="122"/>
                  </a:lnTo>
                  <a:lnTo>
                    <a:pt x="1210" y="123"/>
                  </a:lnTo>
                  <a:lnTo>
                    <a:pt x="1201" y="123"/>
                  </a:lnTo>
                  <a:lnTo>
                    <a:pt x="1191" y="122"/>
                  </a:lnTo>
                  <a:lnTo>
                    <a:pt x="1180" y="121"/>
                  </a:lnTo>
                  <a:lnTo>
                    <a:pt x="1168" y="119"/>
                  </a:lnTo>
                  <a:lnTo>
                    <a:pt x="1154" y="115"/>
                  </a:lnTo>
                  <a:lnTo>
                    <a:pt x="1140" y="111"/>
                  </a:lnTo>
                  <a:lnTo>
                    <a:pt x="1131" y="108"/>
                  </a:lnTo>
                  <a:lnTo>
                    <a:pt x="1121" y="104"/>
                  </a:lnTo>
                  <a:lnTo>
                    <a:pt x="1111" y="101"/>
                  </a:lnTo>
                  <a:lnTo>
                    <a:pt x="1101" y="96"/>
                  </a:lnTo>
                  <a:lnTo>
                    <a:pt x="1089" y="91"/>
                  </a:lnTo>
                  <a:lnTo>
                    <a:pt x="1078" y="86"/>
                  </a:lnTo>
                  <a:lnTo>
                    <a:pt x="1067" y="81"/>
                  </a:lnTo>
                  <a:lnTo>
                    <a:pt x="1056" y="75"/>
                  </a:lnTo>
                  <a:lnTo>
                    <a:pt x="1044" y="70"/>
                  </a:lnTo>
                  <a:lnTo>
                    <a:pt x="1033" y="64"/>
                  </a:lnTo>
                  <a:lnTo>
                    <a:pt x="1021" y="59"/>
                  </a:lnTo>
                  <a:lnTo>
                    <a:pt x="1011" y="54"/>
                  </a:lnTo>
                  <a:lnTo>
                    <a:pt x="1001" y="50"/>
                  </a:lnTo>
                  <a:lnTo>
                    <a:pt x="991" y="45"/>
                  </a:lnTo>
                  <a:lnTo>
                    <a:pt x="982" y="41"/>
                  </a:lnTo>
                  <a:lnTo>
                    <a:pt x="974" y="37"/>
                  </a:lnTo>
                  <a:lnTo>
                    <a:pt x="967" y="35"/>
                  </a:lnTo>
                  <a:lnTo>
                    <a:pt x="960" y="32"/>
                  </a:lnTo>
                  <a:lnTo>
                    <a:pt x="953" y="29"/>
                  </a:lnTo>
                  <a:lnTo>
                    <a:pt x="944" y="26"/>
                  </a:lnTo>
                  <a:lnTo>
                    <a:pt x="935" y="23"/>
                  </a:lnTo>
                  <a:lnTo>
                    <a:pt x="927" y="20"/>
                  </a:lnTo>
                  <a:lnTo>
                    <a:pt x="918" y="17"/>
                  </a:lnTo>
                  <a:lnTo>
                    <a:pt x="909" y="13"/>
                  </a:lnTo>
                  <a:lnTo>
                    <a:pt x="899" y="11"/>
                  </a:lnTo>
                  <a:lnTo>
                    <a:pt x="890" y="8"/>
                  </a:lnTo>
                  <a:lnTo>
                    <a:pt x="881" y="6"/>
                  </a:lnTo>
                  <a:lnTo>
                    <a:pt x="872" y="3"/>
                  </a:lnTo>
                  <a:lnTo>
                    <a:pt x="863" y="2"/>
                  </a:lnTo>
                  <a:lnTo>
                    <a:pt x="856" y="1"/>
                  </a:lnTo>
                  <a:lnTo>
                    <a:pt x="848" y="0"/>
                  </a:lnTo>
                  <a:lnTo>
                    <a:pt x="842" y="0"/>
                  </a:lnTo>
                  <a:lnTo>
                    <a:pt x="835" y="1"/>
                  </a:lnTo>
                  <a:lnTo>
                    <a:pt x="828" y="2"/>
                  </a:lnTo>
                  <a:lnTo>
                    <a:pt x="821" y="3"/>
                  </a:lnTo>
                  <a:lnTo>
                    <a:pt x="813" y="5"/>
                  </a:lnTo>
                  <a:lnTo>
                    <a:pt x="805" y="8"/>
                  </a:lnTo>
                  <a:lnTo>
                    <a:pt x="796" y="10"/>
                  </a:lnTo>
                  <a:lnTo>
                    <a:pt x="788" y="13"/>
                  </a:lnTo>
                  <a:lnTo>
                    <a:pt x="780" y="16"/>
                  </a:lnTo>
                  <a:lnTo>
                    <a:pt x="771" y="20"/>
                  </a:lnTo>
                  <a:lnTo>
                    <a:pt x="762" y="23"/>
                  </a:lnTo>
                  <a:lnTo>
                    <a:pt x="755" y="26"/>
                  </a:lnTo>
                  <a:lnTo>
                    <a:pt x="747" y="28"/>
                  </a:lnTo>
                  <a:lnTo>
                    <a:pt x="739" y="31"/>
                  </a:lnTo>
                  <a:lnTo>
                    <a:pt x="732" y="33"/>
                  </a:lnTo>
                  <a:lnTo>
                    <a:pt x="725" y="35"/>
                  </a:lnTo>
                  <a:lnTo>
                    <a:pt x="720" y="36"/>
                  </a:lnTo>
                  <a:lnTo>
                    <a:pt x="707" y="36"/>
                  </a:lnTo>
                  <a:lnTo>
                    <a:pt x="684" y="36"/>
                  </a:lnTo>
                  <a:lnTo>
                    <a:pt x="653" y="36"/>
                  </a:lnTo>
                  <a:lnTo>
                    <a:pt x="615" y="36"/>
                  </a:lnTo>
                  <a:lnTo>
                    <a:pt x="570" y="36"/>
                  </a:lnTo>
                  <a:lnTo>
                    <a:pt x="521" y="36"/>
                  </a:lnTo>
                  <a:lnTo>
                    <a:pt x="468" y="37"/>
                  </a:lnTo>
                  <a:lnTo>
                    <a:pt x="415" y="37"/>
                  </a:lnTo>
                  <a:lnTo>
                    <a:pt x="360" y="38"/>
                  </a:lnTo>
                  <a:lnTo>
                    <a:pt x="308" y="39"/>
                  </a:lnTo>
                  <a:lnTo>
                    <a:pt x="258" y="40"/>
                  </a:lnTo>
                  <a:lnTo>
                    <a:pt x="212" y="42"/>
                  </a:lnTo>
                  <a:lnTo>
                    <a:pt x="171" y="45"/>
                  </a:lnTo>
                  <a:lnTo>
                    <a:pt x="138" y="48"/>
                  </a:lnTo>
                  <a:lnTo>
                    <a:pt x="112" y="52"/>
                  </a:lnTo>
                  <a:lnTo>
                    <a:pt x="97" y="56"/>
                  </a:lnTo>
                  <a:lnTo>
                    <a:pt x="85" y="59"/>
                  </a:lnTo>
                  <a:lnTo>
                    <a:pt x="72" y="64"/>
                  </a:lnTo>
                  <a:lnTo>
                    <a:pt x="58" y="71"/>
                  </a:lnTo>
                  <a:lnTo>
                    <a:pt x="45" y="79"/>
                  </a:lnTo>
                  <a:lnTo>
                    <a:pt x="32" y="89"/>
                  </a:lnTo>
                  <a:lnTo>
                    <a:pt x="20" y="101"/>
                  </a:lnTo>
                  <a:lnTo>
                    <a:pt x="11" y="112"/>
                  </a:lnTo>
                  <a:lnTo>
                    <a:pt x="4" y="125"/>
                  </a:lnTo>
                  <a:lnTo>
                    <a:pt x="0" y="139"/>
                  </a:lnTo>
                  <a:lnTo>
                    <a:pt x="0" y="152"/>
                  </a:lnTo>
                  <a:lnTo>
                    <a:pt x="5" y="166"/>
                  </a:lnTo>
                  <a:lnTo>
                    <a:pt x="15" y="178"/>
                  </a:lnTo>
                  <a:lnTo>
                    <a:pt x="30" y="192"/>
                  </a:lnTo>
                  <a:lnTo>
                    <a:pt x="52" y="203"/>
                  </a:lnTo>
                  <a:lnTo>
                    <a:pt x="81" y="213"/>
                  </a:lnTo>
                  <a:lnTo>
                    <a:pt x="117" y="223"/>
                  </a:lnTo>
                  <a:lnTo>
                    <a:pt x="125" y="223"/>
                  </a:lnTo>
                  <a:lnTo>
                    <a:pt x="142" y="223"/>
                  </a:lnTo>
                  <a:lnTo>
                    <a:pt x="165" y="223"/>
                  </a:lnTo>
                  <a:lnTo>
                    <a:pt x="194" y="223"/>
                  </a:lnTo>
                  <a:lnTo>
                    <a:pt x="228" y="223"/>
                  </a:lnTo>
                  <a:lnTo>
                    <a:pt x="266" y="223"/>
                  </a:lnTo>
                  <a:lnTo>
                    <a:pt x="306" y="223"/>
                  </a:lnTo>
                  <a:lnTo>
                    <a:pt x="347" y="222"/>
                  </a:lnTo>
                  <a:lnTo>
                    <a:pt x="387" y="222"/>
                  </a:lnTo>
                  <a:lnTo>
                    <a:pt x="426" y="222"/>
                  </a:lnTo>
                  <a:lnTo>
                    <a:pt x="463" y="222"/>
                  </a:lnTo>
                  <a:lnTo>
                    <a:pt x="495" y="222"/>
                  </a:lnTo>
                  <a:lnTo>
                    <a:pt x="523" y="223"/>
                  </a:lnTo>
                  <a:lnTo>
                    <a:pt x="545" y="223"/>
                  </a:lnTo>
                  <a:lnTo>
                    <a:pt x="558" y="223"/>
                  </a:lnTo>
                  <a:lnTo>
                    <a:pt x="564" y="223"/>
                  </a:lnTo>
                  <a:lnTo>
                    <a:pt x="557" y="225"/>
                  </a:lnTo>
                  <a:lnTo>
                    <a:pt x="547" y="228"/>
                  </a:lnTo>
                  <a:lnTo>
                    <a:pt x="536" y="232"/>
                  </a:lnTo>
                  <a:lnTo>
                    <a:pt x="523" y="237"/>
                  </a:lnTo>
                  <a:lnTo>
                    <a:pt x="509" y="244"/>
                  </a:lnTo>
                  <a:lnTo>
                    <a:pt x="494" y="251"/>
                  </a:lnTo>
                  <a:lnTo>
                    <a:pt x="480" y="260"/>
                  </a:lnTo>
                  <a:lnTo>
                    <a:pt x="465" y="270"/>
                  </a:lnTo>
                  <a:lnTo>
                    <a:pt x="452" y="282"/>
                  </a:lnTo>
                  <a:lnTo>
                    <a:pt x="440" y="294"/>
                  </a:lnTo>
                  <a:lnTo>
                    <a:pt x="431" y="309"/>
                  </a:lnTo>
                  <a:lnTo>
                    <a:pt x="424" y="324"/>
                  </a:lnTo>
                  <a:lnTo>
                    <a:pt x="419" y="341"/>
                  </a:lnTo>
                  <a:lnTo>
                    <a:pt x="419" y="359"/>
                  </a:lnTo>
                  <a:lnTo>
                    <a:pt x="423" y="379"/>
                  </a:lnTo>
                  <a:lnTo>
                    <a:pt x="431" y="400"/>
                  </a:lnTo>
                  <a:lnTo>
                    <a:pt x="422" y="408"/>
                  </a:lnTo>
                  <a:lnTo>
                    <a:pt x="413" y="417"/>
                  </a:lnTo>
                  <a:lnTo>
                    <a:pt x="405" y="425"/>
                  </a:lnTo>
                  <a:lnTo>
                    <a:pt x="398" y="433"/>
                  </a:lnTo>
                  <a:lnTo>
                    <a:pt x="390" y="441"/>
                  </a:lnTo>
                  <a:lnTo>
                    <a:pt x="385" y="450"/>
                  </a:lnTo>
                  <a:lnTo>
                    <a:pt x="380" y="458"/>
                  </a:lnTo>
                  <a:lnTo>
                    <a:pt x="376" y="466"/>
                  </a:lnTo>
                  <a:lnTo>
                    <a:pt x="373" y="474"/>
                  </a:lnTo>
                  <a:lnTo>
                    <a:pt x="371" y="483"/>
                  </a:lnTo>
                  <a:lnTo>
                    <a:pt x="371" y="492"/>
                  </a:lnTo>
                  <a:lnTo>
                    <a:pt x="373" y="500"/>
                  </a:lnTo>
                  <a:lnTo>
                    <a:pt x="375" y="510"/>
                  </a:lnTo>
                  <a:lnTo>
                    <a:pt x="379" y="519"/>
                  </a:lnTo>
                  <a:lnTo>
                    <a:pt x="385" y="529"/>
                  </a:lnTo>
                  <a:lnTo>
                    <a:pt x="394" y="540"/>
                  </a:lnTo>
                  <a:lnTo>
                    <a:pt x="387" y="548"/>
                  </a:lnTo>
                  <a:lnTo>
                    <a:pt x="381" y="558"/>
                  </a:lnTo>
                  <a:lnTo>
                    <a:pt x="374" y="570"/>
                  </a:lnTo>
                  <a:lnTo>
                    <a:pt x="369" y="581"/>
                  </a:lnTo>
                  <a:lnTo>
                    <a:pt x="365" y="593"/>
                  </a:lnTo>
                  <a:lnTo>
                    <a:pt x="363" y="605"/>
                  </a:lnTo>
                  <a:lnTo>
                    <a:pt x="364" y="618"/>
                  </a:lnTo>
                  <a:lnTo>
                    <a:pt x="369" y="631"/>
                  </a:lnTo>
                  <a:lnTo>
                    <a:pt x="376" y="643"/>
                  </a:lnTo>
                  <a:lnTo>
                    <a:pt x="388" y="656"/>
                  </a:lnTo>
                  <a:lnTo>
                    <a:pt x="404" y="668"/>
                  </a:lnTo>
                  <a:lnTo>
                    <a:pt x="427" y="679"/>
                  </a:lnTo>
                  <a:lnTo>
                    <a:pt x="454" y="690"/>
                  </a:lnTo>
                  <a:lnTo>
                    <a:pt x="488" y="699"/>
                  </a:lnTo>
                  <a:lnTo>
                    <a:pt x="529" y="708"/>
                  </a:lnTo>
                  <a:lnTo>
                    <a:pt x="577" y="715"/>
                  </a:lnTo>
                  <a:lnTo>
                    <a:pt x="587" y="716"/>
                  </a:lnTo>
                  <a:lnTo>
                    <a:pt x="597" y="718"/>
                  </a:lnTo>
                  <a:lnTo>
                    <a:pt x="605" y="720"/>
                  </a:lnTo>
                  <a:lnTo>
                    <a:pt x="613" y="721"/>
                  </a:lnTo>
                  <a:lnTo>
                    <a:pt x="620" y="722"/>
                  </a:lnTo>
                  <a:lnTo>
                    <a:pt x="627" y="723"/>
                  </a:lnTo>
                  <a:lnTo>
                    <a:pt x="633" y="724"/>
                  </a:lnTo>
                  <a:lnTo>
                    <a:pt x="640" y="724"/>
                  </a:lnTo>
                  <a:lnTo>
                    <a:pt x="647" y="725"/>
                  </a:lnTo>
                  <a:lnTo>
                    <a:pt x="654" y="724"/>
                  </a:lnTo>
                  <a:lnTo>
                    <a:pt x="662" y="723"/>
                  </a:lnTo>
                  <a:lnTo>
                    <a:pt x="669" y="722"/>
                  </a:lnTo>
                  <a:lnTo>
                    <a:pt x="678" y="719"/>
                  </a:lnTo>
                  <a:lnTo>
                    <a:pt x="688" y="716"/>
                  </a:lnTo>
                  <a:lnTo>
                    <a:pt x="699" y="712"/>
                  </a:lnTo>
                  <a:lnTo>
                    <a:pt x="710" y="707"/>
                  </a:lnTo>
                  <a:lnTo>
                    <a:pt x="774" y="706"/>
                  </a:lnTo>
                  <a:lnTo>
                    <a:pt x="832" y="702"/>
                  </a:lnTo>
                  <a:lnTo>
                    <a:pt x="881" y="697"/>
                  </a:lnTo>
                  <a:lnTo>
                    <a:pt x="924" y="690"/>
                  </a:lnTo>
                  <a:lnTo>
                    <a:pt x="961" y="682"/>
                  </a:lnTo>
                  <a:lnTo>
                    <a:pt x="994" y="673"/>
                  </a:lnTo>
                  <a:lnTo>
                    <a:pt x="1021" y="663"/>
                  </a:lnTo>
                  <a:lnTo>
                    <a:pt x="1045" y="653"/>
                  </a:lnTo>
                  <a:lnTo>
                    <a:pt x="1065" y="643"/>
                  </a:lnTo>
                  <a:lnTo>
                    <a:pt x="1082" y="633"/>
                  </a:lnTo>
                  <a:lnTo>
                    <a:pt x="1098" y="623"/>
                  </a:lnTo>
                  <a:lnTo>
                    <a:pt x="1112" y="614"/>
                  </a:lnTo>
                  <a:lnTo>
                    <a:pt x="1124" y="606"/>
                  </a:lnTo>
                  <a:lnTo>
                    <a:pt x="1137" y="599"/>
                  </a:lnTo>
                  <a:lnTo>
                    <a:pt x="1149" y="593"/>
                  </a:lnTo>
                  <a:lnTo>
                    <a:pt x="1164" y="590"/>
                  </a:lnTo>
                  <a:lnTo>
                    <a:pt x="1169" y="589"/>
                  </a:lnTo>
                  <a:lnTo>
                    <a:pt x="1174" y="588"/>
                  </a:lnTo>
                  <a:lnTo>
                    <a:pt x="1180" y="588"/>
                  </a:lnTo>
                  <a:lnTo>
                    <a:pt x="1187" y="588"/>
                  </a:lnTo>
                  <a:lnTo>
                    <a:pt x="1194" y="588"/>
                  </a:lnTo>
                  <a:lnTo>
                    <a:pt x="1201" y="588"/>
                  </a:lnTo>
                  <a:lnTo>
                    <a:pt x="1209" y="588"/>
                  </a:lnTo>
                  <a:lnTo>
                    <a:pt x="1217" y="588"/>
                  </a:lnTo>
                  <a:lnTo>
                    <a:pt x="1224" y="589"/>
                  </a:lnTo>
                  <a:lnTo>
                    <a:pt x="1231" y="588"/>
                  </a:lnTo>
                  <a:lnTo>
                    <a:pt x="1238" y="588"/>
                  </a:lnTo>
                  <a:lnTo>
                    <a:pt x="1245" y="587"/>
                  </a:lnTo>
                  <a:lnTo>
                    <a:pt x="1251" y="586"/>
                  </a:lnTo>
                  <a:lnTo>
                    <a:pt x="1256" y="584"/>
                  </a:lnTo>
                  <a:lnTo>
                    <a:pt x="1261" y="582"/>
                  </a:lnTo>
                  <a:lnTo>
                    <a:pt x="1266" y="579"/>
                  </a:lnTo>
                  <a:lnTo>
                    <a:pt x="1265" y="575"/>
                  </a:lnTo>
                  <a:lnTo>
                    <a:pt x="1264" y="562"/>
                  </a:lnTo>
                  <a:lnTo>
                    <a:pt x="1263" y="540"/>
                  </a:lnTo>
                  <a:lnTo>
                    <a:pt x="1263" y="512"/>
                  </a:lnTo>
                  <a:lnTo>
                    <a:pt x="1262" y="478"/>
                  </a:lnTo>
                  <a:lnTo>
                    <a:pt x="1262" y="440"/>
                  </a:lnTo>
                  <a:lnTo>
                    <a:pt x="1262" y="399"/>
                  </a:lnTo>
                  <a:lnTo>
                    <a:pt x="1262" y="357"/>
                  </a:lnTo>
                  <a:lnTo>
                    <a:pt x="1262" y="315"/>
                  </a:lnTo>
                  <a:lnTo>
                    <a:pt x="1262" y="274"/>
                  </a:lnTo>
                  <a:lnTo>
                    <a:pt x="1262" y="236"/>
                  </a:lnTo>
                  <a:lnTo>
                    <a:pt x="1262" y="201"/>
                  </a:lnTo>
                  <a:lnTo>
                    <a:pt x="1262" y="172"/>
                  </a:lnTo>
                  <a:lnTo>
                    <a:pt x="1263" y="149"/>
                  </a:lnTo>
                  <a:lnTo>
                    <a:pt x="1263" y="133"/>
                  </a:lnTo>
                  <a:lnTo>
                    <a:pt x="1264" y="127"/>
                  </a:lnTo>
                </a:path>
              </a:pathLst>
            </a:custGeom>
            <a:solidFill>
              <a:srgbClr val="ff81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40520" y="5392800"/>
              <a:ext cx="527040" cy="503280"/>
            </a:xfrm>
            <a:custGeom>
              <a:avLst/>
              <a:gdLst/>
              <a:ahLst/>
              <a:rect l="l" t="t" r="r" b="b"/>
              <a:pathLst>
                <a:path w="332" h="317">
                  <a:moveTo>
                    <a:pt x="175" y="0"/>
                  </a:moveTo>
                  <a:lnTo>
                    <a:pt x="173" y="3"/>
                  </a:lnTo>
                  <a:lnTo>
                    <a:pt x="168" y="9"/>
                  </a:lnTo>
                  <a:lnTo>
                    <a:pt x="159" y="18"/>
                  </a:lnTo>
                  <a:lnTo>
                    <a:pt x="148" y="31"/>
                  </a:lnTo>
                  <a:lnTo>
                    <a:pt x="135" y="46"/>
                  </a:lnTo>
                  <a:lnTo>
                    <a:pt x="121" y="63"/>
                  </a:lnTo>
                  <a:lnTo>
                    <a:pt x="105" y="82"/>
                  </a:lnTo>
                  <a:lnTo>
                    <a:pt x="89" y="101"/>
                  </a:lnTo>
                  <a:lnTo>
                    <a:pt x="72" y="122"/>
                  </a:lnTo>
                  <a:lnTo>
                    <a:pt x="56" y="142"/>
                  </a:lnTo>
                  <a:lnTo>
                    <a:pt x="42" y="161"/>
                  </a:lnTo>
                  <a:lnTo>
                    <a:pt x="29" y="179"/>
                  </a:lnTo>
                  <a:lnTo>
                    <a:pt x="17" y="196"/>
                  </a:lnTo>
                  <a:lnTo>
                    <a:pt x="8" y="211"/>
                  </a:lnTo>
                  <a:lnTo>
                    <a:pt x="2" y="224"/>
                  </a:lnTo>
                  <a:lnTo>
                    <a:pt x="0" y="233"/>
                  </a:lnTo>
                  <a:lnTo>
                    <a:pt x="0" y="237"/>
                  </a:lnTo>
                  <a:lnTo>
                    <a:pt x="0" y="243"/>
                  </a:lnTo>
                  <a:lnTo>
                    <a:pt x="1" y="251"/>
                  </a:lnTo>
                  <a:lnTo>
                    <a:pt x="4" y="259"/>
                  </a:lnTo>
                  <a:lnTo>
                    <a:pt x="7" y="268"/>
                  </a:lnTo>
                  <a:lnTo>
                    <a:pt x="12" y="278"/>
                  </a:lnTo>
                  <a:lnTo>
                    <a:pt x="18" y="287"/>
                  </a:lnTo>
                  <a:lnTo>
                    <a:pt x="26" y="295"/>
                  </a:lnTo>
                  <a:lnTo>
                    <a:pt x="36" y="303"/>
                  </a:lnTo>
                  <a:lnTo>
                    <a:pt x="47" y="309"/>
                  </a:lnTo>
                  <a:lnTo>
                    <a:pt x="60" y="313"/>
                  </a:lnTo>
                  <a:lnTo>
                    <a:pt x="75" y="316"/>
                  </a:lnTo>
                  <a:lnTo>
                    <a:pt x="93" y="316"/>
                  </a:lnTo>
                  <a:lnTo>
                    <a:pt x="113" y="313"/>
                  </a:lnTo>
                  <a:lnTo>
                    <a:pt x="136" y="306"/>
                  </a:lnTo>
                  <a:lnTo>
                    <a:pt x="162" y="296"/>
                  </a:lnTo>
                  <a:lnTo>
                    <a:pt x="171" y="293"/>
                  </a:lnTo>
                  <a:lnTo>
                    <a:pt x="181" y="287"/>
                  </a:lnTo>
                  <a:lnTo>
                    <a:pt x="193" y="281"/>
                  </a:lnTo>
                  <a:lnTo>
                    <a:pt x="206" y="272"/>
                  </a:lnTo>
                  <a:lnTo>
                    <a:pt x="220" y="264"/>
                  </a:lnTo>
                  <a:lnTo>
                    <a:pt x="234" y="254"/>
                  </a:lnTo>
                  <a:lnTo>
                    <a:pt x="248" y="244"/>
                  </a:lnTo>
                  <a:lnTo>
                    <a:pt x="262" y="234"/>
                  </a:lnTo>
                  <a:lnTo>
                    <a:pt x="276" y="224"/>
                  </a:lnTo>
                  <a:lnTo>
                    <a:pt x="288" y="215"/>
                  </a:lnTo>
                  <a:lnTo>
                    <a:pt x="300" y="206"/>
                  </a:lnTo>
                  <a:lnTo>
                    <a:pt x="310" y="199"/>
                  </a:lnTo>
                  <a:lnTo>
                    <a:pt x="318" y="193"/>
                  </a:lnTo>
                  <a:lnTo>
                    <a:pt x="325" y="187"/>
                  </a:lnTo>
                  <a:lnTo>
                    <a:pt x="329" y="184"/>
                  </a:lnTo>
                  <a:lnTo>
                    <a:pt x="331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80360" y="5823000"/>
              <a:ext cx="582840" cy="173160"/>
            </a:xfrm>
            <a:custGeom>
              <a:avLst/>
              <a:gdLst/>
              <a:ahLst/>
              <a:rect l="l" t="t" r="r" b="b"/>
              <a:pathLst>
                <a:path w="367" h="109">
                  <a:moveTo>
                    <a:pt x="366" y="75"/>
                  </a:moveTo>
                  <a:lnTo>
                    <a:pt x="363" y="76"/>
                  </a:lnTo>
                  <a:lnTo>
                    <a:pt x="356" y="79"/>
                  </a:lnTo>
                  <a:lnTo>
                    <a:pt x="344" y="83"/>
                  </a:lnTo>
                  <a:lnTo>
                    <a:pt x="328" y="88"/>
                  </a:lnTo>
                  <a:lnTo>
                    <a:pt x="309" y="93"/>
                  </a:lnTo>
                  <a:lnTo>
                    <a:pt x="288" y="98"/>
                  </a:lnTo>
                  <a:lnTo>
                    <a:pt x="264" y="102"/>
                  </a:lnTo>
                  <a:lnTo>
                    <a:pt x="239" y="105"/>
                  </a:lnTo>
                  <a:lnTo>
                    <a:pt x="212" y="108"/>
                  </a:lnTo>
                  <a:lnTo>
                    <a:pt x="185" y="108"/>
                  </a:lnTo>
                  <a:lnTo>
                    <a:pt x="157" y="106"/>
                  </a:lnTo>
                  <a:lnTo>
                    <a:pt x="129" y="101"/>
                  </a:lnTo>
                  <a:lnTo>
                    <a:pt x="103" y="93"/>
                  </a:lnTo>
                  <a:lnTo>
                    <a:pt x="77" y="81"/>
                  </a:lnTo>
                  <a:lnTo>
                    <a:pt x="53" y="66"/>
                  </a:lnTo>
                  <a:lnTo>
                    <a:pt x="32" y="46"/>
                  </a:lnTo>
                  <a:lnTo>
                    <a:pt x="28" y="43"/>
                  </a:lnTo>
                  <a:lnTo>
                    <a:pt x="26" y="40"/>
                  </a:lnTo>
                  <a:lnTo>
                    <a:pt x="23" y="37"/>
                  </a:lnTo>
                  <a:lnTo>
                    <a:pt x="20" y="33"/>
                  </a:lnTo>
                  <a:lnTo>
                    <a:pt x="17" y="30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8" y="15"/>
                  </a:lnTo>
                  <a:lnTo>
                    <a:pt x="6" y="11"/>
                  </a:lnTo>
                  <a:lnTo>
                    <a:pt x="4" y="8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283520" y="6305400"/>
              <a:ext cx="36720" cy="150840"/>
            </a:xfrm>
            <a:custGeom>
              <a:avLst/>
              <a:gdLst/>
              <a:ahLst/>
              <a:rect l="l" t="t" r="r" b="b"/>
              <a:pathLst>
                <a:path w="23" h="95">
                  <a:moveTo>
                    <a:pt x="10" y="94"/>
                  </a:moveTo>
                  <a:lnTo>
                    <a:pt x="15" y="88"/>
                  </a:lnTo>
                  <a:lnTo>
                    <a:pt x="18" y="81"/>
                  </a:lnTo>
                  <a:lnTo>
                    <a:pt x="20" y="73"/>
                  </a:lnTo>
                  <a:lnTo>
                    <a:pt x="22" y="66"/>
                  </a:lnTo>
                  <a:lnTo>
                    <a:pt x="21" y="58"/>
                  </a:lnTo>
                  <a:lnTo>
                    <a:pt x="20" y="50"/>
                  </a:lnTo>
                  <a:lnTo>
                    <a:pt x="18" y="43"/>
                  </a:lnTo>
                  <a:lnTo>
                    <a:pt x="17" y="35"/>
                  </a:lnTo>
                  <a:lnTo>
                    <a:pt x="13" y="28"/>
                  </a:lnTo>
                  <a:lnTo>
                    <a:pt x="11" y="21"/>
                  </a:lnTo>
                  <a:lnTo>
                    <a:pt x="8" y="16"/>
                  </a:lnTo>
                  <a:lnTo>
                    <a:pt x="5" y="10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810480" y="6105600"/>
              <a:ext cx="666720" cy="198360"/>
            </a:xfrm>
            <a:custGeom>
              <a:avLst/>
              <a:gdLst/>
              <a:ahLst/>
              <a:rect l="l" t="t" r="r" b="b"/>
              <a:pathLst>
                <a:path w="420" h="125">
                  <a:moveTo>
                    <a:pt x="0" y="58"/>
                  </a:moveTo>
                  <a:lnTo>
                    <a:pt x="2" y="59"/>
                  </a:lnTo>
                  <a:lnTo>
                    <a:pt x="8" y="62"/>
                  </a:lnTo>
                  <a:lnTo>
                    <a:pt x="19" y="66"/>
                  </a:lnTo>
                  <a:lnTo>
                    <a:pt x="33" y="72"/>
                  </a:lnTo>
                  <a:lnTo>
                    <a:pt x="50" y="78"/>
                  </a:lnTo>
                  <a:lnTo>
                    <a:pt x="69" y="85"/>
                  </a:lnTo>
                  <a:lnTo>
                    <a:pt x="92" y="92"/>
                  </a:lnTo>
                  <a:lnTo>
                    <a:pt x="117" y="99"/>
                  </a:lnTo>
                  <a:lnTo>
                    <a:pt x="144" y="106"/>
                  </a:lnTo>
                  <a:lnTo>
                    <a:pt x="172" y="112"/>
                  </a:lnTo>
                  <a:lnTo>
                    <a:pt x="202" y="117"/>
                  </a:lnTo>
                  <a:lnTo>
                    <a:pt x="233" y="121"/>
                  </a:lnTo>
                  <a:lnTo>
                    <a:pt x="264" y="124"/>
                  </a:lnTo>
                  <a:lnTo>
                    <a:pt x="296" y="124"/>
                  </a:lnTo>
                  <a:lnTo>
                    <a:pt x="327" y="121"/>
                  </a:lnTo>
                  <a:lnTo>
                    <a:pt x="359" y="117"/>
                  </a:lnTo>
                  <a:lnTo>
                    <a:pt x="375" y="112"/>
                  </a:lnTo>
                  <a:lnTo>
                    <a:pt x="389" y="105"/>
                  </a:lnTo>
                  <a:lnTo>
                    <a:pt x="399" y="97"/>
                  </a:lnTo>
                  <a:lnTo>
                    <a:pt x="407" y="88"/>
                  </a:lnTo>
                  <a:lnTo>
                    <a:pt x="412" y="79"/>
                  </a:lnTo>
                  <a:lnTo>
                    <a:pt x="416" y="69"/>
                  </a:lnTo>
                  <a:lnTo>
                    <a:pt x="418" y="59"/>
                  </a:lnTo>
                  <a:lnTo>
                    <a:pt x="419" y="49"/>
                  </a:lnTo>
                  <a:lnTo>
                    <a:pt x="418" y="40"/>
                  </a:lnTo>
                  <a:lnTo>
                    <a:pt x="416" y="31"/>
                  </a:lnTo>
                  <a:lnTo>
                    <a:pt x="414" y="23"/>
                  </a:lnTo>
                  <a:lnTo>
                    <a:pt x="412" y="15"/>
                  </a:lnTo>
                  <a:lnTo>
                    <a:pt x="409" y="9"/>
                  </a:lnTo>
                  <a:lnTo>
                    <a:pt x="407" y="4"/>
                  </a:lnTo>
                  <a:lnTo>
                    <a:pt x="406" y="1"/>
                  </a:lnTo>
                  <a:lnTo>
                    <a:pt x="4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75640" y="5961240"/>
              <a:ext cx="663480" cy="150480"/>
            </a:xfrm>
            <a:custGeom>
              <a:avLst/>
              <a:gdLst/>
              <a:ahLst/>
              <a:rect l="l" t="t" r="r" b="b"/>
              <a:pathLst>
                <a:path w="418" h="95">
                  <a:moveTo>
                    <a:pt x="409" y="1"/>
                  </a:moveTo>
                  <a:lnTo>
                    <a:pt x="410" y="3"/>
                  </a:lnTo>
                  <a:lnTo>
                    <a:pt x="411" y="6"/>
                  </a:lnTo>
                  <a:lnTo>
                    <a:pt x="412" y="12"/>
                  </a:lnTo>
                  <a:lnTo>
                    <a:pt x="414" y="18"/>
                  </a:lnTo>
                  <a:lnTo>
                    <a:pt x="416" y="27"/>
                  </a:lnTo>
                  <a:lnTo>
                    <a:pt x="417" y="35"/>
                  </a:lnTo>
                  <a:lnTo>
                    <a:pt x="416" y="45"/>
                  </a:lnTo>
                  <a:lnTo>
                    <a:pt x="415" y="54"/>
                  </a:lnTo>
                  <a:lnTo>
                    <a:pt x="411" y="63"/>
                  </a:lnTo>
                  <a:lnTo>
                    <a:pt x="406" y="72"/>
                  </a:lnTo>
                  <a:lnTo>
                    <a:pt x="398" y="80"/>
                  </a:lnTo>
                  <a:lnTo>
                    <a:pt x="388" y="86"/>
                  </a:lnTo>
                  <a:lnTo>
                    <a:pt x="374" y="91"/>
                  </a:lnTo>
                  <a:lnTo>
                    <a:pt x="357" y="93"/>
                  </a:lnTo>
                  <a:lnTo>
                    <a:pt x="336" y="94"/>
                  </a:lnTo>
                  <a:lnTo>
                    <a:pt x="311" y="91"/>
                  </a:lnTo>
                  <a:lnTo>
                    <a:pt x="300" y="90"/>
                  </a:lnTo>
                  <a:lnTo>
                    <a:pt x="284" y="87"/>
                  </a:lnTo>
                  <a:lnTo>
                    <a:pt x="264" y="82"/>
                  </a:lnTo>
                  <a:lnTo>
                    <a:pt x="243" y="76"/>
                  </a:lnTo>
                  <a:lnTo>
                    <a:pt x="218" y="70"/>
                  </a:lnTo>
                  <a:lnTo>
                    <a:pt x="192" y="62"/>
                  </a:lnTo>
                  <a:lnTo>
                    <a:pt x="165" y="54"/>
                  </a:lnTo>
                  <a:lnTo>
                    <a:pt x="138" y="45"/>
                  </a:lnTo>
                  <a:lnTo>
                    <a:pt x="111" y="37"/>
                  </a:lnTo>
                  <a:lnTo>
                    <a:pt x="86" y="29"/>
                  </a:lnTo>
                  <a:lnTo>
                    <a:pt x="62" y="21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11" y="4"/>
                  </a:lnTo>
                  <a:lnTo>
                    <a:pt x="3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174160" y="5456160"/>
              <a:ext cx="268200" cy="1022400"/>
            </a:xfrm>
            <a:custGeom>
              <a:avLst/>
              <a:gdLst/>
              <a:ahLst/>
              <a:rect l="l" t="t" r="r" b="b"/>
              <a:pathLst>
                <a:path w="169" h="644">
                  <a:moveTo>
                    <a:pt x="168" y="0"/>
                  </a:moveTo>
                  <a:lnTo>
                    <a:pt x="0" y="0"/>
                  </a:lnTo>
                  <a:lnTo>
                    <a:pt x="0" y="643"/>
                  </a:lnTo>
                  <a:lnTo>
                    <a:pt x="145" y="641"/>
                  </a:lnTo>
                  <a:lnTo>
                    <a:pt x="16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39400" y="5423040"/>
              <a:ext cx="425160" cy="1125360"/>
            </a:xfrm>
            <a:custGeom>
              <a:avLst/>
              <a:gdLst/>
              <a:ahLst/>
              <a:rect l="l" t="t" r="r" b="b"/>
              <a:pathLst>
                <a:path w="268" h="709">
                  <a:moveTo>
                    <a:pt x="267" y="2"/>
                  </a:moveTo>
                  <a:lnTo>
                    <a:pt x="39" y="0"/>
                  </a:lnTo>
                  <a:lnTo>
                    <a:pt x="38" y="662"/>
                  </a:lnTo>
                  <a:lnTo>
                    <a:pt x="0" y="663"/>
                  </a:lnTo>
                  <a:lnTo>
                    <a:pt x="35" y="708"/>
                  </a:lnTo>
                  <a:lnTo>
                    <a:pt x="267" y="693"/>
                  </a:lnTo>
                  <a:lnTo>
                    <a:pt x="267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1371600"/>
            <a:ext cx="9372600" cy="548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71600" y="1676520"/>
            <a:ext cx="7162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ff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66"/>
                </a:solidFill>
                <a:latin typeface="Times New Roman"/>
              </a:rPr>
              <a:t>Tomemos como dado que las funciones de demanda de factores univaluadas exis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2895480"/>
            <a:ext cx="7162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ff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¿Cómo están relacionadas con la función de cos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71600" y="4191120"/>
            <a:ext cx="716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ff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¿Cuáles son sus propiedad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71600" y="4952880"/>
            <a:ext cx="7467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ff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¿Cómo están relacionadas con las propiedades de la función de cos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sumimos la existencia de la función de demanda condicionad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895480" y="1295280"/>
            <a:ext cx="6247800" cy="4190400"/>
            <a:chOff x="2895480" y="1295280"/>
            <a:chExt cx="6247800" cy="4190400"/>
          </a:xfrm>
        </p:grpSpPr>
        <p:grpSp>
          <p:nvGrpSpPr>
            <p:cNvPr id="441" name=""/>
            <p:cNvGrpSpPr/>
            <p:nvPr/>
          </p:nvGrpSpPr>
          <p:grpSpPr>
            <a:xfrm>
              <a:off x="2895480" y="1295280"/>
              <a:ext cx="6247800" cy="4190400"/>
              <a:chOff x="2895480" y="1295280"/>
              <a:chExt cx="6247800" cy="4190400"/>
            </a:xfrm>
          </p:grpSpPr>
          <p:sp>
            <p:nvSpPr>
              <p:cNvPr id="442" name=""/>
              <p:cNvSpPr/>
              <p:nvPr/>
            </p:nvSpPr>
            <p:spPr>
              <a:xfrm>
                <a:off x="2895480" y="1295280"/>
                <a:ext cx="6247800" cy="3004560"/>
              </a:xfrm>
              <a:custGeom>
                <a:avLst/>
                <a:gdLst/>
                <a:ahLst/>
                <a:rect l="l" t="t" r="r" b="b"/>
                <a:pathLst>
                  <a:path w="3631" h="1300">
                    <a:moveTo>
                      <a:pt x="360" y="337"/>
                    </a:moveTo>
                    <a:lnTo>
                      <a:pt x="294" y="349"/>
                    </a:lnTo>
                    <a:lnTo>
                      <a:pt x="235" y="365"/>
                    </a:lnTo>
                    <a:lnTo>
                      <a:pt x="181" y="384"/>
                    </a:lnTo>
                    <a:lnTo>
                      <a:pt x="135" y="408"/>
                    </a:lnTo>
                    <a:lnTo>
                      <a:pt x="94" y="435"/>
                    </a:lnTo>
                    <a:lnTo>
                      <a:pt x="61" y="464"/>
                    </a:lnTo>
                    <a:lnTo>
                      <a:pt x="35" y="496"/>
                    </a:lnTo>
                    <a:lnTo>
                      <a:pt x="16" y="528"/>
                    </a:lnTo>
                    <a:lnTo>
                      <a:pt x="5" y="563"/>
                    </a:lnTo>
                    <a:lnTo>
                      <a:pt x="0" y="599"/>
                    </a:lnTo>
                    <a:lnTo>
                      <a:pt x="2" y="634"/>
                    </a:lnTo>
                    <a:lnTo>
                      <a:pt x="14" y="668"/>
                    </a:lnTo>
                    <a:lnTo>
                      <a:pt x="33" y="704"/>
                    </a:lnTo>
                    <a:lnTo>
                      <a:pt x="61" y="736"/>
                    </a:lnTo>
                    <a:lnTo>
                      <a:pt x="98" y="768"/>
                    </a:lnTo>
                    <a:lnTo>
                      <a:pt x="143" y="796"/>
                    </a:lnTo>
                    <a:lnTo>
                      <a:pt x="114" y="843"/>
                    </a:lnTo>
                    <a:lnTo>
                      <a:pt x="101" y="888"/>
                    </a:lnTo>
                    <a:lnTo>
                      <a:pt x="102" y="933"/>
                    </a:lnTo>
                    <a:lnTo>
                      <a:pt x="118" y="974"/>
                    </a:lnTo>
                    <a:lnTo>
                      <a:pt x="143" y="1013"/>
                    </a:lnTo>
                    <a:lnTo>
                      <a:pt x="181" y="1048"/>
                    </a:lnTo>
                    <a:lnTo>
                      <a:pt x="227" y="1080"/>
                    </a:lnTo>
                    <a:lnTo>
                      <a:pt x="282" y="1107"/>
                    </a:lnTo>
                    <a:lnTo>
                      <a:pt x="342" y="1129"/>
                    </a:lnTo>
                    <a:lnTo>
                      <a:pt x="409" y="1145"/>
                    </a:lnTo>
                    <a:lnTo>
                      <a:pt x="479" y="1155"/>
                    </a:lnTo>
                    <a:lnTo>
                      <a:pt x="552" y="1158"/>
                    </a:lnTo>
                    <a:lnTo>
                      <a:pt x="625" y="1153"/>
                    </a:lnTo>
                    <a:lnTo>
                      <a:pt x="698" y="1141"/>
                    </a:lnTo>
                    <a:lnTo>
                      <a:pt x="768" y="1120"/>
                    </a:lnTo>
                    <a:lnTo>
                      <a:pt x="836" y="1089"/>
                    </a:lnTo>
                    <a:lnTo>
                      <a:pt x="883" y="1114"/>
                    </a:lnTo>
                    <a:lnTo>
                      <a:pt x="934" y="1136"/>
                    </a:lnTo>
                    <a:lnTo>
                      <a:pt x="986" y="1155"/>
                    </a:lnTo>
                    <a:lnTo>
                      <a:pt x="1041" y="1171"/>
                    </a:lnTo>
                    <a:lnTo>
                      <a:pt x="1096" y="1186"/>
                    </a:lnTo>
                    <a:lnTo>
                      <a:pt x="1154" y="1198"/>
                    </a:lnTo>
                    <a:lnTo>
                      <a:pt x="1214" y="1207"/>
                    </a:lnTo>
                    <a:lnTo>
                      <a:pt x="1273" y="1213"/>
                    </a:lnTo>
                    <a:lnTo>
                      <a:pt x="1334" y="1218"/>
                    </a:lnTo>
                    <a:lnTo>
                      <a:pt x="1395" y="1219"/>
                    </a:lnTo>
                    <a:lnTo>
                      <a:pt x="1456" y="1218"/>
                    </a:lnTo>
                    <a:lnTo>
                      <a:pt x="1517" y="1213"/>
                    </a:lnTo>
                    <a:lnTo>
                      <a:pt x="1576" y="1207"/>
                    </a:lnTo>
                    <a:lnTo>
                      <a:pt x="1637" y="1198"/>
                    </a:lnTo>
                    <a:lnTo>
                      <a:pt x="1696" y="1185"/>
                    </a:lnTo>
                    <a:lnTo>
                      <a:pt x="1755" y="1170"/>
                    </a:lnTo>
                    <a:lnTo>
                      <a:pt x="1828" y="1203"/>
                    </a:lnTo>
                    <a:lnTo>
                      <a:pt x="1905" y="1232"/>
                    </a:lnTo>
                    <a:lnTo>
                      <a:pt x="1987" y="1255"/>
                    </a:lnTo>
                    <a:lnTo>
                      <a:pt x="2070" y="1273"/>
                    </a:lnTo>
                    <a:lnTo>
                      <a:pt x="2156" y="1287"/>
                    </a:lnTo>
                    <a:lnTo>
                      <a:pt x="2244" y="1295"/>
                    </a:lnTo>
                    <a:lnTo>
                      <a:pt x="2331" y="1299"/>
                    </a:lnTo>
                    <a:lnTo>
                      <a:pt x="2421" y="1298"/>
                    </a:lnTo>
                    <a:lnTo>
                      <a:pt x="2507" y="1293"/>
                    </a:lnTo>
                    <a:lnTo>
                      <a:pt x="2595" y="1283"/>
                    </a:lnTo>
                    <a:lnTo>
                      <a:pt x="2679" y="1268"/>
                    </a:lnTo>
                    <a:lnTo>
                      <a:pt x="2763" y="1248"/>
                    </a:lnTo>
                    <a:lnTo>
                      <a:pt x="2843" y="1225"/>
                    </a:lnTo>
                    <a:lnTo>
                      <a:pt x="2919" y="1196"/>
                    </a:lnTo>
                    <a:lnTo>
                      <a:pt x="2992" y="1163"/>
                    </a:lnTo>
                    <a:lnTo>
                      <a:pt x="3061" y="1126"/>
                    </a:lnTo>
                    <a:lnTo>
                      <a:pt x="3152" y="1132"/>
                    </a:lnTo>
                    <a:lnTo>
                      <a:pt x="3238" y="1129"/>
                    </a:lnTo>
                    <a:lnTo>
                      <a:pt x="3317" y="1117"/>
                    </a:lnTo>
                    <a:lnTo>
                      <a:pt x="3390" y="1098"/>
                    </a:lnTo>
                    <a:lnTo>
                      <a:pt x="3453" y="1072"/>
                    </a:lnTo>
                    <a:lnTo>
                      <a:pt x="3509" y="1040"/>
                    </a:lnTo>
                    <a:lnTo>
                      <a:pt x="3555" y="1004"/>
                    </a:lnTo>
                    <a:lnTo>
                      <a:pt x="3591" y="964"/>
                    </a:lnTo>
                    <a:lnTo>
                      <a:pt x="3616" y="922"/>
                    </a:lnTo>
                    <a:lnTo>
                      <a:pt x="3629" y="877"/>
                    </a:lnTo>
                    <a:lnTo>
                      <a:pt x="3630" y="832"/>
                    </a:lnTo>
                    <a:lnTo>
                      <a:pt x="3618" y="787"/>
                    </a:lnTo>
                    <a:lnTo>
                      <a:pt x="3592" y="744"/>
                    </a:lnTo>
                    <a:lnTo>
                      <a:pt x="3552" y="701"/>
                    </a:lnTo>
                    <a:lnTo>
                      <a:pt x="3498" y="663"/>
                    </a:lnTo>
                    <a:lnTo>
                      <a:pt x="3428" y="627"/>
                    </a:lnTo>
                    <a:lnTo>
                      <a:pt x="3470" y="603"/>
                    </a:lnTo>
                    <a:lnTo>
                      <a:pt x="3502" y="577"/>
                    </a:lnTo>
                    <a:lnTo>
                      <a:pt x="3523" y="550"/>
                    </a:lnTo>
                    <a:lnTo>
                      <a:pt x="3535" y="521"/>
                    </a:lnTo>
                    <a:lnTo>
                      <a:pt x="3536" y="493"/>
                    </a:lnTo>
                    <a:lnTo>
                      <a:pt x="3531" y="465"/>
                    </a:lnTo>
                    <a:lnTo>
                      <a:pt x="3516" y="438"/>
                    </a:lnTo>
                    <a:lnTo>
                      <a:pt x="3496" y="412"/>
                    </a:lnTo>
                    <a:lnTo>
                      <a:pt x="3466" y="389"/>
                    </a:lnTo>
                    <a:lnTo>
                      <a:pt x="3432" y="368"/>
                    </a:lnTo>
                    <a:lnTo>
                      <a:pt x="3392" y="352"/>
                    </a:lnTo>
                    <a:lnTo>
                      <a:pt x="3349" y="339"/>
                    </a:lnTo>
                    <a:lnTo>
                      <a:pt x="3299" y="331"/>
                    </a:lnTo>
                    <a:lnTo>
                      <a:pt x="3248" y="328"/>
                    </a:lnTo>
                    <a:lnTo>
                      <a:pt x="3192" y="331"/>
                    </a:lnTo>
                    <a:lnTo>
                      <a:pt x="3136" y="340"/>
                    </a:lnTo>
                    <a:lnTo>
                      <a:pt x="3096" y="314"/>
                    </a:lnTo>
                    <a:lnTo>
                      <a:pt x="3053" y="289"/>
                    </a:lnTo>
                    <a:lnTo>
                      <a:pt x="3009" y="267"/>
                    </a:lnTo>
                    <a:lnTo>
                      <a:pt x="2962" y="247"/>
                    </a:lnTo>
                    <a:lnTo>
                      <a:pt x="2910" y="230"/>
                    </a:lnTo>
                    <a:lnTo>
                      <a:pt x="2858" y="215"/>
                    </a:lnTo>
                    <a:lnTo>
                      <a:pt x="2804" y="202"/>
                    </a:lnTo>
                    <a:lnTo>
                      <a:pt x="2750" y="192"/>
                    </a:lnTo>
                    <a:lnTo>
                      <a:pt x="2692" y="185"/>
                    </a:lnTo>
                    <a:lnTo>
                      <a:pt x="2635" y="180"/>
                    </a:lnTo>
                    <a:lnTo>
                      <a:pt x="2576" y="178"/>
                    </a:lnTo>
                    <a:lnTo>
                      <a:pt x="2518" y="179"/>
                    </a:lnTo>
                    <a:lnTo>
                      <a:pt x="2459" y="182"/>
                    </a:lnTo>
                    <a:lnTo>
                      <a:pt x="2402" y="187"/>
                    </a:lnTo>
                    <a:lnTo>
                      <a:pt x="2343" y="197"/>
                    </a:lnTo>
                    <a:lnTo>
                      <a:pt x="2288" y="208"/>
                    </a:lnTo>
                    <a:lnTo>
                      <a:pt x="2238" y="160"/>
                    </a:lnTo>
                    <a:lnTo>
                      <a:pt x="2181" y="117"/>
                    </a:lnTo>
                    <a:lnTo>
                      <a:pt x="2115" y="82"/>
                    </a:lnTo>
                    <a:lnTo>
                      <a:pt x="2043" y="52"/>
                    </a:lnTo>
                    <a:lnTo>
                      <a:pt x="1964" y="30"/>
                    </a:lnTo>
                    <a:lnTo>
                      <a:pt x="1883" y="13"/>
                    </a:lnTo>
                    <a:lnTo>
                      <a:pt x="1798" y="3"/>
                    </a:lnTo>
                    <a:lnTo>
                      <a:pt x="1714" y="0"/>
                    </a:lnTo>
                    <a:lnTo>
                      <a:pt x="1628" y="3"/>
                    </a:lnTo>
                    <a:lnTo>
                      <a:pt x="1543" y="13"/>
                    </a:lnTo>
                    <a:lnTo>
                      <a:pt x="1461" y="30"/>
                    </a:lnTo>
                    <a:lnTo>
                      <a:pt x="1383" y="52"/>
                    </a:lnTo>
                    <a:lnTo>
                      <a:pt x="1310" y="82"/>
                    </a:lnTo>
                    <a:lnTo>
                      <a:pt x="1246" y="117"/>
                    </a:lnTo>
                    <a:lnTo>
                      <a:pt x="1188" y="160"/>
                    </a:lnTo>
                    <a:lnTo>
                      <a:pt x="1140" y="208"/>
                    </a:lnTo>
                    <a:lnTo>
                      <a:pt x="1093" y="177"/>
                    </a:lnTo>
                    <a:lnTo>
                      <a:pt x="1041" y="153"/>
                    </a:lnTo>
                    <a:lnTo>
                      <a:pt x="984" y="134"/>
                    </a:lnTo>
                    <a:lnTo>
                      <a:pt x="925" y="120"/>
                    </a:lnTo>
                    <a:lnTo>
                      <a:pt x="863" y="113"/>
                    </a:lnTo>
                    <a:lnTo>
                      <a:pt x="800" y="110"/>
                    </a:lnTo>
                    <a:lnTo>
                      <a:pt x="737" y="113"/>
                    </a:lnTo>
                    <a:lnTo>
                      <a:pt x="678" y="120"/>
                    </a:lnTo>
                    <a:lnTo>
                      <a:pt x="619" y="133"/>
                    </a:lnTo>
                    <a:lnTo>
                      <a:pt x="563" y="150"/>
                    </a:lnTo>
                    <a:lnTo>
                      <a:pt x="513" y="172"/>
                    </a:lnTo>
                    <a:lnTo>
                      <a:pt x="468" y="197"/>
                    </a:lnTo>
                    <a:lnTo>
                      <a:pt x="428" y="227"/>
                    </a:lnTo>
                    <a:lnTo>
                      <a:pt x="399" y="260"/>
                    </a:lnTo>
                    <a:lnTo>
                      <a:pt x="376" y="297"/>
                    </a:lnTo>
                    <a:lnTo>
                      <a:pt x="366" y="337"/>
                    </a:lnTo>
                    <a:lnTo>
                      <a:pt x="365" y="337"/>
                    </a:lnTo>
                    <a:lnTo>
                      <a:pt x="363" y="337"/>
                    </a:lnTo>
                    <a:lnTo>
                      <a:pt x="361" y="337"/>
                    </a:lnTo>
                    <a:lnTo>
                      <a:pt x="360" y="33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296560" y="4066560"/>
                <a:ext cx="600480" cy="466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897320" y="4692960"/>
                <a:ext cx="478080" cy="37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476120" y="5224680"/>
                <a:ext cx="336960" cy="261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3664440" y="2478240"/>
              <a:ext cx="491472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800" spc="-1" strike="noStrike">
                  <a:solidFill>
                    <a:srgbClr val="810000"/>
                  </a:solidFill>
                  <a:latin typeface="Brush738 BT"/>
                </a:rPr>
                <a:t>Se acuerdan...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79320" y="3463560"/>
            <a:ext cx="80200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IRMA: Estática compa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3000"/>
            <a:ext cx="80265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croeconomía I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1998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62520" y="4724280"/>
            <a:ext cx="1320840" cy="1333800"/>
            <a:chOff x="3962520" y="4724280"/>
            <a:chExt cx="1320840" cy="1333800"/>
          </a:xfrm>
        </p:grpSpPr>
        <p:sp>
          <p:nvSpPr>
            <p:cNvPr id="45" name=""/>
            <p:cNvSpPr/>
            <p:nvPr/>
          </p:nvSpPr>
          <p:spPr>
            <a:xfrm>
              <a:off x="4978440" y="4883040"/>
              <a:ext cx="304920" cy="1003320"/>
            </a:xfrm>
            <a:custGeom>
              <a:avLst/>
              <a:gdLst/>
              <a:ahLst/>
              <a:rect l="l" t="t" r="r" b="b"/>
              <a:pathLst>
                <a:path w="192" h="632">
                  <a:moveTo>
                    <a:pt x="0" y="631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631"/>
                  </a:lnTo>
                  <a:lnTo>
                    <a:pt x="0" y="63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62520" y="5440320"/>
              <a:ext cx="969840" cy="466920"/>
            </a:xfrm>
            <a:custGeom>
              <a:avLst/>
              <a:gdLst/>
              <a:ahLst/>
              <a:rect l="l" t="t" r="r" b="b"/>
              <a:pathLst>
                <a:path w="611" h="294">
                  <a:moveTo>
                    <a:pt x="0" y="0"/>
                  </a:moveTo>
                  <a:lnTo>
                    <a:pt x="0" y="148"/>
                  </a:lnTo>
                  <a:lnTo>
                    <a:pt x="58" y="148"/>
                  </a:lnTo>
                  <a:lnTo>
                    <a:pt x="58" y="237"/>
                  </a:lnTo>
                  <a:lnTo>
                    <a:pt x="117" y="237"/>
                  </a:lnTo>
                  <a:lnTo>
                    <a:pt x="145" y="293"/>
                  </a:lnTo>
                  <a:lnTo>
                    <a:pt x="398" y="293"/>
                  </a:lnTo>
                  <a:lnTo>
                    <a:pt x="423" y="187"/>
                  </a:lnTo>
                  <a:lnTo>
                    <a:pt x="497" y="152"/>
                  </a:lnTo>
                  <a:lnTo>
                    <a:pt x="554" y="206"/>
                  </a:lnTo>
                  <a:lnTo>
                    <a:pt x="554" y="293"/>
                  </a:lnTo>
                  <a:lnTo>
                    <a:pt x="610" y="293"/>
                  </a:lnTo>
                  <a:lnTo>
                    <a:pt x="610" y="0"/>
                  </a:lnTo>
                  <a:lnTo>
                    <a:pt x="423" y="0"/>
                  </a:lnTo>
                  <a:lnTo>
                    <a:pt x="351" y="83"/>
                  </a:lnTo>
                  <a:lnTo>
                    <a:pt x="334" y="83"/>
                  </a:lnTo>
                  <a:lnTo>
                    <a:pt x="334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7440" y="5700600"/>
              <a:ext cx="211320" cy="284400"/>
            </a:xfrm>
            <a:custGeom>
              <a:avLst/>
              <a:gdLst/>
              <a:ahLst/>
              <a:rect l="l" t="t" r="r" b="b"/>
              <a:pathLst>
                <a:path w="133" h="179">
                  <a:moveTo>
                    <a:pt x="132" y="89"/>
                  </a:moveTo>
                  <a:lnTo>
                    <a:pt x="132" y="79"/>
                  </a:lnTo>
                  <a:lnTo>
                    <a:pt x="132" y="70"/>
                  </a:lnTo>
                  <a:lnTo>
                    <a:pt x="130" y="62"/>
                  </a:lnTo>
                  <a:lnTo>
                    <a:pt x="127" y="52"/>
                  </a:lnTo>
                  <a:lnTo>
                    <a:pt x="125" y="45"/>
                  </a:lnTo>
                  <a:lnTo>
                    <a:pt x="120" y="37"/>
                  </a:lnTo>
                  <a:lnTo>
                    <a:pt x="115" y="29"/>
                  </a:lnTo>
                  <a:lnTo>
                    <a:pt x="112" y="23"/>
                  </a:lnTo>
                  <a:lnTo>
                    <a:pt x="106" y="15"/>
                  </a:lnTo>
                  <a:lnTo>
                    <a:pt x="100" y="12"/>
                  </a:lnTo>
                  <a:lnTo>
                    <a:pt x="95" y="8"/>
                  </a:lnTo>
                  <a:lnTo>
                    <a:pt x="88" y="4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7" y="2"/>
                  </a:lnTo>
                  <a:lnTo>
                    <a:pt x="41" y="6"/>
                  </a:lnTo>
                  <a:lnTo>
                    <a:pt x="34" y="10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18" y="25"/>
                  </a:lnTo>
                  <a:lnTo>
                    <a:pt x="14" y="33"/>
                  </a:lnTo>
                  <a:lnTo>
                    <a:pt x="10" y="41"/>
                  </a:lnTo>
                  <a:lnTo>
                    <a:pt x="6" y="50"/>
                  </a:lnTo>
                  <a:lnTo>
                    <a:pt x="4" y="58"/>
                  </a:lnTo>
                  <a:lnTo>
                    <a:pt x="1" y="66"/>
                  </a:lnTo>
                  <a:lnTo>
                    <a:pt x="1" y="74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1" y="105"/>
                  </a:lnTo>
                  <a:lnTo>
                    <a:pt x="1" y="114"/>
                  </a:lnTo>
                  <a:lnTo>
                    <a:pt x="4" y="122"/>
                  </a:lnTo>
                  <a:lnTo>
                    <a:pt x="7" y="130"/>
                  </a:lnTo>
                  <a:lnTo>
                    <a:pt x="11" y="137"/>
                  </a:lnTo>
                  <a:lnTo>
                    <a:pt x="16" y="145"/>
                  </a:lnTo>
                  <a:lnTo>
                    <a:pt x="20" y="153"/>
                  </a:lnTo>
                  <a:lnTo>
                    <a:pt x="23" y="159"/>
                  </a:lnTo>
                  <a:lnTo>
                    <a:pt x="30" y="165"/>
                  </a:lnTo>
                  <a:lnTo>
                    <a:pt x="35" y="168"/>
                  </a:lnTo>
                  <a:lnTo>
                    <a:pt x="41" y="174"/>
                  </a:lnTo>
                  <a:lnTo>
                    <a:pt x="48" y="176"/>
                  </a:lnTo>
                  <a:lnTo>
                    <a:pt x="55" y="178"/>
                  </a:lnTo>
                  <a:lnTo>
                    <a:pt x="61" y="178"/>
                  </a:lnTo>
                  <a:lnTo>
                    <a:pt x="68" y="178"/>
                  </a:lnTo>
                  <a:lnTo>
                    <a:pt x="75" y="178"/>
                  </a:lnTo>
                  <a:lnTo>
                    <a:pt x="82" y="176"/>
                  </a:lnTo>
                  <a:lnTo>
                    <a:pt x="89" y="174"/>
                  </a:lnTo>
                  <a:lnTo>
                    <a:pt x="95" y="170"/>
                  </a:lnTo>
                  <a:lnTo>
                    <a:pt x="102" y="166"/>
                  </a:lnTo>
                  <a:lnTo>
                    <a:pt x="106" y="161"/>
                  </a:lnTo>
                  <a:lnTo>
                    <a:pt x="112" y="155"/>
                  </a:lnTo>
                  <a:lnTo>
                    <a:pt x="117" y="147"/>
                  </a:lnTo>
                  <a:lnTo>
                    <a:pt x="120" y="139"/>
                  </a:lnTo>
                  <a:lnTo>
                    <a:pt x="125" y="132"/>
                  </a:lnTo>
                  <a:lnTo>
                    <a:pt x="127" y="124"/>
                  </a:lnTo>
                  <a:lnTo>
                    <a:pt x="130" y="116"/>
                  </a:lnTo>
                  <a:lnTo>
                    <a:pt x="132" y="105"/>
                  </a:lnTo>
                  <a:lnTo>
                    <a:pt x="132" y="97"/>
                  </a:lnTo>
                  <a:lnTo>
                    <a:pt x="132" y="89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30560" y="5823000"/>
              <a:ext cx="123840" cy="168120"/>
            </a:xfrm>
            <a:custGeom>
              <a:avLst/>
              <a:gdLst/>
              <a:ahLst/>
              <a:rect l="l" t="t" r="r" b="b"/>
              <a:pathLst>
                <a:path w="78" h="106">
                  <a:moveTo>
                    <a:pt x="77" y="53"/>
                  </a:moveTo>
                  <a:lnTo>
                    <a:pt x="77" y="47"/>
                  </a:lnTo>
                  <a:lnTo>
                    <a:pt x="75" y="39"/>
                  </a:lnTo>
                  <a:lnTo>
                    <a:pt x="74" y="33"/>
                  </a:lnTo>
                  <a:lnTo>
                    <a:pt x="72" y="25"/>
                  </a:lnTo>
                  <a:lnTo>
                    <a:pt x="69" y="19"/>
                  </a:lnTo>
                  <a:lnTo>
                    <a:pt x="65" y="14"/>
                  </a:lnTo>
                  <a:lnTo>
                    <a:pt x="61" y="10"/>
                  </a:lnTo>
                  <a:lnTo>
                    <a:pt x="57" y="6"/>
                  </a:lnTo>
                  <a:lnTo>
                    <a:pt x="51" y="2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6" y="2"/>
                  </a:lnTo>
                  <a:lnTo>
                    <a:pt x="21" y="6"/>
                  </a:lnTo>
                  <a:lnTo>
                    <a:pt x="16" y="10"/>
                  </a:lnTo>
                  <a:lnTo>
                    <a:pt x="14" y="14"/>
                  </a:lnTo>
                  <a:lnTo>
                    <a:pt x="9" y="19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3" y="74"/>
                  </a:lnTo>
                  <a:lnTo>
                    <a:pt x="6" y="78"/>
                  </a:lnTo>
                  <a:lnTo>
                    <a:pt x="9" y="86"/>
                  </a:lnTo>
                  <a:lnTo>
                    <a:pt x="11" y="89"/>
                  </a:lnTo>
                  <a:lnTo>
                    <a:pt x="16" y="95"/>
                  </a:lnTo>
                  <a:lnTo>
                    <a:pt x="20" y="99"/>
                  </a:lnTo>
                  <a:lnTo>
                    <a:pt x="24" y="101"/>
                  </a:lnTo>
                  <a:lnTo>
                    <a:pt x="30" y="105"/>
                  </a:lnTo>
                  <a:lnTo>
                    <a:pt x="34" y="105"/>
                  </a:lnTo>
                  <a:lnTo>
                    <a:pt x="40" y="105"/>
                  </a:lnTo>
                  <a:lnTo>
                    <a:pt x="45" y="105"/>
                  </a:lnTo>
                  <a:lnTo>
                    <a:pt x="51" y="103"/>
                  </a:lnTo>
                  <a:lnTo>
                    <a:pt x="55" y="101"/>
                  </a:lnTo>
                  <a:lnTo>
                    <a:pt x="60" y="97"/>
                  </a:lnTo>
                  <a:lnTo>
                    <a:pt x="64" y="91"/>
                  </a:lnTo>
                  <a:lnTo>
                    <a:pt x="68" y="88"/>
                  </a:lnTo>
                  <a:lnTo>
                    <a:pt x="71" y="82"/>
                  </a:lnTo>
                  <a:lnTo>
                    <a:pt x="72" y="74"/>
                  </a:lnTo>
                  <a:lnTo>
                    <a:pt x="75" y="70"/>
                  </a:lnTo>
                  <a:lnTo>
                    <a:pt x="77" y="62"/>
                  </a:lnTo>
                  <a:lnTo>
                    <a:pt x="77" y="54"/>
                  </a:lnTo>
                  <a:lnTo>
                    <a:pt x="77" y="5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62520" y="5437080"/>
              <a:ext cx="531720" cy="468360"/>
            </a:xfrm>
            <a:custGeom>
              <a:avLst/>
              <a:gdLst/>
              <a:ahLst/>
              <a:rect l="l" t="t" r="r" b="b"/>
              <a:pathLst>
                <a:path w="335" h="295">
                  <a:moveTo>
                    <a:pt x="0" y="151"/>
                  </a:moveTo>
                  <a:lnTo>
                    <a:pt x="0" y="0"/>
                  </a:lnTo>
                  <a:lnTo>
                    <a:pt x="334" y="0"/>
                  </a:lnTo>
                  <a:lnTo>
                    <a:pt x="334" y="294"/>
                  </a:lnTo>
                  <a:lnTo>
                    <a:pt x="187" y="294"/>
                  </a:lnTo>
                  <a:lnTo>
                    <a:pt x="187" y="281"/>
                  </a:lnTo>
                  <a:lnTo>
                    <a:pt x="186" y="267"/>
                  </a:lnTo>
                  <a:lnTo>
                    <a:pt x="183" y="252"/>
                  </a:lnTo>
                  <a:lnTo>
                    <a:pt x="179" y="236"/>
                  </a:lnTo>
                  <a:lnTo>
                    <a:pt x="173" y="224"/>
                  </a:lnTo>
                  <a:lnTo>
                    <a:pt x="167" y="211"/>
                  </a:lnTo>
                  <a:lnTo>
                    <a:pt x="162" y="199"/>
                  </a:lnTo>
                  <a:lnTo>
                    <a:pt x="153" y="190"/>
                  </a:lnTo>
                  <a:lnTo>
                    <a:pt x="146" y="180"/>
                  </a:lnTo>
                  <a:lnTo>
                    <a:pt x="136" y="170"/>
                  </a:lnTo>
                  <a:lnTo>
                    <a:pt x="126" y="164"/>
                  </a:lnTo>
                  <a:lnTo>
                    <a:pt x="116" y="159"/>
                  </a:lnTo>
                  <a:lnTo>
                    <a:pt x="106" y="155"/>
                  </a:lnTo>
                  <a:lnTo>
                    <a:pt x="95" y="153"/>
                  </a:lnTo>
                  <a:lnTo>
                    <a:pt x="88" y="151"/>
                  </a:lnTo>
                  <a:lnTo>
                    <a:pt x="0" y="1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59160" y="5904000"/>
              <a:ext cx="295200" cy="52200"/>
            </a:xfrm>
            <a:custGeom>
              <a:avLst/>
              <a:gdLst/>
              <a:ahLst/>
              <a:rect l="l" t="t" r="r" b="b"/>
              <a:pathLst>
                <a:path w="186" h="33">
                  <a:moveTo>
                    <a:pt x="0" y="0"/>
                  </a:moveTo>
                  <a:lnTo>
                    <a:pt x="0" y="32"/>
                  </a:lnTo>
                  <a:lnTo>
                    <a:pt x="185" y="32"/>
                  </a:lnTo>
                  <a:lnTo>
                    <a:pt x="185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70440" y="4724280"/>
              <a:ext cx="46080" cy="831960"/>
            </a:xfrm>
            <a:custGeom>
              <a:avLst/>
              <a:gdLst/>
              <a:ahLst/>
              <a:rect l="l" t="t" r="r" b="b"/>
              <a:pathLst>
                <a:path w="29" h="524">
                  <a:moveTo>
                    <a:pt x="0" y="0"/>
                  </a:moveTo>
                  <a:lnTo>
                    <a:pt x="0" y="523"/>
                  </a:lnTo>
                  <a:lnTo>
                    <a:pt x="28" y="523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13280" y="5437080"/>
              <a:ext cx="331920" cy="519120"/>
            </a:xfrm>
            <a:custGeom>
              <a:avLst/>
              <a:gdLst/>
              <a:ahLst/>
              <a:rect l="l" t="t" r="r" b="b"/>
              <a:pathLst>
                <a:path w="209" h="327">
                  <a:moveTo>
                    <a:pt x="26" y="0"/>
                  </a:moveTo>
                  <a:lnTo>
                    <a:pt x="26" y="293"/>
                  </a:lnTo>
                  <a:lnTo>
                    <a:pt x="208" y="293"/>
                  </a:lnTo>
                  <a:lnTo>
                    <a:pt x="208" y="326"/>
                  </a:lnTo>
                  <a:lnTo>
                    <a:pt x="0" y="326"/>
                  </a:lnTo>
                  <a:lnTo>
                    <a:pt x="0" y="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92800" y="5327640"/>
              <a:ext cx="236520" cy="246240"/>
            </a:xfrm>
            <a:custGeom>
              <a:avLst/>
              <a:gdLst/>
              <a:ahLst/>
              <a:rect l="l" t="t" r="r" b="b"/>
              <a:pathLst>
                <a:path w="149" h="155">
                  <a:moveTo>
                    <a:pt x="0" y="154"/>
                  </a:moveTo>
                  <a:lnTo>
                    <a:pt x="126" y="0"/>
                  </a:lnTo>
                  <a:lnTo>
                    <a:pt x="148" y="69"/>
                  </a:lnTo>
                  <a:lnTo>
                    <a:pt x="108" y="69"/>
                  </a:lnTo>
                  <a:lnTo>
                    <a:pt x="108" y="154"/>
                  </a:lnTo>
                  <a:lnTo>
                    <a:pt x="0" y="15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64160" y="5437080"/>
              <a:ext cx="209520" cy="119160"/>
            </a:xfrm>
            <a:custGeom>
              <a:avLst/>
              <a:gdLst/>
              <a:ahLst/>
              <a:rect l="l" t="t" r="r" b="b"/>
              <a:pathLst>
                <a:path w="132" h="75">
                  <a:moveTo>
                    <a:pt x="0" y="74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131" y="74"/>
                  </a:lnTo>
                  <a:lnTo>
                    <a:pt x="0" y="7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46480" y="4724280"/>
              <a:ext cx="665280" cy="835200"/>
            </a:xfrm>
            <a:custGeom>
              <a:avLst/>
              <a:gdLst/>
              <a:ahLst/>
              <a:rect l="l" t="t" r="r" b="b"/>
              <a:pathLst>
                <a:path w="419" h="526">
                  <a:moveTo>
                    <a:pt x="0" y="450"/>
                  </a:moveTo>
                  <a:lnTo>
                    <a:pt x="0" y="46"/>
                  </a:lnTo>
                  <a:lnTo>
                    <a:pt x="1" y="37"/>
                  </a:lnTo>
                  <a:lnTo>
                    <a:pt x="7" y="23"/>
                  </a:lnTo>
                  <a:lnTo>
                    <a:pt x="11" y="14"/>
                  </a:lnTo>
                  <a:lnTo>
                    <a:pt x="18" y="6"/>
                  </a:lnTo>
                  <a:lnTo>
                    <a:pt x="30" y="4"/>
                  </a:lnTo>
                  <a:lnTo>
                    <a:pt x="37" y="0"/>
                  </a:lnTo>
                  <a:lnTo>
                    <a:pt x="229" y="0"/>
                  </a:lnTo>
                  <a:lnTo>
                    <a:pt x="241" y="4"/>
                  </a:lnTo>
                  <a:lnTo>
                    <a:pt x="251" y="10"/>
                  </a:lnTo>
                  <a:lnTo>
                    <a:pt x="261" y="23"/>
                  </a:lnTo>
                  <a:lnTo>
                    <a:pt x="264" y="33"/>
                  </a:lnTo>
                  <a:lnTo>
                    <a:pt x="418" y="525"/>
                  </a:lnTo>
                  <a:lnTo>
                    <a:pt x="389" y="525"/>
                  </a:lnTo>
                  <a:lnTo>
                    <a:pt x="240" y="46"/>
                  </a:lnTo>
                  <a:lnTo>
                    <a:pt x="236" y="39"/>
                  </a:lnTo>
                  <a:lnTo>
                    <a:pt x="233" y="37"/>
                  </a:lnTo>
                  <a:lnTo>
                    <a:pt x="227" y="37"/>
                  </a:lnTo>
                  <a:lnTo>
                    <a:pt x="38" y="37"/>
                  </a:lnTo>
                  <a:lnTo>
                    <a:pt x="31" y="39"/>
                  </a:lnTo>
                  <a:lnTo>
                    <a:pt x="28" y="44"/>
                  </a:lnTo>
                  <a:lnTo>
                    <a:pt x="27" y="50"/>
                  </a:lnTo>
                  <a:lnTo>
                    <a:pt x="27" y="56"/>
                  </a:lnTo>
                  <a:lnTo>
                    <a:pt x="27" y="450"/>
                  </a:lnTo>
                  <a:lnTo>
                    <a:pt x="0" y="4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92800" y="5199120"/>
              <a:ext cx="71280" cy="90360"/>
            </a:xfrm>
            <a:custGeom>
              <a:avLst/>
              <a:gdLst/>
              <a:ahLst/>
              <a:rect l="l" t="t" r="r" b="b"/>
              <a:pathLst>
                <a:path w="45" h="57">
                  <a:moveTo>
                    <a:pt x="7" y="56"/>
                  </a:moveTo>
                  <a:lnTo>
                    <a:pt x="4" y="56"/>
                  </a:lnTo>
                  <a:lnTo>
                    <a:pt x="3" y="56"/>
                  </a:lnTo>
                  <a:lnTo>
                    <a:pt x="1" y="54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4" y="6"/>
                  </a:lnTo>
                  <a:lnTo>
                    <a:pt x="7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30600" y="5248440"/>
              <a:ext cx="109800" cy="153720"/>
            </a:xfrm>
            <a:custGeom>
              <a:avLst/>
              <a:gdLst/>
              <a:ahLst/>
              <a:rect l="l" t="t" r="r" b="b"/>
              <a:pathLst>
                <a:path w="69" h="97">
                  <a:moveTo>
                    <a:pt x="68" y="92"/>
                  </a:moveTo>
                  <a:lnTo>
                    <a:pt x="3" y="0"/>
                  </a:lnTo>
                  <a:lnTo>
                    <a:pt x="0" y="8"/>
                  </a:lnTo>
                  <a:lnTo>
                    <a:pt x="65" y="96"/>
                  </a:lnTo>
                  <a:lnTo>
                    <a:pt x="68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95880" y="4997520"/>
              <a:ext cx="331560" cy="469800"/>
            </a:xfrm>
            <a:custGeom>
              <a:avLst/>
              <a:gdLst/>
              <a:ahLst/>
              <a:rect l="l" t="t" r="r" b="b"/>
              <a:pathLst>
                <a:path w="209" h="296">
                  <a:moveTo>
                    <a:pt x="70" y="31"/>
                  </a:moveTo>
                  <a:lnTo>
                    <a:pt x="73" y="50"/>
                  </a:lnTo>
                  <a:lnTo>
                    <a:pt x="70" y="50"/>
                  </a:lnTo>
                  <a:lnTo>
                    <a:pt x="68" y="73"/>
                  </a:lnTo>
                  <a:lnTo>
                    <a:pt x="64" y="73"/>
                  </a:lnTo>
                  <a:lnTo>
                    <a:pt x="55" y="73"/>
                  </a:lnTo>
                  <a:lnTo>
                    <a:pt x="54" y="83"/>
                  </a:lnTo>
                  <a:lnTo>
                    <a:pt x="61" y="89"/>
                  </a:lnTo>
                  <a:lnTo>
                    <a:pt x="61" y="98"/>
                  </a:lnTo>
                  <a:lnTo>
                    <a:pt x="87" y="129"/>
                  </a:lnTo>
                  <a:lnTo>
                    <a:pt x="135" y="145"/>
                  </a:lnTo>
                  <a:lnTo>
                    <a:pt x="151" y="145"/>
                  </a:lnTo>
                  <a:lnTo>
                    <a:pt x="155" y="154"/>
                  </a:lnTo>
                  <a:lnTo>
                    <a:pt x="148" y="166"/>
                  </a:lnTo>
                  <a:lnTo>
                    <a:pt x="136" y="166"/>
                  </a:lnTo>
                  <a:lnTo>
                    <a:pt x="128" y="162"/>
                  </a:lnTo>
                  <a:lnTo>
                    <a:pt x="122" y="166"/>
                  </a:lnTo>
                  <a:lnTo>
                    <a:pt x="109" y="166"/>
                  </a:lnTo>
                  <a:lnTo>
                    <a:pt x="71" y="156"/>
                  </a:lnTo>
                  <a:lnTo>
                    <a:pt x="68" y="193"/>
                  </a:lnTo>
                  <a:lnTo>
                    <a:pt x="127" y="214"/>
                  </a:lnTo>
                  <a:lnTo>
                    <a:pt x="181" y="264"/>
                  </a:lnTo>
                  <a:lnTo>
                    <a:pt x="200" y="255"/>
                  </a:lnTo>
                  <a:lnTo>
                    <a:pt x="208" y="260"/>
                  </a:lnTo>
                  <a:lnTo>
                    <a:pt x="182" y="295"/>
                  </a:lnTo>
                  <a:lnTo>
                    <a:pt x="171" y="282"/>
                  </a:lnTo>
                  <a:lnTo>
                    <a:pt x="117" y="253"/>
                  </a:lnTo>
                  <a:lnTo>
                    <a:pt x="122" y="262"/>
                  </a:lnTo>
                  <a:lnTo>
                    <a:pt x="124" y="270"/>
                  </a:lnTo>
                  <a:lnTo>
                    <a:pt x="124" y="278"/>
                  </a:lnTo>
                  <a:lnTo>
                    <a:pt x="0" y="278"/>
                  </a:lnTo>
                  <a:lnTo>
                    <a:pt x="0" y="129"/>
                  </a:lnTo>
                  <a:lnTo>
                    <a:pt x="18" y="129"/>
                  </a:lnTo>
                  <a:lnTo>
                    <a:pt x="23" y="98"/>
                  </a:lnTo>
                  <a:lnTo>
                    <a:pt x="28" y="83"/>
                  </a:lnTo>
                  <a:lnTo>
                    <a:pt x="33" y="67"/>
                  </a:lnTo>
                  <a:lnTo>
                    <a:pt x="37" y="69"/>
                  </a:lnTo>
                  <a:lnTo>
                    <a:pt x="37" y="62"/>
                  </a:lnTo>
                  <a:lnTo>
                    <a:pt x="33" y="48"/>
                  </a:lnTo>
                  <a:lnTo>
                    <a:pt x="31" y="35"/>
                  </a:lnTo>
                  <a:lnTo>
                    <a:pt x="33" y="19"/>
                  </a:lnTo>
                  <a:lnTo>
                    <a:pt x="37" y="8"/>
                  </a:lnTo>
                  <a:lnTo>
                    <a:pt x="43" y="2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5" y="4"/>
                  </a:lnTo>
                  <a:lnTo>
                    <a:pt x="68" y="12"/>
                  </a:lnTo>
                  <a:lnTo>
                    <a:pt x="70" y="27"/>
                  </a:lnTo>
                  <a:lnTo>
                    <a:pt x="82" y="31"/>
                  </a:lnTo>
                  <a:lnTo>
                    <a:pt x="70" y="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92800" y="5554800"/>
              <a:ext cx="423720" cy="350640"/>
            </a:xfrm>
            <a:custGeom>
              <a:avLst/>
              <a:gdLst/>
              <a:ahLst/>
              <a:rect l="l" t="t" r="r" b="b"/>
              <a:pathLst>
                <a:path w="267" h="221">
                  <a:moveTo>
                    <a:pt x="0" y="220"/>
                  </a:moveTo>
                  <a:lnTo>
                    <a:pt x="72" y="0"/>
                  </a:lnTo>
                  <a:lnTo>
                    <a:pt x="266" y="0"/>
                  </a:lnTo>
                  <a:lnTo>
                    <a:pt x="266" y="12"/>
                  </a:lnTo>
                  <a:lnTo>
                    <a:pt x="80" y="12"/>
                  </a:lnTo>
                  <a:lnTo>
                    <a:pt x="11" y="220"/>
                  </a:lnTo>
                  <a:lnTo>
                    <a:pt x="0" y="2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78440" y="5551560"/>
              <a:ext cx="304920" cy="334800"/>
            </a:xfrm>
            <a:custGeom>
              <a:avLst/>
              <a:gdLst/>
              <a:ahLst/>
              <a:rect l="l" t="t" r="r" b="b"/>
              <a:pathLst>
                <a:path w="192" h="211">
                  <a:moveTo>
                    <a:pt x="0" y="210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210"/>
                  </a:lnTo>
                  <a:lnTo>
                    <a:pt x="0" y="2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78440" y="5218200"/>
              <a:ext cx="304920" cy="334800"/>
            </a:xfrm>
            <a:custGeom>
              <a:avLst/>
              <a:gdLst/>
              <a:ahLst/>
              <a:rect l="l" t="t" r="r" b="b"/>
              <a:pathLst>
                <a:path w="192" h="211">
                  <a:moveTo>
                    <a:pt x="0" y="210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210"/>
                  </a:lnTo>
                  <a:lnTo>
                    <a:pt x="0" y="2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78440" y="4883040"/>
              <a:ext cx="304920" cy="335160"/>
            </a:xfrm>
            <a:custGeom>
              <a:avLst/>
              <a:gdLst/>
              <a:ahLst/>
              <a:rect l="l" t="t" r="r" b="b"/>
              <a:pathLst>
                <a:path w="192" h="211">
                  <a:moveTo>
                    <a:pt x="0" y="210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210"/>
                  </a:lnTo>
                  <a:lnTo>
                    <a:pt x="0" y="2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78360" y="5746680"/>
              <a:ext cx="117360" cy="311400"/>
            </a:xfrm>
            <a:custGeom>
              <a:avLst/>
              <a:gdLst/>
              <a:ahLst/>
              <a:rect l="l" t="t" r="r" b="b"/>
              <a:pathLst>
                <a:path w="74" h="196">
                  <a:moveTo>
                    <a:pt x="73" y="54"/>
                  </a:moveTo>
                  <a:lnTo>
                    <a:pt x="67" y="54"/>
                  </a:lnTo>
                  <a:lnTo>
                    <a:pt x="61" y="56"/>
                  </a:lnTo>
                  <a:lnTo>
                    <a:pt x="55" y="60"/>
                  </a:lnTo>
                  <a:lnTo>
                    <a:pt x="51" y="64"/>
                  </a:lnTo>
                  <a:lnTo>
                    <a:pt x="47" y="71"/>
                  </a:lnTo>
                  <a:lnTo>
                    <a:pt x="43" y="77"/>
                  </a:lnTo>
                  <a:lnTo>
                    <a:pt x="40" y="85"/>
                  </a:lnTo>
                  <a:lnTo>
                    <a:pt x="38" y="91"/>
                  </a:lnTo>
                  <a:lnTo>
                    <a:pt x="38" y="98"/>
                  </a:lnTo>
                  <a:lnTo>
                    <a:pt x="38" y="108"/>
                  </a:lnTo>
                  <a:lnTo>
                    <a:pt x="41" y="116"/>
                  </a:lnTo>
                  <a:lnTo>
                    <a:pt x="44" y="122"/>
                  </a:lnTo>
                  <a:lnTo>
                    <a:pt x="47" y="129"/>
                  </a:lnTo>
                  <a:lnTo>
                    <a:pt x="51" y="135"/>
                  </a:lnTo>
                  <a:lnTo>
                    <a:pt x="57" y="139"/>
                  </a:lnTo>
                  <a:lnTo>
                    <a:pt x="61" y="143"/>
                  </a:lnTo>
                  <a:lnTo>
                    <a:pt x="68" y="145"/>
                  </a:lnTo>
                  <a:lnTo>
                    <a:pt x="73" y="145"/>
                  </a:lnTo>
                  <a:lnTo>
                    <a:pt x="73" y="195"/>
                  </a:lnTo>
                  <a:lnTo>
                    <a:pt x="67" y="195"/>
                  </a:lnTo>
                  <a:lnTo>
                    <a:pt x="58" y="195"/>
                  </a:lnTo>
                  <a:lnTo>
                    <a:pt x="48" y="191"/>
                  </a:lnTo>
                  <a:lnTo>
                    <a:pt x="41" y="187"/>
                  </a:lnTo>
                  <a:lnTo>
                    <a:pt x="33" y="182"/>
                  </a:lnTo>
                  <a:lnTo>
                    <a:pt x="27" y="174"/>
                  </a:lnTo>
                  <a:lnTo>
                    <a:pt x="20" y="164"/>
                  </a:lnTo>
                  <a:lnTo>
                    <a:pt x="14" y="156"/>
                  </a:lnTo>
                  <a:lnTo>
                    <a:pt x="10" y="147"/>
                  </a:lnTo>
                  <a:lnTo>
                    <a:pt x="6" y="137"/>
                  </a:lnTo>
                  <a:lnTo>
                    <a:pt x="3" y="126"/>
                  </a:lnTo>
                  <a:lnTo>
                    <a:pt x="1" y="112"/>
                  </a:lnTo>
                  <a:lnTo>
                    <a:pt x="0" y="100"/>
                  </a:lnTo>
                  <a:lnTo>
                    <a:pt x="1" y="89"/>
                  </a:lnTo>
                  <a:lnTo>
                    <a:pt x="1" y="77"/>
                  </a:lnTo>
                  <a:lnTo>
                    <a:pt x="4" y="64"/>
                  </a:lnTo>
                  <a:lnTo>
                    <a:pt x="9" y="54"/>
                  </a:lnTo>
                  <a:lnTo>
                    <a:pt x="13" y="44"/>
                  </a:lnTo>
                  <a:lnTo>
                    <a:pt x="18" y="35"/>
                  </a:lnTo>
                  <a:lnTo>
                    <a:pt x="24" y="27"/>
                  </a:lnTo>
                  <a:lnTo>
                    <a:pt x="31" y="21"/>
                  </a:lnTo>
                  <a:lnTo>
                    <a:pt x="38" y="14"/>
                  </a:lnTo>
                  <a:lnTo>
                    <a:pt x="47" y="8"/>
                  </a:lnTo>
                  <a:lnTo>
                    <a:pt x="55" y="4"/>
                  </a:lnTo>
                  <a:lnTo>
                    <a:pt x="64" y="2"/>
                  </a:lnTo>
                  <a:lnTo>
                    <a:pt x="73" y="0"/>
                  </a:lnTo>
                  <a:lnTo>
                    <a:pt x="73" y="5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92480" y="5746680"/>
              <a:ext cx="115920" cy="311400"/>
            </a:xfrm>
            <a:custGeom>
              <a:avLst/>
              <a:gdLst/>
              <a:ahLst/>
              <a:rect l="l" t="t" r="r" b="b"/>
              <a:pathLst>
                <a:path w="73" h="196">
                  <a:moveTo>
                    <a:pt x="0" y="54"/>
                  </a:moveTo>
                  <a:lnTo>
                    <a:pt x="6" y="54"/>
                  </a:lnTo>
                  <a:lnTo>
                    <a:pt x="11" y="56"/>
                  </a:lnTo>
                  <a:lnTo>
                    <a:pt x="17" y="60"/>
                  </a:lnTo>
                  <a:lnTo>
                    <a:pt x="21" y="64"/>
                  </a:lnTo>
                  <a:lnTo>
                    <a:pt x="26" y="71"/>
                  </a:lnTo>
                  <a:lnTo>
                    <a:pt x="31" y="77"/>
                  </a:lnTo>
                  <a:lnTo>
                    <a:pt x="31" y="85"/>
                  </a:lnTo>
                  <a:lnTo>
                    <a:pt x="33" y="91"/>
                  </a:lnTo>
                  <a:lnTo>
                    <a:pt x="34" y="98"/>
                  </a:lnTo>
                  <a:lnTo>
                    <a:pt x="33" y="108"/>
                  </a:lnTo>
                  <a:lnTo>
                    <a:pt x="31" y="116"/>
                  </a:lnTo>
                  <a:lnTo>
                    <a:pt x="29" y="122"/>
                  </a:lnTo>
                  <a:lnTo>
                    <a:pt x="26" y="129"/>
                  </a:lnTo>
                  <a:lnTo>
                    <a:pt x="20" y="135"/>
                  </a:lnTo>
                  <a:lnTo>
                    <a:pt x="16" y="139"/>
                  </a:lnTo>
                  <a:lnTo>
                    <a:pt x="9" y="143"/>
                  </a:lnTo>
                  <a:lnTo>
                    <a:pt x="4" y="145"/>
                  </a:lnTo>
                  <a:lnTo>
                    <a:pt x="0" y="145"/>
                  </a:lnTo>
                  <a:lnTo>
                    <a:pt x="0" y="195"/>
                  </a:lnTo>
                  <a:lnTo>
                    <a:pt x="6" y="195"/>
                  </a:lnTo>
                  <a:lnTo>
                    <a:pt x="14" y="195"/>
                  </a:lnTo>
                  <a:lnTo>
                    <a:pt x="23" y="191"/>
                  </a:lnTo>
                  <a:lnTo>
                    <a:pt x="31" y="187"/>
                  </a:lnTo>
                  <a:lnTo>
                    <a:pt x="39" y="182"/>
                  </a:lnTo>
                  <a:lnTo>
                    <a:pt x="46" y="174"/>
                  </a:lnTo>
                  <a:lnTo>
                    <a:pt x="52" y="164"/>
                  </a:lnTo>
                  <a:lnTo>
                    <a:pt x="59" y="156"/>
                  </a:lnTo>
                  <a:lnTo>
                    <a:pt x="63" y="147"/>
                  </a:lnTo>
                  <a:lnTo>
                    <a:pt x="69" y="137"/>
                  </a:lnTo>
                  <a:lnTo>
                    <a:pt x="70" y="126"/>
                  </a:lnTo>
                  <a:lnTo>
                    <a:pt x="72" y="112"/>
                  </a:lnTo>
                  <a:lnTo>
                    <a:pt x="72" y="100"/>
                  </a:lnTo>
                  <a:lnTo>
                    <a:pt x="72" y="89"/>
                  </a:lnTo>
                  <a:lnTo>
                    <a:pt x="72" y="77"/>
                  </a:lnTo>
                  <a:lnTo>
                    <a:pt x="69" y="64"/>
                  </a:lnTo>
                  <a:lnTo>
                    <a:pt x="64" y="54"/>
                  </a:lnTo>
                  <a:lnTo>
                    <a:pt x="60" y="44"/>
                  </a:lnTo>
                  <a:lnTo>
                    <a:pt x="54" y="35"/>
                  </a:lnTo>
                  <a:lnTo>
                    <a:pt x="49" y="27"/>
                  </a:lnTo>
                  <a:lnTo>
                    <a:pt x="42" y="21"/>
                  </a:lnTo>
                  <a:lnTo>
                    <a:pt x="33" y="14"/>
                  </a:lnTo>
                  <a:lnTo>
                    <a:pt x="26" y="8"/>
                  </a:lnTo>
                  <a:lnTo>
                    <a:pt x="17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8480" y="5630760"/>
              <a:ext cx="156960" cy="424080"/>
            </a:xfrm>
            <a:custGeom>
              <a:avLst/>
              <a:gdLst/>
              <a:ahLst/>
              <a:rect l="l" t="t" r="r" b="b"/>
              <a:pathLst>
                <a:path w="99" h="267">
                  <a:moveTo>
                    <a:pt x="98" y="58"/>
                  </a:moveTo>
                  <a:lnTo>
                    <a:pt x="91" y="60"/>
                  </a:lnTo>
                  <a:lnTo>
                    <a:pt x="82" y="60"/>
                  </a:lnTo>
                  <a:lnTo>
                    <a:pt x="75" y="64"/>
                  </a:lnTo>
                  <a:lnTo>
                    <a:pt x="69" y="69"/>
                  </a:lnTo>
                  <a:lnTo>
                    <a:pt x="62" y="75"/>
                  </a:lnTo>
                  <a:lnTo>
                    <a:pt x="57" y="83"/>
                  </a:lnTo>
                  <a:lnTo>
                    <a:pt x="52" y="91"/>
                  </a:lnTo>
                  <a:lnTo>
                    <a:pt x="49" y="100"/>
                  </a:lnTo>
                  <a:lnTo>
                    <a:pt x="45" y="110"/>
                  </a:lnTo>
                  <a:lnTo>
                    <a:pt x="44" y="118"/>
                  </a:lnTo>
                  <a:lnTo>
                    <a:pt x="42" y="129"/>
                  </a:lnTo>
                  <a:lnTo>
                    <a:pt x="44" y="141"/>
                  </a:lnTo>
                  <a:lnTo>
                    <a:pt x="44" y="150"/>
                  </a:lnTo>
                  <a:lnTo>
                    <a:pt x="47" y="162"/>
                  </a:lnTo>
                  <a:lnTo>
                    <a:pt x="49" y="172"/>
                  </a:lnTo>
                  <a:lnTo>
                    <a:pt x="54" y="177"/>
                  </a:lnTo>
                  <a:lnTo>
                    <a:pt x="59" y="187"/>
                  </a:lnTo>
                  <a:lnTo>
                    <a:pt x="65" y="195"/>
                  </a:lnTo>
                  <a:lnTo>
                    <a:pt x="72" y="199"/>
                  </a:lnTo>
                  <a:lnTo>
                    <a:pt x="78" y="204"/>
                  </a:lnTo>
                  <a:lnTo>
                    <a:pt x="86" y="208"/>
                  </a:lnTo>
                  <a:lnTo>
                    <a:pt x="93" y="210"/>
                  </a:lnTo>
                  <a:lnTo>
                    <a:pt x="98" y="210"/>
                  </a:lnTo>
                  <a:lnTo>
                    <a:pt x="98" y="266"/>
                  </a:lnTo>
                  <a:lnTo>
                    <a:pt x="96" y="266"/>
                  </a:lnTo>
                  <a:lnTo>
                    <a:pt x="86" y="266"/>
                  </a:lnTo>
                  <a:lnTo>
                    <a:pt x="75" y="262"/>
                  </a:lnTo>
                  <a:lnTo>
                    <a:pt x="66" y="260"/>
                  </a:lnTo>
                  <a:lnTo>
                    <a:pt x="57" y="255"/>
                  </a:lnTo>
                  <a:lnTo>
                    <a:pt x="47" y="249"/>
                  </a:lnTo>
                  <a:lnTo>
                    <a:pt x="40" y="241"/>
                  </a:lnTo>
                  <a:lnTo>
                    <a:pt x="31" y="231"/>
                  </a:lnTo>
                  <a:lnTo>
                    <a:pt x="24" y="222"/>
                  </a:lnTo>
                  <a:lnTo>
                    <a:pt x="17" y="210"/>
                  </a:lnTo>
                  <a:lnTo>
                    <a:pt x="13" y="199"/>
                  </a:lnTo>
                  <a:lnTo>
                    <a:pt x="8" y="187"/>
                  </a:lnTo>
                  <a:lnTo>
                    <a:pt x="4" y="174"/>
                  </a:lnTo>
                  <a:lnTo>
                    <a:pt x="1" y="160"/>
                  </a:lnTo>
                  <a:lnTo>
                    <a:pt x="0" y="145"/>
                  </a:lnTo>
                  <a:lnTo>
                    <a:pt x="0" y="133"/>
                  </a:lnTo>
                  <a:lnTo>
                    <a:pt x="0" y="118"/>
                  </a:lnTo>
                  <a:lnTo>
                    <a:pt x="1" y="104"/>
                  </a:lnTo>
                  <a:lnTo>
                    <a:pt x="6" y="91"/>
                  </a:lnTo>
                  <a:lnTo>
                    <a:pt x="8" y="79"/>
                  </a:lnTo>
                  <a:lnTo>
                    <a:pt x="13" y="66"/>
                  </a:lnTo>
                  <a:lnTo>
                    <a:pt x="17" y="54"/>
                  </a:lnTo>
                  <a:lnTo>
                    <a:pt x="25" y="44"/>
                  </a:lnTo>
                  <a:lnTo>
                    <a:pt x="33" y="33"/>
                  </a:lnTo>
                  <a:lnTo>
                    <a:pt x="40" y="25"/>
                  </a:lnTo>
                  <a:lnTo>
                    <a:pt x="49" y="17"/>
                  </a:lnTo>
                  <a:lnTo>
                    <a:pt x="58" y="12"/>
                  </a:lnTo>
                  <a:lnTo>
                    <a:pt x="68" y="6"/>
                  </a:lnTo>
                  <a:lnTo>
                    <a:pt x="78" y="4"/>
                  </a:lnTo>
                  <a:lnTo>
                    <a:pt x="88" y="2"/>
                  </a:lnTo>
                  <a:lnTo>
                    <a:pt x="98" y="0"/>
                  </a:lnTo>
                  <a:lnTo>
                    <a:pt x="98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0760" y="5630760"/>
              <a:ext cx="158760" cy="424080"/>
            </a:xfrm>
            <a:custGeom>
              <a:avLst/>
              <a:gdLst/>
              <a:ahLst/>
              <a:rect l="l" t="t" r="r" b="b"/>
              <a:pathLst>
                <a:path w="100" h="267">
                  <a:moveTo>
                    <a:pt x="0" y="58"/>
                  </a:moveTo>
                  <a:lnTo>
                    <a:pt x="7" y="58"/>
                  </a:lnTo>
                  <a:lnTo>
                    <a:pt x="16" y="60"/>
                  </a:lnTo>
                  <a:lnTo>
                    <a:pt x="23" y="64"/>
                  </a:lnTo>
                  <a:lnTo>
                    <a:pt x="30" y="67"/>
                  </a:lnTo>
                  <a:lnTo>
                    <a:pt x="36" y="73"/>
                  </a:lnTo>
                  <a:lnTo>
                    <a:pt x="41" y="83"/>
                  </a:lnTo>
                  <a:lnTo>
                    <a:pt x="46" y="91"/>
                  </a:lnTo>
                  <a:lnTo>
                    <a:pt x="50" y="98"/>
                  </a:lnTo>
                  <a:lnTo>
                    <a:pt x="53" y="110"/>
                  </a:lnTo>
                  <a:lnTo>
                    <a:pt x="56" y="118"/>
                  </a:lnTo>
                  <a:lnTo>
                    <a:pt x="56" y="129"/>
                  </a:lnTo>
                  <a:lnTo>
                    <a:pt x="56" y="141"/>
                  </a:lnTo>
                  <a:lnTo>
                    <a:pt x="54" y="150"/>
                  </a:lnTo>
                  <a:lnTo>
                    <a:pt x="53" y="160"/>
                  </a:lnTo>
                  <a:lnTo>
                    <a:pt x="49" y="172"/>
                  </a:lnTo>
                  <a:lnTo>
                    <a:pt x="44" y="177"/>
                  </a:lnTo>
                  <a:lnTo>
                    <a:pt x="39" y="187"/>
                  </a:lnTo>
                  <a:lnTo>
                    <a:pt x="34" y="195"/>
                  </a:lnTo>
                  <a:lnTo>
                    <a:pt x="27" y="199"/>
                  </a:lnTo>
                  <a:lnTo>
                    <a:pt x="20" y="202"/>
                  </a:lnTo>
                  <a:lnTo>
                    <a:pt x="13" y="206"/>
                  </a:lnTo>
                  <a:lnTo>
                    <a:pt x="4" y="208"/>
                  </a:lnTo>
                  <a:lnTo>
                    <a:pt x="0" y="208"/>
                  </a:lnTo>
                  <a:lnTo>
                    <a:pt x="0" y="266"/>
                  </a:lnTo>
                  <a:lnTo>
                    <a:pt x="1" y="266"/>
                  </a:lnTo>
                  <a:lnTo>
                    <a:pt x="13" y="266"/>
                  </a:lnTo>
                  <a:lnTo>
                    <a:pt x="23" y="262"/>
                  </a:lnTo>
                  <a:lnTo>
                    <a:pt x="31" y="258"/>
                  </a:lnTo>
                  <a:lnTo>
                    <a:pt x="41" y="255"/>
                  </a:lnTo>
                  <a:lnTo>
                    <a:pt x="50" y="249"/>
                  </a:lnTo>
                  <a:lnTo>
                    <a:pt x="60" y="239"/>
                  </a:lnTo>
                  <a:lnTo>
                    <a:pt x="67" y="231"/>
                  </a:lnTo>
                  <a:lnTo>
                    <a:pt x="74" y="222"/>
                  </a:lnTo>
                  <a:lnTo>
                    <a:pt x="81" y="210"/>
                  </a:lnTo>
                  <a:lnTo>
                    <a:pt x="87" y="199"/>
                  </a:lnTo>
                  <a:lnTo>
                    <a:pt x="91" y="185"/>
                  </a:lnTo>
                  <a:lnTo>
                    <a:pt x="94" y="172"/>
                  </a:lnTo>
                  <a:lnTo>
                    <a:pt x="97" y="160"/>
                  </a:lnTo>
                  <a:lnTo>
                    <a:pt x="99" y="145"/>
                  </a:lnTo>
                  <a:lnTo>
                    <a:pt x="99" y="131"/>
                  </a:lnTo>
                  <a:lnTo>
                    <a:pt x="99" y="118"/>
                  </a:lnTo>
                  <a:lnTo>
                    <a:pt x="97" y="104"/>
                  </a:lnTo>
                  <a:lnTo>
                    <a:pt x="94" y="91"/>
                  </a:lnTo>
                  <a:lnTo>
                    <a:pt x="90" y="79"/>
                  </a:lnTo>
                  <a:lnTo>
                    <a:pt x="86" y="66"/>
                  </a:lnTo>
                  <a:lnTo>
                    <a:pt x="80" y="54"/>
                  </a:lnTo>
                  <a:lnTo>
                    <a:pt x="73" y="44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0" y="17"/>
                  </a:lnTo>
                  <a:lnTo>
                    <a:pt x="40" y="10"/>
                  </a:lnTo>
                  <a:lnTo>
                    <a:pt x="30" y="6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54320" y="5686560"/>
              <a:ext cx="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11640" y="5907240"/>
              <a:ext cx="37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83040" y="590724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828800" y="457200"/>
            <a:ext cx="49593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 acuerdan de...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131840" y="1969920"/>
            <a:ext cx="6973920" cy="3249720"/>
            <a:chOff x="1131840" y="1969920"/>
            <a:chExt cx="6973920" cy="3249720"/>
          </a:xfrm>
        </p:grpSpPr>
        <p:sp>
          <p:nvSpPr>
            <p:cNvPr id="449" name=""/>
            <p:cNvSpPr/>
            <p:nvPr/>
          </p:nvSpPr>
          <p:spPr>
            <a:xfrm>
              <a:off x="1131840" y="1969920"/>
              <a:ext cx="6973920" cy="3249720"/>
            </a:xfrm>
            <a:prstGeom prst="ellipse">
              <a:avLst/>
            </a:prstGeom>
            <a:solidFill>
              <a:srgbClr val="ffffc2"/>
            </a:solidFill>
            <a:ln w="2556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90760" y="2492280"/>
              <a:ext cx="353052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6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r>
                <a:rPr b="0" i="1" lang="es-ES_tradnl" sz="6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s-ES_tradnl" sz="6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s-ES_tradnl" sz="6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s-ES_tradnl" sz="6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s-ES_tradnl" sz="6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6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6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6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r>
                <a:rPr b="0" i="1" lang="es-ES_tradnl" sz="6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s-ES_tradnl" sz="6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6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005520" y="3106800"/>
              <a:ext cx="197316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6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0" i="1" lang="es-ES_tradnl" sz="6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s-ES_tradnl" sz="6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62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11360" y="2682720"/>
              <a:ext cx="3232080" cy="11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200" spc="-1" strike="noStrike">
                  <a:solidFill>
                    <a:srgbClr val="000000"/>
                  </a:solidFill>
                  <a:latin typeface="Arial"/>
                </a:rPr>
                <a:t>_______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04280" y="1623600"/>
            <a:ext cx="859500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s-ES_tradnl" sz="3300" spc="-1" strike="noStrike">
                <a:solidFill>
                  <a:srgbClr val="000000"/>
                </a:solidFill>
                <a:latin typeface="Times New Roman"/>
              </a:rPr>
              <a:t>si, es el Lema de Shephar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352680" y="3581280"/>
            <a:ext cx="5181840" cy="2741760"/>
            <a:chOff x="3352680" y="3581280"/>
            <a:chExt cx="5181840" cy="2741760"/>
          </a:xfrm>
        </p:grpSpPr>
        <p:sp>
          <p:nvSpPr>
            <p:cNvPr id="455" name=""/>
            <p:cNvSpPr/>
            <p:nvPr/>
          </p:nvSpPr>
          <p:spPr>
            <a:xfrm>
              <a:off x="3352680" y="3581280"/>
              <a:ext cx="5181840" cy="2741760"/>
            </a:xfrm>
            <a:custGeom>
              <a:avLst/>
              <a:gdLst/>
              <a:ahLst/>
              <a:rect l="l" t="t" r="r" b="b"/>
              <a:pathLst>
                <a:path w="3264" h="1727">
                  <a:moveTo>
                    <a:pt x="863" y="290"/>
                  </a:moveTo>
                  <a:lnTo>
                    <a:pt x="1073" y="245"/>
                  </a:lnTo>
                  <a:lnTo>
                    <a:pt x="1286" y="214"/>
                  </a:lnTo>
                  <a:lnTo>
                    <a:pt x="1500" y="199"/>
                  </a:lnTo>
                  <a:lnTo>
                    <a:pt x="1710" y="197"/>
                  </a:lnTo>
                  <a:lnTo>
                    <a:pt x="1915" y="212"/>
                  </a:lnTo>
                  <a:lnTo>
                    <a:pt x="2114" y="236"/>
                  </a:lnTo>
                  <a:lnTo>
                    <a:pt x="2304" y="276"/>
                  </a:lnTo>
                  <a:lnTo>
                    <a:pt x="2485" y="321"/>
                  </a:lnTo>
                  <a:lnTo>
                    <a:pt x="2650" y="380"/>
                  </a:lnTo>
                  <a:lnTo>
                    <a:pt x="2801" y="445"/>
                  </a:lnTo>
                  <a:lnTo>
                    <a:pt x="2934" y="518"/>
                  </a:lnTo>
                  <a:lnTo>
                    <a:pt x="3048" y="597"/>
                  </a:lnTo>
                  <a:lnTo>
                    <a:pt x="3139" y="681"/>
                  </a:lnTo>
                  <a:lnTo>
                    <a:pt x="3208" y="768"/>
                  </a:lnTo>
                  <a:lnTo>
                    <a:pt x="3248" y="861"/>
                  </a:lnTo>
                  <a:lnTo>
                    <a:pt x="3263" y="952"/>
                  </a:lnTo>
                  <a:lnTo>
                    <a:pt x="3223" y="1136"/>
                  </a:lnTo>
                  <a:lnTo>
                    <a:pt x="3120" y="1294"/>
                  </a:lnTo>
                  <a:lnTo>
                    <a:pt x="2960" y="1428"/>
                  </a:lnTo>
                  <a:lnTo>
                    <a:pt x="2756" y="1536"/>
                  </a:lnTo>
                  <a:lnTo>
                    <a:pt x="2512" y="1622"/>
                  </a:lnTo>
                  <a:lnTo>
                    <a:pt x="2242" y="1681"/>
                  </a:lnTo>
                  <a:lnTo>
                    <a:pt x="1952" y="1715"/>
                  </a:lnTo>
                  <a:lnTo>
                    <a:pt x="1653" y="1726"/>
                  </a:lnTo>
                  <a:lnTo>
                    <a:pt x="1352" y="1717"/>
                  </a:lnTo>
                  <a:lnTo>
                    <a:pt x="1061" y="1681"/>
                  </a:lnTo>
                  <a:lnTo>
                    <a:pt x="786" y="1624"/>
                  </a:lnTo>
                  <a:lnTo>
                    <a:pt x="539" y="1541"/>
                  </a:lnTo>
                  <a:lnTo>
                    <a:pt x="328" y="1436"/>
                  </a:lnTo>
                  <a:lnTo>
                    <a:pt x="161" y="1309"/>
                  </a:lnTo>
                  <a:lnTo>
                    <a:pt x="49" y="1161"/>
                  </a:lnTo>
                  <a:lnTo>
                    <a:pt x="0" y="990"/>
                  </a:lnTo>
                  <a:lnTo>
                    <a:pt x="0" y="947"/>
                  </a:lnTo>
                  <a:lnTo>
                    <a:pt x="5" y="905"/>
                  </a:lnTo>
                  <a:lnTo>
                    <a:pt x="16" y="862"/>
                  </a:lnTo>
                  <a:lnTo>
                    <a:pt x="33" y="818"/>
                  </a:lnTo>
                  <a:lnTo>
                    <a:pt x="55" y="776"/>
                  </a:lnTo>
                  <a:lnTo>
                    <a:pt x="81" y="734"/>
                  </a:lnTo>
                  <a:lnTo>
                    <a:pt x="113" y="693"/>
                  </a:lnTo>
                  <a:lnTo>
                    <a:pt x="149" y="652"/>
                  </a:lnTo>
                  <a:lnTo>
                    <a:pt x="186" y="615"/>
                  </a:lnTo>
                  <a:lnTo>
                    <a:pt x="230" y="575"/>
                  </a:lnTo>
                  <a:lnTo>
                    <a:pt x="275" y="540"/>
                  </a:lnTo>
                  <a:lnTo>
                    <a:pt x="325" y="505"/>
                  </a:lnTo>
                  <a:lnTo>
                    <a:pt x="378" y="474"/>
                  </a:lnTo>
                  <a:lnTo>
                    <a:pt x="433" y="443"/>
                  </a:lnTo>
                  <a:lnTo>
                    <a:pt x="490" y="416"/>
                  </a:lnTo>
                  <a:lnTo>
                    <a:pt x="550" y="390"/>
                  </a:lnTo>
                  <a:lnTo>
                    <a:pt x="355" y="210"/>
                  </a:lnTo>
                  <a:lnTo>
                    <a:pt x="255" y="295"/>
                  </a:lnTo>
                  <a:lnTo>
                    <a:pt x="155" y="0"/>
                  </a:lnTo>
                  <a:lnTo>
                    <a:pt x="604" y="0"/>
                  </a:lnTo>
                  <a:lnTo>
                    <a:pt x="464" y="116"/>
                  </a:lnTo>
                  <a:lnTo>
                    <a:pt x="863" y="290"/>
                  </a:lnTo>
                </a:path>
              </a:pathLst>
            </a:custGeom>
            <a:solidFill>
              <a:srgbClr val="ffffc2"/>
            </a:solidFill>
            <a:ln cap="rnd" w="25560">
              <a:solidFill>
                <a:srgbClr val="81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325760" y="4141800"/>
              <a:ext cx="322920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700" spc="-1" strike="noStrike">
                  <a:solidFill>
                    <a:srgbClr val="ff0000"/>
                  </a:solidFill>
                  <a:latin typeface="Brush738 BT"/>
                </a:rPr>
                <a:t>Pendiente de la función de costo óptima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600200" y="3505320"/>
            <a:ext cx="4413240" cy="2590560"/>
            <a:chOff x="1600200" y="3505320"/>
            <a:chExt cx="4413240" cy="2590560"/>
          </a:xfrm>
        </p:grpSpPr>
        <p:sp>
          <p:nvSpPr>
            <p:cNvPr id="458" name=""/>
            <p:cNvSpPr/>
            <p:nvPr/>
          </p:nvSpPr>
          <p:spPr>
            <a:xfrm>
              <a:off x="1600200" y="3505320"/>
              <a:ext cx="4413240" cy="2492280"/>
            </a:xfrm>
            <a:custGeom>
              <a:avLst/>
              <a:gdLst/>
              <a:ahLst/>
              <a:rect l="l" t="t" r="r" b="b"/>
              <a:pathLst>
                <a:path w="2780" h="1570">
                  <a:moveTo>
                    <a:pt x="2043" y="264"/>
                  </a:moveTo>
                  <a:lnTo>
                    <a:pt x="1863" y="221"/>
                  </a:lnTo>
                  <a:lnTo>
                    <a:pt x="1682" y="194"/>
                  </a:lnTo>
                  <a:lnTo>
                    <a:pt x="1501" y="179"/>
                  </a:lnTo>
                  <a:lnTo>
                    <a:pt x="1322" y="179"/>
                  </a:lnTo>
                  <a:lnTo>
                    <a:pt x="1146" y="191"/>
                  </a:lnTo>
                  <a:lnTo>
                    <a:pt x="975" y="215"/>
                  </a:lnTo>
                  <a:lnTo>
                    <a:pt x="813" y="249"/>
                  </a:lnTo>
                  <a:lnTo>
                    <a:pt x="662" y="292"/>
                  </a:lnTo>
                  <a:lnTo>
                    <a:pt x="520" y="345"/>
                  </a:lnTo>
                  <a:lnTo>
                    <a:pt x="391" y="404"/>
                  </a:lnTo>
                  <a:lnTo>
                    <a:pt x="278" y="470"/>
                  </a:lnTo>
                  <a:lnTo>
                    <a:pt x="181" y="541"/>
                  </a:lnTo>
                  <a:lnTo>
                    <a:pt x="103" y="618"/>
                  </a:lnTo>
                  <a:lnTo>
                    <a:pt x="46" y="698"/>
                  </a:lnTo>
                  <a:lnTo>
                    <a:pt x="12" y="781"/>
                  </a:lnTo>
                  <a:lnTo>
                    <a:pt x="0" y="865"/>
                  </a:lnTo>
                  <a:lnTo>
                    <a:pt x="33" y="1032"/>
                  </a:lnTo>
                  <a:lnTo>
                    <a:pt x="120" y="1176"/>
                  </a:lnTo>
                  <a:lnTo>
                    <a:pt x="256" y="1297"/>
                  </a:lnTo>
                  <a:lnTo>
                    <a:pt x="431" y="1395"/>
                  </a:lnTo>
                  <a:lnTo>
                    <a:pt x="636" y="1472"/>
                  </a:lnTo>
                  <a:lnTo>
                    <a:pt x="868" y="1526"/>
                  </a:lnTo>
                  <a:lnTo>
                    <a:pt x="1114" y="1558"/>
                  </a:lnTo>
                  <a:lnTo>
                    <a:pt x="1371" y="1569"/>
                  </a:lnTo>
                  <a:lnTo>
                    <a:pt x="1626" y="1560"/>
                  </a:lnTo>
                  <a:lnTo>
                    <a:pt x="1874" y="1527"/>
                  </a:lnTo>
                  <a:lnTo>
                    <a:pt x="2107" y="1474"/>
                  </a:lnTo>
                  <a:lnTo>
                    <a:pt x="2320" y="1400"/>
                  </a:lnTo>
                  <a:lnTo>
                    <a:pt x="2500" y="1305"/>
                  </a:lnTo>
                  <a:lnTo>
                    <a:pt x="2641" y="1189"/>
                  </a:lnTo>
                  <a:lnTo>
                    <a:pt x="2737" y="1055"/>
                  </a:lnTo>
                  <a:lnTo>
                    <a:pt x="2779" y="899"/>
                  </a:lnTo>
                  <a:lnTo>
                    <a:pt x="2779" y="859"/>
                  </a:lnTo>
                  <a:lnTo>
                    <a:pt x="2774" y="821"/>
                  </a:lnTo>
                  <a:lnTo>
                    <a:pt x="2764" y="782"/>
                  </a:lnTo>
                  <a:lnTo>
                    <a:pt x="2750" y="742"/>
                  </a:lnTo>
                  <a:lnTo>
                    <a:pt x="2731" y="705"/>
                  </a:lnTo>
                  <a:lnTo>
                    <a:pt x="2709" y="667"/>
                  </a:lnTo>
                  <a:lnTo>
                    <a:pt x="2682" y="629"/>
                  </a:lnTo>
                  <a:lnTo>
                    <a:pt x="2653" y="591"/>
                  </a:lnTo>
                  <a:lnTo>
                    <a:pt x="2619" y="558"/>
                  </a:lnTo>
                  <a:lnTo>
                    <a:pt x="2583" y="523"/>
                  </a:lnTo>
                  <a:lnTo>
                    <a:pt x="2542" y="490"/>
                  </a:lnTo>
                  <a:lnTo>
                    <a:pt x="2502" y="459"/>
                  </a:lnTo>
                  <a:lnTo>
                    <a:pt x="2457" y="431"/>
                  </a:lnTo>
                  <a:lnTo>
                    <a:pt x="2410" y="403"/>
                  </a:lnTo>
                  <a:lnTo>
                    <a:pt x="2361" y="378"/>
                  </a:lnTo>
                  <a:lnTo>
                    <a:pt x="2311" y="354"/>
                  </a:lnTo>
                  <a:lnTo>
                    <a:pt x="2477" y="191"/>
                  </a:lnTo>
                  <a:lnTo>
                    <a:pt x="2563" y="268"/>
                  </a:lnTo>
                  <a:lnTo>
                    <a:pt x="2648" y="0"/>
                  </a:lnTo>
                  <a:lnTo>
                    <a:pt x="2265" y="0"/>
                  </a:lnTo>
                  <a:lnTo>
                    <a:pt x="2385" y="105"/>
                  </a:lnTo>
                  <a:lnTo>
                    <a:pt x="2043" y="264"/>
                  </a:lnTo>
                </a:path>
              </a:pathLst>
            </a:custGeom>
            <a:solidFill>
              <a:srgbClr val="ffffc2"/>
            </a:solidFill>
            <a:ln cap="rnd" w="25560">
              <a:solidFill>
                <a:srgbClr val="81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74960" y="4264200"/>
              <a:ext cx="3936960" cy="18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700" spc="-1" strike="noStrike">
                  <a:solidFill>
                    <a:srgbClr val="ff0000"/>
                  </a:solidFill>
                  <a:latin typeface="Brush738 BT"/>
                </a:rPr>
                <a:t>Demanda óptima del factor i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2743200" y="2743200"/>
            <a:ext cx="39304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)  = 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*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859464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Y entonces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28800" y="2971800"/>
            <a:ext cx="54547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)  = 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4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209680"/>
            <a:ext cx="9144000" cy="2667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8040" y="4419720"/>
            <a:ext cx="39639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652920" y="3687840"/>
            <a:ext cx="4276800" cy="2716200"/>
          </a:xfrm>
          <a:custGeom>
            <a:avLst/>
            <a:gdLst/>
            <a:ahLst/>
            <a:rect l="l" t="t" r="r" b="b"/>
            <a:pathLst>
              <a:path w="2694" h="1711">
                <a:moveTo>
                  <a:pt x="448" y="368"/>
                </a:moveTo>
                <a:lnTo>
                  <a:pt x="360" y="374"/>
                </a:lnTo>
                <a:lnTo>
                  <a:pt x="280" y="387"/>
                </a:lnTo>
                <a:lnTo>
                  <a:pt x="200" y="407"/>
                </a:lnTo>
                <a:lnTo>
                  <a:pt x="136" y="432"/>
                </a:lnTo>
                <a:lnTo>
                  <a:pt x="80" y="465"/>
                </a:lnTo>
                <a:lnTo>
                  <a:pt x="40" y="503"/>
                </a:lnTo>
                <a:lnTo>
                  <a:pt x="8" y="542"/>
                </a:lnTo>
                <a:lnTo>
                  <a:pt x="0" y="587"/>
                </a:lnTo>
                <a:lnTo>
                  <a:pt x="0" y="923"/>
                </a:lnTo>
                <a:lnTo>
                  <a:pt x="0" y="1484"/>
                </a:lnTo>
                <a:lnTo>
                  <a:pt x="8" y="1529"/>
                </a:lnTo>
                <a:lnTo>
                  <a:pt x="40" y="1574"/>
                </a:lnTo>
                <a:lnTo>
                  <a:pt x="80" y="1607"/>
                </a:lnTo>
                <a:lnTo>
                  <a:pt x="136" y="1645"/>
                </a:lnTo>
                <a:lnTo>
                  <a:pt x="200" y="1671"/>
                </a:lnTo>
                <a:lnTo>
                  <a:pt x="280" y="1691"/>
                </a:lnTo>
                <a:lnTo>
                  <a:pt x="360" y="1704"/>
                </a:lnTo>
                <a:lnTo>
                  <a:pt x="448" y="1710"/>
                </a:lnTo>
                <a:lnTo>
                  <a:pt x="1127" y="1710"/>
                </a:lnTo>
                <a:lnTo>
                  <a:pt x="2246" y="1710"/>
                </a:lnTo>
                <a:lnTo>
                  <a:pt x="2333" y="1704"/>
                </a:lnTo>
                <a:lnTo>
                  <a:pt x="2421" y="1691"/>
                </a:lnTo>
                <a:lnTo>
                  <a:pt x="2493" y="1671"/>
                </a:lnTo>
                <a:lnTo>
                  <a:pt x="2565" y="1645"/>
                </a:lnTo>
                <a:lnTo>
                  <a:pt x="2613" y="1607"/>
                </a:lnTo>
                <a:lnTo>
                  <a:pt x="2661" y="1574"/>
                </a:lnTo>
                <a:lnTo>
                  <a:pt x="2685" y="1529"/>
                </a:lnTo>
                <a:lnTo>
                  <a:pt x="2693" y="1484"/>
                </a:lnTo>
                <a:lnTo>
                  <a:pt x="2693" y="923"/>
                </a:lnTo>
                <a:lnTo>
                  <a:pt x="2693" y="587"/>
                </a:lnTo>
                <a:lnTo>
                  <a:pt x="2685" y="542"/>
                </a:lnTo>
                <a:lnTo>
                  <a:pt x="2661" y="503"/>
                </a:lnTo>
                <a:lnTo>
                  <a:pt x="2613" y="465"/>
                </a:lnTo>
                <a:lnTo>
                  <a:pt x="2565" y="432"/>
                </a:lnTo>
                <a:lnTo>
                  <a:pt x="2493" y="407"/>
                </a:lnTo>
                <a:lnTo>
                  <a:pt x="2421" y="387"/>
                </a:lnTo>
                <a:lnTo>
                  <a:pt x="2333" y="374"/>
                </a:lnTo>
                <a:lnTo>
                  <a:pt x="2246" y="368"/>
                </a:lnTo>
                <a:lnTo>
                  <a:pt x="1127" y="368"/>
                </a:lnTo>
                <a:lnTo>
                  <a:pt x="895" y="0"/>
                </a:lnTo>
                <a:lnTo>
                  <a:pt x="448" y="368"/>
                </a:lnTo>
              </a:path>
            </a:pathLst>
          </a:custGeom>
          <a:solidFill>
            <a:srgbClr val="ffff99"/>
          </a:solidFill>
          <a:ln cap="rnd" w="25560">
            <a:solidFill>
              <a:srgbClr val="8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16440" y="4406760"/>
            <a:ext cx="37512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Brush738 BT"/>
              </a:rPr>
              <a:t>Función de demanda condicionad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0800" y="990720"/>
            <a:ext cx="859320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0800" y="990720"/>
            <a:ext cx="85932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ferenciand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587680" y="2511360"/>
            <a:ext cx="3514680" cy="3105360"/>
            <a:chOff x="2587680" y="2511360"/>
            <a:chExt cx="3514680" cy="3105360"/>
          </a:xfrm>
        </p:grpSpPr>
        <p:sp>
          <p:nvSpPr>
            <p:cNvPr id="470" name=""/>
            <p:cNvSpPr/>
            <p:nvPr/>
          </p:nvSpPr>
          <p:spPr>
            <a:xfrm>
              <a:off x="4935600" y="2865600"/>
              <a:ext cx="515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1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808080"/>
                  </a:solidFill>
                  <a:latin typeface="Times New Roman"/>
                </a:rPr>
                <a:t>i   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87680" y="2511360"/>
              <a:ext cx="3514680" cy="2681280"/>
            </a:xfrm>
            <a:prstGeom prst="ellipse">
              <a:avLst/>
            </a:prstGeom>
            <a:solidFill>
              <a:srgbClr val="ffffc2"/>
            </a:solidFill>
            <a:ln w="2556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09880" y="2895480"/>
              <a:ext cx="1828800" cy="27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45000"/>
                </a:lnSpc>
                <a:spcBef>
                  <a:spcPts val="77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6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6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6200" spc="-1" strike="noStrike">
                  <a:solidFill>
                    <a:srgbClr val="000000"/>
                  </a:solidFill>
                  <a:latin typeface="Times New Roman"/>
                </a:rPr>
                <a:t>___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6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r>
                <a:rPr b="0" i="1" lang="es-ES_tradnl" sz="6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s-ES_tradnl" sz="62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ES_tradnl" sz="6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594640" cy="6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 que nos d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74680" y="2987640"/>
            <a:ext cx="54547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4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)  = 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4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4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2057400"/>
            <a:ext cx="914400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03440" y="3639960"/>
            <a:ext cx="2971800" cy="2078280"/>
          </a:xfrm>
          <a:custGeom>
            <a:avLst/>
            <a:gdLst/>
            <a:ahLst/>
            <a:rect l="l" t="t" r="r" b="b"/>
            <a:pathLst>
              <a:path w="1872" h="1309">
                <a:moveTo>
                  <a:pt x="308" y="490"/>
                </a:moveTo>
                <a:lnTo>
                  <a:pt x="248" y="496"/>
                </a:lnTo>
                <a:lnTo>
                  <a:pt x="188" y="501"/>
                </a:lnTo>
                <a:lnTo>
                  <a:pt x="138" y="513"/>
                </a:lnTo>
                <a:lnTo>
                  <a:pt x="92" y="530"/>
                </a:lnTo>
                <a:lnTo>
                  <a:pt x="50" y="553"/>
                </a:lnTo>
                <a:lnTo>
                  <a:pt x="23" y="576"/>
                </a:lnTo>
                <a:lnTo>
                  <a:pt x="4" y="599"/>
                </a:lnTo>
                <a:lnTo>
                  <a:pt x="0" y="628"/>
                </a:lnTo>
                <a:lnTo>
                  <a:pt x="0" y="830"/>
                </a:lnTo>
                <a:lnTo>
                  <a:pt x="0" y="1170"/>
                </a:lnTo>
                <a:lnTo>
                  <a:pt x="4" y="1199"/>
                </a:lnTo>
                <a:lnTo>
                  <a:pt x="23" y="1222"/>
                </a:lnTo>
                <a:lnTo>
                  <a:pt x="50" y="1245"/>
                </a:lnTo>
                <a:lnTo>
                  <a:pt x="92" y="1268"/>
                </a:lnTo>
                <a:lnTo>
                  <a:pt x="138" y="1285"/>
                </a:lnTo>
                <a:lnTo>
                  <a:pt x="188" y="1296"/>
                </a:lnTo>
                <a:lnTo>
                  <a:pt x="248" y="1308"/>
                </a:lnTo>
                <a:lnTo>
                  <a:pt x="308" y="1308"/>
                </a:lnTo>
                <a:lnTo>
                  <a:pt x="779" y="1308"/>
                </a:lnTo>
                <a:lnTo>
                  <a:pt x="1558" y="1308"/>
                </a:lnTo>
                <a:lnTo>
                  <a:pt x="1622" y="1308"/>
                </a:lnTo>
                <a:lnTo>
                  <a:pt x="1677" y="1296"/>
                </a:lnTo>
                <a:lnTo>
                  <a:pt x="1733" y="1285"/>
                </a:lnTo>
                <a:lnTo>
                  <a:pt x="1779" y="1268"/>
                </a:lnTo>
                <a:lnTo>
                  <a:pt x="1816" y="1245"/>
                </a:lnTo>
                <a:lnTo>
                  <a:pt x="1848" y="1222"/>
                </a:lnTo>
                <a:lnTo>
                  <a:pt x="1866" y="1199"/>
                </a:lnTo>
                <a:lnTo>
                  <a:pt x="1871" y="1170"/>
                </a:lnTo>
                <a:lnTo>
                  <a:pt x="1871" y="830"/>
                </a:lnTo>
                <a:lnTo>
                  <a:pt x="1871" y="628"/>
                </a:lnTo>
                <a:lnTo>
                  <a:pt x="1866" y="599"/>
                </a:lnTo>
                <a:lnTo>
                  <a:pt x="1848" y="576"/>
                </a:lnTo>
                <a:lnTo>
                  <a:pt x="1816" y="553"/>
                </a:lnTo>
                <a:lnTo>
                  <a:pt x="1779" y="530"/>
                </a:lnTo>
                <a:lnTo>
                  <a:pt x="1733" y="513"/>
                </a:lnTo>
                <a:lnTo>
                  <a:pt x="1677" y="501"/>
                </a:lnTo>
                <a:lnTo>
                  <a:pt x="1622" y="496"/>
                </a:lnTo>
                <a:lnTo>
                  <a:pt x="1558" y="490"/>
                </a:lnTo>
                <a:lnTo>
                  <a:pt x="779" y="490"/>
                </a:lnTo>
                <a:lnTo>
                  <a:pt x="64" y="0"/>
                </a:lnTo>
                <a:lnTo>
                  <a:pt x="308" y="490"/>
                </a:lnTo>
              </a:path>
            </a:pathLst>
          </a:custGeom>
          <a:solidFill>
            <a:srgbClr val="ffff99"/>
          </a:solidFill>
          <a:ln cap="rnd" w="25560">
            <a:solidFill>
              <a:srgbClr val="8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11160" y="4527720"/>
            <a:ext cx="2549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Brush738 BT"/>
              </a:rPr>
              <a:t>Derivada segund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" y="380880"/>
            <a:ext cx="8594640" cy="6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" y="380880"/>
            <a:ext cx="8594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Y ahora,  para un resultado sencillo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74680" y="4206960"/>
            <a:ext cx="5454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44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)  = 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4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4265640" y="1676520"/>
            <a:ext cx="4878360" cy="3295440"/>
            <a:chOff x="4265640" y="1676520"/>
            <a:chExt cx="4878360" cy="3295440"/>
          </a:xfrm>
        </p:grpSpPr>
        <p:sp>
          <p:nvSpPr>
            <p:cNvPr id="482" name=""/>
            <p:cNvSpPr/>
            <p:nvPr/>
          </p:nvSpPr>
          <p:spPr>
            <a:xfrm>
              <a:off x="4265640" y="1676520"/>
              <a:ext cx="4687920" cy="3295440"/>
            </a:xfrm>
            <a:custGeom>
              <a:avLst/>
              <a:gdLst/>
              <a:ahLst/>
              <a:rect l="l" t="t" r="r" b="b"/>
              <a:pathLst>
                <a:path w="2953" h="2076">
                  <a:moveTo>
                    <a:pt x="2952" y="1019"/>
                  </a:moveTo>
                  <a:lnTo>
                    <a:pt x="2952" y="1019"/>
                  </a:lnTo>
                  <a:lnTo>
                    <a:pt x="1213" y="0"/>
                  </a:lnTo>
                  <a:lnTo>
                    <a:pt x="1415" y="510"/>
                  </a:lnTo>
                  <a:lnTo>
                    <a:pt x="0" y="510"/>
                  </a:lnTo>
                  <a:lnTo>
                    <a:pt x="0" y="1600"/>
                  </a:lnTo>
                  <a:lnTo>
                    <a:pt x="1415" y="1600"/>
                  </a:lnTo>
                  <a:lnTo>
                    <a:pt x="1213" y="2075"/>
                  </a:lnTo>
                  <a:lnTo>
                    <a:pt x="2952" y="101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52920" y="2886120"/>
              <a:ext cx="459108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5200" spc="-1" strike="noStrike">
                  <a:solidFill>
                    <a:srgbClr val="000000"/>
                  </a:solidFill>
                  <a:latin typeface="Arial"/>
                </a:rPr>
                <a:t>Por qué...??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-3240" y="2152800"/>
            <a:ext cx="4044960" cy="2574720"/>
          </a:xfrm>
          <a:prstGeom prst="ellipse">
            <a:avLst/>
          </a:prstGeom>
          <a:solidFill>
            <a:srgbClr val="ffffc2"/>
          </a:solidFill>
          <a:ln w="2556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59464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2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s derivadas segundas son conmutativa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02080" y="2975040"/>
            <a:ext cx="7034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3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2120" y="2590920"/>
            <a:ext cx="26668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45000"/>
              </a:lnSpc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6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6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62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s-ES_tradnl" sz="6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6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s-ES_tradnl" sz="6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s-ES_tradnl" sz="6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6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6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02280" y="2206800"/>
            <a:ext cx="4044960" cy="2574720"/>
          </a:xfrm>
          <a:prstGeom prst="ellipse">
            <a:avLst/>
          </a:prstGeom>
          <a:solidFill>
            <a:srgbClr val="ffffc2"/>
          </a:solidFill>
          <a:ln w="2556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867280" y="2590920"/>
            <a:ext cx="266724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45000"/>
              </a:lnSpc>
              <a:spcBef>
                <a:spcPts val="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6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ES_tradnl" sz="6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62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6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s-ES_tradnl" sz="6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6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ES_tradnl" sz="62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s-ES_tradnl" sz="6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6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6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59464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significado económic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4797360" y="3425760"/>
            <a:ext cx="3949920" cy="2657520"/>
          </a:xfrm>
          <a:prstGeom prst="roundRect">
            <a:avLst>
              <a:gd name="adj" fmla="val 4125"/>
            </a:avLst>
          </a:prstGeom>
          <a:solidFill>
            <a:srgbClr val="ffffc2"/>
          </a:solidFill>
          <a:ln w="1260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ush738 BT"/>
              </a:rPr>
              <a:t>El efecto del pre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ush738 B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Brush738 BT"/>
              </a:rPr>
              <a:t>del factor </a:t>
            </a:r>
            <a:r>
              <a:rPr b="0" i="1" lang="en-US" sz="3200" spc="-1" strike="noStrike">
                <a:solidFill>
                  <a:srgbClr val="00008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Brush738 BT"/>
              </a:rPr>
              <a:t>en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ush738 BT"/>
              </a:rPr>
              <a:t>deman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ush738 BT"/>
              </a:rPr>
              <a:t>condicionada 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ush738 B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Brush738 BT"/>
              </a:rPr>
              <a:t>factor </a:t>
            </a:r>
            <a:r>
              <a:rPr b="0" i="1" lang="en-US" sz="3200" spc="-1" strike="noStrike">
                <a:solidFill>
                  <a:srgbClr val="00008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304200" y="3352680"/>
            <a:ext cx="4120920" cy="2673360"/>
          </a:xfrm>
          <a:prstGeom prst="roundRect">
            <a:avLst>
              <a:gd name="adj" fmla="val 4125"/>
            </a:avLst>
          </a:prstGeom>
          <a:solidFill>
            <a:srgbClr val="ffffc2"/>
          </a:solidFill>
          <a:ln w="1260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81480" y="3657600"/>
            <a:ext cx="3581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905120" y="1752480"/>
            <a:ext cx="54543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4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4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4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0880" y="350532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ush738 BT"/>
              </a:rPr>
              <a:t>El efecto del precio del factor </a:t>
            </a:r>
            <a:r>
              <a:rPr b="0" i="1" lang="en-US" sz="3200" spc="-1" strike="noStrike">
                <a:solidFill>
                  <a:srgbClr val="00008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Brush738 BT"/>
              </a:rPr>
              <a:t>en la demanda condicionada del factor </a:t>
            </a:r>
            <a:r>
              <a:rPr b="0" i="1" lang="en-US" sz="3200" spc="-1" strike="noStrike">
                <a:solidFill>
                  <a:srgbClr val="00008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44236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0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hora para un resultado aun más simple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143000" y="2666880"/>
            <a:ext cx="25588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4400" spc="-1" strike="noStrike" baseline="-25000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5029200" y="3809880"/>
            <a:ext cx="3556080" cy="2416320"/>
            <a:chOff x="5029200" y="3809880"/>
            <a:chExt cx="3556080" cy="2416320"/>
          </a:xfrm>
        </p:grpSpPr>
        <p:grpSp>
          <p:nvGrpSpPr>
            <p:cNvPr id="499" name=""/>
            <p:cNvGrpSpPr/>
            <p:nvPr/>
          </p:nvGrpSpPr>
          <p:grpSpPr>
            <a:xfrm>
              <a:off x="5029200" y="3809880"/>
              <a:ext cx="3556080" cy="2416320"/>
              <a:chOff x="5029200" y="3809880"/>
              <a:chExt cx="3556080" cy="2416320"/>
            </a:xfrm>
          </p:grpSpPr>
          <p:sp>
            <p:nvSpPr>
              <p:cNvPr id="500" name=""/>
              <p:cNvSpPr/>
              <p:nvPr/>
            </p:nvSpPr>
            <p:spPr>
              <a:xfrm flipH="1">
                <a:off x="6608160" y="3813120"/>
                <a:ext cx="260280" cy="162000"/>
              </a:xfrm>
              <a:prstGeom prst="roundRect">
                <a:avLst>
                  <a:gd name="adj" fmla="val 0"/>
                </a:avLst>
              </a:prstGeom>
              <a:solidFill>
                <a:srgbClr val="d2b06a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869160" y="3809880"/>
                <a:ext cx="131760" cy="165240"/>
              </a:xfrm>
              <a:custGeom>
                <a:avLst/>
                <a:gdLst/>
                <a:ahLst/>
                <a:rect l="l" t="t" r="r" b="b"/>
                <a:pathLst>
                  <a:path w="83" h="104">
                    <a:moveTo>
                      <a:pt x="82" y="103"/>
                    </a:moveTo>
                    <a:lnTo>
                      <a:pt x="82" y="69"/>
                    </a:lnTo>
                    <a:lnTo>
                      <a:pt x="0" y="0"/>
                    </a:lnTo>
                    <a:lnTo>
                      <a:pt x="0" y="103"/>
                    </a:lnTo>
                    <a:lnTo>
                      <a:pt x="82" y="103"/>
                    </a:lnTo>
                  </a:path>
                </a:pathLst>
              </a:custGeom>
              <a:solidFill>
                <a:srgbClr val="80621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607080" y="4811760"/>
                <a:ext cx="265320" cy="1414440"/>
              </a:xfrm>
              <a:custGeom>
                <a:avLst/>
                <a:gdLst/>
                <a:ahLst/>
                <a:rect l="l" t="t" r="r" b="b"/>
                <a:pathLst>
                  <a:path w="167" h="891">
                    <a:moveTo>
                      <a:pt x="0" y="0"/>
                    </a:moveTo>
                    <a:lnTo>
                      <a:pt x="0" y="753"/>
                    </a:lnTo>
                    <a:lnTo>
                      <a:pt x="125" y="890"/>
                    </a:lnTo>
                    <a:lnTo>
                      <a:pt x="166" y="753"/>
                    </a:lnTo>
                    <a:lnTo>
                      <a:pt x="16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b06a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5049720" y="3959280"/>
                <a:ext cx="3417840" cy="866880"/>
              </a:xfrm>
              <a:prstGeom prst="roundRect">
                <a:avLst>
                  <a:gd name="adj" fmla="val 0"/>
                </a:avLst>
              </a:prstGeom>
              <a:solidFill>
                <a:srgbClr val="ffffc2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029200" y="4811760"/>
                <a:ext cx="1579680" cy="109440"/>
              </a:xfrm>
              <a:custGeom>
                <a:avLst/>
                <a:gdLst/>
                <a:ahLst/>
                <a:rect l="l" t="t" r="r" b="b"/>
                <a:pathLst>
                  <a:path w="995" h="69">
                    <a:moveTo>
                      <a:pt x="0" y="0"/>
                    </a:moveTo>
                    <a:lnTo>
                      <a:pt x="82" y="68"/>
                    </a:lnTo>
                    <a:lnTo>
                      <a:pt x="994" y="68"/>
                    </a:lnTo>
                    <a:lnTo>
                      <a:pt x="9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870600" y="4811760"/>
                <a:ext cx="135000" cy="1251000"/>
              </a:xfrm>
              <a:custGeom>
                <a:avLst/>
                <a:gdLst/>
                <a:ahLst/>
                <a:rect l="l" t="t" r="r" b="b"/>
                <a:pathLst>
                  <a:path w="85" h="788">
                    <a:moveTo>
                      <a:pt x="0" y="0"/>
                    </a:moveTo>
                    <a:lnTo>
                      <a:pt x="84" y="68"/>
                    </a:lnTo>
                    <a:lnTo>
                      <a:pt x="84" y="787"/>
                    </a:lnTo>
                    <a:lnTo>
                      <a:pt x="0" y="7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621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805440" y="6006960"/>
                <a:ext cx="200160" cy="217800"/>
              </a:xfrm>
              <a:custGeom>
                <a:avLst/>
                <a:gdLst/>
                <a:ahLst/>
                <a:rect l="l" t="t" r="r" b="b"/>
                <a:pathLst>
                  <a:path w="126" h="137">
                    <a:moveTo>
                      <a:pt x="41" y="0"/>
                    </a:moveTo>
                    <a:lnTo>
                      <a:pt x="125" y="34"/>
                    </a:lnTo>
                    <a:lnTo>
                      <a:pt x="0" y="136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870600" y="4811760"/>
                <a:ext cx="1714680" cy="109440"/>
              </a:xfrm>
              <a:custGeom>
                <a:avLst/>
                <a:gdLst/>
                <a:ahLst/>
                <a:rect l="l" t="t" r="r" b="b"/>
                <a:pathLst>
                  <a:path w="1080" h="69">
                    <a:moveTo>
                      <a:pt x="0" y="0"/>
                    </a:moveTo>
                    <a:lnTo>
                      <a:pt x="84" y="68"/>
                    </a:lnTo>
                    <a:lnTo>
                      <a:pt x="1079" y="68"/>
                    </a:lnTo>
                    <a:lnTo>
                      <a:pt x="9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450280" y="3943440"/>
                <a:ext cx="135000" cy="977760"/>
              </a:xfrm>
              <a:custGeom>
                <a:avLst/>
                <a:gdLst/>
                <a:ahLst/>
                <a:rect l="l" t="t" r="r" b="b"/>
                <a:pathLst>
                  <a:path w="85" h="616">
                    <a:moveTo>
                      <a:pt x="0" y="0"/>
                    </a:moveTo>
                    <a:lnTo>
                      <a:pt x="84" y="68"/>
                    </a:lnTo>
                    <a:lnTo>
                      <a:pt x="84" y="615"/>
                    </a:lnTo>
                    <a:lnTo>
                      <a:pt x="0" y="5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621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5442120" y="3929040"/>
              <a:ext cx="27111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usimos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=i.</a:t>
              </a:r>
              <a:r>
                <a:rPr b="0" lang="en-US" sz="2800" spc="-1" strike="noStrike">
                  <a:solidFill>
                    <a:srgbClr val="000000"/>
                  </a:solidFill>
                  <a:latin typeface="Brush738 BT"/>
                </a:rPr>
                <a:t> “Caso especial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304920" y="304920"/>
            <a:ext cx="85946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8594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rque la función de costo es cóncava en precios…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19600" y="2544120"/>
            <a:ext cx="2364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4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44680" y="3484440"/>
            <a:ext cx="3282840" cy="2309760"/>
          </a:xfrm>
          <a:custGeom>
            <a:avLst/>
            <a:gdLst/>
            <a:ahLst/>
            <a:rect l="l" t="t" r="r" b="b"/>
            <a:pathLst>
              <a:path w="2068" h="1455">
                <a:moveTo>
                  <a:pt x="347" y="491"/>
                </a:moveTo>
                <a:lnTo>
                  <a:pt x="276" y="497"/>
                </a:lnTo>
                <a:lnTo>
                  <a:pt x="214" y="502"/>
                </a:lnTo>
                <a:lnTo>
                  <a:pt x="152" y="520"/>
                </a:lnTo>
                <a:lnTo>
                  <a:pt x="105" y="537"/>
                </a:lnTo>
                <a:lnTo>
                  <a:pt x="62" y="567"/>
                </a:lnTo>
                <a:lnTo>
                  <a:pt x="28" y="590"/>
                </a:lnTo>
                <a:lnTo>
                  <a:pt x="9" y="625"/>
                </a:lnTo>
                <a:lnTo>
                  <a:pt x="0" y="654"/>
                </a:lnTo>
                <a:lnTo>
                  <a:pt x="0" y="894"/>
                </a:lnTo>
                <a:lnTo>
                  <a:pt x="0" y="1291"/>
                </a:lnTo>
                <a:lnTo>
                  <a:pt x="9" y="1326"/>
                </a:lnTo>
                <a:lnTo>
                  <a:pt x="28" y="1355"/>
                </a:lnTo>
                <a:lnTo>
                  <a:pt x="62" y="1378"/>
                </a:lnTo>
                <a:lnTo>
                  <a:pt x="105" y="1407"/>
                </a:lnTo>
                <a:lnTo>
                  <a:pt x="152" y="1425"/>
                </a:lnTo>
                <a:lnTo>
                  <a:pt x="214" y="1442"/>
                </a:lnTo>
                <a:lnTo>
                  <a:pt x="276" y="1448"/>
                </a:lnTo>
                <a:lnTo>
                  <a:pt x="347" y="1454"/>
                </a:lnTo>
                <a:lnTo>
                  <a:pt x="862" y="1454"/>
                </a:lnTo>
                <a:lnTo>
                  <a:pt x="1724" y="1454"/>
                </a:lnTo>
                <a:lnTo>
                  <a:pt x="1791" y="1448"/>
                </a:lnTo>
                <a:lnTo>
                  <a:pt x="1857" y="1442"/>
                </a:lnTo>
                <a:lnTo>
                  <a:pt x="1915" y="1425"/>
                </a:lnTo>
                <a:lnTo>
                  <a:pt x="1967" y="1407"/>
                </a:lnTo>
                <a:lnTo>
                  <a:pt x="2010" y="1378"/>
                </a:lnTo>
                <a:lnTo>
                  <a:pt x="2038" y="1355"/>
                </a:lnTo>
                <a:lnTo>
                  <a:pt x="2062" y="1326"/>
                </a:lnTo>
                <a:lnTo>
                  <a:pt x="2067" y="1291"/>
                </a:lnTo>
                <a:lnTo>
                  <a:pt x="2067" y="894"/>
                </a:lnTo>
                <a:lnTo>
                  <a:pt x="2067" y="654"/>
                </a:lnTo>
                <a:lnTo>
                  <a:pt x="2062" y="625"/>
                </a:lnTo>
                <a:lnTo>
                  <a:pt x="2038" y="590"/>
                </a:lnTo>
                <a:lnTo>
                  <a:pt x="2010" y="567"/>
                </a:lnTo>
                <a:lnTo>
                  <a:pt x="1967" y="537"/>
                </a:lnTo>
                <a:lnTo>
                  <a:pt x="1915" y="520"/>
                </a:lnTo>
                <a:lnTo>
                  <a:pt x="1857" y="502"/>
                </a:lnTo>
                <a:lnTo>
                  <a:pt x="1791" y="497"/>
                </a:lnTo>
                <a:lnTo>
                  <a:pt x="1724" y="491"/>
                </a:lnTo>
                <a:lnTo>
                  <a:pt x="862" y="491"/>
                </a:lnTo>
                <a:lnTo>
                  <a:pt x="262" y="0"/>
                </a:lnTo>
                <a:lnTo>
                  <a:pt x="347" y="491"/>
                </a:lnTo>
              </a:path>
            </a:pathLst>
          </a:custGeom>
          <a:solidFill>
            <a:srgbClr val="ffff99"/>
          </a:solidFill>
          <a:ln cap="rnd" w="25560">
            <a:solidFill>
              <a:srgbClr val="8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0040" y="4384800"/>
            <a:ext cx="283212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Brush738 BT"/>
              </a:rPr>
              <a:t>Esta debe ser negativ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373040" y="3357720"/>
            <a:ext cx="5183280" cy="2589120"/>
          </a:xfrm>
          <a:custGeom>
            <a:avLst/>
            <a:gdLst/>
            <a:ahLst/>
            <a:rect l="l" t="t" r="r" b="b"/>
            <a:pathLst>
              <a:path w="3265" h="1631">
                <a:moveTo>
                  <a:pt x="542" y="432"/>
                </a:moveTo>
                <a:lnTo>
                  <a:pt x="436" y="438"/>
                </a:lnTo>
                <a:lnTo>
                  <a:pt x="331" y="450"/>
                </a:lnTo>
                <a:lnTo>
                  <a:pt x="238" y="468"/>
                </a:lnTo>
                <a:lnTo>
                  <a:pt x="159" y="492"/>
                </a:lnTo>
                <a:lnTo>
                  <a:pt x="93" y="521"/>
                </a:lnTo>
                <a:lnTo>
                  <a:pt x="47" y="551"/>
                </a:lnTo>
                <a:lnTo>
                  <a:pt x="14" y="587"/>
                </a:lnTo>
                <a:lnTo>
                  <a:pt x="0" y="629"/>
                </a:lnTo>
                <a:lnTo>
                  <a:pt x="0" y="929"/>
                </a:lnTo>
                <a:lnTo>
                  <a:pt x="0" y="1426"/>
                </a:lnTo>
                <a:lnTo>
                  <a:pt x="14" y="1468"/>
                </a:lnTo>
                <a:lnTo>
                  <a:pt x="47" y="1504"/>
                </a:lnTo>
                <a:lnTo>
                  <a:pt x="93" y="1540"/>
                </a:lnTo>
                <a:lnTo>
                  <a:pt x="159" y="1570"/>
                </a:lnTo>
                <a:lnTo>
                  <a:pt x="238" y="1594"/>
                </a:lnTo>
                <a:lnTo>
                  <a:pt x="331" y="1612"/>
                </a:lnTo>
                <a:lnTo>
                  <a:pt x="436" y="1624"/>
                </a:lnTo>
                <a:lnTo>
                  <a:pt x="542" y="1630"/>
                </a:lnTo>
                <a:lnTo>
                  <a:pt x="1903" y="1630"/>
                </a:lnTo>
                <a:lnTo>
                  <a:pt x="2722" y="1630"/>
                </a:lnTo>
                <a:lnTo>
                  <a:pt x="2828" y="1624"/>
                </a:lnTo>
                <a:lnTo>
                  <a:pt x="2934" y="1612"/>
                </a:lnTo>
                <a:lnTo>
                  <a:pt x="3026" y="1594"/>
                </a:lnTo>
                <a:lnTo>
                  <a:pt x="3105" y="1570"/>
                </a:lnTo>
                <a:lnTo>
                  <a:pt x="3172" y="1540"/>
                </a:lnTo>
                <a:lnTo>
                  <a:pt x="3224" y="1504"/>
                </a:lnTo>
                <a:lnTo>
                  <a:pt x="3251" y="1468"/>
                </a:lnTo>
                <a:lnTo>
                  <a:pt x="3264" y="1426"/>
                </a:lnTo>
                <a:lnTo>
                  <a:pt x="3264" y="929"/>
                </a:lnTo>
                <a:lnTo>
                  <a:pt x="3264" y="629"/>
                </a:lnTo>
                <a:lnTo>
                  <a:pt x="3251" y="587"/>
                </a:lnTo>
                <a:lnTo>
                  <a:pt x="3224" y="551"/>
                </a:lnTo>
                <a:lnTo>
                  <a:pt x="3172" y="521"/>
                </a:lnTo>
                <a:lnTo>
                  <a:pt x="3105" y="492"/>
                </a:lnTo>
                <a:lnTo>
                  <a:pt x="3026" y="468"/>
                </a:lnTo>
                <a:lnTo>
                  <a:pt x="2934" y="450"/>
                </a:lnTo>
                <a:lnTo>
                  <a:pt x="2828" y="438"/>
                </a:lnTo>
                <a:lnTo>
                  <a:pt x="2722" y="432"/>
                </a:lnTo>
                <a:lnTo>
                  <a:pt x="2002" y="0"/>
                </a:lnTo>
                <a:lnTo>
                  <a:pt x="1903" y="432"/>
                </a:lnTo>
                <a:lnTo>
                  <a:pt x="542" y="432"/>
                </a:lnTo>
              </a:path>
            </a:pathLst>
          </a:custGeom>
          <a:solidFill>
            <a:srgbClr val="ffff99"/>
          </a:solidFill>
          <a:ln cap="rnd" w="25560">
            <a:solidFill>
              <a:srgbClr val="8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63560" y="4168800"/>
            <a:ext cx="459756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Brush738 BT"/>
              </a:rPr>
              <a:t>…</a:t>
            </a:r>
            <a:r>
              <a:rPr b="1" lang="en-US" sz="3700" spc="-1" strike="noStrike">
                <a:solidFill>
                  <a:srgbClr val="ff0000"/>
                </a:solidFill>
                <a:latin typeface="Brush738 BT"/>
              </a:rPr>
              <a:t>entonces ésta debe ser negativa tambié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57600" y="4343400"/>
            <a:ext cx="5089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8100"/>
                </a:solidFill>
                <a:latin typeface="Brush738 BT"/>
              </a:rPr>
              <a:t>... Y entonce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83760" y="-360"/>
            <a:ext cx="875988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Considere la demanda del factor 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144880" y="1593360"/>
            <a:ext cx="0" cy="478476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70080" y="6378480"/>
            <a:ext cx="586584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600360" y="2465280"/>
            <a:ext cx="1308240" cy="3052800"/>
          </a:xfrm>
          <a:custGeom>
            <a:avLst/>
            <a:gdLst/>
            <a:ahLst/>
            <a:rect l="l" t="t" r="r" b="b"/>
            <a:pathLst>
              <a:path w="824" h="1923">
                <a:moveTo>
                  <a:pt x="0" y="0"/>
                </a:moveTo>
                <a:lnTo>
                  <a:pt x="3" y="34"/>
                </a:lnTo>
                <a:lnTo>
                  <a:pt x="5" y="61"/>
                </a:lnTo>
                <a:lnTo>
                  <a:pt x="7" y="83"/>
                </a:lnTo>
                <a:lnTo>
                  <a:pt x="9" y="100"/>
                </a:lnTo>
                <a:lnTo>
                  <a:pt x="9" y="113"/>
                </a:lnTo>
                <a:lnTo>
                  <a:pt x="11" y="123"/>
                </a:lnTo>
                <a:lnTo>
                  <a:pt x="11" y="131"/>
                </a:lnTo>
                <a:lnTo>
                  <a:pt x="13" y="134"/>
                </a:lnTo>
                <a:lnTo>
                  <a:pt x="13" y="139"/>
                </a:lnTo>
                <a:lnTo>
                  <a:pt x="13" y="143"/>
                </a:lnTo>
                <a:lnTo>
                  <a:pt x="13" y="147"/>
                </a:lnTo>
                <a:lnTo>
                  <a:pt x="15" y="152"/>
                </a:lnTo>
                <a:lnTo>
                  <a:pt x="15" y="159"/>
                </a:lnTo>
                <a:lnTo>
                  <a:pt x="16" y="168"/>
                </a:lnTo>
                <a:lnTo>
                  <a:pt x="17" y="180"/>
                </a:lnTo>
                <a:lnTo>
                  <a:pt x="19" y="196"/>
                </a:lnTo>
                <a:lnTo>
                  <a:pt x="21" y="215"/>
                </a:lnTo>
                <a:lnTo>
                  <a:pt x="23" y="236"/>
                </a:lnTo>
                <a:lnTo>
                  <a:pt x="25" y="260"/>
                </a:lnTo>
                <a:lnTo>
                  <a:pt x="29" y="284"/>
                </a:lnTo>
                <a:lnTo>
                  <a:pt x="33" y="311"/>
                </a:lnTo>
                <a:lnTo>
                  <a:pt x="37" y="337"/>
                </a:lnTo>
                <a:lnTo>
                  <a:pt x="42" y="364"/>
                </a:lnTo>
                <a:lnTo>
                  <a:pt x="46" y="391"/>
                </a:lnTo>
                <a:lnTo>
                  <a:pt x="51" y="419"/>
                </a:lnTo>
                <a:lnTo>
                  <a:pt x="56" y="446"/>
                </a:lnTo>
                <a:lnTo>
                  <a:pt x="61" y="473"/>
                </a:lnTo>
                <a:lnTo>
                  <a:pt x="66" y="498"/>
                </a:lnTo>
                <a:lnTo>
                  <a:pt x="71" y="524"/>
                </a:lnTo>
                <a:lnTo>
                  <a:pt x="76" y="546"/>
                </a:lnTo>
                <a:lnTo>
                  <a:pt x="81" y="568"/>
                </a:lnTo>
                <a:lnTo>
                  <a:pt x="86" y="587"/>
                </a:lnTo>
                <a:lnTo>
                  <a:pt x="91" y="607"/>
                </a:lnTo>
                <a:lnTo>
                  <a:pt x="97" y="628"/>
                </a:lnTo>
                <a:lnTo>
                  <a:pt x="104" y="652"/>
                </a:lnTo>
                <a:lnTo>
                  <a:pt x="113" y="676"/>
                </a:lnTo>
                <a:lnTo>
                  <a:pt x="121" y="703"/>
                </a:lnTo>
                <a:lnTo>
                  <a:pt x="130" y="730"/>
                </a:lnTo>
                <a:lnTo>
                  <a:pt x="139" y="758"/>
                </a:lnTo>
                <a:lnTo>
                  <a:pt x="149" y="785"/>
                </a:lnTo>
                <a:lnTo>
                  <a:pt x="158" y="812"/>
                </a:lnTo>
                <a:lnTo>
                  <a:pt x="168" y="841"/>
                </a:lnTo>
                <a:lnTo>
                  <a:pt x="179" y="868"/>
                </a:lnTo>
                <a:lnTo>
                  <a:pt x="189" y="894"/>
                </a:lnTo>
                <a:lnTo>
                  <a:pt x="198" y="919"/>
                </a:lnTo>
                <a:lnTo>
                  <a:pt x="208" y="942"/>
                </a:lnTo>
                <a:lnTo>
                  <a:pt x="217" y="965"/>
                </a:lnTo>
                <a:lnTo>
                  <a:pt x="227" y="984"/>
                </a:lnTo>
                <a:lnTo>
                  <a:pt x="236" y="1006"/>
                </a:lnTo>
                <a:lnTo>
                  <a:pt x="247" y="1029"/>
                </a:lnTo>
                <a:lnTo>
                  <a:pt x="259" y="1054"/>
                </a:lnTo>
                <a:lnTo>
                  <a:pt x="273" y="1081"/>
                </a:lnTo>
                <a:lnTo>
                  <a:pt x="286" y="1111"/>
                </a:lnTo>
                <a:lnTo>
                  <a:pt x="301" y="1141"/>
                </a:lnTo>
                <a:lnTo>
                  <a:pt x="317" y="1174"/>
                </a:lnTo>
                <a:lnTo>
                  <a:pt x="335" y="1206"/>
                </a:lnTo>
                <a:lnTo>
                  <a:pt x="350" y="1240"/>
                </a:lnTo>
                <a:lnTo>
                  <a:pt x="367" y="1273"/>
                </a:lnTo>
                <a:lnTo>
                  <a:pt x="383" y="1306"/>
                </a:lnTo>
                <a:lnTo>
                  <a:pt x="400" y="1337"/>
                </a:lnTo>
                <a:lnTo>
                  <a:pt x="416" y="1370"/>
                </a:lnTo>
                <a:lnTo>
                  <a:pt x="432" y="1399"/>
                </a:lnTo>
                <a:lnTo>
                  <a:pt x="446" y="1428"/>
                </a:lnTo>
                <a:lnTo>
                  <a:pt x="460" y="1454"/>
                </a:lnTo>
                <a:lnTo>
                  <a:pt x="474" y="1480"/>
                </a:lnTo>
                <a:lnTo>
                  <a:pt x="488" y="1507"/>
                </a:lnTo>
                <a:lnTo>
                  <a:pt x="504" y="1534"/>
                </a:lnTo>
                <a:lnTo>
                  <a:pt x="521" y="1560"/>
                </a:lnTo>
                <a:lnTo>
                  <a:pt x="538" y="1588"/>
                </a:lnTo>
                <a:lnTo>
                  <a:pt x="556" y="1616"/>
                </a:lnTo>
                <a:lnTo>
                  <a:pt x="573" y="1642"/>
                </a:lnTo>
                <a:lnTo>
                  <a:pt x="591" y="1669"/>
                </a:lnTo>
                <a:lnTo>
                  <a:pt x="608" y="1695"/>
                </a:lnTo>
                <a:lnTo>
                  <a:pt x="627" y="1718"/>
                </a:lnTo>
                <a:lnTo>
                  <a:pt x="643" y="1741"/>
                </a:lnTo>
                <a:lnTo>
                  <a:pt x="659" y="1762"/>
                </a:lnTo>
                <a:lnTo>
                  <a:pt x="673" y="1781"/>
                </a:lnTo>
                <a:lnTo>
                  <a:pt x="688" y="1798"/>
                </a:lnTo>
                <a:lnTo>
                  <a:pt x="700" y="1812"/>
                </a:lnTo>
                <a:lnTo>
                  <a:pt x="712" y="1822"/>
                </a:lnTo>
                <a:lnTo>
                  <a:pt x="721" y="1831"/>
                </a:lnTo>
                <a:lnTo>
                  <a:pt x="728" y="1837"/>
                </a:lnTo>
                <a:lnTo>
                  <a:pt x="732" y="1842"/>
                </a:lnTo>
                <a:lnTo>
                  <a:pt x="737" y="1844"/>
                </a:lnTo>
                <a:lnTo>
                  <a:pt x="739" y="1847"/>
                </a:lnTo>
                <a:lnTo>
                  <a:pt x="741" y="1849"/>
                </a:lnTo>
                <a:lnTo>
                  <a:pt x="743" y="1852"/>
                </a:lnTo>
                <a:lnTo>
                  <a:pt x="747" y="1852"/>
                </a:lnTo>
                <a:lnTo>
                  <a:pt x="749" y="1856"/>
                </a:lnTo>
                <a:lnTo>
                  <a:pt x="753" y="1860"/>
                </a:lnTo>
                <a:lnTo>
                  <a:pt x="759" y="1866"/>
                </a:lnTo>
                <a:lnTo>
                  <a:pt x="767" y="1872"/>
                </a:lnTo>
                <a:lnTo>
                  <a:pt x="776" y="1881"/>
                </a:lnTo>
                <a:lnTo>
                  <a:pt x="788" y="1892"/>
                </a:lnTo>
                <a:lnTo>
                  <a:pt x="803" y="1905"/>
                </a:lnTo>
                <a:lnTo>
                  <a:pt x="823" y="1922"/>
                </a:lnTo>
              </a:path>
            </a:pathLst>
          </a:custGeom>
          <a:noFill/>
          <a:ln cap="rnd" w="50760">
            <a:solidFill>
              <a:srgbClr val="8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641760" y="2158920"/>
            <a:ext cx="2454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rva de demand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cion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507520" y="6093000"/>
            <a:ext cx="52236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06560" y="1498680"/>
            <a:ext cx="65088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004960" y="6095880"/>
            <a:ext cx="3524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04160" y="2133720"/>
            <a:ext cx="43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11760" y="3279600"/>
            <a:ext cx="14824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s-ES_tradnl" sz="27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7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27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s-ES_tradnl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52280" y="0"/>
            <a:ext cx="89917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52280" y="0"/>
            <a:ext cx="8991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La pendiente de la curva de demanda condicionada es negativ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08600" y="4267080"/>
            <a:ext cx="3778200" cy="1266840"/>
          </a:xfrm>
          <a:custGeom>
            <a:avLst/>
            <a:gdLst/>
            <a:ahLst/>
            <a:rect l="l" t="t" r="r" b="b"/>
            <a:pathLst>
              <a:path w="2380" h="798">
                <a:moveTo>
                  <a:pt x="505" y="0"/>
                </a:moveTo>
                <a:lnTo>
                  <a:pt x="361" y="5"/>
                </a:lnTo>
                <a:lnTo>
                  <a:pt x="298" y="16"/>
                </a:lnTo>
                <a:lnTo>
                  <a:pt x="235" y="28"/>
                </a:lnTo>
                <a:lnTo>
                  <a:pt x="189" y="39"/>
                </a:lnTo>
                <a:lnTo>
                  <a:pt x="154" y="55"/>
                </a:lnTo>
                <a:lnTo>
                  <a:pt x="136" y="72"/>
                </a:lnTo>
                <a:lnTo>
                  <a:pt x="126" y="89"/>
                </a:lnTo>
                <a:lnTo>
                  <a:pt x="126" y="312"/>
                </a:lnTo>
                <a:lnTo>
                  <a:pt x="126" y="446"/>
                </a:lnTo>
                <a:lnTo>
                  <a:pt x="136" y="462"/>
                </a:lnTo>
                <a:lnTo>
                  <a:pt x="154" y="479"/>
                </a:lnTo>
                <a:lnTo>
                  <a:pt x="189" y="496"/>
                </a:lnTo>
                <a:lnTo>
                  <a:pt x="235" y="513"/>
                </a:lnTo>
                <a:lnTo>
                  <a:pt x="298" y="524"/>
                </a:lnTo>
                <a:lnTo>
                  <a:pt x="361" y="535"/>
                </a:lnTo>
                <a:lnTo>
                  <a:pt x="505" y="541"/>
                </a:lnTo>
                <a:lnTo>
                  <a:pt x="0" y="797"/>
                </a:lnTo>
                <a:lnTo>
                  <a:pt x="1063" y="541"/>
                </a:lnTo>
                <a:lnTo>
                  <a:pt x="2000" y="541"/>
                </a:lnTo>
                <a:lnTo>
                  <a:pt x="2144" y="535"/>
                </a:lnTo>
                <a:lnTo>
                  <a:pt x="2208" y="524"/>
                </a:lnTo>
                <a:lnTo>
                  <a:pt x="2271" y="513"/>
                </a:lnTo>
                <a:lnTo>
                  <a:pt x="2316" y="496"/>
                </a:lnTo>
                <a:lnTo>
                  <a:pt x="2352" y="479"/>
                </a:lnTo>
                <a:lnTo>
                  <a:pt x="2369" y="462"/>
                </a:lnTo>
                <a:lnTo>
                  <a:pt x="2379" y="446"/>
                </a:lnTo>
                <a:lnTo>
                  <a:pt x="2379" y="312"/>
                </a:lnTo>
                <a:lnTo>
                  <a:pt x="2379" y="89"/>
                </a:lnTo>
                <a:lnTo>
                  <a:pt x="2369" y="72"/>
                </a:lnTo>
                <a:lnTo>
                  <a:pt x="2352" y="55"/>
                </a:lnTo>
                <a:lnTo>
                  <a:pt x="2316" y="39"/>
                </a:lnTo>
                <a:lnTo>
                  <a:pt x="2271" y="28"/>
                </a:lnTo>
                <a:lnTo>
                  <a:pt x="2208" y="16"/>
                </a:lnTo>
                <a:lnTo>
                  <a:pt x="2144" y="5"/>
                </a:lnTo>
                <a:lnTo>
                  <a:pt x="2000" y="0"/>
                </a:lnTo>
                <a:lnTo>
                  <a:pt x="1063" y="0"/>
                </a:lnTo>
                <a:lnTo>
                  <a:pt x="505" y="0"/>
                </a:lnTo>
              </a:path>
            </a:pathLst>
          </a:custGeom>
          <a:solidFill>
            <a:srgbClr val="ffff99"/>
          </a:solidFill>
          <a:ln cap="rnd" w="25560">
            <a:solidFill>
              <a:srgbClr val="8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332320" y="4266720"/>
            <a:ext cx="3125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4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) &lt; 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9144000" cy="6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función de demanda condicionada 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17560" y="2452680"/>
            <a:ext cx="766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38080" y="1600200"/>
            <a:ext cx="766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50000"/>
              </a:lnSpc>
              <a:buClr>
                <a:srgbClr val="66ccff"/>
              </a:buClr>
              <a:buSzPct val="70000"/>
              <a:buFont typeface="Monotype Sorts" charset="2"/>
              <a:buChar char="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810000"/>
                </a:solidFill>
                <a:latin typeface="Brush738 BT"/>
              </a:rPr>
              <a:t>La no-convexidad de  </a:t>
            </a:r>
            <a:r>
              <a:rPr b="1" i="1" lang="es-ES_tradnl" sz="3200" spc="-1" strike="noStrike">
                <a:solidFill>
                  <a:srgbClr val="810000"/>
                </a:solidFill>
                <a:latin typeface="Times New Roman"/>
              </a:rPr>
              <a:t>Z </a:t>
            </a:r>
            <a:r>
              <a:rPr b="0" lang="es-ES_tradnl" sz="3200" spc="-1" strike="noStrike">
                <a:solidFill>
                  <a:srgbClr val="81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810000"/>
                </a:solidFill>
                <a:latin typeface="Times New Roman"/>
              </a:rPr>
              <a:t>produce discontinuidad en </a:t>
            </a:r>
            <a:r>
              <a:rPr b="0" lang="es-ES_tradnl" sz="3200" spc="-1" strike="noStrike">
                <a:solidFill>
                  <a:srgbClr val="810000"/>
                </a:solidFill>
                <a:latin typeface="Brush738 BT"/>
              </a:rPr>
              <a:t> </a:t>
            </a:r>
            <a:r>
              <a:rPr b="0" i="1" lang="es-ES_tradnl" sz="3200" spc="-1" strike="noStrike">
                <a:solidFill>
                  <a:srgbClr val="81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17560" y="3276720"/>
            <a:ext cx="766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00000"/>
              </a:lnSpc>
              <a:buClr>
                <a:srgbClr val="66ccff"/>
              </a:buClr>
              <a:buSzPct val="70000"/>
              <a:buFont typeface="Monotype Sorts" charset="2"/>
              <a:buChar char="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10000"/>
                </a:solidFill>
                <a:latin typeface="Brush738 BT"/>
              </a:rPr>
              <a:t> </a:t>
            </a:r>
            <a:r>
              <a:rPr b="1" lang="en-US" sz="3200" spc="-1" strike="noStrike">
                <a:solidFill>
                  <a:srgbClr val="810000"/>
                </a:solidFill>
                <a:latin typeface="Brush738 BT"/>
              </a:rPr>
              <a:t>Los efectos precio cruzados son simét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066680" y="4038480"/>
            <a:ext cx="766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4572000"/>
            <a:ext cx="766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lnSpc>
                <a:spcPct val="150000"/>
              </a:lnSpc>
              <a:buClr>
                <a:srgbClr val="66ccff"/>
              </a:buClr>
              <a:buSzPct val="70000"/>
              <a:buFont typeface="Monotype Sorts" charset="2"/>
              <a:buChar char="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810000"/>
                </a:solidFill>
                <a:latin typeface="Brush738 BT"/>
              </a:rPr>
              <a:t> </a:t>
            </a:r>
            <a:r>
              <a:rPr b="1" lang="es-ES_tradnl" sz="3200" spc="-1" strike="noStrike">
                <a:solidFill>
                  <a:srgbClr val="810000"/>
                </a:solidFill>
                <a:latin typeface="Brush738 BT"/>
              </a:rPr>
              <a:t>La demanda de x en respuesta a su propio precio P</a:t>
            </a:r>
            <a:r>
              <a:rPr b="1" lang="es-ES_tradnl" sz="3200" spc="-1" strike="noStrike" baseline="-25000">
                <a:solidFill>
                  <a:srgbClr val="810000"/>
                </a:solidFill>
                <a:latin typeface="Brush738 BT"/>
              </a:rPr>
              <a:t>x</a:t>
            </a:r>
            <a:r>
              <a:rPr b="1" lang="es-ES_tradnl" sz="3200" spc="-1" strike="noStrike">
                <a:solidFill>
                  <a:srgbClr val="810000"/>
                </a:solidFill>
                <a:latin typeface="Brush738 BT"/>
              </a:rPr>
              <a:t>  posee pendiente negativ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420840" y="1531800"/>
            <a:ext cx="8388360" cy="50594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960" y="1989000"/>
            <a:ext cx="7791480" cy="4318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65680" y="2136600"/>
            <a:ext cx="18525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28960" y="2052720"/>
            <a:ext cx="18496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28960" y="2052720"/>
            <a:ext cx="18496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38840" y="2438280"/>
            <a:ext cx="1402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A FI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1520" y="3606840"/>
            <a:ext cx="1854000" cy="1057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39520" y="3886200"/>
            <a:ext cx="1536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8440" y="5180040"/>
            <a:ext cx="1855800" cy="1058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90880" y="5226120"/>
            <a:ext cx="169092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919840" y="5175360"/>
            <a:ext cx="1854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02280" y="5221440"/>
            <a:ext cx="16891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manda de factor ordina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666880" y="4695840"/>
            <a:ext cx="4127760" cy="480960"/>
            <a:chOff x="2666880" y="4695840"/>
            <a:chExt cx="4127760" cy="480960"/>
          </a:xfrm>
        </p:grpSpPr>
        <p:sp>
          <p:nvSpPr>
            <p:cNvPr id="551" name=""/>
            <p:cNvSpPr/>
            <p:nvPr/>
          </p:nvSpPr>
          <p:spPr>
            <a:xfrm>
              <a:off x="3713040" y="4695840"/>
              <a:ext cx="180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666880" y="4959360"/>
              <a:ext cx="180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29320" y="4959360"/>
              <a:ext cx="144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92840" y="4959360"/>
              <a:ext cx="180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673360" y="4952880"/>
              <a:ext cx="1039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19520" y="4952880"/>
              <a:ext cx="100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35440" y="4952880"/>
              <a:ext cx="2057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1643040" y="3116160"/>
            <a:ext cx="6191280" cy="480960"/>
            <a:chOff x="1643040" y="3116160"/>
            <a:chExt cx="6191280" cy="480960"/>
          </a:xfrm>
        </p:grpSpPr>
        <p:sp>
          <p:nvSpPr>
            <p:cNvPr id="559" name=""/>
            <p:cNvSpPr/>
            <p:nvPr/>
          </p:nvSpPr>
          <p:spPr>
            <a:xfrm>
              <a:off x="4753080" y="3116160"/>
              <a:ext cx="144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43040" y="3379680"/>
              <a:ext cx="144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706920" y="3379680"/>
              <a:ext cx="144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69000" y="3379680"/>
              <a:ext cx="144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832880" y="3379680"/>
              <a:ext cx="144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49520" y="3373560"/>
              <a:ext cx="20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13040" y="3373560"/>
              <a:ext cx="1040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759200" y="3373560"/>
              <a:ext cx="100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75480" y="3373560"/>
              <a:ext cx="20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2665440" y="3608280"/>
            <a:ext cx="20271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tim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48120" y="3606840"/>
            <a:ext cx="1854360" cy="1057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945480" y="3606840"/>
            <a:ext cx="1854000" cy="1057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3733920"/>
            <a:ext cx="2192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ática Comparad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66080" y="3697200"/>
            <a:ext cx="1611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firma y el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22440" y="5180040"/>
            <a:ext cx="2006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4880" y="5226120"/>
            <a:ext cx="18417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manda condicional del fa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523880" y="5181480"/>
            <a:ext cx="2082960" cy="105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523880" y="5181480"/>
            <a:ext cx="20764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manda condicional del fa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42160" y="5180040"/>
            <a:ext cx="1854000" cy="11444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24600" y="5226120"/>
            <a:ext cx="16891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manda de factor ordina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60920" y="4876920"/>
            <a:ext cx="2260440" cy="1819080"/>
          </a:xfrm>
          <a:custGeom>
            <a:avLst/>
            <a:gdLst/>
            <a:ahLst/>
            <a:rect l="l" t="t" r="r" b="b"/>
            <a:pathLst>
              <a:path w="1424" h="1146">
                <a:moveTo>
                  <a:pt x="122" y="255"/>
                </a:moveTo>
                <a:lnTo>
                  <a:pt x="60" y="348"/>
                </a:lnTo>
                <a:lnTo>
                  <a:pt x="19" y="443"/>
                </a:lnTo>
                <a:lnTo>
                  <a:pt x="1" y="537"/>
                </a:lnTo>
                <a:lnTo>
                  <a:pt x="0" y="584"/>
                </a:lnTo>
                <a:lnTo>
                  <a:pt x="4" y="631"/>
                </a:lnTo>
                <a:lnTo>
                  <a:pt x="65" y="804"/>
                </a:lnTo>
                <a:lnTo>
                  <a:pt x="190" y="955"/>
                </a:lnTo>
                <a:lnTo>
                  <a:pt x="364" y="1067"/>
                </a:lnTo>
                <a:lnTo>
                  <a:pt x="575" y="1134"/>
                </a:lnTo>
                <a:lnTo>
                  <a:pt x="688" y="1145"/>
                </a:lnTo>
                <a:lnTo>
                  <a:pt x="748" y="1145"/>
                </a:lnTo>
                <a:lnTo>
                  <a:pt x="808" y="1140"/>
                </a:lnTo>
                <a:lnTo>
                  <a:pt x="1052" y="1074"/>
                </a:lnTo>
                <a:lnTo>
                  <a:pt x="1162" y="1015"/>
                </a:lnTo>
                <a:lnTo>
                  <a:pt x="1252" y="947"/>
                </a:lnTo>
                <a:lnTo>
                  <a:pt x="1322" y="869"/>
                </a:lnTo>
                <a:lnTo>
                  <a:pt x="1374" y="786"/>
                </a:lnTo>
                <a:lnTo>
                  <a:pt x="1422" y="609"/>
                </a:lnTo>
                <a:lnTo>
                  <a:pt x="1423" y="564"/>
                </a:lnTo>
                <a:lnTo>
                  <a:pt x="1419" y="518"/>
                </a:lnTo>
                <a:lnTo>
                  <a:pt x="1399" y="428"/>
                </a:lnTo>
                <a:lnTo>
                  <a:pt x="1312" y="262"/>
                </a:lnTo>
                <a:lnTo>
                  <a:pt x="1246" y="189"/>
                </a:lnTo>
                <a:lnTo>
                  <a:pt x="1164" y="125"/>
                </a:lnTo>
                <a:lnTo>
                  <a:pt x="1070" y="73"/>
                </a:lnTo>
                <a:lnTo>
                  <a:pt x="961" y="33"/>
                </a:lnTo>
                <a:lnTo>
                  <a:pt x="841" y="7"/>
                </a:lnTo>
                <a:lnTo>
                  <a:pt x="775" y="1"/>
                </a:lnTo>
                <a:lnTo>
                  <a:pt x="706" y="0"/>
                </a:lnTo>
              </a:path>
            </a:pathLst>
          </a:custGeom>
          <a:noFill/>
          <a:ln cap="rnd" w="7632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536040" y="774720"/>
            <a:ext cx="85950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Problemas de la CAJA NEGR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04280" y="701640"/>
            <a:ext cx="8595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norá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981080"/>
            <a:ext cx="7791480" cy="4318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65680" y="2136600"/>
            <a:ext cx="18525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643040" y="3116160"/>
            <a:ext cx="6191280" cy="830520"/>
            <a:chOff x="1643040" y="3116160"/>
            <a:chExt cx="6191280" cy="830520"/>
          </a:xfrm>
        </p:grpSpPr>
        <p:sp>
          <p:nvSpPr>
            <p:cNvPr id="74" name=""/>
            <p:cNvSpPr/>
            <p:nvPr/>
          </p:nvSpPr>
          <p:spPr>
            <a:xfrm>
              <a:off x="4753080" y="3116160"/>
              <a:ext cx="144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43040" y="3568680"/>
              <a:ext cx="1440" cy="3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06920" y="3568680"/>
              <a:ext cx="1440" cy="3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69000" y="3568680"/>
              <a:ext cx="1440" cy="3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32880" y="3568680"/>
              <a:ext cx="1440" cy="3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49520" y="3562200"/>
              <a:ext cx="2057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13040" y="3562200"/>
              <a:ext cx="1040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59200" y="3562200"/>
              <a:ext cx="100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75480" y="3562200"/>
              <a:ext cx="2057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41520" y="3965400"/>
            <a:ext cx="1873080" cy="1816200"/>
            <a:chOff x="641520" y="3965400"/>
            <a:chExt cx="1873080" cy="1816200"/>
          </a:xfrm>
        </p:grpSpPr>
        <p:sp>
          <p:nvSpPr>
            <p:cNvPr id="84" name=""/>
            <p:cNvSpPr/>
            <p:nvPr/>
          </p:nvSpPr>
          <p:spPr>
            <a:xfrm>
              <a:off x="641520" y="3965400"/>
              <a:ext cx="1854000" cy="1816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2120" y="4794120"/>
              <a:ext cx="175248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741760" y="3960720"/>
            <a:ext cx="1963440" cy="1739880"/>
            <a:chOff x="2741760" y="3960720"/>
            <a:chExt cx="1963440" cy="1739880"/>
          </a:xfrm>
        </p:grpSpPr>
        <p:sp>
          <p:nvSpPr>
            <p:cNvPr id="87" name=""/>
            <p:cNvSpPr/>
            <p:nvPr/>
          </p:nvSpPr>
          <p:spPr>
            <a:xfrm>
              <a:off x="2741760" y="3960720"/>
              <a:ext cx="1963440" cy="17398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95480" y="4648320"/>
              <a:ext cx="1752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ptimiz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943680" y="3965400"/>
            <a:ext cx="1855800" cy="1816200"/>
            <a:chOff x="6943680" y="3965400"/>
            <a:chExt cx="1855800" cy="1816200"/>
          </a:xfrm>
        </p:grpSpPr>
        <p:sp>
          <p:nvSpPr>
            <p:cNvPr id="90" name=""/>
            <p:cNvSpPr/>
            <p:nvPr/>
          </p:nvSpPr>
          <p:spPr>
            <a:xfrm>
              <a:off x="6943680" y="3965400"/>
              <a:ext cx="1855800" cy="1816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64280" y="4303800"/>
              <a:ext cx="161316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La firm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El mercad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800600" y="3960720"/>
            <a:ext cx="2192400" cy="1816200"/>
            <a:chOff x="4800600" y="3960720"/>
            <a:chExt cx="2192400" cy="1816200"/>
          </a:xfrm>
        </p:grpSpPr>
        <p:grpSp>
          <p:nvGrpSpPr>
            <p:cNvPr id="93" name=""/>
            <p:cNvGrpSpPr/>
            <p:nvPr/>
          </p:nvGrpSpPr>
          <p:grpSpPr>
            <a:xfrm>
              <a:off x="4800600" y="3960720"/>
              <a:ext cx="2192400" cy="1816200"/>
              <a:chOff x="4800600" y="3960720"/>
              <a:chExt cx="2192400" cy="1816200"/>
            </a:xfrm>
          </p:grpSpPr>
          <p:sp>
            <p:nvSpPr>
              <p:cNvPr id="94" name=""/>
              <p:cNvSpPr/>
              <p:nvPr/>
            </p:nvSpPr>
            <p:spPr>
              <a:xfrm>
                <a:off x="4937040" y="3960720"/>
                <a:ext cx="1855800" cy="18162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3080" rIns="73080" tIns="36360" bIns="36360" anchor="t">
                <a:noAutofit/>
              </a:bodyPr>
              <a:p>
                <a:pPr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00600" y="4500720"/>
                <a:ext cx="219240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080" rIns="73080" tIns="36360" bIns="36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Estática Comparad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4800600" y="4500720"/>
              <a:ext cx="21924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23760" bIns="23760" anchor="t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741760" y="3884760"/>
            <a:ext cx="2058840" cy="1815840"/>
            <a:chOff x="2741760" y="3884760"/>
            <a:chExt cx="2058840" cy="1815840"/>
          </a:xfrm>
        </p:grpSpPr>
        <p:sp>
          <p:nvSpPr>
            <p:cNvPr id="98" name=""/>
            <p:cNvSpPr/>
            <p:nvPr/>
          </p:nvSpPr>
          <p:spPr>
            <a:xfrm>
              <a:off x="2741760" y="3884760"/>
              <a:ext cx="2023920" cy="1815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7520" rIns="47520" tIns="23760" bIns="23760" anchor="t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03680" y="4556160"/>
              <a:ext cx="1996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Optimizació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932520" y="3960720"/>
            <a:ext cx="1854360" cy="1816200"/>
            <a:chOff x="6932520" y="3960720"/>
            <a:chExt cx="1854360" cy="1816200"/>
          </a:xfrm>
        </p:grpSpPr>
        <p:sp>
          <p:nvSpPr>
            <p:cNvPr id="101" name=""/>
            <p:cNvSpPr/>
            <p:nvPr/>
          </p:nvSpPr>
          <p:spPr>
            <a:xfrm>
              <a:off x="6932520" y="3960720"/>
              <a:ext cx="1854360" cy="1816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7520" rIns="47520" tIns="23760" bIns="23760" anchor="t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53120" y="4299120"/>
              <a:ext cx="161136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23760" bIns="23760" anchor="t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La firm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El mercado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84360" y="3960720"/>
            <a:ext cx="1854000" cy="1816200"/>
            <a:chOff x="684360" y="3960720"/>
            <a:chExt cx="1854000" cy="1816200"/>
          </a:xfrm>
        </p:grpSpPr>
        <p:sp>
          <p:nvSpPr>
            <p:cNvPr id="104" name=""/>
            <p:cNvSpPr/>
            <p:nvPr/>
          </p:nvSpPr>
          <p:spPr>
            <a:xfrm>
              <a:off x="684360" y="3960720"/>
              <a:ext cx="1854000" cy="1816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7520" rIns="47520" tIns="23760" bIns="23760" anchor="t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5800" y="4572000"/>
              <a:ext cx="1752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191120" y="3657600"/>
            <a:ext cx="3475080" cy="2606760"/>
          </a:xfrm>
          <a:custGeom>
            <a:avLst/>
            <a:gdLst/>
            <a:ahLst/>
            <a:rect l="l" t="t" r="r" b="b"/>
            <a:pathLst>
              <a:path w="2189" h="1642">
                <a:moveTo>
                  <a:pt x="186" y="365"/>
                </a:moveTo>
                <a:lnTo>
                  <a:pt x="87" y="501"/>
                </a:lnTo>
                <a:lnTo>
                  <a:pt x="27" y="637"/>
                </a:lnTo>
                <a:lnTo>
                  <a:pt x="0" y="773"/>
                </a:lnTo>
                <a:lnTo>
                  <a:pt x="5" y="906"/>
                </a:lnTo>
                <a:lnTo>
                  <a:pt x="38" y="1035"/>
                </a:lnTo>
                <a:lnTo>
                  <a:pt x="100" y="1156"/>
                </a:lnTo>
                <a:lnTo>
                  <a:pt x="185" y="1268"/>
                </a:lnTo>
                <a:lnTo>
                  <a:pt x="292" y="1369"/>
                </a:lnTo>
                <a:lnTo>
                  <a:pt x="417" y="1459"/>
                </a:lnTo>
                <a:lnTo>
                  <a:pt x="559" y="1532"/>
                </a:lnTo>
                <a:lnTo>
                  <a:pt x="715" y="1589"/>
                </a:lnTo>
                <a:lnTo>
                  <a:pt x="883" y="1624"/>
                </a:lnTo>
                <a:lnTo>
                  <a:pt x="1060" y="1641"/>
                </a:lnTo>
                <a:lnTo>
                  <a:pt x="1243" y="1633"/>
                </a:lnTo>
                <a:lnTo>
                  <a:pt x="1429" y="1600"/>
                </a:lnTo>
                <a:lnTo>
                  <a:pt x="1618" y="1538"/>
                </a:lnTo>
                <a:lnTo>
                  <a:pt x="1788" y="1454"/>
                </a:lnTo>
                <a:lnTo>
                  <a:pt x="1927" y="1355"/>
                </a:lnTo>
                <a:lnTo>
                  <a:pt x="2036" y="1245"/>
                </a:lnTo>
                <a:lnTo>
                  <a:pt x="2116" y="1125"/>
                </a:lnTo>
                <a:lnTo>
                  <a:pt x="2165" y="1000"/>
                </a:lnTo>
                <a:lnTo>
                  <a:pt x="2188" y="871"/>
                </a:lnTo>
                <a:lnTo>
                  <a:pt x="2183" y="742"/>
                </a:lnTo>
                <a:lnTo>
                  <a:pt x="2153" y="612"/>
                </a:lnTo>
                <a:lnTo>
                  <a:pt x="2097" y="491"/>
                </a:lnTo>
                <a:lnTo>
                  <a:pt x="2017" y="375"/>
                </a:lnTo>
                <a:lnTo>
                  <a:pt x="1914" y="271"/>
                </a:lnTo>
                <a:lnTo>
                  <a:pt x="1790" y="180"/>
                </a:lnTo>
                <a:lnTo>
                  <a:pt x="1643" y="105"/>
                </a:lnTo>
                <a:lnTo>
                  <a:pt x="1477" y="48"/>
                </a:lnTo>
                <a:lnTo>
                  <a:pt x="1291" y="12"/>
                </a:lnTo>
                <a:lnTo>
                  <a:pt x="1087" y="0"/>
                </a:lnTo>
              </a:path>
            </a:pathLst>
          </a:custGeom>
          <a:noFill/>
          <a:ln cap="rnd" w="12708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28960" y="2052720"/>
            <a:ext cx="18496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404280" y="1371600"/>
            <a:ext cx="85950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a  segunda etapa del  proble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484280" y="3025800"/>
            <a:ext cx="453564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PQ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sujeto a  </a:t>
            </a: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4761000" y="3200400"/>
            <a:ext cx="4383000" cy="2846520"/>
            <a:chOff x="4761000" y="3200400"/>
            <a:chExt cx="4383000" cy="2846520"/>
          </a:xfrm>
        </p:grpSpPr>
        <p:sp>
          <p:nvSpPr>
            <p:cNvPr id="584" name=""/>
            <p:cNvSpPr/>
            <p:nvPr/>
          </p:nvSpPr>
          <p:spPr>
            <a:xfrm>
              <a:off x="4761000" y="3200400"/>
              <a:ext cx="4383000" cy="2846520"/>
            </a:xfrm>
            <a:custGeom>
              <a:avLst/>
              <a:gdLst/>
              <a:ahLst/>
              <a:rect l="l" t="t" r="r" b="b"/>
              <a:pathLst>
                <a:path w="2761" h="1793">
                  <a:moveTo>
                    <a:pt x="2760" y="880"/>
                  </a:moveTo>
                  <a:lnTo>
                    <a:pt x="2760" y="880"/>
                  </a:lnTo>
                  <a:lnTo>
                    <a:pt x="1134" y="0"/>
                  </a:lnTo>
                  <a:lnTo>
                    <a:pt x="1323" y="440"/>
                  </a:lnTo>
                  <a:lnTo>
                    <a:pt x="0" y="440"/>
                  </a:lnTo>
                  <a:lnTo>
                    <a:pt x="0" y="1382"/>
                  </a:lnTo>
                  <a:lnTo>
                    <a:pt x="1323" y="1382"/>
                  </a:lnTo>
                  <a:lnTo>
                    <a:pt x="1134" y="1792"/>
                  </a:lnTo>
                  <a:lnTo>
                    <a:pt x="2760" y="88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34080" y="4017960"/>
              <a:ext cx="3773520" cy="11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Arial"/>
                </a:rPr>
                <a:t>Producción óptima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04280" y="1623600"/>
            <a:ext cx="859500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(las segundas funciones de respuesta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1486080" y="3016080"/>
            <a:ext cx="6365520" cy="1330560"/>
          </a:xfrm>
          <a:prstGeom prst="roundRect">
            <a:avLst>
              <a:gd name="adj" fmla="val 6208"/>
            </a:avLst>
          </a:prstGeom>
          <a:solidFill>
            <a:srgbClr val="ffffc2"/>
          </a:solidFill>
          <a:ln w="1260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606680" y="3224160"/>
            <a:ext cx="56642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* = 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952880" y="3809880"/>
            <a:ext cx="2895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400080"/>
                </a:solidFill>
                <a:latin typeface="Arial"/>
              </a:rPr>
              <a:t>Oferta del produc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7160" y="4876920"/>
            <a:ext cx="868824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Brush738 BT"/>
              </a:rPr>
              <a:t>Necesitamos examinar la segunda etapa del proceso de optimizació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588960" y="3352680"/>
            <a:ext cx="3270240" cy="2210040"/>
            <a:chOff x="588960" y="3352680"/>
            <a:chExt cx="3270240" cy="2210040"/>
          </a:xfrm>
        </p:grpSpPr>
        <p:sp>
          <p:nvSpPr>
            <p:cNvPr id="592" name=""/>
            <p:cNvSpPr/>
            <p:nvPr/>
          </p:nvSpPr>
          <p:spPr>
            <a:xfrm>
              <a:off x="992160" y="3602160"/>
              <a:ext cx="2665440" cy="1187280"/>
            </a:xfrm>
            <a:custGeom>
              <a:avLst/>
              <a:gdLst/>
              <a:ahLst/>
              <a:rect l="l" t="t" r="r" b="b"/>
              <a:pathLst>
                <a:path w="1679" h="748">
                  <a:moveTo>
                    <a:pt x="0" y="0"/>
                  </a:moveTo>
                  <a:lnTo>
                    <a:pt x="1678" y="0"/>
                  </a:lnTo>
                  <a:lnTo>
                    <a:pt x="1678" y="747"/>
                  </a:lnTo>
                </a:path>
              </a:pathLst>
            </a:custGeom>
            <a:noFill/>
            <a:ln cap="rnd" w="25560">
              <a:solidFill>
                <a:srgbClr val="ff66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88960" y="335268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29000" y="4960800"/>
              <a:ext cx="43020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859464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 un</a:t>
            </a: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dado, existe un </a:t>
            </a: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óptim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76520" y="2274840"/>
            <a:ext cx="3935160" cy="1673280"/>
          </a:xfrm>
          <a:custGeom>
            <a:avLst/>
            <a:gdLst/>
            <a:ahLst/>
            <a:rect l="l" t="t" r="r" b="b"/>
            <a:pathLst>
              <a:path w="2479" h="1054">
                <a:moveTo>
                  <a:pt x="0" y="154"/>
                </a:moveTo>
                <a:lnTo>
                  <a:pt x="9" y="191"/>
                </a:lnTo>
                <a:lnTo>
                  <a:pt x="16" y="220"/>
                </a:lnTo>
                <a:lnTo>
                  <a:pt x="23" y="243"/>
                </a:lnTo>
                <a:lnTo>
                  <a:pt x="27" y="260"/>
                </a:lnTo>
                <a:lnTo>
                  <a:pt x="30" y="275"/>
                </a:lnTo>
                <a:lnTo>
                  <a:pt x="34" y="285"/>
                </a:lnTo>
                <a:lnTo>
                  <a:pt x="35" y="293"/>
                </a:lnTo>
                <a:lnTo>
                  <a:pt x="38" y="297"/>
                </a:lnTo>
                <a:lnTo>
                  <a:pt x="38" y="303"/>
                </a:lnTo>
                <a:lnTo>
                  <a:pt x="39" y="306"/>
                </a:lnTo>
                <a:lnTo>
                  <a:pt x="41" y="311"/>
                </a:lnTo>
                <a:lnTo>
                  <a:pt x="42" y="316"/>
                </a:lnTo>
                <a:lnTo>
                  <a:pt x="44" y="323"/>
                </a:lnTo>
                <a:lnTo>
                  <a:pt x="46" y="333"/>
                </a:lnTo>
                <a:lnTo>
                  <a:pt x="50" y="346"/>
                </a:lnTo>
                <a:lnTo>
                  <a:pt x="55" y="363"/>
                </a:lnTo>
                <a:lnTo>
                  <a:pt x="60" y="383"/>
                </a:lnTo>
                <a:lnTo>
                  <a:pt x="66" y="405"/>
                </a:lnTo>
                <a:lnTo>
                  <a:pt x="74" y="427"/>
                </a:lnTo>
                <a:lnTo>
                  <a:pt x="82" y="450"/>
                </a:lnTo>
                <a:lnTo>
                  <a:pt x="89" y="475"/>
                </a:lnTo>
                <a:lnTo>
                  <a:pt x="98" y="497"/>
                </a:lnTo>
                <a:lnTo>
                  <a:pt x="107" y="521"/>
                </a:lnTo>
                <a:lnTo>
                  <a:pt x="117" y="544"/>
                </a:lnTo>
                <a:lnTo>
                  <a:pt x="125" y="568"/>
                </a:lnTo>
                <a:lnTo>
                  <a:pt x="136" y="591"/>
                </a:lnTo>
                <a:lnTo>
                  <a:pt x="145" y="613"/>
                </a:lnTo>
                <a:lnTo>
                  <a:pt x="155" y="632"/>
                </a:lnTo>
                <a:lnTo>
                  <a:pt x="164" y="652"/>
                </a:lnTo>
                <a:lnTo>
                  <a:pt x="173" y="669"/>
                </a:lnTo>
                <a:lnTo>
                  <a:pt x="181" y="684"/>
                </a:lnTo>
                <a:lnTo>
                  <a:pt x="190" y="696"/>
                </a:lnTo>
                <a:lnTo>
                  <a:pt x="197" y="709"/>
                </a:lnTo>
                <a:lnTo>
                  <a:pt x="205" y="721"/>
                </a:lnTo>
                <a:lnTo>
                  <a:pt x="215" y="736"/>
                </a:lnTo>
                <a:lnTo>
                  <a:pt x="225" y="750"/>
                </a:lnTo>
                <a:lnTo>
                  <a:pt x="235" y="764"/>
                </a:lnTo>
                <a:lnTo>
                  <a:pt x="246" y="778"/>
                </a:lnTo>
                <a:lnTo>
                  <a:pt x="257" y="793"/>
                </a:lnTo>
                <a:lnTo>
                  <a:pt x="269" y="806"/>
                </a:lnTo>
                <a:lnTo>
                  <a:pt x="279" y="821"/>
                </a:lnTo>
                <a:lnTo>
                  <a:pt x="291" y="835"/>
                </a:lnTo>
                <a:lnTo>
                  <a:pt x="301" y="848"/>
                </a:lnTo>
                <a:lnTo>
                  <a:pt x="313" y="860"/>
                </a:lnTo>
                <a:lnTo>
                  <a:pt x="322" y="871"/>
                </a:lnTo>
                <a:lnTo>
                  <a:pt x="332" y="882"/>
                </a:lnTo>
                <a:lnTo>
                  <a:pt x="341" y="892"/>
                </a:lnTo>
                <a:lnTo>
                  <a:pt x="350" y="899"/>
                </a:lnTo>
                <a:lnTo>
                  <a:pt x="357" y="907"/>
                </a:lnTo>
                <a:lnTo>
                  <a:pt x="367" y="915"/>
                </a:lnTo>
                <a:lnTo>
                  <a:pt x="378" y="923"/>
                </a:lnTo>
                <a:lnTo>
                  <a:pt x="393" y="931"/>
                </a:lnTo>
                <a:lnTo>
                  <a:pt x="406" y="939"/>
                </a:lnTo>
                <a:lnTo>
                  <a:pt x="422" y="948"/>
                </a:lnTo>
                <a:lnTo>
                  <a:pt x="438" y="956"/>
                </a:lnTo>
                <a:lnTo>
                  <a:pt x="455" y="965"/>
                </a:lnTo>
                <a:lnTo>
                  <a:pt x="473" y="973"/>
                </a:lnTo>
                <a:lnTo>
                  <a:pt x="491" y="981"/>
                </a:lnTo>
                <a:lnTo>
                  <a:pt x="508" y="988"/>
                </a:lnTo>
                <a:lnTo>
                  <a:pt x="526" y="995"/>
                </a:lnTo>
                <a:lnTo>
                  <a:pt x="544" y="1001"/>
                </a:lnTo>
                <a:lnTo>
                  <a:pt x="562" y="1006"/>
                </a:lnTo>
                <a:lnTo>
                  <a:pt x="578" y="1011"/>
                </a:lnTo>
                <a:lnTo>
                  <a:pt x="595" y="1014"/>
                </a:lnTo>
                <a:lnTo>
                  <a:pt x="610" y="1020"/>
                </a:lnTo>
                <a:lnTo>
                  <a:pt x="626" y="1023"/>
                </a:lnTo>
                <a:lnTo>
                  <a:pt x="644" y="1026"/>
                </a:lnTo>
                <a:lnTo>
                  <a:pt x="661" y="1029"/>
                </a:lnTo>
                <a:lnTo>
                  <a:pt x="678" y="1033"/>
                </a:lnTo>
                <a:lnTo>
                  <a:pt x="696" y="1035"/>
                </a:lnTo>
                <a:lnTo>
                  <a:pt x="714" y="1039"/>
                </a:lnTo>
                <a:lnTo>
                  <a:pt x="733" y="1042"/>
                </a:lnTo>
                <a:lnTo>
                  <a:pt x="748" y="1044"/>
                </a:lnTo>
                <a:lnTo>
                  <a:pt x="765" y="1047"/>
                </a:lnTo>
                <a:lnTo>
                  <a:pt x="780" y="1049"/>
                </a:lnTo>
                <a:lnTo>
                  <a:pt x="795" y="1050"/>
                </a:lnTo>
                <a:lnTo>
                  <a:pt x="808" y="1052"/>
                </a:lnTo>
                <a:lnTo>
                  <a:pt x="821" y="1052"/>
                </a:lnTo>
                <a:lnTo>
                  <a:pt x="831" y="1053"/>
                </a:lnTo>
                <a:lnTo>
                  <a:pt x="840" y="1053"/>
                </a:lnTo>
                <a:lnTo>
                  <a:pt x="847" y="1053"/>
                </a:lnTo>
                <a:lnTo>
                  <a:pt x="857" y="1053"/>
                </a:lnTo>
                <a:lnTo>
                  <a:pt x="869" y="1052"/>
                </a:lnTo>
                <a:lnTo>
                  <a:pt x="883" y="1050"/>
                </a:lnTo>
                <a:lnTo>
                  <a:pt x="896" y="1050"/>
                </a:lnTo>
                <a:lnTo>
                  <a:pt x="912" y="1048"/>
                </a:lnTo>
                <a:lnTo>
                  <a:pt x="928" y="1046"/>
                </a:lnTo>
                <a:lnTo>
                  <a:pt x="945" y="1043"/>
                </a:lnTo>
                <a:lnTo>
                  <a:pt x="963" y="1042"/>
                </a:lnTo>
                <a:lnTo>
                  <a:pt x="980" y="1038"/>
                </a:lnTo>
                <a:lnTo>
                  <a:pt x="997" y="1035"/>
                </a:lnTo>
                <a:lnTo>
                  <a:pt x="1016" y="1033"/>
                </a:lnTo>
                <a:lnTo>
                  <a:pt x="1034" y="1029"/>
                </a:lnTo>
                <a:lnTo>
                  <a:pt x="1051" y="1026"/>
                </a:lnTo>
                <a:lnTo>
                  <a:pt x="1067" y="1023"/>
                </a:lnTo>
                <a:lnTo>
                  <a:pt x="1085" y="1020"/>
                </a:lnTo>
                <a:lnTo>
                  <a:pt x="1100" y="1017"/>
                </a:lnTo>
                <a:lnTo>
                  <a:pt x="1116" y="1013"/>
                </a:lnTo>
                <a:lnTo>
                  <a:pt x="1135" y="1009"/>
                </a:lnTo>
                <a:lnTo>
                  <a:pt x="1154" y="1004"/>
                </a:lnTo>
                <a:lnTo>
                  <a:pt x="1173" y="999"/>
                </a:lnTo>
                <a:lnTo>
                  <a:pt x="1192" y="994"/>
                </a:lnTo>
                <a:lnTo>
                  <a:pt x="1211" y="990"/>
                </a:lnTo>
                <a:lnTo>
                  <a:pt x="1232" y="983"/>
                </a:lnTo>
                <a:lnTo>
                  <a:pt x="1250" y="978"/>
                </a:lnTo>
                <a:lnTo>
                  <a:pt x="1269" y="973"/>
                </a:lnTo>
                <a:lnTo>
                  <a:pt x="1286" y="968"/>
                </a:lnTo>
                <a:lnTo>
                  <a:pt x="1304" y="961"/>
                </a:lnTo>
                <a:lnTo>
                  <a:pt x="1319" y="956"/>
                </a:lnTo>
                <a:lnTo>
                  <a:pt x="1334" y="951"/>
                </a:lnTo>
                <a:lnTo>
                  <a:pt x="1347" y="947"/>
                </a:lnTo>
                <a:lnTo>
                  <a:pt x="1360" y="942"/>
                </a:lnTo>
                <a:lnTo>
                  <a:pt x="1370" y="938"/>
                </a:lnTo>
                <a:lnTo>
                  <a:pt x="1384" y="932"/>
                </a:lnTo>
                <a:lnTo>
                  <a:pt x="1397" y="926"/>
                </a:lnTo>
                <a:lnTo>
                  <a:pt x="1414" y="919"/>
                </a:lnTo>
                <a:lnTo>
                  <a:pt x="1430" y="911"/>
                </a:lnTo>
                <a:lnTo>
                  <a:pt x="1448" y="902"/>
                </a:lnTo>
                <a:lnTo>
                  <a:pt x="1466" y="893"/>
                </a:lnTo>
                <a:lnTo>
                  <a:pt x="1485" y="882"/>
                </a:lnTo>
                <a:lnTo>
                  <a:pt x="1504" y="872"/>
                </a:lnTo>
                <a:lnTo>
                  <a:pt x="1524" y="863"/>
                </a:lnTo>
                <a:lnTo>
                  <a:pt x="1544" y="853"/>
                </a:lnTo>
                <a:lnTo>
                  <a:pt x="1564" y="841"/>
                </a:lnTo>
                <a:lnTo>
                  <a:pt x="1582" y="832"/>
                </a:lnTo>
                <a:lnTo>
                  <a:pt x="1600" y="822"/>
                </a:lnTo>
                <a:lnTo>
                  <a:pt x="1617" y="811"/>
                </a:lnTo>
                <a:lnTo>
                  <a:pt x="1634" y="802"/>
                </a:lnTo>
                <a:lnTo>
                  <a:pt x="1650" y="793"/>
                </a:lnTo>
                <a:lnTo>
                  <a:pt x="1667" y="781"/>
                </a:lnTo>
                <a:lnTo>
                  <a:pt x="1687" y="768"/>
                </a:lnTo>
                <a:lnTo>
                  <a:pt x="1707" y="754"/>
                </a:lnTo>
                <a:lnTo>
                  <a:pt x="1729" y="739"/>
                </a:lnTo>
                <a:lnTo>
                  <a:pt x="1751" y="723"/>
                </a:lnTo>
                <a:lnTo>
                  <a:pt x="1773" y="706"/>
                </a:lnTo>
                <a:lnTo>
                  <a:pt x="1796" y="689"/>
                </a:lnTo>
                <a:lnTo>
                  <a:pt x="1819" y="672"/>
                </a:lnTo>
                <a:lnTo>
                  <a:pt x="1842" y="654"/>
                </a:lnTo>
                <a:lnTo>
                  <a:pt x="1864" y="638"/>
                </a:lnTo>
                <a:lnTo>
                  <a:pt x="1885" y="619"/>
                </a:lnTo>
                <a:lnTo>
                  <a:pt x="1904" y="603"/>
                </a:lnTo>
                <a:lnTo>
                  <a:pt x="1924" y="587"/>
                </a:lnTo>
                <a:lnTo>
                  <a:pt x="1942" y="571"/>
                </a:lnTo>
                <a:lnTo>
                  <a:pt x="1959" y="556"/>
                </a:lnTo>
                <a:lnTo>
                  <a:pt x="1974" y="542"/>
                </a:lnTo>
                <a:lnTo>
                  <a:pt x="1991" y="526"/>
                </a:lnTo>
                <a:lnTo>
                  <a:pt x="2008" y="509"/>
                </a:lnTo>
                <a:lnTo>
                  <a:pt x="2027" y="491"/>
                </a:lnTo>
                <a:lnTo>
                  <a:pt x="2045" y="473"/>
                </a:lnTo>
                <a:lnTo>
                  <a:pt x="2065" y="455"/>
                </a:lnTo>
                <a:lnTo>
                  <a:pt x="2085" y="437"/>
                </a:lnTo>
                <a:lnTo>
                  <a:pt x="2106" y="416"/>
                </a:lnTo>
                <a:lnTo>
                  <a:pt x="2124" y="399"/>
                </a:lnTo>
                <a:lnTo>
                  <a:pt x="2144" y="380"/>
                </a:lnTo>
                <a:lnTo>
                  <a:pt x="2162" y="363"/>
                </a:lnTo>
                <a:lnTo>
                  <a:pt x="2180" y="346"/>
                </a:lnTo>
                <a:lnTo>
                  <a:pt x="2196" y="330"/>
                </a:lnTo>
                <a:lnTo>
                  <a:pt x="2212" y="316"/>
                </a:lnTo>
                <a:lnTo>
                  <a:pt x="2225" y="303"/>
                </a:lnTo>
                <a:lnTo>
                  <a:pt x="2239" y="289"/>
                </a:lnTo>
                <a:lnTo>
                  <a:pt x="2250" y="279"/>
                </a:lnTo>
                <a:lnTo>
                  <a:pt x="2262" y="266"/>
                </a:lnTo>
                <a:lnTo>
                  <a:pt x="2274" y="254"/>
                </a:lnTo>
                <a:lnTo>
                  <a:pt x="2287" y="240"/>
                </a:lnTo>
                <a:lnTo>
                  <a:pt x="2299" y="227"/>
                </a:lnTo>
                <a:lnTo>
                  <a:pt x="2313" y="213"/>
                </a:lnTo>
                <a:lnTo>
                  <a:pt x="2326" y="198"/>
                </a:lnTo>
                <a:lnTo>
                  <a:pt x="2340" y="183"/>
                </a:lnTo>
                <a:lnTo>
                  <a:pt x="2352" y="170"/>
                </a:lnTo>
                <a:lnTo>
                  <a:pt x="2364" y="155"/>
                </a:lnTo>
                <a:lnTo>
                  <a:pt x="2374" y="142"/>
                </a:lnTo>
                <a:lnTo>
                  <a:pt x="2385" y="129"/>
                </a:lnTo>
                <a:lnTo>
                  <a:pt x="2394" y="117"/>
                </a:lnTo>
                <a:lnTo>
                  <a:pt x="2404" y="106"/>
                </a:lnTo>
                <a:lnTo>
                  <a:pt x="2411" y="96"/>
                </a:lnTo>
                <a:lnTo>
                  <a:pt x="2418" y="86"/>
                </a:lnTo>
                <a:lnTo>
                  <a:pt x="2423" y="80"/>
                </a:lnTo>
                <a:lnTo>
                  <a:pt x="2426" y="74"/>
                </a:lnTo>
                <a:lnTo>
                  <a:pt x="2429" y="71"/>
                </a:lnTo>
                <a:lnTo>
                  <a:pt x="2432" y="67"/>
                </a:lnTo>
                <a:lnTo>
                  <a:pt x="2433" y="65"/>
                </a:lnTo>
                <a:lnTo>
                  <a:pt x="2434" y="64"/>
                </a:lnTo>
                <a:lnTo>
                  <a:pt x="2434" y="62"/>
                </a:lnTo>
                <a:lnTo>
                  <a:pt x="2436" y="60"/>
                </a:lnTo>
                <a:lnTo>
                  <a:pt x="2438" y="58"/>
                </a:lnTo>
                <a:lnTo>
                  <a:pt x="2440" y="55"/>
                </a:lnTo>
                <a:lnTo>
                  <a:pt x="2443" y="50"/>
                </a:lnTo>
                <a:lnTo>
                  <a:pt x="2447" y="44"/>
                </a:lnTo>
                <a:lnTo>
                  <a:pt x="2452" y="37"/>
                </a:lnTo>
                <a:lnTo>
                  <a:pt x="2459" y="27"/>
                </a:lnTo>
                <a:lnTo>
                  <a:pt x="2467" y="16"/>
                </a:lnTo>
                <a:lnTo>
                  <a:pt x="2478" y="0"/>
                </a:lnTo>
              </a:path>
            </a:pathLst>
          </a:custGeom>
          <a:noFill/>
          <a:ln cap="rnd" w="25560">
            <a:solidFill>
              <a:srgbClr val="418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985680" y="4776840"/>
            <a:ext cx="535644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979560" y="1693440"/>
            <a:ext cx="0" cy="307980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65080" y="4960800"/>
            <a:ext cx="4302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009880" y="2255760"/>
            <a:ext cx="2523960" cy="1905120"/>
          </a:xfrm>
          <a:custGeom>
            <a:avLst/>
            <a:gdLst/>
            <a:ahLst/>
            <a:rect l="l" t="t" r="r" b="b"/>
            <a:pathLst>
              <a:path w="1590" h="1200">
                <a:moveTo>
                  <a:pt x="0" y="1151"/>
                </a:moveTo>
                <a:lnTo>
                  <a:pt x="12" y="1156"/>
                </a:lnTo>
                <a:lnTo>
                  <a:pt x="21" y="1159"/>
                </a:lnTo>
                <a:lnTo>
                  <a:pt x="28" y="1162"/>
                </a:lnTo>
                <a:lnTo>
                  <a:pt x="35" y="1164"/>
                </a:lnTo>
                <a:lnTo>
                  <a:pt x="39" y="1166"/>
                </a:lnTo>
                <a:lnTo>
                  <a:pt x="43" y="1166"/>
                </a:lnTo>
                <a:lnTo>
                  <a:pt x="45" y="1167"/>
                </a:lnTo>
                <a:lnTo>
                  <a:pt x="48" y="1167"/>
                </a:lnTo>
                <a:lnTo>
                  <a:pt x="48" y="1169"/>
                </a:lnTo>
                <a:lnTo>
                  <a:pt x="50" y="1169"/>
                </a:lnTo>
                <a:lnTo>
                  <a:pt x="52" y="1170"/>
                </a:lnTo>
                <a:lnTo>
                  <a:pt x="54" y="1170"/>
                </a:lnTo>
                <a:lnTo>
                  <a:pt x="55" y="1172"/>
                </a:lnTo>
                <a:lnTo>
                  <a:pt x="59" y="1173"/>
                </a:lnTo>
                <a:lnTo>
                  <a:pt x="64" y="1174"/>
                </a:lnTo>
                <a:lnTo>
                  <a:pt x="70" y="1175"/>
                </a:lnTo>
                <a:lnTo>
                  <a:pt x="76" y="1178"/>
                </a:lnTo>
                <a:lnTo>
                  <a:pt x="83" y="1180"/>
                </a:lnTo>
                <a:lnTo>
                  <a:pt x="90" y="1183"/>
                </a:lnTo>
                <a:lnTo>
                  <a:pt x="98" y="1184"/>
                </a:lnTo>
                <a:lnTo>
                  <a:pt x="105" y="1187"/>
                </a:lnTo>
                <a:lnTo>
                  <a:pt x="115" y="1189"/>
                </a:lnTo>
                <a:lnTo>
                  <a:pt x="123" y="1190"/>
                </a:lnTo>
                <a:lnTo>
                  <a:pt x="131" y="1192"/>
                </a:lnTo>
                <a:lnTo>
                  <a:pt x="138" y="1194"/>
                </a:lnTo>
                <a:lnTo>
                  <a:pt x="146" y="1196"/>
                </a:lnTo>
                <a:lnTo>
                  <a:pt x="154" y="1197"/>
                </a:lnTo>
                <a:lnTo>
                  <a:pt x="161" y="1197"/>
                </a:lnTo>
                <a:lnTo>
                  <a:pt x="167" y="1199"/>
                </a:lnTo>
                <a:lnTo>
                  <a:pt x="175" y="1199"/>
                </a:lnTo>
                <a:lnTo>
                  <a:pt x="179" y="1199"/>
                </a:lnTo>
                <a:lnTo>
                  <a:pt x="185" y="1199"/>
                </a:lnTo>
                <a:lnTo>
                  <a:pt x="189" y="1199"/>
                </a:lnTo>
                <a:lnTo>
                  <a:pt x="195" y="1199"/>
                </a:lnTo>
                <a:lnTo>
                  <a:pt x="201" y="1199"/>
                </a:lnTo>
                <a:lnTo>
                  <a:pt x="210" y="1199"/>
                </a:lnTo>
                <a:lnTo>
                  <a:pt x="218" y="1199"/>
                </a:lnTo>
                <a:lnTo>
                  <a:pt x="227" y="1197"/>
                </a:lnTo>
                <a:lnTo>
                  <a:pt x="237" y="1197"/>
                </a:lnTo>
                <a:lnTo>
                  <a:pt x="248" y="1196"/>
                </a:lnTo>
                <a:lnTo>
                  <a:pt x="258" y="1196"/>
                </a:lnTo>
                <a:lnTo>
                  <a:pt x="270" y="1194"/>
                </a:lnTo>
                <a:lnTo>
                  <a:pt x="280" y="1193"/>
                </a:lnTo>
                <a:lnTo>
                  <a:pt x="292" y="1191"/>
                </a:lnTo>
                <a:lnTo>
                  <a:pt x="302" y="1190"/>
                </a:lnTo>
                <a:lnTo>
                  <a:pt x="314" y="1189"/>
                </a:lnTo>
                <a:lnTo>
                  <a:pt x="324" y="1187"/>
                </a:lnTo>
                <a:lnTo>
                  <a:pt x="335" y="1185"/>
                </a:lnTo>
                <a:lnTo>
                  <a:pt x="345" y="1184"/>
                </a:lnTo>
                <a:lnTo>
                  <a:pt x="355" y="1181"/>
                </a:lnTo>
                <a:lnTo>
                  <a:pt x="368" y="1180"/>
                </a:lnTo>
                <a:lnTo>
                  <a:pt x="381" y="1176"/>
                </a:lnTo>
                <a:lnTo>
                  <a:pt x="395" y="1173"/>
                </a:lnTo>
                <a:lnTo>
                  <a:pt x="408" y="1169"/>
                </a:lnTo>
                <a:lnTo>
                  <a:pt x="423" y="1166"/>
                </a:lnTo>
                <a:lnTo>
                  <a:pt x="437" y="1160"/>
                </a:lnTo>
                <a:lnTo>
                  <a:pt x="451" y="1156"/>
                </a:lnTo>
                <a:lnTo>
                  <a:pt x="466" y="1151"/>
                </a:lnTo>
                <a:lnTo>
                  <a:pt x="479" y="1146"/>
                </a:lnTo>
                <a:lnTo>
                  <a:pt x="494" y="1141"/>
                </a:lnTo>
                <a:lnTo>
                  <a:pt x="505" y="1136"/>
                </a:lnTo>
                <a:lnTo>
                  <a:pt x="518" y="1131"/>
                </a:lnTo>
                <a:lnTo>
                  <a:pt x="529" y="1127"/>
                </a:lnTo>
                <a:lnTo>
                  <a:pt x="540" y="1121"/>
                </a:lnTo>
                <a:lnTo>
                  <a:pt x="549" y="1117"/>
                </a:lnTo>
                <a:lnTo>
                  <a:pt x="561" y="1112"/>
                </a:lnTo>
                <a:lnTo>
                  <a:pt x="573" y="1106"/>
                </a:lnTo>
                <a:lnTo>
                  <a:pt x="586" y="1099"/>
                </a:lnTo>
                <a:lnTo>
                  <a:pt x="600" y="1092"/>
                </a:lnTo>
                <a:lnTo>
                  <a:pt x="615" y="1085"/>
                </a:lnTo>
                <a:lnTo>
                  <a:pt x="630" y="1079"/>
                </a:lnTo>
                <a:lnTo>
                  <a:pt x="645" y="1070"/>
                </a:lnTo>
                <a:lnTo>
                  <a:pt x="661" y="1064"/>
                </a:lnTo>
                <a:lnTo>
                  <a:pt x="675" y="1056"/>
                </a:lnTo>
                <a:lnTo>
                  <a:pt x="691" y="1049"/>
                </a:lnTo>
                <a:lnTo>
                  <a:pt x="706" y="1041"/>
                </a:lnTo>
                <a:lnTo>
                  <a:pt x="719" y="1035"/>
                </a:lnTo>
                <a:lnTo>
                  <a:pt x="734" y="1028"/>
                </a:lnTo>
                <a:lnTo>
                  <a:pt x="746" y="1022"/>
                </a:lnTo>
                <a:lnTo>
                  <a:pt x="759" y="1016"/>
                </a:lnTo>
                <a:lnTo>
                  <a:pt x="770" y="1010"/>
                </a:lnTo>
                <a:lnTo>
                  <a:pt x="783" y="1004"/>
                </a:lnTo>
                <a:lnTo>
                  <a:pt x="796" y="996"/>
                </a:lnTo>
                <a:lnTo>
                  <a:pt x="812" y="987"/>
                </a:lnTo>
                <a:lnTo>
                  <a:pt x="827" y="979"/>
                </a:lnTo>
                <a:lnTo>
                  <a:pt x="843" y="970"/>
                </a:lnTo>
                <a:lnTo>
                  <a:pt x="859" y="960"/>
                </a:lnTo>
                <a:lnTo>
                  <a:pt x="876" y="950"/>
                </a:lnTo>
                <a:lnTo>
                  <a:pt x="892" y="941"/>
                </a:lnTo>
                <a:lnTo>
                  <a:pt x="907" y="931"/>
                </a:lnTo>
                <a:lnTo>
                  <a:pt x="923" y="921"/>
                </a:lnTo>
                <a:lnTo>
                  <a:pt x="938" y="911"/>
                </a:lnTo>
                <a:lnTo>
                  <a:pt x="952" y="903"/>
                </a:lnTo>
                <a:lnTo>
                  <a:pt x="965" y="892"/>
                </a:lnTo>
                <a:lnTo>
                  <a:pt x="977" y="884"/>
                </a:lnTo>
                <a:lnTo>
                  <a:pt x="990" y="875"/>
                </a:lnTo>
                <a:lnTo>
                  <a:pt x="1000" y="867"/>
                </a:lnTo>
                <a:lnTo>
                  <a:pt x="1012" y="859"/>
                </a:lnTo>
                <a:lnTo>
                  <a:pt x="1024" y="849"/>
                </a:lnTo>
                <a:lnTo>
                  <a:pt x="1037" y="837"/>
                </a:lnTo>
                <a:lnTo>
                  <a:pt x="1051" y="826"/>
                </a:lnTo>
                <a:lnTo>
                  <a:pt x="1065" y="814"/>
                </a:lnTo>
                <a:lnTo>
                  <a:pt x="1079" y="802"/>
                </a:lnTo>
                <a:lnTo>
                  <a:pt x="1095" y="789"/>
                </a:lnTo>
                <a:lnTo>
                  <a:pt x="1108" y="777"/>
                </a:lnTo>
                <a:lnTo>
                  <a:pt x="1123" y="764"/>
                </a:lnTo>
                <a:lnTo>
                  <a:pt x="1135" y="753"/>
                </a:lnTo>
                <a:lnTo>
                  <a:pt x="1150" y="739"/>
                </a:lnTo>
                <a:lnTo>
                  <a:pt x="1161" y="729"/>
                </a:lnTo>
                <a:lnTo>
                  <a:pt x="1174" y="717"/>
                </a:lnTo>
                <a:lnTo>
                  <a:pt x="1185" y="707"/>
                </a:lnTo>
                <a:lnTo>
                  <a:pt x="1195" y="696"/>
                </a:lnTo>
                <a:lnTo>
                  <a:pt x="1203" y="687"/>
                </a:lnTo>
                <a:lnTo>
                  <a:pt x="1213" y="676"/>
                </a:lnTo>
                <a:lnTo>
                  <a:pt x="1223" y="664"/>
                </a:lnTo>
                <a:lnTo>
                  <a:pt x="1235" y="651"/>
                </a:lnTo>
                <a:lnTo>
                  <a:pt x="1247" y="638"/>
                </a:lnTo>
                <a:lnTo>
                  <a:pt x="1259" y="624"/>
                </a:lnTo>
                <a:lnTo>
                  <a:pt x="1272" y="608"/>
                </a:lnTo>
                <a:lnTo>
                  <a:pt x="1285" y="592"/>
                </a:lnTo>
                <a:lnTo>
                  <a:pt x="1297" y="578"/>
                </a:lnTo>
                <a:lnTo>
                  <a:pt x="1309" y="563"/>
                </a:lnTo>
                <a:lnTo>
                  <a:pt x="1321" y="548"/>
                </a:lnTo>
                <a:lnTo>
                  <a:pt x="1334" y="532"/>
                </a:lnTo>
                <a:lnTo>
                  <a:pt x="1345" y="519"/>
                </a:lnTo>
                <a:lnTo>
                  <a:pt x="1355" y="505"/>
                </a:lnTo>
                <a:lnTo>
                  <a:pt x="1365" y="491"/>
                </a:lnTo>
                <a:lnTo>
                  <a:pt x="1374" y="479"/>
                </a:lnTo>
                <a:lnTo>
                  <a:pt x="1382" y="469"/>
                </a:lnTo>
                <a:lnTo>
                  <a:pt x="1390" y="454"/>
                </a:lnTo>
                <a:lnTo>
                  <a:pt x="1398" y="442"/>
                </a:lnTo>
                <a:lnTo>
                  <a:pt x="1407" y="427"/>
                </a:lnTo>
                <a:lnTo>
                  <a:pt x="1416" y="412"/>
                </a:lnTo>
                <a:lnTo>
                  <a:pt x="1425" y="398"/>
                </a:lnTo>
                <a:lnTo>
                  <a:pt x="1434" y="383"/>
                </a:lnTo>
                <a:lnTo>
                  <a:pt x="1443" y="366"/>
                </a:lnTo>
                <a:lnTo>
                  <a:pt x="1450" y="351"/>
                </a:lnTo>
                <a:lnTo>
                  <a:pt x="1459" y="336"/>
                </a:lnTo>
                <a:lnTo>
                  <a:pt x="1465" y="323"/>
                </a:lnTo>
                <a:lnTo>
                  <a:pt x="1473" y="308"/>
                </a:lnTo>
                <a:lnTo>
                  <a:pt x="1478" y="296"/>
                </a:lnTo>
                <a:lnTo>
                  <a:pt x="1485" y="283"/>
                </a:lnTo>
                <a:lnTo>
                  <a:pt x="1489" y="272"/>
                </a:lnTo>
                <a:lnTo>
                  <a:pt x="1494" y="262"/>
                </a:lnTo>
                <a:lnTo>
                  <a:pt x="1496" y="252"/>
                </a:lnTo>
                <a:lnTo>
                  <a:pt x="1500" y="243"/>
                </a:lnTo>
                <a:lnTo>
                  <a:pt x="1504" y="231"/>
                </a:lnTo>
                <a:lnTo>
                  <a:pt x="1508" y="220"/>
                </a:lnTo>
                <a:lnTo>
                  <a:pt x="1512" y="208"/>
                </a:lnTo>
                <a:lnTo>
                  <a:pt x="1517" y="195"/>
                </a:lnTo>
                <a:lnTo>
                  <a:pt x="1522" y="183"/>
                </a:lnTo>
                <a:lnTo>
                  <a:pt x="1526" y="169"/>
                </a:lnTo>
                <a:lnTo>
                  <a:pt x="1530" y="158"/>
                </a:lnTo>
                <a:lnTo>
                  <a:pt x="1535" y="146"/>
                </a:lnTo>
                <a:lnTo>
                  <a:pt x="1539" y="134"/>
                </a:lnTo>
                <a:lnTo>
                  <a:pt x="1545" y="122"/>
                </a:lnTo>
                <a:lnTo>
                  <a:pt x="1548" y="112"/>
                </a:lnTo>
                <a:lnTo>
                  <a:pt x="1552" y="101"/>
                </a:lnTo>
                <a:lnTo>
                  <a:pt x="1555" y="92"/>
                </a:lnTo>
                <a:lnTo>
                  <a:pt x="1559" y="83"/>
                </a:lnTo>
                <a:lnTo>
                  <a:pt x="1561" y="77"/>
                </a:lnTo>
                <a:lnTo>
                  <a:pt x="1563" y="71"/>
                </a:lnTo>
                <a:lnTo>
                  <a:pt x="1564" y="68"/>
                </a:lnTo>
                <a:lnTo>
                  <a:pt x="1565" y="64"/>
                </a:lnTo>
                <a:lnTo>
                  <a:pt x="1565" y="63"/>
                </a:lnTo>
                <a:lnTo>
                  <a:pt x="1566" y="61"/>
                </a:lnTo>
                <a:lnTo>
                  <a:pt x="1566" y="59"/>
                </a:lnTo>
                <a:lnTo>
                  <a:pt x="1568" y="57"/>
                </a:lnTo>
                <a:lnTo>
                  <a:pt x="1568" y="56"/>
                </a:lnTo>
                <a:lnTo>
                  <a:pt x="1569" y="52"/>
                </a:lnTo>
                <a:lnTo>
                  <a:pt x="1570" y="49"/>
                </a:lnTo>
                <a:lnTo>
                  <a:pt x="1573" y="42"/>
                </a:lnTo>
                <a:lnTo>
                  <a:pt x="1575" y="36"/>
                </a:lnTo>
                <a:lnTo>
                  <a:pt x="1579" y="26"/>
                </a:lnTo>
                <a:lnTo>
                  <a:pt x="1584" y="15"/>
                </a:lnTo>
                <a:lnTo>
                  <a:pt x="1589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00560" y="1828800"/>
            <a:ext cx="5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662440" y="18288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/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01880" y="2970360"/>
            <a:ext cx="3222360" cy="1806480"/>
          </a:xfrm>
          <a:custGeom>
            <a:avLst/>
            <a:gdLst/>
            <a:ahLst/>
            <a:rect l="l" t="t" r="r" b="b"/>
            <a:pathLst>
              <a:path w="2030" h="1138">
                <a:moveTo>
                  <a:pt x="0" y="0"/>
                </a:moveTo>
                <a:lnTo>
                  <a:pt x="2029" y="0"/>
                </a:lnTo>
                <a:lnTo>
                  <a:pt x="2028" y="1137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001880" y="3125880"/>
            <a:ext cx="3114360" cy="1646280"/>
          </a:xfrm>
          <a:custGeom>
            <a:avLst/>
            <a:gdLst/>
            <a:ahLst/>
            <a:rect l="l" t="t" r="r" b="b"/>
            <a:pathLst>
              <a:path w="1962" h="1037">
                <a:moveTo>
                  <a:pt x="0" y="0"/>
                </a:moveTo>
                <a:lnTo>
                  <a:pt x="1961" y="0"/>
                </a:lnTo>
                <a:lnTo>
                  <a:pt x="1960" y="103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560520" y="4199040"/>
            <a:ext cx="428400" cy="592200"/>
            <a:chOff x="560520" y="4199040"/>
            <a:chExt cx="428400" cy="592200"/>
          </a:xfrm>
        </p:grpSpPr>
        <p:sp>
          <p:nvSpPr>
            <p:cNvPr id="606" name=""/>
            <p:cNvSpPr/>
            <p:nvPr/>
          </p:nvSpPr>
          <p:spPr>
            <a:xfrm>
              <a:off x="560520" y="4199040"/>
              <a:ext cx="2775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69840" y="4468680"/>
              <a:ext cx="19080" cy="322560"/>
            </a:xfrm>
            <a:custGeom>
              <a:avLst/>
              <a:gdLst/>
              <a:ahLst/>
              <a:rect l="l" t="t" r="r" b="b"/>
              <a:pathLst>
                <a:path w="12" h="203">
                  <a:moveTo>
                    <a:pt x="0" y="0"/>
                  </a:moveTo>
                  <a:lnTo>
                    <a:pt x="11" y="0"/>
                  </a:lnTo>
                  <a:lnTo>
                    <a:pt x="11" y="202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36480" y="2666880"/>
            <a:ext cx="3783240" cy="2895840"/>
            <a:chOff x="636480" y="2666880"/>
            <a:chExt cx="3783240" cy="2895840"/>
          </a:xfrm>
        </p:grpSpPr>
        <p:sp>
          <p:nvSpPr>
            <p:cNvPr id="609" name=""/>
            <p:cNvSpPr/>
            <p:nvPr/>
          </p:nvSpPr>
          <p:spPr>
            <a:xfrm>
              <a:off x="968400" y="2994120"/>
              <a:ext cx="3222720" cy="1806480"/>
            </a:xfrm>
            <a:custGeom>
              <a:avLst/>
              <a:gdLst/>
              <a:ahLst/>
              <a:rect l="l" t="t" r="r" b="b"/>
              <a:pathLst>
                <a:path w="2030" h="1138">
                  <a:moveTo>
                    <a:pt x="0" y="0"/>
                  </a:moveTo>
                  <a:lnTo>
                    <a:pt x="2029" y="0"/>
                  </a:lnTo>
                  <a:lnTo>
                    <a:pt x="2028" y="1137"/>
                  </a:lnTo>
                </a:path>
              </a:pathLst>
            </a:custGeom>
            <a:noFill/>
            <a:ln cap="rnd" w="25560">
              <a:solidFill>
                <a:srgbClr val="ff66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6480" y="2666880"/>
              <a:ext cx="2779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89520" y="4960800"/>
              <a:ext cx="43020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36480" y="2971800"/>
            <a:ext cx="3554640" cy="2506680"/>
            <a:chOff x="636480" y="2971800"/>
            <a:chExt cx="3554640" cy="2506680"/>
          </a:xfrm>
        </p:grpSpPr>
        <p:sp>
          <p:nvSpPr>
            <p:cNvPr id="613" name=""/>
            <p:cNvSpPr/>
            <p:nvPr/>
          </p:nvSpPr>
          <p:spPr>
            <a:xfrm>
              <a:off x="947880" y="3276720"/>
              <a:ext cx="3014640" cy="1523880"/>
            </a:xfrm>
            <a:custGeom>
              <a:avLst/>
              <a:gdLst/>
              <a:ahLst/>
              <a:rect l="l" t="t" r="r" b="b"/>
              <a:pathLst>
                <a:path w="1899" h="960">
                  <a:moveTo>
                    <a:pt x="0" y="0"/>
                  </a:moveTo>
                  <a:lnTo>
                    <a:pt x="1898" y="0"/>
                  </a:lnTo>
                  <a:lnTo>
                    <a:pt x="1897" y="959"/>
                  </a:lnTo>
                </a:path>
              </a:pathLst>
            </a:custGeom>
            <a:noFill/>
            <a:ln cap="rnd" w="25560">
              <a:solidFill>
                <a:srgbClr val="ff66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6480" y="2971800"/>
              <a:ext cx="2602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786120" y="4941720"/>
              <a:ext cx="40500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612720" y="3660840"/>
            <a:ext cx="2664000" cy="1901880"/>
            <a:chOff x="612720" y="3660840"/>
            <a:chExt cx="2664000" cy="1901880"/>
          </a:xfrm>
        </p:grpSpPr>
        <p:sp>
          <p:nvSpPr>
            <p:cNvPr id="617" name=""/>
            <p:cNvSpPr/>
            <p:nvPr/>
          </p:nvSpPr>
          <p:spPr>
            <a:xfrm>
              <a:off x="985680" y="3959280"/>
              <a:ext cx="2071800" cy="838080"/>
            </a:xfrm>
            <a:custGeom>
              <a:avLst/>
              <a:gdLst/>
              <a:ahLst/>
              <a:rect l="l" t="t" r="r" b="b"/>
              <a:pathLst>
                <a:path w="1305" h="528">
                  <a:moveTo>
                    <a:pt x="0" y="0"/>
                  </a:moveTo>
                  <a:lnTo>
                    <a:pt x="1304" y="0"/>
                  </a:lnTo>
                  <a:lnTo>
                    <a:pt x="1304" y="527"/>
                  </a:lnTo>
                </a:path>
              </a:pathLst>
            </a:custGeom>
            <a:noFill/>
            <a:ln cap="rnd" w="25560">
              <a:solidFill>
                <a:srgbClr val="ff66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46520" y="4960800"/>
              <a:ext cx="43020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2720" y="36608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612720" y="3200400"/>
            <a:ext cx="3425760" cy="2230560"/>
            <a:chOff x="612720" y="3200400"/>
            <a:chExt cx="3425760" cy="2230560"/>
          </a:xfrm>
        </p:grpSpPr>
        <p:sp>
          <p:nvSpPr>
            <p:cNvPr id="621" name=""/>
            <p:cNvSpPr/>
            <p:nvPr/>
          </p:nvSpPr>
          <p:spPr>
            <a:xfrm>
              <a:off x="990720" y="3473280"/>
              <a:ext cx="2819160" cy="1295640"/>
            </a:xfrm>
            <a:custGeom>
              <a:avLst/>
              <a:gdLst/>
              <a:ahLst/>
              <a:rect l="l" t="t" r="r" b="b"/>
              <a:pathLst>
                <a:path w="1776" h="816">
                  <a:moveTo>
                    <a:pt x="0" y="0"/>
                  </a:moveTo>
                  <a:lnTo>
                    <a:pt x="1775" y="0"/>
                  </a:lnTo>
                  <a:lnTo>
                    <a:pt x="1774" y="815"/>
                  </a:lnTo>
                </a:path>
              </a:pathLst>
            </a:custGeom>
            <a:noFill/>
            <a:ln cap="rnd" w="25560">
              <a:solidFill>
                <a:srgbClr val="ff66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651120" y="4943520"/>
              <a:ext cx="387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2720" y="320040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571680" y="3994200"/>
            <a:ext cx="417240" cy="766800"/>
            <a:chOff x="571680" y="3994200"/>
            <a:chExt cx="417240" cy="766800"/>
          </a:xfrm>
        </p:grpSpPr>
        <p:sp>
          <p:nvSpPr>
            <p:cNvPr id="625" name=""/>
            <p:cNvSpPr/>
            <p:nvPr/>
          </p:nvSpPr>
          <p:spPr>
            <a:xfrm>
              <a:off x="969840" y="4240080"/>
              <a:ext cx="19080" cy="520920"/>
            </a:xfrm>
            <a:custGeom>
              <a:avLst/>
              <a:gdLst/>
              <a:ahLst/>
              <a:rect l="l" t="t" r="r" b="b"/>
              <a:pathLst>
                <a:path w="12" h="328">
                  <a:moveTo>
                    <a:pt x="0" y="0"/>
                  </a:moveTo>
                  <a:lnTo>
                    <a:pt x="11" y="0"/>
                  </a:lnTo>
                  <a:lnTo>
                    <a:pt x="11" y="327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680" y="3994200"/>
              <a:ext cx="3427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04720" y="3908520"/>
            <a:ext cx="484200" cy="901440"/>
            <a:chOff x="504720" y="3908520"/>
            <a:chExt cx="484200" cy="901440"/>
          </a:xfrm>
        </p:grpSpPr>
        <p:sp>
          <p:nvSpPr>
            <p:cNvPr id="628" name=""/>
            <p:cNvSpPr/>
            <p:nvPr/>
          </p:nvSpPr>
          <p:spPr>
            <a:xfrm>
              <a:off x="969840" y="4113360"/>
              <a:ext cx="19080" cy="696600"/>
            </a:xfrm>
            <a:custGeom>
              <a:avLst/>
              <a:gdLst/>
              <a:ahLst/>
              <a:rect l="l" t="t" r="r" b="b"/>
              <a:pathLst>
                <a:path w="12" h="439">
                  <a:moveTo>
                    <a:pt x="0" y="0"/>
                  </a:moveTo>
                  <a:lnTo>
                    <a:pt x="11" y="0"/>
                  </a:lnTo>
                  <a:lnTo>
                    <a:pt x="11" y="438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4720" y="3908520"/>
              <a:ext cx="2574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304920" y="380880"/>
            <a:ext cx="8594640" cy="133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4920" y="380880"/>
            <a:ext cx="859464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hora permitamos que </a:t>
            </a: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descienda...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80880"/>
            <a:ext cx="9372600" cy="115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380880"/>
            <a:ext cx="93726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Note que pasa debajo del Costo Medio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61880" y="117360"/>
            <a:ext cx="859464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VA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999360" y="1905120"/>
            <a:ext cx="2086200" cy="2871720"/>
          </a:xfrm>
          <a:custGeom>
            <a:avLst/>
            <a:gdLst>
              <a:gd name="textAreaLeft" fmla="*/ -360 w 2086200"/>
              <a:gd name="textAreaRight" fmla="*/ 2086200 w 2086200"/>
              <a:gd name="textAreaTop" fmla="*/ 0 h 2871720"/>
              <a:gd name="textAreaBottom" fmla="*/ 2872080 h 2871720"/>
            </a:gdLst>
            <a:ahLst/>
            <a:rect l="textAreaLeft" t="textAreaTop" r="textAreaRight" b="textAreaBottom"/>
            <a:pathLst>
              <a:path w="21600" h="29732">
                <a:moveTo>
                  <a:pt x="0" y="0"/>
                </a:moveTo>
                <a:arcTo wR="0" hR="0" stAng="16200000" swAng="-5400000"/>
                <a:lnTo>
                  <a:pt x="0" y="29732"/>
                </a:lnTo>
                <a:arcTo wR="0" hR="0" stAng="10800000" swAng="-5400000"/>
                <a:lnTo>
                  <a:pt x="21600" y="2973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76520" y="2274840"/>
            <a:ext cx="3935160" cy="1673280"/>
          </a:xfrm>
          <a:custGeom>
            <a:avLst/>
            <a:gdLst/>
            <a:ahLst/>
            <a:rect l="l" t="t" r="r" b="b"/>
            <a:pathLst>
              <a:path w="2479" h="1054">
                <a:moveTo>
                  <a:pt x="0" y="154"/>
                </a:moveTo>
                <a:lnTo>
                  <a:pt x="9" y="191"/>
                </a:lnTo>
                <a:lnTo>
                  <a:pt x="16" y="220"/>
                </a:lnTo>
                <a:lnTo>
                  <a:pt x="23" y="243"/>
                </a:lnTo>
                <a:lnTo>
                  <a:pt x="27" y="260"/>
                </a:lnTo>
                <a:lnTo>
                  <a:pt x="30" y="275"/>
                </a:lnTo>
                <a:lnTo>
                  <a:pt x="34" y="285"/>
                </a:lnTo>
                <a:lnTo>
                  <a:pt x="35" y="293"/>
                </a:lnTo>
                <a:lnTo>
                  <a:pt x="38" y="297"/>
                </a:lnTo>
                <a:lnTo>
                  <a:pt x="38" y="303"/>
                </a:lnTo>
                <a:lnTo>
                  <a:pt x="39" y="306"/>
                </a:lnTo>
                <a:lnTo>
                  <a:pt x="41" y="311"/>
                </a:lnTo>
                <a:lnTo>
                  <a:pt x="42" y="316"/>
                </a:lnTo>
                <a:lnTo>
                  <a:pt x="44" y="323"/>
                </a:lnTo>
                <a:lnTo>
                  <a:pt x="46" y="333"/>
                </a:lnTo>
                <a:lnTo>
                  <a:pt x="50" y="346"/>
                </a:lnTo>
                <a:lnTo>
                  <a:pt x="55" y="363"/>
                </a:lnTo>
                <a:lnTo>
                  <a:pt x="60" y="383"/>
                </a:lnTo>
                <a:lnTo>
                  <a:pt x="66" y="405"/>
                </a:lnTo>
                <a:lnTo>
                  <a:pt x="74" y="427"/>
                </a:lnTo>
                <a:lnTo>
                  <a:pt x="82" y="450"/>
                </a:lnTo>
                <a:lnTo>
                  <a:pt x="89" y="475"/>
                </a:lnTo>
                <a:lnTo>
                  <a:pt x="98" y="497"/>
                </a:lnTo>
                <a:lnTo>
                  <a:pt x="107" y="521"/>
                </a:lnTo>
                <a:lnTo>
                  <a:pt x="117" y="544"/>
                </a:lnTo>
                <a:lnTo>
                  <a:pt x="125" y="568"/>
                </a:lnTo>
                <a:lnTo>
                  <a:pt x="136" y="591"/>
                </a:lnTo>
                <a:lnTo>
                  <a:pt x="145" y="613"/>
                </a:lnTo>
                <a:lnTo>
                  <a:pt x="155" y="632"/>
                </a:lnTo>
                <a:lnTo>
                  <a:pt x="164" y="652"/>
                </a:lnTo>
                <a:lnTo>
                  <a:pt x="173" y="669"/>
                </a:lnTo>
                <a:lnTo>
                  <a:pt x="181" y="684"/>
                </a:lnTo>
                <a:lnTo>
                  <a:pt x="190" y="696"/>
                </a:lnTo>
                <a:lnTo>
                  <a:pt x="197" y="709"/>
                </a:lnTo>
                <a:lnTo>
                  <a:pt x="205" y="721"/>
                </a:lnTo>
                <a:lnTo>
                  <a:pt x="215" y="736"/>
                </a:lnTo>
                <a:lnTo>
                  <a:pt x="225" y="750"/>
                </a:lnTo>
                <a:lnTo>
                  <a:pt x="235" y="764"/>
                </a:lnTo>
                <a:lnTo>
                  <a:pt x="246" y="778"/>
                </a:lnTo>
                <a:lnTo>
                  <a:pt x="257" y="793"/>
                </a:lnTo>
                <a:lnTo>
                  <a:pt x="269" y="806"/>
                </a:lnTo>
                <a:lnTo>
                  <a:pt x="279" y="821"/>
                </a:lnTo>
                <a:lnTo>
                  <a:pt x="291" y="835"/>
                </a:lnTo>
                <a:lnTo>
                  <a:pt x="301" y="848"/>
                </a:lnTo>
                <a:lnTo>
                  <a:pt x="313" y="860"/>
                </a:lnTo>
                <a:lnTo>
                  <a:pt x="322" y="871"/>
                </a:lnTo>
                <a:lnTo>
                  <a:pt x="332" y="882"/>
                </a:lnTo>
                <a:lnTo>
                  <a:pt x="341" y="892"/>
                </a:lnTo>
                <a:lnTo>
                  <a:pt x="350" y="899"/>
                </a:lnTo>
                <a:lnTo>
                  <a:pt x="357" y="907"/>
                </a:lnTo>
                <a:lnTo>
                  <a:pt x="367" y="915"/>
                </a:lnTo>
                <a:lnTo>
                  <a:pt x="378" y="923"/>
                </a:lnTo>
                <a:lnTo>
                  <a:pt x="393" y="931"/>
                </a:lnTo>
                <a:lnTo>
                  <a:pt x="406" y="939"/>
                </a:lnTo>
                <a:lnTo>
                  <a:pt x="422" y="948"/>
                </a:lnTo>
                <a:lnTo>
                  <a:pt x="438" y="956"/>
                </a:lnTo>
                <a:lnTo>
                  <a:pt x="455" y="965"/>
                </a:lnTo>
                <a:lnTo>
                  <a:pt x="473" y="973"/>
                </a:lnTo>
                <a:lnTo>
                  <a:pt x="491" y="981"/>
                </a:lnTo>
                <a:lnTo>
                  <a:pt x="508" y="988"/>
                </a:lnTo>
                <a:lnTo>
                  <a:pt x="526" y="995"/>
                </a:lnTo>
                <a:lnTo>
                  <a:pt x="544" y="1001"/>
                </a:lnTo>
                <a:lnTo>
                  <a:pt x="562" y="1006"/>
                </a:lnTo>
                <a:lnTo>
                  <a:pt x="578" y="1011"/>
                </a:lnTo>
                <a:lnTo>
                  <a:pt x="595" y="1014"/>
                </a:lnTo>
                <a:lnTo>
                  <a:pt x="610" y="1020"/>
                </a:lnTo>
                <a:lnTo>
                  <a:pt x="626" y="1023"/>
                </a:lnTo>
                <a:lnTo>
                  <a:pt x="644" y="1026"/>
                </a:lnTo>
                <a:lnTo>
                  <a:pt x="661" y="1029"/>
                </a:lnTo>
                <a:lnTo>
                  <a:pt x="678" y="1033"/>
                </a:lnTo>
                <a:lnTo>
                  <a:pt x="696" y="1035"/>
                </a:lnTo>
                <a:lnTo>
                  <a:pt x="714" y="1039"/>
                </a:lnTo>
                <a:lnTo>
                  <a:pt x="733" y="1042"/>
                </a:lnTo>
                <a:lnTo>
                  <a:pt x="748" y="1044"/>
                </a:lnTo>
                <a:lnTo>
                  <a:pt x="765" y="1047"/>
                </a:lnTo>
                <a:lnTo>
                  <a:pt x="780" y="1049"/>
                </a:lnTo>
                <a:lnTo>
                  <a:pt x="795" y="1050"/>
                </a:lnTo>
                <a:lnTo>
                  <a:pt x="808" y="1052"/>
                </a:lnTo>
                <a:lnTo>
                  <a:pt x="821" y="1052"/>
                </a:lnTo>
                <a:lnTo>
                  <a:pt x="831" y="1053"/>
                </a:lnTo>
                <a:lnTo>
                  <a:pt x="840" y="1053"/>
                </a:lnTo>
                <a:lnTo>
                  <a:pt x="847" y="1053"/>
                </a:lnTo>
                <a:lnTo>
                  <a:pt x="857" y="1053"/>
                </a:lnTo>
                <a:lnTo>
                  <a:pt x="869" y="1052"/>
                </a:lnTo>
                <a:lnTo>
                  <a:pt x="883" y="1050"/>
                </a:lnTo>
                <a:lnTo>
                  <a:pt x="896" y="1050"/>
                </a:lnTo>
                <a:lnTo>
                  <a:pt x="912" y="1048"/>
                </a:lnTo>
                <a:lnTo>
                  <a:pt x="928" y="1046"/>
                </a:lnTo>
                <a:lnTo>
                  <a:pt x="945" y="1043"/>
                </a:lnTo>
                <a:lnTo>
                  <a:pt x="963" y="1042"/>
                </a:lnTo>
                <a:lnTo>
                  <a:pt x="980" y="1038"/>
                </a:lnTo>
                <a:lnTo>
                  <a:pt x="997" y="1035"/>
                </a:lnTo>
                <a:lnTo>
                  <a:pt x="1016" y="1033"/>
                </a:lnTo>
                <a:lnTo>
                  <a:pt x="1034" y="1029"/>
                </a:lnTo>
                <a:lnTo>
                  <a:pt x="1051" y="1026"/>
                </a:lnTo>
                <a:lnTo>
                  <a:pt x="1067" y="1023"/>
                </a:lnTo>
                <a:lnTo>
                  <a:pt x="1085" y="1020"/>
                </a:lnTo>
                <a:lnTo>
                  <a:pt x="1100" y="1017"/>
                </a:lnTo>
                <a:lnTo>
                  <a:pt x="1116" y="1013"/>
                </a:lnTo>
                <a:lnTo>
                  <a:pt x="1135" y="1009"/>
                </a:lnTo>
                <a:lnTo>
                  <a:pt x="1154" y="1004"/>
                </a:lnTo>
                <a:lnTo>
                  <a:pt x="1173" y="999"/>
                </a:lnTo>
                <a:lnTo>
                  <a:pt x="1192" y="994"/>
                </a:lnTo>
                <a:lnTo>
                  <a:pt x="1211" y="990"/>
                </a:lnTo>
                <a:lnTo>
                  <a:pt x="1232" y="983"/>
                </a:lnTo>
                <a:lnTo>
                  <a:pt x="1250" y="978"/>
                </a:lnTo>
                <a:lnTo>
                  <a:pt x="1269" y="973"/>
                </a:lnTo>
                <a:lnTo>
                  <a:pt x="1286" y="968"/>
                </a:lnTo>
                <a:lnTo>
                  <a:pt x="1304" y="961"/>
                </a:lnTo>
                <a:lnTo>
                  <a:pt x="1319" y="956"/>
                </a:lnTo>
                <a:lnTo>
                  <a:pt x="1334" y="951"/>
                </a:lnTo>
                <a:lnTo>
                  <a:pt x="1347" y="947"/>
                </a:lnTo>
                <a:lnTo>
                  <a:pt x="1360" y="942"/>
                </a:lnTo>
                <a:lnTo>
                  <a:pt x="1370" y="938"/>
                </a:lnTo>
                <a:lnTo>
                  <a:pt x="1384" y="932"/>
                </a:lnTo>
                <a:lnTo>
                  <a:pt x="1397" y="926"/>
                </a:lnTo>
                <a:lnTo>
                  <a:pt x="1414" y="919"/>
                </a:lnTo>
                <a:lnTo>
                  <a:pt x="1430" y="911"/>
                </a:lnTo>
                <a:lnTo>
                  <a:pt x="1448" y="902"/>
                </a:lnTo>
                <a:lnTo>
                  <a:pt x="1466" y="893"/>
                </a:lnTo>
                <a:lnTo>
                  <a:pt x="1485" y="882"/>
                </a:lnTo>
                <a:lnTo>
                  <a:pt x="1504" y="872"/>
                </a:lnTo>
                <a:lnTo>
                  <a:pt x="1524" y="863"/>
                </a:lnTo>
                <a:lnTo>
                  <a:pt x="1544" y="853"/>
                </a:lnTo>
                <a:lnTo>
                  <a:pt x="1564" y="841"/>
                </a:lnTo>
                <a:lnTo>
                  <a:pt x="1582" y="832"/>
                </a:lnTo>
                <a:lnTo>
                  <a:pt x="1600" y="822"/>
                </a:lnTo>
                <a:lnTo>
                  <a:pt x="1617" y="811"/>
                </a:lnTo>
                <a:lnTo>
                  <a:pt x="1634" y="802"/>
                </a:lnTo>
                <a:lnTo>
                  <a:pt x="1650" y="793"/>
                </a:lnTo>
                <a:lnTo>
                  <a:pt x="1667" y="781"/>
                </a:lnTo>
                <a:lnTo>
                  <a:pt x="1687" y="768"/>
                </a:lnTo>
                <a:lnTo>
                  <a:pt x="1707" y="754"/>
                </a:lnTo>
                <a:lnTo>
                  <a:pt x="1729" y="739"/>
                </a:lnTo>
                <a:lnTo>
                  <a:pt x="1751" y="723"/>
                </a:lnTo>
                <a:lnTo>
                  <a:pt x="1773" y="706"/>
                </a:lnTo>
                <a:lnTo>
                  <a:pt x="1796" y="689"/>
                </a:lnTo>
                <a:lnTo>
                  <a:pt x="1819" y="672"/>
                </a:lnTo>
                <a:lnTo>
                  <a:pt x="1842" y="654"/>
                </a:lnTo>
                <a:lnTo>
                  <a:pt x="1864" y="638"/>
                </a:lnTo>
                <a:lnTo>
                  <a:pt x="1885" y="619"/>
                </a:lnTo>
                <a:lnTo>
                  <a:pt x="1904" y="603"/>
                </a:lnTo>
                <a:lnTo>
                  <a:pt x="1924" y="587"/>
                </a:lnTo>
                <a:lnTo>
                  <a:pt x="1942" y="571"/>
                </a:lnTo>
                <a:lnTo>
                  <a:pt x="1959" y="556"/>
                </a:lnTo>
                <a:lnTo>
                  <a:pt x="1974" y="542"/>
                </a:lnTo>
                <a:lnTo>
                  <a:pt x="1991" y="526"/>
                </a:lnTo>
                <a:lnTo>
                  <a:pt x="2008" y="509"/>
                </a:lnTo>
                <a:lnTo>
                  <a:pt x="2027" y="491"/>
                </a:lnTo>
                <a:lnTo>
                  <a:pt x="2045" y="473"/>
                </a:lnTo>
                <a:lnTo>
                  <a:pt x="2065" y="455"/>
                </a:lnTo>
                <a:lnTo>
                  <a:pt x="2085" y="437"/>
                </a:lnTo>
                <a:lnTo>
                  <a:pt x="2106" y="416"/>
                </a:lnTo>
                <a:lnTo>
                  <a:pt x="2124" y="399"/>
                </a:lnTo>
                <a:lnTo>
                  <a:pt x="2144" y="380"/>
                </a:lnTo>
                <a:lnTo>
                  <a:pt x="2162" y="363"/>
                </a:lnTo>
                <a:lnTo>
                  <a:pt x="2180" y="346"/>
                </a:lnTo>
                <a:lnTo>
                  <a:pt x="2196" y="330"/>
                </a:lnTo>
                <a:lnTo>
                  <a:pt x="2212" y="316"/>
                </a:lnTo>
                <a:lnTo>
                  <a:pt x="2225" y="303"/>
                </a:lnTo>
                <a:lnTo>
                  <a:pt x="2239" y="289"/>
                </a:lnTo>
                <a:lnTo>
                  <a:pt x="2250" y="279"/>
                </a:lnTo>
                <a:lnTo>
                  <a:pt x="2262" y="266"/>
                </a:lnTo>
                <a:lnTo>
                  <a:pt x="2274" y="254"/>
                </a:lnTo>
                <a:lnTo>
                  <a:pt x="2287" y="240"/>
                </a:lnTo>
                <a:lnTo>
                  <a:pt x="2299" y="227"/>
                </a:lnTo>
                <a:lnTo>
                  <a:pt x="2313" y="213"/>
                </a:lnTo>
                <a:lnTo>
                  <a:pt x="2326" y="198"/>
                </a:lnTo>
                <a:lnTo>
                  <a:pt x="2340" y="183"/>
                </a:lnTo>
                <a:lnTo>
                  <a:pt x="2352" y="170"/>
                </a:lnTo>
                <a:lnTo>
                  <a:pt x="2364" y="155"/>
                </a:lnTo>
                <a:lnTo>
                  <a:pt x="2374" y="142"/>
                </a:lnTo>
                <a:lnTo>
                  <a:pt x="2385" y="129"/>
                </a:lnTo>
                <a:lnTo>
                  <a:pt x="2394" y="117"/>
                </a:lnTo>
                <a:lnTo>
                  <a:pt x="2404" y="106"/>
                </a:lnTo>
                <a:lnTo>
                  <a:pt x="2411" y="96"/>
                </a:lnTo>
                <a:lnTo>
                  <a:pt x="2418" y="86"/>
                </a:lnTo>
                <a:lnTo>
                  <a:pt x="2423" y="80"/>
                </a:lnTo>
                <a:lnTo>
                  <a:pt x="2426" y="74"/>
                </a:lnTo>
                <a:lnTo>
                  <a:pt x="2429" y="71"/>
                </a:lnTo>
                <a:lnTo>
                  <a:pt x="2432" y="67"/>
                </a:lnTo>
                <a:lnTo>
                  <a:pt x="2433" y="65"/>
                </a:lnTo>
                <a:lnTo>
                  <a:pt x="2434" y="64"/>
                </a:lnTo>
                <a:lnTo>
                  <a:pt x="2434" y="62"/>
                </a:lnTo>
                <a:lnTo>
                  <a:pt x="2436" y="60"/>
                </a:lnTo>
                <a:lnTo>
                  <a:pt x="2438" y="58"/>
                </a:lnTo>
                <a:lnTo>
                  <a:pt x="2440" y="55"/>
                </a:lnTo>
                <a:lnTo>
                  <a:pt x="2443" y="50"/>
                </a:lnTo>
                <a:lnTo>
                  <a:pt x="2447" y="44"/>
                </a:lnTo>
                <a:lnTo>
                  <a:pt x="2452" y="37"/>
                </a:lnTo>
                <a:lnTo>
                  <a:pt x="2459" y="27"/>
                </a:lnTo>
                <a:lnTo>
                  <a:pt x="2467" y="16"/>
                </a:lnTo>
                <a:lnTo>
                  <a:pt x="2478" y="0"/>
                </a:lnTo>
              </a:path>
            </a:pathLst>
          </a:custGeom>
          <a:noFill/>
          <a:ln cap="rnd"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85680" y="4776840"/>
            <a:ext cx="535644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979560" y="1693440"/>
            <a:ext cx="0" cy="307980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009800" y="3952800"/>
            <a:ext cx="0" cy="8240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95400" y="3952800"/>
            <a:ext cx="0" cy="824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9360" y="3736800"/>
            <a:ext cx="88786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48120" y="4800600"/>
            <a:ext cx="6094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971800" y="4648320"/>
            <a:ext cx="861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65200" y="3751200"/>
            <a:ext cx="88614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2480" y="3767040"/>
            <a:ext cx="88441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93600" y="3967200"/>
            <a:ext cx="2046600" cy="792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083040" y="3981600"/>
            <a:ext cx="0" cy="811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09880" y="2255760"/>
            <a:ext cx="2523960" cy="1905120"/>
          </a:xfrm>
          <a:custGeom>
            <a:avLst/>
            <a:gdLst/>
            <a:ahLst/>
            <a:rect l="l" t="t" r="r" b="b"/>
            <a:pathLst>
              <a:path w="1590" h="1200">
                <a:moveTo>
                  <a:pt x="0" y="1151"/>
                </a:moveTo>
                <a:lnTo>
                  <a:pt x="12" y="1156"/>
                </a:lnTo>
                <a:lnTo>
                  <a:pt x="21" y="1159"/>
                </a:lnTo>
                <a:lnTo>
                  <a:pt x="28" y="1162"/>
                </a:lnTo>
                <a:lnTo>
                  <a:pt x="35" y="1164"/>
                </a:lnTo>
                <a:lnTo>
                  <a:pt x="39" y="1166"/>
                </a:lnTo>
                <a:lnTo>
                  <a:pt x="43" y="1166"/>
                </a:lnTo>
                <a:lnTo>
                  <a:pt x="45" y="1167"/>
                </a:lnTo>
                <a:lnTo>
                  <a:pt x="48" y="1167"/>
                </a:lnTo>
                <a:lnTo>
                  <a:pt x="48" y="1169"/>
                </a:lnTo>
                <a:lnTo>
                  <a:pt x="50" y="1169"/>
                </a:lnTo>
                <a:lnTo>
                  <a:pt x="52" y="1170"/>
                </a:lnTo>
                <a:lnTo>
                  <a:pt x="54" y="1170"/>
                </a:lnTo>
                <a:lnTo>
                  <a:pt x="55" y="1172"/>
                </a:lnTo>
                <a:lnTo>
                  <a:pt x="59" y="1173"/>
                </a:lnTo>
                <a:lnTo>
                  <a:pt x="64" y="1174"/>
                </a:lnTo>
                <a:lnTo>
                  <a:pt x="70" y="1175"/>
                </a:lnTo>
                <a:lnTo>
                  <a:pt x="76" y="1178"/>
                </a:lnTo>
                <a:lnTo>
                  <a:pt x="83" y="1180"/>
                </a:lnTo>
                <a:lnTo>
                  <a:pt x="90" y="1183"/>
                </a:lnTo>
                <a:lnTo>
                  <a:pt x="98" y="1184"/>
                </a:lnTo>
                <a:lnTo>
                  <a:pt x="105" y="1187"/>
                </a:lnTo>
                <a:lnTo>
                  <a:pt x="115" y="1189"/>
                </a:lnTo>
                <a:lnTo>
                  <a:pt x="123" y="1190"/>
                </a:lnTo>
                <a:lnTo>
                  <a:pt x="131" y="1192"/>
                </a:lnTo>
                <a:lnTo>
                  <a:pt x="138" y="1194"/>
                </a:lnTo>
                <a:lnTo>
                  <a:pt x="146" y="1196"/>
                </a:lnTo>
                <a:lnTo>
                  <a:pt x="154" y="1197"/>
                </a:lnTo>
                <a:lnTo>
                  <a:pt x="161" y="1197"/>
                </a:lnTo>
                <a:lnTo>
                  <a:pt x="167" y="1199"/>
                </a:lnTo>
                <a:lnTo>
                  <a:pt x="175" y="1199"/>
                </a:lnTo>
                <a:lnTo>
                  <a:pt x="179" y="1199"/>
                </a:lnTo>
                <a:lnTo>
                  <a:pt x="185" y="1199"/>
                </a:lnTo>
                <a:lnTo>
                  <a:pt x="189" y="1199"/>
                </a:lnTo>
                <a:lnTo>
                  <a:pt x="195" y="1199"/>
                </a:lnTo>
                <a:lnTo>
                  <a:pt x="201" y="1199"/>
                </a:lnTo>
                <a:lnTo>
                  <a:pt x="210" y="1199"/>
                </a:lnTo>
                <a:lnTo>
                  <a:pt x="218" y="1199"/>
                </a:lnTo>
                <a:lnTo>
                  <a:pt x="227" y="1197"/>
                </a:lnTo>
                <a:lnTo>
                  <a:pt x="237" y="1197"/>
                </a:lnTo>
                <a:lnTo>
                  <a:pt x="248" y="1196"/>
                </a:lnTo>
                <a:lnTo>
                  <a:pt x="258" y="1196"/>
                </a:lnTo>
                <a:lnTo>
                  <a:pt x="270" y="1194"/>
                </a:lnTo>
                <a:lnTo>
                  <a:pt x="280" y="1193"/>
                </a:lnTo>
                <a:lnTo>
                  <a:pt x="292" y="1191"/>
                </a:lnTo>
                <a:lnTo>
                  <a:pt x="302" y="1190"/>
                </a:lnTo>
                <a:lnTo>
                  <a:pt x="314" y="1189"/>
                </a:lnTo>
                <a:lnTo>
                  <a:pt x="324" y="1187"/>
                </a:lnTo>
                <a:lnTo>
                  <a:pt x="335" y="1185"/>
                </a:lnTo>
                <a:lnTo>
                  <a:pt x="345" y="1184"/>
                </a:lnTo>
                <a:lnTo>
                  <a:pt x="355" y="1181"/>
                </a:lnTo>
                <a:lnTo>
                  <a:pt x="368" y="1180"/>
                </a:lnTo>
                <a:lnTo>
                  <a:pt x="381" y="1176"/>
                </a:lnTo>
                <a:lnTo>
                  <a:pt x="395" y="1173"/>
                </a:lnTo>
                <a:lnTo>
                  <a:pt x="408" y="1169"/>
                </a:lnTo>
                <a:lnTo>
                  <a:pt x="423" y="1166"/>
                </a:lnTo>
                <a:lnTo>
                  <a:pt x="437" y="1160"/>
                </a:lnTo>
                <a:lnTo>
                  <a:pt x="451" y="1156"/>
                </a:lnTo>
                <a:lnTo>
                  <a:pt x="466" y="1151"/>
                </a:lnTo>
                <a:lnTo>
                  <a:pt x="479" y="1146"/>
                </a:lnTo>
                <a:lnTo>
                  <a:pt x="494" y="1141"/>
                </a:lnTo>
                <a:lnTo>
                  <a:pt x="505" y="1136"/>
                </a:lnTo>
                <a:lnTo>
                  <a:pt x="518" y="1131"/>
                </a:lnTo>
                <a:lnTo>
                  <a:pt x="529" y="1127"/>
                </a:lnTo>
                <a:lnTo>
                  <a:pt x="540" y="1121"/>
                </a:lnTo>
                <a:lnTo>
                  <a:pt x="549" y="1117"/>
                </a:lnTo>
                <a:lnTo>
                  <a:pt x="561" y="1112"/>
                </a:lnTo>
                <a:lnTo>
                  <a:pt x="573" y="1106"/>
                </a:lnTo>
                <a:lnTo>
                  <a:pt x="586" y="1099"/>
                </a:lnTo>
                <a:lnTo>
                  <a:pt x="600" y="1092"/>
                </a:lnTo>
                <a:lnTo>
                  <a:pt x="615" y="1085"/>
                </a:lnTo>
                <a:lnTo>
                  <a:pt x="630" y="1079"/>
                </a:lnTo>
                <a:lnTo>
                  <a:pt x="645" y="1070"/>
                </a:lnTo>
                <a:lnTo>
                  <a:pt x="661" y="1064"/>
                </a:lnTo>
                <a:lnTo>
                  <a:pt x="675" y="1056"/>
                </a:lnTo>
                <a:lnTo>
                  <a:pt x="691" y="1049"/>
                </a:lnTo>
                <a:lnTo>
                  <a:pt x="706" y="1041"/>
                </a:lnTo>
                <a:lnTo>
                  <a:pt x="719" y="1035"/>
                </a:lnTo>
                <a:lnTo>
                  <a:pt x="734" y="1028"/>
                </a:lnTo>
                <a:lnTo>
                  <a:pt x="746" y="1022"/>
                </a:lnTo>
                <a:lnTo>
                  <a:pt x="759" y="1016"/>
                </a:lnTo>
                <a:lnTo>
                  <a:pt x="770" y="1010"/>
                </a:lnTo>
                <a:lnTo>
                  <a:pt x="783" y="1004"/>
                </a:lnTo>
                <a:lnTo>
                  <a:pt x="796" y="996"/>
                </a:lnTo>
                <a:lnTo>
                  <a:pt x="812" y="987"/>
                </a:lnTo>
                <a:lnTo>
                  <a:pt x="827" y="979"/>
                </a:lnTo>
                <a:lnTo>
                  <a:pt x="843" y="970"/>
                </a:lnTo>
                <a:lnTo>
                  <a:pt x="859" y="960"/>
                </a:lnTo>
                <a:lnTo>
                  <a:pt x="876" y="950"/>
                </a:lnTo>
                <a:lnTo>
                  <a:pt x="892" y="941"/>
                </a:lnTo>
                <a:lnTo>
                  <a:pt x="907" y="931"/>
                </a:lnTo>
                <a:lnTo>
                  <a:pt x="923" y="921"/>
                </a:lnTo>
                <a:lnTo>
                  <a:pt x="938" y="911"/>
                </a:lnTo>
                <a:lnTo>
                  <a:pt x="952" y="903"/>
                </a:lnTo>
                <a:lnTo>
                  <a:pt x="965" y="892"/>
                </a:lnTo>
                <a:lnTo>
                  <a:pt x="977" y="884"/>
                </a:lnTo>
                <a:lnTo>
                  <a:pt x="990" y="875"/>
                </a:lnTo>
                <a:lnTo>
                  <a:pt x="1000" y="867"/>
                </a:lnTo>
                <a:lnTo>
                  <a:pt x="1012" y="859"/>
                </a:lnTo>
                <a:lnTo>
                  <a:pt x="1024" y="849"/>
                </a:lnTo>
                <a:lnTo>
                  <a:pt x="1037" y="837"/>
                </a:lnTo>
                <a:lnTo>
                  <a:pt x="1051" y="826"/>
                </a:lnTo>
                <a:lnTo>
                  <a:pt x="1065" y="814"/>
                </a:lnTo>
                <a:lnTo>
                  <a:pt x="1079" y="802"/>
                </a:lnTo>
                <a:lnTo>
                  <a:pt x="1095" y="789"/>
                </a:lnTo>
                <a:lnTo>
                  <a:pt x="1108" y="777"/>
                </a:lnTo>
                <a:lnTo>
                  <a:pt x="1123" y="764"/>
                </a:lnTo>
                <a:lnTo>
                  <a:pt x="1135" y="753"/>
                </a:lnTo>
                <a:lnTo>
                  <a:pt x="1150" y="739"/>
                </a:lnTo>
                <a:lnTo>
                  <a:pt x="1161" y="729"/>
                </a:lnTo>
                <a:lnTo>
                  <a:pt x="1174" y="717"/>
                </a:lnTo>
                <a:lnTo>
                  <a:pt x="1185" y="707"/>
                </a:lnTo>
                <a:lnTo>
                  <a:pt x="1195" y="696"/>
                </a:lnTo>
                <a:lnTo>
                  <a:pt x="1203" y="687"/>
                </a:lnTo>
                <a:lnTo>
                  <a:pt x="1213" y="676"/>
                </a:lnTo>
                <a:lnTo>
                  <a:pt x="1223" y="664"/>
                </a:lnTo>
                <a:lnTo>
                  <a:pt x="1235" y="651"/>
                </a:lnTo>
                <a:lnTo>
                  <a:pt x="1247" y="638"/>
                </a:lnTo>
                <a:lnTo>
                  <a:pt x="1259" y="624"/>
                </a:lnTo>
                <a:lnTo>
                  <a:pt x="1272" y="608"/>
                </a:lnTo>
                <a:lnTo>
                  <a:pt x="1285" y="592"/>
                </a:lnTo>
                <a:lnTo>
                  <a:pt x="1297" y="578"/>
                </a:lnTo>
                <a:lnTo>
                  <a:pt x="1309" y="563"/>
                </a:lnTo>
                <a:lnTo>
                  <a:pt x="1321" y="548"/>
                </a:lnTo>
                <a:lnTo>
                  <a:pt x="1334" y="532"/>
                </a:lnTo>
                <a:lnTo>
                  <a:pt x="1345" y="519"/>
                </a:lnTo>
                <a:lnTo>
                  <a:pt x="1355" y="505"/>
                </a:lnTo>
                <a:lnTo>
                  <a:pt x="1365" y="491"/>
                </a:lnTo>
                <a:lnTo>
                  <a:pt x="1374" y="479"/>
                </a:lnTo>
                <a:lnTo>
                  <a:pt x="1382" y="469"/>
                </a:lnTo>
                <a:lnTo>
                  <a:pt x="1390" y="454"/>
                </a:lnTo>
                <a:lnTo>
                  <a:pt x="1398" y="442"/>
                </a:lnTo>
                <a:lnTo>
                  <a:pt x="1407" y="427"/>
                </a:lnTo>
                <a:lnTo>
                  <a:pt x="1416" y="412"/>
                </a:lnTo>
                <a:lnTo>
                  <a:pt x="1425" y="398"/>
                </a:lnTo>
                <a:lnTo>
                  <a:pt x="1434" y="383"/>
                </a:lnTo>
                <a:lnTo>
                  <a:pt x="1443" y="366"/>
                </a:lnTo>
                <a:lnTo>
                  <a:pt x="1450" y="351"/>
                </a:lnTo>
                <a:lnTo>
                  <a:pt x="1459" y="336"/>
                </a:lnTo>
                <a:lnTo>
                  <a:pt x="1465" y="323"/>
                </a:lnTo>
                <a:lnTo>
                  <a:pt x="1473" y="308"/>
                </a:lnTo>
                <a:lnTo>
                  <a:pt x="1478" y="296"/>
                </a:lnTo>
                <a:lnTo>
                  <a:pt x="1485" y="283"/>
                </a:lnTo>
                <a:lnTo>
                  <a:pt x="1489" y="272"/>
                </a:lnTo>
                <a:lnTo>
                  <a:pt x="1494" y="262"/>
                </a:lnTo>
                <a:lnTo>
                  <a:pt x="1496" y="252"/>
                </a:lnTo>
                <a:lnTo>
                  <a:pt x="1500" y="243"/>
                </a:lnTo>
                <a:lnTo>
                  <a:pt x="1504" y="231"/>
                </a:lnTo>
                <a:lnTo>
                  <a:pt x="1508" y="220"/>
                </a:lnTo>
                <a:lnTo>
                  <a:pt x="1512" y="208"/>
                </a:lnTo>
                <a:lnTo>
                  <a:pt x="1517" y="195"/>
                </a:lnTo>
                <a:lnTo>
                  <a:pt x="1522" y="183"/>
                </a:lnTo>
                <a:lnTo>
                  <a:pt x="1526" y="169"/>
                </a:lnTo>
                <a:lnTo>
                  <a:pt x="1530" y="158"/>
                </a:lnTo>
                <a:lnTo>
                  <a:pt x="1535" y="146"/>
                </a:lnTo>
                <a:lnTo>
                  <a:pt x="1539" y="134"/>
                </a:lnTo>
                <a:lnTo>
                  <a:pt x="1545" y="122"/>
                </a:lnTo>
                <a:lnTo>
                  <a:pt x="1548" y="112"/>
                </a:lnTo>
                <a:lnTo>
                  <a:pt x="1552" y="101"/>
                </a:lnTo>
                <a:lnTo>
                  <a:pt x="1555" y="92"/>
                </a:lnTo>
                <a:lnTo>
                  <a:pt x="1559" y="83"/>
                </a:lnTo>
                <a:lnTo>
                  <a:pt x="1561" y="77"/>
                </a:lnTo>
                <a:lnTo>
                  <a:pt x="1563" y="71"/>
                </a:lnTo>
                <a:lnTo>
                  <a:pt x="1564" y="68"/>
                </a:lnTo>
                <a:lnTo>
                  <a:pt x="1565" y="64"/>
                </a:lnTo>
                <a:lnTo>
                  <a:pt x="1565" y="63"/>
                </a:lnTo>
                <a:lnTo>
                  <a:pt x="1566" y="61"/>
                </a:lnTo>
                <a:lnTo>
                  <a:pt x="1566" y="59"/>
                </a:lnTo>
                <a:lnTo>
                  <a:pt x="1568" y="57"/>
                </a:lnTo>
                <a:lnTo>
                  <a:pt x="1568" y="56"/>
                </a:lnTo>
                <a:lnTo>
                  <a:pt x="1569" y="52"/>
                </a:lnTo>
                <a:lnTo>
                  <a:pt x="1570" y="49"/>
                </a:lnTo>
                <a:lnTo>
                  <a:pt x="1573" y="42"/>
                </a:lnTo>
                <a:lnTo>
                  <a:pt x="1575" y="36"/>
                </a:lnTo>
                <a:lnTo>
                  <a:pt x="1579" y="26"/>
                </a:lnTo>
                <a:lnTo>
                  <a:pt x="1584" y="15"/>
                </a:lnTo>
                <a:lnTo>
                  <a:pt x="1589" y="0"/>
                </a:lnTo>
              </a:path>
            </a:pathLst>
          </a:custGeom>
          <a:noFill/>
          <a:ln cap="rnd"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056040" y="2259000"/>
            <a:ext cx="1477800" cy="1685880"/>
          </a:xfrm>
          <a:custGeom>
            <a:avLst/>
            <a:gdLst/>
            <a:ahLst/>
            <a:rect l="l" t="t" r="r" b="b"/>
            <a:pathLst>
              <a:path w="931" h="1062">
                <a:moveTo>
                  <a:pt x="0" y="1061"/>
                </a:moveTo>
                <a:lnTo>
                  <a:pt x="12" y="1055"/>
                </a:lnTo>
                <a:lnTo>
                  <a:pt x="29" y="1047"/>
                </a:lnTo>
                <a:lnTo>
                  <a:pt x="47" y="1037"/>
                </a:lnTo>
                <a:lnTo>
                  <a:pt x="69" y="1027"/>
                </a:lnTo>
                <a:lnTo>
                  <a:pt x="92" y="1014"/>
                </a:lnTo>
                <a:lnTo>
                  <a:pt x="116" y="1001"/>
                </a:lnTo>
                <a:lnTo>
                  <a:pt x="141" y="988"/>
                </a:lnTo>
                <a:lnTo>
                  <a:pt x="167" y="974"/>
                </a:lnTo>
                <a:lnTo>
                  <a:pt x="191" y="960"/>
                </a:lnTo>
                <a:lnTo>
                  <a:pt x="216" y="945"/>
                </a:lnTo>
                <a:lnTo>
                  <a:pt x="240" y="932"/>
                </a:lnTo>
                <a:lnTo>
                  <a:pt x="264" y="918"/>
                </a:lnTo>
                <a:lnTo>
                  <a:pt x="284" y="907"/>
                </a:lnTo>
                <a:lnTo>
                  <a:pt x="302" y="894"/>
                </a:lnTo>
                <a:lnTo>
                  <a:pt x="317" y="885"/>
                </a:lnTo>
                <a:lnTo>
                  <a:pt x="331" y="875"/>
                </a:lnTo>
                <a:lnTo>
                  <a:pt x="341" y="868"/>
                </a:lnTo>
                <a:lnTo>
                  <a:pt x="353" y="859"/>
                </a:lnTo>
                <a:lnTo>
                  <a:pt x="365" y="848"/>
                </a:lnTo>
                <a:lnTo>
                  <a:pt x="378" y="838"/>
                </a:lnTo>
                <a:lnTo>
                  <a:pt x="392" y="826"/>
                </a:lnTo>
                <a:lnTo>
                  <a:pt x="405" y="814"/>
                </a:lnTo>
                <a:lnTo>
                  <a:pt x="420" y="802"/>
                </a:lnTo>
                <a:lnTo>
                  <a:pt x="435" y="789"/>
                </a:lnTo>
                <a:lnTo>
                  <a:pt x="449" y="778"/>
                </a:lnTo>
                <a:lnTo>
                  <a:pt x="464" y="764"/>
                </a:lnTo>
                <a:lnTo>
                  <a:pt x="476" y="753"/>
                </a:lnTo>
                <a:lnTo>
                  <a:pt x="491" y="740"/>
                </a:lnTo>
                <a:lnTo>
                  <a:pt x="502" y="728"/>
                </a:lnTo>
                <a:lnTo>
                  <a:pt x="515" y="717"/>
                </a:lnTo>
                <a:lnTo>
                  <a:pt x="526" y="707"/>
                </a:lnTo>
                <a:lnTo>
                  <a:pt x="536" y="697"/>
                </a:lnTo>
                <a:lnTo>
                  <a:pt x="544" y="688"/>
                </a:lnTo>
                <a:lnTo>
                  <a:pt x="554" y="676"/>
                </a:lnTo>
                <a:lnTo>
                  <a:pt x="564" y="665"/>
                </a:lnTo>
                <a:lnTo>
                  <a:pt x="576" y="652"/>
                </a:lnTo>
                <a:lnTo>
                  <a:pt x="588" y="638"/>
                </a:lnTo>
                <a:lnTo>
                  <a:pt x="600" y="623"/>
                </a:lnTo>
                <a:lnTo>
                  <a:pt x="613" y="608"/>
                </a:lnTo>
                <a:lnTo>
                  <a:pt x="626" y="592"/>
                </a:lnTo>
                <a:lnTo>
                  <a:pt x="638" y="578"/>
                </a:lnTo>
                <a:lnTo>
                  <a:pt x="650" y="563"/>
                </a:lnTo>
                <a:lnTo>
                  <a:pt x="662" y="548"/>
                </a:lnTo>
                <a:lnTo>
                  <a:pt x="675" y="532"/>
                </a:lnTo>
                <a:lnTo>
                  <a:pt x="686" y="519"/>
                </a:lnTo>
                <a:lnTo>
                  <a:pt x="696" y="504"/>
                </a:lnTo>
                <a:lnTo>
                  <a:pt x="706" y="492"/>
                </a:lnTo>
                <a:lnTo>
                  <a:pt x="715" y="479"/>
                </a:lnTo>
                <a:lnTo>
                  <a:pt x="723" y="468"/>
                </a:lnTo>
                <a:lnTo>
                  <a:pt x="731" y="455"/>
                </a:lnTo>
                <a:lnTo>
                  <a:pt x="739" y="441"/>
                </a:lnTo>
                <a:lnTo>
                  <a:pt x="748" y="426"/>
                </a:lnTo>
                <a:lnTo>
                  <a:pt x="757" y="412"/>
                </a:lnTo>
                <a:lnTo>
                  <a:pt x="766" y="398"/>
                </a:lnTo>
                <a:lnTo>
                  <a:pt x="775" y="383"/>
                </a:lnTo>
                <a:lnTo>
                  <a:pt x="784" y="366"/>
                </a:lnTo>
                <a:lnTo>
                  <a:pt x="791" y="351"/>
                </a:lnTo>
                <a:lnTo>
                  <a:pt x="800" y="336"/>
                </a:lnTo>
                <a:lnTo>
                  <a:pt x="806" y="323"/>
                </a:lnTo>
                <a:lnTo>
                  <a:pt x="814" y="308"/>
                </a:lnTo>
                <a:lnTo>
                  <a:pt x="819" y="296"/>
                </a:lnTo>
                <a:lnTo>
                  <a:pt x="826" y="283"/>
                </a:lnTo>
                <a:lnTo>
                  <a:pt x="830" y="272"/>
                </a:lnTo>
                <a:lnTo>
                  <a:pt x="835" y="261"/>
                </a:lnTo>
                <a:lnTo>
                  <a:pt x="837" y="252"/>
                </a:lnTo>
                <a:lnTo>
                  <a:pt x="841" y="243"/>
                </a:lnTo>
                <a:lnTo>
                  <a:pt x="845" y="231"/>
                </a:lnTo>
                <a:lnTo>
                  <a:pt x="849" y="220"/>
                </a:lnTo>
                <a:lnTo>
                  <a:pt x="853" y="208"/>
                </a:lnTo>
                <a:lnTo>
                  <a:pt x="858" y="195"/>
                </a:lnTo>
                <a:lnTo>
                  <a:pt x="863" y="183"/>
                </a:lnTo>
                <a:lnTo>
                  <a:pt x="867" y="169"/>
                </a:lnTo>
                <a:lnTo>
                  <a:pt x="871" y="158"/>
                </a:lnTo>
                <a:lnTo>
                  <a:pt x="876" y="146"/>
                </a:lnTo>
                <a:lnTo>
                  <a:pt x="880" y="133"/>
                </a:lnTo>
                <a:lnTo>
                  <a:pt x="886" y="122"/>
                </a:lnTo>
                <a:lnTo>
                  <a:pt x="889" y="112"/>
                </a:lnTo>
                <a:lnTo>
                  <a:pt x="893" y="101"/>
                </a:lnTo>
                <a:lnTo>
                  <a:pt x="896" y="92"/>
                </a:lnTo>
                <a:lnTo>
                  <a:pt x="900" y="82"/>
                </a:lnTo>
                <a:lnTo>
                  <a:pt x="902" y="77"/>
                </a:lnTo>
                <a:lnTo>
                  <a:pt x="904" y="72"/>
                </a:lnTo>
                <a:lnTo>
                  <a:pt x="905" y="68"/>
                </a:lnTo>
                <a:lnTo>
                  <a:pt x="906" y="64"/>
                </a:lnTo>
                <a:lnTo>
                  <a:pt x="906" y="63"/>
                </a:lnTo>
                <a:lnTo>
                  <a:pt x="907" y="61"/>
                </a:lnTo>
                <a:lnTo>
                  <a:pt x="907" y="59"/>
                </a:lnTo>
                <a:lnTo>
                  <a:pt x="909" y="57"/>
                </a:lnTo>
                <a:lnTo>
                  <a:pt x="909" y="56"/>
                </a:lnTo>
                <a:lnTo>
                  <a:pt x="910" y="52"/>
                </a:lnTo>
                <a:lnTo>
                  <a:pt x="911" y="49"/>
                </a:lnTo>
                <a:lnTo>
                  <a:pt x="914" y="42"/>
                </a:lnTo>
                <a:lnTo>
                  <a:pt x="916" y="36"/>
                </a:lnTo>
                <a:lnTo>
                  <a:pt x="920" y="26"/>
                </a:lnTo>
                <a:lnTo>
                  <a:pt x="925" y="15"/>
                </a:lnTo>
                <a:lnTo>
                  <a:pt x="930" y="0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43480" y="1687680"/>
            <a:ext cx="28573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3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0" y="4800600"/>
            <a:ext cx="4440240" cy="1676520"/>
            <a:chOff x="0" y="4800600"/>
            <a:chExt cx="4440240" cy="1676520"/>
          </a:xfrm>
        </p:grpSpPr>
        <p:sp>
          <p:nvSpPr>
            <p:cNvPr id="652" name=""/>
            <p:cNvSpPr/>
            <p:nvPr/>
          </p:nvSpPr>
          <p:spPr>
            <a:xfrm>
              <a:off x="0" y="4800600"/>
              <a:ext cx="4440240" cy="1676520"/>
            </a:xfrm>
            <a:custGeom>
              <a:avLst/>
              <a:gdLst/>
              <a:ahLst/>
              <a:rect l="l" t="t" r="r" b="b"/>
              <a:pathLst>
                <a:path w="2797" h="1056">
                  <a:moveTo>
                    <a:pt x="1354" y="0"/>
                  </a:moveTo>
                  <a:lnTo>
                    <a:pt x="1354" y="0"/>
                  </a:lnTo>
                  <a:lnTo>
                    <a:pt x="0" y="616"/>
                  </a:lnTo>
                  <a:lnTo>
                    <a:pt x="683" y="546"/>
                  </a:lnTo>
                  <a:lnTo>
                    <a:pt x="698" y="1052"/>
                  </a:lnTo>
                  <a:lnTo>
                    <a:pt x="2167" y="1055"/>
                  </a:lnTo>
                  <a:lnTo>
                    <a:pt x="2151" y="549"/>
                  </a:lnTo>
                  <a:lnTo>
                    <a:pt x="2796" y="622"/>
                  </a:lnTo>
                  <a:lnTo>
                    <a:pt x="1354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42920" y="5237280"/>
              <a:ext cx="24386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no hay precios que den ést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solució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200400" y="2743200"/>
            <a:ext cx="5333760" cy="2590560"/>
            <a:chOff x="3200400" y="2743200"/>
            <a:chExt cx="5333760" cy="2590560"/>
          </a:xfrm>
        </p:grpSpPr>
        <p:sp>
          <p:nvSpPr>
            <p:cNvPr id="655" name=""/>
            <p:cNvSpPr/>
            <p:nvPr/>
          </p:nvSpPr>
          <p:spPr>
            <a:xfrm>
              <a:off x="3200400" y="2743200"/>
              <a:ext cx="5178600" cy="2590560"/>
            </a:xfrm>
            <a:custGeom>
              <a:avLst/>
              <a:gdLst/>
              <a:ahLst/>
              <a:rect l="l" t="t" r="r" b="b"/>
              <a:pathLst>
                <a:path w="3029" h="1341">
                  <a:moveTo>
                    <a:pt x="0" y="657"/>
                  </a:moveTo>
                  <a:lnTo>
                    <a:pt x="0" y="657"/>
                  </a:lnTo>
                  <a:lnTo>
                    <a:pt x="1784" y="0"/>
                  </a:lnTo>
                  <a:lnTo>
                    <a:pt x="1575" y="329"/>
                  </a:lnTo>
                  <a:lnTo>
                    <a:pt x="3028" y="329"/>
                  </a:lnTo>
                  <a:lnTo>
                    <a:pt x="3028" y="1033"/>
                  </a:lnTo>
                  <a:lnTo>
                    <a:pt x="1575" y="1033"/>
                  </a:lnTo>
                  <a:lnTo>
                    <a:pt x="1784" y="1340"/>
                  </a:lnTo>
                  <a:lnTo>
                    <a:pt x="0" y="65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56640" y="3471120"/>
              <a:ext cx="427752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Producción indeterminada a este precio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412560" y="1248840"/>
            <a:ext cx="859284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78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Función de Producción con Rendimientos crecientes a Escal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378080" y="4570560"/>
            <a:ext cx="5840280" cy="2063520"/>
          </a:xfrm>
          <a:custGeom>
            <a:avLst/>
            <a:gdLst/>
            <a:ahLst/>
            <a:rect l="l" t="t" r="r" b="b"/>
            <a:pathLst>
              <a:path w="3679" h="1300">
                <a:moveTo>
                  <a:pt x="0" y="0"/>
                </a:moveTo>
                <a:lnTo>
                  <a:pt x="1988" y="28"/>
                </a:lnTo>
                <a:lnTo>
                  <a:pt x="1878" y="971"/>
                </a:lnTo>
                <a:lnTo>
                  <a:pt x="2495" y="1299"/>
                </a:lnTo>
                <a:lnTo>
                  <a:pt x="2737" y="1222"/>
                </a:lnTo>
                <a:lnTo>
                  <a:pt x="2987" y="1156"/>
                </a:lnTo>
                <a:lnTo>
                  <a:pt x="3317" y="893"/>
                </a:lnTo>
                <a:lnTo>
                  <a:pt x="3477" y="761"/>
                </a:lnTo>
                <a:lnTo>
                  <a:pt x="3647" y="619"/>
                </a:lnTo>
                <a:lnTo>
                  <a:pt x="3678" y="346"/>
                </a:lnTo>
                <a:lnTo>
                  <a:pt x="3507" y="159"/>
                </a:lnTo>
                <a:lnTo>
                  <a:pt x="3477" y="5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359000" y="1625400"/>
            <a:ext cx="9360" cy="2917800"/>
          </a:xfrm>
          <a:prstGeom prst="line">
            <a:avLst/>
          </a:prstGeom>
          <a:ln w="25560">
            <a:solidFill>
              <a:srgbClr val="8f8f8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357200" y="4579920"/>
            <a:ext cx="555156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7067520" y="4378320"/>
            <a:ext cx="2033640" cy="214200"/>
            <a:chOff x="7067520" y="4378320"/>
            <a:chExt cx="2033640" cy="214200"/>
          </a:xfrm>
        </p:grpSpPr>
        <p:sp>
          <p:nvSpPr>
            <p:cNvPr id="662" name=""/>
            <p:cNvSpPr/>
            <p:nvPr/>
          </p:nvSpPr>
          <p:spPr>
            <a:xfrm>
              <a:off x="7067520" y="4378320"/>
              <a:ext cx="20336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243920" y="4591080"/>
              <a:ext cx="184932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1219320" y="1447920"/>
            <a:ext cx="5349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500000">
            <a:off x="5640480" y="5649840"/>
            <a:ext cx="33591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1500000">
            <a:off x="5721120" y="5943240"/>
            <a:ext cx="3276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7560" y="2489040"/>
            <a:ext cx="4079880" cy="3152880"/>
          </a:xfrm>
          <a:custGeom>
            <a:avLst/>
            <a:gdLst/>
            <a:ahLst/>
            <a:rect l="l" t="t" r="r" b="b"/>
            <a:pathLst>
              <a:path w="2570" h="1986">
                <a:moveTo>
                  <a:pt x="4" y="1315"/>
                </a:moveTo>
                <a:lnTo>
                  <a:pt x="1822" y="1985"/>
                </a:lnTo>
                <a:lnTo>
                  <a:pt x="1831" y="1983"/>
                </a:lnTo>
                <a:lnTo>
                  <a:pt x="1842" y="1839"/>
                </a:lnTo>
                <a:lnTo>
                  <a:pt x="1871" y="1648"/>
                </a:lnTo>
                <a:lnTo>
                  <a:pt x="1938" y="1337"/>
                </a:lnTo>
                <a:lnTo>
                  <a:pt x="2007" y="1132"/>
                </a:lnTo>
                <a:lnTo>
                  <a:pt x="2112" y="820"/>
                </a:lnTo>
                <a:lnTo>
                  <a:pt x="2238" y="501"/>
                </a:lnTo>
                <a:lnTo>
                  <a:pt x="2336" y="311"/>
                </a:lnTo>
                <a:lnTo>
                  <a:pt x="2442" y="144"/>
                </a:lnTo>
                <a:lnTo>
                  <a:pt x="2569" y="0"/>
                </a:lnTo>
                <a:lnTo>
                  <a:pt x="2559" y="0"/>
                </a:lnTo>
                <a:lnTo>
                  <a:pt x="0" y="1307"/>
                </a:lnTo>
                <a:lnTo>
                  <a:pt x="4" y="1315"/>
                </a:lnTo>
              </a:path>
            </a:pathLst>
          </a:custGeom>
          <a:gradFill rotWithShape="0">
            <a:gsLst>
              <a:gs pos="0">
                <a:srgbClr val="ffbf18"/>
              </a:gs>
              <a:gs pos="50000">
                <a:srgbClr val="ffffff"/>
              </a:gs>
              <a:gs pos="100000">
                <a:srgbClr val="ffbf18"/>
              </a:gs>
            </a:gsLst>
            <a:lin ang="81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081760" y="2478240"/>
            <a:ext cx="1525320" cy="2101680"/>
          </a:xfrm>
          <a:custGeom>
            <a:avLst/>
            <a:gdLst/>
            <a:ahLst/>
            <a:rect l="l" t="t" r="r" b="b"/>
            <a:pathLst>
              <a:path w="961" h="1324">
                <a:moveTo>
                  <a:pt x="0" y="1323"/>
                </a:moveTo>
                <a:lnTo>
                  <a:pt x="0" y="1323"/>
                </a:lnTo>
                <a:lnTo>
                  <a:pt x="58" y="1140"/>
                </a:lnTo>
                <a:lnTo>
                  <a:pt x="163" y="828"/>
                </a:lnTo>
                <a:lnTo>
                  <a:pt x="291" y="509"/>
                </a:lnTo>
                <a:lnTo>
                  <a:pt x="387" y="318"/>
                </a:lnTo>
                <a:lnTo>
                  <a:pt x="494" y="151"/>
                </a:lnTo>
                <a:lnTo>
                  <a:pt x="620" y="8"/>
                </a:lnTo>
                <a:lnTo>
                  <a:pt x="668" y="0"/>
                </a:lnTo>
                <a:lnTo>
                  <a:pt x="718" y="30"/>
                </a:lnTo>
                <a:lnTo>
                  <a:pt x="746" y="75"/>
                </a:lnTo>
                <a:lnTo>
                  <a:pt x="785" y="206"/>
                </a:lnTo>
                <a:lnTo>
                  <a:pt x="823" y="395"/>
                </a:lnTo>
                <a:lnTo>
                  <a:pt x="862" y="623"/>
                </a:lnTo>
                <a:lnTo>
                  <a:pt x="910" y="934"/>
                </a:lnTo>
                <a:lnTo>
                  <a:pt x="940" y="1184"/>
                </a:lnTo>
                <a:lnTo>
                  <a:pt x="960" y="1315"/>
                </a:lnTo>
                <a:lnTo>
                  <a:pt x="0" y="1323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1990800" y="2492280"/>
            <a:ext cx="4057560" cy="20685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96000" y="2478240"/>
            <a:ext cx="1709640" cy="3162240"/>
          </a:xfrm>
          <a:custGeom>
            <a:avLst/>
            <a:gdLst/>
            <a:ahLst/>
            <a:rect l="l" t="t" r="r" b="b"/>
            <a:pathLst>
              <a:path w="1077" h="1992">
                <a:moveTo>
                  <a:pt x="0" y="1991"/>
                </a:moveTo>
                <a:lnTo>
                  <a:pt x="11" y="1846"/>
                </a:lnTo>
                <a:lnTo>
                  <a:pt x="40" y="1656"/>
                </a:lnTo>
                <a:lnTo>
                  <a:pt x="107" y="1344"/>
                </a:lnTo>
                <a:lnTo>
                  <a:pt x="175" y="1140"/>
                </a:lnTo>
                <a:lnTo>
                  <a:pt x="281" y="828"/>
                </a:lnTo>
                <a:lnTo>
                  <a:pt x="407" y="508"/>
                </a:lnTo>
                <a:lnTo>
                  <a:pt x="504" y="318"/>
                </a:lnTo>
                <a:lnTo>
                  <a:pt x="610" y="151"/>
                </a:lnTo>
                <a:lnTo>
                  <a:pt x="737" y="8"/>
                </a:lnTo>
                <a:lnTo>
                  <a:pt x="785" y="0"/>
                </a:lnTo>
                <a:lnTo>
                  <a:pt x="834" y="30"/>
                </a:lnTo>
                <a:lnTo>
                  <a:pt x="863" y="75"/>
                </a:lnTo>
                <a:lnTo>
                  <a:pt x="902" y="206"/>
                </a:lnTo>
                <a:lnTo>
                  <a:pt x="939" y="395"/>
                </a:lnTo>
                <a:lnTo>
                  <a:pt x="979" y="622"/>
                </a:lnTo>
                <a:lnTo>
                  <a:pt x="1028" y="934"/>
                </a:lnTo>
                <a:lnTo>
                  <a:pt x="1057" y="1184"/>
                </a:lnTo>
                <a:lnTo>
                  <a:pt x="1076" y="1314"/>
                </a:lnTo>
              </a:path>
            </a:pathLst>
          </a:custGeom>
          <a:noFill/>
          <a:ln cap="rnd"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193760" y="4549680"/>
            <a:ext cx="820116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378080" y="4583160"/>
            <a:ext cx="3522600" cy="1520640"/>
          </a:xfrm>
          <a:custGeom>
            <a:avLst/>
            <a:gdLst/>
            <a:ahLst/>
            <a:rect l="l" t="t" r="r" b="b"/>
            <a:pathLst>
              <a:path w="2219" h="958">
                <a:moveTo>
                  <a:pt x="0" y="6"/>
                </a:moveTo>
                <a:lnTo>
                  <a:pt x="388" y="0"/>
                </a:lnTo>
                <a:lnTo>
                  <a:pt x="2218" y="674"/>
                </a:lnTo>
                <a:lnTo>
                  <a:pt x="1887" y="957"/>
                </a:lnTo>
                <a:lnTo>
                  <a:pt x="6" y="6"/>
                </a:lnTo>
                <a:lnTo>
                  <a:pt x="0" y="6"/>
                </a:lnTo>
              </a:path>
            </a:pathLst>
          </a:custGeom>
          <a:gradFill rotWithShape="0">
            <a:gsLst>
              <a:gs pos="0">
                <a:srgbClr val="ff8100"/>
              </a:gs>
              <a:gs pos="50000">
                <a:srgbClr val="ffffff"/>
              </a:gs>
              <a:gs pos="100000">
                <a:srgbClr val="ff8100"/>
              </a:gs>
            </a:gsLst>
            <a:lin ang="8100000"/>
          </a:gradFill>
          <a:ln cap="rnd" w="12600">
            <a:solidFill>
              <a:srgbClr val="ffbf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373040" y="4583160"/>
            <a:ext cx="6019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390920" y="5653080"/>
            <a:ext cx="509760" cy="4399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390680" y="4594320"/>
            <a:ext cx="3946320" cy="2023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14400" y="3352680"/>
            <a:ext cx="1606680" cy="2095200"/>
            <a:chOff x="914400" y="3352680"/>
            <a:chExt cx="1606680" cy="2095200"/>
          </a:xfrm>
        </p:grpSpPr>
        <p:sp>
          <p:nvSpPr>
            <p:cNvPr id="677" name=""/>
            <p:cNvSpPr/>
            <p:nvPr/>
          </p:nvSpPr>
          <p:spPr>
            <a:xfrm>
              <a:off x="914400" y="3796920"/>
              <a:ext cx="1528920" cy="1650960"/>
            </a:xfrm>
            <a:custGeom>
              <a:avLst/>
              <a:gdLst/>
              <a:ahLst/>
              <a:rect l="l" t="t" r="r" b="b"/>
              <a:pathLst>
                <a:path w="963" h="1040">
                  <a:moveTo>
                    <a:pt x="333" y="6"/>
                  </a:moveTo>
                  <a:lnTo>
                    <a:pt x="241" y="51"/>
                  </a:lnTo>
                  <a:lnTo>
                    <a:pt x="166" y="107"/>
                  </a:lnTo>
                  <a:lnTo>
                    <a:pt x="105" y="175"/>
                  </a:lnTo>
                  <a:lnTo>
                    <a:pt x="58" y="250"/>
                  </a:lnTo>
                  <a:lnTo>
                    <a:pt x="25" y="334"/>
                  </a:lnTo>
                  <a:lnTo>
                    <a:pt x="6" y="422"/>
                  </a:lnTo>
                  <a:lnTo>
                    <a:pt x="0" y="512"/>
                  </a:lnTo>
                  <a:lnTo>
                    <a:pt x="8" y="600"/>
                  </a:lnTo>
                  <a:lnTo>
                    <a:pt x="27" y="688"/>
                  </a:lnTo>
                  <a:lnTo>
                    <a:pt x="60" y="769"/>
                  </a:lnTo>
                  <a:lnTo>
                    <a:pt x="105" y="846"/>
                  </a:lnTo>
                  <a:lnTo>
                    <a:pt x="160" y="910"/>
                  </a:lnTo>
                  <a:lnTo>
                    <a:pt x="227" y="966"/>
                  </a:lnTo>
                  <a:lnTo>
                    <a:pt x="306" y="1006"/>
                  </a:lnTo>
                  <a:lnTo>
                    <a:pt x="394" y="1032"/>
                  </a:lnTo>
                  <a:lnTo>
                    <a:pt x="493" y="1039"/>
                  </a:lnTo>
                  <a:lnTo>
                    <a:pt x="591" y="1027"/>
                  </a:lnTo>
                  <a:lnTo>
                    <a:pt x="679" y="997"/>
                  </a:lnTo>
                  <a:lnTo>
                    <a:pt x="755" y="953"/>
                  </a:lnTo>
                  <a:lnTo>
                    <a:pt x="819" y="894"/>
                  </a:lnTo>
                  <a:lnTo>
                    <a:pt x="872" y="825"/>
                  </a:lnTo>
                  <a:lnTo>
                    <a:pt x="914" y="747"/>
                  </a:lnTo>
                  <a:lnTo>
                    <a:pt x="942" y="664"/>
                  </a:lnTo>
                  <a:lnTo>
                    <a:pt x="958" y="575"/>
                  </a:lnTo>
                  <a:lnTo>
                    <a:pt x="962" y="486"/>
                  </a:lnTo>
                  <a:lnTo>
                    <a:pt x="952" y="396"/>
                  </a:lnTo>
                  <a:lnTo>
                    <a:pt x="930" y="311"/>
                  </a:lnTo>
                  <a:lnTo>
                    <a:pt x="894" y="229"/>
                  </a:lnTo>
                  <a:lnTo>
                    <a:pt x="843" y="155"/>
                  </a:lnTo>
                  <a:lnTo>
                    <a:pt x="781" y="91"/>
                  </a:lnTo>
                  <a:lnTo>
                    <a:pt x="702" y="39"/>
                  </a:lnTo>
                  <a:lnTo>
                    <a:pt x="610" y="0"/>
                  </a:lnTo>
                </a:path>
              </a:pathLst>
            </a:custGeom>
            <a:noFill/>
            <a:ln cap="rnd" w="127080">
              <a:solidFill>
                <a:srgbClr val="ff000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192320" y="3352680"/>
              <a:ext cx="1328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192320" y="3352680"/>
              <a:ext cx="1328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rush738 BT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Brush738 BT"/>
                </a:rPr>
                <a:t>RCA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59464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La función de oferta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62120" y="2209680"/>
            <a:ext cx="766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8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0080"/>
                </a:solidFill>
                <a:latin typeface="Times New Roman"/>
              </a:rPr>
              <a:t>La pendiente de la curva de oferta es posi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120" y="3429000"/>
            <a:ext cx="718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62120" y="342900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8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0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00080"/>
                </a:solidFill>
                <a:latin typeface="Times New Roman"/>
              </a:rPr>
              <a:t>La no-concavidad de  </a:t>
            </a:r>
            <a:r>
              <a:rPr b="1" i="1" lang="en-US" sz="3200" spc="-1" strike="noStrike">
                <a:solidFill>
                  <a:srgbClr val="400080"/>
                </a:solidFill>
                <a:latin typeface="Times New Roman"/>
              </a:rPr>
              <a:t>G  </a:t>
            </a:r>
            <a:r>
              <a:rPr b="1" lang="en-US" sz="3200" spc="-1" strike="noStrike">
                <a:solidFill>
                  <a:srgbClr val="400080"/>
                </a:solidFill>
                <a:latin typeface="Times New Roman"/>
              </a:rPr>
              <a:t>produce  discontinuidad en</a:t>
            </a:r>
            <a:r>
              <a:rPr b="0" lang="en-US" sz="3200" spc="-1" strike="noStrike">
                <a:solidFill>
                  <a:srgbClr val="40008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40008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62120" y="4876920"/>
            <a:ext cx="766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8080" indent="-208080">
              <a:buClr>
                <a:srgbClr val="ff008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400080"/>
                </a:solidFill>
                <a:latin typeface="Times New Roman"/>
              </a:rPr>
              <a:t>RCAE significa que</a:t>
            </a:r>
            <a:r>
              <a:rPr b="1" i="1" lang="es-ES_tradnl" sz="3200" spc="-1" strike="noStrike">
                <a:solidFill>
                  <a:srgbClr val="400080"/>
                </a:solidFill>
                <a:latin typeface="Times New Roman"/>
              </a:rPr>
              <a:t> G</a:t>
            </a:r>
            <a:r>
              <a:rPr b="0" lang="es-ES_tradnl" sz="3200" spc="-1" strike="noStrike">
                <a:solidFill>
                  <a:srgbClr val="400080"/>
                </a:solidFill>
                <a:latin typeface="Times New Roman"/>
              </a:rPr>
              <a:t> e</a:t>
            </a:r>
            <a:r>
              <a:rPr b="1" lang="es-ES_tradnl" sz="3200" spc="-1" strike="noStrike">
                <a:solidFill>
                  <a:srgbClr val="400080"/>
                </a:solidFill>
                <a:latin typeface="Times New Roman"/>
              </a:rPr>
              <a:t>s no-concava y también que </a:t>
            </a:r>
            <a:r>
              <a:rPr b="0" lang="es-ES_tradnl" sz="3200" spc="-1" strike="noStrike">
                <a:solidFill>
                  <a:srgbClr val="400080"/>
                </a:solidFill>
                <a:latin typeface="Times New Roman"/>
              </a:rPr>
              <a:t> </a:t>
            </a:r>
            <a:r>
              <a:rPr b="0" i="1" lang="es-ES_tradnl" sz="3200" spc="-1" strike="noStrike">
                <a:solidFill>
                  <a:srgbClr val="400080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400080"/>
                </a:solidFill>
                <a:latin typeface="Times New Roman"/>
              </a:rPr>
              <a:t>  e</a:t>
            </a:r>
            <a:r>
              <a:rPr b="1" lang="es-ES_tradnl" sz="3200" spc="-1" strike="noStrike">
                <a:solidFill>
                  <a:srgbClr val="400080"/>
                </a:solidFill>
                <a:latin typeface="Times New Roman"/>
              </a:rPr>
              <a:t>s discontin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buClr>
                <a:srgbClr val="ff0080"/>
              </a:buClr>
              <a:buSzPct val="46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536040" y="774720"/>
            <a:ext cx="85950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Problemas de la CAJA NEGR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0840" y="1531800"/>
            <a:ext cx="8388360" cy="50594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88960" y="1989000"/>
            <a:ext cx="7791480" cy="4318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65680" y="2136600"/>
            <a:ext cx="18525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28960" y="2052720"/>
            <a:ext cx="18496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28960" y="2052720"/>
            <a:ext cx="18496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176720" y="2367000"/>
            <a:ext cx="1087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fi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41520" y="3606840"/>
            <a:ext cx="1854000" cy="1057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63560" y="3962520"/>
            <a:ext cx="1536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08440" y="5180040"/>
            <a:ext cx="1855800" cy="1058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86200" y="5181480"/>
            <a:ext cx="16905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919840" y="5175360"/>
            <a:ext cx="1854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02280" y="5221440"/>
            <a:ext cx="16891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manda de factor ordina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2666880" y="4695840"/>
            <a:ext cx="4127760" cy="480960"/>
            <a:chOff x="2666880" y="4695840"/>
            <a:chExt cx="4127760" cy="480960"/>
          </a:xfrm>
        </p:grpSpPr>
        <p:sp>
          <p:nvSpPr>
            <p:cNvPr id="699" name=""/>
            <p:cNvSpPr/>
            <p:nvPr/>
          </p:nvSpPr>
          <p:spPr>
            <a:xfrm>
              <a:off x="3713040" y="4695840"/>
              <a:ext cx="180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666880" y="4959360"/>
              <a:ext cx="180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9320" y="4959360"/>
              <a:ext cx="144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792840" y="4959360"/>
              <a:ext cx="180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673360" y="4952880"/>
              <a:ext cx="1039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719520" y="4952880"/>
              <a:ext cx="100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35440" y="4952880"/>
              <a:ext cx="2057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1643040" y="3116160"/>
            <a:ext cx="6191280" cy="480960"/>
            <a:chOff x="1643040" y="3116160"/>
            <a:chExt cx="6191280" cy="480960"/>
          </a:xfrm>
        </p:grpSpPr>
        <p:sp>
          <p:nvSpPr>
            <p:cNvPr id="707" name=""/>
            <p:cNvSpPr/>
            <p:nvPr/>
          </p:nvSpPr>
          <p:spPr>
            <a:xfrm>
              <a:off x="4753080" y="3116160"/>
              <a:ext cx="144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643040" y="3379680"/>
              <a:ext cx="144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06920" y="3379680"/>
              <a:ext cx="144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69000" y="3379680"/>
              <a:ext cx="144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832880" y="3379680"/>
              <a:ext cx="144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649520" y="3373560"/>
              <a:ext cx="20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713040" y="3373560"/>
              <a:ext cx="1040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759200" y="3373560"/>
              <a:ext cx="100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75480" y="3373560"/>
              <a:ext cx="20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2665440" y="3608280"/>
            <a:ext cx="20271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tim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848120" y="3606840"/>
            <a:ext cx="1854360" cy="1057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945480" y="3606840"/>
            <a:ext cx="1854000" cy="1057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724280" y="3809880"/>
            <a:ext cx="2192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ática Compar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066080" y="3697200"/>
            <a:ext cx="1611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Firma y el Merca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74720" y="5180040"/>
            <a:ext cx="1854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600200" y="5181480"/>
            <a:ext cx="1981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manda condicional del fa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00200" y="5181480"/>
            <a:ext cx="2006640" cy="105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600200" y="5181480"/>
            <a:ext cx="20001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manda condicional del fa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09880" y="5181480"/>
            <a:ext cx="1854360" cy="1057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86200" y="5181480"/>
            <a:ext cx="16891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42000" y="4876920"/>
            <a:ext cx="2260440" cy="1819080"/>
          </a:xfrm>
          <a:custGeom>
            <a:avLst/>
            <a:gdLst/>
            <a:ahLst/>
            <a:rect l="l" t="t" r="r" b="b"/>
            <a:pathLst>
              <a:path w="1424" h="1146">
                <a:moveTo>
                  <a:pt x="122" y="255"/>
                </a:moveTo>
                <a:lnTo>
                  <a:pt x="60" y="348"/>
                </a:lnTo>
                <a:lnTo>
                  <a:pt x="19" y="443"/>
                </a:lnTo>
                <a:lnTo>
                  <a:pt x="1" y="537"/>
                </a:lnTo>
                <a:lnTo>
                  <a:pt x="0" y="584"/>
                </a:lnTo>
                <a:lnTo>
                  <a:pt x="4" y="631"/>
                </a:lnTo>
                <a:lnTo>
                  <a:pt x="65" y="804"/>
                </a:lnTo>
                <a:lnTo>
                  <a:pt x="190" y="955"/>
                </a:lnTo>
                <a:lnTo>
                  <a:pt x="364" y="1067"/>
                </a:lnTo>
                <a:lnTo>
                  <a:pt x="575" y="1134"/>
                </a:lnTo>
                <a:lnTo>
                  <a:pt x="688" y="1145"/>
                </a:lnTo>
                <a:lnTo>
                  <a:pt x="748" y="1145"/>
                </a:lnTo>
                <a:lnTo>
                  <a:pt x="808" y="1140"/>
                </a:lnTo>
                <a:lnTo>
                  <a:pt x="1052" y="1074"/>
                </a:lnTo>
                <a:lnTo>
                  <a:pt x="1162" y="1015"/>
                </a:lnTo>
                <a:lnTo>
                  <a:pt x="1252" y="947"/>
                </a:lnTo>
                <a:lnTo>
                  <a:pt x="1322" y="869"/>
                </a:lnTo>
                <a:lnTo>
                  <a:pt x="1374" y="786"/>
                </a:lnTo>
                <a:lnTo>
                  <a:pt x="1422" y="609"/>
                </a:lnTo>
                <a:lnTo>
                  <a:pt x="1423" y="564"/>
                </a:lnTo>
                <a:lnTo>
                  <a:pt x="1419" y="518"/>
                </a:lnTo>
                <a:lnTo>
                  <a:pt x="1399" y="428"/>
                </a:lnTo>
                <a:lnTo>
                  <a:pt x="1312" y="262"/>
                </a:lnTo>
                <a:lnTo>
                  <a:pt x="1246" y="189"/>
                </a:lnTo>
                <a:lnTo>
                  <a:pt x="1164" y="125"/>
                </a:lnTo>
                <a:lnTo>
                  <a:pt x="1070" y="73"/>
                </a:lnTo>
                <a:lnTo>
                  <a:pt x="961" y="33"/>
                </a:lnTo>
                <a:lnTo>
                  <a:pt x="841" y="7"/>
                </a:lnTo>
                <a:lnTo>
                  <a:pt x="775" y="1"/>
                </a:lnTo>
                <a:lnTo>
                  <a:pt x="706" y="0"/>
                </a:lnTo>
              </a:path>
            </a:pathLst>
          </a:custGeom>
          <a:noFill/>
          <a:ln cap="rnd" w="7632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 flipV="1">
            <a:off x="909720" y="3663720"/>
            <a:ext cx="6572160" cy="164916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2480" y="2260440"/>
            <a:ext cx="5181480" cy="2235240"/>
            <a:chOff x="42480" y="2260440"/>
            <a:chExt cx="5181480" cy="2235240"/>
          </a:xfrm>
        </p:grpSpPr>
        <p:sp>
          <p:nvSpPr>
            <p:cNvPr id="730" name=""/>
            <p:cNvSpPr/>
            <p:nvPr/>
          </p:nvSpPr>
          <p:spPr>
            <a:xfrm flipH="1">
              <a:off x="42120" y="2260440"/>
              <a:ext cx="5181480" cy="2235240"/>
            </a:xfrm>
            <a:prstGeom prst="roundRect">
              <a:avLst>
                <a:gd name="adj" fmla="val 6208"/>
              </a:avLst>
            </a:prstGeom>
            <a:solidFill>
              <a:srgbClr val="ffffc2"/>
            </a:solidFill>
            <a:ln w="1260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8600" y="3352680"/>
              <a:ext cx="3292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300" spc="-1" strike="noStrike">
                  <a:solidFill>
                    <a:srgbClr val="400080"/>
                  </a:solidFill>
                  <a:latin typeface="Arial"/>
                </a:rPr>
                <a:t>demanda del factor </a:t>
              </a:r>
              <a:r>
                <a:rPr b="1" i="1" lang="en-US" sz="2300" spc="-1" strike="noStrike">
                  <a:solidFill>
                    <a:srgbClr val="400080"/>
                  </a:solidFill>
                  <a:latin typeface="Times New Roman"/>
                </a:rPr>
                <a:t>i</a:t>
              </a:r>
              <a:r>
                <a:rPr b="1" i="1" lang="en-US" sz="2300" spc="-1" strike="noStrike">
                  <a:solidFill>
                    <a:srgbClr val="400080"/>
                  </a:solidFill>
                  <a:latin typeface="Arial"/>
                </a:rPr>
                <a:t>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300" spc="-1" strike="noStrike">
                  <a:solidFill>
                    <a:srgbClr val="400080"/>
                  </a:solidFill>
                  <a:latin typeface="Arial"/>
                </a:rPr>
                <a:t>condicionada por la producción </a:t>
              </a:r>
              <a:r>
                <a:rPr b="1" i="1" lang="en-US" sz="2300" spc="-1" strike="noStrike">
                  <a:solidFill>
                    <a:srgbClr val="400080"/>
                  </a:solidFill>
                  <a:latin typeface="Times New Roman"/>
                </a:rPr>
                <a:t>Q</a:t>
              </a:r>
              <a:r>
                <a:rPr b="1" i="1" lang="en-US" sz="2300" spc="-1" strike="noStrike">
                  <a:solidFill>
                    <a:srgbClr val="40008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0880" y="2514600"/>
              <a:ext cx="3353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_tradnl" sz="4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s-ES_tradnl" sz="4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4800" spc="-1" strike="noStrike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lang="es-ES_tradnl" sz="4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s-ES_tradnl" sz="4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s-ES_tradnl" sz="48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s-ES_tradnl" sz="4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s-ES_tradnl" sz="4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s-ES_tradnl" sz="4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s-ES_tradnl" sz="4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4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36080" cy="11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hora juntamos las dos etapas del proceso de optimizació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2165040" y="4941720"/>
            <a:ext cx="6753240" cy="1538280"/>
            <a:chOff x="2165040" y="4941720"/>
            <a:chExt cx="6753240" cy="1538280"/>
          </a:xfrm>
        </p:grpSpPr>
        <p:sp>
          <p:nvSpPr>
            <p:cNvPr id="735" name=""/>
            <p:cNvSpPr/>
            <p:nvPr/>
          </p:nvSpPr>
          <p:spPr>
            <a:xfrm flipH="1">
              <a:off x="2164680" y="4941720"/>
              <a:ext cx="6753240" cy="1538280"/>
            </a:xfrm>
            <a:prstGeom prst="roundRect">
              <a:avLst>
                <a:gd name="adj" fmla="val 6208"/>
              </a:avLst>
            </a:prstGeom>
            <a:solidFill>
              <a:srgbClr val="ffffc2"/>
            </a:solidFill>
            <a:ln w="1260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86000" y="5245200"/>
              <a:ext cx="289548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Q* = S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99120" y="6043680"/>
              <a:ext cx="29541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300" spc="-1" strike="noStrike">
                  <a:solidFill>
                    <a:srgbClr val="400080"/>
                  </a:solidFill>
                  <a:latin typeface="Arial"/>
                </a:rPr>
                <a:t>Oferta de producto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80880" y="2514600"/>
            <a:ext cx="3353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4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s-ES_tradnl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4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s-ES_tradnl" sz="4800" spc="-1" strike="noStrike">
                <a:solidFill>
                  <a:srgbClr val="c20000"/>
                </a:solidFill>
                <a:latin typeface="Times New Roman"/>
              </a:rPr>
              <a:t>Q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86000" y="5245200"/>
            <a:ext cx="28954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c20000"/>
                </a:solidFill>
                <a:latin typeface="Times New Roman"/>
              </a:rPr>
              <a:t>Q* = S </a:t>
            </a:r>
            <a:r>
              <a:rPr b="0" lang="en-US" sz="4000" spc="-1" strike="noStrike">
                <a:solidFill>
                  <a:srgbClr val="c2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c20000"/>
                </a:solidFill>
                <a:latin typeface="Times New Roman"/>
              </a:rPr>
              <a:t>w</a:t>
            </a:r>
            <a:r>
              <a:rPr b="0" lang="en-US" sz="4000" spc="-1" strike="noStrike">
                <a:solidFill>
                  <a:srgbClr val="c2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c20000"/>
                </a:solidFill>
                <a:latin typeface="Times New Roman"/>
              </a:rPr>
              <a:t>P</a:t>
            </a:r>
            <a:r>
              <a:rPr b="0" lang="en-US" sz="4000" spc="-1" strike="noStrike">
                <a:solidFill>
                  <a:srgbClr val="c2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38160" y="4768920"/>
            <a:ext cx="4505400" cy="1795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 flipV="1">
            <a:off x="3430080" y="3430440"/>
            <a:ext cx="374760" cy="14414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59464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Sustituyendo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821520" y="2908440"/>
            <a:ext cx="7101000" cy="1230120"/>
          </a:xfrm>
          <a:prstGeom prst="roundRect">
            <a:avLst>
              <a:gd name="adj" fmla="val 6208"/>
            </a:avLst>
          </a:prstGeom>
          <a:solidFill>
            <a:srgbClr val="ffffc2"/>
          </a:solidFill>
          <a:ln w="1260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996840" y="3214800"/>
            <a:ext cx="3803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3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3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3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3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3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3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3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800" spc="-1" strike="noStrike">
                <a:solidFill>
                  <a:srgbClr val="000000"/>
                </a:solidFill>
                <a:latin typeface="Times New Roman"/>
              </a:rPr>
              <a:t>))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278320" y="3213000"/>
            <a:ext cx="26035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62120" y="1066680"/>
            <a:ext cx="7977240" cy="6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6212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(nuestra tercera función de respuesta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295280" y="3124080"/>
            <a:ext cx="29718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demanda del factor </a:t>
            </a:r>
            <a:r>
              <a:rPr b="1" i="1" lang="en-US" sz="23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no condicionada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276800" y="3094200"/>
            <a:ext cx="59184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=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2133720" y="4419720"/>
            <a:ext cx="2589120" cy="938160"/>
          </a:xfrm>
          <a:custGeom>
            <a:avLst/>
            <a:gdLst/>
            <a:ahLst/>
            <a:rect l="l" t="t" r="r" b="b"/>
            <a:pathLst>
              <a:path w="1631" h="591">
                <a:moveTo>
                  <a:pt x="0" y="0"/>
                </a:moveTo>
                <a:lnTo>
                  <a:pt x="1" y="590"/>
                </a:lnTo>
                <a:lnTo>
                  <a:pt x="1630" y="586"/>
                </a:lnTo>
                <a:lnTo>
                  <a:pt x="1565" y="526"/>
                </a:lnTo>
                <a:lnTo>
                  <a:pt x="1490" y="420"/>
                </a:lnTo>
                <a:lnTo>
                  <a:pt x="1447" y="355"/>
                </a:lnTo>
                <a:lnTo>
                  <a:pt x="1385" y="263"/>
                </a:lnTo>
                <a:lnTo>
                  <a:pt x="1347" y="176"/>
                </a:lnTo>
                <a:lnTo>
                  <a:pt x="1305" y="102"/>
                </a:lnTo>
                <a:lnTo>
                  <a:pt x="1286" y="61"/>
                </a:lnTo>
                <a:lnTo>
                  <a:pt x="1276" y="28"/>
                </a:lnTo>
                <a:lnTo>
                  <a:pt x="5" y="14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8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209680" y="4572000"/>
            <a:ext cx="22226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mbio en el    cos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155160" y="456840"/>
            <a:ext cx="875988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Consideremos la demanda del factor 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144880" y="1593360"/>
            <a:ext cx="0" cy="478476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170080" y="6378480"/>
            <a:ext cx="586584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176560" y="4483080"/>
            <a:ext cx="2003400" cy="1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176560" y="5388120"/>
            <a:ext cx="2593800" cy="1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600360" y="2465280"/>
            <a:ext cx="1308240" cy="3052800"/>
          </a:xfrm>
          <a:custGeom>
            <a:avLst/>
            <a:gdLst/>
            <a:ahLst/>
            <a:rect l="l" t="t" r="r" b="b"/>
            <a:pathLst>
              <a:path w="824" h="1923">
                <a:moveTo>
                  <a:pt x="0" y="0"/>
                </a:moveTo>
                <a:lnTo>
                  <a:pt x="3" y="34"/>
                </a:lnTo>
                <a:lnTo>
                  <a:pt x="5" y="61"/>
                </a:lnTo>
                <a:lnTo>
                  <a:pt x="7" y="83"/>
                </a:lnTo>
                <a:lnTo>
                  <a:pt x="9" y="100"/>
                </a:lnTo>
                <a:lnTo>
                  <a:pt x="9" y="113"/>
                </a:lnTo>
                <a:lnTo>
                  <a:pt x="11" y="123"/>
                </a:lnTo>
                <a:lnTo>
                  <a:pt x="11" y="131"/>
                </a:lnTo>
                <a:lnTo>
                  <a:pt x="13" y="134"/>
                </a:lnTo>
                <a:lnTo>
                  <a:pt x="13" y="139"/>
                </a:lnTo>
                <a:lnTo>
                  <a:pt x="13" y="143"/>
                </a:lnTo>
                <a:lnTo>
                  <a:pt x="13" y="147"/>
                </a:lnTo>
                <a:lnTo>
                  <a:pt x="15" y="152"/>
                </a:lnTo>
                <a:lnTo>
                  <a:pt x="15" y="159"/>
                </a:lnTo>
                <a:lnTo>
                  <a:pt x="16" y="168"/>
                </a:lnTo>
                <a:lnTo>
                  <a:pt x="17" y="180"/>
                </a:lnTo>
                <a:lnTo>
                  <a:pt x="19" y="196"/>
                </a:lnTo>
                <a:lnTo>
                  <a:pt x="21" y="215"/>
                </a:lnTo>
                <a:lnTo>
                  <a:pt x="23" y="236"/>
                </a:lnTo>
                <a:lnTo>
                  <a:pt x="25" y="260"/>
                </a:lnTo>
                <a:lnTo>
                  <a:pt x="29" y="284"/>
                </a:lnTo>
                <a:lnTo>
                  <a:pt x="33" y="311"/>
                </a:lnTo>
                <a:lnTo>
                  <a:pt x="37" y="337"/>
                </a:lnTo>
                <a:lnTo>
                  <a:pt x="42" y="364"/>
                </a:lnTo>
                <a:lnTo>
                  <a:pt x="46" y="391"/>
                </a:lnTo>
                <a:lnTo>
                  <a:pt x="51" y="419"/>
                </a:lnTo>
                <a:lnTo>
                  <a:pt x="56" y="446"/>
                </a:lnTo>
                <a:lnTo>
                  <a:pt x="61" y="473"/>
                </a:lnTo>
                <a:lnTo>
                  <a:pt x="66" y="498"/>
                </a:lnTo>
                <a:lnTo>
                  <a:pt x="71" y="524"/>
                </a:lnTo>
                <a:lnTo>
                  <a:pt x="76" y="546"/>
                </a:lnTo>
                <a:lnTo>
                  <a:pt x="81" y="568"/>
                </a:lnTo>
                <a:lnTo>
                  <a:pt x="86" y="587"/>
                </a:lnTo>
                <a:lnTo>
                  <a:pt x="91" y="607"/>
                </a:lnTo>
                <a:lnTo>
                  <a:pt x="97" y="628"/>
                </a:lnTo>
                <a:lnTo>
                  <a:pt x="104" y="652"/>
                </a:lnTo>
                <a:lnTo>
                  <a:pt x="113" y="676"/>
                </a:lnTo>
                <a:lnTo>
                  <a:pt x="121" y="703"/>
                </a:lnTo>
                <a:lnTo>
                  <a:pt x="130" y="730"/>
                </a:lnTo>
                <a:lnTo>
                  <a:pt x="139" y="758"/>
                </a:lnTo>
                <a:lnTo>
                  <a:pt x="149" y="785"/>
                </a:lnTo>
                <a:lnTo>
                  <a:pt x="158" y="812"/>
                </a:lnTo>
                <a:lnTo>
                  <a:pt x="168" y="841"/>
                </a:lnTo>
                <a:lnTo>
                  <a:pt x="179" y="868"/>
                </a:lnTo>
                <a:lnTo>
                  <a:pt x="189" y="894"/>
                </a:lnTo>
                <a:lnTo>
                  <a:pt x="198" y="919"/>
                </a:lnTo>
                <a:lnTo>
                  <a:pt x="208" y="942"/>
                </a:lnTo>
                <a:lnTo>
                  <a:pt x="217" y="965"/>
                </a:lnTo>
                <a:lnTo>
                  <a:pt x="227" y="984"/>
                </a:lnTo>
                <a:lnTo>
                  <a:pt x="236" y="1006"/>
                </a:lnTo>
                <a:lnTo>
                  <a:pt x="247" y="1029"/>
                </a:lnTo>
                <a:lnTo>
                  <a:pt x="259" y="1054"/>
                </a:lnTo>
                <a:lnTo>
                  <a:pt x="273" y="1081"/>
                </a:lnTo>
                <a:lnTo>
                  <a:pt x="286" y="1111"/>
                </a:lnTo>
                <a:lnTo>
                  <a:pt x="301" y="1141"/>
                </a:lnTo>
                <a:lnTo>
                  <a:pt x="317" y="1174"/>
                </a:lnTo>
                <a:lnTo>
                  <a:pt x="335" y="1206"/>
                </a:lnTo>
                <a:lnTo>
                  <a:pt x="350" y="1240"/>
                </a:lnTo>
                <a:lnTo>
                  <a:pt x="367" y="1273"/>
                </a:lnTo>
                <a:lnTo>
                  <a:pt x="383" y="1306"/>
                </a:lnTo>
                <a:lnTo>
                  <a:pt x="400" y="1337"/>
                </a:lnTo>
                <a:lnTo>
                  <a:pt x="416" y="1370"/>
                </a:lnTo>
                <a:lnTo>
                  <a:pt x="432" y="1399"/>
                </a:lnTo>
                <a:lnTo>
                  <a:pt x="446" y="1428"/>
                </a:lnTo>
                <a:lnTo>
                  <a:pt x="460" y="1454"/>
                </a:lnTo>
                <a:lnTo>
                  <a:pt x="474" y="1480"/>
                </a:lnTo>
                <a:lnTo>
                  <a:pt x="488" y="1507"/>
                </a:lnTo>
                <a:lnTo>
                  <a:pt x="504" y="1534"/>
                </a:lnTo>
                <a:lnTo>
                  <a:pt x="521" y="1560"/>
                </a:lnTo>
                <a:lnTo>
                  <a:pt x="538" y="1588"/>
                </a:lnTo>
                <a:lnTo>
                  <a:pt x="556" y="1616"/>
                </a:lnTo>
                <a:lnTo>
                  <a:pt x="573" y="1642"/>
                </a:lnTo>
                <a:lnTo>
                  <a:pt x="591" y="1669"/>
                </a:lnTo>
                <a:lnTo>
                  <a:pt x="608" y="1695"/>
                </a:lnTo>
                <a:lnTo>
                  <a:pt x="627" y="1718"/>
                </a:lnTo>
                <a:lnTo>
                  <a:pt x="643" y="1741"/>
                </a:lnTo>
                <a:lnTo>
                  <a:pt x="659" y="1762"/>
                </a:lnTo>
                <a:lnTo>
                  <a:pt x="673" y="1781"/>
                </a:lnTo>
                <a:lnTo>
                  <a:pt x="688" y="1798"/>
                </a:lnTo>
                <a:lnTo>
                  <a:pt x="700" y="1812"/>
                </a:lnTo>
                <a:lnTo>
                  <a:pt x="712" y="1822"/>
                </a:lnTo>
                <a:lnTo>
                  <a:pt x="721" y="1831"/>
                </a:lnTo>
                <a:lnTo>
                  <a:pt x="728" y="1837"/>
                </a:lnTo>
                <a:lnTo>
                  <a:pt x="732" y="1842"/>
                </a:lnTo>
                <a:lnTo>
                  <a:pt x="737" y="1844"/>
                </a:lnTo>
                <a:lnTo>
                  <a:pt x="739" y="1847"/>
                </a:lnTo>
                <a:lnTo>
                  <a:pt x="741" y="1849"/>
                </a:lnTo>
                <a:lnTo>
                  <a:pt x="743" y="1852"/>
                </a:lnTo>
                <a:lnTo>
                  <a:pt x="747" y="1852"/>
                </a:lnTo>
                <a:lnTo>
                  <a:pt x="749" y="1856"/>
                </a:lnTo>
                <a:lnTo>
                  <a:pt x="753" y="1860"/>
                </a:lnTo>
                <a:lnTo>
                  <a:pt x="759" y="1866"/>
                </a:lnTo>
                <a:lnTo>
                  <a:pt x="767" y="1872"/>
                </a:lnTo>
                <a:lnTo>
                  <a:pt x="776" y="1881"/>
                </a:lnTo>
                <a:lnTo>
                  <a:pt x="788" y="1892"/>
                </a:lnTo>
                <a:lnTo>
                  <a:pt x="803" y="1905"/>
                </a:lnTo>
                <a:lnTo>
                  <a:pt x="823" y="1922"/>
                </a:lnTo>
              </a:path>
            </a:pathLst>
          </a:custGeom>
          <a:noFill/>
          <a:ln cap="rnd" w="25560">
            <a:solidFill>
              <a:srgbClr val="8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641760" y="2158920"/>
            <a:ext cx="2530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rva de demanda condi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650960" y="4460760"/>
            <a:ext cx="0" cy="935280"/>
          </a:xfrm>
          <a:prstGeom prst="line">
            <a:avLst/>
          </a:prstGeom>
          <a:ln w="25560">
            <a:solidFill>
              <a:srgbClr val="5f5f5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rot="16200000">
            <a:off x="951840" y="4532760"/>
            <a:ext cx="1447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s-ES_tradnl" sz="2200" spc="-1" strike="noStrike">
                <a:solidFill>
                  <a:srgbClr val="5f5f5f"/>
                </a:solidFill>
                <a:latin typeface="Arial"/>
              </a:rPr>
              <a:t>Caida del pre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507520" y="6093000"/>
            <a:ext cx="52236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159080" y="5897520"/>
            <a:ext cx="50882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06560" y="1498680"/>
            <a:ext cx="65088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205160" y="6200640"/>
            <a:ext cx="50184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587400" y="5867280"/>
            <a:ext cx="5446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007120" y="6095880"/>
            <a:ext cx="39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68440" y="1523880"/>
            <a:ext cx="476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911760" y="3279600"/>
            <a:ext cx="14824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08080" y="3924360"/>
            <a:ext cx="1849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vel inicial del pre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191120" y="4502160"/>
            <a:ext cx="0" cy="189864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743360" y="5416560"/>
            <a:ext cx="0" cy="98424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228600"/>
            <a:ext cx="8915400" cy="13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228600"/>
            <a:ext cx="891540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... Y permitamos que el precio del factor 1 caig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228600"/>
            <a:ext cx="89917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228600"/>
            <a:ext cx="8991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Caída del precio del factor: </a:t>
            </a: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efecto sustitu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49360" y="1142640"/>
            <a:ext cx="859464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Moviéndonos del óptim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0" y="1982880"/>
            <a:ext cx="9293400" cy="52545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2514600"/>
            <a:ext cx="7086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ducimos las reacciones de la empresa para pequeños camb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3657600"/>
            <a:ext cx="7086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n las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nciones de respu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419720"/>
            <a:ext cx="7086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xaminaremos tres tipos de ellas, tratando a la firma como una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5607000"/>
            <a:ext cx="7086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..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ja negra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666880" y="2438280"/>
            <a:ext cx="4416480" cy="3654720"/>
            <a:chOff x="2666880" y="2438280"/>
            <a:chExt cx="4416480" cy="3654720"/>
          </a:xfrm>
        </p:grpSpPr>
        <p:sp>
          <p:nvSpPr>
            <p:cNvPr id="115" name=""/>
            <p:cNvSpPr/>
            <p:nvPr/>
          </p:nvSpPr>
          <p:spPr>
            <a:xfrm>
              <a:off x="2666880" y="2438280"/>
              <a:ext cx="4416480" cy="365472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2922480" y="3021120"/>
              <a:ext cx="3570480" cy="2128680"/>
              <a:chOff x="2922480" y="3021120"/>
              <a:chExt cx="3570480" cy="2128680"/>
            </a:xfrm>
          </p:grpSpPr>
          <p:sp>
            <p:nvSpPr>
              <p:cNvPr id="117" name=""/>
              <p:cNvSpPr/>
              <p:nvPr/>
            </p:nvSpPr>
            <p:spPr>
              <a:xfrm>
                <a:off x="2922480" y="3635280"/>
                <a:ext cx="2671920" cy="1514520"/>
              </a:xfrm>
              <a:custGeom>
                <a:avLst/>
                <a:gdLst/>
                <a:ahLst/>
                <a:rect l="l" t="t" r="r" b="b"/>
                <a:pathLst>
                  <a:path w="1683" h="954">
                    <a:moveTo>
                      <a:pt x="0" y="953"/>
                    </a:moveTo>
                    <a:lnTo>
                      <a:pt x="0" y="0"/>
                    </a:lnTo>
                    <a:lnTo>
                      <a:pt x="1682" y="0"/>
                    </a:lnTo>
                    <a:lnTo>
                      <a:pt x="1682" y="953"/>
                    </a:lnTo>
                    <a:lnTo>
                      <a:pt x="0" y="953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cap="rnd" w="255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922480" y="3021120"/>
                <a:ext cx="3570480" cy="617400"/>
              </a:xfrm>
              <a:custGeom>
                <a:avLst/>
                <a:gdLst/>
                <a:ahLst/>
                <a:rect l="l" t="t" r="r" b="b"/>
                <a:pathLst>
                  <a:path w="2249" h="389">
                    <a:moveTo>
                      <a:pt x="0" y="388"/>
                    </a:moveTo>
                    <a:lnTo>
                      <a:pt x="942" y="0"/>
                    </a:lnTo>
                    <a:lnTo>
                      <a:pt x="2248" y="3"/>
                    </a:lnTo>
                    <a:lnTo>
                      <a:pt x="1682" y="388"/>
                    </a:lnTo>
                    <a:lnTo>
                      <a:pt x="0" y="388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255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592600" y="3025800"/>
                <a:ext cx="900360" cy="2124000"/>
              </a:xfrm>
              <a:custGeom>
                <a:avLst/>
                <a:gdLst/>
                <a:ahLst/>
                <a:rect l="l" t="t" r="r" b="b"/>
                <a:pathLst>
                  <a:path w="567" h="1338">
                    <a:moveTo>
                      <a:pt x="0" y="1337"/>
                    </a:moveTo>
                    <a:lnTo>
                      <a:pt x="563" y="780"/>
                    </a:lnTo>
                    <a:lnTo>
                      <a:pt x="566" y="0"/>
                    </a:lnTo>
                    <a:lnTo>
                      <a:pt x="0" y="385"/>
                    </a:lnTo>
                    <a:lnTo>
                      <a:pt x="0" y="1337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22680" y="4249800"/>
                <a:ext cx="1436760" cy="592200"/>
              </a:xfrm>
              <a:prstGeom prst="rect">
                <a:avLst/>
              </a:prstGeom>
              <a:solidFill>
                <a:srgbClr val="ffffc2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a firm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1904760" y="228240"/>
            <a:ext cx="708660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Caída del precio del factor: </a:t>
            </a: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efecto tot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2144880" y="1593360"/>
            <a:ext cx="0" cy="478476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170080" y="6378480"/>
            <a:ext cx="586584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666880" y="2403360"/>
            <a:ext cx="4557960" cy="3489480"/>
          </a:xfrm>
          <a:custGeom>
            <a:avLst/>
            <a:gdLst/>
            <a:ahLst/>
            <a:rect l="l" t="t" r="r" b="b"/>
            <a:pathLst>
              <a:path w="2871" h="2198">
                <a:moveTo>
                  <a:pt x="0" y="0"/>
                </a:moveTo>
                <a:lnTo>
                  <a:pt x="64" y="99"/>
                </a:lnTo>
                <a:lnTo>
                  <a:pt x="117" y="180"/>
                </a:lnTo>
                <a:lnTo>
                  <a:pt x="160" y="244"/>
                </a:lnTo>
                <a:lnTo>
                  <a:pt x="194" y="293"/>
                </a:lnTo>
                <a:lnTo>
                  <a:pt x="218" y="333"/>
                </a:lnTo>
                <a:lnTo>
                  <a:pt x="237" y="361"/>
                </a:lnTo>
                <a:lnTo>
                  <a:pt x="251" y="382"/>
                </a:lnTo>
                <a:lnTo>
                  <a:pt x="261" y="397"/>
                </a:lnTo>
                <a:lnTo>
                  <a:pt x="270" y="410"/>
                </a:lnTo>
                <a:lnTo>
                  <a:pt x="277" y="421"/>
                </a:lnTo>
                <a:lnTo>
                  <a:pt x="284" y="433"/>
                </a:lnTo>
                <a:lnTo>
                  <a:pt x="294" y="447"/>
                </a:lnTo>
                <a:lnTo>
                  <a:pt x="307" y="468"/>
                </a:lnTo>
                <a:lnTo>
                  <a:pt x="326" y="495"/>
                </a:lnTo>
                <a:lnTo>
                  <a:pt x="350" y="531"/>
                </a:lnTo>
                <a:lnTo>
                  <a:pt x="382" y="578"/>
                </a:lnTo>
                <a:lnTo>
                  <a:pt x="419" y="635"/>
                </a:lnTo>
                <a:lnTo>
                  <a:pt x="459" y="693"/>
                </a:lnTo>
                <a:lnTo>
                  <a:pt x="501" y="753"/>
                </a:lnTo>
                <a:lnTo>
                  <a:pt x="545" y="810"/>
                </a:lnTo>
                <a:lnTo>
                  <a:pt x="589" y="872"/>
                </a:lnTo>
                <a:lnTo>
                  <a:pt x="634" y="930"/>
                </a:lnTo>
                <a:lnTo>
                  <a:pt x="680" y="989"/>
                </a:lnTo>
                <a:lnTo>
                  <a:pt x="725" y="1046"/>
                </a:lnTo>
                <a:lnTo>
                  <a:pt x="769" y="1101"/>
                </a:lnTo>
                <a:lnTo>
                  <a:pt x="813" y="1154"/>
                </a:lnTo>
                <a:lnTo>
                  <a:pt x="856" y="1203"/>
                </a:lnTo>
                <a:lnTo>
                  <a:pt x="896" y="1247"/>
                </a:lnTo>
                <a:lnTo>
                  <a:pt x="932" y="1288"/>
                </a:lnTo>
                <a:lnTo>
                  <a:pt x="967" y="1324"/>
                </a:lnTo>
                <a:lnTo>
                  <a:pt x="999" y="1353"/>
                </a:lnTo>
                <a:lnTo>
                  <a:pt x="1026" y="1377"/>
                </a:lnTo>
                <a:lnTo>
                  <a:pt x="1050" y="1400"/>
                </a:lnTo>
                <a:lnTo>
                  <a:pt x="1081" y="1421"/>
                </a:lnTo>
                <a:lnTo>
                  <a:pt x="1112" y="1446"/>
                </a:lnTo>
                <a:lnTo>
                  <a:pt x="1145" y="1470"/>
                </a:lnTo>
                <a:lnTo>
                  <a:pt x="1181" y="1496"/>
                </a:lnTo>
                <a:lnTo>
                  <a:pt x="1218" y="1521"/>
                </a:lnTo>
                <a:lnTo>
                  <a:pt x="1256" y="1547"/>
                </a:lnTo>
                <a:lnTo>
                  <a:pt x="1295" y="1571"/>
                </a:lnTo>
                <a:lnTo>
                  <a:pt x="1333" y="1597"/>
                </a:lnTo>
                <a:lnTo>
                  <a:pt x="1373" y="1620"/>
                </a:lnTo>
                <a:lnTo>
                  <a:pt x="1409" y="1643"/>
                </a:lnTo>
                <a:lnTo>
                  <a:pt x="1447" y="1665"/>
                </a:lnTo>
                <a:lnTo>
                  <a:pt x="1482" y="1685"/>
                </a:lnTo>
                <a:lnTo>
                  <a:pt x="1516" y="1703"/>
                </a:lnTo>
                <a:lnTo>
                  <a:pt x="1547" y="1720"/>
                </a:lnTo>
                <a:lnTo>
                  <a:pt x="1578" y="1733"/>
                </a:lnTo>
                <a:lnTo>
                  <a:pt x="1605" y="1748"/>
                </a:lnTo>
                <a:lnTo>
                  <a:pt x="1637" y="1761"/>
                </a:lnTo>
                <a:lnTo>
                  <a:pt x="1672" y="1779"/>
                </a:lnTo>
                <a:lnTo>
                  <a:pt x="1710" y="1794"/>
                </a:lnTo>
                <a:lnTo>
                  <a:pt x="1746" y="1811"/>
                </a:lnTo>
                <a:lnTo>
                  <a:pt x="1787" y="1828"/>
                </a:lnTo>
                <a:lnTo>
                  <a:pt x="1828" y="1845"/>
                </a:lnTo>
                <a:lnTo>
                  <a:pt x="1871" y="1861"/>
                </a:lnTo>
                <a:lnTo>
                  <a:pt x="1910" y="1879"/>
                </a:lnTo>
                <a:lnTo>
                  <a:pt x="1952" y="1895"/>
                </a:lnTo>
                <a:lnTo>
                  <a:pt x="1993" y="1911"/>
                </a:lnTo>
                <a:lnTo>
                  <a:pt x="2032" y="1926"/>
                </a:lnTo>
                <a:lnTo>
                  <a:pt x="2067" y="1941"/>
                </a:lnTo>
                <a:lnTo>
                  <a:pt x="2103" y="1954"/>
                </a:lnTo>
                <a:lnTo>
                  <a:pt x="2136" y="1966"/>
                </a:lnTo>
                <a:lnTo>
                  <a:pt x="2167" y="1976"/>
                </a:lnTo>
                <a:lnTo>
                  <a:pt x="2194" y="1986"/>
                </a:lnTo>
                <a:lnTo>
                  <a:pt x="2226" y="1998"/>
                </a:lnTo>
                <a:lnTo>
                  <a:pt x="2258" y="2010"/>
                </a:lnTo>
                <a:lnTo>
                  <a:pt x="2292" y="2020"/>
                </a:lnTo>
                <a:lnTo>
                  <a:pt x="2326" y="2033"/>
                </a:lnTo>
                <a:lnTo>
                  <a:pt x="2362" y="2044"/>
                </a:lnTo>
                <a:lnTo>
                  <a:pt x="2397" y="2056"/>
                </a:lnTo>
                <a:lnTo>
                  <a:pt x="2434" y="2067"/>
                </a:lnTo>
                <a:lnTo>
                  <a:pt x="2467" y="2079"/>
                </a:lnTo>
                <a:lnTo>
                  <a:pt x="2501" y="2090"/>
                </a:lnTo>
                <a:lnTo>
                  <a:pt x="2535" y="2100"/>
                </a:lnTo>
                <a:lnTo>
                  <a:pt x="2565" y="2109"/>
                </a:lnTo>
                <a:lnTo>
                  <a:pt x="2594" y="2119"/>
                </a:lnTo>
                <a:lnTo>
                  <a:pt x="2621" y="2127"/>
                </a:lnTo>
                <a:lnTo>
                  <a:pt x="2644" y="2133"/>
                </a:lnTo>
                <a:lnTo>
                  <a:pt x="2667" y="2140"/>
                </a:lnTo>
                <a:lnTo>
                  <a:pt x="2682" y="2145"/>
                </a:lnTo>
                <a:lnTo>
                  <a:pt x="2695" y="2148"/>
                </a:lnTo>
                <a:lnTo>
                  <a:pt x="2705" y="2152"/>
                </a:lnTo>
                <a:lnTo>
                  <a:pt x="2712" y="2153"/>
                </a:lnTo>
                <a:lnTo>
                  <a:pt x="2717" y="2155"/>
                </a:lnTo>
                <a:lnTo>
                  <a:pt x="2721" y="2156"/>
                </a:lnTo>
                <a:lnTo>
                  <a:pt x="2725" y="2159"/>
                </a:lnTo>
                <a:lnTo>
                  <a:pt x="2730" y="2159"/>
                </a:lnTo>
                <a:lnTo>
                  <a:pt x="2734" y="2161"/>
                </a:lnTo>
                <a:lnTo>
                  <a:pt x="2741" y="2163"/>
                </a:lnTo>
                <a:lnTo>
                  <a:pt x="2751" y="2165"/>
                </a:lnTo>
                <a:lnTo>
                  <a:pt x="2766" y="2169"/>
                </a:lnTo>
                <a:lnTo>
                  <a:pt x="2783" y="2175"/>
                </a:lnTo>
                <a:lnTo>
                  <a:pt x="2806" y="2180"/>
                </a:lnTo>
                <a:lnTo>
                  <a:pt x="2835" y="2188"/>
                </a:lnTo>
                <a:lnTo>
                  <a:pt x="2870" y="2197"/>
                </a:lnTo>
              </a:path>
            </a:pathLst>
          </a:custGeom>
          <a:noFill/>
          <a:ln cap="rnd" w="2556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138400" y="4467240"/>
            <a:ext cx="1977840" cy="324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2139840" y="5276880"/>
            <a:ext cx="3421080" cy="396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564000" y="2421000"/>
            <a:ext cx="1297080" cy="3066840"/>
          </a:xfrm>
          <a:custGeom>
            <a:avLst/>
            <a:gdLst/>
            <a:ahLst/>
            <a:rect l="l" t="t" r="r" b="b"/>
            <a:pathLst>
              <a:path w="817" h="1932">
                <a:moveTo>
                  <a:pt x="0" y="0"/>
                </a:moveTo>
                <a:lnTo>
                  <a:pt x="3" y="35"/>
                </a:lnTo>
                <a:lnTo>
                  <a:pt x="5" y="62"/>
                </a:lnTo>
                <a:lnTo>
                  <a:pt x="7" y="85"/>
                </a:lnTo>
                <a:lnTo>
                  <a:pt x="10" y="102"/>
                </a:lnTo>
                <a:lnTo>
                  <a:pt x="10" y="116"/>
                </a:lnTo>
                <a:lnTo>
                  <a:pt x="11" y="125"/>
                </a:lnTo>
                <a:lnTo>
                  <a:pt x="12" y="133"/>
                </a:lnTo>
                <a:lnTo>
                  <a:pt x="14" y="137"/>
                </a:lnTo>
                <a:lnTo>
                  <a:pt x="14" y="141"/>
                </a:lnTo>
                <a:lnTo>
                  <a:pt x="14" y="145"/>
                </a:lnTo>
                <a:lnTo>
                  <a:pt x="14" y="150"/>
                </a:lnTo>
                <a:lnTo>
                  <a:pt x="16" y="155"/>
                </a:lnTo>
                <a:lnTo>
                  <a:pt x="16" y="162"/>
                </a:lnTo>
                <a:lnTo>
                  <a:pt x="17" y="170"/>
                </a:lnTo>
                <a:lnTo>
                  <a:pt x="18" y="183"/>
                </a:lnTo>
                <a:lnTo>
                  <a:pt x="21" y="198"/>
                </a:lnTo>
                <a:lnTo>
                  <a:pt x="23" y="220"/>
                </a:lnTo>
                <a:lnTo>
                  <a:pt x="26" y="241"/>
                </a:lnTo>
                <a:lnTo>
                  <a:pt x="28" y="265"/>
                </a:lnTo>
                <a:lnTo>
                  <a:pt x="32" y="288"/>
                </a:lnTo>
                <a:lnTo>
                  <a:pt x="36" y="315"/>
                </a:lnTo>
                <a:lnTo>
                  <a:pt x="40" y="342"/>
                </a:lnTo>
                <a:lnTo>
                  <a:pt x="46" y="369"/>
                </a:lnTo>
                <a:lnTo>
                  <a:pt x="51" y="396"/>
                </a:lnTo>
                <a:lnTo>
                  <a:pt x="55" y="426"/>
                </a:lnTo>
                <a:lnTo>
                  <a:pt x="60" y="452"/>
                </a:lnTo>
                <a:lnTo>
                  <a:pt x="66" y="480"/>
                </a:lnTo>
                <a:lnTo>
                  <a:pt x="72" y="505"/>
                </a:lnTo>
                <a:lnTo>
                  <a:pt x="77" y="530"/>
                </a:lnTo>
                <a:lnTo>
                  <a:pt x="81" y="553"/>
                </a:lnTo>
                <a:lnTo>
                  <a:pt x="86" y="575"/>
                </a:lnTo>
                <a:lnTo>
                  <a:pt x="93" y="593"/>
                </a:lnTo>
                <a:lnTo>
                  <a:pt x="98" y="615"/>
                </a:lnTo>
                <a:lnTo>
                  <a:pt x="103" y="636"/>
                </a:lnTo>
                <a:lnTo>
                  <a:pt x="110" y="660"/>
                </a:lnTo>
                <a:lnTo>
                  <a:pt x="119" y="684"/>
                </a:lnTo>
                <a:lnTo>
                  <a:pt x="127" y="711"/>
                </a:lnTo>
                <a:lnTo>
                  <a:pt x="137" y="737"/>
                </a:lnTo>
                <a:lnTo>
                  <a:pt x="145" y="765"/>
                </a:lnTo>
                <a:lnTo>
                  <a:pt x="155" y="792"/>
                </a:lnTo>
                <a:lnTo>
                  <a:pt x="164" y="822"/>
                </a:lnTo>
                <a:lnTo>
                  <a:pt x="175" y="849"/>
                </a:lnTo>
                <a:lnTo>
                  <a:pt x="184" y="875"/>
                </a:lnTo>
                <a:lnTo>
                  <a:pt x="196" y="902"/>
                </a:lnTo>
                <a:lnTo>
                  <a:pt x="205" y="929"/>
                </a:lnTo>
                <a:lnTo>
                  <a:pt x="215" y="952"/>
                </a:lnTo>
                <a:lnTo>
                  <a:pt x="224" y="975"/>
                </a:lnTo>
                <a:lnTo>
                  <a:pt x="235" y="993"/>
                </a:lnTo>
                <a:lnTo>
                  <a:pt x="243" y="1014"/>
                </a:lnTo>
                <a:lnTo>
                  <a:pt x="253" y="1037"/>
                </a:lnTo>
                <a:lnTo>
                  <a:pt x="265" y="1064"/>
                </a:lnTo>
                <a:lnTo>
                  <a:pt x="279" y="1091"/>
                </a:lnTo>
                <a:lnTo>
                  <a:pt x="292" y="1121"/>
                </a:lnTo>
                <a:lnTo>
                  <a:pt x="307" y="1151"/>
                </a:lnTo>
                <a:lnTo>
                  <a:pt x="323" y="1184"/>
                </a:lnTo>
                <a:lnTo>
                  <a:pt x="339" y="1215"/>
                </a:lnTo>
                <a:lnTo>
                  <a:pt x="355" y="1249"/>
                </a:lnTo>
                <a:lnTo>
                  <a:pt x="371" y="1284"/>
                </a:lnTo>
                <a:lnTo>
                  <a:pt x="388" y="1316"/>
                </a:lnTo>
                <a:lnTo>
                  <a:pt x="404" y="1348"/>
                </a:lnTo>
                <a:lnTo>
                  <a:pt x="420" y="1379"/>
                </a:lnTo>
                <a:lnTo>
                  <a:pt x="436" y="1409"/>
                </a:lnTo>
                <a:lnTo>
                  <a:pt x="449" y="1437"/>
                </a:lnTo>
                <a:lnTo>
                  <a:pt x="464" y="1464"/>
                </a:lnTo>
                <a:lnTo>
                  <a:pt x="477" y="1490"/>
                </a:lnTo>
                <a:lnTo>
                  <a:pt x="492" y="1517"/>
                </a:lnTo>
                <a:lnTo>
                  <a:pt x="508" y="1543"/>
                </a:lnTo>
                <a:lnTo>
                  <a:pt x="523" y="1571"/>
                </a:lnTo>
                <a:lnTo>
                  <a:pt x="539" y="1600"/>
                </a:lnTo>
                <a:lnTo>
                  <a:pt x="557" y="1626"/>
                </a:lnTo>
                <a:lnTo>
                  <a:pt x="574" y="1653"/>
                </a:lnTo>
                <a:lnTo>
                  <a:pt x="593" y="1679"/>
                </a:lnTo>
                <a:lnTo>
                  <a:pt x="608" y="1705"/>
                </a:lnTo>
                <a:lnTo>
                  <a:pt x="627" y="1729"/>
                </a:lnTo>
                <a:lnTo>
                  <a:pt x="641" y="1751"/>
                </a:lnTo>
                <a:lnTo>
                  <a:pt x="658" y="1771"/>
                </a:lnTo>
                <a:lnTo>
                  <a:pt x="672" y="1791"/>
                </a:lnTo>
                <a:lnTo>
                  <a:pt x="686" y="1807"/>
                </a:lnTo>
                <a:lnTo>
                  <a:pt x="698" y="1821"/>
                </a:lnTo>
                <a:lnTo>
                  <a:pt x="710" y="1831"/>
                </a:lnTo>
                <a:lnTo>
                  <a:pt x="718" y="1840"/>
                </a:lnTo>
                <a:lnTo>
                  <a:pt x="724" y="1846"/>
                </a:lnTo>
                <a:lnTo>
                  <a:pt x="729" y="1851"/>
                </a:lnTo>
                <a:lnTo>
                  <a:pt x="734" y="1854"/>
                </a:lnTo>
                <a:lnTo>
                  <a:pt x="735" y="1857"/>
                </a:lnTo>
                <a:lnTo>
                  <a:pt x="737" y="1859"/>
                </a:lnTo>
                <a:lnTo>
                  <a:pt x="740" y="1862"/>
                </a:lnTo>
                <a:lnTo>
                  <a:pt x="743" y="1862"/>
                </a:lnTo>
                <a:lnTo>
                  <a:pt x="746" y="1866"/>
                </a:lnTo>
                <a:lnTo>
                  <a:pt x="749" y="1869"/>
                </a:lnTo>
                <a:lnTo>
                  <a:pt x="754" y="1875"/>
                </a:lnTo>
                <a:lnTo>
                  <a:pt x="761" y="1881"/>
                </a:lnTo>
                <a:lnTo>
                  <a:pt x="770" y="1890"/>
                </a:lnTo>
                <a:lnTo>
                  <a:pt x="783" y="1901"/>
                </a:lnTo>
                <a:lnTo>
                  <a:pt x="797" y="1915"/>
                </a:lnTo>
                <a:lnTo>
                  <a:pt x="816" y="1931"/>
                </a:lnTo>
              </a:path>
            </a:pathLst>
          </a:custGeom>
          <a:noFill/>
          <a:ln cap="rnd" w="25560">
            <a:solidFill>
              <a:srgbClr val="8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24560" y="2676600"/>
            <a:ext cx="1296720" cy="3068640"/>
          </a:xfrm>
          <a:custGeom>
            <a:avLst/>
            <a:gdLst/>
            <a:ahLst/>
            <a:rect l="l" t="t" r="r" b="b"/>
            <a:pathLst>
              <a:path w="817" h="1933">
                <a:moveTo>
                  <a:pt x="0" y="0"/>
                </a:moveTo>
                <a:lnTo>
                  <a:pt x="3" y="35"/>
                </a:lnTo>
                <a:lnTo>
                  <a:pt x="5" y="62"/>
                </a:lnTo>
                <a:lnTo>
                  <a:pt x="8" y="85"/>
                </a:lnTo>
                <a:lnTo>
                  <a:pt x="10" y="102"/>
                </a:lnTo>
                <a:lnTo>
                  <a:pt x="10" y="116"/>
                </a:lnTo>
                <a:lnTo>
                  <a:pt x="11" y="124"/>
                </a:lnTo>
                <a:lnTo>
                  <a:pt x="12" y="133"/>
                </a:lnTo>
                <a:lnTo>
                  <a:pt x="14" y="136"/>
                </a:lnTo>
                <a:lnTo>
                  <a:pt x="14" y="141"/>
                </a:lnTo>
                <a:lnTo>
                  <a:pt x="14" y="145"/>
                </a:lnTo>
                <a:lnTo>
                  <a:pt x="14" y="150"/>
                </a:lnTo>
                <a:lnTo>
                  <a:pt x="17" y="154"/>
                </a:lnTo>
                <a:lnTo>
                  <a:pt x="17" y="162"/>
                </a:lnTo>
                <a:lnTo>
                  <a:pt x="18" y="170"/>
                </a:lnTo>
                <a:lnTo>
                  <a:pt x="20" y="182"/>
                </a:lnTo>
                <a:lnTo>
                  <a:pt x="22" y="198"/>
                </a:lnTo>
                <a:lnTo>
                  <a:pt x="24" y="219"/>
                </a:lnTo>
                <a:lnTo>
                  <a:pt x="25" y="241"/>
                </a:lnTo>
                <a:lnTo>
                  <a:pt x="28" y="265"/>
                </a:lnTo>
                <a:lnTo>
                  <a:pt x="33" y="288"/>
                </a:lnTo>
                <a:lnTo>
                  <a:pt x="36" y="315"/>
                </a:lnTo>
                <a:lnTo>
                  <a:pt x="42" y="342"/>
                </a:lnTo>
                <a:lnTo>
                  <a:pt x="47" y="368"/>
                </a:lnTo>
                <a:lnTo>
                  <a:pt x="51" y="396"/>
                </a:lnTo>
                <a:lnTo>
                  <a:pt x="56" y="426"/>
                </a:lnTo>
                <a:lnTo>
                  <a:pt x="61" y="452"/>
                </a:lnTo>
                <a:lnTo>
                  <a:pt x="65" y="479"/>
                </a:lnTo>
                <a:lnTo>
                  <a:pt x="73" y="504"/>
                </a:lnTo>
                <a:lnTo>
                  <a:pt x="77" y="530"/>
                </a:lnTo>
                <a:lnTo>
                  <a:pt x="82" y="553"/>
                </a:lnTo>
                <a:lnTo>
                  <a:pt x="87" y="574"/>
                </a:lnTo>
                <a:lnTo>
                  <a:pt x="94" y="593"/>
                </a:lnTo>
                <a:lnTo>
                  <a:pt x="99" y="615"/>
                </a:lnTo>
                <a:lnTo>
                  <a:pt x="104" y="636"/>
                </a:lnTo>
                <a:lnTo>
                  <a:pt x="111" y="660"/>
                </a:lnTo>
                <a:lnTo>
                  <a:pt x="119" y="684"/>
                </a:lnTo>
                <a:lnTo>
                  <a:pt x="126" y="711"/>
                </a:lnTo>
                <a:lnTo>
                  <a:pt x="136" y="737"/>
                </a:lnTo>
                <a:lnTo>
                  <a:pt x="146" y="765"/>
                </a:lnTo>
                <a:lnTo>
                  <a:pt x="156" y="792"/>
                </a:lnTo>
                <a:lnTo>
                  <a:pt x="165" y="821"/>
                </a:lnTo>
                <a:lnTo>
                  <a:pt x="175" y="849"/>
                </a:lnTo>
                <a:lnTo>
                  <a:pt x="185" y="877"/>
                </a:lnTo>
                <a:lnTo>
                  <a:pt x="196" y="902"/>
                </a:lnTo>
                <a:lnTo>
                  <a:pt x="206" y="927"/>
                </a:lnTo>
                <a:lnTo>
                  <a:pt x="216" y="951"/>
                </a:lnTo>
                <a:lnTo>
                  <a:pt x="224" y="973"/>
                </a:lnTo>
                <a:lnTo>
                  <a:pt x="234" y="993"/>
                </a:lnTo>
                <a:lnTo>
                  <a:pt x="243" y="1014"/>
                </a:lnTo>
                <a:lnTo>
                  <a:pt x="254" y="1037"/>
                </a:lnTo>
                <a:lnTo>
                  <a:pt x="265" y="1064"/>
                </a:lnTo>
                <a:lnTo>
                  <a:pt x="280" y="1090"/>
                </a:lnTo>
                <a:lnTo>
                  <a:pt x="293" y="1122"/>
                </a:lnTo>
                <a:lnTo>
                  <a:pt x="307" y="1152"/>
                </a:lnTo>
                <a:lnTo>
                  <a:pt x="324" y="1185"/>
                </a:lnTo>
                <a:lnTo>
                  <a:pt x="340" y="1216"/>
                </a:lnTo>
                <a:lnTo>
                  <a:pt x="356" y="1250"/>
                </a:lnTo>
                <a:lnTo>
                  <a:pt x="371" y="1284"/>
                </a:lnTo>
                <a:lnTo>
                  <a:pt x="387" y="1316"/>
                </a:lnTo>
                <a:lnTo>
                  <a:pt x="404" y="1349"/>
                </a:lnTo>
                <a:lnTo>
                  <a:pt x="419" y="1380"/>
                </a:lnTo>
                <a:lnTo>
                  <a:pt x="436" y="1410"/>
                </a:lnTo>
                <a:lnTo>
                  <a:pt x="450" y="1438"/>
                </a:lnTo>
                <a:lnTo>
                  <a:pt x="464" y="1463"/>
                </a:lnTo>
                <a:lnTo>
                  <a:pt x="478" y="1490"/>
                </a:lnTo>
                <a:lnTo>
                  <a:pt x="492" y="1516"/>
                </a:lnTo>
                <a:lnTo>
                  <a:pt x="507" y="1544"/>
                </a:lnTo>
                <a:lnTo>
                  <a:pt x="524" y="1571"/>
                </a:lnTo>
                <a:lnTo>
                  <a:pt x="540" y="1600"/>
                </a:lnTo>
                <a:lnTo>
                  <a:pt x="557" y="1627"/>
                </a:lnTo>
                <a:lnTo>
                  <a:pt x="575" y="1654"/>
                </a:lnTo>
                <a:lnTo>
                  <a:pt x="592" y="1679"/>
                </a:lnTo>
                <a:lnTo>
                  <a:pt x="609" y="1704"/>
                </a:lnTo>
                <a:lnTo>
                  <a:pt x="626" y="1728"/>
                </a:lnTo>
                <a:lnTo>
                  <a:pt x="641" y="1752"/>
                </a:lnTo>
                <a:lnTo>
                  <a:pt x="658" y="1772"/>
                </a:lnTo>
                <a:lnTo>
                  <a:pt x="671" y="1791"/>
                </a:lnTo>
                <a:lnTo>
                  <a:pt x="686" y="1808"/>
                </a:lnTo>
                <a:lnTo>
                  <a:pt x="698" y="1822"/>
                </a:lnTo>
                <a:lnTo>
                  <a:pt x="710" y="1832"/>
                </a:lnTo>
                <a:lnTo>
                  <a:pt x="717" y="1840"/>
                </a:lnTo>
                <a:lnTo>
                  <a:pt x="724" y="1846"/>
                </a:lnTo>
                <a:lnTo>
                  <a:pt x="729" y="1852"/>
                </a:lnTo>
                <a:lnTo>
                  <a:pt x="733" y="1854"/>
                </a:lnTo>
                <a:lnTo>
                  <a:pt x="735" y="1858"/>
                </a:lnTo>
                <a:lnTo>
                  <a:pt x="737" y="1860"/>
                </a:lnTo>
                <a:lnTo>
                  <a:pt x="740" y="1863"/>
                </a:lnTo>
                <a:lnTo>
                  <a:pt x="742" y="1863"/>
                </a:lnTo>
                <a:lnTo>
                  <a:pt x="745" y="1866"/>
                </a:lnTo>
                <a:lnTo>
                  <a:pt x="748" y="1870"/>
                </a:lnTo>
                <a:lnTo>
                  <a:pt x="754" y="1876"/>
                </a:lnTo>
                <a:lnTo>
                  <a:pt x="761" y="1882"/>
                </a:lnTo>
                <a:lnTo>
                  <a:pt x="770" y="1891"/>
                </a:lnTo>
                <a:lnTo>
                  <a:pt x="782" y="1901"/>
                </a:lnTo>
                <a:lnTo>
                  <a:pt x="797" y="1915"/>
                </a:lnTo>
                <a:lnTo>
                  <a:pt x="816" y="1932"/>
                </a:lnTo>
              </a:path>
            </a:pathLst>
          </a:custGeom>
          <a:noFill/>
          <a:ln cap="rnd" w="25560">
            <a:solidFill>
              <a:srgbClr val="c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650960" y="4460760"/>
            <a:ext cx="0" cy="935280"/>
          </a:xfrm>
          <a:prstGeom prst="line">
            <a:avLst/>
          </a:prstGeom>
          <a:ln w="25560">
            <a:solidFill>
              <a:srgbClr val="5f5f5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16200000">
            <a:off x="989640" y="4494960"/>
            <a:ext cx="137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Caída del pre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87400" y="5867280"/>
            <a:ext cx="5446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007120" y="6095880"/>
            <a:ext cx="39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30360" y="1828800"/>
            <a:ext cx="476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191120" y="4502160"/>
            <a:ext cx="0" cy="189864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562720" y="5340240"/>
            <a:ext cx="0" cy="106056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711600" y="1066680"/>
            <a:ext cx="1927080" cy="1981440"/>
          </a:xfrm>
          <a:custGeom>
            <a:avLst/>
            <a:gdLst/>
            <a:ahLst/>
            <a:rect l="l" t="t" r="r" b="b"/>
            <a:pathLst>
              <a:path w="1214" h="1248">
                <a:moveTo>
                  <a:pt x="209" y="0"/>
                </a:moveTo>
                <a:lnTo>
                  <a:pt x="168" y="3"/>
                </a:lnTo>
                <a:lnTo>
                  <a:pt x="132" y="13"/>
                </a:lnTo>
                <a:lnTo>
                  <a:pt x="100" y="27"/>
                </a:lnTo>
                <a:lnTo>
                  <a:pt x="68" y="46"/>
                </a:lnTo>
                <a:lnTo>
                  <a:pt x="45" y="70"/>
                </a:lnTo>
                <a:lnTo>
                  <a:pt x="27" y="99"/>
                </a:lnTo>
                <a:lnTo>
                  <a:pt x="13" y="128"/>
                </a:lnTo>
                <a:lnTo>
                  <a:pt x="9" y="162"/>
                </a:lnTo>
                <a:lnTo>
                  <a:pt x="9" y="566"/>
                </a:lnTo>
                <a:lnTo>
                  <a:pt x="9" y="806"/>
                </a:lnTo>
                <a:lnTo>
                  <a:pt x="13" y="839"/>
                </a:lnTo>
                <a:lnTo>
                  <a:pt x="27" y="872"/>
                </a:lnTo>
                <a:lnTo>
                  <a:pt x="45" y="898"/>
                </a:lnTo>
                <a:lnTo>
                  <a:pt x="68" y="921"/>
                </a:lnTo>
                <a:lnTo>
                  <a:pt x="100" y="940"/>
                </a:lnTo>
                <a:lnTo>
                  <a:pt x="132" y="954"/>
                </a:lnTo>
                <a:lnTo>
                  <a:pt x="168" y="964"/>
                </a:lnTo>
                <a:lnTo>
                  <a:pt x="209" y="967"/>
                </a:lnTo>
                <a:lnTo>
                  <a:pt x="0" y="1247"/>
                </a:lnTo>
                <a:lnTo>
                  <a:pt x="509" y="967"/>
                </a:lnTo>
                <a:lnTo>
                  <a:pt x="1014" y="967"/>
                </a:lnTo>
                <a:lnTo>
                  <a:pt x="1054" y="964"/>
                </a:lnTo>
                <a:lnTo>
                  <a:pt x="1091" y="954"/>
                </a:lnTo>
                <a:lnTo>
                  <a:pt x="1127" y="940"/>
                </a:lnTo>
                <a:lnTo>
                  <a:pt x="1154" y="921"/>
                </a:lnTo>
                <a:lnTo>
                  <a:pt x="1177" y="898"/>
                </a:lnTo>
                <a:lnTo>
                  <a:pt x="1199" y="872"/>
                </a:lnTo>
                <a:lnTo>
                  <a:pt x="1208" y="839"/>
                </a:lnTo>
                <a:lnTo>
                  <a:pt x="1213" y="806"/>
                </a:lnTo>
                <a:lnTo>
                  <a:pt x="1213" y="566"/>
                </a:lnTo>
                <a:lnTo>
                  <a:pt x="1213" y="162"/>
                </a:lnTo>
                <a:lnTo>
                  <a:pt x="1208" y="128"/>
                </a:lnTo>
                <a:lnTo>
                  <a:pt x="1199" y="99"/>
                </a:lnTo>
                <a:lnTo>
                  <a:pt x="1177" y="70"/>
                </a:lnTo>
                <a:lnTo>
                  <a:pt x="1154" y="46"/>
                </a:lnTo>
                <a:lnTo>
                  <a:pt x="1127" y="27"/>
                </a:lnTo>
                <a:lnTo>
                  <a:pt x="1091" y="13"/>
                </a:lnTo>
                <a:lnTo>
                  <a:pt x="1054" y="3"/>
                </a:lnTo>
                <a:lnTo>
                  <a:pt x="1014" y="0"/>
                </a:lnTo>
                <a:lnTo>
                  <a:pt x="509" y="0"/>
                </a:lnTo>
                <a:lnTo>
                  <a:pt x="209" y="0"/>
                </a:lnTo>
              </a:path>
            </a:pathLst>
          </a:custGeom>
          <a:solidFill>
            <a:srgbClr val="ffff99"/>
          </a:solidFill>
          <a:ln cap="rnd" w="25560">
            <a:solidFill>
              <a:srgbClr val="8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1219320"/>
            <a:ext cx="21592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10000"/>
                </a:solidFill>
                <a:latin typeface="Times New Roman"/>
              </a:rPr>
              <a:t>Curva de demanda condicional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632640" y="3506760"/>
            <a:ext cx="2133360" cy="2173320"/>
          </a:xfrm>
          <a:custGeom>
            <a:avLst/>
            <a:gdLst/>
            <a:ahLst/>
            <a:rect l="l" t="t" r="r" b="b"/>
            <a:pathLst>
              <a:path w="1344" h="1369">
                <a:moveTo>
                  <a:pt x="345" y="0"/>
                </a:moveTo>
                <a:lnTo>
                  <a:pt x="301" y="6"/>
                </a:lnTo>
                <a:lnTo>
                  <a:pt x="265" y="12"/>
                </a:lnTo>
                <a:lnTo>
                  <a:pt x="203" y="40"/>
                </a:lnTo>
                <a:lnTo>
                  <a:pt x="159" y="86"/>
                </a:lnTo>
                <a:lnTo>
                  <a:pt x="142" y="143"/>
                </a:lnTo>
                <a:lnTo>
                  <a:pt x="142" y="504"/>
                </a:lnTo>
                <a:lnTo>
                  <a:pt x="142" y="721"/>
                </a:lnTo>
                <a:lnTo>
                  <a:pt x="159" y="779"/>
                </a:lnTo>
                <a:lnTo>
                  <a:pt x="203" y="824"/>
                </a:lnTo>
                <a:lnTo>
                  <a:pt x="265" y="853"/>
                </a:lnTo>
                <a:lnTo>
                  <a:pt x="301" y="864"/>
                </a:lnTo>
                <a:lnTo>
                  <a:pt x="345" y="864"/>
                </a:lnTo>
                <a:lnTo>
                  <a:pt x="0" y="1368"/>
                </a:lnTo>
                <a:lnTo>
                  <a:pt x="645" y="864"/>
                </a:lnTo>
                <a:lnTo>
                  <a:pt x="1140" y="864"/>
                </a:lnTo>
                <a:lnTo>
                  <a:pt x="1184" y="864"/>
                </a:lnTo>
                <a:lnTo>
                  <a:pt x="1219" y="853"/>
                </a:lnTo>
                <a:lnTo>
                  <a:pt x="1281" y="824"/>
                </a:lnTo>
                <a:lnTo>
                  <a:pt x="1325" y="779"/>
                </a:lnTo>
                <a:lnTo>
                  <a:pt x="1343" y="721"/>
                </a:lnTo>
                <a:lnTo>
                  <a:pt x="1343" y="504"/>
                </a:lnTo>
                <a:lnTo>
                  <a:pt x="1343" y="143"/>
                </a:lnTo>
                <a:lnTo>
                  <a:pt x="1325" y="86"/>
                </a:lnTo>
                <a:lnTo>
                  <a:pt x="1281" y="40"/>
                </a:lnTo>
                <a:lnTo>
                  <a:pt x="1219" y="12"/>
                </a:lnTo>
                <a:lnTo>
                  <a:pt x="1184" y="6"/>
                </a:lnTo>
                <a:lnTo>
                  <a:pt x="1140" y="0"/>
                </a:lnTo>
                <a:lnTo>
                  <a:pt x="645" y="0"/>
                </a:lnTo>
                <a:lnTo>
                  <a:pt x="345" y="0"/>
                </a:lnTo>
              </a:path>
            </a:pathLst>
          </a:custGeom>
          <a:solidFill>
            <a:srgbClr val="ffff99"/>
          </a:solidFill>
          <a:ln cap="rnd" w="25560">
            <a:solidFill>
              <a:srgbClr val="000066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029360" y="3616200"/>
            <a:ext cx="156204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urva de demanda ord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959000" y="5867280"/>
            <a:ext cx="697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853160" y="1984320"/>
            <a:ext cx="2769840" cy="1763640"/>
          </a:xfrm>
          <a:custGeom>
            <a:avLst/>
            <a:gdLst/>
            <a:ahLst/>
            <a:rect l="l" t="t" r="r" b="b"/>
            <a:pathLst>
              <a:path w="1745" h="1111">
                <a:moveTo>
                  <a:pt x="300" y="0"/>
                </a:moveTo>
                <a:lnTo>
                  <a:pt x="246" y="4"/>
                </a:lnTo>
                <a:lnTo>
                  <a:pt x="192" y="11"/>
                </a:lnTo>
                <a:lnTo>
                  <a:pt x="146" y="23"/>
                </a:lnTo>
                <a:lnTo>
                  <a:pt x="100" y="41"/>
                </a:lnTo>
                <a:lnTo>
                  <a:pt x="62" y="60"/>
                </a:lnTo>
                <a:lnTo>
                  <a:pt x="39" y="87"/>
                </a:lnTo>
                <a:lnTo>
                  <a:pt x="23" y="113"/>
                </a:lnTo>
                <a:lnTo>
                  <a:pt x="16" y="143"/>
                </a:lnTo>
                <a:lnTo>
                  <a:pt x="16" y="502"/>
                </a:lnTo>
                <a:lnTo>
                  <a:pt x="16" y="717"/>
                </a:lnTo>
                <a:lnTo>
                  <a:pt x="23" y="748"/>
                </a:lnTo>
                <a:lnTo>
                  <a:pt x="39" y="774"/>
                </a:lnTo>
                <a:lnTo>
                  <a:pt x="62" y="797"/>
                </a:lnTo>
                <a:lnTo>
                  <a:pt x="100" y="819"/>
                </a:lnTo>
                <a:lnTo>
                  <a:pt x="146" y="838"/>
                </a:lnTo>
                <a:lnTo>
                  <a:pt x="192" y="849"/>
                </a:lnTo>
                <a:lnTo>
                  <a:pt x="246" y="857"/>
                </a:lnTo>
                <a:lnTo>
                  <a:pt x="300" y="861"/>
                </a:lnTo>
                <a:lnTo>
                  <a:pt x="0" y="1110"/>
                </a:lnTo>
                <a:lnTo>
                  <a:pt x="738" y="861"/>
                </a:lnTo>
                <a:lnTo>
                  <a:pt x="1452" y="861"/>
                </a:lnTo>
                <a:lnTo>
                  <a:pt x="1514" y="857"/>
                </a:lnTo>
                <a:lnTo>
                  <a:pt x="1567" y="849"/>
                </a:lnTo>
                <a:lnTo>
                  <a:pt x="1613" y="838"/>
                </a:lnTo>
                <a:lnTo>
                  <a:pt x="1660" y="819"/>
                </a:lnTo>
                <a:lnTo>
                  <a:pt x="1698" y="797"/>
                </a:lnTo>
                <a:lnTo>
                  <a:pt x="1721" y="774"/>
                </a:lnTo>
                <a:lnTo>
                  <a:pt x="1736" y="748"/>
                </a:lnTo>
                <a:lnTo>
                  <a:pt x="1744" y="717"/>
                </a:lnTo>
                <a:lnTo>
                  <a:pt x="1744" y="502"/>
                </a:lnTo>
                <a:lnTo>
                  <a:pt x="1744" y="143"/>
                </a:lnTo>
                <a:lnTo>
                  <a:pt x="1736" y="113"/>
                </a:lnTo>
                <a:lnTo>
                  <a:pt x="1721" y="87"/>
                </a:lnTo>
                <a:lnTo>
                  <a:pt x="1698" y="60"/>
                </a:lnTo>
                <a:lnTo>
                  <a:pt x="1660" y="41"/>
                </a:lnTo>
                <a:lnTo>
                  <a:pt x="1613" y="23"/>
                </a:lnTo>
                <a:lnTo>
                  <a:pt x="1567" y="11"/>
                </a:lnTo>
                <a:lnTo>
                  <a:pt x="1514" y="4"/>
                </a:lnTo>
                <a:lnTo>
                  <a:pt x="1452" y="0"/>
                </a:lnTo>
                <a:lnTo>
                  <a:pt x="738" y="0"/>
                </a:lnTo>
                <a:lnTo>
                  <a:pt x="300" y="0"/>
                </a:lnTo>
              </a:path>
            </a:pathLst>
          </a:custGeom>
          <a:solidFill>
            <a:srgbClr val="ffff99"/>
          </a:solidFill>
          <a:ln cap="rnd" w="2556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79960" y="2092320"/>
            <a:ext cx="233676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0000"/>
                </a:solidFill>
                <a:latin typeface="Times New Roman"/>
              </a:rPr>
              <a:t>Nueva curva de demanda con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136600" y="5292720"/>
            <a:ext cx="2511720" cy="792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234720" y="685440"/>
            <a:ext cx="890892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función de demanda ordinari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62120" y="2590920"/>
            <a:ext cx="784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53920" y="2637000"/>
            <a:ext cx="745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ff81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10000"/>
                </a:solidFill>
                <a:latin typeface="Times New Roman"/>
              </a:rPr>
              <a:t>La no-convexidad de </a:t>
            </a:r>
            <a:r>
              <a:rPr b="1" i="1" lang="es-ES_tradnl" sz="3200" spc="-1" strike="noStrike">
                <a:solidFill>
                  <a:srgbClr val="810000"/>
                </a:solidFill>
                <a:latin typeface="Times New Roman"/>
              </a:rPr>
              <a:t>Z</a:t>
            </a:r>
            <a:r>
              <a:rPr b="1" lang="es-ES_tradnl" sz="3200" spc="-1" strike="noStrike">
                <a:solidFill>
                  <a:srgbClr val="810000"/>
                </a:solidFill>
                <a:latin typeface="Times New Roman"/>
              </a:rPr>
              <a:t> puede producir una  </a:t>
            </a:r>
            <a:r>
              <a:rPr b="1" i="1" lang="es-ES_tradnl" sz="3200" spc="-1" strike="noStrike">
                <a:solidFill>
                  <a:srgbClr val="810000"/>
                </a:solidFill>
                <a:latin typeface="Times New Roman"/>
              </a:rPr>
              <a:t>D </a:t>
            </a:r>
            <a:r>
              <a:rPr b="1" lang="es-ES_tradnl" sz="3200" spc="-1" strike="noStrike">
                <a:solidFill>
                  <a:srgbClr val="810000"/>
                </a:solidFill>
                <a:latin typeface="Times New Roman"/>
              </a:rPr>
              <a:t> discontinu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94880" y="3962520"/>
            <a:ext cx="7997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ff81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1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10000"/>
                </a:solidFill>
                <a:latin typeface="Times New Roman"/>
              </a:rPr>
              <a:t>Los efectos precios cruzados son simét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752480" y="487692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62120" y="4876920"/>
            <a:ext cx="7543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ff8100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1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810000"/>
                </a:solidFill>
                <a:latin typeface="Times New Roman"/>
              </a:rPr>
              <a:t>La demanda con respecto a su propio precio tiene pendiente negativa</a:t>
            </a:r>
            <a:br>
              <a:rPr sz="3200"/>
            </a:br>
            <a:r>
              <a:rPr b="1" lang="es-ES_tradnl" sz="3200" spc="-1" strike="noStrike">
                <a:solidFill>
                  <a:srgbClr val="81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rot="19920000">
            <a:off x="1553760" y="2663640"/>
            <a:ext cx="6593040" cy="241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rot="19920000">
            <a:off x="1447560" y="2666520"/>
            <a:ext cx="66942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Brush738 BT"/>
              </a:rPr>
              <a:t>Las mismas propiedades básicas que la función H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404280" y="701640"/>
            <a:ext cx="8595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Repaso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88960" y="1989000"/>
            <a:ext cx="7791480" cy="4318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65680" y="2136600"/>
            <a:ext cx="18525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643040" y="3116160"/>
            <a:ext cx="6191280" cy="830520"/>
            <a:chOff x="1643040" y="3116160"/>
            <a:chExt cx="6191280" cy="830520"/>
          </a:xfrm>
        </p:grpSpPr>
        <p:sp>
          <p:nvSpPr>
            <p:cNvPr id="812" name=""/>
            <p:cNvSpPr/>
            <p:nvPr/>
          </p:nvSpPr>
          <p:spPr>
            <a:xfrm>
              <a:off x="4753080" y="3116160"/>
              <a:ext cx="144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643040" y="3568680"/>
              <a:ext cx="1440" cy="3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706920" y="3568680"/>
              <a:ext cx="1440" cy="3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69000" y="3568680"/>
              <a:ext cx="1440" cy="3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832880" y="3568680"/>
              <a:ext cx="1440" cy="3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649520" y="3562200"/>
              <a:ext cx="2057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713040" y="3562200"/>
              <a:ext cx="1040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759200" y="3562200"/>
              <a:ext cx="100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775480" y="3562200"/>
              <a:ext cx="2057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609480" y="3965400"/>
            <a:ext cx="1886040" cy="1816200"/>
            <a:chOff x="609480" y="3965400"/>
            <a:chExt cx="1886040" cy="1816200"/>
          </a:xfrm>
        </p:grpSpPr>
        <p:sp>
          <p:nvSpPr>
            <p:cNvPr id="822" name=""/>
            <p:cNvSpPr/>
            <p:nvPr/>
          </p:nvSpPr>
          <p:spPr>
            <a:xfrm>
              <a:off x="609480" y="3965400"/>
              <a:ext cx="1886040" cy="1816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68320" y="4794120"/>
              <a:ext cx="148428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838600" y="3967200"/>
            <a:ext cx="1854000" cy="1816200"/>
            <a:chOff x="2838600" y="3967200"/>
            <a:chExt cx="1854000" cy="1816200"/>
          </a:xfrm>
        </p:grpSpPr>
        <p:sp>
          <p:nvSpPr>
            <p:cNvPr id="825" name=""/>
            <p:cNvSpPr/>
            <p:nvPr/>
          </p:nvSpPr>
          <p:spPr>
            <a:xfrm>
              <a:off x="2838600" y="3967200"/>
              <a:ext cx="1854000" cy="1816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79640" y="4638600"/>
              <a:ext cx="1692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ptimizació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28960" y="2052720"/>
            <a:ext cx="1849680" cy="1057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30760" y="2054160"/>
            <a:ext cx="1846080" cy="1054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964320" y="2362320"/>
            <a:ext cx="1410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FI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4710240" y="3965400"/>
            <a:ext cx="2192040" cy="1816200"/>
            <a:chOff x="4710240" y="3965400"/>
            <a:chExt cx="2192040" cy="1816200"/>
          </a:xfrm>
        </p:grpSpPr>
        <p:sp>
          <p:nvSpPr>
            <p:cNvPr id="831" name=""/>
            <p:cNvSpPr/>
            <p:nvPr/>
          </p:nvSpPr>
          <p:spPr>
            <a:xfrm>
              <a:off x="4846680" y="3965400"/>
              <a:ext cx="1855800" cy="1816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710240" y="4505400"/>
              <a:ext cx="2192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Estática Comparativ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6943680" y="3965400"/>
            <a:ext cx="1855800" cy="1816200"/>
            <a:chOff x="6943680" y="3965400"/>
            <a:chExt cx="1855800" cy="1816200"/>
          </a:xfrm>
        </p:grpSpPr>
        <p:sp>
          <p:nvSpPr>
            <p:cNvPr id="834" name=""/>
            <p:cNvSpPr/>
            <p:nvPr/>
          </p:nvSpPr>
          <p:spPr>
            <a:xfrm>
              <a:off x="6943680" y="3965400"/>
              <a:ext cx="1855800" cy="1816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64280" y="4303800"/>
              <a:ext cx="161316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La Firma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y el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609480" y="3962520"/>
            <a:ext cx="8177400" cy="1817640"/>
            <a:chOff x="609480" y="3962520"/>
            <a:chExt cx="8177400" cy="1817640"/>
          </a:xfrm>
        </p:grpSpPr>
        <p:sp>
          <p:nvSpPr>
            <p:cNvPr id="837" name=""/>
            <p:cNvSpPr/>
            <p:nvPr/>
          </p:nvSpPr>
          <p:spPr>
            <a:xfrm>
              <a:off x="609480" y="3963960"/>
              <a:ext cx="1854360" cy="1816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7520" rIns="47520" tIns="23760" bIns="23760" anchor="t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35520" y="3962520"/>
              <a:ext cx="1854360" cy="1815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7520" rIns="47520" tIns="23760" bIns="23760" anchor="t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932520" y="3962520"/>
              <a:ext cx="1854360" cy="1815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7520" rIns="47520" tIns="23760" bIns="23760" anchor="t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699080" y="4502160"/>
              <a:ext cx="2190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23760" bIns="23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Estática Comparada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053120" y="4300560"/>
              <a:ext cx="161136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23760" bIns="237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La Firma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y el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62120" y="4649760"/>
              <a:ext cx="146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2135160" y="3646440"/>
            <a:ext cx="3476520" cy="2606760"/>
          </a:xfrm>
          <a:custGeom>
            <a:avLst/>
            <a:gdLst/>
            <a:ahLst/>
            <a:rect l="l" t="t" r="r" b="b"/>
            <a:pathLst>
              <a:path w="2190" h="1642">
                <a:moveTo>
                  <a:pt x="186" y="365"/>
                </a:moveTo>
                <a:lnTo>
                  <a:pt x="87" y="501"/>
                </a:lnTo>
                <a:lnTo>
                  <a:pt x="27" y="637"/>
                </a:lnTo>
                <a:lnTo>
                  <a:pt x="0" y="773"/>
                </a:lnTo>
                <a:lnTo>
                  <a:pt x="5" y="906"/>
                </a:lnTo>
                <a:lnTo>
                  <a:pt x="38" y="1035"/>
                </a:lnTo>
                <a:lnTo>
                  <a:pt x="100" y="1156"/>
                </a:lnTo>
                <a:lnTo>
                  <a:pt x="185" y="1268"/>
                </a:lnTo>
                <a:lnTo>
                  <a:pt x="292" y="1369"/>
                </a:lnTo>
                <a:lnTo>
                  <a:pt x="417" y="1459"/>
                </a:lnTo>
                <a:lnTo>
                  <a:pt x="559" y="1532"/>
                </a:lnTo>
                <a:lnTo>
                  <a:pt x="716" y="1589"/>
                </a:lnTo>
                <a:lnTo>
                  <a:pt x="884" y="1624"/>
                </a:lnTo>
                <a:lnTo>
                  <a:pt x="1060" y="1641"/>
                </a:lnTo>
                <a:lnTo>
                  <a:pt x="1243" y="1633"/>
                </a:lnTo>
                <a:lnTo>
                  <a:pt x="1430" y="1600"/>
                </a:lnTo>
                <a:lnTo>
                  <a:pt x="1619" y="1538"/>
                </a:lnTo>
                <a:lnTo>
                  <a:pt x="1789" y="1454"/>
                </a:lnTo>
                <a:lnTo>
                  <a:pt x="1928" y="1355"/>
                </a:lnTo>
                <a:lnTo>
                  <a:pt x="2037" y="1245"/>
                </a:lnTo>
                <a:lnTo>
                  <a:pt x="2117" y="1125"/>
                </a:lnTo>
                <a:lnTo>
                  <a:pt x="2166" y="1000"/>
                </a:lnTo>
                <a:lnTo>
                  <a:pt x="2189" y="871"/>
                </a:lnTo>
                <a:lnTo>
                  <a:pt x="2184" y="742"/>
                </a:lnTo>
                <a:lnTo>
                  <a:pt x="2154" y="612"/>
                </a:lnTo>
                <a:lnTo>
                  <a:pt x="2097" y="491"/>
                </a:lnTo>
                <a:lnTo>
                  <a:pt x="2018" y="375"/>
                </a:lnTo>
                <a:lnTo>
                  <a:pt x="1915" y="271"/>
                </a:lnTo>
                <a:lnTo>
                  <a:pt x="1791" y="180"/>
                </a:lnTo>
                <a:lnTo>
                  <a:pt x="1643" y="105"/>
                </a:lnTo>
                <a:lnTo>
                  <a:pt x="1477" y="48"/>
                </a:lnTo>
                <a:lnTo>
                  <a:pt x="1291" y="12"/>
                </a:lnTo>
                <a:lnTo>
                  <a:pt x="1087" y="0"/>
                </a:lnTo>
              </a:path>
            </a:pathLst>
          </a:custGeom>
          <a:noFill/>
          <a:ln cap="rnd" w="127080">
            <a:solidFill>
              <a:srgbClr val="ff0000"/>
            </a:solidFill>
            <a:round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3762360" y="4695840"/>
            <a:ext cx="144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2895120" y="685800"/>
            <a:ext cx="388620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 Caso Especial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20840" y="1531800"/>
            <a:ext cx="8388360" cy="50594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88960" y="1989000"/>
            <a:ext cx="7791480" cy="4318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865680" y="2136600"/>
            <a:ext cx="18525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828960" y="2052720"/>
            <a:ext cx="18496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828960" y="2052720"/>
            <a:ext cx="18496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176720" y="2367000"/>
            <a:ext cx="116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Fi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41520" y="3606840"/>
            <a:ext cx="1854000" cy="1057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39520" y="3886200"/>
            <a:ext cx="1536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2666880" y="5038560"/>
            <a:ext cx="2192400" cy="1059120"/>
            <a:chOff x="2666880" y="5038560"/>
            <a:chExt cx="2192400" cy="1059120"/>
          </a:xfrm>
        </p:grpSpPr>
        <p:sp>
          <p:nvSpPr>
            <p:cNvPr id="855" name=""/>
            <p:cNvSpPr/>
            <p:nvPr/>
          </p:nvSpPr>
          <p:spPr>
            <a:xfrm>
              <a:off x="2803680" y="5038560"/>
              <a:ext cx="1855800" cy="10591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666880" y="5202360"/>
              <a:ext cx="219240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l Cort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laz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1643040" y="3116160"/>
            <a:ext cx="6191280" cy="480960"/>
            <a:chOff x="1643040" y="3116160"/>
            <a:chExt cx="6191280" cy="480960"/>
          </a:xfrm>
        </p:grpSpPr>
        <p:sp>
          <p:nvSpPr>
            <p:cNvPr id="858" name=""/>
            <p:cNvSpPr/>
            <p:nvPr/>
          </p:nvSpPr>
          <p:spPr>
            <a:xfrm>
              <a:off x="4753080" y="3116160"/>
              <a:ext cx="144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643040" y="3379680"/>
              <a:ext cx="144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06920" y="3379680"/>
              <a:ext cx="144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769000" y="3379680"/>
              <a:ext cx="144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832880" y="3379680"/>
              <a:ext cx="144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649520" y="3373560"/>
              <a:ext cx="20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713040" y="3373560"/>
              <a:ext cx="1040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759200" y="3373560"/>
              <a:ext cx="100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775480" y="3373560"/>
              <a:ext cx="20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2838600" y="3608280"/>
            <a:ext cx="1854000" cy="1057320"/>
          </a:xfrm>
          <a:prstGeom prst="rect">
            <a:avLst/>
          </a:prstGeom>
          <a:gradFill rotWithShape="0">
            <a:gsLst>
              <a:gs pos="0">
                <a:srgbClr val="fff63d"/>
              </a:gs>
              <a:gs pos="50000">
                <a:srgbClr val="ffffff"/>
              </a:gs>
              <a:gs pos="100000">
                <a:srgbClr val="fff63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48120" y="3606840"/>
            <a:ext cx="1854360" cy="1057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882520" y="3998880"/>
            <a:ext cx="175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tim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943680" y="3606840"/>
            <a:ext cx="1855800" cy="1057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724280" y="3809880"/>
            <a:ext cx="2192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ática Comparad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086600" y="3657600"/>
            <a:ext cx="1620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Fi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 el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666880" y="4724280"/>
            <a:ext cx="2260800" cy="1819440"/>
          </a:xfrm>
          <a:custGeom>
            <a:avLst/>
            <a:gdLst/>
            <a:ahLst/>
            <a:rect l="l" t="t" r="r" b="b"/>
            <a:pathLst>
              <a:path w="1424" h="1146">
                <a:moveTo>
                  <a:pt x="122" y="255"/>
                </a:moveTo>
                <a:lnTo>
                  <a:pt x="60" y="348"/>
                </a:lnTo>
                <a:lnTo>
                  <a:pt x="19" y="443"/>
                </a:lnTo>
                <a:lnTo>
                  <a:pt x="1" y="537"/>
                </a:lnTo>
                <a:lnTo>
                  <a:pt x="0" y="584"/>
                </a:lnTo>
                <a:lnTo>
                  <a:pt x="4" y="631"/>
                </a:lnTo>
                <a:lnTo>
                  <a:pt x="65" y="804"/>
                </a:lnTo>
                <a:lnTo>
                  <a:pt x="190" y="955"/>
                </a:lnTo>
                <a:lnTo>
                  <a:pt x="364" y="1067"/>
                </a:lnTo>
                <a:lnTo>
                  <a:pt x="575" y="1134"/>
                </a:lnTo>
                <a:lnTo>
                  <a:pt x="688" y="1145"/>
                </a:lnTo>
                <a:lnTo>
                  <a:pt x="748" y="1145"/>
                </a:lnTo>
                <a:lnTo>
                  <a:pt x="808" y="1140"/>
                </a:lnTo>
                <a:lnTo>
                  <a:pt x="1052" y="1074"/>
                </a:lnTo>
                <a:lnTo>
                  <a:pt x="1162" y="1015"/>
                </a:lnTo>
                <a:lnTo>
                  <a:pt x="1252" y="947"/>
                </a:lnTo>
                <a:lnTo>
                  <a:pt x="1322" y="869"/>
                </a:lnTo>
                <a:lnTo>
                  <a:pt x="1374" y="786"/>
                </a:lnTo>
                <a:lnTo>
                  <a:pt x="1422" y="609"/>
                </a:lnTo>
                <a:lnTo>
                  <a:pt x="1423" y="564"/>
                </a:lnTo>
                <a:lnTo>
                  <a:pt x="1419" y="518"/>
                </a:lnTo>
                <a:lnTo>
                  <a:pt x="1399" y="428"/>
                </a:lnTo>
                <a:lnTo>
                  <a:pt x="1312" y="262"/>
                </a:lnTo>
                <a:lnTo>
                  <a:pt x="1246" y="189"/>
                </a:lnTo>
                <a:lnTo>
                  <a:pt x="1164" y="125"/>
                </a:lnTo>
                <a:lnTo>
                  <a:pt x="1070" y="73"/>
                </a:lnTo>
                <a:lnTo>
                  <a:pt x="961" y="33"/>
                </a:lnTo>
                <a:lnTo>
                  <a:pt x="841" y="7"/>
                </a:lnTo>
                <a:lnTo>
                  <a:pt x="775" y="1"/>
                </a:lnTo>
                <a:lnTo>
                  <a:pt x="706" y="0"/>
                </a:lnTo>
              </a:path>
            </a:pathLst>
          </a:custGeom>
          <a:noFill/>
          <a:ln cap="rnd" w="7632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txBody>
          <a:bodyPr lIns="0" rIns="0" tIns="0" bIns="0" anchor="t">
            <a:normAutofit fontScale="96000"/>
          </a:bodyPr>
          <a:p>
            <a:pPr marL="612720" indent="-612720">
              <a:lnSpc>
                <a:spcPct val="100000"/>
              </a:lnSpc>
              <a:spcBef>
                <a:spcPts val="3376"/>
              </a:spcBef>
              <a:buClr>
                <a:srgbClr val="81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5400" spc="-1" strike="noStrike">
                <a:solidFill>
                  <a:srgbClr val="004041"/>
                </a:solidFill>
                <a:latin typeface="ShelleyVolante BT"/>
              </a:rPr>
              <a:t>No es un momento en el tiempo pero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12720" indent="-612720">
              <a:lnSpc>
                <a:spcPct val="100000"/>
              </a:lnSpc>
              <a:spcBef>
                <a:spcPts val="3376"/>
              </a:spcBef>
              <a:buClr>
                <a:srgbClr val="81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5400" spc="-1" strike="noStrike">
                <a:solidFill>
                  <a:srgbClr val="004041"/>
                </a:solidFill>
                <a:latin typeface="ShelleyVolante BT"/>
              </a:rPr>
              <a:t>... está definido por restricciones adicionales dentro del model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04920" y="457200"/>
            <a:ext cx="8594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l Corto Plazo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404640" y="380520"/>
            <a:ext cx="87393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El problema del corto plazo se basa en el enfoque  tradiciona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7440" y="1876320"/>
            <a:ext cx="71740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s-ES_tradnl" sz="3800" spc="-1" strike="noStrike">
                <a:solidFill>
                  <a:srgbClr val="ff0000"/>
                </a:solidFill>
                <a:latin typeface="Brush738 BT"/>
              </a:rPr>
              <a:t>Elegimos  </a:t>
            </a:r>
            <a:r>
              <a:rPr b="1" i="1" lang="es-ES_tradnl" sz="3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s-ES_tradnl" sz="3800" spc="-1" strike="noStrike">
                <a:solidFill>
                  <a:srgbClr val="ff0000"/>
                </a:solidFill>
                <a:latin typeface="Brush738 BT"/>
              </a:rPr>
              <a:t> </a:t>
            </a:r>
            <a:r>
              <a:rPr b="1" lang="es-ES_tradnl" sz="3800" spc="-1" strike="noStrike">
                <a:solidFill>
                  <a:srgbClr val="ff0000"/>
                </a:solidFill>
                <a:latin typeface="Brush738 BT"/>
              </a:rPr>
              <a:t> y  </a:t>
            </a:r>
            <a:r>
              <a:rPr b="1" i="1" lang="es-ES_tradnl" sz="3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s-ES_tradnl" sz="3800" spc="-1" strike="noStrike">
                <a:solidFill>
                  <a:srgbClr val="ff0000"/>
                </a:solidFill>
                <a:latin typeface="Brush738 BT"/>
              </a:rPr>
              <a:t> que maximise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990720" y="2514600"/>
            <a:ext cx="5680080" cy="1219320"/>
            <a:chOff x="990720" y="2514600"/>
            <a:chExt cx="5680080" cy="1219320"/>
          </a:xfrm>
        </p:grpSpPr>
        <p:sp>
          <p:nvSpPr>
            <p:cNvPr id="879" name=""/>
            <p:cNvSpPr/>
            <p:nvPr/>
          </p:nvSpPr>
          <p:spPr>
            <a:xfrm>
              <a:off x="990720" y="2630520"/>
              <a:ext cx="5680080" cy="11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s-ES_tradnl" sz="4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</a:t>
              </a:r>
              <a:r>
                <a:rPr b="0" lang="es-ES_tradnl" sz="49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0" i="1" lang="es-ES_tradnl" sz="4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4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4900" spc="-1" strike="noStrike">
                  <a:solidFill>
                    <a:srgbClr val="000000"/>
                  </a:solidFill>
                  <a:latin typeface="Times New Roman"/>
                </a:rPr>
                <a:t>Q  </a:t>
              </a:r>
              <a:r>
                <a:rPr b="0" lang="es-ES_tradnl" sz="49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_tradnl" sz="4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5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s-ES_tradnl" sz="4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s-ES_tradnl" sz="49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s-ES_tradnl" sz="49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4900" spc="-1" strike="noStrike">
                  <a:solidFill>
                    <a:srgbClr val="000000"/>
                  </a:solidFill>
                  <a:latin typeface="Times New Roman"/>
                </a:rPr>
                <a:t> z</a:t>
              </a:r>
              <a:r>
                <a:rPr b="0" i="1" lang="es-ES_tradnl" sz="49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4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092480" y="2514600"/>
              <a:ext cx="50004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3352680" y="4419720"/>
            <a:ext cx="371484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4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63520" y="3865680"/>
            <a:ext cx="7840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Brush738 BT"/>
              </a:rPr>
              <a:t>...sujeto a la restricción de producción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934320" y="5105520"/>
            <a:ext cx="16952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4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039080" y="5791320"/>
            <a:ext cx="15714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4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63520" y="5380200"/>
            <a:ext cx="6664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Brush738 BT"/>
              </a:rPr>
              <a:t>…</a:t>
            </a:r>
            <a:r>
              <a:rPr b="1" lang="en-US" sz="3800" spc="-1" strike="noStrike">
                <a:solidFill>
                  <a:srgbClr val="ff0000"/>
                </a:solidFill>
                <a:latin typeface="Brush738 BT"/>
              </a:rPr>
              <a:t>y algunas condiciones obvias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2209680" y="3017880"/>
            <a:ext cx="6221520" cy="1859040"/>
            <a:chOff x="2209680" y="3017880"/>
            <a:chExt cx="6221520" cy="1859040"/>
          </a:xfrm>
        </p:grpSpPr>
        <p:sp>
          <p:nvSpPr>
            <p:cNvPr id="887" name=""/>
            <p:cNvSpPr/>
            <p:nvPr/>
          </p:nvSpPr>
          <p:spPr>
            <a:xfrm>
              <a:off x="2209680" y="3017880"/>
              <a:ext cx="6221520" cy="1859040"/>
            </a:xfrm>
            <a:prstGeom prst="ellipse">
              <a:avLst/>
            </a:prstGeom>
            <a:solidFill>
              <a:srgbClr val="ffffc2"/>
            </a:solidFill>
            <a:ln w="1260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51400" y="3273480"/>
              <a:ext cx="3429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_tradnl" sz="70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i="1" lang="es-ES_tradnl" sz="70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0" i="1" lang="es-ES_tradnl" sz="7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s-ES_tradnl" sz="7000" spc="-1" strike="noStrike">
                  <a:solidFill>
                    <a:srgbClr val="ff0000"/>
                  </a:solidFill>
                  <a:latin typeface="Times New Roman"/>
                </a:rPr>
                <a:t> =  </a:t>
              </a:r>
              <a:r>
                <a:rPr b="0" lang="es-ES_tradnl" sz="7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</a:t>
              </a:r>
              <a:r>
                <a:rPr b="0" i="1" lang="es-ES_tradnl" sz="70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i="1" lang="es-ES_tradnl" sz="70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914400" y="0"/>
            <a:ext cx="7620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1440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 condiciones de bor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404280" y="1587240"/>
            <a:ext cx="859500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74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La solución ahora involucra la 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 función de costos a corto plaz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85800" y="2514600"/>
            <a:ext cx="1066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089680" y="3733920"/>
            <a:ext cx="1936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0" i="1" lang="es-ES_tradnl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es-ES_tradnl" sz="27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s-ES_tradnl" sz="2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=  </a:t>
            </a:r>
            <a:r>
              <a:rPr b="0" i="1" lang="es-ES_tradnl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es-ES_tradnl" sz="27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 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93640" y="2895480"/>
            <a:ext cx="8245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5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5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5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lang="es-ES_tradnl" sz="5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50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s-ES_tradnl" sz="5000" spc="-1" strike="noStrike">
                <a:solidFill>
                  <a:srgbClr val="000000"/>
                </a:solidFill>
                <a:latin typeface="Times New Roman"/>
              </a:rPr>
              <a:t>)  :=    min </a:t>
            </a:r>
            <a:r>
              <a:rPr b="1" lang="es-ES_tradnl" sz="5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s-ES_tradnl" sz="5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i="1" lang="es-ES_tradnl" sz="5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024600" y="3809880"/>
            <a:ext cx="71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404280" y="1218960"/>
            <a:ext cx="859500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70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mpare con la solución sin restricciones de borde.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914400" y="2438280"/>
            <a:ext cx="786456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5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5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5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5000" spc="-1" strike="noStrike">
                <a:solidFill>
                  <a:srgbClr val="000000"/>
                </a:solidFill>
                <a:latin typeface="Times New Roman"/>
              </a:rPr>
              <a:t>)  :=    min </a:t>
            </a:r>
            <a:r>
              <a:rPr b="1" lang="es-ES_tradnl" sz="5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s-ES_tradnl" sz="5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i="1" lang="es-ES_tradnl" sz="5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3252960" y="3809880"/>
            <a:ext cx="4748040" cy="1295640"/>
            <a:chOff x="3252960" y="3809880"/>
            <a:chExt cx="4748040" cy="1295640"/>
          </a:xfrm>
        </p:grpSpPr>
        <p:sp>
          <p:nvSpPr>
            <p:cNvPr id="899" name=""/>
            <p:cNvSpPr/>
            <p:nvPr/>
          </p:nvSpPr>
          <p:spPr>
            <a:xfrm>
              <a:off x="3252960" y="4237200"/>
              <a:ext cx="47480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5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i="1" lang="es-ES_tradnl" sz="5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s-ES_tradnl" sz="5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s-ES_tradnl" sz="5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s-ES_tradnl" sz="5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s-ES_tradnl" sz="5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s-ES_tradnl" sz="5000" spc="-1" strike="noStrike">
                  <a:solidFill>
                    <a:srgbClr val="000000"/>
                  </a:solidFill>
                  <a:latin typeface="Times New Roman"/>
                </a:rPr>
                <a:t>Q,</a:t>
              </a:r>
              <a:r>
                <a:rPr b="0" lang="es-ES_tradnl" sz="5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</a:t>
              </a:r>
              <a:r>
                <a:rPr b="0" i="1" lang="es-ES_tradnl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s-ES_tradnl" sz="5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s-ES_tradnl" sz="5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5000" spc="-1" strike="noStrike">
                  <a:solidFill>
                    <a:srgbClr val="000000"/>
                  </a:solidFill>
                  <a:latin typeface="Times New Roman"/>
                </a:rPr>
                <a:t>)  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038480" y="3809880"/>
              <a:ext cx="1067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5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777960" y="990720"/>
            <a:ext cx="8366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838080"/>
            <a:ext cx="836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20000"/>
                </a:solidFill>
                <a:latin typeface="Times New Roman"/>
              </a:rPr>
              <a:t>Por definición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/>
          </p:nvPr>
        </p:nvSpPr>
        <p:spPr>
          <a:xfrm>
            <a:off x="404280" y="1218960"/>
            <a:ext cx="859500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70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ompare con la solución sin la  restricción de borde.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252960" y="4237200"/>
            <a:ext cx="47480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581280" y="2209680"/>
            <a:ext cx="1067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80880" y="762120"/>
            <a:ext cx="83664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838080"/>
            <a:ext cx="836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20000"/>
                </a:solidFill>
                <a:latin typeface="Times New Roman"/>
              </a:rPr>
              <a:t>Por consiguiente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80880" y="2971800"/>
            <a:ext cx="786456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5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5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5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5000" spc="-1" strike="noStrike">
                <a:solidFill>
                  <a:srgbClr val="000000"/>
                </a:solidFill>
                <a:latin typeface="Times New Roman"/>
              </a:rPr>
              <a:t>)      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5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5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5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Q, </a:t>
            </a:r>
            <a:r>
              <a:rPr b="0" lang="es-ES_tradnl" sz="5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5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5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s-ES_tradnl" sz="5000" spc="-1" strike="noStrike">
                <a:solidFill>
                  <a:srgbClr val="000000"/>
                </a:solidFill>
                <a:latin typeface="Times New Roman"/>
              </a:rPr>
              <a:t>_______     ___________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s-ES_tradnl" sz="5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s-ES_tradnl" sz="5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Q                   Q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4800600" y="4011480"/>
            <a:ext cx="4343400" cy="2846520"/>
            <a:chOff x="4800600" y="4011480"/>
            <a:chExt cx="4343400" cy="2846520"/>
          </a:xfrm>
        </p:grpSpPr>
        <p:sp>
          <p:nvSpPr>
            <p:cNvPr id="910" name=""/>
            <p:cNvSpPr/>
            <p:nvPr/>
          </p:nvSpPr>
          <p:spPr>
            <a:xfrm>
              <a:off x="4800600" y="4011480"/>
              <a:ext cx="4343400" cy="2846520"/>
            </a:xfrm>
            <a:custGeom>
              <a:avLst/>
              <a:gdLst/>
              <a:ahLst/>
              <a:rect l="l" t="t" r="r" b="b"/>
              <a:pathLst>
                <a:path w="2736" h="1793">
                  <a:moveTo>
                    <a:pt x="2735" y="880"/>
                  </a:moveTo>
                  <a:lnTo>
                    <a:pt x="2735" y="880"/>
                  </a:lnTo>
                  <a:lnTo>
                    <a:pt x="1124" y="0"/>
                  </a:lnTo>
                  <a:lnTo>
                    <a:pt x="1311" y="440"/>
                  </a:lnTo>
                  <a:lnTo>
                    <a:pt x="0" y="440"/>
                  </a:lnTo>
                  <a:lnTo>
                    <a:pt x="0" y="1382"/>
                  </a:lnTo>
                  <a:lnTo>
                    <a:pt x="1311" y="1382"/>
                  </a:lnTo>
                  <a:lnTo>
                    <a:pt x="1124" y="1792"/>
                  </a:lnTo>
                  <a:lnTo>
                    <a:pt x="2735" y="88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871880" y="4829040"/>
              <a:ext cx="3741840" cy="11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Arial"/>
                </a:rPr>
                <a:t>Miremos el gráfico...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557280" y="277920"/>
            <a:ext cx="859320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4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El costo medio en el corto y largo plaz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5311800" y="3811680"/>
            <a:ext cx="19080" cy="2311200"/>
          </a:xfrm>
          <a:prstGeom prst="line">
            <a:avLst/>
          </a:prstGeom>
          <a:ln w="127080">
            <a:solidFill>
              <a:srgbClr val="ff8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824120" y="2440080"/>
            <a:ext cx="5808600" cy="2469960"/>
          </a:xfrm>
          <a:custGeom>
            <a:avLst/>
            <a:gdLst/>
            <a:ahLst/>
            <a:rect l="l" t="t" r="r" b="b"/>
            <a:pathLst>
              <a:path w="3659" h="1556">
                <a:moveTo>
                  <a:pt x="0" y="228"/>
                </a:moveTo>
                <a:lnTo>
                  <a:pt x="13" y="281"/>
                </a:lnTo>
                <a:lnTo>
                  <a:pt x="25" y="324"/>
                </a:lnTo>
                <a:lnTo>
                  <a:pt x="33" y="358"/>
                </a:lnTo>
                <a:lnTo>
                  <a:pt x="40" y="385"/>
                </a:lnTo>
                <a:lnTo>
                  <a:pt x="45" y="406"/>
                </a:lnTo>
                <a:lnTo>
                  <a:pt x="49" y="421"/>
                </a:lnTo>
                <a:lnTo>
                  <a:pt x="52" y="432"/>
                </a:lnTo>
                <a:lnTo>
                  <a:pt x="55" y="440"/>
                </a:lnTo>
                <a:lnTo>
                  <a:pt x="56" y="447"/>
                </a:lnTo>
                <a:lnTo>
                  <a:pt x="58" y="452"/>
                </a:lnTo>
                <a:lnTo>
                  <a:pt x="60" y="459"/>
                </a:lnTo>
                <a:lnTo>
                  <a:pt x="62" y="466"/>
                </a:lnTo>
                <a:lnTo>
                  <a:pt x="64" y="477"/>
                </a:lnTo>
                <a:lnTo>
                  <a:pt x="68" y="491"/>
                </a:lnTo>
                <a:lnTo>
                  <a:pt x="73" y="510"/>
                </a:lnTo>
                <a:lnTo>
                  <a:pt x="81" y="536"/>
                </a:lnTo>
                <a:lnTo>
                  <a:pt x="88" y="566"/>
                </a:lnTo>
                <a:lnTo>
                  <a:pt x="98" y="597"/>
                </a:lnTo>
                <a:lnTo>
                  <a:pt x="108" y="630"/>
                </a:lnTo>
                <a:lnTo>
                  <a:pt x="120" y="665"/>
                </a:lnTo>
                <a:lnTo>
                  <a:pt x="133" y="700"/>
                </a:lnTo>
                <a:lnTo>
                  <a:pt x="145" y="734"/>
                </a:lnTo>
                <a:lnTo>
                  <a:pt x="159" y="770"/>
                </a:lnTo>
                <a:lnTo>
                  <a:pt x="173" y="803"/>
                </a:lnTo>
                <a:lnTo>
                  <a:pt x="186" y="838"/>
                </a:lnTo>
                <a:lnTo>
                  <a:pt x="201" y="871"/>
                </a:lnTo>
                <a:lnTo>
                  <a:pt x="215" y="904"/>
                </a:lnTo>
                <a:lnTo>
                  <a:pt x="229" y="932"/>
                </a:lnTo>
                <a:lnTo>
                  <a:pt x="242" y="961"/>
                </a:lnTo>
                <a:lnTo>
                  <a:pt x="255" y="986"/>
                </a:lnTo>
                <a:lnTo>
                  <a:pt x="267" y="1009"/>
                </a:lnTo>
                <a:lnTo>
                  <a:pt x="280" y="1027"/>
                </a:lnTo>
                <a:lnTo>
                  <a:pt x="291" y="1046"/>
                </a:lnTo>
                <a:lnTo>
                  <a:pt x="304" y="1064"/>
                </a:lnTo>
                <a:lnTo>
                  <a:pt x="317" y="1086"/>
                </a:lnTo>
                <a:lnTo>
                  <a:pt x="333" y="1105"/>
                </a:lnTo>
                <a:lnTo>
                  <a:pt x="347" y="1127"/>
                </a:lnTo>
                <a:lnTo>
                  <a:pt x="364" y="1148"/>
                </a:lnTo>
                <a:lnTo>
                  <a:pt x="380" y="1170"/>
                </a:lnTo>
                <a:lnTo>
                  <a:pt x="397" y="1191"/>
                </a:lnTo>
                <a:lnTo>
                  <a:pt x="413" y="1213"/>
                </a:lnTo>
                <a:lnTo>
                  <a:pt x="429" y="1232"/>
                </a:lnTo>
                <a:lnTo>
                  <a:pt x="445" y="1252"/>
                </a:lnTo>
                <a:lnTo>
                  <a:pt x="462" y="1269"/>
                </a:lnTo>
                <a:lnTo>
                  <a:pt x="476" y="1287"/>
                </a:lnTo>
                <a:lnTo>
                  <a:pt x="491" y="1303"/>
                </a:lnTo>
                <a:lnTo>
                  <a:pt x="504" y="1317"/>
                </a:lnTo>
                <a:lnTo>
                  <a:pt x="516" y="1327"/>
                </a:lnTo>
                <a:lnTo>
                  <a:pt x="527" y="1340"/>
                </a:lnTo>
                <a:lnTo>
                  <a:pt x="542" y="1351"/>
                </a:lnTo>
                <a:lnTo>
                  <a:pt x="559" y="1363"/>
                </a:lnTo>
                <a:lnTo>
                  <a:pt x="579" y="1375"/>
                </a:lnTo>
                <a:lnTo>
                  <a:pt x="600" y="1387"/>
                </a:lnTo>
                <a:lnTo>
                  <a:pt x="623" y="1400"/>
                </a:lnTo>
                <a:lnTo>
                  <a:pt x="647" y="1412"/>
                </a:lnTo>
                <a:lnTo>
                  <a:pt x="673" y="1423"/>
                </a:lnTo>
                <a:lnTo>
                  <a:pt x="698" y="1435"/>
                </a:lnTo>
                <a:lnTo>
                  <a:pt x="725" y="1447"/>
                </a:lnTo>
                <a:lnTo>
                  <a:pt x="751" y="1458"/>
                </a:lnTo>
                <a:lnTo>
                  <a:pt x="778" y="1468"/>
                </a:lnTo>
                <a:lnTo>
                  <a:pt x="804" y="1477"/>
                </a:lnTo>
                <a:lnTo>
                  <a:pt x="829" y="1485"/>
                </a:lnTo>
                <a:lnTo>
                  <a:pt x="853" y="1492"/>
                </a:lnTo>
                <a:lnTo>
                  <a:pt x="877" y="1498"/>
                </a:lnTo>
                <a:lnTo>
                  <a:pt x="900" y="1505"/>
                </a:lnTo>
                <a:lnTo>
                  <a:pt x="925" y="1509"/>
                </a:lnTo>
                <a:lnTo>
                  <a:pt x="950" y="1515"/>
                </a:lnTo>
                <a:lnTo>
                  <a:pt x="976" y="1520"/>
                </a:lnTo>
                <a:lnTo>
                  <a:pt x="1002" y="1524"/>
                </a:lnTo>
                <a:lnTo>
                  <a:pt x="1029" y="1530"/>
                </a:lnTo>
                <a:lnTo>
                  <a:pt x="1055" y="1534"/>
                </a:lnTo>
                <a:lnTo>
                  <a:pt x="1081" y="1537"/>
                </a:lnTo>
                <a:lnTo>
                  <a:pt x="1105" y="1542"/>
                </a:lnTo>
                <a:lnTo>
                  <a:pt x="1130" y="1545"/>
                </a:lnTo>
                <a:lnTo>
                  <a:pt x="1152" y="1548"/>
                </a:lnTo>
                <a:lnTo>
                  <a:pt x="1174" y="1551"/>
                </a:lnTo>
                <a:lnTo>
                  <a:pt x="1193" y="1552"/>
                </a:lnTo>
                <a:lnTo>
                  <a:pt x="1211" y="1554"/>
                </a:lnTo>
                <a:lnTo>
                  <a:pt x="1225" y="1555"/>
                </a:lnTo>
                <a:lnTo>
                  <a:pt x="1238" y="1555"/>
                </a:lnTo>
                <a:lnTo>
                  <a:pt x="1250" y="1555"/>
                </a:lnTo>
                <a:lnTo>
                  <a:pt x="1265" y="1554"/>
                </a:lnTo>
                <a:lnTo>
                  <a:pt x="1282" y="1553"/>
                </a:lnTo>
                <a:lnTo>
                  <a:pt x="1302" y="1551"/>
                </a:lnTo>
                <a:lnTo>
                  <a:pt x="1322" y="1550"/>
                </a:lnTo>
                <a:lnTo>
                  <a:pt x="1345" y="1546"/>
                </a:lnTo>
                <a:lnTo>
                  <a:pt x="1369" y="1543"/>
                </a:lnTo>
                <a:lnTo>
                  <a:pt x="1395" y="1540"/>
                </a:lnTo>
                <a:lnTo>
                  <a:pt x="1420" y="1537"/>
                </a:lnTo>
                <a:lnTo>
                  <a:pt x="1446" y="1533"/>
                </a:lnTo>
                <a:lnTo>
                  <a:pt x="1472" y="1530"/>
                </a:lnTo>
                <a:lnTo>
                  <a:pt x="1499" y="1524"/>
                </a:lnTo>
                <a:lnTo>
                  <a:pt x="1525" y="1520"/>
                </a:lnTo>
                <a:lnTo>
                  <a:pt x="1551" y="1515"/>
                </a:lnTo>
                <a:lnTo>
                  <a:pt x="1575" y="1510"/>
                </a:lnTo>
                <a:lnTo>
                  <a:pt x="1600" y="1506"/>
                </a:lnTo>
                <a:lnTo>
                  <a:pt x="1623" y="1500"/>
                </a:lnTo>
                <a:lnTo>
                  <a:pt x="1648" y="1495"/>
                </a:lnTo>
                <a:lnTo>
                  <a:pt x="1675" y="1490"/>
                </a:lnTo>
                <a:lnTo>
                  <a:pt x="1703" y="1483"/>
                </a:lnTo>
                <a:lnTo>
                  <a:pt x="1731" y="1476"/>
                </a:lnTo>
                <a:lnTo>
                  <a:pt x="1760" y="1469"/>
                </a:lnTo>
                <a:lnTo>
                  <a:pt x="1789" y="1460"/>
                </a:lnTo>
                <a:lnTo>
                  <a:pt x="1817" y="1452"/>
                </a:lnTo>
                <a:lnTo>
                  <a:pt x="1844" y="1445"/>
                </a:lnTo>
                <a:lnTo>
                  <a:pt x="1873" y="1437"/>
                </a:lnTo>
                <a:lnTo>
                  <a:pt x="1898" y="1428"/>
                </a:lnTo>
                <a:lnTo>
                  <a:pt x="1924" y="1420"/>
                </a:lnTo>
                <a:lnTo>
                  <a:pt x="1947" y="1413"/>
                </a:lnTo>
                <a:lnTo>
                  <a:pt x="1969" y="1405"/>
                </a:lnTo>
                <a:lnTo>
                  <a:pt x="1988" y="1398"/>
                </a:lnTo>
                <a:lnTo>
                  <a:pt x="2005" y="1391"/>
                </a:lnTo>
                <a:lnTo>
                  <a:pt x="2021" y="1386"/>
                </a:lnTo>
                <a:lnTo>
                  <a:pt x="2040" y="1377"/>
                </a:lnTo>
                <a:lnTo>
                  <a:pt x="2061" y="1368"/>
                </a:lnTo>
                <a:lnTo>
                  <a:pt x="2084" y="1356"/>
                </a:lnTo>
                <a:lnTo>
                  <a:pt x="2109" y="1344"/>
                </a:lnTo>
                <a:lnTo>
                  <a:pt x="2135" y="1331"/>
                </a:lnTo>
                <a:lnTo>
                  <a:pt x="2163" y="1318"/>
                </a:lnTo>
                <a:lnTo>
                  <a:pt x="2192" y="1303"/>
                </a:lnTo>
                <a:lnTo>
                  <a:pt x="2220" y="1289"/>
                </a:lnTo>
                <a:lnTo>
                  <a:pt x="2249" y="1274"/>
                </a:lnTo>
                <a:lnTo>
                  <a:pt x="2277" y="1259"/>
                </a:lnTo>
                <a:lnTo>
                  <a:pt x="2306" y="1244"/>
                </a:lnTo>
                <a:lnTo>
                  <a:pt x="2334" y="1229"/>
                </a:lnTo>
                <a:lnTo>
                  <a:pt x="2360" y="1214"/>
                </a:lnTo>
                <a:lnTo>
                  <a:pt x="2385" y="1200"/>
                </a:lnTo>
                <a:lnTo>
                  <a:pt x="2411" y="1185"/>
                </a:lnTo>
                <a:lnTo>
                  <a:pt x="2434" y="1171"/>
                </a:lnTo>
                <a:lnTo>
                  <a:pt x="2460" y="1154"/>
                </a:lnTo>
                <a:lnTo>
                  <a:pt x="2488" y="1136"/>
                </a:lnTo>
                <a:lnTo>
                  <a:pt x="2519" y="1114"/>
                </a:lnTo>
                <a:lnTo>
                  <a:pt x="2551" y="1093"/>
                </a:lnTo>
                <a:lnTo>
                  <a:pt x="2584" y="1069"/>
                </a:lnTo>
                <a:lnTo>
                  <a:pt x="2617" y="1043"/>
                </a:lnTo>
                <a:lnTo>
                  <a:pt x="2652" y="1018"/>
                </a:lnTo>
                <a:lnTo>
                  <a:pt x="2684" y="993"/>
                </a:lnTo>
                <a:lnTo>
                  <a:pt x="2718" y="966"/>
                </a:lnTo>
                <a:lnTo>
                  <a:pt x="2750" y="941"/>
                </a:lnTo>
                <a:lnTo>
                  <a:pt x="2782" y="914"/>
                </a:lnTo>
                <a:lnTo>
                  <a:pt x="2811" y="891"/>
                </a:lnTo>
                <a:lnTo>
                  <a:pt x="2840" y="867"/>
                </a:lnTo>
                <a:lnTo>
                  <a:pt x="2866" y="844"/>
                </a:lnTo>
                <a:lnTo>
                  <a:pt x="2890" y="821"/>
                </a:lnTo>
                <a:lnTo>
                  <a:pt x="2913" y="800"/>
                </a:lnTo>
                <a:lnTo>
                  <a:pt x="2938" y="776"/>
                </a:lnTo>
                <a:lnTo>
                  <a:pt x="2964" y="752"/>
                </a:lnTo>
                <a:lnTo>
                  <a:pt x="2992" y="725"/>
                </a:lnTo>
                <a:lnTo>
                  <a:pt x="3020" y="699"/>
                </a:lnTo>
                <a:lnTo>
                  <a:pt x="3049" y="672"/>
                </a:lnTo>
                <a:lnTo>
                  <a:pt x="3078" y="643"/>
                </a:lnTo>
                <a:lnTo>
                  <a:pt x="3107" y="615"/>
                </a:lnTo>
                <a:lnTo>
                  <a:pt x="3135" y="589"/>
                </a:lnTo>
                <a:lnTo>
                  <a:pt x="3164" y="561"/>
                </a:lnTo>
                <a:lnTo>
                  <a:pt x="3191" y="536"/>
                </a:lnTo>
                <a:lnTo>
                  <a:pt x="3217" y="510"/>
                </a:lnTo>
                <a:lnTo>
                  <a:pt x="3242" y="487"/>
                </a:lnTo>
                <a:lnTo>
                  <a:pt x="3264" y="465"/>
                </a:lnTo>
                <a:lnTo>
                  <a:pt x="3284" y="447"/>
                </a:lnTo>
                <a:lnTo>
                  <a:pt x="3304" y="428"/>
                </a:lnTo>
                <a:lnTo>
                  <a:pt x="3320" y="412"/>
                </a:lnTo>
                <a:lnTo>
                  <a:pt x="3337" y="394"/>
                </a:lnTo>
                <a:lnTo>
                  <a:pt x="3356" y="374"/>
                </a:lnTo>
                <a:lnTo>
                  <a:pt x="3375" y="354"/>
                </a:lnTo>
                <a:lnTo>
                  <a:pt x="3394" y="335"/>
                </a:lnTo>
                <a:lnTo>
                  <a:pt x="3414" y="312"/>
                </a:lnTo>
                <a:lnTo>
                  <a:pt x="3433" y="291"/>
                </a:lnTo>
                <a:lnTo>
                  <a:pt x="3453" y="270"/>
                </a:lnTo>
                <a:lnTo>
                  <a:pt x="3470" y="251"/>
                </a:lnTo>
                <a:lnTo>
                  <a:pt x="3488" y="229"/>
                </a:lnTo>
                <a:lnTo>
                  <a:pt x="3504" y="210"/>
                </a:lnTo>
                <a:lnTo>
                  <a:pt x="3521" y="191"/>
                </a:lnTo>
                <a:lnTo>
                  <a:pt x="3535" y="174"/>
                </a:lnTo>
                <a:lnTo>
                  <a:pt x="3548" y="156"/>
                </a:lnTo>
                <a:lnTo>
                  <a:pt x="3560" y="141"/>
                </a:lnTo>
                <a:lnTo>
                  <a:pt x="3570" y="128"/>
                </a:lnTo>
                <a:lnTo>
                  <a:pt x="3576" y="118"/>
                </a:lnTo>
                <a:lnTo>
                  <a:pt x="3582" y="109"/>
                </a:lnTo>
                <a:lnTo>
                  <a:pt x="3585" y="104"/>
                </a:lnTo>
                <a:lnTo>
                  <a:pt x="3589" y="99"/>
                </a:lnTo>
                <a:lnTo>
                  <a:pt x="3591" y="97"/>
                </a:lnTo>
                <a:lnTo>
                  <a:pt x="3593" y="94"/>
                </a:lnTo>
                <a:lnTo>
                  <a:pt x="3594" y="92"/>
                </a:lnTo>
                <a:lnTo>
                  <a:pt x="3596" y="88"/>
                </a:lnTo>
                <a:lnTo>
                  <a:pt x="3598" y="86"/>
                </a:lnTo>
                <a:lnTo>
                  <a:pt x="3602" y="81"/>
                </a:lnTo>
                <a:lnTo>
                  <a:pt x="3606" y="75"/>
                </a:lnTo>
                <a:lnTo>
                  <a:pt x="3613" y="65"/>
                </a:lnTo>
                <a:lnTo>
                  <a:pt x="3620" y="55"/>
                </a:lnTo>
                <a:lnTo>
                  <a:pt x="3630" y="41"/>
                </a:lnTo>
                <a:lnTo>
                  <a:pt x="3642" y="22"/>
                </a:lnTo>
                <a:lnTo>
                  <a:pt x="3658" y="0"/>
                </a:lnTo>
              </a:path>
            </a:pathLst>
          </a:custGeom>
          <a:noFill/>
          <a:ln cap="rnd" w="25560">
            <a:solidFill>
              <a:srgbClr val="ff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00280" y="6132600"/>
            <a:ext cx="790704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793800" y="1581120"/>
            <a:ext cx="0" cy="454824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76440" y="1170000"/>
            <a:ext cx="2458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8801280" y="5969160"/>
            <a:ext cx="2808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308480" y="3319560"/>
            <a:ext cx="1920960" cy="1270080"/>
          </a:xfrm>
          <a:custGeom>
            <a:avLst/>
            <a:gdLst/>
            <a:ahLst/>
            <a:rect l="l" t="t" r="r" b="b"/>
            <a:pathLst>
              <a:path w="1210" h="800">
                <a:moveTo>
                  <a:pt x="0" y="116"/>
                </a:moveTo>
                <a:lnTo>
                  <a:pt x="4" y="144"/>
                </a:lnTo>
                <a:lnTo>
                  <a:pt x="6" y="166"/>
                </a:lnTo>
                <a:lnTo>
                  <a:pt x="9" y="184"/>
                </a:lnTo>
                <a:lnTo>
                  <a:pt x="12" y="198"/>
                </a:lnTo>
                <a:lnTo>
                  <a:pt x="13" y="209"/>
                </a:lnTo>
                <a:lnTo>
                  <a:pt x="15" y="216"/>
                </a:lnTo>
                <a:lnTo>
                  <a:pt x="15" y="222"/>
                </a:lnTo>
                <a:lnTo>
                  <a:pt x="17" y="226"/>
                </a:lnTo>
                <a:lnTo>
                  <a:pt x="17" y="229"/>
                </a:lnTo>
                <a:lnTo>
                  <a:pt x="17" y="232"/>
                </a:lnTo>
                <a:lnTo>
                  <a:pt x="17" y="236"/>
                </a:lnTo>
                <a:lnTo>
                  <a:pt x="19" y="239"/>
                </a:lnTo>
                <a:lnTo>
                  <a:pt x="19" y="245"/>
                </a:lnTo>
                <a:lnTo>
                  <a:pt x="21" y="252"/>
                </a:lnTo>
                <a:lnTo>
                  <a:pt x="23" y="262"/>
                </a:lnTo>
                <a:lnTo>
                  <a:pt x="25" y="274"/>
                </a:lnTo>
                <a:lnTo>
                  <a:pt x="27" y="290"/>
                </a:lnTo>
                <a:lnTo>
                  <a:pt x="31" y="307"/>
                </a:lnTo>
                <a:lnTo>
                  <a:pt x="34" y="324"/>
                </a:lnTo>
                <a:lnTo>
                  <a:pt x="38" y="340"/>
                </a:lnTo>
                <a:lnTo>
                  <a:pt x="41" y="359"/>
                </a:lnTo>
                <a:lnTo>
                  <a:pt x="46" y="377"/>
                </a:lnTo>
                <a:lnTo>
                  <a:pt x="50" y="395"/>
                </a:lnTo>
                <a:lnTo>
                  <a:pt x="55" y="413"/>
                </a:lnTo>
                <a:lnTo>
                  <a:pt x="59" y="430"/>
                </a:lnTo>
                <a:lnTo>
                  <a:pt x="65" y="448"/>
                </a:lnTo>
                <a:lnTo>
                  <a:pt x="69" y="464"/>
                </a:lnTo>
                <a:lnTo>
                  <a:pt x="75" y="479"/>
                </a:lnTo>
                <a:lnTo>
                  <a:pt x="77" y="494"/>
                </a:lnTo>
                <a:lnTo>
                  <a:pt x="83" y="506"/>
                </a:lnTo>
                <a:lnTo>
                  <a:pt x="86" y="519"/>
                </a:lnTo>
                <a:lnTo>
                  <a:pt x="92" y="527"/>
                </a:lnTo>
                <a:lnTo>
                  <a:pt x="95" y="538"/>
                </a:lnTo>
                <a:lnTo>
                  <a:pt x="99" y="548"/>
                </a:lnTo>
                <a:lnTo>
                  <a:pt x="105" y="558"/>
                </a:lnTo>
                <a:lnTo>
                  <a:pt x="110" y="568"/>
                </a:lnTo>
                <a:lnTo>
                  <a:pt x="115" y="580"/>
                </a:lnTo>
                <a:lnTo>
                  <a:pt x="120" y="591"/>
                </a:lnTo>
                <a:lnTo>
                  <a:pt x="125" y="602"/>
                </a:lnTo>
                <a:lnTo>
                  <a:pt x="131" y="612"/>
                </a:lnTo>
                <a:lnTo>
                  <a:pt x="136" y="624"/>
                </a:lnTo>
                <a:lnTo>
                  <a:pt x="141" y="634"/>
                </a:lnTo>
                <a:lnTo>
                  <a:pt x="146" y="644"/>
                </a:lnTo>
                <a:lnTo>
                  <a:pt x="153" y="653"/>
                </a:lnTo>
                <a:lnTo>
                  <a:pt x="156" y="662"/>
                </a:lnTo>
                <a:lnTo>
                  <a:pt x="162" y="669"/>
                </a:lnTo>
                <a:lnTo>
                  <a:pt x="165" y="677"/>
                </a:lnTo>
                <a:lnTo>
                  <a:pt x="171" y="683"/>
                </a:lnTo>
                <a:lnTo>
                  <a:pt x="174" y="689"/>
                </a:lnTo>
                <a:lnTo>
                  <a:pt x="179" y="694"/>
                </a:lnTo>
                <a:lnTo>
                  <a:pt x="185" y="701"/>
                </a:lnTo>
                <a:lnTo>
                  <a:pt x="191" y="706"/>
                </a:lnTo>
                <a:lnTo>
                  <a:pt x="198" y="713"/>
                </a:lnTo>
                <a:lnTo>
                  <a:pt x="205" y="720"/>
                </a:lnTo>
                <a:lnTo>
                  <a:pt x="214" y="726"/>
                </a:lnTo>
                <a:lnTo>
                  <a:pt x="222" y="731"/>
                </a:lnTo>
                <a:lnTo>
                  <a:pt x="230" y="738"/>
                </a:lnTo>
                <a:lnTo>
                  <a:pt x="239" y="744"/>
                </a:lnTo>
                <a:lnTo>
                  <a:pt x="247" y="750"/>
                </a:lnTo>
                <a:lnTo>
                  <a:pt x="256" y="754"/>
                </a:lnTo>
                <a:lnTo>
                  <a:pt x="265" y="759"/>
                </a:lnTo>
                <a:lnTo>
                  <a:pt x="274" y="764"/>
                </a:lnTo>
                <a:lnTo>
                  <a:pt x="281" y="767"/>
                </a:lnTo>
                <a:lnTo>
                  <a:pt x="290" y="770"/>
                </a:lnTo>
                <a:lnTo>
                  <a:pt x="296" y="773"/>
                </a:lnTo>
                <a:lnTo>
                  <a:pt x="305" y="775"/>
                </a:lnTo>
                <a:lnTo>
                  <a:pt x="314" y="779"/>
                </a:lnTo>
                <a:lnTo>
                  <a:pt x="322" y="781"/>
                </a:lnTo>
                <a:lnTo>
                  <a:pt x="330" y="783"/>
                </a:lnTo>
                <a:lnTo>
                  <a:pt x="339" y="785"/>
                </a:lnTo>
                <a:lnTo>
                  <a:pt x="347" y="789"/>
                </a:lnTo>
                <a:lnTo>
                  <a:pt x="356" y="789"/>
                </a:lnTo>
                <a:lnTo>
                  <a:pt x="364" y="792"/>
                </a:lnTo>
                <a:lnTo>
                  <a:pt x="372" y="794"/>
                </a:lnTo>
                <a:lnTo>
                  <a:pt x="379" y="796"/>
                </a:lnTo>
                <a:lnTo>
                  <a:pt x="386" y="797"/>
                </a:lnTo>
                <a:lnTo>
                  <a:pt x="393" y="798"/>
                </a:lnTo>
                <a:lnTo>
                  <a:pt x="399" y="799"/>
                </a:lnTo>
                <a:lnTo>
                  <a:pt x="404" y="799"/>
                </a:lnTo>
                <a:lnTo>
                  <a:pt x="408" y="799"/>
                </a:lnTo>
                <a:lnTo>
                  <a:pt x="412" y="799"/>
                </a:lnTo>
                <a:lnTo>
                  <a:pt x="417" y="799"/>
                </a:lnTo>
                <a:lnTo>
                  <a:pt x="423" y="799"/>
                </a:lnTo>
                <a:lnTo>
                  <a:pt x="429" y="797"/>
                </a:lnTo>
                <a:lnTo>
                  <a:pt x="436" y="796"/>
                </a:lnTo>
                <a:lnTo>
                  <a:pt x="444" y="795"/>
                </a:lnTo>
                <a:lnTo>
                  <a:pt x="452" y="793"/>
                </a:lnTo>
                <a:lnTo>
                  <a:pt x="461" y="791"/>
                </a:lnTo>
                <a:lnTo>
                  <a:pt x="469" y="789"/>
                </a:lnTo>
                <a:lnTo>
                  <a:pt x="477" y="789"/>
                </a:lnTo>
                <a:lnTo>
                  <a:pt x="486" y="787"/>
                </a:lnTo>
                <a:lnTo>
                  <a:pt x="495" y="783"/>
                </a:lnTo>
                <a:lnTo>
                  <a:pt x="504" y="781"/>
                </a:lnTo>
                <a:lnTo>
                  <a:pt x="512" y="779"/>
                </a:lnTo>
                <a:lnTo>
                  <a:pt x="520" y="777"/>
                </a:lnTo>
                <a:lnTo>
                  <a:pt x="528" y="774"/>
                </a:lnTo>
                <a:lnTo>
                  <a:pt x="535" y="772"/>
                </a:lnTo>
                <a:lnTo>
                  <a:pt x="545" y="769"/>
                </a:lnTo>
                <a:lnTo>
                  <a:pt x="553" y="766"/>
                </a:lnTo>
                <a:lnTo>
                  <a:pt x="563" y="762"/>
                </a:lnTo>
                <a:lnTo>
                  <a:pt x="571" y="759"/>
                </a:lnTo>
                <a:lnTo>
                  <a:pt x="581" y="754"/>
                </a:lnTo>
                <a:lnTo>
                  <a:pt x="590" y="751"/>
                </a:lnTo>
                <a:lnTo>
                  <a:pt x="600" y="745"/>
                </a:lnTo>
                <a:lnTo>
                  <a:pt x="608" y="743"/>
                </a:lnTo>
                <a:lnTo>
                  <a:pt x="617" y="738"/>
                </a:lnTo>
                <a:lnTo>
                  <a:pt x="626" y="735"/>
                </a:lnTo>
                <a:lnTo>
                  <a:pt x="635" y="729"/>
                </a:lnTo>
                <a:lnTo>
                  <a:pt x="642" y="727"/>
                </a:lnTo>
                <a:lnTo>
                  <a:pt x="650" y="722"/>
                </a:lnTo>
                <a:lnTo>
                  <a:pt x="656" y="720"/>
                </a:lnTo>
                <a:lnTo>
                  <a:pt x="663" y="714"/>
                </a:lnTo>
                <a:lnTo>
                  <a:pt x="668" y="712"/>
                </a:lnTo>
                <a:lnTo>
                  <a:pt x="674" y="708"/>
                </a:lnTo>
                <a:lnTo>
                  <a:pt x="681" y="703"/>
                </a:lnTo>
                <a:lnTo>
                  <a:pt x="688" y="697"/>
                </a:lnTo>
                <a:lnTo>
                  <a:pt x="696" y="692"/>
                </a:lnTo>
                <a:lnTo>
                  <a:pt x="705" y="684"/>
                </a:lnTo>
                <a:lnTo>
                  <a:pt x="715" y="678"/>
                </a:lnTo>
                <a:lnTo>
                  <a:pt x="725" y="669"/>
                </a:lnTo>
                <a:lnTo>
                  <a:pt x="733" y="663"/>
                </a:lnTo>
                <a:lnTo>
                  <a:pt x="743" y="654"/>
                </a:lnTo>
                <a:lnTo>
                  <a:pt x="752" y="647"/>
                </a:lnTo>
                <a:lnTo>
                  <a:pt x="762" y="639"/>
                </a:lnTo>
                <a:lnTo>
                  <a:pt x="770" y="632"/>
                </a:lnTo>
                <a:lnTo>
                  <a:pt x="779" y="624"/>
                </a:lnTo>
                <a:lnTo>
                  <a:pt x="788" y="617"/>
                </a:lnTo>
                <a:lnTo>
                  <a:pt x="796" y="609"/>
                </a:lnTo>
                <a:lnTo>
                  <a:pt x="804" y="602"/>
                </a:lnTo>
                <a:lnTo>
                  <a:pt x="812" y="593"/>
                </a:lnTo>
                <a:lnTo>
                  <a:pt x="822" y="583"/>
                </a:lnTo>
                <a:lnTo>
                  <a:pt x="832" y="572"/>
                </a:lnTo>
                <a:lnTo>
                  <a:pt x="843" y="561"/>
                </a:lnTo>
                <a:lnTo>
                  <a:pt x="854" y="550"/>
                </a:lnTo>
                <a:lnTo>
                  <a:pt x="864" y="536"/>
                </a:lnTo>
                <a:lnTo>
                  <a:pt x="875" y="523"/>
                </a:lnTo>
                <a:lnTo>
                  <a:pt x="885" y="510"/>
                </a:lnTo>
                <a:lnTo>
                  <a:pt x="897" y="497"/>
                </a:lnTo>
                <a:lnTo>
                  <a:pt x="907" y="483"/>
                </a:lnTo>
                <a:lnTo>
                  <a:pt x="918" y="470"/>
                </a:lnTo>
                <a:lnTo>
                  <a:pt x="927" y="458"/>
                </a:lnTo>
                <a:lnTo>
                  <a:pt x="937" y="445"/>
                </a:lnTo>
                <a:lnTo>
                  <a:pt x="946" y="433"/>
                </a:lnTo>
                <a:lnTo>
                  <a:pt x="955" y="422"/>
                </a:lnTo>
                <a:lnTo>
                  <a:pt x="962" y="411"/>
                </a:lnTo>
                <a:lnTo>
                  <a:pt x="970" y="400"/>
                </a:lnTo>
                <a:lnTo>
                  <a:pt x="979" y="386"/>
                </a:lnTo>
                <a:lnTo>
                  <a:pt x="988" y="374"/>
                </a:lnTo>
                <a:lnTo>
                  <a:pt x="996" y="360"/>
                </a:lnTo>
                <a:lnTo>
                  <a:pt x="1006" y="346"/>
                </a:lnTo>
                <a:lnTo>
                  <a:pt x="1016" y="332"/>
                </a:lnTo>
                <a:lnTo>
                  <a:pt x="1026" y="317"/>
                </a:lnTo>
                <a:lnTo>
                  <a:pt x="1035" y="303"/>
                </a:lnTo>
                <a:lnTo>
                  <a:pt x="1045" y="289"/>
                </a:lnTo>
                <a:lnTo>
                  <a:pt x="1054" y="276"/>
                </a:lnTo>
                <a:lnTo>
                  <a:pt x="1063" y="263"/>
                </a:lnTo>
                <a:lnTo>
                  <a:pt x="1070" y="251"/>
                </a:lnTo>
                <a:lnTo>
                  <a:pt x="1078" y="240"/>
                </a:lnTo>
                <a:lnTo>
                  <a:pt x="1085" y="230"/>
                </a:lnTo>
                <a:lnTo>
                  <a:pt x="1092" y="221"/>
                </a:lnTo>
                <a:lnTo>
                  <a:pt x="1096" y="212"/>
                </a:lnTo>
                <a:lnTo>
                  <a:pt x="1103" y="203"/>
                </a:lnTo>
                <a:lnTo>
                  <a:pt x="1108" y="193"/>
                </a:lnTo>
                <a:lnTo>
                  <a:pt x="1115" y="183"/>
                </a:lnTo>
                <a:lnTo>
                  <a:pt x="1120" y="173"/>
                </a:lnTo>
                <a:lnTo>
                  <a:pt x="1126" y="161"/>
                </a:lnTo>
                <a:lnTo>
                  <a:pt x="1134" y="151"/>
                </a:lnTo>
                <a:lnTo>
                  <a:pt x="1140" y="139"/>
                </a:lnTo>
                <a:lnTo>
                  <a:pt x="1145" y="129"/>
                </a:lnTo>
                <a:lnTo>
                  <a:pt x="1152" y="118"/>
                </a:lnTo>
                <a:lnTo>
                  <a:pt x="1156" y="108"/>
                </a:lnTo>
                <a:lnTo>
                  <a:pt x="1163" y="98"/>
                </a:lnTo>
                <a:lnTo>
                  <a:pt x="1166" y="90"/>
                </a:lnTo>
                <a:lnTo>
                  <a:pt x="1172" y="81"/>
                </a:lnTo>
                <a:lnTo>
                  <a:pt x="1175" y="74"/>
                </a:lnTo>
                <a:lnTo>
                  <a:pt x="1179" y="66"/>
                </a:lnTo>
                <a:lnTo>
                  <a:pt x="1181" y="62"/>
                </a:lnTo>
                <a:lnTo>
                  <a:pt x="1183" y="57"/>
                </a:lnTo>
                <a:lnTo>
                  <a:pt x="1184" y="55"/>
                </a:lnTo>
                <a:lnTo>
                  <a:pt x="1185" y="52"/>
                </a:lnTo>
                <a:lnTo>
                  <a:pt x="1185" y="51"/>
                </a:lnTo>
                <a:lnTo>
                  <a:pt x="1186" y="49"/>
                </a:lnTo>
                <a:lnTo>
                  <a:pt x="1186" y="48"/>
                </a:lnTo>
                <a:lnTo>
                  <a:pt x="1188" y="46"/>
                </a:lnTo>
                <a:lnTo>
                  <a:pt x="1188" y="44"/>
                </a:lnTo>
                <a:lnTo>
                  <a:pt x="1189" y="42"/>
                </a:lnTo>
                <a:lnTo>
                  <a:pt x="1190" y="40"/>
                </a:lnTo>
                <a:lnTo>
                  <a:pt x="1193" y="34"/>
                </a:lnTo>
                <a:lnTo>
                  <a:pt x="1195" y="29"/>
                </a:lnTo>
                <a:lnTo>
                  <a:pt x="1199" y="21"/>
                </a:lnTo>
                <a:lnTo>
                  <a:pt x="1203" y="12"/>
                </a:lnTo>
                <a:lnTo>
                  <a:pt x="1209" y="0"/>
                </a:lnTo>
              </a:path>
            </a:pathLst>
          </a:custGeom>
          <a:noFill/>
          <a:ln cap="rnd" w="2556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781440" y="3165480"/>
            <a:ext cx="644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2600" spc="-1" strike="noStrike">
                <a:solidFill>
                  <a:srgbClr val="400080"/>
                </a:solidFill>
                <a:latin typeface="Times New Roman"/>
              </a:rPr>
              <a:t>C/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168880" y="6316560"/>
            <a:ext cx="282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262480" y="5959440"/>
            <a:ext cx="216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809880" y="2952720"/>
            <a:ext cx="316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2700" spc="-1" strike="noStrike">
                <a:solidFill>
                  <a:srgbClr val="400080"/>
                </a:solidFill>
                <a:latin typeface="Times New Roman"/>
              </a:rPr>
              <a:t>~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556400" y="2070000"/>
            <a:ext cx="6447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2600" spc="-1" strike="noStrike">
                <a:solidFill>
                  <a:srgbClr val="ff0080"/>
                </a:solidFill>
                <a:latin typeface="Times New Roman"/>
              </a:rPr>
              <a:t>C/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59464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ómo funciona?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95680" y="2243160"/>
            <a:ext cx="3959280" cy="37306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951280" y="2857680"/>
            <a:ext cx="3200400" cy="2172960"/>
            <a:chOff x="2951280" y="2857680"/>
            <a:chExt cx="3200400" cy="2172960"/>
          </a:xfrm>
        </p:grpSpPr>
        <p:sp>
          <p:nvSpPr>
            <p:cNvPr id="124" name=""/>
            <p:cNvSpPr/>
            <p:nvPr/>
          </p:nvSpPr>
          <p:spPr>
            <a:xfrm>
              <a:off x="2951280" y="3484440"/>
              <a:ext cx="2395440" cy="1546200"/>
            </a:xfrm>
            <a:custGeom>
              <a:avLst/>
              <a:gdLst/>
              <a:ahLst/>
              <a:rect l="l" t="t" r="r" b="b"/>
              <a:pathLst>
                <a:path w="1509" h="974">
                  <a:moveTo>
                    <a:pt x="0" y="973"/>
                  </a:moveTo>
                  <a:lnTo>
                    <a:pt x="0" y="0"/>
                  </a:lnTo>
                  <a:lnTo>
                    <a:pt x="1508" y="0"/>
                  </a:lnTo>
                  <a:lnTo>
                    <a:pt x="1508" y="973"/>
                  </a:lnTo>
                  <a:lnTo>
                    <a:pt x="0" y="973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255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51280" y="2857680"/>
              <a:ext cx="3200400" cy="630000"/>
            </a:xfrm>
            <a:custGeom>
              <a:avLst/>
              <a:gdLst/>
              <a:ahLst/>
              <a:rect l="l" t="t" r="r" b="b"/>
              <a:pathLst>
                <a:path w="2016" h="397">
                  <a:moveTo>
                    <a:pt x="0" y="396"/>
                  </a:moveTo>
                  <a:lnTo>
                    <a:pt x="844" y="0"/>
                  </a:lnTo>
                  <a:lnTo>
                    <a:pt x="2015" y="3"/>
                  </a:lnTo>
                  <a:lnTo>
                    <a:pt x="1507" y="396"/>
                  </a:lnTo>
                  <a:lnTo>
                    <a:pt x="0" y="396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255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45280" y="2862360"/>
              <a:ext cx="806400" cy="2168280"/>
            </a:xfrm>
            <a:custGeom>
              <a:avLst/>
              <a:gdLst/>
              <a:ahLst/>
              <a:rect l="l" t="t" r="r" b="b"/>
              <a:pathLst>
                <a:path w="508" h="1366">
                  <a:moveTo>
                    <a:pt x="0" y="1365"/>
                  </a:moveTo>
                  <a:lnTo>
                    <a:pt x="505" y="797"/>
                  </a:lnTo>
                  <a:lnTo>
                    <a:pt x="507" y="0"/>
                  </a:lnTo>
                  <a:lnTo>
                    <a:pt x="0" y="393"/>
                  </a:lnTo>
                  <a:lnTo>
                    <a:pt x="0" y="1365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78400" y="4111560"/>
              <a:ext cx="1288800" cy="603360"/>
            </a:xfrm>
            <a:prstGeom prst="rect">
              <a:avLst/>
            </a:prstGeom>
            <a:solidFill>
              <a:srgbClr val="ffffc2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 fir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238880" y="3425760"/>
            <a:ext cx="1603440" cy="1454040"/>
            <a:chOff x="7238880" y="3425760"/>
            <a:chExt cx="1603440" cy="1454040"/>
          </a:xfrm>
        </p:grpSpPr>
        <p:sp>
          <p:nvSpPr>
            <p:cNvPr id="129" name=""/>
            <p:cNvSpPr/>
            <p:nvPr/>
          </p:nvSpPr>
          <p:spPr>
            <a:xfrm>
              <a:off x="7311960" y="3425760"/>
              <a:ext cx="1454040" cy="1454040"/>
            </a:xfrm>
            <a:prstGeom prst="ellipse">
              <a:avLst/>
            </a:prstGeom>
            <a:solidFill>
              <a:srgbClr val="ffffc2"/>
            </a:solidFill>
            <a:ln w="1260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3809880"/>
              <a:ext cx="160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`niveles de producción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man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407280" y="3892680"/>
            <a:ext cx="914400" cy="81000"/>
          </a:xfrm>
          <a:prstGeom prst="line">
            <a:avLst/>
          </a:prstGeom>
          <a:ln w="127080">
            <a:solidFill>
              <a:srgbClr val="ff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16160" y="3892680"/>
            <a:ext cx="914400" cy="81000"/>
          </a:xfrm>
          <a:prstGeom prst="line">
            <a:avLst/>
          </a:prstGeom>
          <a:ln w="127080">
            <a:solidFill>
              <a:srgbClr val="ff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5360" y="3121200"/>
            <a:ext cx="2063880" cy="1581120"/>
            <a:chOff x="225360" y="3121200"/>
            <a:chExt cx="2063880" cy="1581120"/>
          </a:xfrm>
        </p:grpSpPr>
        <p:sp>
          <p:nvSpPr>
            <p:cNvPr id="134" name=""/>
            <p:cNvSpPr/>
            <p:nvPr/>
          </p:nvSpPr>
          <p:spPr>
            <a:xfrm>
              <a:off x="225360" y="3121200"/>
              <a:ext cx="2063880" cy="1581120"/>
            </a:xfrm>
            <a:prstGeom prst="ellipse">
              <a:avLst/>
            </a:prstGeom>
            <a:solidFill>
              <a:srgbClr val="ffffc2"/>
            </a:solidFill>
            <a:ln w="12600">
              <a:solidFill>
                <a:srgbClr val="810000"/>
              </a:solidFill>
              <a:miter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5800" y="3505320"/>
              <a:ext cx="11016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precios del mercad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/>
          </p:nvPr>
        </p:nvSpPr>
        <p:spPr>
          <a:xfrm>
            <a:off x="557280" y="277920"/>
            <a:ext cx="859320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1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Costo Marginal en el corto y largo plaz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5310360" y="3207960"/>
            <a:ext cx="0" cy="2916360"/>
          </a:xfrm>
          <a:prstGeom prst="line">
            <a:avLst/>
          </a:prstGeom>
          <a:ln w="127080">
            <a:solidFill>
              <a:srgbClr val="ff8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16240" y="2416320"/>
            <a:ext cx="3724200" cy="2813040"/>
          </a:xfrm>
          <a:custGeom>
            <a:avLst/>
            <a:gdLst/>
            <a:ahLst/>
            <a:rect l="l" t="t" r="r" b="b"/>
            <a:pathLst>
              <a:path w="2346" h="1772">
                <a:moveTo>
                  <a:pt x="0" y="1699"/>
                </a:moveTo>
                <a:lnTo>
                  <a:pt x="17" y="1706"/>
                </a:lnTo>
                <a:lnTo>
                  <a:pt x="31" y="1711"/>
                </a:lnTo>
                <a:lnTo>
                  <a:pt x="43" y="1715"/>
                </a:lnTo>
                <a:lnTo>
                  <a:pt x="52" y="1718"/>
                </a:lnTo>
                <a:lnTo>
                  <a:pt x="57" y="1721"/>
                </a:lnTo>
                <a:lnTo>
                  <a:pt x="63" y="1722"/>
                </a:lnTo>
                <a:lnTo>
                  <a:pt x="66" y="1723"/>
                </a:lnTo>
                <a:lnTo>
                  <a:pt x="70" y="1723"/>
                </a:lnTo>
                <a:lnTo>
                  <a:pt x="71" y="1725"/>
                </a:lnTo>
                <a:lnTo>
                  <a:pt x="74" y="1725"/>
                </a:lnTo>
                <a:lnTo>
                  <a:pt x="75" y="1727"/>
                </a:lnTo>
                <a:lnTo>
                  <a:pt x="79" y="1727"/>
                </a:lnTo>
                <a:lnTo>
                  <a:pt x="81" y="1729"/>
                </a:lnTo>
                <a:lnTo>
                  <a:pt x="86" y="1730"/>
                </a:lnTo>
                <a:lnTo>
                  <a:pt x="93" y="1732"/>
                </a:lnTo>
                <a:lnTo>
                  <a:pt x="103" y="1735"/>
                </a:lnTo>
                <a:lnTo>
                  <a:pt x="112" y="1739"/>
                </a:lnTo>
                <a:lnTo>
                  <a:pt x="123" y="1743"/>
                </a:lnTo>
                <a:lnTo>
                  <a:pt x="133" y="1746"/>
                </a:lnTo>
                <a:lnTo>
                  <a:pt x="145" y="1749"/>
                </a:lnTo>
                <a:lnTo>
                  <a:pt x="157" y="1753"/>
                </a:lnTo>
                <a:lnTo>
                  <a:pt x="169" y="1755"/>
                </a:lnTo>
                <a:lnTo>
                  <a:pt x="181" y="1759"/>
                </a:lnTo>
                <a:lnTo>
                  <a:pt x="194" y="1761"/>
                </a:lnTo>
                <a:lnTo>
                  <a:pt x="204" y="1763"/>
                </a:lnTo>
                <a:lnTo>
                  <a:pt x="216" y="1765"/>
                </a:lnTo>
                <a:lnTo>
                  <a:pt x="226" y="1767"/>
                </a:lnTo>
                <a:lnTo>
                  <a:pt x="237" y="1768"/>
                </a:lnTo>
                <a:lnTo>
                  <a:pt x="246" y="1770"/>
                </a:lnTo>
                <a:lnTo>
                  <a:pt x="256" y="1771"/>
                </a:lnTo>
                <a:lnTo>
                  <a:pt x="264" y="1771"/>
                </a:lnTo>
                <a:lnTo>
                  <a:pt x="272" y="1771"/>
                </a:lnTo>
                <a:lnTo>
                  <a:pt x="277" y="1771"/>
                </a:lnTo>
                <a:lnTo>
                  <a:pt x="286" y="1771"/>
                </a:lnTo>
                <a:lnTo>
                  <a:pt x="297" y="1771"/>
                </a:lnTo>
                <a:lnTo>
                  <a:pt x="309" y="1769"/>
                </a:lnTo>
                <a:lnTo>
                  <a:pt x="321" y="1769"/>
                </a:lnTo>
                <a:lnTo>
                  <a:pt x="336" y="1768"/>
                </a:lnTo>
                <a:lnTo>
                  <a:pt x="350" y="1766"/>
                </a:lnTo>
                <a:lnTo>
                  <a:pt x="366" y="1764"/>
                </a:lnTo>
                <a:lnTo>
                  <a:pt x="381" y="1763"/>
                </a:lnTo>
                <a:lnTo>
                  <a:pt x="397" y="1762"/>
                </a:lnTo>
                <a:lnTo>
                  <a:pt x="414" y="1761"/>
                </a:lnTo>
                <a:lnTo>
                  <a:pt x="430" y="1758"/>
                </a:lnTo>
                <a:lnTo>
                  <a:pt x="446" y="1756"/>
                </a:lnTo>
                <a:lnTo>
                  <a:pt x="463" y="1754"/>
                </a:lnTo>
                <a:lnTo>
                  <a:pt x="478" y="1753"/>
                </a:lnTo>
                <a:lnTo>
                  <a:pt x="494" y="1750"/>
                </a:lnTo>
                <a:lnTo>
                  <a:pt x="508" y="1748"/>
                </a:lnTo>
                <a:lnTo>
                  <a:pt x="525" y="1745"/>
                </a:lnTo>
                <a:lnTo>
                  <a:pt x="543" y="1741"/>
                </a:lnTo>
                <a:lnTo>
                  <a:pt x="563" y="1737"/>
                </a:lnTo>
                <a:lnTo>
                  <a:pt x="583" y="1731"/>
                </a:lnTo>
                <a:lnTo>
                  <a:pt x="603" y="1726"/>
                </a:lnTo>
                <a:lnTo>
                  <a:pt x="623" y="1720"/>
                </a:lnTo>
                <a:lnTo>
                  <a:pt x="646" y="1713"/>
                </a:lnTo>
                <a:lnTo>
                  <a:pt x="666" y="1707"/>
                </a:lnTo>
                <a:lnTo>
                  <a:pt x="687" y="1701"/>
                </a:lnTo>
                <a:lnTo>
                  <a:pt x="707" y="1693"/>
                </a:lnTo>
                <a:lnTo>
                  <a:pt x="727" y="1686"/>
                </a:lnTo>
                <a:lnTo>
                  <a:pt x="746" y="1679"/>
                </a:lnTo>
                <a:lnTo>
                  <a:pt x="764" y="1671"/>
                </a:lnTo>
                <a:lnTo>
                  <a:pt x="780" y="1665"/>
                </a:lnTo>
                <a:lnTo>
                  <a:pt x="796" y="1656"/>
                </a:lnTo>
                <a:lnTo>
                  <a:pt x="810" y="1650"/>
                </a:lnTo>
                <a:lnTo>
                  <a:pt x="827" y="1642"/>
                </a:lnTo>
                <a:lnTo>
                  <a:pt x="845" y="1634"/>
                </a:lnTo>
                <a:lnTo>
                  <a:pt x="865" y="1625"/>
                </a:lnTo>
                <a:lnTo>
                  <a:pt x="885" y="1614"/>
                </a:lnTo>
                <a:lnTo>
                  <a:pt x="907" y="1603"/>
                </a:lnTo>
                <a:lnTo>
                  <a:pt x="928" y="1593"/>
                </a:lnTo>
                <a:lnTo>
                  <a:pt x="952" y="1581"/>
                </a:lnTo>
                <a:lnTo>
                  <a:pt x="974" y="1572"/>
                </a:lnTo>
                <a:lnTo>
                  <a:pt x="998" y="1560"/>
                </a:lnTo>
                <a:lnTo>
                  <a:pt x="1019" y="1550"/>
                </a:lnTo>
                <a:lnTo>
                  <a:pt x="1042" y="1538"/>
                </a:lnTo>
                <a:lnTo>
                  <a:pt x="1063" y="1528"/>
                </a:lnTo>
                <a:lnTo>
                  <a:pt x="1083" y="1518"/>
                </a:lnTo>
                <a:lnTo>
                  <a:pt x="1102" y="1509"/>
                </a:lnTo>
                <a:lnTo>
                  <a:pt x="1120" y="1499"/>
                </a:lnTo>
                <a:lnTo>
                  <a:pt x="1137" y="1492"/>
                </a:lnTo>
                <a:lnTo>
                  <a:pt x="1156" y="1482"/>
                </a:lnTo>
                <a:lnTo>
                  <a:pt x="1177" y="1470"/>
                </a:lnTo>
                <a:lnTo>
                  <a:pt x="1198" y="1459"/>
                </a:lnTo>
                <a:lnTo>
                  <a:pt x="1221" y="1445"/>
                </a:lnTo>
                <a:lnTo>
                  <a:pt x="1244" y="1432"/>
                </a:lnTo>
                <a:lnTo>
                  <a:pt x="1268" y="1418"/>
                </a:lnTo>
                <a:lnTo>
                  <a:pt x="1292" y="1403"/>
                </a:lnTo>
                <a:lnTo>
                  <a:pt x="1315" y="1390"/>
                </a:lnTo>
                <a:lnTo>
                  <a:pt x="1338" y="1375"/>
                </a:lnTo>
                <a:lnTo>
                  <a:pt x="1361" y="1360"/>
                </a:lnTo>
                <a:lnTo>
                  <a:pt x="1384" y="1346"/>
                </a:lnTo>
                <a:lnTo>
                  <a:pt x="1405" y="1333"/>
                </a:lnTo>
                <a:lnTo>
                  <a:pt x="1425" y="1318"/>
                </a:lnTo>
                <a:lnTo>
                  <a:pt x="1443" y="1305"/>
                </a:lnTo>
                <a:lnTo>
                  <a:pt x="1459" y="1293"/>
                </a:lnTo>
                <a:lnTo>
                  <a:pt x="1475" y="1281"/>
                </a:lnTo>
                <a:lnTo>
                  <a:pt x="1492" y="1268"/>
                </a:lnTo>
                <a:lnTo>
                  <a:pt x="1510" y="1253"/>
                </a:lnTo>
                <a:lnTo>
                  <a:pt x="1531" y="1236"/>
                </a:lnTo>
                <a:lnTo>
                  <a:pt x="1551" y="1220"/>
                </a:lnTo>
                <a:lnTo>
                  <a:pt x="1572" y="1203"/>
                </a:lnTo>
                <a:lnTo>
                  <a:pt x="1593" y="1184"/>
                </a:lnTo>
                <a:lnTo>
                  <a:pt x="1615" y="1165"/>
                </a:lnTo>
                <a:lnTo>
                  <a:pt x="1636" y="1146"/>
                </a:lnTo>
                <a:lnTo>
                  <a:pt x="1657" y="1129"/>
                </a:lnTo>
                <a:lnTo>
                  <a:pt x="1677" y="1110"/>
                </a:lnTo>
                <a:lnTo>
                  <a:pt x="1696" y="1092"/>
                </a:lnTo>
                <a:lnTo>
                  <a:pt x="1714" y="1076"/>
                </a:lnTo>
                <a:lnTo>
                  <a:pt x="1731" y="1059"/>
                </a:lnTo>
                <a:lnTo>
                  <a:pt x="1748" y="1044"/>
                </a:lnTo>
                <a:lnTo>
                  <a:pt x="1762" y="1029"/>
                </a:lnTo>
                <a:lnTo>
                  <a:pt x="1775" y="1015"/>
                </a:lnTo>
                <a:lnTo>
                  <a:pt x="1790" y="999"/>
                </a:lnTo>
                <a:lnTo>
                  <a:pt x="1806" y="981"/>
                </a:lnTo>
                <a:lnTo>
                  <a:pt x="1823" y="962"/>
                </a:lnTo>
                <a:lnTo>
                  <a:pt x="1840" y="942"/>
                </a:lnTo>
                <a:lnTo>
                  <a:pt x="1860" y="920"/>
                </a:lnTo>
                <a:lnTo>
                  <a:pt x="1878" y="898"/>
                </a:lnTo>
                <a:lnTo>
                  <a:pt x="1897" y="875"/>
                </a:lnTo>
                <a:lnTo>
                  <a:pt x="1914" y="853"/>
                </a:lnTo>
                <a:lnTo>
                  <a:pt x="1933" y="830"/>
                </a:lnTo>
                <a:lnTo>
                  <a:pt x="1950" y="808"/>
                </a:lnTo>
                <a:lnTo>
                  <a:pt x="1969" y="786"/>
                </a:lnTo>
                <a:lnTo>
                  <a:pt x="1985" y="766"/>
                </a:lnTo>
                <a:lnTo>
                  <a:pt x="2000" y="746"/>
                </a:lnTo>
                <a:lnTo>
                  <a:pt x="2014" y="726"/>
                </a:lnTo>
                <a:lnTo>
                  <a:pt x="2028" y="708"/>
                </a:lnTo>
                <a:lnTo>
                  <a:pt x="2039" y="691"/>
                </a:lnTo>
                <a:lnTo>
                  <a:pt x="2051" y="672"/>
                </a:lnTo>
                <a:lnTo>
                  <a:pt x="2063" y="652"/>
                </a:lnTo>
                <a:lnTo>
                  <a:pt x="2077" y="631"/>
                </a:lnTo>
                <a:lnTo>
                  <a:pt x="2089" y="610"/>
                </a:lnTo>
                <a:lnTo>
                  <a:pt x="2102" y="587"/>
                </a:lnTo>
                <a:lnTo>
                  <a:pt x="2115" y="564"/>
                </a:lnTo>
                <a:lnTo>
                  <a:pt x="2129" y="541"/>
                </a:lnTo>
                <a:lnTo>
                  <a:pt x="2140" y="520"/>
                </a:lnTo>
                <a:lnTo>
                  <a:pt x="2152" y="497"/>
                </a:lnTo>
                <a:lnTo>
                  <a:pt x="2162" y="476"/>
                </a:lnTo>
                <a:lnTo>
                  <a:pt x="2173" y="455"/>
                </a:lnTo>
                <a:lnTo>
                  <a:pt x="2182" y="437"/>
                </a:lnTo>
                <a:lnTo>
                  <a:pt x="2191" y="418"/>
                </a:lnTo>
                <a:lnTo>
                  <a:pt x="2198" y="402"/>
                </a:lnTo>
                <a:lnTo>
                  <a:pt x="2204" y="387"/>
                </a:lnTo>
                <a:lnTo>
                  <a:pt x="2209" y="373"/>
                </a:lnTo>
                <a:lnTo>
                  <a:pt x="2214" y="358"/>
                </a:lnTo>
                <a:lnTo>
                  <a:pt x="2220" y="342"/>
                </a:lnTo>
                <a:lnTo>
                  <a:pt x="2226" y="325"/>
                </a:lnTo>
                <a:lnTo>
                  <a:pt x="2232" y="307"/>
                </a:lnTo>
                <a:lnTo>
                  <a:pt x="2240" y="289"/>
                </a:lnTo>
                <a:lnTo>
                  <a:pt x="2246" y="271"/>
                </a:lnTo>
                <a:lnTo>
                  <a:pt x="2253" y="251"/>
                </a:lnTo>
                <a:lnTo>
                  <a:pt x="2259" y="232"/>
                </a:lnTo>
                <a:lnTo>
                  <a:pt x="2265" y="214"/>
                </a:lnTo>
                <a:lnTo>
                  <a:pt x="2271" y="198"/>
                </a:lnTo>
                <a:lnTo>
                  <a:pt x="2279" y="180"/>
                </a:lnTo>
                <a:lnTo>
                  <a:pt x="2283" y="164"/>
                </a:lnTo>
                <a:lnTo>
                  <a:pt x="2290" y="148"/>
                </a:lnTo>
                <a:lnTo>
                  <a:pt x="2295" y="135"/>
                </a:lnTo>
                <a:lnTo>
                  <a:pt x="2300" y="122"/>
                </a:lnTo>
                <a:lnTo>
                  <a:pt x="2302" y="112"/>
                </a:lnTo>
                <a:lnTo>
                  <a:pt x="2306" y="105"/>
                </a:lnTo>
                <a:lnTo>
                  <a:pt x="2307" y="100"/>
                </a:lnTo>
                <a:lnTo>
                  <a:pt x="2310" y="95"/>
                </a:lnTo>
                <a:lnTo>
                  <a:pt x="2310" y="94"/>
                </a:lnTo>
                <a:lnTo>
                  <a:pt x="2311" y="90"/>
                </a:lnTo>
                <a:lnTo>
                  <a:pt x="2312" y="87"/>
                </a:lnTo>
                <a:lnTo>
                  <a:pt x="2314" y="85"/>
                </a:lnTo>
                <a:lnTo>
                  <a:pt x="2314" y="82"/>
                </a:lnTo>
                <a:lnTo>
                  <a:pt x="2316" y="78"/>
                </a:lnTo>
                <a:lnTo>
                  <a:pt x="2318" y="71"/>
                </a:lnTo>
                <a:lnTo>
                  <a:pt x="2321" y="63"/>
                </a:lnTo>
                <a:lnTo>
                  <a:pt x="2325" y="53"/>
                </a:lnTo>
                <a:lnTo>
                  <a:pt x="2331" y="39"/>
                </a:lnTo>
                <a:lnTo>
                  <a:pt x="2336" y="22"/>
                </a:lnTo>
                <a:lnTo>
                  <a:pt x="2345" y="0"/>
                </a:lnTo>
              </a:path>
            </a:pathLst>
          </a:custGeom>
          <a:noFill/>
          <a:ln cap="rnd" w="25560">
            <a:solidFill>
              <a:srgbClr val="ff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00280" y="6132600"/>
            <a:ext cx="790704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93800" y="1581120"/>
            <a:ext cx="0" cy="454824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76440" y="1170000"/>
            <a:ext cx="2458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801280" y="5969160"/>
            <a:ext cx="2808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078520" y="2676600"/>
            <a:ext cx="63648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2600" spc="-1" strike="noStrike">
                <a:solidFill>
                  <a:srgbClr val="400080"/>
                </a:solidFill>
                <a:latin typeface="Times New Roman"/>
              </a:rPr>
              <a:t>C</a:t>
            </a:r>
            <a:r>
              <a:rPr b="1" i="1" lang="en-US" sz="2600" spc="-1" strike="noStrike" baseline="-25000">
                <a:solidFill>
                  <a:srgbClr val="40008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836880" y="3116160"/>
            <a:ext cx="1594080" cy="2000520"/>
          </a:xfrm>
          <a:custGeom>
            <a:avLst/>
            <a:gdLst/>
            <a:ahLst/>
            <a:rect l="l" t="t" r="r" b="b"/>
            <a:pathLst>
              <a:path w="1004" h="1260">
                <a:moveTo>
                  <a:pt x="1003" y="0"/>
                </a:moveTo>
                <a:lnTo>
                  <a:pt x="1000" y="22"/>
                </a:lnTo>
                <a:lnTo>
                  <a:pt x="999" y="39"/>
                </a:lnTo>
                <a:lnTo>
                  <a:pt x="997" y="53"/>
                </a:lnTo>
                <a:lnTo>
                  <a:pt x="996" y="63"/>
                </a:lnTo>
                <a:lnTo>
                  <a:pt x="994" y="71"/>
                </a:lnTo>
                <a:lnTo>
                  <a:pt x="994" y="77"/>
                </a:lnTo>
                <a:lnTo>
                  <a:pt x="994" y="82"/>
                </a:lnTo>
                <a:lnTo>
                  <a:pt x="994" y="84"/>
                </a:lnTo>
                <a:lnTo>
                  <a:pt x="993" y="87"/>
                </a:lnTo>
                <a:lnTo>
                  <a:pt x="993" y="90"/>
                </a:lnTo>
                <a:lnTo>
                  <a:pt x="993" y="93"/>
                </a:lnTo>
                <a:lnTo>
                  <a:pt x="993" y="94"/>
                </a:lnTo>
                <a:lnTo>
                  <a:pt x="992" y="100"/>
                </a:lnTo>
                <a:lnTo>
                  <a:pt x="992" y="105"/>
                </a:lnTo>
                <a:lnTo>
                  <a:pt x="990" y="112"/>
                </a:lnTo>
                <a:lnTo>
                  <a:pt x="990" y="123"/>
                </a:lnTo>
                <a:lnTo>
                  <a:pt x="989" y="135"/>
                </a:lnTo>
                <a:lnTo>
                  <a:pt x="987" y="147"/>
                </a:lnTo>
                <a:lnTo>
                  <a:pt x="985" y="161"/>
                </a:lnTo>
                <a:lnTo>
                  <a:pt x="984" y="176"/>
                </a:lnTo>
                <a:lnTo>
                  <a:pt x="983" y="191"/>
                </a:lnTo>
                <a:lnTo>
                  <a:pt x="981" y="206"/>
                </a:lnTo>
                <a:lnTo>
                  <a:pt x="979" y="221"/>
                </a:lnTo>
                <a:lnTo>
                  <a:pt x="978" y="236"/>
                </a:lnTo>
                <a:lnTo>
                  <a:pt x="975" y="250"/>
                </a:lnTo>
                <a:lnTo>
                  <a:pt x="973" y="265"/>
                </a:lnTo>
                <a:lnTo>
                  <a:pt x="971" y="279"/>
                </a:lnTo>
                <a:lnTo>
                  <a:pt x="969" y="291"/>
                </a:lnTo>
                <a:lnTo>
                  <a:pt x="968" y="304"/>
                </a:lnTo>
                <a:lnTo>
                  <a:pt x="966" y="316"/>
                </a:lnTo>
                <a:lnTo>
                  <a:pt x="965" y="326"/>
                </a:lnTo>
                <a:lnTo>
                  <a:pt x="963" y="334"/>
                </a:lnTo>
                <a:lnTo>
                  <a:pt x="961" y="345"/>
                </a:lnTo>
                <a:lnTo>
                  <a:pt x="959" y="356"/>
                </a:lnTo>
                <a:lnTo>
                  <a:pt x="956" y="368"/>
                </a:lnTo>
                <a:lnTo>
                  <a:pt x="954" y="380"/>
                </a:lnTo>
                <a:lnTo>
                  <a:pt x="949" y="395"/>
                </a:lnTo>
                <a:lnTo>
                  <a:pt x="947" y="410"/>
                </a:lnTo>
                <a:lnTo>
                  <a:pt x="942" y="427"/>
                </a:lnTo>
                <a:lnTo>
                  <a:pt x="939" y="442"/>
                </a:lnTo>
                <a:lnTo>
                  <a:pt x="934" y="460"/>
                </a:lnTo>
                <a:lnTo>
                  <a:pt x="929" y="476"/>
                </a:lnTo>
                <a:lnTo>
                  <a:pt x="924" y="492"/>
                </a:lnTo>
                <a:lnTo>
                  <a:pt x="921" y="509"/>
                </a:lnTo>
                <a:lnTo>
                  <a:pt x="916" y="525"/>
                </a:lnTo>
                <a:lnTo>
                  <a:pt x="912" y="541"/>
                </a:lnTo>
                <a:lnTo>
                  <a:pt x="907" y="556"/>
                </a:lnTo>
                <a:lnTo>
                  <a:pt x="903" y="569"/>
                </a:lnTo>
                <a:lnTo>
                  <a:pt x="898" y="584"/>
                </a:lnTo>
                <a:lnTo>
                  <a:pt x="892" y="599"/>
                </a:lnTo>
                <a:lnTo>
                  <a:pt x="886" y="616"/>
                </a:lnTo>
                <a:lnTo>
                  <a:pt x="879" y="633"/>
                </a:lnTo>
                <a:lnTo>
                  <a:pt x="872" y="650"/>
                </a:lnTo>
                <a:lnTo>
                  <a:pt x="865" y="668"/>
                </a:lnTo>
                <a:lnTo>
                  <a:pt x="857" y="686"/>
                </a:lnTo>
                <a:lnTo>
                  <a:pt x="850" y="703"/>
                </a:lnTo>
                <a:lnTo>
                  <a:pt x="841" y="721"/>
                </a:lnTo>
                <a:lnTo>
                  <a:pt x="833" y="739"/>
                </a:lnTo>
                <a:lnTo>
                  <a:pt x="825" y="756"/>
                </a:lnTo>
                <a:lnTo>
                  <a:pt x="818" y="772"/>
                </a:lnTo>
                <a:lnTo>
                  <a:pt x="809" y="788"/>
                </a:lnTo>
                <a:lnTo>
                  <a:pt x="803" y="802"/>
                </a:lnTo>
                <a:lnTo>
                  <a:pt x="796" y="815"/>
                </a:lnTo>
                <a:lnTo>
                  <a:pt x="789" y="825"/>
                </a:lnTo>
                <a:lnTo>
                  <a:pt x="781" y="837"/>
                </a:lnTo>
                <a:lnTo>
                  <a:pt x="774" y="850"/>
                </a:lnTo>
                <a:lnTo>
                  <a:pt x="765" y="864"/>
                </a:lnTo>
                <a:lnTo>
                  <a:pt x="756" y="878"/>
                </a:lnTo>
                <a:lnTo>
                  <a:pt x="745" y="894"/>
                </a:lnTo>
                <a:lnTo>
                  <a:pt x="734" y="909"/>
                </a:lnTo>
                <a:lnTo>
                  <a:pt x="722" y="926"/>
                </a:lnTo>
                <a:lnTo>
                  <a:pt x="711" y="941"/>
                </a:lnTo>
                <a:lnTo>
                  <a:pt x="699" y="958"/>
                </a:lnTo>
                <a:lnTo>
                  <a:pt x="687" y="975"/>
                </a:lnTo>
                <a:lnTo>
                  <a:pt x="675" y="991"/>
                </a:lnTo>
                <a:lnTo>
                  <a:pt x="663" y="1006"/>
                </a:lnTo>
                <a:lnTo>
                  <a:pt x="651" y="1022"/>
                </a:lnTo>
                <a:lnTo>
                  <a:pt x="639" y="1036"/>
                </a:lnTo>
                <a:lnTo>
                  <a:pt x="629" y="1049"/>
                </a:lnTo>
                <a:lnTo>
                  <a:pt x="619" y="1061"/>
                </a:lnTo>
                <a:lnTo>
                  <a:pt x="608" y="1073"/>
                </a:lnTo>
                <a:lnTo>
                  <a:pt x="597" y="1085"/>
                </a:lnTo>
                <a:lnTo>
                  <a:pt x="583" y="1099"/>
                </a:lnTo>
                <a:lnTo>
                  <a:pt x="569" y="1111"/>
                </a:lnTo>
                <a:lnTo>
                  <a:pt x="553" y="1124"/>
                </a:lnTo>
                <a:lnTo>
                  <a:pt x="537" y="1137"/>
                </a:lnTo>
                <a:lnTo>
                  <a:pt x="521" y="1150"/>
                </a:lnTo>
                <a:lnTo>
                  <a:pt x="505" y="1161"/>
                </a:lnTo>
                <a:lnTo>
                  <a:pt x="487" y="1174"/>
                </a:lnTo>
                <a:lnTo>
                  <a:pt x="469" y="1185"/>
                </a:lnTo>
                <a:lnTo>
                  <a:pt x="453" y="1196"/>
                </a:lnTo>
                <a:lnTo>
                  <a:pt x="436" y="1205"/>
                </a:lnTo>
                <a:lnTo>
                  <a:pt x="419" y="1215"/>
                </a:lnTo>
                <a:lnTo>
                  <a:pt x="404" y="1222"/>
                </a:lnTo>
                <a:lnTo>
                  <a:pt x="389" y="1229"/>
                </a:lnTo>
                <a:lnTo>
                  <a:pt x="376" y="1234"/>
                </a:lnTo>
                <a:lnTo>
                  <a:pt x="361" y="1239"/>
                </a:lnTo>
                <a:lnTo>
                  <a:pt x="346" y="1243"/>
                </a:lnTo>
                <a:lnTo>
                  <a:pt x="330" y="1247"/>
                </a:lnTo>
                <a:lnTo>
                  <a:pt x="314" y="1250"/>
                </a:lnTo>
                <a:lnTo>
                  <a:pt x="296" y="1253"/>
                </a:lnTo>
                <a:lnTo>
                  <a:pt x="279" y="1256"/>
                </a:lnTo>
                <a:lnTo>
                  <a:pt x="260" y="1257"/>
                </a:lnTo>
                <a:lnTo>
                  <a:pt x="243" y="1257"/>
                </a:lnTo>
                <a:lnTo>
                  <a:pt x="225" y="1259"/>
                </a:lnTo>
                <a:lnTo>
                  <a:pt x="206" y="1259"/>
                </a:lnTo>
                <a:lnTo>
                  <a:pt x="190" y="1259"/>
                </a:lnTo>
                <a:lnTo>
                  <a:pt x="174" y="1258"/>
                </a:lnTo>
                <a:lnTo>
                  <a:pt x="157" y="1257"/>
                </a:lnTo>
                <a:lnTo>
                  <a:pt x="143" y="1255"/>
                </a:lnTo>
                <a:lnTo>
                  <a:pt x="130" y="1252"/>
                </a:lnTo>
                <a:lnTo>
                  <a:pt x="118" y="1249"/>
                </a:lnTo>
                <a:lnTo>
                  <a:pt x="108" y="1247"/>
                </a:lnTo>
                <a:lnTo>
                  <a:pt x="101" y="1244"/>
                </a:lnTo>
                <a:lnTo>
                  <a:pt x="95" y="1243"/>
                </a:lnTo>
                <a:lnTo>
                  <a:pt x="91" y="1241"/>
                </a:lnTo>
                <a:lnTo>
                  <a:pt x="87" y="1241"/>
                </a:lnTo>
                <a:lnTo>
                  <a:pt x="85" y="1240"/>
                </a:lnTo>
                <a:lnTo>
                  <a:pt x="83" y="1240"/>
                </a:lnTo>
                <a:lnTo>
                  <a:pt x="81" y="1238"/>
                </a:lnTo>
                <a:lnTo>
                  <a:pt x="77" y="1238"/>
                </a:lnTo>
                <a:lnTo>
                  <a:pt x="74" y="1236"/>
                </a:lnTo>
                <a:lnTo>
                  <a:pt x="67" y="1234"/>
                </a:lnTo>
                <a:lnTo>
                  <a:pt x="60" y="1232"/>
                </a:lnTo>
                <a:lnTo>
                  <a:pt x="49" y="1229"/>
                </a:lnTo>
                <a:lnTo>
                  <a:pt x="36" y="1225"/>
                </a:lnTo>
                <a:lnTo>
                  <a:pt x="19" y="1219"/>
                </a:lnTo>
                <a:lnTo>
                  <a:pt x="0" y="1212"/>
                </a:lnTo>
              </a:path>
            </a:pathLst>
          </a:custGeom>
          <a:noFill/>
          <a:ln cap="rnd" w="2556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111640" y="2441520"/>
            <a:ext cx="4510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2700" spc="-1" strike="noStrike">
                <a:solidFill>
                  <a:srgbClr val="400080"/>
                </a:solidFill>
                <a:latin typeface="Times New Roman"/>
              </a:rPr>
              <a:t>~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168880" y="6316560"/>
            <a:ext cx="282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262480" y="5945040"/>
            <a:ext cx="216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151680" y="2208240"/>
            <a:ext cx="477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2600" spc="-1" strike="noStrike">
                <a:solidFill>
                  <a:srgbClr val="ff0080"/>
                </a:solidFill>
                <a:latin typeface="Times New Roman"/>
              </a:rPr>
              <a:t>C</a:t>
            </a:r>
            <a:r>
              <a:rPr b="1" i="1" lang="en-US" sz="2600" spc="-1" strike="noStrike" baseline="-25000">
                <a:solidFill>
                  <a:srgbClr val="ff008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557280" y="277920"/>
            <a:ext cx="859320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Relaciones entre corto y largo plaz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00280" y="6132600"/>
            <a:ext cx="790704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793800" y="1581120"/>
            <a:ext cx="0" cy="454824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5170320" y="3207960"/>
            <a:ext cx="284400" cy="3499200"/>
            <a:chOff x="5170320" y="3207960"/>
            <a:chExt cx="284400" cy="3499200"/>
          </a:xfrm>
        </p:grpSpPr>
        <p:sp>
          <p:nvSpPr>
            <p:cNvPr id="942" name=""/>
            <p:cNvSpPr/>
            <p:nvPr/>
          </p:nvSpPr>
          <p:spPr>
            <a:xfrm flipV="1">
              <a:off x="5310360" y="3207960"/>
              <a:ext cx="0" cy="2916360"/>
            </a:xfrm>
            <a:prstGeom prst="line">
              <a:avLst/>
            </a:prstGeom>
            <a:ln w="127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170320" y="6318360"/>
              <a:ext cx="279720" cy="3888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241960" y="5972040"/>
              <a:ext cx="212760" cy="4050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676440" y="1170000"/>
            <a:ext cx="2458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801280" y="5969160"/>
            <a:ext cx="2808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3781440" y="2200320"/>
            <a:ext cx="2448000" cy="2916360"/>
            <a:chOff x="3781440" y="2200320"/>
            <a:chExt cx="2448000" cy="2916360"/>
          </a:xfrm>
        </p:grpSpPr>
        <p:sp>
          <p:nvSpPr>
            <p:cNvPr id="948" name=""/>
            <p:cNvSpPr/>
            <p:nvPr/>
          </p:nvSpPr>
          <p:spPr>
            <a:xfrm>
              <a:off x="4308480" y="3319560"/>
              <a:ext cx="1920960" cy="1270080"/>
            </a:xfrm>
            <a:custGeom>
              <a:avLst/>
              <a:gdLst/>
              <a:ahLst/>
              <a:rect l="l" t="t" r="r" b="b"/>
              <a:pathLst>
                <a:path w="1210" h="800">
                  <a:moveTo>
                    <a:pt x="0" y="116"/>
                  </a:moveTo>
                  <a:lnTo>
                    <a:pt x="4" y="144"/>
                  </a:lnTo>
                  <a:lnTo>
                    <a:pt x="6" y="166"/>
                  </a:lnTo>
                  <a:lnTo>
                    <a:pt x="9" y="184"/>
                  </a:lnTo>
                  <a:lnTo>
                    <a:pt x="12" y="198"/>
                  </a:lnTo>
                  <a:lnTo>
                    <a:pt x="13" y="209"/>
                  </a:lnTo>
                  <a:lnTo>
                    <a:pt x="15" y="216"/>
                  </a:lnTo>
                  <a:lnTo>
                    <a:pt x="15" y="222"/>
                  </a:lnTo>
                  <a:lnTo>
                    <a:pt x="17" y="226"/>
                  </a:lnTo>
                  <a:lnTo>
                    <a:pt x="17" y="229"/>
                  </a:lnTo>
                  <a:lnTo>
                    <a:pt x="17" y="232"/>
                  </a:lnTo>
                  <a:lnTo>
                    <a:pt x="17" y="236"/>
                  </a:lnTo>
                  <a:lnTo>
                    <a:pt x="19" y="239"/>
                  </a:lnTo>
                  <a:lnTo>
                    <a:pt x="19" y="245"/>
                  </a:lnTo>
                  <a:lnTo>
                    <a:pt x="21" y="252"/>
                  </a:lnTo>
                  <a:lnTo>
                    <a:pt x="23" y="262"/>
                  </a:lnTo>
                  <a:lnTo>
                    <a:pt x="25" y="274"/>
                  </a:lnTo>
                  <a:lnTo>
                    <a:pt x="27" y="290"/>
                  </a:lnTo>
                  <a:lnTo>
                    <a:pt x="31" y="307"/>
                  </a:lnTo>
                  <a:lnTo>
                    <a:pt x="34" y="324"/>
                  </a:lnTo>
                  <a:lnTo>
                    <a:pt x="38" y="340"/>
                  </a:lnTo>
                  <a:lnTo>
                    <a:pt x="41" y="359"/>
                  </a:lnTo>
                  <a:lnTo>
                    <a:pt x="46" y="377"/>
                  </a:lnTo>
                  <a:lnTo>
                    <a:pt x="50" y="395"/>
                  </a:lnTo>
                  <a:lnTo>
                    <a:pt x="55" y="413"/>
                  </a:lnTo>
                  <a:lnTo>
                    <a:pt x="59" y="430"/>
                  </a:lnTo>
                  <a:lnTo>
                    <a:pt x="65" y="448"/>
                  </a:lnTo>
                  <a:lnTo>
                    <a:pt x="69" y="464"/>
                  </a:lnTo>
                  <a:lnTo>
                    <a:pt x="75" y="479"/>
                  </a:lnTo>
                  <a:lnTo>
                    <a:pt x="77" y="494"/>
                  </a:lnTo>
                  <a:lnTo>
                    <a:pt x="83" y="506"/>
                  </a:lnTo>
                  <a:lnTo>
                    <a:pt x="86" y="519"/>
                  </a:lnTo>
                  <a:lnTo>
                    <a:pt x="92" y="527"/>
                  </a:lnTo>
                  <a:lnTo>
                    <a:pt x="95" y="538"/>
                  </a:lnTo>
                  <a:lnTo>
                    <a:pt x="99" y="548"/>
                  </a:lnTo>
                  <a:lnTo>
                    <a:pt x="105" y="558"/>
                  </a:lnTo>
                  <a:lnTo>
                    <a:pt x="110" y="568"/>
                  </a:lnTo>
                  <a:lnTo>
                    <a:pt x="115" y="580"/>
                  </a:lnTo>
                  <a:lnTo>
                    <a:pt x="120" y="591"/>
                  </a:lnTo>
                  <a:lnTo>
                    <a:pt x="125" y="602"/>
                  </a:lnTo>
                  <a:lnTo>
                    <a:pt x="131" y="612"/>
                  </a:lnTo>
                  <a:lnTo>
                    <a:pt x="136" y="624"/>
                  </a:lnTo>
                  <a:lnTo>
                    <a:pt x="141" y="634"/>
                  </a:lnTo>
                  <a:lnTo>
                    <a:pt x="146" y="644"/>
                  </a:lnTo>
                  <a:lnTo>
                    <a:pt x="153" y="653"/>
                  </a:lnTo>
                  <a:lnTo>
                    <a:pt x="156" y="662"/>
                  </a:lnTo>
                  <a:lnTo>
                    <a:pt x="162" y="669"/>
                  </a:lnTo>
                  <a:lnTo>
                    <a:pt x="165" y="677"/>
                  </a:lnTo>
                  <a:lnTo>
                    <a:pt x="171" y="683"/>
                  </a:lnTo>
                  <a:lnTo>
                    <a:pt x="174" y="689"/>
                  </a:lnTo>
                  <a:lnTo>
                    <a:pt x="179" y="694"/>
                  </a:lnTo>
                  <a:lnTo>
                    <a:pt x="185" y="701"/>
                  </a:lnTo>
                  <a:lnTo>
                    <a:pt x="191" y="706"/>
                  </a:lnTo>
                  <a:lnTo>
                    <a:pt x="198" y="713"/>
                  </a:lnTo>
                  <a:lnTo>
                    <a:pt x="205" y="720"/>
                  </a:lnTo>
                  <a:lnTo>
                    <a:pt x="214" y="726"/>
                  </a:lnTo>
                  <a:lnTo>
                    <a:pt x="222" y="731"/>
                  </a:lnTo>
                  <a:lnTo>
                    <a:pt x="230" y="738"/>
                  </a:lnTo>
                  <a:lnTo>
                    <a:pt x="239" y="744"/>
                  </a:lnTo>
                  <a:lnTo>
                    <a:pt x="247" y="750"/>
                  </a:lnTo>
                  <a:lnTo>
                    <a:pt x="256" y="754"/>
                  </a:lnTo>
                  <a:lnTo>
                    <a:pt x="265" y="759"/>
                  </a:lnTo>
                  <a:lnTo>
                    <a:pt x="274" y="764"/>
                  </a:lnTo>
                  <a:lnTo>
                    <a:pt x="281" y="767"/>
                  </a:lnTo>
                  <a:lnTo>
                    <a:pt x="290" y="770"/>
                  </a:lnTo>
                  <a:lnTo>
                    <a:pt x="296" y="773"/>
                  </a:lnTo>
                  <a:lnTo>
                    <a:pt x="305" y="775"/>
                  </a:lnTo>
                  <a:lnTo>
                    <a:pt x="314" y="779"/>
                  </a:lnTo>
                  <a:lnTo>
                    <a:pt x="322" y="781"/>
                  </a:lnTo>
                  <a:lnTo>
                    <a:pt x="330" y="783"/>
                  </a:lnTo>
                  <a:lnTo>
                    <a:pt x="339" y="785"/>
                  </a:lnTo>
                  <a:lnTo>
                    <a:pt x="347" y="789"/>
                  </a:lnTo>
                  <a:lnTo>
                    <a:pt x="356" y="789"/>
                  </a:lnTo>
                  <a:lnTo>
                    <a:pt x="364" y="792"/>
                  </a:lnTo>
                  <a:lnTo>
                    <a:pt x="372" y="794"/>
                  </a:lnTo>
                  <a:lnTo>
                    <a:pt x="379" y="796"/>
                  </a:lnTo>
                  <a:lnTo>
                    <a:pt x="386" y="797"/>
                  </a:lnTo>
                  <a:lnTo>
                    <a:pt x="393" y="798"/>
                  </a:lnTo>
                  <a:lnTo>
                    <a:pt x="399" y="799"/>
                  </a:lnTo>
                  <a:lnTo>
                    <a:pt x="404" y="799"/>
                  </a:lnTo>
                  <a:lnTo>
                    <a:pt x="408" y="799"/>
                  </a:lnTo>
                  <a:lnTo>
                    <a:pt x="412" y="799"/>
                  </a:lnTo>
                  <a:lnTo>
                    <a:pt x="417" y="799"/>
                  </a:lnTo>
                  <a:lnTo>
                    <a:pt x="423" y="799"/>
                  </a:lnTo>
                  <a:lnTo>
                    <a:pt x="429" y="797"/>
                  </a:lnTo>
                  <a:lnTo>
                    <a:pt x="436" y="796"/>
                  </a:lnTo>
                  <a:lnTo>
                    <a:pt x="444" y="795"/>
                  </a:lnTo>
                  <a:lnTo>
                    <a:pt x="452" y="793"/>
                  </a:lnTo>
                  <a:lnTo>
                    <a:pt x="461" y="791"/>
                  </a:lnTo>
                  <a:lnTo>
                    <a:pt x="469" y="789"/>
                  </a:lnTo>
                  <a:lnTo>
                    <a:pt x="477" y="789"/>
                  </a:lnTo>
                  <a:lnTo>
                    <a:pt x="486" y="787"/>
                  </a:lnTo>
                  <a:lnTo>
                    <a:pt x="495" y="783"/>
                  </a:lnTo>
                  <a:lnTo>
                    <a:pt x="504" y="781"/>
                  </a:lnTo>
                  <a:lnTo>
                    <a:pt x="512" y="779"/>
                  </a:lnTo>
                  <a:lnTo>
                    <a:pt x="520" y="777"/>
                  </a:lnTo>
                  <a:lnTo>
                    <a:pt x="528" y="774"/>
                  </a:lnTo>
                  <a:lnTo>
                    <a:pt x="535" y="772"/>
                  </a:lnTo>
                  <a:lnTo>
                    <a:pt x="545" y="769"/>
                  </a:lnTo>
                  <a:lnTo>
                    <a:pt x="553" y="766"/>
                  </a:lnTo>
                  <a:lnTo>
                    <a:pt x="563" y="762"/>
                  </a:lnTo>
                  <a:lnTo>
                    <a:pt x="571" y="759"/>
                  </a:lnTo>
                  <a:lnTo>
                    <a:pt x="581" y="754"/>
                  </a:lnTo>
                  <a:lnTo>
                    <a:pt x="590" y="751"/>
                  </a:lnTo>
                  <a:lnTo>
                    <a:pt x="600" y="745"/>
                  </a:lnTo>
                  <a:lnTo>
                    <a:pt x="608" y="743"/>
                  </a:lnTo>
                  <a:lnTo>
                    <a:pt x="617" y="738"/>
                  </a:lnTo>
                  <a:lnTo>
                    <a:pt x="626" y="735"/>
                  </a:lnTo>
                  <a:lnTo>
                    <a:pt x="635" y="729"/>
                  </a:lnTo>
                  <a:lnTo>
                    <a:pt x="642" y="727"/>
                  </a:lnTo>
                  <a:lnTo>
                    <a:pt x="650" y="722"/>
                  </a:lnTo>
                  <a:lnTo>
                    <a:pt x="656" y="720"/>
                  </a:lnTo>
                  <a:lnTo>
                    <a:pt x="663" y="714"/>
                  </a:lnTo>
                  <a:lnTo>
                    <a:pt x="668" y="712"/>
                  </a:lnTo>
                  <a:lnTo>
                    <a:pt x="674" y="708"/>
                  </a:lnTo>
                  <a:lnTo>
                    <a:pt x="681" y="703"/>
                  </a:lnTo>
                  <a:lnTo>
                    <a:pt x="688" y="697"/>
                  </a:lnTo>
                  <a:lnTo>
                    <a:pt x="696" y="692"/>
                  </a:lnTo>
                  <a:lnTo>
                    <a:pt x="705" y="684"/>
                  </a:lnTo>
                  <a:lnTo>
                    <a:pt x="715" y="678"/>
                  </a:lnTo>
                  <a:lnTo>
                    <a:pt x="725" y="669"/>
                  </a:lnTo>
                  <a:lnTo>
                    <a:pt x="733" y="663"/>
                  </a:lnTo>
                  <a:lnTo>
                    <a:pt x="743" y="654"/>
                  </a:lnTo>
                  <a:lnTo>
                    <a:pt x="752" y="647"/>
                  </a:lnTo>
                  <a:lnTo>
                    <a:pt x="762" y="639"/>
                  </a:lnTo>
                  <a:lnTo>
                    <a:pt x="770" y="632"/>
                  </a:lnTo>
                  <a:lnTo>
                    <a:pt x="779" y="624"/>
                  </a:lnTo>
                  <a:lnTo>
                    <a:pt x="788" y="617"/>
                  </a:lnTo>
                  <a:lnTo>
                    <a:pt x="796" y="609"/>
                  </a:lnTo>
                  <a:lnTo>
                    <a:pt x="804" y="602"/>
                  </a:lnTo>
                  <a:lnTo>
                    <a:pt x="812" y="593"/>
                  </a:lnTo>
                  <a:lnTo>
                    <a:pt x="822" y="583"/>
                  </a:lnTo>
                  <a:lnTo>
                    <a:pt x="832" y="572"/>
                  </a:lnTo>
                  <a:lnTo>
                    <a:pt x="843" y="561"/>
                  </a:lnTo>
                  <a:lnTo>
                    <a:pt x="854" y="550"/>
                  </a:lnTo>
                  <a:lnTo>
                    <a:pt x="864" y="536"/>
                  </a:lnTo>
                  <a:lnTo>
                    <a:pt x="875" y="523"/>
                  </a:lnTo>
                  <a:lnTo>
                    <a:pt x="885" y="510"/>
                  </a:lnTo>
                  <a:lnTo>
                    <a:pt x="897" y="497"/>
                  </a:lnTo>
                  <a:lnTo>
                    <a:pt x="907" y="483"/>
                  </a:lnTo>
                  <a:lnTo>
                    <a:pt x="918" y="470"/>
                  </a:lnTo>
                  <a:lnTo>
                    <a:pt x="927" y="458"/>
                  </a:lnTo>
                  <a:lnTo>
                    <a:pt x="937" y="445"/>
                  </a:lnTo>
                  <a:lnTo>
                    <a:pt x="946" y="433"/>
                  </a:lnTo>
                  <a:lnTo>
                    <a:pt x="955" y="422"/>
                  </a:lnTo>
                  <a:lnTo>
                    <a:pt x="962" y="411"/>
                  </a:lnTo>
                  <a:lnTo>
                    <a:pt x="970" y="400"/>
                  </a:lnTo>
                  <a:lnTo>
                    <a:pt x="979" y="386"/>
                  </a:lnTo>
                  <a:lnTo>
                    <a:pt x="988" y="374"/>
                  </a:lnTo>
                  <a:lnTo>
                    <a:pt x="996" y="360"/>
                  </a:lnTo>
                  <a:lnTo>
                    <a:pt x="1006" y="346"/>
                  </a:lnTo>
                  <a:lnTo>
                    <a:pt x="1016" y="332"/>
                  </a:lnTo>
                  <a:lnTo>
                    <a:pt x="1026" y="317"/>
                  </a:lnTo>
                  <a:lnTo>
                    <a:pt x="1035" y="303"/>
                  </a:lnTo>
                  <a:lnTo>
                    <a:pt x="1045" y="289"/>
                  </a:lnTo>
                  <a:lnTo>
                    <a:pt x="1054" y="276"/>
                  </a:lnTo>
                  <a:lnTo>
                    <a:pt x="1063" y="263"/>
                  </a:lnTo>
                  <a:lnTo>
                    <a:pt x="1070" y="251"/>
                  </a:lnTo>
                  <a:lnTo>
                    <a:pt x="1078" y="240"/>
                  </a:lnTo>
                  <a:lnTo>
                    <a:pt x="1085" y="230"/>
                  </a:lnTo>
                  <a:lnTo>
                    <a:pt x="1092" y="221"/>
                  </a:lnTo>
                  <a:lnTo>
                    <a:pt x="1096" y="212"/>
                  </a:lnTo>
                  <a:lnTo>
                    <a:pt x="1103" y="203"/>
                  </a:lnTo>
                  <a:lnTo>
                    <a:pt x="1108" y="193"/>
                  </a:lnTo>
                  <a:lnTo>
                    <a:pt x="1115" y="183"/>
                  </a:lnTo>
                  <a:lnTo>
                    <a:pt x="1120" y="173"/>
                  </a:lnTo>
                  <a:lnTo>
                    <a:pt x="1126" y="161"/>
                  </a:lnTo>
                  <a:lnTo>
                    <a:pt x="1134" y="151"/>
                  </a:lnTo>
                  <a:lnTo>
                    <a:pt x="1140" y="139"/>
                  </a:lnTo>
                  <a:lnTo>
                    <a:pt x="1145" y="129"/>
                  </a:lnTo>
                  <a:lnTo>
                    <a:pt x="1152" y="118"/>
                  </a:lnTo>
                  <a:lnTo>
                    <a:pt x="1156" y="108"/>
                  </a:lnTo>
                  <a:lnTo>
                    <a:pt x="1163" y="98"/>
                  </a:lnTo>
                  <a:lnTo>
                    <a:pt x="1166" y="90"/>
                  </a:lnTo>
                  <a:lnTo>
                    <a:pt x="1172" y="81"/>
                  </a:lnTo>
                  <a:lnTo>
                    <a:pt x="1175" y="74"/>
                  </a:lnTo>
                  <a:lnTo>
                    <a:pt x="1179" y="66"/>
                  </a:lnTo>
                  <a:lnTo>
                    <a:pt x="1181" y="62"/>
                  </a:lnTo>
                  <a:lnTo>
                    <a:pt x="1183" y="57"/>
                  </a:lnTo>
                  <a:lnTo>
                    <a:pt x="1184" y="55"/>
                  </a:lnTo>
                  <a:lnTo>
                    <a:pt x="1185" y="52"/>
                  </a:lnTo>
                  <a:lnTo>
                    <a:pt x="1185" y="51"/>
                  </a:lnTo>
                  <a:lnTo>
                    <a:pt x="1186" y="49"/>
                  </a:lnTo>
                  <a:lnTo>
                    <a:pt x="1186" y="48"/>
                  </a:lnTo>
                  <a:lnTo>
                    <a:pt x="1188" y="46"/>
                  </a:lnTo>
                  <a:lnTo>
                    <a:pt x="1188" y="44"/>
                  </a:lnTo>
                  <a:lnTo>
                    <a:pt x="1189" y="42"/>
                  </a:lnTo>
                  <a:lnTo>
                    <a:pt x="1190" y="40"/>
                  </a:lnTo>
                  <a:lnTo>
                    <a:pt x="1193" y="34"/>
                  </a:lnTo>
                  <a:lnTo>
                    <a:pt x="1195" y="29"/>
                  </a:lnTo>
                  <a:lnTo>
                    <a:pt x="1199" y="21"/>
                  </a:lnTo>
                  <a:lnTo>
                    <a:pt x="1203" y="12"/>
                  </a:lnTo>
                  <a:lnTo>
                    <a:pt x="120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308480" y="3319560"/>
              <a:ext cx="1920960" cy="1270080"/>
            </a:xfrm>
            <a:custGeom>
              <a:avLst/>
              <a:gdLst/>
              <a:ahLst/>
              <a:rect l="l" t="t" r="r" b="b"/>
              <a:pathLst>
                <a:path w="1210" h="800">
                  <a:moveTo>
                    <a:pt x="0" y="116"/>
                  </a:moveTo>
                  <a:lnTo>
                    <a:pt x="4" y="144"/>
                  </a:lnTo>
                  <a:lnTo>
                    <a:pt x="6" y="166"/>
                  </a:lnTo>
                  <a:lnTo>
                    <a:pt x="9" y="184"/>
                  </a:lnTo>
                  <a:lnTo>
                    <a:pt x="12" y="198"/>
                  </a:lnTo>
                  <a:lnTo>
                    <a:pt x="13" y="209"/>
                  </a:lnTo>
                  <a:lnTo>
                    <a:pt x="15" y="216"/>
                  </a:lnTo>
                  <a:lnTo>
                    <a:pt x="15" y="222"/>
                  </a:lnTo>
                  <a:lnTo>
                    <a:pt x="17" y="226"/>
                  </a:lnTo>
                  <a:lnTo>
                    <a:pt x="17" y="229"/>
                  </a:lnTo>
                  <a:lnTo>
                    <a:pt x="17" y="232"/>
                  </a:lnTo>
                  <a:lnTo>
                    <a:pt x="17" y="236"/>
                  </a:lnTo>
                  <a:lnTo>
                    <a:pt x="19" y="239"/>
                  </a:lnTo>
                  <a:lnTo>
                    <a:pt x="19" y="245"/>
                  </a:lnTo>
                  <a:lnTo>
                    <a:pt x="21" y="252"/>
                  </a:lnTo>
                  <a:lnTo>
                    <a:pt x="23" y="262"/>
                  </a:lnTo>
                  <a:lnTo>
                    <a:pt x="25" y="274"/>
                  </a:lnTo>
                  <a:lnTo>
                    <a:pt x="27" y="290"/>
                  </a:lnTo>
                  <a:lnTo>
                    <a:pt x="31" y="307"/>
                  </a:lnTo>
                  <a:lnTo>
                    <a:pt x="34" y="324"/>
                  </a:lnTo>
                  <a:lnTo>
                    <a:pt x="38" y="340"/>
                  </a:lnTo>
                  <a:lnTo>
                    <a:pt x="41" y="359"/>
                  </a:lnTo>
                  <a:lnTo>
                    <a:pt x="46" y="377"/>
                  </a:lnTo>
                  <a:lnTo>
                    <a:pt x="50" y="395"/>
                  </a:lnTo>
                  <a:lnTo>
                    <a:pt x="55" y="413"/>
                  </a:lnTo>
                  <a:lnTo>
                    <a:pt x="59" y="430"/>
                  </a:lnTo>
                  <a:lnTo>
                    <a:pt x="65" y="448"/>
                  </a:lnTo>
                  <a:lnTo>
                    <a:pt x="69" y="464"/>
                  </a:lnTo>
                  <a:lnTo>
                    <a:pt x="75" y="479"/>
                  </a:lnTo>
                  <a:lnTo>
                    <a:pt x="77" y="494"/>
                  </a:lnTo>
                  <a:lnTo>
                    <a:pt x="83" y="506"/>
                  </a:lnTo>
                  <a:lnTo>
                    <a:pt x="86" y="519"/>
                  </a:lnTo>
                  <a:lnTo>
                    <a:pt x="92" y="527"/>
                  </a:lnTo>
                  <a:lnTo>
                    <a:pt x="95" y="538"/>
                  </a:lnTo>
                  <a:lnTo>
                    <a:pt x="99" y="548"/>
                  </a:lnTo>
                  <a:lnTo>
                    <a:pt x="105" y="558"/>
                  </a:lnTo>
                  <a:lnTo>
                    <a:pt x="110" y="568"/>
                  </a:lnTo>
                  <a:lnTo>
                    <a:pt x="115" y="580"/>
                  </a:lnTo>
                  <a:lnTo>
                    <a:pt x="120" y="591"/>
                  </a:lnTo>
                  <a:lnTo>
                    <a:pt x="125" y="602"/>
                  </a:lnTo>
                  <a:lnTo>
                    <a:pt x="131" y="612"/>
                  </a:lnTo>
                  <a:lnTo>
                    <a:pt x="136" y="624"/>
                  </a:lnTo>
                  <a:lnTo>
                    <a:pt x="141" y="634"/>
                  </a:lnTo>
                  <a:lnTo>
                    <a:pt x="146" y="644"/>
                  </a:lnTo>
                  <a:lnTo>
                    <a:pt x="153" y="653"/>
                  </a:lnTo>
                  <a:lnTo>
                    <a:pt x="156" y="662"/>
                  </a:lnTo>
                  <a:lnTo>
                    <a:pt x="162" y="669"/>
                  </a:lnTo>
                  <a:lnTo>
                    <a:pt x="165" y="677"/>
                  </a:lnTo>
                  <a:lnTo>
                    <a:pt x="171" y="683"/>
                  </a:lnTo>
                  <a:lnTo>
                    <a:pt x="174" y="689"/>
                  </a:lnTo>
                  <a:lnTo>
                    <a:pt x="179" y="694"/>
                  </a:lnTo>
                  <a:lnTo>
                    <a:pt x="185" y="701"/>
                  </a:lnTo>
                  <a:lnTo>
                    <a:pt x="191" y="706"/>
                  </a:lnTo>
                  <a:lnTo>
                    <a:pt x="198" y="713"/>
                  </a:lnTo>
                  <a:lnTo>
                    <a:pt x="205" y="720"/>
                  </a:lnTo>
                  <a:lnTo>
                    <a:pt x="214" y="726"/>
                  </a:lnTo>
                  <a:lnTo>
                    <a:pt x="222" y="731"/>
                  </a:lnTo>
                  <a:lnTo>
                    <a:pt x="230" y="738"/>
                  </a:lnTo>
                  <a:lnTo>
                    <a:pt x="239" y="744"/>
                  </a:lnTo>
                  <a:lnTo>
                    <a:pt x="247" y="750"/>
                  </a:lnTo>
                  <a:lnTo>
                    <a:pt x="256" y="754"/>
                  </a:lnTo>
                  <a:lnTo>
                    <a:pt x="265" y="759"/>
                  </a:lnTo>
                  <a:lnTo>
                    <a:pt x="274" y="764"/>
                  </a:lnTo>
                  <a:lnTo>
                    <a:pt x="281" y="767"/>
                  </a:lnTo>
                  <a:lnTo>
                    <a:pt x="290" y="770"/>
                  </a:lnTo>
                  <a:lnTo>
                    <a:pt x="296" y="773"/>
                  </a:lnTo>
                  <a:lnTo>
                    <a:pt x="305" y="775"/>
                  </a:lnTo>
                  <a:lnTo>
                    <a:pt x="314" y="779"/>
                  </a:lnTo>
                  <a:lnTo>
                    <a:pt x="322" y="781"/>
                  </a:lnTo>
                  <a:lnTo>
                    <a:pt x="330" y="783"/>
                  </a:lnTo>
                  <a:lnTo>
                    <a:pt x="339" y="785"/>
                  </a:lnTo>
                  <a:lnTo>
                    <a:pt x="347" y="789"/>
                  </a:lnTo>
                  <a:lnTo>
                    <a:pt x="356" y="789"/>
                  </a:lnTo>
                  <a:lnTo>
                    <a:pt x="364" y="792"/>
                  </a:lnTo>
                  <a:lnTo>
                    <a:pt x="372" y="794"/>
                  </a:lnTo>
                  <a:lnTo>
                    <a:pt x="379" y="796"/>
                  </a:lnTo>
                  <a:lnTo>
                    <a:pt x="386" y="797"/>
                  </a:lnTo>
                  <a:lnTo>
                    <a:pt x="393" y="798"/>
                  </a:lnTo>
                  <a:lnTo>
                    <a:pt x="399" y="799"/>
                  </a:lnTo>
                  <a:lnTo>
                    <a:pt x="404" y="799"/>
                  </a:lnTo>
                  <a:lnTo>
                    <a:pt x="408" y="799"/>
                  </a:lnTo>
                  <a:lnTo>
                    <a:pt x="412" y="799"/>
                  </a:lnTo>
                  <a:lnTo>
                    <a:pt x="417" y="799"/>
                  </a:lnTo>
                  <a:lnTo>
                    <a:pt x="423" y="799"/>
                  </a:lnTo>
                  <a:lnTo>
                    <a:pt x="429" y="797"/>
                  </a:lnTo>
                  <a:lnTo>
                    <a:pt x="436" y="796"/>
                  </a:lnTo>
                  <a:lnTo>
                    <a:pt x="444" y="795"/>
                  </a:lnTo>
                  <a:lnTo>
                    <a:pt x="452" y="793"/>
                  </a:lnTo>
                  <a:lnTo>
                    <a:pt x="461" y="791"/>
                  </a:lnTo>
                  <a:lnTo>
                    <a:pt x="469" y="789"/>
                  </a:lnTo>
                  <a:lnTo>
                    <a:pt x="477" y="789"/>
                  </a:lnTo>
                  <a:lnTo>
                    <a:pt x="486" y="787"/>
                  </a:lnTo>
                  <a:lnTo>
                    <a:pt x="495" y="783"/>
                  </a:lnTo>
                  <a:lnTo>
                    <a:pt x="504" y="781"/>
                  </a:lnTo>
                  <a:lnTo>
                    <a:pt x="512" y="779"/>
                  </a:lnTo>
                  <a:lnTo>
                    <a:pt x="520" y="777"/>
                  </a:lnTo>
                  <a:lnTo>
                    <a:pt x="528" y="774"/>
                  </a:lnTo>
                  <a:lnTo>
                    <a:pt x="535" y="772"/>
                  </a:lnTo>
                  <a:lnTo>
                    <a:pt x="545" y="769"/>
                  </a:lnTo>
                  <a:lnTo>
                    <a:pt x="553" y="766"/>
                  </a:lnTo>
                  <a:lnTo>
                    <a:pt x="563" y="762"/>
                  </a:lnTo>
                  <a:lnTo>
                    <a:pt x="571" y="759"/>
                  </a:lnTo>
                  <a:lnTo>
                    <a:pt x="581" y="754"/>
                  </a:lnTo>
                  <a:lnTo>
                    <a:pt x="590" y="751"/>
                  </a:lnTo>
                  <a:lnTo>
                    <a:pt x="600" y="745"/>
                  </a:lnTo>
                  <a:lnTo>
                    <a:pt x="608" y="743"/>
                  </a:lnTo>
                  <a:lnTo>
                    <a:pt x="617" y="738"/>
                  </a:lnTo>
                  <a:lnTo>
                    <a:pt x="626" y="735"/>
                  </a:lnTo>
                  <a:lnTo>
                    <a:pt x="635" y="729"/>
                  </a:lnTo>
                  <a:lnTo>
                    <a:pt x="642" y="727"/>
                  </a:lnTo>
                  <a:lnTo>
                    <a:pt x="650" y="722"/>
                  </a:lnTo>
                  <a:lnTo>
                    <a:pt x="656" y="720"/>
                  </a:lnTo>
                  <a:lnTo>
                    <a:pt x="663" y="714"/>
                  </a:lnTo>
                  <a:lnTo>
                    <a:pt x="668" y="712"/>
                  </a:lnTo>
                  <a:lnTo>
                    <a:pt x="674" y="708"/>
                  </a:lnTo>
                  <a:lnTo>
                    <a:pt x="681" y="703"/>
                  </a:lnTo>
                  <a:lnTo>
                    <a:pt x="688" y="697"/>
                  </a:lnTo>
                  <a:lnTo>
                    <a:pt x="696" y="692"/>
                  </a:lnTo>
                  <a:lnTo>
                    <a:pt x="705" y="684"/>
                  </a:lnTo>
                  <a:lnTo>
                    <a:pt x="715" y="678"/>
                  </a:lnTo>
                  <a:lnTo>
                    <a:pt x="725" y="669"/>
                  </a:lnTo>
                  <a:lnTo>
                    <a:pt x="733" y="663"/>
                  </a:lnTo>
                  <a:lnTo>
                    <a:pt x="743" y="654"/>
                  </a:lnTo>
                  <a:lnTo>
                    <a:pt x="752" y="647"/>
                  </a:lnTo>
                  <a:lnTo>
                    <a:pt x="762" y="639"/>
                  </a:lnTo>
                  <a:lnTo>
                    <a:pt x="770" y="632"/>
                  </a:lnTo>
                  <a:lnTo>
                    <a:pt x="779" y="624"/>
                  </a:lnTo>
                  <a:lnTo>
                    <a:pt x="788" y="617"/>
                  </a:lnTo>
                  <a:lnTo>
                    <a:pt x="796" y="609"/>
                  </a:lnTo>
                  <a:lnTo>
                    <a:pt x="804" y="602"/>
                  </a:lnTo>
                  <a:lnTo>
                    <a:pt x="812" y="593"/>
                  </a:lnTo>
                  <a:lnTo>
                    <a:pt x="822" y="583"/>
                  </a:lnTo>
                  <a:lnTo>
                    <a:pt x="832" y="572"/>
                  </a:lnTo>
                  <a:lnTo>
                    <a:pt x="843" y="561"/>
                  </a:lnTo>
                  <a:lnTo>
                    <a:pt x="854" y="550"/>
                  </a:lnTo>
                  <a:lnTo>
                    <a:pt x="864" y="536"/>
                  </a:lnTo>
                  <a:lnTo>
                    <a:pt x="875" y="523"/>
                  </a:lnTo>
                  <a:lnTo>
                    <a:pt x="885" y="510"/>
                  </a:lnTo>
                  <a:lnTo>
                    <a:pt x="897" y="497"/>
                  </a:lnTo>
                  <a:lnTo>
                    <a:pt x="907" y="483"/>
                  </a:lnTo>
                  <a:lnTo>
                    <a:pt x="918" y="470"/>
                  </a:lnTo>
                  <a:lnTo>
                    <a:pt x="927" y="458"/>
                  </a:lnTo>
                  <a:lnTo>
                    <a:pt x="937" y="445"/>
                  </a:lnTo>
                  <a:lnTo>
                    <a:pt x="946" y="433"/>
                  </a:lnTo>
                  <a:lnTo>
                    <a:pt x="955" y="422"/>
                  </a:lnTo>
                  <a:lnTo>
                    <a:pt x="962" y="411"/>
                  </a:lnTo>
                  <a:lnTo>
                    <a:pt x="970" y="400"/>
                  </a:lnTo>
                  <a:lnTo>
                    <a:pt x="979" y="386"/>
                  </a:lnTo>
                  <a:lnTo>
                    <a:pt x="988" y="374"/>
                  </a:lnTo>
                  <a:lnTo>
                    <a:pt x="996" y="360"/>
                  </a:lnTo>
                  <a:lnTo>
                    <a:pt x="1006" y="346"/>
                  </a:lnTo>
                  <a:lnTo>
                    <a:pt x="1016" y="332"/>
                  </a:lnTo>
                  <a:lnTo>
                    <a:pt x="1026" y="317"/>
                  </a:lnTo>
                  <a:lnTo>
                    <a:pt x="1035" y="303"/>
                  </a:lnTo>
                  <a:lnTo>
                    <a:pt x="1045" y="289"/>
                  </a:lnTo>
                  <a:lnTo>
                    <a:pt x="1054" y="276"/>
                  </a:lnTo>
                  <a:lnTo>
                    <a:pt x="1063" y="263"/>
                  </a:lnTo>
                  <a:lnTo>
                    <a:pt x="1070" y="251"/>
                  </a:lnTo>
                  <a:lnTo>
                    <a:pt x="1078" y="240"/>
                  </a:lnTo>
                  <a:lnTo>
                    <a:pt x="1085" y="230"/>
                  </a:lnTo>
                  <a:lnTo>
                    <a:pt x="1092" y="221"/>
                  </a:lnTo>
                  <a:lnTo>
                    <a:pt x="1096" y="212"/>
                  </a:lnTo>
                  <a:lnTo>
                    <a:pt x="1103" y="203"/>
                  </a:lnTo>
                  <a:lnTo>
                    <a:pt x="1108" y="193"/>
                  </a:lnTo>
                  <a:lnTo>
                    <a:pt x="1115" y="183"/>
                  </a:lnTo>
                  <a:lnTo>
                    <a:pt x="1120" y="173"/>
                  </a:lnTo>
                  <a:lnTo>
                    <a:pt x="1126" y="161"/>
                  </a:lnTo>
                  <a:lnTo>
                    <a:pt x="1134" y="151"/>
                  </a:lnTo>
                  <a:lnTo>
                    <a:pt x="1140" y="139"/>
                  </a:lnTo>
                  <a:lnTo>
                    <a:pt x="1145" y="129"/>
                  </a:lnTo>
                  <a:lnTo>
                    <a:pt x="1152" y="118"/>
                  </a:lnTo>
                  <a:lnTo>
                    <a:pt x="1156" y="108"/>
                  </a:lnTo>
                  <a:lnTo>
                    <a:pt x="1163" y="98"/>
                  </a:lnTo>
                  <a:lnTo>
                    <a:pt x="1166" y="90"/>
                  </a:lnTo>
                  <a:lnTo>
                    <a:pt x="1172" y="81"/>
                  </a:lnTo>
                  <a:lnTo>
                    <a:pt x="1175" y="74"/>
                  </a:lnTo>
                  <a:lnTo>
                    <a:pt x="1179" y="66"/>
                  </a:lnTo>
                  <a:lnTo>
                    <a:pt x="1181" y="62"/>
                  </a:lnTo>
                  <a:lnTo>
                    <a:pt x="1183" y="57"/>
                  </a:lnTo>
                  <a:lnTo>
                    <a:pt x="1184" y="55"/>
                  </a:lnTo>
                  <a:lnTo>
                    <a:pt x="1185" y="52"/>
                  </a:lnTo>
                  <a:lnTo>
                    <a:pt x="1185" y="51"/>
                  </a:lnTo>
                  <a:lnTo>
                    <a:pt x="1186" y="49"/>
                  </a:lnTo>
                  <a:lnTo>
                    <a:pt x="1186" y="48"/>
                  </a:lnTo>
                  <a:lnTo>
                    <a:pt x="1188" y="46"/>
                  </a:lnTo>
                  <a:lnTo>
                    <a:pt x="1188" y="44"/>
                  </a:lnTo>
                  <a:lnTo>
                    <a:pt x="1189" y="42"/>
                  </a:lnTo>
                  <a:lnTo>
                    <a:pt x="1190" y="40"/>
                  </a:lnTo>
                  <a:lnTo>
                    <a:pt x="1193" y="34"/>
                  </a:lnTo>
                  <a:lnTo>
                    <a:pt x="1195" y="29"/>
                  </a:lnTo>
                  <a:lnTo>
                    <a:pt x="1199" y="21"/>
                  </a:lnTo>
                  <a:lnTo>
                    <a:pt x="1203" y="12"/>
                  </a:lnTo>
                  <a:lnTo>
                    <a:pt x="1209" y="0"/>
                  </a:lnTo>
                </a:path>
              </a:pathLst>
            </a:custGeom>
            <a:noFill/>
            <a:ln cap="rnd" w="25560">
              <a:solidFill>
                <a:srgbClr val="4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836880" y="3116160"/>
              <a:ext cx="1594080" cy="2000520"/>
            </a:xfrm>
            <a:custGeom>
              <a:avLst/>
              <a:gdLst/>
              <a:ahLst/>
              <a:rect l="l" t="t" r="r" b="b"/>
              <a:pathLst>
                <a:path w="1004" h="1260">
                  <a:moveTo>
                    <a:pt x="1003" y="0"/>
                  </a:moveTo>
                  <a:lnTo>
                    <a:pt x="1000" y="22"/>
                  </a:lnTo>
                  <a:lnTo>
                    <a:pt x="999" y="39"/>
                  </a:lnTo>
                  <a:lnTo>
                    <a:pt x="997" y="53"/>
                  </a:lnTo>
                  <a:lnTo>
                    <a:pt x="996" y="63"/>
                  </a:lnTo>
                  <a:lnTo>
                    <a:pt x="994" y="71"/>
                  </a:lnTo>
                  <a:lnTo>
                    <a:pt x="994" y="77"/>
                  </a:lnTo>
                  <a:lnTo>
                    <a:pt x="994" y="82"/>
                  </a:lnTo>
                  <a:lnTo>
                    <a:pt x="994" y="84"/>
                  </a:lnTo>
                  <a:lnTo>
                    <a:pt x="993" y="87"/>
                  </a:lnTo>
                  <a:lnTo>
                    <a:pt x="993" y="90"/>
                  </a:lnTo>
                  <a:lnTo>
                    <a:pt x="993" y="93"/>
                  </a:lnTo>
                  <a:lnTo>
                    <a:pt x="993" y="94"/>
                  </a:lnTo>
                  <a:lnTo>
                    <a:pt x="992" y="100"/>
                  </a:lnTo>
                  <a:lnTo>
                    <a:pt x="992" y="105"/>
                  </a:lnTo>
                  <a:lnTo>
                    <a:pt x="990" y="112"/>
                  </a:lnTo>
                  <a:lnTo>
                    <a:pt x="990" y="123"/>
                  </a:lnTo>
                  <a:lnTo>
                    <a:pt x="989" y="135"/>
                  </a:lnTo>
                  <a:lnTo>
                    <a:pt x="987" y="147"/>
                  </a:lnTo>
                  <a:lnTo>
                    <a:pt x="985" y="161"/>
                  </a:lnTo>
                  <a:lnTo>
                    <a:pt x="984" y="176"/>
                  </a:lnTo>
                  <a:lnTo>
                    <a:pt x="983" y="191"/>
                  </a:lnTo>
                  <a:lnTo>
                    <a:pt x="981" y="206"/>
                  </a:lnTo>
                  <a:lnTo>
                    <a:pt x="979" y="221"/>
                  </a:lnTo>
                  <a:lnTo>
                    <a:pt x="978" y="236"/>
                  </a:lnTo>
                  <a:lnTo>
                    <a:pt x="975" y="250"/>
                  </a:lnTo>
                  <a:lnTo>
                    <a:pt x="973" y="265"/>
                  </a:lnTo>
                  <a:lnTo>
                    <a:pt x="971" y="279"/>
                  </a:lnTo>
                  <a:lnTo>
                    <a:pt x="969" y="291"/>
                  </a:lnTo>
                  <a:lnTo>
                    <a:pt x="968" y="304"/>
                  </a:lnTo>
                  <a:lnTo>
                    <a:pt x="966" y="316"/>
                  </a:lnTo>
                  <a:lnTo>
                    <a:pt x="965" y="326"/>
                  </a:lnTo>
                  <a:lnTo>
                    <a:pt x="963" y="334"/>
                  </a:lnTo>
                  <a:lnTo>
                    <a:pt x="961" y="345"/>
                  </a:lnTo>
                  <a:lnTo>
                    <a:pt x="959" y="356"/>
                  </a:lnTo>
                  <a:lnTo>
                    <a:pt x="956" y="368"/>
                  </a:lnTo>
                  <a:lnTo>
                    <a:pt x="954" y="380"/>
                  </a:lnTo>
                  <a:lnTo>
                    <a:pt x="949" y="395"/>
                  </a:lnTo>
                  <a:lnTo>
                    <a:pt x="947" y="410"/>
                  </a:lnTo>
                  <a:lnTo>
                    <a:pt x="942" y="427"/>
                  </a:lnTo>
                  <a:lnTo>
                    <a:pt x="939" y="442"/>
                  </a:lnTo>
                  <a:lnTo>
                    <a:pt x="934" y="460"/>
                  </a:lnTo>
                  <a:lnTo>
                    <a:pt x="929" y="476"/>
                  </a:lnTo>
                  <a:lnTo>
                    <a:pt x="924" y="492"/>
                  </a:lnTo>
                  <a:lnTo>
                    <a:pt x="921" y="509"/>
                  </a:lnTo>
                  <a:lnTo>
                    <a:pt x="916" y="525"/>
                  </a:lnTo>
                  <a:lnTo>
                    <a:pt x="912" y="541"/>
                  </a:lnTo>
                  <a:lnTo>
                    <a:pt x="907" y="556"/>
                  </a:lnTo>
                  <a:lnTo>
                    <a:pt x="903" y="569"/>
                  </a:lnTo>
                  <a:lnTo>
                    <a:pt x="898" y="584"/>
                  </a:lnTo>
                  <a:lnTo>
                    <a:pt x="892" y="599"/>
                  </a:lnTo>
                  <a:lnTo>
                    <a:pt x="886" y="616"/>
                  </a:lnTo>
                  <a:lnTo>
                    <a:pt x="879" y="633"/>
                  </a:lnTo>
                  <a:lnTo>
                    <a:pt x="872" y="650"/>
                  </a:lnTo>
                  <a:lnTo>
                    <a:pt x="865" y="668"/>
                  </a:lnTo>
                  <a:lnTo>
                    <a:pt x="857" y="686"/>
                  </a:lnTo>
                  <a:lnTo>
                    <a:pt x="850" y="703"/>
                  </a:lnTo>
                  <a:lnTo>
                    <a:pt x="841" y="721"/>
                  </a:lnTo>
                  <a:lnTo>
                    <a:pt x="833" y="739"/>
                  </a:lnTo>
                  <a:lnTo>
                    <a:pt x="825" y="756"/>
                  </a:lnTo>
                  <a:lnTo>
                    <a:pt x="818" y="772"/>
                  </a:lnTo>
                  <a:lnTo>
                    <a:pt x="809" y="788"/>
                  </a:lnTo>
                  <a:lnTo>
                    <a:pt x="803" y="802"/>
                  </a:lnTo>
                  <a:lnTo>
                    <a:pt x="796" y="815"/>
                  </a:lnTo>
                  <a:lnTo>
                    <a:pt x="789" y="825"/>
                  </a:lnTo>
                  <a:lnTo>
                    <a:pt x="781" y="837"/>
                  </a:lnTo>
                  <a:lnTo>
                    <a:pt x="774" y="850"/>
                  </a:lnTo>
                  <a:lnTo>
                    <a:pt x="765" y="864"/>
                  </a:lnTo>
                  <a:lnTo>
                    <a:pt x="756" y="878"/>
                  </a:lnTo>
                  <a:lnTo>
                    <a:pt x="745" y="894"/>
                  </a:lnTo>
                  <a:lnTo>
                    <a:pt x="734" y="909"/>
                  </a:lnTo>
                  <a:lnTo>
                    <a:pt x="722" y="926"/>
                  </a:lnTo>
                  <a:lnTo>
                    <a:pt x="711" y="941"/>
                  </a:lnTo>
                  <a:lnTo>
                    <a:pt x="699" y="958"/>
                  </a:lnTo>
                  <a:lnTo>
                    <a:pt x="687" y="975"/>
                  </a:lnTo>
                  <a:lnTo>
                    <a:pt x="675" y="991"/>
                  </a:lnTo>
                  <a:lnTo>
                    <a:pt x="663" y="1006"/>
                  </a:lnTo>
                  <a:lnTo>
                    <a:pt x="651" y="1022"/>
                  </a:lnTo>
                  <a:lnTo>
                    <a:pt x="639" y="1036"/>
                  </a:lnTo>
                  <a:lnTo>
                    <a:pt x="629" y="1049"/>
                  </a:lnTo>
                  <a:lnTo>
                    <a:pt x="619" y="1061"/>
                  </a:lnTo>
                  <a:lnTo>
                    <a:pt x="608" y="1073"/>
                  </a:lnTo>
                  <a:lnTo>
                    <a:pt x="597" y="1085"/>
                  </a:lnTo>
                  <a:lnTo>
                    <a:pt x="583" y="1099"/>
                  </a:lnTo>
                  <a:lnTo>
                    <a:pt x="569" y="1111"/>
                  </a:lnTo>
                  <a:lnTo>
                    <a:pt x="553" y="1124"/>
                  </a:lnTo>
                  <a:lnTo>
                    <a:pt x="537" y="1137"/>
                  </a:lnTo>
                  <a:lnTo>
                    <a:pt x="521" y="1150"/>
                  </a:lnTo>
                  <a:lnTo>
                    <a:pt x="505" y="1161"/>
                  </a:lnTo>
                  <a:lnTo>
                    <a:pt x="487" y="1174"/>
                  </a:lnTo>
                  <a:lnTo>
                    <a:pt x="469" y="1185"/>
                  </a:lnTo>
                  <a:lnTo>
                    <a:pt x="453" y="1196"/>
                  </a:lnTo>
                  <a:lnTo>
                    <a:pt x="436" y="1205"/>
                  </a:lnTo>
                  <a:lnTo>
                    <a:pt x="419" y="1215"/>
                  </a:lnTo>
                  <a:lnTo>
                    <a:pt x="404" y="1222"/>
                  </a:lnTo>
                  <a:lnTo>
                    <a:pt x="389" y="1229"/>
                  </a:lnTo>
                  <a:lnTo>
                    <a:pt x="376" y="1234"/>
                  </a:lnTo>
                  <a:lnTo>
                    <a:pt x="361" y="1239"/>
                  </a:lnTo>
                  <a:lnTo>
                    <a:pt x="346" y="1243"/>
                  </a:lnTo>
                  <a:lnTo>
                    <a:pt x="330" y="1247"/>
                  </a:lnTo>
                  <a:lnTo>
                    <a:pt x="314" y="1250"/>
                  </a:lnTo>
                  <a:lnTo>
                    <a:pt x="296" y="1253"/>
                  </a:lnTo>
                  <a:lnTo>
                    <a:pt x="279" y="1256"/>
                  </a:lnTo>
                  <a:lnTo>
                    <a:pt x="260" y="1257"/>
                  </a:lnTo>
                  <a:lnTo>
                    <a:pt x="243" y="1257"/>
                  </a:lnTo>
                  <a:lnTo>
                    <a:pt x="225" y="1259"/>
                  </a:lnTo>
                  <a:lnTo>
                    <a:pt x="206" y="1259"/>
                  </a:lnTo>
                  <a:lnTo>
                    <a:pt x="190" y="1259"/>
                  </a:lnTo>
                  <a:lnTo>
                    <a:pt x="174" y="1258"/>
                  </a:lnTo>
                  <a:lnTo>
                    <a:pt x="157" y="1257"/>
                  </a:lnTo>
                  <a:lnTo>
                    <a:pt x="143" y="1255"/>
                  </a:lnTo>
                  <a:lnTo>
                    <a:pt x="130" y="1252"/>
                  </a:lnTo>
                  <a:lnTo>
                    <a:pt x="118" y="1249"/>
                  </a:lnTo>
                  <a:lnTo>
                    <a:pt x="108" y="1247"/>
                  </a:lnTo>
                  <a:lnTo>
                    <a:pt x="101" y="1244"/>
                  </a:lnTo>
                  <a:lnTo>
                    <a:pt x="95" y="1243"/>
                  </a:lnTo>
                  <a:lnTo>
                    <a:pt x="91" y="1241"/>
                  </a:lnTo>
                  <a:lnTo>
                    <a:pt x="87" y="1241"/>
                  </a:lnTo>
                  <a:lnTo>
                    <a:pt x="85" y="1240"/>
                  </a:lnTo>
                  <a:lnTo>
                    <a:pt x="83" y="1240"/>
                  </a:lnTo>
                  <a:lnTo>
                    <a:pt x="81" y="1238"/>
                  </a:lnTo>
                  <a:lnTo>
                    <a:pt x="77" y="1238"/>
                  </a:lnTo>
                  <a:lnTo>
                    <a:pt x="74" y="1236"/>
                  </a:lnTo>
                  <a:lnTo>
                    <a:pt x="67" y="1234"/>
                  </a:lnTo>
                  <a:lnTo>
                    <a:pt x="60" y="1232"/>
                  </a:lnTo>
                  <a:lnTo>
                    <a:pt x="49" y="1229"/>
                  </a:lnTo>
                  <a:lnTo>
                    <a:pt x="36" y="1225"/>
                  </a:lnTo>
                  <a:lnTo>
                    <a:pt x="19" y="1219"/>
                  </a:lnTo>
                  <a:lnTo>
                    <a:pt x="0" y="1212"/>
                  </a:lnTo>
                </a:path>
              </a:pathLst>
            </a:custGeom>
            <a:noFill/>
            <a:ln cap="rnd" w="25560">
              <a:solidFill>
                <a:srgbClr val="4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781440" y="3025800"/>
              <a:ext cx="6444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i="1" lang="en-US" sz="2600" spc="-1" strike="noStrike">
                  <a:solidFill>
                    <a:srgbClr val="400080"/>
                  </a:solidFill>
                  <a:latin typeface="Times New Roman"/>
                </a:rPr>
                <a:t>C/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809880" y="2813040"/>
              <a:ext cx="31608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i="1" lang="en-US" sz="2700" spc="-1" strike="noStrike">
                  <a:solidFill>
                    <a:srgbClr val="400080"/>
                  </a:solidFill>
                  <a:latin typeface="Times New Roman"/>
                </a:rPr>
                <a:t>~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952880" y="2467080"/>
              <a:ext cx="684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i="1" lang="en-US" sz="2900" spc="-1" strike="noStrike">
                  <a:solidFill>
                    <a:srgbClr val="400080"/>
                  </a:solidFill>
                  <a:latin typeface="Times New Roman"/>
                </a:rPr>
                <a:t>C</a:t>
              </a:r>
              <a:r>
                <a:rPr b="1" i="1" lang="en-US" sz="2900" spc="-1" strike="noStrike" baseline="-25000">
                  <a:solidFill>
                    <a:srgbClr val="400080"/>
                  </a:solidFill>
                  <a:latin typeface="Times New Roman"/>
                </a:rPr>
                <a:t>Q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989600" y="2200320"/>
              <a:ext cx="34920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55760"/>
                  <a:tab algn="l" pos="911160"/>
                  <a:tab algn="l" pos="1366920"/>
                  <a:tab algn="l" pos="1822320"/>
                  <a:tab algn="l" pos="2278080"/>
                  <a:tab algn="l" pos="2733840"/>
                  <a:tab algn="l" pos="3189240"/>
                  <a:tab algn="l" pos="3645000"/>
                  <a:tab algn="l" pos="4100400"/>
                  <a:tab algn="l" pos="4556160"/>
                  <a:tab algn="l" pos="5011560"/>
                  <a:tab algn="l" pos="5467320"/>
                  <a:tab algn="l" pos="5923080"/>
                  <a:tab algn="l" pos="6378480"/>
                  <a:tab algn="l" pos="6834240"/>
                  <a:tab algn="l" pos="7289640"/>
                  <a:tab algn="l" pos="7745400"/>
                  <a:tab algn="l" pos="8201160"/>
                  <a:tab algn="l" pos="8656560"/>
                  <a:tab algn="l" pos="9112320"/>
                </a:tabLst>
              </a:pPr>
              <a:r>
                <a:rPr b="1" i="1" lang="en-US" sz="3000" spc="-1" strike="noStrike">
                  <a:solidFill>
                    <a:srgbClr val="400080"/>
                  </a:solidFill>
                  <a:latin typeface="Times New Roman"/>
                </a:rPr>
                <a:t>~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1824120" y="1876320"/>
            <a:ext cx="6377040" cy="3353040"/>
            <a:chOff x="1824120" y="1876320"/>
            <a:chExt cx="6377040" cy="3353040"/>
          </a:xfrm>
        </p:grpSpPr>
        <p:sp>
          <p:nvSpPr>
            <p:cNvPr id="956" name=""/>
            <p:cNvSpPr/>
            <p:nvPr/>
          </p:nvSpPr>
          <p:spPr>
            <a:xfrm>
              <a:off x="1824120" y="2440080"/>
              <a:ext cx="5808600" cy="2469960"/>
            </a:xfrm>
            <a:custGeom>
              <a:avLst/>
              <a:gdLst/>
              <a:ahLst/>
              <a:rect l="l" t="t" r="r" b="b"/>
              <a:pathLst>
                <a:path w="3659" h="1556">
                  <a:moveTo>
                    <a:pt x="0" y="228"/>
                  </a:moveTo>
                  <a:lnTo>
                    <a:pt x="13" y="281"/>
                  </a:lnTo>
                  <a:lnTo>
                    <a:pt x="25" y="324"/>
                  </a:lnTo>
                  <a:lnTo>
                    <a:pt x="33" y="358"/>
                  </a:lnTo>
                  <a:lnTo>
                    <a:pt x="40" y="385"/>
                  </a:lnTo>
                  <a:lnTo>
                    <a:pt x="45" y="406"/>
                  </a:lnTo>
                  <a:lnTo>
                    <a:pt x="49" y="421"/>
                  </a:lnTo>
                  <a:lnTo>
                    <a:pt x="52" y="432"/>
                  </a:lnTo>
                  <a:lnTo>
                    <a:pt x="55" y="440"/>
                  </a:lnTo>
                  <a:lnTo>
                    <a:pt x="56" y="447"/>
                  </a:lnTo>
                  <a:lnTo>
                    <a:pt x="58" y="452"/>
                  </a:lnTo>
                  <a:lnTo>
                    <a:pt x="60" y="459"/>
                  </a:lnTo>
                  <a:lnTo>
                    <a:pt x="62" y="466"/>
                  </a:lnTo>
                  <a:lnTo>
                    <a:pt x="64" y="477"/>
                  </a:lnTo>
                  <a:lnTo>
                    <a:pt x="68" y="491"/>
                  </a:lnTo>
                  <a:lnTo>
                    <a:pt x="73" y="510"/>
                  </a:lnTo>
                  <a:lnTo>
                    <a:pt x="81" y="536"/>
                  </a:lnTo>
                  <a:lnTo>
                    <a:pt x="88" y="566"/>
                  </a:lnTo>
                  <a:lnTo>
                    <a:pt x="98" y="597"/>
                  </a:lnTo>
                  <a:lnTo>
                    <a:pt x="108" y="630"/>
                  </a:lnTo>
                  <a:lnTo>
                    <a:pt x="120" y="665"/>
                  </a:lnTo>
                  <a:lnTo>
                    <a:pt x="133" y="700"/>
                  </a:lnTo>
                  <a:lnTo>
                    <a:pt x="145" y="734"/>
                  </a:lnTo>
                  <a:lnTo>
                    <a:pt x="159" y="770"/>
                  </a:lnTo>
                  <a:lnTo>
                    <a:pt x="173" y="803"/>
                  </a:lnTo>
                  <a:lnTo>
                    <a:pt x="186" y="838"/>
                  </a:lnTo>
                  <a:lnTo>
                    <a:pt x="201" y="871"/>
                  </a:lnTo>
                  <a:lnTo>
                    <a:pt x="215" y="904"/>
                  </a:lnTo>
                  <a:lnTo>
                    <a:pt x="229" y="932"/>
                  </a:lnTo>
                  <a:lnTo>
                    <a:pt x="242" y="961"/>
                  </a:lnTo>
                  <a:lnTo>
                    <a:pt x="255" y="986"/>
                  </a:lnTo>
                  <a:lnTo>
                    <a:pt x="267" y="1009"/>
                  </a:lnTo>
                  <a:lnTo>
                    <a:pt x="280" y="1027"/>
                  </a:lnTo>
                  <a:lnTo>
                    <a:pt x="291" y="1046"/>
                  </a:lnTo>
                  <a:lnTo>
                    <a:pt x="304" y="1064"/>
                  </a:lnTo>
                  <a:lnTo>
                    <a:pt x="317" y="1086"/>
                  </a:lnTo>
                  <a:lnTo>
                    <a:pt x="333" y="1105"/>
                  </a:lnTo>
                  <a:lnTo>
                    <a:pt x="347" y="1127"/>
                  </a:lnTo>
                  <a:lnTo>
                    <a:pt x="364" y="1148"/>
                  </a:lnTo>
                  <a:lnTo>
                    <a:pt x="380" y="1170"/>
                  </a:lnTo>
                  <a:lnTo>
                    <a:pt x="397" y="1191"/>
                  </a:lnTo>
                  <a:lnTo>
                    <a:pt x="413" y="1213"/>
                  </a:lnTo>
                  <a:lnTo>
                    <a:pt x="429" y="1232"/>
                  </a:lnTo>
                  <a:lnTo>
                    <a:pt x="445" y="1252"/>
                  </a:lnTo>
                  <a:lnTo>
                    <a:pt x="462" y="1269"/>
                  </a:lnTo>
                  <a:lnTo>
                    <a:pt x="476" y="1287"/>
                  </a:lnTo>
                  <a:lnTo>
                    <a:pt x="491" y="1303"/>
                  </a:lnTo>
                  <a:lnTo>
                    <a:pt x="504" y="1317"/>
                  </a:lnTo>
                  <a:lnTo>
                    <a:pt x="516" y="1327"/>
                  </a:lnTo>
                  <a:lnTo>
                    <a:pt x="527" y="1340"/>
                  </a:lnTo>
                  <a:lnTo>
                    <a:pt x="542" y="1351"/>
                  </a:lnTo>
                  <a:lnTo>
                    <a:pt x="559" y="1363"/>
                  </a:lnTo>
                  <a:lnTo>
                    <a:pt x="579" y="1375"/>
                  </a:lnTo>
                  <a:lnTo>
                    <a:pt x="600" y="1387"/>
                  </a:lnTo>
                  <a:lnTo>
                    <a:pt x="623" y="1400"/>
                  </a:lnTo>
                  <a:lnTo>
                    <a:pt x="647" y="1412"/>
                  </a:lnTo>
                  <a:lnTo>
                    <a:pt x="673" y="1423"/>
                  </a:lnTo>
                  <a:lnTo>
                    <a:pt x="698" y="1435"/>
                  </a:lnTo>
                  <a:lnTo>
                    <a:pt x="725" y="1447"/>
                  </a:lnTo>
                  <a:lnTo>
                    <a:pt x="751" y="1458"/>
                  </a:lnTo>
                  <a:lnTo>
                    <a:pt x="778" y="1468"/>
                  </a:lnTo>
                  <a:lnTo>
                    <a:pt x="804" y="1477"/>
                  </a:lnTo>
                  <a:lnTo>
                    <a:pt x="829" y="1485"/>
                  </a:lnTo>
                  <a:lnTo>
                    <a:pt x="853" y="1492"/>
                  </a:lnTo>
                  <a:lnTo>
                    <a:pt x="877" y="1498"/>
                  </a:lnTo>
                  <a:lnTo>
                    <a:pt x="900" y="1505"/>
                  </a:lnTo>
                  <a:lnTo>
                    <a:pt x="925" y="1509"/>
                  </a:lnTo>
                  <a:lnTo>
                    <a:pt x="950" y="1515"/>
                  </a:lnTo>
                  <a:lnTo>
                    <a:pt x="976" y="1520"/>
                  </a:lnTo>
                  <a:lnTo>
                    <a:pt x="1002" y="1524"/>
                  </a:lnTo>
                  <a:lnTo>
                    <a:pt x="1029" y="1530"/>
                  </a:lnTo>
                  <a:lnTo>
                    <a:pt x="1055" y="1534"/>
                  </a:lnTo>
                  <a:lnTo>
                    <a:pt x="1081" y="1537"/>
                  </a:lnTo>
                  <a:lnTo>
                    <a:pt x="1105" y="1542"/>
                  </a:lnTo>
                  <a:lnTo>
                    <a:pt x="1130" y="1545"/>
                  </a:lnTo>
                  <a:lnTo>
                    <a:pt x="1152" y="1548"/>
                  </a:lnTo>
                  <a:lnTo>
                    <a:pt x="1174" y="1551"/>
                  </a:lnTo>
                  <a:lnTo>
                    <a:pt x="1193" y="1552"/>
                  </a:lnTo>
                  <a:lnTo>
                    <a:pt x="1211" y="1554"/>
                  </a:lnTo>
                  <a:lnTo>
                    <a:pt x="1225" y="1555"/>
                  </a:lnTo>
                  <a:lnTo>
                    <a:pt x="1238" y="1555"/>
                  </a:lnTo>
                  <a:lnTo>
                    <a:pt x="1250" y="1555"/>
                  </a:lnTo>
                  <a:lnTo>
                    <a:pt x="1265" y="1554"/>
                  </a:lnTo>
                  <a:lnTo>
                    <a:pt x="1282" y="1553"/>
                  </a:lnTo>
                  <a:lnTo>
                    <a:pt x="1302" y="1551"/>
                  </a:lnTo>
                  <a:lnTo>
                    <a:pt x="1322" y="1550"/>
                  </a:lnTo>
                  <a:lnTo>
                    <a:pt x="1345" y="1546"/>
                  </a:lnTo>
                  <a:lnTo>
                    <a:pt x="1369" y="1543"/>
                  </a:lnTo>
                  <a:lnTo>
                    <a:pt x="1395" y="1540"/>
                  </a:lnTo>
                  <a:lnTo>
                    <a:pt x="1420" y="1537"/>
                  </a:lnTo>
                  <a:lnTo>
                    <a:pt x="1446" y="1533"/>
                  </a:lnTo>
                  <a:lnTo>
                    <a:pt x="1472" y="1530"/>
                  </a:lnTo>
                  <a:lnTo>
                    <a:pt x="1499" y="1524"/>
                  </a:lnTo>
                  <a:lnTo>
                    <a:pt x="1525" y="1520"/>
                  </a:lnTo>
                  <a:lnTo>
                    <a:pt x="1551" y="1515"/>
                  </a:lnTo>
                  <a:lnTo>
                    <a:pt x="1575" y="1510"/>
                  </a:lnTo>
                  <a:lnTo>
                    <a:pt x="1600" y="1506"/>
                  </a:lnTo>
                  <a:lnTo>
                    <a:pt x="1623" y="1500"/>
                  </a:lnTo>
                  <a:lnTo>
                    <a:pt x="1648" y="1495"/>
                  </a:lnTo>
                  <a:lnTo>
                    <a:pt x="1675" y="1490"/>
                  </a:lnTo>
                  <a:lnTo>
                    <a:pt x="1703" y="1483"/>
                  </a:lnTo>
                  <a:lnTo>
                    <a:pt x="1731" y="1476"/>
                  </a:lnTo>
                  <a:lnTo>
                    <a:pt x="1760" y="1469"/>
                  </a:lnTo>
                  <a:lnTo>
                    <a:pt x="1789" y="1460"/>
                  </a:lnTo>
                  <a:lnTo>
                    <a:pt x="1817" y="1452"/>
                  </a:lnTo>
                  <a:lnTo>
                    <a:pt x="1844" y="1445"/>
                  </a:lnTo>
                  <a:lnTo>
                    <a:pt x="1873" y="1437"/>
                  </a:lnTo>
                  <a:lnTo>
                    <a:pt x="1898" y="1428"/>
                  </a:lnTo>
                  <a:lnTo>
                    <a:pt x="1924" y="1420"/>
                  </a:lnTo>
                  <a:lnTo>
                    <a:pt x="1947" y="1413"/>
                  </a:lnTo>
                  <a:lnTo>
                    <a:pt x="1969" y="1405"/>
                  </a:lnTo>
                  <a:lnTo>
                    <a:pt x="1988" y="1398"/>
                  </a:lnTo>
                  <a:lnTo>
                    <a:pt x="2005" y="1391"/>
                  </a:lnTo>
                  <a:lnTo>
                    <a:pt x="2021" y="1386"/>
                  </a:lnTo>
                  <a:lnTo>
                    <a:pt x="2040" y="1377"/>
                  </a:lnTo>
                  <a:lnTo>
                    <a:pt x="2061" y="1368"/>
                  </a:lnTo>
                  <a:lnTo>
                    <a:pt x="2084" y="1356"/>
                  </a:lnTo>
                  <a:lnTo>
                    <a:pt x="2109" y="1344"/>
                  </a:lnTo>
                  <a:lnTo>
                    <a:pt x="2135" y="1331"/>
                  </a:lnTo>
                  <a:lnTo>
                    <a:pt x="2163" y="1318"/>
                  </a:lnTo>
                  <a:lnTo>
                    <a:pt x="2192" y="1303"/>
                  </a:lnTo>
                  <a:lnTo>
                    <a:pt x="2220" y="1289"/>
                  </a:lnTo>
                  <a:lnTo>
                    <a:pt x="2249" y="1274"/>
                  </a:lnTo>
                  <a:lnTo>
                    <a:pt x="2277" y="1259"/>
                  </a:lnTo>
                  <a:lnTo>
                    <a:pt x="2306" y="1244"/>
                  </a:lnTo>
                  <a:lnTo>
                    <a:pt x="2334" y="1229"/>
                  </a:lnTo>
                  <a:lnTo>
                    <a:pt x="2360" y="1214"/>
                  </a:lnTo>
                  <a:lnTo>
                    <a:pt x="2385" y="1200"/>
                  </a:lnTo>
                  <a:lnTo>
                    <a:pt x="2411" y="1185"/>
                  </a:lnTo>
                  <a:lnTo>
                    <a:pt x="2434" y="1171"/>
                  </a:lnTo>
                  <a:lnTo>
                    <a:pt x="2460" y="1154"/>
                  </a:lnTo>
                  <a:lnTo>
                    <a:pt x="2488" y="1136"/>
                  </a:lnTo>
                  <a:lnTo>
                    <a:pt x="2519" y="1114"/>
                  </a:lnTo>
                  <a:lnTo>
                    <a:pt x="2551" y="1093"/>
                  </a:lnTo>
                  <a:lnTo>
                    <a:pt x="2584" y="1069"/>
                  </a:lnTo>
                  <a:lnTo>
                    <a:pt x="2617" y="1043"/>
                  </a:lnTo>
                  <a:lnTo>
                    <a:pt x="2652" y="1018"/>
                  </a:lnTo>
                  <a:lnTo>
                    <a:pt x="2684" y="993"/>
                  </a:lnTo>
                  <a:lnTo>
                    <a:pt x="2718" y="966"/>
                  </a:lnTo>
                  <a:lnTo>
                    <a:pt x="2750" y="941"/>
                  </a:lnTo>
                  <a:lnTo>
                    <a:pt x="2782" y="914"/>
                  </a:lnTo>
                  <a:lnTo>
                    <a:pt x="2811" y="891"/>
                  </a:lnTo>
                  <a:lnTo>
                    <a:pt x="2840" y="867"/>
                  </a:lnTo>
                  <a:lnTo>
                    <a:pt x="2866" y="844"/>
                  </a:lnTo>
                  <a:lnTo>
                    <a:pt x="2890" y="821"/>
                  </a:lnTo>
                  <a:lnTo>
                    <a:pt x="2913" y="800"/>
                  </a:lnTo>
                  <a:lnTo>
                    <a:pt x="2938" y="776"/>
                  </a:lnTo>
                  <a:lnTo>
                    <a:pt x="2964" y="752"/>
                  </a:lnTo>
                  <a:lnTo>
                    <a:pt x="2992" y="725"/>
                  </a:lnTo>
                  <a:lnTo>
                    <a:pt x="3020" y="699"/>
                  </a:lnTo>
                  <a:lnTo>
                    <a:pt x="3049" y="672"/>
                  </a:lnTo>
                  <a:lnTo>
                    <a:pt x="3078" y="643"/>
                  </a:lnTo>
                  <a:lnTo>
                    <a:pt x="3107" y="615"/>
                  </a:lnTo>
                  <a:lnTo>
                    <a:pt x="3135" y="589"/>
                  </a:lnTo>
                  <a:lnTo>
                    <a:pt x="3164" y="561"/>
                  </a:lnTo>
                  <a:lnTo>
                    <a:pt x="3191" y="536"/>
                  </a:lnTo>
                  <a:lnTo>
                    <a:pt x="3217" y="510"/>
                  </a:lnTo>
                  <a:lnTo>
                    <a:pt x="3242" y="487"/>
                  </a:lnTo>
                  <a:lnTo>
                    <a:pt x="3264" y="465"/>
                  </a:lnTo>
                  <a:lnTo>
                    <a:pt x="3284" y="447"/>
                  </a:lnTo>
                  <a:lnTo>
                    <a:pt x="3304" y="428"/>
                  </a:lnTo>
                  <a:lnTo>
                    <a:pt x="3320" y="412"/>
                  </a:lnTo>
                  <a:lnTo>
                    <a:pt x="3337" y="394"/>
                  </a:lnTo>
                  <a:lnTo>
                    <a:pt x="3356" y="374"/>
                  </a:lnTo>
                  <a:lnTo>
                    <a:pt x="3375" y="354"/>
                  </a:lnTo>
                  <a:lnTo>
                    <a:pt x="3394" y="335"/>
                  </a:lnTo>
                  <a:lnTo>
                    <a:pt x="3414" y="312"/>
                  </a:lnTo>
                  <a:lnTo>
                    <a:pt x="3433" y="291"/>
                  </a:lnTo>
                  <a:lnTo>
                    <a:pt x="3453" y="270"/>
                  </a:lnTo>
                  <a:lnTo>
                    <a:pt x="3470" y="251"/>
                  </a:lnTo>
                  <a:lnTo>
                    <a:pt x="3488" y="229"/>
                  </a:lnTo>
                  <a:lnTo>
                    <a:pt x="3504" y="210"/>
                  </a:lnTo>
                  <a:lnTo>
                    <a:pt x="3521" y="191"/>
                  </a:lnTo>
                  <a:lnTo>
                    <a:pt x="3535" y="174"/>
                  </a:lnTo>
                  <a:lnTo>
                    <a:pt x="3548" y="156"/>
                  </a:lnTo>
                  <a:lnTo>
                    <a:pt x="3560" y="141"/>
                  </a:lnTo>
                  <a:lnTo>
                    <a:pt x="3570" y="128"/>
                  </a:lnTo>
                  <a:lnTo>
                    <a:pt x="3576" y="118"/>
                  </a:lnTo>
                  <a:lnTo>
                    <a:pt x="3582" y="109"/>
                  </a:lnTo>
                  <a:lnTo>
                    <a:pt x="3585" y="104"/>
                  </a:lnTo>
                  <a:lnTo>
                    <a:pt x="3589" y="99"/>
                  </a:lnTo>
                  <a:lnTo>
                    <a:pt x="3591" y="97"/>
                  </a:lnTo>
                  <a:lnTo>
                    <a:pt x="3593" y="94"/>
                  </a:lnTo>
                  <a:lnTo>
                    <a:pt x="3594" y="92"/>
                  </a:lnTo>
                  <a:lnTo>
                    <a:pt x="3596" y="88"/>
                  </a:lnTo>
                  <a:lnTo>
                    <a:pt x="3598" y="86"/>
                  </a:lnTo>
                  <a:lnTo>
                    <a:pt x="3602" y="81"/>
                  </a:lnTo>
                  <a:lnTo>
                    <a:pt x="3606" y="75"/>
                  </a:lnTo>
                  <a:lnTo>
                    <a:pt x="3613" y="65"/>
                  </a:lnTo>
                  <a:lnTo>
                    <a:pt x="3620" y="55"/>
                  </a:lnTo>
                  <a:lnTo>
                    <a:pt x="3630" y="41"/>
                  </a:lnTo>
                  <a:lnTo>
                    <a:pt x="3642" y="22"/>
                  </a:lnTo>
                  <a:lnTo>
                    <a:pt x="3658" y="0"/>
                  </a:lnTo>
                </a:path>
              </a:pathLst>
            </a:custGeom>
            <a:noFill/>
            <a:ln cap="rnd" w="25560">
              <a:solidFill>
                <a:srgbClr val="ff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16240" y="2416320"/>
              <a:ext cx="3724200" cy="2813040"/>
            </a:xfrm>
            <a:custGeom>
              <a:avLst/>
              <a:gdLst/>
              <a:ahLst/>
              <a:rect l="l" t="t" r="r" b="b"/>
              <a:pathLst>
                <a:path w="2346" h="1772">
                  <a:moveTo>
                    <a:pt x="0" y="1699"/>
                  </a:moveTo>
                  <a:lnTo>
                    <a:pt x="17" y="1706"/>
                  </a:lnTo>
                  <a:lnTo>
                    <a:pt x="31" y="1711"/>
                  </a:lnTo>
                  <a:lnTo>
                    <a:pt x="43" y="1715"/>
                  </a:lnTo>
                  <a:lnTo>
                    <a:pt x="52" y="1718"/>
                  </a:lnTo>
                  <a:lnTo>
                    <a:pt x="57" y="1721"/>
                  </a:lnTo>
                  <a:lnTo>
                    <a:pt x="63" y="1722"/>
                  </a:lnTo>
                  <a:lnTo>
                    <a:pt x="66" y="1723"/>
                  </a:lnTo>
                  <a:lnTo>
                    <a:pt x="70" y="1723"/>
                  </a:lnTo>
                  <a:lnTo>
                    <a:pt x="71" y="1725"/>
                  </a:lnTo>
                  <a:lnTo>
                    <a:pt x="74" y="1725"/>
                  </a:lnTo>
                  <a:lnTo>
                    <a:pt x="75" y="1727"/>
                  </a:lnTo>
                  <a:lnTo>
                    <a:pt x="79" y="1727"/>
                  </a:lnTo>
                  <a:lnTo>
                    <a:pt x="81" y="1729"/>
                  </a:lnTo>
                  <a:lnTo>
                    <a:pt x="86" y="1730"/>
                  </a:lnTo>
                  <a:lnTo>
                    <a:pt x="93" y="1732"/>
                  </a:lnTo>
                  <a:lnTo>
                    <a:pt x="103" y="1735"/>
                  </a:lnTo>
                  <a:lnTo>
                    <a:pt x="112" y="1739"/>
                  </a:lnTo>
                  <a:lnTo>
                    <a:pt x="123" y="1743"/>
                  </a:lnTo>
                  <a:lnTo>
                    <a:pt x="133" y="1746"/>
                  </a:lnTo>
                  <a:lnTo>
                    <a:pt x="145" y="1749"/>
                  </a:lnTo>
                  <a:lnTo>
                    <a:pt x="157" y="1753"/>
                  </a:lnTo>
                  <a:lnTo>
                    <a:pt x="169" y="1755"/>
                  </a:lnTo>
                  <a:lnTo>
                    <a:pt x="181" y="1759"/>
                  </a:lnTo>
                  <a:lnTo>
                    <a:pt x="194" y="1761"/>
                  </a:lnTo>
                  <a:lnTo>
                    <a:pt x="204" y="1763"/>
                  </a:lnTo>
                  <a:lnTo>
                    <a:pt x="216" y="1765"/>
                  </a:lnTo>
                  <a:lnTo>
                    <a:pt x="226" y="1767"/>
                  </a:lnTo>
                  <a:lnTo>
                    <a:pt x="237" y="1768"/>
                  </a:lnTo>
                  <a:lnTo>
                    <a:pt x="246" y="1770"/>
                  </a:lnTo>
                  <a:lnTo>
                    <a:pt x="256" y="1771"/>
                  </a:lnTo>
                  <a:lnTo>
                    <a:pt x="264" y="1771"/>
                  </a:lnTo>
                  <a:lnTo>
                    <a:pt x="272" y="1771"/>
                  </a:lnTo>
                  <a:lnTo>
                    <a:pt x="277" y="1771"/>
                  </a:lnTo>
                  <a:lnTo>
                    <a:pt x="286" y="1771"/>
                  </a:lnTo>
                  <a:lnTo>
                    <a:pt x="297" y="1771"/>
                  </a:lnTo>
                  <a:lnTo>
                    <a:pt x="309" y="1769"/>
                  </a:lnTo>
                  <a:lnTo>
                    <a:pt x="321" y="1769"/>
                  </a:lnTo>
                  <a:lnTo>
                    <a:pt x="336" y="1768"/>
                  </a:lnTo>
                  <a:lnTo>
                    <a:pt x="350" y="1766"/>
                  </a:lnTo>
                  <a:lnTo>
                    <a:pt x="366" y="1764"/>
                  </a:lnTo>
                  <a:lnTo>
                    <a:pt x="381" y="1763"/>
                  </a:lnTo>
                  <a:lnTo>
                    <a:pt x="397" y="1762"/>
                  </a:lnTo>
                  <a:lnTo>
                    <a:pt x="414" y="1761"/>
                  </a:lnTo>
                  <a:lnTo>
                    <a:pt x="430" y="1758"/>
                  </a:lnTo>
                  <a:lnTo>
                    <a:pt x="446" y="1756"/>
                  </a:lnTo>
                  <a:lnTo>
                    <a:pt x="463" y="1754"/>
                  </a:lnTo>
                  <a:lnTo>
                    <a:pt x="478" y="1753"/>
                  </a:lnTo>
                  <a:lnTo>
                    <a:pt x="494" y="1750"/>
                  </a:lnTo>
                  <a:lnTo>
                    <a:pt x="508" y="1748"/>
                  </a:lnTo>
                  <a:lnTo>
                    <a:pt x="525" y="1745"/>
                  </a:lnTo>
                  <a:lnTo>
                    <a:pt x="543" y="1741"/>
                  </a:lnTo>
                  <a:lnTo>
                    <a:pt x="563" y="1737"/>
                  </a:lnTo>
                  <a:lnTo>
                    <a:pt x="583" y="1731"/>
                  </a:lnTo>
                  <a:lnTo>
                    <a:pt x="603" y="1726"/>
                  </a:lnTo>
                  <a:lnTo>
                    <a:pt x="623" y="1720"/>
                  </a:lnTo>
                  <a:lnTo>
                    <a:pt x="646" y="1713"/>
                  </a:lnTo>
                  <a:lnTo>
                    <a:pt x="666" y="1707"/>
                  </a:lnTo>
                  <a:lnTo>
                    <a:pt x="687" y="1701"/>
                  </a:lnTo>
                  <a:lnTo>
                    <a:pt x="707" y="1693"/>
                  </a:lnTo>
                  <a:lnTo>
                    <a:pt x="727" y="1686"/>
                  </a:lnTo>
                  <a:lnTo>
                    <a:pt x="746" y="1679"/>
                  </a:lnTo>
                  <a:lnTo>
                    <a:pt x="764" y="1671"/>
                  </a:lnTo>
                  <a:lnTo>
                    <a:pt x="780" y="1665"/>
                  </a:lnTo>
                  <a:lnTo>
                    <a:pt x="796" y="1656"/>
                  </a:lnTo>
                  <a:lnTo>
                    <a:pt x="810" y="1650"/>
                  </a:lnTo>
                  <a:lnTo>
                    <a:pt x="827" y="1642"/>
                  </a:lnTo>
                  <a:lnTo>
                    <a:pt x="845" y="1634"/>
                  </a:lnTo>
                  <a:lnTo>
                    <a:pt x="865" y="1625"/>
                  </a:lnTo>
                  <a:lnTo>
                    <a:pt x="885" y="1614"/>
                  </a:lnTo>
                  <a:lnTo>
                    <a:pt x="907" y="1603"/>
                  </a:lnTo>
                  <a:lnTo>
                    <a:pt x="928" y="1593"/>
                  </a:lnTo>
                  <a:lnTo>
                    <a:pt x="952" y="1581"/>
                  </a:lnTo>
                  <a:lnTo>
                    <a:pt x="974" y="1572"/>
                  </a:lnTo>
                  <a:lnTo>
                    <a:pt x="998" y="1560"/>
                  </a:lnTo>
                  <a:lnTo>
                    <a:pt x="1019" y="1550"/>
                  </a:lnTo>
                  <a:lnTo>
                    <a:pt x="1042" y="1538"/>
                  </a:lnTo>
                  <a:lnTo>
                    <a:pt x="1063" y="1528"/>
                  </a:lnTo>
                  <a:lnTo>
                    <a:pt x="1083" y="1518"/>
                  </a:lnTo>
                  <a:lnTo>
                    <a:pt x="1102" y="1509"/>
                  </a:lnTo>
                  <a:lnTo>
                    <a:pt x="1120" y="1499"/>
                  </a:lnTo>
                  <a:lnTo>
                    <a:pt x="1137" y="1492"/>
                  </a:lnTo>
                  <a:lnTo>
                    <a:pt x="1156" y="1482"/>
                  </a:lnTo>
                  <a:lnTo>
                    <a:pt x="1177" y="1470"/>
                  </a:lnTo>
                  <a:lnTo>
                    <a:pt x="1198" y="1459"/>
                  </a:lnTo>
                  <a:lnTo>
                    <a:pt x="1221" y="1445"/>
                  </a:lnTo>
                  <a:lnTo>
                    <a:pt x="1244" y="1432"/>
                  </a:lnTo>
                  <a:lnTo>
                    <a:pt x="1268" y="1418"/>
                  </a:lnTo>
                  <a:lnTo>
                    <a:pt x="1292" y="1403"/>
                  </a:lnTo>
                  <a:lnTo>
                    <a:pt x="1315" y="1390"/>
                  </a:lnTo>
                  <a:lnTo>
                    <a:pt x="1338" y="1375"/>
                  </a:lnTo>
                  <a:lnTo>
                    <a:pt x="1361" y="1360"/>
                  </a:lnTo>
                  <a:lnTo>
                    <a:pt x="1384" y="1346"/>
                  </a:lnTo>
                  <a:lnTo>
                    <a:pt x="1405" y="1333"/>
                  </a:lnTo>
                  <a:lnTo>
                    <a:pt x="1425" y="1318"/>
                  </a:lnTo>
                  <a:lnTo>
                    <a:pt x="1443" y="1305"/>
                  </a:lnTo>
                  <a:lnTo>
                    <a:pt x="1459" y="1293"/>
                  </a:lnTo>
                  <a:lnTo>
                    <a:pt x="1475" y="1281"/>
                  </a:lnTo>
                  <a:lnTo>
                    <a:pt x="1492" y="1268"/>
                  </a:lnTo>
                  <a:lnTo>
                    <a:pt x="1510" y="1253"/>
                  </a:lnTo>
                  <a:lnTo>
                    <a:pt x="1531" y="1236"/>
                  </a:lnTo>
                  <a:lnTo>
                    <a:pt x="1551" y="1220"/>
                  </a:lnTo>
                  <a:lnTo>
                    <a:pt x="1572" y="1203"/>
                  </a:lnTo>
                  <a:lnTo>
                    <a:pt x="1593" y="1184"/>
                  </a:lnTo>
                  <a:lnTo>
                    <a:pt x="1615" y="1165"/>
                  </a:lnTo>
                  <a:lnTo>
                    <a:pt x="1636" y="1146"/>
                  </a:lnTo>
                  <a:lnTo>
                    <a:pt x="1657" y="1129"/>
                  </a:lnTo>
                  <a:lnTo>
                    <a:pt x="1677" y="1110"/>
                  </a:lnTo>
                  <a:lnTo>
                    <a:pt x="1696" y="1092"/>
                  </a:lnTo>
                  <a:lnTo>
                    <a:pt x="1714" y="1076"/>
                  </a:lnTo>
                  <a:lnTo>
                    <a:pt x="1731" y="1059"/>
                  </a:lnTo>
                  <a:lnTo>
                    <a:pt x="1748" y="1044"/>
                  </a:lnTo>
                  <a:lnTo>
                    <a:pt x="1762" y="1029"/>
                  </a:lnTo>
                  <a:lnTo>
                    <a:pt x="1775" y="1015"/>
                  </a:lnTo>
                  <a:lnTo>
                    <a:pt x="1790" y="999"/>
                  </a:lnTo>
                  <a:lnTo>
                    <a:pt x="1806" y="981"/>
                  </a:lnTo>
                  <a:lnTo>
                    <a:pt x="1823" y="962"/>
                  </a:lnTo>
                  <a:lnTo>
                    <a:pt x="1840" y="942"/>
                  </a:lnTo>
                  <a:lnTo>
                    <a:pt x="1860" y="920"/>
                  </a:lnTo>
                  <a:lnTo>
                    <a:pt x="1878" y="898"/>
                  </a:lnTo>
                  <a:lnTo>
                    <a:pt x="1897" y="875"/>
                  </a:lnTo>
                  <a:lnTo>
                    <a:pt x="1914" y="853"/>
                  </a:lnTo>
                  <a:lnTo>
                    <a:pt x="1933" y="830"/>
                  </a:lnTo>
                  <a:lnTo>
                    <a:pt x="1950" y="808"/>
                  </a:lnTo>
                  <a:lnTo>
                    <a:pt x="1969" y="786"/>
                  </a:lnTo>
                  <a:lnTo>
                    <a:pt x="1985" y="766"/>
                  </a:lnTo>
                  <a:lnTo>
                    <a:pt x="2000" y="746"/>
                  </a:lnTo>
                  <a:lnTo>
                    <a:pt x="2014" y="726"/>
                  </a:lnTo>
                  <a:lnTo>
                    <a:pt x="2028" y="708"/>
                  </a:lnTo>
                  <a:lnTo>
                    <a:pt x="2039" y="691"/>
                  </a:lnTo>
                  <a:lnTo>
                    <a:pt x="2051" y="672"/>
                  </a:lnTo>
                  <a:lnTo>
                    <a:pt x="2063" y="652"/>
                  </a:lnTo>
                  <a:lnTo>
                    <a:pt x="2077" y="631"/>
                  </a:lnTo>
                  <a:lnTo>
                    <a:pt x="2089" y="610"/>
                  </a:lnTo>
                  <a:lnTo>
                    <a:pt x="2102" y="587"/>
                  </a:lnTo>
                  <a:lnTo>
                    <a:pt x="2115" y="564"/>
                  </a:lnTo>
                  <a:lnTo>
                    <a:pt x="2129" y="541"/>
                  </a:lnTo>
                  <a:lnTo>
                    <a:pt x="2140" y="520"/>
                  </a:lnTo>
                  <a:lnTo>
                    <a:pt x="2152" y="497"/>
                  </a:lnTo>
                  <a:lnTo>
                    <a:pt x="2162" y="476"/>
                  </a:lnTo>
                  <a:lnTo>
                    <a:pt x="2173" y="455"/>
                  </a:lnTo>
                  <a:lnTo>
                    <a:pt x="2182" y="437"/>
                  </a:lnTo>
                  <a:lnTo>
                    <a:pt x="2191" y="418"/>
                  </a:lnTo>
                  <a:lnTo>
                    <a:pt x="2198" y="402"/>
                  </a:lnTo>
                  <a:lnTo>
                    <a:pt x="2204" y="387"/>
                  </a:lnTo>
                  <a:lnTo>
                    <a:pt x="2209" y="373"/>
                  </a:lnTo>
                  <a:lnTo>
                    <a:pt x="2214" y="358"/>
                  </a:lnTo>
                  <a:lnTo>
                    <a:pt x="2220" y="342"/>
                  </a:lnTo>
                  <a:lnTo>
                    <a:pt x="2226" y="325"/>
                  </a:lnTo>
                  <a:lnTo>
                    <a:pt x="2232" y="307"/>
                  </a:lnTo>
                  <a:lnTo>
                    <a:pt x="2240" y="289"/>
                  </a:lnTo>
                  <a:lnTo>
                    <a:pt x="2246" y="271"/>
                  </a:lnTo>
                  <a:lnTo>
                    <a:pt x="2253" y="251"/>
                  </a:lnTo>
                  <a:lnTo>
                    <a:pt x="2259" y="232"/>
                  </a:lnTo>
                  <a:lnTo>
                    <a:pt x="2265" y="214"/>
                  </a:lnTo>
                  <a:lnTo>
                    <a:pt x="2271" y="198"/>
                  </a:lnTo>
                  <a:lnTo>
                    <a:pt x="2279" y="180"/>
                  </a:lnTo>
                  <a:lnTo>
                    <a:pt x="2283" y="164"/>
                  </a:lnTo>
                  <a:lnTo>
                    <a:pt x="2290" y="148"/>
                  </a:lnTo>
                  <a:lnTo>
                    <a:pt x="2295" y="135"/>
                  </a:lnTo>
                  <a:lnTo>
                    <a:pt x="2300" y="122"/>
                  </a:lnTo>
                  <a:lnTo>
                    <a:pt x="2302" y="112"/>
                  </a:lnTo>
                  <a:lnTo>
                    <a:pt x="2306" y="105"/>
                  </a:lnTo>
                  <a:lnTo>
                    <a:pt x="2307" y="100"/>
                  </a:lnTo>
                  <a:lnTo>
                    <a:pt x="2310" y="95"/>
                  </a:lnTo>
                  <a:lnTo>
                    <a:pt x="2310" y="94"/>
                  </a:lnTo>
                  <a:lnTo>
                    <a:pt x="2311" y="90"/>
                  </a:lnTo>
                  <a:lnTo>
                    <a:pt x="2312" y="87"/>
                  </a:lnTo>
                  <a:lnTo>
                    <a:pt x="2314" y="85"/>
                  </a:lnTo>
                  <a:lnTo>
                    <a:pt x="2314" y="82"/>
                  </a:lnTo>
                  <a:lnTo>
                    <a:pt x="2316" y="78"/>
                  </a:lnTo>
                  <a:lnTo>
                    <a:pt x="2318" y="71"/>
                  </a:lnTo>
                  <a:lnTo>
                    <a:pt x="2321" y="63"/>
                  </a:lnTo>
                  <a:lnTo>
                    <a:pt x="2325" y="53"/>
                  </a:lnTo>
                  <a:lnTo>
                    <a:pt x="2331" y="39"/>
                  </a:lnTo>
                  <a:lnTo>
                    <a:pt x="2336" y="22"/>
                  </a:lnTo>
                  <a:lnTo>
                    <a:pt x="2345" y="0"/>
                  </a:lnTo>
                </a:path>
              </a:pathLst>
            </a:custGeom>
            <a:noFill/>
            <a:ln cap="rnd" w="25560">
              <a:solidFill>
                <a:srgbClr val="ff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556400" y="1876320"/>
              <a:ext cx="6447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i="1" lang="en-US" sz="2600" spc="-1" strike="noStrike">
                  <a:solidFill>
                    <a:srgbClr val="ff0080"/>
                  </a:solidFill>
                  <a:latin typeface="Times New Roman"/>
                </a:rPr>
                <a:t>C/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151680" y="2208240"/>
              <a:ext cx="4777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i="1" lang="en-US" sz="2600" spc="-1" strike="noStrike">
                  <a:solidFill>
                    <a:srgbClr val="ff0080"/>
                  </a:solidFill>
                  <a:latin typeface="Times New Roman"/>
                </a:rPr>
                <a:t>C</a:t>
              </a:r>
              <a:r>
                <a:rPr b="1" i="1" lang="en-US" sz="2600" spc="-1" strike="noStrike" baseline="-25000">
                  <a:solidFill>
                    <a:srgbClr val="ff008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0" name=""/>
          <p:cNvSpPr/>
          <p:nvPr/>
        </p:nvSpPr>
        <p:spPr>
          <a:xfrm>
            <a:off x="228600" y="304920"/>
            <a:ext cx="89154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La curva de oferta es más empinad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en el corto plaz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73600" y="2416320"/>
            <a:ext cx="2166840" cy="2492280"/>
          </a:xfrm>
          <a:custGeom>
            <a:avLst/>
            <a:gdLst/>
            <a:ahLst/>
            <a:rect l="l" t="t" r="r" b="b"/>
            <a:pathLst>
              <a:path w="1365" h="1570">
                <a:moveTo>
                  <a:pt x="0" y="1569"/>
                </a:moveTo>
                <a:lnTo>
                  <a:pt x="12" y="1564"/>
                </a:lnTo>
                <a:lnTo>
                  <a:pt x="22" y="1559"/>
                </a:lnTo>
                <a:lnTo>
                  <a:pt x="31" y="1555"/>
                </a:lnTo>
                <a:lnTo>
                  <a:pt x="39" y="1551"/>
                </a:lnTo>
                <a:lnTo>
                  <a:pt x="45" y="1548"/>
                </a:lnTo>
                <a:lnTo>
                  <a:pt x="52" y="1544"/>
                </a:lnTo>
                <a:lnTo>
                  <a:pt x="57" y="1542"/>
                </a:lnTo>
                <a:lnTo>
                  <a:pt x="64" y="1538"/>
                </a:lnTo>
                <a:lnTo>
                  <a:pt x="68" y="1536"/>
                </a:lnTo>
                <a:lnTo>
                  <a:pt x="75" y="1533"/>
                </a:lnTo>
                <a:lnTo>
                  <a:pt x="82" y="1529"/>
                </a:lnTo>
                <a:lnTo>
                  <a:pt x="90" y="1524"/>
                </a:lnTo>
                <a:lnTo>
                  <a:pt x="99" y="1521"/>
                </a:lnTo>
                <a:lnTo>
                  <a:pt x="110" y="1514"/>
                </a:lnTo>
                <a:lnTo>
                  <a:pt x="123" y="1508"/>
                </a:lnTo>
                <a:lnTo>
                  <a:pt x="139" y="1499"/>
                </a:lnTo>
                <a:lnTo>
                  <a:pt x="156" y="1492"/>
                </a:lnTo>
                <a:lnTo>
                  <a:pt x="175" y="1482"/>
                </a:lnTo>
                <a:lnTo>
                  <a:pt x="196" y="1470"/>
                </a:lnTo>
                <a:lnTo>
                  <a:pt x="217" y="1459"/>
                </a:lnTo>
                <a:lnTo>
                  <a:pt x="240" y="1446"/>
                </a:lnTo>
                <a:lnTo>
                  <a:pt x="263" y="1432"/>
                </a:lnTo>
                <a:lnTo>
                  <a:pt x="286" y="1418"/>
                </a:lnTo>
                <a:lnTo>
                  <a:pt x="311" y="1403"/>
                </a:lnTo>
                <a:lnTo>
                  <a:pt x="334" y="1390"/>
                </a:lnTo>
                <a:lnTo>
                  <a:pt x="357" y="1375"/>
                </a:lnTo>
                <a:lnTo>
                  <a:pt x="380" y="1360"/>
                </a:lnTo>
                <a:lnTo>
                  <a:pt x="403" y="1346"/>
                </a:lnTo>
                <a:lnTo>
                  <a:pt x="424" y="1333"/>
                </a:lnTo>
                <a:lnTo>
                  <a:pt x="444" y="1318"/>
                </a:lnTo>
                <a:lnTo>
                  <a:pt x="462" y="1305"/>
                </a:lnTo>
                <a:lnTo>
                  <a:pt x="478" y="1293"/>
                </a:lnTo>
                <a:lnTo>
                  <a:pt x="494" y="1281"/>
                </a:lnTo>
                <a:lnTo>
                  <a:pt x="511" y="1268"/>
                </a:lnTo>
                <a:lnTo>
                  <a:pt x="529" y="1253"/>
                </a:lnTo>
                <a:lnTo>
                  <a:pt x="550" y="1236"/>
                </a:lnTo>
                <a:lnTo>
                  <a:pt x="570" y="1221"/>
                </a:lnTo>
                <a:lnTo>
                  <a:pt x="591" y="1203"/>
                </a:lnTo>
                <a:lnTo>
                  <a:pt x="612" y="1184"/>
                </a:lnTo>
                <a:lnTo>
                  <a:pt x="634" y="1165"/>
                </a:lnTo>
                <a:lnTo>
                  <a:pt x="655" y="1146"/>
                </a:lnTo>
                <a:lnTo>
                  <a:pt x="676" y="1129"/>
                </a:lnTo>
                <a:lnTo>
                  <a:pt x="696" y="1110"/>
                </a:lnTo>
                <a:lnTo>
                  <a:pt x="715" y="1093"/>
                </a:lnTo>
                <a:lnTo>
                  <a:pt x="733" y="1076"/>
                </a:lnTo>
                <a:lnTo>
                  <a:pt x="750" y="1059"/>
                </a:lnTo>
                <a:lnTo>
                  <a:pt x="767" y="1044"/>
                </a:lnTo>
                <a:lnTo>
                  <a:pt x="781" y="1029"/>
                </a:lnTo>
                <a:lnTo>
                  <a:pt x="794" y="1015"/>
                </a:lnTo>
                <a:lnTo>
                  <a:pt x="809" y="999"/>
                </a:lnTo>
                <a:lnTo>
                  <a:pt x="825" y="981"/>
                </a:lnTo>
                <a:lnTo>
                  <a:pt x="842" y="962"/>
                </a:lnTo>
                <a:lnTo>
                  <a:pt x="859" y="942"/>
                </a:lnTo>
                <a:lnTo>
                  <a:pt x="878" y="920"/>
                </a:lnTo>
                <a:lnTo>
                  <a:pt x="897" y="898"/>
                </a:lnTo>
                <a:lnTo>
                  <a:pt x="916" y="875"/>
                </a:lnTo>
                <a:lnTo>
                  <a:pt x="933" y="853"/>
                </a:lnTo>
                <a:lnTo>
                  <a:pt x="952" y="830"/>
                </a:lnTo>
                <a:lnTo>
                  <a:pt x="969" y="808"/>
                </a:lnTo>
                <a:lnTo>
                  <a:pt x="988" y="786"/>
                </a:lnTo>
                <a:lnTo>
                  <a:pt x="1004" y="766"/>
                </a:lnTo>
                <a:lnTo>
                  <a:pt x="1019" y="746"/>
                </a:lnTo>
                <a:lnTo>
                  <a:pt x="1033" y="726"/>
                </a:lnTo>
                <a:lnTo>
                  <a:pt x="1047" y="708"/>
                </a:lnTo>
                <a:lnTo>
                  <a:pt x="1058" y="691"/>
                </a:lnTo>
                <a:lnTo>
                  <a:pt x="1070" y="672"/>
                </a:lnTo>
                <a:lnTo>
                  <a:pt x="1082" y="652"/>
                </a:lnTo>
                <a:lnTo>
                  <a:pt x="1096" y="631"/>
                </a:lnTo>
                <a:lnTo>
                  <a:pt x="1108" y="610"/>
                </a:lnTo>
                <a:lnTo>
                  <a:pt x="1121" y="587"/>
                </a:lnTo>
                <a:lnTo>
                  <a:pt x="1134" y="564"/>
                </a:lnTo>
                <a:lnTo>
                  <a:pt x="1148" y="541"/>
                </a:lnTo>
                <a:lnTo>
                  <a:pt x="1159" y="520"/>
                </a:lnTo>
                <a:lnTo>
                  <a:pt x="1171" y="497"/>
                </a:lnTo>
                <a:lnTo>
                  <a:pt x="1181" y="476"/>
                </a:lnTo>
                <a:lnTo>
                  <a:pt x="1192" y="455"/>
                </a:lnTo>
                <a:lnTo>
                  <a:pt x="1201" y="437"/>
                </a:lnTo>
                <a:lnTo>
                  <a:pt x="1209" y="418"/>
                </a:lnTo>
                <a:lnTo>
                  <a:pt x="1217" y="402"/>
                </a:lnTo>
                <a:lnTo>
                  <a:pt x="1223" y="387"/>
                </a:lnTo>
                <a:lnTo>
                  <a:pt x="1228" y="373"/>
                </a:lnTo>
                <a:lnTo>
                  <a:pt x="1233" y="358"/>
                </a:lnTo>
                <a:lnTo>
                  <a:pt x="1239" y="342"/>
                </a:lnTo>
                <a:lnTo>
                  <a:pt x="1245" y="325"/>
                </a:lnTo>
                <a:lnTo>
                  <a:pt x="1251" y="307"/>
                </a:lnTo>
                <a:lnTo>
                  <a:pt x="1259" y="289"/>
                </a:lnTo>
                <a:lnTo>
                  <a:pt x="1265" y="271"/>
                </a:lnTo>
                <a:lnTo>
                  <a:pt x="1272" y="251"/>
                </a:lnTo>
                <a:lnTo>
                  <a:pt x="1278" y="232"/>
                </a:lnTo>
                <a:lnTo>
                  <a:pt x="1284" y="214"/>
                </a:lnTo>
                <a:lnTo>
                  <a:pt x="1290" y="198"/>
                </a:lnTo>
                <a:lnTo>
                  <a:pt x="1298" y="180"/>
                </a:lnTo>
                <a:lnTo>
                  <a:pt x="1302" y="164"/>
                </a:lnTo>
                <a:lnTo>
                  <a:pt x="1309" y="148"/>
                </a:lnTo>
                <a:lnTo>
                  <a:pt x="1314" y="135"/>
                </a:lnTo>
                <a:lnTo>
                  <a:pt x="1319" y="122"/>
                </a:lnTo>
                <a:lnTo>
                  <a:pt x="1321" y="112"/>
                </a:lnTo>
                <a:lnTo>
                  <a:pt x="1325" y="105"/>
                </a:lnTo>
                <a:lnTo>
                  <a:pt x="1326" y="100"/>
                </a:lnTo>
                <a:lnTo>
                  <a:pt x="1329" y="95"/>
                </a:lnTo>
                <a:lnTo>
                  <a:pt x="1329" y="94"/>
                </a:lnTo>
                <a:lnTo>
                  <a:pt x="1330" y="90"/>
                </a:lnTo>
                <a:lnTo>
                  <a:pt x="1331" y="87"/>
                </a:lnTo>
                <a:lnTo>
                  <a:pt x="1333" y="85"/>
                </a:lnTo>
                <a:lnTo>
                  <a:pt x="1333" y="82"/>
                </a:lnTo>
                <a:lnTo>
                  <a:pt x="1335" y="78"/>
                </a:lnTo>
                <a:lnTo>
                  <a:pt x="1337" y="71"/>
                </a:lnTo>
                <a:lnTo>
                  <a:pt x="1340" y="63"/>
                </a:lnTo>
                <a:lnTo>
                  <a:pt x="1344" y="53"/>
                </a:lnTo>
                <a:lnTo>
                  <a:pt x="1350" y="39"/>
                </a:lnTo>
                <a:lnTo>
                  <a:pt x="1355" y="22"/>
                </a:lnTo>
                <a:lnTo>
                  <a:pt x="1364" y="0"/>
                </a:lnTo>
              </a:path>
            </a:pathLst>
          </a:custGeom>
          <a:noFill/>
          <a:ln cap="rnd" w="50760">
            <a:solidFill>
              <a:srgbClr val="ff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981680" y="3116160"/>
            <a:ext cx="449280" cy="1473480"/>
          </a:xfrm>
          <a:custGeom>
            <a:avLst/>
            <a:gdLst/>
            <a:ahLst/>
            <a:rect l="l" t="t" r="r" b="b"/>
            <a:pathLst>
              <a:path w="283" h="928">
                <a:moveTo>
                  <a:pt x="282" y="0"/>
                </a:moveTo>
                <a:lnTo>
                  <a:pt x="279" y="22"/>
                </a:lnTo>
                <a:lnTo>
                  <a:pt x="278" y="39"/>
                </a:lnTo>
                <a:lnTo>
                  <a:pt x="276" y="53"/>
                </a:lnTo>
                <a:lnTo>
                  <a:pt x="275" y="63"/>
                </a:lnTo>
                <a:lnTo>
                  <a:pt x="273" y="72"/>
                </a:lnTo>
                <a:lnTo>
                  <a:pt x="273" y="77"/>
                </a:lnTo>
                <a:lnTo>
                  <a:pt x="273" y="82"/>
                </a:lnTo>
                <a:lnTo>
                  <a:pt x="273" y="84"/>
                </a:lnTo>
                <a:lnTo>
                  <a:pt x="272" y="87"/>
                </a:lnTo>
                <a:lnTo>
                  <a:pt x="272" y="90"/>
                </a:lnTo>
                <a:lnTo>
                  <a:pt x="272" y="93"/>
                </a:lnTo>
                <a:lnTo>
                  <a:pt x="272" y="94"/>
                </a:lnTo>
                <a:lnTo>
                  <a:pt x="271" y="100"/>
                </a:lnTo>
                <a:lnTo>
                  <a:pt x="271" y="105"/>
                </a:lnTo>
                <a:lnTo>
                  <a:pt x="269" y="112"/>
                </a:lnTo>
                <a:lnTo>
                  <a:pt x="269" y="123"/>
                </a:lnTo>
                <a:lnTo>
                  <a:pt x="268" y="135"/>
                </a:lnTo>
                <a:lnTo>
                  <a:pt x="266" y="147"/>
                </a:lnTo>
                <a:lnTo>
                  <a:pt x="264" y="162"/>
                </a:lnTo>
                <a:lnTo>
                  <a:pt x="263" y="176"/>
                </a:lnTo>
                <a:lnTo>
                  <a:pt x="262" y="191"/>
                </a:lnTo>
                <a:lnTo>
                  <a:pt x="260" y="206"/>
                </a:lnTo>
                <a:lnTo>
                  <a:pt x="258" y="221"/>
                </a:lnTo>
                <a:lnTo>
                  <a:pt x="257" y="236"/>
                </a:lnTo>
                <a:lnTo>
                  <a:pt x="254" y="250"/>
                </a:lnTo>
                <a:lnTo>
                  <a:pt x="252" y="265"/>
                </a:lnTo>
                <a:lnTo>
                  <a:pt x="250" y="279"/>
                </a:lnTo>
                <a:lnTo>
                  <a:pt x="248" y="291"/>
                </a:lnTo>
                <a:lnTo>
                  <a:pt x="247" y="305"/>
                </a:lnTo>
                <a:lnTo>
                  <a:pt x="245" y="316"/>
                </a:lnTo>
                <a:lnTo>
                  <a:pt x="244" y="326"/>
                </a:lnTo>
                <a:lnTo>
                  <a:pt x="242" y="335"/>
                </a:lnTo>
                <a:lnTo>
                  <a:pt x="240" y="345"/>
                </a:lnTo>
                <a:lnTo>
                  <a:pt x="238" y="356"/>
                </a:lnTo>
                <a:lnTo>
                  <a:pt x="235" y="368"/>
                </a:lnTo>
                <a:lnTo>
                  <a:pt x="233" y="381"/>
                </a:lnTo>
                <a:lnTo>
                  <a:pt x="228" y="396"/>
                </a:lnTo>
                <a:lnTo>
                  <a:pt x="226" y="411"/>
                </a:lnTo>
                <a:lnTo>
                  <a:pt x="221" y="427"/>
                </a:lnTo>
                <a:lnTo>
                  <a:pt x="217" y="442"/>
                </a:lnTo>
                <a:lnTo>
                  <a:pt x="213" y="460"/>
                </a:lnTo>
                <a:lnTo>
                  <a:pt x="208" y="476"/>
                </a:lnTo>
                <a:lnTo>
                  <a:pt x="203" y="493"/>
                </a:lnTo>
                <a:lnTo>
                  <a:pt x="200" y="509"/>
                </a:lnTo>
                <a:lnTo>
                  <a:pt x="195" y="525"/>
                </a:lnTo>
                <a:lnTo>
                  <a:pt x="191" y="541"/>
                </a:lnTo>
                <a:lnTo>
                  <a:pt x="186" y="556"/>
                </a:lnTo>
                <a:lnTo>
                  <a:pt x="182" y="570"/>
                </a:lnTo>
                <a:lnTo>
                  <a:pt x="177" y="585"/>
                </a:lnTo>
                <a:lnTo>
                  <a:pt x="171" y="600"/>
                </a:lnTo>
                <a:lnTo>
                  <a:pt x="165" y="616"/>
                </a:lnTo>
                <a:lnTo>
                  <a:pt x="158" y="633"/>
                </a:lnTo>
                <a:lnTo>
                  <a:pt x="151" y="651"/>
                </a:lnTo>
                <a:lnTo>
                  <a:pt x="144" y="668"/>
                </a:lnTo>
                <a:lnTo>
                  <a:pt x="136" y="686"/>
                </a:lnTo>
                <a:lnTo>
                  <a:pt x="129" y="704"/>
                </a:lnTo>
                <a:lnTo>
                  <a:pt x="120" y="721"/>
                </a:lnTo>
                <a:lnTo>
                  <a:pt x="112" y="739"/>
                </a:lnTo>
                <a:lnTo>
                  <a:pt x="104" y="757"/>
                </a:lnTo>
                <a:lnTo>
                  <a:pt x="96" y="773"/>
                </a:lnTo>
                <a:lnTo>
                  <a:pt x="88" y="788"/>
                </a:lnTo>
                <a:lnTo>
                  <a:pt x="82" y="803"/>
                </a:lnTo>
                <a:lnTo>
                  <a:pt x="75" y="816"/>
                </a:lnTo>
                <a:lnTo>
                  <a:pt x="68" y="826"/>
                </a:lnTo>
                <a:lnTo>
                  <a:pt x="62" y="836"/>
                </a:lnTo>
                <a:lnTo>
                  <a:pt x="58" y="845"/>
                </a:lnTo>
                <a:lnTo>
                  <a:pt x="54" y="852"/>
                </a:lnTo>
                <a:lnTo>
                  <a:pt x="51" y="857"/>
                </a:lnTo>
                <a:lnTo>
                  <a:pt x="47" y="863"/>
                </a:lnTo>
                <a:lnTo>
                  <a:pt x="45" y="867"/>
                </a:lnTo>
                <a:lnTo>
                  <a:pt x="42" y="871"/>
                </a:lnTo>
                <a:lnTo>
                  <a:pt x="41" y="874"/>
                </a:lnTo>
                <a:lnTo>
                  <a:pt x="37" y="879"/>
                </a:lnTo>
                <a:lnTo>
                  <a:pt x="35" y="883"/>
                </a:lnTo>
                <a:lnTo>
                  <a:pt x="31" y="888"/>
                </a:lnTo>
                <a:lnTo>
                  <a:pt x="27" y="893"/>
                </a:lnTo>
                <a:lnTo>
                  <a:pt x="22" y="901"/>
                </a:lnTo>
                <a:lnTo>
                  <a:pt x="15" y="908"/>
                </a:lnTo>
                <a:lnTo>
                  <a:pt x="7" y="917"/>
                </a:lnTo>
                <a:lnTo>
                  <a:pt x="0" y="927"/>
                </a:lnTo>
              </a:path>
            </a:pathLst>
          </a:custGeom>
          <a:noFill/>
          <a:ln cap="rnd" w="50760">
            <a:solidFill>
              <a:srgbClr val="4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146240" y="2211480"/>
            <a:ext cx="4125960" cy="1854000"/>
          </a:xfrm>
          <a:custGeom>
            <a:avLst/>
            <a:gdLst/>
            <a:ahLst/>
            <a:rect l="l" t="t" r="r" b="b"/>
            <a:pathLst>
              <a:path w="2599" h="1168">
                <a:moveTo>
                  <a:pt x="324" y="0"/>
                </a:moveTo>
                <a:lnTo>
                  <a:pt x="261" y="4"/>
                </a:lnTo>
                <a:lnTo>
                  <a:pt x="197" y="8"/>
                </a:lnTo>
                <a:lnTo>
                  <a:pt x="144" y="20"/>
                </a:lnTo>
                <a:lnTo>
                  <a:pt x="96" y="37"/>
                </a:lnTo>
                <a:lnTo>
                  <a:pt x="54" y="57"/>
                </a:lnTo>
                <a:lnTo>
                  <a:pt x="27" y="77"/>
                </a:lnTo>
                <a:lnTo>
                  <a:pt x="6" y="102"/>
                </a:lnTo>
                <a:lnTo>
                  <a:pt x="0" y="127"/>
                </a:lnTo>
                <a:lnTo>
                  <a:pt x="0" y="446"/>
                </a:lnTo>
                <a:lnTo>
                  <a:pt x="0" y="639"/>
                </a:lnTo>
                <a:lnTo>
                  <a:pt x="6" y="663"/>
                </a:lnTo>
                <a:lnTo>
                  <a:pt x="27" y="688"/>
                </a:lnTo>
                <a:lnTo>
                  <a:pt x="54" y="708"/>
                </a:lnTo>
                <a:lnTo>
                  <a:pt x="96" y="729"/>
                </a:lnTo>
                <a:lnTo>
                  <a:pt x="144" y="745"/>
                </a:lnTo>
                <a:lnTo>
                  <a:pt x="197" y="757"/>
                </a:lnTo>
                <a:lnTo>
                  <a:pt x="261" y="761"/>
                </a:lnTo>
                <a:lnTo>
                  <a:pt x="324" y="766"/>
                </a:lnTo>
                <a:lnTo>
                  <a:pt x="1148" y="766"/>
                </a:lnTo>
                <a:lnTo>
                  <a:pt x="2598" y="1167"/>
                </a:lnTo>
                <a:lnTo>
                  <a:pt x="1637" y="766"/>
                </a:lnTo>
                <a:lnTo>
                  <a:pt x="1700" y="761"/>
                </a:lnTo>
                <a:lnTo>
                  <a:pt x="1764" y="757"/>
                </a:lnTo>
                <a:lnTo>
                  <a:pt x="1822" y="745"/>
                </a:lnTo>
                <a:lnTo>
                  <a:pt x="1870" y="729"/>
                </a:lnTo>
                <a:lnTo>
                  <a:pt x="1907" y="708"/>
                </a:lnTo>
                <a:lnTo>
                  <a:pt x="1939" y="688"/>
                </a:lnTo>
                <a:lnTo>
                  <a:pt x="1961" y="663"/>
                </a:lnTo>
                <a:lnTo>
                  <a:pt x="1966" y="639"/>
                </a:lnTo>
                <a:lnTo>
                  <a:pt x="1966" y="446"/>
                </a:lnTo>
                <a:lnTo>
                  <a:pt x="1966" y="127"/>
                </a:lnTo>
                <a:lnTo>
                  <a:pt x="1961" y="102"/>
                </a:lnTo>
                <a:lnTo>
                  <a:pt x="1939" y="77"/>
                </a:lnTo>
                <a:lnTo>
                  <a:pt x="1907" y="57"/>
                </a:lnTo>
                <a:lnTo>
                  <a:pt x="1870" y="37"/>
                </a:lnTo>
                <a:lnTo>
                  <a:pt x="1822" y="20"/>
                </a:lnTo>
                <a:lnTo>
                  <a:pt x="1764" y="8"/>
                </a:lnTo>
                <a:lnTo>
                  <a:pt x="1700" y="4"/>
                </a:lnTo>
                <a:lnTo>
                  <a:pt x="1637" y="0"/>
                </a:lnTo>
                <a:lnTo>
                  <a:pt x="1148" y="0"/>
                </a:lnTo>
                <a:lnTo>
                  <a:pt x="324" y="0"/>
                </a:lnTo>
              </a:path>
            </a:pathLst>
          </a:custGeom>
          <a:solidFill>
            <a:srgbClr val="99ccff"/>
          </a:solidFill>
          <a:ln cap="rnd" w="25560">
            <a:solidFill>
              <a:srgbClr val="00008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360440" y="2316240"/>
            <a:ext cx="2689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rto plaz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715000" y="2878200"/>
            <a:ext cx="3127320" cy="2763720"/>
          </a:xfrm>
          <a:custGeom>
            <a:avLst/>
            <a:gdLst/>
            <a:ahLst/>
            <a:rect l="l" t="t" r="r" b="b"/>
            <a:pathLst>
              <a:path w="1970" h="1741">
                <a:moveTo>
                  <a:pt x="329" y="973"/>
                </a:moveTo>
                <a:lnTo>
                  <a:pt x="205" y="984"/>
                </a:lnTo>
                <a:lnTo>
                  <a:pt x="98" y="1012"/>
                </a:lnTo>
                <a:lnTo>
                  <a:pt x="53" y="1029"/>
                </a:lnTo>
                <a:lnTo>
                  <a:pt x="27" y="1052"/>
                </a:lnTo>
                <a:lnTo>
                  <a:pt x="9" y="1075"/>
                </a:lnTo>
                <a:lnTo>
                  <a:pt x="0" y="1098"/>
                </a:lnTo>
                <a:lnTo>
                  <a:pt x="0" y="1291"/>
                </a:lnTo>
                <a:lnTo>
                  <a:pt x="0" y="1609"/>
                </a:lnTo>
                <a:lnTo>
                  <a:pt x="9" y="1638"/>
                </a:lnTo>
                <a:lnTo>
                  <a:pt x="27" y="1660"/>
                </a:lnTo>
                <a:lnTo>
                  <a:pt x="53" y="1683"/>
                </a:lnTo>
                <a:lnTo>
                  <a:pt x="98" y="1700"/>
                </a:lnTo>
                <a:lnTo>
                  <a:pt x="205" y="1729"/>
                </a:lnTo>
                <a:lnTo>
                  <a:pt x="329" y="1740"/>
                </a:lnTo>
                <a:lnTo>
                  <a:pt x="820" y="1740"/>
                </a:lnTo>
                <a:lnTo>
                  <a:pt x="1639" y="1740"/>
                </a:lnTo>
                <a:lnTo>
                  <a:pt x="1764" y="1729"/>
                </a:lnTo>
                <a:lnTo>
                  <a:pt x="1871" y="1700"/>
                </a:lnTo>
                <a:lnTo>
                  <a:pt x="1916" y="1683"/>
                </a:lnTo>
                <a:lnTo>
                  <a:pt x="1942" y="1660"/>
                </a:lnTo>
                <a:lnTo>
                  <a:pt x="1960" y="1638"/>
                </a:lnTo>
                <a:lnTo>
                  <a:pt x="1969" y="1609"/>
                </a:lnTo>
                <a:lnTo>
                  <a:pt x="1969" y="1291"/>
                </a:lnTo>
                <a:lnTo>
                  <a:pt x="1969" y="1098"/>
                </a:lnTo>
                <a:lnTo>
                  <a:pt x="1960" y="1075"/>
                </a:lnTo>
                <a:lnTo>
                  <a:pt x="1942" y="1052"/>
                </a:lnTo>
                <a:lnTo>
                  <a:pt x="1916" y="1029"/>
                </a:lnTo>
                <a:lnTo>
                  <a:pt x="1871" y="1012"/>
                </a:lnTo>
                <a:lnTo>
                  <a:pt x="1764" y="984"/>
                </a:lnTo>
                <a:lnTo>
                  <a:pt x="1639" y="973"/>
                </a:lnTo>
                <a:lnTo>
                  <a:pt x="820" y="973"/>
                </a:lnTo>
                <a:lnTo>
                  <a:pt x="89" y="0"/>
                </a:lnTo>
                <a:lnTo>
                  <a:pt x="329" y="973"/>
                </a:lnTo>
              </a:path>
            </a:pathLst>
          </a:custGeom>
          <a:solidFill>
            <a:srgbClr val="ffff99"/>
          </a:solidFill>
          <a:ln cap="rnd" w="25560">
            <a:solidFill>
              <a:srgbClr val="8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932440" y="4525920"/>
            <a:ext cx="2689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rgo plaz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/>
          </p:nvPr>
        </p:nvSpPr>
        <p:spPr>
          <a:xfrm>
            <a:off x="1143000" y="228240"/>
            <a:ext cx="699624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ambién lo es la curva de  demanda condicion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2144880" y="1593360"/>
            <a:ext cx="0" cy="478476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170080" y="6378480"/>
            <a:ext cx="586584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00360" y="2465280"/>
            <a:ext cx="1308240" cy="3052800"/>
          </a:xfrm>
          <a:custGeom>
            <a:avLst/>
            <a:gdLst/>
            <a:ahLst/>
            <a:rect l="l" t="t" r="r" b="b"/>
            <a:pathLst>
              <a:path w="824" h="1923">
                <a:moveTo>
                  <a:pt x="0" y="0"/>
                </a:moveTo>
                <a:lnTo>
                  <a:pt x="3" y="34"/>
                </a:lnTo>
                <a:lnTo>
                  <a:pt x="5" y="61"/>
                </a:lnTo>
                <a:lnTo>
                  <a:pt x="7" y="83"/>
                </a:lnTo>
                <a:lnTo>
                  <a:pt x="9" y="100"/>
                </a:lnTo>
                <a:lnTo>
                  <a:pt x="9" y="113"/>
                </a:lnTo>
                <a:lnTo>
                  <a:pt x="11" y="123"/>
                </a:lnTo>
                <a:lnTo>
                  <a:pt x="11" y="131"/>
                </a:lnTo>
                <a:lnTo>
                  <a:pt x="13" y="134"/>
                </a:lnTo>
                <a:lnTo>
                  <a:pt x="13" y="139"/>
                </a:lnTo>
                <a:lnTo>
                  <a:pt x="13" y="143"/>
                </a:lnTo>
                <a:lnTo>
                  <a:pt x="13" y="147"/>
                </a:lnTo>
                <a:lnTo>
                  <a:pt x="15" y="152"/>
                </a:lnTo>
                <a:lnTo>
                  <a:pt x="15" y="159"/>
                </a:lnTo>
                <a:lnTo>
                  <a:pt x="16" y="168"/>
                </a:lnTo>
                <a:lnTo>
                  <a:pt x="17" y="180"/>
                </a:lnTo>
                <a:lnTo>
                  <a:pt x="19" y="196"/>
                </a:lnTo>
                <a:lnTo>
                  <a:pt x="21" y="215"/>
                </a:lnTo>
                <a:lnTo>
                  <a:pt x="23" y="236"/>
                </a:lnTo>
                <a:lnTo>
                  <a:pt x="25" y="260"/>
                </a:lnTo>
                <a:lnTo>
                  <a:pt x="29" y="284"/>
                </a:lnTo>
                <a:lnTo>
                  <a:pt x="33" y="311"/>
                </a:lnTo>
                <a:lnTo>
                  <a:pt x="37" y="337"/>
                </a:lnTo>
                <a:lnTo>
                  <a:pt x="42" y="364"/>
                </a:lnTo>
                <a:lnTo>
                  <a:pt x="46" y="391"/>
                </a:lnTo>
                <a:lnTo>
                  <a:pt x="51" y="419"/>
                </a:lnTo>
                <a:lnTo>
                  <a:pt x="56" y="446"/>
                </a:lnTo>
                <a:lnTo>
                  <a:pt x="61" y="473"/>
                </a:lnTo>
                <a:lnTo>
                  <a:pt x="66" y="498"/>
                </a:lnTo>
                <a:lnTo>
                  <a:pt x="71" y="524"/>
                </a:lnTo>
                <a:lnTo>
                  <a:pt x="76" y="546"/>
                </a:lnTo>
                <a:lnTo>
                  <a:pt x="81" y="568"/>
                </a:lnTo>
                <a:lnTo>
                  <a:pt x="86" y="587"/>
                </a:lnTo>
                <a:lnTo>
                  <a:pt x="91" y="607"/>
                </a:lnTo>
                <a:lnTo>
                  <a:pt x="97" y="628"/>
                </a:lnTo>
                <a:lnTo>
                  <a:pt x="104" y="652"/>
                </a:lnTo>
                <a:lnTo>
                  <a:pt x="113" y="676"/>
                </a:lnTo>
                <a:lnTo>
                  <a:pt x="121" y="703"/>
                </a:lnTo>
                <a:lnTo>
                  <a:pt x="130" y="730"/>
                </a:lnTo>
                <a:lnTo>
                  <a:pt x="139" y="758"/>
                </a:lnTo>
                <a:lnTo>
                  <a:pt x="149" y="785"/>
                </a:lnTo>
                <a:lnTo>
                  <a:pt x="158" y="812"/>
                </a:lnTo>
                <a:lnTo>
                  <a:pt x="168" y="841"/>
                </a:lnTo>
                <a:lnTo>
                  <a:pt x="179" y="868"/>
                </a:lnTo>
                <a:lnTo>
                  <a:pt x="189" y="894"/>
                </a:lnTo>
                <a:lnTo>
                  <a:pt x="198" y="919"/>
                </a:lnTo>
                <a:lnTo>
                  <a:pt x="208" y="942"/>
                </a:lnTo>
                <a:lnTo>
                  <a:pt x="217" y="965"/>
                </a:lnTo>
                <a:lnTo>
                  <a:pt x="227" y="984"/>
                </a:lnTo>
                <a:lnTo>
                  <a:pt x="236" y="1006"/>
                </a:lnTo>
                <a:lnTo>
                  <a:pt x="247" y="1029"/>
                </a:lnTo>
                <a:lnTo>
                  <a:pt x="259" y="1054"/>
                </a:lnTo>
                <a:lnTo>
                  <a:pt x="273" y="1081"/>
                </a:lnTo>
                <a:lnTo>
                  <a:pt x="286" y="1111"/>
                </a:lnTo>
                <a:lnTo>
                  <a:pt x="301" y="1141"/>
                </a:lnTo>
                <a:lnTo>
                  <a:pt x="317" y="1174"/>
                </a:lnTo>
                <a:lnTo>
                  <a:pt x="335" y="1206"/>
                </a:lnTo>
                <a:lnTo>
                  <a:pt x="350" y="1240"/>
                </a:lnTo>
                <a:lnTo>
                  <a:pt x="367" y="1273"/>
                </a:lnTo>
                <a:lnTo>
                  <a:pt x="383" y="1306"/>
                </a:lnTo>
                <a:lnTo>
                  <a:pt x="400" y="1337"/>
                </a:lnTo>
                <a:lnTo>
                  <a:pt x="416" y="1370"/>
                </a:lnTo>
                <a:lnTo>
                  <a:pt x="432" y="1399"/>
                </a:lnTo>
                <a:lnTo>
                  <a:pt x="446" y="1428"/>
                </a:lnTo>
                <a:lnTo>
                  <a:pt x="460" y="1454"/>
                </a:lnTo>
                <a:lnTo>
                  <a:pt x="474" y="1480"/>
                </a:lnTo>
                <a:lnTo>
                  <a:pt x="488" y="1507"/>
                </a:lnTo>
                <a:lnTo>
                  <a:pt x="504" y="1534"/>
                </a:lnTo>
                <a:lnTo>
                  <a:pt x="521" y="1560"/>
                </a:lnTo>
                <a:lnTo>
                  <a:pt x="538" y="1588"/>
                </a:lnTo>
                <a:lnTo>
                  <a:pt x="556" y="1616"/>
                </a:lnTo>
                <a:lnTo>
                  <a:pt x="573" y="1642"/>
                </a:lnTo>
                <a:lnTo>
                  <a:pt x="591" y="1669"/>
                </a:lnTo>
                <a:lnTo>
                  <a:pt x="608" y="1695"/>
                </a:lnTo>
                <a:lnTo>
                  <a:pt x="627" y="1718"/>
                </a:lnTo>
                <a:lnTo>
                  <a:pt x="643" y="1741"/>
                </a:lnTo>
                <a:lnTo>
                  <a:pt x="659" y="1762"/>
                </a:lnTo>
                <a:lnTo>
                  <a:pt x="673" y="1781"/>
                </a:lnTo>
                <a:lnTo>
                  <a:pt x="688" y="1798"/>
                </a:lnTo>
                <a:lnTo>
                  <a:pt x="700" y="1812"/>
                </a:lnTo>
                <a:lnTo>
                  <a:pt x="712" y="1822"/>
                </a:lnTo>
                <a:lnTo>
                  <a:pt x="721" y="1831"/>
                </a:lnTo>
                <a:lnTo>
                  <a:pt x="728" y="1837"/>
                </a:lnTo>
                <a:lnTo>
                  <a:pt x="732" y="1842"/>
                </a:lnTo>
                <a:lnTo>
                  <a:pt x="737" y="1844"/>
                </a:lnTo>
                <a:lnTo>
                  <a:pt x="739" y="1847"/>
                </a:lnTo>
                <a:lnTo>
                  <a:pt x="741" y="1849"/>
                </a:lnTo>
                <a:lnTo>
                  <a:pt x="743" y="1852"/>
                </a:lnTo>
                <a:lnTo>
                  <a:pt x="747" y="1852"/>
                </a:lnTo>
                <a:lnTo>
                  <a:pt x="749" y="1856"/>
                </a:lnTo>
                <a:lnTo>
                  <a:pt x="753" y="1860"/>
                </a:lnTo>
                <a:lnTo>
                  <a:pt x="759" y="1866"/>
                </a:lnTo>
                <a:lnTo>
                  <a:pt x="767" y="1872"/>
                </a:lnTo>
                <a:lnTo>
                  <a:pt x="776" y="1881"/>
                </a:lnTo>
                <a:lnTo>
                  <a:pt x="788" y="1892"/>
                </a:lnTo>
                <a:lnTo>
                  <a:pt x="803" y="1905"/>
                </a:lnTo>
                <a:lnTo>
                  <a:pt x="823" y="1922"/>
                </a:lnTo>
              </a:path>
            </a:pathLst>
          </a:custGeom>
          <a:noFill/>
          <a:ln cap="rnd" w="25560">
            <a:solidFill>
              <a:srgbClr val="8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767040" y="2416320"/>
            <a:ext cx="1332000" cy="3727440"/>
          </a:xfrm>
          <a:custGeom>
            <a:avLst/>
            <a:gdLst/>
            <a:ahLst/>
            <a:rect l="l" t="t" r="r" b="b"/>
            <a:pathLst>
              <a:path w="839" h="2348">
                <a:moveTo>
                  <a:pt x="2" y="0"/>
                </a:moveTo>
                <a:lnTo>
                  <a:pt x="1" y="40"/>
                </a:lnTo>
                <a:lnTo>
                  <a:pt x="1" y="72"/>
                </a:lnTo>
                <a:lnTo>
                  <a:pt x="1" y="99"/>
                </a:lnTo>
                <a:lnTo>
                  <a:pt x="1" y="118"/>
                </a:lnTo>
                <a:lnTo>
                  <a:pt x="1" y="134"/>
                </a:lnTo>
                <a:lnTo>
                  <a:pt x="1" y="146"/>
                </a:lnTo>
                <a:lnTo>
                  <a:pt x="1" y="154"/>
                </a:lnTo>
                <a:lnTo>
                  <a:pt x="1" y="160"/>
                </a:lnTo>
                <a:lnTo>
                  <a:pt x="0" y="165"/>
                </a:lnTo>
                <a:lnTo>
                  <a:pt x="0" y="169"/>
                </a:lnTo>
                <a:lnTo>
                  <a:pt x="0" y="174"/>
                </a:lnTo>
                <a:lnTo>
                  <a:pt x="0" y="180"/>
                </a:lnTo>
                <a:lnTo>
                  <a:pt x="0" y="188"/>
                </a:lnTo>
                <a:lnTo>
                  <a:pt x="0" y="199"/>
                </a:lnTo>
                <a:lnTo>
                  <a:pt x="0" y="214"/>
                </a:lnTo>
                <a:lnTo>
                  <a:pt x="0" y="232"/>
                </a:lnTo>
                <a:lnTo>
                  <a:pt x="0" y="256"/>
                </a:lnTo>
                <a:lnTo>
                  <a:pt x="0" y="281"/>
                </a:lnTo>
                <a:lnTo>
                  <a:pt x="1" y="309"/>
                </a:lnTo>
                <a:lnTo>
                  <a:pt x="2" y="338"/>
                </a:lnTo>
                <a:lnTo>
                  <a:pt x="4" y="369"/>
                </a:lnTo>
                <a:lnTo>
                  <a:pt x="5" y="401"/>
                </a:lnTo>
                <a:lnTo>
                  <a:pt x="7" y="433"/>
                </a:lnTo>
                <a:lnTo>
                  <a:pt x="11" y="465"/>
                </a:lnTo>
                <a:lnTo>
                  <a:pt x="13" y="498"/>
                </a:lnTo>
                <a:lnTo>
                  <a:pt x="16" y="531"/>
                </a:lnTo>
                <a:lnTo>
                  <a:pt x="19" y="563"/>
                </a:lnTo>
                <a:lnTo>
                  <a:pt x="23" y="593"/>
                </a:lnTo>
                <a:lnTo>
                  <a:pt x="26" y="624"/>
                </a:lnTo>
                <a:lnTo>
                  <a:pt x="29" y="650"/>
                </a:lnTo>
                <a:lnTo>
                  <a:pt x="33" y="677"/>
                </a:lnTo>
                <a:lnTo>
                  <a:pt x="38" y="699"/>
                </a:lnTo>
                <a:lnTo>
                  <a:pt x="42" y="723"/>
                </a:lnTo>
                <a:lnTo>
                  <a:pt x="47" y="748"/>
                </a:lnTo>
                <a:lnTo>
                  <a:pt x="54" y="777"/>
                </a:lnTo>
                <a:lnTo>
                  <a:pt x="61" y="807"/>
                </a:lnTo>
                <a:lnTo>
                  <a:pt x="67" y="839"/>
                </a:lnTo>
                <a:lnTo>
                  <a:pt x="76" y="871"/>
                </a:lnTo>
                <a:lnTo>
                  <a:pt x="85" y="904"/>
                </a:lnTo>
                <a:lnTo>
                  <a:pt x="95" y="938"/>
                </a:lnTo>
                <a:lnTo>
                  <a:pt x="104" y="972"/>
                </a:lnTo>
                <a:lnTo>
                  <a:pt x="114" y="1006"/>
                </a:lnTo>
                <a:lnTo>
                  <a:pt x="124" y="1039"/>
                </a:lnTo>
                <a:lnTo>
                  <a:pt x="134" y="1070"/>
                </a:lnTo>
                <a:lnTo>
                  <a:pt x="143" y="1102"/>
                </a:lnTo>
                <a:lnTo>
                  <a:pt x="153" y="1130"/>
                </a:lnTo>
                <a:lnTo>
                  <a:pt x="162" y="1158"/>
                </a:lnTo>
                <a:lnTo>
                  <a:pt x="172" y="1182"/>
                </a:lnTo>
                <a:lnTo>
                  <a:pt x="181" y="1207"/>
                </a:lnTo>
                <a:lnTo>
                  <a:pt x="193" y="1235"/>
                </a:lnTo>
                <a:lnTo>
                  <a:pt x="205" y="1266"/>
                </a:lnTo>
                <a:lnTo>
                  <a:pt x="220" y="1300"/>
                </a:lnTo>
                <a:lnTo>
                  <a:pt x="235" y="1337"/>
                </a:lnTo>
                <a:lnTo>
                  <a:pt x="251" y="1375"/>
                </a:lnTo>
                <a:lnTo>
                  <a:pt x="267" y="1414"/>
                </a:lnTo>
                <a:lnTo>
                  <a:pt x="285" y="1453"/>
                </a:lnTo>
                <a:lnTo>
                  <a:pt x="302" y="1495"/>
                </a:lnTo>
                <a:lnTo>
                  <a:pt x="320" y="1535"/>
                </a:lnTo>
                <a:lnTo>
                  <a:pt x="337" y="1576"/>
                </a:lnTo>
                <a:lnTo>
                  <a:pt x="355" y="1616"/>
                </a:lnTo>
                <a:lnTo>
                  <a:pt x="372" y="1654"/>
                </a:lnTo>
                <a:lnTo>
                  <a:pt x="389" y="1691"/>
                </a:lnTo>
                <a:lnTo>
                  <a:pt x="404" y="1725"/>
                </a:lnTo>
                <a:lnTo>
                  <a:pt x="419" y="1757"/>
                </a:lnTo>
                <a:lnTo>
                  <a:pt x="434" y="1789"/>
                </a:lnTo>
                <a:lnTo>
                  <a:pt x="450" y="1822"/>
                </a:lnTo>
                <a:lnTo>
                  <a:pt x="467" y="1856"/>
                </a:lnTo>
                <a:lnTo>
                  <a:pt x="485" y="1889"/>
                </a:lnTo>
                <a:lnTo>
                  <a:pt x="504" y="1924"/>
                </a:lnTo>
                <a:lnTo>
                  <a:pt x="524" y="1958"/>
                </a:lnTo>
                <a:lnTo>
                  <a:pt x="544" y="1992"/>
                </a:lnTo>
                <a:lnTo>
                  <a:pt x="564" y="2023"/>
                </a:lnTo>
                <a:lnTo>
                  <a:pt x="584" y="2056"/>
                </a:lnTo>
                <a:lnTo>
                  <a:pt x="604" y="2087"/>
                </a:lnTo>
                <a:lnTo>
                  <a:pt x="622" y="2116"/>
                </a:lnTo>
                <a:lnTo>
                  <a:pt x="642" y="2141"/>
                </a:lnTo>
                <a:lnTo>
                  <a:pt x="658" y="2165"/>
                </a:lnTo>
                <a:lnTo>
                  <a:pt x="675" y="2186"/>
                </a:lnTo>
                <a:lnTo>
                  <a:pt x="691" y="2203"/>
                </a:lnTo>
                <a:lnTo>
                  <a:pt x="704" y="2217"/>
                </a:lnTo>
                <a:lnTo>
                  <a:pt x="714" y="2228"/>
                </a:lnTo>
                <a:lnTo>
                  <a:pt x="724" y="2237"/>
                </a:lnTo>
                <a:lnTo>
                  <a:pt x="729" y="2243"/>
                </a:lnTo>
                <a:lnTo>
                  <a:pt x="734" y="2247"/>
                </a:lnTo>
                <a:lnTo>
                  <a:pt x="736" y="2251"/>
                </a:lnTo>
                <a:lnTo>
                  <a:pt x="740" y="2253"/>
                </a:lnTo>
                <a:lnTo>
                  <a:pt x="743" y="2256"/>
                </a:lnTo>
                <a:lnTo>
                  <a:pt x="745" y="2258"/>
                </a:lnTo>
                <a:lnTo>
                  <a:pt x="749" y="2262"/>
                </a:lnTo>
                <a:lnTo>
                  <a:pt x="754" y="2267"/>
                </a:lnTo>
                <a:lnTo>
                  <a:pt x="760" y="2273"/>
                </a:lnTo>
                <a:lnTo>
                  <a:pt x="770" y="2281"/>
                </a:lnTo>
                <a:lnTo>
                  <a:pt x="781" y="2293"/>
                </a:lnTo>
                <a:lnTo>
                  <a:pt x="796" y="2307"/>
                </a:lnTo>
                <a:lnTo>
                  <a:pt x="815" y="2326"/>
                </a:lnTo>
                <a:lnTo>
                  <a:pt x="838" y="2347"/>
                </a:lnTo>
              </a:path>
            </a:pathLst>
          </a:custGeom>
          <a:noFill/>
          <a:ln cap="rnd" w="50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952880" y="5486400"/>
            <a:ext cx="465300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s-ES_tradnl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5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5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5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5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Q ,</a:t>
            </a:r>
            <a:r>
              <a:rPr b="0" lang="es-ES_tradnl" sz="5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5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50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410080" y="5334120"/>
            <a:ext cx="289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180280" y="6102360"/>
            <a:ext cx="162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350200" y="6357960"/>
            <a:ext cx="986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431200" y="6093000"/>
            <a:ext cx="60156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306520" y="1508040"/>
            <a:ext cx="2415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541600" y="1762200"/>
            <a:ext cx="9828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624040" y="1498680"/>
            <a:ext cx="67010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278080" y="2459160"/>
            <a:ext cx="1482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92680" y="1676520"/>
            <a:ext cx="3806640" cy="1619280"/>
          </a:xfrm>
          <a:custGeom>
            <a:avLst/>
            <a:gdLst/>
            <a:ahLst/>
            <a:rect l="l" t="t" r="r" b="b"/>
            <a:pathLst>
              <a:path w="2398" h="1020">
                <a:moveTo>
                  <a:pt x="752" y="0"/>
                </a:moveTo>
                <a:lnTo>
                  <a:pt x="690" y="3"/>
                </a:lnTo>
                <a:lnTo>
                  <a:pt x="628" y="10"/>
                </a:lnTo>
                <a:lnTo>
                  <a:pt x="574" y="23"/>
                </a:lnTo>
                <a:lnTo>
                  <a:pt x="519" y="36"/>
                </a:lnTo>
                <a:lnTo>
                  <a:pt x="481" y="56"/>
                </a:lnTo>
                <a:lnTo>
                  <a:pt x="450" y="79"/>
                </a:lnTo>
                <a:lnTo>
                  <a:pt x="434" y="103"/>
                </a:lnTo>
                <a:lnTo>
                  <a:pt x="426" y="129"/>
                </a:lnTo>
                <a:lnTo>
                  <a:pt x="426" y="448"/>
                </a:lnTo>
                <a:lnTo>
                  <a:pt x="426" y="641"/>
                </a:lnTo>
                <a:lnTo>
                  <a:pt x="434" y="667"/>
                </a:lnTo>
                <a:lnTo>
                  <a:pt x="450" y="690"/>
                </a:lnTo>
                <a:lnTo>
                  <a:pt x="481" y="710"/>
                </a:lnTo>
                <a:lnTo>
                  <a:pt x="519" y="730"/>
                </a:lnTo>
                <a:lnTo>
                  <a:pt x="574" y="747"/>
                </a:lnTo>
                <a:lnTo>
                  <a:pt x="628" y="757"/>
                </a:lnTo>
                <a:lnTo>
                  <a:pt x="690" y="763"/>
                </a:lnTo>
                <a:lnTo>
                  <a:pt x="752" y="767"/>
                </a:lnTo>
                <a:lnTo>
                  <a:pt x="0" y="1019"/>
                </a:lnTo>
                <a:lnTo>
                  <a:pt x="1249" y="767"/>
                </a:lnTo>
                <a:lnTo>
                  <a:pt x="2071" y="767"/>
                </a:lnTo>
                <a:lnTo>
                  <a:pt x="2133" y="763"/>
                </a:lnTo>
                <a:lnTo>
                  <a:pt x="2195" y="757"/>
                </a:lnTo>
                <a:lnTo>
                  <a:pt x="2250" y="747"/>
                </a:lnTo>
                <a:lnTo>
                  <a:pt x="2304" y="730"/>
                </a:lnTo>
                <a:lnTo>
                  <a:pt x="2343" y="710"/>
                </a:lnTo>
                <a:lnTo>
                  <a:pt x="2374" y="690"/>
                </a:lnTo>
                <a:lnTo>
                  <a:pt x="2389" y="667"/>
                </a:lnTo>
                <a:lnTo>
                  <a:pt x="2397" y="641"/>
                </a:lnTo>
                <a:lnTo>
                  <a:pt x="2397" y="448"/>
                </a:lnTo>
                <a:lnTo>
                  <a:pt x="2397" y="129"/>
                </a:lnTo>
                <a:lnTo>
                  <a:pt x="2389" y="103"/>
                </a:lnTo>
                <a:lnTo>
                  <a:pt x="2374" y="79"/>
                </a:lnTo>
                <a:lnTo>
                  <a:pt x="2343" y="56"/>
                </a:lnTo>
                <a:lnTo>
                  <a:pt x="2304" y="36"/>
                </a:lnTo>
                <a:lnTo>
                  <a:pt x="2250" y="23"/>
                </a:lnTo>
                <a:lnTo>
                  <a:pt x="2195" y="10"/>
                </a:lnTo>
                <a:lnTo>
                  <a:pt x="2133" y="3"/>
                </a:lnTo>
                <a:lnTo>
                  <a:pt x="2071" y="0"/>
                </a:lnTo>
                <a:lnTo>
                  <a:pt x="1249" y="0"/>
                </a:lnTo>
                <a:lnTo>
                  <a:pt x="752" y="0"/>
                </a:lnTo>
              </a:path>
            </a:pathLst>
          </a:custGeom>
          <a:solidFill>
            <a:srgbClr val="99ccff"/>
          </a:solidFill>
          <a:ln cap="rnd" w="25560">
            <a:solidFill>
              <a:srgbClr val="00008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789440" y="1782720"/>
            <a:ext cx="2689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rto plaz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76200" y="3033720"/>
            <a:ext cx="3195720" cy="1471680"/>
          </a:xfrm>
          <a:custGeom>
            <a:avLst/>
            <a:gdLst/>
            <a:ahLst/>
            <a:rect l="l" t="t" r="r" b="b"/>
            <a:pathLst>
              <a:path w="2013" h="927">
                <a:moveTo>
                  <a:pt x="5" y="785"/>
                </a:moveTo>
                <a:lnTo>
                  <a:pt x="10" y="814"/>
                </a:lnTo>
                <a:lnTo>
                  <a:pt x="26" y="841"/>
                </a:lnTo>
                <a:lnTo>
                  <a:pt x="48" y="865"/>
                </a:lnTo>
                <a:lnTo>
                  <a:pt x="75" y="885"/>
                </a:lnTo>
                <a:lnTo>
                  <a:pt x="113" y="903"/>
                </a:lnTo>
                <a:lnTo>
                  <a:pt x="150" y="916"/>
                </a:lnTo>
                <a:lnTo>
                  <a:pt x="199" y="923"/>
                </a:lnTo>
                <a:lnTo>
                  <a:pt x="248" y="926"/>
                </a:lnTo>
                <a:lnTo>
                  <a:pt x="852" y="921"/>
                </a:lnTo>
                <a:lnTo>
                  <a:pt x="1211" y="918"/>
                </a:lnTo>
                <a:lnTo>
                  <a:pt x="1260" y="915"/>
                </a:lnTo>
                <a:lnTo>
                  <a:pt x="1309" y="907"/>
                </a:lnTo>
                <a:lnTo>
                  <a:pt x="1346" y="893"/>
                </a:lnTo>
                <a:lnTo>
                  <a:pt x="1384" y="874"/>
                </a:lnTo>
                <a:lnTo>
                  <a:pt x="1410" y="854"/>
                </a:lnTo>
                <a:lnTo>
                  <a:pt x="1438" y="829"/>
                </a:lnTo>
                <a:lnTo>
                  <a:pt x="1447" y="802"/>
                </a:lnTo>
                <a:lnTo>
                  <a:pt x="1453" y="773"/>
                </a:lnTo>
                <a:lnTo>
                  <a:pt x="1450" y="415"/>
                </a:lnTo>
                <a:lnTo>
                  <a:pt x="2012" y="0"/>
                </a:lnTo>
                <a:lnTo>
                  <a:pt x="1448" y="201"/>
                </a:lnTo>
                <a:lnTo>
                  <a:pt x="1442" y="173"/>
                </a:lnTo>
                <a:lnTo>
                  <a:pt x="1432" y="145"/>
                </a:lnTo>
                <a:lnTo>
                  <a:pt x="1404" y="121"/>
                </a:lnTo>
                <a:lnTo>
                  <a:pt x="1378" y="100"/>
                </a:lnTo>
                <a:lnTo>
                  <a:pt x="1340" y="83"/>
                </a:lnTo>
                <a:lnTo>
                  <a:pt x="1302" y="70"/>
                </a:lnTo>
                <a:lnTo>
                  <a:pt x="1253" y="63"/>
                </a:lnTo>
                <a:lnTo>
                  <a:pt x="1204" y="60"/>
                </a:lnTo>
                <a:lnTo>
                  <a:pt x="845" y="63"/>
                </a:lnTo>
                <a:lnTo>
                  <a:pt x="241" y="68"/>
                </a:lnTo>
                <a:lnTo>
                  <a:pt x="193" y="71"/>
                </a:lnTo>
                <a:lnTo>
                  <a:pt x="144" y="79"/>
                </a:lnTo>
                <a:lnTo>
                  <a:pt x="106" y="93"/>
                </a:lnTo>
                <a:lnTo>
                  <a:pt x="69" y="111"/>
                </a:lnTo>
                <a:lnTo>
                  <a:pt x="43" y="132"/>
                </a:lnTo>
                <a:lnTo>
                  <a:pt x="20" y="157"/>
                </a:lnTo>
                <a:lnTo>
                  <a:pt x="5" y="184"/>
                </a:lnTo>
                <a:lnTo>
                  <a:pt x="0" y="213"/>
                </a:lnTo>
                <a:lnTo>
                  <a:pt x="2" y="426"/>
                </a:lnTo>
                <a:lnTo>
                  <a:pt x="5" y="785"/>
                </a:lnTo>
              </a:path>
            </a:pathLst>
          </a:custGeom>
          <a:solidFill>
            <a:srgbClr val="ffff99"/>
          </a:solidFill>
          <a:ln cap="rnd" w="25560">
            <a:solidFill>
              <a:srgbClr val="8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3352680"/>
            <a:ext cx="2689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r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z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/>
          </p:nvPr>
        </p:nvSpPr>
        <p:spPr>
          <a:xfrm>
            <a:off x="549360" y="914040"/>
            <a:ext cx="859464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ted debe recordar est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919240" y="3236760"/>
            <a:ext cx="2625840" cy="1009800"/>
          </a:xfrm>
          <a:custGeom>
            <a:avLst/>
            <a:gdLst/>
            <a:ahLst/>
            <a:rect l="l" t="t" r="r" b="b"/>
            <a:pathLst>
              <a:path w="1654" h="636">
                <a:moveTo>
                  <a:pt x="0" y="635"/>
                </a:moveTo>
                <a:lnTo>
                  <a:pt x="0" y="0"/>
                </a:lnTo>
                <a:lnTo>
                  <a:pt x="1653" y="0"/>
                </a:lnTo>
                <a:lnTo>
                  <a:pt x="1653" y="635"/>
                </a:lnTo>
                <a:lnTo>
                  <a:pt x="0" y="635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919240" y="2827440"/>
            <a:ext cx="3508560" cy="411120"/>
          </a:xfrm>
          <a:custGeom>
            <a:avLst/>
            <a:gdLst/>
            <a:ahLst/>
            <a:rect l="l" t="t" r="r" b="b"/>
            <a:pathLst>
              <a:path w="2210" h="259">
                <a:moveTo>
                  <a:pt x="0" y="258"/>
                </a:moveTo>
                <a:lnTo>
                  <a:pt x="926" y="0"/>
                </a:lnTo>
                <a:lnTo>
                  <a:pt x="2209" y="2"/>
                </a:lnTo>
                <a:lnTo>
                  <a:pt x="1653" y="258"/>
                </a:lnTo>
                <a:lnTo>
                  <a:pt x="0" y="25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543640" y="2830680"/>
            <a:ext cx="884160" cy="1415880"/>
          </a:xfrm>
          <a:custGeom>
            <a:avLst/>
            <a:gdLst/>
            <a:ahLst/>
            <a:rect l="l" t="t" r="r" b="b"/>
            <a:pathLst>
              <a:path w="557" h="892">
                <a:moveTo>
                  <a:pt x="0" y="891"/>
                </a:moveTo>
                <a:lnTo>
                  <a:pt x="553" y="520"/>
                </a:lnTo>
                <a:lnTo>
                  <a:pt x="556" y="0"/>
                </a:lnTo>
                <a:lnTo>
                  <a:pt x="0" y="256"/>
                </a:lnTo>
                <a:lnTo>
                  <a:pt x="0" y="891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645000" y="3666960"/>
            <a:ext cx="1460520" cy="447840"/>
          </a:xfrm>
          <a:prstGeom prst="rect">
            <a:avLst/>
          </a:prstGeom>
          <a:solidFill>
            <a:srgbClr val="ffffc2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A FIRM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82440" y="2976480"/>
            <a:ext cx="8288280" cy="833400"/>
            <a:chOff x="82440" y="2976480"/>
            <a:chExt cx="8288280" cy="833400"/>
          </a:xfrm>
        </p:grpSpPr>
        <p:sp>
          <p:nvSpPr>
            <p:cNvPr id="991" name=""/>
            <p:cNvSpPr/>
            <p:nvPr/>
          </p:nvSpPr>
          <p:spPr>
            <a:xfrm>
              <a:off x="82440" y="2976480"/>
              <a:ext cx="2803680" cy="279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645160" y="3514680"/>
              <a:ext cx="2725560" cy="29520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 rot="300000">
            <a:off x="674280" y="2590920"/>
            <a:ext cx="8469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Arial"/>
              </a:rPr>
              <a:t>Relaciones funcionales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946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aciones funcional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318240" y="5568840"/>
            <a:ext cx="8218440" cy="897120"/>
          </a:xfrm>
          <a:prstGeom prst="roundRect">
            <a:avLst>
              <a:gd name="adj" fmla="val 6208"/>
            </a:avLst>
          </a:prstGeom>
          <a:solidFill>
            <a:srgbClr val="ffffc2"/>
          </a:solidFill>
          <a:ln w="12600">
            <a:solidFill>
              <a:srgbClr val="810000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625760" y="5761080"/>
            <a:ext cx="52005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3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i="1" lang="es-ES_tradnl" sz="38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s-ES_tradnl" sz="3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s-ES_tradnl" sz="3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s-ES_tradnl" sz="3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s-ES_tradnl" sz="3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s-ES_tradnl" sz="3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s-ES_tradnl" sz="3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s-ES_tradnl" sz="3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s-ES_tradnl" sz="3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s-ES_tradnl" sz="3800" spc="-1" strike="noStrike">
                <a:solidFill>
                  <a:srgbClr val="ff0000"/>
                </a:solidFill>
                <a:latin typeface="Times New Roman"/>
              </a:rPr>
              <a:t>)) = </a:t>
            </a:r>
            <a:r>
              <a:rPr b="0" i="1" lang="es-ES_tradnl" sz="3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s-ES_tradnl" sz="38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s-ES_tradnl" sz="3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s-ES_tradnl" sz="3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s-ES_tradnl" sz="3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s-ES_tradnl" sz="3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s-ES_tradnl" sz="3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s-ES_tradnl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886200" y="2362320"/>
            <a:ext cx="48006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300" spc="-1" strike="noStrike">
                <a:solidFill>
                  <a:srgbClr val="400080"/>
                </a:solidFill>
                <a:latin typeface="Arial"/>
              </a:rPr>
              <a:t>Demanda del factor </a:t>
            </a:r>
            <a:r>
              <a:rPr b="1" i="1" lang="es-ES_tradnl" sz="2300" spc="-1" strike="noStrike">
                <a:solidFill>
                  <a:srgbClr val="400080"/>
                </a:solidFill>
                <a:latin typeface="Arial"/>
              </a:rPr>
              <a:t>i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300" spc="-1" strike="noStrike">
                <a:solidFill>
                  <a:srgbClr val="400080"/>
                </a:solidFill>
                <a:latin typeface="Arial"/>
              </a:rPr>
              <a:t>conditionada por la producció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21040" y="3730680"/>
            <a:ext cx="3417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400080"/>
                </a:solidFill>
                <a:latin typeface="Arial"/>
              </a:rPr>
              <a:t>Oferta de product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809880" y="4572000"/>
            <a:ext cx="32767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300" spc="-1" strike="noStrike">
                <a:solidFill>
                  <a:srgbClr val="400080"/>
                </a:solidFill>
                <a:latin typeface="Arial"/>
              </a:rPr>
              <a:t>Demanda del factor  </a:t>
            </a:r>
            <a:r>
              <a:rPr b="1" i="1" lang="es-ES_tradnl" sz="2300" spc="-1" strike="noStrike">
                <a:solidFill>
                  <a:srgbClr val="400080"/>
                </a:solidFill>
                <a:latin typeface="Arial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300" spc="-1" strike="noStrike">
                <a:solidFill>
                  <a:srgbClr val="400080"/>
                </a:solidFill>
                <a:latin typeface="Arial"/>
              </a:rPr>
              <a:t>(no conditionada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828800" y="45720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828800" y="23623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905120" y="3581280"/>
            <a:ext cx="2182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1600200"/>
            <a:ext cx="8594640" cy="67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Y ellas enganchan todas juntas asi...</a:t>
            </a:r>
            <a:r>
              <a:rPr b="1" lang="es-ES_tradnl" sz="33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49360" y="380520"/>
            <a:ext cx="859464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LA FIRMA COMO UNA “CAJA NEGRA”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0" y="1601640"/>
            <a:ext cx="9293400" cy="525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752480"/>
            <a:ext cx="7086600" cy="45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Use el hecho de que la firma es optimizad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 comportamiento puede ser predecido con las condiciones de óptimo necesarias y sufi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s CPO pueden resolverse para producir  funciones de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s propiedades derivan de la función solu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20840" y="1531800"/>
            <a:ext cx="8388360" cy="50594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8960" y="1989000"/>
            <a:ext cx="7791480" cy="4318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65680" y="2136600"/>
            <a:ext cx="18525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28960" y="2052720"/>
            <a:ext cx="18496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8960" y="2052720"/>
            <a:ext cx="18496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76720" y="2367000"/>
            <a:ext cx="1063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a fi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0320" y="3579840"/>
            <a:ext cx="1854360" cy="1057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9520" y="3886200"/>
            <a:ext cx="1536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440" y="5180040"/>
            <a:ext cx="1855800" cy="1058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90880" y="5226120"/>
            <a:ext cx="169092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19840" y="5175360"/>
            <a:ext cx="1854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02280" y="5221440"/>
            <a:ext cx="16891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manda ordina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666880" y="4695840"/>
            <a:ext cx="4127760" cy="480960"/>
            <a:chOff x="2666880" y="4695840"/>
            <a:chExt cx="4127760" cy="480960"/>
          </a:xfrm>
        </p:grpSpPr>
        <p:sp>
          <p:nvSpPr>
            <p:cNvPr id="152" name=""/>
            <p:cNvSpPr/>
            <p:nvPr/>
          </p:nvSpPr>
          <p:spPr>
            <a:xfrm>
              <a:off x="3713040" y="4695840"/>
              <a:ext cx="180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66880" y="4959360"/>
              <a:ext cx="180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29320" y="4959360"/>
              <a:ext cx="144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92840" y="4959360"/>
              <a:ext cx="180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73360" y="4952880"/>
              <a:ext cx="1039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19520" y="4952880"/>
              <a:ext cx="100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35440" y="4952880"/>
              <a:ext cx="2057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643040" y="3116160"/>
            <a:ext cx="6191280" cy="480960"/>
            <a:chOff x="1643040" y="3116160"/>
            <a:chExt cx="6191280" cy="480960"/>
          </a:xfrm>
        </p:grpSpPr>
        <p:sp>
          <p:nvSpPr>
            <p:cNvPr id="160" name=""/>
            <p:cNvSpPr/>
            <p:nvPr/>
          </p:nvSpPr>
          <p:spPr>
            <a:xfrm>
              <a:off x="4753080" y="3116160"/>
              <a:ext cx="1440" cy="2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43040" y="3379680"/>
              <a:ext cx="144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06920" y="3379680"/>
              <a:ext cx="144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69000" y="3379680"/>
              <a:ext cx="144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32880" y="3379680"/>
              <a:ext cx="144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49520" y="3373560"/>
              <a:ext cx="20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13040" y="3373560"/>
              <a:ext cx="1040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59200" y="3373560"/>
              <a:ext cx="1009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75480" y="3373560"/>
              <a:ext cx="20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17720" y="3579840"/>
            <a:ext cx="19843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tim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1440" y="3579840"/>
            <a:ext cx="1854000" cy="1057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45480" y="3606840"/>
            <a:ext cx="1854000" cy="1057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3733920"/>
            <a:ext cx="1904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át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ad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66080" y="3697200"/>
            <a:ext cx="16113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23760" bIns="23760" anchor="t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a firma y el mercad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2120" y="5103720"/>
            <a:ext cx="1855800" cy="105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14920" y="5149800"/>
            <a:ext cx="16905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440" y="5180040"/>
            <a:ext cx="2006640" cy="1220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5105520"/>
            <a:ext cx="1998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manda  condicional del fa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2160" y="5103720"/>
            <a:ext cx="1930320" cy="1220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5029200"/>
            <a:ext cx="1747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manda del factor ordina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4876920"/>
            <a:ext cx="2260440" cy="1819080"/>
          </a:xfrm>
          <a:custGeom>
            <a:avLst/>
            <a:gdLst/>
            <a:ahLst/>
            <a:rect l="l" t="t" r="r" b="b"/>
            <a:pathLst>
              <a:path w="1424" h="1146">
                <a:moveTo>
                  <a:pt x="122" y="255"/>
                </a:moveTo>
                <a:lnTo>
                  <a:pt x="60" y="348"/>
                </a:lnTo>
                <a:lnTo>
                  <a:pt x="19" y="443"/>
                </a:lnTo>
                <a:lnTo>
                  <a:pt x="1" y="537"/>
                </a:lnTo>
                <a:lnTo>
                  <a:pt x="0" y="584"/>
                </a:lnTo>
                <a:lnTo>
                  <a:pt x="4" y="631"/>
                </a:lnTo>
                <a:lnTo>
                  <a:pt x="65" y="804"/>
                </a:lnTo>
                <a:lnTo>
                  <a:pt x="190" y="955"/>
                </a:lnTo>
                <a:lnTo>
                  <a:pt x="364" y="1067"/>
                </a:lnTo>
                <a:lnTo>
                  <a:pt x="575" y="1134"/>
                </a:lnTo>
                <a:lnTo>
                  <a:pt x="688" y="1145"/>
                </a:lnTo>
                <a:lnTo>
                  <a:pt x="748" y="1145"/>
                </a:lnTo>
                <a:lnTo>
                  <a:pt x="808" y="1140"/>
                </a:lnTo>
                <a:lnTo>
                  <a:pt x="1052" y="1074"/>
                </a:lnTo>
                <a:lnTo>
                  <a:pt x="1162" y="1015"/>
                </a:lnTo>
                <a:lnTo>
                  <a:pt x="1252" y="947"/>
                </a:lnTo>
                <a:lnTo>
                  <a:pt x="1322" y="869"/>
                </a:lnTo>
                <a:lnTo>
                  <a:pt x="1374" y="786"/>
                </a:lnTo>
                <a:lnTo>
                  <a:pt x="1422" y="609"/>
                </a:lnTo>
                <a:lnTo>
                  <a:pt x="1423" y="564"/>
                </a:lnTo>
                <a:lnTo>
                  <a:pt x="1419" y="518"/>
                </a:lnTo>
                <a:lnTo>
                  <a:pt x="1399" y="428"/>
                </a:lnTo>
                <a:lnTo>
                  <a:pt x="1312" y="262"/>
                </a:lnTo>
                <a:lnTo>
                  <a:pt x="1246" y="189"/>
                </a:lnTo>
                <a:lnTo>
                  <a:pt x="1164" y="125"/>
                </a:lnTo>
                <a:lnTo>
                  <a:pt x="1070" y="73"/>
                </a:lnTo>
                <a:lnTo>
                  <a:pt x="961" y="33"/>
                </a:lnTo>
                <a:lnTo>
                  <a:pt x="841" y="7"/>
                </a:lnTo>
                <a:lnTo>
                  <a:pt x="775" y="1"/>
                </a:lnTo>
                <a:lnTo>
                  <a:pt x="706" y="0"/>
                </a:lnTo>
              </a:path>
            </a:pathLst>
          </a:custGeom>
          <a:noFill/>
          <a:ln cap="rnd" w="7632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49360" y="914400"/>
            <a:ext cx="859464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s problemas de la CAJA NEG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990720"/>
            <a:ext cx="7791480" cy="43178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981080"/>
            <a:ext cx="7791480" cy="4318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990720"/>
            <a:ext cx="7943760" cy="54608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50560" y="228240"/>
            <a:ext cx="889308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La solución de la primera etapa del problema 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371600"/>
            <a:ext cx="64882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Brush738 BT"/>
              </a:rPr>
              <a:t> </a:t>
            </a:r>
            <a:r>
              <a:rPr b="1" lang="en-US" sz="3800" spc="-1" strike="noStrike">
                <a:solidFill>
                  <a:srgbClr val="ff0000"/>
                </a:solidFill>
                <a:latin typeface="Brush738 BT"/>
              </a:rPr>
              <a:t>Elegimos un 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800" spc="-1" strike="noStrike">
                <a:solidFill>
                  <a:srgbClr val="ff0000"/>
                </a:solidFill>
                <a:latin typeface="Brush738 BT"/>
              </a:rPr>
              <a:t> que minimiz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581280" y="1828800"/>
            <a:ext cx="2063880" cy="1177920"/>
            <a:chOff x="3581280" y="1828800"/>
            <a:chExt cx="2063880" cy="1177920"/>
          </a:xfrm>
        </p:grpSpPr>
        <p:sp>
          <p:nvSpPr>
            <p:cNvPr id="188" name=""/>
            <p:cNvSpPr/>
            <p:nvPr/>
          </p:nvSpPr>
          <p:spPr>
            <a:xfrm>
              <a:off x="3581280" y="1969920"/>
              <a:ext cx="2063880" cy="10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s-ES_tradnl" sz="5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s-ES_tradnl" sz="4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s-ES_tradnl" sz="49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s-ES_tradnl" sz="49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4900" spc="-1" strike="noStrike">
                  <a:solidFill>
                    <a:srgbClr val="000000"/>
                  </a:solidFill>
                  <a:latin typeface="Times New Roman"/>
                </a:rPr>
                <a:t> z</a:t>
              </a:r>
              <a:r>
                <a:rPr b="0" i="1" lang="es-ES_tradnl" sz="49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4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87760" y="1828800"/>
              <a:ext cx="500040" cy="10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733920" y="4191120"/>
            <a:ext cx="37144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4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3200400"/>
            <a:ext cx="784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Brush738 BT"/>
              </a:rPr>
              <a:t>...sujeto a la restricción de producción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5791320"/>
            <a:ext cx="37144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5181480"/>
            <a:ext cx="6400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Brush738 BT"/>
              </a:rPr>
              <a:t>… </a:t>
            </a:r>
            <a:r>
              <a:rPr b="1" lang="en-US" sz="3800" spc="-1" strike="noStrike">
                <a:solidFill>
                  <a:srgbClr val="ff0000"/>
                </a:solidFill>
                <a:latin typeface="Brush738 BT"/>
              </a:rPr>
              <a:t>y las condiciones de no- negativida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04280" y="701640"/>
            <a:ext cx="8595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0000"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Costo mínimo como una función de variables exógena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5960" y="2352600"/>
            <a:ext cx="786456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5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5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_tradnl" sz="5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5000" spc="-1" strike="noStrike">
                <a:solidFill>
                  <a:srgbClr val="000000"/>
                </a:solidFill>
                <a:latin typeface="Times New Roman"/>
              </a:rPr>
              <a:t>)  :=    min </a:t>
            </a:r>
            <a:r>
              <a:rPr b="0" lang="es-ES_tradnl" sz="6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s-ES_tradnl" sz="5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i="1" lang="es-ES_tradnl" sz="5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8920" y="3203640"/>
            <a:ext cx="4964040" cy="2846160"/>
          </a:xfrm>
          <a:custGeom>
            <a:avLst/>
            <a:gdLst/>
            <a:ahLst/>
            <a:rect l="l" t="t" r="r" b="b"/>
            <a:pathLst>
              <a:path w="3127" h="1793">
                <a:moveTo>
                  <a:pt x="519" y="841"/>
                </a:moveTo>
                <a:lnTo>
                  <a:pt x="417" y="847"/>
                </a:lnTo>
                <a:lnTo>
                  <a:pt x="316" y="853"/>
                </a:lnTo>
                <a:lnTo>
                  <a:pt x="229" y="872"/>
                </a:lnTo>
                <a:lnTo>
                  <a:pt x="153" y="890"/>
                </a:lnTo>
                <a:lnTo>
                  <a:pt x="92" y="914"/>
                </a:lnTo>
                <a:lnTo>
                  <a:pt x="41" y="939"/>
                </a:lnTo>
                <a:lnTo>
                  <a:pt x="10" y="969"/>
                </a:lnTo>
                <a:lnTo>
                  <a:pt x="5" y="981"/>
                </a:lnTo>
                <a:lnTo>
                  <a:pt x="0" y="1000"/>
                </a:lnTo>
                <a:lnTo>
                  <a:pt x="0" y="1237"/>
                </a:lnTo>
                <a:lnTo>
                  <a:pt x="0" y="1634"/>
                </a:lnTo>
                <a:lnTo>
                  <a:pt x="5" y="1652"/>
                </a:lnTo>
                <a:lnTo>
                  <a:pt x="10" y="1664"/>
                </a:lnTo>
                <a:lnTo>
                  <a:pt x="41" y="1694"/>
                </a:lnTo>
                <a:lnTo>
                  <a:pt x="92" y="1719"/>
                </a:lnTo>
                <a:lnTo>
                  <a:pt x="153" y="1743"/>
                </a:lnTo>
                <a:lnTo>
                  <a:pt x="229" y="1762"/>
                </a:lnTo>
                <a:lnTo>
                  <a:pt x="316" y="1780"/>
                </a:lnTo>
                <a:lnTo>
                  <a:pt x="417" y="1786"/>
                </a:lnTo>
                <a:lnTo>
                  <a:pt x="519" y="1792"/>
                </a:lnTo>
                <a:lnTo>
                  <a:pt x="1303" y="1792"/>
                </a:lnTo>
                <a:lnTo>
                  <a:pt x="2602" y="1792"/>
                </a:lnTo>
                <a:lnTo>
                  <a:pt x="2709" y="1786"/>
                </a:lnTo>
                <a:lnTo>
                  <a:pt x="2805" y="1780"/>
                </a:lnTo>
                <a:lnTo>
                  <a:pt x="2897" y="1762"/>
                </a:lnTo>
                <a:lnTo>
                  <a:pt x="2973" y="1743"/>
                </a:lnTo>
                <a:lnTo>
                  <a:pt x="3034" y="1719"/>
                </a:lnTo>
                <a:lnTo>
                  <a:pt x="3085" y="1694"/>
                </a:lnTo>
                <a:lnTo>
                  <a:pt x="3116" y="1664"/>
                </a:lnTo>
                <a:lnTo>
                  <a:pt x="3126" y="1652"/>
                </a:lnTo>
                <a:lnTo>
                  <a:pt x="3126" y="1634"/>
                </a:lnTo>
                <a:lnTo>
                  <a:pt x="3126" y="1237"/>
                </a:lnTo>
                <a:lnTo>
                  <a:pt x="3126" y="1000"/>
                </a:lnTo>
                <a:lnTo>
                  <a:pt x="3126" y="981"/>
                </a:lnTo>
                <a:lnTo>
                  <a:pt x="3116" y="969"/>
                </a:lnTo>
                <a:lnTo>
                  <a:pt x="3085" y="939"/>
                </a:lnTo>
                <a:lnTo>
                  <a:pt x="3034" y="914"/>
                </a:lnTo>
                <a:lnTo>
                  <a:pt x="2973" y="890"/>
                </a:lnTo>
                <a:lnTo>
                  <a:pt x="2897" y="872"/>
                </a:lnTo>
                <a:lnTo>
                  <a:pt x="2805" y="853"/>
                </a:lnTo>
                <a:lnTo>
                  <a:pt x="2709" y="847"/>
                </a:lnTo>
                <a:lnTo>
                  <a:pt x="2602" y="841"/>
                </a:lnTo>
                <a:lnTo>
                  <a:pt x="1303" y="841"/>
                </a:lnTo>
                <a:lnTo>
                  <a:pt x="713" y="0"/>
                </a:lnTo>
                <a:lnTo>
                  <a:pt x="519" y="841"/>
                </a:lnTo>
              </a:path>
            </a:pathLst>
          </a:custGeom>
          <a:solidFill>
            <a:srgbClr val="fff63d"/>
          </a:solidFill>
          <a:ln cap="rnd" w="1260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0520" y="4595760"/>
            <a:ext cx="45547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Brush738 BT"/>
              </a:rPr>
              <a:t>vector de precio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Brush738 BT"/>
              </a:rPr>
              <a:t>de factor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71720" y="3654360"/>
            <a:ext cx="4586400" cy="2552760"/>
          </a:xfrm>
          <a:custGeom>
            <a:avLst/>
            <a:gdLst/>
            <a:ahLst/>
            <a:rect l="l" t="t" r="r" b="b"/>
            <a:pathLst>
              <a:path w="2889" h="1608">
                <a:moveTo>
                  <a:pt x="1124" y="212"/>
                </a:moveTo>
                <a:lnTo>
                  <a:pt x="1051" y="219"/>
                </a:lnTo>
                <a:lnTo>
                  <a:pt x="992" y="231"/>
                </a:lnTo>
                <a:lnTo>
                  <a:pt x="932" y="250"/>
                </a:lnTo>
                <a:lnTo>
                  <a:pt x="879" y="281"/>
                </a:lnTo>
                <a:lnTo>
                  <a:pt x="833" y="312"/>
                </a:lnTo>
                <a:lnTo>
                  <a:pt x="800" y="350"/>
                </a:lnTo>
                <a:lnTo>
                  <a:pt x="780" y="394"/>
                </a:lnTo>
                <a:lnTo>
                  <a:pt x="773" y="444"/>
                </a:lnTo>
                <a:lnTo>
                  <a:pt x="0" y="0"/>
                </a:lnTo>
                <a:lnTo>
                  <a:pt x="773" y="794"/>
                </a:lnTo>
                <a:lnTo>
                  <a:pt x="773" y="1376"/>
                </a:lnTo>
                <a:lnTo>
                  <a:pt x="780" y="1419"/>
                </a:lnTo>
                <a:lnTo>
                  <a:pt x="800" y="1463"/>
                </a:lnTo>
                <a:lnTo>
                  <a:pt x="833" y="1507"/>
                </a:lnTo>
                <a:lnTo>
                  <a:pt x="879" y="1538"/>
                </a:lnTo>
                <a:lnTo>
                  <a:pt x="932" y="1569"/>
                </a:lnTo>
                <a:lnTo>
                  <a:pt x="992" y="1588"/>
                </a:lnTo>
                <a:lnTo>
                  <a:pt x="1051" y="1601"/>
                </a:lnTo>
                <a:lnTo>
                  <a:pt x="1124" y="1607"/>
                </a:lnTo>
                <a:lnTo>
                  <a:pt x="1652" y="1607"/>
                </a:lnTo>
                <a:lnTo>
                  <a:pt x="2538" y="1607"/>
                </a:lnTo>
                <a:lnTo>
                  <a:pt x="2610" y="1601"/>
                </a:lnTo>
                <a:lnTo>
                  <a:pt x="2677" y="1588"/>
                </a:lnTo>
                <a:lnTo>
                  <a:pt x="2736" y="1569"/>
                </a:lnTo>
                <a:lnTo>
                  <a:pt x="2782" y="1538"/>
                </a:lnTo>
                <a:lnTo>
                  <a:pt x="2829" y="1507"/>
                </a:lnTo>
                <a:lnTo>
                  <a:pt x="2862" y="1463"/>
                </a:lnTo>
                <a:lnTo>
                  <a:pt x="2881" y="1419"/>
                </a:lnTo>
                <a:lnTo>
                  <a:pt x="2888" y="1376"/>
                </a:lnTo>
                <a:lnTo>
                  <a:pt x="2888" y="794"/>
                </a:lnTo>
                <a:lnTo>
                  <a:pt x="2888" y="444"/>
                </a:lnTo>
                <a:lnTo>
                  <a:pt x="2881" y="394"/>
                </a:lnTo>
                <a:lnTo>
                  <a:pt x="2862" y="350"/>
                </a:lnTo>
                <a:lnTo>
                  <a:pt x="2829" y="312"/>
                </a:lnTo>
                <a:lnTo>
                  <a:pt x="2782" y="281"/>
                </a:lnTo>
                <a:lnTo>
                  <a:pt x="2736" y="250"/>
                </a:lnTo>
                <a:lnTo>
                  <a:pt x="2677" y="231"/>
                </a:lnTo>
                <a:lnTo>
                  <a:pt x="2610" y="219"/>
                </a:lnTo>
                <a:lnTo>
                  <a:pt x="2538" y="212"/>
                </a:lnTo>
                <a:lnTo>
                  <a:pt x="1652" y="212"/>
                </a:lnTo>
                <a:lnTo>
                  <a:pt x="1124" y="212"/>
                </a:lnTo>
              </a:path>
            </a:pathLst>
          </a:custGeom>
          <a:solidFill>
            <a:srgbClr val="fff63d"/>
          </a:solidFill>
          <a:ln cap="rnd" w="12600">
            <a:solidFill>
              <a:srgbClr val="ff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05240" y="4072320"/>
            <a:ext cx="2944800" cy="20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Brush738 BT"/>
              </a:rPr>
              <a:t>Nivel de producción da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035680" y="3505320"/>
            <a:ext cx="4108320" cy="2197080"/>
            <a:chOff x="5035680" y="3505320"/>
            <a:chExt cx="4108320" cy="2197080"/>
          </a:xfrm>
        </p:grpSpPr>
        <p:sp>
          <p:nvSpPr>
            <p:cNvPr id="201" name=""/>
            <p:cNvSpPr/>
            <p:nvPr/>
          </p:nvSpPr>
          <p:spPr>
            <a:xfrm>
              <a:off x="5035680" y="3505320"/>
              <a:ext cx="4108320" cy="2197080"/>
            </a:xfrm>
            <a:custGeom>
              <a:avLst/>
              <a:gdLst/>
              <a:ahLst/>
              <a:rect l="l" t="t" r="r" b="b"/>
              <a:pathLst>
                <a:path w="2588" h="1384">
                  <a:moveTo>
                    <a:pt x="2587" y="679"/>
                  </a:moveTo>
                  <a:lnTo>
                    <a:pt x="2587" y="679"/>
                  </a:lnTo>
                  <a:lnTo>
                    <a:pt x="1063" y="0"/>
                  </a:lnTo>
                  <a:lnTo>
                    <a:pt x="1241" y="340"/>
                  </a:lnTo>
                  <a:lnTo>
                    <a:pt x="0" y="340"/>
                  </a:lnTo>
                  <a:lnTo>
                    <a:pt x="0" y="1067"/>
                  </a:lnTo>
                  <a:lnTo>
                    <a:pt x="1241" y="1067"/>
                  </a:lnTo>
                  <a:lnTo>
                    <a:pt x="1063" y="1383"/>
                  </a:lnTo>
                  <a:lnTo>
                    <a:pt x="2587" y="679"/>
                  </a:lnTo>
                </a:path>
              </a:pathLst>
            </a:custGeom>
            <a:solidFill>
              <a:srgbClr val="ffff00"/>
            </a:solidFill>
            <a:ln cap="rnd" w="127080">
              <a:solidFill>
                <a:srgbClr val="ff0080"/>
              </a:solidFill>
              <a:round/>
            </a:ln>
            <a:effectLst>
              <a:outerShdw dist="107932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21360" y="4254480"/>
              <a:ext cx="37242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y, presumiblemente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1T09:57:34Z</dcterms:created>
  <dc:creator>F.COWELL</dc:creator>
  <dc:description/>
  <dc:language>en-US</dc:language>
  <cp:lastModifiedBy>FERNANDO VICTOR TOW</cp:lastModifiedBy>
  <dcterms:modified xsi:type="dcterms:W3CDTF">1998-09-26T22:56:32Z</dcterms:modified>
  <cp:revision>128</cp:revision>
  <dc:subject>Micro II Catedra TOW</dc:subject>
  <dc:title>Capitulo 3 Empresa</dc:title>
</cp:coreProperties>
</file>