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5B7-7125-4C0B-B0DE-ACEA684F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3104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3104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267-7CC8-489A-B138-6CAE421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03184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31388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870-AD5E-4FD4-A56A-6662E21C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503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031840"/>
            <a:ext cx="26503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031840"/>
            <a:ext cx="26503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503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313880"/>
            <a:ext cx="26503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313880"/>
            <a:ext cx="26503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D78-B09A-4651-ACB7-9FA2A17E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31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FB0-F6F3-4360-B9BA-795EB8F7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310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9C7-54DB-4CC6-8C28-CB52029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65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031840"/>
            <a:ext cx="40165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EDD-34C0-4D58-8BDE-4AA387E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290-06E5-40D0-835A-2E182CA8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310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BFA-FA8D-44B0-ABF2-6A76EEE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031840"/>
            <a:ext cx="40165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AD7-4128-418C-A398-8C82C91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65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03184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31388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241-7528-4B32-9340-31A49EA7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031840"/>
            <a:ext cx="401652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31040" cy="20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31F-150E-4592-8B00-DE0AA06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310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8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28CE-D437-45AC-8BD0-30E085841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1640" y="3507840"/>
            <a:ext cx="37908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Capitulo I.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46040" y="622080"/>
            <a:ext cx="94536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ficiencia técn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47920" y="4649760"/>
            <a:ext cx="4538520" cy="2055960"/>
            <a:chOff x="1447920" y="4649760"/>
            <a:chExt cx="4538520" cy="2055960"/>
          </a:xfrm>
        </p:grpSpPr>
        <p:sp>
          <p:nvSpPr>
            <p:cNvPr id="154" name=""/>
            <p:cNvSpPr/>
            <p:nvPr/>
          </p:nvSpPr>
          <p:spPr>
            <a:xfrm>
              <a:off x="1447920" y="4649760"/>
              <a:ext cx="4038480" cy="205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255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92240" y="5120640"/>
              <a:ext cx="399420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62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i="1" lang="en-US" sz="6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6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447920" y="2362320"/>
            <a:ext cx="4538520" cy="2055600"/>
            <a:chOff x="1447920" y="2362320"/>
            <a:chExt cx="4538520" cy="2055600"/>
          </a:xfrm>
        </p:grpSpPr>
        <p:sp>
          <p:nvSpPr>
            <p:cNvPr id="157" name=""/>
            <p:cNvSpPr/>
            <p:nvPr/>
          </p:nvSpPr>
          <p:spPr>
            <a:xfrm>
              <a:off x="1447920" y="2362320"/>
              <a:ext cx="4038480" cy="205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255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92240" y="2832840"/>
              <a:ext cx="399420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62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6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6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17680" y="4800600"/>
            <a:ext cx="793080" cy="155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7680" y="2205000"/>
            <a:ext cx="793080" cy="155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513160"/>
            <a:ext cx="38862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caso donde la producción 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écnicamente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43720" y="4951440"/>
            <a:ext cx="430056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caso donde la producción es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écnicame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V="1">
            <a:off x="1258920" y="2501640"/>
            <a:ext cx="7824600" cy="2760480"/>
          </a:xfrm>
          <a:prstGeom prst="roundRect">
            <a:avLst>
              <a:gd name="adj" fmla="val 6245"/>
            </a:avLst>
          </a:pr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4240" y="2784600"/>
            <a:ext cx="21304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6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65720" y="3038400"/>
            <a:ext cx="24163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57400" y="4002120"/>
            <a:ext cx="149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49360" y="3443400"/>
            <a:ext cx="304668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6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) :=</a:t>
            </a: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notación práct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0" y="4975200"/>
            <a:ext cx="4238640" cy="2025720"/>
            <a:chOff x="4572000" y="4975200"/>
            <a:chExt cx="4238640" cy="2025720"/>
          </a:xfrm>
        </p:grpSpPr>
        <p:sp>
          <p:nvSpPr>
            <p:cNvPr id="170" name=""/>
            <p:cNvSpPr/>
            <p:nvPr/>
          </p:nvSpPr>
          <p:spPr>
            <a:xfrm>
              <a:off x="5345280" y="5243400"/>
              <a:ext cx="30477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La  diferenci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4975200"/>
              <a:ext cx="4238640" cy="2025720"/>
            </a:xfrm>
            <a:custGeom>
              <a:avLst/>
              <a:gdLst/>
              <a:ahLst/>
              <a:rect l="l" t="t" r="r" b="b"/>
              <a:pathLst>
                <a:path w="2569" h="1560">
                  <a:moveTo>
                    <a:pt x="218" y="285"/>
                  </a:moveTo>
                  <a:lnTo>
                    <a:pt x="112" y="406"/>
                  </a:lnTo>
                  <a:lnTo>
                    <a:pt x="42" y="528"/>
                  </a:lnTo>
                  <a:lnTo>
                    <a:pt x="5" y="652"/>
                  </a:lnTo>
                  <a:lnTo>
                    <a:pt x="0" y="774"/>
                  </a:lnTo>
                  <a:lnTo>
                    <a:pt x="22" y="895"/>
                  </a:lnTo>
                  <a:lnTo>
                    <a:pt x="72" y="1009"/>
                  </a:lnTo>
                  <a:lnTo>
                    <a:pt x="148" y="1118"/>
                  </a:lnTo>
                  <a:lnTo>
                    <a:pt x="247" y="1219"/>
                  </a:lnTo>
                  <a:lnTo>
                    <a:pt x="366" y="1310"/>
                  </a:lnTo>
                  <a:lnTo>
                    <a:pt x="505" y="1390"/>
                  </a:lnTo>
                  <a:lnTo>
                    <a:pt x="661" y="1457"/>
                  </a:lnTo>
                  <a:lnTo>
                    <a:pt x="832" y="1508"/>
                  </a:lnTo>
                  <a:lnTo>
                    <a:pt x="1016" y="1543"/>
                  </a:lnTo>
                  <a:lnTo>
                    <a:pt x="1212" y="1559"/>
                  </a:lnTo>
                  <a:lnTo>
                    <a:pt x="1416" y="1555"/>
                  </a:lnTo>
                  <a:lnTo>
                    <a:pt x="1629" y="1528"/>
                  </a:lnTo>
                  <a:lnTo>
                    <a:pt x="1831" y="1482"/>
                  </a:lnTo>
                  <a:lnTo>
                    <a:pt x="2010" y="1419"/>
                  </a:lnTo>
                  <a:lnTo>
                    <a:pt x="2164" y="1341"/>
                  </a:lnTo>
                  <a:lnTo>
                    <a:pt x="2295" y="1251"/>
                  </a:lnTo>
                  <a:lnTo>
                    <a:pt x="2400" y="1152"/>
                  </a:lnTo>
                  <a:lnTo>
                    <a:pt x="2480" y="1043"/>
                  </a:lnTo>
                  <a:lnTo>
                    <a:pt x="2535" y="929"/>
                  </a:lnTo>
                  <a:lnTo>
                    <a:pt x="2565" y="811"/>
                  </a:lnTo>
                  <a:lnTo>
                    <a:pt x="2568" y="694"/>
                  </a:lnTo>
                  <a:lnTo>
                    <a:pt x="2545" y="575"/>
                  </a:lnTo>
                  <a:lnTo>
                    <a:pt x="2495" y="460"/>
                  </a:lnTo>
                  <a:lnTo>
                    <a:pt x="2420" y="349"/>
                  </a:lnTo>
                  <a:lnTo>
                    <a:pt x="2316" y="246"/>
                  </a:lnTo>
                  <a:lnTo>
                    <a:pt x="2185" y="152"/>
                  </a:lnTo>
                  <a:lnTo>
                    <a:pt x="2026" y="70"/>
                  </a:lnTo>
                  <a:lnTo>
                    <a:pt x="1840" y="0"/>
                  </a:lnTo>
                </a:path>
              </a:pathLst>
            </a:custGeom>
            <a:noFill/>
            <a:ln w="19044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3960" y="83880"/>
            <a:ext cx="94521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funci</a:t>
            </a:r>
            <a:r>
              <a:rPr b="1" lang="es-AR" sz="4200" spc="-1" strike="noStrike">
                <a:solidFill>
                  <a:srgbClr val="000000"/>
                </a:solidFill>
                <a:latin typeface="Times New Roman"/>
              </a:rPr>
              <a:t>ón de pr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oducción complet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11280" y="5089680"/>
            <a:ext cx="6426360" cy="2052360"/>
          </a:xfrm>
          <a:custGeom>
            <a:avLst/>
            <a:gdLst/>
            <a:ahLst/>
            <a:rect l="l" t="t" r="r" b="b"/>
            <a:pathLst>
              <a:path w="4049" h="1293">
                <a:moveTo>
                  <a:pt x="0" y="2"/>
                </a:moveTo>
                <a:lnTo>
                  <a:pt x="2193" y="12"/>
                </a:lnTo>
                <a:lnTo>
                  <a:pt x="36" y="2"/>
                </a:lnTo>
                <a:lnTo>
                  <a:pt x="2069" y="965"/>
                </a:lnTo>
                <a:lnTo>
                  <a:pt x="2069" y="965"/>
                </a:lnTo>
                <a:lnTo>
                  <a:pt x="2749" y="1293"/>
                </a:lnTo>
                <a:lnTo>
                  <a:pt x="3015" y="1216"/>
                </a:lnTo>
                <a:lnTo>
                  <a:pt x="3290" y="1151"/>
                </a:lnTo>
                <a:lnTo>
                  <a:pt x="3653" y="888"/>
                </a:lnTo>
                <a:lnTo>
                  <a:pt x="3829" y="756"/>
                </a:lnTo>
                <a:lnTo>
                  <a:pt x="4016" y="613"/>
                </a:lnTo>
                <a:lnTo>
                  <a:pt x="4049" y="339"/>
                </a:lnTo>
                <a:lnTo>
                  <a:pt x="3862" y="153"/>
                </a:lnTo>
                <a:lnTo>
                  <a:pt x="3829" y="0"/>
                </a:lnTo>
                <a:lnTo>
                  <a:pt x="2186" y="10"/>
                </a:lnTo>
                <a:lnTo>
                  <a:pt x="1588" y="1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490400" y="1280880"/>
            <a:ext cx="12600" cy="383220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52680" y="5087520"/>
            <a:ext cx="6018120" cy="32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58280" y="4888080"/>
            <a:ext cx="206280" cy="360360"/>
            <a:chOff x="7658280" y="4888080"/>
            <a:chExt cx="206280" cy="360360"/>
          </a:xfrm>
        </p:grpSpPr>
        <p:sp>
          <p:nvSpPr>
            <p:cNvPr id="177" name=""/>
            <p:cNvSpPr/>
            <p:nvPr/>
          </p:nvSpPr>
          <p:spPr>
            <a:xfrm>
              <a:off x="7658280" y="4888080"/>
              <a:ext cx="12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5099040"/>
              <a:ext cx="69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39920" y="996840"/>
            <a:ext cx="199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440" y="5100480"/>
            <a:ext cx="4349880" cy="2028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896800" y="6978240"/>
            <a:ext cx="240120" cy="396360"/>
            <a:chOff x="5896800" y="6978240"/>
            <a:chExt cx="240120" cy="396360"/>
          </a:xfrm>
        </p:grpSpPr>
        <p:sp>
          <p:nvSpPr>
            <p:cNvPr id="182" name=""/>
            <p:cNvSpPr/>
            <p:nvPr/>
          </p:nvSpPr>
          <p:spPr>
            <a:xfrm rot="1500000">
              <a:off x="5954760" y="6987960"/>
              <a:ext cx="114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500000">
              <a:off x="6035400" y="7203600"/>
              <a:ext cx="698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312920" y="5060880"/>
            <a:ext cx="17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76760" y="2220480"/>
            <a:ext cx="2455200" cy="1944000"/>
            <a:chOff x="2876760" y="2220480"/>
            <a:chExt cx="2455200" cy="1944000"/>
          </a:xfrm>
        </p:grpSpPr>
        <p:sp>
          <p:nvSpPr>
            <p:cNvPr id="186" name=""/>
            <p:cNvSpPr/>
            <p:nvPr/>
          </p:nvSpPr>
          <p:spPr>
            <a:xfrm rot="19707000">
              <a:off x="2916000" y="2781360"/>
              <a:ext cx="2376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707000">
              <a:off x="4017240" y="2808720"/>
              <a:ext cx="931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rot="16200000">
            <a:off x="183600" y="1586880"/>
            <a:ext cx="178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05960" y="4533840"/>
            <a:ext cx="1558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sum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495200">
            <a:off x="4086360" y="6851520"/>
            <a:ext cx="194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sum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96880" y="2065320"/>
            <a:ext cx="5238720" cy="4562640"/>
            <a:chOff x="1496880" y="2065320"/>
            <a:chExt cx="5238720" cy="4562640"/>
          </a:xfrm>
        </p:grpSpPr>
        <p:sp>
          <p:nvSpPr>
            <p:cNvPr id="192" name=""/>
            <p:cNvSpPr/>
            <p:nvPr/>
          </p:nvSpPr>
          <p:spPr>
            <a:xfrm>
              <a:off x="1496880" y="2082960"/>
              <a:ext cx="4626000" cy="4545000"/>
            </a:xfrm>
            <a:custGeom>
              <a:avLst/>
              <a:gdLst/>
              <a:ahLst/>
              <a:rect l="l" t="t" r="r" b="b"/>
              <a:pathLst>
                <a:path w="2914" h="2863">
                  <a:moveTo>
                    <a:pt x="5" y="1895"/>
                  </a:moveTo>
                  <a:lnTo>
                    <a:pt x="2067" y="2862"/>
                  </a:lnTo>
                  <a:lnTo>
                    <a:pt x="2077" y="2859"/>
                  </a:lnTo>
                  <a:lnTo>
                    <a:pt x="2089" y="2651"/>
                  </a:lnTo>
                  <a:lnTo>
                    <a:pt x="2122" y="2377"/>
                  </a:lnTo>
                  <a:lnTo>
                    <a:pt x="2199" y="1928"/>
                  </a:lnTo>
                  <a:lnTo>
                    <a:pt x="2275" y="1632"/>
                  </a:lnTo>
                  <a:lnTo>
                    <a:pt x="2397" y="1183"/>
                  </a:lnTo>
                  <a:lnTo>
                    <a:pt x="2539" y="723"/>
                  </a:lnTo>
                  <a:lnTo>
                    <a:pt x="2649" y="449"/>
                  </a:lnTo>
                  <a:lnTo>
                    <a:pt x="2770" y="208"/>
                  </a:lnTo>
                  <a:lnTo>
                    <a:pt x="2913" y="0"/>
                  </a:lnTo>
                  <a:lnTo>
                    <a:pt x="2903" y="0"/>
                  </a:lnTo>
                  <a:lnTo>
                    <a:pt x="0" y="1884"/>
                  </a:lnTo>
                  <a:lnTo>
                    <a:pt x="5" y="1895"/>
                  </a:lnTo>
                  <a:lnTo>
                    <a:pt x="5" y="1895"/>
                  </a:lnTo>
                </a:path>
              </a:pathLst>
            </a:cu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81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6880" y="2065320"/>
              <a:ext cx="1728720" cy="3027240"/>
            </a:xfrm>
            <a:custGeom>
              <a:avLst/>
              <a:gdLst/>
              <a:ahLst/>
              <a:rect l="l" t="t" r="r" b="b"/>
              <a:pathLst>
                <a:path w="1089" h="1907">
                  <a:moveTo>
                    <a:pt x="0" y="1906"/>
                  </a:moveTo>
                  <a:lnTo>
                    <a:pt x="0" y="1906"/>
                  </a:lnTo>
                  <a:lnTo>
                    <a:pt x="65" y="1643"/>
                  </a:lnTo>
                  <a:lnTo>
                    <a:pt x="186" y="1194"/>
                  </a:lnTo>
                  <a:lnTo>
                    <a:pt x="329" y="734"/>
                  </a:lnTo>
                  <a:lnTo>
                    <a:pt x="439" y="460"/>
                  </a:lnTo>
                  <a:lnTo>
                    <a:pt x="560" y="219"/>
                  </a:lnTo>
                  <a:lnTo>
                    <a:pt x="703" y="11"/>
                  </a:lnTo>
                  <a:lnTo>
                    <a:pt x="758" y="0"/>
                  </a:lnTo>
                  <a:lnTo>
                    <a:pt x="812" y="44"/>
                  </a:lnTo>
                  <a:lnTo>
                    <a:pt x="846" y="109"/>
                  </a:lnTo>
                  <a:lnTo>
                    <a:pt x="890" y="296"/>
                  </a:lnTo>
                  <a:lnTo>
                    <a:pt x="934" y="570"/>
                  </a:lnTo>
                  <a:lnTo>
                    <a:pt x="978" y="898"/>
                  </a:lnTo>
                  <a:lnTo>
                    <a:pt x="1033" y="1347"/>
                  </a:lnTo>
                  <a:lnTo>
                    <a:pt x="1066" y="1709"/>
                  </a:lnTo>
                  <a:lnTo>
                    <a:pt x="1088" y="1895"/>
                  </a:lnTo>
                  <a:lnTo>
                    <a:pt x="0" y="1906"/>
                  </a:lnTo>
                  <a:lnTo>
                    <a:pt x="0" y="190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496880" y="2082600"/>
              <a:ext cx="4608720" cy="299052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94120" y="2065320"/>
              <a:ext cx="1940040" cy="4557600"/>
            </a:xfrm>
            <a:custGeom>
              <a:avLst/>
              <a:gdLst/>
              <a:ahLst/>
              <a:rect l="l" t="t" r="r" b="b"/>
              <a:pathLst>
                <a:path w="1222" h="2871">
                  <a:moveTo>
                    <a:pt x="0" y="2870"/>
                  </a:moveTo>
                  <a:lnTo>
                    <a:pt x="12" y="2662"/>
                  </a:lnTo>
                  <a:lnTo>
                    <a:pt x="45" y="2388"/>
                  </a:lnTo>
                  <a:lnTo>
                    <a:pt x="122" y="1939"/>
                  </a:lnTo>
                  <a:lnTo>
                    <a:pt x="198" y="1643"/>
                  </a:lnTo>
                  <a:lnTo>
                    <a:pt x="320" y="1194"/>
                  </a:lnTo>
                  <a:lnTo>
                    <a:pt x="462" y="734"/>
                  </a:lnTo>
                  <a:lnTo>
                    <a:pt x="572" y="460"/>
                  </a:lnTo>
                  <a:lnTo>
                    <a:pt x="693" y="219"/>
                  </a:lnTo>
                  <a:lnTo>
                    <a:pt x="836" y="11"/>
                  </a:lnTo>
                  <a:lnTo>
                    <a:pt x="891" y="0"/>
                  </a:lnTo>
                  <a:lnTo>
                    <a:pt x="946" y="44"/>
                  </a:lnTo>
                  <a:lnTo>
                    <a:pt x="979" y="109"/>
                  </a:lnTo>
                  <a:lnTo>
                    <a:pt x="1023" y="296"/>
                  </a:lnTo>
                  <a:lnTo>
                    <a:pt x="1067" y="570"/>
                  </a:lnTo>
                  <a:lnTo>
                    <a:pt x="1111" y="898"/>
                  </a:lnTo>
                  <a:lnTo>
                    <a:pt x="1166" y="1347"/>
                  </a:lnTo>
                  <a:lnTo>
                    <a:pt x="1199" y="1709"/>
                  </a:lnTo>
                  <a:lnTo>
                    <a:pt x="1221" y="1895"/>
                  </a:lnTo>
                </a:path>
              </a:pathLst>
            </a:custGeom>
            <a:noFill/>
            <a:ln w="475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756320" y="2065320"/>
            <a:ext cx="1998360" cy="4533840"/>
          </a:xfrm>
          <a:custGeom>
            <a:avLst/>
            <a:gdLst/>
            <a:ahLst/>
            <a:rect l="l" t="t" r="r" b="b"/>
            <a:pathLst>
              <a:path w="1259" h="2856">
                <a:moveTo>
                  <a:pt x="1259" y="1902"/>
                </a:moveTo>
                <a:lnTo>
                  <a:pt x="0" y="2856"/>
                </a:lnTo>
                <a:lnTo>
                  <a:pt x="34" y="2562"/>
                </a:lnTo>
                <a:lnTo>
                  <a:pt x="113" y="2080"/>
                </a:lnTo>
                <a:lnTo>
                  <a:pt x="191" y="1763"/>
                </a:lnTo>
                <a:lnTo>
                  <a:pt x="317" y="1281"/>
                </a:lnTo>
                <a:lnTo>
                  <a:pt x="463" y="787"/>
                </a:lnTo>
                <a:lnTo>
                  <a:pt x="576" y="494"/>
                </a:lnTo>
                <a:lnTo>
                  <a:pt x="701" y="235"/>
                </a:lnTo>
                <a:lnTo>
                  <a:pt x="848" y="12"/>
                </a:lnTo>
                <a:lnTo>
                  <a:pt x="905" y="0"/>
                </a:lnTo>
                <a:lnTo>
                  <a:pt x="961" y="47"/>
                </a:lnTo>
                <a:lnTo>
                  <a:pt x="995" y="117"/>
                </a:lnTo>
                <a:lnTo>
                  <a:pt x="1041" y="318"/>
                </a:lnTo>
                <a:lnTo>
                  <a:pt x="1086" y="612"/>
                </a:lnTo>
                <a:lnTo>
                  <a:pt x="1131" y="963"/>
                </a:lnTo>
                <a:lnTo>
                  <a:pt x="1188" y="1445"/>
                </a:lnTo>
                <a:lnTo>
                  <a:pt x="1222" y="1834"/>
                </a:lnTo>
              </a:path>
            </a:pathLst>
          </a:custGeom>
          <a:gradFill rotWithShape="0">
            <a:gsLst>
              <a:gs pos="0">
                <a:srgbClr val="91d1a8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92800" y="2124000"/>
            <a:ext cx="3148200" cy="1700280"/>
          </a:xfrm>
          <a:custGeom>
            <a:avLst/>
            <a:gdLst/>
            <a:ahLst/>
            <a:rect l="l" t="t" r="r" b="b"/>
            <a:pathLst>
              <a:path w="1983" h="1071">
                <a:moveTo>
                  <a:pt x="526" y="890"/>
                </a:moveTo>
                <a:lnTo>
                  <a:pt x="653" y="921"/>
                </a:lnTo>
                <a:lnTo>
                  <a:pt x="782" y="940"/>
                </a:lnTo>
                <a:lnTo>
                  <a:pt x="911" y="950"/>
                </a:lnTo>
                <a:lnTo>
                  <a:pt x="1039" y="949"/>
                </a:lnTo>
                <a:lnTo>
                  <a:pt x="1163" y="941"/>
                </a:lnTo>
                <a:lnTo>
                  <a:pt x="1284" y="925"/>
                </a:lnTo>
                <a:lnTo>
                  <a:pt x="1400" y="902"/>
                </a:lnTo>
                <a:lnTo>
                  <a:pt x="1510" y="872"/>
                </a:lnTo>
                <a:lnTo>
                  <a:pt x="1609" y="836"/>
                </a:lnTo>
                <a:lnTo>
                  <a:pt x="1701" y="795"/>
                </a:lnTo>
                <a:lnTo>
                  <a:pt x="1782" y="750"/>
                </a:lnTo>
                <a:lnTo>
                  <a:pt x="1852" y="701"/>
                </a:lnTo>
                <a:lnTo>
                  <a:pt x="1907" y="649"/>
                </a:lnTo>
                <a:lnTo>
                  <a:pt x="1948" y="594"/>
                </a:lnTo>
                <a:lnTo>
                  <a:pt x="1973" y="538"/>
                </a:lnTo>
                <a:lnTo>
                  <a:pt x="1982" y="479"/>
                </a:lnTo>
                <a:lnTo>
                  <a:pt x="1958" y="367"/>
                </a:lnTo>
                <a:lnTo>
                  <a:pt x="1894" y="268"/>
                </a:lnTo>
                <a:lnTo>
                  <a:pt x="1798" y="186"/>
                </a:lnTo>
                <a:lnTo>
                  <a:pt x="1674" y="118"/>
                </a:lnTo>
                <a:lnTo>
                  <a:pt x="1526" y="67"/>
                </a:lnTo>
                <a:lnTo>
                  <a:pt x="1362" y="30"/>
                </a:lnTo>
                <a:lnTo>
                  <a:pt x="1186" y="7"/>
                </a:lnTo>
                <a:lnTo>
                  <a:pt x="1005" y="0"/>
                </a:lnTo>
                <a:lnTo>
                  <a:pt x="822" y="7"/>
                </a:lnTo>
                <a:lnTo>
                  <a:pt x="645" y="30"/>
                </a:lnTo>
                <a:lnTo>
                  <a:pt x="478" y="66"/>
                </a:lnTo>
                <a:lnTo>
                  <a:pt x="328" y="116"/>
                </a:lnTo>
                <a:lnTo>
                  <a:pt x="199" y="181"/>
                </a:lnTo>
                <a:lnTo>
                  <a:pt x="99" y="259"/>
                </a:lnTo>
                <a:lnTo>
                  <a:pt x="30" y="351"/>
                </a:lnTo>
                <a:lnTo>
                  <a:pt x="1" y="456"/>
                </a:lnTo>
                <a:lnTo>
                  <a:pt x="0" y="485"/>
                </a:lnTo>
                <a:lnTo>
                  <a:pt x="4" y="511"/>
                </a:lnTo>
                <a:lnTo>
                  <a:pt x="10" y="538"/>
                </a:lnTo>
                <a:lnTo>
                  <a:pt x="21" y="564"/>
                </a:lnTo>
                <a:lnTo>
                  <a:pt x="34" y="591"/>
                </a:lnTo>
                <a:lnTo>
                  <a:pt x="50" y="617"/>
                </a:lnTo>
                <a:lnTo>
                  <a:pt x="69" y="642"/>
                </a:lnTo>
                <a:lnTo>
                  <a:pt x="91" y="666"/>
                </a:lnTo>
                <a:lnTo>
                  <a:pt x="114" y="690"/>
                </a:lnTo>
                <a:lnTo>
                  <a:pt x="140" y="714"/>
                </a:lnTo>
                <a:lnTo>
                  <a:pt x="168" y="736"/>
                </a:lnTo>
                <a:lnTo>
                  <a:pt x="199" y="757"/>
                </a:lnTo>
                <a:lnTo>
                  <a:pt x="230" y="777"/>
                </a:lnTo>
                <a:lnTo>
                  <a:pt x="264" y="796"/>
                </a:lnTo>
                <a:lnTo>
                  <a:pt x="299" y="814"/>
                </a:lnTo>
                <a:lnTo>
                  <a:pt x="335" y="828"/>
                </a:lnTo>
                <a:lnTo>
                  <a:pt x="217" y="940"/>
                </a:lnTo>
                <a:lnTo>
                  <a:pt x="156" y="886"/>
                </a:lnTo>
                <a:lnTo>
                  <a:pt x="95" y="1070"/>
                </a:lnTo>
                <a:lnTo>
                  <a:pt x="368" y="1070"/>
                </a:lnTo>
                <a:lnTo>
                  <a:pt x="283" y="998"/>
                </a:lnTo>
                <a:lnTo>
                  <a:pt x="526" y="890"/>
                </a:lnTo>
                <a:lnTo>
                  <a:pt x="526" y="890"/>
                </a:lnTo>
              </a:path>
            </a:pathLst>
          </a:custGeom>
          <a:solidFill>
            <a:srgbClr val="ffffc2"/>
          </a:solidFill>
          <a:ln w="9360">
            <a:solidFill>
              <a:srgbClr val="81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939000" y="2849400"/>
            <a:ext cx="2377800" cy="822240"/>
            <a:chOff x="6939000" y="2849400"/>
            <a:chExt cx="2377800" cy="822240"/>
          </a:xfrm>
        </p:grpSpPr>
        <p:sp>
          <p:nvSpPr>
            <p:cNvPr id="199" name=""/>
            <p:cNvSpPr/>
            <p:nvPr/>
          </p:nvSpPr>
          <p:spPr>
            <a:xfrm>
              <a:off x="6939000" y="2849400"/>
              <a:ext cx="2377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 &lt; 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112960" y="3111480"/>
              <a:ext cx="9320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688080" y="2166840"/>
            <a:ext cx="2492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untos factibles, pero in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08040" y="814320"/>
            <a:ext cx="6599160" cy="4235400"/>
          </a:xfrm>
          <a:custGeom>
            <a:avLst/>
            <a:gdLst/>
            <a:ahLst/>
            <a:rect l="l" t="t" r="r" b="b"/>
            <a:pathLst>
              <a:path w="4157" h="2668">
                <a:moveTo>
                  <a:pt x="31" y="301"/>
                </a:moveTo>
                <a:lnTo>
                  <a:pt x="8" y="2667"/>
                </a:lnTo>
                <a:lnTo>
                  <a:pt x="3608" y="309"/>
                </a:lnTo>
                <a:lnTo>
                  <a:pt x="4156" y="0"/>
                </a:lnTo>
                <a:lnTo>
                  <a:pt x="16" y="77"/>
                </a:lnTo>
                <a:lnTo>
                  <a:pt x="0" y="533"/>
                </a:lnTo>
                <a:lnTo>
                  <a:pt x="8" y="533"/>
                </a:lnTo>
                <a:lnTo>
                  <a:pt x="8" y="402"/>
                </a:lnTo>
                <a:lnTo>
                  <a:pt x="31" y="301"/>
                </a:lnTo>
                <a:lnTo>
                  <a:pt x="31" y="301"/>
                </a:lnTo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6040" y="1171440"/>
            <a:ext cx="3146400" cy="1702080"/>
          </a:xfrm>
          <a:custGeom>
            <a:avLst/>
            <a:gdLst/>
            <a:ahLst/>
            <a:rect l="l" t="t" r="r" b="b"/>
            <a:pathLst>
              <a:path w="1982" h="1072">
                <a:moveTo>
                  <a:pt x="525" y="179"/>
                </a:moveTo>
                <a:lnTo>
                  <a:pt x="652" y="151"/>
                </a:lnTo>
                <a:lnTo>
                  <a:pt x="781" y="132"/>
                </a:lnTo>
                <a:lnTo>
                  <a:pt x="911" y="123"/>
                </a:lnTo>
                <a:lnTo>
                  <a:pt x="1039" y="122"/>
                </a:lnTo>
                <a:lnTo>
                  <a:pt x="1163" y="131"/>
                </a:lnTo>
                <a:lnTo>
                  <a:pt x="1284" y="147"/>
                </a:lnTo>
                <a:lnTo>
                  <a:pt x="1399" y="170"/>
                </a:lnTo>
                <a:lnTo>
                  <a:pt x="1509" y="199"/>
                </a:lnTo>
                <a:lnTo>
                  <a:pt x="1609" y="236"/>
                </a:lnTo>
                <a:lnTo>
                  <a:pt x="1701" y="276"/>
                </a:lnTo>
                <a:lnTo>
                  <a:pt x="1781" y="322"/>
                </a:lnTo>
                <a:lnTo>
                  <a:pt x="1851" y="371"/>
                </a:lnTo>
                <a:lnTo>
                  <a:pt x="1907" y="423"/>
                </a:lnTo>
                <a:lnTo>
                  <a:pt x="1948" y="477"/>
                </a:lnTo>
                <a:lnTo>
                  <a:pt x="1973" y="534"/>
                </a:lnTo>
                <a:lnTo>
                  <a:pt x="1981" y="591"/>
                </a:lnTo>
                <a:lnTo>
                  <a:pt x="1957" y="705"/>
                </a:lnTo>
                <a:lnTo>
                  <a:pt x="1894" y="803"/>
                </a:lnTo>
                <a:lnTo>
                  <a:pt x="1797" y="885"/>
                </a:lnTo>
                <a:lnTo>
                  <a:pt x="1673" y="953"/>
                </a:lnTo>
                <a:lnTo>
                  <a:pt x="1525" y="1005"/>
                </a:lnTo>
                <a:lnTo>
                  <a:pt x="1361" y="1042"/>
                </a:lnTo>
                <a:lnTo>
                  <a:pt x="1185" y="1064"/>
                </a:lnTo>
                <a:lnTo>
                  <a:pt x="1004" y="1071"/>
                </a:lnTo>
                <a:lnTo>
                  <a:pt x="821" y="1064"/>
                </a:lnTo>
                <a:lnTo>
                  <a:pt x="644" y="1042"/>
                </a:lnTo>
                <a:lnTo>
                  <a:pt x="478" y="1006"/>
                </a:lnTo>
                <a:lnTo>
                  <a:pt x="328" y="955"/>
                </a:lnTo>
                <a:lnTo>
                  <a:pt x="199" y="891"/>
                </a:lnTo>
                <a:lnTo>
                  <a:pt x="98" y="812"/>
                </a:lnTo>
                <a:lnTo>
                  <a:pt x="30" y="720"/>
                </a:lnTo>
                <a:lnTo>
                  <a:pt x="1" y="613"/>
                </a:lnTo>
                <a:lnTo>
                  <a:pt x="0" y="587"/>
                </a:lnTo>
                <a:lnTo>
                  <a:pt x="3" y="561"/>
                </a:lnTo>
                <a:lnTo>
                  <a:pt x="10" y="535"/>
                </a:lnTo>
                <a:lnTo>
                  <a:pt x="21" y="508"/>
                </a:lnTo>
                <a:lnTo>
                  <a:pt x="33" y="481"/>
                </a:lnTo>
                <a:lnTo>
                  <a:pt x="50" y="455"/>
                </a:lnTo>
                <a:lnTo>
                  <a:pt x="68" y="430"/>
                </a:lnTo>
                <a:lnTo>
                  <a:pt x="91" y="405"/>
                </a:lnTo>
                <a:lnTo>
                  <a:pt x="114" y="382"/>
                </a:lnTo>
                <a:lnTo>
                  <a:pt x="140" y="358"/>
                </a:lnTo>
                <a:lnTo>
                  <a:pt x="168" y="336"/>
                </a:lnTo>
                <a:lnTo>
                  <a:pt x="199" y="314"/>
                </a:lnTo>
                <a:lnTo>
                  <a:pt x="230" y="295"/>
                </a:lnTo>
                <a:lnTo>
                  <a:pt x="264" y="275"/>
                </a:lnTo>
                <a:lnTo>
                  <a:pt x="299" y="257"/>
                </a:lnTo>
                <a:lnTo>
                  <a:pt x="335" y="241"/>
                </a:lnTo>
                <a:lnTo>
                  <a:pt x="216" y="130"/>
                </a:lnTo>
                <a:lnTo>
                  <a:pt x="156" y="183"/>
                </a:lnTo>
                <a:lnTo>
                  <a:pt x="95" y="0"/>
                </a:lnTo>
                <a:lnTo>
                  <a:pt x="368" y="0"/>
                </a:lnTo>
                <a:lnTo>
                  <a:pt x="282" y="72"/>
                </a:lnTo>
                <a:lnTo>
                  <a:pt x="525" y="179"/>
                </a:lnTo>
                <a:lnTo>
                  <a:pt x="525" y="179"/>
                </a:lnTo>
              </a:path>
            </a:pathLst>
          </a:custGeom>
          <a:solidFill>
            <a:srgbClr val="ffffc2"/>
          </a:solidFill>
          <a:ln w="9360">
            <a:solidFill>
              <a:srgbClr val="81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907320" y="2230560"/>
            <a:ext cx="2374920" cy="822240"/>
            <a:chOff x="6907320" y="2230560"/>
            <a:chExt cx="2374920" cy="822240"/>
          </a:xfrm>
        </p:grpSpPr>
        <p:sp>
          <p:nvSpPr>
            <p:cNvPr id="205" name=""/>
            <p:cNvSpPr/>
            <p:nvPr/>
          </p:nvSpPr>
          <p:spPr>
            <a:xfrm>
              <a:off x="6907320" y="2230560"/>
              <a:ext cx="2374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 &gt; 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79840" y="2492640"/>
              <a:ext cx="930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640560" y="1432080"/>
            <a:ext cx="2492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untos infacti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6880" y="2082960"/>
            <a:ext cx="4626000" cy="4545000"/>
          </a:xfrm>
          <a:custGeom>
            <a:avLst/>
            <a:gdLst/>
            <a:ahLst/>
            <a:rect l="l" t="t" r="r" b="b"/>
            <a:pathLst>
              <a:path w="2914" h="2863">
                <a:moveTo>
                  <a:pt x="5" y="1895"/>
                </a:moveTo>
                <a:lnTo>
                  <a:pt x="2067" y="2862"/>
                </a:lnTo>
                <a:lnTo>
                  <a:pt x="2077" y="2859"/>
                </a:lnTo>
                <a:lnTo>
                  <a:pt x="2089" y="2651"/>
                </a:lnTo>
                <a:lnTo>
                  <a:pt x="2122" y="2377"/>
                </a:lnTo>
                <a:lnTo>
                  <a:pt x="2199" y="1928"/>
                </a:lnTo>
                <a:lnTo>
                  <a:pt x="2275" y="1632"/>
                </a:lnTo>
                <a:lnTo>
                  <a:pt x="2397" y="1183"/>
                </a:lnTo>
                <a:lnTo>
                  <a:pt x="2539" y="723"/>
                </a:lnTo>
                <a:lnTo>
                  <a:pt x="2649" y="449"/>
                </a:lnTo>
                <a:lnTo>
                  <a:pt x="2770" y="208"/>
                </a:lnTo>
                <a:lnTo>
                  <a:pt x="2913" y="0"/>
                </a:lnTo>
                <a:lnTo>
                  <a:pt x="2903" y="0"/>
                </a:lnTo>
                <a:lnTo>
                  <a:pt x="0" y="1884"/>
                </a:lnTo>
                <a:lnTo>
                  <a:pt x="5" y="1895"/>
                </a:lnTo>
                <a:lnTo>
                  <a:pt x="5" y="1895"/>
                </a:lnTo>
              </a:path>
            </a:pathLst>
          </a:custGeom>
          <a:solidFill>
            <a:srgbClr val="ff8100">
              <a:alpha val="50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92400" y="1500120"/>
            <a:ext cx="3144600" cy="1986120"/>
          </a:xfrm>
          <a:custGeom>
            <a:avLst/>
            <a:gdLst/>
            <a:ahLst/>
            <a:rect l="l" t="t" r="r" b="b"/>
            <a:pathLst>
              <a:path w="1981" h="1071">
                <a:moveTo>
                  <a:pt x="1456" y="890"/>
                </a:moveTo>
                <a:lnTo>
                  <a:pt x="1327" y="921"/>
                </a:lnTo>
                <a:lnTo>
                  <a:pt x="1198" y="939"/>
                </a:lnTo>
                <a:lnTo>
                  <a:pt x="1069" y="949"/>
                </a:lnTo>
                <a:lnTo>
                  <a:pt x="941" y="949"/>
                </a:lnTo>
                <a:lnTo>
                  <a:pt x="816" y="941"/>
                </a:lnTo>
                <a:lnTo>
                  <a:pt x="695" y="925"/>
                </a:lnTo>
                <a:lnTo>
                  <a:pt x="579" y="902"/>
                </a:lnTo>
                <a:lnTo>
                  <a:pt x="471" y="871"/>
                </a:lnTo>
                <a:lnTo>
                  <a:pt x="370" y="837"/>
                </a:lnTo>
                <a:lnTo>
                  <a:pt x="279" y="795"/>
                </a:lnTo>
                <a:lnTo>
                  <a:pt x="198" y="750"/>
                </a:lnTo>
                <a:lnTo>
                  <a:pt x="129" y="701"/>
                </a:lnTo>
                <a:lnTo>
                  <a:pt x="73" y="649"/>
                </a:lnTo>
                <a:lnTo>
                  <a:pt x="32" y="594"/>
                </a:lnTo>
                <a:lnTo>
                  <a:pt x="7" y="537"/>
                </a:lnTo>
                <a:lnTo>
                  <a:pt x="0" y="479"/>
                </a:lnTo>
                <a:lnTo>
                  <a:pt x="23" y="367"/>
                </a:lnTo>
                <a:lnTo>
                  <a:pt x="86" y="268"/>
                </a:lnTo>
                <a:lnTo>
                  <a:pt x="182" y="185"/>
                </a:lnTo>
                <a:lnTo>
                  <a:pt x="307" y="118"/>
                </a:lnTo>
                <a:lnTo>
                  <a:pt x="453" y="67"/>
                </a:lnTo>
                <a:lnTo>
                  <a:pt x="619" y="29"/>
                </a:lnTo>
                <a:lnTo>
                  <a:pt x="794" y="7"/>
                </a:lnTo>
                <a:lnTo>
                  <a:pt x="977" y="0"/>
                </a:lnTo>
                <a:lnTo>
                  <a:pt x="1159" y="7"/>
                </a:lnTo>
                <a:lnTo>
                  <a:pt x="1336" y="29"/>
                </a:lnTo>
                <a:lnTo>
                  <a:pt x="1502" y="66"/>
                </a:lnTo>
                <a:lnTo>
                  <a:pt x="1652" y="116"/>
                </a:lnTo>
                <a:lnTo>
                  <a:pt x="1780" y="181"/>
                </a:lnTo>
                <a:lnTo>
                  <a:pt x="1881" y="259"/>
                </a:lnTo>
                <a:lnTo>
                  <a:pt x="1950" y="351"/>
                </a:lnTo>
                <a:lnTo>
                  <a:pt x="1980" y="457"/>
                </a:lnTo>
                <a:lnTo>
                  <a:pt x="1980" y="485"/>
                </a:lnTo>
                <a:lnTo>
                  <a:pt x="1977" y="511"/>
                </a:lnTo>
                <a:lnTo>
                  <a:pt x="1969" y="537"/>
                </a:lnTo>
                <a:lnTo>
                  <a:pt x="1959" y="564"/>
                </a:lnTo>
                <a:lnTo>
                  <a:pt x="1945" y="591"/>
                </a:lnTo>
                <a:lnTo>
                  <a:pt x="1929" y="617"/>
                </a:lnTo>
                <a:lnTo>
                  <a:pt x="1911" y="642"/>
                </a:lnTo>
                <a:lnTo>
                  <a:pt x="1890" y="666"/>
                </a:lnTo>
                <a:lnTo>
                  <a:pt x="1865" y="691"/>
                </a:lnTo>
                <a:lnTo>
                  <a:pt x="1839" y="713"/>
                </a:lnTo>
                <a:lnTo>
                  <a:pt x="1811" y="736"/>
                </a:lnTo>
                <a:lnTo>
                  <a:pt x="1781" y="757"/>
                </a:lnTo>
                <a:lnTo>
                  <a:pt x="1749" y="777"/>
                </a:lnTo>
                <a:lnTo>
                  <a:pt x="1716" y="796"/>
                </a:lnTo>
                <a:lnTo>
                  <a:pt x="1681" y="813"/>
                </a:lnTo>
                <a:lnTo>
                  <a:pt x="1647" y="828"/>
                </a:lnTo>
                <a:lnTo>
                  <a:pt x="1765" y="939"/>
                </a:lnTo>
                <a:lnTo>
                  <a:pt x="1825" y="886"/>
                </a:lnTo>
                <a:lnTo>
                  <a:pt x="1887" y="1070"/>
                </a:lnTo>
                <a:lnTo>
                  <a:pt x="1613" y="1070"/>
                </a:lnTo>
                <a:lnTo>
                  <a:pt x="1699" y="997"/>
                </a:lnTo>
                <a:lnTo>
                  <a:pt x="1456" y="890"/>
                </a:lnTo>
                <a:lnTo>
                  <a:pt x="1456" y="890"/>
                </a:lnTo>
              </a:path>
            </a:pathLst>
          </a:custGeom>
          <a:solidFill>
            <a:srgbClr val="ffffc2"/>
          </a:solidFill>
          <a:ln w="9360">
            <a:solidFill>
              <a:srgbClr val="81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52640" y="2643120"/>
            <a:ext cx="2197080" cy="465120"/>
            <a:chOff x="2852640" y="2643120"/>
            <a:chExt cx="2197080" cy="465120"/>
          </a:xfrm>
        </p:grpSpPr>
        <p:sp>
          <p:nvSpPr>
            <p:cNvPr id="211" name=""/>
            <p:cNvSpPr/>
            <p:nvPr/>
          </p:nvSpPr>
          <p:spPr>
            <a:xfrm>
              <a:off x="2852640" y="2643120"/>
              <a:ext cx="21970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 = 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4200" y="2852640"/>
              <a:ext cx="727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198520" y="1768320"/>
            <a:ext cx="3286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untos técnicamente efici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-2349360"/>
            <a:ext cx="9034560" cy="1230516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3168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20000"/>
                </a:solidFill>
                <a:latin typeface="Brush738 BT"/>
              </a:rPr>
              <a:t>Vayamos por partes, de manera tal que podamos encontrar algunas herramientas ú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2362320" y="5867280"/>
            <a:ext cx="2036520" cy="1195560"/>
            <a:chOff x="2362320" y="5867280"/>
            <a:chExt cx="2036520" cy="1195560"/>
          </a:xfrm>
        </p:grpSpPr>
        <p:sp>
          <p:nvSpPr>
            <p:cNvPr id="216" name=""/>
            <p:cNvSpPr/>
            <p:nvPr/>
          </p:nvSpPr>
          <p:spPr>
            <a:xfrm>
              <a:off x="2362320" y="5867280"/>
              <a:ext cx="2036520" cy="1195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92280" y="6222960"/>
              <a:ext cx="1865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Isocuanta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90400" y="878040"/>
            <a:ext cx="945360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Función de Producción:  Concep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94320" y="2682720"/>
            <a:ext cx="132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040" y="4510080"/>
            <a:ext cx="174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5000" y="5840280"/>
            <a:ext cx="2054160" cy="1222560"/>
            <a:chOff x="135000" y="5840280"/>
            <a:chExt cx="2054160" cy="1222560"/>
          </a:xfrm>
        </p:grpSpPr>
        <p:sp>
          <p:nvSpPr>
            <p:cNvPr id="228" name=""/>
            <p:cNvSpPr/>
            <p:nvPr/>
          </p:nvSpPr>
          <p:spPr>
            <a:xfrm>
              <a:off x="152280" y="5869080"/>
              <a:ext cx="2036880" cy="1193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000" y="5840280"/>
              <a:ext cx="200160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Conjunto de insumos requerido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85800" y="5315040"/>
            <a:ext cx="4539960" cy="552240"/>
            <a:chOff x="685800" y="5315040"/>
            <a:chExt cx="4539960" cy="552240"/>
          </a:xfrm>
        </p:grpSpPr>
        <p:sp>
          <p:nvSpPr>
            <p:cNvPr id="231" name=""/>
            <p:cNvSpPr/>
            <p:nvPr/>
          </p:nvSpPr>
          <p:spPr>
            <a:xfrm>
              <a:off x="183672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41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243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3672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541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239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124080" y="4089240"/>
            <a:ext cx="6553440" cy="1197000"/>
            <a:chOff x="3124080" y="4089240"/>
            <a:chExt cx="6553440" cy="1197000"/>
          </a:xfrm>
        </p:grpSpPr>
        <p:sp>
          <p:nvSpPr>
            <p:cNvPr id="249" name=""/>
            <p:cNvSpPr/>
            <p:nvPr/>
          </p:nvSpPr>
          <p:spPr>
            <a:xfrm>
              <a:off x="3124080" y="4091040"/>
              <a:ext cx="2036880" cy="119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9240"/>
              <a:ext cx="203652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9760" y="4264200"/>
              <a:ext cx="186084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Optimiza-ció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40640" y="4089240"/>
              <a:ext cx="203688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19720" y="4280040"/>
              <a:ext cx="20746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Estática comparativ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51880" y="4233960"/>
              <a:ext cx="19098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La firma y el mercad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668840" y="5867280"/>
            <a:ext cx="2036880" cy="1195200"/>
            <a:chOff x="4668840" y="5867280"/>
            <a:chExt cx="2036880" cy="1195200"/>
          </a:xfrm>
        </p:grpSpPr>
        <p:grpSp>
          <p:nvGrpSpPr>
            <p:cNvPr id="256" name=""/>
            <p:cNvGrpSpPr/>
            <p:nvPr/>
          </p:nvGrpSpPr>
          <p:grpSpPr>
            <a:xfrm>
              <a:off x="4668840" y="5867280"/>
              <a:ext cx="2036880" cy="1195200"/>
              <a:chOff x="4668840" y="5867280"/>
              <a:chExt cx="2036880" cy="1195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668840" y="5867280"/>
                <a:ext cx="2036880" cy="11941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00600" y="5968800"/>
                <a:ext cx="1771560" cy="1093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Marginal product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4668840" y="5867280"/>
              <a:ext cx="2036880" cy="1193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6031080"/>
              <a:ext cx="1771560" cy="849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Producto Margina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360520" y="5875200"/>
            <a:ext cx="4343400" cy="1195560"/>
            <a:chOff x="2360520" y="5875200"/>
            <a:chExt cx="4343400" cy="1195560"/>
          </a:xfrm>
        </p:grpSpPr>
        <p:sp>
          <p:nvSpPr>
            <p:cNvPr id="262" name=""/>
            <p:cNvSpPr/>
            <p:nvPr/>
          </p:nvSpPr>
          <p:spPr>
            <a:xfrm>
              <a:off x="2360520" y="5875200"/>
              <a:ext cx="203688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2280" y="6291360"/>
              <a:ext cx="18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Isocuanta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667040" y="5875200"/>
              <a:ext cx="2036880" cy="1195200"/>
              <a:chOff x="4667040" y="5875200"/>
              <a:chExt cx="2036880" cy="1195200"/>
            </a:xfrm>
          </p:grpSpPr>
          <p:sp>
            <p:nvSpPr>
              <p:cNvPr id="265" name=""/>
              <p:cNvSpPr/>
              <p:nvPr/>
            </p:nvSpPr>
            <p:spPr>
              <a:xfrm>
                <a:off x="4667040" y="5875200"/>
                <a:ext cx="2036880" cy="1194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98800" y="5976720"/>
                <a:ext cx="1771560" cy="1093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Marginal product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4667040" y="5875200"/>
              <a:ext cx="2036880" cy="119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98800" y="6039000"/>
              <a:ext cx="17719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Producto Margina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0" y="5527800"/>
            <a:ext cx="2484360" cy="187776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981080"/>
            <a:ext cx="8534520" cy="2895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juntos de insumos requerid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400" y="2217600"/>
            <a:ext cx="84250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legir un nivel de producto “</a:t>
            </a:r>
            <a:r>
              <a:rPr b="0" i="1" lang="en-GB" sz="3300" spc="-1" strike="noStrike">
                <a:solidFill>
                  <a:srgbClr val="000000"/>
                </a:solidFill>
                <a:latin typeface="Arial"/>
              </a:rPr>
              <a:t>Q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639880" y="5029200"/>
            <a:ext cx="7091640" cy="1217520"/>
            <a:chOff x="2639880" y="5029200"/>
            <a:chExt cx="7091640" cy="1217520"/>
          </a:xfrm>
        </p:grpSpPr>
        <p:sp>
          <p:nvSpPr>
            <p:cNvPr id="274" name=""/>
            <p:cNvSpPr/>
            <p:nvPr/>
          </p:nvSpPr>
          <p:spPr>
            <a:xfrm flipV="1">
              <a:off x="2639880" y="5028840"/>
              <a:ext cx="6865920" cy="12175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00240" y="5102280"/>
              <a:ext cx="673128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) := {</a:t>
              </a:r>
              <a:r>
                <a:rPr b="1" lang="en-US" sz="6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: 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6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6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74560" y="3276720"/>
            <a:ext cx="842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ncontrar un vector de insumos factible “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z”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461280" y="3032280"/>
            <a:ext cx="5025960" cy="1218960"/>
            <a:chOff x="6461280" y="3032280"/>
            <a:chExt cx="5025960" cy="1218960"/>
          </a:xfrm>
        </p:grpSpPr>
        <p:sp>
          <p:nvSpPr>
            <p:cNvPr id="278" name=""/>
            <p:cNvSpPr/>
            <p:nvPr/>
          </p:nvSpPr>
          <p:spPr>
            <a:xfrm flipV="1">
              <a:off x="6461280" y="3032280"/>
              <a:ext cx="3313080" cy="1218960"/>
            </a:xfrm>
            <a:prstGeom prst="roundRect">
              <a:avLst>
                <a:gd name="adj" fmla="val 2091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18320" y="3124080"/>
              <a:ext cx="476892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6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6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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77800" y="3930480"/>
            <a:ext cx="8426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Repetir para encontrar todos los vectores semejante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60280" y="5220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Qué significa ésto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3360" y="1081080"/>
            <a:ext cx="9994680" cy="1765440"/>
            <a:chOff x="63360" y="1081080"/>
            <a:chExt cx="9994680" cy="1765440"/>
          </a:xfrm>
        </p:grpSpPr>
        <p:sp>
          <p:nvSpPr>
            <p:cNvPr id="283" name=""/>
            <p:cNvSpPr/>
            <p:nvPr/>
          </p:nvSpPr>
          <p:spPr>
            <a:xfrm flipV="1">
              <a:off x="63360" y="1080720"/>
              <a:ext cx="9672840" cy="176544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7040" y="1185840"/>
              <a:ext cx="9621000" cy="14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1040" y="1200240"/>
            <a:ext cx="98298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8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) := {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8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6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39680" y="3169080"/>
            <a:ext cx="7815240" cy="435924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810000"/>
              </a:gs>
              <a:gs pos="50000">
                <a:srgbClr val="400080"/>
              </a:gs>
              <a:gs pos="100000">
                <a:srgbClr val="810000"/>
              </a:gs>
            </a:gsLst>
            <a:lin ang="8100000"/>
          </a:gra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33520" y="3176640"/>
            <a:ext cx="72770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Brush738 BT"/>
              </a:rPr>
              <a:t>El conjunto de vectores de insumos que se encuentran dentro de la condición técnicamente factible para el nivel de producto Q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86000" y="3935520"/>
            <a:ext cx="7277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Brush738 BT"/>
              </a:rPr>
              <a:t>...Pero, cómo será Z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84280" y="3959280"/>
            <a:ext cx="72770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Brush738 BT"/>
              </a:rPr>
              <a:t>Esto depende de lo que asumamos sobre la   producció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086440" y="2774880"/>
            <a:ext cx="4287600" cy="3135240"/>
            <a:chOff x="5086440" y="2774880"/>
            <a:chExt cx="4287600" cy="3135240"/>
          </a:xfrm>
        </p:grpSpPr>
        <p:sp>
          <p:nvSpPr>
            <p:cNvPr id="291" name=""/>
            <p:cNvSpPr/>
            <p:nvPr/>
          </p:nvSpPr>
          <p:spPr>
            <a:xfrm>
              <a:off x="5086440" y="2774880"/>
              <a:ext cx="4287600" cy="3135240"/>
            </a:xfrm>
            <a:custGeom>
              <a:avLst/>
              <a:gdLst/>
              <a:ahLst/>
              <a:rect l="l" t="t" r="r" b="b"/>
              <a:pathLst>
                <a:path w="2701" h="1975">
                  <a:moveTo>
                    <a:pt x="0" y="1612"/>
                  </a:moveTo>
                  <a:lnTo>
                    <a:pt x="0" y="1612"/>
                  </a:lnTo>
                  <a:lnTo>
                    <a:pt x="1934" y="1612"/>
                  </a:lnTo>
                  <a:lnTo>
                    <a:pt x="1934" y="1974"/>
                  </a:lnTo>
                  <a:lnTo>
                    <a:pt x="2700" y="991"/>
                  </a:lnTo>
                  <a:lnTo>
                    <a:pt x="1934" y="0"/>
                  </a:lnTo>
                  <a:lnTo>
                    <a:pt x="1934" y="344"/>
                  </a:lnTo>
                  <a:lnTo>
                    <a:pt x="0" y="344"/>
                  </a:lnTo>
                  <a:lnTo>
                    <a:pt x="0" y="1612"/>
                  </a:lnTo>
                  <a:lnTo>
                    <a:pt x="0" y="1612"/>
                  </a:lnTo>
                </a:path>
              </a:pathLst>
            </a:custGeom>
            <a:gradFill rotWithShape="0">
              <a:gsLst>
                <a:gs pos="0">
                  <a:srgbClr val="ffc0e4"/>
                </a:gs>
                <a:gs pos="100000">
                  <a:srgbClr val="e1e1e1"/>
                </a:gs>
              </a:gsLst>
              <a:lin ang="8100000"/>
            </a:gradFill>
            <a:ln w="1908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43480" y="3886200"/>
              <a:ext cx="34639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¿Primero un caso normal...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30640" y="2349360"/>
            <a:ext cx="3376440" cy="3719520"/>
          </a:xfrm>
          <a:custGeom>
            <a:avLst/>
            <a:gdLst/>
            <a:ahLst/>
            <a:rect l="l" t="t" r="r" b="b"/>
            <a:pathLst>
              <a:path w="2127" h="2343">
                <a:moveTo>
                  <a:pt x="0" y="0"/>
                </a:moveTo>
                <a:lnTo>
                  <a:pt x="0" y="20"/>
                </a:lnTo>
                <a:lnTo>
                  <a:pt x="2" y="35"/>
                </a:lnTo>
                <a:lnTo>
                  <a:pt x="3" y="48"/>
                </a:lnTo>
                <a:lnTo>
                  <a:pt x="5" y="58"/>
                </a:lnTo>
                <a:lnTo>
                  <a:pt x="5" y="66"/>
                </a:lnTo>
                <a:lnTo>
                  <a:pt x="5" y="71"/>
                </a:lnTo>
                <a:lnTo>
                  <a:pt x="5" y="75"/>
                </a:lnTo>
                <a:lnTo>
                  <a:pt x="7" y="77"/>
                </a:lnTo>
                <a:lnTo>
                  <a:pt x="7" y="81"/>
                </a:lnTo>
                <a:lnTo>
                  <a:pt x="7" y="83"/>
                </a:lnTo>
                <a:lnTo>
                  <a:pt x="7" y="85"/>
                </a:lnTo>
                <a:lnTo>
                  <a:pt x="8" y="87"/>
                </a:lnTo>
                <a:lnTo>
                  <a:pt x="8" y="92"/>
                </a:lnTo>
                <a:lnTo>
                  <a:pt x="9" y="97"/>
                </a:lnTo>
                <a:lnTo>
                  <a:pt x="10" y="104"/>
                </a:lnTo>
                <a:lnTo>
                  <a:pt x="12" y="113"/>
                </a:lnTo>
                <a:lnTo>
                  <a:pt x="13" y="125"/>
                </a:lnTo>
                <a:lnTo>
                  <a:pt x="15" y="140"/>
                </a:lnTo>
                <a:lnTo>
                  <a:pt x="18" y="159"/>
                </a:lnTo>
                <a:lnTo>
                  <a:pt x="22" y="179"/>
                </a:lnTo>
                <a:lnTo>
                  <a:pt x="25" y="202"/>
                </a:lnTo>
                <a:lnTo>
                  <a:pt x="30" y="228"/>
                </a:lnTo>
                <a:lnTo>
                  <a:pt x="35" y="255"/>
                </a:lnTo>
                <a:lnTo>
                  <a:pt x="40" y="282"/>
                </a:lnTo>
                <a:lnTo>
                  <a:pt x="45" y="312"/>
                </a:lnTo>
                <a:lnTo>
                  <a:pt x="51" y="341"/>
                </a:lnTo>
                <a:lnTo>
                  <a:pt x="56" y="372"/>
                </a:lnTo>
                <a:lnTo>
                  <a:pt x="63" y="402"/>
                </a:lnTo>
                <a:lnTo>
                  <a:pt x="69" y="432"/>
                </a:lnTo>
                <a:lnTo>
                  <a:pt x="76" y="462"/>
                </a:lnTo>
                <a:lnTo>
                  <a:pt x="82" y="491"/>
                </a:lnTo>
                <a:lnTo>
                  <a:pt x="90" y="518"/>
                </a:lnTo>
                <a:lnTo>
                  <a:pt x="95" y="548"/>
                </a:lnTo>
                <a:lnTo>
                  <a:pt x="103" y="577"/>
                </a:lnTo>
                <a:lnTo>
                  <a:pt x="110" y="608"/>
                </a:lnTo>
                <a:lnTo>
                  <a:pt x="119" y="639"/>
                </a:lnTo>
                <a:lnTo>
                  <a:pt x="126" y="672"/>
                </a:lnTo>
                <a:lnTo>
                  <a:pt x="136" y="704"/>
                </a:lnTo>
                <a:lnTo>
                  <a:pt x="144" y="736"/>
                </a:lnTo>
                <a:lnTo>
                  <a:pt x="154" y="767"/>
                </a:lnTo>
                <a:lnTo>
                  <a:pt x="161" y="798"/>
                </a:lnTo>
                <a:lnTo>
                  <a:pt x="171" y="828"/>
                </a:lnTo>
                <a:lnTo>
                  <a:pt x="179" y="856"/>
                </a:lnTo>
                <a:lnTo>
                  <a:pt x="188" y="882"/>
                </a:lnTo>
                <a:lnTo>
                  <a:pt x="196" y="906"/>
                </a:lnTo>
                <a:lnTo>
                  <a:pt x="204" y="927"/>
                </a:lnTo>
                <a:lnTo>
                  <a:pt x="210" y="946"/>
                </a:lnTo>
                <a:lnTo>
                  <a:pt x="218" y="960"/>
                </a:lnTo>
                <a:lnTo>
                  <a:pt x="223" y="976"/>
                </a:lnTo>
                <a:lnTo>
                  <a:pt x="230" y="993"/>
                </a:lnTo>
                <a:lnTo>
                  <a:pt x="238" y="1012"/>
                </a:lnTo>
                <a:lnTo>
                  <a:pt x="246" y="1032"/>
                </a:lnTo>
                <a:lnTo>
                  <a:pt x="255" y="1055"/>
                </a:lnTo>
                <a:lnTo>
                  <a:pt x="265" y="1078"/>
                </a:lnTo>
                <a:lnTo>
                  <a:pt x="274" y="1101"/>
                </a:lnTo>
                <a:lnTo>
                  <a:pt x="286" y="1124"/>
                </a:lnTo>
                <a:lnTo>
                  <a:pt x="295" y="1148"/>
                </a:lnTo>
                <a:lnTo>
                  <a:pt x="306" y="1173"/>
                </a:lnTo>
                <a:lnTo>
                  <a:pt x="315" y="1197"/>
                </a:lnTo>
                <a:lnTo>
                  <a:pt x="326" y="1220"/>
                </a:lnTo>
                <a:lnTo>
                  <a:pt x="336" y="1243"/>
                </a:lnTo>
                <a:lnTo>
                  <a:pt x="345" y="1265"/>
                </a:lnTo>
                <a:lnTo>
                  <a:pt x="355" y="1285"/>
                </a:lnTo>
                <a:lnTo>
                  <a:pt x="364" y="1303"/>
                </a:lnTo>
                <a:lnTo>
                  <a:pt x="372" y="1323"/>
                </a:lnTo>
                <a:lnTo>
                  <a:pt x="380" y="1343"/>
                </a:lnTo>
                <a:lnTo>
                  <a:pt x="389" y="1364"/>
                </a:lnTo>
                <a:lnTo>
                  <a:pt x="399" y="1385"/>
                </a:lnTo>
                <a:lnTo>
                  <a:pt x="408" y="1408"/>
                </a:lnTo>
                <a:lnTo>
                  <a:pt x="419" y="1430"/>
                </a:lnTo>
                <a:lnTo>
                  <a:pt x="428" y="1452"/>
                </a:lnTo>
                <a:lnTo>
                  <a:pt x="440" y="1475"/>
                </a:lnTo>
                <a:lnTo>
                  <a:pt x="449" y="1497"/>
                </a:lnTo>
                <a:lnTo>
                  <a:pt x="459" y="1519"/>
                </a:lnTo>
                <a:lnTo>
                  <a:pt x="468" y="1540"/>
                </a:lnTo>
                <a:lnTo>
                  <a:pt x="478" y="1559"/>
                </a:lnTo>
                <a:lnTo>
                  <a:pt x="486" y="1578"/>
                </a:lnTo>
                <a:lnTo>
                  <a:pt x="494" y="1594"/>
                </a:lnTo>
                <a:lnTo>
                  <a:pt x="501" y="1609"/>
                </a:lnTo>
                <a:lnTo>
                  <a:pt x="509" y="1621"/>
                </a:lnTo>
                <a:lnTo>
                  <a:pt x="514" y="1634"/>
                </a:lnTo>
                <a:lnTo>
                  <a:pt x="522" y="1646"/>
                </a:lnTo>
                <a:lnTo>
                  <a:pt x="530" y="1661"/>
                </a:lnTo>
                <a:lnTo>
                  <a:pt x="540" y="1676"/>
                </a:lnTo>
                <a:lnTo>
                  <a:pt x="549" y="1693"/>
                </a:lnTo>
                <a:lnTo>
                  <a:pt x="560" y="1710"/>
                </a:lnTo>
                <a:lnTo>
                  <a:pt x="571" y="1726"/>
                </a:lnTo>
                <a:lnTo>
                  <a:pt x="582" y="1743"/>
                </a:lnTo>
                <a:lnTo>
                  <a:pt x="594" y="1762"/>
                </a:lnTo>
                <a:lnTo>
                  <a:pt x="605" y="1779"/>
                </a:lnTo>
                <a:lnTo>
                  <a:pt x="616" y="1796"/>
                </a:lnTo>
                <a:lnTo>
                  <a:pt x="629" y="1812"/>
                </a:lnTo>
                <a:lnTo>
                  <a:pt x="640" y="1828"/>
                </a:lnTo>
                <a:lnTo>
                  <a:pt x="652" y="1842"/>
                </a:lnTo>
                <a:lnTo>
                  <a:pt x="662" y="1856"/>
                </a:lnTo>
                <a:lnTo>
                  <a:pt x="673" y="1868"/>
                </a:lnTo>
                <a:lnTo>
                  <a:pt x="683" y="1881"/>
                </a:lnTo>
                <a:lnTo>
                  <a:pt x="694" y="1894"/>
                </a:lnTo>
                <a:lnTo>
                  <a:pt x="707" y="1907"/>
                </a:lnTo>
                <a:lnTo>
                  <a:pt x="720" y="1920"/>
                </a:lnTo>
                <a:lnTo>
                  <a:pt x="733" y="1936"/>
                </a:lnTo>
                <a:lnTo>
                  <a:pt x="747" y="1948"/>
                </a:lnTo>
                <a:lnTo>
                  <a:pt x="762" y="1964"/>
                </a:lnTo>
                <a:lnTo>
                  <a:pt x="776" y="1977"/>
                </a:lnTo>
                <a:lnTo>
                  <a:pt x="790" y="1992"/>
                </a:lnTo>
                <a:lnTo>
                  <a:pt x="805" y="2005"/>
                </a:lnTo>
                <a:lnTo>
                  <a:pt x="818" y="2018"/>
                </a:lnTo>
                <a:lnTo>
                  <a:pt x="833" y="2030"/>
                </a:lnTo>
                <a:lnTo>
                  <a:pt x="845" y="2042"/>
                </a:lnTo>
                <a:lnTo>
                  <a:pt x="858" y="2052"/>
                </a:lnTo>
                <a:lnTo>
                  <a:pt x="870" y="2061"/>
                </a:lnTo>
                <a:lnTo>
                  <a:pt x="882" y="2068"/>
                </a:lnTo>
                <a:lnTo>
                  <a:pt x="891" y="2076"/>
                </a:lnTo>
                <a:lnTo>
                  <a:pt x="901" y="2083"/>
                </a:lnTo>
                <a:lnTo>
                  <a:pt x="910" y="2091"/>
                </a:lnTo>
                <a:lnTo>
                  <a:pt x="921" y="2098"/>
                </a:lnTo>
                <a:lnTo>
                  <a:pt x="931" y="2106"/>
                </a:lnTo>
                <a:lnTo>
                  <a:pt x="942" y="2113"/>
                </a:lnTo>
                <a:lnTo>
                  <a:pt x="951" y="2121"/>
                </a:lnTo>
                <a:lnTo>
                  <a:pt x="962" y="2128"/>
                </a:lnTo>
                <a:lnTo>
                  <a:pt x="971" y="2135"/>
                </a:lnTo>
                <a:lnTo>
                  <a:pt x="981" y="2141"/>
                </a:lnTo>
                <a:lnTo>
                  <a:pt x="989" y="2148"/>
                </a:lnTo>
                <a:lnTo>
                  <a:pt x="998" y="2153"/>
                </a:lnTo>
                <a:lnTo>
                  <a:pt x="1004" y="2159"/>
                </a:lnTo>
                <a:lnTo>
                  <a:pt x="1010" y="2162"/>
                </a:lnTo>
                <a:lnTo>
                  <a:pt x="1016" y="2166"/>
                </a:lnTo>
                <a:lnTo>
                  <a:pt x="1021" y="2168"/>
                </a:lnTo>
                <a:lnTo>
                  <a:pt x="1024" y="2172"/>
                </a:lnTo>
                <a:lnTo>
                  <a:pt x="1029" y="2174"/>
                </a:lnTo>
                <a:lnTo>
                  <a:pt x="1034" y="2178"/>
                </a:lnTo>
                <a:lnTo>
                  <a:pt x="1040" y="2180"/>
                </a:lnTo>
                <a:lnTo>
                  <a:pt x="1046" y="2183"/>
                </a:lnTo>
                <a:lnTo>
                  <a:pt x="1054" y="2187"/>
                </a:lnTo>
                <a:lnTo>
                  <a:pt x="1061" y="2191"/>
                </a:lnTo>
                <a:lnTo>
                  <a:pt x="1069" y="2194"/>
                </a:lnTo>
                <a:lnTo>
                  <a:pt x="1077" y="2198"/>
                </a:lnTo>
                <a:lnTo>
                  <a:pt x="1086" y="2202"/>
                </a:lnTo>
                <a:lnTo>
                  <a:pt x="1093" y="2206"/>
                </a:lnTo>
                <a:lnTo>
                  <a:pt x="1102" y="2209"/>
                </a:lnTo>
                <a:lnTo>
                  <a:pt x="1110" y="2213"/>
                </a:lnTo>
                <a:lnTo>
                  <a:pt x="1118" y="2216"/>
                </a:lnTo>
                <a:lnTo>
                  <a:pt x="1126" y="2220"/>
                </a:lnTo>
                <a:lnTo>
                  <a:pt x="1135" y="2222"/>
                </a:lnTo>
                <a:lnTo>
                  <a:pt x="1142" y="2226"/>
                </a:lnTo>
                <a:lnTo>
                  <a:pt x="1152" y="2229"/>
                </a:lnTo>
                <a:lnTo>
                  <a:pt x="1162" y="2232"/>
                </a:lnTo>
                <a:lnTo>
                  <a:pt x="1174" y="2235"/>
                </a:lnTo>
                <a:lnTo>
                  <a:pt x="1186" y="2239"/>
                </a:lnTo>
                <a:lnTo>
                  <a:pt x="1199" y="2243"/>
                </a:lnTo>
                <a:lnTo>
                  <a:pt x="1212" y="2247"/>
                </a:lnTo>
                <a:lnTo>
                  <a:pt x="1227" y="2250"/>
                </a:lnTo>
                <a:lnTo>
                  <a:pt x="1240" y="2256"/>
                </a:lnTo>
                <a:lnTo>
                  <a:pt x="1255" y="2259"/>
                </a:lnTo>
                <a:lnTo>
                  <a:pt x="1269" y="2263"/>
                </a:lnTo>
                <a:lnTo>
                  <a:pt x="1284" y="2267"/>
                </a:lnTo>
                <a:lnTo>
                  <a:pt x="1297" y="2270"/>
                </a:lnTo>
                <a:lnTo>
                  <a:pt x="1311" y="2274"/>
                </a:lnTo>
                <a:lnTo>
                  <a:pt x="1323" y="2277"/>
                </a:lnTo>
                <a:lnTo>
                  <a:pt x="1336" y="2279"/>
                </a:lnTo>
                <a:lnTo>
                  <a:pt x="1347" y="2282"/>
                </a:lnTo>
                <a:lnTo>
                  <a:pt x="1360" y="2286"/>
                </a:lnTo>
                <a:lnTo>
                  <a:pt x="1374" y="2289"/>
                </a:lnTo>
                <a:lnTo>
                  <a:pt x="1389" y="2291"/>
                </a:lnTo>
                <a:lnTo>
                  <a:pt x="1404" y="2295"/>
                </a:lnTo>
                <a:lnTo>
                  <a:pt x="1419" y="2298"/>
                </a:lnTo>
                <a:lnTo>
                  <a:pt x="1435" y="2302"/>
                </a:lnTo>
                <a:lnTo>
                  <a:pt x="1452" y="2304"/>
                </a:lnTo>
                <a:lnTo>
                  <a:pt x="1467" y="2307"/>
                </a:lnTo>
                <a:lnTo>
                  <a:pt x="1482" y="2309"/>
                </a:lnTo>
                <a:lnTo>
                  <a:pt x="1497" y="2312"/>
                </a:lnTo>
                <a:lnTo>
                  <a:pt x="1512" y="2314"/>
                </a:lnTo>
                <a:lnTo>
                  <a:pt x="1525" y="2317"/>
                </a:lnTo>
                <a:lnTo>
                  <a:pt x="1538" y="2318"/>
                </a:lnTo>
                <a:lnTo>
                  <a:pt x="1550" y="2320"/>
                </a:lnTo>
                <a:lnTo>
                  <a:pt x="1562" y="2321"/>
                </a:lnTo>
                <a:lnTo>
                  <a:pt x="1571" y="2323"/>
                </a:lnTo>
                <a:lnTo>
                  <a:pt x="1583" y="2324"/>
                </a:lnTo>
                <a:lnTo>
                  <a:pt x="1595" y="2326"/>
                </a:lnTo>
                <a:lnTo>
                  <a:pt x="1610" y="2326"/>
                </a:lnTo>
                <a:lnTo>
                  <a:pt x="1624" y="2328"/>
                </a:lnTo>
                <a:lnTo>
                  <a:pt x="1640" y="2329"/>
                </a:lnTo>
                <a:lnTo>
                  <a:pt x="1655" y="2331"/>
                </a:lnTo>
                <a:lnTo>
                  <a:pt x="1672" y="2331"/>
                </a:lnTo>
                <a:lnTo>
                  <a:pt x="1687" y="2333"/>
                </a:lnTo>
                <a:lnTo>
                  <a:pt x="1704" y="2334"/>
                </a:lnTo>
                <a:lnTo>
                  <a:pt x="1720" y="2336"/>
                </a:lnTo>
                <a:lnTo>
                  <a:pt x="1736" y="2336"/>
                </a:lnTo>
                <a:lnTo>
                  <a:pt x="1751" y="2337"/>
                </a:lnTo>
                <a:lnTo>
                  <a:pt x="1766" y="2337"/>
                </a:lnTo>
                <a:lnTo>
                  <a:pt x="1779" y="2338"/>
                </a:lnTo>
                <a:lnTo>
                  <a:pt x="1793" y="2338"/>
                </a:lnTo>
                <a:lnTo>
                  <a:pt x="1805" y="2340"/>
                </a:lnTo>
                <a:lnTo>
                  <a:pt x="1818" y="2340"/>
                </a:lnTo>
                <a:lnTo>
                  <a:pt x="1832" y="2340"/>
                </a:lnTo>
                <a:lnTo>
                  <a:pt x="1847" y="2340"/>
                </a:lnTo>
                <a:lnTo>
                  <a:pt x="1862" y="2342"/>
                </a:lnTo>
                <a:lnTo>
                  <a:pt x="1878" y="2342"/>
                </a:lnTo>
                <a:lnTo>
                  <a:pt x="1895" y="2342"/>
                </a:lnTo>
                <a:lnTo>
                  <a:pt x="1912" y="2342"/>
                </a:lnTo>
                <a:lnTo>
                  <a:pt x="1927" y="2342"/>
                </a:lnTo>
                <a:lnTo>
                  <a:pt x="1944" y="2342"/>
                </a:lnTo>
                <a:lnTo>
                  <a:pt x="1958" y="2342"/>
                </a:lnTo>
                <a:lnTo>
                  <a:pt x="1974" y="2342"/>
                </a:lnTo>
                <a:lnTo>
                  <a:pt x="1986" y="2342"/>
                </a:lnTo>
                <a:lnTo>
                  <a:pt x="2000" y="2342"/>
                </a:lnTo>
                <a:lnTo>
                  <a:pt x="2012" y="2342"/>
                </a:lnTo>
                <a:lnTo>
                  <a:pt x="2023" y="2342"/>
                </a:lnTo>
                <a:lnTo>
                  <a:pt x="2031" y="2342"/>
                </a:lnTo>
                <a:lnTo>
                  <a:pt x="2038" y="2342"/>
                </a:lnTo>
                <a:lnTo>
                  <a:pt x="2042" y="2342"/>
                </a:lnTo>
                <a:lnTo>
                  <a:pt x="2046" y="2342"/>
                </a:lnTo>
                <a:lnTo>
                  <a:pt x="2048" y="2342"/>
                </a:lnTo>
                <a:lnTo>
                  <a:pt x="2050" y="2342"/>
                </a:lnTo>
                <a:lnTo>
                  <a:pt x="2052" y="2342"/>
                </a:lnTo>
                <a:lnTo>
                  <a:pt x="2055" y="2342"/>
                </a:lnTo>
                <a:lnTo>
                  <a:pt x="2057" y="2342"/>
                </a:lnTo>
                <a:lnTo>
                  <a:pt x="2061" y="2342"/>
                </a:lnTo>
                <a:lnTo>
                  <a:pt x="2066" y="2342"/>
                </a:lnTo>
                <a:lnTo>
                  <a:pt x="2073" y="2342"/>
                </a:lnTo>
                <a:lnTo>
                  <a:pt x="2081" y="2342"/>
                </a:lnTo>
                <a:lnTo>
                  <a:pt x="2094" y="2342"/>
                </a:lnTo>
                <a:lnTo>
                  <a:pt x="2108" y="2342"/>
                </a:lnTo>
                <a:lnTo>
                  <a:pt x="2126" y="2342"/>
                </a:lnTo>
              </a:path>
            </a:pathLst>
          </a:custGeom>
          <a:noFill/>
          <a:ln w="507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35120" y="2647440"/>
            <a:ext cx="3870360" cy="4469040"/>
          </a:xfrm>
          <a:custGeom>
            <a:avLst/>
            <a:gdLst>
              <a:gd name="textAreaLeft" fmla="*/ 0 w 3870360"/>
              <a:gd name="textAreaRight" fmla="*/ 3870720 w 3870360"/>
              <a:gd name="textAreaTop" fmla="*/ 360 h 4469040"/>
              <a:gd name="textAreaBottom" fmla="*/ 4469760 h 4469040"/>
            </a:gdLst>
            <a:ahLst/>
            <a:rect l="textAreaLeft" t="textAreaTop" r="textAreaRight" b="textAreaBottom"/>
            <a:pathLst>
              <a:path w="21600" h="24941">
                <a:moveTo>
                  <a:pt x="0" y="0"/>
                </a:moveTo>
                <a:arcTo wR="0" hR="0" stAng="16200000" swAng="-5400000"/>
                <a:lnTo>
                  <a:pt x="0" y="24941"/>
                </a:lnTo>
                <a:arcTo wR="0" hR="0" stAng="10800000" swAng="-5400000"/>
                <a:lnTo>
                  <a:pt x="21600" y="2494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39760" y="35712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junto de insumos requerido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22720" y="2135160"/>
            <a:ext cx="3574800" cy="3944880"/>
          </a:xfrm>
          <a:custGeom>
            <a:avLst/>
            <a:gdLst/>
            <a:ahLst/>
            <a:rect l="l" t="t" r="r" b="b"/>
            <a:pathLst>
              <a:path w="2252" h="2485">
                <a:moveTo>
                  <a:pt x="2093" y="2484"/>
                </a:moveTo>
                <a:lnTo>
                  <a:pt x="2093" y="2484"/>
                </a:lnTo>
                <a:lnTo>
                  <a:pt x="2202" y="2357"/>
                </a:lnTo>
                <a:lnTo>
                  <a:pt x="2128" y="2321"/>
                </a:lnTo>
                <a:lnTo>
                  <a:pt x="2128" y="2215"/>
                </a:lnTo>
                <a:lnTo>
                  <a:pt x="2093" y="2120"/>
                </a:lnTo>
                <a:lnTo>
                  <a:pt x="2202" y="1967"/>
                </a:lnTo>
                <a:lnTo>
                  <a:pt x="2251" y="1485"/>
                </a:lnTo>
                <a:lnTo>
                  <a:pt x="2044" y="1284"/>
                </a:lnTo>
                <a:lnTo>
                  <a:pt x="2044" y="1082"/>
                </a:lnTo>
                <a:lnTo>
                  <a:pt x="2081" y="964"/>
                </a:lnTo>
                <a:lnTo>
                  <a:pt x="2081" y="859"/>
                </a:lnTo>
                <a:lnTo>
                  <a:pt x="2032" y="859"/>
                </a:lnTo>
                <a:lnTo>
                  <a:pt x="2007" y="730"/>
                </a:lnTo>
                <a:lnTo>
                  <a:pt x="2069" y="530"/>
                </a:lnTo>
                <a:lnTo>
                  <a:pt x="2069" y="328"/>
                </a:lnTo>
                <a:lnTo>
                  <a:pt x="1862" y="293"/>
                </a:lnTo>
                <a:lnTo>
                  <a:pt x="1777" y="93"/>
                </a:lnTo>
                <a:lnTo>
                  <a:pt x="1568" y="93"/>
                </a:lnTo>
                <a:lnTo>
                  <a:pt x="1362" y="58"/>
                </a:lnTo>
                <a:lnTo>
                  <a:pt x="1156" y="129"/>
                </a:lnTo>
                <a:lnTo>
                  <a:pt x="766" y="93"/>
                </a:lnTo>
                <a:lnTo>
                  <a:pt x="670" y="104"/>
                </a:lnTo>
                <a:lnTo>
                  <a:pt x="631" y="0"/>
                </a:lnTo>
                <a:lnTo>
                  <a:pt x="414" y="0"/>
                </a:lnTo>
                <a:lnTo>
                  <a:pt x="208" y="116"/>
                </a:lnTo>
                <a:lnTo>
                  <a:pt x="0" y="141"/>
                </a:lnTo>
                <a:lnTo>
                  <a:pt x="13" y="129"/>
                </a:lnTo>
                <a:lnTo>
                  <a:pt x="25" y="242"/>
                </a:lnTo>
                <a:lnTo>
                  <a:pt x="26" y="270"/>
                </a:lnTo>
                <a:lnTo>
                  <a:pt x="33" y="307"/>
                </a:lnTo>
                <a:lnTo>
                  <a:pt x="40" y="357"/>
                </a:lnTo>
                <a:lnTo>
                  <a:pt x="52" y="411"/>
                </a:lnTo>
                <a:lnTo>
                  <a:pt x="63" y="469"/>
                </a:lnTo>
                <a:lnTo>
                  <a:pt x="76" y="531"/>
                </a:lnTo>
                <a:lnTo>
                  <a:pt x="88" y="592"/>
                </a:lnTo>
                <a:lnTo>
                  <a:pt x="103" y="647"/>
                </a:lnTo>
                <a:lnTo>
                  <a:pt x="117" y="707"/>
                </a:lnTo>
                <a:lnTo>
                  <a:pt x="132" y="768"/>
                </a:lnTo>
                <a:lnTo>
                  <a:pt x="150" y="834"/>
                </a:lnTo>
                <a:lnTo>
                  <a:pt x="167" y="897"/>
                </a:lnTo>
                <a:lnTo>
                  <a:pt x="186" y="958"/>
                </a:lnTo>
                <a:lnTo>
                  <a:pt x="200" y="1011"/>
                </a:lnTo>
                <a:lnTo>
                  <a:pt x="217" y="1055"/>
                </a:lnTo>
                <a:lnTo>
                  <a:pt x="230" y="1089"/>
                </a:lnTo>
                <a:lnTo>
                  <a:pt x="244" y="1123"/>
                </a:lnTo>
                <a:lnTo>
                  <a:pt x="260" y="1161"/>
                </a:lnTo>
                <a:lnTo>
                  <a:pt x="278" y="1206"/>
                </a:lnTo>
                <a:lnTo>
                  <a:pt x="299" y="1251"/>
                </a:lnTo>
                <a:lnTo>
                  <a:pt x="319" y="1302"/>
                </a:lnTo>
                <a:lnTo>
                  <a:pt x="340" y="1349"/>
                </a:lnTo>
                <a:lnTo>
                  <a:pt x="357" y="1394"/>
                </a:lnTo>
                <a:lnTo>
                  <a:pt x="376" y="1431"/>
                </a:lnTo>
                <a:lnTo>
                  <a:pt x="393" y="1471"/>
                </a:lnTo>
                <a:lnTo>
                  <a:pt x="412" y="1513"/>
                </a:lnTo>
                <a:lnTo>
                  <a:pt x="434" y="1561"/>
                </a:lnTo>
                <a:lnTo>
                  <a:pt x="454" y="1605"/>
                </a:lnTo>
                <a:lnTo>
                  <a:pt x="474" y="1648"/>
                </a:lnTo>
                <a:lnTo>
                  <a:pt x="493" y="1689"/>
                </a:lnTo>
                <a:lnTo>
                  <a:pt x="508" y="1723"/>
                </a:lnTo>
                <a:lnTo>
                  <a:pt x="523" y="1750"/>
                </a:lnTo>
                <a:lnTo>
                  <a:pt x="536" y="1776"/>
                </a:lnTo>
                <a:lnTo>
                  <a:pt x="552" y="1807"/>
                </a:lnTo>
                <a:lnTo>
                  <a:pt x="572" y="1838"/>
                </a:lnTo>
                <a:lnTo>
                  <a:pt x="596" y="1873"/>
                </a:lnTo>
                <a:lnTo>
                  <a:pt x="619" y="1909"/>
                </a:lnTo>
                <a:lnTo>
                  <a:pt x="642" y="1943"/>
                </a:lnTo>
                <a:lnTo>
                  <a:pt x="663" y="1973"/>
                </a:lnTo>
                <a:lnTo>
                  <a:pt x="687" y="1997"/>
                </a:lnTo>
                <a:lnTo>
                  <a:pt x="708" y="2022"/>
                </a:lnTo>
                <a:lnTo>
                  <a:pt x="734" y="2049"/>
                </a:lnTo>
                <a:lnTo>
                  <a:pt x="758" y="2081"/>
                </a:lnTo>
                <a:lnTo>
                  <a:pt x="792" y="2107"/>
                </a:lnTo>
                <a:lnTo>
                  <a:pt x="818" y="2134"/>
                </a:lnTo>
                <a:lnTo>
                  <a:pt x="845" y="2161"/>
                </a:lnTo>
                <a:lnTo>
                  <a:pt x="869" y="2182"/>
                </a:lnTo>
                <a:lnTo>
                  <a:pt x="894" y="2197"/>
                </a:lnTo>
                <a:lnTo>
                  <a:pt x="934" y="2229"/>
                </a:lnTo>
                <a:lnTo>
                  <a:pt x="976" y="2257"/>
                </a:lnTo>
                <a:lnTo>
                  <a:pt x="1010" y="2281"/>
                </a:lnTo>
                <a:lnTo>
                  <a:pt x="1034" y="2297"/>
                </a:lnTo>
                <a:lnTo>
                  <a:pt x="1054" y="2309"/>
                </a:lnTo>
                <a:lnTo>
                  <a:pt x="1084" y="2324"/>
                </a:lnTo>
                <a:lnTo>
                  <a:pt x="1116" y="2338"/>
                </a:lnTo>
                <a:lnTo>
                  <a:pt x="1150" y="2351"/>
                </a:lnTo>
                <a:lnTo>
                  <a:pt x="1166" y="2357"/>
                </a:lnTo>
                <a:lnTo>
                  <a:pt x="1188" y="2364"/>
                </a:lnTo>
                <a:lnTo>
                  <a:pt x="1211" y="2372"/>
                </a:lnTo>
                <a:lnTo>
                  <a:pt x="1240" y="2379"/>
                </a:lnTo>
                <a:lnTo>
                  <a:pt x="1270" y="2387"/>
                </a:lnTo>
                <a:lnTo>
                  <a:pt x="1296" y="2398"/>
                </a:lnTo>
                <a:lnTo>
                  <a:pt x="1326" y="2404"/>
                </a:lnTo>
                <a:lnTo>
                  <a:pt x="1349" y="2408"/>
                </a:lnTo>
                <a:lnTo>
                  <a:pt x="1404" y="2421"/>
                </a:lnTo>
                <a:lnTo>
                  <a:pt x="1466" y="2432"/>
                </a:lnTo>
                <a:lnTo>
                  <a:pt x="1524" y="2445"/>
                </a:lnTo>
                <a:lnTo>
                  <a:pt x="1576" y="2450"/>
                </a:lnTo>
                <a:lnTo>
                  <a:pt x="1624" y="2457"/>
                </a:lnTo>
                <a:lnTo>
                  <a:pt x="1685" y="2461"/>
                </a:lnTo>
                <a:lnTo>
                  <a:pt x="1749" y="2465"/>
                </a:lnTo>
                <a:lnTo>
                  <a:pt x="1806" y="2467"/>
                </a:lnTo>
                <a:lnTo>
                  <a:pt x="1862" y="2471"/>
                </a:lnTo>
                <a:lnTo>
                  <a:pt x="1926" y="2471"/>
                </a:lnTo>
                <a:lnTo>
                  <a:pt x="1988" y="2471"/>
                </a:lnTo>
                <a:lnTo>
                  <a:pt x="2142" y="2471"/>
                </a:lnTo>
                <a:lnTo>
                  <a:pt x="2093" y="2484"/>
                </a:lnTo>
                <a:lnTo>
                  <a:pt x="2093" y="2484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34400" y="688968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7160" y="7132680"/>
            <a:ext cx="871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52600" y="17845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63920" y="2023920"/>
            <a:ext cx="903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527200" y="2247480"/>
            <a:ext cx="0" cy="48848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27200" y="7132680"/>
            <a:ext cx="531180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49280" y="4471920"/>
            <a:ext cx="2868840" cy="2151000"/>
          </a:xfrm>
          <a:custGeom>
            <a:avLst/>
            <a:gdLst/>
            <a:ahLst/>
            <a:rect l="l" t="t" r="r" b="b"/>
            <a:pathLst>
              <a:path w="1466" h="1073">
                <a:moveTo>
                  <a:pt x="930" y="1072"/>
                </a:moveTo>
                <a:lnTo>
                  <a:pt x="930" y="949"/>
                </a:lnTo>
                <a:lnTo>
                  <a:pt x="0" y="949"/>
                </a:lnTo>
                <a:lnTo>
                  <a:pt x="0" y="111"/>
                </a:lnTo>
                <a:lnTo>
                  <a:pt x="930" y="111"/>
                </a:lnTo>
                <a:lnTo>
                  <a:pt x="930" y="0"/>
                </a:lnTo>
                <a:lnTo>
                  <a:pt x="1465" y="535"/>
                </a:lnTo>
                <a:lnTo>
                  <a:pt x="930" y="1072"/>
                </a:lnTo>
                <a:lnTo>
                  <a:pt x="930" y="1072"/>
                </a:lnTo>
              </a:path>
            </a:pathLst>
          </a:custGeom>
          <a:solidFill>
            <a:srgbClr val="ffffc2"/>
          </a:solidFill>
          <a:ln w="9360">
            <a:solidFill>
              <a:srgbClr val="00008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498680" y="5784840"/>
            <a:ext cx="2376360" cy="1004400"/>
            <a:chOff x="1498680" y="5784840"/>
            <a:chExt cx="2376360" cy="1004400"/>
          </a:xfrm>
        </p:grpSpPr>
        <p:sp>
          <p:nvSpPr>
            <p:cNvPr id="305" name=""/>
            <p:cNvSpPr/>
            <p:nvPr/>
          </p:nvSpPr>
          <p:spPr>
            <a:xfrm>
              <a:off x="1498680" y="5784840"/>
              <a:ext cx="23763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) 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0160" y="6104880"/>
              <a:ext cx="9320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80160" y="5635800"/>
            <a:ext cx="3469680" cy="1703160"/>
            <a:chOff x="5780160" y="5635800"/>
            <a:chExt cx="3469680" cy="1703160"/>
          </a:xfrm>
        </p:grpSpPr>
        <p:sp>
          <p:nvSpPr>
            <p:cNvPr id="308" name=""/>
            <p:cNvSpPr/>
            <p:nvPr/>
          </p:nvSpPr>
          <p:spPr>
            <a:xfrm flipH="1">
              <a:off x="5780160" y="5635800"/>
              <a:ext cx="3469680" cy="1703160"/>
            </a:xfrm>
            <a:custGeom>
              <a:avLst/>
              <a:gdLst/>
              <a:ahLst/>
              <a:rect l="l" t="t" r="r" b="b"/>
              <a:pathLst>
                <a:path w="1466" h="1073">
                  <a:moveTo>
                    <a:pt x="930" y="1072"/>
                  </a:moveTo>
                  <a:lnTo>
                    <a:pt x="930" y="949"/>
                  </a:lnTo>
                  <a:lnTo>
                    <a:pt x="0" y="949"/>
                  </a:lnTo>
                  <a:lnTo>
                    <a:pt x="0" y="111"/>
                  </a:lnTo>
                  <a:lnTo>
                    <a:pt x="930" y="111"/>
                  </a:lnTo>
                  <a:lnTo>
                    <a:pt x="930" y="0"/>
                  </a:lnTo>
                  <a:lnTo>
                    <a:pt x="1465" y="535"/>
                  </a:lnTo>
                  <a:lnTo>
                    <a:pt x="930" y="1072"/>
                  </a:lnTo>
                  <a:lnTo>
                    <a:pt x="930" y="1072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656040" y="6116400"/>
              <a:ext cx="2207880" cy="7315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618600" y="5945040"/>
            <a:ext cx="258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untos infacti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08440" y="2735280"/>
            <a:ext cx="1819440" cy="1473120"/>
            <a:chOff x="4708440" y="2735280"/>
            <a:chExt cx="1819440" cy="1473120"/>
          </a:xfrm>
        </p:grpSpPr>
        <p:sp>
          <p:nvSpPr>
            <p:cNvPr id="312" name=""/>
            <p:cNvSpPr/>
            <p:nvPr/>
          </p:nvSpPr>
          <p:spPr>
            <a:xfrm>
              <a:off x="4708440" y="3191040"/>
              <a:ext cx="1819440" cy="101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3880" y="2735280"/>
              <a:ext cx="118764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_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32080" y="2116080"/>
            <a:ext cx="3575160" cy="3944880"/>
          </a:xfrm>
          <a:custGeom>
            <a:avLst/>
            <a:gdLst/>
            <a:ahLst/>
            <a:rect l="l" t="t" r="r" b="b"/>
            <a:pathLst>
              <a:path w="2252" h="2485">
                <a:moveTo>
                  <a:pt x="2093" y="2484"/>
                </a:moveTo>
                <a:lnTo>
                  <a:pt x="2093" y="2484"/>
                </a:lnTo>
                <a:lnTo>
                  <a:pt x="2202" y="2357"/>
                </a:lnTo>
                <a:lnTo>
                  <a:pt x="2128" y="2321"/>
                </a:lnTo>
                <a:lnTo>
                  <a:pt x="2128" y="2215"/>
                </a:lnTo>
                <a:lnTo>
                  <a:pt x="2093" y="2120"/>
                </a:lnTo>
                <a:lnTo>
                  <a:pt x="2202" y="1967"/>
                </a:lnTo>
                <a:lnTo>
                  <a:pt x="2251" y="1485"/>
                </a:lnTo>
                <a:lnTo>
                  <a:pt x="2044" y="1284"/>
                </a:lnTo>
                <a:lnTo>
                  <a:pt x="2044" y="1082"/>
                </a:lnTo>
                <a:lnTo>
                  <a:pt x="2081" y="964"/>
                </a:lnTo>
                <a:lnTo>
                  <a:pt x="2081" y="859"/>
                </a:lnTo>
                <a:lnTo>
                  <a:pt x="2032" y="859"/>
                </a:lnTo>
                <a:lnTo>
                  <a:pt x="2007" y="730"/>
                </a:lnTo>
                <a:lnTo>
                  <a:pt x="2069" y="530"/>
                </a:lnTo>
                <a:lnTo>
                  <a:pt x="2069" y="328"/>
                </a:lnTo>
                <a:lnTo>
                  <a:pt x="1862" y="293"/>
                </a:lnTo>
                <a:lnTo>
                  <a:pt x="1777" y="93"/>
                </a:lnTo>
                <a:lnTo>
                  <a:pt x="1568" y="93"/>
                </a:lnTo>
                <a:lnTo>
                  <a:pt x="1362" y="58"/>
                </a:lnTo>
                <a:lnTo>
                  <a:pt x="1156" y="129"/>
                </a:lnTo>
                <a:lnTo>
                  <a:pt x="766" y="93"/>
                </a:lnTo>
                <a:lnTo>
                  <a:pt x="670" y="104"/>
                </a:lnTo>
                <a:lnTo>
                  <a:pt x="631" y="0"/>
                </a:lnTo>
                <a:lnTo>
                  <a:pt x="414" y="0"/>
                </a:lnTo>
                <a:lnTo>
                  <a:pt x="208" y="116"/>
                </a:lnTo>
                <a:lnTo>
                  <a:pt x="0" y="141"/>
                </a:lnTo>
                <a:lnTo>
                  <a:pt x="13" y="129"/>
                </a:lnTo>
                <a:lnTo>
                  <a:pt x="25" y="242"/>
                </a:lnTo>
                <a:lnTo>
                  <a:pt x="26" y="270"/>
                </a:lnTo>
                <a:lnTo>
                  <a:pt x="33" y="307"/>
                </a:lnTo>
                <a:lnTo>
                  <a:pt x="40" y="357"/>
                </a:lnTo>
                <a:lnTo>
                  <a:pt x="52" y="411"/>
                </a:lnTo>
                <a:lnTo>
                  <a:pt x="63" y="469"/>
                </a:lnTo>
                <a:lnTo>
                  <a:pt x="76" y="531"/>
                </a:lnTo>
                <a:lnTo>
                  <a:pt x="88" y="592"/>
                </a:lnTo>
                <a:lnTo>
                  <a:pt x="103" y="647"/>
                </a:lnTo>
                <a:lnTo>
                  <a:pt x="117" y="707"/>
                </a:lnTo>
                <a:lnTo>
                  <a:pt x="132" y="768"/>
                </a:lnTo>
                <a:lnTo>
                  <a:pt x="150" y="834"/>
                </a:lnTo>
                <a:lnTo>
                  <a:pt x="167" y="897"/>
                </a:lnTo>
                <a:lnTo>
                  <a:pt x="186" y="958"/>
                </a:lnTo>
                <a:lnTo>
                  <a:pt x="200" y="1011"/>
                </a:lnTo>
                <a:lnTo>
                  <a:pt x="217" y="1055"/>
                </a:lnTo>
                <a:lnTo>
                  <a:pt x="230" y="1089"/>
                </a:lnTo>
                <a:lnTo>
                  <a:pt x="244" y="1123"/>
                </a:lnTo>
                <a:lnTo>
                  <a:pt x="260" y="1161"/>
                </a:lnTo>
                <a:lnTo>
                  <a:pt x="278" y="1206"/>
                </a:lnTo>
                <a:lnTo>
                  <a:pt x="299" y="1251"/>
                </a:lnTo>
                <a:lnTo>
                  <a:pt x="319" y="1302"/>
                </a:lnTo>
                <a:lnTo>
                  <a:pt x="340" y="1349"/>
                </a:lnTo>
                <a:lnTo>
                  <a:pt x="357" y="1394"/>
                </a:lnTo>
                <a:lnTo>
                  <a:pt x="376" y="1431"/>
                </a:lnTo>
                <a:lnTo>
                  <a:pt x="393" y="1471"/>
                </a:lnTo>
                <a:lnTo>
                  <a:pt x="412" y="1513"/>
                </a:lnTo>
                <a:lnTo>
                  <a:pt x="434" y="1561"/>
                </a:lnTo>
                <a:lnTo>
                  <a:pt x="454" y="1605"/>
                </a:lnTo>
                <a:lnTo>
                  <a:pt x="474" y="1648"/>
                </a:lnTo>
                <a:lnTo>
                  <a:pt x="493" y="1689"/>
                </a:lnTo>
                <a:lnTo>
                  <a:pt x="508" y="1723"/>
                </a:lnTo>
                <a:lnTo>
                  <a:pt x="523" y="1750"/>
                </a:lnTo>
                <a:lnTo>
                  <a:pt x="536" y="1776"/>
                </a:lnTo>
                <a:lnTo>
                  <a:pt x="552" y="1807"/>
                </a:lnTo>
                <a:lnTo>
                  <a:pt x="572" y="1838"/>
                </a:lnTo>
                <a:lnTo>
                  <a:pt x="596" y="1873"/>
                </a:lnTo>
                <a:lnTo>
                  <a:pt x="619" y="1909"/>
                </a:lnTo>
                <a:lnTo>
                  <a:pt x="642" y="1943"/>
                </a:lnTo>
                <a:lnTo>
                  <a:pt x="663" y="1973"/>
                </a:lnTo>
                <a:lnTo>
                  <a:pt x="687" y="1997"/>
                </a:lnTo>
                <a:lnTo>
                  <a:pt x="708" y="2022"/>
                </a:lnTo>
                <a:lnTo>
                  <a:pt x="734" y="2049"/>
                </a:lnTo>
                <a:lnTo>
                  <a:pt x="758" y="2081"/>
                </a:lnTo>
                <a:lnTo>
                  <a:pt x="792" y="2107"/>
                </a:lnTo>
                <a:lnTo>
                  <a:pt x="818" y="2134"/>
                </a:lnTo>
                <a:lnTo>
                  <a:pt x="845" y="2161"/>
                </a:lnTo>
                <a:lnTo>
                  <a:pt x="869" y="2182"/>
                </a:lnTo>
                <a:lnTo>
                  <a:pt x="894" y="2197"/>
                </a:lnTo>
                <a:lnTo>
                  <a:pt x="934" y="2229"/>
                </a:lnTo>
                <a:lnTo>
                  <a:pt x="976" y="2257"/>
                </a:lnTo>
                <a:lnTo>
                  <a:pt x="1010" y="2281"/>
                </a:lnTo>
                <a:lnTo>
                  <a:pt x="1034" y="2297"/>
                </a:lnTo>
                <a:lnTo>
                  <a:pt x="1054" y="2309"/>
                </a:lnTo>
                <a:lnTo>
                  <a:pt x="1084" y="2324"/>
                </a:lnTo>
                <a:lnTo>
                  <a:pt x="1116" y="2338"/>
                </a:lnTo>
                <a:lnTo>
                  <a:pt x="1150" y="2351"/>
                </a:lnTo>
                <a:lnTo>
                  <a:pt x="1166" y="2357"/>
                </a:lnTo>
                <a:lnTo>
                  <a:pt x="1188" y="2364"/>
                </a:lnTo>
                <a:lnTo>
                  <a:pt x="1211" y="2372"/>
                </a:lnTo>
                <a:lnTo>
                  <a:pt x="1240" y="2379"/>
                </a:lnTo>
                <a:lnTo>
                  <a:pt x="1270" y="2387"/>
                </a:lnTo>
                <a:lnTo>
                  <a:pt x="1296" y="2398"/>
                </a:lnTo>
                <a:lnTo>
                  <a:pt x="1326" y="2404"/>
                </a:lnTo>
                <a:lnTo>
                  <a:pt x="1349" y="2408"/>
                </a:lnTo>
                <a:lnTo>
                  <a:pt x="1404" y="2421"/>
                </a:lnTo>
                <a:lnTo>
                  <a:pt x="1466" y="2432"/>
                </a:lnTo>
                <a:lnTo>
                  <a:pt x="1524" y="2445"/>
                </a:lnTo>
                <a:lnTo>
                  <a:pt x="1576" y="2450"/>
                </a:lnTo>
                <a:lnTo>
                  <a:pt x="1624" y="2457"/>
                </a:lnTo>
                <a:lnTo>
                  <a:pt x="1685" y="2461"/>
                </a:lnTo>
                <a:lnTo>
                  <a:pt x="1749" y="2465"/>
                </a:lnTo>
                <a:lnTo>
                  <a:pt x="1806" y="2467"/>
                </a:lnTo>
                <a:lnTo>
                  <a:pt x="1862" y="2471"/>
                </a:lnTo>
                <a:lnTo>
                  <a:pt x="1926" y="2471"/>
                </a:lnTo>
                <a:lnTo>
                  <a:pt x="1988" y="2471"/>
                </a:lnTo>
                <a:lnTo>
                  <a:pt x="2142" y="2471"/>
                </a:lnTo>
                <a:lnTo>
                  <a:pt x="2093" y="2484"/>
                </a:lnTo>
                <a:lnTo>
                  <a:pt x="2093" y="2484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17680" y="4626000"/>
            <a:ext cx="22669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untos técnicamente efici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299280" y="3073320"/>
            <a:ext cx="3169800" cy="1993680"/>
            <a:chOff x="6299280" y="3073320"/>
            <a:chExt cx="3169800" cy="1993680"/>
          </a:xfrm>
        </p:grpSpPr>
        <p:sp>
          <p:nvSpPr>
            <p:cNvPr id="317" name=""/>
            <p:cNvSpPr/>
            <p:nvPr/>
          </p:nvSpPr>
          <p:spPr>
            <a:xfrm>
              <a:off x="6299280" y="3073320"/>
              <a:ext cx="3169800" cy="1993680"/>
            </a:xfrm>
            <a:custGeom>
              <a:avLst/>
              <a:gdLst/>
              <a:ahLst/>
              <a:rect l="l" t="t" r="r" b="b"/>
              <a:pathLst>
                <a:path w="1462" h="1064">
                  <a:moveTo>
                    <a:pt x="531" y="1063"/>
                  </a:moveTo>
                  <a:lnTo>
                    <a:pt x="531" y="946"/>
                  </a:lnTo>
                  <a:lnTo>
                    <a:pt x="1461" y="946"/>
                  </a:lnTo>
                  <a:lnTo>
                    <a:pt x="1461" y="107"/>
                  </a:lnTo>
                  <a:lnTo>
                    <a:pt x="531" y="107"/>
                  </a:lnTo>
                  <a:lnTo>
                    <a:pt x="531" y="0"/>
                  </a:lnTo>
                  <a:lnTo>
                    <a:pt x="0" y="532"/>
                  </a:lnTo>
                  <a:lnTo>
                    <a:pt x="531" y="1063"/>
                  </a:lnTo>
                  <a:lnTo>
                    <a:pt x="531" y="1063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85960" y="3635280"/>
              <a:ext cx="2022840" cy="8618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6967440" y="3382920"/>
            <a:ext cx="241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untos factibles, pero inefici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832440" y="6485040"/>
            <a:ext cx="2376360" cy="1002960"/>
            <a:chOff x="6832440" y="6485040"/>
            <a:chExt cx="2376360" cy="1002960"/>
          </a:xfrm>
        </p:grpSpPr>
        <p:sp>
          <p:nvSpPr>
            <p:cNvPr id="321" name=""/>
            <p:cNvSpPr/>
            <p:nvPr/>
          </p:nvSpPr>
          <p:spPr>
            <a:xfrm>
              <a:off x="6832440" y="6485040"/>
              <a:ext cx="23763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) &l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3920" y="6804360"/>
              <a:ext cx="9320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01080" y="4202280"/>
            <a:ext cx="2377440" cy="1004400"/>
            <a:chOff x="7201080" y="4202280"/>
            <a:chExt cx="2377440" cy="1004400"/>
          </a:xfrm>
        </p:grpSpPr>
        <p:sp>
          <p:nvSpPr>
            <p:cNvPr id="324" name=""/>
            <p:cNvSpPr/>
            <p:nvPr/>
          </p:nvSpPr>
          <p:spPr>
            <a:xfrm>
              <a:off x="7201080" y="4202280"/>
              <a:ext cx="23774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  , z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) &g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02560" y="4522320"/>
              <a:ext cx="932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206880" y="2340000"/>
            <a:ext cx="3376440" cy="3719520"/>
          </a:xfrm>
          <a:custGeom>
            <a:avLst/>
            <a:gdLst/>
            <a:ahLst/>
            <a:rect l="l" t="t" r="r" b="b"/>
            <a:pathLst>
              <a:path w="2127" h="2343">
                <a:moveTo>
                  <a:pt x="0" y="0"/>
                </a:moveTo>
                <a:lnTo>
                  <a:pt x="0" y="20"/>
                </a:lnTo>
                <a:lnTo>
                  <a:pt x="2" y="35"/>
                </a:lnTo>
                <a:lnTo>
                  <a:pt x="3" y="48"/>
                </a:lnTo>
                <a:lnTo>
                  <a:pt x="5" y="58"/>
                </a:lnTo>
                <a:lnTo>
                  <a:pt x="5" y="66"/>
                </a:lnTo>
                <a:lnTo>
                  <a:pt x="5" y="71"/>
                </a:lnTo>
                <a:lnTo>
                  <a:pt x="5" y="75"/>
                </a:lnTo>
                <a:lnTo>
                  <a:pt x="7" y="77"/>
                </a:lnTo>
                <a:lnTo>
                  <a:pt x="7" y="81"/>
                </a:lnTo>
                <a:lnTo>
                  <a:pt x="7" y="83"/>
                </a:lnTo>
                <a:lnTo>
                  <a:pt x="7" y="85"/>
                </a:lnTo>
                <a:lnTo>
                  <a:pt x="8" y="87"/>
                </a:lnTo>
                <a:lnTo>
                  <a:pt x="8" y="92"/>
                </a:lnTo>
                <a:lnTo>
                  <a:pt x="9" y="97"/>
                </a:lnTo>
                <a:lnTo>
                  <a:pt x="10" y="104"/>
                </a:lnTo>
                <a:lnTo>
                  <a:pt x="12" y="113"/>
                </a:lnTo>
                <a:lnTo>
                  <a:pt x="13" y="125"/>
                </a:lnTo>
                <a:lnTo>
                  <a:pt x="15" y="140"/>
                </a:lnTo>
                <a:lnTo>
                  <a:pt x="18" y="159"/>
                </a:lnTo>
                <a:lnTo>
                  <a:pt x="22" y="179"/>
                </a:lnTo>
                <a:lnTo>
                  <a:pt x="25" y="202"/>
                </a:lnTo>
                <a:lnTo>
                  <a:pt x="30" y="228"/>
                </a:lnTo>
                <a:lnTo>
                  <a:pt x="35" y="255"/>
                </a:lnTo>
                <a:lnTo>
                  <a:pt x="40" y="282"/>
                </a:lnTo>
                <a:lnTo>
                  <a:pt x="45" y="312"/>
                </a:lnTo>
                <a:lnTo>
                  <a:pt x="51" y="341"/>
                </a:lnTo>
                <a:lnTo>
                  <a:pt x="56" y="372"/>
                </a:lnTo>
                <a:lnTo>
                  <a:pt x="63" y="402"/>
                </a:lnTo>
                <a:lnTo>
                  <a:pt x="69" y="432"/>
                </a:lnTo>
                <a:lnTo>
                  <a:pt x="76" y="462"/>
                </a:lnTo>
                <a:lnTo>
                  <a:pt x="82" y="491"/>
                </a:lnTo>
                <a:lnTo>
                  <a:pt x="90" y="518"/>
                </a:lnTo>
                <a:lnTo>
                  <a:pt x="95" y="548"/>
                </a:lnTo>
                <a:lnTo>
                  <a:pt x="103" y="577"/>
                </a:lnTo>
                <a:lnTo>
                  <a:pt x="110" y="608"/>
                </a:lnTo>
                <a:lnTo>
                  <a:pt x="119" y="639"/>
                </a:lnTo>
                <a:lnTo>
                  <a:pt x="126" y="672"/>
                </a:lnTo>
                <a:lnTo>
                  <a:pt x="136" y="704"/>
                </a:lnTo>
                <a:lnTo>
                  <a:pt x="144" y="736"/>
                </a:lnTo>
                <a:lnTo>
                  <a:pt x="154" y="767"/>
                </a:lnTo>
                <a:lnTo>
                  <a:pt x="161" y="798"/>
                </a:lnTo>
                <a:lnTo>
                  <a:pt x="171" y="828"/>
                </a:lnTo>
                <a:lnTo>
                  <a:pt x="179" y="856"/>
                </a:lnTo>
                <a:lnTo>
                  <a:pt x="188" y="882"/>
                </a:lnTo>
                <a:lnTo>
                  <a:pt x="196" y="906"/>
                </a:lnTo>
                <a:lnTo>
                  <a:pt x="204" y="927"/>
                </a:lnTo>
                <a:lnTo>
                  <a:pt x="210" y="946"/>
                </a:lnTo>
                <a:lnTo>
                  <a:pt x="218" y="960"/>
                </a:lnTo>
                <a:lnTo>
                  <a:pt x="223" y="976"/>
                </a:lnTo>
                <a:lnTo>
                  <a:pt x="230" y="993"/>
                </a:lnTo>
                <a:lnTo>
                  <a:pt x="238" y="1012"/>
                </a:lnTo>
                <a:lnTo>
                  <a:pt x="246" y="1032"/>
                </a:lnTo>
                <a:lnTo>
                  <a:pt x="255" y="1055"/>
                </a:lnTo>
                <a:lnTo>
                  <a:pt x="265" y="1078"/>
                </a:lnTo>
                <a:lnTo>
                  <a:pt x="274" y="1101"/>
                </a:lnTo>
                <a:lnTo>
                  <a:pt x="286" y="1124"/>
                </a:lnTo>
                <a:lnTo>
                  <a:pt x="295" y="1148"/>
                </a:lnTo>
                <a:lnTo>
                  <a:pt x="306" y="1173"/>
                </a:lnTo>
                <a:lnTo>
                  <a:pt x="315" y="1197"/>
                </a:lnTo>
                <a:lnTo>
                  <a:pt x="326" y="1220"/>
                </a:lnTo>
                <a:lnTo>
                  <a:pt x="336" y="1243"/>
                </a:lnTo>
                <a:lnTo>
                  <a:pt x="345" y="1265"/>
                </a:lnTo>
                <a:lnTo>
                  <a:pt x="355" y="1285"/>
                </a:lnTo>
                <a:lnTo>
                  <a:pt x="364" y="1303"/>
                </a:lnTo>
                <a:lnTo>
                  <a:pt x="372" y="1323"/>
                </a:lnTo>
                <a:lnTo>
                  <a:pt x="380" y="1343"/>
                </a:lnTo>
                <a:lnTo>
                  <a:pt x="389" y="1364"/>
                </a:lnTo>
                <a:lnTo>
                  <a:pt x="399" y="1385"/>
                </a:lnTo>
                <a:lnTo>
                  <a:pt x="408" y="1408"/>
                </a:lnTo>
                <a:lnTo>
                  <a:pt x="419" y="1430"/>
                </a:lnTo>
                <a:lnTo>
                  <a:pt x="428" y="1452"/>
                </a:lnTo>
                <a:lnTo>
                  <a:pt x="440" y="1475"/>
                </a:lnTo>
                <a:lnTo>
                  <a:pt x="449" y="1497"/>
                </a:lnTo>
                <a:lnTo>
                  <a:pt x="459" y="1519"/>
                </a:lnTo>
                <a:lnTo>
                  <a:pt x="468" y="1540"/>
                </a:lnTo>
                <a:lnTo>
                  <a:pt x="478" y="1559"/>
                </a:lnTo>
                <a:lnTo>
                  <a:pt x="486" y="1578"/>
                </a:lnTo>
                <a:lnTo>
                  <a:pt x="494" y="1594"/>
                </a:lnTo>
                <a:lnTo>
                  <a:pt x="501" y="1609"/>
                </a:lnTo>
                <a:lnTo>
                  <a:pt x="509" y="1621"/>
                </a:lnTo>
                <a:lnTo>
                  <a:pt x="514" y="1634"/>
                </a:lnTo>
                <a:lnTo>
                  <a:pt x="522" y="1646"/>
                </a:lnTo>
                <a:lnTo>
                  <a:pt x="530" y="1661"/>
                </a:lnTo>
                <a:lnTo>
                  <a:pt x="540" y="1676"/>
                </a:lnTo>
                <a:lnTo>
                  <a:pt x="549" y="1693"/>
                </a:lnTo>
                <a:lnTo>
                  <a:pt x="560" y="1710"/>
                </a:lnTo>
                <a:lnTo>
                  <a:pt x="571" y="1726"/>
                </a:lnTo>
                <a:lnTo>
                  <a:pt x="582" y="1743"/>
                </a:lnTo>
                <a:lnTo>
                  <a:pt x="594" y="1762"/>
                </a:lnTo>
                <a:lnTo>
                  <a:pt x="605" y="1779"/>
                </a:lnTo>
                <a:lnTo>
                  <a:pt x="616" y="1796"/>
                </a:lnTo>
                <a:lnTo>
                  <a:pt x="629" y="1812"/>
                </a:lnTo>
                <a:lnTo>
                  <a:pt x="640" y="1828"/>
                </a:lnTo>
                <a:lnTo>
                  <a:pt x="652" y="1842"/>
                </a:lnTo>
                <a:lnTo>
                  <a:pt x="662" y="1856"/>
                </a:lnTo>
                <a:lnTo>
                  <a:pt x="673" y="1868"/>
                </a:lnTo>
                <a:lnTo>
                  <a:pt x="683" y="1881"/>
                </a:lnTo>
                <a:lnTo>
                  <a:pt x="694" y="1894"/>
                </a:lnTo>
                <a:lnTo>
                  <a:pt x="707" y="1907"/>
                </a:lnTo>
                <a:lnTo>
                  <a:pt x="720" y="1920"/>
                </a:lnTo>
                <a:lnTo>
                  <a:pt x="733" y="1936"/>
                </a:lnTo>
                <a:lnTo>
                  <a:pt x="747" y="1948"/>
                </a:lnTo>
                <a:lnTo>
                  <a:pt x="762" y="1964"/>
                </a:lnTo>
                <a:lnTo>
                  <a:pt x="776" y="1977"/>
                </a:lnTo>
                <a:lnTo>
                  <a:pt x="790" y="1992"/>
                </a:lnTo>
                <a:lnTo>
                  <a:pt x="805" y="2005"/>
                </a:lnTo>
                <a:lnTo>
                  <a:pt x="818" y="2018"/>
                </a:lnTo>
                <a:lnTo>
                  <a:pt x="833" y="2030"/>
                </a:lnTo>
                <a:lnTo>
                  <a:pt x="845" y="2042"/>
                </a:lnTo>
                <a:lnTo>
                  <a:pt x="858" y="2052"/>
                </a:lnTo>
                <a:lnTo>
                  <a:pt x="870" y="2061"/>
                </a:lnTo>
                <a:lnTo>
                  <a:pt x="882" y="2068"/>
                </a:lnTo>
                <a:lnTo>
                  <a:pt x="891" y="2076"/>
                </a:lnTo>
                <a:lnTo>
                  <a:pt x="901" y="2083"/>
                </a:lnTo>
                <a:lnTo>
                  <a:pt x="910" y="2091"/>
                </a:lnTo>
                <a:lnTo>
                  <a:pt x="921" y="2098"/>
                </a:lnTo>
                <a:lnTo>
                  <a:pt x="931" y="2106"/>
                </a:lnTo>
                <a:lnTo>
                  <a:pt x="942" y="2113"/>
                </a:lnTo>
                <a:lnTo>
                  <a:pt x="951" y="2121"/>
                </a:lnTo>
                <a:lnTo>
                  <a:pt x="962" y="2128"/>
                </a:lnTo>
                <a:lnTo>
                  <a:pt x="971" y="2135"/>
                </a:lnTo>
                <a:lnTo>
                  <a:pt x="981" y="2141"/>
                </a:lnTo>
                <a:lnTo>
                  <a:pt x="989" y="2148"/>
                </a:lnTo>
                <a:lnTo>
                  <a:pt x="998" y="2153"/>
                </a:lnTo>
                <a:lnTo>
                  <a:pt x="1004" y="2159"/>
                </a:lnTo>
                <a:lnTo>
                  <a:pt x="1010" y="2162"/>
                </a:lnTo>
                <a:lnTo>
                  <a:pt x="1016" y="2166"/>
                </a:lnTo>
                <a:lnTo>
                  <a:pt x="1021" y="2168"/>
                </a:lnTo>
                <a:lnTo>
                  <a:pt x="1024" y="2172"/>
                </a:lnTo>
                <a:lnTo>
                  <a:pt x="1029" y="2174"/>
                </a:lnTo>
                <a:lnTo>
                  <a:pt x="1034" y="2178"/>
                </a:lnTo>
                <a:lnTo>
                  <a:pt x="1040" y="2180"/>
                </a:lnTo>
                <a:lnTo>
                  <a:pt x="1046" y="2183"/>
                </a:lnTo>
                <a:lnTo>
                  <a:pt x="1054" y="2187"/>
                </a:lnTo>
                <a:lnTo>
                  <a:pt x="1061" y="2191"/>
                </a:lnTo>
                <a:lnTo>
                  <a:pt x="1069" y="2194"/>
                </a:lnTo>
                <a:lnTo>
                  <a:pt x="1077" y="2198"/>
                </a:lnTo>
                <a:lnTo>
                  <a:pt x="1086" y="2202"/>
                </a:lnTo>
                <a:lnTo>
                  <a:pt x="1093" y="2206"/>
                </a:lnTo>
                <a:lnTo>
                  <a:pt x="1102" y="2209"/>
                </a:lnTo>
                <a:lnTo>
                  <a:pt x="1110" y="2213"/>
                </a:lnTo>
                <a:lnTo>
                  <a:pt x="1118" y="2216"/>
                </a:lnTo>
                <a:lnTo>
                  <a:pt x="1126" y="2220"/>
                </a:lnTo>
                <a:lnTo>
                  <a:pt x="1135" y="2222"/>
                </a:lnTo>
                <a:lnTo>
                  <a:pt x="1142" y="2226"/>
                </a:lnTo>
                <a:lnTo>
                  <a:pt x="1152" y="2229"/>
                </a:lnTo>
                <a:lnTo>
                  <a:pt x="1162" y="2232"/>
                </a:lnTo>
                <a:lnTo>
                  <a:pt x="1174" y="2235"/>
                </a:lnTo>
                <a:lnTo>
                  <a:pt x="1186" y="2239"/>
                </a:lnTo>
                <a:lnTo>
                  <a:pt x="1199" y="2243"/>
                </a:lnTo>
                <a:lnTo>
                  <a:pt x="1212" y="2247"/>
                </a:lnTo>
                <a:lnTo>
                  <a:pt x="1227" y="2250"/>
                </a:lnTo>
                <a:lnTo>
                  <a:pt x="1240" y="2256"/>
                </a:lnTo>
                <a:lnTo>
                  <a:pt x="1255" y="2259"/>
                </a:lnTo>
                <a:lnTo>
                  <a:pt x="1269" y="2263"/>
                </a:lnTo>
                <a:lnTo>
                  <a:pt x="1284" y="2267"/>
                </a:lnTo>
                <a:lnTo>
                  <a:pt x="1297" y="2270"/>
                </a:lnTo>
                <a:lnTo>
                  <a:pt x="1311" y="2274"/>
                </a:lnTo>
                <a:lnTo>
                  <a:pt x="1323" y="2277"/>
                </a:lnTo>
                <a:lnTo>
                  <a:pt x="1336" y="2279"/>
                </a:lnTo>
                <a:lnTo>
                  <a:pt x="1347" y="2282"/>
                </a:lnTo>
                <a:lnTo>
                  <a:pt x="1360" y="2286"/>
                </a:lnTo>
                <a:lnTo>
                  <a:pt x="1374" y="2289"/>
                </a:lnTo>
                <a:lnTo>
                  <a:pt x="1389" y="2291"/>
                </a:lnTo>
                <a:lnTo>
                  <a:pt x="1404" y="2295"/>
                </a:lnTo>
                <a:lnTo>
                  <a:pt x="1419" y="2298"/>
                </a:lnTo>
                <a:lnTo>
                  <a:pt x="1435" y="2302"/>
                </a:lnTo>
                <a:lnTo>
                  <a:pt x="1452" y="2304"/>
                </a:lnTo>
                <a:lnTo>
                  <a:pt x="1467" y="2307"/>
                </a:lnTo>
                <a:lnTo>
                  <a:pt x="1482" y="2309"/>
                </a:lnTo>
                <a:lnTo>
                  <a:pt x="1497" y="2312"/>
                </a:lnTo>
                <a:lnTo>
                  <a:pt x="1512" y="2314"/>
                </a:lnTo>
                <a:lnTo>
                  <a:pt x="1525" y="2317"/>
                </a:lnTo>
                <a:lnTo>
                  <a:pt x="1538" y="2318"/>
                </a:lnTo>
                <a:lnTo>
                  <a:pt x="1550" y="2320"/>
                </a:lnTo>
                <a:lnTo>
                  <a:pt x="1562" y="2321"/>
                </a:lnTo>
                <a:lnTo>
                  <a:pt x="1571" y="2323"/>
                </a:lnTo>
                <a:lnTo>
                  <a:pt x="1583" y="2324"/>
                </a:lnTo>
                <a:lnTo>
                  <a:pt x="1595" y="2326"/>
                </a:lnTo>
                <a:lnTo>
                  <a:pt x="1610" y="2326"/>
                </a:lnTo>
                <a:lnTo>
                  <a:pt x="1624" y="2328"/>
                </a:lnTo>
                <a:lnTo>
                  <a:pt x="1640" y="2329"/>
                </a:lnTo>
                <a:lnTo>
                  <a:pt x="1655" y="2331"/>
                </a:lnTo>
                <a:lnTo>
                  <a:pt x="1672" y="2331"/>
                </a:lnTo>
                <a:lnTo>
                  <a:pt x="1687" y="2333"/>
                </a:lnTo>
                <a:lnTo>
                  <a:pt x="1704" y="2334"/>
                </a:lnTo>
                <a:lnTo>
                  <a:pt x="1720" y="2336"/>
                </a:lnTo>
                <a:lnTo>
                  <a:pt x="1736" y="2336"/>
                </a:lnTo>
                <a:lnTo>
                  <a:pt x="1751" y="2337"/>
                </a:lnTo>
                <a:lnTo>
                  <a:pt x="1766" y="2337"/>
                </a:lnTo>
                <a:lnTo>
                  <a:pt x="1779" y="2338"/>
                </a:lnTo>
                <a:lnTo>
                  <a:pt x="1793" y="2338"/>
                </a:lnTo>
                <a:lnTo>
                  <a:pt x="1805" y="2340"/>
                </a:lnTo>
                <a:lnTo>
                  <a:pt x="1818" y="2340"/>
                </a:lnTo>
                <a:lnTo>
                  <a:pt x="1832" y="2340"/>
                </a:lnTo>
                <a:lnTo>
                  <a:pt x="1847" y="2340"/>
                </a:lnTo>
                <a:lnTo>
                  <a:pt x="1862" y="2342"/>
                </a:lnTo>
                <a:lnTo>
                  <a:pt x="1878" y="2342"/>
                </a:lnTo>
                <a:lnTo>
                  <a:pt x="1895" y="2342"/>
                </a:lnTo>
                <a:lnTo>
                  <a:pt x="1912" y="2342"/>
                </a:lnTo>
                <a:lnTo>
                  <a:pt x="1927" y="2342"/>
                </a:lnTo>
                <a:lnTo>
                  <a:pt x="1944" y="2342"/>
                </a:lnTo>
                <a:lnTo>
                  <a:pt x="1958" y="2342"/>
                </a:lnTo>
                <a:lnTo>
                  <a:pt x="1974" y="2342"/>
                </a:lnTo>
                <a:lnTo>
                  <a:pt x="1986" y="2342"/>
                </a:lnTo>
                <a:lnTo>
                  <a:pt x="2000" y="2342"/>
                </a:lnTo>
                <a:lnTo>
                  <a:pt x="2012" y="2342"/>
                </a:lnTo>
                <a:lnTo>
                  <a:pt x="2023" y="2342"/>
                </a:lnTo>
                <a:lnTo>
                  <a:pt x="2031" y="2342"/>
                </a:lnTo>
                <a:lnTo>
                  <a:pt x="2038" y="2342"/>
                </a:lnTo>
                <a:lnTo>
                  <a:pt x="2042" y="2342"/>
                </a:lnTo>
                <a:lnTo>
                  <a:pt x="2046" y="2342"/>
                </a:lnTo>
                <a:lnTo>
                  <a:pt x="2048" y="2342"/>
                </a:lnTo>
                <a:lnTo>
                  <a:pt x="2050" y="2342"/>
                </a:lnTo>
                <a:lnTo>
                  <a:pt x="2052" y="2342"/>
                </a:lnTo>
                <a:lnTo>
                  <a:pt x="2055" y="2342"/>
                </a:lnTo>
                <a:lnTo>
                  <a:pt x="2057" y="2342"/>
                </a:lnTo>
                <a:lnTo>
                  <a:pt x="2061" y="2342"/>
                </a:lnTo>
                <a:lnTo>
                  <a:pt x="2066" y="2342"/>
                </a:lnTo>
                <a:lnTo>
                  <a:pt x="2073" y="2342"/>
                </a:lnTo>
                <a:lnTo>
                  <a:pt x="2081" y="2342"/>
                </a:lnTo>
                <a:lnTo>
                  <a:pt x="2094" y="2342"/>
                </a:lnTo>
                <a:lnTo>
                  <a:pt x="2108" y="2342"/>
                </a:lnTo>
                <a:lnTo>
                  <a:pt x="2126" y="234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60280" y="310680"/>
            <a:ext cx="9453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so 1: “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Z”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es suave y extremadamente convex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8320" y="2149560"/>
            <a:ext cx="3576600" cy="3946320"/>
          </a:xfrm>
          <a:custGeom>
            <a:avLst/>
            <a:gdLst/>
            <a:ahLst/>
            <a:rect l="l" t="t" r="r" b="b"/>
            <a:pathLst>
              <a:path w="2252" h="2486">
                <a:moveTo>
                  <a:pt x="2093" y="2485"/>
                </a:moveTo>
                <a:lnTo>
                  <a:pt x="2093" y="2485"/>
                </a:lnTo>
                <a:lnTo>
                  <a:pt x="2202" y="2357"/>
                </a:lnTo>
                <a:lnTo>
                  <a:pt x="2128" y="2322"/>
                </a:lnTo>
                <a:lnTo>
                  <a:pt x="2128" y="2216"/>
                </a:lnTo>
                <a:lnTo>
                  <a:pt x="2093" y="2120"/>
                </a:lnTo>
                <a:lnTo>
                  <a:pt x="2202" y="1967"/>
                </a:lnTo>
                <a:lnTo>
                  <a:pt x="2251" y="1485"/>
                </a:lnTo>
                <a:lnTo>
                  <a:pt x="2043" y="1284"/>
                </a:lnTo>
                <a:lnTo>
                  <a:pt x="2043" y="1082"/>
                </a:lnTo>
                <a:lnTo>
                  <a:pt x="2080" y="965"/>
                </a:lnTo>
                <a:lnTo>
                  <a:pt x="2080" y="859"/>
                </a:lnTo>
                <a:lnTo>
                  <a:pt x="2031" y="859"/>
                </a:lnTo>
                <a:lnTo>
                  <a:pt x="2007" y="730"/>
                </a:lnTo>
                <a:lnTo>
                  <a:pt x="2069" y="530"/>
                </a:lnTo>
                <a:lnTo>
                  <a:pt x="2069" y="328"/>
                </a:lnTo>
                <a:lnTo>
                  <a:pt x="1861" y="294"/>
                </a:lnTo>
                <a:lnTo>
                  <a:pt x="1777" y="94"/>
                </a:lnTo>
                <a:lnTo>
                  <a:pt x="1568" y="94"/>
                </a:lnTo>
                <a:lnTo>
                  <a:pt x="1362" y="58"/>
                </a:lnTo>
                <a:lnTo>
                  <a:pt x="1155" y="130"/>
                </a:lnTo>
                <a:lnTo>
                  <a:pt x="765" y="94"/>
                </a:lnTo>
                <a:lnTo>
                  <a:pt x="670" y="104"/>
                </a:lnTo>
                <a:lnTo>
                  <a:pt x="631" y="0"/>
                </a:lnTo>
                <a:lnTo>
                  <a:pt x="414" y="0"/>
                </a:lnTo>
                <a:lnTo>
                  <a:pt x="207" y="116"/>
                </a:lnTo>
                <a:lnTo>
                  <a:pt x="0" y="141"/>
                </a:lnTo>
                <a:lnTo>
                  <a:pt x="13" y="130"/>
                </a:lnTo>
                <a:lnTo>
                  <a:pt x="24" y="242"/>
                </a:lnTo>
                <a:lnTo>
                  <a:pt x="26" y="270"/>
                </a:lnTo>
                <a:lnTo>
                  <a:pt x="32" y="307"/>
                </a:lnTo>
                <a:lnTo>
                  <a:pt x="40" y="358"/>
                </a:lnTo>
                <a:lnTo>
                  <a:pt x="52" y="411"/>
                </a:lnTo>
                <a:lnTo>
                  <a:pt x="62" y="469"/>
                </a:lnTo>
                <a:lnTo>
                  <a:pt x="76" y="531"/>
                </a:lnTo>
                <a:lnTo>
                  <a:pt x="87" y="592"/>
                </a:lnTo>
                <a:lnTo>
                  <a:pt x="102" y="648"/>
                </a:lnTo>
                <a:lnTo>
                  <a:pt x="117" y="707"/>
                </a:lnTo>
                <a:lnTo>
                  <a:pt x="132" y="769"/>
                </a:lnTo>
                <a:lnTo>
                  <a:pt x="150" y="834"/>
                </a:lnTo>
                <a:lnTo>
                  <a:pt x="167" y="897"/>
                </a:lnTo>
                <a:lnTo>
                  <a:pt x="185" y="958"/>
                </a:lnTo>
                <a:lnTo>
                  <a:pt x="200" y="1011"/>
                </a:lnTo>
                <a:lnTo>
                  <a:pt x="217" y="1056"/>
                </a:lnTo>
                <a:lnTo>
                  <a:pt x="230" y="1089"/>
                </a:lnTo>
                <a:lnTo>
                  <a:pt x="244" y="1123"/>
                </a:lnTo>
                <a:lnTo>
                  <a:pt x="260" y="1162"/>
                </a:lnTo>
                <a:lnTo>
                  <a:pt x="278" y="1206"/>
                </a:lnTo>
                <a:lnTo>
                  <a:pt x="299" y="1252"/>
                </a:lnTo>
                <a:lnTo>
                  <a:pt x="319" y="1302"/>
                </a:lnTo>
                <a:lnTo>
                  <a:pt x="340" y="1349"/>
                </a:lnTo>
                <a:lnTo>
                  <a:pt x="357" y="1395"/>
                </a:lnTo>
                <a:lnTo>
                  <a:pt x="375" y="1432"/>
                </a:lnTo>
                <a:lnTo>
                  <a:pt x="393" y="1471"/>
                </a:lnTo>
                <a:lnTo>
                  <a:pt x="411" y="1513"/>
                </a:lnTo>
                <a:lnTo>
                  <a:pt x="434" y="1562"/>
                </a:lnTo>
                <a:lnTo>
                  <a:pt x="453" y="1605"/>
                </a:lnTo>
                <a:lnTo>
                  <a:pt x="473" y="1648"/>
                </a:lnTo>
                <a:lnTo>
                  <a:pt x="492" y="1690"/>
                </a:lnTo>
                <a:lnTo>
                  <a:pt x="507" y="1724"/>
                </a:lnTo>
                <a:lnTo>
                  <a:pt x="523" y="1750"/>
                </a:lnTo>
                <a:lnTo>
                  <a:pt x="535" y="1776"/>
                </a:lnTo>
                <a:lnTo>
                  <a:pt x="552" y="1807"/>
                </a:lnTo>
                <a:lnTo>
                  <a:pt x="572" y="1838"/>
                </a:lnTo>
                <a:lnTo>
                  <a:pt x="595" y="1874"/>
                </a:lnTo>
                <a:lnTo>
                  <a:pt x="618" y="1909"/>
                </a:lnTo>
                <a:lnTo>
                  <a:pt x="641" y="1944"/>
                </a:lnTo>
                <a:lnTo>
                  <a:pt x="663" y="1973"/>
                </a:lnTo>
                <a:lnTo>
                  <a:pt x="687" y="1998"/>
                </a:lnTo>
                <a:lnTo>
                  <a:pt x="707" y="2022"/>
                </a:lnTo>
                <a:lnTo>
                  <a:pt x="733" y="2050"/>
                </a:lnTo>
                <a:lnTo>
                  <a:pt x="757" y="2081"/>
                </a:lnTo>
                <a:lnTo>
                  <a:pt x="791" y="2107"/>
                </a:lnTo>
                <a:lnTo>
                  <a:pt x="818" y="2134"/>
                </a:lnTo>
                <a:lnTo>
                  <a:pt x="845" y="2161"/>
                </a:lnTo>
                <a:lnTo>
                  <a:pt x="869" y="2182"/>
                </a:lnTo>
                <a:lnTo>
                  <a:pt x="894" y="2197"/>
                </a:lnTo>
                <a:lnTo>
                  <a:pt x="934" y="2230"/>
                </a:lnTo>
                <a:lnTo>
                  <a:pt x="976" y="2257"/>
                </a:lnTo>
                <a:lnTo>
                  <a:pt x="1009" y="2282"/>
                </a:lnTo>
                <a:lnTo>
                  <a:pt x="1034" y="2297"/>
                </a:lnTo>
                <a:lnTo>
                  <a:pt x="1054" y="2310"/>
                </a:lnTo>
                <a:lnTo>
                  <a:pt x="1083" y="2324"/>
                </a:lnTo>
                <a:lnTo>
                  <a:pt x="1116" y="2338"/>
                </a:lnTo>
                <a:lnTo>
                  <a:pt x="1149" y="2351"/>
                </a:lnTo>
                <a:lnTo>
                  <a:pt x="1166" y="2357"/>
                </a:lnTo>
                <a:lnTo>
                  <a:pt x="1187" y="2364"/>
                </a:lnTo>
                <a:lnTo>
                  <a:pt x="1211" y="2372"/>
                </a:lnTo>
                <a:lnTo>
                  <a:pt x="1239" y="2380"/>
                </a:lnTo>
                <a:lnTo>
                  <a:pt x="1269" y="2388"/>
                </a:lnTo>
                <a:lnTo>
                  <a:pt x="1296" y="2398"/>
                </a:lnTo>
                <a:lnTo>
                  <a:pt x="1325" y="2404"/>
                </a:lnTo>
                <a:lnTo>
                  <a:pt x="1349" y="2408"/>
                </a:lnTo>
                <a:lnTo>
                  <a:pt x="1404" y="2422"/>
                </a:lnTo>
                <a:lnTo>
                  <a:pt x="1465" y="2432"/>
                </a:lnTo>
                <a:lnTo>
                  <a:pt x="1524" y="2445"/>
                </a:lnTo>
                <a:lnTo>
                  <a:pt x="1575" y="2450"/>
                </a:lnTo>
                <a:lnTo>
                  <a:pt x="1623" y="2458"/>
                </a:lnTo>
                <a:lnTo>
                  <a:pt x="1685" y="2461"/>
                </a:lnTo>
                <a:lnTo>
                  <a:pt x="1749" y="2465"/>
                </a:lnTo>
                <a:lnTo>
                  <a:pt x="1806" y="2468"/>
                </a:lnTo>
                <a:lnTo>
                  <a:pt x="1861" y="2472"/>
                </a:lnTo>
                <a:lnTo>
                  <a:pt x="1926" y="2472"/>
                </a:lnTo>
                <a:lnTo>
                  <a:pt x="1987" y="2472"/>
                </a:lnTo>
                <a:lnTo>
                  <a:pt x="2141" y="2472"/>
                </a:lnTo>
                <a:lnTo>
                  <a:pt x="2093" y="2485"/>
                </a:lnTo>
                <a:lnTo>
                  <a:pt x="2093" y="2485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59120" y="4362480"/>
            <a:ext cx="1560600" cy="1589040"/>
          </a:xfrm>
          <a:custGeom>
            <a:avLst/>
            <a:gdLst/>
            <a:ahLst/>
            <a:rect l="l" t="t" r="r" b="b"/>
            <a:pathLst>
              <a:path w="983" h="1001">
                <a:moveTo>
                  <a:pt x="0" y="0"/>
                </a:moveTo>
                <a:lnTo>
                  <a:pt x="480" y="489"/>
                </a:lnTo>
                <a:lnTo>
                  <a:pt x="982" y="1000"/>
                </a:lnTo>
              </a:path>
            </a:pathLst>
          </a:custGeom>
          <a:noFill/>
          <a:ln w="63360">
            <a:solidFill>
              <a:srgbClr val="ff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03840" y="4532400"/>
            <a:ext cx="2714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34400" y="688968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47160" y="7132680"/>
            <a:ext cx="871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52600" y="17845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63920" y="2023920"/>
            <a:ext cx="903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527200" y="2247480"/>
            <a:ext cx="0" cy="48848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27200" y="7132680"/>
            <a:ext cx="531180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6880" y="2340000"/>
            <a:ext cx="3376440" cy="3719520"/>
          </a:xfrm>
          <a:custGeom>
            <a:avLst/>
            <a:gdLst/>
            <a:ahLst/>
            <a:rect l="l" t="t" r="r" b="b"/>
            <a:pathLst>
              <a:path w="2127" h="2343">
                <a:moveTo>
                  <a:pt x="0" y="0"/>
                </a:moveTo>
                <a:lnTo>
                  <a:pt x="0" y="20"/>
                </a:lnTo>
                <a:lnTo>
                  <a:pt x="2" y="35"/>
                </a:lnTo>
                <a:lnTo>
                  <a:pt x="3" y="48"/>
                </a:lnTo>
                <a:lnTo>
                  <a:pt x="5" y="58"/>
                </a:lnTo>
                <a:lnTo>
                  <a:pt x="5" y="66"/>
                </a:lnTo>
                <a:lnTo>
                  <a:pt x="5" y="71"/>
                </a:lnTo>
                <a:lnTo>
                  <a:pt x="5" y="75"/>
                </a:lnTo>
                <a:lnTo>
                  <a:pt x="7" y="77"/>
                </a:lnTo>
                <a:lnTo>
                  <a:pt x="7" y="81"/>
                </a:lnTo>
                <a:lnTo>
                  <a:pt x="7" y="83"/>
                </a:lnTo>
                <a:lnTo>
                  <a:pt x="7" y="85"/>
                </a:lnTo>
                <a:lnTo>
                  <a:pt x="8" y="87"/>
                </a:lnTo>
                <a:lnTo>
                  <a:pt x="8" y="92"/>
                </a:lnTo>
                <a:lnTo>
                  <a:pt x="9" y="97"/>
                </a:lnTo>
                <a:lnTo>
                  <a:pt x="10" y="104"/>
                </a:lnTo>
                <a:lnTo>
                  <a:pt x="12" y="113"/>
                </a:lnTo>
                <a:lnTo>
                  <a:pt x="13" y="125"/>
                </a:lnTo>
                <a:lnTo>
                  <a:pt x="15" y="140"/>
                </a:lnTo>
                <a:lnTo>
                  <a:pt x="18" y="159"/>
                </a:lnTo>
                <a:lnTo>
                  <a:pt x="22" y="179"/>
                </a:lnTo>
                <a:lnTo>
                  <a:pt x="25" y="202"/>
                </a:lnTo>
                <a:lnTo>
                  <a:pt x="30" y="228"/>
                </a:lnTo>
                <a:lnTo>
                  <a:pt x="35" y="255"/>
                </a:lnTo>
                <a:lnTo>
                  <a:pt x="40" y="282"/>
                </a:lnTo>
                <a:lnTo>
                  <a:pt x="45" y="312"/>
                </a:lnTo>
                <a:lnTo>
                  <a:pt x="51" y="341"/>
                </a:lnTo>
                <a:lnTo>
                  <a:pt x="56" y="372"/>
                </a:lnTo>
                <a:lnTo>
                  <a:pt x="63" y="402"/>
                </a:lnTo>
                <a:lnTo>
                  <a:pt x="69" y="432"/>
                </a:lnTo>
                <a:lnTo>
                  <a:pt x="76" y="462"/>
                </a:lnTo>
                <a:lnTo>
                  <a:pt x="82" y="491"/>
                </a:lnTo>
                <a:lnTo>
                  <a:pt x="90" y="518"/>
                </a:lnTo>
                <a:lnTo>
                  <a:pt x="95" y="548"/>
                </a:lnTo>
                <a:lnTo>
                  <a:pt x="103" y="577"/>
                </a:lnTo>
                <a:lnTo>
                  <a:pt x="110" y="608"/>
                </a:lnTo>
                <a:lnTo>
                  <a:pt x="119" y="639"/>
                </a:lnTo>
                <a:lnTo>
                  <a:pt x="126" y="672"/>
                </a:lnTo>
                <a:lnTo>
                  <a:pt x="136" y="704"/>
                </a:lnTo>
                <a:lnTo>
                  <a:pt x="144" y="736"/>
                </a:lnTo>
                <a:lnTo>
                  <a:pt x="154" y="767"/>
                </a:lnTo>
                <a:lnTo>
                  <a:pt x="161" y="798"/>
                </a:lnTo>
                <a:lnTo>
                  <a:pt x="171" y="828"/>
                </a:lnTo>
                <a:lnTo>
                  <a:pt x="179" y="856"/>
                </a:lnTo>
                <a:lnTo>
                  <a:pt x="188" y="882"/>
                </a:lnTo>
                <a:lnTo>
                  <a:pt x="196" y="906"/>
                </a:lnTo>
                <a:lnTo>
                  <a:pt x="204" y="927"/>
                </a:lnTo>
                <a:lnTo>
                  <a:pt x="210" y="946"/>
                </a:lnTo>
                <a:lnTo>
                  <a:pt x="218" y="960"/>
                </a:lnTo>
                <a:lnTo>
                  <a:pt x="223" y="976"/>
                </a:lnTo>
                <a:lnTo>
                  <a:pt x="230" y="993"/>
                </a:lnTo>
                <a:lnTo>
                  <a:pt x="238" y="1012"/>
                </a:lnTo>
                <a:lnTo>
                  <a:pt x="246" y="1032"/>
                </a:lnTo>
                <a:lnTo>
                  <a:pt x="255" y="1055"/>
                </a:lnTo>
                <a:lnTo>
                  <a:pt x="265" y="1078"/>
                </a:lnTo>
                <a:lnTo>
                  <a:pt x="274" y="1101"/>
                </a:lnTo>
                <a:lnTo>
                  <a:pt x="286" y="1124"/>
                </a:lnTo>
                <a:lnTo>
                  <a:pt x="295" y="1148"/>
                </a:lnTo>
                <a:lnTo>
                  <a:pt x="306" y="1173"/>
                </a:lnTo>
                <a:lnTo>
                  <a:pt x="315" y="1197"/>
                </a:lnTo>
                <a:lnTo>
                  <a:pt x="326" y="1220"/>
                </a:lnTo>
                <a:lnTo>
                  <a:pt x="336" y="1243"/>
                </a:lnTo>
                <a:lnTo>
                  <a:pt x="345" y="1265"/>
                </a:lnTo>
                <a:lnTo>
                  <a:pt x="355" y="1285"/>
                </a:lnTo>
                <a:lnTo>
                  <a:pt x="364" y="1303"/>
                </a:lnTo>
                <a:lnTo>
                  <a:pt x="372" y="1323"/>
                </a:lnTo>
                <a:lnTo>
                  <a:pt x="380" y="1343"/>
                </a:lnTo>
                <a:lnTo>
                  <a:pt x="389" y="1364"/>
                </a:lnTo>
                <a:lnTo>
                  <a:pt x="399" y="1385"/>
                </a:lnTo>
                <a:lnTo>
                  <a:pt x="408" y="1408"/>
                </a:lnTo>
                <a:lnTo>
                  <a:pt x="419" y="1430"/>
                </a:lnTo>
                <a:lnTo>
                  <a:pt x="428" y="1452"/>
                </a:lnTo>
                <a:lnTo>
                  <a:pt x="440" y="1475"/>
                </a:lnTo>
                <a:lnTo>
                  <a:pt x="449" y="1497"/>
                </a:lnTo>
                <a:lnTo>
                  <a:pt x="459" y="1519"/>
                </a:lnTo>
                <a:lnTo>
                  <a:pt x="468" y="1540"/>
                </a:lnTo>
                <a:lnTo>
                  <a:pt x="478" y="1559"/>
                </a:lnTo>
                <a:lnTo>
                  <a:pt x="486" y="1578"/>
                </a:lnTo>
                <a:lnTo>
                  <a:pt x="494" y="1594"/>
                </a:lnTo>
                <a:lnTo>
                  <a:pt x="501" y="1609"/>
                </a:lnTo>
                <a:lnTo>
                  <a:pt x="509" y="1621"/>
                </a:lnTo>
                <a:lnTo>
                  <a:pt x="514" y="1634"/>
                </a:lnTo>
                <a:lnTo>
                  <a:pt x="522" y="1646"/>
                </a:lnTo>
                <a:lnTo>
                  <a:pt x="530" y="1661"/>
                </a:lnTo>
                <a:lnTo>
                  <a:pt x="540" y="1676"/>
                </a:lnTo>
                <a:lnTo>
                  <a:pt x="549" y="1693"/>
                </a:lnTo>
                <a:lnTo>
                  <a:pt x="560" y="1710"/>
                </a:lnTo>
                <a:lnTo>
                  <a:pt x="571" y="1726"/>
                </a:lnTo>
                <a:lnTo>
                  <a:pt x="582" y="1743"/>
                </a:lnTo>
                <a:lnTo>
                  <a:pt x="594" y="1762"/>
                </a:lnTo>
                <a:lnTo>
                  <a:pt x="605" y="1779"/>
                </a:lnTo>
                <a:lnTo>
                  <a:pt x="616" y="1796"/>
                </a:lnTo>
                <a:lnTo>
                  <a:pt x="629" y="1812"/>
                </a:lnTo>
                <a:lnTo>
                  <a:pt x="640" y="1828"/>
                </a:lnTo>
                <a:lnTo>
                  <a:pt x="652" y="1842"/>
                </a:lnTo>
                <a:lnTo>
                  <a:pt x="662" y="1856"/>
                </a:lnTo>
                <a:lnTo>
                  <a:pt x="673" y="1868"/>
                </a:lnTo>
                <a:lnTo>
                  <a:pt x="683" y="1881"/>
                </a:lnTo>
                <a:lnTo>
                  <a:pt x="694" y="1894"/>
                </a:lnTo>
                <a:lnTo>
                  <a:pt x="707" y="1907"/>
                </a:lnTo>
                <a:lnTo>
                  <a:pt x="720" y="1920"/>
                </a:lnTo>
                <a:lnTo>
                  <a:pt x="733" y="1936"/>
                </a:lnTo>
                <a:lnTo>
                  <a:pt x="747" y="1948"/>
                </a:lnTo>
                <a:lnTo>
                  <a:pt x="762" y="1964"/>
                </a:lnTo>
                <a:lnTo>
                  <a:pt x="776" y="1977"/>
                </a:lnTo>
                <a:lnTo>
                  <a:pt x="790" y="1992"/>
                </a:lnTo>
                <a:lnTo>
                  <a:pt x="805" y="2005"/>
                </a:lnTo>
                <a:lnTo>
                  <a:pt x="818" y="2018"/>
                </a:lnTo>
                <a:lnTo>
                  <a:pt x="833" y="2030"/>
                </a:lnTo>
                <a:lnTo>
                  <a:pt x="845" y="2042"/>
                </a:lnTo>
                <a:lnTo>
                  <a:pt x="858" y="2052"/>
                </a:lnTo>
                <a:lnTo>
                  <a:pt x="870" y="2061"/>
                </a:lnTo>
                <a:lnTo>
                  <a:pt x="882" y="2068"/>
                </a:lnTo>
                <a:lnTo>
                  <a:pt x="891" y="2076"/>
                </a:lnTo>
                <a:lnTo>
                  <a:pt x="901" y="2083"/>
                </a:lnTo>
                <a:lnTo>
                  <a:pt x="910" y="2091"/>
                </a:lnTo>
                <a:lnTo>
                  <a:pt x="921" y="2098"/>
                </a:lnTo>
                <a:lnTo>
                  <a:pt x="931" y="2106"/>
                </a:lnTo>
                <a:lnTo>
                  <a:pt x="942" y="2113"/>
                </a:lnTo>
                <a:lnTo>
                  <a:pt x="951" y="2121"/>
                </a:lnTo>
                <a:lnTo>
                  <a:pt x="962" y="2128"/>
                </a:lnTo>
                <a:lnTo>
                  <a:pt x="971" y="2135"/>
                </a:lnTo>
                <a:lnTo>
                  <a:pt x="981" y="2141"/>
                </a:lnTo>
                <a:lnTo>
                  <a:pt x="989" y="2148"/>
                </a:lnTo>
                <a:lnTo>
                  <a:pt x="998" y="2153"/>
                </a:lnTo>
                <a:lnTo>
                  <a:pt x="1004" y="2159"/>
                </a:lnTo>
                <a:lnTo>
                  <a:pt x="1010" y="2162"/>
                </a:lnTo>
                <a:lnTo>
                  <a:pt x="1016" y="2166"/>
                </a:lnTo>
                <a:lnTo>
                  <a:pt x="1021" y="2168"/>
                </a:lnTo>
                <a:lnTo>
                  <a:pt x="1024" y="2172"/>
                </a:lnTo>
                <a:lnTo>
                  <a:pt x="1029" y="2174"/>
                </a:lnTo>
                <a:lnTo>
                  <a:pt x="1034" y="2178"/>
                </a:lnTo>
                <a:lnTo>
                  <a:pt x="1040" y="2180"/>
                </a:lnTo>
                <a:lnTo>
                  <a:pt x="1046" y="2183"/>
                </a:lnTo>
                <a:lnTo>
                  <a:pt x="1054" y="2187"/>
                </a:lnTo>
                <a:lnTo>
                  <a:pt x="1061" y="2191"/>
                </a:lnTo>
                <a:lnTo>
                  <a:pt x="1069" y="2194"/>
                </a:lnTo>
                <a:lnTo>
                  <a:pt x="1077" y="2198"/>
                </a:lnTo>
                <a:lnTo>
                  <a:pt x="1086" y="2202"/>
                </a:lnTo>
                <a:lnTo>
                  <a:pt x="1093" y="2206"/>
                </a:lnTo>
                <a:lnTo>
                  <a:pt x="1102" y="2209"/>
                </a:lnTo>
                <a:lnTo>
                  <a:pt x="1110" y="2213"/>
                </a:lnTo>
                <a:lnTo>
                  <a:pt x="1118" y="2216"/>
                </a:lnTo>
                <a:lnTo>
                  <a:pt x="1126" y="2220"/>
                </a:lnTo>
                <a:lnTo>
                  <a:pt x="1135" y="2222"/>
                </a:lnTo>
                <a:lnTo>
                  <a:pt x="1142" y="2226"/>
                </a:lnTo>
                <a:lnTo>
                  <a:pt x="1152" y="2229"/>
                </a:lnTo>
                <a:lnTo>
                  <a:pt x="1162" y="2232"/>
                </a:lnTo>
                <a:lnTo>
                  <a:pt x="1174" y="2235"/>
                </a:lnTo>
                <a:lnTo>
                  <a:pt x="1186" y="2239"/>
                </a:lnTo>
                <a:lnTo>
                  <a:pt x="1199" y="2243"/>
                </a:lnTo>
                <a:lnTo>
                  <a:pt x="1212" y="2247"/>
                </a:lnTo>
                <a:lnTo>
                  <a:pt x="1227" y="2250"/>
                </a:lnTo>
                <a:lnTo>
                  <a:pt x="1240" y="2256"/>
                </a:lnTo>
                <a:lnTo>
                  <a:pt x="1255" y="2259"/>
                </a:lnTo>
                <a:lnTo>
                  <a:pt x="1269" y="2263"/>
                </a:lnTo>
                <a:lnTo>
                  <a:pt x="1284" y="2267"/>
                </a:lnTo>
                <a:lnTo>
                  <a:pt x="1297" y="2270"/>
                </a:lnTo>
                <a:lnTo>
                  <a:pt x="1311" y="2274"/>
                </a:lnTo>
                <a:lnTo>
                  <a:pt x="1323" y="2277"/>
                </a:lnTo>
                <a:lnTo>
                  <a:pt x="1336" y="2279"/>
                </a:lnTo>
                <a:lnTo>
                  <a:pt x="1347" y="2282"/>
                </a:lnTo>
                <a:lnTo>
                  <a:pt x="1360" y="2286"/>
                </a:lnTo>
                <a:lnTo>
                  <a:pt x="1374" y="2289"/>
                </a:lnTo>
                <a:lnTo>
                  <a:pt x="1389" y="2291"/>
                </a:lnTo>
                <a:lnTo>
                  <a:pt x="1404" y="2295"/>
                </a:lnTo>
                <a:lnTo>
                  <a:pt x="1419" y="2298"/>
                </a:lnTo>
                <a:lnTo>
                  <a:pt x="1435" y="2302"/>
                </a:lnTo>
                <a:lnTo>
                  <a:pt x="1452" y="2304"/>
                </a:lnTo>
                <a:lnTo>
                  <a:pt x="1467" y="2307"/>
                </a:lnTo>
                <a:lnTo>
                  <a:pt x="1482" y="2309"/>
                </a:lnTo>
                <a:lnTo>
                  <a:pt x="1497" y="2312"/>
                </a:lnTo>
                <a:lnTo>
                  <a:pt x="1512" y="2314"/>
                </a:lnTo>
                <a:lnTo>
                  <a:pt x="1525" y="2317"/>
                </a:lnTo>
                <a:lnTo>
                  <a:pt x="1538" y="2318"/>
                </a:lnTo>
                <a:lnTo>
                  <a:pt x="1550" y="2320"/>
                </a:lnTo>
                <a:lnTo>
                  <a:pt x="1562" y="2321"/>
                </a:lnTo>
                <a:lnTo>
                  <a:pt x="1571" y="2323"/>
                </a:lnTo>
                <a:lnTo>
                  <a:pt x="1583" y="2324"/>
                </a:lnTo>
                <a:lnTo>
                  <a:pt x="1595" y="2326"/>
                </a:lnTo>
                <a:lnTo>
                  <a:pt x="1610" y="2326"/>
                </a:lnTo>
                <a:lnTo>
                  <a:pt x="1624" y="2328"/>
                </a:lnTo>
                <a:lnTo>
                  <a:pt x="1640" y="2329"/>
                </a:lnTo>
                <a:lnTo>
                  <a:pt x="1655" y="2331"/>
                </a:lnTo>
                <a:lnTo>
                  <a:pt x="1672" y="2331"/>
                </a:lnTo>
                <a:lnTo>
                  <a:pt x="1687" y="2333"/>
                </a:lnTo>
                <a:lnTo>
                  <a:pt x="1704" y="2334"/>
                </a:lnTo>
                <a:lnTo>
                  <a:pt x="1720" y="2336"/>
                </a:lnTo>
                <a:lnTo>
                  <a:pt x="1736" y="2336"/>
                </a:lnTo>
                <a:lnTo>
                  <a:pt x="1751" y="2337"/>
                </a:lnTo>
                <a:lnTo>
                  <a:pt x="1766" y="2337"/>
                </a:lnTo>
                <a:lnTo>
                  <a:pt x="1779" y="2338"/>
                </a:lnTo>
                <a:lnTo>
                  <a:pt x="1793" y="2338"/>
                </a:lnTo>
                <a:lnTo>
                  <a:pt x="1805" y="2340"/>
                </a:lnTo>
                <a:lnTo>
                  <a:pt x="1818" y="2340"/>
                </a:lnTo>
                <a:lnTo>
                  <a:pt x="1832" y="2340"/>
                </a:lnTo>
                <a:lnTo>
                  <a:pt x="1847" y="2340"/>
                </a:lnTo>
                <a:lnTo>
                  <a:pt x="1862" y="2342"/>
                </a:lnTo>
                <a:lnTo>
                  <a:pt x="1878" y="2342"/>
                </a:lnTo>
                <a:lnTo>
                  <a:pt x="1895" y="2342"/>
                </a:lnTo>
                <a:lnTo>
                  <a:pt x="1912" y="2342"/>
                </a:lnTo>
                <a:lnTo>
                  <a:pt x="1927" y="2342"/>
                </a:lnTo>
                <a:lnTo>
                  <a:pt x="1944" y="2342"/>
                </a:lnTo>
                <a:lnTo>
                  <a:pt x="1958" y="2342"/>
                </a:lnTo>
                <a:lnTo>
                  <a:pt x="1974" y="2342"/>
                </a:lnTo>
                <a:lnTo>
                  <a:pt x="1986" y="2342"/>
                </a:lnTo>
                <a:lnTo>
                  <a:pt x="2000" y="2342"/>
                </a:lnTo>
                <a:lnTo>
                  <a:pt x="2012" y="2342"/>
                </a:lnTo>
                <a:lnTo>
                  <a:pt x="2023" y="2342"/>
                </a:lnTo>
                <a:lnTo>
                  <a:pt x="2031" y="2342"/>
                </a:lnTo>
                <a:lnTo>
                  <a:pt x="2038" y="2342"/>
                </a:lnTo>
                <a:lnTo>
                  <a:pt x="2042" y="2342"/>
                </a:lnTo>
                <a:lnTo>
                  <a:pt x="2046" y="2342"/>
                </a:lnTo>
                <a:lnTo>
                  <a:pt x="2048" y="2342"/>
                </a:lnTo>
                <a:lnTo>
                  <a:pt x="2050" y="2342"/>
                </a:lnTo>
                <a:lnTo>
                  <a:pt x="2052" y="2342"/>
                </a:lnTo>
                <a:lnTo>
                  <a:pt x="2055" y="2342"/>
                </a:lnTo>
                <a:lnTo>
                  <a:pt x="2057" y="2342"/>
                </a:lnTo>
                <a:lnTo>
                  <a:pt x="2061" y="2342"/>
                </a:lnTo>
                <a:lnTo>
                  <a:pt x="2066" y="2342"/>
                </a:lnTo>
                <a:lnTo>
                  <a:pt x="2073" y="2342"/>
                </a:lnTo>
                <a:lnTo>
                  <a:pt x="2081" y="2342"/>
                </a:lnTo>
                <a:lnTo>
                  <a:pt x="2094" y="2342"/>
                </a:lnTo>
                <a:lnTo>
                  <a:pt x="2108" y="2342"/>
                </a:lnTo>
                <a:lnTo>
                  <a:pt x="2126" y="2342"/>
                </a:lnTo>
              </a:path>
            </a:pathLst>
          </a:custGeom>
          <a:noFill/>
          <a:ln w="507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55000" y="3894120"/>
            <a:ext cx="10306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Clr>
                <a:srgbClr val="ff505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19560" y="5497560"/>
            <a:ext cx="10400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Clr>
                <a:srgbClr val="ff505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54320" y="4684680"/>
            <a:ext cx="2732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06960" y="4838760"/>
            <a:ext cx="272880" cy="261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59240" y="4989600"/>
            <a:ext cx="2732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1520" y="5141880"/>
            <a:ext cx="2732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64160" y="5294160"/>
            <a:ext cx="27288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16440" y="5446800"/>
            <a:ext cx="27468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68720" y="5599080"/>
            <a:ext cx="2732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4200" y="4591080"/>
            <a:ext cx="2603520" cy="155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gir dos puntos de front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43920" y="4622760"/>
            <a:ext cx="2603520" cy="155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bujar la linea que los 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81720" y="3632040"/>
            <a:ext cx="2603520" cy="252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 puntos entre medio deben ubicarse en el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5360" y="2760480"/>
            <a:ext cx="2907000" cy="350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ón: una combinación de dos técnicas puede producir menos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28960" y="3444840"/>
            <a:ext cx="2547720" cy="1700280"/>
            <a:chOff x="1128960" y="3444840"/>
            <a:chExt cx="2547720" cy="1700280"/>
          </a:xfrm>
        </p:grpSpPr>
        <p:sp>
          <p:nvSpPr>
            <p:cNvPr id="352" name=""/>
            <p:cNvSpPr/>
            <p:nvPr/>
          </p:nvSpPr>
          <p:spPr>
            <a:xfrm>
              <a:off x="1173240" y="3444840"/>
              <a:ext cx="2503440" cy="1700280"/>
            </a:xfrm>
            <a:prstGeom prst="rightArrow">
              <a:avLst>
                <a:gd name="adj1" fmla="val 50000"/>
                <a:gd name="adj2" fmla="val 36809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28960" y="3898800"/>
              <a:ext cx="23158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679840" y="5151600"/>
            <a:ext cx="2539800" cy="1699920"/>
            <a:chOff x="2679840" y="5151600"/>
            <a:chExt cx="2539800" cy="1699920"/>
          </a:xfrm>
        </p:grpSpPr>
        <p:sp>
          <p:nvSpPr>
            <p:cNvPr id="355" name=""/>
            <p:cNvSpPr/>
            <p:nvPr/>
          </p:nvSpPr>
          <p:spPr>
            <a:xfrm>
              <a:off x="2716200" y="5151600"/>
              <a:ext cx="2503440" cy="1699920"/>
            </a:xfrm>
            <a:prstGeom prst="rightArrow">
              <a:avLst>
                <a:gd name="adj1" fmla="val 50000"/>
                <a:gd name="adj2" fmla="val 3681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79840" y="5605200"/>
              <a:ext cx="23842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241880" y="3994200"/>
            <a:ext cx="2525760" cy="1700280"/>
            <a:chOff x="4241880" y="3994200"/>
            <a:chExt cx="2525760" cy="1700280"/>
          </a:xfrm>
        </p:grpSpPr>
        <p:sp>
          <p:nvSpPr>
            <p:cNvPr id="358" name=""/>
            <p:cNvSpPr/>
            <p:nvPr/>
          </p:nvSpPr>
          <p:spPr>
            <a:xfrm flipH="1">
              <a:off x="4241880" y="3994200"/>
              <a:ext cx="2503440" cy="1700280"/>
            </a:xfrm>
            <a:prstGeom prst="rightArrow">
              <a:avLst>
                <a:gd name="adj1" fmla="val 50000"/>
                <a:gd name="adj2" fmla="val 36809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620600" y="4476600"/>
              <a:ext cx="21466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 &gt;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270920" y="2787480"/>
            <a:ext cx="2603160" cy="3503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¿Pero qué pasaría si cambiamos algunos de los supuestos realizados aqu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489560" y="2778120"/>
            <a:ext cx="1819080" cy="1473120"/>
            <a:chOff x="4489560" y="2778120"/>
            <a:chExt cx="1819080" cy="1473120"/>
          </a:xfrm>
        </p:grpSpPr>
        <p:sp>
          <p:nvSpPr>
            <p:cNvPr id="362" name=""/>
            <p:cNvSpPr/>
            <p:nvPr/>
          </p:nvSpPr>
          <p:spPr>
            <a:xfrm>
              <a:off x="4489560" y="3233880"/>
              <a:ext cx="1819080" cy="101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14640" y="2778120"/>
              <a:ext cx="1187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_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33280" y="112320"/>
            <a:ext cx="9453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vexa, pero no extremadamente convex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08440" y="1608120"/>
            <a:ext cx="5456160" cy="5272200"/>
          </a:xfrm>
          <a:custGeom>
            <a:avLst/>
            <a:gdLst/>
            <a:ahLst/>
            <a:rect l="l" t="t" r="r" b="b"/>
            <a:pathLst>
              <a:path w="3438" h="3321">
                <a:moveTo>
                  <a:pt x="3314" y="3320"/>
                </a:moveTo>
                <a:lnTo>
                  <a:pt x="3314" y="3320"/>
                </a:lnTo>
                <a:lnTo>
                  <a:pt x="3437" y="2992"/>
                </a:lnTo>
                <a:lnTo>
                  <a:pt x="3423" y="2769"/>
                </a:lnTo>
                <a:lnTo>
                  <a:pt x="3327" y="2612"/>
                </a:lnTo>
                <a:lnTo>
                  <a:pt x="3327" y="2494"/>
                </a:lnTo>
                <a:lnTo>
                  <a:pt x="3383" y="2375"/>
                </a:lnTo>
                <a:lnTo>
                  <a:pt x="3383" y="2282"/>
                </a:lnTo>
                <a:lnTo>
                  <a:pt x="3301" y="2175"/>
                </a:lnTo>
                <a:lnTo>
                  <a:pt x="3314" y="1993"/>
                </a:lnTo>
                <a:lnTo>
                  <a:pt x="3247" y="1862"/>
                </a:lnTo>
                <a:lnTo>
                  <a:pt x="3276" y="1588"/>
                </a:lnTo>
                <a:lnTo>
                  <a:pt x="3276" y="1471"/>
                </a:lnTo>
                <a:lnTo>
                  <a:pt x="3235" y="1338"/>
                </a:lnTo>
                <a:lnTo>
                  <a:pt x="3262" y="1221"/>
                </a:lnTo>
                <a:lnTo>
                  <a:pt x="3262" y="893"/>
                </a:lnTo>
                <a:lnTo>
                  <a:pt x="3195" y="841"/>
                </a:lnTo>
                <a:lnTo>
                  <a:pt x="3195" y="722"/>
                </a:lnTo>
                <a:lnTo>
                  <a:pt x="3247" y="604"/>
                </a:lnTo>
                <a:lnTo>
                  <a:pt x="3247" y="382"/>
                </a:lnTo>
                <a:lnTo>
                  <a:pt x="3165" y="265"/>
                </a:lnTo>
                <a:lnTo>
                  <a:pt x="2935" y="79"/>
                </a:lnTo>
                <a:lnTo>
                  <a:pt x="2772" y="79"/>
                </a:lnTo>
                <a:lnTo>
                  <a:pt x="2404" y="198"/>
                </a:lnTo>
                <a:lnTo>
                  <a:pt x="2283" y="198"/>
                </a:lnTo>
                <a:lnTo>
                  <a:pt x="2161" y="54"/>
                </a:lnTo>
                <a:lnTo>
                  <a:pt x="1958" y="54"/>
                </a:lnTo>
                <a:lnTo>
                  <a:pt x="1861" y="171"/>
                </a:lnTo>
                <a:lnTo>
                  <a:pt x="1628" y="171"/>
                </a:lnTo>
                <a:lnTo>
                  <a:pt x="1562" y="0"/>
                </a:lnTo>
                <a:lnTo>
                  <a:pt x="1331" y="0"/>
                </a:lnTo>
                <a:lnTo>
                  <a:pt x="1276" y="120"/>
                </a:lnTo>
                <a:lnTo>
                  <a:pt x="1045" y="120"/>
                </a:lnTo>
                <a:lnTo>
                  <a:pt x="1033" y="54"/>
                </a:lnTo>
                <a:lnTo>
                  <a:pt x="665" y="54"/>
                </a:lnTo>
                <a:lnTo>
                  <a:pt x="665" y="171"/>
                </a:lnTo>
                <a:lnTo>
                  <a:pt x="489" y="171"/>
                </a:lnTo>
                <a:lnTo>
                  <a:pt x="366" y="265"/>
                </a:lnTo>
                <a:lnTo>
                  <a:pt x="136" y="211"/>
                </a:lnTo>
                <a:lnTo>
                  <a:pt x="0" y="224"/>
                </a:lnTo>
                <a:lnTo>
                  <a:pt x="1" y="224"/>
                </a:lnTo>
                <a:lnTo>
                  <a:pt x="7" y="323"/>
                </a:lnTo>
                <a:lnTo>
                  <a:pt x="8" y="345"/>
                </a:lnTo>
                <a:lnTo>
                  <a:pt x="14" y="370"/>
                </a:lnTo>
                <a:lnTo>
                  <a:pt x="15" y="398"/>
                </a:lnTo>
                <a:lnTo>
                  <a:pt x="25" y="425"/>
                </a:lnTo>
                <a:lnTo>
                  <a:pt x="29" y="456"/>
                </a:lnTo>
                <a:lnTo>
                  <a:pt x="38" y="485"/>
                </a:lnTo>
                <a:lnTo>
                  <a:pt x="46" y="514"/>
                </a:lnTo>
                <a:lnTo>
                  <a:pt x="54" y="531"/>
                </a:lnTo>
                <a:lnTo>
                  <a:pt x="88" y="581"/>
                </a:lnTo>
                <a:lnTo>
                  <a:pt x="175" y="679"/>
                </a:lnTo>
                <a:lnTo>
                  <a:pt x="305" y="815"/>
                </a:lnTo>
                <a:lnTo>
                  <a:pt x="470" y="985"/>
                </a:lnTo>
                <a:lnTo>
                  <a:pt x="663" y="1180"/>
                </a:lnTo>
                <a:lnTo>
                  <a:pt x="877" y="1396"/>
                </a:lnTo>
                <a:lnTo>
                  <a:pt x="1102" y="1623"/>
                </a:lnTo>
                <a:lnTo>
                  <a:pt x="1339" y="1843"/>
                </a:lnTo>
                <a:lnTo>
                  <a:pt x="1576" y="2071"/>
                </a:lnTo>
                <a:lnTo>
                  <a:pt x="1815" y="2296"/>
                </a:lnTo>
                <a:lnTo>
                  <a:pt x="2049" y="2509"/>
                </a:lnTo>
                <a:lnTo>
                  <a:pt x="2270" y="2703"/>
                </a:lnTo>
                <a:lnTo>
                  <a:pt x="2466" y="2876"/>
                </a:lnTo>
                <a:lnTo>
                  <a:pt x="2628" y="3012"/>
                </a:lnTo>
                <a:lnTo>
                  <a:pt x="2751" y="3110"/>
                </a:lnTo>
                <a:lnTo>
                  <a:pt x="2826" y="3156"/>
                </a:lnTo>
                <a:lnTo>
                  <a:pt x="2874" y="3177"/>
                </a:lnTo>
                <a:lnTo>
                  <a:pt x="2926" y="3197"/>
                </a:lnTo>
                <a:lnTo>
                  <a:pt x="2976" y="3221"/>
                </a:lnTo>
                <a:lnTo>
                  <a:pt x="3031" y="3239"/>
                </a:lnTo>
                <a:lnTo>
                  <a:pt x="3079" y="3259"/>
                </a:lnTo>
                <a:lnTo>
                  <a:pt x="3123" y="3275"/>
                </a:lnTo>
                <a:lnTo>
                  <a:pt x="3156" y="3286"/>
                </a:lnTo>
                <a:lnTo>
                  <a:pt x="3301" y="3320"/>
                </a:lnTo>
                <a:lnTo>
                  <a:pt x="3314" y="3320"/>
                </a:lnTo>
                <a:lnTo>
                  <a:pt x="3314" y="3320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79640" y="1962000"/>
            <a:ext cx="5245200" cy="4916520"/>
          </a:xfrm>
          <a:custGeom>
            <a:avLst/>
            <a:gdLst/>
            <a:ahLst/>
            <a:rect l="l" t="t" r="r" b="b"/>
            <a:pathLst>
              <a:path w="3304" h="3097">
                <a:moveTo>
                  <a:pt x="0" y="0"/>
                </a:moveTo>
                <a:lnTo>
                  <a:pt x="0" y="18"/>
                </a:lnTo>
                <a:lnTo>
                  <a:pt x="0" y="31"/>
                </a:lnTo>
                <a:lnTo>
                  <a:pt x="0" y="42"/>
                </a:lnTo>
                <a:lnTo>
                  <a:pt x="2" y="50"/>
                </a:lnTo>
                <a:lnTo>
                  <a:pt x="2" y="58"/>
                </a:lnTo>
                <a:lnTo>
                  <a:pt x="2" y="62"/>
                </a:lnTo>
                <a:lnTo>
                  <a:pt x="2" y="66"/>
                </a:lnTo>
                <a:lnTo>
                  <a:pt x="3" y="68"/>
                </a:lnTo>
                <a:lnTo>
                  <a:pt x="3" y="70"/>
                </a:lnTo>
                <a:lnTo>
                  <a:pt x="3" y="72"/>
                </a:lnTo>
                <a:lnTo>
                  <a:pt x="3" y="74"/>
                </a:lnTo>
                <a:lnTo>
                  <a:pt x="3" y="76"/>
                </a:lnTo>
                <a:lnTo>
                  <a:pt x="3" y="80"/>
                </a:lnTo>
                <a:lnTo>
                  <a:pt x="3" y="84"/>
                </a:lnTo>
                <a:lnTo>
                  <a:pt x="3" y="91"/>
                </a:lnTo>
                <a:lnTo>
                  <a:pt x="5" y="98"/>
                </a:lnTo>
                <a:lnTo>
                  <a:pt x="5" y="109"/>
                </a:lnTo>
                <a:lnTo>
                  <a:pt x="6" y="120"/>
                </a:lnTo>
                <a:lnTo>
                  <a:pt x="8" y="132"/>
                </a:lnTo>
                <a:lnTo>
                  <a:pt x="10" y="145"/>
                </a:lnTo>
                <a:lnTo>
                  <a:pt x="12" y="159"/>
                </a:lnTo>
                <a:lnTo>
                  <a:pt x="15" y="173"/>
                </a:lnTo>
                <a:lnTo>
                  <a:pt x="18" y="188"/>
                </a:lnTo>
                <a:lnTo>
                  <a:pt x="22" y="201"/>
                </a:lnTo>
                <a:lnTo>
                  <a:pt x="25" y="216"/>
                </a:lnTo>
                <a:lnTo>
                  <a:pt x="29" y="231"/>
                </a:lnTo>
                <a:lnTo>
                  <a:pt x="33" y="246"/>
                </a:lnTo>
                <a:lnTo>
                  <a:pt x="36" y="259"/>
                </a:lnTo>
                <a:lnTo>
                  <a:pt x="40" y="273"/>
                </a:lnTo>
                <a:lnTo>
                  <a:pt x="44" y="285"/>
                </a:lnTo>
                <a:lnTo>
                  <a:pt x="48" y="297"/>
                </a:lnTo>
                <a:lnTo>
                  <a:pt x="53" y="308"/>
                </a:lnTo>
                <a:lnTo>
                  <a:pt x="63" y="326"/>
                </a:lnTo>
                <a:lnTo>
                  <a:pt x="88" y="356"/>
                </a:lnTo>
                <a:lnTo>
                  <a:pt x="124" y="399"/>
                </a:lnTo>
                <a:lnTo>
                  <a:pt x="174" y="452"/>
                </a:lnTo>
                <a:lnTo>
                  <a:pt x="234" y="516"/>
                </a:lnTo>
                <a:lnTo>
                  <a:pt x="304" y="589"/>
                </a:lnTo>
                <a:lnTo>
                  <a:pt x="382" y="671"/>
                </a:lnTo>
                <a:lnTo>
                  <a:pt x="470" y="759"/>
                </a:lnTo>
                <a:lnTo>
                  <a:pt x="563" y="855"/>
                </a:lnTo>
                <a:lnTo>
                  <a:pt x="662" y="955"/>
                </a:lnTo>
                <a:lnTo>
                  <a:pt x="767" y="1061"/>
                </a:lnTo>
                <a:lnTo>
                  <a:pt x="877" y="1169"/>
                </a:lnTo>
                <a:lnTo>
                  <a:pt x="989" y="1280"/>
                </a:lnTo>
                <a:lnTo>
                  <a:pt x="1104" y="1393"/>
                </a:lnTo>
                <a:lnTo>
                  <a:pt x="1220" y="1506"/>
                </a:lnTo>
                <a:lnTo>
                  <a:pt x="1337" y="1619"/>
                </a:lnTo>
                <a:lnTo>
                  <a:pt x="1454" y="1733"/>
                </a:lnTo>
                <a:lnTo>
                  <a:pt x="1574" y="1846"/>
                </a:lnTo>
                <a:lnTo>
                  <a:pt x="1693" y="1959"/>
                </a:lnTo>
                <a:lnTo>
                  <a:pt x="1814" y="2069"/>
                </a:lnTo>
                <a:lnTo>
                  <a:pt x="1932" y="2178"/>
                </a:lnTo>
                <a:lnTo>
                  <a:pt x="2048" y="2283"/>
                </a:lnTo>
                <a:lnTo>
                  <a:pt x="2160" y="2384"/>
                </a:lnTo>
                <a:lnTo>
                  <a:pt x="2268" y="2478"/>
                </a:lnTo>
                <a:lnTo>
                  <a:pt x="2368" y="2568"/>
                </a:lnTo>
                <a:lnTo>
                  <a:pt x="2463" y="2650"/>
                </a:lnTo>
                <a:lnTo>
                  <a:pt x="2550" y="2722"/>
                </a:lnTo>
                <a:lnTo>
                  <a:pt x="2628" y="2786"/>
                </a:lnTo>
                <a:lnTo>
                  <a:pt x="2694" y="2840"/>
                </a:lnTo>
                <a:lnTo>
                  <a:pt x="2750" y="2884"/>
                </a:lnTo>
                <a:lnTo>
                  <a:pt x="2794" y="2914"/>
                </a:lnTo>
                <a:lnTo>
                  <a:pt x="2825" y="2931"/>
                </a:lnTo>
                <a:lnTo>
                  <a:pt x="2847" y="2942"/>
                </a:lnTo>
                <a:lnTo>
                  <a:pt x="2872" y="2953"/>
                </a:lnTo>
                <a:lnTo>
                  <a:pt x="2897" y="2964"/>
                </a:lnTo>
                <a:lnTo>
                  <a:pt x="2923" y="2974"/>
                </a:lnTo>
                <a:lnTo>
                  <a:pt x="2950" y="2985"/>
                </a:lnTo>
                <a:lnTo>
                  <a:pt x="2976" y="2995"/>
                </a:lnTo>
                <a:lnTo>
                  <a:pt x="3002" y="3005"/>
                </a:lnTo>
                <a:lnTo>
                  <a:pt x="3028" y="3014"/>
                </a:lnTo>
                <a:lnTo>
                  <a:pt x="3052" y="3024"/>
                </a:lnTo>
                <a:lnTo>
                  <a:pt x="3076" y="3034"/>
                </a:lnTo>
                <a:lnTo>
                  <a:pt x="3098" y="3042"/>
                </a:lnTo>
                <a:lnTo>
                  <a:pt x="3120" y="3049"/>
                </a:lnTo>
                <a:lnTo>
                  <a:pt x="3139" y="3056"/>
                </a:lnTo>
                <a:lnTo>
                  <a:pt x="3156" y="3061"/>
                </a:lnTo>
                <a:lnTo>
                  <a:pt x="3171" y="3065"/>
                </a:lnTo>
                <a:lnTo>
                  <a:pt x="3184" y="3068"/>
                </a:lnTo>
                <a:lnTo>
                  <a:pt x="3193" y="3071"/>
                </a:lnTo>
                <a:lnTo>
                  <a:pt x="3200" y="3073"/>
                </a:lnTo>
                <a:lnTo>
                  <a:pt x="3205" y="3075"/>
                </a:lnTo>
                <a:lnTo>
                  <a:pt x="3210" y="3075"/>
                </a:lnTo>
                <a:lnTo>
                  <a:pt x="3213" y="3077"/>
                </a:lnTo>
                <a:lnTo>
                  <a:pt x="3215" y="3077"/>
                </a:lnTo>
                <a:lnTo>
                  <a:pt x="3217" y="3077"/>
                </a:lnTo>
                <a:lnTo>
                  <a:pt x="3221" y="3077"/>
                </a:lnTo>
                <a:lnTo>
                  <a:pt x="3223" y="3079"/>
                </a:lnTo>
                <a:lnTo>
                  <a:pt x="3228" y="3080"/>
                </a:lnTo>
                <a:lnTo>
                  <a:pt x="3233" y="3081"/>
                </a:lnTo>
                <a:lnTo>
                  <a:pt x="3242" y="3083"/>
                </a:lnTo>
                <a:lnTo>
                  <a:pt x="3252" y="3086"/>
                </a:lnTo>
                <a:lnTo>
                  <a:pt x="3265" y="3088"/>
                </a:lnTo>
                <a:lnTo>
                  <a:pt x="3282" y="3092"/>
                </a:lnTo>
                <a:lnTo>
                  <a:pt x="3303" y="3096"/>
                </a:lnTo>
              </a:path>
            </a:pathLst>
          </a:custGeom>
          <a:noFill/>
          <a:ln w="4752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30800" y="4967280"/>
            <a:ext cx="385560" cy="371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34400" y="688968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47160" y="7132680"/>
            <a:ext cx="871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52600" y="17845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63920" y="2023920"/>
            <a:ext cx="903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527200" y="2247480"/>
            <a:ext cx="0" cy="48848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27200" y="7132680"/>
            <a:ext cx="531180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49800" y="3787920"/>
            <a:ext cx="3795480" cy="3020760"/>
          </a:xfrm>
          <a:custGeom>
            <a:avLst/>
            <a:gdLst/>
            <a:ahLst/>
            <a:rect l="l" t="t" r="r" b="b"/>
            <a:pathLst>
              <a:path w="2391" h="1903">
                <a:moveTo>
                  <a:pt x="0" y="0"/>
                </a:moveTo>
                <a:lnTo>
                  <a:pt x="1037" y="788"/>
                </a:lnTo>
                <a:lnTo>
                  <a:pt x="2390" y="1902"/>
                </a:lnTo>
              </a:path>
            </a:pathLst>
          </a:custGeom>
          <a:noFill/>
          <a:ln w="63360">
            <a:solidFill>
              <a:srgbClr val="ff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18040" y="2735280"/>
            <a:ext cx="1819440" cy="1473120"/>
            <a:chOff x="5018040" y="2735280"/>
            <a:chExt cx="1819440" cy="1473120"/>
          </a:xfrm>
        </p:grpSpPr>
        <p:sp>
          <p:nvSpPr>
            <p:cNvPr id="376" name=""/>
            <p:cNvSpPr/>
            <p:nvPr/>
          </p:nvSpPr>
          <p:spPr>
            <a:xfrm>
              <a:off x="5018040" y="3191040"/>
              <a:ext cx="1819440" cy="101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3480" y="2735280"/>
              <a:ext cx="118764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_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033440" y="3311640"/>
            <a:ext cx="11372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Clr>
                <a:srgbClr val="ff505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57360" y="6346800"/>
            <a:ext cx="10400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Clr>
                <a:srgbClr val="ff505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54720" y="2712960"/>
            <a:ext cx="2603520" cy="204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gir dos puntos culquiera sobre “Z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57960" y="3740040"/>
            <a:ext cx="2603520" cy="155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bujar la linea que los 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11880" y="2730240"/>
            <a:ext cx="2603520" cy="2041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 puntos intermedios deben ubicarse e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59760" y="1911240"/>
            <a:ext cx="2603520" cy="350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ón: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binación de técnicas factibles es también fact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6320" y="3932280"/>
            <a:ext cx="27288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56040" y="4219560"/>
            <a:ext cx="2732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13240" y="4586400"/>
            <a:ext cx="2732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29200" y="5049720"/>
            <a:ext cx="2714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80280" y="5425920"/>
            <a:ext cx="27288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02560" y="5789520"/>
            <a:ext cx="27144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53280" y="6134040"/>
            <a:ext cx="272880" cy="26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53160" y="6377040"/>
            <a:ext cx="273240" cy="261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80800" y="310680"/>
            <a:ext cx="94532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 suave pero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convex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8280" y="2424240"/>
            <a:ext cx="5162400" cy="4381200"/>
          </a:xfrm>
          <a:custGeom>
            <a:avLst/>
            <a:gdLst/>
            <a:ahLst/>
            <a:rect l="l" t="t" r="r" b="b"/>
            <a:pathLst>
              <a:path w="3252" h="2760">
                <a:moveTo>
                  <a:pt x="2852" y="2759"/>
                </a:moveTo>
                <a:lnTo>
                  <a:pt x="2852" y="2759"/>
                </a:lnTo>
                <a:lnTo>
                  <a:pt x="2940" y="2644"/>
                </a:lnTo>
                <a:lnTo>
                  <a:pt x="2940" y="2517"/>
                </a:lnTo>
                <a:lnTo>
                  <a:pt x="3029" y="2431"/>
                </a:lnTo>
                <a:lnTo>
                  <a:pt x="3251" y="2161"/>
                </a:lnTo>
                <a:lnTo>
                  <a:pt x="3073" y="1975"/>
                </a:lnTo>
                <a:lnTo>
                  <a:pt x="3178" y="1675"/>
                </a:lnTo>
                <a:lnTo>
                  <a:pt x="2998" y="1462"/>
                </a:lnTo>
                <a:lnTo>
                  <a:pt x="3103" y="1250"/>
                </a:lnTo>
                <a:lnTo>
                  <a:pt x="3045" y="1007"/>
                </a:lnTo>
                <a:lnTo>
                  <a:pt x="3148" y="822"/>
                </a:lnTo>
                <a:lnTo>
                  <a:pt x="3073" y="681"/>
                </a:lnTo>
                <a:lnTo>
                  <a:pt x="3133" y="509"/>
                </a:lnTo>
                <a:lnTo>
                  <a:pt x="3059" y="411"/>
                </a:lnTo>
                <a:lnTo>
                  <a:pt x="3059" y="325"/>
                </a:lnTo>
                <a:lnTo>
                  <a:pt x="2867" y="283"/>
                </a:lnTo>
                <a:lnTo>
                  <a:pt x="2852" y="196"/>
                </a:lnTo>
                <a:lnTo>
                  <a:pt x="2644" y="196"/>
                </a:lnTo>
                <a:lnTo>
                  <a:pt x="2631" y="69"/>
                </a:lnTo>
                <a:lnTo>
                  <a:pt x="2365" y="69"/>
                </a:lnTo>
                <a:lnTo>
                  <a:pt x="2365" y="171"/>
                </a:lnTo>
                <a:lnTo>
                  <a:pt x="2099" y="171"/>
                </a:lnTo>
                <a:lnTo>
                  <a:pt x="1936" y="40"/>
                </a:lnTo>
                <a:lnTo>
                  <a:pt x="1671" y="40"/>
                </a:lnTo>
                <a:lnTo>
                  <a:pt x="1521" y="110"/>
                </a:lnTo>
                <a:lnTo>
                  <a:pt x="1241" y="110"/>
                </a:lnTo>
                <a:lnTo>
                  <a:pt x="1181" y="40"/>
                </a:lnTo>
                <a:lnTo>
                  <a:pt x="1063" y="53"/>
                </a:lnTo>
                <a:lnTo>
                  <a:pt x="826" y="0"/>
                </a:lnTo>
                <a:lnTo>
                  <a:pt x="577" y="154"/>
                </a:lnTo>
                <a:lnTo>
                  <a:pt x="488" y="69"/>
                </a:lnTo>
                <a:lnTo>
                  <a:pt x="398" y="69"/>
                </a:lnTo>
                <a:lnTo>
                  <a:pt x="266" y="125"/>
                </a:lnTo>
                <a:lnTo>
                  <a:pt x="192" y="53"/>
                </a:lnTo>
                <a:lnTo>
                  <a:pt x="132" y="53"/>
                </a:lnTo>
                <a:lnTo>
                  <a:pt x="0" y="125"/>
                </a:lnTo>
                <a:lnTo>
                  <a:pt x="0" y="125"/>
                </a:lnTo>
                <a:lnTo>
                  <a:pt x="0" y="189"/>
                </a:lnTo>
                <a:lnTo>
                  <a:pt x="0" y="206"/>
                </a:lnTo>
                <a:lnTo>
                  <a:pt x="1" y="224"/>
                </a:lnTo>
                <a:lnTo>
                  <a:pt x="3" y="248"/>
                </a:lnTo>
                <a:lnTo>
                  <a:pt x="7" y="271"/>
                </a:lnTo>
                <a:lnTo>
                  <a:pt x="12" y="301"/>
                </a:lnTo>
                <a:lnTo>
                  <a:pt x="16" y="327"/>
                </a:lnTo>
                <a:lnTo>
                  <a:pt x="20" y="353"/>
                </a:lnTo>
                <a:lnTo>
                  <a:pt x="28" y="373"/>
                </a:lnTo>
                <a:lnTo>
                  <a:pt x="35" y="402"/>
                </a:lnTo>
                <a:lnTo>
                  <a:pt x="48" y="434"/>
                </a:lnTo>
                <a:lnTo>
                  <a:pt x="61" y="469"/>
                </a:lnTo>
                <a:lnTo>
                  <a:pt x="81" y="501"/>
                </a:lnTo>
                <a:lnTo>
                  <a:pt x="99" y="541"/>
                </a:lnTo>
                <a:lnTo>
                  <a:pt x="118" y="577"/>
                </a:lnTo>
                <a:lnTo>
                  <a:pt x="139" y="609"/>
                </a:lnTo>
                <a:lnTo>
                  <a:pt x="162" y="637"/>
                </a:lnTo>
                <a:lnTo>
                  <a:pt x="180" y="666"/>
                </a:lnTo>
                <a:lnTo>
                  <a:pt x="208" y="695"/>
                </a:lnTo>
                <a:lnTo>
                  <a:pt x="236" y="725"/>
                </a:lnTo>
                <a:lnTo>
                  <a:pt x="268" y="750"/>
                </a:lnTo>
                <a:lnTo>
                  <a:pt x="299" y="775"/>
                </a:lnTo>
                <a:lnTo>
                  <a:pt x="330" y="797"/>
                </a:lnTo>
                <a:lnTo>
                  <a:pt x="355" y="815"/>
                </a:lnTo>
                <a:lnTo>
                  <a:pt x="384" y="822"/>
                </a:lnTo>
                <a:lnTo>
                  <a:pt x="436" y="842"/>
                </a:lnTo>
                <a:lnTo>
                  <a:pt x="501" y="861"/>
                </a:lnTo>
                <a:lnTo>
                  <a:pt x="569" y="876"/>
                </a:lnTo>
                <a:lnTo>
                  <a:pt x="627" y="887"/>
                </a:lnTo>
                <a:lnTo>
                  <a:pt x="680" y="900"/>
                </a:lnTo>
                <a:lnTo>
                  <a:pt x="742" y="915"/>
                </a:lnTo>
                <a:lnTo>
                  <a:pt x="800" y="935"/>
                </a:lnTo>
                <a:lnTo>
                  <a:pt x="849" y="951"/>
                </a:lnTo>
                <a:lnTo>
                  <a:pt x="866" y="962"/>
                </a:lnTo>
                <a:lnTo>
                  <a:pt x="889" y="970"/>
                </a:lnTo>
                <a:lnTo>
                  <a:pt x="911" y="985"/>
                </a:lnTo>
                <a:lnTo>
                  <a:pt x="939" y="994"/>
                </a:lnTo>
                <a:lnTo>
                  <a:pt x="964" y="1007"/>
                </a:lnTo>
                <a:lnTo>
                  <a:pt x="986" y="1019"/>
                </a:lnTo>
                <a:lnTo>
                  <a:pt x="1009" y="1031"/>
                </a:lnTo>
                <a:lnTo>
                  <a:pt x="1026" y="1036"/>
                </a:lnTo>
                <a:lnTo>
                  <a:pt x="1042" y="1049"/>
                </a:lnTo>
                <a:lnTo>
                  <a:pt x="1063" y="1066"/>
                </a:lnTo>
                <a:lnTo>
                  <a:pt x="1082" y="1083"/>
                </a:lnTo>
                <a:lnTo>
                  <a:pt x="1106" y="1105"/>
                </a:lnTo>
                <a:lnTo>
                  <a:pt x="1130" y="1131"/>
                </a:lnTo>
                <a:lnTo>
                  <a:pt x="1152" y="1154"/>
                </a:lnTo>
                <a:lnTo>
                  <a:pt x="1168" y="1179"/>
                </a:lnTo>
                <a:lnTo>
                  <a:pt x="1189" y="1200"/>
                </a:lnTo>
                <a:lnTo>
                  <a:pt x="1204" y="1226"/>
                </a:lnTo>
                <a:lnTo>
                  <a:pt x="1219" y="1259"/>
                </a:lnTo>
                <a:lnTo>
                  <a:pt x="1234" y="1295"/>
                </a:lnTo>
                <a:lnTo>
                  <a:pt x="1252" y="1330"/>
                </a:lnTo>
                <a:lnTo>
                  <a:pt x="1264" y="1365"/>
                </a:lnTo>
                <a:lnTo>
                  <a:pt x="1275" y="1403"/>
                </a:lnTo>
                <a:lnTo>
                  <a:pt x="1284" y="1435"/>
                </a:lnTo>
                <a:lnTo>
                  <a:pt x="1292" y="1463"/>
                </a:lnTo>
                <a:lnTo>
                  <a:pt x="1296" y="1494"/>
                </a:lnTo>
                <a:lnTo>
                  <a:pt x="1300" y="1525"/>
                </a:lnTo>
                <a:lnTo>
                  <a:pt x="1306" y="1560"/>
                </a:lnTo>
                <a:lnTo>
                  <a:pt x="1313" y="1591"/>
                </a:lnTo>
                <a:lnTo>
                  <a:pt x="1320" y="1625"/>
                </a:lnTo>
                <a:lnTo>
                  <a:pt x="1325" y="1653"/>
                </a:lnTo>
                <a:lnTo>
                  <a:pt x="1329" y="1680"/>
                </a:lnTo>
                <a:lnTo>
                  <a:pt x="1337" y="1697"/>
                </a:lnTo>
                <a:lnTo>
                  <a:pt x="1341" y="1721"/>
                </a:lnTo>
                <a:lnTo>
                  <a:pt x="1349" y="1745"/>
                </a:lnTo>
                <a:lnTo>
                  <a:pt x="1359" y="1777"/>
                </a:lnTo>
                <a:lnTo>
                  <a:pt x="1370" y="1806"/>
                </a:lnTo>
                <a:lnTo>
                  <a:pt x="1381" y="1841"/>
                </a:lnTo>
                <a:lnTo>
                  <a:pt x="1393" y="1875"/>
                </a:lnTo>
                <a:lnTo>
                  <a:pt x="1404" y="1909"/>
                </a:lnTo>
                <a:lnTo>
                  <a:pt x="1418" y="1932"/>
                </a:lnTo>
                <a:lnTo>
                  <a:pt x="1429" y="1963"/>
                </a:lnTo>
                <a:lnTo>
                  <a:pt x="1448" y="1998"/>
                </a:lnTo>
                <a:lnTo>
                  <a:pt x="1470" y="2037"/>
                </a:lnTo>
                <a:lnTo>
                  <a:pt x="1496" y="2077"/>
                </a:lnTo>
                <a:lnTo>
                  <a:pt x="1521" y="2117"/>
                </a:lnTo>
                <a:lnTo>
                  <a:pt x="1546" y="2156"/>
                </a:lnTo>
                <a:lnTo>
                  <a:pt x="1570" y="2192"/>
                </a:lnTo>
                <a:lnTo>
                  <a:pt x="1594" y="2218"/>
                </a:lnTo>
                <a:lnTo>
                  <a:pt x="1618" y="2248"/>
                </a:lnTo>
                <a:lnTo>
                  <a:pt x="1652" y="2280"/>
                </a:lnTo>
                <a:lnTo>
                  <a:pt x="1688" y="2315"/>
                </a:lnTo>
                <a:lnTo>
                  <a:pt x="1731" y="2345"/>
                </a:lnTo>
                <a:lnTo>
                  <a:pt x="1772" y="2380"/>
                </a:lnTo>
                <a:lnTo>
                  <a:pt x="1814" y="2413"/>
                </a:lnTo>
                <a:lnTo>
                  <a:pt x="1854" y="2438"/>
                </a:lnTo>
                <a:lnTo>
                  <a:pt x="1890" y="2460"/>
                </a:lnTo>
                <a:lnTo>
                  <a:pt x="1928" y="2481"/>
                </a:lnTo>
                <a:lnTo>
                  <a:pt x="1976" y="2504"/>
                </a:lnTo>
                <a:lnTo>
                  <a:pt x="2029" y="2529"/>
                </a:lnTo>
                <a:lnTo>
                  <a:pt x="2089" y="2554"/>
                </a:lnTo>
                <a:lnTo>
                  <a:pt x="2146" y="2579"/>
                </a:lnTo>
                <a:lnTo>
                  <a:pt x="2206" y="2601"/>
                </a:lnTo>
                <a:lnTo>
                  <a:pt x="2258" y="2624"/>
                </a:lnTo>
                <a:lnTo>
                  <a:pt x="2313" y="2637"/>
                </a:lnTo>
                <a:lnTo>
                  <a:pt x="2359" y="2655"/>
                </a:lnTo>
                <a:lnTo>
                  <a:pt x="2414" y="2669"/>
                </a:lnTo>
                <a:lnTo>
                  <a:pt x="2469" y="2687"/>
                </a:lnTo>
                <a:lnTo>
                  <a:pt x="2529" y="2699"/>
                </a:lnTo>
                <a:lnTo>
                  <a:pt x="2582" y="2714"/>
                </a:lnTo>
                <a:lnTo>
                  <a:pt x="2631" y="2725"/>
                </a:lnTo>
                <a:lnTo>
                  <a:pt x="2674" y="2733"/>
                </a:lnTo>
                <a:lnTo>
                  <a:pt x="2867" y="2759"/>
                </a:lnTo>
                <a:lnTo>
                  <a:pt x="2852" y="2759"/>
                </a:lnTo>
                <a:lnTo>
                  <a:pt x="2852" y="2759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55960" y="2622600"/>
            <a:ext cx="4551480" cy="4182840"/>
          </a:xfrm>
          <a:custGeom>
            <a:avLst/>
            <a:gdLst/>
            <a:ahLst/>
            <a:rect l="l" t="t" r="r" b="b"/>
            <a:pathLst>
              <a:path w="2867" h="2635">
                <a:moveTo>
                  <a:pt x="0" y="0"/>
                </a:moveTo>
                <a:lnTo>
                  <a:pt x="0" y="12"/>
                </a:lnTo>
                <a:lnTo>
                  <a:pt x="0" y="21"/>
                </a:lnTo>
                <a:lnTo>
                  <a:pt x="0" y="29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4"/>
                </a:lnTo>
                <a:lnTo>
                  <a:pt x="0" y="45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1"/>
                </a:lnTo>
                <a:lnTo>
                  <a:pt x="0" y="54"/>
                </a:lnTo>
                <a:lnTo>
                  <a:pt x="0" y="56"/>
                </a:lnTo>
                <a:lnTo>
                  <a:pt x="0" y="60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90"/>
                </a:lnTo>
                <a:lnTo>
                  <a:pt x="1" y="99"/>
                </a:lnTo>
                <a:lnTo>
                  <a:pt x="1" y="111"/>
                </a:lnTo>
                <a:lnTo>
                  <a:pt x="3" y="122"/>
                </a:lnTo>
                <a:lnTo>
                  <a:pt x="5" y="135"/>
                </a:lnTo>
                <a:lnTo>
                  <a:pt x="7" y="147"/>
                </a:lnTo>
                <a:lnTo>
                  <a:pt x="8" y="161"/>
                </a:lnTo>
                <a:lnTo>
                  <a:pt x="10" y="174"/>
                </a:lnTo>
                <a:lnTo>
                  <a:pt x="12" y="188"/>
                </a:lnTo>
                <a:lnTo>
                  <a:pt x="15" y="200"/>
                </a:lnTo>
                <a:lnTo>
                  <a:pt x="17" y="214"/>
                </a:lnTo>
                <a:lnTo>
                  <a:pt x="20" y="227"/>
                </a:lnTo>
                <a:lnTo>
                  <a:pt x="22" y="239"/>
                </a:lnTo>
                <a:lnTo>
                  <a:pt x="26" y="249"/>
                </a:lnTo>
                <a:lnTo>
                  <a:pt x="29" y="262"/>
                </a:lnTo>
                <a:lnTo>
                  <a:pt x="34" y="276"/>
                </a:lnTo>
                <a:lnTo>
                  <a:pt x="38" y="292"/>
                </a:lnTo>
                <a:lnTo>
                  <a:pt x="45" y="307"/>
                </a:lnTo>
                <a:lnTo>
                  <a:pt x="52" y="325"/>
                </a:lnTo>
                <a:lnTo>
                  <a:pt x="60" y="342"/>
                </a:lnTo>
                <a:lnTo>
                  <a:pt x="70" y="360"/>
                </a:lnTo>
                <a:lnTo>
                  <a:pt x="79" y="377"/>
                </a:lnTo>
                <a:lnTo>
                  <a:pt x="88" y="396"/>
                </a:lnTo>
                <a:lnTo>
                  <a:pt x="98" y="414"/>
                </a:lnTo>
                <a:lnTo>
                  <a:pt x="107" y="433"/>
                </a:lnTo>
                <a:lnTo>
                  <a:pt x="118" y="450"/>
                </a:lnTo>
                <a:lnTo>
                  <a:pt x="128" y="468"/>
                </a:lnTo>
                <a:lnTo>
                  <a:pt x="138" y="484"/>
                </a:lnTo>
                <a:lnTo>
                  <a:pt x="148" y="499"/>
                </a:lnTo>
                <a:lnTo>
                  <a:pt x="159" y="512"/>
                </a:lnTo>
                <a:lnTo>
                  <a:pt x="168" y="527"/>
                </a:lnTo>
                <a:lnTo>
                  <a:pt x="180" y="540"/>
                </a:lnTo>
                <a:lnTo>
                  <a:pt x="193" y="555"/>
                </a:lnTo>
                <a:lnTo>
                  <a:pt x="207" y="568"/>
                </a:lnTo>
                <a:lnTo>
                  <a:pt x="221" y="583"/>
                </a:lnTo>
                <a:lnTo>
                  <a:pt x="236" y="596"/>
                </a:lnTo>
                <a:lnTo>
                  <a:pt x="251" y="610"/>
                </a:lnTo>
                <a:lnTo>
                  <a:pt x="268" y="623"/>
                </a:lnTo>
                <a:lnTo>
                  <a:pt x="282" y="636"/>
                </a:lnTo>
                <a:lnTo>
                  <a:pt x="299" y="648"/>
                </a:lnTo>
                <a:lnTo>
                  <a:pt x="314" y="660"/>
                </a:lnTo>
                <a:lnTo>
                  <a:pt x="329" y="669"/>
                </a:lnTo>
                <a:lnTo>
                  <a:pt x="343" y="678"/>
                </a:lnTo>
                <a:lnTo>
                  <a:pt x="357" y="686"/>
                </a:lnTo>
                <a:lnTo>
                  <a:pt x="370" y="693"/>
                </a:lnTo>
                <a:lnTo>
                  <a:pt x="383" y="697"/>
                </a:lnTo>
                <a:lnTo>
                  <a:pt x="394" y="703"/>
                </a:lnTo>
                <a:lnTo>
                  <a:pt x="407" y="707"/>
                </a:lnTo>
                <a:lnTo>
                  <a:pt x="421" y="712"/>
                </a:lnTo>
                <a:lnTo>
                  <a:pt x="437" y="715"/>
                </a:lnTo>
                <a:lnTo>
                  <a:pt x="452" y="721"/>
                </a:lnTo>
                <a:lnTo>
                  <a:pt x="468" y="725"/>
                </a:lnTo>
                <a:lnTo>
                  <a:pt x="485" y="730"/>
                </a:lnTo>
                <a:lnTo>
                  <a:pt x="503" y="734"/>
                </a:lnTo>
                <a:lnTo>
                  <a:pt x="520" y="740"/>
                </a:lnTo>
                <a:lnTo>
                  <a:pt x="536" y="744"/>
                </a:lnTo>
                <a:lnTo>
                  <a:pt x="553" y="747"/>
                </a:lnTo>
                <a:lnTo>
                  <a:pt x="570" y="751"/>
                </a:lnTo>
                <a:lnTo>
                  <a:pt x="584" y="755"/>
                </a:lnTo>
                <a:lnTo>
                  <a:pt x="600" y="758"/>
                </a:lnTo>
                <a:lnTo>
                  <a:pt x="612" y="760"/>
                </a:lnTo>
                <a:lnTo>
                  <a:pt x="626" y="762"/>
                </a:lnTo>
                <a:lnTo>
                  <a:pt x="637" y="766"/>
                </a:lnTo>
                <a:lnTo>
                  <a:pt x="650" y="768"/>
                </a:lnTo>
                <a:lnTo>
                  <a:pt x="664" y="772"/>
                </a:lnTo>
                <a:lnTo>
                  <a:pt x="679" y="775"/>
                </a:lnTo>
                <a:lnTo>
                  <a:pt x="694" y="779"/>
                </a:lnTo>
                <a:lnTo>
                  <a:pt x="709" y="783"/>
                </a:lnTo>
                <a:lnTo>
                  <a:pt x="724" y="786"/>
                </a:lnTo>
                <a:lnTo>
                  <a:pt x="741" y="790"/>
                </a:lnTo>
                <a:lnTo>
                  <a:pt x="756" y="796"/>
                </a:lnTo>
                <a:lnTo>
                  <a:pt x="771" y="800"/>
                </a:lnTo>
                <a:lnTo>
                  <a:pt x="786" y="805"/>
                </a:lnTo>
                <a:lnTo>
                  <a:pt x="800" y="809"/>
                </a:lnTo>
                <a:lnTo>
                  <a:pt x="813" y="814"/>
                </a:lnTo>
                <a:lnTo>
                  <a:pt x="825" y="818"/>
                </a:lnTo>
                <a:lnTo>
                  <a:pt x="836" y="822"/>
                </a:lnTo>
                <a:lnTo>
                  <a:pt x="846" y="826"/>
                </a:lnTo>
                <a:lnTo>
                  <a:pt x="855" y="832"/>
                </a:lnTo>
                <a:lnTo>
                  <a:pt x="865" y="836"/>
                </a:lnTo>
                <a:lnTo>
                  <a:pt x="876" y="842"/>
                </a:lnTo>
                <a:lnTo>
                  <a:pt x="888" y="846"/>
                </a:lnTo>
                <a:lnTo>
                  <a:pt x="900" y="852"/>
                </a:lnTo>
                <a:lnTo>
                  <a:pt x="912" y="858"/>
                </a:lnTo>
                <a:lnTo>
                  <a:pt x="924" y="863"/>
                </a:lnTo>
                <a:lnTo>
                  <a:pt x="938" y="869"/>
                </a:lnTo>
                <a:lnTo>
                  <a:pt x="949" y="876"/>
                </a:lnTo>
                <a:lnTo>
                  <a:pt x="962" y="881"/>
                </a:lnTo>
                <a:lnTo>
                  <a:pt x="973" y="887"/>
                </a:lnTo>
                <a:lnTo>
                  <a:pt x="986" y="892"/>
                </a:lnTo>
                <a:lnTo>
                  <a:pt x="996" y="898"/>
                </a:lnTo>
                <a:lnTo>
                  <a:pt x="1007" y="902"/>
                </a:lnTo>
                <a:lnTo>
                  <a:pt x="1016" y="906"/>
                </a:lnTo>
                <a:lnTo>
                  <a:pt x="1026" y="910"/>
                </a:lnTo>
                <a:lnTo>
                  <a:pt x="1033" y="916"/>
                </a:lnTo>
                <a:lnTo>
                  <a:pt x="1042" y="922"/>
                </a:lnTo>
                <a:lnTo>
                  <a:pt x="1051" y="929"/>
                </a:lnTo>
                <a:lnTo>
                  <a:pt x="1062" y="937"/>
                </a:lnTo>
                <a:lnTo>
                  <a:pt x="1072" y="948"/>
                </a:lnTo>
                <a:lnTo>
                  <a:pt x="1083" y="957"/>
                </a:lnTo>
                <a:lnTo>
                  <a:pt x="1094" y="968"/>
                </a:lnTo>
                <a:lnTo>
                  <a:pt x="1107" y="979"/>
                </a:lnTo>
                <a:lnTo>
                  <a:pt x="1118" y="992"/>
                </a:lnTo>
                <a:lnTo>
                  <a:pt x="1129" y="1003"/>
                </a:lnTo>
                <a:lnTo>
                  <a:pt x="1140" y="1016"/>
                </a:lnTo>
                <a:lnTo>
                  <a:pt x="1151" y="1027"/>
                </a:lnTo>
                <a:lnTo>
                  <a:pt x="1160" y="1040"/>
                </a:lnTo>
                <a:lnTo>
                  <a:pt x="1171" y="1052"/>
                </a:lnTo>
                <a:lnTo>
                  <a:pt x="1180" y="1064"/>
                </a:lnTo>
                <a:lnTo>
                  <a:pt x="1188" y="1075"/>
                </a:lnTo>
                <a:lnTo>
                  <a:pt x="1196" y="1088"/>
                </a:lnTo>
                <a:lnTo>
                  <a:pt x="1204" y="1102"/>
                </a:lnTo>
                <a:lnTo>
                  <a:pt x="1211" y="1117"/>
                </a:lnTo>
                <a:lnTo>
                  <a:pt x="1220" y="1133"/>
                </a:lnTo>
                <a:lnTo>
                  <a:pt x="1227" y="1151"/>
                </a:lnTo>
                <a:lnTo>
                  <a:pt x="1235" y="1168"/>
                </a:lnTo>
                <a:lnTo>
                  <a:pt x="1242" y="1186"/>
                </a:lnTo>
                <a:lnTo>
                  <a:pt x="1251" y="1204"/>
                </a:lnTo>
                <a:lnTo>
                  <a:pt x="1256" y="1223"/>
                </a:lnTo>
                <a:lnTo>
                  <a:pt x="1264" y="1241"/>
                </a:lnTo>
                <a:lnTo>
                  <a:pt x="1270" y="1260"/>
                </a:lnTo>
                <a:lnTo>
                  <a:pt x="1276" y="1278"/>
                </a:lnTo>
                <a:lnTo>
                  <a:pt x="1280" y="1295"/>
                </a:lnTo>
                <a:lnTo>
                  <a:pt x="1285" y="1311"/>
                </a:lnTo>
                <a:lnTo>
                  <a:pt x="1288" y="1326"/>
                </a:lnTo>
                <a:lnTo>
                  <a:pt x="1292" y="1340"/>
                </a:lnTo>
                <a:lnTo>
                  <a:pt x="1293" y="1354"/>
                </a:lnTo>
                <a:lnTo>
                  <a:pt x="1295" y="1369"/>
                </a:lnTo>
                <a:lnTo>
                  <a:pt x="1297" y="1385"/>
                </a:lnTo>
                <a:lnTo>
                  <a:pt x="1300" y="1400"/>
                </a:lnTo>
                <a:lnTo>
                  <a:pt x="1302" y="1417"/>
                </a:lnTo>
                <a:lnTo>
                  <a:pt x="1306" y="1433"/>
                </a:lnTo>
                <a:lnTo>
                  <a:pt x="1309" y="1450"/>
                </a:lnTo>
                <a:lnTo>
                  <a:pt x="1313" y="1466"/>
                </a:lnTo>
                <a:lnTo>
                  <a:pt x="1314" y="1482"/>
                </a:lnTo>
                <a:lnTo>
                  <a:pt x="1318" y="1498"/>
                </a:lnTo>
                <a:lnTo>
                  <a:pt x="1321" y="1513"/>
                </a:lnTo>
                <a:lnTo>
                  <a:pt x="1324" y="1527"/>
                </a:lnTo>
                <a:lnTo>
                  <a:pt x="1326" y="1541"/>
                </a:lnTo>
                <a:lnTo>
                  <a:pt x="1330" y="1553"/>
                </a:lnTo>
                <a:lnTo>
                  <a:pt x="1332" y="1565"/>
                </a:lnTo>
                <a:lnTo>
                  <a:pt x="1335" y="1573"/>
                </a:lnTo>
                <a:lnTo>
                  <a:pt x="1337" y="1584"/>
                </a:lnTo>
                <a:lnTo>
                  <a:pt x="1340" y="1594"/>
                </a:lnTo>
                <a:lnTo>
                  <a:pt x="1343" y="1608"/>
                </a:lnTo>
                <a:lnTo>
                  <a:pt x="1348" y="1621"/>
                </a:lnTo>
                <a:lnTo>
                  <a:pt x="1352" y="1636"/>
                </a:lnTo>
                <a:lnTo>
                  <a:pt x="1357" y="1651"/>
                </a:lnTo>
                <a:lnTo>
                  <a:pt x="1363" y="1668"/>
                </a:lnTo>
                <a:lnTo>
                  <a:pt x="1368" y="1682"/>
                </a:lnTo>
                <a:lnTo>
                  <a:pt x="1374" y="1700"/>
                </a:lnTo>
                <a:lnTo>
                  <a:pt x="1380" y="1716"/>
                </a:lnTo>
                <a:lnTo>
                  <a:pt x="1385" y="1733"/>
                </a:lnTo>
                <a:lnTo>
                  <a:pt x="1392" y="1749"/>
                </a:lnTo>
                <a:lnTo>
                  <a:pt x="1398" y="1766"/>
                </a:lnTo>
                <a:lnTo>
                  <a:pt x="1404" y="1781"/>
                </a:lnTo>
                <a:lnTo>
                  <a:pt x="1410" y="1796"/>
                </a:lnTo>
                <a:lnTo>
                  <a:pt x="1416" y="1809"/>
                </a:lnTo>
                <a:lnTo>
                  <a:pt x="1421" y="1824"/>
                </a:lnTo>
                <a:lnTo>
                  <a:pt x="1429" y="1839"/>
                </a:lnTo>
                <a:lnTo>
                  <a:pt x="1437" y="1857"/>
                </a:lnTo>
                <a:lnTo>
                  <a:pt x="1447" y="1874"/>
                </a:lnTo>
                <a:lnTo>
                  <a:pt x="1457" y="1893"/>
                </a:lnTo>
                <a:lnTo>
                  <a:pt x="1468" y="1912"/>
                </a:lnTo>
                <a:lnTo>
                  <a:pt x="1480" y="1932"/>
                </a:lnTo>
                <a:lnTo>
                  <a:pt x="1493" y="1951"/>
                </a:lnTo>
                <a:lnTo>
                  <a:pt x="1505" y="1972"/>
                </a:lnTo>
                <a:lnTo>
                  <a:pt x="1518" y="1992"/>
                </a:lnTo>
                <a:lnTo>
                  <a:pt x="1531" y="2011"/>
                </a:lnTo>
                <a:lnTo>
                  <a:pt x="1544" y="2029"/>
                </a:lnTo>
                <a:lnTo>
                  <a:pt x="1556" y="2048"/>
                </a:lnTo>
                <a:lnTo>
                  <a:pt x="1568" y="2064"/>
                </a:lnTo>
                <a:lnTo>
                  <a:pt x="1580" y="2080"/>
                </a:lnTo>
                <a:lnTo>
                  <a:pt x="1592" y="2092"/>
                </a:lnTo>
                <a:lnTo>
                  <a:pt x="1604" y="2108"/>
                </a:lnTo>
                <a:lnTo>
                  <a:pt x="1618" y="2122"/>
                </a:lnTo>
                <a:lnTo>
                  <a:pt x="1634" y="2139"/>
                </a:lnTo>
                <a:lnTo>
                  <a:pt x="1651" y="2154"/>
                </a:lnTo>
                <a:lnTo>
                  <a:pt x="1669" y="2171"/>
                </a:lnTo>
                <a:lnTo>
                  <a:pt x="1688" y="2188"/>
                </a:lnTo>
                <a:lnTo>
                  <a:pt x="1708" y="2205"/>
                </a:lnTo>
                <a:lnTo>
                  <a:pt x="1729" y="2222"/>
                </a:lnTo>
                <a:lnTo>
                  <a:pt x="1750" y="2238"/>
                </a:lnTo>
                <a:lnTo>
                  <a:pt x="1770" y="2255"/>
                </a:lnTo>
                <a:lnTo>
                  <a:pt x="1791" y="2272"/>
                </a:lnTo>
                <a:lnTo>
                  <a:pt x="1812" y="2286"/>
                </a:lnTo>
                <a:lnTo>
                  <a:pt x="1832" y="2302"/>
                </a:lnTo>
                <a:lnTo>
                  <a:pt x="1852" y="2314"/>
                </a:lnTo>
                <a:lnTo>
                  <a:pt x="1870" y="2326"/>
                </a:lnTo>
                <a:lnTo>
                  <a:pt x="1889" y="2335"/>
                </a:lnTo>
                <a:lnTo>
                  <a:pt x="1906" y="2346"/>
                </a:lnTo>
                <a:lnTo>
                  <a:pt x="1927" y="2356"/>
                </a:lnTo>
                <a:lnTo>
                  <a:pt x="1949" y="2367"/>
                </a:lnTo>
                <a:lnTo>
                  <a:pt x="1974" y="2378"/>
                </a:lnTo>
                <a:lnTo>
                  <a:pt x="2000" y="2392"/>
                </a:lnTo>
                <a:lnTo>
                  <a:pt x="2028" y="2403"/>
                </a:lnTo>
                <a:lnTo>
                  <a:pt x="2057" y="2416"/>
                </a:lnTo>
                <a:lnTo>
                  <a:pt x="2087" y="2428"/>
                </a:lnTo>
                <a:lnTo>
                  <a:pt x="2117" y="2441"/>
                </a:lnTo>
                <a:lnTo>
                  <a:pt x="2147" y="2453"/>
                </a:lnTo>
                <a:lnTo>
                  <a:pt x="2176" y="2465"/>
                </a:lnTo>
                <a:lnTo>
                  <a:pt x="2206" y="2476"/>
                </a:lnTo>
                <a:lnTo>
                  <a:pt x="2234" y="2488"/>
                </a:lnTo>
                <a:lnTo>
                  <a:pt x="2262" y="2497"/>
                </a:lnTo>
                <a:lnTo>
                  <a:pt x="2288" y="2506"/>
                </a:lnTo>
                <a:lnTo>
                  <a:pt x="2312" y="2512"/>
                </a:lnTo>
                <a:lnTo>
                  <a:pt x="2336" y="2521"/>
                </a:lnTo>
                <a:lnTo>
                  <a:pt x="2360" y="2529"/>
                </a:lnTo>
                <a:lnTo>
                  <a:pt x="2386" y="2536"/>
                </a:lnTo>
                <a:lnTo>
                  <a:pt x="2414" y="2544"/>
                </a:lnTo>
                <a:lnTo>
                  <a:pt x="2442" y="2552"/>
                </a:lnTo>
                <a:lnTo>
                  <a:pt x="2470" y="2559"/>
                </a:lnTo>
                <a:lnTo>
                  <a:pt x="2498" y="2567"/>
                </a:lnTo>
                <a:lnTo>
                  <a:pt x="2527" y="2574"/>
                </a:lnTo>
                <a:lnTo>
                  <a:pt x="2554" y="2581"/>
                </a:lnTo>
                <a:lnTo>
                  <a:pt x="2581" y="2587"/>
                </a:lnTo>
                <a:lnTo>
                  <a:pt x="2606" y="2594"/>
                </a:lnTo>
                <a:lnTo>
                  <a:pt x="2631" y="2599"/>
                </a:lnTo>
                <a:lnTo>
                  <a:pt x="2654" y="2605"/>
                </a:lnTo>
                <a:lnTo>
                  <a:pt x="2675" y="2608"/>
                </a:lnTo>
                <a:lnTo>
                  <a:pt x="2693" y="2612"/>
                </a:lnTo>
                <a:lnTo>
                  <a:pt x="2710" y="2614"/>
                </a:lnTo>
                <a:lnTo>
                  <a:pt x="2722" y="2616"/>
                </a:lnTo>
                <a:lnTo>
                  <a:pt x="2732" y="2617"/>
                </a:lnTo>
                <a:lnTo>
                  <a:pt x="2738" y="2618"/>
                </a:lnTo>
                <a:lnTo>
                  <a:pt x="2744" y="2618"/>
                </a:lnTo>
                <a:lnTo>
                  <a:pt x="2747" y="2620"/>
                </a:lnTo>
                <a:lnTo>
                  <a:pt x="2751" y="2620"/>
                </a:lnTo>
                <a:lnTo>
                  <a:pt x="2754" y="2620"/>
                </a:lnTo>
                <a:lnTo>
                  <a:pt x="2758" y="2620"/>
                </a:lnTo>
                <a:lnTo>
                  <a:pt x="2762" y="2622"/>
                </a:lnTo>
                <a:lnTo>
                  <a:pt x="2768" y="2622"/>
                </a:lnTo>
                <a:lnTo>
                  <a:pt x="2775" y="2624"/>
                </a:lnTo>
                <a:lnTo>
                  <a:pt x="2786" y="2624"/>
                </a:lnTo>
                <a:lnTo>
                  <a:pt x="2799" y="2627"/>
                </a:lnTo>
                <a:lnTo>
                  <a:pt x="2817" y="2628"/>
                </a:lnTo>
                <a:lnTo>
                  <a:pt x="2839" y="2632"/>
                </a:lnTo>
                <a:lnTo>
                  <a:pt x="2866" y="2634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0800" y="4967280"/>
            <a:ext cx="385560" cy="371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934400" y="688968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47160" y="7132680"/>
            <a:ext cx="871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52600" y="17845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63920" y="2023920"/>
            <a:ext cx="903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527200" y="2247480"/>
            <a:ext cx="0" cy="48848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27200" y="7132680"/>
            <a:ext cx="531180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371628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0" y="0"/>
                </a:moveTo>
                <a:lnTo>
                  <a:pt x="480" y="489"/>
                </a:lnTo>
                <a:lnTo>
                  <a:pt x="981" y="1001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133720" y="4632480"/>
            <a:ext cx="2252160" cy="2231640"/>
            <a:chOff x="2133720" y="4632480"/>
            <a:chExt cx="2252160" cy="2231640"/>
          </a:xfrm>
        </p:grpSpPr>
        <p:sp>
          <p:nvSpPr>
            <p:cNvPr id="404" name=""/>
            <p:cNvSpPr/>
            <p:nvPr/>
          </p:nvSpPr>
          <p:spPr>
            <a:xfrm>
              <a:off x="2133720" y="4632480"/>
              <a:ext cx="2252160" cy="2231640"/>
            </a:xfrm>
            <a:custGeom>
              <a:avLst/>
              <a:gdLst/>
              <a:ahLst/>
              <a:rect l="l" t="t" r="r" b="b"/>
              <a:pathLst>
                <a:path w="1254" h="1240">
                  <a:moveTo>
                    <a:pt x="1253" y="762"/>
                  </a:moveTo>
                  <a:lnTo>
                    <a:pt x="1079" y="590"/>
                  </a:lnTo>
                  <a:lnTo>
                    <a:pt x="435" y="1239"/>
                  </a:lnTo>
                  <a:lnTo>
                    <a:pt x="0" y="810"/>
                  </a:lnTo>
                  <a:lnTo>
                    <a:pt x="650" y="160"/>
                  </a:lnTo>
                  <a:lnTo>
                    <a:pt x="490" y="0"/>
                  </a:lnTo>
                  <a:lnTo>
                    <a:pt x="1253" y="0"/>
                  </a:lnTo>
                  <a:lnTo>
                    <a:pt x="1253" y="762"/>
                  </a:lnTo>
                  <a:lnTo>
                    <a:pt x="1253" y="762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8900000">
              <a:off x="2612880" y="5470920"/>
              <a:ext cx="1616760" cy="3848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rot="18840000">
            <a:off x="2209680" y="5245200"/>
            <a:ext cx="17128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stos puntos no son facti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018040" y="3463920"/>
            <a:ext cx="1819440" cy="1473120"/>
            <a:chOff x="5018040" y="3463920"/>
            <a:chExt cx="1819440" cy="1473120"/>
          </a:xfrm>
        </p:grpSpPr>
        <p:sp>
          <p:nvSpPr>
            <p:cNvPr id="408" name=""/>
            <p:cNvSpPr/>
            <p:nvPr/>
          </p:nvSpPr>
          <p:spPr>
            <a:xfrm>
              <a:off x="5018040" y="3919680"/>
              <a:ext cx="1819440" cy="101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43480" y="3463920"/>
              <a:ext cx="118764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_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927520" y="3354480"/>
            <a:ext cx="3551040" cy="2493720"/>
          </a:xfrm>
          <a:prstGeom prst="ellipse">
            <a:avLst/>
          </a:prstGeom>
          <a:noFill/>
          <a:ln w="127080">
            <a:solidFill>
              <a:srgbClr val="ff505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73080" y="3435480"/>
            <a:ext cx="327204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Brush738 BT"/>
              </a:rPr>
              <a:t>Esta región causa probl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48600" y="3581280"/>
            <a:ext cx="2809800" cy="204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ón: en esta región existe una indivi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960"/>
            <a:ext cx="88218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 firma: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s-AR" sz="5200" spc="-1" strike="noStrike">
                <a:solidFill>
                  <a:srgbClr val="000000"/>
                </a:solidFill>
                <a:latin typeface="Arial"/>
              </a:rPr>
              <a:t>Principios de Microeconomía II  - </a:t>
            </a:r>
            <a:r>
              <a:rPr b="1" i="1" lang="es-AR" sz="5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13160" y="5950080"/>
            <a:ext cx="1224000" cy="1039680"/>
            <a:chOff x="4313160" y="5950080"/>
            <a:chExt cx="1224000" cy="1039680"/>
          </a:xfrm>
        </p:grpSpPr>
        <p:sp>
          <p:nvSpPr>
            <p:cNvPr id="45" name=""/>
            <p:cNvSpPr/>
            <p:nvPr/>
          </p:nvSpPr>
          <p:spPr>
            <a:xfrm>
              <a:off x="4313160" y="5950080"/>
              <a:ext cx="819360" cy="179280"/>
            </a:xfrm>
            <a:custGeom>
              <a:avLst/>
              <a:gdLst/>
              <a:ahLst/>
              <a:rect l="l" t="t" r="r" b="b"/>
              <a:pathLst>
                <a:path w="516" h="113">
                  <a:moveTo>
                    <a:pt x="515" y="96"/>
                  </a:moveTo>
                  <a:lnTo>
                    <a:pt x="514" y="96"/>
                  </a:lnTo>
                  <a:lnTo>
                    <a:pt x="514" y="93"/>
                  </a:lnTo>
                  <a:lnTo>
                    <a:pt x="512" y="90"/>
                  </a:lnTo>
                  <a:lnTo>
                    <a:pt x="512" y="86"/>
                  </a:lnTo>
                  <a:lnTo>
                    <a:pt x="510" y="81"/>
                  </a:lnTo>
                  <a:lnTo>
                    <a:pt x="509" y="74"/>
                  </a:lnTo>
                  <a:lnTo>
                    <a:pt x="507" y="68"/>
                  </a:lnTo>
                  <a:lnTo>
                    <a:pt x="506" y="61"/>
                  </a:lnTo>
                  <a:lnTo>
                    <a:pt x="503" y="55"/>
                  </a:lnTo>
                  <a:lnTo>
                    <a:pt x="501" y="48"/>
                  </a:lnTo>
                  <a:lnTo>
                    <a:pt x="498" y="42"/>
                  </a:lnTo>
                  <a:lnTo>
                    <a:pt x="497" y="34"/>
                  </a:lnTo>
                  <a:lnTo>
                    <a:pt x="493" y="29"/>
                  </a:lnTo>
                  <a:lnTo>
                    <a:pt x="489" y="24"/>
                  </a:lnTo>
                  <a:lnTo>
                    <a:pt x="486" y="20"/>
                  </a:lnTo>
                  <a:lnTo>
                    <a:pt x="483" y="16"/>
                  </a:lnTo>
                  <a:lnTo>
                    <a:pt x="476" y="15"/>
                  </a:lnTo>
                  <a:lnTo>
                    <a:pt x="468" y="12"/>
                  </a:lnTo>
                  <a:lnTo>
                    <a:pt x="459" y="10"/>
                  </a:lnTo>
                  <a:lnTo>
                    <a:pt x="450" y="8"/>
                  </a:lnTo>
                  <a:lnTo>
                    <a:pt x="438" y="7"/>
                  </a:lnTo>
                  <a:lnTo>
                    <a:pt x="427" y="5"/>
                  </a:lnTo>
                  <a:lnTo>
                    <a:pt x="416" y="5"/>
                  </a:lnTo>
                  <a:lnTo>
                    <a:pt x="405" y="3"/>
                  </a:lnTo>
                  <a:lnTo>
                    <a:pt x="391" y="3"/>
                  </a:lnTo>
                  <a:lnTo>
                    <a:pt x="380" y="2"/>
                  </a:lnTo>
                  <a:lnTo>
                    <a:pt x="369" y="2"/>
                  </a:lnTo>
                  <a:lnTo>
                    <a:pt x="358" y="1"/>
                  </a:lnTo>
                  <a:lnTo>
                    <a:pt x="347" y="1"/>
                  </a:lnTo>
                  <a:lnTo>
                    <a:pt x="338" y="1"/>
                  </a:lnTo>
                  <a:lnTo>
                    <a:pt x="330" y="1"/>
                  </a:lnTo>
                  <a:lnTo>
                    <a:pt x="323" y="0"/>
                  </a:lnTo>
                  <a:lnTo>
                    <a:pt x="313" y="0"/>
                  </a:lnTo>
                  <a:lnTo>
                    <a:pt x="302" y="0"/>
                  </a:lnTo>
                  <a:lnTo>
                    <a:pt x="289" y="0"/>
                  </a:lnTo>
                  <a:lnTo>
                    <a:pt x="277" y="0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93" y="0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31" y="0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7" y="65"/>
                  </a:lnTo>
                  <a:lnTo>
                    <a:pt x="10" y="65"/>
                  </a:lnTo>
                  <a:lnTo>
                    <a:pt x="14" y="65"/>
                  </a:lnTo>
                  <a:lnTo>
                    <a:pt x="18" y="65"/>
                  </a:lnTo>
                  <a:lnTo>
                    <a:pt x="23" y="64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8" y="64"/>
                  </a:lnTo>
                  <a:lnTo>
                    <a:pt x="43" y="64"/>
                  </a:lnTo>
                  <a:lnTo>
                    <a:pt x="48" y="64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65" y="62"/>
                  </a:lnTo>
                  <a:lnTo>
                    <a:pt x="73" y="62"/>
                  </a:lnTo>
                  <a:lnTo>
                    <a:pt x="83" y="62"/>
                  </a:lnTo>
                  <a:lnTo>
                    <a:pt x="95" y="62"/>
                  </a:lnTo>
                  <a:lnTo>
                    <a:pt x="108" y="62"/>
                  </a:lnTo>
                  <a:lnTo>
                    <a:pt x="120" y="62"/>
                  </a:lnTo>
                  <a:lnTo>
                    <a:pt x="134" y="62"/>
                  </a:lnTo>
                  <a:lnTo>
                    <a:pt x="147" y="62"/>
                  </a:lnTo>
                  <a:lnTo>
                    <a:pt x="162" y="60"/>
                  </a:lnTo>
                  <a:lnTo>
                    <a:pt x="175" y="60"/>
                  </a:lnTo>
                  <a:lnTo>
                    <a:pt x="189" y="60"/>
                  </a:lnTo>
                  <a:lnTo>
                    <a:pt x="202" y="60"/>
                  </a:lnTo>
                  <a:lnTo>
                    <a:pt x="216" y="60"/>
                  </a:lnTo>
                  <a:lnTo>
                    <a:pt x="227" y="60"/>
                  </a:lnTo>
                  <a:lnTo>
                    <a:pt x="239" y="60"/>
                  </a:lnTo>
                  <a:lnTo>
                    <a:pt x="249" y="60"/>
                  </a:lnTo>
                  <a:lnTo>
                    <a:pt x="259" y="60"/>
                  </a:lnTo>
                  <a:lnTo>
                    <a:pt x="263" y="60"/>
                  </a:lnTo>
                  <a:lnTo>
                    <a:pt x="268" y="60"/>
                  </a:lnTo>
                  <a:lnTo>
                    <a:pt x="274" y="60"/>
                  </a:lnTo>
                  <a:lnTo>
                    <a:pt x="281" y="60"/>
                  </a:lnTo>
                  <a:lnTo>
                    <a:pt x="286" y="60"/>
                  </a:lnTo>
                  <a:lnTo>
                    <a:pt x="294" y="60"/>
                  </a:lnTo>
                  <a:lnTo>
                    <a:pt x="301" y="60"/>
                  </a:lnTo>
                  <a:lnTo>
                    <a:pt x="308" y="59"/>
                  </a:lnTo>
                  <a:lnTo>
                    <a:pt x="313" y="60"/>
                  </a:lnTo>
                  <a:lnTo>
                    <a:pt x="321" y="60"/>
                  </a:lnTo>
                  <a:lnTo>
                    <a:pt x="328" y="61"/>
                  </a:lnTo>
                  <a:lnTo>
                    <a:pt x="335" y="61"/>
                  </a:lnTo>
                  <a:lnTo>
                    <a:pt x="341" y="63"/>
                  </a:lnTo>
                  <a:lnTo>
                    <a:pt x="347" y="63"/>
                  </a:lnTo>
                  <a:lnTo>
                    <a:pt x="352" y="64"/>
                  </a:lnTo>
                  <a:lnTo>
                    <a:pt x="357" y="64"/>
                  </a:lnTo>
                  <a:lnTo>
                    <a:pt x="359" y="66"/>
                  </a:lnTo>
                  <a:lnTo>
                    <a:pt x="360" y="68"/>
                  </a:lnTo>
                  <a:lnTo>
                    <a:pt x="362" y="70"/>
                  </a:lnTo>
                  <a:lnTo>
                    <a:pt x="365" y="72"/>
                  </a:lnTo>
                  <a:lnTo>
                    <a:pt x="367" y="76"/>
                  </a:lnTo>
                  <a:lnTo>
                    <a:pt x="370" y="78"/>
                  </a:lnTo>
                  <a:lnTo>
                    <a:pt x="372" y="82"/>
                  </a:lnTo>
                  <a:lnTo>
                    <a:pt x="375" y="84"/>
                  </a:lnTo>
                  <a:lnTo>
                    <a:pt x="377" y="88"/>
                  </a:lnTo>
                  <a:lnTo>
                    <a:pt x="379" y="91"/>
                  </a:lnTo>
                  <a:lnTo>
                    <a:pt x="381" y="95"/>
                  </a:lnTo>
                  <a:lnTo>
                    <a:pt x="383" y="98"/>
                  </a:lnTo>
                  <a:lnTo>
                    <a:pt x="383" y="102"/>
                  </a:lnTo>
                  <a:lnTo>
                    <a:pt x="385" y="104"/>
                  </a:lnTo>
                  <a:lnTo>
                    <a:pt x="385" y="107"/>
                  </a:lnTo>
                  <a:lnTo>
                    <a:pt x="387" y="109"/>
                  </a:lnTo>
                  <a:lnTo>
                    <a:pt x="387" y="111"/>
                  </a:lnTo>
                  <a:lnTo>
                    <a:pt x="387" y="111"/>
                  </a:lnTo>
                  <a:lnTo>
                    <a:pt x="388" y="112"/>
                  </a:lnTo>
                  <a:lnTo>
                    <a:pt x="390" y="112"/>
                  </a:lnTo>
                  <a:lnTo>
                    <a:pt x="391" y="112"/>
                  </a:lnTo>
                  <a:lnTo>
                    <a:pt x="393" y="112"/>
                  </a:lnTo>
                  <a:lnTo>
                    <a:pt x="395" y="112"/>
                  </a:lnTo>
                  <a:lnTo>
                    <a:pt x="398" y="112"/>
                  </a:lnTo>
                  <a:lnTo>
                    <a:pt x="400" y="112"/>
                  </a:lnTo>
                  <a:lnTo>
                    <a:pt x="401" y="112"/>
                  </a:lnTo>
                  <a:lnTo>
                    <a:pt x="403" y="112"/>
                  </a:lnTo>
                  <a:lnTo>
                    <a:pt x="406" y="111"/>
                  </a:lnTo>
                  <a:lnTo>
                    <a:pt x="407" y="111"/>
                  </a:lnTo>
                  <a:lnTo>
                    <a:pt x="409" y="109"/>
                  </a:lnTo>
                  <a:lnTo>
                    <a:pt x="409" y="108"/>
                  </a:lnTo>
                  <a:lnTo>
                    <a:pt x="410" y="106"/>
                  </a:lnTo>
                  <a:lnTo>
                    <a:pt x="410" y="106"/>
                  </a:lnTo>
                  <a:lnTo>
                    <a:pt x="410" y="104"/>
                  </a:lnTo>
                  <a:lnTo>
                    <a:pt x="410" y="101"/>
                  </a:lnTo>
                  <a:lnTo>
                    <a:pt x="410" y="98"/>
                  </a:lnTo>
                  <a:lnTo>
                    <a:pt x="409" y="94"/>
                  </a:lnTo>
                  <a:lnTo>
                    <a:pt x="409" y="90"/>
                  </a:lnTo>
                  <a:lnTo>
                    <a:pt x="409" y="85"/>
                  </a:lnTo>
                  <a:lnTo>
                    <a:pt x="409" y="80"/>
                  </a:lnTo>
                  <a:lnTo>
                    <a:pt x="407" y="76"/>
                  </a:lnTo>
                  <a:lnTo>
                    <a:pt x="407" y="70"/>
                  </a:lnTo>
                  <a:lnTo>
                    <a:pt x="406" y="66"/>
                  </a:lnTo>
                  <a:lnTo>
                    <a:pt x="406" y="60"/>
                  </a:lnTo>
                  <a:lnTo>
                    <a:pt x="404" y="57"/>
                  </a:lnTo>
                  <a:lnTo>
                    <a:pt x="403" y="53"/>
                  </a:lnTo>
                  <a:lnTo>
                    <a:pt x="401" y="52"/>
                  </a:lnTo>
                  <a:lnTo>
                    <a:pt x="400" y="48"/>
                  </a:lnTo>
                  <a:lnTo>
                    <a:pt x="398" y="48"/>
                  </a:lnTo>
                  <a:lnTo>
                    <a:pt x="396" y="47"/>
                  </a:lnTo>
                  <a:lnTo>
                    <a:pt x="393" y="46"/>
                  </a:lnTo>
                  <a:lnTo>
                    <a:pt x="391" y="44"/>
                  </a:lnTo>
                  <a:lnTo>
                    <a:pt x="387" y="43"/>
                  </a:lnTo>
                  <a:lnTo>
                    <a:pt x="385" y="42"/>
                  </a:lnTo>
                  <a:lnTo>
                    <a:pt x="381" y="40"/>
                  </a:lnTo>
                  <a:lnTo>
                    <a:pt x="379" y="38"/>
                  </a:lnTo>
                  <a:lnTo>
                    <a:pt x="375" y="38"/>
                  </a:lnTo>
                  <a:lnTo>
                    <a:pt x="373" y="36"/>
                  </a:lnTo>
                  <a:lnTo>
                    <a:pt x="370" y="34"/>
                  </a:lnTo>
                  <a:lnTo>
                    <a:pt x="368" y="33"/>
                  </a:lnTo>
                  <a:lnTo>
                    <a:pt x="366" y="33"/>
                  </a:lnTo>
                  <a:lnTo>
                    <a:pt x="365" y="31"/>
                  </a:lnTo>
                  <a:lnTo>
                    <a:pt x="364" y="31"/>
                  </a:lnTo>
                  <a:lnTo>
                    <a:pt x="364" y="29"/>
                  </a:lnTo>
                  <a:lnTo>
                    <a:pt x="364" y="29"/>
                  </a:lnTo>
                  <a:lnTo>
                    <a:pt x="365" y="29"/>
                  </a:lnTo>
                  <a:lnTo>
                    <a:pt x="366" y="29"/>
                  </a:lnTo>
                  <a:lnTo>
                    <a:pt x="368" y="29"/>
                  </a:lnTo>
                  <a:lnTo>
                    <a:pt x="370" y="29"/>
                  </a:lnTo>
                  <a:lnTo>
                    <a:pt x="373" y="29"/>
                  </a:lnTo>
                  <a:lnTo>
                    <a:pt x="375" y="29"/>
                  </a:lnTo>
                  <a:lnTo>
                    <a:pt x="379" y="29"/>
                  </a:lnTo>
                  <a:lnTo>
                    <a:pt x="380" y="29"/>
                  </a:lnTo>
                  <a:lnTo>
                    <a:pt x="383" y="29"/>
                  </a:lnTo>
                  <a:lnTo>
                    <a:pt x="385" y="29"/>
                  </a:lnTo>
                  <a:lnTo>
                    <a:pt x="389" y="29"/>
                  </a:lnTo>
                  <a:lnTo>
                    <a:pt x="391" y="29"/>
                  </a:lnTo>
                  <a:lnTo>
                    <a:pt x="393" y="29"/>
                  </a:lnTo>
                  <a:lnTo>
                    <a:pt x="395" y="29"/>
                  </a:lnTo>
                  <a:lnTo>
                    <a:pt x="397" y="29"/>
                  </a:lnTo>
                  <a:lnTo>
                    <a:pt x="399" y="31"/>
                  </a:lnTo>
                  <a:lnTo>
                    <a:pt x="403" y="31"/>
                  </a:lnTo>
                  <a:lnTo>
                    <a:pt x="406" y="31"/>
                  </a:lnTo>
                  <a:lnTo>
                    <a:pt x="410" y="31"/>
                  </a:lnTo>
                  <a:lnTo>
                    <a:pt x="411" y="33"/>
                  </a:lnTo>
                  <a:lnTo>
                    <a:pt x="415" y="33"/>
                  </a:lnTo>
                  <a:lnTo>
                    <a:pt x="419" y="33"/>
                  </a:lnTo>
                  <a:lnTo>
                    <a:pt x="423" y="33"/>
                  </a:lnTo>
                  <a:lnTo>
                    <a:pt x="425" y="34"/>
                  </a:lnTo>
                  <a:lnTo>
                    <a:pt x="428" y="34"/>
                  </a:lnTo>
                  <a:lnTo>
                    <a:pt x="430" y="36"/>
                  </a:lnTo>
                  <a:lnTo>
                    <a:pt x="434" y="36"/>
                  </a:lnTo>
                  <a:lnTo>
                    <a:pt x="436" y="38"/>
                  </a:lnTo>
                  <a:lnTo>
                    <a:pt x="440" y="38"/>
                  </a:lnTo>
                  <a:lnTo>
                    <a:pt x="443" y="40"/>
                  </a:lnTo>
                  <a:lnTo>
                    <a:pt x="447" y="40"/>
                  </a:lnTo>
                  <a:lnTo>
                    <a:pt x="449" y="42"/>
                  </a:lnTo>
                  <a:lnTo>
                    <a:pt x="451" y="44"/>
                  </a:lnTo>
                  <a:lnTo>
                    <a:pt x="453" y="46"/>
                  </a:lnTo>
                  <a:lnTo>
                    <a:pt x="455" y="46"/>
                  </a:lnTo>
                  <a:lnTo>
                    <a:pt x="457" y="48"/>
                  </a:lnTo>
                  <a:lnTo>
                    <a:pt x="459" y="50"/>
                  </a:lnTo>
                  <a:lnTo>
                    <a:pt x="461" y="52"/>
                  </a:lnTo>
                  <a:lnTo>
                    <a:pt x="463" y="53"/>
                  </a:lnTo>
                  <a:lnTo>
                    <a:pt x="465" y="57"/>
                  </a:lnTo>
                  <a:lnTo>
                    <a:pt x="467" y="59"/>
                  </a:lnTo>
                  <a:lnTo>
                    <a:pt x="468" y="61"/>
                  </a:lnTo>
                  <a:lnTo>
                    <a:pt x="470" y="63"/>
                  </a:lnTo>
                  <a:lnTo>
                    <a:pt x="472" y="66"/>
                  </a:lnTo>
                  <a:lnTo>
                    <a:pt x="474" y="68"/>
                  </a:lnTo>
                  <a:lnTo>
                    <a:pt x="476" y="70"/>
                  </a:lnTo>
                  <a:lnTo>
                    <a:pt x="479" y="72"/>
                  </a:lnTo>
                  <a:lnTo>
                    <a:pt x="479" y="74"/>
                  </a:lnTo>
                  <a:lnTo>
                    <a:pt x="479" y="75"/>
                  </a:lnTo>
                  <a:lnTo>
                    <a:pt x="479" y="77"/>
                  </a:lnTo>
                  <a:lnTo>
                    <a:pt x="481" y="79"/>
                  </a:lnTo>
                  <a:lnTo>
                    <a:pt x="481" y="82"/>
                  </a:lnTo>
                  <a:lnTo>
                    <a:pt x="483" y="84"/>
                  </a:lnTo>
                  <a:lnTo>
                    <a:pt x="485" y="86"/>
                  </a:lnTo>
                  <a:lnTo>
                    <a:pt x="487" y="88"/>
                  </a:lnTo>
                  <a:lnTo>
                    <a:pt x="487" y="91"/>
                  </a:lnTo>
                  <a:lnTo>
                    <a:pt x="488" y="93"/>
                  </a:lnTo>
                  <a:lnTo>
                    <a:pt x="489" y="94"/>
                  </a:lnTo>
                  <a:lnTo>
                    <a:pt x="491" y="96"/>
                  </a:lnTo>
                  <a:lnTo>
                    <a:pt x="491" y="98"/>
                  </a:lnTo>
                  <a:lnTo>
                    <a:pt x="492" y="99"/>
                  </a:lnTo>
                  <a:lnTo>
                    <a:pt x="492" y="100"/>
                  </a:lnTo>
                  <a:lnTo>
                    <a:pt x="493" y="100"/>
                  </a:lnTo>
                  <a:lnTo>
                    <a:pt x="493" y="100"/>
                  </a:lnTo>
                  <a:lnTo>
                    <a:pt x="495" y="100"/>
                  </a:lnTo>
                  <a:lnTo>
                    <a:pt x="497" y="100"/>
                  </a:lnTo>
                  <a:lnTo>
                    <a:pt x="498" y="100"/>
                  </a:lnTo>
                  <a:lnTo>
                    <a:pt x="500" y="100"/>
                  </a:lnTo>
                  <a:lnTo>
                    <a:pt x="502" y="100"/>
                  </a:lnTo>
                  <a:lnTo>
                    <a:pt x="504" y="100"/>
                  </a:lnTo>
                  <a:lnTo>
                    <a:pt x="506" y="100"/>
                  </a:lnTo>
                  <a:lnTo>
                    <a:pt x="506" y="100"/>
                  </a:lnTo>
                  <a:lnTo>
                    <a:pt x="508" y="100"/>
                  </a:lnTo>
                  <a:lnTo>
                    <a:pt x="510" y="100"/>
                  </a:lnTo>
                  <a:lnTo>
                    <a:pt x="512" y="99"/>
                  </a:lnTo>
                  <a:lnTo>
                    <a:pt x="512" y="99"/>
                  </a:lnTo>
                  <a:lnTo>
                    <a:pt x="514" y="98"/>
                  </a:lnTo>
                  <a:lnTo>
                    <a:pt x="514" y="98"/>
                  </a:lnTo>
                  <a:lnTo>
                    <a:pt x="515" y="96"/>
                  </a:lnTo>
                  <a:lnTo>
                    <a:pt x="515" y="96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4960" y="6105600"/>
              <a:ext cx="1222200" cy="884160"/>
            </a:xfrm>
            <a:custGeom>
              <a:avLst/>
              <a:gdLst/>
              <a:ahLst/>
              <a:rect l="l" t="t" r="r" b="b"/>
              <a:pathLst>
                <a:path w="770" h="557">
                  <a:moveTo>
                    <a:pt x="0" y="324"/>
                  </a:moveTo>
                  <a:lnTo>
                    <a:pt x="0" y="556"/>
                  </a:lnTo>
                  <a:lnTo>
                    <a:pt x="769" y="556"/>
                  </a:lnTo>
                  <a:lnTo>
                    <a:pt x="768" y="343"/>
                  </a:lnTo>
                  <a:lnTo>
                    <a:pt x="537" y="343"/>
                  </a:lnTo>
                  <a:lnTo>
                    <a:pt x="520" y="0"/>
                  </a:lnTo>
                  <a:lnTo>
                    <a:pt x="487" y="0"/>
                  </a:lnTo>
                  <a:lnTo>
                    <a:pt x="475" y="326"/>
                  </a:lnTo>
                  <a:lnTo>
                    <a:pt x="427" y="326"/>
                  </a:lnTo>
                  <a:lnTo>
                    <a:pt x="412" y="2"/>
                  </a:lnTo>
                  <a:lnTo>
                    <a:pt x="380" y="2"/>
                  </a:lnTo>
                  <a:lnTo>
                    <a:pt x="359" y="324"/>
                  </a:lnTo>
                  <a:lnTo>
                    <a:pt x="331" y="324"/>
                  </a:lnTo>
                  <a:lnTo>
                    <a:pt x="308" y="267"/>
                  </a:lnTo>
                  <a:lnTo>
                    <a:pt x="198" y="267"/>
                  </a:lnTo>
                  <a:lnTo>
                    <a:pt x="175" y="322"/>
                  </a:lnTo>
                  <a:lnTo>
                    <a:pt x="152" y="322"/>
                  </a:lnTo>
                  <a:lnTo>
                    <a:pt x="130" y="268"/>
                  </a:lnTo>
                  <a:lnTo>
                    <a:pt x="24" y="268"/>
                  </a:lnTo>
                  <a:lnTo>
                    <a:pt x="0" y="324"/>
                  </a:lnTo>
                  <a:lnTo>
                    <a:pt x="0" y="324"/>
                  </a:lnTo>
                </a:path>
              </a:pathLst>
            </a:custGeom>
            <a:solidFill>
              <a:srgbClr val="a00000"/>
            </a:solidFill>
            <a:ln w="9360">
              <a:solidFill>
                <a:srgbClr val="a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176800" y="6697800"/>
              <a:ext cx="327240" cy="23760"/>
              <a:chOff x="5176800" y="6697800"/>
              <a:chExt cx="327240" cy="2376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5391000" y="6697800"/>
                <a:ext cx="2880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5432400" y="6697800"/>
                <a:ext cx="2844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5346720" y="6697800"/>
                <a:ext cx="3168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5475240" y="6697800"/>
                <a:ext cx="2880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5218200" y="6697800"/>
                <a:ext cx="3024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5261040" y="6697800"/>
                <a:ext cx="2844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5176800" y="6697800"/>
                <a:ext cx="2844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5303880" y="6697800"/>
                <a:ext cx="30240" cy="23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419800" y="6298920"/>
              <a:ext cx="110880" cy="368640"/>
              <a:chOff x="5419800" y="6298920"/>
              <a:chExt cx="110880" cy="36864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5421240" y="6298920"/>
                <a:ext cx="109440" cy="361800"/>
              </a:xfrm>
              <a:prstGeom prst="line">
                <a:avLst/>
              </a:prstGeom>
              <a:ln w="19080">
                <a:solidFill>
                  <a:srgbClr val="a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5487480" y="6302520"/>
                <a:ext cx="42840" cy="363240"/>
              </a:xfrm>
              <a:prstGeom prst="line">
                <a:avLst/>
              </a:prstGeom>
              <a:ln w="19080">
                <a:solidFill>
                  <a:srgbClr val="a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19800" y="6348240"/>
                <a:ext cx="101520" cy="31284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0" y="196"/>
                    </a:moveTo>
                    <a:lnTo>
                      <a:pt x="45" y="172"/>
                    </a:lnTo>
                    <a:lnTo>
                      <a:pt x="24" y="129"/>
                    </a:lnTo>
                    <a:lnTo>
                      <a:pt x="55" y="101"/>
                    </a:lnTo>
                    <a:lnTo>
                      <a:pt x="45" y="59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1" y="0"/>
                    </a:lnTo>
                  </a:path>
                </a:pathLst>
              </a:custGeom>
              <a:noFill/>
              <a:ln w="1908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437080" y="6388200"/>
                <a:ext cx="81000" cy="279360"/>
              </a:xfrm>
              <a:custGeom>
                <a:avLst/>
                <a:gdLst/>
                <a:ahLst/>
                <a:rect l="l" t="t" r="r" b="b"/>
                <a:pathLst>
                  <a:path w="51" h="176">
                    <a:moveTo>
                      <a:pt x="32" y="175"/>
                    </a:moveTo>
                    <a:lnTo>
                      <a:pt x="0" y="138"/>
                    </a:lnTo>
                    <a:lnTo>
                      <a:pt x="39" y="111"/>
                    </a:lnTo>
                    <a:lnTo>
                      <a:pt x="23" y="68"/>
                    </a:lnTo>
                    <a:lnTo>
                      <a:pt x="50" y="34"/>
                    </a:lnTo>
                    <a:lnTo>
                      <a:pt x="44" y="0"/>
                    </a:lnTo>
                  </a:path>
                </a:pathLst>
              </a:custGeom>
              <a:noFill/>
              <a:ln w="1908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07960" y="393480"/>
            <a:ext cx="9453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 convexa, pero no sua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54560" y="2282760"/>
            <a:ext cx="4827600" cy="4033800"/>
          </a:xfrm>
          <a:custGeom>
            <a:avLst/>
            <a:gdLst/>
            <a:ahLst/>
            <a:rect l="l" t="t" r="r" b="b"/>
            <a:pathLst>
              <a:path w="3041" h="2541">
                <a:moveTo>
                  <a:pt x="2683" y="2516"/>
                </a:moveTo>
                <a:lnTo>
                  <a:pt x="2683" y="2516"/>
                </a:lnTo>
                <a:lnTo>
                  <a:pt x="2672" y="2540"/>
                </a:lnTo>
                <a:lnTo>
                  <a:pt x="2752" y="2436"/>
                </a:lnTo>
                <a:lnTo>
                  <a:pt x="2752" y="2317"/>
                </a:lnTo>
                <a:lnTo>
                  <a:pt x="2835" y="2239"/>
                </a:lnTo>
                <a:lnTo>
                  <a:pt x="3040" y="1990"/>
                </a:lnTo>
                <a:lnTo>
                  <a:pt x="2876" y="1819"/>
                </a:lnTo>
                <a:lnTo>
                  <a:pt x="2971" y="1545"/>
                </a:lnTo>
                <a:lnTo>
                  <a:pt x="2805" y="1348"/>
                </a:lnTo>
                <a:lnTo>
                  <a:pt x="2902" y="1151"/>
                </a:lnTo>
                <a:lnTo>
                  <a:pt x="2849" y="928"/>
                </a:lnTo>
                <a:lnTo>
                  <a:pt x="2944" y="758"/>
                </a:lnTo>
                <a:lnTo>
                  <a:pt x="2876" y="627"/>
                </a:lnTo>
                <a:lnTo>
                  <a:pt x="2928" y="470"/>
                </a:lnTo>
                <a:lnTo>
                  <a:pt x="2863" y="378"/>
                </a:lnTo>
                <a:lnTo>
                  <a:pt x="2863" y="299"/>
                </a:lnTo>
                <a:lnTo>
                  <a:pt x="2684" y="260"/>
                </a:lnTo>
                <a:lnTo>
                  <a:pt x="2672" y="182"/>
                </a:lnTo>
                <a:lnTo>
                  <a:pt x="2480" y="182"/>
                </a:lnTo>
                <a:lnTo>
                  <a:pt x="2467" y="64"/>
                </a:lnTo>
                <a:lnTo>
                  <a:pt x="2222" y="64"/>
                </a:lnTo>
                <a:lnTo>
                  <a:pt x="2222" y="157"/>
                </a:lnTo>
                <a:lnTo>
                  <a:pt x="1977" y="157"/>
                </a:lnTo>
                <a:lnTo>
                  <a:pt x="1827" y="38"/>
                </a:lnTo>
                <a:lnTo>
                  <a:pt x="1584" y="38"/>
                </a:lnTo>
                <a:lnTo>
                  <a:pt x="1445" y="102"/>
                </a:lnTo>
                <a:lnTo>
                  <a:pt x="1190" y="102"/>
                </a:lnTo>
                <a:lnTo>
                  <a:pt x="1132" y="38"/>
                </a:lnTo>
                <a:lnTo>
                  <a:pt x="1024" y="51"/>
                </a:lnTo>
                <a:lnTo>
                  <a:pt x="806" y="0"/>
                </a:lnTo>
                <a:lnTo>
                  <a:pt x="577" y="142"/>
                </a:lnTo>
                <a:lnTo>
                  <a:pt x="494" y="64"/>
                </a:lnTo>
                <a:lnTo>
                  <a:pt x="413" y="64"/>
                </a:lnTo>
                <a:lnTo>
                  <a:pt x="290" y="116"/>
                </a:lnTo>
                <a:lnTo>
                  <a:pt x="223" y="51"/>
                </a:lnTo>
                <a:lnTo>
                  <a:pt x="168" y="51"/>
                </a:lnTo>
                <a:lnTo>
                  <a:pt x="46" y="116"/>
                </a:lnTo>
                <a:lnTo>
                  <a:pt x="0" y="160"/>
                </a:lnTo>
                <a:lnTo>
                  <a:pt x="0" y="2516"/>
                </a:lnTo>
                <a:lnTo>
                  <a:pt x="2684" y="2540"/>
                </a:lnTo>
                <a:lnTo>
                  <a:pt x="2683" y="2516"/>
                </a:lnTo>
                <a:lnTo>
                  <a:pt x="2683" y="2516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4560" y="2176560"/>
            <a:ext cx="4649760" cy="4116240"/>
          </a:xfrm>
          <a:custGeom>
            <a:avLst/>
            <a:gdLst/>
            <a:ahLst/>
            <a:rect l="l" t="t" r="r" b="b"/>
            <a:pathLst>
              <a:path w="2929" h="2593">
                <a:moveTo>
                  <a:pt x="2928" y="2592"/>
                </a:moveTo>
                <a:lnTo>
                  <a:pt x="0" y="2592"/>
                </a:lnTo>
                <a:lnTo>
                  <a:pt x="0" y="0"/>
                </a:lnTo>
              </a:path>
            </a:pathLst>
          </a:custGeom>
          <a:noFill/>
          <a:ln w="507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34400" y="688968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47160" y="7132680"/>
            <a:ext cx="871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52600" y="17845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63920" y="2023920"/>
            <a:ext cx="903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527200" y="2247480"/>
            <a:ext cx="0" cy="48848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27200" y="7132680"/>
            <a:ext cx="531180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63840" y="5602320"/>
            <a:ext cx="1703520" cy="1270080"/>
          </a:xfrm>
          <a:custGeom>
            <a:avLst/>
            <a:gdLst/>
            <a:ahLst/>
            <a:rect l="l" t="t" r="r" b="b"/>
            <a:pathLst>
              <a:path w="1073" h="800">
                <a:moveTo>
                  <a:pt x="93" y="178"/>
                </a:moveTo>
                <a:lnTo>
                  <a:pt x="43" y="245"/>
                </a:lnTo>
                <a:lnTo>
                  <a:pt x="14" y="310"/>
                </a:lnTo>
                <a:lnTo>
                  <a:pt x="0" y="377"/>
                </a:lnTo>
                <a:lnTo>
                  <a:pt x="3" y="441"/>
                </a:lnTo>
                <a:lnTo>
                  <a:pt x="19" y="505"/>
                </a:lnTo>
                <a:lnTo>
                  <a:pt x="49" y="564"/>
                </a:lnTo>
                <a:lnTo>
                  <a:pt x="91" y="619"/>
                </a:lnTo>
                <a:lnTo>
                  <a:pt x="144" y="667"/>
                </a:lnTo>
                <a:lnTo>
                  <a:pt x="205" y="711"/>
                </a:lnTo>
                <a:lnTo>
                  <a:pt x="275" y="747"/>
                </a:lnTo>
                <a:lnTo>
                  <a:pt x="351" y="774"/>
                </a:lnTo>
                <a:lnTo>
                  <a:pt x="434" y="791"/>
                </a:lnTo>
                <a:lnTo>
                  <a:pt x="520" y="799"/>
                </a:lnTo>
                <a:lnTo>
                  <a:pt x="610" y="795"/>
                </a:lnTo>
                <a:lnTo>
                  <a:pt x="701" y="779"/>
                </a:lnTo>
                <a:lnTo>
                  <a:pt x="794" y="749"/>
                </a:lnTo>
                <a:lnTo>
                  <a:pt x="876" y="709"/>
                </a:lnTo>
                <a:lnTo>
                  <a:pt x="944" y="661"/>
                </a:lnTo>
                <a:lnTo>
                  <a:pt x="998" y="607"/>
                </a:lnTo>
                <a:lnTo>
                  <a:pt x="1037" y="548"/>
                </a:lnTo>
                <a:lnTo>
                  <a:pt x="1061" y="487"/>
                </a:lnTo>
                <a:lnTo>
                  <a:pt x="1072" y="425"/>
                </a:lnTo>
                <a:lnTo>
                  <a:pt x="1069" y="361"/>
                </a:lnTo>
                <a:lnTo>
                  <a:pt x="1056" y="299"/>
                </a:lnTo>
                <a:lnTo>
                  <a:pt x="1028" y="240"/>
                </a:lnTo>
                <a:lnTo>
                  <a:pt x="989" y="184"/>
                </a:lnTo>
                <a:lnTo>
                  <a:pt x="938" y="133"/>
                </a:lnTo>
                <a:lnTo>
                  <a:pt x="878" y="88"/>
                </a:lnTo>
                <a:lnTo>
                  <a:pt x="806" y="52"/>
                </a:lnTo>
                <a:lnTo>
                  <a:pt x="724" y="24"/>
                </a:lnTo>
                <a:lnTo>
                  <a:pt x="633" y="7"/>
                </a:lnTo>
                <a:lnTo>
                  <a:pt x="534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7040" y="3441600"/>
            <a:ext cx="41436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La pendiente es indefinida en este pu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16400" y="6178680"/>
            <a:ext cx="149040" cy="1396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00" y="5219640"/>
            <a:ext cx="3219480" cy="1960560"/>
            <a:chOff x="79200" y="5219640"/>
            <a:chExt cx="3219480" cy="1960560"/>
          </a:xfrm>
        </p:grpSpPr>
        <p:sp>
          <p:nvSpPr>
            <p:cNvPr id="426" name=""/>
            <p:cNvSpPr/>
            <p:nvPr/>
          </p:nvSpPr>
          <p:spPr>
            <a:xfrm>
              <a:off x="79200" y="5219640"/>
              <a:ext cx="3219480" cy="1960560"/>
            </a:xfrm>
            <a:custGeom>
              <a:avLst/>
              <a:gdLst/>
              <a:ahLst/>
              <a:rect l="l" t="t" r="r" b="b"/>
              <a:pathLst>
                <a:path w="2028" h="1728">
                  <a:moveTo>
                    <a:pt x="1286" y="1727"/>
                  </a:moveTo>
                  <a:lnTo>
                    <a:pt x="1286" y="1530"/>
                  </a:lnTo>
                  <a:lnTo>
                    <a:pt x="0" y="1530"/>
                  </a:lnTo>
                  <a:lnTo>
                    <a:pt x="0" y="178"/>
                  </a:lnTo>
                  <a:lnTo>
                    <a:pt x="1286" y="178"/>
                  </a:lnTo>
                  <a:lnTo>
                    <a:pt x="1286" y="0"/>
                  </a:lnTo>
                  <a:lnTo>
                    <a:pt x="2027" y="862"/>
                  </a:lnTo>
                  <a:lnTo>
                    <a:pt x="1286" y="1727"/>
                  </a:lnTo>
                  <a:lnTo>
                    <a:pt x="1286" y="1727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120" y="5774400"/>
              <a:ext cx="2048040" cy="8416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22120" y="5464080"/>
            <a:ext cx="35593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 único punto eficient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Q =</a:t>
            </a:r>
            <a:r>
              <a:rPr b="1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018040" y="3463920"/>
            <a:ext cx="1819440" cy="1473120"/>
            <a:chOff x="5018040" y="3463920"/>
            <a:chExt cx="1819440" cy="1473120"/>
          </a:xfrm>
        </p:grpSpPr>
        <p:sp>
          <p:nvSpPr>
            <p:cNvPr id="430" name=""/>
            <p:cNvSpPr/>
            <p:nvPr/>
          </p:nvSpPr>
          <p:spPr>
            <a:xfrm>
              <a:off x="5018040" y="3919680"/>
              <a:ext cx="1819440" cy="101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43480" y="3463920"/>
              <a:ext cx="118764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_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25520" y="26640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sumen: 4 posibilidades para el conjunto de insumos requeridos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259840" y="3940200"/>
            <a:ext cx="177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5120" y="4083120"/>
            <a:ext cx="142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898560"/>
            <a:ext cx="177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48280" y="1041480"/>
            <a:ext cx="142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029200" y="1171080"/>
            <a:ext cx="0" cy="29084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29200" y="4079880"/>
            <a:ext cx="317484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78600" y="1238400"/>
            <a:ext cx="2808000" cy="2631960"/>
          </a:xfrm>
          <a:custGeom>
            <a:avLst/>
            <a:gdLst/>
            <a:ahLst/>
            <a:rect l="l" t="t" r="r" b="b"/>
            <a:pathLst>
              <a:path w="1769" h="1658">
                <a:moveTo>
                  <a:pt x="0" y="0"/>
                </a:moveTo>
                <a:lnTo>
                  <a:pt x="0" y="10"/>
                </a:lnTo>
                <a:lnTo>
                  <a:pt x="0" y="17"/>
                </a:lnTo>
                <a:lnTo>
                  <a:pt x="0" y="23"/>
                </a:lnTo>
                <a:lnTo>
                  <a:pt x="1" y="27"/>
                </a:lnTo>
                <a:lnTo>
                  <a:pt x="1" y="31"/>
                </a:lnTo>
                <a:lnTo>
                  <a:pt x="1" y="34"/>
                </a:lnTo>
                <a:lnTo>
                  <a:pt x="1" y="36"/>
                </a:lnTo>
                <a:lnTo>
                  <a:pt x="1" y="36"/>
                </a:lnTo>
                <a:lnTo>
                  <a:pt x="1" y="38"/>
                </a:lnTo>
                <a:lnTo>
                  <a:pt x="1" y="38"/>
                </a:lnTo>
                <a:lnTo>
                  <a:pt x="1" y="40"/>
                </a:lnTo>
                <a:lnTo>
                  <a:pt x="1" y="41"/>
                </a:lnTo>
                <a:lnTo>
                  <a:pt x="1" y="44"/>
                </a:lnTo>
                <a:lnTo>
                  <a:pt x="1" y="46"/>
                </a:lnTo>
                <a:lnTo>
                  <a:pt x="1" y="49"/>
                </a:lnTo>
                <a:lnTo>
                  <a:pt x="2" y="52"/>
                </a:lnTo>
                <a:lnTo>
                  <a:pt x="2" y="58"/>
                </a:lnTo>
                <a:lnTo>
                  <a:pt x="3" y="64"/>
                </a:lnTo>
                <a:lnTo>
                  <a:pt x="3" y="72"/>
                </a:lnTo>
                <a:lnTo>
                  <a:pt x="5" y="78"/>
                </a:lnTo>
                <a:lnTo>
                  <a:pt x="6" y="86"/>
                </a:lnTo>
                <a:lnTo>
                  <a:pt x="8" y="94"/>
                </a:lnTo>
                <a:lnTo>
                  <a:pt x="10" y="101"/>
                </a:lnTo>
                <a:lnTo>
                  <a:pt x="11" y="108"/>
                </a:lnTo>
                <a:lnTo>
                  <a:pt x="13" y="117"/>
                </a:lnTo>
                <a:lnTo>
                  <a:pt x="15" y="125"/>
                </a:lnTo>
                <a:lnTo>
                  <a:pt x="17" y="132"/>
                </a:lnTo>
                <a:lnTo>
                  <a:pt x="19" y="140"/>
                </a:lnTo>
                <a:lnTo>
                  <a:pt x="21" y="147"/>
                </a:lnTo>
                <a:lnTo>
                  <a:pt x="22" y="154"/>
                </a:lnTo>
                <a:lnTo>
                  <a:pt x="24" y="160"/>
                </a:lnTo>
                <a:lnTo>
                  <a:pt x="28" y="165"/>
                </a:lnTo>
                <a:lnTo>
                  <a:pt x="34" y="175"/>
                </a:lnTo>
                <a:lnTo>
                  <a:pt x="47" y="191"/>
                </a:lnTo>
                <a:lnTo>
                  <a:pt x="66" y="214"/>
                </a:lnTo>
                <a:lnTo>
                  <a:pt x="93" y="243"/>
                </a:lnTo>
                <a:lnTo>
                  <a:pt x="124" y="278"/>
                </a:lnTo>
                <a:lnTo>
                  <a:pt x="162" y="316"/>
                </a:lnTo>
                <a:lnTo>
                  <a:pt x="204" y="360"/>
                </a:lnTo>
                <a:lnTo>
                  <a:pt x="251" y="407"/>
                </a:lnTo>
                <a:lnTo>
                  <a:pt x="300" y="458"/>
                </a:lnTo>
                <a:lnTo>
                  <a:pt x="353" y="512"/>
                </a:lnTo>
                <a:lnTo>
                  <a:pt x="410" y="569"/>
                </a:lnTo>
                <a:lnTo>
                  <a:pt x="468" y="626"/>
                </a:lnTo>
                <a:lnTo>
                  <a:pt x="527" y="687"/>
                </a:lnTo>
                <a:lnTo>
                  <a:pt x="589" y="747"/>
                </a:lnTo>
                <a:lnTo>
                  <a:pt x="652" y="807"/>
                </a:lnTo>
                <a:lnTo>
                  <a:pt x="715" y="867"/>
                </a:lnTo>
                <a:lnTo>
                  <a:pt x="778" y="928"/>
                </a:lnTo>
                <a:lnTo>
                  <a:pt x="841" y="988"/>
                </a:lnTo>
                <a:lnTo>
                  <a:pt x="905" y="1049"/>
                </a:lnTo>
                <a:lnTo>
                  <a:pt x="970" y="1108"/>
                </a:lnTo>
                <a:lnTo>
                  <a:pt x="1032" y="1167"/>
                </a:lnTo>
                <a:lnTo>
                  <a:pt x="1094" y="1223"/>
                </a:lnTo>
                <a:lnTo>
                  <a:pt x="1154" y="1277"/>
                </a:lnTo>
                <a:lnTo>
                  <a:pt x="1212" y="1327"/>
                </a:lnTo>
                <a:lnTo>
                  <a:pt x="1267" y="1376"/>
                </a:lnTo>
                <a:lnTo>
                  <a:pt x="1317" y="1420"/>
                </a:lnTo>
                <a:lnTo>
                  <a:pt x="1363" y="1459"/>
                </a:lnTo>
                <a:lnTo>
                  <a:pt x="1405" y="1492"/>
                </a:lnTo>
                <a:lnTo>
                  <a:pt x="1441" y="1521"/>
                </a:lnTo>
                <a:lnTo>
                  <a:pt x="1471" y="1544"/>
                </a:lnTo>
                <a:lnTo>
                  <a:pt x="1494" y="1560"/>
                </a:lnTo>
                <a:lnTo>
                  <a:pt x="1512" y="1569"/>
                </a:lnTo>
                <a:lnTo>
                  <a:pt x="1523" y="1576"/>
                </a:lnTo>
                <a:lnTo>
                  <a:pt x="1536" y="1581"/>
                </a:lnTo>
                <a:lnTo>
                  <a:pt x="1550" y="1587"/>
                </a:lnTo>
                <a:lnTo>
                  <a:pt x="1564" y="1592"/>
                </a:lnTo>
                <a:lnTo>
                  <a:pt x="1578" y="1598"/>
                </a:lnTo>
                <a:lnTo>
                  <a:pt x="1592" y="1604"/>
                </a:lnTo>
                <a:lnTo>
                  <a:pt x="1606" y="1609"/>
                </a:lnTo>
                <a:lnTo>
                  <a:pt x="1621" y="1614"/>
                </a:lnTo>
                <a:lnTo>
                  <a:pt x="1633" y="1620"/>
                </a:lnTo>
                <a:lnTo>
                  <a:pt x="1646" y="1624"/>
                </a:lnTo>
                <a:lnTo>
                  <a:pt x="1658" y="1628"/>
                </a:lnTo>
                <a:lnTo>
                  <a:pt x="1670" y="1632"/>
                </a:lnTo>
                <a:lnTo>
                  <a:pt x="1680" y="1636"/>
                </a:lnTo>
                <a:lnTo>
                  <a:pt x="1689" y="1639"/>
                </a:lnTo>
                <a:lnTo>
                  <a:pt x="1697" y="1642"/>
                </a:lnTo>
                <a:lnTo>
                  <a:pt x="1705" y="1643"/>
                </a:lnTo>
                <a:lnTo>
                  <a:pt x="1709" y="1645"/>
                </a:lnTo>
                <a:lnTo>
                  <a:pt x="1713" y="1645"/>
                </a:lnTo>
                <a:lnTo>
                  <a:pt x="1716" y="1647"/>
                </a:lnTo>
                <a:lnTo>
                  <a:pt x="1718" y="1647"/>
                </a:lnTo>
                <a:lnTo>
                  <a:pt x="1718" y="1648"/>
                </a:lnTo>
                <a:lnTo>
                  <a:pt x="1720" y="1648"/>
                </a:lnTo>
                <a:lnTo>
                  <a:pt x="1722" y="1648"/>
                </a:lnTo>
                <a:lnTo>
                  <a:pt x="1724" y="1648"/>
                </a:lnTo>
                <a:lnTo>
                  <a:pt x="1725" y="1650"/>
                </a:lnTo>
                <a:lnTo>
                  <a:pt x="1727" y="1650"/>
                </a:lnTo>
                <a:lnTo>
                  <a:pt x="1730" y="1650"/>
                </a:lnTo>
                <a:lnTo>
                  <a:pt x="1735" y="1650"/>
                </a:lnTo>
                <a:lnTo>
                  <a:pt x="1740" y="1652"/>
                </a:lnTo>
                <a:lnTo>
                  <a:pt x="1747" y="1654"/>
                </a:lnTo>
                <a:lnTo>
                  <a:pt x="1756" y="1655"/>
                </a:lnTo>
                <a:lnTo>
                  <a:pt x="1768" y="1657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0000" y="3954600"/>
            <a:ext cx="177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35640" y="4097160"/>
            <a:ext cx="142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98720" y="925560"/>
            <a:ext cx="177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24000" y="1066680"/>
            <a:ext cx="142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201680" y="1198440"/>
            <a:ext cx="0" cy="289872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01680" y="4097160"/>
            <a:ext cx="315288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4880" y="1254240"/>
            <a:ext cx="2005200" cy="2208240"/>
          </a:xfrm>
          <a:custGeom>
            <a:avLst/>
            <a:gdLst/>
            <a:ahLst/>
            <a:rect l="l" t="t" r="r" b="b"/>
            <a:pathLst>
              <a:path w="1263" h="1391">
                <a:moveTo>
                  <a:pt x="0" y="0"/>
                </a:moveTo>
                <a:lnTo>
                  <a:pt x="0" y="12"/>
                </a:lnTo>
                <a:lnTo>
                  <a:pt x="1" y="21"/>
                </a:lnTo>
                <a:lnTo>
                  <a:pt x="1" y="29"/>
                </a:lnTo>
                <a:lnTo>
                  <a:pt x="3" y="34"/>
                </a:lnTo>
                <a:lnTo>
                  <a:pt x="3" y="39"/>
                </a:lnTo>
                <a:lnTo>
                  <a:pt x="3" y="42"/>
                </a:lnTo>
                <a:lnTo>
                  <a:pt x="3" y="45"/>
                </a:lnTo>
                <a:lnTo>
                  <a:pt x="5" y="46"/>
                </a:lnTo>
                <a:lnTo>
                  <a:pt x="5" y="48"/>
                </a:lnTo>
                <a:lnTo>
                  <a:pt x="5" y="49"/>
                </a:lnTo>
                <a:lnTo>
                  <a:pt x="5" y="51"/>
                </a:lnTo>
                <a:lnTo>
                  <a:pt x="5" y="52"/>
                </a:lnTo>
                <a:lnTo>
                  <a:pt x="5" y="55"/>
                </a:lnTo>
                <a:lnTo>
                  <a:pt x="5" y="57"/>
                </a:lnTo>
                <a:lnTo>
                  <a:pt x="5" y="62"/>
                </a:lnTo>
                <a:lnTo>
                  <a:pt x="7" y="67"/>
                </a:lnTo>
                <a:lnTo>
                  <a:pt x="7" y="75"/>
                </a:lnTo>
                <a:lnTo>
                  <a:pt x="9" y="84"/>
                </a:lnTo>
                <a:lnTo>
                  <a:pt x="10" y="94"/>
                </a:lnTo>
                <a:lnTo>
                  <a:pt x="13" y="106"/>
                </a:lnTo>
                <a:lnTo>
                  <a:pt x="15" y="120"/>
                </a:lnTo>
                <a:lnTo>
                  <a:pt x="18" y="135"/>
                </a:lnTo>
                <a:lnTo>
                  <a:pt x="20" y="152"/>
                </a:lnTo>
                <a:lnTo>
                  <a:pt x="24" y="167"/>
                </a:lnTo>
                <a:lnTo>
                  <a:pt x="27" y="185"/>
                </a:lnTo>
                <a:lnTo>
                  <a:pt x="30" y="203"/>
                </a:lnTo>
                <a:lnTo>
                  <a:pt x="34" y="222"/>
                </a:lnTo>
                <a:lnTo>
                  <a:pt x="38" y="238"/>
                </a:lnTo>
                <a:lnTo>
                  <a:pt x="41" y="257"/>
                </a:lnTo>
                <a:lnTo>
                  <a:pt x="45" y="274"/>
                </a:lnTo>
                <a:lnTo>
                  <a:pt x="49" y="291"/>
                </a:lnTo>
                <a:lnTo>
                  <a:pt x="53" y="308"/>
                </a:lnTo>
                <a:lnTo>
                  <a:pt x="57" y="326"/>
                </a:lnTo>
                <a:lnTo>
                  <a:pt x="61" y="342"/>
                </a:lnTo>
                <a:lnTo>
                  <a:pt x="65" y="361"/>
                </a:lnTo>
                <a:lnTo>
                  <a:pt x="70" y="379"/>
                </a:lnTo>
                <a:lnTo>
                  <a:pt x="75" y="399"/>
                </a:lnTo>
                <a:lnTo>
                  <a:pt x="80" y="418"/>
                </a:lnTo>
                <a:lnTo>
                  <a:pt x="86" y="437"/>
                </a:lnTo>
                <a:lnTo>
                  <a:pt x="91" y="455"/>
                </a:lnTo>
                <a:lnTo>
                  <a:pt x="95" y="474"/>
                </a:lnTo>
                <a:lnTo>
                  <a:pt x="101" y="491"/>
                </a:lnTo>
                <a:lnTo>
                  <a:pt x="106" y="508"/>
                </a:lnTo>
                <a:lnTo>
                  <a:pt x="111" y="523"/>
                </a:lnTo>
                <a:lnTo>
                  <a:pt x="115" y="538"/>
                </a:lnTo>
                <a:lnTo>
                  <a:pt x="121" y="550"/>
                </a:lnTo>
                <a:lnTo>
                  <a:pt x="125" y="562"/>
                </a:lnTo>
                <a:lnTo>
                  <a:pt x="129" y="570"/>
                </a:lnTo>
                <a:lnTo>
                  <a:pt x="133" y="580"/>
                </a:lnTo>
                <a:lnTo>
                  <a:pt x="136" y="590"/>
                </a:lnTo>
                <a:lnTo>
                  <a:pt x="141" y="602"/>
                </a:lnTo>
                <a:lnTo>
                  <a:pt x="146" y="613"/>
                </a:lnTo>
                <a:lnTo>
                  <a:pt x="151" y="626"/>
                </a:lnTo>
                <a:lnTo>
                  <a:pt x="157" y="639"/>
                </a:lnTo>
                <a:lnTo>
                  <a:pt x="163" y="653"/>
                </a:lnTo>
                <a:lnTo>
                  <a:pt x="169" y="666"/>
                </a:lnTo>
                <a:lnTo>
                  <a:pt x="175" y="681"/>
                </a:lnTo>
                <a:lnTo>
                  <a:pt x="181" y="696"/>
                </a:lnTo>
                <a:lnTo>
                  <a:pt x="186" y="711"/>
                </a:lnTo>
                <a:lnTo>
                  <a:pt x="194" y="724"/>
                </a:lnTo>
                <a:lnTo>
                  <a:pt x="199" y="738"/>
                </a:lnTo>
                <a:lnTo>
                  <a:pt x="205" y="750"/>
                </a:lnTo>
                <a:lnTo>
                  <a:pt x="211" y="762"/>
                </a:lnTo>
                <a:lnTo>
                  <a:pt x="216" y="773"/>
                </a:lnTo>
                <a:lnTo>
                  <a:pt x="220" y="786"/>
                </a:lnTo>
                <a:lnTo>
                  <a:pt x="225" y="797"/>
                </a:lnTo>
                <a:lnTo>
                  <a:pt x="231" y="810"/>
                </a:lnTo>
                <a:lnTo>
                  <a:pt x="236" y="822"/>
                </a:lnTo>
                <a:lnTo>
                  <a:pt x="242" y="836"/>
                </a:lnTo>
                <a:lnTo>
                  <a:pt x="248" y="849"/>
                </a:lnTo>
                <a:lnTo>
                  <a:pt x="254" y="862"/>
                </a:lnTo>
                <a:lnTo>
                  <a:pt x="261" y="875"/>
                </a:lnTo>
                <a:lnTo>
                  <a:pt x="267" y="888"/>
                </a:lnTo>
                <a:lnTo>
                  <a:pt x="272" y="902"/>
                </a:lnTo>
                <a:lnTo>
                  <a:pt x="278" y="914"/>
                </a:lnTo>
                <a:lnTo>
                  <a:pt x="284" y="925"/>
                </a:lnTo>
                <a:lnTo>
                  <a:pt x="288" y="936"/>
                </a:lnTo>
                <a:lnTo>
                  <a:pt x="293" y="946"/>
                </a:lnTo>
                <a:lnTo>
                  <a:pt x="297" y="955"/>
                </a:lnTo>
                <a:lnTo>
                  <a:pt x="302" y="962"/>
                </a:lnTo>
                <a:lnTo>
                  <a:pt x="305" y="969"/>
                </a:lnTo>
                <a:lnTo>
                  <a:pt x="310" y="976"/>
                </a:lnTo>
                <a:lnTo>
                  <a:pt x="314" y="986"/>
                </a:lnTo>
                <a:lnTo>
                  <a:pt x="320" y="994"/>
                </a:lnTo>
                <a:lnTo>
                  <a:pt x="325" y="1005"/>
                </a:lnTo>
                <a:lnTo>
                  <a:pt x="332" y="1014"/>
                </a:lnTo>
                <a:lnTo>
                  <a:pt x="338" y="1025"/>
                </a:lnTo>
                <a:lnTo>
                  <a:pt x="345" y="1034"/>
                </a:lnTo>
                <a:lnTo>
                  <a:pt x="351" y="1046"/>
                </a:lnTo>
                <a:lnTo>
                  <a:pt x="359" y="1055"/>
                </a:lnTo>
                <a:lnTo>
                  <a:pt x="366" y="1066"/>
                </a:lnTo>
                <a:lnTo>
                  <a:pt x="373" y="1075"/>
                </a:lnTo>
                <a:lnTo>
                  <a:pt x="379" y="1084"/>
                </a:lnTo>
                <a:lnTo>
                  <a:pt x="387" y="1093"/>
                </a:lnTo>
                <a:lnTo>
                  <a:pt x="392" y="1101"/>
                </a:lnTo>
                <a:lnTo>
                  <a:pt x="400" y="1108"/>
                </a:lnTo>
                <a:lnTo>
                  <a:pt x="405" y="1116"/>
                </a:lnTo>
                <a:lnTo>
                  <a:pt x="411" y="1124"/>
                </a:lnTo>
                <a:lnTo>
                  <a:pt x="419" y="1132"/>
                </a:lnTo>
                <a:lnTo>
                  <a:pt x="427" y="1139"/>
                </a:lnTo>
                <a:lnTo>
                  <a:pt x="435" y="1149"/>
                </a:lnTo>
                <a:lnTo>
                  <a:pt x="443" y="1156"/>
                </a:lnTo>
                <a:lnTo>
                  <a:pt x="452" y="1166"/>
                </a:lnTo>
                <a:lnTo>
                  <a:pt x="461" y="1173"/>
                </a:lnTo>
                <a:lnTo>
                  <a:pt x="469" y="1182"/>
                </a:lnTo>
                <a:lnTo>
                  <a:pt x="478" y="1190"/>
                </a:lnTo>
                <a:lnTo>
                  <a:pt x="485" y="1197"/>
                </a:lnTo>
                <a:lnTo>
                  <a:pt x="495" y="1204"/>
                </a:lnTo>
                <a:lnTo>
                  <a:pt x="502" y="1212"/>
                </a:lnTo>
                <a:lnTo>
                  <a:pt x="509" y="1217"/>
                </a:lnTo>
                <a:lnTo>
                  <a:pt x="516" y="1223"/>
                </a:lnTo>
                <a:lnTo>
                  <a:pt x="523" y="1227"/>
                </a:lnTo>
                <a:lnTo>
                  <a:pt x="529" y="1232"/>
                </a:lnTo>
                <a:lnTo>
                  <a:pt x="535" y="1236"/>
                </a:lnTo>
                <a:lnTo>
                  <a:pt x="540" y="1241"/>
                </a:lnTo>
                <a:lnTo>
                  <a:pt x="547" y="1245"/>
                </a:lnTo>
                <a:lnTo>
                  <a:pt x="553" y="1250"/>
                </a:lnTo>
                <a:lnTo>
                  <a:pt x="559" y="1254"/>
                </a:lnTo>
                <a:lnTo>
                  <a:pt x="565" y="1258"/>
                </a:lnTo>
                <a:lnTo>
                  <a:pt x="572" y="1262"/>
                </a:lnTo>
                <a:lnTo>
                  <a:pt x="576" y="1267"/>
                </a:lnTo>
                <a:lnTo>
                  <a:pt x="582" y="1271"/>
                </a:lnTo>
                <a:lnTo>
                  <a:pt x="586" y="1275"/>
                </a:lnTo>
                <a:lnTo>
                  <a:pt x="592" y="1278"/>
                </a:lnTo>
                <a:lnTo>
                  <a:pt x="596" y="1282"/>
                </a:lnTo>
                <a:lnTo>
                  <a:pt x="600" y="1284"/>
                </a:lnTo>
                <a:lnTo>
                  <a:pt x="603" y="1285"/>
                </a:lnTo>
                <a:lnTo>
                  <a:pt x="606" y="1286"/>
                </a:lnTo>
                <a:lnTo>
                  <a:pt x="608" y="1288"/>
                </a:lnTo>
                <a:lnTo>
                  <a:pt x="611" y="1290"/>
                </a:lnTo>
                <a:lnTo>
                  <a:pt x="614" y="1292"/>
                </a:lnTo>
                <a:lnTo>
                  <a:pt x="617" y="1294"/>
                </a:lnTo>
                <a:lnTo>
                  <a:pt x="621" y="1296"/>
                </a:lnTo>
                <a:lnTo>
                  <a:pt x="625" y="1298"/>
                </a:lnTo>
                <a:lnTo>
                  <a:pt x="629" y="1300"/>
                </a:lnTo>
                <a:lnTo>
                  <a:pt x="635" y="1302"/>
                </a:lnTo>
                <a:lnTo>
                  <a:pt x="639" y="1305"/>
                </a:lnTo>
                <a:lnTo>
                  <a:pt x="644" y="1307"/>
                </a:lnTo>
                <a:lnTo>
                  <a:pt x="648" y="1309"/>
                </a:lnTo>
                <a:lnTo>
                  <a:pt x="654" y="1311"/>
                </a:lnTo>
                <a:lnTo>
                  <a:pt x="657" y="1314"/>
                </a:lnTo>
                <a:lnTo>
                  <a:pt x="663" y="1315"/>
                </a:lnTo>
                <a:lnTo>
                  <a:pt x="668" y="1317"/>
                </a:lnTo>
                <a:lnTo>
                  <a:pt x="674" y="1318"/>
                </a:lnTo>
                <a:lnTo>
                  <a:pt x="677" y="1320"/>
                </a:lnTo>
                <a:lnTo>
                  <a:pt x="683" y="1322"/>
                </a:lnTo>
                <a:lnTo>
                  <a:pt x="689" y="1324"/>
                </a:lnTo>
                <a:lnTo>
                  <a:pt x="697" y="1326"/>
                </a:lnTo>
                <a:lnTo>
                  <a:pt x="703" y="1330"/>
                </a:lnTo>
                <a:lnTo>
                  <a:pt x="712" y="1332"/>
                </a:lnTo>
                <a:lnTo>
                  <a:pt x="719" y="1333"/>
                </a:lnTo>
                <a:lnTo>
                  <a:pt x="729" y="1335"/>
                </a:lnTo>
                <a:lnTo>
                  <a:pt x="736" y="1339"/>
                </a:lnTo>
                <a:lnTo>
                  <a:pt x="745" y="1341"/>
                </a:lnTo>
                <a:lnTo>
                  <a:pt x="752" y="1343"/>
                </a:lnTo>
                <a:lnTo>
                  <a:pt x="761" y="1345"/>
                </a:lnTo>
                <a:lnTo>
                  <a:pt x="769" y="1347"/>
                </a:lnTo>
                <a:lnTo>
                  <a:pt x="777" y="1349"/>
                </a:lnTo>
                <a:lnTo>
                  <a:pt x="785" y="1351"/>
                </a:lnTo>
                <a:lnTo>
                  <a:pt x="793" y="1352"/>
                </a:lnTo>
                <a:lnTo>
                  <a:pt x="799" y="1354"/>
                </a:lnTo>
                <a:lnTo>
                  <a:pt x="807" y="1356"/>
                </a:lnTo>
                <a:lnTo>
                  <a:pt x="815" y="1358"/>
                </a:lnTo>
                <a:lnTo>
                  <a:pt x="824" y="1360"/>
                </a:lnTo>
                <a:lnTo>
                  <a:pt x="833" y="1362"/>
                </a:lnTo>
                <a:lnTo>
                  <a:pt x="842" y="1363"/>
                </a:lnTo>
                <a:lnTo>
                  <a:pt x="851" y="1365"/>
                </a:lnTo>
                <a:lnTo>
                  <a:pt x="861" y="1367"/>
                </a:lnTo>
                <a:lnTo>
                  <a:pt x="870" y="1369"/>
                </a:lnTo>
                <a:lnTo>
                  <a:pt x="879" y="1371"/>
                </a:lnTo>
                <a:lnTo>
                  <a:pt x="888" y="1373"/>
                </a:lnTo>
                <a:lnTo>
                  <a:pt x="898" y="1373"/>
                </a:lnTo>
                <a:lnTo>
                  <a:pt x="905" y="1375"/>
                </a:lnTo>
                <a:lnTo>
                  <a:pt x="913" y="1376"/>
                </a:lnTo>
                <a:lnTo>
                  <a:pt x="919" y="1377"/>
                </a:lnTo>
                <a:lnTo>
                  <a:pt x="927" y="1377"/>
                </a:lnTo>
                <a:lnTo>
                  <a:pt x="933" y="1379"/>
                </a:lnTo>
                <a:lnTo>
                  <a:pt x="939" y="1379"/>
                </a:lnTo>
                <a:lnTo>
                  <a:pt x="947" y="1381"/>
                </a:lnTo>
                <a:lnTo>
                  <a:pt x="956" y="1381"/>
                </a:lnTo>
                <a:lnTo>
                  <a:pt x="964" y="1383"/>
                </a:lnTo>
                <a:lnTo>
                  <a:pt x="973" y="1383"/>
                </a:lnTo>
                <a:lnTo>
                  <a:pt x="983" y="1383"/>
                </a:lnTo>
                <a:lnTo>
                  <a:pt x="993" y="1383"/>
                </a:lnTo>
                <a:lnTo>
                  <a:pt x="1002" y="1385"/>
                </a:lnTo>
                <a:lnTo>
                  <a:pt x="1011" y="1385"/>
                </a:lnTo>
                <a:lnTo>
                  <a:pt x="1021" y="1386"/>
                </a:lnTo>
                <a:lnTo>
                  <a:pt x="1030" y="1386"/>
                </a:lnTo>
                <a:lnTo>
                  <a:pt x="1038" y="1387"/>
                </a:lnTo>
                <a:lnTo>
                  <a:pt x="1047" y="1387"/>
                </a:lnTo>
                <a:lnTo>
                  <a:pt x="1055" y="1387"/>
                </a:lnTo>
                <a:lnTo>
                  <a:pt x="1064" y="1387"/>
                </a:lnTo>
                <a:lnTo>
                  <a:pt x="1071" y="1389"/>
                </a:lnTo>
                <a:lnTo>
                  <a:pt x="1079" y="1389"/>
                </a:lnTo>
                <a:lnTo>
                  <a:pt x="1087" y="1389"/>
                </a:lnTo>
                <a:lnTo>
                  <a:pt x="1097" y="1389"/>
                </a:lnTo>
                <a:lnTo>
                  <a:pt x="1105" y="1390"/>
                </a:lnTo>
                <a:lnTo>
                  <a:pt x="1115" y="1390"/>
                </a:lnTo>
                <a:lnTo>
                  <a:pt x="1124" y="1390"/>
                </a:lnTo>
                <a:lnTo>
                  <a:pt x="1135" y="1390"/>
                </a:lnTo>
                <a:lnTo>
                  <a:pt x="1143" y="1390"/>
                </a:lnTo>
                <a:lnTo>
                  <a:pt x="1153" y="1390"/>
                </a:lnTo>
                <a:lnTo>
                  <a:pt x="1161" y="1390"/>
                </a:lnTo>
                <a:lnTo>
                  <a:pt x="1171" y="1390"/>
                </a:lnTo>
                <a:lnTo>
                  <a:pt x="1179" y="1390"/>
                </a:lnTo>
                <a:lnTo>
                  <a:pt x="1187" y="1390"/>
                </a:lnTo>
                <a:lnTo>
                  <a:pt x="1193" y="1390"/>
                </a:lnTo>
                <a:lnTo>
                  <a:pt x="1201" y="1390"/>
                </a:lnTo>
                <a:lnTo>
                  <a:pt x="1205" y="1390"/>
                </a:lnTo>
                <a:lnTo>
                  <a:pt x="1209" y="1390"/>
                </a:lnTo>
                <a:lnTo>
                  <a:pt x="1211" y="1390"/>
                </a:lnTo>
                <a:lnTo>
                  <a:pt x="1214" y="1390"/>
                </a:lnTo>
                <a:lnTo>
                  <a:pt x="1215" y="1390"/>
                </a:lnTo>
                <a:lnTo>
                  <a:pt x="1217" y="1390"/>
                </a:lnTo>
                <a:lnTo>
                  <a:pt x="1218" y="1390"/>
                </a:lnTo>
                <a:lnTo>
                  <a:pt x="1220" y="1390"/>
                </a:lnTo>
                <a:lnTo>
                  <a:pt x="1221" y="1390"/>
                </a:lnTo>
                <a:lnTo>
                  <a:pt x="1223" y="1390"/>
                </a:lnTo>
                <a:lnTo>
                  <a:pt x="1226" y="1390"/>
                </a:lnTo>
                <a:lnTo>
                  <a:pt x="1230" y="1390"/>
                </a:lnTo>
                <a:lnTo>
                  <a:pt x="1235" y="1390"/>
                </a:lnTo>
                <a:lnTo>
                  <a:pt x="1242" y="1390"/>
                </a:lnTo>
                <a:lnTo>
                  <a:pt x="1251" y="1390"/>
                </a:lnTo>
                <a:lnTo>
                  <a:pt x="1262" y="1390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6520" y="1225440"/>
            <a:ext cx="2808000" cy="2633760"/>
          </a:xfrm>
          <a:custGeom>
            <a:avLst/>
            <a:gdLst/>
            <a:ahLst/>
            <a:rect l="l" t="t" r="r" b="b"/>
            <a:pathLst>
              <a:path w="1769" h="1659">
                <a:moveTo>
                  <a:pt x="0" y="0"/>
                </a:moveTo>
                <a:lnTo>
                  <a:pt x="0" y="10"/>
                </a:lnTo>
                <a:lnTo>
                  <a:pt x="0" y="17"/>
                </a:lnTo>
                <a:lnTo>
                  <a:pt x="0" y="24"/>
                </a:lnTo>
                <a:lnTo>
                  <a:pt x="1" y="28"/>
                </a:lnTo>
                <a:lnTo>
                  <a:pt x="1" y="32"/>
                </a:lnTo>
                <a:lnTo>
                  <a:pt x="1" y="34"/>
                </a:lnTo>
                <a:lnTo>
                  <a:pt x="1" y="36"/>
                </a:lnTo>
                <a:lnTo>
                  <a:pt x="1" y="37"/>
                </a:lnTo>
                <a:lnTo>
                  <a:pt x="1" y="38"/>
                </a:lnTo>
                <a:lnTo>
                  <a:pt x="1" y="39"/>
                </a:lnTo>
                <a:lnTo>
                  <a:pt x="1" y="41"/>
                </a:lnTo>
                <a:lnTo>
                  <a:pt x="1" y="42"/>
                </a:lnTo>
                <a:lnTo>
                  <a:pt x="1" y="44"/>
                </a:lnTo>
                <a:lnTo>
                  <a:pt x="1" y="46"/>
                </a:lnTo>
                <a:lnTo>
                  <a:pt x="1" y="50"/>
                </a:lnTo>
                <a:lnTo>
                  <a:pt x="3" y="53"/>
                </a:lnTo>
                <a:lnTo>
                  <a:pt x="3" y="59"/>
                </a:lnTo>
                <a:lnTo>
                  <a:pt x="3" y="65"/>
                </a:lnTo>
                <a:lnTo>
                  <a:pt x="3" y="72"/>
                </a:lnTo>
                <a:lnTo>
                  <a:pt x="5" y="78"/>
                </a:lnTo>
                <a:lnTo>
                  <a:pt x="6" y="86"/>
                </a:lnTo>
                <a:lnTo>
                  <a:pt x="7" y="93"/>
                </a:lnTo>
                <a:lnTo>
                  <a:pt x="9" y="101"/>
                </a:lnTo>
                <a:lnTo>
                  <a:pt x="11" y="108"/>
                </a:lnTo>
                <a:lnTo>
                  <a:pt x="13" y="117"/>
                </a:lnTo>
                <a:lnTo>
                  <a:pt x="15" y="124"/>
                </a:lnTo>
                <a:lnTo>
                  <a:pt x="17" y="132"/>
                </a:lnTo>
                <a:lnTo>
                  <a:pt x="19" y="140"/>
                </a:lnTo>
                <a:lnTo>
                  <a:pt x="21" y="147"/>
                </a:lnTo>
                <a:lnTo>
                  <a:pt x="23" y="153"/>
                </a:lnTo>
                <a:lnTo>
                  <a:pt x="25" y="160"/>
                </a:lnTo>
                <a:lnTo>
                  <a:pt x="28" y="165"/>
                </a:lnTo>
                <a:lnTo>
                  <a:pt x="34" y="175"/>
                </a:lnTo>
                <a:lnTo>
                  <a:pt x="47" y="191"/>
                </a:lnTo>
                <a:lnTo>
                  <a:pt x="66" y="214"/>
                </a:lnTo>
                <a:lnTo>
                  <a:pt x="93" y="243"/>
                </a:lnTo>
                <a:lnTo>
                  <a:pt x="124" y="278"/>
                </a:lnTo>
                <a:lnTo>
                  <a:pt x="162" y="317"/>
                </a:lnTo>
                <a:lnTo>
                  <a:pt x="204" y="360"/>
                </a:lnTo>
                <a:lnTo>
                  <a:pt x="251" y="407"/>
                </a:lnTo>
                <a:lnTo>
                  <a:pt x="299" y="459"/>
                </a:lnTo>
                <a:lnTo>
                  <a:pt x="353" y="513"/>
                </a:lnTo>
                <a:lnTo>
                  <a:pt x="409" y="570"/>
                </a:lnTo>
                <a:lnTo>
                  <a:pt x="469" y="627"/>
                </a:lnTo>
                <a:lnTo>
                  <a:pt x="528" y="688"/>
                </a:lnTo>
                <a:lnTo>
                  <a:pt x="590" y="747"/>
                </a:lnTo>
                <a:lnTo>
                  <a:pt x="652" y="807"/>
                </a:lnTo>
                <a:lnTo>
                  <a:pt x="716" y="867"/>
                </a:lnTo>
                <a:lnTo>
                  <a:pt x="778" y="929"/>
                </a:lnTo>
                <a:lnTo>
                  <a:pt x="842" y="989"/>
                </a:lnTo>
                <a:lnTo>
                  <a:pt x="905" y="1049"/>
                </a:lnTo>
                <a:lnTo>
                  <a:pt x="970" y="1109"/>
                </a:lnTo>
                <a:lnTo>
                  <a:pt x="1033" y="1167"/>
                </a:lnTo>
                <a:lnTo>
                  <a:pt x="1095" y="1224"/>
                </a:lnTo>
                <a:lnTo>
                  <a:pt x="1156" y="1278"/>
                </a:lnTo>
                <a:lnTo>
                  <a:pt x="1214" y="1328"/>
                </a:lnTo>
                <a:lnTo>
                  <a:pt x="1267" y="1376"/>
                </a:lnTo>
                <a:lnTo>
                  <a:pt x="1318" y="1420"/>
                </a:lnTo>
                <a:lnTo>
                  <a:pt x="1363" y="1459"/>
                </a:lnTo>
                <a:lnTo>
                  <a:pt x="1406" y="1493"/>
                </a:lnTo>
                <a:lnTo>
                  <a:pt x="1441" y="1522"/>
                </a:lnTo>
                <a:lnTo>
                  <a:pt x="1471" y="1545"/>
                </a:lnTo>
                <a:lnTo>
                  <a:pt x="1495" y="1561"/>
                </a:lnTo>
                <a:lnTo>
                  <a:pt x="1512" y="1570"/>
                </a:lnTo>
                <a:lnTo>
                  <a:pt x="1524" y="1576"/>
                </a:lnTo>
                <a:lnTo>
                  <a:pt x="1537" y="1582"/>
                </a:lnTo>
                <a:lnTo>
                  <a:pt x="1550" y="1587"/>
                </a:lnTo>
                <a:lnTo>
                  <a:pt x="1565" y="1593"/>
                </a:lnTo>
                <a:lnTo>
                  <a:pt x="1577" y="1598"/>
                </a:lnTo>
                <a:lnTo>
                  <a:pt x="1593" y="1604"/>
                </a:lnTo>
                <a:lnTo>
                  <a:pt x="1606" y="1610"/>
                </a:lnTo>
                <a:lnTo>
                  <a:pt x="1621" y="1615"/>
                </a:lnTo>
                <a:lnTo>
                  <a:pt x="1633" y="1620"/>
                </a:lnTo>
                <a:lnTo>
                  <a:pt x="1646" y="1625"/>
                </a:lnTo>
                <a:lnTo>
                  <a:pt x="1657" y="1629"/>
                </a:lnTo>
                <a:lnTo>
                  <a:pt x="1670" y="1633"/>
                </a:lnTo>
                <a:lnTo>
                  <a:pt x="1679" y="1636"/>
                </a:lnTo>
                <a:lnTo>
                  <a:pt x="1689" y="1640"/>
                </a:lnTo>
                <a:lnTo>
                  <a:pt x="1697" y="1642"/>
                </a:lnTo>
                <a:lnTo>
                  <a:pt x="1704" y="1644"/>
                </a:lnTo>
                <a:lnTo>
                  <a:pt x="1709" y="1645"/>
                </a:lnTo>
                <a:lnTo>
                  <a:pt x="1712" y="1646"/>
                </a:lnTo>
                <a:lnTo>
                  <a:pt x="1715" y="1647"/>
                </a:lnTo>
                <a:lnTo>
                  <a:pt x="1718" y="1647"/>
                </a:lnTo>
                <a:lnTo>
                  <a:pt x="1719" y="1648"/>
                </a:lnTo>
                <a:lnTo>
                  <a:pt x="1721" y="1648"/>
                </a:lnTo>
                <a:lnTo>
                  <a:pt x="1722" y="1648"/>
                </a:lnTo>
                <a:lnTo>
                  <a:pt x="1723" y="1648"/>
                </a:lnTo>
                <a:lnTo>
                  <a:pt x="1725" y="1650"/>
                </a:lnTo>
                <a:lnTo>
                  <a:pt x="1727" y="1650"/>
                </a:lnTo>
                <a:lnTo>
                  <a:pt x="1731" y="1652"/>
                </a:lnTo>
                <a:lnTo>
                  <a:pt x="1735" y="1652"/>
                </a:lnTo>
                <a:lnTo>
                  <a:pt x="1740" y="1653"/>
                </a:lnTo>
                <a:lnTo>
                  <a:pt x="1747" y="1655"/>
                </a:lnTo>
                <a:lnTo>
                  <a:pt x="1756" y="1656"/>
                </a:lnTo>
                <a:lnTo>
                  <a:pt x="1768" y="1658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23120" y="7284960"/>
            <a:ext cx="177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50200" y="7429680"/>
            <a:ext cx="142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13280" y="4254480"/>
            <a:ext cx="177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8560" y="4397400"/>
            <a:ext cx="142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021280" y="4525560"/>
            <a:ext cx="0" cy="289548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021280" y="7419960"/>
            <a:ext cx="3151080" cy="14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03800" y="4395960"/>
            <a:ext cx="2970360" cy="2630160"/>
          </a:xfrm>
          <a:custGeom>
            <a:avLst/>
            <a:gdLst/>
            <a:ahLst/>
            <a:rect l="l" t="t" r="r" b="b"/>
            <a:pathLst>
              <a:path w="1871" h="1657">
                <a:moveTo>
                  <a:pt x="1870" y="1656"/>
                </a:moveTo>
                <a:lnTo>
                  <a:pt x="0" y="165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03800" y="4395960"/>
            <a:ext cx="2970360" cy="2630160"/>
          </a:xfrm>
          <a:custGeom>
            <a:avLst/>
            <a:gdLst/>
            <a:ahLst/>
            <a:rect l="l" t="t" r="r" b="b"/>
            <a:pathLst>
              <a:path w="1871" h="1657">
                <a:moveTo>
                  <a:pt x="1870" y="1656"/>
                </a:moveTo>
                <a:lnTo>
                  <a:pt x="0" y="165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03800" y="4395960"/>
            <a:ext cx="2970360" cy="2630160"/>
          </a:xfrm>
          <a:custGeom>
            <a:avLst/>
            <a:gdLst/>
            <a:ahLst/>
            <a:rect l="l" t="t" r="r" b="b"/>
            <a:pathLst>
              <a:path w="1871" h="1657">
                <a:moveTo>
                  <a:pt x="1870" y="1656"/>
                </a:moveTo>
                <a:lnTo>
                  <a:pt x="0" y="165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03800" y="4395960"/>
            <a:ext cx="2970360" cy="2630160"/>
          </a:xfrm>
          <a:custGeom>
            <a:avLst/>
            <a:gdLst/>
            <a:ahLst/>
            <a:rect l="l" t="t" r="r" b="b"/>
            <a:pathLst>
              <a:path w="1871" h="1657">
                <a:moveTo>
                  <a:pt x="1870" y="1656"/>
                </a:moveTo>
                <a:lnTo>
                  <a:pt x="0" y="1656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92720" y="7267680"/>
            <a:ext cx="176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16560" y="7410600"/>
            <a:ext cx="142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79640" y="4237200"/>
            <a:ext cx="17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06360" y="4379760"/>
            <a:ext cx="142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189080" y="4505400"/>
            <a:ext cx="0" cy="289728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89080" y="7402680"/>
            <a:ext cx="315108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6520" y="4572000"/>
            <a:ext cx="2676600" cy="2462040"/>
          </a:xfrm>
          <a:custGeom>
            <a:avLst/>
            <a:gdLst/>
            <a:ahLst/>
            <a:rect l="l" t="t" r="r" b="b"/>
            <a:pathLst>
              <a:path w="1687" h="1551">
                <a:moveTo>
                  <a:pt x="0" y="0"/>
                </a:moveTo>
                <a:lnTo>
                  <a:pt x="0" y="8"/>
                </a:lnTo>
                <a:lnTo>
                  <a:pt x="0" y="13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7"/>
                </a:lnTo>
                <a:lnTo>
                  <a:pt x="0" y="29"/>
                </a:lnTo>
                <a:lnTo>
                  <a:pt x="0" y="29"/>
                </a:lnTo>
                <a:lnTo>
                  <a:pt x="0" y="30"/>
                </a:lnTo>
                <a:lnTo>
                  <a:pt x="0" y="30"/>
                </a:lnTo>
                <a:lnTo>
                  <a:pt x="0" y="32"/>
                </a:lnTo>
                <a:lnTo>
                  <a:pt x="0" y="33"/>
                </a:lnTo>
                <a:lnTo>
                  <a:pt x="0" y="36"/>
                </a:lnTo>
                <a:lnTo>
                  <a:pt x="0" y="38"/>
                </a:lnTo>
                <a:lnTo>
                  <a:pt x="0" y="43"/>
                </a:lnTo>
                <a:lnTo>
                  <a:pt x="0" y="48"/>
                </a:lnTo>
                <a:lnTo>
                  <a:pt x="0" y="53"/>
                </a:lnTo>
                <a:lnTo>
                  <a:pt x="1" y="59"/>
                </a:lnTo>
                <a:lnTo>
                  <a:pt x="1" y="66"/>
                </a:lnTo>
                <a:lnTo>
                  <a:pt x="2" y="73"/>
                </a:lnTo>
                <a:lnTo>
                  <a:pt x="2" y="80"/>
                </a:lnTo>
                <a:lnTo>
                  <a:pt x="4" y="87"/>
                </a:lnTo>
                <a:lnTo>
                  <a:pt x="4" y="96"/>
                </a:lnTo>
                <a:lnTo>
                  <a:pt x="6" y="103"/>
                </a:lnTo>
                <a:lnTo>
                  <a:pt x="7" y="111"/>
                </a:lnTo>
                <a:lnTo>
                  <a:pt x="9" y="118"/>
                </a:lnTo>
                <a:lnTo>
                  <a:pt x="10" y="126"/>
                </a:lnTo>
                <a:lnTo>
                  <a:pt x="12" y="133"/>
                </a:lnTo>
                <a:lnTo>
                  <a:pt x="14" y="141"/>
                </a:lnTo>
                <a:lnTo>
                  <a:pt x="16" y="147"/>
                </a:lnTo>
                <a:lnTo>
                  <a:pt x="17" y="156"/>
                </a:lnTo>
                <a:lnTo>
                  <a:pt x="20" y="163"/>
                </a:lnTo>
                <a:lnTo>
                  <a:pt x="23" y="172"/>
                </a:lnTo>
                <a:lnTo>
                  <a:pt x="27" y="181"/>
                </a:lnTo>
                <a:lnTo>
                  <a:pt x="30" y="192"/>
                </a:lnTo>
                <a:lnTo>
                  <a:pt x="35" y="202"/>
                </a:lnTo>
                <a:lnTo>
                  <a:pt x="41" y="213"/>
                </a:lnTo>
                <a:lnTo>
                  <a:pt x="47" y="222"/>
                </a:lnTo>
                <a:lnTo>
                  <a:pt x="52" y="234"/>
                </a:lnTo>
                <a:lnTo>
                  <a:pt x="58" y="245"/>
                </a:lnTo>
                <a:lnTo>
                  <a:pt x="63" y="256"/>
                </a:lnTo>
                <a:lnTo>
                  <a:pt x="70" y="266"/>
                </a:lnTo>
                <a:lnTo>
                  <a:pt x="76" y="276"/>
                </a:lnTo>
                <a:lnTo>
                  <a:pt x="81" y="285"/>
                </a:lnTo>
                <a:lnTo>
                  <a:pt x="87" y="294"/>
                </a:lnTo>
                <a:lnTo>
                  <a:pt x="94" y="302"/>
                </a:lnTo>
                <a:lnTo>
                  <a:pt x="99" y="311"/>
                </a:lnTo>
                <a:lnTo>
                  <a:pt x="106" y="318"/>
                </a:lnTo>
                <a:lnTo>
                  <a:pt x="113" y="327"/>
                </a:lnTo>
                <a:lnTo>
                  <a:pt x="121" y="335"/>
                </a:lnTo>
                <a:lnTo>
                  <a:pt x="129" y="344"/>
                </a:lnTo>
                <a:lnTo>
                  <a:pt x="139" y="352"/>
                </a:lnTo>
                <a:lnTo>
                  <a:pt x="148" y="360"/>
                </a:lnTo>
                <a:lnTo>
                  <a:pt x="157" y="367"/>
                </a:lnTo>
                <a:lnTo>
                  <a:pt x="166" y="375"/>
                </a:lnTo>
                <a:lnTo>
                  <a:pt x="176" y="382"/>
                </a:lnTo>
                <a:lnTo>
                  <a:pt x="184" y="388"/>
                </a:lnTo>
                <a:lnTo>
                  <a:pt x="194" y="394"/>
                </a:lnTo>
                <a:lnTo>
                  <a:pt x="201" y="400"/>
                </a:lnTo>
                <a:lnTo>
                  <a:pt x="211" y="405"/>
                </a:lnTo>
                <a:lnTo>
                  <a:pt x="218" y="408"/>
                </a:lnTo>
                <a:lnTo>
                  <a:pt x="225" y="410"/>
                </a:lnTo>
                <a:lnTo>
                  <a:pt x="232" y="414"/>
                </a:lnTo>
                <a:lnTo>
                  <a:pt x="239" y="416"/>
                </a:lnTo>
                <a:lnTo>
                  <a:pt x="247" y="419"/>
                </a:lnTo>
                <a:lnTo>
                  <a:pt x="257" y="421"/>
                </a:lnTo>
                <a:lnTo>
                  <a:pt x="266" y="425"/>
                </a:lnTo>
                <a:lnTo>
                  <a:pt x="275" y="426"/>
                </a:lnTo>
                <a:lnTo>
                  <a:pt x="285" y="430"/>
                </a:lnTo>
                <a:lnTo>
                  <a:pt x="296" y="432"/>
                </a:lnTo>
                <a:lnTo>
                  <a:pt x="305" y="436"/>
                </a:lnTo>
                <a:lnTo>
                  <a:pt x="315" y="438"/>
                </a:lnTo>
                <a:lnTo>
                  <a:pt x="324" y="440"/>
                </a:lnTo>
                <a:lnTo>
                  <a:pt x="335" y="442"/>
                </a:lnTo>
                <a:lnTo>
                  <a:pt x="343" y="444"/>
                </a:lnTo>
                <a:lnTo>
                  <a:pt x="352" y="446"/>
                </a:lnTo>
                <a:lnTo>
                  <a:pt x="360" y="448"/>
                </a:lnTo>
                <a:lnTo>
                  <a:pt x="369" y="448"/>
                </a:lnTo>
                <a:lnTo>
                  <a:pt x="375" y="450"/>
                </a:lnTo>
                <a:lnTo>
                  <a:pt x="382" y="452"/>
                </a:lnTo>
                <a:lnTo>
                  <a:pt x="390" y="454"/>
                </a:lnTo>
                <a:lnTo>
                  <a:pt x="400" y="456"/>
                </a:lnTo>
                <a:lnTo>
                  <a:pt x="408" y="459"/>
                </a:lnTo>
                <a:lnTo>
                  <a:pt x="418" y="461"/>
                </a:lnTo>
                <a:lnTo>
                  <a:pt x="427" y="463"/>
                </a:lnTo>
                <a:lnTo>
                  <a:pt x="437" y="465"/>
                </a:lnTo>
                <a:lnTo>
                  <a:pt x="444" y="469"/>
                </a:lnTo>
                <a:lnTo>
                  <a:pt x="453" y="471"/>
                </a:lnTo>
                <a:lnTo>
                  <a:pt x="461" y="474"/>
                </a:lnTo>
                <a:lnTo>
                  <a:pt x="471" y="476"/>
                </a:lnTo>
                <a:lnTo>
                  <a:pt x="478" y="480"/>
                </a:lnTo>
                <a:lnTo>
                  <a:pt x="485" y="482"/>
                </a:lnTo>
                <a:lnTo>
                  <a:pt x="491" y="484"/>
                </a:lnTo>
                <a:lnTo>
                  <a:pt x="498" y="486"/>
                </a:lnTo>
                <a:lnTo>
                  <a:pt x="503" y="490"/>
                </a:lnTo>
                <a:lnTo>
                  <a:pt x="509" y="492"/>
                </a:lnTo>
                <a:lnTo>
                  <a:pt x="515" y="496"/>
                </a:lnTo>
                <a:lnTo>
                  <a:pt x="523" y="498"/>
                </a:lnTo>
                <a:lnTo>
                  <a:pt x="529" y="501"/>
                </a:lnTo>
                <a:lnTo>
                  <a:pt x="537" y="505"/>
                </a:lnTo>
                <a:lnTo>
                  <a:pt x="544" y="509"/>
                </a:lnTo>
                <a:lnTo>
                  <a:pt x="552" y="511"/>
                </a:lnTo>
                <a:lnTo>
                  <a:pt x="558" y="514"/>
                </a:lnTo>
                <a:lnTo>
                  <a:pt x="566" y="518"/>
                </a:lnTo>
                <a:lnTo>
                  <a:pt x="573" y="522"/>
                </a:lnTo>
                <a:lnTo>
                  <a:pt x="580" y="525"/>
                </a:lnTo>
                <a:lnTo>
                  <a:pt x="585" y="529"/>
                </a:lnTo>
                <a:lnTo>
                  <a:pt x="593" y="531"/>
                </a:lnTo>
                <a:lnTo>
                  <a:pt x="598" y="534"/>
                </a:lnTo>
                <a:lnTo>
                  <a:pt x="604" y="536"/>
                </a:lnTo>
                <a:lnTo>
                  <a:pt x="607" y="540"/>
                </a:lnTo>
                <a:lnTo>
                  <a:pt x="613" y="542"/>
                </a:lnTo>
                <a:lnTo>
                  <a:pt x="619" y="548"/>
                </a:lnTo>
                <a:lnTo>
                  <a:pt x="625" y="552"/>
                </a:lnTo>
                <a:lnTo>
                  <a:pt x="631" y="558"/>
                </a:lnTo>
                <a:lnTo>
                  <a:pt x="637" y="564"/>
                </a:lnTo>
                <a:lnTo>
                  <a:pt x="644" y="570"/>
                </a:lnTo>
                <a:lnTo>
                  <a:pt x="651" y="576"/>
                </a:lnTo>
                <a:lnTo>
                  <a:pt x="657" y="583"/>
                </a:lnTo>
                <a:lnTo>
                  <a:pt x="663" y="590"/>
                </a:lnTo>
                <a:lnTo>
                  <a:pt x="669" y="598"/>
                </a:lnTo>
                <a:lnTo>
                  <a:pt x="677" y="605"/>
                </a:lnTo>
                <a:lnTo>
                  <a:pt x="682" y="612"/>
                </a:lnTo>
                <a:lnTo>
                  <a:pt x="689" y="619"/>
                </a:lnTo>
                <a:lnTo>
                  <a:pt x="693" y="627"/>
                </a:lnTo>
                <a:lnTo>
                  <a:pt x="699" y="632"/>
                </a:lnTo>
                <a:lnTo>
                  <a:pt x="703" y="641"/>
                </a:lnTo>
                <a:lnTo>
                  <a:pt x="708" y="649"/>
                </a:lnTo>
                <a:lnTo>
                  <a:pt x="712" y="658"/>
                </a:lnTo>
                <a:lnTo>
                  <a:pt x="717" y="667"/>
                </a:lnTo>
                <a:lnTo>
                  <a:pt x="721" y="678"/>
                </a:lnTo>
                <a:lnTo>
                  <a:pt x="727" y="688"/>
                </a:lnTo>
                <a:lnTo>
                  <a:pt x="730" y="699"/>
                </a:lnTo>
                <a:lnTo>
                  <a:pt x="736" y="708"/>
                </a:lnTo>
                <a:lnTo>
                  <a:pt x="740" y="720"/>
                </a:lnTo>
                <a:lnTo>
                  <a:pt x="743" y="731"/>
                </a:lnTo>
                <a:lnTo>
                  <a:pt x="747" y="742"/>
                </a:lnTo>
                <a:lnTo>
                  <a:pt x="750" y="752"/>
                </a:lnTo>
                <a:lnTo>
                  <a:pt x="752" y="762"/>
                </a:lnTo>
                <a:lnTo>
                  <a:pt x="755" y="772"/>
                </a:lnTo>
                <a:lnTo>
                  <a:pt x="757" y="781"/>
                </a:lnTo>
                <a:lnTo>
                  <a:pt x="760" y="788"/>
                </a:lnTo>
                <a:lnTo>
                  <a:pt x="760" y="798"/>
                </a:lnTo>
                <a:lnTo>
                  <a:pt x="761" y="806"/>
                </a:lnTo>
                <a:lnTo>
                  <a:pt x="763" y="815"/>
                </a:lnTo>
                <a:lnTo>
                  <a:pt x="765" y="824"/>
                </a:lnTo>
                <a:lnTo>
                  <a:pt x="767" y="834"/>
                </a:lnTo>
                <a:lnTo>
                  <a:pt x="769" y="844"/>
                </a:lnTo>
                <a:lnTo>
                  <a:pt x="770" y="853"/>
                </a:lnTo>
                <a:lnTo>
                  <a:pt x="772" y="863"/>
                </a:lnTo>
                <a:lnTo>
                  <a:pt x="773" y="873"/>
                </a:lnTo>
                <a:lnTo>
                  <a:pt x="775" y="882"/>
                </a:lnTo>
                <a:lnTo>
                  <a:pt x="777" y="891"/>
                </a:lnTo>
                <a:lnTo>
                  <a:pt x="779" y="899"/>
                </a:lnTo>
                <a:lnTo>
                  <a:pt x="780" y="907"/>
                </a:lnTo>
                <a:lnTo>
                  <a:pt x="781" y="914"/>
                </a:lnTo>
                <a:lnTo>
                  <a:pt x="783" y="921"/>
                </a:lnTo>
                <a:lnTo>
                  <a:pt x="785" y="926"/>
                </a:lnTo>
                <a:lnTo>
                  <a:pt x="786" y="932"/>
                </a:lnTo>
                <a:lnTo>
                  <a:pt x="788" y="939"/>
                </a:lnTo>
                <a:lnTo>
                  <a:pt x="790" y="946"/>
                </a:lnTo>
                <a:lnTo>
                  <a:pt x="792" y="954"/>
                </a:lnTo>
                <a:lnTo>
                  <a:pt x="794" y="963"/>
                </a:lnTo>
                <a:lnTo>
                  <a:pt x="798" y="971"/>
                </a:lnTo>
                <a:lnTo>
                  <a:pt x="801" y="980"/>
                </a:lnTo>
                <a:lnTo>
                  <a:pt x="805" y="990"/>
                </a:lnTo>
                <a:lnTo>
                  <a:pt x="808" y="1001"/>
                </a:lnTo>
                <a:lnTo>
                  <a:pt x="811" y="1010"/>
                </a:lnTo>
                <a:lnTo>
                  <a:pt x="815" y="1020"/>
                </a:lnTo>
                <a:lnTo>
                  <a:pt x="819" y="1029"/>
                </a:lnTo>
                <a:lnTo>
                  <a:pt x="822" y="1039"/>
                </a:lnTo>
                <a:lnTo>
                  <a:pt x="826" y="1048"/>
                </a:lnTo>
                <a:lnTo>
                  <a:pt x="829" y="1057"/>
                </a:lnTo>
                <a:lnTo>
                  <a:pt x="833" y="1064"/>
                </a:lnTo>
                <a:lnTo>
                  <a:pt x="837" y="1074"/>
                </a:lnTo>
                <a:lnTo>
                  <a:pt x="840" y="1082"/>
                </a:lnTo>
                <a:lnTo>
                  <a:pt x="845" y="1093"/>
                </a:lnTo>
                <a:lnTo>
                  <a:pt x="851" y="1102"/>
                </a:lnTo>
                <a:lnTo>
                  <a:pt x="856" y="1114"/>
                </a:lnTo>
                <a:lnTo>
                  <a:pt x="863" y="1125"/>
                </a:lnTo>
                <a:lnTo>
                  <a:pt x="871" y="1136"/>
                </a:lnTo>
                <a:lnTo>
                  <a:pt x="878" y="1148"/>
                </a:lnTo>
                <a:lnTo>
                  <a:pt x="885" y="1160"/>
                </a:lnTo>
                <a:lnTo>
                  <a:pt x="893" y="1172"/>
                </a:lnTo>
                <a:lnTo>
                  <a:pt x="900" y="1183"/>
                </a:lnTo>
                <a:lnTo>
                  <a:pt x="907" y="1193"/>
                </a:lnTo>
                <a:lnTo>
                  <a:pt x="915" y="1205"/>
                </a:lnTo>
                <a:lnTo>
                  <a:pt x="923" y="1214"/>
                </a:lnTo>
                <a:lnTo>
                  <a:pt x="929" y="1223"/>
                </a:lnTo>
                <a:lnTo>
                  <a:pt x="937" y="1231"/>
                </a:lnTo>
                <a:lnTo>
                  <a:pt x="944" y="1240"/>
                </a:lnTo>
                <a:lnTo>
                  <a:pt x="952" y="1248"/>
                </a:lnTo>
                <a:lnTo>
                  <a:pt x="961" y="1258"/>
                </a:lnTo>
                <a:lnTo>
                  <a:pt x="971" y="1267"/>
                </a:lnTo>
                <a:lnTo>
                  <a:pt x="981" y="1278"/>
                </a:lnTo>
                <a:lnTo>
                  <a:pt x="993" y="1288"/>
                </a:lnTo>
                <a:lnTo>
                  <a:pt x="1004" y="1298"/>
                </a:lnTo>
                <a:lnTo>
                  <a:pt x="1017" y="1307"/>
                </a:lnTo>
                <a:lnTo>
                  <a:pt x="1028" y="1318"/>
                </a:lnTo>
                <a:lnTo>
                  <a:pt x="1041" y="1328"/>
                </a:lnTo>
                <a:lnTo>
                  <a:pt x="1053" y="1337"/>
                </a:lnTo>
                <a:lnTo>
                  <a:pt x="1066" y="1345"/>
                </a:lnTo>
                <a:lnTo>
                  <a:pt x="1077" y="1354"/>
                </a:lnTo>
                <a:lnTo>
                  <a:pt x="1089" y="1361"/>
                </a:lnTo>
                <a:lnTo>
                  <a:pt x="1100" y="1368"/>
                </a:lnTo>
                <a:lnTo>
                  <a:pt x="1111" y="1374"/>
                </a:lnTo>
                <a:lnTo>
                  <a:pt x="1121" y="1380"/>
                </a:lnTo>
                <a:lnTo>
                  <a:pt x="1133" y="1386"/>
                </a:lnTo>
                <a:lnTo>
                  <a:pt x="1147" y="1394"/>
                </a:lnTo>
                <a:lnTo>
                  <a:pt x="1161" y="1399"/>
                </a:lnTo>
                <a:lnTo>
                  <a:pt x="1177" y="1407"/>
                </a:lnTo>
                <a:lnTo>
                  <a:pt x="1193" y="1414"/>
                </a:lnTo>
                <a:lnTo>
                  <a:pt x="1209" y="1422"/>
                </a:lnTo>
                <a:lnTo>
                  <a:pt x="1228" y="1429"/>
                </a:lnTo>
                <a:lnTo>
                  <a:pt x="1245" y="1436"/>
                </a:lnTo>
                <a:lnTo>
                  <a:pt x="1262" y="1444"/>
                </a:lnTo>
                <a:lnTo>
                  <a:pt x="1279" y="1451"/>
                </a:lnTo>
                <a:lnTo>
                  <a:pt x="1297" y="1457"/>
                </a:lnTo>
                <a:lnTo>
                  <a:pt x="1313" y="1463"/>
                </a:lnTo>
                <a:lnTo>
                  <a:pt x="1330" y="1468"/>
                </a:lnTo>
                <a:lnTo>
                  <a:pt x="1345" y="1474"/>
                </a:lnTo>
                <a:lnTo>
                  <a:pt x="1360" y="1478"/>
                </a:lnTo>
                <a:lnTo>
                  <a:pt x="1373" y="1484"/>
                </a:lnTo>
                <a:lnTo>
                  <a:pt x="1388" y="1487"/>
                </a:lnTo>
                <a:lnTo>
                  <a:pt x="1403" y="1493"/>
                </a:lnTo>
                <a:lnTo>
                  <a:pt x="1419" y="1497"/>
                </a:lnTo>
                <a:lnTo>
                  <a:pt x="1435" y="1502"/>
                </a:lnTo>
                <a:lnTo>
                  <a:pt x="1452" y="1506"/>
                </a:lnTo>
                <a:lnTo>
                  <a:pt x="1469" y="1510"/>
                </a:lnTo>
                <a:lnTo>
                  <a:pt x="1486" y="1514"/>
                </a:lnTo>
                <a:lnTo>
                  <a:pt x="1501" y="1518"/>
                </a:lnTo>
                <a:lnTo>
                  <a:pt x="1517" y="1522"/>
                </a:lnTo>
                <a:lnTo>
                  <a:pt x="1532" y="1526"/>
                </a:lnTo>
                <a:lnTo>
                  <a:pt x="1547" y="1529"/>
                </a:lnTo>
                <a:lnTo>
                  <a:pt x="1560" y="1533"/>
                </a:lnTo>
                <a:lnTo>
                  <a:pt x="1573" y="1535"/>
                </a:lnTo>
                <a:lnTo>
                  <a:pt x="1583" y="1536"/>
                </a:lnTo>
                <a:lnTo>
                  <a:pt x="1594" y="1537"/>
                </a:lnTo>
                <a:lnTo>
                  <a:pt x="1601" y="1539"/>
                </a:lnTo>
                <a:lnTo>
                  <a:pt x="1607" y="1540"/>
                </a:lnTo>
                <a:lnTo>
                  <a:pt x="1610" y="1540"/>
                </a:lnTo>
                <a:lnTo>
                  <a:pt x="1614" y="1540"/>
                </a:lnTo>
                <a:lnTo>
                  <a:pt x="1616" y="1542"/>
                </a:lnTo>
                <a:lnTo>
                  <a:pt x="1618" y="1542"/>
                </a:lnTo>
                <a:lnTo>
                  <a:pt x="1619" y="1542"/>
                </a:lnTo>
                <a:lnTo>
                  <a:pt x="1622" y="1542"/>
                </a:lnTo>
                <a:lnTo>
                  <a:pt x="1624" y="1544"/>
                </a:lnTo>
                <a:lnTo>
                  <a:pt x="1627" y="1544"/>
                </a:lnTo>
                <a:lnTo>
                  <a:pt x="1631" y="1544"/>
                </a:lnTo>
                <a:lnTo>
                  <a:pt x="1638" y="1544"/>
                </a:lnTo>
                <a:lnTo>
                  <a:pt x="1646" y="1546"/>
                </a:lnTo>
                <a:lnTo>
                  <a:pt x="1656" y="1546"/>
                </a:lnTo>
                <a:lnTo>
                  <a:pt x="1669" y="1548"/>
                </a:lnTo>
                <a:lnTo>
                  <a:pt x="1686" y="1550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03800" y="4471920"/>
            <a:ext cx="3084480" cy="2579760"/>
          </a:xfrm>
          <a:custGeom>
            <a:avLst/>
            <a:gdLst/>
            <a:ahLst/>
            <a:rect l="l" t="t" r="r" b="b"/>
            <a:pathLst>
              <a:path w="1943" h="1625">
                <a:moveTo>
                  <a:pt x="1714" y="1608"/>
                </a:moveTo>
                <a:lnTo>
                  <a:pt x="1714" y="1608"/>
                </a:lnTo>
                <a:lnTo>
                  <a:pt x="1708" y="1624"/>
                </a:lnTo>
                <a:lnTo>
                  <a:pt x="1759" y="1557"/>
                </a:lnTo>
                <a:lnTo>
                  <a:pt x="1759" y="1481"/>
                </a:lnTo>
                <a:lnTo>
                  <a:pt x="1812" y="1431"/>
                </a:lnTo>
                <a:lnTo>
                  <a:pt x="1942" y="1272"/>
                </a:lnTo>
                <a:lnTo>
                  <a:pt x="1837" y="1163"/>
                </a:lnTo>
                <a:lnTo>
                  <a:pt x="1898" y="987"/>
                </a:lnTo>
                <a:lnTo>
                  <a:pt x="1792" y="862"/>
                </a:lnTo>
                <a:lnTo>
                  <a:pt x="1855" y="736"/>
                </a:lnTo>
                <a:lnTo>
                  <a:pt x="1820" y="594"/>
                </a:lnTo>
                <a:lnTo>
                  <a:pt x="1881" y="485"/>
                </a:lnTo>
                <a:lnTo>
                  <a:pt x="1837" y="401"/>
                </a:lnTo>
                <a:lnTo>
                  <a:pt x="1871" y="301"/>
                </a:lnTo>
                <a:lnTo>
                  <a:pt x="1829" y="242"/>
                </a:lnTo>
                <a:lnTo>
                  <a:pt x="1829" y="192"/>
                </a:lnTo>
                <a:lnTo>
                  <a:pt x="1715" y="167"/>
                </a:lnTo>
                <a:lnTo>
                  <a:pt x="1708" y="117"/>
                </a:lnTo>
                <a:lnTo>
                  <a:pt x="1585" y="117"/>
                </a:lnTo>
                <a:lnTo>
                  <a:pt x="1576" y="41"/>
                </a:lnTo>
                <a:lnTo>
                  <a:pt x="1420" y="41"/>
                </a:lnTo>
                <a:lnTo>
                  <a:pt x="1420" y="101"/>
                </a:lnTo>
                <a:lnTo>
                  <a:pt x="1263" y="101"/>
                </a:lnTo>
                <a:lnTo>
                  <a:pt x="1168" y="25"/>
                </a:lnTo>
                <a:lnTo>
                  <a:pt x="1012" y="25"/>
                </a:lnTo>
                <a:lnTo>
                  <a:pt x="923" y="66"/>
                </a:lnTo>
                <a:lnTo>
                  <a:pt x="760" y="66"/>
                </a:lnTo>
                <a:lnTo>
                  <a:pt x="724" y="25"/>
                </a:lnTo>
                <a:lnTo>
                  <a:pt x="654" y="33"/>
                </a:lnTo>
                <a:lnTo>
                  <a:pt x="515" y="0"/>
                </a:lnTo>
                <a:lnTo>
                  <a:pt x="368" y="91"/>
                </a:lnTo>
                <a:lnTo>
                  <a:pt x="316" y="41"/>
                </a:lnTo>
                <a:lnTo>
                  <a:pt x="264" y="41"/>
                </a:lnTo>
                <a:lnTo>
                  <a:pt x="186" y="75"/>
                </a:lnTo>
                <a:lnTo>
                  <a:pt x="142" y="33"/>
                </a:lnTo>
                <a:lnTo>
                  <a:pt x="107" y="33"/>
                </a:lnTo>
                <a:lnTo>
                  <a:pt x="30" y="75"/>
                </a:lnTo>
                <a:lnTo>
                  <a:pt x="0" y="103"/>
                </a:lnTo>
                <a:lnTo>
                  <a:pt x="0" y="1608"/>
                </a:lnTo>
                <a:lnTo>
                  <a:pt x="1715" y="1624"/>
                </a:lnTo>
                <a:lnTo>
                  <a:pt x="1714" y="1608"/>
                </a:lnTo>
                <a:lnTo>
                  <a:pt x="1714" y="160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22880" y="1054080"/>
            <a:ext cx="2924280" cy="2824200"/>
          </a:xfrm>
          <a:custGeom>
            <a:avLst/>
            <a:gdLst/>
            <a:ahLst/>
            <a:rect l="l" t="t" r="r" b="b"/>
            <a:pathLst>
              <a:path w="1841" h="1779">
                <a:moveTo>
                  <a:pt x="1774" y="1778"/>
                </a:moveTo>
                <a:lnTo>
                  <a:pt x="1774" y="1778"/>
                </a:lnTo>
                <a:lnTo>
                  <a:pt x="1840" y="1602"/>
                </a:lnTo>
                <a:lnTo>
                  <a:pt x="1832" y="1483"/>
                </a:lnTo>
                <a:lnTo>
                  <a:pt x="1781" y="1399"/>
                </a:lnTo>
                <a:lnTo>
                  <a:pt x="1781" y="1336"/>
                </a:lnTo>
                <a:lnTo>
                  <a:pt x="1811" y="1272"/>
                </a:lnTo>
                <a:lnTo>
                  <a:pt x="1811" y="1222"/>
                </a:lnTo>
                <a:lnTo>
                  <a:pt x="1767" y="1166"/>
                </a:lnTo>
                <a:lnTo>
                  <a:pt x="1774" y="1068"/>
                </a:lnTo>
                <a:lnTo>
                  <a:pt x="1738" y="998"/>
                </a:lnTo>
                <a:lnTo>
                  <a:pt x="1754" y="851"/>
                </a:lnTo>
                <a:lnTo>
                  <a:pt x="1754" y="788"/>
                </a:lnTo>
                <a:lnTo>
                  <a:pt x="1732" y="717"/>
                </a:lnTo>
                <a:lnTo>
                  <a:pt x="1746" y="654"/>
                </a:lnTo>
                <a:lnTo>
                  <a:pt x="1746" y="478"/>
                </a:lnTo>
                <a:lnTo>
                  <a:pt x="1710" y="451"/>
                </a:lnTo>
                <a:lnTo>
                  <a:pt x="1710" y="387"/>
                </a:lnTo>
                <a:lnTo>
                  <a:pt x="1738" y="324"/>
                </a:lnTo>
                <a:lnTo>
                  <a:pt x="1738" y="205"/>
                </a:lnTo>
                <a:lnTo>
                  <a:pt x="1694" y="142"/>
                </a:lnTo>
                <a:lnTo>
                  <a:pt x="1571" y="43"/>
                </a:lnTo>
                <a:lnTo>
                  <a:pt x="1484" y="43"/>
                </a:lnTo>
                <a:lnTo>
                  <a:pt x="1287" y="106"/>
                </a:lnTo>
                <a:lnTo>
                  <a:pt x="1222" y="106"/>
                </a:lnTo>
                <a:lnTo>
                  <a:pt x="1156" y="29"/>
                </a:lnTo>
                <a:lnTo>
                  <a:pt x="1048" y="29"/>
                </a:lnTo>
                <a:lnTo>
                  <a:pt x="996" y="92"/>
                </a:lnTo>
                <a:lnTo>
                  <a:pt x="872" y="92"/>
                </a:lnTo>
                <a:lnTo>
                  <a:pt x="836" y="0"/>
                </a:lnTo>
                <a:lnTo>
                  <a:pt x="713" y="0"/>
                </a:lnTo>
                <a:lnTo>
                  <a:pt x="684" y="65"/>
                </a:lnTo>
                <a:lnTo>
                  <a:pt x="560" y="65"/>
                </a:lnTo>
                <a:lnTo>
                  <a:pt x="553" y="29"/>
                </a:lnTo>
                <a:lnTo>
                  <a:pt x="356" y="29"/>
                </a:lnTo>
                <a:lnTo>
                  <a:pt x="356" y="92"/>
                </a:lnTo>
                <a:lnTo>
                  <a:pt x="262" y="92"/>
                </a:lnTo>
                <a:lnTo>
                  <a:pt x="196" y="142"/>
                </a:lnTo>
                <a:lnTo>
                  <a:pt x="73" y="114"/>
                </a:lnTo>
                <a:lnTo>
                  <a:pt x="0" y="120"/>
                </a:lnTo>
                <a:lnTo>
                  <a:pt x="1" y="120"/>
                </a:lnTo>
                <a:lnTo>
                  <a:pt x="4" y="173"/>
                </a:lnTo>
                <a:lnTo>
                  <a:pt x="4" y="185"/>
                </a:lnTo>
                <a:lnTo>
                  <a:pt x="8" y="198"/>
                </a:lnTo>
                <a:lnTo>
                  <a:pt x="8" y="213"/>
                </a:lnTo>
                <a:lnTo>
                  <a:pt x="13" y="228"/>
                </a:lnTo>
                <a:lnTo>
                  <a:pt x="16" y="244"/>
                </a:lnTo>
                <a:lnTo>
                  <a:pt x="20" y="260"/>
                </a:lnTo>
                <a:lnTo>
                  <a:pt x="24" y="276"/>
                </a:lnTo>
                <a:lnTo>
                  <a:pt x="29" y="285"/>
                </a:lnTo>
                <a:lnTo>
                  <a:pt x="47" y="311"/>
                </a:lnTo>
                <a:lnTo>
                  <a:pt x="94" y="364"/>
                </a:lnTo>
                <a:lnTo>
                  <a:pt x="164" y="437"/>
                </a:lnTo>
                <a:lnTo>
                  <a:pt x="252" y="528"/>
                </a:lnTo>
                <a:lnTo>
                  <a:pt x="355" y="632"/>
                </a:lnTo>
                <a:lnTo>
                  <a:pt x="470" y="748"/>
                </a:lnTo>
                <a:lnTo>
                  <a:pt x="590" y="870"/>
                </a:lnTo>
                <a:lnTo>
                  <a:pt x="717" y="988"/>
                </a:lnTo>
                <a:lnTo>
                  <a:pt x="844" y="1109"/>
                </a:lnTo>
                <a:lnTo>
                  <a:pt x="972" y="1230"/>
                </a:lnTo>
                <a:lnTo>
                  <a:pt x="1096" y="1344"/>
                </a:lnTo>
                <a:lnTo>
                  <a:pt x="1215" y="1448"/>
                </a:lnTo>
                <a:lnTo>
                  <a:pt x="1320" y="1540"/>
                </a:lnTo>
                <a:lnTo>
                  <a:pt x="1407" y="1614"/>
                </a:lnTo>
                <a:lnTo>
                  <a:pt x="1473" y="1666"/>
                </a:lnTo>
                <a:lnTo>
                  <a:pt x="1513" y="1690"/>
                </a:lnTo>
                <a:lnTo>
                  <a:pt x="1538" y="1702"/>
                </a:lnTo>
                <a:lnTo>
                  <a:pt x="1566" y="1712"/>
                </a:lnTo>
                <a:lnTo>
                  <a:pt x="1593" y="1725"/>
                </a:lnTo>
                <a:lnTo>
                  <a:pt x="1622" y="1735"/>
                </a:lnTo>
                <a:lnTo>
                  <a:pt x="1648" y="1746"/>
                </a:lnTo>
                <a:lnTo>
                  <a:pt x="1672" y="1754"/>
                </a:lnTo>
                <a:lnTo>
                  <a:pt x="1689" y="1760"/>
                </a:lnTo>
                <a:lnTo>
                  <a:pt x="1767" y="1778"/>
                </a:lnTo>
                <a:lnTo>
                  <a:pt x="1774" y="1778"/>
                </a:lnTo>
                <a:lnTo>
                  <a:pt x="1774" y="177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16040" y="1131840"/>
            <a:ext cx="2120760" cy="2341440"/>
          </a:xfrm>
          <a:custGeom>
            <a:avLst/>
            <a:gdLst/>
            <a:ahLst/>
            <a:rect l="l" t="t" r="r" b="b"/>
            <a:pathLst>
              <a:path w="1336" h="1476">
                <a:moveTo>
                  <a:pt x="1241" y="1475"/>
                </a:moveTo>
                <a:lnTo>
                  <a:pt x="1241" y="1475"/>
                </a:lnTo>
                <a:lnTo>
                  <a:pt x="1306" y="1399"/>
                </a:lnTo>
                <a:lnTo>
                  <a:pt x="1262" y="1378"/>
                </a:lnTo>
                <a:lnTo>
                  <a:pt x="1262" y="1315"/>
                </a:lnTo>
                <a:lnTo>
                  <a:pt x="1241" y="1258"/>
                </a:lnTo>
                <a:lnTo>
                  <a:pt x="1306" y="1167"/>
                </a:lnTo>
                <a:lnTo>
                  <a:pt x="1335" y="881"/>
                </a:lnTo>
                <a:lnTo>
                  <a:pt x="1212" y="762"/>
                </a:lnTo>
                <a:lnTo>
                  <a:pt x="1212" y="642"/>
                </a:lnTo>
                <a:lnTo>
                  <a:pt x="1234" y="572"/>
                </a:lnTo>
                <a:lnTo>
                  <a:pt x="1234" y="510"/>
                </a:lnTo>
                <a:lnTo>
                  <a:pt x="1204" y="510"/>
                </a:lnTo>
                <a:lnTo>
                  <a:pt x="1190" y="433"/>
                </a:lnTo>
                <a:lnTo>
                  <a:pt x="1227" y="315"/>
                </a:lnTo>
                <a:lnTo>
                  <a:pt x="1227" y="195"/>
                </a:lnTo>
                <a:lnTo>
                  <a:pt x="1104" y="174"/>
                </a:lnTo>
                <a:lnTo>
                  <a:pt x="1054" y="56"/>
                </a:lnTo>
                <a:lnTo>
                  <a:pt x="930" y="56"/>
                </a:lnTo>
                <a:lnTo>
                  <a:pt x="808" y="35"/>
                </a:lnTo>
                <a:lnTo>
                  <a:pt x="685" y="77"/>
                </a:lnTo>
                <a:lnTo>
                  <a:pt x="454" y="56"/>
                </a:lnTo>
                <a:lnTo>
                  <a:pt x="397" y="62"/>
                </a:lnTo>
                <a:lnTo>
                  <a:pt x="374" y="0"/>
                </a:lnTo>
                <a:lnTo>
                  <a:pt x="245" y="0"/>
                </a:lnTo>
                <a:lnTo>
                  <a:pt x="122" y="69"/>
                </a:lnTo>
                <a:lnTo>
                  <a:pt x="0" y="84"/>
                </a:lnTo>
                <a:lnTo>
                  <a:pt x="7" y="77"/>
                </a:lnTo>
                <a:lnTo>
                  <a:pt x="14" y="144"/>
                </a:lnTo>
                <a:lnTo>
                  <a:pt x="15" y="161"/>
                </a:lnTo>
                <a:lnTo>
                  <a:pt x="19" y="182"/>
                </a:lnTo>
                <a:lnTo>
                  <a:pt x="23" y="212"/>
                </a:lnTo>
                <a:lnTo>
                  <a:pt x="30" y="244"/>
                </a:lnTo>
                <a:lnTo>
                  <a:pt x="36" y="279"/>
                </a:lnTo>
                <a:lnTo>
                  <a:pt x="44" y="315"/>
                </a:lnTo>
                <a:lnTo>
                  <a:pt x="51" y="351"/>
                </a:lnTo>
                <a:lnTo>
                  <a:pt x="60" y="385"/>
                </a:lnTo>
                <a:lnTo>
                  <a:pt x="69" y="419"/>
                </a:lnTo>
                <a:lnTo>
                  <a:pt x="78" y="456"/>
                </a:lnTo>
                <a:lnTo>
                  <a:pt x="88" y="495"/>
                </a:lnTo>
                <a:lnTo>
                  <a:pt x="98" y="533"/>
                </a:lnTo>
                <a:lnTo>
                  <a:pt x="109" y="569"/>
                </a:lnTo>
                <a:lnTo>
                  <a:pt x="118" y="600"/>
                </a:lnTo>
                <a:lnTo>
                  <a:pt x="128" y="627"/>
                </a:lnTo>
                <a:lnTo>
                  <a:pt x="136" y="646"/>
                </a:lnTo>
                <a:lnTo>
                  <a:pt x="144" y="667"/>
                </a:lnTo>
                <a:lnTo>
                  <a:pt x="154" y="690"/>
                </a:lnTo>
                <a:lnTo>
                  <a:pt x="164" y="716"/>
                </a:lnTo>
                <a:lnTo>
                  <a:pt x="177" y="743"/>
                </a:lnTo>
                <a:lnTo>
                  <a:pt x="189" y="773"/>
                </a:lnTo>
                <a:lnTo>
                  <a:pt x="201" y="801"/>
                </a:lnTo>
                <a:lnTo>
                  <a:pt x="211" y="827"/>
                </a:lnTo>
                <a:lnTo>
                  <a:pt x="222" y="849"/>
                </a:lnTo>
                <a:lnTo>
                  <a:pt x="232" y="873"/>
                </a:lnTo>
                <a:lnTo>
                  <a:pt x="244" y="898"/>
                </a:lnTo>
                <a:lnTo>
                  <a:pt x="257" y="927"/>
                </a:lnTo>
                <a:lnTo>
                  <a:pt x="268" y="952"/>
                </a:lnTo>
                <a:lnTo>
                  <a:pt x="280" y="978"/>
                </a:lnTo>
                <a:lnTo>
                  <a:pt x="292" y="1003"/>
                </a:lnTo>
                <a:lnTo>
                  <a:pt x="300" y="1023"/>
                </a:lnTo>
                <a:lnTo>
                  <a:pt x="310" y="1039"/>
                </a:lnTo>
                <a:lnTo>
                  <a:pt x="317" y="1054"/>
                </a:lnTo>
                <a:lnTo>
                  <a:pt x="327" y="1072"/>
                </a:lnTo>
                <a:lnTo>
                  <a:pt x="339" y="1091"/>
                </a:lnTo>
                <a:lnTo>
                  <a:pt x="353" y="1112"/>
                </a:lnTo>
                <a:lnTo>
                  <a:pt x="366" y="1133"/>
                </a:lnTo>
                <a:lnTo>
                  <a:pt x="380" y="1153"/>
                </a:lnTo>
                <a:lnTo>
                  <a:pt x="393" y="1171"/>
                </a:lnTo>
                <a:lnTo>
                  <a:pt x="407" y="1185"/>
                </a:lnTo>
                <a:lnTo>
                  <a:pt x="420" y="1200"/>
                </a:lnTo>
                <a:lnTo>
                  <a:pt x="434" y="1216"/>
                </a:lnTo>
                <a:lnTo>
                  <a:pt x="449" y="1235"/>
                </a:lnTo>
                <a:lnTo>
                  <a:pt x="469" y="1251"/>
                </a:lnTo>
                <a:lnTo>
                  <a:pt x="485" y="1266"/>
                </a:lnTo>
                <a:lnTo>
                  <a:pt x="501" y="1283"/>
                </a:lnTo>
                <a:lnTo>
                  <a:pt x="515" y="1295"/>
                </a:lnTo>
                <a:lnTo>
                  <a:pt x="530" y="1304"/>
                </a:lnTo>
                <a:lnTo>
                  <a:pt x="554" y="1323"/>
                </a:lnTo>
                <a:lnTo>
                  <a:pt x="579" y="1339"/>
                </a:lnTo>
                <a:lnTo>
                  <a:pt x="598" y="1354"/>
                </a:lnTo>
                <a:lnTo>
                  <a:pt x="613" y="1363"/>
                </a:lnTo>
                <a:lnTo>
                  <a:pt x="625" y="1371"/>
                </a:lnTo>
                <a:lnTo>
                  <a:pt x="642" y="1379"/>
                </a:lnTo>
                <a:lnTo>
                  <a:pt x="662" y="1387"/>
                </a:lnTo>
                <a:lnTo>
                  <a:pt x="682" y="1395"/>
                </a:lnTo>
                <a:lnTo>
                  <a:pt x="692" y="1399"/>
                </a:lnTo>
                <a:lnTo>
                  <a:pt x="704" y="1403"/>
                </a:lnTo>
                <a:lnTo>
                  <a:pt x="718" y="1408"/>
                </a:lnTo>
                <a:lnTo>
                  <a:pt x="735" y="1412"/>
                </a:lnTo>
                <a:lnTo>
                  <a:pt x="753" y="1417"/>
                </a:lnTo>
                <a:lnTo>
                  <a:pt x="768" y="1423"/>
                </a:lnTo>
                <a:lnTo>
                  <a:pt x="786" y="1427"/>
                </a:lnTo>
                <a:lnTo>
                  <a:pt x="800" y="1429"/>
                </a:lnTo>
                <a:lnTo>
                  <a:pt x="832" y="1437"/>
                </a:lnTo>
                <a:lnTo>
                  <a:pt x="869" y="1443"/>
                </a:lnTo>
                <a:lnTo>
                  <a:pt x="904" y="1451"/>
                </a:lnTo>
                <a:lnTo>
                  <a:pt x="934" y="1454"/>
                </a:lnTo>
                <a:lnTo>
                  <a:pt x="963" y="1459"/>
                </a:lnTo>
                <a:lnTo>
                  <a:pt x="999" y="1460"/>
                </a:lnTo>
                <a:lnTo>
                  <a:pt x="1037" y="1463"/>
                </a:lnTo>
                <a:lnTo>
                  <a:pt x="1071" y="1465"/>
                </a:lnTo>
                <a:lnTo>
                  <a:pt x="1104" y="1467"/>
                </a:lnTo>
                <a:lnTo>
                  <a:pt x="1142" y="1467"/>
                </a:lnTo>
                <a:lnTo>
                  <a:pt x="1179" y="1467"/>
                </a:lnTo>
                <a:lnTo>
                  <a:pt x="1270" y="1467"/>
                </a:lnTo>
                <a:lnTo>
                  <a:pt x="1241" y="1475"/>
                </a:lnTo>
                <a:lnTo>
                  <a:pt x="1241" y="1475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17680" y="4456080"/>
            <a:ext cx="3036960" cy="2577960"/>
          </a:xfrm>
          <a:custGeom>
            <a:avLst/>
            <a:gdLst/>
            <a:ahLst/>
            <a:rect l="l" t="t" r="r" b="b"/>
            <a:pathLst>
              <a:path w="1913" h="1624">
                <a:moveTo>
                  <a:pt x="1678" y="1623"/>
                </a:moveTo>
                <a:lnTo>
                  <a:pt x="1678" y="1623"/>
                </a:lnTo>
                <a:lnTo>
                  <a:pt x="1729" y="1555"/>
                </a:lnTo>
                <a:lnTo>
                  <a:pt x="1729" y="1480"/>
                </a:lnTo>
                <a:lnTo>
                  <a:pt x="1782" y="1430"/>
                </a:lnTo>
                <a:lnTo>
                  <a:pt x="1912" y="1271"/>
                </a:lnTo>
                <a:lnTo>
                  <a:pt x="1807" y="1161"/>
                </a:lnTo>
                <a:lnTo>
                  <a:pt x="1869" y="985"/>
                </a:lnTo>
                <a:lnTo>
                  <a:pt x="1764" y="859"/>
                </a:lnTo>
                <a:lnTo>
                  <a:pt x="1825" y="735"/>
                </a:lnTo>
                <a:lnTo>
                  <a:pt x="1791" y="592"/>
                </a:lnTo>
                <a:lnTo>
                  <a:pt x="1852" y="483"/>
                </a:lnTo>
                <a:lnTo>
                  <a:pt x="1807" y="400"/>
                </a:lnTo>
                <a:lnTo>
                  <a:pt x="1843" y="299"/>
                </a:lnTo>
                <a:lnTo>
                  <a:pt x="1799" y="241"/>
                </a:lnTo>
                <a:lnTo>
                  <a:pt x="1799" y="191"/>
                </a:lnTo>
                <a:lnTo>
                  <a:pt x="1687" y="166"/>
                </a:lnTo>
                <a:lnTo>
                  <a:pt x="1678" y="115"/>
                </a:lnTo>
                <a:lnTo>
                  <a:pt x="1555" y="115"/>
                </a:lnTo>
                <a:lnTo>
                  <a:pt x="1548" y="40"/>
                </a:lnTo>
                <a:lnTo>
                  <a:pt x="1391" y="40"/>
                </a:lnTo>
                <a:lnTo>
                  <a:pt x="1391" y="100"/>
                </a:lnTo>
                <a:lnTo>
                  <a:pt x="1235" y="100"/>
                </a:lnTo>
                <a:lnTo>
                  <a:pt x="1139" y="23"/>
                </a:lnTo>
                <a:lnTo>
                  <a:pt x="983" y="23"/>
                </a:lnTo>
                <a:lnTo>
                  <a:pt x="895" y="65"/>
                </a:lnTo>
                <a:lnTo>
                  <a:pt x="731" y="65"/>
                </a:lnTo>
                <a:lnTo>
                  <a:pt x="695" y="23"/>
                </a:lnTo>
                <a:lnTo>
                  <a:pt x="626" y="31"/>
                </a:lnTo>
                <a:lnTo>
                  <a:pt x="487" y="0"/>
                </a:lnTo>
                <a:lnTo>
                  <a:pt x="340" y="90"/>
                </a:lnTo>
                <a:lnTo>
                  <a:pt x="287" y="40"/>
                </a:lnTo>
                <a:lnTo>
                  <a:pt x="235" y="40"/>
                </a:lnTo>
                <a:lnTo>
                  <a:pt x="157" y="73"/>
                </a:lnTo>
                <a:lnTo>
                  <a:pt x="113" y="31"/>
                </a:lnTo>
                <a:lnTo>
                  <a:pt x="78" y="31"/>
                </a:lnTo>
                <a:lnTo>
                  <a:pt x="0" y="73"/>
                </a:lnTo>
                <a:lnTo>
                  <a:pt x="0" y="73"/>
                </a:lnTo>
                <a:lnTo>
                  <a:pt x="0" y="111"/>
                </a:lnTo>
                <a:lnTo>
                  <a:pt x="0" y="121"/>
                </a:lnTo>
                <a:lnTo>
                  <a:pt x="1" y="131"/>
                </a:lnTo>
                <a:lnTo>
                  <a:pt x="2" y="146"/>
                </a:lnTo>
                <a:lnTo>
                  <a:pt x="5" y="159"/>
                </a:lnTo>
                <a:lnTo>
                  <a:pt x="7" y="177"/>
                </a:lnTo>
                <a:lnTo>
                  <a:pt x="10" y="192"/>
                </a:lnTo>
                <a:lnTo>
                  <a:pt x="12" y="207"/>
                </a:lnTo>
                <a:lnTo>
                  <a:pt x="17" y="219"/>
                </a:lnTo>
                <a:lnTo>
                  <a:pt x="21" y="236"/>
                </a:lnTo>
                <a:lnTo>
                  <a:pt x="29" y="255"/>
                </a:lnTo>
                <a:lnTo>
                  <a:pt x="37" y="275"/>
                </a:lnTo>
                <a:lnTo>
                  <a:pt x="49" y="295"/>
                </a:lnTo>
                <a:lnTo>
                  <a:pt x="59" y="318"/>
                </a:lnTo>
                <a:lnTo>
                  <a:pt x="70" y="339"/>
                </a:lnTo>
                <a:lnTo>
                  <a:pt x="83" y="358"/>
                </a:lnTo>
                <a:lnTo>
                  <a:pt x="96" y="375"/>
                </a:lnTo>
                <a:lnTo>
                  <a:pt x="107" y="391"/>
                </a:lnTo>
                <a:lnTo>
                  <a:pt x="123" y="408"/>
                </a:lnTo>
                <a:lnTo>
                  <a:pt x="139" y="427"/>
                </a:lnTo>
                <a:lnTo>
                  <a:pt x="158" y="441"/>
                </a:lnTo>
                <a:lnTo>
                  <a:pt x="176" y="456"/>
                </a:lnTo>
                <a:lnTo>
                  <a:pt x="195" y="468"/>
                </a:lnTo>
                <a:lnTo>
                  <a:pt x="209" y="479"/>
                </a:lnTo>
                <a:lnTo>
                  <a:pt x="226" y="483"/>
                </a:lnTo>
                <a:lnTo>
                  <a:pt x="257" y="495"/>
                </a:lnTo>
                <a:lnTo>
                  <a:pt x="295" y="506"/>
                </a:lnTo>
                <a:lnTo>
                  <a:pt x="335" y="515"/>
                </a:lnTo>
                <a:lnTo>
                  <a:pt x="369" y="521"/>
                </a:lnTo>
                <a:lnTo>
                  <a:pt x="400" y="529"/>
                </a:lnTo>
                <a:lnTo>
                  <a:pt x="437" y="538"/>
                </a:lnTo>
                <a:lnTo>
                  <a:pt x="471" y="549"/>
                </a:lnTo>
                <a:lnTo>
                  <a:pt x="499" y="559"/>
                </a:lnTo>
                <a:lnTo>
                  <a:pt x="510" y="566"/>
                </a:lnTo>
                <a:lnTo>
                  <a:pt x="523" y="571"/>
                </a:lnTo>
                <a:lnTo>
                  <a:pt x="536" y="579"/>
                </a:lnTo>
                <a:lnTo>
                  <a:pt x="553" y="584"/>
                </a:lnTo>
                <a:lnTo>
                  <a:pt x="567" y="592"/>
                </a:lnTo>
                <a:lnTo>
                  <a:pt x="581" y="599"/>
                </a:lnTo>
                <a:lnTo>
                  <a:pt x="594" y="606"/>
                </a:lnTo>
                <a:lnTo>
                  <a:pt x="604" y="609"/>
                </a:lnTo>
                <a:lnTo>
                  <a:pt x="613" y="617"/>
                </a:lnTo>
                <a:lnTo>
                  <a:pt x="626" y="626"/>
                </a:lnTo>
                <a:lnTo>
                  <a:pt x="637" y="637"/>
                </a:lnTo>
                <a:lnTo>
                  <a:pt x="651" y="650"/>
                </a:lnTo>
                <a:lnTo>
                  <a:pt x="665" y="665"/>
                </a:lnTo>
                <a:lnTo>
                  <a:pt x="678" y="679"/>
                </a:lnTo>
                <a:lnTo>
                  <a:pt x="687" y="693"/>
                </a:lnTo>
                <a:lnTo>
                  <a:pt x="700" y="705"/>
                </a:lnTo>
                <a:lnTo>
                  <a:pt x="709" y="721"/>
                </a:lnTo>
                <a:lnTo>
                  <a:pt x="717" y="740"/>
                </a:lnTo>
                <a:lnTo>
                  <a:pt x="727" y="761"/>
                </a:lnTo>
                <a:lnTo>
                  <a:pt x="737" y="782"/>
                </a:lnTo>
                <a:lnTo>
                  <a:pt x="743" y="803"/>
                </a:lnTo>
                <a:lnTo>
                  <a:pt x="751" y="825"/>
                </a:lnTo>
                <a:lnTo>
                  <a:pt x="756" y="844"/>
                </a:lnTo>
                <a:lnTo>
                  <a:pt x="761" y="860"/>
                </a:lnTo>
                <a:lnTo>
                  <a:pt x="762" y="878"/>
                </a:lnTo>
                <a:lnTo>
                  <a:pt x="765" y="897"/>
                </a:lnTo>
                <a:lnTo>
                  <a:pt x="769" y="917"/>
                </a:lnTo>
                <a:lnTo>
                  <a:pt x="773" y="935"/>
                </a:lnTo>
                <a:lnTo>
                  <a:pt x="777" y="956"/>
                </a:lnTo>
                <a:lnTo>
                  <a:pt x="780" y="972"/>
                </a:lnTo>
                <a:lnTo>
                  <a:pt x="782" y="988"/>
                </a:lnTo>
                <a:lnTo>
                  <a:pt x="787" y="998"/>
                </a:lnTo>
                <a:lnTo>
                  <a:pt x="789" y="1012"/>
                </a:lnTo>
                <a:lnTo>
                  <a:pt x="794" y="1026"/>
                </a:lnTo>
                <a:lnTo>
                  <a:pt x="800" y="1045"/>
                </a:lnTo>
                <a:lnTo>
                  <a:pt x="807" y="1062"/>
                </a:lnTo>
                <a:lnTo>
                  <a:pt x="813" y="1082"/>
                </a:lnTo>
                <a:lnTo>
                  <a:pt x="820" y="1103"/>
                </a:lnTo>
                <a:lnTo>
                  <a:pt x="826" y="1122"/>
                </a:lnTo>
                <a:lnTo>
                  <a:pt x="835" y="1136"/>
                </a:lnTo>
                <a:lnTo>
                  <a:pt x="841" y="1155"/>
                </a:lnTo>
                <a:lnTo>
                  <a:pt x="852" y="1175"/>
                </a:lnTo>
                <a:lnTo>
                  <a:pt x="865" y="1198"/>
                </a:lnTo>
                <a:lnTo>
                  <a:pt x="880" y="1221"/>
                </a:lnTo>
                <a:lnTo>
                  <a:pt x="895" y="1245"/>
                </a:lnTo>
                <a:lnTo>
                  <a:pt x="909" y="1268"/>
                </a:lnTo>
                <a:lnTo>
                  <a:pt x="924" y="1289"/>
                </a:lnTo>
                <a:lnTo>
                  <a:pt x="938" y="1305"/>
                </a:lnTo>
                <a:lnTo>
                  <a:pt x="952" y="1322"/>
                </a:lnTo>
                <a:lnTo>
                  <a:pt x="972" y="1341"/>
                </a:lnTo>
                <a:lnTo>
                  <a:pt x="993" y="1361"/>
                </a:lnTo>
                <a:lnTo>
                  <a:pt x="1019" y="1379"/>
                </a:lnTo>
                <a:lnTo>
                  <a:pt x="1043" y="1400"/>
                </a:lnTo>
                <a:lnTo>
                  <a:pt x="1067" y="1419"/>
                </a:lnTo>
                <a:lnTo>
                  <a:pt x="1091" y="1434"/>
                </a:lnTo>
                <a:lnTo>
                  <a:pt x="1112" y="1447"/>
                </a:lnTo>
                <a:lnTo>
                  <a:pt x="1135" y="1459"/>
                </a:lnTo>
                <a:lnTo>
                  <a:pt x="1162" y="1472"/>
                </a:lnTo>
                <a:lnTo>
                  <a:pt x="1193" y="1487"/>
                </a:lnTo>
                <a:lnTo>
                  <a:pt x="1229" y="1502"/>
                </a:lnTo>
                <a:lnTo>
                  <a:pt x="1263" y="1517"/>
                </a:lnTo>
                <a:lnTo>
                  <a:pt x="1298" y="1530"/>
                </a:lnTo>
                <a:lnTo>
                  <a:pt x="1328" y="1543"/>
                </a:lnTo>
                <a:lnTo>
                  <a:pt x="1361" y="1551"/>
                </a:lnTo>
                <a:lnTo>
                  <a:pt x="1387" y="1561"/>
                </a:lnTo>
                <a:lnTo>
                  <a:pt x="1420" y="1570"/>
                </a:lnTo>
                <a:lnTo>
                  <a:pt x="1453" y="1580"/>
                </a:lnTo>
                <a:lnTo>
                  <a:pt x="1488" y="1587"/>
                </a:lnTo>
                <a:lnTo>
                  <a:pt x="1519" y="1596"/>
                </a:lnTo>
                <a:lnTo>
                  <a:pt x="1548" y="1603"/>
                </a:lnTo>
                <a:lnTo>
                  <a:pt x="1573" y="1608"/>
                </a:lnTo>
                <a:lnTo>
                  <a:pt x="1687" y="1623"/>
                </a:lnTo>
                <a:lnTo>
                  <a:pt x="1678" y="1623"/>
                </a:lnTo>
                <a:lnTo>
                  <a:pt x="1678" y="1623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23960" y="1141560"/>
            <a:ext cx="2122560" cy="2341440"/>
          </a:xfrm>
          <a:custGeom>
            <a:avLst/>
            <a:gdLst/>
            <a:ahLst/>
            <a:rect l="l" t="t" r="r" b="b"/>
            <a:pathLst>
              <a:path w="1336" h="1476">
                <a:moveTo>
                  <a:pt x="1241" y="1475"/>
                </a:moveTo>
                <a:lnTo>
                  <a:pt x="1241" y="1475"/>
                </a:lnTo>
                <a:lnTo>
                  <a:pt x="1306" y="1399"/>
                </a:lnTo>
                <a:lnTo>
                  <a:pt x="1262" y="1378"/>
                </a:lnTo>
                <a:lnTo>
                  <a:pt x="1262" y="1315"/>
                </a:lnTo>
                <a:lnTo>
                  <a:pt x="1241" y="1258"/>
                </a:lnTo>
                <a:lnTo>
                  <a:pt x="1306" y="1167"/>
                </a:lnTo>
                <a:lnTo>
                  <a:pt x="1335" y="881"/>
                </a:lnTo>
                <a:lnTo>
                  <a:pt x="1212" y="762"/>
                </a:lnTo>
                <a:lnTo>
                  <a:pt x="1212" y="642"/>
                </a:lnTo>
                <a:lnTo>
                  <a:pt x="1234" y="572"/>
                </a:lnTo>
                <a:lnTo>
                  <a:pt x="1234" y="510"/>
                </a:lnTo>
                <a:lnTo>
                  <a:pt x="1204" y="510"/>
                </a:lnTo>
                <a:lnTo>
                  <a:pt x="1190" y="433"/>
                </a:lnTo>
                <a:lnTo>
                  <a:pt x="1227" y="315"/>
                </a:lnTo>
                <a:lnTo>
                  <a:pt x="1227" y="195"/>
                </a:lnTo>
                <a:lnTo>
                  <a:pt x="1104" y="174"/>
                </a:lnTo>
                <a:lnTo>
                  <a:pt x="1054" y="56"/>
                </a:lnTo>
                <a:lnTo>
                  <a:pt x="930" y="56"/>
                </a:lnTo>
                <a:lnTo>
                  <a:pt x="808" y="35"/>
                </a:lnTo>
                <a:lnTo>
                  <a:pt x="685" y="77"/>
                </a:lnTo>
                <a:lnTo>
                  <a:pt x="454" y="56"/>
                </a:lnTo>
                <a:lnTo>
                  <a:pt x="397" y="62"/>
                </a:lnTo>
                <a:lnTo>
                  <a:pt x="374" y="0"/>
                </a:lnTo>
                <a:lnTo>
                  <a:pt x="245" y="0"/>
                </a:lnTo>
                <a:lnTo>
                  <a:pt x="122" y="69"/>
                </a:lnTo>
                <a:lnTo>
                  <a:pt x="0" y="84"/>
                </a:lnTo>
                <a:lnTo>
                  <a:pt x="7" y="77"/>
                </a:lnTo>
                <a:lnTo>
                  <a:pt x="14" y="144"/>
                </a:lnTo>
                <a:lnTo>
                  <a:pt x="15" y="161"/>
                </a:lnTo>
                <a:lnTo>
                  <a:pt x="19" y="182"/>
                </a:lnTo>
                <a:lnTo>
                  <a:pt x="23" y="212"/>
                </a:lnTo>
                <a:lnTo>
                  <a:pt x="30" y="244"/>
                </a:lnTo>
                <a:lnTo>
                  <a:pt x="36" y="279"/>
                </a:lnTo>
                <a:lnTo>
                  <a:pt x="44" y="315"/>
                </a:lnTo>
                <a:lnTo>
                  <a:pt x="51" y="351"/>
                </a:lnTo>
                <a:lnTo>
                  <a:pt x="60" y="385"/>
                </a:lnTo>
                <a:lnTo>
                  <a:pt x="69" y="419"/>
                </a:lnTo>
                <a:lnTo>
                  <a:pt x="78" y="456"/>
                </a:lnTo>
                <a:lnTo>
                  <a:pt x="88" y="495"/>
                </a:lnTo>
                <a:lnTo>
                  <a:pt x="98" y="533"/>
                </a:lnTo>
                <a:lnTo>
                  <a:pt x="109" y="569"/>
                </a:lnTo>
                <a:lnTo>
                  <a:pt x="118" y="600"/>
                </a:lnTo>
                <a:lnTo>
                  <a:pt x="128" y="627"/>
                </a:lnTo>
                <a:lnTo>
                  <a:pt x="136" y="646"/>
                </a:lnTo>
                <a:lnTo>
                  <a:pt x="144" y="667"/>
                </a:lnTo>
                <a:lnTo>
                  <a:pt x="154" y="690"/>
                </a:lnTo>
                <a:lnTo>
                  <a:pt x="164" y="716"/>
                </a:lnTo>
                <a:lnTo>
                  <a:pt x="177" y="743"/>
                </a:lnTo>
                <a:lnTo>
                  <a:pt x="189" y="773"/>
                </a:lnTo>
                <a:lnTo>
                  <a:pt x="201" y="801"/>
                </a:lnTo>
                <a:lnTo>
                  <a:pt x="211" y="827"/>
                </a:lnTo>
                <a:lnTo>
                  <a:pt x="222" y="849"/>
                </a:lnTo>
                <a:lnTo>
                  <a:pt x="232" y="873"/>
                </a:lnTo>
                <a:lnTo>
                  <a:pt x="244" y="898"/>
                </a:lnTo>
                <a:lnTo>
                  <a:pt x="257" y="927"/>
                </a:lnTo>
                <a:lnTo>
                  <a:pt x="268" y="952"/>
                </a:lnTo>
                <a:lnTo>
                  <a:pt x="280" y="978"/>
                </a:lnTo>
                <a:lnTo>
                  <a:pt x="292" y="1003"/>
                </a:lnTo>
                <a:lnTo>
                  <a:pt x="300" y="1023"/>
                </a:lnTo>
                <a:lnTo>
                  <a:pt x="310" y="1039"/>
                </a:lnTo>
                <a:lnTo>
                  <a:pt x="317" y="1054"/>
                </a:lnTo>
                <a:lnTo>
                  <a:pt x="327" y="1072"/>
                </a:lnTo>
                <a:lnTo>
                  <a:pt x="339" y="1091"/>
                </a:lnTo>
                <a:lnTo>
                  <a:pt x="353" y="1112"/>
                </a:lnTo>
                <a:lnTo>
                  <a:pt x="366" y="1133"/>
                </a:lnTo>
                <a:lnTo>
                  <a:pt x="380" y="1153"/>
                </a:lnTo>
                <a:lnTo>
                  <a:pt x="393" y="1171"/>
                </a:lnTo>
                <a:lnTo>
                  <a:pt x="407" y="1185"/>
                </a:lnTo>
                <a:lnTo>
                  <a:pt x="420" y="1200"/>
                </a:lnTo>
                <a:lnTo>
                  <a:pt x="434" y="1216"/>
                </a:lnTo>
                <a:lnTo>
                  <a:pt x="449" y="1235"/>
                </a:lnTo>
                <a:lnTo>
                  <a:pt x="469" y="1251"/>
                </a:lnTo>
                <a:lnTo>
                  <a:pt x="485" y="1266"/>
                </a:lnTo>
                <a:lnTo>
                  <a:pt x="501" y="1283"/>
                </a:lnTo>
                <a:lnTo>
                  <a:pt x="515" y="1295"/>
                </a:lnTo>
                <a:lnTo>
                  <a:pt x="530" y="1304"/>
                </a:lnTo>
                <a:lnTo>
                  <a:pt x="554" y="1323"/>
                </a:lnTo>
                <a:lnTo>
                  <a:pt x="579" y="1339"/>
                </a:lnTo>
                <a:lnTo>
                  <a:pt x="598" y="1354"/>
                </a:lnTo>
                <a:lnTo>
                  <a:pt x="613" y="1363"/>
                </a:lnTo>
                <a:lnTo>
                  <a:pt x="625" y="1371"/>
                </a:lnTo>
                <a:lnTo>
                  <a:pt x="642" y="1379"/>
                </a:lnTo>
                <a:lnTo>
                  <a:pt x="662" y="1387"/>
                </a:lnTo>
                <a:lnTo>
                  <a:pt x="682" y="1395"/>
                </a:lnTo>
                <a:lnTo>
                  <a:pt x="692" y="1399"/>
                </a:lnTo>
                <a:lnTo>
                  <a:pt x="704" y="1403"/>
                </a:lnTo>
                <a:lnTo>
                  <a:pt x="718" y="1408"/>
                </a:lnTo>
                <a:lnTo>
                  <a:pt x="735" y="1412"/>
                </a:lnTo>
                <a:lnTo>
                  <a:pt x="753" y="1417"/>
                </a:lnTo>
                <a:lnTo>
                  <a:pt x="768" y="1423"/>
                </a:lnTo>
                <a:lnTo>
                  <a:pt x="786" y="1427"/>
                </a:lnTo>
                <a:lnTo>
                  <a:pt x="800" y="1429"/>
                </a:lnTo>
                <a:lnTo>
                  <a:pt x="832" y="1437"/>
                </a:lnTo>
                <a:lnTo>
                  <a:pt x="869" y="1443"/>
                </a:lnTo>
                <a:lnTo>
                  <a:pt x="904" y="1451"/>
                </a:lnTo>
                <a:lnTo>
                  <a:pt x="934" y="1454"/>
                </a:lnTo>
                <a:lnTo>
                  <a:pt x="963" y="1459"/>
                </a:lnTo>
                <a:lnTo>
                  <a:pt x="999" y="1460"/>
                </a:lnTo>
                <a:lnTo>
                  <a:pt x="1037" y="1463"/>
                </a:lnTo>
                <a:lnTo>
                  <a:pt x="1071" y="1465"/>
                </a:lnTo>
                <a:lnTo>
                  <a:pt x="1104" y="1467"/>
                </a:lnTo>
                <a:lnTo>
                  <a:pt x="1142" y="1467"/>
                </a:lnTo>
                <a:lnTo>
                  <a:pt x="1179" y="1467"/>
                </a:lnTo>
                <a:lnTo>
                  <a:pt x="1270" y="1467"/>
                </a:lnTo>
                <a:lnTo>
                  <a:pt x="1241" y="1475"/>
                </a:lnTo>
                <a:lnTo>
                  <a:pt x="1241" y="1475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2600" y="743040"/>
            <a:ext cx="4808520" cy="3971880"/>
          </a:xfrm>
          <a:custGeom>
            <a:avLst/>
            <a:gdLst/>
            <a:ahLst/>
            <a:rect l="l" t="t" r="r" b="b"/>
            <a:pathLst>
              <a:path w="3029" h="2503">
                <a:moveTo>
                  <a:pt x="260" y="557"/>
                </a:moveTo>
                <a:lnTo>
                  <a:pt x="123" y="763"/>
                </a:lnTo>
                <a:lnTo>
                  <a:pt x="38" y="971"/>
                </a:lnTo>
                <a:lnTo>
                  <a:pt x="0" y="1178"/>
                </a:lnTo>
                <a:lnTo>
                  <a:pt x="8" y="1380"/>
                </a:lnTo>
                <a:lnTo>
                  <a:pt x="54" y="1577"/>
                </a:lnTo>
                <a:lnTo>
                  <a:pt x="138" y="1762"/>
                </a:lnTo>
                <a:lnTo>
                  <a:pt x="256" y="1934"/>
                </a:lnTo>
                <a:lnTo>
                  <a:pt x="405" y="2088"/>
                </a:lnTo>
                <a:lnTo>
                  <a:pt x="578" y="2224"/>
                </a:lnTo>
                <a:lnTo>
                  <a:pt x="776" y="2336"/>
                </a:lnTo>
                <a:lnTo>
                  <a:pt x="992" y="2422"/>
                </a:lnTo>
                <a:lnTo>
                  <a:pt x="1224" y="2477"/>
                </a:lnTo>
                <a:lnTo>
                  <a:pt x="1468" y="2502"/>
                </a:lnTo>
                <a:lnTo>
                  <a:pt x="1721" y="2490"/>
                </a:lnTo>
                <a:lnTo>
                  <a:pt x="1979" y="2438"/>
                </a:lnTo>
                <a:lnTo>
                  <a:pt x="2240" y="2344"/>
                </a:lnTo>
                <a:lnTo>
                  <a:pt x="2476" y="2216"/>
                </a:lnTo>
                <a:lnTo>
                  <a:pt x="2668" y="2065"/>
                </a:lnTo>
                <a:lnTo>
                  <a:pt x="2818" y="1897"/>
                </a:lnTo>
                <a:lnTo>
                  <a:pt x="2928" y="1715"/>
                </a:lnTo>
                <a:lnTo>
                  <a:pt x="2996" y="1524"/>
                </a:lnTo>
                <a:lnTo>
                  <a:pt x="3028" y="1327"/>
                </a:lnTo>
                <a:lnTo>
                  <a:pt x="3022" y="1129"/>
                </a:lnTo>
                <a:lnTo>
                  <a:pt x="2980" y="935"/>
                </a:lnTo>
                <a:lnTo>
                  <a:pt x="2902" y="749"/>
                </a:lnTo>
                <a:lnTo>
                  <a:pt x="2792" y="573"/>
                </a:lnTo>
                <a:lnTo>
                  <a:pt x="2650" y="414"/>
                </a:lnTo>
                <a:lnTo>
                  <a:pt x="2477" y="274"/>
                </a:lnTo>
                <a:lnTo>
                  <a:pt x="2274" y="160"/>
                </a:lnTo>
                <a:lnTo>
                  <a:pt x="2045" y="72"/>
                </a:lnTo>
                <a:lnTo>
                  <a:pt x="1788" y="19"/>
                </a:lnTo>
                <a:lnTo>
                  <a:pt x="15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10280" y="1062000"/>
            <a:ext cx="2922480" cy="2824200"/>
          </a:xfrm>
          <a:custGeom>
            <a:avLst/>
            <a:gdLst/>
            <a:ahLst/>
            <a:rect l="l" t="t" r="r" b="b"/>
            <a:pathLst>
              <a:path w="1841" h="1779">
                <a:moveTo>
                  <a:pt x="1774" y="1778"/>
                </a:moveTo>
                <a:lnTo>
                  <a:pt x="1774" y="1778"/>
                </a:lnTo>
                <a:lnTo>
                  <a:pt x="1840" y="1602"/>
                </a:lnTo>
                <a:lnTo>
                  <a:pt x="1832" y="1483"/>
                </a:lnTo>
                <a:lnTo>
                  <a:pt x="1781" y="1399"/>
                </a:lnTo>
                <a:lnTo>
                  <a:pt x="1781" y="1336"/>
                </a:lnTo>
                <a:lnTo>
                  <a:pt x="1811" y="1272"/>
                </a:lnTo>
                <a:lnTo>
                  <a:pt x="1811" y="1222"/>
                </a:lnTo>
                <a:lnTo>
                  <a:pt x="1767" y="1166"/>
                </a:lnTo>
                <a:lnTo>
                  <a:pt x="1774" y="1068"/>
                </a:lnTo>
                <a:lnTo>
                  <a:pt x="1738" y="998"/>
                </a:lnTo>
                <a:lnTo>
                  <a:pt x="1754" y="851"/>
                </a:lnTo>
                <a:lnTo>
                  <a:pt x="1754" y="788"/>
                </a:lnTo>
                <a:lnTo>
                  <a:pt x="1732" y="717"/>
                </a:lnTo>
                <a:lnTo>
                  <a:pt x="1746" y="654"/>
                </a:lnTo>
                <a:lnTo>
                  <a:pt x="1746" y="478"/>
                </a:lnTo>
                <a:lnTo>
                  <a:pt x="1710" y="451"/>
                </a:lnTo>
                <a:lnTo>
                  <a:pt x="1710" y="387"/>
                </a:lnTo>
                <a:lnTo>
                  <a:pt x="1738" y="324"/>
                </a:lnTo>
                <a:lnTo>
                  <a:pt x="1738" y="205"/>
                </a:lnTo>
                <a:lnTo>
                  <a:pt x="1694" y="142"/>
                </a:lnTo>
                <a:lnTo>
                  <a:pt x="1571" y="43"/>
                </a:lnTo>
                <a:lnTo>
                  <a:pt x="1484" y="43"/>
                </a:lnTo>
                <a:lnTo>
                  <a:pt x="1287" y="106"/>
                </a:lnTo>
                <a:lnTo>
                  <a:pt x="1222" y="106"/>
                </a:lnTo>
                <a:lnTo>
                  <a:pt x="1156" y="29"/>
                </a:lnTo>
                <a:lnTo>
                  <a:pt x="1048" y="29"/>
                </a:lnTo>
                <a:lnTo>
                  <a:pt x="996" y="92"/>
                </a:lnTo>
                <a:lnTo>
                  <a:pt x="872" y="92"/>
                </a:lnTo>
                <a:lnTo>
                  <a:pt x="836" y="0"/>
                </a:lnTo>
                <a:lnTo>
                  <a:pt x="713" y="0"/>
                </a:lnTo>
                <a:lnTo>
                  <a:pt x="684" y="65"/>
                </a:lnTo>
                <a:lnTo>
                  <a:pt x="560" y="65"/>
                </a:lnTo>
                <a:lnTo>
                  <a:pt x="553" y="29"/>
                </a:lnTo>
                <a:lnTo>
                  <a:pt x="356" y="29"/>
                </a:lnTo>
                <a:lnTo>
                  <a:pt x="356" y="92"/>
                </a:lnTo>
                <a:lnTo>
                  <a:pt x="262" y="92"/>
                </a:lnTo>
                <a:lnTo>
                  <a:pt x="196" y="142"/>
                </a:lnTo>
                <a:lnTo>
                  <a:pt x="73" y="114"/>
                </a:lnTo>
                <a:lnTo>
                  <a:pt x="0" y="120"/>
                </a:lnTo>
                <a:lnTo>
                  <a:pt x="1" y="120"/>
                </a:lnTo>
                <a:lnTo>
                  <a:pt x="4" y="173"/>
                </a:lnTo>
                <a:lnTo>
                  <a:pt x="4" y="185"/>
                </a:lnTo>
                <a:lnTo>
                  <a:pt x="8" y="198"/>
                </a:lnTo>
                <a:lnTo>
                  <a:pt x="8" y="213"/>
                </a:lnTo>
                <a:lnTo>
                  <a:pt x="13" y="228"/>
                </a:lnTo>
                <a:lnTo>
                  <a:pt x="16" y="244"/>
                </a:lnTo>
                <a:lnTo>
                  <a:pt x="20" y="260"/>
                </a:lnTo>
                <a:lnTo>
                  <a:pt x="24" y="276"/>
                </a:lnTo>
                <a:lnTo>
                  <a:pt x="29" y="285"/>
                </a:lnTo>
                <a:lnTo>
                  <a:pt x="47" y="311"/>
                </a:lnTo>
                <a:lnTo>
                  <a:pt x="94" y="364"/>
                </a:lnTo>
                <a:lnTo>
                  <a:pt x="164" y="437"/>
                </a:lnTo>
                <a:lnTo>
                  <a:pt x="252" y="528"/>
                </a:lnTo>
                <a:lnTo>
                  <a:pt x="355" y="632"/>
                </a:lnTo>
                <a:lnTo>
                  <a:pt x="470" y="748"/>
                </a:lnTo>
                <a:lnTo>
                  <a:pt x="590" y="870"/>
                </a:lnTo>
                <a:lnTo>
                  <a:pt x="717" y="988"/>
                </a:lnTo>
                <a:lnTo>
                  <a:pt x="844" y="1109"/>
                </a:lnTo>
                <a:lnTo>
                  <a:pt x="972" y="1230"/>
                </a:lnTo>
                <a:lnTo>
                  <a:pt x="1096" y="1344"/>
                </a:lnTo>
                <a:lnTo>
                  <a:pt x="1215" y="1448"/>
                </a:lnTo>
                <a:lnTo>
                  <a:pt x="1320" y="1540"/>
                </a:lnTo>
                <a:lnTo>
                  <a:pt x="1407" y="1614"/>
                </a:lnTo>
                <a:lnTo>
                  <a:pt x="1473" y="1666"/>
                </a:lnTo>
                <a:lnTo>
                  <a:pt x="1513" y="1690"/>
                </a:lnTo>
                <a:lnTo>
                  <a:pt x="1538" y="1702"/>
                </a:lnTo>
                <a:lnTo>
                  <a:pt x="1566" y="1712"/>
                </a:lnTo>
                <a:lnTo>
                  <a:pt x="1593" y="1725"/>
                </a:lnTo>
                <a:lnTo>
                  <a:pt x="1622" y="1735"/>
                </a:lnTo>
                <a:lnTo>
                  <a:pt x="1648" y="1746"/>
                </a:lnTo>
                <a:lnTo>
                  <a:pt x="1672" y="1754"/>
                </a:lnTo>
                <a:lnTo>
                  <a:pt x="1689" y="1760"/>
                </a:lnTo>
                <a:lnTo>
                  <a:pt x="1767" y="1778"/>
                </a:lnTo>
                <a:lnTo>
                  <a:pt x="1774" y="1778"/>
                </a:lnTo>
                <a:lnTo>
                  <a:pt x="1774" y="177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240" y="385920"/>
            <a:ext cx="4808520" cy="3973320"/>
          </a:xfrm>
          <a:custGeom>
            <a:avLst/>
            <a:gdLst/>
            <a:ahLst/>
            <a:rect l="l" t="t" r="r" b="b"/>
            <a:pathLst>
              <a:path w="3029" h="2503">
                <a:moveTo>
                  <a:pt x="260" y="557"/>
                </a:moveTo>
                <a:lnTo>
                  <a:pt x="123" y="763"/>
                </a:lnTo>
                <a:lnTo>
                  <a:pt x="38" y="971"/>
                </a:lnTo>
                <a:lnTo>
                  <a:pt x="0" y="1178"/>
                </a:lnTo>
                <a:lnTo>
                  <a:pt x="8" y="1380"/>
                </a:lnTo>
                <a:lnTo>
                  <a:pt x="54" y="1577"/>
                </a:lnTo>
                <a:lnTo>
                  <a:pt x="138" y="1762"/>
                </a:lnTo>
                <a:lnTo>
                  <a:pt x="256" y="1934"/>
                </a:lnTo>
                <a:lnTo>
                  <a:pt x="405" y="2088"/>
                </a:lnTo>
                <a:lnTo>
                  <a:pt x="578" y="2224"/>
                </a:lnTo>
                <a:lnTo>
                  <a:pt x="776" y="2336"/>
                </a:lnTo>
                <a:lnTo>
                  <a:pt x="992" y="2422"/>
                </a:lnTo>
                <a:lnTo>
                  <a:pt x="1224" y="2477"/>
                </a:lnTo>
                <a:lnTo>
                  <a:pt x="1468" y="2502"/>
                </a:lnTo>
                <a:lnTo>
                  <a:pt x="1721" y="2490"/>
                </a:lnTo>
                <a:lnTo>
                  <a:pt x="1979" y="2438"/>
                </a:lnTo>
                <a:lnTo>
                  <a:pt x="2240" y="2344"/>
                </a:lnTo>
                <a:lnTo>
                  <a:pt x="2476" y="2216"/>
                </a:lnTo>
                <a:lnTo>
                  <a:pt x="2668" y="2065"/>
                </a:lnTo>
                <a:lnTo>
                  <a:pt x="2818" y="1897"/>
                </a:lnTo>
                <a:lnTo>
                  <a:pt x="2928" y="1715"/>
                </a:lnTo>
                <a:lnTo>
                  <a:pt x="2996" y="1524"/>
                </a:lnTo>
                <a:lnTo>
                  <a:pt x="3028" y="1327"/>
                </a:lnTo>
                <a:lnTo>
                  <a:pt x="3022" y="1129"/>
                </a:lnTo>
                <a:lnTo>
                  <a:pt x="2980" y="935"/>
                </a:lnTo>
                <a:lnTo>
                  <a:pt x="2902" y="749"/>
                </a:lnTo>
                <a:lnTo>
                  <a:pt x="2792" y="573"/>
                </a:lnTo>
                <a:lnTo>
                  <a:pt x="2650" y="414"/>
                </a:lnTo>
                <a:lnTo>
                  <a:pt x="2477" y="274"/>
                </a:lnTo>
                <a:lnTo>
                  <a:pt x="2274" y="160"/>
                </a:lnTo>
                <a:lnTo>
                  <a:pt x="2045" y="72"/>
                </a:lnTo>
                <a:lnTo>
                  <a:pt x="1788" y="19"/>
                </a:lnTo>
                <a:lnTo>
                  <a:pt x="15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25600" y="4443480"/>
            <a:ext cx="3036960" cy="2577960"/>
          </a:xfrm>
          <a:custGeom>
            <a:avLst/>
            <a:gdLst/>
            <a:ahLst/>
            <a:rect l="l" t="t" r="r" b="b"/>
            <a:pathLst>
              <a:path w="1913" h="1624">
                <a:moveTo>
                  <a:pt x="1678" y="1623"/>
                </a:moveTo>
                <a:lnTo>
                  <a:pt x="1678" y="1623"/>
                </a:lnTo>
                <a:lnTo>
                  <a:pt x="1729" y="1555"/>
                </a:lnTo>
                <a:lnTo>
                  <a:pt x="1729" y="1480"/>
                </a:lnTo>
                <a:lnTo>
                  <a:pt x="1782" y="1430"/>
                </a:lnTo>
                <a:lnTo>
                  <a:pt x="1912" y="1271"/>
                </a:lnTo>
                <a:lnTo>
                  <a:pt x="1807" y="1161"/>
                </a:lnTo>
                <a:lnTo>
                  <a:pt x="1869" y="985"/>
                </a:lnTo>
                <a:lnTo>
                  <a:pt x="1764" y="859"/>
                </a:lnTo>
                <a:lnTo>
                  <a:pt x="1825" y="735"/>
                </a:lnTo>
                <a:lnTo>
                  <a:pt x="1791" y="592"/>
                </a:lnTo>
                <a:lnTo>
                  <a:pt x="1852" y="483"/>
                </a:lnTo>
                <a:lnTo>
                  <a:pt x="1807" y="400"/>
                </a:lnTo>
                <a:lnTo>
                  <a:pt x="1843" y="299"/>
                </a:lnTo>
                <a:lnTo>
                  <a:pt x="1799" y="241"/>
                </a:lnTo>
                <a:lnTo>
                  <a:pt x="1799" y="191"/>
                </a:lnTo>
                <a:lnTo>
                  <a:pt x="1687" y="166"/>
                </a:lnTo>
                <a:lnTo>
                  <a:pt x="1678" y="115"/>
                </a:lnTo>
                <a:lnTo>
                  <a:pt x="1555" y="115"/>
                </a:lnTo>
                <a:lnTo>
                  <a:pt x="1548" y="40"/>
                </a:lnTo>
                <a:lnTo>
                  <a:pt x="1391" y="40"/>
                </a:lnTo>
                <a:lnTo>
                  <a:pt x="1391" y="100"/>
                </a:lnTo>
                <a:lnTo>
                  <a:pt x="1235" y="100"/>
                </a:lnTo>
                <a:lnTo>
                  <a:pt x="1139" y="23"/>
                </a:lnTo>
                <a:lnTo>
                  <a:pt x="983" y="23"/>
                </a:lnTo>
                <a:lnTo>
                  <a:pt x="895" y="65"/>
                </a:lnTo>
                <a:lnTo>
                  <a:pt x="731" y="65"/>
                </a:lnTo>
                <a:lnTo>
                  <a:pt x="695" y="23"/>
                </a:lnTo>
                <a:lnTo>
                  <a:pt x="626" y="31"/>
                </a:lnTo>
                <a:lnTo>
                  <a:pt x="487" y="0"/>
                </a:lnTo>
                <a:lnTo>
                  <a:pt x="340" y="90"/>
                </a:lnTo>
                <a:lnTo>
                  <a:pt x="287" y="40"/>
                </a:lnTo>
                <a:lnTo>
                  <a:pt x="235" y="40"/>
                </a:lnTo>
                <a:lnTo>
                  <a:pt x="157" y="73"/>
                </a:lnTo>
                <a:lnTo>
                  <a:pt x="113" y="31"/>
                </a:lnTo>
                <a:lnTo>
                  <a:pt x="78" y="31"/>
                </a:lnTo>
                <a:lnTo>
                  <a:pt x="0" y="73"/>
                </a:lnTo>
                <a:lnTo>
                  <a:pt x="0" y="73"/>
                </a:lnTo>
                <a:lnTo>
                  <a:pt x="0" y="111"/>
                </a:lnTo>
                <a:lnTo>
                  <a:pt x="0" y="121"/>
                </a:lnTo>
                <a:lnTo>
                  <a:pt x="1" y="131"/>
                </a:lnTo>
                <a:lnTo>
                  <a:pt x="2" y="146"/>
                </a:lnTo>
                <a:lnTo>
                  <a:pt x="5" y="159"/>
                </a:lnTo>
                <a:lnTo>
                  <a:pt x="7" y="177"/>
                </a:lnTo>
                <a:lnTo>
                  <a:pt x="10" y="192"/>
                </a:lnTo>
                <a:lnTo>
                  <a:pt x="12" y="207"/>
                </a:lnTo>
                <a:lnTo>
                  <a:pt x="17" y="219"/>
                </a:lnTo>
                <a:lnTo>
                  <a:pt x="21" y="236"/>
                </a:lnTo>
                <a:lnTo>
                  <a:pt x="29" y="255"/>
                </a:lnTo>
                <a:lnTo>
                  <a:pt x="37" y="275"/>
                </a:lnTo>
                <a:lnTo>
                  <a:pt x="49" y="295"/>
                </a:lnTo>
                <a:lnTo>
                  <a:pt x="59" y="318"/>
                </a:lnTo>
                <a:lnTo>
                  <a:pt x="70" y="339"/>
                </a:lnTo>
                <a:lnTo>
                  <a:pt x="83" y="358"/>
                </a:lnTo>
                <a:lnTo>
                  <a:pt x="96" y="375"/>
                </a:lnTo>
                <a:lnTo>
                  <a:pt x="107" y="391"/>
                </a:lnTo>
                <a:lnTo>
                  <a:pt x="123" y="408"/>
                </a:lnTo>
                <a:lnTo>
                  <a:pt x="139" y="427"/>
                </a:lnTo>
                <a:lnTo>
                  <a:pt x="158" y="441"/>
                </a:lnTo>
                <a:lnTo>
                  <a:pt x="176" y="456"/>
                </a:lnTo>
                <a:lnTo>
                  <a:pt x="195" y="468"/>
                </a:lnTo>
                <a:lnTo>
                  <a:pt x="209" y="479"/>
                </a:lnTo>
                <a:lnTo>
                  <a:pt x="226" y="483"/>
                </a:lnTo>
                <a:lnTo>
                  <a:pt x="257" y="495"/>
                </a:lnTo>
                <a:lnTo>
                  <a:pt x="295" y="506"/>
                </a:lnTo>
                <a:lnTo>
                  <a:pt x="335" y="515"/>
                </a:lnTo>
                <a:lnTo>
                  <a:pt x="369" y="521"/>
                </a:lnTo>
                <a:lnTo>
                  <a:pt x="400" y="529"/>
                </a:lnTo>
                <a:lnTo>
                  <a:pt x="437" y="538"/>
                </a:lnTo>
                <a:lnTo>
                  <a:pt x="471" y="549"/>
                </a:lnTo>
                <a:lnTo>
                  <a:pt x="499" y="559"/>
                </a:lnTo>
                <a:lnTo>
                  <a:pt x="510" y="566"/>
                </a:lnTo>
                <a:lnTo>
                  <a:pt x="523" y="571"/>
                </a:lnTo>
                <a:lnTo>
                  <a:pt x="536" y="579"/>
                </a:lnTo>
                <a:lnTo>
                  <a:pt x="553" y="584"/>
                </a:lnTo>
                <a:lnTo>
                  <a:pt x="567" y="592"/>
                </a:lnTo>
                <a:lnTo>
                  <a:pt x="581" y="599"/>
                </a:lnTo>
                <a:lnTo>
                  <a:pt x="594" y="606"/>
                </a:lnTo>
                <a:lnTo>
                  <a:pt x="604" y="609"/>
                </a:lnTo>
                <a:lnTo>
                  <a:pt x="613" y="617"/>
                </a:lnTo>
                <a:lnTo>
                  <a:pt x="626" y="626"/>
                </a:lnTo>
                <a:lnTo>
                  <a:pt x="637" y="637"/>
                </a:lnTo>
                <a:lnTo>
                  <a:pt x="651" y="650"/>
                </a:lnTo>
                <a:lnTo>
                  <a:pt x="665" y="665"/>
                </a:lnTo>
                <a:lnTo>
                  <a:pt x="678" y="679"/>
                </a:lnTo>
                <a:lnTo>
                  <a:pt x="687" y="693"/>
                </a:lnTo>
                <a:lnTo>
                  <a:pt x="700" y="705"/>
                </a:lnTo>
                <a:lnTo>
                  <a:pt x="709" y="721"/>
                </a:lnTo>
                <a:lnTo>
                  <a:pt x="717" y="740"/>
                </a:lnTo>
                <a:lnTo>
                  <a:pt x="727" y="761"/>
                </a:lnTo>
                <a:lnTo>
                  <a:pt x="737" y="782"/>
                </a:lnTo>
                <a:lnTo>
                  <a:pt x="743" y="803"/>
                </a:lnTo>
                <a:lnTo>
                  <a:pt x="751" y="825"/>
                </a:lnTo>
                <a:lnTo>
                  <a:pt x="756" y="844"/>
                </a:lnTo>
                <a:lnTo>
                  <a:pt x="761" y="860"/>
                </a:lnTo>
                <a:lnTo>
                  <a:pt x="762" y="878"/>
                </a:lnTo>
                <a:lnTo>
                  <a:pt x="765" y="897"/>
                </a:lnTo>
                <a:lnTo>
                  <a:pt x="769" y="917"/>
                </a:lnTo>
                <a:lnTo>
                  <a:pt x="773" y="935"/>
                </a:lnTo>
                <a:lnTo>
                  <a:pt x="777" y="956"/>
                </a:lnTo>
                <a:lnTo>
                  <a:pt x="780" y="972"/>
                </a:lnTo>
                <a:lnTo>
                  <a:pt x="782" y="988"/>
                </a:lnTo>
                <a:lnTo>
                  <a:pt x="787" y="998"/>
                </a:lnTo>
                <a:lnTo>
                  <a:pt x="789" y="1012"/>
                </a:lnTo>
                <a:lnTo>
                  <a:pt x="794" y="1026"/>
                </a:lnTo>
                <a:lnTo>
                  <a:pt x="800" y="1045"/>
                </a:lnTo>
                <a:lnTo>
                  <a:pt x="807" y="1062"/>
                </a:lnTo>
                <a:lnTo>
                  <a:pt x="813" y="1082"/>
                </a:lnTo>
                <a:lnTo>
                  <a:pt x="820" y="1103"/>
                </a:lnTo>
                <a:lnTo>
                  <a:pt x="826" y="1122"/>
                </a:lnTo>
                <a:lnTo>
                  <a:pt x="835" y="1136"/>
                </a:lnTo>
                <a:lnTo>
                  <a:pt x="841" y="1155"/>
                </a:lnTo>
                <a:lnTo>
                  <a:pt x="852" y="1175"/>
                </a:lnTo>
                <a:lnTo>
                  <a:pt x="865" y="1198"/>
                </a:lnTo>
                <a:lnTo>
                  <a:pt x="880" y="1221"/>
                </a:lnTo>
                <a:lnTo>
                  <a:pt x="895" y="1245"/>
                </a:lnTo>
                <a:lnTo>
                  <a:pt x="909" y="1268"/>
                </a:lnTo>
                <a:lnTo>
                  <a:pt x="924" y="1289"/>
                </a:lnTo>
                <a:lnTo>
                  <a:pt x="938" y="1305"/>
                </a:lnTo>
                <a:lnTo>
                  <a:pt x="952" y="1322"/>
                </a:lnTo>
                <a:lnTo>
                  <a:pt x="972" y="1341"/>
                </a:lnTo>
                <a:lnTo>
                  <a:pt x="993" y="1361"/>
                </a:lnTo>
                <a:lnTo>
                  <a:pt x="1019" y="1379"/>
                </a:lnTo>
                <a:lnTo>
                  <a:pt x="1043" y="1400"/>
                </a:lnTo>
                <a:lnTo>
                  <a:pt x="1067" y="1419"/>
                </a:lnTo>
                <a:lnTo>
                  <a:pt x="1091" y="1434"/>
                </a:lnTo>
                <a:lnTo>
                  <a:pt x="1112" y="1447"/>
                </a:lnTo>
                <a:lnTo>
                  <a:pt x="1135" y="1459"/>
                </a:lnTo>
                <a:lnTo>
                  <a:pt x="1162" y="1472"/>
                </a:lnTo>
                <a:lnTo>
                  <a:pt x="1193" y="1487"/>
                </a:lnTo>
                <a:lnTo>
                  <a:pt x="1229" y="1502"/>
                </a:lnTo>
                <a:lnTo>
                  <a:pt x="1263" y="1517"/>
                </a:lnTo>
                <a:lnTo>
                  <a:pt x="1298" y="1530"/>
                </a:lnTo>
                <a:lnTo>
                  <a:pt x="1328" y="1543"/>
                </a:lnTo>
                <a:lnTo>
                  <a:pt x="1361" y="1551"/>
                </a:lnTo>
                <a:lnTo>
                  <a:pt x="1387" y="1561"/>
                </a:lnTo>
                <a:lnTo>
                  <a:pt x="1420" y="1570"/>
                </a:lnTo>
                <a:lnTo>
                  <a:pt x="1453" y="1580"/>
                </a:lnTo>
                <a:lnTo>
                  <a:pt x="1488" y="1587"/>
                </a:lnTo>
                <a:lnTo>
                  <a:pt x="1519" y="1596"/>
                </a:lnTo>
                <a:lnTo>
                  <a:pt x="1548" y="1603"/>
                </a:lnTo>
                <a:lnTo>
                  <a:pt x="1573" y="1608"/>
                </a:lnTo>
                <a:lnTo>
                  <a:pt x="1687" y="1623"/>
                </a:lnTo>
                <a:lnTo>
                  <a:pt x="1678" y="1623"/>
                </a:lnTo>
                <a:lnTo>
                  <a:pt x="1678" y="1623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32240" y="4460760"/>
            <a:ext cx="3084840" cy="2578320"/>
          </a:xfrm>
          <a:custGeom>
            <a:avLst/>
            <a:gdLst/>
            <a:ahLst/>
            <a:rect l="l" t="t" r="r" b="b"/>
            <a:pathLst>
              <a:path w="1943" h="1625">
                <a:moveTo>
                  <a:pt x="1714" y="1608"/>
                </a:moveTo>
                <a:lnTo>
                  <a:pt x="1714" y="1608"/>
                </a:lnTo>
                <a:lnTo>
                  <a:pt x="1708" y="1624"/>
                </a:lnTo>
                <a:lnTo>
                  <a:pt x="1759" y="1557"/>
                </a:lnTo>
                <a:lnTo>
                  <a:pt x="1759" y="1481"/>
                </a:lnTo>
                <a:lnTo>
                  <a:pt x="1812" y="1431"/>
                </a:lnTo>
                <a:lnTo>
                  <a:pt x="1942" y="1272"/>
                </a:lnTo>
                <a:lnTo>
                  <a:pt x="1837" y="1163"/>
                </a:lnTo>
                <a:lnTo>
                  <a:pt x="1898" y="987"/>
                </a:lnTo>
                <a:lnTo>
                  <a:pt x="1792" y="862"/>
                </a:lnTo>
                <a:lnTo>
                  <a:pt x="1855" y="736"/>
                </a:lnTo>
                <a:lnTo>
                  <a:pt x="1820" y="594"/>
                </a:lnTo>
                <a:lnTo>
                  <a:pt x="1881" y="485"/>
                </a:lnTo>
                <a:lnTo>
                  <a:pt x="1837" y="401"/>
                </a:lnTo>
                <a:lnTo>
                  <a:pt x="1871" y="301"/>
                </a:lnTo>
                <a:lnTo>
                  <a:pt x="1829" y="242"/>
                </a:lnTo>
                <a:lnTo>
                  <a:pt x="1829" y="192"/>
                </a:lnTo>
                <a:lnTo>
                  <a:pt x="1715" y="167"/>
                </a:lnTo>
                <a:lnTo>
                  <a:pt x="1708" y="117"/>
                </a:lnTo>
                <a:lnTo>
                  <a:pt x="1585" y="117"/>
                </a:lnTo>
                <a:lnTo>
                  <a:pt x="1576" y="41"/>
                </a:lnTo>
                <a:lnTo>
                  <a:pt x="1420" y="41"/>
                </a:lnTo>
                <a:lnTo>
                  <a:pt x="1420" y="101"/>
                </a:lnTo>
                <a:lnTo>
                  <a:pt x="1263" y="101"/>
                </a:lnTo>
                <a:lnTo>
                  <a:pt x="1168" y="25"/>
                </a:lnTo>
                <a:lnTo>
                  <a:pt x="1012" y="25"/>
                </a:lnTo>
                <a:lnTo>
                  <a:pt x="923" y="66"/>
                </a:lnTo>
                <a:lnTo>
                  <a:pt x="760" y="66"/>
                </a:lnTo>
                <a:lnTo>
                  <a:pt x="724" y="25"/>
                </a:lnTo>
                <a:lnTo>
                  <a:pt x="654" y="33"/>
                </a:lnTo>
                <a:lnTo>
                  <a:pt x="515" y="0"/>
                </a:lnTo>
                <a:lnTo>
                  <a:pt x="368" y="91"/>
                </a:lnTo>
                <a:lnTo>
                  <a:pt x="316" y="41"/>
                </a:lnTo>
                <a:lnTo>
                  <a:pt x="264" y="41"/>
                </a:lnTo>
                <a:lnTo>
                  <a:pt x="186" y="75"/>
                </a:lnTo>
                <a:lnTo>
                  <a:pt x="142" y="33"/>
                </a:lnTo>
                <a:lnTo>
                  <a:pt x="107" y="33"/>
                </a:lnTo>
                <a:lnTo>
                  <a:pt x="30" y="75"/>
                </a:lnTo>
                <a:lnTo>
                  <a:pt x="0" y="103"/>
                </a:lnTo>
                <a:lnTo>
                  <a:pt x="0" y="1608"/>
                </a:lnTo>
                <a:lnTo>
                  <a:pt x="1715" y="1624"/>
                </a:lnTo>
                <a:lnTo>
                  <a:pt x="1714" y="1608"/>
                </a:lnTo>
                <a:lnTo>
                  <a:pt x="1714" y="160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6280" y="3797280"/>
            <a:ext cx="4808520" cy="3975120"/>
          </a:xfrm>
          <a:custGeom>
            <a:avLst/>
            <a:gdLst/>
            <a:ahLst/>
            <a:rect l="l" t="t" r="r" b="b"/>
            <a:pathLst>
              <a:path w="3029" h="2503">
                <a:moveTo>
                  <a:pt x="260" y="557"/>
                </a:moveTo>
                <a:lnTo>
                  <a:pt x="123" y="763"/>
                </a:lnTo>
                <a:lnTo>
                  <a:pt x="38" y="971"/>
                </a:lnTo>
                <a:lnTo>
                  <a:pt x="0" y="1178"/>
                </a:lnTo>
                <a:lnTo>
                  <a:pt x="8" y="1380"/>
                </a:lnTo>
                <a:lnTo>
                  <a:pt x="54" y="1577"/>
                </a:lnTo>
                <a:lnTo>
                  <a:pt x="138" y="1762"/>
                </a:lnTo>
                <a:lnTo>
                  <a:pt x="256" y="1934"/>
                </a:lnTo>
                <a:lnTo>
                  <a:pt x="405" y="2088"/>
                </a:lnTo>
                <a:lnTo>
                  <a:pt x="578" y="2224"/>
                </a:lnTo>
                <a:lnTo>
                  <a:pt x="776" y="2336"/>
                </a:lnTo>
                <a:lnTo>
                  <a:pt x="992" y="2422"/>
                </a:lnTo>
                <a:lnTo>
                  <a:pt x="1224" y="2477"/>
                </a:lnTo>
                <a:lnTo>
                  <a:pt x="1468" y="2502"/>
                </a:lnTo>
                <a:lnTo>
                  <a:pt x="1721" y="2490"/>
                </a:lnTo>
                <a:lnTo>
                  <a:pt x="1979" y="2438"/>
                </a:lnTo>
                <a:lnTo>
                  <a:pt x="2240" y="2344"/>
                </a:lnTo>
                <a:lnTo>
                  <a:pt x="2476" y="2216"/>
                </a:lnTo>
                <a:lnTo>
                  <a:pt x="2668" y="2065"/>
                </a:lnTo>
                <a:lnTo>
                  <a:pt x="2818" y="1897"/>
                </a:lnTo>
                <a:lnTo>
                  <a:pt x="2928" y="1715"/>
                </a:lnTo>
                <a:lnTo>
                  <a:pt x="2996" y="1524"/>
                </a:lnTo>
                <a:lnTo>
                  <a:pt x="3028" y="1327"/>
                </a:lnTo>
                <a:lnTo>
                  <a:pt x="3022" y="1129"/>
                </a:lnTo>
                <a:lnTo>
                  <a:pt x="2980" y="935"/>
                </a:lnTo>
                <a:lnTo>
                  <a:pt x="2902" y="749"/>
                </a:lnTo>
                <a:lnTo>
                  <a:pt x="2792" y="573"/>
                </a:lnTo>
                <a:lnTo>
                  <a:pt x="2650" y="414"/>
                </a:lnTo>
                <a:lnTo>
                  <a:pt x="2477" y="274"/>
                </a:lnTo>
                <a:lnTo>
                  <a:pt x="2274" y="160"/>
                </a:lnTo>
                <a:lnTo>
                  <a:pt x="2045" y="72"/>
                </a:lnTo>
                <a:lnTo>
                  <a:pt x="1788" y="19"/>
                </a:lnTo>
                <a:lnTo>
                  <a:pt x="15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79880" y="3428280"/>
            <a:ext cx="4259160" cy="1941480"/>
          </a:xfrm>
          <a:prstGeom prst="wedgeRoundRectCallout">
            <a:avLst>
              <a:gd name="adj1" fmla="val -78875"/>
              <a:gd name="adj2" fmla="val -90023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so “Standard” ,  pero con fuerte supuestos sobre dibisibilidad y sua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566720" y="3061440"/>
            <a:ext cx="5105520" cy="1941480"/>
          </a:xfrm>
          <a:prstGeom prst="wedgeRoundRectCallout">
            <a:avLst>
              <a:gd name="adj1" fmla="val -57648"/>
              <a:gd name="adj2" fmla="val -111620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si es un caso convencional: las mezclas pueden ser tan buenas como una sol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87800" y="2798640"/>
            <a:ext cx="4260600" cy="1481040"/>
          </a:xfrm>
          <a:prstGeom prst="wedgeRoundRectCallout">
            <a:avLst>
              <a:gd name="adj1" fmla="val -56629"/>
              <a:gd name="adj2" fmla="val 101736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so problemático: la curvatura representa una indivi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40320" y="3516480"/>
            <a:ext cx="4808520" cy="3973320"/>
          </a:xfrm>
          <a:custGeom>
            <a:avLst/>
            <a:gdLst/>
            <a:ahLst/>
            <a:rect l="l" t="t" r="r" b="b"/>
            <a:pathLst>
              <a:path w="3029" h="2503">
                <a:moveTo>
                  <a:pt x="260" y="557"/>
                </a:moveTo>
                <a:lnTo>
                  <a:pt x="123" y="763"/>
                </a:lnTo>
                <a:lnTo>
                  <a:pt x="38" y="971"/>
                </a:lnTo>
                <a:lnTo>
                  <a:pt x="0" y="1178"/>
                </a:lnTo>
                <a:lnTo>
                  <a:pt x="8" y="1380"/>
                </a:lnTo>
                <a:lnTo>
                  <a:pt x="54" y="1577"/>
                </a:lnTo>
                <a:lnTo>
                  <a:pt x="138" y="1762"/>
                </a:lnTo>
                <a:lnTo>
                  <a:pt x="256" y="1934"/>
                </a:lnTo>
                <a:lnTo>
                  <a:pt x="405" y="2088"/>
                </a:lnTo>
                <a:lnTo>
                  <a:pt x="578" y="2224"/>
                </a:lnTo>
                <a:lnTo>
                  <a:pt x="776" y="2336"/>
                </a:lnTo>
                <a:lnTo>
                  <a:pt x="992" y="2422"/>
                </a:lnTo>
                <a:lnTo>
                  <a:pt x="1224" y="2477"/>
                </a:lnTo>
                <a:lnTo>
                  <a:pt x="1468" y="2502"/>
                </a:lnTo>
                <a:lnTo>
                  <a:pt x="1721" y="2490"/>
                </a:lnTo>
                <a:lnTo>
                  <a:pt x="1979" y="2438"/>
                </a:lnTo>
                <a:lnTo>
                  <a:pt x="2240" y="2344"/>
                </a:lnTo>
                <a:lnTo>
                  <a:pt x="2476" y="2216"/>
                </a:lnTo>
                <a:lnTo>
                  <a:pt x="2668" y="2065"/>
                </a:lnTo>
                <a:lnTo>
                  <a:pt x="2818" y="1897"/>
                </a:lnTo>
                <a:lnTo>
                  <a:pt x="2928" y="1715"/>
                </a:lnTo>
                <a:lnTo>
                  <a:pt x="2996" y="1524"/>
                </a:lnTo>
                <a:lnTo>
                  <a:pt x="3028" y="1327"/>
                </a:lnTo>
                <a:lnTo>
                  <a:pt x="3022" y="1129"/>
                </a:lnTo>
                <a:lnTo>
                  <a:pt x="2980" y="935"/>
                </a:lnTo>
                <a:lnTo>
                  <a:pt x="2902" y="749"/>
                </a:lnTo>
                <a:lnTo>
                  <a:pt x="2792" y="573"/>
                </a:lnTo>
                <a:lnTo>
                  <a:pt x="2650" y="414"/>
                </a:lnTo>
                <a:lnTo>
                  <a:pt x="2477" y="274"/>
                </a:lnTo>
                <a:lnTo>
                  <a:pt x="2274" y="160"/>
                </a:lnTo>
                <a:lnTo>
                  <a:pt x="2045" y="72"/>
                </a:lnTo>
                <a:lnTo>
                  <a:pt x="1788" y="19"/>
                </a:lnTo>
                <a:lnTo>
                  <a:pt x="15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721880" y="3282120"/>
            <a:ext cx="5103720" cy="1020600"/>
          </a:xfrm>
          <a:prstGeom prst="wedgeRoundRectCallout">
            <a:avLst>
              <a:gd name="adj1" fmla="val -51018"/>
              <a:gd name="adj2" fmla="val 105782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so inusual: solo un punto es eficiente y no su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01680" y="732960"/>
            <a:ext cx="9453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función de producción:  Concep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94320" y="2682720"/>
            <a:ext cx="132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39520" y="4510080"/>
            <a:ext cx="174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2280" y="5840280"/>
            <a:ext cx="2036880" cy="1222560"/>
            <a:chOff x="152280" y="5840280"/>
            <a:chExt cx="2036880" cy="1222560"/>
          </a:xfrm>
        </p:grpSpPr>
        <p:sp>
          <p:nvSpPr>
            <p:cNvPr id="491" name=""/>
            <p:cNvSpPr/>
            <p:nvPr/>
          </p:nvSpPr>
          <p:spPr>
            <a:xfrm>
              <a:off x="152280" y="5869080"/>
              <a:ext cx="2036880" cy="1193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6920" y="5840280"/>
              <a:ext cx="19810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Conjuntos de insumos requerido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209680" y="5867280"/>
            <a:ext cx="2411640" cy="1195560"/>
            <a:chOff x="2209680" y="5867280"/>
            <a:chExt cx="2411640" cy="1195560"/>
          </a:xfrm>
        </p:grpSpPr>
        <p:sp>
          <p:nvSpPr>
            <p:cNvPr id="494" name=""/>
            <p:cNvSpPr/>
            <p:nvPr/>
          </p:nvSpPr>
          <p:spPr>
            <a:xfrm>
              <a:off x="2362320" y="5867280"/>
              <a:ext cx="2036520" cy="1195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9680" y="6222960"/>
              <a:ext cx="2411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Isocuanta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668840" y="586728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21120" y="6051600"/>
            <a:ext cx="1771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oducto marg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85800" y="5315040"/>
            <a:ext cx="4539960" cy="552240"/>
            <a:chOff x="685800" y="5315040"/>
            <a:chExt cx="4539960" cy="552240"/>
          </a:xfrm>
        </p:grpSpPr>
        <p:sp>
          <p:nvSpPr>
            <p:cNvPr id="499" name=""/>
            <p:cNvSpPr/>
            <p:nvPr/>
          </p:nvSpPr>
          <p:spPr>
            <a:xfrm>
              <a:off x="183672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541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243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3672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541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507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124080" y="4087800"/>
            <a:ext cx="6553440" cy="1219320"/>
            <a:chOff x="3124080" y="4087800"/>
            <a:chExt cx="6553440" cy="1219320"/>
          </a:xfrm>
        </p:grpSpPr>
        <p:sp>
          <p:nvSpPr>
            <p:cNvPr id="517" name=""/>
            <p:cNvSpPr/>
            <p:nvPr/>
          </p:nvSpPr>
          <p:spPr>
            <a:xfrm>
              <a:off x="3124080" y="4091040"/>
              <a:ext cx="2036880" cy="119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4120" y="4089240"/>
              <a:ext cx="203652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09760" y="4264200"/>
              <a:ext cx="186084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Optimiza-ció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40640" y="4089240"/>
              <a:ext cx="203688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43400" y="4300560"/>
              <a:ext cx="216720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Estática comparativa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13520" y="4087800"/>
              <a:ext cx="1528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La Firma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y el mercad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49400" y="5843520"/>
            <a:ext cx="6553080" cy="1220760"/>
            <a:chOff x="149400" y="5843520"/>
            <a:chExt cx="6553080" cy="1220760"/>
          </a:xfrm>
        </p:grpSpPr>
        <p:grpSp>
          <p:nvGrpSpPr>
            <p:cNvPr id="524" name=""/>
            <p:cNvGrpSpPr/>
            <p:nvPr/>
          </p:nvGrpSpPr>
          <p:grpSpPr>
            <a:xfrm>
              <a:off x="4665960" y="5870520"/>
              <a:ext cx="2036520" cy="1193760"/>
              <a:chOff x="4665960" y="5870520"/>
              <a:chExt cx="2036520" cy="1193760"/>
            </a:xfrm>
          </p:grpSpPr>
          <p:sp>
            <p:nvSpPr>
              <p:cNvPr id="525" name=""/>
              <p:cNvSpPr/>
              <p:nvPr/>
            </p:nvSpPr>
            <p:spPr>
              <a:xfrm>
                <a:off x="4665960" y="5870520"/>
                <a:ext cx="2036520" cy="11937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18240" y="6033960"/>
                <a:ext cx="17715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000000"/>
                    </a:solidFill>
                    <a:latin typeface="Arial"/>
                  </a:rPr>
                  <a:t>Produc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49400" y="5843520"/>
              <a:ext cx="2036880" cy="1220760"/>
              <a:chOff x="149400" y="5843520"/>
              <a:chExt cx="2036880" cy="1220760"/>
            </a:xfrm>
          </p:grpSpPr>
          <p:sp>
            <p:nvSpPr>
              <p:cNvPr id="528" name=""/>
              <p:cNvSpPr/>
              <p:nvPr/>
            </p:nvSpPr>
            <p:spPr>
              <a:xfrm>
                <a:off x="149400" y="5870520"/>
                <a:ext cx="2036880" cy="11937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4040" y="5843520"/>
                <a:ext cx="198108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000000"/>
                    </a:solidFill>
                    <a:latin typeface="Arial"/>
                  </a:rPr>
                  <a:t>Conjuntos de insumos requerido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2209680" y="5410080"/>
            <a:ext cx="2484720" cy="20606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87320" y="1201680"/>
            <a:ext cx="8534520" cy="289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2200" y="-97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socuant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205000" y="4430880"/>
            <a:ext cx="5673600" cy="1217520"/>
            <a:chOff x="2205000" y="4430880"/>
            <a:chExt cx="5673600" cy="1217520"/>
          </a:xfrm>
        </p:grpSpPr>
        <p:sp>
          <p:nvSpPr>
            <p:cNvPr id="534" name=""/>
            <p:cNvSpPr/>
            <p:nvPr/>
          </p:nvSpPr>
          <p:spPr>
            <a:xfrm flipV="1">
              <a:off x="2205000" y="4430520"/>
              <a:ext cx="5365800" cy="1217520"/>
            </a:xfrm>
            <a:prstGeom prst="roundRect">
              <a:avLst>
                <a:gd name="adj" fmla="val 7727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65360" y="4503960"/>
              <a:ext cx="53132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{ </a:t>
              </a:r>
              <a:r>
                <a:rPr b="1" lang="en-US" sz="62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: 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6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) = </a:t>
              </a: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Q 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417680" y="5932440"/>
            <a:ext cx="70070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Esta es la isocuanta. Veamos su forma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60480" y="1351080"/>
            <a:ext cx="84265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legir un nivel de producto “</a:t>
            </a:r>
            <a:r>
              <a:rPr b="0" i="1" lang="en-GB" sz="3300" spc="-1" strike="noStrike">
                <a:solidFill>
                  <a:srgbClr val="000000"/>
                </a:solidFill>
                <a:latin typeface="Arial"/>
              </a:rPr>
              <a:t>Q”</a:t>
            </a:r>
            <a:br>
              <a:rPr sz="3300"/>
            </a:br>
            <a:r>
              <a:rPr b="0" i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60480" y="2168640"/>
            <a:ext cx="84265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contrar el conjunto de insumos requerido </a:t>
            </a:r>
            <a:r>
              <a:rPr b="0" i="1" lang="en-GB" sz="3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3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60480" y="3352680"/>
            <a:ext cx="842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bujar la frontera de este conjunt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isocuanta es la frontera de “Z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49720" y="2119320"/>
            <a:ext cx="4975200" cy="3841920"/>
          </a:xfrm>
          <a:custGeom>
            <a:avLst/>
            <a:gdLst/>
            <a:ahLst/>
            <a:rect l="l" t="t" r="r" b="b"/>
            <a:pathLst>
              <a:path w="3134" h="2420">
                <a:moveTo>
                  <a:pt x="2349" y="2403"/>
                </a:moveTo>
                <a:lnTo>
                  <a:pt x="2349" y="2410"/>
                </a:lnTo>
                <a:lnTo>
                  <a:pt x="2378" y="2330"/>
                </a:lnTo>
                <a:lnTo>
                  <a:pt x="2436" y="2243"/>
                </a:lnTo>
                <a:lnTo>
                  <a:pt x="2552" y="2373"/>
                </a:lnTo>
                <a:lnTo>
                  <a:pt x="2618" y="2119"/>
                </a:lnTo>
                <a:lnTo>
                  <a:pt x="2705" y="2105"/>
                </a:lnTo>
                <a:lnTo>
                  <a:pt x="2719" y="1829"/>
                </a:lnTo>
                <a:lnTo>
                  <a:pt x="2952" y="1677"/>
                </a:lnTo>
                <a:lnTo>
                  <a:pt x="3111" y="1560"/>
                </a:lnTo>
                <a:lnTo>
                  <a:pt x="3133" y="1292"/>
                </a:lnTo>
                <a:lnTo>
                  <a:pt x="3017" y="1074"/>
                </a:lnTo>
                <a:lnTo>
                  <a:pt x="3010" y="784"/>
                </a:lnTo>
                <a:lnTo>
                  <a:pt x="2792" y="588"/>
                </a:lnTo>
                <a:lnTo>
                  <a:pt x="2473" y="153"/>
                </a:lnTo>
                <a:lnTo>
                  <a:pt x="2291" y="0"/>
                </a:lnTo>
                <a:lnTo>
                  <a:pt x="2182" y="196"/>
                </a:lnTo>
                <a:lnTo>
                  <a:pt x="1608" y="217"/>
                </a:lnTo>
                <a:lnTo>
                  <a:pt x="1057" y="232"/>
                </a:lnTo>
                <a:lnTo>
                  <a:pt x="926" y="297"/>
                </a:lnTo>
                <a:lnTo>
                  <a:pt x="788" y="399"/>
                </a:lnTo>
                <a:lnTo>
                  <a:pt x="476" y="349"/>
                </a:lnTo>
                <a:lnTo>
                  <a:pt x="265" y="370"/>
                </a:lnTo>
                <a:lnTo>
                  <a:pt x="134" y="537"/>
                </a:lnTo>
                <a:lnTo>
                  <a:pt x="4" y="856"/>
                </a:lnTo>
                <a:lnTo>
                  <a:pt x="0" y="856"/>
                </a:lnTo>
                <a:lnTo>
                  <a:pt x="13" y="887"/>
                </a:lnTo>
                <a:lnTo>
                  <a:pt x="23" y="913"/>
                </a:lnTo>
                <a:lnTo>
                  <a:pt x="31" y="933"/>
                </a:lnTo>
                <a:lnTo>
                  <a:pt x="38" y="947"/>
                </a:lnTo>
                <a:lnTo>
                  <a:pt x="43" y="961"/>
                </a:lnTo>
                <a:lnTo>
                  <a:pt x="47" y="969"/>
                </a:lnTo>
                <a:lnTo>
                  <a:pt x="49" y="975"/>
                </a:lnTo>
                <a:lnTo>
                  <a:pt x="53" y="979"/>
                </a:lnTo>
                <a:lnTo>
                  <a:pt x="53" y="984"/>
                </a:lnTo>
                <a:lnTo>
                  <a:pt x="55" y="987"/>
                </a:lnTo>
                <a:lnTo>
                  <a:pt x="57" y="991"/>
                </a:lnTo>
                <a:lnTo>
                  <a:pt x="59" y="994"/>
                </a:lnTo>
                <a:lnTo>
                  <a:pt x="61" y="1001"/>
                </a:lnTo>
                <a:lnTo>
                  <a:pt x="65" y="1009"/>
                </a:lnTo>
                <a:lnTo>
                  <a:pt x="70" y="1021"/>
                </a:lnTo>
                <a:lnTo>
                  <a:pt x="77" y="1034"/>
                </a:lnTo>
                <a:lnTo>
                  <a:pt x="84" y="1053"/>
                </a:lnTo>
                <a:lnTo>
                  <a:pt x="95" y="1073"/>
                </a:lnTo>
                <a:lnTo>
                  <a:pt x="107" y="1096"/>
                </a:lnTo>
                <a:lnTo>
                  <a:pt x="122" y="1120"/>
                </a:lnTo>
                <a:lnTo>
                  <a:pt x="137" y="1146"/>
                </a:lnTo>
                <a:lnTo>
                  <a:pt x="154" y="1172"/>
                </a:lnTo>
                <a:lnTo>
                  <a:pt x="172" y="1200"/>
                </a:lnTo>
                <a:lnTo>
                  <a:pt x="193" y="1228"/>
                </a:lnTo>
                <a:lnTo>
                  <a:pt x="213" y="1257"/>
                </a:lnTo>
                <a:lnTo>
                  <a:pt x="233" y="1285"/>
                </a:lnTo>
                <a:lnTo>
                  <a:pt x="254" y="1313"/>
                </a:lnTo>
                <a:lnTo>
                  <a:pt x="277" y="1341"/>
                </a:lnTo>
                <a:lnTo>
                  <a:pt x="297" y="1367"/>
                </a:lnTo>
                <a:lnTo>
                  <a:pt x="319" y="1393"/>
                </a:lnTo>
                <a:lnTo>
                  <a:pt x="340" y="1417"/>
                </a:lnTo>
                <a:lnTo>
                  <a:pt x="360" y="1438"/>
                </a:lnTo>
                <a:lnTo>
                  <a:pt x="381" y="1461"/>
                </a:lnTo>
                <a:lnTo>
                  <a:pt x="406" y="1486"/>
                </a:lnTo>
                <a:lnTo>
                  <a:pt x="434" y="1513"/>
                </a:lnTo>
                <a:lnTo>
                  <a:pt x="466" y="1541"/>
                </a:lnTo>
                <a:lnTo>
                  <a:pt x="499" y="1571"/>
                </a:lnTo>
                <a:lnTo>
                  <a:pt x="535" y="1601"/>
                </a:lnTo>
                <a:lnTo>
                  <a:pt x="573" y="1633"/>
                </a:lnTo>
                <a:lnTo>
                  <a:pt x="612" y="1663"/>
                </a:lnTo>
                <a:lnTo>
                  <a:pt x="652" y="1695"/>
                </a:lnTo>
                <a:lnTo>
                  <a:pt x="692" y="1726"/>
                </a:lnTo>
                <a:lnTo>
                  <a:pt x="731" y="1755"/>
                </a:lnTo>
                <a:lnTo>
                  <a:pt x="773" y="1785"/>
                </a:lnTo>
                <a:lnTo>
                  <a:pt x="811" y="1814"/>
                </a:lnTo>
                <a:lnTo>
                  <a:pt x="850" y="1839"/>
                </a:lnTo>
                <a:lnTo>
                  <a:pt x="886" y="1864"/>
                </a:lnTo>
                <a:lnTo>
                  <a:pt x="921" y="1885"/>
                </a:lnTo>
                <a:lnTo>
                  <a:pt x="956" y="1907"/>
                </a:lnTo>
                <a:lnTo>
                  <a:pt x="998" y="1930"/>
                </a:lnTo>
                <a:lnTo>
                  <a:pt x="1044" y="1955"/>
                </a:lnTo>
                <a:lnTo>
                  <a:pt x="1096" y="1980"/>
                </a:lnTo>
                <a:lnTo>
                  <a:pt x="1149" y="2007"/>
                </a:lnTo>
                <a:lnTo>
                  <a:pt x="1207" y="2033"/>
                </a:lnTo>
                <a:lnTo>
                  <a:pt x="1267" y="2060"/>
                </a:lnTo>
                <a:lnTo>
                  <a:pt x="1329" y="2086"/>
                </a:lnTo>
                <a:lnTo>
                  <a:pt x="1391" y="2113"/>
                </a:lnTo>
                <a:lnTo>
                  <a:pt x="1454" y="2139"/>
                </a:lnTo>
                <a:lnTo>
                  <a:pt x="1517" y="2164"/>
                </a:lnTo>
                <a:lnTo>
                  <a:pt x="1579" y="2187"/>
                </a:lnTo>
                <a:lnTo>
                  <a:pt x="1639" y="2210"/>
                </a:lnTo>
                <a:lnTo>
                  <a:pt x="1697" y="2230"/>
                </a:lnTo>
                <a:lnTo>
                  <a:pt x="1752" y="2248"/>
                </a:lnTo>
                <a:lnTo>
                  <a:pt x="1804" y="2263"/>
                </a:lnTo>
                <a:lnTo>
                  <a:pt x="1847" y="2277"/>
                </a:lnTo>
                <a:lnTo>
                  <a:pt x="1880" y="2286"/>
                </a:lnTo>
                <a:lnTo>
                  <a:pt x="1904" y="2293"/>
                </a:lnTo>
                <a:lnTo>
                  <a:pt x="1923" y="2299"/>
                </a:lnTo>
                <a:lnTo>
                  <a:pt x="1936" y="2303"/>
                </a:lnTo>
                <a:lnTo>
                  <a:pt x="1947" y="2305"/>
                </a:lnTo>
                <a:lnTo>
                  <a:pt x="1957" y="2309"/>
                </a:lnTo>
                <a:lnTo>
                  <a:pt x="1969" y="2311"/>
                </a:lnTo>
                <a:lnTo>
                  <a:pt x="1983" y="2317"/>
                </a:lnTo>
                <a:lnTo>
                  <a:pt x="2002" y="2322"/>
                </a:lnTo>
                <a:lnTo>
                  <a:pt x="2028" y="2330"/>
                </a:lnTo>
                <a:lnTo>
                  <a:pt x="2064" y="2340"/>
                </a:lnTo>
                <a:lnTo>
                  <a:pt x="2109" y="2355"/>
                </a:lnTo>
                <a:lnTo>
                  <a:pt x="2168" y="2372"/>
                </a:lnTo>
                <a:lnTo>
                  <a:pt x="2241" y="2394"/>
                </a:lnTo>
                <a:lnTo>
                  <a:pt x="2333" y="2419"/>
                </a:lnTo>
                <a:lnTo>
                  <a:pt x="2349" y="2403"/>
                </a:lnTo>
                <a:lnTo>
                  <a:pt x="2349" y="240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936880" y="2093400"/>
            <a:ext cx="0" cy="44643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36880" y="6558120"/>
            <a:ext cx="475632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49720" y="3478320"/>
            <a:ext cx="3705120" cy="2482920"/>
          </a:xfrm>
          <a:custGeom>
            <a:avLst/>
            <a:gdLst/>
            <a:ahLst/>
            <a:rect l="l" t="t" r="r" b="b"/>
            <a:pathLst>
              <a:path w="2334" h="1564">
                <a:moveTo>
                  <a:pt x="0" y="0"/>
                </a:moveTo>
                <a:lnTo>
                  <a:pt x="13" y="31"/>
                </a:lnTo>
                <a:lnTo>
                  <a:pt x="23" y="57"/>
                </a:lnTo>
                <a:lnTo>
                  <a:pt x="31" y="77"/>
                </a:lnTo>
                <a:lnTo>
                  <a:pt x="38" y="91"/>
                </a:lnTo>
                <a:lnTo>
                  <a:pt x="43" y="105"/>
                </a:lnTo>
                <a:lnTo>
                  <a:pt x="47" y="113"/>
                </a:lnTo>
                <a:lnTo>
                  <a:pt x="49" y="119"/>
                </a:lnTo>
                <a:lnTo>
                  <a:pt x="53" y="123"/>
                </a:lnTo>
                <a:lnTo>
                  <a:pt x="53" y="128"/>
                </a:lnTo>
                <a:lnTo>
                  <a:pt x="55" y="131"/>
                </a:lnTo>
                <a:lnTo>
                  <a:pt x="57" y="135"/>
                </a:lnTo>
                <a:lnTo>
                  <a:pt x="59" y="138"/>
                </a:lnTo>
                <a:lnTo>
                  <a:pt x="61" y="145"/>
                </a:lnTo>
                <a:lnTo>
                  <a:pt x="65" y="153"/>
                </a:lnTo>
                <a:lnTo>
                  <a:pt x="70" y="165"/>
                </a:lnTo>
                <a:lnTo>
                  <a:pt x="77" y="178"/>
                </a:lnTo>
                <a:lnTo>
                  <a:pt x="84" y="197"/>
                </a:lnTo>
                <a:lnTo>
                  <a:pt x="95" y="217"/>
                </a:lnTo>
                <a:lnTo>
                  <a:pt x="107" y="240"/>
                </a:lnTo>
                <a:lnTo>
                  <a:pt x="122" y="264"/>
                </a:lnTo>
                <a:lnTo>
                  <a:pt x="137" y="290"/>
                </a:lnTo>
                <a:lnTo>
                  <a:pt x="154" y="316"/>
                </a:lnTo>
                <a:lnTo>
                  <a:pt x="172" y="344"/>
                </a:lnTo>
                <a:lnTo>
                  <a:pt x="193" y="372"/>
                </a:lnTo>
                <a:lnTo>
                  <a:pt x="213" y="401"/>
                </a:lnTo>
                <a:lnTo>
                  <a:pt x="233" y="429"/>
                </a:lnTo>
                <a:lnTo>
                  <a:pt x="254" y="457"/>
                </a:lnTo>
                <a:lnTo>
                  <a:pt x="277" y="485"/>
                </a:lnTo>
                <a:lnTo>
                  <a:pt x="297" y="511"/>
                </a:lnTo>
                <a:lnTo>
                  <a:pt x="319" y="537"/>
                </a:lnTo>
                <a:lnTo>
                  <a:pt x="340" y="561"/>
                </a:lnTo>
                <a:lnTo>
                  <a:pt x="360" y="582"/>
                </a:lnTo>
                <a:lnTo>
                  <a:pt x="381" y="605"/>
                </a:lnTo>
                <a:lnTo>
                  <a:pt x="406" y="630"/>
                </a:lnTo>
                <a:lnTo>
                  <a:pt x="434" y="657"/>
                </a:lnTo>
                <a:lnTo>
                  <a:pt x="466" y="685"/>
                </a:lnTo>
                <a:lnTo>
                  <a:pt x="499" y="715"/>
                </a:lnTo>
                <a:lnTo>
                  <a:pt x="535" y="745"/>
                </a:lnTo>
                <a:lnTo>
                  <a:pt x="573" y="777"/>
                </a:lnTo>
                <a:lnTo>
                  <a:pt x="612" y="807"/>
                </a:lnTo>
                <a:lnTo>
                  <a:pt x="652" y="839"/>
                </a:lnTo>
                <a:lnTo>
                  <a:pt x="692" y="870"/>
                </a:lnTo>
                <a:lnTo>
                  <a:pt x="731" y="899"/>
                </a:lnTo>
                <a:lnTo>
                  <a:pt x="773" y="929"/>
                </a:lnTo>
                <a:lnTo>
                  <a:pt x="811" y="958"/>
                </a:lnTo>
                <a:lnTo>
                  <a:pt x="850" y="983"/>
                </a:lnTo>
                <a:lnTo>
                  <a:pt x="886" y="1008"/>
                </a:lnTo>
                <a:lnTo>
                  <a:pt x="921" y="1029"/>
                </a:lnTo>
                <a:lnTo>
                  <a:pt x="956" y="1051"/>
                </a:lnTo>
                <a:lnTo>
                  <a:pt x="998" y="1074"/>
                </a:lnTo>
                <a:lnTo>
                  <a:pt x="1044" y="1099"/>
                </a:lnTo>
                <a:lnTo>
                  <a:pt x="1096" y="1124"/>
                </a:lnTo>
                <a:lnTo>
                  <a:pt x="1149" y="1151"/>
                </a:lnTo>
                <a:lnTo>
                  <a:pt x="1207" y="1177"/>
                </a:lnTo>
                <a:lnTo>
                  <a:pt x="1267" y="1204"/>
                </a:lnTo>
                <a:lnTo>
                  <a:pt x="1329" y="1230"/>
                </a:lnTo>
                <a:lnTo>
                  <a:pt x="1391" y="1257"/>
                </a:lnTo>
                <a:lnTo>
                  <a:pt x="1454" y="1283"/>
                </a:lnTo>
                <a:lnTo>
                  <a:pt x="1517" y="1308"/>
                </a:lnTo>
                <a:lnTo>
                  <a:pt x="1579" y="1331"/>
                </a:lnTo>
                <a:lnTo>
                  <a:pt x="1639" y="1354"/>
                </a:lnTo>
                <a:lnTo>
                  <a:pt x="1697" y="1374"/>
                </a:lnTo>
                <a:lnTo>
                  <a:pt x="1752" y="1392"/>
                </a:lnTo>
                <a:lnTo>
                  <a:pt x="1804" y="1407"/>
                </a:lnTo>
                <a:lnTo>
                  <a:pt x="1847" y="1421"/>
                </a:lnTo>
                <a:lnTo>
                  <a:pt x="1880" y="1430"/>
                </a:lnTo>
                <a:lnTo>
                  <a:pt x="1904" y="1437"/>
                </a:lnTo>
                <a:lnTo>
                  <a:pt x="1923" y="1443"/>
                </a:lnTo>
                <a:lnTo>
                  <a:pt x="1936" y="1447"/>
                </a:lnTo>
                <a:lnTo>
                  <a:pt x="1947" y="1449"/>
                </a:lnTo>
                <a:lnTo>
                  <a:pt x="1957" y="1453"/>
                </a:lnTo>
                <a:lnTo>
                  <a:pt x="1969" y="1455"/>
                </a:lnTo>
                <a:lnTo>
                  <a:pt x="1983" y="1461"/>
                </a:lnTo>
                <a:lnTo>
                  <a:pt x="2002" y="1466"/>
                </a:lnTo>
                <a:lnTo>
                  <a:pt x="2028" y="1474"/>
                </a:lnTo>
                <a:lnTo>
                  <a:pt x="2064" y="1484"/>
                </a:lnTo>
                <a:lnTo>
                  <a:pt x="2109" y="1499"/>
                </a:lnTo>
                <a:lnTo>
                  <a:pt x="2168" y="1516"/>
                </a:lnTo>
                <a:lnTo>
                  <a:pt x="2241" y="1538"/>
                </a:lnTo>
                <a:lnTo>
                  <a:pt x="2333" y="1563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05720" y="4815000"/>
            <a:ext cx="2741400" cy="914400"/>
            <a:chOff x="6705720" y="4815000"/>
            <a:chExt cx="2741400" cy="914400"/>
          </a:xfrm>
        </p:grpSpPr>
        <p:sp>
          <p:nvSpPr>
            <p:cNvPr id="546" name=""/>
            <p:cNvSpPr/>
            <p:nvPr/>
          </p:nvSpPr>
          <p:spPr>
            <a:xfrm>
              <a:off x="6705720" y="4815000"/>
              <a:ext cx="2741400" cy="914400"/>
            </a:xfrm>
            <a:prstGeom prst="wedgeRoundRectCallout">
              <a:avLst>
                <a:gd name="adj1" fmla="val -45138"/>
                <a:gd name="adj2" fmla="val 63370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07160" y="5043600"/>
              <a:ext cx="2725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{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z :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)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Q 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037040" y="4410000"/>
            <a:ext cx="711000" cy="476280"/>
            <a:chOff x="4037040" y="4410000"/>
            <a:chExt cx="711000" cy="476280"/>
          </a:xfrm>
        </p:grpSpPr>
        <p:sp>
          <p:nvSpPr>
            <p:cNvPr id="549" name=""/>
            <p:cNvSpPr/>
            <p:nvPr/>
          </p:nvSpPr>
          <p:spPr>
            <a:xfrm>
              <a:off x="4037040" y="4626000"/>
              <a:ext cx="209520" cy="173160"/>
            </a:xfrm>
            <a:prstGeom prst="ellipse">
              <a:avLst/>
            </a:prstGeom>
            <a:solidFill>
              <a:srgbClr val="c20000"/>
            </a:solidFill>
            <a:ln w="1908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62560" y="4410000"/>
              <a:ext cx="2854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89440" y="6808680"/>
            <a:ext cx="355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8440" y="4862520"/>
            <a:ext cx="3709800" cy="2007720"/>
            <a:chOff x="28440" y="4862520"/>
            <a:chExt cx="3709800" cy="2007720"/>
          </a:xfrm>
        </p:grpSpPr>
        <p:sp>
          <p:nvSpPr>
            <p:cNvPr id="553" name=""/>
            <p:cNvSpPr/>
            <p:nvPr/>
          </p:nvSpPr>
          <p:spPr>
            <a:xfrm>
              <a:off x="28440" y="5581440"/>
              <a:ext cx="2811960" cy="1288800"/>
            </a:xfrm>
            <a:prstGeom prst="ellipse">
              <a:avLst/>
            </a:prstGeom>
            <a:solidFill>
              <a:srgbClr val="ffffc2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insumos requerido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para producir 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82360" y="6650640"/>
              <a:ext cx="1055880" cy="19440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01040" y="4862520"/>
              <a:ext cx="371880" cy="80496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971440" y="4724280"/>
            <a:ext cx="1219320" cy="1828800"/>
            <a:chOff x="2971440" y="4724280"/>
            <a:chExt cx="1219320" cy="1828800"/>
          </a:xfrm>
        </p:grpSpPr>
        <p:sp>
          <p:nvSpPr>
            <p:cNvPr id="557" name=""/>
            <p:cNvSpPr/>
            <p:nvPr/>
          </p:nvSpPr>
          <p:spPr>
            <a:xfrm flipV="1">
              <a:off x="4152960" y="4724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971440" y="4724280"/>
              <a:ext cx="1219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4480" y="792000"/>
            <a:ext cx="9453240" cy="11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isocuanta que pasa por “A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71760" y="4535640"/>
            <a:ext cx="353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43800" y="4813200"/>
            <a:ext cx="3352680" cy="993960"/>
          </a:xfrm>
          <a:prstGeom prst="wedgeRoundRectCallout">
            <a:avLst>
              <a:gd name="adj1" fmla="val -46023"/>
              <a:gd name="adj2" fmla="val 54314"/>
              <a:gd name="adj3" fmla="val 16667"/>
            </a:avLst>
          </a:prstGeom>
          <a:solidFill>
            <a:srgbClr val="ffffcc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socuanta par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936880" y="2266920"/>
            <a:ext cx="2881080" cy="4291200"/>
            <a:chOff x="2936880" y="2266920"/>
            <a:chExt cx="2881080" cy="4291200"/>
          </a:xfrm>
        </p:grpSpPr>
        <p:sp>
          <p:nvSpPr>
            <p:cNvPr id="563" name=""/>
            <p:cNvSpPr/>
            <p:nvPr/>
          </p:nvSpPr>
          <p:spPr>
            <a:xfrm flipV="1">
              <a:off x="2936880" y="2266920"/>
              <a:ext cx="2784600" cy="42912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180000">
              <a:off x="4291560" y="2867760"/>
              <a:ext cx="1458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000" spc="-1" strike="noStrike">
                  <a:solidFill>
                    <a:srgbClr val="008000"/>
                  </a:solidFill>
                  <a:latin typeface="Arial"/>
                </a:rPr>
                <a:t>razón de insum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tasa marginal de su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936880" y="2093400"/>
            <a:ext cx="0" cy="44643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36880" y="6558120"/>
            <a:ext cx="475632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21120" y="6764400"/>
            <a:ext cx="214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60800" y="6931080"/>
            <a:ext cx="16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936880" y="2266920"/>
            <a:ext cx="2784600" cy="4291200"/>
          </a:xfrm>
          <a:prstGeom prst="line">
            <a:avLst/>
          </a:prstGeom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9720" y="3478320"/>
            <a:ext cx="3705120" cy="2482920"/>
          </a:xfrm>
          <a:custGeom>
            <a:avLst/>
            <a:gdLst/>
            <a:ahLst/>
            <a:rect l="l" t="t" r="r" b="b"/>
            <a:pathLst>
              <a:path w="2334" h="1564">
                <a:moveTo>
                  <a:pt x="0" y="0"/>
                </a:moveTo>
                <a:lnTo>
                  <a:pt x="13" y="31"/>
                </a:lnTo>
                <a:lnTo>
                  <a:pt x="23" y="57"/>
                </a:lnTo>
                <a:lnTo>
                  <a:pt x="31" y="77"/>
                </a:lnTo>
                <a:lnTo>
                  <a:pt x="38" y="91"/>
                </a:lnTo>
                <a:lnTo>
                  <a:pt x="43" y="105"/>
                </a:lnTo>
                <a:lnTo>
                  <a:pt x="47" y="113"/>
                </a:lnTo>
                <a:lnTo>
                  <a:pt x="49" y="119"/>
                </a:lnTo>
                <a:lnTo>
                  <a:pt x="53" y="123"/>
                </a:lnTo>
                <a:lnTo>
                  <a:pt x="53" y="128"/>
                </a:lnTo>
                <a:lnTo>
                  <a:pt x="55" y="131"/>
                </a:lnTo>
                <a:lnTo>
                  <a:pt x="57" y="135"/>
                </a:lnTo>
                <a:lnTo>
                  <a:pt x="59" y="138"/>
                </a:lnTo>
                <a:lnTo>
                  <a:pt x="61" y="145"/>
                </a:lnTo>
                <a:lnTo>
                  <a:pt x="65" y="153"/>
                </a:lnTo>
                <a:lnTo>
                  <a:pt x="70" y="165"/>
                </a:lnTo>
                <a:lnTo>
                  <a:pt x="77" y="178"/>
                </a:lnTo>
                <a:lnTo>
                  <a:pt x="84" y="197"/>
                </a:lnTo>
                <a:lnTo>
                  <a:pt x="95" y="217"/>
                </a:lnTo>
                <a:lnTo>
                  <a:pt x="107" y="240"/>
                </a:lnTo>
                <a:lnTo>
                  <a:pt x="122" y="264"/>
                </a:lnTo>
                <a:lnTo>
                  <a:pt x="137" y="290"/>
                </a:lnTo>
                <a:lnTo>
                  <a:pt x="154" y="316"/>
                </a:lnTo>
                <a:lnTo>
                  <a:pt x="172" y="344"/>
                </a:lnTo>
                <a:lnTo>
                  <a:pt x="193" y="372"/>
                </a:lnTo>
                <a:lnTo>
                  <a:pt x="213" y="401"/>
                </a:lnTo>
                <a:lnTo>
                  <a:pt x="233" y="429"/>
                </a:lnTo>
                <a:lnTo>
                  <a:pt x="254" y="457"/>
                </a:lnTo>
                <a:lnTo>
                  <a:pt x="277" y="485"/>
                </a:lnTo>
                <a:lnTo>
                  <a:pt x="297" y="511"/>
                </a:lnTo>
                <a:lnTo>
                  <a:pt x="319" y="537"/>
                </a:lnTo>
                <a:lnTo>
                  <a:pt x="340" y="561"/>
                </a:lnTo>
                <a:lnTo>
                  <a:pt x="360" y="582"/>
                </a:lnTo>
                <a:lnTo>
                  <a:pt x="381" y="605"/>
                </a:lnTo>
                <a:lnTo>
                  <a:pt x="406" y="630"/>
                </a:lnTo>
                <a:lnTo>
                  <a:pt x="434" y="657"/>
                </a:lnTo>
                <a:lnTo>
                  <a:pt x="466" y="685"/>
                </a:lnTo>
                <a:lnTo>
                  <a:pt x="499" y="715"/>
                </a:lnTo>
                <a:lnTo>
                  <a:pt x="535" y="745"/>
                </a:lnTo>
                <a:lnTo>
                  <a:pt x="573" y="777"/>
                </a:lnTo>
                <a:lnTo>
                  <a:pt x="612" y="807"/>
                </a:lnTo>
                <a:lnTo>
                  <a:pt x="652" y="839"/>
                </a:lnTo>
                <a:lnTo>
                  <a:pt x="692" y="870"/>
                </a:lnTo>
                <a:lnTo>
                  <a:pt x="731" y="899"/>
                </a:lnTo>
                <a:lnTo>
                  <a:pt x="773" y="929"/>
                </a:lnTo>
                <a:lnTo>
                  <a:pt x="811" y="958"/>
                </a:lnTo>
                <a:lnTo>
                  <a:pt x="850" y="983"/>
                </a:lnTo>
                <a:lnTo>
                  <a:pt x="886" y="1008"/>
                </a:lnTo>
                <a:lnTo>
                  <a:pt x="921" y="1029"/>
                </a:lnTo>
                <a:lnTo>
                  <a:pt x="956" y="1051"/>
                </a:lnTo>
                <a:lnTo>
                  <a:pt x="998" y="1074"/>
                </a:lnTo>
                <a:lnTo>
                  <a:pt x="1044" y="1099"/>
                </a:lnTo>
                <a:lnTo>
                  <a:pt x="1096" y="1124"/>
                </a:lnTo>
                <a:lnTo>
                  <a:pt x="1149" y="1151"/>
                </a:lnTo>
                <a:lnTo>
                  <a:pt x="1207" y="1177"/>
                </a:lnTo>
                <a:lnTo>
                  <a:pt x="1267" y="1204"/>
                </a:lnTo>
                <a:lnTo>
                  <a:pt x="1329" y="1230"/>
                </a:lnTo>
                <a:lnTo>
                  <a:pt x="1391" y="1257"/>
                </a:lnTo>
                <a:lnTo>
                  <a:pt x="1454" y="1283"/>
                </a:lnTo>
                <a:lnTo>
                  <a:pt x="1517" y="1308"/>
                </a:lnTo>
                <a:lnTo>
                  <a:pt x="1579" y="1331"/>
                </a:lnTo>
                <a:lnTo>
                  <a:pt x="1639" y="1354"/>
                </a:lnTo>
                <a:lnTo>
                  <a:pt x="1697" y="1374"/>
                </a:lnTo>
                <a:lnTo>
                  <a:pt x="1752" y="1392"/>
                </a:lnTo>
                <a:lnTo>
                  <a:pt x="1804" y="1407"/>
                </a:lnTo>
                <a:lnTo>
                  <a:pt x="1847" y="1421"/>
                </a:lnTo>
                <a:lnTo>
                  <a:pt x="1880" y="1430"/>
                </a:lnTo>
                <a:lnTo>
                  <a:pt x="1904" y="1437"/>
                </a:lnTo>
                <a:lnTo>
                  <a:pt x="1923" y="1443"/>
                </a:lnTo>
                <a:lnTo>
                  <a:pt x="1936" y="1447"/>
                </a:lnTo>
                <a:lnTo>
                  <a:pt x="1947" y="1449"/>
                </a:lnTo>
                <a:lnTo>
                  <a:pt x="1957" y="1453"/>
                </a:lnTo>
                <a:lnTo>
                  <a:pt x="1969" y="1455"/>
                </a:lnTo>
                <a:lnTo>
                  <a:pt x="1983" y="1461"/>
                </a:lnTo>
                <a:lnTo>
                  <a:pt x="2002" y="1466"/>
                </a:lnTo>
                <a:lnTo>
                  <a:pt x="2028" y="1474"/>
                </a:lnTo>
                <a:lnTo>
                  <a:pt x="2064" y="1484"/>
                </a:lnTo>
                <a:lnTo>
                  <a:pt x="2109" y="1499"/>
                </a:lnTo>
                <a:lnTo>
                  <a:pt x="2168" y="1516"/>
                </a:lnTo>
                <a:lnTo>
                  <a:pt x="2241" y="1538"/>
                </a:lnTo>
                <a:lnTo>
                  <a:pt x="2333" y="1563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2200" y="4233960"/>
            <a:ext cx="1078200" cy="919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43760" y="5608800"/>
            <a:ext cx="4366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37040" y="4626000"/>
            <a:ext cx="209520" cy="173160"/>
          </a:xfrm>
          <a:prstGeom prst="ellipse">
            <a:avLst/>
          </a:prstGeom>
          <a:solidFill>
            <a:srgbClr val="c20000"/>
          </a:solidFill>
          <a:ln w="19080">
            <a:solidFill>
              <a:srgbClr val="c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62560" y="4410000"/>
            <a:ext cx="28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086440" y="2774880"/>
            <a:ext cx="4287600" cy="3135240"/>
            <a:chOff x="5086440" y="2774880"/>
            <a:chExt cx="4287600" cy="3135240"/>
          </a:xfrm>
        </p:grpSpPr>
        <p:sp>
          <p:nvSpPr>
            <p:cNvPr id="577" name=""/>
            <p:cNvSpPr/>
            <p:nvPr/>
          </p:nvSpPr>
          <p:spPr>
            <a:xfrm>
              <a:off x="5086440" y="2774880"/>
              <a:ext cx="4287600" cy="3135240"/>
            </a:xfrm>
            <a:custGeom>
              <a:avLst/>
              <a:gdLst/>
              <a:ahLst/>
              <a:rect l="l" t="t" r="r" b="b"/>
              <a:pathLst>
                <a:path w="2701" h="1975">
                  <a:moveTo>
                    <a:pt x="0" y="1612"/>
                  </a:moveTo>
                  <a:lnTo>
                    <a:pt x="0" y="1612"/>
                  </a:lnTo>
                  <a:lnTo>
                    <a:pt x="1934" y="1612"/>
                  </a:lnTo>
                  <a:lnTo>
                    <a:pt x="1934" y="1974"/>
                  </a:lnTo>
                  <a:lnTo>
                    <a:pt x="2700" y="991"/>
                  </a:lnTo>
                  <a:lnTo>
                    <a:pt x="1934" y="0"/>
                  </a:lnTo>
                  <a:lnTo>
                    <a:pt x="1934" y="344"/>
                  </a:lnTo>
                  <a:lnTo>
                    <a:pt x="0" y="344"/>
                  </a:lnTo>
                  <a:lnTo>
                    <a:pt x="0" y="1612"/>
                  </a:lnTo>
                  <a:lnTo>
                    <a:pt x="0" y="1612"/>
                  </a:lnTo>
                </a:path>
              </a:pathLst>
            </a:custGeom>
            <a:gradFill rotWithShape="0">
              <a:gsLst>
                <a:gs pos="0">
                  <a:srgbClr val="ffc0e4"/>
                </a:gs>
                <a:gs pos="100000">
                  <a:srgbClr val="e1e1e1"/>
                </a:gs>
              </a:gsLst>
              <a:lin ang="8100000"/>
            </a:gradFill>
            <a:ln w="1908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22840" y="3760920"/>
              <a:ext cx="3024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Ahora para algunos casos especiales..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H="1">
            <a:off x="761400" y="3048120"/>
            <a:ext cx="2819160" cy="990360"/>
          </a:xfrm>
          <a:prstGeom prst="wedgeRoundRectCallout">
            <a:avLst>
              <a:gd name="adj1" fmla="val -50675"/>
              <a:gd name="adj2" fmla="val 77402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25560" y="3152880"/>
            <a:ext cx="26002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 pendiente es la tasa marginal de sustitución e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69680" y="3035160"/>
            <a:ext cx="2819160" cy="990360"/>
            <a:chOff x="769680" y="3035160"/>
            <a:chExt cx="2819160" cy="990360"/>
          </a:xfrm>
        </p:grpSpPr>
        <p:sp>
          <p:nvSpPr>
            <p:cNvPr id="582" name=""/>
            <p:cNvSpPr/>
            <p:nvPr/>
          </p:nvSpPr>
          <p:spPr>
            <a:xfrm>
              <a:off x="2925720" y="3317760"/>
              <a:ext cx="1602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3040" y="3493800"/>
              <a:ext cx="1616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69320" y="3035160"/>
              <a:ext cx="2819160" cy="990360"/>
            </a:xfrm>
            <a:prstGeom prst="wedgeRoundRectCallout">
              <a:avLst>
                <a:gd name="adj1" fmla="val -50675"/>
                <a:gd name="adj2" fmla="val 77402"/>
                <a:gd name="adj3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1108080" y="3214440"/>
              <a:ext cx="2209680" cy="649080"/>
              <a:chOff x="1108080" y="3214440"/>
              <a:chExt cx="2209680" cy="649080"/>
            </a:xfrm>
          </p:grpSpPr>
          <p:sp>
            <p:nvSpPr>
              <p:cNvPr id="586" name=""/>
              <p:cNvSpPr/>
              <p:nvPr/>
            </p:nvSpPr>
            <p:spPr>
              <a:xfrm>
                <a:off x="1415520" y="3536640"/>
                <a:ext cx="1501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08080" y="3214440"/>
                <a:ext cx="220968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/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3480" y="3536640"/>
                <a:ext cx="14868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tornos Homotétic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936880" y="2093400"/>
            <a:ext cx="0" cy="44643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36880" y="6558120"/>
            <a:ext cx="475632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936880" y="2266920"/>
            <a:ext cx="2784600" cy="4291200"/>
          </a:xfrm>
          <a:prstGeom prst="line">
            <a:avLst/>
          </a:prstGeom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49720" y="3478320"/>
            <a:ext cx="3705120" cy="2482920"/>
          </a:xfrm>
          <a:custGeom>
            <a:avLst/>
            <a:gdLst/>
            <a:ahLst/>
            <a:rect l="l" t="t" r="r" b="b"/>
            <a:pathLst>
              <a:path w="2334" h="1564">
                <a:moveTo>
                  <a:pt x="0" y="0"/>
                </a:moveTo>
                <a:lnTo>
                  <a:pt x="13" y="31"/>
                </a:lnTo>
                <a:lnTo>
                  <a:pt x="23" y="57"/>
                </a:lnTo>
                <a:lnTo>
                  <a:pt x="31" y="77"/>
                </a:lnTo>
                <a:lnTo>
                  <a:pt x="38" y="91"/>
                </a:lnTo>
                <a:lnTo>
                  <a:pt x="43" y="105"/>
                </a:lnTo>
                <a:lnTo>
                  <a:pt x="47" y="113"/>
                </a:lnTo>
                <a:lnTo>
                  <a:pt x="49" y="119"/>
                </a:lnTo>
                <a:lnTo>
                  <a:pt x="53" y="123"/>
                </a:lnTo>
                <a:lnTo>
                  <a:pt x="53" y="128"/>
                </a:lnTo>
                <a:lnTo>
                  <a:pt x="55" y="131"/>
                </a:lnTo>
                <a:lnTo>
                  <a:pt x="57" y="135"/>
                </a:lnTo>
                <a:lnTo>
                  <a:pt x="59" y="138"/>
                </a:lnTo>
                <a:lnTo>
                  <a:pt x="61" y="145"/>
                </a:lnTo>
                <a:lnTo>
                  <a:pt x="65" y="153"/>
                </a:lnTo>
                <a:lnTo>
                  <a:pt x="70" y="165"/>
                </a:lnTo>
                <a:lnTo>
                  <a:pt x="77" y="178"/>
                </a:lnTo>
                <a:lnTo>
                  <a:pt x="84" y="197"/>
                </a:lnTo>
                <a:lnTo>
                  <a:pt x="95" y="217"/>
                </a:lnTo>
                <a:lnTo>
                  <a:pt x="107" y="240"/>
                </a:lnTo>
                <a:lnTo>
                  <a:pt x="122" y="264"/>
                </a:lnTo>
                <a:lnTo>
                  <a:pt x="137" y="290"/>
                </a:lnTo>
                <a:lnTo>
                  <a:pt x="154" y="316"/>
                </a:lnTo>
                <a:lnTo>
                  <a:pt x="172" y="344"/>
                </a:lnTo>
                <a:lnTo>
                  <a:pt x="193" y="372"/>
                </a:lnTo>
                <a:lnTo>
                  <a:pt x="213" y="401"/>
                </a:lnTo>
                <a:lnTo>
                  <a:pt x="233" y="429"/>
                </a:lnTo>
                <a:lnTo>
                  <a:pt x="254" y="457"/>
                </a:lnTo>
                <a:lnTo>
                  <a:pt x="277" y="485"/>
                </a:lnTo>
                <a:lnTo>
                  <a:pt x="297" y="511"/>
                </a:lnTo>
                <a:lnTo>
                  <a:pt x="319" y="537"/>
                </a:lnTo>
                <a:lnTo>
                  <a:pt x="340" y="561"/>
                </a:lnTo>
                <a:lnTo>
                  <a:pt x="360" y="582"/>
                </a:lnTo>
                <a:lnTo>
                  <a:pt x="381" y="605"/>
                </a:lnTo>
                <a:lnTo>
                  <a:pt x="406" y="630"/>
                </a:lnTo>
                <a:lnTo>
                  <a:pt x="434" y="657"/>
                </a:lnTo>
                <a:lnTo>
                  <a:pt x="466" y="685"/>
                </a:lnTo>
                <a:lnTo>
                  <a:pt x="499" y="715"/>
                </a:lnTo>
                <a:lnTo>
                  <a:pt x="535" y="745"/>
                </a:lnTo>
                <a:lnTo>
                  <a:pt x="573" y="777"/>
                </a:lnTo>
                <a:lnTo>
                  <a:pt x="612" y="807"/>
                </a:lnTo>
                <a:lnTo>
                  <a:pt x="652" y="839"/>
                </a:lnTo>
                <a:lnTo>
                  <a:pt x="692" y="870"/>
                </a:lnTo>
                <a:lnTo>
                  <a:pt x="731" y="899"/>
                </a:lnTo>
                <a:lnTo>
                  <a:pt x="773" y="929"/>
                </a:lnTo>
                <a:lnTo>
                  <a:pt x="811" y="958"/>
                </a:lnTo>
                <a:lnTo>
                  <a:pt x="850" y="983"/>
                </a:lnTo>
                <a:lnTo>
                  <a:pt x="886" y="1008"/>
                </a:lnTo>
                <a:lnTo>
                  <a:pt x="921" y="1029"/>
                </a:lnTo>
                <a:lnTo>
                  <a:pt x="956" y="1051"/>
                </a:lnTo>
                <a:lnTo>
                  <a:pt x="998" y="1074"/>
                </a:lnTo>
                <a:lnTo>
                  <a:pt x="1044" y="1099"/>
                </a:lnTo>
                <a:lnTo>
                  <a:pt x="1096" y="1124"/>
                </a:lnTo>
                <a:lnTo>
                  <a:pt x="1149" y="1151"/>
                </a:lnTo>
                <a:lnTo>
                  <a:pt x="1207" y="1177"/>
                </a:lnTo>
                <a:lnTo>
                  <a:pt x="1267" y="1204"/>
                </a:lnTo>
                <a:lnTo>
                  <a:pt x="1329" y="1230"/>
                </a:lnTo>
                <a:lnTo>
                  <a:pt x="1391" y="1257"/>
                </a:lnTo>
                <a:lnTo>
                  <a:pt x="1454" y="1283"/>
                </a:lnTo>
                <a:lnTo>
                  <a:pt x="1517" y="1308"/>
                </a:lnTo>
                <a:lnTo>
                  <a:pt x="1579" y="1331"/>
                </a:lnTo>
                <a:lnTo>
                  <a:pt x="1639" y="1354"/>
                </a:lnTo>
                <a:lnTo>
                  <a:pt x="1697" y="1374"/>
                </a:lnTo>
                <a:lnTo>
                  <a:pt x="1752" y="1392"/>
                </a:lnTo>
                <a:lnTo>
                  <a:pt x="1804" y="1407"/>
                </a:lnTo>
                <a:lnTo>
                  <a:pt x="1847" y="1421"/>
                </a:lnTo>
                <a:lnTo>
                  <a:pt x="1880" y="1430"/>
                </a:lnTo>
                <a:lnTo>
                  <a:pt x="1904" y="1437"/>
                </a:lnTo>
                <a:lnTo>
                  <a:pt x="1923" y="1443"/>
                </a:lnTo>
                <a:lnTo>
                  <a:pt x="1936" y="1447"/>
                </a:lnTo>
                <a:lnTo>
                  <a:pt x="1947" y="1449"/>
                </a:lnTo>
                <a:lnTo>
                  <a:pt x="1957" y="1453"/>
                </a:lnTo>
                <a:lnTo>
                  <a:pt x="1969" y="1455"/>
                </a:lnTo>
                <a:lnTo>
                  <a:pt x="1983" y="1461"/>
                </a:lnTo>
                <a:lnTo>
                  <a:pt x="2002" y="1466"/>
                </a:lnTo>
                <a:lnTo>
                  <a:pt x="2028" y="1474"/>
                </a:lnTo>
                <a:lnTo>
                  <a:pt x="2064" y="1484"/>
                </a:lnTo>
                <a:lnTo>
                  <a:pt x="2109" y="1499"/>
                </a:lnTo>
                <a:lnTo>
                  <a:pt x="2168" y="1516"/>
                </a:lnTo>
                <a:lnTo>
                  <a:pt x="2241" y="1538"/>
                </a:lnTo>
                <a:lnTo>
                  <a:pt x="2333" y="1563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24360" y="2054160"/>
            <a:ext cx="4484520" cy="3005280"/>
          </a:xfrm>
          <a:custGeom>
            <a:avLst/>
            <a:gdLst/>
            <a:ahLst/>
            <a:rect l="l" t="t" r="r" b="b"/>
            <a:pathLst>
              <a:path w="2824" h="1893">
                <a:moveTo>
                  <a:pt x="0" y="0"/>
                </a:moveTo>
                <a:lnTo>
                  <a:pt x="14" y="38"/>
                </a:lnTo>
                <a:lnTo>
                  <a:pt x="27" y="68"/>
                </a:lnTo>
                <a:lnTo>
                  <a:pt x="37" y="92"/>
                </a:lnTo>
                <a:lnTo>
                  <a:pt x="45" y="110"/>
                </a:lnTo>
                <a:lnTo>
                  <a:pt x="50" y="125"/>
                </a:lnTo>
                <a:lnTo>
                  <a:pt x="55" y="136"/>
                </a:lnTo>
                <a:lnTo>
                  <a:pt x="58" y="144"/>
                </a:lnTo>
                <a:lnTo>
                  <a:pt x="62" y="148"/>
                </a:lnTo>
                <a:lnTo>
                  <a:pt x="64" y="154"/>
                </a:lnTo>
                <a:lnTo>
                  <a:pt x="66" y="158"/>
                </a:lnTo>
                <a:lnTo>
                  <a:pt x="68" y="162"/>
                </a:lnTo>
                <a:lnTo>
                  <a:pt x="70" y="167"/>
                </a:lnTo>
                <a:lnTo>
                  <a:pt x="72" y="176"/>
                </a:lnTo>
                <a:lnTo>
                  <a:pt x="77" y="185"/>
                </a:lnTo>
                <a:lnTo>
                  <a:pt x="82" y="198"/>
                </a:lnTo>
                <a:lnTo>
                  <a:pt x="91" y="215"/>
                </a:lnTo>
                <a:lnTo>
                  <a:pt x="100" y="238"/>
                </a:lnTo>
                <a:lnTo>
                  <a:pt x="113" y="262"/>
                </a:lnTo>
                <a:lnTo>
                  <a:pt x="127" y="290"/>
                </a:lnTo>
                <a:lnTo>
                  <a:pt x="146" y="318"/>
                </a:lnTo>
                <a:lnTo>
                  <a:pt x="164" y="350"/>
                </a:lnTo>
                <a:lnTo>
                  <a:pt x="186" y="382"/>
                </a:lnTo>
                <a:lnTo>
                  <a:pt x="208" y="416"/>
                </a:lnTo>
                <a:lnTo>
                  <a:pt x="232" y="449"/>
                </a:lnTo>
                <a:lnTo>
                  <a:pt x="256" y="484"/>
                </a:lnTo>
                <a:lnTo>
                  <a:pt x="282" y="519"/>
                </a:lnTo>
                <a:lnTo>
                  <a:pt x="307" y="553"/>
                </a:lnTo>
                <a:lnTo>
                  <a:pt x="333" y="586"/>
                </a:lnTo>
                <a:lnTo>
                  <a:pt x="358" y="618"/>
                </a:lnTo>
                <a:lnTo>
                  <a:pt x="384" y="650"/>
                </a:lnTo>
                <a:lnTo>
                  <a:pt x="409" y="679"/>
                </a:lnTo>
                <a:lnTo>
                  <a:pt x="434" y="705"/>
                </a:lnTo>
                <a:lnTo>
                  <a:pt x="460" y="733"/>
                </a:lnTo>
                <a:lnTo>
                  <a:pt x="490" y="763"/>
                </a:lnTo>
                <a:lnTo>
                  <a:pt x="524" y="795"/>
                </a:lnTo>
                <a:lnTo>
                  <a:pt x="563" y="829"/>
                </a:lnTo>
                <a:lnTo>
                  <a:pt x="604" y="866"/>
                </a:lnTo>
                <a:lnTo>
                  <a:pt x="648" y="902"/>
                </a:lnTo>
                <a:lnTo>
                  <a:pt x="693" y="939"/>
                </a:lnTo>
                <a:lnTo>
                  <a:pt x="741" y="977"/>
                </a:lnTo>
                <a:lnTo>
                  <a:pt x="789" y="1015"/>
                </a:lnTo>
                <a:lnTo>
                  <a:pt x="838" y="1053"/>
                </a:lnTo>
                <a:lnTo>
                  <a:pt x="886" y="1090"/>
                </a:lnTo>
                <a:lnTo>
                  <a:pt x="935" y="1125"/>
                </a:lnTo>
                <a:lnTo>
                  <a:pt x="982" y="1160"/>
                </a:lnTo>
                <a:lnTo>
                  <a:pt x="1028" y="1191"/>
                </a:lnTo>
                <a:lnTo>
                  <a:pt x="1072" y="1221"/>
                </a:lnTo>
                <a:lnTo>
                  <a:pt x="1114" y="1246"/>
                </a:lnTo>
                <a:lnTo>
                  <a:pt x="1158" y="1273"/>
                </a:lnTo>
                <a:lnTo>
                  <a:pt x="1209" y="1301"/>
                </a:lnTo>
                <a:lnTo>
                  <a:pt x="1265" y="1331"/>
                </a:lnTo>
                <a:lnTo>
                  <a:pt x="1327" y="1361"/>
                </a:lnTo>
                <a:lnTo>
                  <a:pt x="1392" y="1394"/>
                </a:lnTo>
                <a:lnTo>
                  <a:pt x="1462" y="1425"/>
                </a:lnTo>
                <a:lnTo>
                  <a:pt x="1534" y="1457"/>
                </a:lnTo>
                <a:lnTo>
                  <a:pt x="1609" y="1489"/>
                </a:lnTo>
                <a:lnTo>
                  <a:pt x="1684" y="1521"/>
                </a:lnTo>
                <a:lnTo>
                  <a:pt x="1760" y="1552"/>
                </a:lnTo>
                <a:lnTo>
                  <a:pt x="1835" y="1583"/>
                </a:lnTo>
                <a:lnTo>
                  <a:pt x="1911" y="1611"/>
                </a:lnTo>
                <a:lnTo>
                  <a:pt x="1983" y="1638"/>
                </a:lnTo>
                <a:lnTo>
                  <a:pt x="2054" y="1662"/>
                </a:lnTo>
                <a:lnTo>
                  <a:pt x="2120" y="1684"/>
                </a:lnTo>
                <a:lnTo>
                  <a:pt x="2183" y="1703"/>
                </a:lnTo>
                <a:lnTo>
                  <a:pt x="2235" y="1720"/>
                </a:lnTo>
                <a:lnTo>
                  <a:pt x="2276" y="1731"/>
                </a:lnTo>
                <a:lnTo>
                  <a:pt x="2305" y="1740"/>
                </a:lnTo>
                <a:lnTo>
                  <a:pt x="2328" y="1746"/>
                </a:lnTo>
                <a:lnTo>
                  <a:pt x="2343" y="1751"/>
                </a:lnTo>
                <a:lnTo>
                  <a:pt x="2357" y="1755"/>
                </a:lnTo>
                <a:lnTo>
                  <a:pt x="2369" y="1758"/>
                </a:lnTo>
                <a:lnTo>
                  <a:pt x="2382" y="1762"/>
                </a:lnTo>
                <a:lnTo>
                  <a:pt x="2399" y="1768"/>
                </a:lnTo>
                <a:lnTo>
                  <a:pt x="2423" y="1775"/>
                </a:lnTo>
                <a:lnTo>
                  <a:pt x="2454" y="1785"/>
                </a:lnTo>
                <a:lnTo>
                  <a:pt x="2497" y="1796"/>
                </a:lnTo>
                <a:lnTo>
                  <a:pt x="2552" y="1814"/>
                </a:lnTo>
                <a:lnTo>
                  <a:pt x="2624" y="1835"/>
                </a:lnTo>
                <a:lnTo>
                  <a:pt x="2713" y="1861"/>
                </a:lnTo>
                <a:lnTo>
                  <a:pt x="2823" y="1892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51280" y="3524400"/>
            <a:ext cx="1076400" cy="919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83000" y="3067200"/>
            <a:ext cx="1077840" cy="919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5120" y="2887560"/>
            <a:ext cx="3702240" cy="2484720"/>
          </a:xfrm>
          <a:custGeom>
            <a:avLst/>
            <a:gdLst/>
            <a:ahLst/>
            <a:rect l="l" t="t" r="r" b="b"/>
            <a:pathLst>
              <a:path w="2332" h="1565">
                <a:moveTo>
                  <a:pt x="0" y="0"/>
                </a:moveTo>
                <a:lnTo>
                  <a:pt x="12" y="31"/>
                </a:lnTo>
                <a:lnTo>
                  <a:pt x="23" y="56"/>
                </a:lnTo>
                <a:lnTo>
                  <a:pt x="31" y="77"/>
                </a:lnTo>
                <a:lnTo>
                  <a:pt x="38" y="91"/>
                </a:lnTo>
                <a:lnTo>
                  <a:pt x="42" y="105"/>
                </a:lnTo>
                <a:lnTo>
                  <a:pt x="46" y="113"/>
                </a:lnTo>
                <a:lnTo>
                  <a:pt x="48" y="120"/>
                </a:lnTo>
                <a:lnTo>
                  <a:pt x="51" y="123"/>
                </a:lnTo>
                <a:lnTo>
                  <a:pt x="52" y="128"/>
                </a:lnTo>
                <a:lnTo>
                  <a:pt x="54" y="131"/>
                </a:lnTo>
                <a:lnTo>
                  <a:pt x="56" y="135"/>
                </a:lnTo>
                <a:lnTo>
                  <a:pt x="58" y="138"/>
                </a:lnTo>
                <a:lnTo>
                  <a:pt x="60" y="145"/>
                </a:lnTo>
                <a:lnTo>
                  <a:pt x="64" y="153"/>
                </a:lnTo>
                <a:lnTo>
                  <a:pt x="69" y="165"/>
                </a:lnTo>
                <a:lnTo>
                  <a:pt x="76" y="179"/>
                </a:lnTo>
                <a:lnTo>
                  <a:pt x="83" y="198"/>
                </a:lnTo>
                <a:lnTo>
                  <a:pt x="94" y="218"/>
                </a:lnTo>
                <a:lnTo>
                  <a:pt x="106" y="241"/>
                </a:lnTo>
                <a:lnTo>
                  <a:pt x="121" y="265"/>
                </a:lnTo>
                <a:lnTo>
                  <a:pt x="136" y="291"/>
                </a:lnTo>
                <a:lnTo>
                  <a:pt x="154" y="317"/>
                </a:lnTo>
                <a:lnTo>
                  <a:pt x="172" y="345"/>
                </a:lnTo>
                <a:lnTo>
                  <a:pt x="192" y="372"/>
                </a:lnTo>
                <a:lnTo>
                  <a:pt x="212" y="401"/>
                </a:lnTo>
                <a:lnTo>
                  <a:pt x="233" y="429"/>
                </a:lnTo>
                <a:lnTo>
                  <a:pt x="254" y="457"/>
                </a:lnTo>
                <a:lnTo>
                  <a:pt x="275" y="485"/>
                </a:lnTo>
                <a:lnTo>
                  <a:pt x="296" y="511"/>
                </a:lnTo>
                <a:lnTo>
                  <a:pt x="318" y="537"/>
                </a:lnTo>
                <a:lnTo>
                  <a:pt x="338" y="561"/>
                </a:lnTo>
                <a:lnTo>
                  <a:pt x="359" y="583"/>
                </a:lnTo>
                <a:lnTo>
                  <a:pt x="380" y="606"/>
                </a:lnTo>
                <a:lnTo>
                  <a:pt x="404" y="631"/>
                </a:lnTo>
                <a:lnTo>
                  <a:pt x="433" y="658"/>
                </a:lnTo>
                <a:lnTo>
                  <a:pt x="464" y="686"/>
                </a:lnTo>
                <a:lnTo>
                  <a:pt x="498" y="715"/>
                </a:lnTo>
                <a:lnTo>
                  <a:pt x="534" y="745"/>
                </a:lnTo>
                <a:lnTo>
                  <a:pt x="572" y="777"/>
                </a:lnTo>
                <a:lnTo>
                  <a:pt x="611" y="807"/>
                </a:lnTo>
                <a:lnTo>
                  <a:pt x="650" y="839"/>
                </a:lnTo>
                <a:lnTo>
                  <a:pt x="691" y="870"/>
                </a:lnTo>
                <a:lnTo>
                  <a:pt x="730" y="900"/>
                </a:lnTo>
                <a:lnTo>
                  <a:pt x="772" y="930"/>
                </a:lnTo>
                <a:lnTo>
                  <a:pt x="810" y="958"/>
                </a:lnTo>
                <a:lnTo>
                  <a:pt x="849" y="984"/>
                </a:lnTo>
                <a:lnTo>
                  <a:pt x="885" y="1009"/>
                </a:lnTo>
                <a:lnTo>
                  <a:pt x="920" y="1030"/>
                </a:lnTo>
                <a:lnTo>
                  <a:pt x="956" y="1052"/>
                </a:lnTo>
                <a:lnTo>
                  <a:pt x="997" y="1075"/>
                </a:lnTo>
                <a:lnTo>
                  <a:pt x="1044" y="1100"/>
                </a:lnTo>
                <a:lnTo>
                  <a:pt x="1095" y="1125"/>
                </a:lnTo>
                <a:lnTo>
                  <a:pt x="1149" y="1152"/>
                </a:lnTo>
                <a:lnTo>
                  <a:pt x="1207" y="1178"/>
                </a:lnTo>
                <a:lnTo>
                  <a:pt x="1266" y="1205"/>
                </a:lnTo>
                <a:lnTo>
                  <a:pt x="1329" y="1231"/>
                </a:lnTo>
                <a:lnTo>
                  <a:pt x="1390" y="1258"/>
                </a:lnTo>
                <a:lnTo>
                  <a:pt x="1454" y="1283"/>
                </a:lnTo>
                <a:lnTo>
                  <a:pt x="1515" y="1308"/>
                </a:lnTo>
                <a:lnTo>
                  <a:pt x="1578" y="1331"/>
                </a:lnTo>
                <a:lnTo>
                  <a:pt x="1638" y="1355"/>
                </a:lnTo>
                <a:lnTo>
                  <a:pt x="1696" y="1375"/>
                </a:lnTo>
                <a:lnTo>
                  <a:pt x="1750" y="1393"/>
                </a:lnTo>
                <a:lnTo>
                  <a:pt x="1803" y="1408"/>
                </a:lnTo>
                <a:lnTo>
                  <a:pt x="1845" y="1421"/>
                </a:lnTo>
                <a:lnTo>
                  <a:pt x="1878" y="1431"/>
                </a:lnTo>
                <a:lnTo>
                  <a:pt x="1903" y="1438"/>
                </a:lnTo>
                <a:lnTo>
                  <a:pt x="1922" y="1443"/>
                </a:lnTo>
                <a:lnTo>
                  <a:pt x="1934" y="1447"/>
                </a:lnTo>
                <a:lnTo>
                  <a:pt x="1946" y="1450"/>
                </a:lnTo>
                <a:lnTo>
                  <a:pt x="1956" y="1454"/>
                </a:lnTo>
                <a:lnTo>
                  <a:pt x="1968" y="1456"/>
                </a:lnTo>
                <a:lnTo>
                  <a:pt x="1981" y="1461"/>
                </a:lnTo>
                <a:lnTo>
                  <a:pt x="2001" y="1467"/>
                </a:lnTo>
                <a:lnTo>
                  <a:pt x="2027" y="1475"/>
                </a:lnTo>
                <a:lnTo>
                  <a:pt x="2062" y="1485"/>
                </a:lnTo>
                <a:lnTo>
                  <a:pt x="2108" y="1499"/>
                </a:lnTo>
                <a:lnTo>
                  <a:pt x="2167" y="1516"/>
                </a:lnTo>
                <a:lnTo>
                  <a:pt x="2240" y="1538"/>
                </a:lnTo>
                <a:lnTo>
                  <a:pt x="2331" y="1564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14600" y="4130640"/>
            <a:ext cx="1076400" cy="9208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2946240" y="3974760"/>
            <a:ext cx="5619960" cy="2568600"/>
          </a:xfrm>
          <a:prstGeom prst="line">
            <a:avLst/>
          </a:prstGeom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03840" y="5237280"/>
            <a:ext cx="1108080" cy="4539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92880" y="4753080"/>
            <a:ext cx="1109520" cy="4539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23120" y="4413240"/>
            <a:ext cx="1109520" cy="4539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67520" y="6265800"/>
            <a:ext cx="2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9000" y="6431040"/>
            <a:ext cx="16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71760" y="1938240"/>
            <a:ext cx="1602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29080" y="2114640"/>
            <a:ext cx="161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tornos de una función homogene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936880" y="2093400"/>
            <a:ext cx="0" cy="44643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36880" y="6558120"/>
            <a:ext cx="475632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08520" y="6754680"/>
            <a:ext cx="239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05440" y="7034040"/>
            <a:ext cx="161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936880" y="2266920"/>
            <a:ext cx="2784600" cy="4291200"/>
          </a:xfrm>
          <a:prstGeom prst="line">
            <a:avLst/>
          </a:prstGeom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49720" y="3478320"/>
            <a:ext cx="3705120" cy="2482920"/>
          </a:xfrm>
          <a:custGeom>
            <a:avLst/>
            <a:gdLst/>
            <a:ahLst/>
            <a:rect l="l" t="t" r="r" b="b"/>
            <a:pathLst>
              <a:path w="2334" h="1564">
                <a:moveTo>
                  <a:pt x="0" y="0"/>
                </a:moveTo>
                <a:lnTo>
                  <a:pt x="13" y="31"/>
                </a:lnTo>
                <a:lnTo>
                  <a:pt x="23" y="57"/>
                </a:lnTo>
                <a:lnTo>
                  <a:pt x="31" y="77"/>
                </a:lnTo>
                <a:lnTo>
                  <a:pt x="38" y="91"/>
                </a:lnTo>
                <a:lnTo>
                  <a:pt x="43" y="105"/>
                </a:lnTo>
                <a:lnTo>
                  <a:pt x="47" y="113"/>
                </a:lnTo>
                <a:lnTo>
                  <a:pt x="49" y="119"/>
                </a:lnTo>
                <a:lnTo>
                  <a:pt x="53" y="123"/>
                </a:lnTo>
                <a:lnTo>
                  <a:pt x="53" y="128"/>
                </a:lnTo>
                <a:lnTo>
                  <a:pt x="55" y="131"/>
                </a:lnTo>
                <a:lnTo>
                  <a:pt x="57" y="135"/>
                </a:lnTo>
                <a:lnTo>
                  <a:pt x="59" y="138"/>
                </a:lnTo>
                <a:lnTo>
                  <a:pt x="61" y="145"/>
                </a:lnTo>
                <a:lnTo>
                  <a:pt x="65" y="153"/>
                </a:lnTo>
                <a:lnTo>
                  <a:pt x="70" y="165"/>
                </a:lnTo>
                <a:lnTo>
                  <a:pt x="77" y="178"/>
                </a:lnTo>
                <a:lnTo>
                  <a:pt x="84" y="197"/>
                </a:lnTo>
                <a:lnTo>
                  <a:pt x="95" y="217"/>
                </a:lnTo>
                <a:lnTo>
                  <a:pt x="107" y="240"/>
                </a:lnTo>
                <a:lnTo>
                  <a:pt x="122" y="264"/>
                </a:lnTo>
                <a:lnTo>
                  <a:pt x="137" y="290"/>
                </a:lnTo>
                <a:lnTo>
                  <a:pt x="154" y="316"/>
                </a:lnTo>
                <a:lnTo>
                  <a:pt x="172" y="344"/>
                </a:lnTo>
                <a:lnTo>
                  <a:pt x="193" y="372"/>
                </a:lnTo>
                <a:lnTo>
                  <a:pt x="213" y="401"/>
                </a:lnTo>
                <a:lnTo>
                  <a:pt x="233" y="429"/>
                </a:lnTo>
                <a:lnTo>
                  <a:pt x="254" y="457"/>
                </a:lnTo>
                <a:lnTo>
                  <a:pt x="277" y="485"/>
                </a:lnTo>
                <a:lnTo>
                  <a:pt x="297" y="511"/>
                </a:lnTo>
                <a:lnTo>
                  <a:pt x="319" y="537"/>
                </a:lnTo>
                <a:lnTo>
                  <a:pt x="340" y="561"/>
                </a:lnTo>
                <a:lnTo>
                  <a:pt x="360" y="582"/>
                </a:lnTo>
                <a:lnTo>
                  <a:pt x="381" y="605"/>
                </a:lnTo>
                <a:lnTo>
                  <a:pt x="406" y="630"/>
                </a:lnTo>
                <a:lnTo>
                  <a:pt x="434" y="657"/>
                </a:lnTo>
                <a:lnTo>
                  <a:pt x="466" y="685"/>
                </a:lnTo>
                <a:lnTo>
                  <a:pt x="499" y="715"/>
                </a:lnTo>
                <a:lnTo>
                  <a:pt x="535" y="745"/>
                </a:lnTo>
                <a:lnTo>
                  <a:pt x="573" y="777"/>
                </a:lnTo>
                <a:lnTo>
                  <a:pt x="612" y="807"/>
                </a:lnTo>
                <a:lnTo>
                  <a:pt x="652" y="839"/>
                </a:lnTo>
                <a:lnTo>
                  <a:pt x="692" y="870"/>
                </a:lnTo>
                <a:lnTo>
                  <a:pt x="731" y="899"/>
                </a:lnTo>
                <a:lnTo>
                  <a:pt x="773" y="929"/>
                </a:lnTo>
                <a:lnTo>
                  <a:pt x="811" y="958"/>
                </a:lnTo>
                <a:lnTo>
                  <a:pt x="850" y="983"/>
                </a:lnTo>
                <a:lnTo>
                  <a:pt x="886" y="1008"/>
                </a:lnTo>
                <a:lnTo>
                  <a:pt x="921" y="1029"/>
                </a:lnTo>
                <a:lnTo>
                  <a:pt x="956" y="1051"/>
                </a:lnTo>
                <a:lnTo>
                  <a:pt x="998" y="1074"/>
                </a:lnTo>
                <a:lnTo>
                  <a:pt x="1044" y="1099"/>
                </a:lnTo>
                <a:lnTo>
                  <a:pt x="1096" y="1124"/>
                </a:lnTo>
                <a:lnTo>
                  <a:pt x="1149" y="1151"/>
                </a:lnTo>
                <a:lnTo>
                  <a:pt x="1207" y="1177"/>
                </a:lnTo>
                <a:lnTo>
                  <a:pt x="1267" y="1204"/>
                </a:lnTo>
                <a:lnTo>
                  <a:pt x="1329" y="1230"/>
                </a:lnTo>
                <a:lnTo>
                  <a:pt x="1391" y="1257"/>
                </a:lnTo>
                <a:lnTo>
                  <a:pt x="1454" y="1283"/>
                </a:lnTo>
                <a:lnTo>
                  <a:pt x="1517" y="1308"/>
                </a:lnTo>
                <a:lnTo>
                  <a:pt x="1579" y="1331"/>
                </a:lnTo>
                <a:lnTo>
                  <a:pt x="1639" y="1354"/>
                </a:lnTo>
                <a:lnTo>
                  <a:pt x="1697" y="1374"/>
                </a:lnTo>
                <a:lnTo>
                  <a:pt x="1752" y="1392"/>
                </a:lnTo>
                <a:lnTo>
                  <a:pt x="1804" y="1407"/>
                </a:lnTo>
                <a:lnTo>
                  <a:pt x="1847" y="1421"/>
                </a:lnTo>
                <a:lnTo>
                  <a:pt x="1880" y="1430"/>
                </a:lnTo>
                <a:lnTo>
                  <a:pt x="1904" y="1437"/>
                </a:lnTo>
                <a:lnTo>
                  <a:pt x="1923" y="1443"/>
                </a:lnTo>
                <a:lnTo>
                  <a:pt x="1936" y="1447"/>
                </a:lnTo>
                <a:lnTo>
                  <a:pt x="1947" y="1449"/>
                </a:lnTo>
                <a:lnTo>
                  <a:pt x="1957" y="1453"/>
                </a:lnTo>
                <a:lnTo>
                  <a:pt x="1969" y="1455"/>
                </a:lnTo>
                <a:lnTo>
                  <a:pt x="1983" y="1461"/>
                </a:lnTo>
                <a:lnTo>
                  <a:pt x="2002" y="1466"/>
                </a:lnTo>
                <a:lnTo>
                  <a:pt x="2028" y="1474"/>
                </a:lnTo>
                <a:lnTo>
                  <a:pt x="2064" y="1484"/>
                </a:lnTo>
                <a:lnTo>
                  <a:pt x="2109" y="1499"/>
                </a:lnTo>
                <a:lnTo>
                  <a:pt x="2168" y="1516"/>
                </a:lnTo>
                <a:lnTo>
                  <a:pt x="2241" y="1538"/>
                </a:lnTo>
                <a:lnTo>
                  <a:pt x="2333" y="1563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11480" y="2281320"/>
            <a:ext cx="3702240" cy="2482920"/>
          </a:xfrm>
          <a:custGeom>
            <a:avLst/>
            <a:gdLst/>
            <a:ahLst/>
            <a:rect l="l" t="t" r="r" b="b"/>
            <a:pathLst>
              <a:path w="2332" h="1564">
                <a:moveTo>
                  <a:pt x="0" y="0"/>
                </a:moveTo>
                <a:lnTo>
                  <a:pt x="13" y="31"/>
                </a:lnTo>
                <a:lnTo>
                  <a:pt x="23" y="56"/>
                </a:lnTo>
                <a:lnTo>
                  <a:pt x="31" y="76"/>
                </a:lnTo>
                <a:lnTo>
                  <a:pt x="37" y="91"/>
                </a:lnTo>
                <a:lnTo>
                  <a:pt x="42" y="104"/>
                </a:lnTo>
                <a:lnTo>
                  <a:pt x="45" y="112"/>
                </a:lnTo>
                <a:lnTo>
                  <a:pt x="48" y="119"/>
                </a:lnTo>
                <a:lnTo>
                  <a:pt x="51" y="123"/>
                </a:lnTo>
                <a:lnTo>
                  <a:pt x="52" y="127"/>
                </a:lnTo>
                <a:lnTo>
                  <a:pt x="54" y="130"/>
                </a:lnTo>
                <a:lnTo>
                  <a:pt x="55" y="134"/>
                </a:lnTo>
                <a:lnTo>
                  <a:pt x="57" y="138"/>
                </a:lnTo>
                <a:lnTo>
                  <a:pt x="59" y="145"/>
                </a:lnTo>
                <a:lnTo>
                  <a:pt x="64" y="153"/>
                </a:lnTo>
                <a:lnTo>
                  <a:pt x="69" y="164"/>
                </a:lnTo>
                <a:lnTo>
                  <a:pt x="75" y="178"/>
                </a:lnTo>
                <a:lnTo>
                  <a:pt x="83" y="197"/>
                </a:lnTo>
                <a:lnTo>
                  <a:pt x="94" y="217"/>
                </a:lnTo>
                <a:lnTo>
                  <a:pt x="105" y="239"/>
                </a:lnTo>
                <a:lnTo>
                  <a:pt x="121" y="263"/>
                </a:lnTo>
                <a:lnTo>
                  <a:pt x="136" y="289"/>
                </a:lnTo>
                <a:lnTo>
                  <a:pt x="153" y="315"/>
                </a:lnTo>
                <a:lnTo>
                  <a:pt x="172" y="343"/>
                </a:lnTo>
                <a:lnTo>
                  <a:pt x="192" y="371"/>
                </a:lnTo>
                <a:lnTo>
                  <a:pt x="212" y="401"/>
                </a:lnTo>
                <a:lnTo>
                  <a:pt x="233" y="429"/>
                </a:lnTo>
                <a:lnTo>
                  <a:pt x="253" y="457"/>
                </a:lnTo>
                <a:lnTo>
                  <a:pt x="275" y="484"/>
                </a:lnTo>
                <a:lnTo>
                  <a:pt x="296" y="511"/>
                </a:lnTo>
                <a:lnTo>
                  <a:pt x="318" y="537"/>
                </a:lnTo>
                <a:lnTo>
                  <a:pt x="338" y="561"/>
                </a:lnTo>
                <a:lnTo>
                  <a:pt x="359" y="582"/>
                </a:lnTo>
                <a:lnTo>
                  <a:pt x="379" y="605"/>
                </a:lnTo>
                <a:lnTo>
                  <a:pt x="404" y="630"/>
                </a:lnTo>
                <a:lnTo>
                  <a:pt x="433" y="657"/>
                </a:lnTo>
                <a:lnTo>
                  <a:pt x="465" y="685"/>
                </a:lnTo>
                <a:lnTo>
                  <a:pt x="498" y="715"/>
                </a:lnTo>
                <a:lnTo>
                  <a:pt x="534" y="745"/>
                </a:lnTo>
                <a:lnTo>
                  <a:pt x="572" y="777"/>
                </a:lnTo>
                <a:lnTo>
                  <a:pt x="611" y="807"/>
                </a:lnTo>
                <a:lnTo>
                  <a:pt x="651" y="839"/>
                </a:lnTo>
                <a:lnTo>
                  <a:pt x="691" y="870"/>
                </a:lnTo>
                <a:lnTo>
                  <a:pt x="731" y="900"/>
                </a:lnTo>
                <a:lnTo>
                  <a:pt x="772" y="929"/>
                </a:lnTo>
                <a:lnTo>
                  <a:pt x="811" y="958"/>
                </a:lnTo>
                <a:lnTo>
                  <a:pt x="849" y="983"/>
                </a:lnTo>
                <a:lnTo>
                  <a:pt x="885" y="1008"/>
                </a:lnTo>
                <a:lnTo>
                  <a:pt x="921" y="1029"/>
                </a:lnTo>
                <a:lnTo>
                  <a:pt x="956" y="1051"/>
                </a:lnTo>
                <a:lnTo>
                  <a:pt x="998" y="1074"/>
                </a:lnTo>
                <a:lnTo>
                  <a:pt x="1044" y="1099"/>
                </a:lnTo>
                <a:lnTo>
                  <a:pt x="1095" y="1124"/>
                </a:lnTo>
                <a:lnTo>
                  <a:pt x="1149" y="1151"/>
                </a:lnTo>
                <a:lnTo>
                  <a:pt x="1207" y="1177"/>
                </a:lnTo>
                <a:lnTo>
                  <a:pt x="1266" y="1204"/>
                </a:lnTo>
                <a:lnTo>
                  <a:pt x="1329" y="1230"/>
                </a:lnTo>
                <a:lnTo>
                  <a:pt x="1390" y="1257"/>
                </a:lnTo>
                <a:lnTo>
                  <a:pt x="1453" y="1282"/>
                </a:lnTo>
                <a:lnTo>
                  <a:pt x="1515" y="1307"/>
                </a:lnTo>
                <a:lnTo>
                  <a:pt x="1577" y="1330"/>
                </a:lnTo>
                <a:lnTo>
                  <a:pt x="1637" y="1353"/>
                </a:lnTo>
                <a:lnTo>
                  <a:pt x="1695" y="1373"/>
                </a:lnTo>
                <a:lnTo>
                  <a:pt x="1750" y="1391"/>
                </a:lnTo>
                <a:lnTo>
                  <a:pt x="1803" y="1407"/>
                </a:lnTo>
                <a:lnTo>
                  <a:pt x="1845" y="1420"/>
                </a:lnTo>
                <a:lnTo>
                  <a:pt x="1878" y="1429"/>
                </a:lnTo>
                <a:lnTo>
                  <a:pt x="1903" y="1437"/>
                </a:lnTo>
                <a:lnTo>
                  <a:pt x="1922" y="1442"/>
                </a:lnTo>
                <a:lnTo>
                  <a:pt x="1935" y="1447"/>
                </a:lnTo>
                <a:lnTo>
                  <a:pt x="1946" y="1449"/>
                </a:lnTo>
                <a:lnTo>
                  <a:pt x="1956" y="1453"/>
                </a:lnTo>
                <a:lnTo>
                  <a:pt x="1967" y="1455"/>
                </a:lnTo>
                <a:lnTo>
                  <a:pt x="1981" y="1460"/>
                </a:lnTo>
                <a:lnTo>
                  <a:pt x="2001" y="1466"/>
                </a:lnTo>
                <a:lnTo>
                  <a:pt x="2027" y="1474"/>
                </a:lnTo>
                <a:lnTo>
                  <a:pt x="2062" y="1484"/>
                </a:lnTo>
                <a:lnTo>
                  <a:pt x="2108" y="1498"/>
                </a:lnTo>
                <a:lnTo>
                  <a:pt x="2167" y="1515"/>
                </a:lnTo>
                <a:lnTo>
                  <a:pt x="2240" y="1537"/>
                </a:lnTo>
                <a:lnTo>
                  <a:pt x="2331" y="1563"/>
                </a:lnTo>
              </a:path>
            </a:pathLst>
          </a:custGeom>
          <a:noFill/>
          <a:ln w="316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62200" y="4233960"/>
            <a:ext cx="1078200" cy="919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83000" y="3067200"/>
            <a:ext cx="1077840" cy="919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24240" y="4525920"/>
            <a:ext cx="2286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35200" y="4813200"/>
            <a:ext cx="16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31160" y="5548320"/>
            <a:ext cx="347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32320" y="6648480"/>
            <a:ext cx="1509840" cy="94464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3111480"/>
            <a:ext cx="1508040" cy="94464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07000" y="3697200"/>
            <a:ext cx="1509840" cy="94464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127240" y="3246480"/>
            <a:ext cx="5386320" cy="4104360"/>
            <a:chOff x="2127240" y="3246480"/>
            <a:chExt cx="5386320" cy="4104360"/>
          </a:xfrm>
        </p:grpSpPr>
        <p:sp>
          <p:nvSpPr>
            <p:cNvPr id="624" name=""/>
            <p:cNvSpPr/>
            <p:nvPr/>
          </p:nvSpPr>
          <p:spPr>
            <a:xfrm>
              <a:off x="2127240" y="3246480"/>
              <a:ext cx="162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49360" y="3251160"/>
              <a:ext cx="2286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62120" y="3536640"/>
              <a:ext cx="1620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896000" y="3811320"/>
              <a:ext cx="2617560" cy="3539520"/>
              <a:chOff x="4896000" y="3811320"/>
              <a:chExt cx="2617560" cy="3539520"/>
            </a:xfrm>
          </p:grpSpPr>
          <p:sp>
            <p:nvSpPr>
              <p:cNvPr id="628" name=""/>
              <p:cNvSpPr/>
              <p:nvPr/>
            </p:nvSpPr>
            <p:spPr>
              <a:xfrm>
                <a:off x="4896000" y="6810120"/>
                <a:ext cx="16164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119560" y="6816240"/>
                <a:ext cx="22716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6858000" y="3811320"/>
                <a:ext cx="655560" cy="648720"/>
                <a:chOff x="6858000" y="3811320"/>
                <a:chExt cx="655560" cy="6487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858000" y="3961800"/>
                  <a:ext cx="16200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5760"/>
                      <a:tab algn="l" pos="911160"/>
                      <a:tab algn="l" pos="1366920"/>
                      <a:tab algn="l" pos="1822320"/>
                      <a:tab algn="l" pos="2278080"/>
                      <a:tab algn="l" pos="2733840"/>
                      <a:tab algn="l" pos="3189240"/>
                      <a:tab algn="l" pos="3645000"/>
                      <a:tab algn="l" pos="4100400"/>
                      <a:tab algn="l" pos="4556160"/>
                      <a:tab algn="l" pos="5011560"/>
                      <a:tab algn="l" pos="5467320"/>
                      <a:tab algn="l" pos="5923080"/>
                      <a:tab algn="l" pos="6378480"/>
                      <a:tab algn="l" pos="6834240"/>
                      <a:tab algn="l" pos="7289640"/>
                      <a:tab algn="l" pos="7745400"/>
                      <a:tab algn="l" pos="8201160"/>
                      <a:tab algn="l" pos="8656560"/>
                      <a:tab algn="l" pos="9112320"/>
                    </a:tabLst>
                  </a:pPr>
                  <a:r>
                    <a:rPr b="0" i="1" lang="en-US" sz="3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167600" y="3945960"/>
                  <a:ext cx="3459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5760"/>
                      <a:tab algn="l" pos="911160"/>
                      <a:tab algn="l" pos="1366920"/>
                      <a:tab algn="l" pos="1822320"/>
                      <a:tab algn="l" pos="2278080"/>
                      <a:tab algn="l" pos="2733840"/>
                      <a:tab algn="l" pos="3189240"/>
                      <a:tab algn="l" pos="3645000"/>
                      <a:tab algn="l" pos="4100400"/>
                      <a:tab algn="l" pos="4556160"/>
                      <a:tab algn="l" pos="5011560"/>
                      <a:tab algn="l" pos="5467320"/>
                      <a:tab algn="l" pos="5923080"/>
                      <a:tab algn="l" pos="6378480"/>
                      <a:tab algn="l" pos="6834240"/>
                      <a:tab algn="l" pos="7289640"/>
                      <a:tab algn="l" pos="7745400"/>
                      <a:tab algn="l" pos="8201160"/>
                      <a:tab algn="l" pos="8656560"/>
                      <a:tab algn="l" pos="9112320"/>
                    </a:tabLst>
                  </a:pPr>
                  <a:r>
                    <a:rPr b="0" i="1" lang="en-US" sz="3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013520" y="3811320"/>
                  <a:ext cx="17784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5760"/>
                      <a:tab algn="l" pos="911160"/>
                      <a:tab algn="l" pos="1366920"/>
                      <a:tab algn="l" pos="1822320"/>
                      <a:tab algn="l" pos="2278080"/>
                      <a:tab algn="l" pos="2733840"/>
                      <a:tab algn="l" pos="3189240"/>
                      <a:tab algn="l" pos="3645000"/>
                      <a:tab algn="l" pos="4100400"/>
                      <a:tab algn="l" pos="4556160"/>
                      <a:tab algn="l" pos="5011560"/>
                      <a:tab algn="l" pos="5467320"/>
                      <a:tab algn="l" pos="5923080"/>
                      <a:tab algn="l" pos="6378480"/>
                      <a:tab algn="l" pos="6834240"/>
                      <a:tab algn="l" pos="7289640"/>
                      <a:tab algn="l" pos="7745400"/>
                      <a:tab algn="l" pos="8201160"/>
                      <a:tab algn="l" pos="8656560"/>
                      <a:tab algn="l" pos="9112320"/>
                    </a:tabLst>
                  </a:pPr>
                  <a:r>
                    <a:rPr b="0" i="1" lang="en-US" sz="25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5375160" y="7033680"/>
                <a:ext cx="1620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5029200" y="4952880"/>
            <a:ext cx="4678200" cy="1743120"/>
            <a:chOff x="5029200" y="4952880"/>
            <a:chExt cx="4678200" cy="1743120"/>
          </a:xfrm>
        </p:grpSpPr>
        <p:sp>
          <p:nvSpPr>
            <p:cNvPr id="636" name=""/>
            <p:cNvSpPr/>
            <p:nvPr/>
          </p:nvSpPr>
          <p:spPr>
            <a:xfrm flipV="1">
              <a:off x="5029200" y="4952880"/>
              <a:ext cx="4678200" cy="1743120"/>
            </a:xfrm>
            <a:prstGeom prst="roundRect">
              <a:avLst>
                <a:gd name="adj" fmla="val 8769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332320" y="5257800"/>
              <a:ext cx="4129200" cy="1189080"/>
              <a:chOff x="5332320" y="5257800"/>
              <a:chExt cx="4129200" cy="1189080"/>
            </a:xfrm>
          </p:grpSpPr>
          <p:sp>
            <p:nvSpPr>
              <p:cNvPr id="638" name=""/>
              <p:cNvSpPr/>
              <p:nvPr/>
            </p:nvSpPr>
            <p:spPr>
              <a:xfrm>
                <a:off x="5332320" y="5452920"/>
                <a:ext cx="4129200" cy="9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43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t </a:t>
                </a:r>
                <a:r>
                  <a:rPr b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43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 =  t  G</a:t>
                </a:r>
                <a:r>
                  <a:rPr b="0" lang="en-US" sz="43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43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696080" y="5257800"/>
                <a:ext cx="220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35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0" name=""/>
          <p:cNvGrpSpPr/>
          <p:nvPr/>
        </p:nvGrpSpPr>
        <p:grpSpPr>
          <a:xfrm>
            <a:off x="2935440" y="3500280"/>
            <a:ext cx="2039760" cy="3021120"/>
            <a:chOff x="2935440" y="3500280"/>
            <a:chExt cx="2039760" cy="3021120"/>
          </a:xfrm>
        </p:grpSpPr>
        <p:sp>
          <p:nvSpPr>
            <p:cNvPr id="641" name=""/>
            <p:cNvSpPr/>
            <p:nvPr/>
          </p:nvSpPr>
          <p:spPr>
            <a:xfrm flipH="1">
              <a:off x="2935440" y="3505320"/>
              <a:ext cx="203976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25880" y="3500280"/>
              <a:ext cx="0" cy="30211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280800" y="21708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econstruyamos desde que tomamos el tema de las isocuant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0" y="1752120"/>
            <a:ext cx="10058400" cy="7772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10000"/>
              </a:gs>
              <a:gs pos="50000">
                <a:srgbClr val="400080"/>
              </a:gs>
              <a:gs pos="100000">
                <a:srgbClr val="810000"/>
              </a:gs>
            </a:gsLst>
            <a:lin ang="8100000"/>
          </a:grad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6360" y="2735280"/>
            <a:ext cx="9752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Times New Roman"/>
              </a:rPr>
              <a:t>Las isocuantas forman un mapa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6360" y="4402080"/>
            <a:ext cx="9220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Times New Roman"/>
              </a:rPr>
              <a:t>Si observamos el diagrama básico; ¿Qué veríamo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6360" y="6078600"/>
            <a:ext cx="97520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00"/>
              </a:buClr>
              <a:buSzPct val="90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Times New Roman"/>
              </a:rPr>
              <a:t>Hagámoslo para dos insumos y un produc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284040" y="14040"/>
            <a:ext cx="94536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cremento proporcional en todos los insu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96880" y="2082960"/>
            <a:ext cx="4626000" cy="4545000"/>
          </a:xfrm>
          <a:custGeom>
            <a:avLst/>
            <a:gdLst/>
            <a:ahLst/>
            <a:rect l="l" t="t" r="r" b="b"/>
            <a:pathLst>
              <a:path w="2914" h="2863">
                <a:moveTo>
                  <a:pt x="5" y="1895"/>
                </a:moveTo>
                <a:lnTo>
                  <a:pt x="2067" y="2862"/>
                </a:lnTo>
                <a:lnTo>
                  <a:pt x="2077" y="2859"/>
                </a:lnTo>
                <a:lnTo>
                  <a:pt x="2089" y="2651"/>
                </a:lnTo>
                <a:lnTo>
                  <a:pt x="2122" y="2377"/>
                </a:lnTo>
                <a:lnTo>
                  <a:pt x="2199" y="1928"/>
                </a:lnTo>
                <a:lnTo>
                  <a:pt x="2275" y="1632"/>
                </a:lnTo>
                <a:lnTo>
                  <a:pt x="2397" y="1183"/>
                </a:lnTo>
                <a:lnTo>
                  <a:pt x="2539" y="723"/>
                </a:lnTo>
                <a:lnTo>
                  <a:pt x="2649" y="449"/>
                </a:lnTo>
                <a:lnTo>
                  <a:pt x="2770" y="208"/>
                </a:lnTo>
                <a:lnTo>
                  <a:pt x="2913" y="0"/>
                </a:lnTo>
                <a:lnTo>
                  <a:pt x="2903" y="0"/>
                </a:lnTo>
                <a:lnTo>
                  <a:pt x="0" y="1884"/>
                </a:lnTo>
                <a:lnTo>
                  <a:pt x="5" y="1895"/>
                </a:lnTo>
                <a:lnTo>
                  <a:pt x="5" y="1895"/>
                </a:lnTo>
              </a:path>
            </a:pathLst>
          </a:custGeom>
          <a:gradFill rotWithShape="0">
            <a:gsLst>
              <a:gs pos="0">
                <a:srgbClr val="ff8100"/>
              </a:gs>
              <a:gs pos="50000">
                <a:srgbClr val="ffffff"/>
              </a:gs>
              <a:gs pos="100000">
                <a:srgbClr val="ff8100"/>
              </a:gs>
            </a:gsLst>
            <a:lin ang="81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94120" y="5091120"/>
            <a:ext cx="3144960" cy="2052720"/>
          </a:xfrm>
          <a:custGeom>
            <a:avLst/>
            <a:gdLst/>
            <a:ahLst/>
            <a:rect l="l" t="t" r="r" b="b"/>
            <a:pathLst>
              <a:path w="1981" h="1293">
                <a:moveTo>
                  <a:pt x="122" y="21"/>
                </a:moveTo>
                <a:lnTo>
                  <a:pt x="122" y="21"/>
                </a:lnTo>
                <a:lnTo>
                  <a:pt x="0" y="964"/>
                </a:lnTo>
                <a:lnTo>
                  <a:pt x="0" y="964"/>
                </a:lnTo>
                <a:lnTo>
                  <a:pt x="680" y="1292"/>
                </a:lnTo>
                <a:lnTo>
                  <a:pt x="946" y="1215"/>
                </a:lnTo>
                <a:lnTo>
                  <a:pt x="1221" y="1150"/>
                </a:lnTo>
                <a:lnTo>
                  <a:pt x="1584" y="887"/>
                </a:lnTo>
                <a:lnTo>
                  <a:pt x="1760" y="755"/>
                </a:lnTo>
                <a:lnTo>
                  <a:pt x="1947" y="613"/>
                </a:lnTo>
                <a:lnTo>
                  <a:pt x="1980" y="339"/>
                </a:lnTo>
                <a:lnTo>
                  <a:pt x="1793" y="153"/>
                </a:lnTo>
                <a:lnTo>
                  <a:pt x="1760" y="0"/>
                </a:lnTo>
                <a:lnTo>
                  <a:pt x="122" y="21"/>
                </a:lnTo>
                <a:lnTo>
                  <a:pt x="122" y="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06880" y="2065320"/>
            <a:ext cx="1728720" cy="3027240"/>
          </a:xfrm>
          <a:custGeom>
            <a:avLst/>
            <a:gdLst/>
            <a:ahLst/>
            <a:rect l="l" t="t" r="r" b="b"/>
            <a:pathLst>
              <a:path w="1089" h="1907">
                <a:moveTo>
                  <a:pt x="0" y="1906"/>
                </a:moveTo>
                <a:lnTo>
                  <a:pt x="0" y="1906"/>
                </a:lnTo>
                <a:lnTo>
                  <a:pt x="65" y="1643"/>
                </a:lnTo>
                <a:lnTo>
                  <a:pt x="186" y="1194"/>
                </a:lnTo>
                <a:lnTo>
                  <a:pt x="329" y="734"/>
                </a:lnTo>
                <a:lnTo>
                  <a:pt x="439" y="460"/>
                </a:lnTo>
                <a:lnTo>
                  <a:pt x="560" y="219"/>
                </a:lnTo>
                <a:lnTo>
                  <a:pt x="703" y="11"/>
                </a:lnTo>
                <a:lnTo>
                  <a:pt x="758" y="0"/>
                </a:lnTo>
                <a:lnTo>
                  <a:pt x="812" y="44"/>
                </a:lnTo>
                <a:lnTo>
                  <a:pt x="846" y="109"/>
                </a:lnTo>
                <a:lnTo>
                  <a:pt x="890" y="296"/>
                </a:lnTo>
                <a:lnTo>
                  <a:pt x="934" y="570"/>
                </a:lnTo>
                <a:lnTo>
                  <a:pt x="978" y="898"/>
                </a:lnTo>
                <a:lnTo>
                  <a:pt x="1033" y="1347"/>
                </a:lnTo>
                <a:lnTo>
                  <a:pt x="1066" y="1709"/>
                </a:lnTo>
                <a:lnTo>
                  <a:pt x="1088" y="1895"/>
                </a:lnTo>
                <a:lnTo>
                  <a:pt x="0" y="1906"/>
                </a:lnTo>
                <a:lnTo>
                  <a:pt x="0" y="190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490760" y="1281240"/>
            <a:ext cx="0" cy="37749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987800" y="5087520"/>
            <a:ext cx="2583000" cy="32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658280" y="4888080"/>
            <a:ext cx="11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851600" y="5099040"/>
            <a:ext cx="70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39920" y="996840"/>
            <a:ext cx="19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2440" y="5100480"/>
            <a:ext cx="4349880" cy="2028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500000">
            <a:off x="5954760" y="6987960"/>
            <a:ext cx="11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1500000">
            <a:off x="6078240" y="7260840"/>
            <a:ext cx="698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496880" y="2082600"/>
            <a:ext cx="4608720" cy="299052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2065320"/>
            <a:ext cx="1940040" cy="4557600"/>
          </a:xfrm>
          <a:custGeom>
            <a:avLst/>
            <a:gdLst/>
            <a:ahLst/>
            <a:rect l="l" t="t" r="r" b="b"/>
            <a:pathLst>
              <a:path w="1222" h="2871">
                <a:moveTo>
                  <a:pt x="0" y="2870"/>
                </a:moveTo>
                <a:lnTo>
                  <a:pt x="12" y="2662"/>
                </a:lnTo>
                <a:lnTo>
                  <a:pt x="45" y="2388"/>
                </a:lnTo>
                <a:lnTo>
                  <a:pt x="122" y="1939"/>
                </a:lnTo>
                <a:lnTo>
                  <a:pt x="198" y="1643"/>
                </a:lnTo>
                <a:lnTo>
                  <a:pt x="320" y="1194"/>
                </a:lnTo>
                <a:lnTo>
                  <a:pt x="462" y="734"/>
                </a:lnTo>
                <a:lnTo>
                  <a:pt x="572" y="460"/>
                </a:lnTo>
                <a:lnTo>
                  <a:pt x="693" y="219"/>
                </a:lnTo>
                <a:lnTo>
                  <a:pt x="836" y="11"/>
                </a:lnTo>
                <a:lnTo>
                  <a:pt x="891" y="0"/>
                </a:lnTo>
                <a:lnTo>
                  <a:pt x="946" y="44"/>
                </a:lnTo>
                <a:lnTo>
                  <a:pt x="979" y="109"/>
                </a:lnTo>
                <a:lnTo>
                  <a:pt x="1023" y="296"/>
                </a:lnTo>
                <a:lnTo>
                  <a:pt x="1067" y="570"/>
                </a:lnTo>
                <a:lnTo>
                  <a:pt x="1111" y="898"/>
                </a:lnTo>
                <a:lnTo>
                  <a:pt x="1166" y="1347"/>
                </a:lnTo>
                <a:lnTo>
                  <a:pt x="1199" y="1709"/>
                </a:lnTo>
                <a:lnTo>
                  <a:pt x="1221" y="1895"/>
                </a:lnTo>
              </a:path>
            </a:pathLst>
          </a:custGeom>
          <a:noFill/>
          <a:ln w="475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496880" y="3689280"/>
            <a:ext cx="5958000" cy="1401840"/>
          </a:xfrm>
          <a:prstGeom prst="line">
            <a:avLst/>
          </a:prstGeom>
          <a:ln w="475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324080" y="6040440"/>
            <a:ext cx="1290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900" spc="-1" strike="noStrike">
                <a:solidFill>
                  <a:srgbClr val="000080"/>
                </a:solidFill>
                <a:latin typeface="Times New Roman"/>
              </a:rPr>
              <a:t>Rayo de expan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612880" y="4673520"/>
            <a:ext cx="960480" cy="1339920"/>
          </a:xfrm>
          <a:prstGeom prst="line">
            <a:avLst/>
          </a:prstGeom>
          <a:ln w="47520">
            <a:solidFill>
              <a:srgbClr val="41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00760" y="3773520"/>
            <a:ext cx="21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2920" y="5060880"/>
            <a:ext cx="17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1400" y="1642680"/>
            <a:ext cx="5433840" cy="2032560"/>
            <a:chOff x="41400" y="1642680"/>
            <a:chExt cx="5433840" cy="2032560"/>
          </a:xfrm>
        </p:grpSpPr>
        <p:sp>
          <p:nvSpPr>
            <p:cNvPr id="668" name=""/>
            <p:cNvSpPr/>
            <p:nvPr/>
          </p:nvSpPr>
          <p:spPr>
            <a:xfrm flipV="1">
              <a:off x="41400" y="1641960"/>
              <a:ext cx="5433840" cy="202572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2880" y="3002040"/>
              <a:ext cx="3451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 =  t 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9280" y="1749600"/>
              <a:ext cx="521676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300" spc="-1" strike="noStrike">
                  <a:solidFill>
                    <a:srgbClr val="ff0000"/>
                  </a:solidFill>
                  <a:latin typeface="Brush738 BT"/>
                </a:rPr>
                <a:t>Rendimientos constantes a escala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s-AR" sz="4200" spc="-1" strike="noStrike">
                <a:solidFill>
                  <a:srgbClr val="000000"/>
                </a:solidFill>
                <a:latin typeface="Times New Roman"/>
              </a:rPr>
              <a:t>Visión General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808280" y="3524400"/>
            <a:ext cx="6810120" cy="947160"/>
            <a:chOff x="1808280" y="3524400"/>
            <a:chExt cx="6810120" cy="947160"/>
          </a:xfrm>
        </p:grpSpPr>
        <p:sp>
          <p:nvSpPr>
            <p:cNvPr id="65" name=""/>
            <p:cNvSpPr/>
            <p:nvPr/>
          </p:nvSpPr>
          <p:spPr>
            <a:xfrm>
              <a:off x="5229360" y="3524400"/>
              <a:ext cx="1440" cy="511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0828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844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680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16960" y="4035960"/>
              <a:ext cx="1440" cy="43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828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78440" y="4035960"/>
              <a:ext cx="11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29360" y="4035960"/>
              <a:ext cx="11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46800" y="4035960"/>
              <a:ext cx="2270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95240" y="4489560"/>
            <a:ext cx="2036880" cy="2055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6280" y="5463360"/>
            <a:ext cx="174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124080" y="4497480"/>
            <a:ext cx="2036880" cy="2055600"/>
            <a:chOff x="3124080" y="4497480"/>
            <a:chExt cx="2036880" cy="2055600"/>
          </a:xfrm>
        </p:grpSpPr>
        <p:sp>
          <p:nvSpPr>
            <p:cNvPr id="77" name=""/>
            <p:cNvSpPr/>
            <p:nvPr/>
          </p:nvSpPr>
          <p:spPr>
            <a:xfrm>
              <a:off x="3124080" y="4497480"/>
              <a:ext cx="2036880" cy="2055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8720" y="5257800"/>
              <a:ext cx="1860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37200" y="2351160"/>
            <a:ext cx="203508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67680" y="2682720"/>
            <a:ext cx="132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81480" y="4495680"/>
            <a:ext cx="2411640" cy="2054520"/>
            <a:chOff x="5181480" y="4495680"/>
            <a:chExt cx="2411640" cy="2054520"/>
          </a:xfrm>
        </p:grpSpPr>
        <p:sp>
          <p:nvSpPr>
            <p:cNvPr id="83" name=""/>
            <p:cNvSpPr/>
            <p:nvPr/>
          </p:nvSpPr>
          <p:spPr>
            <a:xfrm>
              <a:off x="5334120" y="4495680"/>
              <a:ext cx="2036520" cy="2054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5104800"/>
              <a:ext cx="2411640" cy="7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640640" y="4495680"/>
            <a:ext cx="2036880" cy="2054520"/>
            <a:chOff x="7640640" y="4495680"/>
            <a:chExt cx="2036880" cy="2054520"/>
          </a:xfrm>
        </p:grpSpPr>
        <p:sp>
          <p:nvSpPr>
            <p:cNvPr id="86" name=""/>
            <p:cNvSpPr/>
            <p:nvPr/>
          </p:nvSpPr>
          <p:spPr>
            <a:xfrm>
              <a:off x="7640640" y="4495680"/>
              <a:ext cx="2036880" cy="2054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2400" y="4876560"/>
              <a:ext cx="177156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124080" y="4573440"/>
            <a:ext cx="2036880" cy="20559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560" y="4521240"/>
            <a:ext cx="20350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8760" y="5257800"/>
            <a:ext cx="199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15080" y="4521240"/>
            <a:ext cx="2036880" cy="205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07040" y="5154480"/>
            <a:ext cx="241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Estátic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Compara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21640" y="4748040"/>
            <a:ext cx="1771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La Firm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</a:rPr>
              <a:t>y el Merc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9080" y="4094280"/>
            <a:ext cx="3822840" cy="295740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496880" y="2082960"/>
            <a:ext cx="4608720" cy="2990520"/>
          </a:xfrm>
          <a:custGeom>
            <a:avLst/>
            <a:gdLst/>
            <a:ahLst/>
            <a:rect l="l" t="t" r="r" b="b"/>
            <a:pathLst>
              <a:path w="2903" h="1884">
                <a:moveTo>
                  <a:pt x="0" y="1884"/>
                </a:moveTo>
                <a:lnTo>
                  <a:pt x="577" y="1595"/>
                </a:lnTo>
                <a:lnTo>
                  <a:pt x="950" y="1408"/>
                </a:lnTo>
                <a:lnTo>
                  <a:pt x="1364" y="1182"/>
                </a:lnTo>
                <a:lnTo>
                  <a:pt x="1884" y="862"/>
                </a:lnTo>
                <a:lnTo>
                  <a:pt x="2497" y="395"/>
                </a:lnTo>
                <a:lnTo>
                  <a:pt x="2903" y="0"/>
                </a:lnTo>
              </a:path>
            </a:pathLst>
          </a:cu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96880" y="2082960"/>
            <a:ext cx="4624560" cy="4543200"/>
          </a:xfrm>
          <a:custGeom>
            <a:avLst/>
            <a:gdLst/>
            <a:ahLst/>
            <a:rect l="l" t="t" r="r" b="b"/>
            <a:pathLst>
              <a:path w="2913" h="2862">
                <a:moveTo>
                  <a:pt x="5" y="1895"/>
                </a:moveTo>
                <a:lnTo>
                  <a:pt x="2067" y="2862"/>
                </a:lnTo>
                <a:lnTo>
                  <a:pt x="2077" y="2859"/>
                </a:lnTo>
                <a:lnTo>
                  <a:pt x="2089" y="2651"/>
                </a:lnTo>
                <a:lnTo>
                  <a:pt x="2122" y="2377"/>
                </a:lnTo>
                <a:lnTo>
                  <a:pt x="2199" y="1928"/>
                </a:lnTo>
                <a:lnTo>
                  <a:pt x="2275" y="1632"/>
                </a:lnTo>
                <a:lnTo>
                  <a:pt x="2397" y="1183"/>
                </a:lnTo>
                <a:lnTo>
                  <a:pt x="2539" y="723"/>
                </a:lnTo>
                <a:lnTo>
                  <a:pt x="2649" y="449"/>
                </a:lnTo>
                <a:lnTo>
                  <a:pt x="2770" y="208"/>
                </a:lnTo>
                <a:lnTo>
                  <a:pt x="2913" y="0"/>
                </a:lnTo>
                <a:lnTo>
                  <a:pt x="2903" y="0"/>
                </a:lnTo>
                <a:lnTo>
                  <a:pt x="2791" y="141"/>
                </a:lnTo>
                <a:lnTo>
                  <a:pt x="2537" y="368"/>
                </a:lnTo>
                <a:lnTo>
                  <a:pt x="1911" y="862"/>
                </a:lnTo>
                <a:lnTo>
                  <a:pt x="1697" y="995"/>
                </a:lnTo>
                <a:lnTo>
                  <a:pt x="1444" y="1128"/>
                </a:lnTo>
                <a:lnTo>
                  <a:pt x="1177" y="1302"/>
                </a:lnTo>
                <a:lnTo>
                  <a:pt x="884" y="1435"/>
                </a:lnTo>
                <a:lnTo>
                  <a:pt x="497" y="1648"/>
                </a:lnTo>
                <a:lnTo>
                  <a:pt x="0" y="1884"/>
                </a:lnTo>
                <a:lnTo>
                  <a:pt x="5" y="1895"/>
                </a:lnTo>
                <a:lnTo>
                  <a:pt x="5" y="1895"/>
                </a:lnTo>
              </a:path>
            </a:pathLst>
          </a:custGeom>
          <a:gradFill rotWithShape="0">
            <a:gsLst>
              <a:gs pos="0">
                <a:srgbClr val="ff8100"/>
              </a:gs>
              <a:gs pos="50000">
                <a:srgbClr val="ffffff"/>
              </a:gs>
              <a:gs pos="100000">
                <a:srgbClr val="ff8100"/>
              </a:gs>
            </a:gsLst>
            <a:lin ang="81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284040" y="5544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cremento proporcional en todos los insu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94120" y="5091120"/>
            <a:ext cx="3144960" cy="2052720"/>
          </a:xfrm>
          <a:custGeom>
            <a:avLst/>
            <a:gdLst/>
            <a:ahLst/>
            <a:rect l="l" t="t" r="r" b="b"/>
            <a:pathLst>
              <a:path w="1981" h="1293">
                <a:moveTo>
                  <a:pt x="122" y="21"/>
                </a:moveTo>
                <a:lnTo>
                  <a:pt x="122" y="21"/>
                </a:lnTo>
                <a:lnTo>
                  <a:pt x="0" y="964"/>
                </a:lnTo>
                <a:lnTo>
                  <a:pt x="0" y="964"/>
                </a:lnTo>
                <a:lnTo>
                  <a:pt x="680" y="1292"/>
                </a:lnTo>
                <a:lnTo>
                  <a:pt x="946" y="1215"/>
                </a:lnTo>
                <a:lnTo>
                  <a:pt x="1221" y="1150"/>
                </a:lnTo>
                <a:lnTo>
                  <a:pt x="1584" y="887"/>
                </a:lnTo>
                <a:lnTo>
                  <a:pt x="1760" y="755"/>
                </a:lnTo>
                <a:lnTo>
                  <a:pt x="1947" y="613"/>
                </a:lnTo>
                <a:lnTo>
                  <a:pt x="1980" y="339"/>
                </a:lnTo>
                <a:lnTo>
                  <a:pt x="1793" y="153"/>
                </a:lnTo>
                <a:lnTo>
                  <a:pt x="1760" y="0"/>
                </a:lnTo>
                <a:lnTo>
                  <a:pt x="122" y="21"/>
                </a:lnTo>
                <a:lnTo>
                  <a:pt x="122" y="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06880" y="2065320"/>
            <a:ext cx="1728720" cy="3027240"/>
          </a:xfrm>
          <a:custGeom>
            <a:avLst/>
            <a:gdLst/>
            <a:ahLst/>
            <a:rect l="l" t="t" r="r" b="b"/>
            <a:pathLst>
              <a:path w="1089" h="1907">
                <a:moveTo>
                  <a:pt x="0" y="1906"/>
                </a:moveTo>
                <a:lnTo>
                  <a:pt x="0" y="1906"/>
                </a:lnTo>
                <a:lnTo>
                  <a:pt x="65" y="1643"/>
                </a:lnTo>
                <a:lnTo>
                  <a:pt x="186" y="1194"/>
                </a:lnTo>
                <a:lnTo>
                  <a:pt x="329" y="734"/>
                </a:lnTo>
                <a:lnTo>
                  <a:pt x="439" y="460"/>
                </a:lnTo>
                <a:lnTo>
                  <a:pt x="560" y="219"/>
                </a:lnTo>
                <a:lnTo>
                  <a:pt x="703" y="11"/>
                </a:lnTo>
                <a:lnTo>
                  <a:pt x="758" y="0"/>
                </a:lnTo>
                <a:lnTo>
                  <a:pt x="812" y="44"/>
                </a:lnTo>
                <a:lnTo>
                  <a:pt x="846" y="109"/>
                </a:lnTo>
                <a:lnTo>
                  <a:pt x="890" y="296"/>
                </a:lnTo>
                <a:lnTo>
                  <a:pt x="934" y="570"/>
                </a:lnTo>
                <a:lnTo>
                  <a:pt x="978" y="898"/>
                </a:lnTo>
                <a:lnTo>
                  <a:pt x="1033" y="1347"/>
                </a:lnTo>
                <a:lnTo>
                  <a:pt x="1066" y="1709"/>
                </a:lnTo>
                <a:lnTo>
                  <a:pt x="1088" y="1895"/>
                </a:lnTo>
                <a:lnTo>
                  <a:pt x="0" y="1906"/>
                </a:lnTo>
                <a:lnTo>
                  <a:pt x="0" y="190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1490760" y="1281240"/>
            <a:ext cx="0" cy="37749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987800" y="5087520"/>
            <a:ext cx="2583000" cy="32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58280" y="4888080"/>
            <a:ext cx="11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51600" y="5099040"/>
            <a:ext cx="70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39920" y="996840"/>
            <a:ext cx="19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2440" y="5100480"/>
            <a:ext cx="4349880" cy="2028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500000">
            <a:off x="5954760" y="6987960"/>
            <a:ext cx="11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500000">
            <a:off x="6078240" y="7260840"/>
            <a:ext cx="698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94120" y="2065320"/>
            <a:ext cx="1940040" cy="4557600"/>
          </a:xfrm>
          <a:custGeom>
            <a:avLst/>
            <a:gdLst/>
            <a:ahLst/>
            <a:rect l="l" t="t" r="r" b="b"/>
            <a:pathLst>
              <a:path w="1222" h="2871">
                <a:moveTo>
                  <a:pt x="0" y="2870"/>
                </a:moveTo>
                <a:lnTo>
                  <a:pt x="12" y="2662"/>
                </a:lnTo>
                <a:lnTo>
                  <a:pt x="45" y="2388"/>
                </a:lnTo>
                <a:lnTo>
                  <a:pt x="122" y="1939"/>
                </a:lnTo>
                <a:lnTo>
                  <a:pt x="198" y="1643"/>
                </a:lnTo>
                <a:lnTo>
                  <a:pt x="320" y="1194"/>
                </a:lnTo>
                <a:lnTo>
                  <a:pt x="462" y="734"/>
                </a:lnTo>
                <a:lnTo>
                  <a:pt x="572" y="460"/>
                </a:lnTo>
                <a:lnTo>
                  <a:pt x="693" y="219"/>
                </a:lnTo>
                <a:lnTo>
                  <a:pt x="836" y="11"/>
                </a:lnTo>
                <a:lnTo>
                  <a:pt x="891" y="0"/>
                </a:lnTo>
                <a:lnTo>
                  <a:pt x="946" y="44"/>
                </a:lnTo>
                <a:lnTo>
                  <a:pt x="979" y="109"/>
                </a:lnTo>
                <a:lnTo>
                  <a:pt x="1023" y="296"/>
                </a:lnTo>
                <a:lnTo>
                  <a:pt x="1067" y="570"/>
                </a:lnTo>
                <a:lnTo>
                  <a:pt x="1111" y="898"/>
                </a:lnTo>
                <a:lnTo>
                  <a:pt x="1166" y="1347"/>
                </a:lnTo>
                <a:lnTo>
                  <a:pt x="1199" y="1709"/>
                </a:lnTo>
                <a:lnTo>
                  <a:pt x="1221" y="1895"/>
                </a:lnTo>
              </a:path>
            </a:pathLst>
          </a:custGeom>
          <a:noFill/>
          <a:ln w="475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312920" y="5060880"/>
            <a:ext cx="17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4520" y="1541160"/>
            <a:ext cx="4627800" cy="2019240"/>
            <a:chOff x="74520" y="1541160"/>
            <a:chExt cx="4627800" cy="2019240"/>
          </a:xfrm>
        </p:grpSpPr>
        <p:sp>
          <p:nvSpPr>
            <p:cNvPr id="687" name=""/>
            <p:cNvSpPr/>
            <p:nvPr/>
          </p:nvSpPr>
          <p:spPr>
            <a:xfrm flipV="1">
              <a:off x="74520" y="1540440"/>
              <a:ext cx="4627800" cy="201924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0960" y="1606680"/>
              <a:ext cx="447048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Brush738 BT"/>
                </a:rPr>
                <a:t>Rendimientos crecientes a escal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0160" y="2728800"/>
              <a:ext cx="4424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&gt;1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 &gt; t 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263520" y="-6480"/>
            <a:ext cx="945360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cremento proporcional en todos los insum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776840" y="5070600"/>
            <a:ext cx="3143160" cy="2052360"/>
          </a:xfrm>
          <a:custGeom>
            <a:avLst/>
            <a:gdLst/>
            <a:ahLst/>
            <a:rect l="l" t="t" r="r" b="b"/>
            <a:pathLst>
              <a:path w="1981" h="1293">
                <a:moveTo>
                  <a:pt x="122" y="21"/>
                </a:moveTo>
                <a:lnTo>
                  <a:pt x="122" y="21"/>
                </a:lnTo>
                <a:lnTo>
                  <a:pt x="0" y="964"/>
                </a:lnTo>
                <a:lnTo>
                  <a:pt x="0" y="964"/>
                </a:lnTo>
                <a:lnTo>
                  <a:pt x="680" y="1292"/>
                </a:lnTo>
                <a:lnTo>
                  <a:pt x="946" y="1215"/>
                </a:lnTo>
                <a:lnTo>
                  <a:pt x="1221" y="1150"/>
                </a:lnTo>
                <a:lnTo>
                  <a:pt x="1584" y="887"/>
                </a:lnTo>
                <a:lnTo>
                  <a:pt x="1760" y="755"/>
                </a:lnTo>
                <a:lnTo>
                  <a:pt x="1947" y="613"/>
                </a:lnTo>
                <a:lnTo>
                  <a:pt x="1980" y="339"/>
                </a:lnTo>
                <a:lnTo>
                  <a:pt x="1793" y="153"/>
                </a:lnTo>
                <a:lnTo>
                  <a:pt x="1760" y="0"/>
                </a:lnTo>
                <a:lnTo>
                  <a:pt x="122" y="21"/>
                </a:lnTo>
                <a:lnTo>
                  <a:pt x="122" y="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06880" y="2065320"/>
            <a:ext cx="1728720" cy="3027240"/>
          </a:xfrm>
          <a:custGeom>
            <a:avLst/>
            <a:gdLst/>
            <a:ahLst/>
            <a:rect l="l" t="t" r="r" b="b"/>
            <a:pathLst>
              <a:path w="1089" h="1907">
                <a:moveTo>
                  <a:pt x="0" y="1906"/>
                </a:moveTo>
                <a:lnTo>
                  <a:pt x="0" y="1906"/>
                </a:lnTo>
                <a:lnTo>
                  <a:pt x="65" y="1643"/>
                </a:lnTo>
                <a:lnTo>
                  <a:pt x="186" y="1194"/>
                </a:lnTo>
                <a:lnTo>
                  <a:pt x="329" y="734"/>
                </a:lnTo>
                <a:lnTo>
                  <a:pt x="439" y="460"/>
                </a:lnTo>
                <a:lnTo>
                  <a:pt x="560" y="219"/>
                </a:lnTo>
                <a:lnTo>
                  <a:pt x="703" y="11"/>
                </a:lnTo>
                <a:lnTo>
                  <a:pt x="758" y="0"/>
                </a:lnTo>
                <a:lnTo>
                  <a:pt x="812" y="44"/>
                </a:lnTo>
                <a:lnTo>
                  <a:pt x="846" y="109"/>
                </a:lnTo>
                <a:lnTo>
                  <a:pt x="890" y="296"/>
                </a:lnTo>
                <a:lnTo>
                  <a:pt x="934" y="570"/>
                </a:lnTo>
                <a:lnTo>
                  <a:pt x="978" y="898"/>
                </a:lnTo>
                <a:lnTo>
                  <a:pt x="1033" y="1347"/>
                </a:lnTo>
                <a:lnTo>
                  <a:pt x="1066" y="1709"/>
                </a:lnTo>
                <a:lnTo>
                  <a:pt x="1088" y="1895"/>
                </a:lnTo>
                <a:lnTo>
                  <a:pt x="0" y="1906"/>
                </a:lnTo>
                <a:lnTo>
                  <a:pt x="0" y="190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490760" y="1281240"/>
            <a:ext cx="0" cy="37749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987800" y="5087520"/>
            <a:ext cx="2583000" cy="32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58280" y="4888080"/>
            <a:ext cx="11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51600" y="5099040"/>
            <a:ext cx="70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39920" y="996840"/>
            <a:ext cx="19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22440" y="5100480"/>
            <a:ext cx="4349880" cy="2028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500000">
            <a:off x="5954760" y="6987960"/>
            <a:ext cx="11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500000">
            <a:off x="6078240" y="7260840"/>
            <a:ext cx="698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515960" y="2085840"/>
            <a:ext cx="4592520" cy="4544640"/>
            <a:chOff x="1515960" y="2085840"/>
            <a:chExt cx="4592520" cy="4544640"/>
          </a:xfrm>
        </p:grpSpPr>
        <p:sp>
          <p:nvSpPr>
            <p:cNvPr id="702" name=""/>
            <p:cNvSpPr/>
            <p:nvPr/>
          </p:nvSpPr>
          <p:spPr>
            <a:xfrm>
              <a:off x="1541520" y="2085840"/>
              <a:ext cx="4566960" cy="4544640"/>
            </a:xfrm>
            <a:custGeom>
              <a:avLst/>
              <a:gdLst/>
              <a:ahLst/>
              <a:rect l="l" t="t" r="r" b="b"/>
              <a:pathLst>
                <a:path w="2851" h="2810">
                  <a:moveTo>
                    <a:pt x="0" y="1841"/>
                  </a:moveTo>
                  <a:lnTo>
                    <a:pt x="2030" y="2802"/>
                  </a:lnTo>
                  <a:lnTo>
                    <a:pt x="2035" y="2809"/>
                  </a:lnTo>
                  <a:lnTo>
                    <a:pt x="2045" y="2605"/>
                  </a:lnTo>
                  <a:lnTo>
                    <a:pt x="2069" y="2403"/>
                  </a:lnTo>
                  <a:lnTo>
                    <a:pt x="2078" y="2336"/>
                  </a:lnTo>
                  <a:lnTo>
                    <a:pt x="2152" y="1894"/>
                  </a:lnTo>
                  <a:lnTo>
                    <a:pt x="2227" y="1604"/>
                  </a:lnTo>
                  <a:lnTo>
                    <a:pt x="2345" y="1164"/>
                  </a:lnTo>
                  <a:lnTo>
                    <a:pt x="2486" y="710"/>
                  </a:lnTo>
                  <a:lnTo>
                    <a:pt x="2593" y="443"/>
                  </a:lnTo>
                  <a:lnTo>
                    <a:pt x="2711" y="206"/>
                  </a:lnTo>
                  <a:lnTo>
                    <a:pt x="2850" y="0"/>
                  </a:lnTo>
                  <a:lnTo>
                    <a:pt x="2840" y="0"/>
                  </a:lnTo>
                  <a:lnTo>
                    <a:pt x="2769" y="11"/>
                  </a:lnTo>
                  <a:lnTo>
                    <a:pt x="2712" y="19"/>
                  </a:lnTo>
                  <a:lnTo>
                    <a:pt x="2665" y="26"/>
                  </a:lnTo>
                  <a:lnTo>
                    <a:pt x="2629" y="31"/>
                  </a:lnTo>
                  <a:lnTo>
                    <a:pt x="2601" y="35"/>
                  </a:lnTo>
                  <a:lnTo>
                    <a:pt x="2580" y="38"/>
                  </a:lnTo>
                  <a:lnTo>
                    <a:pt x="2566" y="40"/>
                  </a:lnTo>
                  <a:lnTo>
                    <a:pt x="2555" y="42"/>
                  </a:lnTo>
                  <a:lnTo>
                    <a:pt x="2546" y="43"/>
                  </a:lnTo>
                  <a:lnTo>
                    <a:pt x="2538" y="44"/>
                  </a:lnTo>
                  <a:lnTo>
                    <a:pt x="2529" y="46"/>
                  </a:lnTo>
                  <a:lnTo>
                    <a:pt x="2520" y="47"/>
                  </a:lnTo>
                  <a:lnTo>
                    <a:pt x="2504" y="50"/>
                  </a:lnTo>
                  <a:lnTo>
                    <a:pt x="2486" y="52"/>
                  </a:lnTo>
                  <a:lnTo>
                    <a:pt x="2460" y="56"/>
                  </a:lnTo>
                  <a:lnTo>
                    <a:pt x="2426" y="60"/>
                  </a:lnTo>
                  <a:lnTo>
                    <a:pt x="2385" y="67"/>
                  </a:lnTo>
                  <a:lnTo>
                    <a:pt x="2342" y="74"/>
                  </a:lnTo>
                  <a:lnTo>
                    <a:pt x="2297" y="83"/>
                  </a:lnTo>
                  <a:lnTo>
                    <a:pt x="2252" y="90"/>
                  </a:lnTo>
                  <a:lnTo>
                    <a:pt x="2206" y="100"/>
                  </a:lnTo>
                  <a:lnTo>
                    <a:pt x="2159" y="109"/>
                  </a:lnTo>
                  <a:lnTo>
                    <a:pt x="2112" y="119"/>
                  </a:lnTo>
                  <a:lnTo>
                    <a:pt x="2066" y="128"/>
                  </a:lnTo>
                  <a:lnTo>
                    <a:pt x="2021" y="140"/>
                  </a:lnTo>
                  <a:lnTo>
                    <a:pt x="1977" y="150"/>
                  </a:lnTo>
                  <a:lnTo>
                    <a:pt x="1935" y="160"/>
                  </a:lnTo>
                  <a:lnTo>
                    <a:pt x="1897" y="169"/>
                  </a:lnTo>
                  <a:lnTo>
                    <a:pt x="1860" y="179"/>
                  </a:lnTo>
                  <a:lnTo>
                    <a:pt x="1828" y="189"/>
                  </a:lnTo>
                  <a:lnTo>
                    <a:pt x="1799" y="198"/>
                  </a:lnTo>
                  <a:lnTo>
                    <a:pt x="1776" y="206"/>
                  </a:lnTo>
                  <a:lnTo>
                    <a:pt x="1751" y="215"/>
                  </a:lnTo>
                  <a:lnTo>
                    <a:pt x="1724" y="225"/>
                  </a:lnTo>
                  <a:lnTo>
                    <a:pt x="1694" y="236"/>
                  </a:lnTo>
                  <a:lnTo>
                    <a:pt x="1663" y="247"/>
                  </a:lnTo>
                  <a:lnTo>
                    <a:pt x="1629" y="260"/>
                  </a:lnTo>
                  <a:lnTo>
                    <a:pt x="1594" y="274"/>
                  </a:lnTo>
                  <a:lnTo>
                    <a:pt x="1557" y="288"/>
                  </a:lnTo>
                  <a:lnTo>
                    <a:pt x="1521" y="302"/>
                  </a:lnTo>
                  <a:lnTo>
                    <a:pt x="1483" y="317"/>
                  </a:lnTo>
                  <a:lnTo>
                    <a:pt x="1446" y="332"/>
                  </a:lnTo>
                  <a:lnTo>
                    <a:pt x="1409" y="347"/>
                  </a:lnTo>
                  <a:lnTo>
                    <a:pt x="1373" y="360"/>
                  </a:lnTo>
                  <a:lnTo>
                    <a:pt x="1338" y="374"/>
                  </a:lnTo>
                  <a:lnTo>
                    <a:pt x="1304" y="386"/>
                  </a:lnTo>
                  <a:lnTo>
                    <a:pt x="1273" y="399"/>
                  </a:lnTo>
                  <a:lnTo>
                    <a:pt x="1244" y="410"/>
                  </a:lnTo>
                  <a:lnTo>
                    <a:pt x="1215" y="423"/>
                  </a:lnTo>
                  <a:lnTo>
                    <a:pt x="1182" y="438"/>
                  </a:lnTo>
                  <a:lnTo>
                    <a:pt x="1147" y="457"/>
                  </a:lnTo>
                  <a:lnTo>
                    <a:pt x="1110" y="477"/>
                  </a:lnTo>
                  <a:lnTo>
                    <a:pt x="1071" y="500"/>
                  </a:lnTo>
                  <a:lnTo>
                    <a:pt x="1032" y="523"/>
                  </a:lnTo>
                  <a:lnTo>
                    <a:pt x="991" y="549"/>
                  </a:lnTo>
                  <a:lnTo>
                    <a:pt x="950" y="574"/>
                  </a:lnTo>
                  <a:lnTo>
                    <a:pt x="909" y="602"/>
                  </a:lnTo>
                  <a:lnTo>
                    <a:pt x="868" y="630"/>
                  </a:lnTo>
                  <a:lnTo>
                    <a:pt x="828" y="658"/>
                  </a:lnTo>
                  <a:lnTo>
                    <a:pt x="790" y="686"/>
                  </a:lnTo>
                  <a:lnTo>
                    <a:pt x="754" y="714"/>
                  </a:lnTo>
                  <a:lnTo>
                    <a:pt x="719" y="741"/>
                  </a:lnTo>
                  <a:lnTo>
                    <a:pt x="687" y="767"/>
                  </a:lnTo>
                  <a:lnTo>
                    <a:pt x="659" y="792"/>
                  </a:lnTo>
                  <a:lnTo>
                    <a:pt x="630" y="818"/>
                  </a:lnTo>
                  <a:lnTo>
                    <a:pt x="602" y="846"/>
                  </a:lnTo>
                  <a:lnTo>
                    <a:pt x="571" y="876"/>
                  </a:lnTo>
                  <a:lnTo>
                    <a:pt x="541" y="907"/>
                  </a:lnTo>
                  <a:lnTo>
                    <a:pt x="510" y="940"/>
                  </a:lnTo>
                  <a:lnTo>
                    <a:pt x="480" y="973"/>
                  </a:lnTo>
                  <a:lnTo>
                    <a:pt x="450" y="1007"/>
                  </a:lnTo>
                  <a:lnTo>
                    <a:pt x="421" y="1039"/>
                  </a:lnTo>
                  <a:lnTo>
                    <a:pt x="392" y="1073"/>
                  </a:lnTo>
                  <a:lnTo>
                    <a:pt x="365" y="1105"/>
                  </a:lnTo>
                  <a:lnTo>
                    <a:pt x="338" y="1137"/>
                  </a:lnTo>
                  <a:lnTo>
                    <a:pt x="316" y="1166"/>
                  </a:lnTo>
                  <a:lnTo>
                    <a:pt x="294" y="1195"/>
                  </a:lnTo>
                  <a:lnTo>
                    <a:pt x="275" y="1222"/>
                  </a:lnTo>
                  <a:lnTo>
                    <a:pt x="258" y="1245"/>
                  </a:lnTo>
                  <a:lnTo>
                    <a:pt x="246" y="1266"/>
                  </a:lnTo>
                  <a:lnTo>
                    <a:pt x="233" y="1287"/>
                  </a:lnTo>
                  <a:lnTo>
                    <a:pt x="221" y="1310"/>
                  </a:lnTo>
                  <a:lnTo>
                    <a:pt x="208" y="1334"/>
                  </a:lnTo>
                  <a:lnTo>
                    <a:pt x="195" y="1359"/>
                  </a:lnTo>
                  <a:lnTo>
                    <a:pt x="181" y="1387"/>
                  </a:lnTo>
                  <a:lnTo>
                    <a:pt x="168" y="1414"/>
                  </a:lnTo>
                  <a:lnTo>
                    <a:pt x="154" y="1442"/>
                  </a:lnTo>
                  <a:lnTo>
                    <a:pt x="142" y="1469"/>
                  </a:lnTo>
                  <a:lnTo>
                    <a:pt x="129" y="1497"/>
                  </a:lnTo>
                  <a:lnTo>
                    <a:pt x="117" y="1525"/>
                  </a:lnTo>
                  <a:lnTo>
                    <a:pt x="106" y="1552"/>
                  </a:lnTo>
                  <a:lnTo>
                    <a:pt x="95" y="1577"/>
                  </a:lnTo>
                  <a:lnTo>
                    <a:pt x="85" y="1602"/>
                  </a:lnTo>
                  <a:lnTo>
                    <a:pt x="76" y="1624"/>
                  </a:lnTo>
                  <a:lnTo>
                    <a:pt x="69" y="1646"/>
                  </a:lnTo>
                  <a:lnTo>
                    <a:pt x="64" y="1663"/>
                  </a:lnTo>
                  <a:lnTo>
                    <a:pt x="58" y="1680"/>
                  </a:lnTo>
                  <a:lnTo>
                    <a:pt x="55" y="1691"/>
                  </a:lnTo>
                  <a:lnTo>
                    <a:pt x="52" y="1701"/>
                  </a:lnTo>
                  <a:lnTo>
                    <a:pt x="50" y="1706"/>
                  </a:lnTo>
                  <a:lnTo>
                    <a:pt x="48" y="1711"/>
                  </a:lnTo>
                  <a:lnTo>
                    <a:pt x="47" y="1715"/>
                  </a:lnTo>
                  <a:lnTo>
                    <a:pt x="45" y="1719"/>
                  </a:lnTo>
                  <a:lnTo>
                    <a:pt x="45" y="1722"/>
                  </a:lnTo>
                  <a:lnTo>
                    <a:pt x="43" y="1728"/>
                  </a:lnTo>
                  <a:lnTo>
                    <a:pt x="41" y="1734"/>
                  </a:lnTo>
                  <a:lnTo>
                    <a:pt x="37" y="1744"/>
                  </a:lnTo>
                  <a:lnTo>
                    <a:pt x="34" y="1756"/>
                  </a:lnTo>
                  <a:lnTo>
                    <a:pt x="28" y="1773"/>
                  </a:lnTo>
                  <a:lnTo>
                    <a:pt x="22" y="1793"/>
                  </a:lnTo>
                  <a:lnTo>
                    <a:pt x="14" y="1819"/>
                  </a:lnTo>
                  <a:lnTo>
                    <a:pt x="5" y="1850"/>
                  </a:lnTo>
                  <a:lnTo>
                    <a:pt x="0" y="1841"/>
                  </a:lnTo>
                  <a:lnTo>
                    <a:pt x="0" y="1841"/>
                  </a:lnTo>
                </a:path>
              </a:pathLst>
            </a:custGeom>
            <a:gradFill rotWithShape="0">
              <a:gsLst>
                <a:gs pos="0">
                  <a:srgbClr val="ff8100"/>
                </a:gs>
                <a:gs pos="50000">
                  <a:srgbClr val="ffffff"/>
                </a:gs>
                <a:gs pos="100000">
                  <a:srgbClr val="ff8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15960" y="2111400"/>
              <a:ext cx="4542840" cy="2994120"/>
            </a:xfrm>
            <a:custGeom>
              <a:avLst/>
              <a:gdLst/>
              <a:ahLst/>
              <a:rect l="l" t="t" r="r" b="b"/>
              <a:pathLst>
                <a:path w="2836" h="1851">
                  <a:moveTo>
                    <a:pt x="0" y="1850"/>
                  </a:moveTo>
                  <a:lnTo>
                    <a:pt x="9" y="1819"/>
                  </a:lnTo>
                  <a:lnTo>
                    <a:pt x="17" y="1793"/>
                  </a:lnTo>
                  <a:lnTo>
                    <a:pt x="23" y="1773"/>
                  </a:lnTo>
                  <a:lnTo>
                    <a:pt x="29" y="1756"/>
                  </a:lnTo>
                  <a:lnTo>
                    <a:pt x="32" y="1744"/>
                  </a:lnTo>
                  <a:lnTo>
                    <a:pt x="36" y="1734"/>
                  </a:lnTo>
                  <a:lnTo>
                    <a:pt x="38" y="1728"/>
                  </a:lnTo>
                  <a:lnTo>
                    <a:pt x="40" y="1722"/>
                  </a:lnTo>
                  <a:lnTo>
                    <a:pt x="40" y="1719"/>
                  </a:lnTo>
                  <a:lnTo>
                    <a:pt x="42" y="1715"/>
                  </a:lnTo>
                  <a:lnTo>
                    <a:pt x="43" y="1711"/>
                  </a:lnTo>
                  <a:lnTo>
                    <a:pt x="45" y="1706"/>
                  </a:lnTo>
                  <a:lnTo>
                    <a:pt x="47" y="1701"/>
                  </a:lnTo>
                  <a:lnTo>
                    <a:pt x="50" y="1691"/>
                  </a:lnTo>
                  <a:lnTo>
                    <a:pt x="53" y="1680"/>
                  </a:lnTo>
                  <a:lnTo>
                    <a:pt x="59" y="1663"/>
                  </a:lnTo>
                  <a:lnTo>
                    <a:pt x="64" y="1646"/>
                  </a:lnTo>
                  <a:lnTo>
                    <a:pt x="71" y="1624"/>
                  </a:lnTo>
                  <a:lnTo>
                    <a:pt x="80" y="1602"/>
                  </a:lnTo>
                  <a:lnTo>
                    <a:pt x="90" y="1577"/>
                  </a:lnTo>
                  <a:lnTo>
                    <a:pt x="101" y="1552"/>
                  </a:lnTo>
                  <a:lnTo>
                    <a:pt x="112" y="1525"/>
                  </a:lnTo>
                  <a:lnTo>
                    <a:pt x="124" y="1497"/>
                  </a:lnTo>
                  <a:lnTo>
                    <a:pt x="137" y="1469"/>
                  </a:lnTo>
                  <a:lnTo>
                    <a:pt x="149" y="1442"/>
                  </a:lnTo>
                  <a:lnTo>
                    <a:pt x="163" y="1414"/>
                  </a:lnTo>
                  <a:lnTo>
                    <a:pt x="176" y="1387"/>
                  </a:lnTo>
                  <a:lnTo>
                    <a:pt x="190" y="1359"/>
                  </a:lnTo>
                  <a:lnTo>
                    <a:pt x="203" y="1334"/>
                  </a:lnTo>
                  <a:lnTo>
                    <a:pt x="216" y="1310"/>
                  </a:lnTo>
                  <a:lnTo>
                    <a:pt x="228" y="1287"/>
                  </a:lnTo>
                  <a:lnTo>
                    <a:pt x="241" y="1266"/>
                  </a:lnTo>
                  <a:lnTo>
                    <a:pt x="253" y="1245"/>
                  </a:lnTo>
                  <a:lnTo>
                    <a:pt x="270" y="1222"/>
                  </a:lnTo>
                  <a:lnTo>
                    <a:pt x="289" y="1195"/>
                  </a:lnTo>
                  <a:lnTo>
                    <a:pt x="311" y="1166"/>
                  </a:lnTo>
                  <a:lnTo>
                    <a:pt x="333" y="1137"/>
                  </a:lnTo>
                  <a:lnTo>
                    <a:pt x="360" y="1105"/>
                  </a:lnTo>
                  <a:lnTo>
                    <a:pt x="387" y="1073"/>
                  </a:lnTo>
                  <a:lnTo>
                    <a:pt x="416" y="1039"/>
                  </a:lnTo>
                  <a:lnTo>
                    <a:pt x="445" y="1007"/>
                  </a:lnTo>
                  <a:lnTo>
                    <a:pt x="475" y="973"/>
                  </a:lnTo>
                  <a:lnTo>
                    <a:pt x="505" y="940"/>
                  </a:lnTo>
                  <a:lnTo>
                    <a:pt x="536" y="907"/>
                  </a:lnTo>
                  <a:lnTo>
                    <a:pt x="566" y="876"/>
                  </a:lnTo>
                  <a:lnTo>
                    <a:pt x="597" y="846"/>
                  </a:lnTo>
                  <a:lnTo>
                    <a:pt x="625" y="818"/>
                  </a:lnTo>
                  <a:lnTo>
                    <a:pt x="654" y="792"/>
                  </a:lnTo>
                  <a:lnTo>
                    <a:pt x="682" y="767"/>
                  </a:lnTo>
                  <a:lnTo>
                    <a:pt x="714" y="741"/>
                  </a:lnTo>
                  <a:lnTo>
                    <a:pt x="749" y="714"/>
                  </a:lnTo>
                  <a:lnTo>
                    <a:pt x="785" y="686"/>
                  </a:lnTo>
                  <a:lnTo>
                    <a:pt x="823" y="658"/>
                  </a:lnTo>
                  <a:lnTo>
                    <a:pt x="863" y="630"/>
                  </a:lnTo>
                  <a:lnTo>
                    <a:pt x="904" y="602"/>
                  </a:lnTo>
                  <a:lnTo>
                    <a:pt x="945" y="574"/>
                  </a:lnTo>
                  <a:lnTo>
                    <a:pt x="986" y="549"/>
                  </a:lnTo>
                  <a:lnTo>
                    <a:pt x="1027" y="523"/>
                  </a:lnTo>
                  <a:lnTo>
                    <a:pt x="1066" y="500"/>
                  </a:lnTo>
                  <a:lnTo>
                    <a:pt x="1105" y="477"/>
                  </a:lnTo>
                  <a:lnTo>
                    <a:pt x="1142" y="457"/>
                  </a:lnTo>
                  <a:lnTo>
                    <a:pt x="1177" y="438"/>
                  </a:lnTo>
                  <a:lnTo>
                    <a:pt x="1210" y="423"/>
                  </a:lnTo>
                  <a:lnTo>
                    <a:pt x="1239" y="410"/>
                  </a:lnTo>
                  <a:lnTo>
                    <a:pt x="1268" y="399"/>
                  </a:lnTo>
                  <a:lnTo>
                    <a:pt x="1299" y="386"/>
                  </a:lnTo>
                  <a:lnTo>
                    <a:pt x="1333" y="374"/>
                  </a:lnTo>
                  <a:lnTo>
                    <a:pt x="1368" y="360"/>
                  </a:lnTo>
                  <a:lnTo>
                    <a:pt x="1404" y="347"/>
                  </a:lnTo>
                  <a:lnTo>
                    <a:pt x="1441" y="332"/>
                  </a:lnTo>
                  <a:lnTo>
                    <a:pt x="1478" y="317"/>
                  </a:lnTo>
                  <a:lnTo>
                    <a:pt x="1516" y="302"/>
                  </a:lnTo>
                  <a:lnTo>
                    <a:pt x="1552" y="288"/>
                  </a:lnTo>
                  <a:lnTo>
                    <a:pt x="1589" y="274"/>
                  </a:lnTo>
                  <a:lnTo>
                    <a:pt x="1624" y="260"/>
                  </a:lnTo>
                  <a:lnTo>
                    <a:pt x="1658" y="247"/>
                  </a:lnTo>
                  <a:lnTo>
                    <a:pt x="1689" y="236"/>
                  </a:lnTo>
                  <a:lnTo>
                    <a:pt x="1719" y="225"/>
                  </a:lnTo>
                  <a:lnTo>
                    <a:pt x="1746" y="215"/>
                  </a:lnTo>
                  <a:lnTo>
                    <a:pt x="1771" y="206"/>
                  </a:lnTo>
                  <a:lnTo>
                    <a:pt x="1794" y="198"/>
                  </a:lnTo>
                  <a:lnTo>
                    <a:pt x="1823" y="189"/>
                  </a:lnTo>
                  <a:lnTo>
                    <a:pt x="1855" y="179"/>
                  </a:lnTo>
                  <a:lnTo>
                    <a:pt x="1892" y="169"/>
                  </a:lnTo>
                  <a:lnTo>
                    <a:pt x="1930" y="160"/>
                  </a:lnTo>
                  <a:lnTo>
                    <a:pt x="1972" y="150"/>
                  </a:lnTo>
                  <a:lnTo>
                    <a:pt x="2016" y="140"/>
                  </a:lnTo>
                  <a:lnTo>
                    <a:pt x="2061" y="128"/>
                  </a:lnTo>
                  <a:lnTo>
                    <a:pt x="2107" y="119"/>
                  </a:lnTo>
                  <a:lnTo>
                    <a:pt x="2154" y="109"/>
                  </a:lnTo>
                  <a:lnTo>
                    <a:pt x="2201" y="100"/>
                  </a:lnTo>
                  <a:lnTo>
                    <a:pt x="2247" y="90"/>
                  </a:lnTo>
                  <a:lnTo>
                    <a:pt x="2292" y="83"/>
                  </a:lnTo>
                  <a:lnTo>
                    <a:pt x="2337" y="74"/>
                  </a:lnTo>
                  <a:lnTo>
                    <a:pt x="2380" y="67"/>
                  </a:lnTo>
                  <a:lnTo>
                    <a:pt x="2421" y="60"/>
                  </a:lnTo>
                  <a:lnTo>
                    <a:pt x="2455" y="56"/>
                  </a:lnTo>
                  <a:lnTo>
                    <a:pt x="2481" y="52"/>
                  </a:lnTo>
                  <a:lnTo>
                    <a:pt x="2499" y="50"/>
                  </a:lnTo>
                  <a:lnTo>
                    <a:pt x="2515" y="47"/>
                  </a:lnTo>
                  <a:lnTo>
                    <a:pt x="2524" y="46"/>
                  </a:lnTo>
                  <a:lnTo>
                    <a:pt x="2533" y="44"/>
                  </a:lnTo>
                  <a:lnTo>
                    <a:pt x="2541" y="43"/>
                  </a:lnTo>
                  <a:lnTo>
                    <a:pt x="2550" y="42"/>
                  </a:lnTo>
                  <a:lnTo>
                    <a:pt x="2561" y="40"/>
                  </a:lnTo>
                  <a:lnTo>
                    <a:pt x="2575" y="38"/>
                  </a:lnTo>
                  <a:lnTo>
                    <a:pt x="2596" y="35"/>
                  </a:lnTo>
                  <a:lnTo>
                    <a:pt x="2624" y="31"/>
                  </a:lnTo>
                  <a:lnTo>
                    <a:pt x="2660" y="26"/>
                  </a:lnTo>
                  <a:lnTo>
                    <a:pt x="2707" y="19"/>
                  </a:lnTo>
                  <a:lnTo>
                    <a:pt x="2764" y="11"/>
                  </a:lnTo>
                  <a:lnTo>
                    <a:pt x="2835" y="0"/>
                  </a:ln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4794120" y="2065320"/>
            <a:ext cx="1940040" cy="4557600"/>
          </a:xfrm>
          <a:custGeom>
            <a:avLst/>
            <a:gdLst/>
            <a:ahLst/>
            <a:rect l="l" t="t" r="r" b="b"/>
            <a:pathLst>
              <a:path w="1222" h="2871">
                <a:moveTo>
                  <a:pt x="0" y="2870"/>
                </a:moveTo>
                <a:lnTo>
                  <a:pt x="12" y="2662"/>
                </a:lnTo>
                <a:lnTo>
                  <a:pt x="45" y="2388"/>
                </a:lnTo>
                <a:lnTo>
                  <a:pt x="122" y="1939"/>
                </a:lnTo>
                <a:lnTo>
                  <a:pt x="198" y="1643"/>
                </a:lnTo>
                <a:lnTo>
                  <a:pt x="320" y="1194"/>
                </a:lnTo>
                <a:lnTo>
                  <a:pt x="462" y="734"/>
                </a:lnTo>
                <a:lnTo>
                  <a:pt x="572" y="460"/>
                </a:lnTo>
                <a:lnTo>
                  <a:pt x="693" y="219"/>
                </a:lnTo>
                <a:lnTo>
                  <a:pt x="836" y="11"/>
                </a:lnTo>
                <a:lnTo>
                  <a:pt x="891" y="0"/>
                </a:lnTo>
                <a:lnTo>
                  <a:pt x="946" y="44"/>
                </a:lnTo>
                <a:lnTo>
                  <a:pt x="979" y="109"/>
                </a:lnTo>
                <a:lnTo>
                  <a:pt x="1023" y="296"/>
                </a:lnTo>
                <a:lnTo>
                  <a:pt x="1067" y="570"/>
                </a:lnTo>
                <a:lnTo>
                  <a:pt x="1111" y="898"/>
                </a:lnTo>
                <a:lnTo>
                  <a:pt x="1166" y="1347"/>
                </a:lnTo>
                <a:lnTo>
                  <a:pt x="1199" y="1709"/>
                </a:lnTo>
                <a:lnTo>
                  <a:pt x="1221" y="1895"/>
                </a:lnTo>
              </a:path>
            </a:pathLst>
          </a:custGeom>
          <a:noFill/>
          <a:ln w="475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12920" y="4834080"/>
            <a:ext cx="171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920" y="5182920"/>
            <a:ext cx="4627440" cy="2444760"/>
            <a:chOff x="61920" y="5182920"/>
            <a:chExt cx="4627440" cy="2444760"/>
          </a:xfrm>
        </p:grpSpPr>
        <p:sp>
          <p:nvSpPr>
            <p:cNvPr id="707" name=""/>
            <p:cNvSpPr/>
            <p:nvPr/>
          </p:nvSpPr>
          <p:spPr>
            <a:xfrm flipV="1">
              <a:off x="61920" y="5182560"/>
              <a:ext cx="4627440" cy="244476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7720" y="6845400"/>
              <a:ext cx="4424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&gt;1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 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 &lt; t G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6960" y="5207040"/>
              <a:ext cx="44701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Brush738 BT"/>
                </a:rPr>
                <a:t>Rendimientos decrecientes a escal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323640" y="144000"/>
            <a:ext cx="94345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una sección "horizontal"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para obtener la isocuanta otra vez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96880" y="2082960"/>
            <a:ext cx="4626000" cy="4545000"/>
          </a:xfrm>
          <a:custGeom>
            <a:avLst/>
            <a:gdLst/>
            <a:ahLst/>
            <a:rect l="l" t="t" r="r" b="b"/>
            <a:pathLst>
              <a:path w="2914" h="2863">
                <a:moveTo>
                  <a:pt x="5" y="1895"/>
                </a:moveTo>
                <a:lnTo>
                  <a:pt x="2067" y="2862"/>
                </a:lnTo>
                <a:lnTo>
                  <a:pt x="2077" y="2859"/>
                </a:lnTo>
                <a:lnTo>
                  <a:pt x="2089" y="2651"/>
                </a:lnTo>
                <a:lnTo>
                  <a:pt x="2122" y="2377"/>
                </a:lnTo>
                <a:lnTo>
                  <a:pt x="2199" y="1928"/>
                </a:lnTo>
                <a:lnTo>
                  <a:pt x="2275" y="1632"/>
                </a:lnTo>
                <a:lnTo>
                  <a:pt x="2397" y="1183"/>
                </a:lnTo>
                <a:lnTo>
                  <a:pt x="2539" y="723"/>
                </a:lnTo>
                <a:lnTo>
                  <a:pt x="2649" y="449"/>
                </a:lnTo>
                <a:lnTo>
                  <a:pt x="2770" y="208"/>
                </a:lnTo>
                <a:lnTo>
                  <a:pt x="2913" y="0"/>
                </a:lnTo>
                <a:lnTo>
                  <a:pt x="2903" y="0"/>
                </a:lnTo>
                <a:lnTo>
                  <a:pt x="0" y="1884"/>
                </a:lnTo>
                <a:lnTo>
                  <a:pt x="5" y="1895"/>
                </a:lnTo>
                <a:lnTo>
                  <a:pt x="5" y="1895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50000">
                <a:srgbClr val="ffffff"/>
              </a:gs>
              <a:gs pos="100000">
                <a:srgbClr val="ffbf18"/>
              </a:gs>
            </a:gsLst>
            <a:lin ang="81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94120" y="5091120"/>
            <a:ext cx="3144960" cy="2052720"/>
          </a:xfrm>
          <a:custGeom>
            <a:avLst/>
            <a:gdLst/>
            <a:ahLst/>
            <a:rect l="l" t="t" r="r" b="b"/>
            <a:pathLst>
              <a:path w="1981" h="1293">
                <a:moveTo>
                  <a:pt x="122" y="21"/>
                </a:moveTo>
                <a:lnTo>
                  <a:pt x="122" y="21"/>
                </a:lnTo>
                <a:lnTo>
                  <a:pt x="0" y="964"/>
                </a:lnTo>
                <a:lnTo>
                  <a:pt x="0" y="964"/>
                </a:lnTo>
                <a:lnTo>
                  <a:pt x="680" y="1292"/>
                </a:lnTo>
                <a:lnTo>
                  <a:pt x="946" y="1215"/>
                </a:lnTo>
                <a:lnTo>
                  <a:pt x="1221" y="1150"/>
                </a:lnTo>
                <a:lnTo>
                  <a:pt x="1584" y="887"/>
                </a:lnTo>
                <a:lnTo>
                  <a:pt x="1760" y="755"/>
                </a:lnTo>
                <a:lnTo>
                  <a:pt x="1947" y="613"/>
                </a:lnTo>
                <a:lnTo>
                  <a:pt x="1980" y="339"/>
                </a:lnTo>
                <a:lnTo>
                  <a:pt x="1793" y="153"/>
                </a:lnTo>
                <a:lnTo>
                  <a:pt x="1760" y="0"/>
                </a:lnTo>
                <a:lnTo>
                  <a:pt x="122" y="21"/>
                </a:lnTo>
                <a:lnTo>
                  <a:pt x="122" y="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06880" y="2065320"/>
            <a:ext cx="1728720" cy="3027240"/>
          </a:xfrm>
          <a:custGeom>
            <a:avLst/>
            <a:gdLst/>
            <a:ahLst/>
            <a:rect l="l" t="t" r="r" b="b"/>
            <a:pathLst>
              <a:path w="1089" h="1907">
                <a:moveTo>
                  <a:pt x="0" y="1906"/>
                </a:moveTo>
                <a:lnTo>
                  <a:pt x="0" y="1906"/>
                </a:lnTo>
                <a:lnTo>
                  <a:pt x="65" y="1643"/>
                </a:lnTo>
                <a:lnTo>
                  <a:pt x="186" y="1194"/>
                </a:lnTo>
                <a:lnTo>
                  <a:pt x="329" y="734"/>
                </a:lnTo>
                <a:lnTo>
                  <a:pt x="439" y="460"/>
                </a:lnTo>
                <a:lnTo>
                  <a:pt x="560" y="219"/>
                </a:lnTo>
                <a:lnTo>
                  <a:pt x="703" y="11"/>
                </a:lnTo>
                <a:lnTo>
                  <a:pt x="758" y="0"/>
                </a:lnTo>
                <a:lnTo>
                  <a:pt x="812" y="44"/>
                </a:lnTo>
                <a:lnTo>
                  <a:pt x="846" y="109"/>
                </a:lnTo>
                <a:lnTo>
                  <a:pt x="890" y="296"/>
                </a:lnTo>
                <a:lnTo>
                  <a:pt x="934" y="570"/>
                </a:lnTo>
                <a:lnTo>
                  <a:pt x="978" y="898"/>
                </a:lnTo>
                <a:lnTo>
                  <a:pt x="1033" y="1347"/>
                </a:lnTo>
                <a:lnTo>
                  <a:pt x="1066" y="1709"/>
                </a:lnTo>
                <a:lnTo>
                  <a:pt x="1088" y="1895"/>
                </a:lnTo>
                <a:lnTo>
                  <a:pt x="0" y="1906"/>
                </a:lnTo>
                <a:lnTo>
                  <a:pt x="0" y="190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90760" y="1281240"/>
            <a:ext cx="0" cy="37749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987800" y="5087520"/>
            <a:ext cx="258300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58280" y="4888080"/>
            <a:ext cx="11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851600" y="5099040"/>
            <a:ext cx="70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6080" y="1265400"/>
            <a:ext cx="19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440" y="5100480"/>
            <a:ext cx="4349880" cy="202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500000">
            <a:off x="5954760" y="6987960"/>
            <a:ext cx="11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500000">
            <a:off x="6078240" y="7260840"/>
            <a:ext cx="698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496880" y="2082600"/>
            <a:ext cx="4608720" cy="299052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94120" y="2065320"/>
            <a:ext cx="1940040" cy="4557600"/>
          </a:xfrm>
          <a:custGeom>
            <a:avLst/>
            <a:gdLst/>
            <a:ahLst/>
            <a:rect l="l" t="t" r="r" b="b"/>
            <a:pathLst>
              <a:path w="1222" h="2871">
                <a:moveTo>
                  <a:pt x="0" y="2870"/>
                </a:moveTo>
                <a:lnTo>
                  <a:pt x="12" y="2662"/>
                </a:lnTo>
                <a:lnTo>
                  <a:pt x="45" y="2388"/>
                </a:lnTo>
                <a:lnTo>
                  <a:pt x="122" y="1939"/>
                </a:lnTo>
                <a:lnTo>
                  <a:pt x="198" y="1643"/>
                </a:lnTo>
                <a:lnTo>
                  <a:pt x="320" y="1194"/>
                </a:lnTo>
                <a:lnTo>
                  <a:pt x="462" y="734"/>
                </a:lnTo>
                <a:lnTo>
                  <a:pt x="572" y="460"/>
                </a:lnTo>
                <a:lnTo>
                  <a:pt x="693" y="219"/>
                </a:lnTo>
                <a:lnTo>
                  <a:pt x="836" y="11"/>
                </a:lnTo>
                <a:lnTo>
                  <a:pt x="891" y="0"/>
                </a:lnTo>
                <a:lnTo>
                  <a:pt x="946" y="44"/>
                </a:lnTo>
                <a:lnTo>
                  <a:pt x="979" y="109"/>
                </a:lnTo>
                <a:lnTo>
                  <a:pt x="1023" y="296"/>
                </a:lnTo>
                <a:lnTo>
                  <a:pt x="1067" y="570"/>
                </a:lnTo>
                <a:lnTo>
                  <a:pt x="1111" y="898"/>
                </a:lnTo>
                <a:lnTo>
                  <a:pt x="1166" y="1347"/>
                </a:lnTo>
                <a:lnTo>
                  <a:pt x="1199" y="1709"/>
                </a:lnTo>
                <a:lnTo>
                  <a:pt x="1221" y="1895"/>
                </a:lnTo>
              </a:path>
            </a:pathLst>
          </a:custGeom>
          <a:noFill/>
          <a:ln w="475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378560" y="3997440"/>
            <a:ext cx="1073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900" spc="-1" strike="noStrike">
                <a:solidFill>
                  <a:srgbClr val="c20000"/>
                </a:solidFill>
                <a:latin typeface="Times New Roman"/>
              </a:rPr>
              <a:t>isocua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5179680" y="4394160"/>
            <a:ext cx="2190600" cy="1514520"/>
            <a:chOff x="5179680" y="4394160"/>
            <a:chExt cx="2190600" cy="1514520"/>
          </a:xfrm>
        </p:grpSpPr>
        <p:sp>
          <p:nvSpPr>
            <p:cNvPr id="726" name=""/>
            <p:cNvSpPr/>
            <p:nvPr/>
          </p:nvSpPr>
          <p:spPr>
            <a:xfrm flipH="1">
              <a:off x="6645240" y="4394160"/>
              <a:ext cx="720720" cy="1114560"/>
            </a:xfrm>
            <a:prstGeom prst="line">
              <a:avLst/>
            </a:prstGeom>
            <a:ln w="3168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179680" y="4394160"/>
              <a:ext cx="2190600" cy="1514520"/>
            </a:xfrm>
            <a:prstGeom prst="line">
              <a:avLst/>
            </a:prstGeom>
            <a:ln w="3168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528920" y="3005280"/>
            <a:ext cx="1606320" cy="69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 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312920" y="5060880"/>
            <a:ext cx="17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695760" y="3648240"/>
            <a:ext cx="2881080" cy="607680"/>
            <a:chOff x="3695760" y="3648240"/>
            <a:chExt cx="2881080" cy="607680"/>
          </a:xfrm>
        </p:grpSpPr>
        <p:sp>
          <p:nvSpPr>
            <p:cNvPr id="731" name=""/>
            <p:cNvSpPr/>
            <p:nvPr/>
          </p:nvSpPr>
          <p:spPr>
            <a:xfrm>
              <a:off x="3695760" y="3648240"/>
              <a:ext cx="1485720" cy="607680"/>
            </a:xfrm>
            <a:custGeom>
              <a:avLst/>
              <a:gdLst/>
              <a:ahLst/>
              <a:rect l="l" t="t" r="r" b="b"/>
              <a:pathLst>
                <a:path w="936" h="384">
                  <a:moveTo>
                    <a:pt x="935" y="383"/>
                  </a:moveTo>
                  <a:lnTo>
                    <a:pt x="914" y="383"/>
                  </a:lnTo>
                  <a:lnTo>
                    <a:pt x="898" y="381"/>
                  </a:lnTo>
                  <a:lnTo>
                    <a:pt x="885" y="381"/>
                  </a:lnTo>
                  <a:lnTo>
                    <a:pt x="876" y="379"/>
                  </a:lnTo>
                  <a:lnTo>
                    <a:pt x="867" y="379"/>
                  </a:lnTo>
                  <a:lnTo>
                    <a:pt x="862" y="378"/>
                  </a:lnTo>
                  <a:lnTo>
                    <a:pt x="857" y="378"/>
                  </a:lnTo>
                  <a:lnTo>
                    <a:pt x="855" y="376"/>
                  </a:lnTo>
                  <a:lnTo>
                    <a:pt x="851" y="376"/>
                  </a:lnTo>
                  <a:lnTo>
                    <a:pt x="849" y="376"/>
                  </a:lnTo>
                  <a:lnTo>
                    <a:pt x="847" y="376"/>
                  </a:lnTo>
                  <a:lnTo>
                    <a:pt x="845" y="376"/>
                  </a:lnTo>
                  <a:lnTo>
                    <a:pt x="840" y="376"/>
                  </a:lnTo>
                  <a:lnTo>
                    <a:pt x="835" y="375"/>
                  </a:lnTo>
                  <a:lnTo>
                    <a:pt x="828" y="374"/>
                  </a:lnTo>
                  <a:lnTo>
                    <a:pt x="819" y="373"/>
                  </a:lnTo>
                  <a:lnTo>
                    <a:pt x="807" y="373"/>
                  </a:lnTo>
                  <a:lnTo>
                    <a:pt x="795" y="371"/>
                  </a:lnTo>
                  <a:lnTo>
                    <a:pt x="782" y="369"/>
                  </a:lnTo>
                  <a:lnTo>
                    <a:pt x="769" y="366"/>
                  </a:lnTo>
                  <a:lnTo>
                    <a:pt x="754" y="364"/>
                  </a:lnTo>
                  <a:lnTo>
                    <a:pt x="739" y="361"/>
                  </a:lnTo>
                  <a:lnTo>
                    <a:pt x="724" y="359"/>
                  </a:lnTo>
                  <a:lnTo>
                    <a:pt x="711" y="355"/>
                  </a:lnTo>
                  <a:lnTo>
                    <a:pt x="696" y="353"/>
                  </a:lnTo>
                  <a:lnTo>
                    <a:pt x="681" y="350"/>
                  </a:lnTo>
                  <a:lnTo>
                    <a:pt x="667" y="346"/>
                  </a:lnTo>
                  <a:lnTo>
                    <a:pt x="654" y="343"/>
                  </a:lnTo>
                  <a:lnTo>
                    <a:pt x="641" y="340"/>
                  </a:lnTo>
                  <a:lnTo>
                    <a:pt x="630" y="336"/>
                  </a:lnTo>
                  <a:lnTo>
                    <a:pt x="619" y="332"/>
                  </a:lnTo>
                  <a:lnTo>
                    <a:pt x="610" y="328"/>
                  </a:lnTo>
                  <a:lnTo>
                    <a:pt x="600" y="326"/>
                  </a:lnTo>
                  <a:lnTo>
                    <a:pt x="590" y="322"/>
                  </a:lnTo>
                  <a:lnTo>
                    <a:pt x="578" y="318"/>
                  </a:lnTo>
                  <a:lnTo>
                    <a:pt x="566" y="313"/>
                  </a:lnTo>
                  <a:lnTo>
                    <a:pt x="554" y="309"/>
                  </a:lnTo>
                  <a:lnTo>
                    <a:pt x="541" y="303"/>
                  </a:lnTo>
                  <a:lnTo>
                    <a:pt x="528" y="298"/>
                  </a:lnTo>
                  <a:lnTo>
                    <a:pt x="515" y="292"/>
                  </a:lnTo>
                  <a:lnTo>
                    <a:pt x="500" y="288"/>
                  </a:lnTo>
                  <a:lnTo>
                    <a:pt x="487" y="282"/>
                  </a:lnTo>
                  <a:lnTo>
                    <a:pt x="474" y="276"/>
                  </a:lnTo>
                  <a:lnTo>
                    <a:pt x="462" y="271"/>
                  </a:lnTo>
                  <a:lnTo>
                    <a:pt x="449" y="267"/>
                  </a:lnTo>
                  <a:lnTo>
                    <a:pt x="437" y="262"/>
                  </a:lnTo>
                  <a:lnTo>
                    <a:pt x="427" y="257"/>
                  </a:lnTo>
                  <a:lnTo>
                    <a:pt x="418" y="252"/>
                  </a:lnTo>
                  <a:lnTo>
                    <a:pt x="407" y="248"/>
                  </a:lnTo>
                  <a:lnTo>
                    <a:pt x="396" y="244"/>
                  </a:lnTo>
                  <a:lnTo>
                    <a:pt x="383" y="238"/>
                  </a:lnTo>
                  <a:lnTo>
                    <a:pt x="371" y="232"/>
                  </a:lnTo>
                  <a:lnTo>
                    <a:pt x="357" y="226"/>
                  </a:lnTo>
                  <a:lnTo>
                    <a:pt x="343" y="219"/>
                  </a:lnTo>
                  <a:lnTo>
                    <a:pt x="328" y="212"/>
                  </a:lnTo>
                  <a:lnTo>
                    <a:pt x="315" y="205"/>
                  </a:lnTo>
                  <a:lnTo>
                    <a:pt x="300" y="199"/>
                  </a:lnTo>
                  <a:lnTo>
                    <a:pt x="285" y="192"/>
                  </a:lnTo>
                  <a:lnTo>
                    <a:pt x="271" y="185"/>
                  </a:lnTo>
                  <a:lnTo>
                    <a:pt x="258" y="177"/>
                  </a:lnTo>
                  <a:lnTo>
                    <a:pt x="244" y="172"/>
                  </a:lnTo>
                  <a:lnTo>
                    <a:pt x="232" y="165"/>
                  </a:lnTo>
                  <a:lnTo>
                    <a:pt x="220" y="159"/>
                  </a:lnTo>
                  <a:lnTo>
                    <a:pt x="209" y="153"/>
                  </a:lnTo>
                  <a:lnTo>
                    <a:pt x="198" y="148"/>
                  </a:lnTo>
                  <a:lnTo>
                    <a:pt x="186" y="142"/>
                  </a:lnTo>
                  <a:lnTo>
                    <a:pt x="175" y="137"/>
                  </a:lnTo>
                  <a:lnTo>
                    <a:pt x="164" y="129"/>
                  </a:lnTo>
                  <a:lnTo>
                    <a:pt x="152" y="123"/>
                  </a:lnTo>
                  <a:lnTo>
                    <a:pt x="140" y="116"/>
                  </a:lnTo>
                  <a:lnTo>
                    <a:pt x="129" y="108"/>
                  </a:lnTo>
                  <a:lnTo>
                    <a:pt x="118" y="100"/>
                  </a:lnTo>
                  <a:lnTo>
                    <a:pt x="107" y="94"/>
                  </a:lnTo>
                  <a:lnTo>
                    <a:pt x="96" y="87"/>
                  </a:lnTo>
                  <a:lnTo>
                    <a:pt x="86" y="80"/>
                  </a:lnTo>
                  <a:lnTo>
                    <a:pt x="77" y="72"/>
                  </a:lnTo>
                  <a:lnTo>
                    <a:pt x="67" y="67"/>
                  </a:lnTo>
                  <a:lnTo>
                    <a:pt x="60" y="60"/>
                  </a:lnTo>
                  <a:lnTo>
                    <a:pt x="54" y="54"/>
                  </a:lnTo>
                  <a:lnTo>
                    <a:pt x="49" y="49"/>
                  </a:lnTo>
                  <a:lnTo>
                    <a:pt x="45" y="46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7" y="29"/>
                  </a:lnTo>
                  <a:lnTo>
                    <a:pt x="24" y="25"/>
                  </a:lnTo>
                  <a:lnTo>
                    <a:pt x="19" y="21"/>
                  </a:lnTo>
                  <a:lnTo>
                    <a:pt x="14" y="16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07200" y="3681000"/>
              <a:ext cx="1169640" cy="88560"/>
            </a:xfrm>
            <a:custGeom>
              <a:avLst/>
              <a:gdLst/>
              <a:ahLst/>
              <a:rect l="l" t="t" r="r" b="b"/>
              <a:pathLst>
                <a:path w="737" h="56">
                  <a:moveTo>
                    <a:pt x="736" y="55"/>
                  </a:moveTo>
                  <a:lnTo>
                    <a:pt x="704" y="53"/>
                  </a:lnTo>
                  <a:lnTo>
                    <a:pt x="679" y="51"/>
                  </a:lnTo>
                  <a:lnTo>
                    <a:pt x="658" y="50"/>
                  </a:lnTo>
                  <a:lnTo>
                    <a:pt x="643" y="48"/>
                  </a:lnTo>
                  <a:lnTo>
                    <a:pt x="630" y="48"/>
                  </a:lnTo>
                  <a:lnTo>
                    <a:pt x="622" y="47"/>
                  </a:lnTo>
                  <a:lnTo>
                    <a:pt x="615" y="47"/>
                  </a:lnTo>
                  <a:lnTo>
                    <a:pt x="611" y="45"/>
                  </a:lnTo>
                  <a:lnTo>
                    <a:pt x="607" y="45"/>
                  </a:lnTo>
                  <a:lnTo>
                    <a:pt x="603" y="45"/>
                  </a:lnTo>
                  <a:lnTo>
                    <a:pt x="599" y="45"/>
                  </a:lnTo>
                  <a:lnTo>
                    <a:pt x="595" y="43"/>
                  </a:lnTo>
                  <a:lnTo>
                    <a:pt x="588" y="43"/>
                  </a:lnTo>
                  <a:lnTo>
                    <a:pt x="580" y="42"/>
                  </a:lnTo>
                  <a:lnTo>
                    <a:pt x="569" y="41"/>
                  </a:lnTo>
                  <a:lnTo>
                    <a:pt x="554" y="39"/>
                  </a:lnTo>
                  <a:lnTo>
                    <a:pt x="536" y="38"/>
                  </a:lnTo>
                  <a:lnTo>
                    <a:pt x="518" y="37"/>
                  </a:lnTo>
                  <a:lnTo>
                    <a:pt x="498" y="35"/>
                  </a:lnTo>
                  <a:lnTo>
                    <a:pt x="479" y="33"/>
                  </a:lnTo>
                  <a:lnTo>
                    <a:pt x="458" y="31"/>
                  </a:lnTo>
                  <a:lnTo>
                    <a:pt x="438" y="29"/>
                  </a:lnTo>
                  <a:lnTo>
                    <a:pt x="418" y="27"/>
                  </a:lnTo>
                  <a:lnTo>
                    <a:pt x="399" y="25"/>
                  </a:lnTo>
                  <a:lnTo>
                    <a:pt x="379" y="23"/>
                  </a:lnTo>
                  <a:lnTo>
                    <a:pt x="360" y="21"/>
                  </a:lnTo>
                  <a:lnTo>
                    <a:pt x="342" y="20"/>
                  </a:lnTo>
                  <a:lnTo>
                    <a:pt x="326" y="18"/>
                  </a:lnTo>
                  <a:lnTo>
                    <a:pt x="310" y="17"/>
                  </a:lnTo>
                  <a:lnTo>
                    <a:pt x="297" y="15"/>
                  </a:lnTo>
                  <a:lnTo>
                    <a:pt x="284" y="13"/>
                  </a:lnTo>
                  <a:lnTo>
                    <a:pt x="274" y="11"/>
                  </a:lnTo>
                  <a:lnTo>
                    <a:pt x="264" y="11"/>
                  </a:lnTo>
                  <a:lnTo>
                    <a:pt x="254" y="10"/>
                  </a:lnTo>
                  <a:lnTo>
                    <a:pt x="241" y="10"/>
                  </a:lnTo>
                  <a:lnTo>
                    <a:pt x="230" y="9"/>
                  </a:lnTo>
                  <a:lnTo>
                    <a:pt x="217" y="9"/>
                  </a:lnTo>
                  <a:lnTo>
                    <a:pt x="204" y="7"/>
                  </a:lnTo>
                  <a:lnTo>
                    <a:pt x="191" y="7"/>
                  </a:lnTo>
                  <a:lnTo>
                    <a:pt x="179" y="5"/>
                  </a:lnTo>
                  <a:lnTo>
                    <a:pt x="166" y="5"/>
                  </a:lnTo>
                  <a:lnTo>
                    <a:pt x="152" y="4"/>
                  </a:lnTo>
                  <a:lnTo>
                    <a:pt x="139" y="4"/>
                  </a:lnTo>
                  <a:lnTo>
                    <a:pt x="128" y="2"/>
                  </a:lnTo>
                  <a:lnTo>
                    <a:pt x="116" y="2"/>
                  </a:lnTo>
                  <a:lnTo>
                    <a:pt x="105" y="1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857840" y="3809880"/>
            <a:ext cx="1720800" cy="2176560"/>
            <a:chOff x="4857840" y="3809880"/>
            <a:chExt cx="1720800" cy="2176560"/>
          </a:xfrm>
        </p:grpSpPr>
        <p:grpSp>
          <p:nvGrpSpPr>
            <p:cNvPr id="734" name=""/>
            <p:cNvGrpSpPr/>
            <p:nvPr/>
          </p:nvGrpSpPr>
          <p:grpSpPr>
            <a:xfrm>
              <a:off x="4857840" y="5424480"/>
              <a:ext cx="1719000" cy="561960"/>
              <a:chOff x="4857840" y="5424480"/>
              <a:chExt cx="1719000" cy="561960"/>
            </a:xfrm>
          </p:grpSpPr>
          <p:sp>
            <p:nvSpPr>
              <p:cNvPr id="735" name=""/>
              <p:cNvSpPr/>
              <p:nvPr/>
            </p:nvSpPr>
            <p:spPr>
              <a:xfrm>
                <a:off x="4857840" y="5934240"/>
                <a:ext cx="323640" cy="52200"/>
              </a:xfrm>
              <a:custGeom>
                <a:avLst/>
                <a:gdLst/>
                <a:ahLst/>
                <a:rect l="l" t="t" r="r" b="b"/>
                <a:pathLst>
                  <a:path w="204" h="33">
                    <a:moveTo>
                      <a:pt x="203" y="32"/>
                    </a:moveTo>
                    <a:lnTo>
                      <a:pt x="182" y="31"/>
                    </a:lnTo>
                    <a:lnTo>
                      <a:pt x="166" y="29"/>
                    </a:lnTo>
                    <a:lnTo>
                      <a:pt x="153" y="29"/>
                    </a:lnTo>
                    <a:lnTo>
                      <a:pt x="144" y="27"/>
                    </a:lnTo>
                    <a:lnTo>
                      <a:pt x="135" y="27"/>
                    </a:lnTo>
                    <a:lnTo>
                      <a:pt x="130" y="26"/>
                    </a:lnTo>
                    <a:lnTo>
                      <a:pt x="125" y="26"/>
                    </a:lnTo>
                    <a:lnTo>
                      <a:pt x="123" y="25"/>
                    </a:lnTo>
                    <a:lnTo>
                      <a:pt x="119" y="25"/>
                    </a:lnTo>
                    <a:lnTo>
                      <a:pt x="117" y="25"/>
                    </a:lnTo>
                    <a:lnTo>
                      <a:pt x="115" y="25"/>
                    </a:lnTo>
                    <a:lnTo>
                      <a:pt x="113" y="24"/>
                    </a:lnTo>
                    <a:lnTo>
                      <a:pt x="108" y="24"/>
                    </a:lnTo>
                    <a:lnTo>
                      <a:pt x="103" y="23"/>
                    </a:lnTo>
                    <a:lnTo>
                      <a:pt x="96" y="23"/>
                    </a:lnTo>
                    <a:lnTo>
                      <a:pt x="87" y="21"/>
                    </a:lnTo>
                    <a:lnTo>
                      <a:pt x="77" y="21"/>
                    </a:lnTo>
                    <a:lnTo>
                      <a:pt x="68" y="20"/>
                    </a:lnTo>
                    <a:lnTo>
                      <a:pt x="61" y="20"/>
                    </a:lnTo>
                    <a:lnTo>
                      <a:pt x="56" y="18"/>
                    </a:lnTo>
                    <a:lnTo>
                      <a:pt x="50" y="18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2" y="13"/>
                    </a:lnTo>
                    <a:lnTo>
                      <a:pt x="28" y="12"/>
                    </a:lnTo>
                    <a:lnTo>
                      <a:pt x="24" y="10"/>
                    </a:lnTo>
                    <a:lnTo>
                      <a:pt x="19" y="8"/>
                    </a:lnTo>
                    <a:lnTo>
                      <a:pt x="14" y="6"/>
                    </a:lnTo>
                    <a:lnTo>
                      <a:pt x="7" y="4"/>
                    </a:lnTo>
                    <a:lnTo>
                      <a:pt x="0" y="0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962600" y="5424480"/>
                <a:ext cx="1614240" cy="73080"/>
              </a:xfrm>
              <a:custGeom>
                <a:avLst/>
                <a:gdLst/>
                <a:ahLst/>
                <a:rect l="l" t="t" r="r" b="b"/>
                <a:pathLst>
                  <a:path w="1017" h="46">
                    <a:moveTo>
                      <a:pt x="1016" y="45"/>
                    </a:moveTo>
                    <a:lnTo>
                      <a:pt x="984" y="44"/>
                    </a:lnTo>
                    <a:lnTo>
                      <a:pt x="959" y="41"/>
                    </a:lnTo>
                    <a:lnTo>
                      <a:pt x="938" y="40"/>
                    </a:lnTo>
                    <a:lnTo>
                      <a:pt x="923" y="38"/>
                    </a:lnTo>
                    <a:lnTo>
                      <a:pt x="910" y="38"/>
                    </a:lnTo>
                    <a:lnTo>
                      <a:pt x="902" y="37"/>
                    </a:lnTo>
                    <a:lnTo>
                      <a:pt x="895" y="37"/>
                    </a:lnTo>
                    <a:lnTo>
                      <a:pt x="891" y="35"/>
                    </a:lnTo>
                    <a:lnTo>
                      <a:pt x="887" y="35"/>
                    </a:lnTo>
                    <a:lnTo>
                      <a:pt x="883" y="35"/>
                    </a:lnTo>
                    <a:lnTo>
                      <a:pt x="879" y="35"/>
                    </a:lnTo>
                    <a:lnTo>
                      <a:pt x="875" y="34"/>
                    </a:lnTo>
                    <a:lnTo>
                      <a:pt x="868" y="34"/>
                    </a:lnTo>
                    <a:lnTo>
                      <a:pt x="860" y="32"/>
                    </a:lnTo>
                    <a:lnTo>
                      <a:pt x="849" y="31"/>
                    </a:lnTo>
                    <a:lnTo>
                      <a:pt x="834" y="29"/>
                    </a:lnTo>
                    <a:lnTo>
                      <a:pt x="816" y="29"/>
                    </a:lnTo>
                    <a:lnTo>
                      <a:pt x="798" y="27"/>
                    </a:lnTo>
                    <a:lnTo>
                      <a:pt x="778" y="25"/>
                    </a:lnTo>
                    <a:lnTo>
                      <a:pt x="759" y="23"/>
                    </a:lnTo>
                    <a:lnTo>
                      <a:pt x="738" y="21"/>
                    </a:lnTo>
                    <a:lnTo>
                      <a:pt x="718" y="19"/>
                    </a:lnTo>
                    <a:lnTo>
                      <a:pt x="698" y="17"/>
                    </a:lnTo>
                    <a:lnTo>
                      <a:pt x="679" y="15"/>
                    </a:lnTo>
                    <a:lnTo>
                      <a:pt x="659" y="14"/>
                    </a:lnTo>
                    <a:lnTo>
                      <a:pt x="640" y="12"/>
                    </a:lnTo>
                    <a:lnTo>
                      <a:pt x="622" y="10"/>
                    </a:lnTo>
                    <a:lnTo>
                      <a:pt x="606" y="8"/>
                    </a:lnTo>
                    <a:lnTo>
                      <a:pt x="590" y="7"/>
                    </a:lnTo>
                    <a:lnTo>
                      <a:pt x="577" y="5"/>
                    </a:lnTo>
                    <a:lnTo>
                      <a:pt x="564" y="4"/>
                    </a:lnTo>
                    <a:lnTo>
                      <a:pt x="554" y="2"/>
                    </a:lnTo>
                    <a:lnTo>
                      <a:pt x="543" y="2"/>
                    </a:lnTo>
                    <a:lnTo>
                      <a:pt x="530" y="1"/>
                    </a:lnTo>
                    <a:lnTo>
                      <a:pt x="514" y="1"/>
                    </a:lnTo>
                    <a:lnTo>
                      <a:pt x="498" y="0"/>
                    </a:lnTo>
                    <a:lnTo>
                      <a:pt x="479" y="0"/>
                    </a:lnTo>
                    <a:lnTo>
                      <a:pt x="460" y="0"/>
                    </a:lnTo>
                    <a:lnTo>
                      <a:pt x="439" y="0"/>
                    </a:lnTo>
                    <a:lnTo>
                      <a:pt x="419" y="0"/>
                    </a:lnTo>
                    <a:lnTo>
                      <a:pt x="399" y="1"/>
                    </a:lnTo>
                    <a:lnTo>
                      <a:pt x="379" y="1"/>
                    </a:lnTo>
                    <a:lnTo>
                      <a:pt x="360" y="1"/>
                    </a:lnTo>
                    <a:lnTo>
                      <a:pt x="342" y="1"/>
                    </a:lnTo>
                    <a:lnTo>
                      <a:pt x="324" y="1"/>
                    </a:lnTo>
                    <a:lnTo>
                      <a:pt x="311" y="1"/>
                    </a:lnTo>
                    <a:lnTo>
                      <a:pt x="298" y="1"/>
                    </a:lnTo>
                    <a:lnTo>
                      <a:pt x="290" y="1"/>
                    </a:lnTo>
                    <a:lnTo>
                      <a:pt x="280" y="3"/>
                    </a:lnTo>
                    <a:lnTo>
                      <a:pt x="268" y="3"/>
                    </a:lnTo>
                    <a:lnTo>
                      <a:pt x="253" y="5"/>
                    </a:lnTo>
                    <a:lnTo>
                      <a:pt x="238" y="7"/>
                    </a:lnTo>
                    <a:lnTo>
                      <a:pt x="220" y="11"/>
                    </a:lnTo>
                    <a:lnTo>
                      <a:pt x="201" y="14"/>
                    </a:lnTo>
                    <a:lnTo>
                      <a:pt x="181" y="18"/>
                    </a:lnTo>
                    <a:lnTo>
                      <a:pt x="161" y="20"/>
                    </a:lnTo>
                    <a:lnTo>
                      <a:pt x="138" y="24"/>
                    </a:lnTo>
                    <a:lnTo>
                      <a:pt x="117" y="27"/>
                    </a:lnTo>
                    <a:lnTo>
                      <a:pt x="96" y="31"/>
                    </a:lnTo>
                    <a:lnTo>
                      <a:pt x="75" y="32"/>
                    </a:lnTo>
                    <a:lnTo>
                      <a:pt x="54" y="35"/>
                    </a:lnTo>
                    <a:lnTo>
                      <a:pt x="34" y="37"/>
                    </a:lnTo>
                    <a:lnTo>
                      <a:pt x="16" y="37"/>
                    </a:lnTo>
                    <a:lnTo>
                      <a:pt x="0" y="37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183280" y="3809880"/>
              <a:ext cx="1395360" cy="2108160"/>
              <a:chOff x="5183280" y="3809880"/>
              <a:chExt cx="1395360" cy="2108160"/>
            </a:xfrm>
          </p:grpSpPr>
          <p:sp>
            <p:nvSpPr>
              <p:cNvPr id="738" name=""/>
              <p:cNvSpPr/>
              <p:nvPr/>
            </p:nvSpPr>
            <p:spPr>
              <a:xfrm>
                <a:off x="5183280" y="4294080"/>
                <a:ext cx="0" cy="162396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578640" y="3809880"/>
                <a:ext cx="0" cy="162396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0" name=""/>
          <p:cNvSpPr/>
          <p:nvPr/>
        </p:nvSpPr>
        <p:spPr>
          <a:xfrm>
            <a:off x="1494000" y="3584520"/>
            <a:ext cx="7046640" cy="1201680"/>
          </a:xfrm>
          <a:custGeom>
            <a:avLst/>
            <a:gdLst/>
            <a:ahLst/>
            <a:rect l="l" t="t" r="r" b="b"/>
            <a:pathLst>
              <a:path w="4439" h="757">
                <a:moveTo>
                  <a:pt x="2343" y="417"/>
                </a:moveTo>
                <a:lnTo>
                  <a:pt x="2121" y="391"/>
                </a:lnTo>
                <a:lnTo>
                  <a:pt x="1939" y="338"/>
                </a:lnTo>
                <a:lnTo>
                  <a:pt x="1698" y="222"/>
                </a:lnTo>
                <a:lnTo>
                  <a:pt x="1533" y="144"/>
                </a:lnTo>
                <a:lnTo>
                  <a:pt x="1457" y="91"/>
                </a:lnTo>
                <a:lnTo>
                  <a:pt x="1379" y="0"/>
                </a:lnTo>
                <a:lnTo>
                  <a:pt x="0" y="52"/>
                </a:lnTo>
                <a:lnTo>
                  <a:pt x="3761" y="756"/>
                </a:lnTo>
                <a:lnTo>
                  <a:pt x="3787" y="716"/>
                </a:lnTo>
                <a:lnTo>
                  <a:pt x="3852" y="534"/>
                </a:lnTo>
                <a:lnTo>
                  <a:pt x="3957" y="560"/>
                </a:lnTo>
                <a:lnTo>
                  <a:pt x="4035" y="508"/>
                </a:lnTo>
                <a:lnTo>
                  <a:pt x="4021" y="404"/>
                </a:lnTo>
                <a:lnTo>
                  <a:pt x="4230" y="404"/>
                </a:lnTo>
                <a:lnTo>
                  <a:pt x="4321" y="313"/>
                </a:lnTo>
                <a:lnTo>
                  <a:pt x="4438" y="209"/>
                </a:lnTo>
                <a:lnTo>
                  <a:pt x="3189" y="78"/>
                </a:lnTo>
                <a:lnTo>
                  <a:pt x="3111" y="78"/>
                </a:lnTo>
                <a:lnTo>
                  <a:pt x="2993" y="65"/>
                </a:lnTo>
                <a:lnTo>
                  <a:pt x="2902" y="65"/>
                </a:lnTo>
                <a:lnTo>
                  <a:pt x="2863" y="65"/>
                </a:lnTo>
                <a:lnTo>
                  <a:pt x="2746" y="65"/>
                </a:lnTo>
                <a:lnTo>
                  <a:pt x="2623" y="51"/>
                </a:lnTo>
                <a:lnTo>
                  <a:pt x="2538" y="52"/>
                </a:lnTo>
                <a:lnTo>
                  <a:pt x="2473" y="52"/>
                </a:lnTo>
                <a:lnTo>
                  <a:pt x="2451" y="60"/>
                </a:lnTo>
                <a:lnTo>
                  <a:pt x="2434" y="117"/>
                </a:lnTo>
                <a:lnTo>
                  <a:pt x="2408" y="188"/>
                </a:lnTo>
                <a:lnTo>
                  <a:pt x="2389" y="276"/>
                </a:lnTo>
                <a:lnTo>
                  <a:pt x="2369" y="338"/>
                </a:lnTo>
                <a:lnTo>
                  <a:pt x="2371" y="347"/>
                </a:lnTo>
                <a:lnTo>
                  <a:pt x="2355" y="391"/>
                </a:lnTo>
                <a:lnTo>
                  <a:pt x="2317" y="417"/>
                </a:lnTo>
                <a:lnTo>
                  <a:pt x="2343" y="417"/>
                </a:lnTo>
                <a:lnTo>
                  <a:pt x="2343" y="417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649600" y="4305240"/>
            <a:ext cx="4038480" cy="1122480"/>
            <a:chOff x="2649600" y="4305240"/>
            <a:chExt cx="4038480" cy="1122480"/>
          </a:xfrm>
        </p:grpSpPr>
        <p:sp>
          <p:nvSpPr>
            <p:cNvPr id="742" name=""/>
            <p:cNvSpPr/>
            <p:nvPr/>
          </p:nvSpPr>
          <p:spPr>
            <a:xfrm>
              <a:off x="2649600" y="4305240"/>
              <a:ext cx="2305080" cy="1122480"/>
            </a:xfrm>
            <a:custGeom>
              <a:avLst/>
              <a:gdLst/>
              <a:ahLst/>
              <a:rect l="l" t="t" r="r" b="b"/>
              <a:pathLst>
                <a:path w="1452" h="707">
                  <a:moveTo>
                    <a:pt x="1451" y="706"/>
                  </a:moveTo>
                  <a:lnTo>
                    <a:pt x="1420" y="703"/>
                  </a:lnTo>
                  <a:lnTo>
                    <a:pt x="1395" y="700"/>
                  </a:lnTo>
                  <a:lnTo>
                    <a:pt x="1375" y="698"/>
                  </a:lnTo>
                  <a:lnTo>
                    <a:pt x="1360" y="696"/>
                  </a:lnTo>
                  <a:lnTo>
                    <a:pt x="1347" y="696"/>
                  </a:lnTo>
                  <a:lnTo>
                    <a:pt x="1339" y="694"/>
                  </a:lnTo>
                  <a:lnTo>
                    <a:pt x="1332" y="694"/>
                  </a:lnTo>
                  <a:lnTo>
                    <a:pt x="1328" y="692"/>
                  </a:lnTo>
                  <a:lnTo>
                    <a:pt x="1323" y="692"/>
                  </a:lnTo>
                  <a:lnTo>
                    <a:pt x="1320" y="692"/>
                  </a:lnTo>
                  <a:lnTo>
                    <a:pt x="1316" y="692"/>
                  </a:lnTo>
                  <a:lnTo>
                    <a:pt x="1312" y="690"/>
                  </a:lnTo>
                  <a:lnTo>
                    <a:pt x="1305" y="690"/>
                  </a:lnTo>
                  <a:lnTo>
                    <a:pt x="1297" y="689"/>
                  </a:lnTo>
                  <a:lnTo>
                    <a:pt x="1286" y="688"/>
                  </a:lnTo>
                  <a:lnTo>
                    <a:pt x="1272" y="686"/>
                  </a:lnTo>
                  <a:lnTo>
                    <a:pt x="1254" y="684"/>
                  </a:lnTo>
                  <a:lnTo>
                    <a:pt x="1234" y="681"/>
                  </a:lnTo>
                  <a:lnTo>
                    <a:pt x="1214" y="678"/>
                  </a:lnTo>
                  <a:lnTo>
                    <a:pt x="1193" y="673"/>
                  </a:lnTo>
                  <a:lnTo>
                    <a:pt x="1171" y="669"/>
                  </a:lnTo>
                  <a:lnTo>
                    <a:pt x="1148" y="664"/>
                  </a:lnTo>
                  <a:lnTo>
                    <a:pt x="1126" y="659"/>
                  </a:lnTo>
                  <a:lnTo>
                    <a:pt x="1103" y="653"/>
                  </a:lnTo>
                  <a:lnTo>
                    <a:pt x="1080" y="648"/>
                  </a:lnTo>
                  <a:lnTo>
                    <a:pt x="1058" y="642"/>
                  </a:lnTo>
                  <a:lnTo>
                    <a:pt x="1036" y="636"/>
                  </a:lnTo>
                  <a:lnTo>
                    <a:pt x="1016" y="630"/>
                  </a:lnTo>
                  <a:lnTo>
                    <a:pt x="996" y="624"/>
                  </a:lnTo>
                  <a:lnTo>
                    <a:pt x="978" y="618"/>
                  </a:lnTo>
                  <a:lnTo>
                    <a:pt x="961" y="612"/>
                  </a:lnTo>
                  <a:lnTo>
                    <a:pt x="947" y="604"/>
                  </a:lnTo>
                  <a:lnTo>
                    <a:pt x="932" y="599"/>
                  </a:lnTo>
                  <a:lnTo>
                    <a:pt x="916" y="592"/>
                  </a:lnTo>
                  <a:lnTo>
                    <a:pt x="898" y="584"/>
                  </a:lnTo>
                  <a:lnTo>
                    <a:pt x="881" y="576"/>
                  </a:lnTo>
                  <a:lnTo>
                    <a:pt x="860" y="568"/>
                  </a:lnTo>
                  <a:lnTo>
                    <a:pt x="841" y="558"/>
                  </a:lnTo>
                  <a:lnTo>
                    <a:pt x="820" y="549"/>
                  </a:lnTo>
                  <a:lnTo>
                    <a:pt x="799" y="538"/>
                  </a:lnTo>
                  <a:lnTo>
                    <a:pt x="777" y="529"/>
                  </a:lnTo>
                  <a:lnTo>
                    <a:pt x="757" y="520"/>
                  </a:lnTo>
                  <a:lnTo>
                    <a:pt x="736" y="510"/>
                  </a:lnTo>
                  <a:lnTo>
                    <a:pt x="717" y="500"/>
                  </a:lnTo>
                  <a:lnTo>
                    <a:pt x="698" y="490"/>
                  </a:lnTo>
                  <a:lnTo>
                    <a:pt x="679" y="481"/>
                  </a:lnTo>
                  <a:lnTo>
                    <a:pt x="663" y="473"/>
                  </a:lnTo>
                  <a:lnTo>
                    <a:pt x="648" y="464"/>
                  </a:lnTo>
                  <a:lnTo>
                    <a:pt x="632" y="456"/>
                  </a:lnTo>
                  <a:lnTo>
                    <a:pt x="615" y="447"/>
                  </a:lnTo>
                  <a:lnTo>
                    <a:pt x="597" y="437"/>
                  </a:lnTo>
                  <a:lnTo>
                    <a:pt x="577" y="426"/>
                  </a:lnTo>
                  <a:lnTo>
                    <a:pt x="555" y="415"/>
                  </a:lnTo>
                  <a:lnTo>
                    <a:pt x="534" y="403"/>
                  </a:lnTo>
                  <a:lnTo>
                    <a:pt x="512" y="390"/>
                  </a:lnTo>
                  <a:lnTo>
                    <a:pt x="489" y="377"/>
                  </a:lnTo>
                  <a:lnTo>
                    <a:pt x="465" y="366"/>
                  </a:lnTo>
                  <a:lnTo>
                    <a:pt x="443" y="352"/>
                  </a:lnTo>
                  <a:lnTo>
                    <a:pt x="421" y="340"/>
                  </a:lnTo>
                  <a:lnTo>
                    <a:pt x="399" y="327"/>
                  </a:lnTo>
                  <a:lnTo>
                    <a:pt x="378" y="316"/>
                  </a:lnTo>
                  <a:lnTo>
                    <a:pt x="359" y="304"/>
                  </a:lnTo>
                  <a:lnTo>
                    <a:pt x="341" y="294"/>
                  </a:lnTo>
                  <a:lnTo>
                    <a:pt x="325" y="282"/>
                  </a:lnTo>
                  <a:lnTo>
                    <a:pt x="308" y="273"/>
                  </a:lnTo>
                  <a:lnTo>
                    <a:pt x="291" y="262"/>
                  </a:lnTo>
                  <a:lnTo>
                    <a:pt x="272" y="251"/>
                  </a:lnTo>
                  <a:lnTo>
                    <a:pt x="255" y="238"/>
                  </a:lnTo>
                  <a:lnTo>
                    <a:pt x="237" y="226"/>
                  </a:lnTo>
                  <a:lnTo>
                    <a:pt x="218" y="212"/>
                  </a:lnTo>
                  <a:lnTo>
                    <a:pt x="200" y="200"/>
                  </a:lnTo>
                  <a:lnTo>
                    <a:pt x="183" y="185"/>
                  </a:lnTo>
                  <a:lnTo>
                    <a:pt x="165" y="173"/>
                  </a:lnTo>
                  <a:lnTo>
                    <a:pt x="149" y="160"/>
                  </a:lnTo>
                  <a:lnTo>
                    <a:pt x="133" y="147"/>
                  </a:lnTo>
                  <a:lnTo>
                    <a:pt x="119" y="134"/>
                  </a:lnTo>
                  <a:lnTo>
                    <a:pt x="105" y="123"/>
                  </a:lnTo>
                  <a:lnTo>
                    <a:pt x="94" y="112"/>
                  </a:lnTo>
                  <a:lnTo>
                    <a:pt x="84" y="102"/>
                  </a:lnTo>
                  <a:lnTo>
                    <a:pt x="77" y="92"/>
                  </a:lnTo>
                  <a:lnTo>
                    <a:pt x="71" y="85"/>
                  </a:lnTo>
                  <a:lnTo>
                    <a:pt x="65" y="80"/>
                  </a:lnTo>
                  <a:lnTo>
                    <a:pt x="61" y="76"/>
                  </a:lnTo>
                  <a:lnTo>
                    <a:pt x="59" y="72"/>
                  </a:lnTo>
                  <a:lnTo>
                    <a:pt x="57" y="70"/>
                  </a:lnTo>
                  <a:lnTo>
                    <a:pt x="55" y="68"/>
                  </a:lnTo>
                  <a:lnTo>
                    <a:pt x="54" y="66"/>
                  </a:lnTo>
                  <a:lnTo>
                    <a:pt x="53" y="64"/>
                  </a:lnTo>
                  <a:lnTo>
                    <a:pt x="50" y="62"/>
                  </a:lnTo>
                  <a:lnTo>
                    <a:pt x="47" y="58"/>
                  </a:lnTo>
                  <a:lnTo>
                    <a:pt x="43" y="54"/>
                  </a:lnTo>
                  <a:lnTo>
                    <a:pt x="39" y="47"/>
                  </a:lnTo>
                  <a:lnTo>
                    <a:pt x="32" y="40"/>
                  </a:lnTo>
                  <a:lnTo>
                    <a:pt x="23" y="30"/>
                  </a:lnTo>
                  <a:lnTo>
                    <a:pt x="13" y="17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46840" y="4797360"/>
              <a:ext cx="1641240" cy="36720"/>
            </a:xfrm>
            <a:custGeom>
              <a:avLst/>
              <a:gdLst/>
              <a:ahLst/>
              <a:rect l="l" t="t" r="r" b="b"/>
              <a:pathLst>
                <a:path w="1034" h="23">
                  <a:moveTo>
                    <a:pt x="1033" y="22"/>
                  </a:moveTo>
                  <a:lnTo>
                    <a:pt x="989" y="22"/>
                  </a:lnTo>
                  <a:lnTo>
                    <a:pt x="953" y="21"/>
                  </a:lnTo>
                  <a:lnTo>
                    <a:pt x="925" y="21"/>
                  </a:lnTo>
                  <a:lnTo>
                    <a:pt x="903" y="20"/>
                  </a:lnTo>
                  <a:lnTo>
                    <a:pt x="885" y="20"/>
                  </a:lnTo>
                  <a:lnTo>
                    <a:pt x="873" y="20"/>
                  </a:lnTo>
                  <a:lnTo>
                    <a:pt x="863" y="20"/>
                  </a:lnTo>
                  <a:lnTo>
                    <a:pt x="857" y="19"/>
                  </a:lnTo>
                  <a:lnTo>
                    <a:pt x="851" y="19"/>
                  </a:lnTo>
                  <a:lnTo>
                    <a:pt x="846" y="19"/>
                  </a:lnTo>
                  <a:lnTo>
                    <a:pt x="841" y="19"/>
                  </a:lnTo>
                  <a:lnTo>
                    <a:pt x="835" y="19"/>
                  </a:lnTo>
                  <a:lnTo>
                    <a:pt x="826" y="19"/>
                  </a:lnTo>
                  <a:lnTo>
                    <a:pt x="814" y="18"/>
                  </a:lnTo>
                  <a:lnTo>
                    <a:pt x="798" y="18"/>
                  </a:lnTo>
                  <a:lnTo>
                    <a:pt x="778" y="16"/>
                  </a:lnTo>
                  <a:lnTo>
                    <a:pt x="753" y="16"/>
                  </a:lnTo>
                  <a:lnTo>
                    <a:pt x="727" y="16"/>
                  </a:lnTo>
                  <a:lnTo>
                    <a:pt x="699" y="16"/>
                  </a:lnTo>
                  <a:lnTo>
                    <a:pt x="673" y="14"/>
                  </a:lnTo>
                  <a:lnTo>
                    <a:pt x="643" y="14"/>
                  </a:lnTo>
                  <a:lnTo>
                    <a:pt x="615" y="12"/>
                  </a:lnTo>
                  <a:lnTo>
                    <a:pt x="587" y="12"/>
                  </a:lnTo>
                  <a:lnTo>
                    <a:pt x="560" y="10"/>
                  </a:lnTo>
                  <a:lnTo>
                    <a:pt x="532" y="10"/>
                  </a:lnTo>
                  <a:lnTo>
                    <a:pt x="505" y="10"/>
                  </a:lnTo>
                  <a:lnTo>
                    <a:pt x="480" y="10"/>
                  </a:lnTo>
                  <a:lnTo>
                    <a:pt x="457" y="8"/>
                  </a:lnTo>
                  <a:lnTo>
                    <a:pt x="435" y="8"/>
                  </a:lnTo>
                  <a:lnTo>
                    <a:pt x="416" y="7"/>
                  </a:lnTo>
                  <a:lnTo>
                    <a:pt x="398" y="7"/>
                  </a:lnTo>
                  <a:lnTo>
                    <a:pt x="385" y="5"/>
                  </a:lnTo>
                  <a:lnTo>
                    <a:pt x="370" y="5"/>
                  </a:lnTo>
                  <a:lnTo>
                    <a:pt x="355" y="5"/>
                  </a:lnTo>
                  <a:lnTo>
                    <a:pt x="339" y="5"/>
                  </a:lnTo>
                  <a:lnTo>
                    <a:pt x="323" y="4"/>
                  </a:lnTo>
                  <a:lnTo>
                    <a:pt x="305" y="4"/>
                  </a:lnTo>
                  <a:lnTo>
                    <a:pt x="287" y="4"/>
                  </a:lnTo>
                  <a:lnTo>
                    <a:pt x="269" y="4"/>
                  </a:lnTo>
                  <a:lnTo>
                    <a:pt x="251" y="2"/>
                  </a:lnTo>
                  <a:lnTo>
                    <a:pt x="232" y="2"/>
                  </a:lnTo>
                  <a:lnTo>
                    <a:pt x="214" y="2"/>
                  </a:lnTo>
                  <a:lnTo>
                    <a:pt x="197" y="2"/>
                  </a:lnTo>
                  <a:lnTo>
                    <a:pt x="181" y="2"/>
                  </a:lnTo>
                  <a:lnTo>
                    <a:pt x="163" y="2"/>
                  </a:lnTo>
                  <a:lnTo>
                    <a:pt x="149" y="2"/>
                  </a:lnTo>
                  <a:lnTo>
                    <a:pt x="135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37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274920" y="3897360"/>
            <a:ext cx="3335040" cy="744480"/>
            <a:chOff x="3274920" y="3897360"/>
            <a:chExt cx="3335040" cy="744480"/>
          </a:xfrm>
        </p:grpSpPr>
        <p:sp>
          <p:nvSpPr>
            <p:cNvPr id="745" name=""/>
            <p:cNvSpPr/>
            <p:nvPr/>
          </p:nvSpPr>
          <p:spPr>
            <a:xfrm>
              <a:off x="3274920" y="3897360"/>
              <a:ext cx="1816560" cy="744480"/>
            </a:xfrm>
            <a:custGeom>
              <a:avLst/>
              <a:gdLst/>
              <a:ahLst/>
              <a:rect l="l" t="t" r="r" b="b"/>
              <a:pathLst>
                <a:path w="1145" h="469">
                  <a:moveTo>
                    <a:pt x="1144" y="468"/>
                  </a:moveTo>
                  <a:lnTo>
                    <a:pt x="1120" y="467"/>
                  </a:lnTo>
                  <a:lnTo>
                    <a:pt x="1100" y="465"/>
                  </a:lnTo>
                  <a:lnTo>
                    <a:pt x="1083" y="465"/>
                  </a:lnTo>
                  <a:lnTo>
                    <a:pt x="1072" y="463"/>
                  </a:lnTo>
                  <a:lnTo>
                    <a:pt x="1062" y="463"/>
                  </a:lnTo>
                  <a:lnTo>
                    <a:pt x="1055" y="462"/>
                  </a:lnTo>
                  <a:lnTo>
                    <a:pt x="1050" y="462"/>
                  </a:lnTo>
                  <a:lnTo>
                    <a:pt x="1047" y="460"/>
                  </a:lnTo>
                  <a:lnTo>
                    <a:pt x="1044" y="460"/>
                  </a:lnTo>
                  <a:lnTo>
                    <a:pt x="1041" y="460"/>
                  </a:lnTo>
                  <a:lnTo>
                    <a:pt x="1037" y="460"/>
                  </a:lnTo>
                  <a:lnTo>
                    <a:pt x="1035" y="459"/>
                  </a:lnTo>
                  <a:lnTo>
                    <a:pt x="1029" y="459"/>
                  </a:lnTo>
                  <a:lnTo>
                    <a:pt x="1023" y="458"/>
                  </a:lnTo>
                  <a:lnTo>
                    <a:pt x="1014" y="457"/>
                  </a:lnTo>
                  <a:lnTo>
                    <a:pt x="1003" y="455"/>
                  </a:lnTo>
                  <a:lnTo>
                    <a:pt x="988" y="455"/>
                  </a:lnTo>
                  <a:lnTo>
                    <a:pt x="974" y="453"/>
                  </a:lnTo>
                  <a:lnTo>
                    <a:pt x="957" y="451"/>
                  </a:lnTo>
                  <a:lnTo>
                    <a:pt x="941" y="448"/>
                  </a:lnTo>
                  <a:lnTo>
                    <a:pt x="922" y="445"/>
                  </a:lnTo>
                  <a:lnTo>
                    <a:pt x="906" y="441"/>
                  </a:lnTo>
                  <a:lnTo>
                    <a:pt x="887" y="438"/>
                  </a:lnTo>
                  <a:lnTo>
                    <a:pt x="870" y="434"/>
                  </a:lnTo>
                  <a:lnTo>
                    <a:pt x="851" y="430"/>
                  </a:lnTo>
                  <a:lnTo>
                    <a:pt x="834" y="427"/>
                  </a:lnTo>
                  <a:lnTo>
                    <a:pt x="817" y="423"/>
                  </a:lnTo>
                  <a:lnTo>
                    <a:pt x="801" y="418"/>
                  </a:lnTo>
                  <a:lnTo>
                    <a:pt x="785" y="414"/>
                  </a:lnTo>
                  <a:lnTo>
                    <a:pt x="771" y="410"/>
                  </a:lnTo>
                  <a:lnTo>
                    <a:pt x="758" y="407"/>
                  </a:lnTo>
                  <a:lnTo>
                    <a:pt x="747" y="401"/>
                  </a:lnTo>
                  <a:lnTo>
                    <a:pt x="734" y="398"/>
                  </a:lnTo>
                  <a:lnTo>
                    <a:pt x="722" y="393"/>
                  </a:lnTo>
                  <a:lnTo>
                    <a:pt x="708" y="389"/>
                  </a:lnTo>
                  <a:lnTo>
                    <a:pt x="694" y="383"/>
                  </a:lnTo>
                  <a:lnTo>
                    <a:pt x="678" y="377"/>
                  </a:lnTo>
                  <a:lnTo>
                    <a:pt x="662" y="371"/>
                  </a:lnTo>
                  <a:lnTo>
                    <a:pt x="645" y="365"/>
                  </a:lnTo>
                  <a:lnTo>
                    <a:pt x="630" y="358"/>
                  </a:lnTo>
                  <a:lnTo>
                    <a:pt x="614" y="352"/>
                  </a:lnTo>
                  <a:lnTo>
                    <a:pt x="597" y="345"/>
                  </a:lnTo>
                  <a:lnTo>
                    <a:pt x="580" y="339"/>
                  </a:lnTo>
                  <a:lnTo>
                    <a:pt x="565" y="332"/>
                  </a:lnTo>
                  <a:lnTo>
                    <a:pt x="550" y="326"/>
                  </a:lnTo>
                  <a:lnTo>
                    <a:pt x="536" y="320"/>
                  </a:lnTo>
                  <a:lnTo>
                    <a:pt x="522" y="314"/>
                  </a:lnTo>
                  <a:lnTo>
                    <a:pt x="511" y="308"/>
                  </a:lnTo>
                  <a:lnTo>
                    <a:pt x="499" y="303"/>
                  </a:lnTo>
                  <a:lnTo>
                    <a:pt x="485" y="297"/>
                  </a:lnTo>
                  <a:lnTo>
                    <a:pt x="470" y="291"/>
                  </a:lnTo>
                  <a:lnTo>
                    <a:pt x="455" y="283"/>
                  </a:lnTo>
                  <a:lnTo>
                    <a:pt x="438" y="275"/>
                  </a:lnTo>
                  <a:lnTo>
                    <a:pt x="421" y="267"/>
                  </a:lnTo>
                  <a:lnTo>
                    <a:pt x="403" y="260"/>
                  </a:lnTo>
                  <a:lnTo>
                    <a:pt x="386" y="251"/>
                  </a:lnTo>
                  <a:lnTo>
                    <a:pt x="367" y="243"/>
                  </a:lnTo>
                  <a:lnTo>
                    <a:pt x="349" y="234"/>
                  </a:lnTo>
                  <a:lnTo>
                    <a:pt x="332" y="227"/>
                  </a:lnTo>
                  <a:lnTo>
                    <a:pt x="315" y="217"/>
                  </a:lnTo>
                  <a:lnTo>
                    <a:pt x="298" y="210"/>
                  </a:lnTo>
                  <a:lnTo>
                    <a:pt x="283" y="202"/>
                  </a:lnTo>
                  <a:lnTo>
                    <a:pt x="268" y="195"/>
                  </a:lnTo>
                  <a:lnTo>
                    <a:pt x="256" y="187"/>
                  </a:lnTo>
                  <a:lnTo>
                    <a:pt x="242" y="182"/>
                  </a:lnTo>
                  <a:lnTo>
                    <a:pt x="229" y="175"/>
                  </a:lnTo>
                  <a:lnTo>
                    <a:pt x="214" y="167"/>
                  </a:lnTo>
                  <a:lnTo>
                    <a:pt x="201" y="158"/>
                  </a:lnTo>
                  <a:lnTo>
                    <a:pt x="186" y="151"/>
                  </a:lnTo>
                  <a:lnTo>
                    <a:pt x="172" y="141"/>
                  </a:lnTo>
                  <a:lnTo>
                    <a:pt x="157" y="133"/>
                  </a:lnTo>
                  <a:lnTo>
                    <a:pt x="144" y="123"/>
                  </a:lnTo>
                  <a:lnTo>
                    <a:pt x="130" y="116"/>
                  </a:lnTo>
                  <a:lnTo>
                    <a:pt x="117" y="107"/>
                  </a:lnTo>
                  <a:lnTo>
                    <a:pt x="104" y="99"/>
                  </a:lnTo>
                  <a:lnTo>
                    <a:pt x="94" y="89"/>
                  </a:lnTo>
                  <a:lnTo>
                    <a:pt x="83" y="82"/>
                  </a:lnTo>
                  <a:lnTo>
                    <a:pt x="74" y="75"/>
                  </a:lnTo>
                  <a:lnTo>
                    <a:pt x="66" y="68"/>
                  </a:lnTo>
                  <a:lnTo>
                    <a:pt x="61" y="61"/>
                  </a:lnTo>
                  <a:lnTo>
                    <a:pt x="55" y="57"/>
                  </a:lnTo>
                  <a:lnTo>
                    <a:pt x="51" y="53"/>
                  </a:lnTo>
                  <a:lnTo>
                    <a:pt x="49" y="50"/>
                  </a:lnTo>
                  <a:lnTo>
                    <a:pt x="47" y="48"/>
                  </a:lnTo>
                  <a:lnTo>
                    <a:pt x="45" y="47"/>
                  </a:lnTo>
                  <a:lnTo>
                    <a:pt x="43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3" y="36"/>
                  </a:lnTo>
                  <a:lnTo>
                    <a:pt x="30" y="31"/>
                  </a:lnTo>
                  <a:lnTo>
                    <a:pt x="24" y="27"/>
                  </a:lnTo>
                  <a:lnTo>
                    <a:pt x="18" y="20"/>
                  </a:lnTo>
                  <a:lnTo>
                    <a:pt x="10" y="11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48520" y="4108320"/>
              <a:ext cx="1261440" cy="93960"/>
            </a:xfrm>
            <a:custGeom>
              <a:avLst/>
              <a:gdLst/>
              <a:ahLst/>
              <a:rect l="l" t="t" r="r" b="b"/>
              <a:pathLst>
                <a:path w="795" h="59">
                  <a:moveTo>
                    <a:pt x="794" y="58"/>
                  </a:moveTo>
                  <a:lnTo>
                    <a:pt x="760" y="56"/>
                  </a:lnTo>
                  <a:lnTo>
                    <a:pt x="733" y="53"/>
                  </a:lnTo>
                  <a:lnTo>
                    <a:pt x="711" y="52"/>
                  </a:lnTo>
                  <a:lnTo>
                    <a:pt x="694" y="50"/>
                  </a:lnTo>
                  <a:lnTo>
                    <a:pt x="681" y="50"/>
                  </a:lnTo>
                  <a:lnTo>
                    <a:pt x="671" y="48"/>
                  </a:lnTo>
                  <a:lnTo>
                    <a:pt x="664" y="48"/>
                  </a:lnTo>
                  <a:lnTo>
                    <a:pt x="659" y="46"/>
                  </a:lnTo>
                  <a:lnTo>
                    <a:pt x="654" y="46"/>
                  </a:lnTo>
                  <a:lnTo>
                    <a:pt x="651" y="46"/>
                  </a:lnTo>
                  <a:lnTo>
                    <a:pt x="646" y="46"/>
                  </a:lnTo>
                  <a:lnTo>
                    <a:pt x="642" y="45"/>
                  </a:lnTo>
                  <a:lnTo>
                    <a:pt x="635" y="45"/>
                  </a:lnTo>
                  <a:lnTo>
                    <a:pt x="626" y="44"/>
                  </a:lnTo>
                  <a:lnTo>
                    <a:pt x="613" y="43"/>
                  </a:lnTo>
                  <a:lnTo>
                    <a:pt x="598" y="41"/>
                  </a:lnTo>
                  <a:lnTo>
                    <a:pt x="578" y="40"/>
                  </a:lnTo>
                  <a:lnTo>
                    <a:pt x="559" y="38"/>
                  </a:lnTo>
                  <a:lnTo>
                    <a:pt x="538" y="36"/>
                  </a:lnTo>
                  <a:lnTo>
                    <a:pt x="517" y="34"/>
                  </a:lnTo>
                  <a:lnTo>
                    <a:pt x="495" y="32"/>
                  </a:lnTo>
                  <a:lnTo>
                    <a:pt x="473" y="30"/>
                  </a:lnTo>
                  <a:lnTo>
                    <a:pt x="451" y="28"/>
                  </a:lnTo>
                  <a:lnTo>
                    <a:pt x="430" y="25"/>
                  </a:lnTo>
                  <a:lnTo>
                    <a:pt x="409" y="23"/>
                  </a:lnTo>
                  <a:lnTo>
                    <a:pt x="389" y="22"/>
                  </a:lnTo>
                  <a:lnTo>
                    <a:pt x="369" y="20"/>
                  </a:lnTo>
                  <a:lnTo>
                    <a:pt x="351" y="18"/>
                  </a:lnTo>
                  <a:lnTo>
                    <a:pt x="334" y="17"/>
                  </a:lnTo>
                  <a:lnTo>
                    <a:pt x="319" y="15"/>
                  </a:lnTo>
                  <a:lnTo>
                    <a:pt x="305" y="14"/>
                  </a:lnTo>
                  <a:lnTo>
                    <a:pt x="295" y="12"/>
                  </a:lnTo>
                  <a:lnTo>
                    <a:pt x="284" y="12"/>
                  </a:lnTo>
                  <a:lnTo>
                    <a:pt x="273" y="10"/>
                  </a:lnTo>
                  <a:lnTo>
                    <a:pt x="261" y="10"/>
                  </a:lnTo>
                  <a:lnTo>
                    <a:pt x="248" y="8"/>
                  </a:lnTo>
                  <a:lnTo>
                    <a:pt x="234" y="8"/>
                  </a:lnTo>
                  <a:lnTo>
                    <a:pt x="221" y="6"/>
                  </a:lnTo>
                  <a:lnTo>
                    <a:pt x="206" y="6"/>
                  </a:lnTo>
                  <a:lnTo>
                    <a:pt x="193" y="4"/>
                  </a:lnTo>
                  <a:lnTo>
                    <a:pt x="178" y="4"/>
                  </a:lnTo>
                  <a:lnTo>
                    <a:pt x="165" y="3"/>
                  </a:lnTo>
                  <a:lnTo>
                    <a:pt x="151" y="3"/>
                  </a:lnTo>
                  <a:lnTo>
                    <a:pt x="138" y="2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006720" y="4118040"/>
            <a:ext cx="3618000" cy="942840"/>
            <a:chOff x="3006720" y="4118040"/>
            <a:chExt cx="3618000" cy="942840"/>
          </a:xfrm>
        </p:grpSpPr>
        <p:sp>
          <p:nvSpPr>
            <p:cNvPr id="748" name=""/>
            <p:cNvSpPr/>
            <p:nvPr/>
          </p:nvSpPr>
          <p:spPr>
            <a:xfrm>
              <a:off x="3006720" y="4118040"/>
              <a:ext cx="1954080" cy="942840"/>
            </a:xfrm>
            <a:custGeom>
              <a:avLst/>
              <a:gdLst/>
              <a:ahLst/>
              <a:rect l="l" t="t" r="r" b="b"/>
              <a:pathLst>
                <a:path w="1231" h="594">
                  <a:moveTo>
                    <a:pt x="1230" y="593"/>
                  </a:moveTo>
                  <a:lnTo>
                    <a:pt x="1203" y="591"/>
                  </a:lnTo>
                  <a:lnTo>
                    <a:pt x="1182" y="588"/>
                  </a:lnTo>
                  <a:lnTo>
                    <a:pt x="1165" y="587"/>
                  </a:lnTo>
                  <a:lnTo>
                    <a:pt x="1152" y="585"/>
                  </a:lnTo>
                  <a:lnTo>
                    <a:pt x="1141" y="585"/>
                  </a:lnTo>
                  <a:lnTo>
                    <a:pt x="1134" y="583"/>
                  </a:lnTo>
                  <a:lnTo>
                    <a:pt x="1128" y="583"/>
                  </a:lnTo>
                  <a:lnTo>
                    <a:pt x="1125" y="582"/>
                  </a:lnTo>
                  <a:lnTo>
                    <a:pt x="1122" y="582"/>
                  </a:lnTo>
                  <a:lnTo>
                    <a:pt x="1118" y="582"/>
                  </a:lnTo>
                  <a:lnTo>
                    <a:pt x="1115" y="582"/>
                  </a:lnTo>
                  <a:lnTo>
                    <a:pt x="1112" y="580"/>
                  </a:lnTo>
                  <a:lnTo>
                    <a:pt x="1106" y="580"/>
                  </a:lnTo>
                  <a:lnTo>
                    <a:pt x="1099" y="579"/>
                  </a:lnTo>
                  <a:lnTo>
                    <a:pt x="1090" y="578"/>
                  </a:lnTo>
                  <a:lnTo>
                    <a:pt x="1078" y="576"/>
                  </a:lnTo>
                  <a:lnTo>
                    <a:pt x="1062" y="574"/>
                  </a:lnTo>
                  <a:lnTo>
                    <a:pt x="1047" y="572"/>
                  </a:lnTo>
                  <a:lnTo>
                    <a:pt x="1029" y="570"/>
                  </a:lnTo>
                  <a:lnTo>
                    <a:pt x="1011" y="566"/>
                  </a:lnTo>
                  <a:lnTo>
                    <a:pt x="992" y="562"/>
                  </a:lnTo>
                  <a:lnTo>
                    <a:pt x="973" y="558"/>
                  </a:lnTo>
                  <a:lnTo>
                    <a:pt x="954" y="554"/>
                  </a:lnTo>
                  <a:lnTo>
                    <a:pt x="935" y="548"/>
                  </a:lnTo>
                  <a:lnTo>
                    <a:pt x="914" y="545"/>
                  </a:lnTo>
                  <a:lnTo>
                    <a:pt x="896" y="539"/>
                  </a:lnTo>
                  <a:lnTo>
                    <a:pt x="877" y="534"/>
                  </a:lnTo>
                  <a:lnTo>
                    <a:pt x="860" y="528"/>
                  </a:lnTo>
                  <a:lnTo>
                    <a:pt x="843" y="525"/>
                  </a:lnTo>
                  <a:lnTo>
                    <a:pt x="828" y="519"/>
                  </a:lnTo>
                  <a:lnTo>
                    <a:pt x="814" y="514"/>
                  </a:lnTo>
                  <a:lnTo>
                    <a:pt x="803" y="508"/>
                  </a:lnTo>
                  <a:lnTo>
                    <a:pt x="790" y="504"/>
                  </a:lnTo>
                  <a:lnTo>
                    <a:pt x="776" y="498"/>
                  </a:lnTo>
                  <a:lnTo>
                    <a:pt x="761" y="492"/>
                  </a:lnTo>
                  <a:lnTo>
                    <a:pt x="746" y="484"/>
                  </a:lnTo>
                  <a:lnTo>
                    <a:pt x="729" y="477"/>
                  </a:lnTo>
                  <a:lnTo>
                    <a:pt x="712" y="470"/>
                  </a:lnTo>
                  <a:lnTo>
                    <a:pt x="694" y="462"/>
                  </a:lnTo>
                  <a:lnTo>
                    <a:pt x="677" y="453"/>
                  </a:lnTo>
                  <a:lnTo>
                    <a:pt x="658" y="446"/>
                  </a:lnTo>
                  <a:lnTo>
                    <a:pt x="641" y="437"/>
                  </a:lnTo>
                  <a:lnTo>
                    <a:pt x="624" y="429"/>
                  </a:lnTo>
                  <a:lnTo>
                    <a:pt x="608" y="420"/>
                  </a:lnTo>
                  <a:lnTo>
                    <a:pt x="590" y="412"/>
                  </a:lnTo>
                  <a:lnTo>
                    <a:pt x="576" y="404"/>
                  </a:lnTo>
                  <a:lnTo>
                    <a:pt x="562" y="397"/>
                  </a:lnTo>
                  <a:lnTo>
                    <a:pt x="549" y="390"/>
                  </a:lnTo>
                  <a:lnTo>
                    <a:pt x="536" y="384"/>
                  </a:lnTo>
                  <a:lnTo>
                    <a:pt x="521" y="376"/>
                  </a:lnTo>
                  <a:lnTo>
                    <a:pt x="505" y="368"/>
                  </a:lnTo>
                  <a:lnTo>
                    <a:pt x="489" y="358"/>
                  </a:lnTo>
                  <a:lnTo>
                    <a:pt x="470" y="349"/>
                  </a:lnTo>
                  <a:lnTo>
                    <a:pt x="452" y="339"/>
                  </a:lnTo>
                  <a:lnTo>
                    <a:pt x="433" y="329"/>
                  </a:lnTo>
                  <a:lnTo>
                    <a:pt x="415" y="318"/>
                  </a:lnTo>
                  <a:lnTo>
                    <a:pt x="394" y="308"/>
                  </a:lnTo>
                  <a:lnTo>
                    <a:pt x="375" y="297"/>
                  </a:lnTo>
                  <a:lnTo>
                    <a:pt x="356" y="286"/>
                  </a:lnTo>
                  <a:lnTo>
                    <a:pt x="338" y="275"/>
                  </a:lnTo>
                  <a:lnTo>
                    <a:pt x="320" y="266"/>
                  </a:lnTo>
                  <a:lnTo>
                    <a:pt x="304" y="256"/>
                  </a:lnTo>
                  <a:lnTo>
                    <a:pt x="288" y="247"/>
                  </a:lnTo>
                  <a:lnTo>
                    <a:pt x="275" y="238"/>
                  </a:lnTo>
                  <a:lnTo>
                    <a:pt x="260" y="230"/>
                  </a:lnTo>
                  <a:lnTo>
                    <a:pt x="246" y="221"/>
                  </a:lnTo>
                  <a:lnTo>
                    <a:pt x="230" y="212"/>
                  </a:lnTo>
                  <a:lnTo>
                    <a:pt x="216" y="201"/>
                  </a:lnTo>
                  <a:lnTo>
                    <a:pt x="199" y="190"/>
                  </a:lnTo>
                  <a:lnTo>
                    <a:pt x="184" y="179"/>
                  </a:lnTo>
                  <a:lnTo>
                    <a:pt x="169" y="168"/>
                  </a:lnTo>
                  <a:lnTo>
                    <a:pt x="155" y="156"/>
                  </a:lnTo>
                  <a:lnTo>
                    <a:pt x="140" y="146"/>
                  </a:lnTo>
                  <a:lnTo>
                    <a:pt x="126" y="135"/>
                  </a:lnTo>
                  <a:lnTo>
                    <a:pt x="112" y="125"/>
                  </a:lnTo>
                  <a:lnTo>
                    <a:pt x="101" y="114"/>
                  </a:lnTo>
                  <a:lnTo>
                    <a:pt x="90" y="104"/>
                  </a:lnTo>
                  <a:lnTo>
                    <a:pt x="80" y="94"/>
                  </a:lnTo>
                  <a:lnTo>
                    <a:pt x="72" y="86"/>
                  </a:lnTo>
                  <a:lnTo>
                    <a:pt x="65" y="77"/>
                  </a:lnTo>
                  <a:lnTo>
                    <a:pt x="59" y="72"/>
                  </a:lnTo>
                  <a:lnTo>
                    <a:pt x="55" y="67"/>
                  </a:lnTo>
                  <a:lnTo>
                    <a:pt x="52" y="64"/>
                  </a:lnTo>
                  <a:lnTo>
                    <a:pt x="50" y="61"/>
                  </a:lnTo>
                  <a:lnTo>
                    <a:pt x="48" y="60"/>
                  </a:lnTo>
                  <a:lnTo>
                    <a:pt x="46" y="5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2" y="52"/>
                  </a:lnTo>
                  <a:lnTo>
                    <a:pt x="40" y="50"/>
                  </a:lnTo>
                  <a:lnTo>
                    <a:pt x="36" y="46"/>
                  </a:lnTo>
                  <a:lnTo>
                    <a:pt x="32" y="40"/>
                  </a:lnTo>
                  <a:lnTo>
                    <a:pt x="26" y="34"/>
                  </a:lnTo>
                  <a:lnTo>
                    <a:pt x="19" y="26"/>
                  </a:lnTo>
                  <a:lnTo>
                    <a:pt x="10" y="15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97320" y="4508640"/>
              <a:ext cx="1427400" cy="52200"/>
            </a:xfrm>
            <a:custGeom>
              <a:avLst/>
              <a:gdLst/>
              <a:ahLst/>
              <a:rect l="l" t="t" r="r" b="b"/>
              <a:pathLst>
                <a:path w="899" h="33">
                  <a:moveTo>
                    <a:pt x="898" y="32"/>
                  </a:moveTo>
                  <a:lnTo>
                    <a:pt x="860" y="32"/>
                  </a:lnTo>
                  <a:lnTo>
                    <a:pt x="829" y="30"/>
                  </a:lnTo>
                  <a:lnTo>
                    <a:pt x="804" y="30"/>
                  </a:lnTo>
                  <a:lnTo>
                    <a:pt x="785" y="28"/>
                  </a:lnTo>
                  <a:lnTo>
                    <a:pt x="770" y="28"/>
                  </a:lnTo>
                  <a:lnTo>
                    <a:pt x="759" y="27"/>
                  </a:lnTo>
                  <a:lnTo>
                    <a:pt x="751" y="27"/>
                  </a:lnTo>
                  <a:lnTo>
                    <a:pt x="746" y="25"/>
                  </a:lnTo>
                  <a:lnTo>
                    <a:pt x="740" y="25"/>
                  </a:lnTo>
                  <a:lnTo>
                    <a:pt x="736" y="25"/>
                  </a:lnTo>
                  <a:lnTo>
                    <a:pt x="731" y="25"/>
                  </a:lnTo>
                  <a:lnTo>
                    <a:pt x="726" y="25"/>
                  </a:lnTo>
                  <a:lnTo>
                    <a:pt x="718" y="25"/>
                  </a:lnTo>
                  <a:lnTo>
                    <a:pt x="708" y="24"/>
                  </a:lnTo>
                  <a:lnTo>
                    <a:pt x="694" y="24"/>
                  </a:lnTo>
                  <a:lnTo>
                    <a:pt x="677" y="22"/>
                  </a:lnTo>
                  <a:lnTo>
                    <a:pt x="655" y="22"/>
                  </a:lnTo>
                  <a:lnTo>
                    <a:pt x="633" y="20"/>
                  </a:lnTo>
                  <a:lnTo>
                    <a:pt x="608" y="20"/>
                  </a:lnTo>
                  <a:lnTo>
                    <a:pt x="585" y="18"/>
                  </a:lnTo>
                  <a:lnTo>
                    <a:pt x="560" y="18"/>
                  </a:lnTo>
                  <a:lnTo>
                    <a:pt x="535" y="16"/>
                  </a:lnTo>
                  <a:lnTo>
                    <a:pt x="511" y="16"/>
                  </a:lnTo>
                  <a:lnTo>
                    <a:pt x="487" y="14"/>
                  </a:lnTo>
                  <a:lnTo>
                    <a:pt x="463" y="14"/>
                  </a:lnTo>
                  <a:lnTo>
                    <a:pt x="440" y="12"/>
                  </a:lnTo>
                  <a:lnTo>
                    <a:pt x="417" y="12"/>
                  </a:lnTo>
                  <a:lnTo>
                    <a:pt x="398" y="10"/>
                  </a:lnTo>
                  <a:lnTo>
                    <a:pt x="378" y="10"/>
                  </a:lnTo>
                  <a:lnTo>
                    <a:pt x="361" y="8"/>
                  </a:lnTo>
                  <a:lnTo>
                    <a:pt x="346" y="8"/>
                  </a:lnTo>
                  <a:lnTo>
                    <a:pt x="334" y="6"/>
                  </a:lnTo>
                  <a:lnTo>
                    <a:pt x="322" y="6"/>
                  </a:lnTo>
                  <a:lnTo>
                    <a:pt x="309" y="6"/>
                  </a:lnTo>
                  <a:lnTo>
                    <a:pt x="294" y="6"/>
                  </a:lnTo>
                  <a:lnTo>
                    <a:pt x="281" y="5"/>
                  </a:lnTo>
                  <a:lnTo>
                    <a:pt x="264" y="5"/>
                  </a:lnTo>
                  <a:lnTo>
                    <a:pt x="250" y="5"/>
                  </a:lnTo>
                  <a:lnTo>
                    <a:pt x="233" y="5"/>
                  </a:lnTo>
                  <a:lnTo>
                    <a:pt x="218" y="3"/>
                  </a:lnTo>
                  <a:lnTo>
                    <a:pt x="201" y="3"/>
                  </a:lnTo>
                  <a:lnTo>
                    <a:pt x="186" y="3"/>
                  </a:lnTo>
                  <a:lnTo>
                    <a:pt x="170" y="3"/>
                  </a:lnTo>
                  <a:lnTo>
                    <a:pt x="156" y="2"/>
                  </a:lnTo>
                  <a:lnTo>
                    <a:pt x="142" y="2"/>
                  </a:lnTo>
                  <a:lnTo>
                    <a:pt x="129" y="2"/>
                  </a:lnTo>
                  <a:lnTo>
                    <a:pt x="117" y="2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304920" y="181080"/>
            <a:ext cx="9453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Ahora tomemos una sección "vertical"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496880" y="2082960"/>
            <a:ext cx="4626000" cy="4545000"/>
          </a:xfrm>
          <a:custGeom>
            <a:avLst/>
            <a:gdLst/>
            <a:ahLst/>
            <a:rect l="l" t="t" r="r" b="b"/>
            <a:pathLst>
              <a:path w="2914" h="2863">
                <a:moveTo>
                  <a:pt x="5" y="1895"/>
                </a:moveTo>
                <a:lnTo>
                  <a:pt x="2067" y="2862"/>
                </a:lnTo>
                <a:lnTo>
                  <a:pt x="2077" y="2859"/>
                </a:lnTo>
                <a:lnTo>
                  <a:pt x="2089" y="2651"/>
                </a:lnTo>
                <a:lnTo>
                  <a:pt x="2122" y="2377"/>
                </a:lnTo>
                <a:lnTo>
                  <a:pt x="2199" y="1928"/>
                </a:lnTo>
                <a:lnTo>
                  <a:pt x="2275" y="1632"/>
                </a:lnTo>
                <a:lnTo>
                  <a:pt x="2397" y="1183"/>
                </a:lnTo>
                <a:lnTo>
                  <a:pt x="2539" y="723"/>
                </a:lnTo>
                <a:lnTo>
                  <a:pt x="2649" y="449"/>
                </a:lnTo>
                <a:lnTo>
                  <a:pt x="2770" y="208"/>
                </a:lnTo>
                <a:lnTo>
                  <a:pt x="2913" y="0"/>
                </a:lnTo>
                <a:lnTo>
                  <a:pt x="2903" y="0"/>
                </a:lnTo>
                <a:lnTo>
                  <a:pt x="0" y="1884"/>
                </a:lnTo>
                <a:lnTo>
                  <a:pt x="5" y="1895"/>
                </a:lnTo>
                <a:lnTo>
                  <a:pt x="5" y="1895"/>
                </a:lnTo>
              </a:path>
            </a:pathLst>
          </a:custGeom>
          <a:gradFill rotWithShape="0">
            <a:gsLst>
              <a:gs pos="0">
                <a:srgbClr val="ff8100"/>
              </a:gs>
              <a:gs pos="50000">
                <a:srgbClr val="ffffff"/>
              </a:gs>
              <a:gs pos="100000">
                <a:srgbClr val="ff8100"/>
              </a:gs>
            </a:gsLst>
            <a:lin ang="81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94120" y="5091120"/>
            <a:ext cx="3144960" cy="2052720"/>
          </a:xfrm>
          <a:custGeom>
            <a:avLst/>
            <a:gdLst/>
            <a:ahLst/>
            <a:rect l="l" t="t" r="r" b="b"/>
            <a:pathLst>
              <a:path w="1981" h="1293">
                <a:moveTo>
                  <a:pt x="122" y="21"/>
                </a:moveTo>
                <a:lnTo>
                  <a:pt x="122" y="21"/>
                </a:lnTo>
                <a:lnTo>
                  <a:pt x="0" y="964"/>
                </a:lnTo>
                <a:lnTo>
                  <a:pt x="0" y="964"/>
                </a:lnTo>
                <a:lnTo>
                  <a:pt x="680" y="1292"/>
                </a:lnTo>
                <a:lnTo>
                  <a:pt x="946" y="1215"/>
                </a:lnTo>
                <a:lnTo>
                  <a:pt x="1221" y="1150"/>
                </a:lnTo>
                <a:lnTo>
                  <a:pt x="1584" y="887"/>
                </a:lnTo>
                <a:lnTo>
                  <a:pt x="1760" y="755"/>
                </a:lnTo>
                <a:lnTo>
                  <a:pt x="1947" y="613"/>
                </a:lnTo>
                <a:lnTo>
                  <a:pt x="1980" y="339"/>
                </a:lnTo>
                <a:lnTo>
                  <a:pt x="1793" y="153"/>
                </a:lnTo>
                <a:lnTo>
                  <a:pt x="1760" y="0"/>
                </a:lnTo>
                <a:lnTo>
                  <a:pt x="122" y="21"/>
                </a:lnTo>
                <a:lnTo>
                  <a:pt x="122" y="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06880" y="2065320"/>
            <a:ext cx="1728720" cy="3027240"/>
          </a:xfrm>
          <a:custGeom>
            <a:avLst/>
            <a:gdLst/>
            <a:ahLst/>
            <a:rect l="l" t="t" r="r" b="b"/>
            <a:pathLst>
              <a:path w="1089" h="1907">
                <a:moveTo>
                  <a:pt x="0" y="1906"/>
                </a:moveTo>
                <a:lnTo>
                  <a:pt x="0" y="1906"/>
                </a:lnTo>
                <a:lnTo>
                  <a:pt x="65" y="1643"/>
                </a:lnTo>
                <a:lnTo>
                  <a:pt x="186" y="1194"/>
                </a:lnTo>
                <a:lnTo>
                  <a:pt x="329" y="734"/>
                </a:lnTo>
                <a:lnTo>
                  <a:pt x="439" y="460"/>
                </a:lnTo>
                <a:lnTo>
                  <a:pt x="560" y="219"/>
                </a:lnTo>
                <a:lnTo>
                  <a:pt x="703" y="11"/>
                </a:lnTo>
                <a:lnTo>
                  <a:pt x="758" y="0"/>
                </a:lnTo>
                <a:lnTo>
                  <a:pt x="812" y="44"/>
                </a:lnTo>
                <a:lnTo>
                  <a:pt x="846" y="109"/>
                </a:lnTo>
                <a:lnTo>
                  <a:pt x="890" y="296"/>
                </a:lnTo>
                <a:lnTo>
                  <a:pt x="934" y="570"/>
                </a:lnTo>
                <a:lnTo>
                  <a:pt x="978" y="898"/>
                </a:lnTo>
                <a:lnTo>
                  <a:pt x="1033" y="1347"/>
                </a:lnTo>
                <a:lnTo>
                  <a:pt x="1066" y="1709"/>
                </a:lnTo>
                <a:lnTo>
                  <a:pt x="1088" y="1895"/>
                </a:lnTo>
                <a:lnTo>
                  <a:pt x="0" y="1906"/>
                </a:lnTo>
                <a:lnTo>
                  <a:pt x="0" y="190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490760" y="1281240"/>
            <a:ext cx="0" cy="37749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987800" y="5087520"/>
            <a:ext cx="258300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4888080"/>
            <a:ext cx="11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23160" y="5084640"/>
            <a:ext cx="698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39920" y="996840"/>
            <a:ext cx="19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22440" y="5100480"/>
            <a:ext cx="4349880" cy="202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500000">
            <a:off x="5954760" y="6987960"/>
            <a:ext cx="11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500000">
            <a:off x="6006600" y="7189560"/>
            <a:ext cx="698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496880" y="2082600"/>
            <a:ext cx="4608720" cy="299052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94120" y="2065320"/>
            <a:ext cx="1940040" cy="4557600"/>
          </a:xfrm>
          <a:custGeom>
            <a:avLst/>
            <a:gdLst/>
            <a:ahLst/>
            <a:rect l="l" t="t" r="r" b="b"/>
            <a:pathLst>
              <a:path w="1222" h="2871">
                <a:moveTo>
                  <a:pt x="0" y="2870"/>
                </a:moveTo>
                <a:lnTo>
                  <a:pt x="12" y="2662"/>
                </a:lnTo>
                <a:lnTo>
                  <a:pt x="45" y="2388"/>
                </a:lnTo>
                <a:lnTo>
                  <a:pt x="122" y="1939"/>
                </a:lnTo>
                <a:lnTo>
                  <a:pt x="198" y="1643"/>
                </a:lnTo>
                <a:lnTo>
                  <a:pt x="320" y="1194"/>
                </a:lnTo>
                <a:lnTo>
                  <a:pt x="462" y="734"/>
                </a:lnTo>
                <a:lnTo>
                  <a:pt x="572" y="460"/>
                </a:lnTo>
                <a:lnTo>
                  <a:pt x="693" y="219"/>
                </a:lnTo>
                <a:lnTo>
                  <a:pt x="836" y="11"/>
                </a:lnTo>
                <a:lnTo>
                  <a:pt x="891" y="0"/>
                </a:lnTo>
                <a:lnTo>
                  <a:pt x="946" y="44"/>
                </a:lnTo>
                <a:lnTo>
                  <a:pt x="979" y="109"/>
                </a:lnTo>
                <a:lnTo>
                  <a:pt x="1023" y="296"/>
                </a:lnTo>
                <a:lnTo>
                  <a:pt x="1067" y="570"/>
                </a:lnTo>
                <a:lnTo>
                  <a:pt x="1111" y="898"/>
                </a:lnTo>
                <a:lnTo>
                  <a:pt x="1166" y="1347"/>
                </a:lnTo>
                <a:lnTo>
                  <a:pt x="1199" y="1709"/>
                </a:lnTo>
                <a:lnTo>
                  <a:pt x="1221" y="1895"/>
                </a:lnTo>
              </a:path>
            </a:pathLst>
          </a:custGeom>
          <a:noFill/>
          <a:ln w="475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12920" y="5060880"/>
            <a:ext cx="17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00760" y="3773520"/>
            <a:ext cx="21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95600" y="3959280"/>
            <a:ext cx="2646360" cy="372960"/>
          </a:xfrm>
          <a:custGeom>
            <a:avLst/>
            <a:gdLst/>
            <a:ahLst/>
            <a:rect l="l" t="t" r="r" b="b"/>
            <a:pathLst>
              <a:path w="1667" h="235">
                <a:moveTo>
                  <a:pt x="1666" y="122"/>
                </a:moveTo>
                <a:lnTo>
                  <a:pt x="1562" y="89"/>
                </a:lnTo>
                <a:lnTo>
                  <a:pt x="1459" y="60"/>
                </a:lnTo>
                <a:lnTo>
                  <a:pt x="1353" y="37"/>
                </a:lnTo>
                <a:lnTo>
                  <a:pt x="1247" y="19"/>
                </a:lnTo>
                <a:lnTo>
                  <a:pt x="1140" y="8"/>
                </a:lnTo>
                <a:lnTo>
                  <a:pt x="1034" y="1"/>
                </a:lnTo>
                <a:lnTo>
                  <a:pt x="927" y="0"/>
                </a:lnTo>
                <a:lnTo>
                  <a:pt x="821" y="4"/>
                </a:lnTo>
                <a:lnTo>
                  <a:pt x="714" y="14"/>
                </a:lnTo>
                <a:lnTo>
                  <a:pt x="608" y="29"/>
                </a:lnTo>
                <a:lnTo>
                  <a:pt x="503" y="50"/>
                </a:lnTo>
                <a:lnTo>
                  <a:pt x="400" y="76"/>
                </a:lnTo>
                <a:lnTo>
                  <a:pt x="297" y="109"/>
                </a:lnTo>
                <a:lnTo>
                  <a:pt x="196" y="145"/>
                </a:lnTo>
                <a:lnTo>
                  <a:pt x="97" y="187"/>
                </a:lnTo>
                <a:lnTo>
                  <a:pt x="0" y="234"/>
                </a:lnTo>
              </a:path>
            </a:pathLst>
          </a:custGeom>
          <a:noFill/>
          <a:ln w="3168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587680" y="2259000"/>
            <a:ext cx="3716280" cy="3718080"/>
            <a:chOff x="2587680" y="2259000"/>
            <a:chExt cx="3716280" cy="3718080"/>
          </a:xfrm>
        </p:grpSpPr>
        <p:sp>
          <p:nvSpPr>
            <p:cNvPr id="768" name=""/>
            <p:cNvSpPr/>
            <p:nvPr/>
          </p:nvSpPr>
          <p:spPr>
            <a:xfrm>
              <a:off x="2587680" y="2259000"/>
              <a:ext cx="3716280" cy="3718080"/>
            </a:xfrm>
            <a:custGeom>
              <a:avLst/>
              <a:gdLst/>
              <a:ahLst/>
              <a:rect l="l" t="t" r="r" b="b"/>
              <a:pathLst>
                <a:path w="2341" h="2342">
                  <a:moveTo>
                    <a:pt x="3" y="1327"/>
                  </a:moveTo>
                  <a:lnTo>
                    <a:pt x="161" y="1244"/>
                  </a:lnTo>
                  <a:lnTo>
                    <a:pt x="297" y="1181"/>
                  </a:lnTo>
                  <a:lnTo>
                    <a:pt x="375" y="1139"/>
                  </a:lnTo>
                  <a:lnTo>
                    <a:pt x="461" y="1115"/>
                  </a:lnTo>
                  <a:lnTo>
                    <a:pt x="542" y="1087"/>
                  </a:lnTo>
                  <a:lnTo>
                    <a:pt x="644" y="1072"/>
                  </a:lnTo>
                  <a:lnTo>
                    <a:pt x="754" y="1068"/>
                  </a:lnTo>
                  <a:lnTo>
                    <a:pt x="898" y="1056"/>
                  </a:lnTo>
                  <a:lnTo>
                    <a:pt x="1014" y="1072"/>
                  </a:lnTo>
                  <a:lnTo>
                    <a:pt x="1150" y="1081"/>
                  </a:lnTo>
                  <a:lnTo>
                    <a:pt x="1284" y="1095"/>
                  </a:lnTo>
                  <a:lnTo>
                    <a:pt x="1374" y="1111"/>
                  </a:lnTo>
                  <a:lnTo>
                    <a:pt x="1483" y="1130"/>
                  </a:lnTo>
                  <a:lnTo>
                    <a:pt x="1608" y="1165"/>
                  </a:lnTo>
                  <a:lnTo>
                    <a:pt x="1678" y="1181"/>
                  </a:lnTo>
                  <a:lnTo>
                    <a:pt x="1644" y="1404"/>
                  </a:lnTo>
                  <a:lnTo>
                    <a:pt x="1632" y="1436"/>
                  </a:lnTo>
                  <a:lnTo>
                    <a:pt x="1569" y="1681"/>
                  </a:lnTo>
                  <a:lnTo>
                    <a:pt x="1518" y="1857"/>
                  </a:lnTo>
                  <a:lnTo>
                    <a:pt x="1506" y="2026"/>
                  </a:lnTo>
                  <a:lnTo>
                    <a:pt x="2340" y="2341"/>
                  </a:lnTo>
                  <a:lnTo>
                    <a:pt x="2334" y="376"/>
                  </a:lnTo>
                  <a:lnTo>
                    <a:pt x="0" y="0"/>
                  </a:lnTo>
                  <a:lnTo>
                    <a:pt x="3" y="1327"/>
                  </a:lnTo>
                  <a:lnTo>
                    <a:pt x="3" y="1327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0040" y="2568600"/>
              <a:ext cx="1447920" cy="1322280"/>
            </a:xfrm>
            <a:custGeom>
              <a:avLst/>
              <a:gdLst/>
              <a:ahLst/>
              <a:rect l="l" t="t" r="r" b="b"/>
              <a:pathLst>
                <a:path w="912" h="833">
                  <a:moveTo>
                    <a:pt x="911" y="472"/>
                  </a:moveTo>
                  <a:lnTo>
                    <a:pt x="911" y="472"/>
                  </a:lnTo>
                  <a:lnTo>
                    <a:pt x="442" y="0"/>
                  </a:lnTo>
                  <a:lnTo>
                    <a:pt x="477" y="212"/>
                  </a:lnTo>
                  <a:lnTo>
                    <a:pt x="54" y="159"/>
                  </a:lnTo>
                  <a:lnTo>
                    <a:pt x="0" y="596"/>
                  </a:lnTo>
                  <a:lnTo>
                    <a:pt x="424" y="648"/>
                  </a:lnTo>
                  <a:lnTo>
                    <a:pt x="340" y="832"/>
                  </a:lnTo>
                  <a:lnTo>
                    <a:pt x="911" y="472"/>
                  </a:lnTo>
                  <a:lnTo>
                    <a:pt x="911" y="47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8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647800" y="3968640"/>
            <a:ext cx="2646360" cy="373320"/>
          </a:xfrm>
          <a:custGeom>
            <a:avLst/>
            <a:gdLst/>
            <a:ahLst/>
            <a:rect l="l" t="t" r="r" b="b"/>
            <a:pathLst>
              <a:path w="1667" h="235">
                <a:moveTo>
                  <a:pt x="1666" y="122"/>
                </a:moveTo>
                <a:lnTo>
                  <a:pt x="1562" y="89"/>
                </a:lnTo>
                <a:lnTo>
                  <a:pt x="1459" y="60"/>
                </a:lnTo>
                <a:lnTo>
                  <a:pt x="1353" y="37"/>
                </a:lnTo>
                <a:lnTo>
                  <a:pt x="1247" y="19"/>
                </a:lnTo>
                <a:lnTo>
                  <a:pt x="1140" y="8"/>
                </a:lnTo>
                <a:lnTo>
                  <a:pt x="1034" y="1"/>
                </a:lnTo>
                <a:lnTo>
                  <a:pt x="927" y="0"/>
                </a:lnTo>
                <a:lnTo>
                  <a:pt x="821" y="4"/>
                </a:lnTo>
                <a:lnTo>
                  <a:pt x="714" y="14"/>
                </a:lnTo>
                <a:lnTo>
                  <a:pt x="608" y="29"/>
                </a:lnTo>
                <a:lnTo>
                  <a:pt x="503" y="50"/>
                </a:lnTo>
                <a:lnTo>
                  <a:pt x="400" y="76"/>
                </a:lnTo>
                <a:lnTo>
                  <a:pt x="297" y="109"/>
                </a:lnTo>
                <a:lnTo>
                  <a:pt x="196" y="145"/>
                </a:lnTo>
                <a:lnTo>
                  <a:pt x="97" y="187"/>
                </a:lnTo>
                <a:lnTo>
                  <a:pt x="0" y="234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05680" y="6368040"/>
            <a:ext cx="2716200" cy="1236600"/>
          </a:xfrm>
          <a:prstGeom prst="rect">
            <a:avLst/>
          </a:prstGeom>
          <a:solidFill>
            <a:srgbClr val="ffffcc"/>
          </a:solidFill>
          <a:ln w="1908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...nos permite introducir nuestro próximo concep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2362320" y="5867280"/>
            <a:ext cx="2036520" cy="1195560"/>
            <a:chOff x="2362320" y="5867280"/>
            <a:chExt cx="2036520" cy="1195560"/>
          </a:xfrm>
        </p:grpSpPr>
        <p:sp>
          <p:nvSpPr>
            <p:cNvPr id="773" name=""/>
            <p:cNvSpPr/>
            <p:nvPr/>
          </p:nvSpPr>
          <p:spPr>
            <a:xfrm>
              <a:off x="2362320" y="5867280"/>
              <a:ext cx="2036520" cy="1195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92280" y="6222960"/>
              <a:ext cx="1865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Isocuanta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90400" y="878040"/>
            <a:ext cx="945360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Función de Producción:  Concep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4320" y="2682720"/>
            <a:ext cx="132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120" y="4089240"/>
            <a:ext cx="203508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60040" y="4510080"/>
            <a:ext cx="174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35000" y="5840280"/>
            <a:ext cx="2054160" cy="1222560"/>
            <a:chOff x="135000" y="5840280"/>
            <a:chExt cx="2054160" cy="1222560"/>
          </a:xfrm>
        </p:grpSpPr>
        <p:sp>
          <p:nvSpPr>
            <p:cNvPr id="785" name=""/>
            <p:cNvSpPr/>
            <p:nvPr/>
          </p:nvSpPr>
          <p:spPr>
            <a:xfrm>
              <a:off x="152280" y="5869080"/>
              <a:ext cx="2036880" cy="1193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5000" y="5840280"/>
              <a:ext cx="200160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Conjunto de insumos requerido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85800" y="5315040"/>
            <a:ext cx="4539960" cy="552240"/>
            <a:chOff x="685800" y="5315040"/>
            <a:chExt cx="4539960" cy="552240"/>
          </a:xfrm>
        </p:grpSpPr>
        <p:sp>
          <p:nvSpPr>
            <p:cNvPr id="788" name=""/>
            <p:cNvSpPr/>
            <p:nvPr/>
          </p:nvSpPr>
          <p:spPr>
            <a:xfrm>
              <a:off x="1836720" y="531504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80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5416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224320" y="561348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5800" y="561348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36720" y="561348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54160" y="561348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808280" y="3524400"/>
            <a:ext cx="6810120" cy="552240"/>
            <a:chOff x="1808280" y="3524400"/>
            <a:chExt cx="6810120" cy="552240"/>
          </a:xfrm>
        </p:grpSpPr>
        <p:sp>
          <p:nvSpPr>
            <p:cNvPr id="796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0828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7844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46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616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0828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7844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2936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46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124080" y="4089240"/>
            <a:ext cx="6553440" cy="1197000"/>
            <a:chOff x="3124080" y="4089240"/>
            <a:chExt cx="6553440" cy="1197000"/>
          </a:xfrm>
        </p:grpSpPr>
        <p:sp>
          <p:nvSpPr>
            <p:cNvPr id="806" name=""/>
            <p:cNvSpPr/>
            <p:nvPr/>
          </p:nvSpPr>
          <p:spPr>
            <a:xfrm>
              <a:off x="3124080" y="4091040"/>
              <a:ext cx="2036880" cy="119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34120" y="4089240"/>
              <a:ext cx="203652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9760" y="4264200"/>
              <a:ext cx="186084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Optimiza-ció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40640" y="4089240"/>
              <a:ext cx="2036880" cy="119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19720" y="4280040"/>
              <a:ext cx="20746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Estática comparativ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51880" y="4233960"/>
              <a:ext cx="19098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La firma y el mercad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4668840" y="5867280"/>
            <a:ext cx="2036880" cy="1195200"/>
            <a:chOff x="4668840" y="5867280"/>
            <a:chExt cx="2036880" cy="1195200"/>
          </a:xfrm>
        </p:grpSpPr>
        <p:grpSp>
          <p:nvGrpSpPr>
            <p:cNvPr id="813" name=""/>
            <p:cNvGrpSpPr/>
            <p:nvPr/>
          </p:nvGrpSpPr>
          <p:grpSpPr>
            <a:xfrm>
              <a:off x="4668840" y="5867280"/>
              <a:ext cx="2036880" cy="1195200"/>
              <a:chOff x="4668840" y="5867280"/>
              <a:chExt cx="2036880" cy="1195200"/>
            </a:xfrm>
          </p:grpSpPr>
          <p:sp>
            <p:nvSpPr>
              <p:cNvPr id="814" name=""/>
              <p:cNvSpPr/>
              <p:nvPr/>
            </p:nvSpPr>
            <p:spPr>
              <a:xfrm>
                <a:off x="4668840" y="5867280"/>
                <a:ext cx="2036880" cy="11941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00600" y="5968800"/>
                <a:ext cx="1771560" cy="1093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Marginal product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4668840" y="5867280"/>
              <a:ext cx="2036880" cy="1193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58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00600" y="6031080"/>
              <a:ext cx="1771560" cy="849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Arial"/>
                </a:rPr>
                <a:t>Producto Margina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559400" y="5608800"/>
            <a:ext cx="2484360" cy="187776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142920" y="5873760"/>
            <a:ext cx="4263840" cy="1221840"/>
            <a:chOff x="142920" y="5873760"/>
            <a:chExt cx="4263840" cy="1221840"/>
          </a:xfrm>
        </p:grpSpPr>
        <p:grpSp>
          <p:nvGrpSpPr>
            <p:cNvPr id="820" name=""/>
            <p:cNvGrpSpPr/>
            <p:nvPr/>
          </p:nvGrpSpPr>
          <p:grpSpPr>
            <a:xfrm>
              <a:off x="142920" y="5873760"/>
              <a:ext cx="2054160" cy="1221840"/>
              <a:chOff x="142920" y="5873760"/>
              <a:chExt cx="2054160" cy="1221840"/>
            </a:xfrm>
          </p:grpSpPr>
          <p:sp>
            <p:nvSpPr>
              <p:cNvPr id="821" name=""/>
              <p:cNvSpPr/>
              <p:nvPr/>
            </p:nvSpPr>
            <p:spPr>
              <a:xfrm>
                <a:off x="160200" y="5902200"/>
                <a:ext cx="2036880" cy="1193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42920" y="5873760"/>
                <a:ext cx="2001600" cy="1093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000000"/>
                    </a:solidFill>
                    <a:latin typeface="Arial"/>
                  </a:rPr>
                  <a:t>Conjunto de insumos requerido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370240" y="5875200"/>
              <a:ext cx="2036520" cy="1195560"/>
              <a:chOff x="2370240" y="5875200"/>
              <a:chExt cx="2036520" cy="1195560"/>
            </a:xfrm>
          </p:grpSpPr>
          <p:sp>
            <p:nvSpPr>
              <p:cNvPr id="824" name=""/>
              <p:cNvSpPr/>
              <p:nvPr/>
            </p:nvSpPr>
            <p:spPr>
              <a:xfrm>
                <a:off x="2370240" y="5875200"/>
                <a:ext cx="2036520" cy="1195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158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00200" y="6230880"/>
                <a:ext cx="186552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000000"/>
                    </a:solidFill>
                    <a:latin typeface="Arial"/>
                  </a:rPr>
                  <a:t>Isocuanta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57200" y="1008000"/>
            <a:ext cx="8534520" cy="3951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280800" y="-13356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to margi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2880" y="1082520"/>
            <a:ext cx="85057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scoger un vector de insumos técnicamente eficiente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33520" y="2492280"/>
            <a:ext cx="84261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Mantener todos los insumos, menos uno, constantes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61280" y="2243160"/>
            <a:ext cx="5025960" cy="1218960"/>
            <a:chOff x="6461280" y="2243160"/>
            <a:chExt cx="5025960" cy="1218960"/>
          </a:xfrm>
        </p:grpSpPr>
        <p:sp>
          <p:nvSpPr>
            <p:cNvPr id="831" name=""/>
            <p:cNvSpPr/>
            <p:nvPr/>
          </p:nvSpPr>
          <p:spPr>
            <a:xfrm flipV="1">
              <a:off x="6461280" y="2242800"/>
              <a:ext cx="3313080" cy="1218960"/>
            </a:xfrm>
            <a:prstGeom prst="roundRect">
              <a:avLst>
                <a:gd name="adj" fmla="val 20912"/>
              </a:avLst>
            </a:prstGeom>
            <a:solidFill>
              <a:srgbClr val="ffffc2"/>
            </a:solidFill>
            <a:ln w="190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18320" y="2334960"/>
              <a:ext cx="476892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6200" spc="-1" strike="noStrike">
                  <a:solidFill>
                    <a:srgbClr val="ff0000"/>
                  </a:solidFill>
                  <a:latin typeface="Times New Roman"/>
                </a:rPr>
                <a:t>Q= G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62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6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557280" y="3807000"/>
            <a:ext cx="84265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Medir el cambio en el producto a medida que varía el insum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639880" y="5214960"/>
            <a:ext cx="7091640" cy="2734560"/>
            <a:chOff x="2639880" y="5214960"/>
            <a:chExt cx="7091640" cy="2734560"/>
          </a:xfrm>
        </p:grpSpPr>
        <p:grpSp>
          <p:nvGrpSpPr>
            <p:cNvPr id="835" name=""/>
            <p:cNvGrpSpPr/>
            <p:nvPr/>
          </p:nvGrpSpPr>
          <p:grpSpPr>
            <a:xfrm>
              <a:off x="2639880" y="5214960"/>
              <a:ext cx="7091640" cy="2311200"/>
              <a:chOff x="2639880" y="5214960"/>
              <a:chExt cx="7091640" cy="2311200"/>
            </a:xfrm>
          </p:grpSpPr>
          <p:sp>
            <p:nvSpPr>
              <p:cNvPr id="836" name=""/>
              <p:cNvSpPr/>
              <p:nvPr/>
            </p:nvSpPr>
            <p:spPr>
              <a:xfrm flipV="1">
                <a:off x="2639880" y="5214600"/>
                <a:ext cx="6865920" cy="2311200"/>
              </a:xfrm>
              <a:prstGeom prst="roundRect">
                <a:avLst>
                  <a:gd name="adj" fmla="val 6245"/>
                </a:avLst>
              </a:prstGeom>
              <a:solidFill>
                <a:srgbClr val="ffffc2"/>
              </a:solidFill>
              <a:ln w="19080">
                <a:solidFill>
                  <a:srgbClr val="810000"/>
                </a:solidFill>
                <a:miter/>
              </a:ln>
              <a:effectLst>
                <a:outerShdw dist="107932" dir="2700000" blurRad="0" rotWithShape="0">
                  <a:srgbClr val="40404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000240" y="5353560"/>
                <a:ext cx="6731280" cy="184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3586320" y="5522400"/>
              <a:ext cx="5338440" cy="2427120"/>
              <a:chOff x="3586320" y="5522400"/>
              <a:chExt cx="5338440" cy="2427120"/>
            </a:xfrm>
          </p:grpSpPr>
          <p:sp>
            <p:nvSpPr>
              <p:cNvPr id="839" name=""/>
              <p:cNvSpPr/>
              <p:nvPr/>
            </p:nvSpPr>
            <p:spPr>
              <a:xfrm>
                <a:off x="6664320" y="5877720"/>
                <a:ext cx="2130480" cy="20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GB" sz="6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</a:t>
                </a:r>
                <a:r>
                  <a:rPr b="0" i="1" lang="en-GB" sz="62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GB" sz="62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lang="en-GB" sz="62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r>
                  <a:rPr b="0" lang="en-GB" sz="62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GB" sz="6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</a:t>
                </a:r>
                <a:r>
                  <a:rPr b="0" i="1" lang="en-GB" sz="62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r>
                  <a:rPr b="0" i="1" lang="en-GB" sz="6200" spc="-1" strike="noStrike" baseline="-25000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508800" y="5522400"/>
                <a:ext cx="2415960" cy="9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US" sz="6200" spc="-1" strike="noStrike">
                    <a:solidFill>
                      <a:srgbClr val="ff0000"/>
                    </a:solidFill>
                    <a:latin typeface="Times New Roman"/>
                  </a:rPr>
                  <a:t>____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762440" y="6483960"/>
                <a:ext cx="14940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37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586320" y="5919120"/>
                <a:ext cx="270036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lang="en-US" sz="6200" spc="-1" strike="noStrike">
                    <a:solidFill>
                      <a:srgbClr val="ff0000"/>
                    </a:solidFill>
                    <a:latin typeface="Times New Roman"/>
                  </a:rPr>
                  <a:t>MP  =  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301680" y="68040"/>
            <a:ext cx="94536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s posibles relaciones entre el producto y un insumo variab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9320" y="5146560"/>
            <a:ext cx="3278160" cy="2498760"/>
          </a:xfrm>
          <a:custGeom>
            <a:avLst/>
            <a:gdLst/>
            <a:ahLst/>
            <a:rect l="l" t="t" r="r" b="b"/>
            <a:pathLst>
              <a:path w="2065" h="1573">
                <a:moveTo>
                  <a:pt x="2064" y="91"/>
                </a:moveTo>
                <a:lnTo>
                  <a:pt x="2064" y="91"/>
                </a:lnTo>
                <a:lnTo>
                  <a:pt x="2064" y="134"/>
                </a:lnTo>
                <a:lnTo>
                  <a:pt x="2054" y="134"/>
                </a:lnTo>
                <a:lnTo>
                  <a:pt x="2043" y="230"/>
                </a:lnTo>
                <a:lnTo>
                  <a:pt x="2010" y="325"/>
                </a:lnTo>
                <a:lnTo>
                  <a:pt x="1968" y="368"/>
                </a:lnTo>
                <a:lnTo>
                  <a:pt x="1968" y="549"/>
                </a:lnTo>
                <a:lnTo>
                  <a:pt x="1957" y="645"/>
                </a:lnTo>
                <a:lnTo>
                  <a:pt x="1978" y="741"/>
                </a:lnTo>
                <a:lnTo>
                  <a:pt x="1978" y="922"/>
                </a:lnTo>
                <a:lnTo>
                  <a:pt x="1957" y="1018"/>
                </a:lnTo>
                <a:lnTo>
                  <a:pt x="1957" y="1114"/>
                </a:lnTo>
                <a:lnTo>
                  <a:pt x="1978" y="1294"/>
                </a:lnTo>
                <a:lnTo>
                  <a:pt x="1957" y="1476"/>
                </a:lnTo>
                <a:lnTo>
                  <a:pt x="1936" y="1572"/>
                </a:lnTo>
                <a:lnTo>
                  <a:pt x="0" y="1572"/>
                </a:lnTo>
                <a:lnTo>
                  <a:pt x="228" y="1543"/>
                </a:lnTo>
                <a:lnTo>
                  <a:pt x="383" y="1506"/>
                </a:lnTo>
                <a:lnTo>
                  <a:pt x="618" y="1400"/>
                </a:lnTo>
                <a:lnTo>
                  <a:pt x="842" y="1135"/>
                </a:lnTo>
                <a:lnTo>
                  <a:pt x="960" y="911"/>
                </a:lnTo>
                <a:lnTo>
                  <a:pt x="1039" y="721"/>
                </a:lnTo>
                <a:lnTo>
                  <a:pt x="1119" y="568"/>
                </a:lnTo>
                <a:lnTo>
                  <a:pt x="1250" y="335"/>
                </a:lnTo>
                <a:lnTo>
                  <a:pt x="1401" y="182"/>
                </a:lnTo>
                <a:lnTo>
                  <a:pt x="1583" y="74"/>
                </a:lnTo>
                <a:lnTo>
                  <a:pt x="1892" y="0"/>
                </a:lnTo>
                <a:lnTo>
                  <a:pt x="2064" y="91"/>
                </a:lnTo>
                <a:lnTo>
                  <a:pt x="2064" y="9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30880" y="2328840"/>
            <a:ext cx="3294000" cy="2067120"/>
          </a:xfrm>
          <a:custGeom>
            <a:avLst/>
            <a:gdLst/>
            <a:ahLst/>
            <a:rect l="l" t="t" r="r" b="b"/>
            <a:pathLst>
              <a:path w="2075" h="1302">
                <a:moveTo>
                  <a:pt x="1944" y="129"/>
                </a:moveTo>
                <a:lnTo>
                  <a:pt x="1944" y="129"/>
                </a:lnTo>
                <a:lnTo>
                  <a:pt x="1902" y="193"/>
                </a:lnTo>
                <a:lnTo>
                  <a:pt x="1902" y="289"/>
                </a:lnTo>
                <a:lnTo>
                  <a:pt x="2074" y="407"/>
                </a:lnTo>
                <a:lnTo>
                  <a:pt x="2074" y="588"/>
                </a:lnTo>
                <a:lnTo>
                  <a:pt x="1892" y="769"/>
                </a:lnTo>
                <a:lnTo>
                  <a:pt x="1870" y="1035"/>
                </a:lnTo>
                <a:lnTo>
                  <a:pt x="1913" y="1301"/>
                </a:lnTo>
                <a:lnTo>
                  <a:pt x="0" y="1300"/>
                </a:lnTo>
                <a:lnTo>
                  <a:pt x="494" y="0"/>
                </a:lnTo>
                <a:lnTo>
                  <a:pt x="1956" y="0"/>
                </a:lnTo>
                <a:lnTo>
                  <a:pt x="1944" y="129"/>
                </a:lnTo>
                <a:lnTo>
                  <a:pt x="1944" y="129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11360" y="2097000"/>
            <a:ext cx="3346200" cy="2293920"/>
          </a:xfrm>
          <a:custGeom>
            <a:avLst/>
            <a:gdLst/>
            <a:ahLst/>
            <a:rect l="l" t="t" r="r" b="b"/>
            <a:pathLst>
              <a:path w="2108" h="1444">
                <a:moveTo>
                  <a:pt x="2083" y="0"/>
                </a:moveTo>
                <a:lnTo>
                  <a:pt x="2083" y="0"/>
                </a:lnTo>
                <a:lnTo>
                  <a:pt x="2070" y="119"/>
                </a:lnTo>
                <a:lnTo>
                  <a:pt x="2068" y="149"/>
                </a:lnTo>
                <a:lnTo>
                  <a:pt x="2067" y="192"/>
                </a:lnTo>
                <a:lnTo>
                  <a:pt x="2066" y="245"/>
                </a:lnTo>
                <a:lnTo>
                  <a:pt x="2068" y="305"/>
                </a:lnTo>
                <a:lnTo>
                  <a:pt x="2069" y="371"/>
                </a:lnTo>
                <a:lnTo>
                  <a:pt x="2071" y="439"/>
                </a:lnTo>
                <a:lnTo>
                  <a:pt x="2073" y="507"/>
                </a:lnTo>
                <a:lnTo>
                  <a:pt x="2078" y="569"/>
                </a:lnTo>
                <a:lnTo>
                  <a:pt x="2080" y="635"/>
                </a:lnTo>
                <a:lnTo>
                  <a:pt x="2080" y="704"/>
                </a:lnTo>
                <a:lnTo>
                  <a:pt x="2075" y="774"/>
                </a:lnTo>
                <a:lnTo>
                  <a:pt x="2070" y="841"/>
                </a:lnTo>
                <a:lnTo>
                  <a:pt x="2061" y="904"/>
                </a:lnTo>
                <a:lnTo>
                  <a:pt x="2052" y="960"/>
                </a:lnTo>
                <a:lnTo>
                  <a:pt x="2040" y="1006"/>
                </a:lnTo>
                <a:lnTo>
                  <a:pt x="2028" y="1037"/>
                </a:lnTo>
                <a:lnTo>
                  <a:pt x="2015" y="1065"/>
                </a:lnTo>
                <a:lnTo>
                  <a:pt x="2004" y="1099"/>
                </a:lnTo>
                <a:lnTo>
                  <a:pt x="1994" y="1136"/>
                </a:lnTo>
                <a:lnTo>
                  <a:pt x="1987" y="1173"/>
                </a:lnTo>
                <a:lnTo>
                  <a:pt x="1981" y="1211"/>
                </a:lnTo>
                <a:lnTo>
                  <a:pt x="1979" y="1248"/>
                </a:lnTo>
                <a:lnTo>
                  <a:pt x="1978" y="1282"/>
                </a:lnTo>
                <a:lnTo>
                  <a:pt x="1983" y="1308"/>
                </a:lnTo>
                <a:lnTo>
                  <a:pt x="1964" y="1333"/>
                </a:lnTo>
                <a:lnTo>
                  <a:pt x="1905" y="1358"/>
                </a:lnTo>
                <a:lnTo>
                  <a:pt x="1808" y="1382"/>
                </a:lnTo>
                <a:lnTo>
                  <a:pt x="1683" y="1401"/>
                </a:lnTo>
                <a:lnTo>
                  <a:pt x="1532" y="1418"/>
                </a:lnTo>
                <a:lnTo>
                  <a:pt x="1364" y="1432"/>
                </a:lnTo>
                <a:lnTo>
                  <a:pt x="1183" y="1440"/>
                </a:lnTo>
                <a:lnTo>
                  <a:pt x="995" y="1443"/>
                </a:lnTo>
                <a:lnTo>
                  <a:pt x="807" y="1439"/>
                </a:lnTo>
                <a:lnTo>
                  <a:pt x="626" y="1428"/>
                </a:lnTo>
                <a:lnTo>
                  <a:pt x="462" y="1434"/>
                </a:lnTo>
                <a:lnTo>
                  <a:pt x="313" y="1418"/>
                </a:lnTo>
                <a:lnTo>
                  <a:pt x="0" y="1434"/>
                </a:lnTo>
                <a:lnTo>
                  <a:pt x="41" y="1262"/>
                </a:lnTo>
                <a:lnTo>
                  <a:pt x="38" y="1303"/>
                </a:lnTo>
                <a:lnTo>
                  <a:pt x="25" y="1270"/>
                </a:lnTo>
                <a:lnTo>
                  <a:pt x="43" y="1197"/>
                </a:lnTo>
                <a:lnTo>
                  <a:pt x="67" y="1113"/>
                </a:lnTo>
                <a:lnTo>
                  <a:pt x="88" y="1035"/>
                </a:lnTo>
                <a:lnTo>
                  <a:pt x="108" y="975"/>
                </a:lnTo>
                <a:lnTo>
                  <a:pt x="133" y="916"/>
                </a:lnTo>
                <a:lnTo>
                  <a:pt x="173" y="837"/>
                </a:lnTo>
                <a:lnTo>
                  <a:pt x="221" y="755"/>
                </a:lnTo>
                <a:lnTo>
                  <a:pt x="268" y="680"/>
                </a:lnTo>
                <a:lnTo>
                  <a:pt x="328" y="606"/>
                </a:lnTo>
                <a:lnTo>
                  <a:pt x="410" y="522"/>
                </a:lnTo>
                <a:lnTo>
                  <a:pt x="500" y="442"/>
                </a:lnTo>
                <a:lnTo>
                  <a:pt x="583" y="380"/>
                </a:lnTo>
                <a:lnTo>
                  <a:pt x="687" y="326"/>
                </a:lnTo>
                <a:lnTo>
                  <a:pt x="840" y="265"/>
                </a:lnTo>
                <a:lnTo>
                  <a:pt x="1010" y="208"/>
                </a:lnTo>
                <a:lnTo>
                  <a:pt x="1173" y="164"/>
                </a:lnTo>
                <a:lnTo>
                  <a:pt x="1252" y="146"/>
                </a:lnTo>
                <a:lnTo>
                  <a:pt x="1341" y="128"/>
                </a:lnTo>
                <a:lnTo>
                  <a:pt x="1434" y="109"/>
                </a:lnTo>
                <a:lnTo>
                  <a:pt x="1530" y="90"/>
                </a:lnTo>
                <a:lnTo>
                  <a:pt x="1620" y="74"/>
                </a:lnTo>
                <a:lnTo>
                  <a:pt x="1705" y="58"/>
                </a:lnTo>
                <a:lnTo>
                  <a:pt x="1778" y="47"/>
                </a:lnTo>
                <a:lnTo>
                  <a:pt x="2107" y="0"/>
                </a:lnTo>
                <a:lnTo>
                  <a:pt x="2083" y="0"/>
                </a:lnTo>
                <a:lnTo>
                  <a:pt x="2083" y="0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79320" y="1563480"/>
            <a:ext cx="1800" cy="28256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4360" y="2112840"/>
            <a:ext cx="3371760" cy="2289240"/>
          </a:xfrm>
          <a:custGeom>
            <a:avLst/>
            <a:gdLst/>
            <a:ahLst/>
            <a:rect l="l" t="t" r="r" b="b"/>
            <a:pathLst>
              <a:path w="2124" h="1443">
                <a:moveTo>
                  <a:pt x="0" y="1442"/>
                </a:moveTo>
                <a:lnTo>
                  <a:pt x="6" y="1414"/>
                </a:lnTo>
                <a:lnTo>
                  <a:pt x="12" y="1390"/>
                </a:lnTo>
                <a:lnTo>
                  <a:pt x="16" y="1371"/>
                </a:lnTo>
                <a:lnTo>
                  <a:pt x="21" y="1356"/>
                </a:lnTo>
                <a:lnTo>
                  <a:pt x="23" y="1344"/>
                </a:lnTo>
                <a:lnTo>
                  <a:pt x="25" y="1336"/>
                </a:lnTo>
                <a:lnTo>
                  <a:pt x="26" y="1330"/>
                </a:lnTo>
                <a:lnTo>
                  <a:pt x="28" y="1324"/>
                </a:lnTo>
                <a:lnTo>
                  <a:pt x="28" y="1322"/>
                </a:lnTo>
                <a:lnTo>
                  <a:pt x="29" y="1318"/>
                </a:lnTo>
                <a:lnTo>
                  <a:pt x="30" y="1314"/>
                </a:lnTo>
                <a:lnTo>
                  <a:pt x="32" y="1310"/>
                </a:lnTo>
                <a:lnTo>
                  <a:pt x="33" y="1304"/>
                </a:lnTo>
                <a:lnTo>
                  <a:pt x="35" y="1296"/>
                </a:lnTo>
                <a:lnTo>
                  <a:pt x="37" y="1285"/>
                </a:lnTo>
                <a:lnTo>
                  <a:pt x="42" y="1270"/>
                </a:lnTo>
                <a:lnTo>
                  <a:pt x="45" y="1254"/>
                </a:lnTo>
                <a:lnTo>
                  <a:pt x="50" y="1236"/>
                </a:lnTo>
                <a:lnTo>
                  <a:pt x="54" y="1218"/>
                </a:lnTo>
                <a:lnTo>
                  <a:pt x="60" y="1197"/>
                </a:lnTo>
                <a:lnTo>
                  <a:pt x="65" y="1177"/>
                </a:lnTo>
                <a:lnTo>
                  <a:pt x="71" y="1156"/>
                </a:lnTo>
                <a:lnTo>
                  <a:pt x="76" y="1136"/>
                </a:lnTo>
                <a:lnTo>
                  <a:pt x="82" y="1114"/>
                </a:lnTo>
                <a:lnTo>
                  <a:pt x="87" y="1095"/>
                </a:lnTo>
                <a:lnTo>
                  <a:pt x="93" y="1074"/>
                </a:lnTo>
                <a:lnTo>
                  <a:pt x="99" y="1056"/>
                </a:lnTo>
                <a:lnTo>
                  <a:pt x="104" y="1036"/>
                </a:lnTo>
                <a:lnTo>
                  <a:pt x="109" y="1019"/>
                </a:lnTo>
                <a:lnTo>
                  <a:pt x="114" y="1003"/>
                </a:lnTo>
                <a:lnTo>
                  <a:pt x="119" y="989"/>
                </a:lnTo>
                <a:lnTo>
                  <a:pt x="124" y="975"/>
                </a:lnTo>
                <a:lnTo>
                  <a:pt x="128" y="963"/>
                </a:lnTo>
                <a:lnTo>
                  <a:pt x="134" y="949"/>
                </a:lnTo>
                <a:lnTo>
                  <a:pt x="141" y="933"/>
                </a:lnTo>
                <a:lnTo>
                  <a:pt x="149" y="916"/>
                </a:lnTo>
                <a:lnTo>
                  <a:pt x="158" y="898"/>
                </a:lnTo>
                <a:lnTo>
                  <a:pt x="167" y="878"/>
                </a:lnTo>
                <a:lnTo>
                  <a:pt x="178" y="858"/>
                </a:lnTo>
                <a:lnTo>
                  <a:pt x="189" y="838"/>
                </a:lnTo>
                <a:lnTo>
                  <a:pt x="200" y="817"/>
                </a:lnTo>
                <a:lnTo>
                  <a:pt x="212" y="796"/>
                </a:lnTo>
                <a:lnTo>
                  <a:pt x="223" y="776"/>
                </a:lnTo>
                <a:lnTo>
                  <a:pt x="237" y="755"/>
                </a:lnTo>
                <a:lnTo>
                  <a:pt x="248" y="736"/>
                </a:lnTo>
                <a:lnTo>
                  <a:pt x="261" y="716"/>
                </a:lnTo>
                <a:lnTo>
                  <a:pt x="273" y="698"/>
                </a:lnTo>
                <a:lnTo>
                  <a:pt x="285" y="680"/>
                </a:lnTo>
                <a:lnTo>
                  <a:pt x="297" y="664"/>
                </a:lnTo>
                <a:lnTo>
                  <a:pt x="311" y="646"/>
                </a:lnTo>
                <a:lnTo>
                  <a:pt x="327" y="627"/>
                </a:lnTo>
                <a:lnTo>
                  <a:pt x="345" y="607"/>
                </a:lnTo>
                <a:lnTo>
                  <a:pt x="364" y="586"/>
                </a:lnTo>
                <a:lnTo>
                  <a:pt x="384" y="566"/>
                </a:lnTo>
                <a:lnTo>
                  <a:pt x="405" y="545"/>
                </a:lnTo>
                <a:lnTo>
                  <a:pt x="427" y="522"/>
                </a:lnTo>
                <a:lnTo>
                  <a:pt x="449" y="502"/>
                </a:lnTo>
                <a:lnTo>
                  <a:pt x="472" y="482"/>
                </a:lnTo>
                <a:lnTo>
                  <a:pt x="494" y="463"/>
                </a:lnTo>
                <a:lnTo>
                  <a:pt x="517" y="443"/>
                </a:lnTo>
                <a:lnTo>
                  <a:pt x="538" y="426"/>
                </a:lnTo>
                <a:lnTo>
                  <a:pt x="560" y="409"/>
                </a:lnTo>
                <a:lnTo>
                  <a:pt x="579" y="395"/>
                </a:lnTo>
                <a:lnTo>
                  <a:pt x="599" y="381"/>
                </a:lnTo>
                <a:lnTo>
                  <a:pt x="619" y="369"/>
                </a:lnTo>
                <a:lnTo>
                  <a:pt x="643" y="356"/>
                </a:lnTo>
                <a:lnTo>
                  <a:pt x="671" y="342"/>
                </a:lnTo>
                <a:lnTo>
                  <a:pt x="703" y="327"/>
                </a:lnTo>
                <a:lnTo>
                  <a:pt x="737" y="312"/>
                </a:lnTo>
                <a:lnTo>
                  <a:pt x="775" y="297"/>
                </a:lnTo>
                <a:lnTo>
                  <a:pt x="814" y="282"/>
                </a:lnTo>
                <a:lnTo>
                  <a:pt x="855" y="266"/>
                </a:lnTo>
                <a:lnTo>
                  <a:pt x="897" y="251"/>
                </a:lnTo>
                <a:lnTo>
                  <a:pt x="940" y="236"/>
                </a:lnTo>
                <a:lnTo>
                  <a:pt x="983" y="222"/>
                </a:lnTo>
                <a:lnTo>
                  <a:pt x="1027" y="208"/>
                </a:lnTo>
                <a:lnTo>
                  <a:pt x="1068" y="196"/>
                </a:lnTo>
                <a:lnTo>
                  <a:pt x="1110" y="184"/>
                </a:lnTo>
                <a:lnTo>
                  <a:pt x="1150" y="174"/>
                </a:lnTo>
                <a:lnTo>
                  <a:pt x="1189" y="164"/>
                </a:lnTo>
                <a:lnTo>
                  <a:pt x="1227" y="156"/>
                </a:lnTo>
                <a:lnTo>
                  <a:pt x="1269" y="147"/>
                </a:lnTo>
                <a:lnTo>
                  <a:pt x="1312" y="138"/>
                </a:lnTo>
                <a:lnTo>
                  <a:pt x="1358" y="128"/>
                </a:lnTo>
                <a:lnTo>
                  <a:pt x="1404" y="119"/>
                </a:lnTo>
                <a:lnTo>
                  <a:pt x="1451" y="110"/>
                </a:lnTo>
                <a:lnTo>
                  <a:pt x="1497" y="100"/>
                </a:lnTo>
                <a:lnTo>
                  <a:pt x="1546" y="91"/>
                </a:lnTo>
                <a:lnTo>
                  <a:pt x="1591" y="83"/>
                </a:lnTo>
                <a:lnTo>
                  <a:pt x="1637" y="74"/>
                </a:lnTo>
                <a:lnTo>
                  <a:pt x="1679" y="67"/>
                </a:lnTo>
                <a:lnTo>
                  <a:pt x="1721" y="59"/>
                </a:lnTo>
                <a:lnTo>
                  <a:pt x="1760" y="53"/>
                </a:lnTo>
                <a:lnTo>
                  <a:pt x="1795" y="46"/>
                </a:lnTo>
                <a:lnTo>
                  <a:pt x="1827" y="42"/>
                </a:lnTo>
                <a:lnTo>
                  <a:pt x="1855" y="37"/>
                </a:lnTo>
                <a:lnTo>
                  <a:pt x="1876" y="35"/>
                </a:lnTo>
                <a:lnTo>
                  <a:pt x="1893" y="33"/>
                </a:lnTo>
                <a:lnTo>
                  <a:pt x="1905" y="32"/>
                </a:lnTo>
                <a:lnTo>
                  <a:pt x="1915" y="30"/>
                </a:lnTo>
                <a:lnTo>
                  <a:pt x="1921" y="30"/>
                </a:lnTo>
                <a:lnTo>
                  <a:pt x="1926" y="28"/>
                </a:lnTo>
                <a:lnTo>
                  <a:pt x="1932" y="28"/>
                </a:lnTo>
                <a:lnTo>
                  <a:pt x="1938" y="26"/>
                </a:lnTo>
                <a:lnTo>
                  <a:pt x="1944" y="26"/>
                </a:lnTo>
                <a:lnTo>
                  <a:pt x="1954" y="25"/>
                </a:lnTo>
                <a:lnTo>
                  <a:pt x="1967" y="23"/>
                </a:lnTo>
                <a:lnTo>
                  <a:pt x="1986" y="20"/>
                </a:lnTo>
                <a:lnTo>
                  <a:pt x="2009" y="16"/>
                </a:lnTo>
                <a:lnTo>
                  <a:pt x="2040" y="12"/>
                </a:lnTo>
                <a:lnTo>
                  <a:pt x="2077" y="7"/>
                </a:lnTo>
                <a:lnTo>
                  <a:pt x="212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4360" y="2124000"/>
            <a:ext cx="3371760" cy="2290680"/>
          </a:xfrm>
          <a:custGeom>
            <a:avLst/>
            <a:gdLst/>
            <a:ahLst/>
            <a:rect l="l" t="t" r="r" b="b"/>
            <a:pathLst>
              <a:path w="2124" h="1443">
                <a:moveTo>
                  <a:pt x="0" y="1442"/>
                </a:moveTo>
                <a:lnTo>
                  <a:pt x="6" y="1413"/>
                </a:lnTo>
                <a:lnTo>
                  <a:pt x="12" y="1390"/>
                </a:lnTo>
                <a:lnTo>
                  <a:pt x="16" y="1371"/>
                </a:lnTo>
                <a:lnTo>
                  <a:pt x="21" y="1355"/>
                </a:lnTo>
                <a:lnTo>
                  <a:pt x="23" y="1344"/>
                </a:lnTo>
                <a:lnTo>
                  <a:pt x="25" y="1336"/>
                </a:lnTo>
                <a:lnTo>
                  <a:pt x="26" y="1330"/>
                </a:lnTo>
                <a:lnTo>
                  <a:pt x="28" y="1324"/>
                </a:lnTo>
                <a:lnTo>
                  <a:pt x="28" y="1321"/>
                </a:lnTo>
                <a:lnTo>
                  <a:pt x="29" y="1318"/>
                </a:lnTo>
                <a:lnTo>
                  <a:pt x="30" y="1314"/>
                </a:lnTo>
                <a:lnTo>
                  <a:pt x="32" y="1309"/>
                </a:lnTo>
                <a:lnTo>
                  <a:pt x="33" y="1304"/>
                </a:lnTo>
                <a:lnTo>
                  <a:pt x="35" y="1295"/>
                </a:lnTo>
                <a:lnTo>
                  <a:pt x="37" y="1284"/>
                </a:lnTo>
                <a:lnTo>
                  <a:pt x="42" y="1270"/>
                </a:lnTo>
                <a:lnTo>
                  <a:pt x="45" y="1253"/>
                </a:lnTo>
                <a:lnTo>
                  <a:pt x="50" y="1236"/>
                </a:lnTo>
                <a:lnTo>
                  <a:pt x="54" y="1217"/>
                </a:lnTo>
                <a:lnTo>
                  <a:pt x="60" y="1196"/>
                </a:lnTo>
                <a:lnTo>
                  <a:pt x="65" y="1177"/>
                </a:lnTo>
                <a:lnTo>
                  <a:pt x="71" y="1156"/>
                </a:lnTo>
                <a:lnTo>
                  <a:pt x="76" y="1136"/>
                </a:lnTo>
                <a:lnTo>
                  <a:pt x="82" y="1114"/>
                </a:lnTo>
                <a:lnTo>
                  <a:pt x="87" y="1094"/>
                </a:lnTo>
                <a:lnTo>
                  <a:pt x="93" y="1074"/>
                </a:lnTo>
                <a:lnTo>
                  <a:pt x="99" y="1055"/>
                </a:lnTo>
                <a:lnTo>
                  <a:pt x="104" y="1036"/>
                </a:lnTo>
                <a:lnTo>
                  <a:pt x="109" y="1019"/>
                </a:lnTo>
                <a:lnTo>
                  <a:pt x="114" y="1002"/>
                </a:lnTo>
                <a:lnTo>
                  <a:pt x="119" y="989"/>
                </a:lnTo>
                <a:lnTo>
                  <a:pt x="124" y="975"/>
                </a:lnTo>
                <a:lnTo>
                  <a:pt x="128" y="963"/>
                </a:lnTo>
                <a:lnTo>
                  <a:pt x="134" y="949"/>
                </a:lnTo>
                <a:lnTo>
                  <a:pt x="141" y="933"/>
                </a:lnTo>
                <a:lnTo>
                  <a:pt x="149" y="916"/>
                </a:lnTo>
                <a:lnTo>
                  <a:pt x="158" y="898"/>
                </a:lnTo>
                <a:lnTo>
                  <a:pt x="167" y="878"/>
                </a:lnTo>
                <a:lnTo>
                  <a:pt x="178" y="858"/>
                </a:lnTo>
                <a:lnTo>
                  <a:pt x="189" y="837"/>
                </a:lnTo>
                <a:lnTo>
                  <a:pt x="200" y="816"/>
                </a:lnTo>
                <a:lnTo>
                  <a:pt x="212" y="796"/>
                </a:lnTo>
                <a:lnTo>
                  <a:pt x="223" y="775"/>
                </a:lnTo>
                <a:lnTo>
                  <a:pt x="237" y="754"/>
                </a:lnTo>
                <a:lnTo>
                  <a:pt x="248" y="736"/>
                </a:lnTo>
                <a:lnTo>
                  <a:pt x="261" y="716"/>
                </a:lnTo>
                <a:lnTo>
                  <a:pt x="273" y="698"/>
                </a:lnTo>
                <a:lnTo>
                  <a:pt x="285" y="680"/>
                </a:lnTo>
                <a:lnTo>
                  <a:pt x="297" y="664"/>
                </a:lnTo>
                <a:lnTo>
                  <a:pt x="311" y="646"/>
                </a:lnTo>
                <a:lnTo>
                  <a:pt x="327" y="627"/>
                </a:lnTo>
                <a:lnTo>
                  <a:pt x="345" y="606"/>
                </a:lnTo>
                <a:lnTo>
                  <a:pt x="364" y="586"/>
                </a:lnTo>
                <a:lnTo>
                  <a:pt x="384" y="565"/>
                </a:lnTo>
                <a:lnTo>
                  <a:pt x="405" y="544"/>
                </a:lnTo>
                <a:lnTo>
                  <a:pt x="427" y="522"/>
                </a:lnTo>
                <a:lnTo>
                  <a:pt x="449" y="502"/>
                </a:lnTo>
                <a:lnTo>
                  <a:pt x="472" y="482"/>
                </a:lnTo>
                <a:lnTo>
                  <a:pt x="494" y="462"/>
                </a:lnTo>
                <a:lnTo>
                  <a:pt x="517" y="442"/>
                </a:lnTo>
                <a:lnTo>
                  <a:pt x="538" y="425"/>
                </a:lnTo>
                <a:lnTo>
                  <a:pt x="560" y="408"/>
                </a:lnTo>
                <a:lnTo>
                  <a:pt x="579" y="394"/>
                </a:lnTo>
                <a:lnTo>
                  <a:pt x="599" y="380"/>
                </a:lnTo>
                <a:lnTo>
                  <a:pt x="619" y="369"/>
                </a:lnTo>
                <a:lnTo>
                  <a:pt x="643" y="356"/>
                </a:lnTo>
                <a:lnTo>
                  <a:pt x="671" y="342"/>
                </a:lnTo>
                <a:lnTo>
                  <a:pt x="703" y="327"/>
                </a:lnTo>
                <a:lnTo>
                  <a:pt x="737" y="312"/>
                </a:lnTo>
                <a:lnTo>
                  <a:pt x="775" y="298"/>
                </a:lnTo>
                <a:lnTo>
                  <a:pt x="814" y="282"/>
                </a:lnTo>
                <a:lnTo>
                  <a:pt x="855" y="266"/>
                </a:lnTo>
                <a:lnTo>
                  <a:pt x="897" y="251"/>
                </a:lnTo>
                <a:lnTo>
                  <a:pt x="940" y="236"/>
                </a:lnTo>
                <a:lnTo>
                  <a:pt x="983" y="222"/>
                </a:lnTo>
                <a:lnTo>
                  <a:pt x="1027" y="208"/>
                </a:lnTo>
                <a:lnTo>
                  <a:pt x="1068" y="196"/>
                </a:lnTo>
                <a:lnTo>
                  <a:pt x="1110" y="184"/>
                </a:lnTo>
                <a:lnTo>
                  <a:pt x="1150" y="174"/>
                </a:lnTo>
                <a:lnTo>
                  <a:pt x="1189" y="164"/>
                </a:lnTo>
                <a:lnTo>
                  <a:pt x="1227" y="156"/>
                </a:lnTo>
                <a:lnTo>
                  <a:pt x="1269" y="147"/>
                </a:lnTo>
                <a:lnTo>
                  <a:pt x="1312" y="138"/>
                </a:lnTo>
                <a:lnTo>
                  <a:pt x="1358" y="128"/>
                </a:lnTo>
                <a:lnTo>
                  <a:pt x="1404" y="119"/>
                </a:lnTo>
                <a:lnTo>
                  <a:pt x="1451" y="110"/>
                </a:lnTo>
                <a:lnTo>
                  <a:pt x="1497" y="100"/>
                </a:lnTo>
                <a:lnTo>
                  <a:pt x="1546" y="91"/>
                </a:lnTo>
                <a:lnTo>
                  <a:pt x="1591" y="83"/>
                </a:lnTo>
                <a:lnTo>
                  <a:pt x="1637" y="74"/>
                </a:lnTo>
                <a:lnTo>
                  <a:pt x="1679" y="66"/>
                </a:lnTo>
                <a:lnTo>
                  <a:pt x="1721" y="58"/>
                </a:lnTo>
                <a:lnTo>
                  <a:pt x="1760" y="53"/>
                </a:lnTo>
                <a:lnTo>
                  <a:pt x="1795" y="46"/>
                </a:lnTo>
                <a:lnTo>
                  <a:pt x="1827" y="42"/>
                </a:lnTo>
                <a:lnTo>
                  <a:pt x="1855" y="36"/>
                </a:lnTo>
                <a:lnTo>
                  <a:pt x="1876" y="35"/>
                </a:lnTo>
                <a:lnTo>
                  <a:pt x="1893" y="32"/>
                </a:lnTo>
                <a:lnTo>
                  <a:pt x="1905" y="31"/>
                </a:lnTo>
                <a:lnTo>
                  <a:pt x="1915" y="29"/>
                </a:lnTo>
                <a:lnTo>
                  <a:pt x="1921" y="29"/>
                </a:lnTo>
                <a:lnTo>
                  <a:pt x="1926" y="28"/>
                </a:lnTo>
                <a:lnTo>
                  <a:pt x="1932" y="28"/>
                </a:lnTo>
                <a:lnTo>
                  <a:pt x="1938" y="26"/>
                </a:lnTo>
                <a:lnTo>
                  <a:pt x="1944" y="26"/>
                </a:lnTo>
                <a:lnTo>
                  <a:pt x="1954" y="24"/>
                </a:lnTo>
                <a:lnTo>
                  <a:pt x="1967" y="22"/>
                </a:lnTo>
                <a:lnTo>
                  <a:pt x="1986" y="19"/>
                </a:lnTo>
                <a:lnTo>
                  <a:pt x="2009" y="16"/>
                </a:lnTo>
                <a:lnTo>
                  <a:pt x="2040" y="12"/>
                </a:lnTo>
                <a:lnTo>
                  <a:pt x="2077" y="7"/>
                </a:lnTo>
                <a:lnTo>
                  <a:pt x="212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1040" y="0"/>
            <a:ext cx="9453600" cy="14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mos un caso convencional…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4360" y="2097000"/>
            <a:ext cx="3371760" cy="2292480"/>
          </a:xfrm>
          <a:custGeom>
            <a:avLst/>
            <a:gdLst/>
            <a:ahLst/>
            <a:rect l="l" t="t" r="r" b="b"/>
            <a:pathLst>
              <a:path w="2124" h="1444">
                <a:moveTo>
                  <a:pt x="0" y="1443"/>
                </a:moveTo>
                <a:lnTo>
                  <a:pt x="6" y="1414"/>
                </a:lnTo>
                <a:lnTo>
                  <a:pt x="12" y="1390"/>
                </a:lnTo>
                <a:lnTo>
                  <a:pt x="16" y="1371"/>
                </a:lnTo>
                <a:lnTo>
                  <a:pt x="21" y="1356"/>
                </a:lnTo>
                <a:lnTo>
                  <a:pt x="23" y="1345"/>
                </a:lnTo>
                <a:lnTo>
                  <a:pt x="25" y="1337"/>
                </a:lnTo>
                <a:lnTo>
                  <a:pt x="26" y="1330"/>
                </a:lnTo>
                <a:lnTo>
                  <a:pt x="28" y="1325"/>
                </a:lnTo>
                <a:lnTo>
                  <a:pt x="28" y="1322"/>
                </a:lnTo>
                <a:lnTo>
                  <a:pt x="29" y="1319"/>
                </a:lnTo>
                <a:lnTo>
                  <a:pt x="30" y="1315"/>
                </a:lnTo>
                <a:lnTo>
                  <a:pt x="32" y="1310"/>
                </a:lnTo>
                <a:lnTo>
                  <a:pt x="33" y="1305"/>
                </a:lnTo>
                <a:lnTo>
                  <a:pt x="35" y="1296"/>
                </a:lnTo>
                <a:lnTo>
                  <a:pt x="37" y="1285"/>
                </a:lnTo>
                <a:lnTo>
                  <a:pt x="42" y="1270"/>
                </a:lnTo>
                <a:lnTo>
                  <a:pt x="45" y="1254"/>
                </a:lnTo>
                <a:lnTo>
                  <a:pt x="50" y="1237"/>
                </a:lnTo>
                <a:lnTo>
                  <a:pt x="54" y="1218"/>
                </a:lnTo>
                <a:lnTo>
                  <a:pt x="60" y="1197"/>
                </a:lnTo>
                <a:lnTo>
                  <a:pt x="65" y="1177"/>
                </a:lnTo>
                <a:lnTo>
                  <a:pt x="71" y="1157"/>
                </a:lnTo>
                <a:lnTo>
                  <a:pt x="76" y="1136"/>
                </a:lnTo>
                <a:lnTo>
                  <a:pt x="82" y="1114"/>
                </a:lnTo>
                <a:lnTo>
                  <a:pt x="87" y="1095"/>
                </a:lnTo>
                <a:lnTo>
                  <a:pt x="93" y="1075"/>
                </a:lnTo>
                <a:lnTo>
                  <a:pt x="99" y="1056"/>
                </a:lnTo>
                <a:lnTo>
                  <a:pt x="104" y="1036"/>
                </a:lnTo>
                <a:lnTo>
                  <a:pt x="109" y="1019"/>
                </a:lnTo>
                <a:lnTo>
                  <a:pt x="114" y="1003"/>
                </a:lnTo>
                <a:lnTo>
                  <a:pt x="119" y="989"/>
                </a:lnTo>
                <a:lnTo>
                  <a:pt x="124" y="975"/>
                </a:lnTo>
                <a:lnTo>
                  <a:pt x="128" y="963"/>
                </a:lnTo>
                <a:lnTo>
                  <a:pt x="134" y="949"/>
                </a:lnTo>
                <a:lnTo>
                  <a:pt x="141" y="933"/>
                </a:lnTo>
                <a:lnTo>
                  <a:pt x="149" y="916"/>
                </a:lnTo>
                <a:lnTo>
                  <a:pt x="158" y="898"/>
                </a:lnTo>
                <a:lnTo>
                  <a:pt x="167" y="879"/>
                </a:lnTo>
                <a:lnTo>
                  <a:pt x="178" y="859"/>
                </a:lnTo>
                <a:lnTo>
                  <a:pt x="189" y="838"/>
                </a:lnTo>
                <a:lnTo>
                  <a:pt x="200" y="817"/>
                </a:lnTo>
                <a:lnTo>
                  <a:pt x="212" y="797"/>
                </a:lnTo>
                <a:lnTo>
                  <a:pt x="223" y="776"/>
                </a:lnTo>
                <a:lnTo>
                  <a:pt x="237" y="755"/>
                </a:lnTo>
                <a:lnTo>
                  <a:pt x="248" y="736"/>
                </a:lnTo>
                <a:lnTo>
                  <a:pt x="261" y="716"/>
                </a:lnTo>
                <a:lnTo>
                  <a:pt x="273" y="699"/>
                </a:lnTo>
                <a:lnTo>
                  <a:pt x="285" y="681"/>
                </a:lnTo>
                <a:lnTo>
                  <a:pt x="297" y="665"/>
                </a:lnTo>
                <a:lnTo>
                  <a:pt x="311" y="646"/>
                </a:lnTo>
                <a:lnTo>
                  <a:pt x="327" y="628"/>
                </a:lnTo>
                <a:lnTo>
                  <a:pt x="345" y="607"/>
                </a:lnTo>
                <a:lnTo>
                  <a:pt x="364" y="587"/>
                </a:lnTo>
                <a:lnTo>
                  <a:pt x="384" y="566"/>
                </a:lnTo>
                <a:lnTo>
                  <a:pt x="405" y="545"/>
                </a:lnTo>
                <a:lnTo>
                  <a:pt x="427" y="523"/>
                </a:lnTo>
                <a:lnTo>
                  <a:pt x="449" y="503"/>
                </a:lnTo>
                <a:lnTo>
                  <a:pt x="472" y="482"/>
                </a:lnTo>
                <a:lnTo>
                  <a:pt x="494" y="463"/>
                </a:lnTo>
                <a:lnTo>
                  <a:pt x="517" y="443"/>
                </a:lnTo>
                <a:lnTo>
                  <a:pt x="538" y="426"/>
                </a:lnTo>
                <a:lnTo>
                  <a:pt x="560" y="409"/>
                </a:lnTo>
                <a:lnTo>
                  <a:pt x="579" y="395"/>
                </a:lnTo>
                <a:lnTo>
                  <a:pt x="599" y="381"/>
                </a:lnTo>
                <a:lnTo>
                  <a:pt x="619" y="369"/>
                </a:lnTo>
                <a:lnTo>
                  <a:pt x="643" y="356"/>
                </a:lnTo>
                <a:lnTo>
                  <a:pt x="671" y="343"/>
                </a:lnTo>
                <a:lnTo>
                  <a:pt x="703" y="327"/>
                </a:lnTo>
                <a:lnTo>
                  <a:pt x="737" y="313"/>
                </a:lnTo>
                <a:lnTo>
                  <a:pt x="775" y="297"/>
                </a:lnTo>
                <a:lnTo>
                  <a:pt x="814" y="283"/>
                </a:lnTo>
                <a:lnTo>
                  <a:pt x="855" y="266"/>
                </a:lnTo>
                <a:lnTo>
                  <a:pt x="897" y="251"/>
                </a:lnTo>
                <a:lnTo>
                  <a:pt x="940" y="237"/>
                </a:lnTo>
                <a:lnTo>
                  <a:pt x="983" y="223"/>
                </a:lnTo>
                <a:lnTo>
                  <a:pt x="1027" y="208"/>
                </a:lnTo>
                <a:lnTo>
                  <a:pt x="1068" y="197"/>
                </a:lnTo>
                <a:lnTo>
                  <a:pt x="1110" y="184"/>
                </a:lnTo>
                <a:lnTo>
                  <a:pt x="1150" y="174"/>
                </a:lnTo>
                <a:lnTo>
                  <a:pt x="1189" y="164"/>
                </a:lnTo>
                <a:lnTo>
                  <a:pt x="1227" y="157"/>
                </a:lnTo>
                <a:lnTo>
                  <a:pt x="1269" y="147"/>
                </a:lnTo>
                <a:lnTo>
                  <a:pt x="1312" y="138"/>
                </a:lnTo>
                <a:lnTo>
                  <a:pt x="1358" y="129"/>
                </a:lnTo>
                <a:lnTo>
                  <a:pt x="1404" y="119"/>
                </a:lnTo>
                <a:lnTo>
                  <a:pt x="1451" y="110"/>
                </a:lnTo>
                <a:lnTo>
                  <a:pt x="1497" y="100"/>
                </a:lnTo>
                <a:lnTo>
                  <a:pt x="1546" y="91"/>
                </a:lnTo>
                <a:lnTo>
                  <a:pt x="1591" y="83"/>
                </a:lnTo>
                <a:lnTo>
                  <a:pt x="1637" y="74"/>
                </a:lnTo>
                <a:lnTo>
                  <a:pt x="1679" y="67"/>
                </a:lnTo>
                <a:lnTo>
                  <a:pt x="1721" y="59"/>
                </a:lnTo>
                <a:lnTo>
                  <a:pt x="1760" y="53"/>
                </a:lnTo>
                <a:lnTo>
                  <a:pt x="1795" y="46"/>
                </a:lnTo>
                <a:lnTo>
                  <a:pt x="1827" y="42"/>
                </a:lnTo>
                <a:lnTo>
                  <a:pt x="1855" y="37"/>
                </a:lnTo>
                <a:lnTo>
                  <a:pt x="1876" y="35"/>
                </a:lnTo>
                <a:lnTo>
                  <a:pt x="1893" y="32"/>
                </a:lnTo>
                <a:lnTo>
                  <a:pt x="1905" y="31"/>
                </a:lnTo>
                <a:lnTo>
                  <a:pt x="1915" y="29"/>
                </a:lnTo>
                <a:lnTo>
                  <a:pt x="1921" y="29"/>
                </a:lnTo>
                <a:lnTo>
                  <a:pt x="1926" y="28"/>
                </a:lnTo>
                <a:lnTo>
                  <a:pt x="1932" y="28"/>
                </a:lnTo>
                <a:lnTo>
                  <a:pt x="1938" y="26"/>
                </a:lnTo>
                <a:lnTo>
                  <a:pt x="1944" y="26"/>
                </a:lnTo>
                <a:lnTo>
                  <a:pt x="1954" y="24"/>
                </a:lnTo>
                <a:lnTo>
                  <a:pt x="1967" y="22"/>
                </a:lnTo>
                <a:lnTo>
                  <a:pt x="1986" y="19"/>
                </a:lnTo>
                <a:lnTo>
                  <a:pt x="2009" y="16"/>
                </a:lnTo>
                <a:lnTo>
                  <a:pt x="2040" y="12"/>
                </a:lnTo>
                <a:lnTo>
                  <a:pt x="2077" y="7"/>
                </a:lnTo>
                <a:lnTo>
                  <a:pt x="2123" y="0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63400" y="1284120"/>
            <a:ext cx="4064040" cy="3173760"/>
            <a:chOff x="563400" y="1284120"/>
            <a:chExt cx="4064040" cy="3173760"/>
          </a:xfrm>
        </p:grpSpPr>
        <p:sp>
          <p:nvSpPr>
            <p:cNvPr id="853" name=""/>
            <p:cNvSpPr/>
            <p:nvPr/>
          </p:nvSpPr>
          <p:spPr>
            <a:xfrm>
              <a:off x="4356000" y="4240080"/>
              <a:ext cx="27144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3400" y="1284120"/>
              <a:ext cx="1573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87800" y="1776240"/>
              <a:ext cx="3556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 flipV="1">
            <a:off x="5335560" y="1563480"/>
            <a:ext cx="0" cy="282564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79320" y="4811760"/>
            <a:ext cx="1800" cy="282240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19680" y="5343480"/>
            <a:ext cx="3348000" cy="2292480"/>
          </a:xfrm>
          <a:custGeom>
            <a:avLst/>
            <a:gdLst/>
            <a:ahLst/>
            <a:rect l="l" t="t" r="r" b="b"/>
            <a:pathLst>
              <a:path w="2109" h="1444">
                <a:moveTo>
                  <a:pt x="2083" y="1"/>
                </a:moveTo>
                <a:lnTo>
                  <a:pt x="2083" y="1"/>
                </a:lnTo>
                <a:lnTo>
                  <a:pt x="2070" y="120"/>
                </a:lnTo>
                <a:lnTo>
                  <a:pt x="2068" y="150"/>
                </a:lnTo>
                <a:lnTo>
                  <a:pt x="2067" y="192"/>
                </a:lnTo>
                <a:lnTo>
                  <a:pt x="2066" y="246"/>
                </a:lnTo>
                <a:lnTo>
                  <a:pt x="2068" y="306"/>
                </a:lnTo>
                <a:lnTo>
                  <a:pt x="2069" y="371"/>
                </a:lnTo>
                <a:lnTo>
                  <a:pt x="2071" y="440"/>
                </a:lnTo>
                <a:lnTo>
                  <a:pt x="2074" y="507"/>
                </a:lnTo>
                <a:lnTo>
                  <a:pt x="2079" y="570"/>
                </a:lnTo>
                <a:lnTo>
                  <a:pt x="2080" y="636"/>
                </a:lnTo>
                <a:lnTo>
                  <a:pt x="2080" y="704"/>
                </a:lnTo>
                <a:lnTo>
                  <a:pt x="2075" y="775"/>
                </a:lnTo>
                <a:lnTo>
                  <a:pt x="2071" y="841"/>
                </a:lnTo>
                <a:lnTo>
                  <a:pt x="2061" y="904"/>
                </a:lnTo>
                <a:lnTo>
                  <a:pt x="2051" y="960"/>
                </a:lnTo>
                <a:lnTo>
                  <a:pt x="2041" y="1007"/>
                </a:lnTo>
                <a:lnTo>
                  <a:pt x="2029" y="1038"/>
                </a:lnTo>
                <a:lnTo>
                  <a:pt x="2016" y="1066"/>
                </a:lnTo>
                <a:lnTo>
                  <a:pt x="2004" y="1100"/>
                </a:lnTo>
                <a:lnTo>
                  <a:pt x="1995" y="1136"/>
                </a:lnTo>
                <a:lnTo>
                  <a:pt x="1988" y="1174"/>
                </a:lnTo>
                <a:lnTo>
                  <a:pt x="1982" y="1212"/>
                </a:lnTo>
                <a:lnTo>
                  <a:pt x="1980" y="1248"/>
                </a:lnTo>
                <a:lnTo>
                  <a:pt x="1979" y="1282"/>
                </a:lnTo>
                <a:lnTo>
                  <a:pt x="1983" y="1308"/>
                </a:lnTo>
                <a:lnTo>
                  <a:pt x="1965" y="1334"/>
                </a:lnTo>
                <a:lnTo>
                  <a:pt x="1905" y="1358"/>
                </a:lnTo>
                <a:lnTo>
                  <a:pt x="1808" y="1382"/>
                </a:lnTo>
                <a:lnTo>
                  <a:pt x="1683" y="1401"/>
                </a:lnTo>
                <a:lnTo>
                  <a:pt x="1532" y="1419"/>
                </a:lnTo>
                <a:lnTo>
                  <a:pt x="1365" y="1432"/>
                </a:lnTo>
                <a:lnTo>
                  <a:pt x="1182" y="1440"/>
                </a:lnTo>
                <a:lnTo>
                  <a:pt x="995" y="1443"/>
                </a:lnTo>
                <a:lnTo>
                  <a:pt x="807" y="1440"/>
                </a:lnTo>
                <a:lnTo>
                  <a:pt x="627" y="1429"/>
                </a:lnTo>
                <a:lnTo>
                  <a:pt x="462" y="1436"/>
                </a:lnTo>
                <a:lnTo>
                  <a:pt x="314" y="1419"/>
                </a:lnTo>
                <a:lnTo>
                  <a:pt x="0" y="1436"/>
                </a:lnTo>
                <a:lnTo>
                  <a:pt x="41" y="1263"/>
                </a:lnTo>
                <a:lnTo>
                  <a:pt x="39" y="1304"/>
                </a:lnTo>
                <a:lnTo>
                  <a:pt x="25" y="1270"/>
                </a:lnTo>
                <a:lnTo>
                  <a:pt x="43" y="1197"/>
                </a:lnTo>
                <a:lnTo>
                  <a:pt x="65" y="1114"/>
                </a:lnTo>
                <a:lnTo>
                  <a:pt x="88" y="1036"/>
                </a:lnTo>
                <a:lnTo>
                  <a:pt x="108" y="975"/>
                </a:lnTo>
                <a:lnTo>
                  <a:pt x="132" y="916"/>
                </a:lnTo>
                <a:lnTo>
                  <a:pt x="173" y="838"/>
                </a:lnTo>
                <a:lnTo>
                  <a:pt x="221" y="756"/>
                </a:lnTo>
                <a:lnTo>
                  <a:pt x="268" y="680"/>
                </a:lnTo>
                <a:lnTo>
                  <a:pt x="329" y="606"/>
                </a:lnTo>
                <a:lnTo>
                  <a:pt x="411" y="523"/>
                </a:lnTo>
                <a:lnTo>
                  <a:pt x="500" y="444"/>
                </a:lnTo>
                <a:lnTo>
                  <a:pt x="583" y="381"/>
                </a:lnTo>
                <a:lnTo>
                  <a:pt x="687" y="327"/>
                </a:lnTo>
                <a:lnTo>
                  <a:pt x="840" y="266"/>
                </a:lnTo>
                <a:lnTo>
                  <a:pt x="1010" y="209"/>
                </a:lnTo>
                <a:lnTo>
                  <a:pt x="1173" y="164"/>
                </a:lnTo>
                <a:lnTo>
                  <a:pt x="1253" y="147"/>
                </a:lnTo>
                <a:lnTo>
                  <a:pt x="1341" y="128"/>
                </a:lnTo>
                <a:lnTo>
                  <a:pt x="1434" y="110"/>
                </a:lnTo>
                <a:lnTo>
                  <a:pt x="1530" y="91"/>
                </a:lnTo>
                <a:lnTo>
                  <a:pt x="1620" y="75"/>
                </a:lnTo>
                <a:lnTo>
                  <a:pt x="1705" y="59"/>
                </a:lnTo>
                <a:lnTo>
                  <a:pt x="1777" y="47"/>
                </a:lnTo>
                <a:lnTo>
                  <a:pt x="2108" y="0"/>
                </a:lnTo>
                <a:lnTo>
                  <a:pt x="2083" y="1"/>
                </a:lnTo>
                <a:lnTo>
                  <a:pt x="2083" y="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7240" y="5127480"/>
            <a:ext cx="3278160" cy="2497320"/>
          </a:xfrm>
          <a:custGeom>
            <a:avLst/>
            <a:gdLst/>
            <a:ahLst/>
            <a:rect l="l" t="t" r="r" b="b"/>
            <a:pathLst>
              <a:path w="2065" h="1573">
                <a:moveTo>
                  <a:pt x="2064" y="91"/>
                </a:moveTo>
                <a:lnTo>
                  <a:pt x="2064" y="91"/>
                </a:lnTo>
                <a:lnTo>
                  <a:pt x="2064" y="134"/>
                </a:lnTo>
                <a:lnTo>
                  <a:pt x="2054" y="134"/>
                </a:lnTo>
                <a:lnTo>
                  <a:pt x="2043" y="230"/>
                </a:lnTo>
                <a:lnTo>
                  <a:pt x="2010" y="325"/>
                </a:lnTo>
                <a:lnTo>
                  <a:pt x="1968" y="368"/>
                </a:lnTo>
                <a:lnTo>
                  <a:pt x="1968" y="549"/>
                </a:lnTo>
                <a:lnTo>
                  <a:pt x="1957" y="645"/>
                </a:lnTo>
                <a:lnTo>
                  <a:pt x="1978" y="741"/>
                </a:lnTo>
                <a:lnTo>
                  <a:pt x="1978" y="922"/>
                </a:lnTo>
                <a:lnTo>
                  <a:pt x="1957" y="1018"/>
                </a:lnTo>
                <a:lnTo>
                  <a:pt x="1957" y="1114"/>
                </a:lnTo>
                <a:lnTo>
                  <a:pt x="1978" y="1294"/>
                </a:lnTo>
                <a:lnTo>
                  <a:pt x="1957" y="1476"/>
                </a:lnTo>
                <a:lnTo>
                  <a:pt x="1936" y="1572"/>
                </a:lnTo>
                <a:lnTo>
                  <a:pt x="0" y="1572"/>
                </a:lnTo>
                <a:lnTo>
                  <a:pt x="228" y="1543"/>
                </a:lnTo>
                <a:lnTo>
                  <a:pt x="383" y="1506"/>
                </a:lnTo>
                <a:lnTo>
                  <a:pt x="618" y="1400"/>
                </a:lnTo>
                <a:lnTo>
                  <a:pt x="842" y="1135"/>
                </a:lnTo>
                <a:lnTo>
                  <a:pt x="960" y="911"/>
                </a:lnTo>
                <a:lnTo>
                  <a:pt x="1039" y="721"/>
                </a:lnTo>
                <a:lnTo>
                  <a:pt x="1119" y="568"/>
                </a:lnTo>
                <a:lnTo>
                  <a:pt x="1250" y="335"/>
                </a:lnTo>
                <a:lnTo>
                  <a:pt x="1401" y="182"/>
                </a:lnTo>
                <a:lnTo>
                  <a:pt x="1583" y="74"/>
                </a:lnTo>
                <a:lnTo>
                  <a:pt x="1892" y="0"/>
                </a:lnTo>
                <a:lnTo>
                  <a:pt x="2064" y="91"/>
                </a:lnTo>
                <a:lnTo>
                  <a:pt x="2064" y="9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8800" y="2309760"/>
            <a:ext cx="3294000" cy="2067120"/>
          </a:xfrm>
          <a:custGeom>
            <a:avLst/>
            <a:gdLst/>
            <a:ahLst/>
            <a:rect l="l" t="t" r="r" b="b"/>
            <a:pathLst>
              <a:path w="2075" h="1302">
                <a:moveTo>
                  <a:pt x="1944" y="129"/>
                </a:moveTo>
                <a:lnTo>
                  <a:pt x="1944" y="129"/>
                </a:lnTo>
                <a:lnTo>
                  <a:pt x="1902" y="193"/>
                </a:lnTo>
                <a:lnTo>
                  <a:pt x="1902" y="289"/>
                </a:lnTo>
                <a:lnTo>
                  <a:pt x="2074" y="407"/>
                </a:lnTo>
                <a:lnTo>
                  <a:pt x="2074" y="588"/>
                </a:lnTo>
                <a:lnTo>
                  <a:pt x="1892" y="769"/>
                </a:lnTo>
                <a:lnTo>
                  <a:pt x="1870" y="1035"/>
                </a:lnTo>
                <a:lnTo>
                  <a:pt x="1913" y="1301"/>
                </a:lnTo>
                <a:lnTo>
                  <a:pt x="0" y="1300"/>
                </a:lnTo>
                <a:lnTo>
                  <a:pt x="494" y="0"/>
                </a:lnTo>
                <a:lnTo>
                  <a:pt x="1956" y="0"/>
                </a:lnTo>
                <a:lnTo>
                  <a:pt x="1944" y="129"/>
                </a:lnTo>
                <a:lnTo>
                  <a:pt x="1944" y="129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27600" y="5324400"/>
            <a:ext cx="3348000" cy="2293920"/>
          </a:xfrm>
          <a:custGeom>
            <a:avLst/>
            <a:gdLst/>
            <a:ahLst/>
            <a:rect l="l" t="t" r="r" b="b"/>
            <a:pathLst>
              <a:path w="2109" h="1444">
                <a:moveTo>
                  <a:pt x="2083" y="1"/>
                </a:moveTo>
                <a:lnTo>
                  <a:pt x="2083" y="1"/>
                </a:lnTo>
                <a:lnTo>
                  <a:pt x="2070" y="120"/>
                </a:lnTo>
                <a:lnTo>
                  <a:pt x="2068" y="150"/>
                </a:lnTo>
                <a:lnTo>
                  <a:pt x="2067" y="192"/>
                </a:lnTo>
                <a:lnTo>
                  <a:pt x="2066" y="246"/>
                </a:lnTo>
                <a:lnTo>
                  <a:pt x="2068" y="306"/>
                </a:lnTo>
                <a:lnTo>
                  <a:pt x="2069" y="371"/>
                </a:lnTo>
                <a:lnTo>
                  <a:pt x="2071" y="440"/>
                </a:lnTo>
                <a:lnTo>
                  <a:pt x="2074" y="507"/>
                </a:lnTo>
                <a:lnTo>
                  <a:pt x="2079" y="570"/>
                </a:lnTo>
                <a:lnTo>
                  <a:pt x="2080" y="636"/>
                </a:lnTo>
                <a:lnTo>
                  <a:pt x="2080" y="704"/>
                </a:lnTo>
                <a:lnTo>
                  <a:pt x="2075" y="775"/>
                </a:lnTo>
                <a:lnTo>
                  <a:pt x="2071" y="841"/>
                </a:lnTo>
                <a:lnTo>
                  <a:pt x="2061" y="904"/>
                </a:lnTo>
                <a:lnTo>
                  <a:pt x="2051" y="960"/>
                </a:lnTo>
                <a:lnTo>
                  <a:pt x="2041" y="1007"/>
                </a:lnTo>
                <a:lnTo>
                  <a:pt x="2029" y="1038"/>
                </a:lnTo>
                <a:lnTo>
                  <a:pt x="2016" y="1066"/>
                </a:lnTo>
                <a:lnTo>
                  <a:pt x="2004" y="1100"/>
                </a:lnTo>
                <a:lnTo>
                  <a:pt x="1995" y="1136"/>
                </a:lnTo>
                <a:lnTo>
                  <a:pt x="1988" y="1174"/>
                </a:lnTo>
                <a:lnTo>
                  <a:pt x="1982" y="1212"/>
                </a:lnTo>
                <a:lnTo>
                  <a:pt x="1980" y="1248"/>
                </a:lnTo>
                <a:lnTo>
                  <a:pt x="1979" y="1282"/>
                </a:lnTo>
                <a:lnTo>
                  <a:pt x="1983" y="1308"/>
                </a:lnTo>
                <a:lnTo>
                  <a:pt x="1965" y="1334"/>
                </a:lnTo>
                <a:lnTo>
                  <a:pt x="1905" y="1358"/>
                </a:lnTo>
                <a:lnTo>
                  <a:pt x="1808" y="1382"/>
                </a:lnTo>
                <a:lnTo>
                  <a:pt x="1683" y="1401"/>
                </a:lnTo>
                <a:lnTo>
                  <a:pt x="1532" y="1419"/>
                </a:lnTo>
                <a:lnTo>
                  <a:pt x="1365" y="1432"/>
                </a:lnTo>
                <a:lnTo>
                  <a:pt x="1182" y="1440"/>
                </a:lnTo>
                <a:lnTo>
                  <a:pt x="995" y="1443"/>
                </a:lnTo>
                <a:lnTo>
                  <a:pt x="807" y="1440"/>
                </a:lnTo>
                <a:lnTo>
                  <a:pt x="627" y="1429"/>
                </a:lnTo>
                <a:lnTo>
                  <a:pt x="462" y="1436"/>
                </a:lnTo>
                <a:lnTo>
                  <a:pt x="314" y="1419"/>
                </a:lnTo>
                <a:lnTo>
                  <a:pt x="0" y="1436"/>
                </a:lnTo>
                <a:lnTo>
                  <a:pt x="41" y="1263"/>
                </a:lnTo>
                <a:lnTo>
                  <a:pt x="39" y="1304"/>
                </a:lnTo>
                <a:lnTo>
                  <a:pt x="25" y="1270"/>
                </a:lnTo>
                <a:lnTo>
                  <a:pt x="43" y="1197"/>
                </a:lnTo>
                <a:lnTo>
                  <a:pt x="65" y="1114"/>
                </a:lnTo>
                <a:lnTo>
                  <a:pt x="88" y="1036"/>
                </a:lnTo>
                <a:lnTo>
                  <a:pt x="108" y="975"/>
                </a:lnTo>
                <a:lnTo>
                  <a:pt x="132" y="916"/>
                </a:lnTo>
                <a:lnTo>
                  <a:pt x="173" y="838"/>
                </a:lnTo>
                <a:lnTo>
                  <a:pt x="221" y="756"/>
                </a:lnTo>
                <a:lnTo>
                  <a:pt x="268" y="680"/>
                </a:lnTo>
                <a:lnTo>
                  <a:pt x="329" y="606"/>
                </a:lnTo>
                <a:lnTo>
                  <a:pt x="411" y="523"/>
                </a:lnTo>
                <a:lnTo>
                  <a:pt x="500" y="444"/>
                </a:lnTo>
                <a:lnTo>
                  <a:pt x="583" y="381"/>
                </a:lnTo>
                <a:lnTo>
                  <a:pt x="687" y="327"/>
                </a:lnTo>
                <a:lnTo>
                  <a:pt x="840" y="266"/>
                </a:lnTo>
                <a:lnTo>
                  <a:pt x="1010" y="209"/>
                </a:lnTo>
                <a:lnTo>
                  <a:pt x="1173" y="164"/>
                </a:lnTo>
                <a:lnTo>
                  <a:pt x="1253" y="147"/>
                </a:lnTo>
                <a:lnTo>
                  <a:pt x="1341" y="128"/>
                </a:lnTo>
                <a:lnTo>
                  <a:pt x="1434" y="110"/>
                </a:lnTo>
                <a:lnTo>
                  <a:pt x="1530" y="91"/>
                </a:lnTo>
                <a:lnTo>
                  <a:pt x="1620" y="75"/>
                </a:lnTo>
                <a:lnTo>
                  <a:pt x="1705" y="59"/>
                </a:lnTo>
                <a:lnTo>
                  <a:pt x="1777" y="47"/>
                </a:lnTo>
                <a:lnTo>
                  <a:pt x="2108" y="0"/>
                </a:lnTo>
                <a:lnTo>
                  <a:pt x="2083" y="1"/>
                </a:lnTo>
                <a:lnTo>
                  <a:pt x="2083" y="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335560" y="4811760"/>
            <a:ext cx="0" cy="282240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92680" y="5356080"/>
            <a:ext cx="3373560" cy="2292480"/>
          </a:xfrm>
          <a:custGeom>
            <a:avLst/>
            <a:gdLst/>
            <a:ahLst/>
            <a:rect l="l" t="t" r="r" b="b"/>
            <a:pathLst>
              <a:path w="2125" h="1444">
                <a:moveTo>
                  <a:pt x="0" y="1443"/>
                </a:moveTo>
                <a:lnTo>
                  <a:pt x="6" y="1414"/>
                </a:lnTo>
                <a:lnTo>
                  <a:pt x="12" y="1391"/>
                </a:lnTo>
                <a:lnTo>
                  <a:pt x="16" y="1372"/>
                </a:lnTo>
                <a:lnTo>
                  <a:pt x="20" y="1356"/>
                </a:lnTo>
                <a:lnTo>
                  <a:pt x="22" y="1345"/>
                </a:lnTo>
                <a:lnTo>
                  <a:pt x="25" y="1337"/>
                </a:lnTo>
                <a:lnTo>
                  <a:pt x="26" y="1331"/>
                </a:lnTo>
                <a:lnTo>
                  <a:pt x="28" y="1325"/>
                </a:lnTo>
                <a:lnTo>
                  <a:pt x="28" y="1323"/>
                </a:lnTo>
                <a:lnTo>
                  <a:pt x="29" y="1319"/>
                </a:lnTo>
                <a:lnTo>
                  <a:pt x="29" y="1315"/>
                </a:lnTo>
                <a:lnTo>
                  <a:pt x="31" y="1310"/>
                </a:lnTo>
                <a:lnTo>
                  <a:pt x="32" y="1305"/>
                </a:lnTo>
                <a:lnTo>
                  <a:pt x="34" y="1296"/>
                </a:lnTo>
                <a:lnTo>
                  <a:pt x="37" y="1286"/>
                </a:lnTo>
                <a:lnTo>
                  <a:pt x="41" y="1271"/>
                </a:lnTo>
                <a:lnTo>
                  <a:pt x="45" y="1255"/>
                </a:lnTo>
                <a:lnTo>
                  <a:pt x="49" y="1237"/>
                </a:lnTo>
                <a:lnTo>
                  <a:pt x="54" y="1218"/>
                </a:lnTo>
                <a:lnTo>
                  <a:pt x="59" y="1198"/>
                </a:lnTo>
                <a:lnTo>
                  <a:pt x="64" y="1178"/>
                </a:lnTo>
                <a:lnTo>
                  <a:pt x="70" y="1157"/>
                </a:lnTo>
                <a:lnTo>
                  <a:pt x="76" y="1137"/>
                </a:lnTo>
                <a:lnTo>
                  <a:pt x="82" y="1114"/>
                </a:lnTo>
                <a:lnTo>
                  <a:pt x="87" y="1095"/>
                </a:lnTo>
                <a:lnTo>
                  <a:pt x="92" y="1074"/>
                </a:lnTo>
                <a:lnTo>
                  <a:pt x="98" y="1056"/>
                </a:lnTo>
                <a:lnTo>
                  <a:pt x="104" y="1036"/>
                </a:lnTo>
                <a:lnTo>
                  <a:pt x="108" y="1020"/>
                </a:lnTo>
                <a:lnTo>
                  <a:pt x="114" y="1003"/>
                </a:lnTo>
                <a:lnTo>
                  <a:pt x="118" y="990"/>
                </a:lnTo>
                <a:lnTo>
                  <a:pt x="124" y="976"/>
                </a:lnTo>
                <a:lnTo>
                  <a:pt x="127" y="964"/>
                </a:lnTo>
                <a:lnTo>
                  <a:pt x="134" y="950"/>
                </a:lnTo>
                <a:lnTo>
                  <a:pt x="140" y="934"/>
                </a:lnTo>
                <a:lnTo>
                  <a:pt x="148" y="916"/>
                </a:lnTo>
                <a:lnTo>
                  <a:pt x="157" y="898"/>
                </a:lnTo>
                <a:lnTo>
                  <a:pt x="167" y="879"/>
                </a:lnTo>
                <a:lnTo>
                  <a:pt x="178" y="859"/>
                </a:lnTo>
                <a:lnTo>
                  <a:pt x="189" y="838"/>
                </a:lnTo>
                <a:lnTo>
                  <a:pt x="200" y="817"/>
                </a:lnTo>
                <a:lnTo>
                  <a:pt x="212" y="797"/>
                </a:lnTo>
                <a:lnTo>
                  <a:pt x="223" y="776"/>
                </a:lnTo>
                <a:lnTo>
                  <a:pt x="236" y="755"/>
                </a:lnTo>
                <a:lnTo>
                  <a:pt x="248" y="736"/>
                </a:lnTo>
                <a:lnTo>
                  <a:pt x="261" y="716"/>
                </a:lnTo>
                <a:lnTo>
                  <a:pt x="273" y="699"/>
                </a:lnTo>
                <a:lnTo>
                  <a:pt x="285" y="681"/>
                </a:lnTo>
                <a:lnTo>
                  <a:pt x="297" y="664"/>
                </a:lnTo>
                <a:lnTo>
                  <a:pt x="311" y="646"/>
                </a:lnTo>
                <a:lnTo>
                  <a:pt x="327" y="628"/>
                </a:lnTo>
                <a:lnTo>
                  <a:pt x="345" y="607"/>
                </a:lnTo>
                <a:lnTo>
                  <a:pt x="364" y="587"/>
                </a:lnTo>
                <a:lnTo>
                  <a:pt x="384" y="566"/>
                </a:lnTo>
                <a:lnTo>
                  <a:pt x="405" y="546"/>
                </a:lnTo>
                <a:lnTo>
                  <a:pt x="427" y="524"/>
                </a:lnTo>
                <a:lnTo>
                  <a:pt x="449" y="504"/>
                </a:lnTo>
                <a:lnTo>
                  <a:pt x="472" y="483"/>
                </a:lnTo>
                <a:lnTo>
                  <a:pt x="494" y="464"/>
                </a:lnTo>
                <a:lnTo>
                  <a:pt x="517" y="444"/>
                </a:lnTo>
                <a:lnTo>
                  <a:pt x="538" y="427"/>
                </a:lnTo>
                <a:lnTo>
                  <a:pt x="560" y="410"/>
                </a:lnTo>
                <a:lnTo>
                  <a:pt x="579" y="396"/>
                </a:lnTo>
                <a:lnTo>
                  <a:pt x="599" y="382"/>
                </a:lnTo>
                <a:lnTo>
                  <a:pt x="619" y="370"/>
                </a:lnTo>
                <a:lnTo>
                  <a:pt x="643" y="357"/>
                </a:lnTo>
                <a:lnTo>
                  <a:pt x="671" y="343"/>
                </a:lnTo>
                <a:lnTo>
                  <a:pt x="704" y="328"/>
                </a:lnTo>
                <a:lnTo>
                  <a:pt x="738" y="313"/>
                </a:lnTo>
                <a:lnTo>
                  <a:pt x="776" y="298"/>
                </a:lnTo>
                <a:lnTo>
                  <a:pt x="814" y="283"/>
                </a:lnTo>
                <a:lnTo>
                  <a:pt x="856" y="266"/>
                </a:lnTo>
                <a:lnTo>
                  <a:pt x="898" y="252"/>
                </a:lnTo>
                <a:lnTo>
                  <a:pt x="941" y="237"/>
                </a:lnTo>
                <a:lnTo>
                  <a:pt x="984" y="223"/>
                </a:lnTo>
                <a:lnTo>
                  <a:pt x="1027" y="209"/>
                </a:lnTo>
                <a:lnTo>
                  <a:pt x="1069" y="197"/>
                </a:lnTo>
                <a:lnTo>
                  <a:pt x="1111" y="184"/>
                </a:lnTo>
                <a:lnTo>
                  <a:pt x="1150" y="174"/>
                </a:lnTo>
                <a:lnTo>
                  <a:pt x="1190" y="165"/>
                </a:lnTo>
                <a:lnTo>
                  <a:pt x="1227" y="157"/>
                </a:lnTo>
                <a:lnTo>
                  <a:pt x="1269" y="148"/>
                </a:lnTo>
                <a:lnTo>
                  <a:pt x="1313" y="138"/>
                </a:lnTo>
                <a:lnTo>
                  <a:pt x="1358" y="129"/>
                </a:lnTo>
                <a:lnTo>
                  <a:pt x="1404" y="120"/>
                </a:lnTo>
                <a:lnTo>
                  <a:pt x="1451" y="110"/>
                </a:lnTo>
                <a:lnTo>
                  <a:pt x="1498" y="101"/>
                </a:lnTo>
                <a:lnTo>
                  <a:pt x="1546" y="92"/>
                </a:lnTo>
                <a:lnTo>
                  <a:pt x="1592" y="84"/>
                </a:lnTo>
                <a:lnTo>
                  <a:pt x="1637" y="75"/>
                </a:lnTo>
                <a:lnTo>
                  <a:pt x="1680" y="67"/>
                </a:lnTo>
                <a:lnTo>
                  <a:pt x="1722" y="59"/>
                </a:lnTo>
                <a:lnTo>
                  <a:pt x="1760" y="54"/>
                </a:lnTo>
                <a:lnTo>
                  <a:pt x="1796" y="47"/>
                </a:lnTo>
                <a:lnTo>
                  <a:pt x="1827" y="42"/>
                </a:lnTo>
                <a:lnTo>
                  <a:pt x="1855" y="37"/>
                </a:lnTo>
                <a:lnTo>
                  <a:pt x="1876" y="36"/>
                </a:lnTo>
                <a:lnTo>
                  <a:pt x="1893" y="33"/>
                </a:lnTo>
                <a:lnTo>
                  <a:pt x="1906" y="32"/>
                </a:lnTo>
                <a:lnTo>
                  <a:pt x="1915" y="30"/>
                </a:lnTo>
                <a:lnTo>
                  <a:pt x="1921" y="30"/>
                </a:lnTo>
                <a:lnTo>
                  <a:pt x="1927" y="28"/>
                </a:lnTo>
                <a:lnTo>
                  <a:pt x="1932" y="28"/>
                </a:lnTo>
                <a:lnTo>
                  <a:pt x="1939" y="27"/>
                </a:lnTo>
                <a:lnTo>
                  <a:pt x="1945" y="27"/>
                </a:lnTo>
                <a:lnTo>
                  <a:pt x="1955" y="25"/>
                </a:lnTo>
                <a:lnTo>
                  <a:pt x="1968" y="23"/>
                </a:lnTo>
                <a:lnTo>
                  <a:pt x="1987" y="20"/>
                </a:lnTo>
                <a:lnTo>
                  <a:pt x="2010" y="17"/>
                </a:lnTo>
                <a:lnTo>
                  <a:pt x="2040" y="12"/>
                </a:lnTo>
                <a:lnTo>
                  <a:pt x="2078" y="7"/>
                </a:lnTo>
                <a:lnTo>
                  <a:pt x="2124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92680" y="5370480"/>
            <a:ext cx="3373560" cy="2290680"/>
          </a:xfrm>
          <a:custGeom>
            <a:avLst/>
            <a:gdLst/>
            <a:ahLst/>
            <a:rect l="l" t="t" r="r" b="b"/>
            <a:pathLst>
              <a:path w="2125" h="1443">
                <a:moveTo>
                  <a:pt x="0" y="1442"/>
                </a:moveTo>
                <a:lnTo>
                  <a:pt x="6" y="1413"/>
                </a:lnTo>
                <a:lnTo>
                  <a:pt x="12" y="1389"/>
                </a:lnTo>
                <a:lnTo>
                  <a:pt x="16" y="1371"/>
                </a:lnTo>
                <a:lnTo>
                  <a:pt x="20" y="1355"/>
                </a:lnTo>
                <a:lnTo>
                  <a:pt x="22" y="1344"/>
                </a:lnTo>
                <a:lnTo>
                  <a:pt x="25" y="1335"/>
                </a:lnTo>
                <a:lnTo>
                  <a:pt x="26" y="1329"/>
                </a:lnTo>
                <a:lnTo>
                  <a:pt x="28" y="1324"/>
                </a:lnTo>
                <a:lnTo>
                  <a:pt x="28" y="1321"/>
                </a:lnTo>
                <a:lnTo>
                  <a:pt x="29" y="1317"/>
                </a:lnTo>
                <a:lnTo>
                  <a:pt x="29" y="1314"/>
                </a:lnTo>
                <a:lnTo>
                  <a:pt x="31" y="1309"/>
                </a:lnTo>
                <a:lnTo>
                  <a:pt x="32" y="1304"/>
                </a:lnTo>
                <a:lnTo>
                  <a:pt x="34" y="1295"/>
                </a:lnTo>
                <a:lnTo>
                  <a:pt x="37" y="1285"/>
                </a:lnTo>
                <a:lnTo>
                  <a:pt x="41" y="1269"/>
                </a:lnTo>
                <a:lnTo>
                  <a:pt x="45" y="1253"/>
                </a:lnTo>
                <a:lnTo>
                  <a:pt x="49" y="1236"/>
                </a:lnTo>
                <a:lnTo>
                  <a:pt x="54" y="1217"/>
                </a:lnTo>
                <a:lnTo>
                  <a:pt x="59" y="1197"/>
                </a:lnTo>
                <a:lnTo>
                  <a:pt x="64" y="1177"/>
                </a:lnTo>
                <a:lnTo>
                  <a:pt x="70" y="1156"/>
                </a:lnTo>
                <a:lnTo>
                  <a:pt x="76" y="1135"/>
                </a:lnTo>
                <a:lnTo>
                  <a:pt x="82" y="1113"/>
                </a:lnTo>
                <a:lnTo>
                  <a:pt x="87" y="1094"/>
                </a:lnTo>
                <a:lnTo>
                  <a:pt x="92" y="1073"/>
                </a:lnTo>
                <a:lnTo>
                  <a:pt x="98" y="1055"/>
                </a:lnTo>
                <a:lnTo>
                  <a:pt x="104" y="1035"/>
                </a:lnTo>
                <a:lnTo>
                  <a:pt x="108" y="1019"/>
                </a:lnTo>
                <a:lnTo>
                  <a:pt x="114" y="1002"/>
                </a:lnTo>
                <a:lnTo>
                  <a:pt x="118" y="988"/>
                </a:lnTo>
                <a:lnTo>
                  <a:pt x="124" y="974"/>
                </a:lnTo>
                <a:lnTo>
                  <a:pt x="127" y="963"/>
                </a:lnTo>
                <a:lnTo>
                  <a:pt x="134" y="948"/>
                </a:lnTo>
                <a:lnTo>
                  <a:pt x="140" y="933"/>
                </a:lnTo>
                <a:lnTo>
                  <a:pt x="148" y="915"/>
                </a:lnTo>
                <a:lnTo>
                  <a:pt x="157" y="897"/>
                </a:lnTo>
                <a:lnTo>
                  <a:pt x="167" y="877"/>
                </a:lnTo>
                <a:lnTo>
                  <a:pt x="178" y="858"/>
                </a:lnTo>
                <a:lnTo>
                  <a:pt x="189" y="836"/>
                </a:lnTo>
                <a:lnTo>
                  <a:pt x="200" y="816"/>
                </a:lnTo>
                <a:lnTo>
                  <a:pt x="212" y="795"/>
                </a:lnTo>
                <a:lnTo>
                  <a:pt x="223" y="775"/>
                </a:lnTo>
                <a:lnTo>
                  <a:pt x="236" y="753"/>
                </a:lnTo>
                <a:lnTo>
                  <a:pt x="248" y="735"/>
                </a:lnTo>
                <a:lnTo>
                  <a:pt x="261" y="715"/>
                </a:lnTo>
                <a:lnTo>
                  <a:pt x="273" y="697"/>
                </a:lnTo>
                <a:lnTo>
                  <a:pt x="285" y="679"/>
                </a:lnTo>
                <a:lnTo>
                  <a:pt x="297" y="663"/>
                </a:lnTo>
                <a:lnTo>
                  <a:pt x="311" y="645"/>
                </a:lnTo>
                <a:lnTo>
                  <a:pt x="327" y="626"/>
                </a:lnTo>
                <a:lnTo>
                  <a:pt x="345" y="605"/>
                </a:lnTo>
                <a:lnTo>
                  <a:pt x="364" y="585"/>
                </a:lnTo>
                <a:lnTo>
                  <a:pt x="384" y="565"/>
                </a:lnTo>
                <a:lnTo>
                  <a:pt x="405" y="544"/>
                </a:lnTo>
                <a:lnTo>
                  <a:pt x="427" y="522"/>
                </a:lnTo>
                <a:lnTo>
                  <a:pt x="449" y="502"/>
                </a:lnTo>
                <a:lnTo>
                  <a:pt x="472" y="481"/>
                </a:lnTo>
                <a:lnTo>
                  <a:pt x="494" y="462"/>
                </a:lnTo>
                <a:lnTo>
                  <a:pt x="517" y="442"/>
                </a:lnTo>
                <a:lnTo>
                  <a:pt x="538" y="425"/>
                </a:lnTo>
                <a:lnTo>
                  <a:pt x="560" y="408"/>
                </a:lnTo>
                <a:lnTo>
                  <a:pt x="579" y="394"/>
                </a:lnTo>
                <a:lnTo>
                  <a:pt x="599" y="380"/>
                </a:lnTo>
                <a:lnTo>
                  <a:pt x="619" y="368"/>
                </a:lnTo>
                <a:lnTo>
                  <a:pt x="643" y="355"/>
                </a:lnTo>
                <a:lnTo>
                  <a:pt x="671" y="341"/>
                </a:lnTo>
                <a:lnTo>
                  <a:pt x="704" y="327"/>
                </a:lnTo>
                <a:lnTo>
                  <a:pt x="738" y="312"/>
                </a:lnTo>
                <a:lnTo>
                  <a:pt x="776" y="297"/>
                </a:lnTo>
                <a:lnTo>
                  <a:pt x="814" y="282"/>
                </a:lnTo>
                <a:lnTo>
                  <a:pt x="856" y="265"/>
                </a:lnTo>
                <a:lnTo>
                  <a:pt x="898" y="251"/>
                </a:lnTo>
                <a:lnTo>
                  <a:pt x="941" y="235"/>
                </a:lnTo>
                <a:lnTo>
                  <a:pt x="984" y="222"/>
                </a:lnTo>
                <a:lnTo>
                  <a:pt x="1027" y="207"/>
                </a:lnTo>
                <a:lnTo>
                  <a:pt x="1069" y="195"/>
                </a:lnTo>
                <a:lnTo>
                  <a:pt x="1111" y="183"/>
                </a:lnTo>
                <a:lnTo>
                  <a:pt x="1150" y="173"/>
                </a:lnTo>
                <a:lnTo>
                  <a:pt x="1190" y="163"/>
                </a:lnTo>
                <a:lnTo>
                  <a:pt x="1227" y="156"/>
                </a:lnTo>
                <a:lnTo>
                  <a:pt x="1269" y="146"/>
                </a:lnTo>
                <a:lnTo>
                  <a:pt x="1313" y="137"/>
                </a:lnTo>
                <a:lnTo>
                  <a:pt x="1358" y="127"/>
                </a:lnTo>
                <a:lnTo>
                  <a:pt x="1404" y="118"/>
                </a:lnTo>
                <a:lnTo>
                  <a:pt x="1451" y="109"/>
                </a:lnTo>
                <a:lnTo>
                  <a:pt x="1498" y="99"/>
                </a:lnTo>
                <a:lnTo>
                  <a:pt x="1546" y="90"/>
                </a:lnTo>
                <a:lnTo>
                  <a:pt x="1592" y="83"/>
                </a:lnTo>
                <a:lnTo>
                  <a:pt x="1637" y="74"/>
                </a:lnTo>
                <a:lnTo>
                  <a:pt x="1680" y="66"/>
                </a:lnTo>
                <a:lnTo>
                  <a:pt x="1722" y="58"/>
                </a:lnTo>
                <a:lnTo>
                  <a:pt x="1760" y="53"/>
                </a:lnTo>
                <a:lnTo>
                  <a:pt x="1796" y="46"/>
                </a:lnTo>
                <a:lnTo>
                  <a:pt x="1827" y="41"/>
                </a:lnTo>
                <a:lnTo>
                  <a:pt x="1855" y="37"/>
                </a:lnTo>
                <a:lnTo>
                  <a:pt x="1876" y="35"/>
                </a:lnTo>
                <a:lnTo>
                  <a:pt x="1893" y="32"/>
                </a:lnTo>
                <a:lnTo>
                  <a:pt x="1906" y="31"/>
                </a:lnTo>
                <a:lnTo>
                  <a:pt x="1915" y="29"/>
                </a:lnTo>
                <a:lnTo>
                  <a:pt x="1921" y="29"/>
                </a:lnTo>
                <a:lnTo>
                  <a:pt x="1927" y="28"/>
                </a:lnTo>
                <a:lnTo>
                  <a:pt x="1932" y="28"/>
                </a:lnTo>
                <a:lnTo>
                  <a:pt x="1939" y="26"/>
                </a:lnTo>
                <a:lnTo>
                  <a:pt x="1945" y="26"/>
                </a:lnTo>
                <a:lnTo>
                  <a:pt x="1955" y="24"/>
                </a:lnTo>
                <a:lnTo>
                  <a:pt x="1968" y="22"/>
                </a:lnTo>
                <a:lnTo>
                  <a:pt x="1987" y="19"/>
                </a:lnTo>
                <a:lnTo>
                  <a:pt x="2010" y="16"/>
                </a:lnTo>
                <a:lnTo>
                  <a:pt x="2040" y="11"/>
                </a:lnTo>
                <a:lnTo>
                  <a:pt x="2078" y="7"/>
                </a:lnTo>
                <a:lnTo>
                  <a:pt x="2124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92680" y="5343480"/>
            <a:ext cx="3373560" cy="2290680"/>
          </a:xfrm>
          <a:custGeom>
            <a:avLst/>
            <a:gdLst/>
            <a:ahLst/>
            <a:rect l="l" t="t" r="r" b="b"/>
            <a:pathLst>
              <a:path w="2125" h="1443">
                <a:moveTo>
                  <a:pt x="0" y="1442"/>
                </a:moveTo>
                <a:lnTo>
                  <a:pt x="6" y="1414"/>
                </a:lnTo>
                <a:lnTo>
                  <a:pt x="12" y="1390"/>
                </a:lnTo>
                <a:lnTo>
                  <a:pt x="16" y="1371"/>
                </a:lnTo>
                <a:lnTo>
                  <a:pt x="20" y="1356"/>
                </a:lnTo>
                <a:lnTo>
                  <a:pt x="22" y="1344"/>
                </a:lnTo>
                <a:lnTo>
                  <a:pt x="25" y="1336"/>
                </a:lnTo>
                <a:lnTo>
                  <a:pt x="26" y="1330"/>
                </a:lnTo>
                <a:lnTo>
                  <a:pt x="28" y="1324"/>
                </a:lnTo>
                <a:lnTo>
                  <a:pt x="28" y="1322"/>
                </a:lnTo>
                <a:lnTo>
                  <a:pt x="29" y="1318"/>
                </a:lnTo>
                <a:lnTo>
                  <a:pt x="29" y="1314"/>
                </a:lnTo>
                <a:lnTo>
                  <a:pt x="31" y="1310"/>
                </a:lnTo>
                <a:lnTo>
                  <a:pt x="32" y="1304"/>
                </a:lnTo>
                <a:lnTo>
                  <a:pt x="34" y="1296"/>
                </a:lnTo>
                <a:lnTo>
                  <a:pt x="37" y="1285"/>
                </a:lnTo>
                <a:lnTo>
                  <a:pt x="41" y="1270"/>
                </a:lnTo>
                <a:lnTo>
                  <a:pt x="45" y="1254"/>
                </a:lnTo>
                <a:lnTo>
                  <a:pt x="49" y="1236"/>
                </a:lnTo>
                <a:lnTo>
                  <a:pt x="54" y="1218"/>
                </a:lnTo>
                <a:lnTo>
                  <a:pt x="59" y="1197"/>
                </a:lnTo>
                <a:lnTo>
                  <a:pt x="64" y="1177"/>
                </a:lnTo>
                <a:lnTo>
                  <a:pt x="70" y="1157"/>
                </a:lnTo>
                <a:lnTo>
                  <a:pt x="76" y="1136"/>
                </a:lnTo>
                <a:lnTo>
                  <a:pt x="82" y="1114"/>
                </a:lnTo>
                <a:lnTo>
                  <a:pt x="87" y="1095"/>
                </a:lnTo>
                <a:lnTo>
                  <a:pt x="92" y="1074"/>
                </a:lnTo>
                <a:lnTo>
                  <a:pt x="98" y="1056"/>
                </a:lnTo>
                <a:lnTo>
                  <a:pt x="104" y="1036"/>
                </a:lnTo>
                <a:lnTo>
                  <a:pt x="108" y="1019"/>
                </a:lnTo>
                <a:lnTo>
                  <a:pt x="114" y="1003"/>
                </a:lnTo>
                <a:lnTo>
                  <a:pt x="118" y="989"/>
                </a:lnTo>
                <a:lnTo>
                  <a:pt x="124" y="975"/>
                </a:lnTo>
                <a:lnTo>
                  <a:pt x="127" y="963"/>
                </a:lnTo>
                <a:lnTo>
                  <a:pt x="134" y="949"/>
                </a:lnTo>
                <a:lnTo>
                  <a:pt x="140" y="933"/>
                </a:lnTo>
                <a:lnTo>
                  <a:pt x="148" y="916"/>
                </a:lnTo>
                <a:lnTo>
                  <a:pt x="157" y="898"/>
                </a:lnTo>
                <a:lnTo>
                  <a:pt x="167" y="878"/>
                </a:lnTo>
                <a:lnTo>
                  <a:pt x="178" y="858"/>
                </a:lnTo>
                <a:lnTo>
                  <a:pt x="189" y="837"/>
                </a:lnTo>
                <a:lnTo>
                  <a:pt x="200" y="816"/>
                </a:lnTo>
                <a:lnTo>
                  <a:pt x="212" y="796"/>
                </a:lnTo>
                <a:lnTo>
                  <a:pt x="223" y="775"/>
                </a:lnTo>
                <a:lnTo>
                  <a:pt x="236" y="754"/>
                </a:lnTo>
                <a:lnTo>
                  <a:pt x="248" y="736"/>
                </a:lnTo>
                <a:lnTo>
                  <a:pt x="261" y="716"/>
                </a:lnTo>
                <a:lnTo>
                  <a:pt x="273" y="698"/>
                </a:lnTo>
                <a:lnTo>
                  <a:pt x="285" y="680"/>
                </a:lnTo>
                <a:lnTo>
                  <a:pt x="297" y="664"/>
                </a:lnTo>
                <a:lnTo>
                  <a:pt x="311" y="646"/>
                </a:lnTo>
                <a:lnTo>
                  <a:pt x="327" y="627"/>
                </a:lnTo>
                <a:lnTo>
                  <a:pt x="345" y="606"/>
                </a:lnTo>
                <a:lnTo>
                  <a:pt x="364" y="586"/>
                </a:lnTo>
                <a:lnTo>
                  <a:pt x="384" y="566"/>
                </a:lnTo>
                <a:lnTo>
                  <a:pt x="405" y="545"/>
                </a:lnTo>
                <a:lnTo>
                  <a:pt x="427" y="523"/>
                </a:lnTo>
                <a:lnTo>
                  <a:pt x="449" y="503"/>
                </a:lnTo>
                <a:lnTo>
                  <a:pt x="472" y="482"/>
                </a:lnTo>
                <a:lnTo>
                  <a:pt x="494" y="463"/>
                </a:lnTo>
                <a:lnTo>
                  <a:pt x="517" y="443"/>
                </a:lnTo>
                <a:lnTo>
                  <a:pt x="538" y="426"/>
                </a:lnTo>
                <a:lnTo>
                  <a:pt x="560" y="409"/>
                </a:lnTo>
                <a:lnTo>
                  <a:pt x="579" y="395"/>
                </a:lnTo>
                <a:lnTo>
                  <a:pt x="599" y="381"/>
                </a:lnTo>
                <a:lnTo>
                  <a:pt x="619" y="369"/>
                </a:lnTo>
                <a:lnTo>
                  <a:pt x="643" y="356"/>
                </a:lnTo>
                <a:lnTo>
                  <a:pt x="671" y="342"/>
                </a:lnTo>
                <a:lnTo>
                  <a:pt x="704" y="327"/>
                </a:lnTo>
                <a:lnTo>
                  <a:pt x="738" y="312"/>
                </a:lnTo>
                <a:lnTo>
                  <a:pt x="776" y="298"/>
                </a:lnTo>
                <a:lnTo>
                  <a:pt x="814" y="282"/>
                </a:lnTo>
                <a:lnTo>
                  <a:pt x="856" y="266"/>
                </a:lnTo>
                <a:lnTo>
                  <a:pt x="898" y="251"/>
                </a:lnTo>
                <a:lnTo>
                  <a:pt x="941" y="236"/>
                </a:lnTo>
                <a:lnTo>
                  <a:pt x="984" y="222"/>
                </a:lnTo>
                <a:lnTo>
                  <a:pt x="1027" y="208"/>
                </a:lnTo>
                <a:lnTo>
                  <a:pt x="1069" y="196"/>
                </a:lnTo>
                <a:lnTo>
                  <a:pt x="1111" y="184"/>
                </a:lnTo>
                <a:lnTo>
                  <a:pt x="1150" y="174"/>
                </a:lnTo>
                <a:lnTo>
                  <a:pt x="1190" y="164"/>
                </a:lnTo>
                <a:lnTo>
                  <a:pt x="1227" y="156"/>
                </a:lnTo>
                <a:lnTo>
                  <a:pt x="1269" y="147"/>
                </a:lnTo>
                <a:lnTo>
                  <a:pt x="1313" y="138"/>
                </a:lnTo>
                <a:lnTo>
                  <a:pt x="1358" y="128"/>
                </a:lnTo>
                <a:lnTo>
                  <a:pt x="1404" y="119"/>
                </a:lnTo>
                <a:lnTo>
                  <a:pt x="1451" y="110"/>
                </a:lnTo>
                <a:lnTo>
                  <a:pt x="1498" y="100"/>
                </a:lnTo>
                <a:lnTo>
                  <a:pt x="1546" y="91"/>
                </a:lnTo>
                <a:lnTo>
                  <a:pt x="1592" y="83"/>
                </a:lnTo>
                <a:lnTo>
                  <a:pt x="1637" y="75"/>
                </a:lnTo>
                <a:lnTo>
                  <a:pt x="1680" y="67"/>
                </a:lnTo>
                <a:lnTo>
                  <a:pt x="1722" y="59"/>
                </a:lnTo>
                <a:lnTo>
                  <a:pt x="1760" y="54"/>
                </a:lnTo>
                <a:lnTo>
                  <a:pt x="1796" y="46"/>
                </a:lnTo>
                <a:lnTo>
                  <a:pt x="1827" y="42"/>
                </a:lnTo>
                <a:lnTo>
                  <a:pt x="1855" y="37"/>
                </a:lnTo>
                <a:lnTo>
                  <a:pt x="1876" y="35"/>
                </a:lnTo>
                <a:lnTo>
                  <a:pt x="1893" y="32"/>
                </a:lnTo>
                <a:lnTo>
                  <a:pt x="1906" y="31"/>
                </a:lnTo>
                <a:lnTo>
                  <a:pt x="1915" y="29"/>
                </a:lnTo>
                <a:lnTo>
                  <a:pt x="1921" y="29"/>
                </a:lnTo>
                <a:lnTo>
                  <a:pt x="1927" y="28"/>
                </a:lnTo>
                <a:lnTo>
                  <a:pt x="1932" y="28"/>
                </a:lnTo>
                <a:lnTo>
                  <a:pt x="1939" y="26"/>
                </a:lnTo>
                <a:lnTo>
                  <a:pt x="1945" y="26"/>
                </a:lnTo>
                <a:lnTo>
                  <a:pt x="1955" y="24"/>
                </a:lnTo>
                <a:lnTo>
                  <a:pt x="1968" y="22"/>
                </a:lnTo>
                <a:lnTo>
                  <a:pt x="1987" y="19"/>
                </a:lnTo>
                <a:lnTo>
                  <a:pt x="2010" y="16"/>
                </a:lnTo>
                <a:lnTo>
                  <a:pt x="2040" y="12"/>
                </a:lnTo>
                <a:lnTo>
                  <a:pt x="2078" y="7"/>
                </a:lnTo>
                <a:lnTo>
                  <a:pt x="2124" y="0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0880" y="2332080"/>
            <a:ext cx="3105000" cy="2063880"/>
          </a:xfrm>
          <a:custGeom>
            <a:avLst/>
            <a:gdLst/>
            <a:ahLst/>
            <a:rect l="l" t="t" r="r" b="b"/>
            <a:pathLst>
              <a:path w="1956" h="1300">
                <a:moveTo>
                  <a:pt x="0" y="1299"/>
                </a:moveTo>
                <a:lnTo>
                  <a:pt x="494" y="0"/>
                </a:lnTo>
                <a:lnTo>
                  <a:pt x="1955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0880" y="2346480"/>
            <a:ext cx="3105000" cy="2065320"/>
          </a:xfrm>
          <a:custGeom>
            <a:avLst/>
            <a:gdLst/>
            <a:ahLst/>
            <a:rect l="l" t="t" r="r" b="b"/>
            <a:pathLst>
              <a:path w="1956" h="1301">
                <a:moveTo>
                  <a:pt x="0" y="1300"/>
                </a:moveTo>
                <a:lnTo>
                  <a:pt x="494" y="0"/>
                </a:lnTo>
                <a:lnTo>
                  <a:pt x="1955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330880" y="2330280"/>
            <a:ext cx="3105000" cy="2065680"/>
          </a:xfrm>
          <a:custGeom>
            <a:avLst/>
            <a:gdLst/>
            <a:ahLst/>
            <a:rect l="l" t="t" r="r" b="b"/>
            <a:pathLst>
              <a:path w="1956" h="1301">
                <a:moveTo>
                  <a:pt x="0" y="1300"/>
                </a:moveTo>
                <a:lnTo>
                  <a:pt x="494" y="0"/>
                </a:lnTo>
                <a:lnTo>
                  <a:pt x="1955" y="0"/>
                </a:lnTo>
              </a:path>
            </a:pathLst>
          </a:custGeom>
          <a:noFill/>
          <a:ln w="4752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6440" y="5135400"/>
            <a:ext cx="3006720" cy="2494080"/>
          </a:xfrm>
          <a:custGeom>
            <a:avLst/>
            <a:gdLst/>
            <a:ahLst/>
            <a:rect l="l" t="t" r="r" b="b"/>
            <a:pathLst>
              <a:path w="1894" h="1572">
                <a:moveTo>
                  <a:pt x="0" y="1571"/>
                </a:moveTo>
                <a:lnTo>
                  <a:pt x="229" y="1543"/>
                </a:lnTo>
                <a:lnTo>
                  <a:pt x="384" y="1506"/>
                </a:lnTo>
                <a:lnTo>
                  <a:pt x="618" y="1399"/>
                </a:lnTo>
                <a:lnTo>
                  <a:pt x="843" y="1134"/>
                </a:lnTo>
                <a:lnTo>
                  <a:pt x="961" y="911"/>
                </a:lnTo>
                <a:lnTo>
                  <a:pt x="1040" y="721"/>
                </a:lnTo>
                <a:lnTo>
                  <a:pt x="1120" y="567"/>
                </a:lnTo>
                <a:lnTo>
                  <a:pt x="1251" y="335"/>
                </a:lnTo>
                <a:lnTo>
                  <a:pt x="1401" y="181"/>
                </a:lnTo>
                <a:lnTo>
                  <a:pt x="1584" y="74"/>
                </a:lnTo>
                <a:lnTo>
                  <a:pt x="189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9320" y="5114880"/>
            <a:ext cx="3005280" cy="2494080"/>
          </a:xfrm>
          <a:custGeom>
            <a:avLst/>
            <a:gdLst/>
            <a:ahLst/>
            <a:rect l="l" t="t" r="r" b="b"/>
            <a:pathLst>
              <a:path w="1893" h="1571">
                <a:moveTo>
                  <a:pt x="0" y="1570"/>
                </a:moveTo>
                <a:lnTo>
                  <a:pt x="228" y="1542"/>
                </a:lnTo>
                <a:lnTo>
                  <a:pt x="383" y="1505"/>
                </a:lnTo>
                <a:lnTo>
                  <a:pt x="618" y="1399"/>
                </a:lnTo>
                <a:lnTo>
                  <a:pt x="842" y="1134"/>
                </a:lnTo>
                <a:lnTo>
                  <a:pt x="960" y="910"/>
                </a:lnTo>
                <a:lnTo>
                  <a:pt x="1039" y="720"/>
                </a:lnTo>
                <a:lnTo>
                  <a:pt x="1119" y="567"/>
                </a:lnTo>
                <a:lnTo>
                  <a:pt x="1250" y="334"/>
                </a:lnTo>
                <a:lnTo>
                  <a:pt x="1401" y="180"/>
                </a:lnTo>
                <a:lnTo>
                  <a:pt x="1583" y="74"/>
                </a:lnTo>
                <a:lnTo>
                  <a:pt x="1892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9320" y="5146560"/>
            <a:ext cx="3005280" cy="2498760"/>
          </a:xfrm>
          <a:custGeom>
            <a:avLst/>
            <a:gdLst/>
            <a:ahLst/>
            <a:rect l="l" t="t" r="r" b="b"/>
            <a:pathLst>
              <a:path w="1893" h="1573">
                <a:moveTo>
                  <a:pt x="0" y="1572"/>
                </a:moveTo>
                <a:lnTo>
                  <a:pt x="228" y="1543"/>
                </a:lnTo>
                <a:lnTo>
                  <a:pt x="383" y="1506"/>
                </a:lnTo>
                <a:lnTo>
                  <a:pt x="618" y="1400"/>
                </a:lnTo>
                <a:lnTo>
                  <a:pt x="842" y="1135"/>
                </a:lnTo>
                <a:lnTo>
                  <a:pt x="960" y="911"/>
                </a:lnTo>
                <a:lnTo>
                  <a:pt x="1039" y="721"/>
                </a:lnTo>
                <a:lnTo>
                  <a:pt x="1119" y="568"/>
                </a:lnTo>
                <a:lnTo>
                  <a:pt x="1250" y="335"/>
                </a:lnTo>
                <a:lnTo>
                  <a:pt x="1401" y="182"/>
                </a:lnTo>
                <a:lnTo>
                  <a:pt x="1583" y="74"/>
                </a:lnTo>
                <a:lnTo>
                  <a:pt x="1892" y="0"/>
                </a:lnTo>
              </a:path>
            </a:pathLst>
          </a:custGeom>
          <a:noFill/>
          <a:ln w="316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297400" y="1312920"/>
            <a:ext cx="4064040" cy="3174480"/>
            <a:chOff x="5297400" y="1312920"/>
            <a:chExt cx="4064040" cy="3174480"/>
          </a:xfrm>
        </p:grpSpPr>
        <p:sp>
          <p:nvSpPr>
            <p:cNvPr id="873" name=""/>
            <p:cNvSpPr/>
            <p:nvPr/>
          </p:nvSpPr>
          <p:spPr>
            <a:xfrm>
              <a:off x="9090000" y="4269600"/>
              <a:ext cx="27144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97400" y="1312920"/>
              <a:ext cx="1573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821800" y="1805040"/>
              <a:ext cx="3556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35040" y="4570560"/>
            <a:ext cx="8797680" cy="3201120"/>
            <a:chOff x="635040" y="4570560"/>
            <a:chExt cx="8797680" cy="3201120"/>
          </a:xfrm>
        </p:grpSpPr>
        <p:grpSp>
          <p:nvGrpSpPr>
            <p:cNvPr id="877" name=""/>
            <p:cNvGrpSpPr/>
            <p:nvPr/>
          </p:nvGrpSpPr>
          <p:grpSpPr>
            <a:xfrm>
              <a:off x="635040" y="4570560"/>
              <a:ext cx="4063320" cy="3172680"/>
              <a:chOff x="635040" y="4570560"/>
              <a:chExt cx="4063320" cy="3172680"/>
            </a:xfrm>
          </p:grpSpPr>
          <p:sp>
            <p:nvSpPr>
              <p:cNvPr id="878" name=""/>
              <p:cNvSpPr/>
              <p:nvPr/>
            </p:nvSpPr>
            <p:spPr>
              <a:xfrm>
                <a:off x="4427280" y="7525800"/>
                <a:ext cx="2710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35040" y="4570560"/>
                <a:ext cx="156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59080" y="5062320"/>
                <a:ext cx="355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368680" y="4599000"/>
              <a:ext cx="4064040" cy="3172680"/>
              <a:chOff x="5368680" y="4599000"/>
              <a:chExt cx="4064040" cy="3172680"/>
            </a:xfrm>
          </p:grpSpPr>
          <p:sp>
            <p:nvSpPr>
              <p:cNvPr id="882" name=""/>
              <p:cNvSpPr/>
              <p:nvPr/>
            </p:nvSpPr>
            <p:spPr>
              <a:xfrm>
                <a:off x="9161280" y="7554240"/>
                <a:ext cx="2714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68680" y="4599000"/>
                <a:ext cx="157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893080" y="5090760"/>
                <a:ext cx="3556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"/>
          <p:cNvSpPr/>
          <p:nvPr/>
        </p:nvSpPr>
        <p:spPr>
          <a:xfrm>
            <a:off x="684360" y="4387680"/>
            <a:ext cx="360648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40240" y="4387680"/>
            <a:ext cx="36100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4360" y="7632720"/>
            <a:ext cx="36064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340240" y="7632720"/>
            <a:ext cx="36100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46000"/>
            <a:ext cx="5361120" cy="3973680"/>
          </a:xfrm>
          <a:custGeom>
            <a:avLst/>
            <a:gdLst/>
            <a:ahLst/>
            <a:rect l="l" t="t" r="r" b="b"/>
            <a:pathLst>
              <a:path w="3029" h="2503">
                <a:moveTo>
                  <a:pt x="260" y="557"/>
                </a:moveTo>
                <a:lnTo>
                  <a:pt x="123" y="763"/>
                </a:lnTo>
                <a:lnTo>
                  <a:pt x="38" y="971"/>
                </a:lnTo>
                <a:lnTo>
                  <a:pt x="0" y="1178"/>
                </a:lnTo>
                <a:lnTo>
                  <a:pt x="8" y="1380"/>
                </a:lnTo>
                <a:lnTo>
                  <a:pt x="54" y="1577"/>
                </a:lnTo>
                <a:lnTo>
                  <a:pt x="138" y="1762"/>
                </a:lnTo>
                <a:lnTo>
                  <a:pt x="256" y="1934"/>
                </a:lnTo>
                <a:lnTo>
                  <a:pt x="405" y="2088"/>
                </a:lnTo>
                <a:lnTo>
                  <a:pt x="578" y="2224"/>
                </a:lnTo>
                <a:lnTo>
                  <a:pt x="776" y="2336"/>
                </a:lnTo>
                <a:lnTo>
                  <a:pt x="992" y="2422"/>
                </a:lnTo>
                <a:lnTo>
                  <a:pt x="1224" y="2477"/>
                </a:lnTo>
                <a:lnTo>
                  <a:pt x="1468" y="2502"/>
                </a:lnTo>
                <a:lnTo>
                  <a:pt x="1721" y="2490"/>
                </a:lnTo>
                <a:lnTo>
                  <a:pt x="1979" y="2438"/>
                </a:lnTo>
                <a:lnTo>
                  <a:pt x="2240" y="2344"/>
                </a:lnTo>
                <a:lnTo>
                  <a:pt x="2476" y="2216"/>
                </a:lnTo>
                <a:lnTo>
                  <a:pt x="2668" y="2065"/>
                </a:lnTo>
                <a:lnTo>
                  <a:pt x="2818" y="1897"/>
                </a:lnTo>
                <a:lnTo>
                  <a:pt x="2928" y="1715"/>
                </a:lnTo>
                <a:lnTo>
                  <a:pt x="2996" y="1524"/>
                </a:lnTo>
                <a:lnTo>
                  <a:pt x="3028" y="1327"/>
                </a:lnTo>
                <a:lnTo>
                  <a:pt x="3022" y="1129"/>
                </a:lnTo>
                <a:lnTo>
                  <a:pt x="2980" y="935"/>
                </a:lnTo>
                <a:lnTo>
                  <a:pt x="2902" y="749"/>
                </a:lnTo>
                <a:lnTo>
                  <a:pt x="2792" y="573"/>
                </a:lnTo>
                <a:lnTo>
                  <a:pt x="2650" y="414"/>
                </a:lnTo>
                <a:lnTo>
                  <a:pt x="2477" y="274"/>
                </a:lnTo>
                <a:lnTo>
                  <a:pt x="2274" y="160"/>
                </a:lnTo>
                <a:lnTo>
                  <a:pt x="2045" y="72"/>
                </a:lnTo>
                <a:lnTo>
                  <a:pt x="1788" y="19"/>
                </a:lnTo>
                <a:lnTo>
                  <a:pt x="15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343080" y="2709720"/>
            <a:ext cx="6394320" cy="4362480"/>
          </a:xfrm>
          <a:custGeom>
            <a:avLst/>
            <a:gdLst/>
            <a:ahLst/>
            <a:rect l="l" t="t" r="r" b="b"/>
            <a:pathLst>
              <a:path w="4028" h="2748">
                <a:moveTo>
                  <a:pt x="3980" y="2"/>
                </a:moveTo>
                <a:lnTo>
                  <a:pt x="3980" y="2"/>
                </a:lnTo>
                <a:lnTo>
                  <a:pt x="3957" y="230"/>
                </a:lnTo>
                <a:lnTo>
                  <a:pt x="3952" y="287"/>
                </a:lnTo>
                <a:lnTo>
                  <a:pt x="3951" y="368"/>
                </a:lnTo>
                <a:lnTo>
                  <a:pt x="3891" y="500"/>
                </a:lnTo>
                <a:lnTo>
                  <a:pt x="3952" y="585"/>
                </a:lnTo>
                <a:lnTo>
                  <a:pt x="3954" y="712"/>
                </a:lnTo>
                <a:lnTo>
                  <a:pt x="3900" y="880"/>
                </a:lnTo>
                <a:lnTo>
                  <a:pt x="3963" y="972"/>
                </a:lnTo>
                <a:lnTo>
                  <a:pt x="3972" y="1092"/>
                </a:lnTo>
                <a:lnTo>
                  <a:pt x="3975" y="1217"/>
                </a:lnTo>
                <a:lnTo>
                  <a:pt x="3975" y="1348"/>
                </a:lnTo>
                <a:lnTo>
                  <a:pt x="3967" y="1484"/>
                </a:lnTo>
                <a:lnTo>
                  <a:pt x="3957" y="1611"/>
                </a:lnTo>
                <a:lnTo>
                  <a:pt x="3939" y="1732"/>
                </a:lnTo>
                <a:lnTo>
                  <a:pt x="3921" y="1840"/>
                </a:lnTo>
                <a:lnTo>
                  <a:pt x="3900" y="1928"/>
                </a:lnTo>
                <a:lnTo>
                  <a:pt x="3877" y="1986"/>
                </a:lnTo>
                <a:lnTo>
                  <a:pt x="3852" y="2042"/>
                </a:lnTo>
                <a:lnTo>
                  <a:pt x="3831" y="2107"/>
                </a:lnTo>
                <a:lnTo>
                  <a:pt x="3812" y="2176"/>
                </a:lnTo>
                <a:lnTo>
                  <a:pt x="3799" y="2248"/>
                </a:lnTo>
                <a:lnTo>
                  <a:pt x="3787" y="2321"/>
                </a:lnTo>
                <a:lnTo>
                  <a:pt x="3783" y="2391"/>
                </a:lnTo>
                <a:lnTo>
                  <a:pt x="3781" y="2457"/>
                </a:lnTo>
                <a:lnTo>
                  <a:pt x="3790" y="2505"/>
                </a:lnTo>
                <a:lnTo>
                  <a:pt x="3754" y="2554"/>
                </a:lnTo>
                <a:lnTo>
                  <a:pt x="3801" y="2731"/>
                </a:lnTo>
                <a:lnTo>
                  <a:pt x="0" y="2748"/>
                </a:lnTo>
                <a:lnTo>
                  <a:pt x="17" y="2521"/>
                </a:lnTo>
                <a:lnTo>
                  <a:pt x="17" y="2611"/>
                </a:lnTo>
                <a:lnTo>
                  <a:pt x="48" y="2434"/>
                </a:lnTo>
                <a:lnTo>
                  <a:pt x="82" y="2293"/>
                </a:lnTo>
                <a:lnTo>
                  <a:pt x="128" y="2134"/>
                </a:lnTo>
                <a:lnTo>
                  <a:pt x="170" y="1984"/>
                </a:lnTo>
                <a:lnTo>
                  <a:pt x="207" y="1868"/>
                </a:lnTo>
                <a:lnTo>
                  <a:pt x="254" y="1754"/>
                </a:lnTo>
                <a:lnTo>
                  <a:pt x="331" y="1604"/>
                </a:lnTo>
                <a:lnTo>
                  <a:pt x="423" y="1448"/>
                </a:lnTo>
                <a:lnTo>
                  <a:pt x="513" y="1303"/>
                </a:lnTo>
                <a:lnTo>
                  <a:pt x="627" y="1162"/>
                </a:lnTo>
                <a:lnTo>
                  <a:pt x="785" y="1001"/>
                </a:lnTo>
                <a:lnTo>
                  <a:pt x="955" y="850"/>
                </a:lnTo>
                <a:lnTo>
                  <a:pt x="1114" y="729"/>
                </a:lnTo>
                <a:lnTo>
                  <a:pt x="1313" y="626"/>
                </a:lnTo>
                <a:lnTo>
                  <a:pt x="1606" y="509"/>
                </a:lnTo>
                <a:lnTo>
                  <a:pt x="1930" y="401"/>
                </a:lnTo>
                <a:lnTo>
                  <a:pt x="2242" y="314"/>
                </a:lnTo>
                <a:lnTo>
                  <a:pt x="2393" y="281"/>
                </a:lnTo>
                <a:lnTo>
                  <a:pt x="2563" y="245"/>
                </a:lnTo>
                <a:lnTo>
                  <a:pt x="2741" y="210"/>
                </a:lnTo>
                <a:lnTo>
                  <a:pt x="2924" y="173"/>
                </a:lnTo>
                <a:lnTo>
                  <a:pt x="3096" y="142"/>
                </a:lnTo>
                <a:lnTo>
                  <a:pt x="3258" y="112"/>
                </a:lnTo>
                <a:lnTo>
                  <a:pt x="3399" y="91"/>
                </a:lnTo>
                <a:lnTo>
                  <a:pt x="4028" y="0"/>
                </a:lnTo>
                <a:lnTo>
                  <a:pt x="3980" y="2"/>
                </a:lnTo>
                <a:lnTo>
                  <a:pt x="3980" y="2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446040" y="-360"/>
            <a:ext cx="945360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ome la relación entre el producto y el insumo 1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1960" y="2708280"/>
            <a:ext cx="6443640" cy="4387680"/>
          </a:xfrm>
          <a:custGeom>
            <a:avLst/>
            <a:gdLst/>
            <a:ahLst/>
            <a:rect l="l" t="t" r="r" b="b"/>
            <a:pathLst>
              <a:path w="3754" h="2551">
                <a:moveTo>
                  <a:pt x="0" y="2550"/>
                </a:moveTo>
                <a:lnTo>
                  <a:pt x="12" y="2499"/>
                </a:lnTo>
                <a:lnTo>
                  <a:pt x="22" y="2456"/>
                </a:lnTo>
                <a:lnTo>
                  <a:pt x="30" y="2423"/>
                </a:lnTo>
                <a:lnTo>
                  <a:pt x="37" y="2396"/>
                </a:lnTo>
                <a:lnTo>
                  <a:pt x="41" y="2376"/>
                </a:lnTo>
                <a:lnTo>
                  <a:pt x="45" y="2361"/>
                </a:lnTo>
                <a:lnTo>
                  <a:pt x="47" y="2349"/>
                </a:lnTo>
                <a:lnTo>
                  <a:pt x="50" y="2341"/>
                </a:lnTo>
                <a:lnTo>
                  <a:pt x="51" y="2335"/>
                </a:lnTo>
                <a:lnTo>
                  <a:pt x="53" y="2329"/>
                </a:lnTo>
                <a:lnTo>
                  <a:pt x="54" y="2323"/>
                </a:lnTo>
                <a:lnTo>
                  <a:pt x="56" y="2315"/>
                </a:lnTo>
                <a:lnTo>
                  <a:pt x="58" y="2305"/>
                </a:lnTo>
                <a:lnTo>
                  <a:pt x="63" y="2290"/>
                </a:lnTo>
                <a:lnTo>
                  <a:pt x="67" y="2271"/>
                </a:lnTo>
                <a:lnTo>
                  <a:pt x="74" y="2245"/>
                </a:lnTo>
                <a:lnTo>
                  <a:pt x="81" y="2217"/>
                </a:lnTo>
                <a:lnTo>
                  <a:pt x="89" y="2185"/>
                </a:lnTo>
                <a:lnTo>
                  <a:pt x="97" y="2152"/>
                </a:lnTo>
                <a:lnTo>
                  <a:pt x="107" y="2116"/>
                </a:lnTo>
                <a:lnTo>
                  <a:pt x="116" y="2081"/>
                </a:lnTo>
                <a:lnTo>
                  <a:pt x="126" y="2044"/>
                </a:lnTo>
                <a:lnTo>
                  <a:pt x="135" y="2007"/>
                </a:lnTo>
                <a:lnTo>
                  <a:pt x="147" y="1969"/>
                </a:lnTo>
                <a:lnTo>
                  <a:pt x="156" y="1934"/>
                </a:lnTo>
                <a:lnTo>
                  <a:pt x="167" y="1898"/>
                </a:lnTo>
                <a:lnTo>
                  <a:pt x="176" y="1864"/>
                </a:lnTo>
                <a:lnTo>
                  <a:pt x="187" y="1831"/>
                </a:lnTo>
                <a:lnTo>
                  <a:pt x="195" y="1801"/>
                </a:lnTo>
                <a:lnTo>
                  <a:pt x="204" y="1772"/>
                </a:lnTo>
                <a:lnTo>
                  <a:pt x="211" y="1747"/>
                </a:lnTo>
                <a:lnTo>
                  <a:pt x="220" y="1724"/>
                </a:lnTo>
                <a:lnTo>
                  <a:pt x="227" y="1704"/>
                </a:lnTo>
                <a:lnTo>
                  <a:pt x="237" y="1678"/>
                </a:lnTo>
                <a:lnTo>
                  <a:pt x="249" y="1651"/>
                </a:lnTo>
                <a:lnTo>
                  <a:pt x="264" y="1619"/>
                </a:lnTo>
                <a:lnTo>
                  <a:pt x="279" y="1587"/>
                </a:lnTo>
                <a:lnTo>
                  <a:pt x="297" y="1553"/>
                </a:lnTo>
                <a:lnTo>
                  <a:pt x="315" y="1518"/>
                </a:lnTo>
                <a:lnTo>
                  <a:pt x="335" y="1481"/>
                </a:lnTo>
                <a:lnTo>
                  <a:pt x="355" y="1445"/>
                </a:lnTo>
                <a:lnTo>
                  <a:pt x="376" y="1408"/>
                </a:lnTo>
                <a:lnTo>
                  <a:pt x="397" y="1371"/>
                </a:lnTo>
                <a:lnTo>
                  <a:pt x="419" y="1334"/>
                </a:lnTo>
                <a:lnTo>
                  <a:pt x="440" y="1300"/>
                </a:lnTo>
                <a:lnTo>
                  <a:pt x="463" y="1265"/>
                </a:lnTo>
                <a:lnTo>
                  <a:pt x="483" y="1234"/>
                </a:lnTo>
                <a:lnTo>
                  <a:pt x="504" y="1203"/>
                </a:lnTo>
                <a:lnTo>
                  <a:pt x="525" y="1175"/>
                </a:lnTo>
                <a:lnTo>
                  <a:pt x="550" y="1142"/>
                </a:lnTo>
                <a:lnTo>
                  <a:pt x="579" y="1108"/>
                </a:lnTo>
                <a:lnTo>
                  <a:pt x="611" y="1073"/>
                </a:lnTo>
                <a:lnTo>
                  <a:pt x="644" y="1037"/>
                </a:lnTo>
                <a:lnTo>
                  <a:pt x="680" y="999"/>
                </a:lnTo>
                <a:lnTo>
                  <a:pt x="717" y="962"/>
                </a:lnTo>
                <a:lnTo>
                  <a:pt x="756" y="924"/>
                </a:lnTo>
                <a:lnTo>
                  <a:pt x="795" y="888"/>
                </a:lnTo>
                <a:lnTo>
                  <a:pt x="834" y="852"/>
                </a:lnTo>
                <a:lnTo>
                  <a:pt x="874" y="817"/>
                </a:lnTo>
                <a:lnTo>
                  <a:pt x="914" y="783"/>
                </a:lnTo>
                <a:lnTo>
                  <a:pt x="952" y="753"/>
                </a:lnTo>
                <a:lnTo>
                  <a:pt x="990" y="724"/>
                </a:lnTo>
                <a:lnTo>
                  <a:pt x="1025" y="698"/>
                </a:lnTo>
                <a:lnTo>
                  <a:pt x="1059" y="674"/>
                </a:lnTo>
                <a:lnTo>
                  <a:pt x="1095" y="653"/>
                </a:lnTo>
                <a:lnTo>
                  <a:pt x="1137" y="629"/>
                </a:lnTo>
                <a:lnTo>
                  <a:pt x="1187" y="604"/>
                </a:lnTo>
                <a:lnTo>
                  <a:pt x="1244" y="578"/>
                </a:lnTo>
                <a:lnTo>
                  <a:pt x="1305" y="552"/>
                </a:lnTo>
                <a:lnTo>
                  <a:pt x="1370" y="525"/>
                </a:lnTo>
                <a:lnTo>
                  <a:pt x="1439" y="498"/>
                </a:lnTo>
                <a:lnTo>
                  <a:pt x="1513" y="470"/>
                </a:lnTo>
                <a:lnTo>
                  <a:pt x="1586" y="444"/>
                </a:lnTo>
                <a:lnTo>
                  <a:pt x="1662" y="418"/>
                </a:lnTo>
                <a:lnTo>
                  <a:pt x="1738" y="393"/>
                </a:lnTo>
                <a:lnTo>
                  <a:pt x="1815" y="369"/>
                </a:lnTo>
                <a:lnTo>
                  <a:pt x="1889" y="347"/>
                </a:lnTo>
                <a:lnTo>
                  <a:pt x="1963" y="326"/>
                </a:lnTo>
                <a:lnTo>
                  <a:pt x="2034" y="307"/>
                </a:lnTo>
                <a:lnTo>
                  <a:pt x="2102" y="290"/>
                </a:lnTo>
                <a:lnTo>
                  <a:pt x="2170" y="276"/>
                </a:lnTo>
                <a:lnTo>
                  <a:pt x="2243" y="260"/>
                </a:lnTo>
                <a:lnTo>
                  <a:pt x="2319" y="244"/>
                </a:lnTo>
                <a:lnTo>
                  <a:pt x="2400" y="227"/>
                </a:lnTo>
                <a:lnTo>
                  <a:pt x="2482" y="211"/>
                </a:lnTo>
                <a:lnTo>
                  <a:pt x="2565" y="194"/>
                </a:lnTo>
                <a:lnTo>
                  <a:pt x="2648" y="178"/>
                </a:lnTo>
                <a:lnTo>
                  <a:pt x="2733" y="161"/>
                </a:lnTo>
                <a:lnTo>
                  <a:pt x="2814" y="146"/>
                </a:lnTo>
                <a:lnTo>
                  <a:pt x="2893" y="131"/>
                </a:lnTo>
                <a:lnTo>
                  <a:pt x="2970" y="118"/>
                </a:lnTo>
                <a:lnTo>
                  <a:pt x="3043" y="104"/>
                </a:lnTo>
                <a:lnTo>
                  <a:pt x="3110" y="93"/>
                </a:lnTo>
                <a:lnTo>
                  <a:pt x="3173" y="82"/>
                </a:lnTo>
                <a:lnTo>
                  <a:pt x="3229" y="73"/>
                </a:lnTo>
                <a:lnTo>
                  <a:pt x="3278" y="65"/>
                </a:lnTo>
                <a:lnTo>
                  <a:pt x="3316" y="61"/>
                </a:lnTo>
                <a:lnTo>
                  <a:pt x="3346" y="57"/>
                </a:lnTo>
                <a:lnTo>
                  <a:pt x="3368" y="54"/>
                </a:lnTo>
                <a:lnTo>
                  <a:pt x="3385" y="51"/>
                </a:lnTo>
                <a:lnTo>
                  <a:pt x="3397" y="51"/>
                </a:lnTo>
                <a:lnTo>
                  <a:pt x="3407" y="49"/>
                </a:lnTo>
                <a:lnTo>
                  <a:pt x="3415" y="47"/>
                </a:lnTo>
                <a:lnTo>
                  <a:pt x="3426" y="46"/>
                </a:lnTo>
                <a:lnTo>
                  <a:pt x="3438" y="44"/>
                </a:lnTo>
                <a:lnTo>
                  <a:pt x="3456" y="42"/>
                </a:lnTo>
                <a:lnTo>
                  <a:pt x="3479" y="39"/>
                </a:lnTo>
                <a:lnTo>
                  <a:pt x="3511" y="34"/>
                </a:lnTo>
                <a:lnTo>
                  <a:pt x="3553" y="29"/>
                </a:lnTo>
                <a:lnTo>
                  <a:pt x="3605" y="21"/>
                </a:lnTo>
                <a:lnTo>
                  <a:pt x="3671" y="12"/>
                </a:lnTo>
                <a:lnTo>
                  <a:pt x="3753" y="0"/>
                </a:lnTo>
              </a:path>
            </a:pathLst>
          </a:custGeom>
          <a:noFill/>
          <a:ln w="507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28840" y="4703760"/>
            <a:ext cx="1724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junto fact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68960" y="2568600"/>
            <a:ext cx="7812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4760" y="1052640"/>
            <a:ext cx="299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24000" y="1692000"/>
            <a:ext cx="0" cy="541476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0120" y="7089840"/>
            <a:ext cx="688176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340760" y="6788160"/>
            <a:ext cx="195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16880" y="7089840"/>
            <a:ext cx="115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9440" y="3875040"/>
            <a:ext cx="4765680" cy="2020320"/>
          </a:xfrm>
          <a:prstGeom prst="cloudCallout">
            <a:avLst>
              <a:gd name="adj1" fmla="val -56319"/>
              <a:gd name="adj2" fmla="val 106509"/>
            </a:avLst>
          </a:prstGeom>
          <a:solidFill>
            <a:srgbClr val="ffffff"/>
          </a:solidFill>
          <a:ln w="1584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 insumo 1 es </a:t>
            </a: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es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33680" y="3804840"/>
            <a:ext cx="5251680" cy="3594600"/>
          </a:xfrm>
          <a:prstGeom prst="wedgeEllipseCallout">
            <a:avLst>
              <a:gd name="adj1" fmla="val -26643"/>
              <a:gd name="adj2" fmla="val -70518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juntos de puntos técnicamente efi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322200" y="-360"/>
            <a:ext cx="9453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to margi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24000" y="1680840"/>
            <a:ext cx="0" cy="541188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0120" y="7089840"/>
            <a:ext cx="6881760" cy="0"/>
          </a:xfrm>
          <a:prstGeom prst="line">
            <a:avLst/>
          </a:prstGeom>
          <a:ln w="3168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40760" y="6788160"/>
            <a:ext cx="195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16880" y="7089840"/>
            <a:ext cx="115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0120" y="2727360"/>
            <a:ext cx="6434280" cy="4389480"/>
          </a:xfrm>
          <a:custGeom>
            <a:avLst/>
            <a:gdLst/>
            <a:ahLst/>
            <a:rect l="l" t="t" r="r" b="b"/>
            <a:pathLst>
              <a:path w="4053" h="2766">
                <a:moveTo>
                  <a:pt x="0" y="2765"/>
                </a:moveTo>
                <a:lnTo>
                  <a:pt x="13" y="2709"/>
                </a:lnTo>
                <a:lnTo>
                  <a:pt x="23" y="2664"/>
                </a:lnTo>
                <a:lnTo>
                  <a:pt x="32" y="2628"/>
                </a:lnTo>
                <a:lnTo>
                  <a:pt x="40" y="2598"/>
                </a:lnTo>
                <a:lnTo>
                  <a:pt x="44" y="2577"/>
                </a:lnTo>
                <a:lnTo>
                  <a:pt x="48" y="2560"/>
                </a:lnTo>
                <a:lnTo>
                  <a:pt x="51" y="2548"/>
                </a:lnTo>
                <a:lnTo>
                  <a:pt x="54" y="2538"/>
                </a:lnTo>
                <a:lnTo>
                  <a:pt x="54" y="2532"/>
                </a:lnTo>
                <a:lnTo>
                  <a:pt x="56" y="2525"/>
                </a:lnTo>
                <a:lnTo>
                  <a:pt x="58" y="2519"/>
                </a:lnTo>
                <a:lnTo>
                  <a:pt x="61" y="2510"/>
                </a:lnTo>
                <a:lnTo>
                  <a:pt x="63" y="2499"/>
                </a:lnTo>
                <a:lnTo>
                  <a:pt x="67" y="2483"/>
                </a:lnTo>
                <a:lnTo>
                  <a:pt x="72" y="2463"/>
                </a:lnTo>
                <a:lnTo>
                  <a:pt x="79" y="2435"/>
                </a:lnTo>
                <a:lnTo>
                  <a:pt x="86" y="2404"/>
                </a:lnTo>
                <a:lnTo>
                  <a:pt x="94" y="2368"/>
                </a:lnTo>
                <a:lnTo>
                  <a:pt x="104" y="2332"/>
                </a:lnTo>
                <a:lnTo>
                  <a:pt x="114" y="2294"/>
                </a:lnTo>
                <a:lnTo>
                  <a:pt x="124" y="2256"/>
                </a:lnTo>
                <a:lnTo>
                  <a:pt x="135" y="2215"/>
                </a:lnTo>
                <a:lnTo>
                  <a:pt x="146" y="2176"/>
                </a:lnTo>
                <a:lnTo>
                  <a:pt x="158" y="2134"/>
                </a:lnTo>
                <a:lnTo>
                  <a:pt x="168" y="2096"/>
                </a:lnTo>
                <a:lnTo>
                  <a:pt x="179" y="2057"/>
                </a:lnTo>
                <a:lnTo>
                  <a:pt x="190" y="2021"/>
                </a:lnTo>
                <a:lnTo>
                  <a:pt x="201" y="1985"/>
                </a:lnTo>
                <a:lnTo>
                  <a:pt x="210" y="1952"/>
                </a:lnTo>
                <a:lnTo>
                  <a:pt x="220" y="1921"/>
                </a:lnTo>
                <a:lnTo>
                  <a:pt x="229" y="1893"/>
                </a:lnTo>
                <a:lnTo>
                  <a:pt x="237" y="1869"/>
                </a:lnTo>
                <a:lnTo>
                  <a:pt x="245" y="1846"/>
                </a:lnTo>
                <a:lnTo>
                  <a:pt x="256" y="1818"/>
                </a:lnTo>
                <a:lnTo>
                  <a:pt x="269" y="1788"/>
                </a:lnTo>
                <a:lnTo>
                  <a:pt x="285" y="1754"/>
                </a:lnTo>
                <a:lnTo>
                  <a:pt x="301" y="1720"/>
                </a:lnTo>
                <a:lnTo>
                  <a:pt x="320" y="1683"/>
                </a:lnTo>
                <a:lnTo>
                  <a:pt x="340" y="1644"/>
                </a:lnTo>
                <a:lnTo>
                  <a:pt x="362" y="1604"/>
                </a:lnTo>
                <a:lnTo>
                  <a:pt x="384" y="1565"/>
                </a:lnTo>
                <a:lnTo>
                  <a:pt x="406" y="1525"/>
                </a:lnTo>
                <a:lnTo>
                  <a:pt x="429" y="1486"/>
                </a:lnTo>
                <a:lnTo>
                  <a:pt x="453" y="1445"/>
                </a:lnTo>
                <a:lnTo>
                  <a:pt x="476" y="1408"/>
                </a:lnTo>
                <a:lnTo>
                  <a:pt x="500" y="1371"/>
                </a:lnTo>
                <a:lnTo>
                  <a:pt x="522" y="1336"/>
                </a:lnTo>
                <a:lnTo>
                  <a:pt x="544" y="1303"/>
                </a:lnTo>
                <a:lnTo>
                  <a:pt x="567" y="1272"/>
                </a:lnTo>
                <a:lnTo>
                  <a:pt x="594" y="1236"/>
                </a:lnTo>
                <a:lnTo>
                  <a:pt x="624" y="1200"/>
                </a:lnTo>
                <a:lnTo>
                  <a:pt x="659" y="1162"/>
                </a:lnTo>
                <a:lnTo>
                  <a:pt x="695" y="1123"/>
                </a:lnTo>
                <a:lnTo>
                  <a:pt x="734" y="1082"/>
                </a:lnTo>
                <a:lnTo>
                  <a:pt x="775" y="1042"/>
                </a:lnTo>
                <a:lnTo>
                  <a:pt x="817" y="1001"/>
                </a:lnTo>
                <a:lnTo>
                  <a:pt x="859" y="961"/>
                </a:lnTo>
                <a:lnTo>
                  <a:pt x="902" y="922"/>
                </a:lnTo>
                <a:lnTo>
                  <a:pt x="944" y="885"/>
                </a:lnTo>
                <a:lnTo>
                  <a:pt x="987" y="848"/>
                </a:lnTo>
                <a:lnTo>
                  <a:pt x="1028" y="815"/>
                </a:lnTo>
                <a:lnTo>
                  <a:pt x="1069" y="784"/>
                </a:lnTo>
                <a:lnTo>
                  <a:pt x="1107" y="756"/>
                </a:lnTo>
                <a:lnTo>
                  <a:pt x="1144" y="730"/>
                </a:lnTo>
                <a:lnTo>
                  <a:pt x="1182" y="707"/>
                </a:lnTo>
                <a:lnTo>
                  <a:pt x="1229" y="682"/>
                </a:lnTo>
                <a:lnTo>
                  <a:pt x="1282" y="655"/>
                </a:lnTo>
                <a:lnTo>
                  <a:pt x="1344" y="626"/>
                </a:lnTo>
                <a:lnTo>
                  <a:pt x="1410" y="598"/>
                </a:lnTo>
                <a:lnTo>
                  <a:pt x="1481" y="569"/>
                </a:lnTo>
                <a:lnTo>
                  <a:pt x="1555" y="539"/>
                </a:lnTo>
                <a:lnTo>
                  <a:pt x="1634" y="509"/>
                </a:lnTo>
                <a:lnTo>
                  <a:pt x="1713" y="481"/>
                </a:lnTo>
                <a:lnTo>
                  <a:pt x="1795" y="453"/>
                </a:lnTo>
                <a:lnTo>
                  <a:pt x="1877" y="426"/>
                </a:lnTo>
                <a:lnTo>
                  <a:pt x="1960" y="399"/>
                </a:lnTo>
                <a:lnTo>
                  <a:pt x="2041" y="376"/>
                </a:lnTo>
                <a:lnTo>
                  <a:pt x="2120" y="353"/>
                </a:lnTo>
                <a:lnTo>
                  <a:pt x="2197" y="333"/>
                </a:lnTo>
                <a:lnTo>
                  <a:pt x="2270" y="314"/>
                </a:lnTo>
                <a:lnTo>
                  <a:pt x="2343" y="298"/>
                </a:lnTo>
                <a:lnTo>
                  <a:pt x="2422" y="281"/>
                </a:lnTo>
                <a:lnTo>
                  <a:pt x="2504" y="264"/>
                </a:lnTo>
                <a:lnTo>
                  <a:pt x="2590" y="246"/>
                </a:lnTo>
                <a:lnTo>
                  <a:pt x="2678" y="229"/>
                </a:lnTo>
                <a:lnTo>
                  <a:pt x="2768" y="210"/>
                </a:lnTo>
                <a:lnTo>
                  <a:pt x="2858" y="192"/>
                </a:lnTo>
                <a:lnTo>
                  <a:pt x="2949" y="174"/>
                </a:lnTo>
                <a:lnTo>
                  <a:pt x="3037" y="158"/>
                </a:lnTo>
                <a:lnTo>
                  <a:pt x="3123" y="142"/>
                </a:lnTo>
                <a:lnTo>
                  <a:pt x="3206" y="126"/>
                </a:lnTo>
                <a:lnTo>
                  <a:pt x="3285" y="112"/>
                </a:lnTo>
                <a:lnTo>
                  <a:pt x="3358" y="100"/>
                </a:lnTo>
                <a:lnTo>
                  <a:pt x="3425" y="88"/>
                </a:lnTo>
                <a:lnTo>
                  <a:pt x="3485" y="79"/>
                </a:lnTo>
                <a:lnTo>
                  <a:pt x="3539" y="70"/>
                </a:lnTo>
                <a:lnTo>
                  <a:pt x="3580" y="66"/>
                </a:lnTo>
                <a:lnTo>
                  <a:pt x="3612" y="61"/>
                </a:lnTo>
                <a:lnTo>
                  <a:pt x="3636" y="58"/>
                </a:lnTo>
                <a:lnTo>
                  <a:pt x="3654" y="55"/>
                </a:lnTo>
                <a:lnTo>
                  <a:pt x="3667" y="55"/>
                </a:lnTo>
                <a:lnTo>
                  <a:pt x="3678" y="53"/>
                </a:lnTo>
                <a:lnTo>
                  <a:pt x="3687" y="51"/>
                </a:lnTo>
                <a:lnTo>
                  <a:pt x="3699" y="49"/>
                </a:lnTo>
                <a:lnTo>
                  <a:pt x="3712" y="48"/>
                </a:lnTo>
                <a:lnTo>
                  <a:pt x="3731" y="45"/>
                </a:lnTo>
                <a:lnTo>
                  <a:pt x="3756" y="42"/>
                </a:lnTo>
                <a:lnTo>
                  <a:pt x="3790" y="36"/>
                </a:lnTo>
                <a:lnTo>
                  <a:pt x="3835" y="31"/>
                </a:lnTo>
                <a:lnTo>
                  <a:pt x="3892" y="23"/>
                </a:lnTo>
                <a:lnTo>
                  <a:pt x="3963" y="13"/>
                </a:lnTo>
                <a:lnTo>
                  <a:pt x="4052" y="0"/>
                </a:ln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30120" y="1617840"/>
            <a:ext cx="4805280" cy="3652560"/>
            <a:chOff x="330120" y="1617840"/>
            <a:chExt cx="4805280" cy="3652560"/>
          </a:xfrm>
        </p:grpSpPr>
        <p:sp>
          <p:nvSpPr>
            <p:cNvPr id="909" name=""/>
            <p:cNvSpPr/>
            <p:nvPr/>
          </p:nvSpPr>
          <p:spPr>
            <a:xfrm>
              <a:off x="4336920" y="1617840"/>
              <a:ext cx="798480" cy="492120"/>
            </a:xfrm>
            <a:custGeom>
              <a:avLst/>
              <a:gdLst/>
              <a:ahLst/>
              <a:rect l="l" t="t" r="r" b="b"/>
              <a:pathLst>
                <a:path w="503" h="310">
                  <a:moveTo>
                    <a:pt x="487" y="309"/>
                  </a:moveTo>
                  <a:lnTo>
                    <a:pt x="0" y="294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425" y="39"/>
                  </a:lnTo>
                  <a:lnTo>
                    <a:pt x="433" y="85"/>
                  </a:lnTo>
                  <a:lnTo>
                    <a:pt x="456" y="100"/>
                  </a:lnTo>
                  <a:lnTo>
                    <a:pt x="463" y="155"/>
                  </a:lnTo>
                  <a:lnTo>
                    <a:pt x="479" y="193"/>
                  </a:lnTo>
                  <a:lnTo>
                    <a:pt x="494" y="239"/>
                  </a:lnTo>
                  <a:lnTo>
                    <a:pt x="502" y="271"/>
                  </a:lnTo>
                  <a:lnTo>
                    <a:pt x="494" y="294"/>
                  </a:lnTo>
                  <a:lnTo>
                    <a:pt x="494" y="309"/>
                  </a:lnTo>
                  <a:lnTo>
                    <a:pt x="487" y="309"/>
                  </a:lnTo>
                  <a:lnTo>
                    <a:pt x="487" y="309"/>
                  </a:lnTo>
                </a:path>
              </a:pathLst>
            </a:custGeom>
            <a:solidFill>
              <a:srgbClr val="ff5050"/>
            </a:solidFill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34040" y="2103480"/>
              <a:ext cx="77616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30120" y="1628640"/>
              <a:ext cx="4554720" cy="36417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4760" y="1052640"/>
            <a:ext cx="299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54800" y="2905200"/>
            <a:ext cx="7812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82800" y="4071960"/>
            <a:ext cx="0" cy="301788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415800" y="2378160"/>
            <a:ext cx="6019560" cy="1990440"/>
            <a:chOff x="415800" y="2378160"/>
            <a:chExt cx="6019560" cy="1990440"/>
          </a:xfrm>
        </p:grpSpPr>
        <p:sp>
          <p:nvSpPr>
            <p:cNvPr id="916" name=""/>
            <p:cNvSpPr/>
            <p:nvPr/>
          </p:nvSpPr>
          <p:spPr>
            <a:xfrm>
              <a:off x="5493960" y="2378160"/>
              <a:ext cx="941400" cy="280800"/>
            </a:xfrm>
            <a:custGeom>
              <a:avLst/>
              <a:gdLst/>
              <a:ahLst/>
              <a:rect l="l" t="t" r="r" b="b"/>
              <a:pathLst>
                <a:path w="593" h="177">
                  <a:moveTo>
                    <a:pt x="574" y="176"/>
                  </a:moveTo>
                  <a:lnTo>
                    <a:pt x="0" y="167"/>
                  </a:lnTo>
                  <a:lnTo>
                    <a:pt x="437" y="0"/>
                  </a:lnTo>
                  <a:lnTo>
                    <a:pt x="428" y="0"/>
                  </a:lnTo>
                  <a:lnTo>
                    <a:pt x="501" y="22"/>
                  </a:lnTo>
                  <a:lnTo>
                    <a:pt x="510" y="49"/>
                  </a:lnTo>
                  <a:lnTo>
                    <a:pt x="537" y="58"/>
                  </a:lnTo>
                  <a:lnTo>
                    <a:pt x="546" y="88"/>
                  </a:lnTo>
                  <a:lnTo>
                    <a:pt x="565" y="110"/>
                  </a:lnTo>
                  <a:lnTo>
                    <a:pt x="583" y="136"/>
                  </a:lnTo>
                  <a:lnTo>
                    <a:pt x="592" y="154"/>
                  </a:lnTo>
                  <a:lnTo>
                    <a:pt x="583" y="167"/>
                  </a:lnTo>
                  <a:lnTo>
                    <a:pt x="583" y="176"/>
                  </a:lnTo>
                  <a:lnTo>
                    <a:pt x="574" y="176"/>
                  </a:lnTo>
                  <a:lnTo>
                    <a:pt x="574" y="176"/>
                  </a:lnTo>
                </a:path>
              </a:pathLst>
            </a:custGeom>
            <a:solidFill>
              <a:srgbClr val="ff5050"/>
            </a:solidFill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15800" y="2390400"/>
              <a:ext cx="5679720" cy="1978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27000" y="2644920"/>
              <a:ext cx="77652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5029200" y="4242240"/>
            <a:ext cx="3776760" cy="1234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 cae con  </a:t>
            </a:r>
            <a:r>
              <a:rPr b="1" i="1" lang="en-GB" sz="3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3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500" spc="-1" strike="noStrike">
                <a:solidFill>
                  <a:srgbClr val="000000"/>
                </a:solidFill>
                <a:latin typeface="Times New Roman"/>
              </a:rPr>
              <a:t>  si</a:t>
            </a: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500" spc="-1" strike="noStrike">
                <a:solidFill>
                  <a:srgbClr val="000000"/>
                </a:solidFill>
                <a:latin typeface="Times New Roman"/>
              </a:rPr>
              <a:t>G  </a:t>
            </a: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es concav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52800" y="3468600"/>
            <a:ext cx="0" cy="361332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28760" y="1873080"/>
            <a:ext cx="5697000" cy="2887560"/>
            <a:chOff x="428760" y="1873080"/>
            <a:chExt cx="5697000" cy="2887560"/>
          </a:xfrm>
        </p:grpSpPr>
        <p:sp>
          <p:nvSpPr>
            <p:cNvPr id="922" name=""/>
            <p:cNvSpPr/>
            <p:nvPr/>
          </p:nvSpPr>
          <p:spPr>
            <a:xfrm>
              <a:off x="5221440" y="1873080"/>
              <a:ext cx="904320" cy="368640"/>
            </a:xfrm>
            <a:custGeom>
              <a:avLst/>
              <a:gdLst/>
              <a:ahLst/>
              <a:rect l="l" t="t" r="r" b="b"/>
              <a:pathLst>
                <a:path w="593" h="177">
                  <a:moveTo>
                    <a:pt x="574" y="176"/>
                  </a:moveTo>
                  <a:lnTo>
                    <a:pt x="0" y="167"/>
                  </a:lnTo>
                  <a:lnTo>
                    <a:pt x="437" y="0"/>
                  </a:lnTo>
                  <a:lnTo>
                    <a:pt x="428" y="0"/>
                  </a:lnTo>
                  <a:lnTo>
                    <a:pt x="501" y="22"/>
                  </a:lnTo>
                  <a:lnTo>
                    <a:pt x="510" y="49"/>
                  </a:lnTo>
                  <a:lnTo>
                    <a:pt x="537" y="58"/>
                  </a:lnTo>
                  <a:lnTo>
                    <a:pt x="546" y="88"/>
                  </a:lnTo>
                  <a:lnTo>
                    <a:pt x="565" y="110"/>
                  </a:lnTo>
                  <a:lnTo>
                    <a:pt x="583" y="136"/>
                  </a:lnTo>
                  <a:lnTo>
                    <a:pt x="592" y="154"/>
                  </a:lnTo>
                  <a:lnTo>
                    <a:pt x="583" y="167"/>
                  </a:lnTo>
                  <a:lnTo>
                    <a:pt x="583" y="176"/>
                  </a:lnTo>
                  <a:lnTo>
                    <a:pt x="574" y="176"/>
                  </a:lnTo>
                  <a:lnTo>
                    <a:pt x="574" y="176"/>
                  </a:lnTo>
                </a:path>
              </a:pathLst>
            </a:custGeom>
            <a:solidFill>
              <a:srgbClr val="ff5050"/>
            </a:solidFill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428760" y="1891800"/>
              <a:ext cx="5375160" cy="28688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72120" y="2260440"/>
              <a:ext cx="734760" cy="180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2263680" y="3836880"/>
            <a:ext cx="4680" cy="3264120"/>
          </a:xfrm>
          <a:prstGeom prst="line">
            <a:avLst/>
          </a:prstGeom>
          <a:ln w="47520">
            <a:solidFill>
              <a:srgbClr val="ff0000"/>
            </a:solidFill>
            <a:prstDash val="dash"/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46680" y="812880"/>
            <a:ext cx="2630520" cy="763560"/>
          </a:xfrm>
          <a:prstGeom prst="wedgeRoundRectCallout">
            <a:avLst>
              <a:gd name="adj1" fmla="val -46680"/>
              <a:gd name="adj2" fmla="val 95944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ndiente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28560" y="1911240"/>
            <a:ext cx="5253120" cy="515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22200" y="9324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nceptos Clav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34920" y="2135160"/>
            <a:ext cx="8425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Eficiencia técnica</a:t>
            </a:r>
            <a:br>
              <a:rPr sz="3300"/>
            </a:b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20640000">
            <a:off x="1963800" y="4541760"/>
            <a:ext cx="8569440" cy="2584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Brush738 BT"/>
              </a:rPr>
              <a:t>Esto será util en el capitulo que sigu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934920" y="3022560"/>
            <a:ext cx="8425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Rendimientos a escala</a:t>
            </a:r>
            <a:br>
              <a:rPr sz="3300"/>
            </a:b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34920" y="3951360"/>
            <a:ext cx="8425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Convexidad</a:t>
            </a:r>
            <a:br>
              <a:rPr sz="3300"/>
            </a:b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34920" y="4962600"/>
            <a:ext cx="4938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Tasa marginal de Sustitució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34920" y="6283440"/>
            <a:ext cx="84250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Producto marginal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0640000">
            <a:off x="1295280" y="1414080"/>
            <a:ext cx="8202600" cy="1623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Todos estos conceptos son importantes para el problema de la optimización que enfrentará la fir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7160" y="1438200"/>
            <a:ext cx="503856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5100" spc="-1" strike="noStrike">
                <a:solidFill>
                  <a:srgbClr val="810000"/>
                </a:solidFill>
                <a:latin typeface="Brush738 BT"/>
              </a:rPr>
              <a:t>En la siguiente presentación establecemos algunos elementos necesarios para el análisis de la empresa: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6040" y="358920"/>
            <a:ext cx="945360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o básico de la producció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3760" y="2886120"/>
            <a:ext cx="3984840" cy="2576520"/>
          </a:xfrm>
          <a:prstGeom prst="rect">
            <a:avLst/>
          </a:prstGeom>
          <a:solidFill>
            <a:srgbClr val="ffffc2"/>
          </a:solidFill>
          <a:ln w="936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6440" indent="-13644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ficiencia técnic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-13644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Rendimientos a</a:t>
            </a:r>
            <a:r>
              <a:rPr b="0" lang="es-A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-13644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onvexid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-13644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Sustituibilid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-13644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Producto Margin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20800"/>
            <a:ext cx="503568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5100" spc="-1" strike="noStrike">
                <a:solidFill>
                  <a:srgbClr val="810000"/>
                </a:solidFill>
                <a:latin typeface="Brush738 BT"/>
              </a:rPr>
              <a:t>...y (más adelante) asumiremos que dicha empresa se encuentra en un medio competitivo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680" y="2351160"/>
            <a:ext cx="50356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5100" spc="-1" strike="noStrike">
                <a:solidFill>
                  <a:srgbClr val="810000"/>
                </a:solidFill>
                <a:latin typeface="Brush738 BT"/>
              </a:rPr>
              <a:t>Lo haremos en el contexto de una empresa productora de un solo producto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2001960"/>
            <a:ext cx="50356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5100" spc="-1" strike="noStrike">
                <a:solidFill>
                  <a:srgbClr val="810000"/>
                </a:solidFill>
                <a:latin typeface="Brush738 BT"/>
              </a:rPr>
              <a:t>Pero primero necesitamos las partes estructurales de un modelo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2666880"/>
            <a:ext cx="9145800" cy="3962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otación: Cantidad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5040" y="2793960"/>
            <a:ext cx="255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9600" y="3117960"/>
            <a:ext cx="82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05480" y="2957400"/>
            <a:ext cx="3695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cantidad del insumo </a:t>
            </a:r>
            <a:r>
              <a:rPr b="1" i="1" lang="en-GB" sz="3000" spc="-1" strike="noStrike">
                <a:solidFill>
                  <a:srgbClr val="400080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0880" y="3738600"/>
            <a:ext cx="3651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z  ,z  ,...,z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70000" y="4114800"/>
            <a:ext cx="212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     2         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5920" y="3898800"/>
            <a:ext cx="348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vector de insum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8680" y="5261040"/>
            <a:ext cx="4208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7960" y="5243400"/>
            <a:ext cx="4006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cantidad de produc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Notación: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666880"/>
            <a:ext cx="9145800" cy="3962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90640" y="2793960"/>
            <a:ext cx="8502480" cy="776160"/>
            <a:chOff x="890640" y="2793960"/>
            <a:chExt cx="8502480" cy="776160"/>
          </a:xfrm>
        </p:grpSpPr>
        <p:sp>
          <p:nvSpPr>
            <p:cNvPr id="114" name=""/>
            <p:cNvSpPr/>
            <p:nvPr/>
          </p:nvSpPr>
          <p:spPr>
            <a:xfrm>
              <a:off x="890640" y="2793960"/>
              <a:ext cx="2700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4920" y="3117960"/>
              <a:ext cx="87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2760" y="2933640"/>
              <a:ext cx="36003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000" spc="-1" strike="noStrike">
                  <a:solidFill>
                    <a:srgbClr val="400080"/>
                  </a:solidFill>
                  <a:latin typeface="Arial"/>
                </a:rPr>
                <a:t>precio del insumo </a:t>
              </a:r>
              <a:r>
                <a:rPr b="1" i="1" lang="en-GB" sz="3000" spc="-1" strike="noStrike">
                  <a:solidFill>
                    <a:srgbClr val="400080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920880" y="3738600"/>
            <a:ext cx="39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  ,w  ,...,w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8600" y="4114800"/>
            <a:ext cx="212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      2          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88160" y="3851280"/>
            <a:ext cx="34858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3000" spc="-1" strike="noStrike">
                <a:solidFill>
                  <a:srgbClr val="400080"/>
                </a:solidFill>
                <a:latin typeface="Arial"/>
              </a:rPr>
              <a:t>Vector de precio de insum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5400" y="5241960"/>
            <a:ext cx="8470800" cy="561960"/>
            <a:chOff x="995400" y="5241960"/>
            <a:chExt cx="8470800" cy="561960"/>
          </a:xfrm>
        </p:grpSpPr>
        <p:sp>
          <p:nvSpPr>
            <p:cNvPr id="121" name=""/>
            <p:cNvSpPr/>
            <p:nvPr/>
          </p:nvSpPr>
          <p:spPr>
            <a:xfrm>
              <a:off x="995400" y="5259240"/>
              <a:ext cx="3841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5240" y="5241960"/>
              <a:ext cx="3720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3000" spc="-1" strike="noStrike">
                  <a:solidFill>
                    <a:srgbClr val="400080"/>
                  </a:solidFill>
                  <a:latin typeface="Arial"/>
                </a:rPr>
                <a:t>Precio del produc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2362320"/>
            <a:ext cx="8078760" cy="20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0800000"/>
          </a:gra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46040" y="739800"/>
            <a:ext cx="9453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s-AR" sz="4200" spc="-1" strike="noStrike">
                <a:solidFill>
                  <a:srgbClr val="000000"/>
                </a:solidFill>
                <a:latin typeface="Times New Roman"/>
              </a:rPr>
              <a:t>La función de producción para un solo bi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2240" y="2825640"/>
            <a:ext cx="9337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Q  </a:t>
            </a:r>
            <a:r>
              <a:rPr b="0" lang="en-GB" sz="6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6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n-GB" sz="6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6200" spc="-1" strike="noStrike">
                <a:solidFill>
                  <a:srgbClr val="000000"/>
                </a:solidFill>
                <a:latin typeface="Times New Roman"/>
              </a:rPr>
              <a:t>, ....,  z</a:t>
            </a:r>
            <a:r>
              <a:rPr b="0" i="1" lang="en-GB" sz="6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6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2362320"/>
            <a:ext cx="5486400" cy="20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0800000"/>
          </a:gra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46040" y="622080"/>
            <a:ext cx="94536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ponentes de la rel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793960"/>
            <a:ext cx="3996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6200" spc="-1" strike="noStrike">
                <a:solidFill>
                  <a:srgbClr val="000000"/>
                </a:solidFill>
                <a:latin typeface="Times New Roman"/>
              </a:rPr>
              <a:t>Q  </a:t>
            </a:r>
            <a:r>
              <a:rPr b="0" lang="en-US" sz="6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6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76400" y="3633840"/>
            <a:ext cx="3624120" cy="1747800"/>
            <a:chOff x="1076400" y="3633840"/>
            <a:chExt cx="3624120" cy="1747800"/>
          </a:xfrm>
        </p:grpSpPr>
        <p:sp>
          <p:nvSpPr>
            <p:cNvPr id="130" name=""/>
            <p:cNvSpPr/>
            <p:nvPr/>
          </p:nvSpPr>
          <p:spPr>
            <a:xfrm>
              <a:off x="1076400" y="3633840"/>
              <a:ext cx="3624120" cy="1747800"/>
            </a:xfrm>
            <a:custGeom>
              <a:avLst/>
              <a:gdLst/>
              <a:ahLst/>
              <a:rect l="l" t="t" r="r" b="b"/>
              <a:pathLst>
                <a:path w="2283" h="1101">
                  <a:moveTo>
                    <a:pt x="1678" y="185"/>
                  </a:moveTo>
                  <a:lnTo>
                    <a:pt x="1530" y="155"/>
                  </a:lnTo>
                  <a:lnTo>
                    <a:pt x="1380" y="136"/>
                  </a:lnTo>
                  <a:lnTo>
                    <a:pt x="1231" y="127"/>
                  </a:lnTo>
                  <a:lnTo>
                    <a:pt x="1085" y="126"/>
                  </a:lnTo>
                  <a:lnTo>
                    <a:pt x="940" y="136"/>
                  </a:lnTo>
                  <a:lnTo>
                    <a:pt x="801" y="152"/>
                  </a:lnTo>
                  <a:lnTo>
                    <a:pt x="668" y="176"/>
                  </a:lnTo>
                  <a:lnTo>
                    <a:pt x="544" y="206"/>
                  </a:lnTo>
                  <a:lnTo>
                    <a:pt x="426" y="243"/>
                  </a:lnTo>
                  <a:lnTo>
                    <a:pt x="322" y="284"/>
                  </a:lnTo>
                  <a:lnTo>
                    <a:pt x="228" y="331"/>
                  </a:lnTo>
                  <a:lnTo>
                    <a:pt x="149" y="380"/>
                  </a:lnTo>
                  <a:lnTo>
                    <a:pt x="84" y="434"/>
                  </a:lnTo>
                  <a:lnTo>
                    <a:pt x="38" y="490"/>
                  </a:lnTo>
                  <a:lnTo>
                    <a:pt x="8" y="549"/>
                  </a:lnTo>
                  <a:lnTo>
                    <a:pt x="0" y="607"/>
                  </a:lnTo>
                  <a:lnTo>
                    <a:pt x="26" y="724"/>
                  </a:lnTo>
                  <a:lnTo>
                    <a:pt x="99" y="825"/>
                  </a:lnTo>
                  <a:lnTo>
                    <a:pt x="209" y="910"/>
                  </a:lnTo>
                  <a:lnTo>
                    <a:pt x="354" y="978"/>
                  </a:lnTo>
                  <a:lnTo>
                    <a:pt x="523" y="1032"/>
                  </a:lnTo>
                  <a:lnTo>
                    <a:pt x="712" y="1070"/>
                  </a:lnTo>
                  <a:lnTo>
                    <a:pt x="915" y="1092"/>
                  </a:lnTo>
                  <a:lnTo>
                    <a:pt x="1125" y="1100"/>
                  </a:lnTo>
                  <a:lnTo>
                    <a:pt x="1334" y="1093"/>
                  </a:lnTo>
                  <a:lnTo>
                    <a:pt x="1538" y="1070"/>
                  </a:lnTo>
                  <a:lnTo>
                    <a:pt x="1730" y="1034"/>
                  </a:lnTo>
                  <a:lnTo>
                    <a:pt x="1904" y="981"/>
                  </a:lnTo>
                  <a:lnTo>
                    <a:pt x="2052" y="916"/>
                  </a:lnTo>
                  <a:lnTo>
                    <a:pt x="2168" y="834"/>
                  </a:lnTo>
                  <a:lnTo>
                    <a:pt x="2247" y="740"/>
                  </a:lnTo>
                  <a:lnTo>
                    <a:pt x="2282" y="630"/>
                  </a:lnTo>
                  <a:lnTo>
                    <a:pt x="2282" y="604"/>
                  </a:lnTo>
                  <a:lnTo>
                    <a:pt x="2278" y="576"/>
                  </a:lnTo>
                  <a:lnTo>
                    <a:pt x="2270" y="549"/>
                  </a:lnTo>
                  <a:lnTo>
                    <a:pt x="2258" y="521"/>
                  </a:lnTo>
                  <a:lnTo>
                    <a:pt x="2243" y="495"/>
                  </a:lnTo>
                  <a:lnTo>
                    <a:pt x="2224" y="468"/>
                  </a:lnTo>
                  <a:lnTo>
                    <a:pt x="2202" y="442"/>
                  </a:lnTo>
                  <a:lnTo>
                    <a:pt x="2178" y="416"/>
                  </a:lnTo>
                  <a:lnTo>
                    <a:pt x="2150" y="392"/>
                  </a:lnTo>
                  <a:lnTo>
                    <a:pt x="2120" y="368"/>
                  </a:lnTo>
                  <a:lnTo>
                    <a:pt x="2088" y="345"/>
                  </a:lnTo>
                  <a:lnTo>
                    <a:pt x="2053" y="323"/>
                  </a:lnTo>
                  <a:lnTo>
                    <a:pt x="2016" y="303"/>
                  </a:lnTo>
                  <a:lnTo>
                    <a:pt x="1978" y="283"/>
                  </a:lnTo>
                  <a:lnTo>
                    <a:pt x="1938" y="265"/>
                  </a:lnTo>
                  <a:lnTo>
                    <a:pt x="1897" y="248"/>
                  </a:lnTo>
                  <a:lnTo>
                    <a:pt x="2034" y="134"/>
                  </a:lnTo>
                  <a:lnTo>
                    <a:pt x="2104" y="188"/>
                  </a:lnTo>
                  <a:lnTo>
                    <a:pt x="2175" y="0"/>
                  </a:lnTo>
                  <a:lnTo>
                    <a:pt x="1860" y="0"/>
                  </a:lnTo>
                  <a:lnTo>
                    <a:pt x="1959" y="74"/>
                  </a:lnTo>
                  <a:lnTo>
                    <a:pt x="1678" y="185"/>
                  </a:lnTo>
                  <a:lnTo>
                    <a:pt x="1678" y="185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63760" y="4202280"/>
              <a:ext cx="31827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tecnologí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967120" y="3657600"/>
            <a:ext cx="2485800" cy="1747800"/>
            <a:chOff x="2967120" y="3657600"/>
            <a:chExt cx="2485800" cy="1747800"/>
          </a:xfrm>
        </p:grpSpPr>
        <p:sp>
          <p:nvSpPr>
            <p:cNvPr id="133" name=""/>
            <p:cNvSpPr/>
            <p:nvPr/>
          </p:nvSpPr>
          <p:spPr>
            <a:xfrm>
              <a:off x="2967120" y="3657600"/>
              <a:ext cx="2474640" cy="1747800"/>
            </a:xfrm>
            <a:custGeom>
              <a:avLst/>
              <a:gdLst/>
              <a:ahLst/>
              <a:rect l="l" t="t" r="r" b="b"/>
              <a:pathLst>
                <a:path w="1483" h="1101">
                  <a:moveTo>
                    <a:pt x="1090" y="185"/>
                  </a:moveTo>
                  <a:lnTo>
                    <a:pt x="993" y="155"/>
                  </a:lnTo>
                  <a:lnTo>
                    <a:pt x="896" y="136"/>
                  </a:lnTo>
                  <a:lnTo>
                    <a:pt x="799" y="127"/>
                  </a:lnTo>
                  <a:lnTo>
                    <a:pt x="704" y="126"/>
                  </a:lnTo>
                  <a:lnTo>
                    <a:pt x="610" y="136"/>
                  </a:lnTo>
                  <a:lnTo>
                    <a:pt x="520" y="152"/>
                  </a:lnTo>
                  <a:lnTo>
                    <a:pt x="434" y="176"/>
                  </a:lnTo>
                  <a:lnTo>
                    <a:pt x="353" y="206"/>
                  </a:lnTo>
                  <a:lnTo>
                    <a:pt x="277" y="243"/>
                  </a:lnTo>
                  <a:lnTo>
                    <a:pt x="208" y="284"/>
                  </a:lnTo>
                  <a:lnTo>
                    <a:pt x="148" y="331"/>
                  </a:lnTo>
                  <a:lnTo>
                    <a:pt x="97" y="380"/>
                  </a:lnTo>
                  <a:lnTo>
                    <a:pt x="54" y="435"/>
                  </a:lnTo>
                  <a:lnTo>
                    <a:pt x="24" y="490"/>
                  </a:lnTo>
                  <a:lnTo>
                    <a:pt x="5" y="549"/>
                  </a:lnTo>
                  <a:lnTo>
                    <a:pt x="0" y="607"/>
                  </a:lnTo>
                  <a:lnTo>
                    <a:pt x="16" y="724"/>
                  </a:lnTo>
                  <a:lnTo>
                    <a:pt x="64" y="826"/>
                  </a:lnTo>
                  <a:lnTo>
                    <a:pt x="135" y="910"/>
                  </a:lnTo>
                  <a:lnTo>
                    <a:pt x="230" y="979"/>
                  </a:lnTo>
                  <a:lnTo>
                    <a:pt x="339" y="1033"/>
                  </a:lnTo>
                  <a:lnTo>
                    <a:pt x="462" y="1070"/>
                  </a:lnTo>
                  <a:lnTo>
                    <a:pt x="594" y="1092"/>
                  </a:lnTo>
                  <a:lnTo>
                    <a:pt x="731" y="1100"/>
                  </a:lnTo>
                  <a:lnTo>
                    <a:pt x="867" y="1093"/>
                  </a:lnTo>
                  <a:lnTo>
                    <a:pt x="1000" y="1071"/>
                  </a:lnTo>
                  <a:lnTo>
                    <a:pt x="1124" y="1034"/>
                  </a:lnTo>
                  <a:lnTo>
                    <a:pt x="1237" y="982"/>
                  </a:lnTo>
                  <a:lnTo>
                    <a:pt x="1332" y="916"/>
                  </a:lnTo>
                  <a:lnTo>
                    <a:pt x="1408" y="834"/>
                  </a:lnTo>
                  <a:lnTo>
                    <a:pt x="1460" y="740"/>
                  </a:lnTo>
                  <a:lnTo>
                    <a:pt x="1482" y="630"/>
                  </a:lnTo>
                  <a:lnTo>
                    <a:pt x="1482" y="604"/>
                  </a:lnTo>
                  <a:lnTo>
                    <a:pt x="1480" y="576"/>
                  </a:lnTo>
                  <a:lnTo>
                    <a:pt x="1474" y="550"/>
                  </a:lnTo>
                  <a:lnTo>
                    <a:pt x="1467" y="522"/>
                  </a:lnTo>
                  <a:lnTo>
                    <a:pt x="1456" y="495"/>
                  </a:lnTo>
                  <a:lnTo>
                    <a:pt x="1444" y="468"/>
                  </a:lnTo>
                  <a:lnTo>
                    <a:pt x="1430" y="442"/>
                  </a:lnTo>
                  <a:lnTo>
                    <a:pt x="1414" y="416"/>
                  </a:lnTo>
                  <a:lnTo>
                    <a:pt x="1396" y="392"/>
                  </a:lnTo>
                  <a:lnTo>
                    <a:pt x="1377" y="368"/>
                  </a:lnTo>
                  <a:lnTo>
                    <a:pt x="1355" y="346"/>
                  </a:lnTo>
                  <a:lnTo>
                    <a:pt x="1333" y="323"/>
                  </a:lnTo>
                  <a:lnTo>
                    <a:pt x="1309" y="303"/>
                  </a:lnTo>
                  <a:lnTo>
                    <a:pt x="1285" y="283"/>
                  </a:lnTo>
                  <a:lnTo>
                    <a:pt x="1258" y="266"/>
                  </a:lnTo>
                  <a:lnTo>
                    <a:pt x="1232" y="248"/>
                  </a:lnTo>
                  <a:lnTo>
                    <a:pt x="1322" y="134"/>
                  </a:lnTo>
                  <a:lnTo>
                    <a:pt x="1366" y="188"/>
                  </a:lnTo>
                  <a:lnTo>
                    <a:pt x="1413" y="0"/>
                  </a:lnTo>
                  <a:lnTo>
                    <a:pt x="1208" y="0"/>
                  </a:lnTo>
                  <a:lnTo>
                    <a:pt x="1272" y="75"/>
                  </a:lnTo>
                  <a:lnTo>
                    <a:pt x="1090" y="185"/>
                  </a:lnTo>
                  <a:lnTo>
                    <a:pt x="1090" y="185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30640" y="4227480"/>
              <a:ext cx="222228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insumo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0360" y="3505320"/>
            <a:ext cx="2880000" cy="1746000"/>
            <a:chOff x="90360" y="3505320"/>
            <a:chExt cx="2880000" cy="1746000"/>
          </a:xfrm>
        </p:grpSpPr>
        <p:sp>
          <p:nvSpPr>
            <p:cNvPr id="136" name=""/>
            <p:cNvSpPr/>
            <p:nvPr/>
          </p:nvSpPr>
          <p:spPr>
            <a:xfrm>
              <a:off x="90360" y="3505320"/>
              <a:ext cx="2880000" cy="1746000"/>
            </a:xfrm>
            <a:custGeom>
              <a:avLst/>
              <a:gdLst/>
              <a:ahLst/>
              <a:rect l="l" t="t" r="r" b="b"/>
              <a:pathLst>
                <a:path w="1484" h="1100">
                  <a:moveTo>
                    <a:pt x="1090" y="185"/>
                  </a:moveTo>
                  <a:lnTo>
                    <a:pt x="994" y="155"/>
                  </a:lnTo>
                  <a:lnTo>
                    <a:pt x="897" y="135"/>
                  </a:lnTo>
                  <a:lnTo>
                    <a:pt x="800" y="127"/>
                  </a:lnTo>
                  <a:lnTo>
                    <a:pt x="705" y="126"/>
                  </a:lnTo>
                  <a:lnTo>
                    <a:pt x="610" y="135"/>
                  </a:lnTo>
                  <a:lnTo>
                    <a:pt x="521" y="151"/>
                  </a:lnTo>
                  <a:lnTo>
                    <a:pt x="434" y="175"/>
                  </a:lnTo>
                  <a:lnTo>
                    <a:pt x="354" y="205"/>
                  </a:lnTo>
                  <a:lnTo>
                    <a:pt x="277" y="243"/>
                  </a:lnTo>
                  <a:lnTo>
                    <a:pt x="209" y="284"/>
                  </a:lnTo>
                  <a:lnTo>
                    <a:pt x="148" y="331"/>
                  </a:lnTo>
                  <a:lnTo>
                    <a:pt x="97" y="380"/>
                  </a:lnTo>
                  <a:lnTo>
                    <a:pt x="54" y="434"/>
                  </a:lnTo>
                  <a:lnTo>
                    <a:pt x="24" y="490"/>
                  </a:lnTo>
                  <a:lnTo>
                    <a:pt x="5" y="548"/>
                  </a:lnTo>
                  <a:lnTo>
                    <a:pt x="0" y="606"/>
                  </a:lnTo>
                  <a:lnTo>
                    <a:pt x="16" y="724"/>
                  </a:lnTo>
                  <a:lnTo>
                    <a:pt x="64" y="825"/>
                  </a:lnTo>
                  <a:lnTo>
                    <a:pt x="136" y="910"/>
                  </a:lnTo>
                  <a:lnTo>
                    <a:pt x="230" y="978"/>
                  </a:lnTo>
                  <a:lnTo>
                    <a:pt x="339" y="1032"/>
                  </a:lnTo>
                  <a:lnTo>
                    <a:pt x="463" y="1069"/>
                  </a:lnTo>
                  <a:lnTo>
                    <a:pt x="594" y="1092"/>
                  </a:lnTo>
                  <a:lnTo>
                    <a:pt x="731" y="1099"/>
                  </a:lnTo>
                  <a:lnTo>
                    <a:pt x="867" y="1093"/>
                  </a:lnTo>
                  <a:lnTo>
                    <a:pt x="1000" y="1070"/>
                  </a:lnTo>
                  <a:lnTo>
                    <a:pt x="1124" y="1033"/>
                  </a:lnTo>
                  <a:lnTo>
                    <a:pt x="1237" y="981"/>
                  </a:lnTo>
                  <a:lnTo>
                    <a:pt x="1332" y="915"/>
                  </a:lnTo>
                  <a:lnTo>
                    <a:pt x="1409" y="833"/>
                  </a:lnTo>
                  <a:lnTo>
                    <a:pt x="1460" y="739"/>
                  </a:lnTo>
                  <a:lnTo>
                    <a:pt x="1483" y="629"/>
                  </a:lnTo>
                  <a:lnTo>
                    <a:pt x="1482" y="603"/>
                  </a:lnTo>
                  <a:lnTo>
                    <a:pt x="1480" y="575"/>
                  </a:lnTo>
                  <a:lnTo>
                    <a:pt x="1474" y="549"/>
                  </a:lnTo>
                  <a:lnTo>
                    <a:pt x="1467" y="521"/>
                  </a:lnTo>
                  <a:lnTo>
                    <a:pt x="1457" y="495"/>
                  </a:lnTo>
                  <a:lnTo>
                    <a:pt x="1445" y="468"/>
                  </a:lnTo>
                  <a:lnTo>
                    <a:pt x="1430" y="442"/>
                  </a:lnTo>
                  <a:lnTo>
                    <a:pt x="1415" y="415"/>
                  </a:lnTo>
                  <a:lnTo>
                    <a:pt x="1397" y="391"/>
                  </a:lnTo>
                  <a:lnTo>
                    <a:pt x="1378" y="367"/>
                  </a:lnTo>
                  <a:lnTo>
                    <a:pt x="1356" y="345"/>
                  </a:lnTo>
                  <a:lnTo>
                    <a:pt x="1334" y="323"/>
                  </a:lnTo>
                  <a:lnTo>
                    <a:pt x="1310" y="303"/>
                  </a:lnTo>
                  <a:lnTo>
                    <a:pt x="1285" y="283"/>
                  </a:lnTo>
                  <a:lnTo>
                    <a:pt x="1259" y="265"/>
                  </a:lnTo>
                  <a:lnTo>
                    <a:pt x="1233" y="247"/>
                  </a:lnTo>
                  <a:lnTo>
                    <a:pt x="1322" y="133"/>
                  </a:lnTo>
                  <a:lnTo>
                    <a:pt x="1367" y="188"/>
                  </a:lnTo>
                  <a:lnTo>
                    <a:pt x="1413" y="0"/>
                  </a:lnTo>
                  <a:lnTo>
                    <a:pt x="1208" y="0"/>
                  </a:lnTo>
                  <a:lnTo>
                    <a:pt x="1273" y="74"/>
                  </a:lnTo>
                  <a:lnTo>
                    <a:pt x="1090" y="185"/>
                  </a:lnTo>
                  <a:lnTo>
                    <a:pt x="1090" y="185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3760" y="4073400"/>
              <a:ext cx="254484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Product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86200" y="3733920"/>
            <a:ext cx="6080040" cy="3857400"/>
            <a:chOff x="3886200" y="3733920"/>
            <a:chExt cx="6080040" cy="3857400"/>
          </a:xfrm>
        </p:grpSpPr>
        <p:sp>
          <p:nvSpPr>
            <p:cNvPr id="139" name=""/>
            <p:cNvSpPr/>
            <p:nvPr/>
          </p:nvSpPr>
          <p:spPr>
            <a:xfrm>
              <a:off x="3886200" y="3733920"/>
              <a:ext cx="6080040" cy="3857400"/>
            </a:xfrm>
            <a:custGeom>
              <a:avLst/>
              <a:gdLst/>
              <a:ahLst/>
              <a:rect l="l" t="t" r="r" b="b"/>
              <a:pathLst>
                <a:path w="3830" h="1790">
                  <a:moveTo>
                    <a:pt x="1014" y="300"/>
                  </a:moveTo>
                  <a:lnTo>
                    <a:pt x="1261" y="252"/>
                  </a:lnTo>
                  <a:lnTo>
                    <a:pt x="1511" y="220"/>
                  </a:lnTo>
                  <a:lnTo>
                    <a:pt x="1760" y="206"/>
                  </a:lnTo>
                  <a:lnTo>
                    <a:pt x="2007" y="204"/>
                  </a:lnTo>
                  <a:lnTo>
                    <a:pt x="2248" y="219"/>
                  </a:lnTo>
                  <a:lnTo>
                    <a:pt x="2482" y="246"/>
                  </a:lnTo>
                  <a:lnTo>
                    <a:pt x="2705" y="285"/>
                  </a:lnTo>
                  <a:lnTo>
                    <a:pt x="2916" y="334"/>
                  </a:lnTo>
                  <a:lnTo>
                    <a:pt x="3110" y="394"/>
                  </a:lnTo>
                  <a:lnTo>
                    <a:pt x="3287" y="461"/>
                  </a:lnTo>
                  <a:lnTo>
                    <a:pt x="3442" y="537"/>
                  </a:lnTo>
                  <a:lnTo>
                    <a:pt x="3577" y="618"/>
                  </a:lnTo>
                  <a:lnTo>
                    <a:pt x="3684" y="706"/>
                  </a:lnTo>
                  <a:lnTo>
                    <a:pt x="3764" y="797"/>
                  </a:lnTo>
                  <a:lnTo>
                    <a:pt x="3812" y="891"/>
                  </a:lnTo>
                  <a:lnTo>
                    <a:pt x="3829" y="987"/>
                  </a:lnTo>
                  <a:lnTo>
                    <a:pt x="3782" y="1178"/>
                  </a:lnTo>
                  <a:lnTo>
                    <a:pt x="3661" y="1341"/>
                  </a:lnTo>
                  <a:lnTo>
                    <a:pt x="3474" y="1480"/>
                  </a:lnTo>
                  <a:lnTo>
                    <a:pt x="3234" y="1591"/>
                  </a:lnTo>
                  <a:lnTo>
                    <a:pt x="2948" y="1679"/>
                  </a:lnTo>
                  <a:lnTo>
                    <a:pt x="2631" y="1740"/>
                  </a:lnTo>
                  <a:lnTo>
                    <a:pt x="2291" y="1777"/>
                  </a:lnTo>
                  <a:lnTo>
                    <a:pt x="1940" y="1789"/>
                  </a:lnTo>
                  <a:lnTo>
                    <a:pt x="1587" y="1777"/>
                  </a:lnTo>
                  <a:lnTo>
                    <a:pt x="1246" y="1740"/>
                  </a:lnTo>
                  <a:lnTo>
                    <a:pt x="924" y="1681"/>
                  </a:lnTo>
                  <a:lnTo>
                    <a:pt x="634" y="1596"/>
                  </a:lnTo>
                  <a:lnTo>
                    <a:pt x="385" y="1488"/>
                  </a:lnTo>
                  <a:lnTo>
                    <a:pt x="190" y="1357"/>
                  </a:lnTo>
                  <a:lnTo>
                    <a:pt x="58" y="1203"/>
                  </a:lnTo>
                  <a:lnTo>
                    <a:pt x="2" y="1025"/>
                  </a:lnTo>
                  <a:lnTo>
                    <a:pt x="0" y="981"/>
                  </a:lnTo>
                  <a:lnTo>
                    <a:pt x="7" y="936"/>
                  </a:lnTo>
                  <a:lnTo>
                    <a:pt x="20" y="892"/>
                  </a:lnTo>
                  <a:lnTo>
                    <a:pt x="40" y="847"/>
                  </a:lnTo>
                  <a:lnTo>
                    <a:pt x="65" y="804"/>
                  </a:lnTo>
                  <a:lnTo>
                    <a:pt x="96" y="760"/>
                  </a:lnTo>
                  <a:lnTo>
                    <a:pt x="133" y="718"/>
                  </a:lnTo>
                  <a:lnTo>
                    <a:pt x="175" y="676"/>
                  </a:lnTo>
                  <a:lnTo>
                    <a:pt x="220" y="636"/>
                  </a:lnTo>
                  <a:lnTo>
                    <a:pt x="271" y="597"/>
                  </a:lnTo>
                  <a:lnTo>
                    <a:pt x="325" y="560"/>
                  </a:lnTo>
                  <a:lnTo>
                    <a:pt x="384" y="524"/>
                  </a:lnTo>
                  <a:lnTo>
                    <a:pt x="444" y="491"/>
                  </a:lnTo>
                  <a:lnTo>
                    <a:pt x="509" y="460"/>
                  </a:lnTo>
                  <a:lnTo>
                    <a:pt x="576" y="430"/>
                  </a:lnTo>
                  <a:lnTo>
                    <a:pt x="647" y="403"/>
                  </a:lnTo>
                  <a:lnTo>
                    <a:pt x="417" y="218"/>
                  </a:lnTo>
                  <a:lnTo>
                    <a:pt x="301" y="306"/>
                  </a:lnTo>
                  <a:lnTo>
                    <a:pt x="182" y="0"/>
                  </a:lnTo>
                  <a:lnTo>
                    <a:pt x="710" y="0"/>
                  </a:lnTo>
                  <a:lnTo>
                    <a:pt x="545" y="121"/>
                  </a:lnTo>
                  <a:lnTo>
                    <a:pt x="1014" y="300"/>
                  </a:lnTo>
                  <a:lnTo>
                    <a:pt x="1014" y="300"/>
                  </a:lnTo>
                </a:path>
              </a:pathLst>
            </a:custGeom>
            <a:solidFill>
              <a:srgbClr val="ffffc2"/>
            </a:solidFill>
            <a:ln w="316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4240" y="4818240"/>
              <a:ext cx="481140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Está bien, pero ¿por qué no el signo "=" acá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46040" y="622080"/>
            <a:ext cx="94536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significado de la fun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62080" y="2362320"/>
            <a:ext cx="8766000" cy="4938480"/>
            <a:chOff x="262080" y="2362320"/>
            <a:chExt cx="8766000" cy="4938480"/>
          </a:xfrm>
        </p:grpSpPr>
        <p:grpSp>
          <p:nvGrpSpPr>
            <p:cNvPr id="143" name=""/>
            <p:cNvGrpSpPr/>
            <p:nvPr/>
          </p:nvGrpSpPr>
          <p:grpSpPr>
            <a:xfrm>
              <a:off x="262080" y="2362320"/>
              <a:ext cx="8539200" cy="4938480"/>
              <a:chOff x="262080" y="2362320"/>
              <a:chExt cx="8539200" cy="49384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62080" y="2362320"/>
                <a:ext cx="8539200" cy="4938480"/>
                <a:chOff x="262080" y="2362320"/>
                <a:chExt cx="8539200" cy="49384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447920" y="2362320"/>
                  <a:ext cx="5486400" cy="2057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lin ang="10800000"/>
                </a:gradFill>
                <a:ln w="2556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62080" y="3914640"/>
                  <a:ext cx="8539200" cy="3386160"/>
                </a:xfrm>
                <a:prstGeom prst="ellipse">
                  <a:avLst/>
                </a:prstGeom>
                <a:solidFill>
                  <a:srgbClr val="ffffc2"/>
                </a:solidFill>
                <a:ln w="47520">
                  <a:solidFill>
                    <a:srgbClr val="810000"/>
                  </a:solidFill>
                  <a:miter/>
                </a:ln>
                <a:effectLst>
                  <a:outerShdw dist="107932" dir="2700000" blurRad="0" rotWithShape="0">
                    <a:srgbClr val="40404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2666880" y="2793960"/>
                <a:ext cx="399420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0" i="1" lang="en-US" sz="6200" spc="-1" strike="noStrike">
                    <a:solidFill>
                      <a:srgbClr val="000000"/>
                    </a:solidFill>
                    <a:latin typeface="Times New Roman"/>
                  </a:rPr>
                  <a:t>Q </a:t>
                </a:r>
                <a:r>
                  <a:rPr b="0" lang="en-US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62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6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6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658880" y="4387680"/>
              <a:ext cx="7369200" cy="24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La máxima cantidad de producto que puede ser producida dado los insumos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86440" y="2774880"/>
            <a:ext cx="4287600" cy="3564000"/>
            <a:chOff x="5086440" y="2774880"/>
            <a:chExt cx="4287600" cy="3564000"/>
          </a:xfrm>
        </p:grpSpPr>
        <p:sp>
          <p:nvSpPr>
            <p:cNvPr id="150" name=""/>
            <p:cNvSpPr/>
            <p:nvPr/>
          </p:nvSpPr>
          <p:spPr>
            <a:xfrm>
              <a:off x="5086440" y="2774880"/>
              <a:ext cx="4287600" cy="3564000"/>
            </a:xfrm>
            <a:custGeom>
              <a:avLst/>
              <a:gdLst/>
              <a:ahLst/>
              <a:rect l="l" t="t" r="r" b="b"/>
              <a:pathLst>
                <a:path w="2701" h="1975">
                  <a:moveTo>
                    <a:pt x="0" y="1612"/>
                  </a:moveTo>
                  <a:lnTo>
                    <a:pt x="0" y="1612"/>
                  </a:lnTo>
                  <a:lnTo>
                    <a:pt x="1934" y="1612"/>
                  </a:lnTo>
                  <a:lnTo>
                    <a:pt x="1934" y="1974"/>
                  </a:lnTo>
                  <a:lnTo>
                    <a:pt x="2700" y="991"/>
                  </a:lnTo>
                  <a:lnTo>
                    <a:pt x="1934" y="0"/>
                  </a:lnTo>
                  <a:lnTo>
                    <a:pt x="1934" y="344"/>
                  </a:lnTo>
                  <a:lnTo>
                    <a:pt x="0" y="344"/>
                  </a:lnTo>
                  <a:lnTo>
                    <a:pt x="0" y="1612"/>
                  </a:lnTo>
                  <a:lnTo>
                    <a:pt x="0" y="1612"/>
                  </a:lnTo>
                </a:path>
              </a:pathLst>
            </a:custGeom>
            <a:gradFill rotWithShape="0">
              <a:gsLst>
                <a:gs pos="0">
                  <a:srgbClr val="ffc0e4"/>
                </a:gs>
                <a:gs pos="100000">
                  <a:srgbClr val="e1e1e1"/>
                </a:gs>
              </a:gsLst>
              <a:lin ang="8100000"/>
            </a:gradFill>
            <a:ln w="19080">
              <a:solidFill>
                <a:srgbClr val="00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22840" y="3760920"/>
              <a:ext cx="295272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s-AR" sz="3000" spc="-1" strike="noStrike">
                  <a:solidFill>
                    <a:srgbClr val="000000"/>
                  </a:solidFill>
                  <a:latin typeface="Arial"/>
                </a:rPr>
                <a:t>Usamos esta relación para distinguir entre dos casos..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8T16:23:52Z</dcterms:created>
  <dc:creator>Frank A. Cowell</dc:creator>
  <dc:description/>
  <dc:language>en-US</dc:language>
  <cp:lastModifiedBy>FERNANDO VICTOR TOW</cp:lastModifiedBy>
  <dcterms:modified xsi:type="dcterms:W3CDTF">1998-09-26T22:55:18Z</dcterms:modified>
  <cp:revision>123</cp:revision>
  <dc:subject/>
  <dc:title>Capitulo I  Empresa</dc:title>
</cp:coreProperties>
</file>