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1.wmf" ContentType="image/x-wmf"/>
  <Override PartName="/ppt/media/image12.png" ContentType="image/png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25C-AA5F-464B-B63B-8317BE23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24B-F73B-462B-9DF9-205F2A73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623-8D59-40EB-BB78-03B735D2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518-1D28-487A-AD72-A03E5C9F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8FC-1535-4638-90E4-AD78BD4D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723-E015-49B3-95DB-FFA8F97B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1A9F-C367-49D4-B51C-6FBB0393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B93-B2C0-4560-B15A-BE29C1AE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075-DE60-4B73-BE4A-B738FDFE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142-0AB8-4FF9-B49E-B57626E8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CC4-CE49-491D-B802-052FBC66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72A-336B-44BF-A051-42E809E1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39CA-1ECA-4BEE-89C4-51FB2F97A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505320" y="37339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apitulo  III.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0720" y="3875040"/>
            <a:ext cx="5241960" cy="3554640"/>
          </a:xfrm>
          <a:custGeom>
            <a:avLst/>
            <a:gdLst/>
            <a:ahLst/>
            <a:rect l="l" t="t" r="r" b="b"/>
            <a:pathLst>
              <a:path w="3302" h="2239">
                <a:moveTo>
                  <a:pt x="3301" y="2238"/>
                </a:moveTo>
                <a:lnTo>
                  <a:pt x="3301" y="2238"/>
                </a:lnTo>
                <a:lnTo>
                  <a:pt x="0" y="2238"/>
                </a:lnTo>
                <a:lnTo>
                  <a:pt x="0" y="0"/>
                </a:lnTo>
                <a:lnTo>
                  <a:pt x="3301" y="2238"/>
                </a:lnTo>
                <a:lnTo>
                  <a:pt x="3301" y="2238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46040" y="685800"/>
            <a:ext cx="945360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restricción de presupuest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1: ingreso nominal fij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562720" y="5257800"/>
            <a:ext cx="2719440" cy="2168280"/>
            <a:chOff x="5562720" y="5257800"/>
            <a:chExt cx="2719440" cy="2168280"/>
          </a:xfrm>
        </p:grpSpPr>
        <p:sp>
          <p:nvSpPr>
            <p:cNvPr id="207" name=""/>
            <p:cNvSpPr/>
            <p:nvPr/>
          </p:nvSpPr>
          <p:spPr>
            <a:xfrm>
              <a:off x="5562720" y="5257800"/>
              <a:ext cx="2719440" cy="2102040"/>
            </a:xfrm>
            <a:custGeom>
              <a:avLst/>
              <a:gdLst/>
              <a:ahLst/>
              <a:rect l="l" t="t" r="r" b="b"/>
              <a:pathLst>
                <a:path w="1713" h="1324">
                  <a:moveTo>
                    <a:pt x="454" y="1101"/>
                  </a:moveTo>
                  <a:lnTo>
                    <a:pt x="564" y="1138"/>
                  </a:lnTo>
                  <a:lnTo>
                    <a:pt x="676" y="1162"/>
                  </a:lnTo>
                  <a:lnTo>
                    <a:pt x="787" y="1173"/>
                  </a:lnTo>
                  <a:lnTo>
                    <a:pt x="898" y="1173"/>
                  </a:lnTo>
                  <a:lnTo>
                    <a:pt x="1005" y="1164"/>
                  </a:lnTo>
                  <a:lnTo>
                    <a:pt x="1110" y="1143"/>
                  </a:lnTo>
                  <a:lnTo>
                    <a:pt x="1209" y="1115"/>
                  </a:lnTo>
                  <a:lnTo>
                    <a:pt x="1304" y="1077"/>
                  </a:lnTo>
                  <a:lnTo>
                    <a:pt x="1390" y="1034"/>
                  </a:lnTo>
                  <a:lnTo>
                    <a:pt x="1469" y="984"/>
                  </a:lnTo>
                  <a:lnTo>
                    <a:pt x="1539" y="928"/>
                  </a:lnTo>
                  <a:lnTo>
                    <a:pt x="1599" y="867"/>
                  </a:lnTo>
                  <a:lnTo>
                    <a:pt x="1647" y="803"/>
                  </a:lnTo>
                  <a:lnTo>
                    <a:pt x="1683" y="735"/>
                  </a:lnTo>
                  <a:lnTo>
                    <a:pt x="1705" y="665"/>
                  </a:lnTo>
                  <a:lnTo>
                    <a:pt x="1712" y="592"/>
                  </a:lnTo>
                  <a:lnTo>
                    <a:pt x="1691" y="453"/>
                  </a:lnTo>
                  <a:lnTo>
                    <a:pt x="1637" y="332"/>
                  </a:lnTo>
                  <a:lnTo>
                    <a:pt x="1553" y="231"/>
                  </a:lnTo>
                  <a:lnTo>
                    <a:pt x="1446" y="147"/>
                  </a:lnTo>
                  <a:lnTo>
                    <a:pt x="1318" y="83"/>
                  </a:lnTo>
                  <a:lnTo>
                    <a:pt x="1176" y="36"/>
                  </a:lnTo>
                  <a:lnTo>
                    <a:pt x="1024" y="9"/>
                  </a:lnTo>
                  <a:lnTo>
                    <a:pt x="867" y="0"/>
                  </a:lnTo>
                  <a:lnTo>
                    <a:pt x="709" y="9"/>
                  </a:lnTo>
                  <a:lnTo>
                    <a:pt x="556" y="36"/>
                  </a:lnTo>
                  <a:lnTo>
                    <a:pt x="412" y="81"/>
                  </a:lnTo>
                  <a:lnTo>
                    <a:pt x="283" y="142"/>
                  </a:lnTo>
                  <a:lnTo>
                    <a:pt x="171" y="222"/>
                  </a:lnTo>
                  <a:lnTo>
                    <a:pt x="85" y="319"/>
                  </a:lnTo>
                  <a:lnTo>
                    <a:pt x="25" y="433"/>
                  </a:lnTo>
                  <a:lnTo>
                    <a:pt x="1" y="563"/>
                  </a:lnTo>
                  <a:lnTo>
                    <a:pt x="0" y="597"/>
                  </a:lnTo>
                  <a:lnTo>
                    <a:pt x="3" y="630"/>
                  </a:lnTo>
                  <a:lnTo>
                    <a:pt x="9" y="664"/>
                  </a:lnTo>
                  <a:lnTo>
                    <a:pt x="18" y="696"/>
                  </a:lnTo>
                  <a:lnTo>
                    <a:pt x="29" y="729"/>
                  </a:lnTo>
                  <a:lnTo>
                    <a:pt x="43" y="761"/>
                  </a:lnTo>
                  <a:lnTo>
                    <a:pt x="59" y="793"/>
                  </a:lnTo>
                  <a:lnTo>
                    <a:pt x="79" y="823"/>
                  </a:lnTo>
                  <a:lnTo>
                    <a:pt x="99" y="853"/>
                  </a:lnTo>
                  <a:lnTo>
                    <a:pt x="121" y="882"/>
                  </a:lnTo>
                  <a:lnTo>
                    <a:pt x="145" y="910"/>
                  </a:lnTo>
                  <a:lnTo>
                    <a:pt x="171" y="936"/>
                  </a:lnTo>
                  <a:lnTo>
                    <a:pt x="198" y="961"/>
                  </a:lnTo>
                  <a:lnTo>
                    <a:pt x="228" y="984"/>
                  </a:lnTo>
                  <a:lnTo>
                    <a:pt x="257" y="1006"/>
                  </a:lnTo>
                  <a:lnTo>
                    <a:pt x="289" y="1024"/>
                  </a:lnTo>
                  <a:lnTo>
                    <a:pt x="186" y="1162"/>
                  </a:lnTo>
                  <a:lnTo>
                    <a:pt x="134" y="1096"/>
                  </a:lnTo>
                  <a:lnTo>
                    <a:pt x="81" y="1323"/>
                  </a:lnTo>
                  <a:lnTo>
                    <a:pt x="317" y="1323"/>
                  </a:lnTo>
                  <a:lnTo>
                    <a:pt x="243" y="1233"/>
                  </a:lnTo>
                  <a:lnTo>
                    <a:pt x="454" y="1101"/>
                  </a:lnTo>
                  <a:lnTo>
                    <a:pt x="454" y="1101"/>
                  </a:lnTo>
                </a:path>
              </a:pathLst>
            </a:custGeom>
            <a:solidFill>
              <a:srgbClr val="ffffc2"/>
            </a:solidFill>
            <a:ln w="3168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23200" y="6029640"/>
              <a:ext cx="749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55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5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18360" y="5334120"/>
              <a:ext cx="155736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5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0" i="1" lang="en-US" sz="5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 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5570280" y="7422840"/>
              <a:ext cx="11160" cy="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8229600" y="701028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7800" y="4255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23720" y="1679400"/>
            <a:ext cx="2719440" cy="2168280"/>
            <a:chOff x="423720" y="1679400"/>
            <a:chExt cx="2719440" cy="2168280"/>
          </a:xfrm>
        </p:grpSpPr>
        <p:sp>
          <p:nvSpPr>
            <p:cNvPr id="214" name=""/>
            <p:cNvSpPr/>
            <p:nvPr/>
          </p:nvSpPr>
          <p:spPr>
            <a:xfrm>
              <a:off x="423720" y="1679400"/>
              <a:ext cx="2719440" cy="2102040"/>
            </a:xfrm>
            <a:custGeom>
              <a:avLst/>
              <a:gdLst/>
              <a:ahLst/>
              <a:rect l="l" t="t" r="r" b="b"/>
              <a:pathLst>
                <a:path w="1713" h="1324">
                  <a:moveTo>
                    <a:pt x="454" y="1101"/>
                  </a:moveTo>
                  <a:lnTo>
                    <a:pt x="564" y="1138"/>
                  </a:lnTo>
                  <a:lnTo>
                    <a:pt x="676" y="1162"/>
                  </a:lnTo>
                  <a:lnTo>
                    <a:pt x="787" y="1173"/>
                  </a:lnTo>
                  <a:lnTo>
                    <a:pt x="898" y="1173"/>
                  </a:lnTo>
                  <a:lnTo>
                    <a:pt x="1005" y="1164"/>
                  </a:lnTo>
                  <a:lnTo>
                    <a:pt x="1110" y="1143"/>
                  </a:lnTo>
                  <a:lnTo>
                    <a:pt x="1209" y="1115"/>
                  </a:lnTo>
                  <a:lnTo>
                    <a:pt x="1304" y="1077"/>
                  </a:lnTo>
                  <a:lnTo>
                    <a:pt x="1390" y="1034"/>
                  </a:lnTo>
                  <a:lnTo>
                    <a:pt x="1469" y="984"/>
                  </a:lnTo>
                  <a:lnTo>
                    <a:pt x="1539" y="928"/>
                  </a:lnTo>
                  <a:lnTo>
                    <a:pt x="1599" y="867"/>
                  </a:lnTo>
                  <a:lnTo>
                    <a:pt x="1647" y="803"/>
                  </a:lnTo>
                  <a:lnTo>
                    <a:pt x="1683" y="735"/>
                  </a:lnTo>
                  <a:lnTo>
                    <a:pt x="1705" y="665"/>
                  </a:lnTo>
                  <a:lnTo>
                    <a:pt x="1712" y="592"/>
                  </a:lnTo>
                  <a:lnTo>
                    <a:pt x="1691" y="453"/>
                  </a:lnTo>
                  <a:lnTo>
                    <a:pt x="1637" y="332"/>
                  </a:lnTo>
                  <a:lnTo>
                    <a:pt x="1553" y="231"/>
                  </a:lnTo>
                  <a:lnTo>
                    <a:pt x="1446" y="147"/>
                  </a:lnTo>
                  <a:lnTo>
                    <a:pt x="1318" y="83"/>
                  </a:lnTo>
                  <a:lnTo>
                    <a:pt x="1176" y="36"/>
                  </a:lnTo>
                  <a:lnTo>
                    <a:pt x="1024" y="9"/>
                  </a:lnTo>
                  <a:lnTo>
                    <a:pt x="867" y="0"/>
                  </a:lnTo>
                  <a:lnTo>
                    <a:pt x="709" y="9"/>
                  </a:lnTo>
                  <a:lnTo>
                    <a:pt x="556" y="36"/>
                  </a:lnTo>
                  <a:lnTo>
                    <a:pt x="412" y="81"/>
                  </a:lnTo>
                  <a:lnTo>
                    <a:pt x="283" y="142"/>
                  </a:lnTo>
                  <a:lnTo>
                    <a:pt x="171" y="222"/>
                  </a:lnTo>
                  <a:lnTo>
                    <a:pt x="85" y="319"/>
                  </a:lnTo>
                  <a:lnTo>
                    <a:pt x="25" y="433"/>
                  </a:lnTo>
                  <a:lnTo>
                    <a:pt x="1" y="563"/>
                  </a:lnTo>
                  <a:lnTo>
                    <a:pt x="0" y="597"/>
                  </a:lnTo>
                  <a:lnTo>
                    <a:pt x="3" y="630"/>
                  </a:lnTo>
                  <a:lnTo>
                    <a:pt x="9" y="664"/>
                  </a:lnTo>
                  <a:lnTo>
                    <a:pt x="18" y="696"/>
                  </a:lnTo>
                  <a:lnTo>
                    <a:pt x="29" y="729"/>
                  </a:lnTo>
                  <a:lnTo>
                    <a:pt x="43" y="761"/>
                  </a:lnTo>
                  <a:lnTo>
                    <a:pt x="59" y="793"/>
                  </a:lnTo>
                  <a:lnTo>
                    <a:pt x="79" y="823"/>
                  </a:lnTo>
                  <a:lnTo>
                    <a:pt x="99" y="853"/>
                  </a:lnTo>
                  <a:lnTo>
                    <a:pt x="121" y="882"/>
                  </a:lnTo>
                  <a:lnTo>
                    <a:pt x="145" y="910"/>
                  </a:lnTo>
                  <a:lnTo>
                    <a:pt x="171" y="936"/>
                  </a:lnTo>
                  <a:lnTo>
                    <a:pt x="198" y="961"/>
                  </a:lnTo>
                  <a:lnTo>
                    <a:pt x="228" y="984"/>
                  </a:lnTo>
                  <a:lnTo>
                    <a:pt x="257" y="1006"/>
                  </a:lnTo>
                  <a:lnTo>
                    <a:pt x="289" y="1024"/>
                  </a:lnTo>
                  <a:lnTo>
                    <a:pt x="186" y="1162"/>
                  </a:lnTo>
                  <a:lnTo>
                    <a:pt x="134" y="1096"/>
                  </a:lnTo>
                  <a:lnTo>
                    <a:pt x="81" y="1323"/>
                  </a:lnTo>
                  <a:lnTo>
                    <a:pt x="317" y="1323"/>
                  </a:lnTo>
                  <a:lnTo>
                    <a:pt x="243" y="1233"/>
                  </a:lnTo>
                  <a:lnTo>
                    <a:pt x="454" y="1101"/>
                  </a:lnTo>
                  <a:lnTo>
                    <a:pt x="454" y="1101"/>
                  </a:lnTo>
                </a:path>
              </a:pathLst>
            </a:custGeom>
            <a:solidFill>
              <a:srgbClr val="ffffc2"/>
            </a:solidFill>
            <a:ln w="3168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84200" y="2451240"/>
              <a:ext cx="749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55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5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79360" y="1755720"/>
              <a:ext cx="155736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5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0" i="1" lang="en-US" sz="5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 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431280" y="3844440"/>
              <a:ext cx="11160" cy="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66560" y="1212840"/>
            <a:ext cx="7291440" cy="6254640"/>
          </a:xfrm>
          <a:custGeom>
            <a:avLst/>
            <a:gdLst/>
            <a:ahLst/>
            <a:rect l="l" t="t" r="r" b="b"/>
            <a:pathLst>
              <a:path w="2744" h="2817">
                <a:moveTo>
                  <a:pt x="0" y="0"/>
                </a:moveTo>
                <a:lnTo>
                  <a:pt x="0" y="2816"/>
                </a:lnTo>
                <a:lnTo>
                  <a:pt x="2743" y="2816"/>
                </a:lnTo>
              </a:path>
            </a:pathLst>
          </a:custGeom>
          <a:noFill/>
          <a:ln w="54000">
            <a:solidFill>
              <a:srgbClr val="80808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304920"/>
            <a:ext cx="94536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mos el equilibrio básic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38088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Qué pasa si aumenta el ingreso?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989440"/>
            <a:ext cx="6997680" cy="4456080"/>
          </a:xfrm>
          <a:custGeom>
            <a:avLst/>
            <a:gdLst/>
            <a:ahLst/>
            <a:rect l="l" t="t" r="r" b="b"/>
            <a:pathLst>
              <a:path w="2342" h="1588">
                <a:moveTo>
                  <a:pt x="2341" y="1587"/>
                </a:moveTo>
                <a:lnTo>
                  <a:pt x="2341" y="1587"/>
                </a:lnTo>
                <a:lnTo>
                  <a:pt x="0" y="1587"/>
                </a:lnTo>
                <a:lnTo>
                  <a:pt x="0" y="0"/>
                </a:lnTo>
                <a:lnTo>
                  <a:pt x="2341" y="1587"/>
                </a:lnTo>
                <a:lnTo>
                  <a:pt x="2341" y="1587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316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1600" y="3886200"/>
            <a:ext cx="5243400" cy="3559320"/>
          </a:xfrm>
          <a:custGeom>
            <a:avLst/>
            <a:gdLst/>
            <a:ahLst/>
            <a:rect l="l" t="t" r="r" b="b"/>
            <a:pathLst>
              <a:path w="2342" h="1588">
                <a:moveTo>
                  <a:pt x="2341" y="1587"/>
                </a:moveTo>
                <a:lnTo>
                  <a:pt x="2341" y="1587"/>
                </a:lnTo>
                <a:lnTo>
                  <a:pt x="0" y="1587"/>
                </a:lnTo>
                <a:lnTo>
                  <a:pt x="0" y="0"/>
                </a:lnTo>
                <a:lnTo>
                  <a:pt x="2341" y="1587"/>
                </a:lnTo>
                <a:lnTo>
                  <a:pt x="2341" y="1587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316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6560" y="1212840"/>
            <a:ext cx="7291440" cy="6254640"/>
          </a:xfrm>
          <a:custGeom>
            <a:avLst/>
            <a:gdLst/>
            <a:ahLst/>
            <a:rect l="l" t="t" r="r" b="b"/>
            <a:pathLst>
              <a:path w="2744" h="2817">
                <a:moveTo>
                  <a:pt x="0" y="0"/>
                </a:moveTo>
                <a:lnTo>
                  <a:pt x="0" y="2816"/>
                </a:lnTo>
                <a:lnTo>
                  <a:pt x="2743" y="2816"/>
                </a:lnTo>
              </a:path>
            </a:pathLst>
          </a:custGeom>
          <a:noFill/>
          <a:ln w="54000">
            <a:solidFill>
              <a:srgbClr val="80808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46040" y="1459080"/>
            <a:ext cx="4048200" cy="4652640"/>
          </a:xfrm>
          <a:custGeom>
            <a:avLst/>
            <a:gdLst/>
            <a:ahLst/>
            <a:rect l="l" t="t" r="r" b="b"/>
            <a:pathLst>
              <a:path w="1830" h="2080">
                <a:moveTo>
                  <a:pt x="0" y="0"/>
                </a:moveTo>
                <a:lnTo>
                  <a:pt x="1" y="19"/>
                </a:lnTo>
                <a:lnTo>
                  <a:pt x="2" y="32"/>
                </a:lnTo>
                <a:lnTo>
                  <a:pt x="2" y="44"/>
                </a:lnTo>
                <a:lnTo>
                  <a:pt x="4" y="52"/>
                </a:lnTo>
                <a:lnTo>
                  <a:pt x="4" y="59"/>
                </a:lnTo>
                <a:lnTo>
                  <a:pt x="5" y="64"/>
                </a:lnTo>
                <a:lnTo>
                  <a:pt x="5" y="67"/>
                </a:lnTo>
                <a:lnTo>
                  <a:pt x="7" y="69"/>
                </a:lnTo>
                <a:lnTo>
                  <a:pt x="7" y="72"/>
                </a:lnTo>
                <a:lnTo>
                  <a:pt x="7" y="74"/>
                </a:lnTo>
                <a:lnTo>
                  <a:pt x="7" y="76"/>
                </a:lnTo>
                <a:lnTo>
                  <a:pt x="7" y="77"/>
                </a:lnTo>
                <a:lnTo>
                  <a:pt x="7" y="81"/>
                </a:lnTo>
                <a:lnTo>
                  <a:pt x="8" y="86"/>
                </a:lnTo>
                <a:lnTo>
                  <a:pt x="9" y="92"/>
                </a:lnTo>
                <a:lnTo>
                  <a:pt x="11" y="100"/>
                </a:lnTo>
                <a:lnTo>
                  <a:pt x="11" y="111"/>
                </a:lnTo>
                <a:lnTo>
                  <a:pt x="13" y="125"/>
                </a:lnTo>
                <a:lnTo>
                  <a:pt x="15" y="141"/>
                </a:lnTo>
                <a:lnTo>
                  <a:pt x="19" y="159"/>
                </a:lnTo>
                <a:lnTo>
                  <a:pt x="22" y="180"/>
                </a:lnTo>
                <a:lnTo>
                  <a:pt x="25" y="202"/>
                </a:lnTo>
                <a:lnTo>
                  <a:pt x="29" y="225"/>
                </a:lnTo>
                <a:lnTo>
                  <a:pt x="35" y="250"/>
                </a:lnTo>
                <a:lnTo>
                  <a:pt x="39" y="276"/>
                </a:lnTo>
                <a:lnTo>
                  <a:pt x="45" y="302"/>
                </a:lnTo>
                <a:lnTo>
                  <a:pt x="50" y="330"/>
                </a:lnTo>
                <a:lnTo>
                  <a:pt x="56" y="356"/>
                </a:lnTo>
                <a:lnTo>
                  <a:pt x="62" y="384"/>
                </a:lnTo>
                <a:lnTo>
                  <a:pt x="67" y="410"/>
                </a:lnTo>
                <a:lnTo>
                  <a:pt x="73" y="436"/>
                </a:lnTo>
                <a:lnTo>
                  <a:pt x="79" y="460"/>
                </a:lnTo>
                <a:lnTo>
                  <a:pt x="84" y="486"/>
                </a:lnTo>
                <a:lnTo>
                  <a:pt x="90" y="512"/>
                </a:lnTo>
                <a:lnTo>
                  <a:pt x="96" y="540"/>
                </a:lnTo>
                <a:lnTo>
                  <a:pt x="103" y="568"/>
                </a:lnTo>
                <a:lnTo>
                  <a:pt x="110" y="597"/>
                </a:lnTo>
                <a:lnTo>
                  <a:pt x="118" y="625"/>
                </a:lnTo>
                <a:lnTo>
                  <a:pt x="125" y="653"/>
                </a:lnTo>
                <a:lnTo>
                  <a:pt x="133" y="681"/>
                </a:lnTo>
                <a:lnTo>
                  <a:pt x="140" y="709"/>
                </a:lnTo>
                <a:lnTo>
                  <a:pt x="148" y="734"/>
                </a:lnTo>
                <a:lnTo>
                  <a:pt x="155" y="759"/>
                </a:lnTo>
                <a:lnTo>
                  <a:pt x="163" y="782"/>
                </a:lnTo>
                <a:lnTo>
                  <a:pt x="168" y="804"/>
                </a:lnTo>
                <a:lnTo>
                  <a:pt x="176" y="823"/>
                </a:lnTo>
                <a:lnTo>
                  <a:pt x="181" y="839"/>
                </a:lnTo>
                <a:lnTo>
                  <a:pt x="188" y="852"/>
                </a:lnTo>
                <a:lnTo>
                  <a:pt x="193" y="866"/>
                </a:lnTo>
                <a:lnTo>
                  <a:pt x="198" y="881"/>
                </a:lnTo>
                <a:lnTo>
                  <a:pt x="205" y="898"/>
                </a:lnTo>
                <a:lnTo>
                  <a:pt x="213" y="915"/>
                </a:lnTo>
                <a:lnTo>
                  <a:pt x="220" y="935"/>
                </a:lnTo>
                <a:lnTo>
                  <a:pt x="229" y="955"/>
                </a:lnTo>
                <a:lnTo>
                  <a:pt x="237" y="975"/>
                </a:lnTo>
                <a:lnTo>
                  <a:pt x="247" y="996"/>
                </a:lnTo>
                <a:lnTo>
                  <a:pt x="255" y="1018"/>
                </a:lnTo>
                <a:lnTo>
                  <a:pt x="264" y="1040"/>
                </a:lnTo>
                <a:lnTo>
                  <a:pt x="273" y="1061"/>
                </a:lnTo>
                <a:lnTo>
                  <a:pt x="282" y="1081"/>
                </a:lnTo>
                <a:lnTo>
                  <a:pt x="289" y="1102"/>
                </a:lnTo>
                <a:lnTo>
                  <a:pt x="299" y="1121"/>
                </a:lnTo>
                <a:lnTo>
                  <a:pt x="306" y="1139"/>
                </a:lnTo>
                <a:lnTo>
                  <a:pt x="314" y="1155"/>
                </a:lnTo>
                <a:lnTo>
                  <a:pt x="321" y="1173"/>
                </a:lnTo>
                <a:lnTo>
                  <a:pt x="328" y="1190"/>
                </a:lnTo>
                <a:lnTo>
                  <a:pt x="335" y="1209"/>
                </a:lnTo>
                <a:lnTo>
                  <a:pt x="344" y="1228"/>
                </a:lnTo>
                <a:lnTo>
                  <a:pt x="352" y="1248"/>
                </a:lnTo>
                <a:lnTo>
                  <a:pt x="361" y="1268"/>
                </a:lnTo>
                <a:lnTo>
                  <a:pt x="371" y="1289"/>
                </a:lnTo>
                <a:lnTo>
                  <a:pt x="380" y="1308"/>
                </a:lnTo>
                <a:lnTo>
                  <a:pt x="387" y="1328"/>
                </a:lnTo>
                <a:lnTo>
                  <a:pt x="397" y="1347"/>
                </a:lnTo>
                <a:lnTo>
                  <a:pt x="404" y="1366"/>
                </a:lnTo>
                <a:lnTo>
                  <a:pt x="413" y="1383"/>
                </a:lnTo>
                <a:lnTo>
                  <a:pt x="420" y="1399"/>
                </a:lnTo>
                <a:lnTo>
                  <a:pt x="427" y="1413"/>
                </a:lnTo>
                <a:lnTo>
                  <a:pt x="433" y="1426"/>
                </a:lnTo>
                <a:lnTo>
                  <a:pt x="440" y="1436"/>
                </a:lnTo>
                <a:lnTo>
                  <a:pt x="445" y="1448"/>
                </a:lnTo>
                <a:lnTo>
                  <a:pt x="450" y="1460"/>
                </a:lnTo>
                <a:lnTo>
                  <a:pt x="457" y="1474"/>
                </a:lnTo>
                <a:lnTo>
                  <a:pt x="465" y="1487"/>
                </a:lnTo>
                <a:lnTo>
                  <a:pt x="473" y="1502"/>
                </a:lnTo>
                <a:lnTo>
                  <a:pt x="483" y="1517"/>
                </a:lnTo>
                <a:lnTo>
                  <a:pt x="492" y="1532"/>
                </a:lnTo>
                <a:lnTo>
                  <a:pt x="503" y="1547"/>
                </a:lnTo>
                <a:lnTo>
                  <a:pt x="512" y="1563"/>
                </a:lnTo>
                <a:lnTo>
                  <a:pt x="522" y="1578"/>
                </a:lnTo>
                <a:lnTo>
                  <a:pt x="531" y="1593"/>
                </a:lnTo>
                <a:lnTo>
                  <a:pt x="543" y="1607"/>
                </a:lnTo>
                <a:lnTo>
                  <a:pt x="552" y="1622"/>
                </a:lnTo>
                <a:lnTo>
                  <a:pt x="562" y="1634"/>
                </a:lnTo>
                <a:lnTo>
                  <a:pt x="571" y="1646"/>
                </a:lnTo>
                <a:lnTo>
                  <a:pt x="581" y="1657"/>
                </a:lnTo>
                <a:lnTo>
                  <a:pt x="589" y="1668"/>
                </a:lnTo>
                <a:lnTo>
                  <a:pt x="598" y="1679"/>
                </a:lnTo>
                <a:lnTo>
                  <a:pt x="609" y="1692"/>
                </a:lnTo>
                <a:lnTo>
                  <a:pt x="620" y="1703"/>
                </a:lnTo>
                <a:lnTo>
                  <a:pt x="631" y="1716"/>
                </a:lnTo>
                <a:lnTo>
                  <a:pt x="643" y="1728"/>
                </a:lnTo>
                <a:lnTo>
                  <a:pt x="656" y="1742"/>
                </a:lnTo>
                <a:lnTo>
                  <a:pt x="669" y="1753"/>
                </a:lnTo>
                <a:lnTo>
                  <a:pt x="680" y="1766"/>
                </a:lnTo>
                <a:lnTo>
                  <a:pt x="693" y="1778"/>
                </a:lnTo>
                <a:lnTo>
                  <a:pt x="704" y="1790"/>
                </a:lnTo>
                <a:lnTo>
                  <a:pt x="717" y="1801"/>
                </a:lnTo>
                <a:lnTo>
                  <a:pt x="727" y="1812"/>
                </a:lnTo>
                <a:lnTo>
                  <a:pt x="739" y="1820"/>
                </a:lnTo>
                <a:lnTo>
                  <a:pt x="748" y="1828"/>
                </a:lnTo>
                <a:lnTo>
                  <a:pt x="758" y="1835"/>
                </a:lnTo>
                <a:lnTo>
                  <a:pt x="765" y="1843"/>
                </a:lnTo>
                <a:lnTo>
                  <a:pt x="774" y="1849"/>
                </a:lnTo>
                <a:lnTo>
                  <a:pt x="783" y="1856"/>
                </a:lnTo>
                <a:lnTo>
                  <a:pt x="792" y="1862"/>
                </a:lnTo>
                <a:lnTo>
                  <a:pt x="801" y="1870"/>
                </a:lnTo>
                <a:lnTo>
                  <a:pt x="811" y="1875"/>
                </a:lnTo>
                <a:lnTo>
                  <a:pt x="819" y="1882"/>
                </a:lnTo>
                <a:lnTo>
                  <a:pt x="829" y="1888"/>
                </a:lnTo>
                <a:lnTo>
                  <a:pt x="836" y="1894"/>
                </a:lnTo>
                <a:lnTo>
                  <a:pt x="844" y="1900"/>
                </a:lnTo>
                <a:lnTo>
                  <a:pt x="850" y="1906"/>
                </a:lnTo>
                <a:lnTo>
                  <a:pt x="858" y="1910"/>
                </a:lnTo>
                <a:lnTo>
                  <a:pt x="863" y="1915"/>
                </a:lnTo>
                <a:lnTo>
                  <a:pt x="869" y="1919"/>
                </a:lnTo>
                <a:lnTo>
                  <a:pt x="873" y="1922"/>
                </a:lnTo>
                <a:lnTo>
                  <a:pt x="878" y="1924"/>
                </a:lnTo>
                <a:lnTo>
                  <a:pt x="880" y="1927"/>
                </a:lnTo>
                <a:lnTo>
                  <a:pt x="884" y="1929"/>
                </a:lnTo>
                <a:lnTo>
                  <a:pt x="889" y="1931"/>
                </a:lnTo>
                <a:lnTo>
                  <a:pt x="895" y="1933"/>
                </a:lnTo>
                <a:lnTo>
                  <a:pt x="900" y="1937"/>
                </a:lnTo>
                <a:lnTo>
                  <a:pt x="907" y="1939"/>
                </a:lnTo>
                <a:lnTo>
                  <a:pt x="913" y="1943"/>
                </a:lnTo>
                <a:lnTo>
                  <a:pt x="920" y="1945"/>
                </a:lnTo>
                <a:lnTo>
                  <a:pt x="927" y="1949"/>
                </a:lnTo>
                <a:lnTo>
                  <a:pt x="934" y="1952"/>
                </a:lnTo>
                <a:lnTo>
                  <a:pt x="941" y="1956"/>
                </a:lnTo>
                <a:lnTo>
                  <a:pt x="949" y="1958"/>
                </a:lnTo>
                <a:lnTo>
                  <a:pt x="955" y="1962"/>
                </a:lnTo>
                <a:lnTo>
                  <a:pt x="963" y="1964"/>
                </a:lnTo>
                <a:lnTo>
                  <a:pt x="969" y="1968"/>
                </a:lnTo>
                <a:lnTo>
                  <a:pt x="977" y="1969"/>
                </a:lnTo>
                <a:lnTo>
                  <a:pt x="983" y="1973"/>
                </a:lnTo>
                <a:lnTo>
                  <a:pt x="991" y="1976"/>
                </a:lnTo>
                <a:lnTo>
                  <a:pt x="1000" y="1980"/>
                </a:lnTo>
                <a:lnTo>
                  <a:pt x="1011" y="1982"/>
                </a:lnTo>
                <a:lnTo>
                  <a:pt x="1021" y="1986"/>
                </a:lnTo>
                <a:lnTo>
                  <a:pt x="1032" y="1989"/>
                </a:lnTo>
                <a:lnTo>
                  <a:pt x="1043" y="1993"/>
                </a:lnTo>
                <a:lnTo>
                  <a:pt x="1056" y="1996"/>
                </a:lnTo>
                <a:lnTo>
                  <a:pt x="1067" y="2000"/>
                </a:lnTo>
                <a:lnTo>
                  <a:pt x="1081" y="2004"/>
                </a:lnTo>
                <a:lnTo>
                  <a:pt x="1093" y="2007"/>
                </a:lnTo>
                <a:lnTo>
                  <a:pt x="1105" y="2011"/>
                </a:lnTo>
                <a:lnTo>
                  <a:pt x="1117" y="2015"/>
                </a:lnTo>
                <a:lnTo>
                  <a:pt x="1129" y="2018"/>
                </a:lnTo>
                <a:lnTo>
                  <a:pt x="1139" y="2021"/>
                </a:lnTo>
                <a:lnTo>
                  <a:pt x="1151" y="2023"/>
                </a:lnTo>
                <a:lnTo>
                  <a:pt x="1160" y="2027"/>
                </a:lnTo>
                <a:lnTo>
                  <a:pt x="1171" y="2028"/>
                </a:lnTo>
                <a:lnTo>
                  <a:pt x="1182" y="2032"/>
                </a:lnTo>
                <a:lnTo>
                  <a:pt x="1195" y="2034"/>
                </a:lnTo>
                <a:lnTo>
                  <a:pt x="1208" y="2037"/>
                </a:lnTo>
                <a:lnTo>
                  <a:pt x="1221" y="2039"/>
                </a:lnTo>
                <a:lnTo>
                  <a:pt x="1234" y="2042"/>
                </a:lnTo>
                <a:lnTo>
                  <a:pt x="1249" y="2044"/>
                </a:lnTo>
                <a:lnTo>
                  <a:pt x="1262" y="2047"/>
                </a:lnTo>
                <a:lnTo>
                  <a:pt x="1275" y="2049"/>
                </a:lnTo>
                <a:lnTo>
                  <a:pt x="1288" y="2051"/>
                </a:lnTo>
                <a:lnTo>
                  <a:pt x="1301" y="2053"/>
                </a:lnTo>
                <a:lnTo>
                  <a:pt x="1312" y="2055"/>
                </a:lnTo>
                <a:lnTo>
                  <a:pt x="1323" y="2057"/>
                </a:lnTo>
                <a:lnTo>
                  <a:pt x="1333" y="2058"/>
                </a:lnTo>
                <a:lnTo>
                  <a:pt x="1343" y="2058"/>
                </a:lnTo>
                <a:lnTo>
                  <a:pt x="1351" y="2060"/>
                </a:lnTo>
                <a:lnTo>
                  <a:pt x="1361" y="2062"/>
                </a:lnTo>
                <a:lnTo>
                  <a:pt x="1372" y="2064"/>
                </a:lnTo>
                <a:lnTo>
                  <a:pt x="1384" y="2064"/>
                </a:lnTo>
                <a:lnTo>
                  <a:pt x="1396" y="2065"/>
                </a:lnTo>
                <a:lnTo>
                  <a:pt x="1409" y="2065"/>
                </a:lnTo>
                <a:lnTo>
                  <a:pt x="1423" y="2067"/>
                </a:lnTo>
                <a:lnTo>
                  <a:pt x="1437" y="2067"/>
                </a:lnTo>
                <a:lnTo>
                  <a:pt x="1451" y="2069"/>
                </a:lnTo>
                <a:lnTo>
                  <a:pt x="1465" y="2070"/>
                </a:lnTo>
                <a:lnTo>
                  <a:pt x="1478" y="2072"/>
                </a:lnTo>
                <a:lnTo>
                  <a:pt x="1493" y="2072"/>
                </a:lnTo>
                <a:lnTo>
                  <a:pt x="1505" y="2074"/>
                </a:lnTo>
                <a:lnTo>
                  <a:pt x="1518" y="2074"/>
                </a:lnTo>
                <a:lnTo>
                  <a:pt x="1529" y="2075"/>
                </a:lnTo>
                <a:lnTo>
                  <a:pt x="1542" y="2075"/>
                </a:lnTo>
                <a:lnTo>
                  <a:pt x="1552" y="2077"/>
                </a:lnTo>
                <a:lnTo>
                  <a:pt x="1563" y="2077"/>
                </a:lnTo>
                <a:lnTo>
                  <a:pt x="1576" y="2077"/>
                </a:lnTo>
                <a:lnTo>
                  <a:pt x="1589" y="2077"/>
                </a:lnTo>
                <a:lnTo>
                  <a:pt x="1602" y="2078"/>
                </a:lnTo>
                <a:lnTo>
                  <a:pt x="1616" y="2078"/>
                </a:lnTo>
                <a:lnTo>
                  <a:pt x="1630" y="2078"/>
                </a:lnTo>
                <a:lnTo>
                  <a:pt x="1645" y="2078"/>
                </a:lnTo>
                <a:lnTo>
                  <a:pt x="1658" y="2079"/>
                </a:lnTo>
                <a:lnTo>
                  <a:pt x="1671" y="2079"/>
                </a:lnTo>
                <a:lnTo>
                  <a:pt x="1685" y="2079"/>
                </a:lnTo>
                <a:lnTo>
                  <a:pt x="1698" y="2079"/>
                </a:lnTo>
                <a:lnTo>
                  <a:pt x="1709" y="2079"/>
                </a:lnTo>
                <a:lnTo>
                  <a:pt x="1721" y="2079"/>
                </a:lnTo>
                <a:lnTo>
                  <a:pt x="1731" y="2079"/>
                </a:lnTo>
                <a:lnTo>
                  <a:pt x="1741" y="2079"/>
                </a:lnTo>
                <a:lnTo>
                  <a:pt x="1747" y="2079"/>
                </a:lnTo>
                <a:lnTo>
                  <a:pt x="1753" y="2079"/>
                </a:lnTo>
                <a:lnTo>
                  <a:pt x="1757" y="2079"/>
                </a:lnTo>
                <a:lnTo>
                  <a:pt x="1760" y="2079"/>
                </a:lnTo>
                <a:lnTo>
                  <a:pt x="1762" y="2079"/>
                </a:lnTo>
                <a:lnTo>
                  <a:pt x="1764" y="2079"/>
                </a:lnTo>
                <a:lnTo>
                  <a:pt x="1766" y="2079"/>
                </a:lnTo>
                <a:lnTo>
                  <a:pt x="1768" y="2079"/>
                </a:lnTo>
                <a:lnTo>
                  <a:pt x="1769" y="2079"/>
                </a:lnTo>
                <a:lnTo>
                  <a:pt x="1773" y="2079"/>
                </a:lnTo>
                <a:lnTo>
                  <a:pt x="1777" y="2079"/>
                </a:lnTo>
                <a:lnTo>
                  <a:pt x="1783" y="2079"/>
                </a:lnTo>
                <a:lnTo>
                  <a:pt x="1790" y="2079"/>
                </a:lnTo>
                <a:lnTo>
                  <a:pt x="1801" y="2079"/>
                </a:lnTo>
                <a:lnTo>
                  <a:pt x="1813" y="2079"/>
                </a:lnTo>
                <a:lnTo>
                  <a:pt x="1829" y="2079"/>
                </a:lnTo>
              </a:path>
            </a:pathLst>
          </a:custGeom>
          <a:noFill/>
          <a:ln w="31680">
            <a:solidFill>
              <a:srgbClr val="00c1c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1320" y="1852560"/>
            <a:ext cx="4421160" cy="5100840"/>
          </a:xfrm>
          <a:custGeom>
            <a:avLst/>
            <a:gdLst/>
            <a:ahLst/>
            <a:rect l="l" t="t" r="r" b="b"/>
            <a:pathLst>
              <a:path w="1998" h="2280">
                <a:moveTo>
                  <a:pt x="0" y="0"/>
                </a:moveTo>
                <a:lnTo>
                  <a:pt x="1" y="20"/>
                </a:lnTo>
                <a:lnTo>
                  <a:pt x="3" y="35"/>
                </a:lnTo>
                <a:lnTo>
                  <a:pt x="3" y="48"/>
                </a:lnTo>
                <a:lnTo>
                  <a:pt x="5" y="57"/>
                </a:lnTo>
                <a:lnTo>
                  <a:pt x="5" y="65"/>
                </a:lnTo>
                <a:lnTo>
                  <a:pt x="6" y="70"/>
                </a:lnTo>
                <a:lnTo>
                  <a:pt x="6" y="74"/>
                </a:lnTo>
                <a:lnTo>
                  <a:pt x="7" y="76"/>
                </a:lnTo>
                <a:lnTo>
                  <a:pt x="7" y="79"/>
                </a:lnTo>
                <a:lnTo>
                  <a:pt x="7" y="81"/>
                </a:lnTo>
                <a:lnTo>
                  <a:pt x="7" y="84"/>
                </a:lnTo>
                <a:lnTo>
                  <a:pt x="8" y="86"/>
                </a:lnTo>
                <a:lnTo>
                  <a:pt x="8" y="90"/>
                </a:lnTo>
                <a:lnTo>
                  <a:pt x="9" y="94"/>
                </a:lnTo>
                <a:lnTo>
                  <a:pt x="9" y="101"/>
                </a:lnTo>
                <a:lnTo>
                  <a:pt x="11" y="110"/>
                </a:lnTo>
                <a:lnTo>
                  <a:pt x="12" y="122"/>
                </a:lnTo>
                <a:lnTo>
                  <a:pt x="14" y="136"/>
                </a:lnTo>
                <a:lnTo>
                  <a:pt x="16" y="154"/>
                </a:lnTo>
                <a:lnTo>
                  <a:pt x="20" y="174"/>
                </a:lnTo>
                <a:lnTo>
                  <a:pt x="24" y="197"/>
                </a:lnTo>
                <a:lnTo>
                  <a:pt x="28" y="221"/>
                </a:lnTo>
                <a:lnTo>
                  <a:pt x="33" y="247"/>
                </a:lnTo>
                <a:lnTo>
                  <a:pt x="38" y="273"/>
                </a:lnTo>
                <a:lnTo>
                  <a:pt x="43" y="302"/>
                </a:lnTo>
                <a:lnTo>
                  <a:pt x="49" y="331"/>
                </a:lnTo>
                <a:lnTo>
                  <a:pt x="54" y="360"/>
                </a:lnTo>
                <a:lnTo>
                  <a:pt x="61" y="390"/>
                </a:lnTo>
                <a:lnTo>
                  <a:pt x="66" y="420"/>
                </a:lnTo>
                <a:lnTo>
                  <a:pt x="72" y="448"/>
                </a:lnTo>
                <a:lnTo>
                  <a:pt x="77" y="477"/>
                </a:lnTo>
                <a:lnTo>
                  <a:pt x="85" y="504"/>
                </a:lnTo>
                <a:lnTo>
                  <a:pt x="91" y="532"/>
                </a:lnTo>
                <a:lnTo>
                  <a:pt x="97" y="561"/>
                </a:lnTo>
                <a:lnTo>
                  <a:pt x="104" y="592"/>
                </a:lnTo>
                <a:lnTo>
                  <a:pt x="112" y="622"/>
                </a:lnTo>
                <a:lnTo>
                  <a:pt x="119" y="653"/>
                </a:lnTo>
                <a:lnTo>
                  <a:pt x="128" y="684"/>
                </a:lnTo>
                <a:lnTo>
                  <a:pt x="135" y="715"/>
                </a:lnTo>
                <a:lnTo>
                  <a:pt x="145" y="745"/>
                </a:lnTo>
                <a:lnTo>
                  <a:pt x="152" y="776"/>
                </a:lnTo>
                <a:lnTo>
                  <a:pt x="161" y="804"/>
                </a:lnTo>
                <a:lnTo>
                  <a:pt x="169" y="831"/>
                </a:lnTo>
                <a:lnTo>
                  <a:pt x="177" y="856"/>
                </a:lnTo>
                <a:lnTo>
                  <a:pt x="184" y="880"/>
                </a:lnTo>
                <a:lnTo>
                  <a:pt x="192" y="900"/>
                </a:lnTo>
                <a:lnTo>
                  <a:pt x="198" y="919"/>
                </a:lnTo>
                <a:lnTo>
                  <a:pt x="205" y="934"/>
                </a:lnTo>
                <a:lnTo>
                  <a:pt x="210" y="949"/>
                </a:lnTo>
                <a:lnTo>
                  <a:pt x="216" y="965"/>
                </a:lnTo>
                <a:lnTo>
                  <a:pt x="223" y="983"/>
                </a:lnTo>
                <a:lnTo>
                  <a:pt x="231" y="1003"/>
                </a:lnTo>
                <a:lnTo>
                  <a:pt x="239" y="1024"/>
                </a:lnTo>
                <a:lnTo>
                  <a:pt x="249" y="1046"/>
                </a:lnTo>
                <a:lnTo>
                  <a:pt x="258" y="1068"/>
                </a:lnTo>
                <a:lnTo>
                  <a:pt x="268" y="1091"/>
                </a:lnTo>
                <a:lnTo>
                  <a:pt x="277" y="1115"/>
                </a:lnTo>
                <a:lnTo>
                  <a:pt x="287" y="1138"/>
                </a:lnTo>
                <a:lnTo>
                  <a:pt x="296" y="1161"/>
                </a:lnTo>
                <a:lnTo>
                  <a:pt x="306" y="1184"/>
                </a:lnTo>
                <a:lnTo>
                  <a:pt x="315" y="1206"/>
                </a:lnTo>
                <a:lnTo>
                  <a:pt x="324" y="1227"/>
                </a:lnTo>
                <a:lnTo>
                  <a:pt x="332" y="1247"/>
                </a:lnTo>
                <a:lnTo>
                  <a:pt x="341" y="1265"/>
                </a:lnTo>
                <a:lnTo>
                  <a:pt x="349" y="1285"/>
                </a:lnTo>
                <a:lnTo>
                  <a:pt x="357" y="1304"/>
                </a:lnTo>
                <a:lnTo>
                  <a:pt x="366" y="1325"/>
                </a:lnTo>
                <a:lnTo>
                  <a:pt x="375" y="1346"/>
                </a:lnTo>
                <a:lnTo>
                  <a:pt x="385" y="1368"/>
                </a:lnTo>
                <a:lnTo>
                  <a:pt x="394" y="1390"/>
                </a:lnTo>
                <a:lnTo>
                  <a:pt x="403" y="1413"/>
                </a:lnTo>
                <a:lnTo>
                  <a:pt x="414" y="1433"/>
                </a:lnTo>
                <a:lnTo>
                  <a:pt x="423" y="1456"/>
                </a:lnTo>
                <a:lnTo>
                  <a:pt x="432" y="1476"/>
                </a:lnTo>
                <a:lnTo>
                  <a:pt x="440" y="1497"/>
                </a:lnTo>
                <a:lnTo>
                  <a:pt x="449" y="1515"/>
                </a:lnTo>
                <a:lnTo>
                  <a:pt x="457" y="1532"/>
                </a:lnTo>
                <a:lnTo>
                  <a:pt x="464" y="1548"/>
                </a:lnTo>
                <a:lnTo>
                  <a:pt x="471" y="1562"/>
                </a:lnTo>
                <a:lnTo>
                  <a:pt x="477" y="1574"/>
                </a:lnTo>
                <a:lnTo>
                  <a:pt x="483" y="1587"/>
                </a:lnTo>
                <a:lnTo>
                  <a:pt x="489" y="1600"/>
                </a:lnTo>
                <a:lnTo>
                  <a:pt x="497" y="1616"/>
                </a:lnTo>
                <a:lnTo>
                  <a:pt x="506" y="1630"/>
                </a:lnTo>
                <a:lnTo>
                  <a:pt x="515" y="1647"/>
                </a:lnTo>
                <a:lnTo>
                  <a:pt x="525" y="1663"/>
                </a:lnTo>
                <a:lnTo>
                  <a:pt x="535" y="1680"/>
                </a:lnTo>
                <a:lnTo>
                  <a:pt x="547" y="1696"/>
                </a:lnTo>
                <a:lnTo>
                  <a:pt x="557" y="1713"/>
                </a:lnTo>
                <a:lnTo>
                  <a:pt x="569" y="1730"/>
                </a:lnTo>
                <a:lnTo>
                  <a:pt x="580" y="1746"/>
                </a:lnTo>
                <a:lnTo>
                  <a:pt x="591" y="1762"/>
                </a:lnTo>
                <a:lnTo>
                  <a:pt x="601" y="1777"/>
                </a:lnTo>
                <a:lnTo>
                  <a:pt x="612" y="1792"/>
                </a:lnTo>
                <a:lnTo>
                  <a:pt x="622" y="1804"/>
                </a:lnTo>
                <a:lnTo>
                  <a:pt x="633" y="1816"/>
                </a:lnTo>
                <a:lnTo>
                  <a:pt x="641" y="1828"/>
                </a:lnTo>
                <a:lnTo>
                  <a:pt x="652" y="1840"/>
                </a:lnTo>
                <a:lnTo>
                  <a:pt x="663" y="1853"/>
                </a:lnTo>
                <a:lnTo>
                  <a:pt x="676" y="1866"/>
                </a:lnTo>
                <a:lnTo>
                  <a:pt x="688" y="1881"/>
                </a:lnTo>
                <a:lnTo>
                  <a:pt x="701" y="1894"/>
                </a:lnTo>
                <a:lnTo>
                  <a:pt x="715" y="1908"/>
                </a:lnTo>
                <a:lnTo>
                  <a:pt x="729" y="1921"/>
                </a:lnTo>
                <a:lnTo>
                  <a:pt x="742" y="1936"/>
                </a:lnTo>
                <a:lnTo>
                  <a:pt x="755" y="1949"/>
                </a:lnTo>
                <a:lnTo>
                  <a:pt x="768" y="1962"/>
                </a:lnTo>
                <a:lnTo>
                  <a:pt x="781" y="1973"/>
                </a:lnTo>
                <a:lnTo>
                  <a:pt x="793" y="1984"/>
                </a:lnTo>
                <a:lnTo>
                  <a:pt x="805" y="1994"/>
                </a:lnTo>
                <a:lnTo>
                  <a:pt x="815" y="2003"/>
                </a:lnTo>
                <a:lnTo>
                  <a:pt x="825" y="2010"/>
                </a:lnTo>
                <a:lnTo>
                  <a:pt x="834" y="2017"/>
                </a:lnTo>
                <a:lnTo>
                  <a:pt x="843" y="2025"/>
                </a:lnTo>
                <a:lnTo>
                  <a:pt x="853" y="2032"/>
                </a:lnTo>
                <a:lnTo>
                  <a:pt x="863" y="2040"/>
                </a:lnTo>
                <a:lnTo>
                  <a:pt x="873" y="2047"/>
                </a:lnTo>
                <a:lnTo>
                  <a:pt x="883" y="2055"/>
                </a:lnTo>
                <a:lnTo>
                  <a:pt x="892" y="2062"/>
                </a:lnTo>
                <a:lnTo>
                  <a:pt x="902" y="2068"/>
                </a:lnTo>
                <a:lnTo>
                  <a:pt x="911" y="2076"/>
                </a:lnTo>
                <a:lnTo>
                  <a:pt x="920" y="2082"/>
                </a:lnTo>
                <a:lnTo>
                  <a:pt x="927" y="2088"/>
                </a:lnTo>
                <a:lnTo>
                  <a:pt x="935" y="2093"/>
                </a:lnTo>
                <a:lnTo>
                  <a:pt x="942" y="2098"/>
                </a:lnTo>
                <a:lnTo>
                  <a:pt x="949" y="2102"/>
                </a:lnTo>
                <a:lnTo>
                  <a:pt x="953" y="2106"/>
                </a:lnTo>
                <a:lnTo>
                  <a:pt x="958" y="2108"/>
                </a:lnTo>
                <a:lnTo>
                  <a:pt x="961" y="2111"/>
                </a:lnTo>
                <a:lnTo>
                  <a:pt x="965" y="2113"/>
                </a:lnTo>
                <a:lnTo>
                  <a:pt x="970" y="2116"/>
                </a:lnTo>
                <a:lnTo>
                  <a:pt x="976" y="2118"/>
                </a:lnTo>
                <a:lnTo>
                  <a:pt x="982" y="2122"/>
                </a:lnTo>
                <a:lnTo>
                  <a:pt x="989" y="2126"/>
                </a:lnTo>
                <a:lnTo>
                  <a:pt x="996" y="2130"/>
                </a:lnTo>
                <a:lnTo>
                  <a:pt x="1003" y="2132"/>
                </a:lnTo>
                <a:lnTo>
                  <a:pt x="1011" y="2136"/>
                </a:lnTo>
                <a:lnTo>
                  <a:pt x="1019" y="2140"/>
                </a:lnTo>
                <a:lnTo>
                  <a:pt x="1026" y="2143"/>
                </a:lnTo>
                <a:lnTo>
                  <a:pt x="1035" y="2146"/>
                </a:lnTo>
                <a:lnTo>
                  <a:pt x="1042" y="2150"/>
                </a:lnTo>
                <a:lnTo>
                  <a:pt x="1050" y="2153"/>
                </a:lnTo>
                <a:lnTo>
                  <a:pt x="1058" y="2157"/>
                </a:lnTo>
                <a:lnTo>
                  <a:pt x="1067" y="2159"/>
                </a:lnTo>
                <a:lnTo>
                  <a:pt x="1073" y="2163"/>
                </a:lnTo>
                <a:lnTo>
                  <a:pt x="1082" y="2166"/>
                </a:lnTo>
                <a:lnTo>
                  <a:pt x="1091" y="2170"/>
                </a:lnTo>
                <a:lnTo>
                  <a:pt x="1103" y="2172"/>
                </a:lnTo>
                <a:lnTo>
                  <a:pt x="1114" y="2176"/>
                </a:lnTo>
                <a:lnTo>
                  <a:pt x="1126" y="2180"/>
                </a:lnTo>
                <a:lnTo>
                  <a:pt x="1139" y="2183"/>
                </a:lnTo>
                <a:lnTo>
                  <a:pt x="1152" y="2187"/>
                </a:lnTo>
                <a:lnTo>
                  <a:pt x="1165" y="2192"/>
                </a:lnTo>
                <a:lnTo>
                  <a:pt x="1178" y="2196"/>
                </a:lnTo>
                <a:lnTo>
                  <a:pt x="1191" y="2200"/>
                </a:lnTo>
                <a:lnTo>
                  <a:pt x="1205" y="2203"/>
                </a:lnTo>
                <a:lnTo>
                  <a:pt x="1217" y="2207"/>
                </a:lnTo>
                <a:lnTo>
                  <a:pt x="1230" y="2211"/>
                </a:lnTo>
                <a:lnTo>
                  <a:pt x="1241" y="2214"/>
                </a:lnTo>
                <a:lnTo>
                  <a:pt x="1254" y="2216"/>
                </a:lnTo>
                <a:lnTo>
                  <a:pt x="1264" y="2220"/>
                </a:lnTo>
                <a:lnTo>
                  <a:pt x="1276" y="2223"/>
                </a:lnTo>
                <a:lnTo>
                  <a:pt x="1289" y="2226"/>
                </a:lnTo>
                <a:lnTo>
                  <a:pt x="1303" y="2228"/>
                </a:lnTo>
                <a:lnTo>
                  <a:pt x="1317" y="2232"/>
                </a:lnTo>
                <a:lnTo>
                  <a:pt x="1332" y="2234"/>
                </a:lnTo>
                <a:lnTo>
                  <a:pt x="1347" y="2238"/>
                </a:lnTo>
                <a:lnTo>
                  <a:pt x="1362" y="2240"/>
                </a:lnTo>
                <a:lnTo>
                  <a:pt x="1375" y="2243"/>
                </a:lnTo>
                <a:lnTo>
                  <a:pt x="1390" y="2245"/>
                </a:lnTo>
                <a:lnTo>
                  <a:pt x="1404" y="2248"/>
                </a:lnTo>
                <a:lnTo>
                  <a:pt x="1419" y="2250"/>
                </a:lnTo>
                <a:lnTo>
                  <a:pt x="1430" y="2252"/>
                </a:lnTo>
                <a:lnTo>
                  <a:pt x="1443" y="2254"/>
                </a:lnTo>
                <a:lnTo>
                  <a:pt x="1454" y="2256"/>
                </a:lnTo>
                <a:lnTo>
                  <a:pt x="1465" y="2257"/>
                </a:lnTo>
                <a:lnTo>
                  <a:pt x="1473" y="2259"/>
                </a:lnTo>
                <a:lnTo>
                  <a:pt x="1485" y="2260"/>
                </a:lnTo>
                <a:lnTo>
                  <a:pt x="1497" y="2262"/>
                </a:lnTo>
                <a:lnTo>
                  <a:pt x="1509" y="2262"/>
                </a:lnTo>
                <a:lnTo>
                  <a:pt x="1523" y="2264"/>
                </a:lnTo>
                <a:lnTo>
                  <a:pt x="1538" y="2264"/>
                </a:lnTo>
                <a:lnTo>
                  <a:pt x="1553" y="2266"/>
                </a:lnTo>
                <a:lnTo>
                  <a:pt x="1568" y="2266"/>
                </a:lnTo>
                <a:lnTo>
                  <a:pt x="1583" y="2268"/>
                </a:lnTo>
                <a:lnTo>
                  <a:pt x="1598" y="2270"/>
                </a:lnTo>
                <a:lnTo>
                  <a:pt x="1613" y="2271"/>
                </a:lnTo>
                <a:lnTo>
                  <a:pt x="1629" y="2271"/>
                </a:lnTo>
                <a:lnTo>
                  <a:pt x="1643" y="2273"/>
                </a:lnTo>
                <a:lnTo>
                  <a:pt x="1657" y="2273"/>
                </a:lnTo>
                <a:lnTo>
                  <a:pt x="1669" y="2274"/>
                </a:lnTo>
                <a:lnTo>
                  <a:pt x="1682" y="2274"/>
                </a:lnTo>
                <a:lnTo>
                  <a:pt x="1693" y="2276"/>
                </a:lnTo>
                <a:lnTo>
                  <a:pt x="1705" y="2276"/>
                </a:lnTo>
                <a:lnTo>
                  <a:pt x="1719" y="2276"/>
                </a:lnTo>
                <a:lnTo>
                  <a:pt x="1733" y="2276"/>
                </a:lnTo>
                <a:lnTo>
                  <a:pt x="1748" y="2278"/>
                </a:lnTo>
                <a:lnTo>
                  <a:pt x="1763" y="2278"/>
                </a:lnTo>
                <a:lnTo>
                  <a:pt x="1778" y="2278"/>
                </a:lnTo>
                <a:lnTo>
                  <a:pt x="1794" y="2278"/>
                </a:lnTo>
                <a:lnTo>
                  <a:pt x="1809" y="2279"/>
                </a:lnTo>
                <a:lnTo>
                  <a:pt x="1824" y="2279"/>
                </a:lnTo>
                <a:lnTo>
                  <a:pt x="1838" y="2279"/>
                </a:lnTo>
                <a:lnTo>
                  <a:pt x="1852" y="2279"/>
                </a:lnTo>
                <a:lnTo>
                  <a:pt x="1865" y="2279"/>
                </a:lnTo>
                <a:lnTo>
                  <a:pt x="1877" y="2279"/>
                </a:lnTo>
                <a:lnTo>
                  <a:pt x="1888" y="2279"/>
                </a:lnTo>
                <a:lnTo>
                  <a:pt x="1899" y="2279"/>
                </a:lnTo>
                <a:lnTo>
                  <a:pt x="1906" y="2279"/>
                </a:lnTo>
                <a:lnTo>
                  <a:pt x="1912" y="2279"/>
                </a:lnTo>
                <a:lnTo>
                  <a:pt x="1916" y="2279"/>
                </a:lnTo>
                <a:lnTo>
                  <a:pt x="1920" y="2279"/>
                </a:lnTo>
                <a:lnTo>
                  <a:pt x="1922" y="2279"/>
                </a:lnTo>
                <a:lnTo>
                  <a:pt x="1925" y="2279"/>
                </a:lnTo>
                <a:lnTo>
                  <a:pt x="1926" y="2279"/>
                </a:lnTo>
                <a:lnTo>
                  <a:pt x="1929" y="2279"/>
                </a:lnTo>
                <a:lnTo>
                  <a:pt x="1931" y="2279"/>
                </a:lnTo>
                <a:lnTo>
                  <a:pt x="1935" y="2279"/>
                </a:lnTo>
                <a:lnTo>
                  <a:pt x="1939" y="2279"/>
                </a:lnTo>
                <a:lnTo>
                  <a:pt x="1946" y="2279"/>
                </a:lnTo>
                <a:lnTo>
                  <a:pt x="1955" y="2279"/>
                </a:lnTo>
                <a:lnTo>
                  <a:pt x="1966" y="2279"/>
                </a:lnTo>
                <a:lnTo>
                  <a:pt x="1979" y="2279"/>
                </a:lnTo>
                <a:lnTo>
                  <a:pt x="1997" y="2279"/>
                </a:lnTo>
              </a:path>
            </a:pathLst>
          </a:custGeom>
          <a:noFill/>
          <a:ln w="31680">
            <a:solidFill>
              <a:srgbClr val="00c1c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38320" y="1270080"/>
            <a:ext cx="3540240" cy="4073400"/>
          </a:xfrm>
          <a:custGeom>
            <a:avLst/>
            <a:gdLst/>
            <a:ahLst/>
            <a:rect l="l" t="t" r="r" b="b"/>
            <a:pathLst>
              <a:path w="1600" h="1821">
                <a:moveTo>
                  <a:pt x="0" y="0"/>
                </a:moveTo>
                <a:lnTo>
                  <a:pt x="0" y="16"/>
                </a:lnTo>
                <a:lnTo>
                  <a:pt x="2" y="28"/>
                </a:lnTo>
                <a:lnTo>
                  <a:pt x="2" y="39"/>
                </a:lnTo>
                <a:lnTo>
                  <a:pt x="4" y="46"/>
                </a:lnTo>
                <a:lnTo>
                  <a:pt x="4" y="52"/>
                </a:lnTo>
                <a:lnTo>
                  <a:pt x="4" y="56"/>
                </a:lnTo>
                <a:lnTo>
                  <a:pt x="4" y="59"/>
                </a:lnTo>
                <a:lnTo>
                  <a:pt x="6" y="61"/>
                </a:lnTo>
                <a:lnTo>
                  <a:pt x="6" y="63"/>
                </a:lnTo>
                <a:lnTo>
                  <a:pt x="6" y="64"/>
                </a:lnTo>
                <a:lnTo>
                  <a:pt x="6" y="66"/>
                </a:lnTo>
                <a:lnTo>
                  <a:pt x="6" y="68"/>
                </a:lnTo>
                <a:lnTo>
                  <a:pt x="6" y="72"/>
                </a:lnTo>
                <a:lnTo>
                  <a:pt x="7" y="75"/>
                </a:lnTo>
                <a:lnTo>
                  <a:pt x="7" y="81"/>
                </a:lnTo>
                <a:lnTo>
                  <a:pt x="9" y="88"/>
                </a:lnTo>
                <a:lnTo>
                  <a:pt x="10" y="98"/>
                </a:lnTo>
                <a:lnTo>
                  <a:pt x="11" y="110"/>
                </a:lnTo>
                <a:lnTo>
                  <a:pt x="13" y="124"/>
                </a:lnTo>
                <a:lnTo>
                  <a:pt x="16" y="140"/>
                </a:lnTo>
                <a:lnTo>
                  <a:pt x="19" y="158"/>
                </a:lnTo>
                <a:lnTo>
                  <a:pt x="22" y="177"/>
                </a:lnTo>
                <a:lnTo>
                  <a:pt x="26" y="199"/>
                </a:lnTo>
                <a:lnTo>
                  <a:pt x="31" y="219"/>
                </a:lnTo>
                <a:lnTo>
                  <a:pt x="34" y="243"/>
                </a:lnTo>
                <a:lnTo>
                  <a:pt x="40" y="265"/>
                </a:lnTo>
                <a:lnTo>
                  <a:pt x="43" y="290"/>
                </a:lnTo>
                <a:lnTo>
                  <a:pt x="49" y="312"/>
                </a:lnTo>
                <a:lnTo>
                  <a:pt x="52" y="337"/>
                </a:lnTo>
                <a:lnTo>
                  <a:pt x="58" y="359"/>
                </a:lnTo>
                <a:lnTo>
                  <a:pt x="62" y="381"/>
                </a:lnTo>
                <a:lnTo>
                  <a:pt x="68" y="403"/>
                </a:lnTo>
                <a:lnTo>
                  <a:pt x="72" y="426"/>
                </a:lnTo>
                <a:lnTo>
                  <a:pt x="78" y="449"/>
                </a:lnTo>
                <a:lnTo>
                  <a:pt x="84" y="473"/>
                </a:lnTo>
                <a:lnTo>
                  <a:pt x="90" y="497"/>
                </a:lnTo>
                <a:lnTo>
                  <a:pt x="96" y="523"/>
                </a:lnTo>
                <a:lnTo>
                  <a:pt x="103" y="547"/>
                </a:lnTo>
                <a:lnTo>
                  <a:pt x="110" y="572"/>
                </a:lnTo>
                <a:lnTo>
                  <a:pt x="118" y="595"/>
                </a:lnTo>
                <a:lnTo>
                  <a:pt x="123" y="620"/>
                </a:lnTo>
                <a:lnTo>
                  <a:pt x="130" y="643"/>
                </a:lnTo>
                <a:lnTo>
                  <a:pt x="136" y="665"/>
                </a:lnTo>
                <a:lnTo>
                  <a:pt x="143" y="685"/>
                </a:lnTo>
                <a:lnTo>
                  <a:pt x="149" y="704"/>
                </a:lnTo>
                <a:lnTo>
                  <a:pt x="155" y="720"/>
                </a:lnTo>
                <a:lnTo>
                  <a:pt x="159" y="735"/>
                </a:lnTo>
                <a:lnTo>
                  <a:pt x="165" y="746"/>
                </a:lnTo>
                <a:lnTo>
                  <a:pt x="169" y="758"/>
                </a:lnTo>
                <a:lnTo>
                  <a:pt x="174" y="771"/>
                </a:lnTo>
                <a:lnTo>
                  <a:pt x="180" y="786"/>
                </a:lnTo>
                <a:lnTo>
                  <a:pt x="187" y="801"/>
                </a:lnTo>
                <a:lnTo>
                  <a:pt x="193" y="819"/>
                </a:lnTo>
                <a:lnTo>
                  <a:pt x="200" y="836"/>
                </a:lnTo>
                <a:lnTo>
                  <a:pt x="208" y="854"/>
                </a:lnTo>
                <a:lnTo>
                  <a:pt x="216" y="871"/>
                </a:lnTo>
                <a:lnTo>
                  <a:pt x="224" y="891"/>
                </a:lnTo>
                <a:lnTo>
                  <a:pt x="231" y="909"/>
                </a:lnTo>
                <a:lnTo>
                  <a:pt x="238" y="928"/>
                </a:lnTo>
                <a:lnTo>
                  <a:pt x="247" y="945"/>
                </a:lnTo>
                <a:lnTo>
                  <a:pt x="253" y="963"/>
                </a:lnTo>
                <a:lnTo>
                  <a:pt x="260" y="980"/>
                </a:lnTo>
                <a:lnTo>
                  <a:pt x="266" y="996"/>
                </a:lnTo>
                <a:lnTo>
                  <a:pt x="274" y="1010"/>
                </a:lnTo>
                <a:lnTo>
                  <a:pt x="280" y="1027"/>
                </a:lnTo>
                <a:lnTo>
                  <a:pt x="286" y="1041"/>
                </a:lnTo>
                <a:lnTo>
                  <a:pt x="294" y="1058"/>
                </a:lnTo>
                <a:lnTo>
                  <a:pt x="302" y="1075"/>
                </a:lnTo>
                <a:lnTo>
                  <a:pt x="309" y="1093"/>
                </a:lnTo>
                <a:lnTo>
                  <a:pt x="316" y="1110"/>
                </a:lnTo>
                <a:lnTo>
                  <a:pt x="324" y="1128"/>
                </a:lnTo>
                <a:lnTo>
                  <a:pt x="333" y="1145"/>
                </a:lnTo>
                <a:lnTo>
                  <a:pt x="340" y="1163"/>
                </a:lnTo>
                <a:lnTo>
                  <a:pt x="347" y="1179"/>
                </a:lnTo>
                <a:lnTo>
                  <a:pt x="354" y="1196"/>
                </a:lnTo>
                <a:lnTo>
                  <a:pt x="362" y="1210"/>
                </a:lnTo>
                <a:lnTo>
                  <a:pt x="367" y="1224"/>
                </a:lnTo>
                <a:lnTo>
                  <a:pt x="373" y="1237"/>
                </a:lnTo>
                <a:lnTo>
                  <a:pt x="379" y="1249"/>
                </a:lnTo>
                <a:lnTo>
                  <a:pt x="384" y="1257"/>
                </a:lnTo>
                <a:lnTo>
                  <a:pt x="388" y="1268"/>
                </a:lnTo>
                <a:lnTo>
                  <a:pt x="394" y="1278"/>
                </a:lnTo>
                <a:lnTo>
                  <a:pt x="400" y="1291"/>
                </a:lnTo>
                <a:lnTo>
                  <a:pt x="407" y="1302"/>
                </a:lnTo>
                <a:lnTo>
                  <a:pt x="414" y="1315"/>
                </a:lnTo>
                <a:lnTo>
                  <a:pt x="422" y="1327"/>
                </a:lnTo>
                <a:lnTo>
                  <a:pt x="430" y="1341"/>
                </a:lnTo>
                <a:lnTo>
                  <a:pt x="439" y="1353"/>
                </a:lnTo>
                <a:lnTo>
                  <a:pt x="446" y="1368"/>
                </a:lnTo>
                <a:lnTo>
                  <a:pt x="456" y="1381"/>
                </a:lnTo>
                <a:lnTo>
                  <a:pt x="464" y="1394"/>
                </a:lnTo>
                <a:lnTo>
                  <a:pt x="474" y="1406"/>
                </a:lnTo>
                <a:lnTo>
                  <a:pt x="481" y="1419"/>
                </a:lnTo>
                <a:lnTo>
                  <a:pt x="490" y="1430"/>
                </a:lnTo>
                <a:lnTo>
                  <a:pt x="498" y="1440"/>
                </a:lnTo>
                <a:lnTo>
                  <a:pt x="507" y="1448"/>
                </a:lnTo>
                <a:lnTo>
                  <a:pt x="514" y="1459"/>
                </a:lnTo>
                <a:lnTo>
                  <a:pt x="522" y="1468"/>
                </a:lnTo>
                <a:lnTo>
                  <a:pt x="532" y="1479"/>
                </a:lnTo>
                <a:lnTo>
                  <a:pt x="542" y="1489"/>
                </a:lnTo>
                <a:lnTo>
                  <a:pt x="551" y="1501"/>
                </a:lnTo>
                <a:lnTo>
                  <a:pt x="562" y="1512"/>
                </a:lnTo>
                <a:lnTo>
                  <a:pt x="574" y="1523"/>
                </a:lnTo>
                <a:lnTo>
                  <a:pt x="585" y="1533"/>
                </a:lnTo>
                <a:lnTo>
                  <a:pt x="594" y="1545"/>
                </a:lnTo>
                <a:lnTo>
                  <a:pt x="606" y="1556"/>
                </a:lnTo>
                <a:lnTo>
                  <a:pt x="615" y="1566"/>
                </a:lnTo>
                <a:lnTo>
                  <a:pt x="627" y="1575"/>
                </a:lnTo>
                <a:lnTo>
                  <a:pt x="636" y="1585"/>
                </a:lnTo>
                <a:lnTo>
                  <a:pt x="646" y="1592"/>
                </a:lnTo>
                <a:lnTo>
                  <a:pt x="654" y="1599"/>
                </a:lnTo>
                <a:lnTo>
                  <a:pt x="663" y="1605"/>
                </a:lnTo>
                <a:lnTo>
                  <a:pt x="670" y="1612"/>
                </a:lnTo>
                <a:lnTo>
                  <a:pt x="677" y="1617"/>
                </a:lnTo>
                <a:lnTo>
                  <a:pt x="685" y="1623"/>
                </a:lnTo>
                <a:lnTo>
                  <a:pt x="693" y="1629"/>
                </a:lnTo>
                <a:lnTo>
                  <a:pt x="700" y="1635"/>
                </a:lnTo>
                <a:lnTo>
                  <a:pt x="708" y="1641"/>
                </a:lnTo>
                <a:lnTo>
                  <a:pt x="715" y="1646"/>
                </a:lnTo>
                <a:lnTo>
                  <a:pt x="724" y="1652"/>
                </a:lnTo>
                <a:lnTo>
                  <a:pt x="730" y="1657"/>
                </a:lnTo>
                <a:lnTo>
                  <a:pt x="738" y="1663"/>
                </a:lnTo>
                <a:lnTo>
                  <a:pt x="743" y="1668"/>
                </a:lnTo>
                <a:lnTo>
                  <a:pt x="750" y="1672"/>
                </a:lnTo>
                <a:lnTo>
                  <a:pt x="754" y="1675"/>
                </a:lnTo>
                <a:lnTo>
                  <a:pt x="760" y="1679"/>
                </a:lnTo>
                <a:lnTo>
                  <a:pt x="764" y="1681"/>
                </a:lnTo>
                <a:lnTo>
                  <a:pt x="768" y="1682"/>
                </a:lnTo>
                <a:lnTo>
                  <a:pt x="770" y="1685"/>
                </a:lnTo>
                <a:lnTo>
                  <a:pt x="773" y="1687"/>
                </a:lnTo>
                <a:lnTo>
                  <a:pt x="777" y="1690"/>
                </a:lnTo>
                <a:lnTo>
                  <a:pt x="782" y="1692"/>
                </a:lnTo>
                <a:lnTo>
                  <a:pt x="786" y="1695"/>
                </a:lnTo>
                <a:lnTo>
                  <a:pt x="792" y="1697"/>
                </a:lnTo>
                <a:lnTo>
                  <a:pt x="798" y="1701"/>
                </a:lnTo>
                <a:lnTo>
                  <a:pt x="804" y="1703"/>
                </a:lnTo>
                <a:lnTo>
                  <a:pt x="810" y="1707"/>
                </a:lnTo>
                <a:lnTo>
                  <a:pt x="816" y="1709"/>
                </a:lnTo>
                <a:lnTo>
                  <a:pt x="821" y="1713"/>
                </a:lnTo>
                <a:lnTo>
                  <a:pt x="829" y="1715"/>
                </a:lnTo>
                <a:lnTo>
                  <a:pt x="834" y="1719"/>
                </a:lnTo>
                <a:lnTo>
                  <a:pt x="841" y="1721"/>
                </a:lnTo>
                <a:lnTo>
                  <a:pt x="847" y="1722"/>
                </a:lnTo>
                <a:lnTo>
                  <a:pt x="854" y="1724"/>
                </a:lnTo>
                <a:lnTo>
                  <a:pt x="859" y="1727"/>
                </a:lnTo>
                <a:lnTo>
                  <a:pt x="866" y="1729"/>
                </a:lnTo>
                <a:lnTo>
                  <a:pt x="874" y="1732"/>
                </a:lnTo>
                <a:lnTo>
                  <a:pt x="883" y="1734"/>
                </a:lnTo>
                <a:lnTo>
                  <a:pt x="892" y="1738"/>
                </a:lnTo>
                <a:lnTo>
                  <a:pt x="902" y="1741"/>
                </a:lnTo>
                <a:lnTo>
                  <a:pt x="912" y="1745"/>
                </a:lnTo>
                <a:lnTo>
                  <a:pt x="924" y="1747"/>
                </a:lnTo>
                <a:lnTo>
                  <a:pt x="933" y="1751"/>
                </a:lnTo>
                <a:lnTo>
                  <a:pt x="944" y="1753"/>
                </a:lnTo>
                <a:lnTo>
                  <a:pt x="955" y="1757"/>
                </a:lnTo>
                <a:lnTo>
                  <a:pt x="966" y="1759"/>
                </a:lnTo>
                <a:lnTo>
                  <a:pt x="976" y="1763"/>
                </a:lnTo>
                <a:lnTo>
                  <a:pt x="987" y="1765"/>
                </a:lnTo>
                <a:lnTo>
                  <a:pt x="996" y="1767"/>
                </a:lnTo>
                <a:lnTo>
                  <a:pt x="1005" y="1769"/>
                </a:lnTo>
                <a:lnTo>
                  <a:pt x="1014" y="1773"/>
                </a:lnTo>
                <a:lnTo>
                  <a:pt x="1024" y="1775"/>
                </a:lnTo>
                <a:lnTo>
                  <a:pt x="1034" y="1777"/>
                </a:lnTo>
                <a:lnTo>
                  <a:pt x="1045" y="1779"/>
                </a:lnTo>
                <a:lnTo>
                  <a:pt x="1056" y="1782"/>
                </a:lnTo>
                <a:lnTo>
                  <a:pt x="1067" y="1784"/>
                </a:lnTo>
                <a:lnTo>
                  <a:pt x="1078" y="1786"/>
                </a:lnTo>
                <a:lnTo>
                  <a:pt x="1092" y="1788"/>
                </a:lnTo>
                <a:lnTo>
                  <a:pt x="1103" y="1791"/>
                </a:lnTo>
                <a:lnTo>
                  <a:pt x="1114" y="1793"/>
                </a:lnTo>
                <a:lnTo>
                  <a:pt x="1125" y="1795"/>
                </a:lnTo>
                <a:lnTo>
                  <a:pt x="1137" y="1797"/>
                </a:lnTo>
                <a:lnTo>
                  <a:pt x="1146" y="1799"/>
                </a:lnTo>
                <a:lnTo>
                  <a:pt x="1157" y="1800"/>
                </a:lnTo>
                <a:lnTo>
                  <a:pt x="1166" y="1801"/>
                </a:lnTo>
                <a:lnTo>
                  <a:pt x="1174" y="1801"/>
                </a:lnTo>
                <a:lnTo>
                  <a:pt x="1181" y="1803"/>
                </a:lnTo>
                <a:lnTo>
                  <a:pt x="1190" y="1803"/>
                </a:lnTo>
                <a:lnTo>
                  <a:pt x="1200" y="1805"/>
                </a:lnTo>
                <a:lnTo>
                  <a:pt x="1211" y="1805"/>
                </a:lnTo>
                <a:lnTo>
                  <a:pt x="1221" y="1807"/>
                </a:lnTo>
                <a:lnTo>
                  <a:pt x="1233" y="1807"/>
                </a:lnTo>
                <a:lnTo>
                  <a:pt x="1244" y="1809"/>
                </a:lnTo>
                <a:lnTo>
                  <a:pt x="1258" y="1809"/>
                </a:lnTo>
                <a:lnTo>
                  <a:pt x="1269" y="1811"/>
                </a:lnTo>
                <a:lnTo>
                  <a:pt x="1282" y="1811"/>
                </a:lnTo>
                <a:lnTo>
                  <a:pt x="1293" y="1813"/>
                </a:lnTo>
                <a:lnTo>
                  <a:pt x="1306" y="1813"/>
                </a:lnTo>
                <a:lnTo>
                  <a:pt x="1317" y="1815"/>
                </a:lnTo>
                <a:lnTo>
                  <a:pt x="1328" y="1815"/>
                </a:lnTo>
                <a:lnTo>
                  <a:pt x="1338" y="1815"/>
                </a:lnTo>
                <a:lnTo>
                  <a:pt x="1348" y="1815"/>
                </a:lnTo>
                <a:lnTo>
                  <a:pt x="1357" y="1817"/>
                </a:lnTo>
                <a:lnTo>
                  <a:pt x="1367" y="1817"/>
                </a:lnTo>
                <a:lnTo>
                  <a:pt x="1378" y="1817"/>
                </a:lnTo>
                <a:lnTo>
                  <a:pt x="1389" y="1817"/>
                </a:lnTo>
                <a:lnTo>
                  <a:pt x="1400" y="1819"/>
                </a:lnTo>
                <a:lnTo>
                  <a:pt x="1413" y="1819"/>
                </a:lnTo>
                <a:lnTo>
                  <a:pt x="1425" y="1819"/>
                </a:lnTo>
                <a:lnTo>
                  <a:pt x="1438" y="1819"/>
                </a:lnTo>
                <a:lnTo>
                  <a:pt x="1449" y="1820"/>
                </a:lnTo>
                <a:lnTo>
                  <a:pt x="1461" y="1820"/>
                </a:lnTo>
                <a:lnTo>
                  <a:pt x="1472" y="1820"/>
                </a:lnTo>
                <a:lnTo>
                  <a:pt x="1484" y="1820"/>
                </a:lnTo>
                <a:lnTo>
                  <a:pt x="1493" y="1820"/>
                </a:lnTo>
                <a:lnTo>
                  <a:pt x="1504" y="1820"/>
                </a:lnTo>
                <a:lnTo>
                  <a:pt x="1513" y="1820"/>
                </a:lnTo>
                <a:lnTo>
                  <a:pt x="1522" y="1820"/>
                </a:lnTo>
                <a:lnTo>
                  <a:pt x="1526" y="1820"/>
                </a:lnTo>
                <a:lnTo>
                  <a:pt x="1532" y="1820"/>
                </a:lnTo>
                <a:lnTo>
                  <a:pt x="1534" y="1820"/>
                </a:lnTo>
                <a:lnTo>
                  <a:pt x="1538" y="1820"/>
                </a:lnTo>
                <a:lnTo>
                  <a:pt x="1540" y="1820"/>
                </a:lnTo>
                <a:lnTo>
                  <a:pt x="1542" y="1820"/>
                </a:lnTo>
                <a:lnTo>
                  <a:pt x="1543" y="1820"/>
                </a:lnTo>
                <a:lnTo>
                  <a:pt x="1545" y="1820"/>
                </a:lnTo>
                <a:lnTo>
                  <a:pt x="1547" y="1820"/>
                </a:lnTo>
                <a:lnTo>
                  <a:pt x="1550" y="1820"/>
                </a:lnTo>
                <a:lnTo>
                  <a:pt x="1553" y="1820"/>
                </a:lnTo>
                <a:lnTo>
                  <a:pt x="1559" y="1820"/>
                </a:lnTo>
                <a:lnTo>
                  <a:pt x="1565" y="1820"/>
                </a:lnTo>
                <a:lnTo>
                  <a:pt x="1574" y="1820"/>
                </a:lnTo>
                <a:lnTo>
                  <a:pt x="1584" y="1820"/>
                </a:lnTo>
                <a:lnTo>
                  <a:pt x="1599" y="1820"/>
                </a:lnTo>
              </a:path>
            </a:pathLst>
          </a:custGeom>
          <a:noFill/>
          <a:ln w="31680">
            <a:solidFill>
              <a:srgbClr val="00c1c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62240" y="1471680"/>
            <a:ext cx="4047840" cy="4653000"/>
          </a:xfrm>
          <a:custGeom>
            <a:avLst/>
            <a:gdLst/>
            <a:ahLst/>
            <a:rect l="l" t="t" r="r" b="b"/>
            <a:pathLst>
              <a:path w="1830" h="2080">
                <a:moveTo>
                  <a:pt x="0" y="0"/>
                </a:moveTo>
                <a:lnTo>
                  <a:pt x="1" y="19"/>
                </a:lnTo>
                <a:lnTo>
                  <a:pt x="2" y="32"/>
                </a:lnTo>
                <a:lnTo>
                  <a:pt x="2" y="44"/>
                </a:lnTo>
                <a:lnTo>
                  <a:pt x="4" y="52"/>
                </a:lnTo>
                <a:lnTo>
                  <a:pt x="4" y="59"/>
                </a:lnTo>
                <a:lnTo>
                  <a:pt x="5" y="64"/>
                </a:lnTo>
                <a:lnTo>
                  <a:pt x="5" y="67"/>
                </a:lnTo>
                <a:lnTo>
                  <a:pt x="7" y="69"/>
                </a:lnTo>
                <a:lnTo>
                  <a:pt x="7" y="72"/>
                </a:lnTo>
                <a:lnTo>
                  <a:pt x="7" y="74"/>
                </a:lnTo>
                <a:lnTo>
                  <a:pt x="7" y="76"/>
                </a:lnTo>
                <a:lnTo>
                  <a:pt x="7" y="77"/>
                </a:lnTo>
                <a:lnTo>
                  <a:pt x="7" y="81"/>
                </a:lnTo>
                <a:lnTo>
                  <a:pt x="8" y="86"/>
                </a:lnTo>
                <a:lnTo>
                  <a:pt x="9" y="92"/>
                </a:lnTo>
                <a:lnTo>
                  <a:pt x="11" y="100"/>
                </a:lnTo>
                <a:lnTo>
                  <a:pt x="11" y="111"/>
                </a:lnTo>
                <a:lnTo>
                  <a:pt x="13" y="125"/>
                </a:lnTo>
                <a:lnTo>
                  <a:pt x="15" y="141"/>
                </a:lnTo>
                <a:lnTo>
                  <a:pt x="19" y="159"/>
                </a:lnTo>
                <a:lnTo>
                  <a:pt x="22" y="180"/>
                </a:lnTo>
                <a:lnTo>
                  <a:pt x="25" y="202"/>
                </a:lnTo>
                <a:lnTo>
                  <a:pt x="29" y="225"/>
                </a:lnTo>
                <a:lnTo>
                  <a:pt x="35" y="250"/>
                </a:lnTo>
                <a:lnTo>
                  <a:pt x="39" y="276"/>
                </a:lnTo>
                <a:lnTo>
                  <a:pt x="45" y="302"/>
                </a:lnTo>
                <a:lnTo>
                  <a:pt x="50" y="330"/>
                </a:lnTo>
                <a:lnTo>
                  <a:pt x="56" y="356"/>
                </a:lnTo>
                <a:lnTo>
                  <a:pt x="62" y="384"/>
                </a:lnTo>
                <a:lnTo>
                  <a:pt x="67" y="410"/>
                </a:lnTo>
                <a:lnTo>
                  <a:pt x="73" y="436"/>
                </a:lnTo>
                <a:lnTo>
                  <a:pt x="79" y="460"/>
                </a:lnTo>
                <a:lnTo>
                  <a:pt x="84" y="486"/>
                </a:lnTo>
                <a:lnTo>
                  <a:pt x="90" y="512"/>
                </a:lnTo>
                <a:lnTo>
                  <a:pt x="96" y="540"/>
                </a:lnTo>
                <a:lnTo>
                  <a:pt x="103" y="568"/>
                </a:lnTo>
                <a:lnTo>
                  <a:pt x="110" y="597"/>
                </a:lnTo>
                <a:lnTo>
                  <a:pt x="118" y="625"/>
                </a:lnTo>
                <a:lnTo>
                  <a:pt x="125" y="653"/>
                </a:lnTo>
                <a:lnTo>
                  <a:pt x="133" y="681"/>
                </a:lnTo>
                <a:lnTo>
                  <a:pt x="140" y="709"/>
                </a:lnTo>
                <a:lnTo>
                  <a:pt x="148" y="734"/>
                </a:lnTo>
                <a:lnTo>
                  <a:pt x="155" y="759"/>
                </a:lnTo>
                <a:lnTo>
                  <a:pt x="163" y="782"/>
                </a:lnTo>
                <a:lnTo>
                  <a:pt x="168" y="804"/>
                </a:lnTo>
                <a:lnTo>
                  <a:pt x="176" y="823"/>
                </a:lnTo>
                <a:lnTo>
                  <a:pt x="181" y="839"/>
                </a:lnTo>
                <a:lnTo>
                  <a:pt x="188" y="852"/>
                </a:lnTo>
                <a:lnTo>
                  <a:pt x="193" y="866"/>
                </a:lnTo>
                <a:lnTo>
                  <a:pt x="198" y="881"/>
                </a:lnTo>
                <a:lnTo>
                  <a:pt x="205" y="898"/>
                </a:lnTo>
                <a:lnTo>
                  <a:pt x="213" y="915"/>
                </a:lnTo>
                <a:lnTo>
                  <a:pt x="220" y="935"/>
                </a:lnTo>
                <a:lnTo>
                  <a:pt x="229" y="955"/>
                </a:lnTo>
                <a:lnTo>
                  <a:pt x="237" y="975"/>
                </a:lnTo>
                <a:lnTo>
                  <a:pt x="247" y="996"/>
                </a:lnTo>
                <a:lnTo>
                  <a:pt x="255" y="1018"/>
                </a:lnTo>
                <a:lnTo>
                  <a:pt x="264" y="1040"/>
                </a:lnTo>
                <a:lnTo>
                  <a:pt x="273" y="1061"/>
                </a:lnTo>
                <a:lnTo>
                  <a:pt x="282" y="1081"/>
                </a:lnTo>
                <a:lnTo>
                  <a:pt x="289" y="1102"/>
                </a:lnTo>
                <a:lnTo>
                  <a:pt x="299" y="1121"/>
                </a:lnTo>
                <a:lnTo>
                  <a:pt x="306" y="1139"/>
                </a:lnTo>
                <a:lnTo>
                  <a:pt x="314" y="1155"/>
                </a:lnTo>
                <a:lnTo>
                  <a:pt x="321" y="1173"/>
                </a:lnTo>
                <a:lnTo>
                  <a:pt x="328" y="1190"/>
                </a:lnTo>
                <a:lnTo>
                  <a:pt x="335" y="1209"/>
                </a:lnTo>
                <a:lnTo>
                  <a:pt x="344" y="1228"/>
                </a:lnTo>
                <a:lnTo>
                  <a:pt x="352" y="1248"/>
                </a:lnTo>
                <a:lnTo>
                  <a:pt x="361" y="1268"/>
                </a:lnTo>
                <a:lnTo>
                  <a:pt x="371" y="1289"/>
                </a:lnTo>
                <a:lnTo>
                  <a:pt x="380" y="1308"/>
                </a:lnTo>
                <a:lnTo>
                  <a:pt x="387" y="1328"/>
                </a:lnTo>
                <a:lnTo>
                  <a:pt x="397" y="1347"/>
                </a:lnTo>
                <a:lnTo>
                  <a:pt x="404" y="1366"/>
                </a:lnTo>
                <a:lnTo>
                  <a:pt x="413" y="1383"/>
                </a:lnTo>
                <a:lnTo>
                  <a:pt x="420" y="1399"/>
                </a:lnTo>
                <a:lnTo>
                  <a:pt x="427" y="1413"/>
                </a:lnTo>
                <a:lnTo>
                  <a:pt x="433" y="1426"/>
                </a:lnTo>
                <a:lnTo>
                  <a:pt x="440" y="1436"/>
                </a:lnTo>
                <a:lnTo>
                  <a:pt x="445" y="1448"/>
                </a:lnTo>
                <a:lnTo>
                  <a:pt x="450" y="1460"/>
                </a:lnTo>
                <a:lnTo>
                  <a:pt x="457" y="1474"/>
                </a:lnTo>
                <a:lnTo>
                  <a:pt x="465" y="1487"/>
                </a:lnTo>
                <a:lnTo>
                  <a:pt x="473" y="1502"/>
                </a:lnTo>
                <a:lnTo>
                  <a:pt x="483" y="1517"/>
                </a:lnTo>
                <a:lnTo>
                  <a:pt x="492" y="1532"/>
                </a:lnTo>
                <a:lnTo>
                  <a:pt x="503" y="1547"/>
                </a:lnTo>
                <a:lnTo>
                  <a:pt x="512" y="1563"/>
                </a:lnTo>
                <a:lnTo>
                  <a:pt x="522" y="1578"/>
                </a:lnTo>
                <a:lnTo>
                  <a:pt x="531" y="1593"/>
                </a:lnTo>
                <a:lnTo>
                  <a:pt x="543" y="1607"/>
                </a:lnTo>
                <a:lnTo>
                  <a:pt x="552" y="1622"/>
                </a:lnTo>
                <a:lnTo>
                  <a:pt x="562" y="1634"/>
                </a:lnTo>
                <a:lnTo>
                  <a:pt x="571" y="1646"/>
                </a:lnTo>
                <a:lnTo>
                  <a:pt x="581" y="1657"/>
                </a:lnTo>
                <a:lnTo>
                  <a:pt x="589" y="1668"/>
                </a:lnTo>
                <a:lnTo>
                  <a:pt x="598" y="1679"/>
                </a:lnTo>
                <a:lnTo>
                  <a:pt x="609" y="1692"/>
                </a:lnTo>
                <a:lnTo>
                  <a:pt x="620" y="1703"/>
                </a:lnTo>
                <a:lnTo>
                  <a:pt x="631" y="1716"/>
                </a:lnTo>
                <a:lnTo>
                  <a:pt x="643" y="1728"/>
                </a:lnTo>
                <a:lnTo>
                  <a:pt x="656" y="1742"/>
                </a:lnTo>
                <a:lnTo>
                  <a:pt x="669" y="1753"/>
                </a:lnTo>
                <a:lnTo>
                  <a:pt x="680" y="1766"/>
                </a:lnTo>
                <a:lnTo>
                  <a:pt x="693" y="1778"/>
                </a:lnTo>
                <a:lnTo>
                  <a:pt x="704" y="1790"/>
                </a:lnTo>
                <a:lnTo>
                  <a:pt x="717" y="1801"/>
                </a:lnTo>
                <a:lnTo>
                  <a:pt x="727" y="1812"/>
                </a:lnTo>
                <a:lnTo>
                  <a:pt x="739" y="1820"/>
                </a:lnTo>
                <a:lnTo>
                  <a:pt x="748" y="1828"/>
                </a:lnTo>
                <a:lnTo>
                  <a:pt x="758" y="1835"/>
                </a:lnTo>
                <a:lnTo>
                  <a:pt x="765" y="1843"/>
                </a:lnTo>
                <a:lnTo>
                  <a:pt x="774" y="1849"/>
                </a:lnTo>
                <a:lnTo>
                  <a:pt x="783" y="1856"/>
                </a:lnTo>
                <a:lnTo>
                  <a:pt x="792" y="1862"/>
                </a:lnTo>
                <a:lnTo>
                  <a:pt x="801" y="1870"/>
                </a:lnTo>
                <a:lnTo>
                  <a:pt x="811" y="1875"/>
                </a:lnTo>
                <a:lnTo>
                  <a:pt x="819" y="1882"/>
                </a:lnTo>
                <a:lnTo>
                  <a:pt x="829" y="1888"/>
                </a:lnTo>
                <a:lnTo>
                  <a:pt x="836" y="1894"/>
                </a:lnTo>
                <a:lnTo>
                  <a:pt x="844" y="1900"/>
                </a:lnTo>
                <a:lnTo>
                  <a:pt x="850" y="1906"/>
                </a:lnTo>
                <a:lnTo>
                  <a:pt x="858" y="1910"/>
                </a:lnTo>
                <a:lnTo>
                  <a:pt x="863" y="1915"/>
                </a:lnTo>
                <a:lnTo>
                  <a:pt x="869" y="1919"/>
                </a:lnTo>
                <a:lnTo>
                  <a:pt x="873" y="1922"/>
                </a:lnTo>
                <a:lnTo>
                  <a:pt x="878" y="1924"/>
                </a:lnTo>
                <a:lnTo>
                  <a:pt x="880" y="1927"/>
                </a:lnTo>
                <a:lnTo>
                  <a:pt x="884" y="1929"/>
                </a:lnTo>
                <a:lnTo>
                  <a:pt x="889" y="1931"/>
                </a:lnTo>
                <a:lnTo>
                  <a:pt x="895" y="1933"/>
                </a:lnTo>
                <a:lnTo>
                  <a:pt x="900" y="1937"/>
                </a:lnTo>
                <a:lnTo>
                  <a:pt x="907" y="1939"/>
                </a:lnTo>
                <a:lnTo>
                  <a:pt x="913" y="1943"/>
                </a:lnTo>
                <a:lnTo>
                  <a:pt x="920" y="1945"/>
                </a:lnTo>
                <a:lnTo>
                  <a:pt x="927" y="1949"/>
                </a:lnTo>
                <a:lnTo>
                  <a:pt x="934" y="1952"/>
                </a:lnTo>
                <a:lnTo>
                  <a:pt x="941" y="1956"/>
                </a:lnTo>
                <a:lnTo>
                  <a:pt x="949" y="1958"/>
                </a:lnTo>
                <a:lnTo>
                  <a:pt x="955" y="1962"/>
                </a:lnTo>
                <a:lnTo>
                  <a:pt x="963" y="1964"/>
                </a:lnTo>
                <a:lnTo>
                  <a:pt x="969" y="1968"/>
                </a:lnTo>
                <a:lnTo>
                  <a:pt x="977" y="1969"/>
                </a:lnTo>
                <a:lnTo>
                  <a:pt x="983" y="1973"/>
                </a:lnTo>
                <a:lnTo>
                  <a:pt x="991" y="1976"/>
                </a:lnTo>
                <a:lnTo>
                  <a:pt x="1000" y="1980"/>
                </a:lnTo>
                <a:lnTo>
                  <a:pt x="1011" y="1982"/>
                </a:lnTo>
                <a:lnTo>
                  <a:pt x="1021" y="1986"/>
                </a:lnTo>
                <a:lnTo>
                  <a:pt x="1032" y="1989"/>
                </a:lnTo>
                <a:lnTo>
                  <a:pt x="1043" y="1993"/>
                </a:lnTo>
                <a:lnTo>
                  <a:pt x="1056" y="1996"/>
                </a:lnTo>
                <a:lnTo>
                  <a:pt x="1067" y="2000"/>
                </a:lnTo>
                <a:lnTo>
                  <a:pt x="1081" y="2004"/>
                </a:lnTo>
                <a:lnTo>
                  <a:pt x="1093" y="2007"/>
                </a:lnTo>
                <a:lnTo>
                  <a:pt x="1105" y="2011"/>
                </a:lnTo>
                <a:lnTo>
                  <a:pt x="1117" y="2015"/>
                </a:lnTo>
                <a:lnTo>
                  <a:pt x="1129" y="2018"/>
                </a:lnTo>
                <a:lnTo>
                  <a:pt x="1139" y="2021"/>
                </a:lnTo>
                <a:lnTo>
                  <a:pt x="1151" y="2023"/>
                </a:lnTo>
                <a:lnTo>
                  <a:pt x="1160" y="2027"/>
                </a:lnTo>
                <a:lnTo>
                  <a:pt x="1171" y="2028"/>
                </a:lnTo>
                <a:lnTo>
                  <a:pt x="1182" y="2032"/>
                </a:lnTo>
                <a:lnTo>
                  <a:pt x="1195" y="2034"/>
                </a:lnTo>
                <a:lnTo>
                  <a:pt x="1208" y="2037"/>
                </a:lnTo>
                <a:lnTo>
                  <a:pt x="1221" y="2039"/>
                </a:lnTo>
                <a:lnTo>
                  <a:pt x="1234" y="2042"/>
                </a:lnTo>
                <a:lnTo>
                  <a:pt x="1249" y="2044"/>
                </a:lnTo>
                <a:lnTo>
                  <a:pt x="1262" y="2047"/>
                </a:lnTo>
                <a:lnTo>
                  <a:pt x="1275" y="2049"/>
                </a:lnTo>
                <a:lnTo>
                  <a:pt x="1288" y="2051"/>
                </a:lnTo>
                <a:lnTo>
                  <a:pt x="1301" y="2053"/>
                </a:lnTo>
                <a:lnTo>
                  <a:pt x="1312" y="2055"/>
                </a:lnTo>
                <a:lnTo>
                  <a:pt x="1323" y="2057"/>
                </a:lnTo>
                <a:lnTo>
                  <a:pt x="1333" y="2058"/>
                </a:lnTo>
                <a:lnTo>
                  <a:pt x="1343" y="2058"/>
                </a:lnTo>
                <a:lnTo>
                  <a:pt x="1351" y="2060"/>
                </a:lnTo>
                <a:lnTo>
                  <a:pt x="1361" y="2062"/>
                </a:lnTo>
                <a:lnTo>
                  <a:pt x="1372" y="2064"/>
                </a:lnTo>
                <a:lnTo>
                  <a:pt x="1384" y="2064"/>
                </a:lnTo>
                <a:lnTo>
                  <a:pt x="1396" y="2065"/>
                </a:lnTo>
                <a:lnTo>
                  <a:pt x="1409" y="2065"/>
                </a:lnTo>
                <a:lnTo>
                  <a:pt x="1423" y="2067"/>
                </a:lnTo>
                <a:lnTo>
                  <a:pt x="1437" y="2067"/>
                </a:lnTo>
                <a:lnTo>
                  <a:pt x="1451" y="2069"/>
                </a:lnTo>
                <a:lnTo>
                  <a:pt x="1465" y="2070"/>
                </a:lnTo>
                <a:lnTo>
                  <a:pt x="1478" y="2072"/>
                </a:lnTo>
                <a:lnTo>
                  <a:pt x="1493" y="2072"/>
                </a:lnTo>
                <a:lnTo>
                  <a:pt x="1505" y="2074"/>
                </a:lnTo>
                <a:lnTo>
                  <a:pt x="1518" y="2074"/>
                </a:lnTo>
                <a:lnTo>
                  <a:pt x="1529" y="2075"/>
                </a:lnTo>
                <a:lnTo>
                  <a:pt x="1542" y="2075"/>
                </a:lnTo>
                <a:lnTo>
                  <a:pt x="1552" y="2077"/>
                </a:lnTo>
                <a:lnTo>
                  <a:pt x="1563" y="2077"/>
                </a:lnTo>
                <a:lnTo>
                  <a:pt x="1576" y="2077"/>
                </a:lnTo>
                <a:lnTo>
                  <a:pt x="1589" y="2077"/>
                </a:lnTo>
                <a:lnTo>
                  <a:pt x="1602" y="2078"/>
                </a:lnTo>
                <a:lnTo>
                  <a:pt x="1616" y="2078"/>
                </a:lnTo>
                <a:lnTo>
                  <a:pt x="1630" y="2078"/>
                </a:lnTo>
                <a:lnTo>
                  <a:pt x="1645" y="2078"/>
                </a:lnTo>
                <a:lnTo>
                  <a:pt x="1658" y="2079"/>
                </a:lnTo>
                <a:lnTo>
                  <a:pt x="1671" y="2079"/>
                </a:lnTo>
                <a:lnTo>
                  <a:pt x="1685" y="2079"/>
                </a:lnTo>
                <a:lnTo>
                  <a:pt x="1698" y="2079"/>
                </a:lnTo>
                <a:lnTo>
                  <a:pt x="1709" y="2079"/>
                </a:lnTo>
                <a:lnTo>
                  <a:pt x="1721" y="2079"/>
                </a:lnTo>
                <a:lnTo>
                  <a:pt x="1731" y="2079"/>
                </a:lnTo>
                <a:lnTo>
                  <a:pt x="1741" y="2079"/>
                </a:lnTo>
                <a:lnTo>
                  <a:pt x="1747" y="2079"/>
                </a:lnTo>
                <a:lnTo>
                  <a:pt x="1753" y="2079"/>
                </a:lnTo>
                <a:lnTo>
                  <a:pt x="1757" y="2079"/>
                </a:lnTo>
                <a:lnTo>
                  <a:pt x="1760" y="2079"/>
                </a:lnTo>
                <a:lnTo>
                  <a:pt x="1762" y="2079"/>
                </a:lnTo>
                <a:lnTo>
                  <a:pt x="1764" y="2079"/>
                </a:lnTo>
                <a:lnTo>
                  <a:pt x="1766" y="2079"/>
                </a:lnTo>
                <a:lnTo>
                  <a:pt x="1768" y="2079"/>
                </a:lnTo>
                <a:lnTo>
                  <a:pt x="1769" y="2079"/>
                </a:lnTo>
                <a:lnTo>
                  <a:pt x="1773" y="2079"/>
                </a:lnTo>
                <a:lnTo>
                  <a:pt x="1777" y="2079"/>
                </a:lnTo>
                <a:lnTo>
                  <a:pt x="1783" y="2079"/>
                </a:lnTo>
                <a:lnTo>
                  <a:pt x="1790" y="2079"/>
                </a:lnTo>
                <a:lnTo>
                  <a:pt x="1801" y="2079"/>
                </a:lnTo>
                <a:lnTo>
                  <a:pt x="1813" y="2079"/>
                </a:lnTo>
                <a:lnTo>
                  <a:pt x="1829" y="2079"/>
                </a:lnTo>
              </a:path>
            </a:pathLst>
          </a:custGeom>
          <a:noFill/>
          <a:ln w="442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94120" y="5351400"/>
            <a:ext cx="1700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39880" y="627120"/>
            <a:ext cx="3540240" cy="4073400"/>
          </a:xfrm>
          <a:custGeom>
            <a:avLst/>
            <a:gdLst/>
            <a:ahLst/>
            <a:rect l="l" t="t" r="r" b="b"/>
            <a:pathLst>
              <a:path w="1600" h="1821">
                <a:moveTo>
                  <a:pt x="0" y="0"/>
                </a:moveTo>
                <a:lnTo>
                  <a:pt x="0" y="16"/>
                </a:lnTo>
                <a:lnTo>
                  <a:pt x="2" y="28"/>
                </a:lnTo>
                <a:lnTo>
                  <a:pt x="2" y="39"/>
                </a:lnTo>
                <a:lnTo>
                  <a:pt x="4" y="46"/>
                </a:lnTo>
                <a:lnTo>
                  <a:pt x="4" y="52"/>
                </a:lnTo>
                <a:lnTo>
                  <a:pt x="4" y="56"/>
                </a:lnTo>
                <a:lnTo>
                  <a:pt x="4" y="59"/>
                </a:lnTo>
                <a:lnTo>
                  <a:pt x="6" y="61"/>
                </a:lnTo>
                <a:lnTo>
                  <a:pt x="6" y="63"/>
                </a:lnTo>
                <a:lnTo>
                  <a:pt x="6" y="64"/>
                </a:lnTo>
                <a:lnTo>
                  <a:pt x="6" y="66"/>
                </a:lnTo>
                <a:lnTo>
                  <a:pt x="6" y="68"/>
                </a:lnTo>
                <a:lnTo>
                  <a:pt x="6" y="72"/>
                </a:lnTo>
                <a:lnTo>
                  <a:pt x="7" y="75"/>
                </a:lnTo>
                <a:lnTo>
                  <a:pt x="7" y="81"/>
                </a:lnTo>
                <a:lnTo>
                  <a:pt x="9" y="88"/>
                </a:lnTo>
                <a:lnTo>
                  <a:pt x="10" y="98"/>
                </a:lnTo>
                <a:lnTo>
                  <a:pt x="11" y="110"/>
                </a:lnTo>
                <a:lnTo>
                  <a:pt x="13" y="124"/>
                </a:lnTo>
                <a:lnTo>
                  <a:pt x="16" y="140"/>
                </a:lnTo>
                <a:lnTo>
                  <a:pt x="19" y="158"/>
                </a:lnTo>
                <a:lnTo>
                  <a:pt x="22" y="177"/>
                </a:lnTo>
                <a:lnTo>
                  <a:pt x="26" y="199"/>
                </a:lnTo>
                <a:lnTo>
                  <a:pt x="31" y="219"/>
                </a:lnTo>
                <a:lnTo>
                  <a:pt x="34" y="243"/>
                </a:lnTo>
                <a:lnTo>
                  <a:pt x="40" y="265"/>
                </a:lnTo>
                <a:lnTo>
                  <a:pt x="43" y="290"/>
                </a:lnTo>
                <a:lnTo>
                  <a:pt x="49" y="312"/>
                </a:lnTo>
                <a:lnTo>
                  <a:pt x="52" y="337"/>
                </a:lnTo>
                <a:lnTo>
                  <a:pt x="58" y="359"/>
                </a:lnTo>
                <a:lnTo>
                  <a:pt x="62" y="381"/>
                </a:lnTo>
                <a:lnTo>
                  <a:pt x="68" y="403"/>
                </a:lnTo>
                <a:lnTo>
                  <a:pt x="72" y="426"/>
                </a:lnTo>
                <a:lnTo>
                  <a:pt x="78" y="449"/>
                </a:lnTo>
                <a:lnTo>
                  <a:pt x="84" y="473"/>
                </a:lnTo>
                <a:lnTo>
                  <a:pt x="90" y="497"/>
                </a:lnTo>
                <a:lnTo>
                  <a:pt x="96" y="523"/>
                </a:lnTo>
                <a:lnTo>
                  <a:pt x="103" y="547"/>
                </a:lnTo>
                <a:lnTo>
                  <a:pt x="110" y="572"/>
                </a:lnTo>
                <a:lnTo>
                  <a:pt x="118" y="595"/>
                </a:lnTo>
                <a:lnTo>
                  <a:pt x="123" y="620"/>
                </a:lnTo>
                <a:lnTo>
                  <a:pt x="130" y="643"/>
                </a:lnTo>
                <a:lnTo>
                  <a:pt x="136" y="665"/>
                </a:lnTo>
                <a:lnTo>
                  <a:pt x="143" y="685"/>
                </a:lnTo>
                <a:lnTo>
                  <a:pt x="149" y="704"/>
                </a:lnTo>
                <a:lnTo>
                  <a:pt x="155" y="720"/>
                </a:lnTo>
                <a:lnTo>
                  <a:pt x="159" y="735"/>
                </a:lnTo>
                <a:lnTo>
                  <a:pt x="165" y="746"/>
                </a:lnTo>
                <a:lnTo>
                  <a:pt x="169" y="758"/>
                </a:lnTo>
                <a:lnTo>
                  <a:pt x="174" y="771"/>
                </a:lnTo>
                <a:lnTo>
                  <a:pt x="180" y="786"/>
                </a:lnTo>
                <a:lnTo>
                  <a:pt x="187" y="801"/>
                </a:lnTo>
                <a:lnTo>
                  <a:pt x="193" y="819"/>
                </a:lnTo>
                <a:lnTo>
                  <a:pt x="200" y="836"/>
                </a:lnTo>
                <a:lnTo>
                  <a:pt x="208" y="854"/>
                </a:lnTo>
                <a:lnTo>
                  <a:pt x="216" y="871"/>
                </a:lnTo>
                <a:lnTo>
                  <a:pt x="224" y="891"/>
                </a:lnTo>
                <a:lnTo>
                  <a:pt x="231" y="909"/>
                </a:lnTo>
                <a:lnTo>
                  <a:pt x="238" y="928"/>
                </a:lnTo>
                <a:lnTo>
                  <a:pt x="247" y="945"/>
                </a:lnTo>
                <a:lnTo>
                  <a:pt x="253" y="963"/>
                </a:lnTo>
                <a:lnTo>
                  <a:pt x="260" y="980"/>
                </a:lnTo>
                <a:lnTo>
                  <a:pt x="266" y="996"/>
                </a:lnTo>
                <a:lnTo>
                  <a:pt x="274" y="1010"/>
                </a:lnTo>
                <a:lnTo>
                  <a:pt x="280" y="1027"/>
                </a:lnTo>
                <a:lnTo>
                  <a:pt x="286" y="1041"/>
                </a:lnTo>
                <a:lnTo>
                  <a:pt x="294" y="1058"/>
                </a:lnTo>
                <a:lnTo>
                  <a:pt x="302" y="1075"/>
                </a:lnTo>
                <a:lnTo>
                  <a:pt x="309" y="1093"/>
                </a:lnTo>
                <a:lnTo>
                  <a:pt x="316" y="1110"/>
                </a:lnTo>
                <a:lnTo>
                  <a:pt x="324" y="1128"/>
                </a:lnTo>
                <a:lnTo>
                  <a:pt x="333" y="1145"/>
                </a:lnTo>
                <a:lnTo>
                  <a:pt x="340" y="1163"/>
                </a:lnTo>
                <a:lnTo>
                  <a:pt x="347" y="1179"/>
                </a:lnTo>
                <a:lnTo>
                  <a:pt x="354" y="1196"/>
                </a:lnTo>
                <a:lnTo>
                  <a:pt x="362" y="1210"/>
                </a:lnTo>
                <a:lnTo>
                  <a:pt x="367" y="1224"/>
                </a:lnTo>
                <a:lnTo>
                  <a:pt x="373" y="1237"/>
                </a:lnTo>
                <a:lnTo>
                  <a:pt x="379" y="1249"/>
                </a:lnTo>
                <a:lnTo>
                  <a:pt x="384" y="1257"/>
                </a:lnTo>
                <a:lnTo>
                  <a:pt x="388" y="1268"/>
                </a:lnTo>
                <a:lnTo>
                  <a:pt x="394" y="1278"/>
                </a:lnTo>
                <a:lnTo>
                  <a:pt x="400" y="1291"/>
                </a:lnTo>
                <a:lnTo>
                  <a:pt x="407" y="1302"/>
                </a:lnTo>
                <a:lnTo>
                  <a:pt x="414" y="1315"/>
                </a:lnTo>
                <a:lnTo>
                  <a:pt x="422" y="1327"/>
                </a:lnTo>
                <a:lnTo>
                  <a:pt x="430" y="1341"/>
                </a:lnTo>
                <a:lnTo>
                  <a:pt x="439" y="1353"/>
                </a:lnTo>
                <a:lnTo>
                  <a:pt x="446" y="1368"/>
                </a:lnTo>
                <a:lnTo>
                  <a:pt x="456" y="1381"/>
                </a:lnTo>
                <a:lnTo>
                  <a:pt x="464" y="1394"/>
                </a:lnTo>
                <a:lnTo>
                  <a:pt x="474" y="1406"/>
                </a:lnTo>
                <a:lnTo>
                  <a:pt x="481" y="1419"/>
                </a:lnTo>
                <a:lnTo>
                  <a:pt x="490" y="1430"/>
                </a:lnTo>
                <a:lnTo>
                  <a:pt x="498" y="1440"/>
                </a:lnTo>
                <a:lnTo>
                  <a:pt x="507" y="1448"/>
                </a:lnTo>
                <a:lnTo>
                  <a:pt x="514" y="1459"/>
                </a:lnTo>
                <a:lnTo>
                  <a:pt x="522" y="1468"/>
                </a:lnTo>
                <a:lnTo>
                  <a:pt x="532" y="1479"/>
                </a:lnTo>
                <a:lnTo>
                  <a:pt x="542" y="1489"/>
                </a:lnTo>
                <a:lnTo>
                  <a:pt x="551" y="1501"/>
                </a:lnTo>
                <a:lnTo>
                  <a:pt x="562" y="1512"/>
                </a:lnTo>
                <a:lnTo>
                  <a:pt x="574" y="1523"/>
                </a:lnTo>
                <a:lnTo>
                  <a:pt x="585" y="1533"/>
                </a:lnTo>
                <a:lnTo>
                  <a:pt x="594" y="1545"/>
                </a:lnTo>
                <a:lnTo>
                  <a:pt x="606" y="1556"/>
                </a:lnTo>
                <a:lnTo>
                  <a:pt x="615" y="1566"/>
                </a:lnTo>
                <a:lnTo>
                  <a:pt x="627" y="1575"/>
                </a:lnTo>
                <a:lnTo>
                  <a:pt x="636" y="1585"/>
                </a:lnTo>
                <a:lnTo>
                  <a:pt x="646" y="1592"/>
                </a:lnTo>
                <a:lnTo>
                  <a:pt x="654" y="1599"/>
                </a:lnTo>
                <a:lnTo>
                  <a:pt x="663" y="1605"/>
                </a:lnTo>
                <a:lnTo>
                  <a:pt x="670" y="1612"/>
                </a:lnTo>
                <a:lnTo>
                  <a:pt x="677" y="1617"/>
                </a:lnTo>
                <a:lnTo>
                  <a:pt x="685" y="1623"/>
                </a:lnTo>
                <a:lnTo>
                  <a:pt x="693" y="1629"/>
                </a:lnTo>
                <a:lnTo>
                  <a:pt x="700" y="1635"/>
                </a:lnTo>
                <a:lnTo>
                  <a:pt x="708" y="1641"/>
                </a:lnTo>
                <a:lnTo>
                  <a:pt x="715" y="1646"/>
                </a:lnTo>
                <a:lnTo>
                  <a:pt x="724" y="1652"/>
                </a:lnTo>
                <a:lnTo>
                  <a:pt x="730" y="1657"/>
                </a:lnTo>
                <a:lnTo>
                  <a:pt x="738" y="1663"/>
                </a:lnTo>
                <a:lnTo>
                  <a:pt x="743" y="1668"/>
                </a:lnTo>
                <a:lnTo>
                  <a:pt x="750" y="1672"/>
                </a:lnTo>
                <a:lnTo>
                  <a:pt x="754" y="1675"/>
                </a:lnTo>
                <a:lnTo>
                  <a:pt x="760" y="1679"/>
                </a:lnTo>
                <a:lnTo>
                  <a:pt x="764" y="1681"/>
                </a:lnTo>
                <a:lnTo>
                  <a:pt x="768" y="1682"/>
                </a:lnTo>
                <a:lnTo>
                  <a:pt x="770" y="1685"/>
                </a:lnTo>
                <a:lnTo>
                  <a:pt x="773" y="1687"/>
                </a:lnTo>
                <a:lnTo>
                  <a:pt x="777" y="1690"/>
                </a:lnTo>
                <a:lnTo>
                  <a:pt x="782" y="1692"/>
                </a:lnTo>
                <a:lnTo>
                  <a:pt x="786" y="1695"/>
                </a:lnTo>
                <a:lnTo>
                  <a:pt x="792" y="1697"/>
                </a:lnTo>
                <a:lnTo>
                  <a:pt x="798" y="1701"/>
                </a:lnTo>
                <a:lnTo>
                  <a:pt x="804" y="1703"/>
                </a:lnTo>
                <a:lnTo>
                  <a:pt x="810" y="1707"/>
                </a:lnTo>
                <a:lnTo>
                  <a:pt x="816" y="1709"/>
                </a:lnTo>
                <a:lnTo>
                  <a:pt x="821" y="1713"/>
                </a:lnTo>
                <a:lnTo>
                  <a:pt x="829" y="1715"/>
                </a:lnTo>
                <a:lnTo>
                  <a:pt x="834" y="1719"/>
                </a:lnTo>
                <a:lnTo>
                  <a:pt x="841" y="1721"/>
                </a:lnTo>
                <a:lnTo>
                  <a:pt x="847" y="1722"/>
                </a:lnTo>
                <a:lnTo>
                  <a:pt x="854" y="1724"/>
                </a:lnTo>
                <a:lnTo>
                  <a:pt x="859" y="1727"/>
                </a:lnTo>
                <a:lnTo>
                  <a:pt x="866" y="1729"/>
                </a:lnTo>
                <a:lnTo>
                  <a:pt x="874" y="1732"/>
                </a:lnTo>
                <a:lnTo>
                  <a:pt x="883" y="1734"/>
                </a:lnTo>
                <a:lnTo>
                  <a:pt x="892" y="1738"/>
                </a:lnTo>
                <a:lnTo>
                  <a:pt x="902" y="1741"/>
                </a:lnTo>
                <a:lnTo>
                  <a:pt x="912" y="1745"/>
                </a:lnTo>
                <a:lnTo>
                  <a:pt x="924" y="1747"/>
                </a:lnTo>
                <a:lnTo>
                  <a:pt x="933" y="1751"/>
                </a:lnTo>
                <a:lnTo>
                  <a:pt x="944" y="1753"/>
                </a:lnTo>
                <a:lnTo>
                  <a:pt x="955" y="1757"/>
                </a:lnTo>
                <a:lnTo>
                  <a:pt x="966" y="1759"/>
                </a:lnTo>
                <a:lnTo>
                  <a:pt x="976" y="1763"/>
                </a:lnTo>
                <a:lnTo>
                  <a:pt x="987" y="1765"/>
                </a:lnTo>
                <a:lnTo>
                  <a:pt x="996" y="1767"/>
                </a:lnTo>
                <a:lnTo>
                  <a:pt x="1005" y="1769"/>
                </a:lnTo>
                <a:lnTo>
                  <a:pt x="1014" y="1773"/>
                </a:lnTo>
                <a:lnTo>
                  <a:pt x="1024" y="1775"/>
                </a:lnTo>
                <a:lnTo>
                  <a:pt x="1034" y="1777"/>
                </a:lnTo>
                <a:lnTo>
                  <a:pt x="1045" y="1779"/>
                </a:lnTo>
                <a:lnTo>
                  <a:pt x="1056" y="1782"/>
                </a:lnTo>
                <a:lnTo>
                  <a:pt x="1067" y="1784"/>
                </a:lnTo>
                <a:lnTo>
                  <a:pt x="1078" y="1786"/>
                </a:lnTo>
                <a:lnTo>
                  <a:pt x="1092" y="1788"/>
                </a:lnTo>
                <a:lnTo>
                  <a:pt x="1103" y="1791"/>
                </a:lnTo>
                <a:lnTo>
                  <a:pt x="1114" y="1793"/>
                </a:lnTo>
                <a:lnTo>
                  <a:pt x="1125" y="1795"/>
                </a:lnTo>
                <a:lnTo>
                  <a:pt x="1137" y="1797"/>
                </a:lnTo>
                <a:lnTo>
                  <a:pt x="1146" y="1799"/>
                </a:lnTo>
                <a:lnTo>
                  <a:pt x="1157" y="1800"/>
                </a:lnTo>
                <a:lnTo>
                  <a:pt x="1166" y="1801"/>
                </a:lnTo>
                <a:lnTo>
                  <a:pt x="1174" y="1801"/>
                </a:lnTo>
                <a:lnTo>
                  <a:pt x="1181" y="1803"/>
                </a:lnTo>
                <a:lnTo>
                  <a:pt x="1190" y="1803"/>
                </a:lnTo>
                <a:lnTo>
                  <a:pt x="1200" y="1805"/>
                </a:lnTo>
                <a:lnTo>
                  <a:pt x="1211" y="1805"/>
                </a:lnTo>
                <a:lnTo>
                  <a:pt x="1221" y="1807"/>
                </a:lnTo>
                <a:lnTo>
                  <a:pt x="1233" y="1807"/>
                </a:lnTo>
                <a:lnTo>
                  <a:pt x="1244" y="1809"/>
                </a:lnTo>
                <a:lnTo>
                  <a:pt x="1258" y="1809"/>
                </a:lnTo>
                <a:lnTo>
                  <a:pt x="1269" y="1811"/>
                </a:lnTo>
                <a:lnTo>
                  <a:pt x="1282" y="1811"/>
                </a:lnTo>
                <a:lnTo>
                  <a:pt x="1293" y="1813"/>
                </a:lnTo>
                <a:lnTo>
                  <a:pt x="1306" y="1813"/>
                </a:lnTo>
                <a:lnTo>
                  <a:pt x="1317" y="1815"/>
                </a:lnTo>
                <a:lnTo>
                  <a:pt x="1328" y="1815"/>
                </a:lnTo>
                <a:lnTo>
                  <a:pt x="1338" y="1815"/>
                </a:lnTo>
                <a:lnTo>
                  <a:pt x="1348" y="1815"/>
                </a:lnTo>
                <a:lnTo>
                  <a:pt x="1357" y="1817"/>
                </a:lnTo>
                <a:lnTo>
                  <a:pt x="1367" y="1817"/>
                </a:lnTo>
                <a:lnTo>
                  <a:pt x="1378" y="1817"/>
                </a:lnTo>
                <a:lnTo>
                  <a:pt x="1389" y="1817"/>
                </a:lnTo>
                <a:lnTo>
                  <a:pt x="1400" y="1819"/>
                </a:lnTo>
                <a:lnTo>
                  <a:pt x="1413" y="1819"/>
                </a:lnTo>
                <a:lnTo>
                  <a:pt x="1425" y="1819"/>
                </a:lnTo>
                <a:lnTo>
                  <a:pt x="1438" y="1819"/>
                </a:lnTo>
                <a:lnTo>
                  <a:pt x="1449" y="1820"/>
                </a:lnTo>
                <a:lnTo>
                  <a:pt x="1461" y="1820"/>
                </a:lnTo>
                <a:lnTo>
                  <a:pt x="1472" y="1820"/>
                </a:lnTo>
                <a:lnTo>
                  <a:pt x="1484" y="1820"/>
                </a:lnTo>
                <a:lnTo>
                  <a:pt x="1493" y="1820"/>
                </a:lnTo>
                <a:lnTo>
                  <a:pt x="1504" y="1820"/>
                </a:lnTo>
                <a:lnTo>
                  <a:pt x="1513" y="1820"/>
                </a:lnTo>
                <a:lnTo>
                  <a:pt x="1522" y="1820"/>
                </a:lnTo>
                <a:lnTo>
                  <a:pt x="1526" y="1820"/>
                </a:lnTo>
                <a:lnTo>
                  <a:pt x="1532" y="1820"/>
                </a:lnTo>
                <a:lnTo>
                  <a:pt x="1534" y="1820"/>
                </a:lnTo>
                <a:lnTo>
                  <a:pt x="1538" y="1820"/>
                </a:lnTo>
                <a:lnTo>
                  <a:pt x="1540" y="1820"/>
                </a:lnTo>
                <a:lnTo>
                  <a:pt x="1542" y="1820"/>
                </a:lnTo>
                <a:lnTo>
                  <a:pt x="1543" y="1820"/>
                </a:lnTo>
                <a:lnTo>
                  <a:pt x="1545" y="1820"/>
                </a:lnTo>
                <a:lnTo>
                  <a:pt x="1547" y="1820"/>
                </a:lnTo>
                <a:lnTo>
                  <a:pt x="1550" y="1820"/>
                </a:lnTo>
                <a:lnTo>
                  <a:pt x="1553" y="1820"/>
                </a:lnTo>
                <a:lnTo>
                  <a:pt x="1559" y="1820"/>
                </a:lnTo>
                <a:lnTo>
                  <a:pt x="1565" y="1820"/>
                </a:lnTo>
                <a:lnTo>
                  <a:pt x="1574" y="1820"/>
                </a:lnTo>
                <a:lnTo>
                  <a:pt x="1584" y="1820"/>
                </a:lnTo>
                <a:lnTo>
                  <a:pt x="1599" y="1820"/>
                </a:lnTo>
              </a:path>
            </a:pathLst>
          </a:custGeom>
          <a:noFill/>
          <a:ln w="31680">
            <a:solidFill>
              <a:srgbClr val="00c1c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38320" y="1270080"/>
            <a:ext cx="3540240" cy="4073400"/>
          </a:xfrm>
          <a:custGeom>
            <a:avLst/>
            <a:gdLst/>
            <a:ahLst/>
            <a:rect l="l" t="t" r="r" b="b"/>
            <a:pathLst>
              <a:path w="1600" h="1821">
                <a:moveTo>
                  <a:pt x="0" y="0"/>
                </a:moveTo>
                <a:lnTo>
                  <a:pt x="0" y="16"/>
                </a:lnTo>
                <a:lnTo>
                  <a:pt x="2" y="28"/>
                </a:lnTo>
                <a:lnTo>
                  <a:pt x="2" y="39"/>
                </a:lnTo>
                <a:lnTo>
                  <a:pt x="4" y="46"/>
                </a:lnTo>
                <a:lnTo>
                  <a:pt x="4" y="52"/>
                </a:lnTo>
                <a:lnTo>
                  <a:pt x="4" y="56"/>
                </a:lnTo>
                <a:lnTo>
                  <a:pt x="4" y="59"/>
                </a:lnTo>
                <a:lnTo>
                  <a:pt x="6" y="61"/>
                </a:lnTo>
                <a:lnTo>
                  <a:pt x="6" y="63"/>
                </a:lnTo>
                <a:lnTo>
                  <a:pt x="6" y="64"/>
                </a:lnTo>
                <a:lnTo>
                  <a:pt x="6" y="66"/>
                </a:lnTo>
                <a:lnTo>
                  <a:pt x="6" y="68"/>
                </a:lnTo>
                <a:lnTo>
                  <a:pt x="6" y="72"/>
                </a:lnTo>
                <a:lnTo>
                  <a:pt x="7" y="75"/>
                </a:lnTo>
                <a:lnTo>
                  <a:pt x="7" y="81"/>
                </a:lnTo>
                <a:lnTo>
                  <a:pt x="9" y="88"/>
                </a:lnTo>
                <a:lnTo>
                  <a:pt x="10" y="98"/>
                </a:lnTo>
                <a:lnTo>
                  <a:pt x="11" y="110"/>
                </a:lnTo>
                <a:lnTo>
                  <a:pt x="13" y="124"/>
                </a:lnTo>
                <a:lnTo>
                  <a:pt x="16" y="140"/>
                </a:lnTo>
                <a:lnTo>
                  <a:pt x="19" y="158"/>
                </a:lnTo>
                <a:lnTo>
                  <a:pt x="22" y="177"/>
                </a:lnTo>
                <a:lnTo>
                  <a:pt x="26" y="199"/>
                </a:lnTo>
                <a:lnTo>
                  <a:pt x="31" y="219"/>
                </a:lnTo>
                <a:lnTo>
                  <a:pt x="34" y="243"/>
                </a:lnTo>
                <a:lnTo>
                  <a:pt x="40" y="265"/>
                </a:lnTo>
                <a:lnTo>
                  <a:pt x="43" y="290"/>
                </a:lnTo>
                <a:lnTo>
                  <a:pt x="49" y="312"/>
                </a:lnTo>
                <a:lnTo>
                  <a:pt x="52" y="337"/>
                </a:lnTo>
                <a:lnTo>
                  <a:pt x="58" y="359"/>
                </a:lnTo>
                <a:lnTo>
                  <a:pt x="62" y="381"/>
                </a:lnTo>
                <a:lnTo>
                  <a:pt x="68" y="403"/>
                </a:lnTo>
                <a:lnTo>
                  <a:pt x="72" y="426"/>
                </a:lnTo>
                <a:lnTo>
                  <a:pt x="78" y="449"/>
                </a:lnTo>
                <a:lnTo>
                  <a:pt x="84" y="473"/>
                </a:lnTo>
                <a:lnTo>
                  <a:pt x="90" y="497"/>
                </a:lnTo>
                <a:lnTo>
                  <a:pt x="96" y="523"/>
                </a:lnTo>
                <a:lnTo>
                  <a:pt x="103" y="547"/>
                </a:lnTo>
                <a:lnTo>
                  <a:pt x="110" y="572"/>
                </a:lnTo>
                <a:lnTo>
                  <a:pt x="118" y="595"/>
                </a:lnTo>
                <a:lnTo>
                  <a:pt x="123" y="620"/>
                </a:lnTo>
                <a:lnTo>
                  <a:pt x="130" y="643"/>
                </a:lnTo>
                <a:lnTo>
                  <a:pt x="136" y="665"/>
                </a:lnTo>
                <a:lnTo>
                  <a:pt x="143" y="685"/>
                </a:lnTo>
                <a:lnTo>
                  <a:pt x="149" y="704"/>
                </a:lnTo>
                <a:lnTo>
                  <a:pt x="155" y="720"/>
                </a:lnTo>
                <a:lnTo>
                  <a:pt x="159" y="735"/>
                </a:lnTo>
                <a:lnTo>
                  <a:pt x="165" y="746"/>
                </a:lnTo>
                <a:lnTo>
                  <a:pt x="169" y="758"/>
                </a:lnTo>
                <a:lnTo>
                  <a:pt x="174" y="771"/>
                </a:lnTo>
                <a:lnTo>
                  <a:pt x="180" y="786"/>
                </a:lnTo>
                <a:lnTo>
                  <a:pt x="187" y="801"/>
                </a:lnTo>
                <a:lnTo>
                  <a:pt x="193" y="819"/>
                </a:lnTo>
                <a:lnTo>
                  <a:pt x="200" y="836"/>
                </a:lnTo>
                <a:lnTo>
                  <a:pt x="208" y="854"/>
                </a:lnTo>
                <a:lnTo>
                  <a:pt x="216" y="871"/>
                </a:lnTo>
                <a:lnTo>
                  <a:pt x="224" y="891"/>
                </a:lnTo>
                <a:lnTo>
                  <a:pt x="231" y="909"/>
                </a:lnTo>
                <a:lnTo>
                  <a:pt x="238" y="928"/>
                </a:lnTo>
                <a:lnTo>
                  <a:pt x="247" y="945"/>
                </a:lnTo>
                <a:lnTo>
                  <a:pt x="253" y="963"/>
                </a:lnTo>
                <a:lnTo>
                  <a:pt x="260" y="980"/>
                </a:lnTo>
                <a:lnTo>
                  <a:pt x="266" y="996"/>
                </a:lnTo>
                <a:lnTo>
                  <a:pt x="274" y="1010"/>
                </a:lnTo>
                <a:lnTo>
                  <a:pt x="280" y="1027"/>
                </a:lnTo>
                <a:lnTo>
                  <a:pt x="286" y="1041"/>
                </a:lnTo>
                <a:lnTo>
                  <a:pt x="294" y="1058"/>
                </a:lnTo>
                <a:lnTo>
                  <a:pt x="302" y="1075"/>
                </a:lnTo>
                <a:lnTo>
                  <a:pt x="309" y="1093"/>
                </a:lnTo>
                <a:lnTo>
                  <a:pt x="316" y="1110"/>
                </a:lnTo>
                <a:lnTo>
                  <a:pt x="324" y="1128"/>
                </a:lnTo>
                <a:lnTo>
                  <a:pt x="333" y="1145"/>
                </a:lnTo>
                <a:lnTo>
                  <a:pt x="340" y="1163"/>
                </a:lnTo>
                <a:lnTo>
                  <a:pt x="347" y="1179"/>
                </a:lnTo>
                <a:lnTo>
                  <a:pt x="354" y="1196"/>
                </a:lnTo>
                <a:lnTo>
                  <a:pt x="362" y="1210"/>
                </a:lnTo>
                <a:lnTo>
                  <a:pt x="367" y="1224"/>
                </a:lnTo>
                <a:lnTo>
                  <a:pt x="373" y="1237"/>
                </a:lnTo>
                <a:lnTo>
                  <a:pt x="379" y="1249"/>
                </a:lnTo>
                <a:lnTo>
                  <a:pt x="384" y="1257"/>
                </a:lnTo>
                <a:lnTo>
                  <a:pt x="388" y="1268"/>
                </a:lnTo>
                <a:lnTo>
                  <a:pt x="394" y="1278"/>
                </a:lnTo>
                <a:lnTo>
                  <a:pt x="400" y="1291"/>
                </a:lnTo>
                <a:lnTo>
                  <a:pt x="407" y="1302"/>
                </a:lnTo>
                <a:lnTo>
                  <a:pt x="414" y="1315"/>
                </a:lnTo>
                <a:lnTo>
                  <a:pt x="422" y="1327"/>
                </a:lnTo>
                <a:lnTo>
                  <a:pt x="430" y="1341"/>
                </a:lnTo>
                <a:lnTo>
                  <a:pt x="439" y="1353"/>
                </a:lnTo>
                <a:lnTo>
                  <a:pt x="446" y="1368"/>
                </a:lnTo>
                <a:lnTo>
                  <a:pt x="456" y="1381"/>
                </a:lnTo>
                <a:lnTo>
                  <a:pt x="464" y="1394"/>
                </a:lnTo>
                <a:lnTo>
                  <a:pt x="474" y="1406"/>
                </a:lnTo>
                <a:lnTo>
                  <a:pt x="481" y="1419"/>
                </a:lnTo>
                <a:lnTo>
                  <a:pt x="490" y="1430"/>
                </a:lnTo>
                <a:lnTo>
                  <a:pt x="498" y="1440"/>
                </a:lnTo>
                <a:lnTo>
                  <a:pt x="507" y="1448"/>
                </a:lnTo>
                <a:lnTo>
                  <a:pt x="514" y="1459"/>
                </a:lnTo>
                <a:lnTo>
                  <a:pt x="522" y="1468"/>
                </a:lnTo>
                <a:lnTo>
                  <a:pt x="532" y="1479"/>
                </a:lnTo>
                <a:lnTo>
                  <a:pt x="542" y="1489"/>
                </a:lnTo>
                <a:lnTo>
                  <a:pt x="551" y="1501"/>
                </a:lnTo>
                <a:lnTo>
                  <a:pt x="562" y="1512"/>
                </a:lnTo>
                <a:lnTo>
                  <a:pt x="574" y="1523"/>
                </a:lnTo>
                <a:lnTo>
                  <a:pt x="585" y="1533"/>
                </a:lnTo>
                <a:lnTo>
                  <a:pt x="594" y="1545"/>
                </a:lnTo>
                <a:lnTo>
                  <a:pt x="606" y="1556"/>
                </a:lnTo>
                <a:lnTo>
                  <a:pt x="615" y="1566"/>
                </a:lnTo>
                <a:lnTo>
                  <a:pt x="627" y="1575"/>
                </a:lnTo>
                <a:lnTo>
                  <a:pt x="636" y="1585"/>
                </a:lnTo>
                <a:lnTo>
                  <a:pt x="646" y="1592"/>
                </a:lnTo>
                <a:lnTo>
                  <a:pt x="654" y="1599"/>
                </a:lnTo>
                <a:lnTo>
                  <a:pt x="663" y="1605"/>
                </a:lnTo>
                <a:lnTo>
                  <a:pt x="670" y="1612"/>
                </a:lnTo>
                <a:lnTo>
                  <a:pt x="677" y="1617"/>
                </a:lnTo>
                <a:lnTo>
                  <a:pt x="685" y="1623"/>
                </a:lnTo>
                <a:lnTo>
                  <a:pt x="693" y="1629"/>
                </a:lnTo>
                <a:lnTo>
                  <a:pt x="700" y="1635"/>
                </a:lnTo>
                <a:lnTo>
                  <a:pt x="708" y="1641"/>
                </a:lnTo>
                <a:lnTo>
                  <a:pt x="715" y="1646"/>
                </a:lnTo>
                <a:lnTo>
                  <a:pt x="724" y="1652"/>
                </a:lnTo>
                <a:lnTo>
                  <a:pt x="730" y="1657"/>
                </a:lnTo>
                <a:lnTo>
                  <a:pt x="738" y="1663"/>
                </a:lnTo>
                <a:lnTo>
                  <a:pt x="743" y="1668"/>
                </a:lnTo>
                <a:lnTo>
                  <a:pt x="750" y="1672"/>
                </a:lnTo>
                <a:lnTo>
                  <a:pt x="754" y="1675"/>
                </a:lnTo>
                <a:lnTo>
                  <a:pt x="760" y="1679"/>
                </a:lnTo>
                <a:lnTo>
                  <a:pt x="764" y="1681"/>
                </a:lnTo>
                <a:lnTo>
                  <a:pt x="768" y="1682"/>
                </a:lnTo>
                <a:lnTo>
                  <a:pt x="770" y="1685"/>
                </a:lnTo>
                <a:lnTo>
                  <a:pt x="773" y="1687"/>
                </a:lnTo>
                <a:lnTo>
                  <a:pt x="777" y="1690"/>
                </a:lnTo>
                <a:lnTo>
                  <a:pt x="782" y="1692"/>
                </a:lnTo>
                <a:lnTo>
                  <a:pt x="786" y="1695"/>
                </a:lnTo>
                <a:lnTo>
                  <a:pt x="792" y="1697"/>
                </a:lnTo>
                <a:lnTo>
                  <a:pt x="798" y="1701"/>
                </a:lnTo>
                <a:lnTo>
                  <a:pt x="804" y="1703"/>
                </a:lnTo>
                <a:lnTo>
                  <a:pt x="810" y="1707"/>
                </a:lnTo>
                <a:lnTo>
                  <a:pt x="816" y="1709"/>
                </a:lnTo>
                <a:lnTo>
                  <a:pt x="821" y="1713"/>
                </a:lnTo>
                <a:lnTo>
                  <a:pt x="829" y="1715"/>
                </a:lnTo>
                <a:lnTo>
                  <a:pt x="834" y="1719"/>
                </a:lnTo>
                <a:lnTo>
                  <a:pt x="841" y="1721"/>
                </a:lnTo>
                <a:lnTo>
                  <a:pt x="847" y="1722"/>
                </a:lnTo>
                <a:lnTo>
                  <a:pt x="854" y="1724"/>
                </a:lnTo>
                <a:lnTo>
                  <a:pt x="859" y="1727"/>
                </a:lnTo>
                <a:lnTo>
                  <a:pt x="866" y="1729"/>
                </a:lnTo>
                <a:lnTo>
                  <a:pt x="874" y="1732"/>
                </a:lnTo>
                <a:lnTo>
                  <a:pt x="883" y="1734"/>
                </a:lnTo>
                <a:lnTo>
                  <a:pt x="892" y="1738"/>
                </a:lnTo>
                <a:lnTo>
                  <a:pt x="902" y="1741"/>
                </a:lnTo>
                <a:lnTo>
                  <a:pt x="912" y="1745"/>
                </a:lnTo>
                <a:lnTo>
                  <a:pt x="924" y="1747"/>
                </a:lnTo>
                <a:lnTo>
                  <a:pt x="933" y="1751"/>
                </a:lnTo>
                <a:lnTo>
                  <a:pt x="944" y="1753"/>
                </a:lnTo>
                <a:lnTo>
                  <a:pt x="955" y="1757"/>
                </a:lnTo>
                <a:lnTo>
                  <a:pt x="966" y="1759"/>
                </a:lnTo>
                <a:lnTo>
                  <a:pt x="976" y="1763"/>
                </a:lnTo>
                <a:lnTo>
                  <a:pt x="987" y="1765"/>
                </a:lnTo>
                <a:lnTo>
                  <a:pt x="996" y="1767"/>
                </a:lnTo>
                <a:lnTo>
                  <a:pt x="1005" y="1769"/>
                </a:lnTo>
                <a:lnTo>
                  <a:pt x="1014" y="1773"/>
                </a:lnTo>
                <a:lnTo>
                  <a:pt x="1024" y="1775"/>
                </a:lnTo>
                <a:lnTo>
                  <a:pt x="1034" y="1777"/>
                </a:lnTo>
                <a:lnTo>
                  <a:pt x="1045" y="1779"/>
                </a:lnTo>
                <a:lnTo>
                  <a:pt x="1056" y="1782"/>
                </a:lnTo>
                <a:lnTo>
                  <a:pt x="1067" y="1784"/>
                </a:lnTo>
                <a:lnTo>
                  <a:pt x="1078" y="1786"/>
                </a:lnTo>
                <a:lnTo>
                  <a:pt x="1092" y="1788"/>
                </a:lnTo>
                <a:lnTo>
                  <a:pt x="1103" y="1791"/>
                </a:lnTo>
                <a:lnTo>
                  <a:pt x="1114" y="1793"/>
                </a:lnTo>
                <a:lnTo>
                  <a:pt x="1125" y="1795"/>
                </a:lnTo>
                <a:lnTo>
                  <a:pt x="1137" y="1797"/>
                </a:lnTo>
                <a:lnTo>
                  <a:pt x="1146" y="1799"/>
                </a:lnTo>
                <a:lnTo>
                  <a:pt x="1157" y="1800"/>
                </a:lnTo>
                <a:lnTo>
                  <a:pt x="1166" y="1801"/>
                </a:lnTo>
                <a:lnTo>
                  <a:pt x="1174" y="1801"/>
                </a:lnTo>
                <a:lnTo>
                  <a:pt x="1181" y="1803"/>
                </a:lnTo>
                <a:lnTo>
                  <a:pt x="1190" y="1803"/>
                </a:lnTo>
                <a:lnTo>
                  <a:pt x="1200" y="1805"/>
                </a:lnTo>
                <a:lnTo>
                  <a:pt x="1211" y="1805"/>
                </a:lnTo>
                <a:lnTo>
                  <a:pt x="1221" y="1807"/>
                </a:lnTo>
                <a:lnTo>
                  <a:pt x="1233" y="1807"/>
                </a:lnTo>
                <a:lnTo>
                  <a:pt x="1244" y="1809"/>
                </a:lnTo>
                <a:lnTo>
                  <a:pt x="1258" y="1809"/>
                </a:lnTo>
                <a:lnTo>
                  <a:pt x="1269" y="1811"/>
                </a:lnTo>
                <a:lnTo>
                  <a:pt x="1282" y="1811"/>
                </a:lnTo>
                <a:lnTo>
                  <a:pt x="1293" y="1813"/>
                </a:lnTo>
                <a:lnTo>
                  <a:pt x="1306" y="1813"/>
                </a:lnTo>
                <a:lnTo>
                  <a:pt x="1317" y="1815"/>
                </a:lnTo>
                <a:lnTo>
                  <a:pt x="1328" y="1815"/>
                </a:lnTo>
                <a:lnTo>
                  <a:pt x="1338" y="1815"/>
                </a:lnTo>
                <a:lnTo>
                  <a:pt x="1348" y="1815"/>
                </a:lnTo>
                <a:lnTo>
                  <a:pt x="1357" y="1817"/>
                </a:lnTo>
                <a:lnTo>
                  <a:pt x="1367" y="1817"/>
                </a:lnTo>
                <a:lnTo>
                  <a:pt x="1378" y="1817"/>
                </a:lnTo>
                <a:lnTo>
                  <a:pt x="1389" y="1817"/>
                </a:lnTo>
                <a:lnTo>
                  <a:pt x="1400" y="1819"/>
                </a:lnTo>
                <a:lnTo>
                  <a:pt x="1413" y="1819"/>
                </a:lnTo>
                <a:lnTo>
                  <a:pt x="1425" y="1819"/>
                </a:lnTo>
                <a:lnTo>
                  <a:pt x="1438" y="1819"/>
                </a:lnTo>
                <a:lnTo>
                  <a:pt x="1449" y="1820"/>
                </a:lnTo>
                <a:lnTo>
                  <a:pt x="1461" y="1820"/>
                </a:lnTo>
                <a:lnTo>
                  <a:pt x="1472" y="1820"/>
                </a:lnTo>
                <a:lnTo>
                  <a:pt x="1484" y="1820"/>
                </a:lnTo>
                <a:lnTo>
                  <a:pt x="1493" y="1820"/>
                </a:lnTo>
                <a:lnTo>
                  <a:pt x="1504" y="1820"/>
                </a:lnTo>
                <a:lnTo>
                  <a:pt x="1513" y="1820"/>
                </a:lnTo>
                <a:lnTo>
                  <a:pt x="1522" y="1820"/>
                </a:lnTo>
                <a:lnTo>
                  <a:pt x="1526" y="1820"/>
                </a:lnTo>
                <a:lnTo>
                  <a:pt x="1532" y="1820"/>
                </a:lnTo>
                <a:lnTo>
                  <a:pt x="1534" y="1820"/>
                </a:lnTo>
                <a:lnTo>
                  <a:pt x="1538" y="1820"/>
                </a:lnTo>
                <a:lnTo>
                  <a:pt x="1540" y="1820"/>
                </a:lnTo>
                <a:lnTo>
                  <a:pt x="1542" y="1820"/>
                </a:lnTo>
                <a:lnTo>
                  <a:pt x="1543" y="1820"/>
                </a:lnTo>
                <a:lnTo>
                  <a:pt x="1545" y="1820"/>
                </a:lnTo>
                <a:lnTo>
                  <a:pt x="1547" y="1820"/>
                </a:lnTo>
                <a:lnTo>
                  <a:pt x="1550" y="1820"/>
                </a:lnTo>
                <a:lnTo>
                  <a:pt x="1553" y="1820"/>
                </a:lnTo>
                <a:lnTo>
                  <a:pt x="1559" y="1820"/>
                </a:lnTo>
                <a:lnTo>
                  <a:pt x="1565" y="1820"/>
                </a:lnTo>
                <a:lnTo>
                  <a:pt x="1574" y="1820"/>
                </a:lnTo>
                <a:lnTo>
                  <a:pt x="1584" y="1820"/>
                </a:lnTo>
                <a:lnTo>
                  <a:pt x="1599" y="1820"/>
                </a:lnTo>
              </a:path>
            </a:pathLst>
          </a:custGeom>
          <a:noFill/>
          <a:ln w="442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19640" y="4599000"/>
            <a:ext cx="169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*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88080" y="7238880"/>
            <a:ext cx="711000" cy="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89040" y="3160440"/>
            <a:ext cx="0" cy="71604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000680" y="1807200"/>
            <a:ext cx="5676840" cy="3971880"/>
          </a:xfrm>
          <a:prstGeom prst="roundRect">
            <a:avLst>
              <a:gd name="adj" fmla="val 7505"/>
            </a:avLst>
          </a:prstGeom>
          <a:solidFill>
            <a:srgbClr val="ffff99"/>
          </a:solidFill>
          <a:ln w="31680">
            <a:solidFill>
              <a:srgbClr val="80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Brush738 BT"/>
              </a:rPr>
              <a:t>La demanda no cae si el bien es “normal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Brush738 BT"/>
              </a:rPr>
              <a:t>…</a:t>
            </a:r>
            <a:r>
              <a:rPr b="0" lang="en-GB" sz="3600" spc="-1" strike="noStrike">
                <a:solidFill>
                  <a:srgbClr val="ff0000"/>
                </a:solidFill>
                <a:latin typeface="Brush738 BT"/>
              </a:rPr>
              <a:t>¿ pero puede pasar lo opuest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676600" y="4813200"/>
            <a:ext cx="636120" cy="704160"/>
            <a:chOff x="2676600" y="4813200"/>
            <a:chExt cx="636120" cy="704160"/>
          </a:xfrm>
        </p:grpSpPr>
        <p:sp>
          <p:nvSpPr>
            <p:cNvPr id="236" name=""/>
            <p:cNvSpPr/>
            <p:nvPr/>
          </p:nvSpPr>
          <p:spPr>
            <a:xfrm>
              <a:off x="2718360" y="4813200"/>
              <a:ext cx="594360" cy="627120"/>
            </a:xfrm>
            <a:custGeom>
              <a:avLst/>
              <a:gdLst/>
              <a:ahLst/>
              <a:rect l="l" t="t" r="r" b="b"/>
              <a:pathLst>
                <a:path w="267" h="195">
                  <a:moveTo>
                    <a:pt x="266" y="0"/>
                  </a:moveTo>
                  <a:lnTo>
                    <a:pt x="266" y="0"/>
                  </a:lnTo>
                  <a:lnTo>
                    <a:pt x="214" y="92"/>
                  </a:lnTo>
                  <a:lnTo>
                    <a:pt x="202" y="76"/>
                  </a:lnTo>
                  <a:lnTo>
                    <a:pt x="29" y="194"/>
                  </a:lnTo>
                  <a:lnTo>
                    <a:pt x="0" y="158"/>
                  </a:lnTo>
                  <a:lnTo>
                    <a:pt x="175" y="39"/>
                  </a:lnTo>
                  <a:lnTo>
                    <a:pt x="164" y="25"/>
                  </a:lnTo>
                  <a:lnTo>
                    <a:pt x="266" y="0"/>
                  </a:lnTo>
                  <a:lnTo>
                    <a:pt x="266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76600" y="5057280"/>
              <a:ext cx="520200" cy="460080"/>
            </a:xfrm>
            <a:custGeom>
              <a:avLst/>
              <a:gdLst/>
              <a:ahLst/>
              <a:rect l="l" t="t" r="r" b="b"/>
              <a:pathLst>
                <a:path w="234" h="143">
                  <a:moveTo>
                    <a:pt x="233" y="16"/>
                  </a:moveTo>
                  <a:lnTo>
                    <a:pt x="233" y="16"/>
                  </a:lnTo>
                  <a:lnTo>
                    <a:pt x="208" y="38"/>
                  </a:lnTo>
                  <a:lnTo>
                    <a:pt x="197" y="25"/>
                  </a:lnTo>
                  <a:lnTo>
                    <a:pt x="26" y="142"/>
                  </a:lnTo>
                  <a:lnTo>
                    <a:pt x="0" y="107"/>
                  </a:lnTo>
                  <a:lnTo>
                    <a:pt x="19" y="82"/>
                  </a:lnTo>
                  <a:lnTo>
                    <a:pt x="48" y="118"/>
                  </a:lnTo>
                  <a:lnTo>
                    <a:pt x="221" y="0"/>
                  </a:lnTo>
                  <a:lnTo>
                    <a:pt x="233" y="16"/>
                  </a:lnTo>
                  <a:lnTo>
                    <a:pt x="233" y="16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733840" y="5437440"/>
              <a:ext cx="4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114360" y="5057280"/>
              <a:ext cx="5328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30120" y="4893120"/>
              <a:ext cx="79560" cy="1090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15"/>
                  </a:moveTo>
                  <a:lnTo>
                    <a:pt x="35" y="15"/>
                  </a:lnTo>
                  <a:lnTo>
                    <a:pt x="7" y="33"/>
                  </a:lnTo>
                  <a:lnTo>
                    <a:pt x="0" y="25"/>
                  </a:lnTo>
                  <a:lnTo>
                    <a:pt x="24" y="0"/>
                  </a:lnTo>
                  <a:lnTo>
                    <a:pt x="35" y="15"/>
                  </a:lnTo>
                  <a:lnTo>
                    <a:pt x="35" y="15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29600" y="701028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7800" y="4255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304920"/>
            <a:ext cx="94536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bien “inferior”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30492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Nuevamente dejemos aumentar el ingres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2989440"/>
            <a:ext cx="6997680" cy="4456080"/>
          </a:xfrm>
          <a:custGeom>
            <a:avLst/>
            <a:gdLst/>
            <a:ahLst/>
            <a:rect l="l" t="t" r="r" b="b"/>
            <a:pathLst>
              <a:path w="2342" h="1588">
                <a:moveTo>
                  <a:pt x="2341" y="1587"/>
                </a:moveTo>
                <a:lnTo>
                  <a:pt x="2341" y="1587"/>
                </a:lnTo>
                <a:lnTo>
                  <a:pt x="0" y="1587"/>
                </a:lnTo>
                <a:lnTo>
                  <a:pt x="0" y="0"/>
                </a:lnTo>
                <a:lnTo>
                  <a:pt x="2341" y="1587"/>
                </a:lnTo>
                <a:lnTo>
                  <a:pt x="2341" y="1587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316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6560" y="1212840"/>
            <a:ext cx="7291440" cy="6254640"/>
          </a:xfrm>
          <a:custGeom>
            <a:avLst/>
            <a:gdLst/>
            <a:ahLst/>
            <a:rect l="l" t="t" r="r" b="b"/>
            <a:pathLst>
              <a:path w="2744" h="2817">
                <a:moveTo>
                  <a:pt x="0" y="0"/>
                </a:moveTo>
                <a:lnTo>
                  <a:pt x="0" y="2816"/>
                </a:lnTo>
                <a:lnTo>
                  <a:pt x="2743" y="2816"/>
                </a:lnTo>
              </a:path>
            </a:pathLst>
          </a:custGeom>
          <a:noFill/>
          <a:ln w="54000">
            <a:solidFill>
              <a:srgbClr val="80808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88080" y="7238880"/>
            <a:ext cx="711000" cy="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89040" y="3160440"/>
            <a:ext cx="0" cy="71604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626640" y="5167080"/>
            <a:ext cx="919800" cy="818280"/>
            <a:chOff x="3626640" y="5167080"/>
            <a:chExt cx="919800" cy="818280"/>
          </a:xfrm>
        </p:grpSpPr>
        <p:sp>
          <p:nvSpPr>
            <p:cNvPr id="250" name=""/>
            <p:cNvSpPr/>
            <p:nvPr/>
          </p:nvSpPr>
          <p:spPr>
            <a:xfrm rot="3730200">
              <a:off x="3832920" y="5262480"/>
              <a:ext cx="594360" cy="627120"/>
            </a:xfrm>
            <a:custGeom>
              <a:avLst/>
              <a:gdLst/>
              <a:ahLst/>
              <a:rect l="l" t="t" r="r" b="b"/>
              <a:pathLst>
                <a:path w="267" h="195">
                  <a:moveTo>
                    <a:pt x="266" y="0"/>
                  </a:moveTo>
                  <a:lnTo>
                    <a:pt x="266" y="0"/>
                  </a:lnTo>
                  <a:lnTo>
                    <a:pt x="214" y="92"/>
                  </a:lnTo>
                  <a:lnTo>
                    <a:pt x="202" y="76"/>
                  </a:lnTo>
                  <a:lnTo>
                    <a:pt x="29" y="194"/>
                  </a:lnTo>
                  <a:lnTo>
                    <a:pt x="0" y="158"/>
                  </a:lnTo>
                  <a:lnTo>
                    <a:pt x="175" y="39"/>
                  </a:lnTo>
                  <a:lnTo>
                    <a:pt x="164" y="25"/>
                  </a:lnTo>
                  <a:lnTo>
                    <a:pt x="266" y="0"/>
                  </a:lnTo>
                  <a:lnTo>
                    <a:pt x="266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3730200">
              <a:off x="3691080" y="5351400"/>
              <a:ext cx="520200" cy="460080"/>
            </a:xfrm>
            <a:custGeom>
              <a:avLst/>
              <a:gdLst/>
              <a:ahLst/>
              <a:rect l="l" t="t" r="r" b="b"/>
              <a:pathLst>
                <a:path w="234" h="143">
                  <a:moveTo>
                    <a:pt x="233" y="16"/>
                  </a:moveTo>
                  <a:lnTo>
                    <a:pt x="233" y="16"/>
                  </a:lnTo>
                  <a:lnTo>
                    <a:pt x="208" y="38"/>
                  </a:lnTo>
                  <a:lnTo>
                    <a:pt x="197" y="25"/>
                  </a:lnTo>
                  <a:lnTo>
                    <a:pt x="26" y="142"/>
                  </a:lnTo>
                  <a:lnTo>
                    <a:pt x="0" y="107"/>
                  </a:lnTo>
                  <a:lnTo>
                    <a:pt x="19" y="82"/>
                  </a:lnTo>
                  <a:lnTo>
                    <a:pt x="48" y="118"/>
                  </a:lnTo>
                  <a:lnTo>
                    <a:pt x="221" y="0"/>
                  </a:lnTo>
                  <a:lnTo>
                    <a:pt x="233" y="16"/>
                  </a:lnTo>
                  <a:lnTo>
                    <a:pt x="233" y="16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56520" y="5508000"/>
              <a:ext cx="90360" cy="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4167360" y="5668560"/>
              <a:ext cx="954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3730200">
              <a:off x="4274280" y="5485680"/>
              <a:ext cx="79560" cy="1090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15"/>
                  </a:moveTo>
                  <a:lnTo>
                    <a:pt x="35" y="15"/>
                  </a:lnTo>
                  <a:lnTo>
                    <a:pt x="7" y="33"/>
                  </a:lnTo>
                  <a:lnTo>
                    <a:pt x="0" y="25"/>
                  </a:lnTo>
                  <a:lnTo>
                    <a:pt x="24" y="0"/>
                  </a:lnTo>
                  <a:lnTo>
                    <a:pt x="35" y="15"/>
                  </a:lnTo>
                  <a:lnTo>
                    <a:pt x="35" y="15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8229600" y="701028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7800" y="4255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6280" y="2681280"/>
            <a:ext cx="3713400" cy="3600360"/>
          </a:xfrm>
          <a:custGeom>
            <a:avLst/>
            <a:gdLst/>
            <a:ahLst/>
            <a:rect l="l" t="t" r="r" b="b"/>
            <a:pathLst>
              <a:path w="2339" h="2268">
                <a:moveTo>
                  <a:pt x="0" y="0"/>
                </a:moveTo>
                <a:lnTo>
                  <a:pt x="4" y="20"/>
                </a:lnTo>
                <a:lnTo>
                  <a:pt x="7" y="35"/>
                </a:lnTo>
                <a:lnTo>
                  <a:pt x="9" y="48"/>
                </a:lnTo>
                <a:lnTo>
                  <a:pt x="12" y="57"/>
                </a:lnTo>
                <a:lnTo>
                  <a:pt x="12" y="65"/>
                </a:lnTo>
                <a:lnTo>
                  <a:pt x="14" y="70"/>
                </a:lnTo>
                <a:lnTo>
                  <a:pt x="14" y="74"/>
                </a:lnTo>
                <a:lnTo>
                  <a:pt x="16" y="76"/>
                </a:lnTo>
                <a:lnTo>
                  <a:pt x="16" y="79"/>
                </a:lnTo>
                <a:lnTo>
                  <a:pt x="16" y="81"/>
                </a:lnTo>
                <a:lnTo>
                  <a:pt x="16" y="84"/>
                </a:lnTo>
                <a:lnTo>
                  <a:pt x="18" y="86"/>
                </a:lnTo>
                <a:lnTo>
                  <a:pt x="18" y="90"/>
                </a:lnTo>
                <a:lnTo>
                  <a:pt x="20" y="95"/>
                </a:lnTo>
                <a:lnTo>
                  <a:pt x="22" y="102"/>
                </a:lnTo>
                <a:lnTo>
                  <a:pt x="24" y="110"/>
                </a:lnTo>
                <a:lnTo>
                  <a:pt x="27" y="123"/>
                </a:lnTo>
                <a:lnTo>
                  <a:pt x="30" y="138"/>
                </a:lnTo>
                <a:lnTo>
                  <a:pt x="35" y="156"/>
                </a:lnTo>
                <a:lnTo>
                  <a:pt x="42" y="176"/>
                </a:lnTo>
                <a:lnTo>
                  <a:pt x="48" y="198"/>
                </a:lnTo>
                <a:lnTo>
                  <a:pt x="55" y="223"/>
                </a:lnTo>
                <a:lnTo>
                  <a:pt x="64" y="249"/>
                </a:lnTo>
                <a:lnTo>
                  <a:pt x="74" y="275"/>
                </a:lnTo>
                <a:lnTo>
                  <a:pt x="83" y="304"/>
                </a:lnTo>
                <a:lnTo>
                  <a:pt x="93" y="333"/>
                </a:lnTo>
                <a:lnTo>
                  <a:pt x="102" y="363"/>
                </a:lnTo>
                <a:lnTo>
                  <a:pt x="113" y="392"/>
                </a:lnTo>
                <a:lnTo>
                  <a:pt x="123" y="422"/>
                </a:lnTo>
                <a:lnTo>
                  <a:pt x="134" y="452"/>
                </a:lnTo>
                <a:lnTo>
                  <a:pt x="144" y="480"/>
                </a:lnTo>
                <a:lnTo>
                  <a:pt x="156" y="507"/>
                </a:lnTo>
                <a:lnTo>
                  <a:pt x="165" y="536"/>
                </a:lnTo>
                <a:lnTo>
                  <a:pt x="176" y="564"/>
                </a:lnTo>
                <a:lnTo>
                  <a:pt x="188" y="595"/>
                </a:lnTo>
                <a:lnTo>
                  <a:pt x="201" y="625"/>
                </a:lnTo>
                <a:lnTo>
                  <a:pt x="213" y="656"/>
                </a:lnTo>
                <a:lnTo>
                  <a:pt x="226" y="687"/>
                </a:lnTo>
                <a:lnTo>
                  <a:pt x="240" y="718"/>
                </a:lnTo>
                <a:lnTo>
                  <a:pt x="254" y="748"/>
                </a:lnTo>
                <a:lnTo>
                  <a:pt x="268" y="778"/>
                </a:lnTo>
                <a:lnTo>
                  <a:pt x="281" y="806"/>
                </a:lnTo>
                <a:lnTo>
                  <a:pt x="292" y="833"/>
                </a:lnTo>
                <a:lnTo>
                  <a:pt x="306" y="858"/>
                </a:lnTo>
                <a:lnTo>
                  <a:pt x="317" y="882"/>
                </a:lnTo>
                <a:lnTo>
                  <a:pt x="328" y="902"/>
                </a:lnTo>
                <a:lnTo>
                  <a:pt x="337" y="920"/>
                </a:lnTo>
                <a:lnTo>
                  <a:pt x="347" y="934"/>
                </a:lnTo>
                <a:lnTo>
                  <a:pt x="356" y="950"/>
                </a:lnTo>
                <a:lnTo>
                  <a:pt x="366" y="966"/>
                </a:lnTo>
                <a:lnTo>
                  <a:pt x="376" y="984"/>
                </a:lnTo>
                <a:lnTo>
                  <a:pt x="389" y="1003"/>
                </a:lnTo>
                <a:lnTo>
                  <a:pt x="402" y="1024"/>
                </a:lnTo>
                <a:lnTo>
                  <a:pt x="415" y="1045"/>
                </a:lnTo>
                <a:lnTo>
                  <a:pt x="430" y="1067"/>
                </a:lnTo>
                <a:lnTo>
                  <a:pt x="445" y="1088"/>
                </a:lnTo>
                <a:lnTo>
                  <a:pt x="459" y="1113"/>
                </a:lnTo>
                <a:lnTo>
                  <a:pt x="474" y="1135"/>
                </a:lnTo>
                <a:lnTo>
                  <a:pt x="488" y="1158"/>
                </a:lnTo>
                <a:lnTo>
                  <a:pt x="503" y="1180"/>
                </a:lnTo>
                <a:lnTo>
                  <a:pt x="516" y="1201"/>
                </a:lnTo>
                <a:lnTo>
                  <a:pt x="531" y="1222"/>
                </a:lnTo>
                <a:lnTo>
                  <a:pt x="543" y="1241"/>
                </a:lnTo>
                <a:lnTo>
                  <a:pt x="556" y="1259"/>
                </a:lnTo>
                <a:lnTo>
                  <a:pt x="567" y="1278"/>
                </a:lnTo>
                <a:lnTo>
                  <a:pt x="580" y="1296"/>
                </a:lnTo>
                <a:lnTo>
                  <a:pt x="593" y="1317"/>
                </a:lnTo>
                <a:lnTo>
                  <a:pt x="606" y="1337"/>
                </a:lnTo>
                <a:lnTo>
                  <a:pt x="620" y="1360"/>
                </a:lnTo>
                <a:lnTo>
                  <a:pt x="634" y="1380"/>
                </a:lnTo>
                <a:lnTo>
                  <a:pt x="649" y="1402"/>
                </a:lnTo>
                <a:lnTo>
                  <a:pt x="664" y="1423"/>
                </a:lnTo>
                <a:lnTo>
                  <a:pt x="677" y="1445"/>
                </a:lnTo>
                <a:lnTo>
                  <a:pt x="692" y="1465"/>
                </a:lnTo>
                <a:lnTo>
                  <a:pt x="705" y="1484"/>
                </a:lnTo>
                <a:lnTo>
                  <a:pt x="719" y="1503"/>
                </a:lnTo>
                <a:lnTo>
                  <a:pt x="730" y="1520"/>
                </a:lnTo>
                <a:lnTo>
                  <a:pt x="742" y="1536"/>
                </a:lnTo>
                <a:lnTo>
                  <a:pt x="752" y="1550"/>
                </a:lnTo>
                <a:lnTo>
                  <a:pt x="762" y="1560"/>
                </a:lnTo>
                <a:lnTo>
                  <a:pt x="769" y="1572"/>
                </a:lnTo>
                <a:lnTo>
                  <a:pt x="779" y="1585"/>
                </a:lnTo>
                <a:lnTo>
                  <a:pt x="790" y="1599"/>
                </a:lnTo>
                <a:lnTo>
                  <a:pt x="804" y="1613"/>
                </a:lnTo>
                <a:lnTo>
                  <a:pt x="817" y="1629"/>
                </a:lnTo>
                <a:lnTo>
                  <a:pt x="831" y="1645"/>
                </a:lnTo>
                <a:lnTo>
                  <a:pt x="846" y="1662"/>
                </a:lnTo>
                <a:lnTo>
                  <a:pt x="862" y="1677"/>
                </a:lnTo>
                <a:lnTo>
                  <a:pt x="877" y="1694"/>
                </a:lnTo>
                <a:lnTo>
                  <a:pt x="893" y="1710"/>
                </a:lnTo>
                <a:lnTo>
                  <a:pt x="908" y="1726"/>
                </a:lnTo>
                <a:lnTo>
                  <a:pt x="925" y="1740"/>
                </a:lnTo>
                <a:lnTo>
                  <a:pt x="940" y="1755"/>
                </a:lnTo>
                <a:lnTo>
                  <a:pt x="955" y="1768"/>
                </a:lnTo>
                <a:lnTo>
                  <a:pt x="969" y="1780"/>
                </a:lnTo>
                <a:lnTo>
                  <a:pt x="983" y="1791"/>
                </a:lnTo>
                <a:lnTo>
                  <a:pt x="996" y="1803"/>
                </a:lnTo>
                <a:lnTo>
                  <a:pt x="1011" y="1814"/>
                </a:lnTo>
                <a:lnTo>
                  <a:pt x="1026" y="1827"/>
                </a:lnTo>
                <a:lnTo>
                  <a:pt x="1044" y="1838"/>
                </a:lnTo>
                <a:lnTo>
                  <a:pt x="1061" y="1852"/>
                </a:lnTo>
                <a:lnTo>
                  <a:pt x="1079" y="1864"/>
                </a:lnTo>
                <a:lnTo>
                  <a:pt x="1098" y="1877"/>
                </a:lnTo>
                <a:lnTo>
                  <a:pt x="1118" y="1889"/>
                </a:lnTo>
                <a:lnTo>
                  <a:pt x="1137" y="1902"/>
                </a:lnTo>
                <a:lnTo>
                  <a:pt x="1156" y="1914"/>
                </a:lnTo>
                <a:lnTo>
                  <a:pt x="1173" y="1926"/>
                </a:lnTo>
                <a:lnTo>
                  <a:pt x="1192" y="1936"/>
                </a:lnTo>
                <a:lnTo>
                  <a:pt x="1208" y="1947"/>
                </a:lnTo>
                <a:lnTo>
                  <a:pt x="1225" y="1956"/>
                </a:lnTo>
                <a:lnTo>
                  <a:pt x="1239" y="1964"/>
                </a:lnTo>
                <a:lnTo>
                  <a:pt x="1254" y="1971"/>
                </a:lnTo>
                <a:lnTo>
                  <a:pt x="1266" y="1978"/>
                </a:lnTo>
                <a:lnTo>
                  <a:pt x="1280" y="1984"/>
                </a:lnTo>
                <a:lnTo>
                  <a:pt x="1294" y="1992"/>
                </a:lnTo>
                <a:lnTo>
                  <a:pt x="1309" y="2000"/>
                </a:lnTo>
                <a:lnTo>
                  <a:pt x="1324" y="2009"/>
                </a:lnTo>
                <a:lnTo>
                  <a:pt x="1339" y="2017"/>
                </a:lnTo>
                <a:lnTo>
                  <a:pt x="1354" y="2025"/>
                </a:lnTo>
                <a:lnTo>
                  <a:pt x="1369" y="2032"/>
                </a:lnTo>
                <a:lnTo>
                  <a:pt x="1382" y="2040"/>
                </a:lnTo>
                <a:lnTo>
                  <a:pt x="1396" y="2048"/>
                </a:lnTo>
                <a:lnTo>
                  <a:pt x="1408" y="2056"/>
                </a:lnTo>
                <a:lnTo>
                  <a:pt x="1420" y="2061"/>
                </a:lnTo>
                <a:lnTo>
                  <a:pt x="1430" y="2067"/>
                </a:lnTo>
                <a:lnTo>
                  <a:pt x="1439" y="2072"/>
                </a:lnTo>
                <a:lnTo>
                  <a:pt x="1446" y="2076"/>
                </a:lnTo>
                <a:lnTo>
                  <a:pt x="1452" y="2077"/>
                </a:lnTo>
                <a:lnTo>
                  <a:pt x="1457" y="2080"/>
                </a:lnTo>
                <a:lnTo>
                  <a:pt x="1462" y="2082"/>
                </a:lnTo>
                <a:lnTo>
                  <a:pt x="1469" y="2086"/>
                </a:lnTo>
                <a:lnTo>
                  <a:pt x="1478" y="2088"/>
                </a:lnTo>
                <a:lnTo>
                  <a:pt x="1485" y="2092"/>
                </a:lnTo>
                <a:lnTo>
                  <a:pt x="1494" y="2096"/>
                </a:lnTo>
                <a:lnTo>
                  <a:pt x="1504" y="2099"/>
                </a:lnTo>
                <a:lnTo>
                  <a:pt x="1514" y="2102"/>
                </a:lnTo>
                <a:lnTo>
                  <a:pt x="1523" y="2107"/>
                </a:lnTo>
                <a:lnTo>
                  <a:pt x="1534" y="2111"/>
                </a:lnTo>
                <a:lnTo>
                  <a:pt x="1543" y="2115"/>
                </a:lnTo>
                <a:lnTo>
                  <a:pt x="1554" y="2118"/>
                </a:lnTo>
                <a:lnTo>
                  <a:pt x="1564" y="2122"/>
                </a:lnTo>
                <a:lnTo>
                  <a:pt x="1574" y="2125"/>
                </a:lnTo>
                <a:lnTo>
                  <a:pt x="1584" y="2127"/>
                </a:lnTo>
                <a:lnTo>
                  <a:pt x="1594" y="2129"/>
                </a:lnTo>
                <a:lnTo>
                  <a:pt x="1604" y="2133"/>
                </a:lnTo>
                <a:lnTo>
                  <a:pt x="1617" y="2136"/>
                </a:lnTo>
                <a:lnTo>
                  <a:pt x="1632" y="2140"/>
                </a:lnTo>
                <a:lnTo>
                  <a:pt x="1650" y="2144"/>
                </a:lnTo>
                <a:lnTo>
                  <a:pt x="1668" y="2149"/>
                </a:lnTo>
                <a:lnTo>
                  <a:pt x="1688" y="2154"/>
                </a:lnTo>
                <a:lnTo>
                  <a:pt x="1708" y="2160"/>
                </a:lnTo>
                <a:lnTo>
                  <a:pt x="1730" y="2164"/>
                </a:lnTo>
                <a:lnTo>
                  <a:pt x="1751" y="2170"/>
                </a:lnTo>
                <a:lnTo>
                  <a:pt x="1772" y="2175"/>
                </a:lnTo>
                <a:lnTo>
                  <a:pt x="1793" y="2181"/>
                </a:lnTo>
                <a:lnTo>
                  <a:pt x="1815" y="2185"/>
                </a:lnTo>
                <a:lnTo>
                  <a:pt x="1834" y="2190"/>
                </a:lnTo>
                <a:lnTo>
                  <a:pt x="1853" y="2194"/>
                </a:lnTo>
                <a:lnTo>
                  <a:pt x="1870" y="2196"/>
                </a:lnTo>
                <a:lnTo>
                  <a:pt x="1886" y="2198"/>
                </a:lnTo>
                <a:lnTo>
                  <a:pt x="1902" y="2201"/>
                </a:lnTo>
                <a:lnTo>
                  <a:pt x="1922" y="2204"/>
                </a:lnTo>
                <a:lnTo>
                  <a:pt x="1946" y="2209"/>
                </a:lnTo>
                <a:lnTo>
                  <a:pt x="1974" y="2213"/>
                </a:lnTo>
                <a:lnTo>
                  <a:pt x="2002" y="2218"/>
                </a:lnTo>
                <a:lnTo>
                  <a:pt x="2034" y="2224"/>
                </a:lnTo>
                <a:lnTo>
                  <a:pt x="2066" y="2230"/>
                </a:lnTo>
                <a:lnTo>
                  <a:pt x="2100" y="2235"/>
                </a:lnTo>
                <a:lnTo>
                  <a:pt x="2131" y="2242"/>
                </a:lnTo>
                <a:lnTo>
                  <a:pt x="2163" y="2248"/>
                </a:lnTo>
                <a:lnTo>
                  <a:pt x="2194" y="2253"/>
                </a:lnTo>
                <a:lnTo>
                  <a:pt x="2223" y="2257"/>
                </a:lnTo>
                <a:lnTo>
                  <a:pt x="2249" y="2262"/>
                </a:lnTo>
                <a:lnTo>
                  <a:pt x="2272" y="2264"/>
                </a:lnTo>
                <a:lnTo>
                  <a:pt x="2290" y="2266"/>
                </a:lnTo>
                <a:lnTo>
                  <a:pt x="2307" y="2266"/>
                </a:lnTo>
                <a:lnTo>
                  <a:pt x="2316" y="2267"/>
                </a:lnTo>
                <a:lnTo>
                  <a:pt x="2321" y="2267"/>
                </a:lnTo>
                <a:lnTo>
                  <a:pt x="2324" y="2267"/>
                </a:lnTo>
                <a:lnTo>
                  <a:pt x="2326" y="2267"/>
                </a:lnTo>
                <a:lnTo>
                  <a:pt x="2324" y="2267"/>
                </a:lnTo>
                <a:lnTo>
                  <a:pt x="2322" y="2267"/>
                </a:lnTo>
                <a:lnTo>
                  <a:pt x="2318" y="2267"/>
                </a:lnTo>
                <a:lnTo>
                  <a:pt x="2315" y="2266"/>
                </a:lnTo>
                <a:lnTo>
                  <a:pt x="2311" y="2266"/>
                </a:lnTo>
                <a:lnTo>
                  <a:pt x="2308" y="2266"/>
                </a:lnTo>
                <a:lnTo>
                  <a:pt x="2306" y="2266"/>
                </a:lnTo>
                <a:lnTo>
                  <a:pt x="2307" y="2264"/>
                </a:lnTo>
                <a:lnTo>
                  <a:pt x="2310" y="2264"/>
                </a:lnTo>
                <a:lnTo>
                  <a:pt x="2316" y="2264"/>
                </a:lnTo>
                <a:lnTo>
                  <a:pt x="2325" y="2264"/>
                </a:lnTo>
                <a:lnTo>
                  <a:pt x="2338" y="2262"/>
                </a:lnTo>
              </a:path>
            </a:pathLst>
          </a:custGeom>
          <a:noFill/>
          <a:ln w="316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1600" y="3886200"/>
            <a:ext cx="5243400" cy="3559320"/>
          </a:xfrm>
          <a:custGeom>
            <a:avLst/>
            <a:gdLst/>
            <a:ahLst/>
            <a:rect l="l" t="t" r="r" b="b"/>
            <a:pathLst>
              <a:path w="2342" h="1588">
                <a:moveTo>
                  <a:pt x="2341" y="1587"/>
                </a:moveTo>
                <a:lnTo>
                  <a:pt x="2341" y="1587"/>
                </a:lnTo>
                <a:lnTo>
                  <a:pt x="0" y="1587"/>
                </a:lnTo>
                <a:lnTo>
                  <a:pt x="0" y="0"/>
                </a:lnTo>
                <a:lnTo>
                  <a:pt x="2341" y="1587"/>
                </a:lnTo>
                <a:lnTo>
                  <a:pt x="2341" y="1587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316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94120" y="5351400"/>
            <a:ext cx="1700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21483000">
            <a:off x="2971800" y="2895120"/>
            <a:ext cx="2971800" cy="3276720"/>
          </a:xfrm>
          <a:custGeom>
            <a:avLst/>
            <a:gdLst/>
            <a:ahLst/>
            <a:rect l="l" t="t" r="r" b="b"/>
            <a:pathLst>
              <a:path w="1828" h="2077">
                <a:moveTo>
                  <a:pt x="0" y="0"/>
                </a:moveTo>
                <a:lnTo>
                  <a:pt x="2" y="18"/>
                </a:lnTo>
                <a:lnTo>
                  <a:pt x="6" y="33"/>
                </a:lnTo>
                <a:lnTo>
                  <a:pt x="8" y="45"/>
                </a:lnTo>
                <a:lnTo>
                  <a:pt x="10" y="53"/>
                </a:lnTo>
                <a:lnTo>
                  <a:pt x="11" y="61"/>
                </a:lnTo>
                <a:lnTo>
                  <a:pt x="13" y="66"/>
                </a:lnTo>
                <a:lnTo>
                  <a:pt x="13" y="69"/>
                </a:lnTo>
                <a:lnTo>
                  <a:pt x="14" y="71"/>
                </a:lnTo>
                <a:lnTo>
                  <a:pt x="14" y="75"/>
                </a:lnTo>
                <a:lnTo>
                  <a:pt x="14" y="76"/>
                </a:lnTo>
                <a:lnTo>
                  <a:pt x="14" y="79"/>
                </a:lnTo>
                <a:lnTo>
                  <a:pt x="16" y="81"/>
                </a:lnTo>
                <a:lnTo>
                  <a:pt x="16" y="85"/>
                </a:lnTo>
                <a:lnTo>
                  <a:pt x="18" y="89"/>
                </a:lnTo>
                <a:lnTo>
                  <a:pt x="20" y="96"/>
                </a:lnTo>
                <a:lnTo>
                  <a:pt x="23" y="104"/>
                </a:lnTo>
                <a:lnTo>
                  <a:pt x="24" y="116"/>
                </a:lnTo>
                <a:lnTo>
                  <a:pt x="28" y="130"/>
                </a:lnTo>
                <a:lnTo>
                  <a:pt x="33" y="147"/>
                </a:lnTo>
                <a:lnTo>
                  <a:pt x="40" y="165"/>
                </a:lnTo>
                <a:lnTo>
                  <a:pt x="46" y="187"/>
                </a:lnTo>
                <a:lnTo>
                  <a:pt x="53" y="210"/>
                </a:lnTo>
                <a:lnTo>
                  <a:pt x="61" y="235"/>
                </a:lnTo>
                <a:lnTo>
                  <a:pt x="71" y="260"/>
                </a:lnTo>
                <a:lnTo>
                  <a:pt x="80" y="287"/>
                </a:lnTo>
                <a:lnTo>
                  <a:pt x="89" y="315"/>
                </a:lnTo>
                <a:lnTo>
                  <a:pt x="98" y="343"/>
                </a:lnTo>
                <a:lnTo>
                  <a:pt x="109" y="370"/>
                </a:lnTo>
                <a:lnTo>
                  <a:pt x="118" y="398"/>
                </a:lnTo>
                <a:lnTo>
                  <a:pt x="129" y="426"/>
                </a:lnTo>
                <a:lnTo>
                  <a:pt x="139" y="453"/>
                </a:lnTo>
                <a:lnTo>
                  <a:pt x="150" y="478"/>
                </a:lnTo>
                <a:lnTo>
                  <a:pt x="159" y="505"/>
                </a:lnTo>
                <a:lnTo>
                  <a:pt x="170" y="532"/>
                </a:lnTo>
                <a:lnTo>
                  <a:pt x="181" y="561"/>
                </a:lnTo>
                <a:lnTo>
                  <a:pt x="194" y="589"/>
                </a:lnTo>
                <a:lnTo>
                  <a:pt x="206" y="619"/>
                </a:lnTo>
                <a:lnTo>
                  <a:pt x="219" y="649"/>
                </a:lnTo>
                <a:lnTo>
                  <a:pt x="232" y="678"/>
                </a:lnTo>
                <a:lnTo>
                  <a:pt x="246" y="706"/>
                </a:lnTo>
                <a:lnTo>
                  <a:pt x="258" y="735"/>
                </a:lnTo>
                <a:lnTo>
                  <a:pt x="271" y="761"/>
                </a:lnTo>
                <a:lnTo>
                  <a:pt x="283" y="787"/>
                </a:lnTo>
                <a:lnTo>
                  <a:pt x="296" y="810"/>
                </a:lnTo>
                <a:lnTo>
                  <a:pt x="306" y="832"/>
                </a:lnTo>
                <a:lnTo>
                  <a:pt x="317" y="851"/>
                </a:lnTo>
                <a:lnTo>
                  <a:pt x="326" y="869"/>
                </a:lnTo>
                <a:lnTo>
                  <a:pt x="336" y="882"/>
                </a:lnTo>
                <a:lnTo>
                  <a:pt x="344" y="896"/>
                </a:lnTo>
                <a:lnTo>
                  <a:pt x="354" y="911"/>
                </a:lnTo>
                <a:lnTo>
                  <a:pt x="365" y="929"/>
                </a:lnTo>
                <a:lnTo>
                  <a:pt x="376" y="946"/>
                </a:lnTo>
                <a:lnTo>
                  <a:pt x="389" y="966"/>
                </a:lnTo>
                <a:lnTo>
                  <a:pt x="402" y="986"/>
                </a:lnTo>
                <a:lnTo>
                  <a:pt x="416" y="1007"/>
                </a:lnTo>
                <a:lnTo>
                  <a:pt x="431" y="1028"/>
                </a:lnTo>
                <a:lnTo>
                  <a:pt x="444" y="1051"/>
                </a:lnTo>
                <a:lnTo>
                  <a:pt x="459" y="1072"/>
                </a:lnTo>
                <a:lnTo>
                  <a:pt x="472" y="1093"/>
                </a:lnTo>
                <a:lnTo>
                  <a:pt x="487" y="1114"/>
                </a:lnTo>
                <a:lnTo>
                  <a:pt x="500" y="1135"/>
                </a:lnTo>
                <a:lnTo>
                  <a:pt x="514" y="1154"/>
                </a:lnTo>
                <a:lnTo>
                  <a:pt x="526" y="1173"/>
                </a:lnTo>
                <a:lnTo>
                  <a:pt x="538" y="1189"/>
                </a:lnTo>
                <a:lnTo>
                  <a:pt x="549" y="1207"/>
                </a:lnTo>
                <a:lnTo>
                  <a:pt x="560" y="1225"/>
                </a:lnTo>
                <a:lnTo>
                  <a:pt x="574" y="1245"/>
                </a:lnTo>
                <a:lnTo>
                  <a:pt x="587" y="1263"/>
                </a:lnTo>
                <a:lnTo>
                  <a:pt x="600" y="1284"/>
                </a:lnTo>
                <a:lnTo>
                  <a:pt x="614" y="1304"/>
                </a:lnTo>
                <a:lnTo>
                  <a:pt x="628" y="1324"/>
                </a:lnTo>
                <a:lnTo>
                  <a:pt x="643" y="1344"/>
                </a:lnTo>
                <a:lnTo>
                  <a:pt x="656" y="1364"/>
                </a:lnTo>
                <a:lnTo>
                  <a:pt x="670" y="1384"/>
                </a:lnTo>
                <a:lnTo>
                  <a:pt x="683" y="1402"/>
                </a:lnTo>
                <a:lnTo>
                  <a:pt x="696" y="1419"/>
                </a:lnTo>
                <a:lnTo>
                  <a:pt x="707" y="1436"/>
                </a:lnTo>
                <a:lnTo>
                  <a:pt x="718" y="1451"/>
                </a:lnTo>
                <a:lnTo>
                  <a:pt x="728" y="1463"/>
                </a:lnTo>
                <a:lnTo>
                  <a:pt x="738" y="1473"/>
                </a:lnTo>
                <a:lnTo>
                  <a:pt x="745" y="1486"/>
                </a:lnTo>
                <a:lnTo>
                  <a:pt x="755" y="1498"/>
                </a:lnTo>
                <a:lnTo>
                  <a:pt x="766" y="1511"/>
                </a:lnTo>
                <a:lnTo>
                  <a:pt x="778" y="1524"/>
                </a:lnTo>
                <a:lnTo>
                  <a:pt x="791" y="1539"/>
                </a:lnTo>
                <a:lnTo>
                  <a:pt x="804" y="1553"/>
                </a:lnTo>
                <a:lnTo>
                  <a:pt x="820" y="1568"/>
                </a:lnTo>
                <a:lnTo>
                  <a:pt x="834" y="1583"/>
                </a:lnTo>
                <a:lnTo>
                  <a:pt x="850" y="1599"/>
                </a:lnTo>
                <a:lnTo>
                  <a:pt x="864" y="1615"/>
                </a:lnTo>
                <a:lnTo>
                  <a:pt x="880" y="1629"/>
                </a:lnTo>
                <a:lnTo>
                  <a:pt x="896" y="1643"/>
                </a:lnTo>
                <a:lnTo>
                  <a:pt x="909" y="1657"/>
                </a:lnTo>
                <a:lnTo>
                  <a:pt x="924" y="1669"/>
                </a:lnTo>
                <a:lnTo>
                  <a:pt x="938" y="1681"/>
                </a:lnTo>
                <a:lnTo>
                  <a:pt x="952" y="1691"/>
                </a:lnTo>
                <a:lnTo>
                  <a:pt x="964" y="1703"/>
                </a:lnTo>
                <a:lnTo>
                  <a:pt x="979" y="1713"/>
                </a:lnTo>
                <a:lnTo>
                  <a:pt x="994" y="1725"/>
                </a:lnTo>
                <a:lnTo>
                  <a:pt x="1011" y="1736"/>
                </a:lnTo>
                <a:lnTo>
                  <a:pt x="1028" y="1749"/>
                </a:lnTo>
                <a:lnTo>
                  <a:pt x="1045" y="1761"/>
                </a:lnTo>
                <a:lnTo>
                  <a:pt x="1064" y="1772"/>
                </a:lnTo>
                <a:lnTo>
                  <a:pt x="1082" y="1784"/>
                </a:lnTo>
                <a:lnTo>
                  <a:pt x="1099" y="1797"/>
                </a:lnTo>
                <a:lnTo>
                  <a:pt x="1118" y="1808"/>
                </a:lnTo>
                <a:lnTo>
                  <a:pt x="1135" y="1819"/>
                </a:lnTo>
                <a:lnTo>
                  <a:pt x="1153" y="1829"/>
                </a:lnTo>
                <a:lnTo>
                  <a:pt x="1169" y="1839"/>
                </a:lnTo>
                <a:lnTo>
                  <a:pt x="1185" y="1847"/>
                </a:lnTo>
                <a:lnTo>
                  <a:pt x="1200" y="1855"/>
                </a:lnTo>
                <a:lnTo>
                  <a:pt x="1214" y="1861"/>
                </a:lnTo>
                <a:lnTo>
                  <a:pt x="1226" y="1868"/>
                </a:lnTo>
                <a:lnTo>
                  <a:pt x="1240" y="1874"/>
                </a:lnTo>
                <a:lnTo>
                  <a:pt x="1252" y="1881"/>
                </a:lnTo>
                <a:lnTo>
                  <a:pt x="1268" y="1889"/>
                </a:lnTo>
                <a:lnTo>
                  <a:pt x="1281" y="1897"/>
                </a:lnTo>
                <a:lnTo>
                  <a:pt x="1296" y="1905"/>
                </a:lnTo>
                <a:lnTo>
                  <a:pt x="1310" y="1912"/>
                </a:lnTo>
                <a:lnTo>
                  <a:pt x="1326" y="1920"/>
                </a:lnTo>
                <a:lnTo>
                  <a:pt x="1339" y="1927"/>
                </a:lnTo>
                <a:lnTo>
                  <a:pt x="1352" y="1935"/>
                </a:lnTo>
                <a:lnTo>
                  <a:pt x="1364" y="1941"/>
                </a:lnTo>
                <a:lnTo>
                  <a:pt x="1376" y="1947"/>
                </a:lnTo>
                <a:lnTo>
                  <a:pt x="1385" y="1952"/>
                </a:lnTo>
                <a:lnTo>
                  <a:pt x="1394" y="1957"/>
                </a:lnTo>
                <a:lnTo>
                  <a:pt x="1400" y="1960"/>
                </a:lnTo>
                <a:lnTo>
                  <a:pt x="1407" y="1961"/>
                </a:lnTo>
                <a:lnTo>
                  <a:pt x="1410" y="1965"/>
                </a:lnTo>
                <a:lnTo>
                  <a:pt x="1416" y="1967"/>
                </a:lnTo>
                <a:lnTo>
                  <a:pt x="1423" y="1970"/>
                </a:lnTo>
                <a:lnTo>
                  <a:pt x="1430" y="1972"/>
                </a:lnTo>
                <a:lnTo>
                  <a:pt x="1438" y="1976"/>
                </a:lnTo>
                <a:lnTo>
                  <a:pt x="1447" y="1979"/>
                </a:lnTo>
                <a:lnTo>
                  <a:pt x="1456" y="1983"/>
                </a:lnTo>
                <a:lnTo>
                  <a:pt x="1466" y="1986"/>
                </a:lnTo>
                <a:lnTo>
                  <a:pt x="1475" y="1989"/>
                </a:lnTo>
                <a:lnTo>
                  <a:pt x="1485" y="1993"/>
                </a:lnTo>
                <a:lnTo>
                  <a:pt x="1494" y="1997"/>
                </a:lnTo>
                <a:lnTo>
                  <a:pt x="1505" y="2000"/>
                </a:lnTo>
                <a:lnTo>
                  <a:pt x="1515" y="2004"/>
                </a:lnTo>
                <a:lnTo>
                  <a:pt x="1525" y="2006"/>
                </a:lnTo>
                <a:lnTo>
                  <a:pt x="1534" y="2009"/>
                </a:lnTo>
                <a:lnTo>
                  <a:pt x="1544" y="2011"/>
                </a:lnTo>
                <a:lnTo>
                  <a:pt x="1553" y="2015"/>
                </a:lnTo>
                <a:lnTo>
                  <a:pt x="1566" y="2017"/>
                </a:lnTo>
                <a:lnTo>
                  <a:pt x="1581" y="2021"/>
                </a:lnTo>
                <a:lnTo>
                  <a:pt x="1598" y="2025"/>
                </a:lnTo>
                <a:lnTo>
                  <a:pt x="1616" y="2030"/>
                </a:lnTo>
                <a:lnTo>
                  <a:pt x="1635" y="2035"/>
                </a:lnTo>
                <a:lnTo>
                  <a:pt x="1655" y="2040"/>
                </a:lnTo>
                <a:lnTo>
                  <a:pt x="1676" y="2044"/>
                </a:lnTo>
                <a:lnTo>
                  <a:pt x="1697" y="2049"/>
                </a:lnTo>
                <a:lnTo>
                  <a:pt x="1718" y="2055"/>
                </a:lnTo>
                <a:lnTo>
                  <a:pt x="1738" y="2060"/>
                </a:lnTo>
                <a:lnTo>
                  <a:pt x="1759" y="2064"/>
                </a:lnTo>
                <a:lnTo>
                  <a:pt x="1777" y="2068"/>
                </a:lnTo>
                <a:lnTo>
                  <a:pt x="1796" y="2072"/>
                </a:lnTo>
                <a:lnTo>
                  <a:pt x="1812" y="2075"/>
                </a:lnTo>
                <a:lnTo>
                  <a:pt x="1827" y="2076"/>
                </a:lnTo>
              </a:path>
            </a:pathLst>
          </a:custGeom>
          <a:noFill/>
          <a:ln w="316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5468760"/>
            <a:ext cx="169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*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2590920"/>
            <a:ext cx="3811680" cy="1903320"/>
          </a:xfrm>
          <a:prstGeom prst="wedgeEllipseCallout">
            <a:avLst>
              <a:gd name="adj1" fmla="val -60703"/>
              <a:gd name="adj2" fmla="val 106629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la demanda por el bien “inferior” 2 cae cuando aumenta el ingre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648320" y="1370520"/>
            <a:ext cx="5676840" cy="3971880"/>
          </a:xfrm>
          <a:prstGeom prst="roundRect">
            <a:avLst>
              <a:gd name="adj" fmla="val 7505"/>
            </a:avLst>
          </a:prstGeom>
          <a:solidFill>
            <a:srgbClr val="ffff99"/>
          </a:solidFill>
          <a:ln w="31680">
            <a:solidFill>
              <a:srgbClr val="80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Brush738 BT"/>
              </a:rPr>
              <a:t>¿Puede imaginar algún bien así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Brush738 BT"/>
              </a:rPr>
              <a:t>¿Como pudiera depender de la categorización del bi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mirada hacia adelante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7960" y="2511360"/>
            <a:ext cx="9718920" cy="4270320"/>
          </a:xfrm>
          <a:prstGeom prst="rect">
            <a:avLst/>
          </a:prstGeom>
          <a:solidFill>
            <a:srgbClr val="ffff99"/>
          </a:solidFill>
          <a:ln w="127080">
            <a:solidFill>
              <a:srgbClr val="0031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947880" indent="-49068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Podemos utilizar la idea de un “efecto ingreso” en muchas aplicaciones económ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9068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Es un concepto básico para comprender el efecto de los precios sobre el consumi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9068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70000"/>
              <a:buFont typeface="Monotype Sorts" charset="2"/>
              <a:buChar char="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Debido a que una rebaja en el precio mejora la situación del consumidor tal como lo hace un aumento en el ingres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304920"/>
            <a:ext cx="94536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mos el equilibrio basico de nuev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22860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y permitamos una caída en el preci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6280" y="3905280"/>
            <a:ext cx="9796320" cy="3571920"/>
          </a:xfrm>
          <a:custGeom>
            <a:avLst/>
            <a:gdLst/>
            <a:ahLst/>
            <a:rect l="l" t="t" r="r" b="b"/>
            <a:pathLst>
              <a:path w="6171" h="2250">
                <a:moveTo>
                  <a:pt x="0" y="2230"/>
                </a:moveTo>
                <a:lnTo>
                  <a:pt x="6171" y="225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140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1600" y="3886200"/>
            <a:ext cx="5243400" cy="3559320"/>
          </a:xfrm>
          <a:custGeom>
            <a:avLst/>
            <a:gdLst/>
            <a:ahLst/>
            <a:rect l="l" t="t" r="r" b="b"/>
            <a:pathLst>
              <a:path w="2342" h="1588">
                <a:moveTo>
                  <a:pt x="2341" y="1587"/>
                </a:moveTo>
                <a:lnTo>
                  <a:pt x="2341" y="1587"/>
                </a:lnTo>
                <a:lnTo>
                  <a:pt x="0" y="1587"/>
                </a:lnTo>
                <a:lnTo>
                  <a:pt x="0" y="0"/>
                </a:lnTo>
                <a:lnTo>
                  <a:pt x="2341" y="1587"/>
                </a:lnTo>
                <a:lnTo>
                  <a:pt x="2341" y="1587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316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6560" y="1212840"/>
            <a:ext cx="7291440" cy="6254640"/>
          </a:xfrm>
          <a:custGeom>
            <a:avLst/>
            <a:gdLst/>
            <a:ahLst/>
            <a:rect l="l" t="t" r="r" b="b"/>
            <a:pathLst>
              <a:path w="2744" h="2817">
                <a:moveTo>
                  <a:pt x="0" y="0"/>
                </a:moveTo>
                <a:lnTo>
                  <a:pt x="0" y="2816"/>
                </a:lnTo>
                <a:lnTo>
                  <a:pt x="2743" y="2816"/>
                </a:lnTo>
              </a:path>
            </a:pathLst>
          </a:custGeom>
          <a:noFill/>
          <a:ln w="54000">
            <a:solidFill>
              <a:srgbClr val="80808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46040" y="1459080"/>
            <a:ext cx="4048200" cy="4652640"/>
          </a:xfrm>
          <a:custGeom>
            <a:avLst/>
            <a:gdLst/>
            <a:ahLst/>
            <a:rect l="l" t="t" r="r" b="b"/>
            <a:pathLst>
              <a:path w="1830" h="2080">
                <a:moveTo>
                  <a:pt x="0" y="0"/>
                </a:moveTo>
                <a:lnTo>
                  <a:pt x="1" y="19"/>
                </a:lnTo>
                <a:lnTo>
                  <a:pt x="2" y="32"/>
                </a:lnTo>
                <a:lnTo>
                  <a:pt x="2" y="44"/>
                </a:lnTo>
                <a:lnTo>
                  <a:pt x="4" y="52"/>
                </a:lnTo>
                <a:lnTo>
                  <a:pt x="4" y="59"/>
                </a:lnTo>
                <a:lnTo>
                  <a:pt x="5" y="64"/>
                </a:lnTo>
                <a:lnTo>
                  <a:pt x="5" y="67"/>
                </a:lnTo>
                <a:lnTo>
                  <a:pt x="7" y="69"/>
                </a:lnTo>
                <a:lnTo>
                  <a:pt x="7" y="72"/>
                </a:lnTo>
                <a:lnTo>
                  <a:pt x="7" y="74"/>
                </a:lnTo>
                <a:lnTo>
                  <a:pt x="7" y="76"/>
                </a:lnTo>
                <a:lnTo>
                  <a:pt x="7" y="77"/>
                </a:lnTo>
                <a:lnTo>
                  <a:pt x="7" y="81"/>
                </a:lnTo>
                <a:lnTo>
                  <a:pt x="8" y="86"/>
                </a:lnTo>
                <a:lnTo>
                  <a:pt x="9" y="92"/>
                </a:lnTo>
                <a:lnTo>
                  <a:pt x="11" y="100"/>
                </a:lnTo>
                <a:lnTo>
                  <a:pt x="11" y="111"/>
                </a:lnTo>
                <a:lnTo>
                  <a:pt x="13" y="125"/>
                </a:lnTo>
                <a:lnTo>
                  <a:pt x="15" y="141"/>
                </a:lnTo>
                <a:lnTo>
                  <a:pt x="19" y="159"/>
                </a:lnTo>
                <a:lnTo>
                  <a:pt x="22" y="180"/>
                </a:lnTo>
                <a:lnTo>
                  <a:pt x="25" y="202"/>
                </a:lnTo>
                <a:lnTo>
                  <a:pt x="29" y="225"/>
                </a:lnTo>
                <a:lnTo>
                  <a:pt x="35" y="250"/>
                </a:lnTo>
                <a:lnTo>
                  <a:pt x="39" y="276"/>
                </a:lnTo>
                <a:lnTo>
                  <a:pt x="45" y="302"/>
                </a:lnTo>
                <a:lnTo>
                  <a:pt x="50" y="330"/>
                </a:lnTo>
                <a:lnTo>
                  <a:pt x="56" y="356"/>
                </a:lnTo>
                <a:lnTo>
                  <a:pt x="62" y="384"/>
                </a:lnTo>
                <a:lnTo>
                  <a:pt x="67" y="410"/>
                </a:lnTo>
                <a:lnTo>
                  <a:pt x="73" y="436"/>
                </a:lnTo>
                <a:lnTo>
                  <a:pt x="79" y="460"/>
                </a:lnTo>
                <a:lnTo>
                  <a:pt x="84" y="486"/>
                </a:lnTo>
                <a:lnTo>
                  <a:pt x="90" y="512"/>
                </a:lnTo>
                <a:lnTo>
                  <a:pt x="96" y="540"/>
                </a:lnTo>
                <a:lnTo>
                  <a:pt x="103" y="568"/>
                </a:lnTo>
                <a:lnTo>
                  <a:pt x="110" y="597"/>
                </a:lnTo>
                <a:lnTo>
                  <a:pt x="118" y="625"/>
                </a:lnTo>
                <a:lnTo>
                  <a:pt x="125" y="653"/>
                </a:lnTo>
                <a:lnTo>
                  <a:pt x="133" y="681"/>
                </a:lnTo>
                <a:lnTo>
                  <a:pt x="140" y="709"/>
                </a:lnTo>
                <a:lnTo>
                  <a:pt x="148" y="734"/>
                </a:lnTo>
                <a:lnTo>
                  <a:pt x="155" y="759"/>
                </a:lnTo>
                <a:lnTo>
                  <a:pt x="163" y="782"/>
                </a:lnTo>
                <a:lnTo>
                  <a:pt x="168" y="804"/>
                </a:lnTo>
                <a:lnTo>
                  <a:pt x="176" y="823"/>
                </a:lnTo>
                <a:lnTo>
                  <a:pt x="181" y="839"/>
                </a:lnTo>
                <a:lnTo>
                  <a:pt x="188" y="852"/>
                </a:lnTo>
                <a:lnTo>
                  <a:pt x="193" y="866"/>
                </a:lnTo>
                <a:lnTo>
                  <a:pt x="198" y="881"/>
                </a:lnTo>
                <a:lnTo>
                  <a:pt x="205" y="898"/>
                </a:lnTo>
                <a:lnTo>
                  <a:pt x="213" y="915"/>
                </a:lnTo>
                <a:lnTo>
                  <a:pt x="220" y="935"/>
                </a:lnTo>
                <a:lnTo>
                  <a:pt x="229" y="955"/>
                </a:lnTo>
                <a:lnTo>
                  <a:pt x="237" y="975"/>
                </a:lnTo>
                <a:lnTo>
                  <a:pt x="247" y="996"/>
                </a:lnTo>
                <a:lnTo>
                  <a:pt x="255" y="1018"/>
                </a:lnTo>
                <a:lnTo>
                  <a:pt x="264" y="1040"/>
                </a:lnTo>
                <a:lnTo>
                  <a:pt x="273" y="1061"/>
                </a:lnTo>
                <a:lnTo>
                  <a:pt x="282" y="1081"/>
                </a:lnTo>
                <a:lnTo>
                  <a:pt x="289" y="1102"/>
                </a:lnTo>
                <a:lnTo>
                  <a:pt x="299" y="1121"/>
                </a:lnTo>
                <a:lnTo>
                  <a:pt x="306" y="1139"/>
                </a:lnTo>
                <a:lnTo>
                  <a:pt x="314" y="1155"/>
                </a:lnTo>
                <a:lnTo>
                  <a:pt x="321" y="1173"/>
                </a:lnTo>
                <a:lnTo>
                  <a:pt x="328" y="1190"/>
                </a:lnTo>
                <a:lnTo>
                  <a:pt x="335" y="1209"/>
                </a:lnTo>
                <a:lnTo>
                  <a:pt x="344" y="1228"/>
                </a:lnTo>
                <a:lnTo>
                  <a:pt x="352" y="1248"/>
                </a:lnTo>
                <a:lnTo>
                  <a:pt x="361" y="1268"/>
                </a:lnTo>
                <a:lnTo>
                  <a:pt x="371" y="1289"/>
                </a:lnTo>
                <a:lnTo>
                  <a:pt x="380" y="1308"/>
                </a:lnTo>
                <a:lnTo>
                  <a:pt x="387" y="1328"/>
                </a:lnTo>
                <a:lnTo>
                  <a:pt x="397" y="1347"/>
                </a:lnTo>
                <a:lnTo>
                  <a:pt x="404" y="1366"/>
                </a:lnTo>
                <a:lnTo>
                  <a:pt x="413" y="1383"/>
                </a:lnTo>
                <a:lnTo>
                  <a:pt x="420" y="1399"/>
                </a:lnTo>
                <a:lnTo>
                  <a:pt x="427" y="1413"/>
                </a:lnTo>
                <a:lnTo>
                  <a:pt x="433" y="1426"/>
                </a:lnTo>
                <a:lnTo>
                  <a:pt x="440" y="1436"/>
                </a:lnTo>
                <a:lnTo>
                  <a:pt x="445" y="1448"/>
                </a:lnTo>
                <a:lnTo>
                  <a:pt x="450" y="1460"/>
                </a:lnTo>
                <a:lnTo>
                  <a:pt x="457" y="1474"/>
                </a:lnTo>
                <a:lnTo>
                  <a:pt x="465" y="1487"/>
                </a:lnTo>
                <a:lnTo>
                  <a:pt x="473" y="1502"/>
                </a:lnTo>
                <a:lnTo>
                  <a:pt x="483" y="1517"/>
                </a:lnTo>
                <a:lnTo>
                  <a:pt x="492" y="1532"/>
                </a:lnTo>
                <a:lnTo>
                  <a:pt x="503" y="1547"/>
                </a:lnTo>
                <a:lnTo>
                  <a:pt x="512" y="1563"/>
                </a:lnTo>
                <a:lnTo>
                  <a:pt x="522" y="1578"/>
                </a:lnTo>
                <a:lnTo>
                  <a:pt x="531" y="1593"/>
                </a:lnTo>
                <a:lnTo>
                  <a:pt x="543" y="1607"/>
                </a:lnTo>
                <a:lnTo>
                  <a:pt x="552" y="1622"/>
                </a:lnTo>
                <a:lnTo>
                  <a:pt x="562" y="1634"/>
                </a:lnTo>
                <a:lnTo>
                  <a:pt x="571" y="1646"/>
                </a:lnTo>
                <a:lnTo>
                  <a:pt x="581" y="1657"/>
                </a:lnTo>
                <a:lnTo>
                  <a:pt x="589" y="1668"/>
                </a:lnTo>
                <a:lnTo>
                  <a:pt x="598" y="1679"/>
                </a:lnTo>
                <a:lnTo>
                  <a:pt x="609" y="1692"/>
                </a:lnTo>
                <a:lnTo>
                  <a:pt x="620" y="1703"/>
                </a:lnTo>
                <a:lnTo>
                  <a:pt x="631" y="1716"/>
                </a:lnTo>
                <a:lnTo>
                  <a:pt x="643" y="1728"/>
                </a:lnTo>
                <a:lnTo>
                  <a:pt x="656" y="1742"/>
                </a:lnTo>
                <a:lnTo>
                  <a:pt x="669" y="1753"/>
                </a:lnTo>
                <a:lnTo>
                  <a:pt x="680" y="1766"/>
                </a:lnTo>
                <a:lnTo>
                  <a:pt x="693" y="1778"/>
                </a:lnTo>
                <a:lnTo>
                  <a:pt x="704" y="1790"/>
                </a:lnTo>
                <a:lnTo>
                  <a:pt x="717" y="1801"/>
                </a:lnTo>
                <a:lnTo>
                  <a:pt x="727" y="1812"/>
                </a:lnTo>
                <a:lnTo>
                  <a:pt x="739" y="1820"/>
                </a:lnTo>
                <a:lnTo>
                  <a:pt x="748" y="1828"/>
                </a:lnTo>
                <a:lnTo>
                  <a:pt x="758" y="1835"/>
                </a:lnTo>
                <a:lnTo>
                  <a:pt x="765" y="1843"/>
                </a:lnTo>
                <a:lnTo>
                  <a:pt x="774" y="1849"/>
                </a:lnTo>
                <a:lnTo>
                  <a:pt x="783" y="1856"/>
                </a:lnTo>
                <a:lnTo>
                  <a:pt x="792" y="1862"/>
                </a:lnTo>
                <a:lnTo>
                  <a:pt x="801" y="1870"/>
                </a:lnTo>
                <a:lnTo>
                  <a:pt x="811" y="1875"/>
                </a:lnTo>
                <a:lnTo>
                  <a:pt x="819" y="1882"/>
                </a:lnTo>
                <a:lnTo>
                  <a:pt x="829" y="1888"/>
                </a:lnTo>
                <a:lnTo>
                  <a:pt x="836" y="1894"/>
                </a:lnTo>
                <a:lnTo>
                  <a:pt x="844" y="1900"/>
                </a:lnTo>
                <a:lnTo>
                  <a:pt x="850" y="1906"/>
                </a:lnTo>
                <a:lnTo>
                  <a:pt x="858" y="1910"/>
                </a:lnTo>
                <a:lnTo>
                  <a:pt x="863" y="1915"/>
                </a:lnTo>
                <a:lnTo>
                  <a:pt x="869" y="1919"/>
                </a:lnTo>
                <a:lnTo>
                  <a:pt x="873" y="1922"/>
                </a:lnTo>
                <a:lnTo>
                  <a:pt x="878" y="1924"/>
                </a:lnTo>
                <a:lnTo>
                  <a:pt x="880" y="1927"/>
                </a:lnTo>
                <a:lnTo>
                  <a:pt x="884" y="1929"/>
                </a:lnTo>
                <a:lnTo>
                  <a:pt x="889" y="1931"/>
                </a:lnTo>
                <a:lnTo>
                  <a:pt x="895" y="1933"/>
                </a:lnTo>
                <a:lnTo>
                  <a:pt x="900" y="1937"/>
                </a:lnTo>
                <a:lnTo>
                  <a:pt x="907" y="1939"/>
                </a:lnTo>
                <a:lnTo>
                  <a:pt x="913" y="1943"/>
                </a:lnTo>
                <a:lnTo>
                  <a:pt x="920" y="1945"/>
                </a:lnTo>
                <a:lnTo>
                  <a:pt x="927" y="1949"/>
                </a:lnTo>
                <a:lnTo>
                  <a:pt x="934" y="1952"/>
                </a:lnTo>
                <a:lnTo>
                  <a:pt x="941" y="1956"/>
                </a:lnTo>
                <a:lnTo>
                  <a:pt x="949" y="1958"/>
                </a:lnTo>
                <a:lnTo>
                  <a:pt x="955" y="1962"/>
                </a:lnTo>
                <a:lnTo>
                  <a:pt x="963" y="1964"/>
                </a:lnTo>
                <a:lnTo>
                  <a:pt x="969" y="1968"/>
                </a:lnTo>
                <a:lnTo>
                  <a:pt x="977" y="1969"/>
                </a:lnTo>
                <a:lnTo>
                  <a:pt x="983" y="1973"/>
                </a:lnTo>
                <a:lnTo>
                  <a:pt x="991" y="1976"/>
                </a:lnTo>
                <a:lnTo>
                  <a:pt x="1000" y="1980"/>
                </a:lnTo>
                <a:lnTo>
                  <a:pt x="1011" y="1982"/>
                </a:lnTo>
                <a:lnTo>
                  <a:pt x="1021" y="1986"/>
                </a:lnTo>
                <a:lnTo>
                  <a:pt x="1032" y="1989"/>
                </a:lnTo>
                <a:lnTo>
                  <a:pt x="1043" y="1993"/>
                </a:lnTo>
                <a:lnTo>
                  <a:pt x="1056" y="1996"/>
                </a:lnTo>
                <a:lnTo>
                  <a:pt x="1067" y="2000"/>
                </a:lnTo>
                <a:lnTo>
                  <a:pt x="1081" y="2004"/>
                </a:lnTo>
                <a:lnTo>
                  <a:pt x="1093" y="2007"/>
                </a:lnTo>
                <a:lnTo>
                  <a:pt x="1105" y="2011"/>
                </a:lnTo>
                <a:lnTo>
                  <a:pt x="1117" y="2015"/>
                </a:lnTo>
                <a:lnTo>
                  <a:pt x="1129" y="2018"/>
                </a:lnTo>
                <a:lnTo>
                  <a:pt x="1139" y="2021"/>
                </a:lnTo>
                <a:lnTo>
                  <a:pt x="1151" y="2023"/>
                </a:lnTo>
                <a:lnTo>
                  <a:pt x="1160" y="2027"/>
                </a:lnTo>
                <a:lnTo>
                  <a:pt x="1171" y="2028"/>
                </a:lnTo>
                <a:lnTo>
                  <a:pt x="1182" y="2032"/>
                </a:lnTo>
                <a:lnTo>
                  <a:pt x="1195" y="2034"/>
                </a:lnTo>
                <a:lnTo>
                  <a:pt x="1208" y="2037"/>
                </a:lnTo>
                <a:lnTo>
                  <a:pt x="1221" y="2039"/>
                </a:lnTo>
                <a:lnTo>
                  <a:pt x="1234" y="2042"/>
                </a:lnTo>
                <a:lnTo>
                  <a:pt x="1249" y="2044"/>
                </a:lnTo>
                <a:lnTo>
                  <a:pt x="1262" y="2047"/>
                </a:lnTo>
                <a:lnTo>
                  <a:pt x="1275" y="2049"/>
                </a:lnTo>
                <a:lnTo>
                  <a:pt x="1288" y="2051"/>
                </a:lnTo>
                <a:lnTo>
                  <a:pt x="1301" y="2053"/>
                </a:lnTo>
                <a:lnTo>
                  <a:pt x="1312" y="2055"/>
                </a:lnTo>
                <a:lnTo>
                  <a:pt x="1323" y="2057"/>
                </a:lnTo>
                <a:lnTo>
                  <a:pt x="1333" y="2058"/>
                </a:lnTo>
                <a:lnTo>
                  <a:pt x="1343" y="2058"/>
                </a:lnTo>
                <a:lnTo>
                  <a:pt x="1351" y="2060"/>
                </a:lnTo>
                <a:lnTo>
                  <a:pt x="1361" y="2062"/>
                </a:lnTo>
                <a:lnTo>
                  <a:pt x="1372" y="2064"/>
                </a:lnTo>
                <a:lnTo>
                  <a:pt x="1384" y="2064"/>
                </a:lnTo>
                <a:lnTo>
                  <a:pt x="1396" y="2065"/>
                </a:lnTo>
                <a:lnTo>
                  <a:pt x="1409" y="2065"/>
                </a:lnTo>
                <a:lnTo>
                  <a:pt x="1423" y="2067"/>
                </a:lnTo>
                <a:lnTo>
                  <a:pt x="1437" y="2067"/>
                </a:lnTo>
                <a:lnTo>
                  <a:pt x="1451" y="2069"/>
                </a:lnTo>
                <a:lnTo>
                  <a:pt x="1465" y="2070"/>
                </a:lnTo>
                <a:lnTo>
                  <a:pt x="1478" y="2072"/>
                </a:lnTo>
                <a:lnTo>
                  <a:pt x="1493" y="2072"/>
                </a:lnTo>
                <a:lnTo>
                  <a:pt x="1505" y="2074"/>
                </a:lnTo>
                <a:lnTo>
                  <a:pt x="1518" y="2074"/>
                </a:lnTo>
                <a:lnTo>
                  <a:pt x="1529" y="2075"/>
                </a:lnTo>
                <a:lnTo>
                  <a:pt x="1542" y="2075"/>
                </a:lnTo>
                <a:lnTo>
                  <a:pt x="1552" y="2077"/>
                </a:lnTo>
                <a:lnTo>
                  <a:pt x="1563" y="2077"/>
                </a:lnTo>
                <a:lnTo>
                  <a:pt x="1576" y="2077"/>
                </a:lnTo>
                <a:lnTo>
                  <a:pt x="1589" y="2077"/>
                </a:lnTo>
                <a:lnTo>
                  <a:pt x="1602" y="2078"/>
                </a:lnTo>
                <a:lnTo>
                  <a:pt x="1616" y="2078"/>
                </a:lnTo>
                <a:lnTo>
                  <a:pt x="1630" y="2078"/>
                </a:lnTo>
                <a:lnTo>
                  <a:pt x="1645" y="2078"/>
                </a:lnTo>
                <a:lnTo>
                  <a:pt x="1658" y="2079"/>
                </a:lnTo>
                <a:lnTo>
                  <a:pt x="1671" y="2079"/>
                </a:lnTo>
                <a:lnTo>
                  <a:pt x="1685" y="2079"/>
                </a:lnTo>
                <a:lnTo>
                  <a:pt x="1698" y="2079"/>
                </a:lnTo>
                <a:lnTo>
                  <a:pt x="1709" y="2079"/>
                </a:lnTo>
                <a:lnTo>
                  <a:pt x="1721" y="2079"/>
                </a:lnTo>
                <a:lnTo>
                  <a:pt x="1731" y="2079"/>
                </a:lnTo>
                <a:lnTo>
                  <a:pt x="1741" y="2079"/>
                </a:lnTo>
                <a:lnTo>
                  <a:pt x="1747" y="2079"/>
                </a:lnTo>
                <a:lnTo>
                  <a:pt x="1753" y="2079"/>
                </a:lnTo>
                <a:lnTo>
                  <a:pt x="1757" y="2079"/>
                </a:lnTo>
                <a:lnTo>
                  <a:pt x="1760" y="2079"/>
                </a:lnTo>
                <a:lnTo>
                  <a:pt x="1762" y="2079"/>
                </a:lnTo>
                <a:lnTo>
                  <a:pt x="1764" y="2079"/>
                </a:lnTo>
                <a:lnTo>
                  <a:pt x="1766" y="2079"/>
                </a:lnTo>
                <a:lnTo>
                  <a:pt x="1768" y="2079"/>
                </a:lnTo>
                <a:lnTo>
                  <a:pt x="1769" y="2079"/>
                </a:lnTo>
                <a:lnTo>
                  <a:pt x="1773" y="2079"/>
                </a:lnTo>
                <a:lnTo>
                  <a:pt x="1777" y="2079"/>
                </a:lnTo>
                <a:lnTo>
                  <a:pt x="1783" y="2079"/>
                </a:lnTo>
                <a:lnTo>
                  <a:pt x="1790" y="2079"/>
                </a:lnTo>
                <a:lnTo>
                  <a:pt x="1801" y="2079"/>
                </a:lnTo>
                <a:lnTo>
                  <a:pt x="1813" y="2079"/>
                </a:lnTo>
                <a:lnTo>
                  <a:pt x="1829" y="2079"/>
                </a:lnTo>
              </a:path>
            </a:pathLst>
          </a:custGeom>
          <a:noFill/>
          <a:ln w="31680">
            <a:solidFill>
              <a:srgbClr val="00c1c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41320" y="1852560"/>
            <a:ext cx="4421160" cy="5100840"/>
          </a:xfrm>
          <a:custGeom>
            <a:avLst/>
            <a:gdLst/>
            <a:ahLst/>
            <a:rect l="l" t="t" r="r" b="b"/>
            <a:pathLst>
              <a:path w="1998" h="2280">
                <a:moveTo>
                  <a:pt x="0" y="0"/>
                </a:moveTo>
                <a:lnTo>
                  <a:pt x="1" y="20"/>
                </a:lnTo>
                <a:lnTo>
                  <a:pt x="3" y="35"/>
                </a:lnTo>
                <a:lnTo>
                  <a:pt x="3" y="48"/>
                </a:lnTo>
                <a:lnTo>
                  <a:pt x="5" y="57"/>
                </a:lnTo>
                <a:lnTo>
                  <a:pt x="5" y="65"/>
                </a:lnTo>
                <a:lnTo>
                  <a:pt x="6" y="70"/>
                </a:lnTo>
                <a:lnTo>
                  <a:pt x="6" y="74"/>
                </a:lnTo>
                <a:lnTo>
                  <a:pt x="7" y="76"/>
                </a:lnTo>
                <a:lnTo>
                  <a:pt x="7" y="79"/>
                </a:lnTo>
                <a:lnTo>
                  <a:pt x="7" y="81"/>
                </a:lnTo>
                <a:lnTo>
                  <a:pt x="7" y="84"/>
                </a:lnTo>
                <a:lnTo>
                  <a:pt x="8" y="86"/>
                </a:lnTo>
                <a:lnTo>
                  <a:pt x="8" y="90"/>
                </a:lnTo>
                <a:lnTo>
                  <a:pt x="9" y="94"/>
                </a:lnTo>
                <a:lnTo>
                  <a:pt x="9" y="101"/>
                </a:lnTo>
                <a:lnTo>
                  <a:pt x="11" y="110"/>
                </a:lnTo>
                <a:lnTo>
                  <a:pt x="12" y="122"/>
                </a:lnTo>
                <a:lnTo>
                  <a:pt x="14" y="136"/>
                </a:lnTo>
                <a:lnTo>
                  <a:pt x="16" y="154"/>
                </a:lnTo>
                <a:lnTo>
                  <a:pt x="20" y="174"/>
                </a:lnTo>
                <a:lnTo>
                  <a:pt x="24" y="197"/>
                </a:lnTo>
                <a:lnTo>
                  <a:pt x="28" y="221"/>
                </a:lnTo>
                <a:lnTo>
                  <a:pt x="33" y="247"/>
                </a:lnTo>
                <a:lnTo>
                  <a:pt x="38" y="273"/>
                </a:lnTo>
                <a:lnTo>
                  <a:pt x="43" y="302"/>
                </a:lnTo>
                <a:lnTo>
                  <a:pt x="49" y="331"/>
                </a:lnTo>
                <a:lnTo>
                  <a:pt x="54" y="360"/>
                </a:lnTo>
                <a:lnTo>
                  <a:pt x="61" y="390"/>
                </a:lnTo>
                <a:lnTo>
                  <a:pt x="66" y="420"/>
                </a:lnTo>
                <a:lnTo>
                  <a:pt x="72" y="448"/>
                </a:lnTo>
                <a:lnTo>
                  <a:pt x="77" y="477"/>
                </a:lnTo>
                <a:lnTo>
                  <a:pt x="85" y="504"/>
                </a:lnTo>
                <a:lnTo>
                  <a:pt x="91" y="532"/>
                </a:lnTo>
                <a:lnTo>
                  <a:pt x="97" y="561"/>
                </a:lnTo>
                <a:lnTo>
                  <a:pt x="104" y="592"/>
                </a:lnTo>
                <a:lnTo>
                  <a:pt x="112" y="622"/>
                </a:lnTo>
                <a:lnTo>
                  <a:pt x="119" y="653"/>
                </a:lnTo>
                <a:lnTo>
                  <a:pt x="128" y="684"/>
                </a:lnTo>
                <a:lnTo>
                  <a:pt x="135" y="715"/>
                </a:lnTo>
                <a:lnTo>
                  <a:pt x="145" y="745"/>
                </a:lnTo>
                <a:lnTo>
                  <a:pt x="152" y="776"/>
                </a:lnTo>
                <a:lnTo>
                  <a:pt x="161" y="804"/>
                </a:lnTo>
                <a:lnTo>
                  <a:pt x="169" y="831"/>
                </a:lnTo>
                <a:lnTo>
                  <a:pt x="177" y="856"/>
                </a:lnTo>
                <a:lnTo>
                  <a:pt x="184" y="880"/>
                </a:lnTo>
                <a:lnTo>
                  <a:pt x="192" y="900"/>
                </a:lnTo>
                <a:lnTo>
                  <a:pt x="198" y="919"/>
                </a:lnTo>
                <a:lnTo>
                  <a:pt x="205" y="934"/>
                </a:lnTo>
                <a:lnTo>
                  <a:pt x="210" y="949"/>
                </a:lnTo>
                <a:lnTo>
                  <a:pt x="216" y="965"/>
                </a:lnTo>
                <a:lnTo>
                  <a:pt x="223" y="983"/>
                </a:lnTo>
                <a:lnTo>
                  <a:pt x="231" y="1003"/>
                </a:lnTo>
                <a:lnTo>
                  <a:pt x="239" y="1024"/>
                </a:lnTo>
                <a:lnTo>
                  <a:pt x="249" y="1046"/>
                </a:lnTo>
                <a:lnTo>
                  <a:pt x="258" y="1068"/>
                </a:lnTo>
                <a:lnTo>
                  <a:pt x="268" y="1091"/>
                </a:lnTo>
                <a:lnTo>
                  <a:pt x="277" y="1115"/>
                </a:lnTo>
                <a:lnTo>
                  <a:pt x="287" y="1138"/>
                </a:lnTo>
                <a:lnTo>
                  <a:pt x="296" y="1161"/>
                </a:lnTo>
                <a:lnTo>
                  <a:pt x="306" y="1184"/>
                </a:lnTo>
                <a:lnTo>
                  <a:pt x="315" y="1206"/>
                </a:lnTo>
                <a:lnTo>
                  <a:pt x="324" y="1227"/>
                </a:lnTo>
                <a:lnTo>
                  <a:pt x="332" y="1247"/>
                </a:lnTo>
                <a:lnTo>
                  <a:pt x="341" y="1265"/>
                </a:lnTo>
                <a:lnTo>
                  <a:pt x="349" y="1285"/>
                </a:lnTo>
                <a:lnTo>
                  <a:pt x="357" y="1304"/>
                </a:lnTo>
                <a:lnTo>
                  <a:pt x="366" y="1325"/>
                </a:lnTo>
                <a:lnTo>
                  <a:pt x="375" y="1346"/>
                </a:lnTo>
                <a:lnTo>
                  <a:pt x="385" y="1368"/>
                </a:lnTo>
                <a:lnTo>
                  <a:pt x="394" y="1390"/>
                </a:lnTo>
                <a:lnTo>
                  <a:pt x="403" y="1413"/>
                </a:lnTo>
                <a:lnTo>
                  <a:pt x="414" y="1433"/>
                </a:lnTo>
                <a:lnTo>
                  <a:pt x="423" y="1456"/>
                </a:lnTo>
                <a:lnTo>
                  <a:pt x="432" y="1476"/>
                </a:lnTo>
                <a:lnTo>
                  <a:pt x="440" y="1497"/>
                </a:lnTo>
                <a:lnTo>
                  <a:pt x="449" y="1515"/>
                </a:lnTo>
                <a:lnTo>
                  <a:pt x="457" y="1532"/>
                </a:lnTo>
                <a:lnTo>
                  <a:pt x="464" y="1548"/>
                </a:lnTo>
                <a:lnTo>
                  <a:pt x="471" y="1562"/>
                </a:lnTo>
                <a:lnTo>
                  <a:pt x="477" y="1574"/>
                </a:lnTo>
                <a:lnTo>
                  <a:pt x="483" y="1587"/>
                </a:lnTo>
                <a:lnTo>
                  <a:pt x="489" y="1600"/>
                </a:lnTo>
                <a:lnTo>
                  <a:pt x="497" y="1616"/>
                </a:lnTo>
                <a:lnTo>
                  <a:pt x="506" y="1630"/>
                </a:lnTo>
                <a:lnTo>
                  <a:pt x="515" y="1647"/>
                </a:lnTo>
                <a:lnTo>
                  <a:pt x="525" y="1663"/>
                </a:lnTo>
                <a:lnTo>
                  <a:pt x="535" y="1680"/>
                </a:lnTo>
                <a:lnTo>
                  <a:pt x="547" y="1696"/>
                </a:lnTo>
                <a:lnTo>
                  <a:pt x="557" y="1713"/>
                </a:lnTo>
                <a:lnTo>
                  <a:pt x="569" y="1730"/>
                </a:lnTo>
                <a:lnTo>
                  <a:pt x="580" y="1746"/>
                </a:lnTo>
                <a:lnTo>
                  <a:pt x="591" y="1762"/>
                </a:lnTo>
                <a:lnTo>
                  <a:pt x="601" y="1777"/>
                </a:lnTo>
                <a:lnTo>
                  <a:pt x="612" y="1792"/>
                </a:lnTo>
                <a:lnTo>
                  <a:pt x="622" y="1804"/>
                </a:lnTo>
                <a:lnTo>
                  <a:pt x="633" y="1816"/>
                </a:lnTo>
                <a:lnTo>
                  <a:pt x="641" y="1828"/>
                </a:lnTo>
                <a:lnTo>
                  <a:pt x="652" y="1840"/>
                </a:lnTo>
                <a:lnTo>
                  <a:pt x="663" y="1853"/>
                </a:lnTo>
                <a:lnTo>
                  <a:pt x="676" y="1866"/>
                </a:lnTo>
                <a:lnTo>
                  <a:pt x="688" y="1881"/>
                </a:lnTo>
                <a:lnTo>
                  <a:pt x="701" y="1894"/>
                </a:lnTo>
                <a:lnTo>
                  <a:pt x="715" y="1908"/>
                </a:lnTo>
                <a:lnTo>
                  <a:pt x="729" y="1921"/>
                </a:lnTo>
                <a:lnTo>
                  <a:pt x="742" y="1936"/>
                </a:lnTo>
                <a:lnTo>
                  <a:pt x="755" y="1949"/>
                </a:lnTo>
                <a:lnTo>
                  <a:pt x="768" y="1962"/>
                </a:lnTo>
                <a:lnTo>
                  <a:pt x="781" y="1973"/>
                </a:lnTo>
                <a:lnTo>
                  <a:pt x="793" y="1984"/>
                </a:lnTo>
                <a:lnTo>
                  <a:pt x="805" y="1994"/>
                </a:lnTo>
                <a:lnTo>
                  <a:pt x="815" y="2003"/>
                </a:lnTo>
                <a:lnTo>
                  <a:pt x="825" y="2010"/>
                </a:lnTo>
                <a:lnTo>
                  <a:pt x="834" y="2017"/>
                </a:lnTo>
                <a:lnTo>
                  <a:pt x="843" y="2025"/>
                </a:lnTo>
                <a:lnTo>
                  <a:pt x="853" y="2032"/>
                </a:lnTo>
                <a:lnTo>
                  <a:pt x="863" y="2040"/>
                </a:lnTo>
                <a:lnTo>
                  <a:pt x="873" y="2047"/>
                </a:lnTo>
                <a:lnTo>
                  <a:pt x="883" y="2055"/>
                </a:lnTo>
                <a:lnTo>
                  <a:pt x="892" y="2062"/>
                </a:lnTo>
                <a:lnTo>
                  <a:pt x="902" y="2068"/>
                </a:lnTo>
                <a:lnTo>
                  <a:pt x="911" y="2076"/>
                </a:lnTo>
                <a:lnTo>
                  <a:pt x="920" y="2082"/>
                </a:lnTo>
                <a:lnTo>
                  <a:pt x="927" y="2088"/>
                </a:lnTo>
                <a:lnTo>
                  <a:pt x="935" y="2093"/>
                </a:lnTo>
                <a:lnTo>
                  <a:pt x="942" y="2098"/>
                </a:lnTo>
                <a:lnTo>
                  <a:pt x="949" y="2102"/>
                </a:lnTo>
                <a:lnTo>
                  <a:pt x="953" y="2106"/>
                </a:lnTo>
                <a:lnTo>
                  <a:pt x="958" y="2108"/>
                </a:lnTo>
                <a:lnTo>
                  <a:pt x="961" y="2111"/>
                </a:lnTo>
                <a:lnTo>
                  <a:pt x="965" y="2113"/>
                </a:lnTo>
                <a:lnTo>
                  <a:pt x="970" y="2116"/>
                </a:lnTo>
                <a:lnTo>
                  <a:pt x="976" y="2118"/>
                </a:lnTo>
                <a:lnTo>
                  <a:pt x="982" y="2122"/>
                </a:lnTo>
                <a:lnTo>
                  <a:pt x="989" y="2126"/>
                </a:lnTo>
                <a:lnTo>
                  <a:pt x="996" y="2130"/>
                </a:lnTo>
                <a:lnTo>
                  <a:pt x="1003" y="2132"/>
                </a:lnTo>
                <a:lnTo>
                  <a:pt x="1011" y="2136"/>
                </a:lnTo>
                <a:lnTo>
                  <a:pt x="1019" y="2140"/>
                </a:lnTo>
                <a:lnTo>
                  <a:pt x="1026" y="2143"/>
                </a:lnTo>
                <a:lnTo>
                  <a:pt x="1035" y="2146"/>
                </a:lnTo>
                <a:lnTo>
                  <a:pt x="1042" y="2150"/>
                </a:lnTo>
                <a:lnTo>
                  <a:pt x="1050" y="2153"/>
                </a:lnTo>
                <a:lnTo>
                  <a:pt x="1058" y="2157"/>
                </a:lnTo>
                <a:lnTo>
                  <a:pt x="1067" y="2159"/>
                </a:lnTo>
                <a:lnTo>
                  <a:pt x="1073" y="2163"/>
                </a:lnTo>
                <a:lnTo>
                  <a:pt x="1082" y="2166"/>
                </a:lnTo>
                <a:lnTo>
                  <a:pt x="1091" y="2170"/>
                </a:lnTo>
                <a:lnTo>
                  <a:pt x="1103" y="2172"/>
                </a:lnTo>
                <a:lnTo>
                  <a:pt x="1114" y="2176"/>
                </a:lnTo>
                <a:lnTo>
                  <a:pt x="1126" y="2180"/>
                </a:lnTo>
                <a:lnTo>
                  <a:pt x="1139" y="2183"/>
                </a:lnTo>
                <a:lnTo>
                  <a:pt x="1152" y="2187"/>
                </a:lnTo>
                <a:lnTo>
                  <a:pt x="1165" y="2192"/>
                </a:lnTo>
                <a:lnTo>
                  <a:pt x="1178" y="2196"/>
                </a:lnTo>
                <a:lnTo>
                  <a:pt x="1191" y="2200"/>
                </a:lnTo>
                <a:lnTo>
                  <a:pt x="1205" y="2203"/>
                </a:lnTo>
                <a:lnTo>
                  <a:pt x="1217" y="2207"/>
                </a:lnTo>
                <a:lnTo>
                  <a:pt x="1230" y="2211"/>
                </a:lnTo>
                <a:lnTo>
                  <a:pt x="1241" y="2214"/>
                </a:lnTo>
                <a:lnTo>
                  <a:pt x="1254" y="2216"/>
                </a:lnTo>
                <a:lnTo>
                  <a:pt x="1264" y="2220"/>
                </a:lnTo>
                <a:lnTo>
                  <a:pt x="1276" y="2223"/>
                </a:lnTo>
                <a:lnTo>
                  <a:pt x="1289" y="2226"/>
                </a:lnTo>
                <a:lnTo>
                  <a:pt x="1303" y="2228"/>
                </a:lnTo>
                <a:lnTo>
                  <a:pt x="1317" y="2232"/>
                </a:lnTo>
                <a:lnTo>
                  <a:pt x="1332" y="2234"/>
                </a:lnTo>
                <a:lnTo>
                  <a:pt x="1347" y="2238"/>
                </a:lnTo>
                <a:lnTo>
                  <a:pt x="1362" y="2240"/>
                </a:lnTo>
                <a:lnTo>
                  <a:pt x="1375" y="2243"/>
                </a:lnTo>
                <a:lnTo>
                  <a:pt x="1390" y="2245"/>
                </a:lnTo>
                <a:lnTo>
                  <a:pt x="1404" y="2248"/>
                </a:lnTo>
                <a:lnTo>
                  <a:pt x="1419" y="2250"/>
                </a:lnTo>
                <a:lnTo>
                  <a:pt x="1430" y="2252"/>
                </a:lnTo>
                <a:lnTo>
                  <a:pt x="1443" y="2254"/>
                </a:lnTo>
                <a:lnTo>
                  <a:pt x="1454" y="2256"/>
                </a:lnTo>
                <a:lnTo>
                  <a:pt x="1465" y="2257"/>
                </a:lnTo>
                <a:lnTo>
                  <a:pt x="1473" y="2259"/>
                </a:lnTo>
                <a:lnTo>
                  <a:pt x="1485" y="2260"/>
                </a:lnTo>
                <a:lnTo>
                  <a:pt x="1497" y="2262"/>
                </a:lnTo>
                <a:lnTo>
                  <a:pt x="1509" y="2262"/>
                </a:lnTo>
                <a:lnTo>
                  <a:pt x="1523" y="2264"/>
                </a:lnTo>
                <a:lnTo>
                  <a:pt x="1538" y="2264"/>
                </a:lnTo>
                <a:lnTo>
                  <a:pt x="1553" y="2266"/>
                </a:lnTo>
                <a:lnTo>
                  <a:pt x="1568" y="2266"/>
                </a:lnTo>
                <a:lnTo>
                  <a:pt x="1583" y="2268"/>
                </a:lnTo>
                <a:lnTo>
                  <a:pt x="1598" y="2270"/>
                </a:lnTo>
                <a:lnTo>
                  <a:pt x="1613" y="2271"/>
                </a:lnTo>
                <a:lnTo>
                  <a:pt x="1629" y="2271"/>
                </a:lnTo>
                <a:lnTo>
                  <a:pt x="1643" y="2273"/>
                </a:lnTo>
                <a:lnTo>
                  <a:pt x="1657" y="2273"/>
                </a:lnTo>
                <a:lnTo>
                  <a:pt x="1669" y="2274"/>
                </a:lnTo>
                <a:lnTo>
                  <a:pt x="1682" y="2274"/>
                </a:lnTo>
                <a:lnTo>
                  <a:pt x="1693" y="2276"/>
                </a:lnTo>
                <a:lnTo>
                  <a:pt x="1705" y="2276"/>
                </a:lnTo>
                <a:lnTo>
                  <a:pt x="1719" y="2276"/>
                </a:lnTo>
                <a:lnTo>
                  <a:pt x="1733" y="2276"/>
                </a:lnTo>
                <a:lnTo>
                  <a:pt x="1748" y="2278"/>
                </a:lnTo>
                <a:lnTo>
                  <a:pt x="1763" y="2278"/>
                </a:lnTo>
                <a:lnTo>
                  <a:pt x="1778" y="2278"/>
                </a:lnTo>
                <a:lnTo>
                  <a:pt x="1794" y="2278"/>
                </a:lnTo>
                <a:lnTo>
                  <a:pt x="1809" y="2279"/>
                </a:lnTo>
                <a:lnTo>
                  <a:pt x="1824" y="2279"/>
                </a:lnTo>
                <a:lnTo>
                  <a:pt x="1838" y="2279"/>
                </a:lnTo>
                <a:lnTo>
                  <a:pt x="1852" y="2279"/>
                </a:lnTo>
                <a:lnTo>
                  <a:pt x="1865" y="2279"/>
                </a:lnTo>
                <a:lnTo>
                  <a:pt x="1877" y="2279"/>
                </a:lnTo>
                <a:lnTo>
                  <a:pt x="1888" y="2279"/>
                </a:lnTo>
                <a:lnTo>
                  <a:pt x="1899" y="2279"/>
                </a:lnTo>
                <a:lnTo>
                  <a:pt x="1906" y="2279"/>
                </a:lnTo>
                <a:lnTo>
                  <a:pt x="1912" y="2279"/>
                </a:lnTo>
                <a:lnTo>
                  <a:pt x="1916" y="2279"/>
                </a:lnTo>
                <a:lnTo>
                  <a:pt x="1920" y="2279"/>
                </a:lnTo>
                <a:lnTo>
                  <a:pt x="1922" y="2279"/>
                </a:lnTo>
                <a:lnTo>
                  <a:pt x="1925" y="2279"/>
                </a:lnTo>
                <a:lnTo>
                  <a:pt x="1926" y="2279"/>
                </a:lnTo>
                <a:lnTo>
                  <a:pt x="1929" y="2279"/>
                </a:lnTo>
                <a:lnTo>
                  <a:pt x="1931" y="2279"/>
                </a:lnTo>
                <a:lnTo>
                  <a:pt x="1935" y="2279"/>
                </a:lnTo>
                <a:lnTo>
                  <a:pt x="1939" y="2279"/>
                </a:lnTo>
                <a:lnTo>
                  <a:pt x="1946" y="2279"/>
                </a:lnTo>
                <a:lnTo>
                  <a:pt x="1955" y="2279"/>
                </a:lnTo>
                <a:lnTo>
                  <a:pt x="1966" y="2279"/>
                </a:lnTo>
                <a:lnTo>
                  <a:pt x="1979" y="2279"/>
                </a:lnTo>
                <a:lnTo>
                  <a:pt x="1997" y="2279"/>
                </a:lnTo>
              </a:path>
            </a:pathLst>
          </a:custGeom>
          <a:noFill/>
          <a:ln w="31680">
            <a:solidFill>
              <a:srgbClr val="00c1c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38320" y="1270080"/>
            <a:ext cx="3540240" cy="4073400"/>
          </a:xfrm>
          <a:custGeom>
            <a:avLst/>
            <a:gdLst/>
            <a:ahLst/>
            <a:rect l="l" t="t" r="r" b="b"/>
            <a:pathLst>
              <a:path w="1600" h="1821">
                <a:moveTo>
                  <a:pt x="0" y="0"/>
                </a:moveTo>
                <a:lnTo>
                  <a:pt x="0" y="16"/>
                </a:lnTo>
                <a:lnTo>
                  <a:pt x="2" y="28"/>
                </a:lnTo>
                <a:lnTo>
                  <a:pt x="2" y="39"/>
                </a:lnTo>
                <a:lnTo>
                  <a:pt x="4" y="46"/>
                </a:lnTo>
                <a:lnTo>
                  <a:pt x="4" y="52"/>
                </a:lnTo>
                <a:lnTo>
                  <a:pt x="4" y="56"/>
                </a:lnTo>
                <a:lnTo>
                  <a:pt x="4" y="59"/>
                </a:lnTo>
                <a:lnTo>
                  <a:pt x="6" y="61"/>
                </a:lnTo>
                <a:lnTo>
                  <a:pt x="6" y="63"/>
                </a:lnTo>
                <a:lnTo>
                  <a:pt x="6" y="64"/>
                </a:lnTo>
                <a:lnTo>
                  <a:pt x="6" y="66"/>
                </a:lnTo>
                <a:lnTo>
                  <a:pt x="6" y="68"/>
                </a:lnTo>
                <a:lnTo>
                  <a:pt x="6" y="72"/>
                </a:lnTo>
                <a:lnTo>
                  <a:pt x="7" y="75"/>
                </a:lnTo>
                <a:lnTo>
                  <a:pt x="7" y="81"/>
                </a:lnTo>
                <a:lnTo>
                  <a:pt x="9" y="88"/>
                </a:lnTo>
                <a:lnTo>
                  <a:pt x="10" y="98"/>
                </a:lnTo>
                <a:lnTo>
                  <a:pt x="11" y="110"/>
                </a:lnTo>
                <a:lnTo>
                  <a:pt x="13" y="124"/>
                </a:lnTo>
                <a:lnTo>
                  <a:pt x="16" y="140"/>
                </a:lnTo>
                <a:lnTo>
                  <a:pt x="19" y="158"/>
                </a:lnTo>
                <a:lnTo>
                  <a:pt x="22" y="177"/>
                </a:lnTo>
                <a:lnTo>
                  <a:pt x="26" y="199"/>
                </a:lnTo>
                <a:lnTo>
                  <a:pt x="31" y="219"/>
                </a:lnTo>
                <a:lnTo>
                  <a:pt x="34" y="243"/>
                </a:lnTo>
                <a:lnTo>
                  <a:pt x="40" y="265"/>
                </a:lnTo>
                <a:lnTo>
                  <a:pt x="43" y="290"/>
                </a:lnTo>
                <a:lnTo>
                  <a:pt x="49" y="312"/>
                </a:lnTo>
                <a:lnTo>
                  <a:pt x="52" y="337"/>
                </a:lnTo>
                <a:lnTo>
                  <a:pt x="58" y="359"/>
                </a:lnTo>
                <a:lnTo>
                  <a:pt x="62" y="381"/>
                </a:lnTo>
                <a:lnTo>
                  <a:pt x="68" y="403"/>
                </a:lnTo>
                <a:lnTo>
                  <a:pt x="72" y="426"/>
                </a:lnTo>
                <a:lnTo>
                  <a:pt x="78" y="449"/>
                </a:lnTo>
                <a:lnTo>
                  <a:pt x="84" y="473"/>
                </a:lnTo>
                <a:lnTo>
                  <a:pt x="90" y="497"/>
                </a:lnTo>
                <a:lnTo>
                  <a:pt x="96" y="523"/>
                </a:lnTo>
                <a:lnTo>
                  <a:pt x="103" y="547"/>
                </a:lnTo>
                <a:lnTo>
                  <a:pt x="110" y="572"/>
                </a:lnTo>
                <a:lnTo>
                  <a:pt x="118" y="595"/>
                </a:lnTo>
                <a:lnTo>
                  <a:pt x="123" y="620"/>
                </a:lnTo>
                <a:lnTo>
                  <a:pt x="130" y="643"/>
                </a:lnTo>
                <a:lnTo>
                  <a:pt x="136" y="665"/>
                </a:lnTo>
                <a:lnTo>
                  <a:pt x="143" y="685"/>
                </a:lnTo>
                <a:lnTo>
                  <a:pt x="149" y="704"/>
                </a:lnTo>
                <a:lnTo>
                  <a:pt x="155" y="720"/>
                </a:lnTo>
                <a:lnTo>
                  <a:pt x="159" y="735"/>
                </a:lnTo>
                <a:lnTo>
                  <a:pt x="165" y="746"/>
                </a:lnTo>
                <a:lnTo>
                  <a:pt x="169" y="758"/>
                </a:lnTo>
                <a:lnTo>
                  <a:pt x="174" y="771"/>
                </a:lnTo>
                <a:lnTo>
                  <a:pt x="180" y="786"/>
                </a:lnTo>
                <a:lnTo>
                  <a:pt x="187" y="801"/>
                </a:lnTo>
                <a:lnTo>
                  <a:pt x="193" y="819"/>
                </a:lnTo>
                <a:lnTo>
                  <a:pt x="200" y="836"/>
                </a:lnTo>
                <a:lnTo>
                  <a:pt x="208" y="854"/>
                </a:lnTo>
                <a:lnTo>
                  <a:pt x="216" y="871"/>
                </a:lnTo>
                <a:lnTo>
                  <a:pt x="224" y="891"/>
                </a:lnTo>
                <a:lnTo>
                  <a:pt x="231" y="909"/>
                </a:lnTo>
                <a:lnTo>
                  <a:pt x="238" y="928"/>
                </a:lnTo>
                <a:lnTo>
                  <a:pt x="247" y="945"/>
                </a:lnTo>
                <a:lnTo>
                  <a:pt x="253" y="963"/>
                </a:lnTo>
                <a:lnTo>
                  <a:pt x="260" y="980"/>
                </a:lnTo>
                <a:lnTo>
                  <a:pt x="266" y="996"/>
                </a:lnTo>
                <a:lnTo>
                  <a:pt x="274" y="1010"/>
                </a:lnTo>
                <a:lnTo>
                  <a:pt x="280" y="1027"/>
                </a:lnTo>
                <a:lnTo>
                  <a:pt x="286" y="1041"/>
                </a:lnTo>
                <a:lnTo>
                  <a:pt x="294" y="1058"/>
                </a:lnTo>
                <a:lnTo>
                  <a:pt x="302" y="1075"/>
                </a:lnTo>
                <a:lnTo>
                  <a:pt x="309" y="1093"/>
                </a:lnTo>
                <a:lnTo>
                  <a:pt x="316" y="1110"/>
                </a:lnTo>
                <a:lnTo>
                  <a:pt x="324" y="1128"/>
                </a:lnTo>
                <a:lnTo>
                  <a:pt x="333" y="1145"/>
                </a:lnTo>
                <a:lnTo>
                  <a:pt x="340" y="1163"/>
                </a:lnTo>
                <a:lnTo>
                  <a:pt x="347" y="1179"/>
                </a:lnTo>
                <a:lnTo>
                  <a:pt x="354" y="1196"/>
                </a:lnTo>
                <a:lnTo>
                  <a:pt x="362" y="1210"/>
                </a:lnTo>
                <a:lnTo>
                  <a:pt x="367" y="1224"/>
                </a:lnTo>
                <a:lnTo>
                  <a:pt x="373" y="1237"/>
                </a:lnTo>
                <a:lnTo>
                  <a:pt x="379" y="1249"/>
                </a:lnTo>
                <a:lnTo>
                  <a:pt x="384" y="1257"/>
                </a:lnTo>
                <a:lnTo>
                  <a:pt x="388" y="1268"/>
                </a:lnTo>
                <a:lnTo>
                  <a:pt x="394" y="1278"/>
                </a:lnTo>
                <a:lnTo>
                  <a:pt x="400" y="1291"/>
                </a:lnTo>
                <a:lnTo>
                  <a:pt x="407" y="1302"/>
                </a:lnTo>
                <a:lnTo>
                  <a:pt x="414" y="1315"/>
                </a:lnTo>
                <a:lnTo>
                  <a:pt x="422" y="1327"/>
                </a:lnTo>
                <a:lnTo>
                  <a:pt x="430" y="1341"/>
                </a:lnTo>
                <a:lnTo>
                  <a:pt x="439" y="1353"/>
                </a:lnTo>
                <a:lnTo>
                  <a:pt x="446" y="1368"/>
                </a:lnTo>
                <a:lnTo>
                  <a:pt x="456" y="1381"/>
                </a:lnTo>
                <a:lnTo>
                  <a:pt x="464" y="1394"/>
                </a:lnTo>
                <a:lnTo>
                  <a:pt x="474" y="1406"/>
                </a:lnTo>
                <a:lnTo>
                  <a:pt x="481" y="1419"/>
                </a:lnTo>
                <a:lnTo>
                  <a:pt x="490" y="1430"/>
                </a:lnTo>
                <a:lnTo>
                  <a:pt x="498" y="1440"/>
                </a:lnTo>
                <a:lnTo>
                  <a:pt x="507" y="1448"/>
                </a:lnTo>
                <a:lnTo>
                  <a:pt x="514" y="1459"/>
                </a:lnTo>
                <a:lnTo>
                  <a:pt x="522" y="1468"/>
                </a:lnTo>
                <a:lnTo>
                  <a:pt x="532" y="1479"/>
                </a:lnTo>
                <a:lnTo>
                  <a:pt x="542" y="1489"/>
                </a:lnTo>
                <a:lnTo>
                  <a:pt x="551" y="1501"/>
                </a:lnTo>
                <a:lnTo>
                  <a:pt x="562" y="1512"/>
                </a:lnTo>
                <a:lnTo>
                  <a:pt x="574" y="1523"/>
                </a:lnTo>
                <a:lnTo>
                  <a:pt x="585" y="1533"/>
                </a:lnTo>
                <a:lnTo>
                  <a:pt x="594" y="1545"/>
                </a:lnTo>
                <a:lnTo>
                  <a:pt x="606" y="1556"/>
                </a:lnTo>
                <a:lnTo>
                  <a:pt x="615" y="1566"/>
                </a:lnTo>
                <a:lnTo>
                  <a:pt x="627" y="1575"/>
                </a:lnTo>
                <a:lnTo>
                  <a:pt x="636" y="1585"/>
                </a:lnTo>
                <a:lnTo>
                  <a:pt x="646" y="1592"/>
                </a:lnTo>
                <a:lnTo>
                  <a:pt x="654" y="1599"/>
                </a:lnTo>
                <a:lnTo>
                  <a:pt x="663" y="1605"/>
                </a:lnTo>
                <a:lnTo>
                  <a:pt x="670" y="1612"/>
                </a:lnTo>
                <a:lnTo>
                  <a:pt x="677" y="1617"/>
                </a:lnTo>
                <a:lnTo>
                  <a:pt x="685" y="1623"/>
                </a:lnTo>
                <a:lnTo>
                  <a:pt x="693" y="1629"/>
                </a:lnTo>
                <a:lnTo>
                  <a:pt x="700" y="1635"/>
                </a:lnTo>
                <a:lnTo>
                  <a:pt x="708" y="1641"/>
                </a:lnTo>
                <a:lnTo>
                  <a:pt x="715" y="1646"/>
                </a:lnTo>
                <a:lnTo>
                  <a:pt x="724" y="1652"/>
                </a:lnTo>
                <a:lnTo>
                  <a:pt x="730" y="1657"/>
                </a:lnTo>
                <a:lnTo>
                  <a:pt x="738" y="1663"/>
                </a:lnTo>
                <a:lnTo>
                  <a:pt x="743" y="1668"/>
                </a:lnTo>
                <a:lnTo>
                  <a:pt x="750" y="1672"/>
                </a:lnTo>
                <a:lnTo>
                  <a:pt x="754" y="1675"/>
                </a:lnTo>
                <a:lnTo>
                  <a:pt x="760" y="1679"/>
                </a:lnTo>
                <a:lnTo>
                  <a:pt x="764" y="1681"/>
                </a:lnTo>
                <a:lnTo>
                  <a:pt x="768" y="1682"/>
                </a:lnTo>
                <a:lnTo>
                  <a:pt x="770" y="1685"/>
                </a:lnTo>
                <a:lnTo>
                  <a:pt x="773" y="1687"/>
                </a:lnTo>
                <a:lnTo>
                  <a:pt x="777" y="1690"/>
                </a:lnTo>
                <a:lnTo>
                  <a:pt x="782" y="1692"/>
                </a:lnTo>
                <a:lnTo>
                  <a:pt x="786" y="1695"/>
                </a:lnTo>
                <a:lnTo>
                  <a:pt x="792" y="1697"/>
                </a:lnTo>
                <a:lnTo>
                  <a:pt x="798" y="1701"/>
                </a:lnTo>
                <a:lnTo>
                  <a:pt x="804" y="1703"/>
                </a:lnTo>
                <a:lnTo>
                  <a:pt x="810" y="1707"/>
                </a:lnTo>
                <a:lnTo>
                  <a:pt x="816" y="1709"/>
                </a:lnTo>
                <a:lnTo>
                  <a:pt x="821" y="1713"/>
                </a:lnTo>
                <a:lnTo>
                  <a:pt x="829" y="1715"/>
                </a:lnTo>
                <a:lnTo>
                  <a:pt x="834" y="1719"/>
                </a:lnTo>
                <a:lnTo>
                  <a:pt x="841" y="1721"/>
                </a:lnTo>
                <a:lnTo>
                  <a:pt x="847" y="1722"/>
                </a:lnTo>
                <a:lnTo>
                  <a:pt x="854" y="1724"/>
                </a:lnTo>
                <a:lnTo>
                  <a:pt x="859" y="1727"/>
                </a:lnTo>
                <a:lnTo>
                  <a:pt x="866" y="1729"/>
                </a:lnTo>
                <a:lnTo>
                  <a:pt x="874" y="1732"/>
                </a:lnTo>
                <a:lnTo>
                  <a:pt x="883" y="1734"/>
                </a:lnTo>
                <a:lnTo>
                  <a:pt x="892" y="1738"/>
                </a:lnTo>
                <a:lnTo>
                  <a:pt x="902" y="1741"/>
                </a:lnTo>
                <a:lnTo>
                  <a:pt x="912" y="1745"/>
                </a:lnTo>
                <a:lnTo>
                  <a:pt x="924" y="1747"/>
                </a:lnTo>
                <a:lnTo>
                  <a:pt x="933" y="1751"/>
                </a:lnTo>
                <a:lnTo>
                  <a:pt x="944" y="1753"/>
                </a:lnTo>
                <a:lnTo>
                  <a:pt x="955" y="1757"/>
                </a:lnTo>
                <a:lnTo>
                  <a:pt x="966" y="1759"/>
                </a:lnTo>
                <a:lnTo>
                  <a:pt x="976" y="1763"/>
                </a:lnTo>
                <a:lnTo>
                  <a:pt x="987" y="1765"/>
                </a:lnTo>
                <a:lnTo>
                  <a:pt x="996" y="1767"/>
                </a:lnTo>
                <a:lnTo>
                  <a:pt x="1005" y="1769"/>
                </a:lnTo>
                <a:lnTo>
                  <a:pt x="1014" y="1773"/>
                </a:lnTo>
                <a:lnTo>
                  <a:pt x="1024" y="1775"/>
                </a:lnTo>
                <a:lnTo>
                  <a:pt x="1034" y="1777"/>
                </a:lnTo>
                <a:lnTo>
                  <a:pt x="1045" y="1779"/>
                </a:lnTo>
                <a:lnTo>
                  <a:pt x="1056" y="1782"/>
                </a:lnTo>
                <a:lnTo>
                  <a:pt x="1067" y="1784"/>
                </a:lnTo>
                <a:lnTo>
                  <a:pt x="1078" y="1786"/>
                </a:lnTo>
                <a:lnTo>
                  <a:pt x="1092" y="1788"/>
                </a:lnTo>
                <a:lnTo>
                  <a:pt x="1103" y="1791"/>
                </a:lnTo>
                <a:lnTo>
                  <a:pt x="1114" y="1793"/>
                </a:lnTo>
                <a:lnTo>
                  <a:pt x="1125" y="1795"/>
                </a:lnTo>
                <a:lnTo>
                  <a:pt x="1137" y="1797"/>
                </a:lnTo>
                <a:lnTo>
                  <a:pt x="1146" y="1799"/>
                </a:lnTo>
                <a:lnTo>
                  <a:pt x="1157" y="1800"/>
                </a:lnTo>
                <a:lnTo>
                  <a:pt x="1166" y="1801"/>
                </a:lnTo>
                <a:lnTo>
                  <a:pt x="1174" y="1801"/>
                </a:lnTo>
                <a:lnTo>
                  <a:pt x="1181" y="1803"/>
                </a:lnTo>
                <a:lnTo>
                  <a:pt x="1190" y="1803"/>
                </a:lnTo>
                <a:lnTo>
                  <a:pt x="1200" y="1805"/>
                </a:lnTo>
                <a:lnTo>
                  <a:pt x="1211" y="1805"/>
                </a:lnTo>
                <a:lnTo>
                  <a:pt x="1221" y="1807"/>
                </a:lnTo>
                <a:lnTo>
                  <a:pt x="1233" y="1807"/>
                </a:lnTo>
                <a:lnTo>
                  <a:pt x="1244" y="1809"/>
                </a:lnTo>
                <a:lnTo>
                  <a:pt x="1258" y="1809"/>
                </a:lnTo>
                <a:lnTo>
                  <a:pt x="1269" y="1811"/>
                </a:lnTo>
                <a:lnTo>
                  <a:pt x="1282" y="1811"/>
                </a:lnTo>
                <a:lnTo>
                  <a:pt x="1293" y="1813"/>
                </a:lnTo>
                <a:lnTo>
                  <a:pt x="1306" y="1813"/>
                </a:lnTo>
                <a:lnTo>
                  <a:pt x="1317" y="1815"/>
                </a:lnTo>
                <a:lnTo>
                  <a:pt x="1328" y="1815"/>
                </a:lnTo>
                <a:lnTo>
                  <a:pt x="1338" y="1815"/>
                </a:lnTo>
                <a:lnTo>
                  <a:pt x="1348" y="1815"/>
                </a:lnTo>
                <a:lnTo>
                  <a:pt x="1357" y="1817"/>
                </a:lnTo>
                <a:lnTo>
                  <a:pt x="1367" y="1817"/>
                </a:lnTo>
                <a:lnTo>
                  <a:pt x="1378" y="1817"/>
                </a:lnTo>
                <a:lnTo>
                  <a:pt x="1389" y="1817"/>
                </a:lnTo>
                <a:lnTo>
                  <a:pt x="1400" y="1819"/>
                </a:lnTo>
                <a:lnTo>
                  <a:pt x="1413" y="1819"/>
                </a:lnTo>
                <a:lnTo>
                  <a:pt x="1425" y="1819"/>
                </a:lnTo>
                <a:lnTo>
                  <a:pt x="1438" y="1819"/>
                </a:lnTo>
                <a:lnTo>
                  <a:pt x="1449" y="1820"/>
                </a:lnTo>
                <a:lnTo>
                  <a:pt x="1461" y="1820"/>
                </a:lnTo>
                <a:lnTo>
                  <a:pt x="1472" y="1820"/>
                </a:lnTo>
                <a:lnTo>
                  <a:pt x="1484" y="1820"/>
                </a:lnTo>
                <a:lnTo>
                  <a:pt x="1493" y="1820"/>
                </a:lnTo>
                <a:lnTo>
                  <a:pt x="1504" y="1820"/>
                </a:lnTo>
                <a:lnTo>
                  <a:pt x="1513" y="1820"/>
                </a:lnTo>
                <a:lnTo>
                  <a:pt x="1522" y="1820"/>
                </a:lnTo>
                <a:lnTo>
                  <a:pt x="1526" y="1820"/>
                </a:lnTo>
                <a:lnTo>
                  <a:pt x="1532" y="1820"/>
                </a:lnTo>
                <a:lnTo>
                  <a:pt x="1534" y="1820"/>
                </a:lnTo>
                <a:lnTo>
                  <a:pt x="1538" y="1820"/>
                </a:lnTo>
                <a:lnTo>
                  <a:pt x="1540" y="1820"/>
                </a:lnTo>
                <a:lnTo>
                  <a:pt x="1542" y="1820"/>
                </a:lnTo>
                <a:lnTo>
                  <a:pt x="1543" y="1820"/>
                </a:lnTo>
                <a:lnTo>
                  <a:pt x="1545" y="1820"/>
                </a:lnTo>
                <a:lnTo>
                  <a:pt x="1547" y="1820"/>
                </a:lnTo>
                <a:lnTo>
                  <a:pt x="1550" y="1820"/>
                </a:lnTo>
                <a:lnTo>
                  <a:pt x="1553" y="1820"/>
                </a:lnTo>
                <a:lnTo>
                  <a:pt x="1559" y="1820"/>
                </a:lnTo>
                <a:lnTo>
                  <a:pt x="1565" y="1820"/>
                </a:lnTo>
                <a:lnTo>
                  <a:pt x="1574" y="1820"/>
                </a:lnTo>
                <a:lnTo>
                  <a:pt x="1584" y="1820"/>
                </a:lnTo>
                <a:lnTo>
                  <a:pt x="1599" y="1820"/>
                </a:lnTo>
              </a:path>
            </a:pathLst>
          </a:custGeom>
          <a:noFill/>
          <a:ln w="31680">
            <a:solidFill>
              <a:srgbClr val="00c1c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62240" y="1471680"/>
            <a:ext cx="4047840" cy="4653000"/>
          </a:xfrm>
          <a:custGeom>
            <a:avLst/>
            <a:gdLst/>
            <a:ahLst/>
            <a:rect l="l" t="t" r="r" b="b"/>
            <a:pathLst>
              <a:path w="1830" h="2080">
                <a:moveTo>
                  <a:pt x="0" y="0"/>
                </a:moveTo>
                <a:lnTo>
                  <a:pt x="1" y="19"/>
                </a:lnTo>
                <a:lnTo>
                  <a:pt x="2" y="32"/>
                </a:lnTo>
                <a:lnTo>
                  <a:pt x="2" y="44"/>
                </a:lnTo>
                <a:lnTo>
                  <a:pt x="4" y="52"/>
                </a:lnTo>
                <a:lnTo>
                  <a:pt x="4" y="59"/>
                </a:lnTo>
                <a:lnTo>
                  <a:pt x="5" y="64"/>
                </a:lnTo>
                <a:lnTo>
                  <a:pt x="5" y="67"/>
                </a:lnTo>
                <a:lnTo>
                  <a:pt x="7" y="69"/>
                </a:lnTo>
                <a:lnTo>
                  <a:pt x="7" y="72"/>
                </a:lnTo>
                <a:lnTo>
                  <a:pt x="7" y="74"/>
                </a:lnTo>
                <a:lnTo>
                  <a:pt x="7" y="76"/>
                </a:lnTo>
                <a:lnTo>
                  <a:pt x="7" y="77"/>
                </a:lnTo>
                <a:lnTo>
                  <a:pt x="7" y="81"/>
                </a:lnTo>
                <a:lnTo>
                  <a:pt x="8" y="86"/>
                </a:lnTo>
                <a:lnTo>
                  <a:pt x="9" y="92"/>
                </a:lnTo>
                <a:lnTo>
                  <a:pt x="11" y="100"/>
                </a:lnTo>
                <a:lnTo>
                  <a:pt x="11" y="111"/>
                </a:lnTo>
                <a:lnTo>
                  <a:pt x="13" y="125"/>
                </a:lnTo>
                <a:lnTo>
                  <a:pt x="15" y="141"/>
                </a:lnTo>
                <a:lnTo>
                  <a:pt x="19" y="159"/>
                </a:lnTo>
                <a:lnTo>
                  <a:pt x="22" y="180"/>
                </a:lnTo>
                <a:lnTo>
                  <a:pt x="25" y="202"/>
                </a:lnTo>
                <a:lnTo>
                  <a:pt x="29" y="225"/>
                </a:lnTo>
                <a:lnTo>
                  <a:pt x="35" y="250"/>
                </a:lnTo>
                <a:lnTo>
                  <a:pt x="39" y="276"/>
                </a:lnTo>
                <a:lnTo>
                  <a:pt x="45" y="302"/>
                </a:lnTo>
                <a:lnTo>
                  <a:pt x="50" y="330"/>
                </a:lnTo>
                <a:lnTo>
                  <a:pt x="56" y="356"/>
                </a:lnTo>
                <a:lnTo>
                  <a:pt x="62" y="384"/>
                </a:lnTo>
                <a:lnTo>
                  <a:pt x="67" y="410"/>
                </a:lnTo>
                <a:lnTo>
                  <a:pt x="73" y="436"/>
                </a:lnTo>
                <a:lnTo>
                  <a:pt x="79" y="460"/>
                </a:lnTo>
                <a:lnTo>
                  <a:pt x="84" y="486"/>
                </a:lnTo>
                <a:lnTo>
                  <a:pt x="90" y="512"/>
                </a:lnTo>
                <a:lnTo>
                  <a:pt x="96" y="540"/>
                </a:lnTo>
                <a:lnTo>
                  <a:pt x="103" y="568"/>
                </a:lnTo>
                <a:lnTo>
                  <a:pt x="110" y="597"/>
                </a:lnTo>
                <a:lnTo>
                  <a:pt x="118" y="625"/>
                </a:lnTo>
                <a:lnTo>
                  <a:pt x="125" y="653"/>
                </a:lnTo>
                <a:lnTo>
                  <a:pt x="133" y="681"/>
                </a:lnTo>
                <a:lnTo>
                  <a:pt x="140" y="709"/>
                </a:lnTo>
                <a:lnTo>
                  <a:pt x="148" y="734"/>
                </a:lnTo>
                <a:lnTo>
                  <a:pt x="155" y="759"/>
                </a:lnTo>
                <a:lnTo>
                  <a:pt x="163" y="782"/>
                </a:lnTo>
                <a:lnTo>
                  <a:pt x="168" y="804"/>
                </a:lnTo>
                <a:lnTo>
                  <a:pt x="176" y="823"/>
                </a:lnTo>
                <a:lnTo>
                  <a:pt x="181" y="839"/>
                </a:lnTo>
                <a:lnTo>
                  <a:pt x="188" y="852"/>
                </a:lnTo>
                <a:lnTo>
                  <a:pt x="193" y="866"/>
                </a:lnTo>
                <a:lnTo>
                  <a:pt x="198" y="881"/>
                </a:lnTo>
                <a:lnTo>
                  <a:pt x="205" y="898"/>
                </a:lnTo>
                <a:lnTo>
                  <a:pt x="213" y="915"/>
                </a:lnTo>
                <a:lnTo>
                  <a:pt x="220" y="935"/>
                </a:lnTo>
                <a:lnTo>
                  <a:pt x="229" y="955"/>
                </a:lnTo>
                <a:lnTo>
                  <a:pt x="237" y="975"/>
                </a:lnTo>
                <a:lnTo>
                  <a:pt x="247" y="996"/>
                </a:lnTo>
                <a:lnTo>
                  <a:pt x="255" y="1018"/>
                </a:lnTo>
                <a:lnTo>
                  <a:pt x="264" y="1040"/>
                </a:lnTo>
                <a:lnTo>
                  <a:pt x="273" y="1061"/>
                </a:lnTo>
                <a:lnTo>
                  <a:pt x="282" y="1081"/>
                </a:lnTo>
                <a:lnTo>
                  <a:pt x="289" y="1102"/>
                </a:lnTo>
                <a:lnTo>
                  <a:pt x="299" y="1121"/>
                </a:lnTo>
                <a:lnTo>
                  <a:pt x="306" y="1139"/>
                </a:lnTo>
                <a:lnTo>
                  <a:pt x="314" y="1155"/>
                </a:lnTo>
                <a:lnTo>
                  <a:pt x="321" y="1173"/>
                </a:lnTo>
                <a:lnTo>
                  <a:pt x="328" y="1190"/>
                </a:lnTo>
                <a:lnTo>
                  <a:pt x="335" y="1209"/>
                </a:lnTo>
                <a:lnTo>
                  <a:pt x="344" y="1228"/>
                </a:lnTo>
                <a:lnTo>
                  <a:pt x="352" y="1248"/>
                </a:lnTo>
                <a:lnTo>
                  <a:pt x="361" y="1268"/>
                </a:lnTo>
                <a:lnTo>
                  <a:pt x="371" y="1289"/>
                </a:lnTo>
                <a:lnTo>
                  <a:pt x="380" y="1308"/>
                </a:lnTo>
                <a:lnTo>
                  <a:pt x="387" y="1328"/>
                </a:lnTo>
                <a:lnTo>
                  <a:pt x="397" y="1347"/>
                </a:lnTo>
                <a:lnTo>
                  <a:pt x="404" y="1366"/>
                </a:lnTo>
                <a:lnTo>
                  <a:pt x="413" y="1383"/>
                </a:lnTo>
                <a:lnTo>
                  <a:pt x="420" y="1399"/>
                </a:lnTo>
                <a:lnTo>
                  <a:pt x="427" y="1413"/>
                </a:lnTo>
                <a:lnTo>
                  <a:pt x="433" y="1426"/>
                </a:lnTo>
                <a:lnTo>
                  <a:pt x="440" y="1436"/>
                </a:lnTo>
                <a:lnTo>
                  <a:pt x="445" y="1448"/>
                </a:lnTo>
                <a:lnTo>
                  <a:pt x="450" y="1460"/>
                </a:lnTo>
                <a:lnTo>
                  <a:pt x="457" y="1474"/>
                </a:lnTo>
                <a:lnTo>
                  <a:pt x="465" y="1487"/>
                </a:lnTo>
                <a:lnTo>
                  <a:pt x="473" y="1502"/>
                </a:lnTo>
                <a:lnTo>
                  <a:pt x="483" y="1517"/>
                </a:lnTo>
                <a:lnTo>
                  <a:pt x="492" y="1532"/>
                </a:lnTo>
                <a:lnTo>
                  <a:pt x="503" y="1547"/>
                </a:lnTo>
                <a:lnTo>
                  <a:pt x="512" y="1563"/>
                </a:lnTo>
                <a:lnTo>
                  <a:pt x="522" y="1578"/>
                </a:lnTo>
                <a:lnTo>
                  <a:pt x="531" y="1593"/>
                </a:lnTo>
                <a:lnTo>
                  <a:pt x="543" y="1607"/>
                </a:lnTo>
                <a:lnTo>
                  <a:pt x="552" y="1622"/>
                </a:lnTo>
                <a:lnTo>
                  <a:pt x="562" y="1634"/>
                </a:lnTo>
                <a:lnTo>
                  <a:pt x="571" y="1646"/>
                </a:lnTo>
                <a:lnTo>
                  <a:pt x="581" y="1657"/>
                </a:lnTo>
                <a:lnTo>
                  <a:pt x="589" y="1668"/>
                </a:lnTo>
                <a:lnTo>
                  <a:pt x="598" y="1679"/>
                </a:lnTo>
                <a:lnTo>
                  <a:pt x="609" y="1692"/>
                </a:lnTo>
                <a:lnTo>
                  <a:pt x="620" y="1703"/>
                </a:lnTo>
                <a:lnTo>
                  <a:pt x="631" y="1716"/>
                </a:lnTo>
                <a:lnTo>
                  <a:pt x="643" y="1728"/>
                </a:lnTo>
                <a:lnTo>
                  <a:pt x="656" y="1742"/>
                </a:lnTo>
                <a:lnTo>
                  <a:pt x="669" y="1753"/>
                </a:lnTo>
                <a:lnTo>
                  <a:pt x="680" y="1766"/>
                </a:lnTo>
                <a:lnTo>
                  <a:pt x="693" y="1778"/>
                </a:lnTo>
                <a:lnTo>
                  <a:pt x="704" y="1790"/>
                </a:lnTo>
                <a:lnTo>
                  <a:pt x="717" y="1801"/>
                </a:lnTo>
                <a:lnTo>
                  <a:pt x="727" y="1812"/>
                </a:lnTo>
                <a:lnTo>
                  <a:pt x="739" y="1820"/>
                </a:lnTo>
                <a:lnTo>
                  <a:pt x="748" y="1828"/>
                </a:lnTo>
                <a:lnTo>
                  <a:pt x="758" y="1835"/>
                </a:lnTo>
                <a:lnTo>
                  <a:pt x="765" y="1843"/>
                </a:lnTo>
                <a:lnTo>
                  <a:pt x="774" y="1849"/>
                </a:lnTo>
                <a:lnTo>
                  <a:pt x="783" y="1856"/>
                </a:lnTo>
                <a:lnTo>
                  <a:pt x="792" y="1862"/>
                </a:lnTo>
                <a:lnTo>
                  <a:pt x="801" y="1870"/>
                </a:lnTo>
                <a:lnTo>
                  <a:pt x="811" y="1875"/>
                </a:lnTo>
                <a:lnTo>
                  <a:pt x="819" y="1882"/>
                </a:lnTo>
                <a:lnTo>
                  <a:pt x="829" y="1888"/>
                </a:lnTo>
                <a:lnTo>
                  <a:pt x="836" y="1894"/>
                </a:lnTo>
                <a:lnTo>
                  <a:pt x="844" y="1900"/>
                </a:lnTo>
                <a:lnTo>
                  <a:pt x="850" y="1906"/>
                </a:lnTo>
                <a:lnTo>
                  <a:pt x="858" y="1910"/>
                </a:lnTo>
                <a:lnTo>
                  <a:pt x="863" y="1915"/>
                </a:lnTo>
                <a:lnTo>
                  <a:pt x="869" y="1919"/>
                </a:lnTo>
                <a:lnTo>
                  <a:pt x="873" y="1922"/>
                </a:lnTo>
                <a:lnTo>
                  <a:pt x="878" y="1924"/>
                </a:lnTo>
                <a:lnTo>
                  <a:pt x="880" y="1927"/>
                </a:lnTo>
                <a:lnTo>
                  <a:pt x="884" y="1929"/>
                </a:lnTo>
                <a:lnTo>
                  <a:pt x="889" y="1931"/>
                </a:lnTo>
                <a:lnTo>
                  <a:pt x="895" y="1933"/>
                </a:lnTo>
                <a:lnTo>
                  <a:pt x="900" y="1937"/>
                </a:lnTo>
                <a:lnTo>
                  <a:pt x="907" y="1939"/>
                </a:lnTo>
                <a:lnTo>
                  <a:pt x="913" y="1943"/>
                </a:lnTo>
                <a:lnTo>
                  <a:pt x="920" y="1945"/>
                </a:lnTo>
                <a:lnTo>
                  <a:pt x="927" y="1949"/>
                </a:lnTo>
                <a:lnTo>
                  <a:pt x="934" y="1952"/>
                </a:lnTo>
                <a:lnTo>
                  <a:pt x="941" y="1956"/>
                </a:lnTo>
                <a:lnTo>
                  <a:pt x="949" y="1958"/>
                </a:lnTo>
                <a:lnTo>
                  <a:pt x="955" y="1962"/>
                </a:lnTo>
                <a:lnTo>
                  <a:pt x="963" y="1964"/>
                </a:lnTo>
                <a:lnTo>
                  <a:pt x="969" y="1968"/>
                </a:lnTo>
                <a:lnTo>
                  <a:pt x="977" y="1969"/>
                </a:lnTo>
                <a:lnTo>
                  <a:pt x="983" y="1973"/>
                </a:lnTo>
                <a:lnTo>
                  <a:pt x="991" y="1976"/>
                </a:lnTo>
                <a:lnTo>
                  <a:pt x="1000" y="1980"/>
                </a:lnTo>
                <a:lnTo>
                  <a:pt x="1011" y="1982"/>
                </a:lnTo>
                <a:lnTo>
                  <a:pt x="1021" y="1986"/>
                </a:lnTo>
                <a:lnTo>
                  <a:pt x="1032" y="1989"/>
                </a:lnTo>
                <a:lnTo>
                  <a:pt x="1043" y="1993"/>
                </a:lnTo>
                <a:lnTo>
                  <a:pt x="1056" y="1996"/>
                </a:lnTo>
                <a:lnTo>
                  <a:pt x="1067" y="2000"/>
                </a:lnTo>
                <a:lnTo>
                  <a:pt x="1081" y="2004"/>
                </a:lnTo>
                <a:lnTo>
                  <a:pt x="1093" y="2007"/>
                </a:lnTo>
                <a:lnTo>
                  <a:pt x="1105" y="2011"/>
                </a:lnTo>
                <a:lnTo>
                  <a:pt x="1117" y="2015"/>
                </a:lnTo>
                <a:lnTo>
                  <a:pt x="1129" y="2018"/>
                </a:lnTo>
                <a:lnTo>
                  <a:pt x="1139" y="2021"/>
                </a:lnTo>
                <a:lnTo>
                  <a:pt x="1151" y="2023"/>
                </a:lnTo>
                <a:lnTo>
                  <a:pt x="1160" y="2027"/>
                </a:lnTo>
                <a:lnTo>
                  <a:pt x="1171" y="2028"/>
                </a:lnTo>
                <a:lnTo>
                  <a:pt x="1182" y="2032"/>
                </a:lnTo>
                <a:lnTo>
                  <a:pt x="1195" y="2034"/>
                </a:lnTo>
                <a:lnTo>
                  <a:pt x="1208" y="2037"/>
                </a:lnTo>
                <a:lnTo>
                  <a:pt x="1221" y="2039"/>
                </a:lnTo>
                <a:lnTo>
                  <a:pt x="1234" y="2042"/>
                </a:lnTo>
                <a:lnTo>
                  <a:pt x="1249" y="2044"/>
                </a:lnTo>
                <a:lnTo>
                  <a:pt x="1262" y="2047"/>
                </a:lnTo>
                <a:lnTo>
                  <a:pt x="1275" y="2049"/>
                </a:lnTo>
                <a:lnTo>
                  <a:pt x="1288" y="2051"/>
                </a:lnTo>
                <a:lnTo>
                  <a:pt x="1301" y="2053"/>
                </a:lnTo>
                <a:lnTo>
                  <a:pt x="1312" y="2055"/>
                </a:lnTo>
                <a:lnTo>
                  <a:pt x="1323" y="2057"/>
                </a:lnTo>
                <a:lnTo>
                  <a:pt x="1333" y="2058"/>
                </a:lnTo>
                <a:lnTo>
                  <a:pt x="1343" y="2058"/>
                </a:lnTo>
                <a:lnTo>
                  <a:pt x="1351" y="2060"/>
                </a:lnTo>
                <a:lnTo>
                  <a:pt x="1361" y="2062"/>
                </a:lnTo>
                <a:lnTo>
                  <a:pt x="1372" y="2064"/>
                </a:lnTo>
                <a:lnTo>
                  <a:pt x="1384" y="2064"/>
                </a:lnTo>
                <a:lnTo>
                  <a:pt x="1396" y="2065"/>
                </a:lnTo>
                <a:lnTo>
                  <a:pt x="1409" y="2065"/>
                </a:lnTo>
                <a:lnTo>
                  <a:pt x="1423" y="2067"/>
                </a:lnTo>
                <a:lnTo>
                  <a:pt x="1437" y="2067"/>
                </a:lnTo>
                <a:lnTo>
                  <a:pt x="1451" y="2069"/>
                </a:lnTo>
                <a:lnTo>
                  <a:pt x="1465" y="2070"/>
                </a:lnTo>
                <a:lnTo>
                  <a:pt x="1478" y="2072"/>
                </a:lnTo>
                <a:lnTo>
                  <a:pt x="1493" y="2072"/>
                </a:lnTo>
                <a:lnTo>
                  <a:pt x="1505" y="2074"/>
                </a:lnTo>
                <a:lnTo>
                  <a:pt x="1518" y="2074"/>
                </a:lnTo>
                <a:lnTo>
                  <a:pt x="1529" y="2075"/>
                </a:lnTo>
                <a:lnTo>
                  <a:pt x="1542" y="2075"/>
                </a:lnTo>
                <a:lnTo>
                  <a:pt x="1552" y="2077"/>
                </a:lnTo>
                <a:lnTo>
                  <a:pt x="1563" y="2077"/>
                </a:lnTo>
                <a:lnTo>
                  <a:pt x="1576" y="2077"/>
                </a:lnTo>
                <a:lnTo>
                  <a:pt x="1589" y="2077"/>
                </a:lnTo>
                <a:lnTo>
                  <a:pt x="1602" y="2078"/>
                </a:lnTo>
                <a:lnTo>
                  <a:pt x="1616" y="2078"/>
                </a:lnTo>
                <a:lnTo>
                  <a:pt x="1630" y="2078"/>
                </a:lnTo>
                <a:lnTo>
                  <a:pt x="1645" y="2078"/>
                </a:lnTo>
                <a:lnTo>
                  <a:pt x="1658" y="2079"/>
                </a:lnTo>
                <a:lnTo>
                  <a:pt x="1671" y="2079"/>
                </a:lnTo>
                <a:lnTo>
                  <a:pt x="1685" y="2079"/>
                </a:lnTo>
                <a:lnTo>
                  <a:pt x="1698" y="2079"/>
                </a:lnTo>
                <a:lnTo>
                  <a:pt x="1709" y="2079"/>
                </a:lnTo>
                <a:lnTo>
                  <a:pt x="1721" y="2079"/>
                </a:lnTo>
                <a:lnTo>
                  <a:pt x="1731" y="2079"/>
                </a:lnTo>
                <a:lnTo>
                  <a:pt x="1741" y="2079"/>
                </a:lnTo>
                <a:lnTo>
                  <a:pt x="1747" y="2079"/>
                </a:lnTo>
                <a:lnTo>
                  <a:pt x="1753" y="2079"/>
                </a:lnTo>
                <a:lnTo>
                  <a:pt x="1757" y="2079"/>
                </a:lnTo>
                <a:lnTo>
                  <a:pt x="1760" y="2079"/>
                </a:lnTo>
                <a:lnTo>
                  <a:pt x="1762" y="2079"/>
                </a:lnTo>
                <a:lnTo>
                  <a:pt x="1764" y="2079"/>
                </a:lnTo>
                <a:lnTo>
                  <a:pt x="1766" y="2079"/>
                </a:lnTo>
                <a:lnTo>
                  <a:pt x="1768" y="2079"/>
                </a:lnTo>
                <a:lnTo>
                  <a:pt x="1769" y="2079"/>
                </a:lnTo>
                <a:lnTo>
                  <a:pt x="1773" y="2079"/>
                </a:lnTo>
                <a:lnTo>
                  <a:pt x="1777" y="2079"/>
                </a:lnTo>
                <a:lnTo>
                  <a:pt x="1783" y="2079"/>
                </a:lnTo>
                <a:lnTo>
                  <a:pt x="1790" y="2079"/>
                </a:lnTo>
                <a:lnTo>
                  <a:pt x="1801" y="2079"/>
                </a:lnTo>
                <a:lnTo>
                  <a:pt x="1813" y="2079"/>
                </a:lnTo>
                <a:lnTo>
                  <a:pt x="1829" y="2079"/>
                </a:lnTo>
              </a:path>
            </a:pathLst>
          </a:custGeom>
          <a:noFill/>
          <a:ln w="442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94120" y="5351400"/>
            <a:ext cx="1700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880" y="627120"/>
            <a:ext cx="3540240" cy="4073400"/>
          </a:xfrm>
          <a:custGeom>
            <a:avLst/>
            <a:gdLst/>
            <a:ahLst/>
            <a:rect l="l" t="t" r="r" b="b"/>
            <a:pathLst>
              <a:path w="1600" h="1821">
                <a:moveTo>
                  <a:pt x="0" y="0"/>
                </a:moveTo>
                <a:lnTo>
                  <a:pt x="0" y="16"/>
                </a:lnTo>
                <a:lnTo>
                  <a:pt x="2" y="28"/>
                </a:lnTo>
                <a:lnTo>
                  <a:pt x="2" y="39"/>
                </a:lnTo>
                <a:lnTo>
                  <a:pt x="4" y="46"/>
                </a:lnTo>
                <a:lnTo>
                  <a:pt x="4" y="52"/>
                </a:lnTo>
                <a:lnTo>
                  <a:pt x="4" y="56"/>
                </a:lnTo>
                <a:lnTo>
                  <a:pt x="4" y="59"/>
                </a:lnTo>
                <a:lnTo>
                  <a:pt x="6" y="61"/>
                </a:lnTo>
                <a:lnTo>
                  <a:pt x="6" y="63"/>
                </a:lnTo>
                <a:lnTo>
                  <a:pt x="6" y="64"/>
                </a:lnTo>
                <a:lnTo>
                  <a:pt x="6" y="66"/>
                </a:lnTo>
                <a:lnTo>
                  <a:pt x="6" y="68"/>
                </a:lnTo>
                <a:lnTo>
                  <a:pt x="6" y="72"/>
                </a:lnTo>
                <a:lnTo>
                  <a:pt x="7" y="75"/>
                </a:lnTo>
                <a:lnTo>
                  <a:pt x="7" y="81"/>
                </a:lnTo>
                <a:lnTo>
                  <a:pt x="9" y="88"/>
                </a:lnTo>
                <a:lnTo>
                  <a:pt x="10" y="98"/>
                </a:lnTo>
                <a:lnTo>
                  <a:pt x="11" y="110"/>
                </a:lnTo>
                <a:lnTo>
                  <a:pt x="13" y="124"/>
                </a:lnTo>
                <a:lnTo>
                  <a:pt x="16" y="140"/>
                </a:lnTo>
                <a:lnTo>
                  <a:pt x="19" y="158"/>
                </a:lnTo>
                <a:lnTo>
                  <a:pt x="22" y="177"/>
                </a:lnTo>
                <a:lnTo>
                  <a:pt x="26" y="199"/>
                </a:lnTo>
                <a:lnTo>
                  <a:pt x="31" y="219"/>
                </a:lnTo>
                <a:lnTo>
                  <a:pt x="34" y="243"/>
                </a:lnTo>
                <a:lnTo>
                  <a:pt x="40" y="265"/>
                </a:lnTo>
                <a:lnTo>
                  <a:pt x="43" y="290"/>
                </a:lnTo>
                <a:lnTo>
                  <a:pt x="49" y="312"/>
                </a:lnTo>
                <a:lnTo>
                  <a:pt x="52" y="337"/>
                </a:lnTo>
                <a:lnTo>
                  <a:pt x="58" y="359"/>
                </a:lnTo>
                <a:lnTo>
                  <a:pt x="62" y="381"/>
                </a:lnTo>
                <a:lnTo>
                  <a:pt x="68" y="403"/>
                </a:lnTo>
                <a:lnTo>
                  <a:pt x="72" y="426"/>
                </a:lnTo>
                <a:lnTo>
                  <a:pt x="78" y="449"/>
                </a:lnTo>
                <a:lnTo>
                  <a:pt x="84" y="473"/>
                </a:lnTo>
                <a:lnTo>
                  <a:pt x="90" y="497"/>
                </a:lnTo>
                <a:lnTo>
                  <a:pt x="96" y="523"/>
                </a:lnTo>
                <a:lnTo>
                  <a:pt x="103" y="547"/>
                </a:lnTo>
                <a:lnTo>
                  <a:pt x="110" y="572"/>
                </a:lnTo>
                <a:lnTo>
                  <a:pt x="118" y="595"/>
                </a:lnTo>
                <a:lnTo>
                  <a:pt x="123" y="620"/>
                </a:lnTo>
                <a:lnTo>
                  <a:pt x="130" y="643"/>
                </a:lnTo>
                <a:lnTo>
                  <a:pt x="136" y="665"/>
                </a:lnTo>
                <a:lnTo>
                  <a:pt x="143" y="685"/>
                </a:lnTo>
                <a:lnTo>
                  <a:pt x="149" y="704"/>
                </a:lnTo>
                <a:lnTo>
                  <a:pt x="155" y="720"/>
                </a:lnTo>
                <a:lnTo>
                  <a:pt x="159" y="735"/>
                </a:lnTo>
                <a:lnTo>
                  <a:pt x="165" y="746"/>
                </a:lnTo>
                <a:lnTo>
                  <a:pt x="169" y="758"/>
                </a:lnTo>
                <a:lnTo>
                  <a:pt x="174" y="771"/>
                </a:lnTo>
                <a:lnTo>
                  <a:pt x="180" y="786"/>
                </a:lnTo>
                <a:lnTo>
                  <a:pt x="187" y="801"/>
                </a:lnTo>
                <a:lnTo>
                  <a:pt x="193" y="819"/>
                </a:lnTo>
                <a:lnTo>
                  <a:pt x="200" y="836"/>
                </a:lnTo>
                <a:lnTo>
                  <a:pt x="208" y="854"/>
                </a:lnTo>
                <a:lnTo>
                  <a:pt x="216" y="871"/>
                </a:lnTo>
                <a:lnTo>
                  <a:pt x="224" y="891"/>
                </a:lnTo>
                <a:lnTo>
                  <a:pt x="231" y="909"/>
                </a:lnTo>
                <a:lnTo>
                  <a:pt x="238" y="928"/>
                </a:lnTo>
                <a:lnTo>
                  <a:pt x="247" y="945"/>
                </a:lnTo>
                <a:lnTo>
                  <a:pt x="253" y="963"/>
                </a:lnTo>
                <a:lnTo>
                  <a:pt x="260" y="980"/>
                </a:lnTo>
                <a:lnTo>
                  <a:pt x="266" y="996"/>
                </a:lnTo>
                <a:lnTo>
                  <a:pt x="274" y="1010"/>
                </a:lnTo>
                <a:lnTo>
                  <a:pt x="280" y="1027"/>
                </a:lnTo>
                <a:lnTo>
                  <a:pt x="286" y="1041"/>
                </a:lnTo>
                <a:lnTo>
                  <a:pt x="294" y="1058"/>
                </a:lnTo>
                <a:lnTo>
                  <a:pt x="302" y="1075"/>
                </a:lnTo>
                <a:lnTo>
                  <a:pt x="309" y="1093"/>
                </a:lnTo>
                <a:lnTo>
                  <a:pt x="316" y="1110"/>
                </a:lnTo>
                <a:lnTo>
                  <a:pt x="324" y="1128"/>
                </a:lnTo>
                <a:lnTo>
                  <a:pt x="333" y="1145"/>
                </a:lnTo>
                <a:lnTo>
                  <a:pt x="340" y="1163"/>
                </a:lnTo>
                <a:lnTo>
                  <a:pt x="347" y="1179"/>
                </a:lnTo>
                <a:lnTo>
                  <a:pt x="354" y="1196"/>
                </a:lnTo>
                <a:lnTo>
                  <a:pt x="362" y="1210"/>
                </a:lnTo>
                <a:lnTo>
                  <a:pt x="367" y="1224"/>
                </a:lnTo>
                <a:lnTo>
                  <a:pt x="373" y="1237"/>
                </a:lnTo>
                <a:lnTo>
                  <a:pt x="379" y="1249"/>
                </a:lnTo>
                <a:lnTo>
                  <a:pt x="384" y="1257"/>
                </a:lnTo>
                <a:lnTo>
                  <a:pt x="388" y="1268"/>
                </a:lnTo>
                <a:lnTo>
                  <a:pt x="394" y="1278"/>
                </a:lnTo>
                <a:lnTo>
                  <a:pt x="400" y="1291"/>
                </a:lnTo>
                <a:lnTo>
                  <a:pt x="407" y="1302"/>
                </a:lnTo>
                <a:lnTo>
                  <a:pt x="414" y="1315"/>
                </a:lnTo>
                <a:lnTo>
                  <a:pt x="422" y="1327"/>
                </a:lnTo>
                <a:lnTo>
                  <a:pt x="430" y="1341"/>
                </a:lnTo>
                <a:lnTo>
                  <a:pt x="439" y="1353"/>
                </a:lnTo>
                <a:lnTo>
                  <a:pt x="446" y="1368"/>
                </a:lnTo>
                <a:lnTo>
                  <a:pt x="456" y="1381"/>
                </a:lnTo>
                <a:lnTo>
                  <a:pt x="464" y="1394"/>
                </a:lnTo>
                <a:lnTo>
                  <a:pt x="474" y="1406"/>
                </a:lnTo>
                <a:lnTo>
                  <a:pt x="481" y="1419"/>
                </a:lnTo>
                <a:lnTo>
                  <a:pt x="490" y="1430"/>
                </a:lnTo>
                <a:lnTo>
                  <a:pt x="498" y="1440"/>
                </a:lnTo>
                <a:lnTo>
                  <a:pt x="507" y="1448"/>
                </a:lnTo>
                <a:lnTo>
                  <a:pt x="514" y="1459"/>
                </a:lnTo>
                <a:lnTo>
                  <a:pt x="522" y="1468"/>
                </a:lnTo>
                <a:lnTo>
                  <a:pt x="532" y="1479"/>
                </a:lnTo>
                <a:lnTo>
                  <a:pt x="542" y="1489"/>
                </a:lnTo>
                <a:lnTo>
                  <a:pt x="551" y="1501"/>
                </a:lnTo>
                <a:lnTo>
                  <a:pt x="562" y="1512"/>
                </a:lnTo>
                <a:lnTo>
                  <a:pt x="574" y="1523"/>
                </a:lnTo>
                <a:lnTo>
                  <a:pt x="585" y="1533"/>
                </a:lnTo>
                <a:lnTo>
                  <a:pt x="594" y="1545"/>
                </a:lnTo>
                <a:lnTo>
                  <a:pt x="606" y="1556"/>
                </a:lnTo>
                <a:lnTo>
                  <a:pt x="615" y="1566"/>
                </a:lnTo>
                <a:lnTo>
                  <a:pt x="627" y="1575"/>
                </a:lnTo>
                <a:lnTo>
                  <a:pt x="636" y="1585"/>
                </a:lnTo>
                <a:lnTo>
                  <a:pt x="646" y="1592"/>
                </a:lnTo>
                <a:lnTo>
                  <a:pt x="654" y="1599"/>
                </a:lnTo>
                <a:lnTo>
                  <a:pt x="663" y="1605"/>
                </a:lnTo>
                <a:lnTo>
                  <a:pt x="670" y="1612"/>
                </a:lnTo>
                <a:lnTo>
                  <a:pt x="677" y="1617"/>
                </a:lnTo>
                <a:lnTo>
                  <a:pt x="685" y="1623"/>
                </a:lnTo>
                <a:lnTo>
                  <a:pt x="693" y="1629"/>
                </a:lnTo>
                <a:lnTo>
                  <a:pt x="700" y="1635"/>
                </a:lnTo>
                <a:lnTo>
                  <a:pt x="708" y="1641"/>
                </a:lnTo>
                <a:lnTo>
                  <a:pt x="715" y="1646"/>
                </a:lnTo>
                <a:lnTo>
                  <a:pt x="724" y="1652"/>
                </a:lnTo>
                <a:lnTo>
                  <a:pt x="730" y="1657"/>
                </a:lnTo>
                <a:lnTo>
                  <a:pt x="738" y="1663"/>
                </a:lnTo>
                <a:lnTo>
                  <a:pt x="743" y="1668"/>
                </a:lnTo>
                <a:lnTo>
                  <a:pt x="750" y="1672"/>
                </a:lnTo>
                <a:lnTo>
                  <a:pt x="754" y="1675"/>
                </a:lnTo>
                <a:lnTo>
                  <a:pt x="760" y="1679"/>
                </a:lnTo>
                <a:lnTo>
                  <a:pt x="764" y="1681"/>
                </a:lnTo>
                <a:lnTo>
                  <a:pt x="768" y="1682"/>
                </a:lnTo>
                <a:lnTo>
                  <a:pt x="770" y="1685"/>
                </a:lnTo>
                <a:lnTo>
                  <a:pt x="773" y="1687"/>
                </a:lnTo>
                <a:lnTo>
                  <a:pt x="777" y="1690"/>
                </a:lnTo>
                <a:lnTo>
                  <a:pt x="782" y="1692"/>
                </a:lnTo>
                <a:lnTo>
                  <a:pt x="786" y="1695"/>
                </a:lnTo>
                <a:lnTo>
                  <a:pt x="792" y="1697"/>
                </a:lnTo>
                <a:lnTo>
                  <a:pt x="798" y="1701"/>
                </a:lnTo>
                <a:lnTo>
                  <a:pt x="804" y="1703"/>
                </a:lnTo>
                <a:lnTo>
                  <a:pt x="810" y="1707"/>
                </a:lnTo>
                <a:lnTo>
                  <a:pt x="816" y="1709"/>
                </a:lnTo>
                <a:lnTo>
                  <a:pt x="821" y="1713"/>
                </a:lnTo>
                <a:lnTo>
                  <a:pt x="829" y="1715"/>
                </a:lnTo>
                <a:lnTo>
                  <a:pt x="834" y="1719"/>
                </a:lnTo>
                <a:lnTo>
                  <a:pt x="841" y="1721"/>
                </a:lnTo>
                <a:lnTo>
                  <a:pt x="847" y="1722"/>
                </a:lnTo>
                <a:lnTo>
                  <a:pt x="854" y="1724"/>
                </a:lnTo>
                <a:lnTo>
                  <a:pt x="859" y="1727"/>
                </a:lnTo>
                <a:lnTo>
                  <a:pt x="866" y="1729"/>
                </a:lnTo>
                <a:lnTo>
                  <a:pt x="874" y="1732"/>
                </a:lnTo>
                <a:lnTo>
                  <a:pt x="883" y="1734"/>
                </a:lnTo>
                <a:lnTo>
                  <a:pt x="892" y="1738"/>
                </a:lnTo>
                <a:lnTo>
                  <a:pt x="902" y="1741"/>
                </a:lnTo>
                <a:lnTo>
                  <a:pt x="912" y="1745"/>
                </a:lnTo>
                <a:lnTo>
                  <a:pt x="924" y="1747"/>
                </a:lnTo>
                <a:lnTo>
                  <a:pt x="933" y="1751"/>
                </a:lnTo>
                <a:lnTo>
                  <a:pt x="944" y="1753"/>
                </a:lnTo>
                <a:lnTo>
                  <a:pt x="955" y="1757"/>
                </a:lnTo>
                <a:lnTo>
                  <a:pt x="966" y="1759"/>
                </a:lnTo>
                <a:lnTo>
                  <a:pt x="976" y="1763"/>
                </a:lnTo>
                <a:lnTo>
                  <a:pt x="987" y="1765"/>
                </a:lnTo>
                <a:lnTo>
                  <a:pt x="996" y="1767"/>
                </a:lnTo>
                <a:lnTo>
                  <a:pt x="1005" y="1769"/>
                </a:lnTo>
                <a:lnTo>
                  <a:pt x="1014" y="1773"/>
                </a:lnTo>
                <a:lnTo>
                  <a:pt x="1024" y="1775"/>
                </a:lnTo>
                <a:lnTo>
                  <a:pt x="1034" y="1777"/>
                </a:lnTo>
                <a:lnTo>
                  <a:pt x="1045" y="1779"/>
                </a:lnTo>
                <a:lnTo>
                  <a:pt x="1056" y="1782"/>
                </a:lnTo>
                <a:lnTo>
                  <a:pt x="1067" y="1784"/>
                </a:lnTo>
                <a:lnTo>
                  <a:pt x="1078" y="1786"/>
                </a:lnTo>
                <a:lnTo>
                  <a:pt x="1092" y="1788"/>
                </a:lnTo>
                <a:lnTo>
                  <a:pt x="1103" y="1791"/>
                </a:lnTo>
                <a:lnTo>
                  <a:pt x="1114" y="1793"/>
                </a:lnTo>
                <a:lnTo>
                  <a:pt x="1125" y="1795"/>
                </a:lnTo>
                <a:lnTo>
                  <a:pt x="1137" y="1797"/>
                </a:lnTo>
                <a:lnTo>
                  <a:pt x="1146" y="1799"/>
                </a:lnTo>
                <a:lnTo>
                  <a:pt x="1157" y="1800"/>
                </a:lnTo>
                <a:lnTo>
                  <a:pt x="1166" y="1801"/>
                </a:lnTo>
                <a:lnTo>
                  <a:pt x="1174" y="1801"/>
                </a:lnTo>
                <a:lnTo>
                  <a:pt x="1181" y="1803"/>
                </a:lnTo>
                <a:lnTo>
                  <a:pt x="1190" y="1803"/>
                </a:lnTo>
                <a:lnTo>
                  <a:pt x="1200" y="1805"/>
                </a:lnTo>
                <a:lnTo>
                  <a:pt x="1211" y="1805"/>
                </a:lnTo>
                <a:lnTo>
                  <a:pt x="1221" y="1807"/>
                </a:lnTo>
                <a:lnTo>
                  <a:pt x="1233" y="1807"/>
                </a:lnTo>
                <a:lnTo>
                  <a:pt x="1244" y="1809"/>
                </a:lnTo>
                <a:lnTo>
                  <a:pt x="1258" y="1809"/>
                </a:lnTo>
                <a:lnTo>
                  <a:pt x="1269" y="1811"/>
                </a:lnTo>
                <a:lnTo>
                  <a:pt x="1282" y="1811"/>
                </a:lnTo>
                <a:lnTo>
                  <a:pt x="1293" y="1813"/>
                </a:lnTo>
                <a:lnTo>
                  <a:pt x="1306" y="1813"/>
                </a:lnTo>
                <a:lnTo>
                  <a:pt x="1317" y="1815"/>
                </a:lnTo>
                <a:lnTo>
                  <a:pt x="1328" y="1815"/>
                </a:lnTo>
                <a:lnTo>
                  <a:pt x="1338" y="1815"/>
                </a:lnTo>
                <a:lnTo>
                  <a:pt x="1348" y="1815"/>
                </a:lnTo>
                <a:lnTo>
                  <a:pt x="1357" y="1817"/>
                </a:lnTo>
                <a:lnTo>
                  <a:pt x="1367" y="1817"/>
                </a:lnTo>
                <a:lnTo>
                  <a:pt x="1378" y="1817"/>
                </a:lnTo>
                <a:lnTo>
                  <a:pt x="1389" y="1817"/>
                </a:lnTo>
                <a:lnTo>
                  <a:pt x="1400" y="1819"/>
                </a:lnTo>
                <a:lnTo>
                  <a:pt x="1413" y="1819"/>
                </a:lnTo>
                <a:lnTo>
                  <a:pt x="1425" y="1819"/>
                </a:lnTo>
                <a:lnTo>
                  <a:pt x="1438" y="1819"/>
                </a:lnTo>
                <a:lnTo>
                  <a:pt x="1449" y="1820"/>
                </a:lnTo>
                <a:lnTo>
                  <a:pt x="1461" y="1820"/>
                </a:lnTo>
                <a:lnTo>
                  <a:pt x="1472" y="1820"/>
                </a:lnTo>
                <a:lnTo>
                  <a:pt x="1484" y="1820"/>
                </a:lnTo>
                <a:lnTo>
                  <a:pt x="1493" y="1820"/>
                </a:lnTo>
                <a:lnTo>
                  <a:pt x="1504" y="1820"/>
                </a:lnTo>
                <a:lnTo>
                  <a:pt x="1513" y="1820"/>
                </a:lnTo>
                <a:lnTo>
                  <a:pt x="1522" y="1820"/>
                </a:lnTo>
                <a:lnTo>
                  <a:pt x="1526" y="1820"/>
                </a:lnTo>
                <a:lnTo>
                  <a:pt x="1532" y="1820"/>
                </a:lnTo>
                <a:lnTo>
                  <a:pt x="1534" y="1820"/>
                </a:lnTo>
                <a:lnTo>
                  <a:pt x="1538" y="1820"/>
                </a:lnTo>
                <a:lnTo>
                  <a:pt x="1540" y="1820"/>
                </a:lnTo>
                <a:lnTo>
                  <a:pt x="1542" y="1820"/>
                </a:lnTo>
                <a:lnTo>
                  <a:pt x="1543" y="1820"/>
                </a:lnTo>
                <a:lnTo>
                  <a:pt x="1545" y="1820"/>
                </a:lnTo>
                <a:lnTo>
                  <a:pt x="1547" y="1820"/>
                </a:lnTo>
                <a:lnTo>
                  <a:pt x="1550" y="1820"/>
                </a:lnTo>
                <a:lnTo>
                  <a:pt x="1553" y="1820"/>
                </a:lnTo>
                <a:lnTo>
                  <a:pt x="1559" y="1820"/>
                </a:lnTo>
                <a:lnTo>
                  <a:pt x="1565" y="1820"/>
                </a:lnTo>
                <a:lnTo>
                  <a:pt x="1574" y="1820"/>
                </a:lnTo>
                <a:lnTo>
                  <a:pt x="1584" y="1820"/>
                </a:lnTo>
                <a:lnTo>
                  <a:pt x="1599" y="1820"/>
                </a:lnTo>
              </a:path>
            </a:pathLst>
          </a:custGeom>
          <a:noFill/>
          <a:ln w="31680">
            <a:solidFill>
              <a:srgbClr val="00c1c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38320" y="1270080"/>
            <a:ext cx="3540240" cy="4073400"/>
          </a:xfrm>
          <a:custGeom>
            <a:avLst/>
            <a:gdLst/>
            <a:ahLst/>
            <a:rect l="l" t="t" r="r" b="b"/>
            <a:pathLst>
              <a:path w="1600" h="1821">
                <a:moveTo>
                  <a:pt x="0" y="0"/>
                </a:moveTo>
                <a:lnTo>
                  <a:pt x="0" y="16"/>
                </a:lnTo>
                <a:lnTo>
                  <a:pt x="2" y="28"/>
                </a:lnTo>
                <a:lnTo>
                  <a:pt x="2" y="39"/>
                </a:lnTo>
                <a:lnTo>
                  <a:pt x="4" y="46"/>
                </a:lnTo>
                <a:lnTo>
                  <a:pt x="4" y="52"/>
                </a:lnTo>
                <a:lnTo>
                  <a:pt x="4" y="56"/>
                </a:lnTo>
                <a:lnTo>
                  <a:pt x="4" y="59"/>
                </a:lnTo>
                <a:lnTo>
                  <a:pt x="6" y="61"/>
                </a:lnTo>
                <a:lnTo>
                  <a:pt x="6" y="63"/>
                </a:lnTo>
                <a:lnTo>
                  <a:pt x="6" y="64"/>
                </a:lnTo>
                <a:lnTo>
                  <a:pt x="6" y="66"/>
                </a:lnTo>
                <a:lnTo>
                  <a:pt x="6" y="68"/>
                </a:lnTo>
                <a:lnTo>
                  <a:pt x="6" y="72"/>
                </a:lnTo>
                <a:lnTo>
                  <a:pt x="7" y="75"/>
                </a:lnTo>
                <a:lnTo>
                  <a:pt x="7" y="81"/>
                </a:lnTo>
                <a:lnTo>
                  <a:pt x="9" y="88"/>
                </a:lnTo>
                <a:lnTo>
                  <a:pt x="10" y="98"/>
                </a:lnTo>
                <a:lnTo>
                  <a:pt x="11" y="110"/>
                </a:lnTo>
                <a:lnTo>
                  <a:pt x="13" y="124"/>
                </a:lnTo>
                <a:lnTo>
                  <a:pt x="16" y="140"/>
                </a:lnTo>
                <a:lnTo>
                  <a:pt x="19" y="158"/>
                </a:lnTo>
                <a:lnTo>
                  <a:pt x="22" y="177"/>
                </a:lnTo>
                <a:lnTo>
                  <a:pt x="26" y="199"/>
                </a:lnTo>
                <a:lnTo>
                  <a:pt x="31" y="219"/>
                </a:lnTo>
                <a:lnTo>
                  <a:pt x="34" y="243"/>
                </a:lnTo>
                <a:lnTo>
                  <a:pt x="40" y="265"/>
                </a:lnTo>
                <a:lnTo>
                  <a:pt x="43" y="290"/>
                </a:lnTo>
                <a:lnTo>
                  <a:pt x="49" y="312"/>
                </a:lnTo>
                <a:lnTo>
                  <a:pt x="52" y="337"/>
                </a:lnTo>
                <a:lnTo>
                  <a:pt x="58" y="359"/>
                </a:lnTo>
                <a:lnTo>
                  <a:pt x="62" y="381"/>
                </a:lnTo>
                <a:lnTo>
                  <a:pt x="68" y="403"/>
                </a:lnTo>
                <a:lnTo>
                  <a:pt x="72" y="426"/>
                </a:lnTo>
                <a:lnTo>
                  <a:pt x="78" y="449"/>
                </a:lnTo>
                <a:lnTo>
                  <a:pt x="84" y="473"/>
                </a:lnTo>
                <a:lnTo>
                  <a:pt x="90" y="497"/>
                </a:lnTo>
                <a:lnTo>
                  <a:pt x="96" y="523"/>
                </a:lnTo>
                <a:lnTo>
                  <a:pt x="103" y="547"/>
                </a:lnTo>
                <a:lnTo>
                  <a:pt x="110" y="572"/>
                </a:lnTo>
                <a:lnTo>
                  <a:pt x="118" y="595"/>
                </a:lnTo>
                <a:lnTo>
                  <a:pt x="123" y="620"/>
                </a:lnTo>
                <a:lnTo>
                  <a:pt x="130" y="643"/>
                </a:lnTo>
                <a:lnTo>
                  <a:pt x="136" y="665"/>
                </a:lnTo>
                <a:lnTo>
                  <a:pt x="143" y="685"/>
                </a:lnTo>
                <a:lnTo>
                  <a:pt x="149" y="704"/>
                </a:lnTo>
                <a:lnTo>
                  <a:pt x="155" y="720"/>
                </a:lnTo>
                <a:lnTo>
                  <a:pt x="159" y="735"/>
                </a:lnTo>
                <a:lnTo>
                  <a:pt x="165" y="746"/>
                </a:lnTo>
                <a:lnTo>
                  <a:pt x="169" y="758"/>
                </a:lnTo>
                <a:lnTo>
                  <a:pt x="174" y="771"/>
                </a:lnTo>
                <a:lnTo>
                  <a:pt x="180" y="786"/>
                </a:lnTo>
                <a:lnTo>
                  <a:pt x="187" y="801"/>
                </a:lnTo>
                <a:lnTo>
                  <a:pt x="193" y="819"/>
                </a:lnTo>
                <a:lnTo>
                  <a:pt x="200" y="836"/>
                </a:lnTo>
                <a:lnTo>
                  <a:pt x="208" y="854"/>
                </a:lnTo>
                <a:lnTo>
                  <a:pt x="216" y="871"/>
                </a:lnTo>
                <a:lnTo>
                  <a:pt x="224" y="891"/>
                </a:lnTo>
                <a:lnTo>
                  <a:pt x="231" y="909"/>
                </a:lnTo>
                <a:lnTo>
                  <a:pt x="238" y="928"/>
                </a:lnTo>
                <a:lnTo>
                  <a:pt x="247" y="945"/>
                </a:lnTo>
                <a:lnTo>
                  <a:pt x="253" y="963"/>
                </a:lnTo>
                <a:lnTo>
                  <a:pt x="260" y="980"/>
                </a:lnTo>
                <a:lnTo>
                  <a:pt x="266" y="996"/>
                </a:lnTo>
                <a:lnTo>
                  <a:pt x="274" y="1010"/>
                </a:lnTo>
                <a:lnTo>
                  <a:pt x="280" y="1027"/>
                </a:lnTo>
                <a:lnTo>
                  <a:pt x="286" y="1041"/>
                </a:lnTo>
                <a:lnTo>
                  <a:pt x="294" y="1058"/>
                </a:lnTo>
                <a:lnTo>
                  <a:pt x="302" y="1075"/>
                </a:lnTo>
                <a:lnTo>
                  <a:pt x="309" y="1093"/>
                </a:lnTo>
                <a:lnTo>
                  <a:pt x="316" y="1110"/>
                </a:lnTo>
                <a:lnTo>
                  <a:pt x="324" y="1128"/>
                </a:lnTo>
                <a:lnTo>
                  <a:pt x="333" y="1145"/>
                </a:lnTo>
                <a:lnTo>
                  <a:pt x="340" y="1163"/>
                </a:lnTo>
                <a:lnTo>
                  <a:pt x="347" y="1179"/>
                </a:lnTo>
                <a:lnTo>
                  <a:pt x="354" y="1196"/>
                </a:lnTo>
                <a:lnTo>
                  <a:pt x="362" y="1210"/>
                </a:lnTo>
                <a:lnTo>
                  <a:pt x="367" y="1224"/>
                </a:lnTo>
                <a:lnTo>
                  <a:pt x="373" y="1237"/>
                </a:lnTo>
                <a:lnTo>
                  <a:pt x="379" y="1249"/>
                </a:lnTo>
                <a:lnTo>
                  <a:pt x="384" y="1257"/>
                </a:lnTo>
                <a:lnTo>
                  <a:pt x="388" y="1268"/>
                </a:lnTo>
                <a:lnTo>
                  <a:pt x="394" y="1278"/>
                </a:lnTo>
                <a:lnTo>
                  <a:pt x="400" y="1291"/>
                </a:lnTo>
                <a:lnTo>
                  <a:pt x="407" y="1302"/>
                </a:lnTo>
                <a:lnTo>
                  <a:pt x="414" y="1315"/>
                </a:lnTo>
                <a:lnTo>
                  <a:pt x="422" y="1327"/>
                </a:lnTo>
                <a:lnTo>
                  <a:pt x="430" y="1341"/>
                </a:lnTo>
                <a:lnTo>
                  <a:pt x="439" y="1353"/>
                </a:lnTo>
                <a:lnTo>
                  <a:pt x="446" y="1368"/>
                </a:lnTo>
                <a:lnTo>
                  <a:pt x="456" y="1381"/>
                </a:lnTo>
                <a:lnTo>
                  <a:pt x="464" y="1394"/>
                </a:lnTo>
                <a:lnTo>
                  <a:pt x="474" y="1406"/>
                </a:lnTo>
                <a:lnTo>
                  <a:pt x="481" y="1419"/>
                </a:lnTo>
                <a:lnTo>
                  <a:pt x="490" y="1430"/>
                </a:lnTo>
                <a:lnTo>
                  <a:pt x="498" y="1440"/>
                </a:lnTo>
                <a:lnTo>
                  <a:pt x="507" y="1448"/>
                </a:lnTo>
                <a:lnTo>
                  <a:pt x="514" y="1459"/>
                </a:lnTo>
                <a:lnTo>
                  <a:pt x="522" y="1468"/>
                </a:lnTo>
                <a:lnTo>
                  <a:pt x="532" y="1479"/>
                </a:lnTo>
                <a:lnTo>
                  <a:pt x="542" y="1489"/>
                </a:lnTo>
                <a:lnTo>
                  <a:pt x="551" y="1501"/>
                </a:lnTo>
                <a:lnTo>
                  <a:pt x="562" y="1512"/>
                </a:lnTo>
                <a:lnTo>
                  <a:pt x="574" y="1523"/>
                </a:lnTo>
                <a:lnTo>
                  <a:pt x="585" y="1533"/>
                </a:lnTo>
                <a:lnTo>
                  <a:pt x="594" y="1545"/>
                </a:lnTo>
                <a:lnTo>
                  <a:pt x="606" y="1556"/>
                </a:lnTo>
                <a:lnTo>
                  <a:pt x="615" y="1566"/>
                </a:lnTo>
                <a:lnTo>
                  <a:pt x="627" y="1575"/>
                </a:lnTo>
                <a:lnTo>
                  <a:pt x="636" y="1585"/>
                </a:lnTo>
                <a:lnTo>
                  <a:pt x="646" y="1592"/>
                </a:lnTo>
                <a:lnTo>
                  <a:pt x="654" y="1599"/>
                </a:lnTo>
                <a:lnTo>
                  <a:pt x="663" y="1605"/>
                </a:lnTo>
                <a:lnTo>
                  <a:pt x="670" y="1612"/>
                </a:lnTo>
                <a:lnTo>
                  <a:pt x="677" y="1617"/>
                </a:lnTo>
                <a:lnTo>
                  <a:pt x="685" y="1623"/>
                </a:lnTo>
                <a:lnTo>
                  <a:pt x="693" y="1629"/>
                </a:lnTo>
                <a:lnTo>
                  <a:pt x="700" y="1635"/>
                </a:lnTo>
                <a:lnTo>
                  <a:pt x="708" y="1641"/>
                </a:lnTo>
                <a:lnTo>
                  <a:pt x="715" y="1646"/>
                </a:lnTo>
                <a:lnTo>
                  <a:pt x="724" y="1652"/>
                </a:lnTo>
                <a:lnTo>
                  <a:pt x="730" y="1657"/>
                </a:lnTo>
                <a:lnTo>
                  <a:pt x="738" y="1663"/>
                </a:lnTo>
                <a:lnTo>
                  <a:pt x="743" y="1668"/>
                </a:lnTo>
                <a:lnTo>
                  <a:pt x="750" y="1672"/>
                </a:lnTo>
                <a:lnTo>
                  <a:pt x="754" y="1675"/>
                </a:lnTo>
                <a:lnTo>
                  <a:pt x="760" y="1679"/>
                </a:lnTo>
                <a:lnTo>
                  <a:pt x="764" y="1681"/>
                </a:lnTo>
                <a:lnTo>
                  <a:pt x="768" y="1682"/>
                </a:lnTo>
                <a:lnTo>
                  <a:pt x="770" y="1685"/>
                </a:lnTo>
                <a:lnTo>
                  <a:pt x="773" y="1687"/>
                </a:lnTo>
                <a:lnTo>
                  <a:pt x="777" y="1690"/>
                </a:lnTo>
                <a:lnTo>
                  <a:pt x="782" y="1692"/>
                </a:lnTo>
                <a:lnTo>
                  <a:pt x="786" y="1695"/>
                </a:lnTo>
                <a:lnTo>
                  <a:pt x="792" y="1697"/>
                </a:lnTo>
                <a:lnTo>
                  <a:pt x="798" y="1701"/>
                </a:lnTo>
                <a:lnTo>
                  <a:pt x="804" y="1703"/>
                </a:lnTo>
                <a:lnTo>
                  <a:pt x="810" y="1707"/>
                </a:lnTo>
                <a:lnTo>
                  <a:pt x="816" y="1709"/>
                </a:lnTo>
                <a:lnTo>
                  <a:pt x="821" y="1713"/>
                </a:lnTo>
                <a:lnTo>
                  <a:pt x="829" y="1715"/>
                </a:lnTo>
                <a:lnTo>
                  <a:pt x="834" y="1719"/>
                </a:lnTo>
                <a:lnTo>
                  <a:pt x="841" y="1721"/>
                </a:lnTo>
                <a:lnTo>
                  <a:pt x="847" y="1722"/>
                </a:lnTo>
                <a:lnTo>
                  <a:pt x="854" y="1724"/>
                </a:lnTo>
                <a:lnTo>
                  <a:pt x="859" y="1727"/>
                </a:lnTo>
                <a:lnTo>
                  <a:pt x="866" y="1729"/>
                </a:lnTo>
                <a:lnTo>
                  <a:pt x="874" y="1732"/>
                </a:lnTo>
                <a:lnTo>
                  <a:pt x="883" y="1734"/>
                </a:lnTo>
                <a:lnTo>
                  <a:pt x="892" y="1738"/>
                </a:lnTo>
                <a:lnTo>
                  <a:pt x="902" y="1741"/>
                </a:lnTo>
                <a:lnTo>
                  <a:pt x="912" y="1745"/>
                </a:lnTo>
                <a:lnTo>
                  <a:pt x="924" y="1747"/>
                </a:lnTo>
                <a:lnTo>
                  <a:pt x="933" y="1751"/>
                </a:lnTo>
                <a:lnTo>
                  <a:pt x="944" y="1753"/>
                </a:lnTo>
                <a:lnTo>
                  <a:pt x="955" y="1757"/>
                </a:lnTo>
                <a:lnTo>
                  <a:pt x="966" y="1759"/>
                </a:lnTo>
                <a:lnTo>
                  <a:pt x="976" y="1763"/>
                </a:lnTo>
                <a:lnTo>
                  <a:pt x="987" y="1765"/>
                </a:lnTo>
                <a:lnTo>
                  <a:pt x="996" y="1767"/>
                </a:lnTo>
                <a:lnTo>
                  <a:pt x="1005" y="1769"/>
                </a:lnTo>
                <a:lnTo>
                  <a:pt x="1014" y="1773"/>
                </a:lnTo>
                <a:lnTo>
                  <a:pt x="1024" y="1775"/>
                </a:lnTo>
                <a:lnTo>
                  <a:pt x="1034" y="1777"/>
                </a:lnTo>
                <a:lnTo>
                  <a:pt x="1045" y="1779"/>
                </a:lnTo>
                <a:lnTo>
                  <a:pt x="1056" y="1782"/>
                </a:lnTo>
                <a:lnTo>
                  <a:pt x="1067" y="1784"/>
                </a:lnTo>
                <a:lnTo>
                  <a:pt x="1078" y="1786"/>
                </a:lnTo>
                <a:lnTo>
                  <a:pt x="1092" y="1788"/>
                </a:lnTo>
                <a:lnTo>
                  <a:pt x="1103" y="1791"/>
                </a:lnTo>
                <a:lnTo>
                  <a:pt x="1114" y="1793"/>
                </a:lnTo>
                <a:lnTo>
                  <a:pt x="1125" y="1795"/>
                </a:lnTo>
                <a:lnTo>
                  <a:pt x="1137" y="1797"/>
                </a:lnTo>
                <a:lnTo>
                  <a:pt x="1146" y="1799"/>
                </a:lnTo>
                <a:lnTo>
                  <a:pt x="1157" y="1800"/>
                </a:lnTo>
                <a:lnTo>
                  <a:pt x="1166" y="1801"/>
                </a:lnTo>
                <a:lnTo>
                  <a:pt x="1174" y="1801"/>
                </a:lnTo>
                <a:lnTo>
                  <a:pt x="1181" y="1803"/>
                </a:lnTo>
                <a:lnTo>
                  <a:pt x="1190" y="1803"/>
                </a:lnTo>
                <a:lnTo>
                  <a:pt x="1200" y="1805"/>
                </a:lnTo>
                <a:lnTo>
                  <a:pt x="1211" y="1805"/>
                </a:lnTo>
                <a:lnTo>
                  <a:pt x="1221" y="1807"/>
                </a:lnTo>
                <a:lnTo>
                  <a:pt x="1233" y="1807"/>
                </a:lnTo>
                <a:lnTo>
                  <a:pt x="1244" y="1809"/>
                </a:lnTo>
                <a:lnTo>
                  <a:pt x="1258" y="1809"/>
                </a:lnTo>
                <a:lnTo>
                  <a:pt x="1269" y="1811"/>
                </a:lnTo>
                <a:lnTo>
                  <a:pt x="1282" y="1811"/>
                </a:lnTo>
                <a:lnTo>
                  <a:pt x="1293" y="1813"/>
                </a:lnTo>
                <a:lnTo>
                  <a:pt x="1306" y="1813"/>
                </a:lnTo>
                <a:lnTo>
                  <a:pt x="1317" y="1815"/>
                </a:lnTo>
                <a:lnTo>
                  <a:pt x="1328" y="1815"/>
                </a:lnTo>
                <a:lnTo>
                  <a:pt x="1338" y="1815"/>
                </a:lnTo>
                <a:lnTo>
                  <a:pt x="1348" y="1815"/>
                </a:lnTo>
                <a:lnTo>
                  <a:pt x="1357" y="1817"/>
                </a:lnTo>
                <a:lnTo>
                  <a:pt x="1367" y="1817"/>
                </a:lnTo>
                <a:lnTo>
                  <a:pt x="1378" y="1817"/>
                </a:lnTo>
                <a:lnTo>
                  <a:pt x="1389" y="1817"/>
                </a:lnTo>
                <a:lnTo>
                  <a:pt x="1400" y="1819"/>
                </a:lnTo>
                <a:lnTo>
                  <a:pt x="1413" y="1819"/>
                </a:lnTo>
                <a:lnTo>
                  <a:pt x="1425" y="1819"/>
                </a:lnTo>
                <a:lnTo>
                  <a:pt x="1438" y="1819"/>
                </a:lnTo>
                <a:lnTo>
                  <a:pt x="1449" y="1820"/>
                </a:lnTo>
                <a:lnTo>
                  <a:pt x="1461" y="1820"/>
                </a:lnTo>
                <a:lnTo>
                  <a:pt x="1472" y="1820"/>
                </a:lnTo>
                <a:lnTo>
                  <a:pt x="1484" y="1820"/>
                </a:lnTo>
                <a:lnTo>
                  <a:pt x="1493" y="1820"/>
                </a:lnTo>
                <a:lnTo>
                  <a:pt x="1504" y="1820"/>
                </a:lnTo>
                <a:lnTo>
                  <a:pt x="1513" y="1820"/>
                </a:lnTo>
                <a:lnTo>
                  <a:pt x="1522" y="1820"/>
                </a:lnTo>
                <a:lnTo>
                  <a:pt x="1526" y="1820"/>
                </a:lnTo>
                <a:lnTo>
                  <a:pt x="1532" y="1820"/>
                </a:lnTo>
                <a:lnTo>
                  <a:pt x="1534" y="1820"/>
                </a:lnTo>
                <a:lnTo>
                  <a:pt x="1538" y="1820"/>
                </a:lnTo>
                <a:lnTo>
                  <a:pt x="1540" y="1820"/>
                </a:lnTo>
                <a:lnTo>
                  <a:pt x="1542" y="1820"/>
                </a:lnTo>
                <a:lnTo>
                  <a:pt x="1543" y="1820"/>
                </a:lnTo>
                <a:lnTo>
                  <a:pt x="1545" y="1820"/>
                </a:lnTo>
                <a:lnTo>
                  <a:pt x="1547" y="1820"/>
                </a:lnTo>
                <a:lnTo>
                  <a:pt x="1550" y="1820"/>
                </a:lnTo>
                <a:lnTo>
                  <a:pt x="1553" y="1820"/>
                </a:lnTo>
                <a:lnTo>
                  <a:pt x="1559" y="1820"/>
                </a:lnTo>
                <a:lnTo>
                  <a:pt x="1565" y="1820"/>
                </a:lnTo>
                <a:lnTo>
                  <a:pt x="1574" y="1820"/>
                </a:lnTo>
                <a:lnTo>
                  <a:pt x="1584" y="1820"/>
                </a:lnTo>
                <a:lnTo>
                  <a:pt x="1599" y="1820"/>
                </a:lnTo>
              </a:path>
            </a:pathLst>
          </a:custGeom>
          <a:noFill/>
          <a:ln w="44280">
            <a:solidFill>
              <a:srgbClr val="00c1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40200" y="4952880"/>
            <a:ext cx="169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*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91320" y="7086600"/>
            <a:ext cx="711000" cy="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886200" y="1599840"/>
            <a:ext cx="6477120" cy="2209680"/>
          </a:xfrm>
          <a:prstGeom prst="roundRect">
            <a:avLst>
              <a:gd name="adj" fmla="val 7505"/>
            </a:avLst>
          </a:prstGeom>
          <a:solidFill>
            <a:srgbClr val="ffff99"/>
          </a:solidFill>
          <a:ln w="31680">
            <a:solidFill>
              <a:srgbClr val="80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La “travesía” desd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x*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a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x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uede (imaginariamente) desdoblarse en dos par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90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Un efecto 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90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Un efecto su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905200" y="5181480"/>
            <a:ext cx="980280" cy="336240"/>
            <a:chOff x="2905200" y="5181480"/>
            <a:chExt cx="980280" cy="336240"/>
          </a:xfrm>
        </p:grpSpPr>
        <p:sp>
          <p:nvSpPr>
            <p:cNvPr id="282" name=""/>
            <p:cNvSpPr/>
            <p:nvPr/>
          </p:nvSpPr>
          <p:spPr>
            <a:xfrm>
              <a:off x="2969640" y="5181480"/>
              <a:ext cx="915840" cy="299520"/>
            </a:xfrm>
            <a:custGeom>
              <a:avLst/>
              <a:gdLst/>
              <a:ahLst/>
              <a:rect l="l" t="t" r="r" b="b"/>
              <a:pathLst>
                <a:path w="267" h="195">
                  <a:moveTo>
                    <a:pt x="266" y="0"/>
                  </a:moveTo>
                  <a:lnTo>
                    <a:pt x="266" y="0"/>
                  </a:lnTo>
                  <a:lnTo>
                    <a:pt x="214" y="92"/>
                  </a:lnTo>
                  <a:lnTo>
                    <a:pt x="202" y="76"/>
                  </a:lnTo>
                  <a:lnTo>
                    <a:pt x="29" y="194"/>
                  </a:lnTo>
                  <a:lnTo>
                    <a:pt x="0" y="158"/>
                  </a:lnTo>
                  <a:lnTo>
                    <a:pt x="175" y="39"/>
                  </a:lnTo>
                  <a:lnTo>
                    <a:pt x="164" y="25"/>
                  </a:lnTo>
                  <a:lnTo>
                    <a:pt x="266" y="0"/>
                  </a:lnTo>
                  <a:lnTo>
                    <a:pt x="266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05200" y="5298120"/>
              <a:ext cx="801720" cy="219600"/>
            </a:xfrm>
            <a:custGeom>
              <a:avLst/>
              <a:gdLst/>
              <a:ahLst/>
              <a:rect l="l" t="t" r="r" b="b"/>
              <a:pathLst>
                <a:path w="234" h="143">
                  <a:moveTo>
                    <a:pt x="233" y="16"/>
                  </a:moveTo>
                  <a:lnTo>
                    <a:pt x="233" y="16"/>
                  </a:lnTo>
                  <a:lnTo>
                    <a:pt x="208" y="38"/>
                  </a:lnTo>
                  <a:lnTo>
                    <a:pt x="197" y="25"/>
                  </a:lnTo>
                  <a:lnTo>
                    <a:pt x="26" y="142"/>
                  </a:lnTo>
                  <a:lnTo>
                    <a:pt x="0" y="107"/>
                  </a:lnTo>
                  <a:lnTo>
                    <a:pt x="19" y="82"/>
                  </a:lnTo>
                  <a:lnTo>
                    <a:pt x="48" y="118"/>
                  </a:lnTo>
                  <a:lnTo>
                    <a:pt x="221" y="0"/>
                  </a:lnTo>
                  <a:lnTo>
                    <a:pt x="233" y="16"/>
                  </a:lnTo>
                  <a:lnTo>
                    <a:pt x="233" y="16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993760" y="5479200"/>
              <a:ext cx="752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579840" y="5298120"/>
              <a:ext cx="82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50240" y="5219640"/>
              <a:ext cx="122760" cy="522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15"/>
                  </a:moveTo>
                  <a:lnTo>
                    <a:pt x="35" y="15"/>
                  </a:lnTo>
                  <a:lnTo>
                    <a:pt x="7" y="33"/>
                  </a:lnTo>
                  <a:lnTo>
                    <a:pt x="0" y="25"/>
                  </a:lnTo>
                  <a:lnTo>
                    <a:pt x="24" y="0"/>
                  </a:lnTo>
                  <a:lnTo>
                    <a:pt x="35" y="15"/>
                  </a:lnTo>
                  <a:lnTo>
                    <a:pt x="35" y="15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772400" y="731520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7800" y="4255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294920" y="22824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efecto de una caída en el preci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3880" y="3581280"/>
            <a:ext cx="3700440" cy="2479680"/>
          </a:xfrm>
          <a:prstGeom prst="line">
            <a:avLst/>
          </a:prstGeom>
          <a:ln w="475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71800" y="4952880"/>
            <a:ext cx="417600" cy="479520"/>
            <a:chOff x="2971800" y="4952880"/>
            <a:chExt cx="417600" cy="479520"/>
          </a:xfrm>
        </p:grpSpPr>
        <p:sp>
          <p:nvSpPr>
            <p:cNvPr id="292" name=""/>
            <p:cNvSpPr/>
            <p:nvPr/>
          </p:nvSpPr>
          <p:spPr>
            <a:xfrm>
              <a:off x="2986200" y="4952880"/>
              <a:ext cx="403200" cy="424080"/>
            </a:xfrm>
            <a:custGeom>
              <a:avLst/>
              <a:gdLst/>
              <a:ahLst/>
              <a:rect l="l" t="t" r="r" b="b"/>
              <a:pathLst>
                <a:path w="254" h="267">
                  <a:moveTo>
                    <a:pt x="246" y="0"/>
                  </a:moveTo>
                  <a:lnTo>
                    <a:pt x="246" y="0"/>
                  </a:lnTo>
                  <a:lnTo>
                    <a:pt x="253" y="144"/>
                  </a:lnTo>
                  <a:lnTo>
                    <a:pt x="223" y="115"/>
                  </a:lnTo>
                  <a:lnTo>
                    <a:pt x="75" y="266"/>
                  </a:lnTo>
                  <a:lnTo>
                    <a:pt x="0" y="193"/>
                  </a:lnTo>
                  <a:lnTo>
                    <a:pt x="148" y="41"/>
                  </a:lnTo>
                  <a:lnTo>
                    <a:pt x="119" y="11"/>
                  </a:lnTo>
                  <a:lnTo>
                    <a:pt x="246" y="0"/>
                  </a:lnTo>
                  <a:lnTo>
                    <a:pt x="246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71800" y="5135400"/>
              <a:ext cx="417600" cy="297000"/>
            </a:xfrm>
            <a:custGeom>
              <a:avLst/>
              <a:gdLst/>
              <a:ahLst/>
              <a:rect l="l" t="t" r="r" b="b"/>
              <a:pathLst>
                <a:path w="263" h="187">
                  <a:moveTo>
                    <a:pt x="262" y="29"/>
                  </a:moveTo>
                  <a:lnTo>
                    <a:pt x="262" y="29"/>
                  </a:lnTo>
                  <a:lnTo>
                    <a:pt x="248" y="63"/>
                  </a:lnTo>
                  <a:lnTo>
                    <a:pt x="220" y="36"/>
                  </a:lnTo>
                  <a:lnTo>
                    <a:pt x="73" y="186"/>
                  </a:lnTo>
                  <a:lnTo>
                    <a:pt x="0" y="112"/>
                  </a:lnTo>
                  <a:lnTo>
                    <a:pt x="9" y="78"/>
                  </a:lnTo>
                  <a:lnTo>
                    <a:pt x="84" y="151"/>
                  </a:lnTo>
                  <a:lnTo>
                    <a:pt x="232" y="0"/>
                  </a:lnTo>
                  <a:lnTo>
                    <a:pt x="262" y="29"/>
                  </a:lnTo>
                  <a:lnTo>
                    <a:pt x="262" y="29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087720" y="5374800"/>
              <a:ext cx="17640" cy="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321000" y="5135400"/>
              <a:ext cx="1908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57560" y="4970520"/>
              <a:ext cx="65160" cy="8712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40" y="30"/>
                  </a:moveTo>
                  <a:lnTo>
                    <a:pt x="40" y="30"/>
                  </a:lnTo>
                  <a:lnTo>
                    <a:pt x="17" y="54"/>
                  </a:lnTo>
                  <a:lnTo>
                    <a:pt x="0" y="37"/>
                  </a:lnTo>
                  <a:lnTo>
                    <a:pt x="11" y="0"/>
                  </a:lnTo>
                  <a:lnTo>
                    <a:pt x="40" y="30"/>
                  </a:lnTo>
                  <a:lnTo>
                    <a:pt x="40" y="3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394440" y="3897360"/>
            <a:ext cx="1953000" cy="460080"/>
          </a:xfrm>
          <a:prstGeom prst="wedgeRectCallout">
            <a:avLst>
              <a:gd name="adj1" fmla="val -46851"/>
              <a:gd name="adj2" fmla="val 148666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fec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581280" y="4724280"/>
            <a:ext cx="395280" cy="318960"/>
            <a:chOff x="3581280" y="4724280"/>
            <a:chExt cx="395280" cy="318960"/>
          </a:xfrm>
        </p:grpSpPr>
        <p:sp>
          <p:nvSpPr>
            <p:cNvPr id="299" name=""/>
            <p:cNvSpPr/>
            <p:nvPr/>
          </p:nvSpPr>
          <p:spPr>
            <a:xfrm>
              <a:off x="3625560" y="4730760"/>
              <a:ext cx="351000" cy="312480"/>
            </a:xfrm>
            <a:custGeom>
              <a:avLst/>
              <a:gdLst/>
              <a:ahLst/>
              <a:rect l="l" t="t" r="r" b="b"/>
              <a:pathLst>
                <a:path w="221" h="197">
                  <a:moveTo>
                    <a:pt x="220" y="177"/>
                  </a:moveTo>
                  <a:lnTo>
                    <a:pt x="220" y="177"/>
                  </a:lnTo>
                  <a:lnTo>
                    <a:pt x="111" y="196"/>
                  </a:lnTo>
                  <a:lnTo>
                    <a:pt x="131" y="170"/>
                  </a:lnTo>
                  <a:lnTo>
                    <a:pt x="0" y="67"/>
                  </a:lnTo>
                  <a:lnTo>
                    <a:pt x="49" y="0"/>
                  </a:lnTo>
                  <a:lnTo>
                    <a:pt x="179" y="102"/>
                  </a:lnTo>
                  <a:lnTo>
                    <a:pt x="200" y="77"/>
                  </a:lnTo>
                  <a:lnTo>
                    <a:pt x="220" y="177"/>
                  </a:lnTo>
                  <a:lnTo>
                    <a:pt x="220" y="17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81280" y="4724280"/>
              <a:ext cx="253800" cy="318960"/>
            </a:xfrm>
            <a:custGeom>
              <a:avLst/>
              <a:gdLst/>
              <a:ahLst/>
              <a:rect l="l" t="t" r="r" b="b"/>
              <a:pathLst>
                <a:path w="160" h="201">
                  <a:moveTo>
                    <a:pt x="139" y="200"/>
                  </a:moveTo>
                  <a:lnTo>
                    <a:pt x="139" y="200"/>
                  </a:lnTo>
                  <a:lnTo>
                    <a:pt x="112" y="193"/>
                  </a:lnTo>
                  <a:lnTo>
                    <a:pt x="129" y="168"/>
                  </a:lnTo>
                  <a:lnTo>
                    <a:pt x="0" y="66"/>
                  </a:lnTo>
                  <a:lnTo>
                    <a:pt x="49" y="0"/>
                  </a:lnTo>
                  <a:lnTo>
                    <a:pt x="77" y="4"/>
                  </a:lnTo>
                  <a:lnTo>
                    <a:pt x="28" y="71"/>
                  </a:lnTo>
                  <a:lnTo>
                    <a:pt x="159" y="174"/>
                  </a:lnTo>
                  <a:lnTo>
                    <a:pt x="139" y="200"/>
                  </a:lnTo>
                  <a:lnTo>
                    <a:pt x="139" y="20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81280" y="4829040"/>
              <a:ext cx="442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3785400" y="4991040"/>
              <a:ext cx="4788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77920" y="4844880"/>
              <a:ext cx="66600" cy="4932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20" y="30"/>
                  </a:moveTo>
                  <a:lnTo>
                    <a:pt x="20" y="30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41" y="5"/>
                  </a:lnTo>
                  <a:lnTo>
                    <a:pt x="20" y="30"/>
                  </a:lnTo>
                  <a:lnTo>
                    <a:pt x="20" y="3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178880" y="3897360"/>
            <a:ext cx="2378520" cy="460080"/>
          </a:xfrm>
          <a:prstGeom prst="wedgeRectCallout">
            <a:avLst>
              <a:gd name="adj1" fmla="val -64541"/>
              <a:gd name="adj2" fmla="val 15077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fecto su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-44280" y="2971800"/>
            <a:ext cx="4775040" cy="4282560"/>
            <a:chOff x="-44280" y="2971800"/>
            <a:chExt cx="4775040" cy="4282560"/>
          </a:xfrm>
        </p:grpSpPr>
        <p:sp>
          <p:nvSpPr>
            <p:cNvPr id="306" name=""/>
            <p:cNvSpPr/>
            <p:nvPr/>
          </p:nvSpPr>
          <p:spPr>
            <a:xfrm>
              <a:off x="2227320" y="2971800"/>
              <a:ext cx="1285920" cy="1616040"/>
            </a:xfrm>
            <a:custGeom>
              <a:avLst/>
              <a:gdLst/>
              <a:ahLst/>
              <a:rect l="l" t="t" r="r" b="b"/>
              <a:pathLst>
                <a:path w="810" h="1018">
                  <a:moveTo>
                    <a:pt x="78" y="1017"/>
                  </a:moveTo>
                  <a:lnTo>
                    <a:pt x="37" y="912"/>
                  </a:lnTo>
                  <a:lnTo>
                    <a:pt x="12" y="808"/>
                  </a:lnTo>
                  <a:lnTo>
                    <a:pt x="0" y="707"/>
                  </a:lnTo>
                  <a:lnTo>
                    <a:pt x="3" y="609"/>
                  </a:lnTo>
                  <a:lnTo>
                    <a:pt x="17" y="515"/>
                  </a:lnTo>
                  <a:lnTo>
                    <a:pt x="43" y="426"/>
                  </a:lnTo>
                  <a:lnTo>
                    <a:pt x="81" y="343"/>
                  </a:lnTo>
                  <a:lnTo>
                    <a:pt x="130" y="266"/>
                  </a:lnTo>
                  <a:lnTo>
                    <a:pt x="186" y="199"/>
                  </a:lnTo>
                  <a:lnTo>
                    <a:pt x="254" y="138"/>
                  </a:lnTo>
                  <a:lnTo>
                    <a:pt x="328" y="88"/>
                  </a:lnTo>
                  <a:lnTo>
                    <a:pt x="412" y="47"/>
                  </a:lnTo>
                  <a:lnTo>
                    <a:pt x="502" y="19"/>
                  </a:lnTo>
                  <a:lnTo>
                    <a:pt x="599" y="3"/>
                  </a:lnTo>
                  <a:lnTo>
                    <a:pt x="701" y="0"/>
                  </a:lnTo>
                  <a:lnTo>
                    <a:pt x="809" y="10"/>
                  </a:lnTo>
                  <a:lnTo>
                    <a:pt x="708" y="14"/>
                  </a:lnTo>
                  <a:lnTo>
                    <a:pt x="612" y="28"/>
                  </a:lnTo>
                  <a:lnTo>
                    <a:pt x="520" y="55"/>
                  </a:lnTo>
                  <a:lnTo>
                    <a:pt x="435" y="89"/>
                  </a:lnTo>
                  <a:lnTo>
                    <a:pt x="355" y="135"/>
                  </a:lnTo>
                  <a:lnTo>
                    <a:pt x="282" y="189"/>
                  </a:lnTo>
                  <a:lnTo>
                    <a:pt x="217" y="251"/>
                  </a:lnTo>
                  <a:lnTo>
                    <a:pt x="161" y="319"/>
                  </a:lnTo>
                  <a:lnTo>
                    <a:pt x="111" y="394"/>
                  </a:lnTo>
                  <a:lnTo>
                    <a:pt x="73" y="473"/>
                  </a:lnTo>
                  <a:lnTo>
                    <a:pt x="44" y="557"/>
                  </a:lnTo>
                  <a:lnTo>
                    <a:pt x="27" y="645"/>
                  </a:lnTo>
                  <a:lnTo>
                    <a:pt x="20" y="737"/>
                  </a:lnTo>
                  <a:lnTo>
                    <a:pt x="26" y="829"/>
                  </a:lnTo>
                  <a:lnTo>
                    <a:pt x="44" y="923"/>
                  </a:lnTo>
                  <a:lnTo>
                    <a:pt x="78" y="1015"/>
                  </a:lnTo>
                  <a:lnTo>
                    <a:pt x="78" y="1017"/>
                  </a:lnTo>
                  <a:lnTo>
                    <a:pt x="78" y="1017"/>
                  </a:lnTo>
                  <a:lnTo>
                    <a:pt x="78" y="1017"/>
                  </a:lnTo>
                  <a:lnTo>
                    <a:pt x="78" y="1017"/>
                  </a:lnTo>
                  <a:lnTo>
                    <a:pt x="78" y="1017"/>
                  </a:lnTo>
                  <a:lnTo>
                    <a:pt x="78" y="1017"/>
                  </a:lnTo>
                  <a:lnTo>
                    <a:pt x="78" y="1017"/>
                  </a:lnTo>
                  <a:lnTo>
                    <a:pt x="78" y="1017"/>
                  </a:lnTo>
                  <a:lnTo>
                    <a:pt x="78" y="1017"/>
                  </a:lnTo>
                  <a:lnTo>
                    <a:pt x="78" y="1017"/>
                  </a:lnTo>
                  <a:lnTo>
                    <a:pt x="78" y="1017"/>
                  </a:lnTo>
                  <a:lnTo>
                    <a:pt x="78" y="1017"/>
                  </a:lnTo>
                  <a:lnTo>
                    <a:pt x="78" y="1017"/>
                  </a:lnTo>
                  <a:lnTo>
                    <a:pt x="78" y="1017"/>
                  </a:lnTo>
                  <a:lnTo>
                    <a:pt x="78" y="1017"/>
                  </a:lnTo>
                  <a:lnTo>
                    <a:pt x="78" y="1017"/>
                  </a:lnTo>
                  <a:lnTo>
                    <a:pt x="78" y="1017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a2a2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11640" y="3046320"/>
              <a:ext cx="2319120" cy="2358720"/>
            </a:xfrm>
            <a:custGeom>
              <a:avLst/>
              <a:gdLst/>
              <a:ahLst/>
              <a:rect l="l" t="t" r="r" b="b"/>
              <a:pathLst>
                <a:path w="1461" h="1486">
                  <a:moveTo>
                    <a:pt x="0" y="1048"/>
                  </a:moveTo>
                  <a:lnTo>
                    <a:pt x="50" y="1139"/>
                  </a:lnTo>
                  <a:lnTo>
                    <a:pt x="111" y="1219"/>
                  </a:lnTo>
                  <a:lnTo>
                    <a:pt x="181" y="1289"/>
                  </a:lnTo>
                  <a:lnTo>
                    <a:pt x="260" y="1348"/>
                  </a:lnTo>
                  <a:lnTo>
                    <a:pt x="345" y="1397"/>
                  </a:lnTo>
                  <a:lnTo>
                    <a:pt x="436" y="1434"/>
                  </a:lnTo>
                  <a:lnTo>
                    <a:pt x="530" y="1463"/>
                  </a:lnTo>
                  <a:lnTo>
                    <a:pt x="627" y="1478"/>
                  </a:lnTo>
                  <a:lnTo>
                    <a:pt x="723" y="1485"/>
                  </a:lnTo>
                  <a:lnTo>
                    <a:pt x="820" y="1480"/>
                  </a:lnTo>
                  <a:lnTo>
                    <a:pt x="914" y="1463"/>
                  </a:lnTo>
                  <a:lnTo>
                    <a:pt x="1006" y="1435"/>
                  </a:lnTo>
                  <a:lnTo>
                    <a:pt x="1092" y="1397"/>
                  </a:lnTo>
                  <a:lnTo>
                    <a:pt x="1173" y="1346"/>
                  </a:lnTo>
                  <a:lnTo>
                    <a:pt x="1245" y="1285"/>
                  </a:lnTo>
                  <a:lnTo>
                    <a:pt x="1309" y="1210"/>
                  </a:lnTo>
                  <a:lnTo>
                    <a:pt x="1362" y="1126"/>
                  </a:lnTo>
                  <a:lnTo>
                    <a:pt x="1404" y="1038"/>
                  </a:lnTo>
                  <a:lnTo>
                    <a:pt x="1434" y="947"/>
                  </a:lnTo>
                  <a:lnTo>
                    <a:pt x="1453" y="855"/>
                  </a:lnTo>
                  <a:lnTo>
                    <a:pt x="1460" y="763"/>
                  </a:lnTo>
                  <a:lnTo>
                    <a:pt x="1457" y="671"/>
                  </a:lnTo>
                  <a:lnTo>
                    <a:pt x="1442" y="582"/>
                  </a:lnTo>
                  <a:lnTo>
                    <a:pt x="1418" y="494"/>
                  </a:lnTo>
                  <a:lnTo>
                    <a:pt x="1382" y="411"/>
                  </a:lnTo>
                  <a:lnTo>
                    <a:pt x="1338" y="331"/>
                  </a:lnTo>
                  <a:lnTo>
                    <a:pt x="1283" y="258"/>
                  </a:lnTo>
                  <a:lnTo>
                    <a:pt x="1220" y="190"/>
                  </a:lnTo>
                  <a:lnTo>
                    <a:pt x="1147" y="130"/>
                  </a:lnTo>
                  <a:lnTo>
                    <a:pt x="1067" y="77"/>
                  </a:lnTo>
                  <a:lnTo>
                    <a:pt x="977" y="34"/>
                  </a:lnTo>
                  <a:lnTo>
                    <a:pt x="881" y="0"/>
                  </a:lnTo>
                  <a:lnTo>
                    <a:pt x="966" y="39"/>
                  </a:lnTo>
                  <a:lnTo>
                    <a:pt x="1045" y="84"/>
                  </a:lnTo>
                  <a:lnTo>
                    <a:pt x="1114" y="138"/>
                  </a:lnTo>
                  <a:lnTo>
                    <a:pt x="1177" y="198"/>
                  </a:lnTo>
                  <a:lnTo>
                    <a:pt x="1230" y="264"/>
                  </a:lnTo>
                  <a:lnTo>
                    <a:pt x="1275" y="335"/>
                  </a:lnTo>
                  <a:lnTo>
                    <a:pt x="1311" y="410"/>
                  </a:lnTo>
                  <a:lnTo>
                    <a:pt x="1338" y="488"/>
                  </a:lnTo>
                  <a:lnTo>
                    <a:pt x="1354" y="570"/>
                  </a:lnTo>
                  <a:lnTo>
                    <a:pt x="1361" y="653"/>
                  </a:lnTo>
                  <a:lnTo>
                    <a:pt x="1358" y="738"/>
                  </a:lnTo>
                  <a:lnTo>
                    <a:pt x="1346" y="820"/>
                  </a:lnTo>
                  <a:lnTo>
                    <a:pt x="1321" y="904"/>
                  </a:lnTo>
                  <a:lnTo>
                    <a:pt x="1288" y="985"/>
                  </a:lnTo>
                  <a:lnTo>
                    <a:pt x="1243" y="1063"/>
                  </a:lnTo>
                  <a:lnTo>
                    <a:pt x="1187" y="1138"/>
                  </a:lnTo>
                  <a:lnTo>
                    <a:pt x="1121" y="1207"/>
                  </a:lnTo>
                  <a:lnTo>
                    <a:pt x="1051" y="1265"/>
                  </a:lnTo>
                  <a:lnTo>
                    <a:pt x="976" y="1314"/>
                  </a:lnTo>
                  <a:lnTo>
                    <a:pt x="898" y="1352"/>
                  </a:lnTo>
                  <a:lnTo>
                    <a:pt x="816" y="1381"/>
                  </a:lnTo>
                  <a:lnTo>
                    <a:pt x="733" y="1399"/>
                  </a:lnTo>
                  <a:lnTo>
                    <a:pt x="649" y="1408"/>
                  </a:lnTo>
                  <a:lnTo>
                    <a:pt x="566" y="1406"/>
                  </a:lnTo>
                  <a:lnTo>
                    <a:pt x="482" y="1396"/>
                  </a:lnTo>
                  <a:lnTo>
                    <a:pt x="400" y="1375"/>
                  </a:lnTo>
                  <a:lnTo>
                    <a:pt x="322" y="1345"/>
                  </a:lnTo>
                  <a:lnTo>
                    <a:pt x="247" y="1304"/>
                  </a:lnTo>
                  <a:lnTo>
                    <a:pt x="176" y="1255"/>
                  </a:lnTo>
                  <a:lnTo>
                    <a:pt x="110" y="1196"/>
                  </a:lnTo>
                  <a:lnTo>
                    <a:pt x="51" y="1128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48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a2a2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90880" y="4541760"/>
              <a:ext cx="1655640" cy="788400"/>
            </a:xfrm>
            <a:custGeom>
              <a:avLst/>
              <a:gdLst/>
              <a:ahLst/>
              <a:rect l="l" t="t" r="r" b="b"/>
              <a:pathLst>
                <a:path w="1043" h="497">
                  <a:moveTo>
                    <a:pt x="912" y="148"/>
                  </a:moveTo>
                  <a:lnTo>
                    <a:pt x="910" y="162"/>
                  </a:lnTo>
                  <a:lnTo>
                    <a:pt x="905" y="176"/>
                  </a:lnTo>
                  <a:lnTo>
                    <a:pt x="897" y="192"/>
                  </a:lnTo>
                  <a:lnTo>
                    <a:pt x="885" y="209"/>
                  </a:lnTo>
                  <a:lnTo>
                    <a:pt x="869" y="228"/>
                  </a:lnTo>
                  <a:lnTo>
                    <a:pt x="852" y="247"/>
                  </a:lnTo>
                  <a:lnTo>
                    <a:pt x="831" y="267"/>
                  </a:lnTo>
                  <a:lnTo>
                    <a:pt x="810" y="285"/>
                  </a:lnTo>
                  <a:lnTo>
                    <a:pt x="786" y="305"/>
                  </a:lnTo>
                  <a:lnTo>
                    <a:pt x="761" y="324"/>
                  </a:lnTo>
                  <a:lnTo>
                    <a:pt x="735" y="342"/>
                  </a:lnTo>
                  <a:lnTo>
                    <a:pt x="709" y="358"/>
                  </a:lnTo>
                  <a:lnTo>
                    <a:pt x="681" y="373"/>
                  </a:lnTo>
                  <a:lnTo>
                    <a:pt x="655" y="385"/>
                  </a:lnTo>
                  <a:lnTo>
                    <a:pt x="629" y="396"/>
                  </a:lnTo>
                  <a:lnTo>
                    <a:pt x="603" y="403"/>
                  </a:lnTo>
                  <a:lnTo>
                    <a:pt x="566" y="419"/>
                  </a:lnTo>
                  <a:lnTo>
                    <a:pt x="529" y="433"/>
                  </a:lnTo>
                  <a:lnTo>
                    <a:pt x="492" y="444"/>
                  </a:lnTo>
                  <a:lnTo>
                    <a:pt x="456" y="454"/>
                  </a:lnTo>
                  <a:lnTo>
                    <a:pt x="417" y="462"/>
                  </a:lnTo>
                  <a:lnTo>
                    <a:pt x="380" y="469"/>
                  </a:lnTo>
                  <a:lnTo>
                    <a:pt x="342" y="474"/>
                  </a:lnTo>
                  <a:lnTo>
                    <a:pt x="305" y="476"/>
                  </a:lnTo>
                  <a:lnTo>
                    <a:pt x="265" y="479"/>
                  </a:lnTo>
                  <a:lnTo>
                    <a:pt x="228" y="478"/>
                  </a:lnTo>
                  <a:lnTo>
                    <a:pt x="189" y="477"/>
                  </a:lnTo>
                  <a:lnTo>
                    <a:pt x="151" y="472"/>
                  </a:lnTo>
                  <a:lnTo>
                    <a:pt x="113" y="468"/>
                  </a:lnTo>
                  <a:lnTo>
                    <a:pt x="75" y="461"/>
                  </a:lnTo>
                  <a:lnTo>
                    <a:pt x="38" y="453"/>
                  </a:lnTo>
                  <a:lnTo>
                    <a:pt x="0" y="442"/>
                  </a:lnTo>
                  <a:lnTo>
                    <a:pt x="34" y="455"/>
                  </a:lnTo>
                  <a:lnTo>
                    <a:pt x="68" y="466"/>
                  </a:lnTo>
                  <a:lnTo>
                    <a:pt x="103" y="475"/>
                  </a:lnTo>
                  <a:lnTo>
                    <a:pt x="139" y="482"/>
                  </a:lnTo>
                  <a:lnTo>
                    <a:pt x="175" y="488"/>
                  </a:lnTo>
                  <a:lnTo>
                    <a:pt x="211" y="492"/>
                  </a:lnTo>
                  <a:lnTo>
                    <a:pt x="246" y="495"/>
                  </a:lnTo>
                  <a:lnTo>
                    <a:pt x="284" y="495"/>
                  </a:lnTo>
                  <a:lnTo>
                    <a:pt x="319" y="496"/>
                  </a:lnTo>
                  <a:lnTo>
                    <a:pt x="356" y="493"/>
                  </a:lnTo>
                  <a:lnTo>
                    <a:pt x="392" y="490"/>
                  </a:lnTo>
                  <a:lnTo>
                    <a:pt x="429" y="484"/>
                  </a:lnTo>
                  <a:lnTo>
                    <a:pt x="464" y="477"/>
                  </a:lnTo>
                  <a:lnTo>
                    <a:pt x="499" y="468"/>
                  </a:lnTo>
                  <a:lnTo>
                    <a:pt x="534" y="458"/>
                  </a:lnTo>
                  <a:lnTo>
                    <a:pt x="569" y="445"/>
                  </a:lnTo>
                  <a:lnTo>
                    <a:pt x="613" y="438"/>
                  </a:lnTo>
                  <a:lnTo>
                    <a:pt x="655" y="426"/>
                  </a:lnTo>
                  <a:lnTo>
                    <a:pt x="695" y="412"/>
                  </a:lnTo>
                  <a:lnTo>
                    <a:pt x="735" y="393"/>
                  </a:lnTo>
                  <a:lnTo>
                    <a:pt x="772" y="372"/>
                  </a:lnTo>
                  <a:lnTo>
                    <a:pt x="809" y="348"/>
                  </a:lnTo>
                  <a:lnTo>
                    <a:pt x="842" y="321"/>
                  </a:lnTo>
                  <a:lnTo>
                    <a:pt x="875" y="292"/>
                  </a:lnTo>
                  <a:lnTo>
                    <a:pt x="904" y="261"/>
                  </a:lnTo>
                  <a:lnTo>
                    <a:pt x="931" y="228"/>
                  </a:lnTo>
                  <a:lnTo>
                    <a:pt x="956" y="194"/>
                  </a:lnTo>
                  <a:lnTo>
                    <a:pt x="979" y="157"/>
                  </a:lnTo>
                  <a:lnTo>
                    <a:pt x="999" y="120"/>
                  </a:lnTo>
                  <a:lnTo>
                    <a:pt x="1016" y="81"/>
                  </a:lnTo>
                  <a:lnTo>
                    <a:pt x="1030" y="41"/>
                  </a:lnTo>
                  <a:lnTo>
                    <a:pt x="1042" y="0"/>
                  </a:lnTo>
                  <a:lnTo>
                    <a:pt x="1041" y="1"/>
                  </a:lnTo>
                  <a:lnTo>
                    <a:pt x="1040" y="3"/>
                  </a:lnTo>
                  <a:lnTo>
                    <a:pt x="1038" y="8"/>
                  </a:lnTo>
                  <a:lnTo>
                    <a:pt x="1037" y="13"/>
                  </a:lnTo>
                  <a:lnTo>
                    <a:pt x="1033" y="20"/>
                  </a:lnTo>
                  <a:lnTo>
                    <a:pt x="1031" y="26"/>
                  </a:lnTo>
                  <a:lnTo>
                    <a:pt x="1027" y="34"/>
                  </a:lnTo>
                  <a:lnTo>
                    <a:pt x="1024" y="42"/>
                  </a:lnTo>
                  <a:lnTo>
                    <a:pt x="1019" y="51"/>
                  </a:lnTo>
                  <a:lnTo>
                    <a:pt x="1015" y="60"/>
                  </a:lnTo>
                  <a:lnTo>
                    <a:pt x="1009" y="70"/>
                  </a:lnTo>
                  <a:lnTo>
                    <a:pt x="1006" y="77"/>
                  </a:lnTo>
                  <a:lnTo>
                    <a:pt x="1000" y="86"/>
                  </a:lnTo>
                  <a:lnTo>
                    <a:pt x="994" y="93"/>
                  </a:lnTo>
                  <a:lnTo>
                    <a:pt x="989" y="101"/>
                  </a:lnTo>
                  <a:lnTo>
                    <a:pt x="985" y="106"/>
                  </a:lnTo>
                  <a:lnTo>
                    <a:pt x="977" y="112"/>
                  </a:lnTo>
                  <a:lnTo>
                    <a:pt x="972" y="118"/>
                  </a:lnTo>
                  <a:lnTo>
                    <a:pt x="965" y="122"/>
                  </a:lnTo>
                  <a:lnTo>
                    <a:pt x="959" y="126"/>
                  </a:lnTo>
                  <a:lnTo>
                    <a:pt x="951" y="130"/>
                  </a:lnTo>
                  <a:lnTo>
                    <a:pt x="946" y="134"/>
                  </a:lnTo>
                  <a:lnTo>
                    <a:pt x="940" y="137"/>
                  </a:lnTo>
                  <a:lnTo>
                    <a:pt x="935" y="139"/>
                  </a:lnTo>
                  <a:lnTo>
                    <a:pt x="929" y="141"/>
                  </a:lnTo>
                  <a:lnTo>
                    <a:pt x="925" y="143"/>
                  </a:lnTo>
                  <a:lnTo>
                    <a:pt x="921" y="145"/>
                  </a:lnTo>
                  <a:lnTo>
                    <a:pt x="918" y="146"/>
                  </a:lnTo>
                  <a:lnTo>
                    <a:pt x="915" y="148"/>
                  </a:lnTo>
                  <a:lnTo>
                    <a:pt x="913" y="148"/>
                  </a:lnTo>
                  <a:lnTo>
                    <a:pt x="912" y="148"/>
                  </a:lnTo>
                  <a:lnTo>
                    <a:pt x="912" y="148"/>
                  </a:lnTo>
                  <a:lnTo>
                    <a:pt x="912" y="1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55760" y="2989080"/>
              <a:ext cx="2318040" cy="2287080"/>
            </a:xfrm>
            <a:custGeom>
              <a:avLst/>
              <a:gdLst/>
              <a:ahLst/>
              <a:rect l="l" t="t" r="r" b="b"/>
              <a:pathLst>
                <a:path w="1460" h="1441">
                  <a:moveTo>
                    <a:pt x="0" y="726"/>
                  </a:moveTo>
                  <a:lnTo>
                    <a:pt x="28" y="556"/>
                  </a:lnTo>
                  <a:lnTo>
                    <a:pt x="83" y="408"/>
                  </a:lnTo>
                  <a:lnTo>
                    <a:pt x="160" y="284"/>
                  </a:lnTo>
                  <a:lnTo>
                    <a:pt x="256" y="181"/>
                  </a:lnTo>
                  <a:lnTo>
                    <a:pt x="366" y="102"/>
                  </a:lnTo>
                  <a:lnTo>
                    <a:pt x="488" y="45"/>
                  </a:lnTo>
                  <a:lnTo>
                    <a:pt x="616" y="12"/>
                  </a:lnTo>
                  <a:lnTo>
                    <a:pt x="749" y="0"/>
                  </a:lnTo>
                  <a:lnTo>
                    <a:pt x="880" y="13"/>
                  </a:lnTo>
                  <a:lnTo>
                    <a:pt x="1006" y="46"/>
                  </a:lnTo>
                  <a:lnTo>
                    <a:pt x="1124" y="104"/>
                  </a:lnTo>
                  <a:lnTo>
                    <a:pt x="1232" y="183"/>
                  </a:lnTo>
                  <a:lnTo>
                    <a:pt x="1321" y="286"/>
                  </a:lnTo>
                  <a:lnTo>
                    <a:pt x="1392" y="410"/>
                  </a:lnTo>
                  <a:lnTo>
                    <a:pt x="1439" y="558"/>
                  </a:lnTo>
                  <a:lnTo>
                    <a:pt x="1459" y="726"/>
                  </a:lnTo>
                  <a:lnTo>
                    <a:pt x="1429" y="894"/>
                  </a:lnTo>
                  <a:lnTo>
                    <a:pt x="1376" y="1038"/>
                  </a:lnTo>
                  <a:lnTo>
                    <a:pt x="1300" y="1162"/>
                  </a:lnTo>
                  <a:lnTo>
                    <a:pt x="1205" y="1261"/>
                  </a:lnTo>
                  <a:lnTo>
                    <a:pt x="1095" y="1340"/>
                  </a:lnTo>
                  <a:lnTo>
                    <a:pt x="975" y="1395"/>
                  </a:lnTo>
                  <a:lnTo>
                    <a:pt x="848" y="1429"/>
                  </a:lnTo>
                  <a:lnTo>
                    <a:pt x="717" y="1440"/>
                  </a:lnTo>
                  <a:lnTo>
                    <a:pt x="587" y="1431"/>
                  </a:lnTo>
                  <a:lnTo>
                    <a:pt x="460" y="1397"/>
                  </a:lnTo>
                  <a:lnTo>
                    <a:pt x="342" y="1342"/>
                  </a:lnTo>
                  <a:lnTo>
                    <a:pt x="236" y="1263"/>
                  </a:lnTo>
                  <a:lnTo>
                    <a:pt x="144" y="1164"/>
                  </a:lnTo>
                  <a:lnTo>
                    <a:pt x="72" y="1041"/>
                  </a:lnTo>
                  <a:lnTo>
                    <a:pt x="22" y="894"/>
                  </a:lnTo>
                  <a:lnTo>
                    <a:pt x="0" y="726"/>
                  </a:lnTo>
                  <a:lnTo>
                    <a:pt x="0" y="726"/>
                  </a:lnTo>
                </a:path>
              </a:pathLst>
            </a:custGeom>
            <a:noFill/>
            <a:ln w="1908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4920" y="3511440"/>
              <a:ext cx="233640" cy="1166400"/>
            </a:xfrm>
            <a:custGeom>
              <a:avLst/>
              <a:gdLst/>
              <a:ahLst/>
              <a:rect l="l" t="t" r="r" b="b"/>
              <a:pathLst>
                <a:path w="147" h="735">
                  <a:moveTo>
                    <a:pt x="126" y="647"/>
                  </a:moveTo>
                  <a:lnTo>
                    <a:pt x="133" y="605"/>
                  </a:lnTo>
                  <a:lnTo>
                    <a:pt x="139" y="564"/>
                  </a:lnTo>
                  <a:lnTo>
                    <a:pt x="143" y="522"/>
                  </a:lnTo>
                  <a:lnTo>
                    <a:pt x="146" y="479"/>
                  </a:lnTo>
                  <a:lnTo>
                    <a:pt x="145" y="438"/>
                  </a:lnTo>
                  <a:lnTo>
                    <a:pt x="143" y="395"/>
                  </a:lnTo>
                  <a:lnTo>
                    <a:pt x="138" y="353"/>
                  </a:lnTo>
                  <a:lnTo>
                    <a:pt x="132" y="310"/>
                  </a:lnTo>
                  <a:lnTo>
                    <a:pt x="122" y="269"/>
                  </a:lnTo>
                  <a:lnTo>
                    <a:pt x="111" y="228"/>
                  </a:lnTo>
                  <a:lnTo>
                    <a:pt x="98" y="189"/>
                  </a:lnTo>
                  <a:lnTo>
                    <a:pt x="83" y="148"/>
                  </a:lnTo>
                  <a:lnTo>
                    <a:pt x="65" y="110"/>
                  </a:lnTo>
                  <a:lnTo>
                    <a:pt x="45" y="72"/>
                  </a:lnTo>
                  <a:lnTo>
                    <a:pt x="23" y="36"/>
                  </a:lnTo>
                  <a:lnTo>
                    <a:pt x="0" y="0"/>
                  </a:lnTo>
                  <a:lnTo>
                    <a:pt x="21" y="39"/>
                  </a:lnTo>
                  <a:lnTo>
                    <a:pt x="41" y="77"/>
                  </a:lnTo>
                  <a:lnTo>
                    <a:pt x="59" y="116"/>
                  </a:lnTo>
                  <a:lnTo>
                    <a:pt x="74" y="154"/>
                  </a:lnTo>
                  <a:lnTo>
                    <a:pt x="87" y="194"/>
                  </a:lnTo>
                  <a:lnTo>
                    <a:pt x="97" y="234"/>
                  </a:lnTo>
                  <a:lnTo>
                    <a:pt x="106" y="273"/>
                  </a:lnTo>
                  <a:lnTo>
                    <a:pt x="113" y="313"/>
                  </a:lnTo>
                  <a:lnTo>
                    <a:pt x="116" y="354"/>
                  </a:lnTo>
                  <a:lnTo>
                    <a:pt x="118" y="395"/>
                  </a:lnTo>
                  <a:lnTo>
                    <a:pt x="117" y="438"/>
                  </a:lnTo>
                  <a:lnTo>
                    <a:pt x="114" y="479"/>
                  </a:lnTo>
                  <a:lnTo>
                    <a:pt x="108" y="522"/>
                  </a:lnTo>
                  <a:lnTo>
                    <a:pt x="100" y="565"/>
                  </a:lnTo>
                  <a:lnTo>
                    <a:pt x="90" y="609"/>
                  </a:lnTo>
                  <a:lnTo>
                    <a:pt x="78" y="652"/>
                  </a:lnTo>
                  <a:lnTo>
                    <a:pt x="78" y="653"/>
                  </a:lnTo>
                  <a:lnTo>
                    <a:pt x="79" y="654"/>
                  </a:lnTo>
                  <a:lnTo>
                    <a:pt x="81" y="657"/>
                  </a:lnTo>
                  <a:lnTo>
                    <a:pt x="83" y="659"/>
                  </a:lnTo>
                  <a:lnTo>
                    <a:pt x="85" y="663"/>
                  </a:lnTo>
                  <a:lnTo>
                    <a:pt x="87" y="667"/>
                  </a:lnTo>
                  <a:lnTo>
                    <a:pt x="88" y="672"/>
                  </a:lnTo>
                  <a:lnTo>
                    <a:pt x="91" y="676"/>
                  </a:lnTo>
                  <a:lnTo>
                    <a:pt x="91" y="683"/>
                  </a:lnTo>
                  <a:lnTo>
                    <a:pt x="93" y="689"/>
                  </a:lnTo>
                  <a:lnTo>
                    <a:pt x="93" y="696"/>
                  </a:lnTo>
                  <a:lnTo>
                    <a:pt x="94" y="702"/>
                  </a:lnTo>
                  <a:lnTo>
                    <a:pt x="93" y="711"/>
                  </a:lnTo>
                  <a:lnTo>
                    <a:pt x="91" y="719"/>
                  </a:lnTo>
                  <a:lnTo>
                    <a:pt x="88" y="727"/>
                  </a:lnTo>
                  <a:lnTo>
                    <a:pt x="85" y="734"/>
                  </a:lnTo>
                  <a:lnTo>
                    <a:pt x="85" y="734"/>
                  </a:lnTo>
                  <a:lnTo>
                    <a:pt x="85" y="734"/>
                  </a:lnTo>
                  <a:lnTo>
                    <a:pt x="85" y="734"/>
                  </a:lnTo>
                  <a:lnTo>
                    <a:pt x="85" y="733"/>
                  </a:lnTo>
                  <a:lnTo>
                    <a:pt x="85" y="733"/>
                  </a:lnTo>
                  <a:lnTo>
                    <a:pt x="85" y="732"/>
                  </a:lnTo>
                  <a:lnTo>
                    <a:pt x="85" y="731"/>
                  </a:lnTo>
                  <a:lnTo>
                    <a:pt x="87" y="730"/>
                  </a:lnTo>
                  <a:lnTo>
                    <a:pt x="87" y="729"/>
                  </a:lnTo>
                  <a:lnTo>
                    <a:pt x="88" y="727"/>
                  </a:lnTo>
                  <a:lnTo>
                    <a:pt x="90" y="725"/>
                  </a:lnTo>
                  <a:lnTo>
                    <a:pt x="91" y="721"/>
                  </a:lnTo>
                  <a:lnTo>
                    <a:pt x="93" y="718"/>
                  </a:lnTo>
                  <a:lnTo>
                    <a:pt x="96" y="714"/>
                  </a:lnTo>
                  <a:lnTo>
                    <a:pt x="99" y="710"/>
                  </a:lnTo>
                  <a:lnTo>
                    <a:pt x="103" y="705"/>
                  </a:lnTo>
                  <a:lnTo>
                    <a:pt x="104" y="702"/>
                  </a:lnTo>
                  <a:lnTo>
                    <a:pt x="106" y="698"/>
                  </a:lnTo>
                  <a:lnTo>
                    <a:pt x="108" y="694"/>
                  </a:lnTo>
                  <a:lnTo>
                    <a:pt x="109" y="689"/>
                  </a:lnTo>
                  <a:lnTo>
                    <a:pt x="111" y="685"/>
                  </a:lnTo>
                  <a:lnTo>
                    <a:pt x="113" y="679"/>
                  </a:lnTo>
                  <a:lnTo>
                    <a:pt x="115" y="675"/>
                  </a:lnTo>
                  <a:lnTo>
                    <a:pt x="117" y="670"/>
                  </a:lnTo>
                  <a:lnTo>
                    <a:pt x="117" y="666"/>
                  </a:lnTo>
                  <a:lnTo>
                    <a:pt x="119" y="662"/>
                  </a:lnTo>
                  <a:lnTo>
                    <a:pt x="120" y="659"/>
                  </a:lnTo>
                  <a:lnTo>
                    <a:pt x="122" y="655"/>
                  </a:lnTo>
                  <a:lnTo>
                    <a:pt x="122" y="653"/>
                  </a:lnTo>
                  <a:lnTo>
                    <a:pt x="124" y="650"/>
                  </a:lnTo>
                  <a:lnTo>
                    <a:pt x="124" y="649"/>
                  </a:lnTo>
                  <a:lnTo>
                    <a:pt x="126" y="647"/>
                  </a:lnTo>
                  <a:lnTo>
                    <a:pt x="126" y="647"/>
                  </a:lnTo>
                </a:path>
              </a:pathLst>
            </a:custGeom>
            <a:gradFill rotWithShape="0">
              <a:gsLst>
                <a:gs pos="0">
                  <a:srgbClr val="8f8f8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06920" y="4770360"/>
              <a:ext cx="1065240" cy="383760"/>
            </a:xfrm>
            <a:custGeom>
              <a:avLst/>
              <a:gdLst/>
              <a:ahLst/>
              <a:rect l="l" t="t" r="r" b="b"/>
              <a:pathLst>
                <a:path w="671" h="242">
                  <a:moveTo>
                    <a:pt x="670" y="168"/>
                  </a:moveTo>
                  <a:lnTo>
                    <a:pt x="619" y="192"/>
                  </a:lnTo>
                  <a:lnTo>
                    <a:pt x="569" y="211"/>
                  </a:lnTo>
                  <a:lnTo>
                    <a:pt x="520" y="226"/>
                  </a:lnTo>
                  <a:lnTo>
                    <a:pt x="472" y="235"/>
                  </a:lnTo>
                  <a:lnTo>
                    <a:pt x="424" y="240"/>
                  </a:lnTo>
                  <a:lnTo>
                    <a:pt x="378" y="241"/>
                  </a:lnTo>
                  <a:lnTo>
                    <a:pt x="332" y="239"/>
                  </a:lnTo>
                  <a:lnTo>
                    <a:pt x="289" y="231"/>
                  </a:lnTo>
                  <a:lnTo>
                    <a:pt x="245" y="222"/>
                  </a:lnTo>
                  <a:lnTo>
                    <a:pt x="204" y="210"/>
                  </a:lnTo>
                  <a:lnTo>
                    <a:pt x="165" y="196"/>
                  </a:lnTo>
                  <a:lnTo>
                    <a:pt x="127" y="178"/>
                  </a:lnTo>
                  <a:lnTo>
                    <a:pt x="91" y="159"/>
                  </a:lnTo>
                  <a:lnTo>
                    <a:pt x="58" y="138"/>
                  </a:lnTo>
                  <a:lnTo>
                    <a:pt x="27" y="116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3" y="88"/>
                  </a:lnTo>
                  <a:lnTo>
                    <a:pt x="7" y="84"/>
                  </a:lnTo>
                  <a:lnTo>
                    <a:pt x="13" y="78"/>
                  </a:lnTo>
                  <a:lnTo>
                    <a:pt x="20" y="71"/>
                  </a:lnTo>
                  <a:lnTo>
                    <a:pt x="28" y="63"/>
                  </a:lnTo>
                  <a:lnTo>
                    <a:pt x="37" y="56"/>
                  </a:lnTo>
                  <a:lnTo>
                    <a:pt x="46" y="46"/>
                  </a:lnTo>
                  <a:lnTo>
                    <a:pt x="53" y="39"/>
                  </a:lnTo>
                  <a:lnTo>
                    <a:pt x="62" y="30"/>
                  </a:lnTo>
                  <a:lnTo>
                    <a:pt x="69" y="23"/>
                  </a:lnTo>
                  <a:lnTo>
                    <a:pt x="78" y="15"/>
                  </a:lnTo>
                  <a:lnTo>
                    <a:pt x="83" y="10"/>
                  </a:lnTo>
                  <a:lnTo>
                    <a:pt x="88" y="5"/>
                  </a:lnTo>
                  <a:lnTo>
                    <a:pt x="91" y="2"/>
                  </a:lnTo>
                  <a:lnTo>
                    <a:pt x="93" y="0"/>
                  </a:lnTo>
                  <a:lnTo>
                    <a:pt x="107" y="13"/>
                  </a:lnTo>
                  <a:lnTo>
                    <a:pt x="125" y="24"/>
                  </a:lnTo>
                  <a:lnTo>
                    <a:pt x="144" y="37"/>
                  </a:lnTo>
                  <a:lnTo>
                    <a:pt x="166" y="48"/>
                  </a:lnTo>
                  <a:lnTo>
                    <a:pt x="189" y="61"/>
                  </a:lnTo>
                  <a:lnTo>
                    <a:pt x="214" y="72"/>
                  </a:lnTo>
                  <a:lnTo>
                    <a:pt x="242" y="83"/>
                  </a:lnTo>
                  <a:lnTo>
                    <a:pt x="272" y="92"/>
                  </a:lnTo>
                  <a:lnTo>
                    <a:pt x="303" y="101"/>
                  </a:lnTo>
                  <a:lnTo>
                    <a:pt x="339" y="108"/>
                  </a:lnTo>
                  <a:lnTo>
                    <a:pt x="375" y="113"/>
                  </a:lnTo>
                  <a:lnTo>
                    <a:pt x="414" y="114"/>
                  </a:lnTo>
                  <a:lnTo>
                    <a:pt x="455" y="115"/>
                  </a:lnTo>
                  <a:lnTo>
                    <a:pt x="499" y="112"/>
                  </a:lnTo>
                  <a:lnTo>
                    <a:pt x="545" y="106"/>
                  </a:lnTo>
                  <a:lnTo>
                    <a:pt x="594" y="96"/>
                  </a:lnTo>
                  <a:lnTo>
                    <a:pt x="597" y="98"/>
                  </a:lnTo>
                  <a:lnTo>
                    <a:pt x="601" y="100"/>
                  </a:lnTo>
                  <a:lnTo>
                    <a:pt x="606" y="103"/>
                  </a:lnTo>
                  <a:lnTo>
                    <a:pt x="612" y="107"/>
                  </a:lnTo>
                  <a:lnTo>
                    <a:pt x="617" y="113"/>
                  </a:lnTo>
                  <a:lnTo>
                    <a:pt x="624" y="118"/>
                  </a:lnTo>
                  <a:lnTo>
                    <a:pt x="630" y="125"/>
                  </a:lnTo>
                  <a:lnTo>
                    <a:pt x="637" y="131"/>
                  </a:lnTo>
                  <a:lnTo>
                    <a:pt x="643" y="138"/>
                  </a:lnTo>
                  <a:lnTo>
                    <a:pt x="649" y="145"/>
                  </a:lnTo>
                  <a:lnTo>
                    <a:pt x="654" y="151"/>
                  </a:lnTo>
                  <a:lnTo>
                    <a:pt x="659" y="156"/>
                  </a:lnTo>
                  <a:lnTo>
                    <a:pt x="663" y="162"/>
                  </a:lnTo>
                  <a:lnTo>
                    <a:pt x="667" y="165"/>
                  </a:lnTo>
                  <a:lnTo>
                    <a:pt x="669" y="168"/>
                  </a:lnTo>
                  <a:lnTo>
                    <a:pt x="670" y="168"/>
                  </a:lnTo>
                  <a:lnTo>
                    <a:pt x="670" y="16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97360" y="4113000"/>
              <a:ext cx="601560" cy="874440"/>
            </a:xfrm>
            <a:custGeom>
              <a:avLst/>
              <a:gdLst/>
              <a:ahLst/>
              <a:rect l="l" t="t" r="r" b="b"/>
              <a:pathLst>
                <a:path w="379" h="551">
                  <a:moveTo>
                    <a:pt x="56" y="544"/>
                  </a:moveTo>
                  <a:lnTo>
                    <a:pt x="91" y="527"/>
                  </a:lnTo>
                  <a:lnTo>
                    <a:pt x="125" y="507"/>
                  </a:lnTo>
                  <a:lnTo>
                    <a:pt x="157" y="484"/>
                  </a:lnTo>
                  <a:lnTo>
                    <a:pt x="188" y="456"/>
                  </a:lnTo>
                  <a:lnTo>
                    <a:pt x="215" y="428"/>
                  </a:lnTo>
                  <a:lnTo>
                    <a:pt x="242" y="396"/>
                  </a:lnTo>
                  <a:lnTo>
                    <a:pt x="266" y="362"/>
                  </a:lnTo>
                  <a:lnTo>
                    <a:pt x="289" y="326"/>
                  </a:lnTo>
                  <a:lnTo>
                    <a:pt x="308" y="289"/>
                  </a:lnTo>
                  <a:lnTo>
                    <a:pt x="326" y="250"/>
                  </a:lnTo>
                  <a:lnTo>
                    <a:pt x="340" y="210"/>
                  </a:lnTo>
                  <a:lnTo>
                    <a:pt x="354" y="169"/>
                  </a:lnTo>
                  <a:lnTo>
                    <a:pt x="363" y="128"/>
                  </a:lnTo>
                  <a:lnTo>
                    <a:pt x="371" y="86"/>
                  </a:lnTo>
                  <a:lnTo>
                    <a:pt x="376" y="43"/>
                  </a:lnTo>
                  <a:lnTo>
                    <a:pt x="378" y="0"/>
                  </a:lnTo>
                  <a:lnTo>
                    <a:pt x="368" y="40"/>
                  </a:lnTo>
                  <a:lnTo>
                    <a:pt x="357" y="79"/>
                  </a:lnTo>
                  <a:lnTo>
                    <a:pt x="344" y="116"/>
                  </a:lnTo>
                  <a:lnTo>
                    <a:pt x="328" y="152"/>
                  </a:lnTo>
                  <a:lnTo>
                    <a:pt x="310" y="188"/>
                  </a:lnTo>
                  <a:lnTo>
                    <a:pt x="291" y="222"/>
                  </a:lnTo>
                  <a:lnTo>
                    <a:pt x="270" y="255"/>
                  </a:lnTo>
                  <a:lnTo>
                    <a:pt x="247" y="286"/>
                  </a:lnTo>
                  <a:lnTo>
                    <a:pt x="221" y="318"/>
                  </a:lnTo>
                  <a:lnTo>
                    <a:pt x="194" y="347"/>
                  </a:lnTo>
                  <a:lnTo>
                    <a:pt x="166" y="374"/>
                  </a:lnTo>
                  <a:lnTo>
                    <a:pt x="136" y="400"/>
                  </a:lnTo>
                  <a:lnTo>
                    <a:pt x="104" y="425"/>
                  </a:lnTo>
                  <a:lnTo>
                    <a:pt x="72" y="447"/>
                  </a:lnTo>
                  <a:lnTo>
                    <a:pt x="36" y="467"/>
                  </a:lnTo>
                  <a:lnTo>
                    <a:pt x="2" y="485"/>
                  </a:lnTo>
                  <a:lnTo>
                    <a:pt x="1" y="487"/>
                  </a:lnTo>
                  <a:lnTo>
                    <a:pt x="1" y="490"/>
                  </a:lnTo>
                  <a:lnTo>
                    <a:pt x="0" y="495"/>
                  </a:lnTo>
                  <a:lnTo>
                    <a:pt x="0" y="499"/>
                  </a:lnTo>
                  <a:lnTo>
                    <a:pt x="0" y="507"/>
                  </a:lnTo>
                  <a:lnTo>
                    <a:pt x="0" y="513"/>
                  </a:lnTo>
                  <a:lnTo>
                    <a:pt x="1" y="520"/>
                  </a:lnTo>
                  <a:lnTo>
                    <a:pt x="3" y="526"/>
                  </a:lnTo>
                  <a:lnTo>
                    <a:pt x="5" y="534"/>
                  </a:lnTo>
                  <a:lnTo>
                    <a:pt x="8" y="539"/>
                  </a:lnTo>
                  <a:lnTo>
                    <a:pt x="12" y="545"/>
                  </a:lnTo>
                  <a:lnTo>
                    <a:pt x="18" y="548"/>
                  </a:lnTo>
                  <a:lnTo>
                    <a:pt x="25" y="550"/>
                  </a:lnTo>
                  <a:lnTo>
                    <a:pt x="33" y="550"/>
                  </a:lnTo>
                  <a:lnTo>
                    <a:pt x="43" y="548"/>
                  </a:lnTo>
                  <a:lnTo>
                    <a:pt x="56" y="544"/>
                  </a:lnTo>
                  <a:lnTo>
                    <a:pt x="56" y="54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1e1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36960" y="4932000"/>
              <a:ext cx="488880" cy="453960"/>
            </a:xfrm>
            <a:custGeom>
              <a:avLst/>
              <a:gdLst/>
              <a:ahLst/>
              <a:rect l="l" t="t" r="r" b="b"/>
              <a:pathLst>
                <a:path w="308" h="286">
                  <a:moveTo>
                    <a:pt x="307" y="56"/>
                  </a:moveTo>
                  <a:lnTo>
                    <a:pt x="306" y="58"/>
                  </a:lnTo>
                  <a:lnTo>
                    <a:pt x="305" y="58"/>
                  </a:lnTo>
                  <a:lnTo>
                    <a:pt x="302" y="60"/>
                  </a:lnTo>
                  <a:lnTo>
                    <a:pt x="300" y="62"/>
                  </a:lnTo>
                  <a:lnTo>
                    <a:pt x="296" y="66"/>
                  </a:lnTo>
                  <a:lnTo>
                    <a:pt x="293" y="69"/>
                  </a:lnTo>
                  <a:lnTo>
                    <a:pt x="289" y="72"/>
                  </a:lnTo>
                  <a:lnTo>
                    <a:pt x="286" y="76"/>
                  </a:lnTo>
                  <a:lnTo>
                    <a:pt x="280" y="80"/>
                  </a:lnTo>
                  <a:lnTo>
                    <a:pt x="276" y="84"/>
                  </a:lnTo>
                  <a:lnTo>
                    <a:pt x="272" y="88"/>
                  </a:lnTo>
                  <a:lnTo>
                    <a:pt x="268" y="91"/>
                  </a:lnTo>
                  <a:lnTo>
                    <a:pt x="265" y="95"/>
                  </a:lnTo>
                  <a:lnTo>
                    <a:pt x="261" y="99"/>
                  </a:lnTo>
                  <a:lnTo>
                    <a:pt x="257" y="102"/>
                  </a:lnTo>
                  <a:lnTo>
                    <a:pt x="256" y="104"/>
                  </a:lnTo>
                  <a:lnTo>
                    <a:pt x="253" y="106"/>
                  </a:lnTo>
                  <a:lnTo>
                    <a:pt x="251" y="108"/>
                  </a:lnTo>
                  <a:lnTo>
                    <a:pt x="249" y="110"/>
                  </a:lnTo>
                  <a:lnTo>
                    <a:pt x="247" y="112"/>
                  </a:lnTo>
                  <a:lnTo>
                    <a:pt x="244" y="116"/>
                  </a:lnTo>
                  <a:lnTo>
                    <a:pt x="242" y="117"/>
                  </a:lnTo>
                  <a:lnTo>
                    <a:pt x="240" y="120"/>
                  </a:lnTo>
                  <a:lnTo>
                    <a:pt x="238" y="122"/>
                  </a:lnTo>
                  <a:lnTo>
                    <a:pt x="235" y="126"/>
                  </a:lnTo>
                  <a:lnTo>
                    <a:pt x="233" y="127"/>
                  </a:lnTo>
                  <a:lnTo>
                    <a:pt x="229" y="131"/>
                  </a:lnTo>
                  <a:lnTo>
                    <a:pt x="228" y="133"/>
                  </a:lnTo>
                  <a:lnTo>
                    <a:pt x="226" y="136"/>
                  </a:lnTo>
                  <a:lnTo>
                    <a:pt x="224" y="138"/>
                  </a:lnTo>
                  <a:lnTo>
                    <a:pt x="222" y="140"/>
                  </a:lnTo>
                  <a:lnTo>
                    <a:pt x="221" y="142"/>
                  </a:lnTo>
                  <a:lnTo>
                    <a:pt x="219" y="144"/>
                  </a:lnTo>
                  <a:lnTo>
                    <a:pt x="218" y="146"/>
                  </a:lnTo>
                  <a:lnTo>
                    <a:pt x="216" y="147"/>
                  </a:lnTo>
                  <a:lnTo>
                    <a:pt x="215" y="148"/>
                  </a:lnTo>
                  <a:lnTo>
                    <a:pt x="213" y="150"/>
                  </a:lnTo>
                  <a:lnTo>
                    <a:pt x="211" y="152"/>
                  </a:lnTo>
                  <a:lnTo>
                    <a:pt x="209" y="154"/>
                  </a:lnTo>
                  <a:lnTo>
                    <a:pt x="208" y="156"/>
                  </a:lnTo>
                  <a:lnTo>
                    <a:pt x="206" y="159"/>
                  </a:lnTo>
                  <a:lnTo>
                    <a:pt x="205" y="161"/>
                  </a:lnTo>
                  <a:lnTo>
                    <a:pt x="203" y="163"/>
                  </a:lnTo>
                  <a:lnTo>
                    <a:pt x="201" y="165"/>
                  </a:lnTo>
                  <a:lnTo>
                    <a:pt x="199" y="167"/>
                  </a:lnTo>
                  <a:lnTo>
                    <a:pt x="198" y="168"/>
                  </a:lnTo>
                  <a:lnTo>
                    <a:pt x="196" y="170"/>
                  </a:lnTo>
                  <a:lnTo>
                    <a:pt x="196" y="171"/>
                  </a:lnTo>
                  <a:lnTo>
                    <a:pt x="194" y="174"/>
                  </a:lnTo>
                  <a:lnTo>
                    <a:pt x="192" y="176"/>
                  </a:lnTo>
                  <a:lnTo>
                    <a:pt x="190" y="178"/>
                  </a:lnTo>
                  <a:lnTo>
                    <a:pt x="189" y="180"/>
                  </a:lnTo>
                  <a:lnTo>
                    <a:pt x="188" y="184"/>
                  </a:lnTo>
                  <a:lnTo>
                    <a:pt x="186" y="185"/>
                  </a:lnTo>
                  <a:lnTo>
                    <a:pt x="184" y="187"/>
                  </a:lnTo>
                  <a:lnTo>
                    <a:pt x="184" y="189"/>
                  </a:lnTo>
                  <a:lnTo>
                    <a:pt x="182" y="193"/>
                  </a:lnTo>
                  <a:lnTo>
                    <a:pt x="181" y="195"/>
                  </a:lnTo>
                  <a:lnTo>
                    <a:pt x="179" y="197"/>
                  </a:lnTo>
                  <a:lnTo>
                    <a:pt x="179" y="198"/>
                  </a:lnTo>
                  <a:lnTo>
                    <a:pt x="177" y="200"/>
                  </a:lnTo>
                  <a:lnTo>
                    <a:pt x="177" y="202"/>
                  </a:lnTo>
                  <a:lnTo>
                    <a:pt x="177" y="204"/>
                  </a:lnTo>
                  <a:lnTo>
                    <a:pt x="177" y="205"/>
                  </a:lnTo>
                  <a:lnTo>
                    <a:pt x="175" y="207"/>
                  </a:lnTo>
                  <a:lnTo>
                    <a:pt x="175" y="208"/>
                  </a:lnTo>
                  <a:lnTo>
                    <a:pt x="175" y="210"/>
                  </a:lnTo>
                  <a:lnTo>
                    <a:pt x="175" y="212"/>
                  </a:lnTo>
                  <a:lnTo>
                    <a:pt x="173" y="215"/>
                  </a:lnTo>
                  <a:lnTo>
                    <a:pt x="173" y="217"/>
                  </a:lnTo>
                  <a:lnTo>
                    <a:pt x="173" y="221"/>
                  </a:lnTo>
                  <a:lnTo>
                    <a:pt x="173" y="223"/>
                  </a:lnTo>
                  <a:lnTo>
                    <a:pt x="171" y="227"/>
                  </a:lnTo>
                  <a:lnTo>
                    <a:pt x="171" y="231"/>
                  </a:lnTo>
                  <a:lnTo>
                    <a:pt x="170" y="235"/>
                  </a:lnTo>
                  <a:lnTo>
                    <a:pt x="170" y="239"/>
                  </a:lnTo>
                  <a:lnTo>
                    <a:pt x="169" y="245"/>
                  </a:lnTo>
                  <a:lnTo>
                    <a:pt x="169" y="248"/>
                  </a:lnTo>
                  <a:lnTo>
                    <a:pt x="169" y="254"/>
                  </a:lnTo>
                  <a:lnTo>
                    <a:pt x="170" y="258"/>
                  </a:lnTo>
                  <a:lnTo>
                    <a:pt x="169" y="260"/>
                  </a:lnTo>
                  <a:lnTo>
                    <a:pt x="169" y="260"/>
                  </a:lnTo>
                  <a:lnTo>
                    <a:pt x="169" y="261"/>
                  </a:lnTo>
                  <a:lnTo>
                    <a:pt x="169" y="261"/>
                  </a:lnTo>
                  <a:lnTo>
                    <a:pt x="169" y="263"/>
                  </a:lnTo>
                  <a:lnTo>
                    <a:pt x="169" y="263"/>
                  </a:lnTo>
                  <a:lnTo>
                    <a:pt x="169" y="265"/>
                  </a:lnTo>
                  <a:lnTo>
                    <a:pt x="169" y="265"/>
                  </a:lnTo>
                  <a:lnTo>
                    <a:pt x="168" y="267"/>
                  </a:lnTo>
                  <a:lnTo>
                    <a:pt x="168" y="269"/>
                  </a:lnTo>
                  <a:lnTo>
                    <a:pt x="168" y="271"/>
                  </a:lnTo>
                  <a:lnTo>
                    <a:pt x="168" y="271"/>
                  </a:lnTo>
                  <a:lnTo>
                    <a:pt x="168" y="273"/>
                  </a:lnTo>
                  <a:lnTo>
                    <a:pt x="168" y="273"/>
                  </a:lnTo>
                  <a:lnTo>
                    <a:pt x="168" y="275"/>
                  </a:lnTo>
                  <a:lnTo>
                    <a:pt x="168" y="275"/>
                  </a:lnTo>
                  <a:lnTo>
                    <a:pt x="166" y="276"/>
                  </a:lnTo>
                  <a:lnTo>
                    <a:pt x="166" y="277"/>
                  </a:lnTo>
                  <a:lnTo>
                    <a:pt x="166" y="279"/>
                  </a:lnTo>
                  <a:lnTo>
                    <a:pt x="166" y="279"/>
                  </a:lnTo>
                  <a:lnTo>
                    <a:pt x="165" y="281"/>
                  </a:lnTo>
                  <a:lnTo>
                    <a:pt x="165" y="281"/>
                  </a:lnTo>
                  <a:lnTo>
                    <a:pt x="165" y="282"/>
                  </a:lnTo>
                  <a:lnTo>
                    <a:pt x="165" y="282"/>
                  </a:lnTo>
                  <a:lnTo>
                    <a:pt x="163" y="284"/>
                  </a:lnTo>
                  <a:lnTo>
                    <a:pt x="163" y="284"/>
                  </a:lnTo>
                  <a:lnTo>
                    <a:pt x="163" y="285"/>
                  </a:lnTo>
                  <a:lnTo>
                    <a:pt x="163" y="285"/>
                  </a:lnTo>
                  <a:lnTo>
                    <a:pt x="163" y="285"/>
                  </a:lnTo>
                  <a:lnTo>
                    <a:pt x="163" y="285"/>
                  </a:lnTo>
                  <a:lnTo>
                    <a:pt x="163" y="285"/>
                  </a:lnTo>
                  <a:lnTo>
                    <a:pt x="163" y="285"/>
                  </a:lnTo>
                  <a:lnTo>
                    <a:pt x="158" y="278"/>
                  </a:lnTo>
                  <a:lnTo>
                    <a:pt x="153" y="268"/>
                  </a:lnTo>
                  <a:lnTo>
                    <a:pt x="147" y="259"/>
                  </a:lnTo>
                  <a:lnTo>
                    <a:pt x="141" y="250"/>
                  </a:lnTo>
                  <a:lnTo>
                    <a:pt x="134" y="241"/>
                  </a:lnTo>
                  <a:lnTo>
                    <a:pt x="128" y="232"/>
                  </a:lnTo>
                  <a:lnTo>
                    <a:pt x="121" y="222"/>
                  </a:lnTo>
                  <a:lnTo>
                    <a:pt x="116" y="213"/>
                  </a:lnTo>
                  <a:lnTo>
                    <a:pt x="109" y="205"/>
                  </a:lnTo>
                  <a:lnTo>
                    <a:pt x="103" y="197"/>
                  </a:lnTo>
                  <a:lnTo>
                    <a:pt x="96" y="190"/>
                  </a:lnTo>
                  <a:lnTo>
                    <a:pt x="90" y="182"/>
                  </a:lnTo>
                  <a:lnTo>
                    <a:pt x="84" y="176"/>
                  </a:lnTo>
                  <a:lnTo>
                    <a:pt x="79" y="168"/>
                  </a:lnTo>
                  <a:lnTo>
                    <a:pt x="73" y="163"/>
                  </a:lnTo>
                  <a:lnTo>
                    <a:pt x="69" y="157"/>
                  </a:lnTo>
                  <a:lnTo>
                    <a:pt x="60" y="150"/>
                  </a:lnTo>
                  <a:lnTo>
                    <a:pt x="53" y="143"/>
                  </a:lnTo>
                  <a:lnTo>
                    <a:pt x="45" y="137"/>
                  </a:lnTo>
                  <a:lnTo>
                    <a:pt x="39" y="131"/>
                  </a:lnTo>
                  <a:lnTo>
                    <a:pt x="32" y="127"/>
                  </a:lnTo>
                  <a:lnTo>
                    <a:pt x="27" y="122"/>
                  </a:lnTo>
                  <a:lnTo>
                    <a:pt x="22" y="119"/>
                  </a:lnTo>
                  <a:lnTo>
                    <a:pt x="18" y="114"/>
                  </a:lnTo>
                  <a:lnTo>
                    <a:pt x="13" y="112"/>
                  </a:lnTo>
                  <a:lnTo>
                    <a:pt x="10" y="110"/>
                  </a:lnTo>
                  <a:lnTo>
                    <a:pt x="7" y="108"/>
                  </a:lnTo>
                  <a:lnTo>
                    <a:pt x="5" y="106"/>
                  </a:lnTo>
                  <a:lnTo>
                    <a:pt x="2" y="106"/>
                  </a:lnTo>
                  <a:lnTo>
                    <a:pt x="1" y="104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" y="101"/>
                  </a:lnTo>
                  <a:lnTo>
                    <a:pt x="1" y="101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3" y="100"/>
                  </a:lnTo>
                  <a:lnTo>
                    <a:pt x="3" y="100"/>
                  </a:lnTo>
                  <a:lnTo>
                    <a:pt x="5" y="99"/>
                  </a:lnTo>
                  <a:lnTo>
                    <a:pt x="6" y="99"/>
                  </a:lnTo>
                  <a:lnTo>
                    <a:pt x="8" y="99"/>
                  </a:lnTo>
                  <a:lnTo>
                    <a:pt x="10" y="99"/>
                  </a:lnTo>
                  <a:lnTo>
                    <a:pt x="12" y="98"/>
                  </a:lnTo>
                  <a:lnTo>
                    <a:pt x="13" y="98"/>
                  </a:lnTo>
                  <a:lnTo>
                    <a:pt x="16" y="98"/>
                  </a:lnTo>
                  <a:lnTo>
                    <a:pt x="18" y="98"/>
                  </a:lnTo>
                  <a:lnTo>
                    <a:pt x="22" y="98"/>
                  </a:lnTo>
                  <a:lnTo>
                    <a:pt x="23" y="98"/>
                  </a:lnTo>
                  <a:lnTo>
                    <a:pt x="27" y="98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5" y="99"/>
                  </a:lnTo>
                  <a:lnTo>
                    <a:pt x="37" y="99"/>
                  </a:lnTo>
                  <a:lnTo>
                    <a:pt x="39" y="99"/>
                  </a:lnTo>
                  <a:lnTo>
                    <a:pt x="41" y="99"/>
                  </a:lnTo>
                  <a:lnTo>
                    <a:pt x="42" y="99"/>
                  </a:lnTo>
                  <a:lnTo>
                    <a:pt x="43" y="99"/>
                  </a:lnTo>
                  <a:lnTo>
                    <a:pt x="44" y="99"/>
                  </a:lnTo>
                  <a:lnTo>
                    <a:pt x="45" y="99"/>
                  </a:lnTo>
                  <a:lnTo>
                    <a:pt x="46" y="99"/>
                  </a:lnTo>
                  <a:lnTo>
                    <a:pt x="48" y="99"/>
                  </a:lnTo>
                  <a:lnTo>
                    <a:pt x="50" y="99"/>
                  </a:lnTo>
                  <a:lnTo>
                    <a:pt x="52" y="99"/>
                  </a:lnTo>
                  <a:lnTo>
                    <a:pt x="53" y="99"/>
                  </a:lnTo>
                  <a:lnTo>
                    <a:pt x="55" y="99"/>
                  </a:lnTo>
                  <a:lnTo>
                    <a:pt x="57" y="99"/>
                  </a:lnTo>
                  <a:lnTo>
                    <a:pt x="60" y="98"/>
                  </a:lnTo>
                  <a:lnTo>
                    <a:pt x="62" y="98"/>
                  </a:lnTo>
                  <a:lnTo>
                    <a:pt x="64" y="98"/>
                  </a:lnTo>
                  <a:lnTo>
                    <a:pt x="66" y="98"/>
                  </a:lnTo>
                  <a:lnTo>
                    <a:pt x="70" y="97"/>
                  </a:lnTo>
                  <a:lnTo>
                    <a:pt x="72" y="97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81" y="94"/>
                  </a:lnTo>
                  <a:lnTo>
                    <a:pt x="83" y="94"/>
                  </a:lnTo>
                  <a:lnTo>
                    <a:pt x="86" y="92"/>
                  </a:lnTo>
                  <a:lnTo>
                    <a:pt x="88" y="92"/>
                  </a:lnTo>
                  <a:lnTo>
                    <a:pt x="91" y="92"/>
                  </a:lnTo>
                  <a:lnTo>
                    <a:pt x="94" y="92"/>
                  </a:lnTo>
                  <a:lnTo>
                    <a:pt x="98" y="90"/>
                  </a:lnTo>
                  <a:lnTo>
                    <a:pt x="100" y="90"/>
                  </a:lnTo>
                  <a:lnTo>
                    <a:pt x="103" y="88"/>
                  </a:lnTo>
                  <a:lnTo>
                    <a:pt x="107" y="88"/>
                  </a:lnTo>
                  <a:lnTo>
                    <a:pt x="110" y="86"/>
                  </a:lnTo>
                  <a:lnTo>
                    <a:pt x="112" y="86"/>
                  </a:lnTo>
                  <a:lnTo>
                    <a:pt x="115" y="84"/>
                  </a:lnTo>
                  <a:lnTo>
                    <a:pt x="117" y="84"/>
                  </a:lnTo>
                  <a:lnTo>
                    <a:pt x="120" y="82"/>
                  </a:lnTo>
                  <a:lnTo>
                    <a:pt x="121" y="82"/>
                  </a:lnTo>
                  <a:lnTo>
                    <a:pt x="123" y="80"/>
                  </a:lnTo>
                  <a:lnTo>
                    <a:pt x="125" y="80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4" y="77"/>
                  </a:lnTo>
                  <a:lnTo>
                    <a:pt x="137" y="76"/>
                  </a:lnTo>
                  <a:lnTo>
                    <a:pt x="140" y="74"/>
                  </a:lnTo>
                  <a:lnTo>
                    <a:pt x="142" y="74"/>
                  </a:lnTo>
                  <a:lnTo>
                    <a:pt x="146" y="72"/>
                  </a:lnTo>
                  <a:lnTo>
                    <a:pt x="148" y="72"/>
                  </a:lnTo>
                  <a:lnTo>
                    <a:pt x="151" y="70"/>
                  </a:lnTo>
                  <a:lnTo>
                    <a:pt x="153" y="70"/>
                  </a:lnTo>
                  <a:lnTo>
                    <a:pt x="156" y="69"/>
                  </a:lnTo>
                  <a:lnTo>
                    <a:pt x="158" y="68"/>
                  </a:lnTo>
                  <a:lnTo>
                    <a:pt x="160" y="66"/>
                  </a:lnTo>
                  <a:lnTo>
                    <a:pt x="162" y="64"/>
                  </a:lnTo>
                  <a:lnTo>
                    <a:pt x="165" y="62"/>
                  </a:lnTo>
                  <a:lnTo>
                    <a:pt x="167" y="60"/>
                  </a:lnTo>
                  <a:lnTo>
                    <a:pt x="170" y="59"/>
                  </a:lnTo>
                  <a:lnTo>
                    <a:pt x="173" y="57"/>
                  </a:lnTo>
                  <a:lnTo>
                    <a:pt x="177" y="55"/>
                  </a:lnTo>
                  <a:lnTo>
                    <a:pt x="181" y="53"/>
                  </a:lnTo>
                  <a:lnTo>
                    <a:pt x="185" y="50"/>
                  </a:lnTo>
                  <a:lnTo>
                    <a:pt x="187" y="48"/>
                  </a:lnTo>
                  <a:lnTo>
                    <a:pt x="190" y="46"/>
                  </a:lnTo>
                  <a:lnTo>
                    <a:pt x="193" y="44"/>
                  </a:lnTo>
                  <a:lnTo>
                    <a:pt x="197" y="41"/>
                  </a:lnTo>
                  <a:lnTo>
                    <a:pt x="199" y="39"/>
                  </a:lnTo>
                  <a:lnTo>
                    <a:pt x="203" y="38"/>
                  </a:lnTo>
                  <a:lnTo>
                    <a:pt x="205" y="36"/>
                  </a:lnTo>
                  <a:lnTo>
                    <a:pt x="208" y="34"/>
                  </a:lnTo>
                  <a:lnTo>
                    <a:pt x="209" y="32"/>
                  </a:lnTo>
                  <a:lnTo>
                    <a:pt x="213" y="30"/>
                  </a:lnTo>
                  <a:lnTo>
                    <a:pt x="216" y="28"/>
                  </a:lnTo>
                  <a:lnTo>
                    <a:pt x="219" y="25"/>
                  </a:lnTo>
                  <a:lnTo>
                    <a:pt x="223" y="23"/>
                  </a:lnTo>
                  <a:lnTo>
                    <a:pt x="227" y="20"/>
                  </a:lnTo>
                  <a:lnTo>
                    <a:pt x="231" y="17"/>
                  </a:lnTo>
                  <a:lnTo>
                    <a:pt x="235" y="13"/>
                  </a:lnTo>
                  <a:lnTo>
                    <a:pt x="237" y="11"/>
                  </a:lnTo>
                  <a:lnTo>
                    <a:pt x="241" y="9"/>
                  </a:lnTo>
                  <a:lnTo>
                    <a:pt x="244" y="7"/>
                  </a:lnTo>
                  <a:lnTo>
                    <a:pt x="247" y="4"/>
                  </a:lnTo>
                  <a:lnTo>
                    <a:pt x="249" y="3"/>
                  </a:lnTo>
                  <a:lnTo>
                    <a:pt x="252" y="1"/>
                  </a:lnTo>
                  <a:lnTo>
                    <a:pt x="253" y="1"/>
                  </a:lnTo>
                  <a:lnTo>
                    <a:pt x="254" y="0"/>
                  </a:lnTo>
                  <a:lnTo>
                    <a:pt x="254" y="1"/>
                  </a:lnTo>
                  <a:lnTo>
                    <a:pt x="256" y="3"/>
                  </a:lnTo>
                  <a:lnTo>
                    <a:pt x="257" y="6"/>
                  </a:lnTo>
                  <a:lnTo>
                    <a:pt x="261" y="10"/>
                  </a:lnTo>
                  <a:lnTo>
                    <a:pt x="265" y="14"/>
                  </a:lnTo>
                  <a:lnTo>
                    <a:pt x="269" y="19"/>
                  </a:lnTo>
                  <a:lnTo>
                    <a:pt x="275" y="24"/>
                  </a:lnTo>
                  <a:lnTo>
                    <a:pt x="280" y="28"/>
                  </a:lnTo>
                  <a:lnTo>
                    <a:pt x="284" y="34"/>
                  </a:lnTo>
                  <a:lnTo>
                    <a:pt x="289" y="39"/>
                  </a:lnTo>
                  <a:lnTo>
                    <a:pt x="293" y="44"/>
                  </a:lnTo>
                  <a:lnTo>
                    <a:pt x="297" y="48"/>
                  </a:lnTo>
                  <a:lnTo>
                    <a:pt x="300" y="51"/>
                  </a:lnTo>
                  <a:lnTo>
                    <a:pt x="303" y="54"/>
                  </a:lnTo>
                  <a:lnTo>
                    <a:pt x="305" y="56"/>
                  </a:lnTo>
                  <a:lnTo>
                    <a:pt x="307" y="56"/>
                  </a:lnTo>
                  <a:lnTo>
                    <a:pt x="307" y="56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6160" y="5092560"/>
              <a:ext cx="2251080" cy="2141280"/>
            </a:xfrm>
            <a:custGeom>
              <a:avLst/>
              <a:gdLst/>
              <a:ahLst/>
              <a:rect l="l" t="t" r="r" b="b"/>
              <a:pathLst>
                <a:path w="1418" h="1349">
                  <a:moveTo>
                    <a:pt x="1185" y="167"/>
                  </a:moveTo>
                  <a:lnTo>
                    <a:pt x="1192" y="162"/>
                  </a:lnTo>
                  <a:lnTo>
                    <a:pt x="1199" y="155"/>
                  </a:lnTo>
                  <a:lnTo>
                    <a:pt x="1207" y="149"/>
                  </a:lnTo>
                  <a:lnTo>
                    <a:pt x="1214" y="142"/>
                  </a:lnTo>
                  <a:lnTo>
                    <a:pt x="1219" y="136"/>
                  </a:lnTo>
                  <a:lnTo>
                    <a:pt x="1227" y="129"/>
                  </a:lnTo>
                  <a:lnTo>
                    <a:pt x="1233" y="123"/>
                  </a:lnTo>
                  <a:lnTo>
                    <a:pt x="1240" y="115"/>
                  </a:lnTo>
                  <a:lnTo>
                    <a:pt x="1245" y="110"/>
                  </a:lnTo>
                  <a:lnTo>
                    <a:pt x="1250" y="103"/>
                  </a:lnTo>
                  <a:lnTo>
                    <a:pt x="1255" y="96"/>
                  </a:lnTo>
                  <a:lnTo>
                    <a:pt x="1261" y="88"/>
                  </a:lnTo>
                  <a:lnTo>
                    <a:pt x="1265" y="81"/>
                  </a:lnTo>
                  <a:lnTo>
                    <a:pt x="1269" y="73"/>
                  </a:lnTo>
                  <a:lnTo>
                    <a:pt x="1273" y="65"/>
                  </a:lnTo>
                  <a:lnTo>
                    <a:pt x="1276" y="56"/>
                  </a:lnTo>
                  <a:lnTo>
                    <a:pt x="1276" y="52"/>
                  </a:lnTo>
                  <a:lnTo>
                    <a:pt x="1276" y="48"/>
                  </a:lnTo>
                  <a:lnTo>
                    <a:pt x="1276" y="45"/>
                  </a:lnTo>
                  <a:lnTo>
                    <a:pt x="1276" y="41"/>
                  </a:lnTo>
                  <a:lnTo>
                    <a:pt x="1275" y="37"/>
                  </a:lnTo>
                  <a:lnTo>
                    <a:pt x="1275" y="33"/>
                  </a:lnTo>
                  <a:lnTo>
                    <a:pt x="1273" y="29"/>
                  </a:lnTo>
                  <a:lnTo>
                    <a:pt x="1273" y="25"/>
                  </a:lnTo>
                  <a:lnTo>
                    <a:pt x="1270" y="23"/>
                  </a:lnTo>
                  <a:lnTo>
                    <a:pt x="1268" y="19"/>
                  </a:lnTo>
                  <a:lnTo>
                    <a:pt x="1266" y="15"/>
                  </a:lnTo>
                  <a:lnTo>
                    <a:pt x="1265" y="11"/>
                  </a:lnTo>
                  <a:lnTo>
                    <a:pt x="1261" y="9"/>
                  </a:lnTo>
                  <a:lnTo>
                    <a:pt x="1259" y="6"/>
                  </a:lnTo>
                  <a:lnTo>
                    <a:pt x="1255" y="4"/>
                  </a:lnTo>
                  <a:lnTo>
                    <a:pt x="1253" y="0"/>
                  </a:lnTo>
                  <a:lnTo>
                    <a:pt x="1265" y="10"/>
                  </a:lnTo>
                  <a:lnTo>
                    <a:pt x="1278" y="19"/>
                  </a:lnTo>
                  <a:lnTo>
                    <a:pt x="1289" y="29"/>
                  </a:lnTo>
                  <a:lnTo>
                    <a:pt x="1303" y="39"/>
                  </a:lnTo>
                  <a:lnTo>
                    <a:pt x="1314" y="50"/>
                  </a:lnTo>
                  <a:lnTo>
                    <a:pt x="1326" y="61"/>
                  </a:lnTo>
                  <a:lnTo>
                    <a:pt x="1336" y="72"/>
                  </a:lnTo>
                  <a:lnTo>
                    <a:pt x="1347" y="83"/>
                  </a:lnTo>
                  <a:lnTo>
                    <a:pt x="1357" y="96"/>
                  </a:lnTo>
                  <a:lnTo>
                    <a:pt x="1367" y="107"/>
                  </a:lnTo>
                  <a:lnTo>
                    <a:pt x="1376" y="121"/>
                  </a:lnTo>
                  <a:lnTo>
                    <a:pt x="1385" y="132"/>
                  </a:lnTo>
                  <a:lnTo>
                    <a:pt x="1393" y="145"/>
                  </a:lnTo>
                  <a:lnTo>
                    <a:pt x="1402" y="158"/>
                  </a:lnTo>
                  <a:lnTo>
                    <a:pt x="1409" y="171"/>
                  </a:lnTo>
                  <a:lnTo>
                    <a:pt x="1417" y="184"/>
                  </a:lnTo>
                  <a:lnTo>
                    <a:pt x="1415" y="189"/>
                  </a:lnTo>
                  <a:lnTo>
                    <a:pt x="1414" y="192"/>
                  </a:lnTo>
                  <a:lnTo>
                    <a:pt x="1412" y="196"/>
                  </a:lnTo>
                  <a:lnTo>
                    <a:pt x="1410" y="200"/>
                  </a:lnTo>
                  <a:lnTo>
                    <a:pt x="1406" y="203"/>
                  </a:lnTo>
                  <a:lnTo>
                    <a:pt x="1404" y="207"/>
                  </a:lnTo>
                  <a:lnTo>
                    <a:pt x="1401" y="211"/>
                  </a:lnTo>
                  <a:lnTo>
                    <a:pt x="1399" y="212"/>
                  </a:lnTo>
                  <a:lnTo>
                    <a:pt x="1395" y="216"/>
                  </a:lnTo>
                  <a:lnTo>
                    <a:pt x="1392" y="219"/>
                  </a:lnTo>
                  <a:lnTo>
                    <a:pt x="1389" y="222"/>
                  </a:lnTo>
                  <a:lnTo>
                    <a:pt x="1387" y="223"/>
                  </a:lnTo>
                  <a:lnTo>
                    <a:pt x="1383" y="226"/>
                  </a:lnTo>
                  <a:lnTo>
                    <a:pt x="1381" y="228"/>
                  </a:lnTo>
                  <a:lnTo>
                    <a:pt x="1379" y="230"/>
                  </a:lnTo>
                  <a:lnTo>
                    <a:pt x="1377" y="231"/>
                  </a:lnTo>
                  <a:lnTo>
                    <a:pt x="87" y="1348"/>
                  </a:lnTo>
                  <a:lnTo>
                    <a:pt x="89" y="1342"/>
                  </a:lnTo>
                  <a:lnTo>
                    <a:pt x="91" y="1335"/>
                  </a:lnTo>
                  <a:lnTo>
                    <a:pt x="89" y="1326"/>
                  </a:lnTo>
                  <a:lnTo>
                    <a:pt x="88" y="1316"/>
                  </a:lnTo>
                  <a:lnTo>
                    <a:pt x="85" y="1307"/>
                  </a:lnTo>
                  <a:lnTo>
                    <a:pt x="81" y="1295"/>
                  </a:lnTo>
                  <a:lnTo>
                    <a:pt x="75" y="1284"/>
                  </a:lnTo>
                  <a:lnTo>
                    <a:pt x="69" y="1273"/>
                  </a:lnTo>
                  <a:lnTo>
                    <a:pt x="61" y="1261"/>
                  </a:lnTo>
                  <a:lnTo>
                    <a:pt x="54" y="1249"/>
                  </a:lnTo>
                  <a:lnTo>
                    <a:pt x="45" y="1237"/>
                  </a:lnTo>
                  <a:lnTo>
                    <a:pt x="37" y="1224"/>
                  </a:lnTo>
                  <a:lnTo>
                    <a:pt x="27" y="1213"/>
                  </a:lnTo>
                  <a:lnTo>
                    <a:pt x="18" y="1200"/>
                  </a:lnTo>
                  <a:lnTo>
                    <a:pt x="8" y="1189"/>
                  </a:lnTo>
                  <a:lnTo>
                    <a:pt x="0" y="1177"/>
                  </a:lnTo>
                  <a:lnTo>
                    <a:pt x="1185" y="167"/>
                  </a:lnTo>
                  <a:lnTo>
                    <a:pt x="1185" y="167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5092560"/>
              <a:ext cx="2173320" cy="1868040"/>
            </a:xfrm>
            <a:custGeom>
              <a:avLst/>
              <a:gdLst/>
              <a:ahLst/>
              <a:rect l="l" t="t" r="r" b="b"/>
              <a:pathLst>
                <a:path w="1369" h="1177">
                  <a:moveTo>
                    <a:pt x="1277" y="167"/>
                  </a:moveTo>
                  <a:lnTo>
                    <a:pt x="1284" y="162"/>
                  </a:lnTo>
                  <a:lnTo>
                    <a:pt x="1291" y="155"/>
                  </a:lnTo>
                  <a:lnTo>
                    <a:pt x="1299" y="149"/>
                  </a:lnTo>
                  <a:lnTo>
                    <a:pt x="1306" y="142"/>
                  </a:lnTo>
                  <a:lnTo>
                    <a:pt x="1311" y="136"/>
                  </a:lnTo>
                  <a:lnTo>
                    <a:pt x="1319" y="129"/>
                  </a:lnTo>
                  <a:lnTo>
                    <a:pt x="1325" y="123"/>
                  </a:lnTo>
                  <a:lnTo>
                    <a:pt x="1332" y="115"/>
                  </a:lnTo>
                  <a:lnTo>
                    <a:pt x="1337" y="110"/>
                  </a:lnTo>
                  <a:lnTo>
                    <a:pt x="1342" y="103"/>
                  </a:lnTo>
                  <a:lnTo>
                    <a:pt x="1347" y="96"/>
                  </a:lnTo>
                  <a:lnTo>
                    <a:pt x="1353" y="88"/>
                  </a:lnTo>
                  <a:lnTo>
                    <a:pt x="1357" y="81"/>
                  </a:lnTo>
                  <a:lnTo>
                    <a:pt x="1361" y="73"/>
                  </a:lnTo>
                  <a:lnTo>
                    <a:pt x="1365" y="65"/>
                  </a:lnTo>
                  <a:lnTo>
                    <a:pt x="1368" y="56"/>
                  </a:lnTo>
                  <a:lnTo>
                    <a:pt x="1368" y="52"/>
                  </a:lnTo>
                  <a:lnTo>
                    <a:pt x="1368" y="48"/>
                  </a:lnTo>
                  <a:lnTo>
                    <a:pt x="1368" y="45"/>
                  </a:lnTo>
                  <a:lnTo>
                    <a:pt x="1368" y="41"/>
                  </a:lnTo>
                  <a:lnTo>
                    <a:pt x="1367" y="37"/>
                  </a:lnTo>
                  <a:lnTo>
                    <a:pt x="1367" y="33"/>
                  </a:lnTo>
                  <a:lnTo>
                    <a:pt x="1365" y="29"/>
                  </a:lnTo>
                  <a:lnTo>
                    <a:pt x="1365" y="25"/>
                  </a:lnTo>
                  <a:lnTo>
                    <a:pt x="1362" y="23"/>
                  </a:lnTo>
                  <a:lnTo>
                    <a:pt x="1360" y="19"/>
                  </a:lnTo>
                  <a:lnTo>
                    <a:pt x="1358" y="15"/>
                  </a:lnTo>
                  <a:lnTo>
                    <a:pt x="1357" y="11"/>
                  </a:lnTo>
                  <a:lnTo>
                    <a:pt x="1353" y="9"/>
                  </a:lnTo>
                  <a:lnTo>
                    <a:pt x="1351" y="6"/>
                  </a:lnTo>
                  <a:lnTo>
                    <a:pt x="1347" y="4"/>
                  </a:lnTo>
                  <a:lnTo>
                    <a:pt x="1345" y="0"/>
                  </a:lnTo>
                  <a:lnTo>
                    <a:pt x="1341" y="1"/>
                  </a:lnTo>
                  <a:lnTo>
                    <a:pt x="1338" y="1"/>
                  </a:lnTo>
                  <a:lnTo>
                    <a:pt x="1335" y="1"/>
                  </a:lnTo>
                  <a:lnTo>
                    <a:pt x="1333" y="1"/>
                  </a:lnTo>
                  <a:lnTo>
                    <a:pt x="1329" y="3"/>
                  </a:lnTo>
                  <a:lnTo>
                    <a:pt x="1327" y="3"/>
                  </a:lnTo>
                  <a:lnTo>
                    <a:pt x="1325" y="3"/>
                  </a:lnTo>
                  <a:lnTo>
                    <a:pt x="1323" y="3"/>
                  </a:lnTo>
                  <a:lnTo>
                    <a:pt x="1321" y="5"/>
                  </a:lnTo>
                  <a:lnTo>
                    <a:pt x="1319" y="6"/>
                  </a:lnTo>
                  <a:lnTo>
                    <a:pt x="1317" y="8"/>
                  </a:lnTo>
                  <a:lnTo>
                    <a:pt x="1315" y="8"/>
                  </a:lnTo>
                  <a:lnTo>
                    <a:pt x="1313" y="9"/>
                  </a:lnTo>
                  <a:lnTo>
                    <a:pt x="1311" y="10"/>
                  </a:lnTo>
                  <a:lnTo>
                    <a:pt x="1310" y="12"/>
                  </a:lnTo>
                  <a:lnTo>
                    <a:pt x="1309" y="12"/>
                  </a:lnTo>
                  <a:lnTo>
                    <a:pt x="1290" y="28"/>
                  </a:lnTo>
                  <a:lnTo>
                    <a:pt x="1246" y="65"/>
                  </a:lnTo>
                  <a:lnTo>
                    <a:pt x="1179" y="121"/>
                  </a:lnTo>
                  <a:lnTo>
                    <a:pt x="1095" y="192"/>
                  </a:lnTo>
                  <a:lnTo>
                    <a:pt x="995" y="277"/>
                  </a:lnTo>
                  <a:lnTo>
                    <a:pt x="885" y="369"/>
                  </a:lnTo>
                  <a:lnTo>
                    <a:pt x="767" y="468"/>
                  </a:lnTo>
                  <a:lnTo>
                    <a:pt x="646" y="569"/>
                  </a:lnTo>
                  <a:lnTo>
                    <a:pt x="525" y="671"/>
                  </a:lnTo>
                  <a:lnTo>
                    <a:pt x="408" y="770"/>
                  </a:lnTo>
                  <a:lnTo>
                    <a:pt x="298" y="863"/>
                  </a:lnTo>
                  <a:lnTo>
                    <a:pt x="201" y="944"/>
                  </a:lnTo>
                  <a:lnTo>
                    <a:pt x="118" y="1013"/>
                  </a:lnTo>
                  <a:lnTo>
                    <a:pt x="55" y="1067"/>
                  </a:lnTo>
                  <a:lnTo>
                    <a:pt x="14" y="1101"/>
                  </a:lnTo>
                  <a:lnTo>
                    <a:pt x="0" y="1113"/>
                  </a:lnTo>
                  <a:lnTo>
                    <a:pt x="2" y="1113"/>
                  </a:lnTo>
                  <a:lnTo>
                    <a:pt x="6" y="1113"/>
                  </a:lnTo>
                  <a:lnTo>
                    <a:pt x="10" y="1115"/>
                  </a:lnTo>
                  <a:lnTo>
                    <a:pt x="14" y="1115"/>
                  </a:lnTo>
                  <a:lnTo>
                    <a:pt x="17" y="1118"/>
                  </a:lnTo>
                  <a:lnTo>
                    <a:pt x="22" y="1120"/>
                  </a:lnTo>
                  <a:lnTo>
                    <a:pt x="27" y="1123"/>
                  </a:lnTo>
                  <a:lnTo>
                    <a:pt x="33" y="1126"/>
                  </a:lnTo>
                  <a:lnTo>
                    <a:pt x="38" y="1131"/>
                  </a:lnTo>
                  <a:lnTo>
                    <a:pt x="43" y="1136"/>
                  </a:lnTo>
                  <a:lnTo>
                    <a:pt x="50" y="1141"/>
                  </a:lnTo>
                  <a:lnTo>
                    <a:pt x="57" y="1147"/>
                  </a:lnTo>
                  <a:lnTo>
                    <a:pt x="65" y="1155"/>
                  </a:lnTo>
                  <a:lnTo>
                    <a:pt x="73" y="1161"/>
                  </a:lnTo>
                  <a:lnTo>
                    <a:pt x="82" y="1168"/>
                  </a:lnTo>
                  <a:lnTo>
                    <a:pt x="91" y="1176"/>
                  </a:lnTo>
                  <a:lnTo>
                    <a:pt x="1277" y="167"/>
                  </a:lnTo>
                  <a:lnTo>
                    <a:pt x="1277" y="167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3860000">
              <a:off x="-79200" y="6981120"/>
              <a:ext cx="445680" cy="12240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13040" y="5154480"/>
              <a:ext cx="326880" cy="29160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163" y="0"/>
                  </a:moveTo>
                  <a:lnTo>
                    <a:pt x="162" y="2"/>
                  </a:lnTo>
                  <a:lnTo>
                    <a:pt x="162" y="2"/>
                  </a:lnTo>
                  <a:lnTo>
                    <a:pt x="162" y="4"/>
                  </a:lnTo>
                  <a:lnTo>
                    <a:pt x="162" y="5"/>
                  </a:lnTo>
                  <a:lnTo>
                    <a:pt x="162" y="8"/>
                  </a:lnTo>
                  <a:lnTo>
                    <a:pt x="162" y="10"/>
                  </a:lnTo>
                  <a:lnTo>
                    <a:pt x="162" y="12"/>
                  </a:lnTo>
                  <a:lnTo>
                    <a:pt x="162" y="14"/>
                  </a:lnTo>
                  <a:lnTo>
                    <a:pt x="160" y="18"/>
                  </a:lnTo>
                  <a:lnTo>
                    <a:pt x="160" y="21"/>
                  </a:lnTo>
                  <a:lnTo>
                    <a:pt x="158" y="25"/>
                  </a:lnTo>
                  <a:lnTo>
                    <a:pt x="158" y="27"/>
                  </a:lnTo>
                  <a:lnTo>
                    <a:pt x="156" y="30"/>
                  </a:lnTo>
                  <a:lnTo>
                    <a:pt x="156" y="33"/>
                  </a:lnTo>
                  <a:lnTo>
                    <a:pt x="156" y="36"/>
                  </a:lnTo>
                  <a:lnTo>
                    <a:pt x="156" y="38"/>
                  </a:lnTo>
                  <a:lnTo>
                    <a:pt x="152" y="42"/>
                  </a:lnTo>
                  <a:lnTo>
                    <a:pt x="150" y="45"/>
                  </a:lnTo>
                  <a:lnTo>
                    <a:pt x="148" y="49"/>
                  </a:lnTo>
                  <a:lnTo>
                    <a:pt x="146" y="52"/>
                  </a:lnTo>
                  <a:lnTo>
                    <a:pt x="142" y="56"/>
                  </a:lnTo>
                  <a:lnTo>
                    <a:pt x="140" y="60"/>
                  </a:lnTo>
                  <a:lnTo>
                    <a:pt x="138" y="64"/>
                  </a:lnTo>
                  <a:lnTo>
                    <a:pt x="136" y="65"/>
                  </a:lnTo>
                  <a:lnTo>
                    <a:pt x="133" y="69"/>
                  </a:lnTo>
                  <a:lnTo>
                    <a:pt x="131" y="73"/>
                  </a:lnTo>
                  <a:lnTo>
                    <a:pt x="128" y="76"/>
                  </a:lnTo>
                  <a:lnTo>
                    <a:pt x="126" y="78"/>
                  </a:lnTo>
                  <a:lnTo>
                    <a:pt x="122" y="82"/>
                  </a:lnTo>
                  <a:lnTo>
                    <a:pt x="120" y="84"/>
                  </a:lnTo>
                  <a:lnTo>
                    <a:pt x="118" y="86"/>
                  </a:lnTo>
                  <a:lnTo>
                    <a:pt x="116" y="88"/>
                  </a:lnTo>
                  <a:lnTo>
                    <a:pt x="112" y="94"/>
                  </a:lnTo>
                  <a:lnTo>
                    <a:pt x="106" y="98"/>
                  </a:lnTo>
                  <a:lnTo>
                    <a:pt x="99" y="105"/>
                  </a:lnTo>
                  <a:lnTo>
                    <a:pt x="92" y="111"/>
                  </a:lnTo>
                  <a:lnTo>
                    <a:pt x="82" y="119"/>
                  </a:lnTo>
                  <a:lnTo>
                    <a:pt x="72" y="126"/>
                  </a:lnTo>
                  <a:lnTo>
                    <a:pt x="62" y="135"/>
                  </a:lnTo>
                  <a:lnTo>
                    <a:pt x="52" y="142"/>
                  </a:lnTo>
                  <a:lnTo>
                    <a:pt x="42" y="151"/>
                  </a:lnTo>
                  <a:lnTo>
                    <a:pt x="32" y="158"/>
                  </a:lnTo>
                  <a:lnTo>
                    <a:pt x="23" y="166"/>
                  </a:lnTo>
                  <a:lnTo>
                    <a:pt x="16" y="172"/>
                  </a:lnTo>
                  <a:lnTo>
                    <a:pt x="9" y="177"/>
                  </a:lnTo>
                  <a:lnTo>
                    <a:pt x="4" y="181"/>
                  </a:lnTo>
                  <a:lnTo>
                    <a:pt x="1" y="183"/>
                  </a:lnTo>
                  <a:lnTo>
                    <a:pt x="0" y="183"/>
                  </a:lnTo>
                  <a:lnTo>
                    <a:pt x="1" y="183"/>
                  </a:lnTo>
                  <a:lnTo>
                    <a:pt x="4" y="182"/>
                  </a:lnTo>
                  <a:lnTo>
                    <a:pt x="8" y="180"/>
                  </a:lnTo>
                  <a:lnTo>
                    <a:pt x="16" y="176"/>
                  </a:lnTo>
                  <a:lnTo>
                    <a:pt x="22" y="173"/>
                  </a:lnTo>
                  <a:lnTo>
                    <a:pt x="32" y="168"/>
                  </a:lnTo>
                  <a:lnTo>
                    <a:pt x="41" y="163"/>
                  </a:lnTo>
                  <a:lnTo>
                    <a:pt x="52" y="158"/>
                  </a:lnTo>
                  <a:lnTo>
                    <a:pt x="63" y="153"/>
                  </a:lnTo>
                  <a:lnTo>
                    <a:pt x="74" y="148"/>
                  </a:lnTo>
                  <a:lnTo>
                    <a:pt x="85" y="142"/>
                  </a:lnTo>
                  <a:lnTo>
                    <a:pt x="98" y="136"/>
                  </a:lnTo>
                  <a:lnTo>
                    <a:pt x="109" y="132"/>
                  </a:lnTo>
                  <a:lnTo>
                    <a:pt x="120" y="126"/>
                  </a:lnTo>
                  <a:lnTo>
                    <a:pt x="130" y="123"/>
                  </a:lnTo>
                  <a:lnTo>
                    <a:pt x="141" y="118"/>
                  </a:lnTo>
                  <a:lnTo>
                    <a:pt x="142" y="118"/>
                  </a:lnTo>
                  <a:lnTo>
                    <a:pt x="144" y="117"/>
                  </a:lnTo>
                  <a:lnTo>
                    <a:pt x="146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5" y="112"/>
                  </a:lnTo>
                  <a:lnTo>
                    <a:pt x="159" y="110"/>
                  </a:lnTo>
                  <a:lnTo>
                    <a:pt x="163" y="108"/>
                  </a:lnTo>
                  <a:lnTo>
                    <a:pt x="165" y="106"/>
                  </a:lnTo>
                  <a:lnTo>
                    <a:pt x="169" y="105"/>
                  </a:lnTo>
                  <a:lnTo>
                    <a:pt x="173" y="103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82" y="95"/>
                  </a:lnTo>
                  <a:lnTo>
                    <a:pt x="184" y="93"/>
                  </a:lnTo>
                  <a:lnTo>
                    <a:pt x="188" y="89"/>
                  </a:lnTo>
                  <a:lnTo>
                    <a:pt x="190" y="87"/>
                  </a:lnTo>
                  <a:lnTo>
                    <a:pt x="193" y="84"/>
                  </a:lnTo>
                  <a:lnTo>
                    <a:pt x="195" y="82"/>
                  </a:lnTo>
                  <a:lnTo>
                    <a:pt x="198" y="78"/>
                  </a:lnTo>
                  <a:lnTo>
                    <a:pt x="200" y="76"/>
                  </a:lnTo>
                  <a:lnTo>
                    <a:pt x="201" y="73"/>
                  </a:lnTo>
                  <a:lnTo>
                    <a:pt x="203" y="69"/>
                  </a:lnTo>
                  <a:lnTo>
                    <a:pt x="204" y="65"/>
                  </a:lnTo>
                  <a:lnTo>
                    <a:pt x="204" y="62"/>
                  </a:lnTo>
                  <a:lnTo>
                    <a:pt x="205" y="58"/>
                  </a:lnTo>
                  <a:lnTo>
                    <a:pt x="204" y="55"/>
                  </a:lnTo>
                  <a:lnTo>
                    <a:pt x="204" y="50"/>
                  </a:lnTo>
                  <a:lnTo>
                    <a:pt x="203" y="47"/>
                  </a:lnTo>
                  <a:lnTo>
                    <a:pt x="201" y="41"/>
                  </a:lnTo>
                  <a:lnTo>
                    <a:pt x="200" y="37"/>
                  </a:lnTo>
                  <a:lnTo>
                    <a:pt x="198" y="31"/>
                  </a:lnTo>
                  <a:lnTo>
                    <a:pt x="194" y="27"/>
                  </a:lnTo>
                  <a:lnTo>
                    <a:pt x="192" y="23"/>
                  </a:lnTo>
                  <a:lnTo>
                    <a:pt x="188" y="20"/>
                  </a:lnTo>
                  <a:lnTo>
                    <a:pt x="186" y="16"/>
                  </a:lnTo>
                  <a:lnTo>
                    <a:pt x="183" y="14"/>
                  </a:lnTo>
                  <a:lnTo>
                    <a:pt x="181" y="11"/>
                  </a:lnTo>
                  <a:lnTo>
                    <a:pt x="177" y="9"/>
                  </a:lnTo>
                  <a:lnTo>
                    <a:pt x="175" y="6"/>
                  </a:lnTo>
                  <a:lnTo>
                    <a:pt x="172" y="6"/>
                  </a:lnTo>
                  <a:lnTo>
                    <a:pt x="170" y="4"/>
                  </a:lnTo>
                  <a:lnTo>
                    <a:pt x="168" y="4"/>
                  </a:lnTo>
                  <a:lnTo>
                    <a:pt x="166" y="2"/>
                  </a:lnTo>
                  <a:lnTo>
                    <a:pt x="164" y="2"/>
                  </a:lnTo>
                  <a:lnTo>
                    <a:pt x="164" y="2"/>
                  </a:lnTo>
                  <a:lnTo>
                    <a:pt x="163" y="2"/>
                  </a:lnTo>
                  <a:lnTo>
                    <a:pt x="163" y="0"/>
                  </a:lnTo>
                  <a:lnTo>
                    <a:pt x="163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13000" y="5001840"/>
              <a:ext cx="281160" cy="290160"/>
            </a:xfrm>
            <a:custGeom>
              <a:avLst/>
              <a:gdLst/>
              <a:ahLst/>
              <a:rect l="l" t="t" r="r" b="b"/>
              <a:pathLst>
                <a:path w="177" h="183">
                  <a:moveTo>
                    <a:pt x="176" y="10"/>
                  </a:moveTo>
                  <a:lnTo>
                    <a:pt x="163" y="21"/>
                  </a:lnTo>
                  <a:lnTo>
                    <a:pt x="152" y="32"/>
                  </a:lnTo>
                  <a:lnTo>
                    <a:pt x="139" y="43"/>
                  </a:lnTo>
                  <a:lnTo>
                    <a:pt x="128" y="52"/>
                  </a:lnTo>
                  <a:lnTo>
                    <a:pt x="117" y="63"/>
                  </a:lnTo>
                  <a:lnTo>
                    <a:pt x="105" y="73"/>
                  </a:lnTo>
                  <a:lnTo>
                    <a:pt x="95" y="84"/>
                  </a:lnTo>
                  <a:lnTo>
                    <a:pt x="87" y="93"/>
                  </a:lnTo>
                  <a:lnTo>
                    <a:pt x="77" y="104"/>
                  </a:lnTo>
                  <a:lnTo>
                    <a:pt x="70" y="114"/>
                  </a:lnTo>
                  <a:lnTo>
                    <a:pt x="63" y="126"/>
                  </a:lnTo>
                  <a:lnTo>
                    <a:pt x="57" y="135"/>
                  </a:lnTo>
                  <a:lnTo>
                    <a:pt x="52" y="146"/>
                  </a:lnTo>
                  <a:lnTo>
                    <a:pt x="49" y="156"/>
                  </a:lnTo>
                  <a:lnTo>
                    <a:pt x="47" y="166"/>
                  </a:lnTo>
                  <a:lnTo>
                    <a:pt x="47" y="176"/>
                  </a:lnTo>
                  <a:lnTo>
                    <a:pt x="45" y="180"/>
                  </a:lnTo>
                  <a:lnTo>
                    <a:pt x="45" y="181"/>
                  </a:lnTo>
                  <a:lnTo>
                    <a:pt x="43" y="182"/>
                  </a:lnTo>
                  <a:lnTo>
                    <a:pt x="43" y="181"/>
                  </a:lnTo>
                  <a:lnTo>
                    <a:pt x="41" y="180"/>
                  </a:lnTo>
                  <a:lnTo>
                    <a:pt x="39" y="178"/>
                  </a:lnTo>
                  <a:lnTo>
                    <a:pt x="37" y="174"/>
                  </a:lnTo>
                  <a:lnTo>
                    <a:pt x="36" y="170"/>
                  </a:lnTo>
                  <a:lnTo>
                    <a:pt x="32" y="166"/>
                  </a:lnTo>
                  <a:lnTo>
                    <a:pt x="30" y="162"/>
                  </a:lnTo>
                  <a:lnTo>
                    <a:pt x="29" y="158"/>
                  </a:lnTo>
                  <a:lnTo>
                    <a:pt x="27" y="153"/>
                  </a:lnTo>
                  <a:lnTo>
                    <a:pt x="25" y="149"/>
                  </a:lnTo>
                  <a:lnTo>
                    <a:pt x="23" y="145"/>
                  </a:lnTo>
                  <a:lnTo>
                    <a:pt x="21" y="143"/>
                  </a:lnTo>
                  <a:lnTo>
                    <a:pt x="20" y="140"/>
                  </a:lnTo>
                  <a:lnTo>
                    <a:pt x="16" y="138"/>
                  </a:lnTo>
                  <a:lnTo>
                    <a:pt x="14" y="135"/>
                  </a:lnTo>
                  <a:lnTo>
                    <a:pt x="11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4"/>
                  </a:lnTo>
                  <a:lnTo>
                    <a:pt x="4" y="123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0" y="120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7" y="115"/>
                  </a:lnTo>
                  <a:lnTo>
                    <a:pt x="15" y="113"/>
                  </a:lnTo>
                  <a:lnTo>
                    <a:pt x="24" y="110"/>
                  </a:lnTo>
                  <a:lnTo>
                    <a:pt x="34" y="104"/>
                  </a:lnTo>
                  <a:lnTo>
                    <a:pt x="44" y="99"/>
                  </a:lnTo>
                  <a:lnTo>
                    <a:pt x="56" y="93"/>
                  </a:lnTo>
                  <a:lnTo>
                    <a:pt x="67" y="85"/>
                  </a:lnTo>
                  <a:lnTo>
                    <a:pt x="79" y="77"/>
                  </a:lnTo>
                  <a:lnTo>
                    <a:pt x="90" y="70"/>
                  </a:lnTo>
                  <a:lnTo>
                    <a:pt x="102" y="60"/>
                  </a:lnTo>
                  <a:lnTo>
                    <a:pt x="113" y="51"/>
                  </a:lnTo>
                  <a:lnTo>
                    <a:pt x="125" y="41"/>
                  </a:lnTo>
                  <a:lnTo>
                    <a:pt x="134" y="32"/>
                  </a:lnTo>
                  <a:lnTo>
                    <a:pt x="145" y="21"/>
                  </a:lnTo>
                  <a:lnTo>
                    <a:pt x="154" y="12"/>
                  </a:lnTo>
                  <a:lnTo>
                    <a:pt x="162" y="0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4" y="2"/>
                  </a:lnTo>
                  <a:lnTo>
                    <a:pt x="166" y="2"/>
                  </a:lnTo>
                  <a:lnTo>
                    <a:pt x="166" y="4"/>
                  </a:lnTo>
                  <a:lnTo>
                    <a:pt x="168" y="4"/>
                  </a:lnTo>
                  <a:lnTo>
                    <a:pt x="168" y="4"/>
                  </a:lnTo>
                  <a:lnTo>
                    <a:pt x="170" y="4"/>
                  </a:lnTo>
                  <a:lnTo>
                    <a:pt x="170" y="5"/>
                  </a:lnTo>
                  <a:lnTo>
                    <a:pt x="172" y="5"/>
                  </a:lnTo>
                  <a:lnTo>
                    <a:pt x="172" y="7"/>
                  </a:lnTo>
                  <a:lnTo>
                    <a:pt x="173" y="7"/>
                  </a:lnTo>
                  <a:lnTo>
                    <a:pt x="173" y="9"/>
                  </a:lnTo>
                  <a:lnTo>
                    <a:pt x="174" y="9"/>
                  </a:lnTo>
                  <a:lnTo>
                    <a:pt x="174" y="10"/>
                  </a:lnTo>
                  <a:lnTo>
                    <a:pt x="176" y="10"/>
                  </a:lnTo>
                  <a:lnTo>
                    <a:pt x="176" y="1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47240" y="5449680"/>
              <a:ext cx="1763640" cy="150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84400" y="5346360"/>
              <a:ext cx="2085840" cy="181584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36880" y="3512880"/>
              <a:ext cx="843120" cy="1798200"/>
            </a:xfrm>
            <a:custGeom>
              <a:avLst/>
              <a:gdLst/>
              <a:ahLst/>
              <a:rect l="l" t="t" r="r" b="b"/>
              <a:pathLst>
                <a:path w="531" h="1133">
                  <a:moveTo>
                    <a:pt x="0" y="1132"/>
                  </a:moveTo>
                  <a:lnTo>
                    <a:pt x="109" y="1094"/>
                  </a:lnTo>
                  <a:lnTo>
                    <a:pt x="204" y="1048"/>
                  </a:lnTo>
                  <a:lnTo>
                    <a:pt x="286" y="993"/>
                  </a:lnTo>
                  <a:lnTo>
                    <a:pt x="355" y="930"/>
                  </a:lnTo>
                  <a:lnTo>
                    <a:pt x="411" y="863"/>
                  </a:lnTo>
                  <a:lnTo>
                    <a:pt x="456" y="790"/>
                  </a:lnTo>
                  <a:lnTo>
                    <a:pt x="490" y="714"/>
                  </a:lnTo>
                  <a:lnTo>
                    <a:pt x="513" y="633"/>
                  </a:lnTo>
                  <a:lnTo>
                    <a:pt x="526" y="552"/>
                  </a:lnTo>
                  <a:lnTo>
                    <a:pt x="530" y="468"/>
                  </a:lnTo>
                  <a:lnTo>
                    <a:pt x="524" y="386"/>
                  </a:lnTo>
                  <a:lnTo>
                    <a:pt x="511" y="303"/>
                  </a:lnTo>
                  <a:lnTo>
                    <a:pt x="489" y="223"/>
                  </a:lnTo>
                  <a:lnTo>
                    <a:pt x="461" y="145"/>
                  </a:lnTo>
                  <a:lnTo>
                    <a:pt x="425" y="70"/>
                  </a:lnTo>
                  <a:lnTo>
                    <a:pt x="38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55960" y="5148000"/>
              <a:ext cx="1246320" cy="205920"/>
            </a:xfrm>
            <a:custGeom>
              <a:avLst/>
              <a:gdLst/>
              <a:ahLst/>
              <a:rect l="l" t="t" r="r" b="b"/>
              <a:pathLst>
                <a:path w="785" h="130">
                  <a:moveTo>
                    <a:pt x="0" y="52"/>
                  </a:moveTo>
                  <a:lnTo>
                    <a:pt x="47" y="71"/>
                  </a:lnTo>
                  <a:lnTo>
                    <a:pt x="95" y="86"/>
                  </a:lnTo>
                  <a:lnTo>
                    <a:pt x="142" y="100"/>
                  </a:lnTo>
                  <a:lnTo>
                    <a:pt x="191" y="111"/>
                  </a:lnTo>
                  <a:lnTo>
                    <a:pt x="238" y="120"/>
                  </a:lnTo>
                  <a:lnTo>
                    <a:pt x="286" y="126"/>
                  </a:lnTo>
                  <a:lnTo>
                    <a:pt x="334" y="129"/>
                  </a:lnTo>
                  <a:lnTo>
                    <a:pt x="383" y="129"/>
                  </a:lnTo>
                  <a:lnTo>
                    <a:pt x="431" y="127"/>
                  </a:lnTo>
                  <a:lnTo>
                    <a:pt x="479" y="119"/>
                  </a:lnTo>
                  <a:lnTo>
                    <a:pt x="529" y="110"/>
                  </a:lnTo>
                  <a:lnTo>
                    <a:pt x="579" y="95"/>
                  </a:lnTo>
                  <a:lnTo>
                    <a:pt x="629" y="78"/>
                  </a:lnTo>
                  <a:lnTo>
                    <a:pt x="679" y="56"/>
                  </a:lnTo>
                  <a:lnTo>
                    <a:pt x="731" y="30"/>
                  </a:lnTo>
                  <a:lnTo>
                    <a:pt x="784" y="0"/>
                  </a:lnTo>
                </a:path>
              </a:pathLst>
            </a:custGeom>
            <a:noFill/>
            <a:ln w="936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059280" y="1198440"/>
            <a:ext cx="6995880" cy="8386920"/>
          </a:xfrm>
          <a:prstGeom prst="irregularSeal2">
            <a:avLst/>
          </a:prstGeom>
          <a:solidFill>
            <a:srgbClr val="00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Brush738 BT"/>
              </a:rPr>
              <a:t>Miremos más de cerca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736560" y="774360"/>
            <a:ext cx="945216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efecto ingres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7680" y="2697120"/>
            <a:ext cx="8942400" cy="3048120"/>
          </a:xfrm>
          <a:custGeom>
            <a:avLst/>
            <a:gdLst/>
            <a:ahLst/>
            <a:rect l="l" t="t" r="r" b="b"/>
            <a:pathLst>
              <a:path w="5633" h="1920">
                <a:moveTo>
                  <a:pt x="5632" y="1817"/>
                </a:moveTo>
                <a:lnTo>
                  <a:pt x="5632" y="1817"/>
                </a:lnTo>
                <a:lnTo>
                  <a:pt x="3896" y="1859"/>
                </a:lnTo>
                <a:lnTo>
                  <a:pt x="3556" y="1899"/>
                </a:lnTo>
                <a:lnTo>
                  <a:pt x="3117" y="1919"/>
                </a:lnTo>
                <a:lnTo>
                  <a:pt x="257" y="1817"/>
                </a:lnTo>
                <a:lnTo>
                  <a:pt x="0" y="0"/>
                </a:lnTo>
                <a:lnTo>
                  <a:pt x="5632" y="1817"/>
                </a:lnTo>
                <a:lnTo>
                  <a:pt x="5632" y="1817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258840" y="3267000"/>
            <a:ext cx="6343560" cy="4191120"/>
          </a:xfrm>
          <a:custGeom>
            <a:avLst/>
            <a:gdLst/>
            <a:ahLst/>
            <a:rect l="l" t="t" r="r" b="b"/>
            <a:pathLst>
              <a:path w="3996" h="2640">
                <a:moveTo>
                  <a:pt x="3755" y="2119"/>
                </a:moveTo>
                <a:lnTo>
                  <a:pt x="3995" y="2299"/>
                </a:lnTo>
                <a:lnTo>
                  <a:pt x="3436" y="2279"/>
                </a:lnTo>
                <a:lnTo>
                  <a:pt x="3237" y="2378"/>
                </a:lnTo>
                <a:lnTo>
                  <a:pt x="2417" y="2639"/>
                </a:lnTo>
                <a:lnTo>
                  <a:pt x="1379" y="2358"/>
                </a:lnTo>
                <a:lnTo>
                  <a:pt x="1098" y="2099"/>
                </a:lnTo>
                <a:lnTo>
                  <a:pt x="800" y="2419"/>
                </a:lnTo>
                <a:lnTo>
                  <a:pt x="539" y="1899"/>
                </a:lnTo>
                <a:lnTo>
                  <a:pt x="359" y="1740"/>
                </a:lnTo>
                <a:lnTo>
                  <a:pt x="121" y="1340"/>
                </a:lnTo>
                <a:lnTo>
                  <a:pt x="40" y="1239"/>
                </a:lnTo>
                <a:lnTo>
                  <a:pt x="0" y="1099"/>
                </a:lnTo>
                <a:lnTo>
                  <a:pt x="140" y="1000"/>
                </a:lnTo>
                <a:lnTo>
                  <a:pt x="121" y="800"/>
                </a:lnTo>
                <a:lnTo>
                  <a:pt x="339" y="560"/>
                </a:lnTo>
                <a:lnTo>
                  <a:pt x="598" y="0"/>
                </a:lnTo>
                <a:lnTo>
                  <a:pt x="3755" y="2119"/>
                </a:lnTo>
                <a:lnTo>
                  <a:pt x="3755" y="2119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47960" y="3309840"/>
            <a:ext cx="4273560" cy="2476440"/>
          </a:xfrm>
          <a:custGeom>
            <a:avLst/>
            <a:gdLst/>
            <a:ahLst/>
            <a:rect l="l" t="t" r="r" b="b"/>
            <a:pathLst>
              <a:path w="2692" h="1560">
                <a:moveTo>
                  <a:pt x="0" y="0"/>
                </a:moveTo>
                <a:lnTo>
                  <a:pt x="12" y="27"/>
                </a:lnTo>
                <a:lnTo>
                  <a:pt x="28" y="57"/>
                </a:lnTo>
                <a:lnTo>
                  <a:pt x="45" y="89"/>
                </a:lnTo>
                <a:lnTo>
                  <a:pt x="65" y="122"/>
                </a:lnTo>
                <a:lnTo>
                  <a:pt x="85" y="158"/>
                </a:lnTo>
                <a:lnTo>
                  <a:pt x="107" y="194"/>
                </a:lnTo>
                <a:lnTo>
                  <a:pt x="131" y="232"/>
                </a:lnTo>
                <a:lnTo>
                  <a:pt x="155" y="269"/>
                </a:lnTo>
                <a:lnTo>
                  <a:pt x="179" y="307"/>
                </a:lnTo>
                <a:lnTo>
                  <a:pt x="204" y="345"/>
                </a:lnTo>
                <a:lnTo>
                  <a:pt x="228" y="381"/>
                </a:lnTo>
                <a:lnTo>
                  <a:pt x="253" y="416"/>
                </a:lnTo>
                <a:lnTo>
                  <a:pt x="277" y="450"/>
                </a:lnTo>
                <a:lnTo>
                  <a:pt x="300" y="482"/>
                </a:lnTo>
                <a:lnTo>
                  <a:pt x="323" y="511"/>
                </a:lnTo>
                <a:lnTo>
                  <a:pt x="345" y="537"/>
                </a:lnTo>
                <a:lnTo>
                  <a:pt x="365" y="565"/>
                </a:lnTo>
                <a:lnTo>
                  <a:pt x="388" y="591"/>
                </a:lnTo>
                <a:lnTo>
                  <a:pt x="413" y="621"/>
                </a:lnTo>
                <a:lnTo>
                  <a:pt x="441" y="649"/>
                </a:lnTo>
                <a:lnTo>
                  <a:pt x="469" y="681"/>
                </a:lnTo>
                <a:lnTo>
                  <a:pt x="498" y="711"/>
                </a:lnTo>
                <a:lnTo>
                  <a:pt x="528" y="743"/>
                </a:lnTo>
                <a:lnTo>
                  <a:pt x="559" y="773"/>
                </a:lnTo>
                <a:lnTo>
                  <a:pt x="589" y="804"/>
                </a:lnTo>
                <a:lnTo>
                  <a:pt x="619" y="833"/>
                </a:lnTo>
                <a:lnTo>
                  <a:pt x="649" y="862"/>
                </a:lnTo>
                <a:lnTo>
                  <a:pt x="678" y="888"/>
                </a:lnTo>
                <a:lnTo>
                  <a:pt x="705" y="914"/>
                </a:lnTo>
                <a:lnTo>
                  <a:pt x="731" y="936"/>
                </a:lnTo>
                <a:lnTo>
                  <a:pt x="755" y="957"/>
                </a:lnTo>
                <a:lnTo>
                  <a:pt x="777" y="974"/>
                </a:lnTo>
                <a:lnTo>
                  <a:pt x="797" y="990"/>
                </a:lnTo>
                <a:lnTo>
                  <a:pt x="818" y="1005"/>
                </a:lnTo>
                <a:lnTo>
                  <a:pt x="840" y="1023"/>
                </a:lnTo>
                <a:lnTo>
                  <a:pt x="863" y="1038"/>
                </a:lnTo>
                <a:lnTo>
                  <a:pt x="884" y="1055"/>
                </a:lnTo>
                <a:lnTo>
                  <a:pt x="906" y="1071"/>
                </a:lnTo>
                <a:lnTo>
                  <a:pt x="927" y="1087"/>
                </a:lnTo>
                <a:lnTo>
                  <a:pt x="949" y="1102"/>
                </a:lnTo>
                <a:lnTo>
                  <a:pt x="969" y="1117"/>
                </a:lnTo>
                <a:lnTo>
                  <a:pt x="988" y="1132"/>
                </a:lnTo>
                <a:lnTo>
                  <a:pt x="1005" y="1145"/>
                </a:lnTo>
                <a:lnTo>
                  <a:pt x="1022" y="1157"/>
                </a:lnTo>
                <a:lnTo>
                  <a:pt x="1037" y="1168"/>
                </a:lnTo>
                <a:lnTo>
                  <a:pt x="1050" y="1177"/>
                </a:lnTo>
                <a:lnTo>
                  <a:pt x="1060" y="1185"/>
                </a:lnTo>
                <a:lnTo>
                  <a:pt x="1070" y="1190"/>
                </a:lnTo>
                <a:lnTo>
                  <a:pt x="1077" y="1196"/>
                </a:lnTo>
                <a:lnTo>
                  <a:pt x="1087" y="1200"/>
                </a:lnTo>
                <a:lnTo>
                  <a:pt x="1098" y="1207"/>
                </a:lnTo>
                <a:lnTo>
                  <a:pt x="1111" y="1212"/>
                </a:lnTo>
                <a:lnTo>
                  <a:pt x="1125" y="1220"/>
                </a:lnTo>
                <a:lnTo>
                  <a:pt x="1141" y="1227"/>
                </a:lnTo>
                <a:lnTo>
                  <a:pt x="1157" y="1234"/>
                </a:lnTo>
                <a:lnTo>
                  <a:pt x="1175" y="1241"/>
                </a:lnTo>
                <a:lnTo>
                  <a:pt x="1191" y="1251"/>
                </a:lnTo>
                <a:lnTo>
                  <a:pt x="1209" y="1258"/>
                </a:lnTo>
                <a:lnTo>
                  <a:pt x="1226" y="1266"/>
                </a:lnTo>
                <a:lnTo>
                  <a:pt x="1245" y="1273"/>
                </a:lnTo>
                <a:lnTo>
                  <a:pt x="1262" y="1281"/>
                </a:lnTo>
                <a:lnTo>
                  <a:pt x="1279" y="1288"/>
                </a:lnTo>
                <a:lnTo>
                  <a:pt x="1296" y="1296"/>
                </a:lnTo>
                <a:lnTo>
                  <a:pt x="1313" y="1301"/>
                </a:lnTo>
                <a:lnTo>
                  <a:pt x="1329" y="1309"/>
                </a:lnTo>
                <a:lnTo>
                  <a:pt x="1349" y="1316"/>
                </a:lnTo>
                <a:lnTo>
                  <a:pt x="1370" y="1325"/>
                </a:lnTo>
                <a:lnTo>
                  <a:pt x="1395" y="1332"/>
                </a:lnTo>
                <a:lnTo>
                  <a:pt x="1421" y="1341"/>
                </a:lnTo>
                <a:lnTo>
                  <a:pt x="1448" y="1350"/>
                </a:lnTo>
                <a:lnTo>
                  <a:pt x="1477" y="1359"/>
                </a:lnTo>
                <a:lnTo>
                  <a:pt x="1507" y="1367"/>
                </a:lnTo>
                <a:lnTo>
                  <a:pt x="1537" y="1376"/>
                </a:lnTo>
                <a:lnTo>
                  <a:pt x="1567" y="1385"/>
                </a:lnTo>
                <a:lnTo>
                  <a:pt x="1597" y="1395"/>
                </a:lnTo>
                <a:lnTo>
                  <a:pt x="1627" y="1403"/>
                </a:lnTo>
                <a:lnTo>
                  <a:pt x="1655" y="1411"/>
                </a:lnTo>
                <a:lnTo>
                  <a:pt x="1684" y="1419"/>
                </a:lnTo>
                <a:lnTo>
                  <a:pt x="1711" y="1426"/>
                </a:lnTo>
                <a:lnTo>
                  <a:pt x="1736" y="1432"/>
                </a:lnTo>
                <a:lnTo>
                  <a:pt x="1760" y="1440"/>
                </a:lnTo>
                <a:lnTo>
                  <a:pt x="1787" y="1445"/>
                </a:lnTo>
                <a:lnTo>
                  <a:pt x="1816" y="1452"/>
                </a:lnTo>
                <a:lnTo>
                  <a:pt x="1847" y="1458"/>
                </a:lnTo>
                <a:lnTo>
                  <a:pt x="1878" y="1465"/>
                </a:lnTo>
                <a:lnTo>
                  <a:pt x="1910" y="1471"/>
                </a:lnTo>
                <a:lnTo>
                  <a:pt x="1943" y="1477"/>
                </a:lnTo>
                <a:lnTo>
                  <a:pt x="1977" y="1482"/>
                </a:lnTo>
                <a:lnTo>
                  <a:pt x="2009" y="1489"/>
                </a:lnTo>
                <a:lnTo>
                  <a:pt x="2042" y="1494"/>
                </a:lnTo>
                <a:lnTo>
                  <a:pt x="2073" y="1500"/>
                </a:lnTo>
                <a:lnTo>
                  <a:pt x="2104" y="1505"/>
                </a:lnTo>
                <a:lnTo>
                  <a:pt x="2133" y="1510"/>
                </a:lnTo>
                <a:lnTo>
                  <a:pt x="2159" y="1513"/>
                </a:lnTo>
                <a:lnTo>
                  <a:pt x="2184" y="1517"/>
                </a:lnTo>
                <a:lnTo>
                  <a:pt x="2207" y="1519"/>
                </a:lnTo>
                <a:lnTo>
                  <a:pt x="2227" y="1523"/>
                </a:lnTo>
                <a:lnTo>
                  <a:pt x="2252" y="1525"/>
                </a:lnTo>
                <a:lnTo>
                  <a:pt x="2278" y="1528"/>
                </a:lnTo>
                <a:lnTo>
                  <a:pt x="2307" y="1530"/>
                </a:lnTo>
                <a:lnTo>
                  <a:pt x="2338" y="1533"/>
                </a:lnTo>
                <a:lnTo>
                  <a:pt x="2370" y="1535"/>
                </a:lnTo>
                <a:lnTo>
                  <a:pt x="2403" y="1539"/>
                </a:lnTo>
                <a:lnTo>
                  <a:pt x="2437" y="1541"/>
                </a:lnTo>
                <a:lnTo>
                  <a:pt x="2471" y="1545"/>
                </a:lnTo>
                <a:lnTo>
                  <a:pt x="2505" y="1547"/>
                </a:lnTo>
                <a:lnTo>
                  <a:pt x="2539" y="1550"/>
                </a:lnTo>
                <a:lnTo>
                  <a:pt x="2573" y="1551"/>
                </a:lnTo>
                <a:lnTo>
                  <a:pt x="2604" y="1554"/>
                </a:lnTo>
                <a:lnTo>
                  <a:pt x="2635" y="1556"/>
                </a:lnTo>
                <a:lnTo>
                  <a:pt x="2664" y="1558"/>
                </a:lnTo>
                <a:lnTo>
                  <a:pt x="2691" y="1559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68600" y="2500200"/>
            <a:ext cx="3063960" cy="2111400"/>
          </a:xfrm>
          <a:custGeom>
            <a:avLst/>
            <a:gdLst/>
            <a:ahLst/>
            <a:rect l="l" t="t" r="r" b="b"/>
            <a:pathLst>
              <a:path w="1930" h="1330">
                <a:moveTo>
                  <a:pt x="0" y="0"/>
                </a:moveTo>
                <a:lnTo>
                  <a:pt x="11" y="24"/>
                </a:lnTo>
                <a:lnTo>
                  <a:pt x="24" y="50"/>
                </a:lnTo>
                <a:lnTo>
                  <a:pt x="39" y="79"/>
                </a:lnTo>
                <a:lnTo>
                  <a:pt x="55" y="107"/>
                </a:lnTo>
                <a:lnTo>
                  <a:pt x="73" y="139"/>
                </a:lnTo>
                <a:lnTo>
                  <a:pt x="93" y="170"/>
                </a:lnTo>
                <a:lnTo>
                  <a:pt x="112" y="203"/>
                </a:lnTo>
                <a:lnTo>
                  <a:pt x="133" y="235"/>
                </a:lnTo>
                <a:lnTo>
                  <a:pt x="154" y="268"/>
                </a:lnTo>
                <a:lnTo>
                  <a:pt x="176" y="300"/>
                </a:lnTo>
                <a:lnTo>
                  <a:pt x="197" y="332"/>
                </a:lnTo>
                <a:lnTo>
                  <a:pt x="219" y="362"/>
                </a:lnTo>
                <a:lnTo>
                  <a:pt x="239" y="392"/>
                </a:lnTo>
                <a:lnTo>
                  <a:pt x="260" y="419"/>
                </a:lnTo>
                <a:lnTo>
                  <a:pt x="279" y="444"/>
                </a:lnTo>
                <a:lnTo>
                  <a:pt x="299" y="467"/>
                </a:lnTo>
                <a:lnTo>
                  <a:pt x="318" y="490"/>
                </a:lnTo>
                <a:lnTo>
                  <a:pt x="339" y="514"/>
                </a:lnTo>
                <a:lnTo>
                  <a:pt x="361" y="540"/>
                </a:lnTo>
                <a:lnTo>
                  <a:pt x="386" y="565"/>
                </a:lnTo>
                <a:lnTo>
                  <a:pt x="411" y="593"/>
                </a:lnTo>
                <a:lnTo>
                  <a:pt x="437" y="619"/>
                </a:lnTo>
                <a:lnTo>
                  <a:pt x="463" y="647"/>
                </a:lnTo>
                <a:lnTo>
                  <a:pt x="491" y="673"/>
                </a:lnTo>
                <a:lnTo>
                  <a:pt x="517" y="700"/>
                </a:lnTo>
                <a:lnTo>
                  <a:pt x="543" y="725"/>
                </a:lnTo>
                <a:lnTo>
                  <a:pt x="568" y="751"/>
                </a:lnTo>
                <a:lnTo>
                  <a:pt x="593" y="774"/>
                </a:lnTo>
                <a:lnTo>
                  <a:pt x="617" y="796"/>
                </a:lnTo>
                <a:lnTo>
                  <a:pt x="640" y="816"/>
                </a:lnTo>
                <a:lnTo>
                  <a:pt x="660" y="834"/>
                </a:lnTo>
                <a:lnTo>
                  <a:pt x="679" y="849"/>
                </a:lnTo>
                <a:lnTo>
                  <a:pt x="697" y="863"/>
                </a:lnTo>
                <a:lnTo>
                  <a:pt x="715" y="877"/>
                </a:lnTo>
                <a:lnTo>
                  <a:pt x="734" y="892"/>
                </a:lnTo>
                <a:lnTo>
                  <a:pt x="754" y="905"/>
                </a:lnTo>
                <a:lnTo>
                  <a:pt x="773" y="920"/>
                </a:lnTo>
                <a:lnTo>
                  <a:pt x="792" y="935"/>
                </a:lnTo>
                <a:lnTo>
                  <a:pt x="811" y="948"/>
                </a:lnTo>
                <a:lnTo>
                  <a:pt x="830" y="961"/>
                </a:lnTo>
                <a:lnTo>
                  <a:pt x="847" y="975"/>
                </a:lnTo>
                <a:lnTo>
                  <a:pt x="864" y="988"/>
                </a:lnTo>
                <a:lnTo>
                  <a:pt x="880" y="999"/>
                </a:lnTo>
                <a:lnTo>
                  <a:pt x="895" y="1009"/>
                </a:lnTo>
                <a:lnTo>
                  <a:pt x="907" y="1019"/>
                </a:lnTo>
                <a:lnTo>
                  <a:pt x="919" y="1027"/>
                </a:lnTo>
                <a:lnTo>
                  <a:pt x="928" y="1034"/>
                </a:lnTo>
                <a:lnTo>
                  <a:pt x="936" y="1038"/>
                </a:lnTo>
                <a:lnTo>
                  <a:pt x="942" y="1044"/>
                </a:lnTo>
                <a:lnTo>
                  <a:pt x="951" y="1048"/>
                </a:lnTo>
                <a:lnTo>
                  <a:pt x="960" y="1055"/>
                </a:lnTo>
                <a:lnTo>
                  <a:pt x="971" y="1060"/>
                </a:lnTo>
                <a:lnTo>
                  <a:pt x="983" y="1067"/>
                </a:lnTo>
                <a:lnTo>
                  <a:pt x="996" y="1075"/>
                </a:lnTo>
                <a:lnTo>
                  <a:pt x="1010" y="1082"/>
                </a:lnTo>
                <a:lnTo>
                  <a:pt x="1025" y="1087"/>
                </a:lnTo>
                <a:lnTo>
                  <a:pt x="1040" y="1095"/>
                </a:lnTo>
                <a:lnTo>
                  <a:pt x="1055" y="1103"/>
                </a:lnTo>
                <a:lnTo>
                  <a:pt x="1070" y="1110"/>
                </a:lnTo>
                <a:lnTo>
                  <a:pt x="1087" y="1116"/>
                </a:lnTo>
                <a:lnTo>
                  <a:pt x="1102" y="1124"/>
                </a:lnTo>
                <a:lnTo>
                  <a:pt x="1118" y="1129"/>
                </a:lnTo>
                <a:lnTo>
                  <a:pt x="1133" y="1135"/>
                </a:lnTo>
                <a:lnTo>
                  <a:pt x="1147" y="1140"/>
                </a:lnTo>
                <a:lnTo>
                  <a:pt x="1161" y="1145"/>
                </a:lnTo>
                <a:lnTo>
                  <a:pt x="1179" y="1151"/>
                </a:lnTo>
                <a:lnTo>
                  <a:pt x="1197" y="1159"/>
                </a:lnTo>
                <a:lnTo>
                  <a:pt x="1219" y="1164"/>
                </a:lnTo>
                <a:lnTo>
                  <a:pt x="1241" y="1172"/>
                </a:lnTo>
                <a:lnTo>
                  <a:pt x="1265" y="1179"/>
                </a:lnTo>
                <a:lnTo>
                  <a:pt x="1291" y="1187"/>
                </a:lnTo>
                <a:lnTo>
                  <a:pt x="1317" y="1193"/>
                </a:lnTo>
                <a:lnTo>
                  <a:pt x="1343" y="1202"/>
                </a:lnTo>
                <a:lnTo>
                  <a:pt x="1370" y="1210"/>
                </a:lnTo>
                <a:lnTo>
                  <a:pt x="1396" y="1217"/>
                </a:lnTo>
                <a:lnTo>
                  <a:pt x="1422" y="1225"/>
                </a:lnTo>
                <a:lnTo>
                  <a:pt x="1447" y="1232"/>
                </a:lnTo>
                <a:lnTo>
                  <a:pt x="1471" y="1239"/>
                </a:lnTo>
                <a:lnTo>
                  <a:pt x="1495" y="1245"/>
                </a:lnTo>
                <a:lnTo>
                  <a:pt x="1516" y="1250"/>
                </a:lnTo>
                <a:lnTo>
                  <a:pt x="1537" y="1255"/>
                </a:lnTo>
                <a:lnTo>
                  <a:pt x="1561" y="1261"/>
                </a:lnTo>
                <a:lnTo>
                  <a:pt x="1587" y="1267"/>
                </a:lnTo>
                <a:lnTo>
                  <a:pt x="1614" y="1272"/>
                </a:lnTo>
                <a:lnTo>
                  <a:pt x="1641" y="1279"/>
                </a:lnTo>
                <a:lnTo>
                  <a:pt x="1670" y="1284"/>
                </a:lnTo>
                <a:lnTo>
                  <a:pt x="1699" y="1290"/>
                </a:lnTo>
                <a:lnTo>
                  <a:pt x="1729" y="1295"/>
                </a:lnTo>
                <a:lnTo>
                  <a:pt x="1757" y="1301"/>
                </a:lnTo>
                <a:lnTo>
                  <a:pt x="1785" y="1307"/>
                </a:lnTo>
                <a:lnTo>
                  <a:pt x="1812" y="1312"/>
                </a:lnTo>
                <a:lnTo>
                  <a:pt x="1840" y="1317"/>
                </a:lnTo>
                <a:lnTo>
                  <a:pt x="1864" y="1321"/>
                </a:lnTo>
                <a:lnTo>
                  <a:pt x="1888" y="1325"/>
                </a:lnTo>
                <a:lnTo>
                  <a:pt x="1909" y="1327"/>
                </a:lnTo>
                <a:lnTo>
                  <a:pt x="1929" y="1329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2800" y="3278160"/>
            <a:ext cx="5364000" cy="3622680"/>
          </a:xfrm>
          <a:prstGeom prst="line">
            <a:avLst/>
          </a:prstGeom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4200" y="2698920"/>
            <a:ext cx="9091800" cy="2957400"/>
          </a:xfrm>
          <a:prstGeom prst="line">
            <a:avLst/>
          </a:prstGeom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13000" y="1770120"/>
            <a:ext cx="5905440" cy="3970440"/>
          </a:xfrm>
          <a:prstGeom prst="line">
            <a:avLst/>
          </a:prstGeom>
          <a:ln w="475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71760" y="4495680"/>
            <a:ext cx="1047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514680" y="4005360"/>
            <a:ext cx="1017720" cy="1168200"/>
            <a:chOff x="3514680" y="4005360"/>
            <a:chExt cx="1017720" cy="1168200"/>
          </a:xfrm>
        </p:grpSpPr>
        <p:sp>
          <p:nvSpPr>
            <p:cNvPr id="334" name=""/>
            <p:cNvSpPr/>
            <p:nvPr/>
          </p:nvSpPr>
          <p:spPr>
            <a:xfrm>
              <a:off x="3551400" y="4005360"/>
              <a:ext cx="981000" cy="1031760"/>
            </a:xfrm>
            <a:custGeom>
              <a:avLst/>
              <a:gdLst/>
              <a:ahLst/>
              <a:rect l="l" t="t" r="r" b="b"/>
              <a:pathLst>
                <a:path w="618" h="650">
                  <a:moveTo>
                    <a:pt x="600" y="0"/>
                  </a:moveTo>
                  <a:lnTo>
                    <a:pt x="600" y="0"/>
                  </a:lnTo>
                  <a:lnTo>
                    <a:pt x="617" y="351"/>
                  </a:lnTo>
                  <a:lnTo>
                    <a:pt x="544" y="279"/>
                  </a:lnTo>
                  <a:lnTo>
                    <a:pt x="181" y="649"/>
                  </a:lnTo>
                  <a:lnTo>
                    <a:pt x="0" y="470"/>
                  </a:lnTo>
                  <a:lnTo>
                    <a:pt x="361" y="101"/>
                  </a:lnTo>
                  <a:lnTo>
                    <a:pt x="289" y="28"/>
                  </a:lnTo>
                  <a:lnTo>
                    <a:pt x="600" y="0"/>
                  </a:lnTo>
                  <a:lnTo>
                    <a:pt x="60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14680" y="4448160"/>
              <a:ext cx="1017720" cy="725400"/>
            </a:xfrm>
            <a:custGeom>
              <a:avLst/>
              <a:gdLst/>
              <a:ahLst/>
              <a:rect l="l" t="t" r="r" b="b"/>
              <a:pathLst>
                <a:path w="641" h="457">
                  <a:moveTo>
                    <a:pt x="640" y="72"/>
                  </a:moveTo>
                  <a:lnTo>
                    <a:pt x="640" y="72"/>
                  </a:lnTo>
                  <a:lnTo>
                    <a:pt x="607" y="156"/>
                  </a:lnTo>
                  <a:lnTo>
                    <a:pt x="538" y="88"/>
                  </a:lnTo>
                  <a:lnTo>
                    <a:pt x="178" y="456"/>
                  </a:lnTo>
                  <a:lnTo>
                    <a:pt x="0" y="276"/>
                  </a:lnTo>
                  <a:lnTo>
                    <a:pt x="23" y="191"/>
                  </a:lnTo>
                  <a:lnTo>
                    <a:pt x="204" y="370"/>
                  </a:lnTo>
                  <a:lnTo>
                    <a:pt x="567" y="0"/>
                  </a:lnTo>
                  <a:lnTo>
                    <a:pt x="640" y="72"/>
                  </a:lnTo>
                  <a:lnTo>
                    <a:pt x="640" y="72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797280" y="5035320"/>
              <a:ext cx="4140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368600" y="4448160"/>
              <a:ext cx="4572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70440" y="4049640"/>
              <a:ext cx="155520" cy="209520"/>
            </a:xfrm>
            <a:custGeom>
              <a:avLst/>
              <a:gdLst/>
              <a:ahLst/>
              <a:rect l="l" t="t" r="r" b="b"/>
              <a:pathLst>
                <a:path w="98" h="132">
                  <a:moveTo>
                    <a:pt x="97" y="73"/>
                  </a:moveTo>
                  <a:lnTo>
                    <a:pt x="97" y="73"/>
                  </a:lnTo>
                  <a:lnTo>
                    <a:pt x="41" y="131"/>
                  </a:lnTo>
                  <a:lnTo>
                    <a:pt x="0" y="90"/>
                  </a:lnTo>
                  <a:lnTo>
                    <a:pt x="25" y="0"/>
                  </a:lnTo>
                  <a:lnTo>
                    <a:pt x="97" y="73"/>
                  </a:lnTo>
                  <a:lnTo>
                    <a:pt x="97" y="73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029200" y="5867280"/>
            <a:ext cx="4505400" cy="154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ff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2f2f2f"/>
                </a:solidFill>
                <a:latin typeface="Times New Roman"/>
              </a:rPr>
              <a:t>“</a:t>
            </a:r>
            <a:r>
              <a:rPr b="0" lang="en-GB" sz="3000" spc="-1" strike="noStrike">
                <a:solidFill>
                  <a:srgbClr val="2f2f2f"/>
                </a:solidFill>
                <a:latin typeface="Times New Roman"/>
              </a:rPr>
              <a:t>¿como cambian las demandas ante una variación en el costo de la vida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43400" y="3809880"/>
            <a:ext cx="27576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10416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000" spc="-1" strike="noStrike">
                <a:solidFill>
                  <a:srgbClr val="c0c0c0"/>
                </a:solidFill>
                <a:latin typeface="Times New Roman"/>
              </a:rPr>
              <a:t> </a:t>
            </a:r>
            <a:r>
              <a:rPr b="1" lang="en-GB" sz="6000" spc="-1" strike="noStrike">
                <a:solidFill>
                  <a:srgbClr val="c0c0c0"/>
                </a:solidFill>
                <a:latin typeface="Times New Roman"/>
              </a:rPr>
              <a:t>x**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371760" y="3809880"/>
            <a:ext cx="4629240" cy="1401840"/>
            <a:chOff x="3371760" y="3809880"/>
            <a:chExt cx="4629240" cy="1401840"/>
          </a:xfrm>
        </p:grpSpPr>
        <p:sp>
          <p:nvSpPr>
            <p:cNvPr id="342" name=""/>
            <p:cNvSpPr/>
            <p:nvPr/>
          </p:nvSpPr>
          <p:spPr>
            <a:xfrm>
              <a:off x="3371760" y="4495680"/>
              <a:ext cx="10479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5f5f5f"/>
                </a:buClr>
                <a:buSzPct val="50000"/>
                <a:buFont typeface="Monotype Sor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600" spc="-1" strike="noStrike">
                  <a:solidFill>
                    <a:srgbClr val="5f5f5f"/>
                  </a:solidFill>
                  <a:latin typeface="Times New Roman"/>
                </a:rPr>
                <a:t>x*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43400" y="3809880"/>
              <a:ext cx="275760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ff0000"/>
                </a:buClr>
                <a:buSzPct val="50000"/>
                <a:buFont typeface="Monotype Sor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6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6000" spc="-1" strike="noStrike">
                  <a:solidFill>
                    <a:srgbClr val="000000"/>
                  </a:solidFill>
                  <a:latin typeface="Times New Roman"/>
                </a:rPr>
                <a:t>x**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304920" y="762120"/>
            <a:ext cx="94518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efecto sustitución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718160" y="3639960"/>
            <a:ext cx="740880" cy="598680"/>
            <a:chOff x="4718160" y="3639960"/>
            <a:chExt cx="740880" cy="598680"/>
          </a:xfrm>
        </p:grpSpPr>
        <p:sp>
          <p:nvSpPr>
            <p:cNvPr id="346" name=""/>
            <p:cNvSpPr/>
            <p:nvPr/>
          </p:nvSpPr>
          <p:spPr>
            <a:xfrm>
              <a:off x="4800600" y="3651120"/>
              <a:ext cx="658440" cy="587520"/>
            </a:xfrm>
            <a:custGeom>
              <a:avLst/>
              <a:gdLst/>
              <a:ahLst/>
              <a:rect l="l" t="t" r="r" b="b"/>
              <a:pathLst>
                <a:path w="415" h="370">
                  <a:moveTo>
                    <a:pt x="414" y="332"/>
                  </a:moveTo>
                  <a:lnTo>
                    <a:pt x="414" y="332"/>
                  </a:lnTo>
                  <a:lnTo>
                    <a:pt x="208" y="369"/>
                  </a:lnTo>
                  <a:lnTo>
                    <a:pt x="245" y="320"/>
                  </a:lnTo>
                  <a:lnTo>
                    <a:pt x="0" y="126"/>
                  </a:lnTo>
                  <a:lnTo>
                    <a:pt x="93" y="0"/>
                  </a:lnTo>
                  <a:lnTo>
                    <a:pt x="337" y="193"/>
                  </a:lnTo>
                  <a:lnTo>
                    <a:pt x="375" y="145"/>
                  </a:lnTo>
                  <a:lnTo>
                    <a:pt x="414" y="332"/>
                  </a:lnTo>
                  <a:lnTo>
                    <a:pt x="414" y="33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18160" y="3639960"/>
              <a:ext cx="472680" cy="598680"/>
            </a:xfrm>
            <a:custGeom>
              <a:avLst/>
              <a:gdLst/>
              <a:ahLst/>
              <a:rect l="l" t="t" r="r" b="b"/>
              <a:pathLst>
                <a:path w="298" h="377">
                  <a:moveTo>
                    <a:pt x="260" y="376"/>
                  </a:moveTo>
                  <a:lnTo>
                    <a:pt x="260" y="376"/>
                  </a:lnTo>
                  <a:lnTo>
                    <a:pt x="209" y="363"/>
                  </a:lnTo>
                  <a:lnTo>
                    <a:pt x="242" y="315"/>
                  </a:lnTo>
                  <a:lnTo>
                    <a:pt x="0" y="124"/>
                  </a:lnTo>
                  <a:lnTo>
                    <a:pt x="92" y="0"/>
                  </a:lnTo>
                  <a:lnTo>
                    <a:pt x="145" y="7"/>
                  </a:lnTo>
                  <a:lnTo>
                    <a:pt x="52" y="133"/>
                  </a:lnTo>
                  <a:lnTo>
                    <a:pt x="297" y="327"/>
                  </a:lnTo>
                  <a:lnTo>
                    <a:pt x="260" y="376"/>
                  </a:lnTo>
                  <a:lnTo>
                    <a:pt x="260" y="376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18160" y="3836880"/>
              <a:ext cx="824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5101920" y="4140360"/>
              <a:ext cx="8712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75080" y="3865680"/>
              <a:ext cx="122040" cy="93600"/>
            </a:xfrm>
            <a:custGeom>
              <a:avLst/>
              <a:gdLst/>
              <a:ahLst/>
              <a:rect l="l" t="t" r="r" b="b"/>
              <a:pathLst>
                <a:path w="77" h="59">
                  <a:moveTo>
                    <a:pt x="38" y="58"/>
                  </a:moveTo>
                  <a:lnTo>
                    <a:pt x="38" y="58"/>
                  </a:lnTo>
                  <a:lnTo>
                    <a:pt x="0" y="29"/>
                  </a:lnTo>
                  <a:lnTo>
                    <a:pt x="20" y="0"/>
                  </a:lnTo>
                  <a:lnTo>
                    <a:pt x="76" y="10"/>
                  </a:lnTo>
                  <a:lnTo>
                    <a:pt x="38" y="58"/>
                  </a:lnTo>
                  <a:lnTo>
                    <a:pt x="38" y="58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105520" y="5943600"/>
            <a:ext cx="4305240" cy="2133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ff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2f2f2f"/>
                </a:solidFill>
                <a:latin typeface="Times New Roman"/>
              </a:rPr>
              <a:t>“</a:t>
            </a:r>
            <a:r>
              <a:rPr b="0" lang="en-GB" sz="3000" spc="-1" strike="noStrike">
                <a:solidFill>
                  <a:srgbClr val="2f2f2f"/>
                </a:solidFill>
                <a:latin typeface="Times New Roman"/>
              </a:rPr>
              <a:t>en un dado nivel de utilidad ¿cómo responden las demandas a un cambio relativo en los precios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Veamos ahora en términos matemátic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84160" y="2425680"/>
            <a:ext cx="842652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spcBef>
                <a:spcPts val="2064"/>
              </a:spcBef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Queremos tomar tanto el aspecto “primal” como el “dual” del problema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064"/>
              </a:spcBef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...y encontrar la relación entre las funciones de respuesta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064"/>
              </a:spcBef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... utilizando para ello las propiedades de las funciones de solución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2064"/>
              </a:spcBef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Times New Roman"/>
              </a:rPr>
              <a:t>(Asi es ; es hora para la aplicación del lema de Shephard una vez más...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945360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mos los dos métodos de escribir la demanda para el bien i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37960" y="1742760"/>
            <a:ext cx="9518760" cy="151128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50760">
            <a:solidFill>
              <a:srgbClr val="ff66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3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73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7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3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73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73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73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7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3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7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42040" y="3968640"/>
            <a:ext cx="280656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6600"/>
                </a:solidFill>
                <a:latin typeface="Arial"/>
              </a:rPr>
              <a:t>demanda ordinar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4800" y="3886200"/>
            <a:ext cx="442440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6600"/>
                </a:solidFill>
                <a:latin typeface="Arial"/>
              </a:rPr>
              <a:t>demanda compendad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37960" y="1742760"/>
            <a:ext cx="9518760" cy="151128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50760">
            <a:solidFill>
              <a:srgbClr val="ff66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3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73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7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3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73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73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73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7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7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3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73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19800000">
            <a:off x="-838080" y="2286000"/>
            <a:ext cx="10461600" cy="3044880"/>
          </a:xfrm>
          <a:prstGeom prst="rect">
            <a:avLst/>
          </a:prstGeom>
          <a:solidFill>
            <a:srgbClr val="ffff00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01760" indent="55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6300"/>
            </a:br>
            <a:r>
              <a:rPr b="1" lang="en-GB" sz="6300" spc="-1" strike="noStrike">
                <a:solidFill>
                  <a:srgbClr val="ff0000"/>
                </a:solidFill>
                <a:latin typeface="Brush738 BT"/>
              </a:rPr>
              <a:t>    </a:t>
            </a:r>
            <a:r>
              <a:rPr b="1" lang="en-GB" sz="6300" spc="-1" strike="noStrike">
                <a:solidFill>
                  <a:srgbClr val="ff0000"/>
                </a:solidFill>
                <a:latin typeface="Brush738 BT"/>
              </a:rPr>
              <a:t>recuerde, son                equivalentes...</a:t>
            </a:r>
            <a:br>
              <a:rPr sz="6300"/>
            </a:b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905120" y="1523880"/>
            <a:ext cx="7045920" cy="6019200"/>
            <a:chOff x="1905120" y="1523880"/>
            <a:chExt cx="7045920" cy="6019200"/>
          </a:xfrm>
        </p:grpSpPr>
        <p:sp>
          <p:nvSpPr>
            <p:cNvPr id="361" name=""/>
            <p:cNvSpPr/>
            <p:nvPr/>
          </p:nvSpPr>
          <p:spPr>
            <a:xfrm>
              <a:off x="2846880" y="5872680"/>
              <a:ext cx="374184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800" spc="-1" strike="noStrike">
                  <a:solidFill>
                    <a:srgbClr val="660066"/>
                  </a:solidFill>
                  <a:latin typeface="Times New Roman"/>
                </a:rPr>
                <a:t>ingreso, </a:t>
              </a:r>
              <a:r>
                <a:rPr b="1" i="1" lang="en-GB" sz="4800" spc="-1" strike="noStrike">
                  <a:solidFill>
                    <a:srgbClr val="660066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1905120" y="1523880"/>
              <a:ext cx="7045920" cy="6019200"/>
              <a:chOff x="1905120" y="1523880"/>
              <a:chExt cx="7045920" cy="6019200"/>
            </a:xfrm>
          </p:grpSpPr>
          <p:sp>
            <p:nvSpPr>
              <p:cNvPr id="363" name=""/>
              <p:cNvSpPr/>
              <p:nvPr/>
            </p:nvSpPr>
            <p:spPr>
              <a:xfrm>
                <a:off x="5805720" y="1523880"/>
                <a:ext cx="3145320" cy="2124000"/>
              </a:xfrm>
              <a:prstGeom prst="ellipse">
                <a:avLst/>
              </a:prstGeom>
              <a:noFill/>
              <a:ln w="76320">
                <a:solidFill>
                  <a:srgbClr val="8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05120" y="5199840"/>
                <a:ext cx="5834160" cy="2343240"/>
              </a:xfrm>
              <a:prstGeom prst="ellipse">
                <a:avLst/>
              </a:prstGeom>
              <a:noFill/>
              <a:ln w="76320">
                <a:solidFill>
                  <a:srgbClr val="8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946480" y="3607920"/>
                <a:ext cx="1143000" cy="1666800"/>
              </a:xfrm>
              <a:custGeom>
                <a:avLst/>
                <a:gdLst/>
                <a:ahLst/>
                <a:rect l="l" t="t" r="r" b="b"/>
                <a:pathLst>
                  <a:path w="619" h="868">
                    <a:moveTo>
                      <a:pt x="0" y="867"/>
                    </a:moveTo>
                    <a:lnTo>
                      <a:pt x="53" y="827"/>
                    </a:lnTo>
                    <a:lnTo>
                      <a:pt x="105" y="783"/>
                    </a:lnTo>
                    <a:lnTo>
                      <a:pt x="154" y="737"/>
                    </a:lnTo>
                    <a:lnTo>
                      <a:pt x="202" y="689"/>
                    </a:lnTo>
                    <a:lnTo>
                      <a:pt x="248" y="641"/>
                    </a:lnTo>
                    <a:lnTo>
                      <a:pt x="292" y="590"/>
                    </a:lnTo>
                    <a:lnTo>
                      <a:pt x="335" y="537"/>
                    </a:lnTo>
                    <a:lnTo>
                      <a:pt x="376" y="482"/>
                    </a:lnTo>
                    <a:lnTo>
                      <a:pt x="413" y="427"/>
                    </a:lnTo>
                    <a:lnTo>
                      <a:pt x="449" y="369"/>
                    </a:lnTo>
                    <a:lnTo>
                      <a:pt x="483" y="311"/>
                    </a:lnTo>
                    <a:lnTo>
                      <a:pt x="515" y="251"/>
                    </a:lnTo>
                    <a:lnTo>
                      <a:pt x="544" y="190"/>
                    </a:lnTo>
                    <a:lnTo>
                      <a:pt x="571" y="128"/>
                    </a:lnTo>
                    <a:lnTo>
                      <a:pt x="595" y="65"/>
                    </a:lnTo>
                    <a:lnTo>
                      <a:pt x="618" y="0"/>
                    </a:lnTo>
                  </a:path>
                </a:pathLst>
              </a:custGeom>
              <a:noFill/>
              <a:ln w="76320">
                <a:solidFill>
                  <a:srgbClr val="800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" name=""/>
          <p:cNvSpPr/>
          <p:nvPr/>
        </p:nvSpPr>
        <p:spPr>
          <a:xfrm>
            <a:off x="380880" y="228600"/>
            <a:ext cx="94536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y diferenciemos parcialmente respecto del precio del bien j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58760" y="3504240"/>
            <a:ext cx="9747360" cy="243828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50760">
            <a:solidFill>
              <a:srgbClr val="ff66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7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7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)) +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7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7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43200" y="1905120"/>
            <a:ext cx="3857400" cy="7054200"/>
            <a:chOff x="2743200" y="1905120"/>
            <a:chExt cx="3857400" cy="7054200"/>
          </a:xfrm>
        </p:grpSpPr>
        <p:sp>
          <p:nvSpPr>
            <p:cNvPr id="369" name=""/>
            <p:cNvSpPr/>
            <p:nvPr/>
          </p:nvSpPr>
          <p:spPr>
            <a:xfrm>
              <a:off x="2743200" y="1905120"/>
              <a:ext cx="3857400" cy="507672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67160" y="2378160"/>
              <a:ext cx="2141280" cy="65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1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r>
                <a:rPr b="0" i="1" lang="en-GB" sz="12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129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47840" y="4541760"/>
              <a:ext cx="265140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938840" y="2095560"/>
            <a:ext cx="180720" cy="45720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52280" y="3504240"/>
            <a:ext cx="9747360" cy="243828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50760">
            <a:solidFill>
              <a:srgbClr val="ff66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7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7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) +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7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7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37720" y="4800240"/>
            <a:ext cx="5486760" cy="2954520"/>
            <a:chOff x="837720" y="4800240"/>
            <a:chExt cx="5486760" cy="2954520"/>
          </a:xfrm>
        </p:grpSpPr>
        <p:sp>
          <p:nvSpPr>
            <p:cNvPr id="375" name=""/>
            <p:cNvSpPr/>
            <p:nvPr/>
          </p:nvSpPr>
          <p:spPr>
            <a:xfrm>
              <a:off x="1325160" y="6492960"/>
              <a:ext cx="3187800" cy="12618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"/>
                </a:rPr>
                <a:t>derivadas parcial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837720" y="5105160"/>
              <a:ext cx="533160" cy="1523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2133360" y="5791320"/>
              <a:ext cx="7632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473360" y="4800240"/>
              <a:ext cx="250920" cy="1639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495680" y="5867280"/>
              <a:ext cx="1828800" cy="99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V="1">
            <a:off x="152280" y="3504960"/>
            <a:ext cx="9747360" cy="182880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50760">
            <a:solidFill>
              <a:srgbClr val="ff66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6845400"/>
            <a:ext cx="3065760" cy="1692360"/>
          </a:xfrm>
          <a:prstGeom prst="wedgeEllipseCallout">
            <a:avLst>
              <a:gd name="adj1" fmla="val -59824"/>
              <a:gd name="adj2" fmla="val -131578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stituyamos por el ingreso nu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05520" y="6310800"/>
            <a:ext cx="3065400" cy="2212200"/>
          </a:xfrm>
          <a:prstGeom prst="wedgeEllipseCallout">
            <a:avLst>
              <a:gd name="adj1" fmla="val 79203"/>
              <a:gd name="adj2" fmla="val -127412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lema de Shephard de nuevo (por supues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4800" y="228600"/>
            <a:ext cx="9453600" cy="13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y manipulamos las expresiones para obtener la ecuación de 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Slutsky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276720"/>
            <a:ext cx="10058400" cy="22096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33520" y="1447560"/>
            <a:ext cx="9747000" cy="182880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50760">
            <a:solidFill>
              <a:srgbClr val="ff66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48120" y="6114600"/>
            <a:ext cx="3065400" cy="1172520"/>
          </a:xfrm>
          <a:prstGeom prst="wedgeEllipseCallout">
            <a:avLst>
              <a:gd name="adj1" fmla="val 60250"/>
              <a:gd name="adj2" fmla="val -70560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stituyamos ahora esto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 flipV="1">
            <a:off x="76320" y="2057040"/>
            <a:ext cx="9747000" cy="182880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50760">
            <a:solidFill>
              <a:srgbClr val="ff66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85560" y="501480"/>
            <a:ext cx="9453240" cy="12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ecuación de Slutsky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3581280"/>
            <a:ext cx="952488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Brush738 BT"/>
              </a:rPr>
              <a:t>Da el desdoblamiento fundamental de los efectos de un cambio en los precio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38680" y="2362320"/>
            <a:ext cx="40388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2680" y="2362320"/>
            <a:ext cx="22100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82440" y="2057040"/>
            <a:ext cx="9747360" cy="182880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8200" y="654120"/>
            <a:ext cx="94536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ecuación de Slutsky:efecto ingres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5486400" y="3962520"/>
          <a:ext cx="4572000" cy="3528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962520"/>
                    <a:ext cx="4572000" cy="3528720"/>
                  </a:xfrm>
                  <a:prstGeom prst="rect">
                    <a:avLst/>
                  </a:prstGeom>
                  <a:ln w="57240">
                    <a:solidFill>
                      <a:srgbClr val="8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304920" y="4543560"/>
            <a:ext cx="4724280" cy="139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o estoy mejor cuando cae el precio del flan con crema (j), compro mas cosas incluido el helado(i).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609480"/>
            <a:ext cx="94536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ecuación de Slutsky : efecto sustitu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16480" y="4191120"/>
            <a:ext cx="3613320" cy="20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uando cae el precio del flan con crema prefiero dejar de consumir helado para postre.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762120" y="4038480"/>
          <a:ext cx="4570200" cy="35276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038480"/>
                    <a:ext cx="4570200" cy="3527640"/>
                  </a:xfrm>
                  <a:prstGeom prst="rect">
                    <a:avLst/>
                  </a:prstGeom>
                  <a:ln w="57240">
                    <a:solidFill>
                      <a:srgbClr val="80008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04920" y="327564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Para </a:t>
            </a:r>
            <a:r>
              <a:rPr b="0" i="1" lang="en-GB" sz="3200" spc="-1" strike="noStrike">
                <a:solidFill>
                  <a:srgbClr val="000066"/>
                </a:solidFill>
                <a:latin typeface="Times New Roman"/>
              </a:rPr>
              <a:t>n </a:t>
            </a: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&gt; 2 el efecto sustitución para algunos pares de bienes puede ser positivo (sustitutos netos)  o negativo (complementos ne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lutsky: Puntos a tener en cuent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175176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Los efectos ingresos para algunos bienes pueden ser negativos - bienes </a:t>
            </a:r>
            <a:r>
              <a:rPr b="0" i="1" lang="en-GB" sz="3200" spc="-1" strike="noStrike">
                <a:solidFill>
                  <a:srgbClr val="000066"/>
                </a:solidFill>
                <a:latin typeface="Times New Roman"/>
              </a:rPr>
              <a:t>inferiores</a:t>
            </a: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327564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Para </a:t>
            </a:r>
            <a:r>
              <a:rPr b="0" i="1" lang="en-GB" sz="3200" spc="-1" strike="noStrike">
                <a:solidFill>
                  <a:srgbClr val="000066"/>
                </a:solidFill>
                <a:latin typeface="Times New Roman"/>
              </a:rPr>
              <a:t>n </a:t>
            </a: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&gt; 2 el efecto sustitución para algunos pares de bienes puede ser positivo (sustitutos ne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" y="563796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Un resultado especial se obtiene cuando </a:t>
            </a:r>
            <a:r>
              <a:rPr b="0" i="1" lang="en-GB" sz="32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GB" sz="32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48240" y="2155320"/>
            <a:ext cx="2903400" cy="2472120"/>
          </a:xfrm>
          <a:prstGeom prst="wedgeEllipseCallout">
            <a:avLst>
              <a:gd name="adj1" fmla="val -45638"/>
              <a:gd name="adj2" fmla="val 61805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Brush738 BT"/>
              </a:rPr>
              <a:t>Peras, banan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67280" y="2505240"/>
            <a:ext cx="2903760" cy="1692360"/>
          </a:xfrm>
          <a:prstGeom prst="wedgeEllipseCallout">
            <a:avLst>
              <a:gd name="adj1" fmla="val -72509"/>
              <a:gd name="adj2" fmla="val 64629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Brush738 BT"/>
              </a:rPr>
              <a:t>Gin, tónica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0" y="3673440"/>
            <a:ext cx="4321080" cy="3376800"/>
            <a:chOff x="0" y="3673440"/>
            <a:chExt cx="4321080" cy="3376800"/>
          </a:xfrm>
        </p:grpSpPr>
        <p:sp>
          <p:nvSpPr>
            <p:cNvPr id="409" name=""/>
            <p:cNvSpPr/>
            <p:nvPr/>
          </p:nvSpPr>
          <p:spPr>
            <a:xfrm>
              <a:off x="0" y="3673440"/>
              <a:ext cx="4321080" cy="3376800"/>
            </a:xfrm>
            <a:custGeom>
              <a:avLst/>
              <a:gdLst/>
              <a:ahLst/>
              <a:rect l="l" t="t" r="r" b="b"/>
              <a:pathLst>
                <a:path w="2722" h="2127">
                  <a:moveTo>
                    <a:pt x="0" y="1044"/>
                  </a:moveTo>
                  <a:lnTo>
                    <a:pt x="0" y="1044"/>
                  </a:lnTo>
                  <a:lnTo>
                    <a:pt x="1602" y="0"/>
                  </a:lnTo>
                  <a:lnTo>
                    <a:pt x="1414" y="522"/>
                  </a:lnTo>
                  <a:lnTo>
                    <a:pt x="2721" y="522"/>
                  </a:lnTo>
                  <a:lnTo>
                    <a:pt x="2721" y="1640"/>
                  </a:lnTo>
                  <a:lnTo>
                    <a:pt x="1414" y="1640"/>
                  </a:lnTo>
                  <a:lnTo>
                    <a:pt x="1602" y="2126"/>
                  </a:lnTo>
                  <a:lnTo>
                    <a:pt x="0" y="1044"/>
                  </a:lnTo>
                  <a:lnTo>
                    <a:pt x="0" y="104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68400" y="4743360"/>
              <a:ext cx="313524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3200" spc="-1" strike="noStrike">
                  <a:solidFill>
                    <a:srgbClr val="000000"/>
                  </a:solidFill>
                  <a:latin typeface="Arial"/>
                </a:rPr>
                <a:t>volvamos a las matemáticas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47360" y="4287960"/>
            <a:ext cx="882180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 Consumidor : Optimización 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uest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28680" y="1681200"/>
            <a:ext cx="7759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5200" spc="-1" strike="noStrike">
                <a:solidFill>
                  <a:srgbClr val="000000"/>
                </a:solidFill>
                <a:latin typeface="Arial"/>
              </a:rPr>
              <a:t>Microeconomía</a:t>
            </a: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 II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5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317840" y="6270480"/>
            <a:ext cx="1217880" cy="414360"/>
            <a:chOff x="4317840" y="6270480"/>
            <a:chExt cx="1217880" cy="414360"/>
          </a:xfrm>
        </p:grpSpPr>
        <p:sp>
          <p:nvSpPr>
            <p:cNvPr id="45" name=""/>
            <p:cNvSpPr/>
            <p:nvPr/>
          </p:nvSpPr>
          <p:spPr>
            <a:xfrm>
              <a:off x="4317840" y="6272280"/>
              <a:ext cx="27000" cy="407880"/>
            </a:xfrm>
            <a:custGeom>
              <a:avLst/>
              <a:gdLst/>
              <a:ahLst/>
              <a:rect l="l" t="t" r="r" b="b"/>
              <a:pathLst>
                <a:path w="17" h="257">
                  <a:moveTo>
                    <a:pt x="0" y="0"/>
                  </a:moveTo>
                  <a:lnTo>
                    <a:pt x="16" y="190"/>
                  </a:lnTo>
                  <a:lnTo>
                    <a:pt x="13" y="253"/>
                  </a:lnTo>
                  <a:lnTo>
                    <a:pt x="10" y="256"/>
                  </a:lnTo>
                  <a:lnTo>
                    <a:pt x="0" y="4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c200"/>
            </a:solidFill>
            <a:ln w="9360">
              <a:solidFill>
                <a:srgbClr val="00c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9640" y="6270480"/>
              <a:ext cx="1216080" cy="304920"/>
            </a:xfrm>
            <a:custGeom>
              <a:avLst/>
              <a:gdLst/>
              <a:ahLst/>
              <a:rect l="l" t="t" r="r" b="b"/>
              <a:pathLst>
                <a:path w="766" h="192">
                  <a:moveTo>
                    <a:pt x="0" y="1"/>
                  </a:moveTo>
                  <a:lnTo>
                    <a:pt x="6" y="190"/>
                  </a:lnTo>
                  <a:lnTo>
                    <a:pt x="765" y="191"/>
                  </a:lnTo>
                  <a:lnTo>
                    <a:pt x="733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0880" y="6286680"/>
              <a:ext cx="155520" cy="118800"/>
            </a:xfrm>
            <a:custGeom>
              <a:avLst/>
              <a:gdLst/>
              <a:ahLst/>
              <a:rect l="l" t="t" r="r" b="b"/>
              <a:pathLst>
                <a:path w="98" h="75">
                  <a:moveTo>
                    <a:pt x="18" y="2"/>
                  </a:moveTo>
                  <a:lnTo>
                    <a:pt x="18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8" y="6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1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6" y="6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84" y="2"/>
                  </a:lnTo>
                  <a:lnTo>
                    <a:pt x="84" y="3"/>
                  </a:lnTo>
                  <a:lnTo>
                    <a:pt x="84" y="3"/>
                  </a:lnTo>
                  <a:lnTo>
                    <a:pt x="84" y="3"/>
                  </a:lnTo>
                  <a:lnTo>
                    <a:pt x="84" y="3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6" y="10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86" y="18"/>
                  </a:lnTo>
                  <a:lnTo>
                    <a:pt x="86" y="18"/>
                  </a:lnTo>
                  <a:lnTo>
                    <a:pt x="86" y="20"/>
                  </a:lnTo>
                  <a:lnTo>
                    <a:pt x="86" y="20"/>
                  </a:lnTo>
                  <a:lnTo>
                    <a:pt x="86" y="21"/>
                  </a:lnTo>
                  <a:lnTo>
                    <a:pt x="86" y="21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84" y="25"/>
                  </a:lnTo>
                  <a:lnTo>
                    <a:pt x="84" y="25"/>
                  </a:lnTo>
                  <a:lnTo>
                    <a:pt x="84" y="27"/>
                  </a:lnTo>
                  <a:lnTo>
                    <a:pt x="84" y="27"/>
                  </a:lnTo>
                  <a:lnTo>
                    <a:pt x="84" y="27"/>
                  </a:lnTo>
                  <a:lnTo>
                    <a:pt x="84" y="27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4" y="35"/>
                  </a:lnTo>
                  <a:lnTo>
                    <a:pt x="84" y="35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6" y="42"/>
                  </a:lnTo>
                  <a:lnTo>
                    <a:pt x="86" y="44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89" y="44"/>
                  </a:lnTo>
                  <a:lnTo>
                    <a:pt x="89" y="45"/>
                  </a:lnTo>
                  <a:lnTo>
                    <a:pt x="89" y="45"/>
                  </a:lnTo>
                  <a:lnTo>
                    <a:pt x="89" y="46"/>
                  </a:lnTo>
                  <a:lnTo>
                    <a:pt x="91" y="46"/>
                  </a:lnTo>
                  <a:lnTo>
                    <a:pt x="91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4" y="48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51"/>
                  </a:lnTo>
                  <a:lnTo>
                    <a:pt x="94" y="51"/>
                  </a:lnTo>
                  <a:lnTo>
                    <a:pt x="94" y="51"/>
                  </a:lnTo>
                  <a:lnTo>
                    <a:pt x="95" y="51"/>
                  </a:lnTo>
                  <a:lnTo>
                    <a:pt x="95" y="53"/>
                  </a:lnTo>
                  <a:lnTo>
                    <a:pt x="95" y="53"/>
                  </a:lnTo>
                  <a:lnTo>
                    <a:pt x="95" y="53"/>
                  </a:lnTo>
                  <a:lnTo>
                    <a:pt x="96" y="53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7" y="54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94" y="55"/>
                  </a:lnTo>
                  <a:lnTo>
                    <a:pt x="94" y="55"/>
                  </a:lnTo>
                  <a:lnTo>
                    <a:pt x="94" y="55"/>
                  </a:lnTo>
                  <a:lnTo>
                    <a:pt x="94" y="55"/>
                  </a:lnTo>
                  <a:lnTo>
                    <a:pt x="94" y="55"/>
                  </a:lnTo>
                  <a:lnTo>
                    <a:pt x="94" y="55"/>
                  </a:lnTo>
                  <a:lnTo>
                    <a:pt x="94" y="55"/>
                  </a:lnTo>
                  <a:lnTo>
                    <a:pt x="94" y="55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1" y="56"/>
                  </a:lnTo>
                  <a:lnTo>
                    <a:pt x="91" y="56"/>
                  </a:lnTo>
                  <a:lnTo>
                    <a:pt x="91" y="56"/>
                  </a:lnTo>
                  <a:lnTo>
                    <a:pt x="91" y="56"/>
                  </a:lnTo>
                  <a:lnTo>
                    <a:pt x="89" y="56"/>
                  </a:lnTo>
                  <a:lnTo>
                    <a:pt x="89" y="56"/>
                  </a:lnTo>
                  <a:lnTo>
                    <a:pt x="89" y="56"/>
                  </a:lnTo>
                  <a:lnTo>
                    <a:pt x="89" y="56"/>
                  </a:lnTo>
                  <a:lnTo>
                    <a:pt x="88" y="56"/>
                  </a:lnTo>
                  <a:lnTo>
                    <a:pt x="88" y="56"/>
                  </a:lnTo>
                  <a:lnTo>
                    <a:pt x="88" y="56"/>
                  </a:lnTo>
                  <a:lnTo>
                    <a:pt x="88" y="55"/>
                  </a:lnTo>
                  <a:lnTo>
                    <a:pt x="86" y="56"/>
                  </a:lnTo>
                  <a:lnTo>
                    <a:pt x="85" y="56"/>
                  </a:lnTo>
                  <a:lnTo>
                    <a:pt x="83" y="56"/>
                  </a:lnTo>
                  <a:lnTo>
                    <a:pt x="82" y="56"/>
                  </a:lnTo>
                  <a:lnTo>
                    <a:pt x="81" y="56"/>
                  </a:lnTo>
                  <a:lnTo>
                    <a:pt x="79" y="56"/>
                  </a:lnTo>
                  <a:lnTo>
                    <a:pt x="77" y="56"/>
                  </a:lnTo>
                  <a:lnTo>
                    <a:pt x="77" y="56"/>
                  </a:lnTo>
                  <a:lnTo>
                    <a:pt x="75" y="56"/>
                  </a:lnTo>
                  <a:lnTo>
                    <a:pt x="73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0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9" y="56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69" y="58"/>
                  </a:lnTo>
                  <a:lnTo>
                    <a:pt x="69" y="6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1" y="60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73" y="62"/>
                  </a:lnTo>
                  <a:lnTo>
                    <a:pt x="73" y="62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5" y="62"/>
                  </a:lnTo>
                  <a:lnTo>
                    <a:pt x="73" y="64"/>
                  </a:lnTo>
                  <a:lnTo>
                    <a:pt x="73" y="65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70" y="68"/>
                  </a:lnTo>
                  <a:lnTo>
                    <a:pt x="68" y="68"/>
                  </a:lnTo>
                  <a:lnTo>
                    <a:pt x="66" y="70"/>
                  </a:lnTo>
                  <a:lnTo>
                    <a:pt x="65" y="70"/>
                  </a:lnTo>
                  <a:lnTo>
                    <a:pt x="62" y="72"/>
                  </a:lnTo>
                  <a:lnTo>
                    <a:pt x="61" y="72"/>
                  </a:lnTo>
                  <a:lnTo>
                    <a:pt x="59" y="73"/>
                  </a:lnTo>
                  <a:lnTo>
                    <a:pt x="57" y="73"/>
                  </a:lnTo>
                  <a:lnTo>
                    <a:pt x="55" y="74"/>
                  </a:lnTo>
                  <a:lnTo>
                    <a:pt x="53" y="74"/>
                  </a:lnTo>
                  <a:lnTo>
                    <a:pt x="51" y="74"/>
                  </a:lnTo>
                  <a:lnTo>
                    <a:pt x="50" y="74"/>
                  </a:lnTo>
                  <a:lnTo>
                    <a:pt x="47" y="74"/>
                  </a:lnTo>
                  <a:lnTo>
                    <a:pt x="45" y="74"/>
                  </a:lnTo>
                  <a:lnTo>
                    <a:pt x="43" y="74"/>
                  </a:lnTo>
                  <a:lnTo>
                    <a:pt x="41" y="73"/>
                  </a:lnTo>
                  <a:lnTo>
                    <a:pt x="38" y="73"/>
                  </a:lnTo>
                  <a:lnTo>
                    <a:pt x="36" y="72"/>
                  </a:lnTo>
                  <a:lnTo>
                    <a:pt x="34" y="72"/>
                  </a:lnTo>
                  <a:lnTo>
                    <a:pt x="33" y="70"/>
                  </a:lnTo>
                  <a:lnTo>
                    <a:pt x="30" y="70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4" y="66"/>
                  </a:lnTo>
                  <a:lnTo>
                    <a:pt x="22" y="66"/>
                  </a:lnTo>
                  <a:lnTo>
                    <a:pt x="21" y="64"/>
                  </a:lnTo>
                  <a:lnTo>
                    <a:pt x="19" y="64"/>
                  </a:lnTo>
                  <a:lnTo>
                    <a:pt x="19" y="62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8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3" y="48"/>
                  </a:lnTo>
                  <a:lnTo>
                    <a:pt x="3" y="48"/>
                  </a:lnTo>
                  <a:lnTo>
                    <a:pt x="3" y="48"/>
                  </a:lnTo>
                  <a:lnTo>
                    <a:pt x="3" y="48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0" y="40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6" y="30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18" y="2"/>
                  </a:lnTo>
                </a:path>
              </a:pathLst>
            </a:custGeom>
            <a:solidFill>
              <a:srgbClr val="00c2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52760" y="6289560"/>
              <a:ext cx="11916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74" y="30"/>
                  </a:moveTo>
                  <a:lnTo>
                    <a:pt x="74" y="32"/>
                  </a:lnTo>
                  <a:lnTo>
                    <a:pt x="74" y="3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4" y="40"/>
                  </a:lnTo>
                  <a:lnTo>
                    <a:pt x="74" y="4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69" y="52"/>
                  </a:lnTo>
                  <a:lnTo>
                    <a:pt x="69" y="52"/>
                  </a:lnTo>
                  <a:lnTo>
                    <a:pt x="69" y="53"/>
                  </a:lnTo>
                  <a:lnTo>
                    <a:pt x="69" y="53"/>
                  </a:lnTo>
                  <a:lnTo>
                    <a:pt x="69" y="54"/>
                  </a:lnTo>
                  <a:lnTo>
                    <a:pt x="69" y="54"/>
                  </a:lnTo>
                  <a:lnTo>
                    <a:pt x="69" y="54"/>
                  </a:lnTo>
                  <a:lnTo>
                    <a:pt x="69" y="54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0" y="62"/>
                  </a:lnTo>
                  <a:lnTo>
                    <a:pt x="60" y="6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55" y="65"/>
                  </a:lnTo>
                  <a:lnTo>
                    <a:pt x="55" y="65"/>
                  </a:lnTo>
                  <a:lnTo>
                    <a:pt x="55" y="65"/>
                  </a:lnTo>
                  <a:lnTo>
                    <a:pt x="55" y="65"/>
                  </a:lnTo>
                  <a:lnTo>
                    <a:pt x="54" y="65"/>
                  </a:lnTo>
                  <a:lnTo>
                    <a:pt x="54" y="65"/>
                  </a:lnTo>
                  <a:lnTo>
                    <a:pt x="54" y="65"/>
                  </a:lnTo>
                  <a:lnTo>
                    <a:pt x="54" y="65"/>
                  </a:lnTo>
                  <a:lnTo>
                    <a:pt x="53" y="67"/>
                  </a:lnTo>
                  <a:lnTo>
                    <a:pt x="53" y="67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50" y="67"/>
                  </a:lnTo>
                  <a:lnTo>
                    <a:pt x="50" y="67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5" y="67"/>
                  </a:lnTo>
                  <a:lnTo>
                    <a:pt x="45" y="67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39" y="67"/>
                  </a:lnTo>
                  <a:lnTo>
                    <a:pt x="39" y="67"/>
                  </a:lnTo>
                  <a:lnTo>
                    <a:pt x="37" y="67"/>
                  </a:lnTo>
                  <a:lnTo>
                    <a:pt x="37" y="67"/>
                  </a:lnTo>
                  <a:lnTo>
                    <a:pt x="36" y="67"/>
                  </a:lnTo>
                  <a:lnTo>
                    <a:pt x="36" y="67"/>
                  </a:lnTo>
                  <a:lnTo>
                    <a:pt x="34" y="67"/>
                  </a:lnTo>
                  <a:lnTo>
                    <a:pt x="34" y="67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0" y="66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3" y="66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6" y="64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3" y="62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8" y="58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4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2" y="46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5" y="3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10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6" y="12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3" y="25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3" y="28"/>
                  </a:lnTo>
                  <a:lnTo>
                    <a:pt x="74" y="28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</a:path>
              </a:pathLst>
            </a:custGeom>
            <a:solidFill>
              <a:srgbClr val="00c2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73640" y="6313320"/>
              <a:ext cx="69840" cy="590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5" y="4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0" y="35"/>
                  </a:lnTo>
                  <a:lnTo>
                    <a:pt x="20" y="36"/>
                  </a:lnTo>
                  <a:lnTo>
                    <a:pt x="21" y="36"/>
                  </a:lnTo>
                  <a:lnTo>
                    <a:pt x="22" y="36"/>
                  </a:lnTo>
                  <a:lnTo>
                    <a:pt x="23" y="36"/>
                  </a:lnTo>
                  <a:lnTo>
                    <a:pt x="25" y="36"/>
                  </a:lnTo>
                  <a:lnTo>
                    <a:pt x="27" y="36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43" y="35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8" y="35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3"/>
                  </a:lnTo>
                  <a:lnTo>
                    <a:pt x="33" y="33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33" y="26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71920" y="6288120"/>
              <a:ext cx="101520" cy="8244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10" y="34"/>
                  </a:moveTo>
                  <a:lnTo>
                    <a:pt x="10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1" y="38"/>
                  </a:lnTo>
                  <a:lnTo>
                    <a:pt x="11" y="40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5" y="41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6" y="45"/>
                  </a:lnTo>
                  <a:lnTo>
                    <a:pt x="18" y="45"/>
                  </a:lnTo>
                  <a:lnTo>
                    <a:pt x="18" y="47"/>
                  </a:lnTo>
                  <a:lnTo>
                    <a:pt x="20" y="47"/>
                  </a:lnTo>
                  <a:lnTo>
                    <a:pt x="21" y="47"/>
                  </a:lnTo>
                  <a:lnTo>
                    <a:pt x="23" y="47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7" y="49"/>
                  </a:lnTo>
                  <a:lnTo>
                    <a:pt x="27" y="49"/>
                  </a:lnTo>
                  <a:lnTo>
                    <a:pt x="29" y="49"/>
                  </a:lnTo>
                  <a:lnTo>
                    <a:pt x="29" y="51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2" y="51"/>
                  </a:lnTo>
                  <a:lnTo>
                    <a:pt x="32" y="51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6" y="51"/>
                  </a:lnTo>
                  <a:lnTo>
                    <a:pt x="36" y="51"/>
                  </a:lnTo>
                  <a:lnTo>
                    <a:pt x="36" y="49"/>
                  </a:lnTo>
                  <a:lnTo>
                    <a:pt x="35" y="49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5" y="45"/>
                  </a:lnTo>
                  <a:lnTo>
                    <a:pt x="34" y="45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7" y="39"/>
                  </a:lnTo>
                  <a:lnTo>
                    <a:pt x="39" y="39"/>
                  </a:lnTo>
                  <a:lnTo>
                    <a:pt x="41" y="39"/>
                  </a:lnTo>
                  <a:lnTo>
                    <a:pt x="43" y="39"/>
                  </a:lnTo>
                  <a:lnTo>
                    <a:pt x="45" y="39"/>
                  </a:lnTo>
                  <a:lnTo>
                    <a:pt x="46" y="39"/>
                  </a:lnTo>
                  <a:lnTo>
                    <a:pt x="50" y="39"/>
                  </a:lnTo>
                  <a:lnTo>
                    <a:pt x="52" y="40"/>
                  </a:lnTo>
                  <a:lnTo>
                    <a:pt x="54" y="40"/>
                  </a:lnTo>
                  <a:lnTo>
                    <a:pt x="56" y="40"/>
                  </a:lnTo>
                  <a:lnTo>
                    <a:pt x="57" y="40"/>
                  </a:lnTo>
                  <a:lnTo>
                    <a:pt x="58" y="40"/>
                  </a:lnTo>
                  <a:lnTo>
                    <a:pt x="60" y="40"/>
                  </a:lnTo>
                  <a:lnTo>
                    <a:pt x="61" y="40"/>
                  </a:lnTo>
                  <a:lnTo>
                    <a:pt x="63" y="39"/>
                  </a:lnTo>
                  <a:lnTo>
                    <a:pt x="61" y="39"/>
                  </a:lnTo>
                  <a:lnTo>
                    <a:pt x="61" y="39"/>
                  </a:lnTo>
                  <a:lnTo>
                    <a:pt x="59" y="39"/>
                  </a:lnTo>
                  <a:lnTo>
                    <a:pt x="59" y="38"/>
                  </a:lnTo>
                  <a:lnTo>
                    <a:pt x="57" y="38"/>
                  </a:lnTo>
                  <a:lnTo>
                    <a:pt x="55" y="37"/>
                  </a:lnTo>
                  <a:lnTo>
                    <a:pt x="53" y="37"/>
                  </a:lnTo>
                  <a:lnTo>
                    <a:pt x="51" y="35"/>
                  </a:lnTo>
                  <a:lnTo>
                    <a:pt x="47" y="35"/>
                  </a:lnTo>
                  <a:lnTo>
                    <a:pt x="46" y="35"/>
                  </a:lnTo>
                  <a:lnTo>
                    <a:pt x="44" y="35"/>
                  </a:lnTo>
                  <a:lnTo>
                    <a:pt x="42" y="33"/>
                  </a:lnTo>
                  <a:lnTo>
                    <a:pt x="40" y="33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0" y="34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48080" y="6394320"/>
              <a:ext cx="84240" cy="6372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26" y="24"/>
                  </a:moveTo>
                  <a:lnTo>
                    <a:pt x="25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7" y="36"/>
                  </a:lnTo>
                  <a:lnTo>
                    <a:pt x="29" y="36"/>
                  </a:lnTo>
                  <a:lnTo>
                    <a:pt x="31" y="34"/>
                  </a:lnTo>
                  <a:lnTo>
                    <a:pt x="31" y="34"/>
                  </a:lnTo>
                  <a:lnTo>
                    <a:pt x="33" y="33"/>
                  </a:lnTo>
                  <a:lnTo>
                    <a:pt x="34" y="33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2" y="16"/>
                  </a:lnTo>
                  <a:lnTo>
                    <a:pt x="51" y="17"/>
                  </a:lnTo>
                  <a:lnTo>
                    <a:pt x="50" y="17"/>
                  </a:lnTo>
                  <a:lnTo>
                    <a:pt x="48" y="17"/>
                  </a:lnTo>
                  <a:lnTo>
                    <a:pt x="47" y="17"/>
                  </a:lnTo>
                  <a:lnTo>
                    <a:pt x="46" y="19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41" y="21"/>
                  </a:lnTo>
                  <a:lnTo>
                    <a:pt x="38" y="23"/>
                  </a:lnTo>
                  <a:lnTo>
                    <a:pt x="36" y="24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30" y="26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6" y="24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32320" y="6291360"/>
              <a:ext cx="965160" cy="4680"/>
            </a:xfrm>
            <a:custGeom>
              <a:avLst/>
              <a:gdLst/>
              <a:ahLst/>
              <a:rect l="l" t="t" r="r" b="b"/>
              <a:pathLst>
                <a:path w="608" h="3">
                  <a:moveTo>
                    <a:pt x="0" y="0"/>
                  </a:moveTo>
                  <a:lnTo>
                    <a:pt x="6" y="2"/>
                  </a:lnTo>
                  <a:lnTo>
                    <a:pt x="26" y="2"/>
                  </a:lnTo>
                  <a:lnTo>
                    <a:pt x="55" y="2"/>
                  </a:lnTo>
                  <a:lnTo>
                    <a:pt x="94" y="2"/>
                  </a:lnTo>
                  <a:lnTo>
                    <a:pt x="139" y="2"/>
                  </a:lnTo>
                  <a:lnTo>
                    <a:pt x="191" y="2"/>
                  </a:lnTo>
                  <a:lnTo>
                    <a:pt x="246" y="2"/>
                  </a:lnTo>
                  <a:lnTo>
                    <a:pt x="304" y="2"/>
                  </a:lnTo>
                  <a:lnTo>
                    <a:pt x="359" y="2"/>
                  </a:lnTo>
                  <a:lnTo>
                    <a:pt x="414" y="2"/>
                  </a:lnTo>
                  <a:lnTo>
                    <a:pt x="464" y="2"/>
                  </a:lnTo>
                  <a:lnTo>
                    <a:pt x="511" y="1"/>
                  </a:lnTo>
                  <a:lnTo>
                    <a:pt x="550" y="1"/>
                  </a:lnTo>
                  <a:lnTo>
                    <a:pt x="580" y="1"/>
                  </a:lnTo>
                  <a:lnTo>
                    <a:pt x="599" y="1"/>
                  </a:lnTo>
                  <a:lnTo>
                    <a:pt x="607" y="0"/>
                  </a:lnTo>
                </a:path>
              </a:pathLst>
            </a:custGeom>
            <a:noFill/>
            <a:ln w="31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46560" y="6391440"/>
              <a:ext cx="127080" cy="61920"/>
            </a:xfrm>
            <a:prstGeom prst="ellipse">
              <a:avLst/>
            </a:prstGeom>
            <a:solidFill>
              <a:srgbClr val="00c2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75360" y="6405480"/>
              <a:ext cx="68040" cy="30240"/>
            </a:xfrm>
            <a:prstGeom prst="ellipse">
              <a:avLst/>
            </a:prstGeom>
            <a:solidFill>
              <a:srgbClr val="80ff8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84600" y="6372360"/>
              <a:ext cx="136800" cy="63360"/>
            </a:xfrm>
            <a:prstGeom prst="ellipse">
              <a:avLst/>
            </a:prstGeom>
            <a:solidFill>
              <a:srgbClr val="00c2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75160" y="6305400"/>
              <a:ext cx="69840" cy="590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" y="5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5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3" y="36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1" y="36"/>
                  </a:lnTo>
                  <a:lnTo>
                    <a:pt x="22" y="36"/>
                  </a:lnTo>
                  <a:lnTo>
                    <a:pt x="23" y="36"/>
                  </a:lnTo>
                  <a:lnTo>
                    <a:pt x="25" y="36"/>
                  </a:lnTo>
                  <a:lnTo>
                    <a:pt x="27" y="36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3" y="36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8" y="36"/>
                  </a:lnTo>
                  <a:lnTo>
                    <a:pt x="38" y="35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2"/>
                  </a:lnTo>
                  <a:lnTo>
                    <a:pt x="33" y="31"/>
                  </a:lnTo>
                  <a:lnTo>
                    <a:pt x="33" y="29"/>
                  </a:lnTo>
                  <a:lnTo>
                    <a:pt x="33" y="27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65720" y="6489720"/>
              <a:ext cx="66600" cy="61920"/>
            </a:xfrm>
            <a:prstGeom prst="ellipse">
              <a:avLst/>
            </a:prstGeom>
            <a:solidFill>
              <a:srgbClr val="00c2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76880" y="649764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3" y="3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4" y="23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410000" y="6550200"/>
              <a:ext cx="1041480" cy="144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8320" y="6311880"/>
              <a:ext cx="579240" cy="239760"/>
            </a:xfrm>
            <a:custGeom>
              <a:avLst/>
              <a:gdLst/>
              <a:ahLst/>
              <a:rect l="l" t="t" r="r" b="b"/>
              <a:pathLst>
                <a:path w="365" h="151">
                  <a:moveTo>
                    <a:pt x="228" y="1"/>
                  </a:moveTo>
                  <a:lnTo>
                    <a:pt x="228" y="1"/>
                  </a:lnTo>
                  <a:lnTo>
                    <a:pt x="230" y="1"/>
                  </a:lnTo>
                  <a:lnTo>
                    <a:pt x="231" y="1"/>
                  </a:lnTo>
                  <a:lnTo>
                    <a:pt x="233" y="1"/>
                  </a:lnTo>
                  <a:lnTo>
                    <a:pt x="235" y="1"/>
                  </a:lnTo>
                  <a:lnTo>
                    <a:pt x="237" y="1"/>
                  </a:lnTo>
                  <a:lnTo>
                    <a:pt x="239" y="1"/>
                  </a:lnTo>
                  <a:lnTo>
                    <a:pt x="240" y="1"/>
                  </a:lnTo>
                  <a:lnTo>
                    <a:pt x="242" y="1"/>
                  </a:lnTo>
                  <a:lnTo>
                    <a:pt x="244" y="1"/>
                  </a:lnTo>
                  <a:lnTo>
                    <a:pt x="246" y="1"/>
                  </a:lnTo>
                  <a:lnTo>
                    <a:pt x="247" y="1"/>
                  </a:lnTo>
                  <a:lnTo>
                    <a:pt x="248" y="1"/>
                  </a:lnTo>
                  <a:lnTo>
                    <a:pt x="250" y="1"/>
                  </a:lnTo>
                  <a:lnTo>
                    <a:pt x="251" y="1"/>
                  </a:lnTo>
                  <a:lnTo>
                    <a:pt x="253" y="1"/>
                  </a:lnTo>
                  <a:lnTo>
                    <a:pt x="253" y="2"/>
                  </a:lnTo>
                  <a:lnTo>
                    <a:pt x="253" y="4"/>
                  </a:lnTo>
                  <a:lnTo>
                    <a:pt x="253" y="6"/>
                  </a:lnTo>
                  <a:lnTo>
                    <a:pt x="255" y="6"/>
                  </a:lnTo>
                  <a:lnTo>
                    <a:pt x="255" y="8"/>
                  </a:lnTo>
                  <a:lnTo>
                    <a:pt x="255" y="9"/>
                  </a:lnTo>
                  <a:lnTo>
                    <a:pt x="255" y="11"/>
                  </a:lnTo>
                  <a:lnTo>
                    <a:pt x="256" y="11"/>
                  </a:lnTo>
                  <a:lnTo>
                    <a:pt x="255" y="13"/>
                  </a:lnTo>
                  <a:lnTo>
                    <a:pt x="255" y="15"/>
                  </a:lnTo>
                  <a:lnTo>
                    <a:pt x="255" y="17"/>
                  </a:lnTo>
                  <a:lnTo>
                    <a:pt x="255" y="18"/>
                  </a:lnTo>
                  <a:lnTo>
                    <a:pt x="254" y="19"/>
                  </a:lnTo>
                  <a:lnTo>
                    <a:pt x="254" y="20"/>
                  </a:lnTo>
                  <a:lnTo>
                    <a:pt x="254" y="21"/>
                  </a:lnTo>
                  <a:lnTo>
                    <a:pt x="254" y="21"/>
                  </a:lnTo>
                  <a:lnTo>
                    <a:pt x="252" y="22"/>
                  </a:lnTo>
                  <a:lnTo>
                    <a:pt x="252" y="22"/>
                  </a:lnTo>
                  <a:lnTo>
                    <a:pt x="251" y="22"/>
                  </a:lnTo>
                  <a:lnTo>
                    <a:pt x="251" y="22"/>
                  </a:lnTo>
                  <a:lnTo>
                    <a:pt x="249" y="22"/>
                  </a:lnTo>
                  <a:lnTo>
                    <a:pt x="249" y="22"/>
                  </a:lnTo>
                  <a:lnTo>
                    <a:pt x="247" y="22"/>
                  </a:lnTo>
                  <a:lnTo>
                    <a:pt x="247" y="22"/>
                  </a:lnTo>
                  <a:lnTo>
                    <a:pt x="246" y="22"/>
                  </a:lnTo>
                  <a:lnTo>
                    <a:pt x="244" y="22"/>
                  </a:lnTo>
                  <a:lnTo>
                    <a:pt x="242" y="22"/>
                  </a:lnTo>
                  <a:lnTo>
                    <a:pt x="242" y="22"/>
                  </a:lnTo>
                  <a:lnTo>
                    <a:pt x="240" y="22"/>
                  </a:lnTo>
                  <a:lnTo>
                    <a:pt x="240" y="22"/>
                  </a:lnTo>
                  <a:lnTo>
                    <a:pt x="240" y="22"/>
                  </a:lnTo>
                  <a:lnTo>
                    <a:pt x="240" y="22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0" y="26"/>
                  </a:lnTo>
                  <a:lnTo>
                    <a:pt x="240" y="26"/>
                  </a:lnTo>
                  <a:lnTo>
                    <a:pt x="240" y="26"/>
                  </a:lnTo>
                  <a:lnTo>
                    <a:pt x="240" y="26"/>
                  </a:lnTo>
                  <a:lnTo>
                    <a:pt x="240" y="28"/>
                  </a:lnTo>
                  <a:lnTo>
                    <a:pt x="240" y="28"/>
                  </a:lnTo>
                  <a:lnTo>
                    <a:pt x="240" y="28"/>
                  </a:lnTo>
                  <a:lnTo>
                    <a:pt x="240" y="28"/>
                  </a:lnTo>
                  <a:lnTo>
                    <a:pt x="240" y="29"/>
                  </a:lnTo>
                  <a:lnTo>
                    <a:pt x="240" y="29"/>
                  </a:lnTo>
                  <a:lnTo>
                    <a:pt x="240" y="29"/>
                  </a:lnTo>
                  <a:lnTo>
                    <a:pt x="240" y="29"/>
                  </a:lnTo>
                  <a:lnTo>
                    <a:pt x="240" y="31"/>
                  </a:lnTo>
                  <a:lnTo>
                    <a:pt x="241" y="33"/>
                  </a:lnTo>
                  <a:lnTo>
                    <a:pt x="241" y="35"/>
                  </a:lnTo>
                  <a:lnTo>
                    <a:pt x="243" y="36"/>
                  </a:lnTo>
                  <a:lnTo>
                    <a:pt x="243" y="38"/>
                  </a:lnTo>
                  <a:lnTo>
                    <a:pt x="245" y="38"/>
                  </a:lnTo>
                  <a:lnTo>
                    <a:pt x="245" y="39"/>
                  </a:lnTo>
                  <a:lnTo>
                    <a:pt x="247" y="39"/>
                  </a:lnTo>
                  <a:lnTo>
                    <a:pt x="247" y="40"/>
                  </a:lnTo>
                  <a:lnTo>
                    <a:pt x="248" y="40"/>
                  </a:lnTo>
                  <a:lnTo>
                    <a:pt x="248" y="42"/>
                  </a:lnTo>
                  <a:lnTo>
                    <a:pt x="250" y="42"/>
                  </a:lnTo>
                  <a:lnTo>
                    <a:pt x="250" y="44"/>
                  </a:lnTo>
                  <a:lnTo>
                    <a:pt x="250" y="44"/>
                  </a:lnTo>
                  <a:lnTo>
                    <a:pt x="250" y="46"/>
                  </a:lnTo>
                  <a:lnTo>
                    <a:pt x="252" y="46"/>
                  </a:lnTo>
                  <a:lnTo>
                    <a:pt x="252" y="48"/>
                  </a:lnTo>
                  <a:lnTo>
                    <a:pt x="252" y="49"/>
                  </a:lnTo>
                  <a:lnTo>
                    <a:pt x="252" y="51"/>
                  </a:lnTo>
                  <a:lnTo>
                    <a:pt x="254" y="51"/>
                  </a:lnTo>
                  <a:lnTo>
                    <a:pt x="254" y="53"/>
                  </a:lnTo>
                  <a:lnTo>
                    <a:pt x="254" y="53"/>
                  </a:lnTo>
                  <a:lnTo>
                    <a:pt x="254" y="54"/>
                  </a:lnTo>
                  <a:lnTo>
                    <a:pt x="256" y="54"/>
                  </a:lnTo>
                  <a:lnTo>
                    <a:pt x="256" y="56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7" y="58"/>
                  </a:lnTo>
                  <a:lnTo>
                    <a:pt x="257" y="59"/>
                  </a:lnTo>
                  <a:lnTo>
                    <a:pt x="257" y="59"/>
                  </a:lnTo>
                  <a:lnTo>
                    <a:pt x="257" y="61"/>
                  </a:lnTo>
                  <a:lnTo>
                    <a:pt x="258" y="61"/>
                  </a:lnTo>
                  <a:lnTo>
                    <a:pt x="257" y="63"/>
                  </a:lnTo>
                  <a:lnTo>
                    <a:pt x="257" y="64"/>
                  </a:lnTo>
                  <a:lnTo>
                    <a:pt x="257" y="66"/>
                  </a:lnTo>
                  <a:lnTo>
                    <a:pt x="257" y="66"/>
                  </a:lnTo>
                  <a:lnTo>
                    <a:pt x="257" y="68"/>
                  </a:lnTo>
                  <a:lnTo>
                    <a:pt x="257" y="69"/>
                  </a:lnTo>
                  <a:lnTo>
                    <a:pt x="257" y="71"/>
                  </a:lnTo>
                  <a:lnTo>
                    <a:pt x="257" y="71"/>
                  </a:lnTo>
                  <a:lnTo>
                    <a:pt x="256" y="73"/>
                  </a:lnTo>
                  <a:lnTo>
                    <a:pt x="256" y="75"/>
                  </a:lnTo>
                  <a:lnTo>
                    <a:pt x="256" y="77"/>
                  </a:lnTo>
                  <a:lnTo>
                    <a:pt x="256" y="78"/>
                  </a:lnTo>
                  <a:lnTo>
                    <a:pt x="256" y="80"/>
                  </a:lnTo>
                  <a:lnTo>
                    <a:pt x="256" y="80"/>
                  </a:lnTo>
                  <a:lnTo>
                    <a:pt x="256" y="81"/>
                  </a:lnTo>
                  <a:lnTo>
                    <a:pt x="256" y="81"/>
                  </a:lnTo>
                  <a:lnTo>
                    <a:pt x="255" y="83"/>
                  </a:lnTo>
                  <a:lnTo>
                    <a:pt x="255" y="84"/>
                  </a:lnTo>
                  <a:lnTo>
                    <a:pt x="254" y="86"/>
                  </a:lnTo>
                  <a:lnTo>
                    <a:pt x="254" y="87"/>
                  </a:lnTo>
                  <a:lnTo>
                    <a:pt x="252" y="90"/>
                  </a:lnTo>
                  <a:lnTo>
                    <a:pt x="252" y="92"/>
                  </a:lnTo>
                  <a:lnTo>
                    <a:pt x="250" y="94"/>
                  </a:lnTo>
                  <a:lnTo>
                    <a:pt x="250" y="96"/>
                  </a:lnTo>
                  <a:lnTo>
                    <a:pt x="248" y="99"/>
                  </a:lnTo>
                  <a:lnTo>
                    <a:pt x="248" y="100"/>
                  </a:lnTo>
                  <a:lnTo>
                    <a:pt x="246" y="102"/>
                  </a:lnTo>
                  <a:lnTo>
                    <a:pt x="246" y="104"/>
                  </a:lnTo>
                  <a:lnTo>
                    <a:pt x="245" y="106"/>
                  </a:lnTo>
                  <a:lnTo>
                    <a:pt x="245" y="107"/>
                  </a:lnTo>
                  <a:lnTo>
                    <a:pt x="245" y="107"/>
                  </a:lnTo>
                  <a:lnTo>
                    <a:pt x="246" y="107"/>
                  </a:lnTo>
                  <a:lnTo>
                    <a:pt x="246" y="107"/>
                  </a:lnTo>
                  <a:lnTo>
                    <a:pt x="246" y="107"/>
                  </a:lnTo>
                  <a:lnTo>
                    <a:pt x="246" y="107"/>
                  </a:lnTo>
                  <a:lnTo>
                    <a:pt x="247" y="106"/>
                  </a:lnTo>
                  <a:lnTo>
                    <a:pt x="247" y="106"/>
                  </a:lnTo>
                  <a:lnTo>
                    <a:pt x="249" y="104"/>
                  </a:lnTo>
                  <a:lnTo>
                    <a:pt x="251" y="103"/>
                  </a:lnTo>
                  <a:lnTo>
                    <a:pt x="253" y="101"/>
                  </a:lnTo>
                  <a:lnTo>
                    <a:pt x="253" y="101"/>
                  </a:lnTo>
                  <a:lnTo>
                    <a:pt x="255" y="99"/>
                  </a:lnTo>
                  <a:lnTo>
                    <a:pt x="256" y="99"/>
                  </a:lnTo>
                  <a:lnTo>
                    <a:pt x="258" y="97"/>
                  </a:lnTo>
                  <a:lnTo>
                    <a:pt x="258" y="97"/>
                  </a:lnTo>
                  <a:lnTo>
                    <a:pt x="260" y="96"/>
                  </a:lnTo>
                  <a:lnTo>
                    <a:pt x="260" y="96"/>
                  </a:lnTo>
                  <a:lnTo>
                    <a:pt x="262" y="95"/>
                  </a:lnTo>
                  <a:lnTo>
                    <a:pt x="262" y="96"/>
                  </a:lnTo>
                  <a:lnTo>
                    <a:pt x="262" y="96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2" y="99"/>
                  </a:lnTo>
                  <a:lnTo>
                    <a:pt x="262" y="99"/>
                  </a:lnTo>
                  <a:lnTo>
                    <a:pt x="262" y="99"/>
                  </a:lnTo>
                  <a:lnTo>
                    <a:pt x="263" y="99"/>
                  </a:lnTo>
                  <a:lnTo>
                    <a:pt x="263" y="100"/>
                  </a:lnTo>
                  <a:lnTo>
                    <a:pt x="263" y="100"/>
                  </a:lnTo>
                  <a:lnTo>
                    <a:pt x="263" y="101"/>
                  </a:lnTo>
                  <a:lnTo>
                    <a:pt x="263" y="101"/>
                  </a:lnTo>
                  <a:lnTo>
                    <a:pt x="263" y="102"/>
                  </a:lnTo>
                  <a:lnTo>
                    <a:pt x="263" y="102"/>
                  </a:lnTo>
                  <a:lnTo>
                    <a:pt x="263" y="102"/>
                  </a:lnTo>
                  <a:lnTo>
                    <a:pt x="265" y="102"/>
                  </a:lnTo>
                  <a:lnTo>
                    <a:pt x="265" y="104"/>
                  </a:lnTo>
                  <a:lnTo>
                    <a:pt x="265" y="104"/>
                  </a:lnTo>
                  <a:lnTo>
                    <a:pt x="265" y="104"/>
                  </a:lnTo>
                  <a:lnTo>
                    <a:pt x="267" y="104"/>
                  </a:lnTo>
                  <a:lnTo>
                    <a:pt x="267" y="105"/>
                  </a:lnTo>
                  <a:lnTo>
                    <a:pt x="268" y="105"/>
                  </a:lnTo>
                  <a:lnTo>
                    <a:pt x="269" y="105"/>
                  </a:lnTo>
                  <a:lnTo>
                    <a:pt x="271" y="105"/>
                  </a:lnTo>
                  <a:lnTo>
                    <a:pt x="271" y="107"/>
                  </a:lnTo>
                  <a:lnTo>
                    <a:pt x="273" y="107"/>
                  </a:lnTo>
                  <a:lnTo>
                    <a:pt x="273" y="107"/>
                  </a:lnTo>
                  <a:lnTo>
                    <a:pt x="275" y="107"/>
                  </a:lnTo>
                  <a:lnTo>
                    <a:pt x="275" y="107"/>
                  </a:lnTo>
                  <a:lnTo>
                    <a:pt x="276" y="107"/>
                  </a:lnTo>
                  <a:lnTo>
                    <a:pt x="276" y="107"/>
                  </a:lnTo>
                  <a:lnTo>
                    <a:pt x="277" y="107"/>
                  </a:lnTo>
                  <a:lnTo>
                    <a:pt x="276" y="109"/>
                  </a:lnTo>
                  <a:lnTo>
                    <a:pt x="276" y="109"/>
                  </a:lnTo>
                  <a:lnTo>
                    <a:pt x="274" y="109"/>
                  </a:lnTo>
                  <a:lnTo>
                    <a:pt x="274" y="109"/>
                  </a:lnTo>
                  <a:lnTo>
                    <a:pt x="272" y="109"/>
                  </a:lnTo>
                  <a:lnTo>
                    <a:pt x="272" y="109"/>
                  </a:lnTo>
                  <a:lnTo>
                    <a:pt x="270" y="109"/>
                  </a:lnTo>
                  <a:lnTo>
                    <a:pt x="270" y="109"/>
                  </a:lnTo>
                  <a:lnTo>
                    <a:pt x="268" y="110"/>
                  </a:lnTo>
                  <a:lnTo>
                    <a:pt x="268" y="110"/>
                  </a:lnTo>
                  <a:lnTo>
                    <a:pt x="266" y="110"/>
                  </a:lnTo>
                  <a:lnTo>
                    <a:pt x="266" y="110"/>
                  </a:lnTo>
                  <a:lnTo>
                    <a:pt x="265" y="111"/>
                  </a:lnTo>
                  <a:lnTo>
                    <a:pt x="265" y="111"/>
                  </a:lnTo>
                  <a:lnTo>
                    <a:pt x="265" y="111"/>
                  </a:lnTo>
                  <a:lnTo>
                    <a:pt x="265" y="111"/>
                  </a:lnTo>
                  <a:lnTo>
                    <a:pt x="265" y="113"/>
                  </a:lnTo>
                  <a:lnTo>
                    <a:pt x="265" y="113"/>
                  </a:lnTo>
                  <a:lnTo>
                    <a:pt x="265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8" y="113"/>
                  </a:lnTo>
                  <a:lnTo>
                    <a:pt x="268" y="113"/>
                  </a:lnTo>
                  <a:lnTo>
                    <a:pt x="270" y="113"/>
                  </a:lnTo>
                  <a:lnTo>
                    <a:pt x="270" y="114"/>
                  </a:lnTo>
                  <a:lnTo>
                    <a:pt x="272" y="114"/>
                  </a:lnTo>
                  <a:lnTo>
                    <a:pt x="272" y="114"/>
                  </a:lnTo>
                  <a:lnTo>
                    <a:pt x="274" y="114"/>
                  </a:lnTo>
                  <a:lnTo>
                    <a:pt x="274" y="114"/>
                  </a:lnTo>
                  <a:lnTo>
                    <a:pt x="276" y="114"/>
                  </a:lnTo>
                  <a:lnTo>
                    <a:pt x="276" y="114"/>
                  </a:lnTo>
                  <a:lnTo>
                    <a:pt x="277" y="114"/>
                  </a:lnTo>
                  <a:lnTo>
                    <a:pt x="277" y="116"/>
                  </a:lnTo>
                  <a:lnTo>
                    <a:pt x="277" y="116"/>
                  </a:lnTo>
                  <a:lnTo>
                    <a:pt x="277" y="116"/>
                  </a:lnTo>
                  <a:lnTo>
                    <a:pt x="279" y="116"/>
                  </a:lnTo>
                  <a:lnTo>
                    <a:pt x="279" y="118"/>
                  </a:lnTo>
                  <a:lnTo>
                    <a:pt x="280" y="118"/>
                  </a:lnTo>
                  <a:lnTo>
                    <a:pt x="280" y="118"/>
                  </a:lnTo>
                  <a:lnTo>
                    <a:pt x="282" y="118"/>
                  </a:lnTo>
                  <a:lnTo>
                    <a:pt x="282" y="120"/>
                  </a:lnTo>
                  <a:lnTo>
                    <a:pt x="282" y="120"/>
                  </a:lnTo>
                  <a:lnTo>
                    <a:pt x="282" y="120"/>
                  </a:lnTo>
                  <a:lnTo>
                    <a:pt x="283" y="120"/>
                  </a:lnTo>
                  <a:lnTo>
                    <a:pt x="283" y="122"/>
                  </a:lnTo>
                  <a:lnTo>
                    <a:pt x="283" y="122"/>
                  </a:lnTo>
                  <a:lnTo>
                    <a:pt x="283" y="122"/>
                  </a:lnTo>
                  <a:lnTo>
                    <a:pt x="284" y="122"/>
                  </a:lnTo>
                  <a:lnTo>
                    <a:pt x="282" y="124"/>
                  </a:lnTo>
                  <a:lnTo>
                    <a:pt x="282" y="124"/>
                  </a:lnTo>
                  <a:lnTo>
                    <a:pt x="282" y="124"/>
                  </a:lnTo>
                  <a:lnTo>
                    <a:pt x="282" y="124"/>
                  </a:lnTo>
                  <a:lnTo>
                    <a:pt x="280" y="124"/>
                  </a:lnTo>
                  <a:lnTo>
                    <a:pt x="280" y="124"/>
                  </a:lnTo>
                  <a:lnTo>
                    <a:pt x="278" y="124"/>
                  </a:lnTo>
                  <a:lnTo>
                    <a:pt x="278" y="124"/>
                  </a:lnTo>
                  <a:lnTo>
                    <a:pt x="277" y="126"/>
                  </a:lnTo>
                  <a:lnTo>
                    <a:pt x="277" y="126"/>
                  </a:lnTo>
                  <a:lnTo>
                    <a:pt x="275" y="126"/>
                  </a:lnTo>
                  <a:lnTo>
                    <a:pt x="275" y="126"/>
                  </a:lnTo>
                  <a:lnTo>
                    <a:pt x="274" y="126"/>
                  </a:lnTo>
                  <a:lnTo>
                    <a:pt x="274" y="126"/>
                  </a:lnTo>
                  <a:lnTo>
                    <a:pt x="274" y="126"/>
                  </a:lnTo>
                  <a:lnTo>
                    <a:pt x="275" y="126"/>
                  </a:lnTo>
                  <a:lnTo>
                    <a:pt x="275" y="127"/>
                  </a:lnTo>
                  <a:lnTo>
                    <a:pt x="275" y="127"/>
                  </a:lnTo>
                  <a:lnTo>
                    <a:pt x="275" y="127"/>
                  </a:lnTo>
                  <a:lnTo>
                    <a:pt x="276" y="127"/>
                  </a:lnTo>
                  <a:lnTo>
                    <a:pt x="276" y="127"/>
                  </a:lnTo>
                  <a:lnTo>
                    <a:pt x="278" y="127"/>
                  </a:lnTo>
                  <a:lnTo>
                    <a:pt x="278" y="127"/>
                  </a:lnTo>
                  <a:lnTo>
                    <a:pt x="280" y="127"/>
                  </a:lnTo>
                  <a:lnTo>
                    <a:pt x="280" y="127"/>
                  </a:lnTo>
                  <a:lnTo>
                    <a:pt x="282" y="127"/>
                  </a:lnTo>
                  <a:lnTo>
                    <a:pt x="283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7" y="127"/>
                  </a:lnTo>
                  <a:lnTo>
                    <a:pt x="287" y="127"/>
                  </a:lnTo>
                  <a:lnTo>
                    <a:pt x="289" y="126"/>
                  </a:lnTo>
                  <a:lnTo>
                    <a:pt x="290" y="126"/>
                  </a:lnTo>
                  <a:lnTo>
                    <a:pt x="292" y="126"/>
                  </a:lnTo>
                  <a:lnTo>
                    <a:pt x="294" y="126"/>
                  </a:lnTo>
                  <a:lnTo>
                    <a:pt x="295" y="126"/>
                  </a:lnTo>
                  <a:lnTo>
                    <a:pt x="297" y="126"/>
                  </a:lnTo>
                  <a:lnTo>
                    <a:pt x="299" y="126"/>
                  </a:lnTo>
                  <a:lnTo>
                    <a:pt x="301" y="126"/>
                  </a:lnTo>
                  <a:lnTo>
                    <a:pt x="304" y="126"/>
                  </a:lnTo>
                  <a:lnTo>
                    <a:pt x="305" y="126"/>
                  </a:lnTo>
                  <a:lnTo>
                    <a:pt x="307" y="126"/>
                  </a:lnTo>
                  <a:lnTo>
                    <a:pt x="309" y="126"/>
                  </a:lnTo>
                  <a:lnTo>
                    <a:pt x="311" y="126"/>
                  </a:lnTo>
                  <a:lnTo>
                    <a:pt x="312" y="126"/>
                  </a:lnTo>
                  <a:lnTo>
                    <a:pt x="314" y="126"/>
                  </a:lnTo>
                  <a:lnTo>
                    <a:pt x="316" y="126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20" y="126"/>
                  </a:lnTo>
                  <a:lnTo>
                    <a:pt x="320" y="126"/>
                  </a:lnTo>
                  <a:lnTo>
                    <a:pt x="321" y="126"/>
                  </a:lnTo>
                  <a:lnTo>
                    <a:pt x="321" y="126"/>
                  </a:lnTo>
                  <a:lnTo>
                    <a:pt x="323" y="124"/>
                  </a:lnTo>
                  <a:lnTo>
                    <a:pt x="323" y="124"/>
                  </a:lnTo>
                  <a:lnTo>
                    <a:pt x="323" y="124"/>
                  </a:lnTo>
                  <a:lnTo>
                    <a:pt x="323" y="124"/>
                  </a:lnTo>
                  <a:lnTo>
                    <a:pt x="325" y="124"/>
                  </a:lnTo>
                  <a:lnTo>
                    <a:pt x="325" y="124"/>
                  </a:lnTo>
                  <a:lnTo>
                    <a:pt x="326" y="124"/>
                  </a:lnTo>
                  <a:lnTo>
                    <a:pt x="326" y="124"/>
                  </a:lnTo>
                  <a:lnTo>
                    <a:pt x="328" y="123"/>
                  </a:lnTo>
                  <a:lnTo>
                    <a:pt x="328" y="125"/>
                  </a:lnTo>
                  <a:lnTo>
                    <a:pt x="328" y="125"/>
                  </a:lnTo>
                  <a:lnTo>
                    <a:pt x="328" y="126"/>
                  </a:lnTo>
                  <a:lnTo>
                    <a:pt x="330" y="126"/>
                  </a:lnTo>
                  <a:lnTo>
                    <a:pt x="330" y="127"/>
                  </a:lnTo>
                  <a:lnTo>
                    <a:pt x="330" y="127"/>
                  </a:lnTo>
                  <a:lnTo>
                    <a:pt x="330" y="128"/>
                  </a:lnTo>
                  <a:lnTo>
                    <a:pt x="332" y="128"/>
                  </a:lnTo>
                  <a:lnTo>
                    <a:pt x="332" y="130"/>
                  </a:lnTo>
                  <a:lnTo>
                    <a:pt x="332" y="130"/>
                  </a:lnTo>
                  <a:lnTo>
                    <a:pt x="332" y="131"/>
                  </a:lnTo>
                  <a:lnTo>
                    <a:pt x="334" y="131"/>
                  </a:lnTo>
                  <a:lnTo>
                    <a:pt x="334" y="133"/>
                  </a:lnTo>
                  <a:lnTo>
                    <a:pt x="335" y="133"/>
                  </a:lnTo>
                  <a:lnTo>
                    <a:pt x="335" y="133"/>
                  </a:lnTo>
                  <a:lnTo>
                    <a:pt x="337" y="133"/>
                  </a:lnTo>
                  <a:lnTo>
                    <a:pt x="337" y="135"/>
                  </a:lnTo>
                  <a:lnTo>
                    <a:pt x="337" y="135"/>
                  </a:lnTo>
                  <a:lnTo>
                    <a:pt x="337" y="135"/>
                  </a:lnTo>
                  <a:lnTo>
                    <a:pt x="338" y="135"/>
                  </a:lnTo>
                  <a:lnTo>
                    <a:pt x="338" y="136"/>
                  </a:lnTo>
                  <a:lnTo>
                    <a:pt x="338" y="136"/>
                  </a:lnTo>
                  <a:lnTo>
                    <a:pt x="338" y="136"/>
                  </a:lnTo>
                  <a:lnTo>
                    <a:pt x="340" y="136"/>
                  </a:lnTo>
                  <a:lnTo>
                    <a:pt x="340" y="137"/>
                  </a:lnTo>
                  <a:lnTo>
                    <a:pt x="340" y="137"/>
                  </a:lnTo>
                  <a:lnTo>
                    <a:pt x="340" y="137"/>
                  </a:lnTo>
                  <a:lnTo>
                    <a:pt x="342" y="137"/>
                  </a:lnTo>
                  <a:lnTo>
                    <a:pt x="342" y="137"/>
                  </a:lnTo>
                  <a:lnTo>
                    <a:pt x="343" y="137"/>
                  </a:lnTo>
                  <a:lnTo>
                    <a:pt x="343" y="137"/>
                  </a:lnTo>
                  <a:lnTo>
                    <a:pt x="345" y="137"/>
                  </a:lnTo>
                  <a:lnTo>
                    <a:pt x="345" y="139"/>
                  </a:lnTo>
                  <a:lnTo>
                    <a:pt x="345" y="139"/>
                  </a:lnTo>
                  <a:lnTo>
                    <a:pt x="345" y="139"/>
                  </a:lnTo>
                  <a:lnTo>
                    <a:pt x="345" y="139"/>
                  </a:lnTo>
                  <a:lnTo>
                    <a:pt x="345" y="140"/>
                  </a:lnTo>
                  <a:lnTo>
                    <a:pt x="345" y="140"/>
                  </a:lnTo>
                  <a:lnTo>
                    <a:pt x="345" y="140"/>
                  </a:lnTo>
                  <a:lnTo>
                    <a:pt x="345" y="140"/>
                  </a:lnTo>
                  <a:lnTo>
                    <a:pt x="345" y="142"/>
                  </a:lnTo>
                  <a:lnTo>
                    <a:pt x="345" y="142"/>
                  </a:lnTo>
                  <a:lnTo>
                    <a:pt x="345" y="142"/>
                  </a:lnTo>
                  <a:lnTo>
                    <a:pt x="345" y="142"/>
                  </a:lnTo>
                  <a:lnTo>
                    <a:pt x="345" y="142"/>
                  </a:lnTo>
                  <a:lnTo>
                    <a:pt x="345" y="142"/>
                  </a:lnTo>
                  <a:lnTo>
                    <a:pt x="345" y="142"/>
                  </a:lnTo>
                  <a:lnTo>
                    <a:pt x="346" y="142"/>
                  </a:lnTo>
                  <a:lnTo>
                    <a:pt x="346" y="144"/>
                  </a:lnTo>
                  <a:lnTo>
                    <a:pt x="348" y="144"/>
                  </a:lnTo>
                  <a:lnTo>
                    <a:pt x="348" y="144"/>
                  </a:lnTo>
                  <a:lnTo>
                    <a:pt x="350" y="144"/>
                  </a:lnTo>
                  <a:lnTo>
                    <a:pt x="351" y="144"/>
                  </a:lnTo>
                  <a:lnTo>
                    <a:pt x="353" y="144"/>
                  </a:lnTo>
                  <a:lnTo>
                    <a:pt x="355" y="144"/>
                  </a:lnTo>
                  <a:lnTo>
                    <a:pt x="356" y="144"/>
                  </a:lnTo>
                  <a:lnTo>
                    <a:pt x="356" y="145"/>
                  </a:lnTo>
                  <a:lnTo>
                    <a:pt x="358" y="145"/>
                  </a:lnTo>
                  <a:lnTo>
                    <a:pt x="360" y="145"/>
                  </a:lnTo>
                  <a:lnTo>
                    <a:pt x="362" y="145"/>
                  </a:lnTo>
                  <a:lnTo>
                    <a:pt x="362" y="145"/>
                  </a:lnTo>
                  <a:lnTo>
                    <a:pt x="363" y="145"/>
                  </a:lnTo>
                  <a:lnTo>
                    <a:pt x="363" y="145"/>
                  </a:lnTo>
                  <a:lnTo>
                    <a:pt x="364" y="145"/>
                  </a:lnTo>
                  <a:lnTo>
                    <a:pt x="363" y="147"/>
                  </a:lnTo>
                  <a:lnTo>
                    <a:pt x="363" y="147"/>
                  </a:lnTo>
                  <a:lnTo>
                    <a:pt x="362" y="147"/>
                  </a:lnTo>
                  <a:lnTo>
                    <a:pt x="362" y="147"/>
                  </a:lnTo>
                  <a:lnTo>
                    <a:pt x="360" y="147"/>
                  </a:lnTo>
                  <a:lnTo>
                    <a:pt x="360" y="147"/>
                  </a:lnTo>
                  <a:lnTo>
                    <a:pt x="359" y="147"/>
                  </a:lnTo>
                  <a:lnTo>
                    <a:pt x="359" y="147"/>
                  </a:lnTo>
                  <a:lnTo>
                    <a:pt x="357" y="148"/>
                  </a:lnTo>
                  <a:lnTo>
                    <a:pt x="356" y="148"/>
                  </a:lnTo>
                  <a:lnTo>
                    <a:pt x="355" y="148"/>
                  </a:lnTo>
                  <a:lnTo>
                    <a:pt x="355" y="148"/>
                  </a:lnTo>
                  <a:lnTo>
                    <a:pt x="353" y="148"/>
                  </a:lnTo>
                  <a:lnTo>
                    <a:pt x="353" y="148"/>
                  </a:lnTo>
                  <a:lnTo>
                    <a:pt x="352" y="148"/>
                  </a:lnTo>
                  <a:lnTo>
                    <a:pt x="352" y="148"/>
                  </a:lnTo>
                  <a:lnTo>
                    <a:pt x="350" y="150"/>
                  </a:lnTo>
                  <a:lnTo>
                    <a:pt x="348" y="150"/>
                  </a:lnTo>
                  <a:lnTo>
                    <a:pt x="346" y="150"/>
                  </a:lnTo>
                  <a:lnTo>
                    <a:pt x="346" y="150"/>
                  </a:lnTo>
                  <a:lnTo>
                    <a:pt x="344" y="150"/>
                  </a:lnTo>
                  <a:lnTo>
                    <a:pt x="342" y="150"/>
                  </a:lnTo>
                  <a:lnTo>
                    <a:pt x="340" y="150"/>
                  </a:lnTo>
                  <a:lnTo>
                    <a:pt x="340" y="150"/>
                  </a:lnTo>
                  <a:lnTo>
                    <a:pt x="338" y="150"/>
                  </a:lnTo>
                  <a:lnTo>
                    <a:pt x="336" y="150"/>
                  </a:lnTo>
                  <a:lnTo>
                    <a:pt x="335" y="150"/>
                  </a:lnTo>
                  <a:lnTo>
                    <a:pt x="335" y="150"/>
                  </a:lnTo>
                  <a:lnTo>
                    <a:pt x="333" y="150"/>
                  </a:lnTo>
                  <a:lnTo>
                    <a:pt x="332" y="150"/>
                  </a:lnTo>
                  <a:lnTo>
                    <a:pt x="330" y="150"/>
                  </a:lnTo>
                  <a:lnTo>
                    <a:pt x="330" y="150"/>
                  </a:lnTo>
                  <a:lnTo>
                    <a:pt x="314" y="150"/>
                  </a:lnTo>
                  <a:lnTo>
                    <a:pt x="294" y="150"/>
                  </a:lnTo>
                  <a:lnTo>
                    <a:pt x="272" y="150"/>
                  </a:lnTo>
                  <a:lnTo>
                    <a:pt x="249" y="150"/>
                  </a:lnTo>
                  <a:lnTo>
                    <a:pt x="224" y="150"/>
                  </a:lnTo>
                  <a:lnTo>
                    <a:pt x="199" y="150"/>
                  </a:lnTo>
                  <a:lnTo>
                    <a:pt x="172" y="150"/>
                  </a:lnTo>
                  <a:lnTo>
                    <a:pt x="148" y="150"/>
                  </a:lnTo>
                  <a:lnTo>
                    <a:pt x="122" y="150"/>
                  </a:lnTo>
                  <a:lnTo>
                    <a:pt x="99" y="150"/>
                  </a:lnTo>
                  <a:lnTo>
                    <a:pt x="76" y="150"/>
                  </a:lnTo>
                  <a:lnTo>
                    <a:pt x="56" y="150"/>
                  </a:lnTo>
                  <a:lnTo>
                    <a:pt x="38" y="150"/>
                  </a:lnTo>
                  <a:lnTo>
                    <a:pt x="24" y="150"/>
                  </a:lnTo>
                  <a:lnTo>
                    <a:pt x="13" y="150"/>
                  </a:lnTo>
                  <a:lnTo>
                    <a:pt x="6" y="148"/>
                  </a:lnTo>
                  <a:lnTo>
                    <a:pt x="5" y="148"/>
                  </a:lnTo>
                  <a:lnTo>
                    <a:pt x="5" y="148"/>
                  </a:lnTo>
                  <a:lnTo>
                    <a:pt x="5" y="148"/>
                  </a:lnTo>
                  <a:lnTo>
                    <a:pt x="5" y="148"/>
                  </a:lnTo>
                  <a:lnTo>
                    <a:pt x="3" y="148"/>
                  </a:lnTo>
                  <a:lnTo>
                    <a:pt x="3" y="148"/>
                  </a:lnTo>
                  <a:lnTo>
                    <a:pt x="3" y="148"/>
                  </a:lnTo>
                  <a:lnTo>
                    <a:pt x="3" y="146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2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1" y="137"/>
                  </a:lnTo>
                  <a:lnTo>
                    <a:pt x="1" y="137"/>
                  </a:lnTo>
                  <a:lnTo>
                    <a:pt x="1" y="137"/>
                  </a:lnTo>
                  <a:lnTo>
                    <a:pt x="1" y="137"/>
                  </a:lnTo>
                  <a:lnTo>
                    <a:pt x="3" y="137"/>
                  </a:lnTo>
                  <a:lnTo>
                    <a:pt x="3" y="137"/>
                  </a:lnTo>
                  <a:lnTo>
                    <a:pt x="5" y="137"/>
                  </a:lnTo>
                  <a:lnTo>
                    <a:pt x="6" y="137"/>
                  </a:lnTo>
                  <a:lnTo>
                    <a:pt x="8" y="135"/>
                  </a:lnTo>
                  <a:lnTo>
                    <a:pt x="8" y="135"/>
                  </a:lnTo>
                  <a:lnTo>
                    <a:pt x="10" y="135"/>
                  </a:lnTo>
                  <a:lnTo>
                    <a:pt x="11" y="135"/>
                  </a:lnTo>
                  <a:lnTo>
                    <a:pt x="13" y="133"/>
                  </a:lnTo>
                  <a:lnTo>
                    <a:pt x="13" y="133"/>
                  </a:lnTo>
                  <a:lnTo>
                    <a:pt x="14" y="133"/>
                  </a:lnTo>
                  <a:lnTo>
                    <a:pt x="15" y="133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21" y="127"/>
                  </a:lnTo>
                  <a:lnTo>
                    <a:pt x="21" y="127"/>
                  </a:lnTo>
                  <a:lnTo>
                    <a:pt x="21" y="126"/>
                  </a:lnTo>
                  <a:lnTo>
                    <a:pt x="21" y="126"/>
                  </a:lnTo>
                  <a:lnTo>
                    <a:pt x="23" y="124"/>
                  </a:lnTo>
                  <a:lnTo>
                    <a:pt x="23" y="124"/>
                  </a:lnTo>
                  <a:lnTo>
                    <a:pt x="23" y="123"/>
                  </a:lnTo>
                  <a:lnTo>
                    <a:pt x="23" y="123"/>
                  </a:lnTo>
                  <a:lnTo>
                    <a:pt x="24" y="121"/>
                  </a:lnTo>
                  <a:lnTo>
                    <a:pt x="24" y="121"/>
                  </a:lnTo>
                  <a:lnTo>
                    <a:pt x="24" y="121"/>
                  </a:lnTo>
                  <a:lnTo>
                    <a:pt x="24" y="121"/>
                  </a:lnTo>
                  <a:lnTo>
                    <a:pt x="26" y="121"/>
                  </a:lnTo>
                  <a:lnTo>
                    <a:pt x="26" y="12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9" y="119"/>
                  </a:lnTo>
                  <a:lnTo>
                    <a:pt x="29" y="119"/>
                  </a:lnTo>
                  <a:lnTo>
                    <a:pt x="29" y="119"/>
                  </a:lnTo>
                  <a:lnTo>
                    <a:pt x="29" y="119"/>
                  </a:lnTo>
                  <a:lnTo>
                    <a:pt x="31" y="119"/>
                  </a:lnTo>
                  <a:lnTo>
                    <a:pt x="31" y="119"/>
                  </a:lnTo>
                  <a:lnTo>
                    <a:pt x="32" y="119"/>
                  </a:lnTo>
                  <a:lnTo>
                    <a:pt x="32" y="119"/>
                  </a:lnTo>
                  <a:lnTo>
                    <a:pt x="34" y="118"/>
                  </a:lnTo>
                  <a:lnTo>
                    <a:pt x="34" y="119"/>
                  </a:lnTo>
                  <a:lnTo>
                    <a:pt x="36" y="119"/>
                  </a:lnTo>
                  <a:lnTo>
                    <a:pt x="38" y="119"/>
                  </a:lnTo>
                  <a:lnTo>
                    <a:pt x="40" y="119"/>
                  </a:lnTo>
                  <a:lnTo>
                    <a:pt x="42" y="120"/>
                  </a:lnTo>
                  <a:lnTo>
                    <a:pt x="44" y="120"/>
                  </a:lnTo>
                  <a:lnTo>
                    <a:pt x="46" y="120"/>
                  </a:lnTo>
                  <a:lnTo>
                    <a:pt x="48" y="120"/>
                  </a:lnTo>
                  <a:lnTo>
                    <a:pt x="50" y="122"/>
                  </a:lnTo>
                  <a:lnTo>
                    <a:pt x="52" y="122"/>
                  </a:lnTo>
                  <a:lnTo>
                    <a:pt x="54" y="122"/>
                  </a:lnTo>
                  <a:lnTo>
                    <a:pt x="56" y="122"/>
                  </a:lnTo>
                  <a:lnTo>
                    <a:pt x="58" y="123"/>
                  </a:lnTo>
                  <a:lnTo>
                    <a:pt x="60" y="123"/>
                  </a:lnTo>
                  <a:lnTo>
                    <a:pt x="61" y="123"/>
                  </a:lnTo>
                  <a:lnTo>
                    <a:pt x="63" y="123"/>
                  </a:lnTo>
                  <a:lnTo>
                    <a:pt x="63" y="124"/>
                  </a:lnTo>
                  <a:lnTo>
                    <a:pt x="65" y="124"/>
                  </a:lnTo>
                  <a:lnTo>
                    <a:pt x="66" y="124"/>
                  </a:lnTo>
                  <a:lnTo>
                    <a:pt x="68" y="124"/>
                  </a:lnTo>
                  <a:lnTo>
                    <a:pt x="70" y="124"/>
                  </a:lnTo>
                  <a:lnTo>
                    <a:pt x="72" y="124"/>
                  </a:lnTo>
                  <a:lnTo>
                    <a:pt x="74" y="124"/>
                  </a:lnTo>
                  <a:lnTo>
                    <a:pt x="76" y="124"/>
                  </a:lnTo>
                  <a:lnTo>
                    <a:pt x="78" y="124"/>
                  </a:lnTo>
                  <a:lnTo>
                    <a:pt x="80" y="124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4" y="124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87" y="122"/>
                  </a:lnTo>
                  <a:lnTo>
                    <a:pt x="86" y="122"/>
                  </a:lnTo>
                  <a:lnTo>
                    <a:pt x="86" y="122"/>
                  </a:lnTo>
                  <a:lnTo>
                    <a:pt x="84" y="122"/>
                  </a:lnTo>
                  <a:lnTo>
                    <a:pt x="84" y="122"/>
                  </a:lnTo>
                  <a:lnTo>
                    <a:pt x="82" y="122"/>
                  </a:lnTo>
                  <a:lnTo>
                    <a:pt x="81" y="122"/>
                  </a:lnTo>
                  <a:lnTo>
                    <a:pt x="79" y="122"/>
                  </a:lnTo>
                  <a:lnTo>
                    <a:pt x="79" y="122"/>
                  </a:lnTo>
                  <a:lnTo>
                    <a:pt x="77" y="122"/>
                  </a:lnTo>
                  <a:lnTo>
                    <a:pt x="75" y="122"/>
                  </a:lnTo>
                  <a:lnTo>
                    <a:pt x="73" y="122"/>
                  </a:lnTo>
                  <a:lnTo>
                    <a:pt x="73" y="120"/>
                  </a:lnTo>
                  <a:lnTo>
                    <a:pt x="71" y="120"/>
                  </a:lnTo>
                  <a:lnTo>
                    <a:pt x="71" y="120"/>
                  </a:lnTo>
                  <a:lnTo>
                    <a:pt x="70" y="120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73" y="116"/>
                  </a:lnTo>
                  <a:lnTo>
                    <a:pt x="73" y="116"/>
                  </a:lnTo>
                  <a:lnTo>
                    <a:pt x="73" y="116"/>
                  </a:lnTo>
                  <a:lnTo>
                    <a:pt x="73" y="116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2"/>
                  </a:lnTo>
                  <a:lnTo>
                    <a:pt x="75" y="112"/>
                  </a:lnTo>
                  <a:lnTo>
                    <a:pt x="75" y="112"/>
                  </a:lnTo>
                  <a:lnTo>
                    <a:pt x="75" y="112"/>
                  </a:lnTo>
                  <a:lnTo>
                    <a:pt x="76" y="110"/>
                  </a:lnTo>
                  <a:lnTo>
                    <a:pt x="76" y="110"/>
                  </a:lnTo>
                  <a:lnTo>
                    <a:pt x="76" y="110"/>
                  </a:lnTo>
                  <a:lnTo>
                    <a:pt x="76" y="110"/>
                  </a:lnTo>
                  <a:lnTo>
                    <a:pt x="78" y="109"/>
                  </a:lnTo>
                  <a:lnTo>
                    <a:pt x="78" y="110"/>
                  </a:lnTo>
                  <a:lnTo>
                    <a:pt x="78" y="110"/>
                  </a:lnTo>
                  <a:lnTo>
                    <a:pt x="78" y="110"/>
                  </a:lnTo>
                  <a:lnTo>
                    <a:pt x="80" y="110"/>
                  </a:lnTo>
                  <a:lnTo>
                    <a:pt x="80" y="111"/>
                  </a:lnTo>
                  <a:lnTo>
                    <a:pt x="82" y="111"/>
                  </a:lnTo>
                  <a:lnTo>
                    <a:pt x="82" y="111"/>
                  </a:lnTo>
                  <a:lnTo>
                    <a:pt x="84" y="111"/>
                  </a:lnTo>
                  <a:lnTo>
                    <a:pt x="84" y="113"/>
                  </a:lnTo>
                  <a:lnTo>
                    <a:pt x="85" y="113"/>
                  </a:lnTo>
                  <a:lnTo>
                    <a:pt x="85" y="113"/>
                  </a:lnTo>
                  <a:lnTo>
                    <a:pt x="87" y="113"/>
                  </a:lnTo>
                  <a:lnTo>
                    <a:pt x="87" y="114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90" y="113"/>
                  </a:lnTo>
                  <a:lnTo>
                    <a:pt x="88" y="113"/>
                  </a:lnTo>
                  <a:lnTo>
                    <a:pt x="88" y="113"/>
                  </a:lnTo>
                  <a:lnTo>
                    <a:pt x="88" y="113"/>
                  </a:lnTo>
                  <a:lnTo>
                    <a:pt x="88" y="112"/>
                  </a:lnTo>
                  <a:lnTo>
                    <a:pt x="86" y="112"/>
                  </a:lnTo>
                  <a:lnTo>
                    <a:pt x="86" y="112"/>
                  </a:lnTo>
                  <a:lnTo>
                    <a:pt x="85" y="112"/>
                  </a:lnTo>
                  <a:lnTo>
                    <a:pt x="85" y="11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1" y="110"/>
                  </a:lnTo>
                  <a:lnTo>
                    <a:pt x="81" y="108"/>
                  </a:lnTo>
                  <a:lnTo>
                    <a:pt x="80" y="108"/>
                  </a:lnTo>
                  <a:lnTo>
                    <a:pt x="80" y="107"/>
                  </a:lnTo>
                  <a:lnTo>
                    <a:pt x="80" y="107"/>
                  </a:lnTo>
                  <a:lnTo>
                    <a:pt x="80" y="106"/>
                  </a:lnTo>
                  <a:lnTo>
                    <a:pt x="80" y="106"/>
                  </a:lnTo>
                  <a:lnTo>
                    <a:pt x="80" y="106"/>
                  </a:lnTo>
                  <a:lnTo>
                    <a:pt x="80" y="106"/>
                  </a:lnTo>
                  <a:lnTo>
                    <a:pt x="80" y="105"/>
                  </a:lnTo>
                  <a:lnTo>
                    <a:pt x="80" y="105"/>
                  </a:lnTo>
                  <a:lnTo>
                    <a:pt x="80" y="105"/>
                  </a:lnTo>
                  <a:lnTo>
                    <a:pt x="80" y="105"/>
                  </a:lnTo>
                  <a:lnTo>
                    <a:pt x="80" y="103"/>
                  </a:lnTo>
                  <a:lnTo>
                    <a:pt x="80" y="103"/>
                  </a:lnTo>
                  <a:lnTo>
                    <a:pt x="80" y="103"/>
                  </a:lnTo>
                  <a:lnTo>
                    <a:pt x="80" y="103"/>
                  </a:lnTo>
                  <a:lnTo>
                    <a:pt x="80" y="102"/>
                  </a:lnTo>
                  <a:lnTo>
                    <a:pt x="80" y="102"/>
                  </a:lnTo>
                  <a:lnTo>
                    <a:pt x="80" y="102"/>
                  </a:lnTo>
                  <a:lnTo>
                    <a:pt x="80" y="102"/>
                  </a:lnTo>
                  <a:lnTo>
                    <a:pt x="82" y="100"/>
                  </a:lnTo>
                  <a:lnTo>
                    <a:pt x="82" y="100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85" y="100"/>
                  </a:lnTo>
                  <a:lnTo>
                    <a:pt x="85" y="102"/>
                  </a:lnTo>
                  <a:lnTo>
                    <a:pt x="87" y="102"/>
                  </a:lnTo>
                  <a:lnTo>
                    <a:pt x="88" y="102"/>
                  </a:lnTo>
                  <a:lnTo>
                    <a:pt x="90" y="102"/>
                  </a:lnTo>
                  <a:lnTo>
                    <a:pt x="90" y="103"/>
                  </a:lnTo>
                  <a:lnTo>
                    <a:pt x="91" y="103"/>
                  </a:lnTo>
                  <a:lnTo>
                    <a:pt x="91" y="103"/>
                  </a:lnTo>
                  <a:lnTo>
                    <a:pt x="93" y="103"/>
                  </a:lnTo>
                  <a:lnTo>
                    <a:pt x="93" y="103"/>
                  </a:lnTo>
                  <a:lnTo>
                    <a:pt x="95" y="103"/>
                  </a:lnTo>
                  <a:lnTo>
                    <a:pt x="95" y="103"/>
                  </a:lnTo>
                  <a:lnTo>
                    <a:pt x="97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1"/>
                  </a:lnTo>
                  <a:lnTo>
                    <a:pt x="96" y="101"/>
                  </a:lnTo>
                  <a:lnTo>
                    <a:pt x="96" y="101"/>
                  </a:lnTo>
                  <a:lnTo>
                    <a:pt x="96" y="101"/>
                  </a:lnTo>
                  <a:lnTo>
                    <a:pt x="96" y="99"/>
                  </a:lnTo>
                  <a:lnTo>
                    <a:pt x="94" y="99"/>
                  </a:lnTo>
                  <a:lnTo>
                    <a:pt x="94" y="99"/>
                  </a:lnTo>
                  <a:lnTo>
                    <a:pt x="94" y="99"/>
                  </a:lnTo>
                  <a:lnTo>
                    <a:pt x="94" y="97"/>
                  </a:lnTo>
                  <a:lnTo>
                    <a:pt x="94" y="97"/>
                  </a:lnTo>
                  <a:lnTo>
                    <a:pt x="94" y="96"/>
                  </a:lnTo>
                  <a:lnTo>
                    <a:pt x="94" y="96"/>
                  </a:lnTo>
                  <a:lnTo>
                    <a:pt x="94" y="94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92" y="92"/>
                  </a:lnTo>
                  <a:lnTo>
                    <a:pt x="91" y="92"/>
                  </a:lnTo>
                  <a:lnTo>
                    <a:pt x="91" y="92"/>
                  </a:lnTo>
                  <a:lnTo>
                    <a:pt x="91" y="92"/>
                  </a:lnTo>
                  <a:lnTo>
                    <a:pt x="91" y="90"/>
                  </a:lnTo>
                  <a:lnTo>
                    <a:pt x="89" y="90"/>
                  </a:lnTo>
                  <a:lnTo>
                    <a:pt x="89" y="90"/>
                  </a:lnTo>
                  <a:lnTo>
                    <a:pt x="89" y="90"/>
                  </a:lnTo>
                  <a:lnTo>
                    <a:pt x="89" y="88"/>
                  </a:lnTo>
                  <a:lnTo>
                    <a:pt x="88" y="88"/>
                  </a:lnTo>
                  <a:lnTo>
                    <a:pt x="88" y="87"/>
                  </a:lnTo>
                  <a:lnTo>
                    <a:pt x="88" y="87"/>
                  </a:lnTo>
                  <a:lnTo>
                    <a:pt x="88" y="85"/>
                  </a:lnTo>
                  <a:lnTo>
                    <a:pt x="86" y="85"/>
                  </a:lnTo>
                  <a:lnTo>
                    <a:pt x="86" y="83"/>
                  </a:lnTo>
                  <a:lnTo>
                    <a:pt x="86" y="82"/>
                  </a:lnTo>
                  <a:lnTo>
                    <a:pt x="86" y="80"/>
                  </a:lnTo>
                  <a:lnTo>
                    <a:pt x="85" y="79"/>
                  </a:lnTo>
                  <a:lnTo>
                    <a:pt x="85" y="78"/>
                  </a:lnTo>
                  <a:lnTo>
                    <a:pt x="85" y="76"/>
                  </a:lnTo>
                  <a:lnTo>
                    <a:pt x="85" y="74"/>
                  </a:lnTo>
                  <a:lnTo>
                    <a:pt x="84" y="73"/>
                  </a:lnTo>
                  <a:lnTo>
                    <a:pt x="84" y="71"/>
                  </a:lnTo>
                  <a:lnTo>
                    <a:pt x="84" y="69"/>
                  </a:lnTo>
                  <a:lnTo>
                    <a:pt x="84" y="68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6" y="61"/>
                  </a:lnTo>
                  <a:lnTo>
                    <a:pt x="86" y="61"/>
                  </a:lnTo>
                  <a:lnTo>
                    <a:pt x="86" y="60"/>
                  </a:lnTo>
                  <a:lnTo>
                    <a:pt x="86" y="59"/>
                  </a:lnTo>
                  <a:lnTo>
                    <a:pt x="87" y="57"/>
                  </a:lnTo>
                  <a:lnTo>
                    <a:pt x="87" y="55"/>
                  </a:lnTo>
                  <a:lnTo>
                    <a:pt x="87" y="53"/>
                  </a:lnTo>
                  <a:lnTo>
                    <a:pt x="87" y="51"/>
                  </a:lnTo>
                  <a:lnTo>
                    <a:pt x="89" y="49"/>
                  </a:lnTo>
                  <a:lnTo>
                    <a:pt x="89" y="48"/>
                  </a:lnTo>
                  <a:lnTo>
                    <a:pt x="89" y="46"/>
                  </a:lnTo>
                  <a:lnTo>
                    <a:pt x="89" y="44"/>
                  </a:lnTo>
                  <a:lnTo>
                    <a:pt x="91" y="42"/>
                  </a:lnTo>
                  <a:lnTo>
                    <a:pt x="91" y="42"/>
                  </a:lnTo>
                  <a:lnTo>
                    <a:pt x="92" y="40"/>
                  </a:lnTo>
                  <a:lnTo>
                    <a:pt x="92" y="39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8" y="31"/>
                  </a:lnTo>
                  <a:lnTo>
                    <a:pt x="98" y="31"/>
                  </a:lnTo>
                  <a:lnTo>
                    <a:pt x="100" y="29"/>
                  </a:lnTo>
                  <a:lnTo>
                    <a:pt x="100" y="29"/>
                  </a:lnTo>
                  <a:lnTo>
                    <a:pt x="102" y="27"/>
                  </a:lnTo>
                  <a:lnTo>
                    <a:pt x="102" y="27"/>
                  </a:lnTo>
                  <a:lnTo>
                    <a:pt x="104" y="25"/>
                  </a:lnTo>
                  <a:lnTo>
                    <a:pt x="106" y="23"/>
                  </a:lnTo>
                  <a:lnTo>
                    <a:pt x="108" y="21"/>
                  </a:lnTo>
                  <a:lnTo>
                    <a:pt x="106" y="21"/>
                  </a:lnTo>
                  <a:lnTo>
                    <a:pt x="106" y="21"/>
                  </a:lnTo>
                  <a:lnTo>
                    <a:pt x="106" y="21"/>
                  </a:lnTo>
                  <a:lnTo>
                    <a:pt x="106" y="21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2" y="19"/>
                  </a:lnTo>
                  <a:lnTo>
                    <a:pt x="101" y="21"/>
                  </a:lnTo>
                  <a:lnTo>
                    <a:pt x="101" y="21"/>
                  </a:lnTo>
                  <a:lnTo>
                    <a:pt x="100" y="21"/>
                  </a:lnTo>
                  <a:lnTo>
                    <a:pt x="100" y="21"/>
                  </a:lnTo>
                  <a:lnTo>
                    <a:pt x="98" y="21"/>
                  </a:lnTo>
                  <a:lnTo>
                    <a:pt x="98" y="21"/>
                  </a:lnTo>
                  <a:lnTo>
                    <a:pt x="96" y="21"/>
                  </a:lnTo>
                  <a:lnTo>
                    <a:pt x="96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1" y="21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7" y="21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6" y="18"/>
                  </a:lnTo>
                  <a:lnTo>
                    <a:pt x="86" y="16"/>
                  </a:lnTo>
                  <a:lnTo>
                    <a:pt x="86" y="14"/>
                  </a:lnTo>
                  <a:lnTo>
                    <a:pt x="86" y="12"/>
                  </a:lnTo>
                  <a:lnTo>
                    <a:pt x="87" y="11"/>
                  </a:lnTo>
                  <a:lnTo>
                    <a:pt x="87" y="10"/>
                  </a:lnTo>
                  <a:lnTo>
                    <a:pt x="87" y="8"/>
                  </a:lnTo>
                  <a:lnTo>
                    <a:pt x="87" y="6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88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4" y="0"/>
                  </a:lnTo>
                  <a:lnTo>
                    <a:pt x="116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1"/>
                  </a:lnTo>
                  <a:lnTo>
                    <a:pt x="130" y="1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8" y="1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70" y="1"/>
                  </a:lnTo>
                  <a:lnTo>
                    <a:pt x="180" y="1"/>
                  </a:lnTo>
                  <a:lnTo>
                    <a:pt x="190" y="1"/>
                  </a:lnTo>
                  <a:lnTo>
                    <a:pt x="202" y="1"/>
                  </a:lnTo>
                  <a:lnTo>
                    <a:pt x="214" y="1"/>
                  </a:lnTo>
                  <a:lnTo>
                    <a:pt x="228" y="1"/>
                  </a:lnTo>
                  <a:lnTo>
                    <a:pt x="228" y="1"/>
                  </a:lnTo>
                </a:path>
              </a:pathLst>
            </a:custGeom>
            <a:solidFill>
              <a:srgbClr val="00c2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40160" y="6458040"/>
              <a:ext cx="61920" cy="2844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23" y="0"/>
                  </a:move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8" y="17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51400" y="6396120"/>
              <a:ext cx="146160" cy="8568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63" y="23"/>
                  </a:moveTo>
                  <a:lnTo>
                    <a:pt x="63" y="23"/>
                  </a:lnTo>
                  <a:lnTo>
                    <a:pt x="63" y="22"/>
                  </a:lnTo>
                  <a:lnTo>
                    <a:pt x="63" y="21"/>
                  </a:lnTo>
                  <a:lnTo>
                    <a:pt x="64" y="19"/>
                  </a:lnTo>
                  <a:lnTo>
                    <a:pt x="64" y="17"/>
                  </a:lnTo>
                  <a:lnTo>
                    <a:pt x="64" y="16"/>
                  </a:lnTo>
                  <a:lnTo>
                    <a:pt x="64" y="14"/>
                  </a:lnTo>
                  <a:lnTo>
                    <a:pt x="65" y="12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7"/>
                  </a:lnTo>
                  <a:lnTo>
                    <a:pt x="63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9" y="0"/>
                  </a:lnTo>
                  <a:lnTo>
                    <a:pt x="58" y="1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0" y="19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25"/>
                  </a:lnTo>
                  <a:lnTo>
                    <a:pt x="34" y="25"/>
                  </a:lnTo>
                  <a:lnTo>
                    <a:pt x="32" y="25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25" y="16"/>
                  </a:lnTo>
                  <a:lnTo>
                    <a:pt x="23" y="16"/>
                  </a:lnTo>
                  <a:lnTo>
                    <a:pt x="21" y="14"/>
                  </a:lnTo>
                  <a:lnTo>
                    <a:pt x="20" y="12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29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5" y="31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9" y="32"/>
                  </a:lnTo>
                  <a:lnTo>
                    <a:pt x="39" y="32"/>
                  </a:lnTo>
                  <a:lnTo>
                    <a:pt x="41" y="32"/>
                  </a:lnTo>
                  <a:lnTo>
                    <a:pt x="41" y="34"/>
                  </a:lnTo>
                  <a:lnTo>
                    <a:pt x="41" y="34"/>
                  </a:lnTo>
                  <a:lnTo>
                    <a:pt x="41" y="34"/>
                  </a:lnTo>
                  <a:lnTo>
                    <a:pt x="41" y="34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3" y="35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4" y="37"/>
                  </a:lnTo>
                  <a:lnTo>
                    <a:pt x="44" y="39"/>
                  </a:lnTo>
                  <a:lnTo>
                    <a:pt x="44" y="39"/>
                  </a:lnTo>
                  <a:lnTo>
                    <a:pt x="44" y="39"/>
                  </a:lnTo>
                  <a:lnTo>
                    <a:pt x="44" y="39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1" y="43"/>
                  </a:lnTo>
                  <a:lnTo>
                    <a:pt x="39" y="43"/>
                  </a:lnTo>
                  <a:lnTo>
                    <a:pt x="37" y="43"/>
                  </a:lnTo>
                  <a:lnTo>
                    <a:pt x="35" y="42"/>
                  </a:lnTo>
                  <a:lnTo>
                    <a:pt x="31" y="42"/>
                  </a:lnTo>
                  <a:lnTo>
                    <a:pt x="28" y="40"/>
                  </a:lnTo>
                  <a:lnTo>
                    <a:pt x="24" y="39"/>
                  </a:lnTo>
                  <a:lnTo>
                    <a:pt x="22" y="37"/>
                  </a:lnTo>
                  <a:lnTo>
                    <a:pt x="18" y="37"/>
                  </a:lnTo>
                  <a:lnTo>
                    <a:pt x="15" y="35"/>
                  </a:lnTo>
                  <a:lnTo>
                    <a:pt x="11" y="34"/>
                  </a:lnTo>
                  <a:lnTo>
                    <a:pt x="10" y="32"/>
                  </a:lnTo>
                  <a:lnTo>
                    <a:pt x="6" y="32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3" y="39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5" y="41"/>
                  </a:lnTo>
                  <a:lnTo>
                    <a:pt x="15" y="43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3" y="45"/>
                  </a:lnTo>
                  <a:lnTo>
                    <a:pt x="23" y="46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4" y="46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39" y="46"/>
                  </a:lnTo>
                  <a:lnTo>
                    <a:pt x="41" y="46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5" y="46"/>
                  </a:lnTo>
                  <a:lnTo>
                    <a:pt x="46" y="46"/>
                  </a:lnTo>
                  <a:lnTo>
                    <a:pt x="48" y="46"/>
                  </a:lnTo>
                  <a:lnTo>
                    <a:pt x="47" y="48"/>
                  </a:lnTo>
                  <a:lnTo>
                    <a:pt x="47" y="48"/>
                  </a:lnTo>
                  <a:lnTo>
                    <a:pt x="47" y="48"/>
                  </a:lnTo>
                  <a:lnTo>
                    <a:pt x="47" y="48"/>
                  </a:lnTo>
                  <a:lnTo>
                    <a:pt x="47" y="49"/>
                  </a:lnTo>
                  <a:lnTo>
                    <a:pt x="47" y="49"/>
                  </a:lnTo>
                  <a:lnTo>
                    <a:pt x="47" y="49"/>
                  </a:lnTo>
                  <a:lnTo>
                    <a:pt x="47" y="49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48" y="52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2" y="53"/>
                  </a:lnTo>
                  <a:lnTo>
                    <a:pt x="52" y="53"/>
                  </a:lnTo>
                  <a:lnTo>
                    <a:pt x="52" y="53"/>
                  </a:lnTo>
                  <a:lnTo>
                    <a:pt x="52" y="53"/>
                  </a:lnTo>
                  <a:lnTo>
                    <a:pt x="54" y="51"/>
                  </a:lnTo>
                  <a:lnTo>
                    <a:pt x="54" y="51"/>
                  </a:lnTo>
                  <a:lnTo>
                    <a:pt x="55" y="51"/>
                  </a:lnTo>
                  <a:lnTo>
                    <a:pt x="55" y="51"/>
                  </a:lnTo>
                  <a:lnTo>
                    <a:pt x="55" y="50"/>
                  </a:lnTo>
                  <a:lnTo>
                    <a:pt x="55" y="50"/>
                  </a:lnTo>
                  <a:lnTo>
                    <a:pt x="55" y="49"/>
                  </a:lnTo>
                  <a:lnTo>
                    <a:pt x="55" y="49"/>
                  </a:lnTo>
                  <a:lnTo>
                    <a:pt x="55" y="47"/>
                  </a:lnTo>
                  <a:lnTo>
                    <a:pt x="53" y="47"/>
                  </a:lnTo>
                  <a:lnTo>
                    <a:pt x="53" y="46"/>
                  </a:lnTo>
                  <a:lnTo>
                    <a:pt x="53" y="46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4" y="43"/>
                  </a:lnTo>
                  <a:lnTo>
                    <a:pt x="55" y="43"/>
                  </a:lnTo>
                  <a:lnTo>
                    <a:pt x="57" y="41"/>
                  </a:lnTo>
                  <a:lnTo>
                    <a:pt x="58" y="41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4" y="40"/>
                  </a:lnTo>
                  <a:lnTo>
                    <a:pt x="66" y="40"/>
                  </a:lnTo>
                  <a:lnTo>
                    <a:pt x="69" y="40"/>
                  </a:lnTo>
                  <a:lnTo>
                    <a:pt x="71" y="40"/>
                  </a:lnTo>
                  <a:lnTo>
                    <a:pt x="75" y="39"/>
                  </a:lnTo>
                  <a:lnTo>
                    <a:pt x="77" y="39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4" y="39"/>
                  </a:lnTo>
                  <a:lnTo>
                    <a:pt x="86" y="39"/>
                  </a:lnTo>
                  <a:lnTo>
                    <a:pt x="88" y="39"/>
                  </a:lnTo>
                  <a:lnTo>
                    <a:pt x="89" y="39"/>
                  </a:lnTo>
                  <a:lnTo>
                    <a:pt x="91" y="37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89" y="37"/>
                  </a:lnTo>
                  <a:lnTo>
                    <a:pt x="89" y="36"/>
                  </a:lnTo>
                  <a:lnTo>
                    <a:pt x="88" y="36"/>
                  </a:lnTo>
                  <a:lnTo>
                    <a:pt x="86" y="36"/>
                  </a:lnTo>
                  <a:lnTo>
                    <a:pt x="85" y="36"/>
                  </a:lnTo>
                  <a:lnTo>
                    <a:pt x="85" y="34"/>
                  </a:lnTo>
                  <a:lnTo>
                    <a:pt x="83" y="34"/>
                  </a:lnTo>
                  <a:lnTo>
                    <a:pt x="81" y="34"/>
                  </a:lnTo>
                  <a:lnTo>
                    <a:pt x="79" y="34"/>
                  </a:lnTo>
                  <a:lnTo>
                    <a:pt x="78" y="33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2" y="33"/>
                  </a:lnTo>
                  <a:lnTo>
                    <a:pt x="71" y="31"/>
                  </a:lnTo>
                  <a:lnTo>
                    <a:pt x="69" y="33"/>
                  </a:lnTo>
                  <a:lnTo>
                    <a:pt x="69" y="33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3" y="33"/>
                  </a:lnTo>
                  <a:lnTo>
                    <a:pt x="63" y="33"/>
                  </a:lnTo>
                  <a:lnTo>
                    <a:pt x="61" y="33"/>
                  </a:lnTo>
                  <a:lnTo>
                    <a:pt x="59" y="33"/>
                  </a:lnTo>
                  <a:lnTo>
                    <a:pt x="58" y="33"/>
                  </a:lnTo>
                  <a:lnTo>
                    <a:pt x="58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2"/>
                  </a:lnTo>
                  <a:lnTo>
                    <a:pt x="56" y="32"/>
                  </a:lnTo>
                  <a:lnTo>
                    <a:pt x="57" y="32"/>
                  </a:lnTo>
                  <a:lnTo>
                    <a:pt x="57" y="32"/>
                  </a:lnTo>
                  <a:lnTo>
                    <a:pt x="59" y="30"/>
                  </a:lnTo>
                  <a:lnTo>
                    <a:pt x="61" y="30"/>
                  </a:lnTo>
                  <a:lnTo>
                    <a:pt x="63" y="28"/>
                  </a:lnTo>
                  <a:lnTo>
                    <a:pt x="65" y="28"/>
                  </a:lnTo>
                  <a:lnTo>
                    <a:pt x="68" y="26"/>
                  </a:lnTo>
                  <a:lnTo>
                    <a:pt x="70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8" y="23"/>
                  </a:lnTo>
                  <a:lnTo>
                    <a:pt x="80" y="23"/>
                  </a:lnTo>
                  <a:lnTo>
                    <a:pt x="82" y="21"/>
                  </a:lnTo>
                  <a:lnTo>
                    <a:pt x="83" y="19"/>
                  </a:lnTo>
                  <a:lnTo>
                    <a:pt x="85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4" y="16"/>
                  </a:lnTo>
                  <a:lnTo>
                    <a:pt x="83" y="16"/>
                  </a:lnTo>
                  <a:lnTo>
                    <a:pt x="83" y="16"/>
                  </a:lnTo>
                  <a:lnTo>
                    <a:pt x="83" y="16"/>
                  </a:lnTo>
                  <a:lnTo>
                    <a:pt x="83" y="14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79" y="14"/>
                  </a:lnTo>
                  <a:lnTo>
                    <a:pt x="79" y="13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8" y="11"/>
                  </a:lnTo>
                  <a:lnTo>
                    <a:pt x="76" y="13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8" y="15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65" y="17"/>
                  </a:lnTo>
                  <a:lnTo>
                    <a:pt x="63" y="17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3" y="23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91240" y="6315120"/>
              <a:ext cx="260280" cy="2095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00720" y="6494400"/>
              <a:ext cx="68040" cy="61920"/>
            </a:xfrm>
            <a:prstGeom prst="ellipse">
              <a:avLst/>
            </a:prstGeom>
            <a:solidFill>
              <a:srgbClr val="00c2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3320" y="6507000"/>
              <a:ext cx="42840" cy="3996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3" y="3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4" y="23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8520" y="6335640"/>
              <a:ext cx="225360" cy="193680"/>
            </a:xfrm>
            <a:custGeom>
              <a:avLst/>
              <a:gdLst/>
              <a:ahLst/>
              <a:rect l="l" t="t" r="r" b="b"/>
              <a:pathLst>
                <a:path w="142" h="122">
                  <a:moveTo>
                    <a:pt x="141" y="89"/>
                  </a:moveTo>
                  <a:lnTo>
                    <a:pt x="139" y="89"/>
                  </a:lnTo>
                  <a:lnTo>
                    <a:pt x="139" y="89"/>
                  </a:lnTo>
                  <a:lnTo>
                    <a:pt x="138" y="89"/>
                  </a:lnTo>
                  <a:lnTo>
                    <a:pt x="138" y="88"/>
                  </a:lnTo>
                  <a:lnTo>
                    <a:pt x="136" y="88"/>
                  </a:lnTo>
                  <a:lnTo>
                    <a:pt x="136" y="88"/>
                  </a:lnTo>
                  <a:lnTo>
                    <a:pt x="134" y="88"/>
                  </a:lnTo>
                  <a:lnTo>
                    <a:pt x="134" y="86"/>
                  </a:lnTo>
                  <a:lnTo>
                    <a:pt x="132" y="86"/>
                  </a:lnTo>
                  <a:lnTo>
                    <a:pt x="131" y="86"/>
                  </a:lnTo>
                  <a:lnTo>
                    <a:pt x="129" y="86"/>
                  </a:lnTo>
                  <a:lnTo>
                    <a:pt x="129" y="85"/>
                  </a:lnTo>
                  <a:lnTo>
                    <a:pt x="128" y="85"/>
                  </a:lnTo>
                  <a:lnTo>
                    <a:pt x="128" y="85"/>
                  </a:lnTo>
                  <a:lnTo>
                    <a:pt x="127" y="85"/>
                  </a:lnTo>
                  <a:lnTo>
                    <a:pt x="127" y="84"/>
                  </a:lnTo>
                  <a:lnTo>
                    <a:pt x="125" y="84"/>
                  </a:lnTo>
                  <a:lnTo>
                    <a:pt x="123" y="84"/>
                  </a:lnTo>
                  <a:lnTo>
                    <a:pt x="121" y="84"/>
                  </a:lnTo>
                  <a:lnTo>
                    <a:pt x="120" y="84"/>
                  </a:lnTo>
                  <a:lnTo>
                    <a:pt x="118" y="84"/>
                  </a:lnTo>
                  <a:lnTo>
                    <a:pt x="116" y="84"/>
                  </a:lnTo>
                  <a:lnTo>
                    <a:pt x="115" y="84"/>
                  </a:lnTo>
                  <a:lnTo>
                    <a:pt x="113" y="82"/>
                  </a:lnTo>
                  <a:lnTo>
                    <a:pt x="111" y="82"/>
                  </a:lnTo>
                  <a:lnTo>
                    <a:pt x="109" y="82"/>
                  </a:lnTo>
                  <a:lnTo>
                    <a:pt x="107" y="82"/>
                  </a:lnTo>
                  <a:lnTo>
                    <a:pt x="105" y="82"/>
                  </a:lnTo>
                  <a:lnTo>
                    <a:pt x="103" y="82"/>
                  </a:lnTo>
                  <a:lnTo>
                    <a:pt x="102" y="82"/>
                  </a:lnTo>
                  <a:lnTo>
                    <a:pt x="101" y="82"/>
                  </a:lnTo>
                  <a:lnTo>
                    <a:pt x="101" y="80"/>
                  </a:lnTo>
                  <a:lnTo>
                    <a:pt x="99" y="80"/>
                  </a:lnTo>
                  <a:lnTo>
                    <a:pt x="99" y="80"/>
                  </a:lnTo>
                  <a:lnTo>
                    <a:pt x="99" y="80"/>
                  </a:lnTo>
                  <a:lnTo>
                    <a:pt x="99" y="79"/>
                  </a:lnTo>
                  <a:lnTo>
                    <a:pt x="97" y="79"/>
                  </a:lnTo>
                  <a:lnTo>
                    <a:pt x="97" y="79"/>
                  </a:lnTo>
                  <a:lnTo>
                    <a:pt x="97" y="79"/>
                  </a:lnTo>
                  <a:lnTo>
                    <a:pt x="97" y="77"/>
                  </a:lnTo>
                  <a:lnTo>
                    <a:pt x="95" y="77"/>
                  </a:lnTo>
                  <a:lnTo>
                    <a:pt x="95" y="77"/>
                  </a:lnTo>
                  <a:lnTo>
                    <a:pt x="95" y="77"/>
                  </a:lnTo>
                  <a:lnTo>
                    <a:pt x="95" y="75"/>
                  </a:lnTo>
                  <a:lnTo>
                    <a:pt x="95" y="75"/>
                  </a:lnTo>
                  <a:lnTo>
                    <a:pt x="95" y="74"/>
                  </a:lnTo>
                  <a:lnTo>
                    <a:pt x="95" y="74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7" y="71"/>
                  </a:lnTo>
                  <a:lnTo>
                    <a:pt x="97" y="71"/>
                  </a:lnTo>
                  <a:lnTo>
                    <a:pt x="97" y="71"/>
                  </a:lnTo>
                  <a:lnTo>
                    <a:pt x="97" y="71"/>
                  </a:lnTo>
                  <a:lnTo>
                    <a:pt x="98" y="69"/>
                  </a:lnTo>
                  <a:lnTo>
                    <a:pt x="98" y="69"/>
                  </a:lnTo>
                  <a:lnTo>
                    <a:pt x="98" y="69"/>
                  </a:lnTo>
                  <a:lnTo>
                    <a:pt x="98" y="69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1" y="65"/>
                  </a:lnTo>
                  <a:lnTo>
                    <a:pt x="101" y="65"/>
                  </a:lnTo>
                  <a:lnTo>
                    <a:pt x="101" y="65"/>
                  </a:lnTo>
                  <a:lnTo>
                    <a:pt x="101" y="65"/>
                  </a:lnTo>
                  <a:lnTo>
                    <a:pt x="103" y="64"/>
                  </a:lnTo>
                  <a:lnTo>
                    <a:pt x="103" y="64"/>
                  </a:lnTo>
                  <a:lnTo>
                    <a:pt x="105" y="63"/>
                  </a:lnTo>
                  <a:lnTo>
                    <a:pt x="105" y="63"/>
                  </a:lnTo>
                  <a:lnTo>
                    <a:pt x="107" y="61"/>
                  </a:lnTo>
                  <a:lnTo>
                    <a:pt x="107" y="61"/>
                  </a:lnTo>
                  <a:lnTo>
                    <a:pt x="107" y="59"/>
                  </a:lnTo>
                  <a:lnTo>
                    <a:pt x="107" y="59"/>
                  </a:lnTo>
                  <a:lnTo>
                    <a:pt x="109" y="57"/>
                  </a:lnTo>
                  <a:lnTo>
                    <a:pt x="109" y="57"/>
                  </a:lnTo>
                  <a:lnTo>
                    <a:pt x="109" y="55"/>
                  </a:lnTo>
                  <a:lnTo>
                    <a:pt x="109" y="55"/>
                  </a:lnTo>
                  <a:lnTo>
                    <a:pt x="109" y="53"/>
                  </a:lnTo>
                  <a:lnTo>
                    <a:pt x="109" y="53"/>
                  </a:lnTo>
                  <a:lnTo>
                    <a:pt x="109" y="52"/>
                  </a:lnTo>
                  <a:lnTo>
                    <a:pt x="109" y="52"/>
                  </a:lnTo>
                  <a:lnTo>
                    <a:pt x="111" y="50"/>
                  </a:lnTo>
                  <a:lnTo>
                    <a:pt x="111" y="50"/>
                  </a:lnTo>
                  <a:lnTo>
                    <a:pt x="111" y="50"/>
                  </a:lnTo>
                  <a:lnTo>
                    <a:pt x="111" y="50"/>
                  </a:lnTo>
                  <a:lnTo>
                    <a:pt x="113" y="50"/>
                  </a:lnTo>
                  <a:lnTo>
                    <a:pt x="113" y="50"/>
                  </a:lnTo>
                  <a:lnTo>
                    <a:pt x="113" y="50"/>
                  </a:lnTo>
                  <a:lnTo>
                    <a:pt x="113" y="50"/>
                  </a:lnTo>
                  <a:lnTo>
                    <a:pt x="115" y="48"/>
                  </a:lnTo>
                  <a:lnTo>
                    <a:pt x="115" y="48"/>
                  </a:lnTo>
                  <a:lnTo>
                    <a:pt x="115" y="48"/>
                  </a:lnTo>
                  <a:lnTo>
                    <a:pt x="115" y="48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17" y="48"/>
                  </a:lnTo>
                  <a:lnTo>
                    <a:pt x="117" y="48"/>
                  </a:lnTo>
                  <a:lnTo>
                    <a:pt x="119" y="47"/>
                  </a:lnTo>
                  <a:lnTo>
                    <a:pt x="119" y="47"/>
                  </a:lnTo>
                  <a:lnTo>
                    <a:pt x="119" y="47"/>
                  </a:lnTo>
                  <a:lnTo>
                    <a:pt x="119" y="47"/>
                  </a:lnTo>
                  <a:lnTo>
                    <a:pt x="120" y="47"/>
                  </a:lnTo>
                  <a:lnTo>
                    <a:pt x="120" y="47"/>
                  </a:lnTo>
                  <a:lnTo>
                    <a:pt x="120" y="47"/>
                  </a:lnTo>
                  <a:lnTo>
                    <a:pt x="120" y="47"/>
                  </a:lnTo>
                  <a:lnTo>
                    <a:pt x="122" y="45"/>
                  </a:lnTo>
                  <a:lnTo>
                    <a:pt x="122" y="45"/>
                  </a:lnTo>
                  <a:lnTo>
                    <a:pt x="122" y="45"/>
                  </a:lnTo>
                  <a:lnTo>
                    <a:pt x="122" y="45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5" y="44"/>
                  </a:lnTo>
                  <a:lnTo>
                    <a:pt x="125" y="44"/>
                  </a:lnTo>
                  <a:lnTo>
                    <a:pt x="126" y="42"/>
                  </a:lnTo>
                  <a:lnTo>
                    <a:pt x="125" y="42"/>
                  </a:lnTo>
                  <a:lnTo>
                    <a:pt x="125" y="42"/>
                  </a:lnTo>
                  <a:lnTo>
                    <a:pt x="125" y="42"/>
                  </a:lnTo>
                  <a:lnTo>
                    <a:pt x="125" y="42"/>
                  </a:lnTo>
                  <a:lnTo>
                    <a:pt x="125" y="42"/>
                  </a:lnTo>
                  <a:lnTo>
                    <a:pt x="125" y="42"/>
                  </a:lnTo>
                  <a:lnTo>
                    <a:pt x="125" y="42"/>
                  </a:lnTo>
                  <a:lnTo>
                    <a:pt x="125" y="40"/>
                  </a:lnTo>
                  <a:lnTo>
                    <a:pt x="125" y="40"/>
                  </a:lnTo>
                  <a:lnTo>
                    <a:pt x="125" y="40"/>
                  </a:lnTo>
                  <a:lnTo>
                    <a:pt x="125" y="40"/>
                  </a:lnTo>
                  <a:lnTo>
                    <a:pt x="125" y="39"/>
                  </a:lnTo>
                  <a:lnTo>
                    <a:pt x="125" y="39"/>
                  </a:lnTo>
                  <a:lnTo>
                    <a:pt x="125" y="39"/>
                  </a:lnTo>
                  <a:lnTo>
                    <a:pt x="125" y="39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6" y="35"/>
                  </a:lnTo>
                  <a:lnTo>
                    <a:pt x="126" y="35"/>
                  </a:lnTo>
                  <a:lnTo>
                    <a:pt x="126" y="35"/>
                  </a:lnTo>
                  <a:lnTo>
                    <a:pt x="126" y="35"/>
                  </a:lnTo>
                  <a:lnTo>
                    <a:pt x="126" y="34"/>
                  </a:lnTo>
                  <a:lnTo>
                    <a:pt x="126" y="34"/>
                  </a:lnTo>
                  <a:lnTo>
                    <a:pt x="126" y="34"/>
                  </a:lnTo>
                  <a:lnTo>
                    <a:pt x="126" y="34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27" y="31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0"/>
                  </a:lnTo>
                  <a:lnTo>
                    <a:pt x="123" y="30"/>
                  </a:lnTo>
                  <a:lnTo>
                    <a:pt x="123" y="30"/>
                  </a:lnTo>
                  <a:lnTo>
                    <a:pt x="123" y="30"/>
                  </a:lnTo>
                  <a:lnTo>
                    <a:pt x="123" y="29"/>
                  </a:lnTo>
                  <a:lnTo>
                    <a:pt x="123" y="29"/>
                  </a:lnTo>
                  <a:lnTo>
                    <a:pt x="123" y="29"/>
                  </a:lnTo>
                  <a:lnTo>
                    <a:pt x="123" y="29"/>
                  </a:lnTo>
                  <a:lnTo>
                    <a:pt x="123" y="27"/>
                  </a:lnTo>
                  <a:lnTo>
                    <a:pt x="121" y="27"/>
                  </a:lnTo>
                  <a:lnTo>
                    <a:pt x="121" y="27"/>
                  </a:lnTo>
                  <a:lnTo>
                    <a:pt x="120" y="27"/>
                  </a:lnTo>
                  <a:lnTo>
                    <a:pt x="120" y="25"/>
                  </a:lnTo>
                  <a:lnTo>
                    <a:pt x="118" y="25"/>
                  </a:lnTo>
                  <a:lnTo>
                    <a:pt x="118" y="25"/>
                  </a:lnTo>
                  <a:lnTo>
                    <a:pt x="118" y="25"/>
                  </a:lnTo>
                  <a:lnTo>
                    <a:pt x="118" y="24"/>
                  </a:lnTo>
                  <a:lnTo>
                    <a:pt x="116" y="24"/>
                  </a:lnTo>
                  <a:lnTo>
                    <a:pt x="116" y="24"/>
                  </a:lnTo>
                  <a:lnTo>
                    <a:pt x="116" y="24"/>
                  </a:lnTo>
                  <a:lnTo>
                    <a:pt x="116" y="22"/>
                  </a:lnTo>
                  <a:lnTo>
                    <a:pt x="115" y="22"/>
                  </a:lnTo>
                  <a:lnTo>
                    <a:pt x="115" y="21"/>
                  </a:lnTo>
                  <a:lnTo>
                    <a:pt x="115" y="21"/>
                  </a:lnTo>
                  <a:lnTo>
                    <a:pt x="115" y="19"/>
                  </a:lnTo>
                  <a:lnTo>
                    <a:pt x="113" y="19"/>
                  </a:lnTo>
                  <a:lnTo>
                    <a:pt x="113" y="19"/>
                  </a:lnTo>
                  <a:lnTo>
                    <a:pt x="111" y="19"/>
                  </a:lnTo>
                  <a:lnTo>
                    <a:pt x="111" y="17"/>
                  </a:lnTo>
                  <a:lnTo>
                    <a:pt x="109" y="17"/>
                  </a:lnTo>
                  <a:lnTo>
                    <a:pt x="109" y="16"/>
                  </a:lnTo>
                  <a:lnTo>
                    <a:pt x="109" y="16"/>
                  </a:lnTo>
                  <a:lnTo>
                    <a:pt x="109" y="14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106" y="14"/>
                  </a:lnTo>
                  <a:lnTo>
                    <a:pt x="106" y="13"/>
                  </a:lnTo>
                  <a:lnTo>
                    <a:pt x="104" y="13"/>
                  </a:lnTo>
                  <a:lnTo>
                    <a:pt x="104" y="11"/>
                  </a:lnTo>
                  <a:lnTo>
                    <a:pt x="104" y="11"/>
                  </a:lnTo>
                  <a:lnTo>
                    <a:pt x="104" y="9"/>
                  </a:lnTo>
                  <a:lnTo>
                    <a:pt x="102" y="9"/>
                  </a:lnTo>
                  <a:lnTo>
                    <a:pt x="102" y="9"/>
                  </a:lnTo>
                  <a:lnTo>
                    <a:pt x="101" y="9"/>
                  </a:lnTo>
                  <a:lnTo>
                    <a:pt x="101" y="8"/>
                  </a:lnTo>
                  <a:lnTo>
                    <a:pt x="99" y="8"/>
                  </a:lnTo>
                  <a:lnTo>
                    <a:pt x="99" y="8"/>
                  </a:lnTo>
                  <a:lnTo>
                    <a:pt x="98" y="8"/>
                  </a:lnTo>
                  <a:lnTo>
                    <a:pt x="98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4" y="6"/>
                  </a:lnTo>
                  <a:lnTo>
                    <a:pt x="94" y="5"/>
                  </a:lnTo>
                  <a:lnTo>
                    <a:pt x="92" y="5"/>
                  </a:lnTo>
                  <a:lnTo>
                    <a:pt x="92" y="5"/>
                  </a:lnTo>
                  <a:lnTo>
                    <a:pt x="91" y="5"/>
                  </a:lnTo>
                  <a:lnTo>
                    <a:pt x="91" y="3"/>
                  </a:lnTo>
                  <a:lnTo>
                    <a:pt x="89" y="3"/>
                  </a:lnTo>
                  <a:lnTo>
                    <a:pt x="89" y="3"/>
                  </a:lnTo>
                  <a:lnTo>
                    <a:pt x="88" y="3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3" y="1"/>
                  </a:lnTo>
                  <a:lnTo>
                    <a:pt x="81" y="1"/>
                  </a:lnTo>
                  <a:lnTo>
                    <a:pt x="79" y="1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6" y="1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5" y="0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59" y="4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4" y="6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3" y="37"/>
                  </a:lnTo>
                  <a:lnTo>
                    <a:pt x="13" y="37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3" y="48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9" y="50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29" y="58"/>
                  </a:lnTo>
                  <a:lnTo>
                    <a:pt x="29" y="58"/>
                  </a:lnTo>
                  <a:lnTo>
                    <a:pt x="29" y="58"/>
                  </a:lnTo>
                  <a:lnTo>
                    <a:pt x="29" y="58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1"/>
                  </a:lnTo>
                  <a:lnTo>
                    <a:pt x="27" y="61"/>
                  </a:lnTo>
                  <a:lnTo>
                    <a:pt x="27" y="61"/>
                  </a:lnTo>
                  <a:lnTo>
                    <a:pt x="27" y="61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4"/>
                  </a:lnTo>
                  <a:lnTo>
                    <a:pt x="25" y="64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3" y="68"/>
                  </a:lnTo>
                  <a:lnTo>
                    <a:pt x="23" y="68"/>
                  </a:lnTo>
                  <a:lnTo>
                    <a:pt x="23" y="68"/>
                  </a:lnTo>
                  <a:lnTo>
                    <a:pt x="23" y="68"/>
                  </a:lnTo>
                  <a:lnTo>
                    <a:pt x="23" y="69"/>
                  </a:lnTo>
                  <a:lnTo>
                    <a:pt x="23" y="69"/>
                  </a:lnTo>
                  <a:lnTo>
                    <a:pt x="23" y="69"/>
                  </a:lnTo>
                  <a:lnTo>
                    <a:pt x="23" y="69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5" y="74"/>
                  </a:lnTo>
                  <a:lnTo>
                    <a:pt x="15" y="74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7"/>
                  </a:lnTo>
                  <a:lnTo>
                    <a:pt x="13" y="77"/>
                  </a:lnTo>
                  <a:lnTo>
                    <a:pt x="13" y="77"/>
                  </a:lnTo>
                  <a:lnTo>
                    <a:pt x="13" y="77"/>
                  </a:lnTo>
                  <a:lnTo>
                    <a:pt x="13" y="79"/>
                  </a:lnTo>
                  <a:lnTo>
                    <a:pt x="13" y="79"/>
                  </a:lnTo>
                  <a:lnTo>
                    <a:pt x="13" y="79"/>
                  </a:lnTo>
                  <a:lnTo>
                    <a:pt x="13" y="79"/>
                  </a:lnTo>
                  <a:lnTo>
                    <a:pt x="13" y="79"/>
                  </a:lnTo>
                  <a:lnTo>
                    <a:pt x="13" y="79"/>
                  </a:lnTo>
                  <a:lnTo>
                    <a:pt x="13" y="79"/>
                  </a:lnTo>
                  <a:lnTo>
                    <a:pt x="15" y="79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9" y="81"/>
                  </a:lnTo>
                  <a:lnTo>
                    <a:pt x="19" y="81"/>
                  </a:lnTo>
                  <a:lnTo>
                    <a:pt x="21" y="81"/>
                  </a:lnTo>
                  <a:lnTo>
                    <a:pt x="21" y="82"/>
                  </a:lnTo>
                  <a:lnTo>
                    <a:pt x="23" y="82"/>
                  </a:lnTo>
                  <a:lnTo>
                    <a:pt x="23" y="82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27" y="82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3" y="84"/>
                  </a:lnTo>
                  <a:lnTo>
                    <a:pt x="23" y="84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20" y="85"/>
                  </a:lnTo>
                  <a:lnTo>
                    <a:pt x="20" y="85"/>
                  </a:lnTo>
                  <a:lnTo>
                    <a:pt x="18" y="85"/>
                  </a:lnTo>
                  <a:lnTo>
                    <a:pt x="18" y="85"/>
                  </a:lnTo>
                  <a:lnTo>
                    <a:pt x="16" y="85"/>
                  </a:lnTo>
                  <a:lnTo>
                    <a:pt x="16" y="85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1" y="87"/>
                  </a:lnTo>
                  <a:lnTo>
                    <a:pt x="11" y="87"/>
                  </a:lnTo>
                  <a:lnTo>
                    <a:pt x="10" y="89"/>
                  </a:lnTo>
                  <a:lnTo>
                    <a:pt x="10" y="89"/>
                  </a:lnTo>
                  <a:lnTo>
                    <a:pt x="8" y="89"/>
                  </a:lnTo>
                  <a:lnTo>
                    <a:pt x="8" y="89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3" y="92"/>
                  </a:lnTo>
                  <a:lnTo>
                    <a:pt x="3" y="94"/>
                  </a:lnTo>
                  <a:lnTo>
                    <a:pt x="3" y="94"/>
                  </a:lnTo>
                  <a:lnTo>
                    <a:pt x="3" y="94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7" y="94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6" y="95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8" y="97"/>
                  </a:lnTo>
                  <a:lnTo>
                    <a:pt x="8" y="97"/>
                  </a:lnTo>
                  <a:lnTo>
                    <a:pt x="8" y="97"/>
                  </a:lnTo>
                  <a:lnTo>
                    <a:pt x="8" y="97"/>
                  </a:lnTo>
                  <a:lnTo>
                    <a:pt x="10" y="97"/>
                  </a:lnTo>
                  <a:lnTo>
                    <a:pt x="10" y="99"/>
                  </a:lnTo>
                  <a:lnTo>
                    <a:pt x="10" y="99"/>
                  </a:lnTo>
                  <a:lnTo>
                    <a:pt x="10" y="99"/>
                  </a:lnTo>
                  <a:lnTo>
                    <a:pt x="11" y="99"/>
                  </a:lnTo>
                  <a:lnTo>
                    <a:pt x="11" y="101"/>
                  </a:lnTo>
                  <a:lnTo>
                    <a:pt x="12" y="101"/>
                  </a:lnTo>
                  <a:lnTo>
                    <a:pt x="12" y="101"/>
                  </a:lnTo>
                  <a:lnTo>
                    <a:pt x="14" y="101"/>
                  </a:lnTo>
                  <a:lnTo>
                    <a:pt x="14" y="103"/>
                  </a:lnTo>
                  <a:lnTo>
                    <a:pt x="15" y="103"/>
                  </a:lnTo>
                  <a:lnTo>
                    <a:pt x="15" y="103"/>
                  </a:lnTo>
                  <a:lnTo>
                    <a:pt x="17" y="103"/>
                  </a:lnTo>
                  <a:lnTo>
                    <a:pt x="17" y="104"/>
                  </a:lnTo>
                  <a:lnTo>
                    <a:pt x="19" y="104"/>
                  </a:lnTo>
                  <a:lnTo>
                    <a:pt x="19" y="104"/>
                  </a:lnTo>
                  <a:lnTo>
                    <a:pt x="20" y="104"/>
                  </a:lnTo>
                  <a:lnTo>
                    <a:pt x="20" y="106"/>
                  </a:lnTo>
                  <a:lnTo>
                    <a:pt x="20" y="106"/>
                  </a:lnTo>
                  <a:lnTo>
                    <a:pt x="20" y="106"/>
                  </a:lnTo>
                  <a:lnTo>
                    <a:pt x="22" y="106"/>
                  </a:lnTo>
                  <a:lnTo>
                    <a:pt x="22" y="108"/>
                  </a:lnTo>
                  <a:lnTo>
                    <a:pt x="23" y="108"/>
                  </a:lnTo>
                  <a:lnTo>
                    <a:pt x="23" y="108"/>
                  </a:lnTo>
                  <a:lnTo>
                    <a:pt x="25" y="108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27" y="111"/>
                  </a:lnTo>
                  <a:lnTo>
                    <a:pt x="29" y="111"/>
                  </a:lnTo>
                  <a:lnTo>
                    <a:pt x="29" y="111"/>
                  </a:lnTo>
                  <a:lnTo>
                    <a:pt x="30" y="111"/>
                  </a:lnTo>
                  <a:lnTo>
                    <a:pt x="30" y="113"/>
                  </a:lnTo>
                  <a:lnTo>
                    <a:pt x="32" y="113"/>
                  </a:lnTo>
                  <a:lnTo>
                    <a:pt x="32" y="113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6" y="115"/>
                  </a:lnTo>
                  <a:lnTo>
                    <a:pt x="37" y="115"/>
                  </a:lnTo>
                  <a:lnTo>
                    <a:pt x="38" y="115"/>
                  </a:lnTo>
                  <a:lnTo>
                    <a:pt x="38" y="117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42" y="117"/>
                  </a:lnTo>
                  <a:lnTo>
                    <a:pt x="42" y="117"/>
                  </a:lnTo>
                  <a:lnTo>
                    <a:pt x="44" y="117"/>
                  </a:lnTo>
                  <a:lnTo>
                    <a:pt x="46" y="117"/>
                  </a:lnTo>
                  <a:lnTo>
                    <a:pt x="48" y="117"/>
                  </a:lnTo>
                  <a:lnTo>
                    <a:pt x="48" y="119"/>
                  </a:lnTo>
                  <a:lnTo>
                    <a:pt x="50" y="119"/>
                  </a:lnTo>
                  <a:lnTo>
                    <a:pt x="51" y="119"/>
                  </a:lnTo>
                  <a:lnTo>
                    <a:pt x="53" y="119"/>
                  </a:lnTo>
                  <a:lnTo>
                    <a:pt x="55" y="120"/>
                  </a:lnTo>
                  <a:lnTo>
                    <a:pt x="57" y="120"/>
                  </a:lnTo>
                  <a:lnTo>
                    <a:pt x="58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5" y="121"/>
                  </a:lnTo>
                  <a:lnTo>
                    <a:pt x="67" y="121"/>
                  </a:lnTo>
                  <a:lnTo>
                    <a:pt x="69" y="121"/>
                  </a:lnTo>
                  <a:lnTo>
                    <a:pt x="69" y="121"/>
                  </a:lnTo>
                  <a:lnTo>
                    <a:pt x="71" y="121"/>
                  </a:lnTo>
                  <a:lnTo>
                    <a:pt x="73" y="121"/>
                  </a:lnTo>
                  <a:lnTo>
                    <a:pt x="75" y="121"/>
                  </a:lnTo>
                  <a:lnTo>
                    <a:pt x="75" y="121"/>
                  </a:lnTo>
                  <a:lnTo>
                    <a:pt x="76" y="121"/>
                  </a:lnTo>
                  <a:lnTo>
                    <a:pt x="76" y="121"/>
                  </a:lnTo>
                  <a:lnTo>
                    <a:pt x="78" y="121"/>
                  </a:lnTo>
                  <a:lnTo>
                    <a:pt x="78" y="121"/>
                  </a:lnTo>
                  <a:lnTo>
                    <a:pt x="79" y="121"/>
                  </a:lnTo>
                  <a:lnTo>
                    <a:pt x="81" y="121"/>
                  </a:lnTo>
                  <a:lnTo>
                    <a:pt x="83" y="121"/>
                  </a:lnTo>
                  <a:lnTo>
                    <a:pt x="83" y="121"/>
                  </a:lnTo>
                  <a:lnTo>
                    <a:pt x="85" y="121"/>
                  </a:lnTo>
                  <a:lnTo>
                    <a:pt x="85" y="121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9" y="121"/>
                  </a:lnTo>
                  <a:lnTo>
                    <a:pt x="90" y="121"/>
                  </a:lnTo>
                  <a:lnTo>
                    <a:pt x="92" y="119"/>
                  </a:lnTo>
                  <a:lnTo>
                    <a:pt x="92" y="119"/>
                  </a:lnTo>
                  <a:lnTo>
                    <a:pt x="94" y="119"/>
                  </a:lnTo>
                  <a:lnTo>
                    <a:pt x="95" y="119"/>
                  </a:lnTo>
                  <a:lnTo>
                    <a:pt x="97" y="118"/>
                  </a:lnTo>
                  <a:lnTo>
                    <a:pt x="97" y="118"/>
                  </a:lnTo>
                  <a:lnTo>
                    <a:pt x="98" y="118"/>
                  </a:lnTo>
                  <a:lnTo>
                    <a:pt x="100" y="118"/>
                  </a:lnTo>
                  <a:lnTo>
                    <a:pt x="102" y="116"/>
                  </a:lnTo>
                  <a:lnTo>
                    <a:pt x="102" y="116"/>
                  </a:lnTo>
                  <a:lnTo>
                    <a:pt x="104" y="116"/>
                  </a:lnTo>
                  <a:lnTo>
                    <a:pt x="105" y="116"/>
                  </a:lnTo>
                  <a:lnTo>
                    <a:pt x="107" y="114"/>
                  </a:lnTo>
                  <a:lnTo>
                    <a:pt x="107" y="114"/>
                  </a:lnTo>
                  <a:lnTo>
                    <a:pt x="109" y="114"/>
                  </a:lnTo>
                  <a:lnTo>
                    <a:pt x="110" y="114"/>
                  </a:lnTo>
                  <a:lnTo>
                    <a:pt x="112" y="112"/>
                  </a:lnTo>
                  <a:lnTo>
                    <a:pt x="112" y="112"/>
                  </a:lnTo>
                  <a:lnTo>
                    <a:pt x="112" y="112"/>
                  </a:lnTo>
                  <a:lnTo>
                    <a:pt x="112" y="112"/>
                  </a:lnTo>
                  <a:lnTo>
                    <a:pt x="114" y="111"/>
                  </a:lnTo>
                  <a:lnTo>
                    <a:pt x="114" y="111"/>
                  </a:lnTo>
                  <a:lnTo>
                    <a:pt x="116" y="111"/>
                  </a:lnTo>
                  <a:lnTo>
                    <a:pt x="116" y="111"/>
                  </a:lnTo>
                  <a:lnTo>
                    <a:pt x="118" y="109"/>
                  </a:lnTo>
                  <a:lnTo>
                    <a:pt x="118" y="109"/>
                  </a:lnTo>
                  <a:lnTo>
                    <a:pt x="119" y="109"/>
                  </a:lnTo>
                  <a:lnTo>
                    <a:pt x="119" y="109"/>
                  </a:lnTo>
                  <a:lnTo>
                    <a:pt x="121" y="107"/>
                  </a:lnTo>
                  <a:lnTo>
                    <a:pt x="121" y="107"/>
                  </a:lnTo>
                  <a:lnTo>
                    <a:pt x="123" y="107"/>
                  </a:lnTo>
                  <a:lnTo>
                    <a:pt x="123" y="107"/>
                  </a:lnTo>
                  <a:lnTo>
                    <a:pt x="125" y="105"/>
                  </a:lnTo>
                  <a:lnTo>
                    <a:pt x="125" y="105"/>
                  </a:lnTo>
                  <a:lnTo>
                    <a:pt x="125" y="105"/>
                  </a:lnTo>
                  <a:lnTo>
                    <a:pt x="125" y="105"/>
                  </a:lnTo>
                  <a:lnTo>
                    <a:pt x="127" y="103"/>
                  </a:lnTo>
                  <a:lnTo>
                    <a:pt x="127" y="103"/>
                  </a:lnTo>
                  <a:lnTo>
                    <a:pt x="129" y="101"/>
                  </a:lnTo>
                  <a:lnTo>
                    <a:pt x="129" y="101"/>
                  </a:lnTo>
                  <a:lnTo>
                    <a:pt x="131" y="99"/>
                  </a:lnTo>
                  <a:lnTo>
                    <a:pt x="131" y="99"/>
                  </a:lnTo>
                  <a:lnTo>
                    <a:pt x="133" y="97"/>
                  </a:lnTo>
                  <a:lnTo>
                    <a:pt x="133" y="97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7" y="94"/>
                  </a:lnTo>
                  <a:lnTo>
                    <a:pt x="137" y="94"/>
                  </a:lnTo>
                  <a:lnTo>
                    <a:pt x="139" y="92"/>
                  </a:lnTo>
                  <a:lnTo>
                    <a:pt x="139" y="92"/>
                  </a:lnTo>
                  <a:lnTo>
                    <a:pt x="139" y="92"/>
                  </a:lnTo>
                  <a:lnTo>
                    <a:pt x="139" y="92"/>
                  </a:lnTo>
                  <a:lnTo>
                    <a:pt x="139" y="92"/>
                  </a:lnTo>
                  <a:lnTo>
                    <a:pt x="139" y="92"/>
                  </a:lnTo>
                  <a:lnTo>
                    <a:pt x="139" y="92"/>
                  </a:lnTo>
                  <a:lnTo>
                    <a:pt x="139" y="92"/>
                  </a:lnTo>
                  <a:lnTo>
                    <a:pt x="140" y="91"/>
                  </a:lnTo>
                  <a:lnTo>
                    <a:pt x="140" y="91"/>
                  </a:lnTo>
                  <a:lnTo>
                    <a:pt x="140" y="91"/>
                  </a:lnTo>
                  <a:lnTo>
                    <a:pt x="140" y="91"/>
                  </a:lnTo>
                  <a:lnTo>
                    <a:pt x="140" y="91"/>
                  </a:lnTo>
                  <a:lnTo>
                    <a:pt x="140" y="91"/>
                  </a:lnTo>
                  <a:lnTo>
                    <a:pt x="140" y="91"/>
                  </a:lnTo>
                  <a:lnTo>
                    <a:pt x="140" y="91"/>
                  </a:lnTo>
                  <a:lnTo>
                    <a:pt x="141" y="89"/>
                  </a:lnTo>
                  <a:lnTo>
                    <a:pt x="141" y="89"/>
                  </a:lnTo>
                </a:path>
              </a:pathLst>
            </a:custGeom>
            <a:solidFill>
              <a:srgbClr val="80ff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48120" y="6340320"/>
              <a:ext cx="87480" cy="10008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0" y="44"/>
                  </a:move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2" y="47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3" y="53"/>
                  </a:lnTo>
                  <a:lnTo>
                    <a:pt x="13" y="54"/>
                  </a:lnTo>
                  <a:lnTo>
                    <a:pt x="13" y="54"/>
                  </a:lnTo>
                  <a:lnTo>
                    <a:pt x="13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6" y="54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20" y="58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2" y="61"/>
                  </a:lnTo>
                  <a:lnTo>
                    <a:pt x="22" y="61"/>
                  </a:lnTo>
                  <a:lnTo>
                    <a:pt x="22" y="61"/>
                  </a:lnTo>
                  <a:lnTo>
                    <a:pt x="24" y="61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29" y="61"/>
                  </a:lnTo>
                  <a:lnTo>
                    <a:pt x="29" y="61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30" y="56"/>
                  </a:lnTo>
                  <a:lnTo>
                    <a:pt x="28" y="56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4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7"/>
                  </a:lnTo>
                  <a:lnTo>
                    <a:pt x="25" y="37"/>
                  </a:lnTo>
                  <a:lnTo>
                    <a:pt x="25" y="37"/>
                  </a:lnTo>
                  <a:lnTo>
                    <a:pt x="25" y="37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33800" y="6342120"/>
              <a:ext cx="49320" cy="7776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29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28" y="39"/>
                  </a:lnTo>
                  <a:lnTo>
                    <a:pt x="28" y="39"/>
                  </a:lnTo>
                  <a:lnTo>
                    <a:pt x="28" y="39"/>
                  </a:lnTo>
                  <a:lnTo>
                    <a:pt x="29" y="39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30" y="47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71880" y="6437160"/>
              <a:ext cx="98640" cy="3492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8" y="0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8" y="18"/>
                  </a:lnTo>
                  <a:lnTo>
                    <a:pt x="39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4" y="15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9" y="15"/>
                  </a:lnTo>
                  <a:lnTo>
                    <a:pt x="59" y="16"/>
                  </a:lnTo>
                  <a:lnTo>
                    <a:pt x="59" y="16"/>
                  </a:lnTo>
                  <a:lnTo>
                    <a:pt x="59" y="16"/>
                  </a:lnTo>
                  <a:lnTo>
                    <a:pt x="61" y="16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13280" y="638496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9" y="15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32360" y="6410160"/>
              <a:ext cx="22320" cy="82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08600" y="6389640"/>
              <a:ext cx="2052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1"/>
                  </a:move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33800" y="642312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24360" y="640224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5" y="22"/>
                  </a:moveTo>
                  <a:lnTo>
                    <a:pt x="43" y="22"/>
                  </a:lnTo>
                  <a:lnTo>
                    <a:pt x="43" y="22"/>
                  </a:lnTo>
                  <a:lnTo>
                    <a:pt x="42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8" y="18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5" y="22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52880" y="6384960"/>
              <a:ext cx="23760" cy="46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2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52880" y="6388200"/>
              <a:ext cx="1764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94200" y="6437160"/>
              <a:ext cx="73080" cy="3024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1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37040" y="6429240"/>
              <a:ext cx="2088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3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7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29040" y="6443640"/>
              <a:ext cx="109800" cy="8424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38" y="28"/>
                  </a:moveTo>
                  <a:lnTo>
                    <a:pt x="36" y="28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9" y="38"/>
                  </a:lnTo>
                  <a:lnTo>
                    <a:pt x="9" y="40"/>
                  </a:lnTo>
                  <a:lnTo>
                    <a:pt x="11" y="40"/>
                  </a:lnTo>
                  <a:lnTo>
                    <a:pt x="12" y="41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7" y="43"/>
                  </a:lnTo>
                  <a:lnTo>
                    <a:pt x="19" y="44"/>
                  </a:lnTo>
                  <a:lnTo>
                    <a:pt x="21" y="44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8"/>
                  </a:lnTo>
                  <a:lnTo>
                    <a:pt x="29" y="49"/>
                  </a:lnTo>
                  <a:lnTo>
                    <a:pt x="31" y="49"/>
                  </a:lnTo>
                  <a:lnTo>
                    <a:pt x="33" y="49"/>
                  </a:lnTo>
                  <a:lnTo>
                    <a:pt x="35" y="49"/>
                  </a:lnTo>
                  <a:lnTo>
                    <a:pt x="36" y="51"/>
                  </a:lnTo>
                  <a:lnTo>
                    <a:pt x="38" y="51"/>
                  </a:lnTo>
                  <a:lnTo>
                    <a:pt x="40" y="51"/>
                  </a:lnTo>
                  <a:lnTo>
                    <a:pt x="43" y="51"/>
                  </a:lnTo>
                  <a:lnTo>
                    <a:pt x="45" y="52"/>
                  </a:lnTo>
                  <a:lnTo>
                    <a:pt x="47" y="52"/>
                  </a:lnTo>
                  <a:lnTo>
                    <a:pt x="49" y="52"/>
                  </a:lnTo>
                  <a:lnTo>
                    <a:pt x="53" y="52"/>
                  </a:lnTo>
                  <a:lnTo>
                    <a:pt x="55" y="52"/>
                  </a:lnTo>
                  <a:lnTo>
                    <a:pt x="56" y="52"/>
                  </a:lnTo>
                  <a:lnTo>
                    <a:pt x="58" y="52"/>
                  </a:lnTo>
                  <a:lnTo>
                    <a:pt x="62" y="52"/>
                  </a:lnTo>
                  <a:lnTo>
                    <a:pt x="63" y="52"/>
                  </a:lnTo>
                  <a:lnTo>
                    <a:pt x="65" y="52"/>
                  </a:lnTo>
                  <a:lnTo>
                    <a:pt x="66" y="52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5" y="47"/>
                  </a:lnTo>
                  <a:lnTo>
                    <a:pt x="65" y="45"/>
                  </a:lnTo>
                  <a:lnTo>
                    <a:pt x="62" y="44"/>
                  </a:lnTo>
                  <a:lnTo>
                    <a:pt x="60" y="42"/>
                  </a:lnTo>
                  <a:lnTo>
                    <a:pt x="56" y="40"/>
                  </a:lnTo>
                  <a:lnTo>
                    <a:pt x="55" y="37"/>
                  </a:lnTo>
                  <a:lnTo>
                    <a:pt x="51" y="37"/>
                  </a:lnTo>
                  <a:lnTo>
                    <a:pt x="48" y="35"/>
                  </a:lnTo>
                  <a:lnTo>
                    <a:pt x="45" y="33"/>
                  </a:lnTo>
                  <a:lnTo>
                    <a:pt x="44" y="31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9" y="29"/>
                  </a:lnTo>
                  <a:lnTo>
                    <a:pt x="39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37040" y="6467400"/>
              <a:ext cx="95400" cy="5868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59" y="8"/>
                  </a:moveTo>
                  <a:lnTo>
                    <a:pt x="58" y="8"/>
                  </a:lnTo>
                  <a:lnTo>
                    <a:pt x="57" y="8"/>
                  </a:lnTo>
                  <a:lnTo>
                    <a:pt x="55" y="8"/>
                  </a:lnTo>
                  <a:lnTo>
                    <a:pt x="53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2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0" y="36"/>
                  </a:lnTo>
                  <a:lnTo>
                    <a:pt x="12" y="35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18" y="33"/>
                  </a:lnTo>
                  <a:lnTo>
                    <a:pt x="22" y="31"/>
                  </a:lnTo>
                  <a:lnTo>
                    <a:pt x="26" y="30"/>
                  </a:lnTo>
                  <a:lnTo>
                    <a:pt x="29" y="28"/>
                  </a:lnTo>
                  <a:lnTo>
                    <a:pt x="32" y="26"/>
                  </a:lnTo>
                  <a:lnTo>
                    <a:pt x="36" y="24"/>
                  </a:lnTo>
                  <a:lnTo>
                    <a:pt x="40" y="22"/>
                  </a:lnTo>
                  <a:lnTo>
                    <a:pt x="44" y="20"/>
                  </a:lnTo>
                  <a:lnTo>
                    <a:pt x="45" y="19"/>
                  </a:lnTo>
                  <a:lnTo>
                    <a:pt x="49" y="18"/>
                  </a:lnTo>
                  <a:lnTo>
                    <a:pt x="51" y="16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7" y="11"/>
                  </a:lnTo>
                  <a:lnTo>
                    <a:pt x="58" y="9"/>
                  </a:lnTo>
                  <a:lnTo>
                    <a:pt x="59" y="8"/>
                  </a:lnTo>
                  <a:lnTo>
                    <a:pt x="59" y="8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17960" y="6383160"/>
              <a:ext cx="1764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0" y="1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334040" y="6570000"/>
              <a:ext cx="1196640" cy="6120"/>
            </a:xfrm>
            <a:prstGeom prst="roundRect">
              <a:avLst>
                <a:gd name="adj" fmla="val 0"/>
              </a:avLst>
            </a:prstGeom>
            <a:solidFill>
              <a:srgbClr val="41ff32"/>
            </a:solidFill>
            <a:ln w="9360">
              <a:solidFill>
                <a:srgbClr val="41ff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343400" y="6578640"/>
              <a:ext cx="1176480" cy="648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334040" y="6588000"/>
              <a:ext cx="1196640" cy="7920"/>
            </a:xfrm>
            <a:prstGeom prst="roundRect">
              <a:avLst>
                <a:gd name="adj" fmla="val 0"/>
              </a:avLst>
            </a:prstGeom>
            <a:solidFill>
              <a:srgbClr val="41ff32"/>
            </a:solidFill>
            <a:ln w="9360">
              <a:solidFill>
                <a:srgbClr val="41ff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343400" y="6597000"/>
              <a:ext cx="1176480" cy="1116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335480" y="6606360"/>
              <a:ext cx="1197000" cy="11160"/>
            </a:xfrm>
            <a:prstGeom prst="roundRect">
              <a:avLst>
                <a:gd name="adj" fmla="val 0"/>
              </a:avLst>
            </a:prstGeom>
            <a:solidFill>
              <a:srgbClr val="41ff32"/>
            </a:solidFill>
            <a:ln w="9360">
              <a:solidFill>
                <a:srgbClr val="41ff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43400" y="6616800"/>
              <a:ext cx="1176480" cy="936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330800" y="6625440"/>
              <a:ext cx="1197000" cy="12600"/>
            </a:xfrm>
            <a:prstGeom prst="roundRect">
              <a:avLst>
                <a:gd name="adj" fmla="val 0"/>
              </a:avLst>
            </a:prstGeom>
            <a:solidFill>
              <a:srgbClr val="41ff32"/>
            </a:solidFill>
            <a:ln w="9360">
              <a:solidFill>
                <a:srgbClr val="41ff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340160" y="6638760"/>
              <a:ext cx="1176480" cy="648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330800" y="6646320"/>
              <a:ext cx="1197000" cy="6120"/>
            </a:xfrm>
            <a:prstGeom prst="roundRect">
              <a:avLst>
                <a:gd name="adj" fmla="val 0"/>
              </a:avLst>
            </a:prstGeom>
            <a:solidFill>
              <a:srgbClr val="41ff32"/>
            </a:solidFill>
            <a:ln w="9360">
              <a:solidFill>
                <a:srgbClr val="41ff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340160" y="6654240"/>
              <a:ext cx="1176480" cy="1260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329000" y="6667560"/>
              <a:ext cx="1197000" cy="9360"/>
            </a:xfrm>
            <a:prstGeom prst="roundRect">
              <a:avLst>
                <a:gd name="adj" fmla="val 0"/>
              </a:avLst>
            </a:prstGeom>
            <a:solidFill>
              <a:srgbClr val="41ff32"/>
            </a:solidFill>
            <a:ln w="9360">
              <a:solidFill>
                <a:srgbClr val="41ff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4340160" y="6676920"/>
              <a:ext cx="1176480" cy="792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85560" y="501480"/>
            <a:ext cx="9453240" cy="12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ecuación de Slutsky :efecto del propio preci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" y="4495680"/>
            <a:ext cx="94964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900" spc="-1" strike="noStrike">
                <a:solidFill>
                  <a:srgbClr val="000099"/>
                </a:solidFill>
                <a:latin typeface="Brush738 BT"/>
              </a:rPr>
              <a:t>ponga  </a:t>
            </a:r>
            <a:r>
              <a:rPr b="1" i="1" lang="en-GB" sz="4900" spc="-1" strike="noStrike">
                <a:solidFill>
                  <a:srgbClr val="ff0000"/>
                </a:solidFill>
                <a:latin typeface="Times New Roman"/>
              </a:rPr>
              <a:t>j = i</a:t>
            </a:r>
            <a:r>
              <a:rPr b="1" i="1" lang="en-GB" sz="4900" spc="-1" strike="noStrike">
                <a:solidFill>
                  <a:srgbClr val="000099"/>
                </a:solidFill>
                <a:latin typeface="Brush738 BT"/>
              </a:rPr>
              <a:t>  para obtener el efecto del precio del helado sobre la demanda de helado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6320" y="2057040"/>
            <a:ext cx="9747000" cy="182880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50760">
            <a:solidFill>
              <a:srgbClr val="ff66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38680" y="2362320"/>
            <a:ext cx="40388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52680" y="2362320"/>
            <a:ext cx="22100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82440" y="2057040"/>
            <a:ext cx="9747360" cy="1828800"/>
          </a:xfrm>
          <a:prstGeom prst="roundRect">
            <a:avLst>
              <a:gd name="adj" fmla="val 6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05520" y="3745800"/>
            <a:ext cx="3809880" cy="1464480"/>
          </a:xfrm>
          <a:prstGeom prst="wedgeRectCallout">
            <a:avLst>
              <a:gd name="adj1" fmla="val -72078"/>
              <a:gd name="adj2" fmla="val -91259"/>
            </a:avLst>
          </a:prstGeom>
          <a:solidFill>
            <a:srgbClr val="ccffcc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Debe ser negativa   ( espero que se acuerde porqué..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95080" y="3898080"/>
            <a:ext cx="4618800" cy="1008000"/>
          </a:xfrm>
          <a:prstGeom prst="wedgeRectCallout">
            <a:avLst>
              <a:gd name="adj1" fmla="val 58490"/>
              <a:gd name="adj2" fmla="val -97694"/>
            </a:avLst>
          </a:prstGeom>
          <a:solidFill>
            <a:srgbClr val="ccffcc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Esto es negativo so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si el helado es inferior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76320" y="4038480"/>
          <a:ext cx="4876560" cy="3764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038480"/>
                    <a:ext cx="4876560" cy="3764160"/>
                  </a:xfrm>
                  <a:prstGeom prst="rect">
                    <a:avLst/>
                  </a:prstGeom>
                  <a:ln w="5724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0" y="3886200"/>
            <a:ext cx="876456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900" spc="-1" strike="noStrike">
                <a:solidFill>
                  <a:srgbClr val="ff0000"/>
                </a:solidFill>
                <a:latin typeface="Brush738 BT"/>
              </a:rPr>
              <a:t>Si la demanda del bien i no se incrementa cuando aumenta el ingreso entonces debe reducirse cuando su precio aumenta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457200"/>
            <a:ext cx="9453600" cy="12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teorema fundament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858000" y="2286000"/>
            <a:ext cx="4641840" cy="3645000"/>
            <a:chOff x="6858000" y="2286000"/>
            <a:chExt cx="4641840" cy="3645000"/>
          </a:xfrm>
        </p:grpSpPr>
        <p:sp>
          <p:nvSpPr>
            <p:cNvPr id="424" name=""/>
            <p:cNvSpPr/>
            <p:nvPr/>
          </p:nvSpPr>
          <p:spPr>
            <a:xfrm>
              <a:off x="6858000" y="2286000"/>
              <a:ext cx="4641840" cy="3645000"/>
            </a:xfrm>
            <a:custGeom>
              <a:avLst/>
              <a:gdLst/>
              <a:ahLst/>
              <a:rect l="l" t="t" r="r" b="b"/>
              <a:pathLst>
                <a:path w="2924" h="2296">
                  <a:moveTo>
                    <a:pt x="2923" y="1126"/>
                  </a:moveTo>
                  <a:lnTo>
                    <a:pt x="2923" y="1126"/>
                  </a:lnTo>
                  <a:lnTo>
                    <a:pt x="1201" y="0"/>
                  </a:lnTo>
                  <a:lnTo>
                    <a:pt x="1403" y="563"/>
                  </a:lnTo>
                  <a:lnTo>
                    <a:pt x="0" y="563"/>
                  </a:lnTo>
                  <a:lnTo>
                    <a:pt x="0" y="1769"/>
                  </a:lnTo>
                  <a:lnTo>
                    <a:pt x="1403" y="1769"/>
                  </a:lnTo>
                  <a:lnTo>
                    <a:pt x="1201" y="2295"/>
                  </a:lnTo>
                  <a:lnTo>
                    <a:pt x="2923" y="1126"/>
                  </a:lnTo>
                  <a:lnTo>
                    <a:pt x="2923" y="1126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15840">
              <a:solidFill>
                <a:srgbClr val="00008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50040" y="3440160"/>
              <a:ext cx="336708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3200" spc="-1" strike="noStrike">
                  <a:solidFill>
                    <a:srgbClr val="000000"/>
                  </a:solidFill>
                  <a:latin typeface="Arial"/>
                </a:rPr>
                <a:t>echemos un vistazo a la curva de demanda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819520" y="2666880"/>
            <a:ext cx="5562360" cy="4114800"/>
          </a:xfrm>
          <a:custGeom>
            <a:avLst/>
            <a:gdLst/>
            <a:ahLst/>
            <a:rect l="l" t="t" r="r" b="b"/>
            <a:pathLst>
              <a:path w="4011" h="3084">
                <a:moveTo>
                  <a:pt x="0" y="0"/>
                </a:moveTo>
                <a:lnTo>
                  <a:pt x="89" y="138"/>
                </a:lnTo>
                <a:lnTo>
                  <a:pt x="163" y="249"/>
                </a:lnTo>
                <a:lnTo>
                  <a:pt x="221" y="338"/>
                </a:lnTo>
                <a:lnTo>
                  <a:pt x="267" y="408"/>
                </a:lnTo>
                <a:lnTo>
                  <a:pt x="301" y="462"/>
                </a:lnTo>
                <a:lnTo>
                  <a:pt x="328" y="501"/>
                </a:lnTo>
                <a:lnTo>
                  <a:pt x="348" y="530"/>
                </a:lnTo>
                <a:lnTo>
                  <a:pt x="362" y="552"/>
                </a:lnTo>
                <a:lnTo>
                  <a:pt x="372" y="569"/>
                </a:lnTo>
                <a:lnTo>
                  <a:pt x="382" y="584"/>
                </a:lnTo>
                <a:lnTo>
                  <a:pt x="393" y="601"/>
                </a:lnTo>
                <a:lnTo>
                  <a:pt x="407" y="620"/>
                </a:lnTo>
                <a:lnTo>
                  <a:pt x="425" y="648"/>
                </a:lnTo>
                <a:lnTo>
                  <a:pt x="450" y="685"/>
                </a:lnTo>
                <a:lnTo>
                  <a:pt x="484" y="736"/>
                </a:lnTo>
                <a:lnTo>
                  <a:pt x="528" y="801"/>
                </a:lnTo>
                <a:lnTo>
                  <a:pt x="578" y="879"/>
                </a:lnTo>
                <a:lnTo>
                  <a:pt x="633" y="959"/>
                </a:lnTo>
                <a:lnTo>
                  <a:pt x="691" y="1040"/>
                </a:lnTo>
                <a:lnTo>
                  <a:pt x="751" y="1123"/>
                </a:lnTo>
                <a:lnTo>
                  <a:pt x="812" y="1206"/>
                </a:lnTo>
                <a:lnTo>
                  <a:pt x="875" y="1289"/>
                </a:lnTo>
                <a:lnTo>
                  <a:pt x="938" y="1370"/>
                </a:lnTo>
                <a:lnTo>
                  <a:pt x="1002" y="1449"/>
                </a:lnTo>
                <a:lnTo>
                  <a:pt x="1063" y="1526"/>
                </a:lnTo>
                <a:lnTo>
                  <a:pt x="1124" y="1599"/>
                </a:lnTo>
                <a:lnTo>
                  <a:pt x="1182" y="1668"/>
                </a:lnTo>
                <a:lnTo>
                  <a:pt x="1237" y="1730"/>
                </a:lnTo>
                <a:lnTo>
                  <a:pt x="1288" y="1787"/>
                </a:lnTo>
                <a:lnTo>
                  <a:pt x="1336" y="1837"/>
                </a:lnTo>
                <a:lnTo>
                  <a:pt x="1379" y="1879"/>
                </a:lnTo>
                <a:lnTo>
                  <a:pt x="1417" y="1912"/>
                </a:lnTo>
                <a:lnTo>
                  <a:pt x="1452" y="1943"/>
                </a:lnTo>
                <a:lnTo>
                  <a:pt x="1493" y="1974"/>
                </a:lnTo>
                <a:lnTo>
                  <a:pt x="1537" y="2008"/>
                </a:lnTo>
                <a:lnTo>
                  <a:pt x="1586" y="2041"/>
                </a:lnTo>
                <a:lnTo>
                  <a:pt x="1635" y="2078"/>
                </a:lnTo>
                <a:lnTo>
                  <a:pt x="1686" y="2113"/>
                </a:lnTo>
                <a:lnTo>
                  <a:pt x="1740" y="2149"/>
                </a:lnTo>
                <a:lnTo>
                  <a:pt x="1794" y="2184"/>
                </a:lnTo>
                <a:lnTo>
                  <a:pt x="1848" y="2219"/>
                </a:lnTo>
                <a:lnTo>
                  <a:pt x="1902" y="2254"/>
                </a:lnTo>
                <a:lnTo>
                  <a:pt x="1955" y="2286"/>
                </a:lnTo>
                <a:lnTo>
                  <a:pt x="2007" y="2316"/>
                </a:lnTo>
                <a:lnTo>
                  <a:pt x="2056" y="2346"/>
                </a:lnTo>
                <a:lnTo>
                  <a:pt x="2104" y="2371"/>
                </a:lnTo>
                <a:lnTo>
                  <a:pt x="2148" y="2395"/>
                </a:lnTo>
                <a:lnTo>
                  <a:pt x="2190" y="2414"/>
                </a:lnTo>
                <a:lnTo>
                  <a:pt x="2230" y="2434"/>
                </a:lnTo>
                <a:lnTo>
                  <a:pt x="2275" y="2454"/>
                </a:lnTo>
                <a:lnTo>
                  <a:pt x="2323" y="2477"/>
                </a:lnTo>
                <a:lnTo>
                  <a:pt x="2376" y="2499"/>
                </a:lnTo>
                <a:lnTo>
                  <a:pt x="2429" y="2524"/>
                </a:lnTo>
                <a:lnTo>
                  <a:pt x="2486" y="2547"/>
                </a:lnTo>
                <a:lnTo>
                  <a:pt x="2543" y="2572"/>
                </a:lnTo>
                <a:lnTo>
                  <a:pt x="2601" y="2596"/>
                </a:lnTo>
                <a:lnTo>
                  <a:pt x="2659" y="2621"/>
                </a:lnTo>
                <a:lnTo>
                  <a:pt x="2717" y="2645"/>
                </a:lnTo>
                <a:lnTo>
                  <a:pt x="2773" y="2668"/>
                </a:lnTo>
                <a:lnTo>
                  <a:pt x="2828" y="2690"/>
                </a:lnTo>
                <a:lnTo>
                  <a:pt x="2880" y="2711"/>
                </a:lnTo>
                <a:lnTo>
                  <a:pt x="2930" y="2730"/>
                </a:lnTo>
                <a:lnTo>
                  <a:pt x="2975" y="2748"/>
                </a:lnTo>
                <a:lnTo>
                  <a:pt x="3018" y="2763"/>
                </a:lnTo>
                <a:lnTo>
                  <a:pt x="3058" y="2778"/>
                </a:lnTo>
                <a:lnTo>
                  <a:pt x="3102" y="2792"/>
                </a:lnTo>
                <a:lnTo>
                  <a:pt x="3148" y="2810"/>
                </a:lnTo>
                <a:lnTo>
                  <a:pt x="3196" y="2825"/>
                </a:lnTo>
                <a:lnTo>
                  <a:pt x="3245" y="2842"/>
                </a:lnTo>
                <a:lnTo>
                  <a:pt x="3294" y="2859"/>
                </a:lnTo>
                <a:lnTo>
                  <a:pt x="3344" y="2876"/>
                </a:lnTo>
                <a:lnTo>
                  <a:pt x="3395" y="2892"/>
                </a:lnTo>
                <a:lnTo>
                  <a:pt x="3444" y="2909"/>
                </a:lnTo>
                <a:lnTo>
                  <a:pt x="3492" y="2926"/>
                </a:lnTo>
                <a:lnTo>
                  <a:pt x="3537" y="2940"/>
                </a:lnTo>
                <a:lnTo>
                  <a:pt x="3581" y="2955"/>
                </a:lnTo>
                <a:lnTo>
                  <a:pt x="3622" y="2968"/>
                </a:lnTo>
                <a:lnTo>
                  <a:pt x="3659" y="2980"/>
                </a:lnTo>
                <a:lnTo>
                  <a:pt x="3693" y="2991"/>
                </a:lnTo>
                <a:lnTo>
                  <a:pt x="3723" y="2999"/>
                </a:lnTo>
                <a:lnTo>
                  <a:pt x="3746" y="3007"/>
                </a:lnTo>
                <a:lnTo>
                  <a:pt x="3764" y="3012"/>
                </a:lnTo>
                <a:lnTo>
                  <a:pt x="3777" y="3016"/>
                </a:lnTo>
                <a:lnTo>
                  <a:pt x="3788" y="3018"/>
                </a:lnTo>
                <a:lnTo>
                  <a:pt x="3794" y="3021"/>
                </a:lnTo>
                <a:lnTo>
                  <a:pt x="3800" y="3023"/>
                </a:lnTo>
                <a:lnTo>
                  <a:pt x="3806" y="3025"/>
                </a:lnTo>
                <a:lnTo>
                  <a:pt x="3812" y="3025"/>
                </a:lnTo>
                <a:lnTo>
                  <a:pt x="3819" y="3029"/>
                </a:lnTo>
                <a:lnTo>
                  <a:pt x="3830" y="3032"/>
                </a:lnTo>
                <a:lnTo>
                  <a:pt x="3844" y="3036"/>
                </a:lnTo>
                <a:lnTo>
                  <a:pt x="3864" y="3042"/>
                </a:lnTo>
                <a:lnTo>
                  <a:pt x="3888" y="3050"/>
                </a:lnTo>
                <a:lnTo>
                  <a:pt x="3920" y="3058"/>
                </a:lnTo>
                <a:lnTo>
                  <a:pt x="3960" y="3070"/>
                </a:lnTo>
                <a:lnTo>
                  <a:pt x="4010" y="3083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00720" y="4114800"/>
            <a:ext cx="1373040" cy="2465280"/>
          </a:xfrm>
          <a:custGeom>
            <a:avLst/>
            <a:gdLst/>
            <a:ahLst/>
            <a:rect l="l" t="t" r="r" b="b"/>
            <a:pathLst>
              <a:path w="990" h="1848">
                <a:moveTo>
                  <a:pt x="0" y="0"/>
                </a:moveTo>
                <a:lnTo>
                  <a:pt x="7" y="27"/>
                </a:lnTo>
                <a:lnTo>
                  <a:pt x="15" y="56"/>
                </a:lnTo>
                <a:lnTo>
                  <a:pt x="23" y="88"/>
                </a:lnTo>
                <a:lnTo>
                  <a:pt x="35" y="122"/>
                </a:lnTo>
                <a:lnTo>
                  <a:pt x="45" y="159"/>
                </a:lnTo>
                <a:lnTo>
                  <a:pt x="57" y="196"/>
                </a:lnTo>
                <a:lnTo>
                  <a:pt x="70" y="234"/>
                </a:lnTo>
                <a:lnTo>
                  <a:pt x="83" y="272"/>
                </a:lnTo>
                <a:lnTo>
                  <a:pt x="96" y="311"/>
                </a:lnTo>
                <a:lnTo>
                  <a:pt x="109" y="350"/>
                </a:lnTo>
                <a:lnTo>
                  <a:pt x="123" y="387"/>
                </a:lnTo>
                <a:lnTo>
                  <a:pt x="137" y="423"/>
                </a:lnTo>
                <a:lnTo>
                  <a:pt x="151" y="459"/>
                </a:lnTo>
                <a:lnTo>
                  <a:pt x="164" y="491"/>
                </a:lnTo>
                <a:lnTo>
                  <a:pt x="175" y="522"/>
                </a:lnTo>
                <a:lnTo>
                  <a:pt x="189" y="549"/>
                </a:lnTo>
                <a:lnTo>
                  <a:pt x="201" y="577"/>
                </a:lnTo>
                <a:lnTo>
                  <a:pt x="215" y="609"/>
                </a:lnTo>
                <a:lnTo>
                  <a:pt x="231" y="645"/>
                </a:lnTo>
                <a:lnTo>
                  <a:pt x="249" y="683"/>
                </a:lnTo>
                <a:lnTo>
                  <a:pt x="268" y="725"/>
                </a:lnTo>
                <a:lnTo>
                  <a:pt x="289" y="767"/>
                </a:lnTo>
                <a:lnTo>
                  <a:pt x="310" y="811"/>
                </a:lnTo>
                <a:lnTo>
                  <a:pt x="332" y="857"/>
                </a:lnTo>
                <a:lnTo>
                  <a:pt x="353" y="903"/>
                </a:lnTo>
                <a:lnTo>
                  <a:pt x="376" y="949"/>
                </a:lnTo>
                <a:lnTo>
                  <a:pt x="398" y="995"/>
                </a:lnTo>
                <a:lnTo>
                  <a:pt x="420" y="1039"/>
                </a:lnTo>
                <a:lnTo>
                  <a:pt x="441" y="1083"/>
                </a:lnTo>
                <a:lnTo>
                  <a:pt x="463" y="1124"/>
                </a:lnTo>
                <a:lnTo>
                  <a:pt x="482" y="1163"/>
                </a:lnTo>
                <a:lnTo>
                  <a:pt x="502" y="1199"/>
                </a:lnTo>
                <a:lnTo>
                  <a:pt x="519" y="1235"/>
                </a:lnTo>
                <a:lnTo>
                  <a:pt x="539" y="1271"/>
                </a:lnTo>
                <a:lnTo>
                  <a:pt x="561" y="1309"/>
                </a:lnTo>
                <a:lnTo>
                  <a:pt x="583" y="1347"/>
                </a:lnTo>
                <a:lnTo>
                  <a:pt x="605" y="1385"/>
                </a:lnTo>
                <a:lnTo>
                  <a:pt x="629" y="1423"/>
                </a:lnTo>
                <a:lnTo>
                  <a:pt x="653" y="1461"/>
                </a:lnTo>
                <a:lnTo>
                  <a:pt x="677" y="1496"/>
                </a:lnTo>
                <a:lnTo>
                  <a:pt x="700" y="1532"/>
                </a:lnTo>
                <a:lnTo>
                  <a:pt x="723" y="1565"/>
                </a:lnTo>
                <a:lnTo>
                  <a:pt x="746" y="1597"/>
                </a:lnTo>
                <a:lnTo>
                  <a:pt x="768" y="1625"/>
                </a:lnTo>
                <a:lnTo>
                  <a:pt x="787" y="1651"/>
                </a:lnTo>
                <a:lnTo>
                  <a:pt x="807" y="1674"/>
                </a:lnTo>
                <a:lnTo>
                  <a:pt x="824" y="1693"/>
                </a:lnTo>
                <a:lnTo>
                  <a:pt x="839" y="1707"/>
                </a:lnTo>
                <a:lnTo>
                  <a:pt x="851" y="1720"/>
                </a:lnTo>
                <a:lnTo>
                  <a:pt x="860" y="1728"/>
                </a:lnTo>
                <a:lnTo>
                  <a:pt x="867" y="1735"/>
                </a:lnTo>
                <a:lnTo>
                  <a:pt x="873" y="1739"/>
                </a:lnTo>
                <a:lnTo>
                  <a:pt x="875" y="1743"/>
                </a:lnTo>
                <a:lnTo>
                  <a:pt x="879" y="1746"/>
                </a:lnTo>
                <a:lnTo>
                  <a:pt x="882" y="1749"/>
                </a:lnTo>
                <a:lnTo>
                  <a:pt x="886" y="1751"/>
                </a:lnTo>
                <a:lnTo>
                  <a:pt x="889" y="1756"/>
                </a:lnTo>
                <a:lnTo>
                  <a:pt x="895" y="1761"/>
                </a:lnTo>
                <a:lnTo>
                  <a:pt x="901" y="1768"/>
                </a:lnTo>
                <a:lnTo>
                  <a:pt x="912" y="1777"/>
                </a:lnTo>
                <a:lnTo>
                  <a:pt x="925" y="1790"/>
                </a:lnTo>
                <a:lnTo>
                  <a:pt x="942" y="1805"/>
                </a:lnTo>
                <a:lnTo>
                  <a:pt x="963" y="1824"/>
                </a:lnTo>
                <a:lnTo>
                  <a:pt x="989" y="1847"/>
                </a:lnTo>
              </a:path>
            </a:pathLst>
          </a:custGeom>
          <a:noFill/>
          <a:ln w="316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9636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aída en el precio: efecto sustitu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359080" y="1803240"/>
            <a:ext cx="0" cy="54295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79600" y="7229520"/>
            <a:ext cx="645948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87520" y="5081760"/>
            <a:ext cx="2210040" cy="144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87520" y="6107040"/>
            <a:ext cx="2860920" cy="180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60720" y="2793960"/>
            <a:ext cx="1438200" cy="3459240"/>
          </a:xfrm>
          <a:custGeom>
            <a:avLst/>
            <a:gdLst/>
            <a:ahLst/>
            <a:rect l="l" t="t" r="r" b="b"/>
            <a:pathLst>
              <a:path w="906" h="2180">
                <a:moveTo>
                  <a:pt x="0" y="0"/>
                </a:moveTo>
                <a:lnTo>
                  <a:pt x="3" y="38"/>
                </a:lnTo>
                <a:lnTo>
                  <a:pt x="6" y="69"/>
                </a:lnTo>
                <a:lnTo>
                  <a:pt x="8" y="94"/>
                </a:lnTo>
                <a:lnTo>
                  <a:pt x="10" y="113"/>
                </a:lnTo>
                <a:lnTo>
                  <a:pt x="10" y="128"/>
                </a:lnTo>
                <a:lnTo>
                  <a:pt x="12" y="139"/>
                </a:lnTo>
                <a:lnTo>
                  <a:pt x="12" y="148"/>
                </a:lnTo>
                <a:lnTo>
                  <a:pt x="14" y="152"/>
                </a:lnTo>
                <a:lnTo>
                  <a:pt x="14" y="158"/>
                </a:lnTo>
                <a:lnTo>
                  <a:pt x="14" y="162"/>
                </a:lnTo>
                <a:lnTo>
                  <a:pt x="14" y="167"/>
                </a:lnTo>
                <a:lnTo>
                  <a:pt x="16" y="172"/>
                </a:lnTo>
                <a:lnTo>
                  <a:pt x="16" y="180"/>
                </a:lnTo>
                <a:lnTo>
                  <a:pt x="18" y="190"/>
                </a:lnTo>
                <a:lnTo>
                  <a:pt x="19" y="204"/>
                </a:lnTo>
                <a:lnTo>
                  <a:pt x="21" y="222"/>
                </a:lnTo>
                <a:lnTo>
                  <a:pt x="23" y="244"/>
                </a:lnTo>
                <a:lnTo>
                  <a:pt x="25" y="268"/>
                </a:lnTo>
                <a:lnTo>
                  <a:pt x="28" y="295"/>
                </a:lnTo>
                <a:lnTo>
                  <a:pt x="32" y="322"/>
                </a:lnTo>
                <a:lnTo>
                  <a:pt x="36" y="352"/>
                </a:lnTo>
                <a:lnTo>
                  <a:pt x="41" y="382"/>
                </a:lnTo>
                <a:lnTo>
                  <a:pt x="46" y="413"/>
                </a:lnTo>
                <a:lnTo>
                  <a:pt x="51" y="443"/>
                </a:lnTo>
                <a:lnTo>
                  <a:pt x="56" y="475"/>
                </a:lnTo>
                <a:lnTo>
                  <a:pt x="62" y="506"/>
                </a:lnTo>
                <a:lnTo>
                  <a:pt x="67" y="536"/>
                </a:lnTo>
                <a:lnTo>
                  <a:pt x="73" y="565"/>
                </a:lnTo>
                <a:lnTo>
                  <a:pt x="78" y="594"/>
                </a:lnTo>
                <a:lnTo>
                  <a:pt x="84" y="619"/>
                </a:lnTo>
                <a:lnTo>
                  <a:pt x="89" y="644"/>
                </a:lnTo>
                <a:lnTo>
                  <a:pt x="95" y="665"/>
                </a:lnTo>
                <a:lnTo>
                  <a:pt x="100" y="688"/>
                </a:lnTo>
                <a:lnTo>
                  <a:pt x="107" y="712"/>
                </a:lnTo>
                <a:lnTo>
                  <a:pt x="114" y="739"/>
                </a:lnTo>
                <a:lnTo>
                  <a:pt x="124" y="766"/>
                </a:lnTo>
                <a:lnTo>
                  <a:pt x="133" y="797"/>
                </a:lnTo>
                <a:lnTo>
                  <a:pt x="143" y="827"/>
                </a:lnTo>
                <a:lnTo>
                  <a:pt x="153" y="859"/>
                </a:lnTo>
                <a:lnTo>
                  <a:pt x="164" y="890"/>
                </a:lnTo>
                <a:lnTo>
                  <a:pt x="174" y="921"/>
                </a:lnTo>
                <a:lnTo>
                  <a:pt x="185" y="953"/>
                </a:lnTo>
                <a:lnTo>
                  <a:pt x="197" y="984"/>
                </a:lnTo>
                <a:lnTo>
                  <a:pt x="208" y="1013"/>
                </a:lnTo>
                <a:lnTo>
                  <a:pt x="218" y="1042"/>
                </a:lnTo>
                <a:lnTo>
                  <a:pt x="229" y="1068"/>
                </a:lnTo>
                <a:lnTo>
                  <a:pt x="239" y="1094"/>
                </a:lnTo>
                <a:lnTo>
                  <a:pt x="250" y="1116"/>
                </a:lnTo>
                <a:lnTo>
                  <a:pt x="260" y="1140"/>
                </a:lnTo>
                <a:lnTo>
                  <a:pt x="272" y="1166"/>
                </a:lnTo>
                <a:lnTo>
                  <a:pt x="285" y="1195"/>
                </a:lnTo>
                <a:lnTo>
                  <a:pt x="300" y="1226"/>
                </a:lnTo>
                <a:lnTo>
                  <a:pt x="315" y="1260"/>
                </a:lnTo>
                <a:lnTo>
                  <a:pt x="331" y="1294"/>
                </a:lnTo>
                <a:lnTo>
                  <a:pt x="349" y="1331"/>
                </a:lnTo>
                <a:lnTo>
                  <a:pt x="368" y="1367"/>
                </a:lnTo>
                <a:lnTo>
                  <a:pt x="385" y="1406"/>
                </a:lnTo>
                <a:lnTo>
                  <a:pt x="403" y="1443"/>
                </a:lnTo>
                <a:lnTo>
                  <a:pt x="421" y="1480"/>
                </a:lnTo>
                <a:lnTo>
                  <a:pt x="440" y="1516"/>
                </a:lnTo>
                <a:lnTo>
                  <a:pt x="457" y="1553"/>
                </a:lnTo>
                <a:lnTo>
                  <a:pt x="475" y="1586"/>
                </a:lnTo>
                <a:lnTo>
                  <a:pt x="490" y="1619"/>
                </a:lnTo>
                <a:lnTo>
                  <a:pt x="506" y="1648"/>
                </a:lnTo>
                <a:lnTo>
                  <a:pt x="521" y="1678"/>
                </a:lnTo>
                <a:lnTo>
                  <a:pt x="537" y="1708"/>
                </a:lnTo>
                <a:lnTo>
                  <a:pt x="554" y="1739"/>
                </a:lnTo>
                <a:lnTo>
                  <a:pt x="573" y="1769"/>
                </a:lnTo>
                <a:lnTo>
                  <a:pt x="592" y="1800"/>
                </a:lnTo>
                <a:lnTo>
                  <a:pt x="611" y="1832"/>
                </a:lnTo>
                <a:lnTo>
                  <a:pt x="630" y="1862"/>
                </a:lnTo>
                <a:lnTo>
                  <a:pt x="650" y="1892"/>
                </a:lnTo>
                <a:lnTo>
                  <a:pt x="669" y="1921"/>
                </a:lnTo>
                <a:lnTo>
                  <a:pt x="689" y="1948"/>
                </a:lnTo>
                <a:lnTo>
                  <a:pt x="707" y="1974"/>
                </a:lnTo>
                <a:lnTo>
                  <a:pt x="725" y="1997"/>
                </a:lnTo>
                <a:lnTo>
                  <a:pt x="740" y="2019"/>
                </a:lnTo>
                <a:lnTo>
                  <a:pt x="757" y="2038"/>
                </a:lnTo>
                <a:lnTo>
                  <a:pt x="770" y="2054"/>
                </a:lnTo>
                <a:lnTo>
                  <a:pt x="783" y="2065"/>
                </a:lnTo>
                <a:lnTo>
                  <a:pt x="793" y="2076"/>
                </a:lnTo>
                <a:lnTo>
                  <a:pt x="800" y="2082"/>
                </a:lnTo>
                <a:lnTo>
                  <a:pt x="805" y="2088"/>
                </a:lnTo>
                <a:lnTo>
                  <a:pt x="810" y="2091"/>
                </a:lnTo>
                <a:lnTo>
                  <a:pt x="813" y="2094"/>
                </a:lnTo>
                <a:lnTo>
                  <a:pt x="815" y="2096"/>
                </a:lnTo>
                <a:lnTo>
                  <a:pt x="817" y="2099"/>
                </a:lnTo>
                <a:lnTo>
                  <a:pt x="821" y="2100"/>
                </a:lnTo>
                <a:lnTo>
                  <a:pt x="823" y="2104"/>
                </a:lnTo>
                <a:lnTo>
                  <a:pt x="828" y="2109"/>
                </a:lnTo>
                <a:lnTo>
                  <a:pt x="834" y="2115"/>
                </a:lnTo>
                <a:lnTo>
                  <a:pt x="843" y="2122"/>
                </a:lnTo>
                <a:lnTo>
                  <a:pt x="853" y="2132"/>
                </a:lnTo>
                <a:lnTo>
                  <a:pt x="866" y="2145"/>
                </a:lnTo>
                <a:lnTo>
                  <a:pt x="883" y="2160"/>
                </a:lnTo>
                <a:lnTo>
                  <a:pt x="905" y="2179"/>
                </a:lnTo>
              </a:path>
            </a:pathLst>
          </a:custGeom>
          <a:noFill/>
          <a:ln w="41400">
            <a:solidFill>
              <a:srgbClr val="8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91120" y="2362320"/>
            <a:ext cx="231912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anda compensada (Hicksian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816200" y="5048280"/>
            <a:ext cx="0" cy="1066680"/>
          </a:xfrm>
          <a:prstGeom prst="line">
            <a:avLst/>
          </a:prstGeom>
          <a:ln w="3168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1295280" y="5105160"/>
            <a:ext cx="1295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500" spc="-1" strike="noStrike">
                <a:solidFill>
                  <a:srgbClr val="5f5f5f"/>
                </a:solidFill>
                <a:latin typeface="Arial"/>
              </a:rPr>
              <a:t>caída en prec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9358200" y="6905520"/>
            <a:ext cx="5749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57800" y="7010280"/>
            <a:ext cx="10666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46680" y="6649920"/>
            <a:ext cx="6278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808120" y="6908760"/>
            <a:ext cx="45576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05320" y="1727280"/>
            <a:ext cx="47556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02000" y="3716280"/>
            <a:ext cx="16322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5160" y="4746600"/>
            <a:ext cx="159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ivel de precios ini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10160" y="5095800"/>
            <a:ext cx="0" cy="2158920"/>
          </a:xfrm>
          <a:prstGeom prst="line">
            <a:avLst/>
          </a:prstGeom>
          <a:ln w="44280">
            <a:solidFill>
              <a:srgbClr val="0033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18200" y="6130800"/>
            <a:ext cx="0" cy="1123920"/>
          </a:xfrm>
          <a:prstGeom prst="line">
            <a:avLst/>
          </a:prstGeom>
          <a:ln w="44280">
            <a:solidFill>
              <a:srgbClr val="0033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304920"/>
            <a:ext cx="8458200" cy="12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aída en el precio:    bien norm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0" y="70102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7356600"/>
            <a:ext cx="1887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100" spc="-1" strike="noStrike">
                <a:solidFill>
                  <a:srgbClr val="0000ff"/>
                </a:solidFill>
                <a:latin typeface="Arial"/>
              </a:rPr>
              <a:t>efecto ingres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24480" y="6095880"/>
            <a:ext cx="0" cy="1143000"/>
          </a:xfrm>
          <a:prstGeom prst="line">
            <a:avLst/>
          </a:prstGeom>
          <a:ln w="44280">
            <a:solidFill>
              <a:srgbClr val="0033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162920" y="5486400"/>
            <a:ext cx="2319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va de demanda ord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819520" y="2666880"/>
            <a:ext cx="5562360" cy="4114800"/>
          </a:xfrm>
          <a:custGeom>
            <a:avLst/>
            <a:gdLst/>
            <a:ahLst/>
            <a:rect l="l" t="t" r="r" b="b"/>
            <a:pathLst>
              <a:path w="4011" h="3084">
                <a:moveTo>
                  <a:pt x="0" y="0"/>
                </a:moveTo>
                <a:lnTo>
                  <a:pt x="89" y="138"/>
                </a:lnTo>
                <a:lnTo>
                  <a:pt x="163" y="249"/>
                </a:lnTo>
                <a:lnTo>
                  <a:pt x="221" y="338"/>
                </a:lnTo>
                <a:lnTo>
                  <a:pt x="267" y="408"/>
                </a:lnTo>
                <a:lnTo>
                  <a:pt x="301" y="462"/>
                </a:lnTo>
                <a:lnTo>
                  <a:pt x="328" y="501"/>
                </a:lnTo>
                <a:lnTo>
                  <a:pt x="348" y="530"/>
                </a:lnTo>
                <a:lnTo>
                  <a:pt x="362" y="552"/>
                </a:lnTo>
                <a:lnTo>
                  <a:pt x="372" y="569"/>
                </a:lnTo>
                <a:lnTo>
                  <a:pt x="382" y="584"/>
                </a:lnTo>
                <a:lnTo>
                  <a:pt x="393" y="601"/>
                </a:lnTo>
                <a:lnTo>
                  <a:pt x="407" y="620"/>
                </a:lnTo>
                <a:lnTo>
                  <a:pt x="425" y="648"/>
                </a:lnTo>
                <a:lnTo>
                  <a:pt x="450" y="685"/>
                </a:lnTo>
                <a:lnTo>
                  <a:pt x="484" y="736"/>
                </a:lnTo>
                <a:lnTo>
                  <a:pt x="528" y="801"/>
                </a:lnTo>
                <a:lnTo>
                  <a:pt x="578" y="879"/>
                </a:lnTo>
                <a:lnTo>
                  <a:pt x="633" y="959"/>
                </a:lnTo>
                <a:lnTo>
                  <a:pt x="691" y="1040"/>
                </a:lnTo>
                <a:lnTo>
                  <a:pt x="751" y="1123"/>
                </a:lnTo>
                <a:lnTo>
                  <a:pt x="812" y="1206"/>
                </a:lnTo>
                <a:lnTo>
                  <a:pt x="875" y="1289"/>
                </a:lnTo>
                <a:lnTo>
                  <a:pt x="938" y="1370"/>
                </a:lnTo>
                <a:lnTo>
                  <a:pt x="1002" y="1449"/>
                </a:lnTo>
                <a:lnTo>
                  <a:pt x="1063" y="1526"/>
                </a:lnTo>
                <a:lnTo>
                  <a:pt x="1124" y="1599"/>
                </a:lnTo>
                <a:lnTo>
                  <a:pt x="1182" y="1668"/>
                </a:lnTo>
                <a:lnTo>
                  <a:pt x="1237" y="1730"/>
                </a:lnTo>
                <a:lnTo>
                  <a:pt x="1288" y="1787"/>
                </a:lnTo>
                <a:lnTo>
                  <a:pt x="1336" y="1837"/>
                </a:lnTo>
                <a:lnTo>
                  <a:pt x="1379" y="1879"/>
                </a:lnTo>
                <a:lnTo>
                  <a:pt x="1417" y="1912"/>
                </a:lnTo>
                <a:lnTo>
                  <a:pt x="1452" y="1943"/>
                </a:lnTo>
                <a:lnTo>
                  <a:pt x="1493" y="1974"/>
                </a:lnTo>
                <a:lnTo>
                  <a:pt x="1537" y="2008"/>
                </a:lnTo>
                <a:lnTo>
                  <a:pt x="1586" y="2041"/>
                </a:lnTo>
                <a:lnTo>
                  <a:pt x="1635" y="2078"/>
                </a:lnTo>
                <a:lnTo>
                  <a:pt x="1686" y="2113"/>
                </a:lnTo>
                <a:lnTo>
                  <a:pt x="1740" y="2149"/>
                </a:lnTo>
                <a:lnTo>
                  <a:pt x="1794" y="2184"/>
                </a:lnTo>
                <a:lnTo>
                  <a:pt x="1848" y="2219"/>
                </a:lnTo>
                <a:lnTo>
                  <a:pt x="1902" y="2254"/>
                </a:lnTo>
                <a:lnTo>
                  <a:pt x="1955" y="2286"/>
                </a:lnTo>
                <a:lnTo>
                  <a:pt x="2007" y="2316"/>
                </a:lnTo>
                <a:lnTo>
                  <a:pt x="2056" y="2346"/>
                </a:lnTo>
                <a:lnTo>
                  <a:pt x="2104" y="2371"/>
                </a:lnTo>
                <a:lnTo>
                  <a:pt x="2148" y="2395"/>
                </a:lnTo>
                <a:lnTo>
                  <a:pt x="2190" y="2414"/>
                </a:lnTo>
                <a:lnTo>
                  <a:pt x="2230" y="2434"/>
                </a:lnTo>
                <a:lnTo>
                  <a:pt x="2275" y="2454"/>
                </a:lnTo>
                <a:lnTo>
                  <a:pt x="2323" y="2477"/>
                </a:lnTo>
                <a:lnTo>
                  <a:pt x="2376" y="2499"/>
                </a:lnTo>
                <a:lnTo>
                  <a:pt x="2429" y="2524"/>
                </a:lnTo>
                <a:lnTo>
                  <a:pt x="2486" y="2547"/>
                </a:lnTo>
                <a:lnTo>
                  <a:pt x="2543" y="2572"/>
                </a:lnTo>
                <a:lnTo>
                  <a:pt x="2601" y="2596"/>
                </a:lnTo>
                <a:lnTo>
                  <a:pt x="2659" y="2621"/>
                </a:lnTo>
                <a:lnTo>
                  <a:pt x="2717" y="2645"/>
                </a:lnTo>
                <a:lnTo>
                  <a:pt x="2773" y="2668"/>
                </a:lnTo>
                <a:lnTo>
                  <a:pt x="2828" y="2690"/>
                </a:lnTo>
                <a:lnTo>
                  <a:pt x="2880" y="2711"/>
                </a:lnTo>
                <a:lnTo>
                  <a:pt x="2930" y="2730"/>
                </a:lnTo>
                <a:lnTo>
                  <a:pt x="2975" y="2748"/>
                </a:lnTo>
                <a:lnTo>
                  <a:pt x="3018" y="2763"/>
                </a:lnTo>
                <a:lnTo>
                  <a:pt x="3058" y="2778"/>
                </a:lnTo>
                <a:lnTo>
                  <a:pt x="3102" y="2792"/>
                </a:lnTo>
                <a:lnTo>
                  <a:pt x="3148" y="2810"/>
                </a:lnTo>
                <a:lnTo>
                  <a:pt x="3196" y="2825"/>
                </a:lnTo>
                <a:lnTo>
                  <a:pt x="3245" y="2842"/>
                </a:lnTo>
                <a:lnTo>
                  <a:pt x="3294" y="2859"/>
                </a:lnTo>
                <a:lnTo>
                  <a:pt x="3344" y="2876"/>
                </a:lnTo>
                <a:lnTo>
                  <a:pt x="3395" y="2892"/>
                </a:lnTo>
                <a:lnTo>
                  <a:pt x="3444" y="2909"/>
                </a:lnTo>
                <a:lnTo>
                  <a:pt x="3492" y="2926"/>
                </a:lnTo>
                <a:lnTo>
                  <a:pt x="3537" y="2940"/>
                </a:lnTo>
                <a:lnTo>
                  <a:pt x="3581" y="2955"/>
                </a:lnTo>
                <a:lnTo>
                  <a:pt x="3622" y="2968"/>
                </a:lnTo>
                <a:lnTo>
                  <a:pt x="3659" y="2980"/>
                </a:lnTo>
                <a:lnTo>
                  <a:pt x="3693" y="2991"/>
                </a:lnTo>
                <a:lnTo>
                  <a:pt x="3723" y="2999"/>
                </a:lnTo>
                <a:lnTo>
                  <a:pt x="3746" y="3007"/>
                </a:lnTo>
                <a:lnTo>
                  <a:pt x="3764" y="3012"/>
                </a:lnTo>
                <a:lnTo>
                  <a:pt x="3777" y="3016"/>
                </a:lnTo>
                <a:lnTo>
                  <a:pt x="3788" y="3018"/>
                </a:lnTo>
                <a:lnTo>
                  <a:pt x="3794" y="3021"/>
                </a:lnTo>
                <a:lnTo>
                  <a:pt x="3800" y="3023"/>
                </a:lnTo>
                <a:lnTo>
                  <a:pt x="3806" y="3025"/>
                </a:lnTo>
                <a:lnTo>
                  <a:pt x="3812" y="3025"/>
                </a:lnTo>
                <a:lnTo>
                  <a:pt x="3819" y="3029"/>
                </a:lnTo>
                <a:lnTo>
                  <a:pt x="3830" y="3032"/>
                </a:lnTo>
                <a:lnTo>
                  <a:pt x="3844" y="3036"/>
                </a:lnTo>
                <a:lnTo>
                  <a:pt x="3864" y="3042"/>
                </a:lnTo>
                <a:lnTo>
                  <a:pt x="3888" y="3050"/>
                </a:lnTo>
                <a:lnTo>
                  <a:pt x="3920" y="3058"/>
                </a:lnTo>
                <a:lnTo>
                  <a:pt x="3960" y="3070"/>
                </a:lnTo>
                <a:lnTo>
                  <a:pt x="4010" y="3083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9636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ducción en el precio: bien inferio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359080" y="1803240"/>
            <a:ext cx="0" cy="54295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79600" y="7229520"/>
            <a:ext cx="645948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87520" y="5081760"/>
            <a:ext cx="2210040" cy="144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387520" y="6095520"/>
            <a:ext cx="4165560" cy="1116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9743600">
            <a:off x="4257360" y="2665440"/>
            <a:ext cx="2600280" cy="4726080"/>
          </a:xfrm>
          <a:custGeom>
            <a:avLst/>
            <a:gdLst/>
            <a:ahLst/>
            <a:rect l="l" t="t" r="r" b="b"/>
            <a:pathLst>
              <a:path w="906" h="2180">
                <a:moveTo>
                  <a:pt x="0" y="0"/>
                </a:moveTo>
                <a:lnTo>
                  <a:pt x="3" y="38"/>
                </a:lnTo>
                <a:lnTo>
                  <a:pt x="6" y="69"/>
                </a:lnTo>
                <a:lnTo>
                  <a:pt x="8" y="94"/>
                </a:lnTo>
                <a:lnTo>
                  <a:pt x="10" y="113"/>
                </a:lnTo>
                <a:lnTo>
                  <a:pt x="10" y="128"/>
                </a:lnTo>
                <a:lnTo>
                  <a:pt x="12" y="139"/>
                </a:lnTo>
                <a:lnTo>
                  <a:pt x="12" y="148"/>
                </a:lnTo>
                <a:lnTo>
                  <a:pt x="14" y="152"/>
                </a:lnTo>
                <a:lnTo>
                  <a:pt x="14" y="158"/>
                </a:lnTo>
                <a:lnTo>
                  <a:pt x="14" y="162"/>
                </a:lnTo>
                <a:lnTo>
                  <a:pt x="14" y="167"/>
                </a:lnTo>
                <a:lnTo>
                  <a:pt x="16" y="172"/>
                </a:lnTo>
                <a:lnTo>
                  <a:pt x="16" y="180"/>
                </a:lnTo>
                <a:lnTo>
                  <a:pt x="18" y="190"/>
                </a:lnTo>
                <a:lnTo>
                  <a:pt x="19" y="204"/>
                </a:lnTo>
                <a:lnTo>
                  <a:pt x="21" y="222"/>
                </a:lnTo>
                <a:lnTo>
                  <a:pt x="23" y="244"/>
                </a:lnTo>
                <a:lnTo>
                  <a:pt x="25" y="268"/>
                </a:lnTo>
                <a:lnTo>
                  <a:pt x="28" y="295"/>
                </a:lnTo>
                <a:lnTo>
                  <a:pt x="32" y="322"/>
                </a:lnTo>
                <a:lnTo>
                  <a:pt x="36" y="352"/>
                </a:lnTo>
                <a:lnTo>
                  <a:pt x="41" y="382"/>
                </a:lnTo>
                <a:lnTo>
                  <a:pt x="46" y="413"/>
                </a:lnTo>
                <a:lnTo>
                  <a:pt x="51" y="443"/>
                </a:lnTo>
                <a:lnTo>
                  <a:pt x="56" y="475"/>
                </a:lnTo>
                <a:lnTo>
                  <a:pt x="62" y="506"/>
                </a:lnTo>
                <a:lnTo>
                  <a:pt x="67" y="536"/>
                </a:lnTo>
                <a:lnTo>
                  <a:pt x="73" y="565"/>
                </a:lnTo>
                <a:lnTo>
                  <a:pt x="78" y="594"/>
                </a:lnTo>
                <a:lnTo>
                  <a:pt x="84" y="619"/>
                </a:lnTo>
                <a:lnTo>
                  <a:pt x="89" y="644"/>
                </a:lnTo>
                <a:lnTo>
                  <a:pt x="95" y="665"/>
                </a:lnTo>
                <a:lnTo>
                  <a:pt x="100" y="688"/>
                </a:lnTo>
                <a:lnTo>
                  <a:pt x="107" y="712"/>
                </a:lnTo>
                <a:lnTo>
                  <a:pt x="114" y="739"/>
                </a:lnTo>
                <a:lnTo>
                  <a:pt x="124" y="766"/>
                </a:lnTo>
                <a:lnTo>
                  <a:pt x="133" y="797"/>
                </a:lnTo>
                <a:lnTo>
                  <a:pt x="143" y="827"/>
                </a:lnTo>
                <a:lnTo>
                  <a:pt x="153" y="859"/>
                </a:lnTo>
                <a:lnTo>
                  <a:pt x="164" y="890"/>
                </a:lnTo>
                <a:lnTo>
                  <a:pt x="174" y="921"/>
                </a:lnTo>
                <a:lnTo>
                  <a:pt x="185" y="953"/>
                </a:lnTo>
                <a:lnTo>
                  <a:pt x="197" y="984"/>
                </a:lnTo>
                <a:lnTo>
                  <a:pt x="208" y="1013"/>
                </a:lnTo>
                <a:lnTo>
                  <a:pt x="218" y="1042"/>
                </a:lnTo>
                <a:lnTo>
                  <a:pt x="229" y="1068"/>
                </a:lnTo>
                <a:lnTo>
                  <a:pt x="239" y="1094"/>
                </a:lnTo>
                <a:lnTo>
                  <a:pt x="250" y="1116"/>
                </a:lnTo>
                <a:lnTo>
                  <a:pt x="260" y="1140"/>
                </a:lnTo>
                <a:lnTo>
                  <a:pt x="272" y="1166"/>
                </a:lnTo>
                <a:lnTo>
                  <a:pt x="285" y="1195"/>
                </a:lnTo>
                <a:lnTo>
                  <a:pt x="300" y="1226"/>
                </a:lnTo>
                <a:lnTo>
                  <a:pt x="315" y="1260"/>
                </a:lnTo>
                <a:lnTo>
                  <a:pt x="331" y="1294"/>
                </a:lnTo>
                <a:lnTo>
                  <a:pt x="349" y="1331"/>
                </a:lnTo>
                <a:lnTo>
                  <a:pt x="368" y="1367"/>
                </a:lnTo>
                <a:lnTo>
                  <a:pt x="385" y="1406"/>
                </a:lnTo>
                <a:lnTo>
                  <a:pt x="403" y="1443"/>
                </a:lnTo>
                <a:lnTo>
                  <a:pt x="421" y="1480"/>
                </a:lnTo>
                <a:lnTo>
                  <a:pt x="440" y="1516"/>
                </a:lnTo>
                <a:lnTo>
                  <a:pt x="457" y="1553"/>
                </a:lnTo>
                <a:lnTo>
                  <a:pt x="475" y="1586"/>
                </a:lnTo>
                <a:lnTo>
                  <a:pt x="490" y="1619"/>
                </a:lnTo>
                <a:lnTo>
                  <a:pt x="506" y="1648"/>
                </a:lnTo>
                <a:lnTo>
                  <a:pt x="521" y="1678"/>
                </a:lnTo>
                <a:lnTo>
                  <a:pt x="537" y="1708"/>
                </a:lnTo>
                <a:lnTo>
                  <a:pt x="554" y="1739"/>
                </a:lnTo>
                <a:lnTo>
                  <a:pt x="573" y="1769"/>
                </a:lnTo>
                <a:lnTo>
                  <a:pt x="592" y="1800"/>
                </a:lnTo>
                <a:lnTo>
                  <a:pt x="611" y="1832"/>
                </a:lnTo>
                <a:lnTo>
                  <a:pt x="630" y="1862"/>
                </a:lnTo>
                <a:lnTo>
                  <a:pt x="650" y="1892"/>
                </a:lnTo>
                <a:lnTo>
                  <a:pt x="669" y="1921"/>
                </a:lnTo>
                <a:lnTo>
                  <a:pt x="689" y="1948"/>
                </a:lnTo>
                <a:lnTo>
                  <a:pt x="707" y="1974"/>
                </a:lnTo>
                <a:lnTo>
                  <a:pt x="725" y="1997"/>
                </a:lnTo>
                <a:lnTo>
                  <a:pt x="740" y="2019"/>
                </a:lnTo>
                <a:lnTo>
                  <a:pt x="757" y="2038"/>
                </a:lnTo>
                <a:lnTo>
                  <a:pt x="770" y="2054"/>
                </a:lnTo>
                <a:lnTo>
                  <a:pt x="783" y="2065"/>
                </a:lnTo>
                <a:lnTo>
                  <a:pt x="793" y="2076"/>
                </a:lnTo>
                <a:lnTo>
                  <a:pt x="800" y="2082"/>
                </a:lnTo>
                <a:lnTo>
                  <a:pt x="805" y="2088"/>
                </a:lnTo>
                <a:lnTo>
                  <a:pt x="810" y="2091"/>
                </a:lnTo>
                <a:lnTo>
                  <a:pt x="813" y="2094"/>
                </a:lnTo>
                <a:lnTo>
                  <a:pt x="815" y="2096"/>
                </a:lnTo>
                <a:lnTo>
                  <a:pt x="817" y="2099"/>
                </a:lnTo>
                <a:lnTo>
                  <a:pt x="821" y="2100"/>
                </a:lnTo>
                <a:lnTo>
                  <a:pt x="823" y="2104"/>
                </a:lnTo>
                <a:lnTo>
                  <a:pt x="828" y="2109"/>
                </a:lnTo>
                <a:lnTo>
                  <a:pt x="834" y="2115"/>
                </a:lnTo>
                <a:lnTo>
                  <a:pt x="843" y="2122"/>
                </a:lnTo>
                <a:lnTo>
                  <a:pt x="853" y="2132"/>
                </a:lnTo>
                <a:lnTo>
                  <a:pt x="866" y="2145"/>
                </a:lnTo>
                <a:lnTo>
                  <a:pt x="883" y="2160"/>
                </a:lnTo>
                <a:lnTo>
                  <a:pt x="905" y="2179"/>
                </a:lnTo>
              </a:path>
            </a:pathLst>
          </a:custGeom>
          <a:noFill/>
          <a:ln w="41400">
            <a:solidFill>
              <a:srgbClr val="8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3505320"/>
            <a:ext cx="2319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va de demanda compen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16200" y="5048280"/>
            <a:ext cx="0" cy="1066680"/>
          </a:xfrm>
          <a:prstGeom prst="line">
            <a:avLst/>
          </a:prstGeom>
          <a:ln w="3168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1135800" y="4784040"/>
            <a:ext cx="1362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500" spc="-1" strike="noStrike">
                <a:solidFill>
                  <a:srgbClr val="5f5f5f"/>
                </a:solidFill>
                <a:latin typeface="Arial"/>
              </a:rPr>
              <a:t>caída en el prec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358200" y="6905520"/>
            <a:ext cx="5749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324120" y="7010280"/>
            <a:ext cx="2286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46680" y="6649920"/>
            <a:ext cx="6278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808120" y="6908760"/>
            <a:ext cx="45576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05320" y="1727280"/>
            <a:ext cx="47556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5160" y="4746600"/>
            <a:ext cx="159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ivel de precio inici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610160" y="5095800"/>
            <a:ext cx="0" cy="2158920"/>
          </a:xfrm>
          <a:prstGeom prst="line">
            <a:avLst/>
          </a:prstGeom>
          <a:ln w="44280">
            <a:solidFill>
              <a:srgbClr val="0033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553080" y="6095880"/>
            <a:ext cx="0" cy="1123920"/>
          </a:xfrm>
          <a:prstGeom prst="line">
            <a:avLst/>
          </a:prstGeom>
          <a:ln w="44280">
            <a:solidFill>
              <a:srgbClr val="0033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6781680"/>
            <a:ext cx="19810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029200" y="7356600"/>
            <a:ext cx="1887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100" spc="-1" strike="noStrike">
                <a:solidFill>
                  <a:srgbClr val="0000ff"/>
                </a:solidFill>
                <a:latin typeface="Arial"/>
              </a:rPr>
              <a:t>efecto ingres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324480" y="6095880"/>
            <a:ext cx="0" cy="1143000"/>
          </a:xfrm>
          <a:prstGeom prst="line">
            <a:avLst/>
          </a:prstGeom>
          <a:ln w="44280">
            <a:solidFill>
              <a:srgbClr val="0033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00400" y="2743200"/>
            <a:ext cx="231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va de deanda ord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6324480"/>
            <a:ext cx="1887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100" spc="-1" strike="noStrike">
                <a:solidFill>
                  <a:srgbClr val="663300"/>
                </a:solidFill>
                <a:latin typeface="Arial"/>
              </a:rPr>
              <a:t>efecto sustitu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ropiedades de la función demand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66880" y="2400480"/>
            <a:ext cx="8940600" cy="4813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90520" indent="-1190520">
              <a:spcBef>
                <a:spcPts val="2001"/>
              </a:spcBef>
              <a:buClr>
                <a:srgbClr val="ff0000"/>
              </a:buClr>
              <a:buSzPct val="46000"/>
              <a:buFont typeface="Monotype Sorts" charset="2"/>
              <a:buChar char="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Homogeneas de grado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0520" indent="-1190520">
              <a:spcBef>
                <a:spcPts val="2001"/>
              </a:spcBef>
              <a:buClr>
                <a:srgbClr val="ff0000"/>
              </a:buClr>
              <a:buSzPct val="46000"/>
              <a:buFont typeface="Monotype Sorts" charset="2"/>
              <a:buChar char="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Satisfacen la restricción de su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0520" indent="-1190520">
              <a:spcBef>
                <a:spcPts val="2001"/>
              </a:spcBef>
              <a:buClr>
                <a:srgbClr val="ff0000"/>
              </a:buClr>
              <a:buSzPct val="46000"/>
              <a:buFont typeface="Monotype Sorts" charset="2"/>
              <a:buChar char="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Efectos sustitución simét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0520" indent="-1190520">
              <a:spcBef>
                <a:spcPts val="2001"/>
              </a:spcBef>
              <a:buClr>
                <a:srgbClr val="ff0000"/>
              </a:buClr>
              <a:buSzPct val="46000"/>
              <a:buFont typeface="Monotype Sorts" charset="2"/>
              <a:buChar char="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Efectos sustitución propios neg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0520" indent="-1190520">
              <a:spcBef>
                <a:spcPts val="2001"/>
              </a:spcBef>
              <a:buClr>
                <a:srgbClr val="ff0000"/>
              </a:buClr>
              <a:buSzPct val="46000"/>
              <a:buFont typeface="Monotype Sorts" charset="2"/>
              <a:buChar char="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Los efectos ingresos pueden ser positivos o negativo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0520" indent="-1190520">
              <a:spcBef>
                <a:spcPts val="2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Y en efecto, son siempre un dolor de cab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90920" y="128160"/>
            <a:ext cx="7162560" cy="77158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ush738 BT"/>
              </a:rPr>
              <a:t>Y ahora pasemos a la segunda etapa.Tomemos el segundo tipo de restricción presupuestar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ush738 BT"/>
              </a:rPr>
              <a:t>(ingreso endógeno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760840" y="3425760"/>
            <a:ext cx="1598400" cy="3389400"/>
          </a:xfrm>
          <a:custGeom>
            <a:avLst/>
            <a:gdLst/>
            <a:ahLst/>
            <a:rect l="l" t="t" r="r" b="b"/>
            <a:pathLst>
              <a:path w="1007" h="2135">
                <a:moveTo>
                  <a:pt x="0" y="0"/>
                </a:moveTo>
                <a:lnTo>
                  <a:pt x="0" y="2134"/>
                </a:lnTo>
                <a:lnTo>
                  <a:pt x="1006" y="212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838080" y="0"/>
            <a:ext cx="9453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mos ahora el tipo 2 de restricción presupuestaria:dotación fija de recursos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766960" y="2722680"/>
            <a:ext cx="0" cy="4084560"/>
          </a:xfrm>
          <a:prstGeom prst="line">
            <a:avLst/>
          </a:prstGeom>
          <a:ln w="414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66960" y="6807240"/>
            <a:ext cx="4319640" cy="0"/>
          </a:xfrm>
          <a:prstGeom prst="line">
            <a:avLst/>
          </a:prstGeom>
          <a:ln w="414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81160" y="3260880"/>
            <a:ext cx="324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15200" y="662940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35200" y="228600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950920" y="3886200"/>
            <a:ext cx="2052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657600" y="2666880"/>
            <a:ext cx="6584760" cy="3241800"/>
            <a:chOff x="3657600" y="2666880"/>
            <a:chExt cx="6584760" cy="3241800"/>
          </a:xfrm>
        </p:grpSpPr>
        <p:sp>
          <p:nvSpPr>
            <p:cNvPr id="486" name=""/>
            <p:cNvSpPr/>
            <p:nvPr/>
          </p:nvSpPr>
          <p:spPr>
            <a:xfrm>
              <a:off x="3657600" y="2666880"/>
              <a:ext cx="6584760" cy="3241800"/>
            </a:xfrm>
            <a:custGeom>
              <a:avLst/>
              <a:gdLst/>
              <a:ahLst/>
              <a:rect l="l" t="t" r="r" b="b"/>
              <a:pathLst>
                <a:path w="4148" h="2042">
                  <a:moveTo>
                    <a:pt x="1099" y="1698"/>
                  </a:moveTo>
                  <a:lnTo>
                    <a:pt x="1366" y="1755"/>
                  </a:lnTo>
                  <a:lnTo>
                    <a:pt x="1637" y="1791"/>
                  </a:lnTo>
                  <a:lnTo>
                    <a:pt x="1906" y="1809"/>
                  </a:lnTo>
                  <a:lnTo>
                    <a:pt x="2174" y="1809"/>
                  </a:lnTo>
                  <a:lnTo>
                    <a:pt x="2435" y="1794"/>
                  </a:lnTo>
                  <a:lnTo>
                    <a:pt x="2688" y="1763"/>
                  </a:lnTo>
                  <a:lnTo>
                    <a:pt x="2930" y="1719"/>
                  </a:lnTo>
                  <a:lnTo>
                    <a:pt x="3158" y="1661"/>
                  </a:lnTo>
                  <a:lnTo>
                    <a:pt x="3368" y="1595"/>
                  </a:lnTo>
                  <a:lnTo>
                    <a:pt x="3560" y="1517"/>
                  </a:lnTo>
                  <a:lnTo>
                    <a:pt x="3729" y="1431"/>
                  </a:lnTo>
                  <a:lnTo>
                    <a:pt x="3874" y="1337"/>
                  </a:lnTo>
                  <a:lnTo>
                    <a:pt x="3990" y="1238"/>
                  </a:lnTo>
                  <a:lnTo>
                    <a:pt x="4076" y="1133"/>
                  </a:lnTo>
                  <a:lnTo>
                    <a:pt x="4130" y="1025"/>
                  </a:lnTo>
                  <a:lnTo>
                    <a:pt x="4147" y="915"/>
                  </a:lnTo>
                  <a:lnTo>
                    <a:pt x="4096" y="699"/>
                  </a:lnTo>
                  <a:lnTo>
                    <a:pt x="3966" y="512"/>
                  </a:lnTo>
                  <a:lnTo>
                    <a:pt x="3763" y="355"/>
                  </a:lnTo>
                  <a:lnTo>
                    <a:pt x="3502" y="226"/>
                  </a:lnTo>
                  <a:lnTo>
                    <a:pt x="3194" y="128"/>
                  </a:lnTo>
                  <a:lnTo>
                    <a:pt x="2850" y="57"/>
                  </a:lnTo>
                  <a:lnTo>
                    <a:pt x="2482" y="14"/>
                  </a:lnTo>
                  <a:lnTo>
                    <a:pt x="2102" y="0"/>
                  </a:lnTo>
                  <a:lnTo>
                    <a:pt x="1719" y="14"/>
                  </a:lnTo>
                  <a:lnTo>
                    <a:pt x="1348" y="56"/>
                  </a:lnTo>
                  <a:lnTo>
                    <a:pt x="1000" y="125"/>
                  </a:lnTo>
                  <a:lnTo>
                    <a:pt x="686" y="221"/>
                  </a:lnTo>
                  <a:lnTo>
                    <a:pt x="417" y="344"/>
                  </a:lnTo>
                  <a:lnTo>
                    <a:pt x="206" y="493"/>
                  </a:lnTo>
                  <a:lnTo>
                    <a:pt x="63" y="669"/>
                  </a:lnTo>
                  <a:lnTo>
                    <a:pt x="1" y="871"/>
                  </a:lnTo>
                  <a:lnTo>
                    <a:pt x="0" y="923"/>
                  </a:lnTo>
                  <a:lnTo>
                    <a:pt x="8" y="974"/>
                  </a:lnTo>
                  <a:lnTo>
                    <a:pt x="21" y="1024"/>
                  </a:lnTo>
                  <a:lnTo>
                    <a:pt x="43" y="1075"/>
                  </a:lnTo>
                  <a:lnTo>
                    <a:pt x="70" y="1125"/>
                  </a:lnTo>
                  <a:lnTo>
                    <a:pt x="104" y="1175"/>
                  </a:lnTo>
                  <a:lnTo>
                    <a:pt x="144" y="1223"/>
                  </a:lnTo>
                  <a:lnTo>
                    <a:pt x="189" y="1270"/>
                  </a:lnTo>
                  <a:lnTo>
                    <a:pt x="238" y="1317"/>
                  </a:lnTo>
                  <a:lnTo>
                    <a:pt x="293" y="1361"/>
                  </a:lnTo>
                  <a:lnTo>
                    <a:pt x="351" y="1404"/>
                  </a:lnTo>
                  <a:lnTo>
                    <a:pt x="415" y="1444"/>
                  </a:lnTo>
                  <a:lnTo>
                    <a:pt x="480" y="1482"/>
                  </a:lnTo>
                  <a:lnTo>
                    <a:pt x="551" y="1517"/>
                  </a:lnTo>
                  <a:lnTo>
                    <a:pt x="624" y="1550"/>
                  </a:lnTo>
                  <a:lnTo>
                    <a:pt x="700" y="1580"/>
                  </a:lnTo>
                  <a:lnTo>
                    <a:pt x="452" y="1792"/>
                  </a:lnTo>
                  <a:lnTo>
                    <a:pt x="325" y="1691"/>
                  </a:lnTo>
                  <a:lnTo>
                    <a:pt x="197" y="2041"/>
                  </a:lnTo>
                  <a:lnTo>
                    <a:pt x="769" y="2041"/>
                  </a:lnTo>
                  <a:lnTo>
                    <a:pt x="590" y="1902"/>
                  </a:lnTo>
                  <a:lnTo>
                    <a:pt x="1099" y="1698"/>
                  </a:lnTo>
                  <a:lnTo>
                    <a:pt x="1099" y="1698"/>
                  </a:lnTo>
                </a:path>
              </a:pathLst>
            </a:custGeom>
            <a:solidFill>
              <a:srgbClr val="ffffc2"/>
            </a:solidFill>
            <a:ln w="3168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65480" y="3286080"/>
              <a:ext cx="466272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5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i="1" lang="en-GB" sz="5500" spc="-1" strike="noStrike">
                  <a:solidFill>
                    <a:srgbClr val="ff0000"/>
                  </a:solidFill>
                  <a:latin typeface="Times New Roman"/>
                </a:rPr>
                <a:t>M </a:t>
              </a:r>
              <a:r>
                <a:rPr b="0" lang="en-GB" sz="5500" spc="-1" strike="noStrike">
                  <a:solidFill>
                    <a:srgbClr val="ff0000"/>
                  </a:solidFill>
                  <a:latin typeface="Times New Roman"/>
                </a:rPr>
                <a:t>= </a:t>
              </a:r>
              <a:r>
                <a:rPr b="0" lang="en-GB" sz="7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</a:t>
              </a:r>
              <a:r>
                <a:rPr b="0" i="1" lang="en-GB" sz="5500" spc="-1" strike="noStrike">
                  <a:solidFill>
                    <a:srgbClr val="ff0000"/>
                  </a:solidFill>
                  <a:latin typeface="Times New Roman"/>
                </a:rPr>
                <a:t> p</a:t>
              </a:r>
              <a:r>
                <a:rPr b="0" i="1" lang="en-GB" sz="55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i="1" lang="en-GB" sz="5500" spc="-1" strike="noStrike">
                  <a:solidFill>
                    <a:srgbClr val="ff0000"/>
                  </a:solidFill>
                  <a:latin typeface="Times New Roman"/>
                </a:rPr>
                <a:t> R</a:t>
              </a:r>
              <a:r>
                <a:rPr b="0" i="1" lang="en-GB" sz="55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GB" sz="5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38720" y="4175280"/>
              <a:ext cx="9604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52920" y="2992320"/>
              <a:ext cx="72252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=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604800" y="60948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ingreso   es endógen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371760" y="2790720"/>
            <a:ext cx="2747880" cy="3114720"/>
          </a:xfrm>
          <a:custGeom>
            <a:avLst/>
            <a:gdLst/>
            <a:ahLst/>
            <a:rect l="l" t="t" r="r" b="b"/>
            <a:pathLst>
              <a:path w="1731" h="1962">
                <a:moveTo>
                  <a:pt x="0" y="0"/>
                </a:moveTo>
                <a:lnTo>
                  <a:pt x="0" y="16"/>
                </a:lnTo>
                <a:lnTo>
                  <a:pt x="1" y="30"/>
                </a:lnTo>
                <a:lnTo>
                  <a:pt x="1" y="40"/>
                </a:lnTo>
                <a:lnTo>
                  <a:pt x="3" y="48"/>
                </a:lnTo>
                <a:lnTo>
                  <a:pt x="3" y="55"/>
                </a:lnTo>
                <a:lnTo>
                  <a:pt x="4" y="59"/>
                </a:lnTo>
                <a:lnTo>
                  <a:pt x="4" y="62"/>
                </a:lnTo>
                <a:lnTo>
                  <a:pt x="6" y="64"/>
                </a:lnTo>
                <a:lnTo>
                  <a:pt x="6" y="66"/>
                </a:lnTo>
                <a:lnTo>
                  <a:pt x="6" y="68"/>
                </a:lnTo>
                <a:lnTo>
                  <a:pt x="6" y="70"/>
                </a:lnTo>
                <a:lnTo>
                  <a:pt x="6" y="72"/>
                </a:lnTo>
                <a:lnTo>
                  <a:pt x="6" y="76"/>
                </a:lnTo>
                <a:lnTo>
                  <a:pt x="7" y="80"/>
                </a:lnTo>
                <a:lnTo>
                  <a:pt x="7" y="86"/>
                </a:lnTo>
                <a:lnTo>
                  <a:pt x="9" y="93"/>
                </a:lnTo>
                <a:lnTo>
                  <a:pt x="10" y="104"/>
                </a:lnTo>
                <a:lnTo>
                  <a:pt x="11" y="117"/>
                </a:lnTo>
                <a:lnTo>
                  <a:pt x="13" y="133"/>
                </a:lnTo>
                <a:lnTo>
                  <a:pt x="16" y="149"/>
                </a:lnTo>
                <a:lnTo>
                  <a:pt x="20" y="169"/>
                </a:lnTo>
                <a:lnTo>
                  <a:pt x="23" y="190"/>
                </a:lnTo>
                <a:lnTo>
                  <a:pt x="27" y="212"/>
                </a:lnTo>
                <a:lnTo>
                  <a:pt x="32" y="234"/>
                </a:lnTo>
                <a:lnTo>
                  <a:pt x="36" y="260"/>
                </a:lnTo>
                <a:lnTo>
                  <a:pt x="41" y="284"/>
                </a:lnTo>
                <a:lnTo>
                  <a:pt x="46" y="310"/>
                </a:lnTo>
                <a:lnTo>
                  <a:pt x="52" y="335"/>
                </a:lnTo>
                <a:lnTo>
                  <a:pt x="56" y="361"/>
                </a:lnTo>
                <a:lnTo>
                  <a:pt x="62" y="386"/>
                </a:lnTo>
                <a:lnTo>
                  <a:pt x="68" y="410"/>
                </a:lnTo>
                <a:lnTo>
                  <a:pt x="73" y="433"/>
                </a:lnTo>
                <a:lnTo>
                  <a:pt x="78" y="458"/>
                </a:lnTo>
                <a:lnTo>
                  <a:pt x="84" y="483"/>
                </a:lnTo>
                <a:lnTo>
                  <a:pt x="89" y="510"/>
                </a:lnTo>
                <a:lnTo>
                  <a:pt x="97" y="535"/>
                </a:lnTo>
                <a:lnTo>
                  <a:pt x="103" y="563"/>
                </a:lnTo>
                <a:lnTo>
                  <a:pt x="110" y="589"/>
                </a:lnTo>
                <a:lnTo>
                  <a:pt x="118" y="616"/>
                </a:lnTo>
                <a:lnTo>
                  <a:pt x="126" y="641"/>
                </a:lnTo>
                <a:lnTo>
                  <a:pt x="132" y="667"/>
                </a:lnTo>
                <a:lnTo>
                  <a:pt x="139" y="692"/>
                </a:lnTo>
                <a:lnTo>
                  <a:pt x="146" y="716"/>
                </a:lnTo>
                <a:lnTo>
                  <a:pt x="154" y="737"/>
                </a:lnTo>
                <a:lnTo>
                  <a:pt x="159" y="758"/>
                </a:lnTo>
                <a:lnTo>
                  <a:pt x="166" y="775"/>
                </a:lnTo>
                <a:lnTo>
                  <a:pt x="172" y="792"/>
                </a:lnTo>
                <a:lnTo>
                  <a:pt x="177" y="804"/>
                </a:lnTo>
                <a:lnTo>
                  <a:pt x="181" y="817"/>
                </a:lnTo>
                <a:lnTo>
                  <a:pt x="187" y="831"/>
                </a:lnTo>
                <a:lnTo>
                  <a:pt x="193" y="847"/>
                </a:lnTo>
                <a:lnTo>
                  <a:pt x="200" y="863"/>
                </a:lnTo>
                <a:lnTo>
                  <a:pt x="207" y="882"/>
                </a:lnTo>
                <a:lnTo>
                  <a:pt x="215" y="900"/>
                </a:lnTo>
                <a:lnTo>
                  <a:pt x="223" y="920"/>
                </a:lnTo>
                <a:lnTo>
                  <a:pt x="232" y="939"/>
                </a:lnTo>
                <a:lnTo>
                  <a:pt x="240" y="960"/>
                </a:lnTo>
                <a:lnTo>
                  <a:pt x="248" y="980"/>
                </a:lnTo>
                <a:lnTo>
                  <a:pt x="256" y="1001"/>
                </a:lnTo>
                <a:lnTo>
                  <a:pt x="265" y="1019"/>
                </a:lnTo>
                <a:lnTo>
                  <a:pt x="273" y="1039"/>
                </a:lnTo>
                <a:lnTo>
                  <a:pt x="281" y="1057"/>
                </a:lnTo>
                <a:lnTo>
                  <a:pt x="288" y="1074"/>
                </a:lnTo>
                <a:lnTo>
                  <a:pt x="296" y="1089"/>
                </a:lnTo>
                <a:lnTo>
                  <a:pt x="302" y="1106"/>
                </a:lnTo>
                <a:lnTo>
                  <a:pt x="309" y="1123"/>
                </a:lnTo>
                <a:lnTo>
                  <a:pt x="316" y="1141"/>
                </a:lnTo>
                <a:lnTo>
                  <a:pt x="324" y="1158"/>
                </a:lnTo>
                <a:lnTo>
                  <a:pt x="332" y="1177"/>
                </a:lnTo>
                <a:lnTo>
                  <a:pt x="341" y="1196"/>
                </a:lnTo>
                <a:lnTo>
                  <a:pt x="349" y="1215"/>
                </a:lnTo>
                <a:lnTo>
                  <a:pt x="358" y="1233"/>
                </a:lnTo>
                <a:lnTo>
                  <a:pt x="366" y="1252"/>
                </a:lnTo>
                <a:lnTo>
                  <a:pt x="374" y="1270"/>
                </a:lnTo>
                <a:lnTo>
                  <a:pt x="381" y="1288"/>
                </a:lnTo>
                <a:lnTo>
                  <a:pt x="390" y="1304"/>
                </a:lnTo>
                <a:lnTo>
                  <a:pt x="396" y="1320"/>
                </a:lnTo>
                <a:lnTo>
                  <a:pt x="403" y="1333"/>
                </a:lnTo>
                <a:lnTo>
                  <a:pt x="409" y="1345"/>
                </a:lnTo>
                <a:lnTo>
                  <a:pt x="414" y="1355"/>
                </a:lnTo>
                <a:lnTo>
                  <a:pt x="420" y="1366"/>
                </a:lnTo>
                <a:lnTo>
                  <a:pt x="425" y="1378"/>
                </a:lnTo>
                <a:lnTo>
                  <a:pt x="432" y="1390"/>
                </a:lnTo>
                <a:lnTo>
                  <a:pt x="439" y="1402"/>
                </a:lnTo>
                <a:lnTo>
                  <a:pt x="447" y="1418"/>
                </a:lnTo>
                <a:lnTo>
                  <a:pt x="456" y="1431"/>
                </a:lnTo>
                <a:lnTo>
                  <a:pt x="465" y="1446"/>
                </a:lnTo>
                <a:lnTo>
                  <a:pt x="474" y="1459"/>
                </a:lnTo>
                <a:lnTo>
                  <a:pt x="484" y="1474"/>
                </a:lnTo>
                <a:lnTo>
                  <a:pt x="493" y="1488"/>
                </a:lnTo>
                <a:lnTo>
                  <a:pt x="502" y="1503"/>
                </a:lnTo>
                <a:lnTo>
                  <a:pt x="512" y="1516"/>
                </a:lnTo>
                <a:lnTo>
                  <a:pt x="522" y="1529"/>
                </a:lnTo>
                <a:lnTo>
                  <a:pt x="531" y="1542"/>
                </a:lnTo>
                <a:lnTo>
                  <a:pt x="539" y="1553"/>
                </a:lnTo>
                <a:lnTo>
                  <a:pt x="548" y="1562"/>
                </a:lnTo>
                <a:lnTo>
                  <a:pt x="556" y="1574"/>
                </a:lnTo>
                <a:lnTo>
                  <a:pt x="566" y="1584"/>
                </a:lnTo>
                <a:lnTo>
                  <a:pt x="575" y="1595"/>
                </a:lnTo>
                <a:lnTo>
                  <a:pt x="586" y="1606"/>
                </a:lnTo>
                <a:lnTo>
                  <a:pt x="597" y="1620"/>
                </a:lnTo>
                <a:lnTo>
                  <a:pt x="608" y="1631"/>
                </a:lnTo>
                <a:lnTo>
                  <a:pt x="619" y="1643"/>
                </a:lnTo>
                <a:lnTo>
                  <a:pt x="632" y="1654"/>
                </a:lnTo>
                <a:lnTo>
                  <a:pt x="643" y="1666"/>
                </a:lnTo>
                <a:lnTo>
                  <a:pt x="654" y="1677"/>
                </a:lnTo>
                <a:lnTo>
                  <a:pt x="665" y="1688"/>
                </a:lnTo>
                <a:lnTo>
                  <a:pt x="677" y="1698"/>
                </a:lnTo>
                <a:lnTo>
                  <a:pt x="687" y="1708"/>
                </a:lnTo>
                <a:lnTo>
                  <a:pt x="698" y="1716"/>
                </a:lnTo>
                <a:lnTo>
                  <a:pt x="707" y="1724"/>
                </a:lnTo>
                <a:lnTo>
                  <a:pt x="716" y="1730"/>
                </a:lnTo>
                <a:lnTo>
                  <a:pt x="724" y="1738"/>
                </a:lnTo>
                <a:lnTo>
                  <a:pt x="732" y="1743"/>
                </a:lnTo>
                <a:lnTo>
                  <a:pt x="740" y="1750"/>
                </a:lnTo>
                <a:lnTo>
                  <a:pt x="749" y="1756"/>
                </a:lnTo>
                <a:lnTo>
                  <a:pt x="756" y="1763"/>
                </a:lnTo>
                <a:lnTo>
                  <a:pt x="766" y="1769"/>
                </a:lnTo>
                <a:lnTo>
                  <a:pt x="773" y="1774"/>
                </a:lnTo>
                <a:lnTo>
                  <a:pt x="782" y="1780"/>
                </a:lnTo>
                <a:lnTo>
                  <a:pt x="790" y="1786"/>
                </a:lnTo>
                <a:lnTo>
                  <a:pt x="798" y="1792"/>
                </a:lnTo>
                <a:lnTo>
                  <a:pt x="804" y="1798"/>
                </a:lnTo>
                <a:lnTo>
                  <a:pt x="811" y="1801"/>
                </a:lnTo>
                <a:lnTo>
                  <a:pt x="816" y="1806"/>
                </a:lnTo>
                <a:lnTo>
                  <a:pt x="822" y="1809"/>
                </a:lnTo>
                <a:lnTo>
                  <a:pt x="826" y="1812"/>
                </a:lnTo>
                <a:lnTo>
                  <a:pt x="830" y="1814"/>
                </a:lnTo>
                <a:lnTo>
                  <a:pt x="832" y="1817"/>
                </a:lnTo>
                <a:lnTo>
                  <a:pt x="836" y="1819"/>
                </a:lnTo>
                <a:lnTo>
                  <a:pt x="841" y="1822"/>
                </a:lnTo>
                <a:lnTo>
                  <a:pt x="846" y="1824"/>
                </a:lnTo>
                <a:lnTo>
                  <a:pt x="851" y="1828"/>
                </a:lnTo>
                <a:lnTo>
                  <a:pt x="857" y="1829"/>
                </a:lnTo>
                <a:lnTo>
                  <a:pt x="862" y="1833"/>
                </a:lnTo>
                <a:lnTo>
                  <a:pt x="870" y="1835"/>
                </a:lnTo>
                <a:lnTo>
                  <a:pt x="876" y="1839"/>
                </a:lnTo>
                <a:lnTo>
                  <a:pt x="883" y="1842"/>
                </a:lnTo>
                <a:lnTo>
                  <a:pt x="890" y="1846"/>
                </a:lnTo>
                <a:lnTo>
                  <a:pt x="897" y="1847"/>
                </a:lnTo>
                <a:lnTo>
                  <a:pt x="903" y="1851"/>
                </a:lnTo>
                <a:lnTo>
                  <a:pt x="910" y="1853"/>
                </a:lnTo>
                <a:lnTo>
                  <a:pt x="917" y="1856"/>
                </a:lnTo>
                <a:lnTo>
                  <a:pt x="924" y="1858"/>
                </a:lnTo>
                <a:lnTo>
                  <a:pt x="930" y="1862"/>
                </a:lnTo>
                <a:lnTo>
                  <a:pt x="937" y="1864"/>
                </a:lnTo>
                <a:lnTo>
                  <a:pt x="946" y="1868"/>
                </a:lnTo>
                <a:lnTo>
                  <a:pt x="955" y="1870"/>
                </a:lnTo>
                <a:lnTo>
                  <a:pt x="964" y="1874"/>
                </a:lnTo>
                <a:lnTo>
                  <a:pt x="975" y="1877"/>
                </a:lnTo>
                <a:lnTo>
                  <a:pt x="987" y="1881"/>
                </a:lnTo>
                <a:lnTo>
                  <a:pt x="998" y="1883"/>
                </a:lnTo>
                <a:lnTo>
                  <a:pt x="1010" y="1887"/>
                </a:lnTo>
                <a:lnTo>
                  <a:pt x="1021" y="1890"/>
                </a:lnTo>
                <a:lnTo>
                  <a:pt x="1032" y="1894"/>
                </a:lnTo>
                <a:lnTo>
                  <a:pt x="1044" y="1897"/>
                </a:lnTo>
                <a:lnTo>
                  <a:pt x="1055" y="1900"/>
                </a:lnTo>
                <a:lnTo>
                  <a:pt x="1066" y="1902"/>
                </a:lnTo>
                <a:lnTo>
                  <a:pt x="1076" y="1906"/>
                </a:lnTo>
                <a:lnTo>
                  <a:pt x="1087" y="1907"/>
                </a:lnTo>
                <a:lnTo>
                  <a:pt x="1096" y="1911"/>
                </a:lnTo>
                <a:lnTo>
                  <a:pt x="1106" y="1913"/>
                </a:lnTo>
                <a:lnTo>
                  <a:pt x="1118" y="1916"/>
                </a:lnTo>
                <a:lnTo>
                  <a:pt x="1130" y="1918"/>
                </a:lnTo>
                <a:lnTo>
                  <a:pt x="1141" y="1922"/>
                </a:lnTo>
                <a:lnTo>
                  <a:pt x="1154" y="1924"/>
                </a:lnTo>
                <a:lnTo>
                  <a:pt x="1168" y="1926"/>
                </a:lnTo>
                <a:lnTo>
                  <a:pt x="1181" y="1928"/>
                </a:lnTo>
                <a:lnTo>
                  <a:pt x="1192" y="1931"/>
                </a:lnTo>
                <a:lnTo>
                  <a:pt x="1206" y="1933"/>
                </a:lnTo>
                <a:lnTo>
                  <a:pt x="1218" y="1935"/>
                </a:lnTo>
                <a:lnTo>
                  <a:pt x="1231" y="1937"/>
                </a:lnTo>
                <a:lnTo>
                  <a:pt x="1241" y="1938"/>
                </a:lnTo>
                <a:lnTo>
                  <a:pt x="1252" y="1940"/>
                </a:lnTo>
                <a:lnTo>
                  <a:pt x="1261" y="1942"/>
                </a:lnTo>
                <a:lnTo>
                  <a:pt x="1270" y="1942"/>
                </a:lnTo>
                <a:lnTo>
                  <a:pt x="1278" y="1944"/>
                </a:lnTo>
                <a:lnTo>
                  <a:pt x="1287" y="1945"/>
                </a:lnTo>
                <a:lnTo>
                  <a:pt x="1298" y="1946"/>
                </a:lnTo>
                <a:lnTo>
                  <a:pt x="1309" y="1946"/>
                </a:lnTo>
                <a:lnTo>
                  <a:pt x="1320" y="1948"/>
                </a:lnTo>
                <a:lnTo>
                  <a:pt x="1334" y="1948"/>
                </a:lnTo>
                <a:lnTo>
                  <a:pt x="1347" y="1950"/>
                </a:lnTo>
                <a:lnTo>
                  <a:pt x="1360" y="1950"/>
                </a:lnTo>
                <a:lnTo>
                  <a:pt x="1373" y="1952"/>
                </a:lnTo>
                <a:lnTo>
                  <a:pt x="1386" y="1952"/>
                </a:lnTo>
                <a:lnTo>
                  <a:pt x="1399" y="1954"/>
                </a:lnTo>
                <a:lnTo>
                  <a:pt x="1412" y="1954"/>
                </a:lnTo>
                <a:lnTo>
                  <a:pt x="1424" y="1956"/>
                </a:lnTo>
                <a:lnTo>
                  <a:pt x="1436" y="1956"/>
                </a:lnTo>
                <a:lnTo>
                  <a:pt x="1447" y="1956"/>
                </a:lnTo>
                <a:lnTo>
                  <a:pt x="1458" y="1956"/>
                </a:lnTo>
                <a:lnTo>
                  <a:pt x="1468" y="1958"/>
                </a:lnTo>
                <a:lnTo>
                  <a:pt x="1479" y="1958"/>
                </a:lnTo>
                <a:lnTo>
                  <a:pt x="1490" y="1958"/>
                </a:lnTo>
                <a:lnTo>
                  <a:pt x="1503" y="1958"/>
                </a:lnTo>
                <a:lnTo>
                  <a:pt x="1515" y="1960"/>
                </a:lnTo>
                <a:lnTo>
                  <a:pt x="1528" y="1960"/>
                </a:lnTo>
                <a:lnTo>
                  <a:pt x="1541" y="1960"/>
                </a:lnTo>
                <a:lnTo>
                  <a:pt x="1555" y="1960"/>
                </a:lnTo>
                <a:lnTo>
                  <a:pt x="1568" y="1961"/>
                </a:lnTo>
                <a:lnTo>
                  <a:pt x="1581" y="1961"/>
                </a:lnTo>
                <a:lnTo>
                  <a:pt x="1592" y="1961"/>
                </a:lnTo>
                <a:lnTo>
                  <a:pt x="1606" y="1961"/>
                </a:lnTo>
                <a:lnTo>
                  <a:pt x="1616" y="1961"/>
                </a:lnTo>
                <a:lnTo>
                  <a:pt x="1628" y="1961"/>
                </a:lnTo>
                <a:lnTo>
                  <a:pt x="1637" y="1961"/>
                </a:lnTo>
                <a:lnTo>
                  <a:pt x="1646" y="1961"/>
                </a:lnTo>
                <a:lnTo>
                  <a:pt x="1652" y="1961"/>
                </a:lnTo>
                <a:lnTo>
                  <a:pt x="1658" y="1961"/>
                </a:lnTo>
                <a:lnTo>
                  <a:pt x="1660" y="1961"/>
                </a:lnTo>
                <a:lnTo>
                  <a:pt x="1664" y="1961"/>
                </a:lnTo>
                <a:lnTo>
                  <a:pt x="1666" y="1961"/>
                </a:lnTo>
                <a:lnTo>
                  <a:pt x="1668" y="1961"/>
                </a:lnTo>
                <a:lnTo>
                  <a:pt x="1670" y="1961"/>
                </a:lnTo>
                <a:lnTo>
                  <a:pt x="1672" y="1961"/>
                </a:lnTo>
                <a:lnTo>
                  <a:pt x="1674" y="1961"/>
                </a:lnTo>
                <a:lnTo>
                  <a:pt x="1677" y="1961"/>
                </a:lnTo>
                <a:lnTo>
                  <a:pt x="1680" y="1961"/>
                </a:lnTo>
                <a:lnTo>
                  <a:pt x="1687" y="1961"/>
                </a:lnTo>
                <a:lnTo>
                  <a:pt x="1694" y="1961"/>
                </a:lnTo>
                <a:lnTo>
                  <a:pt x="1704" y="1961"/>
                </a:lnTo>
                <a:lnTo>
                  <a:pt x="1716" y="1961"/>
                </a:lnTo>
                <a:lnTo>
                  <a:pt x="1730" y="1961"/>
                </a:lnTo>
              </a:path>
            </a:pathLst>
          </a:custGeom>
          <a:noFill/>
          <a:ln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21468600">
            <a:off x="3025800" y="3054240"/>
            <a:ext cx="3002040" cy="3413160"/>
          </a:xfrm>
          <a:custGeom>
            <a:avLst/>
            <a:gdLst/>
            <a:ahLst/>
            <a:rect l="l" t="t" r="r" b="b"/>
            <a:pathLst>
              <a:path w="1891" h="2150">
                <a:moveTo>
                  <a:pt x="0" y="0"/>
                </a:moveTo>
                <a:lnTo>
                  <a:pt x="1" y="18"/>
                </a:lnTo>
                <a:lnTo>
                  <a:pt x="3" y="32"/>
                </a:lnTo>
                <a:lnTo>
                  <a:pt x="3" y="45"/>
                </a:lnTo>
                <a:lnTo>
                  <a:pt x="5" y="53"/>
                </a:lnTo>
                <a:lnTo>
                  <a:pt x="5" y="60"/>
                </a:lnTo>
                <a:lnTo>
                  <a:pt x="5" y="65"/>
                </a:lnTo>
                <a:lnTo>
                  <a:pt x="5" y="69"/>
                </a:lnTo>
                <a:lnTo>
                  <a:pt x="7" y="71"/>
                </a:lnTo>
                <a:lnTo>
                  <a:pt x="7" y="74"/>
                </a:lnTo>
                <a:lnTo>
                  <a:pt x="7" y="76"/>
                </a:lnTo>
                <a:lnTo>
                  <a:pt x="7" y="78"/>
                </a:lnTo>
                <a:lnTo>
                  <a:pt x="8" y="80"/>
                </a:lnTo>
                <a:lnTo>
                  <a:pt x="8" y="84"/>
                </a:lnTo>
                <a:lnTo>
                  <a:pt x="8" y="88"/>
                </a:lnTo>
                <a:lnTo>
                  <a:pt x="9" y="95"/>
                </a:lnTo>
                <a:lnTo>
                  <a:pt x="11" y="103"/>
                </a:lnTo>
                <a:lnTo>
                  <a:pt x="12" y="114"/>
                </a:lnTo>
                <a:lnTo>
                  <a:pt x="14" y="129"/>
                </a:lnTo>
                <a:lnTo>
                  <a:pt x="16" y="146"/>
                </a:lnTo>
                <a:lnTo>
                  <a:pt x="20" y="164"/>
                </a:lnTo>
                <a:lnTo>
                  <a:pt x="23" y="186"/>
                </a:lnTo>
                <a:lnTo>
                  <a:pt x="26" y="208"/>
                </a:lnTo>
                <a:lnTo>
                  <a:pt x="31" y="232"/>
                </a:lnTo>
                <a:lnTo>
                  <a:pt x="36" y="258"/>
                </a:lnTo>
                <a:lnTo>
                  <a:pt x="41" y="285"/>
                </a:lnTo>
                <a:lnTo>
                  <a:pt x="46" y="312"/>
                </a:lnTo>
                <a:lnTo>
                  <a:pt x="52" y="340"/>
                </a:lnTo>
                <a:lnTo>
                  <a:pt x="58" y="368"/>
                </a:lnTo>
                <a:lnTo>
                  <a:pt x="63" y="396"/>
                </a:lnTo>
                <a:lnTo>
                  <a:pt x="69" y="423"/>
                </a:lnTo>
                <a:lnTo>
                  <a:pt x="74" y="450"/>
                </a:lnTo>
                <a:lnTo>
                  <a:pt x="81" y="475"/>
                </a:lnTo>
                <a:lnTo>
                  <a:pt x="86" y="502"/>
                </a:lnTo>
                <a:lnTo>
                  <a:pt x="93" y="529"/>
                </a:lnTo>
                <a:lnTo>
                  <a:pt x="100" y="558"/>
                </a:lnTo>
                <a:lnTo>
                  <a:pt x="107" y="586"/>
                </a:lnTo>
                <a:lnTo>
                  <a:pt x="114" y="616"/>
                </a:lnTo>
                <a:lnTo>
                  <a:pt x="122" y="646"/>
                </a:lnTo>
                <a:lnTo>
                  <a:pt x="130" y="675"/>
                </a:lnTo>
                <a:lnTo>
                  <a:pt x="138" y="703"/>
                </a:lnTo>
                <a:lnTo>
                  <a:pt x="146" y="732"/>
                </a:lnTo>
                <a:lnTo>
                  <a:pt x="153" y="758"/>
                </a:lnTo>
                <a:lnTo>
                  <a:pt x="161" y="785"/>
                </a:lnTo>
                <a:lnTo>
                  <a:pt x="169" y="808"/>
                </a:lnTo>
                <a:lnTo>
                  <a:pt x="175" y="830"/>
                </a:lnTo>
                <a:lnTo>
                  <a:pt x="182" y="850"/>
                </a:lnTo>
                <a:lnTo>
                  <a:pt x="188" y="867"/>
                </a:lnTo>
                <a:lnTo>
                  <a:pt x="194" y="880"/>
                </a:lnTo>
                <a:lnTo>
                  <a:pt x="199" y="894"/>
                </a:lnTo>
                <a:lnTo>
                  <a:pt x="205" y="910"/>
                </a:lnTo>
                <a:lnTo>
                  <a:pt x="212" y="928"/>
                </a:lnTo>
                <a:lnTo>
                  <a:pt x="220" y="945"/>
                </a:lnTo>
                <a:lnTo>
                  <a:pt x="228" y="966"/>
                </a:lnTo>
                <a:lnTo>
                  <a:pt x="236" y="986"/>
                </a:lnTo>
                <a:lnTo>
                  <a:pt x="246" y="1008"/>
                </a:lnTo>
                <a:lnTo>
                  <a:pt x="255" y="1029"/>
                </a:lnTo>
                <a:lnTo>
                  <a:pt x="263" y="1051"/>
                </a:lnTo>
                <a:lnTo>
                  <a:pt x="272" y="1074"/>
                </a:lnTo>
                <a:lnTo>
                  <a:pt x="282" y="1096"/>
                </a:lnTo>
                <a:lnTo>
                  <a:pt x="291" y="1117"/>
                </a:lnTo>
                <a:lnTo>
                  <a:pt x="298" y="1138"/>
                </a:lnTo>
                <a:lnTo>
                  <a:pt x="308" y="1158"/>
                </a:lnTo>
                <a:lnTo>
                  <a:pt x="316" y="1176"/>
                </a:lnTo>
                <a:lnTo>
                  <a:pt x="324" y="1194"/>
                </a:lnTo>
                <a:lnTo>
                  <a:pt x="331" y="1212"/>
                </a:lnTo>
                <a:lnTo>
                  <a:pt x="338" y="1230"/>
                </a:lnTo>
                <a:lnTo>
                  <a:pt x="347" y="1250"/>
                </a:lnTo>
                <a:lnTo>
                  <a:pt x="356" y="1269"/>
                </a:lnTo>
                <a:lnTo>
                  <a:pt x="365" y="1290"/>
                </a:lnTo>
                <a:lnTo>
                  <a:pt x="374" y="1310"/>
                </a:lnTo>
                <a:lnTo>
                  <a:pt x="384" y="1331"/>
                </a:lnTo>
                <a:lnTo>
                  <a:pt x="393" y="1351"/>
                </a:lnTo>
                <a:lnTo>
                  <a:pt x="400" y="1372"/>
                </a:lnTo>
                <a:lnTo>
                  <a:pt x="410" y="1392"/>
                </a:lnTo>
                <a:lnTo>
                  <a:pt x="418" y="1411"/>
                </a:lnTo>
                <a:lnTo>
                  <a:pt x="427" y="1429"/>
                </a:lnTo>
                <a:lnTo>
                  <a:pt x="434" y="1446"/>
                </a:lnTo>
                <a:lnTo>
                  <a:pt x="442" y="1460"/>
                </a:lnTo>
                <a:lnTo>
                  <a:pt x="447" y="1474"/>
                </a:lnTo>
                <a:lnTo>
                  <a:pt x="454" y="1485"/>
                </a:lnTo>
                <a:lnTo>
                  <a:pt x="459" y="1497"/>
                </a:lnTo>
                <a:lnTo>
                  <a:pt x="465" y="1509"/>
                </a:lnTo>
                <a:lnTo>
                  <a:pt x="472" y="1524"/>
                </a:lnTo>
                <a:lnTo>
                  <a:pt x="481" y="1537"/>
                </a:lnTo>
                <a:lnTo>
                  <a:pt x="490" y="1553"/>
                </a:lnTo>
                <a:lnTo>
                  <a:pt x="499" y="1568"/>
                </a:lnTo>
                <a:lnTo>
                  <a:pt x="508" y="1584"/>
                </a:lnTo>
                <a:lnTo>
                  <a:pt x="520" y="1599"/>
                </a:lnTo>
                <a:lnTo>
                  <a:pt x="529" y="1616"/>
                </a:lnTo>
                <a:lnTo>
                  <a:pt x="540" y="1631"/>
                </a:lnTo>
                <a:lnTo>
                  <a:pt x="550" y="1646"/>
                </a:lnTo>
                <a:lnTo>
                  <a:pt x="561" y="1662"/>
                </a:lnTo>
                <a:lnTo>
                  <a:pt x="571" y="1676"/>
                </a:lnTo>
                <a:lnTo>
                  <a:pt x="581" y="1690"/>
                </a:lnTo>
                <a:lnTo>
                  <a:pt x="590" y="1701"/>
                </a:lnTo>
                <a:lnTo>
                  <a:pt x="600" y="1712"/>
                </a:lnTo>
                <a:lnTo>
                  <a:pt x="609" y="1724"/>
                </a:lnTo>
                <a:lnTo>
                  <a:pt x="618" y="1736"/>
                </a:lnTo>
                <a:lnTo>
                  <a:pt x="629" y="1749"/>
                </a:lnTo>
                <a:lnTo>
                  <a:pt x="640" y="1761"/>
                </a:lnTo>
                <a:lnTo>
                  <a:pt x="652" y="1774"/>
                </a:lnTo>
                <a:lnTo>
                  <a:pt x="665" y="1787"/>
                </a:lnTo>
                <a:lnTo>
                  <a:pt x="678" y="1800"/>
                </a:lnTo>
                <a:lnTo>
                  <a:pt x="691" y="1812"/>
                </a:lnTo>
                <a:lnTo>
                  <a:pt x="702" y="1826"/>
                </a:lnTo>
                <a:lnTo>
                  <a:pt x="716" y="1839"/>
                </a:lnTo>
                <a:lnTo>
                  <a:pt x="727" y="1850"/>
                </a:lnTo>
                <a:lnTo>
                  <a:pt x="740" y="1861"/>
                </a:lnTo>
                <a:lnTo>
                  <a:pt x="752" y="1872"/>
                </a:lnTo>
                <a:lnTo>
                  <a:pt x="763" y="1881"/>
                </a:lnTo>
                <a:lnTo>
                  <a:pt x="772" y="1889"/>
                </a:lnTo>
                <a:lnTo>
                  <a:pt x="783" y="1896"/>
                </a:lnTo>
                <a:lnTo>
                  <a:pt x="790" y="1904"/>
                </a:lnTo>
                <a:lnTo>
                  <a:pt x="800" y="1910"/>
                </a:lnTo>
                <a:lnTo>
                  <a:pt x="809" y="1918"/>
                </a:lnTo>
                <a:lnTo>
                  <a:pt x="818" y="1924"/>
                </a:lnTo>
                <a:lnTo>
                  <a:pt x="827" y="1931"/>
                </a:lnTo>
                <a:lnTo>
                  <a:pt x="836" y="1938"/>
                </a:lnTo>
                <a:lnTo>
                  <a:pt x="846" y="1945"/>
                </a:lnTo>
                <a:lnTo>
                  <a:pt x="855" y="1951"/>
                </a:lnTo>
                <a:lnTo>
                  <a:pt x="863" y="1958"/>
                </a:lnTo>
                <a:lnTo>
                  <a:pt x="872" y="1964"/>
                </a:lnTo>
                <a:lnTo>
                  <a:pt x="879" y="1970"/>
                </a:lnTo>
                <a:lnTo>
                  <a:pt x="886" y="1974"/>
                </a:lnTo>
                <a:lnTo>
                  <a:pt x="892" y="1979"/>
                </a:lnTo>
                <a:lnTo>
                  <a:pt x="898" y="1983"/>
                </a:lnTo>
                <a:lnTo>
                  <a:pt x="902" y="1986"/>
                </a:lnTo>
                <a:lnTo>
                  <a:pt x="907" y="1988"/>
                </a:lnTo>
                <a:lnTo>
                  <a:pt x="910" y="1991"/>
                </a:lnTo>
                <a:lnTo>
                  <a:pt x="914" y="1993"/>
                </a:lnTo>
                <a:lnTo>
                  <a:pt x="919" y="1996"/>
                </a:lnTo>
                <a:lnTo>
                  <a:pt x="924" y="1998"/>
                </a:lnTo>
                <a:lnTo>
                  <a:pt x="930" y="2002"/>
                </a:lnTo>
                <a:lnTo>
                  <a:pt x="936" y="2005"/>
                </a:lnTo>
                <a:lnTo>
                  <a:pt x="944" y="2009"/>
                </a:lnTo>
                <a:lnTo>
                  <a:pt x="951" y="2011"/>
                </a:lnTo>
                <a:lnTo>
                  <a:pt x="958" y="2014"/>
                </a:lnTo>
                <a:lnTo>
                  <a:pt x="966" y="2018"/>
                </a:lnTo>
                <a:lnTo>
                  <a:pt x="973" y="2022"/>
                </a:lnTo>
                <a:lnTo>
                  <a:pt x="981" y="2025"/>
                </a:lnTo>
                <a:lnTo>
                  <a:pt x="988" y="2029"/>
                </a:lnTo>
                <a:lnTo>
                  <a:pt x="996" y="2032"/>
                </a:lnTo>
                <a:lnTo>
                  <a:pt x="1002" y="2034"/>
                </a:lnTo>
                <a:lnTo>
                  <a:pt x="1010" y="2036"/>
                </a:lnTo>
                <a:lnTo>
                  <a:pt x="1017" y="2040"/>
                </a:lnTo>
                <a:lnTo>
                  <a:pt x="1025" y="2043"/>
                </a:lnTo>
                <a:lnTo>
                  <a:pt x="1034" y="2047"/>
                </a:lnTo>
                <a:lnTo>
                  <a:pt x="1044" y="2049"/>
                </a:lnTo>
                <a:lnTo>
                  <a:pt x="1055" y="2053"/>
                </a:lnTo>
                <a:lnTo>
                  <a:pt x="1066" y="2056"/>
                </a:lnTo>
                <a:lnTo>
                  <a:pt x="1078" y="2060"/>
                </a:lnTo>
                <a:lnTo>
                  <a:pt x="1091" y="2063"/>
                </a:lnTo>
                <a:lnTo>
                  <a:pt x="1103" y="2067"/>
                </a:lnTo>
                <a:lnTo>
                  <a:pt x="1116" y="2071"/>
                </a:lnTo>
                <a:lnTo>
                  <a:pt x="1128" y="2074"/>
                </a:lnTo>
                <a:lnTo>
                  <a:pt x="1142" y="2078"/>
                </a:lnTo>
                <a:lnTo>
                  <a:pt x="1153" y="2082"/>
                </a:lnTo>
                <a:lnTo>
                  <a:pt x="1165" y="2085"/>
                </a:lnTo>
                <a:lnTo>
                  <a:pt x="1176" y="2088"/>
                </a:lnTo>
                <a:lnTo>
                  <a:pt x="1188" y="2090"/>
                </a:lnTo>
                <a:lnTo>
                  <a:pt x="1198" y="2094"/>
                </a:lnTo>
                <a:lnTo>
                  <a:pt x="1209" y="2096"/>
                </a:lnTo>
                <a:lnTo>
                  <a:pt x="1222" y="2100"/>
                </a:lnTo>
                <a:lnTo>
                  <a:pt x="1234" y="2101"/>
                </a:lnTo>
                <a:lnTo>
                  <a:pt x="1248" y="2105"/>
                </a:lnTo>
                <a:lnTo>
                  <a:pt x="1262" y="2107"/>
                </a:lnTo>
                <a:lnTo>
                  <a:pt x="1275" y="2110"/>
                </a:lnTo>
                <a:lnTo>
                  <a:pt x="1290" y="2112"/>
                </a:lnTo>
                <a:lnTo>
                  <a:pt x="1303" y="2116"/>
                </a:lnTo>
                <a:lnTo>
                  <a:pt x="1318" y="2118"/>
                </a:lnTo>
                <a:lnTo>
                  <a:pt x="1331" y="2120"/>
                </a:lnTo>
                <a:lnTo>
                  <a:pt x="1344" y="2122"/>
                </a:lnTo>
                <a:lnTo>
                  <a:pt x="1356" y="2124"/>
                </a:lnTo>
                <a:lnTo>
                  <a:pt x="1368" y="2126"/>
                </a:lnTo>
                <a:lnTo>
                  <a:pt x="1378" y="2128"/>
                </a:lnTo>
                <a:lnTo>
                  <a:pt x="1388" y="2128"/>
                </a:lnTo>
                <a:lnTo>
                  <a:pt x="1397" y="2130"/>
                </a:lnTo>
                <a:lnTo>
                  <a:pt x="1407" y="2131"/>
                </a:lnTo>
                <a:lnTo>
                  <a:pt x="1418" y="2133"/>
                </a:lnTo>
                <a:lnTo>
                  <a:pt x="1431" y="2133"/>
                </a:lnTo>
                <a:lnTo>
                  <a:pt x="1444" y="2135"/>
                </a:lnTo>
                <a:lnTo>
                  <a:pt x="1457" y="2136"/>
                </a:lnTo>
                <a:lnTo>
                  <a:pt x="1471" y="2138"/>
                </a:lnTo>
                <a:lnTo>
                  <a:pt x="1486" y="2138"/>
                </a:lnTo>
                <a:lnTo>
                  <a:pt x="1499" y="2139"/>
                </a:lnTo>
                <a:lnTo>
                  <a:pt x="1514" y="2139"/>
                </a:lnTo>
                <a:lnTo>
                  <a:pt x="1528" y="2141"/>
                </a:lnTo>
                <a:lnTo>
                  <a:pt x="1543" y="2141"/>
                </a:lnTo>
                <a:lnTo>
                  <a:pt x="1556" y="2143"/>
                </a:lnTo>
                <a:lnTo>
                  <a:pt x="1569" y="2143"/>
                </a:lnTo>
                <a:lnTo>
                  <a:pt x="1581" y="2144"/>
                </a:lnTo>
                <a:lnTo>
                  <a:pt x="1593" y="2144"/>
                </a:lnTo>
                <a:lnTo>
                  <a:pt x="1604" y="2146"/>
                </a:lnTo>
                <a:lnTo>
                  <a:pt x="1616" y="2146"/>
                </a:lnTo>
                <a:lnTo>
                  <a:pt x="1628" y="2146"/>
                </a:lnTo>
                <a:lnTo>
                  <a:pt x="1642" y="2146"/>
                </a:lnTo>
                <a:lnTo>
                  <a:pt x="1655" y="2148"/>
                </a:lnTo>
                <a:lnTo>
                  <a:pt x="1670" y="2148"/>
                </a:lnTo>
                <a:lnTo>
                  <a:pt x="1684" y="2148"/>
                </a:lnTo>
                <a:lnTo>
                  <a:pt x="1700" y="2148"/>
                </a:lnTo>
                <a:lnTo>
                  <a:pt x="1712" y="2149"/>
                </a:lnTo>
                <a:lnTo>
                  <a:pt x="1728" y="2149"/>
                </a:lnTo>
                <a:lnTo>
                  <a:pt x="1741" y="2149"/>
                </a:lnTo>
                <a:lnTo>
                  <a:pt x="1754" y="2149"/>
                </a:lnTo>
                <a:lnTo>
                  <a:pt x="1766" y="2149"/>
                </a:lnTo>
                <a:lnTo>
                  <a:pt x="1778" y="2149"/>
                </a:lnTo>
                <a:lnTo>
                  <a:pt x="1788" y="2149"/>
                </a:lnTo>
                <a:lnTo>
                  <a:pt x="1799" y="2149"/>
                </a:lnTo>
                <a:lnTo>
                  <a:pt x="1806" y="2149"/>
                </a:lnTo>
                <a:lnTo>
                  <a:pt x="1811" y="2149"/>
                </a:lnTo>
                <a:lnTo>
                  <a:pt x="1815" y="2149"/>
                </a:lnTo>
                <a:lnTo>
                  <a:pt x="1819" y="2149"/>
                </a:lnTo>
                <a:lnTo>
                  <a:pt x="1820" y="2149"/>
                </a:lnTo>
                <a:lnTo>
                  <a:pt x="1822" y="2149"/>
                </a:lnTo>
                <a:lnTo>
                  <a:pt x="1824" y="2149"/>
                </a:lnTo>
                <a:lnTo>
                  <a:pt x="1827" y="2149"/>
                </a:lnTo>
                <a:lnTo>
                  <a:pt x="1829" y="2149"/>
                </a:lnTo>
                <a:lnTo>
                  <a:pt x="1832" y="2149"/>
                </a:lnTo>
                <a:lnTo>
                  <a:pt x="1836" y="2149"/>
                </a:lnTo>
                <a:lnTo>
                  <a:pt x="1843" y="2149"/>
                </a:lnTo>
                <a:lnTo>
                  <a:pt x="1850" y="2149"/>
                </a:lnTo>
                <a:lnTo>
                  <a:pt x="1861" y="2149"/>
                </a:lnTo>
                <a:lnTo>
                  <a:pt x="1874" y="2149"/>
                </a:lnTo>
                <a:lnTo>
                  <a:pt x="1890" y="2149"/>
                </a:lnTo>
              </a:path>
            </a:pathLst>
          </a:custGeom>
          <a:noFill/>
          <a:ln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09880" y="2664000"/>
            <a:ext cx="2405160" cy="2724120"/>
          </a:xfrm>
          <a:custGeom>
            <a:avLst/>
            <a:gdLst/>
            <a:ahLst/>
            <a:rect l="l" t="t" r="r" b="b"/>
            <a:pathLst>
              <a:path w="1515" h="1716">
                <a:moveTo>
                  <a:pt x="0" y="0"/>
                </a:moveTo>
                <a:lnTo>
                  <a:pt x="0" y="15"/>
                </a:lnTo>
                <a:lnTo>
                  <a:pt x="2" y="26"/>
                </a:lnTo>
                <a:lnTo>
                  <a:pt x="2" y="36"/>
                </a:lnTo>
                <a:lnTo>
                  <a:pt x="4" y="42"/>
                </a:lnTo>
                <a:lnTo>
                  <a:pt x="4" y="48"/>
                </a:lnTo>
                <a:lnTo>
                  <a:pt x="4" y="52"/>
                </a:lnTo>
                <a:lnTo>
                  <a:pt x="4" y="55"/>
                </a:lnTo>
                <a:lnTo>
                  <a:pt x="6" y="57"/>
                </a:lnTo>
                <a:lnTo>
                  <a:pt x="6" y="58"/>
                </a:lnTo>
                <a:lnTo>
                  <a:pt x="6" y="60"/>
                </a:lnTo>
                <a:lnTo>
                  <a:pt x="6" y="62"/>
                </a:lnTo>
                <a:lnTo>
                  <a:pt x="6" y="64"/>
                </a:lnTo>
                <a:lnTo>
                  <a:pt x="6" y="68"/>
                </a:lnTo>
                <a:lnTo>
                  <a:pt x="7" y="71"/>
                </a:lnTo>
                <a:lnTo>
                  <a:pt x="7" y="76"/>
                </a:lnTo>
                <a:lnTo>
                  <a:pt x="9" y="82"/>
                </a:lnTo>
                <a:lnTo>
                  <a:pt x="9" y="92"/>
                </a:lnTo>
                <a:lnTo>
                  <a:pt x="10" y="104"/>
                </a:lnTo>
                <a:lnTo>
                  <a:pt x="12" y="117"/>
                </a:lnTo>
                <a:lnTo>
                  <a:pt x="15" y="132"/>
                </a:lnTo>
                <a:lnTo>
                  <a:pt x="17" y="149"/>
                </a:lnTo>
                <a:lnTo>
                  <a:pt x="21" y="166"/>
                </a:lnTo>
                <a:lnTo>
                  <a:pt x="25" y="186"/>
                </a:lnTo>
                <a:lnTo>
                  <a:pt x="29" y="206"/>
                </a:lnTo>
                <a:lnTo>
                  <a:pt x="33" y="228"/>
                </a:lnTo>
                <a:lnTo>
                  <a:pt x="37" y="250"/>
                </a:lnTo>
                <a:lnTo>
                  <a:pt x="40" y="272"/>
                </a:lnTo>
                <a:lnTo>
                  <a:pt x="46" y="294"/>
                </a:lnTo>
                <a:lnTo>
                  <a:pt x="50" y="316"/>
                </a:lnTo>
                <a:lnTo>
                  <a:pt x="56" y="338"/>
                </a:lnTo>
                <a:lnTo>
                  <a:pt x="59" y="359"/>
                </a:lnTo>
                <a:lnTo>
                  <a:pt x="65" y="379"/>
                </a:lnTo>
                <a:lnTo>
                  <a:pt x="68" y="401"/>
                </a:lnTo>
                <a:lnTo>
                  <a:pt x="74" y="422"/>
                </a:lnTo>
                <a:lnTo>
                  <a:pt x="79" y="445"/>
                </a:lnTo>
                <a:lnTo>
                  <a:pt x="85" y="468"/>
                </a:lnTo>
                <a:lnTo>
                  <a:pt x="90" y="492"/>
                </a:lnTo>
                <a:lnTo>
                  <a:pt x="97" y="515"/>
                </a:lnTo>
                <a:lnTo>
                  <a:pt x="103" y="539"/>
                </a:lnTo>
                <a:lnTo>
                  <a:pt x="110" y="562"/>
                </a:lnTo>
                <a:lnTo>
                  <a:pt x="116" y="584"/>
                </a:lnTo>
                <a:lnTo>
                  <a:pt x="122" y="606"/>
                </a:lnTo>
                <a:lnTo>
                  <a:pt x="128" y="627"/>
                </a:lnTo>
                <a:lnTo>
                  <a:pt x="135" y="645"/>
                </a:lnTo>
                <a:lnTo>
                  <a:pt x="140" y="663"/>
                </a:lnTo>
                <a:lnTo>
                  <a:pt x="146" y="679"/>
                </a:lnTo>
                <a:lnTo>
                  <a:pt x="150" y="692"/>
                </a:lnTo>
                <a:lnTo>
                  <a:pt x="156" y="702"/>
                </a:lnTo>
                <a:lnTo>
                  <a:pt x="160" y="714"/>
                </a:lnTo>
                <a:lnTo>
                  <a:pt x="164" y="727"/>
                </a:lnTo>
                <a:lnTo>
                  <a:pt x="170" y="741"/>
                </a:lnTo>
                <a:lnTo>
                  <a:pt x="176" y="755"/>
                </a:lnTo>
                <a:lnTo>
                  <a:pt x="182" y="771"/>
                </a:lnTo>
                <a:lnTo>
                  <a:pt x="189" y="787"/>
                </a:lnTo>
                <a:lnTo>
                  <a:pt x="196" y="805"/>
                </a:lnTo>
                <a:lnTo>
                  <a:pt x="204" y="822"/>
                </a:lnTo>
                <a:lnTo>
                  <a:pt x="211" y="840"/>
                </a:lnTo>
                <a:lnTo>
                  <a:pt x="218" y="857"/>
                </a:lnTo>
                <a:lnTo>
                  <a:pt x="226" y="875"/>
                </a:lnTo>
                <a:lnTo>
                  <a:pt x="233" y="892"/>
                </a:lnTo>
                <a:lnTo>
                  <a:pt x="239" y="908"/>
                </a:lnTo>
                <a:lnTo>
                  <a:pt x="246" y="925"/>
                </a:lnTo>
                <a:lnTo>
                  <a:pt x="253" y="940"/>
                </a:lnTo>
                <a:lnTo>
                  <a:pt x="260" y="953"/>
                </a:lnTo>
                <a:lnTo>
                  <a:pt x="266" y="968"/>
                </a:lnTo>
                <a:lnTo>
                  <a:pt x="272" y="982"/>
                </a:lnTo>
                <a:lnTo>
                  <a:pt x="278" y="998"/>
                </a:lnTo>
                <a:lnTo>
                  <a:pt x="285" y="1013"/>
                </a:lnTo>
                <a:lnTo>
                  <a:pt x="292" y="1030"/>
                </a:lnTo>
                <a:lnTo>
                  <a:pt x="300" y="1046"/>
                </a:lnTo>
                <a:lnTo>
                  <a:pt x="307" y="1063"/>
                </a:lnTo>
                <a:lnTo>
                  <a:pt x="314" y="1079"/>
                </a:lnTo>
                <a:lnTo>
                  <a:pt x="320" y="1096"/>
                </a:lnTo>
                <a:lnTo>
                  <a:pt x="328" y="1111"/>
                </a:lnTo>
                <a:lnTo>
                  <a:pt x="334" y="1126"/>
                </a:lnTo>
                <a:lnTo>
                  <a:pt x="342" y="1140"/>
                </a:lnTo>
                <a:lnTo>
                  <a:pt x="348" y="1154"/>
                </a:lnTo>
                <a:lnTo>
                  <a:pt x="354" y="1166"/>
                </a:lnTo>
                <a:lnTo>
                  <a:pt x="358" y="1177"/>
                </a:lnTo>
                <a:lnTo>
                  <a:pt x="364" y="1186"/>
                </a:lnTo>
                <a:lnTo>
                  <a:pt x="368" y="1196"/>
                </a:lnTo>
                <a:lnTo>
                  <a:pt x="372" y="1205"/>
                </a:lnTo>
                <a:lnTo>
                  <a:pt x="378" y="1216"/>
                </a:lnTo>
                <a:lnTo>
                  <a:pt x="385" y="1227"/>
                </a:lnTo>
                <a:lnTo>
                  <a:pt x="392" y="1240"/>
                </a:lnTo>
                <a:lnTo>
                  <a:pt x="399" y="1252"/>
                </a:lnTo>
                <a:lnTo>
                  <a:pt x="407" y="1265"/>
                </a:lnTo>
                <a:lnTo>
                  <a:pt x="416" y="1276"/>
                </a:lnTo>
                <a:lnTo>
                  <a:pt x="424" y="1290"/>
                </a:lnTo>
                <a:lnTo>
                  <a:pt x="433" y="1302"/>
                </a:lnTo>
                <a:lnTo>
                  <a:pt x="440" y="1315"/>
                </a:lnTo>
                <a:lnTo>
                  <a:pt x="450" y="1326"/>
                </a:lnTo>
                <a:lnTo>
                  <a:pt x="457" y="1338"/>
                </a:lnTo>
                <a:lnTo>
                  <a:pt x="465" y="1348"/>
                </a:lnTo>
                <a:lnTo>
                  <a:pt x="473" y="1358"/>
                </a:lnTo>
                <a:lnTo>
                  <a:pt x="481" y="1366"/>
                </a:lnTo>
                <a:lnTo>
                  <a:pt x="488" y="1376"/>
                </a:lnTo>
                <a:lnTo>
                  <a:pt x="495" y="1385"/>
                </a:lnTo>
                <a:lnTo>
                  <a:pt x="504" y="1395"/>
                </a:lnTo>
                <a:lnTo>
                  <a:pt x="514" y="1404"/>
                </a:lnTo>
                <a:lnTo>
                  <a:pt x="523" y="1416"/>
                </a:lnTo>
                <a:lnTo>
                  <a:pt x="534" y="1426"/>
                </a:lnTo>
                <a:lnTo>
                  <a:pt x="543" y="1437"/>
                </a:lnTo>
                <a:lnTo>
                  <a:pt x="554" y="1446"/>
                </a:lnTo>
                <a:lnTo>
                  <a:pt x="563" y="1458"/>
                </a:lnTo>
                <a:lnTo>
                  <a:pt x="574" y="1467"/>
                </a:lnTo>
                <a:lnTo>
                  <a:pt x="583" y="1476"/>
                </a:lnTo>
                <a:lnTo>
                  <a:pt x="594" y="1485"/>
                </a:lnTo>
                <a:lnTo>
                  <a:pt x="602" y="1494"/>
                </a:lnTo>
                <a:lnTo>
                  <a:pt x="612" y="1501"/>
                </a:lnTo>
                <a:lnTo>
                  <a:pt x="619" y="1508"/>
                </a:lnTo>
                <a:lnTo>
                  <a:pt x="628" y="1513"/>
                </a:lnTo>
                <a:lnTo>
                  <a:pt x="634" y="1519"/>
                </a:lnTo>
                <a:lnTo>
                  <a:pt x="641" y="1524"/>
                </a:lnTo>
                <a:lnTo>
                  <a:pt x="649" y="1530"/>
                </a:lnTo>
                <a:lnTo>
                  <a:pt x="656" y="1535"/>
                </a:lnTo>
                <a:lnTo>
                  <a:pt x="663" y="1540"/>
                </a:lnTo>
                <a:lnTo>
                  <a:pt x="671" y="1546"/>
                </a:lnTo>
                <a:lnTo>
                  <a:pt x="678" y="1552"/>
                </a:lnTo>
                <a:lnTo>
                  <a:pt x="686" y="1557"/>
                </a:lnTo>
                <a:lnTo>
                  <a:pt x="691" y="1562"/>
                </a:lnTo>
                <a:lnTo>
                  <a:pt x="698" y="1567"/>
                </a:lnTo>
                <a:lnTo>
                  <a:pt x="704" y="1572"/>
                </a:lnTo>
                <a:lnTo>
                  <a:pt x="710" y="1576"/>
                </a:lnTo>
                <a:lnTo>
                  <a:pt x="714" y="1579"/>
                </a:lnTo>
                <a:lnTo>
                  <a:pt x="719" y="1582"/>
                </a:lnTo>
                <a:lnTo>
                  <a:pt x="723" y="1585"/>
                </a:lnTo>
                <a:lnTo>
                  <a:pt x="727" y="1586"/>
                </a:lnTo>
                <a:lnTo>
                  <a:pt x="729" y="1589"/>
                </a:lnTo>
                <a:lnTo>
                  <a:pt x="732" y="1591"/>
                </a:lnTo>
                <a:lnTo>
                  <a:pt x="736" y="1593"/>
                </a:lnTo>
                <a:lnTo>
                  <a:pt x="740" y="1595"/>
                </a:lnTo>
                <a:lnTo>
                  <a:pt x="745" y="1598"/>
                </a:lnTo>
                <a:lnTo>
                  <a:pt x="750" y="1600"/>
                </a:lnTo>
                <a:lnTo>
                  <a:pt x="756" y="1604"/>
                </a:lnTo>
                <a:lnTo>
                  <a:pt x="762" y="1605"/>
                </a:lnTo>
                <a:lnTo>
                  <a:pt x="768" y="1609"/>
                </a:lnTo>
                <a:lnTo>
                  <a:pt x="773" y="1611"/>
                </a:lnTo>
                <a:lnTo>
                  <a:pt x="779" y="1615"/>
                </a:lnTo>
                <a:lnTo>
                  <a:pt x="786" y="1617"/>
                </a:lnTo>
                <a:lnTo>
                  <a:pt x="791" y="1620"/>
                </a:lnTo>
                <a:lnTo>
                  <a:pt x="797" y="1622"/>
                </a:lnTo>
                <a:lnTo>
                  <a:pt x="802" y="1624"/>
                </a:lnTo>
                <a:lnTo>
                  <a:pt x="809" y="1625"/>
                </a:lnTo>
                <a:lnTo>
                  <a:pt x="814" y="1629"/>
                </a:lnTo>
                <a:lnTo>
                  <a:pt x="820" y="1631"/>
                </a:lnTo>
                <a:lnTo>
                  <a:pt x="828" y="1634"/>
                </a:lnTo>
                <a:lnTo>
                  <a:pt x="837" y="1636"/>
                </a:lnTo>
                <a:lnTo>
                  <a:pt x="845" y="1640"/>
                </a:lnTo>
                <a:lnTo>
                  <a:pt x="854" y="1642"/>
                </a:lnTo>
                <a:lnTo>
                  <a:pt x="864" y="1645"/>
                </a:lnTo>
                <a:lnTo>
                  <a:pt x="874" y="1647"/>
                </a:lnTo>
                <a:lnTo>
                  <a:pt x="884" y="1651"/>
                </a:lnTo>
                <a:lnTo>
                  <a:pt x="894" y="1654"/>
                </a:lnTo>
                <a:lnTo>
                  <a:pt x="903" y="1658"/>
                </a:lnTo>
                <a:lnTo>
                  <a:pt x="914" y="1660"/>
                </a:lnTo>
                <a:lnTo>
                  <a:pt x="924" y="1664"/>
                </a:lnTo>
                <a:lnTo>
                  <a:pt x="933" y="1665"/>
                </a:lnTo>
                <a:lnTo>
                  <a:pt x="942" y="1667"/>
                </a:lnTo>
                <a:lnTo>
                  <a:pt x="952" y="1669"/>
                </a:lnTo>
                <a:lnTo>
                  <a:pt x="959" y="1672"/>
                </a:lnTo>
                <a:lnTo>
                  <a:pt x="968" y="1674"/>
                </a:lnTo>
                <a:lnTo>
                  <a:pt x="978" y="1676"/>
                </a:lnTo>
                <a:lnTo>
                  <a:pt x="988" y="1678"/>
                </a:lnTo>
                <a:lnTo>
                  <a:pt x="999" y="1680"/>
                </a:lnTo>
                <a:lnTo>
                  <a:pt x="1010" y="1682"/>
                </a:lnTo>
                <a:lnTo>
                  <a:pt x="1021" y="1684"/>
                </a:lnTo>
                <a:lnTo>
                  <a:pt x="1033" y="1686"/>
                </a:lnTo>
                <a:lnTo>
                  <a:pt x="1044" y="1688"/>
                </a:lnTo>
                <a:lnTo>
                  <a:pt x="1055" y="1690"/>
                </a:lnTo>
                <a:lnTo>
                  <a:pt x="1065" y="1692"/>
                </a:lnTo>
                <a:lnTo>
                  <a:pt x="1076" y="1694"/>
                </a:lnTo>
                <a:lnTo>
                  <a:pt x="1086" y="1696"/>
                </a:lnTo>
                <a:lnTo>
                  <a:pt x="1095" y="1697"/>
                </a:lnTo>
                <a:lnTo>
                  <a:pt x="1103" y="1699"/>
                </a:lnTo>
                <a:lnTo>
                  <a:pt x="1112" y="1699"/>
                </a:lnTo>
                <a:lnTo>
                  <a:pt x="1119" y="1701"/>
                </a:lnTo>
                <a:lnTo>
                  <a:pt x="1127" y="1701"/>
                </a:lnTo>
                <a:lnTo>
                  <a:pt x="1136" y="1703"/>
                </a:lnTo>
                <a:lnTo>
                  <a:pt x="1146" y="1703"/>
                </a:lnTo>
                <a:lnTo>
                  <a:pt x="1156" y="1705"/>
                </a:lnTo>
                <a:lnTo>
                  <a:pt x="1167" y="1705"/>
                </a:lnTo>
                <a:lnTo>
                  <a:pt x="1179" y="1706"/>
                </a:lnTo>
                <a:lnTo>
                  <a:pt x="1190" y="1706"/>
                </a:lnTo>
                <a:lnTo>
                  <a:pt x="1202" y="1708"/>
                </a:lnTo>
                <a:lnTo>
                  <a:pt x="1213" y="1708"/>
                </a:lnTo>
                <a:lnTo>
                  <a:pt x="1224" y="1710"/>
                </a:lnTo>
                <a:lnTo>
                  <a:pt x="1236" y="1710"/>
                </a:lnTo>
                <a:lnTo>
                  <a:pt x="1246" y="1712"/>
                </a:lnTo>
                <a:lnTo>
                  <a:pt x="1257" y="1712"/>
                </a:lnTo>
                <a:lnTo>
                  <a:pt x="1267" y="1712"/>
                </a:lnTo>
                <a:lnTo>
                  <a:pt x="1276" y="1712"/>
                </a:lnTo>
                <a:lnTo>
                  <a:pt x="1285" y="1713"/>
                </a:lnTo>
                <a:lnTo>
                  <a:pt x="1294" y="1713"/>
                </a:lnTo>
                <a:lnTo>
                  <a:pt x="1304" y="1713"/>
                </a:lnTo>
                <a:lnTo>
                  <a:pt x="1315" y="1713"/>
                </a:lnTo>
                <a:lnTo>
                  <a:pt x="1326" y="1714"/>
                </a:lnTo>
                <a:lnTo>
                  <a:pt x="1338" y="1714"/>
                </a:lnTo>
                <a:lnTo>
                  <a:pt x="1349" y="1714"/>
                </a:lnTo>
                <a:lnTo>
                  <a:pt x="1362" y="1714"/>
                </a:lnTo>
                <a:lnTo>
                  <a:pt x="1372" y="1715"/>
                </a:lnTo>
                <a:lnTo>
                  <a:pt x="1383" y="1715"/>
                </a:lnTo>
                <a:lnTo>
                  <a:pt x="1394" y="1715"/>
                </a:lnTo>
                <a:lnTo>
                  <a:pt x="1405" y="1715"/>
                </a:lnTo>
                <a:lnTo>
                  <a:pt x="1414" y="1715"/>
                </a:lnTo>
                <a:lnTo>
                  <a:pt x="1424" y="1715"/>
                </a:lnTo>
                <a:lnTo>
                  <a:pt x="1432" y="1715"/>
                </a:lnTo>
                <a:lnTo>
                  <a:pt x="1441" y="1715"/>
                </a:lnTo>
                <a:lnTo>
                  <a:pt x="1446" y="1715"/>
                </a:lnTo>
                <a:lnTo>
                  <a:pt x="1451" y="1715"/>
                </a:lnTo>
                <a:lnTo>
                  <a:pt x="1453" y="1715"/>
                </a:lnTo>
                <a:lnTo>
                  <a:pt x="1456" y="1715"/>
                </a:lnTo>
                <a:lnTo>
                  <a:pt x="1458" y="1715"/>
                </a:lnTo>
                <a:lnTo>
                  <a:pt x="1460" y="1715"/>
                </a:lnTo>
                <a:lnTo>
                  <a:pt x="1461" y="1715"/>
                </a:lnTo>
                <a:lnTo>
                  <a:pt x="1463" y="1715"/>
                </a:lnTo>
                <a:lnTo>
                  <a:pt x="1465" y="1715"/>
                </a:lnTo>
                <a:lnTo>
                  <a:pt x="1468" y="1715"/>
                </a:lnTo>
                <a:lnTo>
                  <a:pt x="1471" y="1715"/>
                </a:lnTo>
                <a:lnTo>
                  <a:pt x="1476" y="1715"/>
                </a:lnTo>
                <a:lnTo>
                  <a:pt x="1482" y="1715"/>
                </a:lnTo>
                <a:lnTo>
                  <a:pt x="1491" y="1715"/>
                </a:lnTo>
                <a:lnTo>
                  <a:pt x="1501" y="1715"/>
                </a:lnTo>
                <a:lnTo>
                  <a:pt x="1514" y="1715"/>
                </a:lnTo>
              </a:path>
            </a:pathLst>
          </a:custGeom>
          <a:noFill/>
          <a:ln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79560" y="228600"/>
            <a:ext cx="907884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equilibrio del consumidor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05320" y="4800600"/>
            <a:ext cx="1699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228600"/>
            <a:ext cx="952524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debiera ser familiar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0" y="2349360"/>
            <a:ext cx="5553720" cy="2254680"/>
          </a:xfrm>
          <a:prstGeom prst="wedgeEllipseCallout">
            <a:avLst>
              <a:gd name="adj1" fmla="val -66939"/>
              <a:gd name="adj2" fmla="val 74134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ff0000"/>
                </a:solidFill>
                <a:latin typeface="Brush738 BT"/>
              </a:rPr>
              <a:t>Iguales CPO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1" lang="en-GB" sz="4900" spc="-1" strike="noStrike">
                <a:solidFill>
                  <a:srgbClr val="ff0000"/>
                </a:solidFill>
                <a:latin typeface="Brush738 BT"/>
              </a:rPr>
              <a:t>que an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71920" y="3943440"/>
            <a:ext cx="0" cy="107640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43200" y="3886200"/>
            <a:ext cx="228600" cy="2895480"/>
          </a:xfrm>
          <a:custGeom>
            <a:avLst/>
            <a:gdLst/>
            <a:ahLst/>
            <a:rect l="l" t="t" r="r" b="b"/>
            <a:pathLst>
              <a:path w="118" h="1761">
                <a:moveTo>
                  <a:pt x="0" y="0"/>
                </a:moveTo>
                <a:lnTo>
                  <a:pt x="117" y="0"/>
                </a:lnTo>
                <a:lnTo>
                  <a:pt x="117" y="1760"/>
                </a:lnTo>
              </a:path>
            </a:pathLst>
          </a:custGeom>
          <a:noFill/>
          <a:ln w="31680">
            <a:solidFill>
              <a:srgbClr val="ff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5105520"/>
            <a:ext cx="761760" cy="1676160"/>
          </a:xfrm>
          <a:custGeom>
            <a:avLst/>
            <a:gdLst/>
            <a:ahLst/>
            <a:rect l="l" t="t" r="r" b="b"/>
            <a:pathLst>
              <a:path w="446" h="1112">
                <a:moveTo>
                  <a:pt x="0" y="0"/>
                </a:moveTo>
                <a:lnTo>
                  <a:pt x="445" y="0"/>
                </a:lnTo>
                <a:lnTo>
                  <a:pt x="445" y="1111"/>
                </a:lnTo>
              </a:path>
            </a:pathLst>
          </a:custGeom>
          <a:noFill/>
          <a:ln w="31680">
            <a:solidFill>
              <a:srgbClr val="ff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014640" y="6989760"/>
            <a:ext cx="4539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4800" y="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u  interpretación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925560"/>
            <a:ext cx="2666880" cy="2531520"/>
          </a:xfrm>
          <a:prstGeom prst="wedgeRectCallout">
            <a:avLst>
              <a:gd name="adj1" fmla="val 39805"/>
              <a:gd name="adj2" fmla="val 103245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l consumidor vende parte de sus bienes 2 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" y="3592800"/>
            <a:ext cx="2514600" cy="2531520"/>
          </a:xfrm>
          <a:prstGeom prst="wedgeRectCallout">
            <a:avLst>
              <a:gd name="adj1" fmla="val 79972"/>
              <a:gd name="adj2" fmla="val 75805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 modo de comprar más del bie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94485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8000"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mos ahora el punto de equilibrio...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03800" y="2286000"/>
            <a:ext cx="4854600" cy="2379600"/>
          </a:xfrm>
          <a:prstGeom prst="rect">
            <a:avLst/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marL="155520" indent="-155520">
              <a:spcBef>
                <a:spcPts val="1500"/>
              </a:spcBef>
              <a:buClr>
                <a:srgbClr val="ff0000"/>
              </a:buClr>
              <a:buSzPct val="4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endero de equilibrio  de canastas de bienes proyectadas por variaciones de pre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5520" indent="-155520">
              <a:spcBef>
                <a:spcPts val="1500"/>
              </a:spcBef>
              <a:buClr>
                <a:srgbClr val="ff0000"/>
              </a:buClr>
              <a:buSzPct val="4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depende del “punto de pivote” - la dotacíon inicial 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52280"/>
            <a:ext cx="93726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ermitamos que caiga el precio del bien 1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228600"/>
            <a:ext cx="9085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obtenemos la curva de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ofrecimiento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La “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offer curve”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23880" y="2438280"/>
            <a:ext cx="2438640" cy="5105520"/>
          </a:xfrm>
          <a:custGeom>
            <a:avLst/>
            <a:gdLst/>
            <a:ahLst/>
            <a:rect l="l" t="t" r="r" b="b"/>
            <a:pathLst>
              <a:path w="1007" h="2135">
                <a:moveTo>
                  <a:pt x="0" y="0"/>
                </a:moveTo>
                <a:lnTo>
                  <a:pt x="0" y="2134"/>
                </a:lnTo>
                <a:lnTo>
                  <a:pt x="1006" y="212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523880" y="1366920"/>
            <a:ext cx="0" cy="6186240"/>
          </a:xfrm>
          <a:prstGeom prst="line">
            <a:avLst/>
          </a:prstGeom>
          <a:ln w="442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523880" y="7553160"/>
            <a:ext cx="6747120" cy="0"/>
          </a:xfrm>
          <a:prstGeom prst="line">
            <a:avLst/>
          </a:prstGeom>
          <a:ln w="442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3600" y="1487520"/>
            <a:ext cx="4292640" cy="4716360"/>
          </a:xfrm>
          <a:custGeom>
            <a:avLst/>
            <a:gdLst/>
            <a:ahLst/>
            <a:rect l="l" t="t" r="r" b="b"/>
            <a:pathLst>
              <a:path w="1731" h="1962">
                <a:moveTo>
                  <a:pt x="0" y="0"/>
                </a:moveTo>
                <a:lnTo>
                  <a:pt x="0" y="16"/>
                </a:lnTo>
                <a:lnTo>
                  <a:pt x="1" y="30"/>
                </a:lnTo>
                <a:lnTo>
                  <a:pt x="1" y="40"/>
                </a:lnTo>
                <a:lnTo>
                  <a:pt x="3" y="48"/>
                </a:lnTo>
                <a:lnTo>
                  <a:pt x="3" y="55"/>
                </a:lnTo>
                <a:lnTo>
                  <a:pt x="4" y="59"/>
                </a:lnTo>
                <a:lnTo>
                  <a:pt x="4" y="62"/>
                </a:lnTo>
                <a:lnTo>
                  <a:pt x="6" y="64"/>
                </a:lnTo>
                <a:lnTo>
                  <a:pt x="6" y="66"/>
                </a:lnTo>
                <a:lnTo>
                  <a:pt x="6" y="68"/>
                </a:lnTo>
                <a:lnTo>
                  <a:pt x="6" y="70"/>
                </a:lnTo>
                <a:lnTo>
                  <a:pt x="6" y="72"/>
                </a:lnTo>
                <a:lnTo>
                  <a:pt x="6" y="76"/>
                </a:lnTo>
                <a:lnTo>
                  <a:pt x="7" y="80"/>
                </a:lnTo>
                <a:lnTo>
                  <a:pt x="7" y="86"/>
                </a:lnTo>
                <a:lnTo>
                  <a:pt x="9" y="93"/>
                </a:lnTo>
                <a:lnTo>
                  <a:pt x="10" y="104"/>
                </a:lnTo>
                <a:lnTo>
                  <a:pt x="11" y="117"/>
                </a:lnTo>
                <a:lnTo>
                  <a:pt x="13" y="133"/>
                </a:lnTo>
                <a:lnTo>
                  <a:pt x="16" y="149"/>
                </a:lnTo>
                <a:lnTo>
                  <a:pt x="20" y="169"/>
                </a:lnTo>
                <a:lnTo>
                  <a:pt x="23" y="190"/>
                </a:lnTo>
                <a:lnTo>
                  <a:pt x="27" y="212"/>
                </a:lnTo>
                <a:lnTo>
                  <a:pt x="32" y="234"/>
                </a:lnTo>
                <a:lnTo>
                  <a:pt x="36" y="260"/>
                </a:lnTo>
                <a:lnTo>
                  <a:pt x="41" y="284"/>
                </a:lnTo>
                <a:lnTo>
                  <a:pt x="46" y="310"/>
                </a:lnTo>
                <a:lnTo>
                  <a:pt x="52" y="335"/>
                </a:lnTo>
                <a:lnTo>
                  <a:pt x="56" y="361"/>
                </a:lnTo>
                <a:lnTo>
                  <a:pt x="62" y="386"/>
                </a:lnTo>
                <a:lnTo>
                  <a:pt x="68" y="410"/>
                </a:lnTo>
                <a:lnTo>
                  <a:pt x="73" y="433"/>
                </a:lnTo>
                <a:lnTo>
                  <a:pt x="78" y="458"/>
                </a:lnTo>
                <a:lnTo>
                  <a:pt x="84" y="483"/>
                </a:lnTo>
                <a:lnTo>
                  <a:pt x="89" y="510"/>
                </a:lnTo>
                <a:lnTo>
                  <a:pt x="97" y="535"/>
                </a:lnTo>
                <a:lnTo>
                  <a:pt x="103" y="563"/>
                </a:lnTo>
                <a:lnTo>
                  <a:pt x="110" y="589"/>
                </a:lnTo>
                <a:lnTo>
                  <a:pt x="118" y="616"/>
                </a:lnTo>
                <a:lnTo>
                  <a:pt x="126" y="641"/>
                </a:lnTo>
                <a:lnTo>
                  <a:pt x="132" y="667"/>
                </a:lnTo>
                <a:lnTo>
                  <a:pt x="139" y="692"/>
                </a:lnTo>
                <a:lnTo>
                  <a:pt x="146" y="716"/>
                </a:lnTo>
                <a:lnTo>
                  <a:pt x="154" y="737"/>
                </a:lnTo>
                <a:lnTo>
                  <a:pt x="159" y="758"/>
                </a:lnTo>
                <a:lnTo>
                  <a:pt x="166" y="775"/>
                </a:lnTo>
                <a:lnTo>
                  <a:pt x="172" y="792"/>
                </a:lnTo>
                <a:lnTo>
                  <a:pt x="177" y="804"/>
                </a:lnTo>
                <a:lnTo>
                  <a:pt x="181" y="817"/>
                </a:lnTo>
                <a:lnTo>
                  <a:pt x="187" y="831"/>
                </a:lnTo>
                <a:lnTo>
                  <a:pt x="193" y="847"/>
                </a:lnTo>
                <a:lnTo>
                  <a:pt x="200" y="863"/>
                </a:lnTo>
                <a:lnTo>
                  <a:pt x="207" y="882"/>
                </a:lnTo>
                <a:lnTo>
                  <a:pt x="215" y="900"/>
                </a:lnTo>
                <a:lnTo>
                  <a:pt x="223" y="920"/>
                </a:lnTo>
                <a:lnTo>
                  <a:pt x="232" y="939"/>
                </a:lnTo>
                <a:lnTo>
                  <a:pt x="240" y="960"/>
                </a:lnTo>
                <a:lnTo>
                  <a:pt x="248" y="980"/>
                </a:lnTo>
                <a:lnTo>
                  <a:pt x="256" y="1001"/>
                </a:lnTo>
                <a:lnTo>
                  <a:pt x="265" y="1019"/>
                </a:lnTo>
                <a:lnTo>
                  <a:pt x="273" y="1039"/>
                </a:lnTo>
                <a:lnTo>
                  <a:pt x="281" y="1057"/>
                </a:lnTo>
                <a:lnTo>
                  <a:pt x="288" y="1074"/>
                </a:lnTo>
                <a:lnTo>
                  <a:pt x="296" y="1089"/>
                </a:lnTo>
                <a:lnTo>
                  <a:pt x="302" y="1106"/>
                </a:lnTo>
                <a:lnTo>
                  <a:pt x="309" y="1123"/>
                </a:lnTo>
                <a:lnTo>
                  <a:pt x="316" y="1141"/>
                </a:lnTo>
                <a:lnTo>
                  <a:pt x="324" y="1158"/>
                </a:lnTo>
                <a:lnTo>
                  <a:pt x="332" y="1177"/>
                </a:lnTo>
                <a:lnTo>
                  <a:pt x="341" y="1196"/>
                </a:lnTo>
                <a:lnTo>
                  <a:pt x="349" y="1215"/>
                </a:lnTo>
                <a:lnTo>
                  <a:pt x="358" y="1233"/>
                </a:lnTo>
                <a:lnTo>
                  <a:pt x="366" y="1252"/>
                </a:lnTo>
                <a:lnTo>
                  <a:pt x="374" y="1270"/>
                </a:lnTo>
                <a:lnTo>
                  <a:pt x="381" y="1288"/>
                </a:lnTo>
                <a:lnTo>
                  <a:pt x="390" y="1304"/>
                </a:lnTo>
                <a:lnTo>
                  <a:pt x="396" y="1320"/>
                </a:lnTo>
                <a:lnTo>
                  <a:pt x="403" y="1333"/>
                </a:lnTo>
                <a:lnTo>
                  <a:pt x="409" y="1345"/>
                </a:lnTo>
                <a:lnTo>
                  <a:pt x="414" y="1355"/>
                </a:lnTo>
                <a:lnTo>
                  <a:pt x="420" y="1366"/>
                </a:lnTo>
                <a:lnTo>
                  <a:pt x="425" y="1378"/>
                </a:lnTo>
                <a:lnTo>
                  <a:pt x="432" y="1390"/>
                </a:lnTo>
                <a:lnTo>
                  <a:pt x="439" y="1402"/>
                </a:lnTo>
                <a:lnTo>
                  <a:pt x="447" y="1418"/>
                </a:lnTo>
                <a:lnTo>
                  <a:pt x="456" y="1431"/>
                </a:lnTo>
                <a:lnTo>
                  <a:pt x="465" y="1446"/>
                </a:lnTo>
                <a:lnTo>
                  <a:pt x="474" y="1459"/>
                </a:lnTo>
                <a:lnTo>
                  <a:pt x="484" y="1474"/>
                </a:lnTo>
                <a:lnTo>
                  <a:pt x="493" y="1488"/>
                </a:lnTo>
                <a:lnTo>
                  <a:pt x="502" y="1503"/>
                </a:lnTo>
                <a:lnTo>
                  <a:pt x="512" y="1516"/>
                </a:lnTo>
                <a:lnTo>
                  <a:pt x="522" y="1529"/>
                </a:lnTo>
                <a:lnTo>
                  <a:pt x="531" y="1542"/>
                </a:lnTo>
                <a:lnTo>
                  <a:pt x="539" y="1553"/>
                </a:lnTo>
                <a:lnTo>
                  <a:pt x="548" y="1562"/>
                </a:lnTo>
                <a:lnTo>
                  <a:pt x="556" y="1574"/>
                </a:lnTo>
                <a:lnTo>
                  <a:pt x="566" y="1584"/>
                </a:lnTo>
                <a:lnTo>
                  <a:pt x="575" y="1595"/>
                </a:lnTo>
                <a:lnTo>
                  <a:pt x="586" y="1606"/>
                </a:lnTo>
                <a:lnTo>
                  <a:pt x="597" y="1620"/>
                </a:lnTo>
                <a:lnTo>
                  <a:pt x="608" y="1631"/>
                </a:lnTo>
                <a:lnTo>
                  <a:pt x="619" y="1643"/>
                </a:lnTo>
                <a:lnTo>
                  <a:pt x="632" y="1654"/>
                </a:lnTo>
                <a:lnTo>
                  <a:pt x="643" y="1666"/>
                </a:lnTo>
                <a:lnTo>
                  <a:pt x="654" y="1677"/>
                </a:lnTo>
                <a:lnTo>
                  <a:pt x="665" y="1688"/>
                </a:lnTo>
                <a:lnTo>
                  <a:pt x="677" y="1698"/>
                </a:lnTo>
                <a:lnTo>
                  <a:pt x="687" y="1708"/>
                </a:lnTo>
                <a:lnTo>
                  <a:pt x="698" y="1716"/>
                </a:lnTo>
                <a:lnTo>
                  <a:pt x="707" y="1724"/>
                </a:lnTo>
                <a:lnTo>
                  <a:pt x="716" y="1730"/>
                </a:lnTo>
                <a:lnTo>
                  <a:pt x="724" y="1738"/>
                </a:lnTo>
                <a:lnTo>
                  <a:pt x="732" y="1743"/>
                </a:lnTo>
                <a:lnTo>
                  <a:pt x="740" y="1750"/>
                </a:lnTo>
                <a:lnTo>
                  <a:pt x="749" y="1756"/>
                </a:lnTo>
                <a:lnTo>
                  <a:pt x="756" y="1763"/>
                </a:lnTo>
                <a:lnTo>
                  <a:pt x="766" y="1769"/>
                </a:lnTo>
                <a:lnTo>
                  <a:pt x="773" y="1774"/>
                </a:lnTo>
                <a:lnTo>
                  <a:pt x="782" y="1780"/>
                </a:lnTo>
                <a:lnTo>
                  <a:pt x="790" y="1786"/>
                </a:lnTo>
                <a:lnTo>
                  <a:pt x="798" y="1792"/>
                </a:lnTo>
                <a:lnTo>
                  <a:pt x="804" y="1798"/>
                </a:lnTo>
                <a:lnTo>
                  <a:pt x="811" y="1801"/>
                </a:lnTo>
                <a:lnTo>
                  <a:pt x="816" y="1806"/>
                </a:lnTo>
                <a:lnTo>
                  <a:pt x="822" y="1809"/>
                </a:lnTo>
                <a:lnTo>
                  <a:pt x="826" y="1812"/>
                </a:lnTo>
                <a:lnTo>
                  <a:pt x="830" y="1814"/>
                </a:lnTo>
                <a:lnTo>
                  <a:pt x="832" y="1817"/>
                </a:lnTo>
                <a:lnTo>
                  <a:pt x="836" y="1819"/>
                </a:lnTo>
                <a:lnTo>
                  <a:pt x="841" y="1822"/>
                </a:lnTo>
                <a:lnTo>
                  <a:pt x="846" y="1824"/>
                </a:lnTo>
                <a:lnTo>
                  <a:pt x="851" y="1828"/>
                </a:lnTo>
                <a:lnTo>
                  <a:pt x="857" y="1829"/>
                </a:lnTo>
                <a:lnTo>
                  <a:pt x="862" y="1833"/>
                </a:lnTo>
                <a:lnTo>
                  <a:pt x="870" y="1835"/>
                </a:lnTo>
                <a:lnTo>
                  <a:pt x="876" y="1839"/>
                </a:lnTo>
                <a:lnTo>
                  <a:pt x="883" y="1842"/>
                </a:lnTo>
                <a:lnTo>
                  <a:pt x="890" y="1846"/>
                </a:lnTo>
                <a:lnTo>
                  <a:pt x="897" y="1847"/>
                </a:lnTo>
                <a:lnTo>
                  <a:pt x="903" y="1851"/>
                </a:lnTo>
                <a:lnTo>
                  <a:pt x="910" y="1853"/>
                </a:lnTo>
                <a:lnTo>
                  <a:pt x="917" y="1856"/>
                </a:lnTo>
                <a:lnTo>
                  <a:pt x="924" y="1858"/>
                </a:lnTo>
                <a:lnTo>
                  <a:pt x="930" y="1862"/>
                </a:lnTo>
                <a:lnTo>
                  <a:pt x="937" y="1864"/>
                </a:lnTo>
                <a:lnTo>
                  <a:pt x="946" y="1868"/>
                </a:lnTo>
                <a:lnTo>
                  <a:pt x="955" y="1870"/>
                </a:lnTo>
                <a:lnTo>
                  <a:pt x="964" y="1874"/>
                </a:lnTo>
                <a:lnTo>
                  <a:pt x="975" y="1877"/>
                </a:lnTo>
                <a:lnTo>
                  <a:pt x="987" y="1881"/>
                </a:lnTo>
                <a:lnTo>
                  <a:pt x="998" y="1883"/>
                </a:lnTo>
                <a:lnTo>
                  <a:pt x="1010" y="1887"/>
                </a:lnTo>
                <a:lnTo>
                  <a:pt x="1021" y="1890"/>
                </a:lnTo>
                <a:lnTo>
                  <a:pt x="1032" y="1894"/>
                </a:lnTo>
                <a:lnTo>
                  <a:pt x="1044" y="1897"/>
                </a:lnTo>
                <a:lnTo>
                  <a:pt x="1055" y="1900"/>
                </a:lnTo>
                <a:lnTo>
                  <a:pt x="1066" y="1902"/>
                </a:lnTo>
                <a:lnTo>
                  <a:pt x="1076" y="1906"/>
                </a:lnTo>
                <a:lnTo>
                  <a:pt x="1087" y="1907"/>
                </a:lnTo>
                <a:lnTo>
                  <a:pt x="1096" y="1911"/>
                </a:lnTo>
                <a:lnTo>
                  <a:pt x="1106" y="1913"/>
                </a:lnTo>
                <a:lnTo>
                  <a:pt x="1118" y="1916"/>
                </a:lnTo>
                <a:lnTo>
                  <a:pt x="1130" y="1918"/>
                </a:lnTo>
                <a:lnTo>
                  <a:pt x="1141" y="1922"/>
                </a:lnTo>
                <a:lnTo>
                  <a:pt x="1154" y="1924"/>
                </a:lnTo>
                <a:lnTo>
                  <a:pt x="1168" y="1926"/>
                </a:lnTo>
                <a:lnTo>
                  <a:pt x="1181" y="1928"/>
                </a:lnTo>
                <a:lnTo>
                  <a:pt x="1192" y="1931"/>
                </a:lnTo>
                <a:lnTo>
                  <a:pt x="1206" y="1933"/>
                </a:lnTo>
                <a:lnTo>
                  <a:pt x="1218" y="1935"/>
                </a:lnTo>
                <a:lnTo>
                  <a:pt x="1231" y="1937"/>
                </a:lnTo>
                <a:lnTo>
                  <a:pt x="1241" y="1938"/>
                </a:lnTo>
                <a:lnTo>
                  <a:pt x="1252" y="1940"/>
                </a:lnTo>
                <a:lnTo>
                  <a:pt x="1261" y="1942"/>
                </a:lnTo>
                <a:lnTo>
                  <a:pt x="1270" y="1942"/>
                </a:lnTo>
                <a:lnTo>
                  <a:pt x="1278" y="1944"/>
                </a:lnTo>
                <a:lnTo>
                  <a:pt x="1287" y="1945"/>
                </a:lnTo>
                <a:lnTo>
                  <a:pt x="1298" y="1946"/>
                </a:lnTo>
                <a:lnTo>
                  <a:pt x="1309" y="1946"/>
                </a:lnTo>
                <a:lnTo>
                  <a:pt x="1320" y="1948"/>
                </a:lnTo>
                <a:lnTo>
                  <a:pt x="1334" y="1948"/>
                </a:lnTo>
                <a:lnTo>
                  <a:pt x="1347" y="1950"/>
                </a:lnTo>
                <a:lnTo>
                  <a:pt x="1360" y="1950"/>
                </a:lnTo>
                <a:lnTo>
                  <a:pt x="1373" y="1952"/>
                </a:lnTo>
                <a:lnTo>
                  <a:pt x="1386" y="1952"/>
                </a:lnTo>
                <a:lnTo>
                  <a:pt x="1399" y="1954"/>
                </a:lnTo>
                <a:lnTo>
                  <a:pt x="1412" y="1954"/>
                </a:lnTo>
                <a:lnTo>
                  <a:pt x="1424" y="1956"/>
                </a:lnTo>
                <a:lnTo>
                  <a:pt x="1436" y="1956"/>
                </a:lnTo>
                <a:lnTo>
                  <a:pt x="1447" y="1956"/>
                </a:lnTo>
                <a:lnTo>
                  <a:pt x="1458" y="1956"/>
                </a:lnTo>
                <a:lnTo>
                  <a:pt x="1468" y="1958"/>
                </a:lnTo>
                <a:lnTo>
                  <a:pt x="1479" y="1958"/>
                </a:lnTo>
                <a:lnTo>
                  <a:pt x="1490" y="1958"/>
                </a:lnTo>
                <a:lnTo>
                  <a:pt x="1503" y="1958"/>
                </a:lnTo>
                <a:lnTo>
                  <a:pt x="1515" y="1960"/>
                </a:lnTo>
                <a:lnTo>
                  <a:pt x="1528" y="1960"/>
                </a:lnTo>
                <a:lnTo>
                  <a:pt x="1541" y="1960"/>
                </a:lnTo>
                <a:lnTo>
                  <a:pt x="1555" y="1960"/>
                </a:lnTo>
                <a:lnTo>
                  <a:pt x="1568" y="1961"/>
                </a:lnTo>
                <a:lnTo>
                  <a:pt x="1581" y="1961"/>
                </a:lnTo>
                <a:lnTo>
                  <a:pt x="1592" y="1961"/>
                </a:lnTo>
                <a:lnTo>
                  <a:pt x="1606" y="1961"/>
                </a:lnTo>
                <a:lnTo>
                  <a:pt x="1616" y="1961"/>
                </a:lnTo>
                <a:lnTo>
                  <a:pt x="1628" y="1961"/>
                </a:lnTo>
                <a:lnTo>
                  <a:pt x="1637" y="1961"/>
                </a:lnTo>
                <a:lnTo>
                  <a:pt x="1646" y="1961"/>
                </a:lnTo>
                <a:lnTo>
                  <a:pt x="1652" y="1961"/>
                </a:lnTo>
                <a:lnTo>
                  <a:pt x="1658" y="1961"/>
                </a:lnTo>
                <a:lnTo>
                  <a:pt x="1660" y="1961"/>
                </a:lnTo>
                <a:lnTo>
                  <a:pt x="1664" y="1961"/>
                </a:lnTo>
                <a:lnTo>
                  <a:pt x="1666" y="1961"/>
                </a:lnTo>
                <a:lnTo>
                  <a:pt x="1668" y="1961"/>
                </a:lnTo>
                <a:lnTo>
                  <a:pt x="1670" y="1961"/>
                </a:lnTo>
                <a:lnTo>
                  <a:pt x="1672" y="1961"/>
                </a:lnTo>
                <a:lnTo>
                  <a:pt x="1674" y="1961"/>
                </a:lnTo>
                <a:lnTo>
                  <a:pt x="1677" y="1961"/>
                </a:lnTo>
                <a:lnTo>
                  <a:pt x="1680" y="1961"/>
                </a:lnTo>
                <a:lnTo>
                  <a:pt x="1687" y="1961"/>
                </a:lnTo>
                <a:lnTo>
                  <a:pt x="1694" y="1961"/>
                </a:lnTo>
                <a:lnTo>
                  <a:pt x="1704" y="1961"/>
                </a:lnTo>
                <a:lnTo>
                  <a:pt x="1716" y="1961"/>
                </a:lnTo>
                <a:lnTo>
                  <a:pt x="1730" y="1961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93960" y="1887480"/>
            <a:ext cx="4687920" cy="5168880"/>
          </a:xfrm>
          <a:custGeom>
            <a:avLst/>
            <a:gdLst/>
            <a:ahLst/>
            <a:rect l="l" t="t" r="r" b="b"/>
            <a:pathLst>
              <a:path w="1891" h="2150">
                <a:moveTo>
                  <a:pt x="0" y="0"/>
                </a:moveTo>
                <a:lnTo>
                  <a:pt x="1" y="18"/>
                </a:lnTo>
                <a:lnTo>
                  <a:pt x="3" y="32"/>
                </a:lnTo>
                <a:lnTo>
                  <a:pt x="3" y="45"/>
                </a:lnTo>
                <a:lnTo>
                  <a:pt x="5" y="53"/>
                </a:lnTo>
                <a:lnTo>
                  <a:pt x="5" y="60"/>
                </a:lnTo>
                <a:lnTo>
                  <a:pt x="5" y="65"/>
                </a:lnTo>
                <a:lnTo>
                  <a:pt x="5" y="69"/>
                </a:lnTo>
                <a:lnTo>
                  <a:pt x="7" y="71"/>
                </a:lnTo>
                <a:lnTo>
                  <a:pt x="7" y="74"/>
                </a:lnTo>
                <a:lnTo>
                  <a:pt x="7" y="76"/>
                </a:lnTo>
                <a:lnTo>
                  <a:pt x="7" y="78"/>
                </a:lnTo>
                <a:lnTo>
                  <a:pt x="8" y="80"/>
                </a:lnTo>
                <a:lnTo>
                  <a:pt x="8" y="84"/>
                </a:lnTo>
                <a:lnTo>
                  <a:pt x="8" y="88"/>
                </a:lnTo>
                <a:lnTo>
                  <a:pt x="9" y="95"/>
                </a:lnTo>
                <a:lnTo>
                  <a:pt x="11" y="103"/>
                </a:lnTo>
                <a:lnTo>
                  <a:pt x="12" y="114"/>
                </a:lnTo>
                <a:lnTo>
                  <a:pt x="14" y="129"/>
                </a:lnTo>
                <a:lnTo>
                  <a:pt x="16" y="146"/>
                </a:lnTo>
                <a:lnTo>
                  <a:pt x="20" y="164"/>
                </a:lnTo>
                <a:lnTo>
                  <a:pt x="23" y="186"/>
                </a:lnTo>
                <a:lnTo>
                  <a:pt x="26" y="208"/>
                </a:lnTo>
                <a:lnTo>
                  <a:pt x="31" y="232"/>
                </a:lnTo>
                <a:lnTo>
                  <a:pt x="36" y="258"/>
                </a:lnTo>
                <a:lnTo>
                  <a:pt x="41" y="285"/>
                </a:lnTo>
                <a:lnTo>
                  <a:pt x="46" y="312"/>
                </a:lnTo>
                <a:lnTo>
                  <a:pt x="52" y="340"/>
                </a:lnTo>
                <a:lnTo>
                  <a:pt x="58" y="368"/>
                </a:lnTo>
                <a:lnTo>
                  <a:pt x="63" y="396"/>
                </a:lnTo>
                <a:lnTo>
                  <a:pt x="69" y="423"/>
                </a:lnTo>
                <a:lnTo>
                  <a:pt x="74" y="450"/>
                </a:lnTo>
                <a:lnTo>
                  <a:pt x="81" y="475"/>
                </a:lnTo>
                <a:lnTo>
                  <a:pt x="86" y="502"/>
                </a:lnTo>
                <a:lnTo>
                  <a:pt x="93" y="529"/>
                </a:lnTo>
                <a:lnTo>
                  <a:pt x="100" y="558"/>
                </a:lnTo>
                <a:lnTo>
                  <a:pt x="107" y="586"/>
                </a:lnTo>
                <a:lnTo>
                  <a:pt x="114" y="616"/>
                </a:lnTo>
                <a:lnTo>
                  <a:pt x="122" y="646"/>
                </a:lnTo>
                <a:lnTo>
                  <a:pt x="130" y="675"/>
                </a:lnTo>
                <a:lnTo>
                  <a:pt x="138" y="703"/>
                </a:lnTo>
                <a:lnTo>
                  <a:pt x="146" y="732"/>
                </a:lnTo>
                <a:lnTo>
                  <a:pt x="153" y="758"/>
                </a:lnTo>
                <a:lnTo>
                  <a:pt x="161" y="785"/>
                </a:lnTo>
                <a:lnTo>
                  <a:pt x="169" y="808"/>
                </a:lnTo>
                <a:lnTo>
                  <a:pt x="175" y="830"/>
                </a:lnTo>
                <a:lnTo>
                  <a:pt x="182" y="850"/>
                </a:lnTo>
                <a:lnTo>
                  <a:pt x="188" y="867"/>
                </a:lnTo>
                <a:lnTo>
                  <a:pt x="194" y="880"/>
                </a:lnTo>
                <a:lnTo>
                  <a:pt x="199" y="894"/>
                </a:lnTo>
                <a:lnTo>
                  <a:pt x="205" y="910"/>
                </a:lnTo>
                <a:lnTo>
                  <a:pt x="212" y="928"/>
                </a:lnTo>
                <a:lnTo>
                  <a:pt x="220" y="945"/>
                </a:lnTo>
                <a:lnTo>
                  <a:pt x="228" y="966"/>
                </a:lnTo>
                <a:lnTo>
                  <a:pt x="236" y="986"/>
                </a:lnTo>
                <a:lnTo>
                  <a:pt x="246" y="1008"/>
                </a:lnTo>
                <a:lnTo>
                  <a:pt x="255" y="1029"/>
                </a:lnTo>
                <a:lnTo>
                  <a:pt x="263" y="1051"/>
                </a:lnTo>
                <a:lnTo>
                  <a:pt x="272" y="1074"/>
                </a:lnTo>
                <a:lnTo>
                  <a:pt x="282" y="1096"/>
                </a:lnTo>
                <a:lnTo>
                  <a:pt x="291" y="1117"/>
                </a:lnTo>
                <a:lnTo>
                  <a:pt x="298" y="1138"/>
                </a:lnTo>
                <a:lnTo>
                  <a:pt x="308" y="1158"/>
                </a:lnTo>
                <a:lnTo>
                  <a:pt x="316" y="1176"/>
                </a:lnTo>
                <a:lnTo>
                  <a:pt x="324" y="1194"/>
                </a:lnTo>
                <a:lnTo>
                  <a:pt x="331" y="1212"/>
                </a:lnTo>
                <a:lnTo>
                  <a:pt x="338" y="1230"/>
                </a:lnTo>
                <a:lnTo>
                  <a:pt x="347" y="1250"/>
                </a:lnTo>
                <a:lnTo>
                  <a:pt x="356" y="1269"/>
                </a:lnTo>
                <a:lnTo>
                  <a:pt x="365" y="1290"/>
                </a:lnTo>
                <a:lnTo>
                  <a:pt x="374" y="1310"/>
                </a:lnTo>
                <a:lnTo>
                  <a:pt x="384" y="1331"/>
                </a:lnTo>
                <a:lnTo>
                  <a:pt x="393" y="1351"/>
                </a:lnTo>
                <a:lnTo>
                  <a:pt x="400" y="1372"/>
                </a:lnTo>
                <a:lnTo>
                  <a:pt x="410" y="1392"/>
                </a:lnTo>
                <a:lnTo>
                  <a:pt x="418" y="1411"/>
                </a:lnTo>
                <a:lnTo>
                  <a:pt x="427" y="1429"/>
                </a:lnTo>
                <a:lnTo>
                  <a:pt x="434" y="1446"/>
                </a:lnTo>
                <a:lnTo>
                  <a:pt x="442" y="1460"/>
                </a:lnTo>
                <a:lnTo>
                  <a:pt x="447" y="1474"/>
                </a:lnTo>
                <a:lnTo>
                  <a:pt x="454" y="1485"/>
                </a:lnTo>
                <a:lnTo>
                  <a:pt x="459" y="1497"/>
                </a:lnTo>
                <a:lnTo>
                  <a:pt x="465" y="1509"/>
                </a:lnTo>
                <a:lnTo>
                  <a:pt x="472" y="1524"/>
                </a:lnTo>
                <a:lnTo>
                  <a:pt x="481" y="1537"/>
                </a:lnTo>
                <a:lnTo>
                  <a:pt x="490" y="1553"/>
                </a:lnTo>
                <a:lnTo>
                  <a:pt x="499" y="1568"/>
                </a:lnTo>
                <a:lnTo>
                  <a:pt x="508" y="1584"/>
                </a:lnTo>
                <a:lnTo>
                  <a:pt x="520" y="1599"/>
                </a:lnTo>
                <a:lnTo>
                  <a:pt x="529" y="1616"/>
                </a:lnTo>
                <a:lnTo>
                  <a:pt x="540" y="1631"/>
                </a:lnTo>
                <a:lnTo>
                  <a:pt x="550" y="1646"/>
                </a:lnTo>
                <a:lnTo>
                  <a:pt x="561" y="1662"/>
                </a:lnTo>
                <a:lnTo>
                  <a:pt x="571" y="1676"/>
                </a:lnTo>
                <a:lnTo>
                  <a:pt x="581" y="1690"/>
                </a:lnTo>
                <a:lnTo>
                  <a:pt x="590" y="1701"/>
                </a:lnTo>
                <a:lnTo>
                  <a:pt x="600" y="1712"/>
                </a:lnTo>
                <a:lnTo>
                  <a:pt x="609" y="1724"/>
                </a:lnTo>
                <a:lnTo>
                  <a:pt x="618" y="1736"/>
                </a:lnTo>
                <a:lnTo>
                  <a:pt x="629" y="1749"/>
                </a:lnTo>
                <a:lnTo>
                  <a:pt x="640" y="1761"/>
                </a:lnTo>
                <a:lnTo>
                  <a:pt x="652" y="1774"/>
                </a:lnTo>
                <a:lnTo>
                  <a:pt x="665" y="1787"/>
                </a:lnTo>
                <a:lnTo>
                  <a:pt x="678" y="1800"/>
                </a:lnTo>
                <a:lnTo>
                  <a:pt x="691" y="1812"/>
                </a:lnTo>
                <a:lnTo>
                  <a:pt x="702" y="1826"/>
                </a:lnTo>
                <a:lnTo>
                  <a:pt x="716" y="1839"/>
                </a:lnTo>
                <a:lnTo>
                  <a:pt x="727" y="1850"/>
                </a:lnTo>
                <a:lnTo>
                  <a:pt x="740" y="1861"/>
                </a:lnTo>
                <a:lnTo>
                  <a:pt x="752" y="1872"/>
                </a:lnTo>
                <a:lnTo>
                  <a:pt x="763" y="1881"/>
                </a:lnTo>
                <a:lnTo>
                  <a:pt x="772" y="1889"/>
                </a:lnTo>
                <a:lnTo>
                  <a:pt x="783" y="1896"/>
                </a:lnTo>
                <a:lnTo>
                  <a:pt x="790" y="1904"/>
                </a:lnTo>
                <a:lnTo>
                  <a:pt x="800" y="1910"/>
                </a:lnTo>
                <a:lnTo>
                  <a:pt x="809" y="1918"/>
                </a:lnTo>
                <a:lnTo>
                  <a:pt x="818" y="1924"/>
                </a:lnTo>
                <a:lnTo>
                  <a:pt x="827" y="1931"/>
                </a:lnTo>
                <a:lnTo>
                  <a:pt x="836" y="1938"/>
                </a:lnTo>
                <a:lnTo>
                  <a:pt x="846" y="1945"/>
                </a:lnTo>
                <a:lnTo>
                  <a:pt x="855" y="1951"/>
                </a:lnTo>
                <a:lnTo>
                  <a:pt x="863" y="1958"/>
                </a:lnTo>
                <a:lnTo>
                  <a:pt x="872" y="1964"/>
                </a:lnTo>
                <a:lnTo>
                  <a:pt x="879" y="1970"/>
                </a:lnTo>
                <a:lnTo>
                  <a:pt x="886" y="1974"/>
                </a:lnTo>
                <a:lnTo>
                  <a:pt x="892" y="1979"/>
                </a:lnTo>
                <a:lnTo>
                  <a:pt x="898" y="1983"/>
                </a:lnTo>
                <a:lnTo>
                  <a:pt x="902" y="1986"/>
                </a:lnTo>
                <a:lnTo>
                  <a:pt x="907" y="1988"/>
                </a:lnTo>
                <a:lnTo>
                  <a:pt x="910" y="1991"/>
                </a:lnTo>
                <a:lnTo>
                  <a:pt x="914" y="1993"/>
                </a:lnTo>
                <a:lnTo>
                  <a:pt x="919" y="1996"/>
                </a:lnTo>
                <a:lnTo>
                  <a:pt x="924" y="1998"/>
                </a:lnTo>
                <a:lnTo>
                  <a:pt x="930" y="2002"/>
                </a:lnTo>
                <a:lnTo>
                  <a:pt x="936" y="2005"/>
                </a:lnTo>
                <a:lnTo>
                  <a:pt x="944" y="2009"/>
                </a:lnTo>
                <a:lnTo>
                  <a:pt x="951" y="2011"/>
                </a:lnTo>
                <a:lnTo>
                  <a:pt x="958" y="2014"/>
                </a:lnTo>
                <a:lnTo>
                  <a:pt x="966" y="2018"/>
                </a:lnTo>
                <a:lnTo>
                  <a:pt x="973" y="2022"/>
                </a:lnTo>
                <a:lnTo>
                  <a:pt x="981" y="2025"/>
                </a:lnTo>
                <a:lnTo>
                  <a:pt x="988" y="2029"/>
                </a:lnTo>
                <a:lnTo>
                  <a:pt x="996" y="2032"/>
                </a:lnTo>
                <a:lnTo>
                  <a:pt x="1002" y="2034"/>
                </a:lnTo>
                <a:lnTo>
                  <a:pt x="1010" y="2036"/>
                </a:lnTo>
                <a:lnTo>
                  <a:pt x="1017" y="2040"/>
                </a:lnTo>
                <a:lnTo>
                  <a:pt x="1025" y="2043"/>
                </a:lnTo>
                <a:lnTo>
                  <a:pt x="1034" y="2047"/>
                </a:lnTo>
                <a:lnTo>
                  <a:pt x="1044" y="2049"/>
                </a:lnTo>
                <a:lnTo>
                  <a:pt x="1055" y="2053"/>
                </a:lnTo>
                <a:lnTo>
                  <a:pt x="1066" y="2056"/>
                </a:lnTo>
                <a:lnTo>
                  <a:pt x="1078" y="2060"/>
                </a:lnTo>
                <a:lnTo>
                  <a:pt x="1091" y="2063"/>
                </a:lnTo>
                <a:lnTo>
                  <a:pt x="1103" y="2067"/>
                </a:lnTo>
                <a:lnTo>
                  <a:pt x="1116" y="2071"/>
                </a:lnTo>
                <a:lnTo>
                  <a:pt x="1128" y="2074"/>
                </a:lnTo>
                <a:lnTo>
                  <a:pt x="1142" y="2078"/>
                </a:lnTo>
                <a:lnTo>
                  <a:pt x="1153" y="2082"/>
                </a:lnTo>
                <a:lnTo>
                  <a:pt x="1165" y="2085"/>
                </a:lnTo>
                <a:lnTo>
                  <a:pt x="1176" y="2088"/>
                </a:lnTo>
                <a:lnTo>
                  <a:pt x="1188" y="2090"/>
                </a:lnTo>
                <a:lnTo>
                  <a:pt x="1198" y="2094"/>
                </a:lnTo>
                <a:lnTo>
                  <a:pt x="1209" y="2096"/>
                </a:lnTo>
                <a:lnTo>
                  <a:pt x="1222" y="2100"/>
                </a:lnTo>
                <a:lnTo>
                  <a:pt x="1234" y="2101"/>
                </a:lnTo>
                <a:lnTo>
                  <a:pt x="1248" y="2105"/>
                </a:lnTo>
                <a:lnTo>
                  <a:pt x="1262" y="2107"/>
                </a:lnTo>
                <a:lnTo>
                  <a:pt x="1275" y="2110"/>
                </a:lnTo>
                <a:lnTo>
                  <a:pt x="1290" y="2112"/>
                </a:lnTo>
                <a:lnTo>
                  <a:pt x="1303" y="2116"/>
                </a:lnTo>
                <a:lnTo>
                  <a:pt x="1318" y="2118"/>
                </a:lnTo>
                <a:lnTo>
                  <a:pt x="1331" y="2120"/>
                </a:lnTo>
                <a:lnTo>
                  <a:pt x="1344" y="2122"/>
                </a:lnTo>
                <a:lnTo>
                  <a:pt x="1356" y="2124"/>
                </a:lnTo>
                <a:lnTo>
                  <a:pt x="1368" y="2126"/>
                </a:lnTo>
                <a:lnTo>
                  <a:pt x="1378" y="2128"/>
                </a:lnTo>
                <a:lnTo>
                  <a:pt x="1388" y="2128"/>
                </a:lnTo>
                <a:lnTo>
                  <a:pt x="1397" y="2130"/>
                </a:lnTo>
                <a:lnTo>
                  <a:pt x="1407" y="2131"/>
                </a:lnTo>
                <a:lnTo>
                  <a:pt x="1418" y="2133"/>
                </a:lnTo>
                <a:lnTo>
                  <a:pt x="1431" y="2133"/>
                </a:lnTo>
                <a:lnTo>
                  <a:pt x="1444" y="2135"/>
                </a:lnTo>
                <a:lnTo>
                  <a:pt x="1457" y="2136"/>
                </a:lnTo>
                <a:lnTo>
                  <a:pt x="1471" y="2138"/>
                </a:lnTo>
                <a:lnTo>
                  <a:pt x="1486" y="2138"/>
                </a:lnTo>
                <a:lnTo>
                  <a:pt x="1499" y="2139"/>
                </a:lnTo>
                <a:lnTo>
                  <a:pt x="1514" y="2139"/>
                </a:lnTo>
                <a:lnTo>
                  <a:pt x="1528" y="2141"/>
                </a:lnTo>
                <a:lnTo>
                  <a:pt x="1543" y="2141"/>
                </a:lnTo>
                <a:lnTo>
                  <a:pt x="1556" y="2143"/>
                </a:lnTo>
                <a:lnTo>
                  <a:pt x="1569" y="2143"/>
                </a:lnTo>
                <a:lnTo>
                  <a:pt x="1581" y="2144"/>
                </a:lnTo>
                <a:lnTo>
                  <a:pt x="1593" y="2144"/>
                </a:lnTo>
                <a:lnTo>
                  <a:pt x="1604" y="2146"/>
                </a:lnTo>
                <a:lnTo>
                  <a:pt x="1616" y="2146"/>
                </a:lnTo>
                <a:lnTo>
                  <a:pt x="1628" y="2146"/>
                </a:lnTo>
                <a:lnTo>
                  <a:pt x="1642" y="2146"/>
                </a:lnTo>
                <a:lnTo>
                  <a:pt x="1655" y="2148"/>
                </a:lnTo>
                <a:lnTo>
                  <a:pt x="1670" y="2148"/>
                </a:lnTo>
                <a:lnTo>
                  <a:pt x="1684" y="2148"/>
                </a:lnTo>
                <a:lnTo>
                  <a:pt x="1700" y="2148"/>
                </a:lnTo>
                <a:lnTo>
                  <a:pt x="1712" y="2149"/>
                </a:lnTo>
                <a:lnTo>
                  <a:pt x="1728" y="2149"/>
                </a:lnTo>
                <a:lnTo>
                  <a:pt x="1741" y="2149"/>
                </a:lnTo>
                <a:lnTo>
                  <a:pt x="1754" y="2149"/>
                </a:lnTo>
                <a:lnTo>
                  <a:pt x="1766" y="2149"/>
                </a:lnTo>
                <a:lnTo>
                  <a:pt x="1778" y="2149"/>
                </a:lnTo>
                <a:lnTo>
                  <a:pt x="1788" y="2149"/>
                </a:lnTo>
                <a:lnTo>
                  <a:pt x="1799" y="2149"/>
                </a:lnTo>
                <a:lnTo>
                  <a:pt x="1806" y="2149"/>
                </a:lnTo>
                <a:lnTo>
                  <a:pt x="1811" y="2149"/>
                </a:lnTo>
                <a:lnTo>
                  <a:pt x="1815" y="2149"/>
                </a:lnTo>
                <a:lnTo>
                  <a:pt x="1819" y="2149"/>
                </a:lnTo>
                <a:lnTo>
                  <a:pt x="1820" y="2149"/>
                </a:lnTo>
                <a:lnTo>
                  <a:pt x="1822" y="2149"/>
                </a:lnTo>
                <a:lnTo>
                  <a:pt x="1824" y="2149"/>
                </a:lnTo>
                <a:lnTo>
                  <a:pt x="1827" y="2149"/>
                </a:lnTo>
                <a:lnTo>
                  <a:pt x="1829" y="2149"/>
                </a:lnTo>
                <a:lnTo>
                  <a:pt x="1832" y="2149"/>
                </a:lnTo>
                <a:lnTo>
                  <a:pt x="1836" y="2149"/>
                </a:lnTo>
                <a:lnTo>
                  <a:pt x="1843" y="2149"/>
                </a:lnTo>
                <a:lnTo>
                  <a:pt x="1850" y="2149"/>
                </a:lnTo>
                <a:lnTo>
                  <a:pt x="1861" y="2149"/>
                </a:lnTo>
                <a:lnTo>
                  <a:pt x="1874" y="2149"/>
                </a:lnTo>
                <a:lnTo>
                  <a:pt x="1890" y="2149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117960" y="1295280"/>
            <a:ext cx="3757680" cy="4125960"/>
          </a:xfrm>
          <a:custGeom>
            <a:avLst/>
            <a:gdLst/>
            <a:ahLst/>
            <a:rect l="l" t="t" r="r" b="b"/>
            <a:pathLst>
              <a:path w="1515" h="1716">
                <a:moveTo>
                  <a:pt x="0" y="0"/>
                </a:moveTo>
                <a:lnTo>
                  <a:pt x="0" y="15"/>
                </a:lnTo>
                <a:lnTo>
                  <a:pt x="2" y="26"/>
                </a:lnTo>
                <a:lnTo>
                  <a:pt x="2" y="36"/>
                </a:lnTo>
                <a:lnTo>
                  <a:pt x="4" y="42"/>
                </a:lnTo>
                <a:lnTo>
                  <a:pt x="4" y="48"/>
                </a:lnTo>
                <a:lnTo>
                  <a:pt x="4" y="52"/>
                </a:lnTo>
                <a:lnTo>
                  <a:pt x="4" y="55"/>
                </a:lnTo>
                <a:lnTo>
                  <a:pt x="6" y="57"/>
                </a:lnTo>
                <a:lnTo>
                  <a:pt x="6" y="58"/>
                </a:lnTo>
                <a:lnTo>
                  <a:pt x="6" y="60"/>
                </a:lnTo>
                <a:lnTo>
                  <a:pt x="6" y="62"/>
                </a:lnTo>
                <a:lnTo>
                  <a:pt x="6" y="64"/>
                </a:lnTo>
                <a:lnTo>
                  <a:pt x="6" y="68"/>
                </a:lnTo>
                <a:lnTo>
                  <a:pt x="7" y="71"/>
                </a:lnTo>
                <a:lnTo>
                  <a:pt x="7" y="76"/>
                </a:lnTo>
                <a:lnTo>
                  <a:pt x="9" y="82"/>
                </a:lnTo>
                <a:lnTo>
                  <a:pt x="9" y="92"/>
                </a:lnTo>
                <a:lnTo>
                  <a:pt x="10" y="104"/>
                </a:lnTo>
                <a:lnTo>
                  <a:pt x="12" y="117"/>
                </a:lnTo>
                <a:lnTo>
                  <a:pt x="15" y="132"/>
                </a:lnTo>
                <a:lnTo>
                  <a:pt x="17" y="149"/>
                </a:lnTo>
                <a:lnTo>
                  <a:pt x="21" y="166"/>
                </a:lnTo>
                <a:lnTo>
                  <a:pt x="25" y="186"/>
                </a:lnTo>
                <a:lnTo>
                  <a:pt x="29" y="206"/>
                </a:lnTo>
                <a:lnTo>
                  <a:pt x="33" y="228"/>
                </a:lnTo>
                <a:lnTo>
                  <a:pt x="37" y="250"/>
                </a:lnTo>
                <a:lnTo>
                  <a:pt x="40" y="272"/>
                </a:lnTo>
                <a:lnTo>
                  <a:pt x="46" y="294"/>
                </a:lnTo>
                <a:lnTo>
                  <a:pt x="50" y="316"/>
                </a:lnTo>
                <a:lnTo>
                  <a:pt x="56" y="338"/>
                </a:lnTo>
                <a:lnTo>
                  <a:pt x="59" y="359"/>
                </a:lnTo>
                <a:lnTo>
                  <a:pt x="65" y="379"/>
                </a:lnTo>
                <a:lnTo>
                  <a:pt x="68" y="401"/>
                </a:lnTo>
                <a:lnTo>
                  <a:pt x="74" y="422"/>
                </a:lnTo>
                <a:lnTo>
                  <a:pt x="79" y="445"/>
                </a:lnTo>
                <a:lnTo>
                  <a:pt x="85" y="468"/>
                </a:lnTo>
                <a:lnTo>
                  <a:pt x="90" y="492"/>
                </a:lnTo>
                <a:lnTo>
                  <a:pt x="97" y="515"/>
                </a:lnTo>
                <a:lnTo>
                  <a:pt x="103" y="539"/>
                </a:lnTo>
                <a:lnTo>
                  <a:pt x="110" y="562"/>
                </a:lnTo>
                <a:lnTo>
                  <a:pt x="116" y="584"/>
                </a:lnTo>
                <a:lnTo>
                  <a:pt x="122" y="606"/>
                </a:lnTo>
                <a:lnTo>
                  <a:pt x="128" y="627"/>
                </a:lnTo>
                <a:lnTo>
                  <a:pt x="135" y="645"/>
                </a:lnTo>
                <a:lnTo>
                  <a:pt x="140" y="663"/>
                </a:lnTo>
                <a:lnTo>
                  <a:pt x="146" y="679"/>
                </a:lnTo>
                <a:lnTo>
                  <a:pt x="150" y="692"/>
                </a:lnTo>
                <a:lnTo>
                  <a:pt x="156" y="702"/>
                </a:lnTo>
                <a:lnTo>
                  <a:pt x="160" y="714"/>
                </a:lnTo>
                <a:lnTo>
                  <a:pt x="164" y="727"/>
                </a:lnTo>
                <a:lnTo>
                  <a:pt x="170" y="741"/>
                </a:lnTo>
                <a:lnTo>
                  <a:pt x="176" y="755"/>
                </a:lnTo>
                <a:lnTo>
                  <a:pt x="182" y="771"/>
                </a:lnTo>
                <a:lnTo>
                  <a:pt x="189" y="787"/>
                </a:lnTo>
                <a:lnTo>
                  <a:pt x="196" y="805"/>
                </a:lnTo>
                <a:lnTo>
                  <a:pt x="204" y="822"/>
                </a:lnTo>
                <a:lnTo>
                  <a:pt x="211" y="840"/>
                </a:lnTo>
                <a:lnTo>
                  <a:pt x="218" y="857"/>
                </a:lnTo>
                <a:lnTo>
                  <a:pt x="226" y="875"/>
                </a:lnTo>
                <a:lnTo>
                  <a:pt x="233" y="892"/>
                </a:lnTo>
                <a:lnTo>
                  <a:pt x="239" y="908"/>
                </a:lnTo>
                <a:lnTo>
                  <a:pt x="246" y="925"/>
                </a:lnTo>
                <a:lnTo>
                  <a:pt x="253" y="940"/>
                </a:lnTo>
                <a:lnTo>
                  <a:pt x="260" y="953"/>
                </a:lnTo>
                <a:lnTo>
                  <a:pt x="266" y="968"/>
                </a:lnTo>
                <a:lnTo>
                  <a:pt x="272" y="982"/>
                </a:lnTo>
                <a:lnTo>
                  <a:pt x="278" y="998"/>
                </a:lnTo>
                <a:lnTo>
                  <a:pt x="285" y="1013"/>
                </a:lnTo>
                <a:lnTo>
                  <a:pt x="292" y="1030"/>
                </a:lnTo>
                <a:lnTo>
                  <a:pt x="300" y="1046"/>
                </a:lnTo>
                <a:lnTo>
                  <a:pt x="307" y="1063"/>
                </a:lnTo>
                <a:lnTo>
                  <a:pt x="314" y="1079"/>
                </a:lnTo>
                <a:lnTo>
                  <a:pt x="320" y="1096"/>
                </a:lnTo>
                <a:lnTo>
                  <a:pt x="328" y="1111"/>
                </a:lnTo>
                <a:lnTo>
                  <a:pt x="334" y="1126"/>
                </a:lnTo>
                <a:lnTo>
                  <a:pt x="342" y="1140"/>
                </a:lnTo>
                <a:lnTo>
                  <a:pt x="348" y="1154"/>
                </a:lnTo>
                <a:lnTo>
                  <a:pt x="354" y="1166"/>
                </a:lnTo>
                <a:lnTo>
                  <a:pt x="358" y="1177"/>
                </a:lnTo>
                <a:lnTo>
                  <a:pt x="364" y="1186"/>
                </a:lnTo>
                <a:lnTo>
                  <a:pt x="368" y="1196"/>
                </a:lnTo>
                <a:lnTo>
                  <a:pt x="372" y="1205"/>
                </a:lnTo>
                <a:lnTo>
                  <a:pt x="378" y="1216"/>
                </a:lnTo>
                <a:lnTo>
                  <a:pt x="385" y="1227"/>
                </a:lnTo>
                <a:lnTo>
                  <a:pt x="392" y="1240"/>
                </a:lnTo>
                <a:lnTo>
                  <a:pt x="399" y="1252"/>
                </a:lnTo>
                <a:lnTo>
                  <a:pt x="407" y="1265"/>
                </a:lnTo>
                <a:lnTo>
                  <a:pt x="416" y="1276"/>
                </a:lnTo>
                <a:lnTo>
                  <a:pt x="424" y="1290"/>
                </a:lnTo>
                <a:lnTo>
                  <a:pt x="433" y="1302"/>
                </a:lnTo>
                <a:lnTo>
                  <a:pt x="440" y="1315"/>
                </a:lnTo>
                <a:lnTo>
                  <a:pt x="450" y="1326"/>
                </a:lnTo>
                <a:lnTo>
                  <a:pt x="457" y="1338"/>
                </a:lnTo>
                <a:lnTo>
                  <a:pt x="465" y="1348"/>
                </a:lnTo>
                <a:lnTo>
                  <a:pt x="473" y="1358"/>
                </a:lnTo>
                <a:lnTo>
                  <a:pt x="481" y="1366"/>
                </a:lnTo>
                <a:lnTo>
                  <a:pt x="488" y="1376"/>
                </a:lnTo>
                <a:lnTo>
                  <a:pt x="495" y="1385"/>
                </a:lnTo>
                <a:lnTo>
                  <a:pt x="504" y="1395"/>
                </a:lnTo>
                <a:lnTo>
                  <a:pt x="514" y="1404"/>
                </a:lnTo>
                <a:lnTo>
                  <a:pt x="523" y="1416"/>
                </a:lnTo>
                <a:lnTo>
                  <a:pt x="534" y="1426"/>
                </a:lnTo>
                <a:lnTo>
                  <a:pt x="543" y="1437"/>
                </a:lnTo>
                <a:lnTo>
                  <a:pt x="554" y="1446"/>
                </a:lnTo>
                <a:lnTo>
                  <a:pt x="563" y="1458"/>
                </a:lnTo>
                <a:lnTo>
                  <a:pt x="574" y="1467"/>
                </a:lnTo>
                <a:lnTo>
                  <a:pt x="583" y="1476"/>
                </a:lnTo>
                <a:lnTo>
                  <a:pt x="594" y="1485"/>
                </a:lnTo>
                <a:lnTo>
                  <a:pt x="602" y="1494"/>
                </a:lnTo>
                <a:lnTo>
                  <a:pt x="612" y="1501"/>
                </a:lnTo>
                <a:lnTo>
                  <a:pt x="619" y="1508"/>
                </a:lnTo>
                <a:lnTo>
                  <a:pt x="628" y="1513"/>
                </a:lnTo>
                <a:lnTo>
                  <a:pt x="634" y="1519"/>
                </a:lnTo>
                <a:lnTo>
                  <a:pt x="641" y="1524"/>
                </a:lnTo>
                <a:lnTo>
                  <a:pt x="649" y="1530"/>
                </a:lnTo>
                <a:lnTo>
                  <a:pt x="656" y="1535"/>
                </a:lnTo>
                <a:lnTo>
                  <a:pt x="663" y="1540"/>
                </a:lnTo>
                <a:lnTo>
                  <a:pt x="671" y="1546"/>
                </a:lnTo>
                <a:lnTo>
                  <a:pt x="678" y="1552"/>
                </a:lnTo>
                <a:lnTo>
                  <a:pt x="686" y="1557"/>
                </a:lnTo>
                <a:lnTo>
                  <a:pt x="691" y="1562"/>
                </a:lnTo>
                <a:lnTo>
                  <a:pt x="698" y="1567"/>
                </a:lnTo>
                <a:lnTo>
                  <a:pt x="704" y="1572"/>
                </a:lnTo>
                <a:lnTo>
                  <a:pt x="710" y="1576"/>
                </a:lnTo>
                <a:lnTo>
                  <a:pt x="714" y="1579"/>
                </a:lnTo>
                <a:lnTo>
                  <a:pt x="719" y="1582"/>
                </a:lnTo>
                <a:lnTo>
                  <a:pt x="723" y="1585"/>
                </a:lnTo>
                <a:lnTo>
                  <a:pt x="727" y="1586"/>
                </a:lnTo>
                <a:lnTo>
                  <a:pt x="729" y="1589"/>
                </a:lnTo>
                <a:lnTo>
                  <a:pt x="732" y="1591"/>
                </a:lnTo>
                <a:lnTo>
                  <a:pt x="736" y="1593"/>
                </a:lnTo>
                <a:lnTo>
                  <a:pt x="740" y="1595"/>
                </a:lnTo>
                <a:lnTo>
                  <a:pt x="745" y="1598"/>
                </a:lnTo>
                <a:lnTo>
                  <a:pt x="750" y="1600"/>
                </a:lnTo>
                <a:lnTo>
                  <a:pt x="756" y="1604"/>
                </a:lnTo>
                <a:lnTo>
                  <a:pt x="762" y="1605"/>
                </a:lnTo>
                <a:lnTo>
                  <a:pt x="768" y="1609"/>
                </a:lnTo>
                <a:lnTo>
                  <a:pt x="773" y="1611"/>
                </a:lnTo>
                <a:lnTo>
                  <a:pt x="779" y="1615"/>
                </a:lnTo>
                <a:lnTo>
                  <a:pt x="786" y="1617"/>
                </a:lnTo>
                <a:lnTo>
                  <a:pt x="791" y="1620"/>
                </a:lnTo>
                <a:lnTo>
                  <a:pt x="797" y="1622"/>
                </a:lnTo>
                <a:lnTo>
                  <a:pt x="802" y="1624"/>
                </a:lnTo>
                <a:lnTo>
                  <a:pt x="809" y="1625"/>
                </a:lnTo>
                <a:lnTo>
                  <a:pt x="814" y="1629"/>
                </a:lnTo>
                <a:lnTo>
                  <a:pt x="820" y="1631"/>
                </a:lnTo>
                <a:lnTo>
                  <a:pt x="828" y="1634"/>
                </a:lnTo>
                <a:lnTo>
                  <a:pt x="837" y="1636"/>
                </a:lnTo>
                <a:lnTo>
                  <a:pt x="845" y="1640"/>
                </a:lnTo>
                <a:lnTo>
                  <a:pt x="854" y="1642"/>
                </a:lnTo>
                <a:lnTo>
                  <a:pt x="864" y="1645"/>
                </a:lnTo>
                <a:lnTo>
                  <a:pt x="874" y="1647"/>
                </a:lnTo>
                <a:lnTo>
                  <a:pt x="884" y="1651"/>
                </a:lnTo>
                <a:lnTo>
                  <a:pt x="894" y="1654"/>
                </a:lnTo>
                <a:lnTo>
                  <a:pt x="903" y="1658"/>
                </a:lnTo>
                <a:lnTo>
                  <a:pt x="914" y="1660"/>
                </a:lnTo>
                <a:lnTo>
                  <a:pt x="924" y="1664"/>
                </a:lnTo>
                <a:lnTo>
                  <a:pt x="933" y="1665"/>
                </a:lnTo>
                <a:lnTo>
                  <a:pt x="942" y="1667"/>
                </a:lnTo>
                <a:lnTo>
                  <a:pt x="952" y="1669"/>
                </a:lnTo>
                <a:lnTo>
                  <a:pt x="959" y="1672"/>
                </a:lnTo>
                <a:lnTo>
                  <a:pt x="968" y="1674"/>
                </a:lnTo>
                <a:lnTo>
                  <a:pt x="978" y="1676"/>
                </a:lnTo>
                <a:lnTo>
                  <a:pt x="988" y="1678"/>
                </a:lnTo>
                <a:lnTo>
                  <a:pt x="999" y="1680"/>
                </a:lnTo>
                <a:lnTo>
                  <a:pt x="1010" y="1682"/>
                </a:lnTo>
                <a:lnTo>
                  <a:pt x="1021" y="1684"/>
                </a:lnTo>
                <a:lnTo>
                  <a:pt x="1033" y="1686"/>
                </a:lnTo>
                <a:lnTo>
                  <a:pt x="1044" y="1688"/>
                </a:lnTo>
                <a:lnTo>
                  <a:pt x="1055" y="1690"/>
                </a:lnTo>
                <a:lnTo>
                  <a:pt x="1065" y="1692"/>
                </a:lnTo>
                <a:lnTo>
                  <a:pt x="1076" y="1694"/>
                </a:lnTo>
                <a:lnTo>
                  <a:pt x="1086" y="1696"/>
                </a:lnTo>
                <a:lnTo>
                  <a:pt x="1095" y="1697"/>
                </a:lnTo>
                <a:lnTo>
                  <a:pt x="1103" y="1699"/>
                </a:lnTo>
                <a:lnTo>
                  <a:pt x="1112" y="1699"/>
                </a:lnTo>
                <a:lnTo>
                  <a:pt x="1119" y="1701"/>
                </a:lnTo>
                <a:lnTo>
                  <a:pt x="1127" y="1701"/>
                </a:lnTo>
                <a:lnTo>
                  <a:pt x="1136" y="1703"/>
                </a:lnTo>
                <a:lnTo>
                  <a:pt x="1146" y="1703"/>
                </a:lnTo>
                <a:lnTo>
                  <a:pt x="1156" y="1705"/>
                </a:lnTo>
                <a:lnTo>
                  <a:pt x="1167" y="1705"/>
                </a:lnTo>
                <a:lnTo>
                  <a:pt x="1179" y="1706"/>
                </a:lnTo>
                <a:lnTo>
                  <a:pt x="1190" y="1706"/>
                </a:lnTo>
                <a:lnTo>
                  <a:pt x="1202" y="1708"/>
                </a:lnTo>
                <a:lnTo>
                  <a:pt x="1213" y="1708"/>
                </a:lnTo>
                <a:lnTo>
                  <a:pt x="1224" y="1710"/>
                </a:lnTo>
                <a:lnTo>
                  <a:pt x="1236" y="1710"/>
                </a:lnTo>
                <a:lnTo>
                  <a:pt x="1246" y="1712"/>
                </a:lnTo>
                <a:lnTo>
                  <a:pt x="1257" y="1712"/>
                </a:lnTo>
                <a:lnTo>
                  <a:pt x="1267" y="1712"/>
                </a:lnTo>
                <a:lnTo>
                  <a:pt x="1276" y="1712"/>
                </a:lnTo>
                <a:lnTo>
                  <a:pt x="1285" y="1713"/>
                </a:lnTo>
                <a:lnTo>
                  <a:pt x="1294" y="1713"/>
                </a:lnTo>
                <a:lnTo>
                  <a:pt x="1304" y="1713"/>
                </a:lnTo>
                <a:lnTo>
                  <a:pt x="1315" y="1713"/>
                </a:lnTo>
                <a:lnTo>
                  <a:pt x="1326" y="1714"/>
                </a:lnTo>
                <a:lnTo>
                  <a:pt x="1338" y="1714"/>
                </a:lnTo>
                <a:lnTo>
                  <a:pt x="1349" y="1714"/>
                </a:lnTo>
                <a:lnTo>
                  <a:pt x="1362" y="1714"/>
                </a:lnTo>
                <a:lnTo>
                  <a:pt x="1372" y="1715"/>
                </a:lnTo>
                <a:lnTo>
                  <a:pt x="1383" y="1715"/>
                </a:lnTo>
                <a:lnTo>
                  <a:pt x="1394" y="1715"/>
                </a:lnTo>
                <a:lnTo>
                  <a:pt x="1405" y="1715"/>
                </a:lnTo>
                <a:lnTo>
                  <a:pt x="1414" y="1715"/>
                </a:lnTo>
                <a:lnTo>
                  <a:pt x="1424" y="1715"/>
                </a:lnTo>
                <a:lnTo>
                  <a:pt x="1432" y="1715"/>
                </a:lnTo>
                <a:lnTo>
                  <a:pt x="1441" y="1715"/>
                </a:lnTo>
                <a:lnTo>
                  <a:pt x="1446" y="1715"/>
                </a:lnTo>
                <a:lnTo>
                  <a:pt x="1451" y="1715"/>
                </a:lnTo>
                <a:lnTo>
                  <a:pt x="1453" y="1715"/>
                </a:lnTo>
                <a:lnTo>
                  <a:pt x="1456" y="1715"/>
                </a:lnTo>
                <a:lnTo>
                  <a:pt x="1458" y="1715"/>
                </a:lnTo>
                <a:lnTo>
                  <a:pt x="1460" y="1715"/>
                </a:lnTo>
                <a:lnTo>
                  <a:pt x="1461" y="1715"/>
                </a:lnTo>
                <a:lnTo>
                  <a:pt x="1463" y="1715"/>
                </a:lnTo>
                <a:lnTo>
                  <a:pt x="1465" y="1715"/>
                </a:lnTo>
                <a:lnTo>
                  <a:pt x="1468" y="1715"/>
                </a:lnTo>
                <a:lnTo>
                  <a:pt x="1471" y="1715"/>
                </a:lnTo>
                <a:lnTo>
                  <a:pt x="1476" y="1715"/>
                </a:lnTo>
                <a:lnTo>
                  <a:pt x="1482" y="1715"/>
                </a:lnTo>
                <a:lnTo>
                  <a:pt x="1491" y="1715"/>
                </a:lnTo>
                <a:lnTo>
                  <a:pt x="1501" y="1715"/>
                </a:lnTo>
                <a:lnTo>
                  <a:pt x="1514" y="1715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17720" y="3216240"/>
            <a:ext cx="1449360" cy="30574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17720" y="3216240"/>
            <a:ext cx="2844720" cy="31510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17720" y="3216240"/>
            <a:ext cx="4267080" cy="2725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28800" y="2965320"/>
            <a:ext cx="8380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46280" y="4648320"/>
            <a:ext cx="2689200" cy="823680"/>
          </a:xfrm>
          <a:custGeom>
            <a:avLst/>
            <a:gdLst/>
            <a:ahLst/>
            <a:rect l="l" t="t" r="r" b="b"/>
            <a:pathLst>
              <a:path w="1039" h="298">
                <a:moveTo>
                  <a:pt x="1038" y="12"/>
                </a:moveTo>
                <a:lnTo>
                  <a:pt x="1031" y="18"/>
                </a:lnTo>
                <a:lnTo>
                  <a:pt x="1025" y="23"/>
                </a:lnTo>
                <a:lnTo>
                  <a:pt x="1021" y="27"/>
                </a:lnTo>
                <a:lnTo>
                  <a:pt x="1018" y="30"/>
                </a:lnTo>
                <a:lnTo>
                  <a:pt x="1015" y="32"/>
                </a:lnTo>
                <a:lnTo>
                  <a:pt x="1013" y="33"/>
                </a:lnTo>
                <a:lnTo>
                  <a:pt x="1011" y="35"/>
                </a:lnTo>
                <a:lnTo>
                  <a:pt x="1011" y="35"/>
                </a:lnTo>
                <a:lnTo>
                  <a:pt x="1009" y="37"/>
                </a:lnTo>
                <a:lnTo>
                  <a:pt x="1009" y="37"/>
                </a:lnTo>
                <a:lnTo>
                  <a:pt x="1007" y="38"/>
                </a:lnTo>
                <a:lnTo>
                  <a:pt x="1007" y="38"/>
                </a:lnTo>
                <a:lnTo>
                  <a:pt x="1005" y="40"/>
                </a:lnTo>
                <a:lnTo>
                  <a:pt x="1004" y="41"/>
                </a:lnTo>
                <a:lnTo>
                  <a:pt x="1001" y="43"/>
                </a:lnTo>
                <a:lnTo>
                  <a:pt x="999" y="45"/>
                </a:lnTo>
                <a:lnTo>
                  <a:pt x="994" y="50"/>
                </a:lnTo>
                <a:lnTo>
                  <a:pt x="989" y="53"/>
                </a:lnTo>
                <a:lnTo>
                  <a:pt x="983" y="59"/>
                </a:lnTo>
                <a:lnTo>
                  <a:pt x="976" y="62"/>
                </a:lnTo>
                <a:lnTo>
                  <a:pt x="967" y="68"/>
                </a:lnTo>
                <a:lnTo>
                  <a:pt x="960" y="73"/>
                </a:lnTo>
                <a:lnTo>
                  <a:pt x="951" y="79"/>
                </a:lnTo>
                <a:lnTo>
                  <a:pt x="943" y="85"/>
                </a:lnTo>
                <a:lnTo>
                  <a:pt x="932" y="92"/>
                </a:lnTo>
                <a:lnTo>
                  <a:pt x="923" y="98"/>
                </a:lnTo>
                <a:lnTo>
                  <a:pt x="913" y="103"/>
                </a:lnTo>
                <a:lnTo>
                  <a:pt x="903" y="109"/>
                </a:lnTo>
                <a:lnTo>
                  <a:pt x="893" y="115"/>
                </a:lnTo>
                <a:lnTo>
                  <a:pt x="883" y="121"/>
                </a:lnTo>
                <a:lnTo>
                  <a:pt x="874" y="127"/>
                </a:lnTo>
                <a:lnTo>
                  <a:pt x="866" y="131"/>
                </a:lnTo>
                <a:lnTo>
                  <a:pt x="855" y="137"/>
                </a:lnTo>
                <a:lnTo>
                  <a:pt x="845" y="143"/>
                </a:lnTo>
                <a:lnTo>
                  <a:pt x="832" y="149"/>
                </a:lnTo>
                <a:lnTo>
                  <a:pt x="821" y="155"/>
                </a:lnTo>
                <a:lnTo>
                  <a:pt x="807" y="162"/>
                </a:lnTo>
                <a:lnTo>
                  <a:pt x="794" y="169"/>
                </a:lnTo>
                <a:lnTo>
                  <a:pt x="780" y="176"/>
                </a:lnTo>
                <a:lnTo>
                  <a:pt x="767" y="182"/>
                </a:lnTo>
                <a:lnTo>
                  <a:pt x="752" y="189"/>
                </a:lnTo>
                <a:lnTo>
                  <a:pt x="739" y="196"/>
                </a:lnTo>
                <a:lnTo>
                  <a:pt x="725" y="204"/>
                </a:lnTo>
                <a:lnTo>
                  <a:pt x="712" y="209"/>
                </a:lnTo>
                <a:lnTo>
                  <a:pt x="699" y="216"/>
                </a:lnTo>
                <a:lnTo>
                  <a:pt x="686" y="222"/>
                </a:lnTo>
                <a:lnTo>
                  <a:pt x="675" y="227"/>
                </a:lnTo>
                <a:lnTo>
                  <a:pt x="665" y="231"/>
                </a:lnTo>
                <a:lnTo>
                  <a:pt x="654" y="237"/>
                </a:lnTo>
                <a:lnTo>
                  <a:pt x="644" y="241"/>
                </a:lnTo>
                <a:lnTo>
                  <a:pt x="633" y="246"/>
                </a:lnTo>
                <a:lnTo>
                  <a:pt x="623" y="250"/>
                </a:lnTo>
                <a:lnTo>
                  <a:pt x="611" y="256"/>
                </a:lnTo>
                <a:lnTo>
                  <a:pt x="600" y="259"/>
                </a:lnTo>
                <a:lnTo>
                  <a:pt x="589" y="263"/>
                </a:lnTo>
                <a:lnTo>
                  <a:pt x="579" y="267"/>
                </a:lnTo>
                <a:lnTo>
                  <a:pt x="568" y="271"/>
                </a:lnTo>
                <a:lnTo>
                  <a:pt x="559" y="274"/>
                </a:lnTo>
                <a:lnTo>
                  <a:pt x="549" y="278"/>
                </a:lnTo>
                <a:lnTo>
                  <a:pt x="541" y="280"/>
                </a:lnTo>
                <a:lnTo>
                  <a:pt x="533" y="283"/>
                </a:lnTo>
                <a:lnTo>
                  <a:pt x="526" y="284"/>
                </a:lnTo>
                <a:lnTo>
                  <a:pt x="521" y="286"/>
                </a:lnTo>
                <a:lnTo>
                  <a:pt x="516" y="286"/>
                </a:lnTo>
                <a:lnTo>
                  <a:pt x="511" y="288"/>
                </a:lnTo>
                <a:lnTo>
                  <a:pt x="506" y="288"/>
                </a:lnTo>
                <a:lnTo>
                  <a:pt x="501" y="290"/>
                </a:lnTo>
                <a:lnTo>
                  <a:pt x="496" y="290"/>
                </a:lnTo>
                <a:lnTo>
                  <a:pt x="488" y="292"/>
                </a:lnTo>
                <a:lnTo>
                  <a:pt x="483" y="292"/>
                </a:lnTo>
                <a:lnTo>
                  <a:pt x="476" y="292"/>
                </a:lnTo>
                <a:lnTo>
                  <a:pt x="470" y="292"/>
                </a:lnTo>
                <a:lnTo>
                  <a:pt x="463" y="294"/>
                </a:lnTo>
                <a:lnTo>
                  <a:pt x="457" y="294"/>
                </a:lnTo>
                <a:lnTo>
                  <a:pt x="449" y="295"/>
                </a:lnTo>
                <a:lnTo>
                  <a:pt x="444" y="295"/>
                </a:lnTo>
                <a:lnTo>
                  <a:pt x="438" y="297"/>
                </a:lnTo>
                <a:lnTo>
                  <a:pt x="432" y="297"/>
                </a:lnTo>
                <a:lnTo>
                  <a:pt x="427" y="297"/>
                </a:lnTo>
                <a:lnTo>
                  <a:pt x="422" y="297"/>
                </a:lnTo>
                <a:lnTo>
                  <a:pt x="416" y="297"/>
                </a:lnTo>
                <a:lnTo>
                  <a:pt x="410" y="297"/>
                </a:lnTo>
                <a:lnTo>
                  <a:pt x="404" y="297"/>
                </a:lnTo>
                <a:lnTo>
                  <a:pt x="398" y="297"/>
                </a:lnTo>
                <a:lnTo>
                  <a:pt x="391" y="297"/>
                </a:lnTo>
                <a:lnTo>
                  <a:pt x="385" y="297"/>
                </a:lnTo>
                <a:lnTo>
                  <a:pt x="377" y="297"/>
                </a:lnTo>
                <a:lnTo>
                  <a:pt x="371" y="295"/>
                </a:lnTo>
                <a:lnTo>
                  <a:pt x="364" y="295"/>
                </a:lnTo>
                <a:lnTo>
                  <a:pt x="357" y="294"/>
                </a:lnTo>
                <a:lnTo>
                  <a:pt x="350" y="294"/>
                </a:lnTo>
                <a:lnTo>
                  <a:pt x="344" y="292"/>
                </a:lnTo>
                <a:lnTo>
                  <a:pt x="338" y="292"/>
                </a:lnTo>
                <a:lnTo>
                  <a:pt x="332" y="290"/>
                </a:lnTo>
                <a:lnTo>
                  <a:pt x="327" y="288"/>
                </a:lnTo>
                <a:lnTo>
                  <a:pt x="323" y="286"/>
                </a:lnTo>
                <a:lnTo>
                  <a:pt x="317" y="285"/>
                </a:lnTo>
                <a:lnTo>
                  <a:pt x="312" y="284"/>
                </a:lnTo>
                <a:lnTo>
                  <a:pt x="305" y="282"/>
                </a:lnTo>
                <a:lnTo>
                  <a:pt x="300" y="279"/>
                </a:lnTo>
                <a:lnTo>
                  <a:pt x="292" y="277"/>
                </a:lnTo>
                <a:lnTo>
                  <a:pt x="287" y="274"/>
                </a:lnTo>
                <a:lnTo>
                  <a:pt x="280" y="272"/>
                </a:lnTo>
                <a:lnTo>
                  <a:pt x="274" y="268"/>
                </a:lnTo>
                <a:lnTo>
                  <a:pt x="267" y="266"/>
                </a:lnTo>
                <a:lnTo>
                  <a:pt x="260" y="263"/>
                </a:lnTo>
                <a:lnTo>
                  <a:pt x="253" y="260"/>
                </a:lnTo>
                <a:lnTo>
                  <a:pt x="247" y="256"/>
                </a:lnTo>
                <a:lnTo>
                  <a:pt x="241" y="254"/>
                </a:lnTo>
                <a:lnTo>
                  <a:pt x="235" y="251"/>
                </a:lnTo>
                <a:lnTo>
                  <a:pt x="230" y="248"/>
                </a:lnTo>
                <a:lnTo>
                  <a:pt x="226" y="244"/>
                </a:lnTo>
                <a:lnTo>
                  <a:pt x="221" y="243"/>
                </a:lnTo>
                <a:lnTo>
                  <a:pt x="215" y="239"/>
                </a:lnTo>
                <a:lnTo>
                  <a:pt x="209" y="236"/>
                </a:lnTo>
                <a:lnTo>
                  <a:pt x="203" y="232"/>
                </a:lnTo>
                <a:lnTo>
                  <a:pt x="195" y="228"/>
                </a:lnTo>
                <a:lnTo>
                  <a:pt x="189" y="223"/>
                </a:lnTo>
                <a:lnTo>
                  <a:pt x="181" y="219"/>
                </a:lnTo>
                <a:lnTo>
                  <a:pt x="176" y="214"/>
                </a:lnTo>
                <a:lnTo>
                  <a:pt x="168" y="210"/>
                </a:lnTo>
                <a:lnTo>
                  <a:pt x="161" y="205"/>
                </a:lnTo>
                <a:lnTo>
                  <a:pt x="153" y="201"/>
                </a:lnTo>
                <a:lnTo>
                  <a:pt x="147" y="196"/>
                </a:lnTo>
                <a:lnTo>
                  <a:pt x="139" y="192"/>
                </a:lnTo>
                <a:lnTo>
                  <a:pt x="134" y="187"/>
                </a:lnTo>
                <a:lnTo>
                  <a:pt x="128" y="183"/>
                </a:lnTo>
                <a:lnTo>
                  <a:pt x="123" y="178"/>
                </a:lnTo>
                <a:lnTo>
                  <a:pt x="117" y="175"/>
                </a:lnTo>
                <a:lnTo>
                  <a:pt x="111" y="171"/>
                </a:lnTo>
                <a:lnTo>
                  <a:pt x="106" y="167"/>
                </a:lnTo>
                <a:lnTo>
                  <a:pt x="100" y="161"/>
                </a:lnTo>
                <a:lnTo>
                  <a:pt x="94" y="157"/>
                </a:lnTo>
                <a:lnTo>
                  <a:pt x="88" y="151"/>
                </a:lnTo>
                <a:lnTo>
                  <a:pt x="83" y="145"/>
                </a:lnTo>
                <a:lnTo>
                  <a:pt x="77" y="139"/>
                </a:lnTo>
                <a:lnTo>
                  <a:pt x="71" y="134"/>
                </a:lnTo>
                <a:lnTo>
                  <a:pt x="65" y="128"/>
                </a:lnTo>
                <a:lnTo>
                  <a:pt x="59" y="123"/>
                </a:lnTo>
                <a:lnTo>
                  <a:pt x="55" y="117"/>
                </a:lnTo>
                <a:lnTo>
                  <a:pt x="50" y="113"/>
                </a:lnTo>
                <a:lnTo>
                  <a:pt x="47" y="107"/>
                </a:lnTo>
                <a:lnTo>
                  <a:pt x="43" y="103"/>
                </a:lnTo>
                <a:lnTo>
                  <a:pt x="41" y="97"/>
                </a:lnTo>
                <a:lnTo>
                  <a:pt x="37" y="93"/>
                </a:lnTo>
                <a:lnTo>
                  <a:pt x="35" y="89"/>
                </a:lnTo>
                <a:lnTo>
                  <a:pt x="31" y="85"/>
                </a:lnTo>
                <a:lnTo>
                  <a:pt x="29" y="80"/>
                </a:lnTo>
                <a:lnTo>
                  <a:pt x="25" y="76"/>
                </a:lnTo>
                <a:lnTo>
                  <a:pt x="23" y="70"/>
                </a:lnTo>
                <a:lnTo>
                  <a:pt x="20" y="65"/>
                </a:lnTo>
                <a:lnTo>
                  <a:pt x="18" y="59"/>
                </a:lnTo>
                <a:lnTo>
                  <a:pt x="15" y="55"/>
                </a:lnTo>
                <a:lnTo>
                  <a:pt x="13" y="50"/>
                </a:lnTo>
                <a:lnTo>
                  <a:pt x="11" y="47"/>
                </a:lnTo>
                <a:lnTo>
                  <a:pt x="10" y="41"/>
                </a:lnTo>
                <a:lnTo>
                  <a:pt x="8" y="37"/>
                </a:lnTo>
                <a:lnTo>
                  <a:pt x="7" y="33"/>
                </a:lnTo>
                <a:lnTo>
                  <a:pt x="6" y="30"/>
                </a:lnTo>
                <a:lnTo>
                  <a:pt x="6" y="27"/>
                </a:lnTo>
                <a:lnTo>
                  <a:pt x="4" y="25"/>
                </a:lnTo>
                <a:lnTo>
                  <a:pt x="4" y="23"/>
                </a:lnTo>
                <a:lnTo>
                  <a:pt x="3" y="23"/>
                </a:lnTo>
                <a:lnTo>
                  <a:pt x="3" y="22"/>
                </a:lnTo>
                <a:lnTo>
                  <a:pt x="3" y="22"/>
                </a:lnTo>
                <a:lnTo>
                  <a:pt x="3" y="21"/>
                </a:lnTo>
                <a:lnTo>
                  <a:pt x="3" y="21"/>
                </a:lnTo>
                <a:lnTo>
                  <a:pt x="3" y="19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fb79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534520" y="7010280"/>
            <a:ext cx="41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14479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66880" y="4648320"/>
            <a:ext cx="838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70360" y="5105520"/>
            <a:ext cx="11588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*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724280" y="4724280"/>
            <a:ext cx="11588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**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8600" y="228600"/>
            <a:ext cx="9572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ermitamos que el precio del bien uno                   caiga un poco má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52280" y="4114800"/>
            <a:ext cx="91440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124080" y="228600"/>
            <a:ext cx="6723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8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gire el gráfico para enfocar en el bien 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1160" y="7421400"/>
            <a:ext cx="6186600" cy="0"/>
          </a:xfrm>
          <a:prstGeom prst="line">
            <a:avLst/>
          </a:prstGeom>
          <a:ln w="442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903320" y="674280"/>
            <a:ext cx="0" cy="6746760"/>
          </a:xfrm>
          <a:prstGeom prst="line">
            <a:avLst/>
          </a:prstGeom>
          <a:ln w="442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rot="5400000">
            <a:off x="3462120" y="2007360"/>
            <a:ext cx="4292640" cy="4716360"/>
          </a:xfrm>
          <a:custGeom>
            <a:avLst/>
            <a:gdLst/>
            <a:ahLst/>
            <a:rect l="l" t="t" r="r" b="b"/>
            <a:pathLst>
              <a:path w="1731" h="1962">
                <a:moveTo>
                  <a:pt x="0" y="0"/>
                </a:moveTo>
                <a:lnTo>
                  <a:pt x="0" y="16"/>
                </a:lnTo>
                <a:lnTo>
                  <a:pt x="1" y="30"/>
                </a:lnTo>
                <a:lnTo>
                  <a:pt x="1" y="40"/>
                </a:lnTo>
                <a:lnTo>
                  <a:pt x="3" y="48"/>
                </a:lnTo>
                <a:lnTo>
                  <a:pt x="3" y="55"/>
                </a:lnTo>
                <a:lnTo>
                  <a:pt x="4" y="59"/>
                </a:lnTo>
                <a:lnTo>
                  <a:pt x="4" y="62"/>
                </a:lnTo>
                <a:lnTo>
                  <a:pt x="6" y="64"/>
                </a:lnTo>
                <a:lnTo>
                  <a:pt x="6" y="66"/>
                </a:lnTo>
                <a:lnTo>
                  <a:pt x="6" y="68"/>
                </a:lnTo>
                <a:lnTo>
                  <a:pt x="6" y="70"/>
                </a:lnTo>
                <a:lnTo>
                  <a:pt x="6" y="72"/>
                </a:lnTo>
                <a:lnTo>
                  <a:pt x="6" y="76"/>
                </a:lnTo>
                <a:lnTo>
                  <a:pt x="7" y="80"/>
                </a:lnTo>
                <a:lnTo>
                  <a:pt x="7" y="86"/>
                </a:lnTo>
                <a:lnTo>
                  <a:pt x="9" y="93"/>
                </a:lnTo>
                <a:lnTo>
                  <a:pt x="10" y="104"/>
                </a:lnTo>
                <a:lnTo>
                  <a:pt x="11" y="117"/>
                </a:lnTo>
                <a:lnTo>
                  <a:pt x="13" y="133"/>
                </a:lnTo>
                <a:lnTo>
                  <a:pt x="16" y="149"/>
                </a:lnTo>
                <a:lnTo>
                  <a:pt x="20" y="169"/>
                </a:lnTo>
                <a:lnTo>
                  <a:pt x="23" y="190"/>
                </a:lnTo>
                <a:lnTo>
                  <a:pt x="27" y="212"/>
                </a:lnTo>
                <a:lnTo>
                  <a:pt x="32" y="234"/>
                </a:lnTo>
                <a:lnTo>
                  <a:pt x="36" y="260"/>
                </a:lnTo>
                <a:lnTo>
                  <a:pt x="41" y="284"/>
                </a:lnTo>
                <a:lnTo>
                  <a:pt x="46" y="310"/>
                </a:lnTo>
                <a:lnTo>
                  <a:pt x="52" y="335"/>
                </a:lnTo>
                <a:lnTo>
                  <a:pt x="56" y="361"/>
                </a:lnTo>
                <a:lnTo>
                  <a:pt x="62" y="386"/>
                </a:lnTo>
                <a:lnTo>
                  <a:pt x="68" y="410"/>
                </a:lnTo>
                <a:lnTo>
                  <a:pt x="73" y="433"/>
                </a:lnTo>
                <a:lnTo>
                  <a:pt x="78" y="458"/>
                </a:lnTo>
                <a:lnTo>
                  <a:pt x="84" y="483"/>
                </a:lnTo>
                <a:lnTo>
                  <a:pt x="89" y="510"/>
                </a:lnTo>
                <a:lnTo>
                  <a:pt x="97" y="535"/>
                </a:lnTo>
                <a:lnTo>
                  <a:pt x="103" y="563"/>
                </a:lnTo>
                <a:lnTo>
                  <a:pt x="110" y="589"/>
                </a:lnTo>
                <a:lnTo>
                  <a:pt x="118" y="616"/>
                </a:lnTo>
                <a:lnTo>
                  <a:pt x="126" y="641"/>
                </a:lnTo>
                <a:lnTo>
                  <a:pt x="132" y="667"/>
                </a:lnTo>
                <a:lnTo>
                  <a:pt x="139" y="692"/>
                </a:lnTo>
                <a:lnTo>
                  <a:pt x="146" y="716"/>
                </a:lnTo>
                <a:lnTo>
                  <a:pt x="154" y="737"/>
                </a:lnTo>
                <a:lnTo>
                  <a:pt x="159" y="758"/>
                </a:lnTo>
                <a:lnTo>
                  <a:pt x="166" y="775"/>
                </a:lnTo>
                <a:lnTo>
                  <a:pt x="172" y="792"/>
                </a:lnTo>
                <a:lnTo>
                  <a:pt x="177" y="804"/>
                </a:lnTo>
                <a:lnTo>
                  <a:pt x="181" y="817"/>
                </a:lnTo>
                <a:lnTo>
                  <a:pt x="187" y="831"/>
                </a:lnTo>
                <a:lnTo>
                  <a:pt x="193" y="847"/>
                </a:lnTo>
                <a:lnTo>
                  <a:pt x="200" y="863"/>
                </a:lnTo>
                <a:lnTo>
                  <a:pt x="207" y="882"/>
                </a:lnTo>
                <a:lnTo>
                  <a:pt x="215" y="900"/>
                </a:lnTo>
                <a:lnTo>
                  <a:pt x="223" y="920"/>
                </a:lnTo>
                <a:lnTo>
                  <a:pt x="232" y="939"/>
                </a:lnTo>
                <a:lnTo>
                  <a:pt x="240" y="960"/>
                </a:lnTo>
                <a:lnTo>
                  <a:pt x="248" y="980"/>
                </a:lnTo>
                <a:lnTo>
                  <a:pt x="256" y="1001"/>
                </a:lnTo>
                <a:lnTo>
                  <a:pt x="265" y="1019"/>
                </a:lnTo>
                <a:lnTo>
                  <a:pt x="273" y="1039"/>
                </a:lnTo>
                <a:lnTo>
                  <a:pt x="281" y="1057"/>
                </a:lnTo>
                <a:lnTo>
                  <a:pt x="288" y="1074"/>
                </a:lnTo>
                <a:lnTo>
                  <a:pt x="296" y="1089"/>
                </a:lnTo>
                <a:lnTo>
                  <a:pt x="302" y="1106"/>
                </a:lnTo>
                <a:lnTo>
                  <a:pt x="309" y="1123"/>
                </a:lnTo>
                <a:lnTo>
                  <a:pt x="316" y="1141"/>
                </a:lnTo>
                <a:lnTo>
                  <a:pt x="324" y="1158"/>
                </a:lnTo>
                <a:lnTo>
                  <a:pt x="332" y="1177"/>
                </a:lnTo>
                <a:lnTo>
                  <a:pt x="341" y="1196"/>
                </a:lnTo>
                <a:lnTo>
                  <a:pt x="349" y="1215"/>
                </a:lnTo>
                <a:lnTo>
                  <a:pt x="358" y="1233"/>
                </a:lnTo>
                <a:lnTo>
                  <a:pt x="366" y="1252"/>
                </a:lnTo>
                <a:lnTo>
                  <a:pt x="374" y="1270"/>
                </a:lnTo>
                <a:lnTo>
                  <a:pt x="381" y="1288"/>
                </a:lnTo>
                <a:lnTo>
                  <a:pt x="390" y="1304"/>
                </a:lnTo>
                <a:lnTo>
                  <a:pt x="396" y="1320"/>
                </a:lnTo>
                <a:lnTo>
                  <a:pt x="403" y="1333"/>
                </a:lnTo>
                <a:lnTo>
                  <a:pt x="409" y="1345"/>
                </a:lnTo>
                <a:lnTo>
                  <a:pt x="414" y="1355"/>
                </a:lnTo>
                <a:lnTo>
                  <a:pt x="420" y="1366"/>
                </a:lnTo>
                <a:lnTo>
                  <a:pt x="425" y="1378"/>
                </a:lnTo>
                <a:lnTo>
                  <a:pt x="432" y="1390"/>
                </a:lnTo>
                <a:lnTo>
                  <a:pt x="439" y="1402"/>
                </a:lnTo>
                <a:lnTo>
                  <a:pt x="447" y="1418"/>
                </a:lnTo>
                <a:lnTo>
                  <a:pt x="456" y="1431"/>
                </a:lnTo>
                <a:lnTo>
                  <a:pt x="465" y="1446"/>
                </a:lnTo>
                <a:lnTo>
                  <a:pt x="474" y="1459"/>
                </a:lnTo>
                <a:lnTo>
                  <a:pt x="484" y="1474"/>
                </a:lnTo>
                <a:lnTo>
                  <a:pt x="493" y="1488"/>
                </a:lnTo>
                <a:lnTo>
                  <a:pt x="502" y="1503"/>
                </a:lnTo>
                <a:lnTo>
                  <a:pt x="512" y="1516"/>
                </a:lnTo>
                <a:lnTo>
                  <a:pt x="522" y="1529"/>
                </a:lnTo>
                <a:lnTo>
                  <a:pt x="531" y="1542"/>
                </a:lnTo>
                <a:lnTo>
                  <a:pt x="539" y="1553"/>
                </a:lnTo>
                <a:lnTo>
                  <a:pt x="548" y="1562"/>
                </a:lnTo>
                <a:lnTo>
                  <a:pt x="556" y="1574"/>
                </a:lnTo>
                <a:lnTo>
                  <a:pt x="566" y="1584"/>
                </a:lnTo>
                <a:lnTo>
                  <a:pt x="575" y="1595"/>
                </a:lnTo>
                <a:lnTo>
                  <a:pt x="586" y="1606"/>
                </a:lnTo>
                <a:lnTo>
                  <a:pt x="597" y="1620"/>
                </a:lnTo>
                <a:lnTo>
                  <a:pt x="608" y="1631"/>
                </a:lnTo>
                <a:lnTo>
                  <a:pt x="619" y="1643"/>
                </a:lnTo>
                <a:lnTo>
                  <a:pt x="632" y="1654"/>
                </a:lnTo>
                <a:lnTo>
                  <a:pt x="643" y="1666"/>
                </a:lnTo>
                <a:lnTo>
                  <a:pt x="654" y="1677"/>
                </a:lnTo>
                <a:lnTo>
                  <a:pt x="665" y="1688"/>
                </a:lnTo>
                <a:lnTo>
                  <a:pt x="677" y="1698"/>
                </a:lnTo>
                <a:lnTo>
                  <a:pt x="687" y="1708"/>
                </a:lnTo>
                <a:lnTo>
                  <a:pt x="698" y="1716"/>
                </a:lnTo>
                <a:lnTo>
                  <a:pt x="707" y="1724"/>
                </a:lnTo>
                <a:lnTo>
                  <a:pt x="716" y="1730"/>
                </a:lnTo>
                <a:lnTo>
                  <a:pt x="724" y="1738"/>
                </a:lnTo>
                <a:lnTo>
                  <a:pt x="732" y="1743"/>
                </a:lnTo>
                <a:lnTo>
                  <a:pt x="740" y="1750"/>
                </a:lnTo>
                <a:lnTo>
                  <a:pt x="749" y="1756"/>
                </a:lnTo>
                <a:lnTo>
                  <a:pt x="756" y="1763"/>
                </a:lnTo>
                <a:lnTo>
                  <a:pt x="766" y="1769"/>
                </a:lnTo>
                <a:lnTo>
                  <a:pt x="773" y="1774"/>
                </a:lnTo>
                <a:lnTo>
                  <a:pt x="782" y="1780"/>
                </a:lnTo>
                <a:lnTo>
                  <a:pt x="790" y="1786"/>
                </a:lnTo>
                <a:lnTo>
                  <a:pt x="798" y="1792"/>
                </a:lnTo>
                <a:lnTo>
                  <a:pt x="804" y="1798"/>
                </a:lnTo>
                <a:lnTo>
                  <a:pt x="811" y="1801"/>
                </a:lnTo>
                <a:lnTo>
                  <a:pt x="816" y="1806"/>
                </a:lnTo>
                <a:lnTo>
                  <a:pt x="822" y="1809"/>
                </a:lnTo>
                <a:lnTo>
                  <a:pt x="826" y="1812"/>
                </a:lnTo>
                <a:lnTo>
                  <a:pt x="830" y="1814"/>
                </a:lnTo>
                <a:lnTo>
                  <a:pt x="832" y="1817"/>
                </a:lnTo>
                <a:lnTo>
                  <a:pt x="836" y="1819"/>
                </a:lnTo>
                <a:lnTo>
                  <a:pt x="841" y="1822"/>
                </a:lnTo>
                <a:lnTo>
                  <a:pt x="846" y="1824"/>
                </a:lnTo>
                <a:lnTo>
                  <a:pt x="851" y="1828"/>
                </a:lnTo>
                <a:lnTo>
                  <a:pt x="857" y="1829"/>
                </a:lnTo>
                <a:lnTo>
                  <a:pt x="862" y="1833"/>
                </a:lnTo>
                <a:lnTo>
                  <a:pt x="870" y="1835"/>
                </a:lnTo>
                <a:lnTo>
                  <a:pt x="876" y="1839"/>
                </a:lnTo>
                <a:lnTo>
                  <a:pt x="883" y="1842"/>
                </a:lnTo>
                <a:lnTo>
                  <a:pt x="890" y="1846"/>
                </a:lnTo>
                <a:lnTo>
                  <a:pt x="897" y="1847"/>
                </a:lnTo>
                <a:lnTo>
                  <a:pt x="903" y="1851"/>
                </a:lnTo>
                <a:lnTo>
                  <a:pt x="910" y="1853"/>
                </a:lnTo>
                <a:lnTo>
                  <a:pt x="917" y="1856"/>
                </a:lnTo>
                <a:lnTo>
                  <a:pt x="924" y="1858"/>
                </a:lnTo>
                <a:lnTo>
                  <a:pt x="930" y="1862"/>
                </a:lnTo>
                <a:lnTo>
                  <a:pt x="937" y="1864"/>
                </a:lnTo>
                <a:lnTo>
                  <a:pt x="946" y="1868"/>
                </a:lnTo>
                <a:lnTo>
                  <a:pt x="955" y="1870"/>
                </a:lnTo>
                <a:lnTo>
                  <a:pt x="964" y="1874"/>
                </a:lnTo>
                <a:lnTo>
                  <a:pt x="975" y="1877"/>
                </a:lnTo>
                <a:lnTo>
                  <a:pt x="987" y="1881"/>
                </a:lnTo>
                <a:lnTo>
                  <a:pt x="998" y="1883"/>
                </a:lnTo>
                <a:lnTo>
                  <a:pt x="1010" y="1887"/>
                </a:lnTo>
                <a:lnTo>
                  <a:pt x="1021" y="1890"/>
                </a:lnTo>
                <a:lnTo>
                  <a:pt x="1032" y="1894"/>
                </a:lnTo>
                <a:lnTo>
                  <a:pt x="1044" y="1897"/>
                </a:lnTo>
                <a:lnTo>
                  <a:pt x="1055" y="1900"/>
                </a:lnTo>
                <a:lnTo>
                  <a:pt x="1066" y="1902"/>
                </a:lnTo>
                <a:lnTo>
                  <a:pt x="1076" y="1906"/>
                </a:lnTo>
                <a:lnTo>
                  <a:pt x="1087" y="1907"/>
                </a:lnTo>
                <a:lnTo>
                  <a:pt x="1096" y="1911"/>
                </a:lnTo>
                <a:lnTo>
                  <a:pt x="1106" y="1913"/>
                </a:lnTo>
                <a:lnTo>
                  <a:pt x="1118" y="1916"/>
                </a:lnTo>
                <a:lnTo>
                  <a:pt x="1130" y="1918"/>
                </a:lnTo>
                <a:lnTo>
                  <a:pt x="1141" y="1922"/>
                </a:lnTo>
                <a:lnTo>
                  <a:pt x="1154" y="1924"/>
                </a:lnTo>
                <a:lnTo>
                  <a:pt x="1168" y="1926"/>
                </a:lnTo>
                <a:lnTo>
                  <a:pt x="1181" y="1928"/>
                </a:lnTo>
                <a:lnTo>
                  <a:pt x="1192" y="1931"/>
                </a:lnTo>
                <a:lnTo>
                  <a:pt x="1206" y="1933"/>
                </a:lnTo>
                <a:lnTo>
                  <a:pt x="1218" y="1935"/>
                </a:lnTo>
                <a:lnTo>
                  <a:pt x="1231" y="1937"/>
                </a:lnTo>
                <a:lnTo>
                  <a:pt x="1241" y="1938"/>
                </a:lnTo>
                <a:lnTo>
                  <a:pt x="1252" y="1940"/>
                </a:lnTo>
                <a:lnTo>
                  <a:pt x="1261" y="1942"/>
                </a:lnTo>
                <a:lnTo>
                  <a:pt x="1270" y="1942"/>
                </a:lnTo>
                <a:lnTo>
                  <a:pt x="1278" y="1944"/>
                </a:lnTo>
                <a:lnTo>
                  <a:pt x="1287" y="1945"/>
                </a:lnTo>
                <a:lnTo>
                  <a:pt x="1298" y="1946"/>
                </a:lnTo>
                <a:lnTo>
                  <a:pt x="1309" y="1946"/>
                </a:lnTo>
                <a:lnTo>
                  <a:pt x="1320" y="1948"/>
                </a:lnTo>
                <a:lnTo>
                  <a:pt x="1334" y="1948"/>
                </a:lnTo>
                <a:lnTo>
                  <a:pt x="1347" y="1950"/>
                </a:lnTo>
                <a:lnTo>
                  <a:pt x="1360" y="1950"/>
                </a:lnTo>
                <a:lnTo>
                  <a:pt x="1373" y="1952"/>
                </a:lnTo>
                <a:lnTo>
                  <a:pt x="1386" y="1952"/>
                </a:lnTo>
                <a:lnTo>
                  <a:pt x="1399" y="1954"/>
                </a:lnTo>
                <a:lnTo>
                  <a:pt x="1412" y="1954"/>
                </a:lnTo>
                <a:lnTo>
                  <a:pt x="1424" y="1956"/>
                </a:lnTo>
                <a:lnTo>
                  <a:pt x="1436" y="1956"/>
                </a:lnTo>
                <a:lnTo>
                  <a:pt x="1447" y="1956"/>
                </a:lnTo>
                <a:lnTo>
                  <a:pt x="1458" y="1956"/>
                </a:lnTo>
                <a:lnTo>
                  <a:pt x="1468" y="1958"/>
                </a:lnTo>
                <a:lnTo>
                  <a:pt x="1479" y="1958"/>
                </a:lnTo>
                <a:lnTo>
                  <a:pt x="1490" y="1958"/>
                </a:lnTo>
                <a:lnTo>
                  <a:pt x="1503" y="1958"/>
                </a:lnTo>
                <a:lnTo>
                  <a:pt x="1515" y="1960"/>
                </a:lnTo>
                <a:lnTo>
                  <a:pt x="1528" y="1960"/>
                </a:lnTo>
                <a:lnTo>
                  <a:pt x="1541" y="1960"/>
                </a:lnTo>
                <a:lnTo>
                  <a:pt x="1555" y="1960"/>
                </a:lnTo>
                <a:lnTo>
                  <a:pt x="1568" y="1961"/>
                </a:lnTo>
                <a:lnTo>
                  <a:pt x="1581" y="1961"/>
                </a:lnTo>
                <a:lnTo>
                  <a:pt x="1592" y="1961"/>
                </a:lnTo>
                <a:lnTo>
                  <a:pt x="1606" y="1961"/>
                </a:lnTo>
                <a:lnTo>
                  <a:pt x="1616" y="1961"/>
                </a:lnTo>
                <a:lnTo>
                  <a:pt x="1628" y="1961"/>
                </a:lnTo>
                <a:lnTo>
                  <a:pt x="1637" y="1961"/>
                </a:lnTo>
                <a:lnTo>
                  <a:pt x="1646" y="1961"/>
                </a:lnTo>
                <a:lnTo>
                  <a:pt x="1652" y="1961"/>
                </a:lnTo>
                <a:lnTo>
                  <a:pt x="1658" y="1961"/>
                </a:lnTo>
                <a:lnTo>
                  <a:pt x="1660" y="1961"/>
                </a:lnTo>
                <a:lnTo>
                  <a:pt x="1664" y="1961"/>
                </a:lnTo>
                <a:lnTo>
                  <a:pt x="1666" y="1961"/>
                </a:lnTo>
                <a:lnTo>
                  <a:pt x="1668" y="1961"/>
                </a:lnTo>
                <a:lnTo>
                  <a:pt x="1670" y="1961"/>
                </a:lnTo>
                <a:lnTo>
                  <a:pt x="1672" y="1961"/>
                </a:lnTo>
                <a:lnTo>
                  <a:pt x="1674" y="1961"/>
                </a:lnTo>
                <a:lnTo>
                  <a:pt x="1677" y="1961"/>
                </a:lnTo>
                <a:lnTo>
                  <a:pt x="1680" y="1961"/>
                </a:lnTo>
                <a:lnTo>
                  <a:pt x="1687" y="1961"/>
                </a:lnTo>
                <a:lnTo>
                  <a:pt x="1694" y="1961"/>
                </a:lnTo>
                <a:lnTo>
                  <a:pt x="1704" y="1961"/>
                </a:lnTo>
                <a:lnTo>
                  <a:pt x="1716" y="1961"/>
                </a:lnTo>
                <a:lnTo>
                  <a:pt x="1730" y="1961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rot="5400000">
            <a:off x="2640600" y="2122920"/>
            <a:ext cx="4687920" cy="5168880"/>
          </a:xfrm>
          <a:custGeom>
            <a:avLst/>
            <a:gdLst/>
            <a:ahLst/>
            <a:rect l="l" t="t" r="r" b="b"/>
            <a:pathLst>
              <a:path w="1891" h="2150">
                <a:moveTo>
                  <a:pt x="0" y="0"/>
                </a:moveTo>
                <a:lnTo>
                  <a:pt x="1" y="18"/>
                </a:lnTo>
                <a:lnTo>
                  <a:pt x="3" y="32"/>
                </a:lnTo>
                <a:lnTo>
                  <a:pt x="3" y="45"/>
                </a:lnTo>
                <a:lnTo>
                  <a:pt x="5" y="53"/>
                </a:lnTo>
                <a:lnTo>
                  <a:pt x="5" y="60"/>
                </a:lnTo>
                <a:lnTo>
                  <a:pt x="5" y="65"/>
                </a:lnTo>
                <a:lnTo>
                  <a:pt x="5" y="69"/>
                </a:lnTo>
                <a:lnTo>
                  <a:pt x="7" y="71"/>
                </a:lnTo>
                <a:lnTo>
                  <a:pt x="7" y="74"/>
                </a:lnTo>
                <a:lnTo>
                  <a:pt x="7" y="76"/>
                </a:lnTo>
                <a:lnTo>
                  <a:pt x="7" y="78"/>
                </a:lnTo>
                <a:lnTo>
                  <a:pt x="8" y="80"/>
                </a:lnTo>
                <a:lnTo>
                  <a:pt x="8" y="84"/>
                </a:lnTo>
                <a:lnTo>
                  <a:pt x="8" y="88"/>
                </a:lnTo>
                <a:lnTo>
                  <a:pt x="9" y="95"/>
                </a:lnTo>
                <a:lnTo>
                  <a:pt x="11" y="103"/>
                </a:lnTo>
                <a:lnTo>
                  <a:pt x="12" y="114"/>
                </a:lnTo>
                <a:lnTo>
                  <a:pt x="14" y="129"/>
                </a:lnTo>
                <a:lnTo>
                  <a:pt x="16" y="146"/>
                </a:lnTo>
                <a:lnTo>
                  <a:pt x="20" y="164"/>
                </a:lnTo>
                <a:lnTo>
                  <a:pt x="23" y="186"/>
                </a:lnTo>
                <a:lnTo>
                  <a:pt x="26" y="208"/>
                </a:lnTo>
                <a:lnTo>
                  <a:pt x="31" y="232"/>
                </a:lnTo>
                <a:lnTo>
                  <a:pt x="36" y="258"/>
                </a:lnTo>
                <a:lnTo>
                  <a:pt x="41" y="285"/>
                </a:lnTo>
                <a:lnTo>
                  <a:pt x="46" y="312"/>
                </a:lnTo>
                <a:lnTo>
                  <a:pt x="52" y="340"/>
                </a:lnTo>
                <a:lnTo>
                  <a:pt x="58" y="368"/>
                </a:lnTo>
                <a:lnTo>
                  <a:pt x="63" y="396"/>
                </a:lnTo>
                <a:lnTo>
                  <a:pt x="69" y="423"/>
                </a:lnTo>
                <a:lnTo>
                  <a:pt x="74" y="450"/>
                </a:lnTo>
                <a:lnTo>
                  <a:pt x="81" y="475"/>
                </a:lnTo>
                <a:lnTo>
                  <a:pt x="86" y="502"/>
                </a:lnTo>
                <a:lnTo>
                  <a:pt x="93" y="529"/>
                </a:lnTo>
                <a:lnTo>
                  <a:pt x="100" y="558"/>
                </a:lnTo>
                <a:lnTo>
                  <a:pt x="107" y="586"/>
                </a:lnTo>
                <a:lnTo>
                  <a:pt x="114" y="616"/>
                </a:lnTo>
                <a:lnTo>
                  <a:pt x="122" y="646"/>
                </a:lnTo>
                <a:lnTo>
                  <a:pt x="130" y="675"/>
                </a:lnTo>
                <a:lnTo>
                  <a:pt x="138" y="703"/>
                </a:lnTo>
                <a:lnTo>
                  <a:pt x="146" y="732"/>
                </a:lnTo>
                <a:lnTo>
                  <a:pt x="153" y="758"/>
                </a:lnTo>
                <a:lnTo>
                  <a:pt x="161" y="785"/>
                </a:lnTo>
                <a:lnTo>
                  <a:pt x="169" y="808"/>
                </a:lnTo>
                <a:lnTo>
                  <a:pt x="175" y="830"/>
                </a:lnTo>
                <a:lnTo>
                  <a:pt x="182" y="850"/>
                </a:lnTo>
                <a:lnTo>
                  <a:pt x="188" y="867"/>
                </a:lnTo>
                <a:lnTo>
                  <a:pt x="194" y="880"/>
                </a:lnTo>
                <a:lnTo>
                  <a:pt x="199" y="894"/>
                </a:lnTo>
                <a:lnTo>
                  <a:pt x="205" y="910"/>
                </a:lnTo>
                <a:lnTo>
                  <a:pt x="212" y="928"/>
                </a:lnTo>
                <a:lnTo>
                  <a:pt x="220" y="945"/>
                </a:lnTo>
                <a:lnTo>
                  <a:pt x="228" y="966"/>
                </a:lnTo>
                <a:lnTo>
                  <a:pt x="236" y="986"/>
                </a:lnTo>
                <a:lnTo>
                  <a:pt x="246" y="1008"/>
                </a:lnTo>
                <a:lnTo>
                  <a:pt x="255" y="1029"/>
                </a:lnTo>
                <a:lnTo>
                  <a:pt x="263" y="1051"/>
                </a:lnTo>
                <a:lnTo>
                  <a:pt x="272" y="1074"/>
                </a:lnTo>
                <a:lnTo>
                  <a:pt x="282" y="1096"/>
                </a:lnTo>
                <a:lnTo>
                  <a:pt x="291" y="1117"/>
                </a:lnTo>
                <a:lnTo>
                  <a:pt x="298" y="1138"/>
                </a:lnTo>
                <a:lnTo>
                  <a:pt x="308" y="1158"/>
                </a:lnTo>
                <a:lnTo>
                  <a:pt x="316" y="1176"/>
                </a:lnTo>
                <a:lnTo>
                  <a:pt x="324" y="1194"/>
                </a:lnTo>
                <a:lnTo>
                  <a:pt x="331" y="1212"/>
                </a:lnTo>
                <a:lnTo>
                  <a:pt x="338" y="1230"/>
                </a:lnTo>
                <a:lnTo>
                  <a:pt x="347" y="1250"/>
                </a:lnTo>
                <a:lnTo>
                  <a:pt x="356" y="1269"/>
                </a:lnTo>
                <a:lnTo>
                  <a:pt x="365" y="1290"/>
                </a:lnTo>
                <a:lnTo>
                  <a:pt x="374" y="1310"/>
                </a:lnTo>
                <a:lnTo>
                  <a:pt x="384" y="1331"/>
                </a:lnTo>
                <a:lnTo>
                  <a:pt x="393" y="1351"/>
                </a:lnTo>
                <a:lnTo>
                  <a:pt x="400" y="1372"/>
                </a:lnTo>
                <a:lnTo>
                  <a:pt x="410" y="1392"/>
                </a:lnTo>
                <a:lnTo>
                  <a:pt x="418" y="1411"/>
                </a:lnTo>
                <a:lnTo>
                  <a:pt x="427" y="1429"/>
                </a:lnTo>
                <a:lnTo>
                  <a:pt x="434" y="1446"/>
                </a:lnTo>
                <a:lnTo>
                  <a:pt x="442" y="1460"/>
                </a:lnTo>
                <a:lnTo>
                  <a:pt x="447" y="1474"/>
                </a:lnTo>
                <a:lnTo>
                  <a:pt x="454" y="1485"/>
                </a:lnTo>
                <a:lnTo>
                  <a:pt x="459" y="1497"/>
                </a:lnTo>
                <a:lnTo>
                  <a:pt x="465" y="1509"/>
                </a:lnTo>
                <a:lnTo>
                  <a:pt x="472" y="1524"/>
                </a:lnTo>
                <a:lnTo>
                  <a:pt x="481" y="1537"/>
                </a:lnTo>
                <a:lnTo>
                  <a:pt x="490" y="1553"/>
                </a:lnTo>
                <a:lnTo>
                  <a:pt x="499" y="1568"/>
                </a:lnTo>
                <a:lnTo>
                  <a:pt x="508" y="1584"/>
                </a:lnTo>
                <a:lnTo>
                  <a:pt x="520" y="1599"/>
                </a:lnTo>
                <a:lnTo>
                  <a:pt x="529" y="1616"/>
                </a:lnTo>
                <a:lnTo>
                  <a:pt x="540" y="1631"/>
                </a:lnTo>
                <a:lnTo>
                  <a:pt x="550" y="1646"/>
                </a:lnTo>
                <a:lnTo>
                  <a:pt x="561" y="1662"/>
                </a:lnTo>
                <a:lnTo>
                  <a:pt x="571" y="1676"/>
                </a:lnTo>
                <a:lnTo>
                  <a:pt x="581" y="1690"/>
                </a:lnTo>
                <a:lnTo>
                  <a:pt x="590" y="1701"/>
                </a:lnTo>
                <a:lnTo>
                  <a:pt x="600" y="1712"/>
                </a:lnTo>
                <a:lnTo>
                  <a:pt x="609" y="1724"/>
                </a:lnTo>
                <a:lnTo>
                  <a:pt x="618" y="1736"/>
                </a:lnTo>
                <a:lnTo>
                  <a:pt x="629" y="1749"/>
                </a:lnTo>
                <a:lnTo>
                  <a:pt x="640" y="1761"/>
                </a:lnTo>
                <a:lnTo>
                  <a:pt x="652" y="1774"/>
                </a:lnTo>
                <a:lnTo>
                  <a:pt x="665" y="1787"/>
                </a:lnTo>
                <a:lnTo>
                  <a:pt x="678" y="1800"/>
                </a:lnTo>
                <a:lnTo>
                  <a:pt x="691" y="1812"/>
                </a:lnTo>
                <a:lnTo>
                  <a:pt x="702" y="1826"/>
                </a:lnTo>
                <a:lnTo>
                  <a:pt x="716" y="1839"/>
                </a:lnTo>
                <a:lnTo>
                  <a:pt x="727" y="1850"/>
                </a:lnTo>
                <a:lnTo>
                  <a:pt x="740" y="1861"/>
                </a:lnTo>
                <a:lnTo>
                  <a:pt x="752" y="1872"/>
                </a:lnTo>
                <a:lnTo>
                  <a:pt x="763" y="1881"/>
                </a:lnTo>
                <a:lnTo>
                  <a:pt x="772" y="1889"/>
                </a:lnTo>
                <a:lnTo>
                  <a:pt x="783" y="1896"/>
                </a:lnTo>
                <a:lnTo>
                  <a:pt x="790" y="1904"/>
                </a:lnTo>
                <a:lnTo>
                  <a:pt x="800" y="1910"/>
                </a:lnTo>
                <a:lnTo>
                  <a:pt x="809" y="1918"/>
                </a:lnTo>
                <a:lnTo>
                  <a:pt x="818" y="1924"/>
                </a:lnTo>
                <a:lnTo>
                  <a:pt x="827" y="1931"/>
                </a:lnTo>
                <a:lnTo>
                  <a:pt x="836" y="1938"/>
                </a:lnTo>
                <a:lnTo>
                  <a:pt x="846" y="1945"/>
                </a:lnTo>
                <a:lnTo>
                  <a:pt x="855" y="1951"/>
                </a:lnTo>
                <a:lnTo>
                  <a:pt x="863" y="1958"/>
                </a:lnTo>
                <a:lnTo>
                  <a:pt x="872" y="1964"/>
                </a:lnTo>
                <a:lnTo>
                  <a:pt x="879" y="1970"/>
                </a:lnTo>
                <a:lnTo>
                  <a:pt x="886" y="1974"/>
                </a:lnTo>
                <a:lnTo>
                  <a:pt x="892" y="1979"/>
                </a:lnTo>
                <a:lnTo>
                  <a:pt x="898" y="1983"/>
                </a:lnTo>
                <a:lnTo>
                  <a:pt x="902" y="1986"/>
                </a:lnTo>
                <a:lnTo>
                  <a:pt x="907" y="1988"/>
                </a:lnTo>
                <a:lnTo>
                  <a:pt x="910" y="1991"/>
                </a:lnTo>
                <a:lnTo>
                  <a:pt x="914" y="1993"/>
                </a:lnTo>
                <a:lnTo>
                  <a:pt x="919" y="1996"/>
                </a:lnTo>
                <a:lnTo>
                  <a:pt x="924" y="1998"/>
                </a:lnTo>
                <a:lnTo>
                  <a:pt x="930" y="2002"/>
                </a:lnTo>
                <a:lnTo>
                  <a:pt x="936" y="2005"/>
                </a:lnTo>
                <a:lnTo>
                  <a:pt x="944" y="2009"/>
                </a:lnTo>
                <a:lnTo>
                  <a:pt x="951" y="2011"/>
                </a:lnTo>
                <a:lnTo>
                  <a:pt x="958" y="2014"/>
                </a:lnTo>
                <a:lnTo>
                  <a:pt x="966" y="2018"/>
                </a:lnTo>
                <a:lnTo>
                  <a:pt x="973" y="2022"/>
                </a:lnTo>
                <a:lnTo>
                  <a:pt x="981" y="2025"/>
                </a:lnTo>
                <a:lnTo>
                  <a:pt x="988" y="2029"/>
                </a:lnTo>
                <a:lnTo>
                  <a:pt x="996" y="2032"/>
                </a:lnTo>
                <a:lnTo>
                  <a:pt x="1002" y="2034"/>
                </a:lnTo>
                <a:lnTo>
                  <a:pt x="1010" y="2036"/>
                </a:lnTo>
                <a:lnTo>
                  <a:pt x="1017" y="2040"/>
                </a:lnTo>
                <a:lnTo>
                  <a:pt x="1025" y="2043"/>
                </a:lnTo>
                <a:lnTo>
                  <a:pt x="1034" y="2047"/>
                </a:lnTo>
                <a:lnTo>
                  <a:pt x="1044" y="2049"/>
                </a:lnTo>
                <a:lnTo>
                  <a:pt x="1055" y="2053"/>
                </a:lnTo>
                <a:lnTo>
                  <a:pt x="1066" y="2056"/>
                </a:lnTo>
                <a:lnTo>
                  <a:pt x="1078" y="2060"/>
                </a:lnTo>
                <a:lnTo>
                  <a:pt x="1091" y="2063"/>
                </a:lnTo>
                <a:lnTo>
                  <a:pt x="1103" y="2067"/>
                </a:lnTo>
                <a:lnTo>
                  <a:pt x="1116" y="2071"/>
                </a:lnTo>
                <a:lnTo>
                  <a:pt x="1128" y="2074"/>
                </a:lnTo>
                <a:lnTo>
                  <a:pt x="1142" y="2078"/>
                </a:lnTo>
                <a:lnTo>
                  <a:pt x="1153" y="2082"/>
                </a:lnTo>
                <a:lnTo>
                  <a:pt x="1165" y="2085"/>
                </a:lnTo>
                <a:lnTo>
                  <a:pt x="1176" y="2088"/>
                </a:lnTo>
                <a:lnTo>
                  <a:pt x="1188" y="2090"/>
                </a:lnTo>
                <a:lnTo>
                  <a:pt x="1198" y="2094"/>
                </a:lnTo>
                <a:lnTo>
                  <a:pt x="1209" y="2096"/>
                </a:lnTo>
                <a:lnTo>
                  <a:pt x="1222" y="2100"/>
                </a:lnTo>
                <a:lnTo>
                  <a:pt x="1234" y="2101"/>
                </a:lnTo>
                <a:lnTo>
                  <a:pt x="1248" y="2105"/>
                </a:lnTo>
                <a:lnTo>
                  <a:pt x="1262" y="2107"/>
                </a:lnTo>
                <a:lnTo>
                  <a:pt x="1275" y="2110"/>
                </a:lnTo>
                <a:lnTo>
                  <a:pt x="1290" y="2112"/>
                </a:lnTo>
                <a:lnTo>
                  <a:pt x="1303" y="2116"/>
                </a:lnTo>
                <a:lnTo>
                  <a:pt x="1318" y="2118"/>
                </a:lnTo>
                <a:lnTo>
                  <a:pt x="1331" y="2120"/>
                </a:lnTo>
                <a:lnTo>
                  <a:pt x="1344" y="2122"/>
                </a:lnTo>
                <a:lnTo>
                  <a:pt x="1356" y="2124"/>
                </a:lnTo>
                <a:lnTo>
                  <a:pt x="1368" y="2126"/>
                </a:lnTo>
                <a:lnTo>
                  <a:pt x="1378" y="2128"/>
                </a:lnTo>
                <a:lnTo>
                  <a:pt x="1388" y="2128"/>
                </a:lnTo>
                <a:lnTo>
                  <a:pt x="1397" y="2130"/>
                </a:lnTo>
                <a:lnTo>
                  <a:pt x="1407" y="2131"/>
                </a:lnTo>
                <a:lnTo>
                  <a:pt x="1418" y="2133"/>
                </a:lnTo>
                <a:lnTo>
                  <a:pt x="1431" y="2133"/>
                </a:lnTo>
                <a:lnTo>
                  <a:pt x="1444" y="2135"/>
                </a:lnTo>
                <a:lnTo>
                  <a:pt x="1457" y="2136"/>
                </a:lnTo>
                <a:lnTo>
                  <a:pt x="1471" y="2138"/>
                </a:lnTo>
                <a:lnTo>
                  <a:pt x="1486" y="2138"/>
                </a:lnTo>
                <a:lnTo>
                  <a:pt x="1499" y="2139"/>
                </a:lnTo>
                <a:lnTo>
                  <a:pt x="1514" y="2139"/>
                </a:lnTo>
                <a:lnTo>
                  <a:pt x="1528" y="2141"/>
                </a:lnTo>
                <a:lnTo>
                  <a:pt x="1543" y="2141"/>
                </a:lnTo>
                <a:lnTo>
                  <a:pt x="1556" y="2143"/>
                </a:lnTo>
                <a:lnTo>
                  <a:pt x="1569" y="2143"/>
                </a:lnTo>
                <a:lnTo>
                  <a:pt x="1581" y="2144"/>
                </a:lnTo>
                <a:lnTo>
                  <a:pt x="1593" y="2144"/>
                </a:lnTo>
                <a:lnTo>
                  <a:pt x="1604" y="2146"/>
                </a:lnTo>
                <a:lnTo>
                  <a:pt x="1616" y="2146"/>
                </a:lnTo>
                <a:lnTo>
                  <a:pt x="1628" y="2146"/>
                </a:lnTo>
                <a:lnTo>
                  <a:pt x="1642" y="2146"/>
                </a:lnTo>
                <a:lnTo>
                  <a:pt x="1655" y="2148"/>
                </a:lnTo>
                <a:lnTo>
                  <a:pt x="1670" y="2148"/>
                </a:lnTo>
                <a:lnTo>
                  <a:pt x="1684" y="2148"/>
                </a:lnTo>
                <a:lnTo>
                  <a:pt x="1700" y="2148"/>
                </a:lnTo>
                <a:lnTo>
                  <a:pt x="1712" y="2149"/>
                </a:lnTo>
                <a:lnTo>
                  <a:pt x="1728" y="2149"/>
                </a:lnTo>
                <a:lnTo>
                  <a:pt x="1741" y="2149"/>
                </a:lnTo>
                <a:lnTo>
                  <a:pt x="1754" y="2149"/>
                </a:lnTo>
                <a:lnTo>
                  <a:pt x="1766" y="2149"/>
                </a:lnTo>
                <a:lnTo>
                  <a:pt x="1778" y="2149"/>
                </a:lnTo>
                <a:lnTo>
                  <a:pt x="1788" y="2149"/>
                </a:lnTo>
                <a:lnTo>
                  <a:pt x="1799" y="2149"/>
                </a:lnTo>
                <a:lnTo>
                  <a:pt x="1806" y="2149"/>
                </a:lnTo>
                <a:lnTo>
                  <a:pt x="1811" y="2149"/>
                </a:lnTo>
                <a:lnTo>
                  <a:pt x="1815" y="2149"/>
                </a:lnTo>
                <a:lnTo>
                  <a:pt x="1819" y="2149"/>
                </a:lnTo>
                <a:lnTo>
                  <a:pt x="1820" y="2149"/>
                </a:lnTo>
                <a:lnTo>
                  <a:pt x="1822" y="2149"/>
                </a:lnTo>
                <a:lnTo>
                  <a:pt x="1824" y="2149"/>
                </a:lnTo>
                <a:lnTo>
                  <a:pt x="1827" y="2149"/>
                </a:lnTo>
                <a:lnTo>
                  <a:pt x="1829" y="2149"/>
                </a:lnTo>
                <a:lnTo>
                  <a:pt x="1832" y="2149"/>
                </a:lnTo>
                <a:lnTo>
                  <a:pt x="1836" y="2149"/>
                </a:lnTo>
                <a:lnTo>
                  <a:pt x="1843" y="2149"/>
                </a:lnTo>
                <a:lnTo>
                  <a:pt x="1850" y="2149"/>
                </a:lnTo>
                <a:lnTo>
                  <a:pt x="1861" y="2149"/>
                </a:lnTo>
                <a:lnTo>
                  <a:pt x="1874" y="2149"/>
                </a:lnTo>
                <a:lnTo>
                  <a:pt x="1890" y="2149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rot="5400000">
            <a:off x="4217040" y="1885680"/>
            <a:ext cx="3757680" cy="4125960"/>
          </a:xfrm>
          <a:custGeom>
            <a:avLst/>
            <a:gdLst/>
            <a:ahLst/>
            <a:rect l="l" t="t" r="r" b="b"/>
            <a:pathLst>
              <a:path w="1515" h="1716">
                <a:moveTo>
                  <a:pt x="0" y="0"/>
                </a:moveTo>
                <a:lnTo>
                  <a:pt x="0" y="15"/>
                </a:lnTo>
                <a:lnTo>
                  <a:pt x="2" y="26"/>
                </a:lnTo>
                <a:lnTo>
                  <a:pt x="2" y="36"/>
                </a:lnTo>
                <a:lnTo>
                  <a:pt x="4" y="42"/>
                </a:lnTo>
                <a:lnTo>
                  <a:pt x="4" y="48"/>
                </a:lnTo>
                <a:lnTo>
                  <a:pt x="4" y="52"/>
                </a:lnTo>
                <a:lnTo>
                  <a:pt x="4" y="55"/>
                </a:lnTo>
                <a:lnTo>
                  <a:pt x="6" y="57"/>
                </a:lnTo>
                <a:lnTo>
                  <a:pt x="6" y="58"/>
                </a:lnTo>
                <a:lnTo>
                  <a:pt x="6" y="60"/>
                </a:lnTo>
                <a:lnTo>
                  <a:pt x="6" y="62"/>
                </a:lnTo>
                <a:lnTo>
                  <a:pt x="6" y="64"/>
                </a:lnTo>
                <a:lnTo>
                  <a:pt x="6" y="68"/>
                </a:lnTo>
                <a:lnTo>
                  <a:pt x="7" y="71"/>
                </a:lnTo>
                <a:lnTo>
                  <a:pt x="7" y="76"/>
                </a:lnTo>
                <a:lnTo>
                  <a:pt x="9" y="82"/>
                </a:lnTo>
                <a:lnTo>
                  <a:pt x="9" y="92"/>
                </a:lnTo>
                <a:lnTo>
                  <a:pt x="10" y="104"/>
                </a:lnTo>
                <a:lnTo>
                  <a:pt x="12" y="117"/>
                </a:lnTo>
                <a:lnTo>
                  <a:pt x="15" y="132"/>
                </a:lnTo>
                <a:lnTo>
                  <a:pt x="17" y="149"/>
                </a:lnTo>
                <a:lnTo>
                  <a:pt x="21" y="166"/>
                </a:lnTo>
                <a:lnTo>
                  <a:pt x="25" y="186"/>
                </a:lnTo>
                <a:lnTo>
                  <a:pt x="29" y="206"/>
                </a:lnTo>
                <a:lnTo>
                  <a:pt x="33" y="228"/>
                </a:lnTo>
                <a:lnTo>
                  <a:pt x="37" y="250"/>
                </a:lnTo>
                <a:lnTo>
                  <a:pt x="40" y="272"/>
                </a:lnTo>
                <a:lnTo>
                  <a:pt x="46" y="294"/>
                </a:lnTo>
                <a:lnTo>
                  <a:pt x="50" y="316"/>
                </a:lnTo>
                <a:lnTo>
                  <a:pt x="56" y="338"/>
                </a:lnTo>
                <a:lnTo>
                  <a:pt x="59" y="359"/>
                </a:lnTo>
                <a:lnTo>
                  <a:pt x="65" y="379"/>
                </a:lnTo>
                <a:lnTo>
                  <a:pt x="68" y="401"/>
                </a:lnTo>
                <a:lnTo>
                  <a:pt x="74" y="422"/>
                </a:lnTo>
                <a:lnTo>
                  <a:pt x="79" y="445"/>
                </a:lnTo>
                <a:lnTo>
                  <a:pt x="85" y="468"/>
                </a:lnTo>
                <a:lnTo>
                  <a:pt x="90" y="492"/>
                </a:lnTo>
                <a:lnTo>
                  <a:pt x="97" y="515"/>
                </a:lnTo>
                <a:lnTo>
                  <a:pt x="103" y="539"/>
                </a:lnTo>
                <a:lnTo>
                  <a:pt x="110" y="562"/>
                </a:lnTo>
                <a:lnTo>
                  <a:pt x="116" y="584"/>
                </a:lnTo>
                <a:lnTo>
                  <a:pt x="122" y="606"/>
                </a:lnTo>
                <a:lnTo>
                  <a:pt x="128" y="627"/>
                </a:lnTo>
                <a:lnTo>
                  <a:pt x="135" y="645"/>
                </a:lnTo>
                <a:lnTo>
                  <a:pt x="140" y="663"/>
                </a:lnTo>
                <a:lnTo>
                  <a:pt x="146" y="679"/>
                </a:lnTo>
                <a:lnTo>
                  <a:pt x="150" y="692"/>
                </a:lnTo>
                <a:lnTo>
                  <a:pt x="156" y="702"/>
                </a:lnTo>
                <a:lnTo>
                  <a:pt x="160" y="714"/>
                </a:lnTo>
                <a:lnTo>
                  <a:pt x="164" y="727"/>
                </a:lnTo>
                <a:lnTo>
                  <a:pt x="170" y="741"/>
                </a:lnTo>
                <a:lnTo>
                  <a:pt x="176" y="755"/>
                </a:lnTo>
                <a:lnTo>
                  <a:pt x="182" y="771"/>
                </a:lnTo>
                <a:lnTo>
                  <a:pt x="189" y="787"/>
                </a:lnTo>
                <a:lnTo>
                  <a:pt x="196" y="805"/>
                </a:lnTo>
                <a:lnTo>
                  <a:pt x="204" y="822"/>
                </a:lnTo>
                <a:lnTo>
                  <a:pt x="211" y="840"/>
                </a:lnTo>
                <a:lnTo>
                  <a:pt x="218" y="857"/>
                </a:lnTo>
                <a:lnTo>
                  <a:pt x="226" y="875"/>
                </a:lnTo>
                <a:lnTo>
                  <a:pt x="233" y="892"/>
                </a:lnTo>
                <a:lnTo>
                  <a:pt x="239" y="908"/>
                </a:lnTo>
                <a:lnTo>
                  <a:pt x="246" y="925"/>
                </a:lnTo>
                <a:lnTo>
                  <a:pt x="253" y="940"/>
                </a:lnTo>
                <a:lnTo>
                  <a:pt x="260" y="953"/>
                </a:lnTo>
                <a:lnTo>
                  <a:pt x="266" y="968"/>
                </a:lnTo>
                <a:lnTo>
                  <a:pt x="272" y="982"/>
                </a:lnTo>
                <a:lnTo>
                  <a:pt x="278" y="998"/>
                </a:lnTo>
                <a:lnTo>
                  <a:pt x="285" y="1013"/>
                </a:lnTo>
                <a:lnTo>
                  <a:pt x="292" y="1030"/>
                </a:lnTo>
                <a:lnTo>
                  <a:pt x="300" y="1046"/>
                </a:lnTo>
                <a:lnTo>
                  <a:pt x="307" y="1063"/>
                </a:lnTo>
                <a:lnTo>
                  <a:pt x="314" y="1079"/>
                </a:lnTo>
                <a:lnTo>
                  <a:pt x="320" y="1096"/>
                </a:lnTo>
                <a:lnTo>
                  <a:pt x="328" y="1111"/>
                </a:lnTo>
                <a:lnTo>
                  <a:pt x="334" y="1126"/>
                </a:lnTo>
                <a:lnTo>
                  <a:pt x="342" y="1140"/>
                </a:lnTo>
                <a:lnTo>
                  <a:pt x="348" y="1154"/>
                </a:lnTo>
                <a:lnTo>
                  <a:pt x="354" y="1166"/>
                </a:lnTo>
                <a:lnTo>
                  <a:pt x="358" y="1177"/>
                </a:lnTo>
                <a:lnTo>
                  <a:pt x="364" y="1186"/>
                </a:lnTo>
                <a:lnTo>
                  <a:pt x="368" y="1196"/>
                </a:lnTo>
                <a:lnTo>
                  <a:pt x="372" y="1205"/>
                </a:lnTo>
                <a:lnTo>
                  <a:pt x="378" y="1216"/>
                </a:lnTo>
                <a:lnTo>
                  <a:pt x="385" y="1227"/>
                </a:lnTo>
                <a:lnTo>
                  <a:pt x="392" y="1240"/>
                </a:lnTo>
                <a:lnTo>
                  <a:pt x="399" y="1252"/>
                </a:lnTo>
                <a:lnTo>
                  <a:pt x="407" y="1265"/>
                </a:lnTo>
                <a:lnTo>
                  <a:pt x="416" y="1276"/>
                </a:lnTo>
                <a:lnTo>
                  <a:pt x="424" y="1290"/>
                </a:lnTo>
                <a:lnTo>
                  <a:pt x="433" y="1302"/>
                </a:lnTo>
                <a:lnTo>
                  <a:pt x="440" y="1315"/>
                </a:lnTo>
                <a:lnTo>
                  <a:pt x="450" y="1326"/>
                </a:lnTo>
                <a:lnTo>
                  <a:pt x="457" y="1338"/>
                </a:lnTo>
                <a:lnTo>
                  <a:pt x="465" y="1348"/>
                </a:lnTo>
                <a:lnTo>
                  <a:pt x="473" y="1358"/>
                </a:lnTo>
                <a:lnTo>
                  <a:pt x="481" y="1366"/>
                </a:lnTo>
                <a:lnTo>
                  <a:pt x="488" y="1376"/>
                </a:lnTo>
                <a:lnTo>
                  <a:pt x="495" y="1385"/>
                </a:lnTo>
                <a:lnTo>
                  <a:pt x="504" y="1395"/>
                </a:lnTo>
                <a:lnTo>
                  <a:pt x="514" y="1404"/>
                </a:lnTo>
                <a:lnTo>
                  <a:pt x="523" y="1416"/>
                </a:lnTo>
                <a:lnTo>
                  <a:pt x="534" y="1426"/>
                </a:lnTo>
                <a:lnTo>
                  <a:pt x="543" y="1437"/>
                </a:lnTo>
                <a:lnTo>
                  <a:pt x="554" y="1446"/>
                </a:lnTo>
                <a:lnTo>
                  <a:pt x="563" y="1458"/>
                </a:lnTo>
                <a:lnTo>
                  <a:pt x="574" y="1467"/>
                </a:lnTo>
                <a:lnTo>
                  <a:pt x="583" y="1476"/>
                </a:lnTo>
                <a:lnTo>
                  <a:pt x="594" y="1485"/>
                </a:lnTo>
                <a:lnTo>
                  <a:pt x="602" y="1494"/>
                </a:lnTo>
                <a:lnTo>
                  <a:pt x="612" y="1501"/>
                </a:lnTo>
                <a:lnTo>
                  <a:pt x="619" y="1508"/>
                </a:lnTo>
                <a:lnTo>
                  <a:pt x="628" y="1513"/>
                </a:lnTo>
                <a:lnTo>
                  <a:pt x="634" y="1519"/>
                </a:lnTo>
                <a:lnTo>
                  <a:pt x="641" y="1524"/>
                </a:lnTo>
                <a:lnTo>
                  <a:pt x="649" y="1530"/>
                </a:lnTo>
                <a:lnTo>
                  <a:pt x="656" y="1535"/>
                </a:lnTo>
                <a:lnTo>
                  <a:pt x="663" y="1540"/>
                </a:lnTo>
                <a:lnTo>
                  <a:pt x="671" y="1546"/>
                </a:lnTo>
                <a:lnTo>
                  <a:pt x="678" y="1552"/>
                </a:lnTo>
                <a:lnTo>
                  <a:pt x="686" y="1557"/>
                </a:lnTo>
                <a:lnTo>
                  <a:pt x="691" y="1562"/>
                </a:lnTo>
                <a:lnTo>
                  <a:pt x="698" y="1567"/>
                </a:lnTo>
                <a:lnTo>
                  <a:pt x="704" y="1572"/>
                </a:lnTo>
                <a:lnTo>
                  <a:pt x="710" y="1576"/>
                </a:lnTo>
                <a:lnTo>
                  <a:pt x="714" y="1579"/>
                </a:lnTo>
                <a:lnTo>
                  <a:pt x="719" y="1582"/>
                </a:lnTo>
                <a:lnTo>
                  <a:pt x="723" y="1585"/>
                </a:lnTo>
                <a:lnTo>
                  <a:pt x="727" y="1586"/>
                </a:lnTo>
                <a:lnTo>
                  <a:pt x="729" y="1589"/>
                </a:lnTo>
                <a:lnTo>
                  <a:pt x="732" y="1591"/>
                </a:lnTo>
                <a:lnTo>
                  <a:pt x="736" y="1593"/>
                </a:lnTo>
                <a:lnTo>
                  <a:pt x="740" y="1595"/>
                </a:lnTo>
                <a:lnTo>
                  <a:pt x="745" y="1598"/>
                </a:lnTo>
                <a:lnTo>
                  <a:pt x="750" y="1600"/>
                </a:lnTo>
                <a:lnTo>
                  <a:pt x="756" y="1604"/>
                </a:lnTo>
                <a:lnTo>
                  <a:pt x="762" y="1605"/>
                </a:lnTo>
                <a:lnTo>
                  <a:pt x="768" y="1609"/>
                </a:lnTo>
                <a:lnTo>
                  <a:pt x="773" y="1611"/>
                </a:lnTo>
                <a:lnTo>
                  <a:pt x="779" y="1615"/>
                </a:lnTo>
                <a:lnTo>
                  <a:pt x="786" y="1617"/>
                </a:lnTo>
                <a:lnTo>
                  <a:pt x="791" y="1620"/>
                </a:lnTo>
                <a:lnTo>
                  <a:pt x="797" y="1622"/>
                </a:lnTo>
                <a:lnTo>
                  <a:pt x="802" y="1624"/>
                </a:lnTo>
                <a:lnTo>
                  <a:pt x="809" y="1625"/>
                </a:lnTo>
                <a:lnTo>
                  <a:pt x="814" y="1629"/>
                </a:lnTo>
                <a:lnTo>
                  <a:pt x="820" y="1631"/>
                </a:lnTo>
                <a:lnTo>
                  <a:pt x="828" y="1634"/>
                </a:lnTo>
                <a:lnTo>
                  <a:pt x="837" y="1636"/>
                </a:lnTo>
                <a:lnTo>
                  <a:pt x="845" y="1640"/>
                </a:lnTo>
                <a:lnTo>
                  <a:pt x="854" y="1642"/>
                </a:lnTo>
                <a:lnTo>
                  <a:pt x="864" y="1645"/>
                </a:lnTo>
                <a:lnTo>
                  <a:pt x="874" y="1647"/>
                </a:lnTo>
                <a:lnTo>
                  <a:pt x="884" y="1651"/>
                </a:lnTo>
                <a:lnTo>
                  <a:pt x="894" y="1654"/>
                </a:lnTo>
                <a:lnTo>
                  <a:pt x="903" y="1658"/>
                </a:lnTo>
                <a:lnTo>
                  <a:pt x="914" y="1660"/>
                </a:lnTo>
                <a:lnTo>
                  <a:pt x="924" y="1664"/>
                </a:lnTo>
                <a:lnTo>
                  <a:pt x="933" y="1665"/>
                </a:lnTo>
                <a:lnTo>
                  <a:pt x="942" y="1667"/>
                </a:lnTo>
                <a:lnTo>
                  <a:pt x="952" y="1669"/>
                </a:lnTo>
                <a:lnTo>
                  <a:pt x="959" y="1672"/>
                </a:lnTo>
                <a:lnTo>
                  <a:pt x="968" y="1674"/>
                </a:lnTo>
                <a:lnTo>
                  <a:pt x="978" y="1676"/>
                </a:lnTo>
                <a:lnTo>
                  <a:pt x="988" y="1678"/>
                </a:lnTo>
                <a:lnTo>
                  <a:pt x="999" y="1680"/>
                </a:lnTo>
                <a:lnTo>
                  <a:pt x="1010" y="1682"/>
                </a:lnTo>
                <a:lnTo>
                  <a:pt x="1021" y="1684"/>
                </a:lnTo>
                <a:lnTo>
                  <a:pt x="1033" y="1686"/>
                </a:lnTo>
                <a:lnTo>
                  <a:pt x="1044" y="1688"/>
                </a:lnTo>
                <a:lnTo>
                  <a:pt x="1055" y="1690"/>
                </a:lnTo>
                <a:lnTo>
                  <a:pt x="1065" y="1692"/>
                </a:lnTo>
                <a:lnTo>
                  <a:pt x="1076" y="1694"/>
                </a:lnTo>
                <a:lnTo>
                  <a:pt x="1086" y="1696"/>
                </a:lnTo>
                <a:lnTo>
                  <a:pt x="1095" y="1697"/>
                </a:lnTo>
                <a:lnTo>
                  <a:pt x="1103" y="1699"/>
                </a:lnTo>
                <a:lnTo>
                  <a:pt x="1112" y="1699"/>
                </a:lnTo>
                <a:lnTo>
                  <a:pt x="1119" y="1701"/>
                </a:lnTo>
                <a:lnTo>
                  <a:pt x="1127" y="1701"/>
                </a:lnTo>
                <a:lnTo>
                  <a:pt x="1136" y="1703"/>
                </a:lnTo>
                <a:lnTo>
                  <a:pt x="1146" y="1703"/>
                </a:lnTo>
                <a:lnTo>
                  <a:pt x="1156" y="1705"/>
                </a:lnTo>
                <a:lnTo>
                  <a:pt x="1167" y="1705"/>
                </a:lnTo>
                <a:lnTo>
                  <a:pt x="1179" y="1706"/>
                </a:lnTo>
                <a:lnTo>
                  <a:pt x="1190" y="1706"/>
                </a:lnTo>
                <a:lnTo>
                  <a:pt x="1202" y="1708"/>
                </a:lnTo>
                <a:lnTo>
                  <a:pt x="1213" y="1708"/>
                </a:lnTo>
                <a:lnTo>
                  <a:pt x="1224" y="1710"/>
                </a:lnTo>
                <a:lnTo>
                  <a:pt x="1236" y="1710"/>
                </a:lnTo>
                <a:lnTo>
                  <a:pt x="1246" y="1712"/>
                </a:lnTo>
                <a:lnTo>
                  <a:pt x="1257" y="1712"/>
                </a:lnTo>
                <a:lnTo>
                  <a:pt x="1267" y="1712"/>
                </a:lnTo>
                <a:lnTo>
                  <a:pt x="1276" y="1712"/>
                </a:lnTo>
                <a:lnTo>
                  <a:pt x="1285" y="1713"/>
                </a:lnTo>
                <a:lnTo>
                  <a:pt x="1294" y="1713"/>
                </a:lnTo>
                <a:lnTo>
                  <a:pt x="1304" y="1713"/>
                </a:lnTo>
                <a:lnTo>
                  <a:pt x="1315" y="1713"/>
                </a:lnTo>
                <a:lnTo>
                  <a:pt x="1326" y="1714"/>
                </a:lnTo>
                <a:lnTo>
                  <a:pt x="1338" y="1714"/>
                </a:lnTo>
                <a:lnTo>
                  <a:pt x="1349" y="1714"/>
                </a:lnTo>
                <a:lnTo>
                  <a:pt x="1362" y="1714"/>
                </a:lnTo>
                <a:lnTo>
                  <a:pt x="1372" y="1715"/>
                </a:lnTo>
                <a:lnTo>
                  <a:pt x="1383" y="1715"/>
                </a:lnTo>
                <a:lnTo>
                  <a:pt x="1394" y="1715"/>
                </a:lnTo>
                <a:lnTo>
                  <a:pt x="1405" y="1715"/>
                </a:lnTo>
                <a:lnTo>
                  <a:pt x="1414" y="1715"/>
                </a:lnTo>
                <a:lnTo>
                  <a:pt x="1424" y="1715"/>
                </a:lnTo>
                <a:lnTo>
                  <a:pt x="1432" y="1715"/>
                </a:lnTo>
                <a:lnTo>
                  <a:pt x="1441" y="1715"/>
                </a:lnTo>
                <a:lnTo>
                  <a:pt x="1446" y="1715"/>
                </a:lnTo>
                <a:lnTo>
                  <a:pt x="1451" y="1715"/>
                </a:lnTo>
                <a:lnTo>
                  <a:pt x="1453" y="1715"/>
                </a:lnTo>
                <a:lnTo>
                  <a:pt x="1456" y="1715"/>
                </a:lnTo>
                <a:lnTo>
                  <a:pt x="1458" y="1715"/>
                </a:lnTo>
                <a:lnTo>
                  <a:pt x="1460" y="1715"/>
                </a:lnTo>
                <a:lnTo>
                  <a:pt x="1461" y="1715"/>
                </a:lnTo>
                <a:lnTo>
                  <a:pt x="1463" y="1715"/>
                </a:lnTo>
                <a:lnTo>
                  <a:pt x="1465" y="1715"/>
                </a:lnTo>
                <a:lnTo>
                  <a:pt x="1468" y="1715"/>
                </a:lnTo>
                <a:lnTo>
                  <a:pt x="1471" y="1715"/>
                </a:lnTo>
                <a:lnTo>
                  <a:pt x="1476" y="1715"/>
                </a:lnTo>
                <a:lnTo>
                  <a:pt x="1482" y="1715"/>
                </a:lnTo>
                <a:lnTo>
                  <a:pt x="1491" y="1715"/>
                </a:lnTo>
                <a:lnTo>
                  <a:pt x="1501" y="1715"/>
                </a:lnTo>
                <a:lnTo>
                  <a:pt x="1514" y="1715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248520" y="2971440"/>
            <a:ext cx="6120" cy="4427640"/>
          </a:xfrm>
          <a:prstGeom prst="line">
            <a:avLst/>
          </a:prstGeom>
          <a:ln w="47520">
            <a:solidFill>
              <a:srgbClr val="2f2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3182760" y="5578560"/>
            <a:ext cx="3057840" cy="144936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3087360" y="4183200"/>
            <a:ext cx="3151080" cy="28447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512880" y="2760480"/>
            <a:ext cx="2725560" cy="42670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172200" y="6705720"/>
            <a:ext cx="8380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rot="5400000">
            <a:off x="3049560" y="4642560"/>
            <a:ext cx="2689200" cy="824040"/>
          </a:xfrm>
          <a:custGeom>
            <a:avLst/>
            <a:gdLst/>
            <a:ahLst/>
            <a:rect l="l" t="t" r="r" b="b"/>
            <a:pathLst>
              <a:path w="1039" h="298">
                <a:moveTo>
                  <a:pt x="1038" y="12"/>
                </a:moveTo>
                <a:lnTo>
                  <a:pt x="1031" y="18"/>
                </a:lnTo>
                <a:lnTo>
                  <a:pt x="1025" y="23"/>
                </a:lnTo>
                <a:lnTo>
                  <a:pt x="1021" y="27"/>
                </a:lnTo>
                <a:lnTo>
                  <a:pt x="1018" y="30"/>
                </a:lnTo>
                <a:lnTo>
                  <a:pt x="1015" y="32"/>
                </a:lnTo>
                <a:lnTo>
                  <a:pt x="1013" y="33"/>
                </a:lnTo>
                <a:lnTo>
                  <a:pt x="1011" y="35"/>
                </a:lnTo>
                <a:lnTo>
                  <a:pt x="1011" y="35"/>
                </a:lnTo>
                <a:lnTo>
                  <a:pt x="1009" y="37"/>
                </a:lnTo>
                <a:lnTo>
                  <a:pt x="1009" y="37"/>
                </a:lnTo>
                <a:lnTo>
                  <a:pt x="1007" y="38"/>
                </a:lnTo>
                <a:lnTo>
                  <a:pt x="1007" y="38"/>
                </a:lnTo>
                <a:lnTo>
                  <a:pt x="1005" y="40"/>
                </a:lnTo>
                <a:lnTo>
                  <a:pt x="1004" y="41"/>
                </a:lnTo>
                <a:lnTo>
                  <a:pt x="1001" y="43"/>
                </a:lnTo>
                <a:lnTo>
                  <a:pt x="999" y="45"/>
                </a:lnTo>
                <a:lnTo>
                  <a:pt x="994" y="50"/>
                </a:lnTo>
                <a:lnTo>
                  <a:pt x="989" y="53"/>
                </a:lnTo>
                <a:lnTo>
                  <a:pt x="983" y="59"/>
                </a:lnTo>
                <a:lnTo>
                  <a:pt x="976" y="62"/>
                </a:lnTo>
                <a:lnTo>
                  <a:pt x="967" y="68"/>
                </a:lnTo>
                <a:lnTo>
                  <a:pt x="960" y="73"/>
                </a:lnTo>
                <a:lnTo>
                  <a:pt x="951" y="79"/>
                </a:lnTo>
                <a:lnTo>
                  <a:pt x="943" y="85"/>
                </a:lnTo>
                <a:lnTo>
                  <a:pt x="932" y="92"/>
                </a:lnTo>
                <a:lnTo>
                  <a:pt x="923" y="98"/>
                </a:lnTo>
                <a:lnTo>
                  <a:pt x="913" y="103"/>
                </a:lnTo>
                <a:lnTo>
                  <a:pt x="903" y="109"/>
                </a:lnTo>
                <a:lnTo>
                  <a:pt x="893" y="115"/>
                </a:lnTo>
                <a:lnTo>
                  <a:pt x="883" y="121"/>
                </a:lnTo>
                <a:lnTo>
                  <a:pt x="874" y="127"/>
                </a:lnTo>
                <a:lnTo>
                  <a:pt x="866" y="131"/>
                </a:lnTo>
                <a:lnTo>
                  <a:pt x="855" y="137"/>
                </a:lnTo>
                <a:lnTo>
                  <a:pt x="845" y="143"/>
                </a:lnTo>
                <a:lnTo>
                  <a:pt x="832" y="149"/>
                </a:lnTo>
                <a:lnTo>
                  <a:pt x="821" y="155"/>
                </a:lnTo>
                <a:lnTo>
                  <a:pt x="807" y="162"/>
                </a:lnTo>
                <a:lnTo>
                  <a:pt x="794" y="169"/>
                </a:lnTo>
                <a:lnTo>
                  <a:pt x="780" y="176"/>
                </a:lnTo>
                <a:lnTo>
                  <a:pt x="767" y="182"/>
                </a:lnTo>
                <a:lnTo>
                  <a:pt x="752" y="189"/>
                </a:lnTo>
                <a:lnTo>
                  <a:pt x="739" y="196"/>
                </a:lnTo>
                <a:lnTo>
                  <a:pt x="725" y="204"/>
                </a:lnTo>
                <a:lnTo>
                  <a:pt x="712" y="209"/>
                </a:lnTo>
                <a:lnTo>
                  <a:pt x="699" y="216"/>
                </a:lnTo>
                <a:lnTo>
                  <a:pt x="686" y="222"/>
                </a:lnTo>
                <a:lnTo>
                  <a:pt x="675" y="227"/>
                </a:lnTo>
                <a:lnTo>
                  <a:pt x="665" y="231"/>
                </a:lnTo>
                <a:lnTo>
                  <a:pt x="654" y="237"/>
                </a:lnTo>
                <a:lnTo>
                  <a:pt x="644" y="241"/>
                </a:lnTo>
                <a:lnTo>
                  <a:pt x="633" y="246"/>
                </a:lnTo>
                <a:lnTo>
                  <a:pt x="623" y="250"/>
                </a:lnTo>
                <a:lnTo>
                  <a:pt x="611" y="256"/>
                </a:lnTo>
                <a:lnTo>
                  <a:pt x="600" y="259"/>
                </a:lnTo>
                <a:lnTo>
                  <a:pt x="589" y="263"/>
                </a:lnTo>
                <a:lnTo>
                  <a:pt x="579" y="267"/>
                </a:lnTo>
                <a:lnTo>
                  <a:pt x="568" y="271"/>
                </a:lnTo>
                <a:lnTo>
                  <a:pt x="559" y="274"/>
                </a:lnTo>
                <a:lnTo>
                  <a:pt x="549" y="278"/>
                </a:lnTo>
                <a:lnTo>
                  <a:pt x="541" y="280"/>
                </a:lnTo>
                <a:lnTo>
                  <a:pt x="533" y="283"/>
                </a:lnTo>
                <a:lnTo>
                  <a:pt x="526" y="284"/>
                </a:lnTo>
                <a:lnTo>
                  <a:pt x="521" y="286"/>
                </a:lnTo>
                <a:lnTo>
                  <a:pt x="516" y="286"/>
                </a:lnTo>
                <a:lnTo>
                  <a:pt x="511" y="288"/>
                </a:lnTo>
                <a:lnTo>
                  <a:pt x="506" y="288"/>
                </a:lnTo>
                <a:lnTo>
                  <a:pt x="501" y="290"/>
                </a:lnTo>
                <a:lnTo>
                  <a:pt x="496" y="290"/>
                </a:lnTo>
                <a:lnTo>
                  <a:pt x="488" y="292"/>
                </a:lnTo>
                <a:lnTo>
                  <a:pt x="483" y="292"/>
                </a:lnTo>
                <a:lnTo>
                  <a:pt x="476" y="292"/>
                </a:lnTo>
                <a:lnTo>
                  <a:pt x="470" y="292"/>
                </a:lnTo>
                <a:lnTo>
                  <a:pt x="463" y="294"/>
                </a:lnTo>
                <a:lnTo>
                  <a:pt x="457" y="294"/>
                </a:lnTo>
                <a:lnTo>
                  <a:pt x="449" y="295"/>
                </a:lnTo>
                <a:lnTo>
                  <a:pt x="444" y="295"/>
                </a:lnTo>
                <a:lnTo>
                  <a:pt x="438" y="297"/>
                </a:lnTo>
                <a:lnTo>
                  <a:pt x="432" y="297"/>
                </a:lnTo>
                <a:lnTo>
                  <a:pt x="427" y="297"/>
                </a:lnTo>
                <a:lnTo>
                  <a:pt x="422" y="297"/>
                </a:lnTo>
                <a:lnTo>
                  <a:pt x="416" y="297"/>
                </a:lnTo>
                <a:lnTo>
                  <a:pt x="410" y="297"/>
                </a:lnTo>
                <a:lnTo>
                  <a:pt x="404" y="297"/>
                </a:lnTo>
                <a:lnTo>
                  <a:pt x="398" y="297"/>
                </a:lnTo>
                <a:lnTo>
                  <a:pt x="391" y="297"/>
                </a:lnTo>
                <a:lnTo>
                  <a:pt x="385" y="297"/>
                </a:lnTo>
                <a:lnTo>
                  <a:pt x="377" y="297"/>
                </a:lnTo>
                <a:lnTo>
                  <a:pt x="371" y="295"/>
                </a:lnTo>
                <a:lnTo>
                  <a:pt x="364" y="295"/>
                </a:lnTo>
                <a:lnTo>
                  <a:pt x="357" y="294"/>
                </a:lnTo>
                <a:lnTo>
                  <a:pt x="350" y="294"/>
                </a:lnTo>
                <a:lnTo>
                  <a:pt x="344" y="292"/>
                </a:lnTo>
                <a:lnTo>
                  <a:pt x="338" y="292"/>
                </a:lnTo>
                <a:lnTo>
                  <a:pt x="332" y="290"/>
                </a:lnTo>
                <a:lnTo>
                  <a:pt x="327" y="288"/>
                </a:lnTo>
                <a:lnTo>
                  <a:pt x="323" y="286"/>
                </a:lnTo>
                <a:lnTo>
                  <a:pt x="317" y="285"/>
                </a:lnTo>
                <a:lnTo>
                  <a:pt x="312" y="284"/>
                </a:lnTo>
                <a:lnTo>
                  <a:pt x="305" y="282"/>
                </a:lnTo>
                <a:lnTo>
                  <a:pt x="300" y="279"/>
                </a:lnTo>
                <a:lnTo>
                  <a:pt x="292" y="277"/>
                </a:lnTo>
                <a:lnTo>
                  <a:pt x="287" y="274"/>
                </a:lnTo>
                <a:lnTo>
                  <a:pt x="280" y="272"/>
                </a:lnTo>
                <a:lnTo>
                  <a:pt x="274" y="268"/>
                </a:lnTo>
                <a:lnTo>
                  <a:pt x="267" y="266"/>
                </a:lnTo>
                <a:lnTo>
                  <a:pt x="260" y="263"/>
                </a:lnTo>
                <a:lnTo>
                  <a:pt x="253" y="260"/>
                </a:lnTo>
                <a:lnTo>
                  <a:pt x="247" y="256"/>
                </a:lnTo>
                <a:lnTo>
                  <a:pt x="241" y="254"/>
                </a:lnTo>
                <a:lnTo>
                  <a:pt x="235" y="251"/>
                </a:lnTo>
                <a:lnTo>
                  <a:pt x="230" y="248"/>
                </a:lnTo>
                <a:lnTo>
                  <a:pt x="226" y="244"/>
                </a:lnTo>
                <a:lnTo>
                  <a:pt x="221" y="243"/>
                </a:lnTo>
                <a:lnTo>
                  <a:pt x="215" y="239"/>
                </a:lnTo>
                <a:lnTo>
                  <a:pt x="209" y="236"/>
                </a:lnTo>
                <a:lnTo>
                  <a:pt x="203" y="232"/>
                </a:lnTo>
                <a:lnTo>
                  <a:pt x="195" y="228"/>
                </a:lnTo>
                <a:lnTo>
                  <a:pt x="189" y="223"/>
                </a:lnTo>
                <a:lnTo>
                  <a:pt x="181" y="219"/>
                </a:lnTo>
                <a:lnTo>
                  <a:pt x="176" y="214"/>
                </a:lnTo>
                <a:lnTo>
                  <a:pt x="168" y="210"/>
                </a:lnTo>
                <a:lnTo>
                  <a:pt x="161" y="205"/>
                </a:lnTo>
                <a:lnTo>
                  <a:pt x="153" y="201"/>
                </a:lnTo>
                <a:lnTo>
                  <a:pt x="147" y="196"/>
                </a:lnTo>
                <a:lnTo>
                  <a:pt x="139" y="192"/>
                </a:lnTo>
                <a:lnTo>
                  <a:pt x="134" y="187"/>
                </a:lnTo>
                <a:lnTo>
                  <a:pt x="128" y="183"/>
                </a:lnTo>
                <a:lnTo>
                  <a:pt x="123" y="178"/>
                </a:lnTo>
                <a:lnTo>
                  <a:pt x="117" y="175"/>
                </a:lnTo>
                <a:lnTo>
                  <a:pt x="111" y="171"/>
                </a:lnTo>
                <a:lnTo>
                  <a:pt x="106" y="167"/>
                </a:lnTo>
                <a:lnTo>
                  <a:pt x="100" y="161"/>
                </a:lnTo>
                <a:lnTo>
                  <a:pt x="94" y="157"/>
                </a:lnTo>
                <a:lnTo>
                  <a:pt x="88" y="151"/>
                </a:lnTo>
                <a:lnTo>
                  <a:pt x="83" y="145"/>
                </a:lnTo>
                <a:lnTo>
                  <a:pt x="77" y="139"/>
                </a:lnTo>
                <a:lnTo>
                  <a:pt x="71" y="134"/>
                </a:lnTo>
                <a:lnTo>
                  <a:pt x="65" y="128"/>
                </a:lnTo>
                <a:lnTo>
                  <a:pt x="59" y="123"/>
                </a:lnTo>
                <a:lnTo>
                  <a:pt x="55" y="117"/>
                </a:lnTo>
                <a:lnTo>
                  <a:pt x="50" y="113"/>
                </a:lnTo>
                <a:lnTo>
                  <a:pt x="47" y="107"/>
                </a:lnTo>
                <a:lnTo>
                  <a:pt x="43" y="103"/>
                </a:lnTo>
                <a:lnTo>
                  <a:pt x="41" y="97"/>
                </a:lnTo>
                <a:lnTo>
                  <a:pt x="37" y="93"/>
                </a:lnTo>
                <a:lnTo>
                  <a:pt x="35" y="89"/>
                </a:lnTo>
                <a:lnTo>
                  <a:pt x="31" y="85"/>
                </a:lnTo>
                <a:lnTo>
                  <a:pt x="29" y="80"/>
                </a:lnTo>
                <a:lnTo>
                  <a:pt x="25" y="76"/>
                </a:lnTo>
                <a:lnTo>
                  <a:pt x="23" y="70"/>
                </a:lnTo>
                <a:lnTo>
                  <a:pt x="20" y="65"/>
                </a:lnTo>
                <a:lnTo>
                  <a:pt x="18" y="59"/>
                </a:lnTo>
                <a:lnTo>
                  <a:pt x="15" y="55"/>
                </a:lnTo>
                <a:lnTo>
                  <a:pt x="13" y="50"/>
                </a:lnTo>
                <a:lnTo>
                  <a:pt x="11" y="47"/>
                </a:lnTo>
                <a:lnTo>
                  <a:pt x="10" y="41"/>
                </a:lnTo>
                <a:lnTo>
                  <a:pt x="8" y="37"/>
                </a:lnTo>
                <a:lnTo>
                  <a:pt x="7" y="33"/>
                </a:lnTo>
                <a:lnTo>
                  <a:pt x="6" y="30"/>
                </a:lnTo>
                <a:lnTo>
                  <a:pt x="6" y="27"/>
                </a:lnTo>
                <a:lnTo>
                  <a:pt x="4" y="25"/>
                </a:lnTo>
                <a:lnTo>
                  <a:pt x="4" y="23"/>
                </a:lnTo>
                <a:lnTo>
                  <a:pt x="3" y="23"/>
                </a:lnTo>
                <a:lnTo>
                  <a:pt x="3" y="22"/>
                </a:lnTo>
                <a:lnTo>
                  <a:pt x="3" y="22"/>
                </a:lnTo>
                <a:lnTo>
                  <a:pt x="3" y="21"/>
                </a:lnTo>
                <a:lnTo>
                  <a:pt x="3" y="21"/>
                </a:lnTo>
                <a:lnTo>
                  <a:pt x="3" y="19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fb79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71600" y="68580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001000" y="685800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51240" y="5829480"/>
            <a:ext cx="83844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62520" y="4724280"/>
            <a:ext cx="11588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*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43400" y="3886200"/>
            <a:ext cx="11588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**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76720" y="228600"/>
            <a:ext cx="632448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terprete esto como la oferta de la  del bien 2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91120" y="7391520"/>
            <a:ext cx="215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oferta del bie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67080" y="7315200"/>
            <a:ext cx="1981440" cy="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447560" y="0"/>
            <a:ext cx="67230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8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gire nuevamente el gráfico para aclarar este punt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241800" y="1599840"/>
            <a:ext cx="6587640" cy="5307480"/>
            <a:chOff x="3241800" y="1599840"/>
            <a:chExt cx="6587640" cy="5307480"/>
          </a:xfrm>
        </p:grpSpPr>
        <p:sp>
          <p:nvSpPr>
            <p:cNvPr id="549" name=""/>
            <p:cNvSpPr/>
            <p:nvPr/>
          </p:nvSpPr>
          <p:spPr>
            <a:xfrm>
              <a:off x="3307680" y="6711840"/>
              <a:ext cx="6445080" cy="0"/>
            </a:xfrm>
            <a:prstGeom prst="line">
              <a:avLst/>
            </a:prstGeom>
            <a:ln w="4428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241800" y="1884240"/>
              <a:ext cx="5316480" cy="4480200"/>
              <a:chOff x="3241800" y="1884240"/>
              <a:chExt cx="5316480" cy="4480200"/>
            </a:xfrm>
          </p:grpSpPr>
          <p:sp>
            <p:nvSpPr>
              <p:cNvPr id="551" name=""/>
              <p:cNvSpPr/>
              <p:nvPr/>
            </p:nvSpPr>
            <p:spPr>
              <a:xfrm rot="16200000">
                <a:off x="3667320" y="1773000"/>
                <a:ext cx="3857400" cy="4352760"/>
              </a:xfrm>
              <a:custGeom>
                <a:avLst/>
                <a:gdLst/>
                <a:ahLst/>
                <a:rect l="l" t="t" r="r" b="b"/>
                <a:pathLst>
                  <a:path w="1731" h="1962">
                    <a:moveTo>
                      <a:pt x="0" y="0"/>
                    </a:moveTo>
                    <a:lnTo>
                      <a:pt x="0" y="16"/>
                    </a:lnTo>
                    <a:lnTo>
                      <a:pt x="1" y="30"/>
                    </a:lnTo>
                    <a:lnTo>
                      <a:pt x="1" y="40"/>
                    </a:lnTo>
                    <a:lnTo>
                      <a:pt x="3" y="48"/>
                    </a:lnTo>
                    <a:lnTo>
                      <a:pt x="3" y="55"/>
                    </a:lnTo>
                    <a:lnTo>
                      <a:pt x="4" y="59"/>
                    </a:lnTo>
                    <a:lnTo>
                      <a:pt x="4" y="62"/>
                    </a:lnTo>
                    <a:lnTo>
                      <a:pt x="6" y="64"/>
                    </a:lnTo>
                    <a:lnTo>
                      <a:pt x="6" y="66"/>
                    </a:lnTo>
                    <a:lnTo>
                      <a:pt x="6" y="68"/>
                    </a:lnTo>
                    <a:lnTo>
                      <a:pt x="6" y="70"/>
                    </a:lnTo>
                    <a:lnTo>
                      <a:pt x="6" y="72"/>
                    </a:lnTo>
                    <a:lnTo>
                      <a:pt x="6" y="76"/>
                    </a:lnTo>
                    <a:lnTo>
                      <a:pt x="7" y="80"/>
                    </a:lnTo>
                    <a:lnTo>
                      <a:pt x="7" y="86"/>
                    </a:lnTo>
                    <a:lnTo>
                      <a:pt x="9" y="93"/>
                    </a:lnTo>
                    <a:lnTo>
                      <a:pt x="10" y="104"/>
                    </a:lnTo>
                    <a:lnTo>
                      <a:pt x="11" y="117"/>
                    </a:lnTo>
                    <a:lnTo>
                      <a:pt x="13" y="133"/>
                    </a:lnTo>
                    <a:lnTo>
                      <a:pt x="16" y="149"/>
                    </a:lnTo>
                    <a:lnTo>
                      <a:pt x="20" y="169"/>
                    </a:lnTo>
                    <a:lnTo>
                      <a:pt x="23" y="190"/>
                    </a:lnTo>
                    <a:lnTo>
                      <a:pt x="27" y="212"/>
                    </a:lnTo>
                    <a:lnTo>
                      <a:pt x="32" y="234"/>
                    </a:lnTo>
                    <a:lnTo>
                      <a:pt x="36" y="260"/>
                    </a:lnTo>
                    <a:lnTo>
                      <a:pt x="41" y="284"/>
                    </a:lnTo>
                    <a:lnTo>
                      <a:pt x="46" y="310"/>
                    </a:lnTo>
                    <a:lnTo>
                      <a:pt x="52" y="335"/>
                    </a:lnTo>
                    <a:lnTo>
                      <a:pt x="56" y="361"/>
                    </a:lnTo>
                    <a:lnTo>
                      <a:pt x="62" y="386"/>
                    </a:lnTo>
                    <a:lnTo>
                      <a:pt x="68" y="410"/>
                    </a:lnTo>
                    <a:lnTo>
                      <a:pt x="73" y="433"/>
                    </a:lnTo>
                    <a:lnTo>
                      <a:pt x="78" y="458"/>
                    </a:lnTo>
                    <a:lnTo>
                      <a:pt x="84" y="483"/>
                    </a:lnTo>
                    <a:lnTo>
                      <a:pt x="89" y="510"/>
                    </a:lnTo>
                    <a:lnTo>
                      <a:pt x="97" y="535"/>
                    </a:lnTo>
                    <a:lnTo>
                      <a:pt x="103" y="563"/>
                    </a:lnTo>
                    <a:lnTo>
                      <a:pt x="110" y="589"/>
                    </a:lnTo>
                    <a:lnTo>
                      <a:pt x="118" y="616"/>
                    </a:lnTo>
                    <a:lnTo>
                      <a:pt x="126" y="641"/>
                    </a:lnTo>
                    <a:lnTo>
                      <a:pt x="132" y="667"/>
                    </a:lnTo>
                    <a:lnTo>
                      <a:pt x="139" y="692"/>
                    </a:lnTo>
                    <a:lnTo>
                      <a:pt x="146" y="716"/>
                    </a:lnTo>
                    <a:lnTo>
                      <a:pt x="154" y="737"/>
                    </a:lnTo>
                    <a:lnTo>
                      <a:pt x="159" y="758"/>
                    </a:lnTo>
                    <a:lnTo>
                      <a:pt x="166" y="775"/>
                    </a:lnTo>
                    <a:lnTo>
                      <a:pt x="172" y="792"/>
                    </a:lnTo>
                    <a:lnTo>
                      <a:pt x="177" y="804"/>
                    </a:lnTo>
                    <a:lnTo>
                      <a:pt x="181" y="817"/>
                    </a:lnTo>
                    <a:lnTo>
                      <a:pt x="187" y="831"/>
                    </a:lnTo>
                    <a:lnTo>
                      <a:pt x="193" y="847"/>
                    </a:lnTo>
                    <a:lnTo>
                      <a:pt x="200" y="863"/>
                    </a:lnTo>
                    <a:lnTo>
                      <a:pt x="207" y="882"/>
                    </a:lnTo>
                    <a:lnTo>
                      <a:pt x="215" y="900"/>
                    </a:lnTo>
                    <a:lnTo>
                      <a:pt x="223" y="920"/>
                    </a:lnTo>
                    <a:lnTo>
                      <a:pt x="232" y="939"/>
                    </a:lnTo>
                    <a:lnTo>
                      <a:pt x="240" y="960"/>
                    </a:lnTo>
                    <a:lnTo>
                      <a:pt x="248" y="980"/>
                    </a:lnTo>
                    <a:lnTo>
                      <a:pt x="256" y="1001"/>
                    </a:lnTo>
                    <a:lnTo>
                      <a:pt x="265" y="1019"/>
                    </a:lnTo>
                    <a:lnTo>
                      <a:pt x="273" y="1039"/>
                    </a:lnTo>
                    <a:lnTo>
                      <a:pt x="281" y="1057"/>
                    </a:lnTo>
                    <a:lnTo>
                      <a:pt x="288" y="1074"/>
                    </a:lnTo>
                    <a:lnTo>
                      <a:pt x="296" y="1089"/>
                    </a:lnTo>
                    <a:lnTo>
                      <a:pt x="302" y="1106"/>
                    </a:lnTo>
                    <a:lnTo>
                      <a:pt x="309" y="1123"/>
                    </a:lnTo>
                    <a:lnTo>
                      <a:pt x="316" y="1141"/>
                    </a:lnTo>
                    <a:lnTo>
                      <a:pt x="324" y="1158"/>
                    </a:lnTo>
                    <a:lnTo>
                      <a:pt x="332" y="1177"/>
                    </a:lnTo>
                    <a:lnTo>
                      <a:pt x="341" y="1196"/>
                    </a:lnTo>
                    <a:lnTo>
                      <a:pt x="349" y="1215"/>
                    </a:lnTo>
                    <a:lnTo>
                      <a:pt x="358" y="1233"/>
                    </a:lnTo>
                    <a:lnTo>
                      <a:pt x="366" y="1252"/>
                    </a:lnTo>
                    <a:lnTo>
                      <a:pt x="374" y="1270"/>
                    </a:lnTo>
                    <a:lnTo>
                      <a:pt x="381" y="1288"/>
                    </a:lnTo>
                    <a:lnTo>
                      <a:pt x="390" y="1304"/>
                    </a:lnTo>
                    <a:lnTo>
                      <a:pt x="396" y="1320"/>
                    </a:lnTo>
                    <a:lnTo>
                      <a:pt x="403" y="1333"/>
                    </a:lnTo>
                    <a:lnTo>
                      <a:pt x="409" y="1345"/>
                    </a:lnTo>
                    <a:lnTo>
                      <a:pt x="414" y="1355"/>
                    </a:lnTo>
                    <a:lnTo>
                      <a:pt x="420" y="1366"/>
                    </a:lnTo>
                    <a:lnTo>
                      <a:pt x="425" y="1378"/>
                    </a:lnTo>
                    <a:lnTo>
                      <a:pt x="432" y="1390"/>
                    </a:lnTo>
                    <a:lnTo>
                      <a:pt x="439" y="1402"/>
                    </a:lnTo>
                    <a:lnTo>
                      <a:pt x="447" y="1418"/>
                    </a:lnTo>
                    <a:lnTo>
                      <a:pt x="456" y="1431"/>
                    </a:lnTo>
                    <a:lnTo>
                      <a:pt x="465" y="1446"/>
                    </a:lnTo>
                    <a:lnTo>
                      <a:pt x="474" y="1459"/>
                    </a:lnTo>
                    <a:lnTo>
                      <a:pt x="484" y="1474"/>
                    </a:lnTo>
                    <a:lnTo>
                      <a:pt x="493" y="1488"/>
                    </a:lnTo>
                    <a:lnTo>
                      <a:pt x="502" y="1503"/>
                    </a:lnTo>
                    <a:lnTo>
                      <a:pt x="512" y="1516"/>
                    </a:lnTo>
                    <a:lnTo>
                      <a:pt x="522" y="1529"/>
                    </a:lnTo>
                    <a:lnTo>
                      <a:pt x="531" y="1542"/>
                    </a:lnTo>
                    <a:lnTo>
                      <a:pt x="539" y="1553"/>
                    </a:lnTo>
                    <a:lnTo>
                      <a:pt x="548" y="1562"/>
                    </a:lnTo>
                    <a:lnTo>
                      <a:pt x="556" y="1574"/>
                    </a:lnTo>
                    <a:lnTo>
                      <a:pt x="566" y="1584"/>
                    </a:lnTo>
                    <a:lnTo>
                      <a:pt x="575" y="1595"/>
                    </a:lnTo>
                    <a:lnTo>
                      <a:pt x="586" y="1606"/>
                    </a:lnTo>
                    <a:lnTo>
                      <a:pt x="597" y="1620"/>
                    </a:lnTo>
                    <a:lnTo>
                      <a:pt x="608" y="1631"/>
                    </a:lnTo>
                    <a:lnTo>
                      <a:pt x="619" y="1643"/>
                    </a:lnTo>
                    <a:lnTo>
                      <a:pt x="632" y="1654"/>
                    </a:lnTo>
                    <a:lnTo>
                      <a:pt x="643" y="1666"/>
                    </a:lnTo>
                    <a:lnTo>
                      <a:pt x="654" y="1677"/>
                    </a:lnTo>
                    <a:lnTo>
                      <a:pt x="665" y="1688"/>
                    </a:lnTo>
                    <a:lnTo>
                      <a:pt x="677" y="1698"/>
                    </a:lnTo>
                    <a:lnTo>
                      <a:pt x="687" y="1708"/>
                    </a:lnTo>
                    <a:lnTo>
                      <a:pt x="698" y="1716"/>
                    </a:lnTo>
                    <a:lnTo>
                      <a:pt x="707" y="1724"/>
                    </a:lnTo>
                    <a:lnTo>
                      <a:pt x="716" y="1730"/>
                    </a:lnTo>
                    <a:lnTo>
                      <a:pt x="724" y="1738"/>
                    </a:lnTo>
                    <a:lnTo>
                      <a:pt x="732" y="1743"/>
                    </a:lnTo>
                    <a:lnTo>
                      <a:pt x="740" y="1750"/>
                    </a:lnTo>
                    <a:lnTo>
                      <a:pt x="749" y="1756"/>
                    </a:lnTo>
                    <a:lnTo>
                      <a:pt x="756" y="1763"/>
                    </a:lnTo>
                    <a:lnTo>
                      <a:pt x="766" y="1769"/>
                    </a:lnTo>
                    <a:lnTo>
                      <a:pt x="773" y="1774"/>
                    </a:lnTo>
                    <a:lnTo>
                      <a:pt x="782" y="1780"/>
                    </a:lnTo>
                    <a:lnTo>
                      <a:pt x="790" y="1786"/>
                    </a:lnTo>
                    <a:lnTo>
                      <a:pt x="798" y="1792"/>
                    </a:lnTo>
                    <a:lnTo>
                      <a:pt x="804" y="1798"/>
                    </a:lnTo>
                    <a:lnTo>
                      <a:pt x="811" y="1801"/>
                    </a:lnTo>
                    <a:lnTo>
                      <a:pt x="816" y="1806"/>
                    </a:lnTo>
                    <a:lnTo>
                      <a:pt x="822" y="1809"/>
                    </a:lnTo>
                    <a:lnTo>
                      <a:pt x="826" y="1812"/>
                    </a:lnTo>
                    <a:lnTo>
                      <a:pt x="830" y="1814"/>
                    </a:lnTo>
                    <a:lnTo>
                      <a:pt x="832" y="1817"/>
                    </a:lnTo>
                    <a:lnTo>
                      <a:pt x="836" y="1819"/>
                    </a:lnTo>
                    <a:lnTo>
                      <a:pt x="841" y="1822"/>
                    </a:lnTo>
                    <a:lnTo>
                      <a:pt x="846" y="1824"/>
                    </a:lnTo>
                    <a:lnTo>
                      <a:pt x="851" y="1828"/>
                    </a:lnTo>
                    <a:lnTo>
                      <a:pt x="857" y="1829"/>
                    </a:lnTo>
                    <a:lnTo>
                      <a:pt x="862" y="1833"/>
                    </a:lnTo>
                    <a:lnTo>
                      <a:pt x="870" y="1835"/>
                    </a:lnTo>
                    <a:lnTo>
                      <a:pt x="876" y="1839"/>
                    </a:lnTo>
                    <a:lnTo>
                      <a:pt x="883" y="1842"/>
                    </a:lnTo>
                    <a:lnTo>
                      <a:pt x="890" y="1846"/>
                    </a:lnTo>
                    <a:lnTo>
                      <a:pt x="897" y="1847"/>
                    </a:lnTo>
                    <a:lnTo>
                      <a:pt x="903" y="1851"/>
                    </a:lnTo>
                    <a:lnTo>
                      <a:pt x="910" y="1853"/>
                    </a:lnTo>
                    <a:lnTo>
                      <a:pt x="917" y="1856"/>
                    </a:lnTo>
                    <a:lnTo>
                      <a:pt x="924" y="1858"/>
                    </a:lnTo>
                    <a:lnTo>
                      <a:pt x="930" y="1862"/>
                    </a:lnTo>
                    <a:lnTo>
                      <a:pt x="937" y="1864"/>
                    </a:lnTo>
                    <a:lnTo>
                      <a:pt x="946" y="1868"/>
                    </a:lnTo>
                    <a:lnTo>
                      <a:pt x="955" y="1870"/>
                    </a:lnTo>
                    <a:lnTo>
                      <a:pt x="964" y="1874"/>
                    </a:lnTo>
                    <a:lnTo>
                      <a:pt x="975" y="1877"/>
                    </a:lnTo>
                    <a:lnTo>
                      <a:pt x="987" y="1881"/>
                    </a:lnTo>
                    <a:lnTo>
                      <a:pt x="998" y="1883"/>
                    </a:lnTo>
                    <a:lnTo>
                      <a:pt x="1010" y="1887"/>
                    </a:lnTo>
                    <a:lnTo>
                      <a:pt x="1021" y="1890"/>
                    </a:lnTo>
                    <a:lnTo>
                      <a:pt x="1032" y="1894"/>
                    </a:lnTo>
                    <a:lnTo>
                      <a:pt x="1044" y="1897"/>
                    </a:lnTo>
                    <a:lnTo>
                      <a:pt x="1055" y="1900"/>
                    </a:lnTo>
                    <a:lnTo>
                      <a:pt x="1066" y="1902"/>
                    </a:lnTo>
                    <a:lnTo>
                      <a:pt x="1076" y="1906"/>
                    </a:lnTo>
                    <a:lnTo>
                      <a:pt x="1087" y="1907"/>
                    </a:lnTo>
                    <a:lnTo>
                      <a:pt x="1096" y="1911"/>
                    </a:lnTo>
                    <a:lnTo>
                      <a:pt x="1106" y="1913"/>
                    </a:lnTo>
                    <a:lnTo>
                      <a:pt x="1118" y="1916"/>
                    </a:lnTo>
                    <a:lnTo>
                      <a:pt x="1130" y="1918"/>
                    </a:lnTo>
                    <a:lnTo>
                      <a:pt x="1141" y="1922"/>
                    </a:lnTo>
                    <a:lnTo>
                      <a:pt x="1154" y="1924"/>
                    </a:lnTo>
                    <a:lnTo>
                      <a:pt x="1168" y="1926"/>
                    </a:lnTo>
                    <a:lnTo>
                      <a:pt x="1181" y="1928"/>
                    </a:lnTo>
                    <a:lnTo>
                      <a:pt x="1192" y="1931"/>
                    </a:lnTo>
                    <a:lnTo>
                      <a:pt x="1206" y="1933"/>
                    </a:lnTo>
                    <a:lnTo>
                      <a:pt x="1218" y="1935"/>
                    </a:lnTo>
                    <a:lnTo>
                      <a:pt x="1231" y="1937"/>
                    </a:lnTo>
                    <a:lnTo>
                      <a:pt x="1241" y="1938"/>
                    </a:lnTo>
                    <a:lnTo>
                      <a:pt x="1252" y="1940"/>
                    </a:lnTo>
                    <a:lnTo>
                      <a:pt x="1261" y="1942"/>
                    </a:lnTo>
                    <a:lnTo>
                      <a:pt x="1270" y="1942"/>
                    </a:lnTo>
                    <a:lnTo>
                      <a:pt x="1278" y="1944"/>
                    </a:lnTo>
                    <a:lnTo>
                      <a:pt x="1287" y="1945"/>
                    </a:lnTo>
                    <a:lnTo>
                      <a:pt x="1298" y="1946"/>
                    </a:lnTo>
                    <a:lnTo>
                      <a:pt x="1309" y="1946"/>
                    </a:lnTo>
                    <a:lnTo>
                      <a:pt x="1320" y="1948"/>
                    </a:lnTo>
                    <a:lnTo>
                      <a:pt x="1334" y="1948"/>
                    </a:lnTo>
                    <a:lnTo>
                      <a:pt x="1347" y="1950"/>
                    </a:lnTo>
                    <a:lnTo>
                      <a:pt x="1360" y="1950"/>
                    </a:lnTo>
                    <a:lnTo>
                      <a:pt x="1373" y="1952"/>
                    </a:lnTo>
                    <a:lnTo>
                      <a:pt x="1386" y="1952"/>
                    </a:lnTo>
                    <a:lnTo>
                      <a:pt x="1399" y="1954"/>
                    </a:lnTo>
                    <a:lnTo>
                      <a:pt x="1412" y="1954"/>
                    </a:lnTo>
                    <a:lnTo>
                      <a:pt x="1424" y="1956"/>
                    </a:lnTo>
                    <a:lnTo>
                      <a:pt x="1436" y="1956"/>
                    </a:lnTo>
                    <a:lnTo>
                      <a:pt x="1447" y="1956"/>
                    </a:lnTo>
                    <a:lnTo>
                      <a:pt x="1458" y="1956"/>
                    </a:lnTo>
                    <a:lnTo>
                      <a:pt x="1468" y="1958"/>
                    </a:lnTo>
                    <a:lnTo>
                      <a:pt x="1479" y="1958"/>
                    </a:lnTo>
                    <a:lnTo>
                      <a:pt x="1490" y="1958"/>
                    </a:lnTo>
                    <a:lnTo>
                      <a:pt x="1503" y="1958"/>
                    </a:lnTo>
                    <a:lnTo>
                      <a:pt x="1515" y="1960"/>
                    </a:lnTo>
                    <a:lnTo>
                      <a:pt x="1528" y="1960"/>
                    </a:lnTo>
                    <a:lnTo>
                      <a:pt x="1541" y="1960"/>
                    </a:lnTo>
                    <a:lnTo>
                      <a:pt x="1555" y="1960"/>
                    </a:lnTo>
                    <a:lnTo>
                      <a:pt x="1568" y="1961"/>
                    </a:lnTo>
                    <a:lnTo>
                      <a:pt x="1581" y="1961"/>
                    </a:lnTo>
                    <a:lnTo>
                      <a:pt x="1592" y="1961"/>
                    </a:lnTo>
                    <a:lnTo>
                      <a:pt x="1606" y="1961"/>
                    </a:lnTo>
                    <a:lnTo>
                      <a:pt x="1616" y="1961"/>
                    </a:lnTo>
                    <a:lnTo>
                      <a:pt x="1628" y="1961"/>
                    </a:lnTo>
                    <a:lnTo>
                      <a:pt x="1637" y="1961"/>
                    </a:lnTo>
                    <a:lnTo>
                      <a:pt x="1646" y="1961"/>
                    </a:lnTo>
                    <a:lnTo>
                      <a:pt x="1652" y="1961"/>
                    </a:lnTo>
                    <a:lnTo>
                      <a:pt x="1658" y="1961"/>
                    </a:lnTo>
                    <a:lnTo>
                      <a:pt x="1660" y="1961"/>
                    </a:lnTo>
                    <a:lnTo>
                      <a:pt x="1664" y="1961"/>
                    </a:lnTo>
                    <a:lnTo>
                      <a:pt x="1666" y="1961"/>
                    </a:lnTo>
                    <a:lnTo>
                      <a:pt x="1668" y="1961"/>
                    </a:lnTo>
                    <a:lnTo>
                      <a:pt x="1670" y="1961"/>
                    </a:lnTo>
                    <a:lnTo>
                      <a:pt x="1672" y="1961"/>
                    </a:lnTo>
                    <a:lnTo>
                      <a:pt x="1674" y="1961"/>
                    </a:lnTo>
                    <a:lnTo>
                      <a:pt x="1677" y="1961"/>
                    </a:lnTo>
                    <a:lnTo>
                      <a:pt x="1680" y="1961"/>
                    </a:lnTo>
                    <a:lnTo>
                      <a:pt x="1687" y="1961"/>
                    </a:lnTo>
                    <a:lnTo>
                      <a:pt x="1694" y="1961"/>
                    </a:lnTo>
                    <a:lnTo>
                      <a:pt x="1704" y="1961"/>
                    </a:lnTo>
                    <a:lnTo>
                      <a:pt x="1716" y="1961"/>
                    </a:lnTo>
                    <a:lnTo>
                      <a:pt x="1730" y="1961"/>
                    </a:lnTo>
                  </a:path>
                </a:pathLst>
              </a:custGeom>
              <a:noFill/>
              <a:ln w="316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6200000">
                <a:off x="4064760" y="1870920"/>
                <a:ext cx="4214880" cy="4772160"/>
              </a:xfrm>
              <a:custGeom>
                <a:avLst/>
                <a:gdLst/>
                <a:ahLst/>
                <a:rect l="l" t="t" r="r" b="b"/>
                <a:pathLst>
                  <a:path w="1891" h="2150">
                    <a:moveTo>
                      <a:pt x="0" y="0"/>
                    </a:moveTo>
                    <a:lnTo>
                      <a:pt x="1" y="18"/>
                    </a:lnTo>
                    <a:lnTo>
                      <a:pt x="3" y="32"/>
                    </a:lnTo>
                    <a:lnTo>
                      <a:pt x="3" y="45"/>
                    </a:lnTo>
                    <a:lnTo>
                      <a:pt x="5" y="53"/>
                    </a:lnTo>
                    <a:lnTo>
                      <a:pt x="5" y="60"/>
                    </a:lnTo>
                    <a:lnTo>
                      <a:pt x="5" y="65"/>
                    </a:lnTo>
                    <a:lnTo>
                      <a:pt x="5" y="69"/>
                    </a:lnTo>
                    <a:lnTo>
                      <a:pt x="7" y="71"/>
                    </a:lnTo>
                    <a:lnTo>
                      <a:pt x="7" y="74"/>
                    </a:lnTo>
                    <a:lnTo>
                      <a:pt x="7" y="76"/>
                    </a:lnTo>
                    <a:lnTo>
                      <a:pt x="7" y="78"/>
                    </a:lnTo>
                    <a:lnTo>
                      <a:pt x="8" y="80"/>
                    </a:lnTo>
                    <a:lnTo>
                      <a:pt x="8" y="84"/>
                    </a:lnTo>
                    <a:lnTo>
                      <a:pt x="8" y="88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2" y="114"/>
                    </a:lnTo>
                    <a:lnTo>
                      <a:pt x="14" y="129"/>
                    </a:lnTo>
                    <a:lnTo>
                      <a:pt x="16" y="146"/>
                    </a:lnTo>
                    <a:lnTo>
                      <a:pt x="20" y="164"/>
                    </a:lnTo>
                    <a:lnTo>
                      <a:pt x="23" y="186"/>
                    </a:lnTo>
                    <a:lnTo>
                      <a:pt x="26" y="208"/>
                    </a:lnTo>
                    <a:lnTo>
                      <a:pt x="31" y="232"/>
                    </a:lnTo>
                    <a:lnTo>
                      <a:pt x="36" y="258"/>
                    </a:lnTo>
                    <a:lnTo>
                      <a:pt x="41" y="285"/>
                    </a:lnTo>
                    <a:lnTo>
                      <a:pt x="46" y="312"/>
                    </a:lnTo>
                    <a:lnTo>
                      <a:pt x="52" y="340"/>
                    </a:lnTo>
                    <a:lnTo>
                      <a:pt x="58" y="368"/>
                    </a:lnTo>
                    <a:lnTo>
                      <a:pt x="63" y="396"/>
                    </a:lnTo>
                    <a:lnTo>
                      <a:pt x="69" y="423"/>
                    </a:lnTo>
                    <a:lnTo>
                      <a:pt x="74" y="450"/>
                    </a:lnTo>
                    <a:lnTo>
                      <a:pt x="81" y="475"/>
                    </a:lnTo>
                    <a:lnTo>
                      <a:pt x="86" y="502"/>
                    </a:lnTo>
                    <a:lnTo>
                      <a:pt x="93" y="529"/>
                    </a:lnTo>
                    <a:lnTo>
                      <a:pt x="100" y="558"/>
                    </a:lnTo>
                    <a:lnTo>
                      <a:pt x="107" y="586"/>
                    </a:lnTo>
                    <a:lnTo>
                      <a:pt x="114" y="616"/>
                    </a:lnTo>
                    <a:lnTo>
                      <a:pt x="122" y="646"/>
                    </a:lnTo>
                    <a:lnTo>
                      <a:pt x="130" y="675"/>
                    </a:lnTo>
                    <a:lnTo>
                      <a:pt x="138" y="703"/>
                    </a:lnTo>
                    <a:lnTo>
                      <a:pt x="146" y="732"/>
                    </a:lnTo>
                    <a:lnTo>
                      <a:pt x="153" y="758"/>
                    </a:lnTo>
                    <a:lnTo>
                      <a:pt x="161" y="785"/>
                    </a:lnTo>
                    <a:lnTo>
                      <a:pt x="169" y="808"/>
                    </a:lnTo>
                    <a:lnTo>
                      <a:pt x="175" y="830"/>
                    </a:lnTo>
                    <a:lnTo>
                      <a:pt x="182" y="850"/>
                    </a:lnTo>
                    <a:lnTo>
                      <a:pt x="188" y="867"/>
                    </a:lnTo>
                    <a:lnTo>
                      <a:pt x="194" y="880"/>
                    </a:lnTo>
                    <a:lnTo>
                      <a:pt x="199" y="894"/>
                    </a:lnTo>
                    <a:lnTo>
                      <a:pt x="205" y="910"/>
                    </a:lnTo>
                    <a:lnTo>
                      <a:pt x="212" y="928"/>
                    </a:lnTo>
                    <a:lnTo>
                      <a:pt x="220" y="945"/>
                    </a:lnTo>
                    <a:lnTo>
                      <a:pt x="228" y="966"/>
                    </a:lnTo>
                    <a:lnTo>
                      <a:pt x="236" y="986"/>
                    </a:lnTo>
                    <a:lnTo>
                      <a:pt x="246" y="1008"/>
                    </a:lnTo>
                    <a:lnTo>
                      <a:pt x="255" y="1029"/>
                    </a:lnTo>
                    <a:lnTo>
                      <a:pt x="263" y="1051"/>
                    </a:lnTo>
                    <a:lnTo>
                      <a:pt x="272" y="1074"/>
                    </a:lnTo>
                    <a:lnTo>
                      <a:pt x="282" y="1096"/>
                    </a:lnTo>
                    <a:lnTo>
                      <a:pt x="291" y="1117"/>
                    </a:lnTo>
                    <a:lnTo>
                      <a:pt x="298" y="1138"/>
                    </a:lnTo>
                    <a:lnTo>
                      <a:pt x="308" y="1158"/>
                    </a:lnTo>
                    <a:lnTo>
                      <a:pt x="316" y="1176"/>
                    </a:lnTo>
                    <a:lnTo>
                      <a:pt x="324" y="1194"/>
                    </a:lnTo>
                    <a:lnTo>
                      <a:pt x="331" y="1212"/>
                    </a:lnTo>
                    <a:lnTo>
                      <a:pt x="338" y="1230"/>
                    </a:lnTo>
                    <a:lnTo>
                      <a:pt x="347" y="1250"/>
                    </a:lnTo>
                    <a:lnTo>
                      <a:pt x="356" y="1269"/>
                    </a:lnTo>
                    <a:lnTo>
                      <a:pt x="365" y="1290"/>
                    </a:lnTo>
                    <a:lnTo>
                      <a:pt x="374" y="1310"/>
                    </a:lnTo>
                    <a:lnTo>
                      <a:pt x="384" y="1331"/>
                    </a:lnTo>
                    <a:lnTo>
                      <a:pt x="393" y="1351"/>
                    </a:lnTo>
                    <a:lnTo>
                      <a:pt x="400" y="1372"/>
                    </a:lnTo>
                    <a:lnTo>
                      <a:pt x="410" y="1392"/>
                    </a:lnTo>
                    <a:lnTo>
                      <a:pt x="418" y="1411"/>
                    </a:lnTo>
                    <a:lnTo>
                      <a:pt x="427" y="1429"/>
                    </a:lnTo>
                    <a:lnTo>
                      <a:pt x="434" y="1446"/>
                    </a:lnTo>
                    <a:lnTo>
                      <a:pt x="442" y="1460"/>
                    </a:lnTo>
                    <a:lnTo>
                      <a:pt x="447" y="1474"/>
                    </a:lnTo>
                    <a:lnTo>
                      <a:pt x="454" y="1485"/>
                    </a:lnTo>
                    <a:lnTo>
                      <a:pt x="459" y="1497"/>
                    </a:lnTo>
                    <a:lnTo>
                      <a:pt x="465" y="1509"/>
                    </a:lnTo>
                    <a:lnTo>
                      <a:pt x="472" y="1524"/>
                    </a:lnTo>
                    <a:lnTo>
                      <a:pt x="481" y="1537"/>
                    </a:lnTo>
                    <a:lnTo>
                      <a:pt x="490" y="1553"/>
                    </a:lnTo>
                    <a:lnTo>
                      <a:pt x="499" y="1568"/>
                    </a:lnTo>
                    <a:lnTo>
                      <a:pt x="508" y="1584"/>
                    </a:lnTo>
                    <a:lnTo>
                      <a:pt x="520" y="1599"/>
                    </a:lnTo>
                    <a:lnTo>
                      <a:pt x="529" y="1616"/>
                    </a:lnTo>
                    <a:lnTo>
                      <a:pt x="540" y="1631"/>
                    </a:lnTo>
                    <a:lnTo>
                      <a:pt x="550" y="1646"/>
                    </a:lnTo>
                    <a:lnTo>
                      <a:pt x="561" y="1662"/>
                    </a:lnTo>
                    <a:lnTo>
                      <a:pt x="571" y="1676"/>
                    </a:lnTo>
                    <a:lnTo>
                      <a:pt x="581" y="1690"/>
                    </a:lnTo>
                    <a:lnTo>
                      <a:pt x="590" y="1701"/>
                    </a:lnTo>
                    <a:lnTo>
                      <a:pt x="600" y="1712"/>
                    </a:lnTo>
                    <a:lnTo>
                      <a:pt x="609" y="1724"/>
                    </a:lnTo>
                    <a:lnTo>
                      <a:pt x="618" y="1736"/>
                    </a:lnTo>
                    <a:lnTo>
                      <a:pt x="629" y="1749"/>
                    </a:lnTo>
                    <a:lnTo>
                      <a:pt x="640" y="1761"/>
                    </a:lnTo>
                    <a:lnTo>
                      <a:pt x="652" y="1774"/>
                    </a:lnTo>
                    <a:lnTo>
                      <a:pt x="665" y="1787"/>
                    </a:lnTo>
                    <a:lnTo>
                      <a:pt x="678" y="1800"/>
                    </a:lnTo>
                    <a:lnTo>
                      <a:pt x="691" y="1812"/>
                    </a:lnTo>
                    <a:lnTo>
                      <a:pt x="702" y="1826"/>
                    </a:lnTo>
                    <a:lnTo>
                      <a:pt x="716" y="1839"/>
                    </a:lnTo>
                    <a:lnTo>
                      <a:pt x="727" y="1850"/>
                    </a:lnTo>
                    <a:lnTo>
                      <a:pt x="740" y="1861"/>
                    </a:lnTo>
                    <a:lnTo>
                      <a:pt x="752" y="1872"/>
                    </a:lnTo>
                    <a:lnTo>
                      <a:pt x="763" y="1881"/>
                    </a:lnTo>
                    <a:lnTo>
                      <a:pt x="772" y="1889"/>
                    </a:lnTo>
                    <a:lnTo>
                      <a:pt x="783" y="1896"/>
                    </a:lnTo>
                    <a:lnTo>
                      <a:pt x="790" y="1904"/>
                    </a:lnTo>
                    <a:lnTo>
                      <a:pt x="800" y="1910"/>
                    </a:lnTo>
                    <a:lnTo>
                      <a:pt x="809" y="1918"/>
                    </a:lnTo>
                    <a:lnTo>
                      <a:pt x="818" y="1924"/>
                    </a:lnTo>
                    <a:lnTo>
                      <a:pt x="827" y="1931"/>
                    </a:lnTo>
                    <a:lnTo>
                      <a:pt x="836" y="1938"/>
                    </a:lnTo>
                    <a:lnTo>
                      <a:pt x="846" y="1945"/>
                    </a:lnTo>
                    <a:lnTo>
                      <a:pt x="855" y="1951"/>
                    </a:lnTo>
                    <a:lnTo>
                      <a:pt x="863" y="1958"/>
                    </a:lnTo>
                    <a:lnTo>
                      <a:pt x="872" y="1964"/>
                    </a:lnTo>
                    <a:lnTo>
                      <a:pt x="879" y="1970"/>
                    </a:lnTo>
                    <a:lnTo>
                      <a:pt x="886" y="1974"/>
                    </a:lnTo>
                    <a:lnTo>
                      <a:pt x="892" y="1979"/>
                    </a:lnTo>
                    <a:lnTo>
                      <a:pt x="898" y="1983"/>
                    </a:lnTo>
                    <a:lnTo>
                      <a:pt x="902" y="1986"/>
                    </a:lnTo>
                    <a:lnTo>
                      <a:pt x="907" y="1988"/>
                    </a:lnTo>
                    <a:lnTo>
                      <a:pt x="910" y="1991"/>
                    </a:lnTo>
                    <a:lnTo>
                      <a:pt x="914" y="1993"/>
                    </a:lnTo>
                    <a:lnTo>
                      <a:pt x="919" y="1996"/>
                    </a:lnTo>
                    <a:lnTo>
                      <a:pt x="924" y="1998"/>
                    </a:lnTo>
                    <a:lnTo>
                      <a:pt x="930" y="2002"/>
                    </a:lnTo>
                    <a:lnTo>
                      <a:pt x="936" y="2005"/>
                    </a:lnTo>
                    <a:lnTo>
                      <a:pt x="944" y="2009"/>
                    </a:lnTo>
                    <a:lnTo>
                      <a:pt x="951" y="2011"/>
                    </a:lnTo>
                    <a:lnTo>
                      <a:pt x="958" y="2014"/>
                    </a:lnTo>
                    <a:lnTo>
                      <a:pt x="966" y="2018"/>
                    </a:lnTo>
                    <a:lnTo>
                      <a:pt x="973" y="2022"/>
                    </a:lnTo>
                    <a:lnTo>
                      <a:pt x="981" y="2025"/>
                    </a:lnTo>
                    <a:lnTo>
                      <a:pt x="988" y="2029"/>
                    </a:lnTo>
                    <a:lnTo>
                      <a:pt x="996" y="2032"/>
                    </a:lnTo>
                    <a:lnTo>
                      <a:pt x="1002" y="2034"/>
                    </a:lnTo>
                    <a:lnTo>
                      <a:pt x="1010" y="2036"/>
                    </a:lnTo>
                    <a:lnTo>
                      <a:pt x="1017" y="2040"/>
                    </a:lnTo>
                    <a:lnTo>
                      <a:pt x="1025" y="2043"/>
                    </a:lnTo>
                    <a:lnTo>
                      <a:pt x="1034" y="2047"/>
                    </a:lnTo>
                    <a:lnTo>
                      <a:pt x="1044" y="2049"/>
                    </a:lnTo>
                    <a:lnTo>
                      <a:pt x="1055" y="2053"/>
                    </a:lnTo>
                    <a:lnTo>
                      <a:pt x="1066" y="2056"/>
                    </a:lnTo>
                    <a:lnTo>
                      <a:pt x="1078" y="2060"/>
                    </a:lnTo>
                    <a:lnTo>
                      <a:pt x="1091" y="2063"/>
                    </a:lnTo>
                    <a:lnTo>
                      <a:pt x="1103" y="2067"/>
                    </a:lnTo>
                    <a:lnTo>
                      <a:pt x="1116" y="2071"/>
                    </a:lnTo>
                    <a:lnTo>
                      <a:pt x="1128" y="2074"/>
                    </a:lnTo>
                    <a:lnTo>
                      <a:pt x="1142" y="2078"/>
                    </a:lnTo>
                    <a:lnTo>
                      <a:pt x="1153" y="2082"/>
                    </a:lnTo>
                    <a:lnTo>
                      <a:pt x="1165" y="2085"/>
                    </a:lnTo>
                    <a:lnTo>
                      <a:pt x="1176" y="2088"/>
                    </a:lnTo>
                    <a:lnTo>
                      <a:pt x="1188" y="2090"/>
                    </a:lnTo>
                    <a:lnTo>
                      <a:pt x="1198" y="2094"/>
                    </a:lnTo>
                    <a:lnTo>
                      <a:pt x="1209" y="2096"/>
                    </a:lnTo>
                    <a:lnTo>
                      <a:pt x="1222" y="2100"/>
                    </a:lnTo>
                    <a:lnTo>
                      <a:pt x="1234" y="2101"/>
                    </a:lnTo>
                    <a:lnTo>
                      <a:pt x="1248" y="2105"/>
                    </a:lnTo>
                    <a:lnTo>
                      <a:pt x="1262" y="2107"/>
                    </a:lnTo>
                    <a:lnTo>
                      <a:pt x="1275" y="2110"/>
                    </a:lnTo>
                    <a:lnTo>
                      <a:pt x="1290" y="2112"/>
                    </a:lnTo>
                    <a:lnTo>
                      <a:pt x="1303" y="2116"/>
                    </a:lnTo>
                    <a:lnTo>
                      <a:pt x="1318" y="2118"/>
                    </a:lnTo>
                    <a:lnTo>
                      <a:pt x="1331" y="2120"/>
                    </a:lnTo>
                    <a:lnTo>
                      <a:pt x="1344" y="2122"/>
                    </a:lnTo>
                    <a:lnTo>
                      <a:pt x="1356" y="2124"/>
                    </a:lnTo>
                    <a:lnTo>
                      <a:pt x="1368" y="2126"/>
                    </a:lnTo>
                    <a:lnTo>
                      <a:pt x="1378" y="2128"/>
                    </a:lnTo>
                    <a:lnTo>
                      <a:pt x="1388" y="2128"/>
                    </a:lnTo>
                    <a:lnTo>
                      <a:pt x="1397" y="2130"/>
                    </a:lnTo>
                    <a:lnTo>
                      <a:pt x="1407" y="2131"/>
                    </a:lnTo>
                    <a:lnTo>
                      <a:pt x="1418" y="2133"/>
                    </a:lnTo>
                    <a:lnTo>
                      <a:pt x="1431" y="2133"/>
                    </a:lnTo>
                    <a:lnTo>
                      <a:pt x="1444" y="2135"/>
                    </a:lnTo>
                    <a:lnTo>
                      <a:pt x="1457" y="2136"/>
                    </a:lnTo>
                    <a:lnTo>
                      <a:pt x="1471" y="2138"/>
                    </a:lnTo>
                    <a:lnTo>
                      <a:pt x="1486" y="2138"/>
                    </a:lnTo>
                    <a:lnTo>
                      <a:pt x="1499" y="2139"/>
                    </a:lnTo>
                    <a:lnTo>
                      <a:pt x="1514" y="2139"/>
                    </a:lnTo>
                    <a:lnTo>
                      <a:pt x="1528" y="2141"/>
                    </a:lnTo>
                    <a:lnTo>
                      <a:pt x="1543" y="2141"/>
                    </a:lnTo>
                    <a:lnTo>
                      <a:pt x="1556" y="2143"/>
                    </a:lnTo>
                    <a:lnTo>
                      <a:pt x="1569" y="2143"/>
                    </a:lnTo>
                    <a:lnTo>
                      <a:pt x="1581" y="2144"/>
                    </a:lnTo>
                    <a:lnTo>
                      <a:pt x="1593" y="2144"/>
                    </a:lnTo>
                    <a:lnTo>
                      <a:pt x="1604" y="2146"/>
                    </a:lnTo>
                    <a:lnTo>
                      <a:pt x="1616" y="2146"/>
                    </a:lnTo>
                    <a:lnTo>
                      <a:pt x="1628" y="2146"/>
                    </a:lnTo>
                    <a:lnTo>
                      <a:pt x="1642" y="2146"/>
                    </a:lnTo>
                    <a:lnTo>
                      <a:pt x="1655" y="2148"/>
                    </a:lnTo>
                    <a:lnTo>
                      <a:pt x="1670" y="2148"/>
                    </a:lnTo>
                    <a:lnTo>
                      <a:pt x="1684" y="2148"/>
                    </a:lnTo>
                    <a:lnTo>
                      <a:pt x="1700" y="2148"/>
                    </a:lnTo>
                    <a:lnTo>
                      <a:pt x="1712" y="2149"/>
                    </a:lnTo>
                    <a:lnTo>
                      <a:pt x="1728" y="2149"/>
                    </a:lnTo>
                    <a:lnTo>
                      <a:pt x="1741" y="2149"/>
                    </a:lnTo>
                    <a:lnTo>
                      <a:pt x="1754" y="2149"/>
                    </a:lnTo>
                    <a:lnTo>
                      <a:pt x="1766" y="2149"/>
                    </a:lnTo>
                    <a:lnTo>
                      <a:pt x="1778" y="2149"/>
                    </a:lnTo>
                    <a:lnTo>
                      <a:pt x="1788" y="2149"/>
                    </a:lnTo>
                    <a:lnTo>
                      <a:pt x="1799" y="2149"/>
                    </a:lnTo>
                    <a:lnTo>
                      <a:pt x="1806" y="2149"/>
                    </a:lnTo>
                    <a:lnTo>
                      <a:pt x="1811" y="2149"/>
                    </a:lnTo>
                    <a:lnTo>
                      <a:pt x="1815" y="2149"/>
                    </a:lnTo>
                    <a:lnTo>
                      <a:pt x="1819" y="2149"/>
                    </a:lnTo>
                    <a:lnTo>
                      <a:pt x="1820" y="2149"/>
                    </a:lnTo>
                    <a:lnTo>
                      <a:pt x="1822" y="2149"/>
                    </a:lnTo>
                    <a:lnTo>
                      <a:pt x="1824" y="2149"/>
                    </a:lnTo>
                    <a:lnTo>
                      <a:pt x="1827" y="2149"/>
                    </a:lnTo>
                    <a:lnTo>
                      <a:pt x="1829" y="2149"/>
                    </a:lnTo>
                    <a:lnTo>
                      <a:pt x="1832" y="2149"/>
                    </a:lnTo>
                    <a:lnTo>
                      <a:pt x="1836" y="2149"/>
                    </a:lnTo>
                    <a:lnTo>
                      <a:pt x="1843" y="2149"/>
                    </a:lnTo>
                    <a:lnTo>
                      <a:pt x="1850" y="2149"/>
                    </a:lnTo>
                    <a:lnTo>
                      <a:pt x="1861" y="2149"/>
                    </a:lnTo>
                    <a:lnTo>
                      <a:pt x="1874" y="2149"/>
                    </a:lnTo>
                    <a:lnTo>
                      <a:pt x="1890" y="2149"/>
                    </a:lnTo>
                  </a:path>
                </a:pathLst>
              </a:custGeom>
              <a:noFill/>
              <a:ln w="316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3456720" y="1668960"/>
                <a:ext cx="3378240" cy="3808440"/>
              </a:xfrm>
              <a:custGeom>
                <a:avLst/>
                <a:gdLst/>
                <a:ahLst/>
                <a:rect l="l" t="t" r="r" b="b"/>
                <a:pathLst>
                  <a:path w="1515" h="1716">
                    <a:moveTo>
                      <a:pt x="0" y="0"/>
                    </a:moveTo>
                    <a:lnTo>
                      <a:pt x="0" y="15"/>
                    </a:lnTo>
                    <a:lnTo>
                      <a:pt x="2" y="26"/>
                    </a:lnTo>
                    <a:lnTo>
                      <a:pt x="2" y="36"/>
                    </a:lnTo>
                    <a:lnTo>
                      <a:pt x="4" y="42"/>
                    </a:lnTo>
                    <a:lnTo>
                      <a:pt x="4" y="48"/>
                    </a:lnTo>
                    <a:lnTo>
                      <a:pt x="4" y="52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6" y="58"/>
                    </a:lnTo>
                    <a:lnTo>
                      <a:pt x="6" y="60"/>
                    </a:lnTo>
                    <a:lnTo>
                      <a:pt x="6" y="62"/>
                    </a:lnTo>
                    <a:lnTo>
                      <a:pt x="6" y="64"/>
                    </a:lnTo>
                    <a:lnTo>
                      <a:pt x="6" y="68"/>
                    </a:lnTo>
                    <a:lnTo>
                      <a:pt x="7" y="71"/>
                    </a:lnTo>
                    <a:lnTo>
                      <a:pt x="7" y="76"/>
                    </a:lnTo>
                    <a:lnTo>
                      <a:pt x="9" y="82"/>
                    </a:lnTo>
                    <a:lnTo>
                      <a:pt x="9" y="92"/>
                    </a:lnTo>
                    <a:lnTo>
                      <a:pt x="10" y="104"/>
                    </a:lnTo>
                    <a:lnTo>
                      <a:pt x="12" y="117"/>
                    </a:lnTo>
                    <a:lnTo>
                      <a:pt x="15" y="132"/>
                    </a:lnTo>
                    <a:lnTo>
                      <a:pt x="17" y="149"/>
                    </a:lnTo>
                    <a:lnTo>
                      <a:pt x="21" y="166"/>
                    </a:lnTo>
                    <a:lnTo>
                      <a:pt x="25" y="186"/>
                    </a:lnTo>
                    <a:lnTo>
                      <a:pt x="29" y="206"/>
                    </a:lnTo>
                    <a:lnTo>
                      <a:pt x="33" y="228"/>
                    </a:lnTo>
                    <a:lnTo>
                      <a:pt x="37" y="250"/>
                    </a:lnTo>
                    <a:lnTo>
                      <a:pt x="40" y="272"/>
                    </a:lnTo>
                    <a:lnTo>
                      <a:pt x="46" y="294"/>
                    </a:lnTo>
                    <a:lnTo>
                      <a:pt x="50" y="316"/>
                    </a:lnTo>
                    <a:lnTo>
                      <a:pt x="56" y="338"/>
                    </a:lnTo>
                    <a:lnTo>
                      <a:pt x="59" y="359"/>
                    </a:lnTo>
                    <a:lnTo>
                      <a:pt x="65" y="379"/>
                    </a:lnTo>
                    <a:lnTo>
                      <a:pt x="68" y="401"/>
                    </a:lnTo>
                    <a:lnTo>
                      <a:pt x="74" y="422"/>
                    </a:lnTo>
                    <a:lnTo>
                      <a:pt x="79" y="445"/>
                    </a:lnTo>
                    <a:lnTo>
                      <a:pt x="85" y="468"/>
                    </a:lnTo>
                    <a:lnTo>
                      <a:pt x="90" y="492"/>
                    </a:lnTo>
                    <a:lnTo>
                      <a:pt x="97" y="515"/>
                    </a:lnTo>
                    <a:lnTo>
                      <a:pt x="103" y="539"/>
                    </a:lnTo>
                    <a:lnTo>
                      <a:pt x="110" y="562"/>
                    </a:lnTo>
                    <a:lnTo>
                      <a:pt x="116" y="584"/>
                    </a:lnTo>
                    <a:lnTo>
                      <a:pt x="122" y="606"/>
                    </a:lnTo>
                    <a:lnTo>
                      <a:pt x="128" y="627"/>
                    </a:lnTo>
                    <a:lnTo>
                      <a:pt x="135" y="645"/>
                    </a:lnTo>
                    <a:lnTo>
                      <a:pt x="140" y="663"/>
                    </a:lnTo>
                    <a:lnTo>
                      <a:pt x="146" y="679"/>
                    </a:lnTo>
                    <a:lnTo>
                      <a:pt x="150" y="692"/>
                    </a:lnTo>
                    <a:lnTo>
                      <a:pt x="156" y="702"/>
                    </a:lnTo>
                    <a:lnTo>
                      <a:pt x="160" y="714"/>
                    </a:lnTo>
                    <a:lnTo>
                      <a:pt x="164" y="727"/>
                    </a:lnTo>
                    <a:lnTo>
                      <a:pt x="170" y="741"/>
                    </a:lnTo>
                    <a:lnTo>
                      <a:pt x="176" y="755"/>
                    </a:lnTo>
                    <a:lnTo>
                      <a:pt x="182" y="771"/>
                    </a:lnTo>
                    <a:lnTo>
                      <a:pt x="189" y="787"/>
                    </a:lnTo>
                    <a:lnTo>
                      <a:pt x="196" y="805"/>
                    </a:lnTo>
                    <a:lnTo>
                      <a:pt x="204" y="822"/>
                    </a:lnTo>
                    <a:lnTo>
                      <a:pt x="211" y="840"/>
                    </a:lnTo>
                    <a:lnTo>
                      <a:pt x="218" y="857"/>
                    </a:lnTo>
                    <a:lnTo>
                      <a:pt x="226" y="875"/>
                    </a:lnTo>
                    <a:lnTo>
                      <a:pt x="233" y="892"/>
                    </a:lnTo>
                    <a:lnTo>
                      <a:pt x="239" y="908"/>
                    </a:lnTo>
                    <a:lnTo>
                      <a:pt x="246" y="925"/>
                    </a:lnTo>
                    <a:lnTo>
                      <a:pt x="253" y="940"/>
                    </a:lnTo>
                    <a:lnTo>
                      <a:pt x="260" y="953"/>
                    </a:lnTo>
                    <a:lnTo>
                      <a:pt x="266" y="968"/>
                    </a:lnTo>
                    <a:lnTo>
                      <a:pt x="272" y="982"/>
                    </a:lnTo>
                    <a:lnTo>
                      <a:pt x="278" y="998"/>
                    </a:lnTo>
                    <a:lnTo>
                      <a:pt x="285" y="1013"/>
                    </a:lnTo>
                    <a:lnTo>
                      <a:pt x="292" y="1030"/>
                    </a:lnTo>
                    <a:lnTo>
                      <a:pt x="300" y="1046"/>
                    </a:lnTo>
                    <a:lnTo>
                      <a:pt x="307" y="1063"/>
                    </a:lnTo>
                    <a:lnTo>
                      <a:pt x="314" y="1079"/>
                    </a:lnTo>
                    <a:lnTo>
                      <a:pt x="320" y="1096"/>
                    </a:lnTo>
                    <a:lnTo>
                      <a:pt x="328" y="1111"/>
                    </a:lnTo>
                    <a:lnTo>
                      <a:pt x="334" y="1126"/>
                    </a:lnTo>
                    <a:lnTo>
                      <a:pt x="342" y="1140"/>
                    </a:lnTo>
                    <a:lnTo>
                      <a:pt x="348" y="1154"/>
                    </a:lnTo>
                    <a:lnTo>
                      <a:pt x="354" y="1166"/>
                    </a:lnTo>
                    <a:lnTo>
                      <a:pt x="358" y="1177"/>
                    </a:lnTo>
                    <a:lnTo>
                      <a:pt x="364" y="1186"/>
                    </a:lnTo>
                    <a:lnTo>
                      <a:pt x="368" y="1196"/>
                    </a:lnTo>
                    <a:lnTo>
                      <a:pt x="372" y="1205"/>
                    </a:lnTo>
                    <a:lnTo>
                      <a:pt x="378" y="1216"/>
                    </a:lnTo>
                    <a:lnTo>
                      <a:pt x="385" y="1227"/>
                    </a:lnTo>
                    <a:lnTo>
                      <a:pt x="392" y="1240"/>
                    </a:lnTo>
                    <a:lnTo>
                      <a:pt x="399" y="1252"/>
                    </a:lnTo>
                    <a:lnTo>
                      <a:pt x="407" y="1265"/>
                    </a:lnTo>
                    <a:lnTo>
                      <a:pt x="416" y="1276"/>
                    </a:lnTo>
                    <a:lnTo>
                      <a:pt x="424" y="1290"/>
                    </a:lnTo>
                    <a:lnTo>
                      <a:pt x="433" y="1302"/>
                    </a:lnTo>
                    <a:lnTo>
                      <a:pt x="440" y="1315"/>
                    </a:lnTo>
                    <a:lnTo>
                      <a:pt x="450" y="1326"/>
                    </a:lnTo>
                    <a:lnTo>
                      <a:pt x="457" y="1338"/>
                    </a:lnTo>
                    <a:lnTo>
                      <a:pt x="465" y="1348"/>
                    </a:lnTo>
                    <a:lnTo>
                      <a:pt x="473" y="1358"/>
                    </a:lnTo>
                    <a:lnTo>
                      <a:pt x="481" y="1366"/>
                    </a:lnTo>
                    <a:lnTo>
                      <a:pt x="488" y="1376"/>
                    </a:lnTo>
                    <a:lnTo>
                      <a:pt x="495" y="1385"/>
                    </a:lnTo>
                    <a:lnTo>
                      <a:pt x="504" y="1395"/>
                    </a:lnTo>
                    <a:lnTo>
                      <a:pt x="514" y="1404"/>
                    </a:lnTo>
                    <a:lnTo>
                      <a:pt x="523" y="1416"/>
                    </a:lnTo>
                    <a:lnTo>
                      <a:pt x="534" y="1426"/>
                    </a:lnTo>
                    <a:lnTo>
                      <a:pt x="543" y="1437"/>
                    </a:lnTo>
                    <a:lnTo>
                      <a:pt x="554" y="1446"/>
                    </a:lnTo>
                    <a:lnTo>
                      <a:pt x="563" y="1458"/>
                    </a:lnTo>
                    <a:lnTo>
                      <a:pt x="574" y="1467"/>
                    </a:lnTo>
                    <a:lnTo>
                      <a:pt x="583" y="1476"/>
                    </a:lnTo>
                    <a:lnTo>
                      <a:pt x="594" y="1485"/>
                    </a:lnTo>
                    <a:lnTo>
                      <a:pt x="602" y="1494"/>
                    </a:lnTo>
                    <a:lnTo>
                      <a:pt x="612" y="1501"/>
                    </a:lnTo>
                    <a:lnTo>
                      <a:pt x="619" y="1508"/>
                    </a:lnTo>
                    <a:lnTo>
                      <a:pt x="628" y="1513"/>
                    </a:lnTo>
                    <a:lnTo>
                      <a:pt x="634" y="1519"/>
                    </a:lnTo>
                    <a:lnTo>
                      <a:pt x="641" y="1524"/>
                    </a:lnTo>
                    <a:lnTo>
                      <a:pt x="649" y="1530"/>
                    </a:lnTo>
                    <a:lnTo>
                      <a:pt x="656" y="1535"/>
                    </a:lnTo>
                    <a:lnTo>
                      <a:pt x="663" y="1540"/>
                    </a:lnTo>
                    <a:lnTo>
                      <a:pt x="671" y="1546"/>
                    </a:lnTo>
                    <a:lnTo>
                      <a:pt x="678" y="1552"/>
                    </a:lnTo>
                    <a:lnTo>
                      <a:pt x="686" y="1557"/>
                    </a:lnTo>
                    <a:lnTo>
                      <a:pt x="691" y="1562"/>
                    </a:lnTo>
                    <a:lnTo>
                      <a:pt x="698" y="1567"/>
                    </a:lnTo>
                    <a:lnTo>
                      <a:pt x="704" y="1572"/>
                    </a:lnTo>
                    <a:lnTo>
                      <a:pt x="710" y="1576"/>
                    </a:lnTo>
                    <a:lnTo>
                      <a:pt x="714" y="1579"/>
                    </a:lnTo>
                    <a:lnTo>
                      <a:pt x="719" y="1582"/>
                    </a:lnTo>
                    <a:lnTo>
                      <a:pt x="723" y="1585"/>
                    </a:lnTo>
                    <a:lnTo>
                      <a:pt x="727" y="1586"/>
                    </a:lnTo>
                    <a:lnTo>
                      <a:pt x="729" y="1589"/>
                    </a:lnTo>
                    <a:lnTo>
                      <a:pt x="732" y="1591"/>
                    </a:lnTo>
                    <a:lnTo>
                      <a:pt x="736" y="1593"/>
                    </a:lnTo>
                    <a:lnTo>
                      <a:pt x="740" y="1595"/>
                    </a:lnTo>
                    <a:lnTo>
                      <a:pt x="745" y="1598"/>
                    </a:lnTo>
                    <a:lnTo>
                      <a:pt x="750" y="1600"/>
                    </a:lnTo>
                    <a:lnTo>
                      <a:pt x="756" y="1604"/>
                    </a:lnTo>
                    <a:lnTo>
                      <a:pt x="762" y="1605"/>
                    </a:lnTo>
                    <a:lnTo>
                      <a:pt x="768" y="1609"/>
                    </a:lnTo>
                    <a:lnTo>
                      <a:pt x="773" y="1611"/>
                    </a:lnTo>
                    <a:lnTo>
                      <a:pt x="779" y="1615"/>
                    </a:lnTo>
                    <a:lnTo>
                      <a:pt x="786" y="1617"/>
                    </a:lnTo>
                    <a:lnTo>
                      <a:pt x="791" y="1620"/>
                    </a:lnTo>
                    <a:lnTo>
                      <a:pt x="797" y="1622"/>
                    </a:lnTo>
                    <a:lnTo>
                      <a:pt x="802" y="1624"/>
                    </a:lnTo>
                    <a:lnTo>
                      <a:pt x="809" y="1625"/>
                    </a:lnTo>
                    <a:lnTo>
                      <a:pt x="814" y="1629"/>
                    </a:lnTo>
                    <a:lnTo>
                      <a:pt x="820" y="1631"/>
                    </a:lnTo>
                    <a:lnTo>
                      <a:pt x="828" y="1634"/>
                    </a:lnTo>
                    <a:lnTo>
                      <a:pt x="837" y="1636"/>
                    </a:lnTo>
                    <a:lnTo>
                      <a:pt x="845" y="1640"/>
                    </a:lnTo>
                    <a:lnTo>
                      <a:pt x="854" y="1642"/>
                    </a:lnTo>
                    <a:lnTo>
                      <a:pt x="864" y="1645"/>
                    </a:lnTo>
                    <a:lnTo>
                      <a:pt x="874" y="1647"/>
                    </a:lnTo>
                    <a:lnTo>
                      <a:pt x="884" y="1651"/>
                    </a:lnTo>
                    <a:lnTo>
                      <a:pt x="894" y="1654"/>
                    </a:lnTo>
                    <a:lnTo>
                      <a:pt x="903" y="1658"/>
                    </a:lnTo>
                    <a:lnTo>
                      <a:pt x="914" y="1660"/>
                    </a:lnTo>
                    <a:lnTo>
                      <a:pt x="924" y="1664"/>
                    </a:lnTo>
                    <a:lnTo>
                      <a:pt x="933" y="1665"/>
                    </a:lnTo>
                    <a:lnTo>
                      <a:pt x="942" y="1667"/>
                    </a:lnTo>
                    <a:lnTo>
                      <a:pt x="952" y="1669"/>
                    </a:lnTo>
                    <a:lnTo>
                      <a:pt x="959" y="1672"/>
                    </a:lnTo>
                    <a:lnTo>
                      <a:pt x="968" y="1674"/>
                    </a:lnTo>
                    <a:lnTo>
                      <a:pt x="978" y="1676"/>
                    </a:lnTo>
                    <a:lnTo>
                      <a:pt x="988" y="1678"/>
                    </a:lnTo>
                    <a:lnTo>
                      <a:pt x="999" y="1680"/>
                    </a:lnTo>
                    <a:lnTo>
                      <a:pt x="1010" y="1682"/>
                    </a:lnTo>
                    <a:lnTo>
                      <a:pt x="1021" y="1684"/>
                    </a:lnTo>
                    <a:lnTo>
                      <a:pt x="1033" y="1686"/>
                    </a:lnTo>
                    <a:lnTo>
                      <a:pt x="1044" y="1688"/>
                    </a:lnTo>
                    <a:lnTo>
                      <a:pt x="1055" y="1690"/>
                    </a:lnTo>
                    <a:lnTo>
                      <a:pt x="1065" y="1692"/>
                    </a:lnTo>
                    <a:lnTo>
                      <a:pt x="1076" y="1694"/>
                    </a:lnTo>
                    <a:lnTo>
                      <a:pt x="1086" y="1696"/>
                    </a:lnTo>
                    <a:lnTo>
                      <a:pt x="1095" y="1697"/>
                    </a:lnTo>
                    <a:lnTo>
                      <a:pt x="1103" y="1699"/>
                    </a:lnTo>
                    <a:lnTo>
                      <a:pt x="1112" y="1699"/>
                    </a:lnTo>
                    <a:lnTo>
                      <a:pt x="1119" y="1701"/>
                    </a:lnTo>
                    <a:lnTo>
                      <a:pt x="1127" y="1701"/>
                    </a:lnTo>
                    <a:lnTo>
                      <a:pt x="1136" y="1703"/>
                    </a:lnTo>
                    <a:lnTo>
                      <a:pt x="1146" y="1703"/>
                    </a:lnTo>
                    <a:lnTo>
                      <a:pt x="1156" y="1705"/>
                    </a:lnTo>
                    <a:lnTo>
                      <a:pt x="1167" y="1705"/>
                    </a:lnTo>
                    <a:lnTo>
                      <a:pt x="1179" y="1706"/>
                    </a:lnTo>
                    <a:lnTo>
                      <a:pt x="1190" y="1706"/>
                    </a:lnTo>
                    <a:lnTo>
                      <a:pt x="1202" y="1708"/>
                    </a:lnTo>
                    <a:lnTo>
                      <a:pt x="1213" y="1708"/>
                    </a:lnTo>
                    <a:lnTo>
                      <a:pt x="1224" y="1710"/>
                    </a:lnTo>
                    <a:lnTo>
                      <a:pt x="1236" y="1710"/>
                    </a:lnTo>
                    <a:lnTo>
                      <a:pt x="1246" y="1712"/>
                    </a:lnTo>
                    <a:lnTo>
                      <a:pt x="1257" y="1712"/>
                    </a:lnTo>
                    <a:lnTo>
                      <a:pt x="1267" y="1712"/>
                    </a:lnTo>
                    <a:lnTo>
                      <a:pt x="1276" y="1712"/>
                    </a:lnTo>
                    <a:lnTo>
                      <a:pt x="1285" y="1713"/>
                    </a:lnTo>
                    <a:lnTo>
                      <a:pt x="1294" y="1713"/>
                    </a:lnTo>
                    <a:lnTo>
                      <a:pt x="1304" y="1713"/>
                    </a:lnTo>
                    <a:lnTo>
                      <a:pt x="1315" y="1713"/>
                    </a:lnTo>
                    <a:lnTo>
                      <a:pt x="1326" y="1714"/>
                    </a:lnTo>
                    <a:lnTo>
                      <a:pt x="1338" y="1714"/>
                    </a:lnTo>
                    <a:lnTo>
                      <a:pt x="1349" y="1714"/>
                    </a:lnTo>
                    <a:lnTo>
                      <a:pt x="1362" y="1714"/>
                    </a:lnTo>
                    <a:lnTo>
                      <a:pt x="1372" y="1715"/>
                    </a:lnTo>
                    <a:lnTo>
                      <a:pt x="1383" y="1715"/>
                    </a:lnTo>
                    <a:lnTo>
                      <a:pt x="1394" y="1715"/>
                    </a:lnTo>
                    <a:lnTo>
                      <a:pt x="1405" y="1715"/>
                    </a:lnTo>
                    <a:lnTo>
                      <a:pt x="1414" y="1715"/>
                    </a:lnTo>
                    <a:lnTo>
                      <a:pt x="1424" y="1715"/>
                    </a:lnTo>
                    <a:lnTo>
                      <a:pt x="1432" y="1715"/>
                    </a:lnTo>
                    <a:lnTo>
                      <a:pt x="1441" y="1715"/>
                    </a:lnTo>
                    <a:lnTo>
                      <a:pt x="1446" y="1715"/>
                    </a:lnTo>
                    <a:lnTo>
                      <a:pt x="1451" y="1715"/>
                    </a:lnTo>
                    <a:lnTo>
                      <a:pt x="1453" y="1715"/>
                    </a:lnTo>
                    <a:lnTo>
                      <a:pt x="1456" y="1715"/>
                    </a:lnTo>
                    <a:lnTo>
                      <a:pt x="1458" y="1715"/>
                    </a:lnTo>
                    <a:lnTo>
                      <a:pt x="1460" y="1715"/>
                    </a:lnTo>
                    <a:lnTo>
                      <a:pt x="1461" y="1715"/>
                    </a:lnTo>
                    <a:lnTo>
                      <a:pt x="1463" y="1715"/>
                    </a:lnTo>
                    <a:lnTo>
                      <a:pt x="1465" y="1715"/>
                    </a:lnTo>
                    <a:lnTo>
                      <a:pt x="1468" y="1715"/>
                    </a:lnTo>
                    <a:lnTo>
                      <a:pt x="1471" y="1715"/>
                    </a:lnTo>
                    <a:lnTo>
                      <a:pt x="1476" y="1715"/>
                    </a:lnTo>
                    <a:lnTo>
                      <a:pt x="1482" y="1715"/>
                    </a:lnTo>
                    <a:lnTo>
                      <a:pt x="1491" y="1715"/>
                    </a:lnTo>
                    <a:lnTo>
                      <a:pt x="1501" y="1715"/>
                    </a:lnTo>
                    <a:lnTo>
                      <a:pt x="1514" y="1715"/>
                    </a:lnTo>
                  </a:path>
                </a:pathLst>
              </a:custGeom>
              <a:noFill/>
              <a:ln w="316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 flipV="1">
              <a:off x="5029200" y="1599840"/>
              <a:ext cx="17640" cy="5073480"/>
            </a:xfrm>
            <a:prstGeom prst="line">
              <a:avLst/>
            </a:prstGeom>
            <a:ln w="4428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5013360" y="5038200"/>
              <a:ext cx="2822400" cy="130356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014800" y="3784680"/>
              <a:ext cx="2908440" cy="255744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014800" y="2506680"/>
              <a:ext cx="2516400" cy="383544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76640" y="6051600"/>
              <a:ext cx="7732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ff0000"/>
                </a:buClr>
                <a:buSzPct val="50000"/>
                <a:buFont typeface="Monotype Sor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16200000">
              <a:off x="5507640" y="4186800"/>
              <a:ext cx="2417760" cy="762120"/>
            </a:xfrm>
            <a:custGeom>
              <a:avLst/>
              <a:gdLst/>
              <a:ahLst/>
              <a:rect l="l" t="t" r="r" b="b"/>
              <a:pathLst>
                <a:path w="1039" h="298">
                  <a:moveTo>
                    <a:pt x="1038" y="12"/>
                  </a:moveTo>
                  <a:lnTo>
                    <a:pt x="1031" y="18"/>
                  </a:lnTo>
                  <a:lnTo>
                    <a:pt x="1025" y="23"/>
                  </a:lnTo>
                  <a:lnTo>
                    <a:pt x="1021" y="27"/>
                  </a:lnTo>
                  <a:lnTo>
                    <a:pt x="1018" y="30"/>
                  </a:lnTo>
                  <a:lnTo>
                    <a:pt x="1015" y="32"/>
                  </a:lnTo>
                  <a:lnTo>
                    <a:pt x="1013" y="33"/>
                  </a:lnTo>
                  <a:lnTo>
                    <a:pt x="1011" y="35"/>
                  </a:lnTo>
                  <a:lnTo>
                    <a:pt x="1011" y="35"/>
                  </a:lnTo>
                  <a:lnTo>
                    <a:pt x="1009" y="37"/>
                  </a:lnTo>
                  <a:lnTo>
                    <a:pt x="1009" y="37"/>
                  </a:lnTo>
                  <a:lnTo>
                    <a:pt x="1007" y="38"/>
                  </a:lnTo>
                  <a:lnTo>
                    <a:pt x="1007" y="38"/>
                  </a:lnTo>
                  <a:lnTo>
                    <a:pt x="1005" y="40"/>
                  </a:lnTo>
                  <a:lnTo>
                    <a:pt x="1004" y="41"/>
                  </a:lnTo>
                  <a:lnTo>
                    <a:pt x="1001" y="43"/>
                  </a:lnTo>
                  <a:lnTo>
                    <a:pt x="999" y="45"/>
                  </a:lnTo>
                  <a:lnTo>
                    <a:pt x="994" y="50"/>
                  </a:lnTo>
                  <a:lnTo>
                    <a:pt x="989" y="53"/>
                  </a:lnTo>
                  <a:lnTo>
                    <a:pt x="983" y="59"/>
                  </a:lnTo>
                  <a:lnTo>
                    <a:pt x="976" y="62"/>
                  </a:lnTo>
                  <a:lnTo>
                    <a:pt x="967" y="68"/>
                  </a:lnTo>
                  <a:lnTo>
                    <a:pt x="960" y="73"/>
                  </a:lnTo>
                  <a:lnTo>
                    <a:pt x="951" y="79"/>
                  </a:lnTo>
                  <a:lnTo>
                    <a:pt x="943" y="85"/>
                  </a:lnTo>
                  <a:lnTo>
                    <a:pt x="932" y="92"/>
                  </a:lnTo>
                  <a:lnTo>
                    <a:pt x="923" y="98"/>
                  </a:lnTo>
                  <a:lnTo>
                    <a:pt x="913" y="103"/>
                  </a:lnTo>
                  <a:lnTo>
                    <a:pt x="903" y="109"/>
                  </a:lnTo>
                  <a:lnTo>
                    <a:pt x="893" y="115"/>
                  </a:lnTo>
                  <a:lnTo>
                    <a:pt x="883" y="121"/>
                  </a:lnTo>
                  <a:lnTo>
                    <a:pt x="874" y="127"/>
                  </a:lnTo>
                  <a:lnTo>
                    <a:pt x="866" y="131"/>
                  </a:lnTo>
                  <a:lnTo>
                    <a:pt x="855" y="137"/>
                  </a:lnTo>
                  <a:lnTo>
                    <a:pt x="845" y="143"/>
                  </a:lnTo>
                  <a:lnTo>
                    <a:pt x="832" y="149"/>
                  </a:lnTo>
                  <a:lnTo>
                    <a:pt x="821" y="155"/>
                  </a:lnTo>
                  <a:lnTo>
                    <a:pt x="807" y="162"/>
                  </a:lnTo>
                  <a:lnTo>
                    <a:pt x="794" y="169"/>
                  </a:lnTo>
                  <a:lnTo>
                    <a:pt x="780" y="176"/>
                  </a:lnTo>
                  <a:lnTo>
                    <a:pt x="767" y="182"/>
                  </a:lnTo>
                  <a:lnTo>
                    <a:pt x="752" y="189"/>
                  </a:lnTo>
                  <a:lnTo>
                    <a:pt x="739" y="196"/>
                  </a:lnTo>
                  <a:lnTo>
                    <a:pt x="725" y="204"/>
                  </a:lnTo>
                  <a:lnTo>
                    <a:pt x="712" y="209"/>
                  </a:lnTo>
                  <a:lnTo>
                    <a:pt x="699" y="216"/>
                  </a:lnTo>
                  <a:lnTo>
                    <a:pt x="686" y="222"/>
                  </a:lnTo>
                  <a:lnTo>
                    <a:pt x="675" y="227"/>
                  </a:lnTo>
                  <a:lnTo>
                    <a:pt x="665" y="231"/>
                  </a:lnTo>
                  <a:lnTo>
                    <a:pt x="654" y="237"/>
                  </a:lnTo>
                  <a:lnTo>
                    <a:pt x="644" y="241"/>
                  </a:lnTo>
                  <a:lnTo>
                    <a:pt x="633" y="246"/>
                  </a:lnTo>
                  <a:lnTo>
                    <a:pt x="623" y="250"/>
                  </a:lnTo>
                  <a:lnTo>
                    <a:pt x="611" y="256"/>
                  </a:lnTo>
                  <a:lnTo>
                    <a:pt x="600" y="259"/>
                  </a:lnTo>
                  <a:lnTo>
                    <a:pt x="589" y="263"/>
                  </a:lnTo>
                  <a:lnTo>
                    <a:pt x="579" y="267"/>
                  </a:lnTo>
                  <a:lnTo>
                    <a:pt x="568" y="271"/>
                  </a:lnTo>
                  <a:lnTo>
                    <a:pt x="559" y="274"/>
                  </a:lnTo>
                  <a:lnTo>
                    <a:pt x="549" y="278"/>
                  </a:lnTo>
                  <a:lnTo>
                    <a:pt x="541" y="280"/>
                  </a:lnTo>
                  <a:lnTo>
                    <a:pt x="533" y="283"/>
                  </a:lnTo>
                  <a:lnTo>
                    <a:pt x="526" y="284"/>
                  </a:lnTo>
                  <a:lnTo>
                    <a:pt x="521" y="286"/>
                  </a:lnTo>
                  <a:lnTo>
                    <a:pt x="516" y="286"/>
                  </a:lnTo>
                  <a:lnTo>
                    <a:pt x="511" y="288"/>
                  </a:lnTo>
                  <a:lnTo>
                    <a:pt x="506" y="288"/>
                  </a:lnTo>
                  <a:lnTo>
                    <a:pt x="501" y="290"/>
                  </a:lnTo>
                  <a:lnTo>
                    <a:pt x="496" y="290"/>
                  </a:lnTo>
                  <a:lnTo>
                    <a:pt x="488" y="292"/>
                  </a:lnTo>
                  <a:lnTo>
                    <a:pt x="483" y="292"/>
                  </a:lnTo>
                  <a:lnTo>
                    <a:pt x="476" y="292"/>
                  </a:lnTo>
                  <a:lnTo>
                    <a:pt x="470" y="292"/>
                  </a:lnTo>
                  <a:lnTo>
                    <a:pt x="463" y="294"/>
                  </a:lnTo>
                  <a:lnTo>
                    <a:pt x="457" y="294"/>
                  </a:lnTo>
                  <a:lnTo>
                    <a:pt x="449" y="295"/>
                  </a:lnTo>
                  <a:lnTo>
                    <a:pt x="444" y="295"/>
                  </a:lnTo>
                  <a:lnTo>
                    <a:pt x="438" y="297"/>
                  </a:lnTo>
                  <a:lnTo>
                    <a:pt x="432" y="297"/>
                  </a:lnTo>
                  <a:lnTo>
                    <a:pt x="427" y="297"/>
                  </a:lnTo>
                  <a:lnTo>
                    <a:pt x="422" y="297"/>
                  </a:lnTo>
                  <a:lnTo>
                    <a:pt x="416" y="297"/>
                  </a:lnTo>
                  <a:lnTo>
                    <a:pt x="410" y="297"/>
                  </a:lnTo>
                  <a:lnTo>
                    <a:pt x="404" y="297"/>
                  </a:lnTo>
                  <a:lnTo>
                    <a:pt x="398" y="297"/>
                  </a:lnTo>
                  <a:lnTo>
                    <a:pt x="391" y="297"/>
                  </a:lnTo>
                  <a:lnTo>
                    <a:pt x="385" y="297"/>
                  </a:lnTo>
                  <a:lnTo>
                    <a:pt x="377" y="297"/>
                  </a:lnTo>
                  <a:lnTo>
                    <a:pt x="371" y="295"/>
                  </a:lnTo>
                  <a:lnTo>
                    <a:pt x="364" y="295"/>
                  </a:lnTo>
                  <a:lnTo>
                    <a:pt x="357" y="294"/>
                  </a:lnTo>
                  <a:lnTo>
                    <a:pt x="350" y="294"/>
                  </a:lnTo>
                  <a:lnTo>
                    <a:pt x="344" y="292"/>
                  </a:lnTo>
                  <a:lnTo>
                    <a:pt x="338" y="292"/>
                  </a:lnTo>
                  <a:lnTo>
                    <a:pt x="332" y="290"/>
                  </a:lnTo>
                  <a:lnTo>
                    <a:pt x="327" y="288"/>
                  </a:lnTo>
                  <a:lnTo>
                    <a:pt x="323" y="286"/>
                  </a:lnTo>
                  <a:lnTo>
                    <a:pt x="317" y="285"/>
                  </a:lnTo>
                  <a:lnTo>
                    <a:pt x="312" y="284"/>
                  </a:lnTo>
                  <a:lnTo>
                    <a:pt x="305" y="282"/>
                  </a:lnTo>
                  <a:lnTo>
                    <a:pt x="300" y="279"/>
                  </a:lnTo>
                  <a:lnTo>
                    <a:pt x="292" y="277"/>
                  </a:lnTo>
                  <a:lnTo>
                    <a:pt x="287" y="274"/>
                  </a:lnTo>
                  <a:lnTo>
                    <a:pt x="280" y="272"/>
                  </a:lnTo>
                  <a:lnTo>
                    <a:pt x="274" y="268"/>
                  </a:lnTo>
                  <a:lnTo>
                    <a:pt x="267" y="266"/>
                  </a:lnTo>
                  <a:lnTo>
                    <a:pt x="260" y="263"/>
                  </a:lnTo>
                  <a:lnTo>
                    <a:pt x="253" y="260"/>
                  </a:lnTo>
                  <a:lnTo>
                    <a:pt x="247" y="256"/>
                  </a:lnTo>
                  <a:lnTo>
                    <a:pt x="241" y="254"/>
                  </a:lnTo>
                  <a:lnTo>
                    <a:pt x="235" y="251"/>
                  </a:lnTo>
                  <a:lnTo>
                    <a:pt x="230" y="248"/>
                  </a:lnTo>
                  <a:lnTo>
                    <a:pt x="226" y="244"/>
                  </a:lnTo>
                  <a:lnTo>
                    <a:pt x="221" y="243"/>
                  </a:lnTo>
                  <a:lnTo>
                    <a:pt x="215" y="239"/>
                  </a:lnTo>
                  <a:lnTo>
                    <a:pt x="209" y="236"/>
                  </a:lnTo>
                  <a:lnTo>
                    <a:pt x="203" y="232"/>
                  </a:lnTo>
                  <a:lnTo>
                    <a:pt x="195" y="228"/>
                  </a:lnTo>
                  <a:lnTo>
                    <a:pt x="189" y="223"/>
                  </a:lnTo>
                  <a:lnTo>
                    <a:pt x="181" y="219"/>
                  </a:lnTo>
                  <a:lnTo>
                    <a:pt x="176" y="214"/>
                  </a:lnTo>
                  <a:lnTo>
                    <a:pt x="168" y="210"/>
                  </a:lnTo>
                  <a:lnTo>
                    <a:pt x="161" y="205"/>
                  </a:lnTo>
                  <a:lnTo>
                    <a:pt x="153" y="201"/>
                  </a:lnTo>
                  <a:lnTo>
                    <a:pt x="147" y="196"/>
                  </a:lnTo>
                  <a:lnTo>
                    <a:pt x="139" y="192"/>
                  </a:lnTo>
                  <a:lnTo>
                    <a:pt x="134" y="187"/>
                  </a:lnTo>
                  <a:lnTo>
                    <a:pt x="128" y="183"/>
                  </a:lnTo>
                  <a:lnTo>
                    <a:pt x="123" y="178"/>
                  </a:lnTo>
                  <a:lnTo>
                    <a:pt x="117" y="175"/>
                  </a:lnTo>
                  <a:lnTo>
                    <a:pt x="111" y="171"/>
                  </a:lnTo>
                  <a:lnTo>
                    <a:pt x="106" y="167"/>
                  </a:lnTo>
                  <a:lnTo>
                    <a:pt x="100" y="161"/>
                  </a:lnTo>
                  <a:lnTo>
                    <a:pt x="94" y="157"/>
                  </a:lnTo>
                  <a:lnTo>
                    <a:pt x="88" y="151"/>
                  </a:lnTo>
                  <a:lnTo>
                    <a:pt x="83" y="145"/>
                  </a:lnTo>
                  <a:lnTo>
                    <a:pt x="77" y="139"/>
                  </a:lnTo>
                  <a:lnTo>
                    <a:pt x="71" y="134"/>
                  </a:lnTo>
                  <a:lnTo>
                    <a:pt x="65" y="128"/>
                  </a:lnTo>
                  <a:lnTo>
                    <a:pt x="59" y="123"/>
                  </a:lnTo>
                  <a:lnTo>
                    <a:pt x="55" y="117"/>
                  </a:lnTo>
                  <a:lnTo>
                    <a:pt x="50" y="113"/>
                  </a:lnTo>
                  <a:lnTo>
                    <a:pt x="47" y="107"/>
                  </a:lnTo>
                  <a:lnTo>
                    <a:pt x="43" y="103"/>
                  </a:lnTo>
                  <a:lnTo>
                    <a:pt x="41" y="97"/>
                  </a:lnTo>
                  <a:lnTo>
                    <a:pt x="37" y="93"/>
                  </a:lnTo>
                  <a:lnTo>
                    <a:pt x="35" y="89"/>
                  </a:lnTo>
                  <a:lnTo>
                    <a:pt x="31" y="85"/>
                  </a:lnTo>
                  <a:lnTo>
                    <a:pt x="29" y="80"/>
                  </a:lnTo>
                  <a:lnTo>
                    <a:pt x="25" y="76"/>
                  </a:lnTo>
                  <a:lnTo>
                    <a:pt x="23" y="70"/>
                  </a:lnTo>
                  <a:lnTo>
                    <a:pt x="20" y="65"/>
                  </a:lnTo>
                  <a:lnTo>
                    <a:pt x="18" y="59"/>
                  </a:lnTo>
                  <a:lnTo>
                    <a:pt x="15" y="55"/>
                  </a:lnTo>
                  <a:lnTo>
                    <a:pt x="13" y="50"/>
                  </a:lnTo>
                  <a:lnTo>
                    <a:pt x="11" y="47"/>
                  </a:lnTo>
                  <a:lnTo>
                    <a:pt x="10" y="41"/>
                  </a:lnTo>
                  <a:lnTo>
                    <a:pt x="8" y="37"/>
                  </a:lnTo>
                  <a:lnTo>
                    <a:pt x="7" y="33"/>
                  </a:lnTo>
                  <a:lnTo>
                    <a:pt x="6" y="30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63360">
              <a:solidFill>
                <a:srgbClr val="fb79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7695360" y="6248520"/>
              <a:ext cx="213372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oferta del bien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3200400" y="4800600"/>
            <a:ext cx="175248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-339840" y="2590560"/>
            <a:ext cx="5369040" cy="4267440"/>
            <a:chOff x="-339840" y="2590560"/>
            <a:chExt cx="5369040" cy="4267440"/>
          </a:xfrm>
        </p:grpSpPr>
        <p:sp>
          <p:nvSpPr>
            <p:cNvPr id="563" name=""/>
            <p:cNvSpPr/>
            <p:nvPr/>
          </p:nvSpPr>
          <p:spPr>
            <a:xfrm flipH="1">
              <a:off x="3463920" y="6324480"/>
              <a:ext cx="1565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oferta del bie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-288000" y="6711840"/>
              <a:ext cx="4497480" cy="0"/>
            </a:xfrm>
            <a:prstGeom prst="line">
              <a:avLst/>
            </a:prstGeom>
            <a:ln w="4428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200000">
              <a:off x="-46080" y="2776320"/>
              <a:ext cx="3121200" cy="3429000"/>
            </a:xfrm>
            <a:custGeom>
              <a:avLst/>
              <a:gdLst/>
              <a:ahLst/>
              <a:rect l="l" t="t" r="r" b="b"/>
              <a:pathLst>
                <a:path w="1731" h="1962">
                  <a:moveTo>
                    <a:pt x="0" y="0"/>
                  </a:moveTo>
                  <a:lnTo>
                    <a:pt x="0" y="16"/>
                  </a:lnTo>
                  <a:lnTo>
                    <a:pt x="1" y="30"/>
                  </a:lnTo>
                  <a:lnTo>
                    <a:pt x="1" y="40"/>
                  </a:lnTo>
                  <a:lnTo>
                    <a:pt x="3" y="48"/>
                  </a:lnTo>
                  <a:lnTo>
                    <a:pt x="3" y="55"/>
                  </a:lnTo>
                  <a:lnTo>
                    <a:pt x="4" y="59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6" y="72"/>
                  </a:lnTo>
                  <a:lnTo>
                    <a:pt x="6" y="76"/>
                  </a:lnTo>
                  <a:lnTo>
                    <a:pt x="7" y="80"/>
                  </a:lnTo>
                  <a:lnTo>
                    <a:pt x="7" y="86"/>
                  </a:lnTo>
                  <a:lnTo>
                    <a:pt x="9" y="93"/>
                  </a:lnTo>
                  <a:lnTo>
                    <a:pt x="10" y="104"/>
                  </a:lnTo>
                  <a:lnTo>
                    <a:pt x="11" y="117"/>
                  </a:lnTo>
                  <a:lnTo>
                    <a:pt x="13" y="133"/>
                  </a:lnTo>
                  <a:lnTo>
                    <a:pt x="16" y="149"/>
                  </a:lnTo>
                  <a:lnTo>
                    <a:pt x="20" y="169"/>
                  </a:lnTo>
                  <a:lnTo>
                    <a:pt x="23" y="190"/>
                  </a:lnTo>
                  <a:lnTo>
                    <a:pt x="27" y="212"/>
                  </a:lnTo>
                  <a:lnTo>
                    <a:pt x="32" y="234"/>
                  </a:lnTo>
                  <a:lnTo>
                    <a:pt x="36" y="260"/>
                  </a:lnTo>
                  <a:lnTo>
                    <a:pt x="41" y="284"/>
                  </a:lnTo>
                  <a:lnTo>
                    <a:pt x="46" y="310"/>
                  </a:lnTo>
                  <a:lnTo>
                    <a:pt x="52" y="335"/>
                  </a:lnTo>
                  <a:lnTo>
                    <a:pt x="56" y="361"/>
                  </a:lnTo>
                  <a:lnTo>
                    <a:pt x="62" y="386"/>
                  </a:lnTo>
                  <a:lnTo>
                    <a:pt x="68" y="410"/>
                  </a:lnTo>
                  <a:lnTo>
                    <a:pt x="73" y="433"/>
                  </a:lnTo>
                  <a:lnTo>
                    <a:pt x="78" y="458"/>
                  </a:lnTo>
                  <a:lnTo>
                    <a:pt x="84" y="483"/>
                  </a:lnTo>
                  <a:lnTo>
                    <a:pt x="89" y="510"/>
                  </a:lnTo>
                  <a:lnTo>
                    <a:pt x="97" y="535"/>
                  </a:lnTo>
                  <a:lnTo>
                    <a:pt x="103" y="563"/>
                  </a:lnTo>
                  <a:lnTo>
                    <a:pt x="110" y="589"/>
                  </a:lnTo>
                  <a:lnTo>
                    <a:pt x="118" y="616"/>
                  </a:lnTo>
                  <a:lnTo>
                    <a:pt x="126" y="641"/>
                  </a:lnTo>
                  <a:lnTo>
                    <a:pt x="132" y="667"/>
                  </a:lnTo>
                  <a:lnTo>
                    <a:pt x="139" y="692"/>
                  </a:lnTo>
                  <a:lnTo>
                    <a:pt x="146" y="716"/>
                  </a:lnTo>
                  <a:lnTo>
                    <a:pt x="154" y="737"/>
                  </a:lnTo>
                  <a:lnTo>
                    <a:pt x="159" y="758"/>
                  </a:lnTo>
                  <a:lnTo>
                    <a:pt x="166" y="775"/>
                  </a:lnTo>
                  <a:lnTo>
                    <a:pt x="172" y="792"/>
                  </a:lnTo>
                  <a:lnTo>
                    <a:pt x="177" y="804"/>
                  </a:lnTo>
                  <a:lnTo>
                    <a:pt x="181" y="817"/>
                  </a:lnTo>
                  <a:lnTo>
                    <a:pt x="187" y="831"/>
                  </a:lnTo>
                  <a:lnTo>
                    <a:pt x="193" y="847"/>
                  </a:lnTo>
                  <a:lnTo>
                    <a:pt x="200" y="863"/>
                  </a:lnTo>
                  <a:lnTo>
                    <a:pt x="207" y="882"/>
                  </a:lnTo>
                  <a:lnTo>
                    <a:pt x="215" y="900"/>
                  </a:lnTo>
                  <a:lnTo>
                    <a:pt x="223" y="920"/>
                  </a:lnTo>
                  <a:lnTo>
                    <a:pt x="232" y="939"/>
                  </a:lnTo>
                  <a:lnTo>
                    <a:pt x="240" y="960"/>
                  </a:lnTo>
                  <a:lnTo>
                    <a:pt x="248" y="980"/>
                  </a:lnTo>
                  <a:lnTo>
                    <a:pt x="256" y="1001"/>
                  </a:lnTo>
                  <a:lnTo>
                    <a:pt x="265" y="1019"/>
                  </a:lnTo>
                  <a:lnTo>
                    <a:pt x="273" y="1039"/>
                  </a:lnTo>
                  <a:lnTo>
                    <a:pt x="281" y="1057"/>
                  </a:lnTo>
                  <a:lnTo>
                    <a:pt x="288" y="1074"/>
                  </a:lnTo>
                  <a:lnTo>
                    <a:pt x="296" y="1089"/>
                  </a:lnTo>
                  <a:lnTo>
                    <a:pt x="302" y="1106"/>
                  </a:lnTo>
                  <a:lnTo>
                    <a:pt x="309" y="1123"/>
                  </a:lnTo>
                  <a:lnTo>
                    <a:pt x="316" y="1141"/>
                  </a:lnTo>
                  <a:lnTo>
                    <a:pt x="324" y="1158"/>
                  </a:lnTo>
                  <a:lnTo>
                    <a:pt x="332" y="1177"/>
                  </a:lnTo>
                  <a:lnTo>
                    <a:pt x="341" y="1196"/>
                  </a:lnTo>
                  <a:lnTo>
                    <a:pt x="349" y="1215"/>
                  </a:lnTo>
                  <a:lnTo>
                    <a:pt x="358" y="1233"/>
                  </a:lnTo>
                  <a:lnTo>
                    <a:pt x="366" y="1252"/>
                  </a:lnTo>
                  <a:lnTo>
                    <a:pt x="374" y="1270"/>
                  </a:lnTo>
                  <a:lnTo>
                    <a:pt x="381" y="1288"/>
                  </a:lnTo>
                  <a:lnTo>
                    <a:pt x="390" y="1304"/>
                  </a:lnTo>
                  <a:lnTo>
                    <a:pt x="396" y="1320"/>
                  </a:lnTo>
                  <a:lnTo>
                    <a:pt x="403" y="1333"/>
                  </a:lnTo>
                  <a:lnTo>
                    <a:pt x="409" y="1345"/>
                  </a:lnTo>
                  <a:lnTo>
                    <a:pt x="414" y="1355"/>
                  </a:lnTo>
                  <a:lnTo>
                    <a:pt x="420" y="1366"/>
                  </a:lnTo>
                  <a:lnTo>
                    <a:pt x="425" y="1378"/>
                  </a:lnTo>
                  <a:lnTo>
                    <a:pt x="432" y="1390"/>
                  </a:lnTo>
                  <a:lnTo>
                    <a:pt x="439" y="1402"/>
                  </a:lnTo>
                  <a:lnTo>
                    <a:pt x="447" y="1418"/>
                  </a:lnTo>
                  <a:lnTo>
                    <a:pt x="456" y="1431"/>
                  </a:lnTo>
                  <a:lnTo>
                    <a:pt x="465" y="1446"/>
                  </a:lnTo>
                  <a:lnTo>
                    <a:pt x="474" y="1459"/>
                  </a:lnTo>
                  <a:lnTo>
                    <a:pt x="484" y="1474"/>
                  </a:lnTo>
                  <a:lnTo>
                    <a:pt x="493" y="1488"/>
                  </a:lnTo>
                  <a:lnTo>
                    <a:pt x="502" y="1503"/>
                  </a:lnTo>
                  <a:lnTo>
                    <a:pt x="512" y="1516"/>
                  </a:lnTo>
                  <a:lnTo>
                    <a:pt x="522" y="1529"/>
                  </a:lnTo>
                  <a:lnTo>
                    <a:pt x="531" y="1542"/>
                  </a:lnTo>
                  <a:lnTo>
                    <a:pt x="539" y="1553"/>
                  </a:lnTo>
                  <a:lnTo>
                    <a:pt x="548" y="1562"/>
                  </a:lnTo>
                  <a:lnTo>
                    <a:pt x="556" y="1574"/>
                  </a:lnTo>
                  <a:lnTo>
                    <a:pt x="566" y="1584"/>
                  </a:lnTo>
                  <a:lnTo>
                    <a:pt x="575" y="1595"/>
                  </a:lnTo>
                  <a:lnTo>
                    <a:pt x="586" y="1606"/>
                  </a:lnTo>
                  <a:lnTo>
                    <a:pt x="597" y="1620"/>
                  </a:lnTo>
                  <a:lnTo>
                    <a:pt x="608" y="1631"/>
                  </a:lnTo>
                  <a:lnTo>
                    <a:pt x="619" y="1643"/>
                  </a:lnTo>
                  <a:lnTo>
                    <a:pt x="632" y="1654"/>
                  </a:lnTo>
                  <a:lnTo>
                    <a:pt x="643" y="1666"/>
                  </a:lnTo>
                  <a:lnTo>
                    <a:pt x="654" y="1677"/>
                  </a:lnTo>
                  <a:lnTo>
                    <a:pt x="665" y="1688"/>
                  </a:lnTo>
                  <a:lnTo>
                    <a:pt x="677" y="1698"/>
                  </a:lnTo>
                  <a:lnTo>
                    <a:pt x="687" y="1708"/>
                  </a:lnTo>
                  <a:lnTo>
                    <a:pt x="698" y="1716"/>
                  </a:lnTo>
                  <a:lnTo>
                    <a:pt x="707" y="1724"/>
                  </a:lnTo>
                  <a:lnTo>
                    <a:pt x="716" y="1730"/>
                  </a:lnTo>
                  <a:lnTo>
                    <a:pt x="724" y="1738"/>
                  </a:lnTo>
                  <a:lnTo>
                    <a:pt x="732" y="1743"/>
                  </a:lnTo>
                  <a:lnTo>
                    <a:pt x="740" y="1750"/>
                  </a:lnTo>
                  <a:lnTo>
                    <a:pt x="749" y="1756"/>
                  </a:lnTo>
                  <a:lnTo>
                    <a:pt x="756" y="1763"/>
                  </a:lnTo>
                  <a:lnTo>
                    <a:pt x="766" y="1769"/>
                  </a:lnTo>
                  <a:lnTo>
                    <a:pt x="773" y="1774"/>
                  </a:lnTo>
                  <a:lnTo>
                    <a:pt x="782" y="1780"/>
                  </a:lnTo>
                  <a:lnTo>
                    <a:pt x="790" y="1786"/>
                  </a:lnTo>
                  <a:lnTo>
                    <a:pt x="798" y="1792"/>
                  </a:lnTo>
                  <a:lnTo>
                    <a:pt x="804" y="1798"/>
                  </a:lnTo>
                  <a:lnTo>
                    <a:pt x="811" y="1801"/>
                  </a:lnTo>
                  <a:lnTo>
                    <a:pt x="816" y="1806"/>
                  </a:lnTo>
                  <a:lnTo>
                    <a:pt x="822" y="1809"/>
                  </a:lnTo>
                  <a:lnTo>
                    <a:pt x="826" y="1812"/>
                  </a:lnTo>
                  <a:lnTo>
                    <a:pt x="830" y="1814"/>
                  </a:lnTo>
                  <a:lnTo>
                    <a:pt x="832" y="1817"/>
                  </a:lnTo>
                  <a:lnTo>
                    <a:pt x="836" y="1819"/>
                  </a:lnTo>
                  <a:lnTo>
                    <a:pt x="841" y="1822"/>
                  </a:lnTo>
                  <a:lnTo>
                    <a:pt x="846" y="1824"/>
                  </a:lnTo>
                  <a:lnTo>
                    <a:pt x="851" y="1828"/>
                  </a:lnTo>
                  <a:lnTo>
                    <a:pt x="857" y="1829"/>
                  </a:lnTo>
                  <a:lnTo>
                    <a:pt x="862" y="1833"/>
                  </a:lnTo>
                  <a:lnTo>
                    <a:pt x="870" y="1835"/>
                  </a:lnTo>
                  <a:lnTo>
                    <a:pt x="876" y="1839"/>
                  </a:lnTo>
                  <a:lnTo>
                    <a:pt x="883" y="1842"/>
                  </a:lnTo>
                  <a:lnTo>
                    <a:pt x="890" y="1846"/>
                  </a:lnTo>
                  <a:lnTo>
                    <a:pt x="897" y="1847"/>
                  </a:lnTo>
                  <a:lnTo>
                    <a:pt x="903" y="1851"/>
                  </a:lnTo>
                  <a:lnTo>
                    <a:pt x="910" y="1853"/>
                  </a:lnTo>
                  <a:lnTo>
                    <a:pt x="917" y="1856"/>
                  </a:lnTo>
                  <a:lnTo>
                    <a:pt x="924" y="1858"/>
                  </a:lnTo>
                  <a:lnTo>
                    <a:pt x="930" y="1862"/>
                  </a:lnTo>
                  <a:lnTo>
                    <a:pt x="937" y="1864"/>
                  </a:lnTo>
                  <a:lnTo>
                    <a:pt x="946" y="1868"/>
                  </a:lnTo>
                  <a:lnTo>
                    <a:pt x="955" y="1870"/>
                  </a:lnTo>
                  <a:lnTo>
                    <a:pt x="964" y="1874"/>
                  </a:lnTo>
                  <a:lnTo>
                    <a:pt x="975" y="1877"/>
                  </a:lnTo>
                  <a:lnTo>
                    <a:pt x="987" y="1881"/>
                  </a:lnTo>
                  <a:lnTo>
                    <a:pt x="998" y="1883"/>
                  </a:lnTo>
                  <a:lnTo>
                    <a:pt x="1010" y="1887"/>
                  </a:lnTo>
                  <a:lnTo>
                    <a:pt x="1021" y="1890"/>
                  </a:lnTo>
                  <a:lnTo>
                    <a:pt x="1032" y="1894"/>
                  </a:lnTo>
                  <a:lnTo>
                    <a:pt x="1044" y="1897"/>
                  </a:lnTo>
                  <a:lnTo>
                    <a:pt x="1055" y="1900"/>
                  </a:lnTo>
                  <a:lnTo>
                    <a:pt x="1066" y="1902"/>
                  </a:lnTo>
                  <a:lnTo>
                    <a:pt x="1076" y="1906"/>
                  </a:lnTo>
                  <a:lnTo>
                    <a:pt x="1087" y="1907"/>
                  </a:lnTo>
                  <a:lnTo>
                    <a:pt x="1096" y="1911"/>
                  </a:lnTo>
                  <a:lnTo>
                    <a:pt x="1106" y="1913"/>
                  </a:lnTo>
                  <a:lnTo>
                    <a:pt x="1118" y="1916"/>
                  </a:lnTo>
                  <a:lnTo>
                    <a:pt x="1130" y="1918"/>
                  </a:lnTo>
                  <a:lnTo>
                    <a:pt x="1141" y="1922"/>
                  </a:lnTo>
                  <a:lnTo>
                    <a:pt x="1154" y="1924"/>
                  </a:lnTo>
                  <a:lnTo>
                    <a:pt x="1168" y="1926"/>
                  </a:lnTo>
                  <a:lnTo>
                    <a:pt x="1181" y="1928"/>
                  </a:lnTo>
                  <a:lnTo>
                    <a:pt x="1192" y="1931"/>
                  </a:lnTo>
                  <a:lnTo>
                    <a:pt x="1206" y="1933"/>
                  </a:lnTo>
                  <a:lnTo>
                    <a:pt x="1218" y="1935"/>
                  </a:lnTo>
                  <a:lnTo>
                    <a:pt x="1231" y="1937"/>
                  </a:lnTo>
                  <a:lnTo>
                    <a:pt x="1241" y="1938"/>
                  </a:lnTo>
                  <a:lnTo>
                    <a:pt x="1252" y="1940"/>
                  </a:lnTo>
                  <a:lnTo>
                    <a:pt x="1261" y="1942"/>
                  </a:lnTo>
                  <a:lnTo>
                    <a:pt x="1270" y="1942"/>
                  </a:lnTo>
                  <a:lnTo>
                    <a:pt x="1278" y="1944"/>
                  </a:lnTo>
                  <a:lnTo>
                    <a:pt x="1287" y="1945"/>
                  </a:lnTo>
                  <a:lnTo>
                    <a:pt x="1298" y="1946"/>
                  </a:lnTo>
                  <a:lnTo>
                    <a:pt x="1309" y="1946"/>
                  </a:lnTo>
                  <a:lnTo>
                    <a:pt x="1320" y="1948"/>
                  </a:lnTo>
                  <a:lnTo>
                    <a:pt x="1334" y="1948"/>
                  </a:lnTo>
                  <a:lnTo>
                    <a:pt x="1347" y="1950"/>
                  </a:lnTo>
                  <a:lnTo>
                    <a:pt x="1360" y="1950"/>
                  </a:lnTo>
                  <a:lnTo>
                    <a:pt x="1373" y="1952"/>
                  </a:lnTo>
                  <a:lnTo>
                    <a:pt x="1386" y="1952"/>
                  </a:lnTo>
                  <a:lnTo>
                    <a:pt x="1399" y="1954"/>
                  </a:lnTo>
                  <a:lnTo>
                    <a:pt x="1412" y="1954"/>
                  </a:lnTo>
                  <a:lnTo>
                    <a:pt x="1424" y="1956"/>
                  </a:lnTo>
                  <a:lnTo>
                    <a:pt x="1436" y="1956"/>
                  </a:lnTo>
                  <a:lnTo>
                    <a:pt x="1447" y="1956"/>
                  </a:lnTo>
                  <a:lnTo>
                    <a:pt x="1458" y="1956"/>
                  </a:lnTo>
                  <a:lnTo>
                    <a:pt x="1468" y="1958"/>
                  </a:lnTo>
                  <a:lnTo>
                    <a:pt x="1479" y="1958"/>
                  </a:lnTo>
                  <a:lnTo>
                    <a:pt x="1490" y="1958"/>
                  </a:lnTo>
                  <a:lnTo>
                    <a:pt x="1503" y="1958"/>
                  </a:lnTo>
                  <a:lnTo>
                    <a:pt x="1515" y="1960"/>
                  </a:lnTo>
                  <a:lnTo>
                    <a:pt x="1528" y="1960"/>
                  </a:lnTo>
                  <a:lnTo>
                    <a:pt x="1541" y="1960"/>
                  </a:lnTo>
                  <a:lnTo>
                    <a:pt x="1555" y="1960"/>
                  </a:lnTo>
                  <a:lnTo>
                    <a:pt x="1568" y="1961"/>
                  </a:lnTo>
                  <a:lnTo>
                    <a:pt x="1581" y="1961"/>
                  </a:lnTo>
                  <a:lnTo>
                    <a:pt x="1592" y="1961"/>
                  </a:lnTo>
                  <a:lnTo>
                    <a:pt x="1606" y="1961"/>
                  </a:lnTo>
                  <a:lnTo>
                    <a:pt x="1616" y="1961"/>
                  </a:lnTo>
                  <a:lnTo>
                    <a:pt x="1628" y="1961"/>
                  </a:lnTo>
                  <a:lnTo>
                    <a:pt x="1637" y="1961"/>
                  </a:lnTo>
                  <a:lnTo>
                    <a:pt x="1646" y="1961"/>
                  </a:lnTo>
                  <a:lnTo>
                    <a:pt x="1652" y="1961"/>
                  </a:lnTo>
                  <a:lnTo>
                    <a:pt x="1658" y="1961"/>
                  </a:lnTo>
                  <a:lnTo>
                    <a:pt x="1660" y="1961"/>
                  </a:lnTo>
                  <a:lnTo>
                    <a:pt x="1664" y="1961"/>
                  </a:lnTo>
                  <a:lnTo>
                    <a:pt x="1666" y="1961"/>
                  </a:lnTo>
                  <a:lnTo>
                    <a:pt x="1668" y="1961"/>
                  </a:lnTo>
                  <a:lnTo>
                    <a:pt x="1670" y="1961"/>
                  </a:lnTo>
                  <a:lnTo>
                    <a:pt x="1672" y="1961"/>
                  </a:lnTo>
                  <a:lnTo>
                    <a:pt x="1674" y="1961"/>
                  </a:lnTo>
                  <a:lnTo>
                    <a:pt x="1677" y="1961"/>
                  </a:lnTo>
                  <a:lnTo>
                    <a:pt x="1680" y="1961"/>
                  </a:lnTo>
                  <a:lnTo>
                    <a:pt x="1687" y="1961"/>
                  </a:lnTo>
                  <a:lnTo>
                    <a:pt x="1694" y="1961"/>
                  </a:lnTo>
                  <a:lnTo>
                    <a:pt x="1704" y="1961"/>
                  </a:lnTo>
                  <a:lnTo>
                    <a:pt x="1716" y="1961"/>
                  </a:lnTo>
                  <a:lnTo>
                    <a:pt x="1730" y="196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6200000">
              <a:off x="264240" y="2859840"/>
              <a:ext cx="3408480" cy="3759120"/>
            </a:xfrm>
            <a:custGeom>
              <a:avLst/>
              <a:gdLst/>
              <a:ahLst/>
              <a:rect l="l" t="t" r="r" b="b"/>
              <a:pathLst>
                <a:path w="1891" h="2150">
                  <a:moveTo>
                    <a:pt x="0" y="0"/>
                  </a:moveTo>
                  <a:lnTo>
                    <a:pt x="1" y="18"/>
                  </a:lnTo>
                  <a:lnTo>
                    <a:pt x="3" y="32"/>
                  </a:lnTo>
                  <a:lnTo>
                    <a:pt x="3" y="45"/>
                  </a:lnTo>
                  <a:lnTo>
                    <a:pt x="5" y="53"/>
                  </a:lnTo>
                  <a:lnTo>
                    <a:pt x="5" y="60"/>
                  </a:lnTo>
                  <a:lnTo>
                    <a:pt x="5" y="65"/>
                  </a:lnTo>
                  <a:lnTo>
                    <a:pt x="5" y="69"/>
                  </a:lnTo>
                  <a:lnTo>
                    <a:pt x="7" y="71"/>
                  </a:lnTo>
                  <a:lnTo>
                    <a:pt x="7" y="74"/>
                  </a:lnTo>
                  <a:lnTo>
                    <a:pt x="7" y="76"/>
                  </a:lnTo>
                  <a:lnTo>
                    <a:pt x="7" y="78"/>
                  </a:lnTo>
                  <a:lnTo>
                    <a:pt x="8" y="80"/>
                  </a:lnTo>
                  <a:lnTo>
                    <a:pt x="8" y="84"/>
                  </a:lnTo>
                  <a:lnTo>
                    <a:pt x="8" y="88"/>
                  </a:lnTo>
                  <a:lnTo>
                    <a:pt x="9" y="95"/>
                  </a:lnTo>
                  <a:lnTo>
                    <a:pt x="11" y="103"/>
                  </a:lnTo>
                  <a:lnTo>
                    <a:pt x="12" y="114"/>
                  </a:lnTo>
                  <a:lnTo>
                    <a:pt x="14" y="129"/>
                  </a:lnTo>
                  <a:lnTo>
                    <a:pt x="16" y="146"/>
                  </a:lnTo>
                  <a:lnTo>
                    <a:pt x="20" y="164"/>
                  </a:lnTo>
                  <a:lnTo>
                    <a:pt x="23" y="186"/>
                  </a:lnTo>
                  <a:lnTo>
                    <a:pt x="26" y="208"/>
                  </a:lnTo>
                  <a:lnTo>
                    <a:pt x="31" y="232"/>
                  </a:lnTo>
                  <a:lnTo>
                    <a:pt x="36" y="258"/>
                  </a:lnTo>
                  <a:lnTo>
                    <a:pt x="41" y="285"/>
                  </a:lnTo>
                  <a:lnTo>
                    <a:pt x="46" y="312"/>
                  </a:lnTo>
                  <a:lnTo>
                    <a:pt x="52" y="340"/>
                  </a:lnTo>
                  <a:lnTo>
                    <a:pt x="58" y="368"/>
                  </a:lnTo>
                  <a:lnTo>
                    <a:pt x="63" y="396"/>
                  </a:lnTo>
                  <a:lnTo>
                    <a:pt x="69" y="423"/>
                  </a:lnTo>
                  <a:lnTo>
                    <a:pt x="74" y="450"/>
                  </a:lnTo>
                  <a:lnTo>
                    <a:pt x="81" y="475"/>
                  </a:lnTo>
                  <a:lnTo>
                    <a:pt x="86" y="502"/>
                  </a:lnTo>
                  <a:lnTo>
                    <a:pt x="93" y="529"/>
                  </a:lnTo>
                  <a:lnTo>
                    <a:pt x="100" y="558"/>
                  </a:lnTo>
                  <a:lnTo>
                    <a:pt x="107" y="586"/>
                  </a:lnTo>
                  <a:lnTo>
                    <a:pt x="114" y="616"/>
                  </a:lnTo>
                  <a:lnTo>
                    <a:pt x="122" y="646"/>
                  </a:lnTo>
                  <a:lnTo>
                    <a:pt x="130" y="675"/>
                  </a:lnTo>
                  <a:lnTo>
                    <a:pt x="138" y="703"/>
                  </a:lnTo>
                  <a:lnTo>
                    <a:pt x="146" y="732"/>
                  </a:lnTo>
                  <a:lnTo>
                    <a:pt x="153" y="758"/>
                  </a:lnTo>
                  <a:lnTo>
                    <a:pt x="161" y="785"/>
                  </a:lnTo>
                  <a:lnTo>
                    <a:pt x="169" y="808"/>
                  </a:lnTo>
                  <a:lnTo>
                    <a:pt x="175" y="830"/>
                  </a:lnTo>
                  <a:lnTo>
                    <a:pt x="182" y="850"/>
                  </a:lnTo>
                  <a:lnTo>
                    <a:pt x="188" y="867"/>
                  </a:lnTo>
                  <a:lnTo>
                    <a:pt x="194" y="880"/>
                  </a:lnTo>
                  <a:lnTo>
                    <a:pt x="199" y="894"/>
                  </a:lnTo>
                  <a:lnTo>
                    <a:pt x="205" y="910"/>
                  </a:lnTo>
                  <a:lnTo>
                    <a:pt x="212" y="928"/>
                  </a:lnTo>
                  <a:lnTo>
                    <a:pt x="220" y="945"/>
                  </a:lnTo>
                  <a:lnTo>
                    <a:pt x="228" y="966"/>
                  </a:lnTo>
                  <a:lnTo>
                    <a:pt x="236" y="986"/>
                  </a:lnTo>
                  <a:lnTo>
                    <a:pt x="246" y="1008"/>
                  </a:lnTo>
                  <a:lnTo>
                    <a:pt x="255" y="1029"/>
                  </a:lnTo>
                  <a:lnTo>
                    <a:pt x="263" y="1051"/>
                  </a:lnTo>
                  <a:lnTo>
                    <a:pt x="272" y="1074"/>
                  </a:lnTo>
                  <a:lnTo>
                    <a:pt x="282" y="1096"/>
                  </a:lnTo>
                  <a:lnTo>
                    <a:pt x="291" y="1117"/>
                  </a:lnTo>
                  <a:lnTo>
                    <a:pt x="298" y="1138"/>
                  </a:lnTo>
                  <a:lnTo>
                    <a:pt x="308" y="1158"/>
                  </a:lnTo>
                  <a:lnTo>
                    <a:pt x="316" y="1176"/>
                  </a:lnTo>
                  <a:lnTo>
                    <a:pt x="324" y="1194"/>
                  </a:lnTo>
                  <a:lnTo>
                    <a:pt x="331" y="1212"/>
                  </a:lnTo>
                  <a:lnTo>
                    <a:pt x="338" y="1230"/>
                  </a:lnTo>
                  <a:lnTo>
                    <a:pt x="347" y="1250"/>
                  </a:lnTo>
                  <a:lnTo>
                    <a:pt x="356" y="1269"/>
                  </a:lnTo>
                  <a:lnTo>
                    <a:pt x="365" y="1290"/>
                  </a:lnTo>
                  <a:lnTo>
                    <a:pt x="374" y="1310"/>
                  </a:lnTo>
                  <a:lnTo>
                    <a:pt x="384" y="1331"/>
                  </a:lnTo>
                  <a:lnTo>
                    <a:pt x="393" y="1351"/>
                  </a:lnTo>
                  <a:lnTo>
                    <a:pt x="400" y="1372"/>
                  </a:lnTo>
                  <a:lnTo>
                    <a:pt x="410" y="1392"/>
                  </a:lnTo>
                  <a:lnTo>
                    <a:pt x="418" y="1411"/>
                  </a:lnTo>
                  <a:lnTo>
                    <a:pt x="427" y="1429"/>
                  </a:lnTo>
                  <a:lnTo>
                    <a:pt x="434" y="1446"/>
                  </a:lnTo>
                  <a:lnTo>
                    <a:pt x="442" y="1460"/>
                  </a:lnTo>
                  <a:lnTo>
                    <a:pt x="447" y="1474"/>
                  </a:lnTo>
                  <a:lnTo>
                    <a:pt x="454" y="1485"/>
                  </a:lnTo>
                  <a:lnTo>
                    <a:pt x="459" y="1497"/>
                  </a:lnTo>
                  <a:lnTo>
                    <a:pt x="465" y="1509"/>
                  </a:lnTo>
                  <a:lnTo>
                    <a:pt x="472" y="1524"/>
                  </a:lnTo>
                  <a:lnTo>
                    <a:pt x="481" y="1537"/>
                  </a:lnTo>
                  <a:lnTo>
                    <a:pt x="490" y="1553"/>
                  </a:lnTo>
                  <a:lnTo>
                    <a:pt x="499" y="1568"/>
                  </a:lnTo>
                  <a:lnTo>
                    <a:pt x="508" y="1584"/>
                  </a:lnTo>
                  <a:lnTo>
                    <a:pt x="520" y="1599"/>
                  </a:lnTo>
                  <a:lnTo>
                    <a:pt x="529" y="1616"/>
                  </a:lnTo>
                  <a:lnTo>
                    <a:pt x="540" y="1631"/>
                  </a:lnTo>
                  <a:lnTo>
                    <a:pt x="550" y="1646"/>
                  </a:lnTo>
                  <a:lnTo>
                    <a:pt x="561" y="1662"/>
                  </a:lnTo>
                  <a:lnTo>
                    <a:pt x="571" y="1676"/>
                  </a:lnTo>
                  <a:lnTo>
                    <a:pt x="581" y="1690"/>
                  </a:lnTo>
                  <a:lnTo>
                    <a:pt x="590" y="1701"/>
                  </a:lnTo>
                  <a:lnTo>
                    <a:pt x="600" y="1712"/>
                  </a:lnTo>
                  <a:lnTo>
                    <a:pt x="609" y="1724"/>
                  </a:lnTo>
                  <a:lnTo>
                    <a:pt x="618" y="1736"/>
                  </a:lnTo>
                  <a:lnTo>
                    <a:pt x="629" y="1749"/>
                  </a:lnTo>
                  <a:lnTo>
                    <a:pt x="640" y="1761"/>
                  </a:lnTo>
                  <a:lnTo>
                    <a:pt x="652" y="1774"/>
                  </a:lnTo>
                  <a:lnTo>
                    <a:pt x="665" y="1787"/>
                  </a:lnTo>
                  <a:lnTo>
                    <a:pt x="678" y="1800"/>
                  </a:lnTo>
                  <a:lnTo>
                    <a:pt x="691" y="1812"/>
                  </a:lnTo>
                  <a:lnTo>
                    <a:pt x="702" y="1826"/>
                  </a:lnTo>
                  <a:lnTo>
                    <a:pt x="716" y="1839"/>
                  </a:lnTo>
                  <a:lnTo>
                    <a:pt x="727" y="1850"/>
                  </a:lnTo>
                  <a:lnTo>
                    <a:pt x="740" y="1861"/>
                  </a:lnTo>
                  <a:lnTo>
                    <a:pt x="752" y="1872"/>
                  </a:lnTo>
                  <a:lnTo>
                    <a:pt x="763" y="1881"/>
                  </a:lnTo>
                  <a:lnTo>
                    <a:pt x="772" y="1889"/>
                  </a:lnTo>
                  <a:lnTo>
                    <a:pt x="783" y="1896"/>
                  </a:lnTo>
                  <a:lnTo>
                    <a:pt x="790" y="1904"/>
                  </a:lnTo>
                  <a:lnTo>
                    <a:pt x="800" y="1910"/>
                  </a:lnTo>
                  <a:lnTo>
                    <a:pt x="809" y="1918"/>
                  </a:lnTo>
                  <a:lnTo>
                    <a:pt x="818" y="1924"/>
                  </a:lnTo>
                  <a:lnTo>
                    <a:pt x="827" y="1931"/>
                  </a:lnTo>
                  <a:lnTo>
                    <a:pt x="836" y="1938"/>
                  </a:lnTo>
                  <a:lnTo>
                    <a:pt x="846" y="1945"/>
                  </a:lnTo>
                  <a:lnTo>
                    <a:pt x="855" y="1951"/>
                  </a:lnTo>
                  <a:lnTo>
                    <a:pt x="863" y="1958"/>
                  </a:lnTo>
                  <a:lnTo>
                    <a:pt x="872" y="1964"/>
                  </a:lnTo>
                  <a:lnTo>
                    <a:pt x="879" y="1970"/>
                  </a:lnTo>
                  <a:lnTo>
                    <a:pt x="886" y="1974"/>
                  </a:lnTo>
                  <a:lnTo>
                    <a:pt x="892" y="1979"/>
                  </a:lnTo>
                  <a:lnTo>
                    <a:pt x="898" y="1983"/>
                  </a:lnTo>
                  <a:lnTo>
                    <a:pt x="902" y="1986"/>
                  </a:lnTo>
                  <a:lnTo>
                    <a:pt x="907" y="1988"/>
                  </a:lnTo>
                  <a:lnTo>
                    <a:pt x="910" y="1991"/>
                  </a:lnTo>
                  <a:lnTo>
                    <a:pt x="914" y="1993"/>
                  </a:lnTo>
                  <a:lnTo>
                    <a:pt x="919" y="1996"/>
                  </a:lnTo>
                  <a:lnTo>
                    <a:pt x="924" y="1998"/>
                  </a:lnTo>
                  <a:lnTo>
                    <a:pt x="930" y="2002"/>
                  </a:lnTo>
                  <a:lnTo>
                    <a:pt x="936" y="2005"/>
                  </a:lnTo>
                  <a:lnTo>
                    <a:pt x="944" y="2009"/>
                  </a:lnTo>
                  <a:lnTo>
                    <a:pt x="951" y="2011"/>
                  </a:lnTo>
                  <a:lnTo>
                    <a:pt x="958" y="2014"/>
                  </a:lnTo>
                  <a:lnTo>
                    <a:pt x="966" y="2018"/>
                  </a:lnTo>
                  <a:lnTo>
                    <a:pt x="973" y="2022"/>
                  </a:lnTo>
                  <a:lnTo>
                    <a:pt x="981" y="2025"/>
                  </a:lnTo>
                  <a:lnTo>
                    <a:pt x="988" y="2029"/>
                  </a:lnTo>
                  <a:lnTo>
                    <a:pt x="996" y="2032"/>
                  </a:lnTo>
                  <a:lnTo>
                    <a:pt x="1002" y="2034"/>
                  </a:lnTo>
                  <a:lnTo>
                    <a:pt x="1010" y="2036"/>
                  </a:lnTo>
                  <a:lnTo>
                    <a:pt x="1017" y="2040"/>
                  </a:lnTo>
                  <a:lnTo>
                    <a:pt x="1025" y="2043"/>
                  </a:lnTo>
                  <a:lnTo>
                    <a:pt x="1034" y="2047"/>
                  </a:lnTo>
                  <a:lnTo>
                    <a:pt x="1044" y="2049"/>
                  </a:lnTo>
                  <a:lnTo>
                    <a:pt x="1055" y="2053"/>
                  </a:lnTo>
                  <a:lnTo>
                    <a:pt x="1066" y="2056"/>
                  </a:lnTo>
                  <a:lnTo>
                    <a:pt x="1078" y="2060"/>
                  </a:lnTo>
                  <a:lnTo>
                    <a:pt x="1091" y="2063"/>
                  </a:lnTo>
                  <a:lnTo>
                    <a:pt x="1103" y="2067"/>
                  </a:lnTo>
                  <a:lnTo>
                    <a:pt x="1116" y="2071"/>
                  </a:lnTo>
                  <a:lnTo>
                    <a:pt x="1128" y="2074"/>
                  </a:lnTo>
                  <a:lnTo>
                    <a:pt x="1142" y="2078"/>
                  </a:lnTo>
                  <a:lnTo>
                    <a:pt x="1153" y="2082"/>
                  </a:lnTo>
                  <a:lnTo>
                    <a:pt x="1165" y="2085"/>
                  </a:lnTo>
                  <a:lnTo>
                    <a:pt x="1176" y="2088"/>
                  </a:lnTo>
                  <a:lnTo>
                    <a:pt x="1188" y="2090"/>
                  </a:lnTo>
                  <a:lnTo>
                    <a:pt x="1198" y="2094"/>
                  </a:lnTo>
                  <a:lnTo>
                    <a:pt x="1209" y="2096"/>
                  </a:lnTo>
                  <a:lnTo>
                    <a:pt x="1222" y="2100"/>
                  </a:lnTo>
                  <a:lnTo>
                    <a:pt x="1234" y="2101"/>
                  </a:lnTo>
                  <a:lnTo>
                    <a:pt x="1248" y="2105"/>
                  </a:lnTo>
                  <a:lnTo>
                    <a:pt x="1262" y="2107"/>
                  </a:lnTo>
                  <a:lnTo>
                    <a:pt x="1275" y="2110"/>
                  </a:lnTo>
                  <a:lnTo>
                    <a:pt x="1290" y="2112"/>
                  </a:lnTo>
                  <a:lnTo>
                    <a:pt x="1303" y="2116"/>
                  </a:lnTo>
                  <a:lnTo>
                    <a:pt x="1318" y="2118"/>
                  </a:lnTo>
                  <a:lnTo>
                    <a:pt x="1331" y="2120"/>
                  </a:lnTo>
                  <a:lnTo>
                    <a:pt x="1344" y="2122"/>
                  </a:lnTo>
                  <a:lnTo>
                    <a:pt x="1356" y="2124"/>
                  </a:lnTo>
                  <a:lnTo>
                    <a:pt x="1368" y="2126"/>
                  </a:lnTo>
                  <a:lnTo>
                    <a:pt x="1378" y="2128"/>
                  </a:lnTo>
                  <a:lnTo>
                    <a:pt x="1388" y="2128"/>
                  </a:lnTo>
                  <a:lnTo>
                    <a:pt x="1397" y="2130"/>
                  </a:lnTo>
                  <a:lnTo>
                    <a:pt x="1407" y="2131"/>
                  </a:lnTo>
                  <a:lnTo>
                    <a:pt x="1418" y="2133"/>
                  </a:lnTo>
                  <a:lnTo>
                    <a:pt x="1431" y="2133"/>
                  </a:lnTo>
                  <a:lnTo>
                    <a:pt x="1444" y="2135"/>
                  </a:lnTo>
                  <a:lnTo>
                    <a:pt x="1457" y="2136"/>
                  </a:lnTo>
                  <a:lnTo>
                    <a:pt x="1471" y="2138"/>
                  </a:lnTo>
                  <a:lnTo>
                    <a:pt x="1486" y="2138"/>
                  </a:lnTo>
                  <a:lnTo>
                    <a:pt x="1499" y="2139"/>
                  </a:lnTo>
                  <a:lnTo>
                    <a:pt x="1514" y="2139"/>
                  </a:lnTo>
                  <a:lnTo>
                    <a:pt x="1528" y="2141"/>
                  </a:lnTo>
                  <a:lnTo>
                    <a:pt x="1543" y="2141"/>
                  </a:lnTo>
                  <a:lnTo>
                    <a:pt x="1556" y="2143"/>
                  </a:lnTo>
                  <a:lnTo>
                    <a:pt x="1569" y="2143"/>
                  </a:lnTo>
                  <a:lnTo>
                    <a:pt x="1581" y="2144"/>
                  </a:lnTo>
                  <a:lnTo>
                    <a:pt x="1593" y="2144"/>
                  </a:lnTo>
                  <a:lnTo>
                    <a:pt x="1604" y="2146"/>
                  </a:lnTo>
                  <a:lnTo>
                    <a:pt x="1616" y="2146"/>
                  </a:lnTo>
                  <a:lnTo>
                    <a:pt x="1628" y="2146"/>
                  </a:lnTo>
                  <a:lnTo>
                    <a:pt x="1642" y="2146"/>
                  </a:lnTo>
                  <a:lnTo>
                    <a:pt x="1655" y="2148"/>
                  </a:lnTo>
                  <a:lnTo>
                    <a:pt x="1670" y="2148"/>
                  </a:lnTo>
                  <a:lnTo>
                    <a:pt x="1684" y="2148"/>
                  </a:lnTo>
                  <a:lnTo>
                    <a:pt x="1700" y="2148"/>
                  </a:lnTo>
                  <a:lnTo>
                    <a:pt x="1712" y="2149"/>
                  </a:lnTo>
                  <a:lnTo>
                    <a:pt x="1728" y="2149"/>
                  </a:lnTo>
                  <a:lnTo>
                    <a:pt x="1741" y="2149"/>
                  </a:lnTo>
                  <a:lnTo>
                    <a:pt x="1754" y="2149"/>
                  </a:lnTo>
                  <a:lnTo>
                    <a:pt x="1766" y="2149"/>
                  </a:lnTo>
                  <a:lnTo>
                    <a:pt x="1778" y="2149"/>
                  </a:lnTo>
                  <a:lnTo>
                    <a:pt x="1788" y="2149"/>
                  </a:lnTo>
                  <a:lnTo>
                    <a:pt x="1799" y="2149"/>
                  </a:lnTo>
                  <a:lnTo>
                    <a:pt x="1806" y="2149"/>
                  </a:lnTo>
                  <a:lnTo>
                    <a:pt x="1811" y="2149"/>
                  </a:lnTo>
                  <a:lnTo>
                    <a:pt x="1815" y="2149"/>
                  </a:lnTo>
                  <a:lnTo>
                    <a:pt x="1819" y="2149"/>
                  </a:lnTo>
                  <a:lnTo>
                    <a:pt x="1820" y="2149"/>
                  </a:lnTo>
                  <a:lnTo>
                    <a:pt x="1822" y="2149"/>
                  </a:lnTo>
                  <a:lnTo>
                    <a:pt x="1824" y="2149"/>
                  </a:lnTo>
                  <a:lnTo>
                    <a:pt x="1827" y="2149"/>
                  </a:lnTo>
                  <a:lnTo>
                    <a:pt x="1829" y="2149"/>
                  </a:lnTo>
                  <a:lnTo>
                    <a:pt x="1832" y="2149"/>
                  </a:lnTo>
                  <a:lnTo>
                    <a:pt x="1836" y="2149"/>
                  </a:lnTo>
                  <a:lnTo>
                    <a:pt x="1843" y="2149"/>
                  </a:lnTo>
                  <a:lnTo>
                    <a:pt x="1850" y="2149"/>
                  </a:lnTo>
                  <a:lnTo>
                    <a:pt x="1861" y="2149"/>
                  </a:lnTo>
                  <a:lnTo>
                    <a:pt x="1874" y="2149"/>
                  </a:lnTo>
                  <a:lnTo>
                    <a:pt x="1890" y="2149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6200000">
              <a:off x="-206280" y="2687040"/>
              <a:ext cx="2732040" cy="2998800"/>
            </a:xfrm>
            <a:custGeom>
              <a:avLst/>
              <a:gdLst/>
              <a:ahLst/>
              <a:rect l="l" t="t" r="r" b="b"/>
              <a:pathLst>
                <a:path w="1515" h="1716">
                  <a:moveTo>
                    <a:pt x="0" y="0"/>
                  </a:moveTo>
                  <a:lnTo>
                    <a:pt x="0" y="15"/>
                  </a:lnTo>
                  <a:lnTo>
                    <a:pt x="2" y="26"/>
                  </a:lnTo>
                  <a:lnTo>
                    <a:pt x="2" y="36"/>
                  </a:lnTo>
                  <a:lnTo>
                    <a:pt x="4" y="42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4" y="55"/>
                  </a:lnTo>
                  <a:lnTo>
                    <a:pt x="6" y="57"/>
                  </a:lnTo>
                  <a:lnTo>
                    <a:pt x="6" y="58"/>
                  </a:lnTo>
                  <a:lnTo>
                    <a:pt x="6" y="60"/>
                  </a:lnTo>
                  <a:lnTo>
                    <a:pt x="6" y="62"/>
                  </a:lnTo>
                  <a:lnTo>
                    <a:pt x="6" y="64"/>
                  </a:lnTo>
                  <a:lnTo>
                    <a:pt x="6" y="68"/>
                  </a:lnTo>
                  <a:lnTo>
                    <a:pt x="7" y="71"/>
                  </a:lnTo>
                  <a:lnTo>
                    <a:pt x="7" y="76"/>
                  </a:lnTo>
                  <a:lnTo>
                    <a:pt x="9" y="82"/>
                  </a:lnTo>
                  <a:lnTo>
                    <a:pt x="9" y="92"/>
                  </a:lnTo>
                  <a:lnTo>
                    <a:pt x="10" y="104"/>
                  </a:lnTo>
                  <a:lnTo>
                    <a:pt x="12" y="117"/>
                  </a:lnTo>
                  <a:lnTo>
                    <a:pt x="15" y="132"/>
                  </a:lnTo>
                  <a:lnTo>
                    <a:pt x="17" y="149"/>
                  </a:lnTo>
                  <a:lnTo>
                    <a:pt x="21" y="166"/>
                  </a:lnTo>
                  <a:lnTo>
                    <a:pt x="25" y="186"/>
                  </a:lnTo>
                  <a:lnTo>
                    <a:pt x="29" y="206"/>
                  </a:lnTo>
                  <a:lnTo>
                    <a:pt x="33" y="228"/>
                  </a:lnTo>
                  <a:lnTo>
                    <a:pt x="37" y="250"/>
                  </a:lnTo>
                  <a:lnTo>
                    <a:pt x="40" y="272"/>
                  </a:lnTo>
                  <a:lnTo>
                    <a:pt x="46" y="294"/>
                  </a:lnTo>
                  <a:lnTo>
                    <a:pt x="50" y="316"/>
                  </a:lnTo>
                  <a:lnTo>
                    <a:pt x="56" y="338"/>
                  </a:lnTo>
                  <a:lnTo>
                    <a:pt x="59" y="359"/>
                  </a:lnTo>
                  <a:lnTo>
                    <a:pt x="65" y="379"/>
                  </a:lnTo>
                  <a:lnTo>
                    <a:pt x="68" y="401"/>
                  </a:lnTo>
                  <a:lnTo>
                    <a:pt x="74" y="422"/>
                  </a:lnTo>
                  <a:lnTo>
                    <a:pt x="79" y="445"/>
                  </a:lnTo>
                  <a:lnTo>
                    <a:pt x="85" y="468"/>
                  </a:lnTo>
                  <a:lnTo>
                    <a:pt x="90" y="492"/>
                  </a:lnTo>
                  <a:lnTo>
                    <a:pt x="97" y="515"/>
                  </a:lnTo>
                  <a:lnTo>
                    <a:pt x="103" y="539"/>
                  </a:lnTo>
                  <a:lnTo>
                    <a:pt x="110" y="562"/>
                  </a:lnTo>
                  <a:lnTo>
                    <a:pt x="116" y="584"/>
                  </a:lnTo>
                  <a:lnTo>
                    <a:pt x="122" y="606"/>
                  </a:lnTo>
                  <a:lnTo>
                    <a:pt x="128" y="627"/>
                  </a:lnTo>
                  <a:lnTo>
                    <a:pt x="135" y="645"/>
                  </a:lnTo>
                  <a:lnTo>
                    <a:pt x="140" y="663"/>
                  </a:lnTo>
                  <a:lnTo>
                    <a:pt x="146" y="679"/>
                  </a:lnTo>
                  <a:lnTo>
                    <a:pt x="150" y="692"/>
                  </a:lnTo>
                  <a:lnTo>
                    <a:pt x="156" y="702"/>
                  </a:lnTo>
                  <a:lnTo>
                    <a:pt x="160" y="714"/>
                  </a:lnTo>
                  <a:lnTo>
                    <a:pt x="164" y="727"/>
                  </a:lnTo>
                  <a:lnTo>
                    <a:pt x="170" y="741"/>
                  </a:lnTo>
                  <a:lnTo>
                    <a:pt x="176" y="755"/>
                  </a:lnTo>
                  <a:lnTo>
                    <a:pt x="182" y="771"/>
                  </a:lnTo>
                  <a:lnTo>
                    <a:pt x="189" y="787"/>
                  </a:lnTo>
                  <a:lnTo>
                    <a:pt x="196" y="805"/>
                  </a:lnTo>
                  <a:lnTo>
                    <a:pt x="204" y="822"/>
                  </a:lnTo>
                  <a:lnTo>
                    <a:pt x="211" y="840"/>
                  </a:lnTo>
                  <a:lnTo>
                    <a:pt x="218" y="857"/>
                  </a:lnTo>
                  <a:lnTo>
                    <a:pt x="226" y="875"/>
                  </a:lnTo>
                  <a:lnTo>
                    <a:pt x="233" y="892"/>
                  </a:lnTo>
                  <a:lnTo>
                    <a:pt x="239" y="908"/>
                  </a:lnTo>
                  <a:lnTo>
                    <a:pt x="246" y="925"/>
                  </a:lnTo>
                  <a:lnTo>
                    <a:pt x="253" y="940"/>
                  </a:lnTo>
                  <a:lnTo>
                    <a:pt x="260" y="953"/>
                  </a:lnTo>
                  <a:lnTo>
                    <a:pt x="266" y="968"/>
                  </a:lnTo>
                  <a:lnTo>
                    <a:pt x="272" y="982"/>
                  </a:lnTo>
                  <a:lnTo>
                    <a:pt x="278" y="998"/>
                  </a:lnTo>
                  <a:lnTo>
                    <a:pt x="285" y="1013"/>
                  </a:lnTo>
                  <a:lnTo>
                    <a:pt x="292" y="1030"/>
                  </a:lnTo>
                  <a:lnTo>
                    <a:pt x="300" y="1046"/>
                  </a:lnTo>
                  <a:lnTo>
                    <a:pt x="307" y="1063"/>
                  </a:lnTo>
                  <a:lnTo>
                    <a:pt x="314" y="1079"/>
                  </a:lnTo>
                  <a:lnTo>
                    <a:pt x="320" y="1096"/>
                  </a:lnTo>
                  <a:lnTo>
                    <a:pt x="328" y="1111"/>
                  </a:lnTo>
                  <a:lnTo>
                    <a:pt x="334" y="1126"/>
                  </a:lnTo>
                  <a:lnTo>
                    <a:pt x="342" y="1140"/>
                  </a:lnTo>
                  <a:lnTo>
                    <a:pt x="348" y="1154"/>
                  </a:lnTo>
                  <a:lnTo>
                    <a:pt x="354" y="1166"/>
                  </a:lnTo>
                  <a:lnTo>
                    <a:pt x="358" y="1177"/>
                  </a:lnTo>
                  <a:lnTo>
                    <a:pt x="364" y="1186"/>
                  </a:lnTo>
                  <a:lnTo>
                    <a:pt x="368" y="1196"/>
                  </a:lnTo>
                  <a:lnTo>
                    <a:pt x="372" y="1205"/>
                  </a:lnTo>
                  <a:lnTo>
                    <a:pt x="378" y="1216"/>
                  </a:lnTo>
                  <a:lnTo>
                    <a:pt x="385" y="1227"/>
                  </a:lnTo>
                  <a:lnTo>
                    <a:pt x="392" y="1240"/>
                  </a:lnTo>
                  <a:lnTo>
                    <a:pt x="399" y="1252"/>
                  </a:lnTo>
                  <a:lnTo>
                    <a:pt x="407" y="1265"/>
                  </a:lnTo>
                  <a:lnTo>
                    <a:pt x="416" y="1276"/>
                  </a:lnTo>
                  <a:lnTo>
                    <a:pt x="424" y="1290"/>
                  </a:lnTo>
                  <a:lnTo>
                    <a:pt x="433" y="1302"/>
                  </a:lnTo>
                  <a:lnTo>
                    <a:pt x="440" y="1315"/>
                  </a:lnTo>
                  <a:lnTo>
                    <a:pt x="450" y="1326"/>
                  </a:lnTo>
                  <a:lnTo>
                    <a:pt x="457" y="1338"/>
                  </a:lnTo>
                  <a:lnTo>
                    <a:pt x="465" y="1348"/>
                  </a:lnTo>
                  <a:lnTo>
                    <a:pt x="473" y="1358"/>
                  </a:lnTo>
                  <a:lnTo>
                    <a:pt x="481" y="1366"/>
                  </a:lnTo>
                  <a:lnTo>
                    <a:pt x="488" y="1376"/>
                  </a:lnTo>
                  <a:lnTo>
                    <a:pt x="495" y="1385"/>
                  </a:lnTo>
                  <a:lnTo>
                    <a:pt x="504" y="1395"/>
                  </a:lnTo>
                  <a:lnTo>
                    <a:pt x="514" y="1404"/>
                  </a:lnTo>
                  <a:lnTo>
                    <a:pt x="523" y="1416"/>
                  </a:lnTo>
                  <a:lnTo>
                    <a:pt x="534" y="1426"/>
                  </a:lnTo>
                  <a:lnTo>
                    <a:pt x="543" y="1437"/>
                  </a:lnTo>
                  <a:lnTo>
                    <a:pt x="554" y="1446"/>
                  </a:lnTo>
                  <a:lnTo>
                    <a:pt x="563" y="1458"/>
                  </a:lnTo>
                  <a:lnTo>
                    <a:pt x="574" y="1467"/>
                  </a:lnTo>
                  <a:lnTo>
                    <a:pt x="583" y="1476"/>
                  </a:lnTo>
                  <a:lnTo>
                    <a:pt x="594" y="1485"/>
                  </a:lnTo>
                  <a:lnTo>
                    <a:pt x="602" y="1494"/>
                  </a:lnTo>
                  <a:lnTo>
                    <a:pt x="612" y="1501"/>
                  </a:lnTo>
                  <a:lnTo>
                    <a:pt x="619" y="1508"/>
                  </a:lnTo>
                  <a:lnTo>
                    <a:pt x="628" y="1513"/>
                  </a:lnTo>
                  <a:lnTo>
                    <a:pt x="634" y="1519"/>
                  </a:lnTo>
                  <a:lnTo>
                    <a:pt x="641" y="1524"/>
                  </a:lnTo>
                  <a:lnTo>
                    <a:pt x="649" y="1530"/>
                  </a:lnTo>
                  <a:lnTo>
                    <a:pt x="656" y="1535"/>
                  </a:lnTo>
                  <a:lnTo>
                    <a:pt x="663" y="1540"/>
                  </a:lnTo>
                  <a:lnTo>
                    <a:pt x="671" y="1546"/>
                  </a:lnTo>
                  <a:lnTo>
                    <a:pt x="678" y="1552"/>
                  </a:lnTo>
                  <a:lnTo>
                    <a:pt x="686" y="1557"/>
                  </a:lnTo>
                  <a:lnTo>
                    <a:pt x="691" y="1562"/>
                  </a:lnTo>
                  <a:lnTo>
                    <a:pt x="698" y="1567"/>
                  </a:lnTo>
                  <a:lnTo>
                    <a:pt x="704" y="1572"/>
                  </a:lnTo>
                  <a:lnTo>
                    <a:pt x="710" y="1576"/>
                  </a:lnTo>
                  <a:lnTo>
                    <a:pt x="714" y="1579"/>
                  </a:lnTo>
                  <a:lnTo>
                    <a:pt x="719" y="1582"/>
                  </a:lnTo>
                  <a:lnTo>
                    <a:pt x="723" y="1585"/>
                  </a:lnTo>
                  <a:lnTo>
                    <a:pt x="727" y="1586"/>
                  </a:lnTo>
                  <a:lnTo>
                    <a:pt x="729" y="1589"/>
                  </a:lnTo>
                  <a:lnTo>
                    <a:pt x="732" y="1591"/>
                  </a:lnTo>
                  <a:lnTo>
                    <a:pt x="736" y="1593"/>
                  </a:lnTo>
                  <a:lnTo>
                    <a:pt x="740" y="1595"/>
                  </a:lnTo>
                  <a:lnTo>
                    <a:pt x="745" y="1598"/>
                  </a:lnTo>
                  <a:lnTo>
                    <a:pt x="750" y="1600"/>
                  </a:lnTo>
                  <a:lnTo>
                    <a:pt x="756" y="1604"/>
                  </a:lnTo>
                  <a:lnTo>
                    <a:pt x="762" y="1605"/>
                  </a:lnTo>
                  <a:lnTo>
                    <a:pt x="768" y="1609"/>
                  </a:lnTo>
                  <a:lnTo>
                    <a:pt x="773" y="1611"/>
                  </a:lnTo>
                  <a:lnTo>
                    <a:pt x="779" y="1615"/>
                  </a:lnTo>
                  <a:lnTo>
                    <a:pt x="786" y="1617"/>
                  </a:lnTo>
                  <a:lnTo>
                    <a:pt x="791" y="1620"/>
                  </a:lnTo>
                  <a:lnTo>
                    <a:pt x="797" y="1622"/>
                  </a:lnTo>
                  <a:lnTo>
                    <a:pt x="802" y="1624"/>
                  </a:lnTo>
                  <a:lnTo>
                    <a:pt x="809" y="1625"/>
                  </a:lnTo>
                  <a:lnTo>
                    <a:pt x="814" y="1629"/>
                  </a:lnTo>
                  <a:lnTo>
                    <a:pt x="820" y="1631"/>
                  </a:lnTo>
                  <a:lnTo>
                    <a:pt x="828" y="1634"/>
                  </a:lnTo>
                  <a:lnTo>
                    <a:pt x="837" y="1636"/>
                  </a:lnTo>
                  <a:lnTo>
                    <a:pt x="845" y="1640"/>
                  </a:lnTo>
                  <a:lnTo>
                    <a:pt x="854" y="1642"/>
                  </a:lnTo>
                  <a:lnTo>
                    <a:pt x="864" y="1645"/>
                  </a:lnTo>
                  <a:lnTo>
                    <a:pt x="874" y="1647"/>
                  </a:lnTo>
                  <a:lnTo>
                    <a:pt x="884" y="1651"/>
                  </a:lnTo>
                  <a:lnTo>
                    <a:pt x="894" y="1654"/>
                  </a:lnTo>
                  <a:lnTo>
                    <a:pt x="903" y="1658"/>
                  </a:lnTo>
                  <a:lnTo>
                    <a:pt x="914" y="1660"/>
                  </a:lnTo>
                  <a:lnTo>
                    <a:pt x="924" y="1664"/>
                  </a:lnTo>
                  <a:lnTo>
                    <a:pt x="933" y="1665"/>
                  </a:lnTo>
                  <a:lnTo>
                    <a:pt x="942" y="1667"/>
                  </a:lnTo>
                  <a:lnTo>
                    <a:pt x="952" y="1669"/>
                  </a:lnTo>
                  <a:lnTo>
                    <a:pt x="959" y="1672"/>
                  </a:lnTo>
                  <a:lnTo>
                    <a:pt x="968" y="1674"/>
                  </a:lnTo>
                  <a:lnTo>
                    <a:pt x="978" y="1676"/>
                  </a:lnTo>
                  <a:lnTo>
                    <a:pt x="988" y="1678"/>
                  </a:lnTo>
                  <a:lnTo>
                    <a:pt x="999" y="1680"/>
                  </a:lnTo>
                  <a:lnTo>
                    <a:pt x="1010" y="1682"/>
                  </a:lnTo>
                  <a:lnTo>
                    <a:pt x="1021" y="1684"/>
                  </a:lnTo>
                  <a:lnTo>
                    <a:pt x="1033" y="1686"/>
                  </a:lnTo>
                  <a:lnTo>
                    <a:pt x="1044" y="1688"/>
                  </a:lnTo>
                  <a:lnTo>
                    <a:pt x="1055" y="1690"/>
                  </a:lnTo>
                  <a:lnTo>
                    <a:pt x="1065" y="1692"/>
                  </a:lnTo>
                  <a:lnTo>
                    <a:pt x="1076" y="1694"/>
                  </a:lnTo>
                  <a:lnTo>
                    <a:pt x="1086" y="1696"/>
                  </a:lnTo>
                  <a:lnTo>
                    <a:pt x="1095" y="1697"/>
                  </a:lnTo>
                  <a:lnTo>
                    <a:pt x="1103" y="1699"/>
                  </a:lnTo>
                  <a:lnTo>
                    <a:pt x="1112" y="1699"/>
                  </a:lnTo>
                  <a:lnTo>
                    <a:pt x="1119" y="1701"/>
                  </a:lnTo>
                  <a:lnTo>
                    <a:pt x="1127" y="1701"/>
                  </a:lnTo>
                  <a:lnTo>
                    <a:pt x="1136" y="1703"/>
                  </a:lnTo>
                  <a:lnTo>
                    <a:pt x="1146" y="1703"/>
                  </a:lnTo>
                  <a:lnTo>
                    <a:pt x="1156" y="1705"/>
                  </a:lnTo>
                  <a:lnTo>
                    <a:pt x="1167" y="1705"/>
                  </a:lnTo>
                  <a:lnTo>
                    <a:pt x="1179" y="1706"/>
                  </a:lnTo>
                  <a:lnTo>
                    <a:pt x="1190" y="1706"/>
                  </a:lnTo>
                  <a:lnTo>
                    <a:pt x="1202" y="1708"/>
                  </a:lnTo>
                  <a:lnTo>
                    <a:pt x="1213" y="1708"/>
                  </a:lnTo>
                  <a:lnTo>
                    <a:pt x="1224" y="1710"/>
                  </a:lnTo>
                  <a:lnTo>
                    <a:pt x="1236" y="1710"/>
                  </a:lnTo>
                  <a:lnTo>
                    <a:pt x="1246" y="1712"/>
                  </a:lnTo>
                  <a:lnTo>
                    <a:pt x="1257" y="1712"/>
                  </a:lnTo>
                  <a:lnTo>
                    <a:pt x="1267" y="1712"/>
                  </a:lnTo>
                  <a:lnTo>
                    <a:pt x="1276" y="1712"/>
                  </a:lnTo>
                  <a:lnTo>
                    <a:pt x="1285" y="1713"/>
                  </a:lnTo>
                  <a:lnTo>
                    <a:pt x="1294" y="1713"/>
                  </a:lnTo>
                  <a:lnTo>
                    <a:pt x="1304" y="1713"/>
                  </a:lnTo>
                  <a:lnTo>
                    <a:pt x="1315" y="1713"/>
                  </a:lnTo>
                  <a:lnTo>
                    <a:pt x="1326" y="1714"/>
                  </a:lnTo>
                  <a:lnTo>
                    <a:pt x="1338" y="1714"/>
                  </a:lnTo>
                  <a:lnTo>
                    <a:pt x="1349" y="1714"/>
                  </a:lnTo>
                  <a:lnTo>
                    <a:pt x="1362" y="1714"/>
                  </a:lnTo>
                  <a:lnTo>
                    <a:pt x="1372" y="1715"/>
                  </a:lnTo>
                  <a:lnTo>
                    <a:pt x="1383" y="1715"/>
                  </a:lnTo>
                  <a:lnTo>
                    <a:pt x="1394" y="1715"/>
                  </a:lnTo>
                  <a:lnTo>
                    <a:pt x="1405" y="1715"/>
                  </a:lnTo>
                  <a:lnTo>
                    <a:pt x="1414" y="1715"/>
                  </a:lnTo>
                  <a:lnTo>
                    <a:pt x="1424" y="1715"/>
                  </a:lnTo>
                  <a:lnTo>
                    <a:pt x="1432" y="1715"/>
                  </a:lnTo>
                  <a:lnTo>
                    <a:pt x="1441" y="1715"/>
                  </a:lnTo>
                  <a:lnTo>
                    <a:pt x="1446" y="1715"/>
                  </a:lnTo>
                  <a:lnTo>
                    <a:pt x="1451" y="1715"/>
                  </a:lnTo>
                  <a:lnTo>
                    <a:pt x="1453" y="1715"/>
                  </a:lnTo>
                  <a:lnTo>
                    <a:pt x="1456" y="1715"/>
                  </a:lnTo>
                  <a:lnTo>
                    <a:pt x="1458" y="1715"/>
                  </a:lnTo>
                  <a:lnTo>
                    <a:pt x="1460" y="1715"/>
                  </a:lnTo>
                  <a:lnTo>
                    <a:pt x="1461" y="1715"/>
                  </a:lnTo>
                  <a:lnTo>
                    <a:pt x="1463" y="1715"/>
                  </a:lnTo>
                  <a:lnTo>
                    <a:pt x="1465" y="1715"/>
                  </a:lnTo>
                  <a:lnTo>
                    <a:pt x="1468" y="1715"/>
                  </a:lnTo>
                  <a:lnTo>
                    <a:pt x="1471" y="1715"/>
                  </a:lnTo>
                  <a:lnTo>
                    <a:pt x="1476" y="1715"/>
                  </a:lnTo>
                  <a:lnTo>
                    <a:pt x="1482" y="1715"/>
                  </a:lnTo>
                  <a:lnTo>
                    <a:pt x="1491" y="1715"/>
                  </a:lnTo>
                  <a:lnTo>
                    <a:pt x="1501" y="1715"/>
                  </a:lnTo>
                  <a:lnTo>
                    <a:pt x="1514" y="1715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068480" y="2590560"/>
              <a:ext cx="14040" cy="4103640"/>
            </a:xfrm>
            <a:prstGeom prst="line">
              <a:avLst/>
            </a:prstGeom>
            <a:ln w="4428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1055520" y="5372280"/>
              <a:ext cx="2222640" cy="105408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1057320" y="4357800"/>
              <a:ext cx="2290680" cy="206856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057320" y="3323880"/>
              <a:ext cx="1981080" cy="310212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27080" y="6191280"/>
              <a:ext cx="6094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ff0000"/>
                </a:buClr>
                <a:buSzPct val="50000"/>
                <a:buFont typeface="Monotype Sor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6200000">
              <a:off x="1419120" y="4690800"/>
              <a:ext cx="1955880" cy="600120"/>
            </a:xfrm>
            <a:custGeom>
              <a:avLst/>
              <a:gdLst/>
              <a:ahLst/>
              <a:rect l="l" t="t" r="r" b="b"/>
              <a:pathLst>
                <a:path w="1039" h="298">
                  <a:moveTo>
                    <a:pt x="1038" y="12"/>
                  </a:moveTo>
                  <a:lnTo>
                    <a:pt x="1031" y="18"/>
                  </a:lnTo>
                  <a:lnTo>
                    <a:pt x="1025" y="23"/>
                  </a:lnTo>
                  <a:lnTo>
                    <a:pt x="1021" y="27"/>
                  </a:lnTo>
                  <a:lnTo>
                    <a:pt x="1018" y="30"/>
                  </a:lnTo>
                  <a:lnTo>
                    <a:pt x="1015" y="32"/>
                  </a:lnTo>
                  <a:lnTo>
                    <a:pt x="1013" y="33"/>
                  </a:lnTo>
                  <a:lnTo>
                    <a:pt x="1011" y="35"/>
                  </a:lnTo>
                  <a:lnTo>
                    <a:pt x="1011" y="35"/>
                  </a:lnTo>
                  <a:lnTo>
                    <a:pt x="1009" y="37"/>
                  </a:lnTo>
                  <a:lnTo>
                    <a:pt x="1009" y="37"/>
                  </a:lnTo>
                  <a:lnTo>
                    <a:pt x="1007" y="38"/>
                  </a:lnTo>
                  <a:lnTo>
                    <a:pt x="1007" y="38"/>
                  </a:lnTo>
                  <a:lnTo>
                    <a:pt x="1005" y="40"/>
                  </a:lnTo>
                  <a:lnTo>
                    <a:pt x="1004" y="41"/>
                  </a:lnTo>
                  <a:lnTo>
                    <a:pt x="1001" y="43"/>
                  </a:lnTo>
                  <a:lnTo>
                    <a:pt x="999" y="45"/>
                  </a:lnTo>
                  <a:lnTo>
                    <a:pt x="994" y="50"/>
                  </a:lnTo>
                  <a:lnTo>
                    <a:pt x="989" y="53"/>
                  </a:lnTo>
                  <a:lnTo>
                    <a:pt x="983" y="59"/>
                  </a:lnTo>
                  <a:lnTo>
                    <a:pt x="976" y="62"/>
                  </a:lnTo>
                  <a:lnTo>
                    <a:pt x="967" y="68"/>
                  </a:lnTo>
                  <a:lnTo>
                    <a:pt x="960" y="73"/>
                  </a:lnTo>
                  <a:lnTo>
                    <a:pt x="951" y="79"/>
                  </a:lnTo>
                  <a:lnTo>
                    <a:pt x="943" y="85"/>
                  </a:lnTo>
                  <a:lnTo>
                    <a:pt x="932" y="92"/>
                  </a:lnTo>
                  <a:lnTo>
                    <a:pt x="923" y="98"/>
                  </a:lnTo>
                  <a:lnTo>
                    <a:pt x="913" y="103"/>
                  </a:lnTo>
                  <a:lnTo>
                    <a:pt x="903" y="109"/>
                  </a:lnTo>
                  <a:lnTo>
                    <a:pt x="893" y="115"/>
                  </a:lnTo>
                  <a:lnTo>
                    <a:pt x="883" y="121"/>
                  </a:lnTo>
                  <a:lnTo>
                    <a:pt x="874" y="127"/>
                  </a:lnTo>
                  <a:lnTo>
                    <a:pt x="866" y="131"/>
                  </a:lnTo>
                  <a:lnTo>
                    <a:pt x="855" y="137"/>
                  </a:lnTo>
                  <a:lnTo>
                    <a:pt x="845" y="143"/>
                  </a:lnTo>
                  <a:lnTo>
                    <a:pt x="832" y="149"/>
                  </a:lnTo>
                  <a:lnTo>
                    <a:pt x="821" y="155"/>
                  </a:lnTo>
                  <a:lnTo>
                    <a:pt x="807" y="162"/>
                  </a:lnTo>
                  <a:lnTo>
                    <a:pt x="794" y="169"/>
                  </a:lnTo>
                  <a:lnTo>
                    <a:pt x="780" y="176"/>
                  </a:lnTo>
                  <a:lnTo>
                    <a:pt x="767" y="182"/>
                  </a:lnTo>
                  <a:lnTo>
                    <a:pt x="752" y="189"/>
                  </a:lnTo>
                  <a:lnTo>
                    <a:pt x="739" y="196"/>
                  </a:lnTo>
                  <a:lnTo>
                    <a:pt x="725" y="204"/>
                  </a:lnTo>
                  <a:lnTo>
                    <a:pt x="712" y="209"/>
                  </a:lnTo>
                  <a:lnTo>
                    <a:pt x="699" y="216"/>
                  </a:lnTo>
                  <a:lnTo>
                    <a:pt x="686" y="222"/>
                  </a:lnTo>
                  <a:lnTo>
                    <a:pt x="675" y="227"/>
                  </a:lnTo>
                  <a:lnTo>
                    <a:pt x="665" y="231"/>
                  </a:lnTo>
                  <a:lnTo>
                    <a:pt x="654" y="237"/>
                  </a:lnTo>
                  <a:lnTo>
                    <a:pt x="644" y="241"/>
                  </a:lnTo>
                  <a:lnTo>
                    <a:pt x="633" y="246"/>
                  </a:lnTo>
                  <a:lnTo>
                    <a:pt x="623" y="250"/>
                  </a:lnTo>
                  <a:lnTo>
                    <a:pt x="611" y="256"/>
                  </a:lnTo>
                  <a:lnTo>
                    <a:pt x="600" y="259"/>
                  </a:lnTo>
                  <a:lnTo>
                    <a:pt x="589" y="263"/>
                  </a:lnTo>
                  <a:lnTo>
                    <a:pt x="579" y="267"/>
                  </a:lnTo>
                  <a:lnTo>
                    <a:pt x="568" y="271"/>
                  </a:lnTo>
                  <a:lnTo>
                    <a:pt x="559" y="274"/>
                  </a:lnTo>
                  <a:lnTo>
                    <a:pt x="549" y="278"/>
                  </a:lnTo>
                  <a:lnTo>
                    <a:pt x="541" y="280"/>
                  </a:lnTo>
                  <a:lnTo>
                    <a:pt x="533" y="283"/>
                  </a:lnTo>
                  <a:lnTo>
                    <a:pt x="526" y="284"/>
                  </a:lnTo>
                  <a:lnTo>
                    <a:pt x="521" y="286"/>
                  </a:lnTo>
                  <a:lnTo>
                    <a:pt x="516" y="286"/>
                  </a:lnTo>
                  <a:lnTo>
                    <a:pt x="511" y="288"/>
                  </a:lnTo>
                  <a:lnTo>
                    <a:pt x="506" y="288"/>
                  </a:lnTo>
                  <a:lnTo>
                    <a:pt x="501" y="290"/>
                  </a:lnTo>
                  <a:lnTo>
                    <a:pt x="496" y="290"/>
                  </a:lnTo>
                  <a:lnTo>
                    <a:pt x="488" y="292"/>
                  </a:lnTo>
                  <a:lnTo>
                    <a:pt x="483" y="292"/>
                  </a:lnTo>
                  <a:lnTo>
                    <a:pt x="476" y="292"/>
                  </a:lnTo>
                  <a:lnTo>
                    <a:pt x="470" y="292"/>
                  </a:lnTo>
                  <a:lnTo>
                    <a:pt x="463" y="294"/>
                  </a:lnTo>
                  <a:lnTo>
                    <a:pt x="457" y="294"/>
                  </a:lnTo>
                  <a:lnTo>
                    <a:pt x="449" y="295"/>
                  </a:lnTo>
                  <a:lnTo>
                    <a:pt x="444" y="295"/>
                  </a:lnTo>
                  <a:lnTo>
                    <a:pt x="438" y="297"/>
                  </a:lnTo>
                  <a:lnTo>
                    <a:pt x="432" y="297"/>
                  </a:lnTo>
                  <a:lnTo>
                    <a:pt x="427" y="297"/>
                  </a:lnTo>
                  <a:lnTo>
                    <a:pt x="422" y="297"/>
                  </a:lnTo>
                  <a:lnTo>
                    <a:pt x="416" y="297"/>
                  </a:lnTo>
                  <a:lnTo>
                    <a:pt x="410" y="297"/>
                  </a:lnTo>
                  <a:lnTo>
                    <a:pt x="404" y="297"/>
                  </a:lnTo>
                  <a:lnTo>
                    <a:pt x="398" y="297"/>
                  </a:lnTo>
                  <a:lnTo>
                    <a:pt x="391" y="297"/>
                  </a:lnTo>
                  <a:lnTo>
                    <a:pt x="385" y="297"/>
                  </a:lnTo>
                  <a:lnTo>
                    <a:pt x="377" y="297"/>
                  </a:lnTo>
                  <a:lnTo>
                    <a:pt x="371" y="295"/>
                  </a:lnTo>
                  <a:lnTo>
                    <a:pt x="364" y="295"/>
                  </a:lnTo>
                  <a:lnTo>
                    <a:pt x="357" y="294"/>
                  </a:lnTo>
                  <a:lnTo>
                    <a:pt x="350" y="294"/>
                  </a:lnTo>
                  <a:lnTo>
                    <a:pt x="344" y="292"/>
                  </a:lnTo>
                  <a:lnTo>
                    <a:pt x="338" y="292"/>
                  </a:lnTo>
                  <a:lnTo>
                    <a:pt x="332" y="290"/>
                  </a:lnTo>
                  <a:lnTo>
                    <a:pt x="327" y="288"/>
                  </a:lnTo>
                  <a:lnTo>
                    <a:pt x="323" y="286"/>
                  </a:lnTo>
                  <a:lnTo>
                    <a:pt x="317" y="285"/>
                  </a:lnTo>
                  <a:lnTo>
                    <a:pt x="312" y="284"/>
                  </a:lnTo>
                  <a:lnTo>
                    <a:pt x="305" y="282"/>
                  </a:lnTo>
                  <a:lnTo>
                    <a:pt x="300" y="279"/>
                  </a:lnTo>
                  <a:lnTo>
                    <a:pt x="292" y="277"/>
                  </a:lnTo>
                  <a:lnTo>
                    <a:pt x="287" y="274"/>
                  </a:lnTo>
                  <a:lnTo>
                    <a:pt x="280" y="272"/>
                  </a:lnTo>
                  <a:lnTo>
                    <a:pt x="274" y="268"/>
                  </a:lnTo>
                  <a:lnTo>
                    <a:pt x="267" y="266"/>
                  </a:lnTo>
                  <a:lnTo>
                    <a:pt x="260" y="263"/>
                  </a:lnTo>
                  <a:lnTo>
                    <a:pt x="253" y="260"/>
                  </a:lnTo>
                  <a:lnTo>
                    <a:pt x="247" y="256"/>
                  </a:lnTo>
                  <a:lnTo>
                    <a:pt x="241" y="254"/>
                  </a:lnTo>
                  <a:lnTo>
                    <a:pt x="235" y="251"/>
                  </a:lnTo>
                  <a:lnTo>
                    <a:pt x="230" y="248"/>
                  </a:lnTo>
                  <a:lnTo>
                    <a:pt x="226" y="244"/>
                  </a:lnTo>
                  <a:lnTo>
                    <a:pt x="221" y="243"/>
                  </a:lnTo>
                  <a:lnTo>
                    <a:pt x="215" y="239"/>
                  </a:lnTo>
                  <a:lnTo>
                    <a:pt x="209" y="236"/>
                  </a:lnTo>
                  <a:lnTo>
                    <a:pt x="203" y="232"/>
                  </a:lnTo>
                  <a:lnTo>
                    <a:pt x="195" y="228"/>
                  </a:lnTo>
                  <a:lnTo>
                    <a:pt x="189" y="223"/>
                  </a:lnTo>
                  <a:lnTo>
                    <a:pt x="181" y="219"/>
                  </a:lnTo>
                  <a:lnTo>
                    <a:pt x="176" y="214"/>
                  </a:lnTo>
                  <a:lnTo>
                    <a:pt x="168" y="210"/>
                  </a:lnTo>
                  <a:lnTo>
                    <a:pt x="161" y="205"/>
                  </a:lnTo>
                  <a:lnTo>
                    <a:pt x="153" y="201"/>
                  </a:lnTo>
                  <a:lnTo>
                    <a:pt x="147" y="196"/>
                  </a:lnTo>
                  <a:lnTo>
                    <a:pt x="139" y="192"/>
                  </a:lnTo>
                  <a:lnTo>
                    <a:pt x="134" y="187"/>
                  </a:lnTo>
                  <a:lnTo>
                    <a:pt x="128" y="183"/>
                  </a:lnTo>
                  <a:lnTo>
                    <a:pt x="123" y="178"/>
                  </a:lnTo>
                  <a:lnTo>
                    <a:pt x="117" y="175"/>
                  </a:lnTo>
                  <a:lnTo>
                    <a:pt x="111" y="171"/>
                  </a:lnTo>
                  <a:lnTo>
                    <a:pt x="106" y="167"/>
                  </a:lnTo>
                  <a:lnTo>
                    <a:pt x="100" y="161"/>
                  </a:lnTo>
                  <a:lnTo>
                    <a:pt x="94" y="157"/>
                  </a:lnTo>
                  <a:lnTo>
                    <a:pt x="88" y="151"/>
                  </a:lnTo>
                  <a:lnTo>
                    <a:pt x="83" y="145"/>
                  </a:lnTo>
                  <a:lnTo>
                    <a:pt x="77" y="139"/>
                  </a:lnTo>
                  <a:lnTo>
                    <a:pt x="71" y="134"/>
                  </a:lnTo>
                  <a:lnTo>
                    <a:pt x="65" y="128"/>
                  </a:lnTo>
                  <a:lnTo>
                    <a:pt x="59" y="123"/>
                  </a:lnTo>
                  <a:lnTo>
                    <a:pt x="55" y="117"/>
                  </a:lnTo>
                  <a:lnTo>
                    <a:pt x="50" y="113"/>
                  </a:lnTo>
                  <a:lnTo>
                    <a:pt x="47" y="107"/>
                  </a:lnTo>
                  <a:lnTo>
                    <a:pt x="43" y="103"/>
                  </a:lnTo>
                  <a:lnTo>
                    <a:pt x="41" y="97"/>
                  </a:lnTo>
                  <a:lnTo>
                    <a:pt x="37" y="93"/>
                  </a:lnTo>
                  <a:lnTo>
                    <a:pt x="35" y="89"/>
                  </a:lnTo>
                  <a:lnTo>
                    <a:pt x="31" y="85"/>
                  </a:lnTo>
                  <a:lnTo>
                    <a:pt x="29" y="80"/>
                  </a:lnTo>
                  <a:lnTo>
                    <a:pt x="25" y="76"/>
                  </a:lnTo>
                  <a:lnTo>
                    <a:pt x="23" y="70"/>
                  </a:lnTo>
                  <a:lnTo>
                    <a:pt x="20" y="65"/>
                  </a:lnTo>
                  <a:lnTo>
                    <a:pt x="18" y="59"/>
                  </a:lnTo>
                  <a:lnTo>
                    <a:pt x="15" y="55"/>
                  </a:lnTo>
                  <a:lnTo>
                    <a:pt x="13" y="50"/>
                  </a:lnTo>
                  <a:lnTo>
                    <a:pt x="11" y="47"/>
                  </a:lnTo>
                  <a:lnTo>
                    <a:pt x="10" y="41"/>
                  </a:lnTo>
                  <a:lnTo>
                    <a:pt x="8" y="37"/>
                  </a:lnTo>
                  <a:lnTo>
                    <a:pt x="7" y="33"/>
                  </a:lnTo>
                  <a:lnTo>
                    <a:pt x="6" y="30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63360">
              <a:solidFill>
                <a:srgbClr val="fb79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9200" y="2590920"/>
              <a:ext cx="2998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0" y="0"/>
            <a:ext cx="9453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2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Grafique en función de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4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obtenemos la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 curva de oferta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del bien 2 de la unidad de consumo bajo consideración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52280" y="2133720"/>
            <a:ext cx="4800600" cy="5867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47080" y="1481400"/>
            <a:ext cx="595800" cy="721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1094760" y="574920"/>
            <a:ext cx="3935160" cy="4842720"/>
          </a:xfrm>
          <a:prstGeom prst="cloudCallout">
            <a:avLst>
              <a:gd name="adj1" fmla="val -93648"/>
              <a:gd name="adj2" fmla="val 6265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Brush738 BT"/>
              </a:rPr>
              <a:t>¿ve porqué se curva hacia atrá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4800" y="228600"/>
            <a:ext cx="94536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bien: volvamos a las matemática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0" y="3124080"/>
            <a:ext cx="5157720" cy="2449440"/>
            <a:chOff x="0" y="3124080"/>
            <a:chExt cx="5157720" cy="2449440"/>
          </a:xfrm>
        </p:grpSpPr>
        <p:sp>
          <p:nvSpPr>
            <p:cNvPr id="581" name=""/>
            <p:cNvSpPr/>
            <p:nvPr/>
          </p:nvSpPr>
          <p:spPr>
            <a:xfrm>
              <a:off x="0" y="3124080"/>
              <a:ext cx="4002120" cy="2325600"/>
            </a:xfrm>
            <a:custGeom>
              <a:avLst/>
              <a:gdLst/>
              <a:ahLst/>
              <a:rect l="l" t="t" r="r" b="b"/>
              <a:pathLst>
                <a:path w="2521" h="1465">
                  <a:moveTo>
                    <a:pt x="2517" y="256"/>
                  </a:moveTo>
                  <a:lnTo>
                    <a:pt x="2508" y="251"/>
                  </a:lnTo>
                  <a:lnTo>
                    <a:pt x="2500" y="247"/>
                  </a:lnTo>
                  <a:lnTo>
                    <a:pt x="2492" y="245"/>
                  </a:lnTo>
                  <a:lnTo>
                    <a:pt x="2483" y="243"/>
                  </a:lnTo>
                  <a:lnTo>
                    <a:pt x="2473" y="244"/>
                  </a:lnTo>
                  <a:lnTo>
                    <a:pt x="2463" y="244"/>
                  </a:lnTo>
                  <a:lnTo>
                    <a:pt x="2451" y="246"/>
                  </a:lnTo>
                  <a:lnTo>
                    <a:pt x="2439" y="246"/>
                  </a:lnTo>
                  <a:lnTo>
                    <a:pt x="2424" y="247"/>
                  </a:lnTo>
                  <a:lnTo>
                    <a:pt x="2408" y="248"/>
                  </a:lnTo>
                  <a:lnTo>
                    <a:pt x="2390" y="248"/>
                  </a:lnTo>
                  <a:lnTo>
                    <a:pt x="2372" y="246"/>
                  </a:lnTo>
                  <a:lnTo>
                    <a:pt x="2349" y="244"/>
                  </a:lnTo>
                  <a:lnTo>
                    <a:pt x="2326" y="238"/>
                  </a:lnTo>
                  <a:lnTo>
                    <a:pt x="2299" y="232"/>
                  </a:lnTo>
                  <a:lnTo>
                    <a:pt x="2269" y="223"/>
                  </a:lnTo>
                  <a:lnTo>
                    <a:pt x="2251" y="218"/>
                  </a:lnTo>
                  <a:lnTo>
                    <a:pt x="2232" y="210"/>
                  </a:lnTo>
                  <a:lnTo>
                    <a:pt x="2212" y="202"/>
                  </a:lnTo>
                  <a:lnTo>
                    <a:pt x="2191" y="193"/>
                  </a:lnTo>
                  <a:lnTo>
                    <a:pt x="2169" y="184"/>
                  </a:lnTo>
                  <a:lnTo>
                    <a:pt x="2146" y="174"/>
                  </a:lnTo>
                  <a:lnTo>
                    <a:pt x="2124" y="163"/>
                  </a:lnTo>
                  <a:lnTo>
                    <a:pt x="2102" y="152"/>
                  </a:lnTo>
                  <a:lnTo>
                    <a:pt x="2078" y="142"/>
                  </a:lnTo>
                  <a:lnTo>
                    <a:pt x="2055" y="131"/>
                  </a:lnTo>
                  <a:lnTo>
                    <a:pt x="2033" y="121"/>
                  </a:lnTo>
                  <a:lnTo>
                    <a:pt x="2012" y="110"/>
                  </a:lnTo>
                  <a:lnTo>
                    <a:pt x="1992" y="100"/>
                  </a:lnTo>
                  <a:lnTo>
                    <a:pt x="1973" y="91"/>
                  </a:lnTo>
                  <a:lnTo>
                    <a:pt x="1955" y="83"/>
                  </a:lnTo>
                  <a:lnTo>
                    <a:pt x="1939" y="74"/>
                  </a:lnTo>
                  <a:lnTo>
                    <a:pt x="1926" y="70"/>
                  </a:lnTo>
                  <a:lnTo>
                    <a:pt x="1912" y="64"/>
                  </a:lnTo>
                  <a:lnTo>
                    <a:pt x="1896" y="59"/>
                  </a:lnTo>
                  <a:lnTo>
                    <a:pt x="1880" y="52"/>
                  </a:lnTo>
                  <a:lnTo>
                    <a:pt x="1862" y="46"/>
                  </a:lnTo>
                  <a:lnTo>
                    <a:pt x="1845" y="40"/>
                  </a:lnTo>
                  <a:lnTo>
                    <a:pt x="1826" y="34"/>
                  </a:lnTo>
                  <a:lnTo>
                    <a:pt x="1809" y="26"/>
                  </a:lnTo>
                  <a:lnTo>
                    <a:pt x="1790" y="22"/>
                  </a:lnTo>
                  <a:lnTo>
                    <a:pt x="1771" y="16"/>
                  </a:lnTo>
                  <a:lnTo>
                    <a:pt x="1753" y="13"/>
                  </a:lnTo>
                  <a:lnTo>
                    <a:pt x="1736" y="8"/>
                  </a:lnTo>
                  <a:lnTo>
                    <a:pt x="1720" y="5"/>
                  </a:lnTo>
                  <a:lnTo>
                    <a:pt x="1704" y="2"/>
                  </a:lnTo>
                  <a:lnTo>
                    <a:pt x="1690" y="2"/>
                  </a:lnTo>
                  <a:lnTo>
                    <a:pt x="1677" y="0"/>
                  </a:lnTo>
                  <a:lnTo>
                    <a:pt x="1663" y="2"/>
                  </a:lnTo>
                  <a:lnTo>
                    <a:pt x="1649" y="3"/>
                  </a:lnTo>
                  <a:lnTo>
                    <a:pt x="1634" y="7"/>
                  </a:lnTo>
                  <a:lnTo>
                    <a:pt x="1619" y="11"/>
                  </a:lnTo>
                  <a:lnTo>
                    <a:pt x="1602" y="16"/>
                  </a:lnTo>
                  <a:lnTo>
                    <a:pt x="1586" y="22"/>
                  </a:lnTo>
                  <a:lnTo>
                    <a:pt x="1569" y="27"/>
                  </a:lnTo>
                  <a:lnTo>
                    <a:pt x="1552" y="33"/>
                  </a:lnTo>
                  <a:lnTo>
                    <a:pt x="1535" y="40"/>
                  </a:lnTo>
                  <a:lnTo>
                    <a:pt x="1518" y="46"/>
                  </a:lnTo>
                  <a:lnTo>
                    <a:pt x="1501" y="52"/>
                  </a:lnTo>
                  <a:lnTo>
                    <a:pt x="1486" y="57"/>
                  </a:lnTo>
                  <a:lnTo>
                    <a:pt x="1470" y="63"/>
                  </a:lnTo>
                  <a:lnTo>
                    <a:pt x="1457" y="66"/>
                  </a:lnTo>
                  <a:lnTo>
                    <a:pt x="1444" y="70"/>
                  </a:lnTo>
                  <a:lnTo>
                    <a:pt x="1432" y="71"/>
                  </a:lnTo>
                  <a:lnTo>
                    <a:pt x="1407" y="73"/>
                  </a:lnTo>
                  <a:lnTo>
                    <a:pt x="1363" y="74"/>
                  </a:lnTo>
                  <a:lnTo>
                    <a:pt x="1300" y="74"/>
                  </a:lnTo>
                  <a:lnTo>
                    <a:pt x="1223" y="74"/>
                  </a:lnTo>
                  <a:lnTo>
                    <a:pt x="1134" y="74"/>
                  </a:lnTo>
                  <a:lnTo>
                    <a:pt x="1036" y="74"/>
                  </a:lnTo>
                  <a:lnTo>
                    <a:pt x="932" y="75"/>
                  </a:lnTo>
                  <a:lnTo>
                    <a:pt x="825" y="75"/>
                  </a:lnTo>
                  <a:lnTo>
                    <a:pt x="717" y="77"/>
                  </a:lnTo>
                  <a:lnTo>
                    <a:pt x="612" y="79"/>
                  </a:lnTo>
                  <a:lnTo>
                    <a:pt x="512" y="82"/>
                  </a:lnTo>
                  <a:lnTo>
                    <a:pt x="421" y="86"/>
                  </a:lnTo>
                  <a:lnTo>
                    <a:pt x="339" y="91"/>
                  </a:lnTo>
                  <a:lnTo>
                    <a:pt x="273" y="97"/>
                  </a:lnTo>
                  <a:lnTo>
                    <a:pt x="224" y="105"/>
                  </a:lnTo>
                  <a:lnTo>
                    <a:pt x="194" y="113"/>
                  </a:lnTo>
                  <a:lnTo>
                    <a:pt x="170" y="119"/>
                  </a:lnTo>
                  <a:lnTo>
                    <a:pt x="144" y="129"/>
                  </a:lnTo>
                  <a:lnTo>
                    <a:pt x="116" y="142"/>
                  </a:lnTo>
                  <a:lnTo>
                    <a:pt x="90" y="159"/>
                  </a:lnTo>
                  <a:lnTo>
                    <a:pt x="63" y="180"/>
                  </a:lnTo>
                  <a:lnTo>
                    <a:pt x="40" y="203"/>
                  </a:lnTo>
                  <a:lnTo>
                    <a:pt x="21" y="228"/>
                  </a:lnTo>
                  <a:lnTo>
                    <a:pt x="8" y="253"/>
                  </a:lnTo>
                  <a:lnTo>
                    <a:pt x="0" y="281"/>
                  </a:lnTo>
                  <a:lnTo>
                    <a:pt x="0" y="307"/>
                  </a:lnTo>
                  <a:lnTo>
                    <a:pt x="9" y="335"/>
                  </a:lnTo>
                  <a:lnTo>
                    <a:pt x="29" y="361"/>
                  </a:lnTo>
                  <a:lnTo>
                    <a:pt x="59" y="386"/>
                  </a:lnTo>
                  <a:lnTo>
                    <a:pt x="103" y="410"/>
                  </a:lnTo>
                  <a:lnTo>
                    <a:pt x="160" y="431"/>
                  </a:lnTo>
                  <a:lnTo>
                    <a:pt x="233" y="450"/>
                  </a:lnTo>
                  <a:lnTo>
                    <a:pt x="249" y="450"/>
                  </a:lnTo>
                  <a:lnTo>
                    <a:pt x="282" y="450"/>
                  </a:lnTo>
                  <a:lnTo>
                    <a:pt x="328" y="450"/>
                  </a:lnTo>
                  <a:lnTo>
                    <a:pt x="387" y="450"/>
                  </a:lnTo>
                  <a:lnTo>
                    <a:pt x="455" y="450"/>
                  </a:lnTo>
                  <a:lnTo>
                    <a:pt x="529" y="450"/>
                  </a:lnTo>
                  <a:lnTo>
                    <a:pt x="608" y="450"/>
                  </a:lnTo>
                  <a:lnTo>
                    <a:pt x="690" y="449"/>
                  </a:lnTo>
                  <a:lnTo>
                    <a:pt x="770" y="449"/>
                  </a:lnTo>
                  <a:lnTo>
                    <a:pt x="848" y="449"/>
                  </a:lnTo>
                  <a:lnTo>
                    <a:pt x="921" y="449"/>
                  </a:lnTo>
                  <a:lnTo>
                    <a:pt x="986" y="449"/>
                  </a:lnTo>
                  <a:lnTo>
                    <a:pt x="1041" y="450"/>
                  </a:lnTo>
                  <a:lnTo>
                    <a:pt x="1084" y="450"/>
                  </a:lnTo>
                  <a:lnTo>
                    <a:pt x="1112" y="450"/>
                  </a:lnTo>
                  <a:lnTo>
                    <a:pt x="1124" y="450"/>
                  </a:lnTo>
                  <a:lnTo>
                    <a:pt x="1109" y="454"/>
                  </a:lnTo>
                  <a:lnTo>
                    <a:pt x="1090" y="460"/>
                  </a:lnTo>
                  <a:lnTo>
                    <a:pt x="1067" y="469"/>
                  </a:lnTo>
                  <a:lnTo>
                    <a:pt x="1041" y="480"/>
                  </a:lnTo>
                  <a:lnTo>
                    <a:pt x="1012" y="493"/>
                  </a:lnTo>
                  <a:lnTo>
                    <a:pt x="983" y="508"/>
                  </a:lnTo>
                  <a:lnTo>
                    <a:pt x="954" y="526"/>
                  </a:lnTo>
                  <a:lnTo>
                    <a:pt x="926" y="546"/>
                  </a:lnTo>
                  <a:lnTo>
                    <a:pt x="899" y="569"/>
                  </a:lnTo>
                  <a:lnTo>
                    <a:pt x="876" y="595"/>
                  </a:lnTo>
                  <a:lnTo>
                    <a:pt x="857" y="624"/>
                  </a:lnTo>
                  <a:lnTo>
                    <a:pt x="844" y="655"/>
                  </a:lnTo>
                  <a:lnTo>
                    <a:pt x="835" y="689"/>
                  </a:lnTo>
                  <a:lnTo>
                    <a:pt x="834" y="726"/>
                  </a:lnTo>
                  <a:lnTo>
                    <a:pt x="842" y="765"/>
                  </a:lnTo>
                  <a:lnTo>
                    <a:pt x="858" y="807"/>
                  </a:lnTo>
                  <a:lnTo>
                    <a:pt x="840" y="825"/>
                  </a:lnTo>
                  <a:lnTo>
                    <a:pt x="822" y="842"/>
                  </a:lnTo>
                  <a:lnTo>
                    <a:pt x="806" y="859"/>
                  </a:lnTo>
                  <a:lnTo>
                    <a:pt x="791" y="876"/>
                  </a:lnTo>
                  <a:lnTo>
                    <a:pt x="777" y="892"/>
                  </a:lnTo>
                  <a:lnTo>
                    <a:pt x="766" y="909"/>
                  </a:lnTo>
                  <a:lnTo>
                    <a:pt x="756" y="926"/>
                  </a:lnTo>
                  <a:lnTo>
                    <a:pt x="748" y="940"/>
                  </a:lnTo>
                  <a:lnTo>
                    <a:pt x="741" y="959"/>
                  </a:lnTo>
                  <a:lnTo>
                    <a:pt x="739" y="976"/>
                  </a:lnTo>
                  <a:lnTo>
                    <a:pt x="737" y="994"/>
                  </a:lnTo>
                  <a:lnTo>
                    <a:pt x="740" y="1010"/>
                  </a:lnTo>
                  <a:lnTo>
                    <a:pt x="746" y="1030"/>
                  </a:lnTo>
                  <a:lnTo>
                    <a:pt x="755" y="1048"/>
                  </a:lnTo>
                  <a:lnTo>
                    <a:pt x="767" y="1069"/>
                  </a:lnTo>
                  <a:lnTo>
                    <a:pt x="784" y="1090"/>
                  </a:lnTo>
                  <a:lnTo>
                    <a:pt x="770" y="1108"/>
                  </a:lnTo>
                  <a:lnTo>
                    <a:pt x="757" y="1128"/>
                  </a:lnTo>
                  <a:lnTo>
                    <a:pt x="744" y="1151"/>
                  </a:lnTo>
                  <a:lnTo>
                    <a:pt x="734" y="1173"/>
                  </a:lnTo>
                  <a:lnTo>
                    <a:pt x="727" y="1199"/>
                  </a:lnTo>
                  <a:lnTo>
                    <a:pt x="724" y="1223"/>
                  </a:lnTo>
                  <a:lnTo>
                    <a:pt x="725" y="1250"/>
                  </a:lnTo>
                  <a:lnTo>
                    <a:pt x="734" y="1274"/>
                  </a:lnTo>
                  <a:lnTo>
                    <a:pt x="749" y="1300"/>
                  </a:lnTo>
                  <a:lnTo>
                    <a:pt x="772" y="1325"/>
                  </a:lnTo>
                  <a:lnTo>
                    <a:pt x="805" y="1349"/>
                  </a:lnTo>
                  <a:lnTo>
                    <a:pt x="849" y="1371"/>
                  </a:lnTo>
                  <a:lnTo>
                    <a:pt x="903" y="1393"/>
                  </a:lnTo>
                  <a:lnTo>
                    <a:pt x="971" y="1412"/>
                  </a:lnTo>
                  <a:lnTo>
                    <a:pt x="1052" y="1430"/>
                  </a:lnTo>
                  <a:lnTo>
                    <a:pt x="1150" y="1444"/>
                  </a:lnTo>
                  <a:lnTo>
                    <a:pt x="1169" y="1447"/>
                  </a:lnTo>
                  <a:lnTo>
                    <a:pt x="1187" y="1450"/>
                  </a:lnTo>
                  <a:lnTo>
                    <a:pt x="1204" y="1454"/>
                  </a:lnTo>
                  <a:lnTo>
                    <a:pt x="1220" y="1456"/>
                  </a:lnTo>
                  <a:lnTo>
                    <a:pt x="1234" y="1460"/>
                  </a:lnTo>
                  <a:lnTo>
                    <a:pt x="1248" y="1462"/>
                  </a:lnTo>
                  <a:lnTo>
                    <a:pt x="1261" y="1464"/>
                  </a:lnTo>
                  <a:lnTo>
                    <a:pt x="1275" y="1464"/>
                  </a:lnTo>
                  <a:lnTo>
                    <a:pt x="1288" y="1464"/>
                  </a:lnTo>
                  <a:lnTo>
                    <a:pt x="1302" y="1464"/>
                  </a:lnTo>
                  <a:lnTo>
                    <a:pt x="1317" y="1462"/>
                  </a:lnTo>
                  <a:lnTo>
                    <a:pt x="1333" y="1458"/>
                  </a:lnTo>
                  <a:lnTo>
                    <a:pt x="1350" y="1454"/>
                  </a:lnTo>
                  <a:lnTo>
                    <a:pt x="1370" y="1447"/>
                  </a:lnTo>
                  <a:lnTo>
                    <a:pt x="1391" y="1439"/>
                  </a:lnTo>
                  <a:lnTo>
                    <a:pt x="1415" y="1428"/>
                  </a:lnTo>
                  <a:lnTo>
                    <a:pt x="1542" y="1426"/>
                  </a:lnTo>
                  <a:lnTo>
                    <a:pt x="1655" y="1418"/>
                  </a:lnTo>
                  <a:lnTo>
                    <a:pt x="1754" y="1407"/>
                  </a:lnTo>
                  <a:lnTo>
                    <a:pt x="1840" y="1393"/>
                  </a:lnTo>
                  <a:lnTo>
                    <a:pt x="1914" y="1377"/>
                  </a:lnTo>
                  <a:lnTo>
                    <a:pt x="1978" y="1359"/>
                  </a:lnTo>
                  <a:lnTo>
                    <a:pt x="2032" y="1339"/>
                  </a:lnTo>
                  <a:lnTo>
                    <a:pt x="2080" y="1319"/>
                  </a:lnTo>
                  <a:lnTo>
                    <a:pt x="2119" y="1299"/>
                  </a:lnTo>
                  <a:lnTo>
                    <a:pt x="2154" y="1279"/>
                  </a:lnTo>
                  <a:lnTo>
                    <a:pt x="2184" y="1260"/>
                  </a:lnTo>
                  <a:lnTo>
                    <a:pt x="2212" y="1241"/>
                  </a:lnTo>
                  <a:lnTo>
                    <a:pt x="2237" y="1225"/>
                  </a:lnTo>
                  <a:lnTo>
                    <a:pt x="2262" y="1211"/>
                  </a:lnTo>
                  <a:lnTo>
                    <a:pt x="2289" y="1200"/>
                  </a:lnTo>
                  <a:lnTo>
                    <a:pt x="2317" y="1191"/>
                  </a:lnTo>
                  <a:lnTo>
                    <a:pt x="2326" y="1190"/>
                  </a:lnTo>
                  <a:lnTo>
                    <a:pt x="2337" y="1189"/>
                  </a:lnTo>
                  <a:lnTo>
                    <a:pt x="2349" y="1189"/>
                  </a:lnTo>
                  <a:lnTo>
                    <a:pt x="2363" y="1188"/>
                  </a:lnTo>
                  <a:lnTo>
                    <a:pt x="2377" y="1189"/>
                  </a:lnTo>
                  <a:lnTo>
                    <a:pt x="2392" y="1189"/>
                  </a:lnTo>
                  <a:lnTo>
                    <a:pt x="2406" y="1189"/>
                  </a:lnTo>
                  <a:lnTo>
                    <a:pt x="2422" y="1189"/>
                  </a:lnTo>
                  <a:lnTo>
                    <a:pt x="2436" y="1189"/>
                  </a:lnTo>
                  <a:lnTo>
                    <a:pt x="2452" y="1189"/>
                  </a:lnTo>
                  <a:lnTo>
                    <a:pt x="2465" y="1188"/>
                  </a:lnTo>
                  <a:lnTo>
                    <a:pt x="2479" y="1186"/>
                  </a:lnTo>
                  <a:lnTo>
                    <a:pt x="2490" y="1184"/>
                  </a:lnTo>
                  <a:lnTo>
                    <a:pt x="2502" y="1180"/>
                  </a:lnTo>
                  <a:lnTo>
                    <a:pt x="2511" y="1176"/>
                  </a:lnTo>
                  <a:lnTo>
                    <a:pt x="2520" y="1170"/>
                  </a:lnTo>
                  <a:lnTo>
                    <a:pt x="2518" y="1162"/>
                  </a:lnTo>
                  <a:lnTo>
                    <a:pt x="2517" y="1134"/>
                  </a:lnTo>
                  <a:lnTo>
                    <a:pt x="2515" y="1091"/>
                  </a:lnTo>
                  <a:lnTo>
                    <a:pt x="2515" y="1034"/>
                  </a:lnTo>
                  <a:lnTo>
                    <a:pt x="2513" y="966"/>
                  </a:lnTo>
                  <a:lnTo>
                    <a:pt x="2513" y="890"/>
                  </a:lnTo>
                  <a:lnTo>
                    <a:pt x="2513" y="807"/>
                  </a:lnTo>
                  <a:lnTo>
                    <a:pt x="2513" y="722"/>
                  </a:lnTo>
                  <a:lnTo>
                    <a:pt x="2513" y="637"/>
                  </a:lnTo>
                  <a:lnTo>
                    <a:pt x="2513" y="554"/>
                  </a:lnTo>
                  <a:lnTo>
                    <a:pt x="2513" y="476"/>
                  </a:lnTo>
                  <a:lnTo>
                    <a:pt x="2513" y="406"/>
                  </a:lnTo>
                  <a:lnTo>
                    <a:pt x="2513" y="346"/>
                  </a:lnTo>
                  <a:lnTo>
                    <a:pt x="2514" y="300"/>
                  </a:lnTo>
                  <a:lnTo>
                    <a:pt x="2515" y="269"/>
                  </a:lnTo>
                  <a:lnTo>
                    <a:pt x="2517" y="256"/>
                  </a:lnTo>
                  <a:lnTo>
                    <a:pt x="2517" y="256"/>
                  </a:lnTo>
                </a:path>
              </a:pathLst>
            </a:custGeom>
            <a:solidFill>
              <a:srgbClr val="ff814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28720" y="3241440"/>
              <a:ext cx="1049400" cy="1015920"/>
            </a:xfrm>
            <a:custGeom>
              <a:avLst/>
              <a:gdLst/>
              <a:ahLst/>
              <a:rect l="l" t="t" r="r" b="b"/>
              <a:pathLst>
                <a:path w="661" h="640">
                  <a:moveTo>
                    <a:pt x="350" y="0"/>
                  </a:moveTo>
                  <a:lnTo>
                    <a:pt x="345" y="6"/>
                  </a:lnTo>
                  <a:lnTo>
                    <a:pt x="334" y="18"/>
                  </a:lnTo>
                  <a:lnTo>
                    <a:pt x="317" y="38"/>
                  </a:lnTo>
                  <a:lnTo>
                    <a:pt x="295" y="63"/>
                  </a:lnTo>
                  <a:lnTo>
                    <a:pt x="269" y="94"/>
                  </a:lnTo>
                  <a:lnTo>
                    <a:pt x="240" y="128"/>
                  </a:lnTo>
                  <a:lnTo>
                    <a:pt x="209" y="166"/>
                  </a:lnTo>
                  <a:lnTo>
                    <a:pt x="177" y="204"/>
                  </a:lnTo>
                  <a:lnTo>
                    <a:pt x="145" y="246"/>
                  </a:lnTo>
                  <a:lnTo>
                    <a:pt x="113" y="286"/>
                  </a:lnTo>
                  <a:lnTo>
                    <a:pt x="84" y="326"/>
                  </a:lnTo>
                  <a:lnTo>
                    <a:pt x="58" y="362"/>
                  </a:lnTo>
                  <a:lnTo>
                    <a:pt x="35" y="397"/>
                  </a:lnTo>
                  <a:lnTo>
                    <a:pt x="18" y="427"/>
                  </a:lnTo>
                  <a:lnTo>
                    <a:pt x="5" y="452"/>
                  </a:lnTo>
                  <a:lnTo>
                    <a:pt x="1" y="470"/>
                  </a:lnTo>
                  <a:lnTo>
                    <a:pt x="0" y="480"/>
                  </a:lnTo>
                  <a:lnTo>
                    <a:pt x="1" y="492"/>
                  </a:lnTo>
                  <a:lnTo>
                    <a:pt x="3" y="508"/>
                  </a:lnTo>
                  <a:lnTo>
                    <a:pt x="9" y="524"/>
                  </a:lnTo>
                  <a:lnTo>
                    <a:pt x="15" y="543"/>
                  </a:lnTo>
                  <a:lnTo>
                    <a:pt x="24" y="562"/>
                  </a:lnTo>
                  <a:lnTo>
                    <a:pt x="36" y="580"/>
                  </a:lnTo>
                  <a:lnTo>
                    <a:pt x="53" y="596"/>
                  </a:lnTo>
                  <a:lnTo>
                    <a:pt x="71" y="613"/>
                  </a:lnTo>
                  <a:lnTo>
                    <a:pt x="93" y="625"/>
                  </a:lnTo>
                  <a:lnTo>
                    <a:pt x="119" y="634"/>
                  </a:lnTo>
                  <a:lnTo>
                    <a:pt x="151" y="638"/>
                  </a:lnTo>
                  <a:lnTo>
                    <a:pt x="186" y="639"/>
                  </a:lnTo>
                  <a:lnTo>
                    <a:pt x="226" y="632"/>
                  </a:lnTo>
                  <a:lnTo>
                    <a:pt x="271" y="619"/>
                  </a:lnTo>
                  <a:lnTo>
                    <a:pt x="323" y="598"/>
                  </a:lnTo>
                  <a:lnTo>
                    <a:pt x="340" y="592"/>
                  </a:lnTo>
                  <a:lnTo>
                    <a:pt x="362" y="581"/>
                  </a:lnTo>
                  <a:lnTo>
                    <a:pt x="385" y="568"/>
                  </a:lnTo>
                  <a:lnTo>
                    <a:pt x="411" y="551"/>
                  </a:lnTo>
                  <a:lnTo>
                    <a:pt x="438" y="533"/>
                  </a:lnTo>
                  <a:lnTo>
                    <a:pt x="467" y="514"/>
                  </a:lnTo>
                  <a:lnTo>
                    <a:pt x="495" y="494"/>
                  </a:lnTo>
                  <a:lnTo>
                    <a:pt x="523" y="473"/>
                  </a:lnTo>
                  <a:lnTo>
                    <a:pt x="549" y="454"/>
                  </a:lnTo>
                  <a:lnTo>
                    <a:pt x="575" y="435"/>
                  </a:lnTo>
                  <a:lnTo>
                    <a:pt x="598" y="417"/>
                  </a:lnTo>
                  <a:lnTo>
                    <a:pt x="619" y="401"/>
                  </a:lnTo>
                  <a:lnTo>
                    <a:pt x="635" y="388"/>
                  </a:lnTo>
                  <a:lnTo>
                    <a:pt x="648" y="378"/>
                  </a:lnTo>
                  <a:lnTo>
                    <a:pt x="656" y="372"/>
                  </a:lnTo>
                  <a:lnTo>
                    <a:pt x="660" y="3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6600" y="4111560"/>
              <a:ext cx="1154160" cy="347400"/>
            </a:xfrm>
            <a:custGeom>
              <a:avLst/>
              <a:gdLst/>
              <a:ahLst/>
              <a:rect l="l" t="t" r="r" b="b"/>
              <a:pathLst>
                <a:path w="727" h="219">
                  <a:moveTo>
                    <a:pt x="726" y="151"/>
                  </a:moveTo>
                  <a:lnTo>
                    <a:pt x="721" y="154"/>
                  </a:lnTo>
                  <a:lnTo>
                    <a:pt x="706" y="160"/>
                  </a:lnTo>
                  <a:lnTo>
                    <a:pt x="683" y="168"/>
                  </a:lnTo>
                  <a:lnTo>
                    <a:pt x="653" y="177"/>
                  </a:lnTo>
                  <a:lnTo>
                    <a:pt x="615" y="188"/>
                  </a:lnTo>
                  <a:lnTo>
                    <a:pt x="573" y="197"/>
                  </a:lnTo>
                  <a:lnTo>
                    <a:pt x="526" y="206"/>
                  </a:lnTo>
                  <a:lnTo>
                    <a:pt x="476" y="212"/>
                  </a:lnTo>
                  <a:lnTo>
                    <a:pt x="422" y="218"/>
                  </a:lnTo>
                  <a:lnTo>
                    <a:pt x="368" y="218"/>
                  </a:lnTo>
                  <a:lnTo>
                    <a:pt x="312" y="214"/>
                  </a:lnTo>
                  <a:lnTo>
                    <a:pt x="258" y="204"/>
                  </a:lnTo>
                  <a:lnTo>
                    <a:pt x="204" y="189"/>
                  </a:lnTo>
                  <a:lnTo>
                    <a:pt x="153" y="165"/>
                  </a:lnTo>
                  <a:lnTo>
                    <a:pt x="105" y="133"/>
                  </a:lnTo>
                  <a:lnTo>
                    <a:pt x="62" y="92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5" y="74"/>
                  </a:lnTo>
                  <a:lnTo>
                    <a:pt x="40" y="67"/>
                  </a:lnTo>
                  <a:lnTo>
                    <a:pt x="34" y="60"/>
                  </a:lnTo>
                  <a:lnTo>
                    <a:pt x="29" y="52"/>
                  </a:lnTo>
                  <a:lnTo>
                    <a:pt x="24" y="45"/>
                  </a:lnTo>
                  <a:lnTo>
                    <a:pt x="20" y="36"/>
                  </a:lnTo>
                  <a:lnTo>
                    <a:pt x="15" y="30"/>
                  </a:lnTo>
                  <a:lnTo>
                    <a:pt x="11" y="23"/>
                  </a:lnTo>
                  <a:lnTo>
                    <a:pt x="8" y="17"/>
                  </a:lnTo>
                  <a:lnTo>
                    <a:pt x="5" y="11"/>
                  </a:lnTo>
                  <a:lnTo>
                    <a:pt x="3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212920" y="5084640"/>
              <a:ext cx="71280" cy="304560"/>
            </a:xfrm>
            <a:custGeom>
              <a:avLst/>
              <a:gdLst/>
              <a:ahLst/>
              <a:rect l="l" t="t" r="r" b="b"/>
              <a:pathLst>
                <a:path w="45" h="192">
                  <a:moveTo>
                    <a:pt x="21" y="191"/>
                  </a:moveTo>
                  <a:lnTo>
                    <a:pt x="30" y="178"/>
                  </a:lnTo>
                  <a:lnTo>
                    <a:pt x="37" y="164"/>
                  </a:lnTo>
                  <a:lnTo>
                    <a:pt x="41" y="149"/>
                  </a:lnTo>
                  <a:lnTo>
                    <a:pt x="44" y="134"/>
                  </a:lnTo>
                  <a:lnTo>
                    <a:pt x="42" y="119"/>
                  </a:lnTo>
                  <a:lnTo>
                    <a:pt x="40" y="103"/>
                  </a:lnTo>
                  <a:lnTo>
                    <a:pt x="37" y="87"/>
                  </a:lnTo>
                  <a:lnTo>
                    <a:pt x="34" y="71"/>
                  </a:lnTo>
                  <a:lnTo>
                    <a:pt x="27" y="57"/>
                  </a:lnTo>
                  <a:lnTo>
                    <a:pt x="22" y="44"/>
                  </a:lnTo>
                  <a:lnTo>
                    <a:pt x="16" y="32"/>
                  </a:lnTo>
                  <a:lnTo>
                    <a:pt x="11" y="21"/>
                  </a:lnTo>
                  <a:lnTo>
                    <a:pt x="6" y="13"/>
                  </a:lnTo>
                  <a:lnTo>
                    <a:pt x="3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72960" y="4682880"/>
              <a:ext cx="1324080" cy="397080"/>
            </a:xfrm>
            <a:custGeom>
              <a:avLst/>
              <a:gdLst/>
              <a:ahLst/>
              <a:rect l="l" t="t" r="r" b="b"/>
              <a:pathLst>
                <a:path w="834" h="250">
                  <a:moveTo>
                    <a:pt x="0" y="116"/>
                  </a:moveTo>
                  <a:lnTo>
                    <a:pt x="4" y="119"/>
                  </a:lnTo>
                  <a:lnTo>
                    <a:pt x="16" y="124"/>
                  </a:lnTo>
                  <a:lnTo>
                    <a:pt x="36" y="134"/>
                  </a:lnTo>
                  <a:lnTo>
                    <a:pt x="64" y="144"/>
                  </a:lnTo>
                  <a:lnTo>
                    <a:pt x="98" y="158"/>
                  </a:lnTo>
                  <a:lnTo>
                    <a:pt x="138" y="172"/>
                  </a:lnTo>
                  <a:lnTo>
                    <a:pt x="183" y="187"/>
                  </a:lnTo>
                  <a:lnTo>
                    <a:pt x="233" y="200"/>
                  </a:lnTo>
                  <a:lnTo>
                    <a:pt x="286" y="214"/>
                  </a:lnTo>
                  <a:lnTo>
                    <a:pt x="342" y="226"/>
                  </a:lnTo>
                  <a:lnTo>
                    <a:pt x="401" y="237"/>
                  </a:lnTo>
                  <a:lnTo>
                    <a:pt x="463" y="244"/>
                  </a:lnTo>
                  <a:lnTo>
                    <a:pt x="524" y="249"/>
                  </a:lnTo>
                  <a:lnTo>
                    <a:pt x="588" y="249"/>
                  </a:lnTo>
                  <a:lnTo>
                    <a:pt x="650" y="246"/>
                  </a:lnTo>
                  <a:lnTo>
                    <a:pt x="714" y="236"/>
                  </a:lnTo>
                  <a:lnTo>
                    <a:pt x="746" y="226"/>
                  </a:lnTo>
                  <a:lnTo>
                    <a:pt x="773" y="212"/>
                  </a:lnTo>
                  <a:lnTo>
                    <a:pt x="793" y="196"/>
                  </a:lnTo>
                  <a:lnTo>
                    <a:pt x="810" y="178"/>
                  </a:lnTo>
                  <a:lnTo>
                    <a:pt x="820" y="160"/>
                  </a:lnTo>
                  <a:lnTo>
                    <a:pt x="828" y="140"/>
                  </a:lnTo>
                  <a:lnTo>
                    <a:pt x="832" y="120"/>
                  </a:lnTo>
                  <a:lnTo>
                    <a:pt x="833" y="100"/>
                  </a:lnTo>
                  <a:lnTo>
                    <a:pt x="830" y="81"/>
                  </a:lnTo>
                  <a:lnTo>
                    <a:pt x="828" y="62"/>
                  </a:lnTo>
                  <a:lnTo>
                    <a:pt x="823" y="46"/>
                  </a:lnTo>
                  <a:lnTo>
                    <a:pt x="819" y="30"/>
                  </a:lnTo>
                  <a:lnTo>
                    <a:pt x="814" y="18"/>
                  </a:lnTo>
                  <a:lnTo>
                    <a:pt x="810" y="9"/>
                  </a:lnTo>
                  <a:lnTo>
                    <a:pt x="807" y="4"/>
                  </a:lnTo>
                  <a:lnTo>
                    <a:pt x="80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400040" y="4390920"/>
              <a:ext cx="1319400" cy="303120"/>
            </a:xfrm>
            <a:custGeom>
              <a:avLst/>
              <a:gdLst/>
              <a:ahLst/>
              <a:rect l="l" t="t" r="r" b="b"/>
              <a:pathLst>
                <a:path w="831" h="191">
                  <a:moveTo>
                    <a:pt x="816" y="3"/>
                  </a:moveTo>
                  <a:lnTo>
                    <a:pt x="817" y="6"/>
                  </a:lnTo>
                  <a:lnTo>
                    <a:pt x="820" y="13"/>
                  </a:lnTo>
                  <a:lnTo>
                    <a:pt x="822" y="24"/>
                  </a:lnTo>
                  <a:lnTo>
                    <a:pt x="826" y="38"/>
                  </a:lnTo>
                  <a:lnTo>
                    <a:pt x="828" y="54"/>
                  </a:lnTo>
                  <a:lnTo>
                    <a:pt x="830" y="72"/>
                  </a:lnTo>
                  <a:lnTo>
                    <a:pt x="830" y="91"/>
                  </a:lnTo>
                  <a:lnTo>
                    <a:pt x="827" y="110"/>
                  </a:lnTo>
                  <a:lnTo>
                    <a:pt x="820" y="129"/>
                  </a:lnTo>
                  <a:lnTo>
                    <a:pt x="810" y="146"/>
                  </a:lnTo>
                  <a:lnTo>
                    <a:pt x="793" y="162"/>
                  </a:lnTo>
                  <a:lnTo>
                    <a:pt x="773" y="174"/>
                  </a:lnTo>
                  <a:lnTo>
                    <a:pt x="744" y="184"/>
                  </a:lnTo>
                  <a:lnTo>
                    <a:pt x="711" y="189"/>
                  </a:lnTo>
                  <a:lnTo>
                    <a:pt x="668" y="190"/>
                  </a:lnTo>
                  <a:lnTo>
                    <a:pt x="619" y="184"/>
                  </a:lnTo>
                  <a:lnTo>
                    <a:pt x="596" y="182"/>
                  </a:lnTo>
                  <a:lnTo>
                    <a:pt x="566" y="176"/>
                  </a:lnTo>
                  <a:lnTo>
                    <a:pt x="527" y="168"/>
                  </a:lnTo>
                  <a:lnTo>
                    <a:pt x="483" y="155"/>
                  </a:lnTo>
                  <a:lnTo>
                    <a:pt x="434" y="141"/>
                  </a:lnTo>
                  <a:lnTo>
                    <a:pt x="382" y="126"/>
                  </a:lnTo>
                  <a:lnTo>
                    <a:pt x="328" y="110"/>
                  </a:lnTo>
                  <a:lnTo>
                    <a:pt x="275" y="92"/>
                  </a:lnTo>
                  <a:lnTo>
                    <a:pt x="221" y="75"/>
                  </a:lnTo>
                  <a:lnTo>
                    <a:pt x="171" y="58"/>
                  </a:lnTo>
                  <a:lnTo>
                    <a:pt x="124" y="43"/>
                  </a:lnTo>
                  <a:lnTo>
                    <a:pt x="83" y="29"/>
                  </a:lnTo>
                  <a:lnTo>
                    <a:pt x="48" y="18"/>
                  </a:lnTo>
                  <a:lnTo>
                    <a:pt x="23" y="8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86280" y="3369960"/>
              <a:ext cx="529920" cy="2060640"/>
            </a:xfrm>
            <a:custGeom>
              <a:avLst/>
              <a:gdLst/>
              <a:ahLst/>
              <a:rect l="l" t="t" r="r" b="b"/>
              <a:pathLst>
                <a:path w="334" h="1298">
                  <a:moveTo>
                    <a:pt x="333" y="0"/>
                  </a:moveTo>
                  <a:lnTo>
                    <a:pt x="0" y="0"/>
                  </a:lnTo>
                  <a:lnTo>
                    <a:pt x="0" y="1297"/>
                  </a:lnTo>
                  <a:lnTo>
                    <a:pt x="289" y="1294"/>
                  </a:lnTo>
                  <a:lnTo>
                    <a:pt x="333" y="0"/>
                  </a:lnTo>
                  <a:lnTo>
                    <a:pt x="333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0" y="3303360"/>
              <a:ext cx="841320" cy="2270160"/>
            </a:xfrm>
            <a:custGeom>
              <a:avLst/>
              <a:gdLst/>
              <a:ahLst/>
              <a:rect l="l" t="t" r="r" b="b"/>
              <a:pathLst>
                <a:path w="530" h="1430">
                  <a:moveTo>
                    <a:pt x="529" y="3"/>
                  </a:moveTo>
                  <a:lnTo>
                    <a:pt x="77" y="0"/>
                  </a:lnTo>
                  <a:lnTo>
                    <a:pt x="75" y="1336"/>
                  </a:lnTo>
                  <a:lnTo>
                    <a:pt x="0" y="1339"/>
                  </a:lnTo>
                  <a:lnTo>
                    <a:pt x="68" y="1429"/>
                  </a:lnTo>
                  <a:lnTo>
                    <a:pt x="529" y="1399"/>
                  </a:lnTo>
                  <a:lnTo>
                    <a:pt x="529" y="3"/>
                  </a:lnTo>
                  <a:lnTo>
                    <a:pt x="529" y="3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85560" y="501480"/>
            <a:ext cx="9453240" cy="12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efecto de un cambio en el precio sobre la demanda con ingreso exógen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3360" y="1796760"/>
            <a:ext cx="9931680" cy="597528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52280" y="2056320"/>
            <a:ext cx="9061560" cy="243828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50760">
            <a:solidFill>
              <a:srgbClr val="ff66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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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                                                           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7162920" y="3885840"/>
            <a:ext cx="2819160" cy="2210040"/>
            <a:chOff x="7162920" y="3885840"/>
            <a:chExt cx="2819160" cy="2210040"/>
          </a:xfrm>
        </p:grpSpPr>
        <p:sp>
          <p:nvSpPr>
            <p:cNvPr id="593" name=""/>
            <p:cNvSpPr/>
            <p:nvPr/>
          </p:nvSpPr>
          <p:spPr>
            <a:xfrm>
              <a:off x="7162920" y="5410080"/>
              <a:ext cx="2819160" cy="6858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4f4f4f"/>
                  </a:solidFill>
                  <a:latin typeface="Arial"/>
                </a:rPr>
                <a:t>efecto sobre el  ingres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flipV="1">
              <a:off x="8686440" y="3885840"/>
              <a:ext cx="61560" cy="159084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5160" y="3433680"/>
            <a:ext cx="3744720" cy="2681280"/>
            <a:chOff x="65160" y="3433680"/>
            <a:chExt cx="3744720" cy="2681280"/>
          </a:xfrm>
        </p:grpSpPr>
        <p:sp>
          <p:nvSpPr>
            <p:cNvPr id="596" name=""/>
            <p:cNvSpPr/>
            <p:nvPr/>
          </p:nvSpPr>
          <p:spPr>
            <a:xfrm flipV="1">
              <a:off x="2013120" y="3433680"/>
              <a:ext cx="1284120" cy="167976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160" y="5133960"/>
              <a:ext cx="3744720" cy="9810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4f4f4f"/>
                  </a:solidFill>
                  <a:latin typeface="Arial"/>
                </a:rPr>
                <a:t>efecto directo sobre la demand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85560" y="501480"/>
            <a:ext cx="9453240" cy="12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introduzca la ecuación de  Slutsky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27080" y="1796760"/>
            <a:ext cx="9931320" cy="597528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2480" y="1904040"/>
            <a:ext cx="6553440" cy="1600200"/>
          </a:xfrm>
          <a:prstGeom prst="roundRect">
            <a:avLst>
              <a:gd name="adj" fmla="val 6245"/>
            </a:avLst>
          </a:prstGeom>
          <a:solidFill>
            <a:srgbClr val="ccffff"/>
          </a:solidFill>
          <a:ln w="50760">
            <a:solidFill>
              <a:srgbClr val="ff66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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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j                                    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76320" y="3200400"/>
            <a:ext cx="9213840" cy="2361600"/>
            <a:chOff x="76320" y="3200400"/>
            <a:chExt cx="9213840" cy="2361600"/>
          </a:xfrm>
        </p:grpSpPr>
        <p:sp>
          <p:nvSpPr>
            <p:cNvPr id="602" name=""/>
            <p:cNvSpPr/>
            <p:nvPr/>
          </p:nvSpPr>
          <p:spPr>
            <a:xfrm flipV="1">
              <a:off x="76320" y="4272840"/>
              <a:ext cx="9213840" cy="1288440"/>
            </a:xfrm>
            <a:prstGeom prst="roundRect">
              <a:avLst>
                <a:gd name="adj" fmla="val 6245"/>
              </a:avLst>
            </a:prstGeom>
            <a:solidFill>
              <a:srgbClr val="ffffff"/>
            </a:solidFill>
            <a:ln w="5076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5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GB" sz="5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5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GB" sz="5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GB" sz="5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GB" sz="5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5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GB" sz="5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) - </a:t>
              </a:r>
              <a:r>
                <a:rPr b="0" i="1" lang="en-GB" sz="5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GB" sz="5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GB" sz="5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5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GB" sz="5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5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GB" sz="5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4199040" y="3200400"/>
              <a:ext cx="224640" cy="1073520"/>
            </a:xfrm>
            <a:prstGeom prst="line">
              <a:avLst/>
            </a:prstGeom>
            <a:ln w="66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28600" y="457200"/>
            <a:ext cx="94536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 de modo de obtener la ecuación 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Modificada de  Slutsky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76320" y="5256720"/>
            <a:ext cx="9829800" cy="243828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50760">
            <a:solidFill>
              <a:srgbClr val="ff66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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 + [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1371600" y="3656520"/>
            <a:ext cx="7391520" cy="1289160"/>
          </a:xfrm>
          <a:prstGeom prst="roundRect">
            <a:avLst>
              <a:gd name="adj" fmla="val 6245"/>
            </a:avLst>
          </a:prstGeom>
          <a:solidFill>
            <a:srgbClr val="ccffff"/>
          </a:solidFill>
          <a:ln w="50760">
            <a:solidFill>
              <a:srgbClr val="ff66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66120" y="4498920"/>
            <a:ext cx="203508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grega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4419720"/>
            <a:ext cx="203508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ptimización y Estática Compar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56080" y="4498920"/>
            <a:ext cx="203544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anorámic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08280" y="3524400"/>
            <a:ext cx="6810120" cy="947160"/>
            <a:chOff x="1808280" y="3524400"/>
            <a:chExt cx="6810120" cy="947160"/>
          </a:xfrm>
        </p:grpSpPr>
        <p:sp>
          <p:nvSpPr>
            <p:cNvPr id="101" name=""/>
            <p:cNvSpPr/>
            <p:nvPr/>
          </p:nvSpPr>
          <p:spPr>
            <a:xfrm>
              <a:off x="5229360" y="3524400"/>
              <a:ext cx="1440" cy="511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0828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7844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4680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1696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08280" y="4035960"/>
              <a:ext cx="2270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78440" y="4035960"/>
              <a:ext cx="11509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29360" y="4035960"/>
              <a:ext cx="11174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46800" y="4035960"/>
              <a:ext cx="2270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08120" y="4495680"/>
            <a:ext cx="2187360" cy="2054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ortunida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43800" y="4419720"/>
            <a:ext cx="2035080" cy="205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grega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572000"/>
            <a:ext cx="2210040" cy="205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ortunidades y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495680"/>
            <a:ext cx="2035080" cy="20545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84560" y="5257800"/>
            <a:ext cx="201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3400" y="3886200"/>
            <a:ext cx="3822480" cy="2954160"/>
          </a:xfrm>
          <a:custGeom>
            <a:avLst/>
            <a:gdLst/>
            <a:ahLst/>
            <a:rect l="l" t="t" r="r" b="b"/>
            <a:pathLst>
              <a:path w="2059" h="1756">
                <a:moveTo>
                  <a:pt x="175" y="390"/>
                </a:moveTo>
                <a:lnTo>
                  <a:pt x="82" y="536"/>
                </a:lnTo>
                <a:lnTo>
                  <a:pt x="25" y="681"/>
                </a:lnTo>
                <a:lnTo>
                  <a:pt x="0" y="827"/>
                </a:lnTo>
                <a:lnTo>
                  <a:pt x="5" y="969"/>
                </a:lnTo>
                <a:lnTo>
                  <a:pt x="36" y="1107"/>
                </a:lnTo>
                <a:lnTo>
                  <a:pt x="94" y="1236"/>
                </a:lnTo>
                <a:lnTo>
                  <a:pt x="174" y="1356"/>
                </a:lnTo>
                <a:lnTo>
                  <a:pt x="275" y="1464"/>
                </a:lnTo>
                <a:lnTo>
                  <a:pt x="392" y="1560"/>
                </a:lnTo>
                <a:lnTo>
                  <a:pt x="526" y="1638"/>
                </a:lnTo>
                <a:lnTo>
                  <a:pt x="673" y="1699"/>
                </a:lnTo>
                <a:lnTo>
                  <a:pt x="831" y="1737"/>
                </a:lnTo>
                <a:lnTo>
                  <a:pt x="997" y="1755"/>
                </a:lnTo>
                <a:lnTo>
                  <a:pt x="1169" y="1746"/>
                </a:lnTo>
                <a:lnTo>
                  <a:pt x="1344" y="1711"/>
                </a:lnTo>
                <a:lnTo>
                  <a:pt x="1522" y="1645"/>
                </a:lnTo>
                <a:lnTo>
                  <a:pt x="1682" y="1555"/>
                </a:lnTo>
                <a:lnTo>
                  <a:pt x="1813" y="1449"/>
                </a:lnTo>
                <a:lnTo>
                  <a:pt x="1915" y="1331"/>
                </a:lnTo>
                <a:lnTo>
                  <a:pt x="1990" y="1203"/>
                </a:lnTo>
                <a:lnTo>
                  <a:pt x="2036" y="1069"/>
                </a:lnTo>
                <a:lnTo>
                  <a:pt x="2058" y="931"/>
                </a:lnTo>
                <a:lnTo>
                  <a:pt x="2053" y="793"/>
                </a:lnTo>
                <a:lnTo>
                  <a:pt x="2025" y="655"/>
                </a:lnTo>
                <a:lnTo>
                  <a:pt x="1972" y="525"/>
                </a:lnTo>
                <a:lnTo>
                  <a:pt x="1897" y="401"/>
                </a:lnTo>
                <a:lnTo>
                  <a:pt x="1800" y="290"/>
                </a:lnTo>
                <a:lnTo>
                  <a:pt x="1684" y="192"/>
                </a:lnTo>
                <a:lnTo>
                  <a:pt x="1545" y="112"/>
                </a:lnTo>
                <a:lnTo>
                  <a:pt x="1389" y="51"/>
                </a:lnTo>
                <a:lnTo>
                  <a:pt x="1214" y="13"/>
                </a:lnTo>
                <a:lnTo>
                  <a:pt x="1022" y="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2362320"/>
            <a:ext cx="2265480" cy="1198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l Consumid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385560" y="501480"/>
            <a:ext cx="9453240" cy="12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ecuación Modificada de Slutsky 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63360" y="1796760"/>
            <a:ext cx="9931680" cy="597528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76320" y="2209320"/>
            <a:ext cx="9829800" cy="243864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50760">
            <a:solidFill>
              <a:srgbClr val="ff66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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 + [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72000" y="2438280"/>
            <a:ext cx="2832120" cy="1540080"/>
          </a:xfrm>
          <a:custGeom>
            <a:avLst/>
            <a:gdLst/>
            <a:ahLst/>
            <a:rect l="l" t="t" r="r" b="b"/>
            <a:pathLst>
              <a:path w="1784" h="970">
                <a:moveTo>
                  <a:pt x="612" y="24"/>
                </a:moveTo>
                <a:lnTo>
                  <a:pt x="434" y="67"/>
                </a:lnTo>
                <a:lnTo>
                  <a:pt x="288" y="122"/>
                </a:lnTo>
                <a:lnTo>
                  <a:pt x="172" y="188"/>
                </a:lnTo>
                <a:lnTo>
                  <a:pt x="88" y="262"/>
                </a:lnTo>
                <a:lnTo>
                  <a:pt x="30" y="343"/>
                </a:lnTo>
                <a:lnTo>
                  <a:pt x="2" y="426"/>
                </a:lnTo>
                <a:lnTo>
                  <a:pt x="0" y="512"/>
                </a:lnTo>
                <a:lnTo>
                  <a:pt x="24" y="595"/>
                </a:lnTo>
                <a:lnTo>
                  <a:pt x="72" y="677"/>
                </a:lnTo>
                <a:lnTo>
                  <a:pt x="145" y="753"/>
                </a:lnTo>
                <a:lnTo>
                  <a:pt x="240" y="822"/>
                </a:lnTo>
                <a:lnTo>
                  <a:pt x="357" y="879"/>
                </a:lnTo>
                <a:lnTo>
                  <a:pt x="494" y="925"/>
                </a:lnTo>
                <a:lnTo>
                  <a:pt x="652" y="955"/>
                </a:lnTo>
                <a:lnTo>
                  <a:pt x="828" y="969"/>
                </a:lnTo>
                <a:lnTo>
                  <a:pt x="1022" y="963"/>
                </a:lnTo>
                <a:lnTo>
                  <a:pt x="1210" y="939"/>
                </a:lnTo>
                <a:lnTo>
                  <a:pt x="1371" y="899"/>
                </a:lnTo>
                <a:lnTo>
                  <a:pt x="1505" y="845"/>
                </a:lnTo>
                <a:lnTo>
                  <a:pt x="1613" y="780"/>
                </a:lnTo>
                <a:lnTo>
                  <a:pt x="1694" y="707"/>
                </a:lnTo>
                <a:lnTo>
                  <a:pt x="1749" y="627"/>
                </a:lnTo>
                <a:lnTo>
                  <a:pt x="1778" y="543"/>
                </a:lnTo>
                <a:lnTo>
                  <a:pt x="1783" y="457"/>
                </a:lnTo>
                <a:lnTo>
                  <a:pt x="1760" y="373"/>
                </a:lnTo>
                <a:lnTo>
                  <a:pt x="1714" y="291"/>
                </a:lnTo>
                <a:lnTo>
                  <a:pt x="1642" y="216"/>
                </a:lnTo>
                <a:lnTo>
                  <a:pt x="1546" y="147"/>
                </a:lnTo>
                <a:lnTo>
                  <a:pt x="1425" y="90"/>
                </a:lnTo>
                <a:lnTo>
                  <a:pt x="1280" y="44"/>
                </a:lnTo>
                <a:lnTo>
                  <a:pt x="1111" y="14"/>
                </a:lnTo>
                <a:lnTo>
                  <a:pt x="919" y="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281480" y="4809960"/>
            <a:ext cx="4240080" cy="241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1680">
            <a:solidFill>
              <a:srgbClr val="2f2f2f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2f2f2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2f2f2f"/>
                </a:solidFill>
                <a:latin typeface="Times New Roman"/>
              </a:rPr>
              <a:t>Este término hace toda la diferen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2f2f2f"/>
                </a:solidFill>
                <a:latin typeface="Times New Roman"/>
              </a:rPr>
              <a:t>Negativo si la persona es un demandante neto del bi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2f2f2f"/>
                </a:solidFill>
                <a:latin typeface="Times New Roman"/>
              </a:rPr>
              <a:t>Positivo si es un oferente ne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858960" y="2142720"/>
            <a:ext cx="4643280" cy="4327560"/>
          </a:xfrm>
          <a:prstGeom prst="rect">
            <a:avLst/>
          </a:prstGeom>
          <a:solidFill>
            <a:srgbClr val="ffff99"/>
          </a:solidFill>
          <a:ln w="127080">
            <a:solidFill>
              <a:srgbClr val="808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txBody>
          <a:bodyPr lIns="0" rIns="0" tIns="0" bIns="0" anchor="t">
            <a:normAutofit/>
          </a:bodyPr>
          <a:p>
            <a:pPr marL="536400" indent="-536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Agricultura de sub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536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Aho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536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Oferta lab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536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6040" y="79524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lgunos ejempl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5956200" y="2257920"/>
            <a:ext cx="3846600" cy="4808520"/>
          </a:xfrm>
          <a:custGeom>
            <a:avLst/>
            <a:gdLst>
              <a:gd name="textAreaLeft" fmla="*/ 70200 w 3846600"/>
              <a:gd name="textAreaRight" fmla="*/ 3776400 w 3846600"/>
              <a:gd name="textAreaTop" fmla="*/ 70200 h 4808520"/>
              <a:gd name="textAreaBottom" fmla="*/ 4738320 h 4808520"/>
            </a:gdLst>
            <a:ahLst/>
            <a:rect l="textAreaLeft" t="textAreaTop" r="textAreaRight" b="textAreaBottom"/>
            <a:pathLst>
              <a:path w="21600" h="27001">
                <a:moveTo>
                  <a:pt x="1349" y="0"/>
                </a:moveTo>
                <a:arcTo wR="1349" hR="1349" stAng="16200000" swAng="-5400000"/>
                <a:lnTo>
                  <a:pt x="0" y="25652"/>
                </a:lnTo>
                <a:arcTo wR="1349" hR="1349" stAng="10800000" swAng="-5400000"/>
                <a:lnTo>
                  <a:pt x="20251" y="27001"/>
                </a:lnTo>
                <a:arcTo wR="1349" hR="1349" stAng="5400000" swAng="-5400000"/>
                <a:lnTo>
                  <a:pt x="21600" y="1349"/>
                </a:lnTo>
                <a:arcTo wR="1349" hR="1349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1680">
            <a:solidFill>
              <a:srgbClr val="c0c0c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14880" y="2733840"/>
            <a:ext cx="40752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Brush738 BT"/>
              </a:rPr>
              <a:t>Es importante identificar los componentes del model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Brush738 BT"/>
              </a:rPr>
              <a:t>...de modo de ver como las cuestiones claves deben ser enfoc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761760" y="228600"/>
            <a:ext cx="90853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gricultura de subsistenci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2438280"/>
            <a:ext cx="2438640" cy="5105520"/>
          </a:xfrm>
          <a:custGeom>
            <a:avLst/>
            <a:gdLst/>
            <a:ahLst/>
            <a:rect l="l" t="t" r="r" b="b"/>
            <a:pathLst>
              <a:path w="1007" h="2135">
                <a:moveTo>
                  <a:pt x="0" y="0"/>
                </a:moveTo>
                <a:lnTo>
                  <a:pt x="0" y="2134"/>
                </a:lnTo>
                <a:lnTo>
                  <a:pt x="1006" y="212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1523880" y="1366920"/>
            <a:ext cx="0" cy="6186240"/>
          </a:xfrm>
          <a:prstGeom prst="line">
            <a:avLst/>
          </a:prstGeom>
          <a:ln w="442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523880" y="7553160"/>
            <a:ext cx="6747120" cy="0"/>
          </a:xfrm>
          <a:prstGeom prst="line">
            <a:avLst/>
          </a:prstGeom>
          <a:ln w="442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433600" y="1487520"/>
            <a:ext cx="4292640" cy="4716360"/>
          </a:xfrm>
          <a:custGeom>
            <a:avLst/>
            <a:gdLst/>
            <a:ahLst/>
            <a:rect l="l" t="t" r="r" b="b"/>
            <a:pathLst>
              <a:path w="1731" h="1962">
                <a:moveTo>
                  <a:pt x="0" y="0"/>
                </a:moveTo>
                <a:lnTo>
                  <a:pt x="0" y="16"/>
                </a:lnTo>
                <a:lnTo>
                  <a:pt x="1" y="30"/>
                </a:lnTo>
                <a:lnTo>
                  <a:pt x="1" y="40"/>
                </a:lnTo>
                <a:lnTo>
                  <a:pt x="3" y="48"/>
                </a:lnTo>
                <a:lnTo>
                  <a:pt x="3" y="55"/>
                </a:lnTo>
                <a:lnTo>
                  <a:pt x="4" y="59"/>
                </a:lnTo>
                <a:lnTo>
                  <a:pt x="4" y="62"/>
                </a:lnTo>
                <a:lnTo>
                  <a:pt x="6" y="64"/>
                </a:lnTo>
                <a:lnTo>
                  <a:pt x="6" y="66"/>
                </a:lnTo>
                <a:lnTo>
                  <a:pt x="6" y="68"/>
                </a:lnTo>
                <a:lnTo>
                  <a:pt x="6" y="70"/>
                </a:lnTo>
                <a:lnTo>
                  <a:pt x="6" y="72"/>
                </a:lnTo>
                <a:lnTo>
                  <a:pt x="6" y="76"/>
                </a:lnTo>
                <a:lnTo>
                  <a:pt x="7" y="80"/>
                </a:lnTo>
                <a:lnTo>
                  <a:pt x="7" y="86"/>
                </a:lnTo>
                <a:lnTo>
                  <a:pt x="9" y="93"/>
                </a:lnTo>
                <a:lnTo>
                  <a:pt x="10" y="104"/>
                </a:lnTo>
                <a:lnTo>
                  <a:pt x="11" y="117"/>
                </a:lnTo>
                <a:lnTo>
                  <a:pt x="13" y="133"/>
                </a:lnTo>
                <a:lnTo>
                  <a:pt x="16" y="149"/>
                </a:lnTo>
                <a:lnTo>
                  <a:pt x="20" y="169"/>
                </a:lnTo>
                <a:lnTo>
                  <a:pt x="23" y="190"/>
                </a:lnTo>
                <a:lnTo>
                  <a:pt x="27" y="212"/>
                </a:lnTo>
                <a:lnTo>
                  <a:pt x="32" y="234"/>
                </a:lnTo>
                <a:lnTo>
                  <a:pt x="36" y="260"/>
                </a:lnTo>
                <a:lnTo>
                  <a:pt x="41" y="284"/>
                </a:lnTo>
                <a:lnTo>
                  <a:pt x="46" y="310"/>
                </a:lnTo>
                <a:lnTo>
                  <a:pt x="52" y="335"/>
                </a:lnTo>
                <a:lnTo>
                  <a:pt x="56" y="361"/>
                </a:lnTo>
                <a:lnTo>
                  <a:pt x="62" y="386"/>
                </a:lnTo>
                <a:lnTo>
                  <a:pt x="68" y="410"/>
                </a:lnTo>
                <a:lnTo>
                  <a:pt x="73" y="433"/>
                </a:lnTo>
                <a:lnTo>
                  <a:pt x="78" y="458"/>
                </a:lnTo>
                <a:lnTo>
                  <a:pt x="84" y="483"/>
                </a:lnTo>
                <a:lnTo>
                  <a:pt x="89" y="510"/>
                </a:lnTo>
                <a:lnTo>
                  <a:pt x="97" y="535"/>
                </a:lnTo>
                <a:lnTo>
                  <a:pt x="103" y="563"/>
                </a:lnTo>
                <a:lnTo>
                  <a:pt x="110" y="589"/>
                </a:lnTo>
                <a:lnTo>
                  <a:pt x="118" y="616"/>
                </a:lnTo>
                <a:lnTo>
                  <a:pt x="126" y="641"/>
                </a:lnTo>
                <a:lnTo>
                  <a:pt x="132" y="667"/>
                </a:lnTo>
                <a:lnTo>
                  <a:pt x="139" y="692"/>
                </a:lnTo>
                <a:lnTo>
                  <a:pt x="146" y="716"/>
                </a:lnTo>
                <a:lnTo>
                  <a:pt x="154" y="737"/>
                </a:lnTo>
                <a:lnTo>
                  <a:pt x="159" y="758"/>
                </a:lnTo>
                <a:lnTo>
                  <a:pt x="166" y="775"/>
                </a:lnTo>
                <a:lnTo>
                  <a:pt x="172" y="792"/>
                </a:lnTo>
                <a:lnTo>
                  <a:pt x="177" y="804"/>
                </a:lnTo>
                <a:lnTo>
                  <a:pt x="181" y="817"/>
                </a:lnTo>
                <a:lnTo>
                  <a:pt x="187" y="831"/>
                </a:lnTo>
                <a:lnTo>
                  <a:pt x="193" y="847"/>
                </a:lnTo>
                <a:lnTo>
                  <a:pt x="200" y="863"/>
                </a:lnTo>
                <a:lnTo>
                  <a:pt x="207" y="882"/>
                </a:lnTo>
                <a:lnTo>
                  <a:pt x="215" y="900"/>
                </a:lnTo>
                <a:lnTo>
                  <a:pt x="223" y="920"/>
                </a:lnTo>
                <a:lnTo>
                  <a:pt x="232" y="939"/>
                </a:lnTo>
                <a:lnTo>
                  <a:pt x="240" y="960"/>
                </a:lnTo>
                <a:lnTo>
                  <a:pt x="248" y="980"/>
                </a:lnTo>
                <a:lnTo>
                  <a:pt x="256" y="1001"/>
                </a:lnTo>
                <a:lnTo>
                  <a:pt x="265" y="1019"/>
                </a:lnTo>
                <a:lnTo>
                  <a:pt x="273" y="1039"/>
                </a:lnTo>
                <a:lnTo>
                  <a:pt x="281" y="1057"/>
                </a:lnTo>
                <a:lnTo>
                  <a:pt x="288" y="1074"/>
                </a:lnTo>
                <a:lnTo>
                  <a:pt x="296" y="1089"/>
                </a:lnTo>
                <a:lnTo>
                  <a:pt x="302" y="1106"/>
                </a:lnTo>
                <a:lnTo>
                  <a:pt x="309" y="1123"/>
                </a:lnTo>
                <a:lnTo>
                  <a:pt x="316" y="1141"/>
                </a:lnTo>
                <a:lnTo>
                  <a:pt x="324" y="1158"/>
                </a:lnTo>
                <a:lnTo>
                  <a:pt x="332" y="1177"/>
                </a:lnTo>
                <a:lnTo>
                  <a:pt x="341" y="1196"/>
                </a:lnTo>
                <a:lnTo>
                  <a:pt x="349" y="1215"/>
                </a:lnTo>
                <a:lnTo>
                  <a:pt x="358" y="1233"/>
                </a:lnTo>
                <a:lnTo>
                  <a:pt x="366" y="1252"/>
                </a:lnTo>
                <a:lnTo>
                  <a:pt x="374" y="1270"/>
                </a:lnTo>
                <a:lnTo>
                  <a:pt x="381" y="1288"/>
                </a:lnTo>
                <a:lnTo>
                  <a:pt x="390" y="1304"/>
                </a:lnTo>
                <a:lnTo>
                  <a:pt x="396" y="1320"/>
                </a:lnTo>
                <a:lnTo>
                  <a:pt x="403" y="1333"/>
                </a:lnTo>
                <a:lnTo>
                  <a:pt x="409" y="1345"/>
                </a:lnTo>
                <a:lnTo>
                  <a:pt x="414" y="1355"/>
                </a:lnTo>
                <a:lnTo>
                  <a:pt x="420" y="1366"/>
                </a:lnTo>
                <a:lnTo>
                  <a:pt x="425" y="1378"/>
                </a:lnTo>
                <a:lnTo>
                  <a:pt x="432" y="1390"/>
                </a:lnTo>
                <a:lnTo>
                  <a:pt x="439" y="1402"/>
                </a:lnTo>
                <a:lnTo>
                  <a:pt x="447" y="1418"/>
                </a:lnTo>
                <a:lnTo>
                  <a:pt x="456" y="1431"/>
                </a:lnTo>
                <a:lnTo>
                  <a:pt x="465" y="1446"/>
                </a:lnTo>
                <a:lnTo>
                  <a:pt x="474" y="1459"/>
                </a:lnTo>
                <a:lnTo>
                  <a:pt x="484" y="1474"/>
                </a:lnTo>
                <a:lnTo>
                  <a:pt x="493" y="1488"/>
                </a:lnTo>
                <a:lnTo>
                  <a:pt x="502" y="1503"/>
                </a:lnTo>
                <a:lnTo>
                  <a:pt x="512" y="1516"/>
                </a:lnTo>
                <a:lnTo>
                  <a:pt x="522" y="1529"/>
                </a:lnTo>
                <a:lnTo>
                  <a:pt x="531" y="1542"/>
                </a:lnTo>
                <a:lnTo>
                  <a:pt x="539" y="1553"/>
                </a:lnTo>
                <a:lnTo>
                  <a:pt x="548" y="1562"/>
                </a:lnTo>
                <a:lnTo>
                  <a:pt x="556" y="1574"/>
                </a:lnTo>
                <a:lnTo>
                  <a:pt x="566" y="1584"/>
                </a:lnTo>
                <a:lnTo>
                  <a:pt x="575" y="1595"/>
                </a:lnTo>
                <a:lnTo>
                  <a:pt x="586" y="1606"/>
                </a:lnTo>
                <a:lnTo>
                  <a:pt x="597" y="1620"/>
                </a:lnTo>
                <a:lnTo>
                  <a:pt x="608" y="1631"/>
                </a:lnTo>
                <a:lnTo>
                  <a:pt x="619" y="1643"/>
                </a:lnTo>
                <a:lnTo>
                  <a:pt x="632" y="1654"/>
                </a:lnTo>
                <a:lnTo>
                  <a:pt x="643" y="1666"/>
                </a:lnTo>
                <a:lnTo>
                  <a:pt x="654" y="1677"/>
                </a:lnTo>
                <a:lnTo>
                  <a:pt x="665" y="1688"/>
                </a:lnTo>
                <a:lnTo>
                  <a:pt x="677" y="1698"/>
                </a:lnTo>
                <a:lnTo>
                  <a:pt x="687" y="1708"/>
                </a:lnTo>
                <a:lnTo>
                  <a:pt x="698" y="1716"/>
                </a:lnTo>
                <a:lnTo>
                  <a:pt x="707" y="1724"/>
                </a:lnTo>
                <a:lnTo>
                  <a:pt x="716" y="1730"/>
                </a:lnTo>
                <a:lnTo>
                  <a:pt x="724" y="1738"/>
                </a:lnTo>
                <a:lnTo>
                  <a:pt x="732" y="1743"/>
                </a:lnTo>
                <a:lnTo>
                  <a:pt x="740" y="1750"/>
                </a:lnTo>
                <a:lnTo>
                  <a:pt x="749" y="1756"/>
                </a:lnTo>
                <a:lnTo>
                  <a:pt x="756" y="1763"/>
                </a:lnTo>
                <a:lnTo>
                  <a:pt x="766" y="1769"/>
                </a:lnTo>
                <a:lnTo>
                  <a:pt x="773" y="1774"/>
                </a:lnTo>
                <a:lnTo>
                  <a:pt x="782" y="1780"/>
                </a:lnTo>
                <a:lnTo>
                  <a:pt x="790" y="1786"/>
                </a:lnTo>
                <a:lnTo>
                  <a:pt x="798" y="1792"/>
                </a:lnTo>
                <a:lnTo>
                  <a:pt x="804" y="1798"/>
                </a:lnTo>
                <a:lnTo>
                  <a:pt x="811" y="1801"/>
                </a:lnTo>
                <a:lnTo>
                  <a:pt x="816" y="1806"/>
                </a:lnTo>
                <a:lnTo>
                  <a:pt x="822" y="1809"/>
                </a:lnTo>
                <a:lnTo>
                  <a:pt x="826" y="1812"/>
                </a:lnTo>
                <a:lnTo>
                  <a:pt x="830" y="1814"/>
                </a:lnTo>
                <a:lnTo>
                  <a:pt x="832" y="1817"/>
                </a:lnTo>
                <a:lnTo>
                  <a:pt x="836" y="1819"/>
                </a:lnTo>
                <a:lnTo>
                  <a:pt x="841" y="1822"/>
                </a:lnTo>
                <a:lnTo>
                  <a:pt x="846" y="1824"/>
                </a:lnTo>
                <a:lnTo>
                  <a:pt x="851" y="1828"/>
                </a:lnTo>
                <a:lnTo>
                  <a:pt x="857" y="1829"/>
                </a:lnTo>
                <a:lnTo>
                  <a:pt x="862" y="1833"/>
                </a:lnTo>
                <a:lnTo>
                  <a:pt x="870" y="1835"/>
                </a:lnTo>
                <a:lnTo>
                  <a:pt x="876" y="1839"/>
                </a:lnTo>
                <a:lnTo>
                  <a:pt x="883" y="1842"/>
                </a:lnTo>
                <a:lnTo>
                  <a:pt x="890" y="1846"/>
                </a:lnTo>
                <a:lnTo>
                  <a:pt x="897" y="1847"/>
                </a:lnTo>
                <a:lnTo>
                  <a:pt x="903" y="1851"/>
                </a:lnTo>
                <a:lnTo>
                  <a:pt x="910" y="1853"/>
                </a:lnTo>
                <a:lnTo>
                  <a:pt x="917" y="1856"/>
                </a:lnTo>
                <a:lnTo>
                  <a:pt x="924" y="1858"/>
                </a:lnTo>
                <a:lnTo>
                  <a:pt x="930" y="1862"/>
                </a:lnTo>
                <a:lnTo>
                  <a:pt x="937" y="1864"/>
                </a:lnTo>
                <a:lnTo>
                  <a:pt x="946" y="1868"/>
                </a:lnTo>
                <a:lnTo>
                  <a:pt x="955" y="1870"/>
                </a:lnTo>
                <a:lnTo>
                  <a:pt x="964" y="1874"/>
                </a:lnTo>
                <a:lnTo>
                  <a:pt x="975" y="1877"/>
                </a:lnTo>
                <a:lnTo>
                  <a:pt x="987" y="1881"/>
                </a:lnTo>
                <a:lnTo>
                  <a:pt x="998" y="1883"/>
                </a:lnTo>
                <a:lnTo>
                  <a:pt x="1010" y="1887"/>
                </a:lnTo>
                <a:lnTo>
                  <a:pt x="1021" y="1890"/>
                </a:lnTo>
                <a:lnTo>
                  <a:pt x="1032" y="1894"/>
                </a:lnTo>
                <a:lnTo>
                  <a:pt x="1044" y="1897"/>
                </a:lnTo>
                <a:lnTo>
                  <a:pt x="1055" y="1900"/>
                </a:lnTo>
                <a:lnTo>
                  <a:pt x="1066" y="1902"/>
                </a:lnTo>
                <a:lnTo>
                  <a:pt x="1076" y="1906"/>
                </a:lnTo>
                <a:lnTo>
                  <a:pt x="1087" y="1907"/>
                </a:lnTo>
                <a:lnTo>
                  <a:pt x="1096" y="1911"/>
                </a:lnTo>
                <a:lnTo>
                  <a:pt x="1106" y="1913"/>
                </a:lnTo>
                <a:lnTo>
                  <a:pt x="1118" y="1916"/>
                </a:lnTo>
                <a:lnTo>
                  <a:pt x="1130" y="1918"/>
                </a:lnTo>
                <a:lnTo>
                  <a:pt x="1141" y="1922"/>
                </a:lnTo>
                <a:lnTo>
                  <a:pt x="1154" y="1924"/>
                </a:lnTo>
                <a:lnTo>
                  <a:pt x="1168" y="1926"/>
                </a:lnTo>
                <a:lnTo>
                  <a:pt x="1181" y="1928"/>
                </a:lnTo>
                <a:lnTo>
                  <a:pt x="1192" y="1931"/>
                </a:lnTo>
                <a:lnTo>
                  <a:pt x="1206" y="1933"/>
                </a:lnTo>
                <a:lnTo>
                  <a:pt x="1218" y="1935"/>
                </a:lnTo>
                <a:lnTo>
                  <a:pt x="1231" y="1937"/>
                </a:lnTo>
                <a:lnTo>
                  <a:pt x="1241" y="1938"/>
                </a:lnTo>
                <a:lnTo>
                  <a:pt x="1252" y="1940"/>
                </a:lnTo>
                <a:lnTo>
                  <a:pt x="1261" y="1942"/>
                </a:lnTo>
                <a:lnTo>
                  <a:pt x="1270" y="1942"/>
                </a:lnTo>
                <a:lnTo>
                  <a:pt x="1278" y="1944"/>
                </a:lnTo>
                <a:lnTo>
                  <a:pt x="1287" y="1945"/>
                </a:lnTo>
                <a:lnTo>
                  <a:pt x="1298" y="1946"/>
                </a:lnTo>
                <a:lnTo>
                  <a:pt x="1309" y="1946"/>
                </a:lnTo>
                <a:lnTo>
                  <a:pt x="1320" y="1948"/>
                </a:lnTo>
                <a:lnTo>
                  <a:pt x="1334" y="1948"/>
                </a:lnTo>
                <a:lnTo>
                  <a:pt x="1347" y="1950"/>
                </a:lnTo>
                <a:lnTo>
                  <a:pt x="1360" y="1950"/>
                </a:lnTo>
                <a:lnTo>
                  <a:pt x="1373" y="1952"/>
                </a:lnTo>
                <a:lnTo>
                  <a:pt x="1386" y="1952"/>
                </a:lnTo>
                <a:lnTo>
                  <a:pt x="1399" y="1954"/>
                </a:lnTo>
                <a:lnTo>
                  <a:pt x="1412" y="1954"/>
                </a:lnTo>
                <a:lnTo>
                  <a:pt x="1424" y="1956"/>
                </a:lnTo>
                <a:lnTo>
                  <a:pt x="1436" y="1956"/>
                </a:lnTo>
                <a:lnTo>
                  <a:pt x="1447" y="1956"/>
                </a:lnTo>
                <a:lnTo>
                  <a:pt x="1458" y="1956"/>
                </a:lnTo>
                <a:lnTo>
                  <a:pt x="1468" y="1958"/>
                </a:lnTo>
                <a:lnTo>
                  <a:pt x="1479" y="1958"/>
                </a:lnTo>
                <a:lnTo>
                  <a:pt x="1490" y="1958"/>
                </a:lnTo>
                <a:lnTo>
                  <a:pt x="1503" y="1958"/>
                </a:lnTo>
                <a:lnTo>
                  <a:pt x="1515" y="1960"/>
                </a:lnTo>
                <a:lnTo>
                  <a:pt x="1528" y="1960"/>
                </a:lnTo>
                <a:lnTo>
                  <a:pt x="1541" y="1960"/>
                </a:lnTo>
                <a:lnTo>
                  <a:pt x="1555" y="1960"/>
                </a:lnTo>
                <a:lnTo>
                  <a:pt x="1568" y="1961"/>
                </a:lnTo>
                <a:lnTo>
                  <a:pt x="1581" y="1961"/>
                </a:lnTo>
                <a:lnTo>
                  <a:pt x="1592" y="1961"/>
                </a:lnTo>
                <a:lnTo>
                  <a:pt x="1606" y="1961"/>
                </a:lnTo>
                <a:lnTo>
                  <a:pt x="1616" y="1961"/>
                </a:lnTo>
                <a:lnTo>
                  <a:pt x="1628" y="1961"/>
                </a:lnTo>
                <a:lnTo>
                  <a:pt x="1637" y="1961"/>
                </a:lnTo>
                <a:lnTo>
                  <a:pt x="1646" y="1961"/>
                </a:lnTo>
                <a:lnTo>
                  <a:pt x="1652" y="1961"/>
                </a:lnTo>
                <a:lnTo>
                  <a:pt x="1658" y="1961"/>
                </a:lnTo>
                <a:lnTo>
                  <a:pt x="1660" y="1961"/>
                </a:lnTo>
                <a:lnTo>
                  <a:pt x="1664" y="1961"/>
                </a:lnTo>
                <a:lnTo>
                  <a:pt x="1666" y="1961"/>
                </a:lnTo>
                <a:lnTo>
                  <a:pt x="1668" y="1961"/>
                </a:lnTo>
                <a:lnTo>
                  <a:pt x="1670" y="1961"/>
                </a:lnTo>
                <a:lnTo>
                  <a:pt x="1672" y="1961"/>
                </a:lnTo>
                <a:lnTo>
                  <a:pt x="1674" y="1961"/>
                </a:lnTo>
                <a:lnTo>
                  <a:pt x="1677" y="1961"/>
                </a:lnTo>
                <a:lnTo>
                  <a:pt x="1680" y="1961"/>
                </a:lnTo>
                <a:lnTo>
                  <a:pt x="1687" y="1961"/>
                </a:lnTo>
                <a:lnTo>
                  <a:pt x="1694" y="1961"/>
                </a:lnTo>
                <a:lnTo>
                  <a:pt x="1704" y="1961"/>
                </a:lnTo>
                <a:lnTo>
                  <a:pt x="1716" y="1961"/>
                </a:lnTo>
                <a:lnTo>
                  <a:pt x="1730" y="1961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893960" y="1887480"/>
            <a:ext cx="4687920" cy="5168880"/>
          </a:xfrm>
          <a:custGeom>
            <a:avLst/>
            <a:gdLst/>
            <a:ahLst/>
            <a:rect l="l" t="t" r="r" b="b"/>
            <a:pathLst>
              <a:path w="1891" h="2150">
                <a:moveTo>
                  <a:pt x="0" y="0"/>
                </a:moveTo>
                <a:lnTo>
                  <a:pt x="1" y="18"/>
                </a:lnTo>
                <a:lnTo>
                  <a:pt x="3" y="32"/>
                </a:lnTo>
                <a:lnTo>
                  <a:pt x="3" y="45"/>
                </a:lnTo>
                <a:lnTo>
                  <a:pt x="5" y="53"/>
                </a:lnTo>
                <a:lnTo>
                  <a:pt x="5" y="60"/>
                </a:lnTo>
                <a:lnTo>
                  <a:pt x="5" y="65"/>
                </a:lnTo>
                <a:lnTo>
                  <a:pt x="5" y="69"/>
                </a:lnTo>
                <a:lnTo>
                  <a:pt x="7" y="71"/>
                </a:lnTo>
                <a:lnTo>
                  <a:pt x="7" y="74"/>
                </a:lnTo>
                <a:lnTo>
                  <a:pt x="7" y="76"/>
                </a:lnTo>
                <a:lnTo>
                  <a:pt x="7" y="78"/>
                </a:lnTo>
                <a:lnTo>
                  <a:pt x="8" y="80"/>
                </a:lnTo>
                <a:lnTo>
                  <a:pt x="8" y="84"/>
                </a:lnTo>
                <a:lnTo>
                  <a:pt x="8" y="88"/>
                </a:lnTo>
                <a:lnTo>
                  <a:pt x="9" y="95"/>
                </a:lnTo>
                <a:lnTo>
                  <a:pt x="11" y="103"/>
                </a:lnTo>
                <a:lnTo>
                  <a:pt x="12" y="114"/>
                </a:lnTo>
                <a:lnTo>
                  <a:pt x="14" y="129"/>
                </a:lnTo>
                <a:lnTo>
                  <a:pt x="16" y="146"/>
                </a:lnTo>
                <a:lnTo>
                  <a:pt x="20" y="164"/>
                </a:lnTo>
                <a:lnTo>
                  <a:pt x="23" y="186"/>
                </a:lnTo>
                <a:lnTo>
                  <a:pt x="26" y="208"/>
                </a:lnTo>
                <a:lnTo>
                  <a:pt x="31" y="232"/>
                </a:lnTo>
                <a:lnTo>
                  <a:pt x="36" y="258"/>
                </a:lnTo>
                <a:lnTo>
                  <a:pt x="41" y="285"/>
                </a:lnTo>
                <a:lnTo>
                  <a:pt x="46" y="312"/>
                </a:lnTo>
                <a:lnTo>
                  <a:pt x="52" y="340"/>
                </a:lnTo>
                <a:lnTo>
                  <a:pt x="58" y="368"/>
                </a:lnTo>
                <a:lnTo>
                  <a:pt x="63" y="396"/>
                </a:lnTo>
                <a:lnTo>
                  <a:pt x="69" y="423"/>
                </a:lnTo>
                <a:lnTo>
                  <a:pt x="74" y="450"/>
                </a:lnTo>
                <a:lnTo>
                  <a:pt x="81" y="475"/>
                </a:lnTo>
                <a:lnTo>
                  <a:pt x="86" y="502"/>
                </a:lnTo>
                <a:lnTo>
                  <a:pt x="93" y="529"/>
                </a:lnTo>
                <a:lnTo>
                  <a:pt x="100" y="558"/>
                </a:lnTo>
                <a:lnTo>
                  <a:pt x="107" y="586"/>
                </a:lnTo>
                <a:lnTo>
                  <a:pt x="114" y="616"/>
                </a:lnTo>
                <a:lnTo>
                  <a:pt x="122" y="646"/>
                </a:lnTo>
                <a:lnTo>
                  <a:pt x="130" y="675"/>
                </a:lnTo>
                <a:lnTo>
                  <a:pt x="138" y="703"/>
                </a:lnTo>
                <a:lnTo>
                  <a:pt x="146" y="732"/>
                </a:lnTo>
                <a:lnTo>
                  <a:pt x="153" y="758"/>
                </a:lnTo>
                <a:lnTo>
                  <a:pt x="161" y="785"/>
                </a:lnTo>
                <a:lnTo>
                  <a:pt x="169" y="808"/>
                </a:lnTo>
                <a:lnTo>
                  <a:pt x="175" y="830"/>
                </a:lnTo>
                <a:lnTo>
                  <a:pt x="182" y="850"/>
                </a:lnTo>
                <a:lnTo>
                  <a:pt x="188" y="867"/>
                </a:lnTo>
                <a:lnTo>
                  <a:pt x="194" y="880"/>
                </a:lnTo>
                <a:lnTo>
                  <a:pt x="199" y="894"/>
                </a:lnTo>
                <a:lnTo>
                  <a:pt x="205" y="910"/>
                </a:lnTo>
                <a:lnTo>
                  <a:pt x="212" y="928"/>
                </a:lnTo>
                <a:lnTo>
                  <a:pt x="220" y="945"/>
                </a:lnTo>
                <a:lnTo>
                  <a:pt x="228" y="966"/>
                </a:lnTo>
                <a:lnTo>
                  <a:pt x="236" y="986"/>
                </a:lnTo>
                <a:lnTo>
                  <a:pt x="246" y="1008"/>
                </a:lnTo>
                <a:lnTo>
                  <a:pt x="255" y="1029"/>
                </a:lnTo>
                <a:lnTo>
                  <a:pt x="263" y="1051"/>
                </a:lnTo>
                <a:lnTo>
                  <a:pt x="272" y="1074"/>
                </a:lnTo>
                <a:lnTo>
                  <a:pt x="282" y="1096"/>
                </a:lnTo>
                <a:lnTo>
                  <a:pt x="291" y="1117"/>
                </a:lnTo>
                <a:lnTo>
                  <a:pt x="298" y="1138"/>
                </a:lnTo>
                <a:lnTo>
                  <a:pt x="308" y="1158"/>
                </a:lnTo>
                <a:lnTo>
                  <a:pt x="316" y="1176"/>
                </a:lnTo>
                <a:lnTo>
                  <a:pt x="324" y="1194"/>
                </a:lnTo>
                <a:lnTo>
                  <a:pt x="331" y="1212"/>
                </a:lnTo>
                <a:lnTo>
                  <a:pt x="338" y="1230"/>
                </a:lnTo>
                <a:lnTo>
                  <a:pt x="347" y="1250"/>
                </a:lnTo>
                <a:lnTo>
                  <a:pt x="356" y="1269"/>
                </a:lnTo>
                <a:lnTo>
                  <a:pt x="365" y="1290"/>
                </a:lnTo>
                <a:lnTo>
                  <a:pt x="374" y="1310"/>
                </a:lnTo>
                <a:lnTo>
                  <a:pt x="384" y="1331"/>
                </a:lnTo>
                <a:lnTo>
                  <a:pt x="393" y="1351"/>
                </a:lnTo>
                <a:lnTo>
                  <a:pt x="400" y="1372"/>
                </a:lnTo>
                <a:lnTo>
                  <a:pt x="410" y="1392"/>
                </a:lnTo>
                <a:lnTo>
                  <a:pt x="418" y="1411"/>
                </a:lnTo>
                <a:lnTo>
                  <a:pt x="427" y="1429"/>
                </a:lnTo>
                <a:lnTo>
                  <a:pt x="434" y="1446"/>
                </a:lnTo>
                <a:lnTo>
                  <a:pt x="442" y="1460"/>
                </a:lnTo>
                <a:lnTo>
                  <a:pt x="447" y="1474"/>
                </a:lnTo>
                <a:lnTo>
                  <a:pt x="454" y="1485"/>
                </a:lnTo>
                <a:lnTo>
                  <a:pt x="459" y="1497"/>
                </a:lnTo>
                <a:lnTo>
                  <a:pt x="465" y="1509"/>
                </a:lnTo>
                <a:lnTo>
                  <a:pt x="472" y="1524"/>
                </a:lnTo>
                <a:lnTo>
                  <a:pt x="481" y="1537"/>
                </a:lnTo>
                <a:lnTo>
                  <a:pt x="490" y="1553"/>
                </a:lnTo>
                <a:lnTo>
                  <a:pt x="499" y="1568"/>
                </a:lnTo>
                <a:lnTo>
                  <a:pt x="508" y="1584"/>
                </a:lnTo>
                <a:lnTo>
                  <a:pt x="520" y="1599"/>
                </a:lnTo>
                <a:lnTo>
                  <a:pt x="529" y="1616"/>
                </a:lnTo>
                <a:lnTo>
                  <a:pt x="540" y="1631"/>
                </a:lnTo>
                <a:lnTo>
                  <a:pt x="550" y="1646"/>
                </a:lnTo>
                <a:lnTo>
                  <a:pt x="561" y="1662"/>
                </a:lnTo>
                <a:lnTo>
                  <a:pt x="571" y="1676"/>
                </a:lnTo>
                <a:lnTo>
                  <a:pt x="581" y="1690"/>
                </a:lnTo>
                <a:lnTo>
                  <a:pt x="590" y="1701"/>
                </a:lnTo>
                <a:lnTo>
                  <a:pt x="600" y="1712"/>
                </a:lnTo>
                <a:lnTo>
                  <a:pt x="609" y="1724"/>
                </a:lnTo>
                <a:lnTo>
                  <a:pt x="618" y="1736"/>
                </a:lnTo>
                <a:lnTo>
                  <a:pt x="629" y="1749"/>
                </a:lnTo>
                <a:lnTo>
                  <a:pt x="640" y="1761"/>
                </a:lnTo>
                <a:lnTo>
                  <a:pt x="652" y="1774"/>
                </a:lnTo>
                <a:lnTo>
                  <a:pt x="665" y="1787"/>
                </a:lnTo>
                <a:lnTo>
                  <a:pt x="678" y="1800"/>
                </a:lnTo>
                <a:lnTo>
                  <a:pt x="691" y="1812"/>
                </a:lnTo>
                <a:lnTo>
                  <a:pt x="702" y="1826"/>
                </a:lnTo>
                <a:lnTo>
                  <a:pt x="716" y="1839"/>
                </a:lnTo>
                <a:lnTo>
                  <a:pt x="727" y="1850"/>
                </a:lnTo>
                <a:lnTo>
                  <a:pt x="740" y="1861"/>
                </a:lnTo>
                <a:lnTo>
                  <a:pt x="752" y="1872"/>
                </a:lnTo>
                <a:lnTo>
                  <a:pt x="763" y="1881"/>
                </a:lnTo>
                <a:lnTo>
                  <a:pt x="772" y="1889"/>
                </a:lnTo>
                <a:lnTo>
                  <a:pt x="783" y="1896"/>
                </a:lnTo>
                <a:lnTo>
                  <a:pt x="790" y="1904"/>
                </a:lnTo>
                <a:lnTo>
                  <a:pt x="800" y="1910"/>
                </a:lnTo>
                <a:lnTo>
                  <a:pt x="809" y="1918"/>
                </a:lnTo>
                <a:lnTo>
                  <a:pt x="818" y="1924"/>
                </a:lnTo>
                <a:lnTo>
                  <a:pt x="827" y="1931"/>
                </a:lnTo>
                <a:lnTo>
                  <a:pt x="836" y="1938"/>
                </a:lnTo>
                <a:lnTo>
                  <a:pt x="846" y="1945"/>
                </a:lnTo>
                <a:lnTo>
                  <a:pt x="855" y="1951"/>
                </a:lnTo>
                <a:lnTo>
                  <a:pt x="863" y="1958"/>
                </a:lnTo>
                <a:lnTo>
                  <a:pt x="872" y="1964"/>
                </a:lnTo>
                <a:lnTo>
                  <a:pt x="879" y="1970"/>
                </a:lnTo>
                <a:lnTo>
                  <a:pt x="886" y="1974"/>
                </a:lnTo>
                <a:lnTo>
                  <a:pt x="892" y="1979"/>
                </a:lnTo>
                <a:lnTo>
                  <a:pt x="898" y="1983"/>
                </a:lnTo>
                <a:lnTo>
                  <a:pt x="902" y="1986"/>
                </a:lnTo>
                <a:lnTo>
                  <a:pt x="907" y="1988"/>
                </a:lnTo>
                <a:lnTo>
                  <a:pt x="910" y="1991"/>
                </a:lnTo>
                <a:lnTo>
                  <a:pt x="914" y="1993"/>
                </a:lnTo>
                <a:lnTo>
                  <a:pt x="919" y="1996"/>
                </a:lnTo>
                <a:lnTo>
                  <a:pt x="924" y="1998"/>
                </a:lnTo>
                <a:lnTo>
                  <a:pt x="930" y="2002"/>
                </a:lnTo>
                <a:lnTo>
                  <a:pt x="936" y="2005"/>
                </a:lnTo>
                <a:lnTo>
                  <a:pt x="944" y="2009"/>
                </a:lnTo>
                <a:lnTo>
                  <a:pt x="951" y="2011"/>
                </a:lnTo>
                <a:lnTo>
                  <a:pt x="958" y="2014"/>
                </a:lnTo>
                <a:lnTo>
                  <a:pt x="966" y="2018"/>
                </a:lnTo>
                <a:lnTo>
                  <a:pt x="973" y="2022"/>
                </a:lnTo>
                <a:lnTo>
                  <a:pt x="981" y="2025"/>
                </a:lnTo>
                <a:lnTo>
                  <a:pt x="988" y="2029"/>
                </a:lnTo>
                <a:lnTo>
                  <a:pt x="996" y="2032"/>
                </a:lnTo>
                <a:lnTo>
                  <a:pt x="1002" y="2034"/>
                </a:lnTo>
                <a:lnTo>
                  <a:pt x="1010" y="2036"/>
                </a:lnTo>
                <a:lnTo>
                  <a:pt x="1017" y="2040"/>
                </a:lnTo>
                <a:lnTo>
                  <a:pt x="1025" y="2043"/>
                </a:lnTo>
                <a:lnTo>
                  <a:pt x="1034" y="2047"/>
                </a:lnTo>
                <a:lnTo>
                  <a:pt x="1044" y="2049"/>
                </a:lnTo>
                <a:lnTo>
                  <a:pt x="1055" y="2053"/>
                </a:lnTo>
                <a:lnTo>
                  <a:pt x="1066" y="2056"/>
                </a:lnTo>
                <a:lnTo>
                  <a:pt x="1078" y="2060"/>
                </a:lnTo>
                <a:lnTo>
                  <a:pt x="1091" y="2063"/>
                </a:lnTo>
                <a:lnTo>
                  <a:pt x="1103" y="2067"/>
                </a:lnTo>
                <a:lnTo>
                  <a:pt x="1116" y="2071"/>
                </a:lnTo>
                <a:lnTo>
                  <a:pt x="1128" y="2074"/>
                </a:lnTo>
                <a:lnTo>
                  <a:pt x="1142" y="2078"/>
                </a:lnTo>
                <a:lnTo>
                  <a:pt x="1153" y="2082"/>
                </a:lnTo>
                <a:lnTo>
                  <a:pt x="1165" y="2085"/>
                </a:lnTo>
                <a:lnTo>
                  <a:pt x="1176" y="2088"/>
                </a:lnTo>
                <a:lnTo>
                  <a:pt x="1188" y="2090"/>
                </a:lnTo>
                <a:lnTo>
                  <a:pt x="1198" y="2094"/>
                </a:lnTo>
                <a:lnTo>
                  <a:pt x="1209" y="2096"/>
                </a:lnTo>
                <a:lnTo>
                  <a:pt x="1222" y="2100"/>
                </a:lnTo>
                <a:lnTo>
                  <a:pt x="1234" y="2101"/>
                </a:lnTo>
                <a:lnTo>
                  <a:pt x="1248" y="2105"/>
                </a:lnTo>
                <a:lnTo>
                  <a:pt x="1262" y="2107"/>
                </a:lnTo>
                <a:lnTo>
                  <a:pt x="1275" y="2110"/>
                </a:lnTo>
                <a:lnTo>
                  <a:pt x="1290" y="2112"/>
                </a:lnTo>
                <a:lnTo>
                  <a:pt x="1303" y="2116"/>
                </a:lnTo>
                <a:lnTo>
                  <a:pt x="1318" y="2118"/>
                </a:lnTo>
                <a:lnTo>
                  <a:pt x="1331" y="2120"/>
                </a:lnTo>
                <a:lnTo>
                  <a:pt x="1344" y="2122"/>
                </a:lnTo>
                <a:lnTo>
                  <a:pt x="1356" y="2124"/>
                </a:lnTo>
                <a:lnTo>
                  <a:pt x="1368" y="2126"/>
                </a:lnTo>
                <a:lnTo>
                  <a:pt x="1378" y="2128"/>
                </a:lnTo>
                <a:lnTo>
                  <a:pt x="1388" y="2128"/>
                </a:lnTo>
                <a:lnTo>
                  <a:pt x="1397" y="2130"/>
                </a:lnTo>
                <a:lnTo>
                  <a:pt x="1407" y="2131"/>
                </a:lnTo>
                <a:lnTo>
                  <a:pt x="1418" y="2133"/>
                </a:lnTo>
                <a:lnTo>
                  <a:pt x="1431" y="2133"/>
                </a:lnTo>
                <a:lnTo>
                  <a:pt x="1444" y="2135"/>
                </a:lnTo>
                <a:lnTo>
                  <a:pt x="1457" y="2136"/>
                </a:lnTo>
                <a:lnTo>
                  <a:pt x="1471" y="2138"/>
                </a:lnTo>
                <a:lnTo>
                  <a:pt x="1486" y="2138"/>
                </a:lnTo>
                <a:lnTo>
                  <a:pt x="1499" y="2139"/>
                </a:lnTo>
                <a:lnTo>
                  <a:pt x="1514" y="2139"/>
                </a:lnTo>
                <a:lnTo>
                  <a:pt x="1528" y="2141"/>
                </a:lnTo>
                <a:lnTo>
                  <a:pt x="1543" y="2141"/>
                </a:lnTo>
                <a:lnTo>
                  <a:pt x="1556" y="2143"/>
                </a:lnTo>
                <a:lnTo>
                  <a:pt x="1569" y="2143"/>
                </a:lnTo>
                <a:lnTo>
                  <a:pt x="1581" y="2144"/>
                </a:lnTo>
                <a:lnTo>
                  <a:pt x="1593" y="2144"/>
                </a:lnTo>
                <a:lnTo>
                  <a:pt x="1604" y="2146"/>
                </a:lnTo>
                <a:lnTo>
                  <a:pt x="1616" y="2146"/>
                </a:lnTo>
                <a:lnTo>
                  <a:pt x="1628" y="2146"/>
                </a:lnTo>
                <a:lnTo>
                  <a:pt x="1642" y="2146"/>
                </a:lnTo>
                <a:lnTo>
                  <a:pt x="1655" y="2148"/>
                </a:lnTo>
                <a:lnTo>
                  <a:pt x="1670" y="2148"/>
                </a:lnTo>
                <a:lnTo>
                  <a:pt x="1684" y="2148"/>
                </a:lnTo>
                <a:lnTo>
                  <a:pt x="1700" y="2148"/>
                </a:lnTo>
                <a:lnTo>
                  <a:pt x="1712" y="2149"/>
                </a:lnTo>
                <a:lnTo>
                  <a:pt x="1728" y="2149"/>
                </a:lnTo>
                <a:lnTo>
                  <a:pt x="1741" y="2149"/>
                </a:lnTo>
                <a:lnTo>
                  <a:pt x="1754" y="2149"/>
                </a:lnTo>
                <a:lnTo>
                  <a:pt x="1766" y="2149"/>
                </a:lnTo>
                <a:lnTo>
                  <a:pt x="1778" y="2149"/>
                </a:lnTo>
                <a:lnTo>
                  <a:pt x="1788" y="2149"/>
                </a:lnTo>
                <a:lnTo>
                  <a:pt x="1799" y="2149"/>
                </a:lnTo>
                <a:lnTo>
                  <a:pt x="1806" y="2149"/>
                </a:lnTo>
                <a:lnTo>
                  <a:pt x="1811" y="2149"/>
                </a:lnTo>
                <a:lnTo>
                  <a:pt x="1815" y="2149"/>
                </a:lnTo>
                <a:lnTo>
                  <a:pt x="1819" y="2149"/>
                </a:lnTo>
                <a:lnTo>
                  <a:pt x="1820" y="2149"/>
                </a:lnTo>
                <a:lnTo>
                  <a:pt x="1822" y="2149"/>
                </a:lnTo>
                <a:lnTo>
                  <a:pt x="1824" y="2149"/>
                </a:lnTo>
                <a:lnTo>
                  <a:pt x="1827" y="2149"/>
                </a:lnTo>
                <a:lnTo>
                  <a:pt x="1829" y="2149"/>
                </a:lnTo>
                <a:lnTo>
                  <a:pt x="1832" y="2149"/>
                </a:lnTo>
                <a:lnTo>
                  <a:pt x="1836" y="2149"/>
                </a:lnTo>
                <a:lnTo>
                  <a:pt x="1843" y="2149"/>
                </a:lnTo>
                <a:lnTo>
                  <a:pt x="1850" y="2149"/>
                </a:lnTo>
                <a:lnTo>
                  <a:pt x="1861" y="2149"/>
                </a:lnTo>
                <a:lnTo>
                  <a:pt x="1874" y="2149"/>
                </a:lnTo>
                <a:lnTo>
                  <a:pt x="1890" y="2149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17960" y="1295280"/>
            <a:ext cx="3757680" cy="4125960"/>
          </a:xfrm>
          <a:custGeom>
            <a:avLst/>
            <a:gdLst/>
            <a:ahLst/>
            <a:rect l="l" t="t" r="r" b="b"/>
            <a:pathLst>
              <a:path w="1515" h="1716">
                <a:moveTo>
                  <a:pt x="0" y="0"/>
                </a:moveTo>
                <a:lnTo>
                  <a:pt x="0" y="15"/>
                </a:lnTo>
                <a:lnTo>
                  <a:pt x="2" y="26"/>
                </a:lnTo>
                <a:lnTo>
                  <a:pt x="2" y="36"/>
                </a:lnTo>
                <a:lnTo>
                  <a:pt x="4" y="42"/>
                </a:lnTo>
                <a:lnTo>
                  <a:pt x="4" y="48"/>
                </a:lnTo>
                <a:lnTo>
                  <a:pt x="4" y="52"/>
                </a:lnTo>
                <a:lnTo>
                  <a:pt x="4" y="55"/>
                </a:lnTo>
                <a:lnTo>
                  <a:pt x="6" y="57"/>
                </a:lnTo>
                <a:lnTo>
                  <a:pt x="6" y="58"/>
                </a:lnTo>
                <a:lnTo>
                  <a:pt x="6" y="60"/>
                </a:lnTo>
                <a:lnTo>
                  <a:pt x="6" y="62"/>
                </a:lnTo>
                <a:lnTo>
                  <a:pt x="6" y="64"/>
                </a:lnTo>
                <a:lnTo>
                  <a:pt x="6" y="68"/>
                </a:lnTo>
                <a:lnTo>
                  <a:pt x="7" y="71"/>
                </a:lnTo>
                <a:lnTo>
                  <a:pt x="7" y="76"/>
                </a:lnTo>
                <a:lnTo>
                  <a:pt x="9" y="82"/>
                </a:lnTo>
                <a:lnTo>
                  <a:pt x="9" y="92"/>
                </a:lnTo>
                <a:lnTo>
                  <a:pt x="10" y="104"/>
                </a:lnTo>
                <a:lnTo>
                  <a:pt x="12" y="117"/>
                </a:lnTo>
                <a:lnTo>
                  <a:pt x="15" y="132"/>
                </a:lnTo>
                <a:lnTo>
                  <a:pt x="17" y="149"/>
                </a:lnTo>
                <a:lnTo>
                  <a:pt x="21" y="166"/>
                </a:lnTo>
                <a:lnTo>
                  <a:pt x="25" y="186"/>
                </a:lnTo>
                <a:lnTo>
                  <a:pt x="29" y="206"/>
                </a:lnTo>
                <a:lnTo>
                  <a:pt x="33" y="228"/>
                </a:lnTo>
                <a:lnTo>
                  <a:pt x="37" y="250"/>
                </a:lnTo>
                <a:lnTo>
                  <a:pt x="40" y="272"/>
                </a:lnTo>
                <a:lnTo>
                  <a:pt x="46" y="294"/>
                </a:lnTo>
                <a:lnTo>
                  <a:pt x="50" y="316"/>
                </a:lnTo>
                <a:lnTo>
                  <a:pt x="56" y="338"/>
                </a:lnTo>
                <a:lnTo>
                  <a:pt x="59" y="359"/>
                </a:lnTo>
                <a:lnTo>
                  <a:pt x="65" y="379"/>
                </a:lnTo>
                <a:lnTo>
                  <a:pt x="68" y="401"/>
                </a:lnTo>
                <a:lnTo>
                  <a:pt x="74" y="422"/>
                </a:lnTo>
                <a:lnTo>
                  <a:pt x="79" y="445"/>
                </a:lnTo>
                <a:lnTo>
                  <a:pt x="85" y="468"/>
                </a:lnTo>
                <a:lnTo>
                  <a:pt x="90" y="492"/>
                </a:lnTo>
                <a:lnTo>
                  <a:pt x="97" y="515"/>
                </a:lnTo>
                <a:lnTo>
                  <a:pt x="103" y="539"/>
                </a:lnTo>
                <a:lnTo>
                  <a:pt x="110" y="562"/>
                </a:lnTo>
                <a:lnTo>
                  <a:pt x="116" y="584"/>
                </a:lnTo>
                <a:lnTo>
                  <a:pt x="122" y="606"/>
                </a:lnTo>
                <a:lnTo>
                  <a:pt x="128" y="627"/>
                </a:lnTo>
                <a:lnTo>
                  <a:pt x="135" y="645"/>
                </a:lnTo>
                <a:lnTo>
                  <a:pt x="140" y="663"/>
                </a:lnTo>
                <a:lnTo>
                  <a:pt x="146" y="679"/>
                </a:lnTo>
                <a:lnTo>
                  <a:pt x="150" y="692"/>
                </a:lnTo>
                <a:lnTo>
                  <a:pt x="156" y="702"/>
                </a:lnTo>
                <a:lnTo>
                  <a:pt x="160" y="714"/>
                </a:lnTo>
                <a:lnTo>
                  <a:pt x="164" y="727"/>
                </a:lnTo>
                <a:lnTo>
                  <a:pt x="170" y="741"/>
                </a:lnTo>
                <a:lnTo>
                  <a:pt x="176" y="755"/>
                </a:lnTo>
                <a:lnTo>
                  <a:pt x="182" y="771"/>
                </a:lnTo>
                <a:lnTo>
                  <a:pt x="189" y="787"/>
                </a:lnTo>
                <a:lnTo>
                  <a:pt x="196" y="805"/>
                </a:lnTo>
                <a:lnTo>
                  <a:pt x="204" y="822"/>
                </a:lnTo>
                <a:lnTo>
                  <a:pt x="211" y="840"/>
                </a:lnTo>
                <a:lnTo>
                  <a:pt x="218" y="857"/>
                </a:lnTo>
                <a:lnTo>
                  <a:pt x="226" y="875"/>
                </a:lnTo>
                <a:lnTo>
                  <a:pt x="233" y="892"/>
                </a:lnTo>
                <a:lnTo>
                  <a:pt x="239" y="908"/>
                </a:lnTo>
                <a:lnTo>
                  <a:pt x="246" y="925"/>
                </a:lnTo>
                <a:lnTo>
                  <a:pt x="253" y="940"/>
                </a:lnTo>
                <a:lnTo>
                  <a:pt x="260" y="953"/>
                </a:lnTo>
                <a:lnTo>
                  <a:pt x="266" y="968"/>
                </a:lnTo>
                <a:lnTo>
                  <a:pt x="272" y="982"/>
                </a:lnTo>
                <a:lnTo>
                  <a:pt x="278" y="998"/>
                </a:lnTo>
                <a:lnTo>
                  <a:pt x="285" y="1013"/>
                </a:lnTo>
                <a:lnTo>
                  <a:pt x="292" y="1030"/>
                </a:lnTo>
                <a:lnTo>
                  <a:pt x="300" y="1046"/>
                </a:lnTo>
                <a:lnTo>
                  <a:pt x="307" y="1063"/>
                </a:lnTo>
                <a:lnTo>
                  <a:pt x="314" y="1079"/>
                </a:lnTo>
                <a:lnTo>
                  <a:pt x="320" y="1096"/>
                </a:lnTo>
                <a:lnTo>
                  <a:pt x="328" y="1111"/>
                </a:lnTo>
                <a:lnTo>
                  <a:pt x="334" y="1126"/>
                </a:lnTo>
                <a:lnTo>
                  <a:pt x="342" y="1140"/>
                </a:lnTo>
                <a:lnTo>
                  <a:pt x="348" y="1154"/>
                </a:lnTo>
                <a:lnTo>
                  <a:pt x="354" y="1166"/>
                </a:lnTo>
                <a:lnTo>
                  <a:pt x="358" y="1177"/>
                </a:lnTo>
                <a:lnTo>
                  <a:pt x="364" y="1186"/>
                </a:lnTo>
                <a:lnTo>
                  <a:pt x="368" y="1196"/>
                </a:lnTo>
                <a:lnTo>
                  <a:pt x="372" y="1205"/>
                </a:lnTo>
                <a:lnTo>
                  <a:pt x="378" y="1216"/>
                </a:lnTo>
                <a:lnTo>
                  <a:pt x="385" y="1227"/>
                </a:lnTo>
                <a:lnTo>
                  <a:pt x="392" y="1240"/>
                </a:lnTo>
                <a:lnTo>
                  <a:pt x="399" y="1252"/>
                </a:lnTo>
                <a:lnTo>
                  <a:pt x="407" y="1265"/>
                </a:lnTo>
                <a:lnTo>
                  <a:pt x="416" y="1276"/>
                </a:lnTo>
                <a:lnTo>
                  <a:pt x="424" y="1290"/>
                </a:lnTo>
                <a:lnTo>
                  <a:pt x="433" y="1302"/>
                </a:lnTo>
                <a:lnTo>
                  <a:pt x="440" y="1315"/>
                </a:lnTo>
                <a:lnTo>
                  <a:pt x="450" y="1326"/>
                </a:lnTo>
                <a:lnTo>
                  <a:pt x="457" y="1338"/>
                </a:lnTo>
                <a:lnTo>
                  <a:pt x="465" y="1348"/>
                </a:lnTo>
                <a:lnTo>
                  <a:pt x="473" y="1358"/>
                </a:lnTo>
                <a:lnTo>
                  <a:pt x="481" y="1366"/>
                </a:lnTo>
                <a:lnTo>
                  <a:pt x="488" y="1376"/>
                </a:lnTo>
                <a:lnTo>
                  <a:pt x="495" y="1385"/>
                </a:lnTo>
                <a:lnTo>
                  <a:pt x="504" y="1395"/>
                </a:lnTo>
                <a:lnTo>
                  <a:pt x="514" y="1404"/>
                </a:lnTo>
                <a:lnTo>
                  <a:pt x="523" y="1416"/>
                </a:lnTo>
                <a:lnTo>
                  <a:pt x="534" y="1426"/>
                </a:lnTo>
                <a:lnTo>
                  <a:pt x="543" y="1437"/>
                </a:lnTo>
                <a:lnTo>
                  <a:pt x="554" y="1446"/>
                </a:lnTo>
                <a:lnTo>
                  <a:pt x="563" y="1458"/>
                </a:lnTo>
                <a:lnTo>
                  <a:pt x="574" y="1467"/>
                </a:lnTo>
                <a:lnTo>
                  <a:pt x="583" y="1476"/>
                </a:lnTo>
                <a:lnTo>
                  <a:pt x="594" y="1485"/>
                </a:lnTo>
                <a:lnTo>
                  <a:pt x="602" y="1494"/>
                </a:lnTo>
                <a:lnTo>
                  <a:pt x="612" y="1501"/>
                </a:lnTo>
                <a:lnTo>
                  <a:pt x="619" y="1508"/>
                </a:lnTo>
                <a:lnTo>
                  <a:pt x="628" y="1513"/>
                </a:lnTo>
                <a:lnTo>
                  <a:pt x="634" y="1519"/>
                </a:lnTo>
                <a:lnTo>
                  <a:pt x="641" y="1524"/>
                </a:lnTo>
                <a:lnTo>
                  <a:pt x="649" y="1530"/>
                </a:lnTo>
                <a:lnTo>
                  <a:pt x="656" y="1535"/>
                </a:lnTo>
                <a:lnTo>
                  <a:pt x="663" y="1540"/>
                </a:lnTo>
                <a:lnTo>
                  <a:pt x="671" y="1546"/>
                </a:lnTo>
                <a:lnTo>
                  <a:pt x="678" y="1552"/>
                </a:lnTo>
                <a:lnTo>
                  <a:pt x="686" y="1557"/>
                </a:lnTo>
                <a:lnTo>
                  <a:pt x="691" y="1562"/>
                </a:lnTo>
                <a:lnTo>
                  <a:pt x="698" y="1567"/>
                </a:lnTo>
                <a:lnTo>
                  <a:pt x="704" y="1572"/>
                </a:lnTo>
                <a:lnTo>
                  <a:pt x="710" y="1576"/>
                </a:lnTo>
                <a:lnTo>
                  <a:pt x="714" y="1579"/>
                </a:lnTo>
                <a:lnTo>
                  <a:pt x="719" y="1582"/>
                </a:lnTo>
                <a:lnTo>
                  <a:pt x="723" y="1585"/>
                </a:lnTo>
                <a:lnTo>
                  <a:pt x="727" y="1586"/>
                </a:lnTo>
                <a:lnTo>
                  <a:pt x="729" y="1589"/>
                </a:lnTo>
                <a:lnTo>
                  <a:pt x="732" y="1591"/>
                </a:lnTo>
                <a:lnTo>
                  <a:pt x="736" y="1593"/>
                </a:lnTo>
                <a:lnTo>
                  <a:pt x="740" y="1595"/>
                </a:lnTo>
                <a:lnTo>
                  <a:pt x="745" y="1598"/>
                </a:lnTo>
                <a:lnTo>
                  <a:pt x="750" y="1600"/>
                </a:lnTo>
                <a:lnTo>
                  <a:pt x="756" y="1604"/>
                </a:lnTo>
                <a:lnTo>
                  <a:pt x="762" y="1605"/>
                </a:lnTo>
                <a:lnTo>
                  <a:pt x="768" y="1609"/>
                </a:lnTo>
                <a:lnTo>
                  <a:pt x="773" y="1611"/>
                </a:lnTo>
                <a:lnTo>
                  <a:pt x="779" y="1615"/>
                </a:lnTo>
                <a:lnTo>
                  <a:pt x="786" y="1617"/>
                </a:lnTo>
                <a:lnTo>
                  <a:pt x="791" y="1620"/>
                </a:lnTo>
                <a:lnTo>
                  <a:pt x="797" y="1622"/>
                </a:lnTo>
                <a:lnTo>
                  <a:pt x="802" y="1624"/>
                </a:lnTo>
                <a:lnTo>
                  <a:pt x="809" y="1625"/>
                </a:lnTo>
                <a:lnTo>
                  <a:pt x="814" y="1629"/>
                </a:lnTo>
                <a:lnTo>
                  <a:pt x="820" y="1631"/>
                </a:lnTo>
                <a:lnTo>
                  <a:pt x="828" y="1634"/>
                </a:lnTo>
                <a:lnTo>
                  <a:pt x="837" y="1636"/>
                </a:lnTo>
                <a:lnTo>
                  <a:pt x="845" y="1640"/>
                </a:lnTo>
                <a:lnTo>
                  <a:pt x="854" y="1642"/>
                </a:lnTo>
                <a:lnTo>
                  <a:pt x="864" y="1645"/>
                </a:lnTo>
                <a:lnTo>
                  <a:pt x="874" y="1647"/>
                </a:lnTo>
                <a:lnTo>
                  <a:pt x="884" y="1651"/>
                </a:lnTo>
                <a:lnTo>
                  <a:pt x="894" y="1654"/>
                </a:lnTo>
                <a:lnTo>
                  <a:pt x="903" y="1658"/>
                </a:lnTo>
                <a:lnTo>
                  <a:pt x="914" y="1660"/>
                </a:lnTo>
                <a:lnTo>
                  <a:pt x="924" y="1664"/>
                </a:lnTo>
                <a:lnTo>
                  <a:pt x="933" y="1665"/>
                </a:lnTo>
                <a:lnTo>
                  <a:pt x="942" y="1667"/>
                </a:lnTo>
                <a:lnTo>
                  <a:pt x="952" y="1669"/>
                </a:lnTo>
                <a:lnTo>
                  <a:pt x="959" y="1672"/>
                </a:lnTo>
                <a:lnTo>
                  <a:pt x="968" y="1674"/>
                </a:lnTo>
                <a:lnTo>
                  <a:pt x="978" y="1676"/>
                </a:lnTo>
                <a:lnTo>
                  <a:pt x="988" y="1678"/>
                </a:lnTo>
                <a:lnTo>
                  <a:pt x="999" y="1680"/>
                </a:lnTo>
                <a:lnTo>
                  <a:pt x="1010" y="1682"/>
                </a:lnTo>
                <a:lnTo>
                  <a:pt x="1021" y="1684"/>
                </a:lnTo>
                <a:lnTo>
                  <a:pt x="1033" y="1686"/>
                </a:lnTo>
                <a:lnTo>
                  <a:pt x="1044" y="1688"/>
                </a:lnTo>
                <a:lnTo>
                  <a:pt x="1055" y="1690"/>
                </a:lnTo>
                <a:lnTo>
                  <a:pt x="1065" y="1692"/>
                </a:lnTo>
                <a:lnTo>
                  <a:pt x="1076" y="1694"/>
                </a:lnTo>
                <a:lnTo>
                  <a:pt x="1086" y="1696"/>
                </a:lnTo>
                <a:lnTo>
                  <a:pt x="1095" y="1697"/>
                </a:lnTo>
                <a:lnTo>
                  <a:pt x="1103" y="1699"/>
                </a:lnTo>
                <a:lnTo>
                  <a:pt x="1112" y="1699"/>
                </a:lnTo>
                <a:lnTo>
                  <a:pt x="1119" y="1701"/>
                </a:lnTo>
                <a:lnTo>
                  <a:pt x="1127" y="1701"/>
                </a:lnTo>
                <a:lnTo>
                  <a:pt x="1136" y="1703"/>
                </a:lnTo>
                <a:lnTo>
                  <a:pt x="1146" y="1703"/>
                </a:lnTo>
                <a:lnTo>
                  <a:pt x="1156" y="1705"/>
                </a:lnTo>
                <a:lnTo>
                  <a:pt x="1167" y="1705"/>
                </a:lnTo>
                <a:lnTo>
                  <a:pt x="1179" y="1706"/>
                </a:lnTo>
                <a:lnTo>
                  <a:pt x="1190" y="1706"/>
                </a:lnTo>
                <a:lnTo>
                  <a:pt x="1202" y="1708"/>
                </a:lnTo>
                <a:lnTo>
                  <a:pt x="1213" y="1708"/>
                </a:lnTo>
                <a:lnTo>
                  <a:pt x="1224" y="1710"/>
                </a:lnTo>
                <a:lnTo>
                  <a:pt x="1236" y="1710"/>
                </a:lnTo>
                <a:lnTo>
                  <a:pt x="1246" y="1712"/>
                </a:lnTo>
                <a:lnTo>
                  <a:pt x="1257" y="1712"/>
                </a:lnTo>
                <a:lnTo>
                  <a:pt x="1267" y="1712"/>
                </a:lnTo>
                <a:lnTo>
                  <a:pt x="1276" y="1712"/>
                </a:lnTo>
                <a:lnTo>
                  <a:pt x="1285" y="1713"/>
                </a:lnTo>
                <a:lnTo>
                  <a:pt x="1294" y="1713"/>
                </a:lnTo>
                <a:lnTo>
                  <a:pt x="1304" y="1713"/>
                </a:lnTo>
                <a:lnTo>
                  <a:pt x="1315" y="1713"/>
                </a:lnTo>
                <a:lnTo>
                  <a:pt x="1326" y="1714"/>
                </a:lnTo>
                <a:lnTo>
                  <a:pt x="1338" y="1714"/>
                </a:lnTo>
                <a:lnTo>
                  <a:pt x="1349" y="1714"/>
                </a:lnTo>
                <a:lnTo>
                  <a:pt x="1362" y="1714"/>
                </a:lnTo>
                <a:lnTo>
                  <a:pt x="1372" y="1715"/>
                </a:lnTo>
                <a:lnTo>
                  <a:pt x="1383" y="1715"/>
                </a:lnTo>
                <a:lnTo>
                  <a:pt x="1394" y="1715"/>
                </a:lnTo>
                <a:lnTo>
                  <a:pt x="1405" y="1715"/>
                </a:lnTo>
                <a:lnTo>
                  <a:pt x="1414" y="1715"/>
                </a:lnTo>
                <a:lnTo>
                  <a:pt x="1424" y="1715"/>
                </a:lnTo>
                <a:lnTo>
                  <a:pt x="1432" y="1715"/>
                </a:lnTo>
                <a:lnTo>
                  <a:pt x="1441" y="1715"/>
                </a:lnTo>
                <a:lnTo>
                  <a:pt x="1446" y="1715"/>
                </a:lnTo>
                <a:lnTo>
                  <a:pt x="1451" y="1715"/>
                </a:lnTo>
                <a:lnTo>
                  <a:pt x="1453" y="1715"/>
                </a:lnTo>
                <a:lnTo>
                  <a:pt x="1456" y="1715"/>
                </a:lnTo>
                <a:lnTo>
                  <a:pt x="1458" y="1715"/>
                </a:lnTo>
                <a:lnTo>
                  <a:pt x="1460" y="1715"/>
                </a:lnTo>
                <a:lnTo>
                  <a:pt x="1461" y="1715"/>
                </a:lnTo>
                <a:lnTo>
                  <a:pt x="1463" y="1715"/>
                </a:lnTo>
                <a:lnTo>
                  <a:pt x="1465" y="1715"/>
                </a:lnTo>
                <a:lnTo>
                  <a:pt x="1468" y="1715"/>
                </a:lnTo>
                <a:lnTo>
                  <a:pt x="1471" y="1715"/>
                </a:lnTo>
                <a:lnTo>
                  <a:pt x="1476" y="1715"/>
                </a:lnTo>
                <a:lnTo>
                  <a:pt x="1482" y="1715"/>
                </a:lnTo>
                <a:lnTo>
                  <a:pt x="1491" y="1715"/>
                </a:lnTo>
                <a:lnTo>
                  <a:pt x="1501" y="1715"/>
                </a:lnTo>
                <a:lnTo>
                  <a:pt x="1514" y="1715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00400" y="5715000"/>
            <a:ext cx="8380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534520" y="7010280"/>
            <a:ext cx="41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14400" y="14479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4648320"/>
            <a:ext cx="838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6200000">
            <a:off x="157320" y="3119040"/>
            <a:ext cx="2004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100" spc="-1" strike="noStrike">
                <a:solidFill>
                  <a:srgbClr val="2f2f2f"/>
                </a:solidFill>
                <a:latin typeface="Arial"/>
              </a:rPr>
              <a:t>otros bien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467480" y="716292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100" spc="-1" strike="noStrike">
                <a:solidFill>
                  <a:srgbClr val="2f2f2f"/>
                </a:solidFill>
                <a:latin typeface="Arial"/>
              </a:rPr>
              <a:t>arroz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43200" y="4952880"/>
            <a:ext cx="0" cy="2590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276720" y="6019920"/>
            <a:ext cx="0" cy="15238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666880" y="7391520"/>
            <a:ext cx="60984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29200" y="3733920"/>
            <a:ext cx="4724280" cy="1904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Brush738 BT"/>
              </a:rPr>
              <a:t>¿aumentará la oferta de arroz si aumenta el precio internacional del arroz...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640" y="5418360"/>
            <a:ext cx="2061720" cy="824760"/>
          </a:xfrm>
          <a:prstGeom prst="wedgeRoundRectCallout">
            <a:avLst>
              <a:gd name="adj1" fmla="val 94254"/>
              <a:gd name="adj2" fmla="val 193189"/>
              <a:gd name="adj3" fmla="val 1666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ush738 BT"/>
              </a:rPr>
              <a:t>ofer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761760" y="228600"/>
            <a:ext cx="90853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problema del ahorr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523880" y="2438280"/>
            <a:ext cx="2438640" cy="5105520"/>
          </a:xfrm>
          <a:custGeom>
            <a:avLst/>
            <a:gdLst/>
            <a:ahLst/>
            <a:rect l="l" t="t" r="r" b="b"/>
            <a:pathLst>
              <a:path w="1007" h="2135">
                <a:moveTo>
                  <a:pt x="0" y="0"/>
                </a:moveTo>
                <a:lnTo>
                  <a:pt x="0" y="2134"/>
                </a:lnTo>
                <a:lnTo>
                  <a:pt x="1006" y="212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523880" y="1366920"/>
            <a:ext cx="0" cy="6186240"/>
          </a:xfrm>
          <a:prstGeom prst="line">
            <a:avLst/>
          </a:prstGeom>
          <a:ln w="442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23880" y="7553160"/>
            <a:ext cx="6747120" cy="0"/>
          </a:xfrm>
          <a:prstGeom prst="line">
            <a:avLst/>
          </a:prstGeom>
          <a:ln w="442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33600" y="1487520"/>
            <a:ext cx="4292640" cy="4716360"/>
          </a:xfrm>
          <a:custGeom>
            <a:avLst/>
            <a:gdLst/>
            <a:ahLst/>
            <a:rect l="l" t="t" r="r" b="b"/>
            <a:pathLst>
              <a:path w="1731" h="1962">
                <a:moveTo>
                  <a:pt x="0" y="0"/>
                </a:moveTo>
                <a:lnTo>
                  <a:pt x="0" y="16"/>
                </a:lnTo>
                <a:lnTo>
                  <a:pt x="1" y="30"/>
                </a:lnTo>
                <a:lnTo>
                  <a:pt x="1" y="40"/>
                </a:lnTo>
                <a:lnTo>
                  <a:pt x="3" y="48"/>
                </a:lnTo>
                <a:lnTo>
                  <a:pt x="3" y="55"/>
                </a:lnTo>
                <a:lnTo>
                  <a:pt x="4" y="59"/>
                </a:lnTo>
                <a:lnTo>
                  <a:pt x="4" y="62"/>
                </a:lnTo>
                <a:lnTo>
                  <a:pt x="6" y="64"/>
                </a:lnTo>
                <a:lnTo>
                  <a:pt x="6" y="66"/>
                </a:lnTo>
                <a:lnTo>
                  <a:pt x="6" y="68"/>
                </a:lnTo>
                <a:lnTo>
                  <a:pt x="6" y="70"/>
                </a:lnTo>
                <a:lnTo>
                  <a:pt x="6" y="72"/>
                </a:lnTo>
                <a:lnTo>
                  <a:pt x="6" y="76"/>
                </a:lnTo>
                <a:lnTo>
                  <a:pt x="7" y="80"/>
                </a:lnTo>
                <a:lnTo>
                  <a:pt x="7" y="86"/>
                </a:lnTo>
                <a:lnTo>
                  <a:pt x="9" y="93"/>
                </a:lnTo>
                <a:lnTo>
                  <a:pt x="10" y="104"/>
                </a:lnTo>
                <a:lnTo>
                  <a:pt x="11" y="117"/>
                </a:lnTo>
                <a:lnTo>
                  <a:pt x="13" y="133"/>
                </a:lnTo>
                <a:lnTo>
                  <a:pt x="16" y="149"/>
                </a:lnTo>
                <a:lnTo>
                  <a:pt x="20" y="169"/>
                </a:lnTo>
                <a:lnTo>
                  <a:pt x="23" y="190"/>
                </a:lnTo>
                <a:lnTo>
                  <a:pt x="27" y="212"/>
                </a:lnTo>
                <a:lnTo>
                  <a:pt x="32" y="234"/>
                </a:lnTo>
                <a:lnTo>
                  <a:pt x="36" y="260"/>
                </a:lnTo>
                <a:lnTo>
                  <a:pt x="41" y="284"/>
                </a:lnTo>
                <a:lnTo>
                  <a:pt x="46" y="310"/>
                </a:lnTo>
                <a:lnTo>
                  <a:pt x="52" y="335"/>
                </a:lnTo>
                <a:lnTo>
                  <a:pt x="56" y="361"/>
                </a:lnTo>
                <a:lnTo>
                  <a:pt x="62" y="386"/>
                </a:lnTo>
                <a:lnTo>
                  <a:pt x="68" y="410"/>
                </a:lnTo>
                <a:lnTo>
                  <a:pt x="73" y="433"/>
                </a:lnTo>
                <a:lnTo>
                  <a:pt x="78" y="458"/>
                </a:lnTo>
                <a:lnTo>
                  <a:pt x="84" y="483"/>
                </a:lnTo>
                <a:lnTo>
                  <a:pt x="89" y="510"/>
                </a:lnTo>
                <a:lnTo>
                  <a:pt x="97" y="535"/>
                </a:lnTo>
                <a:lnTo>
                  <a:pt x="103" y="563"/>
                </a:lnTo>
                <a:lnTo>
                  <a:pt x="110" y="589"/>
                </a:lnTo>
                <a:lnTo>
                  <a:pt x="118" y="616"/>
                </a:lnTo>
                <a:lnTo>
                  <a:pt x="126" y="641"/>
                </a:lnTo>
                <a:lnTo>
                  <a:pt x="132" y="667"/>
                </a:lnTo>
                <a:lnTo>
                  <a:pt x="139" y="692"/>
                </a:lnTo>
                <a:lnTo>
                  <a:pt x="146" y="716"/>
                </a:lnTo>
                <a:lnTo>
                  <a:pt x="154" y="737"/>
                </a:lnTo>
                <a:lnTo>
                  <a:pt x="159" y="758"/>
                </a:lnTo>
                <a:lnTo>
                  <a:pt x="166" y="775"/>
                </a:lnTo>
                <a:lnTo>
                  <a:pt x="172" y="792"/>
                </a:lnTo>
                <a:lnTo>
                  <a:pt x="177" y="804"/>
                </a:lnTo>
                <a:lnTo>
                  <a:pt x="181" y="817"/>
                </a:lnTo>
                <a:lnTo>
                  <a:pt x="187" y="831"/>
                </a:lnTo>
                <a:lnTo>
                  <a:pt x="193" y="847"/>
                </a:lnTo>
                <a:lnTo>
                  <a:pt x="200" y="863"/>
                </a:lnTo>
                <a:lnTo>
                  <a:pt x="207" y="882"/>
                </a:lnTo>
                <a:lnTo>
                  <a:pt x="215" y="900"/>
                </a:lnTo>
                <a:lnTo>
                  <a:pt x="223" y="920"/>
                </a:lnTo>
                <a:lnTo>
                  <a:pt x="232" y="939"/>
                </a:lnTo>
                <a:lnTo>
                  <a:pt x="240" y="960"/>
                </a:lnTo>
                <a:lnTo>
                  <a:pt x="248" y="980"/>
                </a:lnTo>
                <a:lnTo>
                  <a:pt x="256" y="1001"/>
                </a:lnTo>
                <a:lnTo>
                  <a:pt x="265" y="1019"/>
                </a:lnTo>
                <a:lnTo>
                  <a:pt x="273" y="1039"/>
                </a:lnTo>
                <a:lnTo>
                  <a:pt x="281" y="1057"/>
                </a:lnTo>
                <a:lnTo>
                  <a:pt x="288" y="1074"/>
                </a:lnTo>
                <a:lnTo>
                  <a:pt x="296" y="1089"/>
                </a:lnTo>
                <a:lnTo>
                  <a:pt x="302" y="1106"/>
                </a:lnTo>
                <a:lnTo>
                  <a:pt x="309" y="1123"/>
                </a:lnTo>
                <a:lnTo>
                  <a:pt x="316" y="1141"/>
                </a:lnTo>
                <a:lnTo>
                  <a:pt x="324" y="1158"/>
                </a:lnTo>
                <a:lnTo>
                  <a:pt x="332" y="1177"/>
                </a:lnTo>
                <a:lnTo>
                  <a:pt x="341" y="1196"/>
                </a:lnTo>
                <a:lnTo>
                  <a:pt x="349" y="1215"/>
                </a:lnTo>
                <a:lnTo>
                  <a:pt x="358" y="1233"/>
                </a:lnTo>
                <a:lnTo>
                  <a:pt x="366" y="1252"/>
                </a:lnTo>
                <a:lnTo>
                  <a:pt x="374" y="1270"/>
                </a:lnTo>
                <a:lnTo>
                  <a:pt x="381" y="1288"/>
                </a:lnTo>
                <a:lnTo>
                  <a:pt x="390" y="1304"/>
                </a:lnTo>
                <a:lnTo>
                  <a:pt x="396" y="1320"/>
                </a:lnTo>
                <a:lnTo>
                  <a:pt x="403" y="1333"/>
                </a:lnTo>
                <a:lnTo>
                  <a:pt x="409" y="1345"/>
                </a:lnTo>
                <a:lnTo>
                  <a:pt x="414" y="1355"/>
                </a:lnTo>
                <a:lnTo>
                  <a:pt x="420" y="1366"/>
                </a:lnTo>
                <a:lnTo>
                  <a:pt x="425" y="1378"/>
                </a:lnTo>
                <a:lnTo>
                  <a:pt x="432" y="1390"/>
                </a:lnTo>
                <a:lnTo>
                  <a:pt x="439" y="1402"/>
                </a:lnTo>
                <a:lnTo>
                  <a:pt x="447" y="1418"/>
                </a:lnTo>
                <a:lnTo>
                  <a:pt x="456" y="1431"/>
                </a:lnTo>
                <a:lnTo>
                  <a:pt x="465" y="1446"/>
                </a:lnTo>
                <a:lnTo>
                  <a:pt x="474" y="1459"/>
                </a:lnTo>
                <a:lnTo>
                  <a:pt x="484" y="1474"/>
                </a:lnTo>
                <a:lnTo>
                  <a:pt x="493" y="1488"/>
                </a:lnTo>
                <a:lnTo>
                  <a:pt x="502" y="1503"/>
                </a:lnTo>
                <a:lnTo>
                  <a:pt x="512" y="1516"/>
                </a:lnTo>
                <a:lnTo>
                  <a:pt x="522" y="1529"/>
                </a:lnTo>
                <a:lnTo>
                  <a:pt x="531" y="1542"/>
                </a:lnTo>
                <a:lnTo>
                  <a:pt x="539" y="1553"/>
                </a:lnTo>
                <a:lnTo>
                  <a:pt x="548" y="1562"/>
                </a:lnTo>
                <a:lnTo>
                  <a:pt x="556" y="1574"/>
                </a:lnTo>
                <a:lnTo>
                  <a:pt x="566" y="1584"/>
                </a:lnTo>
                <a:lnTo>
                  <a:pt x="575" y="1595"/>
                </a:lnTo>
                <a:lnTo>
                  <a:pt x="586" y="1606"/>
                </a:lnTo>
                <a:lnTo>
                  <a:pt x="597" y="1620"/>
                </a:lnTo>
                <a:lnTo>
                  <a:pt x="608" y="1631"/>
                </a:lnTo>
                <a:lnTo>
                  <a:pt x="619" y="1643"/>
                </a:lnTo>
                <a:lnTo>
                  <a:pt x="632" y="1654"/>
                </a:lnTo>
                <a:lnTo>
                  <a:pt x="643" y="1666"/>
                </a:lnTo>
                <a:lnTo>
                  <a:pt x="654" y="1677"/>
                </a:lnTo>
                <a:lnTo>
                  <a:pt x="665" y="1688"/>
                </a:lnTo>
                <a:lnTo>
                  <a:pt x="677" y="1698"/>
                </a:lnTo>
                <a:lnTo>
                  <a:pt x="687" y="1708"/>
                </a:lnTo>
                <a:lnTo>
                  <a:pt x="698" y="1716"/>
                </a:lnTo>
                <a:lnTo>
                  <a:pt x="707" y="1724"/>
                </a:lnTo>
                <a:lnTo>
                  <a:pt x="716" y="1730"/>
                </a:lnTo>
                <a:lnTo>
                  <a:pt x="724" y="1738"/>
                </a:lnTo>
                <a:lnTo>
                  <a:pt x="732" y="1743"/>
                </a:lnTo>
                <a:lnTo>
                  <a:pt x="740" y="1750"/>
                </a:lnTo>
                <a:lnTo>
                  <a:pt x="749" y="1756"/>
                </a:lnTo>
                <a:lnTo>
                  <a:pt x="756" y="1763"/>
                </a:lnTo>
                <a:lnTo>
                  <a:pt x="766" y="1769"/>
                </a:lnTo>
                <a:lnTo>
                  <a:pt x="773" y="1774"/>
                </a:lnTo>
                <a:lnTo>
                  <a:pt x="782" y="1780"/>
                </a:lnTo>
                <a:lnTo>
                  <a:pt x="790" y="1786"/>
                </a:lnTo>
                <a:lnTo>
                  <a:pt x="798" y="1792"/>
                </a:lnTo>
                <a:lnTo>
                  <a:pt x="804" y="1798"/>
                </a:lnTo>
                <a:lnTo>
                  <a:pt x="811" y="1801"/>
                </a:lnTo>
                <a:lnTo>
                  <a:pt x="816" y="1806"/>
                </a:lnTo>
                <a:lnTo>
                  <a:pt x="822" y="1809"/>
                </a:lnTo>
                <a:lnTo>
                  <a:pt x="826" y="1812"/>
                </a:lnTo>
                <a:lnTo>
                  <a:pt x="830" y="1814"/>
                </a:lnTo>
                <a:lnTo>
                  <a:pt x="832" y="1817"/>
                </a:lnTo>
                <a:lnTo>
                  <a:pt x="836" y="1819"/>
                </a:lnTo>
                <a:lnTo>
                  <a:pt x="841" y="1822"/>
                </a:lnTo>
                <a:lnTo>
                  <a:pt x="846" y="1824"/>
                </a:lnTo>
                <a:lnTo>
                  <a:pt x="851" y="1828"/>
                </a:lnTo>
                <a:lnTo>
                  <a:pt x="857" y="1829"/>
                </a:lnTo>
                <a:lnTo>
                  <a:pt x="862" y="1833"/>
                </a:lnTo>
                <a:lnTo>
                  <a:pt x="870" y="1835"/>
                </a:lnTo>
                <a:lnTo>
                  <a:pt x="876" y="1839"/>
                </a:lnTo>
                <a:lnTo>
                  <a:pt x="883" y="1842"/>
                </a:lnTo>
                <a:lnTo>
                  <a:pt x="890" y="1846"/>
                </a:lnTo>
                <a:lnTo>
                  <a:pt x="897" y="1847"/>
                </a:lnTo>
                <a:lnTo>
                  <a:pt x="903" y="1851"/>
                </a:lnTo>
                <a:lnTo>
                  <a:pt x="910" y="1853"/>
                </a:lnTo>
                <a:lnTo>
                  <a:pt x="917" y="1856"/>
                </a:lnTo>
                <a:lnTo>
                  <a:pt x="924" y="1858"/>
                </a:lnTo>
                <a:lnTo>
                  <a:pt x="930" y="1862"/>
                </a:lnTo>
                <a:lnTo>
                  <a:pt x="937" y="1864"/>
                </a:lnTo>
                <a:lnTo>
                  <a:pt x="946" y="1868"/>
                </a:lnTo>
                <a:lnTo>
                  <a:pt x="955" y="1870"/>
                </a:lnTo>
                <a:lnTo>
                  <a:pt x="964" y="1874"/>
                </a:lnTo>
                <a:lnTo>
                  <a:pt x="975" y="1877"/>
                </a:lnTo>
                <a:lnTo>
                  <a:pt x="987" y="1881"/>
                </a:lnTo>
                <a:lnTo>
                  <a:pt x="998" y="1883"/>
                </a:lnTo>
                <a:lnTo>
                  <a:pt x="1010" y="1887"/>
                </a:lnTo>
                <a:lnTo>
                  <a:pt x="1021" y="1890"/>
                </a:lnTo>
                <a:lnTo>
                  <a:pt x="1032" y="1894"/>
                </a:lnTo>
                <a:lnTo>
                  <a:pt x="1044" y="1897"/>
                </a:lnTo>
                <a:lnTo>
                  <a:pt x="1055" y="1900"/>
                </a:lnTo>
                <a:lnTo>
                  <a:pt x="1066" y="1902"/>
                </a:lnTo>
                <a:lnTo>
                  <a:pt x="1076" y="1906"/>
                </a:lnTo>
                <a:lnTo>
                  <a:pt x="1087" y="1907"/>
                </a:lnTo>
                <a:lnTo>
                  <a:pt x="1096" y="1911"/>
                </a:lnTo>
                <a:lnTo>
                  <a:pt x="1106" y="1913"/>
                </a:lnTo>
                <a:lnTo>
                  <a:pt x="1118" y="1916"/>
                </a:lnTo>
                <a:lnTo>
                  <a:pt x="1130" y="1918"/>
                </a:lnTo>
                <a:lnTo>
                  <a:pt x="1141" y="1922"/>
                </a:lnTo>
                <a:lnTo>
                  <a:pt x="1154" y="1924"/>
                </a:lnTo>
                <a:lnTo>
                  <a:pt x="1168" y="1926"/>
                </a:lnTo>
                <a:lnTo>
                  <a:pt x="1181" y="1928"/>
                </a:lnTo>
                <a:lnTo>
                  <a:pt x="1192" y="1931"/>
                </a:lnTo>
                <a:lnTo>
                  <a:pt x="1206" y="1933"/>
                </a:lnTo>
                <a:lnTo>
                  <a:pt x="1218" y="1935"/>
                </a:lnTo>
                <a:lnTo>
                  <a:pt x="1231" y="1937"/>
                </a:lnTo>
                <a:lnTo>
                  <a:pt x="1241" y="1938"/>
                </a:lnTo>
                <a:lnTo>
                  <a:pt x="1252" y="1940"/>
                </a:lnTo>
                <a:lnTo>
                  <a:pt x="1261" y="1942"/>
                </a:lnTo>
                <a:lnTo>
                  <a:pt x="1270" y="1942"/>
                </a:lnTo>
                <a:lnTo>
                  <a:pt x="1278" y="1944"/>
                </a:lnTo>
                <a:lnTo>
                  <a:pt x="1287" y="1945"/>
                </a:lnTo>
                <a:lnTo>
                  <a:pt x="1298" y="1946"/>
                </a:lnTo>
                <a:lnTo>
                  <a:pt x="1309" y="1946"/>
                </a:lnTo>
                <a:lnTo>
                  <a:pt x="1320" y="1948"/>
                </a:lnTo>
                <a:lnTo>
                  <a:pt x="1334" y="1948"/>
                </a:lnTo>
                <a:lnTo>
                  <a:pt x="1347" y="1950"/>
                </a:lnTo>
                <a:lnTo>
                  <a:pt x="1360" y="1950"/>
                </a:lnTo>
                <a:lnTo>
                  <a:pt x="1373" y="1952"/>
                </a:lnTo>
                <a:lnTo>
                  <a:pt x="1386" y="1952"/>
                </a:lnTo>
                <a:lnTo>
                  <a:pt x="1399" y="1954"/>
                </a:lnTo>
                <a:lnTo>
                  <a:pt x="1412" y="1954"/>
                </a:lnTo>
                <a:lnTo>
                  <a:pt x="1424" y="1956"/>
                </a:lnTo>
                <a:lnTo>
                  <a:pt x="1436" y="1956"/>
                </a:lnTo>
                <a:lnTo>
                  <a:pt x="1447" y="1956"/>
                </a:lnTo>
                <a:lnTo>
                  <a:pt x="1458" y="1956"/>
                </a:lnTo>
                <a:lnTo>
                  <a:pt x="1468" y="1958"/>
                </a:lnTo>
                <a:lnTo>
                  <a:pt x="1479" y="1958"/>
                </a:lnTo>
                <a:lnTo>
                  <a:pt x="1490" y="1958"/>
                </a:lnTo>
                <a:lnTo>
                  <a:pt x="1503" y="1958"/>
                </a:lnTo>
                <a:lnTo>
                  <a:pt x="1515" y="1960"/>
                </a:lnTo>
                <a:lnTo>
                  <a:pt x="1528" y="1960"/>
                </a:lnTo>
                <a:lnTo>
                  <a:pt x="1541" y="1960"/>
                </a:lnTo>
                <a:lnTo>
                  <a:pt x="1555" y="1960"/>
                </a:lnTo>
                <a:lnTo>
                  <a:pt x="1568" y="1961"/>
                </a:lnTo>
                <a:lnTo>
                  <a:pt x="1581" y="1961"/>
                </a:lnTo>
                <a:lnTo>
                  <a:pt x="1592" y="1961"/>
                </a:lnTo>
                <a:lnTo>
                  <a:pt x="1606" y="1961"/>
                </a:lnTo>
                <a:lnTo>
                  <a:pt x="1616" y="1961"/>
                </a:lnTo>
                <a:lnTo>
                  <a:pt x="1628" y="1961"/>
                </a:lnTo>
                <a:lnTo>
                  <a:pt x="1637" y="1961"/>
                </a:lnTo>
                <a:lnTo>
                  <a:pt x="1646" y="1961"/>
                </a:lnTo>
                <a:lnTo>
                  <a:pt x="1652" y="1961"/>
                </a:lnTo>
                <a:lnTo>
                  <a:pt x="1658" y="1961"/>
                </a:lnTo>
                <a:lnTo>
                  <a:pt x="1660" y="1961"/>
                </a:lnTo>
                <a:lnTo>
                  <a:pt x="1664" y="1961"/>
                </a:lnTo>
                <a:lnTo>
                  <a:pt x="1666" y="1961"/>
                </a:lnTo>
                <a:lnTo>
                  <a:pt x="1668" y="1961"/>
                </a:lnTo>
                <a:lnTo>
                  <a:pt x="1670" y="1961"/>
                </a:lnTo>
                <a:lnTo>
                  <a:pt x="1672" y="1961"/>
                </a:lnTo>
                <a:lnTo>
                  <a:pt x="1674" y="1961"/>
                </a:lnTo>
                <a:lnTo>
                  <a:pt x="1677" y="1961"/>
                </a:lnTo>
                <a:lnTo>
                  <a:pt x="1680" y="1961"/>
                </a:lnTo>
                <a:lnTo>
                  <a:pt x="1687" y="1961"/>
                </a:lnTo>
                <a:lnTo>
                  <a:pt x="1694" y="1961"/>
                </a:lnTo>
                <a:lnTo>
                  <a:pt x="1704" y="1961"/>
                </a:lnTo>
                <a:lnTo>
                  <a:pt x="1716" y="1961"/>
                </a:lnTo>
                <a:lnTo>
                  <a:pt x="1730" y="1961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893960" y="1887480"/>
            <a:ext cx="4687920" cy="5168880"/>
          </a:xfrm>
          <a:custGeom>
            <a:avLst/>
            <a:gdLst/>
            <a:ahLst/>
            <a:rect l="l" t="t" r="r" b="b"/>
            <a:pathLst>
              <a:path w="1891" h="2150">
                <a:moveTo>
                  <a:pt x="0" y="0"/>
                </a:moveTo>
                <a:lnTo>
                  <a:pt x="1" y="18"/>
                </a:lnTo>
                <a:lnTo>
                  <a:pt x="3" y="32"/>
                </a:lnTo>
                <a:lnTo>
                  <a:pt x="3" y="45"/>
                </a:lnTo>
                <a:lnTo>
                  <a:pt x="5" y="53"/>
                </a:lnTo>
                <a:lnTo>
                  <a:pt x="5" y="60"/>
                </a:lnTo>
                <a:lnTo>
                  <a:pt x="5" y="65"/>
                </a:lnTo>
                <a:lnTo>
                  <a:pt x="5" y="69"/>
                </a:lnTo>
                <a:lnTo>
                  <a:pt x="7" y="71"/>
                </a:lnTo>
                <a:lnTo>
                  <a:pt x="7" y="74"/>
                </a:lnTo>
                <a:lnTo>
                  <a:pt x="7" y="76"/>
                </a:lnTo>
                <a:lnTo>
                  <a:pt x="7" y="78"/>
                </a:lnTo>
                <a:lnTo>
                  <a:pt x="8" y="80"/>
                </a:lnTo>
                <a:lnTo>
                  <a:pt x="8" y="84"/>
                </a:lnTo>
                <a:lnTo>
                  <a:pt x="8" y="88"/>
                </a:lnTo>
                <a:lnTo>
                  <a:pt x="9" y="95"/>
                </a:lnTo>
                <a:lnTo>
                  <a:pt x="11" y="103"/>
                </a:lnTo>
                <a:lnTo>
                  <a:pt x="12" y="114"/>
                </a:lnTo>
                <a:lnTo>
                  <a:pt x="14" y="129"/>
                </a:lnTo>
                <a:lnTo>
                  <a:pt x="16" y="146"/>
                </a:lnTo>
                <a:lnTo>
                  <a:pt x="20" y="164"/>
                </a:lnTo>
                <a:lnTo>
                  <a:pt x="23" y="186"/>
                </a:lnTo>
                <a:lnTo>
                  <a:pt x="26" y="208"/>
                </a:lnTo>
                <a:lnTo>
                  <a:pt x="31" y="232"/>
                </a:lnTo>
                <a:lnTo>
                  <a:pt x="36" y="258"/>
                </a:lnTo>
                <a:lnTo>
                  <a:pt x="41" y="285"/>
                </a:lnTo>
                <a:lnTo>
                  <a:pt x="46" y="312"/>
                </a:lnTo>
                <a:lnTo>
                  <a:pt x="52" y="340"/>
                </a:lnTo>
                <a:lnTo>
                  <a:pt x="58" y="368"/>
                </a:lnTo>
                <a:lnTo>
                  <a:pt x="63" y="396"/>
                </a:lnTo>
                <a:lnTo>
                  <a:pt x="69" y="423"/>
                </a:lnTo>
                <a:lnTo>
                  <a:pt x="74" y="450"/>
                </a:lnTo>
                <a:lnTo>
                  <a:pt x="81" y="475"/>
                </a:lnTo>
                <a:lnTo>
                  <a:pt x="86" y="502"/>
                </a:lnTo>
                <a:lnTo>
                  <a:pt x="93" y="529"/>
                </a:lnTo>
                <a:lnTo>
                  <a:pt x="100" y="558"/>
                </a:lnTo>
                <a:lnTo>
                  <a:pt x="107" y="586"/>
                </a:lnTo>
                <a:lnTo>
                  <a:pt x="114" y="616"/>
                </a:lnTo>
                <a:lnTo>
                  <a:pt x="122" y="646"/>
                </a:lnTo>
                <a:lnTo>
                  <a:pt x="130" y="675"/>
                </a:lnTo>
                <a:lnTo>
                  <a:pt x="138" y="703"/>
                </a:lnTo>
                <a:lnTo>
                  <a:pt x="146" y="732"/>
                </a:lnTo>
                <a:lnTo>
                  <a:pt x="153" y="758"/>
                </a:lnTo>
                <a:lnTo>
                  <a:pt x="161" y="785"/>
                </a:lnTo>
                <a:lnTo>
                  <a:pt x="169" y="808"/>
                </a:lnTo>
                <a:lnTo>
                  <a:pt x="175" y="830"/>
                </a:lnTo>
                <a:lnTo>
                  <a:pt x="182" y="850"/>
                </a:lnTo>
                <a:lnTo>
                  <a:pt x="188" y="867"/>
                </a:lnTo>
                <a:lnTo>
                  <a:pt x="194" y="880"/>
                </a:lnTo>
                <a:lnTo>
                  <a:pt x="199" y="894"/>
                </a:lnTo>
                <a:lnTo>
                  <a:pt x="205" y="910"/>
                </a:lnTo>
                <a:lnTo>
                  <a:pt x="212" y="928"/>
                </a:lnTo>
                <a:lnTo>
                  <a:pt x="220" y="945"/>
                </a:lnTo>
                <a:lnTo>
                  <a:pt x="228" y="966"/>
                </a:lnTo>
                <a:lnTo>
                  <a:pt x="236" y="986"/>
                </a:lnTo>
                <a:lnTo>
                  <a:pt x="246" y="1008"/>
                </a:lnTo>
                <a:lnTo>
                  <a:pt x="255" y="1029"/>
                </a:lnTo>
                <a:lnTo>
                  <a:pt x="263" y="1051"/>
                </a:lnTo>
                <a:lnTo>
                  <a:pt x="272" y="1074"/>
                </a:lnTo>
                <a:lnTo>
                  <a:pt x="282" y="1096"/>
                </a:lnTo>
                <a:lnTo>
                  <a:pt x="291" y="1117"/>
                </a:lnTo>
                <a:lnTo>
                  <a:pt x="298" y="1138"/>
                </a:lnTo>
                <a:lnTo>
                  <a:pt x="308" y="1158"/>
                </a:lnTo>
                <a:lnTo>
                  <a:pt x="316" y="1176"/>
                </a:lnTo>
                <a:lnTo>
                  <a:pt x="324" y="1194"/>
                </a:lnTo>
                <a:lnTo>
                  <a:pt x="331" y="1212"/>
                </a:lnTo>
                <a:lnTo>
                  <a:pt x="338" y="1230"/>
                </a:lnTo>
                <a:lnTo>
                  <a:pt x="347" y="1250"/>
                </a:lnTo>
                <a:lnTo>
                  <a:pt x="356" y="1269"/>
                </a:lnTo>
                <a:lnTo>
                  <a:pt x="365" y="1290"/>
                </a:lnTo>
                <a:lnTo>
                  <a:pt x="374" y="1310"/>
                </a:lnTo>
                <a:lnTo>
                  <a:pt x="384" y="1331"/>
                </a:lnTo>
                <a:lnTo>
                  <a:pt x="393" y="1351"/>
                </a:lnTo>
                <a:lnTo>
                  <a:pt x="400" y="1372"/>
                </a:lnTo>
                <a:lnTo>
                  <a:pt x="410" y="1392"/>
                </a:lnTo>
                <a:lnTo>
                  <a:pt x="418" y="1411"/>
                </a:lnTo>
                <a:lnTo>
                  <a:pt x="427" y="1429"/>
                </a:lnTo>
                <a:lnTo>
                  <a:pt x="434" y="1446"/>
                </a:lnTo>
                <a:lnTo>
                  <a:pt x="442" y="1460"/>
                </a:lnTo>
                <a:lnTo>
                  <a:pt x="447" y="1474"/>
                </a:lnTo>
                <a:lnTo>
                  <a:pt x="454" y="1485"/>
                </a:lnTo>
                <a:lnTo>
                  <a:pt x="459" y="1497"/>
                </a:lnTo>
                <a:lnTo>
                  <a:pt x="465" y="1509"/>
                </a:lnTo>
                <a:lnTo>
                  <a:pt x="472" y="1524"/>
                </a:lnTo>
                <a:lnTo>
                  <a:pt x="481" y="1537"/>
                </a:lnTo>
                <a:lnTo>
                  <a:pt x="490" y="1553"/>
                </a:lnTo>
                <a:lnTo>
                  <a:pt x="499" y="1568"/>
                </a:lnTo>
                <a:lnTo>
                  <a:pt x="508" y="1584"/>
                </a:lnTo>
                <a:lnTo>
                  <a:pt x="520" y="1599"/>
                </a:lnTo>
                <a:lnTo>
                  <a:pt x="529" y="1616"/>
                </a:lnTo>
                <a:lnTo>
                  <a:pt x="540" y="1631"/>
                </a:lnTo>
                <a:lnTo>
                  <a:pt x="550" y="1646"/>
                </a:lnTo>
                <a:lnTo>
                  <a:pt x="561" y="1662"/>
                </a:lnTo>
                <a:lnTo>
                  <a:pt x="571" y="1676"/>
                </a:lnTo>
                <a:lnTo>
                  <a:pt x="581" y="1690"/>
                </a:lnTo>
                <a:lnTo>
                  <a:pt x="590" y="1701"/>
                </a:lnTo>
                <a:lnTo>
                  <a:pt x="600" y="1712"/>
                </a:lnTo>
                <a:lnTo>
                  <a:pt x="609" y="1724"/>
                </a:lnTo>
                <a:lnTo>
                  <a:pt x="618" y="1736"/>
                </a:lnTo>
                <a:lnTo>
                  <a:pt x="629" y="1749"/>
                </a:lnTo>
                <a:lnTo>
                  <a:pt x="640" y="1761"/>
                </a:lnTo>
                <a:lnTo>
                  <a:pt x="652" y="1774"/>
                </a:lnTo>
                <a:lnTo>
                  <a:pt x="665" y="1787"/>
                </a:lnTo>
                <a:lnTo>
                  <a:pt x="678" y="1800"/>
                </a:lnTo>
                <a:lnTo>
                  <a:pt x="691" y="1812"/>
                </a:lnTo>
                <a:lnTo>
                  <a:pt x="702" y="1826"/>
                </a:lnTo>
                <a:lnTo>
                  <a:pt x="716" y="1839"/>
                </a:lnTo>
                <a:lnTo>
                  <a:pt x="727" y="1850"/>
                </a:lnTo>
                <a:lnTo>
                  <a:pt x="740" y="1861"/>
                </a:lnTo>
                <a:lnTo>
                  <a:pt x="752" y="1872"/>
                </a:lnTo>
                <a:lnTo>
                  <a:pt x="763" y="1881"/>
                </a:lnTo>
                <a:lnTo>
                  <a:pt x="772" y="1889"/>
                </a:lnTo>
                <a:lnTo>
                  <a:pt x="783" y="1896"/>
                </a:lnTo>
                <a:lnTo>
                  <a:pt x="790" y="1904"/>
                </a:lnTo>
                <a:lnTo>
                  <a:pt x="800" y="1910"/>
                </a:lnTo>
                <a:lnTo>
                  <a:pt x="809" y="1918"/>
                </a:lnTo>
                <a:lnTo>
                  <a:pt x="818" y="1924"/>
                </a:lnTo>
                <a:lnTo>
                  <a:pt x="827" y="1931"/>
                </a:lnTo>
                <a:lnTo>
                  <a:pt x="836" y="1938"/>
                </a:lnTo>
                <a:lnTo>
                  <a:pt x="846" y="1945"/>
                </a:lnTo>
                <a:lnTo>
                  <a:pt x="855" y="1951"/>
                </a:lnTo>
                <a:lnTo>
                  <a:pt x="863" y="1958"/>
                </a:lnTo>
                <a:lnTo>
                  <a:pt x="872" y="1964"/>
                </a:lnTo>
                <a:lnTo>
                  <a:pt x="879" y="1970"/>
                </a:lnTo>
                <a:lnTo>
                  <a:pt x="886" y="1974"/>
                </a:lnTo>
                <a:lnTo>
                  <a:pt x="892" y="1979"/>
                </a:lnTo>
                <a:lnTo>
                  <a:pt x="898" y="1983"/>
                </a:lnTo>
                <a:lnTo>
                  <a:pt x="902" y="1986"/>
                </a:lnTo>
                <a:lnTo>
                  <a:pt x="907" y="1988"/>
                </a:lnTo>
                <a:lnTo>
                  <a:pt x="910" y="1991"/>
                </a:lnTo>
                <a:lnTo>
                  <a:pt x="914" y="1993"/>
                </a:lnTo>
                <a:lnTo>
                  <a:pt x="919" y="1996"/>
                </a:lnTo>
                <a:lnTo>
                  <a:pt x="924" y="1998"/>
                </a:lnTo>
                <a:lnTo>
                  <a:pt x="930" y="2002"/>
                </a:lnTo>
                <a:lnTo>
                  <a:pt x="936" y="2005"/>
                </a:lnTo>
                <a:lnTo>
                  <a:pt x="944" y="2009"/>
                </a:lnTo>
                <a:lnTo>
                  <a:pt x="951" y="2011"/>
                </a:lnTo>
                <a:lnTo>
                  <a:pt x="958" y="2014"/>
                </a:lnTo>
                <a:lnTo>
                  <a:pt x="966" y="2018"/>
                </a:lnTo>
                <a:lnTo>
                  <a:pt x="973" y="2022"/>
                </a:lnTo>
                <a:lnTo>
                  <a:pt x="981" y="2025"/>
                </a:lnTo>
                <a:lnTo>
                  <a:pt x="988" y="2029"/>
                </a:lnTo>
                <a:lnTo>
                  <a:pt x="996" y="2032"/>
                </a:lnTo>
                <a:lnTo>
                  <a:pt x="1002" y="2034"/>
                </a:lnTo>
                <a:lnTo>
                  <a:pt x="1010" y="2036"/>
                </a:lnTo>
                <a:lnTo>
                  <a:pt x="1017" y="2040"/>
                </a:lnTo>
                <a:lnTo>
                  <a:pt x="1025" y="2043"/>
                </a:lnTo>
                <a:lnTo>
                  <a:pt x="1034" y="2047"/>
                </a:lnTo>
                <a:lnTo>
                  <a:pt x="1044" y="2049"/>
                </a:lnTo>
                <a:lnTo>
                  <a:pt x="1055" y="2053"/>
                </a:lnTo>
                <a:lnTo>
                  <a:pt x="1066" y="2056"/>
                </a:lnTo>
                <a:lnTo>
                  <a:pt x="1078" y="2060"/>
                </a:lnTo>
                <a:lnTo>
                  <a:pt x="1091" y="2063"/>
                </a:lnTo>
                <a:lnTo>
                  <a:pt x="1103" y="2067"/>
                </a:lnTo>
                <a:lnTo>
                  <a:pt x="1116" y="2071"/>
                </a:lnTo>
                <a:lnTo>
                  <a:pt x="1128" y="2074"/>
                </a:lnTo>
                <a:lnTo>
                  <a:pt x="1142" y="2078"/>
                </a:lnTo>
                <a:lnTo>
                  <a:pt x="1153" y="2082"/>
                </a:lnTo>
                <a:lnTo>
                  <a:pt x="1165" y="2085"/>
                </a:lnTo>
                <a:lnTo>
                  <a:pt x="1176" y="2088"/>
                </a:lnTo>
                <a:lnTo>
                  <a:pt x="1188" y="2090"/>
                </a:lnTo>
                <a:lnTo>
                  <a:pt x="1198" y="2094"/>
                </a:lnTo>
                <a:lnTo>
                  <a:pt x="1209" y="2096"/>
                </a:lnTo>
                <a:lnTo>
                  <a:pt x="1222" y="2100"/>
                </a:lnTo>
                <a:lnTo>
                  <a:pt x="1234" y="2101"/>
                </a:lnTo>
                <a:lnTo>
                  <a:pt x="1248" y="2105"/>
                </a:lnTo>
                <a:lnTo>
                  <a:pt x="1262" y="2107"/>
                </a:lnTo>
                <a:lnTo>
                  <a:pt x="1275" y="2110"/>
                </a:lnTo>
                <a:lnTo>
                  <a:pt x="1290" y="2112"/>
                </a:lnTo>
                <a:lnTo>
                  <a:pt x="1303" y="2116"/>
                </a:lnTo>
                <a:lnTo>
                  <a:pt x="1318" y="2118"/>
                </a:lnTo>
                <a:lnTo>
                  <a:pt x="1331" y="2120"/>
                </a:lnTo>
                <a:lnTo>
                  <a:pt x="1344" y="2122"/>
                </a:lnTo>
                <a:lnTo>
                  <a:pt x="1356" y="2124"/>
                </a:lnTo>
                <a:lnTo>
                  <a:pt x="1368" y="2126"/>
                </a:lnTo>
                <a:lnTo>
                  <a:pt x="1378" y="2128"/>
                </a:lnTo>
                <a:lnTo>
                  <a:pt x="1388" y="2128"/>
                </a:lnTo>
                <a:lnTo>
                  <a:pt x="1397" y="2130"/>
                </a:lnTo>
                <a:lnTo>
                  <a:pt x="1407" y="2131"/>
                </a:lnTo>
                <a:lnTo>
                  <a:pt x="1418" y="2133"/>
                </a:lnTo>
                <a:lnTo>
                  <a:pt x="1431" y="2133"/>
                </a:lnTo>
                <a:lnTo>
                  <a:pt x="1444" y="2135"/>
                </a:lnTo>
                <a:lnTo>
                  <a:pt x="1457" y="2136"/>
                </a:lnTo>
                <a:lnTo>
                  <a:pt x="1471" y="2138"/>
                </a:lnTo>
                <a:lnTo>
                  <a:pt x="1486" y="2138"/>
                </a:lnTo>
                <a:lnTo>
                  <a:pt x="1499" y="2139"/>
                </a:lnTo>
                <a:lnTo>
                  <a:pt x="1514" y="2139"/>
                </a:lnTo>
                <a:lnTo>
                  <a:pt x="1528" y="2141"/>
                </a:lnTo>
                <a:lnTo>
                  <a:pt x="1543" y="2141"/>
                </a:lnTo>
                <a:lnTo>
                  <a:pt x="1556" y="2143"/>
                </a:lnTo>
                <a:lnTo>
                  <a:pt x="1569" y="2143"/>
                </a:lnTo>
                <a:lnTo>
                  <a:pt x="1581" y="2144"/>
                </a:lnTo>
                <a:lnTo>
                  <a:pt x="1593" y="2144"/>
                </a:lnTo>
                <a:lnTo>
                  <a:pt x="1604" y="2146"/>
                </a:lnTo>
                <a:lnTo>
                  <a:pt x="1616" y="2146"/>
                </a:lnTo>
                <a:lnTo>
                  <a:pt x="1628" y="2146"/>
                </a:lnTo>
                <a:lnTo>
                  <a:pt x="1642" y="2146"/>
                </a:lnTo>
                <a:lnTo>
                  <a:pt x="1655" y="2148"/>
                </a:lnTo>
                <a:lnTo>
                  <a:pt x="1670" y="2148"/>
                </a:lnTo>
                <a:lnTo>
                  <a:pt x="1684" y="2148"/>
                </a:lnTo>
                <a:lnTo>
                  <a:pt x="1700" y="2148"/>
                </a:lnTo>
                <a:lnTo>
                  <a:pt x="1712" y="2149"/>
                </a:lnTo>
                <a:lnTo>
                  <a:pt x="1728" y="2149"/>
                </a:lnTo>
                <a:lnTo>
                  <a:pt x="1741" y="2149"/>
                </a:lnTo>
                <a:lnTo>
                  <a:pt x="1754" y="2149"/>
                </a:lnTo>
                <a:lnTo>
                  <a:pt x="1766" y="2149"/>
                </a:lnTo>
                <a:lnTo>
                  <a:pt x="1778" y="2149"/>
                </a:lnTo>
                <a:lnTo>
                  <a:pt x="1788" y="2149"/>
                </a:lnTo>
                <a:lnTo>
                  <a:pt x="1799" y="2149"/>
                </a:lnTo>
                <a:lnTo>
                  <a:pt x="1806" y="2149"/>
                </a:lnTo>
                <a:lnTo>
                  <a:pt x="1811" y="2149"/>
                </a:lnTo>
                <a:lnTo>
                  <a:pt x="1815" y="2149"/>
                </a:lnTo>
                <a:lnTo>
                  <a:pt x="1819" y="2149"/>
                </a:lnTo>
                <a:lnTo>
                  <a:pt x="1820" y="2149"/>
                </a:lnTo>
                <a:lnTo>
                  <a:pt x="1822" y="2149"/>
                </a:lnTo>
                <a:lnTo>
                  <a:pt x="1824" y="2149"/>
                </a:lnTo>
                <a:lnTo>
                  <a:pt x="1827" y="2149"/>
                </a:lnTo>
                <a:lnTo>
                  <a:pt x="1829" y="2149"/>
                </a:lnTo>
                <a:lnTo>
                  <a:pt x="1832" y="2149"/>
                </a:lnTo>
                <a:lnTo>
                  <a:pt x="1836" y="2149"/>
                </a:lnTo>
                <a:lnTo>
                  <a:pt x="1843" y="2149"/>
                </a:lnTo>
                <a:lnTo>
                  <a:pt x="1850" y="2149"/>
                </a:lnTo>
                <a:lnTo>
                  <a:pt x="1861" y="2149"/>
                </a:lnTo>
                <a:lnTo>
                  <a:pt x="1874" y="2149"/>
                </a:lnTo>
                <a:lnTo>
                  <a:pt x="1890" y="2149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17960" y="1295280"/>
            <a:ext cx="3757680" cy="4125960"/>
          </a:xfrm>
          <a:custGeom>
            <a:avLst/>
            <a:gdLst/>
            <a:ahLst/>
            <a:rect l="l" t="t" r="r" b="b"/>
            <a:pathLst>
              <a:path w="1515" h="1716">
                <a:moveTo>
                  <a:pt x="0" y="0"/>
                </a:moveTo>
                <a:lnTo>
                  <a:pt x="0" y="15"/>
                </a:lnTo>
                <a:lnTo>
                  <a:pt x="2" y="26"/>
                </a:lnTo>
                <a:lnTo>
                  <a:pt x="2" y="36"/>
                </a:lnTo>
                <a:lnTo>
                  <a:pt x="4" y="42"/>
                </a:lnTo>
                <a:lnTo>
                  <a:pt x="4" y="48"/>
                </a:lnTo>
                <a:lnTo>
                  <a:pt x="4" y="52"/>
                </a:lnTo>
                <a:lnTo>
                  <a:pt x="4" y="55"/>
                </a:lnTo>
                <a:lnTo>
                  <a:pt x="6" y="57"/>
                </a:lnTo>
                <a:lnTo>
                  <a:pt x="6" y="58"/>
                </a:lnTo>
                <a:lnTo>
                  <a:pt x="6" y="60"/>
                </a:lnTo>
                <a:lnTo>
                  <a:pt x="6" y="62"/>
                </a:lnTo>
                <a:lnTo>
                  <a:pt x="6" y="64"/>
                </a:lnTo>
                <a:lnTo>
                  <a:pt x="6" y="68"/>
                </a:lnTo>
                <a:lnTo>
                  <a:pt x="7" y="71"/>
                </a:lnTo>
                <a:lnTo>
                  <a:pt x="7" y="76"/>
                </a:lnTo>
                <a:lnTo>
                  <a:pt x="9" y="82"/>
                </a:lnTo>
                <a:lnTo>
                  <a:pt x="9" y="92"/>
                </a:lnTo>
                <a:lnTo>
                  <a:pt x="10" y="104"/>
                </a:lnTo>
                <a:lnTo>
                  <a:pt x="12" y="117"/>
                </a:lnTo>
                <a:lnTo>
                  <a:pt x="15" y="132"/>
                </a:lnTo>
                <a:lnTo>
                  <a:pt x="17" y="149"/>
                </a:lnTo>
                <a:lnTo>
                  <a:pt x="21" y="166"/>
                </a:lnTo>
                <a:lnTo>
                  <a:pt x="25" y="186"/>
                </a:lnTo>
                <a:lnTo>
                  <a:pt x="29" y="206"/>
                </a:lnTo>
                <a:lnTo>
                  <a:pt x="33" y="228"/>
                </a:lnTo>
                <a:lnTo>
                  <a:pt x="37" y="250"/>
                </a:lnTo>
                <a:lnTo>
                  <a:pt x="40" y="272"/>
                </a:lnTo>
                <a:lnTo>
                  <a:pt x="46" y="294"/>
                </a:lnTo>
                <a:lnTo>
                  <a:pt x="50" y="316"/>
                </a:lnTo>
                <a:lnTo>
                  <a:pt x="56" y="338"/>
                </a:lnTo>
                <a:lnTo>
                  <a:pt x="59" y="359"/>
                </a:lnTo>
                <a:lnTo>
                  <a:pt x="65" y="379"/>
                </a:lnTo>
                <a:lnTo>
                  <a:pt x="68" y="401"/>
                </a:lnTo>
                <a:lnTo>
                  <a:pt x="74" y="422"/>
                </a:lnTo>
                <a:lnTo>
                  <a:pt x="79" y="445"/>
                </a:lnTo>
                <a:lnTo>
                  <a:pt x="85" y="468"/>
                </a:lnTo>
                <a:lnTo>
                  <a:pt x="90" y="492"/>
                </a:lnTo>
                <a:lnTo>
                  <a:pt x="97" y="515"/>
                </a:lnTo>
                <a:lnTo>
                  <a:pt x="103" y="539"/>
                </a:lnTo>
                <a:lnTo>
                  <a:pt x="110" y="562"/>
                </a:lnTo>
                <a:lnTo>
                  <a:pt x="116" y="584"/>
                </a:lnTo>
                <a:lnTo>
                  <a:pt x="122" y="606"/>
                </a:lnTo>
                <a:lnTo>
                  <a:pt x="128" y="627"/>
                </a:lnTo>
                <a:lnTo>
                  <a:pt x="135" y="645"/>
                </a:lnTo>
                <a:lnTo>
                  <a:pt x="140" y="663"/>
                </a:lnTo>
                <a:lnTo>
                  <a:pt x="146" y="679"/>
                </a:lnTo>
                <a:lnTo>
                  <a:pt x="150" y="692"/>
                </a:lnTo>
                <a:lnTo>
                  <a:pt x="156" y="702"/>
                </a:lnTo>
                <a:lnTo>
                  <a:pt x="160" y="714"/>
                </a:lnTo>
                <a:lnTo>
                  <a:pt x="164" y="727"/>
                </a:lnTo>
                <a:lnTo>
                  <a:pt x="170" y="741"/>
                </a:lnTo>
                <a:lnTo>
                  <a:pt x="176" y="755"/>
                </a:lnTo>
                <a:lnTo>
                  <a:pt x="182" y="771"/>
                </a:lnTo>
                <a:lnTo>
                  <a:pt x="189" y="787"/>
                </a:lnTo>
                <a:lnTo>
                  <a:pt x="196" y="805"/>
                </a:lnTo>
                <a:lnTo>
                  <a:pt x="204" y="822"/>
                </a:lnTo>
                <a:lnTo>
                  <a:pt x="211" y="840"/>
                </a:lnTo>
                <a:lnTo>
                  <a:pt x="218" y="857"/>
                </a:lnTo>
                <a:lnTo>
                  <a:pt x="226" y="875"/>
                </a:lnTo>
                <a:lnTo>
                  <a:pt x="233" y="892"/>
                </a:lnTo>
                <a:lnTo>
                  <a:pt x="239" y="908"/>
                </a:lnTo>
                <a:lnTo>
                  <a:pt x="246" y="925"/>
                </a:lnTo>
                <a:lnTo>
                  <a:pt x="253" y="940"/>
                </a:lnTo>
                <a:lnTo>
                  <a:pt x="260" y="953"/>
                </a:lnTo>
                <a:lnTo>
                  <a:pt x="266" y="968"/>
                </a:lnTo>
                <a:lnTo>
                  <a:pt x="272" y="982"/>
                </a:lnTo>
                <a:lnTo>
                  <a:pt x="278" y="998"/>
                </a:lnTo>
                <a:lnTo>
                  <a:pt x="285" y="1013"/>
                </a:lnTo>
                <a:lnTo>
                  <a:pt x="292" y="1030"/>
                </a:lnTo>
                <a:lnTo>
                  <a:pt x="300" y="1046"/>
                </a:lnTo>
                <a:lnTo>
                  <a:pt x="307" y="1063"/>
                </a:lnTo>
                <a:lnTo>
                  <a:pt x="314" y="1079"/>
                </a:lnTo>
                <a:lnTo>
                  <a:pt x="320" y="1096"/>
                </a:lnTo>
                <a:lnTo>
                  <a:pt x="328" y="1111"/>
                </a:lnTo>
                <a:lnTo>
                  <a:pt x="334" y="1126"/>
                </a:lnTo>
                <a:lnTo>
                  <a:pt x="342" y="1140"/>
                </a:lnTo>
                <a:lnTo>
                  <a:pt x="348" y="1154"/>
                </a:lnTo>
                <a:lnTo>
                  <a:pt x="354" y="1166"/>
                </a:lnTo>
                <a:lnTo>
                  <a:pt x="358" y="1177"/>
                </a:lnTo>
                <a:lnTo>
                  <a:pt x="364" y="1186"/>
                </a:lnTo>
                <a:lnTo>
                  <a:pt x="368" y="1196"/>
                </a:lnTo>
                <a:lnTo>
                  <a:pt x="372" y="1205"/>
                </a:lnTo>
                <a:lnTo>
                  <a:pt x="378" y="1216"/>
                </a:lnTo>
                <a:lnTo>
                  <a:pt x="385" y="1227"/>
                </a:lnTo>
                <a:lnTo>
                  <a:pt x="392" y="1240"/>
                </a:lnTo>
                <a:lnTo>
                  <a:pt x="399" y="1252"/>
                </a:lnTo>
                <a:lnTo>
                  <a:pt x="407" y="1265"/>
                </a:lnTo>
                <a:lnTo>
                  <a:pt x="416" y="1276"/>
                </a:lnTo>
                <a:lnTo>
                  <a:pt x="424" y="1290"/>
                </a:lnTo>
                <a:lnTo>
                  <a:pt x="433" y="1302"/>
                </a:lnTo>
                <a:lnTo>
                  <a:pt x="440" y="1315"/>
                </a:lnTo>
                <a:lnTo>
                  <a:pt x="450" y="1326"/>
                </a:lnTo>
                <a:lnTo>
                  <a:pt x="457" y="1338"/>
                </a:lnTo>
                <a:lnTo>
                  <a:pt x="465" y="1348"/>
                </a:lnTo>
                <a:lnTo>
                  <a:pt x="473" y="1358"/>
                </a:lnTo>
                <a:lnTo>
                  <a:pt x="481" y="1366"/>
                </a:lnTo>
                <a:lnTo>
                  <a:pt x="488" y="1376"/>
                </a:lnTo>
                <a:lnTo>
                  <a:pt x="495" y="1385"/>
                </a:lnTo>
                <a:lnTo>
                  <a:pt x="504" y="1395"/>
                </a:lnTo>
                <a:lnTo>
                  <a:pt x="514" y="1404"/>
                </a:lnTo>
                <a:lnTo>
                  <a:pt x="523" y="1416"/>
                </a:lnTo>
                <a:lnTo>
                  <a:pt x="534" y="1426"/>
                </a:lnTo>
                <a:lnTo>
                  <a:pt x="543" y="1437"/>
                </a:lnTo>
                <a:lnTo>
                  <a:pt x="554" y="1446"/>
                </a:lnTo>
                <a:lnTo>
                  <a:pt x="563" y="1458"/>
                </a:lnTo>
                <a:lnTo>
                  <a:pt x="574" y="1467"/>
                </a:lnTo>
                <a:lnTo>
                  <a:pt x="583" y="1476"/>
                </a:lnTo>
                <a:lnTo>
                  <a:pt x="594" y="1485"/>
                </a:lnTo>
                <a:lnTo>
                  <a:pt x="602" y="1494"/>
                </a:lnTo>
                <a:lnTo>
                  <a:pt x="612" y="1501"/>
                </a:lnTo>
                <a:lnTo>
                  <a:pt x="619" y="1508"/>
                </a:lnTo>
                <a:lnTo>
                  <a:pt x="628" y="1513"/>
                </a:lnTo>
                <a:lnTo>
                  <a:pt x="634" y="1519"/>
                </a:lnTo>
                <a:lnTo>
                  <a:pt x="641" y="1524"/>
                </a:lnTo>
                <a:lnTo>
                  <a:pt x="649" y="1530"/>
                </a:lnTo>
                <a:lnTo>
                  <a:pt x="656" y="1535"/>
                </a:lnTo>
                <a:lnTo>
                  <a:pt x="663" y="1540"/>
                </a:lnTo>
                <a:lnTo>
                  <a:pt x="671" y="1546"/>
                </a:lnTo>
                <a:lnTo>
                  <a:pt x="678" y="1552"/>
                </a:lnTo>
                <a:lnTo>
                  <a:pt x="686" y="1557"/>
                </a:lnTo>
                <a:lnTo>
                  <a:pt x="691" y="1562"/>
                </a:lnTo>
                <a:lnTo>
                  <a:pt x="698" y="1567"/>
                </a:lnTo>
                <a:lnTo>
                  <a:pt x="704" y="1572"/>
                </a:lnTo>
                <a:lnTo>
                  <a:pt x="710" y="1576"/>
                </a:lnTo>
                <a:lnTo>
                  <a:pt x="714" y="1579"/>
                </a:lnTo>
                <a:lnTo>
                  <a:pt x="719" y="1582"/>
                </a:lnTo>
                <a:lnTo>
                  <a:pt x="723" y="1585"/>
                </a:lnTo>
                <a:lnTo>
                  <a:pt x="727" y="1586"/>
                </a:lnTo>
                <a:lnTo>
                  <a:pt x="729" y="1589"/>
                </a:lnTo>
                <a:lnTo>
                  <a:pt x="732" y="1591"/>
                </a:lnTo>
                <a:lnTo>
                  <a:pt x="736" y="1593"/>
                </a:lnTo>
                <a:lnTo>
                  <a:pt x="740" y="1595"/>
                </a:lnTo>
                <a:lnTo>
                  <a:pt x="745" y="1598"/>
                </a:lnTo>
                <a:lnTo>
                  <a:pt x="750" y="1600"/>
                </a:lnTo>
                <a:lnTo>
                  <a:pt x="756" y="1604"/>
                </a:lnTo>
                <a:lnTo>
                  <a:pt x="762" y="1605"/>
                </a:lnTo>
                <a:lnTo>
                  <a:pt x="768" y="1609"/>
                </a:lnTo>
                <a:lnTo>
                  <a:pt x="773" y="1611"/>
                </a:lnTo>
                <a:lnTo>
                  <a:pt x="779" y="1615"/>
                </a:lnTo>
                <a:lnTo>
                  <a:pt x="786" y="1617"/>
                </a:lnTo>
                <a:lnTo>
                  <a:pt x="791" y="1620"/>
                </a:lnTo>
                <a:lnTo>
                  <a:pt x="797" y="1622"/>
                </a:lnTo>
                <a:lnTo>
                  <a:pt x="802" y="1624"/>
                </a:lnTo>
                <a:lnTo>
                  <a:pt x="809" y="1625"/>
                </a:lnTo>
                <a:lnTo>
                  <a:pt x="814" y="1629"/>
                </a:lnTo>
                <a:lnTo>
                  <a:pt x="820" y="1631"/>
                </a:lnTo>
                <a:lnTo>
                  <a:pt x="828" y="1634"/>
                </a:lnTo>
                <a:lnTo>
                  <a:pt x="837" y="1636"/>
                </a:lnTo>
                <a:lnTo>
                  <a:pt x="845" y="1640"/>
                </a:lnTo>
                <a:lnTo>
                  <a:pt x="854" y="1642"/>
                </a:lnTo>
                <a:lnTo>
                  <a:pt x="864" y="1645"/>
                </a:lnTo>
                <a:lnTo>
                  <a:pt x="874" y="1647"/>
                </a:lnTo>
                <a:lnTo>
                  <a:pt x="884" y="1651"/>
                </a:lnTo>
                <a:lnTo>
                  <a:pt x="894" y="1654"/>
                </a:lnTo>
                <a:lnTo>
                  <a:pt x="903" y="1658"/>
                </a:lnTo>
                <a:lnTo>
                  <a:pt x="914" y="1660"/>
                </a:lnTo>
                <a:lnTo>
                  <a:pt x="924" y="1664"/>
                </a:lnTo>
                <a:lnTo>
                  <a:pt x="933" y="1665"/>
                </a:lnTo>
                <a:lnTo>
                  <a:pt x="942" y="1667"/>
                </a:lnTo>
                <a:lnTo>
                  <a:pt x="952" y="1669"/>
                </a:lnTo>
                <a:lnTo>
                  <a:pt x="959" y="1672"/>
                </a:lnTo>
                <a:lnTo>
                  <a:pt x="968" y="1674"/>
                </a:lnTo>
                <a:lnTo>
                  <a:pt x="978" y="1676"/>
                </a:lnTo>
                <a:lnTo>
                  <a:pt x="988" y="1678"/>
                </a:lnTo>
                <a:lnTo>
                  <a:pt x="999" y="1680"/>
                </a:lnTo>
                <a:lnTo>
                  <a:pt x="1010" y="1682"/>
                </a:lnTo>
                <a:lnTo>
                  <a:pt x="1021" y="1684"/>
                </a:lnTo>
                <a:lnTo>
                  <a:pt x="1033" y="1686"/>
                </a:lnTo>
                <a:lnTo>
                  <a:pt x="1044" y="1688"/>
                </a:lnTo>
                <a:lnTo>
                  <a:pt x="1055" y="1690"/>
                </a:lnTo>
                <a:lnTo>
                  <a:pt x="1065" y="1692"/>
                </a:lnTo>
                <a:lnTo>
                  <a:pt x="1076" y="1694"/>
                </a:lnTo>
                <a:lnTo>
                  <a:pt x="1086" y="1696"/>
                </a:lnTo>
                <a:lnTo>
                  <a:pt x="1095" y="1697"/>
                </a:lnTo>
                <a:lnTo>
                  <a:pt x="1103" y="1699"/>
                </a:lnTo>
                <a:lnTo>
                  <a:pt x="1112" y="1699"/>
                </a:lnTo>
                <a:lnTo>
                  <a:pt x="1119" y="1701"/>
                </a:lnTo>
                <a:lnTo>
                  <a:pt x="1127" y="1701"/>
                </a:lnTo>
                <a:lnTo>
                  <a:pt x="1136" y="1703"/>
                </a:lnTo>
                <a:lnTo>
                  <a:pt x="1146" y="1703"/>
                </a:lnTo>
                <a:lnTo>
                  <a:pt x="1156" y="1705"/>
                </a:lnTo>
                <a:lnTo>
                  <a:pt x="1167" y="1705"/>
                </a:lnTo>
                <a:lnTo>
                  <a:pt x="1179" y="1706"/>
                </a:lnTo>
                <a:lnTo>
                  <a:pt x="1190" y="1706"/>
                </a:lnTo>
                <a:lnTo>
                  <a:pt x="1202" y="1708"/>
                </a:lnTo>
                <a:lnTo>
                  <a:pt x="1213" y="1708"/>
                </a:lnTo>
                <a:lnTo>
                  <a:pt x="1224" y="1710"/>
                </a:lnTo>
                <a:lnTo>
                  <a:pt x="1236" y="1710"/>
                </a:lnTo>
                <a:lnTo>
                  <a:pt x="1246" y="1712"/>
                </a:lnTo>
                <a:lnTo>
                  <a:pt x="1257" y="1712"/>
                </a:lnTo>
                <a:lnTo>
                  <a:pt x="1267" y="1712"/>
                </a:lnTo>
                <a:lnTo>
                  <a:pt x="1276" y="1712"/>
                </a:lnTo>
                <a:lnTo>
                  <a:pt x="1285" y="1713"/>
                </a:lnTo>
                <a:lnTo>
                  <a:pt x="1294" y="1713"/>
                </a:lnTo>
                <a:lnTo>
                  <a:pt x="1304" y="1713"/>
                </a:lnTo>
                <a:lnTo>
                  <a:pt x="1315" y="1713"/>
                </a:lnTo>
                <a:lnTo>
                  <a:pt x="1326" y="1714"/>
                </a:lnTo>
                <a:lnTo>
                  <a:pt x="1338" y="1714"/>
                </a:lnTo>
                <a:lnTo>
                  <a:pt x="1349" y="1714"/>
                </a:lnTo>
                <a:lnTo>
                  <a:pt x="1362" y="1714"/>
                </a:lnTo>
                <a:lnTo>
                  <a:pt x="1372" y="1715"/>
                </a:lnTo>
                <a:lnTo>
                  <a:pt x="1383" y="1715"/>
                </a:lnTo>
                <a:lnTo>
                  <a:pt x="1394" y="1715"/>
                </a:lnTo>
                <a:lnTo>
                  <a:pt x="1405" y="1715"/>
                </a:lnTo>
                <a:lnTo>
                  <a:pt x="1414" y="1715"/>
                </a:lnTo>
                <a:lnTo>
                  <a:pt x="1424" y="1715"/>
                </a:lnTo>
                <a:lnTo>
                  <a:pt x="1432" y="1715"/>
                </a:lnTo>
                <a:lnTo>
                  <a:pt x="1441" y="1715"/>
                </a:lnTo>
                <a:lnTo>
                  <a:pt x="1446" y="1715"/>
                </a:lnTo>
                <a:lnTo>
                  <a:pt x="1451" y="1715"/>
                </a:lnTo>
                <a:lnTo>
                  <a:pt x="1453" y="1715"/>
                </a:lnTo>
                <a:lnTo>
                  <a:pt x="1456" y="1715"/>
                </a:lnTo>
                <a:lnTo>
                  <a:pt x="1458" y="1715"/>
                </a:lnTo>
                <a:lnTo>
                  <a:pt x="1460" y="1715"/>
                </a:lnTo>
                <a:lnTo>
                  <a:pt x="1461" y="1715"/>
                </a:lnTo>
                <a:lnTo>
                  <a:pt x="1463" y="1715"/>
                </a:lnTo>
                <a:lnTo>
                  <a:pt x="1465" y="1715"/>
                </a:lnTo>
                <a:lnTo>
                  <a:pt x="1468" y="1715"/>
                </a:lnTo>
                <a:lnTo>
                  <a:pt x="1471" y="1715"/>
                </a:lnTo>
                <a:lnTo>
                  <a:pt x="1476" y="1715"/>
                </a:lnTo>
                <a:lnTo>
                  <a:pt x="1482" y="1715"/>
                </a:lnTo>
                <a:lnTo>
                  <a:pt x="1491" y="1715"/>
                </a:lnTo>
                <a:lnTo>
                  <a:pt x="1501" y="1715"/>
                </a:lnTo>
                <a:lnTo>
                  <a:pt x="1514" y="1715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05120" y="3124080"/>
            <a:ext cx="8380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534520" y="7010280"/>
            <a:ext cx="41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914400" y="14479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666880" y="4648320"/>
            <a:ext cx="838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43200" y="4952880"/>
            <a:ext cx="0" cy="2590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81080" y="3457440"/>
            <a:ext cx="0" cy="408636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05120" y="7467480"/>
            <a:ext cx="8380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29200" y="3733920"/>
            <a:ext cx="4876920" cy="1904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Brush738 BT"/>
              </a:rPr>
              <a:t>¿Que le pasa a la relación ahorro/préstamo  cuando aumenta la tasa de interes...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49320" y="5646960"/>
            <a:ext cx="3258000" cy="824760"/>
          </a:xfrm>
          <a:prstGeom prst="wedgeRoundRectCallout">
            <a:avLst>
              <a:gd name="adj1" fmla="val -62162"/>
              <a:gd name="adj2" fmla="val 165486"/>
              <a:gd name="adj3" fmla="val 1666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ush738 BT"/>
              </a:rPr>
              <a:t>préstam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rot="16200000">
            <a:off x="-799920" y="3924360"/>
            <a:ext cx="39211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100" spc="-1" strike="noStrike">
                <a:solidFill>
                  <a:srgbClr val="2f2f2f"/>
                </a:solidFill>
                <a:latin typeface="Arial"/>
              </a:rPr>
              <a:t>consumo mañan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638680" y="7162920"/>
            <a:ext cx="2665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100" spc="-1" strike="noStrike">
                <a:solidFill>
                  <a:srgbClr val="2f2f2f"/>
                </a:solidFill>
                <a:latin typeface="Arial"/>
              </a:rPr>
              <a:t>consumo ho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761760" y="228600"/>
            <a:ext cx="90853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Oferta de trabaj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2438280"/>
            <a:ext cx="2438640" cy="5105520"/>
          </a:xfrm>
          <a:custGeom>
            <a:avLst/>
            <a:gdLst/>
            <a:ahLst/>
            <a:rect l="l" t="t" r="r" b="b"/>
            <a:pathLst>
              <a:path w="1007" h="2135">
                <a:moveTo>
                  <a:pt x="0" y="0"/>
                </a:moveTo>
                <a:lnTo>
                  <a:pt x="0" y="2134"/>
                </a:lnTo>
                <a:lnTo>
                  <a:pt x="1006" y="212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ffffc2"/>
              </a:gs>
            </a:gsLst>
            <a:lin ang="8100000"/>
          </a:gradFill>
          <a:ln w="4428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1523880" y="1366920"/>
            <a:ext cx="0" cy="6186240"/>
          </a:xfrm>
          <a:prstGeom prst="line">
            <a:avLst/>
          </a:prstGeom>
          <a:ln w="442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23880" y="7553160"/>
            <a:ext cx="6747120" cy="0"/>
          </a:xfrm>
          <a:prstGeom prst="line">
            <a:avLst/>
          </a:prstGeom>
          <a:ln w="442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33600" y="1487520"/>
            <a:ext cx="4292640" cy="4716360"/>
          </a:xfrm>
          <a:custGeom>
            <a:avLst/>
            <a:gdLst/>
            <a:ahLst/>
            <a:rect l="l" t="t" r="r" b="b"/>
            <a:pathLst>
              <a:path w="1731" h="1962">
                <a:moveTo>
                  <a:pt x="0" y="0"/>
                </a:moveTo>
                <a:lnTo>
                  <a:pt x="0" y="16"/>
                </a:lnTo>
                <a:lnTo>
                  <a:pt x="1" y="30"/>
                </a:lnTo>
                <a:lnTo>
                  <a:pt x="1" y="40"/>
                </a:lnTo>
                <a:lnTo>
                  <a:pt x="3" y="48"/>
                </a:lnTo>
                <a:lnTo>
                  <a:pt x="3" y="55"/>
                </a:lnTo>
                <a:lnTo>
                  <a:pt x="4" y="59"/>
                </a:lnTo>
                <a:lnTo>
                  <a:pt x="4" y="62"/>
                </a:lnTo>
                <a:lnTo>
                  <a:pt x="6" y="64"/>
                </a:lnTo>
                <a:lnTo>
                  <a:pt x="6" y="66"/>
                </a:lnTo>
                <a:lnTo>
                  <a:pt x="6" y="68"/>
                </a:lnTo>
                <a:lnTo>
                  <a:pt x="6" y="70"/>
                </a:lnTo>
                <a:lnTo>
                  <a:pt x="6" y="72"/>
                </a:lnTo>
                <a:lnTo>
                  <a:pt x="6" y="76"/>
                </a:lnTo>
                <a:lnTo>
                  <a:pt x="7" y="80"/>
                </a:lnTo>
                <a:lnTo>
                  <a:pt x="7" y="86"/>
                </a:lnTo>
                <a:lnTo>
                  <a:pt x="9" y="93"/>
                </a:lnTo>
                <a:lnTo>
                  <a:pt x="10" y="104"/>
                </a:lnTo>
                <a:lnTo>
                  <a:pt x="11" y="117"/>
                </a:lnTo>
                <a:lnTo>
                  <a:pt x="13" y="133"/>
                </a:lnTo>
                <a:lnTo>
                  <a:pt x="16" y="149"/>
                </a:lnTo>
                <a:lnTo>
                  <a:pt x="20" y="169"/>
                </a:lnTo>
                <a:lnTo>
                  <a:pt x="23" y="190"/>
                </a:lnTo>
                <a:lnTo>
                  <a:pt x="27" y="212"/>
                </a:lnTo>
                <a:lnTo>
                  <a:pt x="32" y="234"/>
                </a:lnTo>
                <a:lnTo>
                  <a:pt x="36" y="260"/>
                </a:lnTo>
                <a:lnTo>
                  <a:pt x="41" y="284"/>
                </a:lnTo>
                <a:lnTo>
                  <a:pt x="46" y="310"/>
                </a:lnTo>
                <a:lnTo>
                  <a:pt x="52" y="335"/>
                </a:lnTo>
                <a:lnTo>
                  <a:pt x="56" y="361"/>
                </a:lnTo>
                <a:lnTo>
                  <a:pt x="62" y="386"/>
                </a:lnTo>
                <a:lnTo>
                  <a:pt x="68" y="410"/>
                </a:lnTo>
                <a:lnTo>
                  <a:pt x="73" y="433"/>
                </a:lnTo>
                <a:lnTo>
                  <a:pt x="78" y="458"/>
                </a:lnTo>
                <a:lnTo>
                  <a:pt x="84" y="483"/>
                </a:lnTo>
                <a:lnTo>
                  <a:pt x="89" y="510"/>
                </a:lnTo>
                <a:lnTo>
                  <a:pt x="97" y="535"/>
                </a:lnTo>
                <a:lnTo>
                  <a:pt x="103" y="563"/>
                </a:lnTo>
                <a:lnTo>
                  <a:pt x="110" y="589"/>
                </a:lnTo>
                <a:lnTo>
                  <a:pt x="118" y="616"/>
                </a:lnTo>
                <a:lnTo>
                  <a:pt x="126" y="641"/>
                </a:lnTo>
                <a:lnTo>
                  <a:pt x="132" y="667"/>
                </a:lnTo>
                <a:lnTo>
                  <a:pt x="139" y="692"/>
                </a:lnTo>
                <a:lnTo>
                  <a:pt x="146" y="716"/>
                </a:lnTo>
                <a:lnTo>
                  <a:pt x="154" y="737"/>
                </a:lnTo>
                <a:lnTo>
                  <a:pt x="159" y="758"/>
                </a:lnTo>
                <a:lnTo>
                  <a:pt x="166" y="775"/>
                </a:lnTo>
                <a:lnTo>
                  <a:pt x="172" y="792"/>
                </a:lnTo>
                <a:lnTo>
                  <a:pt x="177" y="804"/>
                </a:lnTo>
                <a:lnTo>
                  <a:pt x="181" y="817"/>
                </a:lnTo>
                <a:lnTo>
                  <a:pt x="187" y="831"/>
                </a:lnTo>
                <a:lnTo>
                  <a:pt x="193" y="847"/>
                </a:lnTo>
                <a:lnTo>
                  <a:pt x="200" y="863"/>
                </a:lnTo>
                <a:lnTo>
                  <a:pt x="207" y="882"/>
                </a:lnTo>
                <a:lnTo>
                  <a:pt x="215" y="900"/>
                </a:lnTo>
                <a:lnTo>
                  <a:pt x="223" y="920"/>
                </a:lnTo>
                <a:lnTo>
                  <a:pt x="232" y="939"/>
                </a:lnTo>
                <a:lnTo>
                  <a:pt x="240" y="960"/>
                </a:lnTo>
                <a:lnTo>
                  <a:pt x="248" y="980"/>
                </a:lnTo>
                <a:lnTo>
                  <a:pt x="256" y="1001"/>
                </a:lnTo>
                <a:lnTo>
                  <a:pt x="265" y="1019"/>
                </a:lnTo>
                <a:lnTo>
                  <a:pt x="273" y="1039"/>
                </a:lnTo>
                <a:lnTo>
                  <a:pt x="281" y="1057"/>
                </a:lnTo>
                <a:lnTo>
                  <a:pt x="288" y="1074"/>
                </a:lnTo>
                <a:lnTo>
                  <a:pt x="296" y="1089"/>
                </a:lnTo>
                <a:lnTo>
                  <a:pt x="302" y="1106"/>
                </a:lnTo>
                <a:lnTo>
                  <a:pt x="309" y="1123"/>
                </a:lnTo>
                <a:lnTo>
                  <a:pt x="316" y="1141"/>
                </a:lnTo>
                <a:lnTo>
                  <a:pt x="324" y="1158"/>
                </a:lnTo>
                <a:lnTo>
                  <a:pt x="332" y="1177"/>
                </a:lnTo>
                <a:lnTo>
                  <a:pt x="341" y="1196"/>
                </a:lnTo>
                <a:lnTo>
                  <a:pt x="349" y="1215"/>
                </a:lnTo>
                <a:lnTo>
                  <a:pt x="358" y="1233"/>
                </a:lnTo>
                <a:lnTo>
                  <a:pt x="366" y="1252"/>
                </a:lnTo>
                <a:lnTo>
                  <a:pt x="374" y="1270"/>
                </a:lnTo>
                <a:lnTo>
                  <a:pt x="381" y="1288"/>
                </a:lnTo>
                <a:lnTo>
                  <a:pt x="390" y="1304"/>
                </a:lnTo>
                <a:lnTo>
                  <a:pt x="396" y="1320"/>
                </a:lnTo>
                <a:lnTo>
                  <a:pt x="403" y="1333"/>
                </a:lnTo>
                <a:lnTo>
                  <a:pt x="409" y="1345"/>
                </a:lnTo>
                <a:lnTo>
                  <a:pt x="414" y="1355"/>
                </a:lnTo>
                <a:lnTo>
                  <a:pt x="420" y="1366"/>
                </a:lnTo>
                <a:lnTo>
                  <a:pt x="425" y="1378"/>
                </a:lnTo>
                <a:lnTo>
                  <a:pt x="432" y="1390"/>
                </a:lnTo>
                <a:lnTo>
                  <a:pt x="439" y="1402"/>
                </a:lnTo>
                <a:lnTo>
                  <a:pt x="447" y="1418"/>
                </a:lnTo>
                <a:lnTo>
                  <a:pt x="456" y="1431"/>
                </a:lnTo>
                <a:lnTo>
                  <a:pt x="465" y="1446"/>
                </a:lnTo>
                <a:lnTo>
                  <a:pt x="474" y="1459"/>
                </a:lnTo>
                <a:lnTo>
                  <a:pt x="484" y="1474"/>
                </a:lnTo>
                <a:lnTo>
                  <a:pt x="493" y="1488"/>
                </a:lnTo>
                <a:lnTo>
                  <a:pt x="502" y="1503"/>
                </a:lnTo>
                <a:lnTo>
                  <a:pt x="512" y="1516"/>
                </a:lnTo>
                <a:lnTo>
                  <a:pt x="522" y="1529"/>
                </a:lnTo>
                <a:lnTo>
                  <a:pt x="531" y="1542"/>
                </a:lnTo>
                <a:lnTo>
                  <a:pt x="539" y="1553"/>
                </a:lnTo>
                <a:lnTo>
                  <a:pt x="548" y="1562"/>
                </a:lnTo>
                <a:lnTo>
                  <a:pt x="556" y="1574"/>
                </a:lnTo>
                <a:lnTo>
                  <a:pt x="566" y="1584"/>
                </a:lnTo>
                <a:lnTo>
                  <a:pt x="575" y="1595"/>
                </a:lnTo>
                <a:lnTo>
                  <a:pt x="586" y="1606"/>
                </a:lnTo>
                <a:lnTo>
                  <a:pt x="597" y="1620"/>
                </a:lnTo>
                <a:lnTo>
                  <a:pt x="608" y="1631"/>
                </a:lnTo>
                <a:lnTo>
                  <a:pt x="619" y="1643"/>
                </a:lnTo>
                <a:lnTo>
                  <a:pt x="632" y="1654"/>
                </a:lnTo>
                <a:lnTo>
                  <a:pt x="643" y="1666"/>
                </a:lnTo>
                <a:lnTo>
                  <a:pt x="654" y="1677"/>
                </a:lnTo>
                <a:lnTo>
                  <a:pt x="665" y="1688"/>
                </a:lnTo>
                <a:lnTo>
                  <a:pt x="677" y="1698"/>
                </a:lnTo>
                <a:lnTo>
                  <a:pt x="687" y="1708"/>
                </a:lnTo>
                <a:lnTo>
                  <a:pt x="698" y="1716"/>
                </a:lnTo>
                <a:lnTo>
                  <a:pt x="707" y="1724"/>
                </a:lnTo>
                <a:lnTo>
                  <a:pt x="716" y="1730"/>
                </a:lnTo>
                <a:lnTo>
                  <a:pt x="724" y="1738"/>
                </a:lnTo>
                <a:lnTo>
                  <a:pt x="732" y="1743"/>
                </a:lnTo>
                <a:lnTo>
                  <a:pt x="740" y="1750"/>
                </a:lnTo>
                <a:lnTo>
                  <a:pt x="749" y="1756"/>
                </a:lnTo>
                <a:lnTo>
                  <a:pt x="756" y="1763"/>
                </a:lnTo>
                <a:lnTo>
                  <a:pt x="766" y="1769"/>
                </a:lnTo>
                <a:lnTo>
                  <a:pt x="773" y="1774"/>
                </a:lnTo>
                <a:lnTo>
                  <a:pt x="782" y="1780"/>
                </a:lnTo>
                <a:lnTo>
                  <a:pt x="790" y="1786"/>
                </a:lnTo>
                <a:lnTo>
                  <a:pt x="798" y="1792"/>
                </a:lnTo>
                <a:lnTo>
                  <a:pt x="804" y="1798"/>
                </a:lnTo>
                <a:lnTo>
                  <a:pt x="811" y="1801"/>
                </a:lnTo>
                <a:lnTo>
                  <a:pt x="816" y="1806"/>
                </a:lnTo>
                <a:lnTo>
                  <a:pt x="822" y="1809"/>
                </a:lnTo>
                <a:lnTo>
                  <a:pt x="826" y="1812"/>
                </a:lnTo>
                <a:lnTo>
                  <a:pt x="830" y="1814"/>
                </a:lnTo>
                <a:lnTo>
                  <a:pt x="832" y="1817"/>
                </a:lnTo>
                <a:lnTo>
                  <a:pt x="836" y="1819"/>
                </a:lnTo>
                <a:lnTo>
                  <a:pt x="841" y="1822"/>
                </a:lnTo>
                <a:lnTo>
                  <a:pt x="846" y="1824"/>
                </a:lnTo>
                <a:lnTo>
                  <a:pt x="851" y="1828"/>
                </a:lnTo>
                <a:lnTo>
                  <a:pt x="857" y="1829"/>
                </a:lnTo>
                <a:lnTo>
                  <a:pt x="862" y="1833"/>
                </a:lnTo>
                <a:lnTo>
                  <a:pt x="870" y="1835"/>
                </a:lnTo>
                <a:lnTo>
                  <a:pt x="876" y="1839"/>
                </a:lnTo>
                <a:lnTo>
                  <a:pt x="883" y="1842"/>
                </a:lnTo>
                <a:lnTo>
                  <a:pt x="890" y="1846"/>
                </a:lnTo>
                <a:lnTo>
                  <a:pt x="897" y="1847"/>
                </a:lnTo>
                <a:lnTo>
                  <a:pt x="903" y="1851"/>
                </a:lnTo>
                <a:lnTo>
                  <a:pt x="910" y="1853"/>
                </a:lnTo>
                <a:lnTo>
                  <a:pt x="917" y="1856"/>
                </a:lnTo>
                <a:lnTo>
                  <a:pt x="924" y="1858"/>
                </a:lnTo>
                <a:lnTo>
                  <a:pt x="930" y="1862"/>
                </a:lnTo>
                <a:lnTo>
                  <a:pt x="937" y="1864"/>
                </a:lnTo>
                <a:lnTo>
                  <a:pt x="946" y="1868"/>
                </a:lnTo>
                <a:lnTo>
                  <a:pt x="955" y="1870"/>
                </a:lnTo>
                <a:lnTo>
                  <a:pt x="964" y="1874"/>
                </a:lnTo>
                <a:lnTo>
                  <a:pt x="975" y="1877"/>
                </a:lnTo>
                <a:lnTo>
                  <a:pt x="987" y="1881"/>
                </a:lnTo>
                <a:lnTo>
                  <a:pt x="998" y="1883"/>
                </a:lnTo>
                <a:lnTo>
                  <a:pt x="1010" y="1887"/>
                </a:lnTo>
                <a:lnTo>
                  <a:pt x="1021" y="1890"/>
                </a:lnTo>
                <a:lnTo>
                  <a:pt x="1032" y="1894"/>
                </a:lnTo>
                <a:lnTo>
                  <a:pt x="1044" y="1897"/>
                </a:lnTo>
                <a:lnTo>
                  <a:pt x="1055" y="1900"/>
                </a:lnTo>
                <a:lnTo>
                  <a:pt x="1066" y="1902"/>
                </a:lnTo>
                <a:lnTo>
                  <a:pt x="1076" y="1906"/>
                </a:lnTo>
                <a:lnTo>
                  <a:pt x="1087" y="1907"/>
                </a:lnTo>
                <a:lnTo>
                  <a:pt x="1096" y="1911"/>
                </a:lnTo>
                <a:lnTo>
                  <a:pt x="1106" y="1913"/>
                </a:lnTo>
                <a:lnTo>
                  <a:pt x="1118" y="1916"/>
                </a:lnTo>
                <a:lnTo>
                  <a:pt x="1130" y="1918"/>
                </a:lnTo>
                <a:lnTo>
                  <a:pt x="1141" y="1922"/>
                </a:lnTo>
                <a:lnTo>
                  <a:pt x="1154" y="1924"/>
                </a:lnTo>
                <a:lnTo>
                  <a:pt x="1168" y="1926"/>
                </a:lnTo>
                <a:lnTo>
                  <a:pt x="1181" y="1928"/>
                </a:lnTo>
                <a:lnTo>
                  <a:pt x="1192" y="1931"/>
                </a:lnTo>
                <a:lnTo>
                  <a:pt x="1206" y="1933"/>
                </a:lnTo>
                <a:lnTo>
                  <a:pt x="1218" y="1935"/>
                </a:lnTo>
                <a:lnTo>
                  <a:pt x="1231" y="1937"/>
                </a:lnTo>
                <a:lnTo>
                  <a:pt x="1241" y="1938"/>
                </a:lnTo>
                <a:lnTo>
                  <a:pt x="1252" y="1940"/>
                </a:lnTo>
                <a:lnTo>
                  <a:pt x="1261" y="1942"/>
                </a:lnTo>
                <a:lnTo>
                  <a:pt x="1270" y="1942"/>
                </a:lnTo>
                <a:lnTo>
                  <a:pt x="1278" y="1944"/>
                </a:lnTo>
                <a:lnTo>
                  <a:pt x="1287" y="1945"/>
                </a:lnTo>
                <a:lnTo>
                  <a:pt x="1298" y="1946"/>
                </a:lnTo>
                <a:lnTo>
                  <a:pt x="1309" y="1946"/>
                </a:lnTo>
                <a:lnTo>
                  <a:pt x="1320" y="1948"/>
                </a:lnTo>
                <a:lnTo>
                  <a:pt x="1334" y="1948"/>
                </a:lnTo>
                <a:lnTo>
                  <a:pt x="1347" y="1950"/>
                </a:lnTo>
                <a:lnTo>
                  <a:pt x="1360" y="1950"/>
                </a:lnTo>
                <a:lnTo>
                  <a:pt x="1373" y="1952"/>
                </a:lnTo>
                <a:lnTo>
                  <a:pt x="1386" y="1952"/>
                </a:lnTo>
                <a:lnTo>
                  <a:pt x="1399" y="1954"/>
                </a:lnTo>
                <a:lnTo>
                  <a:pt x="1412" y="1954"/>
                </a:lnTo>
                <a:lnTo>
                  <a:pt x="1424" y="1956"/>
                </a:lnTo>
                <a:lnTo>
                  <a:pt x="1436" y="1956"/>
                </a:lnTo>
                <a:lnTo>
                  <a:pt x="1447" y="1956"/>
                </a:lnTo>
                <a:lnTo>
                  <a:pt x="1458" y="1956"/>
                </a:lnTo>
                <a:lnTo>
                  <a:pt x="1468" y="1958"/>
                </a:lnTo>
                <a:lnTo>
                  <a:pt x="1479" y="1958"/>
                </a:lnTo>
                <a:lnTo>
                  <a:pt x="1490" y="1958"/>
                </a:lnTo>
                <a:lnTo>
                  <a:pt x="1503" y="1958"/>
                </a:lnTo>
                <a:lnTo>
                  <a:pt x="1515" y="1960"/>
                </a:lnTo>
                <a:lnTo>
                  <a:pt x="1528" y="1960"/>
                </a:lnTo>
                <a:lnTo>
                  <a:pt x="1541" y="1960"/>
                </a:lnTo>
                <a:lnTo>
                  <a:pt x="1555" y="1960"/>
                </a:lnTo>
                <a:lnTo>
                  <a:pt x="1568" y="1961"/>
                </a:lnTo>
                <a:lnTo>
                  <a:pt x="1581" y="1961"/>
                </a:lnTo>
                <a:lnTo>
                  <a:pt x="1592" y="1961"/>
                </a:lnTo>
                <a:lnTo>
                  <a:pt x="1606" y="1961"/>
                </a:lnTo>
                <a:lnTo>
                  <a:pt x="1616" y="1961"/>
                </a:lnTo>
                <a:lnTo>
                  <a:pt x="1628" y="1961"/>
                </a:lnTo>
                <a:lnTo>
                  <a:pt x="1637" y="1961"/>
                </a:lnTo>
                <a:lnTo>
                  <a:pt x="1646" y="1961"/>
                </a:lnTo>
                <a:lnTo>
                  <a:pt x="1652" y="1961"/>
                </a:lnTo>
                <a:lnTo>
                  <a:pt x="1658" y="1961"/>
                </a:lnTo>
                <a:lnTo>
                  <a:pt x="1660" y="1961"/>
                </a:lnTo>
                <a:lnTo>
                  <a:pt x="1664" y="1961"/>
                </a:lnTo>
                <a:lnTo>
                  <a:pt x="1666" y="1961"/>
                </a:lnTo>
                <a:lnTo>
                  <a:pt x="1668" y="1961"/>
                </a:lnTo>
                <a:lnTo>
                  <a:pt x="1670" y="1961"/>
                </a:lnTo>
                <a:lnTo>
                  <a:pt x="1672" y="1961"/>
                </a:lnTo>
                <a:lnTo>
                  <a:pt x="1674" y="1961"/>
                </a:lnTo>
                <a:lnTo>
                  <a:pt x="1677" y="1961"/>
                </a:lnTo>
                <a:lnTo>
                  <a:pt x="1680" y="1961"/>
                </a:lnTo>
                <a:lnTo>
                  <a:pt x="1687" y="1961"/>
                </a:lnTo>
                <a:lnTo>
                  <a:pt x="1694" y="1961"/>
                </a:lnTo>
                <a:lnTo>
                  <a:pt x="1704" y="1961"/>
                </a:lnTo>
                <a:lnTo>
                  <a:pt x="1716" y="1961"/>
                </a:lnTo>
                <a:lnTo>
                  <a:pt x="1730" y="1961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893960" y="1887480"/>
            <a:ext cx="4687920" cy="5168880"/>
          </a:xfrm>
          <a:custGeom>
            <a:avLst/>
            <a:gdLst/>
            <a:ahLst/>
            <a:rect l="l" t="t" r="r" b="b"/>
            <a:pathLst>
              <a:path w="1891" h="2150">
                <a:moveTo>
                  <a:pt x="0" y="0"/>
                </a:moveTo>
                <a:lnTo>
                  <a:pt x="1" y="18"/>
                </a:lnTo>
                <a:lnTo>
                  <a:pt x="3" y="32"/>
                </a:lnTo>
                <a:lnTo>
                  <a:pt x="3" y="45"/>
                </a:lnTo>
                <a:lnTo>
                  <a:pt x="5" y="53"/>
                </a:lnTo>
                <a:lnTo>
                  <a:pt x="5" y="60"/>
                </a:lnTo>
                <a:lnTo>
                  <a:pt x="5" y="65"/>
                </a:lnTo>
                <a:lnTo>
                  <a:pt x="5" y="69"/>
                </a:lnTo>
                <a:lnTo>
                  <a:pt x="7" y="71"/>
                </a:lnTo>
                <a:lnTo>
                  <a:pt x="7" y="74"/>
                </a:lnTo>
                <a:lnTo>
                  <a:pt x="7" y="76"/>
                </a:lnTo>
                <a:lnTo>
                  <a:pt x="7" y="78"/>
                </a:lnTo>
                <a:lnTo>
                  <a:pt x="8" y="80"/>
                </a:lnTo>
                <a:lnTo>
                  <a:pt x="8" y="84"/>
                </a:lnTo>
                <a:lnTo>
                  <a:pt x="8" y="88"/>
                </a:lnTo>
                <a:lnTo>
                  <a:pt x="9" y="95"/>
                </a:lnTo>
                <a:lnTo>
                  <a:pt x="11" y="103"/>
                </a:lnTo>
                <a:lnTo>
                  <a:pt x="12" y="114"/>
                </a:lnTo>
                <a:lnTo>
                  <a:pt x="14" y="129"/>
                </a:lnTo>
                <a:lnTo>
                  <a:pt x="16" y="146"/>
                </a:lnTo>
                <a:lnTo>
                  <a:pt x="20" y="164"/>
                </a:lnTo>
                <a:lnTo>
                  <a:pt x="23" y="186"/>
                </a:lnTo>
                <a:lnTo>
                  <a:pt x="26" y="208"/>
                </a:lnTo>
                <a:lnTo>
                  <a:pt x="31" y="232"/>
                </a:lnTo>
                <a:lnTo>
                  <a:pt x="36" y="258"/>
                </a:lnTo>
                <a:lnTo>
                  <a:pt x="41" y="285"/>
                </a:lnTo>
                <a:lnTo>
                  <a:pt x="46" y="312"/>
                </a:lnTo>
                <a:lnTo>
                  <a:pt x="52" y="340"/>
                </a:lnTo>
                <a:lnTo>
                  <a:pt x="58" y="368"/>
                </a:lnTo>
                <a:lnTo>
                  <a:pt x="63" y="396"/>
                </a:lnTo>
                <a:lnTo>
                  <a:pt x="69" y="423"/>
                </a:lnTo>
                <a:lnTo>
                  <a:pt x="74" y="450"/>
                </a:lnTo>
                <a:lnTo>
                  <a:pt x="81" y="475"/>
                </a:lnTo>
                <a:lnTo>
                  <a:pt x="86" y="502"/>
                </a:lnTo>
                <a:lnTo>
                  <a:pt x="93" y="529"/>
                </a:lnTo>
                <a:lnTo>
                  <a:pt x="100" y="558"/>
                </a:lnTo>
                <a:lnTo>
                  <a:pt x="107" y="586"/>
                </a:lnTo>
                <a:lnTo>
                  <a:pt x="114" y="616"/>
                </a:lnTo>
                <a:lnTo>
                  <a:pt x="122" y="646"/>
                </a:lnTo>
                <a:lnTo>
                  <a:pt x="130" y="675"/>
                </a:lnTo>
                <a:lnTo>
                  <a:pt x="138" y="703"/>
                </a:lnTo>
                <a:lnTo>
                  <a:pt x="146" y="732"/>
                </a:lnTo>
                <a:lnTo>
                  <a:pt x="153" y="758"/>
                </a:lnTo>
                <a:lnTo>
                  <a:pt x="161" y="785"/>
                </a:lnTo>
                <a:lnTo>
                  <a:pt x="169" y="808"/>
                </a:lnTo>
                <a:lnTo>
                  <a:pt x="175" y="830"/>
                </a:lnTo>
                <a:lnTo>
                  <a:pt x="182" y="850"/>
                </a:lnTo>
                <a:lnTo>
                  <a:pt x="188" y="867"/>
                </a:lnTo>
                <a:lnTo>
                  <a:pt x="194" y="880"/>
                </a:lnTo>
                <a:lnTo>
                  <a:pt x="199" y="894"/>
                </a:lnTo>
                <a:lnTo>
                  <a:pt x="205" y="910"/>
                </a:lnTo>
                <a:lnTo>
                  <a:pt x="212" y="928"/>
                </a:lnTo>
                <a:lnTo>
                  <a:pt x="220" y="945"/>
                </a:lnTo>
                <a:lnTo>
                  <a:pt x="228" y="966"/>
                </a:lnTo>
                <a:lnTo>
                  <a:pt x="236" y="986"/>
                </a:lnTo>
                <a:lnTo>
                  <a:pt x="246" y="1008"/>
                </a:lnTo>
                <a:lnTo>
                  <a:pt x="255" y="1029"/>
                </a:lnTo>
                <a:lnTo>
                  <a:pt x="263" y="1051"/>
                </a:lnTo>
                <a:lnTo>
                  <a:pt x="272" y="1074"/>
                </a:lnTo>
                <a:lnTo>
                  <a:pt x="282" y="1096"/>
                </a:lnTo>
                <a:lnTo>
                  <a:pt x="291" y="1117"/>
                </a:lnTo>
                <a:lnTo>
                  <a:pt x="298" y="1138"/>
                </a:lnTo>
                <a:lnTo>
                  <a:pt x="308" y="1158"/>
                </a:lnTo>
                <a:lnTo>
                  <a:pt x="316" y="1176"/>
                </a:lnTo>
                <a:lnTo>
                  <a:pt x="324" y="1194"/>
                </a:lnTo>
                <a:lnTo>
                  <a:pt x="331" y="1212"/>
                </a:lnTo>
                <a:lnTo>
                  <a:pt x="338" y="1230"/>
                </a:lnTo>
                <a:lnTo>
                  <a:pt x="347" y="1250"/>
                </a:lnTo>
                <a:lnTo>
                  <a:pt x="356" y="1269"/>
                </a:lnTo>
                <a:lnTo>
                  <a:pt x="365" y="1290"/>
                </a:lnTo>
                <a:lnTo>
                  <a:pt x="374" y="1310"/>
                </a:lnTo>
                <a:lnTo>
                  <a:pt x="384" y="1331"/>
                </a:lnTo>
                <a:lnTo>
                  <a:pt x="393" y="1351"/>
                </a:lnTo>
                <a:lnTo>
                  <a:pt x="400" y="1372"/>
                </a:lnTo>
                <a:lnTo>
                  <a:pt x="410" y="1392"/>
                </a:lnTo>
                <a:lnTo>
                  <a:pt x="418" y="1411"/>
                </a:lnTo>
                <a:lnTo>
                  <a:pt x="427" y="1429"/>
                </a:lnTo>
                <a:lnTo>
                  <a:pt x="434" y="1446"/>
                </a:lnTo>
                <a:lnTo>
                  <a:pt x="442" y="1460"/>
                </a:lnTo>
                <a:lnTo>
                  <a:pt x="447" y="1474"/>
                </a:lnTo>
                <a:lnTo>
                  <a:pt x="454" y="1485"/>
                </a:lnTo>
                <a:lnTo>
                  <a:pt x="459" y="1497"/>
                </a:lnTo>
                <a:lnTo>
                  <a:pt x="465" y="1509"/>
                </a:lnTo>
                <a:lnTo>
                  <a:pt x="472" y="1524"/>
                </a:lnTo>
                <a:lnTo>
                  <a:pt x="481" y="1537"/>
                </a:lnTo>
                <a:lnTo>
                  <a:pt x="490" y="1553"/>
                </a:lnTo>
                <a:lnTo>
                  <a:pt x="499" y="1568"/>
                </a:lnTo>
                <a:lnTo>
                  <a:pt x="508" y="1584"/>
                </a:lnTo>
                <a:lnTo>
                  <a:pt x="520" y="1599"/>
                </a:lnTo>
                <a:lnTo>
                  <a:pt x="529" y="1616"/>
                </a:lnTo>
                <a:lnTo>
                  <a:pt x="540" y="1631"/>
                </a:lnTo>
                <a:lnTo>
                  <a:pt x="550" y="1646"/>
                </a:lnTo>
                <a:lnTo>
                  <a:pt x="561" y="1662"/>
                </a:lnTo>
                <a:lnTo>
                  <a:pt x="571" y="1676"/>
                </a:lnTo>
                <a:lnTo>
                  <a:pt x="581" y="1690"/>
                </a:lnTo>
                <a:lnTo>
                  <a:pt x="590" y="1701"/>
                </a:lnTo>
                <a:lnTo>
                  <a:pt x="600" y="1712"/>
                </a:lnTo>
                <a:lnTo>
                  <a:pt x="609" y="1724"/>
                </a:lnTo>
                <a:lnTo>
                  <a:pt x="618" y="1736"/>
                </a:lnTo>
                <a:lnTo>
                  <a:pt x="629" y="1749"/>
                </a:lnTo>
                <a:lnTo>
                  <a:pt x="640" y="1761"/>
                </a:lnTo>
                <a:lnTo>
                  <a:pt x="652" y="1774"/>
                </a:lnTo>
                <a:lnTo>
                  <a:pt x="665" y="1787"/>
                </a:lnTo>
                <a:lnTo>
                  <a:pt x="678" y="1800"/>
                </a:lnTo>
                <a:lnTo>
                  <a:pt x="691" y="1812"/>
                </a:lnTo>
                <a:lnTo>
                  <a:pt x="702" y="1826"/>
                </a:lnTo>
                <a:lnTo>
                  <a:pt x="716" y="1839"/>
                </a:lnTo>
                <a:lnTo>
                  <a:pt x="727" y="1850"/>
                </a:lnTo>
                <a:lnTo>
                  <a:pt x="740" y="1861"/>
                </a:lnTo>
                <a:lnTo>
                  <a:pt x="752" y="1872"/>
                </a:lnTo>
                <a:lnTo>
                  <a:pt x="763" y="1881"/>
                </a:lnTo>
                <a:lnTo>
                  <a:pt x="772" y="1889"/>
                </a:lnTo>
                <a:lnTo>
                  <a:pt x="783" y="1896"/>
                </a:lnTo>
                <a:lnTo>
                  <a:pt x="790" y="1904"/>
                </a:lnTo>
                <a:lnTo>
                  <a:pt x="800" y="1910"/>
                </a:lnTo>
                <a:lnTo>
                  <a:pt x="809" y="1918"/>
                </a:lnTo>
                <a:lnTo>
                  <a:pt x="818" y="1924"/>
                </a:lnTo>
                <a:lnTo>
                  <a:pt x="827" y="1931"/>
                </a:lnTo>
                <a:lnTo>
                  <a:pt x="836" y="1938"/>
                </a:lnTo>
                <a:lnTo>
                  <a:pt x="846" y="1945"/>
                </a:lnTo>
                <a:lnTo>
                  <a:pt x="855" y="1951"/>
                </a:lnTo>
                <a:lnTo>
                  <a:pt x="863" y="1958"/>
                </a:lnTo>
                <a:lnTo>
                  <a:pt x="872" y="1964"/>
                </a:lnTo>
                <a:lnTo>
                  <a:pt x="879" y="1970"/>
                </a:lnTo>
                <a:lnTo>
                  <a:pt x="886" y="1974"/>
                </a:lnTo>
                <a:lnTo>
                  <a:pt x="892" y="1979"/>
                </a:lnTo>
                <a:lnTo>
                  <a:pt x="898" y="1983"/>
                </a:lnTo>
                <a:lnTo>
                  <a:pt x="902" y="1986"/>
                </a:lnTo>
                <a:lnTo>
                  <a:pt x="907" y="1988"/>
                </a:lnTo>
                <a:lnTo>
                  <a:pt x="910" y="1991"/>
                </a:lnTo>
                <a:lnTo>
                  <a:pt x="914" y="1993"/>
                </a:lnTo>
                <a:lnTo>
                  <a:pt x="919" y="1996"/>
                </a:lnTo>
                <a:lnTo>
                  <a:pt x="924" y="1998"/>
                </a:lnTo>
                <a:lnTo>
                  <a:pt x="930" y="2002"/>
                </a:lnTo>
                <a:lnTo>
                  <a:pt x="936" y="2005"/>
                </a:lnTo>
                <a:lnTo>
                  <a:pt x="944" y="2009"/>
                </a:lnTo>
                <a:lnTo>
                  <a:pt x="951" y="2011"/>
                </a:lnTo>
                <a:lnTo>
                  <a:pt x="958" y="2014"/>
                </a:lnTo>
                <a:lnTo>
                  <a:pt x="966" y="2018"/>
                </a:lnTo>
                <a:lnTo>
                  <a:pt x="973" y="2022"/>
                </a:lnTo>
                <a:lnTo>
                  <a:pt x="981" y="2025"/>
                </a:lnTo>
                <a:lnTo>
                  <a:pt x="988" y="2029"/>
                </a:lnTo>
                <a:lnTo>
                  <a:pt x="996" y="2032"/>
                </a:lnTo>
                <a:lnTo>
                  <a:pt x="1002" y="2034"/>
                </a:lnTo>
                <a:lnTo>
                  <a:pt x="1010" y="2036"/>
                </a:lnTo>
                <a:lnTo>
                  <a:pt x="1017" y="2040"/>
                </a:lnTo>
                <a:lnTo>
                  <a:pt x="1025" y="2043"/>
                </a:lnTo>
                <a:lnTo>
                  <a:pt x="1034" y="2047"/>
                </a:lnTo>
                <a:lnTo>
                  <a:pt x="1044" y="2049"/>
                </a:lnTo>
                <a:lnTo>
                  <a:pt x="1055" y="2053"/>
                </a:lnTo>
                <a:lnTo>
                  <a:pt x="1066" y="2056"/>
                </a:lnTo>
                <a:lnTo>
                  <a:pt x="1078" y="2060"/>
                </a:lnTo>
                <a:lnTo>
                  <a:pt x="1091" y="2063"/>
                </a:lnTo>
                <a:lnTo>
                  <a:pt x="1103" y="2067"/>
                </a:lnTo>
                <a:lnTo>
                  <a:pt x="1116" y="2071"/>
                </a:lnTo>
                <a:lnTo>
                  <a:pt x="1128" y="2074"/>
                </a:lnTo>
                <a:lnTo>
                  <a:pt x="1142" y="2078"/>
                </a:lnTo>
                <a:lnTo>
                  <a:pt x="1153" y="2082"/>
                </a:lnTo>
                <a:lnTo>
                  <a:pt x="1165" y="2085"/>
                </a:lnTo>
                <a:lnTo>
                  <a:pt x="1176" y="2088"/>
                </a:lnTo>
                <a:lnTo>
                  <a:pt x="1188" y="2090"/>
                </a:lnTo>
                <a:lnTo>
                  <a:pt x="1198" y="2094"/>
                </a:lnTo>
                <a:lnTo>
                  <a:pt x="1209" y="2096"/>
                </a:lnTo>
                <a:lnTo>
                  <a:pt x="1222" y="2100"/>
                </a:lnTo>
                <a:lnTo>
                  <a:pt x="1234" y="2101"/>
                </a:lnTo>
                <a:lnTo>
                  <a:pt x="1248" y="2105"/>
                </a:lnTo>
                <a:lnTo>
                  <a:pt x="1262" y="2107"/>
                </a:lnTo>
                <a:lnTo>
                  <a:pt x="1275" y="2110"/>
                </a:lnTo>
                <a:lnTo>
                  <a:pt x="1290" y="2112"/>
                </a:lnTo>
                <a:lnTo>
                  <a:pt x="1303" y="2116"/>
                </a:lnTo>
                <a:lnTo>
                  <a:pt x="1318" y="2118"/>
                </a:lnTo>
                <a:lnTo>
                  <a:pt x="1331" y="2120"/>
                </a:lnTo>
                <a:lnTo>
                  <a:pt x="1344" y="2122"/>
                </a:lnTo>
                <a:lnTo>
                  <a:pt x="1356" y="2124"/>
                </a:lnTo>
                <a:lnTo>
                  <a:pt x="1368" y="2126"/>
                </a:lnTo>
                <a:lnTo>
                  <a:pt x="1378" y="2128"/>
                </a:lnTo>
                <a:lnTo>
                  <a:pt x="1388" y="2128"/>
                </a:lnTo>
                <a:lnTo>
                  <a:pt x="1397" y="2130"/>
                </a:lnTo>
                <a:lnTo>
                  <a:pt x="1407" y="2131"/>
                </a:lnTo>
                <a:lnTo>
                  <a:pt x="1418" y="2133"/>
                </a:lnTo>
                <a:lnTo>
                  <a:pt x="1431" y="2133"/>
                </a:lnTo>
                <a:lnTo>
                  <a:pt x="1444" y="2135"/>
                </a:lnTo>
                <a:lnTo>
                  <a:pt x="1457" y="2136"/>
                </a:lnTo>
                <a:lnTo>
                  <a:pt x="1471" y="2138"/>
                </a:lnTo>
                <a:lnTo>
                  <a:pt x="1486" y="2138"/>
                </a:lnTo>
                <a:lnTo>
                  <a:pt x="1499" y="2139"/>
                </a:lnTo>
                <a:lnTo>
                  <a:pt x="1514" y="2139"/>
                </a:lnTo>
                <a:lnTo>
                  <a:pt x="1528" y="2141"/>
                </a:lnTo>
                <a:lnTo>
                  <a:pt x="1543" y="2141"/>
                </a:lnTo>
                <a:lnTo>
                  <a:pt x="1556" y="2143"/>
                </a:lnTo>
                <a:lnTo>
                  <a:pt x="1569" y="2143"/>
                </a:lnTo>
                <a:lnTo>
                  <a:pt x="1581" y="2144"/>
                </a:lnTo>
                <a:lnTo>
                  <a:pt x="1593" y="2144"/>
                </a:lnTo>
                <a:lnTo>
                  <a:pt x="1604" y="2146"/>
                </a:lnTo>
                <a:lnTo>
                  <a:pt x="1616" y="2146"/>
                </a:lnTo>
                <a:lnTo>
                  <a:pt x="1628" y="2146"/>
                </a:lnTo>
                <a:lnTo>
                  <a:pt x="1642" y="2146"/>
                </a:lnTo>
                <a:lnTo>
                  <a:pt x="1655" y="2148"/>
                </a:lnTo>
                <a:lnTo>
                  <a:pt x="1670" y="2148"/>
                </a:lnTo>
                <a:lnTo>
                  <a:pt x="1684" y="2148"/>
                </a:lnTo>
                <a:lnTo>
                  <a:pt x="1700" y="2148"/>
                </a:lnTo>
                <a:lnTo>
                  <a:pt x="1712" y="2149"/>
                </a:lnTo>
                <a:lnTo>
                  <a:pt x="1728" y="2149"/>
                </a:lnTo>
                <a:lnTo>
                  <a:pt x="1741" y="2149"/>
                </a:lnTo>
                <a:lnTo>
                  <a:pt x="1754" y="2149"/>
                </a:lnTo>
                <a:lnTo>
                  <a:pt x="1766" y="2149"/>
                </a:lnTo>
                <a:lnTo>
                  <a:pt x="1778" y="2149"/>
                </a:lnTo>
                <a:lnTo>
                  <a:pt x="1788" y="2149"/>
                </a:lnTo>
                <a:lnTo>
                  <a:pt x="1799" y="2149"/>
                </a:lnTo>
                <a:lnTo>
                  <a:pt x="1806" y="2149"/>
                </a:lnTo>
                <a:lnTo>
                  <a:pt x="1811" y="2149"/>
                </a:lnTo>
                <a:lnTo>
                  <a:pt x="1815" y="2149"/>
                </a:lnTo>
                <a:lnTo>
                  <a:pt x="1819" y="2149"/>
                </a:lnTo>
                <a:lnTo>
                  <a:pt x="1820" y="2149"/>
                </a:lnTo>
                <a:lnTo>
                  <a:pt x="1822" y="2149"/>
                </a:lnTo>
                <a:lnTo>
                  <a:pt x="1824" y="2149"/>
                </a:lnTo>
                <a:lnTo>
                  <a:pt x="1827" y="2149"/>
                </a:lnTo>
                <a:lnTo>
                  <a:pt x="1829" y="2149"/>
                </a:lnTo>
                <a:lnTo>
                  <a:pt x="1832" y="2149"/>
                </a:lnTo>
                <a:lnTo>
                  <a:pt x="1836" y="2149"/>
                </a:lnTo>
                <a:lnTo>
                  <a:pt x="1843" y="2149"/>
                </a:lnTo>
                <a:lnTo>
                  <a:pt x="1850" y="2149"/>
                </a:lnTo>
                <a:lnTo>
                  <a:pt x="1861" y="2149"/>
                </a:lnTo>
                <a:lnTo>
                  <a:pt x="1874" y="2149"/>
                </a:lnTo>
                <a:lnTo>
                  <a:pt x="1890" y="2149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17960" y="1295280"/>
            <a:ext cx="3757680" cy="4125960"/>
          </a:xfrm>
          <a:custGeom>
            <a:avLst/>
            <a:gdLst/>
            <a:ahLst/>
            <a:rect l="l" t="t" r="r" b="b"/>
            <a:pathLst>
              <a:path w="1515" h="1716">
                <a:moveTo>
                  <a:pt x="0" y="0"/>
                </a:moveTo>
                <a:lnTo>
                  <a:pt x="0" y="15"/>
                </a:lnTo>
                <a:lnTo>
                  <a:pt x="2" y="26"/>
                </a:lnTo>
                <a:lnTo>
                  <a:pt x="2" y="36"/>
                </a:lnTo>
                <a:lnTo>
                  <a:pt x="4" y="42"/>
                </a:lnTo>
                <a:lnTo>
                  <a:pt x="4" y="48"/>
                </a:lnTo>
                <a:lnTo>
                  <a:pt x="4" y="52"/>
                </a:lnTo>
                <a:lnTo>
                  <a:pt x="4" y="55"/>
                </a:lnTo>
                <a:lnTo>
                  <a:pt x="6" y="57"/>
                </a:lnTo>
                <a:lnTo>
                  <a:pt x="6" y="58"/>
                </a:lnTo>
                <a:lnTo>
                  <a:pt x="6" y="60"/>
                </a:lnTo>
                <a:lnTo>
                  <a:pt x="6" y="62"/>
                </a:lnTo>
                <a:lnTo>
                  <a:pt x="6" y="64"/>
                </a:lnTo>
                <a:lnTo>
                  <a:pt x="6" y="68"/>
                </a:lnTo>
                <a:lnTo>
                  <a:pt x="7" y="71"/>
                </a:lnTo>
                <a:lnTo>
                  <a:pt x="7" y="76"/>
                </a:lnTo>
                <a:lnTo>
                  <a:pt x="9" y="82"/>
                </a:lnTo>
                <a:lnTo>
                  <a:pt x="9" y="92"/>
                </a:lnTo>
                <a:lnTo>
                  <a:pt x="10" y="104"/>
                </a:lnTo>
                <a:lnTo>
                  <a:pt x="12" y="117"/>
                </a:lnTo>
                <a:lnTo>
                  <a:pt x="15" y="132"/>
                </a:lnTo>
                <a:lnTo>
                  <a:pt x="17" y="149"/>
                </a:lnTo>
                <a:lnTo>
                  <a:pt x="21" y="166"/>
                </a:lnTo>
                <a:lnTo>
                  <a:pt x="25" y="186"/>
                </a:lnTo>
                <a:lnTo>
                  <a:pt x="29" y="206"/>
                </a:lnTo>
                <a:lnTo>
                  <a:pt x="33" y="228"/>
                </a:lnTo>
                <a:lnTo>
                  <a:pt x="37" y="250"/>
                </a:lnTo>
                <a:lnTo>
                  <a:pt x="40" y="272"/>
                </a:lnTo>
                <a:lnTo>
                  <a:pt x="46" y="294"/>
                </a:lnTo>
                <a:lnTo>
                  <a:pt x="50" y="316"/>
                </a:lnTo>
                <a:lnTo>
                  <a:pt x="56" y="338"/>
                </a:lnTo>
                <a:lnTo>
                  <a:pt x="59" y="359"/>
                </a:lnTo>
                <a:lnTo>
                  <a:pt x="65" y="379"/>
                </a:lnTo>
                <a:lnTo>
                  <a:pt x="68" y="401"/>
                </a:lnTo>
                <a:lnTo>
                  <a:pt x="74" y="422"/>
                </a:lnTo>
                <a:lnTo>
                  <a:pt x="79" y="445"/>
                </a:lnTo>
                <a:lnTo>
                  <a:pt x="85" y="468"/>
                </a:lnTo>
                <a:lnTo>
                  <a:pt x="90" y="492"/>
                </a:lnTo>
                <a:lnTo>
                  <a:pt x="97" y="515"/>
                </a:lnTo>
                <a:lnTo>
                  <a:pt x="103" y="539"/>
                </a:lnTo>
                <a:lnTo>
                  <a:pt x="110" y="562"/>
                </a:lnTo>
                <a:lnTo>
                  <a:pt x="116" y="584"/>
                </a:lnTo>
                <a:lnTo>
                  <a:pt x="122" y="606"/>
                </a:lnTo>
                <a:lnTo>
                  <a:pt x="128" y="627"/>
                </a:lnTo>
                <a:lnTo>
                  <a:pt x="135" y="645"/>
                </a:lnTo>
                <a:lnTo>
                  <a:pt x="140" y="663"/>
                </a:lnTo>
                <a:lnTo>
                  <a:pt x="146" y="679"/>
                </a:lnTo>
                <a:lnTo>
                  <a:pt x="150" y="692"/>
                </a:lnTo>
                <a:lnTo>
                  <a:pt x="156" y="702"/>
                </a:lnTo>
                <a:lnTo>
                  <a:pt x="160" y="714"/>
                </a:lnTo>
                <a:lnTo>
                  <a:pt x="164" y="727"/>
                </a:lnTo>
                <a:lnTo>
                  <a:pt x="170" y="741"/>
                </a:lnTo>
                <a:lnTo>
                  <a:pt x="176" y="755"/>
                </a:lnTo>
                <a:lnTo>
                  <a:pt x="182" y="771"/>
                </a:lnTo>
                <a:lnTo>
                  <a:pt x="189" y="787"/>
                </a:lnTo>
                <a:lnTo>
                  <a:pt x="196" y="805"/>
                </a:lnTo>
                <a:lnTo>
                  <a:pt x="204" y="822"/>
                </a:lnTo>
                <a:lnTo>
                  <a:pt x="211" y="840"/>
                </a:lnTo>
                <a:lnTo>
                  <a:pt x="218" y="857"/>
                </a:lnTo>
                <a:lnTo>
                  <a:pt x="226" y="875"/>
                </a:lnTo>
                <a:lnTo>
                  <a:pt x="233" y="892"/>
                </a:lnTo>
                <a:lnTo>
                  <a:pt x="239" y="908"/>
                </a:lnTo>
                <a:lnTo>
                  <a:pt x="246" y="925"/>
                </a:lnTo>
                <a:lnTo>
                  <a:pt x="253" y="940"/>
                </a:lnTo>
                <a:lnTo>
                  <a:pt x="260" y="953"/>
                </a:lnTo>
                <a:lnTo>
                  <a:pt x="266" y="968"/>
                </a:lnTo>
                <a:lnTo>
                  <a:pt x="272" y="982"/>
                </a:lnTo>
                <a:lnTo>
                  <a:pt x="278" y="998"/>
                </a:lnTo>
                <a:lnTo>
                  <a:pt x="285" y="1013"/>
                </a:lnTo>
                <a:lnTo>
                  <a:pt x="292" y="1030"/>
                </a:lnTo>
                <a:lnTo>
                  <a:pt x="300" y="1046"/>
                </a:lnTo>
                <a:lnTo>
                  <a:pt x="307" y="1063"/>
                </a:lnTo>
                <a:lnTo>
                  <a:pt x="314" y="1079"/>
                </a:lnTo>
                <a:lnTo>
                  <a:pt x="320" y="1096"/>
                </a:lnTo>
                <a:lnTo>
                  <a:pt x="328" y="1111"/>
                </a:lnTo>
                <a:lnTo>
                  <a:pt x="334" y="1126"/>
                </a:lnTo>
                <a:lnTo>
                  <a:pt x="342" y="1140"/>
                </a:lnTo>
                <a:lnTo>
                  <a:pt x="348" y="1154"/>
                </a:lnTo>
                <a:lnTo>
                  <a:pt x="354" y="1166"/>
                </a:lnTo>
                <a:lnTo>
                  <a:pt x="358" y="1177"/>
                </a:lnTo>
                <a:lnTo>
                  <a:pt x="364" y="1186"/>
                </a:lnTo>
                <a:lnTo>
                  <a:pt x="368" y="1196"/>
                </a:lnTo>
                <a:lnTo>
                  <a:pt x="372" y="1205"/>
                </a:lnTo>
                <a:lnTo>
                  <a:pt x="378" y="1216"/>
                </a:lnTo>
                <a:lnTo>
                  <a:pt x="385" y="1227"/>
                </a:lnTo>
                <a:lnTo>
                  <a:pt x="392" y="1240"/>
                </a:lnTo>
                <a:lnTo>
                  <a:pt x="399" y="1252"/>
                </a:lnTo>
                <a:lnTo>
                  <a:pt x="407" y="1265"/>
                </a:lnTo>
                <a:lnTo>
                  <a:pt x="416" y="1276"/>
                </a:lnTo>
                <a:lnTo>
                  <a:pt x="424" y="1290"/>
                </a:lnTo>
                <a:lnTo>
                  <a:pt x="433" y="1302"/>
                </a:lnTo>
                <a:lnTo>
                  <a:pt x="440" y="1315"/>
                </a:lnTo>
                <a:lnTo>
                  <a:pt x="450" y="1326"/>
                </a:lnTo>
                <a:lnTo>
                  <a:pt x="457" y="1338"/>
                </a:lnTo>
                <a:lnTo>
                  <a:pt x="465" y="1348"/>
                </a:lnTo>
                <a:lnTo>
                  <a:pt x="473" y="1358"/>
                </a:lnTo>
                <a:lnTo>
                  <a:pt x="481" y="1366"/>
                </a:lnTo>
                <a:lnTo>
                  <a:pt x="488" y="1376"/>
                </a:lnTo>
                <a:lnTo>
                  <a:pt x="495" y="1385"/>
                </a:lnTo>
                <a:lnTo>
                  <a:pt x="504" y="1395"/>
                </a:lnTo>
                <a:lnTo>
                  <a:pt x="514" y="1404"/>
                </a:lnTo>
                <a:lnTo>
                  <a:pt x="523" y="1416"/>
                </a:lnTo>
                <a:lnTo>
                  <a:pt x="534" y="1426"/>
                </a:lnTo>
                <a:lnTo>
                  <a:pt x="543" y="1437"/>
                </a:lnTo>
                <a:lnTo>
                  <a:pt x="554" y="1446"/>
                </a:lnTo>
                <a:lnTo>
                  <a:pt x="563" y="1458"/>
                </a:lnTo>
                <a:lnTo>
                  <a:pt x="574" y="1467"/>
                </a:lnTo>
                <a:lnTo>
                  <a:pt x="583" y="1476"/>
                </a:lnTo>
                <a:lnTo>
                  <a:pt x="594" y="1485"/>
                </a:lnTo>
                <a:lnTo>
                  <a:pt x="602" y="1494"/>
                </a:lnTo>
                <a:lnTo>
                  <a:pt x="612" y="1501"/>
                </a:lnTo>
                <a:lnTo>
                  <a:pt x="619" y="1508"/>
                </a:lnTo>
                <a:lnTo>
                  <a:pt x="628" y="1513"/>
                </a:lnTo>
                <a:lnTo>
                  <a:pt x="634" y="1519"/>
                </a:lnTo>
                <a:lnTo>
                  <a:pt x="641" y="1524"/>
                </a:lnTo>
                <a:lnTo>
                  <a:pt x="649" y="1530"/>
                </a:lnTo>
                <a:lnTo>
                  <a:pt x="656" y="1535"/>
                </a:lnTo>
                <a:lnTo>
                  <a:pt x="663" y="1540"/>
                </a:lnTo>
                <a:lnTo>
                  <a:pt x="671" y="1546"/>
                </a:lnTo>
                <a:lnTo>
                  <a:pt x="678" y="1552"/>
                </a:lnTo>
                <a:lnTo>
                  <a:pt x="686" y="1557"/>
                </a:lnTo>
                <a:lnTo>
                  <a:pt x="691" y="1562"/>
                </a:lnTo>
                <a:lnTo>
                  <a:pt x="698" y="1567"/>
                </a:lnTo>
                <a:lnTo>
                  <a:pt x="704" y="1572"/>
                </a:lnTo>
                <a:lnTo>
                  <a:pt x="710" y="1576"/>
                </a:lnTo>
                <a:lnTo>
                  <a:pt x="714" y="1579"/>
                </a:lnTo>
                <a:lnTo>
                  <a:pt x="719" y="1582"/>
                </a:lnTo>
                <a:lnTo>
                  <a:pt x="723" y="1585"/>
                </a:lnTo>
                <a:lnTo>
                  <a:pt x="727" y="1586"/>
                </a:lnTo>
                <a:lnTo>
                  <a:pt x="729" y="1589"/>
                </a:lnTo>
                <a:lnTo>
                  <a:pt x="732" y="1591"/>
                </a:lnTo>
                <a:lnTo>
                  <a:pt x="736" y="1593"/>
                </a:lnTo>
                <a:lnTo>
                  <a:pt x="740" y="1595"/>
                </a:lnTo>
                <a:lnTo>
                  <a:pt x="745" y="1598"/>
                </a:lnTo>
                <a:lnTo>
                  <a:pt x="750" y="1600"/>
                </a:lnTo>
                <a:lnTo>
                  <a:pt x="756" y="1604"/>
                </a:lnTo>
                <a:lnTo>
                  <a:pt x="762" y="1605"/>
                </a:lnTo>
                <a:lnTo>
                  <a:pt x="768" y="1609"/>
                </a:lnTo>
                <a:lnTo>
                  <a:pt x="773" y="1611"/>
                </a:lnTo>
                <a:lnTo>
                  <a:pt x="779" y="1615"/>
                </a:lnTo>
                <a:lnTo>
                  <a:pt x="786" y="1617"/>
                </a:lnTo>
                <a:lnTo>
                  <a:pt x="791" y="1620"/>
                </a:lnTo>
                <a:lnTo>
                  <a:pt x="797" y="1622"/>
                </a:lnTo>
                <a:lnTo>
                  <a:pt x="802" y="1624"/>
                </a:lnTo>
                <a:lnTo>
                  <a:pt x="809" y="1625"/>
                </a:lnTo>
                <a:lnTo>
                  <a:pt x="814" y="1629"/>
                </a:lnTo>
                <a:lnTo>
                  <a:pt x="820" y="1631"/>
                </a:lnTo>
                <a:lnTo>
                  <a:pt x="828" y="1634"/>
                </a:lnTo>
                <a:lnTo>
                  <a:pt x="837" y="1636"/>
                </a:lnTo>
                <a:lnTo>
                  <a:pt x="845" y="1640"/>
                </a:lnTo>
                <a:lnTo>
                  <a:pt x="854" y="1642"/>
                </a:lnTo>
                <a:lnTo>
                  <a:pt x="864" y="1645"/>
                </a:lnTo>
                <a:lnTo>
                  <a:pt x="874" y="1647"/>
                </a:lnTo>
                <a:lnTo>
                  <a:pt x="884" y="1651"/>
                </a:lnTo>
                <a:lnTo>
                  <a:pt x="894" y="1654"/>
                </a:lnTo>
                <a:lnTo>
                  <a:pt x="903" y="1658"/>
                </a:lnTo>
                <a:lnTo>
                  <a:pt x="914" y="1660"/>
                </a:lnTo>
                <a:lnTo>
                  <a:pt x="924" y="1664"/>
                </a:lnTo>
                <a:lnTo>
                  <a:pt x="933" y="1665"/>
                </a:lnTo>
                <a:lnTo>
                  <a:pt x="942" y="1667"/>
                </a:lnTo>
                <a:lnTo>
                  <a:pt x="952" y="1669"/>
                </a:lnTo>
                <a:lnTo>
                  <a:pt x="959" y="1672"/>
                </a:lnTo>
                <a:lnTo>
                  <a:pt x="968" y="1674"/>
                </a:lnTo>
                <a:lnTo>
                  <a:pt x="978" y="1676"/>
                </a:lnTo>
                <a:lnTo>
                  <a:pt x="988" y="1678"/>
                </a:lnTo>
                <a:lnTo>
                  <a:pt x="999" y="1680"/>
                </a:lnTo>
                <a:lnTo>
                  <a:pt x="1010" y="1682"/>
                </a:lnTo>
                <a:lnTo>
                  <a:pt x="1021" y="1684"/>
                </a:lnTo>
                <a:lnTo>
                  <a:pt x="1033" y="1686"/>
                </a:lnTo>
                <a:lnTo>
                  <a:pt x="1044" y="1688"/>
                </a:lnTo>
                <a:lnTo>
                  <a:pt x="1055" y="1690"/>
                </a:lnTo>
                <a:lnTo>
                  <a:pt x="1065" y="1692"/>
                </a:lnTo>
                <a:lnTo>
                  <a:pt x="1076" y="1694"/>
                </a:lnTo>
                <a:lnTo>
                  <a:pt x="1086" y="1696"/>
                </a:lnTo>
                <a:lnTo>
                  <a:pt x="1095" y="1697"/>
                </a:lnTo>
                <a:lnTo>
                  <a:pt x="1103" y="1699"/>
                </a:lnTo>
                <a:lnTo>
                  <a:pt x="1112" y="1699"/>
                </a:lnTo>
                <a:lnTo>
                  <a:pt x="1119" y="1701"/>
                </a:lnTo>
                <a:lnTo>
                  <a:pt x="1127" y="1701"/>
                </a:lnTo>
                <a:lnTo>
                  <a:pt x="1136" y="1703"/>
                </a:lnTo>
                <a:lnTo>
                  <a:pt x="1146" y="1703"/>
                </a:lnTo>
                <a:lnTo>
                  <a:pt x="1156" y="1705"/>
                </a:lnTo>
                <a:lnTo>
                  <a:pt x="1167" y="1705"/>
                </a:lnTo>
                <a:lnTo>
                  <a:pt x="1179" y="1706"/>
                </a:lnTo>
                <a:lnTo>
                  <a:pt x="1190" y="1706"/>
                </a:lnTo>
                <a:lnTo>
                  <a:pt x="1202" y="1708"/>
                </a:lnTo>
                <a:lnTo>
                  <a:pt x="1213" y="1708"/>
                </a:lnTo>
                <a:lnTo>
                  <a:pt x="1224" y="1710"/>
                </a:lnTo>
                <a:lnTo>
                  <a:pt x="1236" y="1710"/>
                </a:lnTo>
                <a:lnTo>
                  <a:pt x="1246" y="1712"/>
                </a:lnTo>
                <a:lnTo>
                  <a:pt x="1257" y="1712"/>
                </a:lnTo>
                <a:lnTo>
                  <a:pt x="1267" y="1712"/>
                </a:lnTo>
                <a:lnTo>
                  <a:pt x="1276" y="1712"/>
                </a:lnTo>
                <a:lnTo>
                  <a:pt x="1285" y="1713"/>
                </a:lnTo>
                <a:lnTo>
                  <a:pt x="1294" y="1713"/>
                </a:lnTo>
                <a:lnTo>
                  <a:pt x="1304" y="1713"/>
                </a:lnTo>
                <a:lnTo>
                  <a:pt x="1315" y="1713"/>
                </a:lnTo>
                <a:lnTo>
                  <a:pt x="1326" y="1714"/>
                </a:lnTo>
                <a:lnTo>
                  <a:pt x="1338" y="1714"/>
                </a:lnTo>
                <a:lnTo>
                  <a:pt x="1349" y="1714"/>
                </a:lnTo>
                <a:lnTo>
                  <a:pt x="1362" y="1714"/>
                </a:lnTo>
                <a:lnTo>
                  <a:pt x="1372" y="1715"/>
                </a:lnTo>
                <a:lnTo>
                  <a:pt x="1383" y="1715"/>
                </a:lnTo>
                <a:lnTo>
                  <a:pt x="1394" y="1715"/>
                </a:lnTo>
                <a:lnTo>
                  <a:pt x="1405" y="1715"/>
                </a:lnTo>
                <a:lnTo>
                  <a:pt x="1414" y="1715"/>
                </a:lnTo>
                <a:lnTo>
                  <a:pt x="1424" y="1715"/>
                </a:lnTo>
                <a:lnTo>
                  <a:pt x="1432" y="1715"/>
                </a:lnTo>
                <a:lnTo>
                  <a:pt x="1441" y="1715"/>
                </a:lnTo>
                <a:lnTo>
                  <a:pt x="1446" y="1715"/>
                </a:lnTo>
                <a:lnTo>
                  <a:pt x="1451" y="1715"/>
                </a:lnTo>
                <a:lnTo>
                  <a:pt x="1453" y="1715"/>
                </a:lnTo>
                <a:lnTo>
                  <a:pt x="1456" y="1715"/>
                </a:lnTo>
                <a:lnTo>
                  <a:pt x="1458" y="1715"/>
                </a:lnTo>
                <a:lnTo>
                  <a:pt x="1460" y="1715"/>
                </a:lnTo>
                <a:lnTo>
                  <a:pt x="1461" y="1715"/>
                </a:lnTo>
                <a:lnTo>
                  <a:pt x="1463" y="1715"/>
                </a:lnTo>
                <a:lnTo>
                  <a:pt x="1465" y="1715"/>
                </a:lnTo>
                <a:lnTo>
                  <a:pt x="1468" y="1715"/>
                </a:lnTo>
                <a:lnTo>
                  <a:pt x="1471" y="1715"/>
                </a:lnTo>
                <a:lnTo>
                  <a:pt x="1476" y="1715"/>
                </a:lnTo>
                <a:lnTo>
                  <a:pt x="1482" y="1715"/>
                </a:lnTo>
                <a:lnTo>
                  <a:pt x="1491" y="1715"/>
                </a:lnTo>
                <a:lnTo>
                  <a:pt x="1501" y="1715"/>
                </a:lnTo>
                <a:lnTo>
                  <a:pt x="1514" y="1715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7238880"/>
            <a:ext cx="8380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534520" y="7010280"/>
            <a:ext cx="41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914400" y="1447920"/>
            <a:ext cx="41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66880" y="4648320"/>
            <a:ext cx="838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743200" y="4952880"/>
            <a:ext cx="0" cy="2590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19520" y="74674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029200" y="3733920"/>
            <a:ext cx="464832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Brush738 BT"/>
              </a:rPr>
              <a:t>¿Trabajará más la gente si el salario aument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32080" y="5723280"/>
            <a:ext cx="4503960" cy="824760"/>
          </a:xfrm>
          <a:prstGeom prst="wedgeRoundRectCallout">
            <a:avLst>
              <a:gd name="adj1" fmla="val -54305"/>
              <a:gd name="adj2" fmla="val 159902"/>
              <a:gd name="adj3" fmla="val 1666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ush738 BT"/>
              </a:rPr>
              <a:t>oferta labor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88920" y="3035520"/>
            <a:ext cx="20145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100" spc="-1" strike="noStrike">
                <a:solidFill>
                  <a:srgbClr val="2f2f2f"/>
                </a:solidFill>
                <a:latin typeface="Arial"/>
              </a:rPr>
              <a:t>bienes de consum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62920" y="7086600"/>
            <a:ext cx="938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100" spc="-1" strike="noStrike">
                <a:solidFill>
                  <a:srgbClr val="2f2f2f"/>
                </a:solidFill>
                <a:latin typeface="Arial"/>
              </a:rPr>
              <a:t>oc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4920" y="6840"/>
            <a:ext cx="5029200" cy="5779080"/>
          </a:xfrm>
          <a:prstGeom prst="cloudCallout">
            <a:avLst>
              <a:gd name="adj1" fmla="val 12462"/>
              <a:gd name="adj2" fmla="val 121361"/>
            </a:avLst>
          </a:prstGeom>
          <a:solidFill>
            <a:srgbClr val="ccffff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Brush738 BT"/>
              </a:rPr>
              <a:t>Miremos como esto puede ser implementado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Brush738 BT"/>
              </a:rPr>
              <a:t>(¡ sí,sí, señores, esto tiene algún sentido práctico!!!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 flipV="1">
            <a:off x="0" y="1844280"/>
            <a:ext cx="10058400" cy="5927760"/>
          </a:xfrm>
          <a:prstGeom prst="roundRect">
            <a:avLst>
              <a:gd name="adj" fmla="val 0"/>
            </a:avLst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147600" y="380520"/>
            <a:ext cx="94536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8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 la versión(modificada) de la ecuación de Slutsky para el propio precio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85760" y="2123640"/>
            <a:ext cx="9690120" cy="2140200"/>
            <a:chOff x="185760" y="2123640"/>
            <a:chExt cx="9690120" cy="2140200"/>
          </a:xfrm>
        </p:grpSpPr>
        <p:sp>
          <p:nvSpPr>
            <p:cNvPr id="673" name=""/>
            <p:cNvSpPr/>
            <p:nvPr/>
          </p:nvSpPr>
          <p:spPr>
            <a:xfrm flipV="1">
              <a:off x="282600" y="2122920"/>
              <a:ext cx="9516960" cy="2140200"/>
            </a:xfrm>
            <a:prstGeom prst="roundRect">
              <a:avLst>
                <a:gd name="adj" fmla="val 4162"/>
              </a:avLst>
            </a:prstGeom>
            <a:solidFill>
              <a:srgbClr val="ffffff"/>
            </a:solidFill>
            <a:ln w="1908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4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185760" y="2141280"/>
              <a:ext cx="9690120" cy="19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2805120" y="3138480"/>
              <a:ext cx="299880" cy="46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713640" y="3127320"/>
              <a:ext cx="299880" cy="46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14400" y="3625920"/>
              <a:ext cx="371520" cy="5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516640" y="3127320"/>
              <a:ext cx="299880" cy="46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304920" y="228600"/>
            <a:ext cx="94536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terprete el bien i como el oci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486040" y="3649680"/>
            <a:ext cx="3827520" cy="3664800"/>
            <a:chOff x="5486040" y="3649680"/>
            <a:chExt cx="3827520" cy="3664800"/>
          </a:xfrm>
        </p:grpSpPr>
        <p:sp>
          <p:nvSpPr>
            <p:cNvPr id="681" name=""/>
            <p:cNvSpPr/>
            <p:nvPr/>
          </p:nvSpPr>
          <p:spPr>
            <a:xfrm flipH="1" flipV="1">
              <a:off x="5486040" y="3649680"/>
              <a:ext cx="994680" cy="2222640"/>
            </a:xfrm>
            <a:prstGeom prst="line">
              <a:avLst/>
            </a:prstGeom>
            <a:ln w="540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07280" y="6024960"/>
              <a:ext cx="3806280" cy="1289520"/>
            </a:xfrm>
            <a:prstGeom prst="rect">
              <a:avLst/>
            </a:prstGeom>
            <a:solidFill>
              <a:srgbClr val="ccccff"/>
            </a:solidFill>
            <a:ln w="3168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oferta laboral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(tiempo no consumido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85800" y="3276360"/>
            <a:ext cx="2971440" cy="4267080"/>
            <a:chOff x="685800" y="3276360"/>
            <a:chExt cx="2971440" cy="4267080"/>
          </a:xfrm>
        </p:grpSpPr>
        <p:sp>
          <p:nvSpPr>
            <p:cNvPr id="684" name=""/>
            <p:cNvSpPr/>
            <p:nvPr/>
          </p:nvSpPr>
          <p:spPr>
            <a:xfrm flipH="1" flipV="1">
              <a:off x="969480" y="3276360"/>
              <a:ext cx="494280" cy="2897640"/>
            </a:xfrm>
            <a:prstGeom prst="line">
              <a:avLst/>
            </a:prstGeom>
            <a:ln w="540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" y="6233040"/>
              <a:ext cx="2971440" cy="1310400"/>
            </a:xfrm>
            <a:prstGeom prst="rect">
              <a:avLst/>
            </a:prstGeom>
            <a:solidFill>
              <a:srgbClr val="ccccff"/>
            </a:solidFill>
            <a:ln w="3168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el salario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(precio del tiempo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1118880" y="3041640"/>
            <a:ext cx="2456280" cy="2611440"/>
            <a:chOff x="1118880" y="3041640"/>
            <a:chExt cx="2456280" cy="2611440"/>
          </a:xfrm>
        </p:grpSpPr>
        <p:sp>
          <p:nvSpPr>
            <p:cNvPr id="687" name=""/>
            <p:cNvSpPr/>
            <p:nvPr/>
          </p:nvSpPr>
          <p:spPr>
            <a:xfrm flipH="1" flipV="1">
              <a:off x="1118880" y="3041640"/>
              <a:ext cx="1677960" cy="1982880"/>
            </a:xfrm>
            <a:prstGeom prst="line">
              <a:avLst/>
            </a:prstGeom>
            <a:ln w="540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81400" y="4991040"/>
              <a:ext cx="1193760" cy="662040"/>
            </a:xfrm>
            <a:prstGeom prst="rect">
              <a:avLst/>
            </a:prstGeom>
            <a:solidFill>
              <a:srgbClr val="ccccff"/>
            </a:solidFill>
            <a:ln w="3168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- d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 flipV="1">
            <a:off x="2743200" y="3612240"/>
            <a:ext cx="5445000" cy="1615320"/>
          </a:xfrm>
          <a:prstGeom prst="roundRect">
            <a:avLst>
              <a:gd name="adj" fmla="val 6245"/>
            </a:avLst>
          </a:prstGeom>
          <a:gradFill rotWithShape="0">
            <a:gsLst>
              <a:gs pos="0">
                <a:srgbClr val="f7f22f"/>
              </a:gs>
              <a:gs pos="50000">
                <a:srgbClr val="ffffff"/>
              </a:gs>
              <a:gs pos="100000">
                <a:srgbClr val="f7f22f"/>
              </a:gs>
            </a:gsLst>
            <a:lin ang="5400000"/>
          </a:gra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greso monetario =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h.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Nota: ingreso “pleno”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s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ás el valor del ocio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4800" y="0"/>
            <a:ext cx="94536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i el ingreso proviene exclusivamente del trabaj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29200" y="3581280"/>
            <a:ext cx="21337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xpresado en términos de elasticidad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0" y="1998360"/>
            <a:ext cx="10058400" cy="5927760"/>
          </a:xfrm>
          <a:prstGeom prst="roundRect">
            <a:avLst>
              <a:gd name="adj" fmla="val 0"/>
            </a:avLst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82600" y="2122920"/>
            <a:ext cx="9516960" cy="2140200"/>
          </a:xfrm>
          <a:prstGeom prst="roundRect">
            <a:avLst>
              <a:gd name="adj" fmla="val 4162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909720" y="2513160"/>
            <a:ext cx="824364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500" spc="-1" strike="noStrike">
                <a:solidFill>
                  <a:srgbClr val="000000"/>
                </a:solidFill>
                <a:latin typeface="Symbol"/>
                <a:ea typeface="Symbol"/>
              </a:rPr>
              <a:t></a:t>
            </a:r>
            <a:r>
              <a:rPr b="0" lang="en-US" sz="8500" spc="-1" strike="noStrike">
                <a:solidFill>
                  <a:srgbClr val="000000"/>
                </a:solidFill>
                <a:latin typeface="Symbol"/>
                <a:ea typeface="Symbol"/>
              </a:rPr>
              <a:t></a:t>
            </a:r>
            <a:r>
              <a:rPr b="0" i="1" lang="en-US" sz="8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85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</a:t>
            </a:r>
            <a:r>
              <a:rPr b="0" i="1" lang="en-US" sz="8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504800" y="3476520"/>
            <a:ext cx="88678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        subs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            ingres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7153200" y="3965400"/>
            <a:ext cx="2619360" cy="3148200"/>
            <a:chOff x="7153200" y="3965400"/>
            <a:chExt cx="2619360" cy="3148200"/>
          </a:xfrm>
        </p:grpSpPr>
        <p:sp>
          <p:nvSpPr>
            <p:cNvPr id="698" name=""/>
            <p:cNvSpPr/>
            <p:nvPr/>
          </p:nvSpPr>
          <p:spPr>
            <a:xfrm flipH="1" flipV="1">
              <a:off x="7197840" y="3965400"/>
              <a:ext cx="890640" cy="162720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153200" y="5746680"/>
              <a:ext cx="2619360" cy="1366920"/>
            </a:xfrm>
            <a:prstGeom prst="rect">
              <a:avLst/>
            </a:prstGeom>
            <a:solidFill>
              <a:srgbClr val="99ccff"/>
            </a:solidFill>
            <a:ln w="381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negativo si el ocio es un bien normal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139680" y="3924000"/>
            <a:ext cx="3211560" cy="1598760"/>
            <a:chOff x="139680" y="3924000"/>
            <a:chExt cx="3211560" cy="1598760"/>
          </a:xfrm>
        </p:grpSpPr>
        <p:sp>
          <p:nvSpPr>
            <p:cNvPr id="701" name=""/>
            <p:cNvSpPr/>
            <p:nvPr/>
          </p:nvSpPr>
          <p:spPr>
            <a:xfrm flipH="1" flipV="1">
              <a:off x="1377720" y="3924000"/>
              <a:ext cx="21960" cy="89388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9680" y="4871880"/>
              <a:ext cx="3211560" cy="650880"/>
            </a:xfrm>
            <a:prstGeom prst="rect">
              <a:avLst/>
            </a:prstGeom>
            <a:solidFill>
              <a:srgbClr val="99ccff"/>
            </a:solidFill>
            <a:ln w="381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+ o - ???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1095480" y="4053960"/>
            <a:ext cx="3425760" cy="2784960"/>
            <a:chOff x="1095480" y="4053960"/>
            <a:chExt cx="3425760" cy="2784960"/>
          </a:xfrm>
        </p:grpSpPr>
        <p:sp>
          <p:nvSpPr>
            <p:cNvPr id="704" name=""/>
            <p:cNvSpPr/>
            <p:nvPr/>
          </p:nvSpPr>
          <p:spPr>
            <a:xfrm flipV="1">
              <a:off x="3290760" y="4053960"/>
              <a:ext cx="966960" cy="171612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95480" y="5888160"/>
              <a:ext cx="3425760" cy="950760"/>
            </a:xfrm>
            <a:prstGeom prst="rect">
              <a:avLst/>
            </a:prstGeom>
            <a:solidFill>
              <a:srgbClr val="99ccff"/>
            </a:solidFill>
            <a:ln w="381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debe ser positiva!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 flipV="1">
            <a:off x="4876920" y="2437920"/>
            <a:ext cx="5445000" cy="3348000"/>
          </a:xfrm>
          <a:prstGeom prst="roundRect">
            <a:avLst>
              <a:gd name="adj" fmla="val 6245"/>
            </a:avLst>
          </a:prstGeom>
          <a:gradFill rotWithShape="0">
            <a:gsLst>
              <a:gs pos="0">
                <a:srgbClr val="f7f22f"/>
              </a:gs>
              <a:gs pos="50000">
                <a:srgbClr val="ffffff"/>
              </a:gs>
              <a:gs pos="100000">
                <a:srgbClr val="f7f22f"/>
              </a:gs>
            </a:gsLst>
            <a:lin ang="5400000"/>
          </a:gra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Estimaciones de todo el   sistema de demanda   a partir  datos de ingreso familia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604800" y="457200"/>
            <a:ext cx="9453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s elasticidades estimada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906480" y="2151720"/>
            <a:ext cx="9117000" cy="3314520"/>
          </a:xfrm>
          <a:prstGeom prst="roundRect">
            <a:avLst>
              <a:gd name="adj" fmla="val 0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66680" y="2438280"/>
            <a:ext cx="9220320" cy="13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curva de oferta laboral para los hombres  se dobla hacia atrás!!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911160" y="2158920"/>
            <a:ext cx="4845240" cy="879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548320" y="2158920"/>
            <a:ext cx="1581120" cy="879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75440" y="2158920"/>
            <a:ext cx="1403280" cy="879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b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434440" y="2158920"/>
            <a:ext cx="1662120" cy="879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11160" y="3060720"/>
            <a:ext cx="4845240" cy="434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bres: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48320" y="3060720"/>
            <a:ext cx="1581120" cy="434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0.23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75440" y="3060720"/>
            <a:ext cx="1403280" cy="434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0.13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434440" y="3060720"/>
            <a:ext cx="1662120" cy="434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0.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1160" y="3517920"/>
            <a:ext cx="4845240" cy="46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je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548320" y="3517920"/>
            <a:ext cx="1581120" cy="46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075440" y="3517920"/>
            <a:ext cx="1403280" cy="46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434440" y="3517920"/>
            <a:ext cx="1662120" cy="46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11160" y="4003560"/>
            <a:ext cx="4845240" cy="45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n hij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548320" y="4003560"/>
            <a:ext cx="1581120" cy="45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0.43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75440" y="4003560"/>
            <a:ext cx="1403280" cy="45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0.65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434440" y="4003560"/>
            <a:ext cx="1662120" cy="45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0.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11160" y="4476600"/>
            <a:ext cx="4845240" cy="492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solo hij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548320" y="4476600"/>
            <a:ext cx="1581120" cy="492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0.10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075440" y="4476600"/>
            <a:ext cx="1403280" cy="492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0.32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34440" y="4476600"/>
            <a:ext cx="1662120" cy="492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0.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911160" y="4991040"/>
            <a:ext cx="4845240" cy="469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s hi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548320" y="4991040"/>
            <a:ext cx="1581120" cy="469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0.19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075440" y="4991040"/>
            <a:ext cx="1403280" cy="469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0.03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434440" y="4991040"/>
            <a:ext cx="1662120" cy="469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0.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106200" y="7070760"/>
            <a:ext cx="482580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uente: Blundell y Walker (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Economic Journal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, 198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56240" y="3070080"/>
            <a:ext cx="107316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0.23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8388360" y="2158920"/>
            <a:ext cx="1662120" cy="3301920"/>
            <a:chOff x="8388360" y="2158920"/>
            <a:chExt cx="1662120" cy="3301920"/>
          </a:xfrm>
        </p:grpSpPr>
        <p:sp>
          <p:nvSpPr>
            <p:cNvPr id="737" name=""/>
            <p:cNvSpPr/>
            <p:nvPr/>
          </p:nvSpPr>
          <p:spPr>
            <a:xfrm>
              <a:off x="8388360" y="2158920"/>
              <a:ext cx="1662120" cy="87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73080" indent="-73080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</a:rPr>
                <a:t>ingreso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388360" y="3060720"/>
              <a:ext cx="166212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73080" indent="-73080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-0.3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388360" y="3517920"/>
              <a:ext cx="166212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73080" indent="-73080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88360" y="4003560"/>
              <a:ext cx="166212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73080" indent="-73080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-0.2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388360" y="4476600"/>
              <a:ext cx="1662120" cy="49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73080" indent="-73080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-0.2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388360" y="4991040"/>
              <a:ext cx="166212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73080" indent="-73080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-0.2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228600" y="609480"/>
            <a:ext cx="9453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ocio es un bien normal para todo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8600" y="609480"/>
            <a:ext cx="9453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s hijos atan el efecto sustitución de las mujere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7075440" y="4003560"/>
            <a:ext cx="1230480" cy="1457280"/>
            <a:chOff x="7075440" y="4003560"/>
            <a:chExt cx="1230480" cy="1457280"/>
          </a:xfrm>
        </p:grpSpPr>
        <p:sp>
          <p:nvSpPr>
            <p:cNvPr id="746" name=""/>
            <p:cNvSpPr/>
            <p:nvPr/>
          </p:nvSpPr>
          <p:spPr>
            <a:xfrm>
              <a:off x="7075440" y="4003560"/>
              <a:ext cx="123048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73080" indent="-73080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0.65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075440" y="4476600"/>
              <a:ext cx="1230480" cy="49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73080" indent="-73080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0.32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075440" y="4991040"/>
              <a:ext cx="1230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73080" indent="-73080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0.03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067200" y="2416320"/>
            <a:ext cx="5497200" cy="4566960"/>
            <a:chOff x="3067200" y="2416320"/>
            <a:chExt cx="5497200" cy="4566960"/>
          </a:xfrm>
        </p:grpSpPr>
        <p:sp>
          <p:nvSpPr>
            <p:cNvPr id="751" name=""/>
            <p:cNvSpPr/>
            <p:nvPr/>
          </p:nvSpPr>
          <p:spPr>
            <a:xfrm flipV="1">
              <a:off x="5508720" y="2419200"/>
              <a:ext cx="406440" cy="309600"/>
            </a:xfrm>
            <a:prstGeom prst="roundRect">
              <a:avLst>
                <a:gd name="adj" fmla="val 0"/>
              </a:avLst>
            </a:prstGeom>
            <a:solidFill>
              <a:srgbClr val="d2b06a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908680" y="2416320"/>
              <a:ext cx="206280" cy="312480"/>
            </a:xfrm>
            <a:custGeom>
              <a:avLst/>
              <a:gdLst/>
              <a:ahLst/>
              <a:rect l="l" t="t" r="r" b="b"/>
              <a:pathLst>
                <a:path w="130" h="197">
                  <a:moveTo>
                    <a:pt x="129" y="196"/>
                  </a:moveTo>
                  <a:lnTo>
                    <a:pt x="129" y="131"/>
                  </a:lnTo>
                  <a:lnTo>
                    <a:pt x="0" y="0"/>
                  </a:lnTo>
                  <a:lnTo>
                    <a:pt x="0" y="196"/>
                  </a:lnTo>
                  <a:lnTo>
                    <a:pt x="129" y="196"/>
                  </a:lnTo>
                  <a:lnTo>
                    <a:pt x="129" y="196"/>
                  </a:lnTo>
                </a:path>
              </a:pathLst>
            </a:custGeom>
            <a:solidFill>
              <a:srgbClr val="806210"/>
            </a:solidFill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08720" y="4311720"/>
              <a:ext cx="407880" cy="2671560"/>
            </a:xfrm>
            <a:custGeom>
              <a:avLst/>
              <a:gdLst/>
              <a:ahLst/>
              <a:rect l="l" t="t" r="r" b="b"/>
              <a:pathLst>
                <a:path w="257" h="1683">
                  <a:moveTo>
                    <a:pt x="0" y="0"/>
                  </a:moveTo>
                  <a:lnTo>
                    <a:pt x="0" y="1424"/>
                  </a:lnTo>
                  <a:lnTo>
                    <a:pt x="192" y="1682"/>
                  </a:lnTo>
                  <a:lnTo>
                    <a:pt x="256" y="1424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d2b06a"/>
            </a:solidFill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3095640" y="2696760"/>
              <a:ext cx="5292720" cy="1643040"/>
            </a:xfrm>
            <a:prstGeom prst="roundRect">
              <a:avLst>
                <a:gd name="adj" fmla="val 0"/>
              </a:avLst>
            </a:prstGeom>
            <a:solidFill>
              <a:srgbClr val="ffffc2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67200" y="4311720"/>
              <a:ext cx="2442960" cy="206280"/>
            </a:xfrm>
            <a:custGeom>
              <a:avLst/>
              <a:gdLst/>
              <a:ahLst/>
              <a:rect l="l" t="t" r="r" b="b"/>
              <a:pathLst>
                <a:path w="1539" h="130">
                  <a:moveTo>
                    <a:pt x="0" y="0"/>
                  </a:moveTo>
                  <a:lnTo>
                    <a:pt x="126" y="129"/>
                  </a:lnTo>
                  <a:lnTo>
                    <a:pt x="1538" y="129"/>
                  </a:lnTo>
                  <a:lnTo>
                    <a:pt x="1538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915160" y="4311720"/>
              <a:ext cx="204480" cy="2363760"/>
            </a:xfrm>
            <a:custGeom>
              <a:avLst/>
              <a:gdLst/>
              <a:ahLst/>
              <a:rect l="l" t="t" r="r" b="b"/>
              <a:pathLst>
                <a:path w="129" h="1489">
                  <a:moveTo>
                    <a:pt x="0" y="0"/>
                  </a:moveTo>
                  <a:lnTo>
                    <a:pt x="128" y="129"/>
                  </a:lnTo>
                  <a:lnTo>
                    <a:pt x="128" y="1488"/>
                  </a:lnTo>
                  <a:lnTo>
                    <a:pt x="0" y="142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6210"/>
            </a:solidFill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13280" y="6572160"/>
              <a:ext cx="306360" cy="409680"/>
            </a:xfrm>
            <a:custGeom>
              <a:avLst/>
              <a:gdLst/>
              <a:ahLst/>
              <a:rect l="l" t="t" r="r" b="b"/>
              <a:pathLst>
                <a:path w="193" h="258">
                  <a:moveTo>
                    <a:pt x="64" y="0"/>
                  </a:moveTo>
                  <a:lnTo>
                    <a:pt x="192" y="64"/>
                  </a:lnTo>
                  <a:lnTo>
                    <a:pt x="0" y="257"/>
                  </a:lnTo>
                  <a:lnTo>
                    <a:pt x="64" y="0"/>
                  </a:lnTo>
                  <a:lnTo>
                    <a:pt x="64" y="0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915160" y="4311720"/>
              <a:ext cx="2649240" cy="206280"/>
            </a:xfrm>
            <a:custGeom>
              <a:avLst/>
              <a:gdLst/>
              <a:ahLst/>
              <a:rect l="l" t="t" r="r" b="b"/>
              <a:pathLst>
                <a:path w="1669" h="130">
                  <a:moveTo>
                    <a:pt x="0" y="0"/>
                  </a:moveTo>
                  <a:lnTo>
                    <a:pt x="128" y="129"/>
                  </a:lnTo>
                  <a:lnTo>
                    <a:pt x="1668" y="129"/>
                  </a:lnTo>
                  <a:lnTo>
                    <a:pt x="1539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358120" y="2665440"/>
              <a:ext cx="206280" cy="1852560"/>
            </a:xfrm>
            <a:custGeom>
              <a:avLst/>
              <a:gdLst/>
              <a:ahLst/>
              <a:rect l="l" t="t" r="r" b="b"/>
              <a:pathLst>
                <a:path w="130" h="1167">
                  <a:moveTo>
                    <a:pt x="0" y="0"/>
                  </a:moveTo>
                  <a:lnTo>
                    <a:pt x="129" y="130"/>
                  </a:lnTo>
                  <a:lnTo>
                    <a:pt x="129" y="1166"/>
                  </a:lnTo>
                  <a:lnTo>
                    <a:pt x="0" y="103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6210"/>
            </a:solidFill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3290760" y="3114720"/>
            <a:ext cx="469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Brush738 BT"/>
              </a:rPr>
              <a:t>Veamos si todo encaja..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68320" y="1676520"/>
            <a:ext cx="9190080" cy="551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2f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0680" indent="-1120680">
              <a:spcBef>
                <a:spcPts val="2500"/>
              </a:spcBef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La demanda compendasda (</a:t>
            </a:r>
            <a:r>
              <a:rPr b="1" i="1" lang="en-GB" sz="40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GB" sz="4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 y demanda  ordinaria (</a:t>
            </a:r>
            <a:r>
              <a:rPr b="1" i="1" lang="en-GB" sz="4000" spc="-1" strike="noStrike">
                <a:solidFill>
                  <a:srgbClr val="000066"/>
                </a:solidFill>
                <a:latin typeface="Times New Roman"/>
              </a:rPr>
              <a:t>D) </a:t>
            </a: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 pueden enganchars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120680" indent="-1120680">
              <a:spcBef>
                <a:spcPts val="2500"/>
              </a:spcBef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La ecuación de Slutsky desdobla el efecto precio</a:t>
            </a:r>
            <a:r>
              <a:rPr b="1" i="1" lang="en-GB" sz="4000" spc="-1" strike="noStrike">
                <a:solidFill>
                  <a:srgbClr val="000066"/>
                </a:solidFill>
                <a:latin typeface="Times New Roman"/>
              </a:rPr>
              <a:t> i </a:t>
            </a: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sobre  la demand de</a:t>
            </a:r>
            <a:r>
              <a:rPr b="1" i="1" lang="en-GB" sz="4000" spc="-1" strike="noStrike">
                <a:solidFill>
                  <a:srgbClr val="000066"/>
                </a:solidFill>
                <a:latin typeface="Times New Roman"/>
              </a:rPr>
              <a:t> j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120680" indent="-1120680">
              <a:spcBef>
                <a:spcPts val="2500"/>
              </a:spcBef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El ingreso exógeno introduce una nueva vuelta de tuerca cuando varía el prec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46040" y="729720"/>
            <a:ext cx="94536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Desarrollando las respuestas del consumidor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2209680"/>
            <a:ext cx="9829800" cy="533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0ffbf"/>
              </a:gs>
            </a:gsLst>
            <a:lin ang="13500000"/>
          </a:gradFill>
          <a:ln w="127080">
            <a:solidFill>
              <a:srgbClr val="008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360000" tIns="0" bIns="0" anchor="t">
            <a:noAutofit/>
          </a:bodyPr>
          <a:p>
            <a:pPr marL="932040" indent="-932040" algn="just">
              <a:spcBef>
                <a:spcPts val="2001"/>
              </a:spcBef>
              <a:buClr>
                <a:srgbClr val="ff8100"/>
              </a:buClr>
              <a:buSzPct val="70000"/>
              <a:buFont typeface="Monotype Sorts" charset="2"/>
              <a:buChar char="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3200" spc="-1" strike="noStrike">
                <a:solidFill>
                  <a:srgbClr val="003300"/>
                </a:solidFill>
                <a:latin typeface="Times New Roman"/>
              </a:rPr>
              <a:t>Lo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 que nos interesa del problema del consumidor es el problema PR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32040" indent="-932040" algn="just">
              <a:spcBef>
                <a:spcPts val="2001"/>
              </a:spcBef>
              <a:buClr>
                <a:srgbClr val="ff8100"/>
              </a:buClr>
              <a:buSzPct val="70000"/>
              <a:buFont typeface="Monotype Sorts" charset="2"/>
              <a:buChar char="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El problema DUAL relacionado nos puede ayudar a comprenderlo mej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32040" indent="-932040" algn="just">
              <a:spcBef>
                <a:spcPts val="2001"/>
              </a:spcBef>
              <a:buClr>
                <a:srgbClr val="ff8100"/>
              </a:buClr>
              <a:buSzPct val="70000"/>
              <a:buFont typeface="Monotype Sorts" charset="2"/>
              <a:buChar char="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La analogía con el problema de la empresa nos resuelve el D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32040" indent="-932040" algn="just">
              <a:spcBef>
                <a:spcPts val="2001"/>
              </a:spcBef>
              <a:buClr>
                <a:srgbClr val="ff8100"/>
              </a:buClr>
              <a:buSzPct val="70000"/>
              <a:buFont typeface="Monotype Sorts" charset="2"/>
              <a:buChar char="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El trabajo que hemos realizado nos ayuda a desarrollar la respuesta del consumidor a cambios en precios e ingr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321160" y="3035160"/>
            <a:ext cx="4687920" cy="3670560"/>
            <a:chOff x="5321160" y="3035160"/>
            <a:chExt cx="4687920" cy="3670560"/>
          </a:xfrm>
        </p:grpSpPr>
        <p:sp>
          <p:nvSpPr>
            <p:cNvPr id="122" name=""/>
            <p:cNvSpPr/>
            <p:nvPr/>
          </p:nvSpPr>
          <p:spPr>
            <a:xfrm>
              <a:off x="5321160" y="3035160"/>
              <a:ext cx="4687920" cy="3670560"/>
            </a:xfrm>
            <a:custGeom>
              <a:avLst/>
              <a:gdLst/>
              <a:ahLst/>
              <a:rect l="l" t="t" r="r" b="b"/>
              <a:pathLst>
                <a:path w="2953" h="2318">
                  <a:moveTo>
                    <a:pt x="2952" y="1137"/>
                  </a:moveTo>
                  <a:lnTo>
                    <a:pt x="2952" y="1137"/>
                  </a:lnTo>
                  <a:lnTo>
                    <a:pt x="1214" y="0"/>
                  </a:lnTo>
                  <a:lnTo>
                    <a:pt x="1418" y="569"/>
                  </a:lnTo>
                  <a:lnTo>
                    <a:pt x="0" y="569"/>
                  </a:lnTo>
                  <a:lnTo>
                    <a:pt x="0" y="1786"/>
                  </a:lnTo>
                  <a:lnTo>
                    <a:pt x="1418" y="1786"/>
                  </a:lnTo>
                  <a:lnTo>
                    <a:pt x="1214" y="2317"/>
                  </a:lnTo>
                  <a:lnTo>
                    <a:pt x="2952" y="1137"/>
                  </a:lnTo>
                  <a:lnTo>
                    <a:pt x="2952" y="1137"/>
                  </a:lnTo>
                </a:path>
              </a:pathLst>
            </a:custGeom>
            <a:gradFill rotWithShape="0">
              <a:gsLst>
                <a:gs pos="0">
                  <a:srgbClr val="f7f22f"/>
                </a:gs>
                <a:gs pos="50000">
                  <a:srgbClr val="ffffff"/>
                </a:gs>
                <a:gs pos="100000">
                  <a:srgbClr val="f7f22f"/>
                </a:gs>
              </a:gsLst>
              <a:lin ang="5400000"/>
            </a:gradFill>
            <a:ln w="31680">
              <a:solidFill>
                <a:srgbClr val="ffff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7560" y="4108320"/>
              <a:ext cx="388620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3200" spc="-1" strike="noStrike">
                  <a:solidFill>
                    <a:srgbClr val="000000"/>
                  </a:solidFill>
                  <a:latin typeface="Arial"/>
                </a:rPr>
                <a:t>veamos lo que ya sabemos acerca del primal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867280" y="2651040"/>
            <a:ext cx="6858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304920" y="0"/>
            <a:ext cx="945216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1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ara obtener un conjunto de ecuaciones de demand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9677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s 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+1  condiciones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2263680"/>
            <a:ext cx="45594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i="1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i="1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500" spc="-1" strike="noStrike">
                <a:solidFill>
                  <a:srgbClr val="000000"/>
                </a:solidFill>
                <a:latin typeface="Times New Roman"/>
              </a:rPr>
              <a:t>...   ...   ..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5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i="1" lang="en-GB" sz="59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5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65440" y="4861080"/>
            <a:ext cx="487836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44840" y="4106880"/>
            <a:ext cx="40734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38280" y="5715000"/>
            <a:ext cx="4266720" cy="1655640"/>
            <a:chOff x="1538280" y="5715000"/>
            <a:chExt cx="4266720" cy="1655640"/>
          </a:xfrm>
        </p:grpSpPr>
        <p:sp>
          <p:nvSpPr>
            <p:cNvPr id="131" name=""/>
            <p:cNvSpPr/>
            <p:nvPr/>
          </p:nvSpPr>
          <p:spPr>
            <a:xfrm>
              <a:off x="1765080" y="6041880"/>
              <a:ext cx="403992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6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i="1" lang="en-GB" sz="6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59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 x</a:t>
              </a:r>
              <a:r>
                <a:rPr b="0" i="1" lang="en-GB" sz="59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* =</a:t>
              </a:r>
              <a:r>
                <a:rPr b="1" i="1" lang="en-GB" sz="5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38280" y="5715000"/>
              <a:ext cx="995040" cy="14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36840" y="2416320"/>
            <a:ext cx="5016240" cy="34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59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4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59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4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9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500" spc="-1" strike="noStrike">
                <a:solidFill>
                  <a:srgbClr val="000000"/>
                </a:solidFill>
                <a:latin typeface="Times New Roman"/>
              </a:rPr>
              <a:t>...   ...   ..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5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4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28600"/>
            <a:ext cx="99824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ueden resolverse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609480"/>
            <a:ext cx="3353040" cy="1905120"/>
          </a:xfrm>
          <a:prstGeom prst="wedgeEllipseCallout">
            <a:avLst>
              <a:gd name="adj1" fmla="val -57953"/>
              <a:gd name="adj2" fmla="val 53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ush738 BT"/>
              </a:rPr>
              <a:t>…</a:t>
            </a:r>
            <a:r>
              <a:rPr b="1" lang="en-GB" sz="4400" spc="-1" strike="noStrike">
                <a:solidFill>
                  <a:srgbClr val="ff0000"/>
                </a:solidFill>
                <a:latin typeface="Brush738 BT"/>
              </a:rPr>
              <a:t>e ingre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609480"/>
            <a:ext cx="4343400" cy="2133720"/>
          </a:xfrm>
          <a:prstGeom prst="wedgeEllipseCallout">
            <a:avLst>
              <a:gd name="adj1" fmla="val 45287"/>
              <a:gd name="adj2" fmla="val 60712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ush738 BT"/>
              </a:rPr>
              <a:t>función de los pricio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3124080"/>
            <a:ext cx="3657600" cy="188280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0000"/>
                </a:solidFill>
                <a:latin typeface="Brush738 BT"/>
              </a:rPr>
              <a:t>una para cada bien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4800" y="5791320"/>
            <a:ext cx="9453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una restricción sobre las 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cuacione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5867280"/>
            <a:ext cx="5715000" cy="190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23800" y="5876640"/>
            <a:ext cx="7042320" cy="1666800"/>
          </a:xfrm>
          <a:prstGeom prst="roundRect">
            <a:avLst>
              <a:gd name="adj" fmla="val 6245"/>
            </a:avLst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62160" y="5811840"/>
            <a:ext cx="6129360" cy="1655640"/>
            <a:chOff x="1262160" y="5811840"/>
            <a:chExt cx="6129360" cy="1655640"/>
          </a:xfrm>
        </p:grpSpPr>
        <p:sp>
          <p:nvSpPr>
            <p:cNvPr id="142" name=""/>
            <p:cNvSpPr/>
            <p:nvPr/>
          </p:nvSpPr>
          <p:spPr>
            <a:xfrm>
              <a:off x="1692360" y="6138720"/>
              <a:ext cx="569916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6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i="1" lang="en-GB" sz="6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59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GB" sz="59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4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4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GB" sz="49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4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49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= M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62160" y="5811840"/>
              <a:ext cx="1404720" cy="14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105520" y="2362320"/>
            <a:ext cx="6248160" cy="3352680"/>
          </a:xfrm>
          <a:prstGeom prst="wedgeEllipseCallout">
            <a:avLst>
              <a:gd name="adj1" fmla="val -51166"/>
              <a:gd name="adj2" fmla="val 72018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ush738 BT"/>
              </a:rPr>
              <a:t>(de la restricción presupuestari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2666880"/>
            <a:ext cx="6858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Symbol"/>
                <a:ea typeface="Symbol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Symbol"/>
                <a:ea typeface="Symbol"/>
              </a:rPr>
              <a:t>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Symbol"/>
                <a:ea typeface="Symbol"/>
              </a:rPr>
              <a:t>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46040" y="60912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función de respuest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3360" y="1655280"/>
            <a:ext cx="9931680" cy="601056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23800" y="5723280"/>
            <a:ext cx="7042320" cy="166716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92200" y="2551680"/>
            <a:ext cx="5284800" cy="1252440"/>
          </a:xfrm>
          <a:prstGeom prst="roundRect">
            <a:avLst>
              <a:gd name="adj" fmla="val 8037"/>
            </a:avLst>
          </a:prstGeom>
          <a:solidFill>
            <a:srgbClr val="ffffff"/>
          </a:solidFill>
          <a:ln w="31680">
            <a:solidFill>
              <a:srgbClr val="727272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5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9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4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979960" y="2338920"/>
            <a:ext cx="4015080" cy="2987640"/>
          </a:xfrm>
          <a:prstGeom prst="roundRect">
            <a:avLst>
              <a:gd name="adj" fmla="val 6245"/>
            </a:avLst>
          </a:prstGeom>
          <a:solidFill>
            <a:srgbClr val="ffff99"/>
          </a:solidFill>
          <a:ln w="31680">
            <a:solidFill>
              <a:srgbClr val="80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be ser tratada como una de un conjunto de n ecuaci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043680" y="2208600"/>
            <a:ext cx="4014720" cy="2987640"/>
          </a:xfrm>
          <a:prstGeom prst="roundRect">
            <a:avLst>
              <a:gd name="adj" fmla="val 6245"/>
            </a:avLst>
          </a:prstGeom>
          <a:solidFill>
            <a:srgbClr val="ffff99"/>
          </a:solidFill>
          <a:ln w="31680">
            <a:solidFill>
              <a:srgbClr val="80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be ser tratada como una de un conjunto de n ecuaci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be poseer la propiedad de sum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62160" y="5715000"/>
            <a:ext cx="6129360" cy="1655640"/>
            <a:chOff x="1262160" y="5715000"/>
            <a:chExt cx="6129360" cy="1655640"/>
          </a:xfrm>
        </p:grpSpPr>
        <p:sp>
          <p:nvSpPr>
            <p:cNvPr id="153" name=""/>
            <p:cNvSpPr/>
            <p:nvPr/>
          </p:nvSpPr>
          <p:spPr>
            <a:xfrm>
              <a:off x="1692360" y="6041880"/>
              <a:ext cx="569916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6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i="1" lang="en-GB" sz="6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59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GB" sz="59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4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4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GB" sz="49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4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49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= M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62160" y="5715000"/>
              <a:ext cx="1404720" cy="14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 flipH="1">
            <a:off x="4495320" y="4800600"/>
            <a:ext cx="1676520" cy="1557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46040" y="60912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función de respuest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3360" y="1655280"/>
            <a:ext cx="9931680" cy="601056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92200" y="2552400"/>
            <a:ext cx="5284800" cy="2628720"/>
          </a:xfrm>
          <a:prstGeom prst="roundRect">
            <a:avLst>
              <a:gd name="adj" fmla="val 8037"/>
            </a:avLst>
          </a:prstGeom>
          <a:solidFill>
            <a:srgbClr val="ffffff"/>
          </a:solidFill>
          <a:ln w="31680">
            <a:solidFill>
              <a:srgbClr val="727272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5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5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9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4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GB" sz="5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59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GB" sz="4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49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23800" y="5723280"/>
            <a:ext cx="7042320" cy="166716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62160" y="5715000"/>
            <a:ext cx="6129360" cy="1655640"/>
            <a:chOff x="1262160" y="5715000"/>
            <a:chExt cx="6129360" cy="1655640"/>
          </a:xfrm>
        </p:grpSpPr>
        <p:sp>
          <p:nvSpPr>
            <p:cNvPr id="161" name=""/>
            <p:cNvSpPr/>
            <p:nvPr/>
          </p:nvSpPr>
          <p:spPr>
            <a:xfrm>
              <a:off x="1692360" y="6041880"/>
              <a:ext cx="569916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6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i="1" lang="en-GB" sz="6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59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GB" sz="59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GB" sz="59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GB" sz="5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5900" spc="-1" strike="noStrike">
                  <a:solidFill>
                    <a:srgbClr val="000000"/>
                  </a:solidFill>
                  <a:latin typeface="Times New Roman"/>
                </a:rPr>
                <a:t>= M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62160" y="5715000"/>
              <a:ext cx="1404720" cy="14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>
            <a:off x="4495320" y="4800600"/>
            <a:ext cx="1676520" cy="1557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043680" y="2361240"/>
            <a:ext cx="4014720" cy="2987640"/>
          </a:xfrm>
          <a:prstGeom prst="roundRect">
            <a:avLst>
              <a:gd name="adj" fmla="val 6245"/>
            </a:avLst>
          </a:prstGeom>
          <a:solidFill>
            <a:srgbClr val="ffff99"/>
          </a:solidFill>
          <a:ln w="31680">
            <a:solidFill>
              <a:srgbClr val="80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be ser homog  de grado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¿ Porqué...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..piense en la restricción de presupue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1752480"/>
            <a:ext cx="6946920" cy="586764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ush738 BT"/>
              </a:rPr>
              <a:t>Para poder continuar debemos explotar la relación existente entre el enfoque primal y el dual una vez má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2286000"/>
            <a:ext cx="2189160" cy="1198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l Consumid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2362320"/>
            <a:ext cx="203544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4191120"/>
            <a:ext cx="2187720" cy="11952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Oportunidades 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927520" y="5315040"/>
            <a:ext cx="4539960" cy="552240"/>
            <a:chOff x="2927520" y="5315040"/>
            <a:chExt cx="4539960" cy="552240"/>
          </a:xfrm>
        </p:grpSpPr>
        <p:sp>
          <p:nvSpPr>
            <p:cNvPr id="173" name=""/>
            <p:cNvSpPr/>
            <p:nvPr/>
          </p:nvSpPr>
          <p:spPr>
            <a:xfrm>
              <a:off x="407844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2752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9588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6604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2752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78440" y="561348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9588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181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971800" y="4114800"/>
            <a:ext cx="2036880" cy="119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Optimización y estática compar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4038480"/>
            <a:ext cx="2035080" cy="11955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4038480"/>
            <a:ext cx="2035080" cy="11955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grega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4444920"/>
            <a:ext cx="2411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51240" y="5872320"/>
            <a:ext cx="203832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ecciones de la empres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5791320"/>
            <a:ext cx="203652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a ecuación de Slutsky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5943600"/>
            <a:ext cx="2038320" cy="1197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ecciones de la empres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5872320"/>
            <a:ext cx="20350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mal y Du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5867280"/>
            <a:ext cx="2035440" cy="11955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mal y  Du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5410080"/>
            <a:ext cx="2486160" cy="205920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El óptimo del consumido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46040" y="729720"/>
            <a:ext cx="94536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Cual es el efecto sobre la cantidad demandada de un cambio en el precio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33480" y="2971800"/>
            <a:ext cx="8426520" cy="3541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6600"/>
                </a:solidFill>
                <a:latin typeface="Times New Roman"/>
              </a:rPr>
              <a:t>Ello depende del tipo de restricción de presupuesto asumido</a:t>
            </a:r>
            <a:br>
              <a:rPr sz="3300"/>
            </a:br>
            <a:r>
              <a:rPr b="0" lang="en-GB" sz="33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6600"/>
                </a:solidFill>
                <a:latin typeface="Times New Roman"/>
              </a:rPr>
              <a:t>Y sobre si enfocamos en el tipo de problema primal o dual.</a:t>
            </a:r>
            <a:br>
              <a:rPr sz="3300"/>
            </a:br>
            <a:r>
              <a:rPr b="0" lang="en-GB" sz="33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6600"/>
                </a:solidFill>
                <a:latin typeface="Times New Roman"/>
              </a:rPr>
              <a:t>Encaremos entonces los problemas por etapas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550160"/>
            <a:ext cx="7162560" cy="48718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ush738 BT"/>
              </a:rPr>
              <a:t>Comencemos con una restricción presupuestaria del tipo exógen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0T11:56:34Z</dcterms:created>
  <dc:creator>COWELL-</dc:creator>
  <dc:description/>
  <dc:language>en-US</dc:language>
  <cp:lastModifiedBy>FERNANDO VICTOR TOW</cp:lastModifiedBy>
  <dcterms:modified xsi:type="dcterms:W3CDTF">1998-10-08T01:08:46Z</dcterms:modified>
  <cp:revision>80</cp:revision>
  <dc:subject/>
  <dc:title>Capitulo III Consumidor</dc:title>
</cp:coreProperties>
</file>